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1BECB-16A8-4B6D-A5EE-8CD95DD110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31B1D-01AB-4A63-9B6E-E5628381FA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7065D-3100-4760-88CC-9832C1D42A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1BE11-D6CF-4530-BDB6-D3DC62A531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2D387-1203-46BC-B369-A999AEE72C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33067-0603-4A61-9356-06415CAF4B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3EC96-6759-4461-B5EE-2A083687FC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07F42-DA17-4818-8CAF-A5546ECC64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942F5-ACA2-4CA4-B589-5774974B2A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EF1F7-1C98-422D-9826-DAA18AB723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1EA-E092-43B2-8083-23C92BAA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1F8-9C55-47AE-9321-0C0C21EB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C0A-B03E-4C36-828E-07BE1776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29C-02CD-4D81-A13F-4A4B0CFE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6D2-4055-438B-9FCA-14B9FE16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0B7-D16E-4404-814B-5D7F8EBA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700-5AAB-4A8F-8628-51BD07C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94A-5354-4991-A5B9-BEF9659D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781-0220-422C-80BA-87C40B7B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19A-DF49-4A9A-8D68-383CE6E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11B-1AEF-4FB6-BD87-0A2AE74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C20-8AAC-4EAA-8F11-C9FCC98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4A9B9-B01B-4886-BC53-546F524AFA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76640" y="3930840"/>
            <a:ext cx="52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科罗拉多大峡谷是一处举世闻名的自然奇观，是世界七大奇迹之一。课文是从哪几方面介绍科罗拉多大峡谷的呢？让我们一同走进课文，去浏览作者笔下的科罗拉多大峡谷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栖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木”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95"/>
          <p:cNvSpPr/>
          <p:nvPr/>
        </p:nvSpPr>
        <p:spPr>
          <a:xfrm>
            <a:off x="6507000" y="3110040"/>
            <a:ext cx="954360" cy="247680"/>
          </a:xfrm>
          <a:custGeom>
            <a:avLst/>
            <a:gdLst/>
            <a:ahLst/>
            <a:rect l="l" t="t" r="r" b="b"/>
            <a:pathLst>
              <a:path w="1202" h="313">
                <a:moveTo>
                  <a:pt x="347" y="155"/>
                </a:moveTo>
                <a:lnTo>
                  <a:pt x="397" y="146"/>
                </a:lnTo>
                <a:lnTo>
                  <a:pt x="449" y="134"/>
                </a:lnTo>
                <a:lnTo>
                  <a:pt x="501" y="123"/>
                </a:lnTo>
                <a:lnTo>
                  <a:pt x="555" y="109"/>
                </a:lnTo>
                <a:lnTo>
                  <a:pt x="608" y="94"/>
                </a:lnTo>
                <a:lnTo>
                  <a:pt x="664" y="78"/>
                </a:lnTo>
                <a:lnTo>
                  <a:pt x="722" y="61"/>
                </a:lnTo>
                <a:lnTo>
                  <a:pt x="779" y="42"/>
                </a:lnTo>
                <a:lnTo>
                  <a:pt x="808" y="34"/>
                </a:lnTo>
                <a:lnTo>
                  <a:pt x="835" y="29"/>
                </a:lnTo>
                <a:lnTo>
                  <a:pt x="862" y="23"/>
                </a:lnTo>
                <a:lnTo>
                  <a:pt x="887" y="19"/>
                </a:lnTo>
                <a:lnTo>
                  <a:pt x="912" y="13"/>
                </a:lnTo>
                <a:lnTo>
                  <a:pt x="935" y="9"/>
                </a:lnTo>
                <a:lnTo>
                  <a:pt x="956" y="7"/>
                </a:lnTo>
                <a:lnTo>
                  <a:pt x="977" y="4"/>
                </a:lnTo>
                <a:lnTo>
                  <a:pt x="996" y="2"/>
                </a:lnTo>
                <a:lnTo>
                  <a:pt x="1015" y="0"/>
                </a:lnTo>
                <a:lnTo>
                  <a:pt x="1033" y="0"/>
                </a:lnTo>
                <a:lnTo>
                  <a:pt x="1048" y="0"/>
                </a:lnTo>
                <a:lnTo>
                  <a:pt x="1063" y="0"/>
                </a:lnTo>
                <a:lnTo>
                  <a:pt x="1079" y="0"/>
                </a:lnTo>
                <a:lnTo>
                  <a:pt x="1090" y="2"/>
                </a:lnTo>
                <a:lnTo>
                  <a:pt x="1104" y="4"/>
                </a:lnTo>
                <a:lnTo>
                  <a:pt x="1113" y="9"/>
                </a:lnTo>
                <a:lnTo>
                  <a:pt x="1123" y="13"/>
                </a:lnTo>
                <a:lnTo>
                  <a:pt x="1132" y="19"/>
                </a:lnTo>
                <a:lnTo>
                  <a:pt x="1142" y="23"/>
                </a:lnTo>
                <a:lnTo>
                  <a:pt x="1150" y="29"/>
                </a:lnTo>
                <a:lnTo>
                  <a:pt x="1155" y="32"/>
                </a:lnTo>
                <a:lnTo>
                  <a:pt x="1163" y="38"/>
                </a:lnTo>
                <a:lnTo>
                  <a:pt x="1169" y="42"/>
                </a:lnTo>
                <a:lnTo>
                  <a:pt x="1175" y="48"/>
                </a:lnTo>
                <a:lnTo>
                  <a:pt x="1178" y="52"/>
                </a:lnTo>
                <a:lnTo>
                  <a:pt x="1182" y="55"/>
                </a:lnTo>
                <a:lnTo>
                  <a:pt x="1186" y="61"/>
                </a:lnTo>
                <a:lnTo>
                  <a:pt x="1194" y="71"/>
                </a:lnTo>
                <a:lnTo>
                  <a:pt x="1200" y="80"/>
                </a:lnTo>
                <a:lnTo>
                  <a:pt x="1200" y="84"/>
                </a:lnTo>
                <a:lnTo>
                  <a:pt x="1202" y="90"/>
                </a:lnTo>
                <a:lnTo>
                  <a:pt x="1202" y="94"/>
                </a:lnTo>
                <a:lnTo>
                  <a:pt x="1202" y="100"/>
                </a:lnTo>
                <a:lnTo>
                  <a:pt x="1200" y="103"/>
                </a:lnTo>
                <a:lnTo>
                  <a:pt x="1198" y="107"/>
                </a:lnTo>
                <a:lnTo>
                  <a:pt x="1196" y="113"/>
                </a:lnTo>
                <a:lnTo>
                  <a:pt x="1192" y="117"/>
                </a:lnTo>
                <a:lnTo>
                  <a:pt x="1188" y="121"/>
                </a:lnTo>
                <a:lnTo>
                  <a:pt x="1184" y="125"/>
                </a:lnTo>
                <a:lnTo>
                  <a:pt x="1180" y="128"/>
                </a:lnTo>
                <a:lnTo>
                  <a:pt x="1175" y="132"/>
                </a:lnTo>
                <a:lnTo>
                  <a:pt x="1163" y="138"/>
                </a:lnTo>
                <a:lnTo>
                  <a:pt x="1152" y="144"/>
                </a:lnTo>
                <a:lnTo>
                  <a:pt x="1144" y="148"/>
                </a:lnTo>
                <a:lnTo>
                  <a:pt x="1134" y="153"/>
                </a:lnTo>
                <a:lnTo>
                  <a:pt x="1123" y="157"/>
                </a:lnTo>
                <a:lnTo>
                  <a:pt x="1111" y="163"/>
                </a:lnTo>
                <a:lnTo>
                  <a:pt x="1096" y="167"/>
                </a:lnTo>
                <a:lnTo>
                  <a:pt x="1081" y="173"/>
                </a:lnTo>
                <a:lnTo>
                  <a:pt x="1063" y="176"/>
                </a:lnTo>
                <a:lnTo>
                  <a:pt x="1044" y="180"/>
                </a:lnTo>
                <a:lnTo>
                  <a:pt x="1023" y="186"/>
                </a:lnTo>
                <a:lnTo>
                  <a:pt x="1002" y="190"/>
                </a:lnTo>
                <a:lnTo>
                  <a:pt x="979" y="196"/>
                </a:lnTo>
                <a:lnTo>
                  <a:pt x="954" y="199"/>
                </a:lnTo>
                <a:lnTo>
                  <a:pt x="927" y="205"/>
                </a:lnTo>
                <a:lnTo>
                  <a:pt x="898" y="209"/>
                </a:lnTo>
                <a:lnTo>
                  <a:pt x="869" y="215"/>
                </a:lnTo>
                <a:lnTo>
                  <a:pt x="839" y="219"/>
                </a:lnTo>
                <a:lnTo>
                  <a:pt x="806" y="226"/>
                </a:lnTo>
                <a:lnTo>
                  <a:pt x="773" y="232"/>
                </a:lnTo>
                <a:lnTo>
                  <a:pt x="741" y="240"/>
                </a:lnTo>
                <a:lnTo>
                  <a:pt x="710" y="245"/>
                </a:lnTo>
                <a:lnTo>
                  <a:pt x="679" y="251"/>
                </a:lnTo>
                <a:lnTo>
                  <a:pt x="651" y="257"/>
                </a:lnTo>
                <a:lnTo>
                  <a:pt x="622" y="261"/>
                </a:lnTo>
                <a:lnTo>
                  <a:pt x="593" y="267"/>
                </a:lnTo>
                <a:lnTo>
                  <a:pt x="566" y="270"/>
                </a:lnTo>
                <a:lnTo>
                  <a:pt x="537" y="274"/>
                </a:lnTo>
                <a:lnTo>
                  <a:pt x="511" y="278"/>
                </a:lnTo>
                <a:lnTo>
                  <a:pt x="486" y="282"/>
                </a:lnTo>
                <a:lnTo>
                  <a:pt x="434" y="290"/>
                </a:lnTo>
                <a:lnTo>
                  <a:pt x="384" y="295"/>
                </a:lnTo>
                <a:lnTo>
                  <a:pt x="359" y="297"/>
                </a:lnTo>
                <a:lnTo>
                  <a:pt x="336" y="299"/>
                </a:lnTo>
                <a:lnTo>
                  <a:pt x="315" y="301"/>
                </a:lnTo>
                <a:lnTo>
                  <a:pt x="294" y="303"/>
                </a:lnTo>
                <a:lnTo>
                  <a:pt x="274" y="305"/>
                </a:lnTo>
                <a:lnTo>
                  <a:pt x="255" y="307"/>
                </a:lnTo>
                <a:lnTo>
                  <a:pt x="238" y="309"/>
                </a:lnTo>
                <a:lnTo>
                  <a:pt x="223" y="311"/>
                </a:lnTo>
                <a:lnTo>
                  <a:pt x="209" y="311"/>
                </a:lnTo>
                <a:lnTo>
                  <a:pt x="196" y="313"/>
                </a:lnTo>
                <a:lnTo>
                  <a:pt x="182" y="313"/>
                </a:lnTo>
                <a:lnTo>
                  <a:pt x="173" y="313"/>
                </a:lnTo>
                <a:lnTo>
                  <a:pt x="163" y="313"/>
                </a:lnTo>
                <a:lnTo>
                  <a:pt x="155" y="311"/>
                </a:lnTo>
                <a:lnTo>
                  <a:pt x="148" y="309"/>
                </a:lnTo>
                <a:lnTo>
                  <a:pt x="144" y="307"/>
                </a:lnTo>
                <a:lnTo>
                  <a:pt x="130" y="307"/>
                </a:lnTo>
                <a:lnTo>
                  <a:pt x="119" y="305"/>
                </a:lnTo>
                <a:lnTo>
                  <a:pt x="107" y="303"/>
                </a:lnTo>
                <a:lnTo>
                  <a:pt x="96" y="297"/>
                </a:lnTo>
                <a:lnTo>
                  <a:pt x="84" y="293"/>
                </a:lnTo>
                <a:lnTo>
                  <a:pt x="73" y="286"/>
                </a:lnTo>
                <a:lnTo>
                  <a:pt x="61" y="278"/>
                </a:lnTo>
                <a:lnTo>
                  <a:pt x="48" y="270"/>
                </a:lnTo>
                <a:lnTo>
                  <a:pt x="40" y="267"/>
                </a:lnTo>
                <a:lnTo>
                  <a:pt x="34" y="265"/>
                </a:lnTo>
                <a:lnTo>
                  <a:pt x="31" y="263"/>
                </a:lnTo>
                <a:lnTo>
                  <a:pt x="25" y="261"/>
                </a:lnTo>
                <a:lnTo>
                  <a:pt x="17" y="255"/>
                </a:lnTo>
                <a:lnTo>
                  <a:pt x="10" y="251"/>
                </a:lnTo>
                <a:lnTo>
                  <a:pt x="6" y="245"/>
                </a:lnTo>
                <a:lnTo>
                  <a:pt x="2" y="242"/>
                </a:lnTo>
                <a:lnTo>
                  <a:pt x="0" y="236"/>
                </a:lnTo>
                <a:lnTo>
                  <a:pt x="0" y="232"/>
                </a:lnTo>
                <a:lnTo>
                  <a:pt x="0" y="230"/>
                </a:lnTo>
                <a:lnTo>
                  <a:pt x="0" y="226"/>
                </a:lnTo>
                <a:lnTo>
                  <a:pt x="2" y="224"/>
                </a:lnTo>
                <a:lnTo>
                  <a:pt x="4" y="222"/>
                </a:lnTo>
                <a:lnTo>
                  <a:pt x="8" y="221"/>
                </a:lnTo>
                <a:lnTo>
                  <a:pt x="10" y="217"/>
                </a:lnTo>
                <a:lnTo>
                  <a:pt x="15" y="215"/>
                </a:lnTo>
                <a:lnTo>
                  <a:pt x="19" y="213"/>
                </a:lnTo>
                <a:lnTo>
                  <a:pt x="25" y="211"/>
                </a:lnTo>
                <a:lnTo>
                  <a:pt x="31" y="209"/>
                </a:lnTo>
                <a:lnTo>
                  <a:pt x="38" y="205"/>
                </a:lnTo>
                <a:lnTo>
                  <a:pt x="46" y="203"/>
                </a:lnTo>
                <a:lnTo>
                  <a:pt x="54" y="201"/>
                </a:lnTo>
                <a:lnTo>
                  <a:pt x="63" y="199"/>
                </a:lnTo>
                <a:lnTo>
                  <a:pt x="73" y="196"/>
                </a:lnTo>
                <a:lnTo>
                  <a:pt x="84" y="194"/>
                </a:lnTo>
                <a:lnTo>
                  <a:pt x="92" y="192"/>
                </a:lnTo>
                <a:lnTo>
                  <a:pt x="104" y="190"/>
                </a:lnTo>
                <a:lnTo>
                  <a:pt x="115" y="186"/>
                </a:lnTo>
                <a:lnTo>
                  <a:pt x="127" y="184"/>
                </a:lnTo>
                <a:lnTo>
                  <a:pt x="140" y="182"/>
                </a:lnTo>
                <a:lnTo>
                  <a:pt x="153" y="180"/>
                </a:lnTo>
                <a:lnTo>
                  <a:pt x="169" y="176"/>
                </a:lnTo>
                <a:lnTo>
                  <a:pt x="184" y="174"/>
                </a:lnTo>
                <a:lnTo>
                  <a:pt x="201" y="173"/>
                </a:lnTo>
                <a:lnTo>
                  <a:pt x="219" y="171"/>
                </a:lnTo>
                <a:lnTo>
                  <a:pt x="238" y="167"/>
                </a:lnTo>
                <a:lnTo>
                  <a:pt x="257" y="165"/>
                </a:lnTo>
                <a:lnTo>
                  <a:pt x="278" y="163"/>
                </a:lnTo>
                <a:lnTo>
                  <a:pt x="299" y="161"/>
                </a:lnTo>
                <a:lnTo>
                  <a:pt x="322" y="159"/>
                </a:lnTo>
                <a:lnTo>
                  <a:pt x="347" y="1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96"/>
          <p:cNvSpPr/>
          <p:nvPr/>
        </p:nvSpPr>
        <p:spPr>
          <a:xfrm>
            <a:off x="6478560" y="4425840"/>
            <a:ext cx="808200" cy="160560"/>
          </a:xfrm>
          <a:custGeom>
            <a:avLst/>
            <a:gdLst/>
            <a:ahLst/>
            <a:rect l="l" t="t" r="r" b="b"/>
            <a:pathLst>
              <a:path w="1020" h="202">
                <a:moveTo>
                  <a:pt x="0" y="100"/>
                </a:moveTo>
                <a:lnTo>
                  <a:pt x="48" y="94"/>
                </a:lnTo>
                <a:lnTo>
                  <a:pt x="95" y="89"/>
                </a:lnTo>
                <a:lnTo>
                  <a:pt x="139" y="83"/>
                </a:lnTo>
                <a:lnTo>
                  <a:pt x="183" y="77"/>
                </a:lnTo>
                <a:lnTo>
                  <a:pt x="223" y="71"/>
                </a:lnTo>
                <a:lnTo>
                  <a:pt x="263" y="67"/>
                </a:lnTo>
                <a:lnTo>
                  <a:pt x="304" y="62"/>
                </a:lnTo>
                <a:lnTo>
                  <a:pt x="340" y="58"/>
                </a:lnTo>
                <a:lnTo>
                  <a:pt x="377" y="52"/>
                </a:lnTo>
                <a:lnTo>
                  <a:pt x="411" y="48"/>
                </a:lnTo>
                <a:lnTo>
                  <a:pt x="444" y="44"/>
                </a:lnTo>
                <a:lnTo>
                  <a:pt x="475" y="41"/>
                </a:lnTo>
                <a:lnTo>
                  <a:pt x="505" y="37"/>
                </a:lnTo>
                <a:lnTo>
                  <a:pt x="534" y="33"/>
                </a:lnTo>
                <a:lnTo>
                  <a:pt x="563" y="29"/>
                </a:lnTo>
                <a:lnTo>
                  <a:pt x="588" y="25"/>
                </a:lnTo>
                <a:lnTo>
                  <a:pt x="613" y="23"/>
                </a:lnTo>
                <a:lnTo>
                  <a:pt x="636" y="19"/>
                </a:lnTo>
                <a:lnTo>
                  <a:pt x="657" y="17"/>
                </a:lnTo>
                <a:lnTo>
                  <a:pt x="678" y="14"/>
                </a:lnTo>
                <a:lnTo>
                  <a:pt x="697" y="12"/>
                </a:lnTo>
                <a:lnTo>
                  <a:pt x="715" y="10"/>
                </a:lnTo>
                <a:lnTo>
                  <a:pt x="730" y="8"/>
                </a:lnTo>
                <a:lnTo>
                  <a:pt x="745" y="6"/>
                </a:lnTo>
                <a:lnTo>
                  <a:pt x="759" y="4"/>
                </a:lnTo>
                <a:lnTo>
                  <a:pt x="772" y="2"/>
                </a:lnTo>
                <a:lnTo>
                  <a:pt x="782" y="2"/>
                </a:lnTo>
                <a:lnTo>
                  <a:pt x="791" y="0"/>
                </a:lnTo>
                <a:lnTo>
                  <a:pt x="799" y="0"/>
                </a:lnTo>
                <a:lnTo>
                  <a:pt x="807" y="0"/>
                </a:lnTo>
                <a:lnTo>
                  <a:pt x="812" y="0"/>
                </a:lnTo>
                <a:lnTo>
                  <a:pt x="816" y="0"/>
                </a:lnTo>
                <a:lnTo>
                  <a:pt x="822" y="0"/>
                </a:lnTo>
                <a:lnTo>
                  <a:pt x="830" y="2"/>
                </a:lnTo>
                <a:lnTo>
                  <a:pt x="839" y="4"/>
                </a:lnTo>
                <a:lnTo>
                  <a:pt x="847" y="8"/>
                </a:lnTo>
                <a:lnTo>
                  <a:pt x="857" y="14"/>
                </a:lnTo>
                <a:lnTo>
                  <a:pt x="868" y="19"/>
                </a:lnTo>
                <a:lnTo>
                  <a:pt x="880" y="27"/>
                </a:lnTo>
                <a:lnTo>
                  <a:pt x="891" y="35"/>
                </a:lnTo>
                <a:lnTo>
                  <a:pt x="905" y="44"/>
                </a:lnTo>
                <a:lnTo>
                  <a:pt x="918" y="54"/>
                </a:lnTo>
                <a:lnTo>
                  <a:pt x="931" y="65"/>
                </a:lnTo>
                <a:lnTo>
                  <a:pt x="949" y="79"/>
                </a:lnTo>
                <a:lnTo>
                  <a:pt x="964" y="92"/>
                </a:lnTo>
                <a:lnTo>
                  <a:pt x="981" y="106"/>
                </a:lnTo>
                <a:lnTo>
                  <a:pt x="1001" y="121"/>
                </a:lnTo>
                <a:lnTo>
                  <a:pt x="1020" y="138"/>
                </a:lnTo>
                <a:lnTo>
                  <a:pt x="966" y="142"/>
                </a:lnTo>
                <a:lnTo>
                  <a:pt x="912" y="144"/>
                </a:lnTo>
                <a:lnTo>
                  <a:pt x="860" y="148"/>
                </a:lnTo>
                <a:lnTo>
                  <a:pt x="810" y="152"/>
                </a:lnTo>
                <a:lnTo>
                  <a:pt x="762" y="156"/>
                </a:lnTo>
                <a:lnTo>
                  <a:pt x="715" y="158"/>
                </a:lnTo>
                <a:lnTo>
                  <a:pt x="668" y="161"/>
                </a:lnTo>
                <a:lnTo>
                  <a:pt x="624" y="163"/>
                </a:lnTo>
                <a:lnTo>
                  <a:pt x="582" y="167"/>
                </a:lnTo>
                <a:lnTo>
                  <a:pt x="540" y="169"/>
                </a:lnTo>
                <a:lnTo>
                  <a:pt x="500" y="173"/>
                </a:lnTo>
                <a:lnTo>
                  <a:pt x="461" y="175"/>
                </a:lnTo>
                <a:lnTo>
                  <a:pt x="425" y="177"/>
                </a:lnTo>
                <a:lnTo>
                  <a:pt x="388" y="179"/>
                </a:lnTo>
                <a:lnTo>
                  <a:pt x="354" y="183"/>
                </a:lnTo>
                <a:lnTo>
                  <a:pt x="321" y="184"/>
                </a:lnTo>
                <a:lnTo>
                  <a:pt x="290" y="186"/>
                </a:lnTo>
                <a:lnTo>
                  <a:pt x="260" y="188"/>
                </a:lnTo>
                <a:lnTo>
                  <a:pt x="233" y="190"/>
                </a:lnTo>
                <a:lnTo>
                  <a:pt x="206" y="190"/>
                </a:lnTo>
                <a:lnTo>
                  <a:pt x="179" y="192"/>
                </a:lnTo>
                <a:lnTo>
                  <a:pt x="156" y="194"/>
                </a:lnTo>
                <a:lnTo>
                  <a:pt x="133" y="196"/>
                </a:lnTo>
                <a:lnTo>
                  <a:pt x="112" y="196"/>
                </a:lnTo>
                <a:lnTo>
                  <a:pt x="93" y="198"/>
                </a:lnTo>
                <a:lnTo>
                  <a:pt x="75" y="198"/>
                </a:lnTo>
                <a:lnTo>
                  <a:pt x="60" y="200"/>
                </a:lnTo>
                <a:lnTo>
                  <a:pt x="45" y="200"/>
                </a:lnTo>
                <a:lnTo>
                  <a:pt x="31" y="200"/>
                </a:lnTo>
                <a:lnTo>
                  <a:pt x="20" y="200"/>
                </a:lnTo>
                <a:lnTo>
                  <a:pt x="10" y="200"/>
                </a:lnTo>
                <a:lnTo>
                  <a:pt x="0" y="202"/>
                </a:lnTo>
                <a:lnTo>
                  <a:pt x="0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97"/>
          <p:cNvSpPr/>
          <p:nvPr/>
        </p:nvSpPr>
        <p:spPr>
          <a:xfrm>
            <a:off x="6354720" y="3787920"/>
            <a:ext cx="169920" cy="966600"/>
          </a:xfrm>
          <a:custGeom>
            <a:avLst/>
            <a:gdLst/>
            <a:ahLst/>
            <a:rect l="l" t="t" r="r" b="b"/>
            <a:pathLst>
              <a:path w="215" h="1219">
                <a:moveTo>
                  <a:pt x="36" y="223"/>
                </a:moveTo>
                <a:lnTo>
                  <a:pt x="33" y="200"/>
                </a:lnTo>
                <a:lnTo>
                  <a:pt x="27" y="178"/>
                </a:lnTo>
                <a:lnTo>
                  <a:pt x="23" y="157"/>
                </a:lnTo>
                <a:lnTo>
                  <a:pt x="21" y="138"/>
                </a:lnTo>
                <a:lnTo>
                  <a:pt x="17" y="119"/>
                </a:lnTo>
                <a:lnTo>
                  <a:pt x="13" y="104"/>
                </a:lnTo>
                <a:lnTo>
                  <a:pt x="12" y="86"/>
                </a:lnTo>
                <a:lnTo>
                  <a:pt x="10" y="73"/>
                </a:lnTo>
                <a:lnTo>
                  <a:pt x="8" y="59"/>
                </a:lnTo>
                <a:lnTo>
                  <a:pt x="6" y="48"/>
                </a:lnTo>
                <a:lnTo>
                  <a:pt x="4" y="38"/>
                </a:lnTo>
                <a:lnTo>
                  <a:pt x="2" y="29"/>
                </a:lnTo>
                <a:lnTo>
                  <a:pt x="2" y="21"/>
                </a:lnTo>
                <a:lnTo>
                  <a:pt x="0" y="15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12" y="2"/>
                </a:lnTo>
                <a:lnTo>
                  <a:pt x="17" y="0"/>
                </a:lnTo>
                <a:lnTo>
                  <a:pt x="27" y="0"/>
                </a:lnTo>
                <a:lnTo>
                  <a:pt x="35" y="0"/>
                </a:lnTo>
                <a:lnTo>
                  <a:pt x="46" y="0"/>
                </a:lnTo>
                <a:lnTo>
                  <a:pt x="59" y="2"/>
                </a:lnTo>
                <a:lnTo>
                  <a:pt x="73" y="2"/>
                </a:lnTo>
                <a:lnTo>
                  <a:pt x="88" y="4"/>
                </a:lnTo>
                <a:lnTo>
                  <a:pt x="106" y="6"/>
                </a:lnTo>
                <a:lnTo>
                  <a:pt x="125" y="10"/>
                </a:lnTo>
                <a:lnTo>
                  <a:pt x="146" y="13"/>
                </a:lnTo>
                <a:lnTo>
                  <a:pt x="167" y="17"/>
                </a:lnTo>
                <a:lnTo>
                  <a:pt x="192" y="21"/>
                </a:lnTo>
                <a:lnTo>
                  <a:pt x="192" y="67"/>
                </a:lnTo>
                <a:lnTo>
                  <a:pt x="194" y="113"/>
                </a:lnTo>
                <a:lnTo>
                  <a:pt x="196" y="157"/>
                </a:lnTo>
                <a:lnTo>
                  <a:pt x="196" y="201"/>
                </a:lnTo>
                <a:lnTo>
                  <a:pt x="198" y="244"/>
                </a:lnTo>
                <a:lnTo>
                  <a:pt x="198" y="284"/>
                </a:lnTo>
                <a:lnTo>
                  <a:pt x="200" y="322"/>
                </a:lnTo>
                <a:lnTo>
                  <a:pt x="200" y="361"/>
                </a:lnTo>
                <a:lnTo>
                  <a:pt x="202" y="399"/>
                </a:lnTo>
                <a:lnTo>
                  <a:pt x="202" y="436"/>
                </a:lnTo>
                <a:lnTo>
                  <a:pt x="203" y="470"/>
                </a:lnTo>
                <a:lnTo>
                  <a:pt x="203" y="505"/>
                </a:lnTo>
                <a:lnTo>
                  <a:pt x="205" y="537"/>
                </a:lnTo>
                <a:lnTo>
                  <a:pt x="205" y="568"/>
                </a:lnTo>
                <a:lnTo>
                  <a:pt x="207" y="599"/>
                </a:lnTo>
                <a:lnTo>
                  <a:pt x="207" y="628"/>
                </a:lnTo>
                <a:lnTo>
                  <a:pt x="209" y="656"/>
                </a:lnTo>
                <a:lnTo>
                  <a:pt x="209" y="683"/>
                </a:lnTo>
                <a:lnTo>
                  <a:pt x="211" y="708"/>
                </a:lnTo>
                <a:lnTo>
                  <a:pt x="211" y="733"/>
                </a:lnTo>
                <a:lnTo>
                  <a:pt x="211" y="756"/>
                </a:lnTo>
                <a:lnTo>
                  <a:pt x="213" y="779"/>
                </a:lnTo>
                <a:lnTo>
                  <a:pt x="213" y="800"/>
                </a:lnTo>
                <a:lnTo>
                  <a:pt x="213" y="821"/>
                </a:lnTo>
                <a:lnTo>
                  <a:pt x="213" y="841"/>
                </a:lnTo>
                <a:lnTo>
                  <a:pt x="215" y="858"/>
                </a:lnTo>
                <a:lnTo>
                  <a:pt x="215" y="875"/>
                </a:lnTo>
                <a:lnTo>
                  <a:pt x="215" y="891"/>
                </a:lnTo>
                <a:lnTo>
                  <a:pt x="215" y="906"/>
                </a:lnTo>
                <a:lnTo>
                  <a:pt x="215" y="919"/>
                </a:lnTo>
                <a:lnTo>
                  <a:pt x="215" y="931"/>
                </a:lnTo>
                <a:lnTo>
                  <a:pt x="215" y="942"/>
                </a:lnTo>
                <a:lnTo>
                  <a:pt x="215" y="964"/>
                </a:lnTo>
                <a:lnTo>
                  <a:pt x="215" y="983"/>
                </a:lnTo>
                <a:lnTo>
                  <a:pt x="215" y="1002"/>
                </a:lnTo>
                <a:lnTo>
                  <a:pt x="215" y="1019"/>
                </a:lnTo>
                <a:lnTo>
                  <a:pt x="215" y="1036"/>
                </a:lnTo>
                <a:lnTo>
                  <a:pt x="215" y="1054"/>
                </a:lnTo>
                <a:lnTo>
                  <a:pt x="215" y="1069"/>
                </a:lnTo>
                <a:lnTo>
                  <a:pt x="213" y="1084"/>
                </a:lnTo>
                <a:lnTo>
                  <a:pt x="213" y="1098"/>
                </a:lnTo>
                <a:lnTo>
                  <a:pt x="213" y="1111"/>
                </a:lnTo>
                <a:lnTo>
                  <a:pt x="211" y="1123"/>
                </a:lnTo>
                <a:lnTo>
                  <a:pt x="211" y="1134"/>
                </a:lnTo>
                <a:lnTo>
                  <a:pt x="209" y="1144"/>
                </a:lnTo>
                <a:lnTo>
                  <a:pt x="207" y="1154"/>
                </a:lnTo>
                <a:lnTo>
                  <a:pt x="205" y="1161"/>
                </a:lnTo>
                <a:lnTo>
                  <a:pt x="203" y="1169"/>
                </a:lnTo>
                <a:lnTo>
                  <a:pt x="202" y="1177"/>
                </a:lnTo>
                <a:lnTo>
                  <a:pt x="200" y="1182"/>
                </a:lnTo>
                <a:lnTo>
                  <a:pt x="198" y="1188"/>
                </a:lnTo>
                <a:lnTo>
                  <a:pt x="194" y="1192"/>
                </a:lnTo>
                <a:lnTo>
                  <a:pt x="192" y="1198"/>
                </a:lnTo>
                <a:lnTo>
                  <a:pt x="190" y="1202"/>
                </a:lnTo>
                <a:lnTo>
                  <a:pt x="188" y="1205"/>
                </a:lnTo>
                <a:lnTo>
                  <a:pt x="186" y="1209"/>
                </a:lnTo>
                <a:lnTo>
                  <a:pt x="180" y="1213"/>
                </a:lnTo>
                <a:lnTo>
                  <a:pt x="177" y="1217"/>
                </a:lnTo>
                <a:lnTo>
                  <a:pt x="173" y="1219"/>
                </a:lnTo>
                <a:lnTo>
                  <a:pt x="167" y="1219"/>
                </a:lnTo>
                <a:lnTo>
                  <a:pt x="163" y="1219"/>
                </a:lnTo>
                <a:lnTo>
                  <a:pt x="159" y="1217"/>
                </a:lnTo>
                <a:lnTo>
                  <a:pt x="154" y="1213"/>
                </a:lnTo>
                <a:lnTo>
                  <a:pt x="150" y="1207"/>
                </a:lnTo>
                <a:lnTo>
                  <a:pt x="146" y="1202"/>
                </a:lnTo>
                <a:lnTo>
                  <a:pt x="142" y="1194"/>
                </a:lnTo>
                <a:lnTo>
                  <a:pt x="136" y="1184"/>
                </a:lnTo>
                <a:lnTo>
                  <a:pt x="132" y="1173"/>
                </a:lnTo>
                <a:lnTo>
                  <a:pt x="129" y="1161"/>
                </a:lnTo>
                <a:lnTo>
                  <a:pt x="125" y="1148"/>
                </a:lnTo>
                <a:lnTo>
                  <a:pt x="123" y="1134"/>
                </a:lnTo>
                <a:lnTo>
                  <a:pt x="119" y="1119"/>
                </a:lnTo>
                <a:lnTo>
                  <a:pt x="115" y="1102"/>
                </a:lnTo>
                <a:lnTo>
                  <a:pt x="113" y="1083"/>
                </a:lnTo>
                <a:lnTo>
                  <a:pt x="109" y="1063"/>
                </a:lnTo>
                <a:lnTo>
                  <a:pt x="107" y="1042"/>
                </a:lnTo>
                <a:lnTo>
                  <a:pt x="104" y="1000"/>
                </a:lnTo>
                <a:lnTo>
                  <a:pt x="100" y="956"/>
                </a:lnTo>
                <a:lnTo>
                  <a:pt x="98" y="933"/>
                </a:lnTo>
                <a:lnTo>
                  <a:pt x="96" y="908"/>
                </a:lnTo>
                <a:lnTo>
                  <a:pt x="94" y="885"/>
                </a:lnTo>
                <a:lnTo>
                  <a:pt x="92" y="860"/>
                </a:lnTo>
                <a:lnTo>
                  <a:pt x="90" y="835"/>
                </a:lnTo>
                <a:lnTo>
                  <a:pt x="88" y="810"/>
                </a:lnTo>
                <a:lnTo>
                  <a:pt x="86" y="783"/>
                </a:lnTo>
                <a:lnTo>
                  <a:pt x="86" y="756"/>
                </a:lnTo>
                <a:lnTo>
                  <a:pt x="84" y="727"/>
                </a:lnTo>
                <a:lnTo>
                  <a:pt x="84" y="699"/>
                </a:lnTo>
                <a:lnTo>
                  <a:pt x="84" y="670"/>
                </a:lnTo>
                <a:lnTo>
                  <a:pt x="84" y="639"/>
                </a:lnTo>
                <a:lnTo>
                  <a:pt x="83" y="583"/>
                </a:lnTo>
                <a:lnTo>
                  <a:pt x="81" y="528"/>
                </a:lnTo>
                <a:lnTo>
                  <a:pt x="79" y="474"/>
                </a:lnTo>
                <a:lnTo>
                  <a:pt x="73" y="422"/>
                </a:lnTo>
                <a:lnTo>
                  <a:pt x="67" y="370"/>
                </a:lnTo>
                <a:lnTo>
                  <a:pt x="58" y="321"/>
                </a:lnTo>
                <a:lnTo>
                  <a:pt x="54" y="296"/>
                </a:lnTo>
                <a:lnTo>
                  <a:pt x="48" y="271"/>
                </a:lnTo>
                <a:lnTo>
                  <a:pt x="42" y="246"/>
                </a:lnTo>
                <a:lnTo>
                  <a:pt x="36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98"/>
          <p:cNvSpPr/>
          <p:nvPr/>
        </p:nvSpPr>
        <p:spPr>
          <a:xfrm>
            <a:off x="6421320" y="3624120"/>
            <a:ext cx="1276560" cy="1243080"/>
          </a:xfrm>
          <a:custGeom>
            <a:avLst/>
            <a:gdLst/>
            <a:ahLst/>
            <a:rect l="l" t="t" r="r" b="b"/>
            <a:pathLst>
              <a:path w="1607" h="1566">
                <a:moveTo>
                  <a:pt x="1404" y="1197"/>
                </a:moveTo>
                <a:lnTo>
                  <a:pt x="1394" y="1222"/>
                </a:lnTo>
                <a:lnTo>
                  <a:pt x="1384" y="1247"/>
                </a:lnTo>
                <a:lnTo>
                  <a:pt x="1375" y="1270"/>
                </a:lnTo>
                <a:lnTo>
                  <a:pt x="1367" y="1293"/>
                </a:lnTo>
                <a:lnTo>
                  <a:pt x="1358" y="1314"/>
                </a:lnTo>
                <a:lnTo>
                  <a:pt x="1348" y="1334"/>
                </a:lnTo>
                <a:lnTo>
                  <a:pt x="1338" y="1353"/>
                </a:lnTo>
                <a:lnTo>
                  <a:pt x="1329" y="1370"/>
                </a:lnTo>
                <a:lnTo>
                  <a:pt x="1319" y="1387"/>
                </a:lnTo>
                <a:lnTo>
                  <a:pt x="1310" y="1405"/>
                </a:lnTo>
                <a:lnTo>
                  <a:pt x="1300" y="1420"/>
                </a:lnTo>
                <a:lnTo>
                  <a:pt x="1288" y="1435"/>
                </a:lnTo>
                <a:lnTo>
                  <a:pt x="1279" y="1449"/>
                </a:lnTo>
                <a:lnTo>
                  <a:pt x="1269" y="1462"/>
                </a:lnTo>
                <a:lnTo>
                  <a:pt x="1258" y="1476"/>
                </a:lnTo>
                <a:lnTo>
                  <a:pt x="1246" y="1487"/>
                </a:lnTo>
                <a:lnTo>
                  <a:pt x="1237" y="1499"/>
                </a:lnTo>
                <a:lnTo>
                  <a:pt x="1225" y="1510"/>
                </a:lnTo>
                <a:lnTo>
                  <a:pt x="1214" y="1520"/>
                </a:lnTo>
                <a:lnTo>
                  <a:pt x="1204" y="1527"/>
                </a:lnTo>
                <a:lnTo>
                  <a:pt x="1194" y="1535"/>
                </a:lnTo>
                <a:lnTo>
                  <a:pt x="1185" y="1543"/>
                </a:lnTo>
                <a:lnTo>
                  <a:pt x="1175" y="1549"/>
                </a:lnTo>
                <a:lnTo>
                  <a:pt x="1167" y="1554"/>
                </a:lnTo>
                <a:lnTo>
                  <a:pt x="1160" y="1558"/>
                </a:lnTo>
                <a:lnTo>
                  <a:pt x="1152" y="1562"/>
                </a:lnTo>
                <a:lnTo>
                  <a:pt x="1144" y="1564"/>
                </a:lnTo>
                <a:lnTo>
                  <a:pt x="1137" y="1566"/>
                </a:lnTo>
                <a:lnTo>
                  <a:pt x="1131" y="1566"/>
                </a:lnTo>
                <a:lnTo>
                  <a:pt x="1125" y="1566"/>
                </a:lnTo>
                <a:lnTo>
                  <a:pt x="1120" y="1566"/>
                </a:lnTo>
                <a:lnTo>
                  <a:pt x="1116" y="1564"/>
                </a:lnTo>
                <a:lnTo>
                  <a:pt x="1108" y="1560"/>
                </a:lnTo>
                <a:lnTo>
                  <a:pt x="1102" y="1558"/>
                </a:lnTo>
                <a:lnTo>
                  <a:pt x="1098" y="1554"/>
                </a:lnTo>
                <a:lnTo>
                  <a:pt x="1095" y="1549"/>
                </a:lnTo>
                <a:lnTo>
                  <a:pt x="1091" y="1545"/>
                </a:lnTo>
                <a:lnTo>
                  <a:pt x="1089" y="1539"/>
                </a:lnTo>
                <a:lnTo>
                  <a:pt x="1087" y="1533"/>
                </a:lnTo>
                <a:lnTo>
                  <a:pt x="1087" y="1526"/>
                </a:lnTo>
                <a:lnTo>
                  <a:pt x="1087" y="1518"/>
                </a:lnTo>
                <a:lnTo>
                  <a:pt x="1087" y="1510"/>
                </a:lnTo>
                <a:lnTo>
                  <a:pt x="1089" y="1503"/>
                </a:lnTo>
                <a:lnTo>
                  <a:pt x="1089" y="1493"/>
                </a:lnTo>
                <a:lnTo>
                  <a:pt x="1093" y="1483"/>
                </a:lnTo>
                <a:lnTo>
                  <a:pt x="1095" y="1472"/>
                </a:lnTo>
                <a:lnTo>
                  <a:pt x="1098" y="1462"/>
                </a:lnTo>
                <a:lnTo>
                  <a:pt x="1102" y="1451"/>
                </a:lnTo>
                <a:lnTo>
                  <a:pt x="1104" y="1439"/>
                </a:lnTo>
                <a:lnTo>
                  <a:pt x="1106" y="1428"/>
                </a:lnTo>
                <a:lnTo>
                  <a:pt x="1106" y="1414"/>
                </a:lnTo>
                <a:lnTo>
                  <a:pt x="1104" y="1401"/>
                </a:lnTo>
                <a:lnTo>
                  <a:pt x="1102" y="1384"/>
                </a:lnTo>
                <a:lnTo>
                  <a:pt x="1098" y="1366"/>
                </a:lnTo>
                <a:lnTo>
                  <a:pt x="1095" y="1347"/>
                </a:lnTo>
                <a:lnTo>
                  <a:pt x="1091" y="1328"/>
                </a:lnTo>
                <a:lnTo>
                  <a:pt x="1083" y="1305"/>
                </a:lnTo>
                <a:lnTo>
                  <a:pt x="1077" y="1282"/>
                </a:lnTo>
                <a:lnTo>
                  <a:pt x="1068" y="1257"/>
                </a:lnTo>
                <a:lnTo>
                  <a:pt x="1058" y="1230"/>
                </a:lnTo>
                <a:lnTo>
                  <a:pt x="1047" y="1201"/>
                </a:lnTo>
                <a:lnTo>
                  <a:pt x="1035" y="1172"/>
                </a:lnTo>
                <a:lnTo>
                  <a:pt x="1022" y="1142"/>
                </a:lnTo>
                <a:lnTo>
                  <a:pt x="1006" y="1109"/>
                </a:lnTo>
                <a:lnTo>
                  <a:pt x="1027" y="1121"/>
                </a:lnTo>
                <a:lnTo>
                  <a:pt x="1045" y="1132"/>
                </a:lnTo>
                <a:lnTo>
                  <a:pt x="1064" y="1142"/>
                </a:lnTo>
                <a:lnTo>
                  <a:pt x="1081" y="1149"/>
                </a:lnTo>
                <a:lnTo>
                  <a:pt x="1096" y="1157"/>
                </a:lnTo>
                <a:lnTo>
                  <a:pt x="1112" y="1165"/>
                </a:lnTo>
                <a:lnTo>
                  <a:pt x="1125" y="1169"/>
                </a:lnTo>
                <a:lnTo>
                  <a:pt x="1139" y="1174"/>
                </a:lnTo>
                <a:lnTo>
                  <a:pt x="1150" y="1178"/>
                </a:lnTo>
                <a:lnTo>
                  <a:pt x="1162" y="1180"/>
                </a:lnTo>
                <a:lnTo>
                  <a:pt x="1171" y="1182"/>
                </a:lnTo>
                <a:lnTo>
                  <a:pt x="1179" y="1182"/>
                </a:lnTo>
                <a:lnTo>
                  <a:pt x="1187" y="1182"/>
                </a:lnTo>
                <a:lnTo>
                  <a:pt x="1191" y="1180"/>
                </a:lnTo>
                <a:lnTo>
                  <a:pt x="1196" y="1176"/>
                </a:lnTo>
                <a:lnTo>
                  <a:pt x="1198" y="1172"/>
                </a:lnTo>
                <a:lnTo>
                  <a:pt x="1200" y="1169"/>
                </a:lnTo>
                <a:lnTo>
                  <a:pt x="1204" y="1165"/>
                </a:lnTo>
                <a:lnTo>
                  <a:pt x="1206" y="1159"/>
                </a:lnTo>
                <a:lnTo>
                  <a:pt x="1208" y="1151"/>
                </a:lnTo>
                <a:lnTo>
                  <a:pt x="1212" y="1144"/>
                </a:lnTo>
                <a:lnTo>
                  <a:pt x="1214" y="1132"/>
                </a:lnTo>
                <a:lnTo>
                  <a:pt x="1217" y="1122"/>
                </a:lnTo>
                <a:lnTo>
                  <a:pt x="1219" y="1109"/>
                </a:lnTo>
                <a:lnTo>
                  <a:pt x="1223" y="1096"/>
                </a:lnTo>
                <a:lnTo>
                  <a:pt x="1227" y="1080"/>
                </a:lnTo>
                <a:lnTo>
                  <a:pt x="1231" y="1065"/>
                </a:lnTo>
                <a:lnTo>
                  <a:pt x="1237" y="1048"/>
                </a:lnTo>
                <a:lnTo>
                  <a:pt x="1240" y="1030"/>
                </a:lnTo>
                <a:lnTo>
                  <a:pt x="1246" y="1011"/>
                </a:lnTo>
                <a:lnTo>
                  <a:pt x="1252" y="992"/>
                </a:lnTo>
                <a:lnTo>
                  <a:pt x="1260" y="971"/>
                </a:lnTo>
                <a:lnTo>
                  <a:pt x="1265" y="950"/>
                </a:lnTo>
                <a:lnTo>
                  <a:pt x="1271" y="927"/>
                </a:lnTo>
                <a:lnTo>
                  <a:pt x="1277" y="904"/>
                </a:lnTo>
                <a:lnTo>
                  <a:pt x="1283" y="881"/>
                </a:lnTo>
                <a:lnTo>
                  <a:pt x="1288" y="856"/>
                </a:lnTo>
                <a:lnTo>
                  <a:pt x="1294" y="833"/>
                </a:lnTo>
                <a:lnTo>
                  <a:pt x="1298" y="808"/>
                </a:lnTo>
                <a:lnTo>
                  <a:pt x="1304" y="781"/>
                </a:lnTo>
                <a:lnTo>
                  <a:pt x="1308" y="754"/>
                </a:lnTo>
                <a:lnTo>
                  <a:pt x="1311" y="727"/>
                </a:lnTo>
                <a:lnTo>
                  <a:pt x="1315" y="700"/>
                </a:lnTo>
                <a:lnTo>
                  <a:pt x="1319" y="671"/>
                </a:lnTo>
                <a:lnTo>
                  <a:pt x="1323" y="643"/>
                </a:lnTo>
                <a:lnTo>
                  <a:pt x="1325" y="614"/>
                </a:lnTo>
                <a:lnTo>
                  <a:pt x="1329" y="585"/>
                </a:lnTo>
                <a:lnTo>
                  <a:pt x="1331" y="554"/>
                </a:lnTo>
                <a:lnTo>
                  <a:pt x="1333" y="524"/>
                </a:lnTo>
                <a:lnTo>
                  <a:pt x="1334" y="497"/>
                </a:lnTo>
                <a:lnTo>
                  <a:pt x="1336" y="470"/>
                </a:lnTo>
                <a:lnTo>
                  <a:pt x="1338" y="445"/>
                </a:lnTo>
                <a:lnTo>
                  <a:pt x="1340" y="422"/>
                </a:lnTo>
                <a:lnTo>
                  <a:pt x="1342" y="401"/>
                </a:lnTo>
                <a:lnTo>
                  <a:pt x="1344" y="380"/>
                </a:lnTo>
                <a:lnTo>
                  <a:pt x="1346" y="362"/>
                </a:lnTo>
                <a:lnTo>
                  <a:pt x="1346" y="345"/>
                </a:lnTo>
                <a:lnTo>
                  <a:pt x="1348" y="330"/>
                </a:lnTo>
                <a:lnTo>
                  <a:pt x="1348" y="314"/>
                </a:lnTo>
                <a:lnTo>
                  <a:pt x="1348" y="303"/>
                </a:lnTo>
                <a:lnTo>
                  <a:pt x="1346" y="291"/>
                </a:lnTo>
                <a:lnTo>
                  <a:pt x="1346" y="280"/>
                </a:lnTo>
                <a:lnTo>
                  <a:pt x="1344" y="272"/>
                </a:lnTo>
                <a:lnTo>
                  <a:pt x="1342" y="264"/>
                </a:lnTo>
                <a:lnTo>
                  <a:pt x="1338" y="251"/>
                </a:lnTo>
                <a:lnTo>
                  <a:pt x="1333" y="238"/>
                </a:lnTo>
                <a:lnTo>
                  <a:pt x="1329" y="226"/>
                </a:lnTo>
                <a:lnTo>
                  <a:pt x="1321" y="216"/>
                </a:lnTo>
                <a:lnTo>
                  <a:pt x="1313" y="209"/>
                </a:lnTo>
                <a:lnTo>
                  <a:pt x="1306" y="201"/>
                </a:lnTo>
                <a:lnTo>
                  <a:pt x="1294" y="193"/>
                </a:lnTo>
                <a:lnTo>
                  <a:pt x="1288" y="192"/>
                </a:lnTo>
                <a:lnTo>
                  <a:pt x="1283" y="188"/>
                </a:lnTo>
                <a:lnTo>
                  <a:pt x="1275" y="186"/>
                </a:lnTo>
                <a:lnTo>
                  <a:pt x="1267" y="184"/>
                </a:lnTo>
                <a:lnTo>
                  <a:pt x="1260" y="182"/>
                </a:lnTo>
                <a:lnTo>
                  <a:pt x="1252" y="180"/>
                </a:lnTo>
                <a:lnTo>
                  <a:pt x="1242" y="180"/>
                </a:lnTo>
                <a:lnTo>
                  <a:pt x="1233" y="180"/>
                </a:lnTo>
                <a:lnTo>
                  <a:pt x="1221" y="178"/>
                </a:lnTo>
                <a:lnTo>
                  <a:pt x="1212" y="178"/>
                </a:lnTo>
                <a:lnTo>
                  <a:pt x="1200" y="178"/>
                </a:lnTo>
                <a:lnTo>
                  <a:pt x="1187" y="180"/>
                </a:lnTo>
                <a:lnTo>
                  <a:pt x="1175" y="180"/>
                </a:lnTo>
                <a:lnTo>
                  <a:pt x="1162" y="180"/>
                </a:lnTo>
                <a:lnTo>
                  <a:pt x="1148" y="182"/>
                </a:lnTo>
                <a:lnTo>
                  <a:pt x="1133" y="184"/>
                </a:lnTo>
                <a:lnTo>
                  <a:pt x="1118" y="186"/>
                </a:lnTo>
                <a:lnTo>
                  <a:pt x="1102" y="188"/>
                </a:lnTo>
                <a:lnTo>
                  <a:pt x="1095" y="190"/>
                </a:lnTo>
                <a:lnTo>
                  <a:pt x="1083" y="192"/>
                </a:lnTo>
                <a:lnTo>
                  <a:pt x="1072" y="193"/>
                </a:lnTo>
                <a:lnTo>
                  <a:pt x="1058" y="195"/>
                </a:lnTo>
                <a:lnTo>
                  <a:pt x="1043" y="197"/>
                </a:lnTo>
                <a:lnTo>
                  <a:pt x="1025" y="199"/>
                </a:lnTo>
                <a:lnTo>
                  <a:pt x="1006" y="201"/>
                </a:lnTo>
                <a:lnTo>
                  <a:pt x="987" y="205"/>
                </a:lnTo>
                <a:lnTo>
                  <a:pt x="964" y="207"/>
                </a:lnTo>
                <a:lnTo>
                  <a:pt x="941" y="211"/>
                </a:lnTo>
                <a:lnTo>
                  <a:pt x="916" y="215"/>
                </a:lnTo>
                <a:lnTo>
                  <a:pt x="887" y="216"/>
                </a:lnTo>
                <a:lnTo>
                  <a:pt x="860" y="220"/>
                </a:lnTo>
                <a:lnTo>
                  <a:pt x="830" y="224"/>
                </a:lnTo>
                <a:lnTo>
                  <a:pt x="797" y="230"/>
                </a:lnTo>
                <a:lnTo>
                  <a:pt x="764" y="234"/>
                </a:lnTo>
                <a:lnTo>
                  <a:pt x="728" y="238"/>
                </a:lnTo>
                <a:lnTo>
                  <a:pt x="691" y="243"/>
                </a:lnTo>
                <a:lnTo>
                  <a:pt x="653" y="247"/>
                </a:lnTo>
                <a:lnTo>
                  <a:pt x="615" y="253"/>
                </a:lnTo>
                <a:lnTo>
                  <a:pt x="572" y="257"/>
                </a:lnTo>
                <a:lnTo>
                  <a:pt x="530" y="263"/>
                </a:lnTo>
                <a:lnTo>
                  <a:pt x="484" y="268"/>
                </a:lnTo>
                <a:lnTo>
                  <a:pt x="438" y="274"/>
                </a:lnTo>
                <a:lnTo>
                  <a:pt x="390" y="280"/>
                </a:lnTo>
                <a:lnTo>
                  <a:pt x="342" y="286"/>
                </a:lnTo>
                <a:lnTo>
                  <a:pt x="290" y="293"/>
                </a:lnTo>
                <a:lnTo>
                  <a:pt x="238" y="299"/>
                </a:lnTo>
                <a:lnTo>
                  <a:pt x="183" y="307"/>
                </a:lnTo>
                <a:lnTo>
                  <a:pt x="127" y="312"/>
                </a:lnTo>
                <a:lnTo>
                  <a:pt x="71" y="320"/>
                </a:lnTo>
                <a:lnTo>
                  <a:pt x="12" y="328"/>
                </a:lnTo>
                <a:lnTo>
                  <a:pt x="6" y="284"/>
                </a:lnTo>
                <a:lnTo>
                  <a:pt x="0" y="240"/>
                </a:lnTo>
                <a:lnTo>
                  <a:pt x="2" y="238"/>
                </a:lnTo>
                <a:lnTo>
                  <a:pt x="6" y="236"/>
                </a:lnTo>
                <a:lnTo>
                  <a:pt x="10" y="236"/>
                </a:lnTo>
                <a:lnTo>
                  <a:pt x="14" y="234"/>
                </a:lnTo>
                <a:lnTo>
                  <a:pt x="20" y="232"/>
                </a:lnTo>
                <a:lnTo>
                  <a:pt x="25" y="232"/>
                </a:lnTo>
                <a:lnTo>
                  <a:pt x="31" y="230"/>
                </a:lnTo>
                <a:lnTo>
                  <a:pt x="39" y="228"/>
                </a:lnTo>
                <a:lnTo>
                  <a:pt x="47" y="228"/>
                </a:lnTo>
                <a:lnTo>
                  <a:pt x="54" y="226"/>
                </a:lnTo>
                <a:lnTo>
                  <a:pt x="64" y="224"/>
                </a:lnTo>
                <a:lnTo>
                  <a:pt x="73" y="222"/>
                </a:lnTo>
                <a:lnTo>
                  <a:pt x="83" y="222"/>
                </a:lnTo>
                <a:lnTo>
                  <a:pt x="95" y="220"/>
                </a:lnTo>
                <a:lnTo>
                  <a:pt x="106" y="218"/>
                </a:lnTo>
                <a:lnTo>
                  <a:pt x="118" y="216"/>
                </a:lnTo>
                <a:lnTo>
                  <a:pt x="131" y="215"/>
                </a:lnTo>
                <a:lnTo>
                  <a:pt x="144" y="213"/>
                </a:lnTo>
                <a:lnTo>
                  <a:pt x="160" y="211"/>
                </a:lnTo>
                <a:lnTo>
                  <a:pt x="175" y="209"/>
                </a:lnTo>
                <a:lnTo>
                  <a:pt x="190" y="207"/>
                </a:lnTo>
                <a:lnTo>
                  <a:pt x="206" y="205"/>
                </a:lnTo>
                <a:lnTo>
                  <a:pt x="223" y="203"/>
                </a:lnTo>
                <a:lnTo>
                  <a:pt x="240" y="199"/>
                </a:lnTo>
                <a:lnTo>
                  <a:pt x="260" y="197"/>
                </a:lnTo>
                <a:lnTo>
                  <a:pt x="279" y="195"/>
                </a:lnTo>
                <a:lnTo>
                  <a:pt x="298" y="192"/>
                </a:lnTo>
                <a:lnTo>
                  <a:pt x="319" y="188"/>
                </a:lnTo>
                <a:lnTo>
                  <a:pt x="340" y="186"/>
                </a:lnTo>
                <a:lnTo>
                  <a:pt x="361" y="182"/>
                </a:lnTo>
                <a:lnTo>
                  <a:pt x="384" y="178"/>
                </a:lnTo>
                <a:lnTo>
                  <a:pt x="407" y="176"/>
                </a:lnTo>
                <a:lnTo>
                  <a:pt x="453" y="170"/>
                </a:lnTo>
                <a:lnTo>
                  <a:pt x="500" y="167"/>
                </a:lnTo>
                <a:lnTo>
                  <a:pt x="544" y="161"/>
                </a:lnTo>
                <a:lnTo>
                  <a:pt x="586" y="157"/>
                </a:lnTo>
                <a:lnTo>
                  <a:pt x="626" y="151"/>
                </a:lnTo>
                <a:lnTo>
                  <a:pt x="667" y="147"/>
                </a:lnTo>
                <a:lnTo>
                  <a:pt x="705" y="142"/>
                </a:lnTo>
                <a:lnTo>
                  <a:pt x="743" y="138"/>
                </a:lnTo>
                <a:lnTo>
                  <a:pt x="780" y="132"/>
                </a:lnTo>
                <a:lnTo>
                  <a:pt x="814" y="128"/>
                </a:lnTo>
                <a:lnTo>
                  <a:pt x="849" y="124"/>
                </a:lnTo>
                <a:lnTo>
                  <a:pt x="883" y="119"/>
                </a:lnTo>
                <a:lnTo>
                  <a:pt x="916" y="115"/>
                </a:lnTo>
                <a:lnTo>
                  <a:pt x="947" y="109"/>
                </a:lnTo>
                <a:lnTo>
                  <a:pt x="977" y="105"/>
                </a:lnTo>
                <a:lnTo>
                  <a:pt x="1006" y="99"/>
                </a:lnTo>
                <a:lnTo>
                  <a:pt x="1033" y="96"/>
                </a:lnTo>
                <a:lnTo>
                  <a:pt x="1058" y="90"/>
                </a:lnTo>
                <a:lnTo>
                  <a:pt x="1081" y="86"/>
                </a:lnTo>
                <a:lnTo>
                  <a:pt x="1104" y="80"/>
                </a:lnTo>
                <a:lnTo>
                  <a:pt x="1123" y="76"/>
                </a:lnTo>
                <a:lnTo>
                  <a:pt x="1143" y="71"/>
                </a:lnTo>
                <a:lnTo>
                  <a:pt x="1162" y="67"/>
                </a:lnTo>
                <a:lnTo>
                  <a:pt x="1177" y="61"/>
                </a:lnTo>
                <a:lnTo>
                  <a:pt x="1192" y="57"/>
                </a:lnTo>
                <a:lnTo>
                  <a:pt x="1206" y="53"/>
                </a:lnTo>
                <a:lnTo>
                  <a:pt x="1219" y="48"/>
                </a:lnTo>
                <a:lnTo>
                  <a:pt x="1229" y="44"/>
                </a:lnTo>
                <a:lnTo>
                  <a:pt x="1239" y="38"/>
                </a:lnTo>
                <a:lnTo>
                  <a:pt x="1246" y="34"/>
                </a:lnTo>
                <a:lnTo>
                  <a:pt x="1254" y="28"/>
                </a:lnTo>
                <a:lnTo>
                  <a:pt x="1260" y="25"/>
                </a:lnTo>
                <a:lnTo>
                  <a:pt x="1277" y="15"/>
                </a:lnTo>
                <a:lnTo>
                  <a:pt x="1286" y="11"/>
                </a:lnTo>
                <a:lnTo>
                  <a:pt x="1294" y="7"/>
                </a:lnTo>
                <a:lnTo>
                  <a:pt x="1304" y="3"/>
                </a:lnTo>
                <a:lnTo>
                  <a:pt x="1313" y="1"/>
                </a:lnTo>
                <a:lnTo>
                  <a:pt x="1321" y="0"/>
                </a:lnTo>
                <a:lnTo>
                  <a:pt x="1331" y="0"/>
                </a:lnTo>
                <a:lnTo>
                  <a:pt x="1334" y="1"/>
                </a:lnTo>
                <a:lnTo>
                  <a:pt x="1340" y="3"/>
                </a:lnTo>
                <a:lnTo>
                  <a:pt x="1346" y="7"/>
                </a:lnTo>
                <a:lnTo>
                  <a:pt x="1354" y="11"/>
                </a:lnTo>
                <a:lnTo>
                  <a:pt x="1361" y="15"/>
                </a:lnTo>
                <a:lnTo>
                  <a:pt x="1369" y="19"/>
                </a:lnTo>
                <a:lnTo>
                  <a:pt x="1377" y="25"/>
                </a:lnTo>
                <a:lnTo>
                  <a:pt x="1386" y="30"/>
                </a:lnTo>
                <a:lnTo>
                  <a:pt x="1396" y="36"/>
                </a:lnTo>
                <a:lnTo>
                  <a:pt x="1407" y="44"/>
                </a:lnTo>
                <a:lnTo>
                  <a:pt x="1419" y="51"/>
                </a:lnTo>
                <a:lnTo>
                  <a:pt x="1430" y="59"/>
                </a:lnTo>
                <a:lnTo>
                  <a:pt x="1444" y="69"/>
                </a:lnTo>
                <a:lnTo>
                  <a:pt x="1457" y="78"/>
                </a:lnTo>
                <a:lnTo>
                  <a:pt x="1471" y="88"/>
                </a:lnTo>
                <a:lnTo>
                  <a:pt x="1486" y="99"/>
                </a:lnTo>
                <a:lnTo>
                  <a:pt x="1501" y="111"/>
                </a:lnTo>
                <a:lnTo>
                  <a:pt x="1515" y="122"/>
                </a:lnTo>
                <a:lnTo>
                  <a:pt x="1528" y="134"/>
                </a:lnTo>
                <a:lnTo>
                  <a:pt x="1540" y="144"/>
                </a:lnTo>
                <a:lnTo>
                  <a:pt x="1551" y="151"/>
                </a:lnTo>
                <a:lnTo>
                  <a:pt x="1561" y="161"/>
                </a:lnTo>
                <a:lnTo>
                  <a:pt x="1571" y="168"/>
                </a:lnTo>
                <a:lnTo>
                  <a:pt x="1578" y="176"/>
                </a:lnTo>
                <a:lnTo>
                  <a:pt x="1584" y="182"/>
                </a:lnTo>
                <a:lnTo>
                  <a:pt x="1590" y="190"/>
                </a:lnTo>
                <a:lnTo>
                  <a:pt x="1596" y="193"/>
                </a:lnTo>
                <a:lnTo>
                  <a:pt x="1599" y="199"/>
                </a:lnTo>
                <a:lnTo>
                  <a:pt x="1601" y="203"/>
                </a:lnTo>
                <a:lnTo>
                  <a:pt x="1605" y="207"/>
                </a:lnTo>
                <a:lnTo>
                  <a:pt x="1605" y="211"/>
                </a:lnTo>
                <a:lnTo>
                  <a:pt x="1607" y="213"/>
                </a:lnTo>
                <a:lnTo>
                  <a:pt x="1605" y="218"/>
                </a:lnTo>
                <a:lnTo>
                  <a:pt x="1603" y="224"/>
                </a:lnTo>
                <a:lnTo>
                  <a:pt x="1601" y="232"/>
                </a:lnTo>
                <a:lnTo>
                  <a:pt x="1599" y="240"/>
                </a:lnTo>
                <a:lnTo>
                  <a:pt x="1596" y="245"/>
                </a:lnTo>
                <a:lnTo>
                  <a:pt x="1592" y="253"/>
                </a:lnTo>
                <a:lnTo>
                  <a:pt x="1586" y="259"/>
                </a:lnTo>
                <a:lnTo>
                  <a:pt x="1582" y="264"/>
                </a:lnTo>
                <a:lnTo>
                  <a:pt x="1580" y="266"/>
                </a:lnTo>
                <a:lnTo>
                  <a:pt x="1578" y="270"/>
                </a:lnTo>
                <a:lnTo>
                  <a:pt x="1576" y="274"/>
                </a:lnTo>
                <a:lnTo>
                  <a:pt x="1574" y="278"/>
                </a:lnTo>
                <a:lnTo>
                  <a:pt x="1571" y="284"/>
                </a:lnTo>
                <a:lnTo>
                  <a:pt x="1569" y="289"/>
                </a:lnTo>
                <a:lnTo>
                  <a:pt x="1567" y="295"/>
                </a:lnTo>
                <a:lnTo>
                  <a:pt x="1567" y="301"/>
                </a:lnTo>
                <a:lnTo>
                  <a:pt x="1565" y="309"/>
                </a:lnTo>
                <a:lnTo>
                  <a:pt x="1563" y="316"/>
                </a:lnTo>
                <a:lnTo>
                  <a:pt x="1561" y="326"/>
                </a:lnTo>
                <a:lnTo>
                  <a:pt x="1561" y="335"/>
                </a:lnTo>
                <a:lnTo>
                  <a:pt x="1559" y="345"/>
                </a:lnTo>
                <a:lnTo>
                  <a:pt x="1559" y="355"/>
                </a:lnTo>
                <a:lnTo>
                  <a:pt x="1559" y="366"/>
                </a:lnTo>
                <a:lnTo>
                  <a:pt x="1559" y="378"/>
                </a:lnTo>
                <a:lnTo>
                  <a:pt x="1555" y="389"/>
                </a:lnTo>
                <a:lnTo>
                  <a:pt x="1553" y="403"/>
                </a:lnTo>
                <a:lnTo>
                  <a:pt x="1551" y="418"/>
                </a:lnTo>
                <a:lnTo>
                  <a:pt x="1549" y="435"/>
                </a:lnTo>
                <a:lnTo>
                  <a:pt x="1548" y="453"/>
                </a:lnTo>
                <a:lnTo>
                  <a:pt x="1544" y="470"/>
                </a:lnTo>
                <a:lnTo>
                  <a:pt x="1542" y="491"/>
                </a:lnTo>
                <a:lnTo>
                  <a:pt x="1538" y="512"/>
                </a:lnTo>
                <a:lnTo>
                  <a:pt x="1536" y="533"/>
                </a:lnTo>
                <a:lnTo>
                  <a:pt x="1532" y="558"/>
                </a:lnTo>
                <a:lnTo>
                  <a:pt x="1530" y="583"/>
                </a:lnTo>
                <a:lnTo>
                  <a:pt x="1526" y="610"/>
                </a:lnTo>
                <a:lnTo>
                  <a:pt x="1523" y="637"/>
                </a:lnTo>
                <a:lnTo>
                  <a:pt x="1519" y="668"/>
                </a:lnTo>
                <a:lnTo>
                  <a:pt x="1515" y="698"/>
                </a:lnTo>
                <a:lnTo>
                  <a:pt x="1511" y="731"/>
                </a:lnTo>
                <a:lnTo>
                  <a:pt x="1505" y="764"/>
                </a:lnTo>
                <a:lnTo>
                  <a:pt x="1501" y="796"/>
                </a:lnTo>
                <a:lnTo>
                  <a:pt x="1496" y="827"/>
                </a:lnTo>
                <a:lnTo>
                  <a:pt x="1490" y="859"/>
                </a:lnTo>
                <a:lnTo>
                  <a:pt x="1484" y="888"/>
                </a:lnTo>
                <a:lnTo>
                  <a:pt x="1478" y="919"/>
                </a:lnTo>
                <a:lnTo>
                  <a:pt x="1473" y="950"/>
                </a:lnTo>
                <a:lnTo>
                  <a:pt x="1465" y="978"/>
                </a:lnTo>
                <a:lnTo>
                  <a:pt x="1452" y="1036"/>
                </a:lnTo>
                <a:lnTo>
                  <a:pt x="1436" y="1090"/>
                </a:lnTo>
                <a:lnTo>
                  <a:pt x="1419" y="1145"/>
                </a:lnTo>
                <a:lnTo>
                  <a:pt x="1404" y="11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99"/>
          <p:cNvSpPr/>
          <p:nvPr/>
        </p:nvSpPr>
        <p:spPr>
          <a:xfrm>
            <a:off x="6570720" y="3303720"/>
            <a:ext cx="258840" cy="1052280"/>
          </a:xfrm>
          <a:custGeom>
            <a:avLst/>
            <a:gdLst/>
            <a:ahLst/>
            <a:rect l="l" t="t" r="r" b="b"/>
            <a:pathLst>
              <a:path w="326" h="1326">
                <a:moveTo>
                  <a:pt x="278" y="833"/>
                </a:moveTo>
                <a:lnTo>
                  <a:pt x="272" y="858"/>
                </a:lnTo>
                <a:lnTo>
                  <a:pt x="264" y="884"/>
                </a:lnTo>
                <a:lnTo>
                  <a:pt x="257" y="907"/>
                </a:lnTo>
                <a:lnTo>
                  <a:pt x="249" y="932"/>
                </a:lnTo>
                <a:lnTo>
                  <a:pt x="241" y="955"/>
                </a:lnTo>
                <a:lnTo>
                  <a:pt x="234" y="978"/>
                </a:lnTo>
                <a:lnTo>
                  <a:pt x="224" y="1002"/>
                </a:lnTo>
                <a:lnTo>
                  <a:pt x="215" y="1023"/>
                </a:lnTo>
                <a:lnTo>
                  <a:pt x="197" y="1067"/>
                </a:lnTo>
                <a:lnTo>
                  <a:pt x="176" y="1107"/>
                </a:lnTo>
                <a:lnTo>
                  <a:pt x="157" y="1147"/>
                </a:lnTo>
                <a:lnTo>
                  <a:pt x="134" y="1186"/>
                </a:lnTo>
                <a:lnTo>
                  <a:pt x="120" y="1205"/>
                </a:lnTo>
                <a:lnTo>
                  <a:pt x="109" y="1222"/>
                </a:lnTo>
                <a:lnTo>
                  <a:pt x="97" y="1238"/>
                </a:lnTo>
                <a:lnTo>
                  <a:pt x="86" y="1253"/>
                </a:lnTo>
                <a:lnTo>
                  <a:pt x="74" y="1266"/>
                </a:lnTo>
                <a:lnTo>
                  <a:pt x="65" y="1278"/>
                </a:lnTo>
                <a:lnTo>
                  <a:pt x="55" y="1289"/>
                </a:lnTo>
                <a:lnTo>
                  <a:pt x="46" y="1299"/>
                </a:lnTo>
                <a:lnTo>
                  <a:pt x="38" y="1307"/>
                </a:lnTo>
                <a:lnTo>
                  <a:pt x="30" y="1312"/>
                </a:lnTo>
                <a:lnTo>
                  <a:pt x="25" y="1318"/>
                </a:lnTo>
                <a:lnTo>
                  <a:pt x="19" y="1322"/>
                </a:lnTo>
                <a:lnTo>
                  <a:pt x="13" y="1326"/>
                </a:lnTo>
                <a:lnTo>
                  <a:pt x="9" y="1326"/>
                </a:lnTo>
                <a:lnTo>
                  <a:pt x="5" y="1326"/>
                </a:lnTo>
                <a:lnTo>
                  <a:pt x="3" y="1326"/>
                </a:lnTo>
                <a:lnTo>
                  <a:pt x="1" y="1322"/>
                </a:lnTo>
                <a:lnTo>
                  <a:pt x="0" y="1318"/>
                </a:lnTo>
                <a:lnTo>
                  <a:pt x="0" y="1312"/>
                </a:lnTo>
                <a:lnTo>
                  <a:pt x="1" y="1305"/>
                </a:lnTo>
                <a:lnTo>
                  <a:pt x="1" y="1297"/>
                </a:lnTo>
                <a:lnTo>
                  <a:pt x="5" y="1288"/>
                </a:lnTo>
                <a:lnTo>
                  <a:pt x="7" y="1278"/>
                </a:lnTo>
                <a:lnTo>
                  <a:pt x="11" y="1264"/>
                </a:lnTo>
                <a:lnTo>
                  <a:pt x="17" y="1251"/>
                </a:lnTo>
                <a:lnTo>
                  <a:pt x="23" y="1236"/>
                </a:lnTo>
                <a:lnTo>
                  <a:pt x="28" y="1218"/>
                </a:lnTo>
                <a:lnTo>
                  <a:pt x="36" y="1201"/>
                </a:lnTo>
                <a:lnTo>
                  <a:pt x="46" y="1180"/>
                </a:lnTo>
                <a:lnTo>
                  <a:pt x="53" y="1159"/>
                </a:lnTo>
                <a:lnTo>
                  <a:pt x="63" y="1136"/>
                </a:lnTo>
                <a:lnTo>
                  <a:pt x="74" y="1111"/>
                </a:lnTo>
                <a:lnTo>
                  <a:pt x="86" y="1084"/>
                </a:lnTo>
                <a:lnTo>
                  <a:pt x="96" y="1057"/>
                </a:lnTo>
                <a:lnTo>
                  <a:pt x="105" y="1030"/>
                </a:lnTo>
                <a:lnTo>
                  <a:pt x="115" y="1002"/>
                </a:lnTo>
                <a:lnTo>
                  <a:pt x="122" y="973"/>
                </a:lnTo>
                <a:lnTo>
                  <a:pt x="132" y="942"/>
                </a:lnTo>
                <a:lnTo>
                  <a:pt x="140" y="913"/>
                </a:lnTo>
                <a:lnTo>
                  <a:pt x="145" y="883"/>
                </a:lnTo>
                <a:lnTo>
                  <a:pt x="153" y="850"/>
                </a:lnTo>
                <a:lnTo>
                  <a:pt x="159" y="817"/>
                </a:lnTo>
                <a:lnTo>
                  <a:pt x="165" y="785"/>
                </a:lnTo>
                <a:lnTo>
                  <a:pt x="168" y="750"/>
                </a:lnTo>
                <a:lnTo>
                  <a:pt x="172" y="716"/>
                </a:lnTo>
                <a:lnTo>
                  <a:pt x="176" y="679"/>
                </a:lnTo>
                <a:lnTo>
                  <a:pt x="180" y="643"/>
                </a:lnTo>
                <a:lnTo>
                  <a:pt x="182" y="606"/>
                </a:lnTo>
                <a:lnTo>
                  <a:pt x="186" y="529"/>
                </a:lnTo>
                <a:lnTo>
                  <a:pt x="190" y="454"/>
                </a:lnTo>
                <a:lnTo>
                  <a:pt x="190" y="378"/>
                </a:lnTo>
                <a:lnTo>
                  <a:pt x="190" y="303"/>
                </a:lnTo>
                <a:lnTo>
                  <a:pt x="188" y="228"/>
                </a:lnTo>
                <a:lnTo>
                  <a:pt x="184" y="151"/>
                </a:lnTo>
                <a:lnTo>
                  <a:pt x="182" y="113"/>
                </a:lnTo>
                <a:lnTo>
                  <a:pt x="178" y="76"/>
                </a:lnTo>
                <a:lnTo>
                  <a:pt x="174" y="38"/>
                </a:lnTo>
                <a:lnTo>
                  <a:pt x="170" y="0"/>
                </a:lnTo>
                <a:lnTo>
                  <a:pt x="249" y="0"/>
                </a:lnTo>
                <a:lnTo>
                  <a:pt x="326" y="0"/>
                </a:lnTo>
                <a:lnTo>
                  <a:pt x="326" y="38"/>
                </a:lnTo>
                <a:lnTo>
                  <a:pt x="326" y="76"/>
                </a:lnTo>
                <a:lnTo>
                  <a:pt x="326" y="113"/>
                </a:lnTo>
                <a:lnTo>
                  <a:pt x="326" y="149"/>
                </a:lnTo>
                <a:lnTo>
                  <a:pt x="326" y="186"/>
                </a:lnTo>
                <a:lnTo>
                  <a:pt x="326" y="220"/>
                </a:lnTo>
                <a:lnTo>
                  <a:pt x="324" y="253"/>
                </a:lnTo>
                <a:lnTo>
                  <a:pt x="324" y="286"/>
                </a:lnTo>
                <a:lnTo>
                  <a:pt x="324" y="318"/>
                </a:lnTo>
                <a:lnTo>
                  <a:pt x="322" y="349"/>
                </a:lnTo>
                <a:lnTo>
                  <a:pt x="322" y="380"/>
                </a:lnTo>
                <a:lnTo>
                  <a:pt x="320" y="410"/>
                </a:lnTo>
                <a:lnTo>
                  <a:pt x="320" y="439"/>
                </a:lnTo>
                <a:lnTo>
                  <a:pt x="318" y="466"/>
                </a:lnTo>
                <a:lnTo>
                  <a:pt x="316" y="495"/>
                </a:lnTo>
                <a:lnTo>
                  <a:pt x="316" y="520"/>
                </a:lnTo>
                <a:lnTo>
                  <a:pt x="314" y="547"/>
                </a:lnTo>
                <a:lnTo>
                  <a:pt x="312" y="572"/>
                </a:lnTo>
                <a:lnTo>
                  <a:pt x="311" y="595"/>
                </a:lnTo>
                <a:lnTo>
                  <a:pt x="309" y="618"/>
                </a:lnTo>
                <a:lnTo>
                  <a:pt x="307" y="641"/>
                </a:lnTo>
                <a:lnTo>
                  <a:pt x="305" y="662"/>
                </a:lnTo>
                <a:lnTo>
                  <a:pt x="303" y="683"/>
                </a:lnTo>
                <a:lnTo>
                  <a:pt x="301" y="702"/>
                </a:lnTo>
                <a:lnTo>
                  <a:pt x="299" y="721"/>
                </a:lnTo>
                <a:lnTo>
                  <a:pt x="295" y="740"/>
                </a:lnTo>
                <a:lnTo>
                  <a:pt x="293" y="758"/>
                </a:lnTo>
                <a:lnTo>
                  <a:pt x="291" y="775"/>
                </a:lnTo>
                <a:lnTo>
                  <a:pt x="287" y="790"/>
                </a:lnTo>
                <a:lnTo>
                  <a:pt x="286" y="806"/>
                </a:lnTo>
                <a:lnTo>
                  <a:pt x="282" y="819"/>
                </a:lnTo>
                <a:lnTo>
                  <a:pt x="278" y="8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00"/>
          <p:cNvSpPr/>
          <p:nvPr/>
        </p:nvSpPr>
        <p:spPr>
          <a:xfrm>
            <a:off x="7020000" y="3254400"/>
            <a:ext cx="326880" cy="947880"/>
          </a:xfrm>
          <a:custGeom>
            <a:avLst/>
            <a:gdLst/>
            <a:ahLst/>
            <a:rect l="l" t="t" r="r" b="b"/>
            <a:pathLst>
              <a:path w="411" h="1194">
                <a:moveTo>
                  <a:pt x="25" y="1110"/>
                </a:moveTo>
                <a:lnTo>
                  <a:pt x="21" y="1102"/>
                </a:lnTo>
                <a:lnTo>
                  <a:pt x="19" y="1094"/>
                </a:lnTo>
                <a:lnTo>
                  <a:pt x="17" y="1085"/>
                </a:lnTo>
                <a:lnTo>
                  <a:pt x="15" y="1077"/>
                </a:lnTo>
                <a:lnTo>
                  <a:pt x="13" y="1065"/>
                </a:lnTo>
                <a:lnTo>
                  <a:pt x="11" y="1056"/>
                </a:lnTo>
                <a:lnTo>
                  <a:pt x="9" y="1044"/>
                </a:lnTo>
                <a:lnTo>
                  <a:pt x="7" y="1033"/>
                </a:lnTo>
                <a:lnTo>
                  <a:pt x="6" y="1021"/>
                </a:lnTo>
                <a:lnTo>
                  <a:pt x="4" y="1008"/>
                </a:lnTo>
                <a:lnTo>
                  <a:pt x="4" y="996"/>
                </a:lnTo>
                <a:lnTo>
                  <a:pt x="2" y="981"/>
                </a:lnTo>
                <a:lnTo>
                  <a:pt x="2" y="968"/>
                </a:lnTo>
                <a:lnTo>
                  <a:pt x="0" y="952"/>
                </a:lnTo>
                <a:lnTo>
                  <a:pt x="0" y="937"/>
                </a:lnTo>
                <a:lnTo>
                  <a:pt x="0" y="920"/>
                </a:lnTo>
                <a:lnTo>
                  <a:pt x="0" y="887"/>
                </a:lnTo>
                <a:lnTo>
                  <a:pt x="0" y="854"/>
                </a:lnTo>
                <a:lnTo>
                  <a:pt x="0" y="820"/>
                </a:lnTo>
                <a:lnTo>
                  <a:pt x="2" y="785"/>
                </a:lnTo>
                <a:lnTo>
                  <a:pt x="4" y="749"/>
                </a:lnTo>
                <a:lnTo>
                  <a:pt x="6" y="710"/>
                </a:lnTo>
                <a:lnTo>
                  <a:pt x="6" y="691"/>
                </a:lnTo>
                <a:lnTo>
                  <a:pt x="7" y="672"/>
                </a:lnTo>
                <a:lnTo>
                  <a:pt x="9" y="651"/>
                </a:lnTo>
                <a:lnTo>
                  <a:pt x="11" y="630"/>
                </a:lnTo>
                <a:lnTo>
                  <a:pt x="13" y="620"/>
                </a:lnTo>
                <a:lnTo>
                  <a:pt x="13" y="609"/>
                </a:lnTo>
                <a:lnTo>
                  <a:pt x="15" y="599"/>
                </a:lnTo>
                <a:lnTo>
                  <a:pt x="15" y="587"/>
                </a:lnTo>
                <a:lnTo>
                  <a:pt x="17" y="574"/>
                </a:lnTo>
                <a:lnTo>
                  <a:pt x="17" y="561"/>
                </a:lnTo>
                <a:lnTo>
                  <a:pt x="19" y="547"/>
                </a:lnTo>
                <a:lnTo>
                  <a:pt x="19" y="534"/>
                </a:lnTo>
                <a:lnTo>
                  <a:pt x="19" y="518"/>
                </a:lnTo>
                <a:lnTo>
                  <a:pt x="19" y="503"/>
                </a:lnTo>
                <a:lnTo>
                  <a:pt x="21" y="486"/>
                </a:lnTo>
                <a:lnTo>
                  <a:pt x="21" y="468"/>
                </a:lnTo>
                <a:lnTo>
                  <a:pt x="21" y="451"/>
                </a:lnTo>
                <a:lnTo>
                  <a:pt x="21" y="434"/>
                </a:lnTo>
                <a:lnTo>
                  <a:pt x="23" y="415"/>
                </a:lnTo>
                <a:lnTo>
                  <a:pt x="23" y="396"/>
                </a:lnTo>
                <a:lnTo>
                  <a:pt x="23" y="374"/>
                </a:lnTo>
                <a:lnTo>
                  <a:pt x="23" y="353"/>
                </a:lnTo>
                <a:lnTo>
                  <a:pt x="23" y="332"/>
                </a:lnTo>
                <a:lnTo>
                  <a:pt x="23" y="311"/>
                </a:lnTo>
                <a:lnTo>
                  <a:pt x="23" y="288"/>
                </a:lnTo>
                <a:lnTo>
                  <a:pt x="23" y="265"/>
                </a:lnTo>
                <a:lnTo>
                  <a:pt x="23" y="240"/>
                </a:lnTo>
                <a:lnTo>
                  <a:pt x="23" y="217"/>
                </a:lnTo>
                <a:lnTo>
                  <a:pt x="23" y="192"/>
                </a:lnTo>
                <a:lnTo>
                  <a:pt x="23" y="165"/>
                </a:lnTo>
                <a:lnTo>
                  <a:pt x="23" y="140"/>
                </a:lnTo>
                <a:lnTo>
                  <a:pt x="25" y="113"/>
                </a:lnTo>
                <a:lnTo>
                  <a:pt x="25" y="85"/>
                </a:lnTo>
                <a:lnTo>
                  <a:pt x="25" y="58"/>
                </a:lnTo>
                <a:lnTo>
                  <a:pt x="25" y="29"/>
                </a:lnTo>
                <a:lnTo>
                  <a:pt x="25" y="0"/>
                </a:lnTo>
                <a:lnTo>
                  <a:pt x="44" y="15"/>
                </a:lnTo>
                <a:lnTo>
                  <a:pt x="61" y="33"/>
                </a:lnTo>
                <a:lnTo>
                  <a:pt x="78" y="48"/>
                </a:lnTo>
                <a:lnTo>
                  <a:pt x="94" y="63"/>
                </a:lnTo>
                <a:lnTo>
                  <a:pt x="107" y="79"/>
                </a:lnTo>
                <a:lnTo>
                  <a:pt x="121" y="92"/>
                </a:lnTo>
                <a:lnTo>
                  <a:pt x="132" y="106"/>
                </a:lnTo>
                <a:lnTo>
                  <a:pt x="142" y="119"/>
                </a:lnTo>
                <a:lnTo>
                  <a:pt x="151" y="133"/>
                </a:lnTo>
                <a:lnTo>
                  <a:pt x="159" y="144"/>
                </a:lnTo>
                <a:lnTo>
                  <a:pt x="165" y="156"/>
                </a:lnTo>
                <a:lnTo>
                  <a:pt x="171" y="165"/>
                </a:lnTo>
                <a:lnTo>
                  <a:pt x="174" y="175"/>
                </a:lnTo>
                <a:lnTo>
                  <a:pt x="178" y="184"/>
                </a:lnTo>
                <a:lnTo>
                  <a:pt x="178" y="194"/>
                </a:lnTo>
                <a:lnTo>
                  <a:pt x="180" y="202"/>
                </a:lnTo>
                <a:lnTo>
                  <a:pt x="180" y="209"/>
                </a:lnTo>
                <a:lnTo>
                  <a:pt x="178" y="217"/>
                </a:lnTo>
                <a:lnTo>
                  <a:pt x="178" y="227"/>
                </a:lnTo>
                <a:lnTo>
                  <a:pt x="178" y="238"/>
                </a:lnTo>
                <a:lnTo>
                  <a:pt x="176" y="252"/>
                </a:lnTo>
                <a:lnTo>
                  <a:pt x="174" y="263"/>
                </a:lnTo>
                <a:lnTo>
                  <a:pt x="174" y="278"/>
                </a:lnTo>
                <a:lnTo>
                  <a:pt x="173" y="294"/>
                </a:lnTo>
                <a:lnTo>
                  <a:pt x="171" y="311"/>
                </a:lnTo>
                <a:lnTo>
                  <a:pt x="169" y="328"/>
                </a:lnTo>
                <a:lnTo>
                  <a:pt x="167" y="346"/>
                </a:lnTo>
                <a:lnTo>
                  <a:pt x="165" y="367"/>
                </a:lnTo>
                <a:lnTo>
                  <a:pt x="163" y="386"/>
                </a:lnTo>
                <a:lnTo>
                  <a:pt x="161" y="407"/>
                </a:lnTo>
                <a:lnTo>
                  <a:pt x="157" y="430"/>
                </a:lnTo>
                <a:lnTo>
                  <a:pt x="155" y="453"/>
                </a:lnTo>
                <a:lnTo>
                  <a:pt x="148" y="499"/>
                </a:lnTo>
                <a:lnTo>
                  <a:pt x="140" y="545"/>
                </a:lnTo>
                <a:lnTo>
                  <a:pt x="134" y="589"/>
                </a:lnTo>
                <a:lnTo>
                  <a:pt x="128" y="634"/>
                </a:lnTo>
                <a:lnTo>
                  <a:pt x="123" y="676"/>
                </a:lnTo>
                <a:lnTo>
                  <a:pt x="117" y="716"/>
                </a:lnTo>
                <a:lnTo>
                  <a:pt x="113" y="756"/>
                </a:lnTo>
                <a:lnTo>
                  <a:pt x="107" y="795"/>
                </a:lnTo>
                <a:lnTo>
                  <a:pt x="105" y="812"/>
                </a:lnTo>
                <a:lnTo>
                  <a:pt x="105" y="829"/>
                </a:lnTo>
                <a:lnTo>
                  <a:pt x="103" y="847"/>
                </a:lnTo>
                <a:lnTo>
                  <a:pt x="103" y="862"/>
                </a:lnTo>
                <a:lnTo>
                  <a:pt x="103" y="877"/>
                </a:lnTo>
                <a:lnTo>
                  <a:pt x="105" y="893"/>
                </a:lnTo>
                <a:lnTo>
                  <a:pt x="105" y="906"/>
                </a:lnTo>
                <a:lnTo>
                  <a:pt x="107" y="918"/>
                </a:lnTo>
                <a:lnTo>
                  <a:pt x="111" y="931"/>
                </a:lnTo>
                <a:lnTo>
                  <a:pt x="113" y="943"/>
                </a:lnTo>
                <a:lnTo>
                  <a:pt x="117" y="952"/>
                </a:lnTo>
                <a:lnTo>
                  <a:pt x="121" y="962"/>
                </a:lnTo>
                <a:lnTo>
                  <a:pt x="126" y="971"/>
                </a:lnTo>
                <a:lnTo>
                  <a:pt x="132" y="981"/>
                </a:lnTo>
                <a:lnTo>
                  <a:pt x="138" y="989"/>
                </a:lnTo>
                <a:lnTo>
                  <a:pt x="144" y="996"/>
                </a:lnTo>
                <a:lnTo>
                  <a:pt x="150" y="1002"/>
                </a:lnTo>
                <a:lnTo>
                  <a:pt x="153" y="1010"/>
                </a:lnTo>
                <a:lnTo>
                  <a:pt x="159" y="1016"/>
                </a:lnTo>
                <a:lnTo>
                  <a:pt x="167" y="1019"/>
                </a:lnTo>
                <a:lnTo>
                  <a:pt x="173" y="1025"/>
                </a:lnTo>
                <a:lnTo>
                  <a:pt x="180" y="1029"/>
                </a:lnTo>
                <a:lnTo>
                  <a:pt x="188" y="1033"/>
                </a:lnTo>
                <a:lnTo>
                  <a:pt x="196" y="1035"/>
                </a:lnTo>
                <a:lnTo>
                  <a:pt x="215" y="1040"/>
                </a:lnTo>
                <a:lnTo>
                  <a:pt x="234" y="1044"/>
                </a:lnTo>
                <a:lnTo>
                  <a:pt x="253" y="1046"/>
                </a:lnTo>
                <a:lnTo>
                  <a:pt x="276" y="1046"/>
                </a:lnTo>
                <a:lnTo>
                  <a:pt x="297" y="1046"/>
                </a:lnTo>
                <a:lnTo>
                  <a:pt x="318" y="1048"/>
                </a:lnTo>
                <a:lnTo>
                  <a:pt x="338" y="1052"/>
                </a:lnTo>
                <a:lnTo>
                  <a:pt x="355" y="1058"/>
                </a:lnTo>
                <a:lnTo>
                  <a:pt x="365" y="1060"/>
                </a:lnTo>
                <a:lnTo>
                  <a:pt x="372" y="1064"/>
                </a:lnTo>
                <a:lnTo>
                  <a:pt x="378" y="1067"/>
                </a:lnTo>
                <a:lnTo>
                  <a:pt x="386" y="1073"/>
                </a:lnTo>
                <a:lnTo>
                  <a:pt x="391" y="1079"/>
                </a:lnTo>
                <a:lnTo>
                  <a:pt x="397" y="1083"/>
                </a:lnTo>
                <a:lnTo>
                  <a:pt x="403" y="1090"/>
                </a:lnTo>
                <a:lnTo>
                  <a:pt x="409" y="1096"/>
                </a:lnTo>
                <a:lnTo>
                  <a:pt x="409" y="1104"/>
                </a:lnTo>
                <a:lnTo>
                  <a:pt x="411" y="1110"/>
                </a:lnTo>
                <a:lnTo>
                  <a:pt x="411" y="1117"/>
                </a:lnTo>
                <a:lnTo>
                  <a:pt x="409" y="1123"/>
                </a:lnTo>
                <a:lnTo>
                  <a:pt x="409" y="1129"/>
                </a:lnTo>
                <a:lnTo>
                  <a:pt x="405" y="1135"/>
                </a:lnTo>
                <a:lnTo>
                  <a:pt x="401" y="1138"/>
                </a:lnTo>
                <a:lnTo>
                  <a:pt x="397" y="1144"/>
                </a:lnTo>
                <a:lnTo>
                  <a:pt x="391" y="1148"/>
                </a:lnTo>
                <a:lnTo>
                  <a:pt x="386" y="1154"/>
                </a:lnTo>
                <a:lnTo>
                  <a:pt x="378" y="1158"/>
                </a:lnTo>
                <a:lnTo>
                  <a:pt x="368" y="1161"/>
                </a:lnTo>
                <a:lnTo>
                  <a:pt x="359" y="1163"/>
                </a:lnTo>
                <a:lnTo>
                  <a:pt x="349" y="1167"/>
                </a:lnTo>
                <a:lnTo>
                  <a:pt x="338" y="1169"/>
                </a:lnTo>
                <a:lnTo>
                  <a:pt x="324" y="1173"/>
                </a:lnTo>
                <a:lnTo>
                  <a:pt x="311" y="1177"/>
                </a:lnTo>
                <a:lnTo>
                  <a:pt x="297" y="1181"/>
                </a:lnTo>
                <a:lnTo>
                  <a:pt x="284" y="1184"/>
                </a:lnTo>
                <a:lnTo>
                  <a:pt x="272" y="1186"/>
                </a:lnTo>
                <a:lnTo>
                  <a:pt x="261" y="1190"/>
                </a:lnTo>
                <a:lnTo>
                  <a:pt x="247" y="1190"/>
                </a:lnTo>
                <a:lnTo>
                  <a:pt x="236" y="1192"/>
                </a:lnTo>
                <a:lnTo>
                  <a:pt x="224" y="1194"/>
                </a:lnTo>
                <a:lnTo>
                  <a:pt x="203" y="1194"/>
                </a:lnTo>
                <a:lnTo>
                  <a:pt x="182" y="1192"/>
                </a:lnTo>
                <a:lnTo>
                  <a:pt x="163" y="1188"/>
                </a:lnTo>
                <a:lnTo>
                  <a:pt x="144" y="1184"/>
                </a:lnTo>
                <a:lnTo>
                  <a:pt x="132" y="1183"/>
                </a:lnTo>
                <a:lnTo>
                  <a:pt x="123" y="1179"/>
                </a:lnTo>
                <a:lnTo>
                  <a:pt x="113" y="1177"/>
                </a:lnTo>
                <a:lnTo>
                  <a:pt x="103" y="1173"/>
                </a:lnTo>
                <a:lnTo>
                  <a:pt x="94" y="1169"/>
                </a:lnTo>
                <a:lnTo>
                  <a:pt x="86" y="1165"/>
                </a:lnTo>
                <a:lnTo>
                  <a:pt x="71" y="1156"/>
                </a:lnTo>
                <a:lnTo>
                  <a:pt x="57" y="1146"/>
                </a:lnTo>
                <a:lnTo>
                  <a:pt x="44" y="1135"/>
                </a:lnTo>
                <a:lnTo>
                  <a:pt x="34" y="1123"/>
                </a:lnTo>
                <a:lnTo>
                  <a:pt x="25" y="1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01"/>
          <p:cNvSpPr/>
          <p:nvPr/>
        </p:nvSpPr>
        <p:spPr>
          <a:xfrm>
            <a:off x="6108840" y="3773520"/>
            <a:ext cx="226800" cy="252360"/>
          </a:xfrm>
          <a:custGeom>
            <a:avLst/>
            <a:gdLst/>
            <a:ahLst/>
            <a:rect l="l" t="t" r="r" b="b"/>
            <a:pathLst>
              <a:path w="288" h="316">
                <a:moveTo>
                  <a:pt x="0" y="0"/>
                </a:moveTo>
                <a:lnTo>
                  <a:pt x="17" y="9"/>
                </a:lnTo>
                <a:lnTo>
                  <a:pt x="35" y="17"/>
                </a:lnTo>
                <a:lnTo>
                  <a:pt x="50" y="25"/>
                </a:lnTo>
                <a:lnTo>
                  <a:pt x="67" y="32"/>
                </a:lnTo>
                <a:lnTo>
                  <a:pt x="83" y="42"/>
                </a:lnTo>
                <a:lnTo>
                  <a:pt x="96" y="50"/>
                </a:lnTo>
                <a:lnTo>
                  <a:pt x="111" y="57"/>
                </a:lnTo>
                <a:lnTo>
                  <a:pt x="125" y="65"/>
                </a:lnTo>
                <a:lnTo>
                  <a:pt x="138" y="73"/>
                </a:lnTo>
                <a:lnTo>
                  <a:pt x="150" y="80"/>
                </a:lnTo>
                <a:lnTo>
                  <a:pt x="163" y="88"/>
                </a:lnTo>
                <a:lnTo>
                  <a:pt x="175" y="96"/>
                </a:lnTo>
                <a:lnTo>
                  <a:pt x="184" y="101"/>
                </a:lnTo>
                <a:lnTo>
                  <a:pt x="196" y="109"/>
                </a:lnTo>
                <a:lnTo>
                  <a:pt x="205" y="117"/>
                </a:lnTo>
                <a:lnTo>
                  <a:pt x="215" y="124"/>
                </a:lnTo>
                <a:lnTo>
                  <a:pt x="223" y="130"/>
                </a:lnTo>
                <a:lnTo>
                  <a:pt x="232" y="138"/>
                </a:lnTo>
                <a:lnTo>
                  <a:pt x="240" y="146"/>
                </a:lnTo>
                <a:lnTo>
                  <a:pt x="246" y="151"/>
                </a:lnTo>
                <a:lnTo>
                  <a:pt x="253" y="159"/>
                </a:lnTo>
                <a:lnTo>
                  <a:pt x="259" y="165"/>
                </a:lnTo>
                <a:lnTo>
                  <a:pt x="265" y="171"/>
                </a:lnTo>
                <a:lnTo>
                  <a:pt x="269" y="178"/>
                </a:lnTo>
                <a:lnTo>
                  <a:pt x="273" y="184"/>
                </a:lnTo>
                <a:lnTo>
                  <a:pt x="276" y="190"/>
                </a:lnTo>
                <a:lnTo>
                  <a:pt x="280" y="197"/>
                </a:lnTo>
                <a:lnTo>
                  <a:pt x="282" y="203"/>
                </a:lnTo>
                <a:lnTo>
                  <a:pt x="284" y="209"/>
                </a:lnTo>
                <a:lnTo>
                  <a:pt x="286" y="215"/>
                </a:lnTo>
                <a:lnTo>
                  <a:pt x="286" y="220"/>
                </a:lnTo>
                <a:lnTo>
                  <a:pt x="288" y="228"/>
                </a:lnTo>
                <a:lnTo>
                  <a:pt x="286" y="238"/>
                </a:lnTo>
                <a:lnTo>
                  <a:pt x="286" y="249"/>
                </a:lnTo>
                <a:lnTo>
                  <a:pt x="286" y="259"/>
                </a:lnTo>
                <a:lnTo>
                  <a:pt x="284" y="268"/>
                </a:lnTo>
                <a:lnTo>
                  <a:pt x="284" y="276"/>
                </a:lnTo>
                <a:lnTo>
                  <a:pt x="282" y="284"/>
                </a:lnTo>
                <a:lnTo>
                  <a:pt x="280" y="290"/>
                </a:lnTo>
                <a:lnTo>
                  <a:pt x="278" y="295"/>
                </a:lnTo>
                <a:lnTo>
                  <a:pt x="276" y="299"/>
                </a:lnTo>
                <a:lnTo>
                  <a:pt x="273" y="305"/>
                </a:lnTo>
                <a:lnTo>
                  <a:pt x="271" y="307"/>
                </a:lnTo>
                <a:lnTo>
                  <a:pt x="267" y="311"/>
                </a:lnTo>
                <a:lnTo>
                  <a:pt x="263" y="313"/>
                </a:lnTo>
                <a:lnTo>
                  <a:pt x="259" y="314"/>
                </a:lnTo>
                <a:lnTo>
                  <a:pt x="255" y="314"/>
                </a:lnTo>
                <a:lnTo>
                  <a:pt x="251" y="316"/>
                </a:lnTo>
                <a:lnTo>
                  <a:pt x="246" y="314"/>
                </a:lnTo>
                <a:lnTo>
                  <a:pt x="240" y="313"/>
                </a:lnTo>
                <a:lnTo>
                  <a:pt x="230" y="307"/>
                </a:lnTo>
                <a:lnTo>
                  <a:pt x="221" y="301"/>
                </a:lnTo>
                <a:lnTo>
                  <a:pt x="211" y="293"/>
                </a:lnTo>
                <a:lnTo>
                  <a:pt x="198" y="284"/>
                </a:lnTo>
                <a:lnTo>
                  <a:pt x="184" y="272"/>
                </a:lnTo>
                <a:lnTo>
                  <a:pt x="169" y="259"/>
                </a:lnTo>
                <a:lnTo>
                  <a:pt x="154" y="243"/>
                </a:lnTo>
                <a:lnTo>
                  <a:pt x="134" y="228"/>
                </a:lnTo>
                <a:lnTo>
                  <a:pt x="115" y="209"/>
                </a:lnTo>
                <a:lnTo>
                  <a:pt x="96" y="188"/>
                </a:lnTo>
                <a:lnTo>
                  <a:pt x="73" y="167"/>
                </a:lnTo>
                <a:lnTo>
                  <a:pt x="50" y="142"/>
                </a:lnTo>
                <a:lnTo>
                  <a:pt x="25" y="117"/>
                </a:lnTo>
                <a:lnTo>
                  <a:pt x="0" y="88"/>
                </a:lnTo>
                <a:lnTo>
                  <a:pt x="0" y="4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02"/>
          <p:cNvSpPr/>
          <p:nvPr/>
        </p:nvSpPr>
        <p:spPr>
          <a:xfrm>
            <a:off x="5961240" y="2736720"/>
            <a:ext cx="223560" cy="2279880"/>
          </a:xfrm>
          <a:custGeom>
            <a:avLst/>
            <a:gdLst/>
            <a:ahLst/>
            <a:rect l="l" t="t" r="r" b="b"/>
            <a:pathLst>
              <a:path w="280" h="2871">
                <a:moveTo>
                  <a:pt x="207" y="1345"/>
                </a:moveTo>
                <a:lnTo>
                  <a:pt x="205" y="1412"/>
                </a:lnTo>
                <a:lnTo>
                  <a:pt x="205" y="1478"/>
                </a:lnTo>
                <a:lnTo>
                  <a:pt x="203" y="1541"/>
                </a:lnTo>
                <a:lnTo>
                  <a:pt x="203" y="1602"/>
                </a:lnTo>
                <a:lnTo>
                  <a:pt x="201" y="1662"/>
                </a:lnTo>
                <a:lnTo>
                  <a:pt x="201" y="1719"/>
                </a:lnTo>
                <a:lnTo>
                  <a:pt x="199" y="1777"/>
                </a:lnTo>
                <a:lnTo>
                  <a:pt x="197" y="1833"/>
                </a:lnTo>
                <a:lnTo>
                  <a:pt x="197" y="1886"/>
                </a:lnTo>
                <a:lnTo>
                  <a:pt x="196" y="1938"/>
                </a:lnTo>
                <a:lnTo>
                  <a:pt x="196" y="1988"/>
                </a:lnTo>
                <a:lnTo>
                  <a:pt x="194" y="2036"/>
                </a:lnTo>
                <a:lnTo>
                  <a:pt x="194" y="2084"/>
                </a:lnTo>
                <a:lnTo>
                  <a:pt x="192" y="2128"/>
                </a:lnTo>
                <a:lnTo>
                  <a:pt x="190" y="2172"/>
                </a:lnTo>
                <a:lnTo>
                  <a:pt x="190" y="2215"/>
                </a:lnTo>
                <a:lnTo>
                  <a:pt x="188" y="2255"/>
                </a:lnTo>
                <a:lnTo>
                  <a:pt x="188" y="2293"/>
                </a:lnTo>
                <a:lnTo>
                  <a:pt x="186" y="2330"/>
                </a:lnTo>
                <a:lnTo>
                  <a:pt x="184" y="2364"/>
                </a:lnTo>
                <a:lnTo>
                  <a:pt x="184" y="2399"/>
                </a:lnTo>
                <a:lnTo>
                  <a:pt x="182" y="2431"/>
                </a:lnTo>
                <a:lnTo>
                  <a:pt x="182" y="2460"/>
                </a:lnTo>
                <a:lnTo>
                  <a:pt x="180" y="2489"/>
                </a:lnTo>
                <a:lnTo>
                  <a:pt x="178" y="2516"/>
                </a:lnTo>
                <a:lnTo>
                  <a:pt x="178" y="2541"/>
                </a:lnTo>
                <a:lnTo>
                  <a:pt x="176" y="2566"/>
                </a:lnTo>
                <a:lnTo>
                  <a:pt x="176" y="2587"/>
                </a:lnTo>
                <a:lnTo>
                  <a:pt x="174" y="2606"/>
                </a:lnTo>
                <a:lnTo>
                  <a:pt x="173" y="2625"/>
                </a:lnTo>
                <a:lnTo>
                  <a:pt x="173" y="2643"/>
                </a:lnTo>
                <a:lnTo>
                  <a:pt x="171" y="2658"/>
                </a:lnTo>
                <a:lnTo>
                  <a:pt x="169" y="2683"/>
                </a:lnTo>
                <a:lnTo>
                  <a:pt x="167" y="2706"/>
                </a:lnTo>
                <a:lnTo>
                  <a:pt x="163" y="2729"/>
                </a:lnTo>
                <a:lnTo>
                  <a:pt x="161" y="2748"/>
                </a:lnTo>
                <a:lnTo>
                  <a:pt x="157" y="2767"/>
                </a:lnTo>
                <a:lnTo>
                  <a:pt x="153" y="2787"/>
                </a:lnTo>
                <a:lnTo>
                  <a:pt x="151" y="2802"/>
                </a:lnTo>
                <a:lnTo>
                  <a:pt x="148" y="2815"/>
                </a:lnTo>
                <a:lnTo>
                  <a:pt x="144" y="2829"/>
                </a:lnTo>
                <a:lnTo>
                  <a:pt x="140" y="2840"/>
                </a:lnTo>
                <a:lnTo>
                  <a:pt x="138" y="2850"/>
                </a:lnTo>
                <a:lnTo>
                  <a:pt x="134" y="2858"/>
                </a:lnTo>
                <a:lnTo>
                  <a:pt x="130" y="2863"/>
                </a:lnTo>
                <a:lnTo>
                  <a:pt x="128" y="2867"/>
                </a:lnTo>
                <a:lnTo>
                  <a:pt x="126" y="2871"/>
                </a:lnTo>
                <a:lnTo>
                  <a:pt x="123" y="2871"/>
                </a:lnTo>
                <a:lnTo>
                  <a:pt x="119" y="2871"/>
                </a:lnTo>
                <a:lnTo>
                  <a:pt x="115" y="2871"/>
                </a:lnTo>
                <a:lnTo>
                  <a:pt x="109" y="2869"/>
                </a:lnTo>
                <a:lnTo>
                  <a:pt x="105" y="2867"/>
                </a:lnTo>
                <a:lnTo>
                  <a:pt x="102" y="2863"/>
                </a:lnTo>
                <a:lnTo>
                  <a:pt x="96" y="2860"/>
                </a:lnTo>
                <a:lnTo>
                  <a:pt x="92" y="2856"/>
                </a:lnTo>
                <a:lnTo>
                  <a:pt x="86" y="2852"/>
                </a:lnTo>
                <a:lnTo>
                  <a:pt x="82" y="2846"/>
                </a:lnTo>
                <a:lnTo>
                  <a:pt x="78" y="2838"/>
                </a:lnTo>
                <a:lnTo>
                  <a:pt x="73" y="2833"/>
                </a:lnTo>
                <a:lnTo>
                  <a:pt x="69" y="2823"/>
                </a:lnTo>
                <a:lnTo>
                  <a:pt x="65" y="2815"/>
                </a:lnTo>
                <a:lnTo>
                  <a:pt x="59" y="2806"/>
                </a:lnTo>
                <a:lnTo>
                  <a:pt x="55" y="2794"/>
                </a:lnTo>
                <a:lnTo>
                  <a:pt x="52" y="2783"/>
                </a:lnTo>
                <a:lnTo>
                  <a:pt x="42" y="2760"/>
                </a:lnTo>
                <a:lnTo>
                  <a:pt x="36" y="2737"/>
                </a:lnTo>
                <a:lnTo>
                  <a:pt x="29" y="2714"/>
                </a:lnTo>
                <a:lnTo>
                  <a:pt x="23" y="2693"/>
                </a:lnTo>
                <a:lnTo>
                  <a:pt x="17" y="2671"/>
                </a:lnTo>
                <a:lnTo>
                  <a:pt x="13" y="2652"/>
                </a:lnTo>
                <a:lnTo>
                  <a:pt x="9" y="2643"/>
                </a:lnTo>
                <a:lnTo>
                  <a:pt x="7" y="2635"/>
                </a:lnTo>
                <a:lnTo>
                  <a:pt x="6" y="2627"/>
                </a:lnTo>
                <a:lnTo>
                  <a:pt x="4" y="2620"/>
                </a:lnTo>
                <a:lnTo>
                  <a:pt x="2" y="2616"/>
                </a:lnTo>
                <a:lnTo>
                  <a:pt x="2" y="2610"/>
                </a:lnTo>
                <a:lnTo>
                  <a:pt x="2" y="2606"/>
                </a:lnTo>
                <a:lnTo>
                  <a:pt x="0" y="2600"/>
                </a:lnTo>
                <a:lnTo>
                  <a:pt x="0" y="2593"/>
                </a:lnTo>
                <a:lnTo>
                  <a:pt x="0" y="2587"/>
                </a:lnTo>
                <a:lnTo>
                  <a:pt x="0" y="2577"/>
                </a:lnTo>
                <a:lnTo>
                  <a:pt x="2" y="2570"/>
                </a:lnTo>
                <a:lnTo>
                  <a:pt x="2" y="2560"/>
                </a:lnTo>
                <a:lnTo>
                  <a:pt x="2" y="2550"/>
                </a:lnTo>
                <a:lnTo>
                  <a:pt x="4" y="2541"/>
                </a:lnTo>
                <a:lnTo>
                  <a:pt x="4" y="2529"/>
                </a:lnTo>
                <a:lnTo>
                  <a:pt x="6" y="2518"/>
                </a:lnTo>
                <a:lnTo>
                  <a:pt x="7" y="2506"/>
                </a:lnTo>
                <a:lnTo>
                  <a:pt x="7" y="2493"/>
                </a:lnTo>
                <a:lnTo>
                  <a:pt x="9" y="2479"/>
                </a:lnTo>
                <a:lnTo>
                  <a:pt x="11" y="2466"/>
                </a:lnTo>
                <a:lnTo>
                  <a:pt x="13" y="2453"/>
                </a:lnTo>
                <a:lnTo>
                  <a:pt x="15" y="2437"/>
                </a:lnTo>
                <a:lnTo>
                  <a:pt x="17" y="2422"/>
                </a:lnTo>
                <a:lnTo>
                  <a:pt x="19" y="2405"/>
                </a:lnTo>
                <a:lnTo>
                  <a:pt x="23" y="2389"/>
                </a:lnTo>
                <a:lnTo>
                  <a:pt x="25" y="2370"/>
                </a:lnTo>
                <a:lnTo>
                  <a:pt x="27" y="2353"/>
                </a:lnTo>
                <a:lnTo>
                  <a:pt x="30" y="2336"/>
                </a:lnTo>
                <a:lnTo>
                  <a:pt x="32" y="2316"/>
                </a:lnTo>
                <a:lnTo>
                  <a:pt x="36" y="2295"/>
                </a:lnTo>
                <a:lnTo>
                  <a:pt x="38" y="2276"/>
                </a:lnTo>
                <a:lnTo>
                  <a:pt x="42" y="2255"/>
                </a:lnTo>
                <a:lnTo>
                  <a:pt x="44" y="2234"/>
                </a:lnTo>
                <a:lnTo>
                  <a:pt x="48" y="2213"/>
                </a:lnTo>
                <a:lnTo>
                  <a:pt x="52" y="2190"/>
                </a:lnTo>
                <a:lnTo>
                  <a:pt x="57" y="2145"/>
                </a:lnTo>
                <a:lnTo>
                  <a:pt x="63" y="2097"/>
                </a:lnTo>
                <a:lnTo>
                  <a:pt x="69" y="2051"/>
                </a:lnTo>
                <a:lnTo>
                  <a:pt x="75" y="2003"/>
                </a:lnTo>
                <a:lnTo>
                  <a:pt x="78" y="1954"/>
                </a:lnTo>
                <a:lnTo>
                  <a:pt x="82" y="1904"/>
                </a:lnTo>
                <a:lnTo>
                  <a:pt x="86" y="1852"/>
                </a:lnTo>
                <a:lnTo>
                  <a:pt x="90" y="1800"/>
                </a:lnTo>
                <a:lnTo>
                  <a:pt x="94" y="1748"/>
                </a:lnTo>
                <a:lnTo>
                  <a:pt x="96" y="1692"/>
                </a:lnTo>
                <a:lnTo>
                  <a:pt x="100" y="1639"/>
                </a:lnTo>
                <a:lnTo>
                  <a:pt x="102" y="1581"/>
                </a:lnTo>
                <a:lnTo>
                  <a:pt x="103" y="1524"/>
                </a:lnTo>
                <a:lnTo>
                  <a:pt x="107" y="1466"/>
                </a:lnTo>
                <a:lnTo>
                  <a:pt x="109" y="1406"/>
                </a:lnTo>
                <a:lnTo>
                  <a:pt x="111" y="1345"/>
                </a:lnTo>
                <a:lnTo>
                  <a:pt x="111" y="1284"/>
                </a:lnTo>
                <a:lnTo>
                  <a:pt x="111" y="1224"/>
                </a:lnTo>
                <a:lnTo>
                  <a:pt x="111" y="1165"/>
                </a:lnTo>
                <a:lnTo>
                  <a:pt x="111" y="1107"/>
                </a:lnTo>
                <a:lnTo>
                  <a:pt x="111" y="1049"/>
                </a:lnTo>
                <a:lnTo>
                  <a:pt x="111" y="992"/>
                </a:lnTo>
                <a:lnTo>
                  <a:pt x="109" y="936"/>
                </a:lnTo>
                <a:lnTo>
                  <a:pt x="109" y="882"/>
                </a:lnTo>
                <a:lnTo>
                  <a:pt x="109" y="829"/>
                </a:lnTo>
                <a:lnTo>
                  <a:pt x="107" y="777"/>
                </a:lnTo>
                <a:lnTo>
                  <a:pt x="107" y="727"/>
                </a:lnTo>
                <a:lnTo>
                  <a:pt x="105" y="675"/>
                </a:lnTo>
                <a:lnTo>
                  <a:pt x="105" y="627"/>
                </a:lnTo>
                <a:lnTo>
                  <a:pt x="103" y="579"/>
                </a:lnTo>
                <a:lnTo>
                  <a:pt x="102" y="533"/>
                </a:lnTo>
                <a:lnTo>
                  <a:pt x="100" y="487"/>
                </a:lnTo>
                <a:lnTo>
                  <a:pt x="98" y="464"/>
                </a:lnTo>
                <a:lnTo>
                  <a:pt x="98" y="443"/>
                </a:lnTo>
                <a:lnTo>
                  <a:pt x="96" y="422"/>
                </a:lnTo>
                <a:lnTo>
                  <a:pt x="94" y="403"/>
                </a:lnTo>
                <a:lnTo>
                  <a:pt x="92" y="381"/>
                </a:lnTo>
                <a:lnTo>
                  <a:pt x="92" y="362"/>
                </a:lnTo>
                <a:lnTo>
                  <a:pt x="90" y="345"/>
                </a:lnTo>
                <a:lnTo>
                  <a:pt x="88" y="326"/>
                </a:lnTo>
                <a:lnTo>
                  <a:pt x="86" y="309"/>
                </a:lnTo>
                <a:lnTo>
                  <a:pt x="84" y="293"/>
                </a:lnTo>
                <a:lnTo>
                  <a:pt x="82" y="276"/>
                </a:lnTo>
                <a:lnTo>
                  <a:pt x="80" y="261"/>
                </a:lnTo>
                <a:lnTo>
                  <a:pt x="78" y="245"/>
                </a:lnTo>
                <a:lnTo>
                  <a:pt x="77" y="232"/>
                </a:lnTo>
                <a:lnTo>
                  <a:pt x="75" y="218"/>
                </a:lnTo>
                <a:lnTo>
                  <a:pt x="73" y="205"/>
                </a:lnTo>
                <a:lnTo>
                  <a:pt x="71" y="193"/>
                </a:lnTo>
                <a:lnTo>
                  <a:pt x="67" y="180"/>
                </a:lnTo>
                <a:lnTo>
                  <a:pt x="65" y="170"/>
                </a:lnTo>
                <a:lnTo>
                  <a:pt x="63" y="159"/>
                </a:lnTo>
                <a:lnTo>
                  <a:pt x="59" y="149"/>
                </a:lnTo>
                <a:lnTo>
                  <a:pt x="57" y="140"/>
                </a:lnTo>
                <a:lnTo>
                  <a:pt x="55" y="132"/>
                </a:lnTo>
                <a:lnTo>
                  <a:pt x="52" y="124"/>
                </a:lnTo>
                <a:lnTo>
                  <a:pt x="50" y="117"/>
                </a:lnTo>
                <a:lnTo>
                  <a:pt x="46" y="109"/>
                </a:lnTo>
                <a:lnTo>
                  <a:pt x="44" y="103"/>
                </a:lnTo>
                <a:lnTo>
                  <a:pt x="40" y="97"/>
                </a:lnTo>
                <a:lnTo>
                  <a:pt x="36" y="94"/>
                </a:lnTo>
                <a:lnTo>
                  <a:pt x="34" y="90"/>
                </a:lnTo>
                <a:lnTo>
                  <a:pt x="30" y="86"/>
                </a:lnTo>
                <a:lnTo>
                  <a:pt x="27" y="84"/>
                </a:lnTo>
                <a:lnTo>
                  <a:pt x="21" y="78"/>
                </a:lnTo>
                <a:lnTo>
                  <a:pt x="15" y="74"/>
                </a:lnTo>
                <a:lnTo>
                  <a:pt x="11" y="69"/>
                </a:lnTo>
                <a:lnTo>
                  <a:pt x="7" y="65"/>
                </a:lnTo>
                <a:lnTo>
                  <a:pt x="4" y="59"/>
                </a:lnTo>
                <a:lnTo>
                  <a:pt x="2" y="55"/>
                </a:lnTo>
                <a:lnTo>
                  <a:pt x="0" y="49"/>
                </a:lnTo>
                <a:lnTo>
                  <a:pt x="0" y="46"/>
                </a:lnTo>
                <a:lnTo>
                  <a:pt x="0" y="40"/>
                </a:lnTo>
                <a:lnTo>
                  <a:pt x="0" y="36"/>
                </a:lnTo>
                <a:lnTo>
                  <a:pt x="0" y="32"/>
                </a:lnTo>
                <a:lnTo>
                  <a:pt x="2" y="26"/>
                </a:lnTo>
                <a:lnTo>
                  <a:pt x="4" y="23"/>
                </a:lnTo>
                <a:lnTo>
                  <a:pt x="7" y="17"/>
                </a:lnTo>
                <a:lnTo>
                  <a:pt x="11" y="13"/>
                </a:lnTo>
                <a:lnTo>
                  <a:pt x="15" y="7"/>
                </a:lnTo>
                <a:lnTo>
                  <a:pt x="17" y="5"/>
                </a:lnTo>
                <a:lnTo>
                  <a:pt x="21" y="3"/>
                </a:lnTo>
                <a:lnTo>
                  <a:pt x="27" y="1"/>
                </a:lnTo>
                <a:lnTo>
                  <a:pt x="30" y="1"/>
                </a:lnTo>
                <a:lnTo>
                  <a:pt x="36" y="0"/>
                </a:lnTo>
                <a:lnTo>
                  <a:pt x="44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80" y="1"/>
                </a:lnTo>
                <a:lnTo>
                  <a:pt x="92" y="3"/>
                </a:lnTo>
                <a:lnTo>
                  <a:pt x="103" y="5"/>
                </a:lnTo>
                <a:lnTo>
                  <a:pt x="115" y="9"/>
                </a:lnTo>
                <a:lnTo>
                  <a:pt x="130" y="11"/>
                </a:lnTo>
                <a:lnTo>
                  <a:pt x="144" y="15"/>
                </a:lnTo>
                <a:lnTo>
                  <a:pt x="159" y="21"/>
                </a:lnTo>
                <a:lnTo>
                  <a:pt x="173" y="26"/>
                </a:lnTo>
                <a:lnTo>
                  <a:pt x="184" y="34"/>
                </a:lnTo>
                <a:lnTo>
                  <a:pt x="196" y="40"/>
                </a:lnTo>
                <a:lnTo>
                  <a:pt x="207" y="46"/>
                </a:lnTo>
                <a:lnTo>
                  <a:pt x="217" y="51"/>
                </a:lnTo>
                <a:lnTo>
                  <a:pt x="226" y="57"/>
                </a:lnTo>
                <a:lnTo>
                  <a:pt x="234" y="63"/>
                </a:lnTo>
                <a:lnTo>
                  <a:pt x="242" y="67"/>
                </a:lnTo>
                <a:lnTo>
                  <a:pt x="249" y="72"/>
                </a:lnTo>
                <a:lnTo>
                  <a:pt x="255" y="76"/>
                </a:lnTo>
                <a:lnTo>
                  <a:pt x="261" y="80"/>
                </a:lnTo>
                <a:lnTo>
                  <a:pt x="265" y="84"/>
                </a:lnTo>
                <a:lnTo>
                  <a:pt x="270" y="88"/>
                </a:lnTo>
                <a:lnTo>
                  <a:pt x="274" y="90"/>
                </a:lnTo>
                <a:lnTo>
                  <a:pt x="276" y="94"/>
                </a:lnTo>
                <a:lnTo>
                  <a:pt x="280" y="95"/>
                </a:lnTo>
                <a:lnTo>
                  <a:pt x="278" y="105"/>
                </a:lnTo>
                <a:lnTo>
                  <a:pt x="276" y="117"/>
                </a:lnTo>
                <a:lnTo>
                  <a:pt x="274" y="128"/>
                </a:lnTo>
                <a:lnTo>
                  <a:pt x="272" y="142"/>
                </a:lnTo>
                <a:lnTo>
                  <a:pt x="268" y="155"/>
                </a:lnTo>
                <a:lnTo>
                  <a:pt x="265" y="168"/>
                </a:lnTo>
                <a:lnTo>
                  <a:pt x="255" y="197"/>
                </a:lnTo>
                <a:lnTo>
                  <a:pt x="255" y="199"/>
                </a:lnTo>
                <a:lnTo>
                  <a:pt x="253" y="201"/>
                </a:lnTo>
                <a:lnTo>
                  <a:pt x="253" y="205"/>
                </a:lnTo>
                <a:lnTo>
                  <a:pt x="253" y="209"/>
                </a:lnTo>
                <a:lnTo>
                  <a:pt x="251" y="213"/>
                </a:lnTo>
                <a:lnTo>
                  <a:pt x="251" y="216"/>
                </a:lnTo>
                <a:lnTo>
                  <a:pt x="251" y="222"/>
                </a:lnTo>
                <a:lnTo>
                  <a:pt x="249" y="228"/>
                </a:lnTo>
                <a:lnTo>
                  <a:pt x="249" y="234"/>
                </a:lnTo>
                <a:lnTo>
                  <a:pt x="249" y="239"/>
                </a:lnTo>
                <a:lnTo>
                  <a:pt x="247" y="247"/>
                </a:lnTo>
                <a:lnTo>
                  <a:pt x="247" y="255"/>
                </a:lnTo>
                <a:lnTo>
                  <a:pt x="247" y="262"/>
                </a:lnTo>
                <a:lnTo>
                  <a:pt x="245" y="272"/>
                </a:lnTo>
                <a:lnTo>
                  <a:pt x="245" y="282"/>
                </a:lnTo>
                <a:lnTo>
                  <a:pt x="244" y="291"/>
                </a:lnTo>
                <a:lnTo>
                  <a:pt x="244" y="301"/>
                </a:lnTo>
                <a:lnTo>
                  <a:pt x="244" y="312"/>
                </a:lnTo>
                <a:lnTo>
                  <a:pt x="242" y="324"/>
                </a:lnTo>
                <a:lnTo>
                  <a:pt x="242" y="335"/>
                </a:lnTo>
                <a:lnTo>
                  <a:pt x="240" y="347"/>
                </a:lnTo>
                <a:lnTo>
                  <a:pt x="240" y="360"/>
                </a:lnTo>
                <a:lnTo>
                  <a:pt x="240" y="374"/>
                </a:lnTo>
                <a:lnTo>
                  <a:pt x="238" y="387"/>
                </a:lnTo>
                <a:lnTo>
                  <a:pt x="238" y="401"/>
                </a:lnTo>
                <a:lnTo>
                  <a:pt x="236" y="416"/>
                </a:lnTo>
                <a:lnTo>
                  <a:pt x="236" y="431"/>
                </a:lnTo>
                <a:lnTo>
                  <a:pt x="234" y="447"/>
                </a:lnTo>
                <a:lnTo>
                  <a:pt x="234" y="464"/>
                </a:lnTo>
                <a:lnTo>
                  <a:pt x="232" y="479"/>
                </a:lnTo>
                <a:lnTo>
                  <a:pt x="232" y="497"/>
                </a:lnTo>
                <a:lnTo>
                  <a:pt x="232" y="516"/>
                </a:lnTo>
                <a:lnTo>
                  <a:pt x="230" y="533"/>
                </a:lnTo>
                <a:lnTo>
                  <a:pt x="230" y="552"/>
                </a:lnTo>
                <a:lnTo>
                  <a:pt x="228" y="572"/>
                </a:lnTo>
                <a:lnTo>
                  <a:pt x="228" y="591"/>
                </a:lnTo>
                <a:lnTo>
                  <a:pt x="226" y="612"/>
                </a:lnTo>
                <a:lnTo>
                  <a:pt x="226" y="633"/>
                </a:lnTo>
                <a:lnTo>
                  <a:pt x="224" y="654"/>
                </a:lnTo>
                <a:lnTo>
                  <a:pt x="224" y="675"/>
                </a:lnTo>
                <a:lnTo>
                  <a:pt x="224" y="698"/>
                </a:lnTo>
                <a:lnTo>
                  <a:pt x="222" y="721"/>
                </a:lnTo>
                <a:lnTo>
                  <a:pt x="222" y="744"/>
                </a:lnTo>
                <a:lnTo>
                  <a:pt x="221" y="767"/>
                </a:lnTo>
                <a:lnTo>
                  <a:pt x="221" y="792"/>
                </a:lnTo>
                <a:lnTo>
                  <a:pt x="219" y="817"/>
                </a:lnTo>
                <a:lnTo>
                  <a:pt x="219" y="842"/>
                </a:lnTo>
                <a:lnTo>
                  <a:pt x="219" y="867"/>
                </a:lnTo>
                <a:lnTo>
                  <a:pt x="217" y="894"/>
                </a:lnTo>
                <a:lnTo>
                  <a:pt x="217" y="921"/>
                </a:lnTo>
                <a:lnTo>
                  <a:pt x="215" y="948"/>
                </a:lnTo>
                <a:lnTo>
                  <a:pt x="215" y="975"/>
                </a:lnTo>
                <a:lnTo>
                  <a:pt x="215" y="1003"/>
                </a:lnTo>
                <a:lnTo>
                  <a:pt x="213" y="1032"/>
                </a:lnTo>
                <a:lnTo>
                  <a:pt x="213" y="1061"/>
                </a:lnTo>
                <a:lnTo>
                  <a:pt x="213" y="1090"/>
                </a:lnTo>
                <a:lnTo>
                  <a:pt x="211" y="1120"/>
                </a:lnTo>
                <a:lnTo>
                  <a:pt x="211" y="1151"/>
                </a:lnTo>
                <a:lnTo>
                  <a:pt x="209" y="1182"/>
                </a:lnTo>
                <a:lnTo>
                  <a:pt x="209" y="1215"/>
                </a:lnTo>
                <a:lnTo>
                  <a:pt x="209" y="1245"/>
                </a:lnTo>
                <a:lnTo>
                  <a:pt x="207" y="1278"/>
                </a:lnTo>
                <a:lnTo>
                  <a:pt x="207" y="1311"/>
                </a:lnTo>
                <a:lnTo>
                  <a:pt x="207" y="13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03"/>
          <p:cNvSpPr/>
          <p:nvPr/>
        </p:nvSpPr>
        <p:spPr>
          <a:xfrm>
            <a:off x="5421240" y="3575160"/>
            <a:ext cx="676440" cy="1023840"/>
          </a:xfrm>
          <a:custGeom>
            <a:avLst/>
            <a:gdLst/>
            <a:ahLst/>
            <a:rect l="l" t="t" r="r" b="b"/>
            <a:pathLst>
              <a:path w="853" h="1290">
                <a:moveTo>
                  <a:pt x="242" y="971"/>
                </a:moveTo>
                <a:lnTo>
                  <a:pt x="258" y="952"/>
                </a:lnTo>
                <a:lnTo>
                  <a:pt x="275" y="931"/>
                </a:lnTo>
                <a:lnTo>
                  <a:pt x="292" y="910"/>
                </a:lnTo>
                <a:lnTo>
                  <a:pt x="309" y="889"/>
                </a:lnTo>
                <a:lnTo>
                  <a:pt x="327" y="866"/>
                </a:lnTo>
                <a:lnTo>
                  <a:pt x="344" y="843"/>
                </a:lnTo>
                <a:lnTo>
                  <a:pt x="361" y="820"/>
                </a:lnTo>
                <a:lnTo>
                  <a:pt x="378" y="795"/>
                </a:lnTo>
                <a:lnTo>
                  <a:pt x="396" y="770"/>
                </a:lnTo>
                <a:lnTo>
                  <a:pt x="413" y="745"/>
                </a:lnTo>
                <a:lnTo>
                  <a:pt x="432" y="718"/>
                </a:lnTo>
                <a:lnTo>
                  <a:pt x="450" y="691"/>
                </a:lnTo>
                <a:lnTo>
                  <a:pt x="467" y="662"/>
                </a:lnTo>
                <a:lnTo>
                  <a:pt x="486" y="634"/>
                </a:lnTo>
                <a:lnTo>
                  <a:pt x="503" y="605"/>
                </a:lnTo>
                <a:lnTo>
                  <a:pt x="521" y="576"/>
                </a:lnTo>
                <a:lnTo>
                  <a:pt x="540" y="545"/>
                </a:lnTo>
                <a:lnTo>
                  <a:pt x="557" y="513"/>
                </a:lnTo>
                <a:lnTo>
                  <a:pt x="576" y="480"/>
                </a:lnTo>
                <a:lnTo>
                  <a:pt x="593" y="447"/>
                </a:lnTo>
                <a:lnTo>
                  <a:pt x="613" y="415"/>
                </a:lnTo>
                <a:lnTo>
                  <a:pt x="630" y="380"/>
                </a:lnTo>
                <a:lnTo>
                  <a:pt x="649" y="346"/>
                </a:lnTo>
                <a:lnTo>
                  <a:pt x="668" y="309"/>
                </a:lnTo>
                <a:lnTo>
                  <a:pt x="686" y="273"/>
                </a:lnTo>
                <a:lnTo>
                  <a:pt x="705" y="236"/>
                </a:lnTo>
                <a:lnTo>
                  <a:pt x="724" y="198"/>
                </a:lnTo>
                <a:lnTo>
                  <a:pt x="743" y="160"/>
                </a:lnTo>
                <a:lnTo>
                  <a:pt x="760" y="121"/>
                </a:lnTo>
                <a:lnTo>
                  <a:pt x="780" y="81"/>
                </a:lnTo>
                <a:lnTo>
                  <a:pt x="799" y="41"/>
                </a:lnTo>
                <a:lnTo>
                  <a:pt x="818" y="0"/>
                </a:lnTo>
                <a:lnTo>
                  <a:pt x="835" y="152"/>
                </a:lnTo>
                <a:lnTo>
                  <a:pt x="853" y="304"/>
                </a:lnTo>
                <a:lnTo>
                  <a:pt x="830" y="348"/>
                </a:lnTo>
                <a:lnTo>
                  <a:pt x="805" y="390"/>
                </a:lnTo>
                <a:lnTo>
                  <a:pt x="780" y="432"/>
                </a:lnTo>
                <a:lnTo>
                  <a:pt x="755" y="470"/>
                </a:lnTo>
                <a:lnTo>
                  <a:pt x="732" y="511"/>
                </a:lnTo>
                <a:lnTo>
                  <a:pt x="707" y="547"/>
                </a:lnTo>
                <a:lnTo>
                  <a:pt x="682" y="584"/>
                </a:lnTo>
                <a:lnTo>
                  <a:pt x="659" y="618"/>
                </a:lnTo>
                <a:lnTo>
                  <a:pt x="636" y="651"/>
                </a:lnTo>
                <a:lnTo>
                  <a:pt x="613" y="684"/>
                </a:lnTo>
                <a:lnTo>
                  <a:pt x="590" y="716"/>
                </a:lnTo>
                <a:lnTo>
                  <a:pt x="567" y="745"/>
                </a:lnTo>
                <a:lnTo>
                  <a:pt x="544" y="776"/>
                </a:lnTo>
                <a:lnTo>
                  <a:pt x="522" y="804"/>
                </a:lnTo>
                <a:lnTo>
                  <a:pt x="501" y="831"/>
                </a:lnTo>
                <a:lnTo>
                  <a:pt x="482" y="858"/>
                </a:lnTo>
                <a:lnTo>
                  <a:pt x="461" y="883"/>
                </a:lnTo>
                <a:lnTo>
                  <a:pt x="442" y="908"/>
                </a:lnTo>
                <a:lnTo>
                  <a:pt x="421" y="933"/>
                </a:lnTo>
                <a:lnTo>
                  <a:pt x="402" y="958"/>
                </a:lnTo>
                <a:lnTo>
                  <a:pt x="380" y="981"/>
                </a:lnTo>
                <a:lnTo>
                  <a:pt x="361" y="1002"/>
                </a:lnTo>
                <a:lnTo>
                  <a:pt x="342" y="1025"/>
                </a:lnTo>
                <a:lnTo>
                  <a:pt x="321" y="1046"/>
                </a:lnTo>
                <a:lnTo>
                  <a:pt x="302" y="1066"/>
                </a:lnTo>
                <a:lnTo>
                  <a:pt x="283" y="1085"/>
                </a:lnTo>
                <a:lnTo>
                  <a:pt x="263" y="1104"/>
                </a:lnTo>
                <a:lnTo>
                  <a:pt x="244" y="1121"/>
                </a:lnTo>
                <a:lnTo>
                  <a:pt x="225" y="1138"/>
                </a:lnTo>
                <a:lnTo>
                  <a:pt x="206" y="1156"/>
                </a:lnTo>
                <a:lnTo>
                  <a:pt x="188" y="1171"/>
                </a:lnTo>
                <a:lnTo>
                  <a:pt x="169" y="1186"/>
                </a:lnTo>
                <a:lnTo>
                  <a:pt x="150" y="1202"/>
                </a:lnTo>
                <a:lnTo>
                  <a:pt x="133" y="1215"/>
                </a:lnTo>
                <a:lnTo>
                  <a:pt x="116" y="1229"/>
                </a:lnTo>
                <a:lnTo>
                  <a:pt x="100" y="1240"/>
                </a:lnTo>
                <a:lnTo>
                  <a:pt x="87" y="1252"/>
                </a:lnTo>
                <a:lnTo>
                  <a:pt x="73" y="1259"/>
                </a:lnTo>
                <a:lnTo>
                  <a:pt x="62" y="1267"/>
                </a:lnTo>
                <a:lnTo>
                  <a:pt x="50" y="1275"/>
                </a:lnTo>
                <a:lnTo>
                  <a:pt x="41" y="1281"/>
                </a:lnTo>
                <a:lnTo>
                  <a:pt x="33" y="1284"/>
                </a:lnTo>
                <a:lnTo>
                  <a:pt x="25" y="1286"/>
                </a:lnTo>
                <a:lnTo>
                  <a:pt x="18" y="1288"/>
                </a:lnTo>
                <a:lnTo>
                  <a:pt x="12" y="1290"/>
                </a:lnTo>
                <a:lnTo>
                  <a:pt x="8" y="1290"/>
                </a:lnTo>
                <a:lnTo>
                  <a:pt x="4" y="1288"/>
                </a:lnTo>
                <a:lnTo>
                  <a:pt x="2" y="1286"/>
                </a:lnTo>
                <a:lnTo>
                  <a:pt x="0" y="1286"/>
                </a:lnTo>
                <a:lnTo>
                  <a:pt x="0" y="1282"/>
                </a:lnTo>
                <a:lnTo>
                  <a:pt x="0" y="1281"/>
                </a:lnTo>
                <a:lnTo>
                  <a:pt x="2" y="1279"/>
                </a:lnTo>
                <a:lnTo>
                  <a:pt x="2" y="1275"/>
                </a:lnTo>
                <a:lnTo>
                  <a:pt x="4" y="1271"/>
                </a:lnTo>
                <a:lnTo>
                  <a:pt x="6" y="1265"/>
                </a:lnTo>
                <a:lnTo>
                  <a:pt x="10" y="1261"/>
                </a:lnTo>
                <a:lnTo>
                  <a:pt x="12" y="1256"/>
                </a:lnTo>
                <a:lnTo>
                  <a:pt x="16" y="1250"/>
                </a:lnTo>
                <a:lnTo>
                  <a:pt x="21" y="1242"/>
                </a:lnTo>
                <a:lnTo>
                  <a:pt x="25" y="1234"/>
                </a:lnTo>
                <a:lnTo>
                  <a:pt x="31" y="1227"/>
                </a:lnTo>
                <a:lnTo>
                  <a:pt x="37" y="1219"/>
                </a:lnTo>
                <a:lnTo>
                  <a:pt x="45" y="1209"/>
                </a:lnTo>
                <a:lnTo>
                  <a:pt x="50" y="1200"/>
                </a:lnTo>
                <a:lnTo>
                  <a:pt x="58" y="1190"/>
                </a:lnTo>
                <a:lnTo>
                  <a:pt x="68" y="1181"/>
                </a:lnTo>
                <a:lnTo>
                  <a:pt x="75" y="1169"/>
                </a:lnTo>
                <a:lnTo>
                  <a:pt x="85" y="1158"/>
                </a:lnTo>
                <a:lnTo>
                  <a:pt x="94" y="1144"/>
                </a:lnTo>
                <a:lnTo>
                  <a:pt x="106" y="1133"/>
                </a:lnTo>
                <a:lnTo>
                  <a:pt x="116" y="1119"/>
                </a:lnTo>
                <a:lnTo>
                  <a:pt x="127" y="1104"/>
                </a:lnTo>
                <a:lnTo>
                  <a:pt x="140" y="1090"/>
                </a:lnTo>
                <a:lnTo>
                  <a:pt x="152" y="1075"/>
                </a:lnTo>
                <a:lnTo>
                  <a:pt x="165" y="1060"/>
                </a:lnTo>
                <a:lnTo>
                  <a:pt x="181" y="1042"/>
                </a:lnTo>
                <a:lnTo>
                  <a:pt x="194" y="1025"/>
                </a:lnTo>
                <a:lnTo>
                  <a:pt x="210" y="1008"/>
                </a:lnTo>
                <a:lnTo>
                  <a:pt x="225" y="991"/>
                </a:lnTo>
                <a:lnTo>
                  <a:pt x="242" y="9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4"/>
          <p:cNvSpPr/>
          <p:nvPr/>
        </p:nvSpPr>
        <p:spPr>
          <a:xfrm>
            <a:off x="5533920" y="3433680"/>
            <a:ext cx="897120" cy="300240"/>
          </a:xfrm>
          <a:custGeom>
            <a:avLst/>
            <a:gdLst/>
            <a:ahLst/>
            <a:rect l="l" t="t" r="r" b="b"/>
            <a:pathLst>
              <a:path w="1131" h="378">
                <a:moveTo>
                  <a:pt x="1083" y="25"/>
                </a:moveTo>
                <a:lnTo>
                  <a:pt x="1089" y="27"/>
                </a:lnTo>
                <a:lnTo>
                  <a:pt x="1094" y="30"/>
                </a:lnTo>
                <a:lnTo>
                  <a:pt x="1100" y="32"/>
                </a:lnTo>
                <a:lnTo>
                  <a:pt x="1106" y="36"/>
                </a:lnTo>
                <a:lnTo>
                  <a:pt x="1114" y="42"/>
                </a:lnTo>
                <a:lnTo>
                  <a:pt x="1119" y="50"/>
                </a:lnTo>
                <a:lnTo>
                  <a:pt x="1125" y="57"/>
                </a:lnTo>
                <a:lnTo>
                  <a:pt x="1129" y="63"/>
                </a:lnTo>
                <a:lnTo>
                  <a:pt x="1131" y="69"/>
                </a:lnTo>
                <a:lnTo>
                  <a:pt x="1131" y="74"/>
                </a:lnTo>
                <a:lnTo>
                  <a:pt x="1131" y="78"/>
                </a:lnTo>
                <a:lnTo>
                  <a:pt x="1129" y="80"/>
                </a:lnTo>
                <a:lnTo>
                  <a:pt x="1127" y="82"/>
                </a:lnTo>
                <a:lnTo>
                  <a:pt x="1125" y="86"/>
                </a:lnTo>
                <a:lnTo>
                  <a:pt x="1121" y="88"/>
                </a:lnTo>
                <a:lnTo>
                  <a:pt x="1118" y="92"/>
                </a:lnTo>
                <a:lnTo>
                  <a:pt x="1112" y="96"/>
                </a:lnTo>
                <a:lnTo>
                  <a:pt x="1106" y="99"/>
                </a:lnTo>
                <a:lnTo>
                  <a:pt x="1100" y="101"/>
                </a:lnTo>
                <a:lnTo>
                  <a:pt x="1093" y="105"/>
                </a:lnTo>
                <a:lnTo>
                  <a:pt x="1083" y="109"/>
                </a:lnTo>
                <a:lnTo>
                  <a:pt x="1075" y="115"/>
                </a:lnTo>
                <a:lnTo>
                  <a:pt x="1064" y="119"/>
                </a:lnTo>
                <a:lnTo>
                  <a:pt x="1054" y="122"/>
                </a:lnTo>
                <a:lnTo>
                  <a:pt x="1043" y="128"/>
                </a:lnTo>
                <a:lnTo>
                  <a:pt x="1031" y="132"/>
                </a:lnTo>
                <a:lnTo>
                  <a:pt x="1018" y="138"/>
                </a:lnTo>
                <a:lnTo>
                  <a:pt x="1004" y="144"/>
                </a:lnTo>
                <a:lnTo>
                  <a:pt x="989" y="147"/>
                </a:lnTo>
                <a:lnTo>
                  <a:pt x="974" y="153"/>
                </a:lnTo>
                <a:lnTo>
                  <a:pt x="956" y="159"/>
                </a:lnTo>
                <a:lnTo>
                  <a:pt x="939" y="167"/>
                </a:lnTo>
                <a:lnTo>
                  <a:pt x="922" y="172"/>
                </a:lnTo>
                <a:lnTo>
                  <a:pt x="903" y="178"/>
                </a:lnTo>
                <a:lnTo>
                  <a:pt x="883" y="186"/>
                </a:lnTo>
                <a:lnTo>
                  <a:pt x="862" y="192"/>
                </a:lnTo>
                <a:lnTo>
                  <a:pt x="841" y="199"/>
                </a:lnTo>
                <a:lnTo>
                  <a:pt x="820" y="207"/>
                </a:lnTo>
                <a:lnTo>
                  <a:pt x="797" y="215"/>
                </a:lnTo>
                <a:lnTo>
                  <a:pt x="774" y="222"/>
                </a:lnTo>
                <a:lnTo>
                  <a:pt x="749" y="230"/>
                </a:lnTo>
                <a:lnTo>
                  <a:pt x="724" y="240"/>
                </a:lnTo>
                <a:lnTo>
                  <a:pt x="697" y="247"/>
                </a:lnTo>
                <a:lnTo>
                  <a:pt x="672" y="255"/>
                </a:lnTo>
                <a:lnTo>
                  <a:pt x="649" y="263"/>
                </a:lnTo>
                <a:lnTo>
                  <a:pt x="624" y="270"/>
                </a:lnTo>
                <a:lnTo>
                  <a:pt x="601" y="278"/>
                </a:lnTo>
                <a:lnTo>
                  <a:pt x="578" y="286"/>
                </a:lnTo>
                <a:lnTo>
                  <a:pt x="557" y="291"/>
                </a:lnTo>
                <a:lnTo>
                  <a:pt x="536" y="299"/>
                </a:lnTo>
                <a:lnTo>
                  <a:pt x="515" y="305"/>
                </a:lnTo>
                <a:lnTo>
                  <a:pt x="494" y="311"/>
                </a:lnTo>
                <a:lnTo>
                  <a:pt x="475" y="316"/>
                </a:lnTo>
                <a:lnTo>
                  <a:pt x="455" y="322"/>
                </a:lnTo>
                <a:lnTo>
                  <a:pt x="436" y="328"/>
                </a:lnTo>
                <a:lnTo>
                  <a:pt x="419" y="334"/>
                </a:lnTo>
                <a:lnTo>
                  <a:pt x="402" y="337"/>
                </a:lnTo>
                <a:lnTo>
                  <a:pt x="384" y="341"/>
                </a:lnTo>
                <a:lnTo>
                  <a:pt x="369" y="347"/>
                </a:lnTo>
                <a:lnTo>
                  <a:pt x="354" y="351"/>
                </a:lnTo>
                <a:lnTo>
                  <a:pt x="338" y="355"/>
                </a:lnTo>
                <a:lnTo>
                  <a:pt x="325" y="357"/>
                </a:lnTo>
                <a:lnTo>
                  <a:pt x="311" y="360"/>
                </a:lnTo>
                <a:lnTo>
                  <a:pt x="298" y="364"/>
                </a:lnTo>
                <a:lnTo>
                  <a:pt x="286" y="366"/>
                </a:lnTo>
                <a:lnTo>
                  <a:pt x="275" y="368"/>
                </a:lnTo>
                <a:lnTo>
                  <a:pt x="263" y="370"/>
                </a:lnTo>
                <a:lnTo>
                  <a:pt x="254" y="372"/>
                </a:lnTo>
                <a:lnTo>
                  <a:pt x="244" y="374"/>
                </a:lnTo>
                <a:lnTo>
                  <a:pt x="236" y="376"/>
                </a:lnTo>
                <a:lnTo>
                  <a:pt x="227" y="376"/>
                </a:lnTo>
                <a:lnTo>
                  <a:pt x="221" y="378"/>
                </a:lnTo>
                <a:lnTo>
                  <a:pt x="213" y="378"/>
                </a:lnTo>
                <a:lnTo>
                  <a:pt x="208" y="378"/>
                </a:lnTo>
                <a:lnTo>
                  <a:pt x="185" y="378"/>
                </a:lnTo>
                <a:lnTo>
                  <a:pt x="164" y="376"/>
                </a:lnTo>
                <a:lnTo>
                  <a:pt x="142" y="372"/>
                </a:lnTo>
                <a:lnTo>
                  <a:pt x="121" y="368"/>
                </a:lnTo>
                <a:lnTo>
                  <a:pt x="100" y="362"/>
                </a:lnTo>
                <a:lnTo>
                  <a:pt x="83" y="357"/>
                </a:lnTo>
                <a:lnTo>
                  <a:pt x="75" y="353"/>
                </a:lnTo>
                <a:lnTo>
                  <a:pt x="66" y="349"/>
                </a:lnTo>
                <a:lnTo>
                  <a:pt x="58" y="345"/>
                </a:lnTo>
                <a:lnTo>
                  <a:pt x="52" y="339"/>
                </a:lnTo>
                <a:lnTo>
                  <a:pt x="43" y="336"/>
                </a:lnTo>
                <a:lnTo>
                  <a:pt x="35" y="332"/>
                </a:lnTo>
                <a:lnTo>
                  <a:pt x="29" y="326"/>
                </a:lnTo>
                <a:lnTo>
                  <a:pt x="23" y="322"/>
                </a:lnTo>
                <a:lnTo>
                  <a:pt x="18" y="320"/>
                </a:lnTo>
                <a:lnTo>
                  <a:pt x="12" y="316"/>
                </a:lnTo>
                <a:lnTo>
                  <a:pt x="8" y="313"/>
                </a:lnTo>
                <a:lnTo>
                  <a:pt x="6" y="311"/>
                </a:lnTo>
                <a:lnTo>
                  <a:pt x="2" y="307"/>
                </a:lnTo>
                <a:lnTo>
                  <a:pt x="2" y="305"/>
                </a:lnTo>
                <a:lnTo>
                  <a:pt x="0" y="301"/>
                </a:lnTo>
                <a:lnTo>
                  <a:pt x="0" y="299"/>
                </a:lnTo>
                <a:lnTo>
                  <a:pt x="0" y="297"/>
                </a:lnTo>
                <a:lnTo>
                  <a:pt x="0" y="293"/>
                </a:lnTo>
                <a:lnTo>
                  <a:pt x="2" y="291"/>
                </a:lnTo>
                <a:lnTo>
                  <a:pt x="4" y="289"/>
                </a:lnTo>
                <a:lnTo>
                  <a:pt x="6" y="288"/>
                </a:lnTo>
                <a:lnTo>
                  <a:pt x="8" y="288"/>
                </a:lnTo>
                <a:lnTo>
                  <a:pt x="12" y="286"/>
                </a:lnTo>
                <a:lnTo>
                  <a:pt x="16" y="284"/>
                </a:lnTo>
                <a:lnTo>
                  <a:pt x="22" y="280"/>
                </a:lnTo>
                <a:lnTo>
                  <a:pt x="27" y="278"/>
                </a:lnTo>
                <a:lnTo>
                  <a:pt x="35" y="276"/>
                </a:lnTo>
                <a:lnTo>
                  <a:pt x="43" y="272"/>
                </a:lnTo>
                <a:lnTo>
                  <a:pt x="50" y="270"/>
                </a:lnTo>
                <a:lnTo>
                  <a:pt x="60" y="266"/>
                </a:lnTo>
                <a:lnTo>
                  <a:pt x="71" y="263"/>
                </a:lnTo>
                <a:lnTo>
                  <a:pt x="83" y="259"/>
                </a:lnTo>
                <a:lnTo>
                  <a:pt x="96" y="255"/>
                </a:lnTo>
                <a:lnTo>
                  <a:pt x="110" y="251"/>
                </a:lnTo>
                <a:lnTo>
                  <a:pt x="123" y="247"/>
                </a:lnTo>
                <a:lnTo>
                  <a:pt x="139" y="243"/>
                </a:lnTo>
                <a:lnTo>
                  <a:pt x="156" y="238"/>
                </a:lnTo>
                <a:lnTo>
                  <a:pt x="173" y="232"/>
                </a:lnTo>
                <a:lnTo>
                  <a:pt x="190" y="228"/>
                </a:lnTo>
                <a:lnTo>
                  <a:pt x="210" y="222"/>
                </a:lnTo>
                <a:lnTo>
                  <a:pt x="229" y="217"/>
                </a:lnTo>
                <a:lnTo>
                  <a:pt x="250" y="211"/>
                </a:lnTo>
                <a:lnTo>
                  <a:pt x="271" y="205"/>
                </a:lnTo>
                <a:lnTo>
                  <a:pt x="294" y="197"/>
                </a:lnTo>
                <a:lnTo>
                  <a:pt x="317" y="192"/>
                </a:lnTo>
                <a:lnTo>
                  <a:pt x="342" y="184"/>
                </a:lnTo>
                <a:lnTo>
                  <a:pt x="367" y="176"/>
                </a:lnTo>
                <a:lnTo>
                  <a:pt x="394" y="170"/>
                </a:lnTo>
                <a:lnTo>
                  <a:pt x="421" y="163"/>
                </a:lnTo>
                <a:lnTo>
                  <a:pt x="448" y="155"/>
                </a:lnTo>
                <a:lnTo>
                  <a:pt x="476" y="146"/>
                </a:lnTo>
                <a:lnTo>
                  <a:pt x="507" y="138"/>
                </a:lnTo>
                <a:lnTo>
                  <a:pt x="536" y="130"/>
                </a:lnTo>
                <a:lnTo>
                  <a:pt x="565" y="122"/>
                </a:lnTo>
                <a:lnTo>
                  <a:pt x="592" y="113"/>
                </a:lnTo>
                <a:lnTo>
                  <a:pt x="617" y="105"/>
                </a:lnTo>
                <a:lnTo>
                  <a:pt x="643" y="99"/>
                </a:lnTo>
                <a:lnTo>
                  <a:pt x="666" y="92"/>
                </a:lnTo>
                <a:lnTo>
                  <a:pt x="691" y="84"/>
                </a:lnTo>
                <a:lnTo>
                  <a:pt x="714" y="78"/>
                </a:lnTo>
                <a:lnTo>
                  <a:pt x="736" y="73"/>
                </a:lnTo>
                <a:lnTo>
                  <a:pt x="757" y="67"/>
                </a:lnTo>
                <a:lnTo>
                  <a:pt x="778" y="61"/>
                </a:lnTo>
                <a:lnTo>
                  <a:pt x="797" y="55"/>
                </a:lnTo>
                <a:lnTo>
                  <a:pt x="816" y="50"/>
                </a:lnTo>
                <a:lnTo>
                  <a:pt x="833" y="44"/>
                </a:lnTo>
                <a:lnTo>
                  <a:pt x="851" y="40"/>
                </a:lnTo>
                <a:lnTo>
                  <a:pt x="866" y="34"/>
                </a:lnTo>
                <a:lnTo>
                  <a:pt x="881" y="30"/>
                </a:lnTo>
                <a:lnTo>
                  <a:pt x="897" y="27"/>
                </a:lnTo>
                <a:lnTo>
                  <a:pt x="910" y="23"/>
                </a:lnTo>
                <a:lnTo>
                  <a:pt x="924" y="19"/>
                </a:lnTo>
                <a:lnTo>
                  <a:pt x="935" y="17"/>
                </a:lnTo>
                <a:lnTo>
                  <a:pt x="947" y="13"/>
                </a:lnTo>
                <a:lnTo>
                  <a:pt x="956" y="11"/>
                </a:lnTo>
                <a:lnTo>
                  <a:pt x="966" y="7"/>
                </a:lnTo>
                <a:lnTo>
                  <a:pt x="975" y="5"/>
                </a:lnTo>
                <a:lnTo>
                  <a:pt x="983" y="3"/>
                </a:lnTo>
                <a:lnTo>
                  <a:pt x="989" y="3"/>
                </a:lnTo>
                <a:lnTo>
                  <a:pt x="995" y="2"/>
                </a:lnTo>
                <a:lnTo>
                  <a:pt x="1000" y="0"/>
                </a:lnTo>
                <a:lnTo>
                  <a:pt x="1004" y="0"/>
                </a:lnTo>
                <a:lnTo>
                  <a:pt x="1008" y="0"/>
                </a:lnTo>
                <a:lnTo>
                  <a:pt x="1012" y="0"/>
                </a:lnTo>
                <a:lnTo>
                  <a:pt x="1016" y="0"/>
                </a:lnTo>
                <a:lnTo>
                  <a:pt x="1022" y="2"/>
                </a:lnTo>
                <a:lnTo>
                  <a:pt x="1029" y="3"/>
                </a:lnTo>
                <a:lnTo>
                  <a:pt x="1039" y="7"/>
                </a:lnTo>
                <a:lnTo>
                  <a:pt x="1048" y="11"/>
                </a:lnTo>
                <a:lnTo>
                  <a:pt x="1058" y="15"/>
                </a:lnTo>
                <a:lnTo>
                  <a:pt x="1070" y="19"/>
                </a:lnTo>
                <a:lnTo>
                  <a:pt x="1083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0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横画间距匀称，“女”横长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95"/>
          <p:cNvSpPr/>
          <p:nvPr/>
        </p:nvSpPr>
        <p:spPr>
          <a:xfrm>
            <a:off x="5942160" y="4089240"/>
            <a:ext cx="1177920" cy="852480"/>
          </a:xfrm>
          <a:custGeom>
            <a:avLst/>
            <a:gdLst/>
            <a:ahLst/>
            <a:rect l="l" t="t" r="r" b="b"/>
            <a:pathLst>
              <a:path w="1486" h="1075">
                <a:moveTo>
                  <a:pt x="192" y="1065"/>
                </a:moveTo>
                <a:lnTo>
                  <a:pt x="169" y="1067"/>
                </a:lnTo>
                <a:lnTo>
                  <a:pt x="148" y="1069"/>
                </a:lnTo>
                <a:lnTo>
                  <a:pt x="127" y="1071"/>
                </a:lnTo>
                <a:lnTo>
                  <a:pt x="108" y="1073"/>
                </a:lnTo>
                <a:lnTo>
                  <a:pt x="91" y="1073"/>
                </a:lnTo>
                <a:lnTo>
                  <a:pt x="75" y="1075"/>
                </a:lnTo>
                <a:lnTo>
                  <a:pt x="62" y="1075"/>
                </a:lnTo>
                <a:lnTo>
                  <a:pt x="48" y="1075"/>
                </a:lnTo>
                <a:lnTo>
                  <a:pt x="37" y="1075"/>
                </a:lnTo>
                <a:lnTo>
                  <a:pt x="27" y="1075"/>
                </a:lnTo>
                <a:lnTo>
                  <a:pt x="19" y="1073"/>
                </a:lnTo>
                <a:lnTo>
                  <a:pt x="12" y="1073"/>
                </a:lnTo>
                <a:lnTo>
                  <a:pt x="6" y="1071"/>
                </a:lnTo>
                <a:lnTo>
                  <a:pt x="2" y="1069"/>
                </a:lnTo>
                <a:lnTo>
                  <a:pt x="0" y="1067"/>
                </a:lnTo>
                <a:lnTo>
                  <a:pt x="0" y="1065"/>
                </a:lnTo>
                <a:lnTo>
                  <a:pt x="0" y="1063"/>
                </a:lnTo>
                <a:lnTo>
                  <a:pt x="0" y="1061"/>
                </a:lnTo>
                <a:lnTo>
                  <a:pt x="2" y="1057"/>
                </a:lnTo>
                <a:lnTo>
                  <a:pt x="4" y="1055"/>
                </a:lnTo>
                <a:lnTo>
                  <a:pt x="6" y="1054"/>
                </a:lnTo>
                <a:lnTo>
                  <a:pt x="10" y="1050"/>
                </a:lnTo>
                <a:lnTo>
                  <a:pt x="14" y="1048"/>
                </a:lnTo>
                <a:lnTo>
                  <a:pt x="18" y="1044"/>
                </a:lnTo>
                <a:lnTo>
                  <a:pt x="21" y="1042"/>
                </a:lnTo>
                <a:lnTo>
                  <a:pt x="27" y="1040"/>
                </a:lnTo>
                <a:lnTo>
                  <a:pt x="33" y="1036"/>
                </a:lnTo>
                <a:lnTo>
                  <a:pt x="39" y="1034"/>
                </a:lnTo>
                <a:lnTo>
                  <a:pt x="44" y="1031"/>
                </a:lnTo>
                <a:lnTo>
                  <a:pt x="52" y="1027"/>
                </a:lnTo>
                <a:lnTo>
                  <a:pt x="60" y="1025"/>
                </a:lnTo>
                <a:lnTo>
                  <a:pt x="69" y="1021"/>
                </a:lnTo>
                <a:lnTo>
                  <a:pt x="79" y="1019"/>
                </a:lnTo>
                <a:lnTo>
                  <a:pt x="87" y="1015"/>
                </a:lnTo>
                <a:lnTo>
                  <a:pt x="98" y="1011"/>
                </a:lnTo>
                <a:lnTo>
                  <a:pt x="108" y="1009"/>
                </a:lnTo>
                <a:lnTo>
                  <a:pt x="119" y="1006"/>
                </a:lnTo>
                <a:lnTo>
                  <a:pt x="131" y="1002"/>
                </a:lnTo>
                <a:lnTo>
                  <a:pt x="144" y="998"/>
                </a:lnTo>
                <a:lnTo>
                  <a:pt x="158" y="996"/>
                </a:lnTo>
                <a:lnTo>
                  <a:pt x="171" y="992"/>
                </a:lnTo>
                <a:lnTo>
                  <a:pt x="185" y="988"/>
                </a:lnTo>
                <a:lnTo>
                  <a:pt x="200" y="984"/>
                </a:lnTo>
                <a:lnTo>
                  <a:pt x="215" y="983"/>
                </a:lnTo>
                <a:lnTo>
                  <a:pt x="231" y="979"/>
                </a:lnTo>
                <a:lnTo>
                  <a:pt x="248" y="975"/>
                </a:lnTo>
                <a:lnTo>
                  <a:pt x="265" y="971"/>
                </a:lnTo>
                <a:lnTo>
                  <a:pt x="282" y="967"/>
                </a:lnTo>
                <a:lnTo>
                  <a:pt x="315" y="958"/>
                </a:lnTo>
                <a:lnTo>
                  <a:pt x="350" y="948"/>
                </a:lnTo>
                <a:lnTo>
                  <a:pt x="382" y="936"/>
                </a:lnTo>
                <a:lnTo>
                  <a:pt x="415" y="927"/>
                </a:lnTo>
                <a:lnTo>
                  <a:pt x="448" y="915"/>
                </a:lnTo>
                <a:lnTo>
                  <a:pt x="480" y="902"/>
                </a:lnTo>
                <a:lnTo>
                  <a:pt x="513" y="890"/>
                </a:lnTo>
                <a:lnTo>
                  <a:pt x="543" y="877"/>
                </a:lnTo>
                <a:lnTo>
                  <a:pt x="576" y="862"/>
                </a:lnTo>
                <a:lnTo>
                  <a:pt x="609" y="848"/>
                </a:lnTo>
                <a:lnTo>
                  <a:pt x="639" y="833"/>
                </a:lnTo>
                <a:lnTo>
                  <a:pt x="670" y="817"/>
                </a:lnTo>
                <a:lnTo>
                  <a:pt x="703" y="800"/>
                </a:lnTo>
                <a:lnTo>
                  <a:pt x="734" y="785"/>
                </a:lnTo>
                <a:lnTo>
                  <a:pt x="764" y="768"/>
                </a:lnTo>
                <a:lnTo>
                  <a:pt x="797" y="748"/>
                </a:lnTo>
                <a:lnTo>
                  <a:pt x="826" y="731"/>
                </a:lnTo>
                <a:lnTo>
                  <a:pt x="856" y="716"/>
                </a:lnTo>
                <a:lnTo>
                  <a:pt x="885" y="697"/>
                </a:lnTo>
                <a:lnTo>
                  <a:pt x="912" y="679"/>
                </a:lnTo>
                <a:lnTo>
                  <a:pt x="937" y="662"/>
                </a:lnTo>
                <a:lnTo>
                  <a:pt x="962" y="643"/>
                </a:lnTo>
                <a:lnTo>
                  <a:pt x="985" y="624"/>
                </a:lnTo>
                <a:lnTo>
                  <a:pt x="1008" y="604"/>
                </a:lnTo>
                <a:lnTo>
                  <a:pt x="1029" y="585"/>
                </a:lnTo>
                <a:lnTo>
                  <a:pt x="1048" y="566"/>
                </a:lnTo>
                <a:lnTo>
                  <a:pt x="1067" y="545"/>
                </a:lnTo>
                <a:lnTo>
                  <a:pt x="1085" y="526"/>
                </a:lnTo>
                <a:lnTo>
                  <a:pt x="1102" y="505"/>
                </a:lnTo>
                <a:lnTo>
                  <a:pt x="1117" y="485"/>
                </a:lnTo>
                <a:lnTo>
                  <a:pt x="1131" y="464"/>
                </a:lnTo>
                <a:lnTo>
                  <a:pt x="1142" y="443"/>
                </a:lnTo>
                <a:lnTo>
                  <a:pt x="1154" y="424"/>
                </a:lnTo>
                <a:lnTo>
                  <a:pt x="1165" y="403"/>
                </a:lnTo>
                <a:lnTo>
                  <a:pt x="1177" y="384"/>
                </a:lnTo>
                <a:lnTo>
                  <a:pt x="1188" y="366"/>
                </a:lnTo>
                <a:lnTo>
                  <a:pt x="1198" y="349"/>
                </a:lnTo>
                <a:lnTo>
                  <a:pt x="1208" y="332"/>
                </a:lnTo>
                <a:lnTo>
                  <a:pt x="1217" y="315"/>
                </a:lnTo>
                <a:lnTo>
                  <a:pt x="1227" y="299"/>
                </a:lnTo>
                <a:lnTo>
                  <a:pt x="1234" y="286"/>
                </a:lnTo>
                <a:lnTo>
                  <a:pt x="1242" y="272"/>
                </a:lnTo>
                <a:lnTo>
                  <a:pt x="1248" y="259"/>
                </a:lnTo>
                <a:lnTo>
                  <a:pt x="1254" y="247"/>
                </a:lnTo>
                <a:lnTo>
                  <a:pt x="1259" y="238"/>
                </a:lnTo>
                <a:lnTo>
                  <a:pt x="1265" y="228"/>
                </a:lnTo>
                <a:lnTo>
                  <a:pt x="1269" y="219"/>
                </a:lnTo>
                <a:lnTo>
                  <a:pt x="1271" y="213"/>
                </a:lnTo>
                <a:lnTo>
                  <a:pt x="1275" y="197"/>
                </a:lnTo>
                <a:lnTo>
                  <a:pt x="1279" y="182"/>
                </a:lnTo>
                <a:lnTo>
                  <a:pt x="1281" y="167"/>
                </a:lnTo>
                <a:lnTo>
                  <a:pt x="1281" y="149"/>
                </a:lnTo>
                <a:lnTo>
                  <a:pt x="1281" y="132"/>
                </a:lnTo>
                <a:lnTo>
                  <a:pt x="1279" y="115"/>
                </a:lnTo>
                <a:lnTo>
                  <a:pt x="1275" y="96"/>
                </a:lnTo>
                <a:lnTo>
                  <a:pt x="1271" y="78"/>
                </a:lnTo>
                <a:lnTo>
                  <a:pt x="1267" y="65"/>
                </a:lnTo>
                <a:lnTo>
                  <a:pt x="1263" y="53"/>
                </a:lnTo>
                <a:lnTo>
                  <a:pt x="1261" y="42"/>
                </a:lnTo>
                <a:lnTo>
                  <a:pt x="1261" y="32"/>
                </a:lnTo>
                <a:lnTo>
                  <a:pt x="1261" y="23"/>
                </a:lnTo>
                <a:lnTo>
                  <a:pt x="1263" y="17"/>
                </a:lnTo>
                <a:lnTo>
                  <a:pt x="1267" y="9"/>
                </a:lnTo>
                <a:lnTo>
                  <a:pt x="1271" y="6"/>
                </a:lnTo>
                <a:lnTo>
                  <a:pt x="1273" y="2"/>
                </a:lnTo>
                <a:lnTo>
                  <a:pt x="1277" y="2"/>
                </a:lnTo>
                <a:lnTo>
                  <a:pt x="1281" y="0"/>
                </a:lnTo>
                <a:lnTo>
                  <a:pt x="1286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0"/>
                </a:lnTo>
                <a:lnTo>
                  <a:pt x="1307" y="2"/>
                </a:lnTo>
                <a:lnTo>
                  <a:pt x="1323" y="4"/>
                </a:lnTo>
                <a:lnTo>
                  <a:pt x="1338" y="7"/>
                </a:lnTo>
                <a:lnTo>
                  <a:pt x="1355" y="11"/>
                </a:lnTo>
                <a:lnTo>
                  <a:pt x="1375" y="17"/>
                </a:lnTo>
                <a:lnTo>
                  <a:pt x="1392" y="27"/>
                </a:lnTo>
                <a:lnTo>
                  <a:pt x="1409" y="34"/>
                </a:lnTo>
                <a:lnTo>
                  <a:pt x="1426" y="44"/>
                </a:lnTo>
                <a:lnTo>
                  <a:pt x="1440" y="52"/>
                </a:lnTo>
                <a:lnTo>
                  <a:pt x="1446" y="55"/>
                </a:lnTo>
                <a:lnTo>
                  <a:pt x="1451" y="59"/>
                </a:lnTo>
                <a:lnTo>
                  <a:pt x="1457" y="63"/>
                </a:lnTo>
                <a:lnTo>
                  <a:pt x="1463" y="67"/>
                </a:lnTo>
                <a:lnTo>
                  <a:pt x="1467" y="71"/>
                </a:lnTo>
                <a:lnTo>
                  <a:pt x="1471" y="73"/>
                </a:lnTo>
                <a:lnTo>
                  <a:pt x="1474" y="75"/>
                </a:lnTo>
                <a:lnTo>
                  <a:pt x="1476" y="78"/>
                </a:lnTo>
                <a:lnTo>
                  <a:pt x="1480" y="88"/>
                </a:lnTo>
                <a:lnTo>
                  <a:pt x="1484" y="98"/>
                </a:lnTo>
                <a:lnTo>
                  <a:pt x="1486" y="111"/>
                </a:lnTo>
                <a:lnTo>
                  <a:pt x="1486" y="123"/>
                </a:lnTo>
                <a:lnTo>
                  <a:pt x="1486" y="138"/>
                </a:lnTo>
                <a:lnTo>
                  <a:pt x="1484" y="153"/>
                </a:lnTo>
                <a:lnTo>
                  <a:pt x="1480" y="171"/>
                </a:lnTo>
                <a:lnTo>
                  <a:pt x="1476" y="188"/>
                </a:lnTo>
                <a:lnTo>
                  <a:pt x="1474" y="199"/>
                </a:lnTo>
                <a:lnTo>
                  <a:pt x="1471" y="211"/>
                </a:lnTo>
                <a:lnTo>
                  <a:pt x="1465" y="224"/>
                </a:lnTo>
                <a:lnTo>
                  <a:pt x="1461" y="238"/>
                </a:lnTo>
                <a:lnTo>
                  <a:pt x="1453" y="251"/>
                </a:lnTo>
                <a:lnTo>
                  <a:pt x="1448" y="267"/>
                </a:lnTo>
                <a:lnTo>
                  <a:pt x="1440" y="282"/>
                </a:lnTo>
                <a:lnTo>
                  <a:pt x="1432" y="299"/>
                </a:lnTo>
                <a:lnTo>
                  <a:pt x="1423" y="315"/>
                </a:lnTo>
                <a:lnTo>
                  <a:pt x="1413" y="334"/>
                </a:lnTo>
                <a:lnTo>
                  <a:pt x="1403" y="351"/>
                </a:lnTo>
                <a:lnTo>
                  <a:pt x="1394" y="370"/>
                </a:lnTo>
                <a:lnTo>
                  <a:pt x="1382" y="391"/>
                </a:lnTo>
                <a:lnTo>
                  <a:pt x="1371" y="412"/>
                </a:lnTo>
                <a:lnTo>
                  <a:pt x="1359" y="434"/>
                </a:lnTo>
                <a:lnTo>
                  <a:pt x="1348" y="457"/>
                </a:lnTo>
                <a:lnTo>
                  <a:pt x="1334" y="478"/>
                </a:lnTo>
                <a:lnTo>
                  <a:pt x="1317" y="501"/>
                </a:lnTo>
                <a:lnTo>
                  <a:pt x="1302" y="524"/>
                </a:lnTo>
                <a:lnTo>
                  <a:pt x="1284" y="545"/>
                </a:lnTo>
                <a:lnTo>
                  <a:pt x="1265" y="566"/>
                </a:lnTo>
                <a:lnTo>
                  <a:pt x="1246" y="587"/>
                </a:lnTo>
                <a:lnTo>
                  <a:pt x="1225" y="608"/>
                </a:lnTo>
                <a:lnTo>
                  <a:pt x="1204" y="629"/>
                </a:lnTo>
                <a:lnTo>
                  <a:pt x="1183" y="650"/>
                </a:lnTo>
                <a:lnTo>
                  <a:pt x="1160" y="670"/>
                </a:lnTo>
                <a:lnTo>
                  <a:pt x="1135" y="689"/>
                </a:lnTo>
                <a:lnTo>
                  <a:pt x="1110" y="708"/>
                </a:lnTo>
                <a:lnTo>
                  <a:pt x="1085" y="729"/>
                </a:lnTo>
                <a:lnTo>
                  <a:pt x="1058" y="746"/>
                </a:lnTo>
                <a:lnTo>
                  <a:pt x="1031" y="766"/>
                </a:lnTo>
                <a:lnTo>
                  <a:pt x="1002" y="785"/>
                </a:lnTo>
                <a:lnTo>
                  <a:pt x="973" y="802"/>
                </a:lnTo>
                <a:lnTo>
                  <a:pt x="945" y="819"/>
                </a:lnTo>
                <a:lnTo>
                  <a:pt x="916" y="837"/>
                </a:lnTo>
                <a:lnTo>
                  <a:pt x="889" y="852"/>
                </a:lnTo>
                <a:lnTo>
                  <a:pt x="862" y="867"/>
                </a:lnTo>
                <a:lnTo>
                  <a:pt x="835" y="881"/>
                </a:lnTo>
                <a:lnTo>
                  <a:pt x="808" y="892"/>
                </a:lnTo>
                <a:lnTo>
                  <a:pt x="781" y="906"/>
                </a:lnTo>
                <a:lnTo>
                  <a:pt x="757" y="917"/>
                </a:lnTo>
                <a:lnTo>
                  <a:pt x="732" y="929"/>
                </a:lnTo>
                <a:lnTo>
                  <a:pt x="707" y="938"/>
                </a:lnTo>
                <a:lnTo>
                  <a:pt x="682" y="948"/>
                </a:lnTo>
                <a:lnTo>
                  <a:pt x="659" y="956"/>
                </a:lnTo>
                <a:lnTo>
                  <a:pt x="636" y="965"/>
                </a:lnTo>
                <a:lnTo>
                  <a:pt x="613" y="973"/>
                </a:lnTo>
                <a:lnTo>
                  <a:pt x="591" y="981"/>
                </a:lnTo>
                <a:lnTo>
                  <a:pt x="542" y="992"/>
                </a:lnTo>
                <a:lnTo>
                  <a:pt x="494" y="1006"/>
                </a:lnTo>
                <a:lnTo>
                  <a:pt x="446" y="1017"/>
                </a:lnTo>
                <a:lnTo>
                  <a:pt x="396" y="1027"/>
                </a:lnTo>
                <a:lnTo>
                  <a:pt x="348" y="1036"/>
                </a:lnTo>
                <a:lnTo>
                  <a:pt x="296" y="1046"/>
                </a:lnTo>
                <a:lnTo>
                  <a:pt x="246" y="1055"/>
                </a:lnTo>
                <a:lnTo>
                  <a:pt x="192" y="10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96"/>
          <p:cNvSpPr/>
          <p:nvPr/>
        </p:nvSpPr>
        <p:spPr>
          <a:xfrm>
            <a:off x="6458040" y="4079880"/>
            <a:ext cx="985680" cy="893880"/>
          </a:xfrm>
          <a:custGeom>
            <a:avLst/>
            <a:gdLst/>
            <a:ahLst/>
            <a:rect l="l" t="t" r="r" b="b"/>
            <a:pathLst>
              <a:path w="1242" h="1127">
                <a:moveTo>
                  <a:pt x="119" y="200"/>
                </a:moveTo>
                <a:lnTo>
                  <a:pt x="121" y="185"/>
                </a:lnTo>
                <a:lnTo>
                  <a:pt x="123" y="169"/>
                </a:lnTo>
                <a:lnTo>
                  <a:pt x="125" y="156"/>
                </a:lnTo>
                <a:lnTo>
                  <a:pt x="127" y="142"/>
                </a:lnTo>
                <a:lnTo>
                  <a:pt x="127" y="129"/>
                </a:lnTo>
                <a:lnTo>
                  <a:pt x="129" y="117"/>
                </a:lnTo>
                <a:lnTo>
                  <a:pt x="129" y="108"/>
                </a:lnTo>
                <a:lnTo>
                  <a:pt x="129" y="98"/>
                </a:lnTo>
                <a:lnTo>
                  <a:pt x="129" y="89"/>
                </a:lnTo>
                <a:lnTo>
                  <a:pt x="129" y="79"/>
                </a:lnTo>
                <a:lnTo>
                  <a:pt x="127" y="71"/>
                </a:lnTo>
                <a:lnTo>
                  <a:pt x="127" y="64"/>
                </a:lnTo>
                <a:lnTo>
                  <a:pt x="125" y="58"/>
                </a:lnTo>
                <a:lnTo>
                  <a:pt x="123" y="52"/>
                </a:lnTo>
                <a:lnTo>
                  <a:pt x="121" y="46"/>
                </a:lnTo>
                <a:lnTo>
                  <a:pt x="119" y="41"/>
                </a:lnTo>
                <a:lnTo>
                  <a:pt x="115" y="37"/>
                </a:lnTo>
                <a:lnTo>
                  <a:pt x="113" y="31"/>
                </a:lnTo>
                <a:lnTo>
                  <a:pt x="111" y="27"/>
                </a:lnTo>
                <a:lnTo>
                  <a:pt x="111" y="23"/>
                </a:lnTo>
                <a:lnTo>
                  <a:pt x="111" y="19"/>
                </a:lnTo>
                <a:lnTo>
                  <a:pt x="113" y="18"/>
                </a:lnTo>
                <a:lnTo>
                  <a:pt x="115" y="16"/>
                </a:lnTo>
                <a:lnTo>
                  <a:pt x="117" y="14"/>
                </a:lnTo>
                <a:lnTo>
                  <a:pt x="121" y="12"/>
                </a:lnTo>
                <a:lnTo>
                  <a:pt x="125" y="10"/>
                </a:lnTo>
                <a:lnTo>
                  <a:pt x="129" y="6"/>
                </a:lnTo>
                <a:lnTo>
                  <a:pt x="132" y="4"/>
                </a:lnTo>
                <a:lnTo>
                  <a:pt x="138" y="2"/>
                </a:lnTo>
                <a:lnTo>
                  <a:pt x="142" y="0"/>
                </a:lnTo>
                <a:lnTo>
                  <a:pt x="148" y="0"/>
                </a:lnTo>
                <a:lnTo>
                  <a:pt x="154" y="0"/>
                </a:lnTo>
                <a:lnTo>
                  <a:pt x="167" y="0"/>
                </a:lnTo>
                <a:lnTo>
                  <a:pt x="180" y="2"/>
                </a:lnTo>
                <a:lnTo>
                  <a:pt x="196" y="4"/>
                </a:lnTo>
                <a:lnTo>
                  <a:pt x="211" y="8"/>
                </a:lnTo>
                <a:lnTo>
                  <a:pt x="228" y="12"/>
                </a:lnTo>
                <a:lnTo>
                  <a:pt x="248" y="18"/>
                </a:lnTo>
                <a:lnTo>
                  <a:pt x="257" y="21"/>
                </a:lnTo>
                <a:lnTo>
                  <a:pt x="265" y="25"/>
                </a:lnTo>
                <a:lnTo>
                  <a:pt x="274" y="31"/>
                </a:lnTo>
                <a:lnTo>
                  <a:pt x="282" y="35"/>
                </a:lnTo>
                <a:lnTo>
                  <a:pt x="288" y="39"/>
                </a:lnTo>
                <a:lnTo>
                  <a:pt x="296" y="44"/>
                </a:lnTo>
                <a:lnTo>
                  <a:pt x="301" y="48"/>
                </a:lnTo>
                <a:lnTo>
                  <a:pt x="305" y="52"/>
                </a:lnTo>
                <a:lnTo>
                  <a:pt x="311" y="56"/>
                </a:lnTo>
                <a:lnTo>
                  <a:pt x="315" y="60"/>
                </a:lnTo>
                <a:lnTo>
                  <a:pt x="317" y="64"/>
                </a:lnTo>
                <a:lnTo>
                  <a:pt x="321" y="67"/>
                </a:lnTo>
                <a:lnTo>
                  <a:pt x="322" y="69"/>
                </a:lnTo>
                <a:lnTo>
                  <a:pt x="324" y="73"/>
                </a:lnTo>
                <a:lnTo>
                  <a:pt x="324" y="75"/>
                </a:lnTo>
                <a:lnTo>
                  <a:pt x="324" y="77"/>
                </a:lnTo>
                <a:lnTo>
                  <a:pt x="322" y="83"/>
                </a:lnTo>
                <a:lnTo>
                  <a:pt x="321" y="89"/>
                </a:lnTo>
                <a:lnTo>
                  <a:pt x="319" y="94"/>
                </a:lnTo>
                <a:lnTo>
                  <a:pt x="315" y="100"/>
                </a:lnTo>
                <a:lnTo>
                  <a:pt x="313" y="108"/>
                </a:lnTo>
                <a:lnTo>
                  <a:pt x="309" y="115"/>
                </a:lnTo>
                <a:lnTo>
                  <a:pt x="307" y="123"/>
                </a:lnTo>
                <a:lnTo>
                  <a:pt x="303" y="133"/>
                </a:lnTo>
                <a:lnTo>
                  <a:pt x="301" y="142"/>
                </a:lnTo>
                <a:lnTo>
                  <a:pt x="297" y="152"/>
                </a:lnTo>
                <a:lnTo>
                  <a:pt x="294" y="161"/>
                </a:lnTo>
                <a:lnTo>
                  <a:pt x="290" y="173"/>
                </a:lnTo>
                <a:lnTo>
                  <a:pt x="286" y="185"/>
                </a:lnTo>
                <a:lnTo>
                  <a:pt x="282" y="198"/>
                </a:lnTo>
                <a:lnTo>
                  <a:pt x="278" y="211"/>
                </a:lnTo>
                <a:lnTo>
                  <a:pt x="274" y="225"/>
                </a:lnTo>
                <a:lnTo>
                  <a:pt x="265" y="252"/>
                </a:lnTo>
                <a:lnTo>
                  <a:pt x="253" y="277"/>
                </a:lnTo>
                <a:lnTo>
                  <a:pt x="244" y="302"/>
                </a:lnTo>
                <a:lnTo>
                  <a:pt x="234" y="327"/>
                </a:lnTo>
                <a:lnTo>
                  <a:pt x="223" y="350"/>
                </a:lnTo>
                <a:lnTo>
                  <a:pt x="211" y="373"/>
                </a:lnTo>
                <a:lnTo>
                  <a:pt x="198" y="396"/>
                </a:lnTo>
                <a:lnTo>
                  <a:pt x="184" y="419"/>
                </a:lnTo>
                <a:lnTo>
                  <a:pt x="177" y="430"/>
                </a:lnTo>
                <a:lnTo>
                  <a:pt x="171" y="440"/>
                </a:lnTo>
                <a:lnTo>
                  <a:pt x="165" y="451"/>
                </a:lnTo>
                <a:lnTo>
                  <a:pt x="159" y="461"/>
                </a:lnTo>
                <a:lnTo>
                  <a:pt x="155" y="469"/>
                </a:lnTo>
                <a:lnTo>
                  <a:pt x="152" y="476"/>
                </a:lnTo>
                <a:lnTo>
                  <a:pt x="148" y="484"/>
                </a:lnTo>
                <a:lnTo>
                  <a:pt x="146" y="492"/>
                </a:lnTo>
                <a:lnTo>
                  <a:pt x="144" y="499"/>
                </a:lnTo>
                <a:lnTo>
                  <a:pt x="142" y="505"/>
                </a:lnTo>
                <a:lnTo>
                  <a:pt x="140" y="511"/>
                </a:lnTo>
                <a:lnTo>
                  <a:pt x="140" y="515"/>
                </a:lnTo>
                <a:lnTo>
                  <a:pt x="140" y="518"/>
                </a:lnTo>
                <a:lnTo>
                  <a:pt x="142" y="522"/>
                </a:lnTo>
                <a:lnTo>
                  <a:pt x="142" y="526"/>
                </a:lnTo>
                <a:lnTo>
                  <a:pt x="146" y="528"/>
                </a:lnTo>
                <a:lnTo>
                  <a:pt x="146" y="530"/>
                </a:lnTo>
                <a:lnTo>
                  <a:pt x="150" y="532"/>
                </a:lnTo>
                <a:lnTo>
                  <a:pt x="152" y="532"/>
                </a:lnTo>
                <a:lnTo>
                  <a:pt x="155" y="534"/>
                </a:lnTo>
                <a:lnTo>
                  <a:pt x="161" y="536"/>
                </a:lnTo>
                <a:lnTo>
                  <a:pt x="165" y="538"/>
                </a:lnTo>
                <a:lnTo>
                  <a:pt x="171" y="540"/>
                </a:lnTo>
                <a:lnTo>
                  <a:pt x="178" y="542"/>
                </a:lnTo>
                <a:lnTo>
                  <a:pt x="186" y="545"/>
                </a:lnTo>
                <a:lnTo>
                  <a:pt x="194" y="547"/>
                </a:lnTo>
                <a:lnTo>
                  <a:pt x="203" y="549"/>
                </a:lnTo>
                <a:lnTo>
                  <a:pt x="213" y="553"/>
                </a:lnTo>
                <a:lnTo>
                  <a:pt x="223" y="557"/>
                </a:lnTo>
                <a:lnTo>
                  <a:pt x="234" y="559"/>
                </a:lnTo>
                <a:lnTo>
                  <a:pt x="246" y="563"/>
                </a:lnTo>
                <a:lnTo>
                  <a:pt x="259" y="566"/>
                </a:lnTo>
                <a:lnTo>
                  <a:pt x="273" y="570"/>
                </a:lnTo>
                <a:lnTo>
                  <a:pt x="286" y="574"/>
                </a:lnTo>
                <a:lnTo>
                  <a:pt x="301" y="578"/>
                </a:lnTo>
                <a:lnTo>
                  <a:pt x="317" y="582"/>
                </a:lnTo>
                <a:lnTo>
                  <a:pt x="332" y="588"/>
                </a:lnTo>
                <a:lnTo>
                  <a:pt x="349" y="591"/>
                </a:lnTo>
                <a:lnTo>
                  <a:pt x="367" y="597"/>
                </a:lnTo>
                <a:lnTo>
                  <a:pt x="386" y="601"/>
                </a:lnTo>
                <a:lnTo>
                  <a:pt x="405" y="607"/>
                </a:lnTo>
                <a:lnTo>
                  <a:pt x="424" y="613"/>
                </a:lnTo>
                <a:lnTo>
                  <a:pt x="443" y="618"/>
                </a:lnTo>
                <a:lnTo>
                  <a:pt x="464" y="624"/>
                </a:lnTo>
                <a:lnTo>
                  <a:pt x="488" y="630"/>
                </a:lnTo>
                <a:lnTo>
                  <a:pt x="509" y="638"/>
                </a:lnTo>
                <a:lnTo>
                  <a:pt x="532" y="643"/>
                </a:lnTo>
                <a:lnTo>
                  <a:pt x="557" y="651"/>
                </a:lnTo>
                <a:lnTo>
                  <a:pt x="603" y="666"/>
                </a:lnTo>
                <a:lnTo>
                  <a:pt x="649" y="682"/>
                </a:lnTo>
                <a:lnTo>
                  <a:pt x="693" y="697"/>
                </a:lnTo>
                <a:lnTo>
                  <a:pt x="733" y="710"/>
                </a:lnTo>
                <a:lnTo>
                  <a:pt x="773" y="724"/>
                </a:lnTo>
                <a:lnTo>
                  <a:pt x="812" y="737"/>
                </a:lnTo>
                <a:lnTo>
                  <a:pt x="829" y="745"/>
                </a:lnTo>
                <a:lnTo>
                  <a:pt x="848" y="751"/>
                </a:lnTo>
                <a:lnTo>
                  <a:pt x="866" y="757"/>
                </a:lnTo>
                <a:lnTo>
                  <a:pt x="883" y="764"/>
                </a:lnTo>
                <a:lnTo>
                  <a:pt x="898" y="770"/>
                </a:lnTo>
                <a:lnTo>
                  <a:pt x="914" y="776"/>
                </a:lnTo>
                <a:lnTo>
                  <a:pt x="929" y="781"/>
                </a:lnTo>
                <a:lnTo>
                  <a:pt x="944" y="787"/>
                </a:lnTo>
                <a:lnTo>
                  <a:pt x="958" y="793"/>
                </a:lnTo>
                <a:lnTo>
                  <a:pt x="973" y="801"/>
                </a:lnTo>
                <a:lnTo>
                  <a:pt x="987" y="806"/>
                </a:lnTo>
                <a:lnTo>
                  <a:pt x="998" y="812"/>
                </a:lnTo>
                <a:lnTo>
                  <a:pt x="1012" y="818"/>
                </a:lnTo>
                <a:lnTo>
                  <a:pt x="1023" y="824"/>
                </a:lnTo>
                <a:lnTo>
                  <a:pt x="1035" y="829"/>
                </a:lnTo>
                <a:lnTo>
                  <a:pt x="1044" y="835"/>
                </a:lnTo>
                <a:lnTo>
                  <a:pt x="1056" y="841"/>
                </a:lnTo>
                <a:lnTo>
                  <a:pt x="1065" y="847"/>
                </a:lnTo>
                <a:lnTo>
                  <a:pt x="1075" y="852"/>
                </a:lnTo>
                <a:lnTo>
                  <a:pt x="1083" y="858"/>
                </a:lnTo>
                <a:lnTo>
                  <a:pt x="1100" y="868"/>
                </a:lnTo>
                <a:lnTo>
                  <a:pt x="1115" y="877"/>
                </a:lnTo>
                <a:lnTo>
                  <a:pt x="1129" y="887"/>
                </a:lnTo>
                <a:lnTo>
                  <a:pt x="1142" y="897"/>
                </a:lnTo>
                <a:lnTo>
                  <a:pt x="1155" y="906"/>
                </a:lnTo>
                <a:lnTo>
                  <a:pt x="1167" y="918"/>
                </a:lnTo>
                <a:lnTo>
                  <a:pt x="1178" y="927"/>
                </a:lnTo>
                <a:lnTo>
                  <a:pt x="1188" y="939"/>
                </a:lnTo>
                <a:lnTo>
                  <a:pt x="1198" y="950"/>
                </a:lnTo>
                <a:lnTo>
                  <a:pt x="1205" y="960"/>
                </a:lnTo>
                <a:lnTo>
                  <a:pt x="1213" y="971"/>
                </a:lnTo>
                <a:lnTo>
                  <a:pt x="1221" y="983"/>
                </a:lnTo>
                <a:lnTo>
                  <a:pt x="1225" y="995"/>
                </a:lnTo>
                <a:lnTo>
                  <a:pt x="1230" y="1006"/>
                </a:lnTo>
                <a:lnTo>
                  <a:pt x="1234" y="1018"/>
                </a:lnTo>
                <a:lnTo>
                  <a:pt x="1236" y="1029"/>
                </a:lnTo>
                <a:lnTo>
                  <a:pt x="1238" y="1041"/>
                </a:lnTo>
                <a:lnTo>
                  <a:pt x="1240" y="1050"/>
                </a:lnTo>
                <a:lnTo>
                  <a:pt x="1242" y="1060"/>
                </a:lnTo>
                <a:lnTo>
                  <a:pt x="1242" y="1069"/>
                </a:lnTo>
                <a:lnTo>
                  <a:pt x="1242" y="1079"/>
                </a:lnTo>
                <a:lnTo>
                  <a:pt x="1240" y="1087"/>
                </a:lnTo>
                <a:lnTo>
                  <a:pt x="1238" y="1094"/>
                </a:lnTo>
                <a:lnTo>
                  <a:pt x="1236" y="1100"/>
                </a:lnTo>
                <a:lnTo>
                  <a:pt x="1234" y="1106"/>
                </a:lnTo>
                <a:lnTo>
                  <a:pt x="1230" y="1112"/>
                </a:lnTo>
                <a:lnTo>
                  <a:pt x="1226" y="1115"/>
                </a:lnTo>
                <a:lnTo>
                  <a:pt x="1223" y="1119"/>
                </a:lnTo>
                <a:lnTo>
                  <a:pt x="1217" y="1123"/>
                </a:lnTo>
                <a:lnTo>
                  <a:pt x="1211" y="1125"/>
                </a:lnTo>
                <a:lnTo>
                  <a:pt x="1205" y="1125"/>
                </a:lnTo>
                <a:lnTo>
                  <a:pt x="1198" y="1127"/>
                </a:lnTo>
                <a:lnTo>
                  <a:pt x="1194" y="1125"/>
                </a:lnTo>
                <a:lnTo>
                  <a:pt x="1190" y="1125"/>
                </a:lnTo>
                <a:lnTo>
                  <a:pt x="1184" y="1125"/>
                </a:lnTo>
                <a:lnTo>
                  <a:pt x="1178" y="1123"/>
                </a:lnTo>
                <a:lnTo>
                  <a:pt x="1173" y="1121"/>
                </a:lnTo>
                <a:lnTo>
                  <a:pt x="1167" y="1119"/>
                </a:lnTo>
                <a:lnTo>
                  <a:pt x="1159" y="1117"/>
                </a:lnTo>
                <a:lnTo>
                  <a:pt x="1152" y="1115"/>
                </a:lnTo>
                <a:lnTo>
                  <a:pt x="1144" y="1112"/>
                </a:lnTo>
                <a:lnTo>
                  <a:pt x="1134" y="1108"/>
                </a:lnTo>
                <a:lnTo>
                  <a:pt x="1125" y="1104"/>
                </a:lnTo>
                <a:lnTo>
                  <a:pt x="1115" y="1100"/>
                </a:lnTo>
                <a:lnTo>
                  <a:pt x="1106" y="1096"/>
                </a:lnTo>
                <a:lnTo>
                  <a:pt x="1094" y="1090"/>
                </a:lnTo>
                <a:lnTo>
                  <a:pt x="1083" y="1085"/>
                </a:lnTo>
                <a:lnTo>
                  <a:pt x="1071" y="1079"/>
                </a:lnTo>
                <a:lnTo>
                  <a:pt x="1058" y="1073"/>
                </a:lnTo>
                <a:lnTo>
                  <a:pt x="1044" y="1067"/>
                </a:lnTo>
                <a:lnTo>
                  <a:pt x="1031" y="1060"/>
                </a:lnTo>
                <a:lnTo>
                  <a:pt x="1017" y="1052"/>
                </a:lnTo>
                <a:lnTo>
                  <a:pt x="1002" y="1044"/>
                </a:lnTo>
                <a:lnTo>
                  <a:pt x="987" y="1037"/>
                </a:lnTo>
                <a:lnTo>
                  <a:pt x="971" y="1027"/>
                </a:lnTo>
                <a:lnTo>
                  <a:pt x="954" y="1019"/>
                </a:lnTo>
                <a:lnTo>
                  <a:pt x="937" y="1010"/>
                </a:lnTo>
                <a:lnTo>
                  <a:pt x="919" y="1000"/>
                </a:lnTo>
                <a:lnTo>
                  <a:pt x="900" y="989"/>
                </a:lnTo>
                <a:lnTo>
                  <a:pt x="881" y="979"/>
                </a:lnTo>
                <a:lnTo>
                  <a:pt x="862" y="968"/>
                </a:lnTo>
                <a:lnTo>
                  <a:pt x="843" y="956"/>
                </a:lnTo>
                <a:lnTo>
                  <a:pt x="821" y="943"/>
                </a:lnTo>
                <a:lnTo>
                  <a:pt x="800" y="931"/>
                </a:lnTo>
                <a:lnTo>
                  <a:pt x="754" y="904"/>
                </a:lnTo>
                <a:lnTo>
                  <a:pt x="712" y="877"/>
                </a:lnTo>
                <a:lnTo>
                  <a:pt x="670" y="854"/>
                </a:lnTo>
                <a:lnTo>
                  <a:pt x="630" y="831"/>
                </a:lnTo>
                <a:lnTo>
                  <a:pt x="589" y="810"/>
                </a:lnTo>
                <a:lnTo>
                  <a:pt x="551" y="791"/>
                </a:lnTo>
                <a:lnTo>
                  <a:pt x="514" y="772"/>
                </a:lnTo>
                <a:lnTo>
                  <a:pt x="480" y="755"/>
                </a:lnTo>
                <a:lnTo>
                  <a:pt x="445" y="739"/>
                </a:lnTo>
                <a:lnTo>
                  <a:pt x="413" y="724"/>
                </a:lnTo>
                <a:lnTo>
                  <a:pt x="380" y="712"/>
                </a:lnTo>
                <a:lnTo>
                  <a:pt x="349" y="699"/>
                </a:lnTo>
                <a:lnTo>
                  <a:pt x="319" y="689"/>
                </a:lnTo>
                <a:lnTo>
                  <a:pt x="290" y="678"/>
                </a:lnTo>
                <a:lnTo>
                  <a:pt x="263" y="670"/>
                </a:lnTo>
                <a:lnTo>
                  <a:pt x="236" y="662"/>
                </a:lnTo>
                <a:lnTo>
                  <a:pt x="209" y="655"/>
                </a:lnTo>
                <a:lnTo>
                  <a:pt x="186" y="649"/>
                </a:lnTo>
                <a:lnTo>
                  <a:pt x="163" y="643"/>
                </a:lnTo>
                <a:lnTo>
                  <a:pt x="142" y="638"/>
                </a:lnTo>
                <a:lnTo>
                  <a:pt x="121" y="632"/>
                </a:lnTo>
                <a:lnTo>
                  <a:pt x="104" y="626"/>
                </a:lnTo>
                <a:lnTo>
                  <a:pt x="86" y="622"/>
                </a:lnTo>
                <a:lnTo>
                  <a:pt x="71" y="616"/>
                </a:lnTo>
                <a:lnTo>
                  <a:pt x="58" y="613"/>
                </a:lnTo>
                <a:lnTo>
                  <a:pt x="46" y="609"/>
                </a:lnTo>
                <a:lnTo>
                  <a:pt x="35" y="605"/>
                </a:lnTo>
                <a:lnTo>
                  <a:pt x="25" y="601"/>
                </a:lnTo>
                <a:lnTo>
                  <a:pt x="17" y="597"/>
                </a:lnTo>
                <a:lnTo>
                  <a:pt x="11" y="595"/>
                </a:lnTo>
                <a:lnTo>
                  <a:pt x="8" y="591"/>
                </a:lnTo>
                <a:lnTo>
                  <a:pt x="4" y="590"/>
                </a:lnTo>
                <a:lnTo>
                  <a:pt x="2" y="588"/>
                </a:lnTo>
                <a:lnTo>
                  <a:pt x="0" y="584"/>
                </a:lnTo>
                <a:lnTo>
                  <a:pt x="0" y="578"/>
                </a:lnTo>
                <a:lnTo>
                  <a:pt x="0" y="574"/>
                </a:lnTo>
                <a:lnTo>
                  <a:pt x="0" y="566"/>
                </a:lnTo>
                <a:lnTo>
                  <a:pt x="0" y="561"/>
                </a:lnTo>
                <a:lnTo>
                  <a:pt x="2" y="553"/>
                </a:lnTo>
                <a:lnTo>
                  <a:pt x="4" y="543"/>
                </a:lnTo>
                <a:lnTo>
                  <a:pt x="8" y="534"/>
                </a:lnTo>
                <a:lnTo>
                  <a:pt x="10" y="524"/>
                </a:lnTo>
                <a:lnTo>
                  <a:pt x="13" y="513"/>
                </a:lnTo>
                <a:lnTo>
                  <a:pt x="19" y="501"/>
                </a:lnTo>
                <a:lnTo>
                  <a:pt x="23" y="488"/>
                </a:lnTo>
                <a:lnTo>
                  <a:pt x="29" y="474"/>
                </a:lnTo>
                <a:lnTo>
                  <a:pt x="35" y="459"/>
                </a:lnTo>
                <a:lnTo>
                  <a:pt x="42" y="444"/>
                </a:lnTo>
                <a:lnTo>
                  <a:pt x="56" y="411"/>
                </a:lnTo>
                <a:lnTo>
                  <a:pt x="69" y="380"/>
                </a:lnTo>
                <a:lnTo>
                  <a:pt x="81" y="351"/>
                </a:lnTo>
                <a:lnTo>
                  <a:pt x="90" y="321"/>
                </a:lnTo>
                <a:lnTo>
                  <a:pt x="100" y="292"/>
                </a:lnTo>
                <a:lnTo>
                  <a:pt x="107" y="261"/>
                </a:lnTo>
                <a:lnTo>
                  <a:pt x="113" y="231"/>
                </a:lnTo>
                <a:lnTo>
                  <a:pt x="119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97"/>
          <p:cNvSpPr/>
          <p:nvPr/>
        </p:nvSpPr>
        <p:spPr>
          <a:xfrm>
            <a:off x="5870520" y="4122720"/>
            <a:ext cx="1959120" cy="347760"/>
          </a:xfrm>
          <a:custGeom>
            <a:avLst/>
            <a:gdLst/>
            <a:ahLst/>
            <a:rect l="l" t="t" r="r" b="b"/>
            <a:pathLst>
              <a:path w="2468" h="438">
                <a:moveTo>
                  <a:pt x="2376" y="73"/>
                </a:moveTo>
                <a:lnTo>
                  <a:pt x="2390" y="79"/>
                </a:lnTo>
                <a:lnTo>
                  <a:pt x="2401" y="86"/>
                </a:lnTo>
                <a:lnTo>
                  <a:pt x="2413" y="92"/>
                </a:lnTo>
                <a:lnTo>
                  <a:pt x="2424" y="100"/>
                </a:lnTo>
                <a:lnTo>
                  <a:pt x="2432" y="106"/>
                </a:lnTo>
                <a:lnTo>
                  <a:pt x="2442" y="113"/>
                </a:lnTo>
                <a:lnTo>
                  <a:pt x="2447" y="119"/>
                </a:lnTo>
                <a:lnTo>
                  <a:pt x="2453" y="125"/>
                </a:lnTo>
                <a:lnTo>
                  <a:pt x="2459" y="131"/>
                </a:lnTo>
                <a:lnTo>
                  <a:pt x="2463" y="134"/>
                </a:lnTo>
                <a:lnTo>
                  <a:pt x="2467" y="140"/>
                </a:lnTo>
                <a:lnTo>
                  <a:pt x="2468" y="144"/>
                </a:lnTo>
                <a:lnTo>
                  <a:pt x="2468" y="148"/>
                </a:lnTo>
                <a:lnTo>
                  <a:pt x="2468" y="152"/>
                </a:lnTo>
                <a:lnTo>
                  <a:pt x="2468" y="155"/>
                </a:lnTo>
                <a:lnTo>
                  <a:pt x="2467" y="157"/>
                </a:lnTo>
                <a:lnTo>
                  <a:pt x="2463" y="159"/>
                </a:lnTo>
                <a:lnTo>
                  <a:pt x="2459" y="163"/>
                </a:lnTo>
                <a:lnTo>
                  <a:pt x="2455" y="165"/>
                </a:lnTo>
                <a:lnTo>
                  <a:pt x="2449" y="167"/>
                </a:lnTo>
                <a:lnTo>
                  <a:pt x="2443" y="169"/>
                </a:lnTo>
                <a:lnTo>
                  <a:pt x="2436" y="171"/>
                </a:lnTo>
                <a:lnTo>
                  <a:pt x="2428" y="173"/>
                </a:lnTo>
                <a:lnTo>
                  <a:pt x="2420" y="175"/>
                </a:lnTo>
                <a:lnTo>
                  <a:pt x="2411" y="175"/>
                </a:lnTo>
                <a:lnTo>
                  <a:pt x="2399" y="177"/>
                </a:lnTo>
                <a:lnTo>
                  <a:pt x="2390" y="178"/>
                </a:lnTo>
                <a:lnTo>
                  <a:pt x="2376" y="180"/>
                </a:lnTo>
                <a:lnTo>
                  <a:pt x="2365" y="182"/>
                </a:lnTo>
                <a:lnTo>
                  <a:pt x="2351" y="182"/>
                </a:lnTo>
                <a:lnTo>
                  <a:pt x="2336" y="184"/>
                </a:lnTo>
                <a:lnTo>
                  <a:pt x="2321" y="186"/>
                </a:lnTo>
                <a:lnTo>
                  <a:pt x="2305" y="186"/>
                </a:lnTo>
                <a:lnTo>
                  <a:pt x="2288" y="188"/>
                </a:lnTo>
                <a:lnTo>
                  <a:pt x="2271" y="188"/>
                </a:lnTo>
                <a:lnTo>
                  <a:pt x="2252" y="190"/>
                </a:lnTo>
                <a:lnTo>
                  <a:pt x="2232" y="190"/>
                </a:lnTo>
                <a:lnTo>
                  <a:pt x="2213" y="190"/>
                </a:lnTo>
                <a:lnTo>
                  <a:pt x="2192" y="192"/>
                </a:lnTo>
                <a:lnTo>
                  <a:pt x="2169" y="192"/>
                </a:lnTo>
                <a:lnTo>
                  <a:pt x="2146" y="192"/>
                </a:lnTo>
                <a:lnTo>
                  <a:pt x="2123" y="194"/>
                </a:lnTo>
                <a:lnTo>
                  <a:pt x="2098" y="194"/>
                </a:lnTo>
                <a:lnTo>
                  <a:pt x="2073" y="194"/>
                </a:lnTo>
                <a:lnTo>
                  <a:pt x="2048" y="194"/>
                </a:lnTo>
                <a:lnTo>
                  <a:pt x="2021" y="194"/>
                </a:lnTo>
                <a:lnTo>
                  <a:pt x="1992" y="194"/>
                </a:lnTo>
                <a:lnTo>
                  <a:pt x="1966" y="194"/>
                </a:lnTo>
                <a:lnTo>
                  <a:pt x="1908" y="194"/>
                </a:lnTo>
                <a:lnTo>
                  <a:pt x="1852" y="196"/>
                </a:lnTo>
                <a:lnTo>
                  <a:pt x="1797" y="196"/>
                </a:lnTo>
                <a:lnTo>
                  <a:pt x="1743" y="198"/>
                </a:lnTo>
                <a:lnTo>
                  <a:pt x="1691" y="198"/>
                </a:lnTo>
                <a:lnTo>
                  <a:pt x="1639" y="200"/>
                </a:lnTo>
                <a:lnTo>
                  <a:pt x="1589" y="202"/>
                </a:lnTo>
                <a:lnTo>
                  <a:pt x="1541" y="205"/>
                </a:lnTo>
                <a:lnTo>
                  <a:pt x="1493" y="207"/>
                </a:lnTo>
                <a:lnTo>
                  <a:pt x="1447" y="211"/>
                </a:lnTo>
                <a:lnTo>
                  <a:pt x="1401" y="215"/>
                </a:lnTo>
                <a:lnTo>
                  <a:pt x="1357" y="219"/>
                </a:lnTo>
                <a:lnTo>
                  <a:pt x="1315" y="225"/>
                </a:lnTo>
                <a:lnTo>
                  <a:pt x="1275" y="230"/>
                </a:lnTo>
                <a:lnTo>
                  <a:pt x="1234" y="236"/>
                </a:lnTo>
                <a:lnTo>
                  <a:pt x="1194" y="244"/>
                </a:lnTo>
                <a:lnTo>
                  <a:pt x="1117" y="257"/>
                </a:lnTo>
                <a:lnTo>
                  <a:pt x="1038" y="271"/>
                </a:lnTo>
                <a:lnTo>
                  <a:pt x="958" y="284"/>
                </a:lnTo>
                <a:lnTo>
                  <a:pt x="877" y="299"/>
                </a:lnTo>
                <a:lnTo>
                  <a:pt x="797" y="315"/>
                </a:lnTo>
                <a:lnTo>
                  <a:pt x="716" y="330"/>
                </a:lnTo>
                <a:lnTo>
                  <a:pt x="633" y="347"/>
                </a:lnTo>
                <a:lnTo>
                  <a:pt x="553" y="365"/>
                </a:lnTo>
                <a:lnTo>
                  <a:pt x="532" y="369"/>
                </a:lnTo>
                <a:lnTo>
                  <a:pt x="513" y="374"/>
                </a:lnTo>
                <a:lnTo>
                  <a:pt x="493" y="378"/>
                </a:lnTo>
                <a:lnTo>
                  <a:pt x="474" y="382"/>
                </a:lnTo>
                <a:lnTo>
                  <a:pt x="457" y="386"/>
                </a:lnTo>
                <a:lnTo>
                  <a:pt x="440" y="390"/>
                </a:lnTo>
                <a:lnTo>
                  <a:pt x="422" y="393"/>
                </a:lnTo>
                <a:lnTo>
                  <a:pt x="405" y="397"/>
                </a:lnTo>
                <a:lnTo>
                  <a:pt x="390" y="401"/>
                </a:lnTo>
                <a:lnTo>
                  <a:pt x="374" y="403"/>
                </a:lnTo>
                <a:lnTo>
                  <a:pt x="359" y="407"/>
                </a:lnTo>
                <a:lnTo>
                  <a:pt x="346" y="411"/>
                </a:lnTo>
                <a:lnTo>
                  <a:pt x="330" y="413"/>
                </a:lnTo>
                <a:lnTo>
                  <a:pt x="317" y="415"/>
                </a:lnTo>
                <a:lnTo>
                  <a:pt x="305" y="418"/>
                </a:lnTo>
                <a:lnTo>
                  <a:pt x="292" y="420"/>
                </a:lnTo>
                <a:lnTo>
                  <a:pt x="280" y="422"/>
                </a:lnTo>
                <a:lnTo>
                  <a:pt x="269" y="424"/>
                </a:lnTo>
                <a:lnTo>
                  <a:pt x="259" y="426"/>
                </a:lnTo>
                <a:lnTo>
                  <a:pt x="248" y="428"/>
                </a:lnTo>
                <a:lnTo>
                  <a:pt x="238" y="430"/>
                </a:lnTo>
                <a:lnTo>
                  <a:pt x="230" y="432"/>
                </a:lnTo>
                <a:lnTo>
                  <a:pt x="221" y="432"/>
                </a:lnTo>
                <a:lnTo>
                  <a:pt x="213" y="434"/>
                </a:lnTo>
                <a:lnTo>
                  <a:pt x="205" y="434"/>
                </a:lnTo>
                <a:lnTo>
                  <a:pt x="198" y="436"/>
                </a:lnTo>
                <a:lnTo>
                  <a:pt x="192" y="436"/>
                </a:lnTo>
                <a:lnTo>
                  <a:pt x="186" y="438"/>
                </a:lnTo>
                <a:lnTo>
                  <a:pt x="181" y="438"/>
                </a:lnTo>
                <a:lnTo>
                  <a:pt x="175" y="438"/>
                </a:lnTo>
                <a:lnTo>
                  <a:pt x="171" y="438"/>
                </a:lnTo>
                <a:lnTo>
                  <a:pt x="167" y="438"/>
                </a:lnTo>
                <a:lnTo>
                  <a:pt x="159" y="438"/>
                </a:lnTo>
                <a:lnTo>
                  <a:pt x="152" y="436"/>
                </a:lnTo>
                <a:lnTo>
                  <a:pt x="142" y="434"/>
                </a:lnTo>
                <a:lnTo>
                  <a:pt x="134" y="432"/>
                </a:lnTo>
                <a:lnTo>
                  <a:pt x="125" y="428"/>
                </a:lnTo>
                <a:lnTo>
                  <a:pt x="113" y="422"/>
                </a:lnTo>
                <a:lnTo>
                  <a:pt x="104" y="417"/>
                </a:lnTo>
                <a:lnTo>
                  <a:pt x="92" y="411"/>
                </a:lnTo>
                <a:lnTo>
                  <a:pt x="83" y="403"/>
                </a:lnTo>
                <a:lnTo>
                  <a:pt x="71" y="395"/>
                </a:lnTo>
                <a:lnTo>
                  <a:pt x="60" y="386"/>
                </a:lnTo>
                <a:lnTo>
                  <a:pt x="48" y="376"/>
                </a:lnTo>
                <a:lnTo>
                  <a:pt x="37" y="367"/>
                </a:lnTo>
                <a:lnTo>
                  <a:pt x="23" y="355"/>
                </a:lnTo>
                <a:lnTo>
                  <a:pt x="12" y="342"/>
                </a:lnTo>
                <a:lnTo>
                  <a:pt x="0" y="328"/>
                </a:lnTo>
                <a:lnTo>
                  <a:pt x="2" y="328"/>
                </a:lnTo>
                <a:lnTo>
                  <a:pt x="4" y="328"/>
                </a:lnTo>
                <a:lnTo>
                  <a:pt x="8" y="328"/>
                </a:lnTo>
                <a:lnTo>
                  <a:pt x="12" y="328"/>
                </a:lnTo>
                <a:lnTo>
                  <a:pt x="15" y="326"/>
                </a:lnTo>
                <a:lnTo>
                  <a:pt x="19" y="326"/>
                </a:lnTo>
                <a:lnTo>
                  <a:pt x="25" y="326"/>
                </a:lnTo>
                <a:lnTo>
                  <a:pt x="31" y="326"/>
                </a:lnTo>
                <a:lnTo>
                  <a:pt x="37" y="324"/>
                </a:lnTo>
                <a:lnTo>
                  <a:pt x="42" y="324"/>
                </a:lnTo>
                <a:lnTo>
                  <a:pt x="50" y="322"/>
                </a:lnTo>
                <a:lnTo>
                  <a:pt x="58" y="322"/>
                </a:lnTo>
                <a:lnTo>
                  <a:pt x="65" y="321"/>
                </a:lnTo>
                <a:lnTo>
                  <a:pt x="73" y="321"/>
                </a:lnTo>
                <a:lnTo>
                  <a:pt x="83" y="319"/>
                </a:lnTo>
                <a:lnTo>
                  <a:pt x="90" y="317"/>
                </a:lnTo>
                <a:lnTo>
                  <a:pt x="102" y="317"/>
                </a:lnTo>
                <a:lnTo>
                  <a:pt x="111" y="315"/>
                </a:lnTo>
                <a:lnTo>
                  <a:pt x="133" y="311"/>
                </a:lnTo>
                <a:lnTo>
                  <a:pt x="157" y="307"/>
                </a:lnTo>
                <a:lnTo>
                  <a:pt x="182" y="303"/>
                </a:lnTo>
                <a:lnTo>
                  <a:pt x="211" y="299"/>
                </a:lnTo>
                <a:lnTo>
                  <a:pt x="240" y="296"/>
                </a:lnTo>
                <a:lnTo>
                  <a:pt x="273" y="290"/>
                </a:lnTo>
                <a:lnTo>
                  <a:pt x="305" y="284"/>
                </a:lnTo>
                <a:lnTo>
                  <a:pt x="340" y="280"/>
                </a:lnTo>
                <a:lnTo>
                  <a:pt x="378" y="274"/>
                </a:lnTo>
                <a:lnTo>
                  <a:pt x="417" y="267"/>
                </a:lnTo>
                <a:lnTo>
                  <a:pt x="457" y="261"/>
                </a:lnTo>
                <a:lnTo>
                  <a:pt x="501" y="253"/>
                </a:lnTo>
                <a:lnTo>
                  <a:pt x="545" y="248"/>
                </a:lnTo>
                <a:lnTo>
                  <a:pt x="591" y="240"/>
                </a:lnTo>
                <a:lnTo>
                  <a:pt x="639" y="232"/>
                </a:lnTo>
                <a:lnTo>
                  <a:pt x="689" y="223"/>
                </a:lnTo>
                <a:lnTo>
                  <a:pt x="741" y="215"/>
                </a:lnTo>
                <a:lnTo>
                  <a:pt x="795" y="205"/>
                </a:lnTo>
                <a:lnTo>
                  <a:pt x="850" y="198"/>
                </a:lnTo>
                <a:lnTo>
                  <a:pt x="908" y="188"/>
                </a:lnTo>
                <a:lnTo>
                  <a:pt x="967" y="178"/>
                </a:lnTo>
                <a:lnTo>
                  <a:pt x="1029" y="169"/>
                </a:lnTo>
                <a:lnTo>
                  <a:pt x="1092" y="157"/>
                </a:lnTo>
                <a:lnTo>
                  <a:pt x="1156" y="148"/>
                </a:lnTo>
                <a:lnTo>
                  <a:pt x="1215" y="138"/>
                </a:lnTo>
                <a:lnTo>
                  <a:pt x="1275" y="129"/>
                </a:lnTo>
                <a:lnTo>
                  <a:pt x="1332" y="119"/>
                </a:lnTo>
                <a:lnTo>
                  <a:pt x="1388" y="109"/>
                </a:lnTo>
                <a:lnTo>
                  <a:pt x="1442" y="102"/>
                </a:lnTo>
                <a:lnTo>
                  <a:pt x="1493" y="94"/>
                </a:lnTo>
                <a:lnTo>
                  <a:pt x="1543" y="86"/>
                </a:lnTo>
                <a:lnTo>
                  <a:pt x="1593" y="79"/>
                </a:lnTo>
                <a:lnTo>
                  <a:pt x="1639" y="71"/>
                </a:lnTo>
                <a:lnTo>
                  <a:pt x="1683" y="65"/>
                </a:lnTo>
                <a:lnTo>
                  <a:pt x="1726" y="58"/>
                </a:lnTo>
                <a:lnTo>
                  <a:pt x="1768" y="52"/>
                </a:lnTo>
                <a:lnTo>
                  <a:pt x="1806" y="46"/>
                </a:lnTo>
                <a:lnTo>
                  <a:pt x="1845" y="42"/>
                </a:lnTo>
                <a:lnTo>
                  <a:pt x="1879" y="36"/>
                </a:lnTo>
                <a:lnTo>
                  <a:pt x="1914" y="33"/>
                </a:lnTo>
                <a:lnTo>
                  <a:pt x="1944" y="27"/>
                </a:lnTo>
                <a:lnTo>
                  <a:pt x="1975" y="23"/>
                </a:lnTo>
                <a:lnTo>
                  <a:pt x="2004" y="19"/>
                </a:lnTo>
                <a:lnTo>
                  <a:pt x="2029" y="17"/>
                </a:lnTo>
                <a:lnTo>
                  <a:pt x="2054" y="13"/>
                </a:lnTo>
                <a:lnTo>
                  <a:pt x="2077" y="10"/>
                </a:lnTo>
                <a:lnTo>
                  <a:pt x="2098" y="8"/>
                </a:lnTo>
                <a:lnTo>
                  <a:pt x="2115" y="6"/>
                </a:lnTo>
                <a:lnTo>
                  <a:pt x="2133" y="4"/>
                </a:lnTo>
                <a:lnTo>
                  <a:pt x="2148" y="2"/>
                </a:lnTo>
                <a:lnTo>
                  <a:pt x="2161" y="2"/>
                </a:lnTo>
                <a:lnTo>
                  <a:pt x="2173" y="0"/>
                </a:lnTo>
                <a:lnTo>
                  <a:pt x="2182" y="0"/>
                </a:lnTo>
                <a:lnTo>
                  <a:pt x="2190" y="0"/>
                </a:lnTo>
                <a:lnTo>
                  <a:pt x="2196" y="0"/>
                </a:lnTo>
                <a:lnTo>
                  <a:pt x="2205" y="0"/>
                </a:lnTo>
                <a:lnTo>
                  <a:pt x="2215" y="0"/>
                </a:lnTo>
                <a:lnTo>
                  <a:pt x="2227" y="2"/>
                </a:lnTo>
                <a:lnTo>
                  <a:pt x="2236" y="4"/>
                </a:lnTo>
                <a:lnTo>
                  <a:pt x="2248" y="6"/>
                </a:lnTo>
                <a:lnTo>
                  <a:pt x="2259" y="10"/>
                </a:lnTo>
                <a:lnTo>
                  <a:pt x="2271" y="13"/>
                </a:lnTo>
                <a:lnTo>
                  <a:pt x="2280" y="17"/>
                </a:lnTo>
                <a:lnTo>
                  <a:pt x="2292" y="23"/>
                </a:lnTo>
                <a:lnTo>
                  <a:pt x="2303" y="27"/>
                </a:lnTo>
                <a:lnTo>
                  <a:pt x="2317" y="33"/>
                </a:lnTo>
                <a:lnTo>
                  <a:pt x="2328" y="40"/>
                </a:lnTo>
                <a:lnTo>
                  <a:pt x="2340" y="48"/>
                </a:lnTo>
                <a:lnTo>
                  <a:pt x="2351" y="56"/>
                </a:lnTo>
                <a:lnTo>
                  <a:pt x="2363" y="63"/>
                </a:lnTo>
                <a:lnTo>
                  <a:pt x="2376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98"/>
          <p:cNvSpPr/>
          <p:nvPr/>
        </p:nvSpPr>
        <p:spPr>
          <a:xfrm>
            <a:off x="6597720" y="2692440"/>
            <a:ext cx="225360" cy="1366920"/>
          </a:xfrm>
          <a:custGeom>
            <a:avLst/>
            <a:gdLst/>
            <a:ahLst/>
            <a:rect l="l" t="t" r="r" b="b"/>
            <a:pathLst>
              <a:path w="284" h="1721">
                <a:moveTo>
                  <a:pt x="238" y="936"/>
                </a:moveTo>
                <a:lnTo>
                  <a:pt x="236" y="982"/>
                </a:lnTo>
                <a:lnTo>
                  <a:pt x="236" y="1027"/>
                </a:lnTo>
                <a:lnTo>
                  <a:pt x="234" y="1071"/>
                </a:lnTo>
                <a:lnTo>
                  <a:pt x="234" y="1111"/>
                </a:lnTo>
                <a:lnTo>
                  <a:pt x="232" y="1151"/>
                </a:lnTo>
                <a:lnTo>
                  <a:pt x="230" y="1192"/>
                </a:lnTo>
                <a:lnTo>
                  <a:pt x="230" y="1228"/>
                </a:lnTo>
                <a:lnTo>
                  <a:pt x="228" y="1265"/>
                </a:lnTo>
                <a:lnTo>
                  <a:pt x="226" y="1299"/>
                </a:lnTo>
                <a:lnTo>
                  <a:pt x="226" y="1334"/>
                </a:lnTo>
                <a:lnTo>
                  <a:pt x="224" y="1364"/>
                </a:lnTo>
                <a:lnTo>
                  <a:pt x="222" y="1395"/>
                </a:lnTo>
                <a:lnTo>
                  <a:pt x="222" y="1424"/>
                </a:lnTo>
                <a:lnTo>
                  <a:pt x="220" y="1451"/>
                </a:lnTo>
                <a:lnTo>
                  <a:pt x="218" y="1478"/>
                </a:lnTo>
                <a:lnTo>
                  <a:pt x="216" y="1503"/>
                </a:lnTo>
                <a:lnTo>
                  <a:pt x="215" y="1526"/>
                </a:lnTo>
                <a:lnTo>
                  <a:pt x="215" y="1547"/>
                </a:lnTo>
                <a:lnTo>
                  <a:pt x="213" y="1568"/>
                </a:lnTo>
                <a:lnTo>
                  <a:pt x="211" y="1587"/>
                </a:lnTo>
                <a:lnTo>
                  <a:pt x="209" y="1604"/>
                </a:lnTo>
                <a:lnTo>
                  <a:pt x="207" y="1622"/>
                </a:lnTo>
                <a:lnTo>
                  <a:pt x="205" y="1635"/>
                </a:lnTo>
                <a:lnTo>
                  <a:pt x="203" y="1648"/>
                </a:lnTo>
                <a:lnTo>
                  <a:pt x="201" y="1660"/>
                </a:lnTo>
                <a:lnTo>
                  <a:pt x="199" y="1671"/>
                </a:lnTo>
                <a:lnTo>
                  <a:pt x="197" y="1679"/>
                </a:lnTo>
                <a:lnTo>
                  <a:pt x="195" y="1687"/>
                </a:lnTo>
                <a:lnTo>
                  <a:pt x="193" y="1694"/>
                </a:lnTo>
                <a:lnTo>
                  <a:pt x="192" y="1698"/>
                </a:lnTo>
                <a:lnTo>
                  <a:pt x="190" y="1702"/>
                </a:lnTo>
                <a:lnTo>
                  <a:pt x="186" y="1704"/>
                </a:lnTo>
                <a:lnTo>
                  <a:pt x="180" y="1708"/>
                </a:lnTo>
                <a:lnTo>
                  <a:pt x="172" y="1712"/>
                </a:lnTo>
                <a:lnTo>
                  <a:pt x="167" y="1716"/>
                </a:lnTo>
                <a:lnTo>
                  <a:pt x="163" y="1718"/>
                </a:lnTo>
                <a:lnTo>
                  <a:pt x="157" y="1719"/>
                </a:lnTo>
                <a:lnTo>
                  <a:pt x="153" y="1721"/>
                </a:lnTo>
                <a:lnTo>
                  <a:pt x="149" y="1721"/>
                </a:lnTo>
                <a:lnTo>
                  <a:pt x="145" y="1721"/>
                </a:lnTo>
                <a:lnTo>
                  <a:pt x="142" y="1721"/>
                </a:lnTo>
                <a:lnTo>
                  <a:pt x="138" y="1721"/>
                </a:lnTo>
                <a:lnTo>
                  <a:pt x="136" y="1719"/>
                </a:lnTo>
                <a:lnTo>
                  <a:pt x="132" y="1718"/>
                </a:lnTo>
                <a:lnTo>
                  <a:pt x="130" y="1716"/>
                </a:lnTo>
                <a:lnTo>
                  <a:pt x="126" y="1712"/>
                </a:lnTo>
                <a:lnTo>
                  <a:pt x="124" y="1708"/>
                </a:lnTo>
                <a:lnTo>
                  <a:pt x="122" y="1704"/>
                </a:lnTo>
                <a:lnTo>
                  <a:pt x="120" y="1702"/>
                </a:lnTo>
                <a:lnTo>
                  <a:pt x="120" y="1700"/>
                </a:lnTo>
                <a:lnTo>
                  <a:pt x="119" y="1696"/>
                </a:lnTo>
                <a:lnTo>
                  <a:pt x="117" y="1693"/>
                </a:lnTo>
                <a:lnTo>
                  <a:pt x="117" y="1689"/>
                </a:lnTo>
                <a:lnTo>
                  <a:pt x="115" y="1683"/>
                </a:lnTo>
                <a:lnTo>
                  <a:pt x="115" y="1677"/>
                </a:lnTo>
                <a:lnTo>
                  <a:pt x="113" y="1670"/>
                </a:lnTo>
                <a:lnTo>
                  <a:pt x="113" y="1662"/>
                </a:lnTo>
                <a:lnTo>
                  <a:pt x="111" y="1654"/>
                </a:lnTo>
                <a:lnTo>
                  <a:pt x="111" y="1645"/>
                </a:lnTo>
                <a:lnTo>
                  <a:pt x="109" y="1635"/>
                </a:lnTo>
                <a:lnTo>
                  <a:pt x="109" y="1623"/>
                </a:lnTo>
                <a:lnTo>
                  <a:pt x="107" y="1612"/>
                </a:lnTo>
                <a:lnTo>
                  <a:pt x="107" y="1600"/>
                </a:lnTo>
                <a:lnTo>
                  <a:pt x="107" y="1587"/>
                </a:lnTo>
                <a:lnTo>
                  <a:pt x="105" y="1574"/>
                </a:lnTo>
                <a:lnTo>
                  <a:pt x="105" y="1560"/>
                </a:lnTo>
                <a:lnTo>
                  <a:pt x="105" y="1545"/>
                </a:lnTo>
                <a:lnTo>
                  <a:pt x="105" y="1529"/>
                </a:lnTo>
                <a:lnTo>
                  <a:pt x="105" y="1514"/>
                </a:lnTo>
                <a:lnTo>
                  <a:pt x="103" y="1497"/>
                </a:lnTo>
                <a:lnTo>
                  <a:pt x="103" y="1478"/>
                </a:lnTo>
                <a:lnTo>
                  <a:pt x="105" y="1460"/>
                </a:lnTo>
                <a:lnTo>
                  <a:pt x="105" y="1441"/>
                </a:lnTo>
                <a:lnTo>
                  <a:pt x="105" y="1422"/>
                </a:lnTo>
                <a:lnTo>
                  <a:pt x="105" y="1401"/>
                </a:lnTo>
                <a:lnTo>
                  <a:pt x="105" y="1380"/>
                </a:lnTo>
                <a:lnTo>
                  <a:pt x="107" y="1359"/>
                </a:lnTo>
                <a:lnTo>
                  <a:pt x="107" y="1336"/>
                </a:lnTo>
                <a:lnTo>
                  <a:pt x="109" y="1313"/>
                </a:lnTo>
                <a:lnTo>
                  <a:pt x="109" y="1289"/>
                </a:lnTo>
                <a:lnTo>
                  <a:pt x="111" y="1241"/>
                </a:lnTo>
                <a:lnTo>
                  <a:pt x="113" y="1195"/>
                </a:lnTo>
                <a:lnTo>
                  <a:pt x="115" y="1149"/>
                </a:lnTo>
                <a:lnTo>
                  <a:pt x="117" y="1107"/>
                </a:lnTo>
                <a:lnTo>
                  <a:pt x="119" y="1063"/>
                </a:lnTo>
                <a:lnTo>
                  <a:pt x="119" y="1023"/>
                </a:lnTo>
                <a:lnTo>
                  <a:pt x="120" y="980"/>
                </a:lnTo>
                <a:lnTo>
                  <a:pt x="120" y="942"/>
                </a:lnTo>
                <a:lnTo>
                  <a:pt x="120" y="904"/>
                </a:lnTo>
                <a:lnTo>
                  <a:pt x="120" y="867"/>
                </a:lnTo>
                <a:lnTo>
                  <a:pt x="122" y="831"/>
                </a:lnTo>
                <a:lnTo>
                  <a:pt x="122" y="796"/>
                </a:lnTo>
                <a:lnTo>
                  <a:pt x="122" y="762"/>
                </a:lnTo>
                <a:lnTo>
                  <a:pt x="122" y="729"/>
                </a:lnTo>
                <a:lnTo>
                  <a:pt x="122" y="698"/>
                </a:lnTo>
                <a:lnTo>
                  <a:pt x="122" y="668"/>
                </a:lnTo>
                <a:lnTo>
                  <a:pt x="120" y="639"/>
                </a:lnTo>
                <a:lnTo>
                  <a:pt x="119" y="610"/>
                </a:lnTo>
                <a:lnTo>
                  <a:pt x="117" y="581"/>
                </a:lnTo>
                <a:lnTo>
                  <a:pt x="115" y="552"/>
                </a:lnTo>
                <a:lnTo>
                  <a:pt x="113" y="526"/>
                </a:lnTo>
                <a:lnTo>
                  <a:pt x="111" y="499"/>
                </a:lnTo>
                <a:lnTo>
                  <a:pt x="111" y="474"/>
                </a:lnTo>
                <a:lnTo>
                  <a:pt x="109" y="449"/>
                </a:lnTo>
                <a:lnTo>
                  <a:pt x="109" y="424"/>
                </a:lnTo>
                <a:lnTo>
                  <a:pt x="107" y="399"/>
                </a:lnTo>
                <a:lnTo>
                  <a:pt x="105" y="376"/>
                </a:lnTo>
                <a:lnTo>
                  <a:pt x="103" y="353"/>
                </a:lnTo>
                <a:lnTo>
                  <a:pt x="103" y="330"/>
                </a:lnTo>
                <a:lnTo>
                  <a:pt x="101" y="307"/>
                </a:lnTo>
                <a:lnTo>
                  <a:pt x="99" y="286"/>
                </a:lnTo>
                <a:lnTo>
                  <a:pt x="97" y="264"/>
                </a:lnTo>
                <a:lnTo>
                  <a:pt x="94" y="245"/>
                </a:lnTo>
                <a:lnTo>
                  <a:pt x="92" y="226"/>
                </a:lnTo>
                <a:lnTo>
                  <a:pt x="88" y="207"/>
                </a:lnTo>
                <a:lnTo>
                  <a:pt x="84" y="190"/>
                </a:lnTo>
                <a:lnTo>
                  <a:pt x="82" y="174"/>
                </a:lnTo>
                <a:lnTo>
                  <a:pt x="78" y="159"/>
                </a:lnTo>
                <a:lnTo>
                  <a:pt x="72" y="144"/>
                </a:lnTo>
                <a:lnTo>
                  <a:pt x="69" y="132"/>
                </a:lnTo>
                <a:lnTo>
                  <a:pt x="65" y="119"/>
                </a:lnTo>
                <a:lnTo>
                  <a:pt x="61" y="109"/>
                </a:lnTo>
                <a:lnTo>
                  <a:pt x="55" y="99"/>
                </a:lnTo>
                <a:lnTo>
                  <a:pt x="51" y="90"/>
                </a:lnTo>
                <a:lnTo>
                  <a:pt x="46" y="84"/>
                </a:lnTo>
                <a:lnTo>
                  <a:pt x="42" y="78"/>
                </a:lnTo>
                <a:lnTo>
                  <a:pt x="38" y="73"/>
                </a:lnTo>
                <a:lnTo>
                  <a:pt x="32" y="71"/>
                </a:lnTo>
                <a:lnTo>
                  <a:pt x="26" y="67"/>
                </a:lnTo>
                <a:lnTo>
                  <a:pt x="19" y="65"/>
                </a:lnTo>
                <a:lnTo>
                  <a:pt x="15" y="63"/>
                </a:lnTo>
                <a:lnTo>
                  <a:pt x="11" y="59"/>
                </a:lnTo>
                <a:lnTo>
                  <a:pt x="7" y="55"/>
                </a:lnTo>
                <a:lnTo>
                  <a:pt x="3" y="51"/>
                </a:lnTo>
                <a:lnTo>
                  <a:pt x="1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0" y="32"/>
                </a:lnTo>
                <a:lnTo>
                  <a:pt x="0" y="26"/>
                </a:lnTo>
                <a:lnTo>
                  <a:pt x="3" y="19"/>
                </a:lnTo>
                <a:lnTo>
                  <a:pt x="7" y="9"/>
                </a:lnTo>
                <a:lnTo>
                  <a:pt x="9" y="7"/>
                </a:lnTo>
                <a:lnTo>
                  <a:pt x="13" y="5"/>
                </a:lnTo>
                <a:lnTo>
                  <a:pt x="17" y="3"/>
                </a:lnTo>
                <a:lnTo>
                  <a:pt x="21" y="2"/>
                </a:lnTo>
                <a:lnTo>
                  <a:pt x="26" y="2"/>
                </a:lnTo>
                <a:lnTo>
                  <a:pt x="32" y="0"/>
                </a:lnTo>
                <a:lnTo>
                  <a:pt x="38" y="0"/>
                </a:lnTo>
                <a:lnTo>
                  <a:pt x="46" y="0"/>
                </a:lnTo>
                <a:lnTo>
                  <a:pt x="53" y="0"/>
                </a:lnTo>
                <a:lnTo>
                  <a:pt x="61" y="0"/>
                </a:lnTo>
                <a:lnTo>
                  <a:pt x="69" y="2"/>
                </a:lnTo>
                <a:lnTo>
                  <a:pt x="78" y="2"/>
                </a:lnTo>
                <a:lnTo>
                  <a:pt x="88" y="3"/>
                </a:lnTo>
                <a:lnTo>
                  <a:pt x="99" y="5"/>
                </a:lnTo>
                <a:lnTo>
                  <a:pt x="111" y="7"/>
                </a:lnTo>
                <a:lnTo>
                  <a:pt x="122" y="9"/>
                </a:lnTo>
                <a:lnTo>
                  <a:pt x="145" y="19"/>
                </a:lnTo>
                <a:lnTo>
                  <a:pt x="168" y="28"/>
                </a:lnTo>
                <a:lnTo>
                  <a:pt x="188" y="36"/>
                </a:lnTo>
                <a:lnTo>
                  <a:pt x="207" y="46"/>
                </a:lnTo>
                <a:lnTo>
                  <a:pt x="216" y="50"/>
                </a:lnTo>
                <a:lnTo>
                  <a:pt x="224" y="55"/>
                </a:lnTo>
                <a:lnTo>
                  <a:pt x="232" y="59"/>
                </a:lnTo>
                <a:lnTo>
                  <a:pt x="239" y="65"/>
                </a:lnTo>
                <a:lnTo>
                  <a:pt x="247" y="69"/>
                </a:lnTo>
                <a:lnTo>
                  <a:pt x="253" y="73"/>
                </a:lnTo>
                <a:lnTo>
                  <a:pt x="259" y="78"/>
                </a:lnTo>
                <a:lnTo>
                  <a:pt x="264" y="82"/>
                </a:lnTo>
                <a:lnTo>
                  <a:pt x="268" y="86"/>
                </a:lnTo>
                <a:lnTo>
                  <a:pt x="272" y="92"/>
                </a:lnTo>
                <a:lnTo>
                  <a:pt x="276" y="96"/>
                </a:lnTo>
                <a:lnTo>
                  <a:pt x="278" y="101"/>
                </a:lnTo>
                <a:lnTo>
                  <a:pt x="280" y="105"/>
                </a:lnTo>
                <a:lnTo>
                  <a:pt x="282" y="109"/>
                </a:lnTo>
                <a:lnTo>
                  <a:pt x="284" y="115"/>
                </a:lnTo>
                <a:lnTo>
                  <a:pt x="284" y="119"/>
                </a:lnTo>
                <a:lnTo>
                  <a:pt x="284" y="128"/>
                </a:lnTo>
                <a:lnTo>
                  <a:pt x="284" y="138"/>
                </a:lnTo>
                <a:lnTo>
                  <a:pt x="280" y="145"/>
                </a:lnTo>
                <a:lnTo>
                  <a:pt x="276" y="155"/>
                </a:lnTo>
                <a:lnTo>
                  <a:pt x="276" y="159"/>
                </a:lnTo>
                <a:lnTo>
                  <a:pt x="274" y="163"/>
                </a:lnTo>
                <a:lnTo>
                  <a:pt x="272" y="169"/>
                </a:lnTo>
                <a:lnTo>
                  <a:pt x="272" y="176"/>
                </a:lnTo>
                <a:lnTo>
                  <a:pt x="270" y="184"/>
                </a:lnTo>
                <a:lnTo>
                  <a:pt x="268" y="193"/>
                </a:lnTo>
                <a:lnTo>
                  <a:pt x="268" y="205"/>
                </a:lnTo>
                <a:lnTo>
                  <a:pt x="266" y="218"/>
                </a:lnTo>
                <a:lnTo>
                  <a:pt x="266" y="232"/>
                </a:lnTo>
                <a:lnTo>
                  <a:pt x="264" y="247"/>
                </a:lnTo>
                <a:lnTo>
                  <a:pt x="263" y="263"/>
                </a:lnTo>
                <a:lnTo>
                  <a:pt x="263" y="282"/>
                </a:lnTo>
                <a:lnTo>
                  <a:pt x="261" y="301"/>
                </a:lnTo>
                <a:lnTo>
                  <a:pt x="259" y="322"/>
                </a:lnTo>
                <a:lnTo>
                  <a:pt x="259" y="343"/>
                </a:lnTo>
                <a:lnTo>
                  <a:pt x="257" y="368"/>
                </a:lnTo>
                <a:lnTo>
                  <a:pt x="257" y="393"/>
                </a:lnTo>
                <a:lnTo>
                  <a:pt x="255" y="418"/>
                </a:lnTo>
                <a:lnTo>
                  <a:pt x="253" y="447"/>
                </a:lnTo>
                <a:lnTo>
                  <a:pt x="253" y="476"/>
                </a:lnTo>
                <a:lnTo>
                  <a:pt x="251" y="506"/>
                </a:lnTo>
                <a:lnTo>
                  <a:pt x="249" y="539"/>
                </a:lnTo>
                <a:lnTo>
                  <a:pt x="249" y="572"/>
                </a:lnTo>
                <a:lnTo>
                  <a:pt x="247" y="606"/>
                </a:lnTo>
                <a:lnTo>
                  <a:pt x="245" y="643"/>
                </a:lnTo>
                <a:lnTo>
                  <a:pt x="245" y="681"/>
                </a:lnTo>
                <a:lnTo>
                  <a:pt x="243" y="719"/>
                </a:lnTo>
                <a:lnTo>
                  <a:pt x="243" y="760"/>
                </a:lnTo>
                <a:lnTo>
                  <a:pt x="241" y="802"/>
                </a:lnTo>
                <a:lnTo>
                  <a:pt x="239" y="844"/>
                </a:lnTo>
                <a:lnTo>
                  <a:pt x="239" y="890"/>
                </a:lnTo>
                <a:lnTo>
                  <a:pt x="238" y="9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99"/>
          <p:cNvSpPr/>
          <p:nvPr/>
        </p:nvSpPr>
        <p:spPr>
          <a:xfrm>
            <a:off x="6248520" y="3830760"/>
            <a:ext cx="938160" cy="252360"/>
          </a:xfrm>
          <a:custGeom>
            <a:avLst/>
            <a:gdLst/>
            <a:ahLst/>
            <a:rect l="l" t="t" r="r" b="b"/>
            <a:pathLst>
              <a:path w="1182" h="319">
                <a:moveTo>
                  <a:pt x="1142" y="2"/>
                </a:moveTo>
                <a:lnTo>
                  <a:pt x="1146" y="6"/>
                </a:lnTo>
                <a:lnTo>
                  <a:pt x="1152" y="12"/>
                </a:lnTo>
                <a:lnTo>
                  <a:pt x="1156" y="18"/>
                </a:lnTo>
                <a:lnTo>
                  <a:pt x="1161" y="23"/>
                </a:lnTo>
                <a:lnTo>
                  <a:pt x="1167" y="31"/>
                </a:lnTo>
                <a:lnTo>
                  <a:pt x="1171" y="41"/>
                </a:lnTo>
                <a:lnTo>
                  <a:pt x="1173" y="45"/>
                </a:lnTo>
                <a:lnTo>
                  <a:pt x="1177" y="50"/>
                </a:lnTo>
                <a:lnTo>
                  <a:pt x="1179" y="56"/>
                </a:lnTo>
                <a:lnTo>
                  <a:pt x="1181" y="64"/>
                </a:lnTo>
                <a:lnTo>
                  <a:pt x="1181" y="68"/>
                </a:lnTo>
                <a:lnTo>
                  <a:pt x="1182" y="70"/>
                </a:lnTo>
                <a:lnTo>
                  <a:pt x="1181" y="73"/>
                </a:lnTo>
                <a:lnTo>
                  <a:pt x="1181" y="77"/>
                </a:lnTo>
                <a:lnTo>
                  <a:pt x="1179" y="79"/>
                </a:lnTo>
                <a:lnTo>
                  <a:pt x="1177" y="83"/>
                </a:lnTo>
                <a:lnTo>
                  <a:pt x="1175" y="85"/>
                </a:lnTo>
                <a:lnTo>
                  <a:pt x="1171" y="89"/>
                </a:lnTo>
                <a:lnTo>
                  <a:pt x="1167" y="91"/>
                </a:lnTo>
                <a:lnTo>
                  <a:pt x="1163" y="94"/>
                </a:lnTo>
                <a:lnTo>
                  <a:pt x="1158" y="96"/>
                </a:lnTo>
                <a:lnTo>
                  <a:pt x="1154" y="100"/>
                </a:lnTo>
                <a:lnTo>
                  <a:pt x="1146" y="102"/>
                </a:lnTo>
                <a:lnTo>
                  <a:pt x="1140" y="104"/>
                </a:lnTo>
                <a:lnTo>
                  <a:pt x="1133" y="106"/>
                </a:lnTo>
                <a:lnTo>
                  <a:pt x="1125" y="110"/>
                </a:lnTo>
                <a:lnTo>
                  <a:pt x="1117" y="112"/>
                </a:lnTo>
                <a:lnTo>
                  <a:pt x="1110" y="114"/>
                </a:lnTo>
                <a:lnTo>
                  <a:pt x="1100" y="116"/>
                </a:lnTo>
                <a:lnTo>
                  <a:pt x="1090" y="118"/>
                </a:lnTo>
                <a:lnTo>
                  <a:pt x="1081" y="119"/>
                </a:lnTo>
                <a:lnTo>
                  <a:pt x="1069" y="121"/>
                </a:lnTo>
                <a:lnTo>
                  <a:pt x="1058" y="123"/>
                </a:lnTo>
                <a:lnTo>
                  <a:pt x="1046" y="125"/>
                </a:lnTo>
                <a:lnTo>
                  <a:pt x="1035" y="127"/>
                </a:lnTo>
                <a:lnTo>
                  <a:pt x="1023" y="129"/>
                </a:lnTo>
                <a:lnTo>
                  <a:pt x="996" y="131"/>
                </a:lnTo>
                <a:lnTo>
                  <a:pt x="967" y="135"/>
                </a:lnTo>
                <a:lnTo>
                  <a:pt x="937" y="137"/>
                </a:lnTo>
                <a:lnTo>
                  <a:pt x="873" y="146"/>
                </a:lnTo>
                <a:lnTo>
                  <a:pt x="810" y="158"/>
                </a:lnTo>
                <a:lnTo>
                  <a:pt x="745" y="169"/>
                </a:lnTo>
                <a:lnTo>
                  <a:pt x="680" y="183"/>
                </a:lnTo>
                <a:lnTo>
                  <a:pt x="614" y="196"/>
                </a:lnTo>
                <a:lnTo>
                  <a:pt x="549" y="212"/>
                </a:lnTo>
                <a:lnTo>
                  <a:pt x="486" y="229"/>
                </a:lnTo>
                <a:lnTo>
                  <a:pt x="422" y="246"/>
                </a:lnTo>
                <a:lnTo>
                  <a:pt x="392" y="256"/>
                </a:lnTo>
                <a:lnTo>
                  <a:pt x="363" y="263"/>
                </a:lnTo>
                <a:lnTo>
                  <a:pt x="336" y="271"/>
                </a:lnTo>
                <a:lnTo>
                  <a:pt x="311" y="279"/>
                </a:lnTo>
                <a:lnTo>
                  <a:pt x="286" y="285"/>
                </a:lnTo>
                <a:lnTo>
                  <a:pt x="263" y="292"/>
                </a:lnTo>
                <a:lnTo>
                  <a:pt x="244" y="296"/>
                </a:lnTo>
                <a:lnTo>
                  <a:pt x="225" y="302"/>
                </a:lnTo>
                <a:lnTo>
                  <a:pt x="207" y="306"/>
                </a:lnTo>
                <a:lnTo>
                  <a:pt x="192" y="309"/>
                </a:lnTo>
                <a:lnTo>
                  <a:pt x="179" y="313"/>
                </a:lnTo>
                <a:lnTo>
                  <a:pt x="173" y="313"/>
                </a:lnTo>
                <a:lnTo>
                  <a:pt x="167" y="315"/>
                </a:lnTo>
                <a:lnTo>
                  <a:pt x="161" y="315"/>
                </a:lnTo>
                <a:lnTo>
                  <a:pt x="157" y="317"/>
                </a:lnTo>
                <a:lnTo>
                  <a:pt x="154" y="317"/>
                </a:lnTo>
                <a:lnTo>
                  <a:pt x="150" y="319"/>
                </a:lnTo>
                <a:lnTo>
                  <a:pt x="146" y="319"/>
                </a:lnTo>
                <a:lnTo>
                  <a:pt x="144" y="319"/>
                </a:lnTo>
                <a:lnTo>
                  <a:pt x="142" y="319"/>
                </a:lnTo>
                <a:lnTo>
                  <a:pt x="140" y="319"/>
                </a:lnTo>
                <a:lnTo>
                  <a:pt x="138" y="319"/>
                </a:lnTo>
                <a:lnTo>
                  <a:pt x="134" y="319"/>
                </a:lnTo>
                <a:lnTo>
                  <a:pt x="129" y="317"/>
                </a:lnTo>
                <a:lnTo>
                  <a:pt x="123" y="315"/>
                </a:lnTo>
                <a:lnTo>
                  <a:pt x="117" y="313"/>
                </a:lnTo>
                <a:lnTo>
                  <a:pt x="110" y="309"/>
                </a:lnTo>
                <a:lnTo>
                  <a:pt x="102" y="306"/>
                </a:lnTo>
                <a:lnTo>
                  <a:pt x="94" y="302"/>
                </a:lnTo>
                <a:lnTo>
                  <a:pt x="85" y="296"/>
                </a:lnTo>
                <a:lnTo>
                  <a:pt x="75" y="290"/>
                </a:lnTo>
                <a:lnTo>
                  <a:pt x="63" y="285"/>
                </a:lnTo>
                <a:lnTo>
                  <a:pt x="52" y="279"/>
                </a:lnTo>
                <a:lnTo>
                  <a:pt x="40" y="271"/>
                </a:lnTo>
                <a:lnTo>
                  <a:pt x="27" y="263"/>
                </a:lnTo>
                <a:lnTo>
                  <a:pt x="14" y="256"/>
                </a:lnTo>
                <a:lnTo>
                  <a:pt x="0" y="246"/>
                </a:lnTo>
                <a:lnTo>
                  <a:pt x="35" y="238"/>
                </a:lnTo>
                <a:lnTo>
                  <a:pt x="67" y="229"/>
                </a:lnTo>
                <a:lnTo>
                  <a:pt x="102" y="221"/>
                </a:lnTo>
                <a:lnTo>
                  <a:pt x="134" y="214"/>
                </a:lnTo>
                <a:lnTo>
                  <a:pt x="167" y="204"/>
                </a:lnTo>
                <a:lnTo>
                  <a:pt x="200" y="196"/>
                </a:lnTo>
                <a:lnTo>
                  <a:pt x="230" y="189"/>
                </a:lnTo>
                <a:lnTo>
                  <a:pt x="261" y="181"/>
                </a:lnTo>
                <a:lnTo>
                  <a:pt x="292" y="175"/>
                </a:lnTo>
                <a:lnTo>
                  <a:pt x="321" y="167"/>
                </a:lnTo>
                <a:lnTo>
                  <a:pt x="351" y="160"/>
                </a:lnTo>
                <a:lnTo>
                  <a:pt x="380" y="154"/>
                </a:lnTo>
                <a:lnTo>
                  <a:pt x="409" y="146"/>
                </a:lnTo>
                <a:lnTo>
                  <a:pt x="436" y="141"/>
                </a:lnTo>
                <a:lnTo>
                  <a:pt x="463" y="135"/>
                </a:lnTo>
                <a:lnTo>
                  <a:pt x="490" y="127"/>
                </a:lnTo>
                <a:lnTo>
                  <a:pt x="516" y="121"/>
                </a:lnTo>
                <a:lnTo>
                  <a:pt x="541" y="116"/>
                </a:lnTo>
                <a:lnTo>
                  <a:pt x="566" y="110"/>
                </a:lnTo>
                <a:lnTo>
                  <a:pt x="591" y="104"/>
                </a:lnTo>
                <a:lnTo>
                  <a:pt x="616" y="98"/>
                </a:lnTo>
                <a:lnTo>
                  <a:pt x="639" y="94"/>
                </a:lnTo>
                <a:lnTo>
                  <a:pt x="662" y="89"/>
                </a:lnTo>
                <a:lnTo>
                  <a:pt x="683" y="83"/>
                </a:lnTo>
                <a:lnTo>
                  <a:pt x="706" y="79"/>
                </a:lnTo>
                <a:lnTo>
                  <a:pt x="728" y="75"/>
                </a:lnTo>
                <a:lnTo>
                  <a:pt x="749" y="70"/>
                </a:lnTo>
                <a:lnTo>
                  <a:pt x="768" y="66"/>
                </a:lnTo>
                <a:lnTo>
                  <a:pt x="789" y="62"/>
                </a:lnTo>
                <a:lnTo>
                  <a:pt x="808" y="58"/>
                </a:lnTo>
                <a:lnTo>
                  <a:pt x="827" y="54"/>
                </a:lnTo>
                <a:lnTo>
                  <a:pt x="845" y="50"/>
                </a:lnTo>
                <a:lnTo>
                  <a:pt x="862" y="47"/>
                </a:lnTo>
                <a:lnTo>
                  <a:pt x="879" y="43"/>
                </a:lnTo>
                <a:lnTo>
                  <a:pt x="896" y="39"/>
                </a:lnTo>
                <a:lnTo>
                  <a:pt x="912" y="37"/>
                </a:lnTo>
                <a:lnTo>
                  <a:pt x="927" y="33"/>
                </a:lnTo>
                <a:lnTo>
                  <a:pt x="943" y="31"/>
                </a:lnTo>
                <a:lnTo>
                  <a:pt x="958" y="27"/>
                </a:lnTo>
                <a:lnTo>
                  <a:pt x="971" y="25"/>
                </a:lnTo>
                <a:lnTo>
                  <a:pt x="985" y="22"/>
                </a:lnTo>
                <a:lnTo>
                  <a:pt x="996" y="20"/>
                </a:lnTo>
                <a:lnTo>
                  <a:pt x="1010" y="18"/>
                </a:lnTo>
                <a:lnTo>
                  <a:pt x="1021" y="16"/>
                </a:lnTo>
                <a:lnTo>
                  <a:pt x="1033" y="14"/>
                </a:lnTo>
                <a:lnTo>
                  <a:pt x="1042" y="12"/>
                </a:lnTo>
                <a:lnTo>
                  <a:pt x="1054" y="10"/>
                </a:lnTo>
                <a:lnTo>
                  <a:pt x="1063" y="8"/>
                </a:lnTo>
                <a:lnTo>
                  <a:pt x="1071" y="8"/>
                </a:lnTo>
                <a:lnTo>
                  <a:pt x="1081" y="6"/>
                </a:lnTo>
                <a:lnTo>
                  <a:pt x="1088" y="6"/>
                </a:lnTo>
                <a:lnTo>
                  <a:pt x="1096" y="4"/>
                </a:lnTo>
                <a:lnTo>
                  <a:pt x="1102" y="4"/>
                </a:lnTo>
                <a:lnTo>
                  <a:pt x="1110" y="2"/>
                </a:lnTo>
                <a:lnTo>
                  <a:pt x="1115" y="2"/>
                </a:lnTo>
                <a:lnTo>
                  <a:pt x="1119" y="2"/>
                </a:lnTo>
                <a:lnTo>
                  <a:pt x="1125" y="0"/>
                </a:lnTo>
                <a:lnTo>
                  <a:pt x="1129" y="0"/>
                </a:lnTo>
                <a:lnTo>
                  <a:pt x="1133" y="0"/>
                </a:lnTo>
                <a:lnTo>
                  <a:pt x="1134" y="0"/>
                </a:lnTo>
                <a:lnTo>
                  <a:pt x="1138" y="0"/>
                </a:lnTo>
                <a:lnTo>
                  <a:pt x="1140" y="0"/>
                </a:lnTo>
                <a:lnTo>
                  <a:pt x="1140" y="2"/>
                </a:lnTo>
                <a:lnTo>
                  <a:pt x="1142" y="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100"/>
          <p:cNvSpPr/>
          <p:nvPr/>
        </p:nvSpPr>
        <p:spPr>
          <a:xfrm>
            <a:off x="6143760" y="3522600"/>
            <a:ext cx="1482480" cy="320760"/>
          </a:xfrm>
          <a:custGeom>
            <a:avLst/>
            <a:gdLst/>
            <a:ahLst/>
            <a:rect l="l" t="t" r="r" b="b"/>
            <a:pathLst>
              <a:path w="1867" h="405">
                <a:moveTo>
                  <a:pt x="1863" y="109"/>
                </a:moveTo>
                <a:lnTo>
                  <a:pt x="1859" y="111"/>
                </a:lnTo>
                <a:lnTo>
                  <a:pt x="1858" y="113"/>
                </a:lnTo>
                <a:lnTo>
                  <a:pt x="1852" y="117"/>
                </a:lnTo>
                <a:lnTo>
                  <a:pt x="1848" y="119"/>
                </a:lnTo>
                <a:lnTo>
                  <a:pt x="1842" y="121"/>
                </a:lnTo>
                <a:lnTo>
                  <a:pt x="1836" y="123"/>
                </a:lnTo>
                <a:lnTo>
                  <a:pt x="1829" y="124"/>
                </a:lnTo>
                <a:lnTo>
                  <a:pt x="1821" y="126"/>
                </a:lnTo>
                <a:lnTo>
                  <a:pt x="1812" y="128"/>
                </a:lnTo>
                <a:lnTo>
                  <a:pt x="1802" y="128"/>
                </a:lnTo>
                <a:lnTo>
                  <a:pt x="1790" y="130"/>
                </a:lnTo>
                <a:lnTo>
                  <a:pt x="1779" y="132"/>
                </a:lnTo>
                <a:lnTo>
                  <a:pt x="1767" y="132"/>
                </a:lnTo>
                <a:lnTo>
                  <a:pt x="1752" y="132"/>
                </a:lnTo>
                <a:lnTo>
                  <a:pt x="1737" y="134"/>
                </a:lnTo>
                <a:lnTo>
                  <a:pt x="1721" y="134"/>
                </a:lnTo>
                <a:lnTo>
                  <a:pt x="1712" y="134"/>
                </a:lnTo>
                <a:lnTo>
                  <a:pt x="1704" y="134"/>
                </a:lnTo>
                <a:lnTo>
                  <a:pt x="1693" y="134"/>
                </a:lnTo>
                <a:lnTo>
                  <a:pt x="1683" y="134"/>
                </a:lnTo>
                <a:lnTo>
                  <a:pt x="1671" y="136"/>
                </a:lnTo>
                <a:lnTo>
                  <a:pt x="1660" y="136"/>
                </a:lnTo>
                <a:lnTo>
                  <a:pt x="1648" y="138"/>
                </a:lnTo>
                <a:lnTo>
                  <a:pt x="1635" y="138"/>
                </a:lnTo>
                <a:lnTo>
                  <a:pt x="1621" y="140"/>
                </a:lnTo>
                <a:lnTo>
                  <a:pt x="1606" y="140"/>
                </a:lnTo>
                <a:lnTo>
                  <a:pt x="1593" y="142"/>
                </a:lnTo>
                <a:lnTo>
                  <a:pt x="1575" y="144"/>
                </a:lnTo>
                <a:lnTo>
                  <a:pt x="1560" y="146"/>
                </a:lnTo>
                <a:lnTo>
                  <a:pt x="1543" y="148"/>
                </a:lnTo>
                <a:lnTo>
                  <a:pt x="1526" y="149"/>
                </a:lnTo>
                <a:lnTo>
                  <a:pt x="1508" y="151"/>
                </a:lnTo>
                <a:lnTo>
                  <a:pt x="1489" y="153"/>
                </a:lnTo>
                <a:lnTo>
                  <a:pt x="1470" y="157"/>
                </a:lnTo>
                <a:lnTo>
                  <a:pt x="1451" y="159"/>
                </a:lnTo>
                <a:lnTo>
                  <a:pt x="1430" y="161"/>
                </a:lnTo>
                <a:lnTo>
                  <a:pt x="1408" y="165"/>
                </a:lnTo>
                <a:lnTo>
                  <a:pt x="1385" y="167"/>
                </a:lnTo>
                <a:lnTo>
                  <a:pt x="1364" y="171"/>
                </a:lnTo>
                <a:lnTo>
                  <a:pt x="1339" y="174"/>
                </a:lnTo>
                <a:lnTo>
                  <a:pt x="1316" y="178"/>
                </a:lnTo>
                <a:lnTo>
                  <a:pt x="1291" y="182"/>
                </a:lnTo>
                <a:lnTo>
                  <a:pt x="1266" y="186"/>
                </a:lnTo>
                <a:lnTo>
                  <a:pt x="1241" y="190"/>
                </a:lnTo>
                <a:lnTo>
                  <a:pt x="1215" y="194"/>
                </a:lnTo>
                <a:lnTo>
                  <a:pt x="1188" y="197"/>
                </a:lnTo>
                <a:lnTo>
                  <a:pt x="1159" y="201"/>
                </a:lnTo>
                <a:lnTo>
                  <a:pt x="1130" y="207"/>
                </a:lnTo>
                <a:lnTo>
                  <a:pt x="1074" y="217"/>
                </a:lnTo>
                <a:lnTo>
                  <a:pt x="1019" y="224"/>
                </a:lnTo>
                <a:lnTo>
                  <a:pt x="965" y="234"/>
                </a:lnTo>
                <a:lnTo>
                  <a:pt x="913" y="243"/>
                </a:lnTo>
                <a:lnTo>
                  <a:pt x="865" y="253"/>
                </a:lnTo>
                <a:lnTo>
                  <a:pt x="817" y="261"/>
                </a:lnTo>
                <a:lnTo>
                  <a:pt x="771" y="270"/>
                </a:lnTo>
                <a:lnTo>
                  <a:pt x="727" y="278"/>
                </a:lnTo>
                <a:lnTo>
                  <a:pt x="683" y="288"/>
                </a:lnTo>
                <a:lnTo>
                  <a:pt x="643" y="295"/>
                </a:lnTo>
                <a:lnTo>
                  <a:pt x="604" y="303"/>
                </a:lnTo>
                <a:lnTo>
                  <a:pt x="568" y="311"/>
                </a:lnTo>
                <a:lnTo>
                  <a:pt x="531" y="318"/>
                </a:lnTo>
                <a:lnTo>
                  <a:pt x="499" y="326"/>
                </a:lnTo>
                <a:lnTo>
                  <a:pt x="468" y="334"/>
                </a:lnTo>
                <a:lnTo>
                  <a:pt x="437" y="341"/>
                </a:lnTo>
                <a:lnTo>
                  <a:pt x="406" y="347"/>
                </a:lnTo>
                <a:lnTo>
                  <a:pt x="378" y="355"/>
                </a:lnTo>
                <a:lnTo>
                  <a:pt x="351" y="361"/>
                </a:lnTo>
                <a:lnTo>
                  <a:pt x="326" y="366"/>
                </a:lnTo>
                <a:lnTo>
                  <a:pt x="303" y="372"/>
                </a:lnTo>
                <a:lnTo>
                  <a:pt x="282" y="376"/>
                </a:lnTo>
                <a:lnTo>
                  <a:pt x="261" y="382"/>
                </a:lnTo>
                <a:lnTo>
                  <a:pt x="241" y="386"/>
                </a:lnTo>
                <a:lnTo>
                  <a:pt x="224" y="389"/>
                </a:lnTo>
                <a:lnTo>
                  <a:pt x="209" y="393"/>
                </a:lnTo>
                <a:lnTo>
                  <a:pt x="193" y="395"/>
                </a:lnTo>
                <a:lnTo>
                  <a:pt x="182" y="397"/>
                </a:lnTo>
                <a:lnTo>
                  <a:pt x="168" y="399"/>
                </a:lnTo>
                <a:lnTo>
                  <a:pt x="159" y="401"/>
                </a:lnTo>
                <a:lnTo>
                  <a:pt x="149" y="401"/>
                </a:lnTo>
                <a:lnTo>
                  <a:pt x="142" y="403"/>
                </a:lnTo>
                <a:lnTo>
                  <a:pt x="136" y="403"/>
                </a:lnTo>
                <a:lnTo>
                  <a:pt x="128" y="405"/>
                </a:lnTo>
                <a:lnTo>
                  <a:pt x="120" y="405"/>
                </a:lnTo>
                <a:lnTo>
                  <a:pt x="113" y="405"/>
                </a:lnTo>
                <a:lnTo>
                  <a:pt x="105" y="403"/>
                </a:lnTo>
                <a:lnTo>
                  <a:pt x="99" y="401"/>
                </a:lnTo>
                <a:lnTo>
                  <a:pt x="92" y="399"/>
                </a:lnTo>
                <a:lnTo>
                  <a:pt x="84" y="395"/>
                </a:lnTo>
                <a:lnTo>
                  <a:pt x="76" y="391"/>
                </a:lnTo>
                <a:lnTo>
                  <a:pt x="69" y="387"/>
                </a:lnTo>
                <a:lnTo>
                  <a:pt x="63" y="384"/>
                </a:lnTo>
                <a:lnTo>
                  <a:pt x="55" y="378"/>
                </a:lnTo>
                <a:lnTo>
                  <a:pt x="40" y="366"/>
                </a:lnTo>
                <a:lnTo>
                  <a:pt x="26" y="353"/>
                </a:lnTo>
                <a:lnTo>
                  <a:pt x="21" y="347"/>
                </a:lnTo>
                <a:lnTo>
                  <a:pt x="13" y="339"/>
                </a:lnTo>
                <a:lnTo>
                  <a:pt x="9" y="336"/>
                </a:lnTo>
                <a:lnTo>
                  <a:pt x="5" y="330"/>
                </a:lnTo>
                <a:lnTo>
                  <a:pt x="1" y="326"/>
                </a:lnTo>
                <a:lnTo>
                  <a:pt x="0" y="320"/>
                </a:lnTo>
                <a:lnTo>
                  <a:pt x="0" y="318"/>
                </a:lnTo>
                <a:lnTo>
                  <a:pt x="0" y="315"/>
                </a:lnTo>
                <a:lnTo>
                  <a:pt x="0" y="313"/>
                </a:lnTo>
                <a:lnTo>
                  <a:pt x="3" y="311"/>
                </a:lnTo>
                <a:lnTo>
                  <a:pt x="5" y="309"/>
                </a:lnTo>
                <a:lnTo>
                  <a:pt x="11" y="307"/>
                </a:lnTo>
                <a:lnTo>
                  <a:pt x="17" y="305"/>
                </a:lnTo>
                <a:lnTo>
                  <a:pt x="23" y="305"/>
                </a:lnTo>
                <a:lnTo>
                  <a:pt x="30" y="305"/>
                </a:lnTo>
                <a:lnTo>
                  <a:pt x="40" y="305"/>
                </a:lnTo>
                <a:lnTo>
                  <a:pt x="44" y="303"/>
                </a:lnTo>
                <a:lnTo>
                  <a:pt x="49" y="303"/>
                </a:lnTo>
                <a:lnTo>
                  <a:pt x="57" y="303"/>
                </a:lnTo>
                <a:lnTo>
                  <a:pt x="65" y="301"/>
                </a:lnTo>
                <a:lnTo>
                  <a:pt x="74" y="301"/>
                </a:lnTo>
                <a:lnTo>
                  <a:pt x="86" y="299"/>
                </a:lnTo>
                <a:lnTo>
                  <a:pt x="97" y="297"/>
                </a:lnTo>
                <a:lnTo>
                  <a:pt x="111" y="295"/>
                </a:lnTo>
                <a:lnTo>
                  <a:pt x="126" y="293"/>
                </a:lnTo>
                <a:lnTo>
                  <a:pt x="144" y="290"/>
                </a:lnTo>
                <a:lnTo>
                  <a:pt x="161" y="288"/>
                </a:lnTo>
                <a:lnTo>
                  <a:pt x="180" y="284"/>
                </a:lnTo>
                <a:lnTo>
                  <a:pt x="199" y="280"/>
                </a:lnTo>
                <a:lnTo>
                  <a:pt x="222" y="276"/>
                </a:lnTo>
                <a:lnTo>
                  <a:pt x="245" y="272"/>
                </a:lnTo>
                <a:lnTo>
                  <a:pt x="268" y="267"/>
                </a:lnTo>
                <a:lnTo>
                  <a:pt x="295" y="263"/>
                </a:lnTo>
                <a:lnTo>
                  <a:pt x="322" y="257"/>
                </a:lnTo>
                <a:lnTo>
                  <a:pt x="351" y="251"/>
                </a:lnTo>
                <a:lnTo>
                  <a:pt x="380" y="245"/>
                </a:lnTo>
                <a:lnTo>
                  <a:pt x="410" y="238"/>
                </a:lnTo>
                <a:lnTo>
                  <a:pt x="443" y="232"/>
                </a:lnTo>
                <a:lnTo>
                  <a:pt x="476" y="224"/>
                </a:lnTo>
                <a:lnTo>
                  <a:pt x="510" y="217"/>
                </a:lnTo>
                <a:lnTo>
                  <a:pt x="547" y="209"/>
                </a:lnTo>
                <a:lnTo>
                  <a:pt x="585" y="201"/>
                </a:lnTo>
                <a:lnTo>
                  <a:pt x="623" y="194"/>
                </a:lnTo>
                <a:lnTo>
                  <a:pt x="664" y="184"/>
                </a:lnTo>
                <a:lnTo>
                  <a:pt x="704" y="176"/>
                </a:lnTo>
                <a:lnTo>
                  <a:pt x="746" y="167"/>
                </a:lnTo>
                <a:lnTo>
                  <a:pt x="790" y="155"/>
                </a:lnTo>
                <a:lnTo>
                  <a:pt x="836" y="146"/>
                </a:lnTo>
                <a:lnTo>
                  <a:pt x="881" y="136"/>
                </a:lnTo>
                <a:lnTo>
                  <a:pt x="925" y="128"/>
                </a:lnTo>
                <a:lnTo>
                  <a:pt x="967" y="119"/>
                </a:lnTo>
                <a:lnTo>
                  <a:pt x="1009" y="111"/>
                </a:lnTo>
                <a:lnTo>
                  <a:pt x="1049" y="103"/>
                </a:lnTo>
                <a:lnTo>
                  <a:pt x="1088" y="96"/>
                </a:lnTo>
                <a:lnTo>
                  <a:pt x="1126" y="88"/>
                </a:lnTo>
                <a:lnTo>
                  <a:pt x="1163" y="80"/>
                </a:lnTo>
                <a:lnTo>
                  <a:pt x="1197" y="75"/>
                </a:lnTo>
                <a:lnTo>
                  <a:pt x="1232" y="67"/>
                </a:lnTo>
                <a:lnTo>
                  <a:pt x="1264" y="61"/>
                </a:lnTo>
                <a:lnTo>
                  <a:pt x="1297" y="55"/>
                </a:lnTo>
                <a:lnTo>
                  <a:pt x="1328" y="50"/>
                </a:lnTo>
                <a:lnTo>
                  <a:pt x="1357" y="46"/>
                </a:lnTo>
                <a:lnTo>
                  <a:pt x="1385" y="40"/>
                </a:lnTo>
                <a:lnTo>
                  <a:pt x="1412" y="34"/>
                </a:lnTo>
                <a:lnTo>
                  <a:pt x="1437" y="30"/>
                </a:lnTo>
                <a:lnTo>
                  <a:pt x="1462" y="27"/>
                </a:lnTo>
                <a:lnTo>
                  <a:pt x="1485" y="23"/>
                </a:lnTo>
                <a:lnTo>
                  <a:pt x="1506" y="19"/>
                </a:lnTo>
                <a:lnTo>
                  <a:pt x="1527" y="17"/>
                </a:lnTo>
                <a:lnTo>
                  <a:pt x="1547" y="13"/>
                </a:lnTo>
                <a:lnTo>
                  <a:pt x="1564" y="11"/>
                </a:lnTo>
                <a:lnTo>
                  <a:pt x="1581" y="7"/>
                </a:lnTo>
                <a:lnTo>
                  <a:pt x="1597" y="5"/>
                </a:lnTo>
                <a:lnTo>
                  <a:pt x="1610" y="4"/>
                </a:lnTo>
                <a:lnTo>
                  <a:pt x="1623" y="4"/>
                </a:lnTo>
                <a:lnTo>
                  <a:pt x="1635" y="2"/>
                </a:lnTo>
                <a:lnTo>
                  <a:pt x="1646" y="0"/>
                </a:lnTo>
                <a:lnTo>
                  <a:pt x="1656" y="0"/>
                </a:lnTo>
                <a:lnTo>
                  <a:pt x="1664" y="0"/>
                </a:lnTo>
                <a:lnTo>
                  <a:pt x="1669" y="0"/>
                </a:lnTo>
                <a:lnTo>
                  <a:pt x="1694" y="0"/>
                </a:lnTo>
                <a:lnTo>
                  <a:pt x="1716" y="2"/>
                </a:lnTo>
                <a:lnTo>
                  <a:pt x="1737" y="4"/>
                </a:lnTo>
                <a:lnTo>
                  <a:pt x="1756" y="7"/>
                </a:lnTo>
                <a:lnTo>
                  <a:pt x="1775" y="13"/>
                </a:lnTo>
                <a:lnTo>
                  <a:pt x="1792" y="19"/>
                </a:lnTo>
                <a:lnTo>
                  <a:pt x="1810" y="27"/>
                </a:lnTo>
                <a:lnTo>
                  <a:pt x="1825" y="36"/>
                </a:lnTo>
                <a:lnTo>
                  <a:pt x="1831" y="40"/>
                </a:lnTo>
                <a:lnTo>
                  <a:pt x="1836" y="46"/>
                </a:lnTo>
                <a:lnTo>
                  <a:pt x="1842" y="50"/>
                </a:lnTo>
                <a:lnTo>
                  <a:pt x="1848" y="53"/>
                </a:lnTo>
                <a:lnTo>
                  <a:pt x="1852" y="59"/>
                </a:lnTo>
                <a:lnTo>
                  <a:pt x="1856" y="63"/>
                </a:lnTo>
                <a:lnTo>
                  <a:pt x="1859" y="69"/>
                </a:lnTo>
                <a:lnTo>
                  <a:pt x="1863" y="73"/>
                </a:lnTo>
                <a:lnTo>
                  <a:pt x="1865" y="76"/>
                </a:lnTo>
                <a:lnTo>
                  <a:pt x="1865" y="82"/>
                </a:lnTo>
                <a:lnTo>
                  <a:pt x="1867" y="86"/>
                </a:lnTo>
                <a:lnTo>
                  <a:pt x="1867" y="90"/>
                </a:lnTo>
                <a:lnTo>
                  <a:pt x="1867" y="96"/>
                </a:lnTo>
                <a:lnTo>
                  <a:pt x="1867" y="100"/>
                </a:lnTo>
                <a:lnTo>
                  <a:pt x="1865" y="105"/>
                </a:lnTo>
                <a:lnTo>
                  <a:pt x="1863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01"/>
          <p:cNvSpPr/>
          <p:nvPr/>
        </p:nvSpPr>
        <p:spPr>
          <a:xfrm>
            <a:off x="6278400" y="3300480"/>
            <a:ext cx="1028880" cy="57132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1246" y="219"/>
                </a:moveTo>
                <a:lnTo>
                  <a:pt x="1242" y="221"/>
                </a:lnTo>
                <a:lnTo>
                  <a:pt x="1239" y="223"/>
                </a:lnTo>
                <a:lnTo>
                  <a:pt x="1235" y="227"/>
                </a:lnTo>
                <a:lnTo>
                  <a:pt x="1231" y="231"/>
                </a:lnTo>
                <a:lnTo>
                  <a:pt x="1227" y="237"/>
                </a:lnTo>
                <a:lnTo>
                  <a:pt x="1221" y="242"/>
                </a:lnTo>
                <a:lnTo>
                  <a:pt x="1217" y="248"/>
                </a:lnTo>
                <a:lnTo>
                  <a:pt x="1214" y="256"/>
                </a:lnTo>
                <a:lnTo>
                  <a:pt x="1210" y="265"/>
                </a:lnTo>
                <a:lnTo>
                  <a:pt x="1206" y="275"/>
                </a:lnTo>
                <a:lnTo>
                  <a:pt x="1200" y="285"/>
                </a:lnTo>
                <a:lnTo>
                  <a:pt x="1196" y="296"/>
                </a:lnTo>
                <a:lnTo>
                  <a:pt x="1192" y="308"/>
                </a:lnTo>
                <a:lnTo>
                  <a:pt x="1187" y="321"/>
                </a:lnTo>
                <a:lnTo>
                  <a:pt x="1183" y="336"/>
                </a:lnTo>
                <a:lnTo>
                  <a:pt x="1177" y="350"/>
                </a:lnTo>
                <a:lnTo>
                  <a:pt x="1173" y="367"/>
                </a:lnTo>
                <a:lnTo>
                  <a:pt x="1167" y="382"/>
                </a:lnTo>
                <a:lnTo>
                  <a:pt x="1162" y="402"/>
                </a:lnTo>
                <a:lnTo>
                  <a:pt x="1158" y="419"/>
                </a:lnTo>
                <a:lnTo>
                  <a:pt x="1152" y="440"/>
                </a:lnTo>
                <a:lnTo>
                  <a:pt x="1146" y="459"/>
                </a:lnTo>
                <a:lnTo>
                  <a:pt x="1143" y="482"/>
                </a:lnTo>
                <a:lnTo>
                  <a:pt x="1137" y="503"/>
                </a:lnTo>
                <a:lnTo>
                  <a:pt x="1131" y="528"/>
                </a:lnTo>
                <a:lnTo>
                  <a:pt x="1125" y="551"/>
                </a:lnTo>
                <a:lnTo>
                  <a:pt x="1120" y="578"/>
                </a:lnTo>
                <a:lnTo>
                  <a:pt x="1114" y="603"/>
                </a:lnTo>
                <a:lnTo>
                  <a:pt x="1108" y="632"/>
                </a:lnTo>
                <a:lnTo>
                  <a:pt x="1102" y="659"/>
                </a:lnTo>
                <a:lnTo>
                  <a:pt x="1096" y="690"/>
                </a:lnTo>
                <a:lnTo>
                  <a:pt x="1091" y="720"/>
                </a:lnTo>
                <a:lnTo>
                  <a:pt x="1041" y="720"/>
                </a:lnTo>
                <a:lnTo>
                  <a:pt x="989" y="720"/>
                </a:lnTo>
                <a:lnTo>
                  <a:pt x="991" y="688"/>
                </a:lnTo>
                <a:lnTo>
                  <a:pt x="993" y="655"/>
                </a:lnTo>
                <a:lnTo>
                  <a:pt x="995" y="624"/>
                </a:lnTo>
                <a:lnTo>
                  <a:pt x="997" y="596"/>
                </a:lnTo>
                <a:lnTo>
                  <a:pt x="999" y="567"/>
                </a:lnTo>
                <a:lnTo>
                  <a:pt x="1000" y="538"/>
                </a:lnTo>
                <a:lnTo>
                  <a:pt x="1002" y="511"/>
                </a:lnTo>
                <a:lnTo>
                  <a:pt x="1004" y="486"/>
                </a:lnTo>
                <a:lnTo>
                  <a:pt x="1006" y="461"/>
                </a:lnTo>
                <a:lnTo>
                  <a:pt x="1008" y="438"/>
                </a:lnTo>
                <a:lnTo>
                  <a:pt x="1010" y="415"/>
                </a:lnTo>
                <a:lnTo>
                  <a:pt x="1010" y="394"/>
                </a:lnTo>
                <a:lnTo>
                  <a:pt x="1012" y="373"/>
                </a:lnTo>
                <a:lnTo>
                  <a:pt x="1014" y="354"/>
                </a:lnTo>
                <a:lnTo>
                  <a:pt x="1014" y="334"/>
                </a:lnTo>
                <a:lnTo>
                  <a:pt x="1016" y="317"/>
                </a:lnTo>
                <a:lnTo>
                  <a:pt x="1016" y="300"/>
                </a:lnTo>
                <a:lnTo>
                  <a:pt x="1018" y="285"/>
                </a:lnTo>
                <a:lnTo>
                  <a:pt x="1018" y="269"/>
                </a:lnTo>
                <a:lnTo>
                  <a:pt x="1018" y="256"/>
                </a:lnTo>
                <a:lnTo>
                  <a:pt x="1018" y="244"/>
                </a:lnTo>
                <a:lnTo>
                  <a:pt x="1020" y="233"/>
                </a:lnTo>
                <a:lnTo>
                  <a:pt x="1020" y="221"/>
                </a:lnTo>
                <a:lnTo>
                  <a:pt x="1020" y="212"/>
                </a:lnTo>
                <a:lnTo>
                  <a:pt x="1020" y="204"/>
                </a:lnTo>
                <a:lnTo>
                  <a:pt x="1018" y="196"/>
                </a:lnTo>
                <a:lnTo>
                  <a:pt x="1018" y="189"/>
                </a:lnTo>
                <a:lnTo>
                  <a:pt x="1018" y="183"/>
                </a:lnTo>
                <a:lnTo>
                  <a:pt x="1018" y="179"/>
                </a:lnTo>
                <a:lnTo>
                  <a:pt x="1016" y="175"/>
                </a:lnTo>
                <a:lnTo>
                  <a:pt x="1016" y="173"/>
                </a:lnTo>
                <a:lnTo>
                  <a:pt x="1014" y="171"/>
                </a:lnTo>
                <a:lnTo>
                  <a:pt x="1008" y="167"/>
                </a:lnTo>
                <a:lnTo>
                  <a:pt x="1002" y="164"/>
                </a:lnTo>
                <a:lnTo>
                  <a:pt x="995" y="162"/>
                </a:lnTo>
                <a:lnTo>
                  <a:pt x="989" y="160"/>
                </a:lnTo>
                <a:lnTo>
                  <a:pt x="981" y="160"/>
                </a:lnTo>
                <a:lnTo>
                  <a:pt x="974" y="158"/>
                </a:lnTo>
                <a:lnTo>
                  <a:pt x="968" y="158"/>
                </a:lnTo>
                <a:lnTo>
                  <a:pt x="962" y="158"/>
                </a:lnTo>
                <a:lnTo>
                  <a:pt x="956" y="158"/>
                </a:lnTo>
                <a:lnTo>
                  <a:pt x="951" y="160"/>
                </a:lnTo>
                <a:lnTo>
                  <a:pt x="941" y="160"/>
                </a:lnTo>
                <a:lnTo>
                  <a:pt x="931" y="162"/>
                </a:lnTo>
                <a:lnTo>
                  <a:pt x="920" y="162"/>
                </a:lnTo>
                <a:lnTo>
                  <a:pt x="908" y="164"/>
                </a:lnTo>
                <a:lnTo>
                  <a:pt x="893" y="166"/>
                </a:lnTo>
                <a:lnTo>
                  <a:pt x="878" y="169"/>
                </a:lnTo>
                <a:lnTo>
                  <a:pt x="860" y="171"/>
                </a:lnTo>
                <a:lnTo>
                  <a:pt x="843" y="175"/>
                </a:lnTo>
                <a:lnTo>
                  <a:pt x="822" y="179"/>
                </a:lnTo>
                <a:lnTo>
                  <a:pt x="803" y="185"/>
                </a:lnTo>
                <a:lnTo>
                  <a:pt x="780" y="189"/>
                </a:lnTo>
                <a:lnTo>
                  <a:pt x="757" y="194"/>
                </a:lnTo>
                <a:lnTo>
                  <a:pt x="732" y="200"/>
                </a:lnTo>
                <a:lnTo>
                  <a:pt x="707" y="208"/>
                </a:lnTo>
                <a:lnTo>
                  <a:pt x="678" y="214"/>
                </a:lnTo>
                <a:lnTo>
                  <a:pt x="649" y="221"/>
                </a:lnTo>
                <a:lnTo>
                  <a:pt x="622" y="227"/>
                </a:lnTo>
                <a:lnTo>
                  <a:pt x="596" y="233"/>
                </a:lnTo>
                <a:lnTo>
                  <a:pt x="569" y="238"/>
                </a:lnTo>
                <a:lnTo>
                  <a:pt x="544" y="244"/>
                </a:lnTo>
                <a:lnTo>
                  <a:pt x="519" y="250"/>
                </a:lnTo>
                <a:lnTo>
                  <a:pt x="494" y="256"/>
                </a:lnTo>
                <a:lnTo>
                  <a:pt x="471" y="262"/>
                </a:lnTo>
                <a:lnTo>
                  <a:pt x="448" y="267"/>
                </a:lnTo>
                <a:lnTo>
                  <a:pt x="425" y="273"/>
                </a:lnTo>
                <a:lnTo>
                  <a:pt x="402" y="279"/>
                </a:lnTo>
                <a:lnTo>
                  <a:pt x="381" y="285"/>
                </a:lnTo>
                <a:lnTo>
                  <a:pt x="359" y="292"/>
                </a:lnTo>
                <a:lnTo>
                  <a:pt x="340" y="298"/>
                </a:lnTo>
                <a:lnTo>
                  <a:pt x="321" y="306"/>
                </a:lnTo>
                <a:lnTo>
                  <a:pt x="300" y="311"/>
                </a:lnTo>
                <a:lnTo>
                  <a:pt x="281" y="317"/>
                </a:lnTo>
                <a:lnTo>
                  <a:pt x="262" y="323"/>
                </a:lnTo>
                <a:lnTo>
                  <a:pt x="244" y="329"/>
                </a:lnTo>
                <a:lnTo>
                  <a:pt x="227" y="333"/>
                </a:lnTo>
                <a:lnTo>
                  <a:pt x="212" y="336"/>
                </a:lnTo>
                <a:lnTo>
                  <a:pt x="198" y="340"/>
                </a:lnTo>
                <a:lnTo>
                  <a:pt x="187" y="344"/>
                </a:lnTo>
                <a:lnTo>
                  <a:pt x="175" y="346"/>
                </a:lnTo>
                <a:lnTo>
                  <a:pt x="164" y="348"/>
                </a:lnTo>
                <a:lnTo>
                  <a:pt x="156" y="350"/>
                </a:lnTo>
                <a:lnTo>
                  <a:pt x="148" y="352"/>
                </a:lnTo>
                <a:lnTo>
                  <a:pt x="141" y="352"/>
                </a:lnTo>
                <a:lnTo>
                  <a:pt x="135" y="354"/>
                </a:lnTo>
                <a:lnTo>
                  <a:pt x="131" y="354"/>
                </a:lnTo>
                <a:lnTo>
                  <a:pt x="129" y="354"/>
                </a:lnTo>
                <a:lnTo>
                  <a:pt x="123" y="354"/>
                </a:lnTo>
                <a:lnTo>
                  <a:pt x="116" y="352"/>
                </a:lnTo>
                <a:lnTo>
                  <a:pt x="108" y="348"/>
                </a:lnTo>
                <a:lnTo>
                  <a:pt x="98" y="344"/>
                </a:lnTo>
                <a:lnTo>
                  <a:pt x="89" y="340"/>
                </a:lnTo>
                <a:lnTo>
                  <a:pt x="77" y="333"/>
                </a:lnTo>
                <a:lnTo>
                  <a:pt x="64" y="325"/>
                </a:lnTo>
                <a:lnTo>
                  <a:pt x="50" y="317"/>
                </a:lnTo>
                <a:lnTo>
                  <a:pt x="45" y="313"/>
                </a:lnTo>
                <a:lnTo>
                  <a:pt x="37" y="311"/>
                </a:lnTo>
                <a:lnTo>
                  <a:pt x="31" y="310"/>
                </a:lnTo>
                <a:lnTo>
                  <a:pt x="27" y="306"/>
                </a:lnTo>
                <a:lnTo>
                  <a:pt x="22" y="302"/>
                </a:lnTo>
                <a:lnTo>
                  <a:pt x="18" y="300"/>
                </a:lnTo>
                <a:lnTo>
                  <a:pt x="14" y="296"/>
                </a:lnTo>
                <a:lnTo>
                  <a:pt x="10" y="292"/>
                </a:lnTo>
                <a:lnTo>
                  <a:pt x="6" y="286"/>
                </a:lnTo>
                <a:lnTo>
                  <a:pt x="2" y="279"/>
                </a:lnTo>
                <a:lnTo>
                  <a:pt x="0" y="273"/>
                </a:lnTo>
                <a:lnTo>
                  <a:pt x="0" y="269"/>
                </a:lnTo>
                <a:lnTo>
                  <a:pt x="0" y="263"/>
                </a:lnTo>
                <a:lnTo>
                  <a:pt x="2" y="262"/>
                </a:lnTo>
                <a:lnTo>
                  <a:pt x="4" y="260"/>
                </a:lnTo>
                <a:lnTo>
                  <a:pt x="10" y="258"/>
                </a:lnTo>
                <a:lnTo>
                  <a:pt x="14" y="256"/>
                </a:lnTo>
                <a:lnTo>
                  <a:pt x="22" y="256"/>
                </a:lnTo>
                <a:lnTo>
                  <a:pt x="29" y="256"/>
                </a:lnTo>
                <a:lnTo>
                  <a:pt x="39" y="256"/>
                </a:lnTo>
                <a:lnTo>
                  <a:pt x="41" y="256"/>
                </a:lnTo>
                <a:lnTo>
                  <a:pt x="47" y="256"/>
                </a:lnTo>
                <a:lnTo>
                  <a:pt x="52" y="254"/>
                </a:lnTo>
                <a:lnTo>
                  <a:pt x="60" y="254"/>
                </a:lnTo>
                <a:lnTo>
                  <a:pt x="68" y="252"/>
                </a:lnTo>
                <a:lnTo>
                  <a:pt x="79" y="250"/>
                </a:lnTo>
                <a:lnTo>
                  <a:pt x="91" y="248"/>
                </a:lnTo>
                <a:lnTo>
                  <a:pt x="102" y="246"/>
                </a:lnTo>
                <a:lnTo>
                  <a:pt x="116" y="242"/>
                </a:lnTo>
                <a:lnTo>
                  <a:pt x="131" y="238"/>
                </a:lnTo>
                <a:lnTo>
                  <a:pt x="148" y="235"/>
                </a:lnTo>
                <a:lnTo>
                  <a:pt x="166" y="231"/>
                </a:lnTo>
                <a:lnTo>
                  <a:pt x="183" y="225"/>
                </a:lnTo>
                <a:lnTo>
                  <a:pt x="202" y="219"/>
                </a:lnTo>
                <a:lnTo>
                  <a:pt x="223" y="214"/>
                </a:lnTo>
                <a:lnTo>
                  <a:pt x="244" y="208"/>
                </a:lnTo>
                <a:lnTo>
                  <a:pt x="265" y="202"/>
                </a:lnTo>
                <a:lnTo>
                  <a:pt x="288" y="198"/>
                </a:lnTo>
                <a:lnTo>
                  <a:pt x="311" y="192"/>
                </a:lnTo>
                <a:lnTo>
                  <a:pt x="334" y="187"/>
                </a:lnTo>
                <a:lnTo>
                  <a:pt x="359" y="181"/>
                </a:lnTo>
                <a:lnTo>
                  <a:pt x="384" y="175"/>
                </a:lnTo>
                <a:lnTo>
                  <a:pt x="411" y="169"/>
                </a:lnTo>
                <a:lnTo>
                  <a:pt x="438" y="164"/>
                </a:lnTo>
                <a:lnTo>
                  <a:pt x="465" y="156"/>
                </a:lnTo>
                <a:lnTo>
                  <a:pt x="494" y="150"/>
                </a:lnTo>
                <a:lnTo>
                  <a:pt x="523" y="144"/>
                </a:lnTo>
                <a:lnTo>
                  <a:pt x="553" y="137"/>
                </a:lnTo>
                <a:lnTo>
                  <a:pt x="584" y="131"/>
                </a:lnTo>
                <a:lnTo>
                  <a:pt x="615" y="123"/>
                </a:lnTo>
                <a:lnTo>
                  <a:pt x="647" y="118"/>
                </a:lnTo>
                <a:lnTo>
                  <a:pt x="680" y="110"/>
                </a:lnTo>
                <a:lnTo>
                  <a:pt x="711" y="102"/>
                </a:lnTo>
                <a:lnTo>
                  <a:pt x="739" y="96"/>
                </a:lnTo>
                <a:lnTo>
                  <a:pt x="768" y="89"/>
                </a:lnTo>
                <a:lnTo>
                  <a:pt x="793" y="83"/>
                </a:lnTo>
                <a:lnTo>
                  <a:pt x="818" y="75"/>
                </a:lnTo>
                <a:lnTo>
                  <a:pt x="841" y="70"/>
                </a:lnTo>
                <a:lnTo>
                  <a:pt x="862" y="64"/>
                </a:lnTo>
                <a:lnTo>
                  <a:pt x="881" y="58"/>
                </a:lnTo>
                <a:lnTo>
                  <a:pt x="899" y="52"/>
                </a:lnTo>
                <a:lnTo>
                  <a:pt x="914" y="47"/>
                </a:lnTo>
                <a:lnTo>
                  <a:pt x="929" y="43"/>
                </a:lnTo>
                <a:lnTo>
                  <a:pt x="943" y="37"/>
                </a:lnTo>
                <a:lnTo>
                  <a:pt x="953" y="33"/>
                </a:lnTo>
                <a:lnTo>
                  <a:pt x="962" y="29"/>
                </a:lnTo>
                <a:lnTo>
                  <a:pt x="970" y="27"/>
                </a:lnTo>
                <a:lnTo>
                  <a:pt x="976" y="25"/>
                </a:lnTo>
                <a:lnTo>
                  <a:pt x="981" y="20"/>
                </a:lnTo>
                <a:lnTo>
                  <a:pt x="987" y="16"/>
                </a:lnTo>
                <a:lnTo>
                  <a:pt x="995" y="12"/>
                </a:lnTo>
                <a:lnTo>
                  <a:pt x="1002" y="8"/>
                </a:lnTo>
                <a:lnTo>
                  <a:pt x="1012" y="4"/>
                </a:lnTo>
                <a:lnTo>
                  <a:pt x="1022" y="2"/>
                </a:lnTo>
                <a:lnTo>
                  <a:pt x="1029" y="0"/>
                </a:lnTo>
                <a:lnTo>
                  <a:pt x="1041" y="0"/>
                </a:lnTo>
                <a:lnTo>
                  <a:pt x="1045" y="0"/>
                </a:lnTo>
                <a:lnTo>
                  <a:pt x="1050" y="0"/>
                </a:lnTo>
                <a:lnTo>
                  <a:pt x="1056" y="2"/>
                </a:lnTo>
                <a:lnTo>
                  <a:pt x="1064" y="4"/>
                </a:lnTo>
                <a:lnTo>
                  <a:pt x="1072" y="6"/>
                </a:lnTo>
                <a:lnTo>
                  <a:pt x="1079" y="10"/>
                </a:lnTo>
                <a:lnTo>
                  <a:pt x="1089" y="12"/>
                </a:lnTo>
                <a:lnTo>
                  <a:pt x="1098" y="16"/>
                </a:lnTo>
                <a:lnTo>
                  <a:pt x="1108" y="22"/>
                </a:lnTo>
                <a:lnTo>
                  <a:pt x="1118" y="25"/>
                </a:lnTo>
                <a:lnTo>
                  <a:pt x="1129" y="31"/>
                </a:lnTo>
                <a:lnTo>
                  <a:pt x="1141" y="35"/>
                </a:lnTo>
                <a:lnTo>
                  <a:pt x="1154" y="41"/>
                </a:lnTo>
                <a:lnTo>
                  <a:pt x="1166" y="48"/>
                </a:lnTo>
                <a:lnTo>
                  <a:pt x="1179" y="54"/>
                </a:lnTo>
                <a:lnTo>
                  <a:pt x="1194" y="62"/>
                </a:lnTo>
                <a:lnTo>
                  <a:pt x="1206" y="70"/>
                </a:lnTo>
                <a:lnTo>
                  <a:pt x="1217" y="79"/>
                </a:lnTo>
                <a:lnTo>
                  <a:pt x="1227" y="87"/>
                </a:lnTo>
                <a:lnTo>
                  <a:pt x="1237" y="95"/>
                </a:lnTo>
                <a:lnTo>
                  <a:pt x="1246" y="102"/>
                </a:lnTo>
                <a:lnTo>
                  <a:pt x="1254" y="110"/>
                </a:lnTo>
                <a:lnTo>
                  <a:pt x="1262" y="118"/>
                </a:lnTo>
                <a:lnTo>
                  <a:pt x="1269" y="123"/>
                </a:lnTo>
                <a:lnTo>
                  <a:pt x="1275" y="129"/>
                </a:lnTo>
                <a:lnTo>
                  <a:pt x="1281" y="135"/>
                </a:lnTo>
                <a:lnTo>
                  <a:pt x="1286" y="141"/>
                </a:lnTo>
                <a:lnTo>
                  <a:pt x="1290" y="144"/>
                </a:lnTo>
                <a:lnTo>
                  <a:pt x="1292" y="148"/>
                </a:lnTo>
                <a:lnTo>
                  <a:pt x="1294" y="152"/>
                </a:lnTo>
                <a:lnTo>
                  <a:pt x="1296" y="156"/>
                </a:lnTo>
                <a:lnTo>
                  <a:pt x="1296" y="158"/>
                </a:lnTo>
                <a:lnTo>
                  <a:pt x="1296" y="167"/>
                </a:lnTo>
                <a:lnTo>
                  <a:pt x="1294" y="177"/>
                </a:lnTo>
                <a:lnTo>
                  <a:pt x="1290" y="185"/>
                </a:lnTo>
                <a:lnTo>
                  <a:pt x="1285" y="192"/>
                </a:lnTo>
                <a:lnTo>
                  <a:pt x="1283" y="198"/>
                </a:lnTo>
                <a:lnTo>
                  <a:pt x="1279" y="200"/>
                </a:lnTo>
                <a:lnTo>
                  <a:pt x="1275" y="204"/>
                </a:lnTo>
                <a:lnTo>
                  <a:pt x="1269" y="208"/>
                </a:lnTo>
                <a:lnTo>
                  <a:pt x="1263" y="212"/>
                </a:lnTo>
                <a:lnTo>
                  <a:pt x="1258" y="214"/>
                </a:lnTo>
                <a:lnTo>
                  <a:pt x="1252" y="217"/>
                </a:lnTo>
                <a:lnTo>
                  <a:pt x="1246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102"/>
          <p:cNvSpPr/>
          <p:nvPr/>
        </p:nvSpPr>
        <p:spPr>
          <a:xfrm>
            <a:off x="6318360" y="3019320"/>
            <a:ext cx="968400" cy="260280"/>
          </a:xfrm>
          <a:custGeom>
            <a:avLst/>
            <a:gdLst/>
            <a:ahLst/>
            <a:rect l="l" t="t" r="r" b="b"/>
            <a:pathLst>
              <a:path w="1221" h="329">
                <a:moveTo>
                  <a:pt x="0" y="281"/>
                </a:moveTo>
                <a:lnTo>
                  <a:pt x="0" y="279"/>
                </a:lnTo>
                <a:lnTo>
                  <a:pt x="0" y="277"/>
                </a:lnTo>
                <a:lnTo>
                  <a:pt x="2" y="275"/>
                </a:lnTo>
                <a:lnTo>
                  <a:pt x="4" y="273"/>
                </a:lnTo>
                <a:lnTo>
                  <a:pt x="8" y="271"/>
                </a:lnTo>
                <a:lnTo>
                  <a:pt x="12" y="267"/>
                </a:lnTo>
                <a:lnTo>
                  <a:pt x="18" y="265"/>
                </a:lnTo>
                <a:lnTo>
                  <a:pt x="25" y="261"/>
                </a:lnTo>
                <a:lnTo>
                  <a:pt x="33" y="259"/>
                </a:lnTo>
                <a:lnTo>
                  <a:pt x="41" y="256"/>
                </a:lnTo>
                <a:lnTo>
                  <a:pt x="50" y="252"/>
                </a:lnTo>
                <a:lnTo>
                  <a:pt x="62" y="248"/>
                </a:lnTo>
                <a:lnTo>
                  <a:pt x="73" y="242"/>
                </a:lnTo>
                <a:lnTo>
                  <a:pt x="87" y="238"/>
                </a:lnTo>
                <a:lnTo>
                  <a:pt x="100" y="233"/>
                </a:lnTo>
                <a:lnTo>
                  <a:pt x="116" y="229"/>
                </a:lnTo>
                <a:lnTo>
                  <a:pt x="131" y="223"/>
                </a:lnTo>
                <a:lnTo>
                  <a:pt x="148" y="217"/>
                </a:lnTo>
                <a:lnTo>
                  <a:pt x="165" y="211"/>
                </a:lnTo>
                <a:lnTo>
                  <a:pt x="185" y="206"/>
                </a:lnTo>
                <a:lnTo>
                  <a:pt x="204" y="200"/>
                </a:lnTo>
                <a:lnTo>
                  <a:pt x="225" y="194"/>
                </a:lnTo>
                <a:lnTo>
                  <a:pt x="248" y="188"/>
                </a:lnTo>
                <a:lnTo>
                  <a:pt x="271" y="181"/>
                </a:lnTo>
                <a:lnTo>
                  <a:pt x="294" y="175"/>
                </a:lnTo>
                <a:lnTo>
                  <a:pt x="319" y="167"/>
                </a:lnTo>
                <a:lnTo>
                  <a:pt x="344" y="160"/>
                </a:lnTo>
                <a:lnTo>
                  <a:pt x="371" y="152"/>
                </a:lnTo>
                <a:lnTo>
                  <a:pt x="400" y="144"/>
                </a:lnTo>
                <a:lnTo>
                  <a:pt x="428" y="137"/>
                </a:lnTo>
                <a:lnTo>
                  <a:pt x="457" y="129"/>
                </a:lnTo>
                <a:lnTo>
                  <a:pt x="490" y="121"/>
                </a:lnTo>
                <a:lnTo>
                  <a:pt x="519" y="114"/>
                </a:lnTo>
                <a:lnTo>
                  <a:pt x="547" y="106"/>
                </a:lnTo>
                <a:lnTo>
                  <a:pt x="576" y="98"/>
                </a:lnTo>
                <a:lnTo>
                  <a:pt x="603" y="90"/>
                </a:lnTo>
                <a:lnTo>
                  <a:pt x="630" y="85"/>
                </a:lnTo>
                <a:lnTo>
                  <a:pt x="655" y="77"/>
                </a:lnTo>
                <a:lnTo>
                  <a:pt x="682" y="71"/>
                </a:lnTo>
                <a:lnTo>
                  <a:pt x="705" y="66"/>
                </a:lnTo>
                <a:lnTo>
                  <a:pt x="730" y="60"/>
                </a:lnTo>
                <a:lnTo>
                  <a:pt x="751" y="54"/>
                </a:lnTo>
                <a:lnTo>
                  <a:pt x="774" y="50"/>
                </a:lnTo>
                <a:lnTo>
                  <a:pt x="795" y="44"/>
                </a:lnTo>
                <a:lnTo>
                  <a:pt x="816" y="41"/>
                </a:lnTo>
                <a:lnTo>
                  <a:pt x="835" y="35"/>
                </a:lnTo>
                <a:lnTo>
                  <a:pt x="855" y="31"/>
                </a:lnTo>
                <a:lnTo>
                  <a:pt x="872" y="27"/>
                </a:lnTo>
                <a:lnTo>
                  <a:pt x="889" y="23"/>
                </a:lnTo>
                <a:lnTo>
                  <a:pt x="906" y="21"/>
                </a:lnTo>
                <a:lnTo>
                  <a:pt x="922" y="18"/>
                </a:lnTo>
                <a:lnTo>
                  <a:pt x="937" y="16"/>
                </a:lnTo>
                <a:lnTo>
                  <a:pt x="952" y="12"/>
                </a:lnTo>
                <a:lnTo>
                  <a:pt x="964" y="10"/>
                </a:lnTo>
                <a:lnTo>
                  <a:pt x="977" y="8"/>
                </a:lnTo>
                <a:lnTo>
                  <a:pt x="989" y="6"/>
                </a:lnTo>
                <a:lnTo>
                  <a:pt x="1000" y="4"/>
                </a:lnTo>
                <a:lnTo>
                  <a:pt x="1010" y="4"/>
                </a:lnTo>
                <a:lnTo>
                  <a:pt x="1020" y="2"/>
                </a:lnTo>
                <a:lnTo>
                  <a:pt x="1029" y="0"/>
                </a:lnTo>
                <a:lnTo>
                  <a:pt x="1037" y="0"/>
                </a:lnTo>
                <a:lnTo>
                  <a:pt x="1043" y="0"/>
                </a:lnTo>
                <a:lnTo>
                  <a:pt x="1048" y="0"/>
                </a:lnTo>
                <a:lnTo>
                  <a:pt x="1054" y="0"/>
                </a:lnTo>
                <a:lnTo>
                  <a:pt x="1083" y="0"/>
                </a:lnTo>
                <a:lnTo>
                  <a:pt x="1098" y="0"/>
                </a:lnTo>
                <a:lnTo>
                  <a:pt x="1112" y="0"/>
                </a:lnTo>
                <a:lnTo>
                  <a:pt x="1127" y="2"/>
                </a:lnTo>
                <a:lnTo>
                  <a:pt x="1141" y="4"/>
                </a:lnTo>
                <a:lnTo>
                  <a:pt x="1156" y="8"/>
                </a:lnTo>
                <a:lnTo>
                  <a:pt x="1169" y="12"/>
                </a:lnTo>
                <a:lnTo>
                  <a:pt x="1177" y="14"/>
                </a:lnTo>
                <a:lnTo>
                  <a:pt x="1183" y="18"/>
                </a:lnTo>
                <a:lnTo>
                  <a:pt x="1189" y="19"/>
                </a:lnTo>
                <a:lnTo>
                  <a:pt x="1194" y="23"/>
                </a:lnTo>
                <a:lnTo>
                  <a:pt x="1198" y="25"/>
                </a:lnTo>
                <a:lnTo>
                  <a:pt x="1204" y="29"/>
                </a:lnTo>
                <a:lnTo>
                  <a:pt x="1206" y="33"/>
                </a:lnTo>
                <a:lnTo>
                  <a:pt x="1210" y="37"/>
                </a:lnTo>
                <a:lnTo>
                  <a:pt x="1215" y="43"/>
                </a:lnTo>
                <a:lnTo>
                  <a:pt x="1219" y="50"/>
                </a:lnTo>
                <a:lnTo>
                  <a:pt x="1221" y="56"/>
                </a:lnTo>
                <a:lnTo>
                  <a:pt x="1221" y="60"/>
                </a:lnTo>
                <a:lnTo>
                  <a:pt x="1221" y="64"/>
                </a:lnTo>
                <a:lnTo>
                  <a:pt x="1219" y="66"/>
                </a:lnTo>
                <a:lnTo>
                  <a:pt x="1217" y="67"/>
                </a:lnTo>
                <a:lnTo>
                  <a:pt x="1213" y="71"/>
                </a:lnTo>
                <a:lnTo>
                  <a:pt x="1210" y="73"/>
                </a:lnTo>
                <a:lnTo>
                  <a:pt x="1204" y="77"/>
                </a:lnTo>
                <a:lnTo>
                  <a:pt x="1198" y="79"/>
                </a:lnTo>
                <a:lnTo>
                  <a:pt x="1190" y="83"/>
                </a:lnTo>
                <a:lnTo>
                  <a:pt x="1181" y="87"/>
                </a:lnTo>
                <a:lnTo>
                  <a:pt x="1173" y="90"/>
                </a:lnTo>
                <a:lnTo>
                  <a:pt x="1162" y="94"/>
                </a:lnTo>
                <a:lnTo>
                  <a:pt x="1152" y="98"/>
                </a:lnTo>
                <a:lnTo>
                  <a:pt x="1139" y="102"/>
                </a:lnTo>
                <a:lnTo>
                  <a:pt x="1127" y="106"/>
                </a:lnTo>
                <a:lnTo>
                  <a:pt x="1112" y="110"/>
                </a:lnTo>
                <a:lnTo>
                  <a:pt x="1098" y="115"/>
                </a:lnTo>
                <a:lnTo>
                  <a:pt x="1081" y="119"/>
                </a:lnTo>
                <a:lnTo>
                  <a:pt x="1066" y="125"/>
                </a:lnTo>
                <a:lnTo>
                  <a:pt x="1046" y="129"/>
                </a:lnTo>
                <a:lnTo>
                  <a:pt x="1029" y="135"/>
                </a:lnTo>
                <a:lnTo>
                  <a:pt x="1008" y="138"/>
                </a:lnTo>
                <a:lnTo>
                  <a:pt x="989" y="144"/>
                </a:lnTo>
                <a:lnTo>
                  <a:pt x="968" y="150"/>
                </a:lnTo>
                <a:lnTo>
                  <a:pt x="945" y="156"/>
                </a:lnTo>
                <a:lnTo>
                  <a:pt x="922" y="162"/>
                </a:lnTo>
                <a:lnTo>
                  <a:pt x="897" y="167"/>
                </a:lnTo>
                <a:lnTo>
                  <a:pt x="872" y="173"/>
                </a:lnTo>
                <a:lnTo>
                  <a:pt x="847" y="181"/>
                </a:lnTo>
                <a:lnTo>
                  <a:pt x="820" y="186"/>
                </a:lnTo>
                <a:lnTo>
                  <a:pt x="791" y="192"/>
                </a:lnTo>
                <a:lnTo>
                  <a:pt x="762" y="200"/>
                </a:lnTo>
                <a:lnTo>
                  <a:pt x="734" y="208"/>
                </a:lnTo>
                <a:lnTo>
                  <a:pt x="703" y="215"/>
                </a:lnTo>
                <a:lnTo>
                  <a:pt x="672" y="223"/>
                </a:lnTo>
                <a:lnTo>
                  <a:pt x="643" y="231"/>
                </a:lnTo>
                <a:lnTo>
                  <a:pt x="615" y="236"/>
                </a:lnTo>
                <a:lnTo>
                  <a:pt x="588" y="244"/>
                </a:lnTo>
                <a:lnTo>
                  <a:pt x="561" y="250"/>
                </a:lnTo>
                <a:lnTo>
                  <a:pt x="536" y="256"/>
                </a:lnTo>
                <a:lnTo>
                  <a:pt x="511" y="263"/>
                </a:lnTo>
                <a:lnTo>
                  <a:pt x="488" y="267"/>
                </a:lnTo>
                <a:lnTo>
                  <a:pt x="465" y="273"/>
                </a:lnTo>
                <a:lnTo>
                  <a:pt x="444" y="279"/>
                </a:lnTo>
                <a:lnTo>
                  <a:pt x="423" y="282"/>
                </a:lnTo>
                <a:lnTo>
                  <a:pt x="402" y="288"/>
                </a:lnTo>
                <a:lnTo>
                  <a:pt x="382" y="292"/>
                </a:lnTo>
                <a:lnTo>
                  <a:pt x="363" y="296"/>
                </a:lnTo>
                <a:lnTo>
                  <a:pt x="346" y="300"/>
                </a:lnTo>
                <a:lnTo>
                  <a:pt x="331" y="304"/>
                </a:lnTo>
                <a:lnTo>
                  <a:pt x="313" y="307"/>
                </a:lnTo>
                <a:lnTo>
                  <a:pt x="298" y="309"/>
                </a:lnTo>
                <a:lnTo>
                  <a:pt x="284" y="313"/>
                </a:lnTo>
                <a:lnTo>
                  <a:pt x="271" y="315"/>
                </a:lnTo>
                <a:lnTo>
                  <a:pt x="260" y="317"/>
                </a:lnTo>
                <a:lnTo>
                  <a:pt x="248" y="319"/>
                </a:lnTo>
                <a:lnTo>
                  <a:pt x="236" y="321"/>
                </a:lnTo>
                <a:lnTo>
                  <a:pt x="227" y="323"/>
                </a:lnTo>
                <a:lnTo>
                  <a:pt x="217" y="325"/>
                </a:lnTo>
                <a:lnTo>
                  <a:pt x="210" y="327"/>
                </a:lnTo>
                <a:lnTo>
                  <a:pt x="202" y="327"/>
                </a:lnTo>
                <a:lnTo>
                  <a:pt x="196" y="329"/>
                </a:lnTo>
                <a:lnTo>
                  <a:pt x="190" y="329"/>
                </a:lnTo>
                <a:lnTo>
                  <a:pt x="185" y="329"/>
                </a:lnTo>
                <a:lnTo>
                  <a:pt x="181" y="329"/>
                </a:lnTo>
                <a:lnTo>
                  <a:pt x="167" y="329"/>
                </a:lnTo>
                <a:lnTo>
                  <a:pt x="154" y="327"/>
                </a:lnTo>
                <a:lnTo>
                  <a:pt x="142" y="325"/>
                </a:lnTo>
                <a:lnTo>
                  <a:pt x="129" y="321"/>
                </a:lnTo>
                <a:lnTo>
                  <a:pt x="117" y="317"/>
                </a:lnTo>
                <a:lnTo>
                  <a:pt x="106" y="313"/>
                </a:lnTo>
                <a:lnTo>
                  <a:pt x="93" y="309"/>
                </a:lnTo>
                <a:lnTo>
                  <a:pt x="79" y="304"/>
                </a:lnTo>
                <a:lnTo>
                  <a:pt x="64" y="300"/>
                </a:lnTo>
                <a:lnTo>
                  <a:pt x="52" y="296"/>
                </a:lnTo>
                <a:lnTo>
                  <a:pt x="41" y="294"/>
                </a:lnTo>
                <a:lnTo>
                  <a:pt x="29" y="292"/>
                </a:lnTo>
                <a:lnTo>
                  <a:pt x="22" y="290"/>
                </a:lnTo>
                <a:lnTo>
                  <a:pt x="14" y="286"/>
                </a:lnTo>
                <a:lnTo>
                  <a:pt x="6" y="284"/>
                </a:lnTo>
                <a:lnTo>
                  <a:pt x="0" y="2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03"/>
          <p:cNvSpPr/>
          <p:nvPr/>
        </p:nvSpPr>
        <p:spPr>
          <a:xfrm>
            <a:off x="5554800" y="3724200"/>
            <a:ext cx="514080" cy="882720"/>
          </a:xfrm>
          <a:custGeom>
            <a:avLst/>
            <a:gdLst/>
            <a:ahLst/>
            <a:rect l="l" t="t" r="r" b="b"/>
            <a:pathLst>
              <a:path w="649" h="1111">
                <a:moveTo>
                  <a:pt x="512" y="392"/>
                </a:moveTo>
                <a:lnTo>
                  <a:pt x="495" y="436"/>
                </a:lnTo>
                <a:lnTo>
                  <a:pt x="476" y="480"/>
                </a:lnTo>
                <a:lnTo>
                  <a:pt x="460" y="522"/>
                </a:lnTo>
                <a:lnTo>
                  <a:pt x="443" y="562"/>
                </a:lnTo>
                <a:lnTo>
                  <a:pt x="428" y="601"/>
                </a:lnTo>
                <a:lnTo>
                  <a:pt x="414" y="639"/>
                </a:lnTo>
                <a:lnTo>
                  <a:pt x="401" y="676"/>
                </a:lnTo>
                <a:lnTo>
                  <a:pt x="387" y="708"/>
                </a:lnTo>
                <a:lnTo>
                  <a:pt x="376" y="743"/>
                </a:lnTo>
                <a:lnTo>
                  <a:pt x="364" y="774"/>
                </a:lnTo>
                <a:lnTo>
                  <a:pt x="355" y="802"/>
                </a:lnTo>
                <a:lnTo>
                  <a:pt x="347" y="831"/>
                </a:lnTo>
                <a:lnTo>
                  <a:pt x="338" y="858"/>
                </a:lnTo>
                <a:lnTo>
                  <a:pt x="332" y="883"/>
                </a:lnTo>
                <a:lnTo>
                  <a:pt x="326" y="906"/>
                </a:lnTo>
                <a:lnTo>
                  <a:pt x="320" y="927"/>
                </a:lnTo>
                <a:lnTo>
                  <a:pt x="313" y="946"/>
                </a:lnTo>
                <a:lnTo>
                  <a:pt x="307" y="965"/>
                </a:lnTo>
                <a:lnTo>
                  <a:pt x="299" y="983"/>
                </a:lnTo>
                <a:lnTo>
                  <a:pt x="293" y="1000"/>
                </a:lnTo>
                <a:lnTo>
                  <a:pt x="288" y="1015"/>
                </a:lnTo>
                <a:lnTo>
                  <a:pt x="282" y="1031"/>
                </a:lnTo>
                <a:lnTo>
                  <a:pt x="276" y="1042"/>
                </a:lnTo>
                <a:lnTo>
                  <a:pt x="270" y="1056"/>
                </a:lnTo>
                <a:lnTo>
                  <a:pt x="265" y="1065"/>
                </a:lnTo>
                <a:lnTo>
                  <a:pt x="259" y="1075"/>
                </a:lnTo>
                <a:lnTo>
                  <a:pt x="255" y="1085"/>
                </a:lnTo>
                <a:lnTo>
                  <a:pt x="249" y="1092"/>
                </a:lnTo>
                <a:lnTo>
                  <a:pt x="245" y="1098"/>
                </a:lnTo>
                <a:lnTo>
                  <a:pt x="240" y="1102"/>
                </a:lnTo>
                <a:lnTo>
                  <a:pt x="236" y="1108"/>
                </a:lnTo>
                <a:lnTo>
                  <a:pt x="230" y="1109"/>
                </a:lnTo>
                <a:lnTo>
                  <a:pt x="222" y="1111"/>
                </a:lnTo>
                <a:lnTo>
                  <a:pt x="215" y="1111"/>
                </a:lnTo>
                <a:lnTo>
                  <a:pt x="209" y="1111"/>
                </a:lnTo>
                <a:lnTo>
                  <a:pt x="201" y="1109"/>
                </a:lnTo>
                <a:lnTo>
                  <a:pt x="194" y="1108"/>
                </a:lnTo>
                <a:lnTo>
                  <a:pt x="186" y="1104"/>
                </a:lnTo>
                <a:lnTo>
                  <a:pt x="176" y="1100"/>
                </a:lnTo>
                <a:lnTo>
                  <a:pt x="169" y="1094"/>
                </a:lnTo>
                <a:lnTo>
                  <a:pt x="161" y="1086"/>
                </a:lnTo>
                <a:lnTo>
                  <a:pt x="151" y="1079"/>
                </a:lnTo>
                <a:lnTo>
                  <a:pt x="142" y="1069"/>
                </a:lnTo>
                <a:lnTo>
                  <a:pt x="132" y="1060"/>
                </a:lnTo>
                <a:lnTo>
                  <a:pt x="123" y="1050"/>
                </a:lnTo>
                <a:lnTo>
                  <a:pt x="111" y="1038"/>
                </a:lnTo>
                <a:lnTo>
                  <a:pt x="101" y="1025"/>
                </a:lnTo>
                <a:lnTo>
                  <a:pt x="90" y="1012"/>
                </a:lnTo>
                <a:lnTo>
                  <a:pt x="78" y="998"/>
                </a:lnTo>
                <a:lnTo>
                  <a:pt x="67" y="985"/>
                </a:lnTo>
                <a:lnTo>
                  <a:pt x="57" y="973"/>
                </a:lnTo>
                <a:lnTo>
                  <a:pt x="48" y="962"/>
                </a:lnTo>
                <a:lnTo>
                  <a:pt x="40" y="950"/>
                </a:lnTo>
                <a:lnTo>
                  <a:pt x="32" y="939"/>
                </a:lnTo>
                <a:lnTo>
                  <a:pt x="27" y="929"/>
                </a:lnTo>
                <a:lnTo>
                  <a:pt x="21" y="919"/>
                </a:lnTo>
                <a:lnTo>
                  <a:pt x="15" y="910"/>
                </a:lnTo>
                <a:lnTo>
                  <a:pt x="11" y="900"/>
                </a:lnTo>
                <a:lnTo>
                  <a:pt x="7" y="893"/>
                </a:lnTo>
                <a:lnTo>
                  <a:pt x="4" y="883"/>
                </a:lnTo>
                <a:lnTo>
                  <a:pt x="2" y="875"/>
                </a:lnTo>
                <a:lnTo>
                  <a:pt x="0" y="868"/>
                </a:lnTo>
                <a:lnTo>
                  <a:pt x="0" y="860"/>
                </a:lnTo>
                <a:lnTo>
                  <a:pt x="0" y="854"/>
                </a:lnTo>
                <a:lnTo>
                  <a:pt x="0" y="846"/>
                </a:lnTo>
                <a:lnTo>
                  <a:pt x="0" y="841"/>
                </a:lnTo>
                <a:lnTo>
                  <a:pt x="0" y="835"/>
                </a:lnTo>
                <a:lnTo>
                  <a:pt x="2" y="831"/>
                </a:lnTo>
                <a:lnTo>
                  <a:pt x="2" y="827"/>
                </a:lnTo>
                <a:lnTo>
                  <a:pt x="4" y="823"/>
                </a:lnTo>
                <a:lnTo>
                  <a:pt x="6" y="820"/>
                </a:lnTo>
                <a:lnTo>
                  <a:pt x="9" y="818"/>
                </a:lnTo>
                <a:lnTo>
                  <a:pt x="11" y="816"/>
                </a:lnTo>
                <a:lnTo>
                  <a:pt x="13" y="814"/>
                </a:lnTo>
                <a:lnTo>
                  <a:pt x="17" y="812"/>
                </a:lnTo>
                <a:lnTo>
                  <a:pt x="21" y="812"/>
                </a:lnTo>
                <a:lnTo>
                  <a:pt x="25" y="812"/>
                </a:lnTo>
                <a:lnTo>
                  <a:pt x="29" y="814"/>
                </a:lnTo>
                <a:lnTo>
                  <a:pt x="32" y="816"/>
                </a:lnTo>
                <a:lnTo>
                  <a:pt x="38" y="818"/>
                </a:lnTo>
                <a:lnTo>
                  <a:pt x="42" y="820"/>
                </a:lnTo>
                <a:lnTo>
                  <a:pt x="48" y="822"/>
                </a:lnTo>
                <a:lnTo>
                  <a:pt x="52" y="822"/>
                </a:lnTo>
                <a:lnTo>
                  <a:pt x="57" y="822"/>
                </a:lnTo>
                <a:lnTo>
                  <a:pt x="67" y="822"/>
                </a:lnTo>
                <a:lnTo>
                  <a:pt x="77" y="820"/>
                </a:lnTo>
                <a:lnTo>
                  <a:pt x="86" y="818"/>
                </a:lnTo>
                <a:lnTo>
                  <a:pt x="96" y="814"/>
                </a:lnTo>
                <a:lnTo>
                  <a:pt x="105" y="810"/>
                </a:lnTo>
                <a:lnTo>
                  <a:pt x="115" y="804"/>
                </a:lnTo>
                <a:lnTo>
                  <a:pt x="117" y="804"/>
                </a:lnTo>
                <a:lnTo>
                  <a:pt x="119" y="800"/>
                </a:lnTo>
                <a:lnTo>
                  <a:pt x="121" y="798"/>
                </a:lnTo>
                <a:lnTo>
                  <a:pt x="123" y="795"/>
                </a:lnTo>
                <a:lnTo>
                  <a:pt x="126" y="791"/>
                </a:lnTo>
                <a:lnTo>
                  <a:pt x="130" y="785"/>
                </a:lnTo>
                <a:lnTo>
                  <a:pt x="134" y="779"/>
                </a:lnTo>
                <a:lnTo>
                  <a:pt x="138" y="774"/>
                </a:lnTo>
                <a:lnTo>
                  <a:pt x="144" y="766"/>
                </a:lnTo>
                <a:lnTo>
                  <a:pt x="149" y="758"/>
                </a:lnTo>
                <a:lnTo>
                  <a:pt x="155" y="749"/>
                </a:lnTo>
                <a:lnTo>
                  <a:pt x="161" y="739"/>
                </a:lnTo>
                <a:lnTo>
                  <a:pt x="169" y="729"/>
                </a:lnTo>
                <a:lnTo>
                  <a:pt x="174" y="718"/>
                </a:lnTo>
                <a:lnTo>
                  <a:pt x="182" y="706"/>
                </a:lnTo>
                <a:lnTo>
                  <a:pt x="192" y="695"/>
                </a:lnTo>
                <a:lnTo>
                  <a:pt x="199" y="681"/>
                </a:lnTo>
                <a:lnTo>
                  <a:pt x="207" y="666"/>
                </a:lnTo>
                <a:lnTo>
                  <a:pt x="217" y="653"/>
                </a:lnTo>
                <a:lnTo>
                  <a:pt x="226" y="637"/>
                </a:lnTo>
                <a:lnTo>
                  <a:pt x="236" y="620"/>
                </a:lnTo>
                <a:lnTo>
                  <a:pt x="247" y="603"/>
                </a:lnTo>
                <a:lnTo>
                  <a:pt x="257" y="585"/>
                </a:lnTo>
                <a:lnTo>
                  <a:pt x="268" y="568"/>
                </a:lnTo>
                <a:lnTo>
                  <a:pt x="280" y="547"/>
                </a:lnTo>
                <a:lnTo>
                  <a:pt x="292" y="528"/>
                </a:lnTo>
                <a:lnTo>
                  <a:pt x="305" y="507"/>
                </a:lnTo>
                <a:lnTo>
                  <a:pt x="316" y="486"/>
                </a:lnTo>
                <a:lnTo>
                  <a:pt x="330" y="463"/>
                </a:lnTo>
                <a:lnTo>
                  <a:pt x="343" y="440"/>
                </a:lnTo>
                <a:lnTo>
                  <a:pt x="357" y="415"/>
                </a:lnTo>
                <a:lnTo>
                  <a:pt x="372" y="392"/>
                </a:lnTo>
                <a:lnTo>
                  <a:pt x="386" y="367"/>
                </a:lnTo>
                <a:lnTo>
                  <a:pt x="399" y="342"/>
                </a:lnTo>
                <a:lnTo>
                  <a:pt x="412" y="319"/>
                </a:lnTo>
                <a:lnTo>
                  <a:pt x="426" y="296"/>
                </a:lnTo>
                <a:lnTo>
                  <a:pt x="437" y="274"/>
                </a:lnTo>
                <a:lnTo>
                  <a:pt x="451" y="253"/>
                </a:lnTo>
                <a:lnTo>
                  <a:pt x="462" y="234"/>
                </a:lnTo>
                <a:lnTo>
                  <a:pt x="474" y="215"/>
                </a:lnTo>
                <a:lnTo>
                  <a:pt x="485" y="196"/>
                </a:lnTo>
                <a:lnTo>
                  <a:pt x="497" y="179"/>
                </a:lnTo>
                <a:lnTo>
                  <a:pt x="506" y="161"/>
                </a:lnTo>
                <a:lnTo>
                  <a:pt x="516" y="146"/>
                </a:lnTo>
                <a:lnTo>
                  <a:pt x="526" y="131"/>
                </a:lnTo>
                <a:lnTo>
                  <a:pt x="535" y="115"/>
                </a:lnTo>
                <a:lnTo>
                  <a:pt x="545" y="102"/>
                </a:lnTo>
                <a:lnTo>
                  <a:pt x="554" y="90"/>
                </a:lnTo>
                <a:lnTo>
                  <a:pt x="562" y="79"/>
                </a:lnTo>
                <a:lnTo>
                  <a:pt x="570" y="67"/>
                </a:lnTo>
                <a:lnTo>
                  <a:pt x="578" y="58"/>
                </a:lnTo>
                <a:lnTo>
                  <a:pt x="585" y="48"/>
                </a:lnTo>
                <a:lnTo>
                  <a:pt x="591" y="38"/>
                </a:lnTo>
                <a:lnTo>
                  <a:pt x="599" y="31"/>
                </a:lnTo>
                <a:lnTo>
                  <a:pt x="604" y="25"/>
                </a:lnTo>
                <a:lnTo>
                  <a:pt x="610" y="19"/>
                </a:lnTo>
                <a:lnTo>
                  <a:pt x="614" y="13"/>
                </a:lnTo>
                <a:lnTo>
                  <a:pt x="620" y="10"/>
                </a:lnTo>
                <a:lnTo>
                  <a:pt x="624" y="6"/>
                </a:lnTo>
                <a:lnTo>
                  <a:pt x="627" y="2"/>
                </a:lnTo>
                <a:lnTo>
                  <a:pt x="631" y="0"/>
                </a:lnTo>
                <a:lnTo>
                  <a:pt x="635" y="0"/>
                </a:lnTo>
                <a:lnTo>
                  <a:pt x="639" y="0"/>
                </a:lnTo>
                <a:lnTo>
                  <a:pt x="641" y="0"/>
                </a:lnTo>
                <a:lnTo>
                  <a:pt x="643" y="2"/>
                </a:lnTo>
                <a:lnTo>
                  <a:pt x="645" y="4"/>
                </a:lnTo>
                <a:lnTo>
                  <a:pt x="647" y="8"/>
                </a:lnTo>
                <a:lnTo>
                  <a:pt x="647" y="10"/>
                </a:lnTo>
                <a:lnTo>
                  <a:pt x="649" y="13"/>
                </a:lnTo>
                <a:lnTo>
                  <a:pt x="649" y="19"/>
                </a:lnTo>
                <a:lnTo>
                  <a:pt x="649" y="25"/>
                </a:lnTo>
                <a:lnTo>
                  <a:pt x="649" y="31"/>
                </a:lnTo>
                <a:lnTo>
                  <a:pt x="647" y="36"/>
                </a:lnTo>
                <a:lnTo>
                  <a:pt x="645" y="44"/>
                </a:lnTo>
                <a:lnTo>
                  <a:pt x="645" y="54"/>
                </a:lnTo>
                <a:lnTo>
                  <a:pt x="641" y="61"/>
                </a:lnTo>
                <a:lnTo>
                  <a:pt x="639" y="71"/>
                </a:lnTo>
                <a:lnTo>
                  <a:pt x="637" y="81"/>
                </a:lnTo>
                <a:lnTo>
                  <a:pt x="633" y="92"/>
                </a:lnTo>
                <a:lnTo>
                  <a:pt x="629" y="104"/>
                </a:lnTo>
                <a:lnTo>
                  <a:pt x="625" y="117"/>
                </a:lnTo>
                <a:lnTo>
                  <a:pt x="620" y="129"/>
                </a:lnTo>
                <a:lnTo>
                  <a:pt x="616" y="142"/>
                </a:lnTo>
                <a:lnTo>
                  <a:pt x="610" y="157"/>
                </a:lnTo>
                <a:lnTo>
                  <a:pt x="604" y="173"/>
                </a:lnTo>
                <a:lnTo>
                  <a:pt x="599" y="188"/>
                </a:lnTo>
                <a:lnTo>
                  <a:pt x="591" y="205"/>
                </a:lnTo>
                <a:lnTo>
                  <a:pt x="585" y="223"/>
                </a:lnTo>
                <a:lnTo>
                  <a:pt x="578" y="242"/>
                </a:lnTo>
                <a:lnTo>
                  <a:pt x="570" y="261"/>
                </a:lnTo>
                <a:lnTo>
                  <a:pt x="560" y="280"/>
                </a:lnTo>
                <a:lnTo>
                  <a:pt x="553" y="301"/>
                </a:lnTo>
                <a:lnTo>
                  <a:pt x="543" y="322"/>
                </a:lnTo>
                <a:lnTo>
                  <a:pt x="533" y="344"/>
                </a:lnTo>
                <a:lnTo>
                  <a:pt x="524" y="367"/>
                </a:lnTo>
                <a:lnTo>
                  <a:pt x="512" y="3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04"/>
          <p:cNvSpPr/>
          <p:nvPr/>
        </p:nvSpPr>
        <p:spPr>
          <a:xfrm>
            <a:off x="5632560" y="3222720"/>
            <a:ext cx="399960" cy="272880"/>
          </a:xfrm>
          <a:custGeom>
            <a:avLst/>
            <a:gdLst/>
            <a:ahLst/>
            <a:rect l="l" t="t" r="r" b="b"/>
            <a:pathLst>
              <a:path w="504" h="343">
                <a:moveTo>
                  <a:pt x="466" y="341"/>
                </a:moveTo>
                <a:lnTo>
                  <a:pt x="460" y="343"/>
                </a:lnTo>
                <a:lnTo>
                  <a:pt x="455" y="343"/>
                </a:lnTo>
                <a:lnTo>
                  <a:pt x="447" y="341"/>
                </a:lnTo>
                <a:lnTo>
                  <a:pt x="437" y="339"/>
                </a:lnTo>
                <a:lnTo>
                  <a:pt x="426" y="335"/>
                </a:lnTo>
                <a:lnTo>
                  <a:pt x="414" y="330"/>
                </a:lnTo>
                <a:lnTo>
                  <a:pt x="401" y="324"/>
                </a:lnTo>
                <a:lnTo>
                  <a:pt x="387" y="316"/>
                </a:lnTo>
                <a:lnTo>
                  <a:pt x="372" y="307"/>
                </a:lnTo>
                <a:lnTo>
                  <a:pt x="355" y="295"/>
                </a:lnTo>
                <a:lnTo>
                  <a:pt x="336" y="284"/>
                </a:lnTo>
                <a:lnTo>
                  <a:pt x="316" y="272"/>
                </a:lnTo>
                <a:lnTo>
                  <a:pt x="295" y="257"/>
                </a:lnTo>
                <a:lnTo>
                  <a:pt x="272" y="241"/>
                </a:lnTo>
                <a:lnTo>
                  <a:pt x="247" y="224"/>
                </a:lnTo>
                <a:lnTo>
                  <a:pt x="222" y="207"/>
                </a:lnTo>
                <a:lnTo>
                  <a:pt x="195" y="192"/>
                </a:lnTo>
                <a:lnTo>
                  <a:pt x="172" y="176"/>
                </a:lnTo>
                <a:lnTo>
                  <a:pt x="149" y="161"/>
                </a:lnTo>
                <a:lnTo>
                  <a:pt x="128" y="147"/>
                </a:lnTo>
                <a:lnTo>
                  <a:pt x="109" y="134"/>
                </a:lnTo>
                <a:lnTo>
                  <a:pt x="92" y="122"/>
                </a:lnTo>
                <a:lnTo>
                  <a:pt x="75" y="111"/>
                </a:lnTo>
                <a:lnTo>
                  <a:pt x="61" y="99"/>
                </a:lnTo>
                <a:lnTo>
                  <a:pt x="48" y="90"/>
                </a:lnTo>
                <a:lnTo>
                  <a:pt x="36" y="80"/>
                </a:lnTo>
                <a:lnTo>
                  <a:pt x="27" y="73"/>
                </a:lnTo>
                <a:lnTo>
                  <a:pt x="19" y="67"/>
                </a:lnTo>
                <a:lnTo>
                  <a:pt x="11" y="59"/>
                </a:lnTo>
                <a:lnTo>
                  <a:pt x="7" y="55"/>
                </a:lnTo>
                <a:lnTo>
                  <a:pt x="5" y="51"/>
                </a:lnTo>
                <a:lnTo>
                  <a:pt x="3" y="48"/>
                </a:lnTo>
                <a:lnTo>
                  <a:pt x="2" y="46"/>
                </a:lnTo>
                <a:lnTo>
                  <a:pt x="0" y="44"/>
                </a:lnTo>
                <a:lnTo>
                  <a:pt x="0" y="42"/>
                </a:lnTo>
                <a:lnTo>
                  <a:pt x="0" y="40"/>
                </a:lnTo>
                <a:lnTo>
                  <a:pt x="0" y="36"/>
                </a:lnTo>
                <a:lnTo>
                  <a:pt x="0" y="34"/>
                </a:lnTo>
                <a:lnTo>
                  <a:pt x="2" y="32"/>
                </a:lnTo>
                <a:lnTo>
                  <a:pt x="3" y="30"/>
                </a:lnTo>
                <a:lnTo>
                  <a:pt x="7" y="28"/>
                </a:lnTo>
                <a:lnTo>
                  <a:pt x="9" y="25"/>
                </a:lnTo>
                <a:lnTo>
                  <a:pt x="13" y="23"/>
                </a:lnTo>
                <a:lnTo>
                  <a:pt x="19" y="21"/>
                </a:lnTo>
                <a:lnTo>
                  <a:pt x="23" y="19"/>
                </a:lnTo>
                <a:lnTo>
                  <a:pt x="28" y="17"/>
                </a:lnTo>
                <a:lnTo>
                  <a:pt x="36" y="13"/>
                </a:lnTo>
                <a:lnTo>
                  <a:pt x="42" y="11"/>
                </a:lnTo>
                <a:lnTo>
                  <a:pt x="57" y="7"/>
                </a:lnTo>
                <a:lnTo>
                  <a:pt x="71" y="5"/>
                </a:lnTo>
                <a:lnTo>
                  <a:pt x="86" y="1"/>
                </a:lnTo>
                <a:lnTo>
                  <a:pt x="103" y="1"/>
                </a:lnTo>
                <a:lnTo>
                  <a:pt x="121" y="0"/>
                </a:lnTo>
                <a:lnTo>
                  <a:pt x="140" y="0"/>
                </a:lnTo>
                <a:lnTo>
                  <a:pt x="149" y="0"/>
                </a:lnTo>
                <a:lnTo>
                  <a:pt x="161" y="0"/>
                </a:lnTo>
                <a:lnTo>
                  <a:pt x="172" y="0"/>
                </a:lnTo>
                <a:lnTo>
                  <a:pt x="184" y="0"/>
                </a:lnTo>
                <a:lnTo>
                  <a:pt x="207" y="3"/>
                </a:lnTo>
                <a:lnTo>
                  <a:pt x="232" y="9"/>
                </a:lnTo>
                <a:lnTo>
                  <a:pt x="257" y="15"/>
                </a:lnTo>
                <a:lnTo>
                  <a:pt x="282" y="21"/>
                </a:lnTo>
                <a:lnTo>
                  <a:pt x="307" y="28"/>
                </a:lnTo>
                <a:lnTo>
                  <a:pt x="334" y="36"/>
                </a:lnTo>
                <a:lnTo>
                  <a:pt x="347" y="42"/>
                </a:lnTo>
                <a:lnTo>
                  <a:pt x="360" y="48"/>
                </a:lnTo>
                <a:lnTo>
                  <a:pt x="374" y="53"/>
                </a:lnTo>
                <a:lnTo>
                  <a:pt x="389" y="61"/>
                </a:lnTo>
                <a:lnTo>
                  <a:pt x="403" y="69"/>
                </a:lnTo>
                <a:lnTo>
                  <a:pt x="416" y="76"/>
                </a:lnTo>
                <a:lnTo>
                  <a:pt x="428" y="84"/>
                </a:lnTo>
                <a:lnTo>
                  <a:pt x="439" y="92"/>
                </a:lnTo>
                <a:lnTo>
                  <a:pt x="449" y="101"/>
                </a:lnTo>
                <a:lnTo>
                  <a:pt x="458" y="111"/>
                </a:lnTo>
                <a:lnTo>
                  <a:pt x="468" y="121"/>
                </a:lnTo>
                <a:lnTo>
                  <a:pt x="476" y="130"/>
                </a:lnTo>
                <a:lnTo>
                  <a:pt x="481" y="142"/>
                </a:lnTo>
                <a:lnTo>
                  <a:pt x="489" y="151"/>
                </a:lnTo>
                <a:lnTo>
                  <a:pt x="493" y="163"/>
                </a:lnTo>
                <a:lnTo>
                  <a:pt x="497" y="174"/>
                </a:lnTo>
                <a:lnTo>
                  <a:pt x="501" y="186"/>
                </a:lnTo>
                <a:lnTo>
                  <a:pt x="503" y="195"/>
                </a:lnTo>
                <a:lnTo>
                  <a:pt x="504" y="207"/>
                </a:lnTo>
                <a:lnTo>
                  <a:pt x="504" y="218"/>
                </a:lnTo>
                <a:lnTo>
                  <a:pt x="504" y="232"/>
                </a:lnTo>
                <a:lnTo>
                  <a:pt x="504" y="245"/>
                </a:lnTo>
                <a:lnTo>
                  <a:pt x="503" y="257"/>
                </a:lnTo>
                <a:lnTo>
                  <a:pt x="503" y="266"/>
                </a:lnTo>
                <a:lnTo>
                  <a:pt x="501" y="278"/>
                </a:lnTo>
                <a:lnTo>
                  <a:pt x="499" y="286"/>
                </a:lnTo>
                <a:lnTo>
                  <a:pt x="497" y="295"/>
                </a:lnTo>
                <a:lnTo>
                  <a:pt x="495" y="303"/>
                </a:lnTo>
                <a:lnTo>
                  <a:pt x="493" y="311"/>
                </a:lnTo>
                <a:lnTo>
                  <a:pt x="489" y="316"/>
                </a:lnTo>
                <a:lnTo>
                  <a:pt x="487" y="322"/>
                </a:lnTo>
                <a:lnTo>
                  <a:pt x="483" y="326"/>
                </a:lnTo>
                <a:lnTo>
                  <a:pt x="480" y="332"/>
                </a:lnTo>
                <a:lnTo>
                  <a:pt x="476" y="335"/>
                </a:lnTo>
                <a:lnTo>
                  <a:pt x="470" y="337"/>
                </a:lnTo>
                <a:lnTo>
                  <a:pt x="466" y="3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任意多边形 8"/>
          <p:cNvSpPr/>
          <p:nvPr/>
        </p:nvSpPr>
        <p:spPr>
          <a:xfrm>
            <a:off x="1690560" y="2568600"/>
            <a:ext cx="6039000" cy="271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嶂  魄  慑  狄  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栩  哺  崎  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1265040" y="234936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2879280" y="234936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4019040" y="234936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5389920" y="234936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1"/>
          <p:cNvSpPr/>
          <p:nvPr/>
        </p:nvSpPr>
        <p:spPr>
          <a:xfrm>
            <a:off x="6627240" y="23493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1728000" y="374508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25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229" name="矩形 14"/>
          <p:cNvSpPr/>
          <p:nvPr/>
        </p:nvSpPr>
        <p:spPr>
          <a:xfrm>
            <a:off x="2941560" y="37450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184280" y="374508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6"/>
          <p:cNvSpPr/>
          <p:nvPr/>
        </p:nvSpPr>
        <p:spPr>
          <a:xfrm>
            <a:off x="5319720" y="37450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265400" y="3149640"/>
            <a:ext cx="69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渊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博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育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慑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服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重峦叠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1812240" y="25923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4181760" y="25923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6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9"/>
          <p:cNvSpPr/>
          <p:nvPr/>
        </p:nvSpPr>
        <p:spPr>
          <a:xfrm>
            <a:off x="2837880" y="259236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7051320" y="259236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243080" y="2901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1736640" y="2438280"/>
            <a:ext cx="4302360" cy="1373400"/>
            <a:chOff x="1736640" y="2438280"/>
            <a:chExt cx="4302360" cy="1373400"/>
          </a:xfrm>
        </p:grpSpPr>
        <p:sp>
          <p:nvSpPr>
            <p:cNvPr id="243" name="左大括号 2"/>
            <p:cNvSpPr/>
            <p:nvPr/>
          </p:nvSpPr>
          <p:spPr>
            <a:xfrm>
              <a:off x="1736640" y="2680920"/>
              <a:ext cx="235440" cy="951120"/>
            </a:xfrm>
            <a:custGeom>
              <a:avLst/>
              <a:gdLst>
                <a:gd name="textAreaLeft" fmla="*/ 150480 w 235440"/>
                <a:gd name="textAreaRight" fmla="*/ 235800 w 235440"/>
                <a:gd name="textAreaTop" fmla="*/ 5400 h 951120"/>
                <a:gd name="textAreaBottom" fmla="*/ 9457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99"/>
                    <a:pt x="10800" y="397"/>
                  </a:cubicBezTo>
                  <a:lnTo>
                    <a:pt x="10800" y="10403"/>
                  </a:lnTo>
                  <a:cubicBezTo>
                    <a:pt x="10800" y="10602"/>
                    <a:pt x="5400" y="10800"/>
                    <a:pt x="0" y="10800"/>
                  </a:cubicBezTo>
                  <a:cubicBezTo>
                    <a:pt x="5400" y="10800"/>
                    <a:pt x="10800" y="10999"/>
                    <a:pt x="10800" y="11197"/>
                  </a:cubicBezTo>
                  <a:lnTo>
                    <a:pt x="10800" y="21203"/>
                  </a:lnTo>
                  <a:cubicBezTo>
                    <a:pt x="10800" y="21402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3"/>
            <p:cNvSpPr/>
            <p:nvPr/>
          </p:nvSpPr>
          <p:spPr>
            <a:xfrm>
              <a:off x="1817280" y="2438280"/>
              <a:ext cx="4221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uà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冠军 名冠全球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uā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桂冠 冠冕堂皇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1300320" y="4368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组合 5"/>
          <p:cNvGrpSpPr/>
          <p:nvPr/>
        </p:nvGrpSpPr>
        <p:grpSpPr>
          <a:xfrm>
            <a:off x="1762200" y="3929040"/>
            <a:ext cx="3752640" cy="1373400"/>
            <a:chOff x="1762200" y="3929040"/>
            <a:chExt cx="3752640" cy="1373400"/>
          </a:xfrm>
        </p:grpSpPr>
        <p:sp>
          <p:nvSpPr>
            <p:cNvPr id="247" name="左大括号 14"/>
            <p:cNvSpPr/>
            <p:nvPr/>
          </p:nvSpPr>
          <p:spPr>
            <a:xfrm>
              <a:off x="1762200" y="4147920"/>
              <a:ext cx="164520" cy="951120"/>
            </a:xfrm>
            <a:custGeom>
              <a:avLst/>
              <a:gdLst>
                <a:gd name="textAreaLeft" fmla="*/ 105120 w 164520"/>
                <a:gd name="textAreaRight" fmla="*/ 164880 w 16452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15"/>
            <p:cNvSpPr/>
            <p:nvPr/>
          </p:nvSpPr>
          <p:spPr>
            <a:xfrm>
              <a:off x="1909800" y="3929040"/>
              <a:ext cx="36050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露水 暴露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òu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露脸 露头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TextBox 13"/>
          <p:cNvSpPr/>
          <p:nvPr/>
        </p:nvSpPr>
        <p:spPr>
          <a:xfrm>
            <a:off x="5052960" y="4368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18"/>
          <p:cNvGrpSpPr/>
          <p:nvPr/>
        </p:nvGrpSpPr>
        <p:grpSpPr>
          <a:xfrm>
            <a:off x="5514840" y="3929040"/>
            <a:ext cx="2810160" cy="1373400"/>
            <a:chOff x="5514840" y="3929040"/>
            <a:chExt cx="2810160" cy="1373400"/>
          </a:xfrm>
        </p:grpSpPr>
        <p:sp>
          <p:nvSpPr>
            <p:cNvPr id="255" name="左大括号 19"/>
            <p:cNvSpPr/>
            <p:nvPr/>
          </p:nvSpPr>
          <p:spPr>
            <a:xfrm>
              <a:off x="5514840" y="4147920"/>
              <a:ext cx="150840" cy="950760"/>
            </a:xfrm>
            <a:custGeom>
              <a:avLst/>
              <a:gdLst>
                <a:gd name="textAreaLeft" fmla="*/ 96480 w 150840"/>
                <a:gd name="textAreaRight" fmla="*/ 151200 w 15084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20"/>
            <p:cNvSpPr/>
            <p:nvPr/>
          </p:nvSpPr>
          <p:spPr>
            <a:xfrm>
              <a:off x="5649480" y="3929040"/>
              <a:ext cx="26755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n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小娜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nuó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婀娜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22724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谛听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扑朔迷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幻莫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2503440" y="1824120"/>
            <a:ext cx="664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仔细地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她的声音那么小，我得用心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谛听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才能听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说的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事物错综复杂，难于辨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这件案子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扑朔迷离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让警方无从下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变化多端，令人无法捉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六月的天气真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变幻莫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"/>
          <p:cNvSpPr/>
          <p:nvPr/>
        </p:nvSpPr>
        <p:spPr>
          <a:xfrm>
            <a:off x="122724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不暇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不胜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鬼斧神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矩形 1"/>
          <p:cNvSpPr/>
          <p:nvPr/>
        </p:nvSpPr>
        <p:spPr>
          <a:xfrm>
            <a:off x="2641680" y="1851120"/>
            <a:ext cx="558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东西太多，眼睛看不过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好的东西太多，一时接受不完（看不过来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大自然有很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美不胜收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风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建筑、雕塑等技艺的精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世博会上呈现的各种建筑简直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鬼斧神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1"/>
          <p:cNvSpPr/>
          <p:nvPr/>
        </p:nvSpPr>
        <p:spPr>
          <a:xfrm>
            <a:off x="887400" y="109368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位置、面积和人们的重视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概括介绍了大峡谷的位置、面积，以及它已经作为世界自然遗产被人们加以保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4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风光奇绝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峡谷的风光奇绝及其成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野生动植物种类繁多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峡谷的野生动植物繁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四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旅游胜地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峡谷成为旅游胜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7"/>
          <p:cNvSpPr/>
          <p:nvPr/>
        </p:nvSpPr>
        <p:spPr>
          <a:xfrm>
            <a:off x="3421080" y="1397160"/>
            <a:ext cx="52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国亚利桑那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490680" y="855720"/>
            <a:ext cx="7311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3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峡谷的位置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3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峡谷的形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3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峡谷两岸的样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3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峡谷的面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"/>
          <p:cNvSpPr/>
          <p:nvPr/>
        </p:nvSpPr>
        <p:spPr>
          <a:xfrm>
            <a:off x="3436920" y="2679840"/>
            <a:ext cx="52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科罗拉多河经过数百万年以上的冲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3357720" y="4950000"/>
            <a:ext cx="54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总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46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公里，平均深度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，宽度从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0.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公里至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9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公里不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037040" y="3643200"/>
            <a:ext cx="48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壁岩石的颜色会随着太阳光的强弱和天气的阴晴产生无穷的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76" name="矩形 11"/>
          <p:cNvSpPr/>
          <p:nvPr/>
        </p:nvSpPr>
        <p:spPr>
          <a:xfrm>
            <a:off x="1017720" y="24051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介绍了科罗拉多大峡谷的地理位置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成因、风景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动植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，表达了作者对大自然由衷的赞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5" descr=""/>
          <p:cNvPicPr/>
          <p:nvPr/>
        </p:nvPicPr>
        <p:blipFill>
          <a:blip r:embed="rId1"/>
          <a:stretch/>
        </p:blipFill>
        <p:spPr>
          <a:xfrm>
            <a:off x="2230560" y="2073240"/>
            <a:ext cx="468288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168560" y="905040"/>
            <a:ext cx="7045200" cy="1180800"/>
            <a:chOff x="1168560" y="905040"/>
            <a:chExt cx="7045200" cy="1180800"/>
          </a:xfrm>
        </p:grpSpPr>
        <p:sp>
          <p:nvSpPr>
            <p:cNvPr id="66" name="Text Box 2"/>
            <p:cNvSpPr/>
            <p:nvPr/>
          </p:nvSpPr>
          <p:spPr>
            <a:xfrm>
              <a:off x="2427480" y="1011240"/>
              <a:ext cx="578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科罗拉多大峡谷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168560" y="905040"/>
              <a:ext cx="1181160" cy="1180800"/>
              <a:chOff x="1168560" y="905040"/>
              <a:chExt cx="118116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1685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1206720" y="103248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0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" name="组合 13322"/>
          <p:cNvGrpSpPr/>
          <p:nvPr/>
        </p:nvGrpSpPr>
        <p:grpSpPr>
          <a:xfrm>
            <a:off x="2003400" y="5640480"/>
            <a:ext cx="5351400" cy="717480"/>
            <a:chOff x="2003400" y="5640480"/>
            <a:chExt cx="5351400" cy="717480"/>
          </a:xfrm>
        </p:grpSpPr>
        <p:pic>
          <p:nvPicPr>
            <p:cNvPr id="71" name="任意多边形 6" descr=""/>
            <p:cNvPicPr/>
            <p:nvPr/>
          </p:nvPicPr>
          <p:blipFill>
            <a:blip r:embed="rId6"/>
            <a:stretch/>
          </p:blipFill>
          <p:spPr>
            <a:xfrm>
              <a:off x="200340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任意多边形 8" descr=""/>
            <p:cNvPicPr/>
            <p:nvPr/>
          </p:nvPicPr>
          <p:blipFill>
            <a:blip r:embed="rId7"/>
            <a:stretch/>
          </p:blipFill>
          <p:spPr>
            <a:xfrm>
              <a:off x="373824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任意多边形 19" descr=""/>
            <p:cNvPicPr/>
            <p:nvPr/>
          </p:nvPicPr>
          <p:blipFill>
            <a:blip r:embed="rId8"/>
            <a:stretch/>
          </p:blipFill>
          <p:spPr>
            <a:xfrm>
              <a:off x="547920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流程图: 摘录 40"/>
            <p:cNvSpPr/>
            <p:nvPr/>
          </p:nvSpPr>
          <p:spPr>
            <a:xfrm rot="5400000">
              <a:off x="373212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流程图: 摘录 41"/>
            <p:cNvSpPr/>
            <p:nvPr/>
          </p:nvSpPr>
          <p:spPr>
            <a:xfrm rot="5400000">
              <a:off x="54813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7167"/>
          <p:cNvSpPr/>
          <p:nvPr/>
        </p:nvSpPr>
        <p:spPr>
          <a:xfrm>
            <a:off x="1422360" y="1957320"/>
            <a:ext cx="754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ó   d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én miào                   jī      d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ī   liánɡ                shān  luán               kǎi   t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ī   xī                    zōnɡ huá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9" name="图片 1" descr=""/>
          <p:cNvPicPr/>
          <p:nvPr/>
        </p:nvPicPr>
        <p:blipFill>
          <a:blip r:embed="rId2"/>
          <a:stretch/>
        </p:blipFill>
        <p:spPr>
          <a:xfrm>
            <a:off x="1427040" y="3027240"/>
            <a:ext cx="1494000" cy="7621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1" descr=""/>
          <p:cNvPicPr/>
          <p:nvPr/>
        </p:nvPicPr>
        <p:blipFill>
          <a:blip r:embed="rId3"/>
          <a:stretch/>
        </p:blipFill>
        <p:spPr>
          <a:xfrm>
            <a:off x="3784680" y="2997360"/>
            <a:ext cx="1493640" cy="7617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22" descr=""/>
          <p:cNvPicPr/>
          <p:nvPr/>
        </p:nvPicPr>
        <p:blipFill>
          <a:blip r:embed="rId4"/>
          <a:stretch/>
        </p:blipFill>
        <p:spPr>
          <a:xfrm>
            <a:off x="6084720" y="2997360"/>
            <a:ext cx="149400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23" descr=""/>
          <p:cNvPicPr/>
          <p:nvPr/>
        </p:nvPicPr>
        <p:blipFill>
          <a:blip r:embed="rId5"/>
          <a:stretch/>
        </p:blipFill>
        <p:spPr>
          <a:xfrm>
            <a:off x="1422360" y="4149720"/>
            <a:ext cx="1494000" cy="76212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4" descr=""/>
          <p:cNvPicPr/>
          <p:nvPr/>
        </p:nvPicPr>
        <p:blipFill>
          <a:blip r:embed="rId6"/>
          <a:stretch/>
        </p:blipFill>
        <p:spPr>
          <a:xfrm>
            <a:off x="3780000" y="4149720"/>
            <a:ext cx="149364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5" descr=""/>
          <p:cNvPicPr/>
          <p:nvPr/>
        </p:nvPicPr>
        <p:blipFill>
          <a:blip r:embed="rId7"/>
          <a:stretch/>
        </p:blipFill>
        <p:spPr>
          <a:xfrm>
            <a:off x="6084720" y="4149720"/>
            <a:ext cx="1494000" cy="762120"/>
          </a:xfrm>
          <a:prstGeom prst="rect">
            <a:avLst/>
          </a:prstGeom>
          <a:ln w="0">
            <a:noFill/>
          </a:ln>
        </p:spPr>
      </p:pic>
      <p:sp>
        <p:nvSpPr>
          <p:cNvPr id="285" name="矩形 7"/>
          <p:cNvSpPr/>
          <p:nvPr/>
        </p:nvSpPr>
        <p:spPr>
          <a:xfrm>
            <a:off x="1486080" y="313056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博  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3924360" y="306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神 庙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7"/>
          <p:cNvSpPr/>
          <p:nvPr/>
        </p:nvSpPr>
        <p:spPr>
          <a:xfrm>
            <a:off x="5940360" y="3059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  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7"/>
          <p:cNvSpPr/>
          <p:nvPr/>
        </p:nvSpPr>
        <p:spPr>
          <a:xfrm>
            <a:off x="1486080" y="421164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  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8"/>
          <p:cNvSpPr/>
          <p:nvPr/>
        </p:nvSpPr>
        <p:spPr>
          <a:xfrm>
            <a:off x="3851280" y="421164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山  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9"/>
          <p:cNvSpPr/>
          <p:nvPr/>
        </p:nvSpPr>
        <p:spPr>
          <a:xfrm>
            <a:off x="6238800" y="422100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慨 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0"/>
          <p:cNvSpPr/>
          <p:nvPr/>
        </p:nvSpPr>
        <p:spPr>
          <a:xfrm>
            <a:off x="1476360" y="537372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栖  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21"/>
          <p:cNvSpPr/>
          <p:nvPr/>
        </p:nvSpPr>
        <p:spPr>
          <a:xfrm>
            <a:off x="3924360" y="5373720"/>
            <a:ext cx="15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棕 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23" descr=""/>
          <p:cNvPicPr/>
          <p:nvPr/>
        </p:nvPicPr>
        <p:blipFill>
          <a:blip r:embed="rId8"/>
          <a:stretch/>
        </p:blipFill>
        <p:spPr>
          <a:xfrm>
            <a:off x="1422360" y="5259240"/>
            <a:ext cx="1494000" cy="7621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23" descr=""/>
          <p:cNvPicPr/>
          <p:nvPr/>
        </p:nvPicPr>
        <p:blipFill>
          <a:blip r:embed="rId9"/>
          <a:stretch/>
        </p:blipFill>
        <p:spPr>
          <a:xfrm>
            <a:off x="3780000" y="5300640"/>
            <a:ext cx="149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1601640" y="1481040"/>
            <a:ext cx="72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会查字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凄”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的字，用音序查字法应该先查音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再查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用部首查字法，应该先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部，再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。“凄”在字典里的意思有：①寒冷；②悲伤；③冷落静寂。在“凄厉”一词中，它的意思应该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3404880" y="223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9"/>
          <p:cNvSpPr/>
          <p:nvPr/>
        </p:nvSpPr>
        <p:spPr>
          <a:xfrm>
            <a:off x="2927160" y="2751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8"/>
          <p:cNvSpPr/>
          <p:nvPr/>
        </p:nvSpPr>
        <p:spPr>
          <a:xfrm>
            <a:off x="5638680" y="2708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20"/>
          <p:cNvSpPr/>
          <p:nvPr/>
        </p:nvSpPr>
        <p:spPr>
          <a:xfrm>
            <a:off x="3782880" y="333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23"/>
          <p:cNvSpPr/>
          <p:nvPr/>
        </p:nvSpPr>
        <p:spPr>
          <a:xfrm>
            <a:off x="6106320" y="3332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24"/>
          <p:cNvSpPr/>
          <p:nvPr/>
        </p:nvSpPr>
        <p:spPr>
          <a:xfrm>
            <a:off x="6433920" y="4437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2"/>
          <p:cNvSpPr/>
          <p:nvPr/>
        </p:nvSpPr>
        <p:spPr>
          <a:xfrm>
            <a:off x="539640" y="1582560"/>
            <a:ext cx="86043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补充词语，并选择合适的词语填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扑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变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举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目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鬼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孑立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嶙峋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忘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草原的气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一会儿烈日当空，一会儿大雨倾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展览馆展出的各种工艺品琳琅满目，令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"/>
          <p:cNvSpPr/>
          <p:nvPr/>
        </p:nvSpPr>
        <p:spPr>
          <a:xfrm>
            <a:off x="1939680" y="217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迷　    离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3"/>
          <p:cNvSpPr/>
          <p:nvPr/>
        </p:nvSpPr>
        <p:spPr>
          <a:xfrm>
            <a:off x="4611600" y="2205000"/>
            <a:ext cx="17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莫　     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0"/>
          <p:cNvSpPr/>
          <p:nvPr/>
        </p:nvSpPr>
        <p:spPr>
          <a:xfrm>
            <a:off x="1835280" y="270828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胜　    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1"/>
          <p:cNvSpPr/>
          <p:nvPr/>
        </p:nvSpPr>
        <p:spPr>
          <a:xfrm>
            <a:off x="4643280" y="2708280"/>
            <a:ext cx="192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闻　    名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2"/>
          <p:cNvSpPr/>
          <p:nvPr/>
        </p:nvSpPr>
        <p:spPr>
          <a:xfrm>
            <a:off x="1803240" y="321300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暇         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3"/>
          <p:cNvSpPr/>
          <p:nvPr/>
        </p:nvSpPr>
        <p:spPr>
          <a:xfrm>
            <a:off x="4611600" y="3213000"/>
            <a:ext cx="147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神        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9"/>
          <p:cNvSpPr/>
          <p:nvPr/>
        </p:nvSpPr>
        <p:spPr>
          <a:xfrm>
            <a:off x="1332000" y="3573360"/>
            <a:ext cx="143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孤　   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4"/>
          <p:cNvSpPr/>
          <p:nvPr/>
        </p:nvSpPr>
        <p:spPr>
          <a:xfrm>
            <a:off x="4067280" y="3718080"/>
            <a:ext cx="147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怪　    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5"/>
          <p:cNvSpPr/>
          <p:nvPr/>
        </p:nvSpPr>
        <p:spPr>
          <a:xfrm>
            <a:off x="1258920" y="4222800"/>
            <a:ext cx="147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流        连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16"/>
          <p:cNvSpPr/>
          <p:nvPr/>
        </p:nvSpPr>
        <p:spPr>
          <a:xfrm>
            <a:off x="2627280" y="4726080"/>
            <a:ext cx="147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变幻莫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17"/>
          <p:cNvSpPr/>
          <p:nvPr/>
        </p:nvSpPr>
        <p:spPr>
          <a:xfrm>
            <a:off x="6300720" y="5230800"/>
            <a:ext cx="147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目不暇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1"/>
          <p:cNvSpPr/>
          <p:nvPr/>
        </p:nvSpPr>
        <p:spPr>
          <a:xfrm>
            <a:off x="755640" y="1268280"/>
            <a:ext cx="813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句子乐园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周幽王及时派人点燃了烽火。诸侯们以为是周幽王故技重演，个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按兵不动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用关联词连成一句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玉帝展望台”位于北缘，宛如一位古代将军挂印拜帅的点将台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栩栩如生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仿写比喻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科罗拉多大峡谷，位于美国亚利桑那州西北的凯巴布高原上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1116000" y="2610000"/>
            <a:ext cx="7277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虽然周幽王及时派人点燃了烽火，但是诸侯们以为是周幽王故技重演，个个按兵不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3964680" y="45100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示例：天空中出现了一道彩虹，宛如一座彩桥悬在上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6"/>
          <p:cNvSpPr/>
          <p:nvPr/>
        </p:nvSpPr>
        <p:spPr>
          <a:xfrm>
            <a:off x="2369520" y="5445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大峡谷位于高原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866880" y="26496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嶂、魄”等生字；会写“博、庙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通过重音、停顿和语调来表达自己读课文时所体会到的感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6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其”点变捺，撇、捺要稍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3"/>
          <p:cNvSpPr/>
          <p:nvPr/>
        </p:nvSpPr>
        <p:spPr>
          <a:xfrm>
            <a:off x="2297160" y="1868400"/>
            <a:ext cx="6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07"/>
          <p:cNvSpPr/>
          <p:nvPr/>
        </p:nvSpPr>
        <p:spPr>
          <a:xfrm>
            <a:off x="5862600" y="4826160"/>
            <a:ext cx="1332000" cy="223560"/>
          </a:xfrm>
          <a:custGeom>
            <a:avLst/>
            <a:gdLst/>
            <a:ahLst/>
            <a:rect l="l" t="t" r="r" b="b"/>
            <a:pathLst>
              <a:path w="1677" h="282">
                <a:moveTo>
                  <a:pt x="748" y="73"/>
                </a:moveTo>
                <a:lnTo>
                  <a:pt x="785" y="67"/>
                </a:lnTo>
                <a:lnTo>
                  <a:pt x="819" y="61"/>
                </a:lnTo>
                <a:lnTo>
                  <a:pt x="854" y="55"/>
                </a:lnTo>
                <a:lnTo>
                  <a:pt x="886" y="50"/>
                </a:lnTo>
                <a:lnTo>
                  <a:pt x="919" y="46"/>
                </a:lnTo>
                <a:lnTo>
                  <a:pt x="950" y="40"/>
                </a:lnTo>
                <a:lnTo>
                  <a:pt x="980" y="36"/>
                </a:lnTo>
                <a:lnTo>
                  <a:pt x="1009" y="32"/>
                </a:lnTo>
                <a:lnTo>
                  <a:pt x="1038" y="29"/>
                </a:lnTo>
                <a:lnTo>
                  <a:pt x="1067" y="25"/>
                </a:lnTo>
                <a:lnTo>
                  <a:pt x="1094" y="21"/>
                </a:lnTo>
                <a:lnTo>
                  <a:pt x="1119" y="19"/>
                </a:lnTo>
                <a:lnTo>
                  <a:pt x="1144" y="15"/>
                </a:lnTo>
                <a:lnTo>
                  <a:pt x="1169" y="13"/>
                </a:lnTo>
                <a:lnTo>
                  <a:pt x="1192" y="9"/>
                </a:lnTo>
                <a:lnTo>
                  <a:pt x="1213" y="7"/>
                </a:lnTo>
                <a:lnTo>
                  <a:pt x="1236" y="6"/>
                </a:lnTo>
                <a:lnTo>
                  <a:pt x="1255" y="6"/>
                </a:lnTo>
                <a:lnTo>
                  <a:pt x="1274" y="4"/>
                </a:lnTo>
                <a:lnTo>
                  <a:pt x="1293" y="2"/>
                </a:lnTo>
                <a:lnTo>
                  <a:pt x="1311" y="2"/>
                </a:lnTo>
                <a:lnTo>
                  <a:pt x="1328" y="2"/>
                </a:lnTo>
                <a:lnTo>
                  <a:pt x="1343" y="0"/>
                </a:lnTo>
                <a:lnTo>
                  <a:pt x="1359" y="0"/>
                </a:lnTo>
                <a:lnTo>
                  <a:pt x="1374" y="2"/>
                </a:lnTo>
                <a:lnTo>
                  <a:pt x="1387" y="2"/>
                </a:lnTo>
                <a:lnTo>
                  <a:pt x="1399" y="2"/>
                </a:lnTo>
                <a:lnTo>
                  <a:pt x="1410" y="4"/>
                </a:lnTo>
                <a:lnTo>
                  <a:pt x="1420" y="6"/>
                </a:lnTo>
                <a:lnTo>
                  <a:pt x="1432" y="6"/>
                </a:lnTo>
                <a:lnTo>
                  <a:pt x="1439" y="7"/>
                </a:lnTo>
                <a:lnTo>
                  <a:pt x="1447" y="11"/>
                </a:lnTo>
                <a:lnTo>
                  <a:pt x="1472" y="15"/>
                </a:lnTo>
                <a:lnTo>
                  <a:pt x="1497" y="21"/>
                </a:lnTo>
                <a:lnTo>
                  <a:pt x="1520" y="25"/>
                </a:lnTo>
                <a:lnTo>
                  <a:pt x="1543" y="32"/>
                </a:lnTo>
                <a:lnTo>
                  <a:pt x="1562" y="40"/>
                </a:lnTo>
                <a:lnTo>
                  <a:pt x="1583" y="48"/>
                </a:lnTo>
                <a:lnTo>
                  <a:pt x="1593" y="54"/>
                </a:lnTo>
                <a:lnTo>
                  <a:pt x="1602" y="59"/>
                </a:lnTo>
                <a:lnTo>
                  <a:pt x="1610" y="65"/>
                </a:lnTo>
                <a:lnTo>
                  <a:pt x="1620" y="73"/>
                </a:lnTo>
                <a:lnTo>
                  <a:pt x="1631" y="86"/>
                </a:lnTo>
                <a:lnTo>
                  <a:pt x="1643" y="98"/>
                </a:lnTo>
                <a:lnTo>
                  <a:pt x="1652" y="109"/>
                </a:lnTo>
                <a:lnTo>
                  <a:pt x="1660" y="119"/>
                </a:lnTo>
                <a:lnTo>
                  <a:pt x="1668" y="130"/>
                </a:lnTo>
                <a:lnTo>
                  <a:pt x="1673" y="140"/>
                </a:lnTo>
                <a:lnTo>
                  <a:pt x="1675" y="144"/>
                </a:lnTo>
                <a:lnTo>
                  <a:pt x="1675" y="148"/>
                </a:lnTo>
                <a:lnTo>
                  <a:pt x="1677" y="153"/>
                </a:lnTo>
                <a:lnTo>
                  <a:pt x="1677" y="157"/>
                </a:lnTo>
                <a:lnTo>
                  <a:pt x="1677" y="159"/>
                </a:lnTo>
                <a:lnTo>
                  <a:pt x="1675" y="159"/>
                </a:lnTo>
                <a:lnTo>
                  <a:pt x="1673" y="161"/>
                </a:lnTo>
                <a:lnTo>
                  <a:pt x="1671" y="163"/>
                </a:lnTo>
                <a:lnTo>
                  <a:pt x="1670" y="163"/>
                </a:lnTo>
                <a:lnTo>
                  <a:pt x="1666" y="165"/>
                </a:lnTo>
                <a:lnTo>
                  <a:pt x="1662" y="165"/>
                </a:lnTo>
                <a:lnTo>
                  <a:pt x="1658" y="167"/>
                </a:lnTo>
                <a:lnTo>
                  <a:pt x="1652" y="169"/>
                </a:lnTo>
                <a:lnTo>
                  <a:pt x="1647" y="169"/>
                </a:lnTo>
                <a:lnTo>
                  <a:pt x="1641" y="171"/>
                </a:lnTo>
                <a:lnTo>
                  <a:pt x="1633" y="171"/>
                </a:lnTo>
                <a:lnTo>
                  <a:pt x="1625" y="173"/>
                </a:lnTo>
                <a:lnTo>
                  <a:pt x="1618" y="173"/>
                </a:lnTo>
                <a:lnTo>
                  <a:pt x="1608" y="174"/>
                </a:lnTo>
                <a:lnTo>
                  <a:pt x="1599" y="174"/>
                </a:lnTo>
                <a:lnTo>
                  <a:pt x="1589" y="176"/>
                </a:lnTo>
                <a:lnTo>
                  <a:pt x="1579" y="176"/>
                </a:lnTo>
                <a:lnTo>
                  <a:pt x="1568" y="176"/>
                </a:lnTo>
                <a:lnTo>
                  <a:pt x="1556" y="178"/>
                </a:lnTo>
                <a:lnTo>
                  <a:pt x="1543" y="178"/>
                </a:lnTo>
                <a:lnTo>
                  <a:pt x="1529" y="180"/>
                </a:lnTo>
                <a:lnTo>
                  <a:pt x="1516" y="180"/>
                </a:lnTo>
                <a:lnTo>
                  <a:pt x="1503" y="180"/>
                </a:lnTo>
                <a:lnTo>
                  <a:pt x="1487" y="180"/>
                </a:lnTo>
                <a:lnTo>
                  <a:pt x="1472" y="182"/>
                </a:lnTo>
                <a:lnTo>
                  <a:pt x="1457" y="182"/>
                </a:lnTo>
                <a:lnTo>
                  <a:pt x="1439" y="182"/>
                </a:lnTo>
                <a:lnTo>
                  <a:pt x="1422" y="182"/>
                </a:lnTo>
                <a:lnTo>
                  <a:pt x="1405" y="182"/>
                </a:lnTo>
                <a:lnTo>
                  <a:pt x="1385" y="182"/>
                </a:lnTo>
                <a:lnTo>
                  <a:pt x="1366" y="182"/>
                </a:lnTo>
                <a:lnTo>
                  <a:pt x="1328" y="182"/>
                </a:lnTo>
                <a:lnTo>
                  <a:pt x="1291" y="184"/>
                </a:lnTo>
                <a:lnTo>
                  <a:pt x="1255" y="184"/>
                </a:lnTo>
                <a:lnTo>
                  <a:pt x="1219" y="184"/>
                </a:lnTo>
                <a:lnTo>
                  <a:pt x="1184" y="186"/>
                </a:lnTo>
                <a:lnTo>
                  <a:pt x="1149" y="188"/>
                </a:lnTo>
                <a:lnTo>
                  <a:pt x="1115" y="188"/>
                </a:lnTo>
                <a:lnTo>
                  <a:pt x="1082" y="190"/>
                </a:lnTo>
                <a:lnTo>
                  <a:pt x="1052" y="192"/>
                </a:lnTo>
                <a:lnTo>
                  <a:pt x="1021" y="194"/>
                </a:lnTo>
                <a:lnTo>
                  <a:pt x="990" y="196"/>
                </a:lnTo>
                <a:lnTo>
                  <a:pt x="961" y="198"/>
                </a:lnTo>
                <a:lnTo>
                  <a:pt x="933" y="199"/>
                </a:lnTo>
                <a:lnTo>
                  <a:pt x="904" y="203"/>
                </a:lnTo>
                <a:lnTo>
                  <a:pt x="877" y="205"/>
                </a:lnTo>
                <a:lnTo>
                  <a:pt x="852" y="207"/>
                </a:lnTo>
                <a:lnTo>
                  <a:pt x="796" y="211"/>
                </a:lnTo>
                <a:lnTo>
                  <a:pt x="741" y="217"/>
                </a:lnTo>
                <a:lnTo>
                  <a:pt x="689" y="222"/>
                </a:lnTo>
                <a:lnTo>
                  <a:pt x="637" y="226"/>
                </a:lnTo>
                <a:lnTo>
                  <a:pt x="585" y="232"/>
                </a:lnTo>
                <a:lnTo>
                  <a:pt x="535" y="240"/>
                </a:lnTo>
                <a:lnTo>
                  <a:pt x="485" y="247"/>
                </a:lnTo>
                <a:lnTo>
                  <a:pt x="439" y="257"/>
                </a:lnTo>
                <a:lnTo>
                  <a:pt x="412" y="259"/>
                </a:lnTo>
                <a:lnTo>
                  <a:pt x="389" y="261"/>
                </a:lnTo>
                <a:lnTo>
                  <a:pt x="366" y="263"/>
                </a:lnTo>
                <a:lnTo>
                  <a:pt x="345" y="265"/>
                </a:lnTo>
                <a:lnTo>
                  <a:pt x="326" y="267"/>
                </a:lnTo>
                <a:lnTo>
                  <a:pt x="307" y="269"/>
                </a:lnTo>
                <a:lnTo>
                  <a:pt x="289" y="272"/>
                </a:lnTo>
                <a:lnTo>
                  <a:pt x="274" y="272"/>
                </a:lnTo>
                <a:lnTo>
                  <a:pt x="259" y="274"/>
                </a:lnTo>
                <a:lnTo>
                  <a:pt x="245" y="276"/>
                </a:lnTo>
                <a:lnTo>
                  <a:pt x="232" y="278"/>
                </a:lnTo>
                <a:lnTo>
                  <a:pt x="220" y="278"/>
                </a:lnTo>
                <a:lnTo>
                  <a:pt x="211" y="280"/>
                </a:lnTo>
                <a:lnTo>
                  <a:pt x="201" y="280"/>
                </a:lnTo>
                <a:lnTo>
                  <a:pt x="194" y="280"/>
                </a:lnTo>
                <a:lnTo>
                  <a:pt x="186" y="282"/>
                </a:lnTo>
                <a:lnTo>
                  <a:pt x="174" y="280"/>
                </a:lnTo>
                <a:lnTo>
                  <a:pt x="161" y="278"/>
                </a:lnTo>
                <a:lnTo>
                  <a:pt x="147" y="276"/>
                </a:lnTo>
                <a:lnTo>
                  <a:pt x="134" y="272"/>
                </a:lnTo>
                <a:lnTo>
                  <a:pt x="119" y="267"/>
                </a:lnTo>
                <a:lnTo>
                  <a:pt x="103" y="261"/>
                </a:lnTo>
                <a:lnTo>
                  <a:pt x="88" y="253"/>
                </a:lnTo>
                <a:lnTo>
                  <a:pt x="73" y="244"/>
                </a:lnTo>
                <a:lnTo>
                  <a:pt x="63" y="238"/>
                </a:lnTo>
                <a:lnTo>
                  <a:pt x="55" y="230"/>
                </a:lnTo>
                <a:lnTo>
                  <a:pt x="48" y="224"/>
                </a:lnTo>
                <a:lnTo>
                  <a:pt x="42" y="219"/>
                </a:lnTo>
                <a:lnTo>
                  <a:pt x="36" y="213"/>
                </a:lnTo>
                <a:lnTo>
                  <a:pt x="30" y="207"/>
                </a:lnTo>
                <a:lnTo>
                  <a:pt x="25" y="203"/>
                </a:lnTo>
                <a:lnTo>
                  <a:pt x="21" y="198"/>
                </a:lnTo>
                <a:lnTo>
                  <a:pt x="15" y="194"/>
                </a:lnTo>
                <a:lnTo>
                  <a:pt x="13" y="190"/>
                </a:lnTo>
                <a:lnTo>
                  <a:pt x="9" y="186"/>
                </a:lnTo>
                <a:lnTo>
                  <a:pt x="7" y="182"/>
                </a:lnTo>
                <a:lnTo>
                  <a:pt x="5" y="178"/>
                </a:lnTo>
                <a:lnTo>
                  <a:pt x="3" y="174"/>
                </a:lnTo>
                <a:lnTo>
                  <a:pt x="3" y="173"/>
                </a:lnTo>
                <a:lnTo>
                  <a:pt x="3" y="171"/>
                </a:lnTo>
                <a:lnTo>
                  <a:pt x="2" y="169"/>
                </a:lnTo>
                <a:lnTo>
                  <a:pt x="0" y="165"/>
                </a:lnTo>
                <a:lnTo>
                  <a:pt x="2" y="163"/>
                </a:lnTo>
                <a:lnTo>
                  <a:pt x="2" y="161"/>
                </a:lnTo>
                <a:lnTo>
                  <a:pt x="5" y="159"/>
                </a:lnTo>
                <a:lnTo>
                  <a:pt x="7" y="157"/>
                </a:lnTo>
                <a:lnTo>
                  <a:pt x="13" y="155"/>
                </a:lnTo>
                <a:lnTo>
                  <a:pt x="17" y="153"/>
                </a:lnTo>
                <a:lnTo>
                  <a:pt x="23" y="151"/>
                </a:lnTo>
                <a:lnTo>
                  <a:pt x="30" y="150"/>
                </a:lnTo>
                <a:lnTo>
                  <a:pt x="36" y="150"/>
                </a:lnTo>
                <a:lnTo>
                  <a:pt x="44" y="148"/>
                </a:lnTo>
                <a:lnTo>
                  <a:pt x="53" y="148"/>
                </a:lnTo>
                <a:lnTo>
                  <a:pt x="63" y="146"/>
                </a:lnTo>
                <a:lnTo>
                  <a:pt x="73" y="146"/>
                </a:lnTo>
                <a:lnTo>
                  <a:pt x="84" y="146"/>
                </a:lnTo>
                <a:lnTo>
                  <a:pt x="90" y="146"/>
                </a:lnTo>
                <a:lnTo>
                  <a:pt x="96" y="146"/>
                </a:lnTo>
                <a:lnTo>
                  <a:pt x="103" y="146"/>
                </a:lnTo>
                <a:lnTo>
                  <a:pt x="113" y="144"/>
                </a:lnTo>
                <a:lnTo>
                  <a:pt x="122" y="144"/>
                </a:lnTo>
                <a:lnTo>
                  <a:pt x="134" y="144"/>
                </a:lnTo>
                <a:lnTo>
                  <a:pt x="146" y="142"/>
                </a:lnTo>
                <a:lnTo>
                  <a:pt x="157" y="142"/>
                </a:lnTo>
                <a:lnTo>
                  <a:pt x="172" y="140"/>
                </a:lnTo>
                <a:lnTo>
                  <a:pt x="186" y="138"/>
                </a:lnTo>
                <a:lnTo>
                  <a:pt x="203" y="138"/>
                </a:lnTo>
                <a:lnTo>
                  <a:pt x="218" y="136"/>
                </a:lnTo>
                <a:lnTo>
                  <a:pt x="236" y="134"/>
                </a:lnTo>
                <a:lnTo>
                  <a:pt x="255" y="132"/>
                </a:lnTo>
                <a:lnTo>
                  <a:pt x="274" y="130"/>
                </a:lnTo>
                <a:lnTo>
                  <a:pt x="295" y="128"/>
                </a:lnTo>
                <a:lnTo>
                  <a:pt x="316" y="125"/>
                </a:lnTo>
                <a:lnTo>
                  <a:pt x="339" y="123"/>
                </a:lnTo>
                <a:lnTo>
                  <a:pt x="362" y="121"/>
                </a:lnTo>
                <a:lnTo>
                  <a:pt x="385" y="117"/>
                </a:lnTo>
                <a:lnTo>
                  <a:pt x="412" y="115"/>
                </a:lnTo>
                <a:lnTo>
                  <a:pt x="437" y="111"/>
                </a:lnTo>
                <a:lnTo>
                  <a:pt x="464" y="107"/>
                </a:lnTo>
                <a:lnTo>
                  <a:pt x="493" y="105"/>
                </a:lnTo>
                <a:lnTo>
                  <a:pt x="522" y="102"/>
                </a:lnTo>
                <a:lnTo>
                  <a:pt x="551" y="98"/>
                </a:lnTo>
                <a:lnTo>
                  <a:pt x="581" y="94"/>
                </a:lnTo>
                <a:lnTo>
                  <a:pt x="614" y="90"/>
                </a:lnTo>
                <a:lnTo>
                  <a:pt x="645" y="86"/>
                </a:lnTo>
                <a:lnTo>
                  <a:pt x="679" y="80"/>
                </a:lnTo>
                <a:lnTo>
                  <a:pt x="714" y="77"/>
                </a:lnTo>
                <a:lnTo>
                  <a:pt x="748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08"/>
          <p:cNvSpPr/>
          <p:nvPr/>
        </p:nvSpPr>
        <p:spPr>
          <a:xfrm>
            <a:off x="6423120" y="4222800"/>
            <a:ext cx="187200" cy="690480"/>
          </a:xfrm>
          <a:custGeom>
            <a:avLst/>
            <a:gdLst/>
            <a:ahLst/>
            <a:rect l="l" t="t" r="r" b="b"/>
            <a:pathLst>
              <a:path w="236" h="869">
                <a:moveTo>
                  <a:pt x="54" y="869"/>
                </a:moveTo>
                <a:lnTo>
                  <a:pt x="54" y="821"/>
                </a:lnTo>
                <a:lnTo>
                  <a:pt x="56" y="777"/>
                </a:lnTo>
                <a:lnTo>
                  <a:pt x="56" y="733"/>
                </a:lnTo>
                <a:lnTo>
                  <a:pt x="56" y="691"/>
                </a:lnTo>
                <a:lnTo>
                  <a:pt x="58" y="650"/>
                </a:lnTo>
                <a:lnTo>
                  <a:pt x="58" y="610"/>
                </a:lnTo>
                <a:lnTo>
                  <a:pt x="58" y="572"/>
                </a:lnTo>
                <a:lnTo>
                  <a:pt x="58" y="535"/>
                </a:lnTo>
                <a:lnTo>
                  <a:pt x="58" y="499"/>
                </a:lnTo>
                <a:lnTo>
                  <a:pt x="58" y="464"/>
                </a:lnTo>
                <a:lnTo>
                  <a:pt x="58" y="432"/>
                </a:lnTo>
                <a:lnTo>
                  <a:pt x="58" y="401"/>
                </a:lnTo>
                <a:lnTo>
                  <a:pt x="58" y="370"/>
                </a:lnTo>
                <a:lnTo>
                  <a:pt x="56" y="341"/>
                </a:lnTo>
                <a:lnTo>
                  <a:pt x="56" y="314"/>
                </a:lnTo>
                <a:lnTo>
                  <a:pt x="56" y="290"/>
                </a:lnTo>
                <a:lnTo>
                  <a:pt x="54" y="265"/>
                </a:lnTo>
                <a:lnTo>
                  <a:pt x="54" y="242"/>
                </a:lnTo>
                <a:lnTo>
                  <a:pt x="52" y="220"/>
                </a:lnTo>
                <a:lnTo>
                  <a:pt x="50" y="201"/>
                </a:lnTo>
                <a:lnTo>
                  <a:pt x="50" y="182"/>
                </a:lnTo>
                <a:lnTo>
                  <a:pt x="48" y="165"/>
                </a:lnTo>
                <a:lnTo>
                  <a:pt x="46" y="149"/>
                </a:lnTo>
                <a:lnTo>
                  <a:pt x="46" y="134"/>
                </a:lnTo>
                <a:lnTo>
                  <a:pt x="44" y="121"/>
                </a:lnTo>
                <a:lnTo>
                  <a:pt x="42" y="109"/>
                </a:lnTo>
                <a:lnTo>
                  <a:pt x="40" y="100"/>
                </a:lnTo>
                <a:lnTo>
                  <a:pt x="38" y="90"/>
                </a:lnTo>
                <a:lnTo>
                  <a:pt x="36" y="82"/>
                </a:lnTo>
                <a:lnTo>
                  <a:pt x="35" y="76"/>
                </a:lnTo>
                <a:lnTo>
                  <a:pt x="33" y="73"/>
                </a:lnTo>
                <a:lnTo>
                  <a:pt x="31" y="71"/>
                </a:lnTo>
                <a:lnTo>
                  <a:pt x="25" y="67"/>
                </a:lnTo>
                <a:lnTo>
                  <a:pt x="19" y="65"/>
                </a:lnTo>
                <a:lnTo>
                  <a:pt x="15" y="61"/>
                </a:lnTo>
                <a:lnTo>
                  <a:pt x="12" y="57"/>
                </a:lnTo>
                <a:lnTo>
                  <a:pt x="8" y="55"/>
                </a:lnTo>
                <a:lnTo>
                  <a:pt x="6" y="52"/>
                </a:lnTo>
                <a:lnTo>
                  <a:pt x="4" y="48"/>
                </a:lnTo>
                <a:lnTo>
                  <a:pt x="2" y="44"/>
                </a:lnTo>
                <a:lnTo>
                  <a:pt x="2" y="40"/>
                </a:lnTo>
                <a:lnTo>
                  <a:pt x="0" y="34"/>
                </a:lnTo>
                <a:lnTo>
                  <a:pt x="2" y="27"/>
                </a:lnTo>
                <a:lnTo>
                  <a:pt x="4" y="17"/>
                </a:lnTo>
                <a:lnTo>
                  <a:pt x="8" y="9"/>
                </a:lnTo>
                <a:lnTo>
                  <a:pt x="10" y="5"/>
                </a:lnTo>
                <a:lnTo>
                  <a:pt x="13" y="4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1" y="0"/>
                </a:lnTo>
                <a:lnTo>
                  <a:pt x="36" y="0"/>
                </a:lnTo>
                <a:lnTo>
                  <a:pt x="44" y="0"/>
                </a:lnTo>
                <a:lnTo>
                  <a:pt x="50" y="0"/>
                </a:lnTo>
                <a:lnTo>
                  <a:pt x="60" y="0"/>
                </a:lnTo>
                <a:lnTo>
                  <a:pt x="67" y="0"/>
                </a:lnTo>
                <a:lnTo>
                  <a:pt x="77" y="2"/>
                </a:lnTo>
                <a:lnTo>
                  <a:pt x="86" y="2"/>
                </a:lnTo>
                <a:lnTo>
                  <a:pt x="98" y="4"/>
                </a:lnTo>
                <a:lnTo>
                  <a:pt x="109" y="5"/>
                </a:lnTo>
                <a:lnTo>
                  <a:pt x="123" y="9"/>
                </a:lnTo>
                <a:lnTo>
                  <a:pt x="134" y="13"/>
                </a:lnTo>
                <a:lnTo>
                  <a:pt x="146" y="17"/>
                </a:lnTo>
                <a:lnTo>
                  <a:pt x="157" y="23"/>
                </a:lnTo>
                <a:lnTo>
                  <a:pt x="167" y="27"/>
                </a:lnTo>
                <a:lnTo>
                  <a:pt x="177" y="32"/>
                </a:lnTo>
                <a:lnTo>
                  <a:pt x="186" y="36"/>
                </a:lnTo>
                <a:lnTo>
                  <a:pt x="194" y="40"/>
                </a:lnTo>
                <a:lnTo>
                  <a:pt x="202" y="46"/>
                </a:lnTo>
                <a:lnTo>
                  <a:pt x="207" y="50"/>
                </a:lnTo>
                <a:lnTo>
                  <a:pt x="213" y="53"/>
                </a:lnTo>
                <a:lnTo>
                  <a:pt x="219" y="59"/>
                </a:lnTo>
                <a:lnTo>
                  <a:pt x="225" y="63"/>
                </a:lnTo>
                <a:lnTo>
                  <a:pt x="228" y="69"/>
                </a:lnTo>
                <a:lnTo>
                  <a:pt x="232" y="73"/>
                </a:lnTo>
                <a:lnTo>
                  <a:pt x="234" y="76"/>
                </a:lnTo>
                <a:lnTo>
                  <a:pt x="236" y="82"/>
                </a:lnTo>
                <a:lnTo>
                  <a:pt x="236" y="92"/>
                </a:lnTo>
                <a:lnTo>
                  <a:pt x="236" y="101"/>
                </a:lnTo>
                <a:lnTo>
                  <a:pt x="236" y="115"/>
                </a:lnTo>
                <a:lnTo>
                  <a:pt x="236" y="126"/>
                </a:lnTo>
                <a:lnTo>
                  <a:pt x="234" y="140"/>
                </a:lnTo>
                <a:lnTo>
                  <a:pt x="232" y="153"/>
                </a:lnTo>
                <a:lnTo>
                  <a:pt x="228" y="167"/>
                </a:lnTo>
                <a:lnTo>
                  <a:pt x="227" y="180"/>
                </a:lnTo>
                <a:lnTo>
                  <a:pt x="223" y="188"/>
                </a:lnTo>
                <a:lnTo>
                  <a:pt x="223" y="197"/>
                </a:lnTo>
                <a:lnTo>
                  <a:pt x="221" y="207"/>
                </a:lnTo>
                <a:lnTo>
                  <a:pt x="219" y="219"/>
                </a:lnTo>
                <a:lnTo>
                  <a:pt x="217" y="232"/>
                </a:lnTo>
                <a:lnTo>
                  <a:pt x="217" y="247"/>
                </a:lnTo>
                <a:lnTo>
                  <a:pt x="215" y="263"/>
                </a:lnTo>
                <a:lnTo>
                  <a:pt x="213" y="278"/>
                </a:lnTo>
                <a:lnTo>
                  <a:pt x="213" y="297"/>
                </a:lnTo>
                <a:lnTo>
                  <a:pt x="211" y="316"/>
                </a:lnTo>
                <a:lnTo>
                  <a:pt x="211" y="336"/>
                </a:lnTo>
                <a:lnTo>
                  <a:pt x="209" y="357"/>
                </a:lnTo>
                <a:lnTo>
                  <a:pt x="207" y="378"/>
                </a:lnTo>
                <a:lnTo>
                  <a:pt x="205" y="403"/>
                </a:lnTo>
                <a:lnTo>
                  <a:pt x="205" y="426"/>
                </a:lnTo>
                <a:lnTo>
                  <a:pt x="203" y="451"/>
                </a:lnTo>
                <a:lnTo>
                  <a:pt x="200" y="506"/>
                </a:lnTo>
                <a:lnTo>
                  <a:pt x="196" y="560"/>
                </a:lnTo>
                <a:lnTo>
                  <a:pt x="194" y="612"/>
                </a:lnTo>
                <a:lnTo>
                  <a:pt x="192" y="664"/>
                </a:lnTo>
                <a:lnTo>
                  <a:pt x="192" y="716"/>
                </a:lnTo>
                <a:lnTo>
                  <a:pt x="192" y="767"/>
                </a:lnTo>
                <a:lnTo>
                  <a:pt x="192" y="869"/>
                </a:lnTo>
                <a:lnTo>
                  <a:pt x="123" y="869"/>
                </a:lnTo>
                <a:lnTo>
                  <a:pt x="54" y="8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09"/>
          <p:cNvSpPr/>
          <p:nvPr/>
        </p:nvSpPr>
        <p:spPr>
          <a:xfrm>
            <a:off x="6207120" y="4475160"/>
            <a:ext cx="650880" cy="169920"/>
          </a:xfrm>
          <a:custGeom>
            <a:avLst/>
            <a:gdLst/>
            <a:ahLst/>
            <a:rect l="l" t="t" r="r" b="b"/>
            <a:pathLst>
              <a:path w="820" h="215">
                <a:moveTo>
                  <a:pt x="705" y="123"/>
                </a:moveTo>
                <a:lnTo>
                  <a:pt x="691" y="127"/>
                </a:lnTo>
                <a:lnTo>
                  <a:pt x="678" y="131"/>
                </a:lnTo>
                <a:lnTo>
                  <a:pt x="663" y="137"/>
                </a:lnTo>
                <a:lnTo>
                  <a:pt x="647" y="141"/>
                </a:lnTo>
                <a:lnTo>
                  <a:pt x="630" y="146"/>
                </a:lnTo>
                <a:lnTo>
                  <a:pt x="613" y="150"/>
                </a:lnTo>
                <a:lnTo>
                  <a:pt x="595" y="154"/>
                </a:lnTo>
                <a:lnTo>
                  <a:pt x="578" y="160"/>
                </a:lnTo>
                <a:lnTo>
                  <a:pt x="559" y="164"/>
                </a:lnTo>
                <a:lnTo>
                  <a:pt x="538" y="169"/>
                </a:lnTo>
                <a:lnTo>
                  <a:pt x="519" y="173"/>
                </a:lnTo>
                <a:lnTo>
                  <a:pt x="498" y="177"/>
                </a:lnTo>
                <a:lnTo>
                  <a:pt x="475" y="183"/>
                </a:lnTo>
                <a:lnTo>
                  <a:pt x="453" y="187"/>
                </a:lnTo>
                <a:lnTo>
                  <a:pt x="430" y="192"/>
                </a:lnTo>
                <a:lnTo>
                  <a:pt x="407" y="196"/>
                </a:lnTo>
                <a:lnTo>
                  <a:pt x="382" y="200"/>
                </a:lnTo>
                <a:lnTo>
                  <a:pt x="361" y="204"/>
                </a:lnTo>
                <a:lnTo>
                  <a:pt x="338" y="208"/>
                </a:lnTo>
                <a:lnTo>
                  <a:pt x="317" y="210"/>
                </a:lnTo>
                <a:lnTo>
                  <a:pt x="296" y="212"/>
                </a:lnTo>
                <a:lnTo>
                  <a:pt x="275" y="213"/>
                </a:lnTo>
                <a:lnTo>
                  <a:pt x="256" y="215"/>
                </a:lnTo>
                <a:lnTo>
                  <a:pt x="237" y="215"/>
                </a:lnTo>
                <a:lnTo>
                  <a:pt x="219" y="215"/>
                </a:lnTo>
                <a:lnTo>
                  <a:pt x="202" y="213"/>
                </a:lnTo>
                <a:lnTo>
                  <a:pt x="187" y="212"/>
                </a:lnTo>
                <a:lnTo>
                  <a:pt x="171" y="210"/>
                </a:lnTo>
                <a:lnTo>
                  <a:pt x="156" y="208"/>
                </a:lnTo>
                <a:lnTo>
                  <a:pt x="144" y="204"/>
                </a:lnTo>
                <a:lnTo>
                  <a:pt x="131" y="200"/>
                </a:lnTo>
                <a:lnTo>
                  <a:pt x="119" y="196"/>
                </a:lnTo>
                <a:lnTo>
                  <a:pt x="108" y="194"/>
                </a:lnTo>
                <a:lnTo>
                  <a:pt x="96" y="190"/>
                </a:lnTo>
                <a:lnTo>
                  <a:pt x="85" y="189"/>
                </a:lnTo>
                <a:lnTo>
                  <a:pt x="75" y="185"/>
                </a:lnTo>
                <a:lnTo>
                  <a:pt x="66" y="181"/>
                </a:lnTo>
                <a:lnTo>
                  <a:pt x="56" y="179"/>
                </a:lnTo>
                <a:lnTo>
                  <a:pt x="48" y="175"/>
                </a:lnTo>
                <a:lnTo>
                  <a:pt x="41" y="171"/>
                </a:lnTo>
                <a:lnTo>
                  <a:pt x="35" y="167"/>
                </a:lnTo>
                <a:lnTo>
                  <a:pt x="29" y="165"/>
                </a:lnTo>
                <a:lnTo>
                  <a:pt x="23" y="162"/>
                </a:lnTo>
                <a:lnTo>
                  <a:pt x="18" y="158"/>
                </a:lnTo>
                <a:lnTo>
                  <a:pt x="14" y="156"/>
                </a:lnTo>
                <a:lnTo>
                  <a:pt x="10" y="152"/>
                </a:lnTo>
                <a:lnTo>
                  <a:pt x="8" y="150"/>
                </a:lnTo>
                <a:lnTo>
                  <a:pt x="6" y="146"/>
                </a:lnTo>
                <a:lnTo>
                  <a:pt x="4" y="144"/>
                </a:lnTo>
                <a:lnTo>
                  <a:pt x="2" y="142"/>
                </a:lnTo>
                <a:lnTo>
                  <a:pt x="2" y="141"/>
                </a:lnTo>
                <a:lnTo>
                  <a:pt x="0" y="139"/>
                </a:lnTo>
                <a:lnTo>
                  <a:pt x="2" y="135"/>
                </a:lnTo>
                <a:lnTo>
                  <a:pt x="2" y="133"/>
                </a:lnTo>
                <a:lnTo>
                  <a:pt x="4" y="131"/>
                </a:lnTo>
                <a:lnTo>
                  <a:pt x="6" y="129"/>
                </a:lnTo>
                <a:lnTo>
                  <a:pt x="8" y="127"/>
                </a:lnTo>
                <a:lnTo>
                  <a:pt x="10" y="123"/>
                </a:lnTo>
                <a:lnTo>
                  <a:pt x="14" y="121"/>
                </a:lnTo>
                <a:lnTo>
                  <a:pt x="18" y="119"/>
                </a:lnTo>
                <a:lnTo>
                  <a:pt x="23" y="117"/>
                </a:lnTo>
                <a:lnTo>
                  <a:pt x="27" y="116"/>
                </a:lnTo>
                <a:lnTo>
                  <a:pt x="33" y="112"/>
                </a:lnTo>
                <a:lnTo>
                  <a:pt x="41" y="110"/>
                </a:lnTo>
                <a:lnTo>
                  <a:pt x="52" y="106"/>
                </a:lnTo>
                <a:lnTo>
                  <a:pt x="64" y="104"/>
                </a:lnTo>
                <a:lnTo>
                  <a:pt x="73" y="100"/>
                </a:lnTo>
                <a:lnTo>
                  <a:pt x="85" y="100"/>
                </a:lnTo>
                <a:lnTo>
                  <a:pt x="93" y="98"/>
                </a:lnTo>
                <a:lnTo>
                  <a:pt x="102" y="98"/>
                </a:lnTo>
                <a:lnTo>
                  <a:pt x="119" y="98"/>
                </a:lnTo>
                <a:lnTo>
                  <a:pt x="123" y="98"/>
                </a:lnTo>
                <a:lnTo>
                  <a:pt x="127" y="96"/>
                </a:lnTo>
                <a:lnTo>
                  <a:pt x="135" y="96"/>
                </a:lnTo>
                <a:lnTo>
                  <a:pt x="142" y="96"/>
                </a:lnTo>
                <a:lnTo>
                  <a:pt x="154" y="94"/>
                </a:lnTo>
                <a:lnTo>
                  <a:pt x="166" y="93"/>
                </a:lnTo>
                <a:lnTo>
                  <a:pt x="179" y="91"/>
                </a:lnTo>
                <a:lnTo>
                  <a:pt x="194" y="87"/>
                </a:lnTo>
                <a:lnTo>
                  <a:pt x="212" y="85"/>
                </a:lnTo>
                <a:lnTo>
                  <a:pt x="231" y="81"/>
                </a:lnTo>
                <a:lnTo>
                  <a:pt x="250" y="77"/>
                </a:lnTo>
                <a:lnTo>
                  <a:pt x="271" y="71"/>
                </a:lnTo>
                <a:lnTo>
                  <a:pt x="294" y="68"/>
                </a:lnTo>
                <a:lnTo>
                  <a:pt x="319" y="62"/>
                </a:lnTo>
                <a:lnTo>
                  <a:pt x="346" y="56"/>
                </a:lnTo>
                <a:lnTo>
                  <a:pt x="373" y="48"/>
                </a:lnTo>
                <a:lnTo>
                  <a:pt x="400" y="43"/>
                </a:lnTo>
                <a:lnTo>
                  <a:pt x="427" y="35"/>
                </a:lnTo>
                <a:lnTo>
                  <a:pt x="452" y="29"/>
                </a:lnTo>
                <a:lnTo>
                  <a:pt x="475" y="25"/>
                </a:lnTo>
                <a:lnTo>
                  <a:pt x="498" y="20"/>
                </a:lnTo>
                <a:lnTo>
                  <a:pt x="521" y="16"/>
                </a:lnTo>
                <a:lnTo>
                  <a:pt x="540" y="14"/>
                </a:lnTo>
                <a:lnTo>
                  <a:pt x="559" y="10"/>
                </a:lnTo>
                <a:lnTo>
                  <a:pt x="578" y="8"/>
                </a:lnTo>
                <a:lnTo>
                  <a:pt x="595" y="4"/>
                </a:lnTo>
                <a:lnTo>
                  <a:pt x="611" y="4"/>
                </a:lnTo>
                <a:lnTo>
                  <a:pt x="626" y="2"/>
                </a:lnTo>
                <a:lnTo>
                  <a:pt x="638" y="0"/>
                </a:lnTo>
                <a:lnTo>
                  <a:pt x="651" y="0"/>
                </a:lnTo>
                <a:lnTo>
                  <a:pt x="661" y="0"/>
                </a:lnTo>
                <a:lnTo>
                  <a:pt x="670" y="0"/>
                </a:lnTo>
                <a:lnTo>
                  <a:pt x="695" y="0"/>
                </a:lnTo>
                <a:lnTo>
                  <a:pt x="709" y="0"/>
                </a:lnTo>
                <a:lnTo>
                  <a:pt x="722" y="0"/>
                </a:lnTo>
                <a:lnTo>
                  <a:pt x="736" y="2"/>
                </a:lnTo>
                <a:lnTo>
                  <a:pt x="747" y="4"/>
                </a:lnTo>
                <a:lnTo>
                  <a:pt x="761" y="8"/>
                </a:lnTo>
                <a:lnTo>
                  <a:pt x="774" y="12"/>
                </a:lnTo>
                <a:lnTo>
                  <a:pt x="780" y="14"/>
                </a:lnTo>
                <a:lnTo>
                  <a:pt x="786" y="16"/>
                </a:lnTo>
                <a:lnTo>
                  <a:pt x="791" y="20"/>
                </a:lnTo>
                <a:lnTo>
                  <a:pt x="795" y="22"/>
                </a:lnTo>
                <a:lnTo>
                  <a:pt x="803" y="25"/>
                </a:lnTo>
                <a:lnTo>
                  <a:pt x="810" y="31"/>
                </a:lnTo>
                <a:lnTo>
                  <a:pt x="814" y="35"/>
                </a:lnTo>
                <a:lnTo>
                  <a:pt x="818" y="39"/>
                </a:lnTo>
                <a:lnTo>
                  <a:pt x="818" y="45"/>
                </a:lnTo>
                <a:lnTo>
                  <a:pt x="820" y="48"/>
                </a:lnTo>
                <a:lnTo>
                  <a:pt x="820" y="50"/>
                </a:lnTo>
                <a:lnTo>
                  <a:pt x="818" y="54"/>
                </a:lnTo>
                <a:lnTo>
                  <a:pt x="816" y="56"/>
                </a:lnTo>
                <a:lnTo>
                  <a:pt x="812" y="60"/>
                </a:lnTo>
                <a:lnTo>
                  <a:pt x="809" y="64"/>
                </a:lnTo>
                <a:lnTo>
                  <a:pt x="805" y="68"/>
                </a:lnTo>
                <a:lnTo>
                  <a:pt x="799" y="71"/>
                </a:lnTo>
                <a:lnTo>
                  <a:pt x="791" y="75"/>
                </a:lnTo>
                <a:lnTo>
                  <a:pt x="786" y="81"/>
                </a:lnTo>
                <a:lnTo>
                  <a:pt x="776" y="85"/>
                </a:lnTo>
                <a:lnTo>
                  <a:pt x="766" y="91"/>
                </a:lnTo>
                <a:lnTo>
                  <a:pt x="757" y="96"/>
                </a:lnTo>
                <a:lnTo>
                  <a:pt x="745" y="102"/>
                </a:lnTo>
                <a:lnTo>
                  <a:pt x="734" y="110"/>
                </a:lnTo>
                <a:lnTo>
                  <a:pt x="720" y="116"/>
                </a:lnTo>
                <a:lnTo>
                  <a:pt x="705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10"/>
          <p:cNvSpPr/>
          <p:nvPr/>
        </p:nvSpPr>
        <p:spPr>
          <a:xfrm>
            <a:off x="6637320" y="3976560"/>
            <a:ext cx="1166760" cy="695520"/>
          </a:xfrm>
          <a:custGeom>
            <a:avLst/>
            <a:gdLst/>
            <a:ahLst/>
            <a:rect l="l" t="t" r="r" b="b"/>
            <a:pathLst>
              <a:path w="1468" h="877">
                <a:moveTo>
                  <a:pt x="940" y="873"/>
                </a:moveTo>
                <a:lnTo>
                  <a:pt x="925" y="869"/>
                </a:lnTo>
                <a:lnTo>
                  <a:pt x="909" y="864"/>
                </a:lnTo>
                <a:lnTo>
                  <a:pt x="892" y="858"/>
                </a:lnTo>
                <a:lnTo>
                  <a:pt x="873" y="850"/>
                </a:lnTo>
                <a:lnTo>
                  <a:pt x="856" y="839"/>
                </a:lnTo>
                <a:lnTo>
                  <a:pt x="837" y="827"/>
                </a:lnTo>
                <a:lnTo>
                  <a:pt x="815" y="814"/>
                </a:lnTo>
                <a:lnTo>
                  <a:pt x="794" y="798"/>
                </a:lnTo>
                <a:lnTo>
                  <a:pt x="773" y="783"/>
                </a:lnTo>
                <a:lnTo>
                  <a:pt x="752" y="764"/>
                </a:lnTo>
                <a:lnTo>
                  <a:pt x="729" y="743"/>
                </a:lnTo>
                <a:lnTo>
                  <a:pt x="706" y="721"/>
                </a:lnTo>
                <a:lnTo>
                  <a:pt x="683" y="697"/>
                </a:lnTo>
                <a:lnTo>
                  <a:pt x="658" y="672"/>
                </a:lnTo>
                <a:lnTo>
                  <a:pt x="633" y="643"/>
                </a:lnTo>
                <a:lnTo>
                  <a:pt x="608" y="614"/>
                </a:lnTo>
                <a:lnTo>
                  <a:pt x="579" y="583"/>
                </a:lnTo>
                <a:lnTo>
                  <a:pt x="551" y="553"/>
                </a:lnTo>
                <a:lnTo>
                  <a:pt x="520" y="520"/>
                </a:lnTo>
                <a:lnTo>
                  <a:pt x="487" y="487"/>
                </a:lnTo>
                <a:lnTo>
                  <a:pt x="455" y="453"/>
                </a:lnTo>
                <a:lnTo>
                  <a:pt x="420" y="418"/>
                </a:lnTo>
                <a:lnTo>
                  <a:pt x="384" y="382"/>
                </a:lnTo>
                <a:lnTo>
                  <a:pt x="347" y="343"/>
                </a:lnTo>
                <a:lnTo>
                  <a:pt x="309" y="305"/>
                </a:lnTo>
                <a:lnTo>
                  <a:pt x="268" y="267"/>
                </a:lnTo>
                <a:lnTo>
                  <a:pt x="226" y="224"/>
                </a:lnTo>
                <a:lnTo>
                  <a:pt x="184" y="182"/>
                </a:lnTo>
                <a:lnTo>
                  <a:pt x="140" y="140"/>
                </a:lnTo>
                <a:lnTo>
                  <a:pt x="96" y="94"/>
                </a:lnTo>
                <a:lnTo>
                  <a:pt x="48" y="48"/>
                </a:lnTo>
                <a:lnTo>
                  <a:pt x="0" y="0"/>
                </a:lnTo>
                <a:lnTo>
                  <a:pt x="15" y="0"/>
                </a:lnTo>
                <a:lnTo>
                  <a:pt x="30" y="2"/>
                </a:lnTo>
                <a:lnTo>
                  <a:pt x="46" y="4"/>
                </a:lnTo>
                <a:lnTo>
                  <a:pt x="61" y="5"/>
                </a:lnTo>
                <a:lnTo>
                  <a:pt x="75" y="9"/>
                </a:lnTo>
                <a:lnTo>
                  <a:pt x="90" y="13"/>
                </a:lnTo>
                <a:lnTo>
                  <a:pt x="105" y="19"/>
                </a:lnTo>
                <a:lnTo>
                  <a:pt x="119" y="25"/>
                </a:lnTo>
                <a:lnTo>
                  <a:pt x="134" y="32"/>
                </a:lnTo>
                <a:lnTo>
                  <a:pt x="147" y="40"/>
                </a:lnTo>
                <a:lnTo>
                  <a:pt x="163" y="48"/>
                </a:lnTo>
                <a:lnTo>
                  <a:pt x="176" y="55"/>
                </a:lnTo>
                <a:lnTo>
                  <a:pt x="190" y="65"/>
                </a:lnTo>
                <a:lnTo>
                  <a:pt x="203" y="77"/>
                </a:lnTo>
                <a:lnTo>
                  <a:pt x="217" y="86"/>
                </a:lnTo>
                <a:lnTo>
                  <a:pt x="230" y="98"/>
                </a:lnTo>
                <a:lnTo>
                  <a:pt x="243" y="109"/>
                </a:lnTo>
                <a:lnTo>
                  <a:pt x="257" y="123"/>
                </a:lnTo>
                <a:lnTo>
                  <a:pt x="272" y="136"/>
                </a:lnTo>
                <a:lnTo>
                  <a:pt x="289" y="151"/>
                </a:lnTo>
                <a:lnTo>
                  <a:pt x="307" y="165"/>
                </a:lnTo>
                <a:lnTo>
                  <a:pt x="326" y="180"/>
                </a:lnTo>
                <a:lnTo>
                  <a:pt x="345" y="197"/>
                </a:lnTo>
                <a:lnTo>
                  <a:pt x="366" y="215"/>
                </a:lnTo>
                <a:lnTo>
                  <a:pt x="387" y="232"/>
                </a:lnTo>
                <a:lnTo>
                  <a:pt x="410" y="249"/>
                </a:lnTo>
                <a:lnTo>
                  <a:pt x="433" y="268"/>
                </a:lnTo>
                <a:lnTo>
                  <a:pt x="456" y="288"/>
                </a:lnTo>
                <a:lnTo>
                  <a:pt x="481" y="307"/>
                </a:lnTo>
                <a:lnTo>
                  <a:pt x="508" y="326"/>
                </a:lnTo>
                <a:lnTo>
                  <a:pt x="535" y="347"/>
                </a:lnTo>
                <a:lnTo>
                  <a:pt x="562" y="368"/>
                </a:lnTo>
                <a:lnTo>
                  <a:pt x="591" y="391"/>
                </a:lnTo>
                <a:lnTo>
                  <a:pt x="620" y="414"/>
                </a:lnTo>
                <a:lnTo>
                  <a:pt x="648" y="435"/>
                </a:lnTo>
                <a:lnTo>
                  <a:pt x="679" y="457"/>
                </a:lnTo>
                <a:lnTo>
                  <a:pt x="712" y="476"/>
                </a:lnTo>
                <a:lnTo>
                  <a:pt x="744" y="497"/>
                </a:lnTo>
                <a:lnTo>
                  <a:pt x="779" y="516"/>
                </a:lnTo>
                <a:lnTo>
                  <a:pt x="814" y="533"/>
                </a:lnTo>
                <a:lnTo>
                  <a:pt x="848" y="553"/>
                </a:lnTo>
                <a:lnTo>
                  <a:pt x="885" y="570"/>
                </a:lnTo>
                <a:lnTo>
                  <a:pt x="923" y="587"/>
                </a:lnTo>
                <a:lnTo>
                  <a:pt x="961" y="602"/>
                </a:lnTo>
                <a:lnTo>
                  <a:pt x="1000" y="620"/>
                </a:lnTo>
                <a:lnTo>
                  <a:pt x="1040" y="635"/>
                </a:lnTo>
                <a:lnTo>
                  <a:pt x="1082" y="649"/>
                </a:lnTo>
                <a:lnTo>
                  <a:pt x="1124" y="664"/>
                </a:lnTo>
                <a:lnTo>
                  <a:pt x="1146" y="670"/>
                </a:lnTo>
                <a:lnTo>
                  <a:pt x="1165" y="677"/>
                </a:lnTo>
                <a:lnTo>
                  <a:pt x="1186" y="683"/>
                </a:lnTo>
                <a:lnTo>
                  <a:pt x="1205" y="691"/>
                </a:lnTo>
                <a:lnTo>
                  <a:pt x="1222" y="697"/>
                </a:lnTo>
                <a:lnTo>
                  <a:pt x="1242" y="702"/>
                </a:lnTo>
                <a:lnTo>
                  <a:pt x="1257" y="708"/>
                </a:lnTo>
                <a:lnTo>
                  <a:pt x="1274" y="714"/>
                </a:lnTo>
                <a:lnTo>
                  <a:pt x="1290" y="720"/>
                </a:lnTo>
                <a:lnTo>
                  <a:pt x="1305" y="725"/>
                </a:lnTo>
                <a:lnTo>
                  <a:pt x="1320" y="731"/>
                </a:lnTo>
                <a:lnTo>
                  <a:pt x="1334" y="737"/>
                </a:lnTo>
                <a:lnTo>
                  <a:pt x="1347" y="741"/>
                </a:lnTo>
                <a:lnTo>
                  <a:pt x="1359" y="746"/>
                </a:lnTo>
                <a:lnTo>
                  <a:pt x="1370" y="750"/>
                </a:lnTo>
                <a:lnTo>
                  <a:pt x="1382" y="754"/>
                </a:lnTo>
                <a:lnTo>
                  <a:pt x="1391" y="758"/>
                </a:lnTo>
                <a:lnTo>
                  <a:pt x="1401" y="762"/>
                </a:lnTo>
                <a:lnTo>
                  <a:pt x="1410" y="766"/>
                </a:lnTo>
                <a:lnTo>
                  <a:pt x="1420" y="769"/>
                </a:lnTo>
                <a:lnTo>
                  <a:pt x="1428" y="773"/>
                </a:lnTo>
                <a:lnTo>
                  <a:pt x="1433" y="777"/>
                </a:lnTo>
                <a:lnTo>
                  <a:pt x="1441" y="779"/>
                </a:lnTo>
                <a:lnTo>
                  <a:pt x="1447" y="783"/>
                </a:lnTo>
                <a:lnTo>
                  <a:pt x="1451" y="785"/>
                </a:lnTo>
                <a:lnTo>
                  <a:pt x="1455" y="789"/>
                </a:lnTo>
                <a:lnTo>
                  <a:pt x="1458" y="791"/>
                </a:lnTo>
                <a:lnTo>
                  <a:pt x="1462" y="792"/>
                </a:lnTo>
                <a:lnTo>
                  <a:pt x="1464" y="794"/>
                </a:lnTo>
                <a:lnTo>
                  <a:pt x="1466" y="796"/>
                </a:lnTo>
                <a:lnTo>
                  <a:pt x="1468" y="798"/>
                </a:lnTo>
                <a:lnTo>
                  <a:pt x="1466" y="802"/>
                </a:lnTo>
                <a:lnTo>
                  <a:pt x="1464" y="804"/>
                </a:lnTo>
                <a:lnTo>
                  <a:pt x="1460" y="806"/>
                </a:lnTo>
                <a:lnTo>
                  <a:pt x="1455" y="810"/>
                </a:lnTo>
                <a:lnTo>
                  <a:pt x="1447" y="814"/>
                </a:lnTo>
                <a:lnTo>
                  <a:pt x="1439" y="816"/>
                </a:lnTo>
                <a:lnTo>
                  <a:pt x="1430" y="819"/>
                </a:lnTo>
                <a:lnTo>
                  <a:pt x="1418" y="823"/>
                </a:lnTo>
                <a:lnTo>
                  <a:pt x="1405" y="827"/>
                </a:lnTo>
                <a:lnTo>
                  <a:pt x="1389" y="829"/>
                </a:lnTo>
                <a:lnTo>
                  <a:pt x="1374" y="833"/>
                </a:lnTo>
                <a:lnTo>
                  <a:pt x="1357" y="837"/>
                </a:lnTo>
                <a:lnTo>
                  <a:pt x="1338" y="840"/>
                </a:lnTo>
                <a:lnTo>
                  <a:pt x="1318" y="842"/>
                </a:lnTo>
                <a:lnTo>
                  <a:pt x="1295" y="844"/>
                </a:lnTo>
                <a:lnTo>
                  <a:pt x="1272" y="848"/>
                </a:lnTo>
                <a:lnTo>
                  <a:pt x="1247" y="852"/>
                </a:lnTo>
                <a:lnTo>
                  <a:pt x="1222" y="856"/>
                </a:lnTo>
                <a:lnTo>
                  <a:pt x="1197" y="860"/>
                </a:lnTo>
                <a:lnTo>
                  <a:pt x="1174" y="864"/>
                </a:lnTo>
                <a:lnTo>
                  <a:pt x="1151" y="867"/>
                </a:lnTo>
                <a:lnTo>
                  <a:pt x="1128" y="869"/>
                </a:lnTo>
                <a:lnTo>
                  <a:pt x="1107" y="873"/>
                </a:lnTo>
                <a:lnTo>
                  <a:pt x="1084" y="875"/>
                </a:lnTo>
                <a:lnTo>
                  <a:pt x="1065" y="875"/>
                </a:lnTo>
                <a:lnTo>
                  <a:pt x="1044" y="877"/>
                </a:lnTo>
                <a:lnTo>
                  <a:pt x="1025" y="877"/>
                </a:lnTo>
                <a:lnTo>
                  <a:pt x="1007" y="877"/>
                </a:lnTo>
                <a:lnTo>
                  <a:pt x="988" y="877"/>
                </a:lnTo>
                <a:lnTo>
                  <a:pt x="973" y="875"/>
                </a:lnTo>
                <a:lnTo>
                  <a:pt x="956" y="875"/>
                </a:lnTo>
                <a:lnTo>
                  <a:pt x="940" y="8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11"/>
          <p:cNvSpPr/>
          <p:nvPr/>
        </p:nvSpPr>
        <p:spPr>
          <a:xfrm>
            <a:off x="5519880" y="4054320"/>
            <a:ext cx="771480" cy="803520"/>
          </a:xfrm>
          <a:custGeom>
            <a:avLst/>
            <a:gdLst/>
            <a:ahLst/>
            <a:rect l="l" t="t" r="r" b="b"/>
            <a:pathLst>
              <a:path w="973" h="1011">
                <a:moveTo>
                  <a:pt x="618" y="627"/>
                </a:moveTo>
                <a:lnTo>
                  <a:pt x="593" y="652"/>
                </a:lnTo>
                <a:lnTo>
                  <a:pt x="568" y="677"/>
                </a:lnTo>
                <a:lnTo>
                  <a:pt x="541" y="700"/>
                </a:lnTo>
                <a:lnTo>
                  <a:pt x="516" y="721"/>
                </a:lnTo>
                <a:lnTo>
                  <a:pt x="489" y="742"/>
                </a:lnTo>
                <a:lnTo>
                  <a:pt x="464" y="764"/>
                </a:lnTo>
                <a:lnTo>
                  <a:pt x="437" y="783"/>
                </a:lnTo>
                <a:lnTo>
                  <a:pt x="412" y="802"/>
                </a:lnTo>
                <a:lnTo>
                  <a:pt x="386" y="821"/>
                </a:lnTo>
                <a:lnTo>
                  <a:pt x="361" y="837"/>
                </a:lnTo>
                <a:lnTo>
                  <a:pt x="334" y="854"/>
                </a:lnTo>
                <a:lnTo>
                  <a:pt x="309" y="869"/>
                </a:lnTo>
                <a:lnTo>
                  <a:pt x="282" y="883"/>
                </a:lnTo>
                <a:lnTo>
                  <a:pt x="257" y="898"/>
                </a:lnTo>
                <a:lnTo>
                  <a:pt x="232" y="909"/>
                </a:lnTo>
                <a:lnTo>
                  <a:pt x="205" y="923"/>
                </a:lnTo>
                <a:lnTo>
                  <a:pt x="180" y="932"/>
                </a:lnTo>
                <a:lnTo>
                  <a:pt x="157" y="944"/>
                </a:lnTo>
                <a:lnTo>
                  <a:pt x="136" y="954"/>
                </a:lnTo>
                <a:lnTo>
                  <a:pt x="115" y="963"/>
                </a:lnTo>
                <a:lnTo>
                  <a:pt x="98" y="973"/>
                </a:lnTo>
                <a:lnTo>
                  <a:pt x="80" y="980"/>
                </a:lnTo>
                <a:lnTo>
                  <a:pt x="65" y="986"/>
                </a:lnTo>
                <a:lnTo>
                  <a:pt x="52" y="994"/>
                </a:lnTo>
                <a:lnTo>
                  <a:pt x="38" y="998"/>
                </a:lnTo>
                <a:lnTo>
                  <a:pt x="29" y="1004"/>
                </a:lnTo>
                <a:lnTo>
                  <a:pt x="19" y="1005"/>
                </a:lnTo>
                <a:lnTo>
                  <a:pt x="11" y="1009"/>
                </a:lnTo>
                <a:lnTo>
                  <a:pt x="6" y="1009"/>
                </a:lnTo>
                <a:lnTo>
                  <a:pt x="2" y="1011"/>
                </a:lnTo>
                <a:lnTo>
                  <a:pt x="0" y="1009"/>
                </a:lnTo>
                <a:lnTo>
                  <a:pt x="0" y="1007"/>
                </a:lnTo>
                <a:lnTo>
                  <a:pt x="0" y="1005"/>
                </a:lnTo>
                <a:lnTo>
                  <a:pt x="2" y="1002"/>
                </a:lnTo>
                <a:lnTo>
                  <a:pt x="6" y="998"/>
                </a:lnTo>
                <a:lnTo>
                  <a:pt x="9" y="992"/>
                </a:lnTo>
                <a:lnTo>
                  <a:pt x="15" y="986"/>
                </a:lnTo>
                <a:lnTo>
                  <a:pt x="23" y="979"/>
                </a:lnTo>
                <a:lnTo>
                  <a:pt x="30" y="971"/>
                </a:lnTo>
                <a:lnTo>
                  <a:pt x="40" y="963"/>
                </a:lnTo>
                <a:lnTo>
                  <a:pt x="52" y="954"/>
                </a:lnTo>
                <a:lnTo>
                  <a:pt x="63" y="942"/>
                </a:lnTo>
                <a:lnTo>
                  <a:pt x="77" y="931"/>
                </a:lnTo>
                <a:lnTo>
                  <a:pt x="92" y="919"/>
                </a:lnTo>
                <a:lnTo>
                  <a:pt x="107" y="906"/>
                </a:lnTo>
                <a:lnTo>
                  <a:pt x="123" y="892"/>
                </a:lnTo>
                <a:lnTo>
                  <a:pt x="142" y="877"/>
                </a:lnTo>
                <a:lnTo>
                  <a:pt x="159" y="861"/>
                </a:lnTo>
                <a:lnTo>
                  <a:pt x="178" y="846"/>
                </a:lnTo>
                <a:lnTo>
                  <a:pt x="197" y="831"/>
                </a:lnTo>
                <a:lnTo>
                  <a:pt x="217" y="815"/>
                </a:lnTo>
                <a:lnTo>
                  <a:pt x="238" y="800"/>
                </a:lnTo>
                <a:lnTo>
                  <a:pt x="276" y="767"/>
                </a:lnTo>
                <a:lnTo>
                  <a:pt x="316" y="733"/>
                </a:lnTo>
                <a:lnTo>
                  <a:pt x="357" y="696"/>
                </a:lnTo>
                <a:lnTo>
                  <a:pt x="397" y="658"/>
                </a:lnTo>
                <a:lnTo>
                  <a:pt x="439" y="618"/>
                </a:lnTo>
                <a:lnTo>
                  <a:pt x="482" y="577"/>
                </a:lnTo>
                <a:lnTo>
                  <a:pt x="501" y="556"/>
                </a:lnTo>
                <a:lnTo>
                  <a:pt x="520" y="533"/>
                </a:lnTo>
                <a:lnTo>
                  <a:pt x="541" y="506"/>
                </a:lnTo>
                <a:lnTo>
                  <a:pt x="562" y="479"/>
                </a:lnTo>
                <a:lnTo>
                  <a:pt x="583" y="451"/>
                </a:lnTo>
                <a:lnTo>
                  <a:pt x="595" y="435"/>
                </a:lnTo>
                <a:lnTo>
                  <a:pt x="606" y="420"/>
                </a:lnTo>
                <a:lnTo>
                  <a:pt x="618" y="405"/>
                </a:lnTo>
                <a:lnTo>
                  <a:pt x="629" y="387"/>
                </a:lnTo>
                <a:lnTo>
                  <a:pt x="641" y="370"/>
                </a:lnTo>
                <a:lnTo>
                  <a:pt x="652" y="353"/>
                </a:lnTo>
                <a:lnTo>
                  <a:pt x="666" y="336"/>
                </a:lnTo>
                <a:lnTo>
                  <a:pt x="677" y="316"/>
                </a:lnTo>
                <a:lnTo>
                  <a:pt x="689" y="297"/>
                </a:lnTo>
                <a:lnTo>
                  <a:pt x="702" y="278"/>
                </a:lnTo>
                <a:lnTo>
                  <a:pt x="714" y="259"/>
                </a:lnTo>
                <a:lnTo>
                  <a:pt x="727" y="238"/>
                </a:lnTo>
                <a:lnTo>
                  <a:pt x="739" y="217"/>
                </a:lnTo>
                <a:lnTo>
                  <a:pt x="752" y="193"/>
                </a:lnTo>
                <a:lnTo>
                  <a:pt x="766" y="172"/>
                </a:lnTo>
                <a:lnTo>
                  <a:pt x="779" y="149"/>
                </a:lnTo>
                <a:lnTo>
                  <a:pt x="791" y="126"/>
                </a:lnTo>
                <a:lnTo>
                  <a:pt x="804" y="101"/>
                </a:lnTo>
                <a:lnTo>
                  <a:pt x="817" y="76"/>
                </a:lnTo>
                <a:lnTo>
                  <a:pt x="831" y="51"/>
                </a:lnTo>
                <a:lnTo>
                  <a:pt x="844" y="27"/>
                </a:lnTo>
                <a:lnTo>
                  <a:pt x="860" y="0"/>
                </a:lnTo>
                <a:lnTo>
                  <a:pt x="873" y="15"/>
                </a:lnTo>
                <a:lnTo>
                  <a:pt x="887" y="30"/>
                </a:lnTo>
                <a:lnTo>
                  <a:pt x="898" y="46"/>
                </a:lnTo>
                <a:lnTo>
                  <a:pt x="910" y="59"/>
                </a:lnTo>
                <a:lnTo>
                  <a:pt x="921" y="73"/>
                </a:lnTo>
                <a:lnTo>
                  <a:pt x="931" y="86"/>
                </a:lnTo>
                <a:lnTo>
                  <a:pt x="938" y="98"/>
                </a:lnTo>
                <a:lnTo>
                  <a:pt x="946" y="107"/>
                </a:lnTo>
                <a:lnTo>
                  <a:pt x="952" y="117"/>
                </a:lnTo>
                <a:lnTo>
                  <a:pt x="958" y="126"/>
                </a:lnTo>
                <a:lnTo>
                  <a:pt x="963" y="134"/>
                </a:lnTo>
                <a:lnTo>
                  <a:pt x="967" y="142"/>
                </a:lnTo>
                <a:lnTo>
                  <a:pt x="969" y="147"/>
                </a:lnTo>
                <a:lnTo>
                  <a:pt x="971" y="153"/>
                </a:lnTo>
                <a:lnTo>
                  <a:pt x="973" y="157"/>
                </a:lnTo>
                <a:lnTo>
                  <a:pt x="973" y="159"/>
                </a:lnTo>
                <a:lnTo>
                  <a:pt x="973" y="165"/>
                </a:lnTo>
                <a:lnTo>
                  <a:pt x="973" y="170"/>
                </a:lnTo>
                <a:lnTo>
                  <a:pt x="971" y="176"/>
                </a:lnTo>
                <a:lnTo>
                  <a:pt x="969" y="182"/>
                </a:lnTo>
                <a:lnTo>
                  <a:pt x="967" y="190"/>
                </a:lnTo>
                <a:lnTo>
                  <a:pt x="963" y="197"/>
                </a:lnTo>
                <a:lnTo>
                  <a:pt x="959" y="205"/>
                </a:lnTo>
                <a:lnTo>
                  <a:pt x="956" y="215"/>
                </a:lnTo>
                <a:lnTo>
                  <a:pt x="952" y="224"/>
                </a:lnTo>
                <a:lnTo>
                  <a:pt x="946" y="234"/>
                </a:lnTo>
                <a:lnTo>
                  <a:pt x="940" y="245"/>
                </a:lnTo>
                <a:lnTo>
                  <a:pt x="935" y="257"/>
                </a:lnTo>
                <a:lnTo>
                  <a:pt x="929" y="268"/>
                </a:lnTo>
                <a:lnTo>
                  <a:pt x="921" y="280"/>
                </a:lnTo>
                <a:lnTo>
                  <a:pt x="913" y="293"/>
                </a:lnTo>
                <a:lnTo>
                  <a:pt x="906" y="307"/>
                </a:lnTo>
                <a:lnTo>
                  <a:pt x="894" y="322"/>
                </a:lnTo>
                <a:lnTo>
                  <a:pt x="883" y="337"/>
                </a:lnTo>
                <a:lnTo>
                  <a:pt x="869" y="353"/>
                </a:lnTo>
                <a:lnTo>
                  <a:pt x="856" y="370"/>
                </a:lnTo>
                <a:lnTo>
                  <a:pt x="840" y="387"/>
                </a:lnTo>
                <a:lnTo>
                  <a:pt x="825" y="405"/>
                </a:lnTo>
                <a:lnTo>
                  <a:pt x="808" y="424"/>
                </a:lnTo>
                <a:lnTo>
                  <a:pt x="791" y="443"/>
                </a:lnTo>
                <a:lnTo>
                  <a:pt x="773" y="464"/>
                </a:lnTo>
                <a:lnTo>
                  <a:pt x="754" y="485"/>
                </a:lnTo>
                <a:lnTo>
                  <a:pt x="733" y="506"/>
                </a:lnTo>
                <a:lnTo>
                  <a:pt x="712" y="529"/>
                </a:lnTo>
                <a:lnTo>
                  <a:pt x="691" y="552"/>
                </a:lnTo>
                <a:lnTo>
                  <a:pt x="668" y="577"/>
                </a:lnTo>
                <a:lnTo>
                  <a:pt x="643" y="602"/>
                </a:lnTo>
                <a:lnTo>
                  <a:pt x="618" y="6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12"/>
          <p:cNvSpPr/>
          <p:nvPr/>
        </p:nvSpPr>
        <p:spPr>
          <a:xfrm>
            <a:off x="5770440" y="3871800"/>
            <a:ext cx="1549440" cy="260640"/>
          </a:xfrm>
          <a:custGeom>
            <a:avLst/>
            <a:gdLst/>
            <a:ahLst/>
            <a:rect l="l" t="t" r="r" b="b"/>
            <a:pathLst>
              <a:path w="1953" h="329">
                <a:moveTo>
                  <a:pt x="62" y="292"/>
                </a:moveTo>
                <a:lnTo>
                  <a:pt x="52" y="288"/>
                </a:lnTo>
                <a:lnTo>
                  <a:pt x="45" y="282"/>
                </a:lnTo>
                <a:lnTo>
                  <a:pt x="39" y="279"/>
                </a:lnTo>
                <a:lnTo>
                  <a:pt x="31" y="273"/>
                </a:lnTo>
                <a:lnTo>
                  <a:pt x="25" y="269"/>
                </a:lnTo>
                <a:lnTo>
                  <a:pt x="20" y="265"/>
                </a:lnTo>
                <a:lnTo>
                  <a:pt x="16" y="261"/>
                </a:lnTo>
                <a:lnTo>
                  <a:pt x="12" y="258"/>
                </a:lnTo>
                <a:lnTo>
                  <a:pt x="8" y="254"/>
                </a:lnTo>
                <a:lnTo>
                  <a:pt x="4" y="250"/>
                </a:lnTo>
                <a:lnTo>
                  <a:pt x="2" y="246"/>
                </a:lnTo>
                <a:lnTo>
                  <a:pt x="2" y="242"/>
                </a:lnTo>
                <a:lnTo>
                  <a:pt x="0" y="238"/>
                </a:lnTo>
                <a:lnTo>
                  <a:pt x="0" y="236"/>
                </a:lnTo>
                <a:lnTo>
                  <a:pt x="2" y="233"/>
                </a:lnTo>
                <a:lnTo>
                  <a:pt x="4" y="231"/>
                </a:lnTo>
                <a:lnTo>
                  <a:pt x="6" y="229"/>
                </a:lnTo>
                <a:lnTo>
                  <a:pt x="10" y="227"/>
                </a:lnTo>
                <a:lnTo>
                  <a:pt x="12" y="225"/>
                </a:lnTo>
                <a:lnTo>
                  <a:pt x="18" y="223"/>
                </a:lnTo>
                <a:lnTo>
                  <a:pt x="22" y="223"/>
                </a:lnTo>
                <a:lnTo>
                  <a:pt x="27" y="221"/>
                </a:lnTo>
                <a:lnTo>
                  <a:pt x="35" y="219"/>
                </a:lnTo>
                <a:lnTo>
                  <a:pt x="41" y="219"/>
                </a:lnTo>
                <a:lnTo>
                  <a:pt x="48" y="217"/>
                </a:lnTo>
                <a:lnTo>
                  <a:pt x="58" y="217"/>
                </a:lnTo>
                <a:lnTo>
                  <a:pt x="68" y="215"/>
                </a:lnTo>
                <a:lnTo>
                  <a:pt x="77" y="213"/>
                </a:lnTo>
                <a:lnTo>
                  <a:pt x="89" y="211"/>
                </a:lnTo>
                <a:lnTo>
                  <a:pt x="102" y="210"/>
                </a:lnTo>
                <a:lnTo>
                  <a:pt x="116" y="208"/>
                </a:lnTo>
                <a:lnTo>
                  <a:pt x="131" y="206"/>
                </a:lnTo>
                <a:lnTo>
                  <a:pt x="139" y="206"/>
                </a:lnTo>
                <a:lnTo>
                  <a:pt x="146" y="206"/>
                </a:lnTo>
                <a:lnTo>
                  <a:pt x="156" y="206"/>
                </a:lnTo>
                <a:lnTo>
                  <a:pt x="167" y="206"/>
                </a:lnTo>
                <a:lnTo>
                  <a:pt x="179" y="204"/>
                </a:lnTo>
                <a:lnTo>
                  <a:pt x="192" y="204"/>
                </a:lnTo>
                <a:lnTo>
                  <a:pt x="206" y="202"/>
                </a:lnTo>
                <a:lnTo>
                  <a:pt x="221" y="202"/>
                </a:lnTo>
                <a:lnTo>
                  <a:pt x="237" y="200"/>
                </a:lnTo>
                <a:lnTo>
                  <a:pt x="254" y="198"/>
                </a:lnTo>
                <a:lnTo>
                  <a:pt x="271" y="198"/>
                </a:lnTo>
                <a:lnTo>
                  <a:pt x="290" y="196"/>
                </a:lnTo>
                <a:lnTo>
                  <a:pt x="310" y="194"/>
                </a:lnTo>
                <a:lnTo>
                  <a:pt x="329" y="192"/>
                </a:lnTo>
                <a:lnTo>
                  <a:pt x="352" y="188"/>
                </a:lnTo>
                <a:lnTo>
                  <a:pt x="375" y="186"/>
                </a:lnTo>
                <a:lnTo>
                  <a:pt x="398" y="185"/>
                </a:lnTo>
                <a:lnTo>
                  <a:pt x="423" y="181"/>
                </a:lnTo>
                <a:lnTo>
                  <a:pt x="448" y="179"/>
                </a:lnTo>
                <a:lnTo>
                  <a:pt x="475" y="175"/>
                </a:lnTo>
                <a:lnTo>
                  <a:pt x="501" y="171"/>
                </a:lnTo>
                <a:lnTo>
                  <a:pt x="530" y="167"/>
                </a:lnTo>
                <a:lnTo>
                  <a:pt x="561" y="163"/>
                </a:lnTo>
                <a:lnTo>
                  <a:pt x="592" y="160"/>
                </a:lnTo>
                <a:lnTo>
                  <a:pt x="622" y="156"/>
                </a:lnTo>
                <a:lnTo>
                  <a:pt x="657" y="152"/>
                </a:lnTo>
                <a:lnTo>
                  <a:pt x="690" y="146"/>
                </a:lnTo>
                <a:lnTo>
                  <a:pt x="724" y="142"/>
                </a:lnTo>
                <a:lnTo>
                  <a:pt x="761" y="137"/>
                </a:lnTo>
                <a:lnTo>
                  <a:pt x="797" y="131"/>
                </a:lnTo>
                <a:lnTo>
                  <a:pt x="835" y="127"/>
                </a:lnTo>
                <a:lnTo>
                  <a:pt x="876" y="121"/>
                </a:lnTo>
                <a:lnTo>
                  <a:pt x="914" y="114"/>
                </a:lnTo>
                <a:lnTo>
                  <a:pt x="953" y="110"/>
                </a:lnTo>
                <a:lnTo>
                  <a:pt x="989" y="104"/>
                </a:lnTo>
                <a:lnTo>
                  <a:pt x="1025" y="98"/>
                </a:lnTo>
                <a:lnTo>
                  <a:pt x="1060" y="92"/>
                </a:lnTo>
                <a:lnTo>
                  <a:pt x="1095" y="89"/>
                </a:lnTo>
                <a:lnTo>
                  <a:pt x="1127" y="83"/>
                </a:lnTo>
                <a:lnTo>
                  <a:pt x="1160" y="79"/>
                </a:lnTo>
                <a:lnTo>
                  <a:pt x="1191" y="73"/>
                </a:lnTo>
                <a:lnTo>
                  <a:pt x="1219" y="69"/>
                </a:lnTo>
                <a:lnTo>
                  <a:pt x="1248" y="66"/>
                </a:lnTo>
                <a:lnTo>
                  <a:pt x="1275" y="62"/>
                </a:lnTo>
                <a:lnTo>
                  <a:pt x="1302" y="58"/>
                </a:lnTo>
                <a:lnTo>
                  <a:pt x="1327" y="54"/>
                </a:lnTo>
                <a:lnTo>
                  <a:pt x="1352" y="50"/>
                </a:lnTo>
                <a:lnTo>
                  <a:pt x="1375" y="46"/>
                </a:lnTo>
                <a:lnTo>
                  <a:pt x="1398" y="43"/>
                </a:lnTo>
                <a:lnTo>
                  <a:pt x="1419" y="39"/>
                </a:lnTo>
                <a:lnTo>
                  <a:pt x="1440" y="37"/>
                </a:lnTo>
                <a:lnTo>
                  <a:pt x="1459" y="33"/>
                </a:lnTo>
                <a:lnTo>
                  <a:pt x="1477" y="31"/>
                </a:lnTo>
                <a:lnTo>
                  <a:pt x="1494" y="27"/>
                </a:lnTo>
                <a:lnTo>
                  <a:pt x="1509" y="25"/>
                </a:lnTo>
                <a:lnTo>
                  <a:pt x="1525" y="23"/>
                </a:lnTo>
                <a:lnTo>
                  <a:pt x="1540" y="21"/>
                </a:lnTo>
                <a:lnTo>
                  <a:pt x="1551" y="19"/>
                </a:lnTo>
                <a:lnTo>
                  <a:pt x="1565" y="18"/>
                </a:lnTo>
                <a:lnTo>
                  <a:pt x="1574" y="16"/>
                </a:lnTo>
                <a:lnTo>
                  <a:pt x="1586" y="14"/>
                </a:lnTo>
                <a:lnTo>
                  <a:pt x="1594" y="12"/>
                </a:lnTo>
                <a:lnTo>
                  <a:pt x="1601" y="10"/>
                </a:lnTo>
                <a:lnTo>
                  <a:pt x="1609" y="10"/>
                </a:lnTo>
                <a:lnTo>
                  <a:pt x="1630" y="6"/>
                </a:lnTo>
                <a:lnTo>
                  <a:pt x="1651" y="2"/>
                </a:lnTo>
                <a:lnTo>
                  <a:pt x="1672" y="0"/>
                </a:lnTo>
                <a:lnTo>
                  <a:pt x="1693" y="0"/>
                </a:lnTo>
                <a:lnTo>
                  <a:pt x="1715" y="0"/>
                </a:lnTo>
                <a:lnTo>
                  <a:pt x="1734" y="2"/>
                </a:lnTo>
                <a:lnTo>
                  <a:pt x="1753" y="6"/>
                </a:lnTo>
                <a:lnTo>
                  <a:pt x="1770" y="10"/>
                </a:lnTo>
                <a:lnTo>
                  <a:pt x="1784" y="14"/>
                </a:lnTo>
                <a:lnTo>
                  <a:pt x="1797" y="21"/>
                </a:lnTo>
                <a:lnTo>
                  <a:pt x="1812" y="27"/>
                </a:lnTo>
                <a:lnTo>
                  <a:pt x="1828" y="35"/>
                </a:lnTo>
                <a:lnTo>
                  <a:pt x="1845" y="41"/>
                </a:lnTo>
                <a:lnTo>
                  <a:pt x="1862" y="48"/>
                </a:lnTo>
                <a:lnTo>
                  <a:pt x="1880" y="54"/>
                </a:lnTo>
                <a:lnTo>
                  <a:pt x="1897" y="60"/>
                </a:lnTo>
                <a:lnTo>
                  <a:pt x="1908" y="67"/>
                </a:lnTo>
                <a:lnTo>
                  <a:pt x="1920" y="77"/>
                </a:lnTo>
                <a:lnTo>
                  <a:pt x="1930" y="87"/>
                </a:lnTo>
                <a:lnTo>
                  <a:pt x="1937" y="96"/>
                </a:lnTo>
                <a:lnTo>
                  <a:pt x="1945" y="104"/>
                </a:lnTo>
                <a:lnTo>
                  <a:pt x="1949" y="114"/>
                </a:lnTo>
                <a:lnTo>
                  <a:pt x="1951" y="119"/>
                </a:lnTo>
                <a:lnTo>
                  <a:pt x="1953" y="123"/>
                </a:lnTo>
                <a:lnTo>
                  <a:pt x="1953" y="127"/>
                </a:lnTo>
                <a:lnTo>
                  <a:pt x="1953" y="133"/>
                </a:lnTo>
                <a:lnTo>
                  <a:pt x="1953" y="135"/>
                </a:lnTo>
                <a:lnTo>
                  <a:pt x="1953" y="137"/>
                </a:lnTo>
                <a:lnTo>
                  <a:pt x="1951" y="138"/>
                </a:lnTo>
                <a:lnTo>
                  <a:pt x="1949" y="140"/>
                </a:lnTo>
                <a:lnTo>
                  <a:pt x="1947" y="142"/>
                </a:lnTo>
                <a:lnTo>
                  <a:pt x="1943" y="144"/>
                </a:lnTo>
                <a:lnTo>
                  <a:pt x="1939" y="146"/>
                </a:lnTo>
                <a:lnTo>
                  <a:pt x="1935" y="148"/>
                </a:lnTo>
                <a:lnTo>
                  <a:pt x="1931" y="150"/>
                </a:lnTo>
                <a:lnTo>
                  <a:pt x="1926" y="152"/>
                </a:lnTo>
                <a:lnTo>
                  <a:pt x="1922" y="154"/>
                </a:lnTo>
                <a:lnTo>
                  <a:pt x="1914" y="156"/>
                </a:lnTo>
                <a:lnTo>
                  <a:pt x="1908" y="156"/>
                </a:lnTo>
                <a:lnTo>
                  <a:pt x="1901" y="158"/>
                </a:lnTo>
                <a:lnTo>
                  <a:pt x="1893" y="160"/>
                </a:lnTo>
                <a:lnTo>
                  <a:pt x="1885" y="160"/>
                </a:lnTo>
                <a:lnTo>
                  <a:pt x="1878" y="162"/>
                </a:lnTo>
                <a:lnTo>
                  <a:pt x="1868" y="162"/>
                </a:lnTo>
                <a:lnTo>
                  <a:pt x="1859" y="163"/>
                </a:lnTo>
                <a:lnTo>
                  <a:pt x="1849" y="163"/>
                </a:lnTo>
                <a:lnTo>
                  <a:pt x="1837" y="165"/>
                </a:lnTo>
                <a:lnTo>
                  <a:pt x="1828" y="165"/>
                </a:lnTo>
                <a:lnTo>
                  <a:pt x="1814" y="167"/>
                </a:lnTo>
                <a:lnTo>
                  <a:pt x="1803" y="167"/>
                </a:lnTo>
                <a:lnTo>
                  <a:pt x="1791" y="167"/>
                </a:lnTo>
                <a:lnTo>
                  <a:pt x="1778" y="167"/>
                </a:lnTo>
                <a:lnTo>
                  <a:pt x="1764" y="169"/>
                </a:lnTo>
                <a:lnTo>
                  <a:pt x="1751" y="169"/>
                </a:lnTo>
                <a:lnTo>
                  <a:pt x="1720" y="169"/>
                </a:lnTo>
                <a:lnTo>
                  <a:pt x="1690" y="169"/>
                </a:lnTo>
                <a:lnTo>
                  <a:pt x="1624" y="169"/>
                </a:lnTo>
                <a:lnTo>
                  <a:pt x="1559" y="171"/>
                </a:lnTo>
                <a:lnTo>
                  <a:pt x="1492" y="173"/>
                </a:lnTo>
                <a:lnTo>
                  <a:pt x="1425" y="177"/>
                </a:lnTo>
                <a:lnTo>
                  <a:pt x="1356" y="181"/>
                </a:lnTo>
                <a:lnTo>
                  <a:pt x="1288" y="185"/>
                </a:lnTo>
                <a:lnTo>
                  <a:pt x="1150" y="194"/>
                </a:lnTo>
                <a:lnTo>
                  <a:pt x="1081" y="204"/>
                </a:lnTo>
                <a:lnTo>
                  <a:pt x="1010" y="213"/>
                </a:lnTo>
                <a:lnTo>
                  <a:pt x="939" y="223"/>
                </a:lnTo>
                <a:lnTo>
                  <a:pt x="866" y="233"/>
                </a:lnTo>
                <a:lnTo>
                  <a:pt x="789" y="242"/>
                </a:lnTo>
                <a:lnTo>
                  <a:pt x="713" y="254"/>
                </a:lnTo>
                <a:lnTo>
                  <a:pt x="674" y="259"/>
                </a:lnTo>
                <a:lnTo>
                  <a:pt x="636" y="267"/>
                </a:lnTo>
                <a:lnTo>
                  <a:pt x="596" y="273"/>
                </a:lnTo>
                <a:lnTo>
                  <a:pt x="555" y="281"/>
                </a:lnTo>
                <a:lnTo>
                  <a:pt x="534" y="284"/>
                </a:lnTo>
                <a:lnTo>
                  <a:pt x="515" y="286"/>
                </a:lnTo>
                <a:lnTo>
                  <a:pt x="496" y="290"/>
                </a:lnTo>
                <a:lnTo>
                  <a:pt x="478" y="292"/>
                </a:lnTo>
                <a:lnTo>
                  <a:pt x="459" y="296"/>
                </a:lnTo>
                <a:lnTo>
                  <a:pt x="442" y="298"/>
                </a:lnTo>
                <a:lnTo>
                  <a:pt x="427" y="302"/>
                </a:lnTo>
                <a:lnTo>
                  <a:pt x="409" y="304"/>
                </a:lnTo>
                <a:lnTo>
                  <a:pt x="394" y="305"/>
                </a:lnTo>
                <a:lnTo>
                  <a:pt x="381" y="307"/>
                </a:lnTo>
                <a:lnTo>
                  <a:pt x="365" y="309"/>
                </a:lnTo>
                <a:lnTo>
                  <a:pt x="352" y="311"/>
                </a:lnTo>
                <a:lnTo>
                  <a:pt x="338" y="313"/>
                </a:lnTo>
                <a:lnTo>
                  <a:pt x="327" y="315"/>
                </a:lnTo>
                <a:lnTo>
                  <a:pt x="313" y="317"/>
                </a:lnTo>
                <a:lnTo>
                  <a:pt x="302" y="319"/>
                </a:lnTo>
                <a:lnTo>
                  <a:pt x="290" y="321"/>
                </a:lnTo>
                <a:lnTo>
                  <a:pt x="281" y="321"/>
                </a:lnTo>
                <a:lnTo>
                  <a:pt x="271" y="323"/>
                </a:lnTo>
                <a:lnTo>
                  <a:pt x="262" y="323"/>
                </a:lnTo>
                <a:lnTo>
                  <a:pt x="252" y="325"/>
                </a:lnTo>
                <a:lnTo>
                  <a:pt x="244" y="325"/>
                </a:lnTo>
                <a:lnTo>
                  <a:pt x="237" y="327"/>
                </a:lnTo>
                <a:lnTo>
                  <a:pt x="229" y="327"/>
                </a:lnTo>
                <a:lnTo>
                  <a:pt x="221" y="327"/>
                </a:lnTo>
                <a:lnTo>
                  <a:pt x="215" y="329"/>
                </a:lnTo>
                <a:lnTo>
                  <a:pt x="210" y="329"/>
                </a:lnTo>
                <a:lnTo>
                  <a:pt x="204" y="329"/>
                </a:lnTo>
                <a:lnTo>
                  <a:pt x="200" y="329"/>
                </a:lnTo>
                <a:lnTo>
                  <a:pt x="194" y="329"/>
                </a:lnTo>
                <a:lnTo>
                  <a:pt x="190" y="329"/>
                </a:lnTo>
                <a:lnTo>
                  <a:pt x="189" y="329"/>
                </a:lnTo>
                <a:lnTo>
                  <a:pt x="175" y="329"/>
                </a:lnTo>
                <a:lnTo>
                  <a:pt x="162" y="327"/>
                </a:lnTo>
                <a:lnTo>
                  <a:pt x="148" y="325"/>
                </a:lnTo>
                <a:lnTo>
                  <a:pt x="133" y="321"/>
                </a:lnTo>
                <a:lnTo>
                  <a:pt x="118" y="315"/>
                </a:lnTo>
                <a:lnTo>
                  <a:pt x="100" y="309"/>
                </a:lnTo>
                <a:lnTo>
                  <a:pt x="81" y="302"/>
                </a:lnTo>
                <a:lnTo>
                  <a:pt x="71" y="296"/>
                </a:lnTo>
                <a:lnTo>
                  <a:pt x="62" y="2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13"/>
          <p:cNvSpPr/>
          <p:nvPr/>
        </p:nvSpPr>
        <p:spPr>
          <a:xfrm>
            <a:off x="6699240" y="2773440"/>
            <a:ext cx="195120" cy="1212840"/>
          </a:xfrm>
          <a:custGeom>
            <a:avLst/>
            <a:gdLst/>
            <a:ahLst/>
            <a:rect l="l" t="t" r="r" b="b"/>
            <a:pathLst>
              <a:path w="246" h="1528">
                <a:moveTo>
                  <a:pt x="142" y="41"/>
                </a:moveTo>
                <a:lnTo>
                  <a:pt x="152" y="46"/>
                </a:lnTo>
                <a:lnTo>
                  <a:pt x="162" y="50"/>
                </a:lnTo>
                <a:lnTo>
                  <a:pt x="171" y="54"/>
                </a:lnTo>
                <a:lnTo>
                  <a:pt x="181" y="60"/>
                </a:lnTo>
                <a:lnTo>
                  <a:pt x="189" y="64"/>
                </a:lnTo>
                <a:lnTo>
                  <a:pt x="196" y="68"/>
                </a:lnTo>
                <a:lnTo>
                  <a:pt x="204" y="73"/>
                </a:lnTo>
                <a:lnTo>
                  <a:pt x="212" y="77"/>
                </a:lnTo>
                <a:lnTo>
                  <a:pt x="217" y="81"/>
                </a:lnTo>
                <a:lnTo>
                  <a:pt x="223" y="85"/>
                </a:lnTo>
                <a:lnTo>
                  <a:pt x="227" y="89"/>
                </a:lnTo>
                <a:lnTo>
                  <a:pt x="233" y="91"/>
                </a:lnTo>
                <a:lnTo>
                  <a:pt x="237" y="94"/>
                </a:lnTo>
                <a:lnTo>
                  <a:pt x="240" y="98"/>
                </a:lnTo>
                <a:lnTo>
                  <a:pt x="242" y="100"/>
                </a:lnTo>
                <a:lnTo>
                  <a:pt x="246" y="102"/>
                </a:lnTo>
                <a:lnTo>
                  <a:pt x="246" y="108"/>
                </a:lnTo>
                <a:lnTo>
                  <a:pt x="244" y="114"/>
                </a:lnTo>
                <a:lnTo>
                  <a:pt x="244" y="121"/>
                </a:lnTo>
                <a:lnTo>
                  <a:pt x="244" y="131"/>
                </a:lnTo>
                <a:lnTo>
                  <a:pt x="242" y="140"/>
                </a:lnTo>
                <a:lnTo>
                  <a:pt x="240" y="152"/>
                </a:lnTo>
                <a:lnTo>
                  <a:pt x="238" y="164"/>
                </a:lnTo>
                <a:lnTo>
                  <a:pt x="235" y="177"/>
                </a:lnTo>
                <a:lnTo>
                  <a:pt x="233" y="181"/>
                </a:lnTo>
                <a:lnTo>
                  <a:pt x="233" y="185"/>
                </a:lnTo>
                <a:lnTo>
                  <a:pt x="231" y="188"/>
                </a:lnTo>
                <a:lnTo>
                  <a:pt x="231" y="194"/>
                </a:lnTo>
                <a:lnTo>
                  <a:pt x="229" y="200"/>
                </a:lnTo>
                <a:lnTo>
                  <a:pt x="229" y="206"/>
                </a:lnTo>
                <a:lnTo>
                  <a:pt x="227" y="219"/>
                </a:lnTo>
                <a:lnTo>
                  <a:pt x="225" y="236"/>
                </a:lnTo>
                <a:lnTo>
                  <a:pt x="225" y="254"/>
                </a:lnTo>
                <a:lnTo>
                  <a:pt x="223" y="273"/>
                </a:lnTo>
                <a:lnTo>
                  <a:pt x="223" y="294"/>
                </a:lnTo>
                <a:lnTo>
                  <a:pt x="221" y="315"/>
                </a:lnTo>
                <a:lnTo>
                  <a:pt x="219" y="340"/>
                </a:lnTo>
                <a:lnTo>
                  <a:pt x="219" y="367"/>
                </a:lnTo>
                <a:lnTo>
                  <a:pt x="217" y="394"/>
                </a:lnTo>
                <a:lnTo>
                  <a:pt x="215" y="423"/>
                </a:lnTo>
                <a:lnTo>
                  <a:pt x="215" y="455"/>
                </a:lnTo>
                <a:lnTo>
                  <a:pt x="213" y="486"/>
                </a:lnTo>
                <a:lnTo>
                  <a:pt x="212" y="521"/>
                </a:lnTo>
                <a:lnTo>
                  <a:pt x="210" y="538"/>
                </a:lnTo>
                <a:lnTo>
                  <a:pt x="208" y="557"/>
                </a:lnTo>
                <a:lnTo>
                  <a:pt x="208" y="576"/>
                </a:lnTo>
                <a:lnTo>
                  <a:pt x="206" y="597"/>
                </a:lnTo>
                <a:lnTo>
                  <a:pt x="206" y="618"/>
                </a:lnTo>
                <a:lnTo>
                  <a:pt x="204" y="641"/>
                </a:lnTo>
                <a:lnTo>
                  <a:pt x="204" y="664"/>
                </a:lnTo>
                <a:lnTo>
                  <a:pt x="202" y="688"/>
                </a:lnTo>
                <a:lnTo>
                  <a:pt x="200" y="714"/>
                </a:lnTo>
                <a:lnTo>
                  <a:pt x="200" y="739"/>
                </a:lnTo>
                <a:lnTo>
                  <a:pt x="198" y="766"/>
                </a:lnTo>
                <a:lnTo>
                  <a:pt x="198" y="795"/>
                </a:lnTo>
                <a:lnTo>
                  <a:pt x="196" y="822"/>
                </a:lnTo>
                <a:lnTo>
                  <a:pt x="194" y="853"/>
                </a:lnTo>
                <a:lnTo>
                  <a:pt x="194" y="883"/>
                </a:lnTo>
                <a:lnTo>
                  <a:pt x="192" y="914"/>
                </a:lnTo>
                <a:lnTo>
                  <a:pt x="190" y="947"/>
                </a:lnTo>
                <a:lnTo>
                  <a:pt x="189" y="979"/>
                </a:lnTo>
                <a:lnTo>
                  <a:pt x="189" y="1014"/>
                </a:lnTo>
                <a:lnTo>
                  <a:pt x="187" y="1048"/>
                </a:lnTo>
                <a:lnTo>
                  <a:pt x="185" y="1083"/>
                </a:lnTo>
                <a:lnTo>
                  <a:pt x="183" y="1119"/>
                </a:lnTo>
                <a:lnTo>
                  <a:pt x="181" y="1158"/>
                </a:lnTo>
                <a:lnTo>
                  <a:pt x="181" y="1194"/>
                </a:lnTo>
                <a:lnTo>
                  <a:pt x="179" y="1235"/>
                </a:lnTo>
                <a:lnTo>
                  <a:pt x="177" y="1273"/>
                </a:lnTo>
                <a:lnTo>
                  <a:pt x="175" y="1313"/>
                </a:lnTo>
                <a:lnTo>
                  <a:pt x="173" y="1356"/>
                </a:lnTo>
                <a:lnTo>
                  <a:pt x="171" y="1398"/>
                </a:lnTo>
                <a:lnTo>
                  <a:pt x="169" y="1440"/>
                </a:lnTo>
                <a:lnTo>
                  <a:pt x="167" y="1484"/>
                </a:lnTo>
                <a:lnTo>
                  <a:pt x="166" y="1528"/>
                </a:lnTo>
                <a:lnTo>
                  <a:pt x="102" y="1528"/>
                </a:lnTo>
                <a:lnTo>
                  <a:pt x="39" y="1528"/>
                </a:lnTo>
                <a:lnTo>
                  <a:pt x="39" y="1524"/>
                </a:lnTo>
                <a:lnTo>
                  <a:pt x="39" y="1517"/>
                </a:lnTo>
                <a:lnTo>
                  <a:pt x="39" y="1509"/>
                </a:lnTo>
                <a:lnTo>
                  <a:pt x="39" y="1501"/>
                </a:lnTo>
                <a:lnTo>
                  <a:pt x="39" y="1492"/>
                </a:lnTo>
                <a:lnTo>
                  <a:pt x="39" y="1480"/>
                </a:lnTo>
                <a:lnTo>
                  <a:pt x="41" y="1467"/>
                </a:lnTo>
                <a:lnTo>
                  <a:pt x="41" y="1453"/>
                </a:lnTo>
                <a:lnTo>
                  <a:pt x="41" y="1438"/>
                </a:lnTo>
                <a:lnTo>
                  <a:pt x="43" y="1423"/>
                </a:lnTo>
                <a:lnTo>
                  <a:pt x="43" y="1403"/>
                </a:lnTo>
                <a:lnTo>
                  <a:pt x="45" y="1384"/>
                </a:lnTo>
                <a:lnTo>
                  <a:pt x="45" y="1365"/>
                </a:lnTo>
                <a:lnTo>
                  <a:pt x="46" y="1342"/>
                </a:lnTo>
                <a:lnTo>
                  <a:pt x="48" y="1319"/>
                </a:lnTo>
                <a:lnTo>
                  <a:pt x="50" y="1296"/>
                </a:lnTo>
                <a:lnTo>
                  <a:pt x="54" y="1244"/>
                </a:lnTo>
                <a:lnTo>
                  <a:pt x="56" y="1190"/>
                </a:lnTo>
                <a:lnTo>
                  <a:pt x="60" y="1139"/>
                </a:lnTo>
                <a:lnTo>
                  <a:pt x="62" y="1083"/>
                </a:lnTo>
                <a:lnTo>
                  <a:pt x="64" y="1027"/>
                </a:lnTo>
                <a:lnTo>
                  <a:pt x="66" y="970"/>
                </a:lnTo>
                <a:lnTo>
                  <a:pt x="70" y="912"/>
                </a:lnTo>
                <a:lnTo>
                  <a:pt x="73" y="853"/>
                </a:lnTo>
                <a:lnTo>
                  <a:pt x="73" y="793"/>
                </a:lnTo>
                <a:lnTo>
                  <a:pt x="73" y="732"/>
                </a:lnTo>
                <a:lnTo>
                  <a:pt x="73" y="668"/>
                </a:lnTo>
                <a:lnTo>
                  <a:pt x="73" y="607"/>
                </a:lnTo>
                <a:lnTo>
                  <a:pt x="73" y="544"/>
                </a:lnTo>
                <a:lnTo>
                  <a:pt x="73" y="482"/>
                </a:lnTo>
                <a:lnTo>
                  <a:pt x="73" y="421"/>
                </a:lnTo>
                <a:lnTo>
                  <a:pt x="73" y="361"/>
                </a:lnTo>
                <a:lnTo>
                  <a:pt x="71" y="332"/>
                </a:lnTo>
                <a:lnTo>
                  <a:pt x="70" y="304"/>
                </a:lnTo>
                <a:lnTo>
                  <a:pt x="68" y="279"/>
                </a:lnTo>
                <a:lnTo>
                  <a:pt x="64" y="254"/>
                </a:lnTo>
                <a:lnTo>
                  <a:pt x="62" y="233"/>
                </a:lnTo>
                <a:lnTo>
                  <a:pt x="60" y="211"/>
                </a:lnTo>
                <a:lnTo>
                  <a:pt x="58" y="192"/>
                </a:lnTo>
                <a:lnTo>
                  <a:pt x="54" y="173"/>
                </a:lnTo>
                <a:lnTo>
                  <a:pt x="52" y="158"/>
                </a:lnTo>
                <a:lnTo>
                  <a:pt x="48" y="142"/>
                </a:lnTo>
                <a:lnTo>
                  <a:pt x="46" y="127"/>
                </a:lnTo>
                <a:lnTo>
                  <a:pt x="43" y="116"/>
                </a:lnTo>
                <a:lnTo>
                  <a:pt x="39" y="104"/>
                </a:lnTo>
                <a:lnTo>
                  <a:pt x="35" y="94"/>
                </a:lnTo>
                <a:lnTo>
                  <a:pt x="31" y="85"/>
                </a:lnTo>
                <a:lnTo>
                  <a:pt x="27" y="79"/>
                </a:lnTo>
                <a:lnTo>
                  <a:pt x="22" y="71"/>
                </a:lnTo>
                <a:lnTo>
                  <a:pt x="16" y="66"/>
                </a:lnTo>
                <a:lnTo>
                  <a:pt x="12" y="58"/>
                </a:lnTo>
                <a:lnTo>
                  <a:pt x="8" y="52"/>
                </a:lnTo>
                <a:lnTo>
                  <a:pt x="4" y="46"/>
                </a:lnTo>
                <a:lnTo>
                  <a:pt x="2" y="41"/>
                </a:lnTo>
                <a:lnTo>
                  <a:pt x="0" y="37"/>
                </a:lnTo>
                <a:lnTo>
                  <a:pt x="0" y="31"/>
                </a:lnTo>
                <a:lnTo>
                  <a:pt x="0" y="27"/>
                </a:lnTo>
                <a:lnTo>
                  <a:pt x="0" y="23"/>
                </a:lnTo>
                <a:lnTo>
                  <a:pt x="2" y="20"/>
                </a:lnTo>
                <a:lnTo>
                  <a:pt x="4" y="16"/>
                </a:lnTo>
                <a:lnTo>
                  <a:pt x="6" y="12"/>
                </a:lnTo>
                <a:lnTo>
                  <a:pt x="8" y="10"/>
                </a:lnTo>
                <a:lnTo>
                  <a:pt x="12" y="6"/>
                </a:lnTo>
                <a:lnTo>
                  <a:pt x="16" y="4"/>
                </a:lnTo>
                <a:lnTo>
                  <a:pt x="20" y="2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5" y="0"/>
                </a:lnTo>
                <a:lnTo>
                  <a:pt x="50" y="0"/>
                </a:lnTo>
                <a:lnTo>
                  <a:pt x="58" y="2"/>
                </a:lnTo>
                <a:lnTo>
                  <a:pt x="66" y="4"/>
                </a:lnTo>
                <a:lnTo>
                  <a:pt x="75" y="6"/>
                </a:lnTo>
                <a:lnTo>
                  <a:pt x="83" y="10"/>
                </a:lnTo>
                <a:lnTo>
                  <a:pt x="93" y="14"/>
                </a:lnTo>
                <a:lnTo>
                  <a:pt x="102" y="18"/>
                </a:lnTo>
                <a:lnTo>
                  <a:pt x="112" y="23"/>
                </a:lnTo>
                <a:lnTo>
                  <a:pt x="121" y="29"/>
                </a:lnTo>
                <a:lnTo>
                  <a:pt x="131" y="35"/>
                </a:lnTo>
                <a:lnTo>
                  <a:pt x="142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14"/>
          <p:cNvSpPr/>
          <p:nvPr/>
        </p:nvSpPr>
        <p:spPr>
          <a:xfrm>
            <a:off x="6122880" y="2957400"/>
            <a:ext cx="212760" cy="1096920"/>
          </a:xfrm>
          <a:custGeom>
            <a:avLst/>
            <a:gdLst/>
            <a:ahLst/>
            <a:rect l="l" t="t" r="r" b="b"/>
            <a:pathLst>
              <a:path w="269" h="1382">
                <a:moveTo>
                  <a:pt x="236" y="1382"/>
                </a:moveTo>
                <a:lnTo>
                  <a:pt x="178" y="1382"/>
                </a:lnTo>
                <a:lnTo>
                  <a:pt x="123" y="1382"/>
                </a:lnTo>
                <a:lnTo>
                  <a:pt x="123" y="1337"/>
                </a:lnTo>
                <a:lnTo>
                  <a:pt x="125" y="1293"/>
                </a:lnTo>
                <a:lnTo>
                  <a:pt x="125" y="1251"/>
                </a:lnTo>
                <a:lnTo>
                  <a:pt x="125" y="1209"/>
                </a:lnTo>
                <a:lnTo>
                  <a:pt x="127" y="1169"/>
                </a:lnTo>
                <a:lnTo>
                  <a:pt x="127" y="1128"/>
                </a:lnTo>
                <a:lnTo>
                  <a:pt x="127" y="1088"/>
                </a:lnTo>
                <a:lnTo>
                  <a:pt x="127" y="1050"/>
                </a:lnTo>
                <a:lnTo>
                  <a:pt x="127" y="1013"/>
                </a:lnTo>
                <a:lnTo>
                  <a:pt x="127" y="977"/>
                </a:lnTo>
                <a:lnTo>
                  <a:pt x="127" y="940"/>
                </a:lnTo>
                <a:lnTo>
                  <a:pt x="127" y="906"/>
                </a:lnTo>
                <a:lnTo>
                  <a:pt x="127" y="871"/>
                </a:lnTo>
                <a:lnTo>
                  <a:pt x="127" y="838"/>
                </a:lnTo>
                <a:lnTo>
                  <a:pt x="125" y="806"/>
                </a:lnTo>
                <a:lnTo>
                  <a:pt x="125" y="775"/>
                </a:lnTo>
                <a:lnTo>
                  <a:pt x="125" y="744"/>
                </a:lnTo>
                <a:lnTo>
                  <a:pt x="123" y="716"/>
                </a:lnTo>
                <a:lnTo>
                  <a:pt x="123" y="687"/>
                </a:lnTo>
                <a:lnTo>
                  <a:pt x="123" y="658"/>
                </a:lnTo>
                <a:lnTo>
                  <a:pt x="121" y="631"/>
                </a:lnTo>
                <a:lnTo>
                  <a:pt x="121" y="606"/>
                </a:lnTo>
                <a:lnTo>
                  <a:pt x="119" y="581"/>
                </a:lnTo>
                <a:lnTo>
                  <a:pt x="119" y="556"/>
                </a:lnTo>
                <a:lnTo>
                  <a:pt x="117" y="533"/>
                </a:lnTo>
                <a:lnTo>
                  <a:pt x="117" y="512"/>
                </a:lnTo>
                <a:lnTo>
                  <a:pt x="115" y="491"/>
                </a:lnTo>
                <a:lnTo>
                  <a:pt x="115" y="470"/>
                </a:lnTo>
                <a:lnTo>
                  <a:pt x="113" y="451"/>
                </a:lnTo>
                <a:lnTo>
                  <a:pt x="113" y="433"/>
                </a:lnTo>
                <a:lnTo>
                  <a:pt x="111" y="414"/>
                </a:lnTo>
                <a:lnTo>
                  <a:pt x="111" y="399"/>
                </a:lnTo>
                <a:lnTo>
                  <a:pt x="105" y="366"/>
                </a:lnTo>
                <a:lnTo>
                  <a:pt x="102" y="337"/>
                </a:lnTo>
                <a:lnTo>
                  <a:pt x="98" y="309"/>
                </a:lnTo>
                <a:lnTo>
                  <a:pt x="94" y="284"/>
                </a:lnTo>
                <a:lnTo>
                  <a:pt x="88" y="259"/>
                </a:lnTo>
                <a:lnTo>
                  <a:pt x="84" y="236"/>
                </a:lnTo>
                <a:lnTo>
                  <a:pt x="79" y="215"/>
                </a:lnTo>
                <a:lnTo>
                  <a:pt x="75" y="193"/>
                </a:lnTo>
                <a:lnTo>
                  <a:pt x="69" y="176"/>
                </a:lnTo>
                <a:lnTo>
                  <a:pt x="65" y="159"/>
                </a:lnTo>
                <a:lnTo>
                  <a:pt x="59" y="144"/>
                </a:lnTo>
                <a:lnTo>
                  <a:pt x="54" y="130"/>
                </a:lnTo>
                <a:lnTo>
                  <a:pt x="48" y="119"/>
                </a:lnTo>
                <a:lnTo>
                  <a:pt x="42" y="107"/>
                </a:lnTo>
                <a:lnTo>
                  <a:pt x="36" y="99"/>
                </a:lnTo>
                <a:lnTo>
                  <a:pt x="31" y="92"/>
                </a:lnTo>
                <a:lnTo>
                  <a:pt x="25" y="86"/>
                </a:lnTo>
                <a:lnTo>
                  <a:pt x="19" y="82"/>
                </a:lnTo>
                <a:lnTo>
                  <a:pt x="15" y="76"/>
                </a:lnTo>
                <a:lnTo>
                  <a:pt x="11" y="73"/>
                </a:lnTo>
                <a:lnTo>
                  <a:pt x="8" y="67"/>
                </a:lnTo>
                <a:lnTo>
                  <a:pt x="6" y="63"/>
                </a:lnTo>
                <a:lnTo>
                  <a:pt x="4" y="59"/>
                </a:lnTo>
                <a:lnTo>
                  <a:pt x="2" y="53"/>
                </a:lnTo>
                <a:lnTo>
                  <a:pt x="2" y="50"/>
                </a:lnTo>
                <a:lnTo>
                  <a:pt x="0" y="44"/>
                </a:lnTo>
                <a:lnTo>
                  <a:pt x="2" y="36"/>
                </a:lnTo>
                <a:lnTo>
                  <a:pt x="4" y="26"/>
                </a:lnTo>
                <a:lnTo>
                  <a:pt x="8" y="17"/>
                </a:lnTo>
                <a:lnTo>
                  <a:pt x="11" y="13"/>
                </a:lnTo>
                <a:lnTo>
                  <a:pt x="17" y="7"/>
                </a:lnTo>
                <a:lnTo>
                  <a:pt x="25" y="5"/>
                </a:lnTo>
                <a:lnTo>
                  <a:pt x="34" y="2"/>
                </a:lnTo>
                <a:lnTo>
                  <a:pt x="44" y="0"/>
                </a:lnTo>
                <a:lnTo>
                  <a:pt x="57" y="0"/>
                </a:lnTo>
                <a:lnTo>
                  <a:pt x="63" y="0"/>
                </a:lnTo>
                <a:lnTo>
                  <a:pt x="71" y="2"/>
                </a:lnTo>
                <a:lnTo>
                  <a:pt x="79" y="3"/>
                </a:lnTo>
                <a:lnTo>
                  <a:pt x="88" y="5"/>
                </a:lnTo>
                <a:lnTo>
                  <a:pt x="102" y="9"/>
                </a:lnTo>
                <a:lnTo>
                  <a:pt x="115" y="15"/>
                </a:lnTo>
                <a:lnTo>
                  <a:pt x="130" y="19"/>
                </a:lnTo>
                <a:lnTo>
                  <a:pt x="144" y="23"/>
                </a:lnTo>
                <a:lnTo>
                  <a:pt x="159" y="28"/>
                </a:lnTo>
                <a:lnTo>
                  <a:pt x="175" y="32"/>
                </a:lnTo>
                <a:lnTo>
                  <a:pt x="188" y="38"/>
                </a:lnTo>
                <a:lnTo>
                  <a:pt x="201" y="42"/>
                </a:lnTo>
                <a:lnTo>
                  <a:pt x="209" y="44"/>
                </a:lnTo>
                <a:lnTo>
                  <a:pt x="213" y="48"/>
                </a:lnTo>
                <a:lnTo>
                  <a:pt x="224" y="53"/>
                </a:lnTo>
                <a:lnTo>
                  <a:pt x="232" y="61"/>
                </a:lnTo>
                <a:lnTo>
                  <a:pt x="240" y="69"/>
                </a:lnTo>
                <a:lnTo>
                  <a:pt x="246" y="76"/>
                </a:lnTo>
                <a:lnTo>
                  <a:pt x="251" y="84"/>
                </a:lnTo>
                <a:lnTo>
                  <a:pt x="255" y="94"/>
                </a:lnTo>
                <a:lnTo>
                  <a:pt x="259" y="103"/>
                </a:lnTo>
                <a:lnTo>
                  <a:pt x="263" y="113"/>
                </a:lnTo>
                <a:lnTo>
                  <a:pt x="267" y="124"/>
                </a:lnTo>
                <a:lnTo>
                  <a:pt x="267" y="136"/>
                </a:lnTo>
                <a:lnTo>
                  <a:pt x="269" y="147"/>
                </a:lnTo>
                <a:lnTo>
                  <a:pt x="267" y="161"/>
                </a:lnTo>
                <a:lnTo>
                  <a:pt x="267" y="174"/>
                </a:lnTo>
                <a:lnTo>
                  <a:pt x="263" y="188"/>
                </a:lnTo>
                <a:lnTo>
                  <a:pt x="259" y="201"/>
                </a:lnTo>
                <a:lnTo>
                  <a:pt x="259" y="203"/>
                </a:lnTo>
                <a:lnTo>
                  <a:pt x="259" y="207"/>
                </a:lnTo>
                <a:lnTo>
                  <a:pt x="257" y="209"/>
                </a:lnTo>
                <a:lnTo>
                  <a:pt x="257" y="213"/>
                </a:lnTo>
                <a:lnTo>
                  <a:pt x="257" y="217"/>
                </a:lnTo>
                <a:lnTo>
                  <a:pt x="257" y="222"/>
                </a:lnTo>
                <a:lnTo>
                  <a:pt x="255" y="226"/>
                </a:lnTo>
                <a:lnTo>
                  <a:pt x="255" y="232"/>
                </a:lnTo>
                <a:lnTo>
                  <a:pt x="255" y="238"/>
                </a:lnTo>
                <a:lnTo>
                  <a:pt x="255" y="245"/>
                </a:lnTo>
                <a:lnTo>
                  <a:pt x="255" y="253"/>
                </a:lnTo>
                <a:lnTo>
                  <a:pt x="253" y="261"/>
                </a:lnTo>
                <a:lnTo>
                  <a:pt x="253" y="268"/>
                </a:lnTo>
                <a:lnTo>
                  <a:pt x="253" y="278"/>
                </a:lnTo>
                <a:lnTo>
                  <a:pt x="253" y="286"/>
                </a:lnTo>
                <a:lnTo>
                  <a:pt x="253" y="297"/>
                </a:lnTo>
                <a:lnTo>
                  <a:pt x="251" y="307"/>
                </a:lnTo>
                <a:lnTo>
                  <a:pt x="251" y="318"/>
                </a:lnTo>
                <a:lnTo>
                  <a:pt x="251" y="330"/>
                </a:lnTo>
                <a:lnTo>
                  <a:pt x="251" y="341"/>
                </a:lnTo>
                <a:lnTo>
                  <a:pt x="251" y="353"/>
                </a:lnTo>
                <a:lnTo>
                  <a:pt x="251" y="366"/>
                </a:lnTo>
                <a:lnTo>
                  <a:pt x="251" y="380"/>
                </a:lnTo>
                <a:lnTo>
                  <a:pt x="249" y="393"/>
                </a:lnTo>
                <a:lnTo>
                  <a:pt x="249" y="408"/>
                </a:lnTo>
                <a:lnTo>
                  <a:pt x="249" y="424"/>
                </a:lnTo>
                <a:lnTo>
                  <a:pt x="249" y="439"/>
                </a:lnTo>
                <a:lnTo>
                  <a:pt x="249" y="455"/>
                </a:lnTo>
                <a:lnTo>
                  <a:pt x="249" y="472"/>
                </a:lnTo>
                <a:lnTo>
                  <a:pt x="247" y="489"/>
                </a:lnTo>
                <a:lnTo>
                  <a:pt x="247" y="506"/>
                </a:lnTo>
                <a:lnTo>
                  <a:pt x="247" y="524"/>
                </a:lnTo>
                <a:lnTo>
                  <a:pt x="247" y="543"/>
                </a:lnTo>
                <a:lnTo>
                  <a:pt x="247" y="562"/>
                </a:lnTo>
                <a:lnTo>
                  <a:pt x="247" y="581"/>
                </a:lnTo>
                <a:lnTo>
                  <a:pt x="247" y="602"/>
                </a:lnTo>
                <a:lnTo>
                  <a:pt x="246" y="623"/>
                </a:lnTo>
                <a:lnTo>
                  <a:pt x="246" y="645"/>
                </a:lnTo>
                <a:lnTo>
                  <a:pt x="246" y="666"/>
                </a:lnTo>
                <a:lnTo>
                  <a:pt x="246" y="689"/>
                </a:lnTo>
                <a:lnTo>
                  <a:pt x="246" y="712"/>
                </a:lnTo>
                <a:lnTo>
                  <a:pt x="246" y="735"/>
                </a:lnTo>
                <a:lnTo>
                  <a:pt x="246" y="758"/>
                </a:lnTo>
                <a:lnTo>
                  <a:pt x="244" y="783"/>
                </a:lnTo>
                <a:lnTo>
                  <a:pt x="244" y="808"/>
                </a:lnTo>
                <a:lnTo>
                  <a:pt x="244" y="833"/>
                </a:lnTo>
                <a:lnTo>
                  <a:pt x="244" y="860"/>
                </a:lnTo>
                <a:lnTo>
                  <a:pt x="244" y="886"/>
                </a:lnTo>
                <a:lnTo>
                  <a:pt x="244" y="913"/>
                </a:lnTo>
                <a:lnTo>
                  <a:pt x="242" y="940"/>
                </a:lnTo>
                <a:lnTo>
                  <a:pt x="242" y="969"/>
                </a:lnTo>
                <a:lnTo>
                  <a:pt x="242" y="998"/>
                </a:lnTo>
                <a:lnTo>
                  <a:pt x="242" y="1027"/>
                </a:lnTo>
                <a:lnTo>
                  <a:pt x="242" y="1055"/>
                </a:lnTo>
                <a:lnTo>
                  <a:pt x="240" y="1086"/>
                </a:lnTo>
                <a:lnTo>
                  <a:pt x="240" y="1117"/>
                </a:lnTo>
                <a:lnTo>
                  <a:pt x="240" y="1147"/>
                </a:lnTo>
                <a:lnTo>
                  <a:pt x="240" y="1180"/>
                </a:lnTo>
                <a:lnTo>
                  <a:pt x="238" y="1213"/>
                </a:lnTo>
                <a:lnTo>
                  <a:pt x="238" y="1245"/>
                </a:lnTo>
                <a:lnTo>
                  <a:pt x="238" y="1278"/>
                </a:lnTo>
                <a:lnTo>
                  <a:pt x="238" y="1313"/>
                </a:lnTo>
                <a:lnTo>
                  <a:pt x="236" y="1347"/>
                </a:lnTo>
                <a:lnTo>
                  <a:pt x="236" y="13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5"/>
          <p:cNvSpPr/>
          <p:nvPr/>
        </p:nvSpPr>
        <p:spPr>
          <a:xfrm>
            <a:off x="6273720" y="3692520"/>
            <a:ext cx="378000" cy="127080"/>
          </a:xfrm>
          <a:custGeom>
            <a:avLst/>
            <a:gdLst/>
            <a:ahLst/>
            <a:rect l="l" t="t" r="r" b="b"/>
            <a:pathLst>
              <a:path w="476" h="159">
                <a:moveTo>
                  <a:pt x="0" y="61"/>
                </a:moveTo>
                <a:lnTo>
                  <a:pt x="31" y="57"/>
                </a:lnTo>
                <a:lnTo>
                  <a:pt x="61" y="52"/>
                </a:lnTo>
                <a:lnTo>
                  <a:pt x="90" y="48"/>
                </a:lnTo>
                <a:lnTo>
                  <a:pt x="119" y="44"/>
                </a:lnTo>
                <a:lnTo>
                  <a:pt x="146" y="38"/>
                </a:lnTo>
                <a:lnTo>
                  <a:pt x="171" y="34"/>
                </a:lnTo>
                <a:lnTo>
                  <a:pt x="196" y="29"/>
                </a:lnTo>
                <a:lnTo>
                  <a:pt x="207" y="27"/>
                </a:lnTo>
                <a:lnTo>
                  <a:pt x="219" y="25"/>
                </a:lnTo>
                <a:lnTo>
                  <a:pt x="240" y="21"/>
                </a:lnTo>
                <a:lnTo>
                  <a:pt x="259" y="15"/>
                </a:lnTo>
                <a:lnTo>
                  <a:pt x="278" y="11"/>
                </a:lnTo>
                <a:lnTo>
                  <a:pt x="295" y="7"/>
                </a:lnTo>
                <a:lnTo>
                  <a:pt x="313" y="4"/>
                </a:lnTo>
                <a:lnTo>
                  <a:pt x="328" y="2"/>
                </a:lnTo>
                <a:lnTo>
                  <a:pt x="343" y="0"/>
                </a:lnTo>
                <a:lnTo>
                  <a:pt x="357" y="0"/>
                </a:lnTo>
                <a:lnTo>
                  <a:pt x="368" y="0"/>
                </a:lnTo>
                <a:lnTo>
                  <a:pt x="380" y="0"/>
                </a:lnTo>
                <a:lnTo>
                  <a:pt x="391" y="0"/>
                </a:lnTo>
                <a:lnTo>
                  <a:pt x="401" y="2"/>
                </a:lnTo>
                <a:lnTo>
                  <a:pt x="413" y="4"/>
                </a:lnTo>
                <a:lnTo>
                  <a:pt x="424" y="5"/>
                </a:lnTo>
                <a:lnTo>
                  <a:pt x="436" y="7"/>
                </a:lnTo>
                <a:lnTo>
                  <a:pt x="447" y="13"/>
                </a:lnTo>
                <a:lnTo>
                  <a:pt x="453" y="15"/>
                </a:lnTo>
                <a:lnTo>
                  <a:pt x="459" y="17"/>
                </a:lnTo>
                <a:lnTo>
                  <a:pt x="464" y="21"/>
                </a:lnTo>
                <a:lnTo>
                  <a:pt x="466" y="23"/>
                </a:lnTo>
                <a:lnTo>
                  <a:pt x="470" y="27"/>
                </a:lnTo>
                <a:lnTo>
                  <a:pt x="472" y="30"/>
                </a:lnTo>
                <a:lnTo>
                  <a:pt x="474" y="34"/>
                </a:lnTo>
                <a:lnTo>
                  <a:pt x="474" y="38"/>
                </a:lnTo>
                <a:lnTo>
                  <a:pt x="476" y="42"/>
                </a:lnTo>
                <a:lnTo>
                  <a:pt x="474" y="46"/>
                </a:lnTo>
                <a:lnTo>
                  <a:pt x="474" y="52"/>
                </a:lnTo>
                <a:lnTo>
                  <a:pt x="472" y="55"/>
                </a:lnTo>
                <a:lnTo>
                  <a:pt x="470" y="59"/>
                </a:lnTo>
                <a:lnTo>
                  <a:pt x="466" y="65"/>
                </a:lnTo>
                <a:lnTo>
                  <a:pt x="462" y="69"/>
                </a:lnTo>
                <a:lnTo>
                  <a:pt x="459" y="75"/>
                </a:lnTo>
                <a:lnTo>
                  <a:pt x="457" y="76"/>
                </a:lnTo>
                <a:lnTo>
                  <a:pt x="453" y="78"/>
                </a:lnTo>
                <a:lnTo>
                  <a:pt x="449" y="80"/>
                </a:lnTo>
                <a:lnTo>
                  <a:pt x="445" y="82"/>
                </a:lnTo>
                <a:lnTo>
                  <a:pt x="439" y="86"/>
                </a:lnTo>
                <a:lnTo>
                  <a:pt x="434" y="88"/>
                </a:lnTo>
                <a:lnTo>
                  <a:pt x="426" y="90"/>
                </a:lnTo>
                <a:lnTo>
                  <a:pt x="418" y="92"/>
                </a:lnTo>
                <a:lnTo>
                  <a:pt x="411" y="94"/>
                </a:lnTo>
                <a:lnTo>
                  <a:pt x="401" y="98"/>
                </a:lnTo>
                <a:lnTo>
                  <a:pt x="391" y="100"/>
                </a:lnTo>
                <a:lnTo>
                  <a:pt x="380" y="101"/>
                </a:lnTo>
                <a:lnTo>
                  <a:pt x="368" y="105"/>
                </a:lnTo>
                <a:lnTo>
                  <a:pt x="355" y="107"/>
                </a:lnTo>
                <a:lnTo>
                  <a:pt x="343" y="109"/>
                </a:lnTo>
                <a:lnTo>
                  <a:pt x="328" y="111"/>
                </a:lnTo>
                <a:lnTo>
                  <a:pt x="315" y="115"/>
                </a:lnTo>
                <a:lnTo>
                  <a:pt x="299" y="117"/>
                </a:lnTo>
                <a:lnTo>
                  <a:pt x="282" y="121"/>
                </a:lnTo>
                <a:lnTo>
                  <a:pt x="265" y="123"/>
                </a:lnTo>
                <a:lnTo>
                  <a:pt x="248" y="124"/>
                </a:lnTo>
                <a:lnTo>
                  <a:pt x="230" y="128"/>
                </a:lnTo>
                <a:lnTo>
                  <a:pt x="211" y="130"/>
                </a:lnTo>
                <a:lnTo>
                  <a:pt x="190" y="134"/>
                </a:lnTo>
                <a:lnTo>
                  <a:pt x="169" y="136"/>
                </a:lnTo>
                <a:lnTo>
                  <a:pt x="148" y="140"/>
                </a:lnTo>
                <a:lnTo>
                  <a:pt x="125" y="144"/>
                </a:lnTo>
                <a:lnTo>
                  <a:pt x="102" y="146"/>
                </a:lnTo>
                <a:lnTo>
                  <a:pt x="77" y="149"/>
                </a:lnTo>
                <a:lnTo>
                  <a:pt x="52" y="153"/>
                </a:lnTo>
                <a:lnTo>
                  <a:pt x="27" y="155"/>
                </a:lnTo>
                <a:lnTo>
                  <a:pt x="0" y="159"/>
                </a:lnTo>
                <a:lnTo>
                  <a:pt x="0" y="111"/>
                </a:lnTo>
                <a:lnTo>
                  <a:pt x="0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16"/>
          <p:cNvSpPr/>
          <p:nvPr/>
        </p:nvSpPr>
        <p:spPr>
          <a:xfrm>
            <a:off x="6273720" y="3429000"/>
            <a:ext cx="373320" cy="117360"/>
          </a:xfrm>
          <a:custGeom>
            <a:avLst/>
            <a:gdLst/>
            <a:ahLst/>
            <a:rect l="l" t="t" r="r" b="b"/>
            <a:pathLst>
              <a:path w="470" h="147">
                <a:moveTo>
                  <a:pt x="0" y="61"/>
                </a:moveTo>
                <a:lnTo>
                  <a:pt x="31" y="61"/>
                </a:lnTo>
                <a:lnTo>
                  <a:pt x="63" y="59"/>
                </a:lnTo>
                <a:lnTo>
                  <a:pt x="94" y="57"/>
                </a:lnTo>
                <a:lnTo>
                  <a:pt x="127" y="53"/>
                </a:lnTo>
                <a:lnTo>
                  <a:pt x="159" y="48"/>
                </a:lnTo>
                <a:lnTo>
                  <a:pt x="192" y="42"/>
                </a:lnTo>
                <a:lnTo>
                  <a:pt x="223" y="34"/>
                </a:lnTo>
                <a:lnTo>
                  <a:pt x="253" y="25"/>
                </a:lnTo>
                <a:lnTo>
                  <a:pt x="267" y="23"/>
                </a:lnTo>
                <a:lnTo>
                  <a:pt x="282" y="21"/>
                </a:lnTo>
                <a:lnTo>
                  <a:pt x="294" y="17"/>
                </a:lnTo>
                <a:lnTo>
                  <a:pt x="307" y="15"/>
                </a:lnTo>
                <a:lnTo>
                  <a:pt x="319" y="13"/>
                </a:lnTo>
                <a:lnTo>
                  <a:pt x="330" y="11"/>
                </a:lnTo>
                <a:lnTo>
                  <a:pt x="340" y="9"/>
                </a:lnTo>
                <a:lnTo>
                  <a:pt x="349" y="7"/>
                </a:lnTo>
                <a:lnTo>
                  <a:pt x="357" y="5"/>
                </a:lnTo>
                <a:lnTo>
                  <a:pt x="367" y="5"/>
                </a:lnTo>
                <a:lnTo>
                  <a:pt x="374" y="3"/>
                </a:lnTo>
                <a:lnTo>
                  <a:pt x="380" y="2"/>
                </a:lnTo>
                <a:lnTo>
                  <a:pt x="386" y="2"/>
                </a:lnTo>
                <a:lnTo>
                  <a:pt x="391" y="2"/>
                </a:lnTo>
                <a:lnTo>
                  <a:pt x="397" y="0"/>
                </a:lnTo>
                <a:lnTo>
                  <a:pt x="403" y="0"/>
                </a:lnTo>
                <a:lnTo>
                  <a:pt x="407" y="2"/>
                </a:lnTo>
                <a:lnTo>
                  <a:pt x="413" y="2"/>
                </a:lnTo>
                <a:lnTo>
                  <a:pt x="418" y="5"/>
                </a:lnTo>
                <a:lnTo>
                  <a:pt x="426" y="7"/>
                </a:lnTo>
                <a:lnTo>
                  <a:pt x="434" y="11"/>
                </a:lnTo>
                <a:lnTo>
                  <a:pt x="443" y="15"/>
                </a:lnTo>
                <a:lnTo>
                  <a:pt x="459" y="25"/>
                </a:lnTo>
                <a:lnTo>
                  <a:pt x="462" y="28"/>
                </a:lnTo>
                <a:lnTo>
                  <a:pt x="466" y="34"/>
                </a:lnTo>
                <a:lnTo>
                  <a:pt x="468" y="38"/>
                </a:lnTo>
                <a:lnTo>
                  <a:pt x="470" y="44"/>
                </a:lnTo>
                <a:lnTo>
                  <a:pt x="470" y="48"/>
                </a:lnTo>
                <a:lnTo>
                  <a:pt x="470" y="51"/>
                </a:lnTo>
                <a:lnTo>
                  <a:pt x="468" y="57"/>
                </a:lnTo>
                <a:lnTo>
                  <a:pt x="466" y="61"/>
                </a:lnTo>
                <a:lnTo>
                  <a:pt x="462" y="67"/>
                </a:lnTo>
                <a:lnTo>
                  <a:pt x="459" y="71"/>
                </a:lnTo>
                <a:lnTo>
                  <a:pt x="455" y="75"/>
                </a:lnTo>
                <a:lnTo>
                  <a:pt x="447" y="80"/>
                </a:lnTo>
                <a:lnTo>
                  <a:pt x="441" y="84"/>
                </a:lnTo>
                <a:lnTo>
                  <a:pt x="434" y="90"/>
                </a:lnTo>
                <a:lnTo>
                  <a:pt x="424" y="94"/>
                </a:lnTo>
                <a:lnTo>
                  <a:pt x="415" y="99"/>
                </a:lnTo>
                <a:lnTo>
                  <a:pt x="401" y="103"/>
                </a:lnTo>
                <a:lnTo>
                  <a:pt x="388" y="107"/>
                </a:lnTo>
                <a:lnTo>
                  <a:pt x="372" y="111"/>
                </a:lnTo>
                <a:lnTo>
                  <a:pt x="355" y="115"/>
                </a:lnTo>
                <a:lnTo>
                  <a:pt x="336" y="119"/>
                </a:lnTo>
                <a:lnTo>
                  <a:pt x="315" y="122"/>
                </a:lnTo>
                <a:lnTo>
                  <a:pt x="292" y="124"/>
                </a:lnTo>
                <a:lnTo>
                  <a:pt x="267" y="128"/>
                </a:lnTo>
                <a:lnTo>
                  <a:pt x="240" y="130"/>
                </a:lnTo>
                <a:lnTo>
                  <a:pt x="211" y="134"/>
                </a:lnTo>
                <a:lnTo>
                  <a:pt x="180" y="136"/>
                </a:lnTo>
                <a:lnTo>
                  <a:pt x="150" y="138"/>
                </a:lnTo>
                <a:lnTo>
                  <a:pt x="115" y="140"/>
                </a:lnTo>
                <a:lnTo>
                  <a:pt x="79" y="144"/>
                </a:lnTo>
                <a:lnTo>
                  <a:pt x="40" y="146"/>
                </a:lnTo>
                <a:lnTo>
                  <a:pt x="0" y="147"/>
                </a:lnTo>
                <a:lnTo>
                  <a:pt x="0" y="105"/>
                </a:lnTo>
                <a:lnTo>
                  <a:pt x="0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17"/>
          <p:cNvSpPr/>
          <p:nvPr/>
        </p:nvSpPr>
        <p:spPr>
          <a:xfrm>
            <a:off x="5929200" y="3097080"/>
            <a:ext cx="1265400" cy="263520"/>
          </a:xfrm>
          <a:custGeom>
            <a:avLst/>
            <a:gdLst/>
            <a:ahLst/>
            <a:rect l="l" t="t" r="r" b="b"/>
            <a:pathLst>
              <a:path w="1593" h="332">
                <a:moveTo>
                  <a:pt x="1111" y="50"/>
                </a:moveTo>
                <a:lnTo>
                  <a:pt x="1133" y="44"/>
                </a:lnTo>
                <a:lnTo>
                  <a:pt x="1154" y="37"/>
                </a:lnTo>
                <a:lnTo>
                  <a:pt x="1173" y="31"/>
                </a:lnTo>
                <a:lnTo>
                  <a:pt x="1192" y="27"/>
                </a:lnTo>
                <a:lnTo>
                  <a:pt x="1211" y="21"/>
                </a:lnTo>
                <a:lnTo>
                  <a:pt x="1230" y="17"/>
                </a:lnTo>
                <a:lnTo>
                  <a:pt x="1267" y="12"/>
                </a:lnTo>
                <a:lnTo>
                  <a:pt x="1301" y="6"/>
                </a:lnTo>
                <a:lnTo>
                  <a:pt x="1334" y="4"/>
                </a:lnTo>
                <a:lnTo>
                  <a:pt x="1367" y="2"/>
                </a:lnTo>
                <a:lnTo>
                  <a:pt x="1397" y="0"/>
                </a:lnTo>
                <a:lnTo>
                  <a:pt x="1411" y="0"/>
                </a:lnTo>
                <a:lnTo>
                  <a:pt x="1422" y="2"/>
                </a:lnTo>
                <a:lnTo>
                  <a:pt x="1434" y="2"/>
                </a:lnTo>
                <a:lnTo>
                  <a:pt x="1445" y="2"/>
                </a:lnTo>
                <a:lnTo>
                  <a:pt x="1467" y="6"/>
                </a:lnTo>
                <a:lnTo>
                  <a:pt x="1486" y="8"/>
                </a:lnTo>
                <a:lnTo>
                  <a:pt x="1503" y="12"/>
                </a:lnTo>
                <a:lnTo>
                  <a:pt x="1518" y="16"/>
                </a:lnTo>
                <a:lnTo>
                  <a:pt x="1534" y="21"/>
                </a:lnTo>
                <a:lnTo>
                  <a:pt x="1547" y="25"/>
                </a:lnTo>
                <a:lnTo>
                  <a:pt x="1553" y="31"/>
                </a:lnTo>
                <a:lnTo>
                  <a:pt x="1559" y="35"/>
                </a:lnTo>
                <a:lnTo>
                  <a:pt x="1564" y="39"/>
                </a:lnTo>
                <a:lnTo>
                  <a:pt x="1568" y="42"/>
                </a:lnTo>
                <a:lnTo>
                  <a:pt x="1576" y="48"/>
                </a:lnTo>
                <a:lnTo>
                  <a:pt x="1582" y="56"/>
                </a:lnTo>
                <a:lnTo>
                  <a:pt x="1587" y="60"/>
                </a:lnTo>
                <a:lnTo>
                  <a:pt x="1591" y="65"/>
                </a:lnTo>
                <a:lnTo>
                  <a:pt x="1591" y="69"/>
                </a:lnTo>
                <a:lnTo>
                  <a:pt x="1593" y="75"/>
                </a:lnTo>
                <a:lnTo>
                  <a:pt x="1591" y="77"/>
                </a:lnTo>
                <a:lnTo>
                  <a:pt x="1591" y="79"/>
                </a:lnTo>
                <a:lnTo>
                  <a:pt x="1587" y="83"/>
                </a:lnTo>
                <a:lnTo>
                  <a:pt x="1584" y="87"/>
                </a:lnTo>
                <a:lnTo>
                  <a:pt x="1580" y="88"/>
                </a:lnTo>
                <a:lnTo>
                  <a:pt x="1574" y="92"/>
                </a:lnTo>
                <a:lnTo>
                  <a:pt x="1568" y="96"/>
                </a:lnTo>
                <a:lnTo>
                  <a:pt x="1561" y="100"/>
                </a:lnTo>
                <a:lnTo>
                  <a:pt x="1551" y="102"/>
                </a:lnTo>
                <a:lnTo>
                  <a:pt x="1541" y="106"/>
                </a:lnTo>
                <a:lnTo>
                  <a:pt x="1532" y="110"/>
                </a:lnTo>
                <a:lnTo>
                  <a:pt x="1520" y="113"/>
                </a:lnTo>
                <a:lnTo>
                  <a:pt x="1509" y="115"/>
                </a:lnTo>
                <a:lnTo>
                  <a:pt x="1495" y="119"/>
                </a:lnTo>
                <a:lnTo>
                  <a:pt x="1482" y="121"/>
                </a:lnTo>
                <a:lnTo>
                  <a:pt x="1467" y="125"/>
                </a:lnTo>
                <a:lnTo>
                  <a:pt x="1438" y="133"/>
                </a:lnTo>
                <a:lnTo>
                  <a:pt x="1409" y="140"/>
                </a:lnTo>
                <a:lnTo>
                  <a:pt x="1382" y="146"/>
                </a:lnTo>
                <a:lnTo>
                  <a:pt x="1357" y="152"/>
                </a:lnTo>
                <a:lnTo>
                  <a:pt x="1332" y="156"/>
                </a:lnTo>
                <a:lnTo>
                  <a:pt x="1311" y="160"/>
                </a:lnTo>
                <a:lnTo>
                  <a:pt x="1300" y="160"/>
                </a:lnTo>
                <a:lnTo>
                  <a:pt x="1290" y="160"/>
                </a:lnTo>
                <a:lnTo>
                  <a:pt x="1280" y="161"/>
                </a:lnTo>
                <a:lnTo>
                  <a:pt x="1273" y="161"/>
                </a:lnTo>
                <a:lnTo>
                  <a:pt x="1261" y="161"/>
                </a:lnTo>
                <a:lnTo>
                  <a:pt x="1250" y="161"/>
                </a:lnTo>
                <a:lnTo>
                  <a:pt x="1236" y="161"/>
                </a:lnTo>
                <a:lnTo>
                  <a:pt x="1225" y="163"/>
                </a:lnTo>
                <a:lnTo>
                  <a:pt x="1211" y="165"/>
                </a:lnTo>
                <a:lnTo>
                  <a:pt x="1198" y="165"/>
                </a:lnTo>
                <a:lnTo>
                  <a:pt x="1182" y="167"/>
                </a:lnTo>
                <a:lnTo>
                  <a:pt x="1169" y="169"/>
                </a:lnTo>
                <a:lnTo>
                  <a:pt x="1154" y="173"/>
                </a:lnTo>
                <a:lnTo>
                  <a:pt x="1136" y="175"/>
                </a:lnTo>
                <a:lnTo>
                  <a:pt x="1121" y="179"/>
                </a:lnTo>
                <a:lnTo>
                  <a:pt x="1104" y="181"/>
                </a:lnTo>
                <a:lnTo>
                  <a:pt x="1087" y="184"/>
                </a:lnTo>
                <a:lnTo>
                  <a:pt x="1069" y="188"/>
                </a:lnTo>
                <a:lnTo>
                  <a:pt x="1050" y="192"/>
                </a:lnTo>
                <a:lnTo>
                  <a:pt x="1031" y="198"/>
                </a:lnTo>
                <a:lnTo>
                  <a:pt x="1008" y="202"/>
                </a:lnTo>
                <a:lnTo>
                  <a:pt x="985" y="208"/>
                </a:lnTo>
                <a:lnTo>
                  <a:pt x="960" y="211"/>
                </a:lnTo>
                <a:lnTo>
                  <a:pt x="933" y="217"/>
                </a:lnTo>
                <a:lnTo>
                  <a:pt x="906" y="221"/>
                </a:lnTo>
                <a:lnTo>
                  <a:pt x="877" y="227"/>
                </a:lnTo>
                <a:lnTo>
                  <a:pt x="847" y="231"/>
                </a:lnTo>
                <a:lnTo>
                  <a:pt x="814" y="236"/>
                </a:lnTo>
                <a:lnTo>
                  <a:pt x="781" y="242"/>
                </a:lnTo>
                <a:lnTo>
                  <a:pt x="745" y="246"/>
                </a:lnTo>
                <a:lnTo>
                  <a:pt x="708" y="252"/>
                </a:lnTo>
                <a:lnTo>
                  <a:pt x="672" y="257"/>
                </a:lnTo>
                <a:lnTo>
                  <a:pt x="632" y="263"/>
                </a:lnTo>
                <a:lnTo>
                  <a:pt x="591" y="271"/>
                </a:lnTo>
                <a:lnTo>
                  <a:pt x="547" y="277"/>
                </a:lnTo>
                <a:lnTo>
                  <a:pt x="503" y="284"/>
                </a:lnTo>
                <a:lnTo>
                  <a:pt x="482" y="288"/>
                </a:lnTo>
                <a:lnTo>
                  <a:pt x="459" y="290"/>
                </a:lnTo>
                <a:lnTo>
                  <a:pt x="440" y="294"/>
                </a:lnTo>
                <a:lnTo>
                  <a:pt x="419" y="296"/>
                </a:lnTo>
                <a:lnTo>
                  <a:pt x="399" y="300"/>
                </a:lnTo>
                <a:lnTo>
                  <a:pt x="380" y="302"/>
                </a:lnTo>
                <a:lnTo>
                  <a:pt x="361" y="305"/>
                </a:lnTo>
                <a:lnTo>
                  <a:pt x="344" y="307"/>
                </a:lnTo>
                <a:lnTo>
                  <a:pt x="328" y="309"/>
                </a:lnTo>
                <a:lnTo>
                  <a:pt x="311" y="311"/>
                </a:lnTo>
                <a:lnTo>
                  <a:pt x="296" y="313"/>
                </a:lnTo>
                <a:lnTo>
                  <a:pt x="280" y="315"/>
                </a:lnTo>
                <a:lnTo>
                  <a:pt x="267" y="317"/>
                </a:lnTo>
                <a:lnTo>
                  <a:pt x="253" y="319"/>
                </a:lnTo>
                <a:lnTo>
                  <a:pt x="240" y="321"/>
                </a:lnTo>
                <a:lnTo>
                  <a:pt x="229" y="323"/>
                </a:lnTo>
                <a:lnTo>
                  <a:pt x="217" y="325"/>
                </a:lnTo>
                <a:lnTo>
                  <a:pt x="205" y="325"/>
                </a:lnTo>
                <a:lnTo>
                  <a:pt x="196" y="327"/>
                </a:lnTo>
                <a:lnTo>
                  <a:pt x="186" y="327"/>
                </a:lnTo>
                <a:lnTo>
                  <a:pt x="177" y="328"/>
                </a:lnTo>
                <a:lnTo>
                  <a:pt x="169" y="328"/>
                </a:lnTo>
                <a:lnTo>
                  <a:pt x="161" y="330"/>
                </a:lnTo>
                <a:lnTo>
                  <a:pt x="156" y="330"/>
                </a:lnTo>
                <a:lnTo>
                  <a:pt x="150" y="330"/>
                </a:lnTo>
                <a:lnTo>
                  <a:pt x="144" y="332"/>
                </a:lnTo>
                <a:lnTo>
                  <a:pt x="138" y="332"/>
                </a:lnTo>
                <a:lnTo>
                  <a:pt x="134" y="332"/>
                </a:lnTo>
                <a:lnTo>
                  <a:pt x="131" y="332"/>
                </a:lnTo>
                <a:lnTo>
                  <a:pt x="129" y="332"/>
                </a:lnTo>
                <a:lnTo>
                  <a:pt x="127" y="332"/>
                </a:lnTo>
                <a:lnTo>
                  <a:pt x="125" y="332"/>
                </a:lnTo>
                <a:lnTo>
                  <a:pt x="117" y="332"/>
                </a:lnTo>
                <a:lnTo>
                  <a:pt x="108" y="330"/>
                </a:lnTo>
                <a:lnTo>
                  <a:pt x="98" y="328"/>
                </a:lnTo>
                <a:lnTo>
                  <a:pt x="88" y="325"/>
                </a:lnTo>
                <a:lnTo>
                  <a:pt x="79" y="321"/>
                </a:lnTo>
                <a:lnTo>
                  <a:pt x="69" y="317"/>
                </a:lnTo>
                <a:lnTo>
                  <a:pt x="58" y="313"/>
                </a:lnTo>
                <a:lnTo>
                  <a:pt x="44" y="309"/>
                </a:lnTo>
                <a:lnTo>
                  <a:pt x="38" y="305"/>
                </a:lnTo>
                <a:lnTo>
                  <a:pt x="33" y="303"/>
                </a:lnTo>
                <a:lnTo>
                  <a:pt x="27" y="302"/>
                </a:lnTo>
                <a:lnTo>
                  <a:pt x="23" y="300"/>
                </a:lnTo>
                <a:lnTo>
                  <a:pt x="15" y="294"/>
                </a:lnTo>
                <a:lnTo>
                  <a:pt x="10" y="290"/>
                </a:lnTo>
                <a:lnTo>
                  <a:pt x="4" y="286"/>
                </a:lnTo>
                <a:lnTo>
                  <a:pt x="2" y="280"/>
                </a:lnTo>
                <a:lnTo>
                  <a:pt x="0" y="277"/>
                </a:lnTo>
                <a:lnTo>
                  <a:pt x="0" y="271"/>
                </a:lnTo>
                <a:lnTo>
                  <a:pt x="0" y="269"/>
                </a:lnTo>
                <a:lnTo>
                  <a:pt x="0" y="267"/>
                </a:lnTo>
                <a:lnTo>
                  <a:pt x="2" y="265"/>
                </a:lnTo>
                <a:lnTo>
                  <a:pt x="4" y="265"/>
                </a:lnTo>
                <a:lnTo>
                  <a:pt x="6" y="263"/>
                </a:lnTo>
                <a:lnTo>
                  <a:pt x="10" y="261"/>
                </a:lnTo>
                <a:lnTo>
                  <a:pt x="14" y="261"/>
                </a:lnTo>
                <a:lnTo>
                  <a:pt x="17" y="259"/>
                </a:lnTo>
                <a:lnTo>
                  <a:pt x="23" y="257"/>
                </a:lnTo>
                <a:lnTo>
                  <a:pt x="29" y="257"/>
                </a:lnTo>
                <a:lnTo>
                  <a:pt x="35" y="255"/>
                </a:lnTo>
                <a:lnTo>
                  <a:pt x="42" y="254"/>
                </a:lnTo>
                <a:lnTo>
                  <a:pt x="50" y="254"/>
                </a:lnTo>
                <a:lnTo>
                  <a:pt x="60" y="252"/>
                </a:lnTo>
                <a:lnTo>
                  <a:pt x="69" y="250"/>
                </a:lnTo>
                <a:lnTo>
                  <a:pt x="79" y="248"/>
                </a:lnTo>
                <a:lnTo>
                  <a:pt x="85" y="246"/>
                </a:lnTo>
                <a:lnTo>
                  <a:pt x="88" y="244"/>
                </a:lnTo>
                <a:lnTo>
                  <a:pt x="96" y="244"/>
                </a:lnTo>
                <a:lnTo>
                  <a:pt x="102" y="242"/>
                </a:lnTo>
                <a:lnTo>
                  <a:pt x="110" y="240"/>
                </a:lnTo>
                <a:lnTo>
                  <a:pt x="117" y="238"/>
                </a:lnTo>
                <a:lnTo>
                  <a:pt x="125" y="236"/>
                </a:lnTo>
                <a:lnTo>
                  <a:pt x="134" y="234"/>
                </a:lnTo>
                <a:lnTo>
                  <a:pt x="144" y="232"/>
                </a:lnTo>
                <a:lnTo>
                  <a:pt x="156" y="231"/>
                </a:lnTo>
                <a:lnTo>
                  <a:pt x="167" y="229"/>
                </a:lnTo>
                <a:lnTo>
                  <a:pt x="179" y="227"/>
                </a:lnTo>
                <a:lnTo>
                  <a:pt x="190" y="225"/>
                </a:lnTo>
                <a:lnTo>
                  <a:pt x="204" y="223"/>
                </a:lnTo>
                <a:lnTo>
                  <a:pt x="219" y="221"/>
                </a:lnTo>
                <a:lnTo>
                  <a:pt x="232" y="217"/>
                </a:lnTo>
                <a:lnTo>
                  <a:pt x="248" y="215"/>
                </a:lnTo>
                <a:lnTo>
                  <a:pt x="263" y="213"/>
                </a:lnTo>
                <a:lnTo>
                  <a:pt x="280" y="209"/>
                </a:lnTo>
                <a:lnTo>
                  <a:pt x="298" y="208"/>
                </a:lnTo>
                <a:lnTo>
                  <a:pt x="315" y="204"/>
                </a:lnTo>
                <a:lnTo>
                  <a:pt x="332" y="200"/>
                </a:lnTo>
                <a:lnTo>
                  <a:pt x="351" y="198"/>
                </a:lnTo>
                <a:lnTo>
                  <a:pt x="371" y="194"/>
                </a:lnTo>
                <a:lnTo>
                  <a:pt x="392" y="190"/>
                </a:lnTo>
                <a:lnTo>
                  <a:pt x="413" y="186"/>
                </a:lnTo>
                <a:lnTo>
                  <a:pt x="434" y="183"/>
                </a:lnTo>
                <a:lnTo>
                  <a:pt x="455" y="179"/>
                </a:lnTo>
                <a:lnTo>
                  <a:pt x="478" y="175"/>
                </a:lnTo>
                <a:lnTo>
                  <a:pt x="501" y="169"/>
                </a:lnTo>
                <a:lnTo>
                  <a:pt x="524" y="165"/>
                </a:lnTo>
                <a:lnTo>
                  <a:pt x="549" y="161"/>
                </a:lnTo>
                <a:lnTo>
                  <a:pt x="597" y="154"/>
                </a:lnTo>
                <a:lnTo>
                  <a:pt x="645" y="146"/>
                </a:lnTo>
                <a:lnTo>
                  <a:pt x="691" y="140"/>
                </a:lnTo>
                <a:lnTo>
                  <a:pt x="733" y="133"/>
                </a:lnTo>
                <a:lnTo>
                  <a:pt x="776" y="127"/>
                </a:lnTo>
                <a:lnTo>
                  <a:pt x="816" y="119"/>
                </a:lnTo>
                <a:lnTo>
                  <a:pt x="854" y="112"/>
                </a:lnTo>
                <a:lnTo>
                  <a:pt x="891" y="106"/>
                </a:lnTo>
                <a:lnTo>
                  <a:pt x="908" y="102"/>
                </a:lnTo>
                <a:lnTo>
                  <a:pt x="925" y="98"/>
                </a:lnTo>
                <a:lnTo>
                  <a:pt x="943" y="94"/>
                </a:lnTo>
                <a:lnTo>
                  <a:pt x="958" y="92"/>
                </a:lnTo>
                <a:lnTo>
                  <a:pt x="973" y="88"/>
                </a:lnTo>
                <a:lnTo>
                  <a:pt x="989" y="85"/>
                </a:lnTo>
                <a:lnTo>
                  <a:pt x="1002" y="81"/>
                </a:lnTo>
                <a:lnTo>
                  <a:pt x="1017" y="77"/>
                </a:lnTo>
                <a:lnTo>
                  <a:pt x="1031" y="75"/>
                </a:lnTo>
                <a:lnTo>
                  <a:pt x="1044" y="71"/>
                </a:lnTo>
                <a:lnTo>
                  <a:pt x="1056" y="67"/>
                </a:lnTo>
                <a:lnTo>
                  <a:pt x="1067" y="64"/>
                </a:lnTo>
                <a:lnTo>
                  <a:pt x="1079" y="60"/>
                </a:lnTo>
                <a:lnTo>
                  <a:pt x="1090" y="58"/>
                </a:lnTo>
                <a:lnTo>
                  <a:pt x="1102" y="54"/>
                </a:lnTo>
                <a:lnTo>
                  <a:pt x="1111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矩形 3"/>
          <p:cNvSpPr/>
          <p:nvPr/>
        </p:nvSpPr>
        <p:spPr>
          <a:xfrm>
            <a:off x="2108160" y="1868400"/>
            <a:ext cx="13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u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90"/>
          <p:cNvSpPr/>
          <p:nvPr/>
        </p:nvSpPr>
        <p:spPr>
          <a:xfrm>
            <a:off x="7300800" y="4287960"/>
            <a:ext cx="289080" cy="790560"/>
          </a:xfrm>
          <a:custGeom>
            <a:avLst/>
            <a:gdLst/>
            <a:ahLst/>
            <a:rect l="l" t="t" r="r" b="b"/>
            <a:pathLst>
              <a:path w="365" h="994">
                <a:moveTo>
                  <a:pt x="21" y="6"/>
                </a:moveTo>
                <a:lnTo>
                  <a:pt x="31" y="4"/>
                </a:lnTo>
                <a:lnTo>
                  <a:pt x="40" y="2"/>
                </a:lnTo>
                <a:lnTo>
                  <a:pt x="50" y="0"/>
                </a:lnTo>
                <a:lnTo>
                  <a:pt x="62" y="0"/>
                </a:lnTo>
                <a:lnTo>
                  <a:pt x="71" y="0"/>
                </a:lnTo>
                <a:lnTo>
                  <a:pt x="83" y="2"/>
                </a:lnTo>
                <a:lnTo>
                  <a:pt x="94" y="4"/>
                </a:lnTo>
                <a:lnTo>
                  <a:pt x="106" y="6"/>
                </a:lnTo>
                <a:lnTo>
                  <a:pt x="119" y="9"/>
                </a:lnTo>
                <a:lnTo>
                  <a:pt x="131" y="13"/>
                </a:lnTo>
                <a:lnTo>
                  <a:pt x="144" y="19"/>
                </a:lnTo>
                <a:lnTo>
                  <a:pt x="158" y="25"/>
                </a:lnTo>
                <a:lnTo>
                  <a:pt x="171" y="30"/>
                </a:lnTo>
                <a:lnTo>
                  <a:pt x="184" y="38"/>
                </a:lnTo>
                <a:lnTo>
                  <a:pt x="200" y="48"/>
                </a:lnTo>
                <a:lnTo>
                  <a:pt x="215" y="57"/>
                </a:lnTo>
                <a:lnTo>
                  <a:pt x="229" y="67"/>
                </a:lnTo>
                <a:lnTo>
                  <a:pt x="242" y="77"/>
                </a:lnTo>
                <a:lnTo>
                  <a:pt x="255" y="84"/>
                </a:lnTo>
                <a:lnTo>
                  <a:pt x="269" y="94"/>
                </a:lnTo>
                <a:lnTo>
                  <a:pt x="280" y="102"/>
                </a:lnTo>
                <a:lnTo>
                  <a:pt x="292" y="111"/>
                </a:lnTo>
                <a:lnTo>
                  <a:pt x="301" y="119"/>
                </a:lnTo>
                <a:lnTo>
                  <a:pt x="311" y="126"/>
                </a:lnTo>
                <a:lnTo>
                  <a:pt x="319" y="132"/>
                </a:lnTo>
                <a:lnTo>
                  <a:pt x="326" y="140"/>
                </a:lnTo>
                <a:lnTo>
                  <a:pt x="334" y="146"/>
                </a:lnTo>
                <a:lnTo>
                  <a:pt x="340" y="151"/>
                </a:lnTo>
                <a:lnTo>
                  <a:pt x="346" y="157"/>
                </a:lnTo>
                <a:lnTo>
                  <a:pt x="351" y="163"/>
                </a:lnTo>
                <a:lnTo>
                  <a:pt x="355" y="169"/>
                </a:lnTo>
                <a:lnTo>
                  <a:pt x="359" y="174"/>
                </a:lnTo>
                <a:lnTo>
                  <a:pt x="361" y="180"/>
                </a:lnTo>
                <a:lnTo>
                  <a:pt x="363" y="186"/>
                </a:lnTo>
                <a:lnTo>
                  <a:pt x="365" y="192"/>
                </a:lnTo>
                <a:lnTo>
                  <a:pt x="365" y="197"/>
                </a:lnTo>
                <a:lnTo>
                  <a:pt x="365" y="205"/>
                </a:lnTo>
                <a:lnTo>
                  <a:pt x="365" y="213"/>
                </a:lnTo>
                <a:lnTo>
                  <a:pt x="365" y="222"/>
                </a:lnTo>
                <a:lnTo>
                  <a:pt x="363" y="232"/>
                </a:lnTo>
                <a:lnTo>
                  <a:pt x="359" y="251"/>
                </a:lnTo>
                <a:lnTo>
                  <a:pt x="353" y="270"/>
                </a:lnTo>
                <a:lnTo>
                  <a:pt x="349" y="293"/>
                </a:lnTo>
                <a:lnTo>
                  <a:pt x="344" y="318"/>
                </a:lnTo>
                <a:lnTo>
                  <a:pt x="336" y="330"/>
                </a:lnTo>
                <a:lnTo>
                  <a:pt x="330" y="345"/>
                </a:lnTo>
                <a:lnTo>
                  <a:pt x="325" y="361"/>
                </a:lnTo>
                <a:lnTo>
                  <a:pt x="319" y="378"/>
                </a:lnTo>
                <a:lnTo>
                  <a:pt x="313" y="397"/>
                </a:lnTo>
                <a:lnTo>
                  <a:pt x="305" y="418"/>
                </a:lnTo>
                <a:lnTo>
                  <a:pt x="300" y="439"/>
                </a:lnTo>
                <a:lnTo>
                  <a:pt x="292" y="464"/>
                </a:lnTo>
                <a:lnTo>
                  <a:pt x="286" y="489"/>
                </a:lnTo>
                <a:lnTo>
                  <a:pt x="278" y="516"/>
                </a:lnTo>
                <a:lnTo>
                  <a:pt x="271" y="543"/>
                </a:lnTo>
                <a:lnTo>
                  <a:pt x="263" y="574"/>
                </a:lnTo>
                <a:lnTo>
                  <a:pt x="255" y="604"/>
                </a:lnTo>
                <a:lnTo>
                  <a:pt x="248" y="637"/>
                </a:lnTo>
                <a:lnTo>
                  <a:pt x="240" y="672"/>
                </a:lnTo>
                <a:lnTo>
                  <a:pt x="230" y="708"/>
                </a:lnTo>
                <a:lnTo>
                  <a:pt x="227" y="725"/>
                </a:lnTo>
                <a:lnTo>
                  <a:pt x="221" y="743"/>
                </a:lnTo>
                <a:lnTo>
                  <a:pt x="217" y="760"/>
                </a:lnTo>
                <a:lnTo>
                  <a:pt x="213" y="777"/>
                </a:lnTo>
                <a:lnTo>
                  <a:pt x="209" y="793"/>
                </a:lnTo>
                <a:lnTo>
                  <a:pt x="206" y="808"/>
                </a:lnTo>
                <a:lnTo>
                  <a:pt x="202" y="821"/>
                </a:lnTo>
                <a:lnTo>
                  <a:pt x="198" y="835"/>
                </a:lnTo>
                <a:lnTo>
                  <a:pt x="194" y="848"/>
                </a:lnTo>
                <a:lnTo>
                  <a:pt x="190" y="862"/>
                </a:lnTo>
                <a:lnTo>
                  <a:pt x="186" y="873"/>
                </a:lnTo>
                <a:lnTo>
                  <a:pt x="182" y="885"/>
                </a:lnTo>
                <a:lnTo>
                  <a:pt x="181" y="896"/>
                </a:lnTo>
                <a:lnTo>
                  <a:pt x="177" y="906"/>
                </a:lnTo>
                <a:lnTo>
                  <a:pt x="173" y="915"/>
                </a:lnTo>
                <a:lnTo>
                  <a:pt x="171" y="925"/>
                </a:lnTo>
                <a:lnTo>
                  <a:pt x="167" y="933"/>
                </a:lnTo>
                <a:lnTo>
                  <a:pt x="165" y="940"/>
                </a:lnTo>
                <a:lnTo>
                  <a:pt x="161" y="948"/>
                </a:lnTo>
                <a:lnTo>
                  <a:pt x="159" y="956"/>
                </a:lnTo>
                <a:lnTo>
                  <a:pt x="158" y="961"/>
                </a:lnTo>
                <a:lnTo>
                  <a:pt x="154" y="967"/>
                </a:lnTo>
                <a:lnTo>
                  <a:pt x="152" y="973"/>
                </a:lnTo>
                <a:lnTo>
                  <a:pt x="150" y="977"/>
                </a:lnTo>
                <a:lnTo>
                  <a:pt x="148" y="981"/>
                </a:lnTo>
                <a:lnTo>
                  <a:pt x="144" y="984"/>
                </a:lnTo>
                <a:lnTo>
                  <a:pt x="142" y="988"/>
                </a:lnTo>
                <a:lnTo>
                  <a:pt x="140" y="990"/>
                </a:lnTo>
                <a:lnTo>
                  <a:pt x="138" y="992"/>
                </a:lnTo>
                <a:lnTo>
                  <a:pt x="136" y="992"/>
                </a:lnTo>
                <a:lnTo>
                  <a:pt x="136" y="994"/>
                </a:lnTo>
                <a:lnTo>
                  <a:pt x="134" y="994"/>
                </a:lnTo>
                <a:lnTo>
                  <a:pt x="127" y="994"/>
                </a:lnTo>
                <a:lnTo>
                  <a:pt x="119" y="992"/>
                </a:lnTo>
                <a:lnTo>
                  <a:pt x="111" y="988"/>
                </a:lnTo>
                <a:lnTo>
                  <a:pt x="102" y="983"/>
                </a:lnTo>
                <a:lnTo>
                  <a:pt x="98" y="979"/>
                </a:lnTo>
                <a:lnTo>
                  <a:pt x="92" y="975"/>
                </a:lnTo>
                <a:lnTo>
                  <a:pt x="88" y="971"/>
                </a:lnTo>
                <a:lnTo>
                  <a:pt x="85" y="967"/>
                </a:lnTo>
                <a:lnTo>
                  <a:pt x="81" y="961"/>
                </a:lnTo>
                <a:lnTo>
                  <a:pt x="77" y="956"/>
                </a:lnTo>
                <a:lnTo>
                  <a:pt x="73" y="950"/>
                </a:lnTo>
                <a:lnTo>
                  <a:pt x="69" y="942"/>
                </a:lnTo>
                <a:lnTo>
                  <a:pt x="69" y="938"/>
                </a:lnTo>
                <a:lnTo>
                  <a:pt x="67" y="935"/>
                </a:lnTo>
                <a:lnTo>
                  <a:pt x="65" y="929"/>
                </a:lnTo>
                <a:lnTo>
                  <a:pt x="65" y="923"/>
                </a:lnTo>
                <a:lnTo>
                  <a:pt x="63" y="917"/>
                </a:lnTo>
                <a:lnTo>
                  <a:pt x="63" y="910"/>
                </a:lnTo>
                <a:lnTo>
                  <a:pt x="62" y="904"/>
                </a:lnTo>
                <a:lnTo>
                  <a:pt x="62" y="896"/>
                </a:lnTo>
                <a:lnTo>
                  <a:pt x="60" y="887"/>
                </a:lnTo>
                <a:lnTo>
                  <a:pt x="60" y="879"/>
                </a:lnTo>
                <a:lnTo>
                  <a:pt x="60" y="869"/>
                </a:lnTo>
                <a:lnTo>
                  <a:pt x="60" y="858"/>
                </a:lnTo>
                <a:lnTo>
                  <a:pt x="58" y="848"/>
                </a:lnTo>
                <a:lnTo>
                  <a:pt x="58" y="837"/>
                </a:lnTo>
                <a:lnTo>
                  <a:pt x="58" y="825"/>
                </a:lnTo>
                <a:lnTo>
                  <a:pt x="58" y="812"/>
                </a:lnTo>
                <a:lnTo>
                  <a:pt x="58" y="798"/>
                </a:lnTo>
                <a:lnTo>
                  <a:pt x="58" y="785"/>
                </a:lnTo>
                <a:lnTo>
                  <a:pt x="58" y="771"/>
                </a:lnTo>
                <a:lnTo>
                  <a:pt x="60" y="756"/>
                </a:lnTo>
                <a:lnTo>
                  <a:pt x="60" y="741"/>
                </a:lnTo>
                <a:lnTo>
                  <a:pt x="60" y="723"/>
                </a:lnTo>
                <a:lnTo>
                  <a:pt x="60" y="706"/>
                </a:lnTo>
                <a:lnTo>
                  <a:pt x="62" y="689"/>
                </a:lnTo>
                <a:lnTo>
                  <a:pt x="62" y="672"/>
                </a:lnTo>
                <a:lnTo>
                  <a:pt x="63" y="652"/>
                </a:lnTo>
                <a:lnTo>
                  <a:pt x="63" y="633"/>
                </a:lnTo>
                <a:lnTo>
                  <a:pt x="65" y="612"/>
                </a:lnTo>
                <a:lnTo>
                  <a:pt x="65" y="593"/>
                </a:lnTo>
                <a:lnTo>
                  <a:pt x="67" y="570"/>
                </a:lnTo>
                <a:lnTo>
                  <a:pt x="69" y="549"/>
                </a:lnTo>
                <a:lnTo>
                  <a:pt x="69" y="526"/>
                </a:lnTo>
                <a:lnTo>
                  <a:pt x="71" y="503"/>
                </a:lnTo>
                <a:lnTo>
                  <a:pt x="73" y="480"/>
                </a:lnTo>
                <a:lnTo>
                  <a:pt x="73" y="459"/>
                </a:lnTo>
                <a:lnTo>
                  <a:pt x="75" y="437"/>
                </a:lnTo>
                <a:lnTo>
                  <a:pt x="75" y="418"/>
                </a:lnTo>
                <a:lnTo>
                  <a:pt x="75" y="397"/>
                </a:lnTo>
                <a:lnTo>
                  <a:pt x="75" y="378"/>
                </a:lnTo>
                <a:lnTo>
                  <a:pt x="75" y="359"/>
                </a:lnTo>
                <a:lnTo>
                  <a:pt x="75" y="341"/>
                </a:lnTo>
                <a:lnTo>
                  <a:pt x="75" y="324"/>
                </a:lnTo>
                <a:lnTo>
                  <a:pt x="75" y="307"/>
                </a:lnTo>
                <a:lnTo>
                  <a:pt x="75" y="292"/>
                </a:lnTo>
                <a:lnTo>
                  <a:pt x="75" y="274"/>
                </a:lnTo>
                <a:lnTo>
                  <a:pt x="73" y="259"/>
                </a:lnTo>
                <a:lnTo>
                  <a:pt x="73" y="245"/>
                </a:lnTo>
                <a:lnTo>
                  <a:pt x="71" y="232"/>
                </a:lnTo>
                <a:lnTo>
                  <a:pt x="71" y="219"/>
                </a:lnTo>
                <a:lnTo>
                  <a:pt x="69" y="205"/>
                </a:lnTo>
                <a:lnTo>
                  <a:pt x="67" y="194"/>
                </a:lnTo>
                <a:lnTo>
                  <a:pt x="65" y="180"/>
                </a:lnTo>
                <a:lnTo>
                  <a:pt x="63" y="171"/>
                </a:lnTo>
                <a:lnTo>
                  <a:pt x="62" y="159"/>
                </a:lnTo>
                <a:lnTo>
                  <a:pt x="60" y="150"/>
                </a:lnTo>
                <a:lnTo>
                  <a:pt x="58" y="140"/>
                </a:lnTo>
                <a:lnTo>
                  <a:pt x="56" y="130"/>
                </a:lnTo>
                <a:lnTo>
                  <a:pt x="54" y="123"/>
                </a:lnTo>
                <a:lnTo>
                  <a:pt x="52" y="115"/>
                </a:lnTo>
                <a:lnTo>
                  <a:pt x="48" y="107"/>
                </a:lnTo>
                <a:lnTo>
                  <a:pt x="46" y="100"/>
                </a:lnTo>
                <a:lnTo>
                  <a:pt x="44" y="94"/>
                </a:lnTo>
                <a:lnTo>
                  <a:pt x="40" y="88"/>
                </a:lnTo>
                <a:lnTo>
                  <a:pt x="38" y="84"/>
                </a:lnTo>
                <a:lnTo>
                  <a:pt x="29" y="77"/>
                </a:lnTo>
                <a:lnTo>
                  <a:pt x="21" y="69"/>
                </a:lnTo>
                <a:lnTo>
                  <a:pt x="15" y="63"/>
                </a:lnTo>
                <a:lnTo>
                  <a:pt x="10" y="55"/>
                </a:lnTo>
                <a:lnTo>
                  <a:pt x="6" y="50"/>
                </a:lnTo>
                <a:lnTo>
                  <a:pt x="4" y="44"/>
                </a:lnTo>
                <a:lnTo>
                  <a:pt x="0" y="40"/>
                </a:lnTo>
                <a:lnTo>
                  <a:pt x="0" y="34"/>
                </a:lnTo>
                <a:lnTo>
                  <a:pt x="0" y="30"/>
                </a:lnTo>
                <a:lnTo>
                  <a:pt x="0" y="25"/>
                </a:lnTo>
                <a:lnTo>
                  <a:pt x="2" y="21"/>
                </a:lnTo>
                <a:lnTo>
                  <a:pt x="4" y="17"/>
                </a:lnTo>
                <a:lnTo>
                  <a:pt x="8" y="13"/>
                </a:lnTo>
                <a:lnTo>
                  <a:pt x="12" y="11"/>
                </a:lnTo>
                <a:lnTo>
                  <a:pt x="15" y="7"/>
                </a:lnTo>
                <a:lnTo>
                  <a:pt x="21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91"/>
          <p:cNvSpPr/>
          <p:nvPr/>
        </p:nvSpPr>
        <p:spPr>
          <a:xfrm>
            <a:off x="5751360" y="4398840"/>
            <a:ext cx="1656000" cy="615960"/>
          </a:xfrm>
          <a:custGeom>
            <a:avLst/>
            <a:gdLst/>
            <a:ahLst/>
            <a:rect l="l" t="t" r="r" b="b"/>
            <a:pathLst>
              <a:path w="2086" h="775">
                <a:moveTo>
                  <a:pt x="0" y="633"/>
                </a:moveTo>
                <a:lnTo>
                  <a:pt x="0" y="622"/>
                </a:lnTo>
                <a:lnTo>
                  <a:pt x="2" y="612"/>
                </a:lnTo>
                <a:lnTo>
                  <a:pt x="4" y="605"/>
                </a:lnTo>
                <a:lnTo>
                  <a:pt x="7" y="599"/>
                </a:lnTo>
                <a:lnTo>
                  <a:pt x="9" y="593"/>
                </a:lnTo>
                <a:lnTo>
                  <a:pt x="13" y="585"/>
                </a:lnTo>
                <a:lnTo>
                  <a:pt x="17" y="580"/>
                </a:lnTo>
                <a:lnTo>
                  <a:pt x="23" y="572"/>
                </a:lnTo>
                <a:lnTo>
                  <a:pt x="27" y="566"/>
                </a:lnTo>
                <a:lnTo>
                  <a:pt x="32" y="558"/>
                </a:lnTo>
                <a:lnTo>
                  <a:pt x="40" y="551"/>
                </a:lnTo>
                <a:lnTo>
                  <a:pt x="46" y="543"/>
                </a:lnTo>
                <a:lnTo>
                  <a:pt x="55" y="535"/>
                </a:lnTo>
                <a:lnTo>
                  <a:pt x="63" y="530"/>
                </a:lnTo>
                <a:lnTo>
                  <a:pt x="73" y="522"/>
                </a:lnTo>
                <a:lnTo>
                  <a:pt x="80" y="512"/>
                </a:lnTo>
                <a:lnTo>
                  <a:pt x="86" y="505"/>
                </a:lnTo>
                <a:lnTo>
                  <a:pt x="94" y="495"/>
                </a:lnTo>
                <a:lnTo>
                  <a:pt x="100" y="484"/>
                </a:lnTo>
                <a:lnTo>
                  <a:pt x="105" y="474"/>
                </a:lnTo>
                <a:lnTo>
                  <a:pt x="111" y="462"/>
                </a:lnTo>
                <a:lnTo>
                  <a:pt x="115" y="451"/>
                </a:lnTo>
                <a:lnTo>
                  <a:pt x="121" y="438"/>
                </a:lnTo>
                <a:lnTo>
                  <a:pt x="125" y="424"/>
                </a:lnTo>
                <a:lnTo>
                  <a:pt x="128" y="411"/>
                </a:lnTo>
                <a:lnTo>
                  <a:pt x="130" y="397"/>
                </a:lnTo>
                <a:lnTo>
                  <a:pt x="134" y="382"/>
                </a:lnTo>
                <a:lnTo>
                  <a:pt x="138" y="367"/>
                </a:lnTo>
                <a:lnTo>
                  <a:pt x="140" y="351"/>
                </a:lnTo>
                <a:lnTo>
                  <a:pt x="144" y="334"/>
                </a:lnTo>
                <a:lnTo>
                  <a:pt x="144" y="299"/>
                </a:lnTo>
                <a:lnTo>
                  <a:pt x="140" y="269"/>
                </a:lnTo>
                <a:lnTo>
                  <a:pt x="138" y="253"/>
                </a:lnTo>
                <a:lnTo>
                  <a:pt x="136" y="238"/>
                </a:lnTo>
                <a:lnTo>
                  <a:pt x="132" y="223"/>
                </a:lnTo>
                <a:lnTo>
                  <a:pt x="130" y="209"/>
                </a:lnTo>
                <a:lnTo>
                  <a:pt x="125" y="194"/>
                </a:lnTo>
                <a:lnTo>
                  <a:pt x="121" y="182"/>
                </a:lnTo>
                <a:lnTo>
                  <a:pt x="115" y="169"/>
                </a:lnTo>
                <a:lnTo>
                  <a:pt x="109" y="155"/>
                </a:lnTo>
                <a:lnTo>
                  <a:pt x="103" y="144"/>
                </a:lnTo>
                <a:lnTo>
                  <a:pt x="96" y="132"/>
                </a:lnTo>
                <a:lnTo>
                  <a:pt x="88" y="123"/>
                </a:lnTo>
                <a:lnTo>
                  <a:pt x="80" y="113"/>
                </a:lnTo>
                <a:lnTo>
                  <a:pt x="71" y="102"/>
                </a:lnTo>
                <a:lnTo>
                  <a:pt x="63" y="94"/>
                </a:lnTo>
                <a:lnTo>
                  <a:pt x="57" y="84"/>
                </a:lnTo>
                <a:lnTo>
                  <a:pt x="52" y="77"/>
                </a:lnTo>
                <a:lnTo>
                  <a:pt x="48" y="67"/>
                </a:lnTo>
                <a:lnTo>
                  <a:pt x="44" y="59"/>
                </a:lnTo>
                <a:lnTo>
                  <a:pt x="42" y="52"/>
                </a:lnTo>
                <a:lnTo>
                  <a:pt x="40" y="46"/>
                </a:lnTo>
                <a:lnTo>
                  <a:pt x="38" y="38"/>
                </a:lnTo>
                <a:lnTo>
                  <a:pt x="38" y="33"/>
                </a:lnTo>
                <a:lnTo>
                  <a:pt x="38" y="27"/>
                </a:lnTo>
                <a:lnTo>
                  <a:pt x="38" y="23"/>
                </a:lnTo>
                <a:lnTo>
                  <a:pt x="40" y="19"/>
                </a:lnTo>
                <a:lnTo>
                  <a:pt x="42" y="13"/>
                </a:lnTo>
                <a:lnTo>
                  <a:pt x="44" y="11"/>
                </a:lnTo>
                <a:lnTo>
                  <a:pt x="48" y="8"/>
                </a:lnTo>
                <a:lnTo>
                  <a:pt x="52" y="6"/>
                </a:lnTo>
                <a:lnTo>
                  <a:pt x="55" y="4"/>
                </a:lnTo>
                <a:lnTo>
                  <a:pt x="59" y="2"/>
                </a:lnTo>
                <a:lnTo>
                  <a:pt x="65" y="2"/>
                </a:lnTo>
                <a:lnTo>
                  <a:pt x="73" y="0"/>
                </a:lnTo>
                <a:lnTo>
                  <a:pt x="78" y="0"/>
                </a:lnTo>
                <a:lnTo>
                  <a:pt x="86" y="0"/>
                </a:lnTo>
                <a:lnTo>
                  <a:pt x="96" y="2"/>
                </a:lnTo>
                <a:lnTo>
                  <a:pt x="105" y="4"/>
                </a:lnTo>
                <a:lnTo>
                  <a:pt x="115" y="6"/>
                </a:lnTo>
                <a:lnTo>
                  <a:pt x="126" y="8"/>
                </a:lnTo>
                <a:lnTo>
                  <a:pt x="138" y="11"/>
                </a:lnTo>
                <a:lnTo>
                  <a:pt x="149" y="15"/>
                </a:lnTo>
                <a:lnTo>
                  <a:pt x="163" y="21"/>
                </a:lnTo>
                <a:lnTo>
                  <a:pt x="176" y="27"/>
                </a:lnTo>
                <a:lnTo>
                  <a:pt x="192" y="34"/>
                </a:lnTo>
                <a:lnTo>
                  <a:pt x="207" y="42"/>
                </a:lnTo>
                <a:lnTo>
                  <a:pt x="220" y="48"/>
                </a:lnTo>
                <a:lnTo>
                  <a:pt x="234" y="56"/>
                </a:lnTo>
                <a:lnTo>
                  <a:pt x="245" y="61"/>
                </a:lnTo>
                <a:lnTo>
                  <a:pt x="257" y="67"/>
                </a:lnTo>
                <a:lnTo>
                  <a:pt x="268" y="73"/>
                </a:lnTo>
                <a:lnTo>
                  <a:pt x="278" y="79"/>
                </a:lnTo>
                <a:lnTo>
                  <a:pt x="288" y="84"/>
                </a:lnTo>
                <a:lnTo>
                  <a:pt x="297" y="90"/>
                </a:lnTo>
                <a:lnTo>
                  <a:pt x="305" y="96"/>
                </a:lnTo>
                <a:lnTo>
                  <a:pt x="313" y="100"/>
                </a:lnTo>
                <a:lnTo>
                  <a:pt x="318" y="105"/>
                </a:lnTo>
                <a:lnTo>
                  <a:pt x="324" y="111"/>
                </a:lnTo>
                <a:lnTo>
                  <a:pt x="328" y="115"/>
                </a:lnTo>
                <a:lnTo>
                  <a:pt x="334" y="121"/>
                </a:lnTo>
                <a:lnTo>
                  <a:pt x="336" y="125"/>
                </a:lnTo>
                <a:lnTo>
                  <a:pt x="340" y="130"/>
                </a:lnTo>
                <a:lnTo>
                  <a:pt x="341" y="136"/>
                </a:lnTo>
                <a:lnTo>
                  <a:pt x="341" y="144"/>
                </a:lnTo>
                <a:lnTo>
                  <a:pt x="343" y="152"/>
                </a:lnTo>
                <a:lnTo>
                  <a:pt x="343" y="161"/>
                </a:lnTo>
                <a:lnTo>
                  <a:pt x="341" y="173"/>
                </a:lnTo>
                <a:lnTo>
                  <a:pt x="341" y="182"/>
                </a:lnTo>
                <a:lnTo>
                  <a:pt x="340" y="196"/>
                </a:lnTo>
                <a:lnTo>
                  <a:pt x="338" y="209"/>
                </a:lnTo>
                <a:lnTo>
                  <a:pt x="336" y="223"/>
                </a:lnTo>
                <a:lnTo>
                  <a:pt x="334" y="238"/>
                </a:lnTo>
                <a:lnTo>
                  <a:pt x="332" y="255"/>
                </a:lnTo>
                <a:lnTo>
                  <a:pt x="328" y="272"/>
                </a:lnTo>
                <a:lnTo>
                  <a:pt x="326" y="292"/>
                </a:lnTo>
                <a:lnTo>
                  <a:pt x="324" y="313"/>
                </a:lnTo>
                <a:lnTo>
                  <a:pt x="320" y="334"/>
                </a:lnTo>
                <a:lnTo>
                  <a:pt x="316" y="355"/>
                </a:lnTo>
                <a:lnTo>
                  <a:pt x="315" y="374"/>
                </a:lnTo>
                <a:lnTo>
                  <a:pt x="311" y="393"/>
                </a:lnTo>
                <a:lnTo>
                  <a:pt x="309" y="409"/>
                </a:lnTo>
                <a:lnTo>
                  <a:pt x="307" y="424"/>
                </a:lnTo>
                <a:lnTo>
                  <a:pt x="305" y="439"/>
                </a:lnTo>
                <a:lnTo>
                  <a:pt x="301" y="453"/>
                </a:lnTo>
                <a:lnTo>
                  <a:pt x="301" y="464"/>
                </a:lnTo>
                <a:lnTo>
                  <a:pt x="299" y="474"/>
                </a:lnTo>
                <a:lnTo>
                  <a:pt x="297" y="484"/>
                </a:lnTo>
                <a:lnTo>
                  <a:pt x="297" y="491"/>
                </a:lnTo>
                <a:lnTo>
                  <a:pt x="297" y="499"/>
                </a:lnTo>
                <a:lnTo>
                  <a:pt x="299" y="505"/>
                </a:lnTo>
                <a:lnTo>
                  <a:pt x="299" y="509"/>
                </a:lnTo>
                <a:lnTo>
                  <a:pt x="301" y="512"/>
                </a:lnTo>
                <a:lnTo>
                  <a:pt x="305" y="516"/>
                </a:lnTo>
                <a:lnTo>
                  <a:pt x="307" y="518"/>
                </a:lnTo>
                <a:lnTo>
                  <a:pt x="313" y="520"/>
                </a:lnTo>
                <a:lnTo>
                  <a:pt x="318" y="522"/>
                </a:lnTo>
                <a:lnTo>
                  <a:pt x="326" y="524"/>
                </a:lnTo>
                <a:lnTo>
                  <a:pt x="334" y="524"/>
                </a:lnTo>
                <a:lnTo>
                  <a:pt x="343" y="526"/>
                </a:lnTo>
                <a:lnTo>
                  <a:pt x="355" y="526"/>
                </a:lnTo>
                <a:lnTo>
                  <a:pt x="366" y="526"/>
                </a:lnTo>
                <a:lnTo>
                  <a:pt x="380" y="526"/>
                </a:lnTo>
                <a:lnTo>
                  <a:pt x="395" y="526"/>
                </a:lnTo>
                <a:lnTo>
                  <a:pt x="411" y="524"/>
                </a:lnTo>
                <a:lnTo>
                  <a:pt x="428" y="524"/>
                </a:lnTo>
                <a:lnTo>
                  <a:pt x="447" y="522"/>
                </a:lnTo>
                <a:lnTo>
                  <a:pt x="468" y="520"/>
                </a:lnTo>
                <a:lnTo>
                  <a:pt x="489" y="518"/>
                </a:lnTo>
                <a:lnTo>
                  <a:pt x="512" y="516"/>
                </a:lnTo>
                <a:lnTo>
                  <a:pt x="526" y="514"/>
                </a:lnTo>
                <a:lnTo>
                  <a:pt x="541" y="512"/>
                </a:lnTo>
                <a:lnTo>
                  <a:pt x="560" y="510"/>
                </a:lnTo>
                <a:lnTo>
                  <a:pt x="579" y="509"/>
                </a:lnTo>
                <a:lnTo>
                  <a:pt x="603" y="507"/>
                </a:lnTo>
                <a:lnTo>
                  <a:pt x="627" y="505"/>
                </a:lnTo>
                <a:lnTo>
                  <a:pt x="654" y="501"/>
                </a:lnTo>
                <a:lnTo>
                  <a:pt x="685" y="499"/>
                </a:lnTo>
                <a:lnTo>
                  <a:pt x="716" y="495"/>
                </a:lnTo>
                <a:lnTo>
                  <a:pt x="750" y="493"/>
                </a:lnTo>
                <a:lnTo>
                  <a:pt x="787" y="489"/>
                </a:lnTo>
                <a:lnTo>
                  <a:pt x="825" y="486"/>
                </a:lnTo>
                <a:lnTo>
                  <a:pt x="867" y="482"/>
                </a:lnTo>
                <a:lnTo>
                  <a:pt x="912" y="476"/>
                </a:lnTo>
                <a:lnTo>
                  <a:pt x="956" y="472"/>
                </a:lnTo>
                <a:lnTo>
                  <a:pt x="1004" y="468"/>
                </a:lnTo>
                <a:lnTo>
                  <a:pt x="1056" y="462"/>
                </a:lnTo>
                <a:lnTo>
                  <a:pt x="1107" y="457"/>
                </a:lnTo>
                <a:lnTo>
                  <a:pt x="1163" y="453"/>
                </a:lnTo>
                <a:lnTo>
                  <a:pt x="1221" y="447"/>
                </a:lnTo>
                <a:lnTo>
                  <a:pt x="1280" y="441"/>
                </a:lnTo>
                <a:lnTo>
                  <a:pt x="1342" y="434"/>
                </a:lnTo>
                <a:lnTo>
                  <a:pt x="1405" y="428"/>
                </a:lnTo>
                <a:lnTo>
                  <a:pt x="1472" y="422"/>
                </a:lnTo>
                <a:lnTo>
                  <a:pt x="1541" y="415"/>
                </a:lnTo>
                <a:lnTo>
                  <a:pt x="1612" y="407"/>
                </a:lnTo>
                <a:lnTo>
                  <a:pt x="1685" y="401"/>
                </a:lnTo>
                <a:lnTo>
                  <a:pt x="1760" y="393"/>
                </a:lnTo>
                <a:lnTo>
                  <a:pt x="1839" y="386"/>
                </a:lnTo>
                <a:lnTo>
                  <a:pt x="1919" y="376"/>
                </a:lnTo>
                <a:lnTo>
                  <a:pt x="2002" y="368"/>
                </a:lnTo>
                <a:lnTo>
                  <a:pt x="2086" y="361"/>
                </a:lnTo>
                <a:lnTo>
                  <a:pt x="2086" y="418"/>
                </a:lnTo>
                <a:lnTo>
                  <a:pt x="2086" y="478"/>
                </a:lnTo>
                <a:lnTo>
                  <a:pt x="2038" y="482"/>
                </a:lnTo>
                <a:lnTo>
                  <a:pt x="1992" y="487"/>
                </a:lnTo>
                <a:lnTo>
                  <a:pt x="1946" y="491"/>
                </a:lnTo>
                <a:lnTo>
                  <a:pt x="1902" y="497"/>
                </a:lnTo>
                <a:lnTo>
                  <a:pt x="1858" y="501"/>
                </a:lnTo>
                <a:lnTo>
                  <a:pt x="1816" y="505"/>
                </a:lnTo>
                <a:lnTo>
                  <a:pt x="1775" y="510"/>
                </a:lnTo>
                <a:lnTo>
                  <a:pt x="1735" y="514"/>
                </a:lnTo>
                <a:lnTo>
                  <a:pt x="1695" y="518"/>
                </a:lnTo>
                <a:lnTo>
                  <a:pt x="1656" y="522"/>
                </a:lnTo>
                <a:lnTo>
                  <a:pt x="1620" y="526"/>
                </a:lnTo>
                <a:lnTo>
                  <a:pt x="1584" y="530"/>
                </a:lnTo>
                <a:lnTo>
                  <a:pt x="1547" y="534"/>
                </a:lnTo>
                <a:lnTo>
                  <a:pt x="1512" y="535"/>
                </a:lnTo>
                <a:lnTo>
                  <a:pt x="1478" y="539"/>
                </a:lnTo>
                <a:lnTo>
                  <a:pt x="1443" y="541"/>
                </a:lnTo>
                <a:lnTo>
                  <a:pt x="1411" y="545"/>
                </a:lnTo>
                <a:lnTo>
                  <a:pt x="1376" y="547"/>
                </a:lnTo>
                <a:lnTo>
                  <a:pt x="1340" y="551"/>
                </a:lnTo>
                <a:lnTo>
                  <a:pt x="1303" y="555"/>
                </a:lnTo>
                <a:lnTo>
                  <a:pt x="1265" y="558"/>
                </a:lnTo>
                <a:lnTo>
                  <a:pt x="1225" y="562"/>
                </a:lnTo>
                <a:lnTo>
                  <a:pt x="1184" y="568"/>
                </a:lnTo>
                <a:lnTo>
                  <a:pt x="1142" y="572"/>
                </a:lnTo>
                <a:lnTo>
                  <a:pt x="1100" y="578"/>
                </a:lnTo>
                <a:lnTo>
                  <a:pt x="1056" y="583"/>
                </a:lnTo>
                <a:lnTo>
                  <a:pt x="1011" y="591"/>
                </a:lnTo>
                <a:lnTo>
                  <a:pt x="965" y="599"/>
                </a:lnTo>
                <a:lnTo>
                  <a:pt x="917" y="606"/>
                </a:lnTo>
                <a:lnTo>
                  <a:pt x="869" y="614"/>
                </a:lnTo>
                <a:lnTo>
                  <a:pt x="819" y="624"/>
                </a:lnTo>
                <a:lnTo>
                  <a:pt x="770" y="633"/>
                </a:lnTo>
                <a:lnTo>
                  <a:pt x="745" y="637"/>
                </a:lnTo>
                <a:lnTo>
                  <a:pt x="720" y="641"/>
                </a:lnTo>
                <a:lnTo>
                  <a:pt x="695" y="643"/>
                </a:lnTo>
                <a:lnTo>
                  <a:pt x="672" y="647"/>
                </a:lnTo>
                <a:lnTo>
                  <a:pt x="649" y="651"/>
                </a:lnTo>
                <a:lnTo>
                  <a:pt x="627" y="654"/>
                </a:lnTo>
                <a:lnTo>
                  <a:pt x="604" y="656"/>
                </a:lnTo>
                <a:lnTo>
                  <a:pt x="583" y="660"/>
                </a:lnTo>
                <a:lnTo>
                  <a:pt x="562" y="664"/>
                </a:lnTo>
                <a:lnTo>
                  <a:pt x="543" y="666"/>
                </a:lnTo>
                <a:lnTo>
                  <a:pt x="524" y="670"/>
                </a:lnTo>
                <a:lnTo>
                  <a:pt x="505" y="672"/>
                </a:lnTo>
                <a:lnTo>
                  <a:pt x="487" y="676"/>
                </a:lnTo>
                <a:lnTo>
                  <a:pt x="470" y="677"/>
                </a:lnTo>
                <a:lnTo>
                  <a:pt x="453" y="681"/>
                </a:lnTo>
                <a:lnTo>
                  <a:pt x="437" y="683"/>
                </a:lnTo>
                <a:lnTo>
                  <a:pt x="420" y="687"/>
                </a:lnTo>
                <a:lnTo>
                  <a:pt x="407" y="689"/>
                </a:lnTo>
                <a:lnTo>
                  <a:pt x="391" y="691"/>
                </a:lnTo>
                <a:lnTo>
                  <a:pt x="378" y="695"/>
                </a:lnTo>
                <a:lnTo>
                  <a:pt x="366" y="697"/>
                </a:lnTo>
                <a:lnTo>
                  <a:pt x="353" y="699"/>
                </a:lnTo>
                <a:lnTo>
                  <a:pt x="341" y="702"/>
                </a:lnTo>
                <a:lnTo>
                  <a:pt x="332" y="704"/>
                </a:lnTo>
                <a:lnTo>
                  <a:pt x="322" y="706"/>
                </a:lnTo>
                <a:lnTo>
                  <a:pt x="313" y="710"/>
                </a:lnTo>
                <a:lnTo>
                  <a:pt x="303" y="712"/>
                </a:lnTo>
                <a:lnTo>
                  <a:pt x="295" y="714"/>
                </a:lnTo>
                <a:lnTo>
                  <a:pt x="290" y="716"/>
                </a:lnTo>
                <a:lnTo>
                  <a:pt x="282" y="720"/>
                </a:lnTo>
                <a:lnTo>
                  <a:pt x="276" y="722"/>
                </a:lnTo>
                <a:lnTo>
                  <a:pt x="272" y="724"/>
                </a:lnTo>
                <a:lnTo>
                  <a:pt x="253" y="733"/>
                </a:lnTo>
                <a:lnTo>
                  <a:pt x="236" y="741"/>
                </a:lnTo>
                <a:lnTo>
                  <a:pt x="219" y="748"/>
                </a:lnTo>
                <a:lnTo>
                  <a:pt x="203" y="754"/>
                </a:lnTo>
                <a:lnTo>
                  <a:pt x="190" y="760"/>
                </a:lnTo>
                <a:lnTo>
                  <a:pt x="182" y="764"/>
                </a:lnTo>
                <a:lnTo>
                  <a:pt x="176" y="766"/>
                </a:lnTo>
                <a:lnTo>
                  <a:pt x="173" y="768"/>
                </a:lnTo>
                <a:lnTo>
                  <a:pt x="167" y="772"/>
                </a:lnTo>
                <a:lnTo>
                  <a:pt x="163" y="773"/>
                </a:lnTo>
                <a:lnTo>
                  <a:pt x="159" y="775"/>
                </a:lnTo>
                <a:lnTo>
                  <a:pt x="153" y="775"/>
                </a:lnTo>
                <a:lnTo>
                  <a:pt x="144" y="773"/>
                </a:lnTo>
                <a:lnTo>
                  <a:pt x="134" y="770"/>
                </a:lnTo>
                <a:lnTo>
                  <a:pt x="123" y="764"/>
                </a:lnTo>
                <a:lnTo>
                  <a:pt x="117" y="762"/>
                </a:lnTo>
                <a:lnTo>
                  <a:pt x="111" y="758"/>
                </a:lnTo>
                <a:lnTo>
                  <a:pt x="103" y="754"/>
                </a:lnTo>
                <a:lnTo>
                  <a:pt x="96" y="748"/>
                </a:lnTo>
                <a:lnTo>
                  <a:pt x="88" y="743"/>
                </a:lnTo>
                <a:lnTo>
                  <a:pt x="80" y="737"/>
                </a:lnTo>
                <a:lnTo>
                  <a:pt x="73" y="731"/>
                </a:lnTo>
                <a:lnTo>
                  <a:pt x="63" y="724"/>
                </a:lnTo>
                <a:lnTo>
                  <a:pt x="55" y="716"/>
                </a:lnTo>
                <a:lnTo>
                  <a:pt x="46" y="710"/>
                </a:lnTo>
                <a:lnTo>
                  <a:pt x="40" y="702"/>
                </a:lnTo>
                <a:lnTo>
                  <a:pt x="32" y="695"/>
                </a:lnTo>
                <a:lnTo>
                  <a:pt x="27" y="689"/>
                </a:lnTo>
                <a:lnTo>
                  <a:pt x="23" y="681"/>
                </a:lnTo>
                <a:lnTo>
                  <a:pt x="17" y="676"/>
                </a:lnTo>
                <a:lnTo>
                  <a:pt x="13" y="668"/>
                </a:lnTo>
                <a:lnTo>
                  <a:pt x="9" y="662"/>
                </a:lnTo>
                <a:lnTo>
                  <a:pt x="7" y="656"/>
                </a:lnTo>
                <a:lnTo>
                  <a:pt x="4" y="653"/>
                </a:lnTo>
                <a:lnTo>
                  <a:pt x="2" y="647"/>
                </a:lnTo>
                <a:lnTo>
                  <a:pt x="2" y="643"/>
                </a:lnTo>
                <a:lnTo>
                  <a:pt x="0" y="639"/>
                </a:lnTo>
                <a:lnTo>
                  <a:pt x="0" y="635"/>
                </a:lnTo>
                <a:lnTo>
                  <a:pt x="0" y="6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92"/>
          <p:cNvSpPr/>
          <p:nvPr/>
        </p:nvSpPr>
        <p:spPr>
          <a:xfrm>
            <a:off x="6486480" y="4098960"/>
            <a:ext cx="301680" cy="730080"/>
          </a:xfrm>
          <a:custGeom>
            <a:avLst/>
            <a:gdLst/>
            <a:ahLst/>
            <a:rect l="l" t="t" r="r" b="b"/>
            <a:pathLst>
              <a:path w="380" h="919">
                <a:moveTo>
                  <a:pt x="326" y="374"/>
                </a:moveTo>
                <a:lnTo>
                  <a:pt x="324" y="391"/>
                </a:lnTo>
                <a:lnTo>
                  <a:pt x="321" y="411"/>
                </a:lnTo>
                <a:lnTo>
                  <a:pt x="319" y="434"/>
                </a:lnTo>
                <a:lnTo>
                  <a:pt x="317" y="457"/>
                </a:lnTo>
                <a:lnTo>
                  <a:pt x="317" y="468"/>
                </a:lnTo>
                <a:lnTo>
                  <a:pt x="315" y="482"/>
                </a:lnTo>
                <a:lnTo>
                  <a:pt x="315" y="495"/>
                </a:lnTo>
                <a:lnTo>
                  <a:pt x="315" y="508"/>
                </a:lnTo>
                <a:lnTo>
                  <a:pt x="313" y="524"/>
                </a:lnTo>
                <a:lnTo>
                  <a:pt x="313" y="539"/>
                </a:lnTo>
                <a:lnTo>
                  <a:pt x="313" y="554"/>
                </a:lnTo>
                <a:lnTo>
                  <a:pt x="313" y="570"/>
                </a:lnTo>
                <a:lnTo>
                  <a:pt x="311" y="587"/>
                </a:lnTo>
                <a:lnTo>
                  <a:pt x="311" y="604"/>
                </a:lnTo>
                <a:lnTo>
                  <a:pt x="311" y="622"/>
                </a:lnTo>
                <a:lnTo>
                  <a:pt x="311" y="639"/>
                </a:lnTo>
                <a:lnTo>
                  <a:pt x="311" y="658"/>
                </a:lnTo>
                <a:lnTo>
                  <a:pt x="311" y="675"/>
                </a:lnTo>
                <a:lnTo>
                  <a:pt x="311" y="697"/>
                </a:lnTo>
                <a:lnTo>
                  <a:pt x="311" y="716"/>
                </a:lnTo>
                <a:lnTo>
                  <a:pt x="311" y="737"/>
                </a:lnTo>
                <a:lnTo>
                  <a:pt x="311" y="756"/>
                </a:lnTo>
                <a:lnTo>
                  <a:pt x="311" y="779"/>
                </a:lnTo>
                <a:lnTo>
                  <a:pt x="311" y="800"/>
                </a:lnTo>
                <a:lnTo>
                  <a:pt x="311" y="823"/>
                </a:lnTo>
                <a:lnTo>
                  <a:pt x="311" y="846"/>
                </a:lnTo>
                <a:lnTo>
                  <a:pt x="311" y="869"/>
                </a:lnTo>
                <a:lnTo>
                  <a:pt x="311" y="894"/>
                </a:lnTo>
                <a:lnTo>
                  <a:pt x="213" y="908"/>
                </a:lnTo>
                <a:lnTo>
                  <a:pt x="117" y="919"/>
                </a:lnTo>
                <a:lnTo>
                  <a:pt x="117" y="873"/>
                </a:lnTo>
                <a:lnTo>
                  <a:pt x="117" y="827"/>
                </a:lnTo>
                <a:lnTo>
                  <a:pt x="117" y="783"/>
                </a:lnTo>
                <a:lnTo>
                  <a:pt x="117" y="741"/>
                </a:lnTo>
                <a:lnTo>
                  <a:pt x="117" y="698"/>
                </a:lnTo>
                <a:lnTo>
                  <a:pt x="115" y="658"/>
                </a:lnTo>
                <a:lnTo>
                  <a:pt x="115" y="620"/>
                </a:lnTo>
                <a:lnTo>
                  <a:pt x="115" y="583"/>
                </a:lnTo>
                <a:lnTo>
                  <a:pt x="113" y="547"/>
                </a:lnTo>
                <a:lnTo>
                  <a:pt x="113" y="512"/>
                </a:lnTo>
                <a:lnTo>
                  <a:pt x="111" y="480"/>
                </a:lnTo>
                <a:lnTo>
                  <a:pt x="109" y="447"/>
                </a:lnTo>
                <a:lnTo>
                  <a:pt x="109" y="416"/>
                </a:lnTo>
                <a:lnTo>
                  <a:pt x="108" y="388"/>
                </a:lnTo>
                <a:lnTo>
                  <a:pt x="106" y="361"/>
                </a:lnTo>
                <a:lnTo>
                  <a:pt x="104" y="334"/>
                </a:lnTo>
                <a:lnTo>
                  <a:pt x="102" y="309"/>
                </a:lnTo>
                <a:lnTo>
                  <a:pt x="100" y="286"/>
                </a:lnTo>
                <a:lnTo>
                  <a:pt x="98" y="263"/>
                </a:lnTo>
                <a:lnTo>
                  <a:pt x="94" y="244"/>
                </a:lnTo>
                <a:lnTo>
                  <a:pt x="92" y="224"/>
                </a:lnTo>
                <a:lnTo>
                  <a:pt x="90" y="205"/>
                </a:lnTo>
                <a:lnTo>
                  <a:pt x="86" y="188"/>
                </a:lnTo>
                <a:lnTo>
                  <a:pt x="85" y="173"/>
                </a:lnTo>
                <a:lnTo>
                  <a:pt x="81" y="159"/>
                </a:lnTo>
                <a:lnTo>
                  <a:pt x="77" y="148"/>
                </a:lnTo>
                <a:lnTo>
                  <a:pt x="73" y="136"/>
                </a:lnTo>
                <a:lnTo>
                  <a:pt x="69" y="126"/>
                </a:lnTo>
                <a:lnTo>
                  <a:pt x="65" y="117"/>
                </a:lnTo>
                <a:lnTo>
                  <a:pt x="61" y="111"/>
                </a:lnTo>
                <a:lnTo>
                  <a:pt x="58" y="105"/>
                </a:lnTo>
                <a:lnTo>
                  <a:pt x="54" y="100"/>
                </a:lnTo>
                <a:lnTo>
                  <a:pt x="44" y="96"/>
                </a:lnTo>
                <a:lnTo>
                  <a:pt x="37" y="90"/>
                </a:lnTo>
                <a:lnTo>
                  <a:pt x="29" y="86"/>
                </a:lnTo>
                <a:lnTo>
                  <a:pt x="23" y="80"/>
                </a:lnTo>
                <a:lnTo>
                  <a:pt x="17" y="75"/>
                </a:lnTo>
                <a:lnTo>
                  <a:pt x="13" y="71"/>
                </a:lnTo>
                <a:lnTo>
                  <a:pt x="10" y="65"/>
                </a:lnTo>
                <a:lnTo>
                  <a:pt x="6" y="61"/>
                </a:lnTo>
                <a:lnTo>
                  <a:pt x="2" y="55"/>
                </a:lnTo>
                <a:lnTo>
                  <a:pt x="0" y="52"/>
                </a:lnTo>
                <a:lnTo>
                  <a:pt x="0" y="46"/>
                </a:lnTo>
                <a:lnTo>
                  <a:pt x="0" y="42"/>
                </a:lnTo>
                <a:lnTo>
                  <a:pt x="0" y="36"/>
                </a:lnTo>
                <a:lnTo>
                  <a:pt x="0" y="32"/>
                </a:lnTo>
                <a:lnTo>
                  <a:pt x="2" y="27"/>
                </a:lnTo>
                <a:lnTo>
                  <a:pt x="6" y="23"/>
                </a:lnTo>
                <a:lnTo>
                  <a:pt x="10" y="17"/>
                </a:lnTo>
                <a:lnTo>
                  <a:pt x="13" y="13"/>
                </a:lnTo>
                <a:lnTo>
                  <a:pt x="17" y="9"/>
                </a:lnTo>
                <a:lnTo>
                  <a:pt x="23" y="7"/>
                </a:lnTo>
                <a:lnTo>
                  <a:pt x="29" y="4"/>
                </a:lnTo>
                <a:lnTo>
                  <a:pt x="37" y="2"/>
                </a:lnTo>
                <a:lnTo>
                  <a:pt x="44" y="2"/>
                </a:lnTo>
                <a:lnTo>
                  <a:pt x="54" y="0"/>
                </a:lnTo>
                <a:lnTo>
                  <a:pt x="63" y="0"/>
                </a:lnTo>
                <a:lnTo>
                  <a:pt x="73" y="0"/>
                </a:lnTo>
                <a:lnTo>
                  <a:pt x="85" y="0"/>
                </a:lnTo>
                <a:lnTo>
                  <a:pt x="96" y="2"/>
                </a:lnTo>
                <a:lnTo>
                  <a:pt x="108" y="4"/>
                </a:lnTo>
                <a:lnTo>
                  <a:pt x="121" y="4"/>
                </a:lnTo>
                <a:lnTo>
                  <a:pt x="134" y="7"/>
                </a:lnTo>
                <a:lnTo>
                  <a:pt x="150" y="9"/>
                </a:lnTo>
                <a:lnTo>
                  <a:pt x="165" y="11"/>
                </a:lnTo>
                <a:lnTo>
                  <a:pt x="179" y="15"/>
                </a:lnTo>
                <a:lnTo>
                  <a:pt x="192" y="17"/>
                </a:lnTo>
                <a:lnTo>
                  <a:pt x="204" y="21"/>
                </a:lnTo>
                <a:lnTo>
                  <a:pt x="217" y="25"/>
                </a:lnTo>
                <a:lnTo>
                  <a:pt x="228" y="29"/>
                </a:lnTo>
                <a:lnTo>
                  <a:pt x="250" y="36"/>
                </a:lnTo>
                <a:lnTo>
                  <a:pt x="271" y="46"/>
                </a:lnTo>
                <a:lnTo>
                  <a:pt x="290" y="54"/>
                </a:lnTo>
                <a:lnTo>
                  <a:pt x="309" y="63"/>
                </a:lnTo>
                <a:lnTo>
                  <a:pt x="326" y="75"/>
                </a:lnTo>
                <a:lnTo>
                  <a:pt x="334" y="80"/>
                </a:lnTo>
                <a:lnTo>
                  <a:pt x="344" y="88"/>
                </a:lnTo>
                <a:lnTo>
                  <a:pt x="349" y="94"/>
                </a:lnTo>
                <a:lnTo>
                  <a:pt x="357" y="102"/>
                </a:lnTo>
                <a:lnTo>
                  <a:pt x="361" y="107"/>
                </a:lnTo>
                <a:lnTo>
                  <a:pt x="367" y="113"/>
                </a:lnTo>
                <a:lnTo>
                  <a:pt x="371" y="121"/>
                </a:lnTo>
                <a:lnTo>
                  <a:pt x="374" y="126"/>
                </a:lnTo>
                <a:lnTo>
                  <a:pt x="376" y="132"/>
                </a:lnTo>
                <a:lnTo>
                  <a:pt x="378" y="138"/>
                </a:lnTo>
                <a:lnTo>
                  <a:pt x="380" y="144"/>
                </a:lnTo>
                <a:lnTo>
                  <a:pt x="380" y="151"/>
                </a:lnTo>
                <a:lnTo>
                  <a:pt x="380" y="157"/>
                </a:lnTo>
                <a:lnTo>
                  <a:pt x="378" y="163"/>
                </a:lnTo>
                <a:lnTo>
                  <a:pt x="376" y="171"/>
                </a:lnTo>
                <a:lnTo>
                  <a:pt x="374" y="178"/>
                </a:lnTo>
                <a:lnTo>
                  <a:pt x="371" y="186"/>
                </a:lnTo>
                <a:lnTo>
                  <a:pt x="369" y="194"/>
                </a:lnTo>
                <a:lnTo>
                  <a:pt x="365" y="203"/>
                </a:lnTo>
                <a:lnTo>
                  <a:pt x="363" y="213"/>
                </a:lnTo>
                <a:lnTo>
                  <a:pt x="359" y="222"/>
                </a:lnTo>
                <a:lnTo>
                  <a:pt x="357" y="232"/>
                </a:lnTo>
                <a:lnTo>
                  <a:pt x="353" y="244"/>
                </a:lnTo>
                <a:lnTo>
                  <a:pt x="351" y="257"/>
                </a:lnTo>
                <a:lnTo>
                  <a:pt x="348" y="268"/>
                </a:lnTo>
                <a:lnTo>
                  <a:pt x="344" y="282"/>
                </a:lnTo>
                <a:lnTo>
                  <a:pt x="342" y="295"/>
                </a:lnTo>
                <a:lnTo>
                  <a:pt x="338" y="309"/>
                </a:lnTo>
                <a:lnTo>
                  <a:pt x="336" y="324"/>
                </a:lnTo>
                <a:lnTo>
                  <a:pt x="332" y="340"/>
                </a:lnTo>
                <a:lnTo>
                  <a:pt x="330" y="357"/>
                </a:lnTo>
                <a:lnTo>
                  <a:pt x="326" y="3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93"/>
          <p:cNvSpPr/>
          <p:nvPr/>
        </p:nvSpPr>
        <p:spPr>
          <a:xfrm>
            <a:off x="6821640" y="3227400"/>
            <a:ext cx="193680" cy="879480"/>
          </a:xfrm>
          <a:custGeom>
            <a:avLst/>
            <a:gdLst/>
            <a:ahLst/>
            <a:rect l="l" t="t" r="r" b="b"/>
            <a:pathLst>
              <a:path w="244" h="1107">
                <a:moveTo>
                  <a:pt x="0" y="0"/>
                </a:moveTo>
                <a:lnTo>
                  <a:pt x="16" y="9"/>
                </a:lnTo>
                <a:lnTo>
                  <a:pt x="33" y="17"/>
                </a:lnTo>
                <a:lnTo>
                  <a:pt x="48" y="27"/>
                </a:lnTo>
                <a:lnTo>
                  <a:pt x="62" y="34"/>
                </a:lnTo>
                <a:lnTo>
                  <a:pt x="75" y="44"/>
                </a:lnTo>
                <a:lnTo>
                  <a:pt x="89" y="52"/>
                </a:lnTo>
                <a:lnTo>
                  <a:pt x="102" y="61"/>
                </a:lnTo>
                <a:lnTo>
                  <a:pt x="114" y="69"/>
                </a:lnTo>
                <a:lnTo>
                  <a:pt x="127" y="79"/>
                </a:lnTo>
                <a:lnTo>
                  <a:pt x="137" y="86"/>
                </a:lnTo>
                <a:lnTo>
                  <a:pt x="148" y="94"/>
                </a:lnTo>
                <a:lnTo>
                  <a:pt x="158" y="104"/>
                </a:lnTo>
                <a:lnTo>
                  <a:pt x="167" y="111"/>
                </a:lnTo>
                <a:lnTo>
                  <a:pt x="177" y="119"/>
                </a:lnTo>
                <a:lnTo>
                  <a:pt x="185" y="128"/>
                </a:lnTo>
                <a:lnTo>
                  <a:pt x="192" y="136"/>
                </a:lnTo>
                <a:lnTo>
                  <a:pt x="200" y="144"/>
                </a:lnTo>
                <a:lnTo>
                  <a:pt x="208" y="152"/>
                </a:lnTo>
                <a:lnTo>
                  <a:pt x="213" y="161"/>
                </a:lnTo>
                <a:lnTo>
                  <a:pt x="219" y="169"/>
                </a:lnTo>
                <a:lnTo>
                  <a:pt x="223" y="176"/>
                </a:lnTo>
                <a:lnTo>
                  <a:pt x="229" y="184"/>
                </a:lnTo>
                <a:lnTo>
                  <a:pt x="233" y="192"/>
                </a:lnTo>
                <a:lnTo>
                  <a:pt x="235" y="199"/>
                </a:lnTo>
                <a:lnTo>
                  <a:pt x="238" y="207"/>
                </a:lnTo>
                <a:lnTo>
                  <a:pt x="240" y="215"/>
                </a:lnTo>
                <a:lnTo>
                  <a:pt x="242" y="223"/>
                </a:lnTo>
                <a:lnTo>
                  <a:pt x="242" y="230"/>
                </a:lnTo>
                <a:lnTo>
                  <a:pt x="244" y="238"/>
                </a:lnTo>
                <a:lnTo>
                  <a:pt x="242" y="246"/>
                </a:lnTo>
                <a:lnTo>
                  <a:pt x="242" y="253"/>
                </a:lnTo>
                <a:lnTo>
                  <a:pt x="242" y="261"/>
                </a:lnTo>
                <a:lnTo>
                  <a:pt x="238" y="276"/>
                </a:lnTo>
                <a:lnTo>
                  <a:pt x="235" y="294"/>
                </a:lnTo>
                <a:lnTo>
                  <a:pt x="233" y="311"/>
                </a:lnTo>
                <a:lnTo>
                  <a:pt x="229" y="332"/>
                </a:lnTo>
                <a:lnTo>
                  <a:pt x="227" y="353"/>
                </a:lnTo>
                <a:lnTo>
                  <a:pt x="225" y="376"/>
                </a:lnTo>
                <a:lnTo>
                  <a:pt x="221" y="399"/>
                </a:lnTo>
                <a:lnTo>
                  <a:pt x="219" y="426"/>
                </a:lnTo>
                <a:lnTo>
                  <a:pt x="217" y="453"/>
                </a:lnTo>
                <a:lnTo>
                  <a:pt x="215" y="480"/>
                </a:lnTo>
                <a:lnTo>
                  <a:pt x="213" y="510"/>
                </a:lnTo>
                <a:lnTo>
                  <a:pt x="212" y="541"/>
                </a:lnTo>
                <a:lnTo>
                  <a:pt x="212" y="574"/>
                </a:lnTo>
                <a:lnTo>
                  <a:pt x="210" y="606"/>
                </a:lnTo>
                <a:lnTo>
                  <a:pt x="210" y="641"/>
                </a:lnTo>
                <a:lnTo>
                  <a:pt x="210" y="677"/>
                </a:lnTo>
                <a:lnTo>
                  <a:pt x="210" y="714"/>
                </a:lnTo>
                <a:lnTo>
                  <a:pt x="210" y="748"/>
                </a:lnTo>
                <a:lnTo>
                  <a:pt x="210" y="781"/>
                </a:lnTo>
                <a:lnTo>
                  <a:pt x="210" y="812"/>
                </a:lnTo>
                <a:lnTo>
                  <a:pt x="210" y="841"/>
                </a:lnTo>
                <a:lnTo>
                  <a:pt x="208" y="867"/>
                </a:lnTo>
                <a:lnTo>
                  <a:pt x="208" y="894"/>
                </a:lnTo>
                <a:lnTo>
                  <a:pt x="208" y="917"/>
                </a:lnTo>
                <a:lnTo>
                  <a:pt x="206" y="940"/>
                </a:lnTo>
                <a:lnTo>
                  <a:pt x="206" y="962"/>
                </a:lnTo>
                <a:lnTo>
                  <a:pt x="204" y="971"/>
                </a:lnTo>
                <a:lnTo>
                  <a:pt x="204" y="979"/>
                </a:lnTo>
                <a:lnTo>
                  <a:pt x="204" y="988"/>
                </a:lnTo>
                <a:lnTo>
                  <a:pt x="202" y="996"/>
                </a:lnTo>
                <a:lnTo>
                  <a:pt x="202" y="1004"/>
                </a:lnTo>
                <a:lnTo>
                  <a:pt x="200" y="1009"/>
                </a:lnTo>
                <a:lnTo>
                  <a:pt x="200" y="1017"/>
                </a:lnTo>
                <a:lnTo>
                  <a:pt x="198" y="1023"/>
                </a:lnTo>
                <a:lnTo>
                  <a:pt x="198" y="1029"/>
                </a:lnTo>
                <a:lnTo>
                  <a:pt x="196" y="1033"/>
                </a:lnTo>
                <a:lnTo>
                  <a:pt x="194" y="1038"/>
                </a:lnTo>
                <a:lnTo>
                  <a:pt x="194" y="1042"/>
                </a:lnTo>
                <a:lnTo>
                  <a:pt x="189" y="1056"/>
                </a:lnTo>
                <a:lnTo>
                  <a:pt x="185" y="1069"/>
                </a:lnTo>
                <a:lnTo>
                  <a:pt x="181" y="1081"/>
                </a:lnTo>
                <a:lnTo>
                  <a:pt x="177" y="1088"/>
                </a:lnTo>
                <a:lnTo>
                  <a:pt x="175" y="1094"/>
                </a:lnTo>
                <a:lnTo>
                  <a:pt x="175" y="1096"/>
                </a:lnTo>
                <a:lnTo>
                  <a:pt x="173" y="1100"/>
                </a:lnTo>
                <a:lnTo>
                  <a:pt x="171" y="1102"/>
                </a:lnTo>
                <a:lnTo>
                  <a:pt x="169" y="1104"/>
                </a:lnTo>
                <a:lnTo>
                  <a:pt x="167" y="1105"/>
                </a:lnTo>
                <a:lnTo>
                  <a:pt x="164" y="1107"/>
                </a:lnTo>
                <a:lnTo>
                  <a:pt x="162" y="1107"/>
                </a:lnTo>
                <a:lnTo>
                  <a:pt x="158" y="1107"/>
                </a:lnTo>
                <a:lnTo>
                  <a:pt x="154" y="1105"/>
                </a:lnTo>
                <a:lnTo>
                  <a:pt x="150" y="1104"/>
                </a:lnTo>
                <a:lnTo>
                  <a:pt x="146" y="1102"/>
                </a:lnTo>
                <a:lnTo>
                  <a:pt x="142" y="1100"/>
                </a:lnTo>
                <a:lnTo>
                  <a:pt x="139" y="1096"/>
                </a:lnTo>
                <a:lnTo>
                  <a:pt x="133" y="1094"/>
                </a:lnTo>
                <a:lnTo>
                  <a:pt x="129" y="1088"/>
                </a:lnTo>
                <a:lnTo>
                  <a:pt x="119" y="1081"/>
                </a:lnTo>
                <a:lnTo>
                  <a:pt x="112" y="1069"/>
                </a:lnTo>
                <a:lnTo>
                  <a:pt x="104" y="1056"/>
                </a:lnTo>
                <a:lnTo>
                  <a:pt x="96" y="1042"/>
                </a:lnTo>
                <a:lnTo>
                  <a:pt x="94" y="1038"/>
                </a:lnTo>
                <a:lnTo>
                  <a:pt x="91" y="1033"/>
                </a:lnTo>
                <a:lnTo>
                  <a:pt x="89" y="1029"/>
                </a:lnTo>
                <a:lnTo>
                  <a:pt x="85" y="1023"/>
                </a:lnTo>
                <a:lnTo>
                  <a:pt x="83" y="1017"/>
                </a:lnTo>
                <a:lnTo>
                  <a:pt x="81" y="1009"/>
                </a:lnTo>
                <a:lnTo>
                  <a:pt x="79" y="1004"/>
                </a:lnTo>
                <a:lnTo>
                  <a:pt x="75" y="996"/>
                </a:lnTo>
                <a:lnTo>
                  <a:pt x="73" y="986"/>
                </a:lnTo>
                <a:lnTo>
                  <a:pt x="71" y="979"/>
                </a:lnTo>
                <a:lnTo>
                  <a:pt x="69" y="969"/>
                </a:lnTo>
                <a:lnTo>
                  <a:pt x="68" y="960"/>
                </a:lnTo>
                <a:lnTo>
                  <a:pt x="66" y="950"/>
                </a:lnTo>
                <a:lnTo>
                  <a:pt x="64" y="938"/>
                </a:lnTo>
                <a:lnTo>
                  <a:pt x="62" y="929"/>
                </a:lnTo>
                <a:lnTo>
                  <a:pt x="62" y="917"/>
                </a:lnTo>
                <a:lnTo>
                  <a:pt x="60" y="904"/>
                </a:lnTo>
                <a:lnTo>
                  <a:pt x="58" y="892"/>
                </a:lnTo>
                <a:lnTo>
                  <a:pt x="56" y="879"/>
                </a:lnTo>
                <a:lnTo>
                  <a:pt x="56" y="866"/>
                </a:lnTo>
                <a:lnTo>
                  <a:pt x="54" y="850"/>
                </a:lnTo>
                <a:lnTo>
                  <a:pt x="54" y="837"/>
                </a:lnTo>
                <a:lnTo>
                  <a:pt x="52" y="821"/>
                </a:lnTo>
                <a:lnTo>
                  <a:pt x="52" y="806"/>
                </a:lnTo>
                <a:lnTo>
                  <a:pt x="50" y="773"/>
                </a:lnTo>
                <a:lnTo>
                  <a:pt x="50" y="739"/>
                </a:lnTo>
                <a:lnTo>
                  <a:pt x="48" y="702"/>
                </a:lnTo>
                <a:lnTo>
                  <a:pt x="48" y="664"/>
                </a:lnTo>
                <a:lnTo>
                  <a:pt x="48" y="585"/>
                </a:lnTo>
                <a:lnTo>
                  <a:pt x="46" y="507"/>
                </a:lnTo>
                <a:lnTo>
                  <a:pt x="43" y="424"/>
                </a:lnTo>
                <a:lnTo>
                  <a:pt x="37" y="342"/>
                </a:lnTo>
                <a:lnTo>
                  <a:pt x="29" y="259"/>
                </a:lnTo>
                <a:lnTo>
                  <a:pt x="21" y="175"/>
                </a:lnTo>
                <a:lnTo>
                  <a:pt x="12" y="8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94"/>
          <p:cNvSpPr/>
          <p:nvPr/>
        </p:nvSpPr>
        <p:spPr>
          <a:xfrm>
            <a:off x="7267680" y="3559320"/>
            <a:ext cx="585720" cy="357120"/>
          </a:xfrm>
          <a:custGeom>
            <a:avLst/>
            <a:gdLst/>
            <a:ahLst/>
            <a:rect l="l" t="t" r="r" b="b"/>
            <a:pathLst>
              <a:path w="739" h="451">
                <a:moveTo>
                  <a:pt x="0" y="0"/>
                </a:moveTo>
                <a:lnTo>
                  <a:pt x="33" y="0"/>
                </a:lnTo>
                <a:lnTo>
                  <a:pt x="65" y="2"/>
                </a:lnTo>
                <a:lnTo>
                  <a:pt x="96" y="4"/>
                </a:lnTo>
                <a:lnTo>
                  <a:pt x="127" y="6"/>
                </a:lnTo>
                <a:lnTo>
                  <a:pt x="155" y="8"/>
                </a:lnTo>
                <a:lnTo>
                  <a:pt x="186" y="12"/>
                </a:lnTo>
                <a:lnTo>
                  <a:pt x="215" y="14"/>
                </a:lnTo>
                <a:lnTo>
                  <a:pt x="242" y="18"/>
                </a:lnTo>
                <a:lnTo>
                  <a:pt x="271" y="23"/>
                </a:lnTo>
                <a:lnTo>
                  <a:pt x="297" y="27"/>
                </a:lnTo>
                <a:lnTo>
                  <a:pt x="324" y="33"/>
                </a:lnTo>
                <a:lnTo>
                  <a:pt x="349" y="39"/>
                </a:lnTo>
                <a:lnTo>
                  <a:pt x="374" y="45"/>
                </a:lnTo>
                <a:lnTo>
                  <a:pt x="401" y="52"/>
                </a:lnTo>
                <a:lnTo>
                  <a:pt x="449" y="66"/>
                </a:lnTo>
                <a:lnTo>
                  <a:pt x="470" y="73"/>
                </a:lnTo>
                <a:lnTo>
                  <a:pt x="489" y="81"/>
                </a:lnTo>
                <a:lnTo>
                  <a:pt x="509" y="89"/>
                </a:lnTo>
                <a:lnTo>
                  <a:pt x="528" y="96"/>
                </a:lnTo>
                <a:lnTo>
                  <a:pt x="545" y="102"/>
                </a:lnTo>
                <a:lnTo>
                  <a:pt x="562" y="110"/>
                </a:lnTo>
                <a:lnTo>
                  <a:pt x="578" y="117"/>
                </a:lnTo>
                <a:lnTo>
                  <a:pt x="593" y="125"/>
                </a:lnTo>
                <a:lnTo>
                  <a:pt x="608" y="133"/>
                </a:lnTo>
                <a:lnTo>
                  <a:pt x="622" y="139"/>
                </a:lnTo>
                <a:lnTo>
                  <a:pt x="635" y="146"/>
                </a:lnTo>
                <a:lnTo>
                  <a:pt x="647" y="154"/>
                </a:lnTo>
                <a:lnTo>
                  <a:pt x="660" y="162"/>
                </a:lnTo>
                <a:lnTo>
                  <a:pt x="670" y="169"/>
                </a:lnTo>
                <a:lnTo>
                  <a:pt x="679" y="175"/>
                </a:lnTo>
                <a:lnTo>
                  <a:pt x="689" y="183"/>
                </a:lnTo>
                <a:lnTo>
                  <a:pt x="701" y="198"/>
                </a:lnTo>
                <a:lnTo>
                  <a:pt x="710" y="215"/>
                </a:lnTo>
                <a:lnTo>
                  <a:pt x="720" y="233"/>
                </a:lnTo>
                <a:lnTo>
                  <a:pt x="726" y="250"/>
                </a:lnTo>
                <a:lnTo>
                  <a:pt x="731" y="269"/>
                </a:lnTo>
                <a:lnTo>
                  <a:pt x="735" y="288"/>
                </a:lnTo>
                <a:lnTo>
                  <a:pt x="737" y="307"/>
                </a:lnTo>
                <a:lnTo>
                  <a:pt x="739" y="327"/>
                </a:lnTo>
                <a:lnTo>
                  <a:pt x="735" y="338"/>
                </a:lnTo>
                <a:lnTo>
                  <a:pt x="731" y="350"/>
                </a:lnTo>
                <a:lnTo>
                  <a:pt x="729" y="359"/>
                </a:lnTo>
                <a:lnTo>
                  <a:pt x="726" y="371"/>
                </a:lnTo>
                <a:lnTo>
                  <a:pt x="724" y="380"/>
                </a:lnTo>
                <a:lnTo>
                  <a:pt x="720" y="388"/>
                </a:lnTo>
                <a:lnTo>
                  <a:pt x="718" y="398"/>
                </a:lnTo>
                <a:lnTo>
                  <a:pt x="714" y="403"/>
                </a:lnTo>
                <a:lnTo>
                  <a:pt x="710" y="411"/>
                </a:lnTo>
                <a:lnTo>
                  <a:pt x="708" y="417"/>
                </a:lnTo>
                <a:lnTo>
                  <a:pt x="704" y="423"/>
                </a:lnTo>
                <a:lnTo>
                  <a:pt x="702" y="428"/>
                </a:lnTo>
                <a:lnTo>
                  <a:pt x="699" y="434"/>
                </a:lnTo>
                <a:lnTo>
                  <a:pt x="695" y="438"/>
                </a:lnTo>
                <a:lnTo>
                  <a:pt x="693" y="440"/>
                </a:lnTo>
                <a:lnTo>
                  <a:pt x="689" y="444"/>
                </a:lnTo>
                <a:lnTo>
                  <a:pt x="683" y="448"/>
                </a:lnTo>
                <a:lnTo>
                  <a:pt x="674" y="450"/>
                </a:lnTo>
                <a:lnTo>
                  <a:pt x="664" y="451"/>
                </a:lnTo>
                <a:lnTo>
                  <a:pt x="653" y="451"/>
                </a:lnTo>
                <a:lnTo>
                  <a:pt x="641" y="450"/>
                </a:lnTo>
                <a:lnTo>
                  <a:pt x="626" y="446"/>
                </a:lnTo>
                <a:lnTo>
                  <a:pt x="608" y="440"/>
                </a:lnTo>
                <a:lnTo>
                  <a:pt x="591" y="432"/>
                </a:lnTo>
                <a:lnTo>
                  <a:pt x="572" y="425"/>
                </a:lnTo>
                <a:lnTo>
                  <a:pt x="551" y="413"/>
                </a:lnTo>
                <a:lnTo>
                  <a:pt x="528" y="402"/>
                </a:lnTo>
                <a:lnTo>
                  <a:pt x="503" y="388"/>
                </a:lnTo>
                <a:lnTo>
                  <a:pt x="476" y="371"/>
                </a:lnTo>
                <a:lnTo>
                  <a:pt x="447" y="354"/>
                </a:lnTo>
                <a:lnTo>
                  <a:pt x="416" y="334"/>
                </a:lnTo>
                <a:lnTo>
                  <a:pt x="386" y="313"/>
                </a:lnTo>
                <a:lnTo>
                  <a:pt x="353" y="292"/>
                </a:lnTo>
                <a:lnTo>
                  <a:pt x="320" y="269"/>
                </a:lnTo>
                <a:lnTo>
                  <a:pt x="292" y="248"/>
                </a:lnTo>
                <a:lnTo>
                  <a:pt x="261" y="227"/>
                </a:lnTo>
                <a:lnTo>
                  <a:pt x="234" y="208"/>
                </a:lnTo>
                <a:lnTo>
                  <a:pt x="207" y="187"/>
                </a:lnTo>
                <a:lnTo>
                  <a:pt x="180" y="167"/>
                </a:lnTo>
                <a:lnTo>
                  <a:pt x="155" y="146"/>
                </a:lnTo>
                <a:lnTo>
                  <a:pt x="132" y="127"/>
                </a:lnTo>
                <a:lnTo>
                  <a:pt x="109" y="110"/>
                </a:lnTo>
                <a:lnTo>
                  <a:pt x="88" y="91"/>
                </a:lnTo>
                <a:lnTo>
                  <a:pt x="69" y="71"/>
                </a:lnTo>
                <a:lnTo>
                  <a:pt x="50" y="54"/>
                </a:lnTo>
                <a:lnTo>
                  <a:pt x="31" y="37"/>
                </a:lnTo>
                <a:lnTo>
                  <a:pt x="15" y="1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95"/>
          <p:cNvSpPr/>
          <p:nvPr/>
        </p:nvSpPr>
        <p:spPr>
          <a:xfrm>
            <a:off x="6297480" y="3290760"/>
            <a:ext cx="192240" cy="795600"/>
          </a:xfrm>
          <a:custGeom>
            <a:avLst/>
            <a:gdLst/>
            <a:ahLst/>
            <a:rect l="l" t="t" r="r" b="b"/>
            <a:pathLst>
              <a:path w="242" h="1002">
                <a:moveTo>
                  <a:pt x="225" y="157"/>
                </a:moveTo>
                <a:lnTo>
                  <a:pt x="228" y="159"/>
                </a:lnTo>
                <a:lnTo>
                  <a:pt x="230" y="165"/>
                </a:lnTo>
                <a:lnTo>
                  <a:pt x="232" y="172"/>
                </a:lnTo>
                <a:lnTo>
                  <a:pt x="234" y="180"/>
                </a:lnTo>
                <a:lnTo>
                  <a:pt x="236" y="190"/>
                </a:lnTo>
                <a:lnTo>
                  <a:pt x="238" y="203"/>
                </a:lnTo>
                <a:lnTo>
                  <a:pt x="238" y="216"/>
                </a:lnTo>
                <a:lnTo>
                  <a:pt x="240" y="230"/>
                </a:lnTo>
                <a:lnTo>
                  <a:pt x="240" y="247"/>
                </a:lnTo>
                <a:lnTo>
                  <a:pt x="240" y="266"/>
                </a:lnTo>
                <a:lnTo>
                  <a:pt x="240" y="286"/>
                </a:lnTo>
                <a:lnTo>
                  <a:pt x="242" y="307"/>
                </a:lnTo>
                <a:lnTo>
                  <a:pt x="242" y="328"/>
                </a:lnTo>
                <a:lnTo>
                  <a:pt x="242" y="353"/>
                </a:lnTo>
                <a:lnTo>
                  <a:pt x="242" y="378"/>
                </a:lnTo>
                <a:lnTo>
                  <a:pt x="242" y="403"/>
                </a:lnTo>
                <a:lnTo>
                  <a:pt x="236" y="456"/>
                </a:lnTo>
                <a:lnTo>
                  <a:pt x="230" y="510"/>
                </a:lnTo>
                <a:lnTo>
                  <a:pt x="223" y="562"/>
                </a:lnTo>
                <a:lnTo>
                  <a:pt x="217" y="614"/>
                </a:lnTo>
                <a:lnTo>
                  <a:pt x="211" y="666"/>
                </a:lnTo>
                <a:lnTo>
                  <a:pt x="205" y="714"/>
                </a:lnTo>
                <a:lnTo>
                  <a:pt x="201" y="739"/>
                </a:lnTo>
                <a:lnTo>
                  <a:pt x="200" y="762"/>
                </a:lnTo>
                <a:lnTo>
                  <a:pt x="196" y="785"/>
                </a:lnTo>
                <a:lnTo>
                  <a:pt x="194" y="808"/>
                </a:lnTo>
                <a:lnTo>
                  <a:pt x="188" y="831"/>
                </a:lnTo>
                <a:lnTo>
                  <a:pt x="182" y="852"/>
                </a:lnTo>
                <a:lnTo>
                  <a:pt x="177" y="873"/>
                </a:lnTo>
                <a:lnTo>
                  <a:pt x="173" y="892"/>
                </a:lnTo>
                <a:lnTo>
                  <a:pt x="167" y="909"/>
                </a:lnTo>
                <a:lnTo>
                  <a:pt x="163" y="925"/>
                </a:lnTo>
                <a:lnTo>
                  <a:pt x="159" y="940"/>
                </a:lnTo>
                <a:lnTo>
                  <a:pt x="155" y="954"/>
                </a:lnTo>
                <a:lnTo>
                  <a:pt x="152" y="965"/>
                </a:lnTo>
                <a:lnTo>
                  <a:pt x="148" y="975"/>
                </a:lnTo>
                <a:lnTo>
                  <a:pt x="144" y="982"/>
                </a:lnTo>
                <a:lnTo>
                  <a:pt x="142" y="990"/>
                </a:lnTo>
                <a:lnTo>
                  <a:pt x="138" y="994"/>
                </a:lnTo>
                <a:lnTo>
                  <a:pt x="134" y="998"/>
                </a:lnTo>
                <a:lnTo>
                  <a:pt x="132" y="1002"/>
                </a:lnTo>
                <a:lnTo>
                  <a:pt x="129" y="1002"/>
                </a:lnTo>
                <a:lnTo>
                  <a:pt x="127" y="1002"/>
                </a:lnTo>
                <a:lnTo>
                  <a:pt x="123" y="1000"/>
                </a:lnTo>
                <a:lnTo>
                  <a:pt x="119" y="1000"/>
                </a:lnTo>
                <a:lnTo>
                  <a:pt x="113" y="998"/>
                </a:lnTo>
                <a:lnTo>
                  <a:pt x="109" y="994"/>
                </a:lnTo>
                <a:lnTo>
                  <a:pt x="105" y="992"/>
                </a:lnTo>
                <a:lnTo>
                  <a:pt x="100" y="988"/>
                </a:lnTo>
                <a:lnTo>
                  <a:pt x="94" y="984"/>
                </a:lnTo>
                <a:lnTo>
                  <a:pt x="84" y="975"/>
                </a:lnTo>
                <a:lnTo>
                  <a:pt x="73" y="963"/>
                </a:lnTo>
                <a:lnTo>
                  <a:pt x="59" y="952"/>
                </a:lnTo>
                <a:lnTo>
                  <a:pt x="48" y="936"/>
                </a:lnTo>
                <a:lnTo>
                  <a:pt x="42" y="929"/>
                </a:lnTo>
                <a:lnTo>
                  <a:pt x="38" y="919"/>
                </a:lnTo>
                <a:lnTo>
                  <a:pt x="34" y="909"/>
                </a:lnTo>
                <a:lnTo>
                  <a:pt x="31" y="898"/>
                </a:lnTo>
                <a:lnTo>
                  <a:pt x="27" y="886"/>
                </a:lnTo>
                <a:lnTo>
                  <a:pt x="25" y="873"/>
                </a:lnTo>
                <a:lnTo>
                  <a:pt x="23" y="858"/>
                </a:lnTo>
                <a:lnTo>
                  <a:pt x="23" y="842"/>
                </a:lnTo>
                <a:lnTo>
                  <a:pt x="23" y="827"/>
                </a:lnTo>
                <a:lnTo>
                  <a:pt x="23" y="810"/>
                </a:lnTo>
                <a:lnTo>
                  <a:pt x="23" y="790"/>
                </a:lnTo>
                <a:lnTo>
                  <a:pt x="25" y="771"/>
                </a:lnTo>
                <a:lnTo>
                  <a:pt x="25" y="752"/>
                </a:lnTo>
                <a:lnTo>
                  <a:pt x="27" y="733"/>
                </a:lnTo>
                <a:lnTo>
                  <a:pt x="31" y="712"/>
                </a:lnTo>
                <a:lnTo>
                  <a:pt x="33" y="691"/>
                </a:lnTo>
                <a:lnTo>
                  <a:pt x="34" y="668"/>
                </a:lnTo>
                <a:lnTo>
                  <a:pt x="38" y="646"/>
                </a:lnTo>
                <a:lnTo>
                  <a:pt x="40" y="627"/>
                </a:lnTo>
                <a:lnTo>
                  <a:pt x="42" y="606"/>
                </a:lnTo>
                <a:lnTo>
                  <a:pt x="44" y="587"/>
                </a:lnTo>
                <a:lnTo>
                  <a:pt x="44" y="568"/>
                </a:lnTo>
                <a:lnTo>
                  <a:pt x="46" y="550"/>
                </a:lnTo>
                <a:lnTo>
                  <a:pt x="46" y="533"/>
                </a:lnTo>
                <a:lnTo>
                  <a:pt x="48" y="516"/>
                </a:lnTo>
                <a:lnTo>
                  <a:pt x="48" y="501"/>
                </a:lnTo>
                <a:lnTo>
                  <a:pt x="48" y="485"/>
                </a:lnTo>
                <a:lnTo>
                  <a:pt x="48" y="470"/>
                </a:lnTo>
                <a:lnTo>
                  <a:pt x="48" y="456"/>
                </a:lnTo>
                <a:lnTo>
                  <a:pt x="48" y="441"/>
                </a:lnTo>
                <a:lnTo>
                  <a:pt x="48" y="430"/>
                </a:lnTo>
                <a:lnTo>
                  <a:pt x="48" y="416"/>
                </a:lnTo>
                <a:lnTo>
                  <a:pt x="48" y="403"/>
                </a:lnTo>
                <a:lnTo>
                  <a:pt x="48" y="387"/>
                </a:lnTo>
                <a:lnTo>
                  <a:pt x="46" y="372"/>
                </a:lnTo>
                <a:lnTo>
                  <a:pt x="46" y="353"/>
                </a:lnTo>
                <a:lnTo>
                  <a:pt x="44" y="332"/>
                </a:lnTo>
                <a:lnTo>
                  <a:pt x="42" y="311"/>
                </a:lnTo>
                <a:lnTo>
                  <a:pt x="38" y="287"/>
                </a:lnTo>
                <a:lnTo>
                  <a:pt x="36" y="261"/>
                </a:lnTo>
                <a:lnTo>
                  <a:pt x="33" y="234"/>
                </a:lnTo>
                <a:lnTo>
                  <a:pt x="29" y="205"/>
                </a:lnTo>
                <a:lnTo>
                  <a:pt x="25" y="176"/>
                </a:lnTo>
                <a:lnTo>
                  <a:pt x="21" y="144"/>
                </a:lnTo>
                <a:lnTo>
                  <a:pt x="17" y="109"/>
                </a:lnTo>
                <a:lnTo>
                  <a:pt x="11" y="74"/>
                </a:lnTo>
                <a:lnTo>
                  <a:pt x="6" y="38"/>
                </a:lnTo>
                <a:lnTo>
                  <a:pt x="0" y="0"/>
                </a:lnTo>
                <a:lnTo>
                  <a:pt x="27" y="15"/>
                </a:lnTo>
                <a:lnTo>
                  <a:pt x="50" y="28"/>
                </a:lnTo>
                <a:lnTo>
                  <a:pt x="73" y="42"/>
                </a:lnTo>
                <a:lnTo>
                  <a:pt x="94" y="53"/>
                </a:lnTo>
                <a:lnTo>
                  <a:pt x="113" y="65"/>
                </a:lnTo>
                <a:lnTo>
                  <a:pt x="130" y="76"/>
                </a:lnTo>
                <a:lnTo>
                  <a:pt x="146" y="88"/>
                </a:lnTo>
                <a:lnTo>
                  <a:pt x="161" y="97"/>
                </a:lnTo>
                <a:lnTo>
                  <a:pt x="173" y="107"/>
                </a:lnTo>
                <a:lnTo>
                  <a:pt x="184" y="117"/>
                </a:lnTo>
                <a:lnTo>
                  <a:pt x="196" y="124"/>
                </a:lnTo>
                <a:lnTo>
                  <a:pt x="203" y="132"/>
                </a:lnTo>
                <a:lnTo>
                  <a:pt x="211" y="138"/>
                </a:lnTo>
                <a:lnTo>
                  <a:pt x="217" y="145"/>
                </a:lnTo>
                <a:lnTo>
                  <a:pt x="221" y="151"/>
                </a:lnTo>
                <a:lnTo>
                  <a:pt x="225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96"/>
          <p:cNvSpPr/>
          <p:nvPr/>
        </p:nvSpPr>
        <p:spPr>
          <a:xfrm>
            <a:off x="5597640" y="3559320"/>
            <a:ext cx="320400" cy="509400"/>
          </a:xfrm>
          <a:custGeom>
            <a:avLst/>
            <a:gdLst/>
            <a:ahLst/>
            <a:rect l="l" t="t" r="r" b="b"/>
            <a:pathLst>
              <a:path w="405" h="643">
                <a:moveTo>
                  <a:pt x="403" y="261"/>
                </a:moveTo>
                <a:lnTo>
                  <a:pt x="395" y="300"/>
                </a:lnTo>
                <a:lnTo>
                  <a:pt x="388" y="336"/>
                </a:lnTo>
                <a:lnTo>
                  <a:pt x="378" y="373"/>
                </a:lnTo>
                <a:lnTo>
                  <a:pt x="367" y="405"/>
                </a:lnTo>
                <a:lnTo>
                  <a:pt x="359" y="423"/>
                </a:lnTo>
                <a:lnTo>
                  <a:pt x="353" y="438"/>
                </a:lnTo>
                <a:lnTo>
                  <a:pt x="345" y="453"/>
                </a:lnTo>
                <a:lnTo>
                  <a:pt x="338" y="469"/>
                </a:lnTo>
                <a:lnTo>
                  <a:pt x="330" y="482"/>
                </a:lnTo>
                <a:lnTo>
                  <a:pt x="322" y="496"/>
                </a:lnTo>
                <a:lnTo>
                  <a:pt x="315" y="509"/>
                </a:lnTo>
                <a:lnTo>
                  <a:pt x="305" y="522"/>
                </a:lnTo>
                <a:lnTo>
                  <a:pt x="294" y="534"/>
                </a:lnTo>
                <a:lnTo>
                  <a:pt x="282" y="546"/>
                </a:lnTo>
                <a:lnTo>
                  <a:pt x="271" y="555"/>
                </a:lnTo>
                <a:lnTo>
                  <a:pt x="257" y="567"/>
                </a:lnTo>
                <a:lnTo>
                  <a:pt x="246" y="574"/>
                </a:lnTo>
                <a:lnTo>
                  <a:pt x="234" y="584"/>
                </a:lnTo>
                <a:lnTo>
                  <a:pt x="223" y="592"/>
                </a:lnTo>
                <a:lnTo>
                  <a:pt x="211" y="599"/>
                </a:lnTo>
                <a:lnTo>
                  <a:pt x="199" y="607"/>
                </a:lnTo>
                <a:lnTo>
                  <a:pt x="190" y="613"/>
                </a:lnTo>
                <a:lnTo>
                  <a:pt x="178" y="618"/>
                </a:lnTo>
                <a:lnTo>
                  <a:pt x="169" y="624"/>
                </a:lnTo>
                <a:lnTo>
                  <a:pt x="157" y="628"/>
                </a:lnTo>
                <a:lnTo>
                  <a:pt x="148" y="632"/>
                </a:lnTo>
                <a:lnTo>
                  <a:pt x="138" y="636"/>
                </a:lnTo>
                <a:lnTo>
                  <a:pt x="128" y="640"/>
                </a:lnTo>
                <a:lnTo>
                  <a:pt x="121" y="641"/>
                </a:lnTo>
                <a:lnTo>
                  <a:pt x="111" y="641"/>
                </a:lnTo>
                <a:lnTo>
                  <a:pt x="103" y="643"/>
                </a:lnTo>
                <a:lnTo>
                  <a:pt x="96" y="643"/>
                </a:lnTo>
                <a:lnTo>
                  <a:pt x="88" y="643"/>
                </a:lnTo>
                <a:lnTo>
                  <a:pt x="82" y="641"/>
                </a:lnTo>
                <a:lnTo>
                  <a:pt x="75" y="640"/>
                </a:lnTo>
                <a:lnTo>
                  <a:pt x="69" y="636"/>
                </a:lnTo>
                <a:lnTo>
                  <a:pt x="63" y="632"/>
                </a:lnTo>
                <a:lnTo>
                  <a:pt x="57" y="626"/>
                </a:lnTo>
                <a:lnTo>
                  <a:pt x="52" y="620"/>
                </a:lnTo>
                <a:lnTo>
                  <a:pt x="48" y="613"/>
                </a:lnTo>
                <a:lnTo>
                  <a:pt x="44" y="605"/>
                </a:lnTo>
                <a:lnTo>
                  <a:pt x="40" y="595"/>
                </a:lnTo>
                <a:lnTo>
                  <a:pt x="36" y="586"/>
                </a:lnTo>
                <a:lnTo>
                  <a:pt x="32" y="574"/>
                </a:lnTo>
                <a:lnTo>
                  <a:pt x="27" y="555"/>
                </a:lnTo>
                <a:lnTo>
                  <a:pt x="21" y="538"/>
                </a:lnTo>
                <a:lnTo>
                  <a:pt x="15" y="521"/>
                </a:lnTo>
                <a:lnTo>
                  <a:pt x="11" y="507"/>
                </a:lnTo>
                <a:lnTo>
                  <a:pt x="8" y="501"/>
                </a:lnTo>
                <a:lnTo>
                  <a:pt x="6" y="494"/>
                </a:lnTo>
                <a:lnTo>
                  <a:pt x="4" y="490"/>
                </a:lnTo>
                <a:lnTo>
                  <a:pt x="4" y="484"/>
                </a:lnTo>
                <a:lnTo>
                  <a:pt x="2" y="480"/>
                </a:lnTo>
                <a:lnTo>
                  <a:pt x="2" y="476"/>
                </a:lnTo>
                <a:lnTo>
                  <a:pt x="0" y="473"/>
                </a:lnTo>
                <a:lnTo>
                  <a:pt x="0" y="471"/>
                </a:lnTo>
                <a:lnTo>
                  <a:pt x="0" y="467"/>
                </a:lnTo>
                <a:lnTo>
                  <a:pt x="2" y="465"/>
                </a:lnTo>
                <a:lnTo>
                  <a:pt x="4" y="461"/>
                </a:lnTo>
                <a:lnTo>
                  <a:pt x="6" y="457"/>
                </a:lnTo>
                <a:lnTo>
                  <a:pt x="9" y="453"/>
                </a:lnTo>
                <a:lnTo>
                  <a:pt x="13" y="450"/>
                </a:lnTo>
                <a:lnTo>
                  <a:pt x="19" y="444"/>
                </a:lnTo>
                <a:lnTo>
                  <a:pt x="25" y="440"/>
                </a:lnTo>
                <a:lnTo>
                  <a:pt x="31" y="434"/>
                </a:lnTo>
                <a:lnTo>
                  <a:pt x="38" y="426"/>
                </a:lnTo>
                <a:lnTo>
                  <a:pt x="46" y="421"/>
                </a:lnTo>
                <a:lnTo>
                  <a:pt x="56" y="413"/>
                </a:lnTo>
                <a:lnTo>
                  <a:pt x="65" y="405"/>
                </a:lnTo>
                <a:lnTo>
                  <a:pt x="75" y="398"/>
                </a:lnTo>
                <a:lnTo>
                  <a:pt x="84" y="388"/>
                </a:lnTo>
                <a:lnTo>
                  <a:pt x="98" y="379"/>
                </a:lnTo>
                <a:lnTo>
                  <a:pt x="102" y="375"/>
                </a:lnTo>
                <a:lnTo>
                  <a:pt x="105" y="371"/>
                </a:lnTo>
                <a:lnTo>
                  <a:pt x="111" y="365"/>
                </a:lnTo>
                <a:lnTo>
                  <a:pt x="117" y="359"/>
                </a:lnTo>
                <a:lnTo>
                  <a:pt x="121" y="354"/>
                </a:lnTo>
                <a:lnTo>
                  <a:pt x="127" y="346"/>
                </a:lnTo>
                <a:lnTo>
                  <a:pt x="132" y="340"/>
                </a:lnTo>
                <a:lnTo>
                  <a:pt x="138" y="332"/>
                </a:lnTo>
                <a:lnTo>
                  <a:pt x="144" y="325"/>
                </a:lnTo>
                <a:lnTo>
                  <a:pt x="151" y="315"/>
                </a:lnTo>
                <a:lnTo>
                  <a:pt x="157" y="306"/>
                </a:lnTo>
                <a:lnTo>
                  <a:pt x="163" y="296"/>
                </a:lnTo>
                <a:lnTo>
                  <a:pt x="169" y="286"/>
                </a:lnTo>
                <a:lnTo>
                  <a:pt x="176" y="277"/>
                </a:lnTo>
                <a:lnTo>
                  <a:pt x="182" y="265"/>
                </a:lnTo>
                <a:lnTo>
                  <a:pt x="190" y="254"/>
                </a:lnTo>
                <a:lnTo>
                  <a:pt x="196" y="240"/>
                </a:lnTo>
                <a:lnTo>
                  <a:pt x="203" y="229"/>
                </a:lnTo>
                <a:lnTo>
                  <a:pt x="211" y="215"/>
                </a:lnTo>
                <a:lnTo>
                  <a:pt x="217" y="202"/>
                </a:lnTo>
                <a:lnTo>
                  <a:pt x="224" y="188"/>
                </a:lnTo>
                <a:lnTo>
                  <a:pt x="232" y="173"/>
                </a:lnTo>
                <a:lnTo>
                  <a:pt x="240" y="158"/>
                </a:lnTo>
                <a:lnTo>
                  <a:pt x="246" y="142"/>
                </a:lnTo>
                <a:lnTo>
                  <a:pt x="253" y="127"/>
                </a:lnTo>
                <a:lnTo>
                  <a:pt x="261" y="110"/>
                </a:lnTo>
                <a:lnTo>
                  <a:pt x="276" y="75"/>
                </a:lnTo>
                <a:lnTo>
                  <a:pt x="292" y="39"/>
                </a:lnTo>
                <a:lnTo>
                  <a:pt x="305" y="0"/>
                </a:lnTo>
                <a:lnTo>
                  <a:pt x="320" y="14"/>
                </a:lnTo>
                <a:lnTo>
                  <a:pt x="334" y="27"/>
                </a:lnTo>
                <a:lnTo>
                  <a:pt x="345" y="41"/>
                </a:lnTo>
                <a:lnTo>
                  <a:pt x="357" y="54"/>
                </a:lnTo>
                <a:lnTo>
                  <a:pt x="367" y="69"/>
                </a:lnTo>
                <a:lnTo>
                  <a:pt x="376" y="85"/>
                </a:lnTo>
                <a:lnTo>
                  <a:pt x="384" y="100"/>
                </a:lnTo>
                <a:lnTo>
                  <a:pt x="390" y="117"/>
                </a:lnTo>
                <a:lnTo>
                  <a:pt x="395" y="133"/>
                </a:lnTo>
                <a:lnTo>
                  <a:pt x="399" y="150"/>
                </a:lnTo>
                <a:lnTo>
                  <a:pt x="403" y="167"/>
                </a:lnTo>
                <a:lnTo>
                  <a:pt x="405" y="187"/>
                </a:lnTo>
                <a:lnTo>
                  <a:pt x="405" y="204"/>
                </a:lnTo>
                <a:lnTo>
                  <a:pt x="405" y="223"/>
                </a:lnTo>
                <a:lnTo>
                  <a:pt x="405" y="242"/>
                </a:lnTo>
                <a:lnTo>
                  <a:pt x="403" y="2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97"/>
          <p:cNvSpPr/>
          <p:nvPr/>
        </p:nvSpPr>
        <p:spPr>
          <a:xfrm>
            <a:off x="5573880" y="3094200"/>
            <a:ext cx="2241360" cy="311040"/>
          </a:xfrm>
          <a:custGeom>
            <a:avLst/>
            <a:gdLst/>
            <a:ahLst/>
            <a:rect l="l" t="t" r="r" b="b"/>
            <a:pathLst>
              <a:path w="2824" h="392">
                <a:moveTo>
                  <a:pt x="192" y="378"/>
                </a:moveTo>
                <a:lnTo>
                  <a:pt x="181" y="374"/>
                </a:lnTo>
                <a:lnTo>
                  <a:pt x="167" y="370"/>
                </a:lnTo>
                <a:lnTo>
                  <a:pt x="156" y="367"/>
                </a:lnTo>
                <a:lnTo>
                  <a:pt x="144" y="361"/>
                </a:lnTo>
                <a:lnTo>
                  <a:pt x="133" y="355"/>
                </a:lnTo>
                <a:lnTo>
                  <a:pt x="119" y="347"/>
                </a:lnTo>
                <a:lnTo>
                  <a:pt x="108" y="340"/>
                </a:lnTo>
                <a:lnTo>
                  <a:pt x="96" y="332"/>
                </a:lnTo>
                <a:lnTo>
                  <a:pt x="83" y="324"/>
                </a:lnTo>
                <a:lnTo>
                  <a:pt x="71" y="315"/>
                </a:lnTo>
                <a:lnTo>
                  <a:pt x="60" y="305"/>
                </a:lnTo>
                <a:lnTo>
                  <a:pt x="48" y="294"/>
                </a:lnTo>
                <a:lnTo>
                  <a:pt x="23" y="271"/>
                </a:lnTo>
                <a:lnTo>
                  <a:pt x="0" y="248"/>
                </a:lnTo>
                <a:lnTo>
                  <a:pt x="27" y="248"/>
                </a:lnTo>
                <a:lnTo>
                  <a:pt x="56" y="248"/>
                </a:lnTo>
                <a:lnTo>
                  <a:pt x="87" y="246"/>
                </a:lnTo>
                <a:lnTo>
                  <a:pt x="119" y="246"/>
                </a:lnTo>
                <a:lnTo>
                  <a:pt x="154" y="244"/>
                </a:lnTo>
                <a:lnTo>
                  <a:pt x="188" y="242"/>
                </a:lnTo>
                <a:lnTo>
                  <a:pt x="227" y="240"/>
                </a:lnTo>
                <a:lnTo>
                  <a:pt x="265" y="238"/>
                </a:lnTo>
                <a:lnTo>
                  <a:pt x="303" y="236"/>
                </a:lnTo>
                <a:lnTo>
                  <a:pt x="346" y="232"/>
                </a:lnTo>
                <a:lnTo>
                  <a:pt x="388" y="230"/>
                </a:lnTo>
                <a:lnTo>
                  <a:pt x="432" y="226"/>
                </a:lnTo>
                <a:lnTo>
                  <a:pt x="478" y="223"/>
                </a:lnTo>
                <a:lnTo>
                  <a:pt x="526" y="219"/>
                </a:lnTo>
                <a:lnTo>
                  <a:pt x="574" y="213"/>
                </a:lnTo>
                <a:lnTo>
                  <a:pt x="626" y="209"/>
                </a:lnTo>
                <a:lnTo>
                  <a:pt x="678" y="203"/>
                </a:lnTo>
                <a:lnTo>
                  <a:pt x="732" y="198"/>
                </a:lnTo>
                <a:lnTo>
                  <a:pt x="785" y="192"/>
                </a:lnTo>
                <a:lnTo>
                  <a:pt x="843" y="186"/>
                </a:lnTo>
                <a:lnTo>
                  <a:pt x="900" y="180"/>
                </a:lnTo>
                <a:lnTo>
                  <a:pt x="962" y="173"/>
                </a:lnTo>
                <a:lnTo>
                  <a:pt x="1023" y="167"/>
                </a:lnTo>
                <a:lnTo>
                  <a:pt x="1087" y="159"/>
                </a:lnTo>
                <a:lnTo>
                  <a:pt x="1119" y="155"/>
                </a:lnTo>
                <a:lnTo>
                  <a:pt x="1152" y="150"/>
                </a:lnTo>
                <a:lnTo>
                  <a:pt x="1187" y="146"/>
                </a:lnTo>
                <a:lnTo>
                  <a:pt x="1221" y="142"/>
                </a:lnTo>
                <a:lnTo>
                  <a:pt x="1256" y="138"/>
                </a:lnTo>
                <a:lnTo>
                  <a:pt x="1290" y="132"/>
                </a:lnTo>
                <a:lnTo>
                  <a:pt x="1325" y="129"/>
                </a:lnTo>
                <a:lnTo>
                  <a:pt x="1361" y="123"/>
                </a:lnTo>
                <a:lnTo>
                  <a:pt x="1398" y="119"/>
                </a:lnTo>
                <a:lnTo>
                  <a:pt x="1434" y="113"/>
                </a:lnTo>
                <a:lnTo>
                  <a:pt x="1473" y="107"/>
                </a:lnTo>
                <a:lnTo>
                  <a:pt x="1511" y="102"/>
                </a:lnTo>
                <a:lnTo>
                  <a:pt x="1549" y="96"/>
                </a:lnTo>
                <a:lnTo>
                  <a:pt x="1590" y="90"/>
                </a:lnTo>
                <a:lnTo>
                  <a:pt x="1628" y="84"/>
                </a:lnTo>
                <a:lnTo>
                  <a:pt x="1668" y="79"/>
                </a:lnTo>
                <a:lnTo>
                  <a:pt x="1709" y="73"/>
                </a:lnTo>
                <a:lnTo>
                  <a:pt x="1749" y="69"/>
                </a:lnTo>
                <a:lnTo>
                  <a:pt x="1787" y="65"/>
                </a:lnTo>
                <a:lnTo>
                  <a:pt x="1824" y="59"/>
                </a:lnTo>
                <a:lnTo>
                  <a:pt x="1860" y="56"/>
                </a:lnTo>
                <a:lnTo>
                  <a:pt x="1895" y="52"/>
                </a:lnTo>
                <a:lnTo>
                  <a:pt x="1929" y="48"/>
                </a:lnTo>
                <a:lnTo>
                  <a:pt x="1964" y="44"/>
                </a:lnTo>
                <a:lnTo>
                  <a:pt x="1997" y="40"/>
                </a:lnTo>
                <a:lnTo>
                  <a:pt x="2027" y="36"/>
                </a:lnTo>
                <a:lnTo>
                  <a:pt x="2058" y="35"/>
                </a:lnTo>
                <a:lnTo>
                  <a:pt x="2089" y="31"/>
                </a:lnTo>
                <a:lnTo>
                  <a:pt x="2118" y="27"/>
                </a:lnTo>
                <a:lnTo>
                  <a:pt x="2146" y="25"/>
                </a:lnTo>
                <a:lnTo>
                  <a:pt x="2173" y="23"/>
                </a:lnTo>
                <a:lnTo>
                  <a:pt x="2198" y="19"/>
                </a:lnTo>
                <a:lnTo>
                  <a:pt x="2223" y="17"/>
                </a:lnTo>
                <a:lnTo>
                  <a:pt x="2248" y="15"/>
                </a:lnTo>
                <a:lnTo>
                  <a:pt x="2271" y="13"/>
                </a:lnTo>
                <a:lnTo>
                  <a:pt x="2294" y="11"/>
                </a:lnTo>
                <a:lnTo>
                  <a:pt x="2315" y="10"/>
                </a:lnTo>
                <a:lnTo>
                  <a:pt x="2335" y="8"/>
                </a:lnTo>
                <a:lnTo>
                  <a:pt x="2356" y="6"/>
                </a:lnTo>
                <a:lnTo>
                  <a:pt x="2373" y="6"/>
                </a:lnTo>
                <a:lnTo>
                  <a:pt x="2390" y="4"/>
                </a:lnTo>
                <a:lnTo>
                  <a:pt x="2407" y="4"/>
                </a:lnTo>
                <a:lnTo>
                  <a:pt x="2423" y="2"/>
                </a:lnTo>
                <a:lnTo>
                  <a:pt x="2438" y="2"/>
                </a:lnTo>
                <a:lnTo>
                  <a:pt x="2452" y="2"/>
                </a:lnTo>
                <a:lnTo>
                  <a:pt x="2465" y="0"/>
                </a:lnTo>
                <a:lnTo>
                  <a:pt x="2477" y="0"/>
                </a:lnTo>
                <a:lnTo>
                  <a:pt x="2488" y="0"/>
                </a:lnTo>
                <a:lnTo>
                  <a:pt x="2509" y="0"/>
                </a:lnTo>
                <a:lnTo>
                  <a:pt x="2528" y="2"/>
                </a:lnTo>
                <a:lnTo>
                  <a:pt x="2548" y="2"/>
                </a:lnTo>
                <a:lnTo>
                  <a:pt x="2567" y="4"/>
                </a:lnTo>
                <a:lnTo>
                  <a:pt x="2584" y="4"/>
                </a:lnTo>
                <a:lnTo>
                  <a:pt x="2601" y="6"/>
                </a:lnTo>
                <a:lnTo>
                  <a:pt x="2619" y="10"/>
                </a:lnTo>
                <a:lnTo>
                  <a:pt x="2634" y="11"/>
                </a:lnTo>
                <a:lnTo>
                  <a:pt x="2649" y="15"/>
                </a:lnTo>
                <a:lnTo>
                  <a:pt x="2665" y="19"/>
                </a:lnTo>
                <a:lnTo>
                  <a:pt x="2680" y="23"/>
                </a:lnTo>
                <a:lnTo>
                  <a:pt x="2694" y="27"/>
                </a:lnTo>
                <a:lnTo>
                  <a:pt x="2707" y="33"/>
                </a:lnTo>
                <a:lnTo>
                  <a:pt x="2720" y="38"/>
                </a:lnTo>
                <a:lnTo>
                  <a:pt x="2732" y="46"/>
                </a:lnTo>
                <a:lnTo>
                  <a:pt x="2745" y="52"/>
                </a:lnTo>
                <a:lnTo>
                  <a:pt x="2761" y="67"/>
                </a:lnTo>
                <a:lnTo>
                  <a:pt x="2778" y="79"/>
                </a:lnTo>
                <a:lnTo>
                  <a:pt x="2784" y="86"/>
                </a:lnTo>
                <a:lnTo>
                  <a:pt x="2791" y="92"/>
                </a:lnTo>
                <a:lnTo>
                  <a:pt x="2797" y="96"/>
                </a:lnTo>
                <a:lnTo>
                  <a:pt x="2803" y="102"/>
                </a:lnTo>
                <a:lnTo>
                  <a:pt x="2807" y="106"/>
                </a:lnTo>
                <a:lnTo>
                  <a:pt x="2813" y="111"/>
                </a:lnTo>
                <a:lnTo>
                  <a:pt x="2816" y="115"/>
                </a:lnTo>
                <a:lnTo>
                  <a:pt x="2818" y="119"/>
                </a:lnTo>
                <a:lnTo>
                  <a:pt x="2822" y="123"/>
                </a:lnTo>
                <a:lnTo>
                  <a:pt x="2824" y="125"/>
                </a:lnTo>
                <a:lnTo>
                  <a:pt x="2824" y="129"/>
                </a:lnTo>
                <a:lnTo>
                  <a:pt x="2824" y="130"/>
                </a:lnTo>
                <a:lnTo>
                  <a:pt x="2824" y="140"/>
                </a:lnTo>
                <a:lnTo>
                  <a:pt x="2822" y="148"/>
                </a:lnTo>
                <a:lnTo>
                  <a:pt x="2820" y="152"/>
                </a:lnTo>
                <a:lnTo>
                  <a:pt x="2816" y="155"/>
                </a:lnTo>
                <a:lnTo>
                  <a:pt x="2814" y="157"/>
                </a:lnTo>
                <a:lnTo>
                  <a:pt x="2811" y="161"/>
                </a:lnTo>
                <a:lnTo>
                  <a:pt x="2807" y="165"/>
                </a:lnTo>
                <a:lnTo>
                  <a:pt x="2803" y="167"/>
                </a:lnTo>
                <a:lnTo>
                  <a:pt x="2797" y="171"/>
                </a:lnTo>
                <a:lnTo>
                  <a:pt x="2791" y="173"/>
                </a:lnTo>
                <a:lnTo>
                  <a:pt x="2784" y="175"/>
                </a:lnTo>
                <a:lnTo>
                  <a:pt x="2778" y="178"/>
                </a:lnTo>
                <a:lnTo>
                  <a:pt x="2770" y="180"/>
                </a:lnTo>
                <a:lnTo>
                  <a:pt x="2761" y="182"/>
                </a:lnTo>
                <a:lnTo>
                  <a:pt x="2757" y="184"/>
                </a:lnTo>
                <a:lnTo>
                  <a:pt x="2751" y="186"/>
                </a:lnTo>
                <a:lnTo>
                  <a:pt x="2745" y="186"/>
                </a:lnTo>
                <a:lnTo>
                  <a:pt x="2738" y="188"/>
                </a:lnTo>
                <a:lnTo>
                  <a:pt x="2730" y="188"/>
                </a:lnTo>
                <a:lnTo>
                  <a:pt x="2722" y="190"/>
                </a:lnTo>
                <a:lnTo>
                  <a:pt x="2715" y="192"/>
                </a:lnTo>
                <a:lnTo>
                  <a:pt x="2707" y="192"/>
                </a:lnTo>
                <a:lnTo>
                  <a:pt x="2697" y="194"/>
                </a:lnTo>
                <a:lnTo>
                  <a:pt x="2686" y="194"/>
                </a:lnTo>
                <a:lnTo>
                  <a:pt x="2676" y="196"/>
                </a:lnTo>
                <a:lnTo>
                  <a:pt x="2665" y="198"/>
                </a:lnTo>
                <a:lnTo>
                  <a:pt x="2653" y="198"/>
                </a:lnTo>
                <a:lnTo>
                  <a:pt x="2640" y="200"/>
                </a:lnTo>
                <a:lnTo>
                  <a:pt x="2628" y="200"/>
                </a:lnTo>
                <a:lnTo>
                  <a:pt x="2615" y="202"/>
                </a:lnTo>
                <a:lnTo>
                  <a:pt x="2599" y="202"/>
                </a:lnTo>
                <a:lnTo>
                  <a:pt x="2584" y="202"/>
                </a:lnTo>
                <a:lnTo>
                  <a:pt x="2569" y="203"/>
                </a:lnTo>
                <a:lnTo>
                  <a:pt x="2553" y="203"/>
                </a:lnTo>
                <a:lnTo>
                  <a:pt x="2536" y="205"/>
                </a:lnTo>
                <a:lnTo>
                  <a:pt x="2519" y="205"/>
                </a:lnTo>
                <a:lnTo>
                  <a:pt x="2502" y="205"/>
                </a:lnTo>
                <a:lnTo>
                  <a:pt x="2482" y="207"/>
                </a:lnTo>
                <a:lnTo>
                  <a:pt x="2463" y="207"/>
                </a:lnTo>
                <a:lnTo>
                  <a:pt x="2444" y="207"/>
                </a:lnTo>
                <a:lnTo>
                  <a:pt x="2423" y="207"/>
                </a:lnTo>
                <a:lnTo>
                  <a:pt x="2402" y="207"/>
                </a:lnTo>
                <a:lnTo>
                  <a:pt x="2381" y="209"/>
                </a:lnTo>
                <a:lnTo>
                  <a:pt x="2358" y="209"/>
                </a:lnTo>
                <a:lnTo>
                  <a:pt x="2335" y="209"/>
                </a:lnTo>
                <a:lnTo>
                  <a:pt x="2311" y="209"/>
                </a:lnTo>
                <a:lnTo>
                  <a:pt x="2263" y="209"/>
                </a:lnTo>
                <a:lnTo>
                  <a:pt x="2217" y="209"/>
                </a:lnTo>
                <a:lnTo>
                  <a:pt x="2173" y="209"/>
                </a:lnTo>
                <a:lnTo>
                  <a:pt x="2131" y="209"/>
                </a:lnTo>
                <a:lnTo>
                  <a:pt x="2089" y="209"/>
                </a:lnTo>
                <a:lnTo>
                  <a:pt x="2048" y="209"/>
                </a:lnTo>
                <a:lnTo>
                  <a:pt x="2010" y="209"/>
                </a:lnTo>
                <a:lnTo>
                  <a:pt x="1974" y="209"/>
                </a:lnTo>
                <a:lnTo>
                  <a:pt x="1939" y="209"/>
                </a:lnTo>
                <a:lnTo>
                  <a:pt x="1904" y="209"/>
                </a:lnTo>
                <a:lnTo>
                  <a:pt x="1872" y="209"/>
                </a:lnTo>
                <a:lnTo>
                  <a:pt x="1841" y="209"/>
                </a:lnTo>
                <a:lnTo>
                  <a:pt x="1812" y="209"/>
                </a:lnTo>
                <a:lnTo>
                  <a:pt x="1784" y="209"/>
                </a:lnTo>
                <a:lnTo>
                  <a:pt x="1759" y="209"/>
                </a:lnTo>
                <a:lnTo>
                  <a:pt x="1734" y="209"/>
                </a:lnTo>
                <a:lnTo>
                  <a:pt x="1709" y="211"/>
                </a:lnTo>
                <a:lnTo>
                  <a:pt x="1682" y="213"/>
                </a:lnTo>
                <a:lnTo>
                  <a:pt x="1655" y="217"/>
                </a:lnTo>
                <a:lnTo>
                  <a:pt x="1624" y="219"/>
                </a:lnTo>
                <a:lnTo>
                  <a:pt x="1593" y="223"/>
                </a:lnTo>
                <a:lnTo>
                  <a:pt x="1561" y="225"/>
                </a:lnTo>
                <a:lnTo>
                  <a:pt x="1528" y="228"/>
                </a:lnTo>
                <a:lnTo>
                  <a:pt x="1492" y="232"/>
                </a:lnTo>
                <a:lnTo>
                  <a:pt x="1455" y="236"/>
                </a:lnTo>
                <a:lnTo>
                  <a:pt x="1417" y="240"/>
                </a:lnTo>
                <a:lnTo>
                  <a:pt x="1377" y="244"/>
                </a:lnTo>
                <a:lnTo>
                  <a:pt x="1336" y="249"/>
                </a:lnTo>
                <a:lnTo>
                  <a:pt x="1292" y="253"/>
                </a:lnTo>
                <a:lnTo>
                  <a:pt x="1248" y="259"/>
                </a:lnTo>
                <a:lnTo>
                  <a:pt x="1202" y="267"/>
                </a:lnTo>
                <a:lnTo>
                  <a:pt x="1156" y="274"/>
                </a:lnTo>
                <a:lnTo>
                  <a:pt x="1106" y="280"/>
                </a:lnTo>
                <a:lnTo>
                  <a:pt x="1056" y="288"/>
                </a:lnTo>
                <a:lnTo>
                  <a:pt x="1010" y="294"/>
                </a:lnTo>
                <a:lnTo>
                  <a:pt x="966" y="301"/>
                </a:lnTo>
                <a:lnTo>
                  <a:pt x="924" y="307"/>
                </a:lnTo>
                <a:lnTo>
                  <a:pt x="881" y="313"/>
                </a:lnTo>
                <a:lnTo>
                  <a:pt x="843" y="319"/>
                </a:lnTo>
                <a:lnTo>
                  <a:pt x="806" y="322"/>
                </a:lnTo>
                <a:lnTo>
                  <a:pt x="772" y="328"/>
                </a:lnTo>
                <a:lnTo>
                  <a:pt x="737" y="332"/>
                </a:lnTo>
                <a:lnTo>
                  <a:pt x="707" y="336"/>
                </a:lnTo>
                <a:lnTo>
                  <a:pt x="676" y="340"/>
                </a:lnTo>
                <a:lnTo>
                  <a:pt x="649" y="344"/>
                </a:lnTo>
                <a:lnTo>
                  <a:pt x="624" y="345"/>
                </a:lnTo>
                <a:lnTo>
                  <a:pt x="599" y="349"/>
                </a:lnTo>
                <a:lnTo>
                  <a:pt x="578" y="351"/>
                </a:lnTo>
                <a:lnTo>
                  <a:pt x="555" y="357"/>
                </a:lnTo>
                <a:lnTo>
                  <a:pt x="532" y="361"/>
                </a:lnTo>
                <a:lnTo>
                  <a:pt x="511" y="365"/>
                </a:lnTo>
                <a:lnTo>
                  <a:pt x="490" y="368"/>
                </a:lnTo>
                <a:lnTo>
                  <a:pt x="472" y="372"/>
                </a:lnTo>
                <a:lnTo>
                  <a:pt x="453" y="376"/>
                </a:lnTo>
                <a:lnTo>
                  <a:pt x="438" y="378"/>
                </a:lnTo>
                <a:lnTo>
                  <a:pt x="422" y="382"/>
                </a:lnTo>
                <a:lnTo>
                  <a:pt x="409" y="384"/>
                </a:lnTo>
                <a:lnTo>
                  <a:pt x="398" y="386"/>
                </a:lnTo>
                <a:lnTo>
                  <a:pt x="386" y="388"/>
                </a:lnTo>
                <a:lnTo>
                  <a:pt x="376" y="390"/>
                </a:lnTo>
                <a:lnTo>
                  <a:pt x="369" y="390"/>
                </a:lnTo>
                <a:lnTo>
                  <a:pt x="361" y="390"/>
                </a:lnTo>
                <a:lnTo>
                  <a:pt x="357" y="392"/>
                </a:lnTo>
                <a:lnTo>
                  <a:pt x="353" y="392"/>
                </a:lnTo>
                <a:lnTo>
                  <a:pt x="340" y="392"/>
                </a:lnTo>
                <a:lnTo>
                  <a:pt x="325" y="392"/>
                </a:lnTo>
                <a:lnTo>
                  <a:pt x="317" y="392"/>
                </a:lnTo>
                <a:lnTo>
                  <a:pt x="309" y="390"/>
                </a:lnTo>
                <a:lnTo>
                  <a:pt x="300" y="390"/>
                </a:lnTo>
                <a:lnTo>
                  <a:pt x="290" y="390"/>
                </a:lnTo>
                <a:lnTo>
                  <a:pt x="280" y="390"/>
                </a:lnTo>
                <a:lnTo>
                  <a:pt x="269" y="388"/>
                </a:lnTo>
                <a:lnTo>
                  <a:pt x="259" y="386"/>
                </a:lnTo>
                <a:lnTo>
                  <a:pt x="246" y="386"/>
                </a:lnTo>
                <a:lnTo>
                  <a:pt x="234" y="384"/>
                </a:lnTo>
                <a:lnTo>
                  <a:pt x="221" y="382"/>
                </a:lnTo>
                <a:lnTo>
                  <a:pt x="207" y="380"/>
                </a:lnTo>
                <a:lnTo>
                  <a:pt x="192" y="3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98"/>
          <p:cNvSpPr/>
          <p:nvPr/>
        </p:nvSpPr>
        <p:spPr>
          <a:xfrm>
            <a:off x="6388200" y="2795760"/>
            <a:ext cx="471240" cy="279360"/>
          </a:xfrm>
          <a:custGeom>
            <a:avLst/>
            <a:gdLst/>
            <a:ahLst/>
            <a:rect l="l" t="t" r="r" b="b"/>
            <a:pathLst>
              <a:path w="593" h="351">
                <a:moveTo>
                  <a:pt x="0" y="0"/>
                </a:moveTo>
                <a:lnTo>
                  <a:pt x="27" y="0"/>
                </a:lnTo>
                <a:lnTo>
                  <a:pt x="54" y="0"/>
                </a:lnTo>
                <a:lnTo>
                  <a:pt x="79" y="2"/>
                </a:lnTo>
                <a:lnTo>
                  <a:pt x="106" y="4"/>
                </a:lnTo>
                <a:lnTo>
                  <a:pt x="131" y="6"/>
                </a:lnTo>
                <a:lnTo>
                  <a:pt x="156" y="9"/>
                </a:lnTo>
                <a:lnTo>
                  <a:pt x="183" y="13"/>
                </a:lnTo>
                <a:lnTo>
                  <a:pt x="208" y="19"/>
                </a:lnTo>
                <a:lnTo>
                  <a:pt x="231" y="23"/>
                </a:lnTo>
                <a:lnTo>
                  <a:pt x="256" y="29"/>
                </a:lnTo>
                <a:lnTo>
                  <a:pt x="280" y="36"/>
                </a:lnTo>
                <a:lnTo>
                  <a:pt x="305" y="42"/>
                </a:lnTo>
                <a:lnTo>
                  <a:pt x="328" y="50"/>
                </a:lnTo>
                <a:lnTo>
                  <a:pt x="353" y="59"/>
                </a:lnTo>
                <a:lnTo>
                  <a:pt x="376" y="67"/>
                </a:lnTo>
                <a:lnTo>
                  <a:pt x="401" y="77"/>
                </a:lnTo>
                <a:lnTo>
                  <a:pt x="424" y="90"/>
                </a:lnTo>
                <a:lnTo>
                  <a:pt x="446" y="101"/>
                </a:lnTo>
                <a:lnTo>
                  <a:pt x="467" y="113"/>
                </a:lnTo>
                <a:lnTo>
                  <a:pt x="486" y="125"/>
                </a:lnTo>
                <a:lnTo>
                  <a:pt x="503" y="134"/>
                </a:lnTo>
                <a:lnTo>
                  <a:pt x="519" y="146"/>
                </a:lnTo>
                <a:lnTo>
                  <a:pt x="532" y="155"/>
                </a:lnTo>
                <a:lnTo>
                  <a:pt x="545" y="165"/>
                </a:lnTo>
                <a:lnTo>
                  <a:pt x="557" y="174"/>
                </a:lnTo>
                <a:lnTo>
                  <a:pt x="566" y="184"/>
                </a:lnTo>
                <a:lnTo>
                  <a:pt x="574" y="194"/>
                </a:lnTo>
                <a:lnTo>
                  <a:pt x="582" y="201"/>
                </a:lnTo>
                <a:lnTo>
                  <a:pt x="588" y="211"/>
                </a:lnTo>
                <a:lnTo>
                  <a:pt x="591" y="219"/>
                </a:lnTo>
                <a:lnTo>
                  <a:pt x="593" y="226"/>
                </a:lnTo>
                <a:lnTo>
                  <a:pt x="593" y="234"/>
                </a:lnTo>
                <a:lnTo>
                  <a:pt x="593" y="244"/>
                </a:lnTo>
                <a:lnTo>
                  <a:pt x="593" y="251"/>
                </a:lnTo>
                <a:lnTo>
                  <a:pt x="593" y="261"/>
                </a:lnTo>
                <a:lnTo>
                  <a:pt x="593" y="268"/>
                </a:lnTo>
                <a:lnTo>
                  <a:pt x="593" y="274"/>
                </a:lnTo>
                <a:lnTo>
                  <a:pt x="593" y="282"/>
                </a:lnTo>
                <a:lnTo>
                  <a:pt x="593" y="288"/>
                </a:lnTo>
                <a:lnTo>
                  <a:pt x="591" y="293"/>
                </a:lnTo>
                <a:lnTo>
                  <a:pt x="590" y="303"/>
                </a:lnTo>
                <a:lnTo>
                  <a:pt x="588" y="313"/>
                </a:lnTo>
                <a:lnTo>
                  <a:pt x="584" y="318"/>
                </a:lnTo>
                <a:lnTo>
                  <a:pt x="578" y="324"/>
                </a:lnTo>
                <a:lnTo>
                  <a:pt x="570" y="330"/>
                </a:lnTo>
                <a:lnTo>
                  <a:pt x="563" y="334"/>
                </a:lnTo>
                <a:lnTo>
                  <a:pt x="553" y="338"/>
                </a:lnTo>
                <a:lnTo>
                  <a:pt x="542" y="343"/>
                </a:lnTo>
                <a:lnTo>
                  <a:pt x="528" y="345"/>
                </a:lnTo>
                <a:lnTo>
                  <a:pt x="515" y="349"/>
                </a:lnTo>
                <a:lnTo>
                  <a:pt x="499" y="349"/>
                </a:lnTo>
                <a:lnTo>
                  <a:pt x="482" y="351"/>
                </a:lnTo>
                <a:lnTo>
                  <a:pt x="469" y="351"/>
                </a:lnTo>
                <a:lnTo>
                  <a:pt x="457" y="349"/>
                </a:lnTo>
                <a:lnTo>
                  <a:pt x="444" y="347"/>
                </a:lnTo>
                <a:lnTo>
                  <a:pt x="430" y="343"/>
                </a:lnTo>
                <a:lnTo>
                  <a:pt x="417" y="339"/>
                </a:lnTo>
                <a:lnTo>
                  <a:pt x="401" y="336"/>
                </a:lnTo>
                <a:lnTo>
                  <a:pt x="388" y="330"/>
                </a:lnTo>
                <a:lnTo>
                  <a:pt x="373" y="322"/>
                </a:lnTo>
                <a:lnTo>
                  <a:pt x="357" y="316"/>
                </a:lnTo>
                <a:lnTo>
                  <a:pt x="342" y="309"/>
                </a:lnTo>
                <a:lnTo>
                  <a:pt x="327" y="299"/>
                </a:lnTo>
                <a:lnTo>
                  <a:pt x="309" y="290"/>
                </a:lnTo>
                <a:lnTo>
                  <a:pt x="292" y="280"/>
                </a:lnTo>
                <a:lnTo>
                  <a:pt x="277" y="270"/>
                </a:lnTo>
                <a:lnTo>
                  <a:pt x="259" y="259"/>
                </a:lnTo>
                <a:lnTo>
                  <a:pt x="240" y="247"/>
                </a:lnTo>
                <a:lnTo>
                  <a:pt x="223" y="234"/>
                </a:lnTo>
                <a:lnTo>
                  <a:pt x="206" y="220"/>
                </a:lnTo>
                <a:lnTo>
                  <a:pt x="188" y="207"/>
                </a:lnTo>
                <a:lnTo>
                  <a:pt x="171" y="194"/>
                </a:lnTo>
                <a:lnTo>
                  <a:pt x="138" y="163"/>
                </a:lnTo>
                <a:lnTo>
                  <a:pt x="108" y="132"/>
                </a:lnTo>
                <a:lnTo>
                  <a:pt x="79" y="100"/>
                </a:lnTo>
                <a:lnTo>
                  <a:pt x="50" y="67"/>
                </a:lnTo>
                <a:lnTo>
                  <a:pt x="25" y="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2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grpSp>
          <p:nvGrpSpPr>
            <p:cNvPr id="113" name="组合 8"/>
            <p:cNvGrpSpPr/>
            <p:nvPr/>
          </p:nvGrpSpPr>
          <p:grpSpPr>
            <a:xfrm>
              <a:off x="1400040" y="3975120"/>
              <a:ext cx="2840040" cy="1621080"/>
              <a:chOff x="1400040" y="3975120"/>
              <a:chExt cx="2840040" cy="1621080"/>
            </a:xfrm>
          </p:grpSpPr>
          <p:pic>
            <p:nvPicPr>
              <p:cNvPr id="114" name="图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0040" y="3975120"/>
                <a:ext cx="284004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矩形 2"/>
              <p:cNvSpPr/>
              <p:nvPr/>
            </p:nvSpPr>
            <p:spPr>
              <a:xfrm>
                <a:off x="1444680" y="4587840"/>
                <a:ext cx="2766600" cy="1008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“  ”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撇、点对称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6" name="Picture 2" descr=""/>
            <p:cNvPicPr/>
            <p:nvPr/>
          </p:nvPicPr>
          <p:blipFill>
            <a:blip r:embed="rId2"/>
            <a:stretch/>
          </p:blipFill>
          <p:spPr>
            <a:xfrm>
              <a:off x="1744920" y="4671720"/>
              <a:ext cx="34272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寸”的横稍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20"/>
          <p:cNvSpPr/>
          <p:nvPr/>
        </p:nvSpPr>
        <p:spPr>
          <a:xfrm>
            <a:off x="6492960" y="4311720"/>
            <a:ext cx="258840" cy="279360"/>
          </a:xfrm>
          <a:custGeom>
            <a:avLst/>
            <a:gdLst/>
            <a:ahLst/>
            <a:rect l="l" t="t" r="r" b="b"/>
            <a:pathLst>
              <a:path w="327" h="353">
                <a:moveTo>
                  <a:pt x="0" y="35"/>
                </a:moveTo>
                <a:lnTo>
                  <a:pt x="0" y="33"/>
                </a:lnTo>
                <a:lnTo>
                  <a:pt x="2" y="31"/>
                </a:lnTo>
                <a:lnTo>
                  <a:pt x="2" y="29"/>
                </a:lnTo>
                <a:lnTo>
                  <a:pt x="4" y="27"/>
                </a:lnTo>
                <a:lnTo>
                  <a:pt x="6" y="23"/>
                </a:lnTo>
                <a:lnTo>
                  <a:pt x="10" y="21"/>
                </a:lnTo>
                <a:lnTo>
                  <a:pt x="18" y="17"/>
                </a:lnTo>
                <a:lnTo>
                  <a:pt x="25" y="14"/>
                </a:lnTo>
                <a:lnTo>
                  <a:pt x="35" y="10"/>
                </a:lnTo>
                <a:lnTo>
                  <a:pt x="48" y="4"/>
                </a:lnTo>
                <a:lnTo>
                  <a:pt x="60" y="0"/>
                </a:lnTo>
                <a:lnTo>
                  <a:pt x="68" y="0"/>
                </a:lnTo>
                <a:lnTo>
                  <a:pt x="75" y="2"/>
                </a:lnTo>
                <a:lnTo>
                  <a:pt x="83" y="2"/>
                </a:lnTo>
                <a:lnTo>
                  <a:pt x="91" y="4"/>
                </a:lnTo>
                <a:lnTo>
                  <a:pt x="98" y="6"/>
                </a:lnTo>
                <a:lnTo>
                  <a:pt x="106" y="10"/>
                </a:lnTo>
                <a:lnTo>
                  <a:pt x="116" y="14"/>
                </a:lnTo>
                <a:lnTo>
                  <a:pt x="125" y="17"/>
                </a:lnTo>
                <a:lnTo>
                  <a:pt x="133" y="21"/>
                </a:lnTo>
                <a:lnTo>
                  <a:pt x="142" y="27"/>
                </a:lnTo>
                <a:lnTo>
                  <a:pt x="152" y="33"/>
                </a:lnTo>
                <a:lnTo>
                  <a:pt x="164" y="39"/>
                </a:lnTo>
                <a:lnTo>
                  <a:pt x="173" y="46"/>
                </a:lnTo>
                <a:lnTo>
                  <a:pt x="185" y="54"/>
                </a:lnTo>
                <a:lnTo>
                  <a:pt x="194" y="62"/>
                </a:lnTo>
                <a:lnTo>
                  <a:pt x="206" y="69"/>
                </a:lnTo>
                <a:lnTo>
                  <a:pt x="217" y="77"/>
                </a:lnTo>
                <a:lnTo>
                  <a:pt x="227" y="87"/>
                </a:lnTo>
                <a:lnTo>
                  <a:pt x="237" y="94"/>
                </a:lnTo>
                <a:lnTo>
                  <a:pt x="246" y="102"/>
                </a:lnTo>
                <a:lnTo>
                  <a:pt x="256" y="110"/>
                </a:lnTo>
                <a:lnTo>
                  <a:pt x="263" y="117"/>
                </a:lnTo>
                <a:lnTo>
                  <a:pt x="271" y="125"/>
                </a:lnTo>
                <a:lnTo>
                  <a:pt x="279" y="131"/>
                </a:lnTo>
                <a:lnTo>
                  <a:pt x="284" y="138"/>
                </a:lnTo>
                <a:lnTo>
                  <a:pt x="290" y="146"/>
                </a:lnTo>
                <a:lnTo>
                  <a:pt x="296" y="152"/>
                </a:lnTo>
                <a:lnTo>
                  <a:pt x="302" y="158"/>
                </a:lnTo>
                <a:lnTo>
                  <a:pt x="306" y="165"/>
                </a:lnTo>
                <a:lnTo>
                  <a:pt x="309" y="171"/>
                </a:lnTo>
                <a:lnTo>
                  <a:pt x="311" y="179"/>
                </a:lnTo>
                <a:lnTo>
                  <a:pt x="315" y="184"/>
                </a:lnTo>
                <a:lnTo>
                  <a:pt x="319" y="198"/>
                </a:lnTo>
                <a:lnTo>
                  <a:pt x="321" y="209"/>
                </a:lnTo>
                <a:lnTo>
                  <a:pt x="323" y="219"/>
                </a:lnTo>
                <a:lnTo>
                  <a:pt x="325" y="230"/>
                </a:lnTo>
                <a:lnTo>
                  <a:pt x="327" y="242"/>
                </a:lnTo>
                <a:lnTo>
                  <a:pt x="327" y="252"/>
                </a:lnTo>
                <a:lnTo>
                  <a:pt x="327" y="265"/>
                </a:lnTo>
                <a:lnTo>
                  <a:pt x="327" y="277"/>
                </a:lnTo>
                <a:lnTo>
                  <a:pt x="327" y="288"/>
                </a:lnTo>
                <a:lnTo>
                  <a:pt x="325" y="300"/>
                </a:lnTo>
                <a:lnTo>
                  <a:pt x="321" y="311"/>
                </a:lnTo>
                <a:lnTo>
                  <a:pt x="315" y="319"/>
                </a:lnTo>
                <a:lnTo>
                  <a:pt x="309" y="328"/>
                </a:lnTo>
                <a:lnTo>
                  <a:pt x="306" y="332"/>
                </a:lnTo>
                <a:lnTo>
                  <a:pt x="302" y="334"/>
                </a:lnTo>
                <a:lnTo>
                  <a:pt x="296" y="338"/>
                </a:lnTo>
                <a:lnTo>
                  <a:pt x="290" y="340"/>
                </a:lnTo>
                <a:lnTo>
                  <a:pt x="284" y="344"/>
                </a:lnTo>
                <a:lnTo>
                  <a:pt x="279" y="346"/>
                </a:lnTo>
                <a:lnTo>
                  <a:pt x="271" y="349"/>
                </a:lnTo>
                <a:lnTo>
                  <a:pt x="263" y="351"/>
                </a:lnTo>
                <a:lnTo>
                  <a:pt x="256" y="353"/>
                </a:lnTo>
                <a:lnTo>
                  <a:pt x="248" y="353"/>
                </a:lnTo>
                <a:lnTo>
                  <a:pt x="240" y="351"/>
                </a:lnTo>
                <a:lnTo>
                  <a:pt x="233" y="348"/>
                </a:lnTo>
                <a:lnTo>
                  <a:pt x="223" y="344"/>
                </a:lnTo>
                <a:lnTo>
                  <a:pt x="215" y="338"/>
                </a:lnTo>
                <a:lnTo>
                  <a:pt x="206" y="330"/>
                </a:lnTo>
                <a:lnTo>
                  <a:pt x="196" y="323"/>
                </a:lnTo>
                <a:lnTo>
                  <a:pt x="187" y="311"/>
                </a:lnTo>
                <a:lnTo>
                  <a:pt x="177" y="301"/>
                </a:lnTo>
                <a:lnTo>
                  <a:pt x="165" y="288"/>
                </a:lnTo>
                <a:lnTo>
                  <a:pt x="156" y="275"/>
                </a:lnTo>
                <a:lnTo>
                  <a:pt x="144" y="259"/>
                </a:lnTo>
                <a:lnTo>
                  <a:pt x="133" y="242"/>
                </a:lnTo>
                <a:lnTo>
                  <a:pt x="123" y="227"/>
                </a:lnTo>
                <a:lnTo>
                  <a:pt x="112" y="213"/>
                </a:lnTo>
                <a:lnTo>
                  <a:pt x="102" y="200"/>
                </a:lnTo>
                <a:lnTo>
                  <a:pt x="93" y="186"/>
                </a:lnTo>
                <a:lnTo>
                  <a:pt x="85" y="173"/>
                </a:lnTo>
                <a:lnTo>
                  <a:pt x="75" y="161"/>
                </a:lnTo>
                <a:lnTo>
                  <a:pt x="68" y="150"/>
                </a:lnTo>
                <a:lnTo>
                  <a:pt x="62" y="140"/>
                </a:lnTo>
                <a:lnTo>
                  <a:pt x="54" y="131"/>
                </a:lnTo>
                <a:lnTo>
                  <a:pt x="48" y="121"/>
                </a:lnTo>
                <a:lnTo>
                  <a:pt x="43" y="111"/>
                </a:lnTo>
                <a:lnTo>
                  <a:pt x="39" y="104"/>
                </a:lnTo>
                <a:lnTo>
                  <a:pt x="33" y="98"/>
                </a:lnTo>
                <a:lnTo>
                  <a:pt x="29" y="90"/>
                </a:lnTo>
                <a:lnTo>
                  <a:pt x="27" y="85"/>
                </a:lnTo>
                <a:lnTo>
                  <a:pt x="25" y="81"/>
                </a:lnTo>
                <a:lnTo>
                  <a:pt x="20" y="73"/>
                </a:lnTo>
                <a:lnTo>
                  <a:pt x="16" y="65"/>
                </a:lnTo>
                <a:lnTo>
                  <a:pt x="12" y="60"/>
                </a:lnTo>
                <a:lnTo>
                  <a:pt x="8" y="54"/>
                </a:lnTo>
                <a:lnTo>
                  <a:pt x="4" y="48"/>
                </a:lnTo>
                <a:lnTo>
                  <a:pt x="2" y="44"/>
                </a:lnTo>
                <a:lnTo>
                  <a:pt x="0" y="39"/>
                </a:lnTo>
                <a:lnTo>
                  <a:pt x="0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21"/>
          <p:cNvSpPr/>
          <p:nvPr/>
        </p:nvSpPr>
        <p:spPr>
          <a:xfrm>
            <a:off x="6761160" y="3897360"/>
            <a:ext cx="403200" cy="1173240"/>
          </a:xfrm>
          <a:custGeom>
            <a:avLst/>
            <a:gdLst/>
            <a:ahLst/>
            <a:rect l="l" t="t" r="r" b="b"/>
            <a:pathLst>
              <a:path w="509" h="1478">
                <a:moveTo>
                  <a:pt x="315" y="1121"/>
                </a:moveTo>
                <a:lnTo>
                  <a:pt x="317" y="1117"/>
                </a:lnTo>
                <a:lnTo>
                  <a:pt x="319" y="1113"/>
                </a:lnTo>
                <a:lnTo>
                  <a:pt x="321" y="1108"/>
                </a:lnTo>
                <a:lnTo>
                  <a:pt x="323" y="1102"/>
                </a:lnTo>
                <a:lnTo>
                  <a:pt x="325" y="1096"/>
                </a:lnTo>
                <a:lnTo>
                  <a:pt x="327" y="1088"/>
                </a:lnTo>
                <a:lnTo>
                  <a:pt x="328" y="1081"/>
                </a:lnTo>
                <a:lnTo>
                  <a:pt x="330" y="1073"/>
                </a:lnTo>
                <a:lnTo>
                  <a:pt x="332" y="1063"/>
                </a:lnTo>
                <a:lnTo>
                  <a:pt x="334" y="1054"/>
                </a:lnTo>
                <a:lnTo>
                  <a:pt x="336" y="1044"/>
                </a:lnTo>
                <a:lnTo>
                  <a:pt x="336" y="1033"/>
                </a:lnTo>
                <a:lnTo>
                  <a:pt x="338" y="1021"/>
                </a:lnTo>
                <a:lnTo>
                  <a:pt x="340" y="1008"/>
                </a:lnTo>
                <a:lnTo>
                  <a:pt x="340" y="994"/>
                </a:lnTo>
                <a:lnTo>
                  <a:pt x="342" y="981"/>
                </a:lnTo>
                <a:lnTo>
                  <a:pt x="344" y="967"/>
                </a:lnTo>
                <a:lnTo>
                  <a:pt x="344" y="952"/>
                </a:lnTo>
                <a:lnTo>
                  <a:pt x="346" y="935"/>
                </a:lnTo>
                <a:lnTo>
                  <a:pt x="346" y="918"/>
                </a:lnTo>
                <a:lnTo>
                  <a:pt x="348" y="900"/>
                </a:lnTo>
                <a:lnTo>
                  <a:pt x="348" y="883"/>
                </a:lnTo>
                <a:lnTo>
                  <a:pt x="348" y="864"/>
                </a:lnTo>
                <a:lnTo>
                  <a:pt x="350" y="845"/>
                </a:lnTo>
                <a:lnTo>
                  <a:pt x="350" y="823"/>
                </a:lnTo>
                <a:lnTo>
                  <a:pt x="350" y="802"/>
                </a:lnTo>
                <a:lnTo>
                  <a:pt x="350" y="781"/>
                </a:lnTo>
                <a:lnTo>
                  <a:pt x="350" y="758"/>
                </a:lnTo>
                <a:lnTo>
                  <a:pt x="351" y="735"/>
                </a:lnTo>
                <a:lnTo>
                  <a:pt x="351" y="710"/>
                </a:lnTo>
                <a:lnTo>
                  <a:pt x="351" y="685"/>
                </a:lnTo>
                <a:lnTo>
                  <a:pt x="351" y="660"/>
                </a:lnTo>
                <a:lnTo>
                  <a:pt x="351" y="635"/>
                </a:lnTo>
                <a:lnTo>
                  <a:pt x="351" y="610"/>
                </a:lnTo>
                <a:lnTo>
                  <a:pt x="351" y="585"/>
                </a:lnTo>
                <a:lnTo>
                  <a:pt x="351" y="562"/>
                </a:lnTo>
                <a:lnTo>
                  <a:pt x="351" y="539"/>
                </a:lnTo>
                <a:lnTo>
                  <a:pt x="351" y="516"/>
                </a:lnTo>
                <a:lnTo>
                  <a:pt x="351" y="495"/>
                </a:lnTo>
                <a:lnTo>
                  <a:pt x="351" y="474"/>
                </a:lnTo>
                <a:lnTo>
                  <a:pt x="351" y="455"/>
                </a:lnTo>
                <a:lnTo>
                  <a:pt x="351" y="436"/>
                </a:lnTo>
                <a:lnTo>
                  <a:pt x="351" y="417"/>
                </a:lnTo>
                <a:lnTo>
                  <a:pt x="350" y="397"/>
                </a:lnTo>
                <a:lnTo>
                  <a:pt x="350" y="380"/>
                </a:lnTo>
                <a:lnTo>
                  <a:pt x="350" y="365"/>
                </a:lnTo>
                <a:lnTo>
                  <a:pt x="350" y="347"/>
                </a:lnTo>
                <a:lnTo>
                  <a:pt x="350" y="332"/>
                </a:lnTo>
                <a:lnTo>
                  <a:pt x="350" y="317"/>
                </a:lnTo>
                <a:lnTo>
                  <a:pt x="350" y="303"/>
                </a:lnTo>
                <a:lnTo>
                  <a:pt x="348" y="290"/>
                </a:lnTo>
                <a:lnTo>
                  <a:pt x="348" y="278"/>
                </a:lnTo>
                <a:lnTo>
                  <a:pt x="348" y="265"/>
                </a:lnTo>
                <a:lnTo>
                  <a:pt x="348" y="253"/>
                </a:lnTo>
                <a:lnTo>
                  <a:pt x="346" y="244"/>
                </a:lnTo>
                <a:lnTo>
                  <a:pt x="346" y="232"/>
                </a:lnTo>
                <a:lnTo>
                  <a:pt x="346" y="225"/>
                </a:lnTo>
                <a:lnTo>
                  <a:pt x="344" y="215"/>
                </a:lnTo>
                <a:lnTo>
                  <a:pt x="344" y="207"/>
                </a:lnTo>
                <a:lnTo>
                  <a:pt x="344" y="200"/>
                </a:lnTo>
                <a:lnTo>
                  <a:pt x="342" y="194"/>
                </a:lnTo>
                <a:lnTo>
                  <a:pt x="342" y="186"/>
                </a:lnTo>
                <a:lnTo>
                  <a:pt x="340" y="182"/>
                </a:lnTo>
                <a:lnTo>
                  <a:pt x="340" y="177"/>
                </a:lnTo>
                <a:lnTo>
                  <a:pt x="334" y="165"/>
                </a:lnTo>
                <a:lnTo>
                  <a:pt x="328" y="152"/>
                </a:lnTo>
                <a:lnTo>
                  <a:pt x="321" y="138"/>
                </a:lnTo>
                <a:lnTo>
                  <a:pt x="313" y="127"/>
                </a:lnTo>
                <a:lnTo>
                  <a:pt x="305" y="115"/>
                </a:lnTo>
                <a:lnTo>
                  <a:pt x="296" y="104"/>
                </a:lnTo>
                <a:lnTo>
                  <a:pt x="288" y="94"/>
                </a:lnTo>
                <a:lnTo>
                  <a:pt x="279" y="84"/>
                </a:lnTo>
                <a:lnTo>
                  <a:pt x="273" y="83"/>
                </a:lnTo>
                <a:lnTo>
                  <a:pt x="267" y="81"/>
                </a:lnTo>
                <a:lnTo>
                  <a:pt x="261" y="77"/>
                </a:lnTo>
                <a:lnTo>
                  <a:pt x="256" y="75"/>
                </a:lnTo>
                <a:lnTo>
                  <a:pt x="252" y="71"/>
                </a:lnTo>
                <a:lnTo>
                  <a:pt x="248" y="67"/>
                </a:lnTo>
                <a:lnTo>
                  <a:pt x="240" y="60"/>
                </a:lnTo>
                <a:lnTo>
                  <a:pt x="236" y="52"/>
                </a:lnTo>
                <a:lnTo>
                  <a:pt x="232" y="44"/>
                </a:lnTo>
                <a:lnTo>
                  <a:pt x="231" y="36"/>
                </a:lnTo>
                <a:lnTo>
                  <a:pt x="231" y="27"/>
                </a:lnTo>
                <a:lnTo>
                  <a:pt x="231" y="23"/>
                </a:lnTo>
                <a:lnTo>
                  <a:pt x="232" y="19"/>
                </a:lnTo>
                <a:lnTo>
                  <a:pt x="234" y="15"/>
                </a:lnTo>
                <a:lnTo>
                  <a:pt x="236" y="12"/>
                </a:lnTo>
                <a:lnTo>
                  <a:pt x="240" y="10"/>
                </a:lnTo>
                <a:lnTo>
                  <a:pt x="244" y="8"/>
                </a:lnTo>
                <a:lnTo>
                  <a:pt x="250" y="4"/>
                </a:lnTo>
                <a:lnTo>
                  <a:pt x="256" y="2"/>
                </a:lnTo>
                <a:lnTo>
                  <a:pt x="263" y="2"/>
                </a:lnTo>
                <a:lnTo>
                  <a:pt x="269" y="0"/>
                </a:lnTo>
                <a:lnTo>
                  <a:pt x="279" y="0"/>
                </a:lnTo>
                <a:lnTo>
                  <a:pt x="286" y="0"/>
                </a:lnTo>
                <a:lnTo>
                  <a:pt x="296" y="0"/>
                </a:lnTo>
                <a:lnTo>
                  <a:pt x="305" y="0"/>
                </a:lnTo>
                <a:lnTo>
                  <a:pt x="317" y="2"/>
                </a:lnTo>
                <a:lnTo>
                  <a:pt x="327" y="4"/>
                </a:lnTo>
                <a:lnTo>
                  <a:pt x="350" y="10"/>
                </a:lnTo>
                <a:lnTo>
                  <a:pt x="373" y="13"/>
                </a:lnTo>
                <a:lnTo>
                  <a:pt x="396" y="19"/>
                </a:lnTo>
                <a:lnTo>
                  <a:pt x="419" y="25"/>
                </a:lnTo>
                <a:lnTo>
                  <a:pt x="440" y="31"/>
                </a:lnTo>
                <a:lnTo>
                  <a:pt x="463" y="40"/>
                </a:lnTo>
                <a:lnTo>
                  <a:pt x="474" y="44"/>
                </a:lnTo>
                <a:lnTo>
                  <a:pt x="486" y="50"/>
                </a:lnTo>
                <a:lnTo>
                  <a:pt x="497" y="56"/>
                </a:lnTo>
                <a:lnTo>
                  <a:pt x="509" y="61"/>
                </a:lnTo>
                <a:lnTo>
                  <a:pt x="507" y="79"/>
                </a:lnTo>
                <a:lnTo>
                  <a:pt x="503" y="96"/>
                </a:lnTo>
                <a:lnTo>
                  <a:pt x="501" y="111"/>
                </a:lnTo>
                <a:lnTo>
                  <a:pt x="499" y="127"/>
                </a:lnTo>
                <a:lnTo>
                  <a:pt x="497" y="142"/>
                </a:lnTo>
                <a:lnTo>
                  <a:pt x="495" y="155"/>
                </a:lnTo>
                <a:lnTo>
                  <a:pt x="495" y="169"/>
                </a:lnTo>
                <a:lnTo>
                  <a:pt x="494" y="182"/>
                </a:lnTo>
                <a:lnTo>
                  <a:pt x="492" y="194"/>
                </a:lnTo>
                <a:lnTo>
                  <a:pt x="492" y="205"/>
                </a:lnTo>
                <a:lnTo>
                  <a:pt x="492" y="215"/>
                </a:lnTo>
                <a:lnTo>
                  <a:pt x="492" y="225"/>
                </a:lnTo>
                <a:lnTo>
                  <a:pt x="492" y="234"/>
                </a:lnTo>
                <a:lnTo>
                  <a:pt x="494" y="244"/>
                </a:lnTo>
                <a:lnTo>
                  <a:pt x="494" y="251"/>
                </a:lnTo>
                <a:lnTo>
                  <a:pt x="497" y="257"/>
                </a:lnTo>
                <a:lnTo>
                  <a:pt x="499" y="267"/>
                </a:lnTo>
                <a:lnTo>
                  <a:pt x="501" y="278"/>
                </a:lnTo>
                <a:lnTo>
                  <a:pt x="501" y="292"/>
                </a:lnTo>
                <a:lnTo>
                  <a:pt x="503" y="307"/>
                </a:lnTo>
                <a:lnTo>
                  <a:pt x="505" y="324"/>
                </a:lnTo>
                <a:lnTo>
                  <a:pt x="505" y="344"/>
                </a:lnTo>
                <a:lnTo>
                  <a:pt x="507" y="363"/>
                </a:lnTo>
                <a:lnTo>
                  <a:pt x="507" y="386"/>
                </a:lnTo>
                <a:lnTo>
                  <a:pt x="507" y="409"/>
                </a:lnTo>
                <a:lnTo>
                  <a:pt x="507" y="436"/>
                </a:lnTo>
                <a:lnTo>
                  <a:pt x="509" y="463"/>
                </a:lnTo>
                <a:lnTo>
                  <a:pt x="509" y="491"/>
                </a:lnTo>
                <a:lnTo>
                  <a:pt x="509" y="524"/>
                </a:lnTo>
                <a:lnTo>
                  <a:pt x="509" y="555"/>
                </a:lnTo>
                <a:lnTo>
                  <a:pt x="509" y="589"/>
                </a:lnTo>
                <a:lnTo>
                  <a:pt x="509" y="626"/>
                </a:lnTo>
                <a:lnTo>
                  <a:pt x="507" y="662"/>
                </a:lnTo>
                <a:lnTo>
                  <a:pt x="505" y="697"/>
                </a:lnTo>
                <a:lnTo>
                  <a:pt x="503" y="731"/>
                </a:lnTo>
                <a:lnTo>
                  <a:pt x="501" y="764"/>
                </a:lnTo>
                <a:lnTo>
                  <a:pt x="501" y="797"/>
                </a:lnTo>
                <a:lnTo>
                  <a:pt x="499" y="827"/>
                </a:lnTo>
                <a:lnTo>
                  <a:pt x="499" y="856"/>
                </a:lnTo>
                <a:lnTo>
                  <a:pt x="497" y="885"/>
                </a:lnTo>
                <a:lnTo>
                  <a:pt x="497" y="912"/>
                </a:lnTo>
                <a:lnTo>
                  <a:pt x="497" y="939"/>
                </a:lnTo>
                <a:lnTo>
                  <a:pt x="497" y="964"/>
                </a:lnTo>
                <a:lnTo>
                  <a:pt x="497" y="989"/>
                </a:lnTo>
                <a:lnTo>
                  <a:pt x="497" y="1012"/>
                </a:lnTo>
                <a:lnTo>
                  <a:pt x="497" y="1035"/>
                </a:lnTo>
                <a:lnTo>
                  <a:pt x="497" y="1056"/>
                </a:lnTo>
                <a:lnTo>
                  <a:pt x="497" y="1075"/>
                </a:lnTo>
                <a:lnTo>
                  <a:pt x="495" y="1096"/>
                </a:lnTo>
                <a:lnTo>
                  <a:pt x="495" y="1117"/>
                </a:lnTo>
                <a:lnTo>
                  <a:pt x="494" y="1138"/>
                </a:lnTo>
                <a:lnTo>
                  <a:pt x="492" y="1157"/>
                </a:lnTo>
                <a:lnTo>
                  <a:pt x="490" y="1177"/>
                </a:lnTo>
                <a:lnTo>
                  <a:pt x="486" y="1196"/>
                </a:lnTo>
                <a:lnTo>
                  <a:pt x="480" y="1232"/>
                </a:lnTo>
                <a:lnTo>
                  <a:pt x="470" y="1267"/>
                </a:lnTo>
                <a:lnTo>
                  <a:pt x="461" y="1300"/>
                </a:lnTo>
                <a:lnTo>
                  <a:pt x="449" y="1332"/>
                </a:lnTo>
                <a:lnTo>
                  <a:pt x="436" y="1363"/>
                </a:lnTo>
                <a:lnTo>
                  <a:pt x="430" y="1376"/>
                </a:lnTo>
                <a:lnTo>
                  <a:pt x="423" y="1390"/>
                </a:lnTo>
                <a:lnTo>
                  <a:pt x="417" y="1403"/>
                </a:lnTo>
                <a:lnTo>
                  <a:pt x="409" y="1415"/>
                </a:lnTo>
                <a:lnTo>
                  <a:pt x="403" y="1424"/>
                </a:lnTo>
                <a:lnTo>
                  <a:pt x="396" y="1434"/>
                </a:lnTo>
                <a:lnTo>
                  <a:pt x="390" y="1443"/>
                </a:lnTo>
                <a:lnTo>
                  <a:pt x="384" y="1451"/>
                </a:lnTo>
                <a:lnTo>
                  <a:pt x="378" y="1457"/>
                </a:lnTo>
                <a:lnTo>
                  <a:pt x="375" y="1463"/>
                </a:lnTo>
                <a:lnTo>
                  <a:pt x="369" y="1467"/>
                </a:lnTo>
                <a:lnTo>
                  <a:pt x="365" y="1470"/>
                </a:lnTo>
                <a:lnTo>
                  <a:pt x="361" y="1474"/>
                </a:lnTo>
                <a:lnTo>
                  <a:pt x="357" y="1476"/>
                </a:lnTo>
                <a:lnTo>
                  <a:pt x="353" y="1478"/>
                </a:lnTo>
                <a:lnTo>
                  <a:pt x="351" y="1478"/>
                </a:lnTo>
                <a:lnTo>
                  <a:pt x="346" y="1478"/>
                </a:lnTo>
                <a:lnTo>
                  <a:pt x="342" y="1476"/>
                </a:lnTo>
                <a:lnTo>
                  <a:pt x="338" y="1474"/>
                </a:lnTo>
                <a:lnTo>
                  <a:pt x="332" y="1472"/>
                </a:lnTo>
                <a:lnTo>
                  <a:pt x="328" y="1470"/>
                </a:lnTo>
                <a:lnTo>
                  <a:pt x="325" y="1467"/>
                </a:lnTo>
                <a:lnTo>
                  <a:pt x="319" y="1463"/>
                </a:lnTo>
                <a:lnTo>
                  <a:pt x="315" y="1459"/>
                </a:lnTo>
                <a:lnTo>
                  <a:pt x="311" y="1453"/>
                </a:lnTo>
                <a:lnTo>
                  <a:pt x="305" y="1447"/>
                </a:lnTo>
                <a:lnTo>
                  <a:pt x="302" y="1442"/>
                </a:lnTo>
                <a:lnTo>
                  <a:pt x="296" y="1434"/>
                </a:lnTo>
                <a:lnTo>
                  <a:pt x="292" y="1426"/>
                </a:lnTo>
                <a:lnTo>
                  <a:pt x="288" y="1417"/>
                </a:lnTo>
                <a:lnTo>
                  <a:pt x="282" y="1407"/>
                </a:lnTo>
                <a:lnTo>
                  <a:pt x="279" y="1397"/>
                </a:lnTo>
                <a:lnTo>
                  <a:pt x="275" y="1386"/>
                </a:lnTo>
                <a:lnTo>
                  <a:pt x="269" y="1376"/>
                </a:lnTo>
                <a:lnTo>
                  <a:pt x="263" y="1365"/>
                </a:lnTo>
                <a:lnTo>
                  <a:pt x="256" y="1353"/>
                </a:lnTo>
                <a:lnTo>
                  <a:pt x="248" y="1344"/>
                </a:lnTo>
                <a:lnTo>
                  <a:pt x="240" y="1332"/>
                </a:lnTo>
                <a:lnTo>
                  <a:pt x="232" y="1323"/>
                </a:lnTo>
                <a:lnTo>
                  <a:pt x="223" y="1313"/>
                </a:lnTo>
                <a:lnTo>
                  <a:pt x="213" y="1301"/>
                </a:lnTo>
                <a:lnTo>
                  <a:pt x="202" y="1292"/>
                </a:lnTo>
                <a:lnTo>
                  <a:pt x="190" y="1282"/>
                </a:lnTo>
                <a:lnTo>
                  <a:pt x="179" y="1273"/>
                </a:lnTo>
                <a:lnTo>
                  <a:pt x="165" y="1263"/>
                </a:lnTo>
                <a:lnTo>
                  <a:pt x="152" y="1253"/>
                </a:lnTo>
                <a:lnTo>
                  <a:pt x="137" y="1246"/>
                </a:lnTo>
                <a:lnTo>
                  <a:pt x="121" y="1236"/>
                </a:lnTo>
                <a:lnTo>
                  <a:pt x="106" y="1225"/>
                </a:lnTo>
                <a:lnTo>
                  <a:pt x="92" y="1215"/>
                </a:lnTo>
                <a:lnTo>
                  <a:pt x="79" y="1205"/>
                </a:lnTo>
                <a:lnTo>
                  <a:pt x="67" y="1198"/>
                </a:lnTo>
                <a:lnTo>
                  <a:pt x="56" y="1188"/>
                </a:lnTo>
                <a:lnTo>
                  <a:pt x="46" y="1181"/>
                </a:lnTo>
                <a:lnTo>
                  <a:pt x="37" y="1173"/>
                </a:lnTo>
                <a:lnTo>
                  <a:pt x="29" y="1167"/>
                </a:lnTo>
                <a:lnTo>
                  <a:pt x="23" y="1161"/>
                </a:lnTo>
                <a:lnTo>
                  <a:pt x="18" y="1156"/>
                </a:lnTo>
                <a:lnTo>
                  <a:pt x="12" y="1150"/>
                </a:lnTo>
                <a:lnTo>
                  <a:pt x="8" y="1146"/>
                </a:lnTo>
                <a:lnTo>
                  <a:pt x="4" y="1142"/>
                </a:lnTo>
                <a:lnTo>
                  <a:pt x="2" y="1138"/>
                </a:lnTo>
                <a:lnTo>
                  <a:pt x="0" y="1134"/>
                </a:lnTo>
                <a:lnTo>
                  <a:pt x="0" y="1133"/>
                </a:lnTo>
                <a:lnTo>
                  <a:pt x="2" y="1131"/>
                </a:lnTo>
                <a:lnTo>
                  <a:pt x="2" y="1129"/>
                </a:lnTo>
                <a:lnTo>
                  <a:pt x="6" y="1127"/>
                </a:lnTo>
                <a:lnTo>
                  <a:pt x="10" y="1127"/>
                </a:lnTo>
                <a:lnTo>
                  <a:pt x="16" y="1125"/>
                </a:lnTo>
                <a:lnTo>
                  <a:pt x="21" y="1125"/>
                </a:lnTo>
                <a:lnTo>
                  <a:pt x="29" y="1125"/>
                </a:lnTo>
                <a:lnTo>
                  <a:pt x="37" y="1125"/>
                </a:lnTo>
                <a:lnTo>
                  <a:pt x="46" y="1127"/>
                </a:lnTo>
                <a:lnTo>
                  <a:pt x="58" y="1127"/>
                </a:lnTo>
                <a:lnTo>
                  <a:pt x="69" y="1129"/>
                </a:lnTo>
                <a:lnTo>
                  <a:pt x="83" y="1131"/>
                </a:lnTo>
                <a:lnTo>
                  <a:pt x="96" y="1133"/>
                </a:lnTo>
                <a:lnTo>
                  <a:pt x="112" y="1136"/>
                </a:lnTo>
                <a:lnTo>
                  <a:pt x="129" y="1140"/>
                </a:lnTo>
                <a:lnTo>
                  <a:pt x="146" y="1144"/>
                </a:lnTo>
                <a:lnTo>
                  <a:pt x="163" y="1146"/>
                </a:lnTo>
                <a:lnTo>
                  <a:pt x="181" y="1148"/>
                </a:lnTo>
                <a:lnTo>
                  <a:pt x="196" y="1150"/>
                </a:lnTo>
                <a:lnTo>
                  <a:pt x="211" y="1150"/>
                </a:lnTo>
                <a:lnTo>
                  <a:pt x="225" y="1152"/>
                </a:lnTo>
                <a:lnTo>
                  <a:pt x="238" y="1152"/>
                </a:lnTo>
                <a:lnTo>
                  <a:pt x="252" y="1150"/>
                </a:lnTo>
                <a:lnTo>
                  <a:pt x="261" y="1150"/>
                </a:lnTo>
                <a:lnTo>
                  <a:pt x="273" y="1148"/>
                </a:lnTo>
                <a:lnTo>
                  <a:pt x="282" y="1146"/>
                </a:lnTo>
                <a:lnTo>
                  <a:pt x="290" y="1144"/>
                </a:lnTo>
                <a:lnTo>
                  <a:pt x="298" y="1140"/>
                </a:lnTo>
                <a:lnTo>
                  <a:pt x="304" y="1136"/>
                </a:lnTo>
                <a:lnTo>
                  <a:pt x="309" y="1133"/>
                </a:lnTo>
                <a:lnTo>
                  <a:pt x="313" y="1127"/>
                </a:lnTo>
                <a:lnTo>
                  <a:pt x="315" y="1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22"/>
          <p:cNvSpPr/>
          <p:nvPr/>
        </p:nvSpPr>
        <p:spPr>
          <a:xfrm>
            <a:off x="6048360" y="4000680"/>
            <a:ext cx="1639800" cy="318960"/>
          </a:xfrm>
          <a:custGeom>
            <a:avLst/>
            <a:gdLst/>
            <a:ahLst/>
            <a:rect l="l" t="t" r="r" b="b"/>
            <a:pathLst>
              <a:path w="2067" h="403">
                <a:moveTo>
                  <a:pt x="1257" y="92"/>
                </a:moveTo>
                <a:lnTo>
                  <a:pt x="1286" y="86"/>
                </a:lnTo>
                <a:lnTo>
                  <a:pt x="1316" y="82"/>
                </a:lnTo>
                <a:lnTo>
                  <a:pt x="1345" y="76"/>
                </a:lnTo>
                <a:lnTo>
                  <a:pt x="1372" y="71"/>
                </a:lnTo>
                <a:lnTo>
                  <a:pt x="1399" y="67"/>
                </a:lnTo>
                <a:lnTo>
                  <a:pt x="1426" y="61"/>
                </a:lnTo>
                <a:lnTo>
                  <a:pt x="1451" y="57"/>
                </a:lnTo>
                <a:lnTo>
                  <a:pt x="1476" y="53"/>
                </a:lnTo>
                <a:lnTo>
                  <a:pt x="1501" y="49"/>
                </a:lnTo>
                <a:lnTo>
                  <a:pt x="1524" y="46"/>
                </a:lnTo>
                <a:lnTo>
                  <a:pt x="1545" y="40"/>
                </a:lnTo>
                <a:lnTo>
                  <a:pt x="1568" y="38"/>
                </a:lnTo>
                <a:lnTo>
                  <a:pt x="1587" y="34"/>
                </a:lnTo>
                <a:lnTo>
                  <a:pt x="1608" y="30"/>
                </a:lnTo>
                <a:lnTo>
                  <a:pt x="1627" y="26"/>
                </a:lnTo>
                <a:lnTo>
                  <a:pt x="1647" y="24"/>
                </a:lnTo>
                <a:lnTo>
                  <a:pt x="1664" y="21"/>
                </a:lnTo>
                <a:lnTo>
                  <a:pt x="1681" y="19"/>
                </a:lnTo>
                <a:lnTo>
                  <a:pt x="1697" y="17"/>
                </a:lnTo>
                <a:lnTo>
                  <a:pt x="1712" y="13"/>
                </a:lnTo>
                <a:lnTo>
                  <a:pt x="1727" y="11"/>
                </a:lnTo>
                <a:lnTo>
                  <a:pt x="1741" y="9"/>
                </a:lnTo>
                <a:lnTo>
                  <a:pt x="1754" y="7"/>
                </a:lnTo>
                <a:lnTo>
                  <a:pt x="1766" y="5"/>
                </a:lnTo>
                <a:lnTo>
                  <a:pt x="1777" y="5"/>
                </a:lnTo>
                <a:lnTo>
                  <a:pt x="1789" y="3"/>
                </a:lnTo>
                <a:lnTo>
                  <a:pt x="1798" y="3"/>
                </a:lnTo>
                <a:lnTo>
                  <a:pt x="1808" y="1"/>
                </a:lnTo>
                <a:lnTo>
                  <a:pt x="1816" y="1"/>
                </a:lnTo>
                <a:lnTo>
                  <a:pt x="1823" y="0"/>
                </a:lnTo>
                <a:lnTo>
                  <a:pt x="1831" y="0"/>
                </a:lnTo>
                <a:lnTo>
                  <a:pt x="1837" y="0"/>
                </a:lnTo>
                <a:lnTo>
                  <a:pt x="1860" y="1"/>
                </a:lnTo>
                <a:lnTo>
                  <a:pt x="1881" y="1"/>
                </a:lnTo>
                <a:lnTo>
                  <a:pt x="1904" y="3"/>
                </a:lnTo>
                <a:lnTo>
                  <a:pt x="1925" y="7"/>
                </a:lnTo>
                <a:lnTo>
                  <a:pt x="1946" y="11"/>
                </a:lnTo>
                <a:lnTo>
                  <a:pt x="1967" y="15"/>
                </a:lnTo>
                <a:lnTo>
                  <a:pt x="1986" y="19"/>
                </a:lnTo>
                <a:lnTo>
                  <a:pt x="2006" y="23"/>
                </a:lnTo>
                <a:lnTo>
                  <a:pt x="2019" y="32"/>
                </a:lnTo>
                <a:lnTo>
                  <a:pt x="2030" y="40"/>
                </a:lnTo>
                <a:lnTo>
                  <a:pt x="2040" y="49"/>
                </a:lnTo>
                <a:lnTo>
                  <a:pt x="2050" y="59"/>
                </a:lnTo>
                <a:lnTo>
                  <a:pt x="2055" y="69"/>
                </a:lnTo>
                <a:lnTo>
                  <a:pt x="2059" y="74"/>
                </a:lnTo>
                <a:lnTo>
                  <a:pt x="2061" y="80"/>
                </a:lnTo>
                <a:lnTo>
                  <a:pt x="2063" y="86"/>
                </a:lnTo>
                <a:lnTo>
                  <a:pt x="2065" y="92"/>
                </a:lnTo>
                <a:lnTo>
                  <a:pt x="2065" y="97"/>
                </a:lnTo>
                <a:lnTo>
                  <a:pt x="2067" y="103"/>
                </a:lnTo>
                <a:lnTo>
                  <a:pt x="2065" y="111"/>
                </a:lnTo>
                <a:lnTo>
                  <a:pt x="2065" y="115"/>
                </a:lnTo>
                <a:lnTo>
                  <a:pt x="2063" y="120"/>
                </a:lnTo>
                <a:lnTo>
                  <a:pt x="2061" y="126"/>
                </a:lnTo>
                <a:lnTo>
                  <a:pt x="2059" y="130"/>
                </a:lnTo>
                <a:lnTo>
                  <a:pt x="2055" y="134"/>
                </a:lnTo>
                <a:lnTo>
                  <a:pt x="2052" y="138"/>
                </a:lnTo>
                <a:lnTo>
                  <a:pt x="2046" y="142"/>
                </a:lnTo>
                <a:lnTo>
                  <a:pt x="2040" y="144"/>
                </a:lnTo>
                <a:lnTo>
                  <a:pt x="2034" y="147"/>
                </a:lnTo>
                <a:lnTo>
                  <a:pt x="2029" y="149"/>
                </a:lnTo>
                <a:lnTo>
                  <a:pt x="2021" y="151"/>
                </a:lnTo>
                <a:lnTo>
                  <a:pt x="2011" y="155"/>
                </a:lnTo>
                <a:lnTo>
                  <a:pt x="2002" y="157"/>
                </a:lnTo>
                <a:lnTo>
                  <a:pt x="1992" y="159"/>
                </a:lnTo>
                <a:lnTo>
                  <a:pt x="1983" y="161"/>
                </a:lnTo>
                <a:lnTo>
                  <a:pt x="1959" y="167"/>
                </a:lnTo>
                <a:lnTo>
                  <a:pt x="1938" y="170"/>
                </a:lnTo>
                <a:lnTo>
                  <a:pt x="1917" y="174"/>
                </a:lnTo>
                <a:lnTo>
                  <a:pt x="1898" y="178"/>
                </a:lnTo>
                <a:lnTo>
                  <a:pt x="1879" y="180"/>
                </a:lnTo>
                <a:lnTo>
                  <a:pt x="1862" y="182"/>
                </a:lnTo>
                <a:lnTo>
                  <a:pt x="1842" y="184"/>
                </a:lnTo>
                <a:lnTo>
                  <a:pt x="1825" y="184"/>
                </a:lnTo>
                <a:lnTo>
                  <a:pt x="1812" y="184"/>
                </a:lnTo>
                <a:lnTo>
                  <a:pt x="1800" y="184"/>
                </a:lnTo>
                <a:lnTo>
                  <a:pt x="1785" y="184"/>
                </a:lnTo>
                <a:lnTo>
                  <a:pt x="1769" y="184"/>
                </a:lnTo>
                <a:lnTo>
                  <a:pt x="1752" y="184"/>
                </a:lnTo>
                <a:lnTo>
                  <a:pt x="1735" y="186"/>
                </a:lnTo>
                <a:lnTo>
                  <a:pt x="1716" y="186"/>
                </a:lnTo>
                <a:lnTo>
                  <a:pt x="1695" y="186"/>
                </a:lnTo>
                <a:lnTo>
                  <a:pt x="1672" y="186"/>
                </a:lnTo>
                <a:lnTo>
                  <a:pt x="1649" y="188"/>
                </a:lnTo>
                <a:lnTo>
                  <a:pt x="1624" y="188"/>
                </a:lnTo>
                <a:lnTo>
                  <a:pt x="1597" y="190"/>
                </a:lnTo>
                <a:lnTo>
                  <a:pt x="1568" y="190"/>
                </a:lnTo>
                <a:lnTo>
                  <a:pt x="1539" y="191"/>
                </a:lnTo>
                <a:lnTo>
                  <a:pt x="1506" y="193"/>
                </a:lnTo>
                <a:lnTo>
                  <a:pt x="1474" y="195"/>
                </a:lnTo>
                <a:lnTo>
                  <a:pt x="1439" y="197"/>
                </a:lnTo>
                <a:lnTo>
                  <a:pt x="1403" y="201"/>
                </a:lnTo>
                <a:lnTo>
                  <a:pt x="1364" y="205"/>
                </a:lnTo>
                <a:lnTo>
                  <a:pt x="1324" y="211"/>
                </a:lnTo>
                <a:lnTo>
                  <a:pt x="1282" y="216"/>
                </a:lnTo>
                <a:lnTo>
                  <a:pt x="1240" y="222"/>
                </a:lnTo>
                <a:lnTo>
                  <a:pt x="1194" y="228"/>
                </a:lnTo>
                <a:lnTo>
                  <a:pt x="1148" y="236"/>
                </a:lnTo>
                <a:lnTo>
                  <a:pt x="1100" y="243"/>
                </a:lnTo>
                <a:lnTo>
                  <a:pt x="1048" y="251"/>
                </a:lnTo>
                <a:lnTo>
                  <a:pt x="996" y="261"/>
                </a:lnTo>
                <a:lnTo>
                  <a:pt x="944" y="270"/>
                </a:lnTo>
                <a:lnTo>
                  <a:pt x="888" y="280"/>
                </a:lnTo>
                <a:lnTo>
                  <a:pt x="831" y="289"/>
                </a:lnTo>
                <a:lnTo>
                  <a:pt x="773" y="299"/>
                </a:lnTo>
                <a:lnTo>
                  <a:pt x="712" y="311"/>
                </a:lnTo>
                <a:lnTo>
                  <a:pt x="683" y="316"/>
                </a:lnTo>
                <a:lnTo>
                  <a:pt x="652" y="322"/>
                </a:lnTo>
                <a:lnTo>
                  <a:pt x="625" y="326"/>
                </a:lnTo>
                <a:lnTo>
                  <a:pt x="597" y="332"/>
                </a:lnTo>
                <a:lnTo>
                  <a:pt x="572" y="335"/>
                </a:lnTo>
                <a:lnTo>
                  <a:pt x="545" y="341"/>
                </a:lnTo>
                <a:lnTo>
                  <a:pt x="520" y="345"/>
                </a:lnTo>
                <a:lnTo>
                  <a:pt x="497" y="349"/>
                </a:lnTo>
                <a:lnTo>
                  <a:pt x="474" y="355"/>
                </a:lnTo>
                <a:lnTo>
                  <a:pt x="453" y="358"/>
                </a:lnTo>
                <a:lnTo>
                  <a:pt x="432" y="362"/>
                </a:lnTo>
                <a:lnTo>
                  <a:pt x="411" y="366"/>
                </a:lnTo>
                <a:lnTo>
                  <a:pt x="391" y="370"/>
                </a:lnTo>
                <a:lnTo>
                  <a:pt x="374" y="372"/>
                </a:lnTo>
                <a:lnTo>
                  <a:pt x="355" y="376"/>
                </a:lnTo>
                <a:lnTo>
                  <a:pt x="339" y="380"/>
                </a:lnTo>
                <a:lnTo>
                  <a:pt x="324" y="382"/>
                </a:lnTo>
                <a:lnTo>
                  <a:pt x="309" y="383"/>
                </a:lnTo>
                <a:lnTo>
                  <a:pt x="295" y="387"/>
                </a:lnTo>
                <a:lnTo>
                  <a:pt x="282" y="389"/>
                </a:lnTo>
                <a:lnTo>
                  <a:pt x="268" y="391"/>
                </a:lnTo>
                <a:lnTo>
                  <a:pt x="259" y="393"/>
                </a:lnTo>
                <a:lnTo>
                  <a:pt x="247" y="395"/>
                </a:lnTo>
                <a:lnTo>
                  <a:pt x="238" y="397"/>
                </a:lnTo>
                <a:lnTo>
                  <a:pt x="230" y="399"/>
                </a:lnTo>
                <a:lnTo>
                  <a:pt x="220" y="399"/>
                </a:lnTo>
                <a:lnTo>
                  <a:pt x="215" y="401"/>
                </a:lnTo>
                <a:lnTo>
                  <a:pt x="209" y="401"/>
                </a:lnTo>
                <a:lnTo>
                  <a:pt x="203" y="403"/>
                </a:lnTo>
                <a:lnTo>
                  <a:pt x="199" y="403"/>
                </a:lnTo>
                <a:lnTo>
                  <a:pt x="196" y="403"/>
                </a:lnTo>
                <a:lnTo>
                  <a:pt x="192" y="403"/>
                </a:lnTo>
                <a:lnTo>
                  <a:pt x="182" y="403"/>
                </a:lnTo>
                <a:lnTo>
                  <a:pt x="173" y="401"/>
                </a:lnTo>
                <a:lnTo>
                  <a:pt x="159" y="399"/>
                </a:lnTo>
                <a:lnTo>
                  <a:pt x="148" y="395"/>
                </a:lnTo>
                <a:lnTo>
                  <a:pt x="132" y="389"/>
                </a:lnTo>
                <a:lnTo>
                  <a:pt x="117" y="383"/>
                </a:lnTo>
                <a:lnTo>
                  <a:pt x="101" y="376"/>
                </a:lnTo>
                <a:lnTo>
                  <a:pt x="84" y="368"/>
                </a:lnTo>
                <a:lnTo>
                  <a:pt x="73" y="364"/>
                </a:lnTo>
                <a:lnTo>
                  <a:pt x="63" y="360"/>
                </a:lnTo>
                <a:lnTo>
                  <a:pt x="53" y="357"/>
                </a:lnTo>
                <a:lnTo>
                  <a:pt x="46" y="353"/>
                </a:lnTo>
                <a:lnTo>
                  <a:pt x="38" y="349"/>
                </a:lnTo>
                <a:lnTo>
                  <a:pt x="30" y="347"/>
                </a:lnTo>
                <a:lnTo>
                  <a:pt x="25" y="343"/>
                </a:lnTo>
                <a:lnTo>
                  <a:pt x="19" y="341"/>
                </a:lnTo>
                <a:lnTo>
                  <a:pt x="13" y="337"/>
                </a:lnTo>
                <a:lnTo>
                  <a:pt x="9" y="335"/>
                </a:lnTo>
                <a:lnTo>
                  <a:pt x="6" y="334"/>
                </a:lnTo>
                <a:lnTo>
                  <a:pt x="4" y="332"/>
                </a:lnTo>
                <a:lnTo>
                  <a:pt x="2" y="328"/>
                </a:lnTo>
                <a:lnTo>
                  <a:pt x="0" y="326"/>
                </a:lnTo>
                <a:lnTo>
                  <a:pt x="0" y="324"/>
                </a:lnTo>
                <a:lnTo>
                  <a:pt x="0" y="322"/>
                </a:lnTo>
                <a:lnTo>
                  <a:pt x="0" y="320"/>
                </a:lnTo>
                <a:lnTo>
                  <a:pt x="2" y="318"/>
                </a:lnTo>
                <a:lnTo>
                  <a:pt x="6" y="316"/>
                </a:lnTo>
                <a:lnTo>
                  <a:pt x="9" y="316"/>
                </a:lnTo>
                <a:lnTo>
                  <a:pt x="13" y="314"/>
                </a:lnTo>
                <a:lnTo>
                  <a:pt x="17" y="312"/>
                </a:lnTo>
                <a:lnTo>
                  <a:pt x="23" y="311"/>
                </a:lnTo>
                <a:lnTo>
                  <a:pt x="30" y="309"/>
                </a:lnTo>
                <a:lnTo>
                  <a:pt x="38" y="309"/>
                </a:lnTo>
                <a:lnTo>
                  <a:pt x="46" y="307"/>
                </a:lnTo>
                <a:lnTo>
                  <a:pt x="53" y="305"/>
                </a:lnTo>
                <a:lnTo>
                  <a:pt x="63" y="301"/>
                </a:lnTo>
                <a:lnTo>
                  <a:pt x="75" y="299"/>
                </a:lnTo>
                <a:lnTo>
                  <a:pt x="86" y="297"/>
                </a:lnTo>
                <a:lnTo>
                  <a:pt x="98" y="295"/>
                </a:lnTo>
                <a:lnTo>
                  <a:pt x="109" y="293"/>
                </a:lnTo>
                <a:lnTo>
                  <a:pt x="123" y="289"/>
                </a:lnTo>
                <a:lnTo>
                  <a:pt x="138" y="287"/>
                </a:lnTo>
                <a:lnTo>
                  <a:pt x="151" y="284"/>
                </a:lnTo>
                <a:lnTo>
                  <a:pt x="167" y="282"/>
                </a:lnTo>
                <a:lnTo>
                  <a:pt x="184" y="278"/>
                </a:lnTo>
                <a:lnTo>
                  <a:pt x="201" y="276"/>
                </a:lnTo>
                <a:lnTo>
                  <a:pt x="219" y="272"/>
                </a:lnTo>
                <a:lnTo>
                  <a:pt x="236" y="268"/>
                </a:lnTo>
                <a:lnTo>
                  <a:pt x="255" y="264"/>
                </a:lnTo>
                <a:lnTo>
                  <a:pt x="276" y="263"/>
                </a:lnTo>
                <a:lnTo>
                  <a:pt x="295" y="259"/>
                </a:lnTo>
                <a:lnTo>
                  <a:pt x="318" y="255"/>
                </a:lnTo>
                <a:lnTo>
                  <a:pt x="339" y="249"/>
                </a:lnTo>
                <a:lnTo>
                  <a:pt x="363" y="245"/>
                </a:lnTo>
                <a:lnTo>
                  <a:pt x="386" y="241"/>
                </a:lnTo>
                <a:lnTo>
                  <a:pt x="434" y="234"/>
                </a:lnTo>
                <a:lnTo>
                  <a:pt x="483" y="228"/>
                </a:lnTo>
                <a:lnTo>
                  <a:pt x="531" y="220"/>
                </a:lnTo>
                <a:lnTo>
                  <a:pt x="583" y="211"/>
                </a:lnTo>
                <a:lnTo>
                  <a:pt x="635" y="203"/>
                </a:lnTo>
                <a:lnTo>
                  <a:pt x="687" y="193"/>
                </a:lnTo>
                <a:lnTo>
                  <a:pt x="739" y="186"/>
                </a:lnTo>
                <a:lnTo>
                  <a:pt x="794" y="176"/>
                </a:lnTo>
                <a:lnTo>
                  <a:pt x="848" y="167"/>
                </a:lnTo>
                <a:lnTo>
                  <a:pt x="904" y="155"/>
                </a:lnTo>
                <a:lnTo>
                  <a:pt x="961" y="145"/>
                </a:lnTo>
                <a:lnTo>
                  <a:pt x="1019" y="136"/>
                </a:lnTo>
                <a:lnTo>
                  <a:pt x="1077" y="124"/>
                </a:lnTo>
                <a:lnTo>
                  <a:pt x="1136" y="115"/>
                </a:lnTo>
                <a:lnTo>
                  <a:pt x="1196" y="103"/>
                </a:lnTo>
                <a:lnTo>
                  <a:pt x="1257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23"/>
          <p:cNvSpPr/>
          <p:nvPr/>
        </p:nvSpPr>
        <p:spPr>
          <a:xfrm>
            <a:off x="7126200" y="2860560"/>
            <a:ext cx="277920" cy="244440"/>
          </a:xfrm>
          <a:custGeom>
            <a:avLst/>
            <a:gdLst/>
            <a:ahLst/>
            <a:rect l="l" t="t" r="r" b="b"/>
            <a:pathLst>
              <a:path w="349" h="309">
                <a:moveTo>
                  <a:pt x="278" y="90"/>
                </a:moveTo>
                <a:lnTo>
                  <a:pt x="286" y="96"/>
                </a:lnTo>
                <a:lnTo>
                  <a:pt x="294" y="103"/>
                </a:lnTo>
                <a:lnTo>
                  <a:pt x="301" y="109"/>
                </a:lnTo>
                <a:lnTo>
                  <a:pt x="309" y="117"/>
                </a:lnTo>
                <a:lnTo>
                  <a:pt x="315" y="125"/>
                </a:lnTo>
                <a:lnTo>
                  <a:pt x="320" y="132"/>
                </a:lnTo>
                <a:lnTo>
                  <a:pt x="326" y="142"/>
                </a:lnTo>
                <a:lnTo>
                  <a:pt x="332" y="149"/>
                </a:lnTo>
                <a:lnTo>
                  <a:pt x="336" y="159"/>
                </a:lnTo>
                <a:lnTo>
                  <a:pt x="340" y="167"/>
                </a:lnTo>
                <a:lnTo>
                  <a:pt x="343" y="176"/>
                </a:lnTo>
                <a:lnTo>
                  <a:pt x="345" y="186"/>
                </a:lnTo>
                <a:lnTo>
                  <a:pt x="347" y="196"/>
                </a:lnTo>
                <a:lnTo>
                  <a:pt x="349" y="207"/>
                </a:lnTo>
                <a:lnTo>
                  <a:pt x="349" y="217"/>
                </a:lnTo>
                <a:lnTo>
                  <a:pt x="349" y="228"/>
                </a:lnTo>
                <a:lnTo>
                  <a:pt x="349" y="238"/>
                </a:lnTo>
                <a:lnTo>
                  <a:pt x="349" y="247"/>
                </a:lnTo>
                <a:lnTo>
                  <a:pt x="349" y="257"/>
                </a:lnTo>
                <a:lnTo>
                  <a:pt x="347" y="265"/>
                </a:lnTo>
                <a:lnTo>
                  <a:pt x="347" y="272"/>
                </a:lnTo>
                <a:lnTo>
                  <a:pt x="345" y="278"/>
                </a:lnTo>
                <a:lnTo>
                  <a:pt x="343" y="284"/>
                </a:lnTo>
                <a:lnTo>
                  <a:pt x="342" y="290"/>
                </a:lnTo>
                <a:lnTo>
                  <a:pt x="340" y="293"/>
                </a:lnTo>
                <a:lnTo>
                  <a:pt x="338" y="297"/>
                </a:lnTo>
                <a:lnTo>
                  <a:pt x="336" y="301"/>
                </a:lnTo>
                <a:lnTo>
                  <a:pt x="334" y="303"/>
                </a:lnTo>
                <a:lnTo>
                  <a:pt x="332" y="305"/>
                </a:lnTo>
                <a:lnTo>
                  <a:pt x="330" y="307"/>
                </a:lnTo>
                <a:lnTo>
                  <a:pt x="328" y="307"/>
                </a:lnTo>
                <a:lnTo>
                  <a:pt x="326" y="309"/>
                </a:lnTo>
                <a:lnTo>
                  <a:pt x="320" y="307"/>
                </a:lnTo>
                <a:lnTo>
                  <a:pt x="315" y="305"/>
                </a:lnTo>
                <a:lnTo>
                  <a:pt x="307" y="303"/>
                </a:lnTo>
                <a:lnTo>
                  <a:pt x="301" y="299"/>
                </a:lnTo>
                <a:lnTo>
                  <a:pt x="292" y="295"/>
                </a:lnTo>
                <a:lnTo>
                  <a:pt x="282" y="290"/>
                </a:lnTo>
                <a:lnTo>
                  <a:pt x="272" y="282"/>
                </a:lnTo>
                <a:lnTo>
                  <a:pt x="261" y="274"/>
                </a:lnTo>
                <a:lnTo>
                  <a:pt x="249" y="267"/>
                </a:lnTo>
                <a:lnTo>
                  <a:pt x="238" y="257"/>
                </a:lnTo>
                <a:lnTo>
                  <a:pt x="224" y="247"/>
                </a:lnTo>
                <a:lnTo>
                  <a:pt x="209" y="236"/>
                </a:lnTo>
                <a:lnTo>
                  <a:pt x="194" y="222"/>
                </a:lnTo>
                <a:lnTo>
                  <a:pt x="178" y="211"/>
                </a:lnTo>
                <a:lnTo>
                  <a:pt x="161" y="196"/>
                </a:lnTo>
                <a:lnTo>
                  <a:pt x="144" y="182"/>
                </a:lnTo>
                <a:lnTo>
                  <a:pt x="127" y="167"/>
                </a:lnTo>
                <a:lnTo>
                  <a:pt x="109" y="151"/>
                </a:lnTo>
                <a:lnTo>
                  <a:pt x="96" y="140"/>
                </a:lnTo>
                <a:lnTo>
                  <a:pt x="81" y="126"/>
                </a:lnTo>
                <a:lnTo>
                  <a:pt x="67" y="115"/>
                </a:lnTo>
                <a:lnTo>
                  <a:pt x="56" y="105"/>
                </a:lnTo>
                <a:lnTo>
                  <a:pt x="46" y="96"/>
                </a:lnTo>
                <a:lnTo>
                  <a:pt x="36" y="86"/>
                </a:lnTo>
                <a:lnTo>
                  <a:pt x="27" y="78"/>
                </a:lnTo>
                <a:lnTo>
                  <a:pt x="19" y="71"/>
                </a:lnTo>
                <a:lnTo>
                  <a:pt x="13" y="63"/>
                </a:lnTo>
                <a:lnTo>
                  <a:pt x="8" y="57"/>
                </a:lnTo>
                <a:lnTo>
                  <a:pt x="4" y="53"/>
                </a:lnTo>
                <a:lnTo>
                  <a:pt x="2" y="50"/>
                </a:lnTo>
                <a:lnTo>
                  <a:pt x="0" y="46"/>
                </a:lnTo>
                <a:lnTo>
                  <a:pt x="0" y="44"/>
                </a:lnTo>
                <a:lnTo>
                  <a:pt x="0" y="38"/>
                </a:lnTo>
                <a:lnTo>
                  <a:pt x="2" y="34"/>
                </a:lnTo>
                <a:lnTo>
                  <a:pt x="6" y="30"/>
                </a:lnTo>
                <a:lnTo>
                  <a:pt x="9" y="27"/>
                </a:lnTo>
                <a:lnTo>
                  <a:pt x="15" y="21"/>
                </a:lnTo>
                <a:lnTo>
                  <a:pt x="19" y="19"/>
                </a:lnTo>
                <a:lnTo>
                  <a:pt x="25" y="17"/>
                </a:lnTo>
                <a:lnTo>
                  <a:pt x="29" y="15"/>
                </a:lnTo>
                <a:lnTo>
                  <a:pt x="34" y="13"/>
                </a:lnTo>
                <a:lnTo>
                  <a:pt x="40" y="11"/>
                </a:lnTo>
                <a:lnTo>
                  <a:pt x="48" y="9"/>
                </a:lnTo>
                <a:lnTo>
                  <a:pt x="61" y="5"/>
                </a:lnTo>
                <a:lnTo>
                  <a:pt x="75" y="2"/>
                </a:lnTo>
                <a:lnTo>
                  <a:pt x="88" y="0"/>
                </a:lnTo>
                <a:lnTo>
                  <a:pt x="102" y="0"/>
                </a:lnTo>
                <a:lnTo>
                  <a:pt x="115" y="0"/>
                </a:lnTo>
                <a:lnTo>
                  <a:pt x="128" y="2"/>
                </a:lnTo>
                <a:lnTo>
                  <a:pt x="142" y="5"/>
                </a:lnTo>
                <a:lnTo>
                  <a:pt x="157" y="9"/>
                </a:lnTo>
                <a:lnTo>
                  <a:pt x="163" y="11"/>
                </a:lnTo>
                <a:lnTo>
                  <a:pt x="171" y="13"/>
                </a:lnTo>
                <a:lnTo>
                  <a:pt x="186" y="21"/>
                </a:lnTo>
                <a:lnTo>
                  <a:pt x="201" y="30"/>
                </a:lnTo>
                <a:lnTo>
                  <a:pt x="217" y="40"/>
                </a:lnTo>
                <a:lnTo>
                  <a:pt x="232" y="52"/>
                </a:lnTo>
                <a:lnTo>
                  <a:pt x="248" y="63"/>
                </a:lnTo>
                <a:lnTo>
                  <a:pt x="263" y="77"/>
                </a:lnTo>
                <a:lnTo>
                  <a:pt x="278" y="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24"/>
          <p:cNvSpPr/>
          <p:nvPr/>
        </p:nvSpPr>
        <p:spPr>
          <a:xfrm>
            <a:off x="6338880" y="3270240"/>
            <a:ext cx="1046160" cy="684360"/>
          </a:xfrm>
          <a:custGeom>
            <a:avLst/>
            <a:gdLst/>
            <a:ahLst/>
            <a:rect l="l" t="t" r="r" b="b"/>
            <a:pathLst>
              <a:path w="1318" h="862">
                <a:moveTo>
                  <a:pt x="1051" y="862"/>
                </a:moveTo>
                <a:lnTo>
                  <a:pt x="1044" y="847"/>
                </a:lnTo>
                <a:lnTo>
                  <a:pt x="1034" y="833"/>
                </a:lnTo>
                <a:lnTo>
                  <a:pt x="1026" y="818"/>
                </a:lnTo>
                <a:lnTo>
                  <a:pt x="1021" y="804"/>
                </a:lnTo>
                <a:lnTo>
                  <a:pt x="1013" y="791"/>
                </a:lnTo>
                <a:lnTo>
                  <a:pt x="1007" y="777"/>
                </a:lnTo>
                <a:lnTo>
                  <a:pt x="1001" y="764"/>
                </a:lnTo>
                <a:lnTo>
                  <a:pt x="998" y="753"/>
                </a:lnTo>
                <a:lnTo>
                  <a:pt x="994" y="741"/>
                </a:lnTo>
                <a:lnTo>
                  <a:pt x="990" y="730"/>
                </a:lnTo>
                <a:lnTo>
                  <a:pt x="986" y="720"/>
                </a:lnTo>
                <a:lnTo>
                  <a:pt x="984" y="710"/>
                </a:lnTo>
                <a:lnTo>
                  <a:pt x="982" y="701"/>
                </a:lnTo>
                <a:lnTo>
                  <a:pt x="980" y="693"/>
                </a:lnTo>
                <a:lnTo>
                  <a:pt x="978" y="685"/>
                </a:lnTo>
                <a:lnTo>
                  <a:pt x="978" y="678"/>
                </a:lnTo>
                <a:lnTo>
                  <a:pt x="978" y="672"/>
                </a:lnTo>
                <a:lnTo>
                  <a:pt x="980" y="662"/>
                </a:lnTo>
                <a:lnTo>
                  <a:pt x="980" y="653"/>
                </a:lnTo>
                <a:lnTo>
                  <a:pt x="982" y="641"/>
                </a:lnTo>
                <a:lnTo>
                  <a:pt x="982" y="630"/>
                </a:lnTo>
                <a:lnTo>
                  <a:pt x="984" y="614"/>
                </a:lnTo>
                <a:lnTo>
                  <a:pt x="988" y="599"/>
                </a:lnTo>
                <a:lnTo>
                  <a:pt x="990" y="584"/>
                </a:lnTo>
                <a:lnTo>
                  <a:pt x="994" y="564"/>
                </a:lnTo>
                <a:lnTo>
                  <a:pt x="996" y="545"/>
                </a:lnTo>
                <a:lnTo>
                  <a:pt x="1000" y="526"/>
                </a:lnTo>
                <a:lnTo>
                  <a:pt x="1005" y="503"/>
                </a:lnTo>
                <a:lnTo>
                  <a:pt x="1009" y="480"/>
                </a:lnTo>
                <a:lnTo>
                  <a:pt x="1015" y="455"/>
                </a:lnTo>
                <a:lnTo>
                  <a:pt x="1021" y="430"/>
                </a:lnTo>
                <a:lnTo>
                  <a:pt x="1028" y="401"/>
                </a:lnTo>
                <a:lnTo>
                  <a:pt x="1032" y="374"/>
                </a:lnTo>
                <a:lnTo>
                  <a:pt x="1036" y="349"/>
                </a:lnTo>
                <a:lnTo>
                  <a:pt x="1038" y="324"/>
                </a:lnTo>
                <a:lnTo>
                  <a:pt x="1042" y="301"/>
                </a:lnTo>
                <a:lnTo>
                  <a:pt x="1044" y="282"/>
                </a:lnTo>
                <a:lnTo>
                  <a:pt x="1046" y="261"/>
                </a:lnTo>
                <a:lnTo>
                  <a:pt x="1046" y="244"/>
                </a:lnTo>
                <a:lnTo>
                  <a:pt x="1048" y="229"/>
                </a:lnTo>
                <a:lnTo>
                  <a:pt x="1048" y="213"/>
                </a:lnTo>
                <a:lnTo>
                  <a:pt x="1048" y="200"/>
                </a:lnTo>
                <a:lnTo>
                  <a:pt x="1048" y="188"/>
                </a:lnTo>
                <a:lnTo>
                  <a:pt x="1046" y="177"/>
                </a:lnTo>
                <a:lnTo>
                  <a:pt x="1046" y="167"/>
                </a:lnTo>
                <a:lnTo>
                  <a:pt x="1044" y="159"/>
                </a:lnTo>
                <a:lnTo>
                  <a:pt x="1042" y="154"/>
                </a:lnTo>
                <a:lnTo>
                  <a:pt x="1040" y="150"/>
                </a:lnTo>
                <a:lnTo>
                  <a:pt x="1021" y="140"/>
                </a:lnTo>
                <a:lnTo>
                  <a:pt x="1013" y="136"/>
                </a:lnTo>
                <a:lnTo>
                  <a:pt x="1003" y="133"/>
                </a:lnTo>
                <a:lnTo>
                  <a:pt x="994" y="131"/>
                </a:lnTo>
                <a:lnTo>
                  <a:pt x="984" y="129"/>
                </a:lnTo>
                <a:lnTo>
                  <a:pt x="977" y="127"/>
                </a:lnTo>
                <a:lnTo>
                  <a:pt x="967" y="127"/>
                </a:lnTo>
                <a:lnTo>
                  <a:pt x="963" y="127"/>
                </a:lnTo>
                <a:lnTo>
                  <a:pt x="959" y="127"/>
                </a:lnTo>
                <a:lnTo>
                  <a:pt x="952" y="127"/>
                </a:lnTo>
                <a:lnTo>
                  <a:pt x="944" y="129"/>
                </a:lnTo>
                <a:lnTo>
                  <a:pt x="934" y="131"/>
                </a:lnTo>
                <a:lnTo>
                  <a:pt x="921" y="133"/>
                </a:lnTo>
                <a:lnTo>
                  <a:pt x="907" y="134"/>
                </a:lnTo>
                <a:lnTo>
                  <a:pt x="892" y="136"/>
                </a:lnTo>
                <a:lnTo>
                  <a:pt x="875" y="140"/>
                </a:lnTo>
                <a:lnTo>
                  <a:pt x="856" y="142"/>
                </a:lnTo>
                <a:lnTo>
                  <a:pt x="835" y="146"/>
                </a:lnTo>
                <a:lnTo>
                  <a:pt x="813" y="150"/>
                </a:lnTo>
                <a:lnTo>
                  <a:pt x="788" y="154"/>
                </a:lnTo>
                <a:lnTo>
                  <a:pt x="762" y="159"/>
                </a:lnTo>
                <a:lnTo>
                  <a:pt x="735" y="163"/>
                </a:lnTo>
                <a:lnTo>
                  <a:pt x="706" y="169"/>
                </a:lnTo>
                <a:lnTo>
                  <a:pt x="673" y="175"/>
                </a:lnTo>
                <a:lnTo>
                  <a:pt x="641" y="181"/>
                </a:lnTo>
                <a:lnTo>
                  <a:pt x="606" y="188"/>
                </a:lnTo>
                <a:lnTo>
                  <a:pt x="570" y="194"/>
                </a:lnTo>
                <a:lnTo>
                  <a:pt x="531" y="202"/>
                </a:lnTo>
                <a:lnTo>
                  <a:pt x="493" y="209"/>
                </a:lnTo>
                <a:lnTo>
                  <a:pt x="451" y="217"/>
                </a:lnTo>
                <a:lnTo>
                  <a:pt x="406" y="227"/>
                </a:lnTo>
                <a:lnTo>
                  <a:pt x="362" y="236"/>
                </a:lnTo>
                <a:lnTo>
                  <a:pt x="316" y="244"/>
                </a:lnTo>
                <a:lnTo>
                  <a:pt x="266" y="255"/>
                </a:lnTo>
                <a:lnTo>
                  <a:pt x="216" y="265"/>
                </a:lnTo>
                <a:lnTo>
                  <a:pt x="165" y="275"/>
                </a:lnTo>
                <a:lnTo>
                  <a:pt x="111" y="286"/>
                </a:lnTo>
                <a:lnTo>
                  <a:pt x="57" y="298"/>
                </a:lnTo>
                <a:lnTo>
                  <a:pt x="0" y="309"/>
                </a:lnTo>
                <a:lnTo>
                  <a:pt x="0" y="246"/>
                </a:lnTo>
                <a:lnTo>
                  <a:pt x="0" y="184"/>
                </a:lnTo>
                <a:lnTo>
                  <a:pt x="1" y="186"/>
                </a:lnTo>
                <a:lnTo>
                  <a:pt x="5" y="188"/>
                </a:lnTo>
                <a:lnTo>
                  <a:pt x="9" y="188"/>
                </a:lnTo>
                <a:lnTo>
                  <a:pt x="13" y="190"/>
                </a:lnTo>
                <a:lnTo>
                  <a:pt x="17" y="192"/>
                </a:lnTo>
                <a:lnTo>
                  <a:pt x="23" y="192"/>
                </a:lnTo>
                <a:lnTo>
                  <a:pt x="28" y="194"/>
                </a:lnTo>
                <a:lnTo>
                  <a:pt x="34" y="194"/>
                </a:lnTo>
                <a:lnTo>
                  <a:pt x="40" y="196"/>
                </a:lnTo>
                <a:lnTo>
                  <a:pt x="48" y="196"/>
                </a:lnTo>
                <a:lnTo>
                  <a:pt x="61" y="196"/>
                </a:lnTo>
                <a:lnTo>
                  <a:pt x="78" y="196"/>
                </a:lnTo>
                <a:lnTo>
                  <a:pt x="97" y="194"/>
                </a:lnTo>
                <a:lnTo>
                  <a:pt x="119" y="192"/>
                </a:lnTo>
                <a:lnTo>
                  <a:pt x="142" y="190"/>
                </a:lnTo>
                <a:lnTo>
                  <a:pt x="167" y="186"/>
                </a:lnTo>
                <a:lnTo>
                  <a:pt x="191" y="182"/>
                </a:lnTo>
                <a:lnTo>
                  <a:pt x="220" y="177"/>
                </a:lnTo>
                <a:lnTo>
                  <a:pt x="249" y="173"/>
                </a:lnTo>
                <a:lnTo>
                  <a:pt x="282" y="167"/>
                </a:lnTo>
                <a:lnTo>
                  <a:pt x="314" y="161"/>
                </a:lnTo>
                <a:lnTo>
                  <a:pt x="347" y="154"/>
                </a:lnTo>
                <a:lnTo>
                  <a:pt x="380" y="148"/>
                </a:lnTo>
                <a:lnTo>
                  <a:pt x="410" y="142"/>
                </a:lnTo>
                <a:lnTo>
                  <a:pt x="441" y="136"/>
                </a:lnTo>
                <a:lnTo>
                  <a:pt x="470" y="131"/>
                </a:lnTo>
                <a:lnTo>
                  <a:pt x="499" y="125"/>
                </a:lnTo>
                <a:lnTo>
                  <a:pt x="525" y="121"/>
                </a:lnTo>
                <a:lnTo>
                  <a:pt x="550" y="115"/>
                </a:lnTo>
                <a:lnTo>
                  <a:pt x="577" y="111"/>
                </a:lnTo>
                <a:lnTo>
                  <a:pt x="600" y="106"/>
                </a:lnTo>
                <a:lnTo>
                  <a:pt x="623" y="102"/>
                </a:lnTo>
                <a:lnTo>
                  <a:pt x="646" y="98"/>
                </a:lnTo>
                <a:lnTo>
                  <a:pt x="668" y="92"/>
                </a:lnTo>
                <a:lnTo>
                  <a:pt x="687" y="88"/>
                </a:lnTo>
                <a:lnTo>
                  <a:pt x="706" y="85"/>
                </a:lnTo>
                <a:lnTo>
                  <a:pt x="725" y="81"/>
                </a:lnTo>
                <a:lnTo>
                  <a:pt x="740" y="75"/>
                </a:lnTo>
                <a:lnTo>
                  <a:pt x="756" y="71"/>
                </a:lnTo>
                <a:lnTo>
                  <a:pt x="769" y="67"/>
                </a:lnTo>
                <a:lnTo>
                  <a:pt x="785" y="63"/>
                </a:lnTo>
                <a:lnTo>
                  <a:pt x="796" y="58"/>
                </a:lnTo>
                <a:lnTo>
                  <a:pt x="810" y="54"/>
                </a:lnTo>
                <a:lnTo>
                  <a:pt x="821" y="50"/>
                </a:lnTo>
                <a:lnTo>
                  <a:pt x="833" y="46"/>
                </a:lnTo>
                <a:lnTo>
                  <a:pt x="842" y="42"/>
                </a:lnTo>
                <a:lnTo>
                  <a:pt x="852" y="38"/>
                </a:lnTo>
                <a:lnTo>
                  <a:pt x="861" y="37"/>
                </a:lnTo>
                <a:lnTo>
                  <a:pt x="869" y="33"/>
                </a:lnTo>
                <a:lnTo>
                  <a:pt x="877" y="29"/>
                </a:lnTo>
                <a:lnTo>
                  <a:pt x="884" y="27"/>
                </a:lnTo>
                <a:lnTo>
                  <a:pt x="890" y="25"/>
                </a:lnTo>
                <a:lnTo>
                  <a:pt x="894" y="23"/>
                </a:lnTo>
                <a:lnTo>
                  <a:pt x="913" y="14"/>
                </a:lnTo>
                <a:lnTo>
                  <a:pt x="923" y="10"/>
                </a:lnTo>
                <a:lnTo>
                  <a:pt x="932" y="6"/>
                </a:lnTo>
                <a:lnTo>
                  <a:pt x="942" y="4"/>
                </a:lnTo>
                <a:lnTo>
                  <a:pt x="954" y="2"/>
                </a:lnTo>
                <a:lnTo>
                  <a:pt x="965" y="0"/>
                </a:lnTo>
                <a:lnTo>
                  <a:pt x="978" y="0"/>
                </a:lnTo>
                <a:lnTo>
                  <a:pt x="986" y="0"/>
                </a:lnTo>
                <a:lnTo>
                  <a:pt x="994" y="0"/>
                </a:lnTo>
                <a:lnTo>
                  <a:pt x="1001" y="2"/>
                </a:lnTo>
                <a:lnTo>
                  <a:pt x="1011" y="4"/>
                </a:lnTo>
                <a:lnTo>
                  <a:pt x="1021" y="6"/>
                </a:lnTo>
                <a:lnTo>
                  <a:pt x="1030" y="8"/>
                </a:lnTo>
                <a:lnTo>
                  <a:pt x="1042" y="12"/>
                </a:lnTo>
                <a:lnTo>
                  <a:pt x="1053" y="15"/>
                </a:lnTo>
                <a:lnTo>
                  <a:pt x="1065" y="19"/>
                </a:lnTo>
                <a:lnTo>
                  <a:pt x="1078" y="23"/>
                </a:lnTo>
                <a:lnTo>
                  <a:pt x="1092" y="27"/>
                </a:lnTo>
                <a:lnTo>
                  <a:pt x="1107" y="33"/>
                </a:lnTo>
                <a:lnTo>
                  <a:pt x="1122" y="38"/>
                </a:lnTo>
                <a:lnTo>
                  <a:pt x="1138" y="44"/>
                </a:lnTo>
                <a:lnTo>
                  <a:pt x="1155" y="50"/>
                </a:lnTo>
                <a:lnTo>
                  <a:pt x="1172" y="58"/>
                </a:lnTo>
                <a:lnTo>
                  <a:pt x="1190" y="65"/>
                </a:lnTo>
                <a:lnTo>
                  <a:pt x="1207" y="73"/>
                </a:lnTo>
                <a:lnTo>
                  <a:pt x="1222" y="81"/>
                </a:lnTo>
                <a:lnTo>
                  <a:pt x="1236" y="88"/>
                </a:lnTo>
                <a:lnTo>
                  <a:pt x="1249" y="96"/>
                </a:lnTo>
                <a:lnTo>
                  <a:pt x="1261" y="104"/>
                </a:lnTo>
                <a:lnTo>
                  <a:pt x="1272" y="110"/>
                </a:lnTo>
                <a:lnTo>
                  <a:pt x="1282" y="115"/>
                </a:lnTo>
                <a:lnTo>
                  <a:pt x="1289" y="121"/>
                </a:lnTo>
                <a:lnTo>
                  <a:pt x="1297" y="127"/>
                </a:lnTo>
                <a:lnTo>
                  <a:pt x="1303" y="133"/>
                </a:lnTo>
                <a:lnTo>
                  <a:pt x="1309" y="136"/>
                </a:lnTo>
                <a:lnTo>
                  <a:pt x="1312" y="140"/>
                </a:lnTo>
                <a:lnTo>
                  <a:pt x="1314" y="144"/>
                </a:lnTo>
                <a:lnTo>
                  <a:pt x="1316" y="146"/>
                </a:lnTo>
                <a:lnTo>
                  <a:pt x="1318" y="150"/>
                </a:lnTo>
                <a:lnTo>
                  <a:pt x="1316" y="157"/>
                </a:lnTo>
                <a:lnTo>
                  <a:pt x="1314" y="165"/>
                </a:lnTo>
                <a:lnTo>
                  <a:pt x="1312" y="175"/>
                </a:lnTo>
                <a:lnTo>
                  <a:pt x="1307" y="182"/>
                </a:lnTo>
                <a:lnTo>
                  <a:pt x="1301" y="188"/>
                </a:lnTo>
                <a:lnTo>
                  <a:pt x="1297" y="192"/>
                </a:lnTo>
                <a:lnTo>
                  <a:pt x="1291" y="196"/>
                </a:lnTo>
                <a:lnTo>
                  <a:pt x="1287" y="198"/>
                </a:lnTo>
                <a:lnTo>
                  <a:pt x="1282" y="202"/>
                </a:lnTo>
                <a:lnTo>
                  <a:pt x="1276" y="204"/>
                </a:lnTo>
                <a:lnTo>
                  <a:pt x="1270" y="207"/>
                </a:lnTo>
                <a:lnTo>
                  <a:pt x="1266" y="209"/>
                </a:lnTo>
                <a:lnTo>
                  <a:pt x="1263" y="213"/>
                </a:lnTo>
                <a:lnTo>
                  <a:pt x="1259" y="219"/>
                </a:lnTo>
                <a:lnTo>
                  <a:pt x="1253" y="225"/>
                </a:lnTo>
                <a:lnTo>
                  <a:pt x="1249" y="232"/>
                </a:lnTo>
                <a:lnTo>
                  <a:pt x="1245" y="240"/>
                </a:lnTo>
                <a:lnTo>
                  <a:pt x="1240" y="250"/>
                </a:lnTo>
                <a:lnTo>
                  <a:pt x="1236" y="261"/>
                </a:lnTo>
                <a:lnTo>
                  <a:pt x="1230" y="273"/>
                </a:lnTo>
                <a:lnTo>
                  <a:pt x="1224" y="286"/>
                </a:lnTo>
                <a:lnTo>
                  <a:pt x="1218" y="300"/>
                </a:lnTo>
                <a:lnTo>
                  <a:pt x="1213" y="315"/>
                </a:lnTo>
                <a:lnTo>
                  <a:pt x="1207" y="330"/>
                </a:lnTo>
                <a:lnTo>
                  <a:pt x="1199" y="349"/>
                </a:lnTo>
                <a:lnTo>
                  <a:pt x="1193" y="367"/>
                </a:lnTo>
                <a:lnTo>
                  <a:pt x="1188" y="388"/>
                </a:lnTo>
                <a:lnTo>
                  <a:pt x="1180" y="409"/>
                </a:lnTo>
                <a:lnTo>
                  <a:pt x="1172" y="430"/>
                </a:lnTo>
                <a:lnTo>
                  <a:pt x="1165" y="455"/>
                </a:lnTo>
                <a:lnTo>
                  <a:pt x="1157" y="478"/>
                </a:lnTo>
                <a:lnTo>
                  <a:pt x="1149" y="505"/>
                </a:lnTo>
                <a:lnTo>
                  <a:pt x="1142" y="532"/>
                </a:lnTo>
                <a:lnTo>
                  <a:pt x="1134" y="559"/>
                </a:lnTo>
                <a:lnTo>
                  <a:pt x="1126" y="587"/>
                </a:lnTo>
                <a:lnTo>
                  <a:pt x="1117" y="618"/>
                </a:lnTo>
                <a:lnTo>
                  <a:pt x="1109" y="649"/>
                </a:lnTo>
                <a:lnTo>
                  <a:pt x="1099" y="682"/>
                </a:lnTo>
                <a:lnTo>
                  <a:pt x="1090" y="716"/>
                </a:lnTo>
                <a:lnTo>
                  <a:pt x="1080" y="751"/>
                </a:lnTo>
                <a:lnTo>
                  <a:pt x="1071" y="787"/>
                </a:lnTo>
                <a:lnTo>
                  <a:pt x="1061" y="824"/>
                </a:lnTo>
                <a:lnTo>
                  <a:pt x="1051" y="8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25"/>
          <p:cNvSpPr/>
          <p:nvPr/>
        </p:nvSpPr>
        <p:spPr>
          <a:xfrm>
            <a:off x="6648480" y="2787480"/>
            <a:ext cx="183960" cy="1295640"/>
          </a:xfrm>
          <a:custGeom>
            <a:avLst/>
            <a:gdLst/>
            <a:ahLst/>
            <a:rect l="l" t="t" r="r" b="b"/>
            <a:pathLst>
              <a:path w="232" h="1631">
                <a:moveTo>
                  <a:pt x="142" y="1631"/>
                </a:moveTo>
                <a:lnTo>
                  <a:pt x="140" y="1631"/>
                </a:lnTo>
                <a:lnTo>
                  <a:pt x="138" y="1631"/>
                </a:lnTo>
                <a:lnTo>
                  <a:pt x="136" y="1629"/>
                </a:lnTo>
                <a:lnTo>
                  <a:pt x="133" y="1627"/>
                </a:lnTo>
                <a:lnTo>
                  <a:pt x="129" y="1624"/>
                </a:lnTo>
                <a:lnTo>
                  <a:pt x="123" y="1616"/>
                </a:lnTo>
                <a:lnTo>
                  <a:pt x="117" y="1608"/>
                </a:lnTo>
                <a:lnTo>
                  <a:pt x="110" y="1599"/>
                </a:lnTo>
                <a:lnTo>
                  <a:pt x="102" y="1587"/>
                </a:lnTo>
                <a:lnTo>
                  <a:pt x="94" y="1574"/>
                </a:lnTo>
                <a:lnTo>
                  <a:pt x="90" y="1566"/>
                </a:lnTo>
                <a:lnTo>
                  <a:pt x="87" y="1556"/>
                </a:lnTo>
                <a:lnTo>
                  <a:pt x="85" y="1552"/>
                </a:lnTo>
                <a:lnTo>
                  <a:pt x="83" y="1547"/>
                </a:lnTo>
                <a:lnTo>
                  <a:pt x="81" y="1539"/>
                </a:lnTo>
                <a:lnTo>
                  <a:pt x="79" y="1533"/>
                </a:lnTo>
                <a:lnTo>
                  <a:pt x="77" y="1526"/>
                </a:lnTo>
                <a:lnTo>
                  <a:pt x="75" y="1518"/>
                </a:lnTo>
                <a:lnTo>
                  <a:pt x="75" y="1508"/>
                </a:lnTo>
                <a:lnTo>
                  <a:pt x="73" y="1501"/>
                </a:lnTo>
                <a:lnTo>
                  <a:pt x="71" y="1491"/>
                </a:lnTo>
                <a:lnTo>
                  <a:pt x="71" y="1481"/>
                </a:lnTo>
                <a:lnTo>
                  <a:pt x="69" y="1472"/>
                </a:lnTo>
                <a:lnTo>
                  <a:pt x="69" y="1460"/>
                </a:lnTo>
                <a:lnTo>
                  <a:pt x="67" y="1449"/>
                </a:lnTo>
                <a:lnTo>
                  <a:pt x="67" y="1437"/>
                </a:lnTo>
                <a:lnTo>
                  <a:pt x="67" y="1424"/>
                </a:lnTo>
                <a:lnTo>
                  <a:pt x="65" y="1412"/>
                </a:lnTo>
                <a:lnTo>
                  <a:pt x="65" y="1399"/>
                </a:lnTo>
                <a:lnTo>
                  <a:pt x="65" y="1385"/>
                </a:lnTo>
                <a:lnTo>
                  <a:pt x="65" y="1370"/>
                </a:lnTo>
                <a:lnTo>
                  <a:pt x="65" y="1355"/>
                </a:lnTo>
                <a:lnTo>
                  <a:pt x="65" y="1339"/>
                </a:lnTo>
                <a:lnTo>
                  <a:pt x="65" y="1324"/>
                </a:lnTo>
                <a:lnTo>
                  <a:pt x="65" y="1307"/>
                </a:lnTo>
                <a:lnTo>
                  <a:pt x="67" y="1291"/>
                </a:lnTo>
                <a:lnTo>
                  <a:pt x="67" y="1272"/>
                </a:lnTo>
                <a:lnTo>
                  <a:pt x="67" y="1255"/>
                </a:lnTo>
                <a:lnTo>
                  <a:pt x="69" y="1236"/>
                </a:lnTo>
                <a:lnTo>
                  <a:pt x="71" y="1217"/>
                </a:lnTo>
                <a:lnTo>
                  <a:pt x="73" y="1180"/>
                </a:lnTo>
                <a:lnTo>
                  <a:pt x="75" y="1142"/>
                </a:lnTo>
                <a:lnTo>
                  <a:pt x="75" y="1105"/>
                </a:lnTo>
                <a:lnTo>
                  <a:pt x="77" y="1067"/>
                </a:lnTo>
                <a:lnTo>
                  <a:pt x="79" y="988"/>
                </a:lnTo>
                <a:lnTo>
                  <a:pt x="81" y="908"/>
                </a:lnTo>
                <a:lnTo>
                  <a:pt x="81" y="825"/>
                </a:lnTo>
                <a:lnTo>
                  <a:pt x="83" y="742"/>
                </a:lnTo>
                <a:lnTo>
                  <a:pt x="83" y="658"/>
                </a:lnTo>
                <a:lnTo>
                  <a:pt x="83" y="574"/>
                </a:lnTo>
                <a:lnTo>
                  <a:pt x="83" y="533"/>
                </a:lnTo>
                <a:lnTo>
                  <a:pt x="81" y="495"/>
                </a:lnTo>
                <a:lnTo>
                  <a:pt x="81" y="458"/>
                </a:lnTo>
                <a:lnTo>
                  <a:pt x="81" y="424"/>
                </a:lnTo>
                <a:lnTo>
                  <a:pt x="79" y="391"/>
                </a:lnTo>
                <a:lnTo>
                  <a:pt x="77" y="360"/>
                </a:lnTo>
                <a:lnTo>
                  <a:pt x="77" y="332"/>
                </a:lnTo>
                <a:lnTo>
                  <a:pt x="75" y="305"/>
                </a:lnTo>
                <a:lnTo>
                  <a:pt x="73" y="280"/>
                </a:lnTo>
                <a:lnTo>
                  <a:pt x="71" y="257"/>
                </a:lnTo>
                <a:lnTo>
                  <a:pt x="69" y="236"/>
                </a:lnTo>
                <a:lnTo>
                  <a:pt x="67" y="217"/>
                </a:lnTo>
                <a:lnTo>
                  <a:pt x="65" y="199"/>
                </a:lnTo>
                <a:lnTo>
                  <a:pt x="64" y="184"/>
                </a:lnTo>
                <a:lnTo>
                  <a:pt x="60" y="170"/>
                </a:lnTo>
                <a:lnTo>
                  <a:pt x="58" y="159"/>
                </a:lnTo>
                <a:lnTo>
                  <a:pt x="50" y="142"/>
                </a:lnTo>
                <a:lnTo>
                  <a:pt x="42" y="126"/>
                </a:lnTo>
                <a:lnTo>
                  <a:pt x="35" y="111"/>
                </a:lnTo>
                <a:lnTo>
                  <a:pt x="29" y="97"/>
                </a:lnTo>
                <a:lnTo>
                  <a:pt x="23" y="86"/>
                </a:lnTo>
                <a:lnTo>
                  <a:pt x="19" y="74"/>
                </a:lnTo>
                <a:lnTo>
                  <a:pt x="14" y="63"/>
                </a:lnTo>
                <a:lnTo>
                  <a:pt x="10" y="55"/>
                </a:lnTo>
                <a:lnTo>
                  <a:pt x="6" y="46"/>
                </a:lnTo>
                <a:lnTo>
                  <a:pt x="4" y="40"/>
                </a:lnTo>
                <a:lnTo>
                  <a:pt x="2" y="32"/>
                </a:lnTo>
                <a:lnTo>
                  <a:pt x="0" y="26"/>
                </a:lnTo>
                <a:lnTo>
                  <a:pt x="2" y="23"/>
                </a:lnTo>
                <a:lnTo>
                  <a:pt x="4" y="17"/>
                </a:lnTo>
                <a:lnTo>
                  <a:pt x="6" y="13"/>
                </a:lnTo>
                <a:lnTo>
                  <a:pt x="10" y="9"/>
                </a:lnTo>
                <a:lnTo>
                  <a:pt x="16" y="5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41" y="0"/>
                </a:lnTo>
                <a:lnTo>
                  <a:pt x="46" y="0"/>
                </a:lnTo>
                <a:lnTo>
                  <a:pt x="52" y="0"/>
                </a:lnTo>
                <a:lnTo>
                  <a:pt x="60" y="2"/>
                </a:lnTo>
                <a:lnTo>
                  <a:pt x="67" y="2"/>
                </a:lnTo>
                <a:lnTo>
                  <a:pt x="75" y="3"/>
                </a:lnTo>
                <a:lnTo>
                  <a:pt x="85" y="5"/>
                </a:lnTo>
                <a:lnTo>
                  <a:pt x="96" y="5"/>
                </a:lnTo>
                <a:lnTo>
                  <a:pt x="106" y="9"/>
                </a:lnTo>
                <a:lnTo>
                  <a:pt x="123" y="13"/>
                </a:lnTo>
                <a:lnTo>
                  <a:pt x="140" y="19"/>
                </a:lnTo>
                <a:lnTo>
                  <a:pt x="156" y="25"/>
                </a:lnTo>
                <a:lnTo>
                  <a:pt x="169" y="32"/>
                </a:lnTo>
                <a:lnTo>
                  <a:pt x="183" y="38"/>
                </a:lnTo>
                <a:lnTo>
                  <a:pt x="194" y="44"/>
                </a:lnTo>
                <a:lnTo>
                  <a:pt x="206" y="50"/>
                </a:lnTo>
                <a:lnTo>
                  <a:pt x="215" y="55"/>
                </a:lnTo>
                <a:lnTo>
                  <a:pt x="217" y="57"/>
                </a:lnTo>
                <a:lnTo>
                  <a:pt x="219" y="61"/>
                </a:lnTo>
                <a:lnTo>
                  <a:pt x="221" y="65"/>
                </a:lnTo>
                <a:lnTo>
                  <a:pt x="223" y="69"/>
                </a:lnTo>
                <a:lnTo>
                  <a:pt x="225" y="74"/>
                </a:lnTo>
                <a:lnTo>
                  <a:pt x="227" y="80"/>
                </a:lnTo>
                <a:lnTo>
                  <a:pt x="227" y="88"/>
                </a:lnTo>
                <a:lnTo>
                  <a:pt x="229" y="96"/>
                </a:lnTo>
                <a:lnTo>
                  <a:pt x="231" y="105"/>
                </a:lnTo>
                <a:lnTo>
                  <a:pt x="231" y="113"/>
                </a:lnTo>
                <a:lnTo>
                  <a:pt x="231" y="124"/>
                </a:lnTo>
                <a:lnTo>
                  <a:pt x="232" y="134"/>
                </a:lnTo>
                <a:lnTo>
                  <a:pt x="232" y="145"/>
                </a:lnTo>
                <a:lnTo>
                  <a:pt x="232" y="159"/>
                </a:lnTo>
                <a:lnTo>
                  <a:pt x="232" y="172"/>
                </a:lnTo>
                <a:lnTo>
                  <a:pt x="232" y="186"/>
                </a:lnTo>
                <a:lnTo>
                  <a:pt x="232" y="201"/>
                </a:lnTo>
                <a:lnTo>
                  <a:pt x="232" y="217"/>
                </a:lnTo>
                <a:lnTo>
                  <a:pt x="232" y="232"/>
                </a:lnTo>
                <a:lnTo>
                  <a:pt x="232" y="249"/>
                </a:lnTo>
                <a:lnTo>
                  <a:pt x="231" y="266"/>
                </a:lnTo>
                <a:lnTo>
                  <a:pt x="231" y="286"/>
                </a:lnTo>
                <a:lnTo>
                  <a:pt x="229" y="305"/>
                </a:lnTo>
                <a:lnTo>
                  <a:pt x="229" y="324"/>
                </a:lnTo>
                <a:lnTo>
                  <a:pt x="227" y="345"/>
                </a:lnTo>
                <a:lnTo>
                  <a:pt x="227" y="368"/>
                </a:lnTo>
                <a:lnTo>
                  <a:pt x="225" y="389"/>
                </a:lnTo>
                <a:lnTo>
                  <a:pt x="223" y="414"/>
                </a:lnTo>
                <a:lnTo>
                  <a:pt x="221" y="437"/>
                </a:lnTo>
                <a:lnTo>
                  <a:pt x="219" y="462"/>
                </a:lnTo>
                <a:lnTo>
                  <a:pt x="217" y="489"/>
                </a:lnTo>
                <a:lnTo>
                  <a:pt x="215" y="516"/>
                </a:lnTo>
                <a:lnTo>
                  <a:pt x="211" y="568"/>
                </a:lnTo>
                <a:lnTo>
                  <a:pt x="207" y="622"/>
                </a:lnTo>
                <a:lnTo>
                  <a:pt x="204" y="675"/>
                </a:lnTo>
                <a:lnTo>
                  <a:pt x="200" y="727"/>
                </a:lnTo>
                <a:lnTo>
                  <a:pt x="196" y="777"/>
                </a:lnTo>
                <a:lnTo>
                  <a:pt x="194" y="827"/>
                </a:lnTo>
                <a:lnTo>
                  <a:pt x="190" y="877"/>
                </a:lnTo>
                <a:lnTo>
                  <a:pt x="188" y="927"/>
                </a:lnTo>
                <a:lnTo>
                  <a:pt x="186" y="975"/>
                </a:lnTo>
                <a:lnTo>
                  <a:pt x="184" y="1023"/>
                </a:lnTo>
                <a:lnTo>
                  <a:pt x="183" y="1069"/>
                </a:lnTo>
                <a:lnTo>
                  <a:pt x="181" y="1113"/>
                </a:lnTo>
                <a:lnTo>
                  <a:pt x="181" y="1159"/>
                </a:lnTo>
                <a:lnTo>
                  <a:pt x="179" y="1201"/>
                </a:lnTo>
                <a:lnTo>
                  <a:pt x="179" y="1245"/>
                </a:lnTo>
                <a:lnTo>
                  <a:pt x="179" y="1286"/>
                </a:lnTo>
                <a:lnTo>
                  <a:pt x="177" y="1307"/>
                </a:lnTo>
                <a:lnTo>
                  <a:pt x="177" y="1326"/>
                </a:lnTo>
                <a:lnTo>
                  <a:pt x="175" y="1345"/>
                </a:lnTo>
                <a:lnTo>
                  <a:pt x="175" y="1362"/>
                </a:lnTo>
                <a:lnTo>
                  <a:pt x="173" y="1382"/>
                </a:lnTo>
                <a:lnTo>
                  <a:pt x="173" y="1399"/>
                </a:lnTo>
                <a:lnTo>
                  <a:pt x="171" y="1414"/>
                </a:lnTo>
                <a:lnTo>
                  <a:pt x="169" y="1432"/>
                </a:lnTo>
                <a:lnTo>
                  <a:pt x="169" y="1447"/>
                </a:lnTo>
                <a:lnTo>
                  <a:pt x="167" y="1460"/>
                </a:lnTo>
                <a:lnTo>
                  <a:pt x="167" y="1476"/>
                </a:lnTo>
                <a:lnTo>
                  <a:pt x="165" y="1489"/>
                </a:lnTo>
                <a:lnTo>
                  <a:pt x="165" y="1501"/>
                </a:lnTo>
                <a:lnTo>
                  <a:pt x="163" y="1514"/>
                </a:lnTo>
                <a:lnTo>
                  <a:pt x="161" y="1526"/>
                </a:lnTo>
                <a:lnTo>
                  <a:pt x="161" y="1537"/>
                </a:lnTo>
                <a:lnTo>
                  <a:pt x="160" y="1547"/>
                </a:lnTo>
                <a:lnTo>
                  <a:pt x="160" y="1556"/>
                </a:lnTo>
                <a:lnTo>
                  <a:pt x="158" y="1566"/>
                </a:lnTo>
                <a:lnTo>
                  <a:pt x="156" y="1576"/>
                </a:lnTo>
                <a:lnTo>
                  <a:pt x="156" y="1583"/>
                </a:lnTo>
                <a:lnTo>
                  <a:pt x="154" y="1591"/>
                </a:lnTo>
                <a:lnTo>
                  <a:pt x="154" y="1597"/>
                </a:lnTo>
                <a:lnTo>
                  <a:pt x="152" y="1604"/>
                </a:lnTo>
                <a:lnTo>
                  <a:pt x="150" y="1608"/>
                </a:lnTo>
                <a:lnTo>
                  <a:pt x="150" y="1614"/>
                </a:lnTo>
                <a:lnTo>
                  <a:pt x="148" y="1618"/>
                </a:lnTo>
                <a:lnTo>
                  <a:pt x="148" y="1622"/>
                </a:lnTo>
                <a:lnTo>
                  <a:pt x="146" y="1625"/>
                </a:lnTo>
                <a:lnTo>
                  <a:pt x="144" y="1627"/>
                </a:lnTo>
                <a:lnTo>
                  <a:pt x="144" y="1631"/>
                </a:lnTo>
                <a:lnTo>
                  <a:pt x="142" y="16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26"/>
          <p:cNvSpPr/>
          <p:nvPr/>
        </p:nvSpPr>
        <p:spPr>
          <a:xfrm>
            <a:off x="6537240" y="3735360"/>
            <a:ext cx="482760" cy="104760"/>
          </a:xfrm>
          <a:custGeom>
            <a:avLst/>
            <a:gdLst/>
            <a:ahLst/>
            <a:rect l="l" t="t" r="r" b="b"/>
            <a:pathLst>
              <a:path w="609" h="132">
                <a:moveTo>
                  <a:pt x="561" y="80"/>
                </a:moveTo>
                <a:lnTo>
                  <a:pt x="553" y="82"/>
                </a:lnTo>
                <a:lnTo>
                  <a:pt x="545" y="86"/>
                </a:lnTo>
                <a:lnTo>
                  <a:pt x="534" y="88"/>
                </a:lnTo>
                <a:lnTo>
                  <a:pt x="522" y="90"/>
                </a:lnTo>
                <a:lnTo>
                  <a:pt x="509" y="92"/>
                </a:lnTo>
                <a:lnTo>
                  <a:pt x="495" y="94"/>
                </a:lnTo>
                <a:lnTo>
                  <a:pt x="478" y="96"/>
                </a:lnTo>
                <a:lnTo>
                  <a:pt x="461" y="97"/>
                </a:lnTo>
                <a:lnTo>
                  <a:pt x="442" y="99"/>
                </a:lnTo>
                <a:lnTo>
                  <a:pt x="422" y="101"/>
                </a:lnTo>
                <a:lnTo>
                  <a:pt x="399" y="105"/>
                </a:lnTo>
                <a:lnTo>
                  <a:pt x="376" y="107"/>
                </a:lnTo>
                <a:lnTo>
                  <a:pt x="353" y="109"/>
                </a:lnTo>
                <a:lnTo>
                  <a:pt x="326" y="111"/>
                </a:lnTo>
                <a:lnTo>
                  <a:pt x="300" y="113"/>
                </a:lnTo>
                <a:lnTo>
                  <a:pt x="271" y="115"/>
                </a:lnTo>
                <a:lnTo>
                  <a:pt x="242" y="119"/>
                </a:lnTo>
                <a:lnTo>
                  <a:pt x="215" y="122"/>
                </a:lnTo>
                <a:lnTo>
                  <a:pt x="188" y="126"/>
                </a:lnTo>
                <a:lnTo>
                  <a:pt x="165" y="128"/>
                </a:lnTo>
                <a:lnTo>
                  <a:pt x="142" y="130"/>
                </a:lnTo>
                <a:lnTo>
                  <a:pt x="121" y="132"/>
                </a:lnTo>
                <a:lnTo>
                  <a:pt x="102" y="132"/>
                </a:lnTo>
                <a:lnTo>
                  <a:pt x="83" y="132"/>
                </a:lnTo>
                <a:lnTo>
                  <a:pt x="67" y="132"/>
                </a:lnTo>
                <a:lnTo>
                  <a:pt x="52" y="132"/>
                </a:lnTo>
                <a:lnTo>
                  <a:pt x="40" y="130"/>
                </a:lnTo>
                <a:lnTo>
                  <a:pt x="29" y="128"/>
                </a:lnTo>
                <a:lnTo>
                  <a:pt x="19" y="126"/>
                </a:lnTo>
                <a:lnTo>
                  <a:pt x="14" y="122"/>
                </a:lnTo>
                <a:lnTo>
                  <a:pt x="10" y="120"/>
                </a:lnTo>
                <a:lnTo>
                  <a:pt x="8" y="119"/>
                </a:lnTo>
                <a:lnTo>
                  <a:pt x="6" y="117"/>
                </a:lnTo>
                <a:lnTo>
                  <a:pt x="4" y="115"/>
                </a:lnTo>
                <a:lnTo>
                  <a:pt x="2" y="113"/>
                </a:lnTo>
                <a:lnTo>
                  <a:pt x="0" y="111"/>
                </a:lnTo>
                <a:lnTo>
                  <a:pt x="0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1"/>
                </a:lnTo>
                <a:lnTo>
                  <a:pt x="0" y="99"/>
                </a:lnTo>
                <a:lnTo>
                  <a:pt x="2" y="97"/>
                </a:lnTo>
                <a:lnTo>
                  <a:pt x="4" y="96"/>
                </a:lnTo>
                <a:lnTo>
                  <a:pt x="8" y="94"/>
                </a:lnTo>
                <a:lnTo>
                  <a:pt x="10" y="92"/>
                </a:lnTo>
                <a:lnTo>
                  <a:pt x="14" y="88"/>
                </a:lnTo>
                <a:lnTo>
                  <a:pt x="17" y="86"/>
                </a:lnTo>
                <a:lnTo>
                  <a:pt x="23" y="84"/>
                </a:lnTo>
                <a:lnTo>
                  <a:pt x="27" y="82"/>
                </a:lnTo>
                <a:lnTo>
                  <a:pt x="33" y="80"/>
                </a:lnTo>
                <a:lnTo>
                  <a:pt x="40" y="76"/>
                </a:lnTo>
                <a:lnTo>
                  <a:pt x="46" y="74"/>
                </a:lnTo>
                <a:lnTo>
                  <a:pt x="54" y="72"/>
                </a:lnTo>
                <a:lnTo>
                  <a:pt x="62" y="69"/>
                </a:lnTo>
                <a:lnTo>
                  <a:pt x="69" y="67"/>
                </a:lnTo>
                <a:lnTo>
                  <a:pt x="79" y="65"/>
                </a:lnTo>
                <a:lnTo>
                  <a:pt x="88" y="61"/>
                </a:lnTo>
                <a:lnTo>
                  <a:pt x="98" y="59"/>
                </a:lnTo>
                <a:lnTo>
                  <a:pt x="109" y="55"/>
                </a:lnTo>
                <a:lnTo>
                  <a:pt x="119" y="53"/>
                </a:lnTo>
                <a:lnTo>
                  <a:pt x="133" y="49"/>
                </a:lnTo>
                <a:lnTo>
                  <a:pt x="144" y="48"/>
                </a:lnTo>
                <a:lnTo>
                  <a:pt x="157" y="44"/>
                </a:lnTo>
                <a:lnTo>
                  <a:pt x="169" y="42"/>
                </a:lnTo>
                <a:lnTo>
                  <a:pt x="184" y="38"/>
                </a:lnTo>
                <a:lnTo>
                  <a:pt x="198" y="34"/>
                </a:lnTo>
                <a:lnTo>
                  <a:pt x="225" y="30"/>
                </a:lnTo>
                <a:lnTo>
                  <a:pt x="252" y="26"/>
                </a:lnTo>
                <a:lnTo>
                  <a:pt x="276" y="23"/>
                </a:lnTo>
                <a:lnTo>
                  <a:pt x="300" y="19"/>
                </a:lnTo>
                <a:lnTo>
                  <a:pt x="323" y="17"/>
                </a:lnTo>
                <a:lnTo>
                  <a:pt x="346" y="13"/>
                </a:lnTo>
                <a:lnTo>
                  <a:pt x="367" y="11"/>
                </a:lnTo>
                <a:lnTo>
                  <a:pt x="388" y="9"/>
                </a:lnTo>
                <a:lnTo>
                  <a:pt x="407" y="7"/>
                </a:lnTo>
                <a:lnTo>
                  <a:pt x="424" y="5"/>
                </a:lnTo>
                <a:lnTo>
                  <a:pt x="442" y="3"/>
                </a:lnTo>
                <a:lnTo>
                  <a:pt x="459" y="1"/>
                </a:lnTo>
                <a:lnTo>
                  <a:pt x="472" y="1"/>
                </a:lnTo>
                <a:lnTo>
                  <a:pt x="488" y="1"/>
                </a:lnTo>
                <a:lnTo>
                  <a:pt x="501" y="0"/>
                </a:lnTo>
                <a:lnTo>
                  <a:pt x="513" y="0"/>
                </a:lnTo>
                <a:lnTo>
                  <a:pt x="524" y="0"/>
                </a:lnTo>
                <a:lnTo>
                  <a:pt x="534" y="1"/>
                </a:lnTo>
                <a:lnTo>
                  <a:pt x="543" y="1"/>
                </a:lnTo>
                <a:lnTo>
                  <a:pt x="553" y="1"/>
                </a:lnTo>
                <a:lnTo>
                  <a:pt x="561" y="3"/>
                </a:lnTo>
                <a:lnTo>
                  <a:pt x="570" y="3"/>
                </a:lnTo>
                <a:lnTo>
                  <a:pt x="576" y="5"/>
                </a:lnTo>
                <a:lnTo>
                  <a:pt x="584" y="7"/>
                </a:lnTo>
                <a:lnTo>
                  <a:pt x="589" y="9"/>
                </a:lnTo>
                <a:lnTo>
                  <a:pt x="595" y="11"/>
                </a:lnTo>
                <a:lnTo>
                  <a:pt x="599" y="13"/>
                </a:lnTo>
                <a:lnTo>
                  <a:pt x="603" y="15"/>
                </a:lnTo>
                <a:lnTo>
                  <a:pt x="605" y="17"/>
                </a:lnTo>
                <a:lnTo>
                  <a:pt x="607" y="19"/>
                </a:lnTo>
                <a:lnTo>
                  <a:pt x="609" y="21"/>
                </a:lnTo>
                <a:lnTo>
                  <a:pt x="609" y="23"/>
                </a:lnTo>
                <a:lnTo>
                  <a:pt x="609" y="32"/>
                </a:lnTo>
                <a:lnTo>
                  <a:pt x="607" y="40"/>
                </a:lnTo>
                <a:lnTo>
                  <a:pt x="603" y="48"/>
                </a:lnTo>
                <a:lnTo>
                  <a:pt x="599" y="57"/>
                </a:lnTo>
                <a:lnTo>
                  <a:pt x="591" y="63"/>
                </a:lnTo>
                <a:lnTo>
                  <a:pt x="587" y="67"/>
                </a:lnTo>
                <a:lnTo>
                  <a:pt x="584" y="71"/>
                </a:lnTo>
                <a:lnTo>
                  <a:pt x="578" y="72"/>
                </a:lnTo>
                <a:lnTo>
                  <a:pt x="574" y="76"/>
                </a:lnTo>
                <a:lnTo>
                  <a:pt x="566" y="78"/>
                </a:lnTo>
                <a:lnTo>
                  <a:pt x="561" y="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27"/>
          <p:cNvSpPr/>
          <p:nvPr/>
        </p:nvSpPr>
        <p:spPr>
          <a:xfrm>
            <a:off x="6512040" y="3524400"/>
            <a:ext cx="488880" cy="133200"/>
          </a:xfrm>
          <a:custGeom>
            <a:avLst/>
            <a:gdLst/>
            <a:ahLst/>
            <a:rect l="l" t="t" r="r" b="b"/>
            <a:pathLst>
              <a:path w="617" h="167">
                <a:moveTo>
                  <a:pt x="375" y="138"/>
                </a:moveTo>
                <a:lnTo>
                  <a:pt x="346" y="142"/>
                </a:lnTo>
                <a:lnTo>
                  <a:pt x="317" y="147"/>
                </a:lnTo>
                <a:lnTo>
                  <a:pt x="290" y="149"/>
                </a:lnTo>
                <a:lnTo>
                  <a:pt x="265" y="153"/>
                </a:lnTo>
                <a:lnTo>
                  <a:pt x="242" y="157"/>
                </a:lnTo>
                <a:lnTo>
                  <a:pt x="219" y="159"/>
                </a:lnTo>
                <a:lnTo>
                  <a:pt x="198" y="161"/>
                </a:lnTo>
                <a:lnTo>
                  <a:pt x="177" y="163"/>
                </a:lnTo>
                <a:lnTo>
                  <a:pt x="160" y="165"/>
                </a:lnTo>
                <a:lnTo>
                  <a:pt x="142" y="165"/>
                </a:lnTo>
                <a:lnTo>
                  <a:pt x="127" y="167"/>
                </a:lnTo>
                <a:lnTo>
                  <a:pt x="112" y="167"/>
                </a:lnTo>
                <a:lnTo>
                  <a:pt x="100" y="167"/>
                </a:lnTo>
                <a:lnTo>
                  <a:pt x="89" y="165"/>
                </a:lnTo>
                <a:lnTo>
                  <a:pt x="79" y="163"/>
                </a:lnTo>
                <a:lnTo>
                  <a:pt x="71" y="161"/>
                </a:lnTo>
                <a:lnTo>
                  <a:pt x="64" y="159"/>
                </a:lnTo>
                <a:lnTo>
                  <a:pt x="54" y="157"/>
                </a:lnTo>
                <a:lnTo>
                  <a:pt x="46" y="155"/>
                </a:lnTo>
                <a:lnTo>
                  <a:pt x="41" y="153"/>
                </a:lnTo>
                <a:lnTo>
                  <a:pt x="33" y="149"/>
                </a:lnTo>
                <a:lnTo>
                  <a:pt x="27" y="147"/>
                </a:lnTo>
                <a:lnTo>
                  <a:pt x="21" y="144"/>
                </a:lnTo>
                <a:lnTo>
                  <a:pt x="18" y="142"/>
                </a:lnTo>
                <a:lnTo>
                  <a:pt x="14" y="138"/>
                </a:lnTo>
                <a:lnTo>
                  <a:pt x="10" y="134"/>
                </a:lnTo>
                <a:lnTo>
                  <a:pt x="6" y="130"/>
                </a:lnTo>
                <a:lnTo>
                  <a:pt x="4" y="126"/>
                </a:lnTo>
                <a:lnTo>
                  <a:pt x="2" y="121"/>
                </a:lnTo>
                <a:lnTo>
                  <a:pt x="0" y="115"/>
                </a:lnTo>
                <a:lnTo>
                  <a:pt x="0" y="111"/>
                </a:lnTo>
                <a:lnTo>
                  <a:pt x="0" y="103"/>
                </a:lnTo>
                <a:lnTo>
                  <a:pt x="25" y="98"/>
                </a:lnTo>
                <a:lnTo>
                  <a:pt x="50" y="94"/>
                </a:lnTo>
                <a:lnTo>
                  <a:pt x="75" y="88"/>
                </a:lnTo>
                <a:lnTo>
                  <a:pt x="98" y="82"/>
                </a:lnTo>
                <a:lnTo>
                  <a:pt x="123" y="78"/>
                </a:lnTo>
                <a:lnTo>
                  <a:pt x="146" y="73"/>
                </a:lnTo>
                <a:lnTo>
                  <a:pt x="167" y="69"/>
                </a:lnTo>
                <a:lnTo>
                  <a:pt x="188" y="65"/>
                </a:lnTo>
                <a:lnTo>
                  <a:pt x="210" y="61"/>
                </a:lnTo>
                <a:lnTo>
                  <a:pt x="231" y="55"/>
                </a:lnTo>
                <a:lnTo>
                  <a:pt x="250" y="51"/>
                </a:lnTo>
                <a:lnTo>
                  <a:pt x="269" y="48"/>
                </a:lnTo>
                <a:lnTo>
                  <a:pt x="288" y="46"/>
                </a:lnTo>
                <a:lnTo>
                  <a:pt x="307" y="42"/>
                </a:lnTo>
                <a:lnTo>
                  <a:pt x="325" y="38"/>
                </a:lnTo>
                <a:lnTo>
                  <a:pt x="340" y="34"/>
                </a:lnTo>
                <a:lnTo>
                  <a:pt x="357" y="32"/>
                </a:lnTo>
                <a:lnTo>
                  <a:pt x="373" y="28"/>
                </a:lnTo>
                <a:lnTo>
                  <a:pt x="388" y="25"/>
                </a:lnTo>
                <a:lnTo>
                  <a:pt x="402" y="23"/>
                </a:lnTo>
                <a:lnTo>
                  <a:pt x="415" y="21"/>
                </a:lnTo>
                <a:lnTo>
                  <a:pt x="428" y="17"/>
                </a:lnTo>
                <a:lnTo>
                  <a:pt x="440" y="15"/>
                </a:lnTo>
                <a:lnTo>
                  <a:pt x="451" y="13"/>
                </a:lnTo>
                <a:lnTo>
                  <a:pt x="463" y="11"/>
                </a:lnTo>
                <a:lnTo>
                  <a:pt x="473" y="9"/>
                </a:lnTo>
                <a:lnTo>
                  <a:pt x="482" y="7"/>
                </a:lnTo>
                <a:lnTo>
                  <a:pt x="492" y="5"/>
                </a:lnTo>
                <a:lnTo>
                  <a:pt x="499" y="3"/>
                </a:lnTo>
                <a:lnTo>
                  <a:pt x="507" y="3"/>
                </a:lnTo>
                <a:lnTo>
                  <a:pt x="513" y="2"/>
                </a:lnTo>
                <a:lnTo>
                  <a:pt x="519" y="0"/>
                </a:lnTo>
                <a:lnTo>
                  <a:pt x="530" y="0"/>
                </a:lnTo>
                <a:lnTo>
                  <a:pt x="540" y="2"/>
                </a:lnTo>
                <a:lnTo>
                  <a:pt x="551" y="2"/>
                </a:lnTo>
                <a:lnTo>
                  <a:pt x="559" y="2"/>
                </a:lnTo>
                <a:lnTo>
                  <a:pt x="569" y="3"/>
                </a:lnTo>
                <a:lnTo>
                  <a:pt x="576" y="5"/>
                </a:lnTo>
                <a:lnTo>
                  <a:pt x="584" y="7"/>
                </a:lnTo>
                <a:lnTo>
                  <a:pt x="590" y="11"/>
                </a:lnTo>
                <a:lnTo>
                  <a:pt x="595" y="13"/>
                </a:lnTo>
                <a:lnTo>
                  <a:pt x="601" y="17"/>
                </a:lnTo>
                <a:lnTo>
                  <a:pt x="605" y="21"/>
                </a:lnTo>
                <a:lnTo>
                  <a:pt x="609" y="25"/>
                </a:lnTo>
                <a:lnTo>
                  <a:pt x="613" y="28"/>
                </a:lnTo>
                <a:lnTo>
                  <a:pt x="615" y="34"/>
                </a:lnTo>
                <a:lnTo>
                  <a:pt x="617" y="40"/>
                </a:lnTo>
                <a:lnTo>
                  <a:pt x="617" y="46"/>
                </a:lnTo>
                <a:lnTo>
                  <a:pt x="617" y="50"/>
                </a:lnTo>
                <a:lnTo>
                  <a:pt x="615" y="53"/>
                </a:lnTo>
                <a:lnTo>
                  <a:pt x="615" y="55"/>
                </a:lnTo>
                <a:lnTo>
                  <a:pt x="613" y="59"/>
                </a:lnTo>
                <a:lnTo>
                  <a:pt x="611" y="61"/>
                </a:lnTo>
                <a:lnTo>
                  <a:pt x="607" y="65"/>
                </a:lnTo>
                <a:lnTo>
                  <a:pt x="603" y="67"/>
                </a:lnTo>
                <a:lnTo>
                  <a:pt x="601" y="71"/>
                </a:lnTo>
                <a:lnTo>
                  <a:pt x="592" y="76"/>
                </a:lnTo>
                <a:lnTo>
                  <a:pt x="580" y="82"/>
                </a:lnTo>
                <a:lnTo>
                  <a:pt x="569" y="86"/>
                </a:lnTo>
                <a:lnTo>
                  <a:pt x="553" y="92"/>
                </a:lnTo>
                <a:lnTo>
                  <a:pt x="538" y="98"/>
                </a:lnTo>
                <a:lnTo>
                  <a:pt x="521" y="103"/>
                </a:lnTo>
                <a:lnTo>
                  <a:pt x="499" y="109"/>
                </a:lnTo>
                <a:lnTo>
                  <a:pt x="478" y="115"/>
                </a:lnTo>
                <a:lnTo>
                  <a:pt x="455" y="121"/>
                </a:lnTo>
                <a:lnTo>
                  <a:pt x="430" y="126"/>
                </a:lnTo>
                <a:lnTo>
                  <a:pt x="403" y="132"/>
                </a:lnTo>
                <a:lnTo>
                  <a:pt x="375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28"/>
          <p:cNvSpPr/>
          <p:nvPr/>
        </p:nvSpPr>
        <p:spPr>
          <a:xfrm>
            <a:off x="6248520" y="3400560"/>
            <a:ext cx="214200" cy="645840"/>
          </a:xfrm>
          <a:custGeom>
            <a:avLst/>
            <a:gdLst/>
            <a:ahLst/>
            <a:rect l="l" t="t" r="r" b="b"/>
            <a:pathLst>
              <a:path w="271" h="814">
                <a:moveTo>
                  <a:pt x="29" y="79"/>
                </a:moveTo>
                <a:lnTo>
                  <a:pt x="23" y="71"/>
                </a:lnTo>
                <a:lnTo>
                  <a:pt x="18" y="66"/>
                </a:lnTo>
                <a:lnTo>
                  <a:pt x="12" y="60"/>
                </a:lnTo>
                <a:lnTo>
                  <a:pt x="8" y="54"/>
                </a:lnTo>
                <a:lnTo>
                  <a:pt x="6" y="48"/>
                </a:lnTo>
                <a:lnTo>
                  <a:pt x="4" y="44"/>
                </a:lnTo>
                <a:lnTo>
                  <a:pt x="2" y="39"/>
                </a:lnTo>
                <a:lnTo>
                  <a:pt x="0" y="35"/>
                </a:lnTo>
                <a:lnTo>
                  <a:pt x="0" y="31"/>
                </a:lnTo>
                <a:lnTo>
                  <a:pt x="0" y="27"/>
                </a:lnTo>
                <a:lnTo>
                  <a:pt x="2" y="23"/>
                </a:lnTo>
                <a:lnTo>
                  <a:pt x="4" y="19"/>
                </a:lnTo>
                <a:lnTo>
                  <a:pt x="6" y="18"/>
                </a:lnTo>
                <a:lnTo>
                  <a:pt x="10" y="14"/>
                </a:lnTo>
                <a:lnTo>
                  <a:pt x="14" y="12"/>
                </a:lnTo>
                <a:lnTo>
                  <a:pt x="18" y="10"/>
                </a:lnTo>
                <a:lnTo>
                  <a:pt x="27" y="4"/>
                </a:lnTo>
                <a:lnTo>
                  <a:pt x="37" y="2"/>
                </a:lnTo>
                <a:lnTo>
                  <a:pt x="48" y="0"/>
                </a:lnTo>
                <a:lnTo>
                  <a:pt x="62" y="0"/>
                </a:lnTo>
                <a:lnTo>
                  <a:pt x="73" y="0"/>
                </a:lnTo>
                <a:lnTo>
                  <a:pt x="87" y="2"/>
                </a:lnTo>
                <a:lnTo>
                  <a:pt x="100" y="4"/>
                </a:lnTo>
                <a:lnTo>
                  <a:pt x="114" y="10"/>
                </a:lnTo>
                <a:lnTo>
                  <a:pt x="127" y="14"/>
                </a:lnTo>
                <a:lnTo>
                  <a:pt x="140" y="18"/>
                </a:lnTo>
                <a:lnTo>
                  <a:pt x="154" y="21"/>
                </a:lnTo>
                <a:lnTo>
                  <a:pt x="165" y="25"/>
                </a:lnTo>
                <a:lnTo>
                  <a:pt x="177" y="31"/>
                </a:lnTo>
                <a:lnTo>
                  <a:pt x="185" y="35"/>
                </a:lnTo>
                <a:lnTo>
                  <a:pt x="188" y="37"/>
                </a:lnTo>
                <a:lnTo>
                  <a:pt x="192" y="39"/>
                </a:lnTo>
                <a:lnTo>
                  <a:pt x="196" y="41"/>
                </a:lnTo>
                <a:lnTo>
                  <a:pt x="198" y="44"/>
                </a:lnTo>
                <a:lnTo>
                  <a:pt x="200" y="48"/>
                </a:lnTo>
                <a:lnTo>
                  <a:pt x="204" y="56"/>
                </a:lnTo>
                <a:lnTo>
                  <a:pt x="204" y="60"/>
                </a:lnTo>
                <a:lnTo>
                  <a:pt x="206" y="66"/>
                </a:lnTo>
                <a:lnTo>
                  <a:pt x="206" y="69"/>
                </a:lnTo>
                <a:lnTo>
                  <a:pt x="208" y="75"/>
                </a:lnTo>
                <a:lnTo>
                  <a:pt x="210" y="83"/>
                </a:lnTo>
                <a:lnTo>
                  <a:pt x="210" y="89"/>
                </a:lnTo>
                <a:lnTo>
                  <a:pt x="211" y="96"/>
                </a:lnTo>
                <a:lnTo>
                  <a:pt x="213" y="104"/>
                </a:lnTo>
                <a:lnTo>
                  <a:pt x="213" y="112"/>
                </a:lnTo>
                <a:lnTo>
                  <a:pt x="215" y="121"/>
                </a:lnTo>
                <a:lnTo>
                  <a:pt x="217" y="131"/>
                </a:lnTo>
                <a:lnTo>
                  <a:pt x="219" y="140"/>
                </a:lnTo>
                <a:lnTo>
                  <a:pt x="219" y="150"/>
                </a:lnTo>
                <a:lnTo>
                  <a:pt x="221" y="161"/>
                </a:lnTo>
                <a:lnTo>
                  <a:pt x="223" y="171"/>
                </a:lnTo>
                <a:lnTo>
                  <a:pt x="225" y="185"/>
                </a:lnTo>
                <a:lnTo>
                  <a:pt x="227" y="196"/>
                </a:lnTo>
                <a:lnTo>
                  <a:pt x="227" y="209"/>
                </a:lnTo>
                <a:lnTo>
                  <a:pt x="229" y="223"/>
                </a:lnTo>
                <a:lnTo>
                  <a:pt x="231" y="236"/>
                </a:lnTo>
                <a:lnTo>
                  <a:pt x="233" y="250"/>
                </a:lnTo>
                <a:lnTo>
                  <a:pt x="234" y="265"/>
                </a:lnTo>
                <a:lnTo>
                  <a:pt x="236" y="280"/>
                </a:lnTo>
                <a:lnTo>
                  <a:pt x="238" y="296"/>
                </a:lnTo>
                <a:lnTo>
                  <a:pt x="240" y="313"/>
                </a:lnTo>
                <a:lnTo>
                  <a:pt x="242" y="330"/>
                </a:lnTo>
                <a:lnTo>
                  <a:pt x="244" y="348"/>
                </a:lnTo>
                <a:lnTo>
                  <a:pt x="248" y="365"/>
                </a:lnTo>
                <a:lnTo>
                  <a:pt x="248" y="384"/>
                </a:lnTo>
                <a:lnTo>
                  <a:pt x="250" y="401"/>
                </a:lnTo>
                <a:lnTo>
                  <a:pt x="250" y="419"/>
                </a:lnTo>
                <a:lnTo>
                  <a:pt x="252" y="436"/>
                </a:lnTo>
                <a:lnTo>
                  <a:pt x="252" y="451"/>
                </a:lnTo>
                <a:lnTo>
                  <a:pt x="254" y="467"/>
                </a:lnTo>
                <a:lnTo>
                  <a:pt x="254" y="482"/>
                </a:lnTo>
                <a:lnTo>
                  <a:pt x="256" y="497"/>
                </a:lnTo>
                <a:lnTo>
                  <a:pt x="258" y="511"/>
                </a:lnTo>
                <a:lnTo>
                  <a:pt x="258" y="524"/>
                </a:lnTo>
                <a:lnTo>
                  <a:pt x="259" y="538"/>
                </a:lnTo>
                <a:lnTo>
                  <a:pt x="259" y="551"/>
                </a:lnTo>
                <a:lnTo>
                  <a:pt x="261" y="563"/>
                </a:lnTo>
                <a:lnTo>
                  <a:pt x="261" y="574"/>
                </a:lnTo>
                <a:lnTo>
                  <a:pt x="263" y="586"/>
                </a:lnTo>
                <a:lnTo>
                  <a:pt x="263" y="595"/>
                </a:lnTo>
                <a:lnTo>
                  <a:pt x="263" y="605"/>
                </a:lnTo>
                <a:lnTo>
                  <a:pt x="265" y="614"/>
                </a:lnTo>
                <a:lnTo>
                  <a:pt x="265" y="624"/>
                </a:lnTo>
                <a:lnTo>
                  <a:pt x="267" y="632"/>
                </a:lnTo>
                <a:lnTo>
                  <a:pt x="267" y="639"/>
                </a:lnTo>
                <a:lnTo>
                  <a:pt x="267" y="647"/>
                </a:lnTo>
                <a:lnTo>
                  <a:pt x="269" y="655"/>
                </a:lnTo>
                <a:lnTo>
                  <a:pt x="269" y="661"/>
                </a:lnTo>
                <a:lnTo>
                  <a:pt x="269" y="666"/>
                </a:lnTo>
                <a:lnTo>
                  <a:pt x="269" y="670"/>
                </a:lnTo>
                <a:lnTo>
                  <a:pt x="271" y="676"/>
                </a:lnTo>
                <a:lnTo>
                  <a:pt x="271" y="680"/>
                </a:lnTo>
                <a:lnTo>
                  <a:pt x="271" y="682"/>
                </a:lnTo>
                <a:lnTo>
                  <a:pt x="271" y="686"/>
                </a:lnTo>
                <a:lnTo>
                  <a:pt x="271" y="687"/>
                </a:lnTo>
                <a:lnTo>
                  <a:pt x="271" y="705"/>
                </a:lnTo>
                <a:lnTo>
                  <a:pt x="271" y="714"/>
                </a:lnTo>
                <a:lnTo>
                  <a:pt x="269" y="724"/>
                </a:lnTo>
                <a:lnTo>
                  <a:pt x="267" y="734"/>
                </a:lnTo>
                <a:lnTo>
                  <a:pt x="265" y="745"/>
                </a:lnTo>
                <a:lnTo>
                  <a:pt x="263" y="757"/>
                </a:lnTo>
                <a:lnTo>
                  <a:pt x="259" y="768"/>
                </a:lnTo>
                <a:lnTo>
                  <a:pt x="258" y="776"/>
                </a:lnTo>
                <a:lnTo>
                  <a:pt x="254" y="780"/>
                </a:lnTo>
                <a:lnTo>
                  <a:pt x="252" y="785"/>
                </a:lnTo>
                <a:lnTo>
                  <a:pt x="250" y="791"/>
                </a:lnTo>
                <a:lnTo>
                  <a:pt x="246" y="799"/>
                </a:lnTo>
                <a:lnTo>
                  <a:pt x="240" y="805"/>
                </a:lnTo>
                <a:lnTo>
                  <a:pt x="236" y="808"/>
                </a:lnTo>
                <a:lnTo>
                  <a:pt x="231" y="812"/>
                </a:lnTo>
                <a:lnTo>
                  <a:pt x="227" y="814"/>
                </a:lnTo>
                <a:lnTo>
                  <a:pt x="223" y="814"/>
                </a:lnTo>
                <a:lnTo>
                  <a:pt x="217" y="814"/>
                </a:lnTo>
                <a:lnTo>
                  <a:pt x="213" y="812"/>
                </a:lnTo>
                <a:lnTo>
                  <a:pt x="208" y="808"/>
                </a:lnTo>
                <a:lnTo>
                  <a:pt x="202" y="805"/>
                </a:lnTo>
                <a:lnTo>
                  <a:pt x="196" y="799"/>
                </a:lnTo>
                <a:lnTo>
                  <a:pt x="190" y="791"/>
                </a:lnTo>
                <a:lnTo>
                  <a:pt x="186" y="785"/>
                </a:lnTo>
                <a:lnTo>
                  <a:pt x="183" y="780"/>
                </a:lnTo>
                <a:lnTo>
                  <a:pt x="179" y="776"/>
                </a:lnTo>
                <a:lnTo>
                  <a:pt x="175" y="768"/>
                </a:lnTo>
                <a:lnTo>
                  <a:pt x="165" y="755"/>
                </a:lnTo>
                <a:lnTo>
                  <a:pt x="158" y="741"/>
                </a:lnTo>
                <a:lnTo>
                  <a:pt x="152" y="724"/>
                </a:lnTo>
                <a:lnTo>
                  <a:pt x="148" y="709"/>
                </a:lnTo>
                <a:lnTo>
                  <a:pt x="142" y="689"/>
                </a:lnTo>
                <a:lnTo>
                  <a:pt x="140" y="672"/>
                </a:lnTo>
                <a:lnTo>
                  <a:pt x="139" y="651"/>
                </a:lnTo>
                <a:lnTo>
                  <a:pt x="139" y="630"/>
                </a:lnTo>
                <a:lnTo>
                  <a:pt x="139" y="618"/>
                </a:lnTo>
                <a:lnTo>
                  <a:pt x="137" y="607"/>
                </a:lnTo>
                <a:lnTo>
                  <a:pt x="137" y="593"/>
                </a:lnTo>
                <a:lnTo>
                  <a:pt x="137" y="578"/>
                </a:lnTo>
                <a:lnTo>
                  <a:pt x="135" y="563"/>
                </a:lnTo>
                <a:lnTo>
                  <a:pt x="133" y="547"/>
                </a:lnTo>
                <a:lnTo>
                  <a:pt x="133" y="530"/>
                </a:lnTo>
                <a:lnTo>
                  <a:pt x="131" y="511"/>
                </a:lnTo>
                <a:lnTo>
                  <a:pt x="129" y="492"/>
                </a:lnTo>
                <a:lnTo>
                  <a:pt x="127" y="471"/>
                </a:lnTo>
                <a:lnTo>
                  <a:pt x="125" y="449"/>
                </a:lnTo>
                <a:lnTo>
                  <a:pt x="123" y="428"/>
                </a:lnTo>
                <a:lnTo>
                  <a:pt x="121" y="405"/>
                </a:lnTo>
                <a:lnTo>
                  <a:pt x="117" y="380"/>
                </a:lnTo>
                <a:lnTo>
                  <a:pt x="115" y="357"/>
                </a:lnTo>
                <a:lnTo>
                  <a:pt x="114" y="330"/>
                </a:lnTo>
                <a:lnTo>
                  <a:pt x="110" y="305"/>
                </a:lnTo>
                <a:lnTo>
                  <a:pt x="104" y="282"/>
                </a:lnTo>
                <a:lnTo>
                  <a:pt x="100" y="259"/>
                </a:lnTo>
                <a:lnTo>
                  <a:pt x="96" y="238"/>
                </a:lnTo>
                <a:lnTo>
                  <a:pt x="91" y="217"/>
                </a:lnTo>
                <a:lnTo>
                  <a:pt x="87" y="200"/>
                </a:lnTo>
                <a:lnTo>
                  <a:pt x="81" y="183"/>
                </a:lnTo>
                <a:lnTo>
                  <a:pt x="75" y="165"/>
                </a:lnTo>
                <a:lnTo>
                  <a:pt x="71" y="150"/>
                </a:lnTo>
                <a:lnTo>
                  <a:pt x="66" y="137"/>
                </a:lnTo>
                <a:lnTo>
                  <a:pt x="60" y="125"/>
                </a:lnTo>
                <a:lnTo>
                  <a:pt x="54" y="113"/>
                </a:lnTo>
                <a:lnTo>
                  <a:pt x="48" y="102"/>
                </a:lnTo>
                <a:lnTo>
                  <a:pt x="43" y="92"/>
                </a:lnTo>
                <a:lnTo>
                  <a:pt x="35" y="85"/>
                </a:lnTo>
                <a:lnTo>
                  <a:pt x="29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29"/>
          <p:cNvSpPr/>
          <p:nvPr/>
        </p:nvSpPr>
        <p:spPr>
          <a:xfrm>
            <a:off x="6418440" y="3019320"/>
            <a:ext cx="736560" cy="190440"/>
          </a:xfrm>
          <a:custGeom>
            <a:avLst/>
            <a:gdLst/>
            <a:ahLst/>
            <a:rect l="l" t="t" r="r" b="b"/>
            <a:pathLst>
              <a:path w="929" h="240">
                <a:moveTo>
                  <a:pt x="820" y="121"/>
                </a:moveTo>
                <a:lnTo>
                  <a:pt x="805" y="125"/>
                </a:lnTo>
                <a:lnTo>
                  <a:pt x="791" y="129"/>
                </a:lnTo>
                <a:lnTo>
                  <a:pt x="774" y="133"/>
                </a:lnTo>
                <a:lnTo>
                  <a:pt x="759" y="139"/>
                </a:lnTo>
                <a:lnTo>
                  <a:pt x="741" y="142"/>
                </a:lnTo>
                <a:lnTo>
                  <a:pt x="722" y="146"/>
                </a:lnTo>
                <a:lnTo>
                  <a:pt x="703" y="152"/>
                </a:lnTo>
                <a:lnTo>
                  <a:pt x="682" y="156"/>
                </a:lnTo>
                <a:lnTo>
                  <a:pt x="661" y="162"/>
                </a:lnTo>
                <a:lnTo>
                  <a:pt x="638" y="165"/>
                </a:lnTo>
                <a:lnTo>
                  <a:pt x="615" y="171"/>
                </a:lnTo>
                <a:lnTo>
                  <a:pt x="590" y="177"/>
                </a:lnTo>
                <a:lnTo>
                  <a:pt x="565" y="183"/>
                </a:lnTo>
                <a:lnTo>
                  <a:pt x="538" y="188"/>
                </a:lnTo>
                <a:lnTo>
                  <a:pt x="511" y="194"/>
                </a:lnTo>
                <a:lnTo>
                  <a:pt x="482" y="202"/>
                </a:lnTo>
                <a:lnTo>
                  <a:pt x="451" y="208"/>
                </a:lnTo>
                <a:lnTo>
                  <a:pt x="425" y="213"/>
                </a:lnTo>
                <a:lnTo>
                  <a:pt x="398" y="217"/>
                </a:lnTo>
                <a:lnTo>
                  <a:pt x="373" y="223"/>
                </a:lnTo>
                <a:lnTo>
                  <a:pt x="348" y="227"/>
                </a:lnTo>
                <a:lnTo>
                  <a:pt x="325" y="231"/>
                </a:lnTo>
                <a:lnTo>
                  <a:pt x="302" y="233"/>
                </a:lnTo>
                <a:lnTo>
                  <a:pt x="281" y="236"/>
                </a:lnTo>
                <a:lnTo>
                  <a:pt x="259" y="238"/>
                </a:lnTo>
                <a:lnTo>
                  <a:pt x="240" y="238"/>
                </a:lnTo>
                <a:lnTo>
                  <a:pt x="221" y="240"/>
                </a:lnTo>
                <a:lnTo>
                  <a:pt x="204" y="240"/>
                </a:lnTo>
                <a:lnTo>
                  <a:pt x="187" y="240"/>
                </a:lnTo>
                <a:lnTo>
                  <a:pt x="171" y="238"/>
                </a:lnTo>
                <a:lnTo>
                  <a:pt x="156" y="238"/>
                </a:lnTo>
                <a:lnTo>
                  <a:pt x="142" y="236"/>
                </a:lnTo>
                <a:lnTo>
                  <a:pt x="127" y="233"/>
                </a:lnTo>
                <a:lnTo>
                  <a:pt x="114" y="231"/>
                </a:lnTo>
                <a:lnTo>
                  <a:pt x="100" y="229"/>
                </a:lnTo>
                <a:lnTo>
                  <a:pt x="89" y="227"/>
                </a:lnTo>
                <a:lnTo>
                  <a:pt x="77" y="225"/>
                </a:lnTo>
                <a:lnTo>
                  <a:pt x="66" y="223"/>
                </a:lnTo>
                <a:lnTo>
                  <a:pt x="58" y="221"/>
                </a:lnTo>
                <a:lnTo>
                  <a:pt x="48" y="217"/>
                </a:lnTo>
                <a:lnTo>
                  <a:pt x="41" y="215"/>
                </a:lnTo>
                <a:lnTo>
                  <a:pt x="35" y="213"/>
                </a:lnTo>
                <a:lnTo>
                  <a:pt x="29" y="212"/>
                </a:lnTo>
                <a:lnTo>
                  <a:pt x="23" y="210"/>
                </a:lnTo>
                <a:lnTo>
                  <a:pt x="20" y="208"/>
                </a:lnTo>
                <a:lnTo>
                  <a:pt x="16" y="206"/>
                </a:lnTo>
                <a:lnTo>
                  <a:pt x="12" y="204"/>
                </a:lnTo>
                <a:lnTo>
                  <a:pt x="10" y="202"/>
                </a:lnTo>
                <a:lnTo>
                  <a:pt x="6" y="196"/>
                </a:lnTo>
                <a:lnTo>
                  <a:pt x="2" y="192"/>
                </a:lnTo>
                <a:lnTo>
                  <a:pt x="0" y="188"/>
                </a:lnTo>
                <a:lnTo>
                  <a:pt x="0" y="185"/>
                </a:lnTo>
                <a:lnTo>
                  <a:pt x="0" y="179"/>
                </a:lnTo>
                <a:lnTo>
                  <a:pt x="2" y="175"/>
                </a:lnTo>
                <a:lnTo>
                  <a:pt x="6" y="171"/>
                </a:lnTo>
                <a:lnTo>
                  <a:pt x="10" y="167"/>
                </a:lnTo>
                <a:lnTo>
                  <a:pt x="12" y="164"/>
                </a:lnTo>
                <a:lnTo>
                  <a:pt x="16" y="162"/>
                </a:lnTo>
                <a:lnTo>
                  <a:pt x="21" y="160"/>
                </a:lnTo>
                <a:lnTo>
                  <a:pt x="27" y="158"/>
                </a:lnTo>
                <a:lnTo>
                  <a:pt x="35" y="156"/>
                </a:lnTo>
                <a:lnTo>
                  <a:pt x="45" y="154"/>
                </a:lnTo>
                <a:lnTo>
                  <a:pt x="54" y="150"/>
                </a:lnTo>
                <a:lnTo>
                  <a:pt x="64" y="148"/>
                </a:lnTo>
                <a:lnTo>
                  <a:pt x="75" y="144"/>
                </a:lnTo>
                <a:lnTo>
                  <a:pt x="89" y="142"/>
                </a:lnTo>
                <a:lnTo>
                  <a:pt x="104" y="139"/>
                </a:lnTo>
                <a:lnTo>
                  <a:pt x="119" y="137"/>
                </a:lnTo>
                <a:lnTo>
                  <a:pt x="135" y="133"/>
                </a:lnTo>
                <a:lnTo>
                  <a:pt x="152" y="129"/>
                </a:lnTo>
                <a:lnTo>
                  <a:pt x="171" y="125"/>
                </a:lnTo>
                <a:lnTo>
                  <a:pt x="190" y="121"/>
                </a:lnTo>
                <a:lnTo>
                  <a:pt x="212" y="117"/>
                </a:lnTo>
                <a:lnTo>
                  <a:pt x="229" y="116"/>
                </a:lnTo>
                <a:lnTo>
                  <a:pt x="248" y="114"/>
                </a:lnTo>
                <a:lnTo>
                  <a:pt x="263" y="110"/>
                </a:lnTo>
                <a:lnTo>
                  <a:pt x="279" y="108"/>
                </a:lnTo>
                <a:lnTo>
                  <a:pt x="294" y="104"/>
                </a:lnTo>
                <a:lnTo>
                  <a:pt x="307" y="100"/>
                </a:lnTo>
                <a:lnTo>
                  <a:pt x="321" y="98"/>
                </a:lnTo>
                <a:lnTo>
                  <a:pt x="332" y="94"/>
                </a:lnTo>
                <a:lnTo>
                  <a:pt x="344" y="91"/>
                </a:lnTo>
                <a:lnTo>
                  <a:pt x="355" y="89"/>
                </a:lnTo>
                <a:lnTo>
                  <a:pt x="365" y="85"/>
                </a:lnTo>
                <a:lnTo>
                  <a:pt x="373" y="81"/>
                </a:lnTo>
                <a:lnTo>
                  <a:pt x="382" y="79"/>
                </a:lnTo>
                <a:lnTo>
                  <a:pt x="390" y="77"/>
                </a:lnTo>
                <a:lnTo>
                  <a:pt x="396" y="75"/>
                </a:lnTo>
                <a:lnTo>
                  <a:pt x="403" y="71"/>
                </a:lnTo>
                <a:lnTo>
                  <a:pt x="411" y="69"/>
                </a:lnTo>
                <a:lnTo>
                  <a:pt x="421" y="68"/>
                </a:lnTo>
                <a:lnTo>
                  <a:pt x="430" y="66"/>
                </a:lnTo>
                <a:lnTo>
                  <a:pt x="442" y="64"/>
                </a:lnTo>
                <a:lnTo>
                  <a:pt x="453" y="62"/>
                </a:lnTo>
                <a:lnTo>
                  <a:pt x="467" y="58"/>
                </a:lnTo>
                <a:lnTo>
                  <a:pt x="480" y="56"/>
                </a:lnTo>
                <a:lnTo>
                  <a:pt x="496" y="52"/>
                </a:lnTo>
                <a:lnTo>
                  <a:pt x="513" y="50"/>
                </a:lnTo>
                <a:lnTo>
                  <a:pt x="530" y="46"/>
                </a:lnTo>
                <a:lnTo>
                  <a:pt x="549" y="45"/>
                </a:lnTo>
                <a:lnTo>
                  <a:pt x="570" y="41"/>
                </a:lnTo>
                <a:lnTo>
                  <a:pt x="592" y="37"/>
                </a:lnTo>
                <a:lnTo>
                  <a:pt x="615" y="33"/>
                </a:lnTo>
                <a:lnTo>
                  <a:pt x="638" y="29"/>
                </a:lnTo>
                <a:lnTo>
                  <a:pt x="663" y="23"/>
                </a:lnTo>
                <a:lnTo>
                  <a:pt x="686" y="20"/>
                </a:lnTo>
                <a:lnTo>
                  <a:pt x="707" y="16"/>
                </a:lnTo>
                <a:lnTo>
                  <a:pt x="728" y="14"/>
                </a:lnTo>
                <a:lnTo>
                  <a:pt x="745" y="10"/>
                </a:lnTo>
                <a:lnTo>
                  <a:pt x="764" y="8"/>
                </a:lnTo>
                <a:lnTo>
                  <a:pt x="780" y="6"/>
                </a:lnTo>
                <a:lnTo>
                  <a:pt x="795" y="4"/>
                </a:lnTo>
                <a:lnTo>
                  <a:pt x="810" y="2"/>
                </a:lnTo>
                <a:lnTo>
                  <a:pt x="822" y="0"/>
                </a:lnTo>
                <a:lnTo>
                  <a:pt x="835" y="0"/>
                </a:lnTo>
                <a:lnTo>
                  <a:pt x="845" y="0"/>
                </a:lnTo>
                <a:lnTo>
                  <a:pt x="856" y="0"/>
                </a:lnTo>
                <a:lnTo>
                  <a:pt x="864" y="2"/>
                </a:lnTo>
                <a:lnTo>
                  <a:pt x="874" y="4"/>
                </a:lnTo>
                <a:lnTo>
                  <a:pt x="879" y="6"/>
                </a:lnTo>
                <a:lnTo>
                  <a:pt x="887" y="8"/>
                </a:lnTo>
                <a:lnTo>
                  <a:pt x="893" y="10"/>
                </a:lnTo>
                <a:lnTo>
                  <a:pt x="899" y="14"/>
                </a:lnTo>
                <a:lnTo>
                  <a:pt x="902" y="16"/>
                </a:lnTo>
                <a:lnTo>
                  <a:pt x="906" y="20"/>
                </a:lnTo>
                <a:lnTo>
                  <a:pt x="910" y="21"/>
                </a:lnTo>
                <a:lnTo>
                  <a:pt x="918" y="29"/>
                </a:lnTo>
                <a:lnTo>
                  <a:pt x="922" y="35"/>
                </a:lnTo>
                <a:lnTo>
                  <a:pt x="926" y="41"/>
                </a:lnTo>
                <a:lnTo>
                  <a:pt x="927" y="46"/>
                </a:lnTo>
                <a:lnTo>
                  <a:pt x="929" y="52"/>
                </a:lnTo>
                <a:lnTo>
                  <a:pt x="927" y="54"/>
                </a:lnTo>
                <a:lnTo>
                  <a:pt x="927" y="56"/>
                </a:lnTo>
                <a:lnTo>
                  <a:pt x="926" y="60"/>
                </a:lnTo>
                <a:lnTo>
                  <a:pt x="922" y="62"/>
                </a:lnTo>
                <a:lnTo>
                  <a:pt x="918" y="66"/>
                </a:lnTo>
                <a:lnTo>
                  <a:pt x="914" y="69"/>
                </a:lnTo>
                <a:lnTo>
                  <a:pt x="908" y="73"/>
                </a:lnTo>
                <a:lnTo>
                  <a:pt x="901" y="77"/>
                </a:lnTo>
                <a:lnTo>
                  <a:pt x="895" y="81"/>
                </a:lnTo>
                <a:lnTo>
                  <a:pt x="885" y="87"/>
                </a:lnTo>
                <a:lnTo>
                  <a:pt x="878" y="91"/>
                </a:lnTo>
                <a:lnTo>
                  <a:pt x="868" y="96"/>
                </a:lnTo>
                <a:lnTo>
                  <a:pt x="856" y="102"/>
                </a:lnTo>
                <a:lnTo>
                  <a:pt x="845" y="108"/>
                </a:lnTo>
                <a:lnTo>
                  <a:pt x="833" y="114"/>
                </a:lnTo>
                <a:lnTo>
                  <a:pt x="820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30"/>
          <p:cNvSpPr/>
          <p:nvPr/>
        </p:nvSpPr>
        <p:spPr>
          <a:xfrm>
            <a:off x="5743440" y="3017880"/>
            <a:ext cx="227160" cy="1960560"/>
          </a:xfrm>
          <a:custGeom>
            <a:avLst/>
            <a:gdLst/>
            <a:ahLst/>
            <a:rect l="l" t="t" r="r" b="b"/>
            <a:pathLst>
              <a:path w="286" h="2471">
                <a:moveTo>
                  <a:pt x="48" y="100"/>
                </a:moveTo>
                <a:lnTo>
                  <a:pt x="38" y="91"/>
                </a:lnTo>
                <a:lnTo>
                  <a:pt x="33" y="81"/>
                </a:lnTo>
                <a:lnTo>
                  <a:pt x="27" y="73"/>
                </a:lnTo>
                <a:lnTo>
                  <a:pt x="21" y="64"/>
                </a:lnTo>
                <a:lnTo>
                  <a:pt x="19" y="52"/>
                </a:lnTo>
                <a:lnTo>
                  <a:pt x="19" y="48"/>
                </a:lnTo>
                <a:lnTo>
                  <a:pt x="19" y="43"/>
                </a:lnTo>
                <a:lnTo>
                  <a:pt x="19" y="37"/>
                </a:lnTo>
                <a:lnTo>
                  <a:pt x="21" y="31"/>
                </a:lnTo>
                <a:lnTo>
                  <a:pt x="21" y="25"/>
                </a:lnTo>
                <a:lnTo>
                  <a:pt x="23" y="20"/>
                </a:lnTo>
                <a:lnTo>
                  <a:pt x="23" y="14"/>
                </a:lnTo>
                <a:lnTo>
                  <a:pt x="25" y="12"/>
                </a:lnTo>
                <a:lnTo>
                  <a:pt x="27" y="8"/>
                </a:lnTo>
                <a:lnTo>
                  <a:pt x="31" y="6"/>
                </a:lnTo>
                <a:lnTo>
                  <a:pt x="35" y="4"/>
                </a:lnTo>
                <a:lnTo>
                  <a:pt x="38" y="2"/>
                </a:lnTo>
                <a:lnTo>
                  <a:pt x="44" y="0"/>
                </a:lnTo>
                <a:lnTo>
                  <a:pt x="50" y="0"/>
                </a:lnTo>
                <a:lnTo>
                  <a:pt x="58" y="0"/>
                </a:lnTo>
                <a:lnTo>
                  <a:pt x="65" y="0"/>
                </a:lnTo>
                <a:lnTo>
                  <a:pt x="75" y="0"/>
                </a:lnTo>
                <a:lnTo>
                  <a:pt x="84" y="0"/>
                </a:lnTo>
                <a:lnTo>
                  <a:pt x="96" y="2"/>
                </a:lnTo>
                <a:lnTo>
                  <a:pt x="107" y="4"/>
                </a:lnTo>
                <a:lnTo>
                  <a:pt x="119" y="4"/>
                </a:lnTo>
                <a:lnTo>
                  <a:pt x="132" y="8"/>
                </a:lnTo>
                <a:lnTo>
                  <a:pt x="154" y="16"/>
                </a:lnTo>
                <a:lnTo>
                  <a:pt x="175" y="25"/>
                </a:lnTo>
                <a:lnTo>
                  <a:pt x="194" y="33"/>
                </a:lnTo>
                <a:lnTo>
                  <a:pt x="213" y="43"/>
                </a:lnTo>
                <a:lnTo>
                  <a:pt x="228" y="50"/>
                </a:lnTo>
                <a:lnTo>
                  <a:pt x="236" y="54"/>
                </a:lnTo>
                <a:lnTo>
                  <a:pt x="244" y="60"/>
                </a:lnTo>
                <a:lnTo>
                  <a:pt x="250" y="64"/>
                </a:lnTo>
                <a:lnTo>
                  <a:pt x="255" y="68"/>
                </a:lnTo>
                <a:lnTo>
                  <a:pt x="261" y="71"/>
                </a:lnTo>
                <a:lnTo>
                  <a:pt x="265" y="77"/>
                </a:lnTo>
                <a:lnTo>
                  <a:pt x="269" y="81"/>
                </a:lnTo>
                <a:lnTo>
                  <a:pt x="273" y="89"/>
                </a:lnTo>
                <a:lnTo>
                  <a:pt x="276" y="96"/>
                </a:lnTo>
                <a:lnTo>
                  <a:pt x="278" y="106"/>
                </a:lnTo>
                <a:lnTo>
                  <a:pt x="282" y="118"/>
                </a:lnTo>
                <a:lnTo>
                  <a:pt x="282" y="131"/>
                </a:lnTo>
                <a:lnTo>
                  <a:pt x="284" y="144"/>
                </a:lnTo>
                <a:lnTo>
                  <a:pt x="284" y="162"/>
                </a:lnTo>
                <a:lnTo>
                  <a:pt x="286" y="179"/>
                </a:lnTo>
                <a:lnTo>
                  <a:pt x="286" y="198"/>
                </a:lnTo>
                <a:lnTo>
                  <a:pt x="284" y="217"/>
                </a:lnTo>
                <a:lnTo>
                  <a:pt x="284" y="240"/>
                </a:lnTo>
                <a:lnTo>
                  <a:pt x="282" y="263"/>
                </a:lnTo>
                <a:lnTo>
                  <a:pt x="282" y="288"/>
                </a:lnTo>
                <a:lnTo>
                  <a:pt x="280" y="313"/>
                </a:lnTo>
                <a:lnTo>
                  <a:pt x="278" y="342"/>
                </a:lnTo>
                <a:lnTo>
                  <a:pt x="274" y="356"/>
                </a:lnTo>
                <a:lnTo>
                  <a:pt x="273" y="371"/>
                </a:lnTo>
                <a:lnTo>
                  <a:pt x="271" y="386"/>
                </a:lnTo>
                <a:lnTo>
                  <a:pt x="269" y="404"/>
                </a:lnTo>
                <a:lnTo>
                  <a:pt x="267" y="421"/>
                </a:lnTo>
                <a:lnTo>
                  <a:pt x="265" y="440"/>
                </a:lnTo>
                <a:lnTo>
                  <a:pt x="263" y="459"/>
                </a:lnTo>
                <a:lnTo>
                  <a:pt x="261" y="478"/>
                </a:lnTo>
                <a:lnTo>
                  <a:pt x="259" y="500"/>
                </a:lnTo>
                <a:lnTo>
                  <a:pt x="259" y="521"/>
                </a:lnTo>
                <a:lnTo>
                  <a:pt x="257" y="544"/>
                </a:lnTo>
                <a:lnTo>
                  <a:pt x="255" y="567"/>
                </a:lnTo>
                <a:lnTo>
                  <a:pt x="253" y="592"/>
                </a:lnTo>
                <a:lnTo>
                  <a:pt x="253" y="617"/>
                </a:lnTo>
                <a:lnTo>
                  <a:pt x="251" y="642"/>
                </a:lnTo>
                <a:lnTo>
                  <a:pt x="250" y="668"/>
                </a:lnTo>
                <a:lnTo>
                  <a:pt x="250" y="695"/>
                </a:lnTo>
                <a:lnTo>
                  <a:pt x="248" y="722"/>
                </a:lnTo>
                <a:lnTo>
                  <a:pt x="248" y="751"/>
                </a:lnTo>
                <a:lnTo>
                  <a:pt x="246" y="782"/>
                </a:lnTo>
                <a:lnTo>
                  <a:pt x="246" y="810"/>
                </a:lnTo>
                <a:lnTo>
                  <a:pt x="244" y="841"/>
                </a:lnTo>
                <a:lnTo>
                  <a:pt x="244" y="874"/>
                </a:lnTo>
                <a:lnTo>
                  <a:pt x="244" y="906"/>
                </a:lnTo>
                <a:lnTo>
                  <a:pt x="242" y="939"/>
                </a:lnTo>
                <a:lnTo>
                  <a:pt x="242" y="974"/>
                </a:lnTo>
                <a:lnTo>
                  <a:pt x="242" y="1008"/>
                </a:lnTo>
                <a:lnTo>
                  <a:pt x="242" y="1043"/>
                </a:lnTo>
                <a:lnTo>
                  <a:pt x="242" y="1079"/>
                </a:lnTo>
                <a:lnTo>
                  <a:pt x="242" y="1118"/>
                </a:lnTo>
                <a:lnTo>
                  <a:pt x="242" y="1154"/>
                </a:lnTo>
                <a:lnTo>
                  <a:pt x="242" y="1192"/>
                </a:lnTo>
                <a:lnTo>
                  <a:pt x="240" y="1233"/>
                </a:lnTo>
                <a:lnTo>
                  <a:pt x="238" y="1271"/>
                </a:lnTo>
                <a:lnTo>
                  <a:pt x="238" y="1310"/>
                </a:lnTo>
                <a:lnTo>
                  <a:pt x="236" y="1348"/>
                </a:lnTo>
                <a:lnTo>
                  <a:pt x="236" y="1384"/>
                </a:lnTo>
                <a:lnTo>
                  <a:pt x="234" y="1421"/>
                </a:lnTo>
                <a:lnTo>
                  <a:pt x="232" y="1455"/>
                </a:lnTo>
                <a:lnTo>
                  <a:pt x="232" y="1492"/>
                </a:lnTo>
                <a:lnTo>
                  <a:pt x="230" y="1525"/>
                </a:lnTo>
                <a:lnTo>
                  <a:pt x="230" y="1559"/>
                </a:lnTo>
                <a:lnTo>
                  <a:pt x="228" y="1592"/>
                </a:lnTo>
                <a:lnTo>
                  <a:pt x="226" y="1624"/>
                </a:lnTo>
                <a:lnTo>
                  <a:pt x="226" y="1657"/>
                </a:lnTo>
                <a:lnTo>
                  <a:pt x="225" y="1688"/>
                </a:lnTo>
                <a:lnTo>
                  <a:pt x="223" y="1718"/>
                </a:lnTo>
                <a:lnTo>
                  <a:pt x="221" y="1749"/>
                </a:lnTo>
                <a:lnTo>
                  <a:pt x="221" y="1778"/>
                </a:lnTo>
                <a:lnTo>
                  <a:pt x="219" y="1807"/>
                </a:lnTo>
                <a:lnTo>
                  <a:pt x="217" y="1836"/>
                </a:lnTo>
                <a:lnTo>
                  <a:pt x="215" y="1862"/>
                </a:lnTo>
                <a:lnTo>
                  <a:pt x="213" y="1889"/>
                </a:lnTo>
                <a:lnTo>
                  <a:pt x="213" y="1916"/>
                </a:lnTo>
                <a:lnTo>
                  <a:pt x="211" y="1941"/>
                </a:lnTo>
                <a:lnTo>
                  <a:pt x="209" y="1966"/>
                </a:lnTo>
                <a:lnTo>
                  <a:pt x="207" y="1991"/>
                </a:lnTo>
                <a:lnTo>
                  <a:pt x="205" y="2016"/>
                </a:lnTo>
                <a:lnTo>
                  <a:pt x="203" y="2039"/>
                </a:lnTo>
                <a:lnTo>
                  <a:pt x="202" y="2062"/>
                </a:lnTo>
                <a:lnTo>
                  <a:pt x="200" y="2085"/>
                </a:lnTo>
                <a:lnTo>
                  <a:pt x="198" y="2106"/>
                </a:lnTo>
                <a:lnTo>
                  <a:pt x="196" y="2127"/>
                </a:lnTo>
                <a:lnTo>
                  <a:pt x="194" y="2148"/>
                </a:lnTo>
                <a:lnTo>
                  <a:pt x="190" y="2170"/>
                </a:lnTo>
                <a:lnTo>
                  <a:pt x="188" y="2189"/>
                </a:lnTo>
                <a:lnTo>
                  <a:pt x="186" y="2208"/>
                </a:lnTo>
                <a:lnTo>
                  <a:pt x="184" y="2225"/>
                </a:lnTo>
                <a:lnTo>
                  <a:pt x="182" y="2242"/>
                </a:lnTo>
                <a:lnTo>
                  <a:pt x="180" y="2260"/>
                </a:lnTo>
                <a:lnTo>
                  <a:pt x="177" y="2275"/>
                </a:lnTo>
                <a:lnTo>
                  <a:pt x="175" y="2290"/>
                </a:lnTo>
                <a:lnTo>
                  <a:pt x="173" y="2306"/>
                </a:lnTo>
                <a:lnTo>
                  <a:pt x="171" y="2319"/>
                </a:lnTo>
                <a:lnTo>
                  <a:pt x="169" y="2333"/>
                </a:lnTo>
                <a:lnTo>
                  <a:pt x="167" y="2346"/>
                </a:lnTo>
                <a:lnTo>
                  <a:pt x="165" y="2360"/>
                </a:lnTo>
                <a:lnTo>
                  <a:pt x="163" y="2371"/>
                </a:lnTo>
                <a:lnTo>
                  <a:pt x="159" y="2381"/>
                </a:lnTo>
                <a:lnTo>
                  <a:pt x="157" y="2392"/>
                </a:lnTo>
                <a:lnTo>
                  <a:pt x="155" y="2402"/>
                </a:lnTo>
                <a:lnTo>
                  <a:pt x="154" y="2409"/>
                </a:lnTo>
                <a:lnTo>
                  <a:pt x="152" y="2419"/>
                </a:lnTo>
                <a:lnTo>
                  <a:pt x="150" y="2427"/>
                </a:lnTo>
                <a:lnTo>
                  <a:pt x="148" y="2432"/>
                </a:lnTo>
                <a:lnTo>
                  <a:pt x="148" y="2440"/>
                </a:lnTo>
                <a:lnTo>
                  <a:pt x="146" y="2446"/>
                </a:lnTo>
                <a:lnTo>
                  <a:pt x="144" y="2452"/>
                </a:lnTo>
                <a:lnTo>
                  <a:pt x="142" y="2456"/>
                </a:lnTo>
                <a:lnTo>
                  <a:pt x="140" y="2459"/>
                </a:lnTo>
                <a:lnTo>
                  <a:pt x="138" y="2463"/>
                </a:lnTo>
                <a:lnTo>
                  <a:pt x="138" y="2465"/>
                </a:lnTo>
                <a:lnTo>
                  <a:pt x="136" y="2467"/>
                </a:lnTo>
                <a:lnTo>
                  <a:pt x="134" y="2469"/>
                </a:lnTo>
                <a:lnTo>
                  <a:pt x="134" y="2471"/>
                </a:lnTo>
                <a:lnTo>
                  <a:pt x="132" y="2471"/>
                </a:lnTo>
                <a:lnTo>
                  <a:pt x="129" y="2471"/>
                </a:lnTo>
                <a:lnTo>
                  <a:pt x="123" y="2469"/>
                </a:lnTo>
                <a:lnTo>
                  <a:pt x="119" y="2467"/>
                </a:lnTo>
                <a:lnTo>
                  <a:pt x="113" y="2465"/>
                </a:lnTo>
                <a:lnTo>
                  <a:pt x="109" y="2463"/>
                </a:lnTo>
                <a:lnTo>
                  <a:pt x="104" y="2459"/>
                </a:lnTo>
                <a:lnTo>
                  <a:pt x="100" y="2456"/>
                </a:lnTo>
                <a:lnTo>
                  <a:pt x="94" y="2452"/>
                </a:lnTo>
                <a:lnTo>
                  <a:pt x="88" y="2446"/>
                </a:lnTo>
                <a:lnTo>
                  <a:pt x="84" y="2440"/>
                </a:lnTo>
                <a:lnTo>
                  <a:pt x="79" y="2434"/>
                </a:lnTo>
                <a:lnTo>
                  <a:pt x="73" y="2427"/>
                </a:lnTo>
                <a:lnTo>
                  <a:pt x="67" y="2419"/>
                </a:lnTo>
                <a:lnTo>
                  <a:pt x="61" y="2409"/>
                </a:lnTo>
                <a:lnTo>
                  <a:pt x="54" y="2400"/>
                </a:lnTo>
                <a:lnTo>
                  <a:pt x="48" y="2390"/>
                </a:lnTo>
                <a:lnTo>
                  <a:pt x="40" y="2379"/>
                </a:lnTo>
                <a:lnTo>
                  <a:pt x="35" y="2369"/>
                </a:lnTo>
                <a:lnTo>
                  <a:pt x="31" y="2360"/>
                </a:lnTo>
                <a:lnTo>
                  <a:pt x="25" y="2350"/>
                </a:lnTo>
                <a:lnTo>
                  <a:pt x="17" y="2335"/>
                </a:lnTo>
                <a:lnTo>
                  <a:pt x="10" y="2317"/>
                </a:lnTo>
                <a:lnTo>
                  <a:pt x="6" y="2304"/>
                </a:lnTo>
                <a:lnTo>
                  <a:pt x="2" y="2290"/>
                </a:lnTo>
                <a:lnTo>
                  <a:pt x="0" y="2277"/>
                </a:lnTo>
                <a:lnTo>
                  <a:pt x="0" y="2264"/>
                </a:lnTo>
                <a:lnTo>
                  <a:pt x="0" y="2258"/>
                </a:lnTo>
                <a:lnTo>
                  <a:pt x="0" y="2250"/>
                </a:lnTo>
                <a:lnTo>
                  <a:pt x="0" y="2242"/>
                </a:lnTo>
                <a:lnTo>
                  <a:pt x="2" y="2233"/>
                </a:lnTo>
                <a:lnTo>
                  <a:pt x="2" y="2223"/>
                </a:lnTo>
                <a:lnTo>
                  <a:pt x="4" y="2214"/>
                </a:lnTo>
                <a:lnTo>
                  <a:pt x="6" y="2204"/>
                </a:lnTo>
                <a:lnTo>
                  <a:pt x="8" y="2193"/>
                </a:lnTo>
                <a:lnTo>
                  <a:pt x="11" y="2179"/>
                </a:lnTo>
                <a:lnTo>
                  <a:pt x="13" y="2166"/>
                </a:lnTo>
                <a:lnTo>
                  <a:pt x="17" y="2152"/>
                </a:lnTo>
                <a:lnTo>
                  <a:pt x="19" y="2137"/>
                </a:lnTo>
                <a:lnTo>
                  <a:pt x="23" y="2122"/>
                </a:lnTo>
                <a:lnTo>
                  <a:pt x="27" y="2104"/>
                </a:lnTo>
                <a:lnTo>
                  <a:pt x="31" y="2087"/>
                </a:lnTo>
                <a:lnTo>
                  <a:pt x="36" y="2068"/>
                </a:lnTo>
                <a:lnTo>
                  <a:pt x="40" y="2050"/>
                </a:lnTo>
                <a:lnTo>
                  <a:pt x="44" y="2029"/>
                </a:lnTo>
                <a:lnTo>
                  <a:pt x="50" y="2008"/>
                </a:lnTo>
                <a:lnTo>
                  <a:pt x="54" y="1985"/>
                </a:lnTo>
                <a:lnTo>
                  <a:pt x="58" y="1960"/>
                </a:lnTo>
                <a:lnTo>
                  <a:pt x="61" y="1935"/>
                </a:lnTo>
                <a:lnTo>
                  <a:pt x="67" y="1907"/>
                </a:lnTo>
                <a:lnTo>
                  <a:pt x="71" y="1878"/>
                </a:lnTo>
                <a:lnTo>
                  <a:pt x="75" y="1847"/>
                </a:lnTo>
                <a:lnTo>
                  <a:pt x="79" y="1814"/>
                </a:lnTo>
                <a:lnTo>
                  <a:pt x="81" y="1780"/>
                </a:lnTo>
                <a:lnTo>
                  <a:pt x="84" y="1743"/>
                </a:lnTo>
                <a:lnTo>
                  <a:pt x="88" y="1707"/>
                </a:lnTo>
                <a:lnTo>
                  <a:pt x="90" y="1667"/>
                </a:lnTo>
                <a:lnTo>
                  <a:pt x="94" y="1626"/>
                </a:lnTo>
                <a:lnTo>
                  <a:pt x="96" y="1584"/>
                </a:lnTo>
                <a:lnTo>
                  <a:pt x="106" y="1411"/>
                </a:lnTo>
                <a:lnTo>
                  <a:pt x="109" y="1325"/>
                </a:lnTo>
                <a:lnTo>
                  <a:pt x="113" y="1237"/>
                </a:lnTo>
                <a:lnTo>
                  <a:pt x="115" y="1150"/>
                </a:lnTo>
                <a:lnTo>
                  <a:pt x="117" y="1062"/>
                </a:lnTo>
                <a:lnTo>
                  <a:pt x="119" y="972"/>
                </a:lnTo>
                <a:lnTo>
                  <a:pt x="121" y="882"/>
                </a:lnTo>
                <a:lnTo>
                  <a:pt x="117" y="839"/>
                </a:lnTo>
                <a:lnTo>
                  <a:pt x="117" y="797"/>
                </a:lnTo>
                <a:lnTo>
                  <a:pt x="115" y="757"/>
                </a:lnTo>
                <a:lnTo>
                  <a:pt x="113" y="718"/>
                </a:lnTo>
                <a:lnTo>
                  <a:pt x="111" y="680"/>
                </a:lnTo>
                <a:lnTo>
                  <a:pt x="111" y="642"/>
                </a:lnTo>
                <a:lnTo>
                  <a:pt x="109" y="607"/>
                </a:lnTo>
                <a:lnTo>
                  <a:pt x="107" y="571"/>
                </a:lnTo>
                <a:lnTo>
                  <a:pt x="107" y="538"/>
                </a:lnTo>
                <a:lnTo>
                  <a:pt x="106" y="505"/>
                </a:lnTo>
                <a:lnTo>
                  <a:pt x="104" y="473"/>
                </a:lnTo>
                <a:lnTo>
                  <a:pt x="104" y="442"/>
                </a:lnTo>
                <a:lnTo>
                  <a:pt x="102" y="413"/>
                </a:lnTo>
                <a:lnTo>
                  <a:pt x="100" y="384"/>
                </a:lnTo>
                <a:lnTo>
                  <a:pt x="98" y="356"/>
                </a:lnTo>
                <a:lnTo>
                  <a:pt x="96" y="331"/>
                </a:lnTo>
                <a:lnTo>
                  <a:pt x="94" y="304"/>
                </a:lnTo>
                <a:lnTo>
                  <a:pt x="92" y="281"/>
                </a:lnTo>
                <a:lnTo>
                  <a:pt x="88" y="258"/>
                </a:lnTo>
                <a:lnTo>
                  <a:pt x="86" y="237"/>
                </a:lnTo>
                <a:lnTo>
                  <a:pt x="84" y="217"/>
                </a:lnTo>
                <a:lnTo>
                  <a:pt x="83" y="198"/>
                </a:lnTo>
                <a:lnTo>
                  <a:pt x="79" y="183"/>
                </a:lnTo>
                <a:lnTo>
                  <a:pt x="77" y="167"/>
                </a:lnTo>
                <a:lnTo>
                  <a:pt x="73" y="154"/>
                </a:lnTo>
                <a:lnTo>
                  <a:pt x="71" y="141"/>
                </a:lnTo>
                <a:lnTo>
                  <a:pt x="67" y="131"/>
                </a:lnTo>
                <a:lnTo>
                  <a:pt x="63" y="121"/>
                </a:lnTo>
                <a:lnTo>
                  <a:pt x="59" y="114"/>
                </a:lnTo>
                <a:lnTo>
                  <a:pt x="56" y="106"/>
                </a:lnTo>
                <a:lnTo>
                  <a:pt x="52" y="102"/>
                </a:lnTo>
                <a:lnTo>
                  <a:pt x="48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31"/>
          <p:cNvSpPr/>
          <p:nvPr/>
        </p:nvSpPr>
        <p:spPr>
          <a:xfrm>
            <a:off x="5389560" y="3533760"/>
            <a:ext cx="844560" cy="255600"/>
          </a:xfrm>
          <a:custGeom>
            <a:avLst/>
            <a:gdLst/>
            <a:ahLst/>
            <a:rect l="l" t="t" r="r" b="b"/>
            <a:pathLst>
              <a:path w="1063" h="323">
                <a:moveTo>
                  <a:pt x="48" y="300"/>
                </a:moveTo>
                <a:lnTo>
                  <a:pt x="40" y="298"/>
                </a:lnTo>
                <a:lnTo>
                  <a:pt x="34" y="296"/>
                </a:lnTo>
                <a:lnTo>
                  <a:pt x="29" y="292"/>
                </a:lnTo>
                <a:lnTo>
                  <a:pt x="25" y="290"/>
                </a:lnTo>
                <a:lnTo>
                  <a:pt x="21" y="286"/>
                </a:lnTo>
                <a:lnTo>
                  <a:pt x="17" y="282"/>
                </a:lnTo>
                <a:lnTo>
                  <a:pt x="9" y="277"/>
                </a:lnTo>
                <a:lnTo>
                  <a:pt x="6" y="267"/>
                </a:lnTo>
                <a:lnTo>
                  <a:pt x="2" y="259"/>
                </a:lnTo>
                <a:lnTo>
                  <a:pt x="0" y="252"/>
                </a:lnTo>
                <a:lnTo>
                  <a:pt x="0" y="242"/>
                </a:lnTo>
                <a:lnTo>
                  <a:pt x="46" y="232"/>
                </a:lnTo>
                <a:lnTo>
                  <a:pt x="92" y="221"/>
                </a:lnTo>
                <a:lnTo>
                  <a:pt x="138" y="209"/>
                </a:lnTo>
                <a:lnTo>
                  <a:pt x="182" y="200"/>
                </a:lnTo>
                <a:lnTo>
                  <a:pt x="226" y="188"/>
                </a:lnTo>
                <a:lnTo>
                  <a:pt x="268" y="177"/>
                </a:lnTo>
                <a:lnTo>
                  <a:pt x="309" y="167"/>
                </a:lnTo>
                <a:lnTo>
                  <a:pt x="349" y="156"/>
                </a:lnTo>
                <a:lnTo>
                  <a:pt x="389" y="146"/>
                </a:lnTo>
                <a:lnTo>
                  <a:pt x="426" y="135"/>
                </a:lnTo>
                <a:lnTo>
                  <a:pt x="464" y="125"/>
                </a:lnTo>
                <a:lnTo>
                  <a:pt x="499" y="113"/>
                </a:lnTo>
                <a:lnTo>
                  <a:pt x="533" y="102"/>
                </a:lnTo>
                <a:lnTo>
                  <a:pt x="566" y="92"/>
                </a:lnTo>
                <a:lnTo>
                  <a:pt x="597" y="81"/>
                </a:lnTo>
                <a:lnTo>
                  <a:pt x="627" y="69"/>
                </a:lnTo>
                <a:lnTo>
                  <a:pt x="656" y="62"/>
                </a:lnTo>
                <a:lnTo>
                  <a:pt x="683" y="54"/>
                </a:lnTo>
                <a:lnTo>
                  <a:pt x="710" y="46"/>
                </a:lnTo>
                <a:lnTo>
                  <a:pt x="733" y="39"/>
                </a:lnTo>
                <a:lnTo>
                  <a:pt x="756" y="33"/>
                </a:lnTo>
                <a:lnTo>
                  <a:pt x="779" y="27"/>
                </a:lnTo>
                <a:lnTo>
                  <a:pt x="798" y="23"/>
                </a:lnTo>
                <a:lnTo>
                  <a:pt x="817" y="17"/>
                </a:lnTo>
                <a:lnTo>
                  <a:pt x="835" y="14"/>
                </a:lnTo>
                <a:lnTo>
                  <a:pt x="852" y="10"/>
                </a:lnTo>
                <a:lnTo>
                  <a:pt x="865" y="8"/>
                </a:lnTo>
                <a:lnTo>
                  <a:pt x="879" y="4"/>
                </a:lnTo>
                <a:lnTo>
                  <a:pt x="890" y="4"/>
                </a:lnTo>
                <a:lnTo>
                  <a:pt x="902" y="2"/>
                </a:lnTo>
                <a:lnTo>
                  <a:pt x="910" y="0"/>
                </a:lnTo>
                <a:lnTo>
                  <a:pt x="917" y="0"/>
                </a:lnTo>
                <a:lnTo>
                  <a:pt x="931" y="0"/>
                </a:lnTo>
                <a:lnTo>
                  <a:pt x="944" y="0"/>
                </a:lnTo>
                <a:lnTo>
                  <a:pt x="956" y="2"/>
                </a:lnTo>
                <a:lnTo>
                  <a:pt x="967" y="2"/>
                </a:lnTo>
                <a:lnTo>
                  <a:pt x="977" y="4"/>
                </a:lnTo>
                <a:lnTo>
                  <a:pt x="990" y="6"/>
                </a:lnTo>
                <a:lnTo>
                  <a:pt x="1002" y="8"/>
                </a:lnTo>
                <a:lnTo>
                  <a:pt x="1015" y="12"/>
                </a:lnTo>
                <a:lnTo>
                  <a:pt x="1021" y="16"/>
                </a:lnTo>
                <a:lnTo>
                  <a:pt x="1027" y="17"/>
                </a:lnTo>
                <a:lnTo>
                  <a:pt x="1032" y="19"/>
                </a:lnTo>
                <a:lnTo>
                  <a:pt x="1038" y="23"/>
                </a:lnTo>
                <a:lnTo>
                  <a:pt x="1042" y="25"/>
                </a:lnTo>
                <a:lnTo>
                  <a:pt x="1046" y="29"/>
                </a:lnTo>
                <a:lnTo>
                  <a:pt x="1052" y="35"/>
                </a:lnTo>
                <a:lnTo>
                  <a:pt x="1057" y="42"/>
                </a:lnTo>
                <a:lnTo>
                  <a:pt x="1061" y="48"/>
                </a:lnTo>
                <a:lnTo>
                  <a:pt x="1061" y="54"/>
                </a:lnTo>
                <a:lnTo>
                  <a:pt x="1063" y="58"/>
                </a:lnTo>
                <a:lnTo>
                  <a:pt x="1063" y="64"/>
                </a:lnTo>
                <a:lnTo>
                  <a:pt x="1061" y="67"/>
                </a:lnTo>
                <a:lnTo>
                  <a:pt x="1059" y="71"/>
                </a:lnTo>
                <a:lnTo>
                  <a:pt x="1055" y="75"/>
                </a:lnTo>
                <a:lnTo>
                  <a:pt x="1052" y="81"/>
                </a:lnTo>
                <a:lnTo>
                  <a:pt x="1048" y="85"/>
                </a:lnTo>
                <a:lnTo>
                  <a:pt x="1042" y="88"/>
                </a:lnTo>
                <a:lnTo>
                  <a:pt x="1036" y="94"/>
                </a:lnTo>
                <a:lnTo>
                  <a:pt x="1029" y="98"/>
                </a:lnTo>
                <a:lnTo>
                  <a:pt x="1021" y="104"/>
                </a:lnTo>
                <a:lnTo>
                  <a:pt x="1011" y="110"/>
                </a:lnTo>
                <a:lnTo>
                  <a:pt x="1002" y="115"/>
                </a:lnTo>
                <a:lnTo>
                  <a:pt x="990" y="121"/>
                </a:lnTo>
                <a:lnTo>
                  <a:pt x="979" y="127"/>
                </a:lnTo>
                <a:lnTo>
                  <a:pt x="967" y="133"/>
                </a:lnTo>
                <a:lnTo>
                  <a:pt x="954" y="138"/>
                </a:lnTo>
                <a:lnTo>
                  <a:pt x="938" y="146"/>
                </a:lnTo>
                <a:lnTo>
                  <a:pt x="919" y="152"/>
                </a:lnTo>
                <a:lnTo>
                  <a:pt x="900" y="158"/>
                </a:lnTo>
                <a:lnTo>
                  <a:pt x="879" y="165"/>
                </a:lnTo>
                <a:lnTo>
                  <a:pt x="858" y="171"/>
                </a:lnTo>
                <a:lnTo>
                  <a:pt x="833" y="179"/>
                </a:lnTo>
                <a:lnTo>
                  <a:pt x="808" y="184"/>
                </a:lnTo>
                <a:lnTo>
                  <a:pt x="781" y="192"/>
                </a:lnTo>
                <a:lnTo>
                  <a:pt x="754" y="200"/>
                </a:lnTo>
                <a:lnTo>
                  <a:pt x="725" y="206"/>
                </a:lnTo>
                <a:lnTo>
                  <a:pt x="695" y="213"/>
                </a:lnTo>
                <a:lnTo>
                  <a:pt x="662" y="221"/>
                </a:lnTo>
                <a:lnTo>
                  <a:pt x="627" y="229"/>
                </a:lnTo>
                <a:lnTo>
                  <a:pt x="593" y="236"/>
                </a:lnTo>
                <a:lnTo>
                  <a:pt x="556" y="246"/>
                </a:lnTo>
                <a:lnTo>
                  <a:pt x="520" y="254"/>
                </a:lnTo>
                <a:lnTo>
                  <a:pt x="501" y="259"/>
                </a:lnTo>
                <a:lnTo>
                  <a:pt x="482" y="263"/>
                </a:lnTo>
                <a:lnTo>
                  <a:pt x="464" y="267"/>
                </a:lnTo>
                <a:lnTo>
                  <a:pt x="445" y="271"/>
                </a:lnTo>
                <a:lnTo>
                  <a:pt x="430" y="275"/>
                </a:lnTo>
                <a:lnTo>
                  <a:pt x="412" y="278"/>
                </a:lnTo>
                <a:lnTo>
                  <a:pt x="397" y="280"/>
                </a:lnTo>
                <a:lnTo>
                  <a:pt x="382" y="284"/>
                </a:lnTo>
                <a:lnTo>
                  <a:pt x="366" y="288"/>
                </a:lnTo>
                <a:lnTo>
                  <a:pt x="351" y="290"/>
                </a:lnTo>
                <a:lnTo>
                  <a:pt x="338" y="294"/>
                </a:lnTo>
                <a:lnTo>
                  <a:pt x="324" y="296"/>
                </a:lnTo>
                <a:lnTo>
                  <a:pt x="311" y="300"/>
                </a:lnTo>
                <a:lnTo>
                  <a:pt x="297" y="302"/>
                </a:lnTo>
                <a:lnTo>
                  <a:pt x="286" y="303"/>
                </a:lnTo>
                <a:lnTo>
                  <a:pt x="274" y="305"/>
                </a:lnTo>
                <a:lnTo>
                  <a:pt x="263" y="309"/>
                </a:lnTo>
                <a:lnTo>
                  <a:pt x="253" y="311"/>
                </a:lnTo>
                <a:lnTo>
                  <a:pt x="242" y="311"/>
                </a:lnTo>
                <a:lnTo>
                  <a:pt x="232" y="313"/>
                </a:lnTo>
                <a:lnTo>
                  <a:pt x="224" y="315"/>
                </a:lnTo>
                <a:lnTo>
                  <a:pt x="215" y="317"/>
                </a:lnTo>
                <a:lnTo>
                  <a:pt x="207" y="319"/>
                </a:lnTo>
                <a:lnTo>
                  <a:pt x="199" y="319"/>
                </a:lnTo>
                <a:lnTo>
                  <a:pt x="192" y="321"/>
                </a:lnTo>
                <a:lnTo>
                  <a:pt x="186" y="321"/>
                </a:lnTo>
                <a:lnTo>
                  <a:pt x="180" y="321"/>
                </a:lnTo>
                <a:lnTo>
                  <a:pt x="174" y="323"/>
                </a:lnTo>
                <a:lnTo>
                  <a:pt x="169" y="323"/>
                </a:lnTo>
                <a:lnTo>
                  <a:pt x="165" y="323"/>
                </a:lnTo>
                <a:lnTo>
                  <a:pt x="159" y="323"/>
                </a:lnTo>
                <a:lnTo>
                  <a:pt x="157" y="323"/>
                </a:lnTo>
                <a:lnTo>
                  <a:pt x="142" y="323"/>
                </a:lnTo>
                <a:lnTo>
                  <a:pt x="128" y="321"/>
                </a:lnTo>
                <a:lnTo>
                  <a:pt x="115" y="319"/>
                </a:lnTo>
                <a:lnTo>
                  <a:pt x="101" y="317"/>
                </a:lnTo>
                <a:lnTo>
                  <a:pt x="88" y="313"/>
                </a:lnTo>
                <a:lnTo>
                  <a:pt x="75" y="309"/>
                </a:lnTo>
                <a:lnTo>
                  <a:pt x="48" y="3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庙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3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撇舒展，“由”写饱满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3"/>
          <p:cNvSpPr/>
          <p:nvPr/>
        </p:nvSpPr>
        <p:spPr>
          <a:xfrm>
            <a:off x="2076480" y="1868400"/>
            <a:ext cx="142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84"/>
          <p:cNvSpPr/>
          <p:nvPr/>
        </p:nvSpPr>
        <p:spPr>
          <a:xfrm>
            <a:off x="6764400" y="3436920"/>
            <a:ext cx="234720" cy="1379520"/>
          </a:xfrm>
          <a:custGeom>
            <a:avLst/>
            <a:gdLst/>
            <a:ahLst/>
            <a:rect l="l" t="t" r="r" b="b"/>
            <a:pathLst>
              <a:path w="298" h="1737">
                <a:moveTo>
                  <a:pt x="8" y="23"/>
                </a:moveTo>
                <a:lnTo>
                  <a:pt x="12" y="17"/>
                </a:lnTo>
                <a:lnTo>
                  <a:pt x="16" y="14"/>
                </a:lnTo>
                <a:lnTo>
                  <a:pt x="20" y="10"/>
                </a:lnTo>
                <a:lnTo>
                  <a:pt x="25" y="8"/>
                </a:lnTo>
                <a:lnTo>
                  <a:pt x="31" y="4"/>
                </a:lnTo>
                <a:lnTo>
                  <a:pt x="39" y="2"/>
                </a:lnTo>
                <a:lnTo>
                  <a:pt x="47" y="2"/>
                </a:lnTo>
                <a:lnTo>
                  <a:pt x="56" y="0"/>
                </a:lnTo>
                <a:lnTo>
                  <a:pt x="64" y="0"/>
                </a:lnTo>
                <a:lnTo>
                  <a:pt x="73" y="0"/>
                </a:lnTo>
                <a:lnTo>
                  <a:pt x="85" y="0"/>
                </a:lnTo>
                <a:lnTo>
                  <a:pt x="95" y="2"/>
                </a:lnTo>
                <a:lnTo>
                  <a:pt x="118" y="4"/>
                </a:lnTo>
                <a:lnTo>
                  <a:pt x="143" y="10"/>
                </a:lnTo>
                <a:lnTo>
                  <a:pt x="166" y="16"/>
                </a:lnTo>
                <a:lnTo>
                  <a:pt x="189" y="21"/>
                </a:lnTo>
                <a:lnTo>
                  <a:pt x="210" y="29"/>
                </a:lnTo>
                <a:lnTo>
                  <a:pt x="231" y="37"/>
                </a:lnTo>
                <a:lnTo>
                  <a:pt x="238" y="40"/>
                </a:lnTo>
                <a:lnTo>
                  <a:pt x="248" y="44"/>
                </a:lnTo>
                <a:lnTo>
                  <a:pt x="256" y="46"/>
                </a:lnTo>
                <a:lnTo>
                  <a:pt x="263" y="50"/>
                </a:lnTo>
                <a:lnTo>
                  <a:pt x="271" y="54"/>
                </a:lnTo>
                <a:lnTo>
                  <a:pt x="277" y="58"/>
                </a:lnTo>
                <a:lnTo>
                  <a:pt x="283" y="60"/>
                </a:lnTo>
                <a:lnTo>
                  <a:pt x="288" y="63"/>
                </a:lnTo>
                <a:lnTo>
                  <a:pt x="290" y="69"/>
                </a:lnTo>
                <a:lnTo>
                  <a:pt x="292" y="75"/>
                </a:lnTo>
                <a:lnTo>
                  <a:pt x="294" y="81"/>
                </a:lnTo>
                <a:lnTo>
                  <a:pt x="296" y="88"/>
                </a:lnTo>
                <a:lnTo>
                  <a:pt x="296" y="96"/>
                </a:lnTo>
                <a:lnTo>
                  <a:pt x="298" y="106"/>
                </a:lnTo>
                <a:lnTo>
                  <a:pt x="298" y="115"/>
                </a:lnTo>
                <a:lnTo>
                  <a:pt x="298" y="125"/>
                </a:lnTo>
                <a:lnTo>
                  <a:pt x="298" y="136"/>
                </a:lnTo>
                <a:lnTo>
                  <a:pt x="298" y="148"/>
                </a:lnTo>
                <a:lnTo>
                  <a:pt x="296" y="161"/>
                </a:lnTo>
                <a:lnTo>
                  <a:pt x="296" y="175"/>
                </a:lnTo>
                <a:lnTo>
                  <a:pt x="294" y="190"/>
                </a:lnTo>
                <a:lnTo>
                  <a:pt x="292" y="206"/>
                </a:lnTo>
                <a:lnTo>
                  <a:pt x="290" y="221"/>
                </a:lnTo>
                <a:lnTo>
                  <a:pt x="288" y="238"/>
                </a:lnTo>
                <a:lnTo>
                  <a:pt x="286" y="248"/>
                </a:lnTo>
                <a:lnTo>
                  <a:pt x="286" y="257"/>
                </a:lnTo>
                <a:lnTo>
                  <a:pt x="285" y="269"/>
                </a:lnTo>
                <a:lnTo>
                  <a:pt x="283" y="280"/>
                </a:lnTo>
                <a:lnTo>
                  <a:pt x="281" y="294"/>
                </a:lnTo>
                <a:lnTo>
                  <a:pt x="281" y="307"/>
                </a:lnTo>
                <a:lnTo>
                  <a:pt x="279" y="323"/>
                </a:lnTo>
                <a:lnTo>
                  <a:pt x="277" y="338"/>
                </a:lnTo>
                <a:lnTo>
                  <a:pt x="275" y="353"/>
                </a:lnTo>
                <a:lnTo>
                  <a:pt x="273" y="371"/>
                </a:lnTo>
                <a:lnTo>
                  <a:pt x="271" y="388"/>
                </a:lnTo>
                <a:lnTo>
                  <a:pt x="269" y="407"/>
                </a:lnTo>
                <a:lnTo>
                  <a:pt x="267" y="428"/>
                </a:lnTo>
                <a:lnTo>
                  <a:pt x="265" y="447"/>
                </a:lnTo>
                <a:lnTo>
                  <a:pt x="263" y="468"/>
                </a:lnTo>
                <a:lnTo>
                  <a:pt x="262" y="492"/>
                </a:lnTo>
                <a:lnTo>
                  <a:pt x="260" y="515"/>
                </a:lnTo>
                <a:lnTo>
                  <a:pt x="258" y="540"/>
                </a:lnTo>
                <a:lnTo>
                  <a:pt x="256" y="564"/>
                </a:lnTo>
                <a:lnTo>
                  <a:pt x="254" y="589"/>
                </a:lnTo>
                <a:lnTo>
                  <a:pt x="252" y="616"/>
                </a:lnTo>
                <a:lnTo>
                  <a:pt x="250" y="643"/>
                </a:lnTo>
                <a:lnTo>
                  <a:pt x="248" y="672"/>
                </a:lnTo>
                <a:lnTo>
                  <a:pt x="248" y="703"/>
                </a:lnTo>
                <a:lnTo>
                  <a:pt x="246" y="731"/>
                </a:lnTo>
                <a:lnTo>
                  <a:pt x="244" y="762"/>
                </a:lnTo>
                <a:lnTo>
                  <a:pt x="242" y="795"/>
                </a:lnTo>
                <a:lnTo>
                  <a:pt x="240" y="827"/>
                </a:lnTo>
                <a:lnTo>
                  <a:pt x="238" y="862"/>
                </a:lnTo>
                <a:lnTo>
                  <a:pt x="238" y="897"/>
                </a:lnTo>
                <a:lnTo>
                  <a:pt x="237" y="931"/>
                </a:lnTo>
                <a:lnTo>
                  <a:pt x="235" y="968"/>
                </a:lnTo>
                <a:lnTo>
                  <a:pt x="235" y="1004"/>
                </a:lnTo>
                <a:lnTo>
                  <a:pt x="233" y="1039"/>
                </a:lnTo>
                <a:lnTo>
                  <a:pt x="231" y="1075"/>
                </a:lnTo>
                <a:lnTo>
                  <a:pt x="231" y="1108"/>
                </a:lnTo>
                <a:lnTo>
                  <a:pt x="229" y="1140"/>
                </a:lnTo>
                <a:lnTo>
                  <a:pt x="227" y="1173"/>
                </a:lnTo>
                <a:lnTo>
                  <a:pt x="227" y="1206"/>
                </a:lnTo>
                <a:lnTo>
                  <a:pt x="225" y="1236"/>
                </a:lnTo>
                <a:lnTo>
                  <a:pt x="225" y="1265"/>
                </a:lnTo>
                <a:lnTo>
                  <a:pt x="223" y="1296"/>
                </a:lnTo>
                <a:lnTo>
                  <a:pt x="223" y="1323"/>
                </a:lnTo>
                <a:lnTo>
                  <a:pt x="221" y="1351"/>
                </a:lnTo>
                <a:lnTo>
                  <a:pt x="219" y="1378"/>
                </a:lnTo>
                <a:lnTo>
                  <a:pt x="219" y="1403"/>
                </a:lnTo>
                <a:lnTo>
                  <a:pt x="217" y="1430"/>
                </a:lnTo>
                <a:lnTo>
                  <a:pt x="217" y="1453"/>
                </a:lnTo>
                <a:lnTo>
                  <a:pt x="215" y="1478"/>
                </a:lnTo>
                <a:lnTo>
                  <a:pt x="215" y="1501"/>
                </a:lnTo>
                <a:lnTo>
                  <a:pt x="215" y="1522"/>
                </a:lnTo>
                <a:lnTo>
                  <a:pt x="214" y="1543"/>
                </a:lnTo>
                <a:lnTo>
                  <a:pt x="214" y="1564"/>
                </a:lnTo>
                <a:lnTo>
                  <a:pt x="212" y="1584"/>
                </a:lnTo>
                <a:lnTo>
                  <a:pt x="212" y="1603"/>
                </a:lnTo>
                <a:lnTo>
                  <a:pt x="212" y="1620"/>
                </a:lnTo>
                <a:lnTo>
                  <a:pt x="210" y="1637"/>
                </a:lnTo>
                <a:lnTo>
                  <a:pt x="210" y="1655"/>
                </a:lnTo>
                <a:lnTo>
                  <a:pt x="210" y="1670"/>
                </a:lnTo>
                <a:lnTo>
                  <a:pt x="210" y="1685"/>
                </a:lnTo>
                <a:lnTo>
                  <a:pt x="210" y="1699"/>
                </a:lnTo>
                <a:lnTo>
                  <a:pt x="210" y="1712"/>
                </a:lnTo>
                <a:lnTo>
                  <a:pt x="210" y="1726"/>
                </a:lnTo>
                <a:lnTo>
                  <a:pt x="210" y="1737"/>
                </a:lnTo>
                <a:lnTo>
                  <a:pt x="62" y="1737"/>
                </a:lnTo>
                <a:lnTo>
                  <a:pt x="62" y="1730"/>
                </a:lnTo>
                <a:lnTo>
                  <a:pt x="62" y="1718"/>
                </a:lnTo>
                <a:lnTo>
                  <a:pt x="62" y="1707"/>
                </a:lnTo>
                <a:lnTo>
                  <a:pt x="62" y="1691"/>
                </a:lnTo>
                <a:lnTo>
                  <a:pt x="62" y="1676"/>
                </a:lnTo>
                <a:lnTo>
                  <a:pt x="62" y="1657"/>
                </a:lnTo>
                <a:lnTo>
                  <a:pt x="64" y="1637"/>
                </a:lnTo>
                <a:lnTo>
                  <a:pt x="64" y="1616"/>
                </a:lnTo>
                <a:lnTo>
                  <a:pt x="64" y="1591"/>
                </a:lnTo>
                <a:lnTo>
                  <a:pt x="66" y="1566"/>
                </a:lnTo>
                <a:lnTo>
                  <a:pt x="66" y="1540"/>
                </a:lnTo>
                <a:lnTo>
                  <a:pt x="68" y="1509"/>
                </a:lnTo>
                <a:lnTo>
                  <a:pt x="70" y="1478"/>
                </a:lnTo>
                <a:lnTo>
                  <a:pt x="71" y="1445"/>
                </a:lnTo>
                <a:lnTo>
                  <a:pt x="73" y="1409"/>
                </a:lnTo>
                <a:lnTo>
                  <a:pt x="75" y="1373"/>
                </a:lnTo>
                <a:lnTo>
                  <a:pt x="77" y="1336"/>
                </a:lnTo>
                <a:lnTo>
                  <a:pt x="79" y="1298"/>
                </a:lnTo>
                <a:lnTo>
                  <a:pt x="81" y="1259"/>
                </a:lnTo>
                <a:lnTo>
                  <a:pt x="83" y="1217"/>
                </a:lnTo>
                <a:lnTo>
                  <a:pt x="85" y="1175"/>
                </a:lnTo>
                <a:lnTo>
                  <a:pt x="85" y="1131"/>
                </a:lnTo>
                <a:lnTo>
                  <a:pt x="87" y="1085"/>
                </a:lnTo>
                <a:lnTo>
                  <a:pt x="87" y="1037"/>
                </a:lnTo>
                <a:lnTo>
                  <a:pt x="87" y="987"/>
                </a:lnTo>
                <a:lnTo>
                  <a:pt x="89" y="935"/>
                </a:lnTo>
                <a:lnTo>
                  <a:pt x="89" y="883"/>
                </a:lnTo>
                <a:lnTo>
                  <a:pt x="89" y="827"/>
                </a:lnTo>
                <a:lnTo>
                  <a:pt x="89" y="772"/>
                </a:lnTo>
                <a:lnTo>
                  <a:pt x="89" y="712"/>
                </a:lnTo>
                <a:lnTo>
                  <a:pt x="89" y="653"/>
                </a:lnTo>
                <a:lnTo>
                  <a:pt x="89" y="589"/>
                </a:lnTo>
                <a:lnTo>
                  <a:pt x="87" y="559"/>
                </a:lnTo>
                <a:lnTo>
                  <a:pt x="87" y="530"/>
                </a:lnTo>
                <a:lnTo>
                  <a:pt x="85" y="503"/>
                </a:lnTo>
                <a:lnTo>
                  <a:pt x="83" y="474"/>
                </a:lnTo>
                <a:lnTo>
                  <a:pt x="83" y="449"/>
                </a:lnTo>
                <a:lnTo>
                  <a:pt x="81" y="422"/>
                </a:lnTo>
                <a:lnTo>
                  <a:pt x="79" y="397"/>
                </a:lnTo>
                <a:lnTo>
                  <a:pt x="79" y="374"/>
                </a:lnTo>
                <a:lnTo>
                  <a:pt x="77" y="351"/>
                </a:lnTo>
                <a:lnTo>
                  <a:pt x="75" y="330"/>
                </a:lnTo>
                <a:lnTo>
                  <a:pt x="75" y="309"/>
                </a:lnTo>
                <a:lnTo>
                  <a:pt x="73" y="288"/>
                </a:lnTo>
                <a:lnTo>
                  <a:pt x="71" y="269"/>
                </a:lnTo>
                <a:lnTo>
                  <a:pt x="70" y="252"/>
                </a:lnTo>
                <a:lnTo>
                  <a:pt x="70" y="232"/>
                </a:lnTo>
                <a:lnTo>
                  <a:pt x="68" y="217"/>
                </a:lnTo>
                <a:lnTo>
                  <a:pt x="66" y="202"/>
                </a:lnTo>
                <a:lnTo>
                  <a:pt x="64" y="186"/>
                </a:lnTo>
                <a:lnTo>
                  <a:pt x="62" y="173"/>
                </a:lnTo>
                <a:lnTo>
                  <a:pt x="60" y="159"/>
                </a:lnTo>
                <a:lnTo>
                  <a:pt x="58" y="148"/>
                </a:lnTo>
                <a:lnTo>
                  <a:pt x="56" y="136"/>
                </a:lnTo>
                <a:lnTo>
                  <a:pt x="54" y="127"/>
                </a:lnTo>
                <a:lnTo>
                  <a:pt x="52" y="117"/>
                </a:lnTo>
                <a:lnTo>
                  <a:pt x="50" y="110"/>
                </a:lnTo>
                <a:lnTo>
                  <a:pt x="48" y="102"/>
                </a:lnTo>
                <a:lnTo>
                  <a:pt x="47" y="94"/>
                </a:lnTo>
                <a:lnTo>
                  <a:pt x="45" y="88"/>
                </a:lnTo>
                <a:lnTo>
                  <a:pt x="43" y="85"/>
                </a:lnTo>
                <a:lnTo>
                  <a:pt x="41" y="81"/>
                </a:lnTo>
                <a:lnTo>
                  <a:pt x="39" y="79"/>
                </a:lnTo>
                <a:lnTo>
                  <a:pt x="35" y="77"/>
                </a:lnTo>
                <a:lnTo>
                  <a:pt x="29" y="73"/>
                </a:lnTo>
                <a:lnTo>
                  <a:pt x="22" y="71"/>
                </a:lnTo>
                <a:lnTo>
                  <a:pt x="18" y="67"/>
                </a:lnTo>
                <a:lnTo>
                  <a:pt x="12" y="63"/>
                </a:lnTo>
                <a:lnTo>
                  <a:pt x="8" y="60"/>
                </a:lnTo>
                <a:lnTo>
                  <a:pt x="6" y="58"/>
                </a:lnTo>
                <a:lnTo>
                  <a:pt x="4" y="54"/>
                </a:lnTo>
                <a:lnTo>
                  <a:pt x="2" y="50"/>
                </a:lnTo>
                <a:lnTo>
                  <a:pt x="0" y="46"/>
                </a:lnTo>
                <a:lnTo>
                  <a:pt x="0" y="42"/>
                </a:lnTo>
                <a:lnTo>
                  <a:pt x="0" y="39"/>
                </a:lnTo>
                <a:lnTo>
                  <a:pt x="2" y="35"/>
                </a:lnTo>
                <a:lnTo>
                  <a:pt x="4" y="29"/>
                </a:lnTo>
                <a:lnTo>
                  <a:pt x="8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5"/>
          <p:cNvSpPr/>
          <p:nvPr/>
        </p:nvSpPr>
        <p:spPr>
          <a:xfrm>
            <a:off x="6400800" y="4708440"/>
            <a:ext cx="898560" cy="149400"/>
          </a:xfrm>
          <a:custGeom>
            <a:avLst/>
            <a:gdLst/>
            <a:ahLst/>
            <a:rect l="l" t="t" r="r" b="b"/>
            <a:pathLst>
              <a:path w="1130" h="188">
                <a:moveTo>
                  <a:pt x="504" y="40"/>
                </a:moveTo>
                <a:lnTo>
                  <a:pt x="541" y="34"/>
                </a:lnTo>
                <a:lnTo>
                  <a:pt x="577" y="31"/>
                </a:lnTo>
                <a:lnTo>
                  <a:pt x="612" y="25"/>
                </a:lnTo>
                <a:lnTo>
                  <a:pt x="645" y="21"/>
                </a:lnTo>
                <a:lnTo>
                  <a:pt x="675" y="17"/>
                </a:lnTo>
                <a:lnTo>
                  <a:pt x="706" y="15"/>
                </a:lnTo>
                <a:lnTo>
                  <a:pt x="735" y="11"/>
                </a:lnTo>
                <a:lnTo>
                  <a:pt x="762" y="9"/>
                </a:lnTo>
                <a:lnTo>
                  <a:pt x="787" y="6"/>
                </a:lnTo>
                <a:lnTo>
                  <a:pt x="810" y="4"/>
                </a:lnTo>
                <a:lnTo>
                  <a:pt x="833" y="4"/>
                </a:lnTo>
                <a:lnTo>
                  <a:pt x="854" y="2"/>
                </a:lnTo>
                <a:lnTo>
                  <a:pt x="871" y="0"/>
                </a:lnTo>
                <a:lnTo>
                  <a:pt x="888" y="0"/>
                </a:lnTo>
                <a:lnTo>
                  <a:pt x="904" y="0"/>
                </a:lnTo>
                <a:lnTo>
                  <a:pt x="917" y="0"/>
                </a:lnTo>
                <a:lnTo>
                  <a:pt x="931" y="0"/>
                </a:lnTo>
                <a:lnTo>
                  <a:pt x="944" y="0"/>
                </a:lnTo>
                <a:lnTo>
                  <a:pt x="956" y="4"/>
                </a:lnTo>
                <a:lnTo>
                  <a:pt x="969" y="6"/>
                </a:lnTo>
                <a:lnTo>
                  <a:pt x="982" y="11"/>
                </a:lnTo>
                <a:lnTo>
                  <a:pt x="998" y="15"/>
                </a:lnTo>
                <a:lnTo>
                  <a:pt x="1011" y="23"/>
                </a:lnTo>
                <a:lnTo>
                  <a:pt x="1025" y="29"/>
                </a:lnTo>
                <a:lnTo>
                  <a:pt x="1038" y="36"/>
                </a:lnTo>
                <a:lnTo>
                  <a:pt x="1051" y="46"/>
                </a:lnTo>
                <a:lnTo>
                  <a:pt x="1065" y="56"/>
                </a:lnTo>
                <a:lnTo>
                  <a:pt x="1078" y="67"/>
                </a:lnTo>
                <a:lnTo>
                  <a:pt x="1092" y="79"/>
                </a:lnTo>
                <a:lnTo>
                  <a:pt x="1105" y="92"/>
                </a:lnTo>
                <a:lnTo>
                  <a:pt x="1119" y="105"/>
                </a:lnTo>
                <a:lnTo>
                  <a:pt x="1130" y="121"/>
                </a:lnTo>
                <a:lnTo>
                  <a:pt x="1080" y="125"/>
                </a:lnTo>
                <a:lnTo>
                  <a:pt x="1030" y="128"/>
                </a:lnTo>
                <a:lnTo>
                  <a:pt x="982" y="132"/>
                </a:lnTo>
                <a:lnTo>
                  <a:pt x="934" y="136"/>
                </a:lnTo>
                <a:lnTo>
                  <a:pt x="886" y="138"/>
                </a:lnTo>
                <a:lnTo>
                  <a:pt x="842" y="142"/>
                </a:lnTo>
                <a:lnTo>
                  <a:pt x="796" y="146"/>
                </a:lnTo>
                <a:lnTo>
                  <a:pt x="754" y="150"/>
                </a:lnTo>
                <a:lnTo>
                  <a:pt x="710" y="152"/>
                </a:lnTo>
                <a:lnTo>
                  <a:pt x="670" y="155"/>
                </a:lnTo>
                <a:lnTo>
                  <a:pt x="629" y="157"/>
                </a:lnTo>
                <a:lnTo>
                  <a:pt x="589" y="161"/>
                </a:lnTo>
                <a:lnTo>
                  <a:pt x="551" y="163"/>
                </a:lnTo>
                <a:lnTo>
                  <a:pt x="512" y="165"/>
                </a:lnTo>
                <a:lnTo>
                  <a:pt x="476" y="167"/>
                </a:lnTo>
                <a:lnTo>
                  <a:pt x="439" y="171"/>
                </a:lnTo>
                <a:lnTo>
                  <a:pt x="405" y="173"/>
                </a:lnTo>
                <a:lnTo>
                  <a:pt x="372" y="175"/>
                </a:lnTo>
                <a:lnTo>
                  <a:pt x="337" y="176"/>
                </a:lnTo>
                <a:lnTo>
                  <a:pt x="307" y="178"/>
                </a:lnTo>
                <a:lnTo>
                  <a:pt x="276" y="178"/>
                </a:lnTo>
                <a:lnTo>
                  <a:pt x="245" y="180"/>
                </a:lnTo>
                <a:lnTo>
                  <a:pt x="217" y="182"/>
                </a:lnTo>
                <a:lnTo>
                  <a:pt x="188" y="184"/>
                </a:lnTo>
                <a:lnTo>
                  <a:pt x="161" y="184"/>
                </a:lnTo>
                <a:lnTo>
                  <a:pt x="136" y="186"/>
                </a:lnTo>
                <a:lnTo>
                  <a:pt x="111" y="186"/>
                </a:lnTo>
                <a:lnTo>
                  <a:pt x="86" y="186"/>
                </a:lnTo>
                <a:lnTo>
                  <a:pt x="63" y="188"/>
                </a:lnTo>
                <a:lnTo>
                  <a:pt x="40" y="188"/>
                </a:lnTo>
                <a:lnTo>
                  <a:pt x="19" y="188"/>
                </a:lnTo>
                <a:lnTo>
                  <a:pt x="0" y="188"/>
                </a:lnTo>
                <a:lnTo>
                  <a:pt x="0" y="80"/>
                </a:lnTo>
                <a:lnTo>
                  <a:pt x="53" y="79"/>
                </a:lnTo>
                <a:lnTo>
                  <a:pt x="111" y="77"/>
                </a:lnTo>
                <a:lnTo>
                  <a:pt x="142" y="77"/>
                </a:lnTo>
                <a:lnTo>
                  <a:pt x="170" y="75"/>
                </a:lnTo>
                <a:lnTo>
                  <a:pt x="201" y="73"/>
                </a:lnTo>
                <a:lnTo>
                  <a:pt x="232" y="71"/>
                </a:lnTo>
                <a:lnTo>
                  <a:pt x="263" y="67"/>
                </a:lnTo>
                <a:lnTo>
                  <a:pt x="295" y="65"/>
                </a:lnTo>
                <a:lnTo>
                  <a:pt x="328" y="61"/>
                </a:lnTo>
                <a:lnTo>
                  <a:pt x="362" y="57"/>
                </a:lnTo>
                <a:lnTo>
                  <a:pt x="397" y="54"/>
                </a:lnTo>
                <a:lnTo>
                  <a:pt x="432" y="50"/>
                </a:lnTo>
                <a:lnTo>
                  <a:pt x="468" y="44"/>
                </a:lnTo>
                <a:lnTo>
                  <a:pt x="504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86"/>
          <p:cNvSpPr/>
          <p:nvPr/>
        </p:nvSpPr>
        <p:spPr>
          <a:xfrm>
            <a:off x="6539040" y="4257720"/>
            <a:ext cx="718920" cy="166680"/>
          </a:xfrm>
          <a:custGeom>
            <a:avLst/>
            <a:gdLst/>
            <a:ahLst/>
            <a:rect l="l" t="t" r="r" b="b"/>
            <a:pathLst>
              <a:path w="906" h="209">
                <a:moveTo>
                  <a:pt x="718" y="136"/>
                </a:moveTo>
                <a:lnTo>
                  <a:pt x="697" y="140"/>
                </a:lnTo>
                <a:lnTo>
                  <a:pt x="676" y="146"/>
                </a:lnTo>
                <a:lnTo>
                  <a:pt x="657" y="149"/>
                </a:lnTo>
                <a:lnTo>
                  <a:pt x="638" y="153"/>
                </a:lnTo>
                <a:lnTo>
                  <a:pt x="618" y="157"/>
                </a:lnTo>
                <a:lnTo>
                  <a:pt x="603" y="161"/>
                </a:lnTo>
                <a:lnTo>
                  <a:pt x="588" y="163"/>
                </a:lnTo>
                <a:lnTo>
                  <a:pt x="572" y="165"/>
                </a:lnTo>
                <a:lnTo>
                  <a:pt x="559" y="169"/>
                </a:lnTo>
                <a:lnTo>
                  <a:pt x="547" y="171"/>
                </a:lnTo>
                <a:lnTo>
                  <a:pt x="538" y="172"/>
                </a:lnTo>
                <a:lnTo>
                  <a:pt x="528" y="172"/>
                </a:lnTo>
                <a:lnTo>
                  <a:pt x="521" y="174"/>
                </a:lnTo>
                <a:lnTo>
                  <a:pt x="513" y="174"/>
                </a:lnTo>
                <a:lnTo>
                  <a:pt x="509" y="176"/>
                </a:lnTo>
                <a:lnTo>
                  <a:pt x="505" y="176"/>
                </a:lnTo>
                <a:lnTo>
                  <a:pt x="501" y="176"/>
                </a:lnTo>
                <a:lnTo>
                  <a:pt x="494" y="176"/>
                </a:lnTo>
                <a:lnTo>
                  <a:pt x="488" y="176"/>
                </a:lnTo>
                <a:lnTo>
                  <a:pt x="480" y="176"/>
                </a:lnTo>
                <a:lnTo>
                  <a:pt x="473" y="176"/>
                </a:lnTo>
                <a:lnTo>
                  <a:pt x="465" y="176"/>
                </a:lnTo>
                <a:lnTo>
                  <a:pt x="457" y="176"/>
                </a:lnTo>
                <a:lnTo>
                  <a:pt x="448" y="178"/>
                </a:lnTo>
                <a:lnTo>
                  <a:pt x="428" y="178"/>
                </a:lnTo>
                <a:lnTo>
                  <a:pt x="407" y="182"/>
                </a:lnTo>
                <a:lnTo>
                  <a:pt x="384" y="184"/>
                </a:lnTo>
                <a:lnTo>
                  <a:pt x="359" y="190"/>
                </a:lnTo>
                <a:lnTo>
                  <a:pt x="334" y="194"/>
                </a:lnTo>
                <a:lnTo>
                  <a:pt x="309" y="199"/>
                </a:lnTo>
                <a:lnTo>
                  <a:pt x="284" y="203"/>
                </a:lnTo>
                <a:lnTo>
                  <a:pt x="261" y="207"/>
                </a:lnTo>
                <a:lnTo>
                  <a:pt x="238" y="207"/>
                </a:lnTo>
                <a:lnTo>
                  <a:pt x="215" y="209"/>
                </a:lnTo>
                <a:lnTo>
                  <a:pt x="204" y="207"/>
                </a:lnTo>
                <a:lnTo>
                  <a:pt x="194" y="207"/>
                </a:lnTo>
                <a:lnTo>
                  <a:pt x="183" y="205"/>
                </a:lnTo>
                <a:lnTo>
                  <a:pt x="173" y="203"/>
                </a:lnTo>
                <a:lnTo>
                  <a:pt x="148" y="201"/>
                </a:lnTo>
                <a:lnTo>
                  <a:pt x="125" y="199"/>
                </a:lnTo>
                <a:lnTo>
                  <a:pt x="102" y="197"/>
                </a:lnTo>
                <a:lnTo>
                  <a:pt x="93" y="194"/>
                </a:lnTo>
                <a:lnTo>
                  <a:pt x="81" y="192"/>
                </a:lnTo>
                <a:lnTo>
                  <a:pt x="71" y="188"/>
                </a:lnTo>
                <a:lnTo>
                  <a:pt x="60" y="184"/>
                </a:lnTo>
                <a:lnTo>
                  <a:pt x="50" y="180"/>
                </a:lnTo>
                <a:lnTo>
                  <a:pt x="41" y="174"/>
                </a:lnTo>
                <a:lnTo>
                  <a:pt x="29" y="169"/>
                </a:lnTo>
                <a:lnTo>
                  <a:pt x="20" y="163"/>
                </a:lnTo>
                <a:lnTo>
                  <a:pt x="10" y="155"/>
                </a:lnTo>
                <a:lnTo>
                  <a:pt x="0" y="149"/>
                </a:lnTo>
                <a:lnTo>
                  <a:pt x="4" y="146"/>
                </a:lnTo>
                <a:lnTo>
                  <a:pt x="8" y="144"/>
                </a:lnTo>
                <a:lnTo>
                  <a:pt x="14" y="142"/>
                </a:lnTo>
                <a:lnTo>
                  <a:pt x="20" y="138"/>
                </a:lnTo>
                <a:lnTo>
                  <a:pt x="27" y="136"/>
                </a:lnTo>
                <a:lnTo>
                  <a:pt x="33" y="134"/>
                </a:lnTo>
                <a:lnTo>
                  <a:pt x="41" y="130"/>
                </a:lnTo>
                <a:lnTo>
                  <a:pt x="50" y="128"/>
                </a:lnTo>
                <a:lnTo>
                  <a:pt x="58" y="124"/>
                </a:lnTo>
                <a:lnTo>
                  <a:pt x="68" y="123"/>
                </a:lnTo>
                <a:lnTo>
                  <a:pt x="77" y="121"/>
                </a:lnTo>
                <a:lnTo>
                  <a:pt x="89" y="117"/>
                </a:lnTo>
                <a:lnTo>
                  <a:pt x="100" y="115"/>
                </a:lnTo>
                <a:lnTo>
                  <a:pt x="112" y="113"/>
                </a:lnTo>
                <a:lnTo>
                  <a:pt x="123" y="109"/>
                </a:lnTo>
                <a:lnTo>
                  <a:pt x="137" y="107"/>
                </a:lnTo>
                <a:lnTo>
                  <a:pt x="150" y="103"/>
                </a:lnTo>
                <a:lnTo>
                  <a:pt x="164" y="101"/>
                </a:lnTo>
                <a:lnTo>
                  <a:pt x="179" y="98"/>
                </a:lnTo>
                <a:lnTo>
                  <a:pt x="192" y="96"/>
                </a:lnTo>
                <a:lnTo>
                  <a:pt x="210" y="92"/>
                </a:lnTo>
                <a:lnTo>
                  <a:pt x="225" y="88"/>
                </a:lnTo>
                <a:lnTo>
                  <a:pt x="242" y="86"/>
                </a:lnTo>
                <a:lnTo>
                  <a:pt x="258" y="82"/>
                </a:lnTo>
                <a:lnTo>
                  <a:pt x="277" y="78"/>
                </a:lnTo>
                <a:lnTo>
                  <a:pt x="294" y="76"/>
                </a:lnTo>
                <a:lnTo>
                  <a:pt x="313" y="73"/>
                </a:lnTo>
                <a:lnTo>
                  <a:pt x="332" y="69"/>
                </a:lnTo>
                <a:lnTo>
                  <a:pt x="352" y="65"/>
                </a:lnTo>
                <a:lnTo>
                  <a:pt x="371" y="61"/>
                </a:lnTo>
                <a:lnTo>
                  <a:pt x="413" y="53"/>
                </a:lnTo>
                <a:lnTo>
                  <a:pt x="434" y="50"/>
                </a:lnTo>
                <a:lnTo>
                  <a:pt x="453" y="46"/>
                </a:lnTo>
                <a:lnTo>
                  <a:pt x="473" y="44"/>
                </a:lnTo>
                <a:lnTo>
                  <a:pt x="492" y="40"/>
                </a:lnTo>
                <a:lnTo>
                  <a:pt x="511" y="36"/>
                </a:lnTo>
                <a:lnTo>
                  <a:pt x="528" y="34"/>
                </a:lnTo>
                <a:lnTo>
                  <a:pt x="546" y="30"/>
                </a:lnTo>
                <a:lnTo>
                  <a:pt x="563" y="29"/>
                </a:lnTo>
                <a:lnTo>
                  <a:pt x="578" y="27"/>
                </a:lnTo>
                <a:lnTo>
                  <a:pt x="594" y="23"/>
                </a:lnTo>
                <a:lnTo>
                  <a:pt x="609" y="21"/>
                </a:lnTo>
                <a:lnTo>
                  <a:pt x="622" y="19"/>
                </a:lnTo>
                <a:lnTo>
                  <a:pt x="636" y="17"/>
                </a:lnTo>
                <a:lnTo>
                  <a:pt x="649" y="15"/>
                </a:lnTo>
                <a:lnTo>
                  <a:pt x="661" y="13"/>
                </a:lnTo>
                <a:lnTo>
                  <a:pt x="672" y="11"/>
                </a:lnTo>
                <a:lnTo>
                  <a:pt x="684" y="9"/>
                </a:lnTo>
                <a:lnTo>
                  <a:pt x="693" y="9"/>
                </a:lnTo>
                <a:lnTo>
                  <a:pt x="703" y="7"/>
                </a:lnTo>
                <a:lnTo>
                  <a:pt x="713" y="5"/>
                </a:lnTo>
                <a:lnTo>
                  <a:pt x="720" y="5"/>
                </a:lnTo>
                <a:lnTo>
                  <a:pt x="728" y="4"/>
                </a:lnTo>
                <a:lnTo>
                  <a:pt x="736" y="4"/>
                </a:lnTo>
                <a:lnTo>
                  <a:pt x="741" y="4"/>
                </a:lnTo>
                <a:lnTo>
                  <a:pt x="747" y="2"/>
                </a:lnTo>
                <a:lnTo>
                  <a:pt x="753" y="2"/>
                </a:lnTo>
                <a:lnTo>
                  <a:pt x="759" y="2"/>
                </a:lnTo>
                <a:lnTo>
                  <a:pt x="762" y="2"/>
                </a:lnTo>
                <a:lnTo>
                  <a:pt x="766" y="0"/>
                </a:lnTo>
                <a:lnTo>
                  <a:pt x="768" y="0"/>
                </a:lnTo>
                <a:lnTo>
                  <a:pt x="770" y="0"/>
                </a:lnTo>
                <a:lnTo>
                  <a:pt x="772" y="0"/>
                </a:lnTo>
                <a:lnTo>
                  <a:pt x="778" y="0"/>
                </a:lnTo>
                <a:lnTo>
                  <a:pt x="782" y="0"/>
                </a:lnTo>
                <a:lnTo>
                  <a:pt x="789" y="2"/>
                </a:lnTo>
                <a:lnTo>
                  <a:pt x="795" y="2"/>
                </a:lnTo>
                <a:lnTo>
                  <a:pt x="805" y="4"/>
                </a:lnTo>
                <a:lnTo>
                  <a:pt x="814" y="5"/>
                </a:lnTo>
                <a:lnTo>
                  <a:pt x="818" y="7"/>
                </a:lnTo>
                <a:lnTo>
                  <a:pt x="826" y="9"/>
                </a:lnTo>
                <a:lnTo>
                  <a:pt x="832" y="11"/>
                </a:lnTo>
                <a:lnTo>
                  <a:pt x="839" y="13"/>
                </a:lnTo>
                <a:lnTo>
                  <a:pt x="847" y="17"/>
                </a:lnTo>
                <a:lnTo>
                  <a:pt x="853" y="19"/>
                </a:lnTo>
                <a:lnTo>
                  <a:pt x="858" y="23"/>
                </a:lnTo>
                <a:lnTo>
                  <a:pt x="864" y="27"/>
                </a:lnTo>
                <a:lnTo>
                  <a:pt x="874" y="32"/>
                </a:lnTo>
                <a:lnTo>
                  <a:pt x="881" y="40"/>
                </a:lnTo>
                <a:lnTo>
                  <a:pt x="889" y="48"/>
                </a:lnTo>
                <a:lnTo>
                  <a:pt x="895" y="55"/>
                </a:lnTo>
                <a:lnTo>
                  <a:pt x="901" y="61"/>
                </a:lnTo>
                <a:lnTo>
                  <a:pt x="906" y="67"/>
                </a:lnTo>
                <a:lnTo>
                  <a:pt x="904" y="71"/>
                </a:lnTo>
                <a:lnTo>
                  <a:pt x="903" y="73"/>
                </a:lnTo>
                <a:lnTo>
                  <a:pt x="899" y="76"/>
                </a:lnTo>
                <a:lnTo>
                  <a:pt x="893" y="80"/>
                </a:lnTo>
                <a:lnTo>
                  <a:pt x="887" y="84"/>
                </a:lnTo>
                <a:lnTo>
                  <a:pt x="878" y="88"/>
                </a:lnTo>
                <a:lnTo>
                  <a:pt x="868" y="92"/>
                </a:lnTo>
                <a:lnTo>
                  <a:pt x="856" y="96"/>
                </a:lnTo>
                <a:lnTo>
                  <a:pt x="845" y="101"/>
                </a:lnTo>
                <a:lnTo>
                  <a:pt x="832" y="105"/>
                </a:lnTo>
                <a:lnTo>
                  <a:pt x="816" y="109"/>
                </a:lnTo>
                <a:lnTo>
                  <a:pt x="799" y="115"/>
                </a:lnTo>
                <a:lnTo>
                  <a:pt x="780" y="121"/>
                </a:lnTo>
                <a:lnTo>
                  <a:pt x="760" y="124"/>
                </a:lnTo>
                <a:lnTo>
                  <a:pt x="741" y="130"/>
                </a:lnTo>
                <a:lnTo>
                  <a:pt x="718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87"/>
          <p:cNvSpPr/>
          <p:nvPr/>
        </p:nvSpPr>
        <p:spPr>
          <a:xfrm>
            <a:off x="6259680" y="3933720"/>
            <a:ext cx="193680" cy="1042920"/>
          </a:xfrm>
          <a:custGeom>
            <a:avLst/>
            <a:gdLst/>
            <a:ahLst/>
            <a:rect l="l" t="t" r="r" b="b"/>
            <a:pathLst>
              <a:path w="244" h="1315">
                <a:moveTo>
                  <a:pt x="31" y="4"/>
                </a:moveTo>
                <a:lnTo>
                  <a:pt x="39" y="2"/>
                </a:lnTo>
                <a:lnTo>
                  <a:pt x="48" y="2"/>
                </a:lnTo>
                <a:lnTo>
                  <a:pt x="56" y="0"/>
                </a:lnTo>
                <a:lnTo>
                  <a:pt x="65" y="2"/>
                </a:lnTo>
                <a:lnTo>
                  <a:pt x="77" y="2"/>
                </a:lnTo>
                <a:lnTo>
                  <a:pt x="87" y="4"/>
                </a:lnTo>
                <a:lnTo>
                  <a:pt x="98" y="8"/>
                </a:lnTo>
                <a:lnTo>
                  <a:pt x="110" y="11"/>
                </a:lnTo>
                <a:lnTo>
                  <a:pt x="121" y="15"/>
                </a:lnTo>
                <a:lnTo>
                  <a:pt x="135" y="19"/>
                </a:lnTo>
                <a:lnTo>
                  <a:pt x="148" y="25"/>
                </a:lnTo>
                <a:lnTo>
                  <a:pt x="161" y="31"/>
                </a:lnTo>
                <a:lnTo>
                  <a:pt x="175" y="36"/>
                </a:lnTo>
                <a:lnTo>
                  <a:pt x="188" y="44"/>
                </a:lnTo>
                <a:lnTo>
                  <a:pt x="217" y="57"/>
                </a:lnTo>
                <a:lnTo>
                  <a:pt x="219" y="113"/>
                </a:lnTo>
                <a:lnTo>
                  <a:pt x="221" y="167"/>
                </a:lnTo>
                <a:lnTo>
                  <a:pt x="221" y="219"/>
                </a:lnTo>
                <a:lnTo>
                  <a:pt x="223" y="269"/>
                </a:lnTo>
                <a:lnTo>
                  <a:pt x="225" y="319"/>
                </a:lnTo>
                <a:lnTo>
                  <a:pt x="225" y="365"/>
                </a:lnTo>
                <a:lnTo>
                  <a:pt x="227" y="411"/>
                </a:lnTo>
                <a:lnTo>
                  <a:pt x="227" y="455"/>
                </a:lnTo>
                <a:lnTo>
                  <a:pt x="229" y="499"/>
                </a:lnTo>
                <a:lnTo>
                  <a:pt x="230" y="541"/>
                </a:lnTo>
                <a:lnTo>
                  <a:pt x="230" y="580"/>
                </a:lnTo>
                <a:lnTo>
                  <a:pt x="232" y="618"/>
                </a:lnTo>
                <a:lnTo>
                  <a:pt x="232" y="656"/>
                </a:lnTo>
                <a:lnTo>
                  <a:pt x="234" y="691"/>
                </a:lnTo>
                <a:lnTo>
                  <a:pt x="234" y="725"/>
                </a:lnTo>
                <a:lnTo>
                  <a:pt x="236" y="758"/>
                </a:lnTo>
                <a:lnTo>
                  <a:pt x="236" y="791"/>
                </a:lnTo>
                <a:lnTo>
                  <a:pt x="238" y="819"/>
                </a:lnTo>
                <a:lnTo>
                  <a:pt x="238" y="848"/>
                </a:lnTo>
                <a:lnTo>
                  <a:pt x="240" y="875"/>
                </a:lnTo>
                <a:lnTo>
                  <a:pt x="240" y="900"/>
                </a:lnTo>
                <a:lnTo>
                  <a:pt x="240" y="925"/>
                </a:lnTo>
                <a:lnTo>
                  <a:pt x="242" y="946"/>
                </a:lnTo>
                <a:lnTo>
                  <a:pt x="242" y="967"/>
                </a:lnTo>
                <a:lnTo>
                  <a:pt x="242" y="986"/>
                </a:lnTo>
                <a:lnTo>
                  <a:pt x="244" y="1006"/>
                </a:lnTo>
                <a:lnTo>
                  <a:pt x="244" y="1023"/>
                </a:lnTo>
                <a:lnTo>
                  <a:pt x="244" y="1038"/>
                </a:lnTo>
                <a:lnTo>
                  <a:pt x="244" y="1052"/>
                </a:lnTo>
                <a:lnTo>
                  <a:pt x="244" y="1063"/>
                </a:lnTo>
                <a:lnTo>
                  <a:pt x="244" y="1075"/>
                </a:lnTo>
                <a:lnTo>
                  <a:pt x="244" y="1084"/>
                </a:lnTo>
                <a:lnTo>
                  <a:pt x="244" y="1102"/>
                </a:lnTo>
                <a:lnTo>
                  <a:pt x="244" y="1117"/>
                </a:lnTo>
                <a:lnTo>
                  <a:pt x="244" y="1132"/>
                </a:lnTo>
                <a:lnTo>
                  <a:pt x="244" y="1148"/>
                </a:lnTo>
                <a:lnTo>
                  <a:pt x="244" y="1161"/>
                </a:lnTo>
                <a:lnTo>
                  <a:pt x="244" y="1175"/>
                </a:lnTo>
                <a:lnTo>
                  <a:pt x="244" y="1186"/>
                </a:lnTo>
                <a:lnTo>
                  <a:pt x="242" y="1198"/>
                </a:lnTo>
                <a:lnTo>
                  <a:pt x="242" y="1207"/>
                </a:lnTo>
                <a:lnTo>
                  <a:pt x="242" y="1217"/>
                </a:lnTo>
                <a:lnTo>
                  <a:pt x="240" y="1226"/>
                </a:lnTo>
                <a:lnTo>
                  <a:pt x="238" y="1234"/>
                </a:lnTo>
                <a:lnTo>
                  <a:pt x="238" y="1242"/>
                </a:lnTo>
                <a:lnTo>
                  <a:pt x="236" y="1248"/>
                </a:lnTo>
                <a:lnTo>
                  <a:pt x="234" y="1253"/>
                </a:lnTo>
                <a:lnTo>
                  <a:pt x="230" y="1259"/>
                </a:lnTo>
                <a:lnTo>
                  <a:pt x="229" y="1267"/>
                </a:lnTo>
                <a:lnTo>
                  <a:pt x="227" y="1274"/>
                </a:lnTo>
                <a:lnTo>
                  <a:pt x="223" y="1280"/>
                </a:lnTo>
                <a:lnTo>
                  <a:pt x="221" y="1286"/>
                </a:lnTo>
                <a:lnTo>
                  <a:pt x="219" y="1290"/>
                </a:lnTo>
                <a:lnTo>
                  <a:pt x="217" y="1295"/>
                </a:lnTo>
                <a:lnTo>
                  <a:pt x="213" y="1299"/>
                </a:lnTo>
                <a:lnTo>
                  <a:pt x="211" y="1301"/>
                </a:lnTo>
                <a:lnTo>
                  <a:pt x="206" y="1307"/>
                </a:lnTo>
                <a:lnTo>
                  <a:pt x="202" y="1311"/>
                </a:lnTo>
                <a:lnTo>
                  <a:pt x="196" y="1313"/>
                </a:lnTo>
                <a:lnTo>
                  <a:pt x="192" y="1315"/>
                </a:lnTo>
                <a:lnTo>
                  <a:pt x="186" y="1311"/>
                </a:lnTo>
                <a:lnTo>
                  <a:pt x="182" y="1305"/>
                </a:lnTo>
                <a:lnTo>
                  <a:pt x="177" y="1299"/>
                </a:lnTo>
                <a:lnTo>
                  <a:pt x="173" y="1294"/>
                </a:lnTo>
                <a:lnTo>
                  <a:pt x="169" y="1284"/>
                </a:lnTo>
                <a:lnTo>
                  <a:pt x="165" y="1274"/>
                </a:lnTo>
                <a:lnTo>
                  <a:pt x="163" y="1263"/>
                </a:lnTo>
                <a:lnTo>
                  <a:pt x="159" y="1251"/>
                </a:lnTo>
                <a:lnTo>
                  <a:pt x="156" y="1238"/>
                </a:lnTo>
                <a:lnTo>
                  <a:pt x="154" y="1223"/>
                </a:lnTo>
                <a:lnTo>
                  <a:pt x="150" y="1205"/>
                </a:lnTo>
                <a:lnTo>
                  <a:pt x="148" y="1186"/>
                </a:lnTo>
                <a:lnTo>
                  <a:pt x="146" y="1167"/>
                </a:lnTo>
                <a:lnTo>
                  <a:pt x="142" y="1146"/>
                </a:lnTo>
                <a:lnTo>
                  <a:pt x="140" y="1123"/>
                </a:lnTo>
                <a:lnTo>
                  <a:pt x="138" y="1098"/>
                </a:lnTo>
                <a:lnTo>
                  <a:pt x="135" y="1075"/>
                </a:lnTo>
                <a:lnTo>
                  <a:pt x="133" y="1050"/>
                </a:lnTo>
                <a:lnTo>
                  <a:pt x="129" y="1023"/>
                </a:lnTo>
                <a:lnTo>
                  <a:pt x="127" y="994"/>
                </a:lnTo>
                <a:lnTo>
                  <a:pt x="123" y="965"/>
                </a:lnTo>
                <a:lnTo>
                  <a:pt x="119" y="935"/>
                </a:lnTo>
                <a:lnTo>
                  <a:pt x="115" y="902"/>
                </a:lnTo>
                <a:lnTo>
                  <a:pt x="111" y="867"/>
                </a:lnTo>
                <a:lnTo>
                  <a:pt x="108" y="833"/>
                </a:lnTo>
                <a:lnTo>
                  <a:pt x="104" y="796"/>
                </a:lnTo>
                <a:lnTo>
                  <a:pt x="100" y="760"/>
                </a:lnTo>
                <a:lnTo>
                  <a:pt x="96" y="722"/>
                </a:lnTo>
                <a:lnTo>
                  <a:pt x="94" y="683"/>
                </a:lnTo>
                <a:lnTo>
                  <a:pt x="90" y="641"/>
                </a:lnTo>
                <a:lnTo>
                  <a:pt x="87" y="601"/>
                </a:lnTo>
                <a:lnTo>
                  <a:pt x="85" y="558"/>
                </a:lnTo>
                <a:lnTo>
                  <a:pt x="79" y="516"/>
                </a:lnTo>
                <a:lnTo>
                  <a:pt x="75" y="476"/>
                </a:lnTo>
                <a:lnTo>
                  <a:pt x="69" y="438"/>
                </a:lnTo>
                <a:lnTo>
                  <a:pt x="65" y="401"/>
                </a:lnTo>
                <a:lnTo>
                  <a:pt x="60" y="366"/>
                </a:lnTo>
                <a:lnTo>
                  <a:pt x="56" y="334"/>
                </a:lnTo>
                <a:lnTo>
                  <a:pt x="50" y="303"/>
                </a:lnTo>
                <a:lnTo>
                  <a:pt x="46" y="274"/>
                </a:lnTo>
                <a:lnTo>
                  <a:pt x="42" y="247"/>
                </a:lnTo>
                <a:lnTo>
                  <a:pt x="39" y="223"/>
                </a:lnTo>
                <a:lnTo>
                  <a:pt x="35" y="200"/>
                </a:lnTo>
                <a:lnTo>
                  <a:pt x="31" y="178"/>
                </a:lnTo>
                <a:lnTo>
                  <a:pt x="27" y="159"/>
                </a:lnTo>
                <a:lnTo>
                  <a:pt x="23" y="142"/>
                </a:lnTo>
                <a:lnTo>
                  <a:pt x="21" y="127"/>
                </a:lnTo>
                <a:lnTo>
                  <a:pt x="17" y="113"/>
                </a:lnTo>
                <a:lnTo>
                  <a:pt x="14" y="100"/>
                </a:lnTo>
                <a:lnTo>
                  <a:pt x="10" y="88"/>
                </a:lnTo>
                <a:lnTo>
                  <a:pt x="6" y="79"/>
                </a:lnTo>
                <a:lnTo>
                  <a:pt x="4" y="69"/>
                </a:lnTo>
                <a:lnTo>
                  <a:pt x="2" y="59"/>
                </a:lnTo>
                <a:lnTo>
                  <a:pt x="0" y="52"/>
                </a:lnTo>
                <a:lnTo>
                  <a:pt x="0" y="44"/>
                </a:lnTo>
                <a:lnTo>
                  <a:pt x="0" y="38"/>
                </a:lnTo>
                <a:lnTo>
                  <a:pt x="0" y="33"/>
                </a:lnTo>
                <a:lnTo>
                  <a:pt x="2" y="27"/>
                </a:lnTo>
                <a:lnTo>
                  <a:pt x="6" y="21"/>
                </a:lnTo>
                <a:lnTo>
                  <a:pt x="10" y="17"/>
                </a:lnTo>
                <a:lnTo>
                  <a:pt x="14" y="13"/>
                </a:lnTo>
                <a:lnTo>
                  <a:pt x="17" y="9"/>
                </a:lnTo>
                <a:lnTo>
                  <a:pt x="25" y="8"/>
                </a:lnTo>
                <a:lnTo>
                  <a:pt x="31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88"/>
          <p:cNvSpPr/>
          <p:nvPr/>
        </p:nvSpPr>
        <p:spPr>
          <a:xfrm>
            <a:off x="6316560" y="3787920"/>
            <a:ext cx="1363680" cy="1287360"/>
          </a:xfrm>
          <a:custGeom>
            <a:avLst/>
            <a:gdLst/>
            <a:ahLst/>
            <a:rect l="l" t="t" r="r" b="b"/>
            <a:pathLst>
              <a:path w="1718" h="1622">
                <a:moveTo>
                  <a:pt x="1399" y="1512"/>
                </a:moveTo>
                <a:lnTo>
                  <a:pt x="1386" y="1526"/>
                </a:lnTo>
                <a:lnTo>
                  <a:pt x="1374" y="1539"/>
                </a:lnTo>
                <a:lnTo>
                  <a:pt x="1363" y="1552"/>
                </a:lnTo>
                <a:lnTo>
                  <a:pt x="1351" y="1564"/>
                </a:lnTo>
                <a:lnTo>
                  <a:pt x="1342" y="1575"/>
                </a:lnTo>
                <a:lnTo>
                  <a:pt x="1330" y="1585"/>
                </a:lnTo>
                <a:lnTo>
                  <a:pt x="1321" y="1593"/>
                </a:lnTo>
                <a:lnTo>
                  <a:pt x="1313" y="1600"/>
                </a:lnTo>
                <a:lnTo>
                  <a:pt x="1303" y="1608"/>
                </a:lnTo>
                <a:lnTo>
                  <a:pt x="1296" y="1612"/>
                </a:lnTo>
                <a:lnTo>
                  <a:pt x="1288" y="1616"/>
                </a:lnTo>
                <a:lnTo>
                  <a:pt x="1282" y="1620"/>
                </a:lnTo>
                <a:lnTo>
                  <a:pt x="1277" y="1622"/>
                </a:lnTo>
                <a:lnTo>
                  <a:pt x="1273" y="1622"/>
                </a:lnTo>
                <a:lnTo>
                  <a:pt x="1269" y="1622"/>
                </a:lnTo>
                <a:lnTo>
                  <a:pt x="1265" y="1620"/>
                </a:lnTo>
                <a:lnTo>
                  <a:pt x="1255" y="1614"/>
                </a:lnTo>
                <a:lnTo>
                  <a:pt x="1248" y="1606"/>
                </a:lnTo>
                <a:lnTo>
                  <a:pt x="1244" y="1602"/>
                </a:lnTo>
                <a:lnTo>
                  <a:pt x="1240" y="1597"/>
                </a:lnTo>
                <a:lnTo>
                  <a:pt x="1238" y="1591"/>
                </a:lnTo>
                <a:lnTo>
                  <a:pt x="1234" y="1585"/>
                </a:lnTo>
                <a:lnTo>
                  <a:pt x="1232" y="1579"/>
                </a:lnTo>
                <a:lnTo>
                  <a:pt x="1231" y="1572"/>
                </a:lnTo>
                <a:lnTo>
                  <a:pt x="1229" y="1564"/>
                </a:lnTo>
                <a:lnTo>
                  <a:pt x="1229" y="1554"/>
                </a:lnTo>
                <a:lnTo>
                  <a:pt x="1227" y="1545"/>
                </a:lnTo>
                <a:lnTo>
                  <a:pt x="1227" y="1535"/>
                </a:lnTo>
                <a:lnTo>
                  <a:pt x="1225" y="1524"/>
                </a:lnTo>
                <a:lnTo>
                  <a:pt x="1225" y="1512"/>
                </a:lnTo>
                <a:lnTo>
                  <a:pt x="1225" y="1499"/>
                </a:lnTo>
                <a:lnTo>
                  <a:pt x="1223" y="1485"/>
                </a:lnTo>
                <a:lnTo>
                  <a:pt x="1219" y="1470"/>
                </a:lnTo>
                <a:lnTo>
                  <a:pt x="1215" y="1455"/>
                </a:lnTo>
                <a:lnTo>
                  <a:pt x="1209" y="1439"/>
                </a:lnTo>
                <a:lnTo>
                  <a:pt x="1202" y="1422"/>
                </a:lnTo>
                <a:lnTo>
                  <a:pt x="1194" y="1405"/>
                </a:lnTo>
                <a:lnTo>
                  <a:pt x="1184" y="1387"/>
                </a:lnTo>
                <a:lnTo>
                  <a:pt x="1175" y="1366"/>
                </a:lnTo>
                <a:lnTo>
                  <a:pt x="1161" y="1347"/>
                </a:lnTo>
                <a:lnTo>
                  <a:pt x="1150" y="1326"/>
                </a:lnTo>
                <a:lnTo>
                  <a:pt x="1135" y="1303"/>
                </a:lnTo>
                <a:lnTo>
                  <a:pt x="1119" y="1280"/>
                </a:lnTo>
                <a:lnTo>
                  <a:pt x="1102" y="1255"/>
                </a:lnTo>
                <a:lnTo>
                  <a:pt x="1085" y="1228"/>
                </a:lnTo>
                <a:lnTo>
                  <a:pt x="1065" y="1201"/>
                </a:lnTo>
                <a:lnTo>
                  <a:pt x="1087" y="1209"/>
                </a:lnTo>
                <a:lnTo>
                  <a:pt x="1108" y="1215"/>
                </a:lnTo>
                <a:lnTo>
                  <a:pt x="1129" y="1222"/>
                </a:lnTo>
                <a:lnTo>
                  <a:pt x="1148" y="1228"/>
                </a:lnTo>
                <a:lnTo>
                  <a:pt x="1165" y="1234"/>
                </a:lnTo>
                <a:lnTo>
                  <a:pt x="1183" y="1240"/>
                </a:lnTo>
                <a:lnTo>
                  <a:pt x="1198" y="1243"/>
                </a:lnTo>
                <a:lnTo>
                  <a:pt x="1211" y="1249"/>
                </a:lnTo>
                <a:lnTo>
                  <a:pt x="1225" y="1251"/>
                </a:lnTo>
                <a:lnTo>
                  <a:pt x="1236" y="1255"/>
                </a:lnTo>
                <a:lnTo>
                  <a:pt x="1248" y="1257"/>
                </a:lnTo>
                <a:lnTo>
                  <a:pt x="1255" y="1257"/>
                </a:lnTo>
                <a:lnTo>
                  <a:pt x="1265" y="1259"/>
                </a:lnTo>
                <a:lnTo>
                  <a:pt x="1271" y="1259"/>
                </a:lnTo>
                <a:lnTo>
                  <a:pt x="1275" y="1257"/>
                </a:lnTo>
                <a:lnTo>
                  <a:pt x="1279" y="1255"/>
                </a:lnTo>
                <a:lnTo>
                  <a:pt x="1284" y="1249"/>
                </a:lnTo>
                <a:lnTo>
                  <a:pt x="1290" y="1241"/>
                </a:lnTo>
                <a:lnTo>
                  <a:pt x="1298" y="1234"/>
                </a:lnTo>
                <a:lnTo>
                  <a:pt x="1305" y="1222"/>
                </a:lnTo>
                <a:lnTo>
                  <a:pt x="1309" y="1217"/>
                </a:lnTo>
                <a:lnTo>
                  <a:pt x="1313" y="1211"/>
                </a:lnTo>
                <a:lnTo>
                  <a:pt x="1317" y="1203"/>
                </a:lnTo>
                <a:lnTo>
                  <a:pt x="1321" y="1195"/>
                </a:lnTo>
                <a:lnTo>
                  <a:pt x="1323" y="1188"/>
                </a:lnTo>
                <a:lnTo>
                  <a:pt x="1326" y="1178"/>
                </a:lnTo>
                <a:lnTo>
                  <a:pt x="1328" y="1170"/>
                </a:lnTo>
                <a:lnTo>
                  <a:pt x="1332" y="1161"/>
                </a:lnTo>
                <a:lnTo>
                  <a:pt x="1334" y="1151"/>
                </a:lnTo>
                <a:lnTo>
                  <a:pt x="1336" y="1142"/>
                </a:lnTo>
                <a:lnTo>
                  <a:pt x="1340" y="1132"/>
                </a:lnTo>
                <a:lnTo>
                  <a:pt x="1342" y="1119"/>
                </a:lnTo>
                <a:lnTo>
                  <a:pt x="1344" y="1107"/>
                </a:lnTo>
                <a:lnTo>
                  <a:pt x="1348" y="1092"/>
                </a:lnTo>
                <a:lnTo>
                  <a:pt x="1350" y="1076"/>
                </a:lnTo>
                <a:lnTo>
                  <a:pt x="1353" y="1059"/>
                </a:lnTo>
                <a:lnTo>
                  <a:pt x="1357" y="1040"/>
                </a:lnTo>
                <a:lnTo>
                  <a:pt x="1359" y="1021"/>
                </a:lnTo>
                <a:lnTo>
                  <a:pt x="1363" y="1000"/>
                </a:lnTo>
                <a:lnTo>
                  <a:pt x="1367" y="979"/>
                </a:lnTo>
                <a:lnTo>
                  <a:pt x="1371" y="955"/>
                </a:lnTo>
                <a:lnTo>
                  <a:pt x="1376" y="931"/>
                </a:lnTo>
                <a:lnTo>
                  <a:pt x="1380" y="904"/>
                </a:lnTo>
                <a:lnTo>
                  <a:pt x="1386" y="877"/>
                </a:lnTo>
                <a:lnTo>
                  <a:pt x="1396" y="775"/>
                </a:lnTo>
                <a:lnTo>
                  <a:pt x="1399" y="725"/>
                </a:lnTo>
                <a:lnTo>
                  <a:pt x="1403" y="673"/>
                </a:lnTo>
                <a:lnTo>
                  <a:pt x="1407" y="623"/>
                </a:lnTo>
                <a:lnTo>
                  <a:pt x="1409" y="574"/>
                </a:lnTo>
                <a:lnTo>
                  <a:pt x="1411" y="522"/>
                </a:lnTo>
                <a:lnTo>
                  <a:pt x="1411" y="472"/>
                </a:lnTo>
                <a:lnTo>
                  <a:pt x="1411" y="449"/>
                </a:lnTo>
                <a:lnTo>
                  <a:pt x="1411" y="428"/>
                </a:lnTo>
                <a:lnTo>
                  <a:pt x="1411" y="408"/>
                </a:lnTo>
                <a:lnTo>
                  <a:pt x="1411" y="389"/>
                </a:lnTo>
                <a:lnTo>
                  <a:pt x="1411" y="370"/>
                </a:lnTo>
                <a:lnTo>
                  <a:pt x="1411" y="353"/>
                </a:lnTo>
                <a:lnTo>
                  <a:pt x="1411" y="337"/>
                </a:lnTo>
                <a:lnTo>
                  <a:pt x="1409" y="322"/>
                </a:lnTo>
                <a:lnTo>
                  <a:pt x="1409" y="307"/>
                </a:lnTo>
                <a:lnTo>
                  <a:pt x="1409" y="295"/>
                </a:lnTo>
                <a:lnTo>
                  <a:pt x="1407" y="284"/>
                </a:lnTo>
                <a:lnTo>
                  <a:pt x="1405" y="272"/>
                </a:lnTo>
                <a:lnTo>
                  <a:pt x="1405" y="263"/>
                </a:lnTo>
                <a:lnTo>
                  <a:pt x="1403" y="255"/>
                </a:lnTo>
                <a:lnTo>
                  <a:pt x="1401" y="247"/>
                </a:lnTo>
                <a:lnTo>
                  <a:pt x="1399" y="241"/>
                </a:lnTo>
                <a:lnTo>
                  <a:pt x="1394" y="236"/>
                </a:lnTo>
                <a:lnTo>
                  <a:pt x="1386" y="230"/>
                </a:lnTo>
                <a:lnTo>
                  <a:pt x="1378" y="222"/>
                </a:lnTo>
                <a:lnTo>
                  <a:pt x="1371" y="215"/>
                </a:lnTo>
                <a:lnTo>
                  <a:pt x="1361" y="207"/>
                </a:lnTo>
                <a:lnTo>
                  <a:pt x="1351" y="201"/>
                </a:lnTo>
                <a:lnTo>
                  <a:pt x="1342" y="193"/>
                </a:lnTo>
                <a:lnTo>
                  <a:pt x="1332" y="188"/>
                </a:lnTo>
                <a:lnTo>
                  <a:pt x="1317" y="184"/>
                </a:lnTo>
                <a:lnTo>
                  <a:pt x="1300" y="180"/>
                </a:lnTo>
                <a:lnTo>
                  <a:pt x="1280" y="178"/>
                </a:lnTo>
                <a:lnTo>
                  <a:pt x="1261" y="178"/>
                </a:lnTo>
                <a:lnTo>
                  <a:pt x="1250" y="178"/>
                </a:lnTo>
                <a:lnTo>
                  <a:pt x="1238" y="178"/>
                </a:lnTo>
                <a:lnTo>
                  <a:pt x="1227" y="180"/>
                </a:lnTo>
                <a:lnTo>
                  <a:pt x="1213" y="180"/>
                </a:lnTo>
                <a:lnTo>
                  <a:pt x="1202" y="182"/>
                </a:lnTo>
                <a:lnTo>
                  <a:pt x="1188" y="184"/>
                </a:lnTo>
                <a:lnTo>
                  <a:pt x="1173" y="186"/>
                </a:lnTo>
                <a:lnTo>
                  <a:pt x="1159" y="188"/>
                </a:lnTo>
                <a:lnTo>
                  <a:pt x="1140" y="192"/>
                </a:lnTo>
                <a:lnTo>
                  <a:pt x="1121" y="193"/>
                </a:lnTo>
                <a:lnTo>
                  <a:pt x="1100" y="195"/>
                </a:lnTo>
                <a:lnTo>
                  <a:pt x="1077" y="199"/>
                </a:lnTo>
                <a:lnTo>
                  <a:pt x="1052" y="201"/>
                </a:lnTo>
                <a:lnTo>
                  <a:pt x="1025" y="205"/>
                </a:lnTo>
                <a:lnTo>
                  <a:pt x="998" y="207"/>
                </a:lnTo>
                <a:lnTo>
                  <a:pt x="969" y="211"/>
                </a:lnTo>
                <a:lnTo>
                  <a:pt x="939" y="215"/>
                </a:lnTo>
                <a:lnTo>
                  <a:pt x="906" y="220"/>
                </a:lnTo>
                <a:lnTo>
                  <a:pt x="872" y="224"/>
                </a:lnTo>
                <a:lnTo>
                  <a:pt x="837" y="230"/>
                </a:lnTo>
                <a:lnTo>
                  <a:pt x="799" y="236"/>
                </a:lnTo>
                <a:lnTo>
                  <a:pt x="760" y="241"/>
                </a:lnTo>
                <a:lnTo>
                  <a:pt x="720" y="247"/>
                </a:lnTo>
                <a:lnTo>
                  <a:pt x="680" y="255"/>
                </a:lnTo>
                <a:lnTo>
                  <a:pt x="595" y="270"/>
                </a:lnTo>
                <a:lnTo>
                  <a:pt x="509" y="286"/>
                </a:lnTo>
                <a:lnTo>
                  <a:pt x="424" y="299"/>
                </a:lnTo>
                <a:lnTo>
                  <a:pt x="340" y="312"/>
                </a:lnTo>
                <a:lnTo>
                  <a:pt x="255" y="326"/>
                </a:lnTo>
                <a:lnTo>
                  <a:pt x="171" y="336"/>
                </a:lnTo>
                <a:lnTo>
                  <a:pt x="127" y="339"/>
                </a:lnTo>
                <a:lnTo>
                  <a:pt x="85" y="343"/>
                </a:lnTo>
                <a:lnTo>
                  <a:pt x="42" y="347"/>
                </a:lnTo>
                <a:lnTo>
                  <a:pt x="0" y="351"/>
                </a:lnTo>
                <a:lnTo>
                  <a:pt x="0" y="289"/>
                </a:lnTo>
                <a:lnTo>
                  <a:pt x="0" y="228"/>
                </a:lnTo>
                <a:lnTo>
                  <a:pt x="37" y="228"/>
                </a:lnTo>
                <a:lnTo>
                  <a:pt x="73" y="228"/>
                </a:lnTo>
                <a:lnTo>
                  <a:pt x="111" y="226"/>
                </a:lnTo>
                <a:lnTo>
                  <a:pt x="154" y="224"/>
                </a:lnTo>
                <a:lnTo>
                  <a:pt x="196" y="220"/>
                </a:lnTo>
                <a:lnTo>
                  <a:pt x="238" y="217"/>
                </a:lnTo>
                <a:lnTo>
                  <a:pt x="284" y="213"/>
                </a:lnTo>
                <a:lnTo>
                  <a:pt x="332" y="209"/>
                </a:lnTo>
                <a:lnTo>
                  <a:pt x="380" y="203"/>
                </a:lnTo>
                <a:lnTo>
                  <a:pt x="432" y="197"/>
                </a:lnTo>
                <a:lnTo>
                  <a:pt x="484" y="192"/>
                </a:lnTo>
                <a:lnTo>
                  <a:pt x="538" y="184"/>
                </a:lnTo>
                <a:lnTo>
                  <a:pt x="593" y="176"/>
                </a:lnTo>
                <a:lnTo>
                  <a:pt x="651" y="167"/>
                </a:lnTo>
                <a:lnTo>
                  <a:pt x="710" y="157"/>
                </a:lnTo>
                <a:lnTo>
                  <a:pt x="774" y="147"/>
                </a:lnTo>
                <a:lnTo>
                  <a:pt x="802" y="142"/>
                </a:lnTo>
                <a:lnTo>
                  <a:pt x="831" y="138"/>
                </a:lnTo>
                <a:lnTo>
                  <a:pt x="858" y="132"/>
                </a:lnTo>
                <a:lnTo>
                  <a:pt x="885" y="128"/>
                </a:lnTo>
                <a:lnTo>
                  <a:pt x="912" y="122"/>
                </a:lnTo>
                <a:lnTo>
                  <a:pt x="937" y="119"/>
                </a:lnTo>
                <a:lnTo>
                  <a:pt x="962" y="113"/>
                </a:lnTo>
                <a:lnTo>
                  <a:pt x="985" y="109"/>
                </a:lnTo>
                <a:lnTo>
                  <a:pt x="1008" y="105"/>
                </a:lnTo>
                <a:lnTo>
                  <a:pt x="1029" y="101"/>
                </a:lnTo>
                <a:lnTo>
                  <a:pt x="1050" y="96"/>
                </a:lnTo>
                <a:lnTo>
                  <a:pt x="1069" y="92"/>
                </a:lnTo>
                <a:lnTo>
                  <a:pt x="1088" y="88"/>
                </a:lnTo>
                <a:lnTo>
                  <a:pt x="1108" y="84"/>
                </a:lnTo>
                <a:lnTo>
                  <a:pt x="1125" y="80"/>
                </a:lnTo>
                <a:lnTo>
                  <a:pt x="1140" y="76"/>
                </a:lnTo>
                <a:lnTo>
                  <a:pt x="1156" y="73"/>
                </a:lnTo>
                <a:lnTo>
                  <a:pt x="1171" y="69"/>
                </a:lnTo>
                <a:lnTo>
                  <a:pt x="1184" y="65"/>
                </a:lnTo>
                <a:lnTo>
                  <a:pt x="1198" y="63"/>
                </a:lnTo>
                <a:lnTo>
                  <a:pt x="1209" y="59"/>
                </a:lnTo>
                <a:lnTo>
                  <a:pt x="1219" y="55"/>
                </a:lnTo>
                <a:lnTo>
                  <a:pt x="1231" y="51"/>
                </a:lnTo>
                <a:lnTo>
                  <a:pt x="1238" y="50"/>
                </a:lnTo>
                <a:lnTo>
                  <a:pt x="1248" y="46"/>
                </a:lnTo>
                <a:lnTo>
                  <a:pt x="1254" y="42"/>
                </a:lnTo>
                <a:lnTo>
                  <a:pt x="1261" y="40"/>
                </a:lnTo>
                <a:lnTo>
                  <a:pt x="1267" y="36"/>
                </a:lnTo>
                <a:lnTo>
                  <a:pt x="1271" y="34"/>
                </a:lnTo>
                <a:lnTo>
                  <a:pt x="1275" y="32"/>
                </a:lnTo>
                <a:lnTo>
                  <a:pt x="1277" y="28"/>
                </a:lnTo>
                <a:lnTo>
                  <a:pt x="1279" y="26"/>
                </a:lnTo>
                <a:lnTo>
                  <a:pt x="1284" y="21"/>
                </a:lnTo>
                <a:lnTo>
                  <a:pt x="1290" y="17"/>
                </a:lnTo>
                <a:lnTo>
                  <a:pt x="1298" y="11"/>
                </a:lnTo>
                <a:lnTo>
                  <a:pt x="1307" y="7"/>
                </a:lnTo>
                <a:lnTo>
                  <a:pt x="1315" y="3"/>
                </a:lnTo>
                <a:lnTo>
                  <a:pt x="1325" y="2"/>
                </a:lnTo>
                <a:lnTo>
                  <a:pt x="1336" y="0"/>
                </a:lnTo>
                <a:lnTo>
                  <a:pt x="1346" y="0"/>
                </a:lnTo>
                <a:lnTo>
                  <a:pt x="1351" y="2"/>
                </a:lnTo>
                <a:lnTo>
                  <a:pt x="1357" y="5"/>
                </a:lnTo>
                <a:lnTo>
                  <a:pt x="1365" y="7"/>
                </a:lnTo>
                <a:lnTo>
                  <a:pt x="1373" y="11"/>
                </a:lnTo>
                <a:lnTo>
                  <a:pt x="1382" y="17"/>
                </a:lnTo>
                <a:lnTo>
                  <a:pt x="1392" y="21"/>
                </a:lnTo>
                <a:lnTo>
                  <a:pt x="1403" y="25"/>
                </a:lnTo>
                <a:lnTo>
                  <a:pt x="1415" y="30"/>
                </a:lnTo>
                <a:lnTo>
                  <a:pt x="1428" y="36"/>
                </a:lnTo>
                <a:lnTo>
                  <a:pt x="1442" y="44"/>
                </a:lnTo>
                <a:lnTo>
                  <a:pt x="1457" y="50"/>
                </a:lnTo>
                <a:lnTo>
                  <a:pt x="1472" y="57"/>
                </a:lnTo>
                <a:lnTo>
                  <a:pt x="1490" y="65"/>
                </a:lnTo>
                <a:lnTo>
                  <a:pt x="1507" y="74"/>
                </a:lnTo>
                <a:lnTo>
                  <a:pt x="1526" y="84"/>
                </a:lnTo>
                <a:lnTo>
                  <a:pt x="1545" y="94"/>
                </a:lnTo>
                <a:lnTo>
                  <a:pt x="1564" y="103"/>
                </a:lnTo>
                <a:lnTo>
                  <a:pt x="1582" y="113"/>
                </a:lnTo>
                <a:lnTo>
                  <a:pt x="1599" y="122"/>
                </a:lnTo>
                <a:lnTo>
                  <a:pt x="1614" y="132"/>
                </a:lnTo>
                <a:lnTo>
                  <a:pt x="1630" y="140"/>
                </a:lnTo>
                <a:lnTo>
                  <a:pt x="1643" y="147"/>
                </a:lnTo>
                <a:lnTo>
                  <a:pt x="1655" y="155"/>
                </a:lnTo>
                <a:lnTo>
                  <a:pt x="1666" y="163"/>
                </a:lnTo>
                <a:lnTo>
                  <a:pt x="1676" y="170"/>
                </a:lnTo>
                <a:lnTo>
                  <a:pt x="1685" y="176"/>
                </a:lnTo>
                <a:lnTo>
                  <a:pt x="1693" y="182"/>
                </a:lnTo>
                <a:lnTo>
                  <a:pt x="1701" y="186"/>
                </a:lnTo>
                <a:lnTo>
                  <a:pt x="1707" y="192"/>
                </a:lnTo>
                <a:lnTo>
                  <a:pt x="1710" y="195"/>
                </a:lnTo>
                <a:lnTo>
                  <a:pt x="1714" y="199"/>
                </a:lnTo>
                <a:lnTo>
                  <a:pt x="1718" y="201"/>
                </a:lnTo>
                <a:lnTo>
                  <a:pt x="1716" y="213"/>
                </a:lnTo>
                <a:lnTo>
                  <a:pt x="1714" y="222"/>
                </a:lnTo>
                <a:lnTo>
                  <a:pt x="1712" y="232"/>
                </a:lnTo>
                <a:lnTo>
                  <a:pt x="1708" y="240"/>
                </a:lnTo>
                <a:lnTo>
                  <a:pt x="1703" y="249"/>
                </a:lnTo>
                <a:lnTo>
                  <a:pt x="1695" y="257"/>
                </a:lnTo>
                <a:lnTo>
                  <a:pt x="1687" y="263"/>
                </a:lnTo>
                <a:lnTo>
                  <a:pt x="1678" y="270"/>
                </a:lnTo>
                <a:lnTo>
                  <a:pt x="1676" y="270"/>
                </a:lnTo>
                <a:lnTo>
                  <a:pt x="1674" y="272"/>
                </a:lnTo>
                <a:lnTo>
                  <a:pt x="1670" y="276"/>
                </a:lnTo>
                <a:lnTo>
                  <a:pt x="1668" y="278"/>
                </a:lnTo>
                <a:lnTo>
                  <a:pt x="1666" y="282"/>
                </a:lnTo>
                <a:lnTo>
                  <a:pt x="1664" y="288"/>
                </a:lnTo>
                <a:lnTo>
                  <a:pt x="1662" y="291"/>
                </a:lnTo>
                <a:lnTo>
                  <a:pt x="1660" y="297"/>
                </a:lnTo>
                <a:lnTo>
                  <a:pt x="1659" y="303"/>
                </a:lnTo>
                <a:lnTo>
                  <a:pt x="1657" y="309"/>
                </a:lnTo>
                <a:lnTo>
                  <a:pt x="1655" y="316"/>
                </a:lnTo>
                <a:lnTo>
                  <a:pt x="1653" y="322"/>
                </a:lnTo>
                <a:lnTo>
                  <a:pt x="1653" y="330"/>
                </a:lnTo>
                <a:lnTo>
                  <a:pt x="1651" y="339"/>
                </a:lnTo>
                <a:lnTo>
                  <a:pt x="1649" y="347"/>
                </a:lnTo>
                <a:lnTo>
                  <a:pt x="1647" y="357"/>
                </a:lnTo>
                <a:lnTo>
                  <a:pt x="1645" y="378"/>
                </a:lnTo>
                <a:lnTo>
                  <a:pt x="1643" y="399"/>
                </a:lnTo>
                <a:lnTo>
                  <a:pt x="1641" y="422"/>
                </a:lnTo>
                <a:lnTo>
                  <a:pt x="1641" y="447"/>
                </a:lnTo>
                <a:lnTo>
                  <a:pt x="1639" y="474"/>
                </a:lnTo>
                <a:lnTo>
                  <a:pt x="1639" y="503"/>
                </a:lnTo>
                <a:lnTo>
                  <a:pt x="1637" y="533"/>
                </a:lnTo>
                <a:lnTo>
                  <a:pt x="1637" y="566"/>
                </a:lnTo>
                <a:lnTo>
                  <a:pt x="1634" y="637"/>
                </a:lnTo>
                <a:lnTo>
                  <a:pt x="1628" y="708"/>
                </a:lnTo>
                <a:lnTo>
                  <a:pt x="1622" y="777"/>
                </a:lnTo>
                <a:lnTo>
                  <a:pt x="1614" y="848"/>
                </a:lnTo>
                <a:lnTo>
                  <a:pt x="1607" y="917"/>
                </a:lnTo>
                <a:lnTo>
                  <a:pt x="1597" y="986"/>
                </a:lnTo>
                <a:lnTo>
                  <a:pt x="1591" y="1019"/>
                </a:lnTo>
                <a:lnTo>
                  <a:pt x="1586" y="1053"/>
                </a:lnTo>
                <a:lnTo>
                  <a:pt x="1578" y="1086"/>
                </a:lnTo>
                <a:lnTo>
                  <a:pt x="1572" y="1121"/>
                </a:lnTo>
                <a:lnTo>
                  <a:pt x="1564" y="1151"/>
                </a:lnTo>
                <a:lnTo>
                  <a:pt x="1555" y="1184"/>
                </a:lnTo>
                <a:lnTo>
                  <a:pt x="1547" y="1215"/>
                </a:lnTo>
                <a:lnTo>
                  <a:pt x="1538" y="1243"/>
                </a:lnTo>
                <a:lnTo>
                  <a:pt x="1528" y="1272"/>
                </a:lnTo>
                <a:lnTo>
                  <a:pt x="1517" y="1299"/>
                </a:lnTo>
                <a:lnTo>
                  <a:pt x="1507" y="1326"/>
                </a:lnTo>
                <a:lnTo>
                  <a:pt x="1495" y="1351"/>
                </a:lnTo>
                <a:lnTo>
                  <a:pt x="1484" y="1374"/>
                </a:lnTo>
                <a:lnTo>
                  <a:pt x="1472" y="1397"/>
                </a:lnTo>
                <a:lnTo>
                  <a:pt x="1459" y="1420"/>
                </a:lnTo>
                <a:lnTo>
                  <a:pt x="1447" y="1441"/>
                </a:lnTo>
                <a:lnTo>
                  <a:pt x="1436" y="1460"/>
                </a:lnTo>
                <a:lnTo>
                  <a:pt x="1422" y="1478"/>
                </a:lnTo>
                <a:lnTo>
                  <a:pt x="1411" y="1495"/>
                </a:lnTo>
                <a:lnTo>
                  <a:pt x="1399" y="15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89"/>
          <p:cNvSpPr/>
          <p:nvPr/>
        </p:nvSpPr>
        <p:spPr>
          <a:xfrm>
            <a:off x="5405400" y="3236760"/>
            <a:ext cx="795240" cy="1838520"/>
          </a:xfrm>
          <a:custGeom>
            <a:avLst/>
            <a:gdLst/>
            <a:ahLst/>
            <a:rect l="l" t="t" r="r" b="b"/>
            <a:pathLst>
              <a:path w="1002" h="2315">
                <a:moveTo>
                  <a:pt x="643" y="1570"/>
                </a:moveTo>
                <a:lnTo>
                  <a:pt x="620" y="1618"/>
                </a:lnTo>
                <a:lnTo>
                  <a:pt x="597" y="1664"/>
                </a:lnTo>
                <a:lnTo>
                  <a:pt x="574" y="1708"/>
                </a:lnTo>
                <a:lnTo>
                  <a:pt x="551" y="1750"/>
                </a:lnTo>
                <a:lnTo>
                  <a:pt x="526" y="1791"/>
                </a:lnTo>
                <a:lnTo>
                  <a:pt x="503" y="1829"/>
                </a:lnTo>
                <a:lnTo>
                  <a:pt x="478" y="1867"/>
                </a:lnTo>
                <a:lnTo>
                  <a:pt x="453" y="1904"/>
                </a:lnTo>
                <a:lnTo>
                  <a:pt x="428" y="1938"/>
                </a:lnTo>
                <a:lnTo>
                  <a:pt x="402" y="1971"/>
                </a:lnTo>
                <a:lnTo>
                  <a:pt x="377" y="2002"/>
                </a:lnTo>
                <a:lnTo>
                  <a:pt x="350" y="2032"/>
                </a:lnTo>
                <a:lnTo>
                  <a:pt x="323" y="2061"/>
                </a:lnTo>
                <a:lnTo>
                  <a:pt x="298" y="2088"/>
                </a:lnTo>
                <a:lnTo>
                  <a:pt x="271" y="2113"/>
                </a:lnTo>
                <a:lnTo>
                  <a:pt x="244" y="2136"/>
                </a:lnTo>
                <a:lnTo>
                  <a:pt x="231" y="2149"/>
                </a:lnTo>
                <a:lnTo>
                  <a:pt x="217" y="2161"/>
                </a:lnTo>
                <a:lnTo>
                  <a:pt x="204" y="2172"/>
                </a:lnTo>
                <a:lnTo>
                  <a:pt x="192" y="2184"/>
                </a:lnTo>
                <a:lnTo>
                  <a:pt x="179" y="2194"/>
                </a:lnTo>
                <a:lnTo>
                  <a:pt x="167" y="2205"/>
                </a:lnTo>
                <a:lnTo>
                  <a:pt x="146" y="2224"/>
                </a:lnTo>
                <a:lnTo>
                  <a:pt x="125" y="2240"/>
                </a:lnTo>
                <a:lnTo>
                  <a:pt x="108" y="2255"/>
                </a:lnTo>
                <a:lnTo>
                  <a:pt x="89" y="2268"/>
                </a:lnTo>
                <a:lnTo>
                  <a:pt x="73" y="2280"/>
                </a:lnTo>
                <a:lnTo>
                  <a:pt x="60" y="2290"/>
                </a:lnTo>
                <a:lnTo>
                  <a:pt x="46" y="2299"/>
                </a:lnTo>
                <a:lnTo>
                  <a:pt x="35" y="2305"/>
                </a:lnTo>
                <a:lnTo>
                  <a:pt x="25" y="2309"/>
                </a:lnTo>
                <a:lnTo>
                  <a:pt x="18" y="2313"/>
                </a:lnTo>
                <a:lnTo>
                  <a:pt x="12" y="2315"/>
                </a:lnTo>
                <a:lnTo>
                  <a:pt x="6" y="2315"/>
                </a:lnTo>
                <a:lnTo>
                  <a:pt x="4" y="2313"/>
                </a:lnTo>
                <a:lnTo>
                  <a:pt x="2" y="2309"/>
                </a:lnTo>
                <a:lnTo>
                  <a:pt x="0" y="2305"/>
                </a:lnTo>
                <a:lnTo>
                  <a:pt x="0" y="2299"/>
                </a:lnTo>
                <a:lnTo>
                  <a:pt x="2" y="2293"/>
                </a:lnTo>
                <a:lnTo>
                  <a:pt x="4" y="2284"/>
                </a:lnTo>
                <a:lnTo>
                  <a:pt x="6" y="2276"/>
                </a:lnTo>
                <a:lnTo>
                  <a:pt x="12" y="2267"/>
                </a:lnTo>
                <a:lnTo>
                  <a:pt x="18" y="2255"/>
                </a:lnTo>
                <a:lnTo>
                  <a:pt x="23" y="2244"/>
                </a:lnTo>
                <a:lnTo>
                  <a:pt x="33" y="2230"/>
                </a:lnTo>
                <a:lnTo>
                  <a:pt x="43" y="2217"/>
                </a:lnTo>
                <a:lnTo>
                  <a:pt x="52" y="2203"/>
                </a:lnTo>
                <a:lnTo>
                  <a:pt x="64" y="2188"/>
                </a:lnTo>
                <a:lnTo>
                  <a:pt x="79" y="2171"/>
                </a:lnTo>
                <a:lnTo>
                  <a:pt x="92" y="2153"/>
                </a:lnTo>
                <a:lnTo>
                  <a:pt x="110" y="2136"/>
                </a:lnTo>
                <a:lnTo>
                  <a:pt x="127" y="2119"/>
                </a:lnTo>
                <a:lnTo>
                  <a:pt x="144" y="2100"/>
                </a:lnTo>
                <a:lnTo>
                  <a:pt x="160" y="2080"/>
                </a:lnTo>
                <a:lnTo>
                  <a:pt x="177" y="2061"/>
                </a:lnTo>
                <a:lnTo>
                  <a:pt x="210" y="2021"/>
                </a:lnTo>
                <a:lnTo>
                  <a:pt x="240" y="1979"/>
                </a:lnTo>
                <a:lnTo>
                  <a:pt x="269" y="1934"/>
                </a:lnTo>
                <a:lnTo>
                  <a:pt x="298" y="1890"/>
                </a:lnTo>
                <a:lnTo>
                  <a:pt x="325" y="1844"/>
                </a:lnTo>
                <a:lnTo>
                  <a:pt x="350" y="1800"/>
                </a:lnTo>
                <a:lnTo>
                  <a:pt x="375" y="1752"/>
                </a:lnTo>
                <a:lnTo>
                  <a:pt x="400" y="1706"/>
                </a:lnTo>
                <a:lnTo>
                  <a:pt x="425" y="1656"/>
                </a:lnTo>
                <a:lnTo>
                  <a:pt x="449" y="1606"/>
                </a:lnTo>
                <a:lnTo>
                  <a:pt x="474" y="1556"/>
                </a:lnTo>
                <a:lnTo>
                  <a:pt x="499" y="1503"/>
                </a:lnTo>
                <a:lnTo>
                  <a:pt x="524" y="1449"/>
                </a:lnTo>
                <a:lnTo>
                  <a:pt x="549" y="1395"/>
                </a:lnTo>
                <a:lnTo>
                  <a:pt x="561" y="1366"/>
                </a:lnTo>
                <a:lnTo>
                  <a:pt x="574" y="1336"/>
                </a:lnTo>
                <a:lnTo>
                  <a:pt x="586" y="1307"/>
                </a:lnTo>
                <a:lnTo>
                  <a:pt x="595" y="1274"/>
                </a:lnTo>
                <a:lnTo>
                  <a:pt x="607" y="1243"/>
                </a:lnTo>
                <a:lnTo>
                  <a:pt x="618" y="1211"/>
                </a:lnTo>
                <a:lnTo>
                  <a:pt x="628" y="1176"/>
                </a:lnTo>
                <a:lnTo>
                  <a:pt x="640" y="1142"/>
                </a:lnTo>
                <a:lnTo>
                  <a:pt x="649" y="1107"/>
                </a:lnTo>
                <a:lnTo>
                  <a:pt x="659" y="1071"/>
                </a:lnTo>
                <a:lnTo>
                  <a:pt x="668" y="1034"/>
                </a:lnTo>
                <a:lnTo>
                  <a:pt x="676" y="998"/>
                </a:lnTo>
                <a:lnTo>
                  <a:pt x="686" y="959"/>
                </a:lnTo>
                <a:lnTo>
                  <a:pt x="693" y="921"/>
                </a:lnTo>
                <a:lnTo>
                  <a:pt x="701" y="881"/>
                </a:lnTo>
                <a:lnTo>
                  <a:pt x="709" y="840"/>
                </a:lnTo>
                <a:lnTo>
                  <a:pt x="716" y="802"/>
                </a:lnTo>
                <a:lnTo>
                  <a:pt x="724" y="766"/>
                </a:lnTo>
                <a:lnTo>
                  <a:pt x="730" y="729"/>
                </a:lnTo>
                <a:lnTo>
                  <a:pt x="735" y="695"/>
                </a:lnTo>
                <a:lnTo>
                  <a:pt x="743" y="658"/>
                </a:lnTo>
                <a:lnTo>
                  <a:pt x="749" y="625"/>
                </a:lnTo>
                <a:lnTo>
                  <a:pt x="753" y="591"/>
                </a:lnTo>
                <a:lnTo>
                  <a:pt x="759" y="558"/>
                </a:lnTo>
                <a:lnTo>
                  <a:pt x="764" y="528"/>
                </a:lnTo>
                <a:lnTo>
                  <a:pt x="768" y="495"/>
                </a:lnTo>
                <a:lnTo>
                  <a:pt x="772" y="466"/>
                </a:lnTo>
                <a:lnTo>
                  <a:pt x="776" y="435"/>
                </a:lnTo>
                <a:lnTo>
                  <a:pt x="780" y="409"/>
                </a:lnTo>
                <a:lnTo>
                  <a:pt x="783" y="380"/>
                </a:lnTo>
                <a:lnTo>
                  <a:pt x="785" y="353"/>
                </a:lnTo>
                <a:lnTo>
                  <a:pt x="789" y="328"/>
                </a:lnTo>
                <a:lnTo>
                  <a:pt x="789" y="305"/>
                </a:lnTo>
                <a:lnTo>
                  <a:pt x="789" y="284"/>
                </a:lnTo>
                <a:lnTo>
                  <a:pt x="789" y="263"/>
                </a:lnTo>
                <a:lnTo>
                  <a:pt x="789" y="242"/>
                </a:lnTo>
                <a:lnTo>
                  <a:pt x="789" y="222"/>
                </a:lnTo>
                <a:lnTo>
                  <a:pt x="787" y="203"/>
                </a:lnTo>
                <a:lnTo>
                  <a:pt x="787" y="186"/>
                </a:lnTo>
                <a:lnTo>
                  <a:pt x="787" y="169"/>
                </a:lnTo>
                <a:lnTo>
                  <a:pt x="787" y="153"/>
                </a:lnTo>
                <a:lnTo>
                  <a:pt x="785" y="138"/>
                </a:lnTo>
                <a:lnTo>
                  <a:pt x="783" y="124"/>
                </a:lnTo>
                <a:lnTo>
                  <a:pt x="783" y="111"/>
                </a:lnTo>
                <a:lnTo>
                  <a:pt x="782" y="100"/>
                </a:lnTo>
                <a:lnTo>
                  <a:pt x="780" y="88"/>
                </a:lnTo>
                <a:lnTo>
                  <a:pt x="778" y="80"/>
                </a:lnTo>
                <a:lnTo>
                  <a:pt x="776" y="71"/>
                </a:lnTo>
                <a:lnTo>
                  <a:pt x="774" y="63"/>
                </a:lnTo>
                <a:lnTo>
                  <a:pt x="772" y="57"/>
                </a:lnTo>
                <a:lnTo>
                  <a:pt x="770" y="52"/>
                </a:lnTo>
                <a:lnTo>
                  <a:pt x="770" y="46"/>
                </a:lnTo>
                <a:lnTo>
                  <a:pt x="770" y="40"/>
                </a:lnTo>
                <a:lnTo>
                  <a:pt x="772" y="36"/>
                </a:lnTo>
                <a:lnTo>
                  <a:pt x="772" y="30"/>
                </a:lnTo>
                <a:lnTo>
                  <a:pt x="774" y="27"/>
                </a:lnTo>
                <a:lnTo>
                  <a:pt x="780" y="21"/>
                </a:lnTo>
                <a:lnTo>
                  <a:pt x="785" y="15"/>
                </a:lnTo>
                <a:lnTo>
                  <a:pt x="793" y="9"/>
                </a:lnTo>
                <a:lnTo>
                  <a:pt x="803" y="4"/>
                </a:lnTo>
                <a:lnTo>
                  <a:pt x="808" y="2"/>
                </a:lnTo>
                <a:lnTo>
                  <a:pt x="814" y="0"/>
                </a:lnTo>
                <a:lnTo>
                  <a:pt x="822" y="0"/>
                </a:lnTo>
                <a:lnTo>
                  <a:pt x="830" y="0"/>
                </a:lnTo>
                <a:lnTo>
                  <a:pt x="839" y="2"/>
                </a:lnTo>
                <a:lnTo>
                  <a:pt x="849" y="4"/>
                </a:lnTo>
                <a:lnTo>
                  <a:pt x="860" y="7"/>
                </a:lnTo>
                <a:lnTo>
                  <a:pt x="872" y="9"/>
                </a:lnTo>
                <a:lnTo>
                  <a:pt x="885" y="13"/>
                </a:lnTo>
                <a:lnTo>
                  <a:pt x="899" y="19"/>
                </a:lnTo>
                <a:lnTo>
                  <a:pt x="914" y="25"/>
                </a:lnTo>
                <a:lnTo>
                  <a:pt x="929" y="30"/>
                </a:lnTo>
                <a:lnTo>
                  <a:pt x="947" y="36"/>
                </a:lnTo>
                <a:lnTo>
                  <a:pt x="964" y="42"/>
                </a:lnTo>
                <a:lnTo>
                  <a:pt x="983" y="50"/>
                </a:lnTo>
                <a:lnTo>
                  <a:pt x="1002" y="57"/>
                </a:lnTo>
                <a:lnTo>
                  <a:pt x="998" y="105"/>
                </a:lnTo>
                <a:lnTo>
                  <a:pt x="997" y="153"/>
                </a:lnTo>
                <a:lnTo>
                  <a:pt x="993" y="201"/>
                </a:lnTo>
                <a:lnTo>
                  <a:pt x="987" y="247"/>
                </a:lnTo>
                <a:lnTo>
                  <a:pt x="983" y="295"/>
                </a:lnTo>
                <a:lnTo>
                  <a:pt x="977" y="341"/>
                </a:lnTo>
                <a:lnTo>
                  <a:pt x="966" y="435"/>
                </a:lnTo>
                <a:lnTo>
                  <a:pt x="952" y="529"/>
                </a:lnTo>
                <a:lnTo>
                  <a:pt x="937" y="624"/>
                </a:lnTo>
                <a:lnTo>
                  <a:pt x="924" y="718"/>
                </a:lnTo>
                <a:lnTo>
                  <a:pt x="908" y="814"/>
                </a:lnTo>
                <a:lnTo>
                  <a:pt x="901" y="862"/>
                </a:lnTo>
                <a:lnTo>
                  <a:pt x="891" y="910"/>
                </a:lnTo>
                <a:lnTo>
                  <a:pt x="881" y="958"/>
                </a:lnTo>
                <a:lnTo>
                  <a:pt x="870" y="1004"/>
                </a:lnTo>
                <a:lnTo>
                  <a:pt x="856" y="1052"/>
                </a:lnTo>
                <a:lnTo>
                  <a:pt x="841" y="1098"/>
                </a:lnTo>
                <a:lnTo>
                  <a:pt x="826" y="1144"/>
                </a:lnTo>
                <a:lnTo>
                  <a:pt x="810" y="1192"/>
                </a:lnTo>
                <a:lnTo>
                  <a:pt x="793" y="1238"/>
                </a:lnTo>
                <a:lnTo>
                  <a:pt x="774" y="1286"/>
                </a:lnTo>
                <a:lnTo>
                  <a:pt x="755" y="1332"/>
                </a:lnTo>
                <a:lnTo>
                  <a:pt x="734" y="1380"/>
                </a:lnTo>
                <a:lnTo>
                  <a:pt x="712" y="1426"/>
                </a:lnTo>
                <a:lnTo>
                  <a:pt x="689" y="1474"/>
                </a:lnTo>
                <a:lnTo>
                  <a:pt x="666" y="1522"/>
                </a:lnTo>
                <a:lnTo>
                  <a:pt x="643" y="15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90"/>
          <p:cNvSpPr/>
          <p:nvPr/>
        </p:nvSpPr>
        <p:spPr>
          <a:xfrm>
            <a:off x="6146640" y="3081240"/>
            <a:ext cx="1374840" cy="309600"/>
          </a:xfrm>
          <a:custGeom>
            <a:avLst/>
            <a:gdLst/>
            <a:ahLst/>
            <a:rect l="l" t="t" r="r" b="b"/>
            <a:pathLst>
              <a:path w="1731" h="392">
                <a:moveTo>
                  <a:pt x="1731" y="121"/>
                </a:moveTo>
                <a:lnTo>
                  <a:pt x="1731" y="123"/>
                </a:lnTo>
                <a:lnTo>
                  <a:pt x="1730" y="125"/>
                </a:lnTo>
                <a:lnTo>
                  <a:pt x="1728" y="129"/>
                </a:lnTo>
                <a:lnTo>
                  <a:pt x="1726" y="131"/>
                </a:lnTo>
                <a:lnTo>
                  <a:pt x="1724" y="132"/>
                </a:lnTo>
                <a:lnTo>
                  <a:pt x="1722" y="136"/>
                </a:lnTo>
                <a:lnTo>
                  <a:pt x="1718" y="138"/>
                </a:lnTo>
                <a:lnTo>
                  <a:pt x="1714" y="140"/>
                </a:lnTo>
                <a:lnTo>
                  <a:pt x="1708" y="144"/>
                </a:lnTo>
                <a:lnTo>
                  <a:pt x="1703" y="146"/>
                </a:lnTo>
                <a:lnTo>
                  <a:pt x="1697" y="148"/>
                </a:lnTo>
                <a:lnTo>
                  <a:pt x="1691" y="152"/>
                </a:lnTo>
                <a:lnTo>
                  <a:pt x="1683" y="154"/>
                </a:lnTo>
                <a:lnTo>
                  <a:pt x="1676" y="155"/>
                </a:lnTo>
                <a:lnTo>
                  <a:pt x="1668" y="157"/>
                </a:lnTo>
                <a:lnTo>
                  <a:pt x="1660" y="161"/>
                </a:lnTo>
                <a:lnTo>
                  <a:pt x="1651" y="163"/>
                </a:lnTo>
                <a:lnTo>
                  <a:pt x="1639" y="165"/>
                </a:lnTo>
                <a:lnTo>
                  <a:pt x="1630" y="169"/>
                </a:lnTo>
                <a:lnTo>
                  <a:pt x="1618" y="171"/>
                </a:lnTo>
                <a:lnTo>
                  <a:pt x="1607" y="173"/>
                </a:lnTo>
                <a:lnTo>
                  <a:pt x="1595" y="177"/>
                </a:lnTo>
                <a:lnTo>
                  <a:pt x="1582" y="179"/>
                </a:lnTo>
                <a:lnTo>
                  <a:pt x="1568" y="180"/>
                </a:lnTo>
                <a:lnTo>
                  <a:pt x="1555" y="184"/>
                </a:lnTo>
                <a:lnTo>
                  <a:pt x="1539" y="186"/>
                </a:lnTo>
                <a:lnTo>
                  <a:pt x="1524" y="188"/>
                </a:lnTo>
                <a:lnTo>
                  <a:pt x="1509" y="192"/>
                </a:lnTo>
                <a:lnTo>
                  <a:pt x="1492" y="194"/>
                </a:lnTo>
                <a:lnTo>
                  <a:pt x="1474" y="196"/>
                </a:lnTo>
                <a:lnTo>
                  <a:pt x="1457" y="200"/>
                </a:lnTo>
                <a:lnTo>
                  <a:pt x="1438" y="202"/>
                </a:lnTo>
                <a:lnTo>
                  <a:pt x="1419" y="205"/>
                </a:lnTo>
                <a:lnTo>
                  <a:pt x="1397" y="209"/>
                </a:lnTo>
                <a:lnTo>
                  <a:pt x="1374" y="213"/>
                </a:lnTo>
                <a:lnTo>
                  <a:pt x="1349" y="217"/>
                </a:lnTo>
                <a:lnTo>
                  <a:pt x="1325" y="223"/>
                </a:lnTo>
                <a:lnTo>
                  <a:pt x="1296" y="227"/>
                </a:lnTo>
                <a:lnTo>
                  <a:pt x="1267" y="230"/>
                </a:lnTo>
                <a:lnTo>
                  <a:pt x="1236" y="234"/>
                </a:lnTo>
                <a:lnTo>
                  <a:pt x="1204" y="240"/>
                </a:lnTo>
                <a:lnTo>
                  <a:pt x="1169" y="244"/>
                </a:lnTo>
                <a:lnTo>
                  <a:pt x="1133" y="250"/>
                </a:lnTo>
                <a:lnTo>
                  <a:pt x="1096" y="253"/>
                </a:lnTo>
                <a:lnTo>
                  <a:pt x="1056" y="259"/>
                </a:lnTo>
                <a:lnTo>
                  <a:pt x="1015" y="265"/>
                </a:lnTo>
                <a:lnTo>
                  <a:pt x="973" y="271"/>
                </a:lnTo>
                <a:lnTo>
                  <a:pt x="929" y="274"/>
                </a:lnTo>
                <a:lnTo>
                  <a:pt x="883" y="280"/>
                </a:lnTo>
                <a:lnTo>
                  <a:pt x="835" y="288"/>
                </a:lnTo>
                <a:lnTo>
                  <a:pt x="787" y="294"/>
                </a:lnTo>
                <a:lnTo>
                  <a:pt x="735" y="299"/>
                </a:lnTo>
                <a:lnTo>
                  <a:pt x="683" y="305"/>
                </a:lnTo>
                <a:lnTo>
                  <a:pt x="630" y="313"/>
                </a:lnTo>
                <a:lnTo>
                  <a:pt x="574" y="319"/>
                </a:lnTo>
                <a:lnTo>
                  <a:pt x="516" y="326"/>
                </a:lnTo>
                <a:lnTo>
                  <a:pt x="459" y="334"/>
                </a:lnTo>
                <a:lnTo>
                  <a:pt x="397" y="342"/>
                </a:lnTo>
                <a:lnTo>
                  <a:pt x="336" y="349"/>
                </a:lnTo>
                <a:lnTo>
                  <a:pt x="271" y="357"/>
                </a:lnTo>
                <a:lnTo>
                  <a:pt x="205" y="365"/>
                </a:lnTo>
                <a:lnTo>
                  <a:pt x="138" y="372"/>
                </a:lnTo>
                <a:lnTo>
                  <a:pt x="71" y="382"/>
                </a:lnTo>
                <a:lnTo>
                  <a:pt x="0" y="392"/>
                </a:lnTo>
                <a:lnTo>
                  <a:pt x="0" y="255"/>
                </a:lnTo>
                <a:lnTo>
                  <a:pt x="14" y="255"/>
                </a:lnTo>
                <a:lnTo>
                  <a:pt x="29" y="255"/>
                </a:lnTo>
                <a:lnTo>
                  <a:pt x="44" y="253"/>
                </a:lnTo>
                <a:lnTo>
                  <a:pt x="62" y="253"/>
                </a:lnTo>
                <a:lnTo>
                  <a:pt x="77" y="253"/>
                </a:lnTo>
                <a:lnTo>
                  <a:pt x="96" y="251"/>
                </a:lnTo>
                <a:lnTo>
                  <a:pt x="113" y="250"/>
                </a:lnTo>
                <a:lnTo>
                  <a:pt x="133" y="248"/>
                </a:lnTo>
                <a:lnTo>
                  <a:pt x="152" y="246"/>
                </a:lnTo>
                <a:lnTo>
                  <a:pt x="173" y="244"/>
                </a:lnTo>
                <a:lnTo>
                  <a:pt x="194" y="242"/>
                </a:lnTo>
                <a:lnTo>
                  <a:pt x="215" y="238"/>
                </a:lnTo>
                <a:lnTo>
                  <a:pt x="238" y="234"/>
                </a:lnTo>
                <a:lnTo>
                  <a:pt x="261" y="232"/>
                </a:lnTo>
                <a:lnTo>
                  <a:pt x="286" y="228"/>
                </a:lnTo>
                <a:lnTo>
                  <a:pt x="309" y="225"/>
                </a:lnTo>
                <a:lnTo>
                  <a:pt x="336" y="221"/>
                </a:lnTo>
                <a:lnTo>
                  <a:pt x="361" y="215"/>
                </a:lnTo>
                <a:lnTo>
                  <a:pt x="388" y="211"/>
                </a:lnTo>
                <a:lnTo>
                  <a:pt x="415" y="205"/>
                </a:lnTo>
                <a:lnTo>
                  <a:pt x="443" y="200"/>
                </a:lnTo>
                <a:lnTo>
                  <a:pt x="472" y="194"/>
                </a:lnTo>
                <a:lnTo>
                  <a:pt x="501" y="188"/>
                </a:lnTo>
                <a:lnTo>
                  <a:pt x="532" y="182"/>
                </a:lnTo>
                <a:lnTo>
                  <a:pt x="563" y="177"/>
                </a:lnTo>
                <a:lnTo>
                  <a:pt x="595" y="169"/>
                </a:lnTo>
                <a:lnTo>
                  <a:pt x="628" y="161"/>
                </a:lnTo>
                <a:lnTo>
                  <a:pt x="660" y="154"/>
                </a:lnTo>
                <a:lnTo>
                  <a:pt x="693" y="146"/>
                </a:lnTo>
                <a:lnTo>
                  <a:pt x="728" y="138"/>
                </a:lnTo>
                <a:lnTo>
                  <a:pt x="764" y="129"/>
                </a:lnTo>
                <a:lnTo>
                  <a:pt x="799" y="121"/>
                </a:lnTo>
                <a:lnTo>
                  <a:pt x="835" y="113"/>
                </a:lnTo>
                <a:lnTo>
                  <a:pt x="870" y="106"/>
                </a:lnTo>
                <a:lnTo>
                  <a:pt x="902" y="98"/>
                </a:lnTo>
                <a:lnTo>
                  <a:pt x="935" y="92"/>
                </a:lnTo>
                <a:lnTo>
                  <a:pt x="967" y="84"/>
                </a:lnTo>
                <a:lnTo>
                  <a:pt x="998" y="79"/>
                </a:lnTo>
                <a:lnTo>
                  <a:pt x="1027" y="73"/>
                </a:lnTo>
                <a:lnTo>
                  <a:pt x="1056" y="67"/>
                </a:lnTo>
                <a:lnTo>
                  <a:pt x="1085" y="61"/>
                </a:lnTo>
                <a:lnTo>
                  <a:pt x="1110" y="56"/>
                </a:lnTo>
                <a:lnTo>
                  <a:pt x="1136" y="50"/>
                </a:lnTo>
                <a:lnTo>
                  <a:pt x="1159" y="46"/>
                </a:lnTo>
                <a:lnTo>
                  <a:pt x="1184" y="40"/>
                </a:lnTo>
                <a:lnTo>
                  <a:pt x="1206" y="36"/>
                </a:lnTo>
                <a:lnTo>
                  <a:pt x="1229" y="33"/>
                </a:lnTo>
                <a:lnTo>
                  <a:pt x="1248" y="29"/>
                </a:lnTo>
                <a:lnTo>
                  <a:pt x="1269" y="25"/>
                </a:lnTo>
                <a:lnTo>
                  <a:pt x="1286" y="21"/>
                </a:lnTo>
                <a:lnTo>
                  <a:pt x="1303" y="19"/>
                </a:lnTo>
                <a:lnTo>
                  <a:pt x="1321" y="15"/>
                </a:lnTo>
                <a:lnTo>
                  <a:pt x="1336" y="13"/>
                </a:lnTo>
                <a:lnTo>
                  <a:pt x="1349" y="12"/>
                </a:lnTo>
                <a:lnTo>
                  <a:pt x="1363" y="8"/>
                </a:lnTo>
                <a:lnTo>
                  <a:pt x="1376" y="6"/>
                </a:lnTo>
                <a:lnTo>
                  <a:pt x="1388" y="4"/>
                </a:lnTo>
                <a:lnTo>
                  <a:pt x="1397" y="4"/>
                </a:lnTo>
                <a:lnTo>
                  <a:pt x="1407" y="2"/>
                </a:lnTo>
                <a:lnTo>
                  <a:pt x="1415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38" y="0"/>
                </a:lnTo>
                <a:lnTo>
                  <a:pt x="1453" y="0"/>
                </a:lnTo>
                <a:lnTo>
                  <a:pt x="1470" y="2"/>
                </a:lnTo>
                <a:lnTo>
                  <a:pt x="1490" y="4"/>
                </a:lnTo>
                <a:lnTo>
                  <a:pt x="1511" y="10"/>
                </a:lnTo>
                <a:lnTo>
                  <a:pt x="1520" y="12"/>
                </a:lnTo>
                <a:lnTo>
                  <a:pt x="1532" y="15"/>
                </a:lnTo>
                <a:lnTo>
                  <a:pt x="1543" y="17"/>
                </a:lnTo>
                <a:lnTo>
                  <a:pt x="1557" y="21"/>
                </a:lnTo>
                <a:lnTo>
                  <a:pt x="1568" y="25"/>
                </a:lnTo>
                <a:lnTo>
                  <a:pt x="1584" y="31"/>
                </a:lnTo>
                <a:lnTo>
                  <a:pt x="1597" y="35"/>
                </a:lnTo>
                <a:lnTo>
                  <a:pt x="1612" y="40"/>
                </a:lnTo>
                <a:lnTo>
                  <a:pt x="1626" y="44"/>
                </a:lnTo>
                <a:lnTo>
                  <a:pt x="1639" y="50"/>
                </a:lnTo>
                <a:lnTo>
                  <a:pt x="1653" y="56"/>
                </a:lnTo>
                <a:lnTo>
                  <a:pt x="1664" y="60"/>
                </a:lnTo>
                <a:lnTo>
                  <a:pt x="1674" y="65"/>
                </a:lnTo>
                <a:lnTo>
                  <a:pt x="1683" y="71"/>
                </a:lnTo>
                <a:lnTo>
                  <a:pt x="1693" y="75"/>
                </a:lnTo>
                <a:lnTo>
                  <a:pt x="1701" y="81"/>
                </a:lnTo>
                <a:lnTo>
                  <a:pt x="1708" y="84"/>
                </a:lnTo>
                <a:lnTo>
                  <a:pt x="1714" y="90"/>
                </a:lnTo>
                <a:lnTo>
                  <a:pt x="1720" y="96"/>
                </a:lnTo>
                <a:lnTo>
                  <a:pt x="1724" y="100"/>
                </a:lnTo>
                <a:lnTo>
                  <a:pt x="1728" y="106"/>
                </a:lnTo>
                <a:lnTo>
                  <a:pt x="1730" y="111"/>
                </a:lnTo>
                <a:lnTo>
                  <a:pt x="1731" y="115"/>
                </a:lnTo>
                <a:lnTo>
                  <a:pt x="1731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91"/>
          <p:cNvSpPr/>
          <p:nvPr/>
        </p:nvSpPr>
        <p:spPr>
          <a:xfrm>
            <a:off x="6591240" y="2801880"/>
            <a:ext cx="370080" cy="289080"/>
          </a:xfrm>
          <a:custGeom>
            <a:avLst/>
            <a:gdLst/>
            <a:ahLst/>
            <a:rect l="l" t="t" r="r" b="b"/>
            <a:pathLst>
              <a:path w="464" h="364">
                <a:moveTo>
                  <a:pt x="0" y="0"/>
                </a:moveTo>
                <a:lnTo>
                  <a:pt x="30" y="0"/>
                </a:lnTo>
                <a:lnTo>
                  <a:pt x="61" y="0"/>
                </a:lnTo>
                <a:lnTo>
                  <a:pt x="90" y="0"/>
                </a:lnTo>
                <a:lnTo>
                  <a:pt x="119" y="2"/>
                </a:lnTo>
                <a:lnTo>
                  <a:pt x="145" y="4"/>
                </a:lnTo>
                <a:lnTo>
                  <a:pt x="170" y="6"/>
                </a:lnTo>
                <a:lnTo>
                  <a:pt x="195" y="7"/>
                </a:lnTo>
                <a:lnTo>
                  <a:pt x="218" y="11"/>
                </a:lnTo>
                <a:lnTo>
                  <a:pt x="240" y="13"/>
                </a:lnTo>
                <a:lnTo>
                  <a:pt x="261" y="17"/>
                </a:lnTo>
                <a:lnTo>
                  <a:pt x="280" y="23"/>
                </a:lnTo>
                <a:lnTo>
                  <a:pt x="299" y="27"/>
                </a:lnTo>
                <a:lnTo>
                  <a:pt x="314" y="32"/>
                </a:lnTo>
                <a:lnTo>
                  <a:pt x="332" y="38"/>
                </a:lnTo>
                <a:lnTo>
                  <a:pt x="345" y="46"/>
                </a:lnTo>
                <a:lnTo>
                  <a:pt x="359" y="54"/>
                </a:lnTo>
                <a:lnTo>
                  <a:pt x="370" y="61"/>
                </a:lnTo>
                <a:lnTo>
                  <a:pt x="382" y="69"/>
                </a:lnTo>
                <a:lnTo>
                  <a:pt x="393" y="78"/>
                </a:lnTo>
                <a:lnTo>
                  <a:pt x="403" y="86"/>
                </a:lnTo>
                <a:lnTo>
                  <a:pt x="412" y="96"/>
                </a:lnTo>
                <a:lnTo>
                  <a:pt x="420" y="105"/>
                </a:lnTo>
                <a:lnTo>
                  <a:pt x="430" y="115"/>
                </a:lnTo>
                <a:lnTo>
                  <a:pt x="435" y="126"/>
                </a:lnTo>
                <a:lnTo>
                  <a:pt x="443" y="136"/>
                </a:lnTo>
                <a:lnTo>
                  <a:pt x="449" y="148"/>
                </a:lnTo>
                <a:lnTo>
                  <a:pt x="453" y="161"/>
                </a:lnTo>
                <a:lnTo>
                  <a:pt x="456" y="173"/>
                </a:lnTo>
                <a:lnTo>
                  <a:pt x="460" y="186"/>
                </a:lnTo>
                <a:lnTo>
                  <a:pt x="462" y="199"/>
                </a:lnTo>
                <a:lnTo>
                  <a:pt x="464" y="215"/>
                </a:lnTo>
                <a:lnTo>
                  <a:pt x="464" y="228"/>
                </a:lnTo>
                <a:lnTo>
                  <a:pt x="464" y="245"/>
                </a:lnTo>
                <a:lnTo>
                  <a:pt x="464" y="261"/>
                </a:lnTo>
                <a:lnTo>
                  <a:pt x="462" y="276"/>
                </a:lnTo>
                <a:lnTo>
                  <a:pt x="462" y="290"/>
                </a:lnTo>
                <a:lnTo>
                  <a:pt x="460" y="301"/>
                </a:lnTo>
                <a:lnTo>
                  <a:pt x="458" y="313"/>
                </a:lnTo>
                <a:lnTo>
                  <a:pt x="456" y="322"/>
                </a:lnTo>
                <a:lnTo>
                  <a:pt x="453" y="332"/>
                </a:lnTo>
                <a:lnTo>
                  <a:pt x="449" y="339"/>
                </a:lnTo>
                <a:lnTo>
                  <a:pt x="445" y="345"/>
                </a:lnTo>
                <a:lnTo>
                  <a:pt x="441" y="351"/>
                </a:lnTo>
                <a:lnTo>
                  <a:pt x="437" y="355"/>
                </a:lnTo>
                <a:lnTo>
                  <a:pt x="431" y="359"/>
                </a:lnTo>
                <a:lnTo>
                  <a:pt x="426" y="363"/>
                </a:lnTo>
                <a:lnTo>
                  <a:pt x="418" y="363"/>
                </a:lnTo>
                <a:lnTo>
                  <a:pt x="412" y="364"/>
                </a:lnTo>
                <a:lnTo>
                  <a:pt x="403" y="363"/>
                </a:lnTo>
                <a:lnTo>
                  <a:pt x="395" y="361"/>
                </a:lnTo>
                <a:lnTo>
                  <a:pt x="385" y="359"/>
                </a:lnTo>
                <a:lnTo>
                  <a:pt x="376" y="353"/>
                </a:lnTo>
                <a:lnTo>
                  <a:pt x="364" y="347"/>
                </a:lnTo>
                <a:lnTo>
                  <a:pt x="353" y="341"/>
                </a:lnTo>
                <a:lnTo>
                  <a:pt x="341" y="334"/>
                </a:lnTo>
                <a:lnTo>
                  <a:pt x="328" y="324"/>
                </a:lnTo>
                <a:lnTo>
                  <a:pt x="314" y="313"/>
                </a:lnTo>
                <a:lnTo>
                  <a:pt x="299" y="301"/>
                </a:lnTo>
                <a:lnTo>
                  <a:pt x="282" y="288"/>
                </a:lnTo>
                <a:lnTo>
                  <a:pt x="264" y="272"/>
                </a:lnTo>
                <a:lnTo>
                  <a:pt x="247" y="257"/>
                </a:lnTo>
                <a:lnTo>
                  <a:pt x="228" y="240"/>
                </a:lnTo>
                <a:lnTo>
                  <a:pt x="207" y="220"/>
                </a:lnTo>
                <a:lnTo>
                  <a:pt x="186" y="201"/>
                </a:lnTo>
                <a:lnTo>
                  <a:pt x="163" y="182"/>
                </a:lnTo>
                <a:lnTo>
                  <a:pt x="144" y="163"/>
                </a:lnTo>
                <a:lnTo>
                  <a:pt x="124" y="144"/>
                </a:lnTo>
                <a:lnTo>
                  <a:pt x="105" y="128"/>
                </a:lnTo>
                <a:lnTo>
                  <a:pt x="90" y="111"/>
                </a:lnTo>
                <a:lnTo>
                  <a:pt x="74" y="96"/>
                </a:lnTo>
                <a:lnTo>
                  <a:pt x="59" y="82"/>
                </a:lnTo>
                <a:lnTo>
                  <a:pt x="48" y="69"/>
                </a:lnTo>
                <a:lnTo>
                  <a:pt x="36" y="57"/>
                </a:lnTo>
                <a:lnTo>
                  <a:pt x="26" y="46"/>
                </a:lnTo>
                <a:lnTo>
                  <a:pt x="19" y="36"/>
                </a:lnTo>
                <a:lnTo>
                  <a:pt x="11" y="27"/>
                </a:lnTo>
                <a:lnTo>
                  <a:pt x="5" y="19"/>
                </a:lnTo>
                <a:lnTo>
                  <a:pt x="2" y="11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1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木”的最后一笔变为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3"/>
          <p:cNvSpPr/>
          <p:nvPr/>
        </p:nvSpPr>
        <p:spPr>
          <a:xfrm>
            <a:off x="2060640" y="186840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ō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20"/>
          <p:cNvSpPr/>
          <p:nvPr/>
        </p:nvSpPr>
        <p:spPr>
          <a:xfrm>
            <a:off x="7186680" y="4317840"/>
            <a:ext cx="433440" cy="379440"/>
          </a:xfrm>
          <a:custGeom>
            <a:avLst/>
            <a:gdLst/>
            <a:ahLst/>
            <a:rect l="l" t="t" r="r" b="b"/>
            <a:pathLst>
              <a:path w="545" h="478">
                <a:moveTo>
                  <a:pt x="340" y="96"/>
                </a:moveTo>
                <a:lnTo>
                  <a:pt x="357" y="103"/>
                </a:lnTo>
                <a:lnTo>
                  <a:pt x="374" y="111"/>
                </a:lnTo>
                <a:lnTo>
                  <a:pt x="390" y="119"/>
                </a:lnTo>
                <a:lnTo>
                  <a:pt x="405" y="126"/>
                </a:lnTo>
                <a:lnTo>
                  <a:pt x="420" y="134"/>
                </a:lnTo>
                <a:lnTo>
                  <a:pt x="434" y="142"/>
                </a:lnTo>
                <a:lnTo>
                  <a:pt x="445" y="147"/>
                </a:lnTo>
                <a:lnTo>
                  <a:pt x="459" y="155"/>
                </a:lnTo>
                <a:lnTo>
                  <a:pt x="468" y="163"/>
                </a:lnTo>
                <a:lnTo>
                  <a:pt x="478" y="170"/>
                </a:lnTo>
                <a:lnTo>
                  <a:pt x="487" y="178"/>
                </a:lnTo>
                <a:lnTo>
                  <a:pt x="497" y="186"/>
                </a:lnTo>
                <a:lnTo>
                  <a:pt x="505" y="192"/>
                </a:lnTo>
                <a:lnTo>
                  <a:pt x="511" y="199"/>
                </a:lnTo>
                <a:lnTo>
                  <a:pt x="516" y="207"/>
                </a:lnTo>
                <a:lnTo>
                  <a:pt x="522" y="215"/>
                </a:lnTo>
                <a:lnTo>
                  <a:pt x="526" y="230"/>
                </a:lnTo>
                <a:lnTo>
                  <a:pt x="530" y="247"/>
                </a:lnTo>
                <a:lnTo>
                  <a:pt x="534" y="265"/>
                </a:lnTo>
                <a:lnTo>
                  <a:pt x="537" y="284"/>
                </a:lnTo>
                <a:lnTo>
                  <a:pt x="541" y="303"/>
                </a:lnTo>
                <a:lnTo>
                  <a:pt x="543" y="326"/>
                </a:lnTo>
                <a:lnTo>
                  <a:pt x="545" y="349"/>
                </a:lnTo>
                <a:lnTo>
                  <a:pt x="545" y="372"/>
                </a:lnTo>
                <a:lnTo>
                  <a:pt x="545" y="384"/>
                </a:lnTo>
                <a:lnTo>
                  <a:pt x="545" y="395"/>
                </a:lnTo>
                <a:lnTo>
                  <a:pt x="545" y="407"/>
                </a:lnTo>
                <a:lnTo>
                  <a:pt x="543" y="416"/>
                </a:lnTo>
                <a:lnTo>
                  <a:pt x="541" y="426"/>
                </a:lnTo>
                <a:lnTo>
                  <a:pt x="539" y="433"/>
                </a:lnTo>
                <a:lnTo>
                  <a:pt x="537" y="443"/>
                </a:lnTo>
                <a:lnTo>
                  <a:pt x="535" y="449"/>
                </a:lnTo>
                <a:lnTo>
                  <a:pt x="532" y="456"/>
                </a:lnTo>
                <a:lnTo>
                  <a:pt x="528" y="460"/>
                </a:lnTo>
                <a:lnTo>
                  <a:pt x="524" y="466"/>
                </a:lnTo>
                <a:lnTo>
                  <a:pt x="520" y="470"/>
                </a:lnTo>
                <a:lnTo>
                  <a:pt x="514" y="474"/>
                </a:lnTo>
                <a:lnTo>
                  <a:pt x="509" y="476"/>
                </a:lnTo>
                <a:lnTo>
                  <a:pt x="503" y="478"/>
                </a:lnTo>
                <a:lnTo>
                  <a:pt x="497" y="478"/>
                </a:lnTo>
                <a:lnTo>
                  <a:pt x="489" y="478"/>
                </a:lnTo>
                <a:lnTo>
                  <a:pt x="484" y="476"/>
                </a:lnTo>
                <a:lnTo>
                  <a:pt x="476" y="474"/>
                </a:lnTo>
                <a:lnTo>
                  <a:pt x="466" y="470"/>
                </a:lnTo>
                <a:lnTo>
                  <a:pt x="459" y="466"/>
                </a:lnTo>
                <a:lnTo>
                  <a:pt x="449" y="460"/>
                </a:lnTo>
                <a:lnTo>
                  <a:pt x="440" y="455"/>
                </a:lnTo>
                <a:lnTo>
                  <a:pt x="430" y="447"/>
                </a:lnTo>
                <a:lnTo>
                  <a:pt x="420" y="439"/>
                </a:lnTo>
                <a:lnTo>
                  <a:pt x="409" y="432"/>
                </a:lnTo>
                <a:lnTo>
                  <a:pt x="397" y="422"/>
                </a:lnTo>
                <a:lnTo>
                  <a:pt x="384" y="410"/>
                </a:lnTo>
                <a:lnTo>
                  <a:pt x="372" y="399"/>
                </a:lnTo>
                <a:lnTo>
                  <a:pt x="357" y="387"/>
                </a:lnTo>
                <a:lnTo>
                  <a:pt x="344" y="374"/>
                </a:lnTo>
                <a:lnTo>
                  <a:pt x="328" y="359"/>
                </a:lnTo>
                <a:lnTo>
                  <a:pt x="265" y="299"/>
                </a:lnTo>
                <a:lnTo>
                  <a:pt x="234" y="270"/>
                </a:lnTo>
                <a:lnTo>
                  <a:pt x="203" y="241"/>
                </a:lnTo>
                <a:lnTo>
                  <a:pt x="175" y="215"/>
                </a:lnTo>
                <a:lnTo>
                  <a:pt x="148" y="188"/>
                </a:lnTo>
                <a:lnTo>
                  <a:pt x="134" y="174"/>
                </a:lnTo>
                <a:lnTo>
                  <a:pt x="121" y="161"/>
                </a:lnTo>
                <a:lnTo>
                  <a:pt x="109" y="147"/>
                </a:lnTo>
                <a:lnTo>
                  <a:pt x="98" y="136"/>
                </a:lnTo>
                <a:lnTo>
                  <a:pt x="84" y="122"/>
                </a:lnTo>
                <a:lnTo>
                  <a:pt x="73" y="113"/>
                </a:lnTo>
                <a:lnTo>
                  <a:pt x="61" y="101"/>
                </a:lnTo>
                <a:lnTo>
                  <a:pt x="52" y="92"/>
                </a:lnTo>
                <a:lnTo>
                  <a:pt x="42" y="82"/>
                </a:lnTo>
                <a:lnTo>
                  <a:pt x="33" y="73"/>
                </a:lnTo>
                <a:lnTo>
                  <a:pt x="25" y="65"/>
                </a:lnTo>
                <a:lnTo>
                  <a:pt x="19" y="57"/>
                </a:lnTo>
                <a:lnTo>
                  <a:pt x="13" y="50"/>
                </a:lnTo>
                <a:lnTo>
                  <a:pt x="8" y="44"/>
                </a:lnTo>
                <a:lnTo>
                  <a:pt x="4" y="38"/>
                </a:lnTo>
                <a:lnTo>
                  <a:pt x="2" y="32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4" y="13"/>
                </a:lnTo>
                <a:lnTo>
                  <a:pt x="6" y="11"/>
                </a:lnTo>
                <a:lnTo>
                  <a:pt x="8" y="7"/>
                </a:lnTo>
                <a:lnTo>
                  <a:pt x="11" y="5"/>
                </a:lnTo>
                <a:lnTo>
                  <a:pt x="15" y="3"/>
                </a:lnTo>
                <a:lnTo>
                  <a:pt x="21" y="2"/>
                </a:lnTo>
                <a:lnTo>
                  <a:pt x="27" y="2"/>
                </a:lnTo>
                <a:lnTo>
                  <a:pt x="35" y="0"/>
                </a:lnTo>
                <a:lnTo>
                  <a:pt x="40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  <a:lnTo>
                  <a:pt x="77" y="2"/>
                </a:lnTo>
                <a:lnTo>
                  <a:pt x="86" y="2"/>
                </a:lnTo>
                <a:lnTo>
                  <a:pt x="98" y="5"/>
                </a:lnTo>
                <a:lnTo>
                  <a:pt x="109" y="7"/>
                </a:lnTo>
                <a:lnTo>
                  <a:pt x="121" y="9"/>
                </a:lnTo>
                <a:lnTo>
                  <a:pt x="134" y="13"/>
                </a:lnTo>
                <a:lnTo>
                  <a:pt x="148" y="17"/>
                </a:lnTo>
                <a:lnTo>
                  <a:pt x="161" y="21"/>
                </a:lnTo>
                <a:lnTo>
                  <a:pt x="177" y="25"/>
                </a:lnTo>
                <a:lnTo>
                  <a:pt x="205" y="36"/>
                </a:lnTo>
                <a:lnTo>
                  <a:pt x="221" y="42"/>
                </a:lnTo>
                <a:lnTo>
                  <a:pt x="236" y="48"/>
                </a:lnTo>
                <a:lnTo>
                  <a:pt x="253" y="53"/>
                </a:lnTo>
                <a:lnTo>
                  <a:pt x="271" y="61"/>
                </a:lnTo>
                <a:lnTo>
                  <a:pt x="288" y="69"/>
                </a:lnTo>
                <a:lnTo>
                  <a:pt x="305" y="78"/>
                </a:lnTo>
                <a:lnTo>
                  <a:pt x="322" y="86"/>
                </a:lnTo>
                <a:lnTo>
                  <a:pt x="340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21"/>
          <p:cNvSpPr/>
          <p:nvPr/>
        </p:nvSpPr>
        <p:spPr>
          <a:xfrm>
            <a:off x="6686640" y="4008600"/>
            <a:ext cx="365040" cy="1001520"/>
          </a:xfrm>
          <a:custGeom>
            <a:avLst/>
            <a:gdLst/>
            <a:ahLst/>
            <a:rect l="l" t="t" r="r" b="b"/>
            <a:pathLst>
              <a:path w="459" h="1261">
                <a:moveTo>
                  <a:pt x="258" y="1182"/>
                </a:moveTo>
                <a:lnTo>
                  <a:pt x="254" y="1173"/>
                </a:lnTo>
                <a:lnTo>
                  <a:pt x="250" y="1161"/>
                </a:lnTo>
                <a:lnTo>
                  <a:pt x="246" y="1152"/>
                </a:lnTo>
                <a:lnTo>
                  <a:pt x="240" y="1140"/>
                </a:lnTo>
                <a:lnTo>
                  <a:pt x="235" y="1129"/>
                </a:lnTo>
                <a:lnTo>
                  <a:pt x="227" y="1117"/>
                </a:lnTo>
                <a:lnTo>
                  <a:pt x="219" y="1106"/>
                </a:lnTo>
                <a:lnTo>
                  <a:pt x="212" y="1094"/>
                </a:lnTo>
                <a:lnTo>
                  <a:pt x="202" y="1081"/>
                </a:lnTo>
                <a:lnTo>
                  <a:pt x="190" y="1069"/>
                </a:lnTo>
                <a:lnTo>
                  <a:pt x="181" y="1056"/>
                </a:lnTo>
                <a:lnTo>
                  <a:pt x="167" y="1042"/>
                </a:lnTo>
                <a:lnTo>
                  <a:pt x="156" y="1029"/>
                </a:lnTo>
                <a:lnTo>
                  <a:pt x="141" y="1013"/>
                </a:lnTo>
                <a:lnTo>
                  <a:pt x="127" y="1000"/>
                </a:lnTo>
                <a:lnTo>
                  <a:pt x="112" y="985"/>
                </a:lnTo>
                <a:lnTo>
                  <a:pt x="96" y="973"/>
                </a:lnTo>
                <a:lnTo>
                  <a:pt x="83" y="962"/>
                </a:lnTo>
                <a:lnTo>
                  <a:pt x="69" y="950"/>
                </a:lnTo>
                <a:lnTo>
                  <a:pt x="58" y="941"/>
                </a:lnTo>
                <a:lnTo>
                  <a:pt x="46" y="931"/>
                </a:lnTo>
                <a:lnTo>
                  <a:pt x="37" y="921"/>
                </a:lnTo>
                <a:lnTo>
                  <a:pt x="29" y="914"/>
                </a:lnTo>
                <a:lnTo>
                  <a:pt x="22" y="906"/>
                </a:lnTo>
                <a:lnTo>
                  <a:pt x="16" y="900"/>
                </a:lnTo>
                <a:lnTo>
                  <a:pt x="10" y="893"/>
                </a:lnTo>
                <a:lnTo>
                  <a:pt x="6" y="887"/>
                </a:lnTo>
                <a:lnTo>
                  <a:pt x="2" y="881"/>
                </a:lnTo>
                <a:lnTo>
                  <a:pt x="0" y="877"/>
                </a:lnTo>
                <a:lnTo>
                  <a:pt x="0" y="873"/>
                </a:lnTo>
                <a:lnTo>
                  <a:pt x="0" y="869"/>
                </a:lnTo>
                <a:lnTo>
                  <a:pt x="2" y="868"/>
                </a:lnTo>
                <a:lnTo>
                  <a:pt x="6" y="866"/>
                </a:lnTo>
                <a:lnTo>
                  <a:pt x="8" y="864"/>
                </a:lnTo>
                <a:lnTo>
                  <a:pt x="12" y="862"/>
                </a:lnTo>
                <a:lnTo>
                  <a:pt x="16" y="862"/>
                </a:lnTo>
                <a:lnTo>
                  <a:pt x="22" y="862"/>
                </a:lnTo>
                <a:lnTo>
                  <a:pt x="27" y="862"/>
                </a:lnTo>
                <a:lnTo>
                  <a:pt x="33" y="862"/>
                </a:lnTo>
                <a:lnTo>
                  <a:pt x="39" y="864"/>
                </a:lnTo>
                <a:lnTo>
                  <a:pt x="46" y="866"/>
                </a:lnTo>
                <a:lnTo>
                  <a:pt x="54" y="866"/>
                </a:lnTo>
                <a:lnTo>
                  <a:pt x="62" y="868"/>
                </a:lnTo>
                <a:lnTo>
                  <a:pt x="71" y="871"/>
                </a:lnTo>
                <a:lnTo>
                  <a:pt x="81" y="873"/>
                </a:lnTo>
                <a:lnTo>
                  <a:pt x="91" y="875"/>
                </a:lnTo>
                <a:lnTo>
                  <a:pt x="100" y="877"/>
                </a:lnTo>
                <a:lnTo>
                  <a:pt x="112" y="881"/>
                </a:lnTo>
                <a:lnTo>
                  <a:pt x="133" y="889"/>
                </a:lnTo>
                <a:lnTo>
                  <a:pt x="154" y="898"/>
                </a:lnTo>
                <a:lnTo>
                  <a:pt x="175" y="904"/>
                </a:lnTo>
                <a:lnTo>
                  <a:pt x="192" y="908"/>
                </a:lnTo>
                <a:lnTo>
                  <a:pt x="202" y="910"/>
                </a:lnTo>
                <a:lnTo>
                  <a:pt x="212" y="912"/>
                </a:lnTo>
                <a:lnTo>
                  <a:pt x="219" y="912"/>
                </a:lnTo>
                <a:lnTo>
                  <a:pt x="227" y="912"/>
                </a:lnTo>
                <a:lnTo>
                  <a:pt x="235" y="912"/>
                </a:lnTo>
                <a:lnTo>
                  <a:pt x="242" y="910"/>
                </a:lnTo>
                <a:lnTo>
                  <a:pt x="250" y="908"/>
                </a:lnTo>
                <a:lnTo>
                  <a:pt x="258" y="906"/>
                </a:lnTo>
                <a:lnTo>
                  <a:pt x="260" y="906"/>
                </a:lnTo>
                <a:lnTo>
                  <a:pt x="263" y="906"/>
                </a:lnTo>
                <a:lnTo>
                  <a:pt x="265" y="904"/>
                </a:lnTo>
                <a:lnTo>
                  <a:pt x="269" y="902"/>
                </a:lnTo>
                <a:lnTo>
                  <a:pt x="271" y="900"/>
                </a:lnTo>
                <a:lnTo>
                  <a:pt x="275" y="896"/>
                </a:lnTo>
                <a:lnTo>
                  <a:pt x="277" y="893"/>
                </a:lnTo>
                <a:lnTo>
                  <a:pt x="279" y="889"/>
                </a:lnTo>
                <a:lnTo>
                  <a:pt x="283" y="885"/>
                </a:lnTo>
                <a:lnTo>
                  <a:pt x="284" y="879"/>
                </a:lnTo>
                <a:lnTo>
                  <a:pt x="286" y="875"/>
                </a:lnTo>
                <a:lnTo>
                  <a:pt x="288" y="868"/>
                </a:lnTo>
                <a:lnTo>
                  <a:pt x="290" y="862"/>
                </a:lnTo>
                <a:lnTo>
                  <a:pt x="292" y="854"/>
                </a:lnTo>
                <a:lnTo>
                  <a:pt x="292" y="846"/>
                </a:lnTo>
                <a:lnTo>
                  <a:pt x="294" y="839"/>
                </a:lnTo>
                <a:lnTo>
                  <a:pt x="296" y="831"/>
                </a:lnTo>
                <a:lnTo>
                  <a:pt x="298" y="822"/>
                </a:lnTo>
                <a:lnTo>
                  <a:pt x="298" y="812"/>
                </a:lnTo>
                <a:lnTo>
                  <a:pt x="300" y="802"/>
                </a:lnTo>
                <a:lnTo>
                  <a:pt x="300" y="791"/>
                </a:lnTo>
                <a:lnTo>
                  <a:pt x="302" y="781"/>
                </a:lnTo>
                <a:lnTo>
                  <a:pt x="302" y="770"/>
                </a:lnTo>
                <a:lnTo>
                  <a:pt x="302" y="756"/>
                </a:lnTo>
                <a:lnTo>
                  <a:pt x="304" y="731"/>
                </a:lnTo>
                <a:lnTo>
                  <a:pt x="304" y="704"/>
                </a:lnTo>
                <a:lnTo>
                  <a:pt x="306" y="676"/>
                </a:lnTo>
                <a:lnTo>
                  <a:pt x="306" y="645"/>
                </a:lnTo>
                <a:lnTo>
                  <a:pt x="306" y="612"/>
                </a:lnTo>
                <a:lnTo>
                  <a:pt x="304" y="582"/>
                </a:lnTo>
                <a:lnTo>
                  <a:pt x="304" y="553"/>
                </a:lnTo>
                <a:lnTo>
                  <a:pt x="304" y="524"/>
                </a:lnTo>
                <a:lnTo>
                  <a:pt x="302" y="495"/>
                </a:lnTo>
                <a:lnTo>
                  <a:pt x="300" y="468"/>
                </a:lnTo>
                <a:lnTo>
                  <a:pt x="298" y="443"/>
                </a:lnTo>
                <a:lnTo>
                  <a:pt x="296" y="418"/>
                </a:lnTo>
                <a:lnTo>
                  <a:pt x="294" y="395"/>
                </a:lnTo>
                <a:lnTo>
                  <a:pt x="290" y="372"/>
                </a:lnTo>
                <a:lnTo>
                  <a:pt x="288" y="351"/>
                </a:lnTo>
                <a:lnTo>
                  <a:pt x="284" y="332"/>
                </a:lnTo>
                <a:lnTo>
                  <a:pt x="281" y="313"/>
                </a:lnTo>
                <a:lnTo>
                  <a:pt x="277" y="296"/>
                </a:lnTo>
                <a:lnTo>
                  <a:pt x="273" y="278"/>
                </a:lnTo>
                <a:lnTo>
                  <a:pt x="269" y="263"/>
                </a:lnTo>
                <a:lnTo>
                  <a:pt x="260" y="232"/>
                </a:lnTo>
                <a:lnTo>
                  <a:pt x="254" y="202"/>
                </a:lnTo>
                <a:lnTo>
                  <a:pt x="246" y="169"/>
                </a:lnTo>
                <a:lnTo>
                  <a:pt x="242" y="136"/>
                </a:lnTo>
                <a:lnTo>
                  <a:pt x="238" y="104"/>
                </a:lnTo>
                <a:lnTo>
                  <a:pt x="235" y="69"/>
                </a:lnTo>
                <a:lnTo>
                  <a:pt x="233" y="35"/>
                </a:lnTo>
                <a:lnTo>
                  <a:pt x="233" y="0"/>
                </a:lnTo>
                <a:lnTo>
                  <a:pt x="258" y="17"/>
                </a:lnTo>
                <a:lnTo>
                  <a:pt x="279" y="33"/>
                </a:lnTo>
                <a:lnTo>
                  <a:pt x="300" y="48"/>
                </a:lnTo>
                <a:lnTo>
                  <a:pt x="321" y="63"/>
                </a:lnTo>
                <a:lnTo>
                  <a:pt x="338" y="77"/>
                </a:lnTo>
                <a:lnTo>
                  <a:pt x="355" y="88"/>
                </a:lnTo>
                <a:lnTo>
                  <a:pt x="373" y="100"/>
                </a:lnTo>
                <a:lnTo>
                  <a:pt x="386" y="111"/>
                </a:lnTo>
                <a:lnTo>
                  <a:pt x="400" y="121"/>
                </a:lnTo>
                <a:lnTo>
                  <a:pt x="411" y="131"/>
                </a:lnTo>
                <a:lnTo>
                  <a:pt x="421" y="138"/>
                </a:lnTo>
                <a:lnTo>
                  <a:pt x="430" y="146"/>
                </a:lnTo>
                <a:lnTo>
                  <a:pt x="436" y="154"/>
                </a:lnTo>
                <a:lnTo>
                  <a:pt x="442" y="159"/>
                </a:lnTo>
                <a:lnTo>
                  <a:pt x="448" y="165"/>
                </a:lnTo>
                <a:lnTo>
                  <a:pt x="450" y="171"/>
                </a:lnTo>
                <a:lnTo>
                  <a:pt x="453" y="184"/>
                </a:lnTo>
                <a:lnTo>
                  <a:pt x="457" y="198"/>
                </a:lnTo>
                <a:lnTo>
                  <a:pt x="459" y="211"/>
                </a:lnTo>
                <a:lnTo>
                  <a:pt x="459" y="223"/>
                </a:lnTo>
                <a:lnTo>
                  <a:pt x="459" y="232"/>
                </a:lnTo>
                <a:lnTo>
                  <a:pt x="457" y="244"/>
                </a:lnTo>
                <a:lnTo>
                  <a:pt x="453" y="253"/>
                </a:lnTo>
                <a:lnTo>
                  <a:pt x="450" y="263"/>
                </a:lnTo>
                <a:lnTo>
                  <a:pt x="448" y="271"/>
                </a:lnTo>
                <a:lnTo>
                  <a:pt x="446" y="280"/>
                </a:lnTo>
                <a:lnTo>
                  <a:pt x="444" y="290"/>
                </a:lnTo>
                <a:lnTo>
                  <a:pt x="444" y="303"/>
                </a:lnTo>
                <a:lnTo>
                  <a:pt x="442" y="315"/>
                </a:lnTo>
                <a:lnTo>
                  <a:pt x="442" y="330"/>
                </a:lnTo>
                <a:lnTo>
                  <a:pt x="442" y="345"/>
                </a:lnTo>
                <a:lnTo>
                  <a:pt x="442" y="363"/>
                </a:lnTo>
                <a:lnTo>
                  <a:pt x="442" y="382"/>
                </a:lnTo>
                <a:lnTo>
                  <a:pt x="442" y="401"/>
                </a:lnTo>
                <a:lnTo>
                  <a:pt x="442" y="422"/>
                </a:lnTo>
                <a:lnTo>
                  <a:pt x="444" y="445"/>
                </a:lnTo>
                <a:lnTo>
                  <a:pt x="444" y="470"/>
                </a:lnTo>
                <a:lnTo>
                  <a:pt x="446" y="495"/>
                </a:lnTo>
                <a:lnTo>
                  <a:pt x="448" y="524"/>
                </a:lnTo>
                <a:lnTo>
                  <a:pt x="450" y="553"/>
                </a:lnTo>
                <a:lnTo>
                  <a:pt x="451" y="583"/>
                </a:lnTo>
                <a:lnTo>
                  <a:pt x="453" y="614"/>
                </a:lnTo>
                <a:lnTo>
                  <a:pt x="455" y="643"/>
                </a:lnTo>
                <a:lnTo>
                  <a:pt x="457" y="672"/>
                </a:lnTo>
                <a:lnTo>
                  <a:pt x="457" y="701"/>
                </a:lnTo>
                <a:lnTo>
                  <a:pt x="459" y="727"/>
                </a:lnTo>
                <a:lnTo>
                  <a:pt x="459" y="754"/>
                </a:lnTo>
                <a:lnTo>
                  <a:pt x="459" y="779"/>
                </a:lnTo>
                <a:lnTo>
                  <a:pt x="459" y="804"/>
                </a:lnTo>
                <a:lnTo>
                  <a:pt x="459" y="829"/>
                </a:lnTo>
                <a:lnTo>
                  <a:pt x="457" y="852"/>
                </a:lnTo>
                <a:lnTo>
                  <a:pt x="457" y="875"/>
                </a:lnTo>
                <a:lnTo>
                  <a:pt x="455" y="896"/>
                </a:lnTo>
                <a:lnTo>
                  <a:pt x="453" y="917"/>
                </a:lnTo>
                <a:lnTo>
                  <a:pt x="451" y="939"/>
                </a:lnTo>
                <a:lnTo>
                  <a:pt x="450" y="960"/>
                </a:lnTo>
                <a:lnTo>
                  <a:pt x="448" y="979"/>
                </a:lnTo>
                <a:lnTo>
                  <a:pt x="446" y="996"/>
                </a:lnTo>
                <a:lnTo>
                  <a:pt x="442" y="1015"/>
                </a:lnTo>
                <a:lnTo>
                  <a:pt x="438" y="1033"/>
                </a:lnTo>
                <a:lnTo>
                  <a:pt x="434" y="1050"/>
                </a:lnTo>
                <a:lnTo>
                  <a:pt x="430" y="1065"/>
                </a:lnTo>
                <a:lnTo>
                  <a:pt x="427" y="1083"/>
                </a:lnTo>
                <a:lnTo>
                  <a:pt x="423" y="1096"/>
                </a:lnTo>
                <a:lnTo>
                  <a:pt x="419" y="1111"/>
                </a:lnTo>
                <a:lnTo>
                  <a:pt x="413" y="1125"/>
                </a:lnTo>
                <a:lnTo>
                  <a:pt x="407" y="1138"/>
                </a:lnTo>
                <a:lnTo>
                  <a:pt x="402" y="1152"/>
                </a:lnTo>
                <a:lnTo>
                  <a:pt x="396" y="1163"/>
                </a:lnTo>
                <a:lnTo>
                  <a:pt x="390" y="1175"/>
                </a:lnTo>
                <a:lnTo>
                  <a:pt x="384" y="1184"/>
                </a:lnTo>
                <a:lnTo>
                  <a:pt x="379" y="1196"/>
                </a:lnTo>
                <a:lnTo>
                  <a:pt x="365" y="1209"/>
                </a:lnTo>
                <a:lnTo>
                  <a:pt x="354" y="1223"/>
                </a:lnTo>
                <a:lnTo>
                  <a:pt x="342" y="1234"/>
                </a:lnTo>
                <a:lnTo>
                  <a:pt x="332" y="1244"/>
                </a:lnTo>
                <a:lnTo>
                  <a:pt x="329" y="1248"/>
                </a:lnTo>
                <a:lnTo>
                  <a:pt x="325" y="1251"/>
                </a:lnTo>
                <a:lnTo>
                  <a:pt x="321" y="1253"/>
                </a:lnTo>
                <a:lnTo>
                  <a:pt x="317" y="1257"/>
                </a:lnTo>
                <a:lnTo>
                  <a:pt x="313" y="1259"/>
                </a:lnTo>
                <a:lnTo>
                  <a:pt x="309" y="1259"/>
                </a:lnTo>
                <a:lnTo>
                  <a:pt x="307" y="1261"/>
                </a:lnTo>
                <a:lnTo>
                  <a:pt x="306" y="1261"/>
                </a:lnTo>
                <a:lnTo>
                  <a:pt x="300" y="1261"/>
                </a:lnTo>
                <a:lnTo>
                  <a:pt x="296" y="1259"/>
                </a:lnTo>
                <a:lnTo>
                  <a:pt x="292" y="1259"/>
                </a:lnTo>
                <a:lnTo>
                  <a:pt x="288" y="1255"/>
                </a:lnTo>
                <a:lnTo>
                  <a:pt x="286" y="1253"/>
                </a:lnTo>
                <a:lnTo>
                  <a:pt x="283" y="1250"/>
                </a:lnTo>
                <a:lnTo>
                  <a:pt x="279" y="1246"/>
                </a:lnTo>
                <a:lnTo>
                  <a:pt x="277" y="1242"/>
                </a:lnTo>
                <a:lnTo>
                  <a:pt x="273" y="1236"/>
                </a:lnTo>
                <a:lnTo>
                  <a:pt x="271" y="1230"/>
                </a:lnTo>
                <a:lnTo>
                  <a:pt x="269" y="1225"/>
                </a:lnTo>
                <a:lnTo>
                  <a:pt x="265" y="1217"/>
                </a:lnTo>
                <a:lnTo>
                  <a:pt x="263" y="1209"/>
                </a:lnTo>
                <a:lnTo>
                  <a:pt x="261" y="1202"/>
                </a:lnTo>
                <a:lnTo>
                  <a:pt x="260" y="1192"/>
                </a:lnTo>
                <a:lnTo>
                  <a:pt x="258" y="1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22"/>
          <p:cNvSpPr/>
          <p:nvPr/>
        </p:nvSpPr>
        <p:spPr>
          <a:xfrm>
            <a:off x="6386400" y="4280040"/>
            <a:ext cx="231840" cy="501480"/>
          </a:xfrm>
          <a:custGeom>
            <a:avLst/>
            <a:gdLst/>
            <a:ahLst/>
            <a:rect l="l" t="t" r="r" b="b"/>
            <a:pathLst>
              <a:path w="292" h="631">
                <a:moveTo>
                  <a:pt x="79" y="631"/>
                </a:moveTo>
                <a:lnTo>
                  <a:pt x="69" y="629"/>
                </a:lnTo>
                <a:lnTo>
                  <a:pt x="60" y="627"/>
                </a:lnTo>
                <a:lnTo>
                  <a:pt x="52" y="623"/>
                </a:lnTo>
                <a:lnTo>
                  <a:pt x="44" y="620"/>
                </a:lnTo>
                <a:lnTo>
                  <a:pt x="41" y="616"/>
                </a:lnTo>
                <a:lnTo>
                  <a:pt x="37" y="612"/>
                </a:lnTo>
                <a:lnTo>
                  <a:pt x="33" y="608"/>
                </a:lnTo>
                <a:lnTo>
                  <a:pt x="29" y="602"/>
                </a:lnTo>
                <a:lnTo>
                  <a:pt x="25" y="597"/>
                </a:lnTo>
                <a:lnTo>
                  <a:pt x="23" y="591"/>
                </a:lnTo>
                <a:lnTo>
                  <a:pt x="21" y="585"/>
                </a:lnTo>
                <a:lnTo>
                  <a:pt x="18" y="577"/>
                </a:lnTo>
                <a:lnTo>
                  <a:pt x="14" y="564"/>
                </a:lnTo>
                <a:lnTo>
                  <a:pt x="10" y="551"/>
                </a:lnTo>
                <a:lnTo>
                  <a:pt x="6" y="537"/>
                </a:lnTo>
                <a:lnTo>
                  <a:pt x="2" y="526"/>
                </a:lnTo>
                <a:lnTo>
                  <a:pt x="2" y="512"/>
                </a:lnTo>
                <a:lnTo>
                  <a:pt x="0" y="501"/>
                </a:lnTo>
                <a:lnTo>
                  <a:pt x="2" y="493"/>
                </a:lnTo>
                <a:lnTo>
                  <a:pt x="2" y="487"/>
                </a:lnTo>
                <a:lnTo>
                  <a:pt x="4" y="480"/>
                </a:lnTo>
                <a:lnTo>
                  <a:pt x="6" y="472"/>
                </a:lnTo>
                <a:lnTo>
                  <a:pt x="6" y="468"/>
                </a:lnTo>
                <a:lnTo>
                  <a:pt x="8" y="462"/>
                </a:lnTo>
                <a:lnTo>
                  <a:pt x="8" y="456"/>
                </a:lnTo>
                <a:lnTo>
                  <a:pt x="10" y="451"/>
                </a:lnTo>
                <a:lnTo>
                  <a:pt x="14" y="445"/>
                </a:lnTo>
                <a:lnTo>
                  <a:pt x="16" y="437"/>
                </a:lnTo>
                <a:lnTo>
                  <a:pt x="23" y="426"/>
                </a:lnTo>
                <a:lnTo>
                  <a:pt x="31" y="410"/>
                </a:lnTo>
                <a:lnTo>
                  <a:pt x="42" y="397"/>
                </a:lnTo>
                <a:lnTo>
                  <a:pt x="54" y="382"/>
                </a:lnTo>
                <a:lnTo>
                  <a:pt x="67" y="368"/>
                </a:lnTo>
                <a:lnTo>
                  <a:pt x="73" y="360"/>
                </a:lnTo>
                <a:lnTo>
                  <a:pt x="81" y="351"/>
                </a:lnTo>
                <a:lnTo>
                  <a:pt x="87" y="343"/>
                </a:lnTo>
                <a:lnTo>
                  <a:pt x="94" y="334"/>
                </a:lnTo>
                <a:lnTo>
                  <a:pt x="100" y="322"/>
                </a:lnTo>
                <a:lnTo>
                  <a:pt x="108" y="311"/>
                </a:lnTo>
                <a:lnTo>
                  <a:pt x="114" y="299"/>
                </a:lnTo>
                <a:lnTo>
                  <a:pt x="121" y="288"/>
                </a:lnTo>
                <a:lnTo>
                  <a:pt x="127" y="274"/>
                </a:lnTo>
                <a:lnTo>
                  <a:pt x="135" y="259"/>
                </a:lnTo>
                <a:lnTo>
                  <a:pt x="142" y="245"/>
                </a:lnTo>
                <a:lnTo>
                  <a:pt x="148" y="230"/>
                </a:lnTo>
                <a:lnTo>
                  <a:pt x="156" y="213"/>
                </a:lnTo>
                <a:lnTo>
                  <a:pt x="161" y="195"/>
                </a:lnTo>
                <a:lnTo>
                  <a:pt x="169" y="176"/>
                </a:lnTo>
                <a:lnTo>
                  <a:pt x="175" y="157"/>
                </a:lnTo>
                <a:lnTo>
                  <a:pt x="183" y="138"/>
                </a:lnTo>
                <a:lnTo>
                  <a:pt x="188" y="121"/>
                </a:lnTo>
                <a:lnTo>
                  <a:pt x="196" y="103"/>
                </a:lnTo>
                <a:lnTo>
                  <a:pt x="202" y="88"/>
                </a:lnTo>
                <a:lnTo>
                  <a:pt x="208" y="75"/>
                </a:lnTo>
                <a:lnTo>
                  <a:pt x="215" y="61"/>
                </a:lnTo>
                <a:lnTo>
                  <a:pt x="221" y="50"/>
                </a:lnTo>
                <a:lnTo>
                  <a:pt x="227" y="40"/>
                </a:lnTo>
                <a:lnTo>
                  <a:pt x="233" y="30"/>
                </a:lnTo>
                <a:lnTo>
                  <a:pt x="236" y="23"/>
                </a:lnTo>
                <a:lnTo>
                  <a:pt x="242" y="15"/>
                </a:lnTo>
                <a:lnTo>
                  <a:pt x="246" y="9"/>
                </a:lnTo>
                <a:lnTo>
                  <a:pt x="250" y="5"/>
                </a:lnTo>
                <a:lnTo>
                  <a:pt x="254" y="2"/>
                </a:lnTo>
                <a:lnTo>
                  <a:pt x="257" y="0"/>
                </a:lnTo>
                <a:lnTo>
                  <a:pt x="259" y="0"/>
                </a:lnTo>
                <a:lnTo>
                  <a:pt x="263" y="5"/>
                </a:lnTo>
                <a:lnTo>
                  <a:pt x="267" y="11"/>
                </a:lnTo>
                <a:lnTo>
                  <a:pt x="269" y="21"/>
                </a:lnTo>
                <a:lnTo>
                  <a:pt x="273" y="28"/>
                </a:lnTo>
                <a:lnTo>
                  <a:pt x="275" y="40"/>
                </a:lnTo>
                <a:lnTo>
                  <a:pt x="277" y="51"/>
                </a:lnTo>
                <a:lnTo>
                  <a:pt x="281" y="65"/>
                </a:lnTo>
                <a:lnTo>
                  <a:pt x="284" y="78"/>
                </a:lnTo>
                <a:lnTo>
                  <a:pt x="286" y="86"/>
                </a:lnTo>
                <a:lnTo>
                  <a:pt x="288" y="94"/>
                </a:lnTo>
                <a:lnTo>
                  <a:pt x="290" y="103"/>
                </a:lnTo>
                <a:lnTo>
                  <a:pt x="290" y="113"/>
                </a:lnTo>
                <a:lnTo>
                  <a:pt x="292" y="132"/>
                </a:lnTo>
                <a:lnTo>
                  <a:pt x="292" y="153"/>
                </a:lnTo>
                <a:lnTo>
                  <a:pt x="292" y="176"/>
                </a:lnTo>
                <a:lnTo>
                  <a:pt x="290" y="201"/>
                </a:lnTo>
                <a:lnTo>
                  <a:pt x="288" y="224"/>
                </a:lnTo>
                <a:lnTo>
                  <a:pt x="284" y="249"/>
                </a:lnTo>
                <a:lnTo>
                  <a:pt x="281" y="263"/>
                </a:lnTo>
                <a:lnTo>
                  <a:pt x="279" y="274"/>
                </a:lnTo>
                <a:lnTo>
                  <a:pt x="275" y="288"/>
                </a:lnTo>
                <a:lnTo>
                  <a:pt x="271" y="301"/>
                </a:lnTo>
                <a:lnTo>
                  <a:pt x="261" y="328"/>
                </a:lnTo>
                <a:lnTo>
                  <a:pt x="250" y="357"/>
                </a:lnTo>
                <a:lnTo>
                  <a:pt x="238" y="387"/>
                </a:lnTo>
                <a:lnTo>
                  <a:pt x="227" y="420"/>
                </a:lnTo>
                <a:lnTo>
                  <a:pt x="213" y="453"/>
                </a:lnTo>
                <a:lnTo>
                  <a:pt x="200" y="485"/>
                </a:lnTo>
                <a:lnTo>
                  <a:pt x="190" y="503"/>
                </a:lnTo>
                <a:lnTo>
                  <a:pt x="183" y="518"/>
                </a:lnTo>
                <a:lnTo>
                  <a:pt x="173" y="533"/>
                </a:lnTo>
                <a:lnTo>
                  <a:pt x="165" y="547"/>
                </a:lnTo>
                <a:lnTo>
                  <a:pt x="158" y="560"/>
                </a:lnTo>
                <a:lnTo>
                  <a:pt x="150" y="572"/>
                </a:lnTo>
                <a:lnTo>
                  <a:pt x="142" y="583"/>
                </a:lnTo>
                <a:lnTo>
                  <a:pt x="135" y="593"/>
                </a:lnTo>
                <a:lnTo>
                  <a:pt x="127" y="600"/>
                </a:lnTo>
                <a:lnTo>
                  <a:pt x="121" y="608"/>
                </a:lnTo>
                <a:lnTo>
                  <a:pt x="114" y="616"/>
                </a:lnTo>
                <a:lnTo>
                  <a:pt x="106" y="622"/>
                </a:lnTo>
                <a:lnTo>
                  <a:pt x="100" y="625"/>
                </a:lnTo>
                <a:lnTo>
                  <a:pt x="92" y="627"/>
                </a:lnTo>
                <a:lnTo>
                  <a:pt x="85" y="629"/>
                </a:lnTo>
                <a:lnTo>
                  <a:pt x="79" y="6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23"/>
          <p:cNvSpPr/>
          <p:nvPr/>
        </p:nvSpPr>
        <p:spPr>
          <a:xfrm>
            <a:off x="6315120" y="3863880"/>
            <a:ext cx="1239840" cy="279360"/>
          </a:xfrm>
          <a:custGeom>
            <a:avLst/>
            <a:gdLst/>
            <a:ahLst/>
            <a:rect l="l" t="t" r="r" b="b"/>
            <a:pathLst>
              <a:path w="1562" h="353">
                <a:moveTo>
                  <a:pt x="726" y="103"/>
                </a:moveTo>
                <a:lnTo>
                  <a:pt x="752" y="98"/>
                </a:lnTo>
                <a:lnTo>
                  <a:pt x="777" y="92"/>
                </a:lnTo>
                <a:lnTo>
                  <a:pt x="804" y="86"/>
                </a:lnTo>
                <a:lnTo>
                  <a:pt x="829" y="80"/>
                </a:lnTo>
                <a:lnTo>
                  <a:pt x="854" y="75"/>
                </a:lnTo>
                <a:lnTo>
                  <a:pt x="877" y="69"/>
                </a:lnTo>
                <a:lnTo>
                  <a:pt x="900" y="63"/>
                </a:lnTo>
                <a:lnTo>
                  <a:pt x="923" y="59"/>
                </a:lnTo>
                <a:lnTo>
                  <a:pt x="946" y="53"/>
                </a:lnTo>
                <a:lnTo>
                  <a:pt x="967" y="50"/>
                </a:lnTo>
                <a:lnTo>
                  <a:pt x="989" y="46"/>
                </a:lnTo>
                <a:lnTo>
                  <a:pt x="1010" y="42"/>
                </a:lnTo>
                <a:lnTo>
                  <a:pt x="1031" y="36"/>
                </a:lnTo>
                <a:lnTo>
                  <a:pt x="1050" y="32"/>
                </a:lnTo>
                <a:lnTo>
                  <a:pt x="1069" y="30"/>
                </a:lnTo>
                <a:lnTo>
                  <a:pt x="1086" y="27"/>
                </a:lnTo>
                <a:lnTo>
                  <a:pt x="1106" y="23"/>
                </a:lnTo>
                <a:lnTo>
                  <a:pt x="1123" y="19"/>
                </a:lnTo>
                <a:lnTo>
                  <a:pt x="1138" y="17"/>
                </a:lnTo>
                <a:lnTo>
                  <a:pt x="1156" y="15"/>
                </a:lnTo>
                <a:lnTo>
                  <a:pt x="1171" y="11"/>
                </a:lnTo>
                <a:lnTo>
                  <a:pt x="1186" y="9"/>
                </a:lnTo>
                <a:lnTo>
                  <a:pt x="1200" y="7"/>
                </a:lnTo>
                <a:lnTo>
                  <a:pt x="1215" y="5"/>
                </a:lnTo>
                <a:lnTo>
                  <a:pt x="1228" y="3"/>
                </a:lnTo>
                <a:lnTo>
                  <a:pt x="1240" y="3"/>
                </a:lnTo>
                <a:lnTo>
                  <a:pt x="1253" y="2"/>
                </a:lnTo>
                <a:lnTo>
                  <a:pt x="1265" y="0"/>
                </a:lnTo>
                <a:lnTo>
                  <a:pt x="1275" y="0"/>
                </a:lnTo>
                <a:lnTo>
                  <a:pt x="1286" y="0"/>
                </a:lnTo>
                <a:lnTo>
                  <a:pt x="1296" y="0"/>
                </a:lnTo>
                <a:lnTo>
                  <a:pt x="1305" y="0"/>
                </a:lnTo>
                <a:lnTo>
                  <a:pt x="1323" y="0"/>
                </a:lnTo>
                <a:lnTo>
                  <a:pt x="1340" y="0"/>
                </a:lnTo>
                <a:lnTo>
                  <a:pt x="1357" y="2"/>
                </a:lnTo>
                <a:lnTo>
                  <a:pt x="1372" y="3"/>
                </a:lnTo>
                <a:lnTo>
                  <a:pt x="1388" y="5"/>
                </a:lnTo>
                <a:lnTo>
                  <a:pt x="1403" y="9"/>
                </a:lnTo>
                <a:lnTo>
                  <a:pt x="1417" y="13"/>
                </a:lnTo>
                <a:lnTo>
                  <a:pt x="1430" y="17"/>
                </a:lnTo>
                <a:lnTo>
                  <a:pt x="1443" y="21"/>
                </a:lnTo>
                <a:lnTo>
                  <a:pt x="1455" y="27"/>
                </a:lnTo>
                <a:lnTo>
                  <a:pt x="1466" y="30"/>
                </a:lnTo>
                <a:lnTo>
                  <a:pt x="1476" y="36"/>
                </a:lnTo>
                <a:lnTo>
                  <a:pt x="1486" y="44"/>
                </a:lnTo>
                <a:lnTo>
                  <a:pt x="1495" y="50"/>
                </a:lnTo>
                <a:lnTo>
                  <a:pt x="1503" y="57"/>
                </a:lnTo>
                <a:lnTo>
                  <a:pt x="1511" y="65"/>
                </a:lnTo>
                <a:lnTo>
                  <a:pt x="1522" y="78"/>
                </a:lnTo>
                <a:lnTo>
                  <a:pt x="1536" y="92"/>
                </a:lnTo>
                <a:lnTo>
                  <a:pt x="1539" y="98"/>
                </a:lnTo>
                <a:lnTo>
                  <a:pt x="1545" y="103"/>
                </a:lnTo>
                <a:lnTo>
                  <a:pt x="1549" y="109"/>
                </a:lnTo>
                <a:lnTo>
                  <a:pt x="1553" y="113"/>
                </a:lnTo>
                <a:lnTo>
                  <a:pt x="1555" y="119"/>
                </a:lnTo>
                <a:lnTo>
                  <a:pt x="1559" y="122"/>
                </a:lnTo>
                <a:lnTo>
                  <a:pt x="1561" y="126"/>
                </a:lnTo>
                <a:lnTo>
                  <a:pt x="1561" y="130"/>
                </a:lnTo>
                <a:lnTo>
                  <a:pt x="1562" y="134"/>
                </a:lnTo>
                <a:lnTo>
                  <a:pt x="1561" y="138"/>
                </a:lnTo>
                <a:lnTo>
                  <a:pt x="1561" y="140"/>
                </a:lnTo>
                <a:lnTo>
                  <a:pt x="1559" y="144"/>
                </a:lnTo>
                <a:lnTo>
                  <a:pt x="1557" y="146"/>
                </a:lnTo>
                <a:lnTo>
                  <a:pt x="1553" y="147"/>
                </a:lnTo>
                <a:lnTo>
                  <a:pt x="1549" y="149"/>
                </a:lnTo>
                <a:lnTo>
                  <a:pt x="1545" y="153"/>
                </a:lnTo>
                <a:lnTo>
                  <a:pt x="1539" y="155"/>
                </a:lnTo>
                <a:lnTo>
                  <a:pt x="1534" y="157"/>
                </a:lnTo>
                <a:lnTo>
                  <a:pt x="1526" y="159"/>
                </a:lnTo>
                <a:lnTo>
                  <a:pt x="1520" y="161"/>
                </a:lnTo>
                <a:lnTo>
                  <a:pt x="1511" y="163"/>
                </a:lnTo>
                <a:lnTo>
                  <a:pt x="1501" y="165"/>
                </a:lnTo>
                <a:lnTo>
                  <a:pt x="1491" y="165"/>
                </a:lnTo>
                <a:lnTo>
                  <a:pt x="1480" y="167"/>
                </a:lnTo>
                <a:lnTo>
                  <a:pt x="1468" y="169"/>
                </a:lnTo>
                <a:lnTo>
                  <a:pt x="1455" y="169"/>
                </a:lnTo>
                <a:lnTo>
                  <a:pt x="1442" y="169"/>
                </a:lnTo>
                <a:lnTo>
                  <a:pt x="1426" y="169"/>
                </a:lnTo>
                <a:lnTo>
                  <a:pt x="1419" y="169"/>
                </a:lnTo>
                <a:lnTo>
                  <a:pt x="1409" y="169"/>
                </a:lnTo>
                <a:lnTo>
                  <a:pt x="1399" y="169"/>
                </a:lnTo>
                <a:lnTo>
                  <a:pt x="1390" y="170"/>
                </a:lnTo>
                <a:lnTo>
                  <a:pt x="1380" y="170"/>
                </a:lnTo>
                <a:lnTo>
                  <a:pt x="1369" y="170"/>
                </a:lnTo>
                <a:lnTo>
                  <a:pt x="1359" y="170"/>
                </a:lnTo>
                <a:lnTo>
                  <a:pt x="1346" y="172"/>
                </a:lnTo>
                <a:lnTo>
                  <a:pt x="1334" y="172"/>
                </a:lnTo>
                <a:lnTo>
                  <a:pt x="1323" y="172"/>
                </a:lnTo>
                <a:lnTo>
                  <a:pt x="1309" y="174"/>
                </a:lnTo>
                <a:lnTo>
                  <a:pt x="1296" y="174"/>
                </a:lnTo>
                <a:lnTo>
                  <a:pt x="1280" y="176"/>
                </a:lnTo>
                <a:lnTo>
                  <a:pt x="1267" y="178"/>
                </a:lnTo>
                <a:lnTo>
                  <a:pt x="1252" y="178"/>
                </a:lnTo>
                <a:lnTo>
                  <a:pt x="1236" y="180"/>
                </a:lnTo>
                <a:lnTo>
                  <a:pt x="1219" y="182"/>
                </a:lnTo>
                <a:lnTo>
                  <a:pt x="1204" y="184"/>
                </a:lnTo>
                <a:lnTo>
                  <a:pt x="1186" y="186"/>
                </a:lnTo>
                <a:lnTo>
                  <a:pt x="1167" y="188"/>
                </a:lnTo>
                <a:lnTo>
                  <a:pt x="1150" y="190"/>
                </a:lnTo>
                <a:lnTo>
                  <a:pt x="1131" y="192"/>
                </a:lnTo>
                <a:lnTo>
                  <a:pt x="1111" y="194"/>
                </a:lnTo>
                <a:lnTo>
                  <a:pt x="1092" y="197"/>
                </a:lnTo>
                <a:lnTo>
                  <a:pt x="1073" y="199"/>
                </a:lnTo>
                <a:lnTo>
                  <a:pt x="1052" y="201"/>
                </a:lnTo>
                <a:lnTo>
                  <a:pt x="1031" y="205"/>
                </a:lnTo>
                <a:lnTo>
                  <a:pt x="1010" y="209"/>
                </a:lnTo>
                <a:lnTo>
                  <a:pt x="987" y="211"/>
                </a:lnTo>
                <a:lnTo>
                  <a:pt x="966" y="215"/>
                </a:lnTo>
                <a:lnTo>
                  <a:pt x="942" y="218"/>
                </a:lnTo>
                <a:lnTo>
                  <a:pt x="918" y="222"/>
                </a:lnTo>
                <a:lnTo>
                  <a:pt x="871" y="230"/>
                </a:lnTo>
                <a:lnTo>
                  <a:pt x="825" y="236"/>
                </a:lnTo>
                <a:lnTo>
                  <a:pt x="783" y="243"/>
                </a:lnTo>
                <a:lnTo>
                  <a:pt x="741" y="249"/>
                </a:lnTo>
                <a:lnTo>
                  <a:pt x="701" y="255"/>
                </a:lnTo>
                <a:lnTo>
                  <a:pt x="662" y="261"/>
                </a:lnTo>
                <a:lnTo>
                  <a:pt x="626" y="266"/>
                </a:lnTo>
                <a:lnTo>
                  <a:pt x="591" y="272"/>
                </a:lnTo>
                <a:lnTo>
                  <a:pt x="559" y="278"/>
                </a:lnTo>
                <a:lnTo>
                  <a:pt x="528" y="284"/>
                </a:lnTo>
                <a:lnTo>
                  <a:pt x="497" y="289"/>
                </a:lnTo>
                <a:lnTo>
                  <a:pt x="468" y="293"/>
                </a:lnTo>
                <a:lnTo>
                  <a:pt x="443" y="299"/>
                </a:lnTo>
                <a:lnTo>
                  <a:pt x="418" y="303"/>
                </a:lnTo>
                <a:lnTo>
                  <a:pt x="395" y="309"/>
                </a:lnTo>
                <a:lnTo>
                  <a:pt x="374" y="314"/>
                </a:lnTo>
                <a:lnTo>
                  <a:pt x="351" y="318"/>
                </a:lnTo>
                <a:lnTo>
                  <a:pt x="330" y="322"/>
                </a:lnTo>
                <a:lnTo>
                  <a:pt x="311" y="328"/>
                </a:lnTo>
                <a:lnTo>
                  <a:pt x="292" y="332"/>
                </a:lnTo>
                <a:lnTo>
                  <a:pt x="275" y="334"/>
                </a:lnTo>
                <a:lnTo>
                  <a:pt x="259" y="337"/>
                </a:lnTo>
                <a:lnTo>
                  <a:pt x="244" y="341"/>
                </a:lnTo>
                <a:lnTo>
                  <a:pt x="230" y="343"/>
                </a:lnTo>
                <a:lnTo>
                  <a:pt x="219" y="345"/>
                </a:lnTo>
                <a:lnTo>
                  <a:pt x="207" y="347"/>
                </a:lnTo>
                <a:lnTo>
                  <a:pt x="198" y="349"/>
                </a:lnTo>
                <a:lnTo>
                  <a:pt x="188" y="351"/>
                </a:lnTo>
                <a:lnTo>
                  <a:pt x="182" y="351"/>
                </a:lnTo>
                <a:lnTo>
                  <a:pt x="177" y="353"/>
                </a:lnTo>
                <a:lnTo>
                  <a:pt x="171" y="353"/>
                </a:lnTo>
                <a:lnTo>
                  <a:pt x="169" y="353"/>
                </a:lnTo>
                <a:lnTo>
                  <a:pt x="159" y="353"/>
                </a:lnTo>
                <a:lnTo>
                  <a:pt x="148" y="351"/>
                </a:lnTo>
                <a:lnTo>
                  <a:pt x="136" y="347"/>
                </a:lnTo>
                <a:lnTo>
                  <a:pt x="125" y="343"/>
                </a:lnTo>
                <a:lnTo>
                  <a:pt x="111" y="337"/>
                </a:lnTo>
                <a:lnTo>
                  <a:pt x="100" y="332"/>
                </a:lnTo>
                <a:lnTo>
                  <a:pt x="86" y="322"/>
                </a:lnTo>
                <a:lnTo>
                  <a:pt x="73" y="314"/>
                </a:lnTo>
                <a:lnTo>
                  <a:pt x="63" y="309"/>
                </a:lnTo>
                <a:lnTo>
                  <a:pt x="56" y="303"/>
                </a:lnTo>
                <a:lnTo>
                  <a:pt x="48" y="299"/>
                </a:lnTo>
                <a:lnTo>
                  <a:pt x="40" y="293"/>
                </a:lnTo>
                <a:lnTo>
                  <a:pt x="35" y="289"/>
                </a:lnTo>
                <a:lnTo>
                  <a:pt x="27" y="284"/>
                </a:lnTo>
                <a:lnTo>
                  <a:pt x="23" y="280"/>
                </a:lnTo>
                <a:lnTo>
                  <a:pt x="17" y="276"/>
                </a:lnTo>
                <a:lnTo>
                  <a:pt x="13" y="272"/>
                </a:lnTo>
                <a:lnTo>
                  <a:pt x="10" y="268"/>
                </a:lnTo>
                <a:lnTo>
                  <a:pt x="6" y="265"/>
                </a:lnTo>
                <a:lnTo>
                  <a:pt x="4" y="261"/>
                </a:lnTo>
                <a:lnTo>
                  <a:pt x="2" y="257"/>
                </a:lnTo>
                <a:lnTo>
                  <a:pt x="0" y="253"/>
                </a:lnTo>
                <a:lnTo>
                  <a:pt x="0" y="251"/>
                </a:lnTo>
                <a:lnTo>
                  <a:pt x="0" y="247"/>
                </a:lnTo>
                <a:lnTo>
                  <a:pt x="0" y="245"/>
                </a:lnTo>
                <a:lnTo>
                  <a:pt x="2" y="243"/>
                </a:lnTo>
                <a:lnTo>
                  <a:pt x="4" y="240"/>
                </a:lnTo>
                <a:lnTo>
                  <a:pt x="8" y="238"/>
                </a:lnTo>
                <a:lnTo>
                  <a:pt x="13" y="236"/>
                </a:lnTo>
                <a:lnTo>
                  <a:pt x="21" y="234"/>
                </a:lnTo>
                <a:lnTo>
                  <a:pt x="29" y="230"/>
                </a:lnTo>
                <a:lnTo>
                  <a:pt x="37" y="228"/>
                </a:lnTo>
                <a:lnTo>
                  <a:pt x="48" y="226"/>
                </a:lnTo>
                <a:lnTo>
                  <a:pt x="60" y="224"/>
                </a:lnTo>
                <a:lnTo>
                  <a:pt x="71" y="220"/>
                </a:lnTo>
                <a:lnTo>
                  <a:pt x="86" y="218"/>
                </a:lnTo>
                <a:lnTo>
                  <a:pt x="102" y="217"/>
                </a:lnTo>
                <a:lnTo>
                  <a:pt x="119" y="213"/>
                </a:lnTo>
                <a:lnTo>
                  <a:pt x="136" y="211"/>
                </a:lnTo>
                <a:lnTo>
                  <a:pt x="157" y="209"/>
                </a:lnTo>
                <a:lnTo>
                  <a:pt x="165" y="209"/>
                </a:lnTo>
                <a:lnTo>
                  <a:pt x="177" y="209"/>
                </a:lnTo>
                <a:lnTo>
                  <a:pt x="186" y="207"/>
                </a:lnTo>
                <a:lnTo>
                  <a:pt x="198" y="207"/>
                </a:lnTo>
                <a:lnTo>
                  <a:pt x="209" y="205"/>
                </a:lnTo>
                <a:lnTo>
                  <a:pt x="221" y="205"/>
                </a:lnTo>
                <a:lnTo>
                  <a:pt x="234" y="203"/>
                </a:lnTo>
                <a:lnTo>
                  <a:pt x="248" y="201"/>
                </a:lnTo>
                <a:lnTo>
                  <a:pt x="261" y="199"/>
                </a:lnTo>
                <a:lnTo>
                  <a:pt x="275" y="197"/>
                </a:lnTo>
                <a:lnTo>
                  <a:pt x="290" y="195"/>
                </a:lnTo>
                <a:lnTo>
                  <a:pt x="305" y="194"/>
                </a:lnTo>
                <a:lnTo>
                  <a:pt x="323" y="190"/>
                </a:lnTo>
                <a:lnTo>
                  <a:pt x="338" y="188"/>
                </a:lnTo>
                <a:lnTo>
                  <a:pt x="355" y="184"/>
                </a:lnTo>
                <a:lnTo>
                  <a:pt x="372" y="182"/>
                </a:lnTo>
                <a:lnTo>
                  <a:pt x="392" y="178"/>
                </a:lnTo>
                <a:lnTo>
                  <a:pt x="409" y="174"/>
                </a:lnTo>
                <a:lnTo>
                  <a:pt x="428" y="170"/>
                </a:lnTo>
                <a:lnTo>
                  <a:pt x="449" y="167"/>
                </a:lnTo>
                <a:lnTo>
                  <a:pt x="468" y="163"/>
                </a:lnTo>
                <a:lnTo>
                  <a:pt x="490" y="157"/>
                </a:lnTo>
                <a:lnTo>
                  <a:pt x="511" y="153"/>
                </a:lnTo>
                <a:lnTo>
                  <a:pt x="532" y="147"/>
                </a:lnTo>
                <a:lnTo>
                  <a:pt x="555" y="144"/>
                </a:lnTo>
                <a:lnTo>
                  <a:pt x="578" y="138"/>
                </a:lnTo>
                <a:lnTo>
                  <a:pt x="601" y="132"/>
                </a:lnTo>
                <a:lnTo>
                  <a:pt x="624" y="126"/>
                </a:lnTo>
                <a:lnTo>
                  <a:pt x="649" y="121"/>
                </a:lnTo>
                <a:lnTo>
                  <a:pt x="674" y="115"/>
                </a:lnTo>
                <a:lnTo>
                  <a:pt x="699" y="109"/>
                </a:lnTo>
                <a:lnTo>
                  <a:pt x="726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24"/>
          <p:cNvSpPr/>
          <p:nvPr/>
        </p:nvSpPr>
        <p:spPr>
          <a:xfrm>
            <a:off x="6670800" y="3549600"/>
            <a:ext cx="583920" cy="203400"/>
          </a:xfrm>
          <a:custGeom>
            <a:avLst/>
            <a:gdLst/>
            <a:ahLst/>
            <a:rect l="l" t="t" r="r" b="b"/>
            <a:pathLst>
              <a:path w="737" h="256">
                <a:moveTo>
                  <a:pt x="507" y="171"/>
                </a:moveTo>
                <a:lnTo>
                  <a:pt x="480" y="181"/>
                </a:lnTo>
                <a:lnTo>
                  <a:pt x="455" y="190"/>
                </a:lnTo>
                <a:lnTo>
                  <a:pt x="430" y="198"/>
                </a:lnTo>
                <a:lnTo>
                  <a:pt x="405" y="206"/>
                </a:lnTo>
                <a:lnTo>
                  <a:pt x="382" y="213"/>
                </a:lnTo>
                <a:lnTo>
                  <a:pt x="359" y="219"/>
                </a:lnTo>
                <a:lnTo>
                  <a:pt x="338" y="225"/>
                </a:lnTo>
                <a:lnTo>
                  <a:pt x="317" y="231"/>
                </a:lnTo>
                <a:lnTo>
                  <a:pt x="298" y="234"/>
                </a:lnTo>
                <a:lnTo>
                  <a:pt x="279" y="238"/>
                </a:lnTo>
                <a:lnTo>
                  <a:pt x="259" y="242"/>
                </a:lnTo>
                <a:lnTo>
                  <a:pt x="242" y="246"/>
                </a:lnTo>
                <a:lnTo>
                  <a:pt x="225" y="248"/>
                </a:lnTo>
                <a:lnTo>
                  <a:pt x="209" y="248"/>
                </a:lnTo>
                <a:lnTo>
                  <a:pt x="194" y="250"/>
                </a:lnTo>
                <a:lnTo>
                  <a:pt x="181" y="250"/>
                </a:lnTo>
                <a:lnTo>
                  <a:pt x="165" y="252"/>
                </a:lnTo>
                <a:lnTo>
                  <a:pt x="150" y="254"/>
                </a:lnTo>
                <a:lnTo>
                  <a:pt x="137" y="256"/>
                </a:lnTo>
                <a:lnTo>
                  <a:pt x="125" y="256"/>
                </a:lnTo>
                <a:lnTo>
                  <a:pt x="112" y="256"/>
                </a:lnTo>
                <a:lnTo>
                  <a:pt x="100" y="256"/>
                </a:lnTo>
                <a:lnTo>
                  <a:pt x="90" y="254"/>
                </a:lnTo>
                <a:lnTo>
                  <a:pt x="81" y="254"/>
                </a:lnTo>
                <a:lnTo>
                  <a:pt x="73" y="252"/>
                </a:lnTo>
                <a:lnTo>
                  <a:pt x="66" y="250"/>
                </a:lnTo>
                <a:lnTo>
                  <a:pt x="58" y="248"/>
                </a:lnTo>
                <a:lnTo>
                  <a:pt x="52" y="246"/>
                </a:lnTo>
                <a:lnTo>
                  <a:pt x="46" y="244"/>
                </a:lnTo>
                <a:lnTo>
                  <a:pt x="43" y="242"/>
                </a:lnTo>
                <a:lnTo>
                  <a:pt x="39" y="240"/>
                </a:lnTo>
                <a:lnTo>
                  <a:pt x="37" y="236"/>
                </a:lnTo>
                <a:lnTo>
                  <a:pt x="27" y="231"/>
                </a:lnTo>
                <a:lnTo>
                  <a:pt x="19" y="225"/>
                </a:lnTo>
                <a:lnTo>
                  <a:pt x="14" y="217"/>
                </a:lnTo>
                <a:lnTo>
                  <a:pt x="8" y="211"/>
                </a:lnTo>
                <a:lnTo>
                  <a:pt x="4" y="204"/>
                </a:lnTo>
                <a:lnTo>
                  <a:pt x="2" y="196"/>
                </a:lnTo>
                <a:lnTo>
                  <a:pt x="0" y="190"/>
                </a:lnTo>
                <a:lnTo>
                  <a:pt x="0" y="185"/>
                </a:lnTo>
                <a:lnTo>
                  <a:pt x="0" y="181"/>
                </a:lnTo>
                <a:lnTo>
                  <a:pt x="2" y="177"/>
                </a:lnTo>
                <a:lnTo>
                  <a:pt x="6" y="173"/>
                </a:lnTo>
                <a:lnTo>
                  <a:pt x="10" y="171"/>
                </a:lnTo>
                <a:lnTo>
                  <a:pt x="18" y="169"/>
                </a:lnTo>
                <a:lnTo>
                  <a:pt x="21" y="167"/>
                </a:lnTo>
                <a:lnTo>
                  <a:pt x="25" y="165"/>
                </a:lnTo>
                <a:lnTo>
                  <a:pt x="31" y="165"/>
                </a:lnTo>
                <a:lnTo>
                  <a:pt x="35" y="163"/>
                </a:lnTo>
                <a:lnTo>
                  <a:pt x="41" y="161"/>
                </a:lnTo>
                <a:lnTo>
                  <a:pt x="48" y="158"/>
                </a:lnTo>
                <a:lnTo>
                  <a:pt x="56" y="156"/>
                </a:lnTo>
                <a:lnTo>
                  <a:pt x="64" y="152"/>
                </a:lnTo>
                <a:lnTo>
                  <a:pt x="75" y="150"/>
                </a:lnTo>
                <a:lnTo>
                  <a:pt x="87" y="146"/>
                </a:lnTo>
                <a:lnTo>
                  <a:pt x="100" y="140"/>
                </a:lnTo>
                <a:lnTo>
                  <a:pt x="114" y="137"/>
                </a:lnTo>
                <a:lnTo>
                  <a:pt x="131" y="131"/>
                </a:lnTo>
                <a:lnTo>
                  <a:pt x="148" y="125"/>
                </a:lnTo>
                <a:lnTo>
                  <a:pt x="167" y="119"/>
                </a:lnTo>
                <a:lnTo>
                  <a:pt x="186" y="112"/>
                </a:lnTo>
                <a:lnTo>
                  <a:pt x="209" y="104"/>
                </a:lnTo>
                <a:lnTo>
                  <a:pt x="233" y="96"/>
                </a:lnTo>
                <a:lnTo>
                  <a:pt x="256" y="87"/>
                </a:lnTo>
                <a:lnTo>
                  <a:pt x="282" y="77"/>
                </a:lnTo>
                <a:lnTo>
                  <a:pt x="309" y="66"/>
                </a:lnTo>
                <a:lnTo>
                  <a:pt x="338" y="54"/>
                </a:lnTo>
                <a:lnTo>
                  <a:pt x="367" y="44"/>
                </a:lnTo>
                <a:lnTo>
                  <a:pt x="396" y="35"/>
                </a:lnTo>
                <a:lnTo>
                  <a:pt x="421" y="27"/>
                </a:lnTo>
                <a:lnTo>
                  <a:pt x="448" y="21"/>
                </a:lnTo>
                <a:lnTo>
                  <a:pt x="471" y="16"/>
                </a:lnTo>
                <a:lnTo>
                  <a:pt x="494" y="10"/>
                </a:lnTo>
                <a:lnTo>
                  <a:pt x="517" y="6"/>
                </a:lnTo>
                <a:lnTo>
                  <a:pt x="538" y="4"/>
                </a:lnTo>
                <a:lnTo>
                  <a:pt x="557" y="2"/>
                </a:lnTo>
                <a:lnTo>
                  <a:pt x="576" y="0"/>
                </a:lnTo>
                <a:lnTo>
                  <a:pt x="593" y="0"/>
                </a:lnTo>
                <a:lnTo>
                  <a:pt x="611" y="0"/>
                </a:lnTo>
                <a:lnTo>
                  <a:pt x="626" y="2"/>
                </a:lnTo>
                <a:lnTo>
                  <a:pt x="639" y="6"/>
                </a:lnTo>
                <a:lnTo>
                  <a:pt x="653" y="10"/>
                </a:lnTo>
                <a:lnTo>
                  <a:pt x="664" y="14"/>
                </a:lnTo>
                <a:lnTo>
                  <a:pt x="674" y="19"/>
                </a:lnTo>
                <a:lnTo>
                  <a:pt x="682" y="23"/>
                </a:lnTo>
                <a:lnTo>
                  <a:pt x="689" y="27"/>
                </a:lnTo>
                <a:lnTo>
                  <a:pt x="695" y="31"/>
                </a:lnTo>
                <a:lnTo>
                  <a:pt x="703" y="35"/>
                </a:lnTo>
                <a:lnTo>
                  <a:pt x="709" y="39"/>
                </a:lnTo>
                <a:lnTo>
                  <a:pt x="714" y="42"/>
                </a:lnTo>
                <a:lnTo>
                  <a:pt x="718" y="44"/>
                </a:lnTo>
                <a:lnTo>
                  <a:pt x="722" y="48"/>
                </a:lnTo>
                <a:lnTo>
                  <a:pt x="726" y="50"/>
                </a:lnTo>
                <a:lnTo>
                  <a:pt x="730" y="54"/>
                </a:lnTo>
                <a:lnTo>
                  <a:pt x="732" y="56"/>
                </a:lnTo>
                <a:lnTo>
                  <a:pt x="733" y="58"/>
                </a:lnTo>
                <a:lnTo>
                  <a:pt x="735" y="62"/>
                </a:lnTo>
                <a:lnTo>
                  <a:pt x="737" y="64"/>
                </a:lnTo>
                <a:lnTo>
                  <a:pt x="737" y="66"/>
                </a:lnTo>
                <a:lnTo>
                  <a:pt x="735" y="69"/>
                </a:lnTo>
                <a:lnTo>
                  <a:pt x="733" y="71"/>
                </a:lnTo>
                <a:lnTo>
                  <a:pt x="730" y="77"/>
                </a:lnTo>
                <a:lnTo>
                  <a:pt x="724" y="81"/>
                </a:lnTo>
                <a:lnTo>
                  <a:pt x="714" y="85"/>
                </a:lnTo>
                <a:lnTo>
                  <a:pt x="705" y="90"/>
                </a:lnTo>
                <a:lnTo>
                  <a:pt x="693" y="96"/>
                </a:lnTo>
                <a:lnTo>
                  <a:pt x="682" y="104"/>
                </a:lnTo>
                <a:lnTo>
                  <a:pt x="666" y="110"/>
                </a:lnTo>
                <a:lnTo>
                  <a:pt x="649" y="117"/>
                </a:lnTo>
                <a:lnTo>
                  <a:pt x="630" y="125"/>
                </a:lnTo>
                <a:lnTo>
                  <a:pt x="609" y="135"/>
                </a:lnTo>
                <a:lnTo>
                  <a:pt x="588" y="142"/>
                </a:lnTo>
                <a:lnTo>
                  <a:pt x="574" y="148"/>
                </a:lnTo>
                <a:lnTo>
                  <a:pt x="563" y="152"/>
                </a:lnTo>
                <a:lnTo>
                  <a:pt x="549" y="156"/>
                </a:lnTo>
                <a:lnTo>
                  <a:pt x="536" y="161"/>
                </a:lnTo>
                <a:lnTo>
                  <a:pt x="522" y="165"/>
                </a:lnTo>
                <a:lnTo>
                  <a:pt x="507" y="1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25"/>
          <p:cNvSpPr/>
          <p:nvPr/>
        </p:nvSpPr>
        <p:spPr>
          <a:xfrm>
            <a:off x="6773760" y="2727360"/>
            <a:ext cx="309600" cy="333360"/>
          </a:xfrm>
          <a:custGeom>
            <a:avLst/>
            <a:gdLst/>
            <a:ahLst/>
            <a:rect l="l" t="t" r="r" b="b"/>
            <a:pathLst>
              <a:path w="389" h="420">
                <a:moveTo>
                  <a:pt x="317" y="420"/>
                </a:moveTo>
                <a:lnTo>
                  <a:pt x="313" y="418"/>
                </a:lnTo>
                <a:lnTo>
                  <a:pt x="309" y="416"/>
                </a:lnTo>
                <a:lnTo>
                  <a:pt x="303" y="412"/>
                </a:lnTo>
                <a:lnTo>
                  <a:pt x="297" y="407"/>
                </a:lnTo>
                <a:lnTo>
                  <a:pt x="290" y="401"/>
                </a:lnTo>
                <a:lnTo>
                  <a:pt x="282" y="391"/>
                </a:lnTo>
                <a:lnTo>
                  <a:pt x="272" y="382"/>
                </a:lnTo>
                <a:lnTo>
                  <a:pt x="263" y="370"/>
                </a:lnTo>
                <a:lnTo>
                  <a:pt x="251" y="357"/>
                </a:lnTo>
                <a:lnTo>
                  <a:pt x="240" y="343"/>
                </a:lnTo>
                <a:lnTo>
                  <a:pt x="226" y="326"/>
                </a:lnTo>
                <a:lnTo>
                  <a:pt x="211" y="309"/>
                </a:lnTo>
                <a:lnTo>
                  <a:pt x="197" y="290"/>
                </a:lnTo>
                <a:lnTo>
                  <a:pt x="180" y="268"/>
                </a:lnTo>
                <a:lnTo>
                  <a:pt x="165" y="247"/>
                </a:lnTo>
                <a:lnTo>
                  <a:pt x="148" y="222"/>
                </a:lnTo>
                <a:lnTo>
                  <a:pt x="126" y="197"/>
                </a:lnTo>
                <a:lnTo>
                  <a:pt x="109" y="176"/>
                </a:lnTo>
                <a:lnTo>
                  <a:pt x="92" y="155"/>
                </a:lnTo>
                <a:lnTo>
                  <a:pt x="77" y="136"/>
                </a:lnTo>
                <a:lnTo>
                  <a:pt x="63" y="117"/>
                </a:lnTo>
                <a:lnTo>
                  <a:pt x="50" y="101"/>
                </a:lnTo>
                <a:lnTo>
                  <a:pt x="40" y="86"/>
                </a:lnTo>
                <a:lnTo>
                  <a:pt x="29" y="73"/>
                </a:lnTo>
                <a:lnTo>
                  <a:pt x="21" y="61"/>
                </a:lnTo>
                <a:lnTo>
                  <a:pt x="13" y="50"/>
                </a:lnTo>
                <a:lnTo>
                  <a:pt x="7" y="40"/>
                </a:lnTo>
                <a:lnTo>
                  <a:pt x="4" y="32"/>
                </a:lnTo>
                <a:lnTo>
                  <a:pt x="2" y="25"/>
                </a:ln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9"/>
                </a:lnTo>
                <a:lnTo>
                  <a:pt x="4" y="7"/>
                </a:lnTo>
                <a:lnTo>
                  <a:pt x="4" y="6"/>
                </a:lnTo>
                <a:lnTo>
                  <a:pt x="6" y="4"/>
                </a:lnTo>
                <a:lnTo>
                  <a:pt x="9" y="4"/>
                </a:lnTo>
                <a:lnTo>
                  <a:pt x="13" y="2"/>
                </a:lnTo>
                <a:lnTo>
                  <a:pt x="17" y="2"/>
                </a:lnTo>
                <a:lnTo>
                  <a:pt x="21" y="0"/>
                </a:lnTo>
                <a:lnTo>
                  <a:pt x="27" y="0"/>
                </a:lnTo>
                <a:lnTo>
                  <a:pt x="32" y="0"/>
                </a:lnTo>
                <a:lnTo>
                  <a:pt x="40" y="0"/>
                </a:lnTo>
                <a:lnTo>
                  <a:pt x="48" y="0"/>
                </a:lnTo>
                <a:lnTo>
                  <a:pt x="55" y="0"/>
                </a:lnTo>
                <a:lnTo>
                  <a:pt x="65" y="0"/>
                </a:lnTo>
                <a:lnTo>
                  <a:pt x="75" y="0"/>
                </a:lnTo>
                <a:lnTo>
                  <a:pt x="86" y="0"/>
                </a:lnTo>
                <a:lnTo>
                  <a:pt x="96" y="0"/>
                </a:lnTo>
                <a:lnTo>
                  <a:pt x="105" y="0"/>
                </a:lnTo>
                <a:lnTo>
                  <a:pt x="115" y="2"/>
                </a:lnTo>
                <a:lnTo>
                  <a:pt x="125" y="4"/>
                </a:lnTo>
                <a:lnTo>
                  <a:pt x="136" y="6"/>
                </a:lnTo>
                <a:lnTo>
                  <a:pt x="146" y="9"/>
                </a:lnTo>
                <a:lnTo>
                  <a:pt x="157" y="13"/>
                </a:lnTo>
                <a:lnTo>
                  <a:pt x="169" y="17"/>
                </a:lnTo>
                <a:lnTo>
                  <a:pt x="194" y="27"/>
                </a:lnTo>
                <a:lnTo>
                  <a:pt x="207" y="32"/>
                </a:lnTo>
                <a:lnTo>
                  <a:pt x="221" y="38"/>
                </a:lnTo>
                <a:lnTo>
                  <a:pt x="234" y="44"/>
                </a:lnTo>
                <a:lnTo>
                  <a:pt x="249" y="50"/>
                </a:lnTo>
                <a:lnTo>
                  <a:pt x="265" y="57"/>
                </a:lnTo>
                <a:lnTo>
                  <a:pt x="280" y="65"/>
                </a:lnTo>
                <a:lnTo>
                  <a:pt x="293" y="75"/>
                </a:lnTo>
                <a:lnTo>
                  <a:pt x="305" y="84"/>
                </a:lnTo>
                <a:lnTo>
                  <a:pt x="317" y="94"/>
                </a:lnTo>
                <a:lnTo>
                  <a:pt x="326" y="105"/>
                </a:lnTo>
                <a:lnTo>
                  <a:pt x="338" y="115"/>
                </a:lnTo>
                <a:lnTo>
                  <a:pt x="345" y="125"/>
                </a:lnTo>
                <a:lnTo>
                  <a:pt x="353" y="134"/>
                </a:lnTo>
                <a:lnTo>
                  <a:pt x="361" y="146"/>
                </a:lnTo>
                <a:lnTo>
                  <a:pt x="368" y="155"/>
                </a:lnTo>
                <a:lnTo>
                  <a:pt x="372" y="167"/>
                </a:lnTo>
                <a:lnTo>
                  <a:pt x="378" y="178"/>
                </a:lnTo>
                <a:lnTo>
                  <a:pt x="382" y="188"/>
                </a:lnTo>
                <a:lnTo>
                  <a:pt x="384" y="199"/>
                </a:lnTo>
                <a:lnTo>
                  <a:pt x="388" y="211"/>
                </a:lnTo>
                <a:lnTo>
                  <a:pt x="388" y="222"/>
                </a:lnTo>
                <a:lnTo>
                  <a:pt x="389" y="236"/>
                </a:lnTo>
                <a:lnTo>
                  <a:pt x="388" y="247"/>
                </a:lnTo>
                <a:lnTo>
                  <a:pt x="388" y="259"/>
                </a:lnTo>
                <a:lnTo>
                  <a:pt x="388" y="270"/>
                </a:lnTo>
                <a:lnTo>
                  <a:pt x="386" y="280"/>
                </a:lnTo>
                <a:lnTo>
                  <a:pt x="386" y="290"/>
                </a:lnTo>
                <a:lnTo>
                  <a:pt x="384" y="299"/>
                </a:lnTo>
                <a:lnTo>
                  <a:pt x="382" y="307"/>
                </a:lnTo>
                <a:lnTo>
                  <a:pt x="380" y="316"/>
                </a:lnTo>
                <a:lnTo>
                  <a:pt x="378" y="332"/>
                </a:lnTo>
                <a:lnTo>
                  <a:pt x="372" y="345"/>
                </a:lnTo>
                <a:lnTo>
                  <a:pt x="368" y="357"/>
                </a:lnTo>
                <a:lnTo>
                  <a:pt x="364" y="366"/>
                </a:lnTo>
                <a:lnTo>
                  <a:pt x="363" y="374"/>
                </a:lnTo>
                <a:lnTo>
                  <a:pt x="359" y="380"/>
                </a:lnTo>
                <a:lnTo>
                  <a:pt x="357" y="386"/>
                </a:lnTo>
                <a:lnTo>
                  <a:pt x="353" y="391"/>
                </a:lnTo>
                <a:lnTo>
                  <a:pt x="351" y="397"/>
                </a:lnTo>
                <a:lnTo>
                  <a:pt x="347" y="401"/>
                </a:lnTo>
                <a:lnTo>
                  <a:pt x="343" y="405"/>
                </a:lnTo>
                <a:lnTo>
                  <a:pt x="340" y="409"/>
                </a:lnTo>
                <a:lnTo>
                  <a:pt x="334" y="412"/>
                </a:lnTo>
                <a:lnTo>
                  <a:pt x="326" y="416"/>
                </a:lnTo>
                <a:lnTo>
                  <a:pt x="320" y="418"/>
                </a:lnTo>
                <a:lnTo>
                  <a:pt x="317" y="4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26"/>
          <p:cNvSpPr/>
          <p:nvPr/>
        </p:nvSpPr>
        <p:spPr>
          <a:xfrm>
            <a:off x="6545160" y="3105000"/>
            <a:ext cx="1150920" cy="354240"/>
          </a:xfrm>
          <a:custGeom>
            <a:avLst/>
            <a:gdLst/>
            <a:ahLst/>
            <a:rect l="l" t="t" r="r" b="b"/>
            <a:pathLst>
              <a:path w="1451" h="445">
                <a:moveTo>
                  <a:pt x="1100" y="364"/>
                </a:moveTo>
                <a:lnTo>
                  <a:pt x="1084" y="376"/>
                </a:lnTo>
                <a:lnTo>
                  <a:pt x="1069" y="387"/>
                </a:lnTo>
                <a:lnTo>
                  <a:pt x="1056" y="397"/>
                </a:lnTo>
                <a:lnTo>
                  <a:pt x="1042" y="407"/>
                </a:lnTo>
                <a:lnTo>
                  <a:pt x="1031" y="414"/>
                </a:lnTo>
                <a:lnTo>
                  <a:pt x="1019" y="422"/>
                </a:lnTo>
                <a:lnTo>
                  <a:pt x="1010" y="428"/>
                </a:lnTo>
                <a:lnTo>
                  <a:pt x="1000" y="434"/>
                </a:lnTo>
                <a:lnTo>
                  <a:pt x="990" y="437"/>
                </a:lnTo>
                <a:lnTo>
                  <a:pt x="983" y="441"/>
                </a:lnTo>
                <a:lnTo>
                  <a:pt x="977" y="443"/>
                </a:lnTo>
                <a:lnTo>
                  <a:pt x="971" y="445"/>
                </a:lnTo>
                <a:lnTo>
                  <a:pt x="965" y="445"/>
                </a:lnTo>
                <a:lnTo>
                  <a:pt x="962" y="445"/>
                </a:lnTo>
                <a:lnTo>
                  <a:pt x="958" y="445"/>
                </a:lnTo>
                <a:lnTo>
                  <a:pt x="954" y="443"/>
                </a:lnTo>
                <a:lnTo>
                  <a:pt x="952" y="441"/>
                </a:lnTo>
                <a:lnTo>
                  <a:pt x="950" y="441"/>
                </a:lnTo>
                <a:lnTo>
                  <a:pt x="950" y="437"/>
                </a:lnTo>
                <a:lnTo>
                  <a:pt x="948" y="435"/>
                </a:lnTo>
                <a:lnTo>
                  <a:pt x="948" y="430"/>
                </a:lnTo>
                <a:lnTo>
                  <a:pt x="948" y="426"/>
                </a:lnTo>
                <a:lnTo>
                  <a:pt x="948" y="418"/>
                </a:lnTo>
                <a:lnTo>
                  <a:pt x="948" y="411"/>
                </a:lnTo>
                <a:lnTo>
                  <a:pt x="950" y="403"/>
                </a:lnTo>
                <a:lnTo>
                  <a:pt x="952" y="393"/>
                </a:lnTo>
                <a:lnTo>
                  <a:pt x="954" y="382"/>
                </a:lnTo>
                <a:lnTo>
                  <a:pt x="958" y="370"/>
                </a:lnTo>
                <a:lnTo>
                  <a:pt x="962" y="357"/>
                </a:lnTo>
                <a:lnTo>
                  <a:pt x="967" y="343"/>
                </a:lnTo>
                <a:lnTo>
                  <a:pt x="973" y="328"/>
                </a:lnTo>
                <a:lnTo>
                  <a:pt x="979" y="311"/>
                </a:lnTo>
                <a:lnTo>
                  <a:pt x="985" y="295"/>
                </a:lnTo>
                <a:lnTo>
                  <a:pt x="990" y="282"/>
                </a:lnTo>
                <a:lnTo>
                  <a:pt x="996" y="268"/>
                </a:lnTo>
                <a:lnTo>
                  <a:pt x="1002" y="257"/>
                </a:lnTo>
                <a:lnTo>
                  <a:pt x="1006" y="245"/>
                </a:lnTo>
                <a:lnTo>
                  <a:pt x="1010" y="234"/>
                </a:lnTo>
                <a:lnTo>
                  <a:pt x="1011" y="224"/>
                </a:lnTo>
                <a:lnTo>
                  <a:pt x="1015" y="215"/>
                </a:lnTo>
                <a:lnTo>
                  <a:pt x="1017" y="205"/>
                </a:lnTo>
                <a:lnTo>
                  <a:pt x="1017" y="197"/>
                </a:lnTo>
                <a:lnTo>
                  <a:pt x="1019" y="190"/>
                </a:lnTo>
                <a:lnTo>
                  <a:pt x="1019" y="184"/>
                </a:lnTo>
                <a:lnTo>
                  <a:pt x="1019" y="178"/>
                </a:lnTo>
                <a:lnTo>
                  <a:pt x="1019" y="173"/>
                </a:lnTo>
                <a:lnTo>
                  <a:pt x="1017" y="169"/>
                </a:lnTo>
                <a:lnTo>
                  <a:pt x="1015" y="167"/>
                </a:lnTo>
                <a:lnTo>
                  <a:pt x="1011" y="165"/>
                </a:lnTo>
                <a:lnTo>
                  <a:pt x="1010" y="163"/>
                </a:lnTo>
                <a:lnTo>
                  <a:pt x="1006" y="161"/>
                </a:lnTo>
                <a:lnTo>
                  <a:pt x="1002" y="159"/>
                </a:lnTo>
                <a:lnTo>
                  <a:pt x="996" y="157"/>
                </a:lnTo>
                <a:lnTo>
                  <a:pt x="990" y="157"/>
                </a:lnTo>
                <a:lnTo>
                  <a:pt x="985" y="157"/>
                </a:lnTo>
                <a:lnTo>
                  <a:pt x="979" y="157"/>
                </a:lnTo>
                <a:lnTo>
                  <a:pt x="971" y="157"/>
                </a:lnTo>
                <a:lnTo>
                  <a:pt x="963" y="157"/>
                </a:lnTo>
                <a:lnTo>
                  <a:pt x="956" y="157"/>
                </a:lnTo>
                <a:lnTo>
                  <a:pt x="946" y="159"/>
                </a:lnTo>
                <a:lnTo>
                  <a:pt x="937" y="161"/>
                </a:lnTo>
                <a:lnTo>
                  <a:pt x="927" y="161"/>
                </a:lnTo>
                <a:lnTo>
                  <a:pt x="917" y="165"/>
                </a:lnTo>
                <a:lnTo>
                  <a:pt x="906" y="167"/>
                </a:lnTo>
                <a:lnTo>
                  <a:pt x="894" y="169"/>
                </a:lnTo>
                <a:lnTo>
                  <a:pt x="881" y="173"/>
                </a:lnTo>
                <a:lnTo>
                  <a:pt x="864" y="174"/>
                </a:lnTo>
                <a:lnTo>
                  <a:pt x="848" y="178"/>
                </a:lnTo>
                <a:lnTo>
                  <a:pt x="829" y="182"/>
                </a:lnTo>
                <a:lnTo>
                  <a:pt x="808" y="186"/>
                </a:lnTo>
                <a:lnTo>
                  <a:pt x="787" y="192"/>
                </a:lnTo>
                <a:lnTo>
                  <a:pt x="762" y="196"/>
                </a:lnTo>
                <a:lnTo>
                  <a:pt x="737" y="201"/>
                </a:lnTo>
                <a:lnTo>
                  <a:pt x="710" y="207"/>
                </a:lnTo>
                <a:lnTo>
                  <a:pt x="683" y="213"/>
                </a:lnTo>
                <a:lnTo>
                  <a:pt x="652" y="219"/>
                </a:lnTo>
                <a:lnTo>
                  <a:pt x="622" y="224"/>
                </a:lnTo>
                <a:lnTo>
                  <a:pt x="589" y="232"/>
                </a:lnTo>
                <a:lnTo>
                  <a:pt x="555" y="238"/>
                </a:lnTo>
                <a:lnTo>
                  <a:pt x="520" y="245"/>
                </a:lnTo>
                <a:lnTo>
                  <a:pt x="484" y="253"/>
                </a:lnTo>
                <a:lnTo>
                  <a:pt x="447" y="259"/>
                </a:lnTo>
                <a:lnTo>
                  <a:pt x="413" y="265"/>
                </a:lnTo>
                <a:lnTo>
                  <a:pt x="378" y="270"/>
                </a:lnTo>
                <a:lnTo>
                  <a:pt x="345" y="276"/>
                </a:lnTo>
                <a:lnTo>
                  <a:pt x="311" y="280"/>
                </a:lnTo>
                <a:lnTo>
                  <a:pt x="278" y="284"/>
                </a:lnTo>
                <a:lnTo>
                  <a:pt x="246" y="286"/>
                </a:lnTo>
                <a:lnTo>
                  <a:pt x="182" y="292"/>
                </a:lnTo>
                <a:lnTo>
                  <a:pt x="121" y="295"/>
                </a:lnTo>
                <a:lnTo>
                  <a:pt x="59" y="297"/>
                </a:lnTo>
                <a:lnTo>
                  <a:pt x="0" y="297"/>
                </a:lnTo>
                <a:lnTo>
                  <a:pt x="0" y="194"/>
                </a:lnTo>
                <a:lnTo>
                  <a:pt x="11" y="192"/>
                </a:lnTo>
                <a:lnTo>
                  <a:pt x="23" y="192"/>
                </a:lnTo>
                <a:lnTo>
                  <a:pt x="36" y="192"/>
                </a:lnTo>
                <a:lnTo>
                  <a:pt x="52" y="190"/>
                </a:lnTo>
                <a:lnTo>
                  <a:pt x="67" y="190"/>
                </a:lnTo>
                <a:lnTo>
                  <a:pt x="82" y="188"/>
                </a:lnTo>
                <a:lnTo>
                  <a:pt x="98" y="186"/>
                </a:lnTo>
                <a:lnTo>
                  <a:pt x="115" y="184"/>
                </a:lnTo>
                <a:lnTo>
                  <a:pt x="134" y="182"/>
                </a:lnTo>
                <a:lnTo>
                  <a:pt x="152" y="180"/>
                </a:lnTo>
                <a:lnTo>
                  <a:pt x="171" y="178"/>
                </a:lnTo>
                <a:lnTo>
                  <a:pt x="192" y="176"/>
                </a:lnTo>
                <a:lnTo>
                  <a:pt x="213" y="174"/>
                </a:lnTo>
                <a:lnTo>
                  <a:pt x="234" y="171"/>
                </a:lnTo>
                <a:lnTo>
                  <a:pt x="255" y="169"/>
                </a:lnTo>
                <a:lnTo>
                  <a:pt x="278" y="167"/>
                </a:lnTo>
                <a:lnTo>
                  <a:pt x="297" y="163"/>
                </a:lnTo>
                <a:lnTo>
                  <a:pt x="320" y="161"/>
                </a:lnTo>
                <a:lnTo>
                  <a:pt x="342" y="157"/>
                </a:lnTo>
                <a:lnTo>
                  <a:pt x="366" y="153"/>
                </a:lnTo>
                <a:lnTo>
                  <a:pt x="390" y="149"/>
                </a:lnTo>
                <a:lnTo>
                  <a:pt x="414" y="146"/>
                </a:lnTo>
                <a:lnTo>
                  <a:pt x="441" y="142"/>
                </a:lnTo>
                <a:lnTo>
                  <a:pt x="468" y="138"/>
                </a:lnTo>
                <a:lnTo>
                  <a:pt x="495" y="132"/>
                </a:lnTo>
                <a:lnTo>
                  <a:pt x="524" y="126"/>
                </a:lnTo>
                <a:lnTo>
                  <a:pt x="553" y="121"/>
                </a:lnTo>
                <a:lnTo>
                  <a:pt x="583" y="115"/>
                </a:lnTo>
                <a:lnTo>
                  <a:pt x="614" y="109"/>
                </a:lnTo>
                <a:lnTo>
                  <a:pt x="647" y="102"/>
                </a:lnTo>
                <a:lnTo>
                  <a:pt x="679" y="96"/>
                </a:lnTo>
                <a:lnTo>
                  <a:pt x="712" y="88"/>
                </a:lnTo>
                <a:lnTo>
                  <a:pt x="743" y="82"/>
                </a:lnTo>
                <a:lnTo>
                  <a:pt x="773" y="78"/>
                </a:lnTo>
                <a:lnTo>
                  <a:pt x="800" y="73"/>
                </a:lnTo>
                <a:lnTo>
                  <a:pt x="825" y="67"/>
                </a:lnTo>
                <a:lnTo>
                  <a:pt x="850" y="63"/>
                </a:lnTo>
                <a:lnTo>
                  <a:pt x="873" y="57"/>
                </a:lnTo>
                <a:lnTo>
                  <a:pt x="892" y="54"/>
                </a:lnTo>
                <a:lnTo>
                  <a:pt x="912" y="48"/>
                </a:lnTo>
                <a:lnTo>
                  <a:pt x="929" y="44"/>
                </a:lnTo>
                <a:lnTo>
                  <a:pt x="944" y="38"/>
                </a:lnTo>
                <a:lnTo>
                  <a:pt x="960" y="34"/>
                </a:lnTo>
                <a:lnTo>
                  <a:pt x="971" y="29"/>
                </a:lnTo>
                <a:lnTo>
                  <a:pt x="981" y="23"/>
                </a:lnTo>
                <a:lnTo>
                  <a:pt x="990" y="19"/>
                </a:lnTo>
                <a:lnTo>
                  <a:pt x="998" y="13"/>
                </a:lnTo>
                <a:lnTo>
                  <a:pt x="1004" y="9"/>
                </a:lnTo>
                <a:lnTo>
                  <a:pt x="1006" y="7"/>
                </a:lnTo>
                <a:lnTo>
                  <a:pt x="1010" y="4"/>
                </a:lnTo>
                <a:lnTo>
                  <a:pt x="1013" y="4"/>
                </a:lnTo>
                <a:lnTo>
                  <a:pt x="1019" y="2"/>
                </a:lnTo>
                <a:lnTo>
                  <a:pt x="1025" y="0"/>
                </a:lnTo>
                <a:lnTo>
                  <a:pt x="1031" y="0"/>
                </a:lnTo>
                <a:lnTo>
                  <a:pt x="1038" y="0"/>
                </a:lnTo>
                <a:lnTo>
                  <a:pt x="1046" y="0"/>
                </a:lnTo>
                <a:lnTo>
                  <a:pt x="1054" y="0"/>
                </a:lnTo>
                <a:lnTo>
                  <a:pt x="1061" y="0"/>
                </a:lnTo>
                <a:lnTo>
                  <a:pt x="1071" y="0"/>
                </a:lnTo>
                <a:lnTo>
                  <a:pt x="1081" y="2"/>
                </a:lnTo>
                <a:lnTo>
                  <a:pt x="1102" y="4"/>
                </a:lnTo>
                <a:lnTo>
                  <a:pt x="1125" y="9"/>
                </a:lnTo>
                <a:lnTo>
                  <a:pt x="1148" y="19"/>
                </a:lnTo>
                <a:lnTo>
                  <a:pt x="1171" y="30"/>
                </a:lnTo>
                <a:lnTo>
                  <a:pt x="1198" y="44"/>
                </a:lnTo>
                <a:lnTo>
                  <a:pt x="1223" y="57"/>
                </a:lnTo>
                <a:lnTo>
                  <a:pt x="1251" y="71"/>
                </a:lnTo>
                <a:lnTo>
                  <a:pt x="1280" y="84"/>
                </a:lnTo>
                <a:lnTo>
                  <a:pt x="1311" y="100"/>
                </a:lnTo>
                <a:lnTo>
                  <a:pt x="1342" y="115"/>
                </a:lnTo>
                <a:lnTo>
                  <a:pt x="1355" y="125"/>
                </a:lnTo>
                <a:lnTo>
                  <a:pt x="1367" y="134"/>
                </a:lnTo>
                <a:lnTo>
                  <a:pt x="1378" y="142"/>
                </a:lnTo>
                <a:lnTo>
                  <a:pt x="1388" y="151"/>
                </a:lnTo>
                <a:lnTo>
                  <a:pt x="1399" y="159"/>
                </a:lnTo>
                <a:lnTo>
                  <a:pt x="1407" y="167"/>
                </a:lnTo>
                <a:lnTo>
                  <a:pt x="1414" y="174"/>
                </a:lnTo>
                <a:lnTo>
                  <a:pt x="1422" y="182"/>
                </a:lnTo>
                <a:lnTo>
                  <a:pt x="1430" y="188"/>
                </a:lnTo>
                <a:lnTo>
                  <a:pt x="1434" y="194"/>
                </a:lnTo>
                <a:lnTo>
                  <a:pt x="1439" y="199"/>
                </a:lnTo>
                <a:lnTo>
                  <a:pt x="1443" y="205"/>
                </a:lnTo>
                <a:lnTo>
                  <a:pt x="1445" y="209"/>
                </a:lnTo>
                <a:lnTo>
                  <a:pt x="1449" y="213"/>
                </a:lnTo>
                <a:lnTo>
                  <a:pt x="1449" y="217"/>
                </a:lnTo>
                <a:lnTo>
                  <a:pt x="1451" y="219"/>
                </a:lnTo>
                <a:lnTo>
                  <a:pt x="1447" y="224"/>
                </a:lnTo>
                <a:lnTo>
                  <a:pt x="1445" y="228"/>
                </a:lnTo>
                <a:lnTo>
                  <a:pt x="1441" y="232"/>
                </a:lnTo>
                <a:lnTo>
                  <a:pt x="1436" y="236"/>
                </a:lnTo>
                <a:lnTo>
                  <a:pt x="1432" y="240"/>
                </a:lnTo>
                <a:lnTo>
                  <a:pt x="1426" y="244"/>
                </a:lnTo>
                <a:lnTo>
                  <a:pt x="1420" y="245"/>
                </a:lnTo>
                <a:lnTo>
                  <a:pt x="1414" y="249"/>
                </a:lnTo>
                <a:lnTo>
                  <a:pt x="1407" y="251"/>
                </a:lnTo>
                <a:lnTo>
                  <a:pt x="1399" y="253"/>
                </a:lnTo>
                <a:lnTo>
                  <a:pt x="1391" y="255"/>
                </a:lnTo>
                <a:lnTo>
                  <a:pt x="1382" y="257"/>
                </a:lnTo>
                <a:lnTo>
                  <a:pt x="1372" y="257"/>
                </a:lnTo>
                <a:lnTo>
                  <a:pt x="1363" y="257"/>
                </a:lnTo>
                <a:lnTo>
                  <a:pt x="1353" y="259"/>
                </a:lnTo>
                <a:lnTo>
                  <a:pt x="1342" y="259"/>
                </a:lnTo>
                <a:lnTo>
                  <a:pt x="1328" y="259"/>
                </a:lnTo>
                <a:lnTo>
                  <a:pt x="1313" y="261"/>
                </a:lnTo>
                <a:lnTo>
                  <a:pt x="1299" y="263"/>
                </a:lnTo>
                <a:lnTo>
                  <a:pt x="1284" y="265"/>
                </a:lnTo>
                <a:lnTo>
                  <a:pt x="1271" y="268"/>
                </a:lnTo>
                <a:lnTo>
                  <a:pt x="1255" y="274"/>
                </a:lnTo>
                <a:lnTo>
                  <a:pt x="1240" y="280"/>
                </a:lnTo>
                <a:lnTo>
                  <a:pt x="1224" y="286"/>
                </a:lnTo>
                <a:lnTo>
                  <a:pt x="1209" y="293"/>
                </a:lnTo>
                <a:lnTo>
                  <a:pt x="1194" y="301"/>
                </a:lnTo>
                <a:lnTo>
                  <a:pt x="1178" y="309"/>
                </a:lnTo>
                <a:lnTo>
                  <a:pt x="1163" y="318"/>
                </a:lnTo>
                <a:lnTo>
                  <a:pt x="1146" y="330"/>
                </a:lnTo>
                <a:lnTo>
                  <a:pt x="1130" y="340"/>
                </a:lnTo>
                <a:lnTo>
                  <a:pt x="1115" y="351"/>
                </a:lnTo>
                <a:lnTo>
                  <a:pt x="1100" y="3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27"/>
          <p:cNvSpPr/>
          <p:nvPr/>
        </p:nvSpPr>
        <p:spPr>
          <a:xfrm>
            <a:off x="6410160" y="3143160"/>
            <a:ext cx="192240" cy="501840"/>
          </a:xfrm>
          <a:custGeom>
            <a:avLst/>
            <a:gdLst/>
            <a:ahLst/>
            <a:rect l="l" t="t" r="r" b="b"/>
            <a:pathLst>
              <a:path w="242" h="631">
                <a:moveTo>
                  <a:pt x="0" y="460"/>
                </a:moveTo>
                <a:lnTo>
                  <a:pt x="0" y="455"/>
                </a:lnTo>
                <a:lnTo>
                  <a:pt x="0" y="449"/>
                </a:lnTo>
                <a:lnTo>
                  <a:pt x="0" y="443"/>
                </a:lnTo>
                <a:lnTo>
                  <a:pt x="2" y="435"/>
                </a:lnTo>
                <a:lnTo>
                  <a:pt x="4" y="428"/>
                </a:lnTo>
                <a:lnTo>
                  <a:pt x="6" y="420"/>
                </a:lnTo>
                <a:lnTo>
                  <a:pt x="8" y="412"/>
                </a:lnTo>
                <a:lnTo>
                  <a:pt x="10" y="403"/>
                </a:lnTo>
                <a:lnTo>
                  <a:pt x="17" y="384"/>
                </a:lnTo>
                <a:lnTo>
                  <a:pt x="25" y="363"/>
                </a:lnTo>
                <a:lnTo>
                  <a:pt x="31" y="351"/>
                </a:lnTo>
                <a:lnTo>
                  <a:pt x="35" y="339"/>
                </a:lnTo>
                <a:lnTo>
                  <a:pt x="40" y="328"/>
                </a:lnTo>
                <a:lnTo>
                  <a:pt x="48" y="316"/>
                </a:lnTo>
                <a:lnTo>
                  <a:pt x="61" y="290"/>
                </a:lnTo>
                <a:lnTo>
                  <a:pt x="73" y="265"/>
                </a:lnTo>
                <a:lnTo>
                  <a:pt x="83" y="238"/>
                </a:lnTo>
                <a:lnTo>
                  <a:pt x="92" y="211"/>
                </a:lnTo>
                <a:lnTo>
                  <a:pt x="102" y="184"/>
                </a:lnTo>
                <a:lnTo>
                  <a:pt x="109" y="157"/>
                </a:lnTo>
                <a:lnTo>
                  <a:pt x="115" y="130"/>
                </a:lnTo>
                <a:lnTo>
                  <a:pt x="121" y="105"/>
                </a:lnTo>
                <a:lnTo>
                  <a:pt x="123" y="94"/>
                </a:lnTo>
                <a:lnTo>
                  <a:pt x="125" y="82"/>
                </a:lnTo>
                <a:lnTo>
                  <a:pt x="129" y="71"/>
                </a:lnTo>
                <a:lnTo>
                  <a:pt x="130" y="61"/>
                </a:lnTo>
                <a:lnTo>
                  <a:pt x="134" y="52"/>
                </a:lnTo>
                <a:lnTo>
                  <a:pt x="138" y="44"/>
                </a:lnTo>
                <a:lnTo>
                  <a:pt x="142" y="36"/>
                </a:lnTo>
                <a:lnTo>
                  <a:pt x="146" y="29"/>
                </a:lnTo>
                <a:lnTo>
                  <a:pt x="150" y="21"/>
                </a:lnTo>
                <a:lnTo>
                  <a:pt x="154" y="17"/>
                </a:lnTo>
                <a:lnTo>
                  <a:pt x="157" y="11"/>
                </a:lnTo>
                <a:lnTo>
                  <a:pt x="163" y="7"/>
                </a:lnTo>
                <a:lnTo>
                  <a:pt x="167" y="4"/>
                </a:lnTo>
                <a:lnTo>
                  <a:pt x="171" y="2"/>
                </a:lnTo>
                <a:lnTo>
                  <a:pt x="177" y="2"/>
                </a:lnTo>
                <a:lnTo>
                  <a:pt x="180" y="0"/>
                </a:lnTo>
                <a:lnTo>
                  <a:pt x="186" y="2"/>
                </a:lnTo>
                <a:lnTo>
                  <a:pt x="192" y="4"/>
                </a:lnTo>
                <a:lnTo>
                  <a:pt x="198" y="7"/>
                </a:lnTo>
                <a:lnTo>
                  <a:pt x="205" y="11"/>
                </a:lnTo>
                <a:lnTo>
                  <a:pt x="207" y="15"/>
                </a:lnTo>
                <a:lnTo>
                  <a:pt x="211" y="19"/>
                </a:lnTo>
                <a:lnTo>
                  <a:pt x="215" y="23"/>
                </a:lnTo>
                <a:lnTo>
                  <a:pt x="219" y="29"/>
                </a:lnTo>
                <a:lnTo>
                  <a:pt x="221" y="34"/>
                </a:lnTo>
                <a:lnTo>
                  <a:pt x="225" y="40"/>
                </a:lnTo>
                <a:lnTo>
                  <a:pt x="226" y="46"/>
                </a:lnTo>
                <a:lnTo>
                  <a:pt x="228" y="54"/>
                </a:lnTo>
                <a:lnTo>
                  <a:pt x="232" y="67"/>
                </a:lnTo>
                <a:lnTo>
                  <a:pt x="236" y="82"/>
                </a:lnTo>
                <a:lnTo>
                  <a:pt x="238" y="98"/>
                </a:lnTo>
                <a:lnTo>
                  <a:pt x="240" y="113"/>
                </a:lnTo>
                <a:lnTo>
                  <a:pt x="240" y="126"/>
                </a:lnTo>
                <a:lnTo>
                  <a:pt x="240" y="142"/>
                </a:lnTo>
                <a:lnTo>
                  <a:pt x="242" y="171"/>
                </a:lnTo>
                <a:lnTo>
                  <a:pt x="240" y="182"/>
                </a:lnTo>
                <a:lnTo>
                  <a:pt x="240" y="192"/>
                </a:lnTo>
                <a:lnTo>
                  <a:pt x="238" y="205"/>
                </a:lnTo>
                <a:lnTo>
                  <a:pt x="236" y="217"/>
                </a:lnTo>
                <a:lnTo>
                  <a:pt x="234" y="232"/>
                </a:lnTo>
                <a:lnTo>
                  <a:pt x="230" y="245"/>
                </a:lnTo>
                <a:lnTo>
                  <a:pt x="228" y="261"/>
                </a:lnTo>
                <a:lnTo>
                  <a:pt x="225" y="278"/>
                </a:lnTo>
                <a:lnTo>
                  <a:pt x="221" y="295"/>
                </a:lnTo>
                <a:lnTo>
                  <a:pt x="215" y="313"/>
                </a:lnTo>
                <a:lnTo>
                  <a:pt x="211" y="332"/>
                </a:lnTo>
                <a:lnTo>
                  <a:pt x="205" y="351"/>
                </a:lnTo>
                <a:lnTo>
                  <a:pt x="200" y="370"/>
                </a:lnTo>
                <a:lnTo>
                  <a:pt x="194" y="391"/>
                </a:lnTo>
                <a:lnTo>
                  <a:pt x="186" y="412"/>
                </a:lnTo>
                <a:lnTo>
                  <a:pt x="180" y="434"/>
                </a:lnTo>
                <a:lnTo>
                  <a:pt x="171" y="459"/>
                </a:lnTo>
                <a:lnTo>
                  <a:pt x="163" y="480"/>
                </a:lnTo>
                <a:lnTo>
                  <a:pt x="155" y="501"/>
                </a:lnTo>
                <a:lnTo>
                  <a:pt x="148" y="520"/>
                </a:lnTo>
                <a:lnTo>
                  <a:pt x="140" y="537"/>
                </a:lnTo>
                <a:lnTo>
                  <a:pt x="132" y="554"/>
                </a:lnTo>
                <a:lnTo>
                  <a:pt x="125" y="568"/>
                </a:lnTo>
                <a:lnTo>
                  <a:pt x="119" y="581"/>
                </a:lnTo>
                <a:lnTo>
                  <a:pt x="113" y="593"/>
                </a:lnTo>
                <a:lnTo>
                  <a:pt x="107" y="602"/>
                </a:lnTo>
                <a:lnTo>
                  <a:pt x="102" y="612"/>
                </a:lnTo>
                <a:lnTo>
                  <a:pt x="98" y="618"/>
                </a:lnTo>
                <a:lnTo>
                  <a:pt x="94" y="624"/>
                </a:lnTo>
                <a:lnTo>
                  <a:pt x="90" y="627"/>
                </a:lnTo>
                <a:lnTo>
                  <a:pt x="86" y="629"/>
                </a:lnTo>
                <a:lnTo>
                  <a:pt x="84" y="631"/>
                </a:lnTo>
                <a:lnTo>
                  <a:pt x="79" y="631"/>
                </a:lnTo>
                <a:lnTo>
                  <a:pt x="75" y="629"/>
                </a:lnTo>
                <a:lnTo>
                  <a:pt x="71" y="627"/>
                </a:lnTo>
                <a:lnTo>
                  <a:pt x="65" y="625"/>
                </a:lnTo>
                <a:lnTo>
                  <a:pt x="61" y="624"/>
                </a:lnTo>
                <a:lnTo>
                  <a:pt x="58" y="620"/>
                </a:lnTo>
                <a:lnTo>
                  <a:pt x="54" y="616"/>
                </a:lnTo>
                <a:lnTo>
                  <a:pt x="48" y="612"/>
                </a:lnTo>
                <a:lnTo>
                  <a:pt x="42" y="602"/>
                </a:lnTo>
                <a:lnTo>
                  <a:pt x="35" y="593"/>
                </a:lnTo>
                <a:lnTo>
                  <a:pt x="29" y="579"/>
                </a:lnTo>
                <a:lnTo>
                  <a:pt x="23" y="566"/>
                </a:lnTo>
                <a:lnTo>
                  <a:pt x="15" y="535"/>
                </a:lnTo>
                <a:lnTo>
                  <a:pt x="10" y="522"/>
                </a:lnTo>
                <a:lnTo>
                  <a:pt x="8" y="508"/>
                </a:lnTo>
                <a:lnTo>
                  <a:pt x="4" y="495"/>
                </a:lnTo>
                <a:lnTo>
                  <a:pt x="2" y="482"/>
                </a:lnTo>
                <a:lnTo>
                  <a:pt x="0" y="470"/>
                </a:lnTo>
                <a:lnTo>
                  <a:pt x="0" y="4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28"/>
          <p:cNvSpPr/>
          <p:nvPr/>
        </p:nvSpPr>
        <p:spPr>
          <a:xfrm>
            <a:off x="5946840" y="2741760"/>
            <a:ext cx="210960" cy="2205000"/>
          </a:xfrm>
          <a:custGeom>
            <a:avLst/>
            <a:gdLst/>
            <a:ahLst/>
            <a:rect l="l" t="t" r="r" b="b"/>
            <a:pathLst>
              <a:path w="266" h="2777">
                <a:moveTo>
                  <a:pt x="3" y="19"/>
                </a:moveTo>
                <a:lnTo>
                  <a:pt x="7" y="15"/>
                </a:lnTo>
                <a:lnTo>
                  <a:pt x="9" y="11"/>
                </a:lnTo>
                <a:lnTo>
                  <a:pt x="13" y="8"/>
                </a:lnTo>
                <a:lnTo>
                  <a:pt x="17" y="6"/>
                </a:lnTo>
                <a:lnTo>
                  <a:pt x="23" y="2"/>
                </a:lnTo>
                <a:lnTo>
                  <a:pt x="28" y="2"/>
                </a:lnTo>
                <a:lnTo>
                  <a:pt x="34" y="0"/>
                </a:lnTo>
                <a:lnTo>
                  <a:pt x="42" y="0"/>
                </a:lnTo>
                <a:lnTo>
                  <a:pt x="49" y="0"/>
                </a:lnTo>
                <a:lnTo>
                  <a:pt x="57" y="0"/>
                </a:lnTo>
                <a:lnTo>
                  <a:pt x="67" y="2"/>
                </a:lnTo>
                <a:lnTo>
                  <a:pt x="76" y="4"/>
                </a:lnTo>
                <a:lnTo>
                  <a:pt x="88" y="8"/>
                </a:lnTo>
                <a:lnTo>
                  <a:pt x="99" y="11"/>
                </a:lnTo>
                <a:lnTo>
                  <a:pt x="111" y="15"/>
                </a:lnTo>
                <a:lnTo>
                  <a:pt x="124" y="19"/>
                </a:lnTo>
                <a:lnTo>
                  <a:pt x="138" y="25"/>
                </a:lnTo>
                <a:lnTo>
                  <a:pt x="151" y="29"/>
                </a:lnTo>
                <a:lnTo>
                  <a:pt x="163" y="35"/>
                </a:lnTo>
                <a:lnTo>
                  <a:pt x="174" y="38"/>
                </a:lnTo>
                <a:lnTo>
                  <a:pt x="186" y="44"/>
                </a:lnTo>
                <a:lnTo>
                  <a:pt x="195" y="48"/>
                </a:lnTo>
                <a:lnTo>
                  <a:pt x="205" y="54"/>
                </a:lnTo>
                <a:lnTo>
                  <a:pt x="215" y="58"/>
                </a:lnTo>
                <a:lnTo>
                  <a:pt x="222" y="61"/>
                </a:lnTo>
                <a:lnTo>
                  <a:pt x="230" y="65"/>
                </a:lnTo>
                <a:lnTo>
                  <a:pt x="236" y="69"/>
                </a:lnTo>
                <a:lnTo>
                  <a:pt x="241" y="73"/>
                </a:lnTo>
                <a:lnTo>
                  <a:pt x="247" y="77"/>
                </a:lnTo>
                <a:lnTo>
                  <a:pt x="251" y="79"/>
                </a:lnTo>
                <a:lnTo>
                  <a:pt x="255" y="82"/>
                </a:lnTo>
                <a:lnTo>
                  <a:pt x="259" y="84"/>
                </a:lnTo>
                <a:lnTo>
                  <a:pt x="263" y="94"/>
                </a:lnTo>
                <a:lnTo>
                  <a:pt x="264" y="106"/>
                </a:lnTo>
                <a:lnTo>
                  <a:pt x="266" y="115"/>
                </a:lnTo>
                <a:lnTo>
                  <a:pt x="266" y="127"/>
                </a:lnTo>
                <a:lnTo>
                  <a:pt x="266" y="138"/>
                </a:lnTo>
                <a:lnTo>
                  <a:pt x="264" y="150"/>
                </a:lnTo>
                <a:lnTo>
                  <a:pt x="263" y="163"/>
                </a:lnTo>
                <a:lnTo>
                  <a:pt x="259" y="177"/>
                </a:lnTo>
                <a:lnTo>
                  <a:pt x="255" y="186"/>
                </a:lnTo>
                <a:lnTo>
                  <a:pt x="253" y="196"/>
                </a:lnTo>
                <a:lnTo>
                  <a:pt x="253" y="205"/>
                </a:lnTo>
                <a:lnTo>
                  <a:pt x="251" y="219"/>
                </a:lnTo>
                <a:lnTo>
                  <a:pt x="249" y="234"/>
                </a:lnTo>
                <a:lnTo>
                  <a:pt x="247" y="249"/>
                </a:lnTo>
                <a:lnTo>
                  <a:pt x="247" y="267"/>
                </a:lnTo>
                <a:lnTo>
                  <a:pt x="245" y="286"/>
                </a:lnTo>
                <a:lnTo>
                  <a:pt x="245" y="305"/>
                </a:lnTo>
                <a:lnTo>
                  <a:pt x="243" y="328"/>
                </a:lnTo>
                <a:lnTo>
                  <a:pt x="241" y="351"/>
                </a:lnTo>
                <a:lnTo>
                  <a:pt x="241" y="376"/>
                </a:lnTo>
                <a:lnTo>
                  <a:pt x="239" y="403"/>
                </a:lnTo>
                <a:lnTo>
                  <a:pt x="238" y="432"/>
                </a:lnTo>
                <a:lnTo>
                  <a:pt x="236" y="461"/>
                </a:lnTo>
                <a:lnTo>
                  <a:pt x="234" y="493"/>
                </a:lnTo>
                <a:lnTo>
                  <a:pt x="232" y="509"/>
                </a:lnTo>
                <a:lnTo>
                  <a:pt x="232" y="526"/>
                </a:lnTo>
                <a:lnTo>
                  <a:pt x="230" y="545"/>
                </a:lnTo>
                <a:lnTo>
                  <a:pt x="230" y="564"/>
                </a:lnTo>
                <a:lnTo>
                  <a:pt x="228" y="585"/>
                </a:lnTo>
                <a:lnTo>
                  <a:pt x="228" y="606"/>
                </a:lnTo>
                <a:lnTo>
                  <a:pt x="226" y="630"/>
                </a:lnTo>
                <a:lnTo>
                  <a:pt x="224" y="653"/>
                </a:lnTo>
                <a:lnTo>
                  <a:pt x="224" y="678"/>
                </a:lnTo>
                <a:lnTo>
                  <a:pt x="222" y="702"/>
                </a:lnTo>
                <a:lnTo>
                  <a:pt x="222" y="729"/>
                </a:lnTo>
                <a:lnTo>
                  <a:pt x="220" y="756"/>
                </a:lnTo>
                <a:lnTo>
                  <a:pt x="220" y="785"/>
                </a:lnTo>
                <a:lnTo>
                  <a:pt x="218" y="814"/>
                </a:lnTo>
                <a:lnTo>
                  <a:pt x="218" y="844"/>
                </a:lnTo>
                <a:lnTo>
                  <a:pt x="216" y="877"/>
                </a:lnTo>
                <a:lnTo>
                  <a:pt x="216" y="910"/>
                </a:lnTo>
                <a:lnTo>
                  <a:pt x="215" y="942"/>
                </a:lnTo>
                <a:lnTo>
                  <a:pt x="215" y="977"/>
                </a:lnTo>
                <a:lnTo>
                  <a:pt x="215" y="1011"/>
                </a:lnTo>
                <a:lnTo>
                  <a:pt x="213" y="1048"/>
                </a:lnTo>
                <a:lnTo>
                  <a:pt x="213" y="1086"/>
                </a:lnTo>
                <a:lnTo>
                  <a:pt x="213" y="1125"/>
                </a:lnTo>
                <a:lnTo>
                  <a:pt x="211" y="1165"/>
                </a:lnTo>
                <a:lnTo>
                  <a:pt x="211" y="1205"/>
                </a:lnTo>
                <a:lnTo>
                  <a:pt x="211" y="1246"/>
                </a:lnTo>
                <a:lnTo>
                  <a:pt x="211" y="1288"/>
                </a:lnTo>
                <a:lnTo>
                  <a:pt x="211" y="1332"/>
                </a:lnTo>
                <a:lnTo>
                  <a:pt x="209" y="1376"/>
                </a:lnTo>
                <a:lnTo>
                  <a:pt x="209" y="1422"/>
                </a:lnTo>
                <a:lnTo>
                  <a:pt x="209" y="1468"/>
                </a:lnTo>
                <a:lnTo>
                  <a:pt x="209" y="1516"/>
                </a:lnTo>
                <a:lnTo>
                  <a:pt x="209" y="1564"/>
                </a:lnTo>
                <a:lnTo>
                  <a:pt x="209" y="1610"/>
                </a:lnTo>
                <a:lnTo>
                  <a:pt x="209" y="1656"/>
                </a:lnTo>
                <a:lnTo>
                  <a:pt x="209" y="1701"/>
                </a:lnTo>
                <a:lnTo>
                  <a:pt x="209" y="1745"/>
                </a:lnTo>
                <a:lnTo>
                  <a:pt x="209" y="1787"/>
                </a:lnTo>
                <a:lnTo>
                  <a:pt x="207" y="1827"/>
                </a:lnTo>
                <a:lnTo>
                  <a:pt x="207" y="1868"/>
                </a:lnTo>
                <a:lnTo>
                  <a:pt x="207" y="1908"/>
                </a:lnTo>
                <a:lnTo>
                  <a:pt x="207" y="1946"/>
                </a:lnTo>
                <a:lnTo>
                  <a:pt x="205" y="1983"/>
                </a:lnTo>
                <a:lnTo>
                  <a:pt x="205" y="2019"/>
                </a:lnTo>
                <a:lnTo>
                  <a:pt x="205" y="2056"/>
                </a:lnTo>
                <a:lnTo>
                  <a:pt x="203" y="2090"/>
                </a:lnTo>
                <a:lnTo>
                  <a:pt x="203" y="2123"/>
                </a:lnTo>
                <a:lnTo>
                  <a:pt x="201" y="2155"/>
                </a:lnTo>
                <a:lnTo>
                  <a:pt x="201" y="2186"/>
                </a:lnTo>
                <a:lnTo>
                  <a:pt x="199" y="2217"/>
                </a:lnTo>
                <a:lnTo>
                  <a:pt x="199" y="2246"/>
                </a:lnTo>
                <a:lnTo>
                  <a:pt x="197" y="2274"/>
                </a:lnTo>
                <a:lnTo>
                  <a:pt x="197" y="2301"/>
                </a:lnTo>
                <a:lnTo>
                  <a:pt x="195" y="2326"/>
                </a:lnTo>
                <a:lnTo>
                  <a:pt x="195" y="2351"/>
                </a:lnTo>
                <a:lnTo>
                  <a:pt x="193" y="2376"/>
                </a:lnTo>
                <a:lnTo>
                  <a:pt x="193" y="2397"/>
                </a:lnTo>
                <a:lnTo>
                  <a:pt x="191" y="2420"/>
                </a:lnTo>
                <a:lnTo>
                  <a:pt x="191" y="2440"/>
                </a:lnTo>
                <a:lnTo>
                  <a:pt x="190" y="2461"/>
                </a:lnTo>
                <a:lnTo>
                  <a:pt x="190" y="2478"/>
                </a:lnTo>
                <a:lnTo>
                  <a:pt x="188" y="2495"/>
                </a:lnTo>
                <a:lnTo>
                  <a:pt x="186" y="2512"/>
                </a:lnTo>
                <a:lnTo>
                  <a:pt x="186" y="2528"/>
                </a:lnTo>
                <a:lnTo>
                  <a:pt x="184" y="2543"/>
                </a:lnTo>
                <a:lnTo>
                  <a:pt x="180" y="2559"/>
                </a:lnTo>
                <a:lnTo>
                  <a:pt x="178" y="2574"/>
                </a:lnTo>
                <a:lnTo>
                  <a:pt x="176" y="2587"/>
                </a:lnTo>
                <a:lnTo>
                  <a:pt x="174" y="2601"/>
                </a:lnTo>
                <a:lnTo>
                  <a:pt x="172" y="2614"/>
                </a:lnTo>
                <a:lnTo>
                  <a:pt x="170" y="2628"/>
                </a:lnTo>
                <a:lnTo>
                  <a:pt x="168" y="2639"/>
                </a:lnTo>
                <a:lnTo>
                  <a:pt x="165" y="2651"/>
                </a:lnTo>
                <a:lnTo>
                  <a:pt x="163" y="2662"/>
                </a:lnTo>
                <a:lnTo>
                  <a:pt x="161" y="2672"/>
                </a:lnTo>
                <a:lnTo>
                  <a:pt x="159" y="2681"/>
                </a:lnTo>
                <a:lnTo>
                  <a:pt x="157" y="2691"/>
                </a:lnTo>
                <a:lnTo>
                  <a:pt x="155" y="2701"/>
                </a:lnTo>
                <a:lnTo>
                  <a:pt x="153" y="2708"/>
                </a:lnTo>
                <a:lnTo>
                  <a:pt x="151" y="2716"/>
                </a:lnTo>
                <a:lnTo>
                  <a:pt x="149" y="2724"/>
                </a:lnTo>
                <a:lnTo>
                  <a:pt x="147" y="2731"/>
                </a:lnTo>
                <a:lnTo>
                  <a:pt x="145" y="2737"/>
                </a:lnTo>
                <a:lnTo>
                  <a:pt x="144" y="2743"/>
                </a:lnTo>
                <a:lnTo>
                  <a:pt x="142" y="2749"/>
                </a:lnTo>
                <a:lnTo>
                  <a:pt x="140" y="2754"/>
                </a:lnTo>
                <a:lnTo>
                  <a:pt x="138" y="2758"/>
                </a:lnTo>
                <a:lnTo>
                  <a:pt x="136" y="2762"/>
                </a:lnTo>
                <a:lnTo>
                  <a:pt x="134" y="2766"/>
                </a:lnTo>
                <a:lnTo>
                  <a:pt x="132" y="2770"/>
                </a:lnTo>
                <a:lnTo>
                  <a:pt x="130" y="2774"/>
                </a:lnTo>
                <a:lnTo>
                  <a:pt x="128" y="2777"/>
                </a:lnTo>
                <a:lnTo>
                  <a:pt x="124" y="2777"/>
                </a:lnTo>
                <a:lnTo>
                  <a:pt x="122" y="2775"/>
                </a:lnTo>
                <a:lnTo>
                  <a:pt x="120" y="2772"/>
                </a:lnTo>
                <a:lnTo>
                  <a:pt x="117" y="2768"/>
                </a:lnTo>
                <a:lnTo>
                  <a:pt x="113" y="2762"/>
                </a:lnTo>
                <a:lnTo>
                  <a:pt x="109" y="2756"/>
                </a:lnTo>
                <a:lnTo>
                  <a:pt x="105" y="2750"/>
                </a:lnTo>
                <a:lnTo>
                  <a:pt x="101" y="2743"/>
                </a:lnTo>
                <a:lnTo>
                  <a:pt x="97" y="2735"/>
                </a:lnTo>
                <a:lnTo>
                  <a:pt x="94" y="2726"/>
                </a:lnTo>
                <a:lnTo>
                  <a:pt x="88" y="2716"/>
                </a:lnTo>
                <a:lnTo>
                  <a:pt x="82" y="2704"/>
                </a:lnTo>
                <a:lnTo>
                  <a:pt x="76" y="2693"/>
                </a:lnTo>
                <a:lnTo>
                  <a:pt x="71" y="2679"/>
                </a:lnTo>
                <a:lnTo>
                  <a:pt x="65" y="2664"/>
                </a:lnTo>
                <a:lnTo>
                  <a:pt x="59" y="2649"/>
                </a:lnTo>
                <a:lnTo>
                  <a:pt x="53" y="2633"/>
                </a:lnTo>
                <a:lnTo>
                  <a:pt x="46" y="2616"/>
                </a:lnTo>
                <a:lnTo>
                  <a:pt x="40" y="2601"/>
                </a:lnTo>
                <a:lnTo>
                  <a:pt x="34" y="2585"/>
                </a:lnTo>
                <a:lnTo>
                  <a:pt x="30" y="2572"/>
                </a:lnTo>
                <a:lnTo>
                  <a:pt x="25" y="2559"/>
                </a:lnTo>
                <a:lnTo>
                  <a:pt x="21" y="2545"/>
                </a:lnTo>
                <a:lnTo>
                  <a:pt x="19" y="2536"/>
                </a:lnTo>
                <a:lnTo>
                  <a:pt x="15" y="2524"/>
                </a:lnTo>
                <a:lnTo>
                  <a:pt x="13" y="2514"/>
                </a:lnTo>
                <a:lnTo>
                  <a:pt x="9" y="2507"/>
                </a:lnTo>
                <a:lnTo>
                  <a:pt x="7" y="2499"/>
                </a:lnTo>
                <a:lnTo>
                  <a:pt x="7" y="2493"/>
                </a:lnTo>
                <a:lnTo>
                  <a:pt x="5" y="2488"/>
                </a:lnTo>
                <a:lnTo>
                  <a:pt x="5" y="2482"/>
                </a:lnTo>
                <a:lnTo>
                  <a:pt x="3" y="2478"/>
                </a:lnTo>
                <a:lnTo>
                  <a:pt x="3" y="2476"/>
                </a:lnTo>
                <a:lnTo>
                  <a:pt x="3" y="2472"/>
                </a:lnTo>
                <a:lnTo>
                  <a:pt x="5" y="2468"/>
                </a:lnTo>
                <a:lnTo>
                  <a:pt x="5" y="2464"/>
                </a:lnTo>
                <a:lnTo>
                  <a:pt x="5" y="2461"/>
                </a:lnTo>
                <a:lnTo>
                  <a:pt x="7" y="2455"/>
                </a:lnTo>
                <a:lnTo>
                  <a:pt x="9" y="2449"/>
                </a:lnTo>
                <a:lnTo>
                  <a:pt x="9" y="2443"/>
                </a:lnTo>
                <a:lnTo>
                  <a:pt x="11" y="2436"/>
                </a:lnTo>
                <a:lnTo>
                  <a:pt x="13" y="2428"/>
                </a:lnTo>
                <a:lnTo>
                  <a:pt x="15" y="2420"/>
                </a:lnTo>
                <a:lnTo>
                  <a:pt x="17" y="2411"/>
                </a:lnTo>
                <a:lnTo>
                  <a:pt x="19" y="2401"/>
                </a:lnTo>
                <a:lnTo>
                  <a:pt x="23" y="2392"/>
                </a:lnTo>
                <a:lnTo>
                  <a:pt x="25" y="2380"/>
                </a:lnTo>
                <a:lnTo>
                  <a:pt x="26" y="2369"/>
                </a:lnTo>
                <a:lnTo>
                  <a:pt x="28" y="2357"/>
                </a:lnTo>
                <a:lnTo>
                  <a:pt x="30" y="2351"/>
                </a:lnTo>
                <a:lnTo>
                  <a:pt x="30" y="2344"/>
                </a:lnTo>
                <a:lnTo>
                  <a:pt x="32" y="2334"/>
                </a:lnTo>
                <a:lnTo>
                  <a:pt x="32" y="2324"/>
                </a:lnTo>
                <a:lnTo>
                  <a:pt x="34" y="2315"/>
                </a:lnTo>
                <a:lnTo>
                  <a:pt x="36" y="2301"/>
                </a:lnTo>
                <a:lnTo>
                  <a:pt x="36" y="2290"/>
                </a:lnTo>
                <a:lnTo>
                  <a:pt x="38" y="2276"/>
                </a:lnTo>
                <a:lnTo>
                  <a:pt x="38" y="2261"/>
                </a:lnTo>
                <a:lnTo>
                  <a:pt x="40" y="2246"/>
                </a:lnTo>
                <a:lnTo>
                  <a:pt x="42" y="2230"/>
                </a:lnTo>
                <a:lnTo>
                  <a:pt x="42" y="2213"/>
                </a:lnTo>
                <a:lnTo>
                  <a:pt x="44" y="2194"/>
                </a:lnTo>
                <a:lnTo>
                  <a:pt x="46" y="2175"/>
                </a:lnTo>
                <a:lnTo>
                  <a:pt x="46" y="2155"/>
                </a:lnTo>
                <a:lnTo>
                  <a:pt x="48" y="2134"/>
                </a:lnTo>
                <a:lnTo>
                  <a:pt x="49" y="2111"/>
                </a:lnTo>
                <a:lnTo>
                  <a:pt x="51" y="2088"/>
                </a:lnTo>
                <a:lnTo>
                  <a:pt x="51" y="2065"/>
                </a:lnTo>
                <a:lnTo>
                  <a:pt x="53" y="2040"/>
                </a:lnTo>
                <a:lnTo>
                  <a:pt x="55" y="2015"/>
                </a:lnTo>
                <a:lnTo>
                  <a:pt x="57" y="1988"/>
                </a:lnTo>
                <a:lnTo>
                  <a:pt x="59" y="1962"/>
                </a:lnTo>
                <a:lnTo>
                  <a:pt x="61" y="1933"/>
                </a:lnTo>
                <a:lnTo>
                  <a:pt x="63" y="1904"/>
                </a:lnTo>
                <a:lnTo>
                  <a:pt x="65" y="1873"/>
                </a:lnTo>
                <a:lnTo>
                  <a:pt x="67" y="1843"/>
                </a:lnTo>
                <a:lnTo>
                  <a:pt x="69" y="1810"/>
                </a:lnTo>
                <a:lnTo>
                  <a:pt x="71" y="1777"/>
                </a:lnTo>
                <a:lnTo>
                  <a:pt x="72" y="1745"/>
                </a:lnTo>
                <a:lnTo>
                  <a:pt x="74" y="1710"/>
                </a:lnTo>
                <a:lnTo>
                  <a:pt x="76" y="1674"/>
                </a:lnTo>
                <a:lnTo>
                  <a:pt x="78" y="1639"/>
                </a:lnTo>
                <a:lnTo>
                  <a:pt x="78" y="1605"/>
                </a:lnTo>
                <a:lnTo>
                  <a:pt x="80" y="1570"/>
                </a:lnTo>
                <a:lnTo>
                  <a:pt x="80" y="1537"/>
                </a:lnTo>
                <a:lnTo>
                  <a:pt x="82" y="1505"/>
                </a:lnTo>
                <a:lnTo>
                  <a:pt x="84" y="1472"/>
                </a:lnTo>
                <a:lnTo>
                  <a:pt x="84" y="1441"/>
                </a:lnTo>
                <a:lnTo>
                  <a:pt x="86" y="1411"/>
                </a:lnTo>
                <a:lnTo>
                  <a:pt x="86" y="1380"/>
                </a:lnTo>
                <a:lnTo>
                  <a:pt x="88" y="1351"/>
                </a:lnTo>
                <a:lnTo>
                  <a:pt x="88" y="1322"/>
                </a:lnTo>
                <a:lnTo>
                  <a:pt x="90" y="1296"/>
                </a:lnTo>
                <a:lnTo>
                  <a:pt x="90" y="1269"/>
                </a:lnTo>
                <a:lnTo>
                  <a:pt x="92" y="1242"/>
                </a:lnTo>
                <a:lnTo>
                  <a:pt x="92" y="1217"/>
                </a:lnTo>
                <a:lnTo>
                  <a:pt x="94" y="1192"/>
                </a:lnTo>
                <a:lnTo>
                  <a:pt x="94" y="1167"/>
                </a:lnTo>
                <a:lnTo>
                  <a:pt x="96" y="1144"/>
                </a:lnTo>
                <a:lnTo>
                  <a:pt x="96" y="1121"/>
                </a:lnTo>
                <a:lnTo>
                  <a:pt x="96" y="1098"/>
                </a:lnTo>
                <a:lnTo>
                  <a:pt x="97" y="1077"/>
                </a:lnTo>
                <a:lnTo>
                  <a:pt x="97" y="1056"/>
                </a:lnTo>
                <a:lnTo>
                  <a:pt x="97" y="1036"/>
                </a:lnTo>
                <a:lnTo>
                  <a:pt x="99" y="1017"/>
                </a:lnTo>
                <a:lnTo>
                  <a:pt x="99" y="998"/>
                </a:lnTo>
                <a:lnTo>
                  <a:pt x="99" y="981"/>
                </a:lnTo>
                <a:lnTo>
                  <a:pt x="99" y="964"/>
                </a:lnTo>
                <a:lnTo>
                  <a:pt x="99" y="946"/>
                </a:lnTo>
                <a:lnTo>
                  <a:pt x="101" y="931"/>
                </a:lnTo>
                <a:lnTo>
                  <a:pt x="101" y="916"/>
                </a:lnTo>
                <a:lnTo>
                  <a:pt x="101" y="900"/>
                </a:lnTo>
                <a:lnTo>
                  <a:pt x="101" y="887"/>
                </a:lnTo>
                <a:lnTo>
                  <a:pt x="101" y="831"/>
                </a:lnTo>
                <a:lnTo>
                  <a:pt x="101" y="775"/>
                </a:lnTo>
                <a:lnTo>
                  <a:pt x="101" y="747"/>
                </a:lnTo>
                <a:lnTo>
                  <a:pt x="99" y="716"/>
                </a:lnTo>
                <a:lnTo>
                  <a:pt x="99" y="687"/>
                </a:lnTo>
                <a:lnTo>
                  <a:pt x="99" y="656"/>
                </a:lnTo>
                <a:lnTo>
                  <a:pt x="99" y="626"/>
                </a:lnTo>
                <a:lnTo>
                  <a:pt x="97" y="593"/>
                </a:lnTo>
                <a:lnTo>
                  <a:pt x="97" y="560"/>
                </a:lnTo>
                <a:lnTo>
                  <a:pt x="96" y="528"/>
                </a:lnTo>
                <a:lnTo>
                  <a:pt x="94" y="493"/>
                </a:lnTo>
                <a:lnTo>
                  <a:pt x="94" y="459"/>
                </a:lnTo>
                <a:lnTo>
                  <a:pt x="92" y="424"/>
                </a:lnTo>
                <a:lnTo>
                  <a:pt x="90" y="388"/>
                </a:lnTo>
                <a:lnTo>
                  <a:pt x="86" y="353"/>
                </a:lnTo>
                <a:lnTo>
                  <a:pt x="84" y="322"/>
                </a:lnTo>
                <a:lnTo>
                  <a:pt x="80" y="292"/>
                </a:lnTo>
                <a:lnTo>
                  <a:pt x="80" y="278"/>
                </a:lnTo>
                <a:lnTo>
                  <a:pt x="78" y="265"/>
                </a:lnTo>
                <a:lnTo>
                  <a:pt x="76" y="251"/>
                </a:lnTo>
                <a:lnTo>
                  <a:pt x="74" y="238"/>
                </a:lnTo>
                <a:lnTo>
                  <a:pt x="72" y="226"/>
                </a:lnTo>
                <a:lnTo>
                  <a:pt x="71" y="215"/>
                </a:lnTo>
                <a:lnTo>
                  <a:pt x="69" y="203"/>
                </a:lnTo>
                <a:lnTo>
                  <a:pt x="67" y="192"/>
                </a:lnTo>
                <a:lnTo>
                  <a:pt x="65" y="182"/>
                </a:lnTo>
                <a:lnTo>
                  <a:pt x="63" y="173"/>
                </a:lnTo>
                <a:lnTo>
                  <a:pt x="61" y="163"/>
                </a:lnTo>
                <a:lnTo>
                  <a:pt x="59" y="154"/>
                </a:lnTo>
                <a:lnTo>
                  <a:pt x="57" y="146"/>
                </a:lnTo>
                <a:lnTo>
                  <a:pt x="55" y="138"/>
                </a:lnTo>
                <a:lnTo>
                  <a:pt x="53" y="130"/>
                </a:lnTo>
                <a:lnTo>
                  <a:pt x="51" y="125"/>
                </a:lnTo>
                <a:lnTo>
                  <a:pt x="48" y="117"/>
                </a:lnTo>
                <a:lnTo>
                  <a:pt x="46" y="111"/>
                </a:lnTo>
                <a:lnTo>
                  <a:pt x="44" y="107"/>
                </a:lnTo>
                <a:lnTo>
                  <a:pt x="42" y="102"/>
                </a:lnTo>
                <a:lnTo>
                  <a:pt x="40" y="98"/>
                </a:lnTo>
                <a:lnTo>
                  <a:pt x="38" y="94"/>
                </a:lnTo>
                <a:lnTo>
                  <a:pt x="36" y="90"/>
                </a:lnTo>
                <a:lnTo>
                  <a:pt x="32" y="88"/>
                </a:lnTo>
                <a:lnTo>
                  <a:pt x="30" y="86"/>
                </a:lnTo>
                <a:lnTo>
                  <a:pt x="28" y="84"/>
                </a:lnTo>
                <a:lnTo>
                  <a:pt x="21" y="79"/>
                </a:lnTo>
                <a:lnTo>
                  <a:pt x="13" y="73"/>
                </a:lnTo>
                <a:lnTo>
                  <a:pt x="7" y="65"/>
                </a:lnTo>
                <a:lnTo>
                  <a:pt x="3" y="58"/>
                </a:lnTo>
                <a:lnTo>
                  <a:pt x="0" y="48"/>
                </a:lnTo>
                <a:lnTo>
                  <a:pt x="0" y="44"/>
                </a:lnTo>
                <a:lnTo>
                  <a:pt x="0" y="38"/>
                </a:lnTo>
                <a:lnTo>
                  <a:pt x="0" y="35"/>
                </a:lnTo>
                <a:lnTo>
                  <a:pt x="1" y="29"/>
                </a:lnTo>
                <a:lnTo>
                  <a:pt x="1" y="25"/>
                </a:lnTo>
                <a:lnTo>
                  <a:pt x="3" y="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29"/>
          <p:cNvSpPr/>
          <p:nvPr/>
        </p:nvSpPr>
        <p:spPr>
          <a:xfrm>
            <a:off x="6056280" y="3759120"/>
            <a:ext cx="270000" cy="230400"/>
          </a:xfrm>
          <a:custGeom>
            <a:avLst/>
            <a:gdLst/>
            <a:ahLst/>
            <a:rect l="l" t="t" r="r" b="b"/>
            <a:pathLst>
              <a:path w="339" h="290">
                <a:moveTo>
                  <a:pt x="0" y="0"/>
                </a:moveTo>
                <a:lnTo>
                  <a:pt x="23" y="0"/>
                </a:lnTo>
                <a:lnTo>
                  <a:pt x="46" y="2"/>
                </a:lnTo>
                <a:lnTo>
                  <a:pt x="69" y="2"/>
                </a:lnTo>
                <a:lnTo>
                  <a:pt x="90" y="4"/>
                </a:lnTo>
                <a:lnTo>
                  <a:pt x="111" y="8"/>
                </a:lnTo>
                <a:lnTo>
                  <a:pt x="130" y="10"/>
                </a:lnTo>
                <a:lnTo>
                  <a:pt x="148" y="14"/>
                </a:lnTo>
                <a:lnTo>
                  <a:pt x="165" y="17"/>
                </a:lnTo>
                <a:lnTo>
                  <a:pt x="182" y="23"/>
                </a:lnTo>
                <a:lnTo>
                  <a:pt x="197" y="27"/>
                </a:lnTo>
                <a:lnTo>
                  <a:pt x="213" y="33"/>
                </a:lnTo>
                <a:lnTo>
                  <a:pt x="226" y="39"/>
                </a:lnTo>
                <a:lnTo>
                  <a:pt x="240" y="44"/>
                </a:lnTo>
                <a:lnTo>
                  <a:pt x="253" y="52"/>
                </a:lnTo>
                <a:lnTo>
                  <a:pt x="267" y="58"/>
                </a:lnTo>
                <a:lnTo>
                  <a:pt x="278" y="65"/>
                </a:lnTo>
                <a:lnTo>
                  <a:pt x="286" y="75"/>
                </a:lnTo>
                <a:lnTo>
                  <a:pt x="293" y="87"/>
                </a:lnTo>
                <a:lnTo>
                  <a:pt x="301" y="96"/>
                </a:lnTo>
                <a:lnTo>
                  <a:pt x="309" y="106"/>
                </a:lnTo>
                <a:lnTo>
                  <a:pt x="315" y="115"/>
                </a:lnTo>
                <a:lnTo>
                  <a:pt x="320" y="125"/>
                </a:lnTo>
                <a:lnTo>
                  <a:pt x="326" y="135"/>
                </a:lnTo>
                <a:lnTo>
                  <a:pt x="330" y="142"/>
                </a:lnTo>
                <a:lnTo>
                  <a:pt x="334" y="152"/>
                </a:lnTo>
                <a:lnTo>
                  <a:pt x="336" y="161"/>
                </a:lnTo>
                <a:lnTo>
                  <a:pt x="338" y="169"/>
                </a:lnTo>
                <a:lnTo>
                  <a:pt x="339" y="179"/>
                </a:lnTo>
                <a:lnTo>
                  <a:pt x="339" y="186"/>
                </a:lnTo>
                <a:lnTo>
                  <a:pt x="339" y="194"/>
                </a:lnTo>
                <a:lnTo>
                  <a:pt x="339" y="204"/>
                </a:lnTo>
                <a:lnTo>
                  <a:pt x="338" y="211"/>
                </a:lnTo>
                <a:lnTo>
                  <a:pt x="336" y="219"/>
                </a:lnTo>
                <a:lnTo>
                  <a:pt x="334" y="229"/>
                </a:lnTo>
                <a:lnTo>
                  <a:pt x="330" y="236"/>
                </a:lnTo>
                <a:lnTo>
                  <a:pt x="328" y="244"/>
                </a:lnTo>
                <a:lnTo>
                  <a:pt x="326" y="252"/>
                </a:lnTo>
                <a:lnTo>
                  <a:pt x="324" y="257"/>
                </a:lnTo>
                <a:lnTo>
                  <a:pt x="322" y="265"/>
                </a:lnTo>
                <a:lnTo>
                  <a:pt x="320" y="269"/>
                </a:lnTo>
                <a:lnTo>
                  <a:pt x="316" y="275"/>
                </a:lnTo>
                <a:lnTo>
                  <a:pt x="315" y="279"/>
                </a:lnTo>
                <a:lnTo>
                  <a:pt x="313" y="280"/>
                </a:lnTo>
                <a:lnTo>
                  <a:pt x="311" y="284"/>
                </a:lnTo>
                <a:lnTo>
                  <a:pt x="309" y="286"/>
                </a:lnTo>
                <a:lnTo>
                  <a:pt x="305" y="288"/>
                </a:lnTo>
                <a:lnTo>
                  <a:pt x="303" y="288"/>
                </a:lnTo>
                <a:lnTo>
                  <a:pt x="301" y="290"/>
                </a:lnTo>
                <a:lnTo>
                  <a:pt x="299" y="288"/>
                </a:lnTo>
                <a:lnTo>
                  <a:pt x="295" y="288"/>
                </a:lnTo>
                <a:lnTo>
                  <a:pt x="292" y="286"/>
                </a:lnTo>
                <a:lnTo>
                  <a:pt x="288" y="284"/>
                </a:lnTo>
                <a:lnTo>
                  <a:pt x="284" y="282"/>
                </a:lnTo>
                <a:lnTo>
                  <a:pt x="280" y="280"/>
                </a:lnTo>
                <a:lnTo>
                  <a:pt x="274" y="277"/>
                </a:lnTo>
                <a:lnTo>
                  <a:pt x="268" y="273"/>
                </a:lnTo>
                <a:lnTo>
                  <a:pt x="263" y="267"/>
                </a:lnTo>
                <a:lnTo>
                  <a:pt x="257" y="261"/>
                </a:lnTo>
                <a:lnTo>
                  <a:pt x="249" y="255"/>
                </a:lnTo>
                <a:lnTo>
                  <a:pt x="242" y="250"/>
                </a:lnTo>
                <a:lnTo>
                  <a:pt x="234" y="244"/>
                </a:lnTo>
                <a:lnTo>
                  <a:pt x="226" y="236"/>
                </a:lnTo>
                <a:lnTo>
                  <a:pt x="217" y="229"/>
                </a:lnTo>
                <a:lnTo>
                  <a:pt x="209" y="219"/>
                </a:lnTo>
                <a:lnTo>
                  <a:pt x="199" y="209"/>
                </a:lnTo>
                <a:lnTo>
                  <a:pt x="188" y="200"/>
                </a:lnTo>
                <a:lnTo>
                  <a:pt x="178" y="190"/>
                </a:lnTo>
                <a:lnTo>
                  <a:pt x="167" y="179"/>
                </a:lnTo>
                <a:lnTo>
                  <a:pt x="155" y="167"/>
                </a:lnTo>
                <a:lnTo>
                  <a:pt x="144" y="156"/>
                </a:lnTo>
                <a:lnTo>
                  <a:pt x="132" y="142"/>
                </a:lnTo>
                <a:lnTo>
                  <a:pt x="119" y="129"/>
                </a:lnTo>
                <a:lnTo>
                  <a:pt x="105" y="115"/>
                </a:lnTo>
                <a:lnTo>
                  <a:pt x="92" y="100"/>
                </a:lnTo>
                <a:lnTo>
                  <a:pt x="77" y="85"/>
                </a:lnTo>
                <a:lnTo>
                  <a:pt x="63" y="69"/>
                </a:lnTo>
                <a:lnTo>
                  <a:pt x="48" y="54"/>
                </a:lnTo>
                <a:lnTo>
                  <a:pt x="32" y="37"/>
                </a:lnTo>
                <a:lnTo>
                  <a:pt x="15" y="1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30"/>
          <p:cNvSpPr/>
          <p:nvPr/>
        </p:nvSpPr>
        <p:spPr>
          <a:xfrm>
            <a:off x="5421240" y="3476520"/>
            <a:ext cx="663480" cy="939960"/>
          </a:xfrm>
          <a:custGeom>
            <a:avLst/>
            <a:gdLst/>
            <a:ahLst/>
            <a:rect l="l" t="t" r="r" b="b"/>
            <a:pathLst>
              <a:path w="837" h="1184">
                <a:moveTo>
                  <a:pt x="2" y="1182"/>
                </a:moveTo>
                <a:lnTo>
                  <a:pt x="2" y="1181"/>
                </a:lnTo>
                <a:lnTo>
                  <a:pt x="0" y="1179"/>
                </a:lnTo>
                <a:lnTo>
                  <a:pt x="0" y="1177"/>
                </a:lnTo>
                <a:lnTo>
                  <a:pt x="2" y="1175"/>
                </a:lnTo>
                <a:lnTo>
                  <a:pt x="2" y="1171"/>
                </a:lnTo>
                <a:lnTo>
                  <a:pt x="4" y="1167"/>
                </a:lnTo>
                <a:lnTo>
                  <a:pt x="8" y="1158"/>
                </a:lnTo>
                <a:lnTo>
                  <a:pt x="16" y="1148"/>
                </a:lnTo>
                <a:lnTo>
                  <a:pt x="23" y="1134"/>
                </a:lnTo>
                <a:lnTo>
                  <a:pt x="33" y="1121"/>
                </a:lnTo>
                <a:lnTo>
                  <a:pt x="45" y="1104"/>
                </a:lnTo>
                <a:lnTo>
                  <a:pt x="58" y="1087"/>
                </a:lnTo>
                <a:lnTo>
                  <a:pt x="73" y="1065"/>
                </a:lnTo>
                <a:lnTo>
                  <a:pt x="91" y="1044"/>
                </a:lnTo>
                <a:lnTo>
                  <a:pt x="108" y="1021"/>
                </a:lnTo>
                <a:lnTo>
                  <a:pt x="129" y="994"/>
                </a:lnTo>
                <a:lnTo>
                  <a:pt x="150" y="967"/>
                </a:lnTo>
                <a:lnTo>
                  <a:pt x="171" y="939"/>
                </a:lnTo>
                <a:lnTo>
                  <a:pt x="183" y="923"/>
                </a:lnTo>
                <a:lnTo>
                  <a:pt x="196" y="906"/>
                </a:lnTo>
                <a:lnTo>
                  <a:pt x="208" y="891"/>
                </a:lnTo>
                <a:lnTo>
                  <a:pt x="221" y="875"/>
                </a:lnTo>
                <a:lnTo>
                  <a:pt x="235" y="858"/>
                </a:lnTo>
                <a:lnTo>
                  <a:pt x="248" y="841"/>
                </a:lnTo>
                <a:lnTo>
                  <a:pt x="261" y="822"/>
                </a:lnTo>
                <a:lnTo>
                  <a:pt x="275" y="802"/>
                </a:lnTo>
                <a:lnTo>
                  <a:pt x="290" y="781"/>
                </a:lnTo>
                <a:lnTo>
                  <a:pt x="304" y="760"/>
                </a:lnTo>
                <a:lnTo>
                  <a:pt x="319" y="739"/>
                </a:lnTo>
                <a:lnTo>
                  <a:pt x="334" y="716"/>
                </a:lnTo>
                <a:lnTo>
                  <a:pt x="350" y="693"/>
                </a:lnTo>
                <a:lnTo>
                  <a:pt x="365" y="668"/>
                </a:lnTo>
                <a:lnTo>
                  <a:pt x="382" y="643"/>
                </a:lnTo>
                <a:lnTo>
                  <a:pt x="398" y="616"/>
                </a:lnTo>
                <a:lnTo>
                  <a:pt x="415" y="589"/>
                </a:lnTo>
                <a:lnTo>
                  <a:pt x="432" y="563"/>
                </a:lnTo>
                <a:lnTo>
                  <a:pt x="449" y="534"/>
                </a:lnTo>
                <a:lnTo>
                  <a:pt x="467" y="503"/>
                </a:lnTo>
                <a:lnTo>
                  <a:pt x="484" y="474"/>
                </a:lnTo>
                <a:lnTo>
                  <a:pt x="503" y="442"/>
                </a:lnTo>
                <a:lnTo>
                  <a:pt x="521" y="411"/>
                </a:lnTo>
                <a:lnTo>
                  <a:pt x="540" y="378"/>
                </a:lnTo>
                <a:lnTo>
                  <a:pt x="559" y="344"/>
                </a:lnTo>
                <a:lnTo>
                  <a:pt x="578" y="309"/>
                </a:lnTo>
                <a:lnTo>
                  <a:pt x="597" y="273"/>
                </a:lnTo>
                <a:lnTo>
                  <a:pt x="616" y="236"/>
                </a:lnTo>
                <a:lnTo>
                  <a:pt x="636" y="200"/>
                </a:lnTo>
                <a:lnTo>
                  <a:pt x="657" y="161"/>
                </a:lnTo>
                <a:lnTo>
                  <a:pt x="676" y="123"/>
                </a:lnTo>
                <a:lnTo>
                  <a:pt x="697" y="83"/>
                </a:lnTo>
                <a:lnTo>
                  <a:pt x="718" y="42"/>
                </a:lnTo>
                <a:lnTo>
                  <a:pt x="739" y="0"/>
                </a:lnTo>
                <a:lnTo>
                  <a:pt x="787" y="73"/>
                </a:lnTo>
                <a:lnTo>
                  <a:pt x="812" y="110"/>
                </a:lnTo>
                <a:lnTo>
                  <a:pt x="837" y="146"/>
                </a:lnTo>
                <a:lnTo>
                  <a:pt x="812" y="188"/>
                </a:lnTo>
                <a:lnTo>
                  <a:pt x="789" y="230"/>
                </a:lnTo>
                <a:lnTo>
                  <a:pt x="768" y="271"/>
                </a:lnTo>
                <a:lnTo>
                  <a:pt x="745" y="309"/>
                </a:lnTo>
                <a:lnTo>
                  <a:pt x="722" y="349"/>
                </a:lnTo>
                <a:lnTo>
                  <a:pt x="701" y="386"/>
                </a:lnTo>
                <a:lnTo>
                  <a:pt x="680" y="422"/>
                </a:lnTo>
                <a:lnTo>
                  <a:pt x="659" y="459"/>
                </a:lnTo>
                <a:lnTo>
                  <a:pt x="638" y="493"/>
                </a:lnTo>
                <a:lnTo>
                  <a:pt x="616" y="526"/>
                </a:lnTo>
                <a:lnTo>
                  <a:pt x="597" y="559"/>
                </a:lnTo>
                <a:lnTo>
                  <a:pt x="576" y="591"/>
                </a:lnTo>
                <a:lnTo>
                  <a:pt x="557" y="622"/>
                </a:lnTo>
                <a:lnTo>
                  <a:pt x="538" y="651"/>
                </a:lnTo>
                <a:lnTo>
                  <a:pt x="519" y="680"/>
                </a:lnTo>
                <a:lnTo>
                  <a:pt x="499" y="706"/>
                </a:lnTo>
                <a:lnTo>
                  <a:pt x="482" y="733"/>
                </a:lnTo>
                <a:lnTo>
                  <a:pt x="463" y="758"/>
                </a:lnTo>
                <a:lnTo>
                  <a:pt x="446" y="783"/>
                </a:lnTo>
                <a:lnTo>
                  <a:pt x="428" y="806"/>
                </a:lnTo>
                <a:lnTo>
                  <a:pt x="411" y="829"/>
                </a:lnTo>
                <a:lnTo>
                  <a:pt x="394" y="850"/>
                </a:lnTo>
                <a:lnTo>
                  <a:pt x="378" y="872"/>
                </a:lnTo>
                <a:lnTo>
                  <a:pt x="361" y="891"/>
                </a:lnTo>
                <a:lnTo>
                  <a:pt x="346" y="910"/>
                </a:lnTo>
                <a:lnTo>
                  <a:pt x="330" y="927"/>
                </a:lnTo>
                <a:lnTo>
                  <a:pt x="315" y="943"/>
                </a:lnTo>
                <a:lnTo>
                  <a:pt x="300" y="960"/>
                </a:lnTo>
                <a:lnTo>
                  <a:pt x="286" y="973"/>
                </a:lnTo>
                <a:lnTo>
                  <a:pt x="271" y="987"/>
                </a:lnTo>
                <a:lnTo>
                  <a:pt x="258" y="1000"/>
                </a:lnTo>
                <a:lnTo>
                  <a:pt x="244" y="1012"/>
                </a:lnTo>
                <a:lnTo>
                  <a:pt x="217" y="1037"/>
                </a:lnTo>
                <a:lnTo>
                  <a:pt x="192" y="1058"/>
                </a:lnTo>
                <a:lnTo>
                  <a:pt x="169" y="1079"/>
                </a:lnTo>
                <a:lnTo>
                  <a:pt x="146" y="1096"/>
                </a:lnTo>
                <a:lnTo>
                  <a:pt x="127" y="1113"/>
                </a:lnTo>
                <a:lnTo>
                  <a:pt x="108" y="1127"/>
                </a:lnTo>
                <a:lnTo>
                  <a:pt x="91" y="1140"/>
                </a:lnTo>
                <a:lnTo>
                  <a:pt x="73" y="1152"/>
                </a:lnTo>
                <a:lnTo>
                  <a:pt x="60" y="1161"/>
                </a:lnTo>
                <a:lnTo>
                  <a:pt x="46" y="1169"/>
                </a:lnTo>
                <a:lnTo>
                  <a:pt x="35" y="1175"/>
                </a:lnTo>
                <a:lnTo>
                  <a:pt x="25" y="1181"/>
                </a:lnTo>
                <a:lnTo>
                  <a:pt x="18" y="1182"/>
                </a:lnTo>
                <a:lnTo>
                  <a:pt x="10" y="1184"/>
                </a:lnTo>
                <a:lnTo>
                  <a:pt x="6" y="1184"/>
                </a:lnTo>
                <a:lnTo>
                  <a:pt x="2" y="1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31"/>
          <p:cNvSpPr/>
          <p:nvPr/>
        </p:nvSpPr>
        <p:spPr>
          <a:xfrm>
            <a:off x="5546880" y="3394080"/>
            <a:ext cx="780840" cy="236520"/>
          </a:xfrm>
          <a:custGeom>
            <a:avLst/>
            <a:gdLst/>
            <a:ahLst/>
            <a:rect l="l" t="t" r="r" b="b"/>
            <a:pathLst>
              <a:path w="982" h="298">
                <a:moveTo>
                  <a:pt x="399" y="104"/>
                </a:moveTo>
                <a:lnTo>
                  <a:pt x="424" y="98"/>
                </a:lnTo>
                <a:lnTo>
                  <a:pt x="449" y="93"/>
                </a:lnTo>
                <a:lnTo>
                  <a:pt x="472" y="87"/>
                </a:lnTo>
                <a:lnTo>
                  <a:pt x="497" y="81"/>
                </a:lnTo>
                <a:lnTo>
                  <a:pt x="518" y="75"/>
                </a:lnTo>
                <a:lnTo>
                  <a:pt x="541" y="70"/>
                </a:lnTo>
                <a:lnTo>
                  <a:pt x="562" y="66"/>
                </a:lnTo>
                <a:lnTo>
                  <a:pt x="581" y="60"/>
                </a:lnTo>
                <a:lnTo>
                  <a:pt x="602" y="54"/>
                </a:lnTo>
                <a:lnTo>
                  <a:pt x="620" y="50"/>
                </a:lnTo>
                <a:lnTo>
                  <a:pt x="639" y="47"/>
                </a:lnTo>
                <a:lnTo>
                  <a:pt x="656" y="43"/>
                </a:lnTo>
                <a:lnTo>
                  <a:pt x="673" y="37"/>
                </a:lnTo>
                <a:lnTo>
                  <a:pt x="689" y="33"/>
                </a:lnTo>
                <a:lnTo>
                  <a:pt x="704" y="31"/>
                </a:lnTo>
                <a:lnTo>
                  <a:pt x="718" y="27"/>
                </a:lnTo>
                <a:lnTo>
                  <a:pt x="733" y="23"/>
                </a:lnTo>
                <a:lnTo>
                  <a:pt x="744" y="20"/>
                </a:lnTo>
                <a:lnTo>
                  <a:pt x="758" y="18"/>
                </a:lnTo>
                <a:lnTo>
                  <a:pt x="769" y="16"/>
                </a:lnTo>
                <a:lnTo>
                  <a:pt x="781" y="12"/>
                </a:lnTo>
                <a:lnTo>
                  <a:pt x="790" y="10"/>
                </a:lnTo>
                <a:lnTo>
                  <a:pt x="800" y="8"/>
                </a:lnTo>
                <a:lnTo>
                  <a:pt x="810" y="6"/>
                </a:lnTo>
                <a:lnTo>
                  <a:pt x="817" y="4"/>
                </a:lnTo>
                <a:lnTo>
                  <a:pt x="825" y="4"/>
                </a:lnTo>
                <a:lnTo>
                  <a:pt x="833" y="2"/>
                </a:lnTo>
                <a:lnTo>
                  <a:pt x="838" y="0"/>
                </a:lnTo>
                <a:lnTo>
                  <a:pt x="844" y="0"/>
                </a:lnTo>
                <a:lnTo>
                  <a:pt x="850" y="0"/>
                </a:lnTo>
                <a:lnTo>
                  <a:pt x="854" y="0"/>
                </a:lnTo>
                <a:lnTo>
                  <a:pt x="858" y="0"/>
                </a:lnTo>
                <a:lnTo>
                  <a:pt x="871" y="0"/>
                </a:lnTo>
                <a:lnTo>
                  <a:pt x="883" y="0"/>
                </a:lnTo>
                <a:lnTo>
                  <a:pt x="894" y="0"/>
                </a:lnTo>
                <a:lnTo>
                  <a:pt x="906" y="0"/>
                </a:lnTo>
                <a:lnTo>
                  <a:pt x="917" y="2"/>
                </a:lnTo>
                <a:lnTo>
                  <a:pt x="929" y="4"/>
                </a:lnTo>
                <a:lnTo>
                  <a:pt x="940" y="8"/>
                </a:lnTo>
                <a:lnTo>
                  <a:pt x="954" y="12"/>
                </a:lnTo>
                <a:lnTo>
                  <a:pt x="961" y="16"/>
                </a:lnTo>
                <a:lnTo>
                  <a:pt x="967" y="18"/>
                </a:lnTo>
                <a:lnTo>
                  <a:pt x="971" y="22"/>
                </a:lnTo>
                <a:lnTo>
                  <a:pt x="975" y="25"/>
                </a:lnTo>
                <a:lnTo>
                  <a:pt x="979" y="27"/>
                </a:lnTo>
                <a:lnTo>
                  <a:pt x="980" y="31"/>
                </a:lnTo>
                <a:lnTo>
                  <a:pt x="982" y="35"/>
                </a:lnTo>
                <a:lnTo>
                  <a:pt x="982" y="39"/>
                </a:lnTo>
                <a:lnTo>
                  <a:pt x="982" y="43"/>
                </a:lnTo>
                <a:lnTo>
                  <a:pt x="982" y="47"/>
                </a:lnTo>
                <a:lnTo>
                  <a:pt x="982" y="50"/>
                </a:lnTo>
                <a:lnTo>
                  <a:pt x="980" y="54"/>
                </a:lnTo>
                <a:lnTo>
                  <a:pt x="977" y="56"/>
                </a:lnTo>
                <a:lnTo>
                  <a:pt x="975" y="60"/>
                </a:lnTo>
                <a:lnTo>
                  <a:pt x="971" y="62"/>
                </a:lnTo>
                <a:lnTo>
                  <a:pt x="967" y="66"/>
                </a:lnTo>
                <a:lnTo>
                  <a:pt x="963" y="68"/>
                </a:lnTo>
                <a:lnTo>
                  <a:pt x="961" y="70"/>
                </a:lnTo>
                <a:lnTo>
                  <a:pt x="957" y="73"/>
                </a:lnTo>
                <a:lnTo>
                  <a:pt x="954" y="75"/>
                </a:lnTo>
                <a:lnTo>
                  <a:pt x="950" y="79"/>
                </a:lnTo>
                <a:lnTo>
                  <a:pt x="944" y="81"/>
                </a:lnTo>
                <a:lnTo>
                  <a:pt x="938" y="85"/>
                </a:lnTo>
                <a:lnTo>
                  <a:pt x="933" y="87"/>
                </a:lnTo>
                <a:lnTo>
                  <a:pt x="927" y="91"/>
                </a:lnTo>
                <a:lnTo>
                  <a:pt x="919" y="95"/>
                </a:lnTo>
                <a:lnTo>
                  <a:pt x="911" y="96"/>
                </a:lnTo>
                <a:lnTo>
                  <a:pt x="904" y="100"/>
                </a:lnTo>
                <a:lnTo>
                  <a:pt x="896" y="104"/>
                </a:lnTo>
                <a:lnTo>
                  <a:pt x="886" y="108"/>
                </a:lnTo>
                <a:lnTo>
                  <a:pt x="877" y="110"/>
                </a:lnTo>
                <a:lnTo>
                  <a:pt x="867" y="114"/>
                </a:lnTo>
                <a:lnTo>
                  <a:pt x="856" y="118"/>
                </a:lnTo>
                <a:lnTo>
                  <a:pt x="846" y="121"/>
                </a:lnTo>
                <a:lnTo>
                  <a:pt x="835" y="125"/>
                </a:lnTo>
                <a:lnTo>
                  <a:pt x="821" y="129"/>
                </a:lnTo>
                <a:lnTo>
                  <a:pt x="810" y="133"/>
                </a:lnTo>
                <a:lnTo>
                  <a:pt x="796" y="137"/>
                </a:lnTo>
                <a:lnTo>
                  <a:pt x="783" y="143"/>
                </a:lnTo>
                <a:lnTo>
                  <a:pt x="769" y="146"/>
                </a:lnTo>
                <a:lnTo>
                  <a:pt x="754" y="150"/>
                </a:lnTo>
                <a:lnTo>
                  <a:pt x="741" y="154"/>
                </a:lnTo>
                <a:lnTo>
                  <a:pt x="725" y="160"/>
                </a:lnTo>
                <a:lnTo>
                  <a:pt x="708" y="164"/>
                </a:lnTo>
                <a:lnTo>
                  <a:pt x="693" y="169"/>
                </a:lnTo>
                <a:lnTo>
                  <a:pt x="675" y="173"/>
                </a:lnTo>
                <a:lnTo>
                  <a:pt x="658" y="179"/>
                </a:lnTo>
                <a:lnTo>
                  <a:pt x="641" y="183"/>
                </a:lnTo>
                <a:lnTo>
                  <a:pt x="622" y="189"/>
                </a:lnTo>
                <a:lnTo>
                  <a:pt x="604" y="196"/>
                </a:lnTo>
                <a:lnTo>
                  <a:pt x="587" y="200"/>
                </a:lnTo>
                <a:lnTo>
                  <a:pt x="572" y="206"/>
                </a:lnTo>
                <a:lnTo>
                  <a:pt x="556" y="212"/>
                </a:lnTo>
                <a:lnTo>
                  <a:pt x="541" y="217"/>
                </a:lnTo>
                <a:lnTo>
                  <a:pt x="526" y="221"/>
                </a:lnTo>
                <a:lnTo>
                  <a:pt x="510" y="225"/>
                </a:lnTo>
                <a:lnTo>
                  <a:pt x="497" y="231"/>
                </a:lnTo>
                <a:lnTo>
                  <a:pt x="483" y="235"/>
                </a:lnTo>
                <a:lnTo>
                  <a:pt x="472" y="238"/>
                </a:lnTo>
                <a:lnTo>
                  <a:pt x="458" y="242"/>
                </a:lnTo>
                <a:lnTo>
                  <a:pt x="447" y="246"/>
                </a:lnTo>
                <a:lnTo>
                  <a:pt x="435" y="248"/>
                </a:lnTo>
                <a:lnTo>
                  <a:pt x="426" y="252"/>
                </a:lnTo>
                <a:lnTo>
                  <a:pt x="414" y="254"/>
                </a:lnTo>
                <a:lnTo>
                  <a:pt x="405" y="258"/>
                </a:lnTo>
                <a:lnTo>
                  <a:pt x="397" y="260"/>
                </a:lnTo>
                <a:lnTo>
                  <a:pt x="387" y="262"/>
                </a:lnTo>
                <a:lnTo>
                  <a:pt x="380" y="263"/>
                </a:lnTo>
                <a:lnTo>
                  <a:pt x="372" y="265"/>
                </a:lnTo>
                <a:lnTo>
                  <a:pt x="364" y="267"/>
                </a:lnTo>
                <a:lnTo>
                  <a:pt x="359" y="269"/>
                </a:lnTo>
                <a:lnTo>
                  <a:pt x="353" y="271"/>
                </a:lnTo>
                <a:lnTo>
                  <a:pt x="347" y="271"/>
                </a:lnTo>
                <a:lnTo>
                  <a:pt x="343" y="273"/>
                </a:lnTo>
                <a:lnTo>
                  <a:pt x="337" y="273"/>
                </a:lnTo>
                <a:lnTo>
                  <a:pt x="334" y="275"/>
                </a:lnTo>
                <a:lnTo>
                  <a:pt x="332" y="275"/>
                </a:lnTo>
                <a:lnTo>
                  <a:pt x="330" y="275"/>
                </a:lnTo>
                <a:lnTo>
                  <a:pt x="328" y="275"/>
                </a:lnTo>
                <a:lnTo>
                  <a:pt x="326" y="275"/>
                </a:lnTo>
                <a:lnTo>
                  <a:pt x="316" y="275"/>
                </a:lnTo>
                <a:lnTo>
                  <a:pt x="305" y="275"/>
                </a:lnTo>
                <a:lnTo>
                  <a:pt x="293" y="277"/>
                </a:lnTo>
                <a:lnTo>
                  <a:pt x="282" y="277"/>
                </a:lnTo>
                <a:lnTo>
                  <a:pt x="268" y="279"/>
                </a:lnTo>
                <a:lnTo>
                  <a:pt x="257" y="281"/>
                </a:lnTo>
                <a:lnTo>
                  <a:pt x="243" y="285"/>
                </a:lnTo>
                <a:lnTo>
                  <a:pt x="230" y="288"/>
                </a:lnTo>
                <a:lnTo>
                  <a:pt x="211" y="292"/>
                </a:lnTo>
                <a:lnTo>
                  <a:pt x="194" y="296"/>
                </a:lnTo>
                <a:lnTo>
                  <a:pt x="174" y="298"/>
                </a:lnTo>
                <a:lnTo>
                  <a:pt x="157" y="296"/>
                </a:lnTo>
                <a:lnTo>
                  <a:pt x="147" y="296"/>
                </a:lnTo>
                <a:lnTo>
                  <a:pt x="138" y="294"/>
                </a:lnTo>
                <a:lnTo>
                  <a:pt x="128" y="292"/>
                </a:lnTo>
                <a:lnTo>
                  <a:pt x="121" y="290"/>
                </a:lnTo>
                <a:lnTo>
                  <a:pt x="111" y="288"/>
                </a:lnTo>
                <a:lnTo>
                  <a:pt x="101" y="285"/>
                </a:lnTo>
                <a:lnTo>
                  <a:pt x="94" y="281"/>
                </a:lnTo>
                <a:lnTo>
                  <a:pt x="84" y="275"/>
                </a:lnTo>
                <a:lnTo>
                  <a:pt x="73" y="273"/>
                </a:lnTo>
                <a:lnTo>
                  <a:pt x="63" y="269"/>
                </a:lnTo>
                <a:lnTo>
                  <a:pt x="53" y="267"/>
                </a:lnTo>
                <a:lnTo>
                  <a:pt x="46" y="263"/>
                </a:lnTo>
                <a:lnTo>
                  <a:pt x="38" y="260"/>
                </a:lnTo>
                <a:lnTo>
                  <a:pt x="30" y="256"/>
                </a:lnTo>
                <a:lnTo>
                  <a:pt x="25" y="252"/>
                </a:lnTo>
                <a:lnTo>
                  <a:pt x="19" y="250"/>
                </a:lnTo>
                <a:lnTo>
                  <a:pt x="15" y="246"/>
                </a:lnTo>
                <a:lnTo>
                  <a:pt x="9" y="242"/>
                </a:lnTo>
                <a:lnTo>
                  <a:pt x="7" y="238"/>
                </a:lnTo>
                <a:lnTo>
                  <a:pt x="4" y="235"/>
                </a:lnTo>
                <a:lnTo>
                  <a:pt x="2" y="231"/>
                </a:lnTo>
                <a:lnTo>
                  <a:pt x="0" y="229"/>
                </a:lnTo>
                <a:lnTo>
                  <a:pt x="0" y="225"/>
                </a:lnTo>
                <a:lnTo>
                  <a:pt x="0" y="223"/>
                </a:lnTo>
                <a:lnTo>
                  <a:pt x="0" y="221"/>
                </a:lnTo>
                <a:lnTo>
                  <a:pt x="2" y="219"/>
                </a:lnTo>
                <a:lnTo>
                  <a:pt x="4" y="219"/>
                </a:lnTo>
                <a:lnTo>
                  <a:pt x="5" y="217"/>
                </a:lnTo>
                <a:lnTo>
                  <a:pt x="9" y="215"/>
                </a:lnTo>
                <a:lnTo>
                  <a:pt x="13" y="214"/>
                </a:lnTo>
                <a:lnTo>
                  <a:pt x="19" y="210"/>
                </a:lnTo>
                <a:lnTo>
                  <a:pt x="25" y="208"/>
                </a:lnTo>
                <a:lnTo>
                  <a:pt x="30" y="206"/>
                </a:lnTo>
                <a:lnTo>
                  <a:pt x="38" y="204"/>
                </a:lnTo>
                <a:lnTo>
                  <a:pt x="46" y="200"/>
                </a:lnTo>
                <a:lnTo>
                  <a:pt x="55" y="198"/>
                </a:lnTo>
                <a:lnTo>
                  <a:pt x="65" y="194"/>
                </a:lnTo>
                <a:lnTo>
                  <a:pt x="76" y="190"/>
                </a:lnTo>
                <a:lnTo>
                  <a:pt x="88" y="187"/>
                </a:lnTo>
                <a:lnTo>
                  <a:pt x="99" y="185"/>
                </a:lnTo>
                <a:lnTo>
                  <a:pt x="113" y="181"/>
                </a:lnTo>
                <a:lnTo>
                  <a:pt x="126" y="177"/>
                </a:lnTo>
                <a:lnTo>
                  <a:pt x="140" y="171"/>
                </a:lnTo>
                <a:lnTo>
                  <a:pt x="155" y="167"/>
                </a:lnTo>
                <a:lnTo>
                  <a:pt x="170" y="164"/>
                </a:lnTo>
                <a:lnTo>
                  <a:pt x="188" y="160"/>
                </a:lnTo>
                <a:lnTo>
                  <a:pt x="205" y="154"/>
                </a:lnTo>
                <a:lnTo>
                  <a:pt x="224" y="150"/>
                </a:lnTo>
                <a:lnTo>
                  <a:pt x="243" y="144"/>
                </a:lnTo>
                <a:lnTo>
                  <a:pt x="263" y="139"/>
                </a:lnTo>
                <a:lnTo>
                  <a:pt x="284" y="133"/>
                </a:lnTo>
                <a:lnTo>
                  <a:pt x="305" y="129"/>
                </a:lnTo>
                <a:lnTo>
                  <a:pt x="326" y="123"/>
                </a:lnTo>
                <a:lnTo>
                  <a:pt x="349" y="118"/>
                </a:lnTo>
                <a:lnTo>
                  <a:pt x="374" y="110"/>
                </a:lnTo>
                <a:lnTo>
                  <a:pt x="399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竖弯钩圆润饱满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ǎ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26"/>
          <p:cNvSpPr/>
          <p:nvPr/>
        </p:nvSpPr>
        <p:spPr>
          <a:xfrm>
            <a:off x="7040520" y="3884760"/>
            <a:ext cx="663480" cy="936360"/>
          </a:xfrm>
          <a:custGeom>
            <a:avLst/>
            <a:gdLst/>
            <a:ahLst/>
            <a:rect l="l" t="t" r="r" b="b"/>
            <a:pathLst>
              <a:path w="835" h="1181">
                <a:moveTo>
                  <a:pt x="658" y="685"/>
                </a:moveTo>
                <a:lnTo>
                  <a:pt x="660" y="662"/>
                </a:lnTo>
                <a:lnTo>
                  <a:pt x="662" y="639"/>
                </a:lnTo>
                <a:lnTo>
                  <a:pt x="664" y="618"/>
                </a:lnTo>
                <a:lnTo>
                  <a:pt x="668" y="599"/>
                </a:lnTo>
                <a:lnTo>
                  <a:pt x="669" y="580"/>
                </a:lnTo>
                <a:lnTo>
                  <a:pt x="671" y="565"/>
                </a:lnTo>
                <a:lnTo>
                  <a:pt x="675" y="549"/>
                </a:lnTo>
                <a:lnTo>
                  <a:pt x="677" y="536"/>
                </a:lnTo>
                <a:lnTo>
                  <a:pt x="679" y="522"/>
                </a:lnTo>
                <a:lnTo>
                  <a:pt x="683" y="513"/>
                </a:lnTo>
                <a:lnTo>
                  <a:pt x="687" y="503"/>
                </a:lnTo>
                <a:lnTo>
                  <a:pt x="689" y="494"/>
                </a:lnTo>
                <a:lnTo>
                  <a:pt x="692" y="488"/>
                </a:lnTo>
                <a:lnTo>
                  <a:pt x="696" y="482"/>
                </a:lnTo>
                <a:lnTo>
                  <a:pt x="700" y="478"/>
                </a:lnTo>
                <a:lnTo>
                  <a:pt x="706" y="474"/>
                </a:lnTo>
                <a:lnTo>
                  <a:pt x="708" y="474"/>
                </a:lnTo>
                <a:lnTo>
                  <a:pt x="710" y="478"/>
                </a:lnTo>
                <a:lnTo>
                  <a:pt x="714" y="482"/>
                </a:lnTo>
                <a:lnTo>
                  <a:pt x="716" y="486"/>
                </a:lnTo>
                <a:lnTo>
                  <a:pt x="719" y="494"/>
                </a:lnTo>
                <a:lnTo>
                  <a:pt x="723" y="501"/>
                </a:lnTo>
                <a:lnTo>
                  <a:pt x="727" y="511"/>
                </a:lnTo>
                <a:lnTo>
                  <a:pt x="731" y="522"/>
                </a:lnTo>
                <a:lnTo>
                  <a:pt x="735" y="534"/>
                </a:lnTo>
                <a:lnTo>
                  <a:pt x="739" y="549"/>
                </a:lnTo>
                <a:lnTo>
                  <a:pt x="742" y="563"/>
                </a:lnTo>
                <a:lnTo>
                  <a:pt x="746" y="580"/>
                </a:lnTo>
                <a:lnTo>
                  <a:pt x="752" y="597"/>
                </a:lnTo>
                <a:lnTo>
                  <a:pt x="756" y="616"/>
                </a:lnTo>
                <a:lnTo>
                  <a:pt x="760" y="637"/>
                </a:lnTo>
                <a:lnTo>
                  <a:pt x="765" y="659"/>
                </a:lnTo>
                <a:lnTo>
                  <a:pt x="767" y="684"/>
                </a:lnTo>
                <a:lnTo>
                  <a:pt x="769" y="707"/>
                </a:lnTo>
                <a:lnTo>
                  <a:pt x="773" y="730"/>
                </a:lnTo>
                <a:lnTo>
                  <a:pt x="775" y="751"/>
                </a:lnTo>
                <a:lnTo>
                  <a:pt x="779" y="770"/>
                </a:lnTo>
                <a:lnTo>
                  <a:pt x="783" y="791"/>
                </a:lnTo>
                <a:lnTo>
                  <a:pt x="787" y="808"/>
                </a:lnTo>
                <a:lnTo>
                  <a:pt x="790" y="826"/>
                </a:lnTo>
                <a:lnTo>
                  <a:pt x="794" y="841"/>
                </a:lnTo>
                <a:lnTo>
                  <a:pt x="798" y="856"/>
                </a:lnTo>
                <a:lnTo>
                  <a:pt x="802" y="872"/>
                </a:lnTo>
                <a:lnTo>
                  <a:pt x="806" y="883"/>
                </a:lnTo>
                <a:lnTo>
                  <a:pt x="810" y="895"/>
                </a:lnTo>
                <a:lnTo>
                  <a:pt x="815" y="906"/>
                </a:lnTo>
                <a:lnTo>
                  <a:pt x="819" y="916"/>
                </a:lnTo>
                <a:lnTo>
                  <a:pt x="823" y="924"/>
                </a:lnTo>
                <a:lnTo>
                  <a:pt x="827" y="931"/>
                </a:lnTo>
                <a:lnTo>
                  <a:pt x="831" y="939"/>
                </a:lnTo>
                <a:lnTo>
                  <a:pt x="833" y="947"/>
                </a:lnTo>
                <a:lnTo>
                  <a:pt x="835" y="954"/>
                </a:lnTo>
                <a:lnTo>
                  <a:pt x="835" y="964"/>
                </a:lnTo>
                <a:lnTo>
                  <a:pt x="835" y="971"/>
                </a:lnTo>
                <a:lnTo>
                  <a:pt x="833" y="979"/>
                </a:lnTo>
                <a:lnTo>
                  <a:pt x="831" y="989"/>
                </a:lnTo>
                <a:lnTo>
                  <a:pt x="827" y="996"/>
                </a:lnTo>
                <a:lnTo>
                  <a:pt x="823" y="1006"/>
                </a:lnTo>
                <a:lnTo>
                  <a:pt x="817" y="1014"/>
                </a:lnTo>
                <a:lnTo>
                  <a:pt x="811" y="1023"/>
                </a:lnTo>
                <a:lnTo>
                  <a:pt x="804" y="1031"/>
                </a:lnTo>
                <a:lnTo>
                  <a:pt x="796" y="1039"/>
                </a:lnTo>
                <a:lnTo>
                  <a:pt x="787" y="1046"/>
                </a:lnTo>
                <a:lnTo>
                  <a:pt x="777" y="1054"/>
                </a:lnTo>
                <a:lnTo>
                  <a:pt x="754" y="1069"/>
                </a:lnTo>
                <a:lnTo>
                  <a:pt x="729" y="1085"/>
                </a:lnTo>
                <a:lnTo>
                  <a:pt x="717" y="1092"/>
                </a:lnTo>
                <a:lnTo>
                  <a:pt x="704" y="1098"/>
                </a:lnTo>
                <a:lnTo>
                  <a:pt x="691" y="1106"/>
                </a:lnTo>
                <a:lnTo>
                  <a:pt x="675" y="1112"/>
                </a:lnTo>
                <a:lnTo>
                  <a:pt x="662" y="1119"/>
                </a:lnTo>
                <a:lnTo>
                  <a:pt x="646" y="1125"/>
                </a:lnTo>
                <a:lnTo>
                  <a:pt x="629" y="1133"/>
                </a:lnTo>
                <a:lnTo>
                  <a:pt x="614" y="1138"/>
                </a:lnTo>
                <a:lnTo>
                  <a:pt x="597" y="1144"/>
                </a:lnTo>
                <a:lnTo>
                  <a:pt x="577" y="1150"/>
                </a:lnTo>
                <a:lnTo>
                  <a:pt x="558" y="1156"/>
                </a:lnTo>
                <a:lnTo>
                  <a:pt x="539" y="1160"/>
                </a:lnTo>
                <a:lnTo>
                  <a:pt x="520" y="1165"/>
                </a:lnTo>
                <a:lnTo>
                  <a:pt x="501" y="1169"/>
                </a:lnTo>
                <a:lnTo>
                  <a:pt x="481" y="1173"/>
                </a:lnTo>
                <a:lnTo>
                  <a:pt x="462" y="1175"/>
                </a:lnTo>
                <a:lnTo>
                  <a:pt x="443" y="1177"/>
                </a:lnTo>
                <a:lnTo>
                  <a:pt x="424" y="1179"/>
                </a:lnTo>
                <a:lnTo>
                  <a:pt x="406" y="1181"/>
                </a:lnTo>
                <a:lnTo>
                  <a:pt x="389" y="1181"/>
                </a:lnTo>
                <a:lnTo>
                  <a:pt x="370" y="1181"/>
                </a:lnTo>
                <a:lnTo>
                  <a:pt x="353" y="1179"/>
                </a:lnTo>
                <a:lnTo>
                  <a:pt x="335" y="1177"/>
                </a:lnTo>
                <a:lnTo>
                  <a:pt x="320" y="1175"/>
                </a:lnTo>
                <a:lnTo>
                  <a:pt x="303" y="1173"/>
                </a:lnTo>
                <a:lnTo>
                  <a:pt x="287" y="1169"/>
                </a:lnTo>
                <a:lnTo>
                  <a:pt x="270" y="1165"/>
                </a:lnTo>
                <a:lnTo>
                  <a:pt x="255" y="1160"/>
                </a:lnTo>
                <a:lnTo>
                  <a:pt x="239" y="1158"/>
                </a:lnTo>
                <a:lnTo>
                  <a:pt x="226" y="1154"/>
                </a:lnTo>
                <a:lnTo>
                  <a:pt x="211" y="1150"/>
                </a:lnTo>
                <a:lnTo>
                  <a:pt x="197" y="1146"/>
                </a:lnTo>
                <a:lnTo>
                  <a:pt x="184" y="1140"/>
                </a:lnTo>
                <a:lnTo>
                  <a:pt x="172" y="1135"/>
                </a:lnTo>
                <a:lnTo>
                  <a:pt x="161" y="1127"/>
                </a:lnTo>
                <a:lnTo>
                  <a:pt x="149" y="1121"/>
                </a:lnTo>
                <a:lnTo>
                  <a:pt x="138" y="1114"/>
                </a:lnTo>
                <a:lnTo>
                  <a:pt x="128" y="1104"/>
                </a:lnTo>
                <a:lnTo>
                  <a:pt x="119" y="1096"/>
                </a:lnTo>
                <a:lnTo>
                  <a:pt x="109" y="1087"/>
                </a:lnTo>
                <a:lnTo>
                  <a:pt x="99" y="1075"/>
                </a:lnTo>
                <a:lnTo>
                  <a:pt x="92" y="1066"/>
                </a:lnTo>
                <a:lnTo>
                  <a:pt x="84" y="1054"/>
                </a:lnTo>
                <a:lnTo>
                  <a:pt x="78" y="1043"/>
                </a:lnTo>
                <a:lnTo>
                  <a:pt x="71" y="1029"/>
                </a:lnTo>
                <a:lnTo>
                  <a:pt x="65" y="1014"/>
                </a:lnTo>
                <a:lnTo>
                  <a:pt x="59" y="996"/>
                </a:lnTo>
                <a:lnTo>
                  <a:pt x="53" y="977"/>
                </a:lnTo>
                <a:lnTo>
                  <a:pt x="49" y="956"/>
                </a:lnTo>
                <a:lnTo>
                  <a:pt x="44" y="933"/>
                </a:lnTo>
                <a:lnTo>
                  <a:pt x="40" y="910"/>
                </a:lnTo>
                <a:lnTo>
                  <a:pt x="36" y="883"/>
                </a:lnTo>
                <a:lnTo>
                  <a:pt x="34" y="854"/>
                </a:lnTo>
                <a:lnTo>
                  <a:pt x="30" y="826"/>
                </a:lnTo>
                <a:lnTo>
                  <a:pt x="28" y="793"/>
                </a:lnTo>
                <a:lnTo>
                  <a:pt x="28" y="760"/>
                </a:lnTo>
                <a:lnTo>
                  <a:pt x="28" y="724"/>
                </a:lnTo>
                <a:lnTo>
                  <a:pt x="28" y="687"/>
                </a:lnTo>
                <a:lnTo>
                  <a:pt x="28" y="647"/>
                </a:lnTo>
                <a:lnTo>
                  <a:pt x="30" y="607"/>
                </a:lnTo>
                <a:lnTo>
                  <a:pt x="30" y="565"/>
                </a:lnTo>
                <a:lnTo>
                  <a:pt x="30" y="526"/>
                </a:lnTo>
                <a:lnTo>
                  <a:pt x="28" y="488"/>
                </a:lnTo>
                <a:lnTo>
                  <a:pt x="28" y="449"/>
                </a:lnTo>
                <a:lnTo>
                  <a:pt x="26" y="415"/>
                </a:lnTo>
                <a:lnTo>
                  <a:pt x="26" y="382"/>
                </a:lnTo>
                <a:lnTo>
                  <a:pt x="25" y="350"/>
                </a:lnTo>
                <a:lnTo>
                  <a:pt x="23" y="319"/>
                </a:lnTo>
                <a:lnTo>
                  <a:pt x="21" y="290"/>
                </a:lnTo>
                <a:lnTo>
                  <a:pt x="19" y="263"/>
                </a:lnTo>
                <a:lnTo>
                  <a:pt x="17" y="236"/>
                </a:lnTo>
                <a:lnTo>
                  <a:pt x="15" y="213"/>
                </a:lnTo>
                <a:lnTo>
                  <a:pt x="13" y="190"/>
                </a:lnTo>
                <a:lnTo>
                  <a:pt x="11" y="169"/>
                </a:lnTo>
                <a:lnTo>
                  <a:pt x="9" y="150"/>
                </a:lnTo>
                <a:lnTo>
                  <a:pt x="7" y="131"/>
                </a:lnTo>
                <a:lnTo>
                  <a:pt x="5" y="115"/>
                </a:lnTo>
                <a:lnTo>
                  <a:pt x="3" y="98"/>
                </a:lnTo>
                <a:lnTo>
                  <a:pt x="1" y="85"/>
                </a:lnTo>
                <a:lnTo>
                  <a:pt x="0" y="71"/>
                </a:lnTo>
                <a:lnTo>
                  <a:pt x="0" y="60"/>
                </a:lnTo>
                <a:lnTo>
                  <a:pt x="0" y="48"/>
                </a:lnTo>
                <a:lnTo>
                  <a:pt x="0" y="39"/>
                </a:lnTo>
                <a:lnTo>
                  <a:pt x="0" y="31"/>
                </a:lnTo>
                <a:lnTo>
                  <a:pt x="0" y="23"/>
                </a:lnTo>
                <a:lnTo>
                  <a:pt x="1" y="18"/>
                </a:lnTo>
                <a:lnTo>
                  <a:pt x="3" y="12"/>
                </a:lnTo>
                <a:lnTo>
                  <a:pt x="5" y="6"/>
                </a:lnTo>
                <a:lnTo>
                  <a:pt x="7" y="4"/>
                </a:lnTo>
                <a:lnTo>
                  <a:pt x="11" y="0"/>
                </a:lnTo>
                <a:lnTo>
                  <a:pt x="15" y="0"/>
                </a:lnTo>
                <a:lnTo>
                  <a:pt x="19" y="0"/>
                </a:lnTo>
                <a:lnTo>
                  <a:pt x="21" y="2"/>
                </a:lnTo>
                <a:lnTo>
                  <a:pt x="25" y="4"/>
                </a:lnTo>
                <a:lnTo>
                  <a:pt x="26" y="6"/>
                </a:lnTo>
                <a:lnTo>
                  <a:pt x="32" y="10"/>
                </a:lnTo>
                <a:lnTo>
                  <a:pt x="40" y="14"/>
                </a:lnTo>
                <a:lnTo>
                  <a:pt x="51" y="19"/>
                </a:lnTo>
                <a:lnTo>
                  <a:pt x="63" y="23"/>
                </a:lnTo>
                <a:lnTo>
                  <a:pt x="74" y="29"/>
                </a:lnTo>
                <a:lnTo>
                  <a:pt x="88" y="35"/>
                </a:lnTo>
                <a:lnTo>
                  <a:pt x="101" y="39"/>
                </a:lnTo>
                <a:lnTo>
                  <a:pt x="115" y="48"/>
                </a:lnTo>
                <a:lnTo>
                  <a:pt x="126" y="58"/>
                </a:lnTo>
                <a:lnTo>
                  <a:pt x="136" y="67"/>
                </a:lnTo>
                <a:lnTo>
                  <a:pt x="145" y="77"/>
                </a:lnTo>
                <a:lnTo>
                  <a:pt x="155" y="85"/>
                </a:lnTo>
                <a:lnTo>
                  <a:pt x="161" y="92"/>
                </a:lnTo>
                <a:lnTo>
                  <a:pt x="167" y="100"/>
                </a:lnTo>
                <a:lnTo>
                  <a:pt x="172" y="106"/>
                </a:lnTo>
                <a:lnTo>
                  <a:pt x="174" y="110"/>
                </a:lnTo>
                <a:lnTo>
                  <a:pt x="176" y="117"/>
                </a:lnTo>
                <a:lnTo>
                  <a:pt x="176" y="123"/>
                </a:lnTo>
                <a:lnTo>
                  <a:pt x="176" y="133"/>
                </a:lnTo>
                <a:lnTo>
                  <a:pt x="176" y="140"/>
                </a:lnTo>
                <a:lnTo>
                  <a:pt x="176" y="152"/>
                </a:lnTo>
                <a:lnTo>
                  <a:pt x="176" y="161"/>
                </a:lnTo>
                <a:lnTo>
                  <a:pt x="174" y="175"/>
                </a:lnTo>
                <a:lnTo>
                  <a:pt x="174" y="186"/>
                </a:lnTo>
                <a:lnTo>
                  <a:pt x="172" y="200"/>
                </a:lnTo>
                <a:lnTo>
                  <a:pt x="170" y="215"/>
                </a:lnTo>
                <a:lnTo>
                  <a:pt x="168" y="231"/>
                </a:lnTo>
                <a:lnTo>
                  <a:pt x="167" y="248"/>
                </a:lnTo>
                <a:lnTo>
                  <a:pt x="165" y="265"/>
                </a:lnTo>
                <a:lnTo>
                  <a:pt x="163" y="282"/>
                </a:lnTo>
                <a:lnTo>
                  <a:pt x="161" y="304"/>
                </a:lnTo>
                <a:lnTo>
                  <a:pt x="153" y="344"/>
                </a:lnTo>
                <a:lnTo>
                  <a:pt x="145" y="384"/>
                </a:lnTo>
                <a:lnTo>
                  <a:pt x="140" y="426"/>
                </a:lnTo>
                <a:lnTo>
                  <a:pt x="134" y="471"/>
                </a:lnTo>
                <a:lnTo>
                  <a:pt x="130" y="517"/>
                </a:lnTo>
                <a:lnTo>
                  <a:pt x="126" y="563"/>
                </a:lnTo>
                <a:lnTo>
                  <a:pt x="126" y="611"/>
                </a:lnTo>
                <a:lnTo>
                  <a:pt x="124" y="659"/>
                </a:lnTo>
                <a:lnTo>
                  <a:pt x="124" y="685"/>
                </a:lnTo>
                <a:lnTo>
                  <a:pt x="126" y="710"/>
                </a:lnTo>
                <a:lnTo>
                  <a:pt x="126" y="733"/>
                </a:lnTo>
                <a:lnTo>
                  <a:pt x="128" y="757"/>
                </a:lnTo>
                <a:lnTo>
                  <a:pt x="128" y="776"/>
                </a:lnTo>
                <a:lnTo>
                  <a:pt x="130" y="795"/>
                </a:lnTo>
                <a:lnTo>
                  <a:pt x="132" y="814"/>
                </a:lnTo>
                <a:lnTo>
                  <a:pt x="136" y="829"/>
                </a:lnTo>
                <a:lnTo>
                  <a:pt x="138" y="847"/>
                </a:lnTo>
                <a:lnTo>
                  <a:pt x="142" y="860"/>
                </a:lnTo>
                <a:lnTo>
                  <a:pt x="145" y="874"/>
                </a:lnTo>
                <a:lnTo>
                  <a:pt x="149" y="885"/>
                </a:lnTo>
                <a:lnTo>
                  <a:pt x="155" y="897"/>
                </a:lnTo>
                <a:lnTo>
                  <a:pt x="161" y="906"/>
                </a:lnTo>
                <a:lnTo>
                  <a:pt x="167" y="916"/>
                </a:lnTo>
                <a:lnTo>
                  <a:pt x="172" y="924"/>
                </a:lnTo>
                <a:lnTo>
                  <a:pt x="176" y="931"/>
                </a:lnTo>
                <a:lnTo>
                  <a:pt x="182" y="937"/>
                </a:lnTo>
                <a:lnTo>
                  <a:pt x="188" y="945"/>
                </a:lnTo>
                <a:lnTo>
                  <a:pt x="193" y="950"/>
                </a:lnTo>
                <a:lnTo>
                  <a:pt x="201" y="956"/>
                </a:lnTo>
                <a:lnTo>
                  <a:pt x="209" y="962"/>
                </a:lnTo>
                <a:lnTo>
                  <a:pt x="224" y="971"/>
                </a:lnTo>
                <a:lnTo>
                  <a:pt x="232" y="975"/>
                </a:lnTo>
                <a:lnTo>
                  <a:pt x="241" y="979"/>
                </a:lnTo>
                <a:lnTo>
                  <a:pt x="251" y="981"/>
                </a:lnTo>
                <a:lnTo>
                  <a:pt x="261" y="985"/>
                </a:lnTo>
                <a:lnTo>
                  <a:pt x="270" y="987"/>
                </a:lnTo>
                <a:lnTo>
                  <a:pt x="282" y="987"/>
                </a:lnTo>
                <a:lnTo>
                  <a:pt x="291" y="989"/>
                </a:lnTo>
                <a:lnTo>
                  <a:pt x="303" y="989"/>
                </a:lnTo>
                <a:lnTo>
                  <a:pt x="314" y="991"/>
                </a:lnTo>
                <a:lnTo>
                  <a:pt x="324" y="993"/>
                </a:lnTo>
                <a:lnTo>
                  <a:pt x="335" y="995"/>
                </a:lnTo>
                <a:lnTo>
                  <a:pt x="345" y="995"/>
                </a:lnTo>
                <a:lnTo>
                  <a:pt x="366" y="995"/>
                </a:lnTo>
                <a:lnTo>
                  <a:pt x="385" y="993"/>
                </a:lnTo>
                <a:lnTo>
                  <a:pt x="406" y="989"/>
                </a:lnTo>
                <a:lnTo>
                  <a:pt x="426" y="985"/>
                </a:lnTo>
                <a:lnTo>
                  <a:pt x="447" y="981"/>
                </a:lnTo>
                <a:lnTo>
                  <a:pt x="468" y="975"/>
                </a:lnTo>
                <a:lnTo>
                  <a:pt x="487" y="970"/>
                </a:lnTo>
                <a:lnTo>
                  <a:pt x="504" y="964"/>
                </a:lnTo>
                <a:lnTo>
                  <a:pt x="522" y="956"/>
                </a:lnTo>
                <a:lnTo>
                  <a:pt x="539" y="948"/>
                </a:lnTo>
                <a:lnTo>
                  <a:pt x="554" y="939"/>
                </a:lnTo>
                <a:lnTo>
                  <a:pt x="570" y="929"/>
                </a:lnTo>
                <a:lnTo>
                  <a:pt x="585" y="920"/>
                </a:lnTo>
                <a:lnTo>
                  <a:pt x="598" y="910"/>
                </a:lnTo>
                <a:lnTo>
                  <a:pt x="604" y="904"/>
                </a:lnTo>
                <a:lnTo>
                  <a:pt x="612" y="897"/>
                </a:lnTo>
                <a:lnTo>
                  <a:pt x="618" y="889"/>
                </a:lnTo>
                <a:lnTo>
                  <a:pt x="623" y="879"/>
                </a:lnTo>
                <a:lnTo>
                  <a:pt x="627" y="870"/>
                </a:lnTo>
                <a:lnTo>
                  <a:pt x="633" y="858"/>
                </a:lnTo>
                <a:lnTo>
                  <a:pt x="637" y="845"/>
                </a:lnTo>
                <a:lnTo>
                  <a:pt x="641" y="831"/>
                </a:lnTo>
                <a:lnTo>
                  <a:pt x="645" y="818"/>
                </a:lnTo>
                <a:lnTo>
                  <a:pt x="648" y="801"/>
                </a:lnTo>
                <a:lnTo>
                  <a:pt x="652" y="785"/>
                </a:lnTo>
                <a:lnTo>
                  <a:pt x="654" y="766"/>
                </a:lnTo>
                <a:lnTo>
                  <a:pt x="656" y="749"/>
                </a:lnTo>
                <a:lnTo>
                  <a:pt x="656" y="728"/>
                </a:lnTo>
                <a:lnTo>
                  <a:pt x="658" y="707"/>
                </a:lnTo>
                <a:lnTo>
                  <a:pt x="658" y="6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27"/>
          <p:cNvSpPr/>
          <p:nvPr/>
        </p:nvSpPr>
        <p:spPr>
          <a:xfrm>
            <a:off x="6351480" y="3130560"/>
            <a:ext cx="770040" cy="1627200"/>
          </a:xfrm>
          <a:custGeom>
            <a:avLst/>
            <a:gdLst/>
            <a:ahLst/>
            <a:rect l="l" t="t" r="r" b="b"/>
            <a:pathLst>
              <a:path w="971" h="2050">
                <a:moveTo>
                  <a:pt x="250" y="1768"/>
                </a:moveTo>
                <a:lnTo>
                  <a:pt x="282" y="1733"/>
                </a:lnTo>
                <a:lnTo>
                  <a:pt x="313" y="1699"/>
                </a:lnTo>
                <a:lnTo>
                  <a:pt x="346" y="1664"/>
                </a:lnTo>
                <a:lnTo>
                  <a:pt x="374" y="1626"/>
                </a:lnTo>
                <a:lnTo>
                  <a:pt x="405" y="1587"/>
                </a:lnTo>
                <a:lnTo>
                  <a:pt x="434" y="1547"/>
                </a:lnTo>
                <a:lnTo>
                  <a:pt x="461" y="1505"/>
                </a:lnTo>
                <a:lnTo>
                  <a:pt x="488" y="1463"/>
                </a:lnTo>
                <a:lnTo>
                  <a:pt x="513" y="1417"/>
                </a:lnTo>
                <a:lnTo>
                  <a:pt x="537" y="1371"/>
                </a:lnTo>
                <a:lnTo>
                  <a:pt x="562" y="1325"/>
                </a:lnTo>
                <a:lnTo>
                  <a:pt x="584" y="1277"/>
                </a:lnTo>
                <a:lnTo>
                  <a:pt x="607" y="1227"/>
                </a:lnTo>
                <a:lnTo>
                  <a:pt x="626" y="1175"/>
                </a:lnTo>
                <a:lnTo>
                  <a:pt x="645" y="1123"/>
                </a:lnTo>
                <a:lnTo>
                  <a:pt x="664" y="1069"/>
                </a:lnTo>
                <a:lnTo>
                  <a:pt x="680" y="1014"/>
                </a:lnTo>
                <a:lnTo>
                  <a:pt x="697" y="956"/>
                </a:lnTo>
                <a:lnTo>
                  <a:pt x="710" y="898"/>
                </a:lnTo>
                <a:lnTo>
                  <a:pt x="726" y="839"/>
                </a:lnTo>
                <a:lnTo>
                  <a:pt x="737" y="777"/>
                </a:lnTo>
                <a:lnTo>
                  <a:pt x="749" y="714"/>
                </a:lnTo>
                <a:lnTo>
                  <a:pt x="760" y="649"/>
                </a:lnTo>
                <a:lnTo>
                  <a:pt x="770" y="584"/>
                </a:lnTo>
                <a:lnTo>
                  <a:pt x="777" y="516"/>
                </a:lnTo>
                <a:lnTo>
                  <a:pt x="785" y="447"/>
                </a:lnTo>
                <a:lnTo>
                  <a:pt x="791" y="376"/>
                </a:lnTo>
                <a:lnTo>
                  <a:pt x="797" y="303"/>
                </a:lnTo>
                <a:lnTo>
                  <a:pt x="800" y="230"/>
                </a:lnTo>
                <a:lnTo>
                  <a:pt x="804" y="156"/>
                </a:lnTo>
                <a:lnTo>
                  <a:pt x="804" y="79"/>
                </a:lnTo>
                <a:lnTo>
                  <a:pt x="806" y="0"/>
                </a:lnTo>
                <a:lnTo>
                  <a:pt x="825" y="12"/>
                </a:lnTo>
                <a:lnTo>
                  <a:pt x="843" y="23"/>
                </a:lnTo>
                <a:lnTo>
                  <a:pt x="860" y="35"/>
                </a:lnTo>
                <a:lnTo>
                  <a:pt x="875" y="46"/>
                </a:lnTo>
                <a:lnTo>
                  <a:pt x="889" y="58"/>
                </a:lnTo>
                <a:lnTo>
                  <a:pt x="902" y="67"/>
                </a:lnTo>
                <a:lnTo>
                  <a:pt x="914" y="77"/>
                </a:lnTo>
                <a:lnTo>
                  <a:pt x="923" y="86"/>
                </a:lnTo>
                <a:lnTo>
                  <a:pt x="933" y="96"/>
                </a:lnTo>
                <a:lnTo>
                  <a:pt x="942" y="106"/>
                </a:lnTo>
                <a:lnTo>
                  <a:pt x="948" y="113"/>
                </a:lnTo>
                <a:lnTo>
                  <a:pt x="956" y="121"/>
                </a:lnTo>
                <a:lnTo>
                  <a:pt x="962" y="127"/>
                </a:lnTo>
                <a:lnTo>
                  <a:pt x="966" y="134"/>
                </a:lnTo>
                <a:lnTo>
                  <a:pt x="969" y="140"/>
                </a:lnTo>
                <a:lnTo>
                  <a:pt x="971" y="144"/>
                </a:lnTo>
                <a:lnTo>
                  <a:pt x="971" y="175"/>
                </a:lnTo>
                <a:lnTo>
                  <a:pt x="971" y="190"/>
                </a:lnTo>
                <a:lnTo>
                  <a:pt x="969" y="205"/>
                </a:lnTo>
                <a:lnTo>
                  <a:pt x="967" y="223"/>
                </a:lnTo>
                <a:lnTo>
                  <a:pt x="966" y="240"/>
                </a:lnTo>
                <a:lnTo>
                  <a:pt x="964" y="257"/>
                </a:lnTo>
                <a:lnTo>
                  <a:pt x="960" y="277"/>
                </a:lnTo>
                <a:lnTo>
                  <a:pt x="958" y="282"/>
                </a:lnTo>
                <a:lnTo>
                  <a:pt x="958" y="288"/>
                </a:lnTo>
                <a:lnTo>
                  <a:pt x="956" y="294"/>
                </a:lnTo>
                <a:lnTo>
                  <a:pt x="954" y="301"/>
                </a:lnTo>
                <a:lnTo>
                  <a:pt x="954" y="307"/>
                </a:lnTo>
                <a:lnTo>
                  <a:pt x="952" y="317"/>
                </a:lnTo>
                <a:lnTo>
                  <a:pt x="952" y="324"/>
                </a:lnTo>
                <a:lnTo>
                  <a:pt x="950" y="334"/>
                </a:lnTo>
                <a:lnTo>
                  <a:pt x="948" y="342"/>
                </a:lnTo>
                <a:lnTo>
                  <a:pt x="948" y="353"/>
                </a:lnTo>
                <a:lnTo>
                  <a:pt x="946" y="363"/>
                </a:lnTo>
                <a:lnTo>
                  <a:pt x="944" y="374"/>
                </a:lnTo>
                <a:lnTo>
                  <a:pt x="942" y="386"/>
                </a:lnTo>
                <a:lnTo>
                  <a:pt x="942" y="397"/>
                </a:lnTo>
                <a:lnTo>
                  <a:pt x="941" y="411"/>
                </a:lnTo>
                <a:lnTo>
                  <a:pt x="939" y="422"/>
                </a:lnTo>
                <a:lnTo>
                  <a:pt x="937" y="438"/>
                </a:lnTo>
                <a:lnTo>
                  <a:pt x="935" y="451"/>
                </a:lnTo>
                <a:lnTo>
                  <a:pt x="933" y="465"/>
                </a:lnTo>
                <a:lnTo>
                  <a:pt x="931" y="480"/>
                </a:lnTo>
                <a:lnTo>
                  <a:pt x="929" y="495"/>
                </a:lnTo>
                <a:lnTo>
                  <a:pt x="927" y="513"/>
                </a:lnTo>
                <a:lnTo>
                  <a:pt x="925" y="528"/>
                </a:lnTo>
                <a:lnTo>
                  <a:pt x="923" y="545"/>
                </a:lnTo>
                <a:lnTo>
                  <a:pt x="919" y="563"/>
                </a:lnTo>
                <a:lnTo>
                  <a:pt x="918" y="582"/>
                </a:lnTo>
                <a:lnTo>
                  <a:pt x="916" y="599"/>
                </a:lnTo>
                <a:lnTo>
                  <a:pt x="912" y="618"/>
                </a:lnTo>
                <a:lnTo>
                  <a:pt x="906" y="658"/>
                </a:lnTo>
                <a:lnTo>
                  <a:pt x="900" y="699"/>
                </a:lnTo>
                <a:lnTo>
                  <a:pt x="893" y="741"/>
                </a:lnTo>
                <a:lnTo>
                  <a:pt x="885" y="781"/>
                </a:lnTo>
                <a:lnTo>
                  <a:pt x="877" y="824"/>
                </a:lnTo>
                <a:lnTo>
                  <a:pt x="868" y="864"/>
                </a:lnTo>
                <a:lnTo>
                  <a:pt x="858" y="904"/>
                </a:lnTo>
                <a:lnTo>
                  <a:pt x="847" y="944"/>
                </a:lnTo>
                <a:lnTo>
                  <a:pt x="835" y="983"/>
                </a:lnTo>
                <a:lnTo>
                  <a:pt x="823" y="1021"/>
                </a:lnTo>
                <a:lnTo>
                  <a:pt x="810" y="1060"/>
                </a:lnTo>
                <a:lnTo>
                  <a:pt x="797" y="1096"/>
                </a:lnTo>
                <a:lnTo>
                  <a:pt x="783" y="1135"/>
                </a:lnTo>
                <a:lnTo>
                  <a:pt x="770" y="1169"/>
                </a:lnTo>
                <a:lnTo>
                  <a:pt x="756" y="1206"/>
                </a:lnTo>
                <a:lnTo>
                  <a:pt x="741" y="1240"/>
                </a:lnTo>
                <a:lnTo>
                  <a:pt x="726" y="1273"/>
                </a:lnTo>
                <a:lnTo>
                  <a:pt x="710" y="1305"/>
                </a:lnTo>
                <a:lnTo>
                  <a:pt x="695" y="1340"/>
                </a:lnTo>
                <a:lnTo>
                  <a:pt x="680" y="1373"/>
                </a:lnTo>
                <a:lnTo>
                  <a:pt x="662" y="1405"/>
                </a:lnTo>
                <a:lnTo>
                  <a:pt x="645" y="1438"/>
                </a:lnTo>
                <a:lnTo>
                  <a:pt x="628" y="1468"/>
                </a:lnTo>
                <a:lnTo>
                  <a:pt x="609" y="1497"/>
                </a:lnTo>
                <a:lnTo>
                  <a:pt x="591" y="1526"/>
                </a:lnTo>
                <a:lnTo>
                  <a:pt x="572" y="1555"/>
                </a:lnTo>
                <a:lnTo>
                  <a:pt x="553" y="1582"/>
                </a:lnTo>
                <a:lnTo>
                  <a:pt x="534" y="1609"/>
                </a:lnTo>
                <a:lnTo>
                  <a:pt x="514" y="1634"/>
                </a:lnTo>
                <a:lnTo>
                  <a:pt x="493" y="1659"/>
                </a:lnTo>
                <a:lnTo>
                  <a:pt x="474" y="1683"/>
                </a:lnTo>
                <a:lnTo>
                  <a:pt x="455" y="1708"/>
                </a:lnTo>
                <a:lnTo>
                  <a:pt x="434" y="1731"/>
                </a:lnTo>
                <a:lnTo>
                  <a:pt x="415" y="1754"/>
                </a:lnTo>
                <a:lnTo>
                  <a:pt x="394" y="1776"/>
                </a:lnTo>
                <a:lnTo>
                  <a:pt x="372" y="1797"/>
                </a:lnTo>
                <a:lnTo>
                  <a:pt x="351" y="1818"/>
                </a:lnTo>
                <a:lnTo>
                  <a:pt x="330" y="1837"/>
                </a:lnTo>
                <a:lnTo>
                  <a:pt x="311" y="1854"/>
                </a:lnTo>
                <a:lnTo>
                  <a:pt x="292" y="1872"/>
                </a:lnTo>
                <a:lnTo>
                  <a:pt x="273" y="1887"/>
                </a:lnTo>
                <a:lnTo>
                  <a:pt x="255" y="1902"/>
                </a:lnTo>
                <a:lnTo>
                  <a:pt x="238" y="1918"/>
                </a:lnTo>
                <a:lnTo>
                  <a:pt x="221" y="1931"/>
                </a:lnTo>
                <a:lnTo>
                  <a:pt x="204" y="1943"/>
                </a:lnTo>
                <a:lnTo>
                  <a:pt x="188" y="1954"/>
                </a:lnTo>
                <a:lnTo>
                  <a:pt x="173" y="1966"/>
                </a:lnTo>
                <a:lnTo>
                  <a:pt x="157" y="1975"/>
                </a:lnTo>
                <a:lnTo>
                  <a:pt x="144" y="1983"/>
                </a:lnTo>
                <a:lnTo>
                  <a:pt x="131" y="1993"/>
                </a:lnTo>
                <a:lnTo>
                  <a:pt x="115" y="2000"/>
                </a:lnTo>
                <a:lnTo>
                  <a:pt x="102" y="2010"/>
                </a:lnTo>
                <a:lnTo>
                  <a:pt x="88" y="2017"/>
                </a:lnTo>
                <a:lnTo>
                  <a:pt x="77" y="2025"/>
                </a:lnTo>
                <a:lnTo>
                  <a:pt x="65" y="2031"/>
                </a:lnTo>
                <a:lnTo>
                  <a:pt x="56" y="2035"/>
                </a:lnTo>
                <a:lnTo>
                  <a:pt x="48" y="2039"/>
                </a:lnTo>
                <a:lnTo>
                  <a:pt x="38" y="2042"/>
                </a:lnTo>
                <a:lnTo>
                  <a:pt x="31" y="2046"/>
                </a:lnTo>
                <a:lnTo>
                  <a:pt x="25" y="2048"/>
                </a:lnTo>
                <a:lnTo>
                  <a:pt x="19" y="2048"/>
                </a:lnTo>
                <a:lnTo>
                  <a:pt x="13" y="2050"/>
                </a:lnTo>
                <a:lnTo>
                  <a:pt x="10" y="2048"/>
                </a:lnTo>
                <a:lnTo>
                  <a:pt x="6" y="2048"/>
                </a:lnTo>
                <a:lnTo>
                  <a:pt x="4" y="2046"/>
                </a:lnTo>
                <a:lnTo>
                  <a:pt x="0" y="2044"/>
                </a:lnTo>
                <a:lnTo>
                  <a:pt x="0" y="2042"/>
                </a:lnTo>
                <a:lnTo>
                  <a:pt x="0" y="2040"/>
                </a:lnTo>
                <a:lnTo>
                  <a:pt x="0" y="2039"/>
                </a:lnTo>
                <a:lnTo>
                  <a:pt x="0" y="2037"/>
                </a:lnTo>
                <a:lnTo>
                  <a:pt x="2" y="2033"/>
                </a:lnTo>
                <a:lnTo>
                  <a:pt x="4" y="2029"/>
                </a:lnTo>
                <a:lnTo>
                  <a:pt x="6" y="2025"/>
                </a:lnTo>
                <a:lnTo>
                  <a:pt x="10" y="2019"/>
                </a:lnTo>
                <a:lnTo>
                  <a:pt x="13" y="2016"/>
                </a:lnTo>
                <a:lnTo>
                  <a:pt x="17" y="2010"/>
                </a:lnTo>
                <a:lnTo>
                  <a:pt x="23" y="2002"/>
                </a:lnTo>
                <a:lnTo>
                  <a:pt x="27" y="1996"/>
                </a:lnTo>
                <a:lnTo>
                  <a:pt x="33" y="1989"/>
                </a:lnTo>
                <a:lnTo>
                  <a:pt x="40" y="1983"/>
                </a:lnTo>
                <a:lnTo>
                  <a:pt x="46" y="1973"/>
                </a:lnTo>
                <a:lnTo>
                  <a:pt x="54" y="1966"/>
                </a:lnTo>
                <a:lnTo>
                  <a:pt x="61" y="1958"/>
                </a:lnTo>
                <a:lnTo>
                  <a:pt x="71" y="1948"/>
                </a:lnTo>
                <a:lnTo>
                  <a:pt x="81" y="1939"/>
                </a:lnTo>
                <a:lnTo>
                  <a:pt x="90" y="1927"/>
                </a:lnTo>
                <a:lnTo>
                  <a:pt x="100" y="1918"/>
                </a:lnTo>
                <a:lnTo>
                  <a:pt x="111" y="1906"/>
                </a:lnTo>
                <a:lnTo>
                  <a:pt x="123" y="1895"/>
                </a:lnTo>
                <a:lnTo>
                  <a:pt x="134" y="1881"/>
                </a:lnTo>
                <a:lnTo>
                  <a:pt x="146" y="1870"/>
                </a:lnTo>
                <a:lnTo>
                  <a:pt x="159" y="1856"/>
                </a:lnTo>
                <a:lnTo>
                  <a:pt x="173" y="1843"/>
                </a:lnTo>
                <a:lnTo>
                  <a:pt x="188" y="1829"/>
                </a:lnTo>
                <a:lnTo>
                  <a:pt x="202" y="1814"/>
                </a:lnTo>
                <a:lnTo>
                  <a:pt x="217" y="1799"/>
                </a:lnTo>
                <a:lnTo>
                  <a:pt x="232" y="1783"/>
                </a:lnTo>
                <a:lnTo>
                  <a:pt x="250" y="17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28"/>
          <p:cNvSpPr/>
          <p:nvPr/>
        </p:nvSpPr>
        <p:spPr>
          <a:xfrm>
            <a:off x="6653160" y="3479760"/>
            <a:ext cx="789120" cy="415800"/>
          </a:xfrm>
          <a:custGeom>
            <a:avLst/>
            <a:gdLst/>
            <a:ahLst/>
            <a:rect l="l" t="t" r="r" b="b"/>
            <a:pathLst>
              <a:path w="994" h="524">
                <a:moveTo>
                  <a:pt x="935" y="207"/>
                </a:moveTo>
                <a:lnTo>
                  <a:pt x="948" y="211"/>
                </a:lnTo>
                <a:lnTo>
                  <a:pt x="960" y="218"/>
                </a:lnTo>
                <a:lnTo>
                  <a:pt x="969" y="224"/>
                </a:lnTo>
                <a:lnTo>
                  <a:pt x="977" y="232"/>
                </a:lnTo>
                <a:lnTo>
                  <a:pt x="985" y="240"/>
                </a:lnTo>
                <a:lnTo>
                  <a:pt x="987" y="243"/>
                </a:lnTo>
                <a:lnTo>
                  <a:pt x="991" y="247"/>
                </a:lnTo>
                <a:lnTo>
                  <a:pt x="991" y="249"/>
                </a:lnTo>
                <a:lnTo>
                  <a:pt x="992" y="253"/>
                </a:lnTo>
                <a:lnTo>
                  <a:pt x="994" y="257"/>
                </a:lnTo>
                <a:lnTo>
                  <a:pt x="994" y="259"/>
                </a:lnTo>
                <a:lnTo>
                  <a:pt x="992" y="268"/>
                </a:lnTo>
                <a:lnTo>
                  <a:pt x="992" y="276"/>
                </a:lnTo>
                <a:lnTo>
                  <a:pt x="989" y="284"/>
                </a:lnTo>
                <a:lnTo>
                  <a:pt x="987" y="289"/>
                </a:lnTo>
                <a:lnTo>
                  <a:pt x="983" y="295"/>
                </a:lnTo>
                <a:lnTo>
                  <a:pt x="979" y="301"/>
                </a:lnTo>
                <a:lnTo>
                  <a:pt x="971" y="313"/>
                </a:lnTo>
                <a:lnTo>
                  <a:pt x="966" y="314"/>
                </a:lnTo>
                <a:lnTo>
                  <a:pt x="960" y="316"/>
                </a:lnTo>
                <a:lnTo>
                  <a:pt x="954" y="318"/>
                </a:lnTo>
                <a:lnTo>
                  <a:pt x="946" y="322"/>
                </a:lnTo>
                <a:lnTo>
                  <a:pt x="939" y="324"/>
                </a:lnTo>
                <a:lnTo>
                  <a:pt x="929" y="326"/>
                </a:lnTo>
                <a:lnTo>
                  <a:pt x="920" y="328"/>
                </a:lnTo>
                <a:lnTo>
                  <a:pt x="908" y="330"/>
                </a:lnTo>
                <a:lnTo>
                  <a:pt x="896" y="332"/>
                </a:lnTo>
                <a:lnTo>
                  <a:pt x="885" y="334"/>
                </a:lnTo>
                <a:lnTo>
                  <a:pt x="872" y="334"/>
                </a:lnTo>
                <a:lnTo>
                  <a:pt x="858" y="336"/>
                </a:lnTo>
                <a:lnTo>
                  <a:pt x="843" y="337"/>
                </a:lnTo>
                <a:lnTo>
                  <a:pt x="827" y="337"/>
                </a:lnTo>
                <a:lnTo>
                  <a:pt x="810" y="337"/>
                </a:lnTo>
                <a:lnTo>
                  <a:pt x="793" y="337"/>
                </a:lnTo>
                <a:lnTo>
                  <a:pt x="756" y="343"/>
                </a:lnTo>
                <a:lnTo>
                  <a:pt x="720" y="349"/>
                </a:lnTo>
                <a:lnTo>
                  <a:pt x="680" y="353"/>
                </a:lnTo>
                <a:lnTo>
                  <a:pt x="639" y="359"/>
                </a:lnTo>
                <a:lnTo>
                  <a:pt x="599" y="366"/>
                </a:lnTo>
                <a:lnTo>
                  <a:pt x="576" y="370"/>
                </a:lnTo>
                <a:lnTo>
                  <a:pt x="555" y="374"/>
                </a:lnTo>
                <a:lnTo>
                  <a:pt x="532" y="378"/>
                </a:lnTo>
                <a:lnTo>
                  <a:pt x="509" y="382"/>
                </a:lnTo>
                <a:lnTo>
                  <a:pt x="486" y="385"/>
                </a:lnTo>
                <a:lnTo>
                  <a:pt x="461" y="391"/>
                </a:lnTo>
                <a:lnTo>
                  <a:pt x="438" y="395"/>
                </a:lnTo>
                <a:lnTo>
                  <a:pt x="415" y="401"/>
                </a:lnTo>
                <a:lnTo>
                  <a:pt x="394" y="407"/>
                </a:lnTo>
                <a:lnTo>
                  <a:pt x="372" y="410"/>
                </a:lnTo>
                <a:lnTo>
                  <a:pt x="351" y="416"/>
                </a:lnTo>
                <a:lnTo>
                  <a:pt x="334" y="420"/>
                </a:lnTo>
                <a:lnTo>
                  <a:pt x="315" y="426"/>
                </a:lnTo>
                <a:lnTo>
                  <a:pt x="298" y="430"/>
                </a:lnTo>
                <a:lnTo>
                  <a:pt x="282" y="435"/>
                </a:lnTo>
                <a:lnTo>
                  <a:pt x="267" y="441"/>
                </a:lnTo>
                <a:lnTo>
                  <a:pt x="252" y="445"/>
                </a:lnTo>
                <a:lnTo>
                  <a:pt x="238" y="451"/>
                </a:lnTo>
                <a:lnTo>
                  <a:pt x="225" y="455"/>
                </a:lnTo>
                <a:lnTo>
                  <a:pt x="211" y="460"/>
                </a:lnTo>
                <a:lnTo>
                  <a:pt x="200" y="464"/>
                </a:lnTo>
                <a:lnTo>
                  <a:pt x="188" y="470"/>
                </a:lnTo>
                <a:lnTo>
                  <a:pt x="179" y="478"/>
                </a:lnTo>
                <a:lnTo>
                  <a:pt x="169" y="483"/>
                </a:lnTo>
                <a:lnTo>
                  <a:pt x="159" y="489"/>
                </a:lnTo>
                <a:lnTo>
                  <a:pt x="150" y="495"/>
                </a:lnTo>
                <a:lnTo>
                  <a:pt x="142" y="501"/>
                </a:lnTo>
                <a:lnTo>
                  <a:pt x="136" y="504"/>
                </a:lnTo>
                <a:lnTo>
                  <a:pt x="129" y="508"/>
                </a:lnTo>
                <a:lnTo>
                  <a:pt x="123" y="512"/>
                </a:lnTo>
                <a:lnTo>
                  <a:pt x="119" y="514"/>
                </a:lnTo>
                <a:lnTo>
                  <a:pt x="113" y="516"/>
                </a:lnTo>
                <a:lnTo>
                  <a:pt x="110" y="518"/>
                </a:lnTo>
                <a:lnTo>
                  <a:pt x="106" y="520"/>
                </a:lnTo>
                <a:lnTo>
                  <a:pt x="100" y="522"/>
                </a:lnTo>
                <a:lnTo>
                  <a:pt x="94" y="524"/>
                </a:lnTo>
                <a:lnTo>
                  <a:pt x="88" y="522"/>
                </a:lnTo>
                <a:lnTo>
                  <a:pt x="83" y="520"/>
                </a:lnTo>
                <a:lnTo>
                  <a:pt x="77" y="518"/>
                </a:lnTo>
                <a:lnTo>
                  <a:pt x="69" y="512"/>
                </a:lnTo>
                <a:lnTo>
                  <a:pt x="62" y="506"/>
                </a:lnTo>
                <a:lnTo>
                  <a:pt x="52" y="501"/>
                </a:lnTo>
                <a:lnTo>
                  <a:pt x="44" y="493"/>
                </a:lnTo>
                <a:lnTo>
                  <a:pt x="35" y="483"/>
                </a:lnTo>
                <a:lnTo>
                  <a:pt x="27" y="478"/>
                </a:lnTo>
                <a:lnTo>
                  <a:pt x="19" y="472"/>
                </a:lnTo>
                <a:lnTo>
                  <a:pt x="14" y="464"/>
                </a:lnTo>
                <a:lnTo>
                  <a:pt x="8" y="456"/>
                </a:lnTo>
                <a:lnTo>
                  <a:pt x="4" y="449"/>
                </a:lnTo>
                <a:lnTo>
                  <a:pt x="2" y="443"/>
                </a:lnTo>
                <a:lnTo>
                  <a:pt x="0" y="435"/>
                </a:lnTo>
                <a:lnTo>
                  <a:pt x="0" y="430"/>
                </a:lnTo>
                <a:lnTo>
                  <a:pt x="0" y="428"/>
                </a:lnTo>
                <a:lnTo>
                  <a:pt x="0" y="424"/>
                </a:lnTo>
                <a:lnTo>
                  <a:pt x="0" y="420"/>
                </a:lnTo>
                <a:lnTo>
                  <a:pt x="2" y="416"/>
                </a:lnTo>
                <a:lnTo>
                  <a:pt x="6" y="407"/>
                </a:lnTo>
                <a:lnTo>
                  <a:pt x="10" y="395"/>
                </a:lnTo>
                <a:lnTo>
                  <a:pt x="15" y="382"/>
                </a:lnTo>
                <a:lnTo>
                  <a:pt x="25" y="368"/>
                </a:lnTo>
                <a:lnTo>
                  <a:pt x="29" y="361"/>
                </a:lnTo>
                <a:lnTo>
                  <a:pt x="35" y="353"/>
                </a:lnTo>
                <a:lnTo>
                  <a:pt x="40" y="345"/>
                </a:lnTo>
                <a:lnTo>
                  <a:pt x="46" y="337"/>
                </a:lnTo>
                <a:lnTo>
                  <a:pt x="56" y="322"/>
                </a:lnTo>
                <a:lnTo>
                  <a:pt x="62" y="305"/>
                </a:lnTo>
                <a:lnTo>
                  <a:pt x="65" y="295"/>
                </a:lnTo>
                <a:lnTo>
                  <a:pt x="69" y="286"/>
                </a:lnTo>
                <a:lnTo>
                  <a:pt x="71" y="276"/>
                </a:lnTo>
                <a:lnTo>
                  <a:pt x="73" y="265"/>
                </a:lnTo>
                <a:lnTo>
                  <a:pt x="75" y="253"/>
                </a:lnTo>
                <a:lnTo>
                  <a:pt x="77" y="242"/>
                </a:lnTo>
                <a:lnTo>
                  <a:pt x="79" y="228"/>
                </a:lnTo>
                <a:lnTo>
                  <a:pt x="81" y="215"/>
                </a:lnTo>
                <a:lnTo>
                  <a:pt x="81" y="201"/>
                </a:lnTo>
                <a:lnTo>
                  <a:pt x="81" y="186"/>
                </a:lnTo>
                <a:lnTo>
                  <a:pt x="83" y="170"/>
                </a:lnTo>
                <a:lnTo>
                  <a:pt x="83" y="153"/>
                </a:lnTo>
                <a:lnTo>
                  <a:pt x="83" y="138"/>
                </a:lnTo>
                <a:lnTo>
                  <a:pt x="83" y="124"/>
                </a:lnTo>
                <a:lnTo>
                  <a:pt x="83" y="111"/>
                </a:lnTo>
                <a:lnTo>
                  <a:pt x="85" y="99"/>
                </a:lnTo>
                <a:lnTo>
                  <a:pt x="85" y="88"/>
                </a:lnTo>
                <a:lnTo>
                  <a:pt x="86" y="76"/>
                </a:lnTo>
                <a:lnTo>
                  <a:pt x="88" y="65"/>
                </a:lnTo>
                <a:lnTo>
                  <a:pt x="90" y="55"/>
                </a:lnTo>
                <a:lnTo>
                  <a:pt x="92" y="48"/>
                </a:lnTo>
                <a:lnTo>
                  <a:pt x="94" y="38"/>
                </a:lnTo>
                <a:lnTo>
                  <a:pt x="96" y="32"/>
                </a:lnTo>
                <a:lnTo>
                  <a:pt x="98" y="25"/>
                </a:lnTo>
                <a:lnTo>
                  <a:pt x="100" y="19"/>
                </a:lnTo>
                <a:lnTo>
                  <a:pt x="102" y="15"/>
                </a:lnTo>
                <a:lnTo>
                  <a:pt x="104" y="11"/>
                </a:lnTo>
                <a:lnTo>
                  <a:pt x="106" y="7"/>
                </a:lnTo>
                <a:lnTo>
                  <a:pt x="111" y="3"/>
                </a:lnTo>
                <a:lnTo>
                  <a:pt x="117" y="2"/>
                </a:lnTo>
                <a:lnTo>
                  <a:pt x="125" y="0"/>
                </a:lnTo>
                <a:lnTo>
                  <a:pt x="133" y="0"/>
                </a:lnTo>
                <a:lnTo>
                  <a:pt x="136" y="0"/>
                </a:lnTo>
                <a:lnTo>
                  <a:pt x="142" y="2"/>
                </a:lnTo>
                <a:lnTo>
                  <a:pt x="148" y="3"/>
                </a:lnTo>
                <a:lnTo>
                  <a:pt x="152" y="5"/>
                </a:lnTo>
                <a:lnTo>
                  <a:pt x="157" y="9"/>
                </a:lnTo>
                <a:lnTo>
                  <a:pt x="163" y="13"/>
                </a:lnTo>
                <a:lnTo>
                  <a:pt x="171" y="17"/>
                </a:lnTo>
                <a:lnTo>
                  <a:pt x="177" y="21"/>
                </a:lnTo>
                <a:lnTo>
                  <a:pt x="182" y="27"/>
                </a:lnTo>
                <a:lnTo>
                  <a:pt x="188" y="30"/>
                </a:lnTo>
                <a:lnTo>
                  <a:pt x="194" y="36"/>
                </a:lnTo>
                <a:lnTo>
                  <a:pt x="200" y="42"/>
                </a:lnTo>
                <a:lnTo>
                  <a:pt x="204" y="46"/>
                </a:lnTo>
                <a:lnTo>
                  <a:pt x="207" y="50"/>
                </a:lnTo>
                <a:lnTo>
                  <a:pt x="213" y="59"/>
                </a:lnTo>
                <a:lnTo>
                  <a:pt x="219" y="67"/>
                </a:lnTo>
                <a:lnTo>
                  <a:pt x="223" y="75"/>
                </a:lnTo>
                <a:lnTo>
                  <a:pt x="223" y="82"/>
                </a:lnTo>
                <a:lnTo>
                  <a:pt x="225" y="88"/>
                </a:lnTo>
                <a:lnTo>
                  <a:pt x="223" y="98"/>
                </a:lnTo>
                <a:lnTo>
                  <a:pt x="223" y="109"/>
                </a:lnTo>
                <a:lnTo>
                  <a:pt x="219" y="123"/>
                </a:lnTo>
                <a:lnTo>
                  <a:pt x="217" y="136"/>
                </a:lnTo>
                <a:lnTo>
                  <a:pt x="213" y="151"/>
                </a:lnTo>
                <a:lnTo>
                  <a:pt x="209" y="169"/>
                </a:lnTo>
                <a:lnTo>
                  <a:pt x="205" y="188"/>
                </a:lnTo>
                <a:lnTo>
                  <a:pt x="202" y="207"/>
                </a:lnTo>
                <a:lnTo>
                  <a:pt x="198" y="218"/>
                </a:lnTo>
                <a:lnTo>
                  <a:pt x="198" y="228"/>
                </a:lnTo>
                <a:lnTo>
                  <a:pt x="196" y="240"/>
                </a:lnTo>
                <a:lnTo>
                  <a:pt x="194" y="249"/>
                </a:lnTo>
                <a:lnTo>
                  <a:pt x="194" y="257"/>
                </a:lnTo>
                <a:lnTo>
                  <a:pt x="192" y="265"/>
                </a:lnTo>
                <a:lnTo>
                  <a:pt x="192" y="272"/>
                </a:lnTo>
                <a:lnTo>
                  <a:pt x="192" y="278"/>
                </a:lnTo>
                <a:lnTo>
                  <a:pt x="192" y="284"/>
                </a:lnTo>
                <a:lnTo>
                  <a:pt x="192" y="289"/>
                </a:lnTo>
                <a:lnTo>
                  <a:pt x="194" y="295"/>
                </a:lnTo>
                <a:lnTo>
                  <a:pt x="194" y="299"/>
                </a:lnTo>
                <a:lnTo>
                  <a:pt x="196" y="307"/>
                </a:lnTo>
                <a:lnTo>
                  <a:pt x="202" y="313"/>
                </a:lnTo>
                <a:lnTo>
                  <a:pt x="204" y="314"/>
                </a:lnTo>
                <a:lnTo>
                  <a:pt x="205" y="314"/>
                </a:lnTo>
                <a:lnTo>
                  <a:pt x="209" y="314"/>
                </a:lnTo>
                <a:lnTo>
                  <a:pt x="213" y="316"/>
                </a:lnTo>
                <a:lnTo>
                  <a:pt x="217" y="316"/>
                </a:lnTo>
                <a:lnTo>
                  <a:pt x="221" y="316"/>
                </a:lnTo>
                <a:lnTo>
                  <a:pt x="225" y="316"/>
                </a:lnTo>
                <a:lnTo>
                  <a:pt x="230" y="316"/>
                </a:lnTo>
                <a:lnTo>
                  <a:pt x="236" y="316"/>
                </a:lnTo>
                <a:lnTo>
                  <a:pt x="244" y="316"/>
                </a:lnTo>
                <a:lnTo>
                  <a:pt x="250" y="314"/>
                </a:lnTo>
                <a:lnTo>
                  <a:pt x="257" y="314"/>
                </a:lnTo>
                <a:lnTo>
                  <a:pt x="265" y="313"/>
                </a:lnTo>
                <a:lnTo>
                  <a:pt x="275" y="313"/>
                </a:lnTo>
                <a:lnTo>
                  <a:pt x="284" y="311"/>
                </a:lnTo>
                <a:lnTo>
                  <a:pt x="294" y="309"/>
                </a:lnTo>
                <a:lnTo>
                  <a:pt x="303" y="307"/>
                </a:lnTo>
                <a:lnTo>
                  <a:pt x="315" y="305"/>
                </a:lnTo>
                <a:lnTo>
                  <a:pt x="326" y="303"/>
                </a:lnTo>
                <a:lnTo>
                  <a:pt x="338" y="301"/>
                </a:lnTo>
                <a:lnTo>
                  <a:pt x="349" y="297"/>
                </a:lnTo>
                <a:lnTo>
                  <a:pt x="363" y="295"/>
                </a:lnTo>
                <a:lnTo>
                  <a:pt x="376" y="291"/>
                </a:lnTo>
                <a:lnTo>
                  <a:pt x="392" y="288"/>
                </a:lnTo>
                <a:lnTo>
                  <a:pt x="407" y="286"/>
                </a:lnTo>
                <a:lnTo>
                  <a:pt x="422" y="282"/>
                </a:lnTo>
                <a:lnTo>
                  <a:pt x="438" y="278"/>
                </a:lnTo>
                <a:lnTo>
                  <a:pt x="455" y="272"/>
                </a:lnTo>
                <a:lnTo>
                  <a:pt x="472" y="268"/>
                </a:lnTo>
                <a:lnTo>
                  <a:pt x="490" y="265"/>
                </a:lnTo>
                <a:lnTo>
                  <a:pt x="509" y="259"/>
                </a:lnTo>
                <a:lnTo>
                  <a:pt x="526" y="253"/>
                </a:lnTo>
                <a:lnTo>
                  <a:pt x="545" y="249"/>
                </a:lnTo>
                <a:lnTo>
                  <a:pt x="562" y="245"/>
                </a:lnTo>
                <a:lnTo>
                  <a:pt x="580" y="240"/>
                </a:lnTo>
                <a:lnTo>
                  <a:pt x="595" y="236"/>
                </a:lnTo>
                <a:lnTo>
                  <a:pt x="612" y="232"/>
                </a:lnTo>
                <a:lnTo>
                  <a:pt x="628" y="228"/>
                </a:lnTo>
                <a:lnTo>
                  <a:pt x="641" y="224"/>
                </a:lnTo>
                <a:lnTo>
                  <a:pt x="657" y="220"/>
                </a:lnTo>
                <a:lnTo>
                  <a:pt x="670" y="217"/>
                </a:lnTo>
                <a:lnTo>
                  <a:pt x="683" y="213"/>
                </a:lnTo>
                <a:lnTo>
                  <a:pt x="695" y="211"/>
                </a:lnTo>
                <a:lnTo>
                  <a:pt x="708" y="207"/>
                </a:lnTo>
                <a:lnTo>
                  <a:pt x="720" y="205"/>
                </a:lnTo>
                <a:lnTo>
                  <a:pt x="729" y="201"/>
                </a:lnTo>
                <a:lnTo>
                  <a:pt x="741" y="199"/>
                </a:lnTo>
                <a:lnTo>
                  <a:pt x="751" y="197"/>
                </a:lnTo>
                <a:lnTo>
                  <a:pt x="760" y="195"/>
                </a:lnTo>
                <a:lnTo>
                  <a:pt x="770" y="192"/>
                </a:lnTo>
                <a:lnTo>
                  <a:pt x="777" y="190"/>
                </a:lnTo>
                <a:lnTo>
                  <a:pt x="785" y="190"/>
                </a:lnTo>
                <a:lnTo>
                  <a:pt x="793" y="188"/>
                </a:lnTo>
                <a:lnTo>
                  <a:pt x="801" y="186"/>
                </a:lnTo>
                <a:lnTo>
                  <a:pt x="806" y="184"/>
                </a:lnTo>
                <a:lnTo>
                  <a:pt x="812" y="184"/>
                </a:lnTo>
                <a:lnTo>
                  <a:pt x="818" y="182"/>
                </a:lnTo>
                <a:lnTo>
                  <a:pt x="824" y="182"/>
                </a:lnTo>
                <a:lnTo>
                  <a:pt x="827" y="180"/>
                </a:lnTo>
                <a:lnTo>
                  <a:pt x="831" y="180"/>
                </a:lnTo>
                <a:lnTo>
                  <a:pt x="835" y="180"/>
                </a:lnTo>
                <a:lnTo>
                  <a:pt x="837" y="180"/>
                </a:lnTo>
                <a:lnTo>
                  <a:pt x="841" y="180"/>
                </a:lnTo>
                <a:lnTo>
                  <a:pt x="849" y="180"/>
                </a:lnTo>
                <a:lnTo>
                  <a:pt x="860" y="182"/>
                </a:lnTo>
                <a:lnTo>
                  <a:pt x="872" y="184"/>
                </a:lnTo>
                <a:lnTo>
                  <a:pt x="883" y="188"/>
                </a:lnTo>
                <a:lnTo>
                  <a:pt x="896" y="192"/>
                </a:lnTo>
                <a:lnTo>
                  <a:pt x="908" y="195"/>
                </a:lnTo>
                <a:lnTo>
                  <a:pt x="935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29"/>
          <p:cNvSpPr/>
          <p:nvPr/>
        </p:nvSpPr>
        <p:spPr>
          <a:xfrm>
            <a:off x="6792840" y="2994120"/>
            <a:ext cx="568440" cy="209520"/>
          </a:xfrm>
          <a:custGeom>
            <a:avLst/>
            <a:gdLst/>
            <a:ahLst/>
            <a:rect l="l" t="t" r="r" b="b"/>
            <a:pathLst>
              <a:path w="716" h="265">
                <a:moveTo>
                  <a:pt x="107" y="265"/>
                </a:moveTo>
                <a:lnTo>
                  <a:pt x="98" y="263"/>
                </a:lnTo>
                <a:lnTo>
                  <a:pt x="88" y="263"/>
                </a:lnTo>
                <a:lnTo>
                  <a:pt x="80" y="259"/>
                </a:lnTo>
                <a:lnTo>
                  <a:pt x="71" y="258"/>
                </a:lnTo>
                <a:lnTo>
                  <a:pt x="61" y="252"/>
                </a:lnTo>
                <a:lnTo>
                  <a:pt x="53" y="248"/>
                </a:lnTo>
                <a:lnTo>
                  <a:pt x="36" y="238"/>
                </a:lnTo>
                <a:lnTo>
                  <a:pt x="27" y="233"/>
                </a:lnTo>
                <a:lnTo>
                  <a:pt x="19" y="227"/>
                </a:lnTo>
                <a:lnTo>
                  <a:pt x="13" y="219"/>
                </a:lnTo>
                <a:lnTo>
                  <a:pt x="9" y="211"/>
                </a:lnTo>
                <a:lnTo>
                  <a:pt x="5" y="204"/>
                </a:lnTo>
                <a:lnTo>
                  <a:pt x="2" y="198"/>
                </a:lnTo>
                <a:lnTo>
                  <a:pt x="0" y="190"/>
                </a:lnTo>
                <a:lnTo>
                  <a:pt x="0" y="187"/>
                </a:lnTo>
                <a:lnTo>
                  <a:pt x="0" y="181"/>
                </a:lnTo>
                <a:lnTo>
                  <a:pt x="2" y="179"/>
                </a:lnTo>
                <a:lnTo>
                  <a:pt x="5" y="175"/>
                </a:lnTo>
                <a:lnTo>
                  <a:pt x="9" y="173"/>
                </a:lnTo>
                <a:lnTo>
                  <a:pt x="17" y="169"/>
                </a:lnTo>
                <a:lnTo>
                  <a:pt x="21" y="169"/>
                </a:lnTo>
                <a:lnTo>
                  <a:pt x="25" y="167"/>
                </a:lnTo>
                <a:lnTo>
                  <a:pt x="30" y="165"/>
                </a:lnTo>
                <a:lnTo>
                  <a:pt x="34" y="163"/>
                </a:lnTo>
                <a:lnTo>
                  <a:pt x="40" y="162"/>
                </a:lnTo>
                <a:lnTo>
                  <a:pt x="48" y="160"/>
                </a:lnTo>
                <a:lnTo>
                  <a:pt x="55" y="156"/>
                </a:lnTo>
                <a:lnTo>
                  <a:pt x="63" y="154"/>
                </a:lnTo>
                <a:lnTo>
                  <a:pt x="73" y="150"/>
                </a:lnTo>
                <a:lnTo>
                  <a:pt x="84" y="146"/>
                </a:lnTo>
                <a:lnTo>
                  <a:pt x="96" y="142"/>
                </a:lnTo>
                <a:lnTo>
                  <a:pt x="109" y="139"/>
                </a:lnTo>
                <a:lnTo>
                  <a:pt x="123" y="133"/>
                </a:lnTo>
                <a:lnTo>
                  <a:pt x="140" y="129"/>
                </a:lnTo>
                <a:lnTo>
                  <a:pt x="157" y="123"/>
                </a:lnTo>
                <a:lnTo>
                  <a:pt x="176" y="116"/>
                </a:lnTo>
                <a:lnTo>
                  <a:pt x="195" y="110"/>
                </a:lnTo>
                <a:lnTo>
                  <a:pt x="217" y="102"/>
                </a:lnTo>
                <a:lnTo>
                  <a:pt x="242" y="94"/>
                </a:lnTo>
                <a:lnTo>
                  <a:pt x="265" y="87"/>
                </a:lnTo>
                <a:lnTo>
                  <a:pt x="291" y="77"/>
                </a:lnTo>
                <a:lnTo>
                  <a:pt x="320" y="68"/>
                </a:lnTo>
                <a:lnTo>
                  <a:pt x="345" y="60"/>
                </a:lnTo>
                <a:lnTo>
                  <a:pt x="370" y="52"/>
                </a:lnTo>
                <a:lnTo>
                  <a:pt x="395" y="46"/>
                </a:lnTo>
                <a:lnTo>
                  <a:pt x="418" y="41"/>
                </a:lnTo>
                <a:lnTo>
                  <a:pt x="439" y="33"/>
                </a:lnTo>
                <a:lnTo>
                  <a:pt x="458" y="29"/>
                </a:lnTo>
                <a:lnTo>
                  <a:pt x="480" y="23"/>
                </a:lnTo>
                <a:lnTo>
                  <a:pt x="497" y="20"/>
                </a:lnTo>
                <a:lnTo>
                  <a:pt x="514" y="16"/>
                </a:lnTo>
                <a:lnTo>
                  <a:pt x="531" y="12"/>
                </a:lnTo>
                <a:lnTo>
                  <a:pt x="545" y="8"/>
                </a:lnTo>
                <a:lnTo>
                  <a:pt x="560" y="6"/>
                </a:lnTo>
                <a:lnTo>
                  <a:pt x="572" y="4"/>
                </a:lnTo>
                <a:lnTo>
                  <a:pt x="583" y="2"/>
                </a:lnTo>
                <a:lnTo>
                  <a:pt x="595" y="0"/>
                </a:lnTo>
                <a:lnTo>
                  <a:pt x="604" y="0"/>
                </a:lnTo>
                <a:lnTo>
                  <a:pt x="618" y="2"/>
                </a:lnTo>
                <a:lnTo>
                  <a:pt x="631" y="2"/>
                </a:lnTo>
                <a:lnTo>
                  <a:pt x="643" y="6"/>
                </a:lnTo>
                <a:lnTo>
                  <a:pt x="656" y="10"/>
                </a:lnTo>
                <a:lnTo>
                  <a:pt x="668" y="14"/>
                </a:lnTo>
                <a:lnTo>
                  <a:pt x="679" y="18"/>
                </a:lnTo>
                <a:lnTo>
                  <a:pt x="689" y="21"/>
                </a:lnTo>
                <a:lnTo>
                  <a:pt x="698" y="27"/>
                </a:lnTo>
                <a:lnTo>
                  <a:pt x="702" y="37"/>
                </a:lnTo>
                <a:lnTo>
                  <a:pt x="706" y="46"/>
                </a:lnTo>
                <a:lnTo>
                  <a:pt x="710" y="56"/>
                </a:lnTo>
                <a:lnTo>
                  <a:pt x="714" y="66"/>
                </a:lnTo>
                <a:lnTo>
                  <a:pt x="716" y="73"/>
                </a:lnTo>
                <a:lnTo>
                  <a:pt x="716" y="81"/>
                </a:lnTo>
                <a:lnTo>
                  <a:pt x="714" y="85"/>
                </a:lnTo>
                <a:lnTo>
                  <a:pt x="714" y="89"/>
                </a:lnTo>
                <a:lnTo>
                  <a:pt x="712" y="91"/>
                </a:lnTo>
                <a:lnTo>
                  <a:pt x="710" y="94"/>
                </a:lnTo>
                <a:lnTo>
                  <a:pt x="708" y="96"/>
                </a:lnTo>
                <a:lnTo>
                  <a:pt x="704" y="98"/>
                </a:lnTo>
                <a:lnTo>
                  <a:pt x="702" y="100"/>
                </a:lnTo>
                <a:lnTo>
                  <a:pt x="698" y="102"/>
                </a:lnTo>
                <a:lnTo>
                  <a:pt x="695" y="104"/>
                </a:lnTo>
                <a:lnTo>
                  <a:pt x="691" y="106"/>
                </a:lnTo>
                <a:lnTo>
                  <a:pt x="687" y="108"/>
                </a:lnTo>
                <a:lnTo>
                  <a:pt x="681" y="110"/>
                </a:lnTo>
                <a:lnTo>
                  <a:pt x="675" y="112"/>
                </a:lnTo>
                <a:lnTo>
                  <a:pt x="670" y="116"/>
                </a:lnTo>
                <a:lnTo>
                  <a:pt x="662" y="117"/>
                </a:lnTo>
                <a:lnTo>
                  <a:pt x="654" y="121"/>
                </a:lnTo>
                <a:lnTo>
                  <a:pt x="647" y="123"/>
                </a:lnTo>
                <a:lnTo>
                  <a:pt x="639" y="127"/>
                </a:lnTo>
                <a:lnTo>
                  <a:pt x="631" y="129"/>
                </a:lnTo>
                <a:lnTo>
                  <a:pt x="622" y="133"/>
                </a:lnTo>
                <a:lnTo>
                  <a:pt x="612" y="135"/>
                </a:lnTo>
                <a:lnTo>
                  <a:pt x="602" y="139"/>
                </a:lnTo>
                <a:lnTo>
                  <a:pt x="591" y="142"/>
                </a:lnTo>
                <a:lnTo>
                  <a:pt x="579" y="146"/>
                </a:lnTo>
                <a:lnTo>
                  <a:pt x="568" y="148"/>
                </a:lnTo>
                <a:lnTo>
                  <a:pt x="556" y="152"/>
                </a:lnTo>
                <a:lnTo>
                  <a:pt x="543" y="156"/>
                </a:lnTo>
                <a:lnTo>
                  <a:pt x="531" y="160"/>
                </a:lnTo>
                <a:lnTo>
                  <a:pt x="518" y="163"/>
                </a:lnTo>
                <a:lnTo>
                  <a:pt x="503" y="167"/>
                </a:lnTo>
                <a:lnTo>
                  <a:pt x="489" y="171"/>
                </a:lnTo>
                <a:lnTo>
                  <a:pt x="458" y="179"/>
                </a:lnTo>
                <a:lnTo>
                  <a:pt x="426" y="187"/>
                </a:lnTo>
                <a:lnTo>
                  <a:pt x="409" y="188"/>
                </a:lnTo>
                <a:lnTo>
                  <a:pt x="391" y="192"/>
                </a:lnTo>
                <a:lnTo>
                  <a:pt x="376" y="196"/>
                </a:lnTo>
                <a:lnTo>
                  <a:pt x="359" y="200"/>
                </a:lnTo>
                <a:lnTo>
                  <a:pt x="343" y="204"/>
                </a:lnTo>
                <a:lnTo>
                  <a:pt x="328" y="208"/>
                </a:lnTo>
                <a:lnTo>
                  <a:pt x="314" y="210"/>
                </a:lnTo>
                <a:lnTo>
                  <a:pt x="299" y="213"/>
                </a:lnTo>
                <a:lnTo>
                  <a:pt x="286" y="215"/>
                </a:lnTo>
                <a:lnTo>
                  <a:pt x="272" y="219"/>
                </a:lnTo>
                <a:lnTo>
                  <a:pt x="261" y="221"/>
                </a:lnTo>
                <a:lnTo>
                  <a:pt x="247" y="225"/>
                </a:lnTo>
                <a:lnTo>
                  <a:pt x="236" y="227"/>
                </a:lnTo>
                <a:lnTo>
                  <a:pt x="224" y="231"/>
                </a:lnTo>
                <a:lnTo>
                  <a:pt x="215" y="233"/>
                </a:lnTo>
                <a:lnTo>
                  <a:pt x="205" y="235"/>
                </a:lnTo>
                <a:lnTo>
                  <a:pt x="194" y="238"/>
                </a:lnTo>
                <a:lnTo>
                  <a:pt x="186" y="240"/>
                </a:lnTo>
                <a:lnTo>
                  <a:pt x="176" y="242"/>
                </a:lnTo>
                <a:lnTo>
                  <a:pt x="169" y="244"/>
                </a:lnTo>
                <a:lnTo>
                  <a:pt x="161" y="246"/>
                </a:lnTo>
                <a:lnTo>
                  <a:pt x="153" y="248"/>
                </a:lnTo>
                <a:lnTo>
                  <a:pt x="146" y="250"/>
                </a:lnTo>
                <a:lnTo>
                  <a:pt x="140" y="252"/>
                </a:lnTo>
                <a:lnTo>
                  <a:pt x="134" y="254"/>
                </a:lnTo>
                <a:lnTo>
                  <a:pt x="128" y="256"/>
                </a:lnTo>
                <a:lnTo>
                  <a:pt x="124" y="258"/>
                </a:lnTo>
                <a:lnTo>
                  <a:pt x="119" y="259"/>
                </a:lnTo>
                <a:lnTo>
                  <a:pt x="115" y="261"/>
                </a:lnTo>
                <a:lnTo>
                  <a:pt x="111" y="261"/>
                </a:lnTo>
                <a:lnTo>
                  <a:pt x="109" y="263"/>
                </a:lnTo>
                <a:lnTo>
                  <a:pt x="107" y="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30"/>
          <p:cNvSpPr/>
          <p:nvPr/>
        </p:nvSpPr>
        <p:spPr>
          <a:xfrm>
            <a:off x="6191280" y="2994120"/>
            <a:ext cx="517320" cy="806400"/>
          </a:xfrm>
          <a:custGeom>
            <a:avLst/>
            <a:gdLst/>
            <a:ahLst/>
            <a:rect l="l" t="t" r="r" b="b"/>
            <a:pathLst>
              <a:path w="653" h="1018">
                <a:moveTo>
                  <a:pt x="534" y="634"/>
                </a:moveTo>
                <a:lnTo>
                  <a:pt x="530" y="657"/>
                </a:lnTo>
                <a:lnTo>
                  <a:pt x="528" y="680"/>
                </a:lnTo>
                <a:lnTo>
                  <a:pt x="525" y="701"/>
                </a:lnTo>
                <a:lnTo>
                  <a:pt x="521" y="722"/>
                </a:lnTo>
                <a:lnTo>
                  <a:pt x="517" y="743"/>
                </a:lnTo>
                <a:lnTo>
                  <a:pt x="515" y="762"/>
                </a:lnTo>
                <a:lnTo>
                  <a:pt x="511" y="782"/>
                </a:lnTo>
                <a:lnTo>
                  <a:pt x="507" y="799"/>
                </a:lnTo>
                <a:lnTo>
                  <a:pt x="503" y="818"/>
                </a:lnTo>
                <a:lnTo>
                  <a:pt x="501" y="833"/>
                </a:lnTo>
                <a:lnTo>
                  <a:pt x="498" y="851"/>
                </a:lnTo>
                <a:lnTo>
                  <a:pt x="494" y="866"/>
                </a:lnTo>
                <a:lnTo>
                  <a:pt x="492" y="879"/>
                </a:lnTo>
                <a:lnTo>
                  <a:pt x="488" y="895"/>
                </a:lnTo>
                <a:lnTo>
                  <a:pt x="484" y="906"/>
                </a:lnTo>
                <a:lnTo>
                  <a:pt x="480" y="920"/>
                </a:lnTo>
                <a:lnTo>
                  <a:pt x="478" y="931"/>
                </a:lnTo>
                <a:lnTo>
                  <a:pt x="475" y="943"/>
                </a:lnTo>
                <a:lnTo>
                  <a:pt x="471" y="952"/>
                </a:lnTo>
                <a:lnTo>
                  <a:pt x="467" y="962"/>
                </a:lnTo>
                <a:lnTo>
                  <a:pt x="465" y="970"/>
                </a:lnTo>
                <a:lnTo>
                  <a:pt x="461" y="979"/>
                </a:lnTo>
                <a:lnTo>
                  <a:pt x="457" y="985"/>
                </a:lnTo>
                <a:lnTo>
                  <a:pt x="453" y="993"/>
                </a:lnTo>
                <a:lnTo>
                  <a:pt x="452" y="998"/>
                </a:lnTo>
                <a:lnTo>
                  <a:pt x="448" y="1002"/>
                </a:lnTo>
                <a:lnTo>
                  <a:pt x="444" y="1008"/>
                </a:lnTo>
                <a:lnTo>
                  <a:pt x="440" y="1010"/>
                </a:lnTo>
                <a:lnTo>
                  <a:pt x="438" y="1014"/>
                </a:lnTo>
                <a:lnTo>
                  <a:pt x="434" y="1016"/>
                </a:lnTo>
                <a:lnTo>
                  <a:pt x="430" y="1016"/>
                </a:lnTo>
                <a:lnTo>
                  <a:pt x="429" y="1018"/>
                </a:lnTo>
                <a:lnTo>
                  <a:pt x="421" y="1016"/>
                </a:lnTo>
                <a:lnTo>
                  <a:pt x="415" y="1016"/>
                </a:lnTo>
                <a:lnTo>
                  <a:pt x="409" y="1016"/>
                </a:lnTo>
                <a:lnTo>
                  <a:pt x="406" y="1014"/>
                </a:lnTo>
                <a:lnTo>
                  <a:pt x="400" y="1014"/>
                </a:lnTo>
                <a:lnTo>
                  <a:pt x="396" y="1012"/>
                </a:lnTo>
                <a:lnTo>
                  <a:pt x="390" y="1006"/>
                </a:lnTo>
                <a:lnTo>
                  <a:pt x="386" y="1002"/>
                </a:lnTo>
                <a:lnTo>
                  <a:pt x="382" y="995"/>
                </a:lnTo>
                <a:lnTo>
                  <a:pt x="381" y="987"/>
                </a:lnTo>
                <a:lnTo>
                  <a:pt x="381" y="977"/>
                </a:lnTo>
                <a:lnTo>
                  <a:pt x="381" y="974"/>
                </a:lnTo>
                <a:lnTo>
                  <a:pt x="381" y="968"/>
                </a:lnTo>
                <a:lnTo>
                  <a:pt x="381" y="962"/>
                </a:lnTo>
                <a:lnTo>
                  <a:pt x="382" y="952"/>
                </a:lnTo>
                <a:lnTo>
                  <a:pt x="384" y="943"/>
                </a:lnTo>
                <a:lnTo>
                  <a:pt x="384" y="929"/>
                </a:lnTo>
                <a:lnTo>
                  <a:pt x="386" y="916"/>
                </a:lnTo>
                <a:lnTo>
                  <a:pt x="388" y="901"/>
                </a:lnTo>
                <a:lnTo>
                  <a:pt x="392" y="881"/>
                </a:lnTo>
                <a:lnTo>
                  <a:pt x="394" y="862"/>
                </a:lnTo>
                <a:lnTo>
                  <a:pt x="398" y="843"/>
                </a:lnTo>
                <a:lnTo>
                  <a:pt x="400" y="820"/>
                </a:lnTo>
                <a:lnTo>
                  <a:pt x="404" y="795"/>
                </a:lnTo>
                <a:lnTo>
                  <a:pt x="407" y="770"/>
                </a:lnTo>
                <a:lnTo>
                  <a:pt x="411" y="743"/>
                </a:lnTo>
                <a:lnTo>
                  <a:pt x="415" y="714"/>
                </a:lnTo>
                <a:lnTo>
                  <a:pt x="421" y="659"/>
                </a:lnTo>
                <a:lnTo>
                  <a:pt x="425" y="607"/>
                </a:lnTo>
                <a:lnTo>
                  <a:pt x="429" y="557"/>
                </a:lnTo>
                <a:lnTo>
                  <a:pt x="432" y="507"/>
                </a:lnTo>
                <a:lnTo>
                  <a:pt x="432" y="484"/>
                </a:lnTo>
                <a:lnTo>
                  <a:pt x="434" y="459"/>
                </a:lnTo>
                <a:lnTo>
                  <a:pt x="436" y="436"/>
                </a:lnTo>
                <a:lnTo>
                  <a:pt x="436" y="415"/>
                </a:lnTo>
                <a:lnTo>
                  <a:pt x="438" y="392"/>
                </a:lnTo>
                <a:lnTo>
                  <a:pt x="438" y="371"/>
                </a:lnTo>
                <a:lnTo>
                  <a:pt x="438" y="352"/>
                </a:lnTo>
                <a:lnTo>
                  <a:pt x="440" y="330"/>
                </a:lnTo>
                <a:lnTo>
                  <a:pt x="440" y="311"/>
                </a:lnTo>
                <a:lnTo>
                  <a:pt x="440" y="294"/>
                </a:lnTo>
                <a:lnTo>
                  <a:pt x="438" y="277"/>
                </a:lnTo>
                <a:lnTo>
                  <a:pt x="438" y="261"/>
                </a:lnTo>
                <a:lnTo>
                  <a:pt x="438" y="248"/>
                </a:lnTo>
                <a:lnTo>
                  <a:pt x="438" y="235"/>
                </a:lnTo>
                <a:lnTo>
                  <a:pt x="438" y="221"/>
                </a:lnTo>
                <a:lnTo>
                  <a:pt x="438" y="211"/>
                </a:lnTo>
                <a:lnTo>
                  <a:pt x="436" y="200"/>
                </a:lnTo>
                <a:lnTo>
                  <a:pt x="436" y="192"/>
                </a:lnTo>
                <a:lnTo>
                  <a:pt x="436" y="185"/>
                </a:lnTo>
                <a:lnTo>
                  <a:pt x="434" y="177"/>
                </a:lnTo>
                <a:lnTo>
                  <a:pt x="432" y="171"/>
                </a:lnTo>
                <a:lnTo>
                  <a:pt x="432" y="165"/>
                </a:lnTo>
                <a:lnTo>
                  <a:pt x="430" y="162"/>
                </a:lnTo>
                <a:lnTo>
                  <a:pt x="429" y="160"/>
                </a:lnTo>
                <a:lnTo>
                  <a:pt x="425" y="158"/>
                </a:lnTo>
                <a:lnTo>
                  <a:pt x="421" y="156"/>
                </a:lnTo>
                <a:lnTo>
                  <a:pt x="417" y="154"/>
                </a:lnTo>
                <a:lnTo>
                  <a:pt x="411" y="154"/>
                </a:lnTo>
                <a:lnTo>
                  <a:pt x="406" y="154"/>
                </a:lnTo>
                <a:lnTo>
                  <a:pt x="400" y="154"/>
                </a:lnTo>
                <a:lnTo>
                  <a:pt x="392" y="156"/>
                </a:lnTo>
                <a:lnTo>
                  <a:pt x="382" y="158"/>
                </a:lnTo>
                <a:lnTo>
                  <a:pt x="373" y="160"/>
                </a:lnTo>
                <a:lnTo>
                  <a:pt x="363" y="162"/>
                </a:lnTo>
                <a:lnTo>
                  <a:pt x="352" y="165"/>
                </a:lnTo>
                <a:lnTo>
                  <a:pt x="340" y="167"/>
                </a:lnTo>
                <a:lnTo>
                  <a:pt x="329" y="171"/>
                </a:lnTo>
                <a:lnTo>
                  <a:pt x="315" y="177"/>
                </a:lnTo>
                <a:lnTo>
                  <a:pt x="300" y="181"/>
                </a:lnTo>
                <a:lnTo>
                  <a:pt x="285" y="187"/>
                </a:lnTo>
                <a:lnTo>
                  <a:pt x="254" y="194"/>
                </a:lnTo>
                <a:lnTo>
                  <a:pt x="221" y="204"/>
                </a:lnTo>
                <a:lnTo>
                  <a:pt x="187" y="210"/>
                </a:lnTo>
                <a:lnTo>
                  <a:pt x="152" y="215"/>
                </a:lnTo>
                <a:lnTo>
                  <a:pt x="116" y="219"/>
                </a:lnTo>
                <a:lnTo>
                  <a:pt x="79" y="223"/>
                </a:lnTo>
                <a:lnTo>
                  <a:pt x="41" y="225"/>
                </a:lnTo>
                <a:lnTo>
                  <a:pt x="0" y="225"/>
                </a:lnTo>
                <a:lnTo>
                  <a:pt x="0" y="198"/>
                </a:lnTo>
                <a:lnTo>
                  <a:pt x="0" y="173"/>
                </a:lnTo>
                <a:lnTo>
                  <a:pt x="24" y="165"/>
                </a:lnTo>
                <a:lnTo>
                  <a:pt x="47" y="158"/>
                </a:lnTo>
                <a:lnTo>
                  <a:pt x="68" y="150"/>
                </a:lnTo>
                <a:lnTo>
                  <a:pt x="89" y="144"/>
                </a:lnTo>
                <a:lnTo>
                  <a:pt x="108" y="137"/>
                </a:lnTo>
                <a:lnTo>
                  <a:pt x="129" y="131"/>
                </a:lnTo>
                <a:lnTo>
                  <a:pt x="146" y="123"/>
                </a:lnTo>
                <a:lnTo>
                  <a:pt x="166" y="117"/>
                </a:lnTo>
                <a:lnTo>
                  <a:pt x="183" y="112"/>
                </a:lnTo>
                <a:lnTo>
                  <a:pt x="200" y="106"/>
                </a:lnTo>
                <a:lnTo>
                  <a:pt x="215" y="100"/>
                </a:lnTo>
                <a:lnTo>
                  <a:pt x="231" y="94"/>
                </a:lnTo>
                <a:lnTo>
                  <a:pt x="246" y="89"/>
                </a:lnTo>
                <a:lnTo>
                  <a:pt x="260" y="85"/>
                </a:lnTo>
                <a:lnTo>
                  <a:pt x="273" y="79"/>
                </a:lnTo>
                <a:lnTo>
                  <a:pt x="285" y="75"/>
                </a:lnTo>
                <a:lnTo>
                  <a:pt x="296" y="69"/>
                </a:lnTo>
                <a:lnTo>
                  <a:pt x="308" y="66"/>
                </a:lnTo>
                <a:lnTo>
                  <a:pt x="319" y="62"/>
                </a:lnTo>
                <a:lnTo>
                  <a:pt x="329" y="58"/>
                </a:lnTo>
                <a:lnTo>
                  <a:pt x="338" y="54"/>
                </a:lnTo>
                <a:lnTo>
                  <a:pt x="346" y="50"/>
                </a:lnTo>
                <a:lnTo>
                  <a:pt x="354" y="48"/>
                </a:lnTo>
                <a:lnTo>
                  <a:pt x="361" y="44"/>
                </a:lnTo>
                <a:lnTo>
                  <a:pt x="367" y="41"/>
                </a:lnTo>
                <a:lnTo>
                  <a:pt x="373" y="39"/>
                </a:lnTo>
                <a:lnTo>
                  <a:pt x="377" y="37"/>
                </a:lnTo>
                <a:lnTo>
                  <a:pt x="382" y="35"/>
                </a:lnTo>
                <a:lnTo>
                  <a:pt x="384" y="33"/>
                </a:lnTo>
                <a:lnTo>
                  <a:pt x="388" y="31"/>
                </a:lnTo>
                <a:lnTo>
                  <a:pt x="390" y="29"/>
                </a:lnTo>
                <a:lnTo>
                  <a:pt x="392" y="27"/>
                </a:lnTo>
                <a:lnTo>
                  <a:pt x="396" y="21"/>
                </a:lnTo>
                <a:lnTo>
                  <a:pt x="404" y="18"/>
                </a:lnTo>
                <a:lnTo>
                  <a:pt x="409" y="14"/>
                </a:lnTo>
                <a:lnTo>
                  <a:pt x="417" y="10"/>
                </a:lnTo>
                <a:lnTo>
                  <a:pt x="425" y="6"/>
                </a:lnTo>
                <a:lnTo>
                  <a:pt x="434" y="2"/>
                </a:lnTo>
                <a:lnTo>
                  <a:pt x="442" y="2"/>
                </a:lnTo>
                <a:lnTo>
                  <a:pt x="452" y="0"/>
                </a:lnTo>
                <a:lnTo>
                  <a:pt x="453" y="0"/>
                </a:lnTo>
                <a:lnTo>
                  <a:pt x="457" y="2"/>
                </a:lnTo>
                <a:lnTo>
                  <a:pt x="461" y="4"/>
                </a:lnTo>
                <a:lnTo>
                  <a:pt x="467" y="6"/>
                </a:lnTo>
                <a:lnTo>
                  <a:pt x="473" y="8"/>
                </a:lnTo>
                <a:lnTo>
                  <a:pt x="478" y="12"/>
                </a:lnTo>
                <a:lnTo>
                  <a:pt x="484" y="16"/>
                </a:lnTo>
                <a:lnTo>
                  <a:pt x="492" y="20"/>
                </a:lnTo>
                <a:lnTo>
                  <a:pt x="501" y="23"/>
                </a:lnTo>
                <a:lnTo>
                  <a:pt x="509" y="29"/>
                </a:lnTo>
                <a:lnTo>
                  <a:pt x="519" y="33"/>
                </a:lnTo>
                <a:lnTo>
                  <a:pt x="528" y="41"/>
                </a:lnTo>
                <a:lnTo>
                  <a:pt x="548" y="52"/>
                </a:lnTo>
                <a:lnTo>
                  <a:pt x="571" y="68"/>
                </a:lnTo>
                <a:lnTo>
                  <a:pt x="580" y="75"/>
                </a:lnTo>
                <a:lnTo>
                  <a:pt x="590" y="83"/>
                </a:lnTo>
                <a:lnTo>
                  <a:pt x="599" y="89"/>
                </a:lnTo>
                <a:lnTo>
                  <a:pt x="607" y="96"/>
                </a:lnTo>
                <a:lnTo>
                  <a:pt x="615" y="104"/>
                </a:lnTo>
                <a:lnTo>
                  <a:pt x="622" y="110"/>
                </a:lnTo>
                <a:lnTo>
                  <a:pt x="628" y="117"/>
                </a:lnTo>
                <a:lnTo>
                  <a:pt x="632" y="123"/>
                </a:lnTo>
                <a:lnTo>
                  <a:pt x="638" y="129"/>
                </a:lnTo>
                <a:lnTo>
                  <a:pt x="642" y="135"/>
                </a:lnTo>
                <a:lnTo>
                  <a:pt x="645" y="140"/>
                </a:lnTo>
                <a:lnTo>
                  <a:pt x="647" y="144"/>
                </a:lnTo>
                <a:lnTo>
                  <a:pt x="649" y="150"/>
                </a:lnTo>
                <a:lnTo>
                  <a:pt x="651" y="154"/>
                </a:lnTo>
                <a:lnTo>
                  <a:pt x="651" y="156"/>
                </a:lnTo>
                <a:lnTo>
                  <a:pt x="653" y="160"/>
                </a:lnTo>
                <a:lnTo>
                  <a:pt x="651" y="169"/>
                </a:lnTo>
                <a:lnTo>
                  <a:pt x="649" y="179"/>
                </a:lnTo>
                <a:lnTo>
                  <a:pt x="647" y="188"/>
                </a:lnTo>
                <a:lnTo>
                  <a:pt x="645" y="198"/>
                </a:lnTo>
                <a:lnTo>
                  <a:pt x="642" y="206"/>
                </a:lnTo>
                <a:lnTo>
                  <a:pt x="638" y="213"/>
                </a:lnTo>
                <a:lnTo>
                  <a:pt x="634" y="219"/>
                </a:lnTo>
                <a:lnTo>
                  <a:pt x="628" y="225"/>
                </a:lnTo>
                <a:lnTo>
                  <a:pt x="626" y="227"/>
                </a:lnTo>
                <a:lnTo>
                  <a:pt x="624" y="229"/>
                </a:lnTo>
                <a:lnTo>
                  <a:pt x="622" y="233"/>
                </a:lnTo>
                <a:lnTo>
                  <a:pt x="619" y="236"/>
                </a:lnTo>
                <a:lnTo>
                  <a:pt x="617" y="240"/>
                </a:lnTo>
                <a:lnTo>
                  <a:pt x="615" y="246"/>
                </a:lnTo>
                <a:lnTo>
                  <a:pt x="611" y="252"/>
                </a:lnTo>
                <a:lnTo>
                  <a:pt x="609" y="259"/>
                </a:lnTo>
                <a:lnTo>
                  <a:pt x="607" y="267"/>
                </a:lnTo>
                <a:lnTo>
                  <a:pt x="603" y="275"/>
                </a:lnTo>
                <a:lnTo>
                  <a:pt x="601" y="284"/>
                </a:lnTo>
                <a:lnTo>
                  <a:pt x="597" y="294"/>
                </a:lnTo>
                <a:lnTo>
                  <a:pt x="596" y="306"/>
                </a:lnTo>
                <a:lnTo>
                  <a:pt x="592" y="315"/>
                </a:lnTo>
                <a:lnTo>
                  <a:pt x="588" y="329"/>
                </a:lnTo>
                <a:lnTo>
                  <a:pt x="586" y="340"/>
                </a:lnTo>
                <a:lnTo>
                  <a:pt x="582" y="354"/>
                </a:lnTo>
                <a:lnTo>
                  <a:pt x="580" y="369"/>
                </a:lnTo>
                <a:lnTo>
                  <a:pt x="576" y="382"/>
                </a:lnTo>
                <a:lnTo>
                  <a:pt x="572" y="398"/>
                </a:lnTo>
                <a:lnTo>
                  <a:pt x="571" y="415"/>
                </a:lnTo>
                <a:lnTo>
                  <a:pt x="567" y="430"/>
                </a:lnTo>
                <a:lnTo>
                  <a:pt x="563" y="448"/>
                </a:lnTo>
                <a:lnTo>
                  <a:pt x="561" y="467"/>
                </a:lnTo>
                <a:lnTo>
                  <a:pt x="557" y="486"/>
                </a:lnTo>
                <a:lnTo>
                  <a:pt x="553" y="505"/>
                </a:lnTo>
                <a:lnTo>
                  <a:pt x="551" y="524"/>
                </a:lnTo>
                <a:lnTo>
                  <a:pt x="548" y="545"/>
                </a:lnTo>
                <a:lnTo>
                  <a:pt x="544" y="567"/>
                </a:lnTo>
                <a:lnTo>
                  <a:pt x="540" y="588"/>
                </a:lnTo>
                <a:lnTo>
                  <a:pt x="538" y="611"/>
                </a:lnTo>
                <a:lnTo>
                  <a:pt x="534" y="6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31"/>
          <p:cNvSpPr/>
          <p:nvPr/>
        </p:nvSpPr>
        <p:spPr>
          <a:xfrm>
            <a:off x="6210360" y="3381480"/>
            <a:ext cx="253800" cy="114120"/>
          </a:xfrm>
          <a:custGeom>
            <a:avLst/>
            <a:gdLst/>
            <a:ahLst/>
            <a:rect l="l" t="t" r="r" b="b"/>
            <a:pathLst>
              <a:path w="319" h="144">
                <a:moveTo>
                  <a:pt x="106" y="25"/>
                </a:moveTo>
                <a:lnTo>
                  <a:pt x="119" y="21"/>
                </a:lnTo>
                <a:lnTo>
                  <a:pt x="133" y="15"/>
                </a:lnTo>
                <a:lnTo>
                  <a:pt x="148" y="11"/>
                </a:lnTo>
                <a:lnTo>
                  <a:pt x="162" y="7"/>
                </a:lnTo>
                <a:lnTo>
                  <a:pt x="179" y="4"/>
                </a:lnTo>
                <a:lnTo>
                  <a:pt x="196" y="2"/>
                </a:lnTo>
                <a:lnTo>
                  <a:pt x="215" y="0"/>
                </a:lnTo>
                <a:lnTo>
                  <a:pt x="225" y="0"/>
                </a:lnTo>
                <a:lnTo>
                  <a:pt x="237" y="0"/>
                </a:lnTo>
                <a:lnTo>
                  <a:pt x="248" y="0"/>
                </a:lnTo>
                <a:lnTo>
                  <a:pt x="258" y="0"/>
                </a:lnTo>
                <a:lnTo>
                  <a:pt x="265" y="0"/>
                </a:lnTo>
                <a:lnTo>
                  <a:pt x="275" y="2"/>
                </a:lnTo>
                <a:lnTo>
                  <a:pt x="283" y="2"/>
                </a:lnTo>
                <a:lnTo>
                  <a:pt x="288" y="4"/>
                </a:lnTo>
                <a:lnTo>
                  <a:pt x="294" y="6"/>
                </a:lnTo>
                <a:lnTo>
                  <a:pt x="300" y="7"/>
                </a:lnTo>
                <a:lnTo>
                  <a:pt x="306" y="9"/>
                </a:lnTo>
                <a:lnTo>
                  <a:pt x="309" y="11"/>
                </a:lnTo>
                <a:lnTo>
                  <a:pt x="311" y="13"/>
                </a:lnTo>
                <a:lnTo>
                  <a:pt x="315" y="15"/>
                </a:lnTo>
                <a:lnTo>
                  <a:pt x="317" y="17"/>
                </a:lnTo>
                <a:lnTo>
                  <a:pt x="319" y="21"/>
                </a:lnTo>
                <a:lnTo>
                  <a:pt x="319" y="23"/>
                </a:lnTo>
                <a:lnTo>
                  <a:pt x="319" y="25"/>
                </a:lnTo>
                <a:lnTo>
                  <a:pt x="319" y="31"/>
                </a:lnTo>
                <a:lnTo>
                  <a:pt x="317" y="34"/>
                </a:lnTo>
                <a:lnTo>
                  <a:pt x="315" y="40"/>
                </a:lnTo>
                <a:lnTo>
                  <a:pt x="313" y="46"/>
                </a:lnTo>
                <a:lnTo>
                  <a:pt x="309" y="50"/>
                </a:lnTo>
                <a:lnTo>
                  <a:pt x="306" y="55"/>
                </a:lnTo>
                <a:lnTo>
                  <a:pt x="300" y="59"/>
                </a:lnTo>
                <a:lnTo>
                  <a:pt x="294" y="65"/>
                </a:lnTo>
                <a:lnTo>
                  <a:pt x="288" y="69"/>
                </a:lnTo>
                <a:lnTo>
                  <a:pt x="281" y="75"/>
                </a:lnTo>
                <a:lnTo>
                  <a:pt x="273" y="80"/>
                </a:lnTo>
                <a:lnTo>
                  <a:pt x="263" y="84"/>
                </a:lnTo>
                <a:lnTo>
                  <a:pt x="256" y="90"/>
                </a:lnTo>
                <a:lnTo>
                  <a:pt x="246" y="94"/>
                </a:lnTo>
                <a:lnTo>
                  <a:pt x="235" y="100"/>
                </a:lnTo>
                <a:lnTo>
                  <a:pt x="225" y="105"/>
                </a:lnTo>
                <a:lnTo>
                  <a:pt x="214" y="109"/>
                </a:lnTo>
                <a:lnTo>
                  <a:pt x="202" y="113"/>
                </a:lnTo>
                <a:lnTo>
                  <a:pt x="189" y="119"/>
                </a:lnTo>
                <a:lnTo>
                  <a:pt x="177" y="123"/>
                </a:lnTo>
                <a:lnTo>
                  <a:pt x="150" y="128"/>
                </a:lnTo>
                <a:lnTo>
                  <a:pt x="121" y="134"/>
                </a:lnTo>
                <a:lnTo>
                  <a:pt x="93" y="138"/>
                </a:lnTo>
                <a:lnTo>
                  <a:pt x="62" y="142"/>
                </a:lnTo>
                <a:lnTo>
                  <a:pt x="31" y="144"/>
                </a:lnTo>
                <a:lnTo>
                  <a:pt x="0" y="144"/>
                </a:lnTo>
                <a:lnTo>
                  <a:pt x="0" y="92"/>
                </a:lnTo>
                <a:lnTo>
                  <a:pt x="0" y="38"/>
                </a:lnTo>
                <a:lnTo>
                  <a:pt x="25" y="38"/>
                </a:lnTo>
                <a:lnTo>
                  <a:pt x="39" y="38"/>
                </a:lnTo>
                <a:lnTo>
                  <a:pt x="52" y="36"/>
                </a:lnTo>
                <a:lnTo>
                  <a:pt x="66" y="36"/>
                </a:lnTo>
                <a:lnTo>
                  <a:pt x="79" y="32"/>
                </a:lnTo>
                <a:lnTo>
                  <a:pt x="93" y="31"/>
                </a:lnTo>
                <a:lnTo>
                  <a:pt x="106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32"/>
          <p:cNvSpPr/>
          <p:nvPr/>
        </p:nvSpPr>
        <p:spPr>
          <a:xfrm>
            <a:off x="6210360" y="3695760"/>
            <a:ext cx="309600" cy="104760"/>
          </a:xfrm>
          <a:custGeom>
            <a:avLst/>
            <a:gdLst/>
            <a:ahLst/>
            <a:rect l="l" t="t" r="r" b="b"/>
            <a:pathLst>
              <a:path w="390" h="133">
                <a:moveTo>
                  <a:pt x="166" y="27"/>
                </a:moveTo>
                <a:lnTo>
                  <a:pt x="173" y="23"/>
                </a:lnTo>
                <a:lnTo>
                  <a:pt x="181" y="21"/>
                </a:lnTo>
                <a:lnTo>
                  <a:pt x="190" y="19"/>
                </a:lnTo>
                <a:lnTo>
                  <a:pt x="200" y="16"/>
                </a:lnTo>
                <a:lnTo>
                  <a:pt x="212" y="14"/>
                </a:lnTo>
                <a:lnTo>
                  <a:pt x="225" y="12"/>
                </a:lnTo>
                <a:lnTo>
                  <a:pt x="237" y="10"/>
                </a:lnTo>
                <a:lnTo>
                  <a:pt x="252" y="8"/>
                </a:lnTo>
                <a:lnTo>
                  <a:pt x="267" y="6"/>
                </a:lnTo>
                <a:lnTo>
                  <a:pt x="283" y="4"/>
                </a:lnTo>
                <a:lnTo>
                  <a:pt x="298" y="4"/>
                </a:lnTo>
                <a:lnTo>
                  <a:pt x="315" y="2"/>
                </a:lnTo>
                <a:lnTo>
                  <a:pt x="333" y="0"/>
                </a:lnTo>
                <a:lnTo>
                  <a:pt x="352" y="0"/>
                </a:lnTo>
                <a:lnTo>
                  <a:pt x="371" y="0"/>
                </a:lnTo>
                <a:lnTo>
                  <a:pt x="390" y="0"/>
                </a:lnTo>
                <a:lnTo>
                  <a:pt x="384" y="46"/>
                </a:lnTo>
                <a:lnTo>
                  <a:pt x="379" y="92"/>
                </a:lnTo>
                <a:lnTo>
                  <a:pt x="189" y="112"/>
                </a:lnTo>
                <a:lnTo>
                  <a:pt x="0" y="133"/>
                </a:lnTo>
                <a:lnTo>
                  <a:pt x="0" y="41"/>
                </a:lnTo>
                <a:lnTo>
                  <a:pt x="14" y="41"/>
                </a:lnTo>
                <a:lnTo>
                  <a:pt x="29" y="41"/>
                </a:lnTo>
                <a:lnTo>
                  <a:pt x="43" y="39"/>
                </a:lnTo>
                <a:lnTo>
                  <a:pt x="56" y="39"/>
                </a:lnTo>
                <a:lnTo>
                  <a:pt x="68" y="39"/>
                </a:lnTo>
                <a:lnTo>
                  <a:pt x="79" y="39"/>
                </a:lnTo>
                <a:lnTo>
                  <a:pt x="91" y="39"/>
                </a:lnTo>
                <a:lnTo>
                  <a:pt x="100" y="39"/>
                </a:lnTo>
                <a:lnTo>
                  <a:pt x="110" y="37"/>
                </a:lnTo>
                <a:lnTo>
                  <a:pt x="119" y="37"/>
                </a:lnTo>
                <a:lnTo>
                  <a:pt x="127" y="35"/>
                </a:lnTo>
                <a:lnTo>
                  <a:pt x="137" y="35"/>
                </a:lnTo>
                <a:lnTo>
                  <a:pt x="152" y="31"/>
                </a:lnTo>
                <a:lnTo>
                  <a:pt x="166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33"/>
          <p:cNvSpPr/>
          <p:nvPr/>
        </p:nvSpPr>
        <p:spPr>
          <a:xfrm>
            <a:off x="6432480" y="3952800"/>
            <a:ext cx="204840" cy="381240"/>
          </a:xfrm>
          <a:custGeom>
            <a:avLst/>
            <a:gdLst/>
            <a:ahLst/>
            <a:rect l="l" t="t" r="r" b="b"/>
            <a:pathLst>
              <a:path w="257" h="479">
                <a:moveTo>
                  <a:pt x="157" y="136"/>
                </a:moveTo>
                <a:lnTo>
                  <a:pt x="174" y="151"/>
                </a:lnTo>
                <a:lnTo>
                  <a:pt x="190" y="169"/>
                </a:lnTo>
                <a:lnTo>
                  <a:pt x="205" y="186"/>
                </a:lnTo>
                <a:lnTo>
                  <a:pt x="217" y="205"/>
                </a:lnTo>
                <a:lnTo>
                  <a:pt x="228" y="224"/>
                </a:lnTo>
                <a:lnTo>
                  <a:pt x="234" y="232"/>
                </a:lnTo>
                <a:lnTo>
                  <a:pt x="238" y="243"/>
                </a:lnTo>
                <a:lnTo>
                  <a:pt x="243" y="253"/>
                </a:lnTo>
                <a:lnTo>
                  <a:pt x="245" y="263"/>
                </a:lnTo>
                <a:lnTo>
                  <a:pt x="249" y="272"/>
                </a:lnTo>
                <a:lnTo>
                  <a:pt x="251" y="282"/>
                </a:lnTo>
                <a:lnTo>
                  <a:pt x="253" y="293"/>
                </a:lnTo>
                <a:lnTo>
                  <a:pt x="255" y="305"/>
                </a:lnTo>
                <a:lnTo>
                  <a:pt x="255" y="316"/>
                </a:lnTo>
                <a:lnTo>
                  <a:pt x="257" y="326"/>
                </a:lnTo>
                <a:lnTo>
                  <a:pt x="257" y="347"/>
                </a:lnTo>
                <a:lnTo>
                  <a:pt x="255" y="364"/>
                </a:lnTo>
                <a:lnTo>
                  <a:pt x="251" y="382"/>
                </a:lnTo>
                <a:lnTo>
                  <a:pt x="247" y="397"/>
                </a:lnTo>
                <a:lnTo>
                  <a:pt x="243" y="412"/>
                </a:lnTo>
                <a:lnTo>
                  <a:pt x="240" y="428"/>
                </a:lnTo>
                <a:lnTo>
                  <a:pt x="236" y="433"/>
                </a:lnTo>
                <a:lnTo>
                  <a:pt x="232" y="441"/>
                </a:lnTo>
                <a:lnTo>
                  <a:pt x="228" y="447"/>
                </a:lnTo>
                <a:lnTo>
                  <a:pt x="224" y="453"/>
                </a:lnTo>
                <a:lnTo>
                  <a:pt x="220" y="456"/>
                </a:lnTo>
                <a:lnTo>
                  <a:pt x="219" y="460"/>
                </a:lnTo>
                <a:lnTo>
                  <a:pt x="215" y="464"/>
                </a:lnTo>
                <a:lnTo>
                  <a:pt x="213" y="468"/>
                </a:lnTo>
                <a:lnTo>
                  <a:pt x="207" y="474"/>
                </a:lnTo>
                <a:lnTo>
                  <a:pt x="201" y="478"/>
                </a:lnTo>
                <a:lnTo>
                  <a:pt x="197" y="479"/>
                </a:lnTo>
                <a:lnTo>
                  <a:pt x="194" y="479"/>
                </a:lnTo>
                <a:lnTo>
                  <a:pt x="190" y="479"/>
                </a:lnTo>
                <a:lnTo>
                  <a:pt x="186" y="476"/>
                </a:lnTo>
                <a:lnTo>
                  <a:pt x="182" y="472"/>
                </a:lnTo>
                <a:lnTo>
                  <a:pt x="176" y="464"/>
                </a:lnTo>
                <a:lnTo>
                  <a:pt x="172" y="456"/>
                </a:lnTo>
                <a:lnTo>
                  <a:pt x="165" y="447"/>
                </a:lnTo>
                <a:lnTo>
                  <a:pt x="159" y="433"/>
                </a:lnTo>
                <a:lnTo>
                  <a:pt x="151" y="420"/>
                </a:lnTo>
                <a:lnTo>
                  <a:pt x="142" y="405"/>
                </a:lnTo>
                <a:lnTo>
                  <a:pt x="134" y="387"/>
                </a:lnTo>
                <a:lnTo>
                  <a:pt x="124" y="368"/>
                </a:lnTo>
                <a:lnTo>
                  <a:pt x="115" y="347"/>
                </a:lnTo>
                <a:lnTo>
                  <a:pt x="105" y="322"/>
                </a:lnTo>
                <a:lnTo>
                  <a:pt x="96" y="297"/>
                </a:lnTo>
                <a:lnTo>
                  <a:pt x="84" y="270"/>
                </a:lnTo>
                <a:lnTo>
                  <a:pt x="75" y="241"/>
                </a:lnTo>
                <a:lnTo>
                  <a:pt x="63" y="215"/>
                </a:lnTo>
                <a:lnTo>
                  <a:pt x="53" y="190"/>
                </a:lnTo>
                <a:lnTo>
                  <a:pt x="44" y="167"/>
                </a:lnTo>
                <a:lnTo>
                  <a:pt x="36" y="145"/>
                </a:lnTo>
                <a:lnTo>
                  <a:pt x="28" y="124"/>
                </a:lnTo>
                <a:lnTo>
                  <a:pt x="23" y="107"/>
                </a:lnTo>
                <a:lnTo>
                  <a:pt x="17" y="90"/>
                </a:lnTo>
                <a:lnTo>
                  <a:pt x="11" y="74"/>
                </a:lnTo>
                <a:lnTo>
                  <a:pt x="7" y="59"/>
                </a:lnTo>
                <a:lnTo>
                  <a:pt x="5" y="48"/>
                </a:lnTo>
                <a:lnTo>
                  <a:pt x="2" y="36"/>
                </a:lnTo>
                <a:lnTo>
                  <a:pt x="2" y="26"/>
                </a:lnTo>
                <a:lnTo>
                  <a:pt x="0" y="19"/>
                </a:lnTo>
                <a:lnTo>
                  <a:pt x="0" y="13"/>
                </a:lnTo>
                <a:lnTo>
                  <a:pt x="2" y="7"/>
                </a:lnTo>
                <a:lnTo>
                  <a:pt x="4" y="5"/>
                </a:lnTo>
                <a:lnTo>
                  <a:pt x="5" y="3"/>
                </a:lnTo>
                <a:lnTo>
                  <a:pt x="7" y="2"/>
                </a:lnTo>
                <a:lnTo>
                  <a:pt x="9" y="0"/>
                </a:lnTo>
                <a:lnTo>
                  <a:pt x="13" y="0"/>
                </a:lnTo>
                <a:lnTo>
                  <a:pt x="17" y="0"/>
                </a:lnTo>
                <a:lnTo>
                  <a:pt x="23" y="2"/>
                </a:lnTo>
                <a:lnTo>
                  <a:pt x="30" y="3"/>
                </a:lnTo>
                <a:lnTo>
                  <a:pt x="40" y="9"/>
                </a:lnTo>
                <a:lnTo>
                  <a:pt x="44" y="11"/>
                </a:lnTo>
                <a:lnTo>
                  <a:pt x="50" y="13"/>
                </a:lnTo>
                <a:lnTo>
                  <a:pt x="55" y="15"/>
                </a:lnTo>
                <a:lnTo>
                  <a:pt x="63" y="19"/>
                </a:lnTo>
                <a:lnTo>
                  <a:pt x="71" y="28"/>
                </a:lnTo>
                <a:lnTo>
                  <a:pt x="82" y="40"/>
                </a:lnTo>
                <a:lnTo>
                  <a:pt x="94" y="53"/>
                </a:lnTo>
                <a:lnTo>
                  <a:pt x="105" y="67"/>
                </a:lnTo>
                <a:lnTo>
                  <a:pt x="119" y="82"/>
                </a:lnTo>
                <a:lnTo>
                  <a:pt x="130" y="99"/>
                </a:lnTo>
                <a:lnTo>
                  <a:pt x="144" y="117"/>
                </a:lnTo>
                <a:lnTo>
                  <a:pt x="157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34"/>
          <p:cNvSpPr/>
          <p:nvPr/>
        </p:nvSpPr>
        <p:spPr>
          <a:xfrm>
            <a:off x="6068880" y="3076560"/>
            <a:ext cx="489240" cy="1477800"/>
          </a:xfrm>
          <a:custGeom>
            <a:avLst/>
            <a:gdLst/>
            <a:ahLst/>
            <a:rect l="l" t="t" r="r" b="b"/>
            <a:pathLst>
              <a:path w="616" h="1862">
                <a:moveTo>
                  <a:pt x="190" y="1781"/>
                </a:moveTo>
                <a:lnTo>
                  <a:pt x="182" y="1791"/>
                </a:lnTo>
                <a:lnTo>
                  <a:pt x="177" y="1800"/>
                </a:lnTo>
                <a:lnTo>
                  <a:pt x="171" y="1808"/>
                </a:lnTo>
                <a:lnTo>
                  <a:pt x="165" y="1816"/>
                </a:lnTo>
                <a:lnTo>
                  <a:pt x="159" y="1823"/>
                </a:lnTo>
                <a:lnTo>
                  <a:pt x="155" y="1829"/>
                </a:lnTo>
                <a:lnTo>
                  <a:pt x="150" y="1835"/>
                </a:lnTo>
                <a:lnTo>
                  <a:pt x="146" y="1841"/>
                </a:lnTo>
                <a:lnTo>
                  <a:pt x="142" y="1846"/>
                </a:lnTo>
                <a:lnTo>
                  <a:pt x="136" y="1850"/>
                </a:lnTo>
                <a:lnTo>
                  <a:pt x="132" y="1852"/>
                </a:lnTo>
                <a:lnTo>
                  <a:pt x="130" y="1856"/>
                </a:lnTo>
                <a:lnTo>
                  <a:pt x="127" y="1858"/>
                </a:lnTo>
                <a:lnTo>
                  <a:pt x="123" y="1860"/>
                </a:lnTo>
                <a:lnTo>
                  <a:pt x="121" y="1860"/>
                </a:lnTo>
                <a:lnTo>
                  <a:pt x="119" y="1862"/>
                </a:lnTo>
                <a:lnTo>
                  <a:pt x="109" y="1860"/>
                </a:lnTo>
                <a:lnTo>
                  <a:pt x="102" y="1858"/>
                </a:lnTo>
                <a:lnTo>
                  <a:pt x="92" y="1854"/>
                </a:lnTo>
                <a:lnTo>
                  <a:pt x="82" y="1850"/>
                </a:lnTo>
                <a:lnTo>
                  <a:pt x="79" y="1846"/>
                </a:lnTo>
                <a:lnTo>
                  <a:pt x="75" y="1843"/>
                </a:lnTo>
                <a:lnTo>
                  <a:pt x="69" y="1839"/>
                </a:lnTo>
                <a:lnTo>
                  <a:pt x="65" y="1833"/>
                </a:lnTo>
                <a:lnTo>
                  <a:pt x="61" y="1827"/>
                </a:lnTo>
                <a:lnTo>
                  <a:pt x="56" y="1821"/>
                </a:lnTo>
                <a:lnTo>
                  <a:pt x="52" y="1816"/>
                </a:lnTo>
                <a:lnTo>
                  <a:pt x="48" y="1808"/>
                </a:lnTo>
                <a:lnTo>
                  <a:pt x="40" y="1800"/>
                </a:lnTo>
                <a:lnTo>
                  <a:pt x="34" y="1793"/>
                </a:lnTo>
                <a:lnTo>
                  <a:pt x="31" y="1787"/>
                </a:lnTo>
                <a:lnTo>
                  <a:pt x="25" y="1781"/>
                </a:lnTo>
                <a:lnTo>
                  <a:pt x="17" y="1768"/>
                </a:lnTo>
                <a:lnTo>
                  <a:pt x="11" y="1756"/>
                </a:lnTo>
                <a:lnTo>
                  <a:pt x="6" y="1747"/>
                </a:lnTo>
                <a:lnTo>
                  <a:pt x="2" y="1735"/>
                </a:lnTo>
                <a:lnTo>
                  <a:pt x="0" y="1726"/>
                </a:lnTo>
                <a:lnTo>
                  <a:pt x="0" y="1716"/>
                </a:lnTo>
                <a:lnTo>
                  <a:pt x="0" y="1712"/>
                </a:lnTo>
                <a:lnTo>
                  <a:pt x="2" y="1710"/>
                </a:lnTo>
                <a:lnTo>
                  <a:pt x="2" y="1706"/>
                </a:lnTo>
                <a:lnTo>
                  <a:pt x="4" y="1701"/>
                </a:lnTo>
                <a:lnTo>
                  <a:pt x="8" y="1697"/>
                </a:lnTo>
                <a:lnTo>
                  <a:pt x="10" y="1691"/>
                </a:lnTo>
                <a:lnTo>
                  <a:pt x="13" y="1685"/>
                </a:lnTo>
                <a:lnTo>
                  <a:pt x="17" y="1678"/>
                </a:lnTo>
                <a:lnTo>
                  <a:pt x="25" y="1664"/>
                </a:lnTo>
                <a:lnTo>
                  <a:pt x="34" y="1647"/>
                </a:lnTo>
                <a:lnTo>
                  <a:pt x="46" y="1630"/>
                </a:lnTo>
                <a:lnTo>
                  <a:pt x="59" y="1610"/>
                </a:lnTo>
                <a:lnTo>
                  <a:pt x="63" y="1607"/>
                </a:lnTo>
                <a:lnTo>
                  <a:pt x="65" y="1601"/>
                </a:lnTo>
                <a:lnTo>
                  <a:pt x="69" y="1597"/>
                </a:lnTo>
                <a:lnTo>
                  <a:pt x="71" y="1591"/>
                </a:lnTo>
                <a:lnTo>
                  <a:pt x="75" y="1585"/>
                </a:lnTo>
                <a:lnTo>
                  <a:pt x="77" y="1578"/>
                </a:lnTo>
                <a:lnTo>
                  <a:pt x="79" y="1570"/>
                </a:lnTo>
                <a:lnTo>
                  <a:pt x="82" y="1562"/>
                </a:lnTo>
                <a:lnTo>
                  <a:pt x="84" y="1555"/>
                </a:lnTo>
                <a:lnTo>
                  <a:pt x="86" y="1547"/>
                </a:lnTo>
                <a:lnTo>
                  <a:pt x="88" y="1537"/>
                </a:lnTo>
                <a:lnTo>
                  <a:pt x="90" y="1528"/>
                </a:lnTo>
                <a:lnTo>
                  <a:pt x="92" y="1516"/>
                </a:lnTo>
                <a:lnTo>
                  <a:pt x="94" y="1507"/>
                </a:lnTo>
                <a:lnTo>
                  <a:pt x="96" y="1495"/>
                </a:lnTo>
                <a:lnTo>
                  <a:pt x="98" y="1484"/>
                </a:lnTo>
                <a:lnTo>
                  <a:pt x="100" y="1470"/>
                </a:lnTo>
                <a:lnTo>
                  <a:pt x="102" y="1459"/>
                </a:lnTo>
                <a:lnTo>
                  <a:pt x="102" y="1445"/>
                </a:lnTo>
                <a:lnTo>
                  <a:pt x="104" y="1430"/>
                </a:lnTo>
                <a:lnTo>
                  <a:pt x="106" y="1416"/>
                </a:lnTo>
                <a:lnTo>
                  <a:pt x="107" y="1401"/>
                </a:lnTo>
                <a:lnTo>
                  <a:pt x="107" y="1386"/>
                </a:lnTo>
                <a:lnTo>
                  <a:pt x="109" y="1370"/>
                </a:lnTo>
                <a:lnTo>
                  <a:pt x="111" y="1355"/>
                </a:lnTo>
                <a:lnTo>
                  <a:pt x="111" y="1338"/>
                </a:lnTo>
                <a:lnTo>
                  <a:pt x="113" y="1321"/>
                </a:lnTo>
                <a:lnTo>
                  <a:pt x="113" y="1303"/>
                </a:lnTo>
                <a:lnTo>
                  <a:pt x="117" y="1267"/>
                </a:lnTo>
                <a:lnTo>
                  <a:pt x="119" y="1228"/>
                </a:lnTo>
                <a:lnTo>
                  <a:pt x="123" y="1148"/>
                </a:lnTo>
                <a:lnTo>
                  <a:pt x="125" y="1067"/>
                </a:lnTo>
                <a:lnTo>
                  <a:pt x="127" y="985"/>
                </a:lnTo>
                <a:lnTo>
                  <a:pt x="129" y="900"/>
                </a:lnTo>
                <a:lnTo>
                  <a:pt x="130" y="816"/>
                </a:lnTo>
                <a:lnTo>
                  <a:pt x="130" y="731"/>
                </a:lnTo>
                <a:lnTo>
                  <a:pt x="130" y="643"/>
                </a:lnTo>
                <a:lnTo>
                  <a:pt x="130" y="555"/>
                </a:lnTo>
                <a:lnTo>
                  <a:pt x="129" y="534"/>
                </a:lnTo>
                <a:lnTo>
                  <a:pt x="129" y="510"/>
                </a:lnTo>
                <a:lnTo>
                  <a:pt x="127" y="491"/>
                </a:lnTo>
                <a:lnTo>
                  <a:pt x="127" y="470"/>
                </a:lnTo>
                <a:lnTo>
                  <a:pt x="125" y="451"/>
                </a:lnTo>
                <a:lnTo>
                  <a:pt x="125" y="432"/>
                </a:lnTo>
                <a:lnTo>
                  <a:pt x="123" y="415"/>
                </a:lnTo>
                <a:lnTo>
                  <a:pt x="121" y="395"/>
                </a:lnTo>
                <a:lnTo>
                  <a:pt x="121" y="380"/>
                </a:lnTo>
                <a:lnTo>
                  <a:pt x="119" y="363"/>
                </a:lnTo>
                <a:lnTo>
                  <a:pt x="119" y="347"/>
                </a:lnTo>
                <a:lnTo>
                  <a:pt x="117" y="332"/>
                </a:lnTo>
                <a:lnTo>
                  <a:pt x="117" y="317"/>
                </a:lnTo>
                <a:lnTo>
                  <a:pt x="115" y="303"/>
                </a:lnTo>
                <a:lnTo>
                  <a:pt x="113" y="290"/>
                </a:lnTo>
                <a:lnTo>
                  <a:pt x="113" y="276"/>
                </a:lnTo>
                <a:lnTo>
                  <a:pt x="111" y="263"/>
                </a:lnTo>
                <a:lnTo>
                  <a:pt x="111" y="251"/>
                </a:lnTo>
                <a:lnTo>
                  <a:pt x="109" y="240"/>
                </a:lnTo>
                <a:lnTo>
                  <a:pt x="107" y="230"/>
                </a:lnTo>
                <a:lnTo>
                  <a:pt x="107" y="221"/>
                </a:lnTo>
                <a:lnTo>
                  <a:pt x="106" y="211"/>
                </a:lnTo>
                <a:lnTo>
                  <a:pt x="106" y="201"/>
                </a:lnTo>
                <a:lnTo>
                  <a:pt x="104" y="194"/>
                </a:lnTo>
                <a:lnTo>
                  <a:pt x="104" y="184"/>
                </a:lnTo>
                <a:lnTo>
                  <a:pt x="102" y="178"/>
                </a:lnTo>
                <a:lnTo>
                  <a:pt x="100" y="171"/>
                </a:lnTo>
                <a:lnTo>
                  <a:pt x="100" y="165"/>
                </a:lnTo>
                <a:lnTo>
                  <a:pt x="98" y="159"/>
                </a:lnTo>
                <a:lnTo>
                  <a:pt x="98" y="153"/>
                </a:lnTo>
                <a:lnTo>
                  <a:pt x="96" y="150"/>
                </a:lnTo>
                <a:lnTo>
                  <a:pt x="96" y="146"/>
                </a:lnTo>
                <a:lnTo>
                  <a:pt x="86" y="132"/>
                </a:lnTo>
                <a:lnTo>
                  <a:pt x="79" y="119"/>
                </a:lnTo>
                <a:lnTo>
                  <a:pt x="73" y="105"/>
                </a:lnTo>
                <a:lnTo>
                  <a:pt x="69" y="92"/>
                </a:lnTo>
                <a:lnTo>
                  <a:pt x="65" y="81"/>
                </a:lnTo>
                <a:lnTo>
                  <a:pt x="61" y="67"/>
                </a:lnTo>
                <a:lnTo>
                  <a:pt x="59" y="54"/>
                </a:lnTo>
                <a:lnTo>
                  <a:pt x="59" y="40"/>
                </a:lnTo>
                <a:lnTo>
                  <a:pt x="58" y="34"/>
                </a:lnTo>
                <a:lnTo>
                  <a:pt x="56" y="31"/>
                </a:lnTo>
                <a:lnTo>
                  <a:pt x="56" y="27"/>
                </a:lnTo>
                <a:lnTo>
                  <a:pt x="56" y="23"/>
                </a:lnTo>
                <a:lnTo>
                  <a:pt x="56" y="19"/>
                </a:lnTo>
                <a:lnTo>
                  <a:pt x="56" y="15"/>
                </a:lnTo>
                <a:lnTo>
                  <a:pt x="58" y="13"/>
                </a:lnTo>
                <a:lnTo>
                  <a:pt x="59" y="10"/>
                </a:lnTo>
                <a:lnTo>
                  <a:pt x="61" y="8"/>
                </a:lnTo>
                <a:lnTo>
                  <a:pt x="65" y="6"/>
                </a:lnTo>
                <a:lnTo>
                  <a:pt x="69" y="4"/>
                </a:lnTo>
                <a:lnTo>
                  <a:pt x="73" y="4"/>
                </a:lnTo>
                <a:lnTo>
                  <a:pt x="77" y="2"/>
                </a:lnTo>
                <a:lnTo>
                  <a:pt x="82" y="2"/>
                </a:lnTo>
                <a:lnTo>
                  <a:pt x="88" y="0"/>
                </a:lnTo>
                <a:lnTo>
                  <a:pt x="96" y="0"/>
                </a:lnTo>
                <a:lnTo>
                  <a:pt x="109" y="2"/>
                </a:lnTo>
                <a:lnTo>
                  <a:pt x="125" y="4"/>
                </a:lnTo>
                <a:lnTo>
                  <a:pt x="140" y="6"/>
                </a:lnTo>
                <a:lnTo>
                  <a:pt x="157" y="10"/>
                </a:lnTo>
                <a:lnTo>
                  <a:pt x="175" y="15"/>
                </a:lnTo>
                <a:lnTo>
                  <a:pt x="196" y="23"/>
                </a:lnTo>
                <a:lnTo>
                  <a:pt x="215" y="31"/>
                </a:lnTo>
                <a:lnTo>
                  <a:pt x="238" y="40"/>
                </a:lnTo>
                <a:lnTo>
                  <a:pt x="238" y="117"/>
                </a:lnTo>
                <a:lnTo>
                  <a:pt x="236" y="190"/>
                </a:lnTo>
                <a:lnTo>
                  <a:pt x="236" y="263"/>
                </a:lnTo>
                <a:lnTo>
                  <a:pt x="236" y="334"/>
                </a:lnTo>
                <a:lnTo>
                  <a:pt x="236" y="405"/>
                </a:lnTo>
                <a:lnTo>
                  <a:pt x="236" y="472"/>
                </a:lnTo>
                <a:lnTo>
                  <a:pt x="236" y="539"/>
                </a:lnTo>
                <a:lnTo>
                  <a:pt x="236" y="605"/>
                </a:lnTo>
                <a:lnTo>
                  <a:pt x="234" y="668"/>
                </a:lnTo>
                <a:lnTo>
                  <a:pt x="234" y="729"/>
                </a:lnTo>
                <a:lnTo>
                  <a:pt x="232" y="791"/>
                </a:lnTo>
                <a:lnTo>
                  <a:pt x="232" y="848"/>
                </a:lnTo>
                <a:lnTo>
                  <a:pt x="230" y="906"/>
                </a:lnTo>
                <a:lnTo>
                  <a:pt x="228" y="962"/>
                </a:lnTo>
                <a:lnTo>
                  <a:pt x="226" y="1017"/>
                </a:lnTo>
                <a:lnTo>
                  <a:pt x="225" y="1069"/>
                </a:lnTo>
                <a:lnTo>
                  <a:pt x="225" y="1094"/>
                </a:lnTo>
                <a:lnTo>
                  <a:pt x="223" y="1119"/>
                </a:lnTo>
                <a:lnTo>
                  <a:pt x="223" y="1144"/>
                </a:lnTo>
                <a:lnTo>
                  <a:pt x="221" y="1167"/>
                </a:lnTo>
                <a:lnTo>
                  <a:pt x="221" y="1190"/>
                </a:lnTo>
                <a:lnTo>
                  <a:pt x="221" y="1211"/>
                </a:lnTo>
                <a:lnTo>
                  <a:pt x="219" y="1232"/>
                </a:lnTo>
                <a:lnTo>
                  <a:pt x="219" y="1251"/>
                </a:lnTo>
                <a:lnTo>
                  <a:pt x="219" y="1271"/>
                </a:lnTo>
                <a:lnTo>
                  <a:pt x="217" y="1290"/>
                </a:lnTo>
                <a:lnTo>
                  <a:pt x="217" y="1307"/>
                </a:lnTo>
                <a:lnTo>
                  <a:pt x="217" y="1324"/>
                </a:lnTo>
                <a:lnTo>
                  <a:pt x="217" y="1342"/>
                </a:lnTo>
                <a:lnTo>
                  <a:pt x="217" y="1357"/>
                </a:lnTo>
                <a:lnTo>
                  <a:pt x="217" y="1372"/>
                </a:lnTo>
                <a:lnTo>
                  <a:pt x="217" y="1386"/>
                </a:lnTo>
                <a:lnTo>
                  <a:pt x="217" y="1399"/>
                </a:lnTo>
                <a:lnTo>
                  <a:pt x="217" y="1411"/>
                </a:lnTo>
                <a:lnTo>
                  <a:pt x="217" y="1422"/>
                </a:lnTo>
                <a:lnTo>
                  <a:pt x="217" y="1434"/>
                </a:lnTo>
                <a:lnTo>
                  <a:pt x="217" y="1443"/>
                </a:lnTo>
                <a:lnTo>
                  <a:pt x="217" y="1453"/>
                </a:lnTo>
                <a:lnTo>
                  <a:pt x="219" y="1463"/>
                </a:lnTo>
                <a:lnTo>
                  <a:pt x="219" y="1470"/>
                </a:lnTo>
                <a:lnTo>
                  <a:pt x="219" y="1476"/>
                </a:lnTo>
                <a:lnTo>
                  <a:pt x="221" y="1484"/>
                </a:lnTo>
                <a:lnTo>
                  <a:pt x="221" y="1489"/>
                </a:lnTo>
                <a:lnTo>
                  <a:pt x="221" y="1493"/>
                </a:lnTo>
                <a:lnTo>
                  <a:pt x="223" y="1497"/>
                </a:lnTo>
                <a:lnTo>
                  <a:pt x="223" y="1501"/>
                </a:lnTo>
                <a:lnTo>
                  <a:pt x="225" y="1503"/>
                </a:lnTo>
                <a:lnTo>
                  <a:pt x="225" y="1505"/>
                </a:lnTo>
                <a:lnTo>
                  <a:pt x="226" y="1505"/>
                </a:lnTo>
                <a:lnTo>
                  <a:pt x="228" y="1507"/>
                </a:lnTo>
                <a:lnTo>
                  <a:pt x="232" y="1507"/>
                </a:lnTo>
                <a:lnTo>
                  <a:pt x="234" y="1507"/>
                </a:lnTo>
                <a:lnTo>
                  <a:pt x="238" y="1505"/>
                </a:lnTo>
                <a:lnTo>
                  <a:pt x="244" y="1503"/>
                </a:lnTo>
                <a:lnTo>
                  <a:pt x="248" y="1503"/>
                </a:lnTo>
                <a:lnTo>
                  <a:pt x="255" y="1499"/>
                </a:lnTo>
                <a:lnTo>
                  <a:pt x="261" y="1497"/>
                </a:lnTo>
                <a:lnTo>
                  <a:pt x="269" y="1493"/>
                </a:lnTo>
                <a:lnTo>
                  <a:pt x="276" y="1491"/>
                </a:lnTo>
                <a:lnTo>
                  <a:pt x="284" y="1486"/>
                </a:lnTo>
                <a:lnTo>
                  <a:pt x="294" y="1482"/>
                </a:lnTo>
                <a:lnTo>
                  <a:pt x="303" y="1478"/>
                </a:lnTo>
                <a:lnTo>
                  <a:pt x="313" y="1472"/>
                </a:lnTo>
                <a:lnTo>
                  <a:pt x="324" y="1466"/>
                </a:lnTo>
                <a:lnTo>
                  <a:pt x="336" y="1459"/>
                </a:lnTo>
                <a:lnTo>
                  <a:pt x="349" y="1453"/>
                </a:lnTo>
                <a:lnTo>
                  <a:pt x="363" y="1445"/>
                </a:lnTo>
                <a:lnTo>
                  <a:pt x="376" y="1438"/>
                </a:lnTo>
                <a:lnTo>
                  <a:pt x="390" y="1430"/>
                </a:lnTo>
                <a:lnTo>
                  <a:pt x="405" y="1420"/>
                </a:lnTo>
                <a:lnTo>
                  <a:pt x="420" y="1411"/>
                </a:lnTo>
                <a:lnTo>
                  <a:pt x="438" y="1401"/>
                </a:lnTo>
                <a:lnTo>
                  <a:pt x="455" y="1392"/>
                </a:lnTo>
                <a:lnTo>
                  <a:pt x="472" y="1380"/>
                </a:lnTo>
                <a:lnTo>
                  <a:pt x="489" y="1370"/>
                </a:lnTo>
                <a:lnTo>
                  <a:pt x="509" y="1359"/>
                </a:lnTo>
                <a:lnTo>
                  <a:pt x="530" y="1345"/>
                </a:lnTo>
                <a:lnTo>
                  <a:pt x="549" y="1334"/>
                </a:lnTo>
                <a:lnTo>
                  <a:pt x="570" y="1321"/>
                </a:lnTo>
                <a:lnTo>
                  <a:pt x="593" y="1307"/>
                </a:lnTo>
                <a:lnTo>
                  <a:pt x="605" y="1340"/>
                </a:lnTo>
                <a:lnTo>
                  <a:pt x="616" y="1372"/>
                </a:lnTo>
                <a:lnTo>
                  <a:pt x="593" y="1393"/>
                </a:lnTo>
                <a:lnTo>
                  <a:pt x="570" y="1415"/>
                </a:lnTo>
                <a:lnTo>
                  <a:pt x="549" y="1434"/>
                </a:lnTo>
                <a:lnTo>
                  <a:pt x="528" y="1453"/>
                </a:lnTo>
                <a:lnTo>
                  <a:pt x="509" y="1472"/>
                </a:lnTo>
                <a:lnTo>
                  <a:pt x="487" y="1489"/>
                </a:lnTo>
                <a:lnTo>
                  <a:pt x="468" y="1507"/>
                </a:lnTo>
                <a:lnTo>
                  <a:pt x="451" y="1524"/>
                </a:lnTo>
                <a:lnTo>
                  <a:pt x="432" y="1541"/>
                </a:lnTo>
                <a:lnTo>
                  <a:pt x="415" y="1557"/>
                </a:lnTo>
                <a:lnTo>
                  <a:pt x="397" y="1572"/>
                </a:lnTo>
                <a:lnTo>
                  <a:pt x="382" y="1587"/>
                </a:lnTo>
                <a:lnTo>
                  <a:pt x="367" y="1603"/>
                </a:lnTo>
                <a:lnTo>
                  <a:pt x="351" y="1616"/>
                </a:lnTo>
                <a:lnTo>
                  <a:pt x="338" y="1630"/>
                </a:lnTo>
                <a:lnTo>
                  <a:pt x="324" y="1643"/>
                </a:lnTo>
                <a:lnTo>
                  <a:pt x="311" y="1654"/>
                </a:lnTo>
                <a:lnTo>
                  <a:pt x="297" y="1666"/>
                </a:lnTo>
                <a:lnTo>
                  <a:pt x="286" y="1678"/>
                </a:lnTo>
                <a:lnTo>
                  <a:pt x="274" y="1689"/>
                </a:lnTo>
                <a:lnTo>
                  <a:pt x="265" y="1699"/>
                </a:lnTo>
                <a:lnTo>
                  <a:pt x="255" y="1708"/>
                </a:lnTo>
                <a:lnTo>
                  <a:pt x="246" y="1718"/>
                </a:lnTo>
                <a:lnTo>
                  <a:pt x="236" y="1727"/>
                </a:lnTo>
                <a:lnTo>
                  <a:pt x="228" y="1735"/>
                </a:lnTo>
                <a:lnTo>
                  <a:pt x="221" y="1743"/>
                </a:lnTo>
                <a:lnTo>
                  <a:pt x="215" y="1750"/>
                </a:lnTo>
                <a:lnTo>
                  <a:pt x="207" y="1758"/>
                </a:lnTo>
                <a:lnTo>
                  <a:pt x="201" y="1764"/>
                </a:lnTo>
                <a:lnTo>
                  <a:pt x="198" y="1772"/>
                </a:lnTo>
                <a:lnTo>
                  <a:pt x="194" y="1777"/>
                </a:lnTo>
                <a:lnTo>
                  <a:pt x="190" y="17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35"/>
          <p:cNvSpPr/>
          <p:nvPr/>
        </p:nvSpPr>
        <p:spPr>
          <a:xfrm>
            <a:off x="5834160" y="3328920"/>
            <a:ext cx="269640" cy="238320"/>
          </a:xfrm>
          <a:custGeom>
            <a:avLst/>
            <a:gdLst/>
            <a:ahLst/>
            <a:rect l="l" t="t" r="r" b="b"/>
            <a:pathLst>
              <a:path w="340" h="299">
                <a:moveTo>
                  <a:pt x="0" y="0"/>
                </a:moveTo>
                <a:lnTo>
                  <a:pt x="31" y="2"/>
                </a:lnTo>
                <a:lnTo>
                  <a:pt x="62" y="3"/>
                </a:lnTo>
                <a:lnTo>
                  <a:pt x="92" y="5"/>
                </a:lnTo>
                <a:lnTo>
                  <a:pt x="121" y="11"/>
                </a:lnTo>
                <a:lnTo>
                  <a:pt x="137" y="15"/>
                </a:lnTo>
                <a:lnTo>
                  <a:pt x="150" y="19"/>
                </a:lnTo>
                <a:lnTo>
                  <a:pt x="163" y="23"/>
                </a:lnTo>
                <a:lnTo>
                  <a:pt x="177" y="28"/>
                </a:lnTo>
                <a:lnTo>
                  <a:pt x="190" y="32"/>
                </a:lnTo>
                <a:lnTo>
                  <a:pt x="202" y="40"/>
                </a:lnTo>
                <a:lnTo>
                  <a:pt x="213" y="46"/>
                </a:lnTo>
                <a:lnTo>
                  <a:pt x="225" y="53"/>
                </a:lnTo>
                <a:lnTo>
                  <a:pt x="236" y="61"/>
                </a:lnTo>
                <a:lnTo>
                  <a:pt x="246" y="67"/>
                </a:lnTo>
                <a:lnTo>
                  <a:pt x="256" y="74"/>
                </a:lnTo>
                <a:lnTo>
                  <a:pt x="265" y="80"/>
                </a:lnTo>
                <a:lnTo>
                  <a:pt x="273" y="88"/>
                </a:lnTo>
                <a:lnTo>
                  <a:pt x="283" y="94"/>
                </a:lnTo>
                <a:lnTo>
                  <a:pt x="288" y="99"/>
                </a:lnTo>
                <a:lnTo>
                  <a:pt x="296" y="105"/>
                </a:lnTo>
                <a:lnTo>
                  <a:pt x="302" y="113"/>
                </a:lnTo>
                <a:lnTo>
                  <a:pt x="307" y="119"/>
                </a:lnTo>
                <a:lnTo>
                  <a:pt x="313" y="124"/>
                </a:lnTo>
                <a:lnTo>
                  <a:pt x="319" y="130"/>
                </a:lnTo>
                <a:lnTo>
                  <a:pt x="323" y="138"/>
                </a:lnTo>
                <a:lnTo>
                  <a:pt x="327" y="144"/>
                </a:lnTo>
                <a:lnTo>
                  <a:pt x="329" y="151"/>
                </a:lnTo>
                <a:lnTo>
                  <a:pt x="332" y="159"/>
                </a:lnTo>
                <a:lnTo>
                  <a:pt x="336" y="172"/>
                </a:lnTo>
                <a:lnTo>
                  <a:pt x="338" y="186"/>
                </a:lnTo>
                <a:lnTo>
                  <a:pt x="340" y="199"/>
                </a:lnTo>
                <a:lnTo>
                  <a:pt x="340" y="211"/>
                </a:lnTo>
                <a:lnTo>
                  <a:pt x="340" y="224"/>
                </a:lnTo>
                <a:lnTo>
                  <a:pt x="338" y="236"/>
                </a:lnTo>
                <a:lnTo>
                  <a:pt x="336" y="249"/>
                </a:lnTo>
                <a:lnTo>
                  <a:pt x="332" y="265"/>
                </a:lnTo>
                <a:lnTo>
                  <a:pt x="329" y="270"/>
                </a:lnTo>
                <a:lnTo>
                  <a:pt x="327" y="278"/>
                </a:lnTo>
                <a:lnTo>
                  <a:pt x="325" y="282"/>
                </a:lnTo>
                <a:lnTo>
                  <a:pt x="323" y="288"/>
                </a:lnTo>
                <a:lnTo>
                  <a:pt x="319" y="289"/>
                </a:lnTo>
                <a:lnTo>
                  <a:pt x="317" y="293"/>
                </a:lnTo>
                <a:lnTo>
                  <a:pt x="313" y="295"/>
                </a:lnTo>
                <a:lnTo>
                  <a:pt x="311" y="297"/>
                </a:lnTo>
                <a:lnTo>
                  <a:pt x="307" y="297"/>
                </a:lnTo>
                <a:lnTo>
                  <a:pt x="304" y="299"/>
                </a:lnTo>
                <a:lnTo>
                  <a:pt x="300" y="299"/>
                </a:lnTo>
                <a:lnTo>
                  <a:pt x="296" y="297"/>
                </a:lnTo>
                <a:lnTo>
                  <a:pt x="290" y="297"/>
                </a:lnTo>
                <a:lnTo>
                  <a:pt x="284" y="295"/>
                </a:lnTo>
                <a:lnTo>
                  <a:pt x="279" y="293"/>
                </a:lnTo>
                <a:lnTo>
                  <a:pt x="273" y="291"/>
                </a:lnTo>
                <a:lnTo>
                  <a:pt x="265" y="288"/>
                </a:lnTo>
                <a:lnTo>
                  <a:pt x="258" y="282"/>
                </a:lnTo>
                <a:lnTo>
                  <a:pt x="248" y="274"/>
                </a:lnTo>
                <a:lnTo>
                  <a:pt x="236" y="266"/>
                </a:lnTo>
                <a:lnTo>
                  <a:pt x="231" y="261"/>
                </a:lnTo>
                <a:lnTo>
                  <a:pt x="225" y="255"/>
                </a:lnTo>
                <a:lnTo>
                  <a:pt x="217" y="249"/>
                </a:lnTo>
                <a:lnTo>
                  <a:pt x="211" y="241"/>
                </a:lnTo>
                <a:lnTo>
                  <a:pt x="204" y="234"/>
                </a:lnTo>
                <a:lnTo>
                  <a:pt x="196" y="226"/>
                </a:lnTo>
                <a:lnTo>
                  <a:pt x="188" y="218"/>
                </a:lnTo>
                <a:lnTo>
                  <a:pt x="181" y="211"/>
                </a:lnTo>
                <a:lnTo>
                  <a:pt x="171" y="201"/>
                </a:lnTo>
                <a:lnTo>
                  <a:pt x="162" y="192"/>
                </a:lnTo>
                <a:lnTo>
                  <a:pt x="154" y="180"/>
                </a:lnTo>
                <a:lnTo>
                  <a:pt x="144" y="170"/>
                </a:lnTo>
                <a:lnTo>
                  <a:pt x="133" y="159"/>
                </a:lnTo>
                <a:lnTo>
                  <a:pt x="123" y="147"/>
                </a:lnTo>
                <a:lnTo>
                  <a:pt x="114" y="136"/>
                </a:lnTo>
                <a:lnTo>
                  <a:pt x="102" y="122"/>
                </a:lnTo>
                <a:lnTo>
                  <a:pt x="91" y="109"/>
                </a:lnTo>
                <a:lnTo>
                  <a:pt x="79" y="96"/>
                </a:lnTo>
                <a:lnTo>
                  <a:pt x="66" y="80"/>
                </a:lnTo>
                <a:lnTo>
                  <a:pt x="54" y="65"/>
                </a:lnTo>
                <a:lnTo>
                  <a:pt x="41" y="50"/>
                </a:lnTo>
                <a:lnTo>
                  <a:pt x="27" y="34"/>
                </a:lnTo>
                <a:lnTo>
                  <a:pt x="14" y="1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36"/>
          <p:cNvSpPr/>
          <p:nvPr/>
        </p:nvSpPr>
        <p:spPr>
          <a:xfrm>
            <a:off x="5683320" y="2727360"/>
            <a:ext cx="236520" cy="2278080"/>
          </a:xfrm>
          <a:custGeom>
            <a:avLst/>
            <a:gdLst/>
            <a:ahLst/>
            <a:rect l="l" t="t" r="r" b="b"/>
            <a:pathLst>
              <a:path w="298" h="2870">
                <a:moveTo>
                  <a:pt x="48" y="114"/>
                </a:moveTo>
                <a:lnTo>
                  <a:pt x="41" y="106"/>
                </a:lnTo>
                <a:lnTo>
                  <a:pt x="35" y="98"/>
                </a:lnTo>
                <a:lnTo>
                  <a:pt x="31" y="93"/>
                </a:lnTo>
                <a:lnTo>
                  <a:pt x="25" y="85"/>
                </a:lnTo>
                <a:lnTo>
                  <a:pt x="21" y="79"/>
                </a:lnTo>
                <a:lnTo>
                  <a:pt x="18" y="73"/>
                </a:lnTo>
                <a:lnTo>
                  <a:pt x="16" y="68"/>
                </a:lnTo>
                <a:lnTo>
                  <a:pt x="12" y="62"/>
                </a:lnTo>
                <a:lnTo>
                  <a:pt x="10" y="56"/>
                </a:lnTo>
                <a:lnTo>
                  <a:pt x="10" y="50"/>
                </a:lnTo>
                <a:lnTo>
                  <a:pt x="8" y="45"/>
                </a:lnTo>
                <a:lnTo>
                  <a:pt x="8" y="41"/>
                </a:lnTo>
                <a:lnTo>
                  <a:pt x="8" y="35"/>
                </a:lnTo>
                <a:lnTo>
                  <a:pt x="10" y="31"/>
                </a:lnTo>
                <a:lnTo>
                  <a:pt x="10" y="25"/>
                </a:lnTo>
                <a:lnTo>
                  <a:pt x="12" y="20"/>
                </a:lnTo>
                <a:lnTo>
                  <a:pt x="16" y="16"/>
                </a:lnTo>
                <a:lnTo>
                  <a:pt x="20" y="12"/>
                </a:lnTo>
                <a:lnTo>
                  <a:pt x="23" y="8"/>
                </a:lnTo>
                <a:lnTo>
                  <a:pt x="29" y="6"/>
                </a:lnTo>
                <a:lnTo>
                  <a:pt x="37" y="2"/>
                </a:lnTo>
                <a:lnTo>
                  <a:pt x="44" y="2"/>
                </a:lnTo>
                <a:lnTo>
                  <a:pt x="54" y="0"/>
                </a:lnTo>
                <a:lnTo>
                  <a:pt x="64" y="0"/>
                </a:lnTo>
                <a:lnTo>
                  <a:pt x="73" y="0"/>
                </a:lnTo>
                <a:lnTo>
                  <a:pt x="85" y="0"/>
                </a:lnTo>
                <a:lnTo>
                  <a:pt x="96" y="2"/>
                </a:lnTo>
                <a:lnTo>
                  <a:pt x="110" y="4"/>
                </a:lnTo>
                <a:lnTo>
                  <a:pt x="123" y="8"/>
                </a:lnTo>
                <a:lnTo>
                  <a:pt x="137" y="12"/>
                </a:lnTo>
                <a:lnTo>
                  <a:pt x="152" y="16"/>
                </a:lnTo>
                <a:lnTo>
                  <a:pt x="167" y="20"/>
                </a:lnTo>
                <a:lnTo>
                  <a:pt x="181" y="27"/>
                </a:lnTo>
                <a:lnTo>
                  <a:pt x="196" y="35"/>
                </a:lnTo>
                <a:lnTo>
                  <a:pt x="208" y="41"/>
                </a:lnTo>
                <a:lnTo>
                  <a:pt x="219" y="48"/>
                </a:lnTo>
                <a:lnTo>
                  <a:pt x="231" y="54"/>
                </a:lnTo>
                <a:lnTo>
                  <a:pt x="240" y="60"/>
                </a:lnTo>
                <a:lnTo>
                  <a:pt x="250" y="66"/>
                </a:lnTo>
                <a:lnTo>
                  <a:pt x="258" y="71"/>
                </a:lnTo>
                <a:lnTo>
                  <a:pt x="265" y="77"/>
                </a:lnTo>
                <a:lnTo>
                  <a:pt x="273" y="83"/>
                </a:lnTo>
                <a:lnTo>
                  <a:pt x="279" y="87"/>
                </a:lnTo>
                <a:lnTo>
                  <a:pt x="282" y="93"/>
                </a:lnTo>
                <a:lnTo>
                  <a:pt x="288" y="98"/>
                </a:lnTo>
                <a:lnTo>
                  <a:pt x="292" y="102"/>
                </a:lnTo>
                <a:lnTo>
                  <a:pt x="294" y="108"/>
                </a:lnTo>
                <a:lnTo>
                  <a:pt x="298" y="114"/>
                </a:lnTo>
                <a:lnTo>
                  <a:pt x="296" y="123"/>
                </a:lnTo>
                <a:lnTo>
                  <a:pt x="294" y="133"/>
                </a:lnTo>
                <a:lnTo>
                  <a:pt x="292" y="142"/>
                </a:lnTo>
                <a:lnTo>
                  <a:pt x="290" y="154"/>
                </a:lnTo>
                <a:lnTo>
                  <a:pt x="286" y="166"/>
                </a:lnTo>
                <a:lnTo>
                  <a:pt x="282" y="177"/>
                </a:lnTo>
                <a:lnTo>
                  <a:pt x="277" y="190"/>
                </a:lnTo>
                <a:lnTo>
                  <a:pt x="273" y="206"/>
                </a:lnTo>
                <a:lnTo>
                  <a:pt x="271" y="213"/>
                </a:lnTo>
                <a:lnTo>
                  <a:pt x="269" y="221"/>
                </a:lnTo>
                <a:lnTo>
                  <a:pt x="267" y="231"/>
                </a:lnTo>
                <a:lnTo>
                  <a:pt x="265" y="240"/>
                </a:lnTo>
                <a:lnTo>
                  <a:pt x="263" y="250"/>
                </a:lnTo>
                <a:lnTo>
                  <a:pt x="261" y="260"/>
                </a:lnTo>
                <a:lnTo>
                  <a:pt x="259" y="271"/>
                </a:lnTo>
                <a:lnTo>
                  <a:pt x="258" y="283"/>
                </a:lnTo>
                <a:lnTo>
                  <a:pt x="254" y="308"/>
                </a:lnTo>
                <a:lnTo>
                  <a:pt x="252" y="333"/>
                </a:lnTo>
                <a:lnTo>
                  <a:pt x="250" y="361"/>
                </a:lnTo>
                <a:lnTo>
                  <a:pt x="250" y="390"/>
                </a:lnTo>
                <a:lnTo>
                  <a:pt x="248" y="398"/>
                </a:lnTo>
                <a:lnTo>
                  <a:pt x="248" y="407"/>
                </a:lnTo>
                <a:lnTo>
                  <a:pt x="246" y="417"/>
                </a:lnTo>
                <a:lnTo>
                  <a:pt x="246" y="428"/>
                </a:lnTo>
                <a:lnTo>
                  <a:pt x="244" y="442"/>
                </a:lnTo>
                <a:lnTo>
                  <a:pt x="244" y="457"/>
                </a:lnTo>
                <a:lnTo>
                  <a:pt x="244" y="473"/>
                </a:lnTo>
                <a:lnTo>
                  <a:pt x="242" y="488"/>
                </a:lnTo>
                <a:lnTo>
                  <a:pt x="242" y="507"/>
                </a:lnTo>
                <a:lnTo>
                  <a:pt x="242" y="524"/>
                </a:lnTo>
                <a:lnTo>
                  <a:pt x="240" y="546"/>
                </a:lnTo>
                <a:lnTo>
                  <a:pt x="240" y="567"/>
                </a:lnTo>
                <a:lnTo>
                  <a:pt x="240" y="590"/>
                </a:lnTo>
                <a:lnTo>
                  <a:pt x="240" y="613"/>
                </a:lnTo>
                <a:lnTo>
                  <a:pt x="240" y="640"/>
                </a:lnTo>
                <a:lnTo>
                  <a:pt x="238" y="665"/>
                </a:lnTo>
                <a:lnTo>
                  <a:pt x="238" y="693"/>
                </a:lnTo>
                <a:lnTo>
                  <a:pt x="238" y="722"/>
                </a:lnTo>
                <a:lnTo>
                  <a:pt x="238" y="751"/>
                </a:lnTo>
                <a:lnTo>
                  <a:pt x="238" y="782"/>
                </a:lnTo>
                <a:lnTo>
                  <a:pt x="238" y="814"/>
                </a:lnTo>
                <a:lnTo>
                  <a:pt x="238" y="849"/>
                </a:lnTo>
                <a:lnTo>
                  <a:pt x="238" y="883"/>
                </a:lnTo>
                <a:lnTo>
                  <a:pt x="238" y="918"/>
                </a:lnTo>
                <a:lnTo>
                  <a:pt x="238" y="956"/>
                </a:lnTo>
                <a:lnTo>
                  <a:pt x="238" y="993"/>
                </a:lnTo>
                <a:lnTo>
                  <a:pt x="238" y="1033"/>
                </a:lnTo>
                <a:lnTo>
                  <a:pt x="238" y="1073"/>
                </a:lnTo>
                <a:lnTo>
                  <a:pt x="238" y="1116"/>
                </a:lnTo>
                <a:lnTo>
                  <a:pt x="238" y="1158"/>
                </a:lnTo>
                <a:lnTo>
                  <a:pt x="238" y="1202"/>
                </a:lnTo>
                <a:lnTo>
                  <a:pt x="238" y="1248"/>
                </a:lnTo>
                <a:lnTo>
                  <a:pt x="236" y="1292"/>
                </a:lnTo>
                <a:lnTo>
                  <a:pt x="234" y="1338"/>
                </a:lnTo>
                <a:lnTo>
                  <a:pt x="234" y="1382"/>
                </a:lnTo>
                <a:lnTo>
                  <a:pt x="233" y="1427"/>
                </a:lnTo>
                <a:lnTo>
                  <a:pt x="233" y="1469"/>
                </a:lnTo>
                <a:lnTo>
                  <a:pt x="231" y="1511"/>
                </a:lnTo>
                <a:lnTo>
                  <a:pt x="229" y="1553"/>
                </a:lnTo>
                <a:lnTo>
                  <a:pt x="229" y="1596"/>
                </a:lnTo>
                <a:lnTo>
                  <a:pt x="227" y="1636"/>
                </a:lnTo>
                <a:lnTo>
                  <a:pt x="227" y="1678"/>
                </a:lnTo>
                <a:lnTo>
                  <a:pt x="225" y="1716"/>
                </a:lnTo>
                <a:lnTo>
                  <a:pt x="223" y="1757"/>
                </a:lnTo>
                <a:lnTo>
                  <a:pt x="223" y="1795"/>
                </a:lnTo>
                <a:lnTo>
                  <a:pt x="221" y="1834"/>
                </a:lnTo>
                <a:lnTo>
                  <a:pt x="219" y="1872"/>
                </a:lnTo>
                <a:lnTo>
                  <a:pt x="217" y="1908"/>
                </a:lnTo>
                <a:lnTo>
                  <a:pt x="217" y="1945"/>
                </a:lnTo>
                <a:lnTo>
                  <a:pt x="215" y="1981"/>
                </a:lnTo>
                <a:lnTo>
                  <a:pt x="213" y="2016"/>
                </a:lnTo>
                <a:lnTo>
                  <a:pt x="211" y="2050"/>
                </a:lnTo>
                <a:lnTo>
                  <a:pt x="211" y="2085"/>
                </a:lnTo>
                <a:lnTo>
                  <a:pt x="210" y="2120"/>
                </a:lnTo>
                <a:lnTo>
                  <a:pt x="208" y="2152"/>
                </a:lnTo>
                <a:lnTo>
                  <a:pt x="206" y="2185"/>
                </a:lnTo>
                <a:lnTo>
                  <a:pt x="204" y="2216"/>
                </a:lnTo>
                <a:lnTo>
                  <a:pt x="202" y="2246"/>
                </a:lnTo>
                <a:lnTo>
                  <a:pt x="200" y="2277"/>
                </a:lnTo>
                <a:lnTo>
                  <a:pt x="198" y="2308"/>
                </a:lnTo>
                <a:lnTo>
                  <a:pt x="196" y="2336"/>
                </a:lnTo>
                <a:lnTo>
                  <a:pt x="194" y="2365"/>
                </a:lnTo>
                <a:lnTo>
                  <a:pt x="192" y="2394"/>
                </a:lnTo>
                <a:lnTo>
                  <a:pt x="190" y="2421"/>
                </a:lnTo>
                <a:lnTo>
                  <a:pt x="186" y="2450"/>
                </a:lnTo>
                <a:lnTo>
                  <a:pt x="183" y="2477"/>
                </a:lnTo>
                <a:lnTo>
                  <a:pt x="181" y="2503"/>
                </a:lnTo>
                <a:lnTo>
                  <a:pt x="177" y="2528"/>
                </a:lnTo>
                <a:lnTo>
                  <a:pt x="175" y="2551"/>
                </a:lnTo>
                <a:lnTo>
                  <a:pt x="171" y="2576"/>
                </a:lnTo>
                <a:lnTo>
                  <a:pt x="169" y="2597"/>
                </a:lnTo>
                <a:lnTo>
                  <a:pt x="165" y="2619"/>
                </a:lnTo>
                <a:lnTo>
                  <a:pt x="163" y="2640"/>
                </a:lnTo>
                <a:lnTo>
                  <a:pt x="160" y="2659"/>
                </a:lnTo>
                <a:lnTo>
                  <a:pt x="158" y="2678"/>
                </a:lnTo>
                <a:lnTo>
                  <a:pt x="156" y="2697"/>
                </a:lnTo>
                <a:lnTo>
                  <a:pt x="154" y="2715"/>
                </a:lnTo>
                <a:lnTo>
                  <a:pt x="150" y="2730"/>
                </a:lnTo>
                <a:lnTo>
                  <a:pt x="148" y="2745"/>
                </a:lnTo>
                <a:lnTo>
                  <a:pt x="146" y="2759"/>
                </a:lnTo>
                <a:lnTo>
                  <a:pt x="144" y="2772"/>
                </a:lnTo>
                <a:lnTo>
                  <a:pt x="142" y="2786"/>
                </a:lnTo>
                <a:lnTo>
                  <a:pt x="140" y="2797"/>
                </a:lnTo>
                <a:lnTo>
                  <a:pt x="137" y="2809"/>
                </a:lnTo>
                <a:lnTo>
                  <a:pt x="135" y="2818"/>
                </a:lnTo>
                <a:lnTo>
                  <a:pt x="133" y="2828"/>
                </a:lnTo>
                <a:lnTo>
                  <a:pt x="133" y="2835"/>
                </a:lnTo>
                <a:lnTo>
                  <a:pt x="131" y="2843"/>
                </a:lnTo>
                <a:lnTo>
                  <a:pt x="129" y="2849"/>
                </a:lnTo>
                <a:lnTo>
                  <a:pt x="127" y="2855"/>
                </a:lnTo>
                <a:lnTo>
                  <a:pt x="125" y="2859"/>
                </a:lnTo>
                <a:lnTo>
                  <a:pt x="123" y="2862"/>
                </a:lnTo>
                <a:lnTo>
                  <a:pt x="123" y="2866"/>
                </a:lnTo>
                <a:lnTo>
                  <a:pt x="121" y="2868"/>
                </a:lnTo>
                <a:lnTo>
                  <a:pt x="119" y="2870"/>
                </a:lnTo>
                <a:lnTo>
                  <a:pt x="117" y="2870"/>
                </a:lnTo>
                <a:lnTo>
                  <a:pt x="114" y="2868"/>
                </a:lnTo>
                <a:lnTo>
                  <a:pt x="112" y="2866"/>
                </a:lnTo>
                <a:lnTo>
                  <a:pt x="108" y="2862"/>
                </a:lnTo>
                <a:lnTo>
                  <a:pt x="104" y="2859"/>
                </a:lnTo>
                <a:lnTo>
                  <a:pt x="100" y="2853"/>
                </a:lnTo>
                <a:lnTo>
                  <a:pt x="96" y="2847"/>
                </a:lnTo>
                <a:lnTo>
                  <a:pt x="92" y="2841"/>
                </a:lnTo>
                <a:lnTo>
                  <a:pt x="87" y="2832"/>
                </a:lnTo>
                <a:lnTo>
                  <a:pt x="83" y="2824"/>
                </a:lnTo>
                <a:lnTo>
                  <a:pt x="77" y="2814"/>
                </a:lnTo>
                <a:lnTo>
                  <a:pt x="71" y="2803"/>
                </a:lnTo>
                <a:lnTo>
                  <a:pt x="66" y="2791"/>
                </a:lnTo>
                <a:lnTo>
                  <a:pt x="60" y="2780"/>
                </a:lnTo>
                <a:lnTo>
                  <a:pt x="54" y="2766"/>
                </a:lnTo>
                <a:lnTo>
                  <a:pt x="48" y="2751"/>
                </a:lnTo>
                <a:lnTo>
                  <a:pt x="43" y="2734"/>
                </a:lnTo>
                <a:lnTo>
                  <a:pt x="37" y="2718"/>
                </a:lnTo>
                <a:lnTo>
                  <a:pt x="31" y="2703"/>
                </a:lnTo>
                <a:lnTo>
                  <a:pt x="25" y="2690"/>
                </a:lnTo>
                <a:lnTo>
                  <a:pt x="21" y="2674"/>
                </a:lnTo>
                <a:lnTo>
                  <a:pt x="18" y="2663"/>
                </a:lnTo>
                <a:lnTo>
                  <a:pt x="14" y="2651"/>
                </a:lnTo>
                <a:lnTo>
                  <a:pt x="12" y="2640"/>
                </a:lnTo>
                <a:lnTo>
                  <a:pt x="8" y="2628"/>
                </a:lnTo>
                <a:lnTo>
                  <a:pt x="6" y="2619"/>
                </a:lnTo>
                <a:lnTo>
                  <a:pt x="4" y="2609"/>
                </a:lnTo>
                <a:lnTo>
                  <a:pt x="4" y="2599"/>
                </a:lnTo>
                <a:lnTo>
                  <a:pt x="2" y="2582"/>
                </a:lnTo>
                <a:lnTo>
                  <a:pt x="0" y="2567"/>
                </a:lnTo>
                <a:lnTo>
                  <a:pt x="0" y="2563"/>
                </a:lnTo>
                <a:lnTo>
                  <a:pt x="0" y="2559"/>
                </a:lnTo>
                <a:lnTo>
                  <a:pt x="2" y="2555"/>
                </a:lnTo>
                <a:lnTo>
                  <a:pt x="2" y="2551"/>
                </a:lnTo>
                <a:lnTo>
                  <a:pt x="2" y="2546"/>
                </a:lnTo>
                <a:lnTo>
                  <a:pt x="4" y="2538"/>
                </a:lnTo>
                <a:lnTo>
                  <a:pt x="4" y="2532"/>
                </a:lnTo>
                <a:lnTo>
                  <a:pt x="6" y="2525"/>
                </a:lnTo>
                <a:lnTo>
                  <a:pt x="6" y="2515"/>
                </a:lnTo>
                <a:lnTo>
                  <a:pt x="8" y="2507"/>
                </a:lnTo>
                <a:lnTo>
                  <a:pt x="8" y="2496"/>
                </a:lnTo>
                <a:lnTo>
                  <a:pt x="10" y="2486"/>
                </a:lnTo>
                <a:lnTo>
                  <a:pt x="12" y="2475"/>
                </a:lnTo>
                <a:lnTo>
                  <a:pt x="14" y="2463"/>
                </a:lnTo>
                <a:lnTo>
                  <a:pt x="16" y="2450"/>
                </a:lnTo>
                <a:lnTo>
                  <a:pt x="18" y="2436"/>
                </a:lnTo>
                <a:lnTo>
                  <a:pt x="20" y="2423"/>
                </a:lnTo>
                <a:lnTo>
                  <a:pt x="21" y="2407"/>
                </a:lnTo>
                <a:lnTo>
                  <a:pt x="23" y="2392"/>
                </a:lnTo>
                <a:lnTo>
                  <a:pt x="25" y="2375"/>
                </a:lnTo>
                <a:lnTo>
                  <a:pt x="29" y="2358"/>
                </a:lnTo>
                <a:lnTo>
                  <a:pt x="31" y="2340"/>
                </a:lnTo>
                <a:lnTo>
                  <a:pt x="33" y="2321"/>
                </a:lnTo>
                <a:lnTo>
                  <a:pt x="37" y="2302"/>
                </a:lnTo>
                <a:lnTo>
                  <a:pt x="39" y="2281"/>
                </a:lnTo>
                <a:lnTo>
                  <a:pt x="41" y="2260"/>
                </a:lnTo>
                <a:lnTo>
                  <a:pt x="44" y="2239"/>
                </a:lnTo>
                <a:lnTo>
                  <a:pt x="46" y="2216"/>
                </a:lnTo>
                <a:lnTo>
                  <a:pt x="50" y="2192"/>
                </a:lnTo>
                <a:lnTo>
                  <a:pt x="54" y="2169"/>
                </a:lnTo>
                <a:lnTo>
                  <a:pt x="56" y="2144"/>
                </a:lnTo>
                <a:lnTo>
                  <a:pt x="60" y="2118"/>
                </a:lnTo>
                <a:lnTo>
                  <a:pt x="64" y="2093"/>
                </a:lnTo>
                <a:lnTo>
                  <a:pt x="66" y="2064"/>
                </a:lnTo>
                <a:lnTo>
                  <a:pt x="69" y="2037"/>
                </a:lnTo>
                <a:lnTo>
                  <a:pt x="71" y="2008"/>
                </a:lnTo>
                <a:lnTo>
                  <a:pt x="75" y="1979"/>
                </a:lnTo>
                <a:lnTo>
                  <a:pt x="77" y="1949"/>
                </a:lnTo>
                <a:lnTo>
                  <a:pt x="79" y="1920"/>
                </a:lnTo>
                <a:lnTo>
                  <a:pt x="83" y="1887"/>
                </a:lnTo>
                <a:lnTo>
                  <a:pt x="85" y="1857"/>
                </a:lnTo>
                <a:lnTo>
                  <a:pt x="87" y="1824"/>
                </a:lnTo>
                <a:lnTo>
                  <a:pt x="89" y="1789"/>
                </a:lnTo>
                <a:lnTo>
                  <a:pt x="91" y="1757"/>
                </a:lnTo>
                <a:lnTo>
                  <a:pt x="92" y="1722"/>
                </a:lnTo>
                <a:lnTo>
                  <a:pt x="94" y="1686"/>
                </a:lnTo>
                <a:lnTo>
                  <a:pt x="96" y="1649"/>
                </a:lnTo>
                <a:lnTo>
                  <a:pt x="98" y="1613"/>
                </a:lnTo>
                <a:lnTo>
                  <a:pt x="100" y="1576"/>
                </a:lnTo>
                <a:lnTo>
                  <a:pt x="102" y="1538"/>
                </a:lnTo>
                <a:lnTo>
                  <a:pt x="102" y="1500"/>
                </a:lnTo>
                <a:lnTo>
                  <a:pt x="104" y="1459"/>
                </a:lnTo>
                <a:lnTo>
                  <a:pt x="106" y="1419"/>
                </a:lnTo>
                <a:lnTo>
                  <a:pt x="108" y="1379"/>
                </a:lnTo>
                <a:lnTo>
                  <a:pt x="108" y="1336"/>
                </a:lnTo>
                <a:lnTo>
                  <a:pt x="110" y="1294"/>
                </a:lnTo>
                <a:lnTo>
                  <a:pt x="112" y="1252"/>
                </a:lnTo>
                <a:lnTo>
                  <a:pt x="112" y="1208"/>
                </a:lnTo>
                <a:lnTo>
                  <a:pt x="114" y="1164"/>
                </a:lnTo>
                <a:lnTo>
                  <a:pt x="114" y="1118"/>
                </a:lnTo>
                <a:lnTo>
                  <a:pt x="115" y="1072"/>
                </a:lnTo>
                <a:lnTo>
                  <a:pt x="117" y="1025"/>
                </a:lnTo>
                <a:lnTo>
                  <a:pt x="117" y="977"/>
                </a:lnTo>
                <a:lnTo>
                  <a:pt x="119" y="931"/>
                </a:lnTo>
                <a:lnTo>
                  <a:pt x="119" y="883"/>
                </a:lnTo>
                <a:lnTo>
                  <a:pt x="119" y="837"/>
                </a:lnTo>
                <a:lnTo>
                  <a:pt x="117" y="791"/>
                </a:lnTo>
                <a:lnTo>
                  <a:pt x="117" y="749"/>
                </a:lnTo>
                <a:lnTo>
                  <a:pt x="117" y="707"/>
                </a:lnTo>
                <a:lnTo>
                  <a:pt x="115" y="666"/>
                </a:lnTo>
                <a:lnTo>
                  <a:pt x="115" y="628"/>
                </a:lnTo>
                <a:lnTo>
                  <a:pt x="114" y="590"/>
                </a:lnTo>
                <a:lnTo>
                  <a:pt x="114" y="553"/>
                </a:lnTo>
                <a:lnTo>
                  <a:pt x="112" y="519"/>
                </a:lnTo>
                <a:lnTo>
                  <a:pt x="110" y="484"/>
                </a:lnTo>
                <a:lnTo>
                  <a:pt x="110" y="453"/>
                </a:lnTo>
                <a:lnTo>
                  <a:pt x="108" y="423"/>
                </a:lnTo>
                <a:lnTo>
                  <a:pt x="106" y="392"/>
                </a:lnTo>
                <a:lnTo>
                  <a:pt x="104" y="365"/>
                </a:lnTo>
                <a:lnTo>
                  <a:pt x="102" y="338"/>
                </a:lnTo>
                <a:lnTo>
                  <a:pt x="98" y="313"/>
                </a:lnTo>
                <a:lnTo>
                  <a:pt x="96" y="290"/>
                </a:lnTo>
                <a:lnTo>
                  <a:pt x="94" y="269"/>
                </a:lnTo>
                <a:lnTo>
                  <a:pt x="91" y="248"/>
                </a:lnTo>
                <a:lnTo>
                  <a:pt x="89" y="229"/>
                </a:lnTo>
                <a:lnTo>
                  <a:pt x="85" y="212"/>
                </a:lnTo>
                <a:lnTo>
                  <a:pt x="83" y="194"/>
                </a:lnTo>
                <a:lnTo>
                  <a:pt x="79" y="179"/>
                </a:lnTo>
                <a:lnTo>
                  <a:pt x="75" y="166"/>
                </a:lnTo>
                <a:lnTo>
                  <a:pt x="71" y="154"/>
                </a:lnTo>
                <a:lnTo>
                  <a:pt x="67" y="144"/>
                </a:lnTo>
                <a:lnTo>
                  <a:pt x="64" y="135"/>
                </a:lnTo>
                <a:lnTo>
                  <a:pt x="60" y="127"/>
                </a:lnTo>
                <a:lnTo>
                  <a:pt x="56" y="121"/>
                </a:lnTo>
                <a:lnTo>
                  <a:pt x="52" y="116"/>
                </a:lnTo>
                <a:lnTo>
                  <a:pt x="48" y="1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37"/>
          <p:cNvSpPr/>
          <p:nvPr/>
        </p:nvSpPr>
        <p:spPr>
          <a:xfrm>
            <a:off x="5430960" y="3495600"/>
            <a:ext cx="187200" cy="587520"/>
          </a:xfrm>
          <a:custGeom>
            <a:avLst/>
            <a:gdLst/>
            <a:ahLst/>
            <a:rect l="l" t="t" r="r" b="b"/>
            <a:pathLst>
              <a:path w="236" h="739">
                <a:moveTo>
                  <a:pt x="82" y="238"/>
                </a:moveTo>
                <a:lnTo>
                  <a:pt x="86" y="203"/>
                </a:lnTo>
                <a:lnTo>
                  <a:pt x="90" y="171"/>
                </a:lnTo>
                <a:lnTo>
                  <a:pt x="94" y="140"/>
                </a:lnTo>
                <a:lnTo>
                  <a:pt x="98" y="109"/>
                </a:lnTo>
                <a:lnTo>
                  <a:pt x="101" y="80"/>
                </a:lnTo>
                <a:lnTo>
                  <a:pt x="103" y="52"/>
                </a:lnTo>
                <a:lnTo>
                  <a:pt x="105" y="25"/>
                </a:lnTo>
                <a:lnTo>
                  <a:pt x="105" y="0"/>
                </a:lnTo>
                <a:lnTo>
                  <a:pt x="132" y="21"/>
                </a:lnTo>
                <a:lnTo>
                  <a:pt x="146" y="30"/>
                </a:lnTo>
                <a:lnTo>
                  <a:pt x="157" y="42"/>
                </a:lnTo>
                <a:lnTo>
                  <a:pt x="169" y="54"/>
                </a:lnTo>
                <a:lnTo>
                  <a:pt x="180" y="65"/>
                </a:lnTo>
                <a:lnTo>
                  <a:pt x="192" y="78"/>
                </a:lnTo>
                <a:lnTo>
                  <a:pt x="201" y="92"/>
                </a:lnTo>
                <a:lnTo>
                  <a:pt x="203" y="100"/>
                </a:lnTo>
                <a:lnTo>
                  <a:pt x="205" y="109"/>
                </a:lnTo>
                <a:lnTo>
                  <a:pt x="207" y="117"/>
                </a:lnTo>
                <a:lnTo>
                  <a:pt x="209" y="126"/>
                </a:lnTo>
                <a:lnTo>
                  <a:pt x="211" y="138"/>
                </a:lnTo>
                <a:lnTo>
                  <a:pt x="213" y="149"/>
                </a:lnTo>
                <a:lnTo>
                  <a:pt x="217" y="161"/>
                </a:lnTo>
                <a:lnTo>
                  <a:pt x="218" y="173"/>
                </a:lnTo>
                <a:lnTo>
                  <a:pt x="220" y="186"/>
                </a:lnTo>
                <a:lnTo>
                  <a:pt x="222" y="201"/>
                </a:lnTo>
                <a:lnTo>
                  <a:pt x="224" y="217"/>
                </a:lnTo>
                <a:lnTo>
                  <a:pt x="226" y="232"/>
                </a:lnTo>
                <a:lnTo>
                  <a:pt x="230" y="247"/>
                </a:lnTo>
                <a:lnTo>
                  <a:pt x="232" y="267"/>
                </a:lnTo>
                <a:lnTo>
                  <a:pt x="234" y="284"/>
                </a:lnTo>
                <a:lnTo>
                  <a:pt x="236" y="303"/>
                </a:lnTo>
                <a:lnTo>
                  <a:pt x="236" y="324"/>
                </a:lnTo>
                <a:lnTo>
                  <a:pt x="234" y="343"/>
                </a:lnTo>
                <a:lnTo>
                  <a:pt x="234" y="363"/>
                </a:lnTo>
                <a:lnTo>
                  <a:pt x="232" y="380"/>
                </a:lnTo>
                <a:lnTo>
                  <a:pt x="230" y="399"/>
                </a:lnTo>
                <a:lnTo>
                  <a:pt x="226" y="418"/>
                </a:lnTo>
                <a:lnTo>
                  <a:pt x="218" y="453"/>
                </a:lnTo>
                <a:lnTo>
                  <a:pt x="211" y="489"/>
                </a:lnTo>
                <a:lnTo>
                  <a:pt x="201" y="524"/>
                </a:lnTo>
                <a:lnTo>
                  <a:pt x="190" y="558"/>
                </a:lnTo>
                <a:lnTo>
                  <a:pt x="176" y="595"/>
                </a:lnTo>
                <a:lnTo>
                  <a:pt x="169" y="610"/>
                </a:lnTo>
                <a:lnTo>
                  <a:pt x="159" y="627"/>
                </a:lnTo>
                <a:lnTo>
                  <a:pt x="151" y="641"/>
                </a:lnTo>
                <a:lnTo>
                  <a:pt x="144" y="656"/>
                </a:lnTo>
                <a:lnTo>
                  <a:pt x="136" y="668"/>
                </a:lnTo>
                <a:lnTo>
                  <a:pt x="128" y="681"/>
                </a:lnTo>
                <a:lnTo>
                  <a:pt x="123" y="691"/>
                </a:lnTo>
                <a:lnTo>
                  <a:pt x="117" y="700"/>
                </a:lnTo>
                <a:lnTo>
                  <a:pt x="111" y="710"/>
                </a:lnTo>
                <a:lnTo>
                  <a:pt x="105" y="718"/>
                </a:lnTo>
                <a:lnTo>
                  <a:pt x="99" y="723"/>
                </a:lnTo>
                <a:lnTo>
                  <a:pt x="96" y="729"/>
                </a:lnTo>
                <a:lnTo>
                  <a:pt x="92" y="733"/>
                </a:lnTo>
                <a:lnTo>
                  <a:pt x="88" y="737"/>
                </a:lnTo>
                <a:lnTo>
                  <a:pt x="84" y="739"/>
                </a:lnTo>
                <a:lnTo>
                  <a:pt x="82" y="739"/>
                </a:lnTo>
                <a:lnTo>
                  <a:pt x="76" y="739"/>
                </a:lnTo>
                <a:lnTo>
                  <a:pt x="73" y="737"/>
                </a:lnTo>
                <a:lnTo>
                  <a:pt x="69" y="737"/>
                </a:lnTo>
                <a:lnTo>
                  <a:pt x="65" y="733"/>
                </a:lnTo>
                <a:lnTo>
                  <a:pt x="59" y="731"/>
                </a:lnTo>
                <a:lnTo>
                  <a:pt x="55" y="727"/>
                </a:lnTo>
                <a:lnTo>
                  <a:pt x="52" y="723"/>
                </a:lnTo>
                <a:lnTo>
                  <a:pt x="48" y="720"/>
                </a:lnTo>
                <a:lnTo>
                  <a:pt x="44" y="714"/>
                </a:lnTo>
                <a:lnTo>
                  <a:pt x="40" y="708"/>
                </a:lnTo>
                <a:lnTo>
                  <a:pt x="36" y="702"/>
                </a:lnTo>
                <a:lnTo>
                  <a:pt x="34" y="695"/>
                </a:lnTo>
                <a:lnTo>
                  <a:pt x="30" y="687"/>
                </a:lnTo>
                <a:lnTo>
                  <a:pt x="28" y="679"/>
                </a:lnTo>
                <a:lnTo>
                  <a:pt x="25" y="670"/>
                </a:lnTo>
                <a:lnTo>
                  <a:pt x="23" y="660"/>
                </a:lnTo>
                <a:lnTo>
                  <a:pt x="15" y="631"/>
                </a:lnTo>
                <a:lnTo>
                  <a:pt x="9" y="616"/>
                </a:lnTo>
                <a:lnTo>
                  <a:pt x="7" y="602"/>
                </a:lnTo>
                <a:lnTo>
                  <a:pt x="4" y="589"/>
                </a:lnTo>
                <a:lnTo>
                  <a:pt x="2" y="576"/>
                </a:lnTo>
                <a:lnTo>
                  <a:pt x="0" y="564"/>
                </a:lnTo>
                <a:lnTo>
                  <a:pt x="0" y="554"/>
                </a:lnTo>
                <a:lnTo>
                  <a:pt x="0" y="553"/>
                </a:lnTo>
                <a:lnTo>
                  <a:pt x="0" y="549"/>
                </a:lnTo>
                <a:lnTo>
                  <a:pt x="0" y="545"/>
                </a:lnTo>
                <a:lnTo>
                  <a:pt x="2" y="539"/>
                </a:lnTo>
                <a:lnTo>
                  <a:pt x="2" y="535"/>
                </a:lnTo>
                <a:lnTo>
                  <a:pt x="4" y="530"/>
                </a:lnTo>
                <a:lnTo>
                  <a:pt x="5" y="524"/>
                </a:lnTo>
                <a:lnTo>
                  <a:pt x="7" y="516"/>
                </a:lnTo>
                <a:lnTo>
                  <a:pt x="13" y="503"/>
                </a:lnTo>
                <a:lnTo>
                  <a:pt x="19" y="485"/>
                </a:lnTo>
                <a:lnTo>
                  <a:pt x="27" y="468"/>
                </a:lnTo>
                <a:lnTo>
                  <a:pt x="34" y="449"/>
                </a:lnTo>
                <a:lnTo>
                  <a:pt x="42" y="428"/>
                </a:lnTo>
                <a:lnTo>
                  <a:pt x="50" y="407"/>
                </a:lnTo>
                <a:lnTo>
                  <a:pt x="57" y="384"/>
                </a:lnTo>
                <a:lnTo>
                  <a:pt x="63" y="359"/>
                </a:lnTo>
                <a:lnTo>
                  <a:pt x="65" y="345"/>
                </a:lnTo>
                <a:lnTo>
                  <a:pt x="69" y="332"/>
                </a:lnTo>
                <a:lnTo>
                  <a:pt x="71" y="316"/>
                </a:lnTo>
                <a:lnTo>
                  <a:pt x="73" y="303"/>
                </a:lnTo>
                <a:lnTo>
                  <a:pt x="75" y="288"/>
                </a:lnTo>
                <a:lnTo>
                  <a:pt x="76" y="270"/>
                </a:lnTo>
                <a:lnTo>
                  <a:pt x="80" y="255"/>
                </a:lnTo>
                <a:lnTo>
                  <a:pt x="82" y="2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2:23:19Z</dcterms:modified>
  <cp:revision>4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