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07C0F-71BF-4882-9B00-7155325D6B3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C9DC1-9987-4D67-82AD-8A5639705C0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EB9AD-8CE5-4571-9D08-BDFD7FDD8DC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ABCDC-5B32-42A4-878C-D77425DF69A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A4EE2-47C3-498B-ABA5-48BA96C2AC7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03F19-B3BE-4B6E-BF04-939D3B82C9B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D05CE-4EF5-4713-ACBF-B7C938E535A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F50E8-7E20-4E64-9C91-87944AA631F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EEF5A-47C1-4B8D-A932-44058B52707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21C08-4C36-487E-8EE3-8DB9BD759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2664D-B4EF-4639-924F-78B6F7416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4A2B2-FE44-41D0-87BA-E8B64B022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E30BA-A6AA-442D-82EF-ECD447DB9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AD0A9-E0C6-41ED-886A-9C0797772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0D44-040C-4FA3-96E8-55D0E61D6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C5B1A-1409-41FE-B7A6-E20CEE016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AB771-31D7-4941-AB56-653FB59AC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06413-FE7B-461A-9F86-3CE1EB086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24257-8452-4F2D-A829-2098B1A2B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16DD4-7FF0-4B74-8919-A32EC04F0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3775D-7D3A-441B-BD6C-88D9C21B7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F6510-9B7D-4995-92AF-CD03964B0CD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3.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2101680" y="2227320"/>
            <a:ext cx="4948560" cy="3071880"/>
          </a:xfrm>
          <a:prstGeom prst="rect">
            <a:avLst/>
          </a:prstGeom>
          <a:ln w="0">
            <a:noFill/>
          </a:ln>
        </p:spPr>
      </p:pic>
      <p:pic>
        <p:nvPicPr>
          <p:cNvPr id="49" name="Picture 39" descr="구름"/>
          <p:cNvPicPr/>
          <p:nvPr/>
        </p:nvPicPr>
        <p:blipFill>
          <a:blip r:embed="rId2"/>
          <a:stretch/>
        </p:blipFill>
        <p:spPr>
          <a:xfrm>
            <a:off x="4795920" y="179280"/>
            <a:ext cx="682560" cy="363600"/>
          </a:xfrm>
          <a:prstGeom prst="rect">
            <a:avLst/>
          </a:prstGeom>
          <a:ln w="0">
            <a:noFill/>
          </a:ln>
        </p:spPr>
      </p:pic>
      <p:pic>
        <p:nvPicPr>
          <p:cNvPr id="50" name="Picture 40" descr="구름"/>
          <p:cNvPicPr/>
          <p:nvPr/>
        </p:nvPicPr>
        <p:blipFill>
          <a:blip r:embed="rId3"/>
          <a:stretch/>
        </p:blipFill>
        <p:spPr>
          <a:xfrm>
            <a:off x="7236000" y="503280"/>
            <a:ext cx="1042920" cy="555480"/>
          </a:xfrm>
          <a:prstGeom prst="rect">
            <a:avLst/>
          </a:prstGeom>
          <a:ln w="0">
            <a:noFill/>
          </a:ln>
        </p:spPr>
      </p:pic>
      <p:grpSp>
        <p:nvGrpSpPr>
          <p:cNvPr id="51" name="组合 13336"/>
          <p:cNvGrpSpPr/>
          <p:nvPr/>
        </p:nvGrpSpPr>
        <p:grpSpPr>
          <a:xfrm>
            <a:off x="2443320" y="2585880"/>
            <a:ext cx="4257360" cy="2468880"/>
            <a:chOff x="2443320" y="2585880"/>
            <a:chExt cx="4257360" cy="2468880"/>
          </a:xfrm>
        </p:grpSpPr>
        <p:sp>
          <p:nvSpPr>
            <p:cNvPr id="52" name="矩形 13324"/>
            <p:cNvSpPr/>
            <p:nvPr/>
          </p:nvSpPr>
          <p:spPr>
            <a:xfrm>
              <a:off x="2455920" y="2585880"/>
              <a:ext cx="4244760" cy="2468880"/>
            </a:xfrm>
            <a:prstGeom prst="rect">
              <a:avLst/>
            </a:prstGeom>
            <a:solidFill>
              <a:srgbClr val="ffffff">
                <a:alpha val="69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矩形 47"/>
            <p:cNvSpPr/>
            <p:nvPr/>
          </p:nvSpPr>
          <p:spPr>
            <a:xfrm>
              <a:off x="2443320" y="3321360"/>
              <a:ext cx="425736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华文行楷"/>
                  <a:ea typeface="华文行楷"/>
                </a:rPr>
                <a:t>在自由和力量中飞翔</a:t>
              </a:r>
              <a:endParaRPr b="0" lang="en-US" sz="32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惠特曼</a:t>
              </a:r>
              <a:endParaRPr b="0" lang="en-US" sz="2000" spc="-1" strike="noStrike">
                <a:solidFill>
                  <a:srgbClr val="000000"/>
                </a:solidFill>
                <a:latin typeface="Calibri"/>
              </a:endParaRPr>
            </a:p>
          </p:txBody>
        </p:sp>
      </p:grpSp>
      <p:grpSp>
        <p:nvGrpSpPr>
          <p:cNvPr id="54" name="组合 13338"/>
          <p:cNvGrpSpPr/>
          <p:nvPr/>
        </p:nvGrpSpPr>
        <p:grpSpPr>
          <a:xfrm>
            <a:off x="2244600" y="687240"/>
            <a:ext cx="4819680" cy="1181160"/>
            <a:chOff x="2244600" y="687240"/>
            <a:chExt cx="4819680" cy="1181160"/>
          </a:xfrm>
        </p:grpSpPr>
        <p:sp>
          <p:nvSpPr>
            <p:cNvPr id="55" name="Text Box 2"/>
            <p:cNvSpPr/>
            <p:nvPr/>
          </p:nvSpPr>
          <p:spPr>
            <a:xfrm>
              <a:off x="3503520" y="834480"/>
              <a:ext cx="35607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诗二首</a:t>
              </a:r>
              <a:endParaRPr b="0" lang="en-US" sz="6000" spc="-1" strike="noStrike">
                <a:solidFill>
                  <a:srgbClr val="000000"/>
                </a:solidFill>
                <a:latin typeface="Calibri"/>
              </a:endParaRPr>
            </a:p>
          </p:txBody>
        </p:sp>
        <p:grpSp>
          <p:nvGrpSpPr>
            <p:cNvPr id="56" name="组合 13337"/>
            <p:cNvGrpSpPr/>
            <p:nvPr/>
          </p:nvGrpSpPr>
          <p:grpSpPr>
            <a:xfrm>
              <a:off x="2244600" y="687240"/>
              <a:ext cx="1180800" cy="1181160"/>
              <a:chOff x="2244600" y="687240"/>
              <a:chExt cx="1180800" cy="1181160"/>
            </a:xfrm>
          </p:grpSpPr>
          <p:sp>
            <p:nvSpPr>
              <p:cNvPr id="57" name="AutoShape 11"/>
              <p:cNvSpPr/>
              <p:nvPr/>
            </p:nvSpPr>
            <p:spPr>
              <a:xfrm>
                <a:off x="2244600" y="687240"/>
                <a:ext cx="1180800" cy="118116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8" name="文本框 13"/>
              <p:cNvSpPr/>
              <p:nvPr/>
            </p:nvSpPr>
            <p:spPr>
              <a:xfrm>
                <a:off x="2255040" y="75384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0</a:t>
                </a:r>
                <a:endParaRPr b="0" lang="en-US" sz="6000" spc="-1" strike="noStrike">
                  <a:solidFill>
                    <a:srgbClr val="000000"/>
                  </a:solidFill>
                  <a:latin typeface="Calibri"/>
                </a:endParaRPr>
              </a:p>
            </p:txBody>
          </p:sp>
        </p:grpSp>
      </p:grpSp>
      <p:sp>
        <p:nvSpPr>
          <p:cNvPr id="59" name="矩形 1"/>
          <p:cNvSpPr/>
          <p:nvPr/>
        </p:nvSpPr>
        <p:spPr>
          <a:xfrm>
            <a:off x="5501520" y="2592360"/>
            <a:ext cx="91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0000"/>
                </a:solidFill>
                <a:latin typeface="方正黑体简体"/>
                <a:ea typeface="方正黑体简体"/>
              </a:rPr>
              <a:t>第二课时</a:t>
            </a:r>
            <a:endParaRPr b="0" lang="en-US" sz="2400" spc="-1" strike="noStrike">
              <a:solidFill>
                <a:srgbClr val="000000"/>
              </a:solidFill>
              <a:latin typeface="Calibri"/>
            </a:endParaRPr>
          </a:p>
        </p:txBody>
      </p:sp>
      <p:grpSp>
        <p:nvGrpSpPr>
          <p:cNvPr id="60" name="组合 4"/>
          <p:cNvGrpSpPr/>
          <p:nvPr/>
        </p:nvGrpSpPr>
        <p:grpSpPr>
          <a:xfrm>
            <a:off x="1792440" y="5292720"/>
            <a:ext cx="5576760" cy="561960"/>
            <a:chOff x="1792440" y="5292720"/>
            <a:chExt cx="5576760" cy="561960"/>
          </a:xfrm>
        </p:grpSpPr>
        <p:pic>
          <p:nvPicPr>
            <p:cNvPr id="61" name="任意多边形 30" descr=""/>
            <p:cNvPicPr/>
            <p:nvPr/>
          </p:nvPicPr>
          <p:blipFill>
            <a:blip r:embed="rId4"/>
            <a:stretch/>
          </p:blipFill>
          <p:spPr>
            <a:xfrm>
              <a:off x="1792440" y="5292720"/>
              <a:ext cx="1401480" cy="561960"/>
            </a:xfrm>
            <a:prstGeom prst="rect">
              <a:avLst/>
            </a:prstGeom>
            <a:ln w="0">
              <a:noFill/>
            </a:ln>
          </p:spPr>
        </p:pic>
        <p:pic>
          <p:nvPicPr>
            <p:cNvPr id="62" name="任意多边形 31" descr=""/>
            <p:cNvPicPr/>
            <p:nvPr/>
          </p:nvPicPr>
          <p:blipFill>
            <a:blip r:embed="rId5"/>
            <a:stretch/>
          </p:blipFill>
          <p:spPr>
            <a:xfrm>
              <a:off x="3170160" y="5292720"/>
              <a:ext cx="1395720" cy="561960"/>
            </a:xfrm>
            <a:prstGeom prst="rect">
              <a:avLst/>
            </a:prstGeom>
            <a:ln w="0">
              <a:noFill/>
            </a:ln>
          </p:spPr>
        </p:pic>
        <p:pic>
          <p:nvPicPr>
            <p:cNvPr id="63" name="任意多边形 32" descr=""/>
            <p:cNvPicPr/>
            <p:nvPr/>
          </p:nvPicPr>
          <p:blipFill>
            <a:blip r:embed="rId6"/>
            <a:stretch/>
          </p:blipFill>
          <p:spPr>
            <a:xfrm>
              <a:off x="5973480" y="5292720"/>
              <a:ext cx="1395720" cy="561960"/>
            </a:xfrm>
            <a:prstGeom prst="rect">
              <a:avLst/>
            </a:prstGeom>
            <a:ln w="0">
              <a:noFill/>
            </a:ln>
          </p:spPr>
        </p:pic>
        <p:pic>
          <p:nvPicPr>
            <p:cNvPr id="64" name="任意多边形 33" descr=""/>
            <p:cNvPicPr/>
            <p:nvPr/>
          </p:nvPicPr>
          <p:blipFill>
            <a:blip r:embed="rId7"/>
            <a:stretch/>
          </p:blipFill>
          <p:spPr>
            <a:xfrm>
              <a:off x="4572000" y="5292720"/>
              <a:ext cx="1395720" cy="561960"/>
            </a:xfrm>
            <a:prstGeom prst="rect">
              <a:avLst/>
            </a:prstGeom>
            <a:ln w="0">
              <a:noFill/>
            </a:ln>
          </p:spPr>
        </p:pic>
        <p:sp>
          <p:nvSpPr>
            <p:cNvPr id="65" name="流程图: 摘录 34"/>
            <p:cNvSpPr/>
            <p:nvPr/>
          </p:nvSpPr>
          <p:spPr>
            <a:xfrm rot="5400000">
              <a:off x="3108960" y="5462280"/>
              <a:ext cx="126720" cy="16308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Calibri"/>
              </a:endParaRPr>
            </a:p>
          </p:txBody>
        </p:sp>
        <p:sp>
          <p:nvSpPr>
            <p:cNvPr id="66" name="流程图: 摘录 35"/>
            <p:cNvSpPr/>
            <p:nvPr/>
          </p:nvSpPr>
          <p:spPr>
            <a:xfrm rot="5400000">
              <a:off x="4499280" y="5462280"/>
              <a:ext cx="126720" cy="16308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Calibri"/>
              </a:endParaRPr>
            </a:p>
          </p:txBody>
        </p:sp>
        <p:sp>
          <p:nvSpPr>
            <p:cNvPr id="67" name="流程图: 摘录 36"/>
            <p:cNvSpPr/>
            <p:nvPr/>
          </p:nvSpPr>
          <p:spPr>
            <a:xfrm rot="5400000">
              <a:off x="5902920" y="5460480"/>
              <a:ext cx="125280" cy="187920"/>
            </a:xfrm>
            <a:prstGeom prst="flowChartExtract">
              <a:avLst/>
            </a:prstGeom>
            <a:solidFill>
              <a:srgbClr val="ffffff"/>
            </a:solidFill>
            <a:ln w="255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8" name="组合 5"/>
          <p:cNvGrpSpPr/>
          <p:nvPr/>
        </p:nvGrpSpPr>
        <p:grpSpPr>
          <a:xfrm>
            <a:off x="2384280" y="5986440"/>
            <a:ext cx="4348440" cy="579600"/>
            <a:chOff x="2384280" y="5986440"/>
            <a:chExt cx="4348440" cy="579600"/>
          </a:xfrm>
        </p:grpSpPr>
        <p:pic>
          <p:nvPicPr>
            <p:cNvPr id="69" name="任意多边形 38" descr=""/>
            <p:cNvPicPr/>
            <p:nvPr/>
          </p:nvPicPr>
          <p:blipFill>
            <a:blip r:embed="rId8"/>
            <a:stretch/>
          </p:blipFill>
          <p:spPr>
            <a:xfrm>
              <a:off x="5329440" y="6002640"/>
              <a:ext cx="1403280" cy="563400"/>
            </a:xfrm>
            <a:prstGeom prst="rect">
              <a:avLst/>
            </a:prstGeom>
            <a:ln w="0">
              <a:noFill/>
            </a:ln>
          </p:spPr>
        </p:pic>
        <p:pic>
          <p:nvPicPr>
            <p:cNvPr id="70" name="任意多边形 39" descr=""/>
            <p:cNvPicPr/>
            <p:nvPr/>
          </p:nvPicPr>
          <p:blipFill>
            <a:blip r:embed="rId9"/>
            <a:stretch/>
          </p:blipFill>
          <p:spPr>
            <a:xfrm>
              <a:off x="2384280" y="5986440"/>
              <a:ext cx="1415520" cy="568800"/>
            </a:xfrm>
            <a:prstGeom prst="rect">
              <a:avLst/>
            </a:prstGeom>
            <a:ln w="0">
              <a:noFill/>
            </a:ln>
          </p:spPr>
        </p:pic>
        <p:pic>
          <p:nvPicPr>
            <p:cNvPr id="71" name="任意多边形 42" descr=""/>
            <p:cNvPicPr/>
            <p:nvPr/>
          </p:nvPicPr>
          <p:blipFill>
            <a:blip r:embed="rId10"/>
            <a:stretch/>
          </p:blipFill>
          <p:spPr>
            <a:xfrm>
              <a:off x="3907800" y="5986440"/>
              <a:ext cx="1421280" cy="568800"/>
            </a:xfrm>
            <a:prstGeom prst="rect">
              <a:avLst/>
            </a:prstGeom>
            <a:ln w="0">
              <a:noFill/>
            </a:ln>
          </p:spPr>
        </p:pic>
        <p:sp>
          <p:nvSpPr>
            <p:cNvPr id="72" name="流程图: 摘录 43"/>
            <p:cNvSpPr/>
            <p:nvPr/>
          </p:nvSpPr>
          <p:spPr>
            <a:xfrm rot="5400000">
              <a:off x="5277960" y="6138000"/>
              <a:ext cx="167760" cy="207720"/>
            </a:xfrm>
            <a:prstGeom prst="flowChartExtract">
              <a:avLst/>
            </a:prstGeom>
            <a:solidFill>
              <a:srgbClr val="ffffff"/>
            </a:solidFill>
            <a:ln w="255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流程图: 摘录 44"/>
            <p:cNvSpPr/>
            <p:nvPr/>
          </p:nvSpPr>
          <p:spPr>
            <a:xfrm rot="5400000">
              <a:off x="3773880" y="6138000"/>
              <a:ext cx="167760" cy="207720"/>
            </a:xfrm>
            <a:prstGeom prst="flowChartExtract">
              <a:avLst/>
            </a:prstGeom>
            <a:solidFill>
              <a:srgbClr val="ffffff"/>
            </a:solidFill>
            <a:ln w="2556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组合 2"/>
          <p:cNvGrpSpPr/>
          <p:nvPr/>
        </p:nvGrpSpPr>
        <p:grpSpPr>
          <a:xfrm>
            <a:off x="719280" y="1366920"/>
            <a:ext cx="2904840" cy="666720"/>
            <a:chOff x="719280" y="1366920"/>
            <a:chExt cx="2904840" cy="666720"/>
          </a:xfrm>
        </p:grpSpPr>
        <p:sp>
          <p:nvSpPr>
            <p:cNvPr id="198" name="圆角矩形 12"/>
            <p:cNvSpPr/>
            <p:nvPr/>
          </p:nvSpPr>
          <p:spPr>
            <a:xfrm>
              <a:off x="1535040" y="1504800"/>
              <a:ext cx="2089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9" name="图片 9" descr="book.gif"/>
            <p:cNvPicPr/>
            <p:nvPr/>
          </p:nvPicPr>
          <p:blipFill>
            <a:blip r:embed="rId1"/>
            <a:stretch/>
          </p:blipFill>
          <p:spPr>
            <a:xfrm>
              <a:off x="719280" y="1366920"/>
              <a:ext cx="1087200" cy="666720"/>
            </a:xfrm>
            <a:prstGeom prst="rect">
              <a:avLst/>
            </a:prstGeom>
            <a:ln w="0">
              <a:noFill/>
            </a:ln>
          </p:spPr>
        </p:pic>
        <p:sp>
          <p:nvSpPr>
            <p:cNvPr id="200" name="文本框 16"/>
            <p:cNvSpPr/>
            <p:nvPr/>
          </p:nvSpPr>
          <p:spPr>
            <a:xfrm>
              <a:off x="1794600" y="15238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多音字</a:t>
              </a:r>
              <a:endParaRPr b="0" lang="en-US" sz="2400" spc="-1" strike="noStrike">
                <a:solidFill>
                  <a:srgbClr val="000000"/>
                </a:solidFill>
                <a:latin typeface="Calibri"/>
              </a:endParaRPr>
            </a:p>
          </p:txBody>
        </p:sp>
      </p:grpSp>
      <p:sp>
        <p:nvSpPr>
          <p:cNvPr id="201" name="TextBox 1"/>
          <p:cNvSpPr/>
          <p:nvPr/>
        </p:nvSpPr>
        <p:spPr>
          <a:xfrm>
            <a:off x="1584360" y="3311640"/>
            <a:ext cx="94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Calibri"/>
              </a:rPr>
              <a:t>颤</a:t>
            </a:r>
            <a:endParaRPr b="0" lang="en-US" sz="3200" spc="-1" strike="noStrike">
              <a:solidFill>
                <a:srgbClr val="000000"/>
              </a:solidFill>
              <a:latin typeface="Calibri"/>
            </a:endParaRPr>
          </a:p>
        </p:txBody>
      </p:sp>
      <p:grpSp>
        <p:nvGrpSpPr>
          <p:cNvPr id="202" name="组合 13"/>
          <p:cNvGrpSpPr/>
          <p:nvPr/>
        </p:nvGrpSpPr>
        <p:grpSpPr>
          <a:xfrm>
            <a:off x="2211480" y="2762280"/>
            <a:ext cx="5229000" cy="1556280"/>
            <a:chOff x="2211480" y="2762280"/>
            <a:chExt cx="5229000" cy="1556280"/>
          </a:xfrm>
        </p:grpSpPr>
        <p:sp>
          <p:nvSpPr>
            <p:cNvPr id="203" name="左大括号 14"/>
            <p:cNvSpPr/>
            <p:nvPr/>
          </p:nvSpPr>
          <p:spPr>
            <a:xfrm>
              <a:off x="2211480" y="3170160"/>
              <a:ext cx="258480" cy="928800"/>
            </a:xfrm>
            <a:custGeom>
              <a:avLst/>
              <a:gdLst>
                <a:gd name="textAreaLeft" fmla="*/ 165240 w 258480"/>
                <a:gd name="textAreaRight" fmla="*/ 258840 w 258480"/>
                <a:gd name="textAreaTop" fmla="*/ 3240 h 928800"/>
                <a:gd name="textAreaBottom" fmla="*/ 925560 h 928800"/>
              </a:gdLst>
              <a:ahLst/>
              <a:rect l="textAreaLeft" t="textAreaTop" r="textAreaRight" b="textAreaBottom"/>
              <a:pathLst>
                <a:path w="21600" h="21600">
                  <a:moveTo>
                    <a:pt x="21600" y="0"/>
                  </a:moveTo>
                  <a:cubicBezTo>
                    <a:pt x="16200" y="0"/>
                    <a:pt x="10800" y="133"/>
                    <a:pt x="10800" y="265"/>
                  </a:cubicBezTo>
                  <a:lnTo>
                    <a:pt x="10800" y="10535"/>
                  </a:lnTo>
                  <a:cubicBezTo>
                    <a:pt x="10800" y="10668"/>
                    <a:pt x="5400" y="10800"/>
                    <a:pt x="0" y="10800"/>
                  </a:cubicBezTo>
                  <a:cubicBezTo>
                    <a:pt x="5400" y="10800"/>
                    <a:pt x="10800" y="10933"/>
                    <a:pt x="10800" y="11065"/>
                  </a:cubicBezTo>
                  <a:lnTo>
                    <a:pt x="10800" y="21335"/>
                  </a:lnTo>
                  <a:cubicBezTo>
                    <a:pt x="10800" y="21468"/>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TextBox 15"/>
            <p:cNvSpPr/>
            <p:nvPr/>
          </p:nvSpPr>
          <p:spPr>
            <a:xfrm>
              <a:off x="2493720" y="2762280"/>
              <a:ext cx="49467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方正姚体"/>
                  <a:ea typeface="方正姚体"/>
                </a:rPr>
                <a:t>chàn</a:t>
              </a:r>
              <a:r>
                <a:rPr b="1" lang="zh-CN" sz="3200" spc="-1" strike="noStrike">
                  <a:solidFill>
                    <a:srgbClr val="ff0000"/>
                  </a:solidFill>
                  <a:latin typeface="宋体"/>
                </a:rPr>
                <a:t>（颤抖　颤动）</a:t>
              </a:r>
              <a:endParaRPr b="0" lang="en-US" sz="3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方正姚体"/>
                  <a:ea typeface="方正姚体"/>
                </a:rPr>
                <a:t>zhàn</a:t>
              </a:r>
              <a:r>
                <a:rPr b="1" lang="zh-CN" sz="3200" spc="-1" strike="noStrike">
                  <a:solidFill>
                    <a:srgbClr val="ff0000"/>
                  </a:solidFill>
                  <a:latin typeface="宋体"/>
                </a:rPr>
                <a:t>（颤栗）</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202"/>
                                        </p:tgtEl>
                                        <p:attrNameLst>
                                          <p:attrName>style.visibility</p:attrName>
                                        </p:attrNameLst>
                                      </p:cBhvr>
                                      <p:to>
                                        <p:strVal val="visible"/>
                                      </p:to>
                                    </p:set>
                                    <p:animEffect filter="wipe(left)" transition="in">
                                      <p:cBhvr additive="repl">
                                        <p:cTn id="45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矩形 1"/>
          <p:cNvSpPr/>
          <p:nvPr/>
        </p:nvSpPr>
        <p:spPr>
          <a:xfrm>
            <a:off x="1346040" y="2298600"/>
            <a:ext cx="6567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寥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颤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啼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206" name="组合 1"/>
          <p:cNvGrpSpPr/>
          <p:nvPr/>
        </p:nvGrpSpPr>
        <p:grpSpPr>
          <a:xfrm>
            <a:off x="558720" y="1312920"/>
            <a:ext cx="2594160" cy="666720"/>
            <a:chOff x="558720" y="1312920"/>
            <a:chExt cx="2594160" cy="666720"/>
          </a:xfrm>
        </p:grpSpPr>
        <p:sp>
          <p:nvSpPr>
            <p:cNvPr id="207" name="圆角矩形 5"/>
            <p:cNvSpPr/>
            <p:nvPr/>
          </p:nvSpPr>
          <p:spPr>
            <a:xfrm>
              <a:off x="1374840" y="14508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8" name="图片 9" descr="book.gif"/>
            <p:cNvPicPr/>
            <p:nvPr/>
          </p:nvPicPr>
          <p:blipFill>
            <a:blip r:embed="rId1"/>
            <a:stretch/>
          </p:blipFill>
          <p:spPr>
            <a:xfrm>
              <a:off x="558720" y="1312920"/>
              <a:ext cx="1087560" cy="666720"/>
            </a:xfrm>
            <a:prstGeom prst="rect">
              <a:avLst/>
            </a:prstGeom>
            <a:ln w="0">
              <a:noFill/>
            </a:ln>
          </p:spPr>
        </p:pic>
        <p:sp>
          <p:nvSpPr>
            <p:cNvPr id="209" name="文本框 16"/>
            <p:cNvSpPr/>
            <p:nvPr/>
          </p:nvSpPr>
          <p:spPr>
            <a:xfrm>
              <a:off x="1634040" y="14698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210" name="矩形 1"/>
          <p:cNvSpPr/>
          <p:nvPr/>
        </p:nvSpPr>
        <p:spPr>
          <a:xfrm>
            <a:off x="2135160" y="2313000"/>
            <a:ext cx="60339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高远空旷。诗中指天空高远空旷。</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颤动的声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形容鸟儿婉转地叫。</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鸟儿开始</a:t>
            </a:r>
            <a:r>
              <a:rPr b="1" lang="zh-CN" sz="2400" spc="-1" strike="noStrike" u="sng">
                <a:solidFill>
                  <a:srgbClr val="000000"/>
                </a:solidFill>
                <a:uFillTx/>
                <a:latin typeface="Calibri"/>
              </a:rPr>
              <a:t>啼啭</a:t>
            </a:r>
            <a:r>
              <a:rPr b="1" lang="zh-CN" sz="2400" spc="-1" strike="noStrike">
                <a:solidFill>
                  <a:srgbClr val="000000"/>
                </a:solidFill>
                <a:latin typeface="Calibri"/>
              </a:rPr>
              <a:t>起来，仿佛欢唱着雨后的愉悦。</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461" dur="500"/>
                                        <p:tgtEl>
                                          <p:spTgt spid="210">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466" dur="500"/>
                                        <p:tgtEl>
                                          <p:spTgt spid="210">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471" dur="500"/>
                                        <p:tgtEl>
                                          <p:spTgt spid="210">
                                            <p:txEl>
                                              <p:pRg st="2" end="2"/>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10">
                                            <p:txEl>
                                              <p:pRg st="3" end="3"/>
                                            </p:txEl>
                                          </p:spTgt>
                                        </p:tgtEl>
                                        <p:attrNameLst>
                                          <p:attrName>style.visibility</p:attrName>
                                        </p:attrNameLst>
                                      </p:cBhvr>
                                      <p:to>
                                        <p:strVal val="visible"/>
                                      </p:to>
                                    </p:set>
                                    <p:animEffect filter="wipe(left)" transition="in">
                                      <p:cBhvr additive="repl">
                                        <p:cTn id="476"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矩形 1"/>
          <p:cNvSpPr/>
          <p:nvPr/>
        </p:nvSpPr>
        <p:spPr>
          <a:xfrm>
            <a:off x="1204920" y="2033640"/>
            <a:ext cx="74563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翱翔：</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理想：</a:t>
            </a:r>
            <a:endParaRPr b="0" lang="en-US" sz="2400" spc="-1" strike="noStrike">
              <a:solidFill>
                <a:srgbClr val="000000"/>
              </a:solidFill>
              <a:latin typeface="Calibri"/>
            </a:endParaRPr>
          </a:p>
        </p:txBody>
      </p:sp>
      <p:grpSp>
        <p:nvGrpSpPr>
          <p:cNvPr id="212" name="组合 1"/>
          <p:cNvGrpSpPr/>
          <p:nvPr/>
        </p:nvGrpSpPr>
        <p:grpSpPr>
          <a:xfrm>
            <a:off x="558720" y="1312920"/>
            <a:ext cx="2594160" cy="666720"/>
            <a:chOff x="558720" y="1312920"/>
            <a:chExt cx="2594160" cy="666720"/>
          </a:xfrm>
        </p:grpSpPr>
        <p:sp>
          <p:nvSpPr>
            <p:cNvPr id="213" name="圆角矩形 5"/>
            <p:cNvSpPr/>
            <p:nvPr/>
          </p:nvSpPr>
          <p:spPr>
            <a:xfrm>
              <a:off x="1374840" y="14508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4" name="图片 9" descr="book.gif"/>
            <p:cNvPicPr/>
            <p:nvPr/>
          </p:nvPicPr>
          <p:blipFill>
            <a:blip r:embed="rId1"/>
            <a:stretch/>
          </p:blipFill>
          <p:spPr>
            <a:xfrm>
              <a:off x="558720" y="1312920"/>
              <a:ext cx="1087560" cy="666720"/>
            </a:xfrm>
            <a:prstGeom prst="rect">
              <a:avLst/>
            </a:prstGeom>
            <a:ln w="0">
              <a:noFill/>
            </a:ln>
          </p:spPr>
        </p:pic>
        <p:sp>
          <p:nvSpPr>
            <p:cNvPr id="215" name="文本框 16"/>
            <p:cNvSpPr/>
            <p:nvPr/>
          </p:nvSpPr>
          <p:spPr>
            <a:xfrm>
              <a:off x="1634040" y="14698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216" name="矩形 1"/>
          <p:cNvSpPr/>
          <p:nvPr/>
        </p:nvSpPr>
        <p:spPr>
          <a:xfrm>
            <a:off x="1994040" y="2033640"/>
            <a:ext cx="6850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在空中回旋地飞。</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雄鹰在天空中自由地</a:t>
            </a:r>
            <a:r>
              <a:rPr b="1" lang="zh-CN" sz="2400" spc="-1" strike="noStrike" u="sng">
                <a:solidFill>
                  <a:srgbClr val="000000"/>
                </a:solidFill>
                <a:uFillTx/>
                <a:latin typeface="Calibri"/>
              </a:rPr>
              <a:t>翱翔</a:t>
            </a:r>
            <a:r>
              <a:rPr b="1" lang="zh-CN" sz="2400" spc="-1" strike="noStrike">
                <a:solidFill>
                  <a:srgbClr val="000000"/>
                </a:solidFill>
                <a:latin typeface="Calibri"/>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①</a:t>
            </a:r>
            <a:r>
              <a:rPr b="1" lang="zh-CN" sz="2400" spc="-1" strike="noStrike">
                <a:solidFill>
                  <a:srgbClr val="ff0000"/>
                </a:solidFill>
                <a:latin typeface="Calibri"/>
              </a:rPr>
              <a:t>对未来事物的想象或希望</a:t>
            </a:r>
            <a:r>
              <a:rPr b="1" lang="en-US" sz="2400" spc="-1" strike="noStrike">
                <a:solidFill>
                  <a:srgbClr val="ff0000"/>
                </a:solidFill>
                <a:latin typeface="Calibri"/>
              </a:rPr>
              <a:t>(</a:t>
            </a:r>
            <a:r>
              <a:rPr b="1" lang="zh-CN" sz="2400" spc="-1" strike="noStrike">
                <a:solidFill>
                  <a:srgbClr val="ff0000"/>
                </a:solidFill>
                <a:latin typeface="Calibri"/>
              </a:rPr>
              <a:t>多指有根据的、合理的，跟空想、幻想不同</a:t>
            </a:r>
            <a:r>
              <a:rPr b="1" lang="en-US" sz="2400" spc="-1" strike="noStrike">
                <a:solidFill>
                  <a:srgbClr val="ff0000"/>
                </a:solidFill>
                <a:latin typeface="Calibri"/>
              </a:rPr>
              <a:t>)</a:t>
            </a:r>
            <a:r>
              <a:rPr b="1" lang="zh-CN" sz="2400" spc="-1" strike="noStrike">
                <a:solidFill>
                  <a:srgbClr val="ff0000"/>
                </a:solidFill>
                <a:latin typeface="Calibri"/>
              </a:rPr>
              <a:t>。②符合希望的；使人满意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483" dur="500"/>
                                        <p:tgtEl>
                                          <p:spTgt spid="216">
                                            <p:txEl>
                                              <p:pRg st="0" end="0"/>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16">
                                            <p:txEl>
                                              <p:pRg st="1" end="1"/>
                                            </p:txEl>
                                          </p:spTgt>
                                        </p:tgtEl>
                                        <p:attrNameLst>
                                          <p:attrName>style.visibility</p:attrName>
                                        </p:attrNameLst>
                                      </p:cBhvr>
                                      <p:to>
                                        <p:strVal val="visible"/>
                                      </p:to>
                                    </p:set>
                                    <p:animEffect filter="wipe(left)" transition="in">
                                      <p:cBhvr additive="repl">
                                        <p:cTn id="488" dur="500"/>
                                        <p:tgtEl>
                                          <p:spTgt spid="216">
                                            <p:txEl>
                                              <p:pRg st="1" end="1"/>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16">
                                            <p:txEl>
                                              <p:pRg st="2" end="2"/>
                                            </p:txEl>
                                          </p:spTgt>
                                        </p:tgtEl>
                                        <p:attrNameLst>
                                          <p:attrName>style.visibility</p:attrName>
                                        </p:attrNameLst>
                                      </p:cBhvr>
                                      <p:to>
                                        <p:strVal val="visible"/>
                                      </p:to>
                                    </p:set>
                                    <p:animEffect filter="wipe(left)" transition="in">
                                      <p:cBhvr additive="repl">
                                        <p:cTn id="493"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内容占位符 2"/>
          <p:cNvSpPr/>
          <p:nvPr/>
        </p:nvSpPr>
        <p:spPr>
          <a:xfrm>
            <a:off x="693720" y="1776240"/>
            <a:ext cx="7843680" cy="386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c00000"/>
                </a:solidFill>
                <a:latin typeface="黑体"/>
                <a:ea typeface="黑体"/>
              </a:rPr>
              <a:t>核心问题：</a:t>
            </a:r>
            <a:endParaRPr b="0" lang="en-US" sz="23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Adobe 黑体 Std R"/>
              </a:rPr>
              <a:t>《</a:t>
            </a:r>
            <a:r>
              <a:rPr b="1" lang="zh-CN" sz="2400" spc="-1" strike="noStrike">
                <a:solidFill>
                  <a:srgbClr val="000000"/>
                </a:solidFill>
                <a:latin typeface="宋体"/>
                <a:ea typeface="Adobe 黑体 Std R"/>
              </a:rPr>
              <a:t>在自由和力量中飞翔</a:t>
            </a:r>
            <a:r>
              <a:rPr b="1" lang="en-US" sz="2400" spc="-1" strike="noStrike">
                <a:solidFill>
                  <a:srgbClr val="000000"/>
                </a:solidFill>
                <a:latin typeface="宋体"/>
                <a:ea typeface="Adobe 黑体 Std R"/>
              </a:rPr>
              <a:t>》</a:t>
            </a:r>
            <a:r>
              <a:rPr b="1" lang="zh-CN" sz="2400" spc="-1" strike="noStrike">
                <a:solidFill>
                  <a:srgbClr val="000000"/>
                </a:solidFill>
                <a:latin typeface="宋体"/>
                <a:ea typeface="Adobe 黑体 Std R"/>
              </a:rPr>
              <a:t>一诗中，</a:t>
            </a:r>
            <a:r>
              <a:rPr b="1" lang="zh-CN" sz="2300" spc="-1" strike="noStrike">
                <a:solidFill>
                  <a:srgbClr val="000000"/>
                </a:solidFill>
                <a:latin typeface="宋体"/>
                <a:ea typeface="Adobe 黑体 Std R"/>
              </a:rPr>
              <a:t>诗人心中的“自由” 有怎样的含义？</a:t>
            </a:r>
            <a:endParaRPr b="0" lang="en-US" sz="2300" spc="-1" strike="noStrike">
              <a:solidFill>
                <a:srgbClr val="000000"/>
              </a:solidFill>
              <a:latin typeface="Calibri"/>
            </a:endParaRPr>
          </a:p>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c00000"/>
                </a:solidFill>
                <a:latin typeface="黑体"/>
                <a:ea typeface="黑体"/>
              </a:rPr>
              <a:t>串珠问题：</a:t>
            </a:r>
            <a:endParaRPr b="0" lang="en-US" sz="2300" spc="-1" strike="noStrike">
              <a:solidFill>
                <a:srgbClr val="000000"/>
              </a:solidFill>
              <a:latin typeface="Calibri"/>
            </a:endParaRPr>
          </a:p>
          <a:p>
            <a:pPr marL="343080" indent="-343080">
              <a:lnSpc>
                <a:spcPct val="150000"/>
              </a:lnSpc>
              <a:buClr>
                <a:srgbClr val="000000"/>
              </a:buClr>
              <a:buFont typeface="宋体"/>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Adobe 黑体 Std R"/>
              </a:rPr>
              <a:t>《</a:t>
            </a:r>
            <a:r>
              <a:rPr b="1" lang="zh-CN" sz="2400" spc="-1" strike="noStrike">
                <a:solidFill>
                  <a:srgbClr val="000000"/>
                </a:solidFill>
                <a:latin typeface="宋体"/>
                <a:ea typeface="Adobe 黑体 Std R"/>
              </a:rPr>
              <a:t>在自由和力量中飞翔</a:t>
            </a:r>
            <a:r>
              <a:rPr b="1" lang="en-US" sz="2400" spc="-1" strike="noStrike">
                <a:solidFill>
                  <a:srgbClr val="000000"/>
                </a:solidFill>
                <a:latin typeface="宋体"/>
                <a:ea typeface="Adobe 黑体 Std R"/>
              </a:rPr>
              <a:t>》</a:t>
            </a:r>
            <a:r>
              <a:rPr b="1" lang="zh-CN" sz="2400" spc="-1" strike="noStrike">
                <a:solidFill>
                  <a:srgbClr val="000000"/>
                </a:solidFill>
                <a:latin typeface="宋体"/>
                <a:ea typeface="Adobe 黑体 Std R"/>
              </a:rPr>
              <a:t>中，写到了哪几种动物？分别代表什么？ </a:t>
            </a:r>
            <a:endParaRPr b="0" lang="en-US" sz="2400" spc="-1" strike="noStrike">
              <a:solidFill>
                <a:srgbClr val="000000"/>
              </a:solidFill>
              <a:latin typeface="Calibri"/>
            </a:endParaRPr>
          </a:p>
          <a:p>
            <a:pPr marL="343080" indent="-343080">
              <a:lnSpc>
                <a:spcPct val="150000"/>
              </a:lnSpc>
              <a:buClr>
                <a:srgbClr val="000000"/>
              </a:buClr>
              <a:buFont typeface="宋体"/>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Adobe 黑体 Std R"/>
              </a:rPr>
              <a:t>你从诗人惠特曼写的这些事物中体会出他怎样的思想感情</a:t>
            </a:r>
            <a:r>
              <a:rPr b="1" lang="zh-CN" sz="2300" spc="-1" strike="noStrike">
                <a:solidFill>
                  <a:srgbClr val="000000"/>
                </a:solidFill>
                <a:latin typeface="宋体"/>
                <a:ea typeface="Adobe 黑体 Std R"/>
              </a:rPr>
              <a:t>？</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8"/>
          <p:cNvSpPr/>
          <p:nvPr/>
        </p:nvSpPr>
        <p:spPr>
          <a:xfrm>
            <a:off x="887400" y="1789200"/>
            <a:ext cx="7710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一部分（第</a:t>
            </a:r>
            <a:r>
              <a:rPr b="1" lang="en-US" sz="2400" spc="-1" strike="noStrike">
                <a:solidFill>
                  <a:srgbClr val="00b0f0"/>
                </a:solidFill>
                <a:latin typeface="黑体"/>
                <a:ea typeface="黑体"/>
              </a:rPr>
              <a:t>1</a:t>
            </a:r>
            <a:r>
              <a:rPr b="1" lang="zh-CN" sz="2400" spc="-1" strike="noStrike">
                <a:solidFill>
                  <a:srgbClr val="00b0f0"/>
                </a:solidFill>
                <a:latin typeface="黑体"/>
                <a:ea typeface="黑体"/>
              </a:rPr>
              <a:t>句）</a:t>
            </a:r>
            <a:r>
              <a:rPr b="1" lang="zh-CN" sz="2400" spc="-1" strike="noStrike">
                <a:solidFill>
                  <a:srgbClr val="000000"/>
                </a:solidFill>
                <a:latin typeface="Calibri"/>
              </a:rPr>
              <a:t>写“我”</a:t>
            </a:r>
            <a:r>
              <a:rPr b="1" lang="en-US" sz="2400" spc="-1" strike="noStrike">
                <a:solidFill>
                  <a:srgbClr val="000000"/>
                </a:solidFill>
                <a:latin typeface="Calibri"/>
              </a:rPr>
              <a:t>,</a:t>
            </a:r>
            <a:r>
              <a:rPr b="1" lang="zh-CN" sz="2400" spc="-1" strike="noStrike">
                <a:solidFill>
                  <a:srgbClr val="000000"/>
                </a:solidFill>
                <a:latin typeface="Calibri"/>
              </a:rPr>
              <a:t>渴望去高远空旷的天宇飞翔，不屑与小鸟争长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二部分（第</a:t>
            </a:r>
            <a:r>
              <a:rPr b="1" lang="en-US" sz="2400" spc="-1" strike="noStrike">
                <a:solidFill>
                  <a:srgbClr val="00b0f0"/>
                </a:solidFill>
                <a:latin typeface="黑体"/>
                <a:ea typeface="黑体"/>
              </a:rPr>
              <a:t>2</a:t>
            </a:r>
            <a:r>
              <a:rPr b="1" lang="zh-CN" sz="2400" spc="-1" strike="noStrike">
                <a:solidFill>
                  <a:srgbClr val="00b0f0"/>
                </a:solidFill>
                <a:latin typeface="黑体"/>
                <a:ea typeface="黑体"/>
              </a:rPr>
              <a:t>小节）</a:t>
            </a:r>
            <a:r>
              <a:rPr b="1" lang="zh-CN" sz="2400" spc="-1" strike="noStrike">
                <a:solidFill>
                  <a:srgbClr val="000000"/>
                </a:solidFill>
                <a:latin typeface="Calibri"/>
              </a:rPr>
              <a:t>写“我”要学雄鹰和海鸥在茫茫天宇和苍茫大海之上高傲地飞翔。</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三部分（第</a:t>
            </a:r>
            <a:r>
              <a:rPr b="1" lang="en-US" sz="2400" spc="-1" strike="noStrike">
                <a:solidFill>
                  <a:srgbClr val="00b0f0"/>
                </a:solidFill>
                <a:latin typeface="黑体"/>
                <a:ea typeface="黑体"/>
              </a:rPr>
              <a:t>3</a:t>
            </a:r>
            <a:r>
              <a:rPr b="1" lang="zh-CN" sz="2400" spc="-1" strike="noStrike">
                <a:solidFill>
                  <a:srgbClr val="00b0f0"/>
                </a:solidFill>
                <a:latin typeface="黑体"/>
                <a:ea typeface="黑体"/>
              </a:rPr>
              <a:t>小节）</a:t>
            </a:r>
            <a:r>
              <a:rPr b="1" lang="zh-CN" sz="2400" spc="-1" strike="noStrike">
                <a:solidFill>
                  <a:srgbClr val="000000"/>
                </a:solidFill>
                <a:latin typeface="Calibri"/>
              </a:rPr>
              <a:t>写“我”的理想是在自由、欢乐、力量和意志的蓝天翱翔。</a:t>
            </a:r>
            <a:endParaRPr b="0" lang="en-US" sz="2400" spc="-1" strike="noStrike">
              <a:solidFill>
                <a:srgbClr val="000000"/>
              </a:solidFill>
              <a:latin typeface="Calibri"/>
            </a:endParaRPr>
          </a:p>
        </p:txBody>
      </p:sp>
      <p:pic>
        <p:nvPicPr>
          <p:cNvPr id="219" name="Picture 2" descr="C:\Users\Administrator\Desktop\3333\初读感知.png"/>
          <p:cNvPicPr/>
          <p:nvPr/>
        </p:nvPicPr>
        <p:blipFill>
          <a:blip r:embed="rId1"/>
          <a:stretch/>
        </p:blipFill>
        <p:spPr>
          <a:xfrm>
            <a:off x="3335400" y="290520"/>
            <a:ext cx="2473200" cy="6494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500" dur="500"/>
                                        <p:tgtEl>
                                          <p:spTgt spid="218">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505" dur="500"/>
                                        <p:tgtEl>
                                          <p:spTgt spid="218">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510" dur="500"/>
                                        <p:tgtEl>
                                          <p:spTgt spid="2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Box 17"/>
          <p:cNvSpPr/>
          <p:nvPr/>
        </p:nvSpPr>
        <p:spPr>
          <a:xfrm>
            <a:off x="1339920" y="3255840"/>
            <a:ext cx="7162560" cy="1525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楷体"/>
                <a:ea typeface="楷体"/>
              </a:rPr>
              <a:t>我，不愿跟爱唱的小鸟争一个短长；</a:t>
            </a:r>
            <a:endParaRPr b="0" lang="en-US" sz="28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楷体"/>
                <a:ea typeface="楷体"/>
              </a:rPr>
              <a:t>我，渴望去那寥廓的天宇高高飞翔。</a:t>
            </a:r>
            <a:endParaRPr b="0" lang="en-US" sz="2800" spc="-1" strike="noStrike">
              <a:solidFill>
                <a:srgbClr val="000000"/>
              </a:solidFill>
              <a:latin typeface="Calibri"/>
            </a:endParaRPr>
          </a:p>
        </p:txBody>
      </p:sp>
      <p:sp>
        <p:nvSpPr>
          <p:cNvPr id="221" name="矩形 5"/>
          <p:cNvSpPr/>
          <p:nvPr/>
        </p:nvSpPr>
        <p:spPr>
          <a:xfrm>
            <a:off x="882720" y="1817640"/>
            <a:ext cx="73119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000000"/>
                </a:solidFill>
                <a:latin typeface="黑体"/>
                <a:ea typeface="黑体"/>
              </a:rPr>
              <a:t>说一说这首诗歌中哪句话最能体现作者的志向？</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14" presetSubtype="10">
                                  <p:stCondLst>
                                    <p:cond delay="0"/>
                                  </p:stCondLst>
                                  <p:childTnLst>
                                    <p:set>
                                      <p:cBhvr>
                                        <p:cTn id="516" dur="1" fill="hold">
                                          <p:stCondLst>
                                            <p:cond delay="0"/>
                                          </p:stCondLst>
                                        </p:cTn>
                                        <p:tgtEl>
                                          <p:spTgt spid="220"/>
                                        </p:tgtEl>
                                        <p:attrNameLst>
                                          <p:attrName>style.visibility</p:attrName>
                                        </p:attrNameLst>
                                      </p:cBhvr>
                                      <p:to>
                                        <p:strVal val="visible"/>
                                      </p:to>
                                    </p:set>
                                    <p:animEffect filter="randombar(horizontal)" transition="in">
                                      <p:cBhvr additive="repl">
                                        <p:cTn id="51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 descr="C:\Users\Administrator\Desktop\可改图标 - 副本\品读释疑.png"/>
          <p:cNvPicPr/>
          <p:nvPr/>
        </p:nvPicPr>
        <p:blipFill>
          <a:blip r:embed="rId1"/>
          <a:stretch/>
        </p:blipFill>
        <p:spPr>
          <a:xfrm>
            <a:off x="3286080" y="254160"/>
            <a:ext cx="2571840" cy="672840"/>
          </a:xfrm>
          <a:prstGeom prst="rect">
            <a:avLst/>
          </a:prstGeom>
          <a:ln w="0">
            <a:noFill/>
          </a:ln>
          <a:effectLst>
            <a:outerShdw dist="153753" dir="2700000" blurRad="0" rotWithShape="0">
              <a:srgbClr val="000000">
                <a:alpha val="40000"/>
              </a:srgbClr>
            </a:outerShdw>
          </a:effectLst>
        </p:spPr>
      </p:pic>
      <p:sp>
        <p:nvSpPr>
          <p:cNvPr id="223" name="矩形 8"/>
          <p:cNvSpPr/>
          <p:nvPr/>
        </p:nvSpPr>
        <p:spPr>
          <a:xfrm>
            <a:off x="735120" y="1582560"/>
            <a:ext cx="7848360" cy="2593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不愿跟爱唱的小鸟争一个短长；</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渴望去那寥廓的天宇高高飞翔。</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直接道出了“我”的志向和理想：不屑与整日唱个不休、胸无大志、自得其乐的小鸟争个高下，“我”志在蓝天，渴望搏击长空，勇往直前地飞翔。</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524" dur="5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矩形 1"/>
          <p:cNvSpPr/>
          <p:nvPr/>
        </p:nvSpPr>
        <p:spPr>
          <a:xfrm>
            <a:off x="885960" y="1069920"/>
            <a:ext cx="7683480" cy="2837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仿写：</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请你仿照这句诗的句式“我，不愿</a:t>
            </a:r>
            <a:r>
              <a:rPr b="1" lang="en-US" sz="2400" spc="-1" strike="noStrike">
                <a:solidFill>
                  <a:srgbClr val="000000"/>
                </a:solidFill>
                <a:latin typeface="宋体"/>
              </a:rPr>
              <a:t>……</a:t>
            </a:r>
            <a:r>
              <a:rPr b="1" lang="zh-CN" sz="2400" spc="-1" strike="noStrike">
                <a:solidFill>
                  <a:srgbClr val="000000"/>
                </a:solidFill>
                <a:latin typeface="宋体"/>
              </a:rPr>
              <a:t>；我，渴望</a:t>
            </a:r>
            <a:r>
              <a:rPr b="1" lang="en-US" sz="2400" spc="-1" strike="noStrike">
                <a:solidFill>
                  <a:srgbClr val="000000"/>
                </a:solidFill>
                <a:latin typeface="宋体"/>
              </a:rPr>
              <a:t>……”</a:t>
            </a:r>
            <a:r>
              <a:rPr b="1" lang="zh-CN" sz="2400" spc="-1" strike="noStrike">
                <a:solidFill>
                  <a:srgbClr val="000000"/>
                </a:solidFill>
                <a:latin typeface="宋体"/>
              </a:rPr>
              <a:t>写一个句子。</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________________________________________________ </a:t>
            </a:r>
            <a:r>
              <a:rPr b="1" lang="zh-CN" sz="2400" spc="-1" strike="noStrike">
                <a:solidFill>
                  <a:srgbClr val="000000"/>
                </a:solidFill>
                <a:latin typeface="宋体"/>
              </a:rPr>
              <a:t>　</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225" name="图片 24" descr="花盆.png"/>
          <p:cNvPicPr/>
          <p:nvPr/>
        </p:nvPicPr>
        <p:blipFill>
          <a:blip r:embed="rId1"/>
          <a:stretch/>
        </p:blipFill>
        <p:spPr>
          <a:xfrm>
            <a:off x="642960" y="1271520"/>
            <a:ext cx="322200" cy="368280"/>
          </a:xfrm>
          <a:prstGeom prst="rect">
            <a:avLst/>
          </a:prstGeom>
          <a:ln w="0">
            <a:noFill/>
          </a:ln>
        </p:spPr>
      </p:pic>
      <p:sp>
        <p:nvSpPr>
          <p:cNvPr id="226" name="矩形 2"/>
          <p:cNvSpPr/>
          <p:nvPr/>
        </p:nvSpPr>
        <p:spPr>
          <a:xfrm>
            <a:off x="1220760" y="2687760"/>
            <a:ext cx="6497640" cy="1191240"/>
          </a:xfrm>
          <a:prstGeom prst="rect">
            <a:avLst/>
          </a:prstGeom>
          <a:noFill/>
          <a:ln w="0">
            <a:noFill/>
          </a:ln>
        </p:spPr>
        <p:style>
          <a:lnRef idx="0"/>
          <a:fillRef idx="0"/>
          <a:effectRef idx="0"/>
          <a:fontRef idx="minor"/>
        </p:style>
        <p:txBody>
          <a:bodyPr lIns="90000" rIns="90000" tIns="46800" bIns="46800" anchor="t">
            <a:spAutoFit/>
          </a:bodyPr>
          <a:p>
            <a:pPr marL="990720" indent="-990720">
              <a:lnSpc>
                <a:spcPct val="15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2400" spc="-1" strike="noStrike">
                <a:solidFill>
                  <a:srgbClr val="0000ff"/>
                </a:solidFill>
                <a:latin typeface="宋体"/>
              </a:rPr>
              <a:t>示例：</a:t>
            </a:r>
            <a:r>
              <a:rPr b="1" lang="zh-CN" sz="2400" spc="-1" strike="noStrike">
                <a:solidFill>
                  <a:srgbClr val="ff0000"/>
                </a:solidFill>
                <a:latin typeface="宋体"/>
              </a:rPr>
              <a:t>我，不愿什么事都要靠父母帮我完成；我，渴望自己独立地完成我自己的事情。</a:t>
            </a:r>
            <a:endParaRPr b="0" lang="en-US" sz="2400" spc="-1" strike="noStrike">
              <a:solidFill>
                <a:srgbClr val="000000"/>
              </a:solidFill>
              <a:latin typeface="Calibri"/>
            </a:endParaRPr>
          </a:p>
        </p:txBody>
      </p:sp>
      <p:grpSp>
        <p:nvGrpSpPr>
          <p:cNvPr id="227" name="组合 5"/>
          <p:cNvGrpSpPr/>
          <p:nvPr/>
        </p:nvGrpSpPr>
        <p:grpSpPr>
          <a:xfrm>
            <a:off x="5259240" y="3746520"/>
            <a:ext cx="3683160" cy="2717640"/>
            <a:chOff x="5259240" y="3746520"/>
            <a:chExt cx="3683160" cy="2717640"/>
          </a:xfrm>
        </p:grpSpPr>
        <p:pic>
          <p:nvPicPr>
            <p:cNvPr id="228"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46520"/>
              <a:ext cx="3683160" cy="2717640"/>
            </a:xfrm>
            <a:prstGeom prst="rect">
              <a:avLst/>
            </a:prstGeom>
            <a:ln w="0">
              <a:noFill/>
            </a:ln>
          </p:spPr>
        </p:pic>
        <p:sp>
          <p:nvSpPr>
            <p:cNvPr id="229" name="矩形 1"/>
            <p:cNvSpPr/>
            <p:nvPr/>
          </p:nvSpPr>
          <p:spPr>
            <a:xfrm>
              <a:off x="5549040" y="3899160"/>
              <a:ext cx="232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相信你还能想到其他的句子，请试一试吧！</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226"/>
                                        </p:tgtEl>
                                        <p:attrNameLst>
                                          <p:attrName>style.visibility</p:attrName>
                                        </p:attrNameLst>
                                      </p:cBhvr>
                                      <p:to>
                                        <p:strVal val="visible"/>
                                      </p:to>
                                    </p:set>
                                    <p:animEffect filter="wipe(left)" transition="in">
                                      <p:cBhvr additive="repl">
                                        <p:cTn id="531" dur="500"/>
                                        <p:tgtEl>
                                          <p:spTgt spid="226"/>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227"/>
                                        </p:tgtEl>
                                        <p:attrNameLst>
                                          <p:attrName>style.visibility</p:attrName>
                                        </p:attrNameLst>
                                      </p:cBhvr>
                                      <p:to>
                                        <p:strVal val="visible"/>
                                      </p:to>
                                    </p:set>
                                    <p:animEffect filter="blinds(horizontal)" transition="in">
                                      <p:cBhvr additive="repl">
                                        <p:cTn id="53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矩形 2"/>
          <p:cNvSpPr/>
          <p:nvPr/>
        </p:nvSpPr>
        <p:spPr>
          <a:xfrm>
            <a:off x="941400" y="3873600"/>
            <a:ext cx="7799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金丝雀美丽善歌，却徒有其表，被供养在笼子里，没有自由；学舌鸟毫无主见，只会人云亦云，这二者象征着贪图享乐、胸无大志的人。而“雄鹰”是力量和意志的象征，“海鸥”是一种自由和欢乐的精神寄托。</a:t>
            </a:r>
            <a:endParaRPr b="0" lang="en-US" sz="2400" spc="-1" strike="noStrike">
              <a:solidFill>
                <a:srgbClr val="000000"/>
              </a:solidFill>
              <a:latin typeface="Calibri"/>
            </a:endParaRPr>
          </a:p>
        </p:txBody>
      </p:sp>
      <p:sp>
        <p:nvSpPr>
          <p:cNvPr id="231" name="矩形 6"/>
          <p:cNvSpPr/>
          <p:nvPr/>
        </p:nvSpPr>
        <p:spPr>
          <a:xfrm>
            <a:off x="1565280" y="1214280"/>
            <a:ext cx="6327720" cy="1449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是雄鹰和海鸥深深地打动了我的心，</a:t>
            </a:r>
            <a:endParaRPr b="0" lang="en-US" sz="28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楷体"/>
                <a:ea typeface="楷体"/>
              </a:rPr>
              <a:t>那金丝雀和学舌鸟决不是我的理想。</a:t>
            </a:r>
            <a:endParaRPr b="0" lang="en-US" sz="2800" spc="-1" strike="noStrike">
              <a:solidFill>
                <a:srgbClr val="000000"/>
              </a:solidFill>
              <a:latin typeface="Calibri"/>
            </a:endParaRPr>
          </a:p>
        </p:txBody>
      </p:sp>
      <p:grpSp>
        <p:nvGrpSpPr>
          <p:cNvPr id="232" name="组合 1"/>
          <p:cNvGrpSpPr/>
          <p:nvPr/>
        </p:nvGrpSpPr>
        <p:grpSpPr>
          <a:xfrm>
            <a:off x="1054080" y="2771640"/>
            <a:ext cx="7128000" cy="1016280"/>
            <a:chOff x="1054080" y="2771640"/>
            <a:chExt cx="7128000" cy="1016280"/>
          </a:xfrm>
        </p:grpSpPr>
        <p:sp>
          <p:nvSpPr>
            <p:cNvPr id="233" name="直接连接符 5"/>
            <p:cNvSpPr/>
            <p:nvPr/>
          </p:nvSpPr>
          <p:spPr>
            <a:xfrm>
              <a:off x="1054080" y="3738960"/>
              <a:ext cx="712800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任意多边形 6"/>
            <p:cNvSpPr/>
            <p:nvPr/>
          </p:nvSpPr>
          <p:spPr>
            <a:xfrm>
              <a:off x="1091880" y="2771640"/>
              <a:ext cx="6985440" cy="1016280"/>
            </a:xfrm>
            <a:prstGeom prst="pie">
              <a:avLst/>
            </a:prstGeom>
            <a:noFill/>
            <a:ln w="0">
              <a:noFill/>
            </a:ln>
          </p:spPr>
          <p:style>
            <a:lnRef idx="0"/>
            <a:fillRef idx="0"/>
            <a:effectRef idx="0"/>
            <a:fontRef idx="minor"/>
          </p:style>
          <p:txBody>
            <a:bodyPr lIns="90000" rIns="90000" tIns="91440" bIns="91440" anchor="ctr">
              <a:noAutofit/>
            </a:bodyPr>
            <a:p>
              <a:pPr>
                <a:lnSpc>
                  <a:spcPct val="10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重点）：诗人对金丝雀和学舌鸟持否定态度，却对雄鹰和海鸥充满敬佩，其深层的原因是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2" presetSubtype="4">
                                  <p:stCondLst>
                                    <p:cond delay="0"/>
                                  </p:stCondLst>
                                  <p:childTnLst>
                                    <p:set>
                                      <p:cBhvr>
                                        <p:cTn id="542" dur="1" fill="hold">
                                          <p:stCondLst>
                                            <p:cond delay="0"/>
                                          </p:stCondLst>
                                        </p:cTn>
                                        <p:tgtEl>
                                          <p:spTgt spid="232"/>
                                        </p:tgtEl>
                                        <p:attrNameLst>
                                          <p:attrName>style.visibility</p:attrName>
                                        </p:attrNameLst>
                                      </p:cBhvr>
                                      <p:to>
                                        <p:strVal val="visible"/>
                                      </p:to>
                                    </p:set>
                                    <p:animEffect filter="wipe(down)" transition="in">
                                      <p:cBhvr additive="repl">
                                        <p:cTn id="543" dur="500"/>
                                        <p:tgtEl>
                                          <p:spTgt spid="232"/>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548"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矩形 2"/>
          <p:cNvSpPr/>
          <p:nvPr/>
        </p:nvSpPr>
        <p:spPr>
          <a:xfrm>
            <a:off x="847800" y="1298520"/>
            <a:ext cx="7799400" cy="3294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不习惯用甜美的颤音柔声啼啭</a:t>
            </a:r>
            <a:r>
              <a:rPr b="1" lang="en-US" sz="2400" spc="-1" strike="noStrike">
                <a:solidFill>
                  <a:srgbClr val="000000"/>
                </a:solidFill>
                <a:latin typeface="楷体"/>
                <a:ea typeface="楷体"/>
              </a:rPr>
              <a:t>(zhuàn)</a:t>
            </a:r>
            <a:r>
              <a:rPr b="1" lang="zh-CN" sz="2400" spc="-1" strike="noStrike">
                <a:solidFill>
                  <a:srgbClr val="000000"/>
                </a:solidFill>
                <a:latin typeface="楷体"/>
                <a:ea typeface="楷体"/>
              </a:rPr>
              <a:t>，</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我要在自由、欢乐、力量和意志的</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蓝天展翅翱</a:t>
            </a:r>
            <a:r>
              <a:rPr b="1" lang="en-US" sz="2400" spc="-1" strike="noStrike">
                <a:solidFill>
                  <a:srgbClr val="000000"/>
                </a:solidFill>
                <a:latin typeface="楷体"/>
                <a:ea typeface="楷体"/>
              </a:rPr>
              <a:t>(áo)</a:t>
            </a:r>
            <a:r>
              <a:rPr b="1" lang="zh-CN" sz="2400" spc="-1" strike="noStrike">
                <a:solidFill>
                  <a:srgbClr val="000000"/>
                </a:solidFill>
                <a:latin typeface="楷体"/>
                <a:ea typeface="楷体"/>
              </a:rPr>
              <a:t>翔。</a:t>
            </a:r>
            <a:endParaRPr b="0" lang="en-US" sz="2400" spc="-1" strike="noStrike">
              <a:solidFill>
                <a:srgbClr val="000000"/>
              </a:solidFill>
              <a:latin typeface="Calibri"/>
            </a:endParaRPr>
          </a:p>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品析：</a:t>
            </a:r>
            <a:r>
              <a:rPr b="1" lang="zh-CN" sz="2400" spc="-1" strike="noStrike">
                <a:solidFill>
                  <a:srgbClr val="ff0000"/>
                </a:solidFill>
                <a:latin typeface="宋体"/>
              </a:rPr>
              <a:t>这一句进一步表达了“我”的志向与追求：决不贪图安逸，苟且偷安；“我”追求的是自由的天空、战斗的欢乐、搏击的力量和钢铁般的意志。字里行间传达出无往而不胜的信心与力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555"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矩形 6"/>
          <p:cNvSpPr/>
          <p:nvPr/>
        </p:nvSpPr>
        <p:spPr>
          <a:xfrm>
            <a:off x="830160" y="2033640"/>
            <a:ext cx="758664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会写</a:t>
            </a:r>
            <a:r>
              <a:rPr b="1" lang="en-US" sz="2400" spc="-1" strike="noStrike">
                <a:solidFill>
                  <a:srgbClr val="000000"/>
                </a:solidFill>
                <a:latin typeface="宋体"/>
              </a:rPr>
              <a:t>5</a:t>
            </a:r>
            <a:r>
              <a:rPr b="1" lang="zh-CN" sz="2400" spc="-1" strike="noStrike">
                <a:solidFill>
                  <a:srgbClr val="000000"/>
                </a:solidFill>
                <a:latin typeface="宋体"/>
              </a:rPr>
              <a:t>个生字；理解由生字组成的词语。</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正确、流利、有感情地朗读课文，理解诗歌内容，把握诗歌主题。</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体会作者坚贞不屈的革命气节和追求自由的理想，懂得珍惜现在的幸福生活。</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5" name="图示 3" descr=""/>
          <p:cNvPicPr/>
          <p:nvPr/>
        </p:nvPicPr>
        <p:blipFill>
          <a:blip r:embed="rId1"/>
          <a:stretch/>
        </p:blipFill>
        <p:spPr>
          <a:xfrm>
            <a:off x="878040" y="927000"/>
            <a:ext cx="3090600" cy="146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矩形 1"/>
          <p:cNvSpPr/>
          <p:nvPr/>
        </p:nvSpPr>
        <p:spPr>
          <a:xfrm>
            <a:off x="885960" y="1038240"/>
            <a:ext cx="7683480" cy="2837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拓展：</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假如你的理想是当一名飞行员或航天员，那么你如何表达这一理想呢？</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________________________________________________</a:t>
            </a:r>
            <a:r>
              <a:rPr b="1" lang="zh-CN" sz="2400" spc="-1" strike="noStrike">
                <a:solidFill>
                  <a:srgbClr val="000000"/>
                </a:solidFill>
                <a:latin typeface="宋体"/>
              </a:rPr>
              <a:t>　</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237" name="图片 24" descr="花盆.png"/>
          <p:cNvPicPr/>
          <p:nvPr/>
        </p:nvPicPr>
        <p:blipFill>
          <a:blip r:embed="rId1"/>
          <a:stretch/>
        </p:blipFill>
        <p:spPr>
          <a:xfrm>
            <a:off x="642960" y="1208160"/>
            <a:ext cx="322200" cy="368280"/>
          </a:xfrm>
          <a:prstGeom prst="rect">
            <a:avLst/>
          </a:prstGeom>
          <a:ln w="0">
            <a:noFill/>
          </a:ln>
        </p:spPr>
      </p:pic>
      <p:sp>
        <p:nvSpPr>
          <p:cNvPr id="238" name="矩形 2"/>
          <p:cNvSpPr/>
          <p:nvPr/>
        </p:nvSpPr>
        <p:spPr>
          <a:xfrm>
            <a:off x="1220760" y="2687760"/>
            <a:ext cx="66405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zh-CN" sz="2400" spc="-1" strike="noStrike">
                <a:solidFill>
                  <a:srgbClr val="ff0000"/>
                </a:solidFill>
                <a:latin typeface="宋体"/>
              </a:rPr>
              <a:t>我愿做一只守卫祖国的“雄鹰”，在祖国的蓝天上翱翔，保卫祖国的领空不受侵犯。</a:t>
            </a:r>
            <a:endParaRPr b="0" lang="en-US" sz="2400" spc="-1" strike="noStrike">
              <a:solidFill>
                <a:srgbClr val="000000"/>
              </a:solidFill>
              <a:latin typeface="Calibri"/>
            </a:endParaRPr>
          </a:p>
        </p:txBody>
      </p:sp>
      <p:grpSp>
        <p:nvGrpSpPr>
          <p:cNvPr id="239" name="组合 5"/>
          <p:cNvGrpSpPr/>
          <p:nvPr/>
        </p:nvGrpSpPr>
        <p:grpSpPr>
          <a:xfrm>
            <a:off x="5259240" y="3746520"/>
            <a:ext cx="3683160" cy="2717640"/>
            <a:chOff x="5259240" y="3746520"/>
            <a:chExt cx="3683160" cy="2717640"/>
          </a:xfrm>
        </p:grpSpPr>
        <p:pic>
          <p:nvPicPr>
            <p:cNvPr id="240"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259240" y="3746520"/>
              <a:ext cx="3683160" cy="2717640"/>
            </a:xfrm>
            <a:prstGeom prst="rect">
              <a:avLst/>
            </a:prstGeom>
            <a:ln w="0">
              <a:noFill/>
            </a:ln>
          </p:spPr>
        </p:pic>
        <p:sp>
          <p:nvSpPr>
            <p:cNvPr id="241" name="矩形 1"/>
            <p:cNvSpPr/>
            <p:nvPr/>
          </p:nvSpPr>
          <p:spPr>
            <a:xfrm>
              <a:off x="5549040" y="3899160"/>
              <a:ext cx="232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相信你还有其他的表达方式，请试一试吧！</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38"/>
                                        </p:tgtEl>
                                        <p:attrNameLst>
                                          <p:attrName>style.visibility</p:attrName>
                                        </p:attrNameLst>
                                      </p:cBhvr>
                                      <p:to>
                                        <p:strVal val="visible"/>
                                      </p:to>
                                    </p:set>
                                    <p:animEffect filter="wipe(left)" transition="in">
                                      <p:cBhvr additive="repl">
                                        <p:cTn id="562" dur="500"/>
                                        <p:tgtEl>
                                          <p:spTgt spid="238"/>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39"/>
                                        </p:tgtEl>
                                        <p:attrNameLst>
                                          <p:attrName>style.visibility</p:attrName>
                                        </p:attrNameLst>
                                      </p:cBhvr>
                                      <p:to>
                                        <p:strVal val="visible"/>
                                      </p:to>
                                    </p:set>
                                    <p:animEffect filter="blinds(horizontal)" transition="in">
                                      <p:cBhvr additive="repl">
                                        <p:cTn id="56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内容占位符 2"/>
          <p:cNvSpPr/>
          <p:nvPr/>
        </p:nvSpPr>
        <p:spPr>
          <a:xfrm>
            <a:off x="1036800" y="2666880"/>
            <a:ext cx="7333920" cy="24242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在自由和力量中飞翔</a:t>
            </a:r>
            <a:r>
              <a:rPr b="1" lang="en-US" sz="2400" spc="-1" strike="noStrike">
                <a:solidFill>
                  <a:srgbClr val="000000"/>
                </a:solidFill>
                <a:latin typeface="宋体"/>
              </a:rPr>
              <a:t>》</a:t>
            </a:r>
            <a:r>
              <a:rPr b="1" lang="zh-CN" sz="2400" spc="-1" strike="noStrike">
                <a:solidFill>
                  <a:srgbClr val="000000"/>
                </a:solidFill>
                <a:latin typeface="宋体"/>
              </a:rPr>
              <a:t>一诗中，诗人心中的“自由” 有怎样的含义？</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r>
              <a:rPr b="1" lang="zh-CN" sz="2400" spc="-1" strike="noStrike">
                <a:solidFill>
                  <a:srgbClr val="ff0000"/>
                </a:solidFill>
                <a:latin typeface="宋体"/>
              </a:rPr>
              <a:t>在自由和力量中飞翔</a:t>
            </a:r>
            <a:r>
              <a:rPr b="1" lang="en-US" sz="2400" spc="-1" strike="noStrike">
                <a:solidFill>
                  <a:srgbClr val="ff0000"/>
                </a:solidFill>
                <a:latin typeface="宋体"/>
              </a:rPr>
              <a:t>》</a:t>
            </a:r>
            <a:r>
              <a:rPr b="1" lang="zh-CN" sz="2400" spc="-1" strike="noStrike">
                <a:solidFill>
                  <a:srgbClr val="ff0000"/>
                </a:solidFill>
                <a:latin typeface="宋体"/>
              </a:rPr>
              <a:t>一诗中，诗人想要的自由是指伟大的志向与追求：决不贪图安逸，苟且偷安；追求的是自由的天空、战斗的欢乐、搏击的力量和钢铁般的意志。</a:t>
            </a:r>
            <a:endParaRPr b="0" lang="en-US" sz="2400" spc="-1" strike="noStrike">
              <a:solidFill>
                <a:srgbClr val="000000"/>
              </a:solidFill>
              <a:latin typeface="Calibri"/>
            </a:endParaRPr>
          </a:p>
        </p:txBody>
      </p:sp>
      <p:sp>
        <p:nvSpPr>
          <p:cNvPr id="243" name="内容占位符 2"/>
          <p:cNvSpPr/>
          <p:nvPr/>
        </p:nvSpPr>
        <p:spPr>
          <a:xfrm>
            <a:off x="587520" y="1971720"/>
            <a:ext cx="220320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574"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内容占位符 2"/>
          <p:cNvSpPr/>
          <p:nvPr/>
        </p:nvSpPr>
        <p:spPr>
          <a:xfrm>
            <a:off x="674640" y="1558800"/>
            <a:ext cx="7631280" cy="254160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在自由和力量中飞翔</a:t>
            </a:r>
            <a:r>
              <a:rPr b="1" lang="en-US" sz="2400" spc="-1" strike="noStrike">
                <a:solidFill>
                  <a:srgbClr val="000000"/>
                </a:solidFill>
                <a:latin typeface="宋体"/>
              </a:rPr>
              <a:t>》</a:t>
            </a:r>
            <a:r>
              <a:rPr b="1" lang="zh-CN" sz="2400" spc="-1" strike="noStrike">
                <a:solidFill>
                  <a:srgbClr val="000000"/>
                </a:solidFill>
                <a:latin typeface="宋体"/>
              </a:rPr>
              <a:t>中，写到了哪几种动物？分别代表什么？</a:t>
            </a:r>
            <a:endParaRPr b="0" lang="en-US" sz="2400" spc="-1" strike="noStrike">
              <a:solidFill>
                <a:srgbClr val="000000"/>
              </a:solidFill>
              <a:latin typeface="Calibri"/>
            </a:endParaRPr>
          </a:p>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r>
              <a:rPr b="1" lang="zh-CN" sz="2400" spc="-1" strike="noStrike">
                <a:solidFill>
                  <a:srgbClr val="ff0000"/>
                </a:solidFill>
                <a:latin typeface="宋体"/>
              </a:rPr>
              <a:t>在自由和力量中飞翔</a:t>
            </a:r>
            <a:r>
              <a:rPr b="1" lang="en-US" sz="2400" spc="-1" strike="noStrike">
                <a:solidFill>
                  <a:srgbClr val="ff0000"/>
                </a:solidFill>
                <a:latin typeface="宋体"/>
              </a:rPr>
              <a:t>》</a:t>
            </a:r>
            <a:r>
              <a:rPr b="1" lang="zh-CN" sz="2400" spc="-1" strike="noStrike">
                <a:solidFill>
                  <a:srgbClr val="ff0000"/>
                </a:solidFill>
                <a:latin typeface="宋体"/>
              </a:rPr>
              <a:t>一诗中，写到了金丝雀、学舌鸟、雄鹰和海鸥四种动物。金丝雀美丽善歌，却徒有其表，被供养在笼子里，没有自由；学舌鸟毫无主见，只会人云亦云，这二者象征着贪图享乐、胸无大志的人。而“雄鹰”是力量和意志的象征，“海鸥”是一种自由和欢乐的精神寄托。</a:t>
            </a:r>
            <a:endParaRPr b="0" lang="en-US" sz="2400" spc="-1" strike="noStrike">
              <a:solidFill>
                <a:srgbClr val="000000"/>
              </a:solidFill>
              <a:latin typeface="Calibri"/>
            </a:endParaRPr>
          </a:p>
        </p:txBody>
      </p:sp>
      <p:sp>
        <p:nvSpPr>
          <p:cNvPr id="245" name="内容占位符 2"/>
          <p:cNvSpPr/>
          <p:nvPr/>
        </p:nvSpPr>
        <p:spPr>
          <a:xfrm>
            <a:off x="635040" y="102384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581" dur="5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内容占位符 2"/>
          <p:cNvSpPr/>
          <p:nvPr/>
        </p:nvSpPr>
        <p:spPr>
          <a:xfrm>
            <a:off x="646200" y="1433520"/>
            <a:ext cx="7792920" cy="248760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你从诗人惠特曼写的这些事物中体会出他怎样的思想感情？</a:t>
            </a:r>
            <a:endParaRPr b="0" lang="en-US" sz="2400" spc="-1" strike="noStrike">
              <a:solidFill>
                <a:srgbClr val="000000"/>
              </a:solidFill>
              <a:latin typeface="Calibri"/>
            </a:endParaRPr>
          </a:p>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我从诗人写的这四种事物中体会到诗人在自由和力量中飞翔的理想和志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nodeType="clickEffect" fill="hold">
                      <p:stCondLst>
                        <p:cond delay="indefinite"/>
                      </p:stCondLst>
                      <p:childTnLst>
                        <p:par>
                          <p:cTn id="585" nodeType="withEffect"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6">
                                            <p:txEl>
                                              <p:pRg st="1" end="1"/>
                                            </p:txEl>
                                          </p:spTgt>
                                        </p:tgtEl>
                                        <p:attrNameLst>
                                          <p:attrName>style.visibility</p:attrName>
                                        </p:attrNameLst>
                                      </p:cBhvr>
                                      <p:to>
                                        <p:strVal val="visible"/>
                                      </p:to>
                                    </p:set>
                                    <p:animEffect filter="wipe(left)" transition="in">
                                      <p:cBhvr additive="repl">
                                        <p:cTn id="588" dur="500"/>
                                        <p:tgtEl>
                                          <p:spTgt spid="2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248" name="组合 3"/>
          <p:cNvGrpSpPr/>
          <p:nvPr/>
        </p:nvGrpSpPr>
        <p:grpSpPr>
          <a:xfrm>
            <a:off x="558720" y="1190520"/>
            <a:ext cx="2594160" cy="666720"/>
            <a:chOff x="558720" y="1190520"/>
            <a:chExt cx="2594160" cy="666720"/>
          </a:xfrm>
        </p:grpSpPr>
        <p:sp>
          <p:nvSpPr>
            <p:cNvPr id="249" name="圆角矩形 12"/>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50" name="图片 9" descr="book.gif"/>
            <p:cNvPicPr/>
            <p:nvPr/>
          </p:nvPicPr>
          <p:blipFill>
            <a:blip r:embed="rId2"/>
            <a:stretch/>
          </p:blipFill>
          <p:spPr>
            <a:xfrm>
              <a:off x="558720" y="1190520"/>
              <a:ext cx="1087560" cy="666720"/>
            </a:xfrm>
            <a:prstGeom prst="rect">
              <a:avLst/>
            </a:prstGeom>
            <a:ln w="0">
              <a:noFill/>
            </a:ln>
          </p:spPr>
        </p:pic>
        <p:sp>
          <p:nvSpPr>
            <p:cNvPr id="25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252" name="文本框 26"/>
          <p:cNvSpPr/>
          <p:nvPr/>
        </p:nvSpPr>
        <p:spPr>
          <a:xfrm>
            <a:off x="641880" y="1296720"/>
            <a:ext cx="667800" cy="508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楷体"/>
                <a:ea typeface="楷体"/>
              </a:rPr>
              <a:t>在自由和力量中飞翔</a:t>
            </a:r>
            <a:endParaRPr b="0" lang="en-US" sz="3200" spc="-1" strike="noStrike">
              <a:solidFill>
                <a:srgbClr val="000000"/>
              </a:solidFill>
              <a:latin typeface="Calibri"/>
            </a:endParaRPr>
          </a:p>
        </p:txBody>
      </p:sp>
      <p:sp>
        <p:nvSpPr>
          <p:cNvPr id="253" name="左大括号 14"/>
          <p:cNvSpPr/>
          <p:nvPr/>
        </p:nvSpPr>
        <p:spPr>
          <a:xfrm>
            <a:off x="1176480" y="2340000"/>
            <a:ext cx="426960" cy="2563920"/>
          </a:xfrm>
          <a:custGeom>
            <a:avLst/>
            <a:gdLst>
              <a:gd name="textAreaLeft" fmla="*/ 272880 w 426960"/>
              <a:gd name="textAreaRight" fmla="*/ 427320 w 426960"/>
              <a:gd name="textAreaTop" fmla="*/ 10800 h 2563920"/>
              <a:gd name="textAreaBottom" fmla="*/ 2553120 h 256392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4" name="文本框 1"/>
          <p:cNvSpPr/>
          <p:nvPr/>
        </p:nvSpPr>
        <p:spPr>
          <a:xfrm>
            <a:off x="7580160" y="3094200"/>
            <a:ext cx="14162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追求理想展翅翱翔</a:t>
            </a:r>
            <a:endParaRPr b="0" lang="en-US" sz="2400" spc="-1" strike="noStrike">
              <a:solidFill>
                <a:srgbClr val="000000"/>
              </a:solidFill>
              <a:latin typeface="Calibri"/>
            </a:endParaRPr>
          </a:p>
        </p:txBody>
      </p:sp>
      <p:sp>
        <p:nvSpPr>
          <p:cNvPr id="255" name="左大括号 16"/>
          <p:cNvSpPr/>
          <p:nvPr/>
        </p:nvSpPr>
        <p:spPr>
          <a:xfrm flipH="1">
            <a:off x="7282800" y="2340000"/>
            <a:ext cx="360360" cy="2563920"/>
          </a:xfrm>
          <a:custGeom>
            <a:avLst/>
            <a:gdLst>
              <a:gd name="textAreaLeft" fmla="*/ 230040 w 360360"/>
              <a:gd name="textAreaRight" fmla="*/ 360360 w 360360"/>
              <a:gd name="textAreaTop" fmla="*/ 9360 h 2563920"/>
              <a:gd name="textAreaBottom" fmla="*/ 2554560 h 2563920"/>
            </a:gdLst>
            <a:ahLst/>
            <a:rect l="textAreaLeft" t="textAreaTop" r="textAreaRight" b="textAreaBottom"/>
            <a:pathLst>
              <a:path w="21600" h="21600">
                <a:moveTo>
                  <a:pt x="21600" y="0"/>
                </a:moveTo>
                <a:cubicBezTo>
                  <a:pt x="16200" y="0"/>
                  <a:pt x="10800" y="127"/>
                  <a:pt x="10800" y="253"/>
                </a:cubicBezTo>
                <a:lnTo>
                  <a:pt x="10800" y="10547"/>
                </a:lnTo>
                <a:cubicBezTo>
                  <a:pt x="10800" y="10674"/>
                  <a:pt x="5400" y="10800"/>
                  <a:pt x="0" y="10800"/>
                </a:cubicBezTo>
                <a:cubicBezTo>
                  <a:pt x="5400" y="10800"/>
                  <a:pt x="10800" y="10927"/>
                  <a:pt x="10800" y="11053"/>
                </a:cubicBezTo>
                <a:lnTo>
                  <a:pt x="10800" y="21347"/>
                </a:lnTo>
                <a:cubicBezTo>
                  <a:pt x="10800" y="21474"/>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矩形 17"/>
          <p:cNvSpPr/>
          <p:nvPr/>
        </p:nvSpPr>
        <p:spPr>
          <a:xfrm>
            <a:off x="1753560" y="2290680"/>
            <a:ext cx="1253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a:t>
            </a:r>
            <a:r>
              <a:rPr b="1" lang="zh-CN" sz="2200" spc="-1" strike="noStrike">
                <a:solidFill>
                  <a:srgbClr val="00965a"/>
                </a:solidFill>
                <a:latin typeface="黑体"/>
                <a:ea typeface="黑体"/>
              </a:rPr>
              <a:t>我”的志向</a:t>
            </a:r>
            <a:endParaRPr b="0" lang="en-US" sz="2200" spc="-1" strike="noStrike">
              <a:solidFill>
                <a:srgbClr val="000000"/>
              </a:solidFill>
              <a:latin typeface="Calibri"/>
            </a:endParaRPr>
          </a:p>
        </p:txBody>
      </p:sp>
      <p:sp>
        <p:nvSpPr>
          <p:cNvPr id="257" name="矩形 18"/>
          <p:cNvSpPr/>
          <p:nvPr/>
        </p:nvSpPr>
        <p:spPr>
          <a:xfrm>
            <a:off x="1753560" y="4629240"/>
            <a:ext cx="1253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a:t>
            </a:r>
            <a:r>
              <a:rPr b="1" lang="zh-CN" sz="2200" spc="-1" strike="noStrike">
                <a:solidFill>
                  <a:srgbClr val="00965a"/>
                </a:solidFill>
                <a:latin typeface="黑体"/>
                <a:ea typeface="黑体"/>
              </a:rPr>
              <a:t>我”的追求</a:t>
            </a:r>
            <a:endParaRPr b="0" lang="en-US" sz="2200" spc="-1" strike="noStrike">
              <a:solidFill>
                <a:srgbClr val="000000"/>
              </a:solidFill>
              <a:latin typeface="Calibri"/>
            </a:endParaRPr>
          </a:p>
        </p:txBody>
      </p:sp>
      <p:sp>
        <p:nvSpPr>
          <p:cNvPr id="258" name="矩形 19"/>
          <p:cNvSpPr/>
          <p:nvPr/>
        </p:nvSpPr>
        <p:spPr>
          <a:xfrm>
            <a:off x="3324240" y="2122560"/>
            <a:ext cx="2460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不愿跟小鸟争短长　</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去寥廓的天宇飞翔</a:t>
            </a:r>
            <a:endParaRPr b="0" lang="en-US" sz="2200" spc="-1" strike="noStrike">
              <a:solidFill>
                <a:srgbClr val="000000"/>
              </a:solidFill>
              <a:latin typeface="Calibri"/>
            </a:endParaRPr>
          </a:p>
        </p:txBody>
      </p:sp>
      <p:sp>
        <p:nvSpPr>
          <p:cNvPr id="259" name="矩形 20"/>
          <p:cNvSpPr/>
          <p:nvPr/>
        </p:nvSpPr>
        <p:spPr>
          <a:xfrm>
            <a:off x="5960520" y="2290680"/>
            <a:ext cx="68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有理想</a:t>
            </a:r>
            <a:endParaRPr b="0" lang="en-US" sz="2200" spc="-1" strike="noStrike">
              <a:solidFill>
                <a:srgbClr val="000000"/>
              </a:solidFill>
              <a:latin typeface="Calibri"/>
            </a:endParaRPr>
          </a:p>
        </p:txBody>
      </p:sp>
      <p:sp>
        <p:nvSpPr>
          <p:cNvPr id="260" name="矩形 21"/>
          <p:cNvSpPr/>
          <p:nvPr/>
        </p:nvSpPr>
        <p:spPr>
          <a:xfrm>
            <a:off x="3324240" y="4111560"/>
            <a:ext cx="228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自由的天空　</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战斗的欢乐　</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搏击的力量　</a:t>
            </a:r>
            <a:endParaRPr b="0" lang="en-US" sz="2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钢铁般的意志</a:t>
            </a:r>
            <a:endParaRPr b="0" lang="en-US" sz="2200" spc="-1" strike="noStrike">
              <a:solidFill>
                <a:srgbClr val="000000"/>
              </a:solidFill>
              <a:latin typeface="Calibri"/>
            </a:endParaRPr>
          </a:p>
        </p:txBody>
      </p:sp>
      <p:sp>
        <p:nvSpPr>
          <p:cNvPr id="261" name="矩形 22"/>
          <p:cNvSpPr/>
          <p:nvPr/>
        </p:nvSpPr>
        <p:spPr>
          <a:xfrm>
            <a:off x="6208920" y="4629240"/>
            <a:ext cx="308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有信念、有豪情</a:t>
            </a:r>
            <a:endParaRPr b="0" lang="en-US" sz="2200" spc="-1" strike="noStrike">
              <a:solidFill>
                <a:srgbClr val="000000"/>
              </a:solidFill>
              <a:latin typeface="Calibri"/>
            </a:endParaRPr>
          </a:p>
        </p:txBody>
      </p:sp>
      <p:sp>
        <p:nvSpPr>
          <p:cNvPr id="262" name="左大括号 23"/>
          <p:cNvSpPr/>
          <p:nvPr/>
        </p:nvSpPr>
        <p:spPr>
          <a:xfrm>
            <a:off x="3259080" y="2205000"/>
            <a:ext cx="111240" cy="600120"/>
          </a:xfrm>
          <a:custGeom>
            <a:avLst/>
            <a:gdLst>
              <a:gd name="textAreaLeft" fmla="*/ 71280 w 111240"/>
              <a:gd name="textAreaRight" fmla="*/ 111600 w 111240"/>
              <a:gd name="textAreaTop" fmla="*/ 2880 h 600120"/>
              <a:gd name="textAreaBottom" fmla="*/ 597240 h 600120"/>
            </a:gdLst>
            <a:ahLst/>
            <a:rect l="textAreaLeft" t="textAreaTop" r="textAreaRight" b="textAreaBottom"/>
            <a:pathLst>
              <a:path w="21600" h="21600">
                <a:moveTo>
                  <a:pt x="21600" y="0"/>
                </a:moveTo>
                <a:cubicBezTo>
                  <a:pt x="16200" y="0"/>
                  <a:pt x="10800" y="167"/>
                  <a:pt x="10800" y="333"/>
                </a:cubicBezTo>
                <a:lnTo>
                  <a:pt x="10800" y="10467"/>
                </a:lnTo>
                <a:cubicBezTo>
                  <a:pt x="10800" y="10634"/>
                  <a:pt x="5400" y="10800"/>
                  <a:pt x="0" y="10800"/>
                </a:cubicBezTo>
                <a:cubicBezTo>
                  <a:pt x="5400" y="10800"/>
                  <a:pt x="10800" y="10967"/>
                  <a:pt x="10800" y="11133"/>
                </a:cubicBezTo>
                <a:lnTo>
                  <a:pt x="10800" y="21267"/>
                </a:lnTo>
                <a:cubicBezTo>
                  <a:pt x="10800" y="21434"/>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3" name="左大括号 24"/>
          <p:cNvSpPr/>
          <p:nvPr/>
        </p:nvSpPr>
        <p:spPr>
          <a:xfrm>
            <a:off x="3152880" y="4280040"/>
            <a:ext cx="210960" cy="1130040"/>
          </a:xfrm>
          <a:custGeom>
            <a:avLst/>
            <a:gdLst>
              <a:gd name="textAreaLeft" fmla="*/ 135000 w 210960"/>
              <a:gd name="textAreaRight" fmla="*/ 211320 w 210960"/>
              <a:gd name="textAreaTop" fmla="*/ 5400 h 1130040"/>
              <a:gd name="textAreaBottom" fmla="*/ 1124640 h 1130040"/>
            </a:gdLst>
            <a:ahLst/>
            <a:rect l="textAreaLeft" t="textAreaTop" r="textAreaRight" b="textAreaBottom"/>
            <a:pathLst>
              <a:path w="21600" h="21600">
                <a:moveTo>
                  <a:pt x="21600" y="0"/>
                </a:moveTo>
                <a:cubicBezTo>
                  <a:pt x="16200" y="0"/>
                  <a:pt x="10800" y="168"/>
                  <a:pt x="10800" y="336"/>
                </a:cubicBezTo>
                <a:lnTo>
                  <a:pt x="10800" y="10464"/>
                </a:lnTo>
                <a:cubicBezTo>
                  <a:pt x="10800" y="10632"/>
                  <a:pt x="5400" y="10800"/>
                  <a:pt x="0" y="10800"/>
                </a:cubicBezTo>
                <a:cubicBezTo>
                  <a:pt x="5400" y="10800"/>
                  <a:pt x="10800" y="10968"/>
                  <a:pt x="10800" y="11136"/>
                </a:cubicBezTo>
                <a:lnTo>
                  <a:pt x="10800" y="21264"/>
                </a:lnTo>
                <a:cubicBezTo>
                  <a:pt x="10800" y="21432"/>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4" name="左大括号 25"/>
          <p:cNvSpPr/>
          <p:nvPr/>
        </p:nvSpPr>
        <p:spPr>
          <a:xfrm flipH="1">
            <a:off x="5760360" y="2205000"/>
            <a:ext cx="57240" cy="685800"/>
          </a:xfrm>
          <a:custGeom>
            <a:avLst/>
            <a:gdLst>
              <a:gd name="textAreaLeft" fmla="*/ 36360 w 57240"/>
              <a:gd name="textAreaRight" fmla="*/ 57240 w 57240"/>
              <a:gd name="textAreaTop" fmla="*/ 1440 h 685800"/>
              <a:gd name="textAreaBottom" fmla="*/ 684360 h 685800"/>
            </a:gdLst>
            <a:ahLst/>
            <a:rect l="textAreaLeft" t="textAreaTop" r="textAreaRight" b="textAreaBottom"/>
            <a:pathLst>
              <a:path w="21600" h="21600">
                <a:moveTo>
                  <a:pt x="21600" y="0"/>
                </a:moveTo>
                <a:cubicBezTo>
                  <a:pt x="16200" y="0"/>
                  <a:pt x="10800" y="75"/>
                  <a:pt x="10800" y="150"/>
                </a:cubicBezTo>
                <a:lnTo>
                  <a:pt x="10800" y="10650"/>
                </a:lnTo>
                <a:cubicBezTo>
                  <a:pt x="10800" y="10725"/>
                  <a:pt x="5400" y="10800"/>
                  <a:pt x="0" y="10800"/>
                </a:cubicBezTo>
                <a:cubicBezTo>
                  <a:pt x="5400" y="10800"/>
                  <a:pt x="10800" y="10875"/>
                  <a:pt x="10800" y="10950"/>
                </a:cubicBezTo>
                <a:lnTo>
                  <a:pt x="10800" y="21450"/>
                </a:lnTo>
                <a:cubicBezTo>
                  <a:pt x="10800" y="21525"/>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左大括号 26"/>
          <p:cNvSpPr/>
          <p:nvPr/>
        </p:nvSpPr>
        <p:spPr>
          <a:xfrm flipH="1">
            <a:off x="5222880" y="4280040"/>
            <a:ext cx="263520" cy="1130040"/>
          </a:xfrm>
          <a:custGeom>
            <a:avLst/>
            <a:gdLst>
              <a:gd name="textAreaLeft" fmla="*/ 168840 w 263520"/>
              <a:gd name="textAreaRight" fmla="*/ 264240 w 263520"/>
              <a:gd name="textAreaTop" fmla="*/ 6840 h 1130040"/>
              <a:gd name="textAreaBottom" fmla="*/ 1123200 h 1130040"/>
            </a:gdLst>
            <a:ahLst/>
            <a:rect l="textAreaLeft" t="textAreaTop" r="textAreaRight" b="textAreaBottom"/>
            <a:pathLst>
              <a:path w="21600" h="21600">
                <a:moveTo>
                  <a:pt x="21600" y="0"/>
                </a:moveTo>
                <a:cubicBezTo>
                  <a:pt x="16200" y="0"/>
                  <a:pt x="10800" y="210"/>
                  <a:pt x="10800" y="420"/>
                </a:cubicBezTo>
                <a:lnTo>
                  <a:pt x="10800" y="10380"/>
                </a:lnTo>
                <a:cubicBezTo>
                  <a:pt x="10800" y="10590"/>
                  <a:pt x="5400" y="10800"/>
                  <a:pt x="0" y="10800"/>
                </a:cubicBezTo>
                <a:cubicBezTo>
                  <a:pt x="5400" y="10800"/>
                  <a:pt x="10800" y="11010"/>
                  <a:pt x="10800" y="11220"/>
                </a:cubicBezTo>
                <a:lnTo>
                  <a:pt x="10800" y="21180"/>
                </a:lnTo>
                <a:cubicBezTo>
                  <a:pt x="10800" y="21390"/>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253"/>
                                        </p:tgtEl>
                                        <p:attrNameLst>
                                          <p:attrName>style.visibility</p:attrName>
                                        </p:attrNameLst>
                                      </p:cBhvr>
                                      <p:to>
                                        <p:strVal val="visible"/>
                                      </p:to>
                                    </p:set>
                                    <p:animEffect filter="wipe(left)" transition="in">
                                      <p:cBhvr additive="repl">
                                        <p:cTn id="595" dur="500"/>
                                        <p:tgtEl>
                                          <p:spTgt spid="25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56"/>
                                        </p:tgtEl>
                                        <p:attrNameLst>
                                          <p:attrName>style.visibility</p:attrName>
                                        </p:attrNameLst>
                                      </p:cBhvr>
                                      <p:to>
                                        <p:strVal val="visible"/>
                                      </p:to>
                                    </p:set>
                                    <p:animEffect filter="wipe(left)" transition="in">
                                      <p:cBhvr additive="repl">
                                        <p:cTn id="600" dur="500"/>
                                        <p:tgtEl>
                                          <p:spTgt spid="256"/>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2" presetSubtype="8">
                                  <p:stCondLst>
                                    <p:cond delay="0"/>
                                  </p:stCondLst>
                                  <p:childTnLst>
                                    <p:set>
                                      <p:cBhvr>
                                        <p:cTn id="604" dur="1" fill="hold">
                                          <p:stCondLst>
                                            <p:cond delay="0"/>
                                          </p:stCondLst>
                                        </p:cTn>
                                        <p:tgtEl>
                                          <p:spTgt spid="262"/>
                                        </p:tgtEl>
                                        <p:attrNameLst>
                                          <p:attrName>style.visibility</p:attrName>
                                        </p:attrNameLst>
                                      </p:cBhvr>
                                      <p:to>
                                        <p:strVal val="visible"/>
                                      </p:to>
                                    </p:set>
                                    <p:animEffect filter="wipe(left)" transition="in">
                                      <p:cBhvr additive="repl">
                                        <p:cTn id="605" dur="500"/>
                                        <p:tgtEl>
                                          <p:spTgt spid="262"/>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258"/>
                                        </p:tgtEl>
                                        <p:attrNameLst>
                                          <p:attrName>style.visibility</p:attrName>
                                        </p:attrNameLst>
                                      </p:cBhvr>
                                      <p:to>
                                        <p:strVal val="visible"/>
                                      </p:to>
                                    </p:set>
                                    <p:animEffect filter="wipe(left)" transition="in">
                                      <p:cBhvr additive="repl">
                                        <p:cTn id="610" dur="500"/>
                                        <p:tgtEl>
                                          <p:spTgt spid="258"/>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264"/>
                                        </p:tgtEl>
                                        <p:attrNameLst>
                                          <p:attrName>style.visibility</p:attrName>
                                        </p:attrNameLst>
                                      </p:cBhvr>
                                      <p:to>
                                        <p:strVal val="visible"/>
                                      </p:to>
                                    </p:set>
                                    <p:animEffect filter="wipe(left)" transition="in">
                                      <p:cBhvr additive="repl">
                                        <p:cTn id="615" dur="500"/>
                                        <p:tgtEl>
                                          <p:spTgt spid="264"/>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59"/>
                                        </p:tgtEl>
                                        <p:attrNameLst>
                                          <p:attrName>style.visibility</p:attrName>
                                        </p:attrNameLst>
                                      </p:cBhvr>
                                      <p:to>
                                        <p:strVal val="visible"/>
                                      </p:to>
                                    </p:set>
                                    <p:animEffect filter="wipe(left)" transition="in">
                                      <p:cBhvr additive="repl">
                                        <p:cTn id="620" dur="500"/>
                                        <p:tgtEl>
                                          <p:spTgt spid="259"/>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57"/>
                                        </p:tgtEl>
                                        <p:attrNameLst>
                                          <p:attrName>style.visibility</p:attrName>
                                        </p:attrNameLst>
                                      </p:cBhvr>
                                      <p:to>
                                        <p:strVal val="visible"/>
                                      </p:to>
                                    </p:set>
                                    <p:animEffect filter="wipe(left)" transition="in">
                                      <p:cBhvr additive="repl">
                                        <p:cTn id="625" dur="500"/>
                                        <p:tgtEl>
                                          <p:spTgt spid="257"/>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63"/>
                                        </p:tgtEl>
                                        <p:attrNameLst>
                                          <p:attrName>style.visibility</p:attrName>
                                        </p:attrNameLst>
                                      </p:cBhvr>
                                      <p:to>
                                        <p:strVal val="visible"/>
                                      </p:to>
                                    </p:set>
                                    <p:animEffect filter="wipe(left)" transition="in">
                                      <p:cBhvr additive="repl">
                                        <p:cTn id="630" dur="500"/>
                                        <p:tgtEl>
                                          <p:spTgt spid="263"/>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60"/>
                                        </p:tgtEl>
                                        <p:attrNameLst>
                                          <p:attrName>style.visibility</p:attrName>
                                        </p:attrNameLst>
                                      </p:cBhvr>
                                      <p:to>
                                        <p:strVal val="visible"/>
                                      </p:to>
                                    </p:set>
                                    <p:animEffect filter="wipe(left)" transition="in">
                                      <p:cBhvr additive="repl">
                                        <p:cTn id="635" dur="500"/>
                                        <p:tgtEl>
                                          <p:spTgt spid="260"/>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65"/>
                                        </p:tgtEl>
                                        <p:attrNameLst>
                                          <p:attrName>style.visibility</p:attrName>
                                        </p:attrNameLst>
                                      </p:cBhvr>
                                      <p:to>
                                        <p:strVal val="visible"/>
                                      </p:to>
                                    </p:set>
                                    <p:animEffect filter="wipe(left)" transition="in">
                                      <p:cBhvr additive="repl">
                                        <p:cTn id="640" dur="500"/>
                                        <p:tgtEl>
                                          <p:spTgt spid="265"/>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61"/>
                                        </p:tgtEl>
                                        <p:attrNameLst>
                                          <p:attrName>style.visibility</p:attrName>
                                        </p:attrNameLst>
                                      </p:cBhvr>
                                      <p:to>
                                        <p:strVal val="visible"/>
                                      </p:to>
                                    </p:set>
                                    <p:animEffect filter="wipe(left)" transition="in">
                                      <p:cBhvr additive="repl">
                                        <p:cTn id="645" dur="500"/>
                                        <p:tgtEl>
                                          <p:spTgt spid="261"/>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55"/>
                                        </p:tgtEl>
                                        <p:attrNameLst>
                                          <p:attrName>style.visibility</p:attrName>
                                        </p:attrNameLst>
                                      </p:cBhvr>
                                      <p:to>
                                        <p:strVal val="visible"/>
                                      </p:to>
                                    </p:set>
                                    <p:animEffect filter="wipe(left)" transition="in">
                                      <p:cBhvr additive="repl">
                                        <p:cTn id="650" dur="500"/>
                                        <p:tgtEl>
                                          <p:spTgt spid="255"/>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54"/>
                                        </p:tgtEl>
                                        <p:attrNameLst>
                                          <p:attrName>style.visibility</p:attrName>
                                        </p:attrNameLst>
                                      </p:cBhvr>
                                      <p:to>
                                        <p:strVal val="visible"/>
                                      </p:to>
                                    </p:set>
                                    <p:animEffect filter="wipe(left)" transition="in">
                                      <p:cBhvr additive="repl">
                                        <p:cTn id="65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内容占位符 2"/>
          <p:cNvSpPr/>
          <p:nvPr/>
        </p:nvSpPr>
        <p:spPr>
          <a:xfrm>
            <a:off x="1133640" y="2422440"/>
            <a:ext cx="7183440" cy="203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在自由和力量中飞翔</a:t>
            </a:r>
            <a:r>
              <a:rPr b="1" lang="en-US" sz="2400" spc="-1" strike="noStrike">
                <a:solidFill>
                  <a:srgbClr val="000000"/>
                </a:solidFill>
                <a:latin typeface="宋体"/>
              </a:rPr>
              <a:t>》</a:t>
            </a:r>
            <a:r>
              <a:rPr b="1" lang="zh-CN" sz="2400" spc="-1" strike="noStrike">
                <a:solidFill>
                  <a:srgbClr val="000000"/>
                </a:solidFill>
                <a:latin typeface="宋体"/>
              </a:rPr>
              <a:t>是一首抒发信念和理想的抒情诗。诗歌托物言志，表达了诗人在自由和力量中飞翔的理想和志向。</a:t>
            </a:r>
            <a:endParaRPr b="0" lang="en-US" sz="2400" spc="-1" strike="noStrike">
              <a:solidFill>
                <a:srgbClr val="000000"/>
              </a:solidFill>
              <a:latin typeface="Calibri"/>
            </a:endParaRPr>
          </a:p>
        </p:txBody>
      </p:sp>
      <p:grpSp>
        <p:nvGrpSpPr>
          <p:cNvPr id="267" name="组合 3"/>
          <p:cNvGrpSpPr/>
          <p:nvPr/>
        </p:nvGrpSpPr>
        <p:grpSpPr>
          <a:xfrm>
            <a:off x="558720" y="1190520"/>
            <a:ext cx="2594160" cy="666720"/>
            <a:chOff x="558720" y="1190520"/>
            <a:chExt cx="2594160" cy="666720"/>
          </a:xfrm>
        </p:grpSpPr>
        <p:sp>
          <p:nvSpPr>
            <p:cNvPr id="268"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69" name="图片 5" descr="book.gif"/>
            <p:cNvPicPr/>
            <p:nvPr/>
          </p:nvPicPr>
          <p:blipFill>
            <a:blip r:embed="rId1"/>
            <a:stretch/>
          </p:blipFill>
          <p:spPr>
            <a:xfrm>
              <a:off x="558720" y="1190520"/>
              <a:ext cx="1087560" cy="666720"/>
            </a:xfrm>
            <a:prstGeom prst="rect">
              <a:avLst/>
            </a:prstGeom>
            <a:ln w="0">
              <a:noFill/>
            </a:ln>
          </p:spPr>
        </p:pic>
        <p:sp>
          <p:nvSpPr>
            <p:cNvPr id="27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组合 3"/>
          <p:cNvGrpSpPr/>
          <p:nvPr/>
        </p:nvGrpSpPr>
        <p:grpSpPr>
          <a:xfrm>
            <a:off x="558720" y="1190520"/>
            <a:ext cx="2594160" cy="666720"/>
            <a:chOff x="558720" y="1190520"/>
            <a:chExt cx="2594160" cy="666720"/>
          </a:xfrm>
        </p:grpSpPr>
        <p:sp>
          <p:nvSpPr>
            <p:cNvPr id="272"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73" name="图片 9" descr="book.gif"/>
            <p:cNvPicPr/>
            <p:nvPr/>
          </p:nvPicPr>
          <p:blipFill>
            <a:blip r:embed="rId1"/>
            <a:stretch/>
          </p:blipFill>
          <p:spPr>
            <a:xfrm>
              <a:off x="558720" y="1190520"/>
              <a:ext cx="1087560" cy="666720"/>
            </a:xfrm>
            <a:prstGeom prst="rect">
              <a:avLst/>
            </a:prstGeom>
            <a:ln w="0">
              <a:noFill/>
            </a:ln>
          </p:spPr>
        </p:pic>
        <p:sp>
          <p:nvSpPr>
            <p:cNvPr id="27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pic>
        <p:nvPicPr>
          <p:cNvPr id="275" name="图片 16" descr=""/>
          <p:cNvPicPr/>
          <p:nvPr/>
        </p:nvPicPr>
        <p:blipFill>
          <a:blip r:embed="rId2"/>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sp>
        <p:nvSpPr>
          <p:cNvPr id="276" name="矩形 1"/>
          <p:cNvSpPr/>
          <p:nvPr/>
        </p:nvSpPr>
        <p:spPr>
          <a:xfrm>
            <a:off x="1135080" y="1952640"/>
            <a:ext cx="70801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把牢底坐穿</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何敬平</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为了免除下一代的苦难，我们愿</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愿把这牢底坐穿！</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我们是天生的叛逆者，我们要把这颠（</a:t>
            </a:r>
            <a:r>
              <a:rPr b="1" lang="en-US" sz="2000" spc="-1" strike="noStrike">
                <a:solidFill>
                  <a:srgbClr val="000000"/>
                </a:solidFill>
                <a:latin typeface="楷体"/>
                <a:ea typeface="楷体"/>
              </a:rPr>
              <a:t>diān</a:t>
            </a:r>
            <a:r>
              <a:rPr b="1" lang="zh-CN" sz="2000" spc="-1" strike="noStrike">
                <a:solidFill>
                  <a:srgbClr val="000000"/>
                </a:solidFill>
                <a:latin typeface="楷体"/>
                <a:ea typeface="楷体"/>
              </a:rPr>
              <a:t>）倒的乾坤扭转！</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我们要把这不合理的一切打翻！</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今天，我们坐牢了，坐牢又有什么稀罕？</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为了免除下一代的苦难，我们愿</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愿把这牢底坐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矩形 1"/>
          <p:cNvSpPr/>
          <p:nvPr/>
        </p:nvSpPr>
        <p:spPr>
          <a:xfrm>
            <a:off x="1052640" y="1119240"/>
            <a:ext cx="7081560" cy="3294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囚语</a:t>
            </a:r>
            <a:endParaRPr b="0" lang="en-US" sz="20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叶挺</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一个人，当可能达到他生命最后一程的时候，他需要眼泪，这不是妇人、懦（</a:t>
            </a:r>
            <a:r>
              <a:rPr b="1" lang="en-US" sz="2000" spc="-1" strike="noStrike">
                <a:solidFill>
                  <a:srgbClr val="000000"/>
                </a:solidFill>
                <a:latin typeface="楷体"/>
                <a:ea typeface="楷体"/>
              </a:rPr>
              <a:t>nuò</a:t>
            </a:r>
            <a:r>
              <a:rPr b="1" lang="zh-CN" sz="2000" spc="-1" strike="noStrike">
                <a:solidFill>
                  <a:srgbClr val="000000"/>
                </a:solidFill>
                <a:latin typeface="楷体"/>
                <a:ea typeface="楷体"/>
              </a:rPr>
              <a:t>）夫的眼泪，是壮士哭战友的眼泪。他需要狂歌，需要狂笑，最后一个意识、一个感情战胜了一切了，他会发出凯旋的微笑。</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自由像水和空气一样，得之不觉可贵，失之则难堪（</a:t>
            </a:r>
            <a:r>
              <a:rPr b="1" lang="en-US" sz="2000" spc="-1" strike="noStrike">
                <a:solidFill>
                  <a:srgbClr val="000000"/>
                </a:solidFill>
                <a:latin typeface="楷体"/>
                <a:ea typeface="楷体"/>
              </a:rPr>
              <a:t>kān</a:t>
            </a:r>
            <a:r>
              <a:rPr b="1" lang="zh-CN" sz="2000" spc="-1" strike="noStrike">
                <a:solidFill>
                  <a:srgbClr val="000000"/>
                </a:solidFill>
                <a:latin typeface="楷体"/>
                <a:ea typeface="楷体"/>
              </a:rPr>
              <a:t>），或至于死。未理发已一个多月了。这是我今日仅仅所能做的自由，囚徒的自由。我今日幸为囚徒，须发蓬蓬，是囚徒本色，为什么不保持这样本色呢？我已发愿，我一日不得自由，必不理发剃须，这是我的自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组合 5"/>
          <p:cNvGrpSpPr/>
          <p:nvPr/>
        </p:nvGrpSpPr>
        <p:grpSpPr>
          <a:xfrm>
            <a:off x="558720" y="1190520"/>
            <a:ext cx="2594160" cy="666720"/>
            <a:chOff x="558720" y="1190520"/>
            <a:chExt cx="2594160" cy="666720"/>
          </a:xfrm>
        </p:grpSpPr>
        <p:sp>
          <p:nvSpPr>
            <p:cNvPr id="279"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80" name="图片 9" descr="book.gif"/>
            <p:cNvPicPr/>
            <p:nvPr/>
          </p:nvPicPr>
          <p:blipFill>
            <a:blip r:embed="rId1"/>
            <a:stretch/>
          </p:blipFill>
          <p:spPr>
            <a:xfrm>
              <a:off x="558720" y="1190520"/>
              <a:ext cx="1087560" cy="666720"/>
            </a:xfrm>
            <a:prstGeom prst="rect">
              <a:avLst/>
            </a:prstGeom>
            <a:ln w="0">
              <a:noFill/>
            </a:ln>
          </p:spPr>
        </p:pic>
        <p:sp>
          <p:nvSpPr>
            <p:cNvPr id="28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
        <p:nvSpPr>
          <p:cNvPr id="282" name="矩形 1"/>
          <p:cNvSpPr/>
          <p:nvPr/>
        </p:nvSpPr>
        <p:spPr>
          <a:xfrm>
            <a:off x="1149480" y="2016000"/>
            <a:ext cx="7234200" cy="1677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鱼我所欲也；熊掌亦我所欲也。二者不可得兼，舍鱼而取熊掌者也。生亦我所欲也；义亦我所欲也。二者不可得兼，舍生而取义者也。</a:t>
            </a:r>
            <a:r>
              <a:rPr b="1" lang="en-US" sz="2200" spc="-1" strike="noStrike">
                <a:solidFill>
                  <a:srgbClr val="ff0000"/>
                </a:solidFill>
                <a:latin typeface="楷体"/>
                <a:ea typeface="楷体"/>
              </a:rPr>
              <a:t>(</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孟子</a:t>
            </a:r>
            <a:r>
              <a:rPr b="1" lang="en-US" sz="2200" spc="-1" strike="noStrike">
                <a:solidFill>
                  <a:srgbClr val="ff0000"/>
                </a:solidFill>
                <a:latin typeface="楷体"/>
                <a:ea typeface="楷体"/>
              </a:rPr>
              <a:t>》</a:t>
            </a:r>
            <a:r>
              <a:rPr b="1" lang="zh-CN" sz="2200" spc="-1" strike="noStrike">
                <a:solidFill>
                  <a:srgbClr val="ff0000"/>
                </a:solidFill>
                <a:latin typeface="楷体"/>
                <a:ea typeface="楷体"/>
              </a:rPr>
              <a:t>）</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仿宋"/>
                <a:ea typeface="仿宋"/>
              </a:rPr>
              <a:t>大意：鱼是我想要的，熊掌也是我想要的，</a:t>
            </a:r>
            <a:r>
              <a:rPr b="1" lang="en-US" sz="2200" spc="-1" strike="noStrike">
                <a:solidFill>
                  <a:srgbClr val="0070c0"/>
                </a:solidFill>
                <a:latin typeface="仿宋"/>
                <a:ea typeface="仿宋"/>
              </a:rPr>
              <a:t>(</a:t>
            </a:r>
            <a:r>
              <a:rPr b="1" lang="zh-CN" sz="2200" spc="-1" strike="noStrike">
                <a:solidFill>
                  <a:srgbClr val="0070c0"/>
                </a:solidFill>
                <a:latin typeface="仿宋"/>
                <a:ea typeface="仿宋"/>
              </a:rPr>
              <a:t>如果</a:t>
            </a:r>
            <a:r>
              <a:rPr b="1" lang="en-US" sz="2200" spc="-1" strike="noStrike">
                <a:solidFill>
                  <a:srgbClr val="0070c0"/>
                </a:solidFill>
                <a:latin typeface="仿宋"/>
                <a:ea typeface="仿宋"/>
              </a:rPr>
              <a:t>)</a:t>
            </a:r>
            <a:r>
              <a:rPr b="1" lang="zh-CN" sz="2200" spc="-1" strike="noStrike">
                <a:solidFill>
                  <a:srgbClr val="0070c0"/>
                </a:solidFill>
                <a:latin typeface="仿宋"/>
                <a:ea typeface="仿宋"/>
              </a:rPr>
              <a:t>这两种东西不能够同时得到的话，那么</a:t>
            </a:r>
            <a:r>
              <a:rPr b="1" lang="en-US" sz="2200" spc="-1" strike="noStrike">
                <a:solidFill>
                  <a:srgbClr val="0070c0"/>
                </a:solidFill>
                <a:latin typeface="仿宋"/>
                <a:ea typeface="仿宋"/>
              </a:rPr>
              <a:t>(</a:t>
            </a:r>
            <a:r>
              <a:rPr b="1" lang="zh-CN" sz="2200" spc="-1" strike="noStrike">
                <a:solidFill>
                  <a:srgbClr val="0070c0"/>
                </a:solidFill>
                <a:latin typeface="仿宋"/>
                <a:ea typeface="仿宋"/>
              </a:rPr>
              <a:t>我</a:t>
            </a:r>
            <a:r>
              <a:rPr b="1" lang="en-US" sz="2200" spc="-1" strike="noStrike">
                <a:solidFill>
                  <a:srgbClr val="0070c0"/>
                </a:solidFill>
                <a:latin typeface="仿宋"/>
                <a:ea typeface="仿宋"/>
              </a:rPr>
              <a:t>)</a:t>
            </a:r>
            <a:r>
              <a:rPr b="1" lang="zh-CN" sz="2200" spc="-1" strike="noStrike">
                <a:solidFill>
                  <a:srgbClr val="0070c0"/>
                </a:solidFill>
                <a:latin typeface="仿宋"/>
                <a:ea typeface="仿宋"/>
              </a:rPr>
              <a:t>就舍弃鱼而选择熊掌。生命也是我想要的，道义也是我想要的，</a:t>
            </a:r>
            <a:r>
              <a:rPr b="1" lang="en-US" sz="2200" spc="-1" strike="noStrike">
                <a:solidFill>
                  <a:srgbClr val="0070c0"/>
                </a:solidFill>
                <a:latin typeface="仿宋"/>
                <a:ea typeface="仿宋"/>
              </a:rPr>
              <a:t>(</a:t>
            </a:r>
            <a:r>
              <a:rPr b="1" lang="zh-CN" sz="2200" spc="-1" strike="noStrike">
                <a:solidFill>
                  <a:srgbClr val="0070c0"/>
                </a:solidFill>
                <a:latin typeface="仿宋"/>
                <a:ea typeface="仿宋"/>
              </a:rPr>
              <a:t>如果</a:t>
            </a:r>
            <a:r>
              <a:rPr b="1" lang="en-US" sz="2200" spc="-1" strike="noStrike">
                <a:solidFill>
                  <a:srgbClr val="0070c0"/>
                </a:solidFill>
                <a:latin typeface="仿宋"/>
                <a:ea typeface="仿宋"/>
              </a:rPr>
              <a:t>)</a:t>
            </a:r>
            <a:r>
              <a:rPr b="1" lang="zh-CN" sz="2200" spc="-1" strike="noStrike">
                <a:solidFill>
                  <a:srgbClr val="0070c0"/>
                </a:solidFill>
                <a:latin typeface="仿宋"/>
                <a:ea typeface="仿宋"/>
              </a:rPr>
              <a:t>这两种东西不能够同时得到的话，那么</a:t>
            </a:r>
            <a:r>
              <a:rPr b="1" lang="en-US" sz="2200" spc="-1" strike="noStrike">
                <a:solidFill>
                  <a:srgbClr val="0070c0"/>
                </a:solidFill>
                <a:latin typeface="仿宋"/>
                <a:ea typeface="仿宋"/>
              </a:rPr>
              <a:t>(</a:t>
            </a:r>
            <a:r>
              <a:rPr b="1" lang="zh-CN" sz="2200" spc="-1" strike="noStrike">
                <a:solidFill>
                  <a:srgbClr val="0070c0"/>
                </a:solidFill>
                <a:latin typeface="仿宋"/>
                <a:ea typeface="仿宋"/>
              </a:rPr>
              <a:t>我</a:t>
            </a:r>
            <a:r>
              <a:rPr b="1" lang="en-US" sz="2200" spc="-1" strike="noStrike">
                <a:solidFill>
                  <a:srgbClr val="0070c0"/>
                </a:solidFill>
                <a:latin typeface="仿宋"/>
                <a:ea typeface="仿宋"/>
              </a:rPr>
              <a:t>)</a:t>
            </a:r>
            <a:r>
              <a:rPr b="1" lang="zh-CN" sz="2200" spc="-1" strike="noStrike">
                <a:solidFill>
                  <a:srgbClr val="0070c0"/>
                </a:solidFill>
                <a:latin typeface="仿宋"/>
                <a:ea typeface="仿宋"/>
              </a:rPr>
              <a:t>就舍弃生命而选择道义。</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组合 6"/>
          <p:cNvGrpSpPr/>
          <p:nvPr/>
        </p:nvGrpSpPr>
        <p:grpSpPr>
          <a:xfrm>
            <a:off x="558720" y="1190520"/>
            <a:ext cx="3849840" cy="666720"/>
            <a:chOff x="558720" y="1190520"/>
            <a:chExt cx="3849840" cy="666720"/>
          </a:xfrm>
        </p:grpSpPr>
        <p:sp>
          <p:nvSpPr>
            <p:cNvPr id="284"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286" name="图片 9" descr="book.gif"/>
            <p:cNvPicPr/>
            <p:nvPr/>
          </p:nvPicPr>
          <p:blipFill>
            <a:blip r:embed="rId1"/>
            <a:stretch/>
          </p:blipFill>
          <p:spPr>
            <a:xfrm>
              <a:off x="558720" y="1190520"/>
              <a:ext cx="1087200" cy="666720"/>
            </a:xfrm>
            <a:prstGeom prst="rect">
              <a:avLst/>
            </a:prstGeom>
            <a:ln w="0">
              <a:noFill/>
            </a:ln>
          </p:spPr>
        </p:pic>
      </p:grpSp>
      <p:sp>
        <p:nvSpPr>
          <p:cNvPr id="287" name="矩形 1"/>
          <p:cNvSpPr/>
          <p:nvPr/>
        </p:nvSpPr>
        <p:spPr>
          <a:xfrm>
            <a:off x="1677240" y="2903400"/>
            <a:ext cx="18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象征自由的动物</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288" name="矩形 2"/>
          <p:cNvSpPr/>
          <p:nvPr/>
        </p:nvSpPr>
        <p:spPr>
          <a:xfrm>
            <a:off x="1265400" y="337032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小鸟、蝴蝶、沙鸥、鹰、鸽子、小鱼、马儿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矩形 4"/>
          <p:cNvSpPr/>
          <p:nvPr/>
        </p:nvSpPr>
        <p:spPr>
          <a:xfrm>
            <a:off x="3770280" y="2963880"/>
            <a:ext cx="4815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惠特曼：</a:t>
            </a:r>
            <a:r>
              <a:rPr b="1" lang="en-US" sz="2400" spc="-1" strike="noStrike">
                <a:solidFill>
                  <a:srgbClr val="000000"/>
                </a:solidFill>
                <a:latin typeface="宋体"/>
              </a:rPr>
              <a:t>(1819</a:t>
            </a:r>
            <a:r>
              <a:rPr b="1" lang="zh-CN" sz="2400" spc="-1" strike="noStrike">
                <a:solidFill>
                  <a:srgbClr val="000000"/>
                </a:solidFill>
                <a:latin typeface="宋体"/>
              </a:rPr>
              <a:t>－</a:t>
            </a:r>
            <a:r>
              <a:rPr b="1" lang="en-US" sz="2400" spc="-1" strike="noStrike">
                <a:solidFill>
                  <a:srgbClr val="000000"/>
                </a:solidFill>
                <a:latin typeface="宋体"/>
              </a:rPr>
              <a:t>1892)</a:t>
            </a:r>
            <a:r>
              <a:rPr b="1" lang="zh-CN" sz="2400" spc="-1" strike="noStrike">
                <a:solidFill>
                  <a:srgbClr val="000000"/>
                </a:solidFill>
                <a:latin typeface="宋体"/>
              </a:rPr>
              <a:t>，</a:t>
            </a:r>
            <a:r>
              <a:rPr b="1" lang="en-US" sz="2400" spc="-1" strike="noStrike">
                <a:solidFill>
                  <a:srgbClr val="000000"/>
                </a:solidFill>
                <a:latin typeface="宋体"/>
              </a:rPr>
              <a:t>19</a:t>
            </a:r>
            <a:r>
              <a:rPr b="1" lang="zh-CN" sz="2400" spc="-1" strike="noStrike">
                <a:solidFill>
                  <a:srgbClr val="000000"/>
                </a:solidFill>
                <a:latin typeface="宋体"/>
              </a:rPr>
              <a:t>世纪</a:t>
            </a:r>
            <a:r>
              <a:rPr b="1" lang="zh-CN" sz="2400" spc="-1" strike="noStrike">
                <a:solidFill>
                  <a:srgbClr val="ff0000"/>
                </a:solidFill>
                <a:latin typeface="宋体"/>
              </a:rPr>
              <a:t>美国</a:t>
            </a:r>
            <a:r>
              <a:rPr b="1" lang="zh-CN" sz="2400" spc="-1" strike="noStrike">
                <a:solidFill>
                  <a:srgbClr val="000000"/>
                </a:solidFill>
                <a:latin typeface="宋体"/>
              </a:rPr>
              <a:t>著名的</a:t>
            </a:r>
            <a:r>
              <a:rPr b="1" lang="zh-CN" sz="2400" spc="-1" strike="noStrike">
                <a:solidFill>
                  <a:srgbClr val="ff0000"/>
                </a:solidFill>
                <a:latin typeface="宋体"/>
              </a:rPr>
              <a:t>民主诗人</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主要作品：</a:t>
            </a:r>
            <a:r>
              <a:rPr b="1" lang="zh-CN" sz="2400" spc="-1" strike="noStrike">
                <a:solidFill>
                  <a:srgbClr val="000000"/>
                </a:solidFill>
                <a:latin typeface="宋体"/>
              </a:rPr>
              <a:t>诗集</a:t>
            </a:r>
            <a:r>
              <a:rPr b="1" lang="en-US" sz="2400" spc="-1" strike="noStrike">
                <a:solidFill>
                  <a:srgbClr val="ff0000"/>
                </a:solidFill>
                <a:latin typeface="宋体"/>
              </a:rPr>
              <a:t>《</a:t>
            </a:r>
            <a:r>
              <a:rPr b="1" lang="zh-CN" sz="2400" spc="-1" strike="noStrike">
                <a:solidFill>
                  <a:srgbClr val="ff0000"/>
                </a:solidFill>
                <a:latin typeface="宋体"/>
              </a:rPr>
              <a:t>草叶集</a:t>
            </a:r>
            <a:r>
              <a:rPr b="1" lang="en-US" sz="2400" spc="-1" strike="noStrike">
                <a:solidFill>
                  <a:srgbClr val="ff0000"/>
                </a:solidFill>
                <a:latin typeface="宋体"/>
              </a:rPr>
              <a:t>》</a:t>
            </a:r>
            <a:r>
              <a:rPr b="1" lang="zh-CN" sz="2400" spc="-1" strike="noStrike">
                <a:solidFill>
                  <a:srgbClr val="ff0000"/>
                </a:solidFill>
                <a:latin typeface="宋体"/>
              </a:rPr>
              <a:t>。</a:t>
            </a:r>
            <a:endParaRPr b="0" lang="en-US" sz="2400" spc="-1" strike="noStrike">
              <a:solidFill>
                <a:srgbClr val="000000"/>
              </a:solidFill>
              <a:latin typeface="Calibri"/>
            </a:endParaRPr>
          </a:p>
        </p:txBody>
      </p:sp>
      <p:pic>
        <p:nvPicPr>
          <p:cNvPr id="77" name="Picture 2" descr="C:\Users\Administrator\Desktop\3333\助读资料.png"/>
          <p:cNvPicPr/>
          <p:nvPr/>
        </p:nvPicPr>
        <p:blipFill>
          <a:blip r:embed="rId1"/>
          <a:stretch/>
        </p:blipFill>
        <p:spPr>
          <a:xfrm>
            <a:off x="3200400" y="241200"/>
            <a:ext cx="2712960" cy="712800"/>
          </a:xfrm>
          <a:prstGeom prst="rect">
            <a:avLst/>
          </a:prstGeom>
          <a:ln w="0">
            <a:noFill/>
          </a:ln>
          <a:effectLst>
            <a:outerShdw dist="153753" dir="2700000" blurRad="0" rotWithShape="0">
              <a:srgbClr val="000000">
                <a:alpha val="40000"/>
              </a:srgbClr>
            </a:outerShdw>
          </a:effectLst>
        </p:spPr>
      </p:pic>
      <p:grpSp>
        <p:nvGrpSpPr>
          <p:cNvPr id="78" name="组合 2"/>
          <p:cNvGrpSpPr/>
          <p:nvPr/>
        </p:nvGrpSpPr>
        <p:grpSpPr>
          <a:xfrm>
            <a:off x="647640" y="1069920"/>
            <a:ext cx="2905200" cy="666720"/>
            <a:chOff x="647640" y="1069920"/>
            <a:chExt cx="2905200" cy="666720"/>
          </a:xfrm>
        </p:grpSpPr>
        <p:sp>
          <p:nvSpPr>
            <p:cNvPr id="79" name="圆角矩形 7"/>
            <p:cNvSpPr/>
            <p:nvPr/>
          </p:nvSpPr>
          <p:spPr>
            <a:xfrm>
              <a:off x="1463400" y="12078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0" name="图片 9" descr="book.gif"/>
            <p:cNvPicPr/>
            <p:nvPr/>
          </p:nvPicPr>
          <p:blipFill>
            <a:blip r:embed="rId2"/>
            <a:stretch/>
          </p:blipFill>
          <p:spPr>
            <a:xfrm>
              <a:off x="647640" y="1069920"/>
              <a:ext cx="1087200" cy="666720"/>
            </a:xfrm>
            <a:prstGeom prst="rect">
              <a:avLst/>
            </a:prstGeom>
            <a:ln w="0">
              <a:noFill/>
            </a:ln>
          </p:spPr>
        </p:pic>
        <p:sp>
          <p:nvSpPr>
            <p:cNvPr id="81" name="文本框 16"/>
            <p:cNvSpPr/>
            <p:nvPr/>
          </p:nvSpPr>
          <p:spPr>
            <a:xfrm>
              <a:off x="1722960" y="12268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作者</a:t>
              </a:r>
              <a:endParaRPr b="0" lang="en-US" sz="2400" spc="-1" strike="noStrike">
                <a:solidFill>
                  <a:srgbClr val="000000"/>
                </a:solidFill>
                <a:latin typeface="Calibri"/>
              </a:endParaRPr>
            </a:p>
          </p:txBody>
        </p:sp>
      </p:grpSp>
      <p:pic>
        <p:nvPicPr>
          <p:cNvPr id="82" name="Picture 6" descr=""/>
          <p:cNvPicPr/>
          <p:nvPr/>
        </p:nvPicPr>
        <p:blipFill>
          <a:blip r:embed="rId3"/>
          <a:stretch/>
        </p:blipFill>
        <p:spPr>
          <a:xfrm>
            <a:off x="847800" y="2236680"/>
            <a:ext cx="2352600" cy="3237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矩形 4"/>
          <p:cNvSpPr/>
          <p:nvPr/>
        </p:nvSpPr>
        <p:spPr>
          <a:xfrm>
            <a:off x="824040" y="1747800"/>
            <a:ext cx="7761240" cy="1533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黑体"/>
                <a:ea typeface="黑体"/>
              </a:rPr>
              <a:t>皖南事变</a:t>
            </a:r>
            <a:r>
              <a:rPr b="1" lang="zh-CN" sz="2100" spc="-1" strike="noStrike">
                <a:solidFill>
                  <a:srgbClr val="000000"/>
                </a:solidFill>
                <a:latin typeface="Calibri"/>
              </a:rPr>
              <a:t>　</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Calibri"/>
              </a:rPr>
              <a:t>抗日战争时期国民党反动派蓄意制造的破坏抗战的重大反共事件。</a:t>
            </a:r>
            <a:r>
              <a:rPr b="1" lang="en-US" sz="2100" spc="-1" strike="noStrike">
                <a:solidFill>
                  <a:srgbClr val="000000"/>
                </a:solidFill>
                <a:latin typeface="Calibri"/>
              </a:rPr>
              <a:t>1940</a:t>
            </a:r>
            <a:r>
              <a:rPr b="1" lang="zh-CN" sz="2100" spc="-1" strike="noStrike">
                <a:solidFill>
                  <a:srgbClr val="000000"/>
                </a:solidFill>
                <a:latin typeface="Calibri"/>
              </a:rPr>
              <a:t>年</a:t>
            </a:r>
            <a:r>
              <a:rPr b="1" lang="en-US" sz="2100" spc="-1" strike="noStrike">
                <a:solidFill>
                  <a:srgbClr val="000000"/>
                </a:solidFill>
                <a:latin typeface="Calibri"/>
              </a:rPr>
              <a:t>10</a:t>
            </a:r>
            <a:r>
              <a:rPr b="1" lang="zh-CN" sz="2100" spc="-1" strike="noStrike">
                <a:solidFill>
                  <a:srgbClr val="000000"/>
                </a:solidFill>
                <a:latin typeface="Calibri"/>
              </a:rPr>
              <a:t>月，国民党军事当局强令黄河以南的新四军于一个月内开赴黄河以北。中共中央为顾全大局，</a:t>
            </a:r>
            <a:r>
              <a:rPr b="1" lang="en-US" sz="2100" spc="-1" strike="noStrike">
                <a:solidFill>
                  <a:srgbClr val="000000"/>
                </a:solidFill>
                <a:latin typeface="Calibri"/>
              </a:rPr>
              <a:t>1941</a:t>
            </a:r>
            <a:r>
              <a:rPr b="1" lang="zh-CN" sz="2100" spc="-1" strike="noStrike">
                <a:solidFill>
                  <a:srgbClr val="000000"/>
                </a:solidFill>
                <a:latin typeface="Calibri"/>
              </a:rPr>
              <a:t>年</a:t>
            </a:r>
            <a:r>
              <a:rPr b="1" lang="en-US" sz="2100" spc="-1" strike="noStrike">
                <a:solidFill>
                  <a:srgbClr val="000000"/>
                </a:solidFill>
                <a:latin typeface="Calibri"/>
              </a:rPr>
              <a:t>1</a:t>
            </a:r>
            <a:r>
              <a:rPr b="1" lang="zh-CN" sz="2100" spc="-1" strike="noStrike">
                <a:solidFill>
                  <a:srgbClr val="000000"/>
                </a:solidFill>
                <a:latin typeface="Calibri"/>
              </a:rPr>
              <a:t>月</a:t>
            </a:r>
            <a:r>
              <a:rPr b="1" lang="en-US" sz="2100" spc="-1" strike="noStrike">
                <a:solidFill>
                  <a:srgbClr val="000000"/>
                </a:solidFill>
                <a:latin typeface="Calibri"/>
              </a:rPr>
              <a:t>4</a:t>
            </a:r>
            <a:r>
              <a:rPr b="1" lang="zh-CN" sz="2100" spc="-1" strike="noStrike">
                <a:solidFill>
                  <a:srgbClr val="000000"/>
                </a:solidFill>
                <a:latin typeface="Calibri"/>
              </a:rPr>
              <a:t>日，新四军军部和部队共</a:t>
            </a:r>
            <a:r>
              <a:rPr b="1" lang="en-US" sz="2100" spc="-1" strike="noStrike">
                <a:solidFill>
                  <a:srgbClr val="000000"/>
                </a:solidFill>
                <a:latin typeface="Calibri"/>
              </a:rPr>
              <a:t>9000</a:t>
            </a:r>
            <a:r>
              <a:rPr b="1" lang="zh-CN" sz="2100" spc="-1" strike="noStrike">
                <a:solidFill>
                  <a:srgbClr val="000000"/>
                </a:solidFill>
                <a:latin typeface="Calibri"/>
              </a:rPr>
              <a:t>余人北移。</a:t>
            </a:r>
            <a:r>
              <a:rPr b="1" lang="en-US" sz="2100" spc="-1" strike="noStrike">
                <a:solidFill>
                  <a:srgbClr val="000000"/>
                </a:solidFill>
                <a:latin typeface="Calibri"/>
              </a:rPr>
              <a:t>6</a:t>
            </a:r>
            <a:r>
              <a:rPr b="1" lang="zh-CN" sz="2100" spc="-1" strike="noStrike">
                <a:solidFill>
                  <a:srgbClr val="000000"/>
                </a:solidFill>
                <a:latin typeface="Calibri"/>
              </a:rPr>
              <a:t>日，突遭国民党军队包围和袭击。新四军经</a:t>
            </a:r>
            <a:r>
              <a:rPr b="1" lang="en-US" sz="2100" spc="-1" strike="noStrike">
                <a:solidFill>
                  <a:srgbClr val="000000"/>
                </a:solidFill>
                <a:latin typeface="Calibri"/>
              </a:rPr>
              <a:t>7</a:t>
            </a:r>
            <a:r>
              <a:rPr b="1" lang="zh-CN" sz="2100" spc="-1" strike="noStrike">
                <a:solidFill>
                  <a:srgbClr val="000000"/>
                </a:solidFill>
                <a:latin typeface="Calibri"/>
              </a:rPr>
              <a:t>昼夜浴血奋战，终因寡不敌众，大多被俘或牺牲。军长叶挺在与对方谈判时被扣，副军长项英被杀害。</a:t>
            </a:r>
            <a:r>
              <a:rPr b="1" lang="en-US" sz="2100" spc="-1" strike="noStrike">
                <a:solidFill>
                  <a:srgbClr val="000000"/>
                </a:solidFill>
                <a:latin typeface="Calibri"/>
              </a:rPr>
              <a:t>17</a:t>
            </a:r>
            <a:r>
              <a:rPr b="1" lang="zh-CN" sz="2100" spc="-1" strike="noStrike">
                <a:solidFill>
                  <a:srgbClr val="000000"/>
                </a:solidFill>
                <a:latin typeface="Calibri"/>
              </a:rPr>
              <a:t>日，蒋介石竟反诬新四军“叛变”，宣布取消其番号，并声称要将叶挺交付“军法审判”。这就是震惊中外的皖南事变。</a:t>
            </a:r>
            <a:endParaRPr b="0" lang="en-US" sz="2100" spc="-1" strike="noStrike">
              <a:solidFill>
                <a:srgbClr val="000000"/>
              </a:solidFill>
              <a:latin typeface="Calibri"/>
            </a:endParaRPr>
          </a:p>
        </p:txBody>
      </p:sp>
      <p:grpSp>
        <p:nvGrpSpPr>
          <p:cNvPr id="290" name="组合 5"/>
          <p:cNvGrpSpPr/>
          <p:nvPr/>
        </p:nvGrpSpPr>
        <p:grpSpPr>
          <a:xfrm>
            <a:off x="558720" y="1190520"/>
            <a:ext cx="2594160" cy="666720"/>
            <a:chOff x="558720" y="1190520"/>
            <a:chExt cx="2594160" cy="666720"/>
          </a:xfrm>
        </p:grpSpPr>
        <p:sp>
          <p:nvSpPr>
            <p:cNvPr id="291"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92" name="图片 9" descr="book.gif"/>
            <p:cNvPicPr/>
            <p:nvPr/>
          </p:nvPicPr>
          <p:blipFill>
            <a:blip r:embed="rId1"/>
            <a:stretch/>
          </p:blipFill>
          <p:spPr>
            <a:xfrm>
              <a:off x="558720" y="1190520"/>
              <a:ext cx="1087560" cy="666720"/>
            </a:xfrm>
            <a:prstGeom prst="rect">
              <a:avLst/>
            </a:prstGeom>
            <a:ln w="0">
              <a:noFill/>
            </a:ln>
          </p:spPr>
        </p:pic>
        <p:sp>
          <p:nvSpPr>
            <p:cNvPr id="29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拓展积累</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图示 7" descr=""/>
          <p:cNvPicPr/>
          <p:nvPr/>
        </p:nvPicPr>
        <p:blipFill>
          <a:blip r:embed="rId1"/>
          <a:stretch/>
        </p:blipFill>
        <p:spPr>
          <a:xfrm>
            <a:off x="878040" y="1090440"/>
            <a:ext cx="3090600" cy="1470240"/>
          </a:xfrm>
          <a:prstGeom prst="rect">
            <a:avLst/>
          </a:prstGeom>
          <a:ln w="0">
            <a:noFill/>
          </a:ln>
        </p:spPr>
      </p:pic>
      <p:sp>
        <p:nvSpPr>
          <p:cNvPr id="295" name="矩形 11"/>
          <p:cNvSpPr/>
          <p:nvPr/>
        </p:nvSpPr>
        <p:spPr>
          <a:xfrm>
            <a:off x="946080" y="2251080"/>
            <a:ext cx="76183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zh-CN" sz="2000" spc="-1" strike="noStrike">
                <a:solidFill>
                  <a:srgbClr val="000000"/>
                </a:solidFill>
                <a:latin typeface="宋体"/>
              </a:rPr>
              <a:t>金丝雀”羽色鲜艳，一种十分美丽且会唱歌的鸟。但作者不被其徒有的外表所迷惑，也“不习惯用甜美的颤音柔声蹄啭”</a:t>
            </a:r>
            <a:r>
              <a:rPr b="1" lang="en-US" sz="2000" spc="-1" strike="noStrike">
                <a:solidFill>
                  <a:srgbClr val="000000"/>
                </a:solidFill>
                <a:latin typeface="宋体"/>
              </a:rPr>
              <a:t>, </a:t>
            </a:r>
            <a:r>
              <a:rPr b="1" lang="zh-CN" sz="2000" spc="-1" strike="noStrike">
                <a:solidFill>
                  <a:srgbClr val="000000"/>
                </a:solidFill>
                <a:latin typeface="宋体"/>
              </a:rPr>
              <a:t>即这些都是表面的。</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zh-CN" sz="2000" spc="-1" strike="noStrike">
                <a:solidFill>
                  <a:srgbClr val="000000"/>
                </a:solidFill>
                <a:latin typeface="宋体"/>
              </a:rPr>
              <a:t>学舌鸟”只会人云亦云，没有一种自由欢乐的感觉。</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作者渴望成为“雄鹰”、“海鸥”，即渴望去搏击风浪，在天空自由自在的遨游，表达了其自由搏击、勇于奋进的人生态度。</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a:t>
            </a:r>
            <a:r>
              <a:rPr b="1" lang="zh-CN" sz="2000" spc="-1" strike="noStrike">
                <a:solidFill>
                  <a:srgbClr val="000000"/>
                </a:solidFill>
                <a:latin typeface="宋体"/>
              </a:rPr>
              <a:t>雄鹰”正如作者所言的力量和意志的象征，而“海鸥”是一种自由和欢乐的精神寄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53" presetSubtype="16">
                                  <p:stCondLst>
                                    <p:cond delay="0"/>
                                  </p:stCondLst>
                                  <p:childTnLst>
                                    <p:set>
                                      <p:cBhvr>
                                        <p:cTn id="661" dur="1" fill="hold">
                                          <p:stCondLst>
                                            <p:cond delay="0"/>
                                          </p:stCondLst>
                                        </p:cTn>
                                        <p:tgtEl>
                                          <p:spTgt spid="295"/>
                                        </p:tgtEl>
                                        <p:attrNameLst>
                                          <p:attrName>style.visibility</p:attrName>
                                        </p:attrNameLst>
                                      </p:cBhvr>
                                      <p:to>
                                        <p:strVal val="visible"/>
                                      </p:to>
                                    </p:set>
                                    <p:anim calcmode="lin" valueType="num">
                                      <p:cBhvr additive="repl">
                                        <p:cTn id="662" dur="500" fill="hold"/>
                                        <p:tgtEl>
                                          <p:spTgt spid="295"/>
                                        </p:tgtEl>
                                        <p:attrNameLst>
                                          <p:attrName>ppt_w</p:attrName>
                                        </p:attrNameLst>
                                      </p:cBhvr>
                                      <p:tavLst>
                                        <p:tav tm="0">
                                          <p:val>
                                            <p:fltVal val="0"/>
                                          </p:val>
                                        </p:tav>
                                        <p:tav tm="100000">
                                          <p:val>
                                            <p:strVal val="#ppt_w"/>
                                          </p:val>
                                        </p:tav>
                                      </p:tavLst>
                                    </p:anim>
                                    <p:anim calcmode="lin" valueType="num">
                                      <p:cBhvr additive="repl">
                                        <p:cTn id="663" dur="500" fill="hold"/>
                                        <p:tgtEl>
                                          <p:spTgt spid="295"/>
                                        </p:tgtEl>
                                        <p:attrNameLst>
                                          <p:attrName>ppt_h</p:attrName>
                                        </p:attrNameLst>
                                      </p:cBhvr>
                                      <p:tavLst>
                                        <p:tav tm="0">
                                          <p:val>
                                            <p:fltVal val="0"/>
                                          </p:val>
                                        </p:tav>
                                        <p:tav tm="100000">
                                          <p:val>
                                            <p:strVal val="#ppt_h"/>
                                          </p:val>
                                        </p:tav>
                                      </p:tavLst>
                                    </p:anim>
                                    <p:animEffect filter="fade" transition="in">
                                      <p:cBhvr additive="repl">
                                        <p:cTn id="664"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7" descr=""/>
          <p:cNvPicPr/>
          <p:nvPr/>
        </p:nvPicPr>
        <p:blipFill>
          <a:blip r:embed="rId1"/>
          <a:stretch/>
        </p:blipFill>
        <p:spPr>
          <a:xfrm>
            <a:off x="-103320" y="768240"/>
            <a:ext cx="4303800" cy="1236600"/>
          </a:xfrm>
          <a:prstGeom prst="rect">
            <a:avLst/>
          </a:prstGeom>
          <a:ln w="0">
            <a:noFill/>
          </a:ln>
        </p:spPr>
      </p:pic>
      <p:sp>
        <p:nvSpPr>
          <p:cNvPr id="297" name="矩形 12"/>
          <p:cNvSpPr/>
          <p:nvPr/>
        </p:nvSpPr>
        <p:spPr>
          <a:xfrm>
            <a:off x="749160" y="1957320"/>
            <a:ext cx="704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说一说你是怎样理解</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囚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这首诗的。</a:t>
            </a:r>
            <a:endParaRPr b="0" lang="en-US" sz="2400" spc="-1" strike="noStrike">
              <a:solidFill>
                <a:srgbClr val="000000"/>
              </a:solidFill>
              <a:latin typeface="Calibri"/>
            </a:endParaRPr>
          </a:p>
        </p:txBody>
      </p:sp>
      <p:sp>
        <p:nvSpPr>
          <p:cNvPr id="298" name="TextBox 2"/>
          <p:cNvSpPr/>
          <p:nvPr/>
        </p:nvSpPr>
        <p:spPr>
          <a:xfrm>
            <a:off x="1093680" y="2673360"/>
            <a:ext cx="7210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en-US" sz="2400" spc="-1" strike="noStrike">
                <a:solidFill>
                  <a:srgbClr val="ff0000"/>
                </a:solidFill>
                <a:latin typeface="Calibri"/>
              </a:rPr>
              <a:t>《</a:t>
            </a:r>
            <a:r>
              <a:rPr b="1" lang="zh-CN" sz="2400" spc="-1" strike="noStrike">
                <a:solidFill>
                  <a:srgbClr val="ff0000"/>
                </a:solidFill>
                <a:latin typeface="Calibri"/>
              </a:rPr>
              <a:t>囚歌</a:t>
            </a:r>
            <a:r>
              <a:rPr b="1" lang="en-US" sz="2400" spc="-1" strike="noStrike">
                <a:solidFill>
                  <a:srgbClr val="ff0000"/>
                </a:solidFill>
                <a:latin typeface="Calibri"/>
              </a:rPr>
              <a:t>》</a:t>
            </a:r>
            <a:r>
              <a:rPr b="1" lang="zh-CN" sz="2400" spc="-1" strike="noStrike">
                <a:solidFill>
                  <a:srgbClr val="ff0000"/>
                </a:solidFill>
                <a:latin typeface="Calibri"/>
              </a:rPr>
              <a:t>是一首用生命和热血写成的诗。诗人运用象征和对比的表现手法，向人们昭示了革命者坚强的革命意志、崇高的革命气节和奋斗到底的革命精神。诗歌语言铿锵、层层推进，具有极强的感染力和号召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nodeType="clickEffect" fill="hold">
                      <p:stCondLst>
                        <p:cond delay="indefinite"/>
                      </p:stCondLst>
                      <p:childTnLst>
                        <p:par>
                          <p:cTn id="668" nodeType="withEffect"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671" dur="5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矩形 7"/>
          <p:cNvSpPr/>
          <p:nvPr/>
        </p:nvSpPr>
        <p:spPr>
          <a:xfrm>
            <a:off x="861840" y="1461960"/>
            <a:ext cx="739152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自由和力量中飞翔</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中的小鸟、雄鹰各代表了什么？</a:t>
            </a:r>
            <a:endParaRPr b="0" lang="en-US" sz="2400" spc="-1" strike="noStrike">
              <a:solidFill>
                <a:srgbClr val="000000"/>
              </a:solidFill>
              <a:latin typeface="Calibri"/>
            </a:endParaRPr>
          </a:p>
        </p:txBody>
      </p:sp>
      <p:sp>
        <p:nvSpPr>
          <p:cNvPr id="300" name="TextBox 2"/>
          <p:cNvSpPr/>
          <p:nvPr/>
        </p:nvSpPr>
        <p:spPr>
          <a:xfrm>
            <a:off x="1187280" y="2679840"/>
            <a:ext cx="70884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参考答案：</a:t>
            </a:r>
            <a:r>
              <a:rPr b="1" lang="zh-CN" sz="2400" spc="-1" strike="noStrike">
                <a:solidFill>
                  <a:srgbClr val="ff0000"/>
                </a:solidFill>
                <a:latin typeface="宋体"/>
              </a:rPr>
              <a:t>金丝雀美丽善歌，却徒有其表，被供养在笼子里，没有自由；学舌鸟毫无主见，只会人云亦云，这二者代表贪图享乐、胸无大志的人。“雄鹰”是力量和意志的象征，它代表搏击长空、勇往直前的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678"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7"/>
          <p:cNvSpPr/>
          <p:nvPr/>
        </p:nvSpPr>
        <p:spPr>
          <a:xfrm>
            <a:off x="725400" y="1160640"/>
            <a:ext cx="739152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第一首诗。</a:t>
            </a:r>
            <a:endParaRPr b="0" lang="en-US" sz="2400" spc="-1" strike="noStrike">
              <a:solidFill>
                <a:srgbClr val="000000"/>
              </a:solidFill>
              <a:latin typeface="Calibri"/>
            </a:endParaRPr>
          </a:p>
        </p:txBody>
      </p:sp>
      <p:sp>
        <p:nvSpPr>
          <p:cNvPr id="302" name="TextBox 2"/>
          <p:cNvSpPr/>
          <p:nvPr/>
        </p:nvSpPr>
        <p:spPr>
          <a:xfrm>
            <a:off x="1133640" y="1735200"/>
            <a:ext cx="7224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教师点拨：</a:t>
            </a:r>
            <a:r>
              <a:rPr b="1" lang="zh-CN" sz="2400" spc="-1" strike="noStrike">
                <a:solidFill>
                  <a:srgbClr val="ff0000"/>
                </a:solidFill>
                <a:latin typeface="宋体"/>
              </a:rPr>
              <a:t>背诵要在熟读的基础上进行。注意理清这首诗的层次。这首诗分三节，第一节抓住关键词“人”“紧锁”“狗”“敞开”等，反复诵读，强化记忆。第二节抓住“渴望自由”“躯体”“怎能”“爬出”等关键词，注意反问语气的句子，熟读成诵。第三节抓住“希望”“烈火”“活棺材”“烧掉”“永生”等词来背诵。同时，边读边在头脑中想象画面，有助于背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685"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矩形 3"/>
          <p:cNvSpPr/>
          <p:nvPr/>
        </p:nvSpPr>
        <p:spPr>
          <a:xfrm>
            <a:off x="1585800" y="2254320"/>
            <a:ext cx="72914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看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方正姚体"/>
                <a:ea typeface="方正姚体"/>
              </a:rPr>
              <a:t>liáo kuò                      hǎi  ōu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chàn yīn                       áo xiáng</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04" name="矩形 15"/>
          <p:cNvSpPr/>
          <p:nvPr/>
        </p:nvSpPr>
        <p:spPr>
          <a:xfrm>
            <a:off x="2296080" y="3457440"/>
            <a:ext cx="86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寥    廓</a:t>
            </a:r>
            <a:endParaRPr b="0" lang="en-US" sz="2400" spc="-1" strike="noStrike">
              <a:solidFill>
                <a:srgbClr val="000000"/>
              </a:solidFill>
              <a:latin typeface="Calibri"/>
            </a:endParaRPr>
          </a:p>
        </p:txBody>
      </p:sp>
      <p:sp>
        <p:nvSpPr>
          <p:cNvPr id="305" name="矩形 16"/>
          <p:cNvSpPr/>
          <p:nvPr/>
        </p:nvSpPr>
        <p:spPr>
          <a:xfrm>
            <a:off x="4849560" y="3457440"/>
            <a:ext cx="86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海    鸥</a:t>
            </a:r>
            <a:endParaRPr b="0" lang="en-US" sz="2400" spc="-1" strike="noStrike">
              <a:solidFill>
                <a:srgbClr val="000000"/>
              </a:solidFill>
              <a:latin typeface="Calibri"/>
            </a:endParaRPr>
          </a:p>
        </p:txBody>
      </p:sp>
      <p:sp>
        <p:nvSpPr>
          <p:cNvPr id="306" name="矩形 17"/>
          <p:cNvSpPr/>
          <p:nvPr/>
        </p:nvSpPr>
        <p:spPr>
          <a:xfrm>
            <a:off x="2291400" y="4508640"/>
            <a:ext cx="86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颤    音</a:t>
            </a:r>
            <a:endParaRPr b="0" lang="en-US" sz="2400" spc="-1" strike="noStrike">
              <a:solidFill>
                <a:srgbClr val="000000"/>
              </a:solidFill>
              <a:latin typeface="Calibri"/>
            </a:endParaRPr>
          </a:p>
        </p:txBody>
      </p:sp>
      <p:sp>
        <p:nvSpPr>
          <p:cNvPr id="307" name="矩形 18"/>
          <p:cNvSpPr/>
          <p:nvPr/>
        </p:nvSpPr>
        <p:spPr>
          <a:xfrm>
            <a:off x="4849560" y="4508640"/>
            <a:ext cx="86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翱    翔</a:t>
            </a:r>
            <a:endParaRPr b="0" lang="en-US" sz="2400" spc="-1" strike="noStrike">
              <a:solidFill>
                <a:srgbClr val="000000"/>
              </a:solidFill>
              <a:latin typeface="Calibri"/>
            </a:endParaRPr>
          </a:p>
        </p:txBody>
      </p:sp>
      <p:pic>
        <p:nvPicPr>
          <p:cNvPr id="308"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nodeType="clickEffect" fill="hold">
                      <p:stCondLst>
                        <p:cond delay="indefinite"/>
                      </p:stCondLst>
                      <p:childTnLst>
                        <p:par>
                          <p:cTn id="689" nodeType="withEffect"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304"/>
                                        </p:tgtEl>
                                        <p:attrNameLst>
                                          <p:attrName>style.visibility</p:attrName>
                                        </p:attrNameLst>
                                      </p:cBhvr>
                                      <p:to>
                                        <p:strVal val="visible"/>
                                      </p:to>
                                    </p:set>
                                    <p:animEffect filter="wipe(left)" transition="in">
                                      <p:cBhvr additive="repl">
                                        <p:cTn id="692" dur="500"/>
                                        <p:tgtEl>
                                          <p:spTgt spid="304"/>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305"/>
                                        </p:tgtEl>
                                        <p:attrNameLst>
                                          <p:attrName>style.visibility</p:attrName>
                                        </p:attrNameLst>
                                      </p:cBhvr>
                                      <p:to>
                                        <p:strVal val="visible"/>
                                      </p:to>
                                    </p:set>
                                    <p:animEffect filter="wipe(left)" transition="in">
                                      <p:cBhvr additive="repl">
                                        <p:cTn id="697" dur="500"/>
                                        <p:tgtEl>
                                          <p:spTgt spid="305"/>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306"/>
                                        </p:tgtEl>
                                        <p:attrNameLst>
                                          <p:attrName>style.visibility</p:attrName>
                                        </p:attrNameLst>
                                      </p:cBhvr>
                                      <p:to>
                                        <p:strVal val="visible"/>
                                      </p:to>
                                    </p:set>
                                    <p:animEffect filter="wipe(left)" transition="in">
                                      <p:cBhvr additive="repl">
                                        <p:cTn id="702" dur="500"/>
                                        <p:tgtEl>
                                          <p:spTgt spid="306"/>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307"/>
                                        </p:tgtEl>
                                        <p:attrNameLst>
                                          <p:attrName>style.visibility</p:attrName>
                                        </p:attrNameLst>
                                      </p:cBhvr>
                                      <p:to>
                                        <p:strVal val="visible"/>
                                      </p:to>
                                    </p:set>
                                    <p:animEffect filter="wipe(left)" transition="in">
                                      <p:cBhvr additive="repl">
                                        <p:cTn id="70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矩形 3"/>
          <p:cNvSpPr/>
          <p:nvPr/>
        </p:nvSpPr>
        <p:spPr>
          <a:xfrm>
            <a:off x="870120" y="1530360"/>
            <a:ext cx="7661160" cy="338580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二、辨字组词。</a:t>
            </a:r>
            <a:endParaRPr b="0" lang="en-US" sz="2400" spc="-1" strike="noStrike">
              <a:solidFill>
                <a:srgbClr val="000000"/>
              </a:solidFill>
              <a:latin typeface="Calibri"/>
            </a:endParaRPr>
          </a:p>
          <a:p>
            <a:pPr marL="627120" indent="-627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锁（        ）</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渴（         ）</a:t>
            </a:r>
            <a:r>
              <a:rPr b="1" lang="en-US" sz="2400" spc="-1" strike="noStrike">
                <a:solidFill>
                  <a:srgbClr val="000000"/>
                </a:solidFill>
                <a:latin typeface="宋体"/>
              </a:rPr>
              <a:t>     </a:t>
            </a:r>
            <a:endParaRPr b="0" lang="en-US" sz="2400" spc="-1" strike="noStrike">
              <a:solidFill>
                <a:srgbClr val="000000"/>
              </a:solidFill>
              <a:latin typeface="Calibri"/>
            </a:endParaRPr>
          </a:p>
          <a:p>
            <a:pPr marL="627120" indent="-627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销（        ）</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喝（         ）</a:t>
            </a:r>
            <a:endParaRPr b="0" lang="en-US" sz="2400" spc="-1" strike="noStrike">
              <a:solidFill>
                <a:srgbClr val="000000"/>
              </a:solidFill>
              <a:latin typeface="Calibri"/>
            </a:endParaRPr>
          </a:p>
          <a:p>
            <a:pPr marL="627120" indent="-627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627120" indent="-627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躯（        ）</a:t>
            </a:r>
            <a:endParaRPr b="0" lang="en-US" sz="2400" spc="-1" strike="noStrike">
              <a:solidFill>
                <a:srgbClr val="000000"/>
              </a:solidFill>
              <a:latin typeface="Calibri"/>
            </a:endParaRPr>
          </a:p>
          <a:p>
            <a:pPr marL="627120" indent="-627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驱（        ） </a:t>
            </a:r>
            <a:endParaRPr b="0" lang="en-US" sz="2400" spc="-1" strike="noStrike">
              <a:solidFill>
                <a:srgbClr val="000000"/>
              </a:solidFill>
              <a:latin typeface="Calibri"/>
            </a:endParaRPr>
          </a:p>
        </p:txBody>
      </p:sp>
      <p:sp>
        <p:nvSpPr>
          <p:cNvPr id="310" name="左大括号 13"/>
          <p:cNvSpPr/>
          <p:nvPr/>
        </p:nvSpPr>
        <p:spPr>
          <a:xfrm>
            <a:off x="1736640" y="2330280"/>
            <a:ext cx="115920" cy="782640"/>
          </a:xfrm>
          <a:custGeom>
            <a:avLst/>
            <a:gdLst>
              <a:gd name="textAreaLeft" fmla="*/ 74160 w 115920"/>
              <a:gd name="textAreaRight" fmla="*/ 116280 w 115920"/>
              <a:gd name="textAreaTop" fmla="*/ 2880 h 782640"/>
              <a:gd name="textAreaBottom" fmla="*/ 779760 h 782640"/>
            </a:gdLst>
            <a:ahLst/>
            <a:rect l="textAreaLeft" t="textAreaTop" r="textAreaRight" b="textAreaBottom"/>
            <a:pathLst>
              <a:path w="21600" h="21600">
                <a:moveTo>
                  <a:pt x="21600" y="0"/>
                </a:moveTo>
                <a:cubicBezTo>
                  <a:pt x="16200" y="0"/>
                  <a:pt x="10800" y="134"/>
                  <a:pt x="10800" y="267"/>
                </a:cubicBezTo>
                <a:lnTo>
                  <a:pt x="10800" y="10533"/>
                </a:lnTo>
                <a:cubicBezTo>
                  <a:pt x="10800" y="10667"/>
                  <a:pt x="5400" y="10800"/>
                  <a:pt x="0" y="10800"/>
                </a:cubicBezTo>
                <a:cubicBezTo>
                  <a:pt x="5400" y="10800"/>
                  <a:pt x="10800" y="10934"/>
                  <a:pt x="10800" y="11067"/>
                </a:cubicBezTo>
                <a:lnTo>
                  <a:pt x="10800" y="21333"/>
                </a:lnTo>
                <a:cubicBezTo>
                  <a:pt x="10800" y="21467"/>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左大括号 14"/>
          <p:cNvSpPr/>
          <p:nvPr/>
        </p:nvSpPr>
        <p:spPr>
          <a:xfrm>
            <a:off x="5384880" y="2343240"/>
            <a:ext cx="114120" cy="782640"/>
          </a:xfrm>
          <a:custGeom>
            <a:avLst/>
            <a:gdLst>
              <a:gd name="textAreaLeft" fmla="*/ 73080 w 114120"/>
              <a:gd name="textAreaRight" fmla="*/ 114480 w 114120"/>
              <a:gd name="textAreaTop" fmla="*/ 2880 h 782640"/>
              <a:gd name="textAreaBottom" fmla="*/ 779760 h 782640"/>
            </a:gdLst>
            <a:ahLst/>
            <a:rect l="textAreaLeft" t="textAreaTop" r="textAreaRight" b="textAreaBottom"/>
            <a:pathLst>
              <a:path w="21600" h="21600">
                <a:moveTo>
                  <a:pt x="21600" y="0"/>
                </a:moveTo>
                <a:cubicBezTo>
                  <a:pt x="16200" y="0"/>
                  <a:pt x="10800" y="132"/>
                  <a:pt x="10800" y="263"/>
                </a:cubicBezTo>
                <a:lnTo>
                  <a:pt x="10800" y="10537"/>
                </a:lnTo>
                <a:cubicBezTo>
                  <a:pt x="10800" y="10669"/>
                  <a:pt x="5400" y="10800"/>
                  <a:pt x="0" y="10800"/>
                </a:cubicBezTo>
                <a:cubicBezTo>
                  <a:pt x="5400" y="10800"/>
                  <a:pt x="10800" y="10932"/>
                  <a:pt x="10800" y="11063"/>
                </a:cubicBezTo>
                <a:lnTo>
                  <a:pt x="10800" y="21337"/>
                </a:lnTo>
                <a:cubicBezTo>
                  <a:pt x="10800" y="21469"/>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矩形 15"/>
          <p:cNvSpPr/>
          <p:nvPr/>
        </p:nvSpPr>
        <p:spPr>
          <a:xfrm>
            <a:off x="6418440" y="2638440"/>
            <a:ext cx="803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喝水</a:t>
            </a:r>
            <a:endParaRPr b="0" lang="en-US" sz="2400" spc="-1" strike="noStrike">
              <a:solidFill>
                <a:srgbClr val="000000"/>
              </a:solidFill>
              <a:latin typeface="Calibri"/>
            </a:endParaRPr>
          </a:p>
        </p:txBody>
      </p:sp>
      <p:sp>
        <p:nvSpPr>
          <p:cNvPr id="313" name="矩形 16"/>
          <p:cNvSpPr/>
          <p:nvPr/>
        </p:nvSpPr>
        <p:spPr>
          <a:xfrm>
            <a:off x="2844360" y="2203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锁门</a:t>
            </a:r>
            <a:endParaRPr b="0" lang="en-US" sz="2400" spc="-1" strike="noStrike">
              <a:solidFill>
                <a:srgbClr val="000000"/>
              </a:solidFill>
              <a:latin typeface="Calibri"/>
            </a:endParaRPr>
          </a:p>
        </p:txBody>
      </p:sp>
      <p:sp>
        <p:nvSpPr>
          <p:cNvPr id="314" name="矩形 17"/>
          <p:cNvSpPr/>
          <p:nvPr/>
        </p:nvSpPr>
        <p:spPr>
          <a:xfrm>
            <a:off x="2844360" y="2746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销售</a:t>
            </a:r>
            <a:endParaRPr b="0" lang="en-US" sz="2400" spc="-1" strike="noStrike">
              <a:solidFill>
                <a:srgbClr val="000000"/>
              </a:solidFill>
              <a:latin typeface="Calibri"/>
            </a:endParaRPr>
          </a:p>
        </p:txBody>
      </p:sp>
      <p:sp>
        <p:nvSpPr>
          <p:cNvPr id="315" name="矩形 18"/>
          <p:cNvSpPr/>
          <p:nvPr/>
        </p:nvSpPr>
        <p:spPr>
          <a:xfrm>
            <a:off x="6534000" y="2176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口渴</a:t>
            </a:r>
            <a:endParaRPr b="0" lang="en-US" sz="2400" spc="-1" strike="noStrike">
              <a:solidFill>
                <a:srgbClr val="000000"/>
              </a:solidFill>
              <a:latin typeface="Calibri"/>
            </a:endParaRPr>
          </a:p>
        </p:txBody>
      </p:sp>
      <p:sp>
        <p:nvSpPr>
          <p:cNvPr id="316" name="左大括号 19"/>
          <p:cNvSpPr/>
          <p:nvPr/>
        </p:nvSpPr>
        <p:spPr>
          <a:xfrm>
            <a:off x="1735200" y="3967200"/>
            <a:ext cx="115920" cy="782640"/>
          </a:xfrm>
          <a:custGeom>
            <a:avLst/>
            <a:gdLst>
              <a:gd name="textAreaLeft" fmla="*/ 74160 w 115920"/>
              <a:gd name="textAreaRight" fmla="*/ 116280 w 115920"/>
              <a:gd name="textAreaTop" fmla="*/ 2880 h 782640"/>
              <a:gd name="textAreaBottom" fmla="*/ 779760 h 782640"/>
            </a:gdLst>
            <a:ahLst/>
            <a:rect l="textAreaLeft" t="textAreaTop" r="textAreaRight" b="textAreaBottom"/>
            <a:pathLst>
              <a:path w="21600" h="21600">
                <a:moveTo>
                  <a:pt x="21600" y="0"/>
                </a:moveTo>
                <a:cubicBezTo>
                  <a:pt x="16200" y="0"/>
                  <a:pt x="10800" y="134"/>
                  <a:pt x="10800" y="267"/>
                </a:cubicBezTo>
                <a:lnTo>
                  <a:pt x="10800" y="10533"/>
                </a:lnTo>
                <a:cubicBezTo>
                  <a:pt x="10800" y="10667"/>
                  <a:pt x="5400" y="10800"/>
                  <a:pt x="0" y="10800"/>
                </a:cubicBezTo>
                <a:cubicBezTo>
                  <a:pt x="5400" y="10800"/>
                  <a:pt x="10800" y="10934"/>
                  <a:pt x="10800" y="11067"/>
                </a:cubicBezTo>
                <a:lnTo>
                  <a:pt x="10800" y="21333"/>
                </a:lnTo>
                <a:cubicBezTo>
                  <a:pt x="10800" y="21467"/>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7" name="矩形 20"/>
          <p:cNvSpPr/>
          <p:nvPr/>
        </p:nvSpPr>
        <p:spPr>
          <a:xfrm>
            <a:off x="2728800" y="4287960"/>
            <a:ext cx="803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驱赶</a:t>
            </a:r>
            <a:endParaRPr b="0" lang="en-US" sz="2400" spc="-1" strike="noStrike">
              <a:solidFill>
                <a:srgbClr val="000000"/>
              </a:solidFill>
              <a:latin typeface="Calibri"/>
            </a:endParaRPr>
          </a:p>
        </p:txBody>
      </p:sp>
      <p:sp>
        <p:nvSpPr>
          <p:cNvPr id="318" name="矩形 21"/>
          <p:cNvSpPr/>
          <p:nvPr/>
        </p:nvSpPr>
        <p:spPr>
          <a:xfrm>
            <a:off x="2844360" y="3825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身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313"/>
                                        </p:tgtEl>
                                        <p:attrNameLst>
                                          <p:attrName>style.visibility</p:attrName>
                                        </p:attrNameLst>
                                      </p:cBhvr>
                                      <p:to>
                                        <p:strVal val="visible"/>
                                      </p:to>
                                    </p:set>
                                    <p:animEffect filter="wipe(left)" transition="in">
                                      <p:cBhvr additive="repl">
                                        <p:cTn id="714" dur="500"/>
                                        <p:tgtEl>
                                          <p:spTgt spid="313"/>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314"/>
                                        </p:tgtEl>
                                        <p:attrNameLst>
                                          <p:attrName>style.visibility</p:attrName>
                                        </p:attrNameLst>
                                      </p:cBhvr>
                                      <p:to>
                                        <p:strVal val="visible"/>
                                      </p:to>
                                    </p:set>
                                    <p:animEffect filter="wipe(left)" transition="in">
                                      <p:cBhvr additive="repl">
                                        <p:cTn id="719" dur="500"/>
                                        <p:tgtEl>
                                          <p:spTgt spid="314"/>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315"/>
                                        </p:tgtEl>
                                        <p:attrNameLst>
                                          <p:attrName>style.visibility</p:attrName>
                                        </p:attrNameLst>
                                      </p:cBhvr>
                                      <p:to>
                                        <p:strVal val="visible"/>
                                      </p:to>
                                    </p:set>
                                    <p:animEffect filter="wipe(left)" transition="in">
                                      <p:cBhvr additive="repl">
                                        <p:cTn id="724" dur="500"/>
                                        <p:tgtEl>
                                          <p:spTgt spid="315"/>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312"/>
                                        </p:tgtEl>
                                        <p:attrNameLst>
                                          <p:attrName>style.visibility</p:attrName>
                                        </p:attrNameLst>
                                      </p:cBhvr>
                                      <p:to>
                                        <p:strVal val="visible"/>
                                      </p:to>
                                    </p:set>
                                    <p:animEffect filter="wipe(left)" transition="in">
                                      <p:cBhvr additive="repl">
                                        <p:cTn id="729" dur="500"/>
                                        <p:tgtEl>
                                          <p:spTgt spid="31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318"/>
                                        </p:tgtEl>
                                        <p:attrNameLst>
                                          <p:attrName>style.visibility</p:attrName>
                                        </p:attrNameLst>
                                      </p:cBhvr>
                                      <p:to>
                                        <p:strVal val="visible"/>
                                      </p:to>
                                    </p:set>
                                    <p:animEffect filter="wipe(left)" transition="in">
                                      <p:cBhvr additive="repl">
                                        <p:cTn id="734" dur="500"/>
                                        <p:tgtEl>
                                          <p:spTgt spid="318"/>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317"/>
                                        </p:tgtEl>
                                        <p:attrNameLst>
                                          <p:attrName>style.visibility</p:attrName>
                                        </p:attrNameLst>
                                      </p:cBhvr>
                                      <p:to>
                                        <p:strVal val="visible"/>
                                      </p:to>
                                    </p:set>
                                    <p:animEffect filter="wipe(left)" transition="in">
                                      <p:cBhvr additive="repl">
                                        <p:cTn id="739"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矩形 3"/>
          <p:cNvSpPr/>
          <p:nvPr/>
        </p:nvSpPr>
        <p:spPr>
          <a:xfrm>
            <a:off x="696960" y="1455840"/>
            <a:ext cx="7846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按要求写句子。</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人的躯体怎能从狗洞子里爬出！（改为陈述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我，渴望去那寥廓的天宇高高飞翔。（用加点的词语写一句话）</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a:t>
            </a:r>
            <a:endParaRPr b="0" lang="en-US" sz="2400" spc="-1" strike="noStrike">
              <a:solidFill>
                <a:srgbClr val="000000"/>
              </a:solidFill>
              <a:latin typeface="Calibri"/>
            </a:endParaRPr>
          </a:p>
        </p:txBody>
      </p:sp>
      <p:sp>
        <p:nvSpPr>
          <p:cNvPr id="320" name="矩形 13"/>
          <p:cNvSpPr/>
          <p:nvPr/>
        </p:nvSpPr>
        <p:spPr>
          <a:xfrm>
            <a:off x="1123920" y="2668680"/>
            <a:ext cx="48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人的躯体不能从狗洞子里爬出。</a:t>
            </a:r>
            <a:endParaRPr b="0" lang="en-US" sz="2400" spc="-1" strike="noStrike">
              <a:solidFill>
                <a:srgbClr val="000000"/>
              </a:solidFill>
              <a:latin typeface="Calibri"/>
            </a:endParaRPr>
          </a:p>
        </p:txBody>
      </p:sp>
      <p:sp>
        <p:nvSpPr>
          <p:cNvPr id="321" name="矩形 14"/>
          <p:cNvSpPr/>
          <p:nvPr/>
        </p:nvSpPr>
        <p:spPr>
          <a:xfrm>
            <a:off x="1123920" y="4302000"/>
            <a:ext cx="459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雄鹰渴望到寥廓的天空翱翔。</a:t>
            </a:r>
            <a:endParaRPr b="0" lang="en-US" sz="2400" spc="-1" strike="noStrike">
              <a:solidFill>
                <a:srgbClr val="000000"/>
              </a:solidFill>
              <a:latin typeface="Calibri"/>
            </a:endParaRPr>
          </a:p>
        </p:txBody>
      </p:sp>
      <p:sp>
        <p:nvSpPr>
          <p:cNvPr id="322" name="矩形 4"/>
          <p:cNvSpPr/>
          <p:nvPr/>
        </p:nvSpPr>
        <p:spPr>
          <a:xfrm>
            <a:off x="1685520" y="3394080"/>
            <a:ext cx="38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323" name="矩形 12"/>
          <p:cNvSpPr/>
          <p:nvPr/>
        </p:nvSpPr>
        <p:spPr>
          <a:xfrm>
            <a:off x="1972080" y="3394080"/>
            <a:ext cx="38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320"/>
                                        </p:tgtEl>
                                        <p:attrNameLst>
                                          <p:attrName>style.visibility</p:attrName>
                                        </p:attrNameLst>
                                      </p:cBhvr>
                                      <p:to>
                                        <p:strVal val="visible"/>
                                      </p:to>
                                    </p:set>
                                    <p:animEffect filter="wipe(left)" transition="in">
                                      <p:cBhvr additive="repl">
                                        <p:cTn id="746" dur="500"/>
                                        <p:tgtEl>
                                          <p:spTgt spid="320"/>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321"/>
                                        </p:tgtEl>
                                        <p:attrNameLst>
                                          <p:attrName>style.visibility</p:attrName>
                                        </p:attrNameLst>
                                      </p:cBhvr>
                                      <p:to>
                                        <p:strVal val="visible"/>
                                      </p:to>
                                    </p:set>
                                    <p:animEffect filter="wipe(left)" transition="in">
                                      <p:cBhvr additive="repl">
                                        <p:cTn id="751"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矩形 3"/>
          <p:cNvSpPr/>
          <p:nvPr/>
        </p:nvSpPr>
        <p:spPr>
          <a:xfrm>
            <a:off x="819000" y="1212840"/>
            <a:ext cx="8012160" cy="3109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四、给加点字选择正确的解释。（填序号）</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飞：①鼓动翅膀在空中活动。②形容极快。③意外的，凭空而来。</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1.</a:t>
            </a:r>
            <a:r>
              <a:rPr b="1" lang="zh-CN" sz="2200" spc="-1" strike="noStrike">
                <a:solidFill>
                  <a:srgbClr val="000000"/>
                </a:solidFill>
                <a:latin typeface="宋体"/>
              </a:rPr>
              <a:t>不要把那些流言飞语放在心上。（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r>
              <a:rPr b="1" lang="zh-CN" sz="2200" spc="-1" strike="noStrike">
                <a:solidFill>
                  <a:srgbClr val="000000"/>
                </a:solidFill>
                <a:latin typeface="宋体"/>
              </a:rPr>
              <a:t>我渴望去那寥廓的天宇高高飞翔。 （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3.</a:t>
            </a:r>
            <a:r>
              <a:rPr b="1" lang="zh-CN" sz="2200" spc="-1" strike="noStrike">
                <a:solidFill>
                  <a:srgbClr val="000000"/>
                </a:solidFill>
                <a:latin typeface="宋体"/>
              </a:rPr>
              <a:t>现在的物价飞涨。 （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5" name="矩形 9"/>
          <p:cNvSpPr/>
          <p:nvPr/>
        </p:nvSpPr>
        <p:spPr>
          <a:xfrm>
            <a:off x="5480280" y="2736720"/>
            <a:ext cx="487080" cy="59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③</a:t>
            </a:r>
            <a:endParaRPr b="0" lang="en-US" sz="2200" spc="-1" strike="noStrike">
              <a:solidFill>
                <a:srgbClr val="000000"/>
              </a:solidFill>
              <a:latin typeface="Calibri"/>
            </a:endParaRPr>
          </a:p>
        </p:txBody>
      </p:sp>
      <p:sp>
        <p:nvSpPr>
          <p:cNvPr id="326" name="矩形 10"/>
          <p:cNvSpPr/>
          <p:nvPr/>
        </p:nvSpPr>
        <p:spPr>
          <a:xfrm>
            <a:off x="5862960" y="3355920"/>
            <a:ext cx="48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①</a:t>
            </a:r>
            <a:endParaRPr b="0" lang="en-US" sz="2200" spc="-1" strike="noStrike">
              <a:solidFill>
                <a:srgbClr val="000000"/>
              </a:solidFill>
              <a:latin typeface="Calibri"/>
            </a:endParaRPr>
          </a:p>
        </p:txBody>
      </p:sp>
      <p:sp>
        <p:nvSpPr>
          <p:cNvPr id="327" name="矩形 11"/>
          <p:cNvSpPr/>
          <p:nvPr/>
        </p:nvSpPr>
        <p:spPr>
          <a:xfrm>
            <a:off x="3959280" y="3889440"/>
            <a:ext cx="48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②</a:t>
            </a:r>
            <a:endParaRPr b="0" lang="en-US" sz="2200" spc="-1" strike="noStrike">
              <a:solidFill>
                <a:srgbClr val="000000"/>
              </a:solidFill>
              <a:latin typeface="Calibri"/>
            </a:endParaRPr>
          </a:p>
        </p:txBody>
      </p:sp>
      <p:sp>
        <p:nvSpPr>
          <p:cNvPr id="328" name="矩形 6"/>
          <p:cNvSpPr/>
          <p:nvPr/>
        </p:nvSpPr>
        <p:spPr>
          <a:xfrm>
            <a:off x="3243240" y="3081240"/>
            <a:ext cx="36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329" name="矩形 7"/>
          <p:cNvSpPr/>
          <p:nvPr/>
        </p:nvSpPr>
        <p:spPr>
          <a:xfrm>
            <a:off x="4663440" y="3554280"/>
            <a:ext cx="36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330" name="矩形 9"/>
          <p:cNvSpPr/>
          <p:nvPr/>
        </p:nvSpPr>
        <p:spPr>
          <a:xfrm>
            <a:off x="2660040" y="4095720"/>
            <a:ext cx="36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331" name="矩形 3"/>
          <p:cNvSpPr/>
          <p:nvPr/>
        </p:nvSpPr>
        <p:spPr>
          <a:xfrm>
            <a:off x="819000" y="4203720"/>
            <a:ext cx="80121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冷：</a:t>
            </a:r>
            <a:r>
              <a:rPr b="1" lang="en-US" sz="2200" spc="-1" strike="noStrike">
                <a:solidFill>
                  <a:srgbClr val="000000"/>
                </a:solidFill>
                <a:latin typeface="宋体"/>
              </a:rPr>
              <a:t>A.</a:t>
            </a:r>
            <a:r>
              <a:rPr b="1" lang="zh-CN" sz="2200" spc="-1" strike="noStrike">
                <a:solidFill>
                  <a:srgbClr val="000000"/>
                </a:solidFill>
                <a:latin typeface="宋体"/>
              </a:rPr>
              <a:t>温度低，跟“热”相对。</a:t>
            </a:r>
            <a:r>
              <a:rPr b="1" lang="en-US" sz="2200" spc="-1" strike="noStrike">
                <a:solidFill>
                  <a:srgbClr val="000000"/>
                </a:solidFill>
                <a:latin typeface="宋体"/>
              </a:rPr>
              <a:t>B.</a:t>
            </a:r>
            <a:r>
              <a:rPr b="1" lang="zh-CN" sz="2200" spc="-1" strike="noStrike">
                <a:solidFill>
                  <a:srgbClr val="000000"/>
                </a:solidFill>
                <a:latin typeface="宋体"/>
              </a:rPr>
              <a:t>不热情。</a:t>
            </a:r>
            <a:r>
              <a:rPr b="1" lang="en-US" sz="2200" spc="-1" strike="noStrike">
                <a:solidFill>
                  <a:srgbClr val="000000"/>
                </a:solidFill>
                <a:latin typeface="宋体"/>
              </a:rPr>
              <a:t>C.</a:t>
            </a:r>
            <a:r>
              <a:rPr b="1" lang="zh-CN" sz="2200" spc="-1" strike="noStrike">
                <a:solidFill>
                  <a:srgbClr val="000000"/>
                </a:solidFill>
                <a:latin typeface="宋体"/>
              </a:rPr>
              <a:t>乘人不备的</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4.</a:t>
            </a:r>
            <a:r>
              <a:rPr b="1" lang="zh-CN" sz="2200" spc="-1" strike="noStrike">
                <a:solidFill>
                  <a:srgbClr val="000000"/>
                </a:solidFill>
                <a:latin typeface="宋体"/>
              </a:rPr>
              <a:t>冷不防吹来一阵大风，刮走了纸张。</a:t>
            </a:r>
            <a:r>
              <a:rPr b="1" lang="en-US" sz="2200" spc="-1" strike="noStrike">
                <a:solidFill>
                  <a:srgbClr val="000000"/>
                </a:solidFill>
                <a:latin typeface="宋体"/>
              </a:rPr>
              <a:t>(     </a:t>
            </a:r>
            <a:r>
              <a:rPr b="1" lang="zh-CN"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5.</a:t>
            </a:r>
            <a:r>
              <a:rPr b="1" lang="zh-CN" sz="2200" spc="-1" strike="noStrike">
                <a:solidFill>
                  <a:srgbClr val="000000"/>
                </a:solidFill>
                <a:latin typeface="宋体"/>
              </a:rPr>
              <a:t>因为妈妈不让出去玩，小红冷着脸十分生气。</a:t>
            </a:r>
            <a:r>
              <a:rPr b="1" lang="en-US" sz="2200" spc="-1" strike="noStrike">
                <a:solidFill>
                  <a:srgbClr val="000000"/>
                </a:solidFill>
                <a:latin typeface="宋体"/>
              </a:rPr>
              <a:t>(     </a:t>
            </a:r>
            <a:r>
              <a:rPr b="1" lang="zh-CN" sz="2200" spc="-1" strike="noStrike">
                <a:solidFill>
                  <a:srgbClr val="000000"/>
                </a:solidFill>
                <a:latin typeface="宋体"/>
              </a:rPr>
              <a:t>）</a:t>
            </a:r>
            <a:endParaRPr b="0" lang="en-US" sz="2200" spc="-1" strike="noStrike">
              <a:solidFill>
                <a:srgbClr val="000000"/>
              </a:solidFill>
              <a:latin typeface="Calibri"/>
            </a:endParaRPr>
          </a:p>
        </p:txBody>
      </p:sp>
      <p:sp>
        <p:nvSpPr>
          <p:cNvPr id="332" name="矩形 13"/>
          <p:cNvSpPr/>
          <p:nvPr/>
        </p:nvSpPr>
        <p:spPr>
          <a:xfrm>
            <a:off x="6323400" y="4660920"/>
            <a:ext cx="374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C</a:t>
            </a:r>
            <a:endParaRPr b="0" lang="en-US" sz="2400" spc="-1" strike="noStrike">
              <a:solidFill>
                <a:srgbClr val="000000"/>
              </a:solidFill>
              <a:latin typeface="Calibri"/>
            </a:endParaRPr>
          </a:p>
        </p:txBody>
      </p:sp>
      <p:sp>
        <p:nvSpPr>
          <p:cNvPr id="333" name="矩形 6"/>
          <p:cNvSpPr/>
          <p:nvPr/>
        </p:nvSpPr>
        <p:spPr>
          <a:xfrm>
            <a:off x="1227600" y="5052960"/>
            <a:ext cx="38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334" name="矩形 7"/>
          <p:cNvSpPr/>
          <p:nvPr/>
        </p:nvSpPr>
        <p:spPr>
          <a:xfrm>
            <a:off x="4600440" y="5535720"/>
            <a:ext cx="38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335" name="矩形 16"/>
          <p:cNvSpPr/>
          <p:nvPr/>
        </p:nvSpPr>
        <p:spPr>
          <a:xfrm>
            <a:off x="7505280" y="5219640"/>
            <a:ext cx="384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325"/>
                                        </p:tgtEl>
                                        <p:attrNameLst>
                                          <p:attrName>style.visibility</p:attrName>
                                        </p:attrNameLst>
                                      </p:cBhvr>
                                      <p:to>
                                        <p:strVal val="visible"/>
                                      </p:to>
                                    </p:set>
                                    <p:animEffect filter="wipe(left)" transition="in">
                                      <p:cBhvr additive="repl">
                                        <p:cTn id="758" dur="500"/>
                                        <p:tgtEl>
                                          <p:spTgt spid="325"/>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2" presetSubtype="8">
                                  <p:stCondLst>
                                    <p:cond delay="0"/>
                                  </p:stCondLst>
                                  <p:childTnLst>
                                    <p:set>
                                      <p:cBhvr>
                                        <p:cTn id="762" dur="1" fill="hold">
                                          <p:stCondLst>
                                            <p:cond delay="0"/>
                                          </p:stCondLst>
                                        </p:cTn>
                                        <p:tgtEl>
                                          <p:spTgt spid="326"/>
                                        </p:tgtEl>
                                        <p:attrNameLst>
                                          <p:attrName>style.visibility</p:attrName>
                                        </p:attrNameLst>
                                      </p:cBhvr>
                                      <p:to>
                                        <p:strVal val="visible"/>
                                      </p:to>
                                    </p:set>
                                    <p:animEffect filter="wipe(left)" transition="in">
                                      <p:cBhvr additive="repl">
                                        <p:cTn id="763" dur="500"/>
                                        <p:tgtEl>
                                          <p:spTgt spid="326"/>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27"/>
                                        </p:tgtEl>
                                        <p:attrNameLst>
                                          <p:attrName>style.visibility</p:attrName>
                                        </p:attrNameLst>
                                      </p:cBhvr>
                                      <p:to>
                                        <p:strVal val="visible"/>
                                      </p:to>
                                    </p:set>
                                    <p:animEffect filter="wipe(left)" transition="in">
                                      <p:cBhvr additive="repl">
                                        <p:cTn id="768" dur="500"/>
                                        <p:tgtEl>
                                          <p:spTgt spid="327"/>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332"/>
                                        </p:tgtEl>
                                        <p:attrNameLst>
                                          <p:attrName>style.visibility</p:attrName>
                                        </p:attrNameLst>
                                      </p:cBhvr>
                                      <p:to>
                                        <p:strVal val="visible"/>
                                      </p:to>
                                    </p:set>
                                    <p:animEffect filter="wipe(left)" transition="in">
                                      <p:cBhvr additive="repl">
                                        <p:cTn id="773" dur="500"/>
                                        <p:tgtEl>
                                          <p:spTgt spid="332"/>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335"/>
                                        </p:tgtEl>
                                        <p:attrNameLst>
                                          <p:attrName>style.visibility</p:attrName>
                                        </p:attrNameLst>
                                      </p:cBhvr>
                                      <p:to>
                                        <p:strVal val="visible"/>
                                      </p:to>
                                    </p:set>
                                    <p:animEffect filter="wipe(left)" transition="in">
                                      <p:cBhvr additive="repl">
                                        <p:cTn id="77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寥</a:t>
            </a:r>
            <a:endParaRPr b="0" lang="en-US" sz="8000" spc="-1" strike="noStrike">
              <a:solidFill>
                <a:srgbClr val="000000"/>
              </a:solidFill>
              <a:latin typeface="Calibri"/>
            </a:endParaRPr>
          </a:p>
        </p:txBody>
      </p:sp>
      <p:grpSp>
        <p:nvGrpSpPr>
          <p:cNvPr id="84" name="组合 8"/>
          <p:cNvGrpSpPr/>
          <p:nvPr/>
        </p:nvGrpSpPr>
        <p:grpSpPr>
          <a:xfrm>
            <a:off x="1400040" y="3975120"/>
            <a:ext cx="2840040" cy="1621080"/>
            <a:chOff x="1400040" y="3975120"/>
            <a:chExt cx="2840040" cy="1621080"/>
          </a:xfrm>
        </p:grpSpPr>
        <p:pic>
          <p:nvPicPr>
            <p:cNvPr id="85" name="图示 4" descr=""/>
            <p:cNvPicPr/>
            <p:nvPr/>
          </p:nvPicPr>
          <p:blipFill>
            <a:blip r:embed="rId1"/>
            <a:stretch/>
          </p:blipFill>
          <p:spPr>
            <a:xfrm>
              <a:off x="1400040" y="3975120"/>
              <a:ext cx="2840040" cy="1571760"/>
            </a:xfrm>
            <a:prstGeom prst="rect">
              <a:avLst/>
            </a:prstGeom>
            <a:ln w="0">
              <a:noFill/>
            </a:ln>
          </p:spPr>
        </p:pic>
        <p:sp>
          <p:nvSpPr>
            <p:cNvPr id="86" name="矩形 2"/>
            <p:cNvSpPr/>
            <p:nvPr/>
          </p:nvSpPr>
          <p:spPr>
            <a:xfrm>
              <a:off x="1444680" y="458784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三撇要平行，间距相等。</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87" name="矩形 3"/>
          <p:cNvSpPr/>
          <p:nvPr/>
        </p:nvSpPr>
        <p:spPr>
          <a:xfrm>
            <a:off x="1969920" y="1868400"/>
            <a:ext cx="1665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liáo</a:t>
            </a:r>
            <a:endParaRPr b="0" lang="en-US" sz="4800" spc="-1" strike="noStrike">
              <a:solidFill>
                <a:srgbClr val="000000"/>
              </a:solidFill>
              <a:latin typeface="Calibri"/>
            </a:endParaRPr>
          </a:p>
        </p:txBody>
      </p:sp>
      <p:pic>
        <p:nvPicPr>
          <p:cNvPr id="88" name="图片 10" descr=""/>
          <p:cNvPicPr/>
          <p:nvPr/>
        </p:nvPicPr>
        <p:blipFill>
          <a:blip r:embed="rId2"/>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89" name="组合 2"/>
          <p:cNvGrpSpPr/>
          <p:nvPr/>
        </p:nvGrpSpPr>
        <p:grpSpPr>
          <a:xfrm>
            <a:off x="730080" y="1200240"/>
            <a:ext cx="2905200" cy="666720"/>
            <a:chOff x="730080" y="1200240"/>
            <a:chExt cx="2905200" cy="666720"/>
          </a:xfrm>
        </p:grpSpPr>
        <p:sp>
          <p:nvSpPr>
            <p:cNvPr id="90" name="圆角矩形 10"/>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1" name="图片 9" descr="book.gif"/>
            <p:cNvPicPr/>
            <p:nvPr/>
          </p:nvPicPr>
          <p:blipFill>
            <a:blip r:embed="rId3"/>
            <a:stretch/>
          </p:blipFill>
          <p:spPr>
            <a:xfrm>
              <a:off x="730080" y="1200240"/>
              <a:ext cx="1087200" cy="666720"/>
            </a:xfrm>
            <a:prstGeom prst="rect">
              <a:avLst/>
            </a:prstGeom>
            <a:ln w="0">
              <a:noFill/>
            </a:ln>
          </p:spPr>
        </p:pic>
        <p:sp>
          <p:nvSpPr>
            <p:cNvPr id="92"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graphicFrame>
        <p:nvGraphicFramePr>
          <p:cNvPr id="93"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Freeform 159"/>
          <p:cNvSpPr/>
          <p:nvPr/>
        </p:nvSpPr>
        <p:spPr>
          <a:xfrm>
            <a:off x="5973840" y="4395960"/>
            <a:ext cx="1038240" cy="631800"/>
          </a:xfrm>
          <a:custGeom>
            <a:avLst/>
            <a:gdLst/>
            <a:ahLst/>
            <a:rect l="l" t="t" r="r" b="b"/>
            <a:pathLst>
              <a:path w="1307" h="794">
                <a:moveTo>
                  <a:pt x="1232" y="247"/>
                </a:moveTo>
                <a:lnTo>
                  <a:pt x="1222" y="253"/>
                </a:lnTo>
                <a:lnTo>
                  <a:pt x="1211" y="263"/>
                </a:lnTo>
                <a:lnTo>
                  <a:pt x="1197" y="270"/>
                </a:lnTo>
                <a:lnTo>
                  <a:pt x="1184" y="282"/>
                </a:lnTo>
                <a:lnTo>
                  <a:pt x="1167" y="292"/>
                </a:lnTo>
                <a:lnTo>
                  <a:pt x="1149" y="303"/>
                </a:lnTo>
                <a:lnTo>
                  <a:pt x="1130" y="317"/>
                </a:lnTo>
                <a:lnTo>
                  <a:pt x="1111" y="330"/>
                </a:lnTo>
                <a:lnTo>
                  <a:pt x="1090" y="345"/>
                </a:lnTo>
                <a:lnTo>
                  <a:pt x="1065" y="361"/>
                </a:lnTo>
                <a:lnTo>
                  <a:pt x="1042" y="376"/>
                </a:lnTo>
                <a:lnTo>
                  <a:pt x="1015" y="393"/>
                </a:lnTo>
                <a:lnTo>
                  <a:pt x="988" y="411"/>
                </a:lnTo>
                <a:lnTo>
                  <a:pt x="959" y="428"/>
                </a:lnTo>
                <a:lnTo>
                  <a:pt x="929" y="447"/>
                </a:lnTo>
                <a:lnTo>
                  <a:pt x="898" y="468"/>
                </a:lnTo>
                <a:lnTo>
                  <a:pt x="827" y="507"/>
                </a:lnTo>
                <a:lnTo>
                  <a:pt x="758" y="543"/>
                </a:lnTo>
                <a:lnTo>
                  <a:pt x="723" y="562"/>
                </a:lnTo>
                <a:lnTo>
                  <a:pt x="687" y="579"/>
                </a:lnTo>
                <a:lnTo>
                  <a:pt x="652" y="597"/>
                </a:lnTo>
                <a:lnTo>
                  <a:pt x="618" y="612"/>
                </a:lnTo>
                <a:lnTo>
                  <a:pt x="581" y="629"/>
                </a:lnTo>
                <a:lnTo>
                  <a:pt x="545" y="643"/>
                </a:lnTo>
                <a:lnTo>
                  <a:pt x="510" y="658"/>
                </a:lnTo>
                <a:lnTo>
                  <a:pt x="474" y="674"/>
                </a:lnTo>
                <a:lnTo>
                  <a:pt x="437" y="687"/>
                </a:lnTo>
                <a:lnTo>
                  <a:pt x="401" y="698"/>
                </a:lnTo>
                <a:lnTo>
                  <a:pt x="364" y="712"/>
                </a:lnTo>
                <a:lnTo>
                  <a:pt x="328" y="723"/>
                </a:lnTo>
                <a:lnTo>
                  <a:pt x="309" y="727"/>
                </a:lnTo>
                <a:lnTo>
                  <a:pt x="291" y="733"/>
                </a:lnTo>
                <a:lnTo>
                  <a:pt x="274" y="739"/>
                </a:lnTo>
                <a:lnTo>
                  <a:pt x="257" y="743"/>
                </a:lnTo>
                <a:lnTo>
                  <a:pt x="240" y="748"/>
                </a:lnTo>
                <a:lnTo>
                  <a:pt x="224" y="752"/>
                </a:lnTo>
                <a:lnTo>
                  <a:pt x="209" y="756"/>
                </a:lnTo>
                <a:lnTo>
                  <a:pt x="195" y="760"/>
                </a:lnTo>
                <a:lnTo>
                  <a:pt x="180" y="764"/>
                </a:lnTo>
                <a:lnTo>
                  <a:pt x="167" y="768"/>
                </a:lnTo>
                <a:lnTo>
                  <a:pt x="153" y="769"/>
                </a:lnTo>
                <a:lnTo>
                  <a:pt x="142" y="773"/>
                </a:lnTo>
                <a:lnTo>
                  <a:pt x="128" y="777"/>
                </a:lnTo>
                <a:lnTo>
                  <a:pt x="117" y="779"/>
                </a:lnTo>
                <a:lnTo>
                  <a:pt x="107" y="781"/>
                </a:lnTo>
                <a:lnTo>
                  <a:pt x="96" y="783"/>
                </a:lnTo>
                <a:lnTo>
                  <a:pt x="86" y="785"/>
                </a:lnTo>
                <a:lnTo>
                  <a:pt x="76" y="787"/>
                </a:lnTo>
                <a:lnTo>
                  <a:pt x="69" y="789"/>
                </a:lnTo>
                <a:lnTo>
                  <a:pt x="59" y="791"/>
                </a:lnTo>
                <a:lnTo>
                  <a:pt x="51" y="793"/>
                </a:lnTo>
                <a:lnTo>
                  <a:pt x="44" y="793"/>
                </a:lnTo>
                <a:lnTo>
                  <a:pt x="38" y="794"/>
                </a:lnTo>
                <a:lnTo>
                  <a:pt x="32" y="794"/>
                </a:lnTo>
                <a:lnTo>
                  <a:pt x="27" y="794"/>
                </a:lnTo>
                <a:lnTo>
                  <a:pt x="21" y="794"/>
                </a:lnTo>
                <a:lnTo>
                  <a:pt x="17" y="794"/>
                </a:lnTo>
                <a:lnTo>
                  <a:pt x="13" y="794"/>
                </a:lnTo>
                <a:lnTo>
                  <a:pt x="11" y="794"/>
                </a:lnTo>
                <a:lnTo>
                  <a:pt x="7" y="794"/>
                </a:lnTo>
                <a:lnTo>
                  <a:pt x="5" y="793"/>
                </a:lnTo>
                <a:lnTo>
                  <a:pt x="2" y="791"/>
                </a:lnTo>
                <a:lnTo>
                  <a:pt x="2" y="789"/>
                </a:lnTo>
                <a:lnTo>
                  <a:pt x="0" y="789"/>
                </a:lnTo>
                <a:lnTo>
                  <a:pt x="0" y="787"/>
                </a:lnTo>
                <a:lnTo>
                  <a:pt x="0" y="785"/>
                </a:lnTo>
                <a:lnTo>
                  <a:pt x="2" y="781"/>
                </a:lnTo>
                <a:lnTo>
                  <a:pt x="3" y="779"/>
                </a:lnTo>
                <a:lnTo>
                  <a:pt x="5" y="777"/>
                </a:lnTo>
                <a:lnTo>
                  <a:pt x="7" y="775"/>
                </a:lnTo>
                <a:lnTo>
                  <a:pt x="11" y="771"/>
                </a:lnTo>
                <a:lnTo>
                  <a:pt x="15" y="768"/>
                </a:lnTo>
                <a:lnTo>
                  <a:pt x="19" y="766"/>
                </a:lnTo>
                <a:lnTo>
                  <a:pt x="25" y="762"/>
                </a:lnTo>
                <a:lnTo>
                  <a:pt x="30" y="758"/>
                </a:lnTo>
                <a:lnTo>
                  <a:pt x="36" y="754"/>
                </a:lnTo>
                <a:lnTo>
                  <a:pt x="44" y="750"/>
                </a:lnTo>
                <a:lnTo>
                  <a:pt x="51" y="746"/>
                </a:lnTo>
                <a:lnTo>
                  <a:pt x="59" y="743"/>
                </a:lnTo>
                <a:lnTo>
                  <a:pt x="69" y="737"/>
                </a:lnTo>
                <a:lnTo>
                  <a:pt x="76" y="733"/>
                </a:lnTo>
                <a:lnTo>
                  <a:pt x="88" y="727"/>
                </a:lnTo>
                <a:lnTo>
                  <a:pt x="98" y="723"/>
                </a:lnTo>
                <a:lnTo>
                  <a:pt x="109" y="718"/>
                </a:lnTo>
                <a:lnTo>
                  <a:pt x="121" y="712"/>
                </a:lnTo>
                <a:lnTo>
                  <a:pt x="134" y="708"/>
                </a:lnTo>
                <a:lnTo>
                  <a:pt x="147" y="702"/>
                </a:lnTo>
                <a:lnTo>
                  <a:pt x="161" y="697"/>
                </a:lnTo>
                <a:lnTo>
                  <a:pt x="176" y="689"/>
                </a:lnTo>
                <a:lnTo>
                  <a:pt x="192" y="683"/>
                </a:lnTo>
                <a:lnTo>
                  <a:pt x="207" y="677"/>
                </a:lnTo>
                <a:lnTo>
                  <a:pt x="222" y="672"/>
                </a:lnTo>
                <a:lnTo>
                  <a:pt x="240" y="664"/>
                </a:lnTo>
                <a:lnTo>
                  <a:pt x="305" y="637"/>
                </a:lnTo>
                <a:lnTo>
                  <a:pt x="368" y="610"/>
                </a:lnTo>
                <a:lnTo>
                  <a:pt x="432" y="579"/>
                </a:lnTo>
                <a:lnTo>
                  <a:pt x="493" y="551"/>
                </a:lnTo>
                <a:lnTo>
                  <a:pt x="554" y="518"/>
                </a:lnTo>
                <a:lnTo>
                  <a:pt x="585" y="501"/>
                </a:lnTo>
                <a:lnTo>
                  <a:pt x="616" y="483"/>
                </a:lnTo>
                <a:lnTo>
                  <a:pt x="646" y="466"/>
                </a:lnTo>
                <a:lnTo>
                  <a:pt x="675" y="447"/>
                </a:lnTo>
                <a:lnTo>
                  <a:pt x="706" y="428"/>
                </a:lnTo>
                <a:lnTo>
                  <a:pt x="737" y="409"/>
                </a:lnTo>
                <a:lnTo>
                  <a:pt x="765" y="389"/>
                </a:lnTo>
                <a:lnTo>
                  <a:pt x="794" y="370"/>
                </a:lnTo>
                <a:lnTo>
                  <a:pt x="819" y="353"/>
                </a:lnTo>
                <a:lnTo>
                  <a:pt x="846" y="334"/>
                </a:lnTo>
                <a:lnTo>
                  <a:pt x="869" y="317"/>
                </a:lnTo>
                <a:lnTo>
                  <a:pt x="892" y="301"/>
                </a:lnTo>
                <a:lnTo>
                  <a:pt x="913" y="286"/>
                </a:lnTo>
                <a:lnTo>
                  <a:pt x="934" y="269"/>
                </a:lnTo>
                <a:lnTo>
                  <a:pt x="954" y="255"/>
                </a:lnTo>
                <a:lnTo>
                  <a:pt x="971" y="240"/>
                </a:lnTo>
                <a:lnTo>
                  <a:pt x="988" y="226"/>
                </a:lnTo>
                <a:lnTo>
                  <a:pt x="1005" y="213"/>
                </a:lnTo>
                <a:lnTo>
                  <a:pt x="1019" y="201"/>
                </a:lnTo>
                <a:lnTo>
                  <a:pt x="1034" y="188"/>
                </a:lnTo>
                <a:lnTo>
                  <a:pt x="1046" y="176"/>
                </a:lnTo>
                <a:lnTo>
                  <a:pt x="1059" y="165"/>
                </a:lnTo>
                <a:lnTo>
                  <a:pt x="1069" y="155"/>
                </a:lnTo>
                <a:lnTo>
                  <a:pt x="1078" y="144"/>
                </a:lnTo>
                <a:lnTo>
                  <a:pt x="1088" y="134"/>
                </a:lnTo>
                <a:lnTo>
                  <a:pt x="1096" y="126"/>
                </a:lnTo>
                <a:lnTo>
                  <a:pt x="1101" y="117"/>
                </a:lnTo>
                <a:lnTo>
                  <a:pt x="1109" y="109"/>
                </a:lnTo>
                <a:lnTo>
                  <a:pt x="1113" y="102"/>
                </a:lnTo>
                <a:lnTo>
                  <a:pt x="1117" y="94"/>
                </a:lnTo>
                <a:lnTo>
                  <a:pt x="1121" y="88"/>
                </a:lnTo>
                <a:lnTo>
                  <a:pt x="1123" y="80"/>
                </a:lnTo>
                <a:lnTo>
                  <a:pt x="1124" y="75"/>
                </a:lnTo>
                <a:lnTo>
                  <a:pt x="1124" y="69"/>
                </a:lnTo>
                <a:lnTo>
                  <a:pt x="1124" y="63"/>
                </a:lnTo>
                <a:lnTo>
                  <a:pt x="1124" y="59"/>
                </a:lnTo>
                <a:lnTo>
                  <a:pt x="1123" y="54"/>
                </a:lnTo>
                <a:lnTo>
                  <a:pt x="1121" y="50"/>
                </a:lnTo>
                <a:lnTo>
                  <a:pt x="1117" y="42"/>
                </a:lnTo>
                <a:lnTo>
                  <a:pt x="1113" y="34"/>
                </a:lnTo>
                <a:lnTo>
                  <a:pt x="1113" y="27"/>
                </a:lnTo>
                <a:lnTo>
                  <a:pt x="1113" y="23"/>
                </a:lnTo>
                <a:lnTo>
                  <a:pt x="1115" y="17"/>
                </a:lnTo>
                <a:lnTo>
                  <a:pt x="1117" y="15"/>
                </a:lnTo>
                <a:lnTo>
                  <a:pt x="1119" y="11"/>
                </a:lnTo>
                <a:lnTo>
                  <a:pt x="1121" y="9"/>
                </a:lnTo>
                <a:lnTo>
                  <a:pt x="1124" y="7"/>
                </a:lnTo>
                <a:lnTo>
                  <a:pt x="1128" y="6"/>
                </a:lnTo>
                <a:lnTo>
                  <a:pt x="1132" y="4"/>
                </a:lnTo>
                <a:lnTo>
                  <a:pt x="1138" y="2"/>
                </a:lnTo>
                <a:lnTo>
                  <a:pt x="1142" y="0"/>
                </a:lnTo>
                <a:lnTo>
                  <a:pt x="1147" y="0"/>
                </a:lnTo>
                <a:lnTo>
                  <a:pt x="1153" y="0"/>
                </a:lnTo>
                <a:lnTo>
                  <a:pt x="1159" y="2"/>
                </a:lnTo>
                <a:lnTo>
                  <a:pt x="1167" y="4"/>
                </a:lnTo>
                <a:lnTo>
                  <a:pt x="1172" y="6"/>
                </a:lnTo>
                <a:lnTo>
                  <a:pt x="1180" y="9"/>
                </a:lnTo>
                <a:lnTo>
                  <a:pt x="1186" y="11"/>
                </a:lnTo>
                <a:lnTo>
                  <a:pt x="1194" y="17"/>
                </a:lnTo>
                <a:lnTo>
                  <a:pt x="1201" y="21"/>
                </a:lnTo>
                <a:lnTo>
                  <a:pt x="1209" y="25"/>
                </a:lnTo>
                <a:lnTo>
                  <a:pt x="1226" y="36"/>
                </a:lnTo>
                <a:lnTo>
                  <a:pt x="1245" y="50"/>
                </a:lnTo>
                <a:lnTo>
                  <a:pt x="1257" y="67"/>
                </a:lnTo>
                <a:lnTo>
                  <a:pt x="1270" y="82"/>
                </a:lnTo>
                <a:lnTo>
                  <a:pt x="1280" y="98"/>
                </a:lnTo>
                <a:lnTo>
                  <a:pt x="1289" y="111"/>
                </a:lnTo>
                <a:lnTo>
                  <a:pt x="1297" y="123"/>
                </a:lnTo>
                <a:lnTo>
                  <a:pt x="1299" y="128"/>
                </a:lnTo>
                <a:lnTo>
                  <a:pt x="1301" y="134"/>
                </a:lnTo>
                <a:lnTo>
                  <a:pt x="1303" y="140"/>
                </a:lnTo>
                <a:lnTo>
                  <a:pt x="1305" y="144"/>
                </a:lnTo>
                <a:lnTo>
                  <a:pt x="1307" y="150"/>
                </a:lnTo>
                <a:lnTo>
                  <a:pt x="1307" y="153"/>
                </a:lnTo>
                <a:lnTo>
                  <a:pt x="1307" y="159"/>
                </a:lnTo>
                <a:lnTo>
                  <a:pt x="1305" y="163"/>
                </a:lnTo>
                <a:lnTo>
                  <a:pt x="1303" y="169"/>
                </a:lnTo>
                <a:lnTo>
                  <a:pt x="1301" y="173"/>
                </a:lnTo>
                <a:lnTo>
                  <a:pt x="1299" y="178"/>
                </a:lnTo>
                <a:lnTo>
                  <a:pt x="1295" y="184"/>
                </a:lnTo>
                <a:lnTo>
                  <a:pt x="1291" y="190"/>
                </a:lnTo>
                <a:lnTo>
                  <a:pt x="1288" y="196"/>
                </a:lnTo>
                <a:lnTo>
                  <a:pt x="1282" y="201"/>
                </a:lnTo>
                <a:lnTo>
                  <a:pt x="1278" y="207"/>
                </a:lnTo>
                <a:lnTo>
                  <a:pt x="1270" y="215"/>
                </a:lnTo>
                <a:lnTo>
                  <a:pt x="1265" y="221"/>
                </a:lnTo>
                <a:lnTo>
                  <a:pt x="1257" y="226"/>
                </a:lnTo>
                <a:lnTo>
                  <a:pt x="1249" y="234"/>
                </a:lnTo>
                <a:lnTo>
                  <a:pt x="1242" y="240"/>
                </a:lnTo>
                <a:lnTo>
                  <a:pt x="1232" y="24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160"/>
          <p:cNvSpPr/>
          <p:nvPr/>
        </p:nvSpPr>
        <p:spPr>
          <a:xfrm>
            <a:off x="6192720" y="4197240"/>
            <a:ext cx="650880" cy="452520"/>
          </a:xfrm>
          <a:custGeom>
            <a:avLst/>
            <a:gdLst/>
            <a:ahLst/>
            <a:rect l="l" t="t" r="r" b="b"/>
            <a:pathLst>
              <a:path w="822" h="570">
                <a:moveTo>
                  <a:pt x="102" y="499"/>
                </a:moveTo>
                <a:lnTo>
                  <a:pt x="134" y="480"/>
                </a:lnTo>
                <a:lnTo>
                  <a:pt x="167" y="461"/>
                </a:lnTo>
                <a:lnTo>
                  <a:pt x="202" y="440"/>
                </a:lnTo>
                <a:lnTo>
                  <a:pt x="236" y="419"/>
                </a:lnTo>
                <a:lnTo>
                  <a:pt x="271" y="396"/>
                </a:lnTo>
                <a:lnTo>
                  <a:pt x="290" y="382"/>
                </a:lnTo>
                <a:lnTo>
                  <a:pt x="309" y="371"/>
                </a:lnTo>
                <a:lnTo>
                  <a:pt x="326" y="357"/>
                </a:lnTo>
                <a:lnTo>
                  <a:pt x="348" y="342"/>
                </a:lnTo>
                <a:lnTo>
                  <a:pt x="367" y="329"/>
                </a:lnTo>
                <a:lnTo>
                  <a:pt x="388" y="313"/>
                </a:lnTo>
                <a:lnTo>
                  <a:pt x="407" y="300"/>
                </a:lnTo>
                <a:lnTo>
                  <a:pt x="428" y="286"/>
                </a:lnTo>
                <a:lnTo>
                  <a:pt x="445" y="275"/>
                </a:lnTo>
                <a:lnTo>
                  <a:pt x="465" y="263"/>
                </a:lnTo>
                <a:lnTo>
                  <a:pt x="482" y="250"/>
                </a:lnTo>
                <a:lnTo>
                  <a:pt x="497" y="238"/>
                </a:lnTo>
                <a:lnTo>
                  <a:pt x="513" y="229"/>
                </a:lnTo>
                <a:lnTo>
                  <a:pt x="528" y="217"/>
                </a:lnTo>
                <a:lnTo>
                  <a:pt x="541" y="206"/>
                </a:lnTo>
                <a:lnTo>
                  <a:pt x="553" y="196"/>
                </a:lnTo>
                <a:lnTo>
                  <a:pt x="564" y="187"/>
                </a:lnTo>
                <a:lnTo>
                  <a:pt x="576" y="175"/>
                </a:lnTo>
                <a:lnTo>
                  <a:pt x="586" y="165"/>
                </a:lnTo>
                <a:lnTo>
                  <a:pt x="595" y="158"/>
                </a:lnTo>
                <a:lnTo>
                  <a:pt x="603" y="148"/>
                </a:lnTo>
                <a:lnTo>
                  <a:pt x="610" y="139"/>
                </a:lnTo>
                <a:lnTo>
                  <a:pt x="618" y="133"/>
                </a:lnTo>
                <a:lnTo>
                  <a:pt x="624" y="125"/>
                </a:lnTo>
                <a:lnTo>
                  <a:pt x="630" y="119"/>
                </a:lnTo>
                <a:lnTo>
                  <a:pt x="634" y="114"/>
                </a:lnTo>
                <a:lnTo>
                  <a:pt x="637" y="106"/>
                </a:lnTo>
                <a:lnTo>
                  <a:pt x="641" y="100"/>
                </a:lnTo>
                <a:lnTo>
                  <a:pt x="645" y="92"/>
                </a:lnTo>
                <a:lnTo>
                  <a:pt x="647" y="87"/>
                </a:lnTo>
                <a:lnTo>
                  <a:pt x="649" y="81"/>
                </a:lnTo>
                <a:lnTo>
                  <a:pt x="651" y="73"/>
                </a:lnTo>
                <a:lnTo>
                  <a:pt x="653" y="68"/>
                </a:lnTo>
                <a:lnTo>
                  <a:pt x="653" y="60"/>
                </a:lnTo>
                <a:lnTo>
                  <a:pt x="653" y="54"/>
                </a:lnTo>
                <a:lnTo>
                  <a:pt x="651" y="48"/>
                </a:lnTo>
                <a:lnTo>
                  <a:pt x="651" y="41"/>
                </a:lnTo>
                <a:lnTo>
                  <a:pt x="649" y="35"/>
                </a:lnTo>
                <a:lnTo>
                  <a:pt x="645" y="31"/>
                </a:lnTo>
                <a:lnTo>
                  <a:pt x="645" y="27"/>
                </a:lnTo>
                <a:lnTo>
                  <a:pt x="643" y="23"/>
                </a:lnTo>
                <a:lnTo>
                  <a:pt x="643" y="20"/>
                </a:lnTo>
                <a:lnTo>
                  <a:pt x="643" y="16"/>
                </a:lnTo>
                <a:lnTo>
                  <a:pt x="645" y="14"/>
                </a:lnTo>
                <a:lnTo>
                  <a:pt x="647" y="10"/>
                </a:lnTo>
                <a:lnTo>
                  <a:pt x="649" y="8"/>
                </a:lnTo>
                <a:lnTo>
                  <a:pt x="651" y="6"/>
                </a:lnTo>
                <a:lnTo>
                  <a:pt x="655" y="4"/>
                </a:lnTo>
                <a:lnTo>
                  <a:pt x="658" y="4"/>
                </a:lnTo>
                <a:lnTo>
                  <a:pt x="662" y="2"/>
                </a:lnTo>
                <a:lnTo>
                  <a:pt x="666" y="0"/>
                </a:lnTo>
                <a:lnTo>
                  <a:pt x="672" y="0"/>
                </a:lnTo>
                <a:lnTo>
                  <a:pt x="680" y="0"/>
                </a:lnTo>
                <a:lnTo>
                  <a:pt x="685" y="0"/>
                </a:lnTo>
                <a:lnTo>
                  <a:pt x="695" y="4"/>
                </a:lnTo>
                <a:lnTo>
                  <a:pt x="705" y="8"/>
                </a:lnTo>
                <a:lnTo>
                  <a:pt x="714" y="14"/>
                </a:lnTo>
                <a:lnTo>
                  <a:pt x="724" y="20"/>
                </a:lnTo>
                <a:lnTo>
                  <a:pt x="735" y="27"/>
                </a:lnTo>
                <a:lnTo>
                  <a:pt x="747" y="35"/>
                </a:lnTo>
                <a:lnTo>
                  <a:pt x="753" y="41"/>
                </a:lnTo>
                <a:lnTo>
                  <a:pt x="758" y="46"/>
                </a:lnTo>
                <a:lnTo>
                  <a:pt x="766" y="52"/>
                </a:lnTo>
                <a:lnTo>
                  <a:pt x="772" y="58"/>
                </a:lnTo>
                <a:lnTo>
                  <a:pt x="777" y="64"/>
                </a:lnTo>
                <a:lnTo>
                  <a:pt x="785" y="71"/>
                </a:lnTo>
                <a:lnTo>
                  <a:pt x="791" y="77"/>
                </a:lnTo>
                <a:lnTo>
                  <a:pt x="795" y="83"/>
                </a:lnTo>
                <a:lnTo>
                  <a:pt x="801" y="87"/>
                </a:lnTo>
                <a:lnTo>
                  <a:pt x="804" y="92"/>
                </a:lnTo>
                <a:lnTo>
                  <a:pt x="810" y="102"/>
                </a:lnTo>
                <a:lnTo>
                  <a:pt x="816" y="110"/>
                </a:lnTo>
                <a:lnTo>
                  <a:pt x="820" y="117"/>
                </a:lnTo>
                <a:lnTo>
                  <a:pt x="822" y="123"/>
                </a:lnTo>
                <a:lnTo>
                  <a:pt x="822" y="127"/>
                </a:lnTo>
                <a:lnTo>
                  <a:pt x="822" y="133"/>
                </a:lnTo>
                <a:lnTo>
                  <a:pt x="820" y="137"/>
                </a:lnTo>
                <a:lnTo>
                  <a:pt x="816" y="142"/>
                </a:lnTo>
                <a:lnTo>
                  <a:pt x="812" y="148"/>
                </a:lnTo>
                <a:lnTo>
                  <a:pt x="806" y="156"/>
                </a:lnTo>
                <a:lnTo>
                  <a:pt x="801" y="163"/>
                </a:lnTo>
                <a:lnTo>
                  <a:pt x="793" y="171"/>
                </a:lnTo>
                <a:lnTo>
                  <a:pt x="783" y="179"/>
                </a:lnTo>
                <a:lnTo>
                  <a:pt x="772" y="188"/>
                </a:lnTo>
                <a:lnTo>
                  <a:pt x="760" y="198"/>
                </a:lnTo>
                <a:lnTo>
                  <a:pt x="747" y="208"/>
                </a:lnTo>
                <a:lnTo>
                  <a:pt x="733" y="219"/>
                </a:lnTo>
                <a:lnTo>
                  <a:pt x="716" y="229"/>
                </a:lnTo>
                <a:lnTo>
                  <a:pt x="699" y="242"/>
                </a:lnTo>
                <a:lnTo>
                  <a:pt x="680" y="254"/>
                </a:lnTo>
                <a:lnTo>
                  <a:pt x="660" y="267"/>
                </a:lnTo>
                <a:lnTo>
                  <a:pt x="618" y="296"/>
                </a:lnTo>
                <a:lnTo>
                  <a:pt x="574" y="327"/>
                </a:lnTo>
                <a:lnTo>
                  <a:pt x="551" y="340"/>
                </a:lnTo>
                <a:lnTo>
                  <a:pt x="528" y="354"/>
                </a:lnTo>
                <a:lnTo>
                  <a:pt x="505" y="367"/>
                </a:lnTo>
                <a:lnTo>
                  <a:pt x="480" y="380"/>
                </a:lnTo>
                <a:lnTo>
                  <a:pt x="455" y="394"/>
                </a:lnTo>
                <a:lnTo>
                  <a:pt x="430" y="407"/>
                </a:lnTo>
                <a:lnTo>
                  <a:pt x="405" y="421"/>
                </a:lnTo>
                <a:lnTo>
                  <a:pt x="378" y="434"/>
                </a:lnTo>
                <a:lnTo>
                  <a:pt x="351" y="448"/>
                </a:lnTo>
                <a:lnTo>
                  <a:pt x="323" y="461"/>
                </a:lnTo>
                <a:lnTo>
                  <a:pt x="294" y="474"/>
                </a:lnTo>
                <a:lnTo>
                  <a:pt x="263" y="488"/>
                </a:lnTo>
                <a:lnTo>
                  <a:pt x="234" y="499"/>
                </a:lnTo>
                <a:lnTo>
                  <a:pt x="207" y="511"/>
                </a:lnTo>
                <a:lnTo>
                  <a:pt x="181" y="522"/>
                </a:lnTo>
                <a:lnTo>
                  <a:pt x="158" y="532"/>
                </a:lnTo>
                <a:lnTo>
                  <a:pt x="134" y="540"/>
                </a:lnTo>
                <a:lnTo>
                  <a:pt x="113" y="547"/>
                </a:lnTo>
                <a:lnTo>
                  <a:pt x="94" y="553"/>
                </a:lnTo>
                <a:lnTo>
                  <a:pt x="77" y="559"/>
                </a:lnTo>
                <a:lnTo>
                  <a:pt x="62" y="563"/>
                </a:lnTo>
                <a:lnTo>
                  <a:pt x="48" y="567"/>
                </a:lnTo>
                <a:lnTo>
                  <a:pt x="37" y="569"/>
                </a:lnTo>
                <a:lnTo>
                  <a:pt x="27" y="570"/>
                </a:lnTo>
                <a:lnTo>
                  <a:pt x="17" y="570"/>
                </a:lnTo>
                <a:lnTo>
                  <a:pt x="12" y="570"/>
                </a:lnTo>
                <a:lnTo>
                  <a:pt x="6" y="570"/>
                </a:lnTo>
                <a:lnTo>
                  <a:pt x="4" y="569"/>
                </a:lnTo>
                <a:lnTo>
                  <a:pt x="2" y="567"/>
                </a:lnTo>
                <a:lnTo>
                  <a:pt x="0" y="563"/>
                </a:lnTo>
                <a:lnTo>
                  <a:pt x="2" y="561"/>
                </a:lnTo>
                <a:lnTo>
                  <a:pt x="4" y="557"/>
                </a:lnTo>
                <a:lnTo>
                  <a:pt x="6" y="555"/>
                </a:lnTo>
                <a:lnTo>
                  <a:pt x="10" y="551"/>
                </a:lnTo>
                <a:lnTo>
                  <a:pt x="15" y="547"/>
                </a:lnTo>
                <a:lnTo>
                  <a:pt x="21" y="542"/>
                </a:lnTo>
                <a:lnTo>
                  <a:pt x="27" y="538"/>
                </a:lnTo>
                <a:lnTo>
                  <a:pt x="35" y="534"/>
                </a:lnTo>
                <a:lnTo>
                  <a:pt x="44" y="528"/>
                </a:lnTo>
                <a:lnTo>
                  <a:pt x="54" y="522"/>
                </a:lnTo>
                <a:lnTo>
                  <a:pt x="65" y="517"/>
                </a:lnTo>
                <a:lnTo>
                  <a:pt x="77" y="511"/>
                </a:lnTo>
                <a:lnTo>
                  <a:pt x="88" y="505"/>
                </a:lnTo>
                <a:lnTo>
                  <a:pt x="102" y="49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61"/>
          <p:cNvSpPr/>
          <p:nvPr/>
        </p:nvSpPr>
        <p:spPr>
          <a:xfrm>
            <a:off x="6173640" y="3979800"/>
            <a:ext cx="533520" cy="430200"/>
          </a:xfrm>
          <a:custGeom>
            <a:avLst/>
            <a:gdLst/>
            <a:ahLst/>
            <a:rect l="l" t="t" r="r" b="b"/>
            <a:pathLst>
              <a:path w="672" h="541">
                <a:moveTo>
                  <a:pt x="497" y="52"/>
                </a:moveTo>
                <a:lnTo>
                  <a:pt x="497" y="44"/>
                </a:lnTo>
                <a:lnTo>
                  <a:pt x="499" y="36"/>
                </a:lnTo>
                <a:lnTo>
                  <a:pt x="503" y="29"/>
                </a:lnTo>
                <a:lnTo>
                  <a:pt x="507" y="25"/>
                </a:lnTo>
                <a:lnTo>
                  <a:pt x="513" y="19"/>
                </a:lnTo>
                <a:lnTo>
                  <a:pt x="518" y="13"/>
                </a:lnTo>
                <a:lnTo>
                  <a:pt x="526" y="9"/>
                </a:lnTo>
                <a:lnTo>
                  <a:pt x="536" y="6"/>
                </a:lnTo>
                <a:lnTo>
                  <a:pt x="538" y="4"/>
                </a:lnTo>
                <a:lnTo>
                  <a:pt x="539" y="2"/>
                </a:lnTo>
                <a:lnTo>
                  <a:pt x="543" y="2"/>
                </a:lnTo>
                <a:lnTo>
                  <a:pt x="549" y="0"/>
                </a:lnTo>
                <a:lnTo>
                  <a:pt x="553" y="2"/>
                </a:lnTo>
                <a:lnTo>
                  <a:pt x="559" y="2"/>
                </a:lnTo>
                <a:lnTo>
                  <a:pt x="562" y="4"/>
                </a:lnTo>
                <a:lnTo>
                  <a:pt x="568" y="6"/>
                </a:lnTo>
                <a:lnTo>
                  <a:pt x="574" y="7"/>
                </a:lnTo>
                <a:lnTo>
                  <a:pt x="582" y="9"/>
                </a:lnTo>
                <a:lnTo>
                  <a:pt x="587" y="13"/>
                </a:lnTo>
                <a:lnTo>
                  <a:pt x="593" y="17"/>
                </a:lnTo>
                <a:lnTo>
                  <a:pt x="601" y="23"/>
                </a:lnTo>
                <a:lnTo>
                  <a:pt x="609" y="29"/>
                </a:lnTo>
                <a:lnTo>
                  <a:pt x="614" y="32"/>
                </a:lnTo>
                <a:lnTo>
                  <a:pt x="622" y="40"/>
                </a:lnTo>
                <a:lnTo>
                  <a:pt x="628" y="46"/>
                </a:lnTo>
                <a:lnTo>
                  <a:pt x="633" y="54"/>
                </a:lnTo>
                <a:lnTo>
                  <a:pt x="639" y="59"/>
                </a:lnTo>
                <a:lnTo>
                  <a:pt x="645" y="65"/>
                </a:lnTo>
                <a:lnTo>
                  <a:pt x="649" y="71"/>
                </a:lnTo>
                <a:lnTo>
                  <a:pt x="653" y="78"/>
                </a:lnTo>
                <a:lnTo>
                  <a:pt x="660" y="88"/>
                </a:lnTo>
                <a:lnTo>
                  <a:pt x="664" y="100"/>
                </a:lnTo>
                <a:lnTo>
                  <a:pt x="668" y="107"/>
                </a:lnTo>
                <a:lnTo>
                  <a:pt x="670" y="115"/>
                </a:lnTo>
                <a:lnTo>
                  <a:pt x="670" y="119"/>
                </a:lnTo>
                <a:lnTo>
                  <a:pt x="672" y="121"/>
                </a:lnTo>
                <a:lnTo>
                  <a:pt x="670" y="125"/>
                </a:lnTo>
                <a:lnTo>
                  <a:pt x="668" y="130"/>
                </a:lnTo>
                <a:lnTo>
                  <a:pt x="666" y="136"/>
                </a:lnTo>
                <a:lnTo>
                  <a:pt x="662" y="142"/>
                </a:lnTo>
                <a:lnTo>
                  <a:pt x="657" y="149"/>
                </a:lnTo>
                <a:lnTo>
                  <a:pt x="651" y="157"/>
                </a:lnTo>
                <a:lnTo>
                  <a:pt x="643" y="165"/>
                </a:lnTo>
                <a:lnTo>
                  <a:pt x="633" y="174"/>
                </a:lnTo>
                <a:lnTo>
                  <a:pt x="624" y="184"/>
                </a:lnTo>
                <a:lnTo>
                  <a:pt x="612" y="194"/>
                </a:lnTo>
                <a:lnTo>
                  <a:pt x="601" y="205"/>
                </a:lnTo>
                <a:lnTo>
                  <a:pt x="587" y="217"/>
                </a:lnTo>
                <a:lnTo>
                  <a:pt x="572" y="230"/>
                </a:lnTo>
                <a:lnTo>
                  <a:pt x="557" y="244"/>
                </a:lnTo>
                <a:lnTo>
                  <a:pt x="539" y="257"/>
                </a:lnTo>
                <a:lnTo>
                  <a:pt x="522" y="272"/>
                </a:lnTo>
                <a:lnTo>
                  <a:pt x="503" y="288"/>
                </a:lnTo>
                <a:lnTo>
                  <a:pt x="484" y="301"/>
                </a:lnTo>
                <a:lnTo>
                  <a:pt x="465" y="315"/>
                </a:lnTo>
                <a:lnTo>
                  <a:pt x="445" y="330"/>
                </a:lnTo>
                <a:lnTo>
                  <a:pt x="407" y="355"/>
                </a:lnTo>
                <a:lnTo>
                  <a:pt x="367" y="380"/>
                </a:lnTo>
                <a:lnTo>
                  <a:pt x="324" y="403"/>
                </a:lnTo>
                <a:lnTo>
                  <a:pt x="284" y="426"/>
                </a:lnTo>
                <a:lnTo>
                  <a:pt x="200" y="470"/>
                </a:lnTo>
                <a:lnTo>
                  <a:pt x="179" y="480"/>
                </a:lnTo>
                <a:lnTo>
                  <a:pt x="159" y="489"/>
                </a:lnTo>
                <a:lnTo>
                  <a:pt x="142" y="499"/>
                </a:lnTo>
                <a:lnTo>
                  <a:pt x="123" y="507"/>
                </a:lnTo>
                <a:lnTo>
                  <a:pt x="108" y="514"/>
                </a:lnTo>
                <a:lnTo>
                  <a:pt x="92" y="520"/>
                </a:lnTo>
                <a:lnTo>
                  <a:pt x="77" y="526"/>
                </a:lnTo>
                <a:lnTo>
                  <a:pt x="63" y="530"/>
                </a:lnTo>
                <a:lnTo>
                  <a:pt x="52" y="533"/>
                </a:lnTo>
                <a:lnTo>
                  <a:pt x="40" y="537"/>
                </a:lnTo>
                <a:lnTo>
                  <a:pt x="31" y="539"/>
                </a:lnTo>
                <a:lnTo>
                  <a:pt x="21" y="541"/>
                </a:lnTo>
                <a:lnTo>
                  <a:pt x="15" y="541"/>
                </a:lnTo>
                <a:lnTo>
                  <a:pt x="10" y="541"/>
                </a:lnTo>
                <a:lnTo>
                  <a:pt x="4" y="541"/>
                </a:lnTo>
                <a:lnTo>
                  <a:pt x="2" y="539"/>
                </a:lnTo>
                <a:lnTo>
                  <a:pt x="0" y="535"/>
                </a:lnTo>
                <a:lnTo>
                  <a:pt x="0" y="533"/>
                </a:lnTo>
                <a:lnTo>
                  <a:pt x="2" y="528"/>
                </a:lnTo>
                <a:lnTo>
                  <a:pt x="4" y="524"/>
                </a:lnTo>
                <a:lnTo>
                  <a:pt x="10" y="516"/>
                </a:lnTo>
                <a:lnTo>
                  <a:pt x="15" y="510"/>
                </a:lnTo>
                <a:lnTo>
                  <a:pt x="23" y="503"/>
                </a:lnTo>
                <a:lnTo>
                  <a:pt x="33" y="493"/>
                </a:lnTo>
                <a:lnTo>
                  <a:pt x="44" y="482"/>
                </a:lnTo>
                <a:lnTo>
                  <a:pt x="58" y="470"/>
                </a:lnTo>
                <a:lnTo>
                  <a:pt x="73" y="459"/>
                </a:lnTo>
                <a:lnTo>
                  <a:pt x="88" y="445"/>
                </a:lnTo>
                <a:lnTo>
                  <a:pt x="108" y="430"/>
                </a:lnTo>
                <a:lnTo>
                  <a:pt x="117" y="422"/>
                </a:lnTo>
                <a:lnTo>
                  <a:pt x="129" y="412"/>
                </a:lnTo>
                <a:lnTo>
                  <a:pt x="138" y="405"/>
                </a:lnTo>
                <a:lnTo>
                  <a:pt x="150" y="395"/>
                </a:lnTo>
                <a:lnTo>
                  <a:pt x="163" y="386"/>
                </a:lnTo>
                <a:lnTo>
                  <a:pt x="175" y="376"/>
                </a:lnTo>
                <a:lnTo>
                  <a:pt x="200" y="359"/>
                </a:lnTo>
                <a:lnTo>
                  <a:pt x="223" y="341"/>
                </a:lnTo>
                <a:lnTo>
                  <a:pt x="246" y="326"/>
                </a:lnTo>
                <a:lnTo>
                  <a:pt x="269" y="311"/>
                </a:lnTo>
                <a:lnTo>
                  <a:pt x="288" y="295"/>
                </a:lnTo>
                <a:lnTo>
                  <a:pt x="307" y="280"/>
                </a:lnTo>
                <a:lnTo>
                  <a:pt x="326" y="267"/>
                </a:lnTo>
                <a:lnTo>
                  <a:pt x="344" y="253"/>
                </a:lnTo>
                <a:lnTo>
                  <a:pt x="361" y="240"/>
                </a:lnTo>
                <a:lnTo>
                  <a:pt x="376" y="226"/>
                </a:lnTo>
                <a:lnTo>
                  <a:pt x="390" y="215"/>
                </a:lnTo>
                <a:lnTo>
                  <a:pt x="403" y="201"/>
                </a:lnTo>
                <a:lnTo>
                  <a:pt x="417" y="190"/>
                </a:lnTo>
                <a:lnTo>
                  <a:pt x="428" y="178"/>
                </a:lnTo>
                <a:lnTo>
                  <a:pt x="438" y="167"/>
                </a:lnTo>
                <a:lnTo>
                  <a:pt x="447" y="155"/>
                </a:lnTo>
                <a:lnTo>
                  <a:pt x="461" y="138"/>
                </a:lnTo>
                <a:lnTo>
                  <a:pt x="472" y="123"/>
                </a:lnTo>
                <a:lnTo>
                  <a:pt x="478" y="115"/>
                </a:lnTo>
                <a:lnTo>
                  <a:pt x="484" y="107"/>
                </a:lnTo>
                <a:lnTo>
                  <a:pt x="488" y="102"/>
                </a:lnTo>
                <a:lnTo>
                  <a:pt x="491" y="94"/>
                </a:lnTo>
                <a:lnTo>
                  <a:pt x="493" y="88"/>
                </a:lnTo>
                <a:lnTo>
                  <a:pt x="497" y="82"/>
                </a:lnTo>
                <a:lnTo>
                  <a:pt x="499" y="77"/>
                </a:lnTo>
                <a:lnTo>
                  <a:pt x="499" y="71"/>
                </a:lnTo>
                <a:lnTo>
                  <a:pt x="501" y="65"/>
                </a:lnTo>
                <a:lnTo>
                  <a:pt x="501" y="61"/>
                </a:lnTo>
                <a:lnTo>
                  <a:pt x="499" y="55"/>
                </a:lnTo>
                <a:lnTo>
                  <a:pt x="497" y="5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62"/>
          <p:cNvSpPr/>
          <p:nvPr/>
        </p:nvSpPr>
        <p:spPr>
          <a:xfrm>
            <a:off x="6578640" y="3736800"/>
            <a:ext cx="1279440" cy="570240"/>
          </a:xfrm>
          <a:custGeom>
            <a:avLst/>
            <a:gdLst/>
            <a:ahLst/>
            <a:rect l="l" t="t" r="r" b="b"/>
            <a:pathLst>
              <a:path w="1610" h="718">
                <a:moveTo>
                  <a:pt x="1040" y="718"/>
                </a:moveTo>
                <a:lnTo>
                  <a:pt x="1036" y="716"/>
                </a:lnTo>
                <a:lnTo>
                  <a:pt x="1030" y="714"/>
                </a:lnTo>
                <a:lnTo>
                  <a:pt x="1021" y="710"/>
                </a:lnTo>
                <a:lnTo>
                  <a:pt x="1011" y="704"/>
                </a:lnTo>
                <a:lnTo>
                  <a:pt x="1000" y="698"/>
                </a:lnTo>
                <a:lnTo>
                  <a:pt x="986" y="691"/>
                </a:lnTo>
                <a:lnTo>
                  <a:pt x="971" y="681"/>
                </a:lnTo>
                <a:lnTo>
                  <a:pt x="954" y="671"/>
                </a:lnTo>
                <a:lnTo>
                  <a:pt x="934" y="660"/>
                </a:lnTo>
                <a:lnTo>
                  <a:pt x="913" y="647"/>
                </a:lnTo>
                <a:lnTo>
                  <a:pt x="890" y="633"/>
                </a:lnTo>
                <a:lnTo>
                  <a:pt x="867" y="618"/>
                </a:lnTo>
                <a:lnTo>
                  <a:pt x="840" y="602"/>
                </a:lnTo>
                <a:lnTo>
                  <a:pt x="812" y="585"/>
                </a:lnTo>
                <a:lnTo>
                  <a:pt x="783" y="566"/>
                </a:lnTo>
                <a:lnTo>
                  <a:pt x="750" y="547"/>
                </a:lnTo>
                <a:lnTo>
                  <a:pt x="718" y="526"/>
                </a:lnTo>
                <a:lnTo>
                  <a:pt x="681" y="503"/>
                </a:lnTo>
                <a:lnTo>
                  <a:pt x="645" y="480"/>
                </a:lnTo>
                <a:lnTo>
                  <a:pt x="606" y="455"/>
                </a:lnTo>
                <a:lnTo>
                  <a:pt x="564" y="428"/>
                </a:lnTo>
                <a:lnTo>
                  <a:pt x="522" y="401"/>
                </a:lnTo>
                <a:lnTo>
                  <a:pt x="478" y="372"/>
                </a:lnTo>
                <a:lnTo>
                  <a:pt x="432" y="341"/>
                </a:lnTo>
                <a:lnTo>
                  <a:pt x="384" y="311"/>
                </a:lnTo>
                <a:lnTo>
                  <a:pt x="334" y="278"/>
                </a:lnTo>
                <a:lnTo>
                  <a:pt x="282" y="245"/>
                </a:lnTo>
                <a:lnTo>
                  <a:pt x="230" y="209"/>
                </a:lnTo>
                <a:lnTo>
                  <a:pt x="174" y="174"/>
                </a:lnTo>
                <a:lnTo>
                  <a:pt x="117" y="136"/>
                </a:lnTo>
                <a:lnTo>
                  <a:pt x="59" y="98"/>
                </a:lnTo>
                <a:lnTo>
                  <a:pt x="0" y="57"/>
                </a:lnTo>
                <a:lnTo>
                  <a:pt x="17" y="28"/>
                </a:lnTo>
                <a:lnTo>
                  <a:pt x="36" y="0"/>
                </a:lnTo>
                <a:lnTo>
                  <a:pt x="84" y="27"/>
                </a:lnTo>
                <a:lnTo>
                  <a:pt x="132" y="53"/>
                </a:lnTo>
                <a:lnTo>
                  <a:pt x="180" y="80"/>
                </a:lnTo>
                <a:lnTo>
                  <a:pt x="228" y="105"/>
                </a:lnTo>
                <a:lnTo>
                  <a:pt x="276" y="130"/>
                </a:lnTo>
                <a:lnTo>
                  <a:pt x="324" y="155"/>
                </a:lnTo>
                <a:lnTo>
                  <a:pt x="370" y="176"/>
                </a:lnTo>
                <a:lnTo>
                  <a:pt x="416" y="199"/>
                </a:lnTo>
                <a:lnTo>
                  <a:pt x="464" y="220"/>
                </a:lnTo>
                <a:lnTo>
                  <a:pt x="510" y="242"/>
                </a:lnTo>
                <a:lnTo>
                  <a:pt x="556" y="261"/>
                </a:lnTo>
                <a:lnTo>
                  <a:pt x="600" y="280"/>
                </a:lnTo>
                <a:lnTo>
                  <a:pt x="646" y="297"/>
                </a:lnTo>
                <a:lnTo>
                  <a:pt x="691" y="314"/>
                </a:lnTo>
                <a:lnTo>
                  <a:pt x="735" y="332"/>
                </a:lnTo>
                <a:lnTo>
                  <a:pt x="781" y="347"/>
                </a:lnTo>
                <a:lnTo>
                  <a:pt x="823" y="362"/>
                </a:lnTo>
                <a:lnTo>
                  <a:pt x="867" y="376"/>
                </a:lnTo>
                <a:lnTo>
                  <a:pt x="908" y="389"/>
                </a:lnTo>
                <a:lnTo>
                  <a:pt x="950" y="403"/>
                </a:lnTo>
                <a:lnTo>
                  <a:pt x="990" y="416"/>
                </a:lnTo>
                <a:lnTo>
                  <a:pt x="1028" y="428"/>
                </a:lnTo>
                <a:lnTo>
                  <a:pt x="1067" y="439"/>
                </a:lnTo>
                <a:lnTo>
                  <a:pt x="1105" y="451"/>
                </a:lnTo>
                <a:lnTo>
                  <a:pt x="1142" y="460"/>
                </a:lnTo>
                <a:lnTo>
                  <a:pt x="1178" y="470"/>
                </a:lnTo>
                <a:lnTo>
                  <a:pt x="1213" y="478"/>
                </a:lnTo>
                <a:lnTo>
                  <a:pt x="1247" y="485"/>
                </a:lnTo>
                <a:lnTo>
                  <a:pt x="1280" y="493"/>
                </a:lnTo>
                <a:lnTo>
                  <a:pt x="1313" y="499"/>
                </a:lnTo>
                <a:lnTo>
                  <a:pt x="1345" y="504"/>
                </a:lnTo>
                <a:lnTo>
                  <a:pt x="1376" y="510"/>
                </a:lnTo>
                <a:lnTo>
                  <a:pt x="1389" y="512"/>
                </a:lnTo>
                <a:lnTo>
                  <a:pt x="1405" y="516"/>
                </a:lnTo>
                <a:lnTo>
                  <a:pt x="1418" y="520"/>
                </a:lnTo>
                <a:lnTo>
                  <a:pt x="1432" y="522"/>
                </a:lnTo>
                <a:lnTo>
                  <a:pt x="1445" y="526"/>
                </a:lnTo>
                <a:lnTo>
                  <a:pt x="1456" y="528"/>
                </a:lnTo>
                <a:lnTo>
                  <a:pt x="1468" y="531"/>
                </a:lnTo>
                <a:lnTo>
                  <a:pt x="1480" y="533"/>
                </a:lnTo>
                <a:lnTo>
                  <a:pt x="1491" y="537"/>
                </a:lnTo>
                <a:lnTo>
                  <a:pt x="1501" y="539"/>
                </a:lnTo>
                <a:lnTo>
                  <a:pt x="1510" y="541"/>
                </a:lnTo>
                <a:lnTo>
                  <a:pt x="1520" y="543"/>
                </a:lnTo>
                <a:lnTo>
                  <a:pt x="1529" y="547"/>
                </a:lnTo>
                <a:lnTo>
                  <a:pt x="1537" y="549"/>
                </a:lnTo>
                <a:lnTo>
                  <a:pt x="1552" y="552"/>
                </a:lnTo>
                <a:lnTo>
                  <a:pt x="1566" y="556"/>
                </a:lnTo>
                <a:lnTo>
                  <a:pt x="1579" y="560"/>
                </a:lnTo>
                <a:lnTo>
                  <a:pt x="1589" y="564"/>
                </a:lnTo>
                <a:lnTo>
                  <a:pt x="1597" y="568"/>
                </a:lnTo>
                <a:lnTo>
                  <a:pt x="1602" y="572"/>
                </a:lnTo>
                <a:lnTo>
                  <a:pt x="1606" y="574"/>
                </a:lnTo>
                <a:lnTo>
                  <a:pt x="1610" y="577"/>
                </a:lnTo>
                <a:lnTo>
                  <a:pt x="1610" y="579"/>
                </a:lnTo>
                <a:lnTo>
                  <a:pt x="1610" y="583"/>
                </a:lnTo>
                <a:lnTo>
                  <a:pt x="1608" y="587"/>
                </a:lnTo>
                <a:lnTo>
                  <a:pt x="1606" y="591"/>
                </a:lnTo>
                <a:lnTo>
                  <a:pt x="1604" y="597"/>
                </a:lnTo>
                <a:lnTo>
                  <a:pt x="1600" y="600"/>
                </a:lnTo>
                <a:lnTo>
                  <a:pt x="1595" y="604"/>
                </a:lnTo>
                <a:lnTo>
                  <a:pt x="1589" y="608"/>
                </a:lnTo>
                <a:lnTo>
                  <a:pt x="1583" y="612"/>
                </a:lnTo>
                <a:lnTo>
                  <a:pt x="1575" y="616"/>
                </a:lnTo>
                <a:lnTo>
                  <a:pt x="1568" y="620"/>
                </a:lnTo>
                <a:lnTo>
                  <a:pt x="1558" y="623"/>
                </a:lnTo>
                <a:lnTo>
                  <a:pt x="1549" y="625"/>
                </a:lnTo>
                <a:lnTo>
                  <a:pt x="1537" y="629"/>
                </a:lnTo>
                <a:lnTo>
                  <a:pt x="1526" y="631"/>
                </a:lnTo>
                <a:lnTo>
                  <a:pt x="1512" y="635"/>
                </a:lnTo>
                <a:lnTo>
                  <a:pt x="1499" y="637"/>
                </a:lnTo>
                <a:lnTo>
                  <a:pt x="1470" y="647"/>
                </a:lnTo>
                <a:lnTo>
                  <a:pt x="1441" y="654"/>
                </a:lnTo>
                <a:lnTo>
                  <a:pt x="1410" y="662"/>
                </a:lnTo>
                <a:lnTo>
                  <a:pt x="1380" y="670"/>
                </a:lnTo>
                <a:lnTo>
                  <a:pt x="1349" y="677"/>
                </a:lnTo>
                <a:lnTo>
                  <a:pt x="1316" y="685"/>
                </a:lnTo>
                <a:lnTo>
                  <a:pt x="1284" y="691"/>
                </a:lnTo>
                <a:lnTo>
                  <a:pt x="1251" y="695"/>
                </a:lnTo>
                <a:lnTo>
                  <a:pt x="1232" y="696"/>
                </a:lnTo>
                <a:lnTo>
                  <a:pt x="1215" y="698"/>
                </a:lnTo>
                <a:lnTo>
                  <a:pt x="1197" y="700"/>
                </a:lnTo>
                <a:lnTo>
                  <a:pt x="1182" y="704"/>
                </a:lnTo>
                <a:lnTo>
                  <a:pt x="1167" y="706"/>
                </a:lnTo>
                <a:lnTo>
                  <a:pt x="1151" y="708"/>
                </a:lnTo>
                <a:lnTo>
                  <a:pt x="1136" y="710"/>
                </a:lnTo>
                <a:lnTo>
                  <a:pt x="1123" y="710"/>
                </a:lnTo>
                <a:lnTo>
                  <a:pt x="1109" y="712"/>
                </a:lnTo>
                <a:lnTo>
                  <a:pt x="1098" y="714"/>
                </a:lnTo>
                <a:lnTo>
                  <a:pt x="1086" y="716"/>
                </a:lnTo>
                <a:lnTo>
                  <a:pt x="1075" y="716"/>
                </a:lnTo>
                <a:lnTo>
                  <a:pt x="1065" y="718"/>
                </a:lnTo>
                <a:lnTo>
                  <a:pt x="1055" y="718"/>
                </a:lnTo>
                <a:lnTo>
                  <a:pt x="1048" y="718"/>
                </a:lnTo>
                <a:lnTo>
                  <a:pt x="1040" y="71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63"/>
          <p:cNvSpPr/>
          <p:nvPr/>
        </p:nvSpPr>
        <p:spPr>
          <a:xfrm>
            <a:off x="5583240" y="3649680"/>
            <a:ext cx="1065240" cy="746280"/>
          </a:xfrm>
          <a:custGeom>
            <a:avLst/>
            <a:gdLst/>
            <a:ahLst/>
            <a:rect l="l" t="t" r="r" b="b"/>
            <a:pathLst>
              <a:path w="1342" h="941">
                <a:moveTo>
                  <a:pt x="1167" y="317"/>
                </a:moveTo>
                <a:lnTo>
                  <a:pt x="1148" y="338"/>
                </a:lnTo>
                <a:lnTo>
                  <a:pt x="1129" y="357"/>
                </a:lnTo>
                <a:lnTo>
                  <a:pt x="1108" y="376"/>
                </a:lnTo>
                <a:lnTo>
                  <a:pt x="1087" y="396"/>
                </a:lnTo>
                <a:lnTo>
                  <a:pt x="1064" y="415"/>
                </a:lnTo>
                <a:lnTo>
                  <a:pt x="1041" y="436"/>
                </a:lnTo>
                <a:lnTo>
                  <a:pt x="1016" y="455"/>
                </a:lnTo>
                <a:lnTo>
                  <a:pt x="991" y="474"/>
                </a:lnTo>
                <a:lnTo>
                  <a:pt x="966" y="494"/>
                </a:lnTo>
                <a:lnTo>
                  <a:pt x="939" y="513"/>
                </a:lnTo>
                <a:lnTo>
                  <a:pt x="910" y="532"/>
                </a:lnTo>
                <a:lnTo>
                  <a:pt x="881" y="551"/>
                </a:lnTo>
                <a:lnTo>
                  <a:pt x="853" y="572"/>
                </a:lnTo>
                <a:lnTo>
                  <a:pt x="822" y="591"/>
                </a:lnTo>
                <a:lnTo>
                  <a:pt x="791" y="611"/>
                </a:lnTo>
                <a:lnTo>
                  <a:pt x="759" y="632"/>
                </a:lnTo>
                <a:lnTo>
                  <a:pt x="724" y="651"/>
                </a:lnTo>
                <a:lnTo>
                  <a:pt x="691" y="670"/>
                </a:lnTo>
                <a:lnTo>
                  <a:pt x="657" y="687"/>
                </a:lnTo>
                <a:lnTo>
                  <a:pt x="624" y="705"/>
                </a:lnTo>
                <a:lnTo>
                  <a:pt x="592" y="722"/>
                </a:lnTo>
                <a:lnTo>
                  <a:pt x="559" y="739"/>
                </a:lnTo>
                <a:lnTo>
                  <a:pt x="526" y="755"/>
                </a:lnTo>
                <a:lnTo>
                  <a:pt x="496" y="770"/>
                </a:lnTo>
                <a:lnTo>
                  <a:pt x="465" y="785"/>
                </a:lnTo>
                <a:lnTo>
                  <a:pt x="432" y="799"/>
                </a:lnTo>
                <a:lnTo>
                  <a:pt x="402" y="814"/>
                </a:lnTo>
                <a:lnTo>
                  <a:pt x="371" y="826"/>
                </a:lnTo>
                <a:lnTo>
                  <a:pt x="342" y="839"/>
                </a:lnTo>
                <a:lnTo>
                  <a:pt x="311" y="852"/>
                </a:lnTo>
                <a:lnTo>
                  <a:pt x="281" y="864"/>
                </a:lnTo>
                <a:lnTo>
                  <a:pt x="250" y="876"/>
                </a:lnTo>
                <a:lnTo>
                  <a:pt x="236" y="879"/>
                </a:lnTo>
                <a:lnTo>
                  <a:pt x="221" y="885"/>
                </a:lnTo>
                <a:lnTo>
                  <a:pt x="208" y="891"/>
                </a:lnTo>
                <a:lnTo>
                  <a:pt x="194" y="895"/>
                </a:lnTo>
                <a:lnTo>
                  <a:pt x="181" y="900"/>
                </a:lnTo>
                <a:lnTo>
                  <a:pt x="169" y="904"/>
                </a:lnTo>
                <a:lnTo>
                  <a:pt x="146" y="912"/>
                </a:lnTo>
                <a:lnTo>
                  <a:pt x="123" y="920"/>
                </a:lnTo>
                <a:lnTo>
                  <a:pt x="104" y="925"/>
                </a:lnTo>
                <a:lnTo>
                  <a:pt x="87" y="929"/>
                </a:lnTo>
                <a:lnTo>
                  <a:pt x="71" y="935"/>
                </a:lnTo>
                <a:lnTo>
                  <a:pt x="56" y="937"/>
                </a:lnTo>
                <a:lnTo>
                  <a:pt x="45" y="941"/>
                </a:lnTo>
                <a:lnTo>
                  <a:pt x="33" y="941"/>
                </a:lnTo>
                <a:lnTo>
                  <a:pt x="23" y="941"/>
                </a:lnTo>
                <a:lnTo>
                  <a:pt x="16" y="941"/>
                </a:lnTo>
                <a:lnTo>
                  <a:pt x="10" y="939"/>
                </a:lnTo>
                <a:lnTo>
                  <a:pt x="6" y="937"/>
                </a:lnTo>
                <a:lnTo>
                  <a:pt x="2" y="933"/>
                </a:lnTo>
                <a:lnTo>
                  <a:pt x="0" y="931"/>
                </a:lnTo>
                <a:lnTo>
                  <a:pt x="0" y="927"/>
                </a:lnTo>
                <a:lnTo>
                  <a:pt x="0" y="925"/>
                </a:lnTo>
                <a:lnTo>
                  <a:pt x="2" y="922"/>
                </a:lnTo>
                <a:lnTo>
                  <a:pt x="6" y="918"/>
                </a:lnTo>
                <a:lnTo>
                  <a:pt x="10" y="914"/>
                </a:lnTo>
                <a:lnTo>
                  <a:pt x="16" y="910"/>
                </a:lnTo>
                <a:lnTo>
                  <a:pt x="21" y="906"/>
                </a:lnTo>
                <a:lnTo>
                  <a:pt x="29" y="902"/>
                </a:lnTo>
                <a:lnTo>
                  <a:pt x="37" y="897"/>
                </a:lnTo>
                <a:lnTo>
                  <a:pt x="46" y="893"/>
                </a:lnTo>
                <a:lnTo>
                  <a:pt x="58" y="887"/>
                </a:lnTo>
                <a:lnTo>
                  <a:pt x="71" y="881"/>
                </a:lnTo>
                <a:lnTo>
                  <a:pt x="85" y="876"/>
                </a:lnTo>
                <a:lnTo>
                  <a:pt x="98" y="870"/>
                </a:lnTo>
                <a:lnTo>
                  <a:pt x="114" y="862"/>
                </a:lnTo>
                <a:lnTo>
                  <a:pt x="129" y="856"/>
                </a:lnTo>
                <a:lnTo>
                  <a:pt x="144" y="849"/>
                </a:lnTo>
                <a:lnTo>
                  <a:pt x="162" y="839"/>
                </a:lnTo>
                <a:lnTo>
                  <a:pt x="181" y="829"/>
                </a:lnTo>
                <a:lnTo>
                  <a:pt x="202" y="820"/>
                </a:lnTo>
                <a:lnTo>
                  <a:pt x="225" y="808"/>
                </a:lnTo>
                <a:lnTo>
                  <a:pt x="248" y="795"/>
                </a:lnTo>
                <a:lnTo>
                  <a:pt x="273" y="781"/>
                </a:lnTo>
                <a:lnTo>
                  <a:pt x="300" y="768"/>
                </a:lnTo>
                <a:lnTo>
                  <a:pt x="327" y="753"/>
                </a:lnTo>
                <a:lnTo>
                  <a:pt x="355" y="735"/>
                </a:lnTo>
                <a:lnTo>
                  <a:pt x="386" y="716"/>
                </a:lnTo>
                <a:lnTo>
                  <a:pt x="419" y="697"/>
                </a:lnTo>
                <a:lnTo>
                  <a:pt x="451" y="676"/>
                </a:lnTo>
                <a:lnTo>
                  <a:pt x="488" y="655"/>
                </a:lnTo>
                <a:lnTo>
                  <a:pt x="524" y="632"/>
                </a:lnTo>
                <a:lnTo>
                  <a:pt x="561" y="607"/>
                </a:lnTo>
                <a:lnTo>
                  <a:pt x="595" y="584"/>
                </a:lnTo>
                <a:lnTo>
                  <a:pt x="630" y="559"/>
                </a:lnTo>
                <a:lnTo>
                  <a:pt x="663" y="536"/>
                </a:lnTo>
                <a:lnTo>
                  <a:pt x="695" y="515"/>
                </a:lnTo>
                <a:lnTo>
                  <a:pt x="726" y="492"/>
                </a:lnTo>
                <a:lnTo>
                  <a:pt x="757" y="469"/>
                </a:lnTo>
                <a:lnTo>
                  <a:pt x="785" y="447"/>
                </a:lnTo>
                <a:lnTo>
                  <a:pt x="814" y="426"/>
                </a:lnTo>
                <a:lnTo>
                  <a:pt x="841" y="405"/>
                </a:lnTo>
                <a:lnTo>
                  <a:pt x="866" y="384"/>
                </a:lnTo>
                <a:lnTo>
                  <a:pt x="891" y="363"/>
                </a:lnTo>
                <a:lnTo>
                  <a:pt x="916" y="342"/>
                </a:lnTo>
                <a:lnTo>
                  <a:pt x="939" y="323"/>
                </a:lnTo>
                <a:lnTo>
                  <a:pt x="960" y="302"/>
                </a:lnTo>
                <a:lnTo>
                  <a:pt x="983" y="282"/>
                </a:lnTo>
                <a:lnTo>
                  <a:pt x="1000" y="263"/>
                </a:lnTo>
                <a:lnTo>
                  <a:pt x="1016" y="244"/>
                </a:lnTo>
                <a:lnTo>
                  <a:pt x="1033" y="227"/>
                </a:lnTo>
                <a:lnTo>
                  <a:pt x="1046" y="209"/>
                </a:lnTo>
                <a:lnTo>
                  <a:pt x="1060" y="194"/>
                </a:lnTo>
                <a:lnTo>
                  <a:pt x="1071" y="179"/>
                </a:lnTo>
                <a:lnTo>
                  <a:pt x="1083" y="165"/>
                </a:lnTo>
                <a:lnTo>
                  <a:pt x="1091" y="152"/>
                </a:lnTo>
                <a:lnTo>
                  <a:pt x="1100" y="138"/>
                </a:lnTo>
                <a:lnTo>
                  <a:pt x="1106" y="127"/>
                </a:lnTo>
                <a:lnTo>
                  <a:pt x="1112" y="117"/>
                </a:lnTo>
                <a:lnTo>
                  <a:pt x="1116" y="106"/>
                </a:lnTo>
                <a:lnTo>
                  <a:pt x="1119" y="96"/>
                </a:lnTo>
                <a:lnTo>
                  <a:pt x="1119" y="89"/>
                </a:lnTo>
                <a:lnTo>
                  <a:pt x="1119" y="81"/>
                </a:lnTo>
                <a:lnTo>
                  <a:pt x="1119" y="73"/>
                </a:lnTo>
                <a:lnTo>
                  <a:pt x="1116" y="67"/>
                </a:lnTo>
                <a:lnTo>
                  <a:pt x="1116" y="62"/>
                </a:lnTo>
                <a:lnTo>
                  <a:pt x="1114" y="56"/>
                </a:lnTo>
                <a:lnTo>
                  <a:pt x="1114" y="50"/>
                </a:lnTo>
                <a:lnTo>
                  <a:pt x="1114" y="39"/>
                </a:lnTo>
                <a:lnTo>
                  <a:pt x="1116" y="31"/>
                </a:lnTo>
                <a:lnTo>
                  <a:pt x="1117" y="21"/>
                </a:lnTo>
                <a:lnTo>
                  <a:pt x="1121" y="16"/>
                </a:lnTo>
                <a:lnTo>
                  <a:pt x="1127" y="10"/>
                </a:lnTo>
                <a:lnTo>
                  <a:pt x="1131" y="4"/>
                </a:lnTo>
                <a:lnTo>
                  <a:pt x="1133" y="2"/>
                </a:lnTo>
                <a:lnTo>
                  <a:pt x="1137" y="0"/>
                </a:lnTo>
                <a:lnTo>
                  <a:pt x="1142" y="0"/>
                </a:lnTo>
                <a:lnTo>
                  <a:pt x="1146" y="0"/>
                </a:lnTo>
                <a:lnTo>
                  <a:pt x="1152" y="0"/>
                </a:lnTo>
                <a:lnTo>
                  <a:pt x="1160" y="0"/>
                </a:lnTo>
                <a:lnTo>
                  <a:pt x="1167" y="2"/>
                </a:lnTo>
                <a:lnTo>
                  <a:pt x="1175" y="4"/>
                </a:lnTo>
                <a:lnTo>
                  <a:pt x="1183" y="6"/>
                </a:lnTo>
                <a:lnTo>
                  <a:pt x="1192" y="10"/>
                </a:lnTo>
                <a:lnTo>
                  <a:pt x="1202" y="14"/>
                </a:lnTo>
                <a:lnTo>
                  <a:pt x="1212" y="18"/>
                </a:lnTo>
                <a:lnTo>
                  <a:pt x="1221" y="21"/>
                </a:lnTo>
                <a:lnTo>
                  <a:pt x="1233" y="27"/>
                </a:lnTo>
                <a:lnTo>
                  <a:pt x="1244" y="33"/>
                </a:lnTo>
                <a:lnTo>
                  <a:pt x="1256" y="39"/>
                </a:lnTo>
                <a:lnTo>
                  <a:pt x="1265" y="46"/>
                </a:lnTo>
                <a:lnTo>
                  <a:pt x="1277" y="52"/>
                </a:lnTo>
                <a:lnTo>
                  <a:pt x="1286" y="58"/>
                </a:lnTo>
                <a:lnTo>
                  <a:pt x="1294" y="66"/>
                </a:lnTo>
                <a:lnTo>
                  <a:pt x="1302" y="71"/>
                </a:lnTo>
                <a:lnTo>
                  <a:pt x="1309" y="77"/>
                </a:lnTo>
                <a:lnTo>
                  <a:pt x="1315" y="85"/>
                </a:lnTo>
                <a:lnTo>
                  <a:pt x="1321" y="90"/>
                </a:lnTo>
                <a:lnTo>
                  <a:pt x="1327" y="96"/>
                </a:lnTo>
                <a:lnTo>
                  <a:pt x="1331" y="102"/>
                </a:lnTo>
                <a:lnTo>
                  <a:pt x="1334" y="108"/>
                </a:lnTo>
                <a:lnTo>
                  <a:pt x="1336" y="112"/>
                </a:lnTo>
                <a:lnTo>
                  <a:pt x="1338" y="117"/>
                </a:lnTo>
                <a:lnTo>
                  <a:pt x="1340" y="123"/>
                </a:lnTo>
                <a:lnTo>
                  <a:pt x="1342" y="127"/>
                </a:lnTo>
                <a:lnTo>
                  <a:pt x="1342" y="133"/>
                </a:lnTo>
                <a:lnTo>
                  <a:pt x="1338" y="137"/>
                </a:lnTo>
                <a:lnTo>
                  <a:pt x="1334" y="142"/>
                </a:lnTo>
                <a:lnTo>
                  <a:pt x="1331" y="148"/>
                </a:lnTo>
                <a:lnTo>
                  <a:pt x="1325" y="156"/>
                </a:lnTo>
                <a:lnTo>
                  <a:pt x="1319" y="163"/>
                </a:lnTo>
                <a:lnTo>
                  <a:pt x="1311" y="173"/>
                </a:lnTo>
                <a:lnTo>
                  <a:pt x="1302" y="183"/>
                </a:lnTo>
                <a:lnTo>
                  <a:pt x="1292" y="194"/>
                </a:lnTo>
                <a:lnTo>
                  <a:pt x="1281" y="206"/>
                </a:lnTo>
                <a:lnTo>
                  <a:pt x="1269" y="219"/>
                </a:lnTo>
                <a:lnTo>
                  <a:pt x="1256" y="233"/>
                </a:lnTo>
                <a:lnTo>
                  <a:pt x="1240" y="248"/>
                </a:lnTo>
                <a:lnTo>
                  <a:pt x="1225" y="263"/>
                </a:lnTo>
                <a:lnTo>
                  <a:pt x="1206" y="280"/>
                </a:lnTo>
                <a:lnTo>
                  <a:pt x="1188" y="298"/>
                </a:lnTo>
                <a:lnTo>
                  <a:pt x="1167" y="3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64"/>
          <p:cNvSpPr/>
          <p:nvPr/>
        </p:nvSpPr>
        <p:spPr>
          <a:xfrm>
            <a:off x="6756480" y="3165480"/>
            <a:ext cx="471240" cy="598320"/>
          </a:xfrm>
          <a:custGeom>
            <a:avLst/>
            <a:gdLst/>
            <a:ahLst/>
            <a:rect l="l" t="t" r="r" b="b"/>
            <a:pathLst>
              <a:path w="595" h="754">
                <a:moveTo>
                  <a:pt x="334" y="23"/>
                </a:moveTo>
                <a:lnTo>
                  <a:pt x="340" y="17"/>
                </a:lnTo>
                <a:lnTo>
                  <a:pt x="346" y="13"/>
                </a:lnTo>
                <a:lnTo>
                  <a:pt x="353" y="9"/>
                </a:lnTo>
                <a:lnTo>
                  <a:pt x="361" y="6"/>
                </a:lnTo>
                <a:lnTo>
                  <a:pt x="369" y="4"/>
                </a:lnTo>
                <a:lnTo>
                  <a:pt x="378" y="2"/>
                </a:lnTo>
                <a:lnTo>
                  <a:pt x="388" y="0"/>
                </a:lnTo>
                <a:lnTo>
                  <a:pt x="398" y="0"/>
                </a:lnTo>
                <a:lnTo>
                  <a:pt x="407" y="4"/>
                </a:lnTo>
                <a:lnTo>
                  <a:pt x="419" y="9"/>
                </a:lnTo>
                <a:lnTo>
                  <a:pt x="430" y="17"/>
                </a:lnTo>
                <a:lnTo>
                  <a:pt x="446" y="25"/>
                </a:lnTo>
                <a:lnTo>
                  <a:pt x="461" y="34"/>
                </a:lnTo>
                <a:lnTo>
                  <a:pt x="471" y="40"/>
                </a:lnTo>
                <a:lnTo>
                  <a:pt x="478" y="44"/>
                </a:lnTo>
                <a:lnTo>
                  <a:pt x="488" y="50"/>
                </a:lnTo>
                <a:lnTo>
                  <a:pt x="499" y="56"/>
                </a:lnTo>
                <a:lnTo>
                  <a:pt x="509" y="63"/>
                </a:lnTo>
                <a:lnTo>
                  <a:pt x="520" y="69"/>
                </a:lnTo>
                <a:lnTo>
                  <a:pt x="530" y="77"/>
                </a:lnTo>
                <a:lnTo>
                  <a:pt x="538" y="86"/>
                </a:lnTo>
                <a:lnTo>
                  <a:pt x="545" y="94"/>
                </a:lnTo>
                <a:lnTo>
                  <a:pt x="553" y="102"/>
                </a:lnTo>
                <a:lnTo>
                  <a:pt x="561" y="109"/>
                </a:lnTo>
                <a:lnTo>
                  <a:pt x="567" y="115"/>
                </a:lnTo>
                <a:lnTo>
                  <a:pt x="572" y="123"/>
                </a:lnTo>
                <a:lnTo>
                  <a:pt x="576" y="128"/>
                </a:lnTo>
                <a:lnTo>
                  <a:pt x="580" y="134"/>
                </a:lnTo>
                <a:lnTo>
                  <a:pt x="584" y="140"/>
                </a:lnTo>
                <a:lnTo>
                  <a:pt x="588" y="144"/>
                </a:lnTo>
                <a:lnTo>
                  <a:pt x="591" y="150"/>
                </a:lnTo>
                <a:lnTo>
                  <a:pt x="593" y="153"/>
                </a:lnTo>
                <a:lnTo>
                  <a:pt x="593" y="155"/>
                </a:lnTo>
                <a:lnTo>
                  <a:pt x="595" y="159"/>
                </a:lnTo>
                <a:lnTo>
                  <a:pt x="595" y="161"/>
                </a:lnTo>
                <a:lnTo>
                  <a:pt x="595" y="171"/>
                </a:lnTo>
                <a:lnTo>
                  <a:pt x="593" y="176"/>
                </a:lnTo>
                <a:lnTo>
                  <a:pt x="590" y="184"/>
                </a:lnTo>
                <a:lnTo>
                  <a:pt x="586" y="190"/>
                </a:lnTo>
                <a:lnTo>
                  <a:pt x="580" y="194"/>
                </a:lnTo>
                <a:lnTo>
                  <a:pt x="574" y="199"/>
                </a:lnTo>
                <a:lnTo>
                  <a:pt x="567" y="203"/>
                </a:lnTo>
                <a:lnTo>
                  <a:pt x="559" y="209"/>
                </a:lnTo>
                <a:lnTo>
                  <a:pt x="553" y="211"/>
                </a:lnTo>
                <a:lnTo>
                  <a:pt x="547" y="217"/>
                </a:lnTo>
                <a:lnTo>
                  <a:pt x="544" y="223"/>
                </a:lnTo>
                <a:lnTo>
                  <a:pt x="538" y="232"/>
                </a:lnTo>
                <a:lnTo>
                  <a:pt x="532" y="244"/>
                </a:lnTo>
                <a:lnTo>
                  <a:pt x="526" y="255"/>
                </a:lnTo>
                <a:lnTo>
                  <a:pt x="519" y="271"/>
                </a:lnTo>
                <a:lnTo>
                  <a:pt x="513" y="286"/>
                </a:lnTo>
                <a:lnTo>
                  <a:pt x="507" y="305"/>
                </a:lnTo>
                <a:lnTo>
                  <a:pt x="499" y="324"/>
                </a:lnTo>
                <a:lnTo>
                  <a:pt x="494" y="347"/>
                </a:lnTo>
                <a:lnTo>
                  <a:pt x="486" y="370"/>
                </a:lnTo>
                <a:lnTo>
                  <a:pt x="480" y="397"/>
                </a:lnTo>
                <a:lnTo>
                  <a:pt x="472" y="424"/>
                </a:lnTo>
                <a:lnTo>
                  <a:pt x="465" y="455"/>
                </a:lnTo>
                <a:lnTo>
                  <a:pt x="459" y="487"/>
                </a:lnTo>
                <a:lnTo>
                  <a:pt x="453" y="503"/>
                </a:lnTo>
                <a:lnTo>
                  <a:pt x="449" y="518"/>
                </a:lnTo>
                <a:lnTo>
                  <a:pt x="446" y="533"/>
                </a:lnTo>
                <a:lnTo>
                  <a:pt x="442" y="549"/>
                </a:lnTo>
                <a:lnTo>
                  <a:pt x="436" y="562"/>
                </a:lnTo>
                <a:lnTo>
                  <a:pt x="432" y="576"/>
                </a:lnTo>
                <a:lnTo>
                  <a:pt x="428" y="589"/>
                </a:lnTo>
                <a:lnTo>
                  <a:pt x="424" y="603"/>
                </a:lnTo>
                <a:lnTo>
                  <a:pt x="421" y="614"/>
                </a:lnTo>
                <a:lnTo>
                  <a:pt x="417" y="626"/>
                </a:lnTo>
                <a:lnTo>
                  <a:pt x="413" y="637"/>
                </a:lnTo>
                <a:lnTo>
                  <a:pt x="409" y="647"/>
                </a:lnTo>
                <a:lnTo>
                  <a:pt x="405" y="658"/>
                </a:lnTo>
                <a:lnTo>
                  <a:pt x="401" y="668"/>
                </a:lnTo>
                <a:lnTo>
                  <a:pt x="400" y="677"/>
                </a:lnTo>
                <a:lnTo>
                  <a:pt x="396" y="685"/>
                </a:lnTo>
                <a:lnTo>
                  <a:pt x="392" y="693"/>
                </a:lnTo>
                <a:lnTo>
                  <a:pt x="390" y="700"/>
                </a:lnTo>
                <a:lnTo>
                  <a:pt x="386" y="708"/>
                </a:lnTo>
                <a:lnTo>
                  <a:pt x="384" y="714"/>
                </a:lnTo>
                <a:lnTo>
                  <a:pt x="380" y="722"/>
                </a:lnTo>
                <a:lnTo>
                  <a:pt x="378" y="727"/>
                </a:lnTo>
                <a:lnTo>
                  <a:pt x="377" y="731"/>
                </a:lnTo>
                <a:lnTo>
                  <a:pt x="373" y="737"/>
                </a:lnTo>
                <a:lnTo>
                  <a:pt x="371" y="741"/>
                </a:lnTo>
                <a:lnTo>
                  <a:pt x="369" y="743"/>
                </a:lnTo>
                <a:lnTo>
                  <a:pt x="367" y="747"/>
                </a:lnTo>
                <a:lnTo>
                  <a:pt x="365" y="748"/>
                </a:lnTo>
                <a:lnTo>
                  <a:pt x="363" y="750"/>
                </a:lnTo>
                <a:lnTo>
                  <a:pt x="363" y="752"/>
                </a:lnTo>
                <a:lnTo>
                  <a:pt x="361" y="752"/>
                </a:lnTo>
                <a:lnTo>
                  <a:pt x="359" y="754"/>
                </a:lnTo>
                <a:lnTo>
                  <a:pt x="355" y="752"/>
                </a:lnTo>
                <a:lnTo>
                  <a:pt x="350" y="750"/>
                </a:lnTo>
                <a:lnTo>
                  <a:pt x="346" y="748"/>
                </a:lnTo>
                <a:lnTo>
                  <a:pt x="342" y="747"/>
                </a:lnTo>
                <a:lnTo>
                  <a:pt x="336" y="743"/>
                </a:lnTo>
                <a:lnTo>
                  <a:pt x="332" y="739"/>
                </a:lnTo>
                <a:lnTo>
                  <a:pt x="323" y="731"/>
                </a:lnTo>
                <a:lnTo>
                  <a:pt x="321" y="727"/>
                </a:lnTo>
                <a:lnTo>
                  <a:pt x="319" y="725"/>
                </a:lnTo>
                <a:lnTo>
                  <a:pt x="319" y="722"/>
                </a:lnTo>
                <a:lnTo>
                  <a:pt x="317" y="718"/>
                </a:lnTo>
                <a:lnTo>
                  <a:pt x="317" y="716"/>
                </a:lnTo>
                <a:lnTo>
                  <a:pt x="317" y="710"/>
                </a:lnTo>
                <a:lnTo>
                  <a:pt x="315" y="706"/>
                </a:lnTo>
                <a:lnTo>
                  <a:pt x="315" y="700"/>
                </a:lnTo>
                <a:lnTo>
                  <a:pt x="315" y="695"/>
                </a:lnTo>
                <a:lnTo>
                  <a:pt x="315" y="689"/>
                </a:lnTo>
                <a:lnTo>
                  <a:pt x="315" y="681"/>
                </a:lnTo>
                <a:lnTo>
                  <a:pt x="315" y="674"/>
                </a:lnTo>
                <a:lnTo>
                  <a:pt x="315" y="666"/>
                </a:lnTo>
                <a:lnTo>
                  <a:pt x="317" y="658"/>
                </a:lnTo>
                <a:lnTo>
                  <a:pt x="317" y="649"/>
                </a:lnTo>
                <a:lnTo>
                  <a:pt x="317" y="639"/>
                </a:lnTo>
                <a:lnTo>
                  <a:pt x="319" y="629"/>
                </a:lnTo>
                <a:lnTo>
                  <a:pt x="319" y="618"/>
                </a:lnTo>
                <a:lnTo>
                  <a:pt x="321" y="608"/>
                </a:lnTo>
                <a:lnTo>
                  <a:pt x="321" y="597"/>
                </a:lnTo>
                <a:lnTo>
                  <a:pt x="323" y="583"/>
                </a:lnTo>
                <a:lnTo>
                  <a:pt x="325" y="570"/>
                </a:lnTo>
                <a:lnTo>
                  <a:pt x="327" y="557"/>
                </a:lnTo>
                <a:lnTo>
                  <a:pt x="329" y="543"/>
                </a:lnTo>
                <a:lnTo>
                  <a:pt x="330" y="528"/>
                </a:lnTo>
                <a:lnTo>
                  <a:pt x="332" y="514"/>
                </a:lnTo>
                <a:lnTo>
                  <a:pt x="336" y="497"/>
                </a:lnTo>
                <a:lnTo>
                  <a:pt x="338" y="482"/>
                </a:lnTo>
                <a:lnTo>
                  <a:pt x="340" y="464"/>
                </a:lnTo>
                <a:lnTo>
                  <a:pt x="344" y="447"/>
                </a:lnTo>
                <a:lnTo>
                  <a:pt x="348" y="428"/>
                </a:lnTo>
                <a:lnTo>
                  <a:pt x="352" y="411"/>
                </a:lnTo>
                <a:lnTo>
                  <a:pt x="353" y="395"/>
                </a:lnTo>
                <a:lnTo>
                  <a:pt x="357" y="378"/>
                </a:lnTo>
                <a:lnTo>
                  <a:pt x="359" y="363"/>
                </a:lnTo>
                <a:lnTo>
                  <a:pt x="363" y="347"/>
                </a:lnTo>
                <a:lnTo>
                  <a:pt x="365" y="332"/>
                </a:lnTo>
                <a:lnTo>
                  <a:pt x="367" y="318"/>
                </a:lnTo>
                <a:lnTo>
                  <a:pt x="371" y="305"/>
                </a:lnTo>
                <a:lnTo>
                  <a:pt x="373" y="292"/>
                </a:lnTo>
                <a:lnTo>
                  <a:pt x="375" y="278"/>
                </a:lnTo>
                <a:lnTo>
                  <a:pt x="377" y="267"/>
                </a:lnTo>
                <a:lnTo>
                  <a:pt x="378" y="255"/>
                </a:lnTo>
                <a:lnTo>
                  <a:pt x="380" y="244"/>
                </a:lnTo>
                <a:lnTo>
                  <a:pt x="382" y="232"/>
                </a:lnTo>
                <a:lnTo>
                  <a:pt x="382" y="223"/>
                </a:lnTo>
                <a:lnTo>
                  <a:pt x="384" y="213"/>
                </a:lnTo>
                <a:lnTo>
                  <a:pt x="386" y="203"/>
                </a:lnTo>
                <a:lnTo>
                  <a:pt x="386" y="194"/>
                </a:lnTo>
                <a:lnTo>
                  <a:pt x="386" y="186"/>
                </a:lnTo>
                <a:lnTo>
                  <a:pt x="388" y="178"/>
                </a:lnTo>
                <a:lnTo>
                  <a:pt x="388" y="171"/>
                </a:lnTo>
                <a:lnTo>
                  <a:pt x="388" y="165"/>
                </a:lnTo>
                <a:lnTo>
                  <a:pt x="388" y="159"/>
                </a:lnTo>
                <a:lnTo>
                  <a:pt x="388" y="153"/>
                </a:lnTo>
                <a:lnTo>
                  <a:pt x="388" y="148"/>
                </a:lnTo>
                <a:lnTo>
                  <a:pt x="388" y="144"/>
                </a:lnTo>
                <a:lnTo>
                  <a:pt x="388" y="140"/>
                </a:lnTo>
                <a:lnTo>
                  <a:pt x="388" y="136"/>
                </a:lnTo>
                <a:lnTo>
                  <a:pt x="388" y="132"/>
                </a:lnTo>
                <a:lnTo>
                  <a:pt x="386" y="130"/>
                </a:lnTo>
                <a:lnTo>
                  <a:pt x="386" y="128"/>
                </a:lnTo>
                <a:lnTo>
                  <a:pt x="384" y="127"/>
                </a:lnTo>
                <a:lnTo>
                  <a:pt x="382" y="125"/>
                </a:lnTo>
                <a:lnTo>
                  <a:pt x="378" y="123"/>
                </a:lnTo>
                <a:lnTo>
                  <a:pt x="375" y="123"/>
                </a:lnTo>
                <a:lnTo>
                  <a:pt x="369" y="123"/>
                </a:lnTo>
                <a:lnTo>
                  <a:pt x="363" y="123"/>
                </a:lnTo>
                <a:lnTo>
                  <a:pt x="355" y="123"/>
                </a:lnTo>
                <a:lnTo>
                  <a:pt x="350" y="123"/>
                </a:lnTo>
                <a:lnTo>
                  <a:pt x="342" y="125"/>
                </a:lnTo>
                <a:lnTo>
                  <a:pt x="332" y="125"/>
                </a:lnTo>
                <a:lnTo>
                  <a:pt x="323" y="127"/>
                </a:lnTo>
                <a:lnTo>
                  <a:pt x="315" y="128"/>
                </a:lnTo>
                <a:lnTo>
                  <a:pt x="304" y="130"/>
                </a:lnTo>
                <a:lnTo>
                  <a:pt x="282" y="134"/>
                </a:lnTo>
                <a:lnTo>
                  <a:pt x="261" y="138"/>
                </a:lnTo>
                <a:lnTo>
                  <a:pt x="238" y="148"/>
                </a:lnTo>
                <a:lnTo>
                  <a:pt x="217" y="153"/>
                </a:lnTo>
                <a:lnTo>
                  <a:pt x="196" y="159"/>
                </a:lnTo>
                <a:lnTo>
                  <a:pt x="177" y="163"/>
                </a:lnTo>
                <a:lnTo>
                  <a:pt x="158" y="165"/>
                </a:lnTo>
                <a:lnTo>
                  <a:pt x="150" y="167"/>
                </a:lnTo>
                <a:lnTo>
                  <a:pt x="142" y="167"/>
                </a:lnTo>
                <a:lnTo>
                  <a:pt x="135" y="167"/>
                </a:lnTo>
                <a:lnTo>
                  <a:pt x="127" y="165"/>
                </a:lnTo>
                <a:lnTo>
                  <a:pt x="119" y="163"/>
                </a:lnTo>
                <a:lnTo>
                  <a:pt x="112" y="161"/>
                </a:lnTo>
                <a:lnTo>
                  <a:pt x="104" y="161"/>
                </a:lnTo>
                <a:lnTo>
                  <a:pt x="98" y="161"/>
                </a:lnTo>
                <a:lnTo>
                  <a:pt x="91" y="159"/>
                </a:lnTo>
                <a:lnTo>
                  <a:pt x="83" y="157"/>
                </a:lnTo>
                <a:lnTo>
                  <a:pt x="69" y="153"/>
                </a:lnTo>
                <a:lnTo>
                  <a:pt x="56" y="146"/>
                </a:lnTo>
                <a:lnTo>
                  <a:pt x="43" y="138"/>
                </a:lnTo>
                <a:lnTo>
                  <a:pt x="27" y="127"/>
                </a:lnTo>
                <a:lnTo>
                  <a:pt x="14" y="117"/>
                </a:lnTo>
                <a:lnTo>
                  <a:pt x="0" y="104"/>
                </a:lnTo>
                <a:lnTo>
                  <a:pt x="25" y="98"/>
                </a:lnTo>
                <a:lnTo>
                  <a:pt x="48" y="92"/>
                </a:lnTo>
                <a:lnTo>
                  <a:pt x="73" y="86"/>
                </a:lnTo>
                <a:lnTo>
                  <a:pt x="94" y="80"/>
                </a:lnTo>
                <a:lnTo>
                  <a:pt x="115" y="77"/>
                </a:lnTo>
                <a:lnTo>
                  <a:pt x="137" y="73"/>
                </a:lnTo>
                <a:lnTo>
                  <a:pt x="156" y="69"/>
                </a:lnTo>
                <a:lnTo>
                  <a:pt x="173" y="65"/>
                </a:lnTo>
                <a:lnTo>
                  <a:pt x="190" y="63"/>
                </a:lnTo>
                <a:lnTo>
                  <a:pt x="206" y="59"/>
                </a:lnTo>
                <a:lnTo>
                  <a:pt x="221" y="57"/>
                </a:lnTo>
                <a:lnTo>
                  <a:pt x="234" y="56"/>
                </a:lnTo>
                <a:lnTo>
                  <a:pt x="246" y="52"/>
                </a:lnTo>
                <a:lnTo>
                  <a:pt x="256" y="50"/>
                </a:lnTo>
                <a:lnTo>
                  <a:pt x="265" y="48"/>
                </a:lnTo>
                <a:lnTo>
                  <a:pt x="273" y="46"/>
                </a:lnTo>
                <a:lnTo>
                  <a:pt x="279" y="44"/>
                </a:lnTo>
                <a:lnTo>
                  <a:pt x="286" y="42"/>
                </a:lnTo>
                <a:lnTo>
                  <a:pt x="292" y="40"/>
                </a:lnTo>
                <a:lnTo>
                  <a:pt x="296" y="38"/>
                </a:lnTo>
                <a:lnTo>
                  <a:pt x="305" y="36"/>
                </a:lnTo>
                <a:lnTo>
                  <a:pt x="313" y="34"/>
                </a:lnTo>
                <a:lnTo>
                  <a:pt x="319" y="32"/>
                </a:lnTo>
                <a:lnTo>
                  <a:pt x="325" y="29"/>
                </a:lnTo>
                <a:lnTo>
                  <a:pt x="330" y="27"/>
                </a:lnTo>
                <a:lnTo>
                  <a:pt x="334"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65"/>
          <p:cNvSpPr/>
          <p:nvPr/>
        </p:nvSpPr>
        <p:spPr>
          <a:xfrm>
            <a:off x="6670800" y="3484440"/>
            <a:ext cx="342720" cy="223920"/>
          </a:xfrm>
          <a:custGeom>
            <a:avLst/>
            <a:gdLst/>
            <a:ahLst/>
            <a:rect l="l" t="t" r="r" b="b"/>
            <a:pathLst>
              <a:path w="432" h="282">
                <a:moveTo>
                  <a:pt x="57" y="132"/>
                </a:moveTo>
                <a:lnTo>
                  <a:pt x="67" y="136"/>
                </a:lnTo>
                <a:lnTo>
                  <a:pt x="77" y="138"/>
                </a:lnTo>
                <a:lnTo>
                  <a:pt x="84" y="140"/>
                </a:lnTo>
                <a:lnTo>
                  <a:pt x="94" y="140"/>
                </a:lnTo>
                <a:lnTo>
                  <a:pt x="102" y="140"/>
                </a:lnTo>
                <a:lnTo>
                  <a:pt x="107" y="138"/>
                </a:lnTo>
                <a:lnTo>
                  <a:pt x="115" y="136"/>
                </a:lnTo>
                <a:lnTo>
                  <a:pt x="119" y="132"/>
                </a:lnTo>
                <a:lnTo>
                  <a:pt x="123" y="131"/>
                </a:lnTo>
                <a:lnTo>
                  <a:pt x="127" y="127"/>
                </a:lnTo>
                <a:lnTo>
                  <a:pt x="132" y="125"/>
                </a:lnTo>
                <a:lnTo>
                  <a:pt x="138" y="121"/>
                </a:lnTo>
                <a:lnTo>
                  <a:pt x="146" y="117"/>
                </a:lnTo>
                <a:lnTo>
                  <a:pt x="153" y="113"/>
                </a:lnTo>
                <a:lnTo>
                  <a:pt x="163" y="109"/>
                </a:lnTo>
                <a:lnTo>
                  <a:pt x="173" y="104"/>
                </a:lnTo>
                <a:lnTo>
                  <a:pt x="184" y="100"/>
                </a:lnTo>
                <a:lnTo>
                  <a:pt x="196" y="94"/>
                </a:lnTo>
                <a:lnTo>
                  <a:pt x="207" y="88"/>
                </a:lnTo>
                <a:lnTo>
                  <a:pt x="221" y="83"/>
                </a:lnTo>
                <a:lnTo>
                  <a:pt x="234" y="75"/>
                </a:lnTo>
                <a:lnTo>
                  <a:pt x="249" y="67"/>
                </a:lnTo>
                <a:lnTo>
                  <a:pt x="265" y="60"/>
                </a:lnTo>
                <a:lnTo>
                  <a:pt x="280" y="52"/>
                </a:lnTo>
                <a:lnTo>
                  <a:pt x="295" y="42"/>
                </a:lnTo>
                <a:lnTo>
                  <a:pt x="311" y="35"/>
                </a:lnTo>
                <a:lnTo>
                  <a:pt x="326" y="29"/>
                </a:lnTo>
                <a:lnTo>
                  <a:pt x="338" y="21"/>
                </a:lnTo>
                <a:lnTo>
                  <a:pt x="351" y="17"/>
                </a:lnTo>
                <a:lnTo>
                  <a:pt x="363" y="12"/>
                </a:lnTo>
                <a:lnTo>
                  <a:pt x="372" y="8"/>
                </a:lnTo>
                <a:lnTo>
                  <a:pt x="384" y="6"/>
                </a:lnTo>
                <a:lnTo>
                  <a:pt x="391" y="4"/>
                </a:lnTo>
                <a:lnTo>
                  <a:pt x="399" y="2"/>
                </a:lnTo>
                <a:lnTo>
                  <a:pt x="407" y="0"/>
                </a:lnTo>
                <a:lnTo>
                  <a:pt x="412" y="0"/>
                </a:lnTo>
                <a:lnTo>
                  <a:pt x="418" y="0"/>
                </a:lnTo>
                <a:lnTo>
                  <a:pt x="422" y="2"/>
                </a:lnTo>
                <a:lnTo>
                  <a:pt x="426" y="2"/>
                </a:lnTo>
                <a:lnTo>
                  <a:pt x="430" y="4"/>
                </a:lnTo>
                <a:lnTo>
                  <a:pt x="432" y="10"/>
                </a:lnTo>
                <a:lnTo>
                  <a:pt x="430" y="13"/>
                </a:lnTo>
                <a:lnTo>
                  <a:pt x="428" y="19"/>
                </a:lnTo>
                <a:lnTo>
                  <a:pt x="426" y="27"/>
                </a:lnTo>
                <a:lnTo>
                  <a:pt x="420" y="33"/>
                </a:lnTo>
                <a:lnTo>
                  <a:pt x="412" y="40"/>
                </a:lnTo>
                <a:lnTo>
                  <a:pt x="405" y="48"/>
                </a:lnTo>
                <a:lnTo>
                  <a:pt x="395" y="58"/>
                </a:lnTo>
                <a:lnTo>
                  <a:pt x="384" y="67"/>
                </a:lnTo>
                <a:lnTo>
                  <a:pt x="370" y="77"/>
                </a:lnTo>
                <a:lnTo>
                  <a:pt x="357" y="88"/>
                </a:lnTo>
                <a:lnTo>
                  <a:pt x="341" y="100"/>
                </a:lnTo>
                <a:lnTo>
                  <a:pt x="326" y="113"/>
                </a:lnTo>
                <a:lnTo>
                  <a:pt x="307" y="127"/>
                </a:lnTo>
                <a:lnTo>
                  <a:pt x="288" y="140"/>
                </a:lnTo>
                <a:lnTo>
                  <a:pt x="269" y="156"/>
                </a:lnTo>
                <a:lnTo>
                  <a:pt x="247" y="171"/>
                </a:lnTo>
                <a:lnTo>
                  <a:pt x="228" y="184"/>
                </a:lnTo>
                <a:lnTo>
                  <a:pt x="209" y="198"/>
                </a:lnTo>
                <a:lnTo>
                  <a:pt x="192" y="209"/>
                </a:lnTo>
                <a:lnTo>
                  <a:pt x="176" y="221"/>
                </a:lnTo>
                <a:lnTo>
                  <a:pt x="159" y="232"/>
                </a:lnTo>
                <a:lnTo>
                  <a:pt x="146" y="242"/>
                </a:lnTo>
                <a:lnTo>
                  <a:pt x="132" y="250"/>
                </a:lnTo>
                <a:lnTo>
                  <a:pt x="121" y="257"/>
                </a:lnTo>
                <a:lnTo>
                  <a:pt x="109" y="265"/>
                </a:lnTo>
                <a:lnTo>
                  <a:pt x="100" y="271"/>
                </a:lnTo>
                <a:lnTo>
                  <a:pt x="90" y="275"/>
                </a:lnTo>
                <a:lnTo>
                  <a:pt x="84" y="278"/>
                </a:lnTo>
                <a:lnTo>
                  <a:pt x="77" y="280"/>
                </a:lnTo>
                <a:lnTo>
                  <a:pt x="73" y="282"/>
                </a:lnTo>
                <a:lnTo>
                  <a:pt x="71" y="282"/>
                </a:lnTo>
                <a:lnTo>
                  <a:pt x="67" y="282"/>
                </a:lnTo>
                <a:lnTo>
                  <a:pt x="65" y="282"/>
                </a:lnTo>
                <a:lnTo>
                  <a:pt x="61" y="280"/>
                </a:lnTo>
                <a:lnTo>
                  <a:pt x="59" y="278"/>
                </a:lnTo>
                <a:lnTo>
                  <a:pt x="52" y="275"/>
                </a:lnTo>
                <a:lnTo>
                  <a:pt x="46" y="267"/>
                </a:lnTo>
                <a:lnTo>
                  <a:pt x="38" y="259"/>
                </a:lnTo>
                <a:lnTo>
                  <a:pt x="31" y="248"/>
                </a:lnTo>
                <a:lnTo>
                  <a:pt x="25" y="238"/>
                </a:lnTo>
                <a:lnTo>
                  <a:pt x="21" y="225"/>
                </a:lnTo>
                <a:lnTo>
                  <a:pt x="15" y="219"/>
                </a:lnTo>
                <a:lnTo>
                  <a:pt x="11" y="211"/>
                </a:lnTo>
                <a:lnTo>
                  <a:pt x="9" y="205"/>
                </a:lnTo>
                <a:lnTo>
                  <a:pt x="6" y="200"/>
                </a:lnTo>
                <a:lnTo>
                  <a:pt x="4" y="192"/>
                </a:lnTo>
                <a:lnTo>
                  <a:pt x="2" y="186"/>
                </a:lnTo>
                <a:lnTo>
                  <a:pt x="0" y="175"/>
                </a:lnTo>
                <a:lnTo>
                  <a:pt x="0" y="165"/>
                </a:lnTo>
                <a:lnTo>
                  <a:pt x="2" y="156"/>
                </a:lnTo>
                <a:lnTo>
                  <a:pt x="4" y="150"/>
                </a:lnTo>
                <a:lnTo>
                  <a:pt x="6" y="146"/>
                </a:lnTo>
                <a:lnTo>
                  <a:pt x="7" y="144"/>
                </a:lnTo>
                <a:lnTo>
                  <a:pt x="13" y="140"/>
                </a:lnTo>
                <a:lnTo>
                  <a:pt x="17" y="134"/>
                </a:lnTo>
                <a:lnTo>
                  <a:pt x="23" y="132"/>
                </a:lnTo>
                <a:lnTo>
                  <a:pt x="29" y="129"/>
                </a:lnTo>
                <a:lnTo>
                  <a:pt x="34" y="127"/>
                </a:lnTo>
                <a:lnTo>
                  <a:pt x="40" y="127"/>
                </a:lnTo>
                <a:lnTo>
                  <a:pt x="44" y="127"/>
                </a:lnTo>
                <a:lnTo>
                  <a:pt x="48" y="129"/>
                </a:lnTo>
                <a:lnTo>
                  <a:pt x="54" y="131"/>
                </a:lnTo>
                <a:lnTo>
                  <a:pt x="57" y="1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66"/>
          <p:cNvSpPr/>
          <p:nvPr/>
        </p:nvSpPr>
        <p:spPr>
          <a:xfrm>
            <a:off x="6676920" y="3368520"/>
            <a:ext cx="184320" cy="104760"/>
          </a:xfrm>
          <a:custGeom>
            <a:avLst/>
            <a:gdLst/>
            <a:ahLst/>
            <a:rect l="l" t="t" r="r" b="b"/>
            <a:pathLst>
              <a:path w="233" h="133">
                <a:moveTo>
                  <a:pt x="0" y="0"/>
                </a:moveTo>
                <a:lnTo>
                  <a:pt x="25" y="0"/>
                </a:lnTo>
                <a:lnTo>
                  <a:pt x="48" y="0"/>
                </a:lnTo>
                <a:lnTo>
                  <a:pt x="72" y="0"/>
                </a:lnTo>
                <a:lnTo>
                  <a:pt x="91" y="2"/>
                </a:lnTo>
                <a:lnTo>
                  <a:pt x="110" y="4"/>
                </a:lnTo>
                <a:lnTo>
                  <a:pt x="129" y="6"/>
                </a:lnTo>
                <a:lnTo>
                  <a:pt x="144" y="8"/>
                </a:lnTo>
                <a:lnTo>
                  <a:pt x="160" y="10"/>
                </a:lnTo>
                <a:lnTo>
                  <a:pt x="171" y="12"/>
                </a:lnTo>
                <a:lnTo>
                  <a:pt x="185" y="16"/>
                </a:lnTo>
                <a:lnTo>
                  <a:pt x="194" y="19"/>
                </a:lnTo>
                <a:lnTo>
                  <a:pt x="204" y="23"/>
                </a:lnTo>
                <a:lnTo>
                  <a:pt x="210" y="29"/>
                </a:lnTo>
                <a:lnTo>
                  <a:pt x="217" y="33"/>
                </a:lnTo>
                <a:lnTo>
                  <a:pt x="221" y="39"/>
                </a:lnTo>
                <a:lnTo>
                  <a:pt x="225" y="46"/>
                </a:lnTo>
                <a:lnTo>
                  <a:pt x="229" y="58"/>
                </a:lnTo>
                <a:lnTo>
                  <a:pt x="231" y="69"/>
                </a:lnTo>
                <a:lnTo>
                  <a:pt x="233" y="81"/>
                </a:lnTo>
                <a:lnTo>
                  <a:pt x="233" y="88"/>
                </a:lnTo>
                <a:lnTo>
                  <a:pt x="233" y="98"/>
                </a:lnTo>
                <a:lnTo>
                  <a:pt x="231" y="104"/>
                </a:lnTo>
                <a:lnTo>
                  <a:pt x="229" y="110"/>
                </a:lnTo>
                <a:lnTo>
                  <a:pt x="225" y="115"/>
                </a:lnTo>
                <a:lnTo>
                  <a:pt x="221" y="119"/>
                </a:lnTo>
                <a:lnTo>
                  <a:pt x="217" y="123"/>
                </a:lnTo>
                <a:lnTo>
                  <a:pt x="214" y="127"/>
                </a:lnTo>
                <a:lnTo>
                  <a:pt x="208" y="129"/>
                </a:lnTo>
                <a:lnTo>
                  <a:pt x="202" y="131"/>
                </a:lnTo>
                <a:lnTo>
                  <a:pt x="196" y="131"/>
                </a:lnTo>
                <a:lnTo>
                  <a:pt x="189" y="133"/>
                </a:lnTo>
                <a:lnTo>
                  <a:pt x="181" y="133"/>
                </a:lnTo>
                <a:lnTo>
                  <a:pt x="171" y="131"/>
                </a:lnTo>
                <a:lnTo>
                  <a:pt x="164" y="129"/>
                </a:lnTo>
                <a:lnTo>
                  <a:pt x="154" y="127"/>
                </a:lnTo>
                <a:lnTo>
                  <a:pt x="144" y="123"/>
                </a:lnTo>
                <a:lnTo>
                  <a:pt x="133" y="119"/>
                </a:lnTo>
                <a:lnTo>
                  <a:pt x="123" y="115"/>
                </a:lnTo>
                <a:lnTo>
                  <a:pt x="112" y="110"/>
                </a:lnTo>
                <a:lnTo>
                  <a:pt x="100" y="104"/>
                </a:lnTo>
                <a:lnTo>
                  <a:pt x="89" y="98"/>
                </a:lnTo>
                <a:lnTo>
                  <a:pt x="77" y="90"/>
                </a:lnTo>
                <a:lnTo>
                  <a:pt x="68" y="85"/>
                </a:lnTo>
                <a:lnTo>
                  <a:pt x="58" y="77"/>
                </a:lnTo>
                <a:lnTo>
                  <a:pt x="50" y="71"/>
                </a:lnTo>
                <a:lnTo>
                  <a:pt x="41" y="63"/>
                </a:lnTo>
                <a:lnTo>
                  <a:pt x="35" y="58"/>
                </a:lnTo>
                <a:lnTo>
                  <a:pt x="27" y="52"/>
                </a:lnTo>
                <a:lnTo>
                  <a:pt x="22" y="44"/>
                </a:lnTo>
                <a:lnTo>
                  <a:pt x="16" y="39"/>
                </a:lnTo>
                <a:lnTo>
                  <a:pt x="12" y="33"/>
                </a:lnTo>
                <a:lnTo>
                  <a:pt x="8" y="25"/>
                </a:lnTo>
                <a:lnTo>
                  <a:pt x="4" y="19"/>
                </a:lnTo>
                <a:lnTo>
                  <a:pt x="2" y="14"/>
                </a:lnTo>
                <a:lnTo>
                  <a:pt x="0" y="6"/>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67"/>
          <p:cNvSpPr/>
          <p:nvPr/>
        </p:nvSpPr>
        <p:spPr>
          <a:xfrm>
            <a:off x="5905440" y="3540240"/>
            <a:ext cx="360360" cy="296640"/>
          </a:xfrm>
          <a:custGeom>
            <a:avLst/>
            <a:gdLst/>
            <a:ahLst/>
            <a:rect l="l" t="t" r="r" b="b"/>
            <a:pathLst>
              <a:path w="453" h="374">
                <a:moveTo>
                  <a:pt x="451" y="4"/>
                </a:moveTo>
                <a:lnTo>
                  <a:pt x="453" y="4"/>
                </a:lnTo>
                <a:lnTo>
                  <a:pt x="453" y="6"/>
                </a:lnTo>
                <a:lnTo>
                  <a:pt x="453" y="10"/>
                </a:lnTo>
                <a:lnTo>
                  <a:pt x="451" y="13"/>
                </a:lnTo>
                <a:lnTo>
                  <a:pt x="447" y="19"/>
                </a:lnTo>
                <a:lnTo>
                  <a:pt x="444" y="27"/>
                </a:lnTo>
                <a:lnTo>
                  <a:pt x="438" y="37"/>
                </a:lnTo>
                <a:lnTo>
                  <a:pt x="432" y="48"/>
                </a:lnTo>
                <a:lnTo>
                  <a:pt x="424" y="60"/>
                </a:lnTo>
                <a:lnTo>
                  <a:pt x="415" y="73"/>
                </a:lnTo>
                <a:lnTo>
                  <a:pt x="405" y="88"/>
                </a:lnTo>
                <a:lnTo>
                  <a:pt x="396" y="106"/>
                </a:lnTo>
                <a:lnTo>
                  <a:pt x="382" y="123"/>
                </a:lnTo>
                <a:lnTo>
                  <a:pt x="369" y="144"/>
                </a:lnTo>
                <a:lnTo>
                  <a:pt x="355" y="165"/>
                </a:lnTo>
                <a:lnTo>
                  <a:pt x="340" y="188"/>
                </a:lnTo>
                <a:lnTo>
                  <a:pt x="321" y="211"/>
                </a:lnTo>
                <a:lnTo>
                  <a:pt x="305" y="234"/>
                </a:lnTo>
                <a:lnTo>
                  <a:pt x="288" y="253"/>
                </a:lnTo>
                <a:lnTo>
                  <a:pt x="273" y="273"/>
                </a:lnTo>
                <a:lnTo>
                  <a:pt x="257" y="288"/>
                </a:lnTo>
                <a:lnTo>
                  <a:pt x="244" y="303"/>
                </a:lnTo>
                <a:lnTo>
                  <a:pt x="233" y="317"/>
                </a:lnTo>
                <a:lnTo>
                  <a:pt x="221" y="330"/>
                </a:lnTo>
                <a:lnTo>
                  <a:pt x="209" y="340"/>
                </a:lnTo>
                <a:lnTo>
                  <a:pt x="200" y="349"/>
                </a:lnTo>
                <a:lnTo>
                  <a:pt x="192" y="357"/>
                </a:lnTo>
                <a:lnTo>
                  <a:pt x="185" y="363"/>
                </a:lnTo>
                <a:lnTo>
                  <a:pt x="179" y="369"/>
                </a:lnTo>
                <a:lnTo>
                  <a:pt x="173" y="372"/>
                </a:lnTo>
                <a:lnTo>
                  <a:pt x="169" y="374"/>
                </a:lnTo>
                <a:lnTo>
                  <a:pt x="165" y="374"/>
                </a:lnTo>
                <a:lnTo>
                  <a:pt x="163" y="374"/>
                </a:lnTo>
                <a:lnTo>
                  <a:pt x="160" y="374"/>
                </a:lnTo>
                <a:lnTo>
                  <a:pt x="156" y="372"/>
                </a:lnTo>
                <a:lnTo>
                  <a:pt x="152" y="372"/>
                </a:lnTo>
                <a:lnTo>
                  <a:pt x="148" y="371"/>
                </a:lnTo>
                <a:lnTo>
                  <a:pt x="142" y="369"/>
                </a:lnTo>
                <a:lnTo>
                  <a:pt x="131" y="365"/>
                </a:lnTo>
                <a:lnTo>
                  <a:pt x="115" y="357"/>
                </a:lnTo>
                <a:lnTo>
                  <a:pt x="110" y="353"/>
                </a:lnTo>
                <a:lnTo>
                  <a:pt x="102" y="349"/>
                </a:lnTo>
                <a:lnTo>
                  <a:pt x="92" y="346"/>
                </a:lnTo>
                <a:lnTo>
                  <a:pt x="85" y="340"/>
                </a:lnTo>
                <a:lnTo>
                  <a:pt x="75" y="334"/>
                </a:lnTo>
                <a:lnTo>
                  <a:pt x="67" y="328"/>
                </a:lnTo>
                <a:lnTo>
                  <a:pt x="56" y="321"/>
                </a:lnTo>
                <a:lnTo>
                  <a:pt x="46" y="315"/>
                </a:lnTo>
                <a:lnTo>
                  <a:pt x="37" y="309"/>
                </a:lnTo>
                <a:lnTo>
                  <a:pt x="29" y="303"/>
                </a:lnTo>
                <a:lnTo>
                  <a:pt x="23" y="298"/>
                </a:lnTo>
                <a:lnTo>
                  <a:pt x="18" y="294"/>
                </a:lnTo>
                <a:lnTo>
                  <a:pt x="12" y="288"/>
                </a:lnTo>
                <a:lnTo>
                  <a:pt x="8" y="284"/>
                </a:lnTo>
                <a:lnTo>
                  <a:pt x="4" y="280"/>
                </a:lnTo>
                <a:lnTo>
                  <a:pt x="2" y="276"/>
                </a:lnTo>
                <a:lnTo>
                  <a:pt x="0" y="273"/>
                </a:lnTo>
                <a:lnTo>
                  <a:pt x="0" y="269"/>
                </a:lnTo>
                <a:lnTo>
                  <a:pt x="0" y="267"/>
                </a:lnTo>
                <a:lnTo>
                  <a:pt x="0" y="263"/>
                </a:lnTo>
                <a:lnTo>
                  <a:pt x="2" y="261"/>
                </a:lnTo>
                <a:lnTo>
                  <a:pt x="4" y="259"/>
                </a:lnTo>
                <a:lnTo>
                  <a:pt x="10" y="253"/>
                </a:lnTo>
                <a:lnTo>
                  <a:pt x="14" y="251"/>
                </a:lnTo>
                <a:lnTo>
                  <a:pt x="19" y="250"/>
                </a:lnTo>
                <a:lnTo>
                  <a:pt x="25" y="248"/>
                </a:lnTo>
                <a:lnTo>
                  <a:pt x="31" y="248"/>
                </a:lnTo>
                <a:lnTo>
                  <a:pt x="39" y="248"/>
                </a:lnTo>
                <a:lnTo>
                  <a:pt x="46" y="248"/>
                </a:lnTo>
                <a:lnTo>
                  <a:pt x="54" y="248"/>
                </a:lnTo>
                <a:lnTo>
                  <a:pt x="60" y="248"/>
                </a:lnTo>
                <a:lnTo>
                  <a:pt x="66" y="246"/>
                </a:lnTo>
                <a:lnTo>
                  <a:pt x="71" y="246"/>
                </a:lnTo>
                <a:lnTo>
                  <a:pt x="79" y="246"/>
                </a:lnTo>
                <a:lnTo>
                  <a:pt x="87" y="244"/>
                </a:lnTo>
                <a:lnTo>
                  <a:pt x="92" y="242"/>
                </a:lnTo>
                <a:lnTo>
                  <a:pt x="98" y="238"/>
                </a:lnTo>
                <a:lnTo>
                  <a:pt x="104" y="234"/>
                </a:lnTo>
                <a:lnTo>
                  <a:pt x="108" y="234"/>
                </a:lnTo>
                <a:lnTo>
                  <a:pt x="112" y="232"/>
                </a:lnTo>
                <a:lnTo>
                  <a:pt x="115" y="230"/>
                </a:lnTo>
                <a:lnTo>
                  <a:pt x="123" y="227"/>
                </a:lnTo>
                <a:lnTo>
                  <a:pt x="131" y="223"/>
                </a:lnTo>
                <a:lnTo>
                  <a:pt x="138" y="217"/>
                </a:lnTo>
                <a:lnTo>
                  <a:pt x="148" y="209"/>
                </a:lnTo>
                <a:lnTo>
                  <a:pt x="158" y="202"/>
                </a:lnTo>
                <a:lnTo>
                  <a:pt x="169" y="194"/>
                </a:lnTo>
                <a:lnTo>
                  <a:pt x="183" y="184"/>
                </a:lnTo>
                <a:lnTo>
                  <a:pt x="196" y="173"/>
                </a:lnTo>
                <a:lnTo>
                  <a:pt x="211" y="161"/>
                </a:lnTo>
                <a:lnTo>
                  <a:pt x="227" y="150"/>
                </a:lnTo>
                <a:lnTo>
                  <a:pt x="242" y="136"/>
                </a:lnTo>
                <a:lnTo>
                  <a:pt x="259" y="123"/>
                </a:lnTo>
                <a:lnTo>
                  <a:pt x="279" y="108"/>
                </a:lnTo>
                <a:lnTo>
                  <a:pt x="296" y="92"/>
                </a:lnTo>
                <a:lnTo>
                  <a:pt x="313" y="79"/>
                </a:lnTo>
                <a:lnTo>
                  <a:pt x="328" y="65"/>
                </a:lnTo>
                <a:lnTo>
                  <a:pt x="344" y="54"/>
                </a:lnTo>
                <a:lnTo>
                  <a:pt x="359" y="44"/>
                </a:lnTo>
                <a:lnTo>
                  <a:pt x="373" y="35"/>
                </a:lnTo>
                <a:lnTo>
                  <a:pt x="384" y="27"/>
                </a:lnTo>
                <a:lnTo>
                  <a:pt x="396" y="19"/>
                </a:lnTo>
                <a:lnTo>
                  <a:pt x="407" y="13"/>
                </a:lnTo>
                <a:lnTo>
                  <a:pt x="417" y="10"/>
                </a:lnTo>
                <a:lnTo>
                  <a:pt x="424" y="6"/>
                </a:lnTo>
                <a:lnTo>
                  <a:pt x="432" y="2"/>
                </a:lnTo>
                <a:lnTo>
                  <a:pt x="438" y="2"/>
                </a:lnTo>
                <a:lnTo>
                  <a:pt x="444" y="0"/>
                </a:lnTo>
                <a:lnTo>
                  <a:pt x="447" y="2"/>
                </a:lnTo>
                <a:lnTo>
                  <a:pt x="451" y="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68"/>
          <p:cNvSpPr/>
          <p:nvPr/>
        </p:nvSpPr>
        <p:spPr>
          <a:xfrm>
            <a:off x="5967360" y="3395520"/>
            <a:ext cx="189000" cy="141480"/>
          </a:xfrm>
          <a:custGeom>
            <a:avLst/>
            <a:gdLst/>
            <a:ahLst/>
            <a:rect l="l" t="t" r="r" b="b"/>
            <a:pathLst>
              <a:path w="236" h="178">
                <a:moveTo>
                  <a:pt x="200" y="174"/>
                </a:moveTo>
                <a:lnTo>
                  <a:pt x="194" y="176"/>
                </a:lnTo>
                <a:lnTo>
                  <a:pt x="188" y="176"/>
                </a:lnTo>
                <a:lnTo>
                  <a:pt x="184" y="178"/>
                </a:lnTo>
                <a:lnTo>
                  <a:pt x="178" y="178"/>
                </a:lnTo>
                <a:lnTo>
                  <a:pt x="171" y="176"/>
                </a:lnTo>
                <a:lnTo>
                  <a:pt x="165" y="176"/>
                </a:lnTo>
                <a:lnTo>
                  <a:pt x="159" y="174"/>
                </a:lnTo>
                <a:lnTo>
                  <a:pt x="152" y="172"/>
                </a:lnTo>
                <a:lnTo>
                  <a:pt x="144" y="169"/>
                </a:lnTo>
                <a:lnTo>
                  <a:pt x="136" y="165"/>
                </a:lnTo>
                <a:lnTo>
                  <a:pt x="129" y="161"/>
                </a:lnTo>
                <a:lnTo>
                  <a:pt x="121" y="155"/>
                </a:lnTo>
                <a:lnTo>
                  <a:pt x="113" y="149"/>
                </a:lnTo>
                <a:lnTo>
                  <a:pt x="106" y="144"/>
                </a:lnTo>
                <a:lnTo>
                  <a:pt x="96" y="136"/>
                </a:lnTo>
                <a:lnTo>
                  <a:pt x="86" y="126"/>
                </a:lnTo>
                <a:lnTo>
                  <a:pt x="75" y="119"/>
                </a:lnTo>
                <a:lnTo>
                  <a:pt x="65" y="109"/>
                </a:lnTo>
                <a:lnTo>
                  <a:pt x="56" y="101"/>
                </a:lnTo>
                <a:lnTo>
                  <a:pt x="48" y="92"/>
                </a:lnTo>
                <a:lnTo>
                  <a:pt x="40" y="84"/>
                </a:lnTo>
                <a:lnTo>
                  <a:pt x="33" y="75"/>
                </a:lnTo>
                <a:lnTo>
                  <a:pt x="27" y="67"/>
                </a:lnTo>
                <a:lnTo>
                  <a:pt x="21" y="59"/>
                </a:lnTo>
                <a:lnTo>
                  <a:pt x="15" y="50"/>
                </a:lnTo>
                <a:lnTo>
                  <a:pt x="11" y="42"/>
                </a:lnTo>
                <a:lnTo>
                  <a:pt x="8" y="34"/>
                </a:lnTo>
                <a:lnTo>
                  <a:pt x="6" y="27"/>
                </a:lnTo>
                <a:lnTo>
                  <a:pt x="2" y="21"/>
                </a:lnTo>
                <a:lnTo>
                  <a:pt x="2" y="13"/>
                </a:lnTo>
                <a:lnTo>
                  <a:pt x="0" y="5"/>
                </a:lnTo>
                <a:lnTo>
                  <a:pt x="0" y="0"/>
                </a:lnTo>
                <a:lnTo>
                  <a:pt x="15" y="0"/>
                </a:lnTo>
                <a:lnTo>
                  <a:pt x="31" y="0"/>
                </a:lnTo>
                <a:lnTo>
                  <a:pt x="48" y="0"/>
                </a:lnTo>
                <a:lnTo>
                  <a:pt x="65" y="2"/>
                </a:lnTo>
                <a:lnTo>
                  <a:pt x="84" y="2"/>
                </a:lnTo>
                <a:lnTo>
                  <a:pt x="106" y="4"/>
                </a:lnTo>
                <a:lnTo>
                  <a:pt x="127" y="7"/>
                </a:lnTo>
                <a:lnTo>
                  <a:pt x="150" y="11"/>
                </a:lnTo>
                <a:lnTo>
                  <a:pt x="159" y="13"/>
                </a:lnTo>
                <a:lnTo>
                  <a:pt x="171" y="17"/>
                </a:lnTo>
                <a:lnTo>
                  <a:pt x="180" y="19"/>
                </a:lnTo>
                <a:lnTo>
                  <a:pt x="188" y="23"/>
                </a:lnTo>
                <a:lnTo>
                  <a:pt x="196" y="28"/>
                </a:lnTo>
                <a:lnTo>
                  <a:pt x="203" y="32"/>
                </a:lnTo>
                <a:lnTo>
                  <a:pt x="209" y="38"/>
                </a:lnTo>
                <a:lnTo>
                  <a:pt x="215" y="42"/>
                </a:lnTo>
                <a:lnTo>
                  <a:pt x="221" y="48"/>
                </a:lnTo>
                <a:lnTo>
                  <a:pt x="225" y="53"/>
                </a:lnTo>
                <a:lnTo>
                  <a:pt x="228" y="61"/>
                </a:lnTo>
                <a:lnTo>
                  <a:pt x="230" y="67"/>
                </a:lnTo>
                <a:lnTo>
                  <a:pt x="232" y="73"/>
                </a:lnTo>
                <a:lnTo>
                  <a:pt x="234" y="78"/>
                </a:lnTo>
                <a:lnTo>
                  <a:pt x="236" y="86"/>
                </a:lnTo>
                <a:lnTo>
                  <a:pt x="236" y="92"/>
                </a:lnTo>
                <a:lnTo>
                  <a:pt x="234" y="105"/>
                </a:lnTo>
                <a:lnTo>
                  <a:pt x="234" y="117"/>
                </a:lnTo>
                <a:lnTo>
                  <a:pt x="230" y="130"/>
                </a:lnTo>
                <a:lnTo>
                  <a:pt x="226" y="142"/>
                </a:lnTo>
                <a:lnTo>
                  <a:pt x="221" y="151"/>
                </a:lnTo>
                <a:lnTo>
                  <a:pt x="215" y="161"/>
                </a:lnTo>
                <a:lnTo>
                  <a:pt x="207" y="169"/>
                </a:lnTo>
                <a:lnTo>
                  <a:pt x="203" y="171"/>
                </a:lnTo>
                <a:lnTo>
                  <a:pt x="200" y="17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Freeform 169"/>
          <p:cNvSpPr/>
          <p:nvPr/>
        </p:nvSpPr>
        <p:spPr>
          <a:xfrm>
            <a:off x="6126120" y="3214800"/>
            <a:ext cx="393840" cy="507960"/>
          </a:xfrm>
          <a:custGeom>
            <a:avLst/>
            <a:gdLst/>
            <a:ahLst/>
            <a:rect l="l" t="t" r="r" b="b"/>
            <a:pathLst>
              <a:path w="495" h="641">
                <a:moveTo>
                  <a:pt x="297" y="137"/>
                </a:moveTo>
                <a:lnTo>
                  <a:pt x="293" y="131"/>
                </a:lnTo>
                <a:lnTo>
                  <a:pt x="289" y="127"/>
                </a:lnTo>
                <a:lnTo>
                  <a:pt x="286" y="125"/>
                </a:lnTo>
                <a:lnTo>
                  <a:pt x="282" y="123"/>
                </a:lnTo>
                <a:lnTo>
                  <a:pt x="276" y="119"/>
                </a:lnTo>
                <a:lnTo>
                  <a:pt x="270" y="119"/>
                </a:lnTo>
                <a:lnTo>
                  <a:pt x="264" y="117"/>
                </a:lnTo>
                <a:lnTo>
                  <a:pt x="257" y="117"/>
                </a:lnTo>
                <a:lnTo>
                  <a:pt x="249" y="115"/>
                </a:lnTo>
                <a:lnTo>
                  <a:pt x="241" y="115"/>
                </a:lnTo>
                <a:lnTo>
                  <a:pt x="232" y="117"/>
                </a:lnTo>
                <a:lnTo>
                  <a:pt x="220" y="117"/>
                </a:lnTo>
                <a:lnTo>
                  <a:pt x="211" y="119"/>
                </a:lnTo>
                <a:lnTo>
                  <a:pt x="197" y="119"/>
                </a:lnTo>
                <a:lnTo>
                  <a:pt x="186" y="121"/>
                </a:lnTo>
                <a:lnTo>
                  <a:pt x="172" y="123"/>
                </a:lnTo>
                <a:lnTo>
                  <a:pt x="159" y="125"/>
                </a:lnTo>
                <a:lnTo>
                  <a:pt x="145" y="127"/>
                </a:lnTo>
                <a:lnTo>
                  <a:pt x="132" y="127"/>
                </a:lnTo>
                <a:lnTo>
                  <a:pt x="119" y="129"/>
                </a:lnTo>
                <a:lnTo>
                  <a:pt x="105" y="127"/>
                </a:lnTo>
                <a:lnTo>
                  <a:pt x="94" y="127"/>
                </a:lnTo>
                <a:lnTo>
                  <a:pt x="82" y="125"/>
                </a:lnTo>
                <a:lnTo>
                  <a:pt x="71" y="123"/>
                </a:lnTo>
                <a:lnTo>
                  <a:pt x="61" y="119"/>
                </a:lnTo>
                <a:lnTo>
                  <a:pt x="49" y="115"/>
                </a:lnTo>
                <a:lnTo>
                  <a:pt x="40" y="112"/>
                </a:lnTo>
                <a:lnTo>
                  <a:pt x="30" y="106"/>
                </a:lnTo>
                <a:lnTo>
                  <a:pt x="23" y="100"/>
                </a:lnTo>
                <a:lnTo>
                  <a:pt x="13" y="94"/>
                </a:lnTo>
                <a:lnTo>
                  <a:pt x="5" y="87"/>
                </a:lnTo>
                <a:lnTo>
                  <a:pt x="0" y="77"/>
                </a:lnTo>
                <a:lnTo>
                  <a:pt x="15" y="75"/>
                </a:lnTo>
                <a:lnTo>
                  <a:pt x="32" y="71"/>
                </a:lnTo>
                <a:lnTo>
                  <a:pt x="49" y="67"/>
                </a:lnTo>
                <a:lnTo>
                  <a:pt x="65" y="66"/>
                </a:lnTo>
                <a:lnTo>
                  <a:pt x="80" y="62"/>
                </a:lnTo>
                <a:lnTo>
                  <a:pt x="94" y="60"/>
                </a:lnTo>
                <a:lnTo>
                  <a:pt x="109" y="56"/>
                </a:lnTo>
                <a:lnTo>
                  <a:pt x="122" y="54"/>
                </a:lnTo>
                <a:lnTo>
                  <a:pt x="136" y="50"/>
                </a:lnTo>
                <a:lnTo>
                  <a:pt x="147" y="48"/>
                </a:lnTo>
                <a:lnTo>
                  <a:pt x="161" y="46"/>
                </a:lnTo>
                <a:lnTo>
                  <a:pt x="172" y="43"/>
                </a:lnTo>
                <a:lnTo>
                  <a:pt x="184" y="41"/>
                </a:lnTo>
                <a:lnTo>
                  <a:pt x="193" y="39"/>
                </a:lnTo>
                <a:lnTo>
                  <a:pt x="215" y="33"/>
                </a:lnTo>
                <a:lnTo>
                  <a:pt x="232" y="29"/>
                </a:lnTo>
                <a:lnTo>
                  <a:pt x="249" y="25"/>
                </a:lnTo>
                <a:lnTo>
                  <a:pt x="263" y="21"/>
                </a:lnTo>
                <a:lnTo>
                  <a:pt x="276" y="19"/>
                </a:lnTo>
                <a:lnTo>
                  <a:pt x="286" y="16"/>
                </a:lnTo>
                <a:lnTo>
                  <a:pt x="295" y="14"/>
                </a:lnTo>
                <a:lnTo>
                  <a:pt x="303" y="10"/>
                </a:lnTo>
                <a:lnTo>
                  <a:pt x="309" y="8"/>
                </a:lnTo>
                <a:lnTo>
                  <a:pt x="311" y="6"/>
                </a:lnTo>
                <a:lnTo>
                  <a:pt x="314" y="4"/>
                </a:lnTo>
                <a:lnTo>
                  <a:pt x="318" y="2"/>
                </a:lnTo>
                <a:lnTo>
                  <a:pt x="322" y="2"/>
                </a:lnTo>
                <a:lnTo>
                  <a:pt x="328" y="0"/>
                </a:lnTo>
                <a:lnTo>
                  <a:pt x="334" y="0"/>
                </a:lnTo>
                <a:lnTo>
                  <a:pt x="339" y="0"/>
                </a:lnTo>
                <a:lnTo>
                  <a:pt x="345" y="2"/>
                </a:lnTo>
                <a:lnTo>
                  <a:pt x="353" y="2"/>
                </a:lnTo>
                <a:lnTo>
                  <a:pt x="360" y="4"/>
                </a:lnTo>
                <a:lnTo>
                  <a:pt x="370" y="8"/>
                </a:lnTo>
                <a:lnTo>
                  <a:pt x="378" y="10"/>
                </a:lnTo>
                <a:lnTo>
                  <a:pt x="387" y="16"/>
                </a:lnTo>
                <a:lnTo>
                  <a:pt x="399" y="19"/>
                </a:lnTo>
                <a:lnTo>
                  <a:pt x="408" y="25"/>
                </a:lnTo>
                <a:lnTo>
                  <a:pt x="420" y="31"/>
                </a:lnTo>
                <a:lnTo>
                  <a:pt x="430" y="37"/>
                </a:lnTo>
                <a:lnTo>
                  <a:pt x="437" y="44"/>
                </a:lnTo>
                <a:lnTo>
                  <a:pt x="445" y="50"/>
                </a:lnTo>
                <a:lnTo>
                  <a:pt x="453" y="56"/>
                </a:lnTo>
                <a:lnTo>
                  <a:pt x="458" y="60"/>
                </a:lnTo>
                <a:lnTo>
                  <a:pt x="466" y="66"/>
                </a:lnTo>
                <a:lnTo>
                  <a:pt x="470" y="69"/>
                </a:lnTo>
                <a:lnTo>
                  <a:pt x="476" y="75"/>
                </a:lnTo>
                <a:lnTo>
                  <a:pt x="479" y="79"/>
                </a:lnTo>
                <a:lnTo>
                  <a:pt x="483" y="83"/>
                </a:lnTo>
                <a:lnTo>
                  <a:pt x="487" y="87"/>
                </a:lnTo>
                <a:lnTo>
                  <a:pt x="489" y="90"/>
                </a:lnTo>
                <a:lnTo>
                  <a:pt x="491" y="92"/>
                </a:lnTo>
                <a:lnTo>
                  <a:pt x="493" y="96"/>
                </a:lnTo>
                <a:lnTo>
                  <a:pt x="495" y="98"/>
                </a:lnTo>
                <a:lnTo>
                  <a:pt x="495" y="100"/>
                </a:lnTo>
                <a:lnTo>
                  <a:pt x="493" y="106"/>
                </a:lnTo>
                <a:lnTo>
                  <a:pt x="493" y="110"/>
                </a:lnTo>
                <a:lnTo>
                  <a:pt x="489" y="114"/>
                </a:lnTo>
                <a:lnTo>
                  <a:pt x="487" y="117"/>
                </a:lnTo>
                <a:lnTo>
                  <a:pt x="483" y="123"/>
                </a:lnTo>
                <a:lnTo>
                  <a:pt x="479" y="127"/>
                </a:lnTo>
                <a:lnTo>
                  <a:pt x="470" y="137"/>
                </a:lnTo>
                <a:lnTo>
                  <a:pt x="464" y="138"/>
                </a:lnTo>
                <a:lnTo>
                  <a:pt x="460" y="142"/>
                </a:lnTo>
                <a:lnTo>
                  <a:pt x="456" y="150"/>
                </a:lnTo>
                <a:lnTo>
                  <a:pt x="451" y="158"/>
                </a:lnTo>
                <a:lnTo>
                  <a:pt x="447" y="167"/>
                </a:lnTo>
                <a:lnTo>
                  <a:pt x="441" y="177"/>
                </a:lnTo>
                <a:lnTo>
                  <a:pt x="437" y="190"/>
                </a:lnTo>
                <a:lnTo>
                  <a:pt x="431" y="204"/>
                </a:lnTo>
                <a:lnTo>
                  <a:pt x="428" y="219"/>
                </a:lnTo>
                <a:lnTo>
                  <a:pt x="424" y="236"/>
                </a:lnTo>
                <a:lnTo>
                  <a:pt x="418" y="254"/>
                </a:lnTo>
                <a:lnTo>
                  <a:pt x="414" y="275"/>
                </a:lnTo>
                <a:lnTo>
                  <a:pt x="408" y="296"/>
                </a:lnTo>
                <a:lnTo>
                  <a:pt x="405" y="319"/>
                </a:lnTo>
                <a:lnTo>
                  <a:pt x="399" y="342"/>
                </a:lnTo>
                <a:lnTo>
                  <a:pt x="395" y="367"/>
                </a:lnTo>
                <a:lnTo>
                  <a:pt x="389" y="396"/>
                </a:lnTo>
                <a:lnTo>
                  <a:pt x="382" y="421"/>
                </a:lnTo>
                <a:lnTo>
                  <a:pt x="376" y="446"/>
                </a:lnTo>
                <a:lnTo>
                  <a:pt x="370" y="469"/>
                </a:lnTo>
                <a:lnTo>
                  <a:pt x="364" y="490"/>
                </a:lnTo>
                <a:lnTo>
                  <a:pt x="359" y="509"/>
                </a:lnTo>
                <a:lnTo>
                  <a:pt x="353" y="526"/>
                </a:lnTo>
                <a:lnTo>
                  <a:pt x="349" y="543"/>
                </a:lnTo>
                <a:lnTo>
                  <a:pt x="345" y="559"/>
                </a:lnTo>
                <a:lnTo>
                  <a:pt x="339" y="572"/>
                </a:lnTo>
                <a:lnTo>
                  <a:pt x="335" y="584"/>
                </a:lnTo>
                <a:lnTo>
                  <a:pt x="332" y="595"/>
                </a:lnTo>
                <a:lnTo>
                  <a:pt x="330" y="603"/>
                </a:lnTo>
                <a:lnTo>
                  <a:pt x="326" y="611"/>
                </a:lnTo>
                <a:lnTo>
                  <a:pt x="324" y="618"/>
                </a:lnTo>
                <a:lnTo>
                  <a:pt x="320" y="622"/>
                </a:lnTo>
                <a:lnTo>
                  <a:pt x="318" y="626"/>
                </a:lnTo>
                <a:lnTo>
                  <a:pt x="316" y="630"/>
                </a:lnTo>
                <a:lnTo>
                  <a:pt x="312" y="634"/>
                </a:lnTo>
                <a:lnTo>
                  <a:pt x="311" y="636"/>
                </a:lnTo>
                <a:lnTo>
                  <a:pt x="307" y="638"/>
                </a:lnTo>
                <a:lnTo>
                  <a:pt x="303" y="639"/>
                </a:lnTo>
                <a:lnTo>
                  <a:pt x="295" y="641"/>
                </a:lnTo>
                <a:lnTo>
                  <a:pt x="289" y="641"/>
                </a:lnTo>
                <a:lnTo>
                  <a:pt x="282" y="641"/>
                </a:lnTo>
                <a:lnTo>
                  <a:pt x="276" y="638"/>
                </a:lnTo>
                <a:lnTo>
                  <a:pt x="272" y="634"/>
                </a:lnTo>
                <a:lnTo>
                  <a:pt x="266" y="632"/>
                </a:lnTo>
                <a:lnTo>
                  <a:pt x="263" y="626"/>
                </a:lnTo>
                <a:lnTo>
                  <a:pt x="261" y="620"/>
                </a:lnTo>
                <a:lnTo>
                  <a:pt x="257" y="613"/>
                </a:lnTo>
                <a:lnTo>
                  <a:pt x="255" y="603"/>
                </a:lnTo>
                <a:lnTo>
                  <a:pt x="255" y="591"/>
                </a:lnTo>
                <a:lnTo>
                  <a:pt x="255" y="580"/>
                </a:lnTo>
                <a:lnTo>
                  <a:pt x="255" y="565"/>
                </a:lnTo>
                <a:lnTo>
                  <a:pt x="255" y="549"/>
                </a:lnTo>
                <a:lnTo>
                  <a:pt x="257" y="532"/>
                </a:lnTo>
                <a:lnTo>
                  <a:pt x="259" y="511"/>
                </a:lnTo>
                <a:lnTo>
                  <a:pt x="263" y="492"/>
                </a:lnTo>
                <a:lnTo>
                  <a:pt x="266" y="469"/>
                </a:lnTo>
                <a:lnTo>
                  <a:pt x="272" y="444"/>
                </a:lnTo>
                <a:lnTo>
                  <a:pt x="278" y="419"/>
                </a:lnTo>
                <a:lnTo>
                  <a:pt x="284" y="392"/>
                </a:lnTo>
                <a:lnTo>
                  <a:pt x="288" y="363"/>
                </a:lnTo>
                <a:lnTo>
                  <a:pt x="291" y="336"/>
                </a:lnTo>
                <a:lnTo>
                  <a:pt x="295" y="313"/>
                </a:lnTo>
                <a:lnTo>
                  <a:pt x="297" y="288"/>
                </a:lnTo>
                <a:lnTo>
                  <a:pt x="299" y="267"/>
                </a:lnTo>
                <a:lnTo>
                  <a:pt x="301" y="246"/>
                </a:lnTo>
                <a:lnTo>
                  <a:pt x="303" y="229"/>
                </a:lnTo>
                <a:lnTo>
                  <a:pt x="303" y="211"/>
                </a:lnTo>
                <a:lnTo>
                  <a:pt x="305" y="196"/>
                </a:lnTo>
                <a:lnTo>
                  <a:pt x="305" y="181"/>
                </a:lnTo>
                <a:lnTo>
                  <a:pt x="303" y="169"/>
                </a:lnTo>
                <a:lnTo>
                  <a:pt x="303" y="160"/>
                </a:lnTo>
                <a:lnTo>
                  <a:pt x="301" y="150"/>
                </a:lnTo>
                <a:lnTo>
                  <a:pt x="301" y="144"/>
                </a:lnTo>
                <a:lnTo>
                  <a:pt x="299" y="138"/>
                </a:lnTo>
                <a:lnTo>
                  <a:pt x="297" y="1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170"/>
          <p:cNvSpPr/>
          <p:nvPr/>
        </p:nvSpPr>
        <p:spPr>
          <a:xfrm>
            <a:off x="5780160" y="2925720"/>
            <a:ext cx="247680" cy="450720"/>
          </a:xfrm>
          <a:custGeom>
            <a:avLst/>
            <a:gdLst/>
            <a:ahLst/>
            <a:rect l="l" t="t" r="r" b="b"/>
            <a:pathLst>
              <a:path w="311" h="569">
                <a:moveTo>
                  <a:pt x="286" y="35"/>
                </a:moveTo>
                <a:lnTo>
                  <a:pt x="288" y="39"/>
                </a:lnTo>
                <a:lnTo>
                  <a:pt x="290" y="45"/>
                </a:lnTo>
                <a:lnTo>
                  <a:pt x="292" y="50"/>
                </a:lnTo>
                <a:lnTo>
                  <a:pt x="295" y="58"/>
                </a:lnTo>
                <a:lnTo>
                  <a:pt x="297" y="66"/>
                </a:lnTo>
                <a:lnTo>
                  <a:pt x="299" y="75"/>
                </a:lnTo>
                <a:lnTo>
                  <a:pt x="301" y="85"/>
                </a:lnTo>
                <a:lnTo>
                  <a:pt x="303" y="95"/>
                </a:lnTo>
                <a:lnTo>
                  <a:pt x="305" y="106"/>
                </a:lnTo>
                <a:lnTo>
                  <a:pt x="305" y="120"/>
                </a:lnTo>
                <a:lnTo>
                  <a:pt x="307" y="131"/>
                </a:lnTo>
                <a:lnTo>
                  <a:pt x="309" y="144"/>
                </a:lnTo>
                <a:lnTo>
                  <a:pt x="309" y="160"/>
                </a:lnTo>
                <a:lnTo>
                  <a:pt x="309" y="175"/>
                </a:lnTo>
                <a:lnTo>
                  <a:pt x="311" y="191"/>
                </a:lnTo>
                <a:lnTo>
                  <a:pt x="311" y="208"/>
                </a:lnTo>
                <a:lnTo>
                  <a:pt x="309" y="227"/>
                </a:lnTo>
                <a:lnTo>
                  <a:pt x="305" y="246"/>
                </a:lnTo>
                <a:lnTo>
                  <a:pt x="301" y="265"/>
                </a:lnTo>
                <a:lnTo>
                  <a:pt x="299" y="283"/>
                </a:lnTo>
                <a:lnTo>
                  <a:pt x="295" y="300"/>
                </a:lnTo>
                <a:lnTo>
                  <a:pt x="290" y="317"/>
                </a:lnTo>
                <a:lnTo>
                  <a:pt x="280" y="350"/>
                </a:lnTo>
                <a:lnTo>
                  <a:pt x="269" y="381"/>
                </a:lnTo>
                <a:lnTo>
                  <a:pt x="263" y="394"/>
                </a:lnTo>
                <a:lnTo>
                  <a:pt x="255" y="409"/>
                </a:lnTo>
                <a:lnTo>
                  <a:pt x="249" y="423"/>
                </a:lnTo>
                <a:lnTo>
                  <a:pt x="242" y="436"/>
                </a:lnTo>
                <a:lnTo>
                  <a:pt x="232" y="450"/>
                </a:lnTo>
                <a:lnTo>
                  <a:pt x="224" y="463"/>
                </a:lnTo>
                <a:lnTo>
                  <a:pt x="213" y="477"/>
                </a:lnTo>
                <a:lnTo>
                  <a:pt x="201" y="488"/>
                </a:lnTo>
                <a:lnTo>
                  <a:pt x="192" y="500"/>
                </a:lnTo>
                <a:lnTo>
                  <a:pt x="182" y="509"/>
                </a:lnTo>
                <a:lnTo>
                  <a:pt x="173" y="519"/>
                </a:lnTo>
                <a:lnTo>
                  <a:pt x="165" y="528"/>
                </a:lnTo>
                <a:lnTo>
                  <a:pt x="157" y="536"/>
                </a:lnTo>
                <a:lnTo>
                  <a:pt x="150" y="542"/>
                </a:lnTo>
                <a:lnTo>
                  <a:pt x="142" y="548"/>
                </a:lnTo>
                <a:lnTo>
                  <a:pt x="136" y="553"/>
                </a:lnTo>
                <a:lnTo>
                  <a:pt x="130" y="557"/>
                </a:lnTo>
                <a:lnTo>
                  <a:pt x="127" y="561"/>
                </a:lnTo>
                <a:lnTo>
                  <a:pt x="121" y="565"/>
                </a:lnTo>
                <a:lnTo>
                  <a:pt x="117" y="567"/>
                </a:lnTo>
                <a:lnTo>
                  <a:pt x="115" y="569"/>
                </a:lnTo>
                <a:lnTo>
                  <a:pt x="113" y="569"/>
                </a:lnTo>
                <a:lnTo>
                  <a:pt x="109" y="569"/>
                </a:lnTo>
                <a:lnTo>
                  <a:pt x="107" y="567"/>
                </a:lnTo>
                <a:lnTo>
                  <a:pt x="104" y="567"/>
                </a:lnTo>
                <a:lnTo>
                  <a:pt x="100" y="565"/>
                </a:lnTo>
                <a:lnTo>
                  <a:pt x="94" y="559"/>
                </a:lnTo>
                <a:lnTo>
                  <a:pt x="86" y="551"/>
                </a:lnTo>
                <a:lnTo>
                  <a:pt x="77" y="544"/>
                </a:lnTo>
                <a:lnTo>
                  <a:pt x="69" y="534"/>
                </a:lnTo>
                <a:lnTo>
                  <a:pt x="59" y="523"/>
                </a:lnTo>
                <a:lnTo>
                  <a:pt x="50" y="511"/>
                </a:lnTo>
                <a:lnTo>
                  <a:pt x="44" y="503"/>
                </a:lnTo>
                <a:lnTo>
                  <a:pt x="36" y="498"/>
                </a:lnTo>
                <a:lnTo>
                  <a:pt x="33" y="492"/>
                </a:lnTo>
                <a:lnTo>
                  <a:pt x="27" y="486"/>
                </a:lnTo>
                <a:lnTo>
                  <a:pt x="23" y="480"/>
                </a:lnTo>
                <a:lnTo>
                  <a:pt x="19" y="475"/>
                </a:lnTo>
                <a:lnTo>
                  <a:pt x="11" y="465"/>
                </a:lnTo>
                <a:lnTo>
                  <a:pt x="6" y="455"/>
                </a:lnTo>
                <a:lnTo>
                  <a:pt x="4" y="446"/>
                </a:lnTo>
                <a:lnTo>
                  <a:pt x="2" y="438"/>
                </a:lnTo>
                <a:lnTo>
                  <a:pt x="0" y="429"/>
                </a:lnTo>
                <a:lnTo>
                  <a:pt x="0" y="427"/>
                </a:lnTo>
                <a:lnTo>
                  <a:pt x="2" y="423"/>
                </a:lnTo>
                <a:lnTo>
                  <a:pt x="4" y="421"/>
                </a:lnTo>
                <a:lnTo>
                  <a:pt x="6" y="417"/>
                </a:lnTo>
                <a:lnTo>
                  <a:pt x="8" y="411"/>
                </a:lnTo>
                <a:lnTo>
                  <a:pt x="11" y="407"/>
                </a:lnTo>
                <a:lnTo>
                  <a:pt x="15" y="402"/>
                </a:lnTo>
                <a:lnTo>
                  <a:pt x="19" y="396"/>
                </a:lnTo>
                <a:lnTo>
                  <a:pt x="25" y="390"/>
                </a:lnTo>
                <a:lnTo>
                  <a:pt x="31" y="382"/>
                </a:lnTo>
                <a:lnTo>
                  <a:pt x="36" y="377"/>
                </a:lnTo>
                <a:lnTo>
                  <a:pt x="42" y="369"/>
                </a:lnTo>
                <a:lnTo>
                  <a:pt x="50" y="361"/>
                </a:lnTo>
                <a:lnTo>
                  <a:pt x="57" y="354"/>
                </a:lnTo>
                <a:lnTo>
                  <a:pt x="65" y="344"/>
                </a:lnTo>
                <a:lnTo>
                  <a:pt x="75" y="336"/>
                </a:lnTo>
                <a:lnTo>
                  <a:pt x="82" y="327"/>
                </a:lnTo>
                <a:lnTo>
                  <a:pt x="88" y="317"/>
                </a:lnTo>
                <a:lnTo>
                  <a:pt x="96" y="308"/>
                </a:lnTo>
                <a:lnTo>
                  <a:pt x="104" y="296"/>
                </a:lnTo>
                <a:lnTo>
                  <a:pt x="109" y="286"/>
                </a:lnTo>
                <a:lnTo>
                  <a:pt x="117" y="273"/>
                </a:lnTo>
                <a:lnTo>
                  <a:pt x="123" y="262"/>
                </a:lnTo>
                <a:lnTo>
                  <a:pt x="130" y="248"/>
                </a:lnTo>
                <a:lnTo>
                  <a:pt x="138" y="237"/>
                </a:lnTo>
                <a:lnTo>
                  <a:pt x="144" y="221"/>
                </a:lnTo>
                <a:lnTo>
                  <a:pt x="152" y="208"/>
                </a:lnTo>
                <a:lnTo>
                  <a:pt x="159" y="192"/>
                </a:lnTo>
                <a:lnTo>
                  <a:pt x="165" y="177"/>
                </a:lnTo>
                <a:lnTo>
                  <a:pt x="173" y="162"/>
                </a:lnTo>
                <a:lnTo>
                  <a:pt x="180" y="144"/>
                </a:lnTo>
                <a:lnTo>
                  <a:pt x="186" y="127"/>
                </a:lnTo>
                <a:lnTo>
                  <a:pt x="194" y="112"/>
                </a:lnTo>
                <a:lnTo>
                  <a:pt x="199" y="98"/>
                </a:lnTo>
                <a:lnTo>
                  <a:pt x="205" y="85"/>
                </a:lnTo>
                <a:lnTo>
                  <a:pt x="211" y="73"/>
                </a:lnTo>
                <a:lnTo>
                  <a:pt x="217" y="62"/>
                </a:lnTo>
                <a:lnTo>
                  <a:pt x="223" y="50"/>
                </a:lnTo>
                <a:lnTo>
                  <a:pt x="228" y="41"/>
                </a:lnTo>
                <a:lnTo>
                  <a:pt x="232" y="33"/>
                </a:lnTo>
                <a:lnTo>
                  <a:pt x="238" y="25"/>
                </a:lnTo>
                <a:lnTo>
                  <a:pt x="242" y="18"/>
                </a:lnTo>
                <a:lnTo>
                  <a:pt x="246" y="12"/>
                </a:lnTo>
                <a:lnTo>
                  <a:pt x="249" y="8"/>
                </a:lnTo>
                <a:lnTo>
                  <a:pt x="253" y="4"/>
                </a:lnTo>
                <a:lnTo>
                  <a:pt x="255" y="2"/>
                </a:lnTo>
                <a:lnTo>
                  <a:pt x="259" y="0"/>
                </a:lnTo>
                <a:lnTo>
                  <a:pt x="261" y="0"/>
                </a:lnTo>
                <a:lnTo>
                  <a:pt x="265" y="0"/>
                </a:lnTo>
                <a:lnTo>
                  <a:pt x="269" y="2"/>
                </a:lnTo>
                <a:lnTo>
                  <a:pt x="271" y="4"/>
                </a:lnTo>
                <a:lnTo>
                  <a:pt x="272" y="8"/>
                </a:lnTo>
                <a:lnTo>
                  <a:pt x="276" y="14"/>
                </a:lnTo>
                <a:lnTo>
                  <a:pt x="278" y="20"/>
                </a:lnTo>
                <a:lnTo>
                  <a:pt x="282" y="25"/>
                </a:lnTo>
                <a:lnTo>
                  <a:pt x="286" y="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171"/>
          <p:cNvSpPr/>
          <p:nvPr/>
        </p:nvSpPr>
        <p:spPr>
          <a:xfrm>
            <a:off x="5948280" y="2884320"/>
            <a:ext cx="1644840" cy="328680"/>
          </a:xfrm>
          <a:custGeom>
            <a:avLst/>
            <a:gdLst/>
            <a:ahLst/>
            <a:rect l="l" t="t" r="r" b="b"/>
            <a:pathLst>
              <a:path w="2071" h="412">
                <a:moveTo>
                  <a:pt x="0" y="201"/>
                </a:moveTo>
                <a:lnTo>
                  <a:pt x="58" y="197"/>
                </a:lnTo>
                <a:lnTo>
                  <a:pt x="113" y="192"/>
                </a:lnTo>
                <a:lnTo>
                  <a:pt x="167" y="188"/>
                </a:lnTo>
                <a:lnTo>
                  <a:pt x="219" y="184"/>
                </a:lnTo>
                <a:lnTo>
                  <a:pt x="244" y="182"/>
                </a:lnTo>
                <a:lnTo>
                  <a:pt x="269" y="180"/>
                </a:lnTo>
                <a:lnTo>
                  <a:pt x="292" y="178"/>
                </a:lnTo>
                <a:lnTo>
                  <a:pt x="317" y="176"/>
                </a:lnTo>
                <a:lnTo>
                  <a:pt x="340" y="174"/>
                </a:lnTo>
                <a:lnTo>
                  <a:pt x="363" y="172"/>
                </a:lnTo>
                <a:lnTo>
                  <a:pt x="384" y="171"/>
                </a:lnTo>
                <a:lnTo>
                  <a:pt x="407" y="169"/>
                </a:lnTo>
                <a:lnTo>
                  <a:pt x="428" y="167"/>
                </a:lnTo>
                <a:lnTo>
                  <a:pt x="449" y="165"/>
                </a:lnTo>
                <a:lnTo>
                  <a:pt x="468" y="163"/>
                </a:lnTo>
                <a:lnTo>
                  <a:pt x="488" y="161"/>
                </a:lnTo>
                <a:lnTo>
                  <a:pt x="507" y="159"/>
                </a:lnTo>
                <a:lnTo>
                  <a:pt x="526" y="157"/>
                </a:lnTo>
                <a:lnTo>
                  <a:pt x="543" y="155"/>
                </a:lnTo>
                <a:lnTo>
                  <a:pt x="562" y="153"/>
                </a:lnTo>
                <a:lnTo>
                  <a:pt x="580" y="153"/>
                </a:lnTo>
                <a:lnTo>
                  <a:pt x="595" y="151"/>
                </a:lnTo>
                <a:lnTo>
                  <a:pt x="610" y="149"/>
                </a:lnTo>
                <a:lnTo>
                  <a:pt x="626" y="147"/>
                </a:lnTo>
                <a:lnTo>
                  <a:pt x="641" y="147"/>
                </a:lnTo>
                <a:lnTo>
                  <a:pt x="656" y="146"/>
                </a:lnTo>
                <a:lnTo>
                  <a:pt x="670" y="144"/>
                </a:lnTo>
                <a:lnTo>
                  <a:pt x="683" y="144"/>
                </a:lnTo>
                <a:lnTo>
                  <a:pt x="708" y="142"/>
                </a:lnTo>
                <a:lnTo>
                  <a:pt x="737" y="138"/>
                </a:lnTo>
                <a:lnTo>
                  <a:pt x="766" y="136"/>
                </a:lnTo>
                <a:lnTo>
                  <a:pt x="797" y="132"/>
                </a:lnTo>
                <a:lnTo>
                  <a:pt x="827" y="128"/>
                </a:lnTo>
                <a:lnTo>
                  <a:pt x="862" y="126"/>
                </a:lnTo>
                <a:lnTo>
                  <a:pt x="896" y="123"/>
                </a:lnTo>
                <a:lnTo>
                  <a:pt x="931" y="117"/>
                </a:lnTo>
                <a:lnTo>
                  <a:pt x="969" y="113"/>
                </a:lnTo>
                <a:lnTo>
                  <a:pt x="1008" y="109"/>
                </a:lnTo>
                <a:lnTo>
                  <a:pt x="1048" y="103"/>
                </a:lnTo>
                <a:lnTo>
                  <a:pt x="1088" y="98"/>
                </a:lnTo>
                <a:lnTo>
                  <a:pt x="1131" y="92"/>
                </a:lnTo>
                <a:lnTo>
                  <a:pt x="1175" y="86"/>
                </a:lnTo>
                <a:lnTo>
                  <a:pt x="1219" y="80"/>
                </a:lnTo>
                <a:lnTo>
                  <a:pt x="1265" y="75"/>
                </a:lnTo>
                <a:lnTo>
                  <a:pt x="1286" y="71"/>
                </a:lnTo>
                <a:lnTo>
                  <a:pt x="1307" y="69"/>
                </a:lnTo>
                <a:lnTo>
                  <a:pt x="1328" y="67"/>
                </a:lnTo>
                <a:lnTo>
                  <a:pt x="1349" y="65"/>
                </a:lnTo>
                <a:lnTo>
                  <a:pt x="1369" y="63"/>
                </a:lnTo>
                <a:lnTo>
                  <a:pt x="1388" y="61"/>
                </a:lnTo>
                <a:lnTo>
                  <a:pt x="1405" y="59"/>
                </a:lnTo>
                <a:lnTo>
                  <a:pt x="1422" y="57"/>
                </a:lnTo>
                <a:lnTo>
                  <a:pt x="1440" y="53"/>
                </a:lnTo>
                <a:lnTo>
                  <a:pt x="1457" y="51"/>
                </a:lnTo>
                <a:lnTo>
                  <a:pt x="1472" y="50"/>
                </a:lnTo>
                <a:lnTo>
                  <a:pt x="1488" y="48"/>
                </a:lnTo>
                <a:lnTo>
                  <a:pt x="1503" y="46"/>
                </a:lnTo>
                <a:lnTo>
                  <a:pt x="1516" y="44"/>
                </a:lnTo>
                <a:lnTo>
                  <a:pt x="1530" y="42"/>
                </a:lnTo>
                <a:lnTo>
                  <a:pt x="1543" y="40"/>
                </a:lnTo>
                <a:lnTo>
                  <a:pt x="1555" y="38"/>
                </a:lnTo>
                <a:lnTo>
                  <a:pt x="1566" y="36"/>
                </a:lnTo>
                <a:lnTo>
                  <a:pt x="1578" y="34"/>
                </a:lnTo>
                <a:lnTo>
                  <a:pt x="1587" y="32"/>
                </a:lnTo>
                <a:lnTo>
                  <a:pt x="1597" y="30"/>
                </a:lnTo>
                <a:lnTo>
                  <a:pt x="1607" y="30"/>
                </a:lnTo>
                <a:lnTo>
                  <a:pt x="1614" y="28"/>
                </a:lnTo>
                <a:lnTo>
                  <a:pt x="1622" y="27"/>
                </a:lnTo>
                <a:lnTo>
                  <a:pt x="1630" y="25"/>
                </a:lnTo>
                <a:lnTo>
                  <a:pt x="1635" y="23"/>
                </a:lnTo>
                <a:lnTo>
                  <a:pt x="1643" y="23"/>
                </a:lnTo>
                <a:lnTo>
                  <a:pt x="1647" y="21"/>
                </a:lnTo>
                <a:lnTo>
                  <a:pt x="1653" y="19"/>
                </a:lnTo>
                <a:lnTo>
                  <a:pt x="1656" y="19"/>
                </a:lnTo>
                <a:lnTo>
                  <a:pt x="1658" y="17"/>
                </a:lnTo>
                <a:lnTo>
                  <a:pt x="1662" y="15"/>
                </a:lnTo>
                <a:lnTo>
                  <a:pt x="1672" y="11"/>
                </a:lnTo>
                <a:lnTo>
                  <a:pt x="1680" y="7"/>
                </a:lnTo>
                <a:lnTo>
                  <a:pt x="1689" y="4"/>
                </a:lnTo>
                <a:lnTo>
                  <a:pt x="1699" y="2"/>
                </a:lnTo>
                <a:lnTo>
                  <a:pt x="1708" y="0"/>
                </a:lnTo>
                <a:lnTo>
                  <a:pt x="1718" y="0"/>
                </a:lnTo>
                <a:lnTo>
                  <a:pt x="1727" y="2"/>
                </a:lnTo>
                <a:lnTo>
                  <a:pt x="1731" y="2"/>
                </a:lnTo>
                <a:lnTo>
                  <a:pt x="1737" y="4"/>
                </a:lnTo>
                <a:lnTo>
                  <a:pt x="1741" y="7"/>
                </a:lnTo>
                <a:lnTo>
                  <a:pt x="1747" y="9"/>
                </a:lnTo>
                <a:lnTo>
                  <a:pt x="1754" y="13"/>
                </a:lnTo>
                <a:lnTo>
                  <a:pt x="1762" y="17"/>
                </a:lnTo>
                <a:lnTo>
                  <a:pt x="1770" y="21"/>
                </a:lnTo>
                <a:lnTo>
                  <a:pt x="1779" y="27"/>
                </a:lnTo>
                <a:lnTo>
                  <a:pt x="1791" y="32"/>
                </a:lnTo>
                <a:lnTo>
                  <a:pt x="1802" y="38"/>
                </a:lnTo>
                <a:lnTo>
                  <a:pt x="1814" y="46"/>
                </a:lnTo>
                <a:lnTo>
                  <a:pt x="1827" y="53"/>
                </a:lnTo>
                <a:lnTo>
                  <a:pt x="1841" y="61"/>
                </a:lnTo>
                <a:lnTo>
                  <a:pt x="1854" y="69"/>
                </a:lnTo>
                <a:lnTo>
                  <a:pt x="1871" y="78"/>
                </a:lnTo>
                <a:lnTo>
                  <a:pt x="1887" y="88"/>
                </a:lnTo>
                <a:lnTo>
                  <a:pt x="1904" y="98"/>
                </a:lnTo>
                <a:lnTo>
                  <a:pt x="1923" y="109"/>
                </a:lnTo>
                <a:lnTo>
                  <a:pt x="1941" y="119"/>
                </a:lnTo>
                <a:lnTo>
                  <a:pt x="1958" y="130"/>
                </a:lnTo>
                <a:lnTo>
                  <a:pt x="1973" y="140"/>
                </a:lnTo>
                <a:lnTo>
                  <a:pt x="1987" y="149"/>
                </a:lnTo>
                <a:lnTo>
                  <a:pt x="2000" y="159"/>
                </a:lnTo>
                <a:lnTo>
                  <a:pt x="2013" y="169"/>
                </a:lnTo>
                <a:lnTo>
                  <a:pt x="2023" y="178"/>
                </a:lnTo>
                <a:lnTo>
                  <a:pt x="2033" y="186"/>
                </a:lnTo>
                <a:lnTo>
                  <a:pt x="2042" y="194"/>
                </a:lnTo>
                <a:lnTo>
                  <a:pt x="2050" y="201"/>
                </a:lnTo>
                <a:lnTo>
                  <a:pt x="2056" y="209"/>
                </a:lnTo>
                <a:lnTo>
                  <a:pt x="2061" y="215"/>
                </a:lnTo>
                <a:lnTo>
                  <a:pt x="2065" y="220"/>
                </a:lnTo>
                <a:lnTo>
                  <a:pt x="2069" y="226"/>
                </a:lnTo>
                <a:lnTo>
                  <a:pt x="2071" y="232"/>
                </a:lnTo>
                <a:lnTo>
                  <a:pt x="2071" y="236"/>
                </a:lnTo>
                <a:lnTo>
                  <a:pt x="2071" y="240"/>
                </a:lnTo>
                <a:lnTo>
                  <a:pt x="2069" y="243"/>
                </a:lnTo>
                <a:lnTo>
                  <a:pt x="2069" y="247"/>
                </a:lnTo>
                <a:lnTo>
                  <a:pt x="2065" y="251"/>
                </a:lnTo>
                <a:lnTo>
                  <a:pt x="2063" y="255"/>
                </a:lnTo>
                <a:lnTo>
                  <a:pt x="2060" y="257"/>
                </a:lnTo>
                <a:lnTo>
                  <a:pt x="2056" y="261"/>
                </a:lnTo>
                <a:lnTo>
                  <a:pt x="2050" y="263"/>
                </a:lnTo>
                <a:lnTo>
                  <a:pt x="2046" y="265"/>
                </a:lnTo>
                <a:lnTo>
                  <a:pt x="2038" y="266"/>
                </a:lnTo>
                <a:lnTo>
                  <a:pt x="2033" y="268"/>
                </a:lnTo>
                <a:lnTo>
                  <a:pt x="2023" y="268"/>
                </a:lnTo>
                <a:lnTo>
                  <a:pt x="2015" y="270"/>
                </a:lnTo>
                <a:lnTo>
                  <a:pt x="2006" y="270"/>
                </a:lnTo>
                <a:lnTo>
                  <a:pt x="1996" y="270"/>
                </a:lnTo>
                <a:lnTo>
                  <a:pt x="1985" y="270"/>
                </a:lnTo>
                <a:lnTo>
                  <a:pt x="1973" y="270"/>
                </a:lnTo>
                <a:lnTo>
                  <a:pt x="1960" y="272"/>
                </a:lnTo>
                <a:lnTo>
                  <a:pt x="1948" y="274"/>
                </a:lnTo>
                <a:lnTo>
                  <a:pt x="1935" y="274"/>
                </a:lnTo>
                <a:lnTo>
                  <a:pt x="1923" y="278"/>
                </a:lnTo>
                <a:lnTo>
                  <a:pt x="1910" y="280"/>
                </a:lnTo>
                <a:lnTo>
                  <a:pt x="1896" y="284"/>
                </a:lnTo>
                <a:lnTo>
                  <a:pt x="1881" y="288"/>
                </a:lnTo>
                <a:lnTo>
                  <a:pt x="1868" y="293"/>
                </a:lnTo>
                <a:lnTo>
                  <a:pt x="1854" y="297"/>
                </a:lnTo>
                <a:lnTo>
                  <a:pt x="1839" y="303"/>
                </a:lnTo>
                <a:lnTo>
                  <a:pt x="1823" y="311"/>
                </a:lnTo>
                <a:lnTo>
                  <a:pt x="1808" y="316"/>
                </a:lnTo>
                <a:lnTo>
                  <a:pt x="1793" y="324"/>
                </a:lnTo>
                <a:lnTo>
                  <a:pt x="1777" y="332"/>
                </a:lnTo>
                <a:lnTo>
                  <a:pt x="1762" y="341"/>
                </a:lnTo>
                <a:lnTo>
                  <a:pt x="1745" y="351"/>
                </a:lnTo>
                <a:lnTo>
                  <a:pt x="1731" y="361"/>
                </a:lnTo>
                <a:lnTo>
                  <a:pt x="1716" y="370"/>
                </a:lnTo>
                <a:lnTo>
                  <a:pt x="1703" y="378"/>
                </a:lnTo>
                <a:lnTo>
                  <a:pt x="1691" y="385"/>
                </a:lnTo>
                <a:lnTo>
                  <a:pt x="1680" y="391"/>
                </a:lnTo>
                <a:lnTo>
                  <a:pt x="1668" y="397"/>
                </a:lnTo>
                <a:lnTo>
                  <a:pt x="1658" y="403"/>
                </a:lnTo>
                <a:lnTo>
                  <a:pt x="1651" y="407"/>
                </a:lnTo>
                <a:lnTo>
                  <a:pt x="1641" y="409"/>
                </a:lnTo>
                <a:lnTo>
                  <a:pt x="1635" y="410"/>
                </a:lnTo>
                <a:lnTo>
                  <a:pt x="1628" y="412"/>
                </a:lnTo>
                <a:lnTo>
                  <a:pt x="1624" y="412"/>
                </a:lnTo>
                <a:lnTo>
                  <a:pt x="1618" y="412"/>
                </a:lnTo>
                <a:lnTo>
                  <a:pt x="1614" y="412"/>
                </a:lnTo>
                <a:lnTo>
                  <a:pt x="1612" y="410"/>
                </a:lnTo>
                <a:lnTo>
                  <a:pt x="1610" y="409"/>
                </a:lnTo>
                <a:lnTo>
                  <a:pt x="1608" y="405"/>
                </a:lnTo>
                <a:lnTo>
                  <a:pt x="1608" y="401"/>
                </a:lnTo>
                <a:lnTo>
                  <a:pt x="1608" y="397"/>
                </a:lnTo>
                <a:lnTo>
                  <a:pt x="1608" y="391"/>
                </a:lnTo>
                <a:lnTo>
                  <a:pt x="1610" y="387"/>
                </a:lnTo>
                <a:lnTo>
                  <a:pt x="1612" y="382"/>
                </a:lnTo>
                <a:lnTo>
                  <a:pt x="1614" y="374"/>
                </a:lnTo>
                <a:lnTo>
                  <a:pt x="1618" y="366"/>
                </a:lnTo>
                <a:lnTo>
                  <a:pt x="1622" y="359"/>
                </a:lnTo>
                <a:lnTo>
                  <a:pt x="1626" y="349"/>
                </a:lnTo>
                <a:lnTo>
                  <a:pt x="1632" y="339"/>
                </a:lnTo>
                <a:lnTo>
                  <a:pt x="1637" y="330"/>
                </a:lnTo>
                <a:lnTo>
                  <a:pt x="1645" y="318"/>
                </a:lnTo>
                <a:lnTo>
                  <a:pt x="1653" y="307"/>
                </a:lnTo>
                <a:lnTo>
                  <a:pt x="1662" y="295"/>
                </a:lnTo>
                <a:lnTo>
                  <a:pt x="1668" y="282"/>
                </a:lnTo>
                <a:lnTo>
                  <a:pt x="1676" y="268"/>
                </a:lnTo>
                <a:lnTo>
                  <a:pt x="1681" y="257"/>
                </a:lnTo>
                <a:lnTo>
                  <a:pt x="1687" y="247"/>
                </a:lnTo>
                <a:lnTo>
                  <a:pt x="1691" y="236"/>
                </a:lnTo>
                <a:lnTo>
                  <a:pt x="1697" y="226"/>
                </a:lnTo>
                <a:lnTo>
                  <a:pt x="1701" y="217"/>
                </a:lnTo>
                <a:lnTo>
                  <a:pt x="1704" y="209"/>
                </a:lnTo>
                <a:lnTo>
                  <a:pt x="1708" y="201"/>
                </a:lnTo>
                <a:lnTo>
                  <a:pt x="1710" y="194"/>
                </a:lnTo>
                <a:lnTo>
                  <a:pt x="1712" y="188"/>
                </a:lnTo>
                <a:lnTo>
                  <a:pt x="1714" y="182"/>
                </a:lnTo>
                <a:lnTo>
                  <a:pt x="1714" y="176"/>
                </a:lnTo>
                <a:lnTo>
                  <a:pt x="1714" y="172"/>
                </a:lnTo>
                <a:lnTo>
                  <a:pt x="1714" y="169"/>
                </a:lnTo>
                <a:lnTo>
                  <a:pt x="1712" y="167"/>
                </a:lnTo>
                <a:lnTo>
                  <a:pt x="1708" y="165"/>
                </a:lnTo>
                <a:lnTo>
                  <a:pt x="1706" y="163"/>
                </a:lnTo>
                <a:lnTo>
                  <a:pt x="1703" y="161"/>
                </a:lnTo>
                <a:lnTo>
                  <a:pt x="1697" y="157"/>
                </a:lnTo>
                <a:lnTo>
                  <a:pt x="1693" y="155"/>
                </a:lnTo>
                <a:lnTo>
                  <a:pt x="1687" y="153"/>
                </a:lnTo>
                <a:lnTo>
                  <a:pt x="1676" y="151"/>
                </a:lnTo>
                <a:lnTo>
                  <a:pt x="1662" y="147"/>
                </a:lnTo>
                <a:lnTo>
                  <a:pt x="1647" y="146"/>
                </a:lnTo>
                <a:lnTo>
                  <a:pt x="1630" y="144"/>
                </a:lnTo>
                <a:lnTo>
                  <a:pt x="1612" y="144"/>
                </a:lnTo>
                <a:lnTo>
                  <a:pt x="1566" y="144"/>
                </a:lnTo>
                <a:lnTo>
                  <a:pt x="1541" y="144"/>
                </a:lnTo>
                <a:lnTo>
                  <a:pt x="1518" y="146"/>
                </a:lnTo>
                <a:lnTo>
                  <a:pt x="1493" y="146"/>
                </a:lnTo>
                <a:lnTo>
                  <a:pt x="1466" y="147"/>
                </a:lnTo>
                <a:lnTo>
                  <a:pt x="1441" y="151"/>
                </a:lnTo>
                <a:lnTo>
                  <a:pt x="1415" y="155"/>
                </a:lnTo>
                <a:lnTo>
                  <a:pt x="1405" y="155"/>
                </a:lnTo>
                <a:lnTo>
                  <a:pt x="1395" y="157"/>
                </a:lnTo>
                <a:lnTo>
                  <a:pt x="1386" y="159"/>
                </a:lnTo>
                <a:lnTo>
                  <a:pt x="1376" y="159"/>
                </a:lnTo>
                <a:lnTo>
                  <a:pt x="1365" y="161"/>
                </a:lnTo>
                <a:lnTo>
                  <a:pt x="1353" y="163"/>
                </a:lnTo>
                <a:lnTo>
                  <a:pt x="1340" y="165"/>
                </a:lnTo>
                <a:lnTo>
                  <a:pt x="1328" y="167"/>
                </a:lnTo>
                <a:lnTo>
                  <a:pt x="1313" y="167"/>
                </a:lnTo>
                <a:lnTo>
                  <a:pt x="1299" y="169"/>
                </a:lnTo>
                <a:lnTo>
                  <a:pt x="1284" y="171"/>
                </a:lnTo>
                <a:lnTo>
                  <a:pt x="1267" y="172"/>
                </a:lnTo>
                <a:lnTo>
                  <a:pt x="1251" y="174"/>
                </a:lnTo>
                <a:lnTo>
                  <a:pt x="1234" y="176"/>
                </a:lnTo>
                <a:lnTo>
                  <a:pt x="1215" y="178"/>
                </a:lnTo>
                <a:lnTo>
                  <a:pt x="1196" y="180"/>
                </a:lnTo>
                <a:lnTo>
                  <a:pt x="1177" y="184"/>
                </a:lnTo>
                <a:lnTo>
                  <a:pt x="1157" y="186"/>
                </a:lnTo>
                <a:lnTo>
                  <a:pt x="1136" y="188"/>
                </a:lnTo>
                <a:lnTo>
                  <a:pt x="1113" y="190"/>
                </a:lnTo>
                <a:lnTo>
                  <a:pt x="1092" y="194"/>
                </a:lnTo>
                <a:lnTo>
                  <a:pt x="1069" y="195"/>
                </a:lnTo>
                <a:lnTo>
                  <a:pt x="1044" y="197"/>
                </a:lnTo>
                <a:lnTo>
                  <a:pt x="1019" y="201"/>
                </a:lnTo>
                <a:lnTo>
                  <a:pt x="994" y="203"/>
                </a:lnTo>
                <a:lnTo>
                  <a:pt x="967" y="207"/>
                </a:lnTo>
                <a:lnTo>
                  <a:pt x="941" y="209"/>
                </a:lnTo>
                <a:lnTo>
                  <a:pt x="914" y="213"/>
                </a:lnTo>
                <a:lnTo>
                  <a:pt x="885" y="215"/>
                </a:lnTo>
                <a:lnTo>
                  <a:pt x="854" y="218"/>
                </a:lnTo>
                <a:lnTo>
                  <a:pt x="825" y="222"/>
                </a:lnTo>
                <a:lnTo>
                  <a:pt x="795" y="224"/>
                </a:lnTo>
                <a:lnTo>
                  <a:pt x="731" y="232"/>
                </a:lnTo>
                <a:lnTo>
                  <a:pt x="672" y="238"/>
                </a:lnTo>
                <a:lnTo>
                  <a:pt x="614" y="243"/>
                </a:lnTo>
                <a:lnTo>
                  <a:pt x="557" y="249"/>
                </a:lnTo>
                <a:lnTo>
                  <a:pt x="501" y="253"/>
                </a:lnTo>
                <a:lnTo>
                  <a:pt x="447" y="259"/>
                </a:lnTo>
                <a:lnTo>
                  <a:pt x="395" y="263"/>
                </a:lnTo>
                <a:lnTo>
                  <a:pt x="346" y="266"/>
                </a:lnTo>
                <a:lnTo>
                  <a:pt x="298" y="270"/>
                </a:lnTo>
                <a:lnTo>
                  <a:pt x="250" y="274"/>
                </a:lnTo>
                <a:lnTo>
                  <a:pt x="205" y="276"/>
                </a:lnTo>
                <a:lnTo>
                  <a:pt x="161" y="278"/>
                </a:lnTo>
                <a:lnTo>
                  <a:pt x="119" y="280"/>
                </a:lnTo>
                <a:lnTo>
                  <a:pt x="77" y="282"/>
                </a:lnTo>
                <a:lnTo>
                  <a:pt x="38" y="282"/>
                </a:lnTo>
                <a:lnTo>
                  <a:pt x="0" y="282"/>
                </a:lnTo>
                <a:lnTo>
                  <a:pt x="0" y="242"/>
                </a:lnTo>
                <a:lnTo>
                  <a:pt x="0" y="20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Freeform 172"/>
          <p:cNvSpPr/>
          <p:nvPr/>
        </p:nvSpPr>
        <p:spPr>
          <a:xfrm>
            <a:off x="6438960" y="2751120"/>
            <a:ext cx="296640" cy="247680"/>
          </a:xfrm>
          <a:custGeom>
            <a:avLst/>
            <a:gdLst/>
            <a:ahLst/>
            <a:rect l="l" t="t" r="r" b="b"/>
            <a:pathLst>
              <a:path w="374" h="313">
                <a:moveTo>
                  <a:pt x="2" y="0"/>
                </a:moveTo>
                <a:lnTo>
                  <a:pt x="31" y="0"/>
                </a:lnTo>
                <a:lnTo>
                  <a:pt x="60" y="0"/>
                </a:lnTo>
                <a:lnTo>
                  <a:pt x="86" y="0"/>
                </a:lnTo>
                <a:lnTo>
                  <a:pt x="111" y="2"/>
                </a:lnTo>
                <a:lnTo>
                  <a:pt x="136" y="2"/>
                </a:lnTo>
                <a:lnTo>
                  <a:pt x="157" y="4"/>
                </a:lnTo>
                <a:lnTo>
                  <a:pt x="179" y="6"/>
                </a:lnTo>
                <a:lnTo>
                  <a:pt x="200" y="9"/>
                </a:lnTo>
                <a:lnTo>
                  <a:pt x="217" y="11"/>
                </a:lnTo>
                <a:lnTo>
                  <a:pt x="234" y="15"/>
                </a:lnTo>
                <a:lnTo>
                  <a:pt x="252" y="19"/>
                </a:lnTo>
                <a:lnTo>
                  <a:pt x="265" y="23"/>
                </a:lnTo>
                <a:lnTo>
                  <a:pt x="278" y="29"/>
                </a:lnTo>
                <a:lnTo>
                  <a:pt x="292" y="32"/>
                </a:lnTo>
                <a:lnTo>
                  <a:pt x="301" y="38"/>
                </a:lnTo>
                <a:lnTo>
                  <a:pt x="313" y="46"/>
                </a:lnTo>
                <a:lnTo>
                  <a:pt x="324" y="59"/>
                </a:lnTo>
                <a:lnTo>
                  <a:pt x="338" y="75"/>
                </a:lnTo>
                <a:lnTo>
                  <a:pt x="347" y="90"/>
                </a:lnTo>
                <a:lnTo>
                  <a:pt x="357" y="107"/>
                </a:lnTo>
                <a:lnTo>
                  <a:pt x="365" y="126"/>
                </a:lnTo>
                <a:lnTo>
                  <a:pt x="367" y="138"/>
                </a:lnTo>
                <a:lnTo>
                  <a:pt x="371" y="148"/>
                </a:lnTo>
                <a:lnTo>
                  <a:pt x="372" y="159"/>
                </a:lnTo>
                <a:lnTo>
                  <a:pt x="372" y="171"/>
                </a:lnTo>
                <a:lnTo>
                  <a:pt x="374" y="184"/>
                </a:lnTo>
                <a:lnTo>
                  <a:pt x="374" y="196"/>
                </a:lnTo>
                <a:lnTo>
                  <a:pt x="374" y="211"/>
                </a:lnTo>
                <a:lnTo>
                  <a:pt x="372" y="224"/>
                </a:lnTo>
                <a:lnTo>
                  <a:pt x="372" y="238"/>
                </a:lnTo>
                <a:lnTo>
                  <a:pt x="371" y="249"/>
                </a:lnTo>
                <a:lnTo>
                  <a:pt x="367" y="259"/>
                </a:lnTo>
                <a:lnTo>
                  <a:pt x="365" y="268"/>
                </a:lnTo>
                <a:lnTo>
                  <a:pt x="361" y="278"/>
                </a:lnTo>
                <a:lnTo>
                  <a:pt x="357" y="284"/>
                </a:lnTo>
                <a:lnTo>
                  <a:pt x="353" y="292"/>
                </a:lnTo>
                <a:lnTo>
                  <a:pt x="347" y="297"/>
                </a:lnTo>
                <a:lnTo>
                  <a:pt x="344" y="301"/>
                </a:lnTo>
                <a:lnTo>
                  <a:pt x="338" y="305"/>
                </a:lnTo>
                <a:lnTo>
                  <a:pt x="332" y="309"/>
                </a:lnTo>
                <a:lnTo>
                  <a:pt x="326" y="311"/>
                </a:lnTo>
                <a:lnTo>
                  <a:pt x="319" y="313"/>
                </a:lnTo>
                <a:lnTo>
                  <a:pt x="313" y="313"/>
                </a:lnTo>
                <a:lnTo>
                  <a:pt x="305" y="311"/>
                </a:lnTo>
                <a:lnTo>
                  <a:pt x="298" y="311"/>
                </a:lnTo>
                <a:lnTo>
                  <a:pt x="288" y="307"/>
                </a:lnTo>
                <a:lnTo>
                  <a:pt x="280" y="303"/>
                </a:lnTo>
                <a:lnTo>
                  <a:pt x="271" y="299"/>
                </a:lnTo>
                <a:lnTo>
                  <a:pt x="259" y="293"/>
                </a:lnTo>
                <a:lnTo>
                  <a:pt x="250" y="286"/>
                </a:lnTo>
                <a:lnTo>
                  <a:pt x="238" y="278"/>
                </a:lnTo>
                <a:lnTo>
                  <a:pt x="225" y="268"/>
                </a:lnTo>
                <a:lnTo>
                  <a:pt x="213" y="259"/>
                </a:lnTo>
                <a:lnTo>
                  <a:pt x="200" y="247"/>
                </a:lnTo>
                <a:lnTo>
                  <a:pt x="186" y="234"/>
                </a:lnTo>
                <a:lnTo>
                  <a:pt x="173" y="220"/>
                </a:lnTo>
                <a:lnTo>
                  <a:pt x="157" y="205"/>
                </a:lnTo>
                <a:lnTo>
                  <a:pt x="142" y="190"/>
                </a:lnTo>
                <a:lnTo>
                  <a:pt x="127" y="173"/>
                </a:lnTo>
                <a:lnTo>
                  <a:pt x="111" y="155"/>
                </a:lnTo>
                <a:lnTo>
                  <a:pt x="96" y="140"/>
                </a:lnTo>
                <a:lnTo>
                  <a:pt x="83" y="125"/>
                </a:lnTo>
                <a:lnTo>
                  <a:pt x="69" y="109"/>
                </a:lnTo>
                <a:lnTo>
                  <a:pt x="58" y="96"/>
                </a:lnTo>
                <a:lnTo>
                  <a:pt x="46" y="82"/>
                </a:lnTo>
                <a:lnTo>
                  <a:pt x="37" y="71"/>
                </a:lnTo>
                <a:lnTo>
                  <a:pt x="27" y="59"/>
                </a:lnTo>
                <a:lnTo>
                  <a:pt x="19" y="50"/>
                </a:lnTo>
                <a:lnTo>
                  <a:pt x="14" y="40"/>
                </a:lnTo>
                <a:lnTo>
                  <a:pt x="8" y="30"/>
                </a:lnTo>
                <a:lnTo>
                  <a:pt x="4" y="23"/>
                </a:lnTo>
                <a:lnTo>
                  <a:pt x="2" y="15"/>
                </a:lnTo>
                <a:lnTo>
                  <a:pt x="0" y="9"/>
                </a:lnTo>
                <a:lnTo>
                  <a:pt x="0" y="4"/>
                </a:lnTo>
                <a:lnTo>
                  <a:pt x="2"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0-#ppt_w/2"/>
                                          </p:val>
                                        </p:tav>
                                        <p:tav tm="100000">
                                          <p:val>
                                            <p:strVal val="#ppt_x"/>
                                          </p:val>
                                        </p:tav>
                                      </p:tavLst>
                                    </p:anim>
                                    <p:anim calcmode="lin" valueType="num">
                                      <p:cBhvr additive="base">
                                        <p:cTn id="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gtEl>
                                        <p:attrNameLst>
                                          <p:attrName>style.visibility</p:attrName>
                                        </p:attrNameLst>
                                      </p:cBhvr>
                                      <p:to>
                                        <p:strVal val="visible"/>
                                      </p:to>
                                    </p:set>
                                    <p:animEffect filter="wipe(left)" transition="in">
                                      <p:cBhvr additive="repl">
                                        <p:cTn id="13" dur="500"/>
                                        <p:tgtEl>
                                          <p:spTgt spid="10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2">
                                  <p:stCondLst>
                                    <p:cond delay="0"/>
                                  </p:stCondLst>
                                  <p:childTnLst>
                                    <p:set>
                                      <p:cBhvr>
                                        <p:cTn id="17" dur="1" fill="hold">
                                          <p:stCondLst>
                                            <p:cond delay="0"/>
                                          </p:stCondLst>
                                        </p:cTn>
                                        <p:tgtEl>
                                          <p:spTgt spid="105"/>
                                        </p:tgtEl>
                                        <p:attrNameLst>
                                          <p:attrName>style.visibility</p:attrName>
                                        </p:attrNameLst>
                                      </p:cBhvr>
                                      <p:to>
                                        <p:strVal val="visible"/>
                                      </p:to>
                                    </p:set>
                                    <p:animEffect filter="wipe(right)" transition="in">
                                      <p:cBhvr additive="repl">
                                        <p:cTn id="18" dur="500"/>
                                        <p:tgtEl>
                                          <p:spTgt spid="10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8" presetSubtype="6">
                                  <p:stCondLst>
                                    <p:cond delay="0"/>
                                  </p:stCondLst>
                                  <p:childTnLst>
                                    <p:set>
                                      <p:cBhvr>
                                        <p:cTn id="22" dur="1" fill="hold">
                                          <p:stCondLst>
                                            <p:cond delay="0"/>
                                          </p:stCondLst>
                                        </p:cTn>
                                        <p:tgtEl>
                                          <p:spTgt spid="106"/>
                                        </p:tgtEl>
                                        <p:attrNameLst>
                                          <p:attrName>style.visibility</p:attrName>
                                        </p:attrNameLst>
                                      </p:cBhvr>
                                      <p:to>
                                        <p:strVal val="visible"/>
                                      </p:to>
                                    </p:set>
                                    <p:animEffect filter="strips(downRight)" transition="in">
                                      <p:cBhvr additive="repl">
                                        <p:cTn id="23" dur="500"/>
                                        <p:tgtEl>
                                          <p:spTgt spid="10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8" presetSubtype="6">
                                  <p:stCondLst>
                                    <p:cond delay="0"/>
                                  </p:stCondLst>
                                  <p:childTnLst>
                                    <p:set>
                                      <p:cBhvr>
                                        <p:cTn id="27" dur="1" fill="hold">
                                          <p:stCondLst>
                                            <p:cond delay="0"/>
                                          </p:stCondLst>
                                        </p:cTn>
                                        <p:tgtEl>
                                          <p:spTgt spid="104"/>
                                        </p:tgtEl>
                                        <p:attrNameLst>
                                          <p:attrName>style.visibility</p:attrName>
                                        </p:attrNameLst>
                                      </p:cBhvr>
                                      <p:to>
                                        <p:strVal val="visible"/>
                                      </p:to>
                                    </p:set>
                                    <p:animEffect filter="strips(downRight)" transition="in">
                                      <p:cBhvr additive="repl">
                                        <p:cTn id="28" dur="500"/>
                                        <p:tgtEl>
                                          <p:spTgt spid="104"/>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03"/>
                                        </p:tgtEl>
                                        <p:attrNameLst>
                                          <p:attrName>style.visibility</p:attrName>
                                        </p:attrNameLst>
                                      </p:cBhvr>
                                      <p:to>
                                        <p:strVal val="visible"/>
                                      </p:to>
                                    </p:set>
                                    <p:animEffect filter="wipe(left)" transition="in">
                                      <p:cBhvr additive="repl">
                                        <p:cTn id="33" dur="500"/>
                                        <p:tgtEl>
                                          <p:spTgt spid="1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02"/>
                                        </p:tgtEl>
                                        <p:attrNameLst>
                                          <p:attrName>style.visibility</p:attrName>
                                        </p:attrNameLst>
                                      </p:cBhvr>
                                      <p:to>
                                        <p:strVal val="visible"/>
                                      </p:to>
                                    </p:set>
                                    <p:animEffect filter="wipe(left)" transition="in">
                                      <p:cBhvr additive="repl">
                                        <p:cTn id="38" dur="500"/>
                                        <p:tgtEl>
                                          <p:spTgt spid="10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99"/>
                                        </p:tgtEl>
                                        <p:attrNameLst>
                                          <p:attrName>style.visibility</p:attrName>
                                        </p:attrNameLst>
                                      </p:cBhvr>
                                      <p:to>
                                        <p:strVal val="visible"/>
                                      </p:to>
                                    </p:set>
                                    <p:animEffect filter="strips(downRight)" transition="in">
                                      <p:cBhvr additive="repl">
                                        <p:cTn id="43" dur="500"/>
                                        <p:tgtEl>
                                          <p:spTgt spid="99"/>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1"/>
                                        </p:tgtEl>
                                        <p:attrNameLst>
                                          <p:attrName>style.visibility</p:attrName>
                                        </p:attrNameLst>
                                      </p:cBhvr>
                                      <p:to>
                                        <p:strVal val="visible"/>
                                      </p:to>
                                    </p:set>
                                    <p:animEffect filter="wipe(left)" transition="in">
                                      <p:cBhvr additive="repl">
                                        <p:cTn id="48" dur="500"/>
                                        <p:tgtEl>
                                          <p:spTgt spid="101"/>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00"/>
                                        </p:tgtEl>
                                        <p:attrNameLst>
                                          <p:attrName>style.visibility</p:attrName>
                                        </p:attrNameLst>
                                      </p:cBhvr>
                                      <p:to>
                                        <p:strVal val="visible"/>
                                      </p:to>
                                    </p:set>
                                    <p:animEffect filter="wipe(left)" transition="in">
                                      <p:cBhvr additive="repl">
                                        <p:cTn id="53" dur="500"/>
                                        <p:tgtEl>
                                          <p:spTgt spid="10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2">
                                  <p:stCondLst>
                                    <p:cond delay="0"/>
                                  </p:stCondLst>
                                  <p:childTnLst>
                                    <p:set>
                                      <p:cBhvr>
                                        <p:cTn id="57" dur="1" fill="hold">
                                          <p:stCondLst>
                                            <p:cond delay="0"/>
                                          </p:stCondLst>
                                        </p:cTn>
                                        <p:tgtEl>
                                          <p:spTgt spid="98"/>
                                        </p:tgtEl>
                                        <p:attrNameLst>
                                          <p:attrName>style.visibility</p:attrName>
                                        </p:attrNameLst>
                                      </p:cBhvr>
                                      <p:to>
                                        <p:strVal val="visible"/>
                                      </p:to>
                                    </p:set>
                                    <p:animEffect filter="wipe(right)" transition="in">
                                      <p:cBhvr additive="repl">
                                        <p:cTn id="58" dur="500"/>
                                        <p:tgtEl>
                                          <p:spTgt spid="9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97"/>
                                        </p:tgtEl>
                                        <p:attrNameLst>
                                          <p:attrName>style.visibility</p:attrName>
                                        </p:attrNameLst>
                                      </p:cBhvr>
                                      <p:to>
                                        <p:strVal val="visible"/>
                                      </p:to>
                                    </p:set>
                                    <p:animEffect filter="wipe(up)" transition="in">
                                      <p:cBhvr additive="repl">
                                        <p:cTn id="63" dur="500"/>
                                        <p:tgtEl>
                                          <p:spTgt spid="97"/>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2">
                                  <p:stCondLst>
                                    <p:cond delay="0"/>
                                  </p:stCondLst>
                                  <p:childTnLst>
                                    <p:set>
                                      <p:cBhvr>
                                        <p:cTn id="67" dur="1" fill="hold">
                                          <p:stCondLst>
                                            <p:cond delay="0"/>
                                          </p:stCondLst>
                                        </p:cTn>
                                        <p:tgtEl>
                                          <p:spTgt spid="96"/>
                                        </p:tgtEl>
                                        <p:attrNameLst>
                                          <p:attrName>style.visibility</p:attrName>
                                        </p:attrNameLst>
                                      </p:cBhvr>
                                      <p:to>
                                        <p:strVal val="visible"/>
                                      </p:to>
                                    </p:set>
                                    <p:animEffect filter="wipe(right)" transition="in">
                                      <p:cBhvr additive="repl">
                                        <p:cTn id="68" dur="500"/>
                                        <p:tgtEl>
                                          <p:spTgt spid="9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2">
                                  <p:stCondLst>
                                    <p:cond delay="0"/>
                                  </p:stCondLst>
                                  <p:childTnLst>
                                    <p:set>
                                      <p:cBhvr>
                                        <p:cTn id="72" dur="1" fill="hold">
                                          <p:stCondLst>
                                            <p:cond delay="0"/>
                                          </p:stCondLst>
                                        </p:cTn>
                                        <p:tgtEl>
                                          <p:spTgt spid="95"/>
                                        </p:tgtEl>
                                        <p:attrNameLst>
                                          <p:attrName>style.visibility</p:attrName>
                                        </p:attrNameLst>
                                      </p:cBhvr>
                                      <p:to>
                                        <p:strVal val="visible"/>
                                      </p:to>
                                    </p:set>
                                    <p:animEffect filter="wipe(right)" transition="in">
                                      <p:cBhvr additive="repl">
                                        <p:cTn id="73" dur="500"/>
                                        <p:tgtEl>
                                          <p:spTgt spid="9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94"/>
                                        </p:tgtEl>
                                        <p:attrNameLst>
                                          <p:attrName>style.visibility</p:attrName>
                                        </p:attrNameLst>
                                      </p:cBhvr>
                                      <p:to>
                                        <p:strVal val="visible"/>
                                      </p:to>
                                    </p:set>
                                    <p:animEffect filter="wipe(right)" transition="in">
                                      <p:cBhvr additive="repl">
                                        <p:cTn id="78" dur="500"/>
                                        <p:tgtEl>
                                          <p:spTgt spid="9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84"/>
                                        </p:tgtEl>
                                        <p:attrNameLst>
                                          <p:attrName>style.visibility</p:attrName>
                                        </p:attrNameLst>
                                      </p:cBhvr>
                                      <p:to>
                                        <p:strVal val="visible"/>
                                      </p:to>
                                    </p:set>
                                    <p:anim calcmode="lin" valueType="num">
                                      <p:cBhvr additive="repl">
                                        <p:cTn id="83" dur="500" fill="hold"/>
                                        <p:tgtEl>
                                          <p:spTgt spid="84"/>
                                        </p:tgtEl>
                                        <p:attrNameLst>
                                          <p:attrName>ppt_w</p:attrName>
                                        </p:attrNameLst>
                                      </p:cBhvr>
                                      <p:tavLst>
                                        <p:tav tm="0">
                                          <p:val>
                                            <p:fltVal val="0"/>
                                          </p:val>
                                        </p:tav>
                                        <p:tav tm="100000">
                                          <p:val>
                                            <p:strVal val="#ppt_w"/>
                                          </p:val>
                                        </p:tav>
                                      </p:tavLst>
                                    </p:anim>
                                    <p:anim calcmode="lin" valueType="num">
                                      <p:cBhvr additive="repl">
                                        <p:cTn id="84" dur="500" fill="hold"/>
                                        <p:tgtEl>
                                          <p:spTgt spid="84"/>
                                        </p:tgtEl>
                                        <p:attrNameLst>
                                          <p:attrName>ppt_h</p:attrName>
                                        </p:attrNameLst>
                                      </p:cBhvr>
                                      <p:tavLst>
                                        <p:tav tm="0">
                                          <p:val>
                                            <p:fltVal val="0"/>
                                          </p:val>
                                        </p:tav>
                                        <p:tav tm="100000">
                                          <p:val>
                                            <p:strVal val="#ppt_h"/>
                                          </p:val>
                                        </p:tav>
                                      </p:tavLst>
                                    </p:anim>
                                    <p:animEffect filter="fade" transition="in">
                                      <p:cBhvr additive="repl">
                                        <p:cTn id="8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矩形 4"/>
          <p:cNvSpPr/>
          <p:nvPr/>
        </p:nvSpPr>
        <p:spPr>
          <a:xfrm>
            <a:off x="2218680" y="220356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廓</a:t>
            </a:r>
            <a:endParaRPr b="0" lang="en-US" sz="8000" spc="-1" strike="noStrike">
              <a:solidFill>
                <a:srgbClr val="000000"/>
              </a:solidFill>
              <a:latin typeface="Calibri"/>
            </a:endParaRPr>
          </a:p>
        </p:txBody>
      </p:sp>
      <p:grpSp>
        <p:nvGrpSpPr>
          <p:cNvPr id="109" name="组合 8"/>
          <p:cNvGrpSpPr/>
          <p:nvPr/>
        </p:nvGrpSpPr>
        <p:grpSpPr>
          <a:xfrm>
            <a:off x="1400040" y="3630600"/>
            <a:ext cx="2840040" cy="1571760"/>
            <a:chOff x="1400040" y="3630600"/>
            <a:chExt cx="2840040" cy="1571760"/>
          </a:xfrm>
        </p:grpSpPr>
        <p:pic>
          <p:nvPicPr>
            <p:cNvPr id="110" name="图示 4" descr=""/>
            <p:cNvPicPr/>
            <p:nvPr/>
          </p:nvPicPr>
          <p:blipFill>
            <a:blip r:embed="rId1"/>
            <a:stretch/>
          </p:blipFill>
          <p:spPr>
            <a:xfrm>
              <a:off x="1400040" y="3630600"/>
              <a:ext cx="2840040" cy="1571760"/>
            </a:xfrm>
            <a:prstGeom prst="rect">
              <a:avLst/>
            </a:prstGeom>
            <a:ln w="0">
              <a:noFill/>
            </a:ln>
          </p:spPr>
        </p:pic>
        <p:sp>
          <p:nvSpPr>
            <p:cNvPr id="111" name="矩形 2"/>
            <p:cNvSpPr/>
            <p:nvPr/>
          </p:nvSpPr>
          <p:spPr>
            <a:xfrm>
              <a:off x="1444680" y="424260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里面部分“享”的最后一笔横变提。</a:t>
              </a:r>
              <a:endParaRPr b="0" lang="en-US" sz="2000" spc="-1" strike="noStrike">
                <a:solidFill>
                  <a:srgbClr val="000000"/>
                </a:solidFill>
                <a:latin typeface="Calibri"/>
              </a:endParaRPr>
            </a:p>
          </p:txBody>
        </p:sp>
      </p:grpSp>
      <p:sp>
        <p:nvSpPr>
          <p:cNvPr id="112" name="矩形 3"/>
          <p:cNvSpPr/>
          <p:nvPr/>
        </p:nvSpPr>
        <p:spPr>
          <a:xfrm>
            <a:off x="1969920" y="1523880"/>
            <a:ext cx="1665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kuò</a:t>
            </a:r>
            <a:endParaRPr b="0" lang="en-US" sz="4800" spc="-1" strike="noStrike">
              <a:solidFill>
                <a:srgbClr val="000000"/>
              </a:solidFill>
              <a:latin typeface="Calibri"/>
            </a:endParaRPr>
          </a:p>
        </p:txBody>
      </p:sp>
      <p:graphicFrame>
        <p:nvGraphicFramePr>
          <p:cNvPr id="113" name=""/>
          <p:cNvGraphicFramePr/>
          <p:nvPr/>
        </p:nvGraphicFramePr>
        <p:xfrm>
          <a:off x="5114880" y="2038320"/>
          <a:ext cx="3041640" cy="3040200"/>
        </p:xfrm>
        <a:graphic>
          <a:graphicData uri="http://schemas.openxmlformats.org/drawingml/2006/table">
            <a:tbl>
              <a:tblPr/>
              <a:tblGrid>
                <a:gridCol w="1522440"/>
                <a:gridCol w="1519200"/>
              </a:tblGrid>
              <a:tr h="1513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4" name="Freeform 133"/>
          <p:cNvSpPr/>
          <p:nvPr/>
        </p:nvSpPr>
        <p:spPr>
          <a:xfrm>
            <a:off x="6954840" y="3079800"/>
            <a:ext cx="682560" cy="1189080"/>
          </a:xfrm>
          <a:custGeom>
            <a:avLst/>
            <a:gdLst/>
            <a:ahLst/>
            <a:rect l="l" t="t" r="r" b="b"/>
            <a:pathLst>
              <a:path w="859" h="1497">
                <a:moveTo>
                  <a:pt x="769" y="1426"/>
                </a:moveTo>
                <a:lnTo>
                  <a:pt x="762" y="1436"/>
                </a:lnTo>
                <a:lnTo>
                  <a:pt x="754" y="1444"/>
                </a:lnTo>
                <a:lnTo>
                  <a:pt x="748" y="1451"/>
                </a:lnTo>
                <a:lnTo>
                  <a:pt x="740" y="1457"/>
                </a:lnTo>
                <a:lnTo>
                  <a:pt x="735" y="1463"/>
                </a:lnTo>
                <a:lnTo>
                  <a:pt x="727" y="1469"/>
                </a:lnTo>
                <a:lnTo>
                  <a:pt x="719" y="1474"/>
                </a:lnTo>
                <a:lnTo>
                  <a:pt x="714" y="1478"/>
                </a:lnTo>
                <a:lnTo>
                  <a:pt x="708" y="1484"/>
                </a:lnTo>
                <a:lnTo>
                  <a:pt x="700" y="1486"/>
                </a:lnTo>
                <a:lnTo>
                  <a:pt x="694" y="1490"/>
                </a:lnTo>
                <a:lnTo>
                  <a:pt x="689" y="1492"/>
                </a:lnTo>
                <a:lnTo>
                  <a:pt x="683" y="1494"/>
                </a:lnTo>
                <a:lnTo>
                  <a:pt x="677" y="1495"/>
                </a:lnTo>
                <a:lnTo>
                  <a:pt x="673" y="1495"/>
                </a:lnTo>
                <a:lnTo>
                  <a:pt x="668" y="1497"/>
                </a:lnTo>
                <a:lnTo>
                  <a:pt x="660" y="1495"/>
                </a:lnTo>
                <a:lnTo>
                  <a:pt x="654" y="1495"/>
                </a:lnTo>
                <a:lnTo>
                  <a:pt x="648" y="1494"/>
                </a:lnTo>
                <a:lnTo>
                  <a:pt x="643" y="1492"/>
                </a:lnTo>
                <a:lnTo>
                  <a:pt x="639" y="1490"/>
                </a:lnTo>
                <a:lnTo>
                  <a:pt x="635" y="1486"/>
                </a:lnTo>
                <a:lnTo>
                  <a:pt x="631" y="1484"/>
                </a:lnTo>
                <a:lnTo>
                  <a:pt x="627" y="1478"/>
                </a:lnTo>
                <a:lnTo>
                  <a:pt x="623" y="1474"/>
                </a:lnTo>
                <a:lnTo>
                  <a:pt x="620" y="1469"/>
                </a:lnTo>
                <a:lnTo>
                  <a:pt x="618" y="1463"/>
                </a:lnTo>
                <a:lnTo>
                  <a:pt x="614" y="1457"/>
                </a:lnTo>
                <a:lnTo>
                  <a:pt x="612" y="1451"/>
                </a:lnTo>
                <a:lnTo>
                  <a:pt x="610" y="1444"/>
                </a:lnTo>
                <a:lnTo>
                  <a:pt x="606" y="1436"/>
                </a:lnTo>
                <a:lnTo>
                  <a:pt x="604" y="1426"/>
                </a:lnTo>
                <a:lnTo>
                  <a:pt x="602" y="1419"/>
                </a:lnTo>
                <a:lnTo>
                  <a:pt x="598" y="1409"/>
                </a:lnTo>
                <a:lnTo>
                  <a:pt x="593" y="1401"/>
                </a:lnTo>
                <a:lnTo>
                  <a:pt x="589" y="1392"/>
                </a:lnTo>
                <a:lnTo>
                  <a:pt x="581" y="1382"/>
                </a:lnTo>
                <a:lnTo>
                  <a:pt x="573" y="1375"/>
                </a:lnTo>
                <a:lnTo>
                  <a:pt x="566" y="1365"/>
                </a:lnTo>
                <a:lnTo>
                  <a:pt x="556" y="1355"/>
                </a:lnTo>
                <a:lnTo>
                  <a:pt x="547" y="1348"/>
                </a:lnTo>
                <a:lnTo>
                  <a:pt x="537" y="1338"/>
                </a:lnTo>
                <a:lnTo>
                  <a:pt x="525" y="1328"/>
                </a:lnTo>
                <a:lnTo>
                  <a:pt x="512" y="1317"/>
                </a:lnTo>
                <a:lnTo>
                  <a:pt x="499" y="1307"/>
                </a:lnTo>
                <a:lnTo>
                  <a:pt x="485" y="1298"/>
                </a:lnTo>
                <a:lnTo>
                  <a:pt x="470" y="1286"/>
                </a:lnTo>
                <a:lnTo>
                  <a:pt x="453" y="1277"/>
                </a:lnTo>
                <a:lnTo>
                  <a:pt x="435" y="1265"/>
                </a:lnTo>
                <a:lnTo>
                  <a:pt x="418" y="1256"/>
                </a:lnTo>
                <a:lnTo>
                  <a:pt x="403" y="1246"/>
                </a:lnTo>
                <a:lnTo>
                  <a:pt x="387" y="1236"/>
                </a:lnTo>
                <a:lnTo>
                  <a:pt x="374" y="1229"/>
                </a:lnTo>
                <a:lnTo>
                  <a:pt x="362" y="1221"/>
                </a:lnTo>
                <a:lnTo>
                  <a:pt x="351" y="1213"/>
                </a:lnTo>
                <a:lnTo>
                  <a:pt x="341" y="1206"/>
                </a:lnTo>
                <a:lnTo>
                  <a:pt x="334" y="1200"/>
                </a:lnTo>
                <a:lnTo>
                  <a:pt x="326" y="1194"/>
                </a:lnTo>
                <a:lnTo>
                  <a:pt x="320" y="1188"/>
                </a:lnTo>
                <a:lnTo>
                  <a:pt x="316" y="1184"/>
                </a:lnTo>
                <a:lnTo>
                  <a:pt x="314" y="1181"/>
                </a:lnTo>
                <a:lnTo>
                  <a:pt x="312" y="1177"/>
                </a:lnTo>
                <a:lnTo>
                  <a:pt x="312" y="1175"/>
                </a:lnTo>
                <a:lnTo>
                  <a:pt x="314" y="1171"/>
                </a:lnTo>
                <a:lnTo>
                  <a:pt x="316" y="1169"/>
                </a:lnTo>
                <a:lnTo>
                  <a:pt x="320" y="1167"/>
                </a:lnTo>
                <a:lnTo>
                  <a:pt x="326" y="1167"/>
                </a:lnTo>
                <a:lnTo>
                  <a:pt x="332" y="1165"/>
                </a:lnTo>
                <a:lnTo>
                  <a:pt x="337" y="1165"/>
                </a:lnTo>
                <a:lnTo>
                  <a:pt x="345" y="1163"/>
                </a:lnTo>
                <a:lnTo>
                  <a:pt x="353" y="1163"/>
                </a:lnTo>
                <a:lnTo>
                  <a:pt x="362" y="1163"/>
                </a:lnTo>
                <a:lnTo>
                  <a:pt x="372" y="1165"/>
                </a:lnTo>
                <a:lnTo>
                  <a:pt x="383" y="1165"/>
                </a:lnTo>
                <a:lnTo>
                  <a:pt x="395" y="1167"/>
                </a:lnTo>
                <a:lnTo>
                  <a:pt x="406" y="1169"/>
                </a:lnTo>
                <a:lnTo>
                  <a:pt x="420" y="1173"/>
                </a:lnTo>
                <a:lnTo>
                  <a:pt x="435" y="1175"/>
                </a:lnTo>
                <a:lnTo>
                  <a:pt x="451" y="1179"/>
                </a:lnTo>
                <a:lnTo>
                  <a:pt x="466" y="1183"/>
                </a:lnTo>
                <a:lnTo>
                  <a:pt x="481" y="1186"/>
                </a:lnTo>
                <a:lnTo>
                  <a:pt x="499" y="1190"/>
                </a:lnTo>
                <a:lnTo>
                  <a:pt x="512" y="1194"/>
                </a:lnTo>
                <a:lnTo>
                  <a:pt x="527" y="1196"/>
                </a:lnTo>
                <a:lnTo>
                  <a:pt x="541" y="1198"/>
                </a:lnTo>
                <a:lnTo>
                  <a:pt x="552" y="1200"/>
                </a:lnTo>
                <a:lnTo>
                  <a:pt x="566" y="1202"/>
                </a:lnTo>
                <a:lnTo>
                  <a:pt x="575" y="1202"/>
                </a:lnTo>
                <a:lnTo>
                  <a:pt x="587" y="1202"/>
                </a:lnTo>
                <a:lnTo>
                  <a:pt x="596" y="1202"/>
                </a:lnTo>
                <a:lnTo>
                  <a:pt x="604" y="1202"/>
                </a:lnTo>
                <a:lnTo>
                  <a:pt x="612" y="1202"/>
                </a:lnTo>
                <a:lnTo>
                  <a:pt x="618" y="1200"/>
                </a:lnTo>
                <a:lnTo>
                  <a:pt x="623" y="1198"/>
                </a:lnTo>
                <a:lnTo>
                  <a:pt x="627" y="1196"/>
                </a:lnTo>
                <a:lnTo>
                  <a:pt x="629" y="1194"/>
                </a:lnTo>
                <a:lnTo>
                  <a:pt x="635" y="1190"/>
                </a:lnTo>
                <a:lnTo>
                  <a:pt x="639" y="1184"/>
                </a:lnTo>
                <a:lnTo>
                  <a:pt x="643" y="1177"/>
                </a:lnTo>
                <a:lnTo>
                  <a:pt x="646" y="1167"/>
                </a:lnTo>
                <a:lnTo>
                  <a:pt x="650" y="1156"/>
                </a:lnTo>
                <a:lnTo>
                  <a:pt x="652" y="1150"/>
                </a:lnTo>
                <a:lnTo>
                  <a:pt x="652" y="1144"/>
                </a:lnTo>
                <a:lnTo>
                  <a:pt x="654" y="1137"/>
                </a:lnTo>
                <a:lnTo>
                  <a:pt x="654" y="1131"/>
                </a:lnTo>
                <a:lnTo>
                  <a:pt x="654" y="1121"/>
                </a:lnTo>
                <a:lnTo>
                  <a:pt x="656" y="1113"/>
                </a:lnTo>
                <a:lnTo>
                  <a:pt x="652" y="1106"/>
                </a:lnTo>
                <a:lnTo>
                  <a:pt x="650" y="1100"/>
                </a:lnTo>
                <a:lnTo>
                  <a:pt x="646" y="1092"/>
                </a:lnTo>
                <a:lnTo>
                  <a:pt x="643" y="1083"/>
                </a:lnTo>
                <a:lnTo>
                  <a:pt x="635" y="1065"/>
                </a:lnTo>
                <a:lnTo>
                  <a:pt x="627" y="1046"/>
                </a:lnTo>
                <a:lnTo>
                  <a:pt x="616" y="1023"/>
                </a:lnTo>
                <a:lnTo>
                  <a:pt x="606" y="1000"/>
                </a:lnTo>
                <a:lnTo>
                  <a:pt x="593" y="977"/>
                </a:lnTo>
                <a:lnTo>
                  <a:pt x="579" y="952"/>
                </a:lnTo>
                <a:lnTo>
                  <a:pt x="560" y="925"/>
                </a:lnTo>
                <a:lnTo>
                  <a:pt x="539" y="900"/>
                </a:lnTo>
                <a:lnTo>
                  <a:pt x="518" y="877"/>
                </a:lnTo>
                <a:lnTo>
                  <a:pt x="495" y="854"/>
                </a:lnTo>
                <a:lnTo>
                  <a:pt x="470" y="831"/>
                </a:lnTo>
                <a:lnTo>
                  <a:pt x="445" y="810"/>
                </a:lnTo>
                <a:lnTo>
                  <a:pt x="418" y="787"/>
                </a:lnTo>
                <a:lnTo>
                  <a:pt x="391" y="766"/>
                </a:lnTo>
                <a:lnTo>
                  <a:pt x="376" y="756"/>
                </a:lnTo>
                <a:lnTo>
                  <a:pt x="364" y="749"/>
                </a:lnTo>
                <a:lnTo>
                  <a:pt x="351" y="741"/>
                </a:lnTo>
                <a:lnTo>
                  <a:pt x="341" y="733"/>
                </a:lnTo>
                <a:lnTo>
                  <a:pt x="330" y="726"/>
                </a:lnTo>
                <a:lnTo>
                  <a:pt x="322" y="718"/>
                </a:lnTo>
                <a:lnTo>
                  <a:pt x="312" y="710"/>
                </a:lnTo>
                <a:lnTo>
                  <a:pt x="305" y="705"/>
                </a:lnTo>
                <a:lnTo>
                  <a:pt x="299" y="699"/>
                </a:lnTo>
                <a:lnTo>
                  <a:pt x="293" y="691"/>
                </a:lnTo>
                <a:lnTo>
                  <a:pt x="287" y="685"/>
                </a:lnTo>
                <a:lnTo>
                  <a:pt x="284" y="680"/>
                </a:lnTo>
                <a:lnTo>
                  <a:pt x="280" y="676"/>
                </a:lnTo>
                <a:lnTo>
                  <a:pt x="278" y="670"/>
                </a:lnTo>
                <a:lnTo>
                  <a:pt x="278" y="666"/>
                </a:lnTo>
                <a:lnTo>
                  <a:pt x="276" y="660"/>
                </a:lnTo>
                <a:lnTo>
                  <a:pt x="278" y="659"/>
                </a:lnTo>
                <a:lnTo>
                  <a:pt x="278" y="653"/>
                </a:lnTo>
                <a:lnTo>
                  <a:pt x="280" y="647"/>
                </a:lnTo>
                <a:lnTo>
                  <a:pt x="284" y="639"/>
                </a:lnTo>
                <a:lnTo>
                  <a:pt x="287" y="630"/>
                </a:lnTo>
                <a:lnTo>
                  <a:pt x="293" y="618"/>
                </a:lnTo>
                <a:lnTo>
                  <a:pt x="299" y="607"/>
                </a:lnTo>
                <a:lnTo>
                  <a:pt x="307" y="591"/>
                </a:lnTo>
                <a:lnTo>
                  <a:pt x="314" y="576"/>
                </a:lnTo>
                <a:lnTo>
                  <a:pt x="324" y="559"/>
                </a:lnTo>
                <a:lnTo>
                  <a:pt x="335" y="540"/>
                </a:lnTo>
                <a:lnTo>
                  <a:pt x="347" y="518"/>
                </a:lnTo>
                <a:lnTo>
                  <a:pt x="358" y="495"/>
                </a:lnTo>
                <a:lnTo>
                  <a:pt x="372" y="470"/>
                </a:lnTo>
                <a:lnTo>
                  <a:pt x="387" y="445"/>
                </a:lnTo>
                <a:lnTo>
                  <a:pt x="403" y="417"/>
                </a:lnTo>
                <a:lnTo>
                  <a:pt x="418" y="390"/>
                </a:lnTo>
                <a:lnTo>
                  <a:pt x="433" y="363"/>
                </a:lnTo>
                <a:lnTo>
                  <a:pt x="447" y="340"/>
                </a:lnTo>
                <a:lnTo>
                  <a:pt x="458" y="317"/>
                </a:lnTo>
                <a:lnTo>
                  <a:pt x="470" y="296"/>
                </a:lnTo>
                <a:lnTo>
                  <a:pt x="479" y="277"/>
                </a:lnTo>
                <a:lnTo>
                  <a:pt x="489" y="259"/>
                </a:lnTo>
                <a:lnTo>
                  <a:pt x="497" y="244"/>
                </a:lnTo>
                <a:lnTo>
                  <a:pt x="502" y="229"/>
                </a:lnTo>
                <a:lnTo>
                  <a:pt x="508" y="215"/>
                </a:lnTo>
                <a:lnTo>
                  <a:pt x="514" y="206"/>
                </a:lnTo>
                <a:lnTo>
                  <a:pt x="516" y="196"/>
                </a:lnTo>
                <a:lnTo>
                  <a:pt x="518" y="188"/>
                </a:lnTo>
                <a:lnTo>
                  <a:pt x="518" y="181"/>
                </a:lnTo>
                <a:lnTo>
                  <a:pt x="518" y="177"/>
                </a:lnTo>
                <a:lnTo>
                  <a:pt x="516" y="175"/>
                </a:lnTo>
                <a:lnTo>
                  <a:pt x="514" y="171"/>
                </a:lnTo>
                <a:lnTo>
                  <a:pt x="510" y="171"/>
                </a:lnTo>
                <a:lnTo>
                  <a:pt x="504" y="169"/>
                </a:lnTo>
                <a:lnTo>
                  <a:pt x="499" y="169"/>
                </a:lnTo>
                <a:lnTo>
                  <a:pt x="493" y="169"/>
                </a:lnTo>
                <a:lnTo>
                  <a:pt x="485" y="169"/>
                </a:lnTo>
                <a:lnTo>
                  <a:pt x="476" y="171"/>
                </a:lnTo>
                <a:lnTo>
                  <a:pt x="466" y="173"/>
                </a:lnTo>
                <a:lnTo>
                  <a:pt x="454" y="175"/>
                </a:lnTo>
                <a:lnTo>
                  <a:pt x="443" y="177"/>
                </a:lnTo>
                <a:lnTo>
                  <a:pt x="428" y="179"/>
                </a:lnTo>
                <a:lnTo>
                  <a:pt x="414" y="183"/>
                </a:lnTo>
                <a:lnTo>
                  <a:pt x="397" y="184"/>
                </a:lnTo>
                <a:lnTo>
                  <a:pt x="380" y="188"/>
                </a:lnTo>
                <a:lnTo>
                  <a:pt x="360" y="192"/>
                </a:lnTo>
                <a:lnTo>
                  <a:pt x="339" y="198"/>
                </a:lnTo>
                <a:lnTo>
                  <a:pt x="297" y="206"/>
                </a:lnTo>
                <a:lnTo>
                  <a:pt x="257" y="213"/>
                </a:lnTo>
                <a:lnTo>
                  <a:pt x="216" y="219"/>
                </a:lnTo>
                <a:lnTo>
                  <a:pt x="178" y="223"/>
                </a:lnTo>
                <a:lnTo>
                  <a:pt x="142" y="227"/>
                </a:lnTo>
                <a:lnTo>
                  <a:pt x="105" y="229"/>
                </a:lnTo>
                <a:lnTo>
                  <a:pt x="71" y="231"/>
                </a:lnTo>
                <a:lnTo>
                  <a:pt x="38" y="232"/>
                </a:lnTo>
                <a:lnTo>
                  <a:pt x="19" y="190"/>
                </a:lnTo>
                <a:lnTo>
                  <a:pt x="0" y="150"/>
                </a:lnTo>
                <a:lnTo>
                  <a:pt x="21" y="152"/>
                </a:lnTo>
                <a:lnTo>
                  <a:pt x="42" y="154"/>
                </a:lnTo>
                <a:lnTo>
                  <a:pt x="63" y="156"/>
                </a:lnTo>
                <a:lnTo>
                  <a:pt x="84" y="156"/>
                </a:lnTo>
                <a:lnTo>
                  <a:pt x="105" y="156"/>
                </a:lnTo>
                <a:lnTo>
                  <a:pt x="126" y="154"/>
                </a:lnTo>
                <a:lnTo>
                  <a:pt x="147" y="154"/>
                </a:lnTo>
                <a:lnTo>
                  <a:pt x="170" y="152"/>
                </a:lnTo>
                <a:lnTo>
                  <a:pt x="191" y="148"/>
                </a:lnTo>
                <a:lnTo>
                  <a:pt x="213" y="146"/>
                </a:lnTo>
                <a:lnTo>
                  <a:pt x="234" y="142"/>
                </a:lnTo>
                <a:lnTo>
                  <a:pt x="255" y="138"/>
                </a:lnTo>
                <a:lnTo>
                  <a:pt x="276" y="133"/>
                </a:lnTo>
                <a:lnTo>
                  <a:pt x="297" y="129"/>
                </a:lnTo>
                <a:lnTo>
                  <a:pt x="318" y="123"/>
                </a:lnTo>
                <a:lnTo>
                  <a:pt x="339" y="115"/>
                </a:lnTo>
                <a:lnTo>
                  <a:pt x="360" y="110"/>
                </a:lnTo>
                <a:lnTo>
                  <a:pt x="380" y="104"/>
                </a:lnTo>
                <a:lnTo>
                  <a:pt x="399" y="98"/>
                </a:lnTo>
                <a:lnTo>
                  <a:pt x="416" y="92"/>
                </a:lnTo>
                <a:lnTo>
                  <a:pt x="431" y="87"/>
                </a:lnTo>
                <a:lnTo>
                  <a:pt x="447" y="81"/>
                </a:lnTo>
                <a:lnTo>
                  <a:pt x="460" y="75"/>
                </a:lnTo>
                <a:lnTo>
                  <a:pt x="472" y="71"/>
                </a:lnTo>
                <a:lnTo>
                  <a:pt x="483" y="65"/>
                </a:lnTo>
                <a:lnTo>
                  <a:pt x="493" y="62"/>
                </a:lnTo>
                <a:lnTo>
                  <a:pt x="502" y="56"/>
                </a:lnTo>
                <a:lnTo>
                  <a:pt x="510" y="52"/>
                </a:lnTo>
                <a:lnTo>
                  <a:pt x="516" y="48"/>
                </a:lnTo>
                <a:lnTo>
                  <a:pt x="522" y="42"/>
                </a:lnTo>
                <a:lnTo>
                  <a:pt x="525" y="39"/>
                </a:lnTo>
                <a:lnTo>
                  <a:pt x="529" y="35"/>
                </a:lnTo>
                <a:lnTo>
                  <a:pt x="539" y="25"/>
                </a:lnTo>
                <a:lnTo>
                  <a:pt x="545" y="21"/>
                </a:lnTo>
                <a:lnTo>
                  <a:pt x="549" y="17"/>
                </a:lnTo>
                <a:lnTo>
                  <a:pt x="556" y="14"/>
                </a:lnTo>
                <a:lnTo>
                  <a:pt x="562" y="8"/>
                </a:lnTo>
                <a:lnTo>
                  <a:pt x="570" y="4"/>
                </a:lnTo>
                <a:lnTo>
                  <a:pt x="579" y="0"/>
                </a:lnTo>
                <a:lnTo>
                  <a:pt x="585" y="0"/>
                </a:lnTo>
                <a:lnTo>
                  <a:pt x="591" y="0"/>
                </a:lnTo>
                <a:lnTo>
                  <a:pt x="596" y="2"/>
                </a:lnTo>
                <a:lnTo>
                  <a:pt x="602" y="4"/>
                </a:lnTo>
                <a:lnTo>
                  <a:pt x="610" y="6"/>
                </a:lnTo>
                <a:lnTo>
                  <a:pt x="618" y="8"/>
                </a:lnTo>
                <a:lnTo>
                  <a:pt x="627" y="12"/>
                </a:lnTo>
                <a:lnTo>
                  <a:pt x="637" y="16"/>
                </a:lnTo>
                <a:lnTo>
                  <a:pt x="646" y="19"/>
                </a:lnTo>
                <a:lnTo>
                  <a:pt x="656" y="23"/>
                </a:lnTo>
                <a:lnTo>
                  <a:pt x="668" y="29"/>
                </a:lnTo>
                <a:lnTo>
                  <a:pt x="679" y="33"/>
                </a:lnTo>
                <a:lnTo>
                  <a:pt x="691" y="39"/>
                </a:lnTo>
                <a:lnTo>
                  <a:pt x="704" y="44"/>
                </a:lnTo>
                <a:lnTo>
                  <a:pt x="717" y="52"/>
                </a:lnTo>
                <a:lnTo>
                  <a:pt x="731" y="58"/>
                </a:lnTo>
                <a:lnTo>
                  <a:pt x="744" y="67"/>
                </a:lnTo>
                <a:lnTo>
                  <a:pt x="758" y="75"/>
                </a:lnTo>
                <a:lnTo>
                  <a:pt x="769" y="83"/>
                </a:lnTo>
                <a:lnTo>
                  <a:pt x="781" y="90"/>
                </a:lnTo>
                <a:lnTo>
                  <a:pt x="790" y="98"/>
                </a:lnTo>
                <a:lnTo>
                  <a:pt x="800" y="104"/>
                </a:lnTo>
                <a:lnTo>
                  <a:pt x="808" y="112"/>
                </a:lnTo>
                <a:lnTo>
                  <a:pt x="815" y="117"/>
                </a:lnTo>
                <a:lnTo>
                  <a:pt x="823" y="123"/>
                </a:lnTo>
                <a:lnTo>
                  <a:pt x="829" y="129"/>
                </a:lnTo>
                <a:lnTo>
                  <a:pt x="833" y="133"/>
                </a:lnTo>
                <a:lnTo>
                  <a:pt x="836" y="138"/>
                </a:lnTo>
                <a:lnTo>
                  <a:pt x="840" y="142"/>
                </a:lnTo>
                <a:lnTo>
                  <a:pt x="842" y="144"/>
                </a:lnTo>
                <a:lnTo>
                  <a:pt x="844" y="148"/>
                </a:lnTo>
                <a:lnTo>
                  <a:pt x="844" y="150"/>
                </a:lnTo>
                <a:lnTo>
                  <a:pt x="844" y="156"/>
                </a:lnTo>
                <a:lnTo>
                  <a:pt x="842" y="161"/>
                </a:lnTo>
                <a:lnTo>
                  <a:pt x="838" y="167"/>
                </a:lnTo>
                <a:lnTo>
                  <a:pt x="833" y="173"/>
                </a:lnTo>
                <a:lnTo>
                  <a:pt x="831" y="177"/>
                </a:lnTo>
                <a:lnTo>
                  <a:pt x="827" y="181"/>
                </a:lnTo>
                <a:lnTo>
                  <a:pt x="823" y="183"/>
                </a:lnTo>
                <a:lnTo>
                  <a:pt x="817" y="186"/>
                </a:lnTo>
                <a:lnTo>
                  <a:pt x="813" y="188"/>
                </a:lnTo>
                <a:lnTo>
                  <a:pt x="808" y="192"/>
                </a:lnTo>
                <a:lnTo>
                  <a:pt x="800" y="194"/>
                </a:lnTo>
                <a:lnTo>
                  <a:pt x="794" y="198"/>
                </a:lnTo>
                <a:lnTo>
                  <a:pt x="779" y="202"/>
                </a:lnTo>
                <a:lnTo>
                  <a:pt x="765" y="207"/>
                </a:lnTo>
                <a:lnTo>
                  <a:pt x="752" y="215"/>
                </a:lnTo>
                <a:lnTo>
                  <a:pt x="737" y="223"/>
                </a:lnTo>
                <a:lnTo>
                  <a:pt x="723" y="232"/>
                </a:lnTo>
                <a:lnTo>
                  <a:pt x="708" y="242"/>
                </a:lnTo>
                <a:lnTo>
                  <a:pt x="694" y="254"/>
                </a:lnTo>
                <a:lnTo>
                  <a:pt x="681" y="267"/>
                </a:lnTo>
                <a:lnTo>
                  <a:pt x="673" y="273"/>
                </a:lnTo>
                <a:lnTo>
                  <a:pt x="666" y="280"/>
                </a:lnTo>
                <a:lnTo>
                  <a:pt x="656" y="290"/>
                </a:lnTo>
                <a:lnTo>
                  <a:pt x="648" y="300"/>
                </a:lnTo>
                <a:lnTo>
                  <a:pt x="637" y="309"/>
                </a:lnTo>
                <a:lnTo>
                  <a:pt x="627" y="321"/>
                </a:lnTo>
                <a:lnTo>
                  <a:pt x="618" y="332"/>
                </a:lnTo>
                <a:lnTo>
                  <a:pt x="606" y="344"/>
                </a:lnTo>
                <a:lnTo>
                  <a:pt x="595" y="357"/>
                </a:lnTo>
                <a:lnTo>
                  <a:pt x="583" y="373"/>
                </a:lnTo>
                <a:lnTo>
                  <a:pt x="570" y="388"/>
                </a:lnTo>
                <a:lnTo>
                  <a:pt x="558" y="403"/>
                </a:lnTo>
                <a:lnTo>
                  <a:pt x="545" y="421"/>
                </a:lnTo>
                <a:lnTo>
                  <a:pt x="531" y="438"/>
                </a:lnTo>
                <a:lnTo>
                  <a:pt x="518" y="455"/>
                </a:lnTo>
                <a:lnTo>
                  <a:pt x="504" y="476"/>
                </a:lnTo>
                <a:lnTo>
                  <a:pt x="491" y="493"/>
                </a:lnTo>
                <a:lnTo>
                  <a:pt x="477" y="513"/>
                </a:lnTo>
                <a:lnTo>
                  <a:pt x="466" y="530"/>
                </a:lnTo>
                <a:lnTo>
                  <a:pt x="454" y="545"/>
                </a:lnTo>
                <a:lnTo>
                  <a:pt x="445" y="561"/>
                </a:lnTo>
                <a:lnTo>
                  <a:pt x="435" y="574"/>
                </a:lnTo>
                <a:lnTo>
                  <a:pt x="426" y="586"/>
                </a:lnTo>
                <a:lnTo>
                  <a:pt x="420" y="597"/>
                </a:lnTo>
                <a:lnTo>
                  <a:pt x="412" y="609"/>
                </a:lnTo>
                <a:lnTo>
                  <a:pt x="406" y="616"/>
                </a:lnTo>
                <a:lnTo>
                  <a:pt x="401" y="626"/>
                </a:lnTo>
                <a:lnTo>
                  <a:pt x="397" y="632"/>
                </a:lnTo>
                <a:lnTo>
                  <a:pt x="395" y="637"/>
                </a:lnTo>
                <a:lnTo>
                  <a:pt x="391" y="643"/>
                </a:lnTo>
                <a:lnTo>
                  <a:pt x="391" y="647"/>
                </a:lnTo>
                <a:lnTo>
                  <a:pt x="391" y="649"/>
                </a:lnTo>
                <a:lnTo>
                  <a:pt x="391" y="653"/>
                </a:lnTo>
                <a:lnTo>
                  <a:pt x="393" y="655"/>
                </a:lnTo>
                <a:lnTo>
                  <a:pt x="397" y="659"/>
                </a:lnTo>
                <a:lnTo>
                  <a:pt x="403" y="664"/>
                </a:lnTo>
                <a:lnTo>
                  <a:pt x="408" y="670"/>
                </a:lnTo>
                <a:lnTo>
                  <a:pt x="416" y="676"/>
                </a:lnTo>
                <a:lnTo>
                  <a:pt x="426" y="684"/>
                </a:lnTo>
                <a:lnTo>
                  <a:pt x="435" y="691"/>
                </a:lnTo>
                <a:lnTo>
                  <a:pt x="449" y="699"/>
                </a:lnTo>
                <a:lnTo>
                  <a:pt x="462" y="708"/>
                </a:lnTo>
                <a:lnTo>
                  <a:pt x="476" y="718"/>
                </a:lnTo>
                <a:lnTo>
                  <a:pt x="491" y="730"/>
                </a:lnTo>
                <a:lnTo>
                  <a:pt x="508" y="741"/>
                </a:lnTo>
                <a:lnTo>
                  <a:pt x="527" y="753"/>
                </a:lnTo>
                <a:lnTo>
                  <a:pt x="547" y="764"/>
                </a:lnTo>
                <a:lnTo>
                  <a:pt x="568" y="778"/>
                </a:lnTo>
                <a:lnTo>
                  <a:pt x="587" y="791"/>
                </a:lnTo>
                <a:lnTo>
                  <a:pt x="608" y="804"/>
                </a:lnTo>
                <a:lnTo>
                  <a:pt x="627" y="816"/>
                </a:lnTo>
                <a:lnTo>
                  <a:pt x="644" y="829"/>
                </a:lnTo>
                <a:lnTo>
                  <a:pt x="662" y="843"/>
                </a:lnTo>
                <a:lnTo>
                  <a:pt x="679" y="856"/>
                </a:lnTo>
                <a:lnTo>
                  <a:pt x="694" y="870"/>
                </a:lnTo>
                <a:lnTo>
                  <a:pt x="710" y="883"/>
                </a:lnTo>
                <a:lnTo>
                  <a:pt x="725" y="897"/>
                </a:lnTo>
                <a:lnTo>
                  <a:pt x="739" y="910"/>
                </a:lnTo>
                <a:lnTo>
                  <a:pt x="752" y="923"/>
                </a:lnTo>
                <a:lnTo>
                  <a:pt x="763" y="939"/>
                </a:lnTo>
                <a:lnTo>
                  <a:pt x="775" y="952"/>
                </a:lnTo>
                <a:lnTo>
                  <a:pt x="787" y="968"/>
                </a:lnTo>
                <a:lnTo>
                  <a:pt x="796" y="983"/>
                </a:lnTo>
                <a:lnTo>
                  <a:pt x="806" y="998"/>
                </a:lnTo>
                <a:lnTo>
                  <a:pt x="819" y="1027"/>
                </a:lnTo>
                <a:lnTo>
                  <a:pt x="833" y="1056"/>
                </a:lnTo>
                <a:lnTo>
                  <a:pt x="836" y="1071"/>
                </a:lnTo>
                <a:lnTo>
                  <a:pt x="842" y="1085"/>
                </a:lnTo>
                <a:lnTo>
                  <a:pt x="846" y="1100"/>
                </a:lnTo>
                <a:lnTo>
                  <a:pt x="850" y="1113"/>
                </a:lnTo>
                <a:lnTo>
                  <a:pt x="854" y="1127"/>
                </a:lnTo>
                <a:lnTo>
                  <a:pt x="856" y="1142"/>
                </a:lnTo>
                <a:lnTo>
                  <a:pt x="858" y="1156"/>
                </a:lnTo>
                <a:lnTo>
                  <a:pt x="859" y="1171"/>
                </a:lnTo>
                <a:lnTo>
                  <a:pt x="859" y="1184"/>
                </a:lnTo>
                <a:lnTo>
                  <a:pt x="859" y="1200"/>
                </a:lnTo>
                <a:lnTo>
                  <a:pt x="859" y="1215"/>
                </a:lnTo>
                <a:lnTo>
                  <a:pt x="858" y="1231"/>
                </a:lnTo>
                <a:lnTo>
                  <a:pt x="852" y="1259"/>
                </a:lnTo>
                <a:lnTo>
                  <a:pt x="844" y="1288"/>
                </a:lnTo>
                <a:lnTo>
                  <a:pt x="836" y="1315"/>
                </a:lnTo>
                <a:lnTo>
                  <a:pt x="827" y="1342"/>
                </a:lnTo>
                <a:lnTo>
                  <a:pt x="815" y="1365"/>
                </a:lnTo>
                <a:lnTo>
                  <a:pt x="810" y="1376"/>
                </a:lnTo>
                <a:lnTo>
                  <a:pt x="802" y="1388"/>
                </a:lnTo>
                <a:lnTo>
                  <a:pt x="794" y="1398"/>
                </a:lnTo>
                <a:lnTo>
                  <a:pt x="787" y="1409"/>
                </a:lnTo>
                <a:lnTo>
                  <a:pt x="779" y="1419"/>
                </a:lnTo>
                <a:lnTo>
                  <a:pt x="769" y="142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34"/>
          <p:cNvSpPr/>
          <p:nvPr/>
        </p:nvSpPr>
        <p:spPr>
          <a:xfrm>
            <a:off x="6892920" y="3193920"/>
            <a:ext cx="171360" cy="1535400"/>
          </a:xfrm>
          <a:custGeom>
            <a:avLst/>
            <a:gdLst/>
            <a:ahLst/>
            <a:rect l="l" t="t" r="r" b="b"/>
            <a:pathLst>
              <a:path w="215" h="1933">
                <a:moveTo>
                  <a:pt x="0" y="17"/>
                </a:moveTo>
                <a:lnTo>
                  <a:pt x="4" y="14"/>
                </a:lnTo>
                <a:lnTo>
                  <a:pt x="7" y="10"/>
                </a:lnTo>
                <a:lnTo>
                  <a:pt x="13" y="8"/>
                </a:lnTo>
                <a:lnTo>
                  <a:pt x="19" y="4"/>
                </a:lnTo>
                <a:lnTo>
                  <a:pt x="29" y="2"/>
                </a:lnTo>
                <a:lnTo>
                  <a:pt x="36" y="2"/>
                </a:lnTo>
                <a:lnTo>
                  <a:pt x="48" y="0"/>
                </a:lnTo>
                <a:lnTo>
                  <a:pt x="59" y="0"/>
                </a:lnTo>
                <a:lnTo>
                  <a:pt x="75" y="0"/>
                </a:lnTo>
                <a:lnTo>
                  <a:pt x="90" y="2"/>
                </a:lnTo>
                <a:lnTo>
                  <a:pt x="105" y="2"/>
                </a:lnTo>
                <a:lnTo>
                  <a:pt x="125" y="4"/>
                </a:lnTo>
                <a:lnTo>
                  <a:pt x="144" y="8"/>
                </a:lnTo>
                <a:lnTo>
                  <a:pt x="167" y="10"/>
                </a:lnTo>
                <a:lnTo>
                  <a:pt x="190" y="14"/>
                </a:lnTo>
                <a:lnTo>
                  <a:pt x="215" y="17"/>
                </a:lnTo>
                <a:lnTo>
                  <a:pt x="215" y="117"/>
                </a:lnTo>
                <a:lnTo>
                  <a:pt x="215" y="213"/>
                </a:lnTo>
                <a:lnTo>
                  <a:pt x="215" y="305"/>
                </a:lnTo>
                <a:lnTo>
                  <a:pt x="215" y="396"/>
                </a:lnTo>
                <a:lnTo>
                  <a:pt x="215" y="484"/>
                </a:lnTo>
                <a:lnTo>
                  <a:pt x="213" y="568"/>
                </a:lnTo>
                <a:lnTo>
                  <a:pt x="213" y="651"/>
                </a:lnTo>
                <a:lnTo>
                  <a:pt x="213" y="730"/>
                </a:lnTo>
                <a:lnTo>
                  <a:pt x="213" y="806"/>
                </a:lnTo>
                <a:lnTo>
                  <a:pt x="211" y="879"/>
                </a:lnTo>
                <a:lnTo>
                  <a:pt x="211" y="950"/>
                </a:lnTo>
                <a:lnTo>
                  <a:pt x="211" y="1017"/>
                </a:lnTo>
                <a:lnTo>
                  <a:pt x="209" y="1083"/>
                </a:lnTo>
                <a:lnTo>
                  <a:pt x="209" y="1144"/>
                </a:lnTo>
                <a:lnTo>
                  <a:pt x="207" y="1204"/>
                </a:lnTo>
                <a:lnTo>
                  <a:pt x="207" y="1261"/>
                </a:lnTo>
                <a:lnTo>
                  <a:pt x="205" y="1315"/>
                </a:lnTo>
                <a:lnTo>
                  <a:pt x="205" y="1367"/>
                </a:lnTo>
                <a:lnTo>
                  <a:pt x="203" y="1415"/>
                </a:lnTo>
                <a:lnTo>
                  <a:pt x="203" y="1459"/>
                </a:lnTo>
                <a:lnTo>
                  <a:pt x="201" y="1501"/>
                </a:lnTo>
                <a:lnTo>
                  <a:pt x="201" y="1541"/>
                </a:lnTo>
                <a:lnTo>
                  <a:pt x="199" y="1578"/>
                </a:lnTo>
                <a:lnTo>
                  <a:pt x="199" y="1612"/>
                </a:lnTo>
                <a:lnTo>
                  <a:pt x="197" y="1643"/>
                </a:lnTo>
                <a:lnTo>
                  <a:pt x="196" y="1672"/>
                </a:lnTo>
                <a:lnTo>
                  <a:pt x="196" y="1697"/>
                </a:lnTo>
                <a:lnTo>
                  <a:pt x="194" y="1720"/>
                </a:lnTo>
                <a:lnTo>
                  <a:pt x="194" y="1739"/>
                </a:lnTo>
                <a:lnTo>
                  <a:pt x="192" y="1756"/>
                </a:lnTo>
                <a:lnTo>
                  <a:pt x="190" y="1770"/>
                </a:lnTo>
                <a:lnTo>
                  <a:pt x="190" y="1781"/>
                </a:lnTo>
                <a:lnTo>
                  <a:pt x="184" y="1801"/>
                </a:lnTo>
                <a:lnTo>
                  <a:pt x="180" y="1818"/>
                </a:lnTo>
                <a:lnTo>
                  <a:pt x="176" y="1835"/>
                </a:lnTo>
                <a:lnTo>
                  <a:pt x="173" y="1851"/>
                </a:lnTo>
                <a:lnTo>
                  <a:pt x="169" y="1864"/>
                </a:lnTo>
                <a:lnTo>
                  <a:pt x="167" y="1875"/>
                </a:lnTo>
                <a:lnTo>
                  <a:pt x="163" y="1887"/>
                </a:lnTo>
                <a:lnTo>
                  <a:pt x="159" y="1897"/>
                </a:lnTo>
                <a:lnTo>
                  <a:pt x="157" y="1904"/>
                </a:lnTo>
                <a:lnTo>
                  <a:pt x="153" y="1912"/>
                </a:lnTo>
                <a:lnTo>
                  <a:pt x="151" y="1920"/>
                </a:lnTo>
                <a:lnTo>
                  <a:pt x="149" y="1923"/>
                </a:lnTo>
                <a:lnTo>
                  <a:pt x="146" y="1927"/>
                </a:lnTo>
                <a:lnTo>
                  <a:pt x="144" y="1931"/>
                </a:lnTo>
                <a:lnTo>
                  <a:pt x="142" y="1931"/>
                </a:lnTo>
                <a:lnTo>
                  <a:pt x="140" y="1933"/>
                </a:lnTo>
                <a:lnTo>
                  <a:pt x="136" y="1931"/>
                </a:lnTo>
                <a:lnTo>
                  <a:pt x="134" y="1929"/>
                </a:lnTo>
                <a:lnTo>
                  <a:pt x="132" y="1927"/>
                </a:lnTo>
                <a:lnTo>
                  <a:pt x="130" y="1922"/>
                </a:lnTo>
                <a:lnTo>
                  <a:pt x="126" y="1916"/>
                </a:lnTo>
                <a:lnTo>
                  <a:pt x="125" y="1908"/>
                </a:lnTo>
                <a:lnTo>
                  <a:pt x="123" y="1900"/>
                </a:lnTo>
                <a:lnTo>
                  <a:pt x="121" y="1891"/>
                </a:lnTo>
                <a:lnTo>
                  <a:pt x="117" y="1879"/>
                </a:lnTo>
                <a:lnTo>
                  <a:pt x="115" y="1868"/>
                </a:lnTo>
                <a:lnTo>
                  <a:pt x="113" y="1854"/>
                </a:lnTo>
                <a:lnTo>
                  <a:pt x="111" y="1839"/>
                </a:lnTo>
                <a:lnTo>
                  <a:pt x="107" y="1824"/>
                </a:lnTo>
                <a:lnTo>
                  <a:pt x="105" y="1806"/>
                </a:lnTo>
                <a:lnTo>
                  <a:pt x="103" y="1789"/>
                </a:lnTo>
                <a:lnTo>
                  <a:pt x="102" y="1770"/>
                </a:lnTo>
                <a:lnTo>
                  <a:pt x="100" y="1758"/>
                </a:lnTo>
                <a:lnTo>
                  <a:pt x="100" y="1747"/>
                </a:lnTo>
                <a:lnTo>
                  <a:pt x="98" y="1733"/>
                </a:lnTo>
                <a:lnTo>
                  <a:pt x="96" y="1718"/>
                </a:lnTo>
                <a:lnTo>
                  <a:pt x="96" y="1703"/>
                </a:lnTo>
                <a:lnTo>
                  <a:pt x="94" y="1685"/>
                </a:lnTo>
                <a:lnTo>
                  <a:pt x="94" y="1668"/>
                </a:lnTo>
                <a:lnTo>
                  <a:pt x="92" y="1649"/>
                </a:lnTo>
                <a:lnTo>
                  <a:pt x="92" y="1628"/>
                </a:lnTo>
                <a:lnTo>
                  <a:pt x="90" y="1607"/>
                </a:lnTo>
                <a:lnTo>
                  <a:pt x="88" y="1586"/>
                </a:lnTo>
                <a:lnTo>
                  <a:pt x="88" y="1563"/>
                </a:lnTo>
                <a:lnTo>
                  <a:pt x="86" y="1538"/>
                </a:lnTo>
                <a:lnTo>
                  <a:pt x="86" y="1513"/>
                </a:lnTo>
                <a:lnTo>
                  <a:pt x="84" y="1486"/>
                </a:lnTo>
                <a:lnTo>
                  <a:pt x="84" y="1459"/>
                </a:lnTo>
                <a:lnTo>
                  <a:pt x="82" y="1430"/>
                </a:lnTo>
                <a:lnTo>
                  <a:pt x="82" y="1399"/>
                </a:lnTo>
                <a:lnTo>
                  <a:pt x="82" y="1369"/>
                </a:lnTo>
                <a:lnTo>
                  <a:pt x="80" y="1338"/>
                </a:lnTo>
                <a:lnTo>
                  <a:pt x="80" y="1305"/>
                </a:lnTo>
                <a:lnTo>
                  <a:pt x="80" y="1271"/>
                </a:lnTo>
                <a:lnTo>
                  <a:pt x="78" y="1236"/>
                </a:lnTo>
                <a:lnTo>
                  <a:pt x="78" y="1202"/>
                </a:lnTo>
                <a:lnTo>
                  <a:pt x="78" y="1163"/>
                </a:lnTo>
                <a:lnTo>
                  <a:pt x="77" y="1127"/>
                </a:lnTo>
                <a:lnTo>
                  <a:pt x="77" y="1087"/>
                </a:lnTo>
                <a:lnTo>
                  <a:pt x="77" y="1046"/>
                </a:lnTo>
                <a:lnTo>
                  <a:pt x="77" y="1006"/>
                </a:lnTo>
                <a:lnTo>
                  <a:pt x="77" y="964"/>
                </a:lnTo>
                <a:lnTo>
                  <a:pt x="77" y="921"/>
                </a:lnTo>
                <a:lnTo>
                  <a:pt x="77" y="877"/>
                </a:lnTo>
                <a:lnTo>
                  <a:pt x="77" y="833"/>
                </a:lnTo>
                <a:lnTo>
                  <a:pt x="77" y="791"/>
                </a:lnTo>
                <a:lnTo>
                  <a:pt x="77" y="749"/>
                </a:lnTo>
                <a:lnTo>
                  <a:pt x="75" y="708"/>
                </a:lnTo>
                <a:lnTo>
                  <a:pt x="75" y="670"/>
                </a:lnTo>
                <a:lnTo>
                  <a:pt x="75" y="632"/>
                </a:lnTo>
                <a:lnTo>
                  <a:pt x="75" y="597"/>
                </a:lnTo>
                <a:lnTo>
                  <a:pt x="75" y="561"/>
                </a:lnTo>
                <a:lnTo>
                  <a:pt x="73" y="528"/>
                </a:lnTo>
                <a:lnTo>
                  <a:pt x="73" y="495"/>
                </a:lnTo>
                <a:lnTo>
                  <a:pt x="71" y="465"/>
                </a:lnTo>
                <a:lnTo>
                  <a:pt x="71" y="434"/>
                </a:lnTo>
                <a:lnTo>
                  <a:pt x="69" y="407"/>
                </a:lnTo>
                <a:lnTo>
                  <a:pt x="69" y="378"/>
                </a:lnTo>
                <a:lnTo>
                  <a:pt x="67" y="353"/>
                </a:lnTo>
                <a:lnTo>
                  <a:pt x="67" y="328"/>
                </a:lnTo>
                <a:lnTo>
                  <a:pt x="65" y="305"/>
                </a:lnTo>
                <a:lnTo>
                  <a:pt x="63" y="284"/>
                </a:lnTo>
                <a:lnTo>
                  <a:pt x="63" y="263"/>
                </a:lnTo>
                <a:lnTo>
                  <a:pt x="61" y="244"/>
                </a:lnTo>
                <a:lnTo>
                  <a:pt x="59" y="225"/>
                </a:lnTo>
                <a:lnTo>
                  <a:pt x="57" y="207"/>
                </a:lnTo>
                <a:lnTo>
                  <a:pt x="55" y="192"/>
                </a:lnTo>
                <a:lnTo>
                  <a:pt x="55" y="179"/>
                </a:lnTo>
                <a:lnTo>
                  <a:pt x="54" y="165"/>
                </a:lnTo>
                <a:lnTo>
                  <a:pt x="52" y="154"/>
                </a:lnTo>
                <a:lnTo>
                  <a:pt x="50" y="144"/>
                </a:lnTo>
                <a:lnTo>
                  <a:pt x="48" y="135"/>
                </a:lnTo>
                <a:lnTo>
                  <a:pt x="46" y="127"/>
                </a:lnTo>
                <a:lnTo>
                  <a:pt x="42" y="121"/>
                </a:lnTo>
                <a:lnTo>
                  <a:pt x="40" y="115"/>
                </a:lnTo>
                <a:lnTo>
                  <a:pt x="38" y="111"/>
                </a:lnTo>
                <a:lnTo>
                  <a:pt x="29" y="98"/>
                </a:lnTo>
                <a:lnTo>
                  <a:pt x="21" y="85"/>
                </a:lnTo>
                <a:lnTo>
                  <a:pt x="15" y="73"/>
                </a:lnTo>
                <a:lnTo>
                  <a:pt x="9" y="60"/>
                </a:lnTo>
                <a:lnTo>
                  <a:pt x="6" y="48"/>
                </a:lnTo>
                <a:lnTo>
                  <a:pt x="4" y="37"/>
                </a:lnTo>
                <a:lnTo>
                  <a:pt x="2" y="27"/>
                </a:lnTo>
                <a:lnTo>
                  <a:pt x="0" y="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35"/>
          <p:cNvSpPr/>
          <p:nvPr/>
        </p:nvSpPr>
        <p:spPr>
          <a:xfrm>
            <a:off x="5869080" y="3962520"/>
            <a:ext cx="925560" cy="315720"/>
          </a:xfrm>
          <a:custGeom>
            <a:avLst/>
            <a:gdLst/>
            <a:ahLst/>
            <a:rect l="l" t="t" r="r" b="b"/>
            <a:pathLst>
              <a:path w="1165" h="399">
                <a:moveTo>
                  <a:pt x="685" y="222"/>
                </a:moveTo>
                <a:lnTo>
                  <a:pt x="656" y="234"/>
                </a:lnTo>
                <a:lnTo>
                  <a:pt x="628" y="243"/>
                </a:lnTo>
                <a:lnTo>
                  <a:pt x="601" y="253"/>
                </a:lnTo>
                <a:lnTo>
                  <a:pt x="574" y="264"/>
                </a:lnTo>
                <a:lnTo>
                  <a:pt x="549" y="272"/>
                </a:lnTo>
                <a:lnTo>
                  <a:pt x="524" y="282"/>
                </a:lnTo>
                <a:lnTo>
                  <a:pt x="499" y="291"/>
                </a:lnTo>
                <a:lnTo>
                  <a:pt x="476" y="299"/>
                </a:lnTo>
                <a:lnTo>
                  <a:pt x="455" y="307"/>
                </a:lnTo>
                <a:lnTo>
                  <a:pt x="434" y="314"/>
                </a:lnTo>
                <a:lnTo>
                  <a:pt x="413" y="322"/>
                </a:lnTo>
                <a:lnTo>
                  <a:pt x="393" y="330"/>
                </a:lnTo>
                <a:lnTo>
                  <a:pt x="374" y="335"/>
                </a:lnTo>
                <a:lnTo>
                  <a:pt x="357" y="341"/>
                </a:lnTo>
                <a:lnTo>
                  <a:pt x="340" y="347"/>
                </a:lnTo>
                <a:lnTo>
                  <a:pt x="324" y="353"/>
                </a:lnTo>
                <a:lnTo>
                  <a:pt x="309" y="358"/>
                </a:lnTo>
                <a:lnTo>
                  <a:pt x="294" y="364"/>
                </a:lnTo>
                <a:lnTo>
                  <a:pt x="280" y="368"/>
                </a:lnTo>
                <a:lnTo>
                  <a:pt x="269" y="372"/>
                </a:lnTo>
                <a:lnTo>
                  <a:pt x="255" y="376"/>
                </a:lnTo>
                <a:lnTo>
                  <a:pt x="246" y="380"/>
                </a:lnTo>
                <a:lnTo>
                  <a:pt x="234" y="383"/>
                </a:lnTo>
                <a:lnTo>
                  <a:pt x="224" y="385"/>
                </a:lnTo>
                <a:lnTo>
                  <a:pt x="217" y="387"/>
                </a:lnTo>
                <a:lnTo>
                  <a:pt x="209" y="389"/>
                </a:lnTo>
                <a:lnTo>
                  <a:pt x="201" y="391"/>
                </a:lnTo>
                <a:lnTo>
                  <a:pt x="196" y="393"/>
                </a:lnTo>
                <a:lnTo>
                  <a:pt x="190" y="395"/>
                </a:lnTo>
                <a:lnTo>
                  <a:pt x="186" y="395"/>
                </a:lnTo>
                <a:lnTo>
                  <a:pt x="182" y="395"/>
                </a:lnTo>
                <a:lnTo>
                  <a:pt x="180" y="397"/>
                </a:lnTo>
                <a:lnTo>
                  <a:pt x="175" y="397"/>
                </a:lnTo>
                <a:lnTo>
                  <a:pt x="171" y="399"/>
                </a:lnTo>
                <a:lnTo>
                  <a:pt x="165" y="399"/>
                </a:lnTo>
                <a:lnTo>
                  <a:pt x="159" y="399"/>
                </a:lnTo>
                <a:lnTo>
                  <a:pt x="153" y="397"/>
                </a:lnTo>
                <a:lnTo>
                  <a:pt x="146" y="395"/>
                </a:lnTo>
                <a:lnTo>
                  <a:pt x="140" y="393"/>
                </a:lnTo>
                <a:lnTo>
                  <a:pt x="132" y="389"/>
                </a:lnTo>
                <a:lnTo>
                  <a:pt x="125" y="385"/>
                </a:lnTo>
                <a:lnTo>
                  <a:pt x="117" y="380"/>
                </a:lnTo>
                <a:lnTo>
                  <a:pt x="109" y="374"/>
                </a:lnTo>
                <a:lnTo>
                  <a:pt x="102" y="368"/>
                </a:lnTo>
                <a:lnTo>
                  <a:pt x="94" y="362"/>
                </a:lnTo>
                <a:lnTo>
                  <a:pt x="84" y="355"/>
                </a:lnTo>
                <a:lnTo>
                  <a:pt x="77" y="347"/>
                </a:lnTo>
                <a:lnTo>
                  <a:pt x="67" y="337"/>
                </a:lnTo>
                <a:lnTo>
                  <a:pt x="58" y="330"/>
                </a:lnTo>
                <a:lnTo>
                  <a:pt x="50" y="320"/>
                </a:lnTo>
                <a:lnTo>
                  <a:pt x="42" y="312"/>
                </a:lnTo>
                <a:lnTo>
                  <a:pt x="34" y="305"/>
                </a:lnTo>
                <a:lnTo>
                  <a:pt x="27" y="297"/>
                </a:lnTo>
                <a:lnTo>
                  <a:pt x="21" y="291"/>
                </a:lnTo>
                <a:lnTo>
                  <a:pt x="15" y="284"/>
                </a:lnTo>
                <a:lnTo>
                  <a:pt x="11" y="278"/>
                </a:lnTo>
                <a:lnTo>
                  <a:pt x="8" y="270"/>
                </a:lnTo>
                <a:lnTo>
                  <a:pt x="6" y="264"/>
                </a:lnTo>
                <a:lnTo>
                  <a:pt x="2" y="259"/>
                </a:lnTo>
                <a:lnTo>
                  <a:pt x="2" y="253"/>
                </a:lnTo>
                <a:lnTo>
                  <a:pt x="0" y="247"/>
                </a:lnTo>
                <a:lnTo>
                  <a:pt x="0" y="243"/>
                </a:lnTo>
                <a:lnTo>
                  <a:pt x="2" y="238"/>
                </a:lnTo>
                <a:lnTo>
                  <a:pt x="4" y="234"/>
                </a:lnTo>
                <a:lnTo>
                  <a:pt x="10" y="230"/>
                </a:lnTo>
                <a:lnTo>
                  <a:pt x="15" y="226"/>
                </a:lnTo>
                <a:lnTo>
                  <a:pt x="23" y="222"/>
                </a:lnTo>
                <a:lnTo>
                  <a:pt x="33" y="218"/>
                </a:lnTo>
                <a:lnTo>
                  <a:pt x="42" y="218"/>
                </a:lnTo>
                <a:lnTo>
                  <a:pt x="54" y="216"/>
                </a:lnTo>
                <a:lnTo>
                  <a:pt x="59" y="218"/>
                </a:lnTo>
                <a:lnTo>
                  <a:pt x="65" y="218"/>
                </a:lnTo>
                <a:lnTo>
                  <a:pt x="73" y="220"/>
                </a:lnTo>
                <a:lnTo>
                  <a:pt x="79" y="222"/>
                </a:lnTo>
                <a:lnTo>
                  <a:pt x="92" y="226"/>
                </a:lnTo>
                <a:lnTo>
                  <a:pt x="105" y="230"/>
                </a:lnTo>
                <a:lnTo>
                  <a:pt x="117" y="234"/>
                </a:lnTo>
                <a:lnTo>
                  <a:pt x="127" y="238"/>
                </a:lnTo>
                <a:lnTo>
                  <a:pt x="136" y="238"/>
                </a:lnTo>
                <a:lnTo>
                  <a:pt x="144" y="238"/>
                </a:lnTo>
                <a:lnTo>
                  <a:pt x="150" y="238"/>
                </a:lnTo>
                <a:lnTo>
                  <a:pt x="152" y="236"/>
                </a:lnTo>
                <a:lnTo>
                  <a:pt x="155" y="234"/>
                </a:lnTo>
                <a:lnTo>
                  <a:pt x="157" y="234"/>
                </a:lnTo>
                <a:lnTo>
                  <a:pt x="159" y="234"/>
                </a:lnTo>
                <a:lnTo>
                  <a:pt x="163" y="232"/>
                </a:lnTo>
                <a:lnTo>
                  <a:pt x="167" y="232"/>
                </a:lnTo>
                <a:lnTo>
                  <a:pt x="173" y="230"/>
                </a:lnTo>
                <a:lnTo>
                  <a:pt x="178" y="230"/>
                </a:lnTo>
                <a:lnTo>
                  <a:pt x="186" y="228"/>
                </a:lnTo>
                <a:lnTo>
                  <a:pt x="196" y="226"/>
                </a:lnTo>
                <a:lnTo>
                  <a:pt x="203" y="224"/>
                </a:lnTo>
                <a:lnTo>
                  <a:pt x="215" y="220"/>
                </a:lnTo>
                <a:lnTo>
                  <a:pt x="226" y="218"/>
                </a:lnTo>
                <a:lnTo>
                  <a:pt x="238" y="215"/>
                </a:lnTo>
                <a:lnTo>
                  <a:pt x="251" y="213"/>
                </a:lnTo>
                <a:lnTo>
                  <a:pt x="265" y="209"/>
                </a:lnTo>
                <a:lnTo>
                  <a:pt x="280" y="205"/>
                </a:lnTo>
                <a:lnTo>
                  <a:pt x="296" y="201"/>
                </a:lnTo>
                <a:lnTo>
                  <a:pt x="313" y="197"/>
                </a:lnTo>
                <a:lnTo>
                  <a:pt x="330" y="191"/>
                </a:lnTo>
                <a:lnTo>
                  <a:pt x="349" y="188"/>
                </a:lnTo>
                <a:lnTo>
                  <a:pt x="368" y="182"/>
                </a:lnTo>
                <a:lnTo>
                  <a:pt x="388" y="178"/>
                </a:lnTo>
                <a:lnTo>
                  <a:pt x="409" y="172"/>
                </a:lnTo>
                <a:lnTo>
                  <a:pt x="432" y="167"/>
                </a:lnTo>
                <a:lnTo>
                  <a:pt x="455" y="161"/>
                </a:lnTo>
                <a:lnTo>
                  <a:pt x="480" y="155"/>
                </a:lnTo>
                <a:lnTo>
                  <a:pt x="505" y="149"/>
                </a:lnTo>
                <a:lnTo>
                  <a:pt x="530" y="142"/>
                </a:lnTo>
                <a:lnTo>
                  <a:pt x="557" y="136"/>
                </a:lnTo>
                <a:lnTo>
                  <a:pt x="583" y="128"/>
                </a:lnTo>
                <a:lnTo>
                  <a:pt x="612" y="120"/>
                </a:lnTo>
                <a:lnTo>
                  <a:pt x="641" y="113"/>
                </a:lnTo>
                <a:lnTo>
                  <a:pt x="672" y="107"/>
                </a:lnTo>
                <a:lnTo>
                  <a:pt x="701" y="99"/>
                </a:lnTo>
                <a:lnTo>
                  <a:pt x="729" y="92"/>
                </a:lnTo>
                <a:lnTo>
                  <a:pt x="756" y="84"/>
                </a:lnTo>
                <a:lnTo>
                  <a:pt x="783" y="78"/>
                </a:lnTo>
                <a:lnTo>
                  <a:pt x="808" y="71"/>
                </a:lnTo>
                <a:lnTo>
                  <a:pt x="833" y="65"/>
                </a:lnTo>
                <a:lnTo>
                  <a:pt x="858" y="59"/>
                </a:lnTo>
                <a:lnTo>
                  <a:pt x="881" y="53"/>
                </a:lnTo>
                <a:lnTo>
                  <a:pt x="902" y="48"/>
                </a:lnTo>
                <a:lnTo>
                  <a:pt x="923" y="44"/>
                </a:lnTo>
                <a:lnTo>
                  <a:pt x="944" y="38"/>
                </a:lnTo>
                <a:lnTo>
                  <a:pt x="963" y="34"/>
                </a:lnTo>
                <a:lnTo>
                  <a:pt x="981" y="28"/>
                </a:lnTo>
                <a:lnTo>
                  <a:pt x="1000" y="25"/>
                </a:lnTo>
                <a:lnTo>
                  <a:pt x="1015" y="23"/>
                </a:lnTo>
                <a:lnTo>
                  <a:pt x="1031" y="19"/>
                </a:lnTo>
                <a:lnTo>
                  <a:pt x="1046" y="15"/>
                </a:lnTo>
                <a:lnTo>
                  <a:pt x="1061" y="13"/>
                </a:lnTo>
                <a:lnTo>
                  <a:pt x="1073" y="9"/>
                </a:lnTo>
                <a:lnTo>
                  <a:pt x="1086" y="7"/>
                </a:lnTo>
                <a:lnTo>
                  <a:pt x="1098" y="5"/>
                </a:lnTo>
                <a:lnTo>
                  <a:pt x="1107" y="3"/>
                </a:lnTo>
                <a:lnTo>
                  <a:pt x="1117" y="3"/>
                </a:lnTo>
                <a:lnTo>
                  <a:pt x="1127" y="1"/>
                </a:lnTo>
                <a:lnTo>
                  <a:pt x="1134" y="0"/>
                </a:lnTo>
                <a:lnTo>
                  <a:pt x="1142" y="0"/>
                </a:lnTo>
                <a:lnTo>
                  <a:pt x="1148" y="0"/>
                </a:lnTo>
                <a:lnTo>
                  <a:pt x="1152" y="0"/>
                </a:lnTo>
                <a:lnTo>
                  <a:pt x="1157" y="0"/>
                </a:lnTo>
                <a:lnTo>
                  <a:pt x="1159" y="0"/>
                </a:lnTo>
                <a:lnTo>
                  <a:pt x="1163" y="1"/>
                </a:lnTo>
                <a:lnTo>
                  <a:pt x="1165" y="1"/>
                </a:lnTo>
                <a:lnTo>
                  <a:pt x="1163" y="3"/>
                </a:lnTo>
                <a:lnTo>
                  <a:pt x="1163" y="7"/>
                </a:lnTo>
                <a:lnTo>
                  <a:pt x="1159" y="9"/>
                </a:lnTo>
                <a:lnTo>
                  <a:pt x="1157" y="13"/>
                </a:lnTo>
                <a:lnTo>
                  <a:pt x="1152" y="15"/>
                </a:lnTo>
                <a:lnTo>
                  <a:pt x="1148" y="19"/>
                </a:lnTo>
                <a:lnTo>
                  <a:pt x="1140" y="23"/>
                </a:lnTo>
                <a:lnTo>
                  <a:pt x="1134" y="28"/>
                </a:lnTo>
                <a:lnTo>
                  <a:pt x="1125" y="32"/>
                </a:lnTo>
                <a:lnTo>
                  <a:pt x="1117" y="36"/>
                </a:lnTo>
                <a:lnTo>
                  <a:pt x="1106" y="42"/>
                </a:lnTo>
                <a:lnTo>
                  <a:pt x="1096" y="48"/>
                </a:lnTo>
                <a:lnTo>
                  <a:pt x="1082" y="53"/>
                </a:lnTo>
                <a:lnTo>
                  <a:pt x="1071" y="59"/>
                </a:lnTo>
                <a:lnTo>
                  <a:pt x="1058" y="65"/>
                </a:lnTo>
                <a:lnTo>
                  <a:pt x="1042" y="72"/>
                </a:lnTo>
                <a:lnTo>
                  <a:pt x="1027" y="78"/>
                </a:lnTo>
                <a:lnTo>
                  <a:pt x="1010" y="86"/>
                </a:lnTo>
                <a:lnTo>
                  <a:pt x="992" y="94"/>
                </a:lnTo>
                <a:lnTo>
                  <a:pt x="975" y="101"/>
                </a:lnTo>
                <a:lnTo>
                  <a:pt x="956" y="109"/>
                </a:lnTo>
                <a:lnTo>
                  <a:pt x="935" y="119"/>
                </a:lnTo>
                <a:lnTo>
                  <a:pt x="914" y="126"/>
                </a:lnTo>
                <a:lnTo>
                  <a:pt x="892" y="136"/>
                </a:lnTo>
                <a:lnTo>
                  <a:pt x="869" y="145"/>
                </a:lnTo>
                <a:lnTo>
                  <a:pt x="846" y="155"/>
                </a:lnTo>
                <a:lnTo>
                  <a:pt x="821" y="167"/>
                </a:lnTo>
                <a:lnTo>
                  <a:pt x="796" y="176"/>
                </a:lnTo>
                <a:lnTo>
                  <a:pt x="770" y="188"/>
                </a:lnTo>
                <a:lnTo>
                  <a:pt x="743" y="199"/>
                </a:lnTo>
                <a:lnTo>
                  <a:pt x="714" y="211"/>
                </a:lnTo>
                <a:lnTo>
                  <a:pt x="685" y="22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36"/>
          <p:cNvSpPr/>
          <p:nvPr/>
        </p:nvSpPr>
        <p:spPr>
          <a:xfrm>
            <a:off x="6272280" y="3844800"/>
            <a:ext cx="345960" cy="708120"/>
          </a:xfrm>
          <a:custGeom>
            <a:avLst/>
            <a:gdLst/>
            <a:ahLst/>
            <a:rect l="l" t="t" r="r" b="b"/>
            <a:pathLst>
              <a:path w="435" h="892">
                <a:moveTo>
                  <a:pt x="380" y="173"/>
                </a:moveTo>
                <a:lnTo>
                  <a:pt x="384" y="186"/>
                </a:lnTo>
                <a:lnTo>
                  <a:pt x="389" y="201"/>
                </a:lnTo>
                <a:lnTo>
                  <a:pt x="393" y="217"/>
                </a:lnTo>
                <a:lnTo>
                  <a:pt x="399" y="236"/>
                </a:lnTo>
                <a:lnTo>
                  <a:pt x="403" y="255"/>
                </a:lnTo>
                <a:lnTo>
                  <a:pt x="408" y="276"/>
                </a:lnTo>
                <a:lnTo>
                  <a:pt x="410" y="288"/>
                </a:lnTo>
                <a:lnTo>
                  <a:pt x="412" y="299"/>
                </a:lnTo>
                <a:lnTo>
                  <a:pt x="416" y="311"/>
                </a:lnTo>
                <a:lnTo>
                  <a:pt x="418" y="324"/>
                </a:lnTo>
                <a:lnTo>
                  <a:pt x="422" y="355"/>
                </a:lnTo>
                <a:lnTo>
                  <a:pt x="426" y="384"/>
                </a:lnTo>
                <a:lnTo>
                  <a:pt x="430" y="414"/>
                </a:lnTo>
                <a:lnTo>
                  <a:pt x="433" y="445"/>
                </a:lnTo>
                <a:lnTo>
                  <a:pt x="435" y="476"/>
                </a:lnTo>
                <a:lnTo>
                  <a:pt x="435" y="506"/>
                </a:lnTo>
                <a:lnTo>
                  <a:pt x="435" y="522"/>
                </a:lnTo>
                <a:lnTo>
                  <a:pt x="433" y="537"/>
                </a:lnTo>
                <a:lnTo>
                  <a:pt x="432" y="553"/>
                </a:lnTo>
                <a:lnTo>
                  <a:pt x="430" y="568"/>
                </a:lnTo>
                <a:lnTo>
                  <a:pt x="426" y="602"/>
                </a:lnTo>
                <a:lnTo>
                  <a:pt x="418" y="635"/>
                </a:lnTo>
                <a:lnTo>
                  <a:pt x="410" y="666"/>
                </a:lnTo>
                <a:lnTo>
                  <a:pt x="401" y="697"/>
                </a:lnTo>
                <a:lnTo>
                  <a:pt x="391" y="725"/>
                </a:lnTo>
                <a:lnTo>
                  <a:pt x="380" y="752"/>
                </a:lnTo>
                <a:lnTo>
                  <a:pt x="374" y="764"/>
                </a:lnTo>
                <a:lnTo>
                  <a:pt x="368" y="777"/>
                </a:lnTo>
                <a:lnTo>
                  <a:pt x="361" y="789"/>
                </a:lnTo>
                <a:lnTo>
                  <a:pt x="355" y="800"/>
                </a:lnTo>
                <a:lnTo>
                  <a:pt x="347" y="810"/>
                </a:lnTo>
                <a:lnTo>
                  <a:pt x="339" y="819"/>
                </a:lnTo>
                <a:lnTo>
                  <a:pt x="334" y="829"/>
                </a:lnTo>
                <a:lnTo>
                  <a:pt x="326" y="837"/>
                </a:lnTo>
                <a:lnTo>
                  <a:pt x="320" y="844"/>
                </a:lnTo>
                <a:lnTo>
                  <a:pt x="313" y="852"/>
                </a:lnTo>
                <a:lnTo>
                  <a:pt x="307" y="858"/>
                </a:lnTo>
                <a:lnTo>
                  <a:pt x="299" y="864"/>
                </a:lnTo>
                <a:lnTo>
                  <a:pt x="293" y="869"/>
                </a:lnTo>
                <a:lnTo>
                  <a:pt x="286" y="873"/>
                </a:lnTo>
                <a:lnTo>
                  <a:pt x="274" y="881"/>
                </a:lnTo>
                <a:lnTo>
                  <a:pt x="263" y="887"/>
                </a:lnTo>
                <a:lnTo>
                  <a:pt x="253" y="892"/>
                </a:lnTo>
                <a:lnTo>
                  <a:pt x="249" y="892"/>
                </a:lnTo>
                <a:lnTo>
                  <a:pt x="245" y="890"/>
                </a:lnTo>
                <a:lnTo>
                  <a:pt x="240" y="890"/>
                </a:lnTo>
                <a:lnTo>
                  <a:pt x="236" y="888"/>
                </a:lnTo>
                <a:lnTo>
                  <a:pt x="230" y="883"/>
                </a:lnTo>
                <a:lnTo>
                  <a:pt x="224" y="877"/>
                </a:lnTo>
                <a:lnTo>
                  <a:pt x="218" y="867"/>
                </a:lnTo>
                <a:lnTo>
                  <a:pt x="213" y="858"/>
                </a:lnTo>
                <a:lnTo>
                  <a:pt x="207" y="846"/>
                </a:lnTo>
                <a:lnTo>
                  <a:pt x="203" y="835"/>
                </a:lnTo>
                <a:lnTo>
                  <a:pt x="201" y="825"/>
                </a:lnTo>
                <a:lnTo>
                  <a:pt x="197" y="817"/>
                </a:lnTo>
                <a:lnTo>
                  <a:pt x="194" y="810"/>
                </a:lnTo>
                <a:lnTo>
                  <a:pt x="190" y="802"/>
                </a:lnTo>
                <a:lnTo>
                  <a:pt x="184" y="794"/>
                </a:lnTo>
                <a:lnTo>
                  <a:pt x="178" y="787"/>
                </a:lnTo>
                <a:lnTo>
                  <a:pt x="172" y="779"/>
                </a:lnTo>
                <a:lnTo>
                  <a:pt x="165" y="771"/>
                </a:lnTo>
                <a:lnTo>
                  <a:pt x="157" y="766"/>
                </a:lnTo>
                <a:lnTo>
                  <a:pt x="149" y="758"/>
                </a:lnTo>
                <a:lnTo>
                  <a:pt x="142" y="752"/>
                </a:lnTo>
                <a:lnTo>
                  <a:pt x="132" y="745"/>
                </a:lnTo>
                <a:lnTo>
                  <a:pt x="122" y="739"/>
                </a:lnTo>
                <a:lnTo>
                  <a:pt x="111" y="731"/>
                </a:lnTo>
                <a:lnTo>
                  <a:pt x="101" y="725"/>
                </a:lnTo>
                <a:lnTo>
                  <a:pt x="90" y="718"/>
                </a:lnTo>
                <a:lnTo>
                  <a:pt x="78" y="712"/>
                </a:lnTo>
                <a:lnTo>
                  <a:pt x="67" y="706"/>
                </a:lnTo>
                <a:lnTo>
                  <a:pt x="57" y="700"/>
                </a:lnTo>
                <a:lnTo>
                  <a:pt x="50" y="695"/>
                </a:lnTo>
                <a:lnTo>
                  <a:pt x="42" y="689"/>
                </a:lnTo>
                <a:lnTo>
                  <a:pt x="34" y="683"/>
                </a:lnTo>
                <a:lnTo>
                  <a:pt x="27" y="677"/>
                </a:lnTo>
                <a:lnTo>
                  <a:pt x="21" y="673"/>
                </a:lnTo>
                <a:lnTo>
                  <a:pt x="17" y="668"/>
                </a:lnTo>
                <a:lnTo>
                  <a:pt x="13" y="664"/>
                </a:lnTo>
                <a:lnTo>
                  <a:pt x="9" y="658"/>
                </a:lnTo>
                <a:lnTo>
                  <a:pt x="5" y="654"/>
                </a:lnTo>
                <a:lnTo>
                  <a:pt x="3" y="650"/>
                </a:lnTo>
                <a:lnTo>
                  <a:pt x="2" y="647"/>
                </a:lnTo>
                <a:lnTo>
                  <a:pt x="2" y="641"/>
                </a:lnTo>
                <a:lnTo>
                  <a:pt x="2" y="637"/>
                </a:lnTo>
                <a:lnTo>
                  <a:pt x="0" y="635"/>
                </a:lnTo>
                <a:lnTo>
                  <a:pt x="0" y="633"/>
                </a:lnTo>
                <a:lnTo>
                  <a:pt x="0" y="631"/>
                </a:lnTo>
                <a:lnTo>
                  <a:pt x="2" y="629"/>
                </a:lnTo>
                <a:lnTo>
                  <a:pt x="3" y="627"/>
                </a:lnTo>
                <a:lnTo>
                  <a:pt x="7" y="626"/>
                </a:lnTo>
                <a:lnTo>
                  <a:pt x="11" y="624"/>
                </a:lnTo>
                <a:lnTo>
                  <a:pt x="17" y="622"/>
                </a:lnTo>
                <a:lnTo>
                  <a:pt x="23" y="622"/>
                </a:lnTo>
                <a:lnTo>
                  <a:pt x="30" y="622"/>
                </a:lnTo>
                <a:lnTo>
                  <a:pt x="38" y="620"/>
                </a:lnTo>
                <a:lnTo>
                  <a:pt x="48" y="620"/>
                </a:lnTo>
                <a:lnTo>
                  <a:pt x="57" y="622"/>
                </a:lnTo>
                <a:lnTo>
                  <a:pt x="67" y="622"/>
                </a:lnTo>
                <a:lnTo>
                  <a:pt x="78" y="624"/>
                </a:lnTo>
                <a:lnTo>
                  <a:pt x="90" y="626"/>
                </a:lnTo>
                <a:lnTo>
                  <a:pt x="113" y="629"/>
                </a:lnTo>
                <a:lnTo>
                  <a:pt x="134" y="631"/>
                </a:lnTo>
                <a:lnTo>
                  <a:pt x="155" y="635"/>
                </a:lnTo>
                <a:lnTo>
                  <a:pt x="172" y="635"/>
                </a:lnTo>
                <a:lnTo>
                  <a:pt x="182" y="637"/>
                </a:lnTo>
                <a:lnTo>
                  <a:pt x="190" y="637"/>
                </a:lnTo>
                <a:lnTo>
                  <a:pt x="197" y="637"/>
                </a:lnTo>
                <a:lnTo>
                  <a:pt x="205" y="637"/>
                </a:lnTo>
                <a:lnTo>
                  <a:pt x="211" y="637"/>
                </a:lnTo>
                <a:lnTo>
                  <a:pt x="218" y="637"/>
                </a:lnTo>
                <a:lnTo>
                  <a:pt x="222" y="637"/>
                </a:lnTo>
                <a:lnTo>
                  <a:pt x="228" y="637"/>
                </a:lnTo>
                <a:lnTo>
                  <a:pt x="230" y="637"/>
                </a:lnTo>
                <a:lnTo>
                  <a:pt x="234" y="635"/>
                </a:lnTo>
                <a:lnTo>
                  <a:pt x="236" y="635"/>
                </a:lnTo>
                <a:lnTo>
                  <a:pt x="240" y="633"/>
                </a:lnTo>
                <a:lnTo>
                  <a:pt x="243" y="629"/>
                </a:lnTo>
                <a:lnTo>
                  <a:pt x="247" y="627"/>
                </a:lnTo>
                <a:lnTo>
                  <a:pt x="249" y="624"/>
                </a:lnTo>
                <a:lnTo>
                  <a:pt x="253" y="620"/>
                </a:lnTo>
                <a:lnTo>
                  <a:pt x="257" y="614"/>
                </a:lnTo>
                <a:lnTo>
                  <a:pt x="261" y="610"/>
                </a:lnTo>
                <a:lnTo>
                  <a:pt x="265" y="604"/>
                </a:lnTo>
                <a:lnTo>
                  <a:pt x="266" y="599"/>
                </a:lnTo>
                <a:lnTo>
                  <a:pt x="270" y="591"/>
                </a:lnTo>
                <a:lnTo>
                  <a:pt x="274" y="583"/>
                </a:lnTo>
                <a:lnTo>
                  <a:pt x="276" y="576"/>
                </a:lnTo>
                <a:lnTo>
                  <a:pt x="278" y="568"/>
                </a:lnTo>
                <a:lnTo>
                  <a:pt x="280" y="558"/>
                </a:lnTo>
                <a:lnTo>
                  <a:pt x="282" y="549"/>
                </a:lnTo>
                <a:lnTo>
                  <a:pt x="284" y="537"/>
                </a:lnTo>
                <a:lnTo>
                  <a:pt x="286" y="526"/>
                </a:lnTo>
                <a:lnTo>
                  <a:pt x="286" y="514"/>
                </a:lnTo>
                <a:lnTo>
                  <a:pt x="288" y="501"/>
                </a:lnTo>
                <a:lnTo>
                  <a:pt x="288" y="485"/>
                </a:lnTo>
                <a:lnTo>
                  <a:pt x="288" y="470"/>
                </a:lnTo>
                <a:lnTo>
                  <a:pt x="288" y="455"/>
                </a:lnTo>
                <a:lnTo>
                  <a:pt x="288" y="437"/>
                </a:lnTo>
                <a:lnTo>
                  <a:pt x="286" y="418"/>
                </a:lnTo>
                <a:lnTo>
                  <a:pt x="286" y="399"/>
                </a:lnTo>
                <a:lnTo>
                  <a:pt x="284" y="380"/>
                </a:lnTo>
                <a:lnTo>
                  <a:pt x="282" y="359"/>
                </a:lnTo>
                <a:lnTo>
                  <a:pt x="280" y="336"/>
                </a:lnTo>
                <a:lnTo>
                  <a:pt x="278" y="313"/>
                </a:lnTo>
                <a:lnTo>
                  <a:pt x="276" y="290"/>
                </a:lnTo>
                <a:lnTo>
                  <a:pt x="274" y="267"/>
                </a:lnTo>
                <a:lnTo>
                  <a:pt x="272" y="245"/>
                </a:lnTo>
                <a:lnTo>
                  <a:pt x="268" y="224"/>
                </a:lnTo>
                <a:lnTo>
                  <a:pt x="266" y="205"/>
                </a:lnTo>
                <a:lnTo>
                  <a:pt x="263" y="188"/>
                </a:lnTo>
                <a:lnTo>
                  <a:pt x="261" y="171"/>
                </a:lnTo>
                <a:lnTo>
                  <a:pt x="257" y="153"/>
                </a:lnTo>
                <a:lnTo>
                  <a:pt x="253" y="138"/>
                </a:lnTo>
                <a:lnTo>
                  <a:pt x="249" y="125"/>
                </a:lnTo>
                <a:lnTo>
                  <a:pt x="243" y="111"/>
                </a:lnTo>
                <a:lnTo>
                  <a:pt x="240" y="98"/>
                </a:lnTo>
                <a:lnTo>
                  <a:pt x="234" y="86"/>
                </a:lnTo>
                <a:lnTo>
                  <a:pt x="228" y="77"/>
                </a:lnTo>
                <a:lnTo>
                  <a:pt x="222" y="67"/>
                </a:lnTo>
                <a:lnTo>
                  <a:pt x="217" y="57"/>
                </a:lnTo>
                <a:lnTo>
                  <a:pt x="209" y="50"/>
                </a:lnTo>
                <a:lnTo>
                  <a:pt x="203" y="44"/>
                </a:lnTo>
                <a:lnTo>
                  <a:pt x="199" y="38"/>
                </a:lnTo>
                <a:lnTo>
                  <a:pt x="194" y="32"/>
                </a:lnTo>
                <a:lnTo>
                  <a:pt x="192" y="29"/>
                </a:lnTo>
                <a:lnTo>
                  <a:pt x="188" y="23"/>
                </a:lnTo>
                <a:lnTo>
                  <a:pt x="186" y="19"/>
                </a:lnTo>
                <a:lnTo>
                  <a:pt x="186" y="15"/>
                </a:lnTo>
                <a:lnTo>
                  <a:pt x="186" y="11"/>
                </a:lnTo>
                <a:lnTo>
                  <a:pt x="186" y="7"/>
                </a:lnTo>
                <a:lnTo>
                  <a:pt x="188" y="6"/>
                </a:lnTo>
                <a:lnTo>
                  <a:pt x="190" y="4"/>
                </a:lnTo>
                <a:lnTo>
                  <a:pt x="192" y="2"/>
                </a:lnTo>
                <a:lnTo>
                  <a:pt x="195" y="0"/>
                </a:lnTo>
                <a:lnTo>
                  <a:pt x="199" y="0"/>
                </a:lnTo>
                <a:lnTo>
                  <a:pt x="203" y="0"/>
                </a:lnTo>
                <a:lnTo>
                  <a:pt x="205" y="0"/>
                </a:lnTo>
                <a:lnTo>
                  <a:pt x="209" y="0"/>
                </a:lnTo>
                <a:lnTo>
                  <a:pt x="213" y="2"/>
                </a:lnTo>
                <a:lnTo>
                  <a:pt x="217" y="4"/>
                </a:lnTo>
                <a:lnTo>
                  <a:pt x="222" y="6"/>
                </a:lnTo>
                <a:lnTo>
                  <a:pt x="228" y="7"/>
                </a:lnTo>
                <a:lnTo>
                  <a:pt x="234" y="11"/>
                </a:lnTo>
                <a:lnTo>
                  <a:pt x="240" y="15"/>
                </a:lnTo>
                <a:lnTo>
                  <a:pt x="253" y="23"/>
                </a:lnTo>
                <a:lnTo>
                  <a:pt x="268" y="32"/>
                </a:lnTo>
                <a:lnTo>
                  <a:pt x="286" y="44"/>
                </a:lnTo>
                <a:lnTo>
                  <a:pt x="305" y="57"/>
                </a:lnTo>
                <a:lnTo>
                  <a:pt x="318" y="71"/>
                </a:lnTo>
                <a:lnTo>
                  <a:pt x="330" y="84"/>
                </a:lnTo>
                <a:lnTo>
                  <a:pt x="341" y="100"/>
                </a:lnTo>
                <a:lnTo>
                  <a:pt x="351" y="115"/>
                </a:lnTo>
                <a:lnTo>
                  <a:pt x="361" y="130"/>
                </a:lnTo>
                <a:lnTo>
                  <a:pt x="368" y="146"/>
                </a:lnTo>
                <a:lnTo>
                  <a:pt x="374" y="159"/>
                </a:lnTo>
                <a:lnTo>
                  <a:pt x="380" y="1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37"/>
          <p:cNvSpPr/>
          <p:nvPr/>
        </p:nvSpPr>
        <p:spPr>
          <a:xfrm>
            <a:off x="6072120" y="3622680"/>
            <a:ext cx="773280" cy="341280"/>
          </a:xfrm>
          <a:custGeom>
            <a:avLst/>
            <a:gdLst/>
            <a:ahLst/>
            <a:rect l="l" t="t" r="r" b="b"/>
            <a:pathLst>
              <a:path w="973" h="429">
                <a:moveTo>
                  <a:pt x="708" y="24"/>
                </a:moveTo>
                <a:lnTo>
                  <a:pt x="726" y="15"/>
                </a:lnTo>
                <a:lnTo>
                  <a:pt x="735" y="11"/>
                </a:lnTo>
                <a:lnTo>
                  <a:pt x="743" y="7"/>
                </a:lnTo>
                <a:lnTo>
                  <a:pt x="751" y="3"/>
                </a:lnTo>
                <a:lnTo>
                  <a:pt x="758" y="1"/>
                </a:lnTo>
                <a:lnTo>
                  <a:pt x="766" y="1"/>
                </a:lnTo>
                <a:lnTo>
                  <a:pt x="770" y="0"/>
                </a:lnTo>
                <a:lnTo>
                  <a:pt x="776" y="0"/>
                </a:lnTo>
                <a:lnTo>
                  <a:pt x="781" y="0"/>
                </a:lnTo>
                <a:lnTo>
                  <a:pt x="789" y="1"/>
                </a:lnTo>
                <a:lnTo>
                  <a:pt x="797" y="1"/>
                </a:lnTo>
                <a:lnTo>
                  <a:pt x="806" y="3"/>
                </a:lnTo>
                <a:lnTo>
                  <a:pt x="814" y="5"/>
                </a:lnTo>
                <a:lnTo>
                  <a:pt x="824" y="7"/>
                </a:lnTo>
                <a:lnTo>
                  <a:pt x="833" y="13"/>
                </a:lnTo>
                <a:lnTo>
                  <a:pt x="843" y="17"/>
                </a:lnTo>
                <a:lnTo>
                  <a:pt x="852" y="23"/>
                </a:lnTo>
                <a:lnTo>
                  <a:pt x="862" y="30"/>
                </a:lnTo>
                <a:lnTo>
                  <a:pt x="874" y="38"/>
                </a:lnTo>
                <a:lnTo>
                  <a:pt x="883" y="47"/>
                </a:lnTo>
                <a:lnTo>
                  <a:pt x="895" y="57"/>
                </a:lnTo>
                <a:lnTo>
                  <a:pt x="908" y="69"/>
                </a:lnTo>
                <a:lnTo>
                  <a:pt x="922" y="82"/>
                </a:lnTo>
                <a:lnTo>
                  <a:pt x="929" y="88"/>
                </a:lnTo>
                <a:lnTo>
                  <a:pt x="935" y="94"/>
                </a:lnTo>
                <a:lnTo>
                  <a:pt x="941" y="99"/>
                </a:lnTo>
                <a:lnTo>
                  <a:pt x="945" y="105"/>
                </a:lnTo>
                <a:lnTo>
                  <a:pt x="950" y="111"/>
                </a:lnTo>
                <a:lnTo>
                  <a:pt x="954" y="117"/>
                </a:lnTo>
                <a:lnTo>
                  <a:pt x="962" y="124"/>
                </a:lnTo>
                <a:lnTo>
                  <a:pt x="966" y="134"/>
                </a:lnTo>
                <a:lnTo>
                  <a:pt x="970" y="140"/>
                </a:lnTo>
                <a:lnTo>
                  <a:pt x="971" y="145"/>
                </a:lnTo>
                <a:lnTo>
                  <a:pt x="973" y="151"/>
                </a:lnTo>
                <a:lnTo>
                  <a:pt x="968" y="155"/>
                </a:lnTo>
                <a:lnTo>
                  <a:pt x="962" y="161"/>
                </a:lnTo>
                <a:lnTo>
                  <a:pt x="956" y="165"/>
                </a:lnTo>
                <a:lnTo>
                  <a:pt x="950" y="168"/>
                </a:lnTo>
                <a:lnTo>
                  <a:pt x="943" y="172"/>
                </a:lnTo>
                <a:lnTo>
                  <a:pt x="933" y="178"/>
                </a:lnTo>
                <a:lnTo>
                  <a:pt x="927" y="180"/>
                </a:lnTo>
                <a:lnTo>
                  <a:pt x="922" y="182"/>
                </a:lnTo>
                <a:lnTo>
                  <a:pt x="916" y="184"/>
                </a:lnTo>
                <a:lnTo>
                  <a:pt x="910" y="186"/>
                </a:lnTo>
                <a:lnTo>
                  <a:pt x="900" y="190"/>
                </a:lnTo>
                <a:lnTo>
                  <a:pt x="891" y="193"/>
                </a:lnTo>
                <a:lnTo>
                  <a:pt x="879" y="199"/>
                </a:lnTo>
                <a:lnTo>
                  <a:pt x="866" y="207"/>
                </a:lnTo>
                <a:lnTo>
                  <a:pt x="851" y="216"/>
                </a:lnTo>
                <a:lnTo>
                  <a:pt x="835" y="228"/>
                </a:lnTo>
                <a:lnTo>
                  <a:pt x="816" y="241"/>
                </a:lnTo>
                <a:lnTo>
                  <a:pt x="797" y="255"/>
                </a:lnTo>
                <a:lnTo>
                  <a:pt x="776" y="270"/>
                </a:lnTo>
                <a:lnTo>
                  <a:pt x="753" y="289"/>
                </a:lnTo>
                <a:lnTo>
                  <a:pt x="728" y="309"/>
                </a:lnTo>
                <a:lnTo>
                  <a:pt x="701" y="330"/>
                </a:lnTo>
                <a:lnTo>
                  <a:pt x="674" y="351"/>
                </a:lnTo>
                <a:lnTo>
                  <a:pt x="643" y="376"/>
                </a:lnTo>
                <a:lnTo>
                  <a:pt x="613" y="403"/>
                </a:lnTo>
                <a:lnTo>
                  <a:pt x="582" y="429"/>
                </a:lnTo>
                <a:lnTo>
                  <a:pt x="563" y="418"/>
                </a:lnTo>
                <a:lnTo>
                  <a:pt x="543" y="406"/>
                </a:lnTo>
                <a:lnTo>
                  <a:pt x="557" y="389"/>
                </a:lnTo>
                <a:lnTo>
                  <a:pt x="568" y="372"/>
                </a:lnTo>
                <a:lnTo>
                  <a:pt x="580" y="357"/>
                </a:lnTo>
                <a:lnTo>
                  <a:pt x="591" y="341"/>
                </a:lnTo>
                <a:lnTo>
                  <a:pt x="603" y="326"/>
                </a:lnTo>
                <a:lnTo>
                  <a:pt x="613" y="310"/>
                </a:lnTo>
                <a:lnTo>
                  <a:pt x="622" y="295"/>
                </a:lnTo>
                <a:lnTo>
                  <a:pt x="632" y="282"/>
                </a:lnTo>
                <a:lnTo>
                  <a:pt x="641" y="268"/>
                </a:lnTo>
                <a:lnTo>
                  <a:pt x="651" y="257"/>
                </a:lnTo>
                <a:lnTo>
                  <a:pt x="659" y="243"/>
                </a:lnTo>
                <a:lnTo>
                  <a:pt x="666" y="232"/>
                </a:lnTo>
                <a:lnTo>
                  <a:pt x="674" y="220"/>
                </a:lnTo>
                <a:lnTo>
                  <a:pt x="682" y="211"/>
                </a:lnTo>
                <a:lnTo>
                  <a:pt x="687" y="199"/>
                </a:lnTo>
                <a:lnTo>
                  <a:pt x="693" y="190"/>
                </a:lnTo>
                <a:lnTo>
                  <a:pt x="699" y="180"/>
                </a:lnTo>
                <a:lnTo>
                  <a:pt x="705" y="172"/>
                </a:lnTo>
                <a:lnTo>
                  <a:pt x="710" y="165"/>
                </a:lnTo>
                <a:lnTo>
                  <a:pt x="714" y="157"/>
                </a:lnTo>
                <a:lnTo>
                  <a:pt x="718" y="149"/>
                </a:lnTo>
                <a:lnTo>
                  <a:pt x="722" y="142"/>
                </a:lnTo>
                <a:lnTo>
                  <a:pt x="726" y="136"/>
                </a:lnTo>
                <a:lnTo>
                  <a:pt x="728" y="130"/>
                </a:lnTo>
                <a:lnTo>
                  <a:pt x="730" y="126"/>
                </a:lnTo>
                <a:lnTo>
                  <a:pt x="732" y="120"/>
                </a:lnTo>
                <a:lnTo>
                  <a:pt x="733" y="117"/>
                </a:lnTo>
                <a:lnTo>
                  <a:pt x="733" y="113"/>
                </a:lnTo>
                <a:lnTo>
                  <a:pt x="733" y="111"/>
                </a:lnTo>
                <a:lnTo>
                  <a:pt x="733" y="107"/>
                </a:lnTo>
                <a:lnTo>
                  <a:pt x="733" y="105"/>
                </a:lnTo>
                <a:lnTo>
                  <a:pt x="732" y="103"/>
                </a:lnTo>
                <a:lnTo>
                  <a:pt x="730" y="103"/>
                </a:lnTo>
                <a:lnTo>
                  <a:pt x="726" y="103"/>
                </a:lnTo>
                <a:lnTo>
                  <a:pt x="724" y="103"/>
                </a:lnTo>
                <a:lnTo>
                  <a:pt x="720" y="103"/>
                </a:lnTo>
                <a:lnTo>
                  <a:pt x="716" y="103"/>
                </a:lnTo>
                <a:lnTo>
                  <a:pt x="712" y="103"/>
                </a:lnTo>
                <a:lnTo>
                  <a:pt x="707" y="105"/>
                </a:lnTo>
                <a:lnTo>
                  <a:pt x="701" y="105"/>
                </a:lnTo>
                <a:lnTo>
                  <a:pt x="695" y="107"/>
                </a:lnTo>
                <a:lnTo>
                  <a:pt x="687" y="107"/>
                </a:lnTo>
                <a:lnTo>
                  <a:pt x="682" y="109"/>
                </a:lnTo>
                <a:lnTo>
                  <a:pt x="674" y="111"/>
                </a:lnTo>
                <a:lnTo>
                  <a:pt x="664" y="115"/>
                </a:lnTo>
                <a:lnTo>
                  <a:pt x="657" y="117"/>
                </a:lnTo>
                <a:lnTo>
                  <a:pt x="647" y="119"/>
                </a:lnTo>
                <a:lnTo>
                  <a:pt x="637" y="122"/>
                </a:lnTo>
                <a:lnTo>
                  <a:pt x="628" y="124"/>
                </a:lnTo>
                <a:lnTo>
                  <a:pt x="616" y="128"/>
                </a:lnTo>
                <a:lnTo>
                  <a:pt x="605" y="132"/>
                </a:lnTo>
                <a:lnTo>
                  <a:pt x="593" y="134"/>
                </a:lnTo>
                <a:lnTo>
                  <a:pt x="582" y="138"/>
                </a:lnTo>
                <a:lnTo>
                  <a:pt x="568" y="142"/>
                </a:lnTo>
                <a:lnTo>
                  <a:pt x="555" y="147"/>
                </a:lnTo>
                <a:lnTo>
                  <a:pt x="541" y="151"/>
                </a:lnTo>
                <a:lnTo>
                  <a:pt x="526" y="155"/>
                </a:lnTo>
                <a:lnTo>
                  <a:pt x="513" y="161"/>
                </a:lnTo>
                <a:lnTo>
                  <a:pt x="497" y="165"/>
                </a:lnTo>
                <a:lnTo>
                  <a:pt x="480" y="170"/>
                </a:lnTo>
                <a:lnTo>
                  <a:pt x="465" y="174"/>
                </a:lnTo>
                <a:lnTo>
                  <a:pt x="447" y="180"/>
                </a:lnTo>
                <a:lnTo>
                  <a:pt x="430" y="186"/>
                </a:lnTo>
                <a:lnTo>
                  <a:pt x="413" y="191"/>
                </a:lnTo>
                <a:lnTo>
                  <a:pt x="396" y="197"/>
                </a:lnTo>
                <a:lnTo>
                  <a:pt x="378" y="201"/>
                </a:lnTo>
                <a:lnTo>
                  <a:pt x="363" y="207"/>
                </a:lnTo>
                <a:lnTo>
                  <a:pt x="348" y="211"/>
                </a:lnTo>
                <a:lnTo>
                  <a:pt x="332" y="216"/>
                </a:lnTo>
                <a:lnTo>
                  <a:pt x="319" y="220"/>
                </a:lnTo>
                <a:lnTo>
                  <a:pt x="303" y="226"/>
                </a:lnTo>
                <a:lnTo>
                  <a:pt x="292" y="230"/>
                </a:lnTo>
                <a:lnTo>
                  <a:pt x="279" y="234"/>
                </a:lnTo>
                <a:lnTo>
                  <a:pt x="265" y="238"/>
                </a:lnTo>
                <a:lnTo>
                  <a:pt x="254" y="241"/>
                </a:lnTo>
                <a:lnTo>
                  <a:pt x="242" y="245"/>
                </a:lnTo>
                <a:lnTo>
                  <a:pt x="232" y="249"/>
                </a:lnTo>
                <a:lnTo>
                  <a:pt x="221" y="251"/>
                </a:lnTo>
                <a:lnTo>
                  <a:pt x="211" y="255"/>
                </a:lnTo>
                <a:lnTo>
                  <a:pt x="204" y="257"/>
                </a:lnTo>
                <a:lnTo>
                  <a:pt x="194" y="261"/>
                </a:lnTo>
                <a:lnTo>
                  <a:pt x="186" y="262"/>
                </a:lnTo>
                <a:lnTo>
                  <a:pt x="179" y="264"/>
                </a:lnTo>
                <a:lnTo>
                  <a:pt x="171" y="266"/>
                </a:lnTo>
                <a:lnTo>
                  <a:pt x="165" y="268"/>
                </a:lnTo>
                <a:lnTo>
                  <a:pt x="158" y="270"/>
                </a:lnTo>
                <a:lnTo>
                  <a:pt x="154" y="272"/>
                </a:lnTo>
                <a:lnTo>
                  <a:pt x="148" y="274"/>
                </a:lnTo>
                <a:lnTo>
                  <a:pt x="144" y="276"/>
                </a:lnTo>
                <a:lnTo>
                  <a:pt x="138" y="276"/>
                </a:lnTo>
                <a:lnTo>
                  <a:pt x="136" y="278"/>
                </a:lnTo>
                <a:lnTo>
                  <a:pt x="133" y="278"/>
                </a:lnTo>
                <a:lnTo>
                  <a:pt x="131" y="278"/>
                </a:lnTo>
                <a:lnTo>
                  <a:pt x="129" y="278"/>
                </a:lnTo>
                <a:lnTo>
                  <a:pt x="127" y="280"/>
                </a:lnTo>
                <a:lnTo>
                  <a:pt x="121" y="278"/>
                </a:lnTo>
                <a:lnTo>
                  <a:pt x="115" y="276"/>
                </a:lnTo>
                <a:lnTo>
                  <a:pt x="108" y="274"/>
                </a:lnTo>
                <a:lnTo>
                  <a:pt x="98" y="272"/>
                </a:lnTo>
                <a:lnTo>
                  <a:pt x="89" y="268"/>
                </a:lnTo>
                <a:lnTo>
                  <a:pt x="77" y="264"/>
                </a:lnTo>
                <a:lnTo>
                  <a:pt x="65" y="261"/>
                </a:lnTo>
                <a:lnTo>
                  <a:pt x="52" y="255"/>
                </a:lnTo>
                <a:lnTo>
                  <a:pt x="44" y="253"/>
                </a:lnTo>
                <a:lnTo>
                  <a:pt x="39" y="251"/>
                </a:lnTo>
                <a:lnTo>
                  <a:pt x="33" y="249"/>
                </a:lnTo>
                <a:lnTo>
                  <a:pt x="27" y="247"/>
                </a:lnTo>
                <a:lnTo>
                  <a:pt x="23" y="243"/>
                </a:lnTo>
                <a:lnTo>
                  <a:pt x="19" y="241"/>
                </a:lnTo>
                <a:lnTo>
                  <a:pt x="12" y="238"/>
                </a:lnTo>
                <a:lnTo>
                  <a:pt x="6" y="232"/>
                </a:lnTo>
                <a:lnTo>
                  <a:pt x="4" y="224"/>
                </a:lnTo>
                <a:lnTo>
                  <a:pt x="2" y="218"/>
                </a:lnTo>
                <a:lnTo>
                  <a:pt x="0" y="209"/>
                </a:lnTo>
                <a:lnTo>
                  <a:pt x="0" y="205"/>
                </a:lnTo>
                <a:lnTo>
                  <a:pt x="2" y="201"/>
                </a:lnTo>
                <a:lnTo>
                  <a:pt x="4" y="197"/>
                </a:lnTo>
                <a:lnTo>
                  <a:pt x="6" y="193"/>
                </a:lnTo>
                <a:lnTo>
                  <a:pt x="8" y="191"/>
                </a:lnTo>
                <a:lnTo>
                  <a:pt x="12" y="188"/>
                </a:lnTo>
                <a:lnTo>
                  <a:pt x="16" y="186"/>
                </a:lnTo>
                <a:lnTo>
                  <a:pt x="19" y="184"/>
                </a:lnTo>
                <a:lnTo>
                  <a:pt x="25" y="180"/>
                </a:lnTo>
                <a:lnTo>
                  <a:pt x="31" y="180"/>
                </a:lnTo>
                <a:lnTo>
                  <a:pt x="37" y="178"/>
                </a:lnTo>
                <a:lnTo>
                  <a:pt x="44" y="176"/>
                </a:lnTo>
                <a:lnTo>
                  <a:pt x="50" y="176"/>
                </a:lnTo>
                <a:lnTo>
                  <a:pt x="60" y="174"/>
                </a:lnTo>
                <a:lnTo>
                  <a:pt x="67" y="174"/>
                </a:lnTo>
                <a:lnTo>
                  <a:pt x="77" y="174"/>
                </a:lnTo>
                <a:lnTo>
                  <a:pt x="85" y="176"/>
                </a:lnTo>
                <a:lnTo>
                  <a:pt x="92" y="178"/>
                </a:lnTo>
                <a:lnTo>
                  <a:pt x="100" y="178"/>
                </a:lnTo>
                <a:lnTo>
                  <a:pt x="110" y="180"/>
                </a:lnTo>
                <a:lnTo>
                  <a:pt x="119" y="178"/>
                </a:lnTo>
                <a:lnTo>
                  <a:pt x="129" y="178"/>
                </a:lnTo>
                <a:lnTo>
                  <a:pt x="150" y="176"/>
                </a:lnTo>
                <a:lnTo>
                  <a:pt x="175" y="172"/>
                </a:lnTo>
                <a:lnTo>
                  <a:pt x="200" y="167"/>
                </a:lnTo>
                <a:lnTo>
                  <a:pt x="225" y="159"/>
                </a:lnTo>
                <a:lnTo>
                  <a:pt x="254" y="151"/>
                </a:lnTo>
                <a:lnTo>
                  <a:pt x="282" y="145"/>
                </a:lnTo>
                <a:lnTo>
                  <a:pt x="313" y="140"/>
                </a:lnTo>
                <a:lnTo>
                  <a:pt x="344" y="134"/>
                </a:lnTo>
                <a:lnTo>
                  <a:pt x="376" y="124"/>
                </a:lnTo>
                <a:lnTo>
                  <a:pt x="409" y="117"/>
                </a:lnTo>
                <a:lnTo>
                  <a:pt x="446" y="105"/>
                </a:lnTo>
                <a:lnTo>
                  <a:pt x="480" y="94"/>
                </a:lnTo>
                <a:lnTo>
                  <a:pt x="518" y="82"/>
                </a:lnTo>
                <a:lnTo>
                  <a:pt x="536" y="76"/>
                </a:lnTo>
                <a:lnTo>
                  <a:pt x="555" y="72"/>
                </a:lnTo>
                <a:lnTo>
                  <a:pt x="570" y="69"/>
                </a:lnTo>
                <a:lnTo>
                  <a:pt x="586" y="65"/>
                </a:lnTo>
                <a:lnTo>
                  <a:pt x="601" y="59"/>
                </a:lnTo>
                <a:lnTo>
                  <a:pt x="616" y="55"/>
                </a:lnTo>
                <a:lnTo>
                  <a:pt x="628" y="51"/>
                </a:lnTo>
                <a:lnTo>
                  <a:pt x="641" y="47"/>
                </a:lnTo>
                <a:lnTo>
                  <a:pt x="653" y="44"/>
                </a:lnTo>
                <a:lnTo>
                  <a:pt x="662" y="40"/>
                </a:lnTo>
                <a:lnTo>
                  <a:pt x="672" y="38"/>
                </a:lnTo>
                <a:lnTo>
                  <a:pt x="682" y="34"/>
                </a:lnTo>
                <a:lnTo>
                  <a:pt x="689" y="30"/>
                </a:lnTo>
                <a:lnTo>
                  <a:pt x="697" y="28"/>
                </a:lnTo>
                <a:lnTo>
                  <a:pt x="703" y="26"/>
                </a:lnTo>
                <a:lnTo>
                  <a:pt x="708" y="2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Freeform 138"/>
          <p:cNvSpPr/>
          <p:nvPr/>
        </p:nvSpPr>
        <p:spPr>
          <a:xfrm>
            <a:off x="6159600" y="3343320"/>
            <a:ext cx="191880" cy="290520"/>
          </a:xfrm>
          <a:custGeom>
            <a:avLst/>
            <a:gdLst/>
            <a:ahLst/>
            <a:rect l="l" t="t" r="r" b="b"/>
            <a:pathLst>
              <a:path w="241" h="367">
                <a:moveTo>
                  <a:pt x="155" y="16"/>
                </a:moveTo>
                <a:lnTo>
                  <a:pt x="165" y="39"/>
                </a:lnTo>
                <a:lnTo>
                  <a:pt x="174" y="62"/>
                </a:lnTo>
                <a:lnTo>
                  <a:pt x="184" y="87"/>
                </a:lnTo>
                <a:lnTo>
                  <a:pt x="193" y="112"/>
                </a:lnTo>
                <a:lnTo>
                  <a:pt x="203" y="138"/>
                </a:lnTo>
                <a:lnTo>
                  <a:pt x="213" y="165"/>
                </a:lnTo>
                <a:lnTo>
                  <a:pt x="222" y="194"/>
                </a:lnTo>
                <a:lnTo>
                  <a:pt x="232" y="225"/>
                </a:lnTo>
                <a:lnTo>
                  <a:pt x="234" y="240"/>
                </a:lnTo>
                <a:lnTo>
                  <a:pt x="236" y="254"/>
                </a:lnTo>
                <a:lnTo>
                  <a:pt x="238" y="267"/>
                </a:lnTo>
                <a:lnTo>
                  <a:pt x="238" y="279"/>
                </a:lnTo>
                <a:lnTo>
                  <a:pt x="240" y="290"/>
                </a:lnTo>
                <a:lnTo>
                  <a:pt x="240" y="302"/>
                </a:lnTo>
                <a:lnTo>
                  <a:pt x="241" y="311"/>
                </a:lnTo>
                <a:lnTo>
                  <a:pt x="241" y="321"/>
                </a:lnTo>
                <a:lnTo>
                  <a:pt x="241" y="328"/>
                </a:lnTo>
                <a:lnTo>
                  <a:pt x="240" y="336"/>
                </a:lnTo>
                <a:lnTo>
                  <a:pt x="240" y="342"/>
                </a:lnTo>
                <a:lnTo>
                  <a:pt x="238" y="348"/>
                </a:lnTo>
                <a:lnTo>
                  <a:pt x="238" y="353"/>
                </a:lnTo>
                <a:lnTo>
                  <a:pt x="236" y="357"/>
                </a:lnTo>
                <a:lnTo>
                  <a:pt x="234" y="361"/>
                </a:lnTo>
                <a:lnTo>
                  <a:pt x="232" y="365"/>
                </a:lnTo>
                <a:lnTo>
                  <a:pt x="226" y="365"/>
                </a:lnTo>
                <a:lnTo>
                  <a:pt x="222" y="367"/>
                </a:lnTo>
                <a:lnTo>
                  <a:pt x="217" y="365"/>
                </a:lnTo>
                <a:lnTo>
                  <a:pt x="211" y="363"/>
                </a:lnTo>
                <a:lnTo>
                  <a:pt x="205" y="361"/>
                </a:lnTo>
                <a:lnTo>
                  <a:pt x="199" y="357"/>
                </a:lnTo>
                <a:lnTo>
                  <a:pt x="192" y="352"/>
                </a:lnTo>
                <a:lnTo>
                  <a:pt x="186" y="346"/>
                </a:lnTo>
                <a:lnTo>
                  <a:pt x="178" y="338"/>
                </a:lnTo>
                <a:lnTo>
                  <a:pt x="172" y="328"/>
                </a:lnTo>
                <a:lnTo>
                  <a:pt x="165" y="319"/>
                </a:lnTo>
                <a:lnTo>
                  <a:pt x="159" y="307"/>
                </a:lnTo>
                <a:lnTo>
                  <a:pt x="151" y="294"/>
                </a:lnTo>
                <a:lnTo>
                  <a:pt x="145" y="280"/>
                </a:lnTo>
                <a:lnTo>
                  <a:pt x="138" y="265"/>
                </a:lnTo>
                <a:lnTo>
                  <a:pt x="130" y="248"/>
                </a:lnTo>
                <a:lnTo>
                  <a:pt x="124" y="233"/>
                </a:lnTo>
                <a:lnTo>
                  <a:pt x="117" y="219"/>
                </a:lnTo>
                <a:lnTo>
                  <a:pt x="109" y="206"/>
                </a:lnTo>
                <a:lnTo>
                  <a:pt x="103" y="192"/>
                </a:lnTo>
                <a:lnTo>
                  <a:pt x="96" y="179"/>
                </a:lnTo>
                <a:lnTo>
                  <a:pt x="90" y="167"/>
                </a:lnTo>
                <a:lnTo>
                  <a:pt x="82" y="156"/>
                </a:lnTo>
                <a:lnTo>
                  <a:pt x="76" y="146"/>
                </a:lnTo>
                <a:lnTo>
                  <a:pt x="69" y="137"/>
                </a:lnTo>
                <a:lnTo>
                  <a:pt x="63" y="129"/>
                </a:lnTo>
                <a:lnTo>
                  <a:pt x="57" y="121"/>
                </a:lnTo>
                <a:lnTo>
                  <a:pt x="51" y="113"/>
                </a:lnTo>
                <a:lnTo>
                  <a:pt x="46" y="108"/>
                </a:lnTo>
                <a:lnTo>
                  <a:pt x="40" y="104"/>
                </a:lnTo>
                <a:lnTo>
                  <a:pt x="34" y="100"/>
                </a:lnTo>
                <a:lnTo>
                  <a:pt x="30" y="96"/>
                </a:lnTo>
                <a:lnTo>
                  <a:pt x="21" y="92"/>
                </a:lnTo>
                <a:lnTo>
                  <a:pt x="13" y="87"/>
                </a:lnTo>
                <a:lnTo>
                  <a:pt x="7" y="79"/>
                </a:lnTo>
                <a:lnTo>
                  <a:pt x="3" y="71"/>
                </a:lnTo>
                <a:lnTo>
                  <a:pt x="0" y="62"/>
                </a:lnTo>
                <a:lnTo>
                  <a:pt x="0" y="56"/>
                </a:lnTo>
                <a:lnTo>
                  <a:pt x="0" y="52"/>
                </a:lnTo>
                <a:lnTo>
                  <a:pt x="0" y="46"/>
                </a:lnTo>
                <a:lnTo>
                  <a:pt x="2" y="41"/>
                </a:lnTo>
                <a:lnTo>
                  <a:pt x="2" y="33"/>
                </a:lnTo>
                <a:lnTo>
                  <a:pt x="5" y="27"/>
                </a:lnTo>
                <a:lnTo>
                  <a:pt x="5" y="21"/>
                </a:lnTo>
                <a:lnTo>
                  <a:pt x="7" y="16"/>
                </a:lnTo>
                <a:lnTo>
                  <a:pt x="9" y="12"/>
                </a:lnTo>
                <a:lnTo>
                  <a:pt x="13" y="8"/>
                </a:lnTo>
                <a:lnTo>
                  <a:pt x="19" y="4"/>
                </a:lnTo>
                <a:lnTo>
                  <a:pt x="26" y="2"/>
                </a:lnTo>
                <a:lnTo>
                  <a:pt x="34" y="0"/>
                </a:lnTo>
                <a:lnTo>
                  <a:pt x="42" y="0"/>
                </a:lnTo>
                <a:lnTo>
                  <a:pt x="51" y="0"/>
                </a:lnTo>
                <a:lnTo>
                  <a:pt x="63" y="0"/>
                </a:lnTo>
                <a:lnTo>
                  <a:pt x="76" y="0"/>
                </a:lnTo>
                <a:lnTo>
                  <a:pt x="90" y="2"/>
                </a:lnTo>
                <a:lnTo>
                  <a:pt x="105" y="4"/>
                </a:lnTo>
                <a:lnTo>
                  <a:pt x="121" y="8"/>
                </a:lnTo>
                <a:lnTo>
                  <a:pt x="138" y="12"/>
                </a:lnTo>
                <a:lnTo>
                  <a:pt x="155" y="1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139"/>
          <p:cNvSpPr/>
          <p:nvPr/>
        </p:nvSpPr>
        <p:spPr>
          <a:xfrm>
            <a:off x="6234120" y="3254400"/>
            <a:ext cx="588960" cy="249120"/>
          </a:xfrm>
          <a:custGeom>
            <a:avLst/>
            <a:gdLst/>
            <a:ahLst/>
            <a:rect l="l" t="t" r="r" b="b"/>
            <a:pathLst>
              <a:path w="742" h="313">
                <a:moveTo>
                  <a:pt x="314" y="161"/>
                </a:moveTo>
                <a:lnTo>
                  <a:pt x="276" y="171"/>
                </a:lnTo>
                <a:lnTo>
                  <a:pt x="238" y="177"/>
                </a:lnTo>
                <a:lnTo>
                  <a:pt x="199" y="182"/>
                </a:lnTo>
                <a:lnTo>
                  <a:pt x="161" y="188"/>
                </a:lnTo>
                <a:lnTo>
                  <a:pt x="123" y="192"/>
                </a:lnTo>
                <a:lnTo>
                  <a:pt x="82" y="194"/>
                </a:lnTo>
                <a:lnTo>
                  <a:pt x="40" y="196"/>
                </a:lnTo>
                <a:lnTo>
                  <a:pt x="0" y="196"/>
                </a:lnTo>
                <a:lnTo>
                  <a:pt x="0" y="161"/>
                </a:lnTo>
                <a:lnTo>
                  <a:pt x="0" y="127"/>
                </a:lnTo>
                <a:lnTo>
                  <a:pt x="32" y="127"/>
                </a:lnTo>
                <a:lnTo>
                  <a:pt x="67" y="125"/>
                </a:lnTo>
                <a:lnTo>
                  <a:pt x="101" y="121"/>
                </a:lnTo>
                <a:lnTo>
                  <a:pt x="138" y="117"/>
                </a:lnTo>
                <a:lnTo>
                  <a:pt x="172" y="111"/>
                </a:lnTo>
                <a:lnTo>
                  <a:pt x="190" y="107"/>
                </a:lnTo>
                <a:lnTo>
                  <a:pt x="209" y="102"/>
                </a:lnTo>
                <a:lnTo>
                  <a:pt x="226" y="98"/>
                </a:lnTo>
                <a:lnTo>
                  <a:pt x="243" y="92"/>
                </a:lnTo>
                <a:lnTo>
                  <a:pt x="259" y="86"/>
                </a:lnTo>
                <a:lnTo>
                  <a:pt x="276" y="81"/>
                </a:lnTo>
                <a:lnTo>
                  <a:pt x="291" y="77"/>
                </a:lnTo>
                <a:lnTo>
                  <a:pt x="309" y="71"/>
                </a:lnTo>
                <a:lnTo>
                  <a:pt x="322" y="67"/>
                </a:lnTo>
                <a:lnTo>
                  <a:pt x="337" y="63"/>
                </a:lnTo>
                <a:lnTo>
                  <a:pt x="351" y="59"/>
                </a:lnTo>
                <a:lnTo>
                  <a:pt x="364" y="56"/>
                </a:lnTo>
                <a:lnTo>
                  <a:pt x="376" y="50"/>
                </a:lnTo>
                <a:lnTo>
                  <a:pt x="387" y="46"/>
                </a:lnTo>
                <a:lnTo>
                  <a:pt x="397" y="44"/>
                </a:lnTo>
                <a:lnTo>
                  <a:pt x="407" y="40"/>
                </a:lnTo>
                <a:lnTo>
                  <a:pt x="414" y="36"/>
                </a:lnTo>
                <a:lnTo>
                  <a:pt x="422" y="33"/>
                </a:lnTo>
                <a:lnTo>
                  <a:pt x="428" y="31"/>
                </a:lnTo>
                <a:lnTo>
                  <a:pt x="433" y="27"/>
                </a:lnTo>
                <a:lnTo>
                  <a:pt x="437" y="25"/>
                </a:lnTo>
                <a:lnTo>
                  <a:pt x="441" y="23"/>
                </a:lnTo>
                <a:lnTo>
                  <a:pt x="445" y="17"/>
                </a:lnTo>
                <a:lnTo>
                  <a:pt x="453" y="13"/>
                </a:lnTo>
                <a:lnTo>
                  <a:pt x="458" y="10"/>
                </a:lnTo>
                <a:lnTo>
                  <a:pt x="466" y="6"/>
                </a:lnTo>
                <a:lnTo>
                  <a:pt x="476" y="4"/>
                </a:lnTo>
                <a:lnTo>
                  <a:pt x="485" y="2"/>
                </a:lnTo>
                <a:lnTo>
                  <a:pt x="495" y="0"/>
                </a:lnTo>
                <a:lnTo>
                  <a:pt x="504" y="0"/>
                </a:lnTo>
                <a:lnTo>
                  <a:pt x="506" y="0"/>
                </a:lnTo>
                <a:lnTo>
                  <a:pt x="510" y="0"/>
                </a:lnTo>
                <a:lnTo>
                  <a:pt x="514" y="0"/>
                </a:lnTo>
                <a:lnTo>
                  <a:pt x="520" y="2"/>
                </a:lnTo>
                <a:lnTo>
                  <a:pt x="526" y="2"/>
                </a:lnTo>
                <a:lnTo>
                  <a:pt x="533" y="4"/>
                </a:lnTo>
                <a:lnTo>
                  <a:pt x="541" y="6"/>
                </a:lnTo>
                <a:lnTo>
                  <a:pt x="549" y="10"/>
                </a:lnTo>
                <a:lnTo>
                  <a:pt x="558" y="11"/>
                </a:lnTo>
                <a:lnTo>
                  <a:pt x="568" y="15"/>
                </a:lnTo>
                <a:lnTo>
                  <a:pt x="579" y="19"/>
                </a:lnTo>
                <a:lnTo>
                  <a:pt x="591" y="23"/>
                </a:lnTo>
                <a:lnTo>
                  <a:pt x="602" y="29"/>
                </a:lnTo>
                <a:lnTo>
                  <a:pt x="616" y="33"/>
                </a:lnTo>
                <a:lnTo>
                  <a:pt x="629" y="38"/>
                </a:lnTo>
                <a:lnTo>
                  <a:pt x="643" y="46"/>
                </a:lnTo>
                <a:lnTo>
                  <a:pt x="654" y="52"/>
                </a:lnTo>
                <a:lnTo>
                  <a:pt x="664" y="58"/>
                </a:lnTo>
                <a:lnTo>
                  <a:pt x="675" y="65"/>
                </a:lnTo>
                <a:lnTo>
                  <a:pt x="685" y="69"/>
                </a:lnTo>
                <a:lnTo>
                  <a:pt x="693" y="75"/>
                </a:lnTo>
                <a:lnTo>
                  <a:pt x="702" y="81"/>
                </a:lnTo>
                <a:lnTo>
                  <a:pt x="710" y="86"/>
                </a:lnTo>
                <a:lnTo>
                  <a:pt x="716" y="90"/>
                </a:lnTo>
                <a:lnTo>
                  <a:pt x="721" y="96"/>
                </a:lnTo>
                <a:lnTo>
                  <a:pt x="727" y="100"/>
                </a:lnTo>
                <a:lnTo>
                  <a:pt x="733" y="105"/>
                </a:lnTo>
                <a:lnTo>
                  <a:pt x="737" y="109"/>
                </a:lnTo>
                <a:lnTo>
                  <a:pt x="739" y="113"/>
                </a:lnTo>
                <a:lnTo>
                  <a:pt x="741" y="119"/>
                </a:lnTo>
                <a:lnTo>
                  <a:pt x="742" y="123"/>
                </a:lnTo>
                <a:lnTo>
                  <a:pt x="742" y="127"/>
                </a:lnTo>
                <a:lnTo>
                  <a:pt x="742" y="134"/>
                </a:lnTo>
                <a:lnTo>
                  <a:pt x="741" y="142"/>
                </a:lnTo>
                <a:lnTo>
                  <a:pt x="737" y="148"/>
                </a:lnTo>
                <a:lnTo>
                  <a:pt x="733" y="153"/>
                </a:lnTo>
                <a:lnTo>
                  <a:pt x="729" y="155"/>
                </a:lnTo>
                <a:lnTo>
                  <a:pt x="725" y="157"/>
                </a:lnTo>
                <a:lnTo>
                  <a:pt x="721" y="159"/>
                </a:lnTo>
                <a:lnTo>
                  <a:pt x="716" y="159"/>
                </a:lnTo>
                <a:lnTo>
                  <a:pt x="712" y="161"/>
                </a:lnTo>
                <a:lnTo>
                  <a:pt x="706" y="161"/>
                </a:lnTo>
                <a:lnTo>
                  <a:pt x="700" y="161"/>
                </a:lnTo>
                <a:lnTo>
                  <a:pt x="693" y="161"/>
                </a:lnTo>
                <a:lnTo>
                  <a:pt x="679" y="167"/>
                </a:lnTo>
                <a:lnTo>
                  <a:pt x="666" y="173"/>
                </a:lnTo>
                <a:lnTo>
                  <a:pt x="654" y="180"/>
                </a:lnTo>
                <a:lnTo>
                  <a:pt x="643" y="190"/>
                </a:lnTo>
                <a:lnTo>
                  <a:pt x="629" y="200"/>
                </a:lnTo>
                <a:lnTo>
                  <a:pt x="623" y="205"/>
                </a:lnTo>
                <a:lnTo>
                  <a:pt x="618" y="213"/>
                </a:lnTo>
                <a:lnTo>
                  <a:pt x="612" y="219"/>
                </a:lnTo>
                <a:lnTo>
                  <a:pt x="604" y="226"/>
                </a:lnTo>
                <a:lnTo>
                  <a:pt x="599" y="234"/>
                </a:lnTo>
                <a:lnTo>
                  <a:pt x="593" y="244"/>
                </a:lnTo>
                <a:lnTo>
                  <a:pt x="585" y="251"/>
                </a:lnTo>
                <a:lnTo>
                  <a:pt x="577" y="259"/>
                </a:lnTo>
                <a:lnTo>
                  <a:pt x="570" y="267"/>
                </a:lnTo>
                <a:lnTo>
                  <a:pt x="564" y="274"/>
                </a:lnTo>
                <a:lnTo>
                  <a:pt x="556" y="280"/>
                </a:lnTo>
                <a:lnTo>
                  <a:pt x="549" y="286"/>
                </a:lnTo>
                <a:lnTo>
                  <a:pt x="541" y="290"/>
                </a:lnTo>
                <a:lnTo>
                  <a:pt x="533" y="296"/>
                </a:lnTo>
                <a:lnTo>
                  <a:pt x="526" y="299"/>
                </a:lnTo>
                <a:lnTo>
                  <a:pt x="518" y="303"/>
                </a:lnTo>
                <a:lnTo>
                  <a:pt x="510" y="305"/>
                </a:lnTo>
                <a:lnTo>
                  <a:pt x="501" y="309"/>
                </a:lnTo>
                <a:lnTo>
                  <a:pt x="493" y="311"/>
                </a:lnTo>
                <a:lnTo>
                  <a:pt x="483" y="311"/>
                </a:lnTo>
                <a:lnTo>
                  <a:pt x="476" y="313"/>
                </a:lnTo>
                <a:lnTo>
                  <a:pt x="466" y="313"/>
                </a:lnTo>
                <a:lnTo>
                  <a:pt x="470" y="290"/>
                </a:lnTo>
                <a:lnTo>
                  <a:pt x="474" y="269"/>
                </a:lnTo>
                <a:lnTo>
                  <a:pt x="478" y="248"/>
                </a:lnTo>
                <a:lnTo>
                  <a:pt x="481" y="230"/>
                </a:lnTo>
                <a:lnTo>
                  <a:pt x="485" y="213"/>
                </a:lnTo>
                <a:lnTo>
                  <a:pt x="487" y="198"/>
                </a:lnTo>
                <a:lnTo>
                  <a:pt x="489" y="182"/>
                </a:lnTo>
                <a:lnTo>
                  <a:pt x="491" y="171"/>
                </a:lnTo>
                <a:lnTo>
                  <a:pt x="493" y="159"/>
                </a:lnTo>
                <a:lnTo>
                  <a:pt x="495" y="150"/>
                </a:lnTo>
                <a:lnTo>
                  <a:pt x="495" y="140"/>
                </a:lnTo>
                <a:lnTo>
                  <a:pt x="495" y="132"/>
                </a:lnTo>
                <a:lnTo>
                  <a:pt x="495" y="127"/>
                </a:lnTo>
                <a:lnTo>
                  <a:pt x="495" y="123"/>
                </a:lnTo>
                <a:lnTo>
                  <a:pt x="493" y="117"/>
                </a:lnTo>
                <a:lnTo>
                  <a:pt x="491" y="115"/>
                </a:lnTo>
                <a:lnTo>
                  <a:pt x="487" y="115"/>
                </a:lnTo>
                <a:lnTo>
                  <a:pt x="483" y="115"/>
                </a:lnTo>
                <a:lnTo>
                  <a:pt x="478" y="117"/>
                </a:lnTo>
                <a:lnTo>
                  <a:pt x="472" y="117"/>
                </a:lnTo>
                <a:lnTo>
                  <a:pt x="464" y="119"/>
                </a:lnTo>
                <a:lnTo>
                  <a:pt x="456" y="121"/>
                </a:lnTo>
                <a:lnTo>
                  <a:pt x="447" y="123"/>
                </a:lnTo>
                <a:lnTo>
                  <a:pt x="435" y="125"/>
                </a:lnTo>
                <a:lnTo>
                  <a:pt x="424" y="129"/>
                </a:lnTo>
                <a:lnTo>
                  <a:pt x="410" y="130"/>
                </a:lnTo>
                <a:lnTo>
                  <a:pt x="397" y="134"/>
                </a:lnTo>
                <a:lnTo>
                  <a:pt x="382" y="140"/>
                </a:lnTo>
                <a:lnTo>
                  <a:pt x="366" y="144"/>
                </a:lnTo>
                <a:lnTo>
                  <a:pt x="351" y="150"/>
                </a:lnTo>
                <a:lnTo>
                  <a:pt x="332" y="155"/>
                </a:lnTo>
                <a:lnTo>
                  <a:pt x="314" y="1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Freeform 140"/>
          <p:cNvSpPr/>
          <p:nvPr/>
        </p:nvSpPr>
        <p:spPr>
          <a:xfrm>
            <a:off x="6313320" y="3467160"/>
            <a:ext cx="403560" cy="127080"/>
          </a:xfrm>
          <a:custGeom>
            <a:avLst/>
            <a:gdLst/>
            <a:ahLst/>
            <a:rect l="l" t="t" r="r" b="b"/>
            <a:pathLst>
              <a:path w="509" h="161">
                <a:moveTo>
                  <a:pt x="467" y="0"/>
                </a:moveTo>
                <a:lnTo>
                  <a:pt x="475" y="9"/>
                </a:lnTo>
                <a:lnTo>
                  <a:pt x="480" y="19"/>
                </a:lnTo>
                <a:lnTo>
                  <a:pt x="486" y="29"/>
                </a:lnTo>
                <a:lnTo>
                  <a:pt x="490" y="38"/>
                </a:lnTo>
                <a:lnTo>
                  <a:pt x="496" y="46"/>
                </a:lnTo>
                <a:lnTo>
                  <a:pt x="500" y="53"/>
                </a:lnTo>
                <a:lnTo>
                  <a:pt x="503" y="61"/>
                </a:lnTo>
                <a:lnTo>
                  <a:pt x="505" y="67"/>
                </a:lnTo>
                <a:lnTo>
                  <a:pt x="507" y="73"/>
                </a:lnTo>
                <a:lnTo>
                  <a:pt x="509" y="78"/>
                </a:lnTo>
                <a:lnTo>
                  <a:pt x="509" y="82"/>
                </a:lnTo>
                <a:lnTo>
                  <a:pt x="509" y="86"/>
                </a:lnTo>
                <a:lnTo>
                  <a:pt x="509" y="88"/>
                </a:lnTo>
                <a:lnTo>
                  <a:pt x="509" y="90"/>
                </a:lnTo>
                <a:lnTo>
                  <a:pt x="507" y="92"/>
                </a:lnTo>
                <a:lnTo>
                  <a:pt x="505" y="92"/>
                </a:lnTo>
                <a:lnTo>
                  <a:pt x="503" y="94"/>
                </a:lnTo>
                <a:lnTo>
                  <a:pt x="500" y="94"/>
                </a:lnTo>
                <a:lnTo>
                  <a:pt x="494" y="96"/>
                </a:lnTo>
                <a:lnTo>
                  <a:pt x="490" y="98"/>
                </a:lnTo>
                <a:lnTo>
                  <a:pt x="482" y="98"/>
                </a:lnTo>
                <a:lnTo>
                  <a:pt x="476" y="100"/>
                </a:lnTo>
                <a:lnTo>
                  <a:pt x="469" y="101"/>
                </a:lnTo>
                <a:lnTo>
                  <a:pt x="459" y="103"/>
                </a:lnTo>
                <a:lnTo>
                  <a:pt x="452" y="103"/>
                </a:lnTo>
                <a:lnTo>
                  <a:pt x="440" y="105"/>
                </a:lnTo>
                <a:lnTo>
                  <a:pt x="429" y="107"/>
                </a:lnTo>
                <a:lnTo>
                  <a:pt x="417" y="109"/>
                </a:lnTo>
                <a:lnTo>
                  <a:pt x="405" y="111"/>
                </a:lnTo>
                <a:lnTo>
                  <a:pt x="392" y="113"/>
                </a:lnTo>
                <a:lnTo>
                  <a:pt x="377" y="115"/>
                </a:lnTo>
                <a:lnTo>
                  <a:pt x="361" y="117"/>
                </a:lnTo>
                <a:lnTo>
                  <a:pt x="346" y="121"/>
                </a:lnTo>
                <a:lnTo>
                  <a:pt x="329" y="123"/>
                </a:lnTo>
                <a:lnTo>
                  <a:pt x="311" y="124"/>
                </a:lnTo>
                <a:lnTo>
                  <a:pt x="292" y="126"/>
                </a:lnTo>
                <a:lnTo>
                  <a:pt x="273" y="130"/>
                </a:lnTo>
                <a:lnTo>
                  <a:pt x="252" y="132"/>
                </a:lnTo>
                <a:lnTo>
                  <a:pt x="231" y="134"/>
                </a:lnTo>
                <a:lnTo>
                  <a:pt x="210" y="138"/>
                </a:lnTo>
                <a:lnTo>
                  <a:pt x="187" y="140"/>
                </a:lnTo>
                <a:lnTo>
                  <a:pt x="162" y="144"/>
                </a:lnTo>
                <a:lnTo>
                  <a:pt x="137" y="146"/>
                </a:lnTo>
                <a:lnTo>
                  <a:pt x="112" y="149"/>
                </a:lnTo>
                <a:lnTo>
                  <a:pt x="85" y="151"/>
                </a:lnTo>
                <a:lnTo>
                  <a:pt x="58" y="155"/>
                </a:lnTo>
                <a:lnTo>
                  <a:pt x="29" y="159"/>
                </a:lnTo>
                <a:lnTo>
                  <a:pt x="0" y="161"/>
                </a:lnTo>
                <a:lnTo>
                  <a:pt x="0" y="121"/>
                </a:lnTo>
                <a:lnTo>
                  <a:pt x="0" y="80"/>
                </a:lnTo>
                <a:lnTo>
                  <a:pt x="22" y="80"/>
                </a:lnTo>
                <a:lnTo>
                  <a:pt x="45" y="78"/>
                </a:lnTo>
                <a:lnTo>
                  <a:pt x="68" y="78"/>
                </a:lnTo>
                <a:lnTo>
                  <a:pt x="93" y="77"/>
                </a:lnTo>
                <a:lnTo>
                  <a:pt x="119" y="73"/>
                </a:lnTo>
                <a:lnTo>
                  <a:pt x="144" y="71"/>
                </a:lnTo>
                <a:lnTo>
                  <a:pt x="173" y="67"/>
                </a:lnTo>
                <a:lnTo>
                  <a:pt x="200" y="61"/>
                </a:lnTo>
                <a:lnTo>
                  <a:pt x="231" y="57"/>
                </a:lnTo>
                <a:lnTo>
                  <a:pt x="262" y="52"/>
                </a:lnTo>
                <a:lnTo>
                  <a:pt x="292" y="44"/>
                </a:lnTo>
                <a:lnTo>
                  <a:pt x="325" y="36"/>
                </a:lnTo>
                <a:lnTo>
                  <a:pt x="359" y="29"/>
                </a:lnTo>
                <a:lnTo>
                  <a:pt x="394" y="19"/>
                </a:lnTo>
                <a:lnTo>
                  <a:pt x="430" y="9"/>
                </a:lnTo>
                <a:lnTo>
                  <a:pt x="467"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Freeform 141"/>
          <p:cNvSpPr/>
          <p:nvPr/>
        </p:nvSpPr>
        <p:spPr>
          <a:xfrm>
            <a:off x="6022800" y="3025800"/>
            <a:ext cx="881280" cy="201600"/>
          </a:xfrm>
          <a:custGeom>
            <a:avLst/>
            <a:gdLst/>
            <a:ahLst/>
            <a:rect l="l" t="t" r="r" b="b"/>
            <a:pathLst>
              <a:path w="1109" h="255">
                <a:moveTo>
                  <a:pt x="706" y="173"/>
                </a:moveTo>
                <a:lnTo>
                  <a:pt x="656" y="184"/>
                </a:lnTo>
                <a:lnTo>
                  <a:pt x="606" y="194"/>
                </a:lnTo>
                <a:lnTo>
                  <a:pt x="558" y="202"/>
                </a:lnTo>
                <a:lnTo>
                  <a:pt x="512" y="211"/>
                </a:lnTo>
                <a:lnTo>
                  <a:pt x="464" y="219"/>
                </a:lnTo>
                <a:lnTo>
                  <a:pt x="418" y="225"/>
                </a:lnTo>
                <a:lnTo>
                  <a:pt x="372" y="230"/>
                </a:lnTo>
                <a:lnTo>
                  <a:pt x="328" y="236"/>
                </a:lnTo>
                <a:lnTo>
                  <a:pt x="284" y="240"/>
                </a:lnTo>
                <a:lnTo>
                  <a:pt x="242" y="244"/>
                </a:lnTo>
                <a:lnTo>
                  <a:pt x="199" y="248"/>
                </a:lnTo>
                <a:lnTo>
                  <a:pt x="157" y="250"/>
                </a:lnTo>
                <a:lnTo>
                  <a:pt x="117" y="252"/>
                </a:lnTo>
                <a:lnTo>
                  <a:pt x="77" y="253"/>
                </a:lnTo>
                <a:lnTo>
                  <a:pt x="36" y="253"/>
                </a:lnTo>
                <a:lnTo>
                  <a:pt x="0" y="255"/>
                </a:lnTo>
                <a:lnTo>
                  <a:pt x="0" y="219"/>
                </a:lnTo>
                <a:lnTo>
                  <a:pt x="0" y="184"/>
                </a:lnTo>
                <a:lnTo>
                  <a:pt x="23" y="181"/>
                </a:lnTo>
                <a:lnTo>
                  <a:pt x="48" y="179"/>
                </a:lnTo>
                <a:lnTo>
                  <a:pt x="75" y="175"/>
                </a:lnTo>
                <a:lnTo>
                  <a:pt x="100" y="173"/>
                </a:lnTo>
                <a:lnTo>
                  <a:pt x="126" y="171"/>
                </a:lnTo>
                <a:lnTo>
                  <a:pt x="151" y="169"/>
                </a:lnTo>
                <a:lnTo>
                  <a:pt x="176" y="165"/>
                </a:lnTo>
                <a:lnTo>
                  <a:pt x="201" y="161"/>
                </a:lnTo>
                <a:lnTo>
                  <a:pt x="207" y="159"/>
                </a:lnTo>
                <a:lnTo>
                  <a:pt x="213" y="159"/>
                </a:lnTo>
                <a:lnTo>
                  <a:pt x="221" y="157"/>
                </a:lnTo>
                <a:lnTo>
                  <a:pt x="228" y="156"/>
                </a:lnTo>
                <a:lnTo>
                  <a:pt x="236" y="156"/>
                </a:lnTo>
                <a:lnTo>
                  <a:pt x="245" y="154"/>
                </a:lnTo>
                <a:lnTo>
                  <a:pt x="255" y="152"/>
                </a:lnTo>
                <a:lnTo>
                  <a:pt x="265" y="150"/>
                </a:lnTo>
                <a:lnTo>
                  <a:pt x="274" y="148"/>
                </a:lnTo>
                <a:lnTo>
                  <a:pt x="286" y="146"/>
                </a:lnTo>
                <a:lnTo>
                  <a:pt x="297" y="144"/>
                </a:lnTo>
                <a:lnTo>
                  <a:pt x="309" y="142"/>
                </a:lnTo>
                <a:lnTo>
                  <a:pt x="320" y="140"/>
                </a:lnTo>
                <a:lnTo>
                  <a:pt x="334" y="138"/>
                </a:lnTo>
                <a:lnTo>
                  <a:pt x="347" y="136"/>
                </a:lnTo>
                <a:lnTo>
                  <a:pt x="361" y="133"/>
                </a:lnTo>
                <a:lnTo>
                  <a:pt x="389" y="127"/>
                </a:lnTo>
                <a:lnTo>
                  <a:pt x="420" y="121"/>
                </a:lnTo>
                <a:lnTo>
                  <a:pt x="453" y="113"/>
                </a:lnTo>
                <a:lnTo>
                  <a:pt x="487" y="106"/>
                </a:lnTo>
                <a:lnTo>
                  <a:pt x="522" y="98"/>
                </a:lnTo>
                <a:lnTo>
                  <a:pt x="560" y="88"/>
                </a:lnTo>
                <a:lnTo>
                  <a:pt x="601" y="79"/>
                </a:lnTo>
                <a:lnTo>
                  <a:pt x="643" y="69"/>
                </a:lnTo>
                <a:lnTo>
                  <a:pt x="662" y="63"/>
                </a:lnTo>
                <a:lnTo>
                  <a:pt x="681" y="60"/>
                </a:lnTo>
                <a:lnTo>
                  <a:pt x="700" y="56"/>
                </a:lnTo>
                <a:lnTo>
                  <a:pt x="718" y="52"/>
                </a:lnTo>
                <a:lnTo>
                  <a:pt x="737" y="48"/>
                </a:lnTo>
                <a:lnTo>
                  <a:pt x="754" y="44"/>
                </a:lnTo>
                <a:lnTo>
                  <a:pt x="769" y="40"/>
                </a:lnTo>
                <a:lnTo>
                  <a:pt x="787" y="38"/>
                </a:lnTo>
                <a:lnTo>
                  <a:pt x="802" y="35"/>
                </a:lnTo>
                <a:lnTo>
                  <a:pt x="816" y="31"/>
                </a:lnTo>
                <a:lnTo>
                  <a:pt x="831" y="29"/>
                </a:lnTo>
                <a:lnTo>
                  <a:pt x="844" y="25"/>
                </a:lnTo>
                <a:lnTo>
                  <a:pt x="858" y="23"/>
                </a:lnTo>
                <a:lnTo>
                  <a:pt x="871" y="21"/>
                </a:lnTo>
                <a:lnTo>
                  <a:pt x="883" y="19"/>
                </a:lnTo>
                <a:lnTo>
                  <a:pt x="894" y="15"/>
                </a:lnTo>
                <a:lnTo>
                  <a:pt x="906" y="14"/>
                </a:lnTo>
                <a:lnTo>
                  <a:pt x="915" y="12"/>
                </a:lnTo>
                <a:lnTo>
                  <a:pt x="925" y="10"/>
                </a:lnTo>
                <a:lnTo>
                  <a:pt x="935" y="8"/>
                </a:lnTo>
                <a:lnTo>
                  <a:pt x="942" y="8"/>
                </a:lnTo>
                <a:lnTo>
                  <a:pt x="952" y="6"/>
                </a:lnTo>
                <a:lnTo>
                  <a:pt x="958" y="4"/>
                </a:lnTo>
                <a:lnTo>
                  <a:pt x="965" y="4"/>
                </a:lnTo>
                <a:lnTo>
                  <a:pt x="971" y="2"/>
                </a:lnTo>
                <a:lnTo>
                  <a:pt x="977" y="2"/>
                </a:lnTo>
                <a:lnTo>
                  <a:pt x="981" y="0"/>
                </a:lnTo>
                <a:lnTo>
                  <a:pt x="984" y="0"/>
                </a:lnTo>
                <a:lnTo>
                  <a:pt x="988" y="0"/>
                </a:lnTo>
                <a:lnTo>
                  <a:pt x="992" y="0"/>
                </a:lnTo>
                <a:lnTo>
                  <a:pt x="994" y="0"/>
                </a:lnTo>
                <a:lnTo>
                  <a:pt x="996" y="0"/>
                </a:lnTo>
                <a:lnTo>
                  <a:pt x="1000" y="0"/>
                </a:lnTo>
                <a:lnTo>
                  <a:pt x="1006" y="2"/>
                </a:lnTo>
                <a:lnTo>
                  <a:pt x="1011" y="4"/>
                </a:lnTo>
                <a:lnTo>
                  <a:pt x="1017" y="6"/>
                </a:lnTo>
                <a:lnTo>
                  <a:pt x="1025" y="10"/>
                </a:lnTo>
                <a:lnTo>
                  <a:pt x="1034" y="14"/>
                </a:lnTo>
                <a:lnTo>
                  <a:pt x="1040" y="15"/>
                </a:lnTo>
                <a:lnTo>
                  <a:pt x="1046" y="17"/>
                </a:lnTo>
                <a:lnTo>
                  <a:pt x="1052" y="19"/>
                </a:lnTo>
                <a:lnTo>
                  <a:pt x="1059" y="23"/>
                </a:lnTo>
                <a:lnTo>
                  <a:pt x="1065" y="25"/>
                </a:lnTo>
                <a:lnTo>
                  <a:pt x="1071" y="27"/>
                </a:lnTo>
                <a:lnTo>
                  <a:pt x="1077" y="31"/>
                </a:lnTo>
                <a:lnTo>
                  <a:pt x="1082" y="33"/>
                </a:lnTo>
                <a:lnTo>
                  <a:pt x="1086" y="37"/>
                </a:lnTo>
                <a:lnTo>
                  <a:pt x="1092" y="38"/>
                </a:lnTo>
                <a:lnTo>
                  <a:pt x="1094" y="42"/>
                </a:lnTo>
                <a:lnTo>
                  <a:pt x="1098" y="46"/>
                </a:lnTo>
                <a:lnTo>
                  <a:pt x="1103" y="52"/>
                </a:lnTo>
                <a:lnTo>
                  <a:pt x="1105" y="58"/>
                </a:lnTo>
                <a:lnTo>
                  <a:pt x="1107" y="63"/>
                </a:lnTo>
                <a:lnTo>
                  <a:pt x="1109" y="69"/>
                </a:lnTo>
                <a:lnTo>
                  <a:pt x="1107" y="71"/>
                </a:lnTo>
                <a:lnTo>
                  <a:pt x="1105" y="73"/>
                </a:lnTo>
                <a:lnTo>
                  <a:pt x="1102" y="75"/>
                </a:lnTo>
                <a:lnTo>
                  <a:pt x="1100" y="75"/>
                </a:lnTo>
                <a:lnTo>
                  <a:pt x="1094" y="77"/>
                </a:lnTo>
                <a:lnTo>
                  <a:pt x="1088" y="79"/>
                </a:lnTo>
                <a:lnTo>
                  <a:pt x="1082" y="81"/>
                </a:lnTo>
                <a:lnTo>
                  <a:pt x="1077" y="85"/>
                </a:lnTo>
                <a:lnTo>
                  <a:pt x="1069" y="86"/>
                </a:lnTo>
                <a:lnTo>
                  <a:pt x="1059" y="88"/>
                </a:lnTo>
                <a:lnTo>
                  <a:pt x="1052" y="90"/>
                </a:lnTo>
                <a:lnTo>
                  <a:pt x="1040" y="94"/>
                </a:lnTo>
                <a:lnTo>
                  <a:pt x="1031" y="96"/>
                </a:lnTo>
                <a:lnTo>
                  <a:pt x="1019" y="100"/>
                </a:lnTo>
                <a:lnTo>
                  <a:pt x="1006" y="104"/>
                </a:lnTo>
                <a:lnTo>
                  <a:pt x="994" y="106"/>
                </a:lnTo>
                <a:lnTo>
                  <a:pt x="979" y="109"/>
                </a:lnTo>
                <a:lnTo>
                  <a:pt x="965" y="113"/>
                </a:lnTo>
                <a:lnTo>
                  <a:pt x="950" y="117"/>
                </a:lnTo>
                <a:lnTo>
                  <a:pt x="933" y="121"/>
                </a:lnTo>
                <a:lnTo>
                  <a:pt x="915" y="125"/>
                </a:lnTo>
                <a:lnTo>
                  <a:pt x="898" y="129"/>
                </a:lnTo>
                <a:lnTo>
                  <a:pt x="881" y="133"/>
                </a:lnTo>
                <a:lnTo>
                  <a:pt x="862" y="138"/>
                </a:lnTo>
                <a:lnTo>
                  <a:pt x="840" y="142"/>
                </a:lnTo>
                <a:lnTo>
                  <a:pt x="819" y="148"/>
                </a:lnTo>
                <a:lnTo>
                  <a:pt x="798" y="152"/>
                </a:lnTo>
                <a:lnTo>
                  <a:pt x="777" y="157"/>
                </a:lnTo>
                <a:lnTo>
                  <a:pt x="754" y="161"/>
                </a:lnTo>
                <a:lnTo>
                  <a:pt x="729" y="167"/>
                </a:lnTo>
                <a:lnTo>
                  <a:pt x="706" y="1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Freeform 142"/>
          <p:cNvSpPr/>
          <p:nvPr/>
        </p:nvSpPr>
        <p:spPr>
          <a:xfrm>
            <a:off x="6423120" y="2941560"/>
            <a:ext cx="190440" cy="168480"/>
          </a:xfrm>
          <a:custGeom>
            <a:avLst/>
            <a:gdLst/>
            <a:ahLst/>
            <a:rect l="l" t="t" r="r" b="b"/>
            <a:pathLst>
              <a:path w="240" h="213">
                <a:moveTo>
                  <a:pt x="0" y="0"/>
                </a:moveTo>
                <a:lnTo>
                  <a:pt x="25" y="0"/>
                </a:lnTo>
                <a:lnTo>
                  <a:pt x="48" y="1"/>
                </a:lnTo>
                <a:lnTo>
                  <a:pt x="71" y="3"/>
                </a:lnTo>
                <a:lnTo>
                  <a:pt x="94" y="7"/>
                </a:lnTo>
                <a:lnTo>
                  <a:pt x="115" y="11"/>
                </a:lnTo>
                <a:lnTo>
                  <a:pt x="136" y="15"/>
                </a:lnTo>
                <a:lnTo>
                  <a:pt x="157" y="19"/>
                </a:lnTo>
                <a:lnTo>
                  <a:pt x="176" y="23"/>
                </a:lnTo>
                <a:lnTo>
                  <a:pt x="184" y="28"/>
                </a:lnTo>
                <a:lnTo>
                  <a:pt x="190" y="32"/>
                </a:lnTo>
                <a:lnTo>
                  <a:pt x="197" y="38"/>
                </a:lnTo>
                <a:lnTo>
                  <a:pt x="203" y="46"/>
                </a:lnTo>
                <a:lnTo>
                  <a:pt x="213" y="59"/>
                </a:lnTo>
                <a:lnTo>
                  <a:pt x="222" y="74"/>
                </a:lnTo>
                <a:lnTo>
                  <a:pt x="226" y="82"/>
                </a:lnTo>
                <a:lnTo>
                  <a:pt x="230" y="92"/>
                </a:lnTo>
                <a:lnTo>
                  <a:pt x="234" y="99"/>
                </a:lnTo>
                <a:lnTo>
                  <a:pt x="236" y="109"/>
                </a:lnTo>
                <a:lnTo>
                  <a:pt x="238" y="119"/>
                </a:lnTo>
                <a:lnTo>
                  <a:pt x="240" y="130"/>
                </a:lnTo>
                <a:lnTo>
                  <a:pt x="240" y="140"/>
                </a:lnTo>
                <a:lnTo>
                  <a:pt x="240" y="151"/>
                </a:lnTo>
                <a:lnTo>
                  <a:pt x="240" y="161"/>
                </a:lnTo>
                <a:lnTo>
                  <a:pt x="240" y="170"/>
                </a:lnTo>
                <a:lnTo>
                  <a:pt x="238" y="180"/>
                </a:lnTo>
                <a:lnTo>
                  <a:pt x="236" y="188"/>
                </a:lnTo>
                <a:lnTo>
                  <a:pt x="232" y="193"/>
                </a:lnTo>
                <a:lnTo>
                  <a:pt x="228" y="199"/>
                </a:lnTo>
                <a:lnTo>
                  <a:pt x="224" y="205"/>
                </a:lnTo>
                <a:lnTo>
                  <a:pt x="220" y="209"/>
                </a:lnTo>
                <a:lnTo>
                  <a:pt x="215" y="211"/>
                </a:lnTo>
                <a:lnTo>
                  <a:pt x="207" y="213"/>
                </a:lnTo>
                <a:lnTo>
                  <a:pt x="199" y="213"/>
                </a:lnTo>
                <a:lnTo>
                  <a:pt x="192" y="213"/>
                </a:lnTo>
                <a:lnTo>
                  <a:pt x="184" y="211"/>
                </a:lnTo>
                <a:lnTo>
                  <a:pt x="174" y="207"/>
                </a:lnTo>
                <a:lnTo>
                  <a:pt x="163" y="203"/>
                </a:lnTo>
                <a:lnTo>
                  <a:pt x="151" y="197"/>
                </a:lnTo>
                <a:lnTo>
                  <a:pt x="140" y="190"/>
                </a:lnTo>
                <a:lnTo>
                  <a:pt x="128" y="182"/>
                </a:lnTo>
                <a:lnTo>
                  <a:pt x="117" y="174"/>
                </a:lnTo>
                <a:lnTo>
                  <a:pt x="107" y="167"/>
                </a:lnTo>
                <a:lnTo>
                  <a:pt x="96" y="157"/>
                </a:lnTo>
                <a:lnTo>
                  <a:pt x="86" y="147"/>
                </a:lnTo>
                <a:lnTo>
                  <a:pt x="76" y="136"/>
                </a:lnTo>
                <a:lnTo>
                  <a:pt x="67" y="124"/>
                </a:lnTo>
                <a:lnTo>
                  <a:pt x="57" y="113"/>
                </a:lnTo>
                <a:lnTo>
                  <a:pt x="48" y="99"/>
                </a:lnTo>
                <a:lnTo>
                  <a:pt x="40" y="84"/>
                </a:lnTo>
                <a:lnTo>
                  <a:pt x="30" y="71"/>
                </a:lnTo>
                <a:lnTo>
                  <a:pt x="23" y="53"/>
                </a:lnTo>
                <a:lnTo>
                  <a:pt x="15" y="36"/>
                </a:lnTo>
                <a:lnTo>
                  <a:pt x="7" y="19"/>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Freeform 143"/>
          <p:cNvSpPr/>
          <p:nvPr/>
        </p:nvSpPr>
        <p:spPr>
          <a:xfrm>
            <a:off x="5372280" y="2798640"/>
            <a:ext cx="760320" cy="1573200"/>
          </a:xfrm>
          <a:custGeom>
            <a:avLst/>
            <a:gdLst/>
            <a:ahLst/>
            <a:rect l="l" t="t" r="r" b="b"/>
            <a:pathLst>
              <a:path w="960" h="1983">
                <a:moveTo>
                  <a:pt x="177" y="1735"/>
                </a:moveTo>
                <a:lnTo>
                  <a:pt x="223" y="1678"/>
                </a:lnTo>
                <a:lnTo>
                  <a:pt x="269" y="1618"/>
                </a:lnTo>
                <a:lnTo>
                  <a:pt x="313" y="1557"/>
                </a:lnTo>
                <a:lnTo>
                  <a:pt x="355" y="1493"/>
                </a:lnTo>
                <a:lnTo>
                  <a:pt x="376" y="1461"/>
                </a:lnTo>
                <a:lnTo>
                  <a:pt x="396" y="1428"/>
                </a:lnTo>
                <a:lnTo>
                  <a:pt x="415" y="1396"/>
                </a:lnTo>
                <a:lnTo>
                  <a:pt x="434" y="1361"/>
                </a:lnTo>
                <a:lnTo>
                  <a:pt x="453" y="1328"/>
                </a:lnTo>
                <a:lnTo>
                  <a:pt x="471" y="1294"/>
                </a:lnTo>
                <a:lnTo>
                  <a:pt x="488" y="1259"/>
                </a:lnTo>
                <a:lnTo>
                  <a:pt x="505" y="1225"/>
                </a:lnTo>
                <a:lnTo>
                  <a:pt x="520" y="1190"/>
                </a:lnTo>
                <a:lnTo>
                  <a:pt x="538" y="1154"/>
                </a:lnTo>
                <a:lnTo>
                  <a:pt x="553" y="1117"/>
                </a:lnTo>
                <a:lnTo>
                  <a:pt x="568" y="1079"/>
                </a:lnTo>
                <a:lnTo>
                  <a:pt x="584" y="1040"/>
                </a:lnTo>
                <a:lnTo>
                  <a:pt x="597" y="1000"/>
                </a:lnTo>
                <a:lnTo>
                  <a:pt x="613" y="962"/>
                </a:lnTo>
                <a:lnTo>
                  <a:pt x="626" y="920"/>
                </a:lnTo>
                <a:lnTo>
                  <a:pt x="639" y="879"/>
                </a:lnTo>
                <a:lnTo>
                  <a:pt x="653" y="835"/>
                </a:lnTo>
                <a:lnTo>
                  <a:pt x="666" y="793"/>
                </a:lnTo>
                <a:lnTo>
                  <a:pt x="678" y="749"/>
                </a:lnTo>
                <a:lnTo>
                  <a:pt x="689" y="703"/>
                </a:lnTo>
                <a:lnTo>
                  <a:pt x="699" y="658"/>
                </a:lnTo>
                <a:lnTo>
                  <a:pt x="710" y="610"/>
                </a:lnTo>
                <a:lnTo>
                  <a:pt x="720" y="564"/>
                </a:lnTo>
                <a:lnTo>
                  <a:pt x="724" y="539"/>
                </a:lnTo>
                <a:lnTo>
                  <a:pt x="726" y="516"/>
                </a:lnTo>
                <a:lnTo>
                  <a:pt x="730" y="495"/>
                </a:lnTo>
                <a:lnTo>
                  <a:pt x="732" y="472"/>
                </a:lnTo>
                <a:lnTo>
                  <a:pt x="735" y="451"/>
                </a:lnTo>
                <a:lnTo>
                  <a:pt x="737" y="430"/>
                </a:lnTo>
                <a:lnTo>
                  <a:pt x="741" y="411"/>
                </a:lnTo>
                <a:lnTo>
                  <a:pt x="743" y="392"/>
                </a:lnTo>
                <a:lnTo>
                  <a:pt x="745" y="372"/>
                </a:lnTo>
                <a:lnTo>
                  <a:pt x="747" y="355"/>
                </a:lnTo>
                <a:lnTo>
                  <a:pt x="749" y="336"/>
                </a:lnTo>
                <a:lnTo>
                  <a:pt x="751" y="321"/>
                </a:lnTo>
                <a:lnTo>
                  <a:pt x="753" y="303"/>
                </a:lnTo>
                <a:lnTo>
                  <a:pt x="753" y="288"/>
                </a:lnTo>
                <a:lnTo>
                  <a:pt x="755" y="273"/>
                </a:lnTo>
                <a:lnTo>
                  <a:pt x="757" y="257"/>
                </a:lnTo>
                <a:lnTo>
                  <a:pt x="757" y="244"/>
                </a:lnTo>
                <a:lnTo>
                  <a:pt x="757" y="230"/>
                </a:lnTo>
                <a:lnTo>
                  <a:pt x="758" y="217"/>
                </a:lnTo>
                <a:lnTo>
                  <a:pt x="758" y="204"/>
                </a:lnTo>
                <a:lnTo>
                  <a:pt x="758" y="192"/>
                </a:lnTo>
                <a:lnTo>
                  <a:pt x="758" y="181"/>
                </a:lnTo>
                <a:lnTo>
                  <a:pt x="757" y="171"/>
                </a:lnTo>
                <a:lnTo>
                  <a:pt x="757" y="161"/>
                </a:lnTo>
                <a:lnTo>
                  <a:pt x="757" y="152"/>
                </a:lnTo>
                <a:lnTo>
                  <a:pt x="755" y="142"/>
                </a:lnTo>
                <a:lnTo>
                  <a:pt x="755" y="134"/>
                </a:lnTo>
                <a:lnTo>
                  <a:pt x="753" y="125"/>
                </a:lnTo>
                <a:lnTo>
                  <a:pt x="751" y="119"/>
                </a:lnTo>
                <a:lnTo>
                  <a:pt x="749" y="111"/>
                </a:lnTo>
                <a:lnTo>
                  <a:pt x="747" y="106"/>
                </a:lnTo>
                <a:lnTo>
                  <a:pt x="745" y="100"/>
                </a:lnTo>
                <a:lnTo>
                  <a:pt x="741" y="90"/>
                </a:lnTo>
                <a:lnTo>
                  <a:pt x="737" y="83"/>
                </a:lnTo>
                <a:lnTo>
                  <a:pt x="733" y="75"/>
                </a:lnTo>
                <a:lnTo>
                  <a:pt x="732" y="67"/>
                </a:lnTo>
                <a:lnTo>
                  <a:pt x="728" y="60"/>
                </a:lnTo>
                <a:lnTo>
                  <a:pt x="728" y="52"/>
                </a:lnTo>
                <a:lnTo>
                  <a:pt x="724" y="40"/>
                </a:lnTo>
                <a:lnTo>
                  <a:pt x="724" y="29"/>
                </a:lnTo>
                <a:lnTo>
                  <a:pt x="726" y="19"/>
                </a:lnTo>
                <a:lnTo>
                  <a:pt x="728" y="15"/>
                </a:lnTo>
                <a:lnTo>
                  <a:pt x="728" y="12"/>
                </a:lnTo>
                <a:lnTo>
                  <a:pt x="730" y="10"/>
                </a:lnTo>
                <a:lnTo>
                  <a:pt x="733" y="6"/>
                </a:lnTo>
                <a:lnTo>
                  <a:pt x="735" y="4"/>
                </a:lnTo>
                <a:lnTo>
                  <a:pt x="741" y="2"/>
                </a:lnTo>
                <a:lnTo>
                  <a:pt x="747" y="2"/>
                </a:lnTo>
                <a:lnTo>
                  <a:pt x="755" y="0"/>
                </a:lnTo>
                <a:lnTo>
                  <a:pt x="762" y="0"/>
                </a:lnTo>
                <a:lnTo>
                  <a:pt x="774" y="0"/>
                </a:lnTo>
                <a:lnTo>
                  <a:pt x="785" y="0"/>
                </a:lnTo>
                <a:lnTo>
                  <a:pt x="799" y="0"/>
                </a:lnTo>
                <a:lnTo>
                  <a:pt x="814" y="2"/>
                </a:lnTo>
                <a:lnTo>
                  <a:pt x="829" y="4"/>
                </a:lnTo>
                <a:lnTo>
                  <a:pt x="849" y="6"/>
                </a:lnTo>
                <a:lnTo>
                  <a:pt x="868" y="10"/>
                </a:lnTo>
                <a:lnTo>
                  <a:pt x="889" y="14"/>
                </a:lnTo>
                <a:lnTo>
                  <a:pt x="910" y="17"/>
                </a:lnTo>
                <a:lnTo>
                  <a:pt x="935" y="23"/>
                </a:lnTo>
                <a:lnTo>
                  <a:pt x="960" y="31"/>
                </a:lnTo>
                <a:lnTo>
                  <a:pt x="960" y="37"/>
                </a:lnTo>
                <a:lnTo>
                  <a:pt x="960" y="44"/>
                </a:lnTo>
                <a:lnTo>
                  <a:pt x="960" y="54"/>
                </a:lnTo>
                <a:lnTo>
                  <a:pt x="960" y="61"/>
                </a:lnTo>
                <a:lnTo>
                  <a:pt x="960" y="73"/>
                </a:lnTo>
                <a:lnTo>
                  <a:pt x="958" y="83"/>
                </a:lnTo>
                <a:lnTo>
                  <a:pt x="958" y="96"/>
                </a:lnTo>
                <a:lnTo>
                  <a:pt x="958" y="108"/>
                </a:lnTo>
                <a:lnTo>
                  <a:pt x="958" y="121"/>
                </a:lnTo>
                <a:lnTo>
                  <a:pt x="956" y="136"/>
                </a:lnTo>
                <a:lnTo>
                  <a:pt x="956" y="152"/>
                </a:lnTo>
                <a:lnTo>
                  <a:pt x="954" y="167"/>
                </a:lnTo>
                <a:lnTo>
                  <a:pt x="952" y="184"/>
                </a:lnTo>
                <a:lnTo>
                  <a:pt x="950" y="202"/>
                </a:lnTo>
                <a:lnTo>
                  <a:pt x="948" y="219"/>
                </a:lnTo>
                <a:lnTo>
                  <a:pt x="947" y="238"/>
                </a:lnTo>
                <a:lnTo>
                  <a:pt x="945" y="259"/>
                </a:lnTo>
                <a:lnTo>
                  <a:pt x="941" y="280"/>
                </a:lnTo>
                <a:lnTo>
                  <a:pt x="937" y="303"/>
                </a:lnTo>
                <a:lnTo>
                  <a:pt x="933" y="328"/>
                </a:lnTo>
                <a:lnTo>
                  <a:pt x="929" y="353"/>
                </a:lnTo>
                <a:lnTo>
                  <a:pt x="924" y="380"/>
                </a:lnTo>
                <a:lnTo>
                  <a:pt x="918" y="407"/>
                </a:lnTo>
                <a:lnTo>
                  <a:pt x="912" y="436"/>
                </a:lnTo>
                <a:lnTo>
                  <a:pt x="906" y="467"/>
                </a:lnTo>
                <a:lnTo>
                  <a:pt x="900" y="497"/>
                </a:lnTo>
                <a:lnTo>
                  <a:pt x="893" y="528"/>
                </a:lnTo>
                <a:lnTo>
                  <a:pt x="887" y="562"/>
                </a:lnTo>
                <a:lnTo>
                  <a:pt x="879" y="595"/>
                </a:lnTo>
                <a:lnTo>
                  <a:pt x="874" y="630"/>
                </a:lnTo>
                <a:lnTo>
                  <a:pt x="866" y="666"/>
                </a:lnTo>
                <a:lnTo>
                  <a:pt x="858" y="703"/>
                </a:lnTo>
                <a:lnTo>
                  <a:pt x="849" y="739"/>
                </a:lnTo>
                <a:lnTo>
                  <a:pt x="839" y="777"/>
                </a:lnTo>
                <a:lnTo>
                  <a:pt x="828" y="814"/>
                </a:lnTo>
                <a:lnTo>
                  <a:pt x="816" y="850"/>
                </a:lnTo>
                <a:lnTo>
                  <a:pt x="805" y="887"/>
                </a:lnTo>
                <a:lnTo>
                  <a:pt x="791" y="923"/>
                </a:lnTo>
                <a:lnTo>
                  <a:pt x="778" y="960"/>
                </a:lnTo>
                <a:lnTo>
                  <a:pt x="764" y="996"/>
                </a:lnTo>
                <a:lnTo>
                  <a:pt x="749" y="1033"/>
                </a:lnTo>
                <a:lnTo>
                  <a:pt x="733" y="1069"/>
                </a:lnTo>
                <a:lnTo>
                  <a:pt x="718" y="1106"/>
                </a:lnTo>
                <a:lnTo>
                  <a:pt x="701" y="1142"/>
                </a:lnTo>
                <a:lnTo>
                  <a:pt x="686" y="1177"/>
                </a:lnTo>
                <a:lnTo>
                  <a:pt x="668" y="1213"/>
                </a:lnTo>
                <a:lnTo>
                  <a:pt x="649" y="1248"/>
                </a:lnTo>
                <a:lnTo>
                  <a:pt x="632" y="1282"/>
                </a:lnTo>
                <a:lnTo>
                  <a:pt x="613" y="1319"/>
                </a:lnTo>
                <a:lnTo>
                  <a:pt x="595" y="1355"/>
                </a:lnTo>
                <a:lnTo>
                  <a:pt x="576" y="1388"/>
                </a:lnTo>
                <a:lnTo>
                  <a:pt x="559" y="1420"/>
                </a:lnTo>
                <a:lnTo>
                  <a:pt x="540" y="1451"/>
                </a:lnTo>
                <a:lnTo>
                  <a:pt x="522" y="1482"/>
                </a:lnTo>
                <a:lnTo>
                  <a:pt x="505" y="1509"/>
                </a:lnTo>
                <a:lnTo>
                  <a:pt x="488" y="1538"/>
                </a:lnTo>
                <a:lnTo>
                  <a:pt x="471" y="1563"/>
                </a:lnTo>
                <a:lnTo>
                  <a:pt x="453" y="1587"/>
                </a:lnTo>
                <a:lnTo>
                  <a:pt x="438" y="1611"/>
                </a:lnTo>
                <a:lnTo>
                  <a:pt x="421" y="1634"/>
                </a:lnTo>
                <a:lnTo>
                  <a:pt x="403" y="1655"/>
                </a:lnTo>
                <a:lnTo>
                  <a:pt x="386" y="1676"/>
                </a:lnTo>
                <a:lnTo>
                  <a:pt x="371" y="1695"/>
                </a:lnTo>
                <a:lnTo>
                  <a:pt x="353" y="1712"/>
                </a:lnTo>
                <a:lnTo>
                  <a:pt x="338" y="1731"/>
                </a:lnTo>
                <a:lnTo>
                  <a:pt x="321" y="1751"/>
                </a:lnTo>
                <a:lnTo>
                  <a:pt x="305" y="1768"/>
                </a:lnTo>
                <a:lnTo>
                  <a:pt x="288" y="1785"/>
                </a:lnTo>
                <a:lnTo>
                  <a:pt x="273" y="1801"/>
                </a:lnTo>
                <a:lnTo>
                  <a:pt x="256" y="1816"/>
                </a:lnTo>
                <a:lnTo>
                  <a:pt x="240" y="1831"/>
                </a:lnTo>
                <a:lnTo>
                  <a:pt x="225" y="1845"/>
                </a:lnTo>
                <a:lnTo>
                  <a:pt x="209" y="1858"/>
                </a:lnTo>
                <a:lnTo>
                  <a:pt x="194" y="1870"/>
                </a:lnTo>
                <a:lnTo>
                  <a:pt x="181" y="1881"/>
                </a:lnTo>
                <a:lnTo>
                  <a:pt x="165" y="1893"/>
                </a:lnTo>
                <a:lnTo>
                  <a:pt x="152" y="1904"/>
                </a:lnTo>
                <a:lnTo>
                  <a:pt x="138" y="1914"/>
                </a:lnTo>
                <a:lnTo>
                  <a:pt x="127" y="1923"/>
                </a:lnTo>
                <a:lnTo>
                  <a:pt x="114" y="1933"/>
                </a:lnTo>
                <a:lnTo>
                  <a:pt x="102" y="1941"/>
                </a:lnTo>
                <a:lnTo>
                  <a:pt x="92" y="1948"/>
                </a:lnTo>
                <a:lnTo>
                  <a:pt x="81" y="1956"/>
                </a:lnTo>
                <a:lnTo>
                  <a:pt x="71" y="1962"/>
                </a:lnTo>
                <a:lnTo>
                  <a:pt x="62" y="1968"/>
                </a:lnTo>
                <a:lnTo>
                  <a:pt x="54" y="1971"/>
                </a:lnTo>
                <a:lnTo>
                  <a:pt x="46" y="1975"/>
                </a:lnTo>
                <a:lnTo>
                  <a:pt x="39" y="1977"/>
                </a:lnTo>
                <a:lnTo>
                  <a:pt x="31" y="1981"/>
                </a:lnTo>
                <a:lnTo>
                  <a:pt x="25" y="1983"/>
                </a:lnTo>
                <a:lnTo>
                  <a:pt x="19" y="1983"/>
                </a:lnTo>
                <a:lnTo>
                  <a:pt x="16" y="1983"/>
                </a:lnTo>
                <a:lnTo>
                  <a:pt x="10" y="1983"/>
                </a:lnTo>
                <a:lnTo>
                  <a:pt x="6" y="1983"/>
                </a:lnTo>
                <a:lnTo>
                  <a:pt x="4" y="1981"/>
                </a:lnTo>
                <a:lnTo>
                  <a:pt x="0" y="1979"/>
                </a:lnTo>
                <a:lnTo>
                  <a:pt x="0" y="1975"/>
                </a:lnTo>
                <a:lnTo>
                  <a:pt x="0" y="1971"/>
                </a:lnTo>
                <a:lnTo>
                  <a:pt x="2" y="1966"/>
                </a:lnTo>
                <a:lnTo>
                  <a:pt x="6" y="1958"/>
                </a:lnTo>
                <a:lnTo>
                  <a:pt x="12" y="1948"/>
                </a:lnTo>
                <a:lnTo>
                  <a:pt x="18" y="1937"/>
                </a:lnTo>
                <a:lnTo>
                  <a:pt x="27" y="1923"/>
                </a:lnTo>
                <a:lnTo>
                  <a:pt x="37" y="1910"/>
                </a:lnTo>
                <a:lnTo>
                  <a:pt x="50" y="1895"/>
                </a:lnTo>
                <a:lnTo>
                  <a:pt x="64" y="1875"/>
                </a:lnTo>
                <a:lnTo>
                  <a:pt x="79" y="1856"/>
                </a:lnTo>
                <a:lnTo>
                  <a:pt x="96" y="1835"/>
                </a:lnTo>
                <a:lnTo>
                  <a:pt x="114" y="1814"/>
                </a:lnTo>
                <a:lnTo>
                  <a:pt x="133" y="1789"/>
                </a:lnTo>
                <a:lnTo>
                  <a:pt x="154" y="1762"/>
                </a:lnTo>
                <a:lnTo>
                  <a:pt x="177" y="17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144"/>
          <p:cNvSpPr/>
          <p:nvPr/>
        </p:nvSpPr>
        <p:spPr>
          <a:xfrm>
            <a:off x="6053040" y="2674800"/>
            <a:ext cx="1282680" cy="220680"/>
          </a:xfrm>
          <a:custGeom>
            <a:avLst/>
            <a:gdLst/>
            <a:ahLst/>
            <a:rect l="l" t="t" r="r" b="b"/>
            <a:pathLst>
              <a:path w="1616" h="278">
                <a:moveTo>
                  <a:pt x="1401" y="0"/>
                </a:moveTo>
                <a:lnTo>
                  <a:pt x="1415" y="0"/>
                </a:lnTo>
                <a:lnTo>
                  <a:pt x="1430" y="2"/>
                </a:lnTo>
                <a:lnTo>
                  <a:pt x="1446" y="3"/>
                </a:lnTo>
                <a:lnTo>
                  <a:pt x="1461" y="7"/>
                </a:lnTo>
                <a:lnTo>
                  <a:pt x="1478" y="9"/>
                </a:lnTo>
                <a:lnTo>
                  <a:pt x="1497" y="13"/>
                </a:lnTo>
                <a:lnTo>
                  <a:pt x="1507" y="15"/>
                </a:lnTo>
                <a:lnTo>
                  <a:pt x="1517" y="19"/>
                </a:lnTo>
                <a:lnTo>
                  <a:pt x="1528" y="21"/>
                </a:lnTo>
                <a:lnTo>
                  <a:pt x="1540" y="23"/>
                </a:lnTo>
                <a:lnTo>
                  <a:pt x="1549" y="25"/>
                </a:lnTo>
                <a:lnTo>
                  <a:pt x="1557" y="26"/>
                </a:lnTo>
                <a:lnTo>
                  <a:pt x="1565" y="30"/>
                </a:lnTo>
                <a:lnTo>
                  <a:pt x="1572" y="32"/>
                </a:lnTo>
                <a:lnTo>
                  <a:pt x="1580" y="36"/>
                </a:lnTo>
                <a:lnTo>
                  <a:pt x="1586" y="40"/>
                </a:lnTo>
                <a:lnTo>
                  <a:pt x="1591" y="44"/>
                </a:lnTo>
                <a:lnTo>
                  <a:pt x="1597" y="48"/>
                </a:lnTo>
                <a:lnTo>
                  <a:pt x="1601" y="51"/>
                </a:lnTo>
                <a:lnTo>
                  <a:pt x="1605" y="55"/>
                </a:lnTo>
                <a:lnTo>
                  <a:pt x="1609" y="59"/>
                </a:lnTo>
                <a:lnTo>
                  <a:pt x="1611" y="63"/>
                </a:lnTo>
                <a:lnTo>
                  <a:pt x="1613" y="67"/>
                </a:lnTo>
                <a:lnTo>
                  <a:pt x="1614" y="73"/>
                </a:lnTo>
                <a:lnTo>
                  <a:pt x="1614" y="76"/>
                </a:lnTo>
                <a:lnTo>
                  <a:pt x="1616" y="80"/>
                </a:lnTo>
                <a:lnTo>
                  <a:pt x="1614" y="86"/>
                </a:lnTo>
                <a:lnTo>
                  <a:pt x="1613" y="94"/>
                </a:lnTo>
                <a:lnTo>
                  <a:pt x="1611" y="99"/>
                </a:lnTo>
                <a:lnTo>
                  <a:pt x="1607" y="105"/>
                </a:lnTo>
                <a:lnTo>
                  <a:pt x="1601" y="109"/>
                </a:lnTo>
                <a:lnTo>
                  <a:pt x="1593" y="115"/>
                </a:lnTo>
                <a:lnTo>
                  <a:pt x="1586" y="119"/>
                </a:lnTo>
                <a:lnTo>
                  <a:pt x="1578" y="124"/>
                </a:lnTo>
                <a:lnTo>
                  <a:pt x="1568" y="128"/>
                </a:lnTo>
                <a:lnTo>
                  <a:pt x="1557" y="132"/>
                </a:lnTo>
                <a:lnTo>
                  <a:pt x="1543" y="136"/>
                </a:lnTo>
                <a:lnTo>
                  <a:pt x="1530" y="140"/>
                </a:lnTo>
                <a:lnTo>
                  <a:pt x="1515" y="142"/>
                </a:lnTo>
                <a:lnTo>
                  <a:pt x="1499" y="145"/>
                </a:lnTo>
                <a:lnTo>
                  <a:pt x="1482" y="147"/>
                </a:lnTo>
                <a:lnTo>
                  <a:pt x="1465" y="149"/>
                </a:lnTo>
                <a:lnTo>
                  <a:pt x="1453" y="151"/>
                </a:lnTo>
                <a:lnTo>
                  <a:pt x="1444" y="155"/>
                </a:lnTo>
                <a:lnTo>
                  <a:pt x="1432" y="157"/>
                </a:lnTo>
                <a:lnTo>
                  <a:pt x="1421" y="159"/>
                </a:lnTo>
                <a:lnTo>
                  <a:pt x="1409" y="161"/>
                </a:lnTo>
                <a:lnTo>
                  <a:pt x="1396" y="163"/>
                </a:lnTo>
                <a:lnTo>
                  <a:pt x="1380" y="165"/>
                </a:lnTo>
                <a:lnTo>
                  <a:pt x="1367" y="169"/>
                </a:lnTo>
                <a:lnTo>
                  <a:pt x="1352" y="170"/>
                </a:lnTo>
                <a:lnTo>
                  <a:pt x="1336" y="172"/>
                </a:lnTo>
                <a:lnTo>
                  <a:pt x="1319" y="174"/>
                </a:lnTo>
                <a:lnTo>
                  <a:pt x="1302" y="176"/>
                </a:lnTo>
                <a:lnTo>
                  <a:pt x="1284" y="180"/>
                </a:lnTo>
                <a:lnTo>
                  <a:pt x="1265" y="182"/>
                </a:lnTo>
                <a:lnTo>
                  <a:pt x="1246" y="184"/>
                </a:lnTo>
                <a:lnTo>
                  <a:pt x="1227" y="186"/>
                </a:lnTo>
                <a:lnTo>
                  <a:pt x="1206" y="190"/>
                </a:lnTo>
                <a:lnTo>
                  <a:pt x="1185" y="192"/>
                </a:lnTo>
                <a:lnTo>
                  <a:pt x="1162" y="193"/>
                </a:lnTo>
                <a:lnTo>
                  <a:pt x="1138" y="195"/>
                </a:lnTo>
                <a:lnTo>
                  <a:pt x="1115" y="199"/>
                </a:lnTo>
                <a:lnTo>
                  <a:pt x="1090" y="201"/>
                </a:lnTo>
                <a:lnTo>
                  <a:pt x="1066" y="205"/>
                </a:lnTo>
                <a:lnTo>
                  <a:pt x="1041" y="207"/>
                </a:lnTo>
                <a:lnTo>
                  <a:pt x="1014" y="209"/>
                </a:lnTo>
                <a:lnTo>
                  <a:pt x="987" y="213"/>
                </a:lnTo>
                <a:lnTo>
                  <a:pt x="958" y="215"/>
                </a:lnTo>
                <a:lnTo>
                  <a:pt x="929" y="218"/>
                </a:lnTo>
                <a:lnTo>
                  <a:pt x="900" y="222"/>
                </a:lnTo>
                <a:lnTo>
                  <a:pt x="870" y="224"/>
                </a:lnTo>
                <a:lnTo>
                  <a:pt x="839" y="228"/>
                </a:lnTo>
                <a:lnTo>
                  <a:pt x="808" y="232"/>
                </a:lnTo>
                <a:lnTo>
                  <a:pt x="745" y="238"/>
                </a:lnTo>
                <a:lnTo>
                  <a:pt x="684" y="243"/>
                </a:lnTo>
                <a:lnTo>
                  <a:pt x="624" y="249"/>
                </a:lnTo>
                <a:lnTo>
                  <a:pt x="566" y="253"/>
                </a:lnTo>
                <a:lnTo>
                  <a:pt x="511" y="257"/>
                </a:lnTo>
                <a:lnTo>
                  <a:pt x="457" y="261"/>
                </a:lnTo>
                <a:lnTo>
                  <a:pt x="403" y="264"/>
                </a:lnTo>
                <a:lnTo>
                  <a:pt x="352" y="268"/>
                </a:lnTo>
                <a:lnTo>
                  <a:pt x="304" y="270"/>
                </a:lnTo>
                <a:lnTo>
                  <a:pt x="256" y="272"/>
                </a:lnTo>
                <a:lnTo>
                  <a:pt x="209" y="274"/>
                </a:lnTo>
                <a:lnTo>
                  <a:pt x="163" y="276"/>
                </a:lnTo>
                <a:lnTo>
                  <a:pt x="121" y="276"/>
                </a:lnTo>
                <a:lnTo>
                  <a:pt x="79" y="276"/>
                </a:lnTo>
                <a:lnTo>
                  <a:pt x="39" y="278"/>
                </a:lnTo>
                <a:lnTo>
                  <a:pt x="0" y="278"/>
                </a:lnTo>
                <a:lnTo>
                  <a:pt x="0" y="232"/>
                </a:lnTo>
                <a:lnTo>
                  <a:pt x="0" y="186"/>
                </a:lnTo>
                <a:lnTo>
                  <a:pt x="52" y="184"/>
                </a:lnTo>
                <a:lnTo>
                  <a:pt x="102" y="182"/>
                </a:lnTo>
                <a:lnTo>
                  <a:pt x="152" y="180"/>
                </a:lnTo>
                <a:lnTo>
                  <a:pt x="202" y="178"/>
                </a:lnTo>
                <a:lnTo>
                  <a:pt x="252" y="174"/>
                </a:lnTo>
                <a:lnTo>
                  <a:pt x="302" y="170"/>
                </a:lnTo>
                <a:lnTo>
                  <a:pt x="353" y="167"/>
                </a:lnTo>
                <a:lnTo>
                  <a:pt x="405" y="161"/>
                </a:lnTo>
                <a:lnTo>
                  <a:pt x="430" y="159"/>
                </a:lnTo>
                <a:lnTo>
                  <a:pt x="459" y="155"/>
                </a:lnTo>
                <a:lnTo>
                  <a:pt x="488" y="153"/>
                </a:lnTo>
                <a:lnTo>
                  <a:pt x="518" y="149"/>
                </a:lnTo>
                <a:lnTo>
                  <a:pt x="549" y="144"/>
                </a:lnTo>
                <a:lnTo>
                  <a:pt x="582" y="140"/>
                </a:lnTo>
                <a:lnTo>
                  <a:pt x="616" y="134"/>
                </a:lnTo>
                <a:lnTo>
                  <a:pt x="653" y="128"/>
                </a:lnTo>
                <a:lnTo>
                  <a:pt x="689" y="122"/>
                </a:lnTo>
                <a:lnTo>
                  <a:pt x="728" y="117"/>
                </a:lnTo>
                <a:lnTo>
                  <a:pt x="766" y="109"/>
                </a:lnTo>
                <a:lnTo>
                  <a:pt x="806" y="101"/>
                </a:lnTo>
                <a:lnTo>
                  <a:pt x="849" y="94"/>
                </a:lnTo>
                <a:lnTo>
                  <a:pt x="893" y="86"/>
                </a:lnTo>
                <a:lnTo>
                  <a:pt x="939" y="78"/>
                </a:lnTo>
                <a:lnTo>
                  <a:pt x="985" y="69"/>
                </a:lnTo>
                <a:lnTo>
                  <a:pt x="1006" y="65"/>
                </a:lnTo>
                <a:lnTo>
                  <a:pt x="1029" y="61"/>
                </a:lnTo>
                <a:lnTo>
                  <a:pt x="1050" y="55"/>
                </a:lnTo>
                <a:lnTo>
                  <a:pt x="1069" y="51"/>
                </a:lnTo>
                <a:lnTo>
                  <a:pt x="1090" y="48"/>
                </a:lnTo>
                <a:lnTo>
                  <a:pt x="1110" y="44"/>
                </a:lnTo>
                <a:lnTo>
                  <a:pt x="1127" y="42"/>
                </a:lnTo>
                <a:lnTo>
                  <a:pt x="1146" y="38"/>
                </a:lnTo>
                <a:lnTo>
                  <a:pt x="1163" y="34"/>
                </a:lnTo>
                <a:lnTo>
                  <a:pt x="1181" y="32"/>
                </a:lnTo>
                <a:lnTo>
                  <a:pt x="1196" y="28"/>
                </a:lnTo>
                <a:lnTo>
                  <a:pt x="1211" y="26"/>
                </a:lnTo>
                <a:lnTo>
                  <a:pt x="1227" y="23"/>
                </a:lnTo>
                <a:lnTo>
                  <a:pt x="1242" y="21"/>
                </a:lnTo>
                <a:lnTo>
                  <a:pt x="1256" y="19"/>
                </a:lnTo>
                <a:lnTo>
                  <a:pt x="1269" y="17"/>
                </a:lnTo>
                <a:lnTo>
                  <a:pt x="1281" y="15"/>
                </a:lnTo>
                <a:lnTo>
                  <a:pt x="1294" y="13"/>
                </a:lnTo>
                <a:lnTo>
                  <a:pt x="1305" y="11"/>
                </a:lnTo>
                <a:lnTo>
                  <a:pt x="1315" y="9"/>
                </a:lnTo>
                <a:lnTo>
                  <a:pt x="1327" y="7"/>
                </a:lnTo>
                <a:lnTo>
                  <a:pt x="1336" y="5"/>
                </a:lnTo>
                <a:lnTo>
                  <a:pt x="1346" y="5"/>
                </a:lnTo>
                <a:lnTo>
                  <a:pt x="1353" y="3"/>
                </a:lnTo>
                <a:lnTo>
                  <a:pt x="1361" y="2"/>
                </a:lnTo>
                <a:lnTo>
                  <a:pt x="1369" y="2"/>
                </a:lnTo>
                <a:lnTo>
                  <a:pt x="1376" y="2"/>
                </a:lnTo>
                <a:lnTo>
                  <a:pt x="1382" y="0"/>
                </a:lnTo>
                <a:lnTo>
                  <a:pt x="1388" y="0"/>
                </a:lnTo>
                <a:lnTo>
                  <a:pt x="1392" y="0"/>
                </a:lnTo>
                <a:lnTo>
                  <a:pt x="1398" y="0"/>
                </a:lnTo>
                <a:lnTo>
                  <a:pt x="1401"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Freeform 145"/>
          <p:cNvSpPr/>
          <p:nvPr/>
        </p:nvSpPr>
        <p:spPr>
          <a:xfrm>
            <a:off x="6534000" y="2444760"/>
            <a:ext cx="319320" cy="220680"/>
          </a:xfrm>
          <a:custGeom>
            <a:avLst/>
            <a:gdLst/>
            <a:ahLst/>
            <a:rect l="l" t="t" r="r" b="b"/>
            <a:pathLst>
              <a:path w="403" h="278">
                <a:moveTo>
                  <a:pt x="226" y="34"/>
                </a:moveTo>
                <a:lnTo>
                  <a:pt x="242" y="36"/>
                </a:lnTo>
                <a:lnTo>
                  <a:pt x="259" y="38"/>
                </a:lnTo>
                <a:lnTo>
                  <a:pt x="272" y="42"/>
                </a:lnTo>
                <a:lnTo>
                  <a:pt x="288" y="44"/>
                </a:lnTo>
                <a:lnTo>
                  <a:pt x="301" y="48"/>
                </a:lnTo>
                <a:lnTo>
                  <a:pt x="315" y="52"/>
                </a:lnTo>
                <a:lnTo>
                  <a:pt x="326" y="55"/>
                </a:lnTo>
                <a:lnTo>
                  <a:pt x="338" y="59"/>
                </a:lnTo>
                <a:lnTo>
                  <a:pt x="347" y="63"/>
                </a:lnTo>
                <a:lnTo>
                  <a:pt x="357" y="67"/>
                </a:lnTo>
                <a:lnTo>
                  <a:pt x="364" y="71"/>
                </a:lnTo>
                <a:lnTo>
                  <a:pt x="372" y="75"/>
                </a:lnTo>
                <a:lnTo>
                  <a:pt x="378" y="78"/>
                </a:lnTo>
                <a:lnTo>
                  <a:pt x="384" y="82"/>
                </a:lnTo>
                <a:lnTo>
                  <a:pt x="388" y="88"/>
                </a:lnTo>
                <a:lnTo>
                  <a:pt x="391" y="92"/>
                </a:lnTo>
                <a:lnTo>
                  <a:pt x="395" y="101"/>
                </a:lnTo>
                <a:lnTo>
                  <a:pt x="397" y="111"/>
                </a:lnTo>
                <a:lnTo>
                  <a:pt x="399" y="123"/>
                </a:lnTo>
                <a:lnTo>
                  <a:pt x="401" y="134"/>
                </a:lnTo>
                <a:lnTo>
                  <a:pt x="403" y="146"/>
                </a:lnTo>
                <a:lnTo>
                  <a:pt x="403" y="159"/>
                </a:lnTo>
                <a:lnTo>
                  <a:pt x="403" y="184"/>
                </a:lnTo>
                <a:lnTo>
                  <a:pt x="403" y="197"/>
                </a:lnTo>
                <a:lnTo>
                  <a:pt x="403" y="209"/>
                </a:lnTo>
                <a:lnTo>
                  <a:pt x="403" y="219"/>
                </a:lnTo>
                <a:lnTo>
                  <a:pt x="401" y="228"/>
                </a:lnTo>
                <a:lnTo>
                  <a:pt x="399" y="236"/>
                </a:lnTo>
                <a:lnTo>
                  <a:pt x="397" y="244"/>
                </a:lnTo>
                <a:lnTo>
                  <a:pt x="395" y="249"/>
                </a:lnTo>
                <a:lnTo>
                  <a:pt x="391" y="255"/>
                </a:lnTo>
                <a:lnTo>
                  <a:pt x="386" y="259"/>
                </a:lnTo>
                <a:lnTo>
                  <a:pt x="380" y="263"/>
                </a:lnTo>
                <a:lnTo>
                  <a:pt x="372" y="267"/>
                </a:lnTo>
                <a:lnTo>
                  <a:pt x="364" y="270"/>
                </a:lnTo>
                <a:lnTo>
                  <a:pt x="359" y="274"/>
                </a:lnTo>
                <a:lnTo>
                  <a:pt x="351" y="276"/>
                </a:lnTo>
                <a:lnTo>
                  <a:pt x="345" y="278"/>
                </a:lnTo>
                <a:lnTo>
                  <a:pt x="340" y="278"/>
                </a:lnTo>
                <a:lnTo>
                  <a:pt x="334" y="276"/>
                </a:lnTo>
                <a:lnTo>
                  <a:pt x="328" y="276"/>
                </a:lnTo>
                <a:lnTo>
                  <a:pt x="322" y="272"/>
                </a:lnTo>
                <a:lnTo>
                  <a:pt x="313" y="268"/>
                </a:lnTo>
                <a:lnTo>
                  <a:pt x="305" y="265"/>
                </a:lnTo>
                <a:lnTo>
                  <a:pt x="295" y="259"/>
                </a:lnTo>
                <a:lnTo>
                  <a:pt x="284" y="253"/>
                </a:lnTo>
                <a:lnTo>
                  <a:pt x="272" y="245"/>
                </a:lnTo>
                <a:lnTo>
                  <a:pt x="261" y="236"/>
                </a:lnTo>
                <a:lnTo>
                  <a:pt x="247" y="226"/>
                </a:lnTo>
                <a:lnTo>
                  <a:pt x="234" y="217"/>
                </a:lnTo>
                <a:lnTo>
                  <a:pt x="219" y="205"/>
                </a:lnTo>
                <a:lnTo>
                  <a:pt x="203" y="192"/>
                </a:lnTo>
                <a:lnTo>
                  <a:pt x="186" y="178"/>
                </a:lnTo>
                <a:lnTo>
                  <a:pt x="169" y="165"/>
                </a:lnTo>
                <a:lnTo>
                  <a:pt x="151" y="149"/>
                </a:lnTo>
                <a:lnTo>
                  <a:pt x="132" y="134"/>
                </a:lnTo>
                <a:lnTo>
                  <a:pt x="115" y="121"/>
                </a:lnTo>
                <a:lnTo>
                  <a:pt x="100" y="107"/>
                </a:lnTo>
                <a:lnTo>
                  <a:pt x="84" y="96"/>
                </a:lnTo>
                <a:lnTo>
                  <a:pt x="71" y="82"/>
                </a:lnTo>
                <a:lnTo>
                  <a:pt x="59" y="73"/>
                </a:lnTo>
                <a:lnTo>
                  <a:pt x="48" y="61"/>
                </a:lnTo>
                <a:lnTo>
                  <a:pt x="38" y="52"/>
                </a:lnTo>
                <a:lnTo>
                  <a:pt x="29" y="44"/>
                </a:lnTo>
                <a:lnTo>
                  <a:pt x="21" y="34"/>
                </a:lnTo>
                <a:lnTo>
                  <a:pt x="15" y="29"/>
                </a:lnTo>
                <a:lnTo>
                  <a:pt x="9" y="21"/>
                </a:lnTo>
                <a:lnTo>
                  <a:pt x="6" y="15"/>
                </a:lnTo>
                <a:lnTo>
                  <a:pt x="2" y="9"/>
                </a:lnTo>
                <a:lnTo>
                  <a:pt x="0" y="4"/>
                </a:lnTo>
                <a:lnTo>
                  <a:pt x="0" y="0"/>
                </a:lnTo>
                <a:lnTo>
                  <a:pt x="23" y="0"/>
                </a:lnTo>
                <a:lnTo>
                  <a:pt x="50" y="2"/>
                </a:lnTo>
                <a:lnTo>
                  <a:pt x="75" y="4"/>
                </a:lnTo>
                <a:lnTo>
                  <a:pt x="103" y="7"/>
                </a:lnTo>
                <a:lnTo>
                  <a:pt x="132" y="13"/>
                </a:lnTo>
                <a:lnTo>
                  <a:pt x="163" y="19"/>
                </a:lnTo>
                <a:lnTo>
                  <a:pt x="194" y="25"/>
                </a:lnTo>
                <a:lnTo>
                  <a:pt x="226" y="3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12"/>
                                        </p:tgtEl>
                                        <p:attrNameLst>
                                          <p:attrName>style.visibility</p:attrName>
                                        </p:attrNameLst>
                                      </p:cBhvr>
                                      <p:to>
                                        <p:strVal val="visible"/>
                                      </p:to>
                                    </p:set>
                                    <p:anim calcmode="lin" valueType="num">
                                      <p:cBhvr additive="base">
                                        <p:cTn id="92" dur="500" fill="hold"/>
                                        <p:tgtEl>
                                          <p:spTgt spid="112"/>
                                        </p:tgtEl>
                                        <p:attrNameLst>
                                          <p:attrName>ppt_x</p:attrName>
                                        </p:attrNameLst>
                                      </p:cBhvr>
                                      <p:tavLst>
                                        <p:tav tm="0">
                                          <p:val>
                                            <p:strVal val="0-#ppt_w/2"/>
                                          </p:val>
                                        </p:tav>
                                        <p:tav tm="100000">
                                          <p:val>
                                            <p:strVal val="#ppt_x"/>
                                          </p:val>
                                        </p:tav>
                                      </p:tavLst>
                                    </p:anim>
                                    <p:anim calcmode="lin" valueType="num">
                                      <p:cBhvr additive="base">
                                        <p:cTn id="9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25"/>
                                        </p:tgtEl>
                                        <p:attrNameLst>
                                          <p:attrName>style.visibility</p:attrName>
                                        </p:attrNameLst>
                                      </p:cBhvr>
                                      <p:to>
                                        <p:strVal val="visible"/>
                                      </p:to>
                                    </p:set>
                                    <p:animEffect filter="wipe(left)" transition="in">
                                      <p:cBhvr additive="repl">
                                        <p:cTn id="103" dur="500"/>
                                        <p:tgtEl>
                                          <p:spTgt spid="125"/>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24"/>
                                        </p:tgtEl>
                                        <p:attrNameLst>
                                          <p:attrName>style.visibility</p:attrName>
                                        </p:attrNameLst>
                                      </p:cBhvr>
                                      <p:to>
                                        <p:strVal val="visible"/>
                                      </p:to>
                                    </p:set>
                                    <p:animEffect filter="wipe(up)" transition="in">
                                      <p:cBhvr additive="repl">
                                        <p:cTn id="108" dur="500"/>
                                        <p:tgtEl>
                                          <p:spTgt spid="12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3"/>
                                        </p:tgtEl>
                                        <p:attrNameLst>
                                          <p:attrName>style.visibility</p:attrName>
                                        </p:attrNameLst>
                                      </p:cBhvr>
                                      <p:to>
                                        <p:strVal val="visible"/>
                                      </p:to>
                                    </p:set>
                                    <p:animEffect filter="wipe(left)" transition="in">
                                      <p:cBhvr additive="repl">
                                        <p:cTn id="113" dur="500"/>
                                        <p:tgtEl>
                                          <p:spTgt spid="12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gtEl>
                                        <p:attrNameLst>
                                          <p:attrName>style.visibility</p:attrName>
                                        </p:attrNameLst>
                                      </p:cBhvr>
                                      <p:to>
                                        <p:strVal val="visible"/>
                                      </p:to>
                                    </p:set>
                                    <p:animEffect filter="wipe(left)" transition="in">
                                      <p:cBhvr additive="repl">
                                        <p:cTn id="118" dur="500"/>
                                        <p:tgtEl>
                                          <p:spTgt spid="12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19"/>
                                        </p:tgtEl>
                                        <p:attrNameLst>
                                          <p:attrName>style.visibility</p:attrName>
                                        </p:attrNameLst>
                                      </p:cBhvr>
                                      <p:to>
                                        <p:strVal val="visible"/>
                                      </p:to>
                                    </p:set>
                                    <p:animEffect filter="wipe(up)" transition="in">
                                      <p:cBhvr additive="repl">
                                        <p:cTn id="123" dur="500"/>
                                        <p:tgtEl>
                                          <p:spTgt spid="11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8" presetSubtype="6">
                                  <p:stCondLst>
                                    <p:cond delay="0"/>
                                  </p:stCondLst>
                                  <p:childTnLst>
                                    <p:set>
                                      <p:cBhvr>
                                        <p:cTn id="127" dur="1" fill="hold">
                                          <p:stCondLst>
                                            <p:cond delay="0"/>
                                          </p:stCondLst>
                                        </p:cTn>
                                        <p:tgtEl>
                                          <p:spTgt spid="120"/>
                                        </p:tgtEl>
                                        <p:attrNameLst>
                                          <p:attrName>style.visibility</p:attrName>
                                        </p:attrNameLst>
                                      </p:cBhvr>
                                      <p:to>
                                        <p:strVal val="visible"/>
                                      </p:to>
                                    </p:set>
                                    <p:animEffect filter="strips(downRight)" transition="in">
                                      <p:cBhvr additive="repl">
                                        <p:cTn id="128" dur="500"/>
                                        <p:tgtEl>
                                          <p:spTgt spid="12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1"/>
                                        </p:tgtEl>
                                        <p:attrNameLst>
                                          <p:attrName>style.visibility</p:attrName>
                                        </p:attrNameLst>
                                      </p:cBhvr>
                                      <p:to>
                                        <p:strVal val="visible"/>
                                      </p:to>
                                    </p:set>
                                    <p:animEffect filter="wipe(left)" transition="in">
                                      <p:cBhvr additive="repl">
                                        <p:cTn id="133" dur="500"/>
                                        <p:tgtEl>
                                          <p:spTgt spid="121"/>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8" presetSubtype="6">
                                  <p:stCondLst>
                                    <p:cond delay="0"/>
                                  </p:stCondLst>
                                  <p:childTnLst>
                                    <p:set>
                                      <p:cBhvr>
                                        <p:cTn id="137" dur="1" fill="hold">
                                          <p:stCondLst>
                                            <p:cond delay="0"/>
                                          </p:stCondLst>
                                        </p:cTn>
                                        <p:tgtEl>
                                          <p:spTgt spid="118"/>
                                        </p:tgtEl>
                                        <p:attrNameLst>
                                          <p:attrName>style.visibility</p:attrName>
                                        </p:attrNameLst>
                                      </p:cBhvr>
                                      <p:to>
                                        <p:strVal val="visible"/>
                                      </p:to>
                                    </p:set>
                                    <p:animEffect filter="strips(downRight)" transition="in">
                                      <p:cBhvr additive="repl">
                                        <p:cTn id="138" dur="500"/>
                                        <p:tgtEl>
                                          <p:spTgt spid="118"/>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17"/>
                                        </p:tgtEl>
                                        <p:attrNameLst>
                                          <p:attrName>style.visibility</p:attrName>
                                        </p:attrNameLst>
                                      </p:cBhvr>
                                      <p:to>
                                        <p:strVal val="visible"/>
                                      </p:to>
                                    </p:set>
                                    <p:animEffect filter="wipe(up)" transition="in">
                                      <p:cBhvr additive="repl">
                                        <p:cTn id="143" dur="500"/>
                                        <p:tgtEl>
                                          <p:spTgt spid="11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16"/>
                                        </p:tgtEl>
                                        <p:attrNameLst>
                                          <p:attrName>style.visibility</p:attrName>
                                        </p:attrNameLst>
                                      </p:cBhvr>
                                      <p:to>
                                        <p:strVal val="visible"/>
                                      </p:to>
                                    </p:set>
                                    <p:animEffect filter="wipe(left)" transition="in">
                                      <p:cBhvr additive="repl">
                                        <p:cTn id="148" dur="500"/>
                                        <p:tgtEl>
                                          <p:spTgt spid="11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8" presetSubtype="6">
                                  <p:stCondLst>
                                    <p:cond delay="0"/>
                                  </p:stCondLst>
                                  <p:childTnLst>
                                    <p:set>
                                      <p:cBhvr>
                                        <p:cTn id="152" dur="1" fill="hold">
                                          <p:stCondLst>
                                            <p:cond delay="0"/>
                                          </p:stCondLst>
                                        </p:cTn>
                                        <p:tgtEl>
                                          <p:spTgt spid="114"/>
                                        </p:tgtEl>
                                        <p:attrNameLst>
                                          <p:attrName>style.visibility</p:attrName>
                                        </p:attrNameLst>
                                      </p:cBhvr>
                                      <p:to>
                                        <p:strVal val="visible"/>
                                      </p:to>
                                    </p:set>
                                    <p:animEffect filter="strips(downRight)" transition="in">
                                      <p:cBhvr additive="repl">
                                        <p:cTn id="153" dur="500"/>
                                        <p:tgtEl>
                                          <p:spTgt spid="11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15"/>
                                        </p:tgtEl>
                                        <p:attrNameLst>
                                          <p:attrName>style.visibility</p:attrName>
                                        </p:attrNameLst>
                                      </p:cBhvr>
                                      <p:to>
                                        <p:strVal val="visible"/>
                                      </p:to>
                                    </p:set>
                                    <p:animEffect filter="wipe(left)" transition="in">
                                      <p:cBhvr additive="repl">
                                        <p:cTn id="158" dur="500"/>
                                        <p:tgtEl>
                                          <p:spTgt spid="115"/>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childTnLst>
                                    <p:set>
                                      <p:cBhvr>
                                        <p:cTn id="162" dur="1" fill="hold">
                                          <p:stCondLst>
                                            <p:cond delay="0"/>
                                          </p:stCondLst>
                                        </p:cTn>
                                        <p:tgtEl>
                                          <p:spTgt spid="109"/>
                                        </p:tgtEl>
                                        <p:attrNameLst>
                                          <p:attrName>style.visibility</p:attrName>
                                        </p:attrNameLst>
                                      </p:cBhvr>
                                      <p:to>
                                        <p:strVal val="visible"/>
                                      </p:to>
                                    </p:set>
                                    <p:anim calcmode="lin" valueType="num">
                                      <p:cBhvr additive="repl">
                                        <p:cTn id="163" dur="500" fill="hold"/>
                                        <p:tgtEl>
                                          <p:spTgt spid="109"/>
                                        </p:tgtEl>
                                        <p:attrNameLst>
                                          <p:attrName>ppt_w</p:attrName>
                                        </p:attrNameLst>
                                      </p:cBhvr>
                                      <p:tavLst>
                                        <p:tav tm="0">
                                          <p:val>
                                            <p:fltVal val="0"/>
                                          </p:val>
                                        </p:tav>
                                        <p:tav tm="100000">
                                          <p:val>
                                            <p:strVal val="#ppt_w"/>
                                          </p:val>
                                        </p:tav>
                                      </p:tavLst>
                                    </p:anim>
                                    <p:anim calcmode="lin" valueType="num">
                                      <p:cBhvr additive="repl">
                                        <p:cTn id="164" dur="500" fill="hold"/>
                                        <p:tgtEl>
                                          <p:spTgt spid="109"/>
                                        </p:tgtEl>
                                        <p:attrNameLst>
                                          <p:attrName>ppt_h</p:attrName>
                                        </p:attrNameLst>
                                      </p:cBhvr>
                                      <p:tavLst>
                                        <p:tav tm="0">
                                          <p:val>
                                            <p:fltVal val="0"/>
                                          </p:val>
                                        </p:tav>
                                        <p:tav tm="100000">
                                          <p:val>
                                            <p:strVal val="#ppt_h"/>
                                          </p:val>
                                        </p:tav>
                                      </p:tavLst>
                                    </p:anim>
                                    <p:animEffect filter="fade" transition="in">
                                      <p:cBhvr additive="repl">
                                        <p:cTn id="16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矩形 4"/>
          <p:cNvSpPr/>
          <p:nvPr/>
        </p:nvSpPr>
        <p:spPr>
          <a:xfrm>
            <a:off x="2218680" y="21556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鸥</a:t>
            </a:r>
            <a:endParaRPr b="0" lang="en-US" sz="8000" spc="-1" strike="noStrike">
              <a:solidFill>
                <a:srgbClr val="000000"/>
              </a:solidFill>
              <a:latin typeface="Calibri"/>
            </a:endParaRPr>
          </a:p>
        </p:txBody>
      </p:sp>
      <p:grpSp>
        <p:nvGrpSpPr>
          <p:cNvPr id="128" name="组合 8"/>
          <p:cNvGrpSpPr/>
          <p:nvPr/>
        </p:nvGrpSpPr>
        <p:grpSpPr>
          <a:xfrm>
            <a:off x="1400040" y="3583080"/>
            <a:ext cx="2840040" cy="1574280"/>
            <a:chOff x="1400040" y="3583080"/>
            <a:chExt cx="2840040" cy="1574280"/>
          </a:xfrm>
        </p:grpSpPr>
        <p:pic>
          <p:nvPicPr>
            <p:cNvPr id="129" name="图示 4" descr=""/>
            <p:cNvPicPr/>
            <p:nvPr/>
          </p:nvPicPr>
          <p:blipFill>
            <a:blip r:embed="rId1"/>
            <a:stretch/>
          </p:blipFill>
          <p:spPr>
            <a:xfrm>
              <a:off x="1400040" y="3583080"/>
              <a:ext cx="2840040" cy="1574280"/>
            </a:xfrm>
            <a:prstGeom prst="rect">
              <a:avLst/>
            </a:prstGeom>
            <a:ln w="0">
              <a:noFill/>
            </a:ln>
          </p:spPr>
        </p:pic>
        <p:sp>
          <p:nvSpPr>
            <p:cNvPr id="130" name="矩形 2"/>
            <p:cNvSpPr/>
            <p:nvPr/>
          </p:nvSpPr>
          <p:spPr>
            <a:xfrm>
              <a:off x="1444680" y="419472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右大致等宽，“区”偏小。</a:t>
              </a:r>
              <a:endParaRPr b="0" lang="en-US" sz="2000" spc="-1" strike="noStrike">
                <a:solidFill>
                  <a:srgbClr val="000000"/>
                </a:solidFill>
                <a:latin typeface="Calibri"/>
              </a:endParaRPr>
            </a:p>
          </p:txBody>
        </p:sp>
      </p:grpSp>
      <p:sp>
        <p:nvSpPr>
          <p:cNvPr id="131" name="矩形 3"/>
          <p:cNvSpPr/>
          <p:nvPr/>
        </p:nvSpPr>
        <p:spPr>
          <a:xfrm>
            <a:off x="2095560" y="1476360"/>
            <a:ext cx="1041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ōu</a:t>
            </a:r>
            <a:endParaRPr b="0" lang="en-US" sz="4800" spc="-1" strike="noStrike">
              <a:solidFill>
                <a:srgbClr val="000000"/>
              </a:solidFill>
              <a:latin typeface="Calibri"/>
            </a:endParaRPr>
          </a:p>
        </p:txBody>
      </p:sp>
      <p:graphicFrame>
        <p:nvGraphicFramePr>
          <p:cNvPr id="132" name=""/>
          <p:cNvGraphicFramePr/>
          <p:nvPr/>
        </p:nvGraphicFramePr>
        <p:xfrm>
          <a:off x="5114880" y="1990800"/>
          <a:ext cx="3041640" cy="303984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 name="Freeform 83"/>
          <p:cNvSpPr/>
          <p:nvPr/>
        </p:nvSpPr>
        <p:spPr>
          <a:xfrm>
            <a:off x="6343560" y="3989520"/>
            <a:ext cx="1116000" cy="196560"/>
          </a:xfrm>
          <a:custGeom>
            <a:avLst/>
            <a:gdLst/>
            <a:ahLst/>
            <a:rect l="l" t="t" r="r" b="b"/>
            <a:pathLst>
              <a:path w="1405" h="250">
                <a:moveTo>
                  <a:pt x="1403" y="131"/>
                </a:moveTo>
                <a:lnTo>
                  <a:pt x="1405" y="131"/>
                </a:lnTo>
                <a:lnTo>
                  <a:pt x="1405" y="133"/>
                </a:lnTo>
                <a:lnTo>
                  <a:pt x="1405" y="135"/>
                </a:lnTo>
                <a:lnTo>
                  <a:pt x="1403" y="135"/>
                </a:lnTo>
                <a:lnTo>
                  <a:pt x="1403" y="137"/>
                </a:lnTo>
                <a:lnTo>
                  <a:pt x="1399" y="137"/>
                </a:lnTo>
                <a:lnTo>
                  <a:pt x="1397" y="139"/>
                </a:lnTo>
                <a:lnTo>
                  <a:pt x="1394" y="139"/>
                </a:lnTo>
                <a:lnTo>
                  <a:pt x="1390" y="140"/>
                </a:lnTo>
                <a:lnTo>
                  <a:pt x="1386" y="140"/>
                </a:lnTo>
                <a:lnTo>
                  <a:pt x="1380" y="142"/>
                </a:lnTo>
                <a:lnTo>
                  <a:pt x="1376" y="142"/>
                </a:lnTo>
                <a:lnTo>
                  <a:pt x="1369" y="144"/>
                </a:lnTo>
                <a:lnTo>
                  <a:pt x="1363" y="144"/>
                </a:lnTo>
                <a:lnTo>
                  <a:pt x="1355" y="146"/>
                </a:lnTo>
                <a:lnTo>
                  <a:pt x="1347" y="146"/>
                </a:lnTo>
                <a:lnTo>
                  <a:pt x="1340" y="148"/>
                </a:lnTo>
                <a:lnTo>
                  <a:pt x="1330" y="148"/>
                </a:lnTo>
                <a:lnTo>
                  <a:pt x="1321" y="150"/>
                </a:lnTo>
                <a:lnTo>
                  <a:pt x="1311" y="150"/>
                </a:lnTo>
                <a:lnTo>
                  <a:pt x="1301" y="150"/>
                </a:lnTo>
                <a:lnTo>
                  <a:pt x="1290" y="152"/>
                </a:lnTo>
                <a:lnTo>
                  <a:pt x="1278" y="152"/>
                </a:lnTo>
                <a:lnTo>
                  <a:pt x="1267" y="152"/>
                </a:lnTo>
                <a:lnTo>
                  <a:pt x="1253" y="152"/>
                </a:lnTo>
                <a:lnTo>
                  <a:pt x="1240" y="154"/>
                </a:lnTo>
                <a:lnTo>
                  <a:pt x="1227" y="154"/>
                </a:lnTo>
                <a:lnTo>
                  <a:pt x="1213" y="154"/>
                </a:lnTo>
                <a:lnTo>
                  <a:pt x="1198" y="154"/>
                </a:lnTo>
                <a:lnTo>
                  <a:pt x="1184" y="154"/>
                </a:lnTo>
                <a:lnTo>
                  <a:pt x="1152" y="154"/>
                </a:lnTo>
                <a:lnTo>
                  <a:pt x="1119" y="154"/>
                </a:lnTo>
                <a:lnTo>
                  <a:pt x="1086" y="156"/>
                </a:lnTo>
                <a:lnTo>
                  <a:pt x="1052" y="156"/>
                </a:lnTo>
                <a:lnTo>
                  <a:pt x="1017" y="156"/>
                </a:lnTo>
                <a:lnTo>
                  <a:pt x="983" y="158"/>
                </a:lnTo>
                <a:lnTo>
                  <a:pt x="946" y="160"/>
                </a:lnTo>
                <a:lnTo>
                  <a:pt x="910" y="162"/>
                </a:lnTo>
                <a:lnTo>
                  <a:pt x="873" y="163"/>
                </a:lnTo>
                <a:lnTo>
                  <a:pt x="837" y="167"/>
                </a:lnTo>
                <a:lnTo>
                  <a:pt x="798" y="171"/>
                </a:lnTo>
                <a:lnTo>
                  <a:pt x="758" y="175"/>
                </a:lnTo>
                <a:lnTo>
                  <a:pt x="720" y="179"/>
                </a:lnTo>
                <a:lnTo>
                  <a:pt x="679" y="185"/>
                </a:lnTo>
                <a:lnTo>
                  <a:pt x="639" y="188"/>
                </a:lnTo>
                <a:lnTo>
                  <a:pt x="597" y="194"/>
                </a:lnTo>
                <a:lnTo>
                  <a:pt x="557" y="202"/>
                </a:lnTo>
                <a:lnTo>
                  <a:pt x="535" y="206"/>
                </a:lnTo>
                <a:lnTo>
                  <a:pt x="514" y="208"/>
                </a:lnTo>
                <a:lnTo>
                  <a:pt x="495" y="211"/>
                </a:lnTo>
                <a:lnTo>
                  <a:pt x="476" y="213"/>
                </a:lnTo>
                <a:lnTo>
                  <a:pt x="457" y="217"/>
                </a:lnTo>
                <a:lnTo>
                  <a:pt x="440" y="219"/>
                </a:lnTo>
                <a:lnTo>
                  <a:pt x="422" y="221"/>
                </a:lnTo>
                <a:lnTo>
                  <a:pt x="405" y="225"/>
                </a:lnTo>
                <a:lnTo>
                  <a:pt x="388" y="227"/>
                </a:lnTo>
                <a:lnTo>
                  <a:pt x="372" y="229"/>
                </a:lnTo>
                <a:lnTo>
                  <a:pt x="357" y="231"/>
                </a:lnTo>
                <a:lnTo>
                  <a:pt x="344" y="233"/>
                </a:lnTo>
                <a:lnTo>
                  <a:pt x="328" y="235"/>
                </a:lnTo>
                <a:lnTo>
                  <a:pt x="315" y="236"/>
                </a:lnTo>
                <a:lnTo>
                  <a:pt x="303" y="238"/>
                </a:lnTo>
                <a:lnTo>
                  <a:pt x="290" y="238"/>
                </a:lnTo>
                <a:lnTo>
                  <a:pt x="278" y="240"/>
                </a:lnTo>
                <a:lnTo>
                  <a:pt x="269" y="242"/>
                </a:lnTo>
                <a:lnTo>
                  <a:pt x="257" y="242"/>
                </a:lnTo>
                <a:lnTo>
                  <a:pt x="248" y="244"/>
                </a:lnTo>
                <a:lnTo>
                  <a:pt x="240" y="244"/>
                </a:lnTo>
                <a:lnTo>
                  <a:pt x="230" y="246"/>
                </a:lnTo>
                <a:lnTo>
                  <a:pt x="223" y="246"/>
                </a:lnTo>
                <a:lnTo>
                  <a:pt x="217" y="246"/>
                </a:lnTo>
                <a:lnTo>
                  <a:pt x="209" y="248"/>
                </a:lnTo>
                <a:lnTo>
                  <a:pt x="203" y="248"/>
                </a:lnTo>
                <a:lnTo>
                  <a:pt x="200" y="248"/>
                </a:lnTo>
                <a:lnTo>
                  <a:pt x="196" y="248"/>
                </a:lnTo>
                <a:lnTo>
                  <a:pt x="192" y="248"/>
                </a:lnTo>
                <a:lnTo>
                  <a:pt x="188" y="248"/>
                </a:lnTo>
                <a:lnTo>
                  <a:pt x="186" y="250"/>
                </a:lnTo>
                <a:lnTo>
                  <a:pt x="184" y="250"/>
                </a:lnTo>
                <a:lnTo>
                  <a:pt x="178" y="248"/>
                </a:lnTo>
                <a:lnTo>
                  <a:pt x="173" y="248"/>
                </a:lnTo>
                <a:lnTo>
                  <a:pt x="165" y="246"/>
                </a:lnTo>
                <a:lnTo>
                  <a:pt x="157" y="242"/>
                </a:lnTo>
                <a:lnTo>
                  <a:pt x="148" y="238"/>
                </a:lnTo>
                <a:lnTo>
                  <a:pt x="138" y="235"/>
                </a:lnTo>
                <a:lnTo>
                  <a:pt x="129" y="231"/>
                </a:lnTo>
                <a:lnTo>
                  <a:pt x="117" y="225"/>
                </a:lnTo>
                <a:lnTo>
                  <a:pt x="104" y="217"/>
                </a:lnTo>
                <a:lnTo>
                  <a:pt x="92" y="211"/>
                </a:lnTo>
                <a:lnTo>
                  <a:pt x="77" y="204"/>
                </a:lnTo>
                <a:lnTo>
                  <a:pt x="63" y="194"/>
                </a:lnTo>
                <a:lnTo>
                  <a:pt x="48" y="185"/>
                </a:lnTo>
                <a:lnTo>
                  <a:pt x="33" y="175"/>
                </a:lnTo>
                <a:lnTo>
                  <a:pt x="15" y="165"/>
                </a:lnTo>
                <a:lnTo>
                  <a:pt x="0" y="154"/>
                </a:lnTo>
                <a:lnTo>
                  <a:pt x="58" y="144"/>
                </a:lnTo>
                <a:lnTo>
                  <a:pt x="115" y="135"/>
                </a:lnTo>
                <a:lnTo>
                  <a:pt x="171" y="125"/>
                </a:lnTo>
                <a:lnTo>
                  <a:pt x="225" y="117"/>
                </a:lnTo>
                <a:lnTo>
                  <a:pt x="278" y="108"/>
                </a:lnTo>
                <a:lnTo>
                  <a:pt x="328" y="100"/>
                </a:lnTo>
                <a:lnTo>
                  <a:pt x="378" y="92"/>
                </a:lnTo>
                <a:lnTo>
                  <a:pt x="426" y="85"/>
                </a:lnTo>
                <a:lnTo>
                  <a:pt x="472" y="77"/>
                </a:lnTo>
                <a:lnTo>
                  <a:pt x="518" y="71"/>
                </a:lnTo>
                <a:lnTo>
                  <a:pt x="560" y="64"/>
                </a:lnTo>
                <a:lnTo>
                  <a:pt x="603" y="58"/>
                </a:lnTo>
                <a:lnTo>
                  <a:pt x="643" y="52"/>
                </a:lnTo>
                <a:lnTo>
                  <a:pt x="681" y="46"/>
                </a:lnTo>
                <a:lnTo>
                  <a:pt x="718" y="41"/>
                </a:lnTo>
                <a:lnTo>
                  <a:pt x="754" y="37"/>
                </a:lnTo>
                <a:lnTo>
                  <a:pt x="789" y="33"/>
                </a:lnTo>
                <a:lnTo>
                  <a:pt x="821" y="27"/>
                </a:lnTo>
                <a:lnTo>
                  <a:pt x="852" y="23"/>
                </a:lnTo>
                <a:lnTo>
                  <a:pt x="881" y="20"/>
                </a:lnTo>
                <a:lnTo>
                  <a:pt x="910" y="18"/>
                </a:lnTo>
                <a:lnTo>
                  <a:pt x="935" y="14"/>
                </a:lnTo>
                <a:lnTo>
                  <a:pt x="960" y="12"/>
                </a:lnTo>
                <a:lnTo>
                  <a:pt x="983" y="10"/>
                </a:lnTo>
                <a:lnTo>
                  <a:pt x="1004" y="6"/>
                </a:lnTo>
                <a:lnTo>
                  <a:pt x="1025" y="6"/>
                </a:lnTo>
                <a:lnTo>
                  <a:pt x="1042" y="4"/>
                </a:lnTo>
                <a:lnTo>
                  <a:pt x="1060" y="2"/>
                </a:lnTo>
                <a:lnTo>
                  <a:pt x="1075" y="2"/>
                </a:lnTo>
                <a:lnTo>
                  <a:pt x="1090" y="0"/>
                </a:lnTo>
                <a:lnTo>
                  <a:pt x="1102" y="0"/>
                </a:lnTo>
                <a:lnTo>
                  <a:pt x="1113" y="0"/>
                </a:lnTo>
                <a:lnTo>
                  <a:pt x="1132" y="0"/>
                </a:lnTo>
                <a:lnTo>
                  <a:pt x="1152" y="0"/>
                </a:lnTo>
                <a:lnTo>
                  <a:pt x="1169" y="2"/>
                </a:lnTo>
                <a:lnTo>
                  <a:pt x="1186" y="2"/>
                </a:lnTo>
                <a:lnTo>
                  <a:pt x="1203" y="4"/>
                </a:lnTo>
                <a:lnTo>
                  <a:pt x="1219" y="6"/>
                </a:lnTo>
                <a:lnTo>
                  <a:pt x="1236" y="8"/>
                </a:lnTo>
                <a:lnTo>
                  <a:pt x="1250" y="10"/>
                </a:lnTo>
                <a:lnTo>
                  <a:pt x="1263" y="14"/>
                </a:lnTo>
                <a:lnTo>
                  <a:pt x="1276" y="18"/>
                </a:lnTo>
                <a:lnTo>
                  <a:pt x="1290" y="21"/>
                </a:lnTo>
                <a:lnTo>
                  <a:pt x="1301" y="25"/>
                </a:lnTo>
                <a:lnTo>
                  <a:pt x="1311" y="31"/>
                </a:lnTo>
                <a:lnTo>
                  <a:pt x="1321" y="35"/>
                </a:lnTo>
                <a:lnTo>
                  <a:pt x="1330" y="41"/>
                </a:lnTo>
                <a:lnTo>
                  <a:pt x="1338" y="48"/>
                </a:lnTo>
                <a:lnTo>
                  <a:pt x="1351" y="60"/>
                </a:lnTo>
                <a:lnTo>
                  <a:pt x="1365" y="73"/>
                </a:lnTo>
                <a:lnTo>
                  <a:pt x="1376" y="83"/>
                </a:lnTo>
                <a:lnTo>
                  <a:pt x="1386" y="94"/>
                </a:lnTo>
                <a:lnTo>
                  <a:pt x="1390" y="98"/>
                </a:lnTo>
                <a:lnTo>
                  <a:pt x="1394" y="104"/>
                </a:lnTo>
                <a:lnTo>
                  <a:pt x="1395" y="108"/>
                </a:lnTo>
                <a:lnTo>
                  <a:pt x="1399" y="112"/>
                </a:lnTo>
                <a:lnTo>
                  <a:pt x="1401" y="117"/>
                </a:lnTo>
                <a:lnTo>
                  <a:pt x="1403" y="121"/>
                </a:lnTo>
                <a:lnTo>
                  <a:pt x="1403" y="125"/>
                </a:lnTo>
                <a:lnTo>
                  <a:pt x="1403" y="13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Freeform 84"/>
          <p:cNvSpPr/>
          <p:nvPr/>
        </p:nvSpPr>
        <p:spPr>
          <a:xfrm>
            <a:off x="6605640" y="2760840"/>
            <a:ext cx="1231920" cy="1869840"/>
          </a:xfrm>
          <a:custGeom>
            <a:avLst/>
            <a:gdLst/>
            <a:ahLst/>
            <a:rect l="l" t="t" r="r" b="b"/>
            <a:pathLst>
              <a:path w="1551" h="2355">
                <a:moveTo>
                  <a:pt x="94" y="127"/>
                </a:moveTo>
                <a:lnTo>
                  <a:pt x="88" y="104"/>
                </a:lnTo>
                <a:lnTo>
                  <a:pt x="86" y="85"/>
                </a:lnTo>
                <a:lnTo>
                  <a:pt x="85" y="75"/>
                </a:lnTo>
                <a:lnTo>
                  <a:pt x="85" y="65"/>
                </a:lnTo>
                <a:lnTo>
                  <a:pt x="85" y="58"/>
                </a:lnTo>
                <a:lnTo>
                  <a:pt x="85" y="50"/>
                </a:lnTo>
                <a:lnTo>
                  <a:pt x="86" y="42"/>
                </a:lnTo>
                <a:lnTo>
                  <a:pt x="86" y="35"/>
                </a:lnTo>
                <a:lnTo>
                  <a:pt x="88" y="29"/>
                </a:lnTo>
                <a:lnTo>
                  <a:pt x="90" y="23"/>
                </a:lnTo>
                <a:lnTo>
                  <a:pt x="94" y="17"/>
                </a:lnTo>
                <a:lnTo>
                  <a:pt x="98" y="14"/>
                </a:lnTo>
                <a:lnTo>
                  <a:pt x="102" y="10"/>
                </a:lnTo>
                <a:lnTo>
                  <a:pt x="106" y="8"/>
                </a:lnTo>
                <a:lnTo>
                  <a:pt x="110" y="6"/>
                </a:lnTo>
                <a:lnTo>
                  <a:pt x="113" y="4"/>
                </a:lnTo>
                <a:lnTo>
                  <a:pt x="119" y="2"/>
                </a:lnTo>
                <a:lnTo>
                  <a:pt x="125" y="2"/>
                </a:lnTo>
                <a:lnTo>
                  <a:pt x="133" y="0"/>
                </a:lnTo>
                <a:lnTo>
                  <a:pt x="142" y="0"/>
                </a:lnTo>
                <a:lnTo>
                  <a:pt x="152" y="0"/>
                </a:lnTo>
                <a:lnTo>
                  <a:pt x="163" y="2"/>
                </a:lnTo>
                <a:lnTo>
                  <a:pt x="175" y="4"/>
                </a:lnTo>
                <a:lnTo>
                  <a:pt x="186" y="6"/>
                </a:lnTo>
                <a:lnTo>
                  <a:pt x="200" y="8"/>
                </a:lnTo>
                <a:lnTo>
                  <a:pt x="215" y="12"/>
                </a:lnTo>
                <a:lnTo>
                  <a:pt x="229" y="16"/>
                </a:lnTo>
                <a:lnTo>
                  <a:pt x="246" y="19"/>
                </a:lnTo>
                <a:lnTo>
                  <a:pt x="261" y="25"/>
                </a:lnTo>
                <a:lnTo>
                  <a:pt x="278" y="33"/>
                </a:lnTo>
                <a:lnTo>
                  <a:pt x="277" y="67"/>
                </a:lnTo>
                <a:lnTo>
                  <a:pt x="275" y="104"/>
                </a:lnTo>
                <a:lnTo>
                  <a:pt x="273" y="138"/>
                </a:lnTo>
                <a:lnTo>
                  <a:pt x="271" y="173"/>
                </a:lnTo>
                <a:lnTo>
                  <a:pt x="271" y="208"/>
                </a:lnTo>
                <a:lnTo>
                  <a:pt x="269" y="242"/>
                </a:lnTo>
                <a:lnTo>
                  <a:pt x="267" y="275"/>
                </a:lnTo>
                <a:lnTo>
                  <a:pt x="265" y="307"/>
                </a:lnTo>
                <a:lnTo>
                  <a:pt x="263" y="338"/>
                </a:lnTo>
                <a:lnTo>
                  <a:pt x="261" y="369"/>
                </a:lnTo>
                <a:lnTo>
                  <a:pt x="261" y="399"/>
                </a:lnTo>
                <a:lnTo>
                  <a:pt x="259" y="430"/>
                </a:lnTo>
                <a:lnTo>
                  <a:pt x="257" y="459"/>
                </a:lnTo>
                <a:lnTo>
                  <a:pt x="257" y="488"/>
                </a:lnTo>
                <a:lnTo>
                  <a:pt x="255" y="517"/>
                </a:lnTo>
                <a:lnTo>
                  <a:pt x="253" y="545"/>
                </a:lnTo>
                <a:lnTo>
                  <a:pt x="253" y="572"/>
                </a:lnTo>
                <a:lnTo>
                  <a:pt x="252" y="599"/>
                </a:lnTo>
                <a:lnTo>
                  <a:pt x="250" y="624"/>
                </a:lnTo>
                <a:lnTo>
                  <a:pt x="250" y="651"/>
                </a:lnTo>
                <a:lnTo>
                  <a:pt x="248" y="676"/>
                </a:lnTo>
                <a:lnTo>
                  <a:pt x="248" y="699"/>
                </a:lnTo>
                <a:lnTo>
                  <a:pt x="246" y="724"/>
                </a:lnTo>
                <a:lnTo>
                  <a:pt x="246" y="747"/>
                </a:lnTo>
                <a:lnTo>
                  <a:pt x="244" y="770"/>
                </a:lnTo>
                <a:lnTo>
                  <a:pt x="244" y="791"/>
                </a:lnTo>
                <a:lnTo>
                  <a:pt x="242" y="812"/>
                </a:lnTo>
                <a:lnTo>
                  <a:pt x="242" y="833"/>
                </a:lnTo>
                <a:lnTo>
                  <a:pt x="242" y="854"/>
                </a:lnTo>
                <a:lnTo>
                  <a:pt x="240" y="874"/>
                </a:lnTo>
                <a:lnTo>
                  <a:pt x="240" y="893"/>
                </a:lnTo>
                <a:lnTo>
                  <a:pt x="240" y="912"/>
                </a:lnTo>
                <a:lnTo>
                  <a:pt x="238" y="931"/>
                </a:lnTo>
                <a:lnTo>
                  <a:pt x="238" y="948"/>
                </a:lnTo>
                <a:lnTo>
                  <a:pt x="238" y="966"/>
                </a:lnTo>
                <a:lnTo>
                  <a:pt x="236" y="981"/>
                </a:lnTo>
                <a:lnTo>
                  <a:pt x="236" y="998"/>
                </a:lnTo>
                <a:lnTo>
                  <a:pt x="236" y="1014"/>
                </a:lnTo>
                <a:lnTo>
                  <a:pt x="236" y="1027"/>
                </a:lnTo>
                <a:lnTo>
                  <a:pt x="236" y="1042"/>
                </a:lnTo>
                <a:lnTo>
                  <a:pt x="234" y="1056"/>
                </a:lnTo>
                <a:lnTo>
                  <a:pt x="234" y="1069"/>
                </a:lnTo>
                <a:lnTo>
                  <a:pt x="234" y="1081"/>
                </a:lnTo>
                <a:lnTo>
                  <a:pt x="234" y="1092"/>
                </a:lnTo>
                <a:lnTo>
                  <a:pt x="234" y="1104"/>
                </a:lnTo>
                <a:lnTo>
                  <a:pt x="234" y="1115"/>
                </a:lnTo>
                <a:lnTo>
                  <a:pt x="234" y="1125"/>
                </a:lnTo>
                <a:lnTo>
                  <a:pt x="234" y="1135"/>
                </a:lnTo>
                <a:lnTo>
                  <a:pt x="234" y="1144"/>
                </a:lnTo>
                <a:lnTo>
                  <a:pt x="234" y="1154"/>
                </a:lnTo>
                <a:lnTo>
                  <a:pt x="234" y="1162"/>
                </a:lnTo>
                <a:lnTo>
                  <a:pt x="234" y="1169"/>
                </a:lnTo>
                <a:lnTo>
                  <a:pt x="234" y="1177"/>
                </a:lnTo>
                <a:lnTo>
                  <a:pt x="234" y="1183"/>
                </a:lnTo>
                <a:lnTo>
                  <a:pt x="234" y="1188"/>
                </a:lnTo>
                <a:lnTo>
                  <a:pt x="234" y="1194"/>
                </a:lnTo>
                <a:lnTo>
                  <a:pt x="234" y="1198"/>
                </a:lnTo>
                <a:lnTo>
                  <a:pt x="236" y="1202"/>
                </a:lnTo>
                <a:lnTo>
                  <a:pt x="236" y="1206"/>
                </a:lnTo>
                <a:lnTo>
                  <a:pt x="236" y="1209"/>
                </a:lnTo>
                <a:lnTo>
                  <a:pt x="236" y="1211"/>
                </a:lnTo>
                <a:lnTo>
                  <a:pt x="238" y="1213"/>
                </a:lnTo>
                <a:lnTo>
                  <a:pt x="238" y="1215"/>
                </a:lnTo>
                <a:lnTo>
                  <a:pt x="242" y="1217"/>
                </a:lnTo>
                <a:lnTo>
                  <a:pt x="248" y="1219"/>
                </a:lnTo>
                <a:lnTo>
                  <a:pt x="253" y="1221"/>
                </a:lnTo>
                <a:lnTo>
                  <a:pt x="261" y="1221"/>
                </a:lnTo>
                <a:lnTo>
                  <a:pt x="271" y="1221"/>
                </a:lnTo>
                <a:lnTo>
                  <a:pt x="282" y="1219"/>
                </a:lnTo>
                <a:lnTo>
                  <a:pt x="294" y="1219"/>
                </a:lnTo>
                <a:lnTo>
                  <a:pt x="309" y="1217"/>
                </a:lnTo>
                <a:lnTo>
                  <a:pt x="325" y="1215"/>
                </a:lnTo>
                <a:lnTo>
                  <a:pt x="342" y="1213"/>
                </a:lnTo>
                <a:lnTo>
                  <a:pt x="361" y="1211"/>
                </a:lnTo>
                <a:lnTo>
                  <a:pt x="380" y="1208"/>
                </a:lnTo>
                <a:lnTo>
                  <a:pt x="403" y="1204"/>
                </a:lnTo>
                <a:lnTo>
                  <a:pt x="426" y="1200"/>
                </a:lnTo>
                <a:lnTo>
                  <a:pt x="451" y="1196"/>
                </a:lnTo>
                <a:lnTo>
                  <a:pt x="478" y="1192"/>
                </a:lnTo>
                <a:lnTo>
                  <a:pt x="532" y="1186"/>
                </a:lnTo>
                <a:lnTo>
                  <a:pt x="587" y="1181"/>
                </a:lnTo>
                <a:lnTo>
                  <a:pt x="641" y="1175"/>
                </a:lnTo>
                <a:lnTo>
                  <a:pt x="697" y="1167"/>
                </a:lnTo>
                <a:lnTo>
                  <a:pt x="751" y="1160"/>
                </a:lnTo>
                <a:lnTo>
                  <a:pt x="806" y="1150"/>
                </a:lnTo>
                <a:lnTo>
                  <a:pt x="916" y="1133"/>
                </a:lnTo>
                <a:lnTo>
                  <a:pt x="939" y="1131"/>
                </a:lnTo>
                <a:lnTo>
                  <a:pt x="962" y="1127"/>
                </a:lnTo>
                <a:lnTo>
                  <a:pt x="983" y="1125"/>
                </a:lnTo>
                <a:lnTo>
                  <a:pt x="1004" y="1121"/>
                </a:lnTo>
                <a:lnTo>
                  <a:pt x="1023" y="1119"/>
                </a:lnTo>
                <a:lnTo>
                  <a:pt x="1040" y="1115"/>
                </a:lnTo>
                <a:lnTo>
                  <a:pt x="1058" y="1112"/>
                </a:lnTo>
                <a:lnTo>
                  <a:pt x="1073" y="1110"/>
                </a:lnTo>
                <a:lnTo>
                  <a:pt x="1087" y="1106"/>
                </a:lnTo>
                <a:lnTo>
                  <a:pt x="1098" y="1102"/>
                </a:lnTo>
                <a:lnTo>
                  <a:pt x="1110" y="1100"/>
                </a:lnTo>
                <a:lnTo>
                  <a:pt x="1117" y="1096"/>
                </a:lnTo>
                <a:lnTo>
                  <a:pt x="1125" y="1094"/>
                </a:lnTo>
                <a:lnTo>
                  <a:pt x="1133" y="1090"/>
                </a:lnTo>
                <a:lnTo>
                  <a:pt x="1136" y="1089"/>
                </a:lnTo>
                <a:lnTo>
                  <a:pt x="1140" y="1087"/>
                </a:lnTo>
                <a:lnTo>
                  <a:pt x="1150" y="1077"/>
                </a:lnTo>
                <a:lnTo>
                  <a:pt x="1156" y="1073"/>
                </a:lnTo>
                <a:lnTo>
                  <a:pt x="1161" y="1069"/>
                </a:lnTo>
                <a:lnTo>
                  <a:pt x="1169" y="1066"/>
                </a:lnTo>
                <a:lnTo>
                  <a:pt x="1175" y="1064"/>
                </a:lnTo>
                <a:lnTo>
                  <a:pt x="1184" y="1062"/>
                </a:lnTo>
                <a:lnTo>
                  <a:pt x="1194" y="1062"/>
                </a:lnTo>
                <a:lnTo>
                  <a:pt x="1196" y="1062"/>
                </a:lnTo>
                <a:lnTo>
                  <a:pt x="1200" y="1064"/>
                </a:lnTo>
                <a:lnTo>
                  <a:pt x="1206" y="1064"/>
                </a:lnTo>
                <a:lnTo>
                  <a:pt x="1213" y="1066"/>
                </a:lnTo>
                <a:lnTo>
                  <a:pt x="1221" y="1069"/>
                </a:lnTo>
                <a:lnTo>
                  <a:pt x="1230" y="1071"/>
                </a:lnTo>
                <a:lnTo>
                  <a:pt x="1242" y="1077"/>
                </a:lnTo>
                <a:lnTo>
                  <a:pt x="1254" y="1081"/>
                </a:lnTo>
                <a:lnTo>
                  <a:pt x="1267" y="1087"/>
                </a:lnTo>
                <a:lnTo>
                  <a:pt x="1280" y="1092"/>
                </a:lnTo>
                <a:lnTo>
                  <a:pt x="1296" y="1098"/>
                </a:lnTo>
                <a:lnTo>
                  <a:pt x="1313" y="1106"/>
                </a:lnTo>
                <a:lnTo>
                  <a:pt x="1330" y="1115"/>
                </a:lnTo>
                <a:lnTo>
                  <a:pt x="1350" y="1123"/>
                </a:lnTo>
                <a:lnTo>
                  <a:pt x="1371" y="1135"/>
                </a:lnTo>
                <a:lnTo>
                  <a:pt x="1392" y="1144"/>
                </a:lnTo>
                <a:lnTo>
                  <a:pt x="1411" y="1156"/>
                </a:lnTo>
                <a:lnTo>
                  <a:pt x="1428" y="1165"/>
                </a:lnTo>
                <a:lnTo>
                  <a:pt x="1445" y="1177"/>
                </a:lnTo>
                <a:lnTo>
                  <a:pt x="1461" y="1185"/>
                </a:lnTo>
                <a:lnTo>
                  <a:pt x="1476" y="1194"/>
                </a:lnTo>
                <a:lnTo>
                  <a:pt x="1488" y="1202"/>
                </a:lnTo>
                <a:lnTo>
                  <a:pt x="1501" y="1209"/>
                </a:lnTo>
                <a:lnTo>
                  <a:pt x="1511" y="1217"/>
                </a:lnTo>
                <a:lnTo>
                  <a:pt x="1520" y="1225"/>
                </a:lnTo>
                <a:lnTo>
                  <a:pt x="1528" y="1231"/>
                </a:lnTo>
                <a:lnTo>
                  <a:pt x="1536" y="1236"/>
                </a:lnTo>
                <a:lnTo>
                  <a:pt x="1541" y="1242"/>
                </a:lnTo>
                <a:lnTo>
                  <a:pt x="1545" y="1248"/>
                </a:lnTo>
                <a:lnTo>
                  <a:pt x="1549" y="1254"/>
                </a:lnTo>
                <a:lnTo>
                  <a:pt x="1551" y="1259"/>
                </a:lnTo>
                <a:lnTo>
                  <a:pt x="1551" y="1263"/>
                </a:lnTo>
                <a:lnTo>
                  <a:pt x="1551" y="1273"/>
                </a:lnTo>
                <a:lnTo>
                  <a:pt x="1549" y="1281"/>
                </a:lnTo>
                <a:lnTo>
                  <a:pt x="1545" y="1288"/>
                </a:lnTo>
                <a:lnTo>
                  <a:pt x="1541" y="1298"/>
                </a:lnTo>
                <a:lnTo>
                  <a:pt x="1536" y="1305"/>
                </a:lnTo>
                <a:lnTo>
                  <a:pt x="1528" y="1311"/>
                </a:lnTo>
                <a:lnTo>
                  <a:pt x="1520" y="1317"/>
                </a:lnTo>
                <a:lnTo>
                  <a:pt x="1511" y="1323"/>
                </a:lnTo>
                <a:lnTo>
                  <a:pt x="1507" y="1327"/>
                </a:lnTo>
                <a:lnTo>
                  <a:pt x="1501" y="1334"/>
                </a:lnTo>
                <a:lnTo>
                  <a:pt x="1497" y="1340"/>
                </a:lnTo>
                <a:lnTo>
                  <a:pt x="1493" y="1350"/>
                </a:lnTo>
                <a:lnTo>
                  <a:pt x="1490" y="1359"/>
                </a:lnTo>
                <a:lnTo>
                  <a:pt x="1486" y="1369"/>
                </a:lnTo>
                <a:lnTo>
                  <a:pt x="1482" y="1380"/>
                </a:lnTo>
                <a:lnTo>
                  <a:pt x="1480" y="1394"/>
                </a:lnTo>
                <a:lnTo>
                  <a:pt x="1476" y="1407"/>
                </a:lnTo>
                <a:lnTo>
                  <a:pt x="1474" y="1423"/>
                </a:lnTo>
                <a:lnTo>
                  <a:pt x="1470" y="1438"/>
                </a:lnTo>
                <a:lnTo>
                  <a:pt x="1469" y="1455"/>
                </a:lnTo>
                <a:lnTo>
                  <a:pt x="1465" y="1474"/>
                </a:lnTo>
                <a:lnTo>
                  <a:pt x="1463" y="1494"/>
                </a:lnTo>
                <a:lnTo>
                  <a:pt x="1461" y="1513"/>
                </a:lnTo>
                <a:lnTo>
                  <a:pt x="1459" y="1536"/>
                </a:lnTo>
                <a:lnTo>
                  <a:pt x="1455" y="1557"/>
                </a:lnTo>
                <a:lnTo>
                  <a:pt x="1451" y="1580"/>
                </a:lnTo>
                <a:lnTo>
                  <a:pt x="1447" y="1603"/>
                </a:lnTo>
                <a:lnTo>
                  <a:pt x="1444" y="1626"/>
                </a:lnTo>
                <a:lnTo>
                  <a:pt x="1438" y="1649"/>
                </a:lnTo>
                <a:lnTo>
                  <a:pt x="1432" y="1674"/>
                </a:lnTo>
                <a:lnTo>
                  <a:pt x="1426" y="1697"/>
                </a:lnTo>
                <a:lnTo>
                  <a:pt x="1421" y="1722"/>
                </a:lnTo>
                <a:lnTo>
                  <a:pt x="1405" y="1772"/>
                </a:lnTo>
                <a:lnTo>
                  <a:pt x="1388" y="1822"/>
                </a:lnTo>
                <a:lnTo>
                  <a:pt x="1371" y="1874"/>
                </a:lnTo>
                <a:lnTo>
                  <a:pt x="1351" y="1927"/>
                </a:lnTo>
                <a:lnTo>
                  <a:pt x="1342" y="1954"/>
                </a:lnTo>
                <a:lnTo>
                  <a:pt x="1332" y="1981"/>
                </a:lnTo>
                <a:lnTo>
                  <a:pt x="1321" y="2008"/>
                </a:lnTo>
                <a:lnTo>
                  <a:pt x="1309" y="2033"/>
                </a:lnTo>
                <a:lnTo>
                  <a:pt x="1298" y="2058"/>
                </a:lnTo>
                <a:lnTo>
                  <a:pt x="1286" y="2081"/>
                </a:lnTo>
                <a:lnTo>
                  <a:pt x="1275" y="2102"/>
                </a:lnTo>
                <a:lnTo>
                  <a:pt x="1261" y="2123"/>
                </a:lnTo>
                <a:lnTo>
                  <a:pt x="1248" y="2142"/>
                </a:lnTo>
                <a:lnTo>
                  <a:pt x="1234" y="2162"/>
                </a:lnTo>
                <a:lnTo>
                  <a:pt x="1219" y="2181"/>
                </a:lnTo>
                <a:lnTo>
                  <a:pt x="1206" y="2198"/>
                </a:lnTo>
                <a:lnTo>
                  <a:pt x="1190" y="2213"/>
                </a:lnTo>
                <a:lnTo>
                  <a:pt x="1173" y="2229"/>
                </a:lnTo>
                <a:lnTo>
                  <a:pt x="1158" y="2244"/>
                </a:lnTo>
                <a:lnTo>
                  <a:pt x="1140" y="2258"/>
                </a:lnTo>
                <a:lnTo>
                  <a:pt x="1123" y="2271"/>
                </a:lnTo>
                <a:lnTo>
                  <a:pt x="1108" y="2283"/>
                </a:lnTo>
                <a:lnTo>
                  <a:pt x="1092" y="2294"/>
                </a:lnTo>
                <a:lnTo>
                  <a:pt x="1079" y="2306"/>
                </a:lnTo>
                <a:lnTo>
                  <a:pt x="1064" y="2313"/>
                </a:lnTo>
                <a:lnTo>
                  <a:pt x="1052" y="2323"/>
                </a:lnTo>
                <a:lnTo>
                  <a:pt x="1039" y="2330"/>
                </a:lnTo>
                <a:lnTo>
                  <a:pt x="1027" y="2336"/>
                </a:lnTo>
                <a:lnTo>
                  <a:pt x="1017" y="2342"/>
                </a:lnTo>
                <a:lnTo>
                  <a:pt x="1006" y="2348"/>
                </a:lnTo>
                <a:lnTo>
                  <a:pt x="996" y="2350"/>
                </a:lnTo>
                <a:lnTo>
                  <a:pt x="987" y="2354"/>
                </a:lnTo>
                <a:lnTo>
                  <a:pt x="979" y="2354"/>
                </a:lnTo>
                <a:lnTo>
                  <a:pt x="969" y="2355"/>
                </a:lnTo>
                <a:lnTo>
                  <a:pt x="962" y="2354"/>
                </a:lnTo>
                <a:lnTo>
                  <a:pt x="954" y="2354"/>
                </a:lnTo>
                <a:lnTo>
                  <a:pt x="946" y="2350"/>
                </a:lnTo>
                <a:lnTo>
                  <a:pt x="941" y="2348"/>
                </a:lnTo>
                <a:lnTo>
                  <a:pt x="933" y="2344"/>
                </a:lnTo>
                <a:lnTo>
                  <a:pt x="927" y="2340"/>
                </a:lnTo>
                <a:lnTo>
                  <a:pt x="921" y="2334"/>
                </a:lnTo>
                <a:lnTo>
                  <a:pt x="918" y="2330"/>
                </a:lnTo>
                <a:lnTo>
                  <a:pt x="912" y="2325"/>
                </a:lnTo>
                <a:lnTo>
                  <a:pt x="908" y="2319"/>
                </a:lnTo>
                <a:lnTo>
                  <a:pt x="904" y="2311"/>
                </a:lnTo>
                <a:lnTo>
                  <a:pt x="902" y="2306"/>
                </a:lnTo>
                <a:lnTo>
                  <a:pt x="900" y="2298"/>
                </a:lnTo>
                <a:lnTo>
                  <a:pt x="898" y="2290"/>
                </a:lnTo>
                <a:lnTo>
                  <a:pt x="898" y="2283"/>
                </a:lnTo>
                <a:lnTo>
                  <a:pt x="898" y="2275"/>
                </a:lnTo>
                <a:lnTo>
                  <a:pt x="898" y="2267"/>
                </a:lnTo>
                <a:lnTo>
                  <a:pt x="902" y="2258"/>
                </a:lnTo>
                <a:lnTo>
                  <a:pt x="902" y="2246"/>
                </a:lnTo>
                <a:lnTo>
                  <a:pt x="904" y="2236"/>
                </a:lnTo>
                <a:lnTo>
                  <a:pt x="902" y="2225"/>
                </a:lnTo>
                <a:lnTo>
                  <a:pt x="902" y="2213"/>
                </a:lnTo>
                <a:lnTo>
                  <a:pt x="898" y="2202"/>
                </a:lnTo>
                <a:lnTo>
                  <a:pt x="895" y="2192"/>
                </a:lnTo>
                <a:lnTo>
                  <a:pt x="889" y="2181"/>
                </a:lnTo>
                <a:lnTo>
                  <a:pt x="883" y="2169"/>
                </a:lnTo>
                <a:lnTo>
                  <a:pt x="875" y="2158"/>
                </a:lnTo>
                <a:lnTo>
                  <a:pt x="868" y="2146"/>
                </a:lnTo>
                <a:lnTo>
                  <a:pt x="858" y="2137"/>
                </a:lnTo>
                <a:lnTo>
                  <a:pt x="847" y="2125"/>
                </a:lnTo>
                <a:lnTo>
                  <a:pt x="835" y="2114"/>
                </a:lnTo>
                <a:lnTo>
                  <a:pt x="824" y="2102"/>
                </a:lnTo>
                <a:lnTo>
                  <a:pt x="810" y="2091"/>
                </a:lnTo>
                <a:lnTo>
                  <a:pt x="795" y="2081"/>
                </a:lnTo>
                <a:lnTo>
                  <a:pt x="779" y="2069"/>
                </a:lnTo>
                <a:lnTo>
                  <a:pt x="764" y="2058"/>
                </a:lnTo>
                <a:lnTo>
                  <a:pt x="751" y="2048"/>
                </a:lnTo>
                <a:lnTo>
                  <a:pt x="737" y="2041"/>
                </a:lnTo>
                <a:lnTo>
                  <a:pt x="728" y="2031"/>
                </a:lnTo>
                <a:lnTo>
                  <a:pt x="718" y="2023"/>
                </a:lnTo>
                <a:lnTo>
                  <a:pt x="710" y="2016"/>
                </a:lnTo>
                <a:lnTo>
                  <a:pt x="703" y="2008"/>
                </a:lnTo>
                <a:lnTo>
                  <a:pt x="697" y="2002"/>
                </a:lnTo>
                <a:lnTo>
                  <a:pt x="693" y="1996"/>
                </a:lnTo>
                <a:lnTo>
                  <a:pt x="689" y="1991"/>
                </a:lnTo>
                <a:lnTo>
                  <a:pt x="687" y="1987"/>
                </a:lnTo>
                <a:lnTo>
                  <a:pt x="685" y="1983"/>
                </a:lnTo>
                <a:lnTo>
                  <a:pt x="685" y="1979"/>
                </a:lnTo>
                <a:lnTo>
                  <a:pt x="687" y="1975"/>
                </a:lnTo>
                <a:lnTo>
                  <a:pt x="689" y="1973"/>
                </a:lnTo>
                <a:lnTo>
                  <a:pt x="693" y="1972"/>
                </a:lnTo>
                <a:lnTo>
                  <a:pt x="697" y="1970"/>
                </a:lnTo>
                <a:lnTo>
                  <a:pt x="703" y="1970"/>
                </a:lnTo>
                <a:lnTo>
                  <a:pt x="708" y="1970"/>
                </a:lnTo>
                <a:lnTo>
                  <a:pt x="716" y="1970"/>
                </a:lnTo>
                <a:lnTo>
                  <a:pt x="726" y="1970"/>
                </a:lnTo>
                <a:lnTo>
                  <a:pt x="735" y="1972"/>
                </a:lnTo>
                <a:lnTo>
                  <a:pt x="747" y="1973"/>
                </a:lnTo>
                <a:lnTo>
                  <a:pt x="758" y="1975"/>
                </a:lnTo>
                <a:lnTo>
                  <a:pt x="770" y="1979"/>
                </a:lnTo>
                <a:lnTo>
                  <a:pt x="783" y="1983"/>
                </a:lnTo>
                <a:lnTo>
                  <a:pt x="797" y="1987"/>
                </a:lnTo>
                <a:lnTo>
                  <a:pt x="812" y="1991"/>
                </a:lnTo>
                <a:lnTo>
                  <a:pt x="827" y="1996"/>
                </a:lnTo>
                <a:lnTo>
                  <a:pt x="845" y="2002"/>
                </a:lnTo>
                <a:lnTo>
                  <a:pt x="862" y="2010"/>
                </a:lnTo>
                <a:lnTo>
                  <a:pt x="879" y="2016"/>
                </a:lnTo>
                <a:lnTo>
                  <a:pt x="895" y="2021"/>
                </a:lnTo>
                <a:lnTo>
                  <a:pt x="910" y="2027"/>
                </a:lnTo>
                <a:lnTo>
                  <a:pt x="925" y="2031"/>
                </a:lnTo>
                <a:lnTo>
                  <a:pt x="941" y="2035"/>
                </a:lnTo>
                <a:lnTo>
                  <a:pt x="954" y="2039"/>
                </a:lnTo>
                <a:lnTo>
                  <a:pt x="968" y="2043"/>
                </a:lnTo>
                <a:lnTo>
                  <a:pt x="979" y="2044"/>
                </a:lnTo>
                <a:lnTo>
                  <a:pt x="991" y="2046"/>
                </a:lnTo>
                <a:lnTo>
                  <a:pt x="1002" y="2048"/>
                </a:lnTo>
                <a:lnTo>
                  <a:pt x="1012" y="2048"/>
                </a:lnTo>
                <a:lnTo>
                  <a:pt x="1019" y="2048"/>
                </a:lnTo>
                <a:lnTo>
                  <a:pt x="1029" y="2048"/>
                </a:lnTo>
                <a:lnTo>
                  <a:pt x="1035" y="2048"/>
                </a:lnTo>
                <a:lnTo>
                  <a:pt x="1042" y="2046"/>
                </a:lnTo>
                <a:lnTo>
                  <a:pt x="1048" y="2044"/>
                </a:lnTo>
                <a:lnTo>
                  <a:pt x="1052" y="2035"/>
                </a:lnTo>
                <a:lnTo>
                  <a:pt x="1060" y="2025"/>
                </a:lnTo>
                <a:lnTo>
                  <a:pt x="1067" y="2012"/>
                </a:lnTo>
                <a:lnTo>
                  <a:pt x="1077" y="1998"/>
                </a:lnTo>
                <a:lnTo>
                  <a:pt x="1088" y="1983"/>
                </a:lnTo>
                <a:lnTo>
                  <a:pt x="1094" y="1975"/>
                </a:lnTo>
                <a:lnTo>
                  <a:pt x="1100" y="1966"/>
                </a:lnTo>
                <a:lnTo>
                  <a:pt x="1106" y="1958"/>
                </a:lnTo>
                <a:lnTo>
                  <a:pt x="1113" y="1949"/>
                </a:lnTo>
                <a:lnTo>
                  <a:pt x="1119" y="1937"/>
                </a:lnTo>
                <a:lnTo>
                  <a:pt x="1127" y="1927"/>
                </a:lnTo>
                <a:lnTo>
                  <a:pt x="1133" y="1916"/>
                </a:lnTo>
                <a:lnTo>
                  <a:pt x="1136" y="1902"/>
                </a:lnTo>
                <a:lnTo>
                  <a:pt x="1142" y="1891"/>
                </a:lnTo>
                <a:lnTo>
                  <a:pt x="1146" y="1877"/>
                </a:lnTo>
                <a:lnTo>
                  <a:pt x="1156" y="1851"/>
                </a:lnTo>
                <a:lnTo>
                  <a:pt x="1167" y="1822"/>
                </a:lnTo>
                <a:lnTo>
                  <a:pt x="1177" y="1791"/>
                </a:lnTo>
                <a:lnTo>
                  <a:pt x="1186" y="1758"/>
                </a:lnTo>
                <a:lnTo>
                  <a:pt x="1196" y="1724"/>
                </a:lnTo>
                <a:lnTo>
                  <a:pt x="1207" y="1689"/>
                </a:lnTo>
                <a:lnTo>
                  <a:pt x="1217" y="1618"/>
                </a:lnTo>
                <a:lnTo>
                  <a:pt x="1221" y="1584"/>
                </a:lnTo>
                <a:lnTo>
                  <a:pt x="1225" y="1549"/>
                </a:lnTo>
                <a:lnTo>
                  <a:pt x="1229" y="1515"/>
                </a:lnTo>
                <a:lnTo>
                  <a:pt x="1230" y="1482"/>
                </a:lnTo>
                <a:lnTo>
                  <a:pt x="1232" y="1449"/>
                </a:lnTo>
                <a:lnTo>
                  <a:pt x="1232" y="1417"/>
                </a:lnTo>
                <a:lnTo>
                  <a:pt x="1232" y="1401"/>
                </a:lnTo>
                <a:lnTo>
                  <a:pt x="1232" y="1388"/>
                </a:lnTo>
                <a:lnTo>
                  <a:pt x="1232" y="1375"/>
                </a:lnTo>
                <a:lnTo>
                  <a:pt x="1230" y="1361"/>
                </a:lnTo>
                <a:lnTo>
                  <a:pt x="1229" y="1350"/>
                </a:lnTo>
                <a:lnTo>
                  <a:pt x="1227" y="1338"/>
                </a:lnTo>
                <a:lnTo>
                  <a:pt x="1225" y="1329"/>
                </a:lnTo>
                <a:lnTo>
                  <a:pt x="1223" y="1319"/>
                </a:lnTo>
                <a:lnTo>
                  <a:pt x="1221" y="1309"/>
                </a:lnTo>
                <a:lnTo>
                  <a:pt x="1217" y="1302"/>
                </a:lnTo>
                <a:lnTo>
                  <a:pt x="1213" y="1292"/>
                </a:lnTo>
                <a:lnTo>
                  <a:pt x="1211" y="1286"/>
                </a:lnTo>
                <a:lnTo>
                  <a:pt x="1207" y="1279"/>
                </a:lnTo>
                <a:lnTo>
                  <a:pt x="1202" y="1273"/>
                </a:lnTo>
                <a:lnTo>
                  <a:pt x="1198" y="1269"/>
                </a:lnTo>
                <a:lnTo>
                  <a:pt x="1194" y="1263"/>
                </a:lnTo>
                <a:lnTo>
                  <a:pt x="1188" y="1259"/>
                </a:lnTo>
                <a:lnTo>
                  <a:pt x="1183" y="1256"/>
                </a:lnTo>
                <a:lnTo>
                  <a:pt x="1175" y="1252"/>
                </a:lnTo>
                <a:lnTo>
                  <a:pt x="1169" y="1248"/>
                </a:lnTo>
                <a:lnTo>
                  <a:pt x="1161" y="1244"/>
                </a:lnTo>
                <a:lnTo>
                  <a:pt x="1152" y="1242"/>
                </a:lnTo>
                <a:lnTo>
                  <a:pt x="1142" y="1238"/>
                </a:lnTo>
                <a:lnTo>
                  <a:pt x="1133" y="1236"/>
                </a:lnTo>
                <a:lnTo>
                  <a:pt x="1123" y="1234"/>
                </a:lnTo>
                <a:lnTo>
                  <a:pt x="1111" y="1233"/>
                </a:lnTo>
                <a:lnTo>
                  <a:pt x="1100" y="1231"/>
                </a:lnTo>
                <a:lnTo>
                  <a:pt x="1088" y="1231"/>
                </a:lnTo>
                <a:lnTo>
                  <a:pt x="1077" y="1229"/>
                </a:lnTo>
                <a:lnTo>
                  <a:pt x="1064" y="1229"/>
                </a:lnTo>
                <a:lnTo>
                  <a:pt x="1048" y="1229"/>
                </a:lnTo>
                <a:lnTo>
                  <a:pt x="1035" y="1229"/>
                </a:lnTo>
                <a:lnTo>
                  <a:pt x="1019" y="1229"/>
                </a:lnTo>
                <a:lnTo>
                  <a:pt x="1002" y="1229"/>
                </a:lnTo>
                <a:lnTo>
                  <a:pt x="985" y="1229"/>
                </a:lnTo>
                <a:lnTo>
                  <a:pt x="964" y="1231"/>
                </a:lnTo>
                <a:lnTo>
                  <a:pt x="944" y="1231"/>
                </a:lnTo>
                <a:lnTo>
                  <a:pt x="921" y="1233"/>
                </a:lnTo>
                <a:lnTo>
                  <a:pt x="898" y="1234"/>
                </a:lnTo>
                <a:lnTo>
                  <a:pt x="875" y="1236"/>
                </a:lnTo>
                <a:lnTo>
                  <a:pt x="849" y="1238"/>
                </a:lnTo>
                <a:lnTo>
                  <a:pt x="824" y="1242"/>
                </a:lnTo>
                <a:lnTo>
                  <a:pt x="795" y="1244"/>
                </a:lnTo>
                <a:lnTo>
                  <a:pt x="766" y="1248"/>
                </a:lnTo>
                <a:lnTo>
                  <a:pt x="735" y="1252"/>
                </a:lnTo>
                <a:lnTo>
                  <a:pt x="703" y="1256"/>
                </a:lnTo>
                <a:lnTo>
                  <a:pt x="670" y="1259"/>
                </a:lnTo>
                <a:lnTo>
                  <a:pt x="637" y="1263"/>
                </a:lnTo>
                <a:lnTo>
                  <a:pt x="601" y="1267"/>
                </a:lnTo>
                <a:lnTo>
                  <a:pt x="566" y="1273"/>
                </a:lnTo>
                <a:lnTo>
                  <a:pt x="534" y="1277"/>
                </a:lnTo>
                <a:lnTo>
                  <a:pt x="501" y="1281"/>
                </a:lnTo>
                <a:lnTo>
                  <a:pt x="472" y="1286"/>
                </a:lnTo>
                <a:lnTo>
                  <a:pt x="445" y="1290"/>
                </a:lnTo>
                <a:lnTo>
                  <a:pt x="419" y="1296"/>
                </a:lnTo>
                <a:lnTo>
                  <a:pt x="394" y="1300"/>
                </a:lnTo>
                <a:lnTo>
                  <a:pt x="372" y="1305"/>
                </a:lnTo>
                <a:lnTo>
                  <a:pt x="349" y="1309"/>
                </a:lnTo>
                <a:lnTo>
                  <a:pt x="330" y="1315"/>
                </a:lnTo>
                <a:lnTo>
                  <a:pt x="311" y="1321"/>
                </a:lnTo>
                <a:lnTo>
                  <a:pt x="296" y="1327"/>
                </a:lnTo>
                <a:lnTo>
                  <a:pt x="278" y="1332"/>
                </a:lnTo>
                <a:lnTo>
                  <a:pt x="265" y="1340"/>
                </a:lnTo>
                <a:lnTo>
                  <a:pt x="252" y="1346"/>
                </a:lnTo>
                <a:lnTo>
                  <a:pt x="229" y="1359"/>
                </a:lnTo>
                <a:lnTo>
                  <a:pt x="205" y="1371"/>
                </a:lnTo>
                <a:lnTo>
                  <a:pt x="194" y="1376"/>
                </a:lnTo>
                <a:lnTo>
                  <a:pt x="184" y="1380"/>
                </a:lnTo>
                <a:lnTo>
                  <a:pt x="175" y="1386"/>
                </a:lnTo>
                <a:lnTo>
                  <a:pt x="165" y="1390"/>
                </a:lnTo>
                <a:lnTo>
                  <a:pt x="158" y="1394"/>
                </a:lnTo>
                <a:lnTo>
                  <a:pt x="150" y="1396"/>
                </a:lnTo>
                <a:lnTo>
                  <a:pt x="142" y="1400"/>
                </a:lnTo>
                <a:lnTo>
                  <a:pt x="136" y="1401"/>
                </a:lnTo>
                <a:lnTo>
                  <a:pt x="131" y="1403"/>
                </a:lnTo>
                <a:lnTo>
                  <a:pt x="127" y="1403"/>
                </a:lnTo>
                <a:lnTo>
                  <a:pt x="123" y="1405"/>
                </a:lnTo>
                <a:lnTo>
                  <a:pt x="119" y="1405"/>
                </a:lnTo>
                <a:lnTo>
                  <a:pt x="117" y="1405"/>
                </a:lnTo>
                <a:lnTo>
                  <a:pt x="113" y="1403"/>
                </a:lnTo>
                <a:lnTo>
                  <a:pt x="111" y="1403"/>
                </a:lnTo>
                <a:lnTo>
                  <a:pt x="108" y="1401"/>
                </a:lnTo>
                <a:lnTo>
                  <a:pt x="104" y="1400"/>
                </a:lnTo>
                <a:lnTo>
                  <a:pt x="100" y="1396"/>
                </a:lnTo>
                <a:lnTo>
                  <a:pt x="90" y="1390"/>
                </a:lnTo>
                <a:lnTo>
                  <a:pt x="83" y="1380"/>
                </a:lnTo>
                <a:lnTo>
                  <a:pt x="73" y="1371"/>
                </a:lnTo>
                <a:lnTo>
                  <a:pt x="63" y="1359"/>
                </a:lnTo>
                <a:lnTo>
                  <a:pt x="54" y="1346"/>
                </a:lnTo>
                <a:lnTo>
                  <a:pt x="46" y="1340"/>
                </a:lnTo>
                <a:lnTo>
                  <a:pt x="40" y="1332"/>
                </a:lnTo>
                <a:lnTo>
                  <a:pt x="35" y="1327"/>
                </a:lnTo>
                <a:lnTo>
                  <a:pt x="29" y="1319"/>
                </a:lnTo>
                <a:lnTo>
                  <a:pt x="23" y="1313"/>
                </a:lnTo>
                <a:lnTo>
                  <a:pt x="19" y="1307"/>
                </a:lnTo>
                <a:lnTo>
                  <a:pt x="15" y="1300"/>
                </a:lnTo>
                <a:lnTo>
                  <a:pt x="12" y="1294"/>
                </a:lnTo>
                <a:lnTo>
                  <a:pt x="6" y="1282"/>
                </a:lnTo>
                <a:lnTo>
                  <a:pt x="2" y="1271"/>
                </a:lnTo>
                <a:lnTo>
                  <a:pt x="0" y="1261"/>
                </a:lnTo>
                <a:lnTo>
                  <a:pt x="0" y="1252"/>
                </a:lnTo>
                <a:lnTo>
                  <a:pt x="0" y="1246"/>
                </a:lnTo>
                <a:lnTo>
                  <a:pt x="2" y="1240"/>
                </a:lnTo>
                <a:lnTo>
                  <a:pt x="6" y="1234"/>
                </a:lnTo>
                <a:lnTo>
                  <a:pt x="12" y="1227"/>
                </a:lnTo>
                <a:lnTo>
                  <a:pt x="15" y="1223"/>
                </a:lnTo>
                <a:lnTo>
                  <a:pt x="19" y="1219"/>
                </a:lnTo>
                <a:lnTo>
                  <a:pt x="23" y="1213"/>
                </a:lnTo>
                <a:lnTo>
                  <a:pt x="29" y="1209"/>
                </a:lnTo>
                <a:lnTo>
                  <a:pt x="35" y="1206"/>
                </a:lnTo>
                <a:lnTo>
                  <a:pt x="40" y="1202"/>
                </a:lnTo>
                <a:lnTo>
                  <a:pt x="46" y="1196"/>
                </a:lnTo>
                <a:lnTo>
                  <a:pt x="54" y="1192"/>
                </a:lnTo>
                <a:lnTo>
                  <a:pt x="56" y="1190"/>
                </a:lnTo>
                <a:lnTo>
                  <a:pt x="58" y="1186"/>
                </a:lnTo>
                <a:lnTo>
                  <a:pt x="62" y="1183"/>
                </a:lnTo>
                <a:lnTo>
                  <a:pt x="63" y="1177"/>
                </a:lnTo>
                <a:lnTo>
                  <a:pt x="65" y="1171"/>
                </a:lnTo>
                <a:lnTo>
                  <a:pt x="67" y="1163"/>
                </a:lnTo>
                <a:lnTo>
                  <a:pt x="71" y="1156"/>
                </a:lnTo>
                <a:lnTo>
                  <a:pt x="73" y="1148"/>
                </a:lnTo>
                <a:lnTo>
                  <a:pt x="75" y="1138"/>
                </a:lnTo>
                <a:lnTo>
                  <a:pt x="77" y="1127"/>
                </a:lnTo>
                <a:lnTo>
                  <a:pt x="81" y="1117"/>
                </a:lnTo>
                <a:lnTo>
                  <a:pt x="83" y="1106"/>
                </a:lnTo>
                <a:lnTo>
                  <a:pt x="85" y="1092"/>
                </a:lnTo>
                <a:lnTo>
                  <a:pt x="86" y="1079"/>
                </a:lnTo>
                <a:lnTo>
                  <a:pt x="88" y="1064"/>
                </a:lnTo>
                <a:lnTo>
                  <a:pt x="92" y="1048"/>
                </a:lnTo>
                <a:lnTo>
                  <a:pt x="94" y="1033"/>
                </a:lnTo>
                <a:lnTo>
                  <a:pt x="96" y="1016"/>
                </a:lnTo>
                <a:lnTo>
                  <a:pt x="98" y="996"/>
                </a:lnTo>
                <a:lnTo>
                  <a:pt x="100" y="979"/>
                </a:lnTo>
                <a:lnTo>
                  <a:pt x="102" y="958"/>
                </a:lnTo>
                <a:lnTo>
                  <a:pt x="104" y="939"/>
                </a:lnTo>
                <a:lnTo>
                  <a:pt x="106" y="916"/>
                </a:lnTo>
                <a:lnTo>
                  <a:pt x="108" y="895"/>
                </a:lnTo>
                <a:lnTo>
                  <a:pt x="110" y="872"/>
                </a:lnTo>
                <a:lnTo>
                  <a:pt x="111" y="847"/>
                </a:lnTo>
                <a:lnTo>
                  <a:pt x="113" y="822"/>
                </a:lnTo>
                <a:lnTo>
                  <a:pt x="113" y="795"/>
                </a:lnTo>
                <a:lnTo>
                  <a:pt x="115" y="768"/>
                </a:lnTo>
                <a:lnTo>
                  <a:pt x="117" y="741"/>
                </a:lnTo>
                <a:lnTo>
                  <a:pt x="119" y="712"/>
                </a:lnTo>
                <a:lnTo>
                  <a:pt x="119" y="684"/>
                </a:lnTo>
                <a:lnTo>
                  <a:pt x="121" y="653"/>
                </a:lnTo>
                <a:lnTo>
                  <a:pt x="121" y="624"/>
                </a:lnTo>
                <a:lnTo>
                  <a:pt x="123" y="597"/>
                </a:lnTo>
                <a:lnTo>
                  <a:pt x="123" y="570"/>
                </a:lnTo>
                <a:lnTo>
                  <a:pt x="123" y="543"/>
                </a:lnTo>
                <a:lnTo>
                  <a:pt x="125" y="518"/>
                </a:lnTo>
                <a:lnTo>
                  <a:pt x="125" y="494"/>
                </a:lnTo>
                <a:lnTo>
                  <a:pt x="125" y="469"/>
                </a:lnTo>
                <a:lnTo>
                  <a:pt x="125" y="446"/>
                </a:lnTo>
                <a:lnTo>
                  <a:pt x="125" y="424"/>
                </a:lnTo>
                <a:lnTo>
                  <a:pt x="125" y="403"/>
                </a:lnTo>
                <a:lnTo>
                  <a:pt x="123" y="382"/>
                </a:lnTo>
                <a:lnTo>
                  <a:pt x="123" y="363"/>
                </a:lnTo>
                <a:lnTo>
                  <a:pt x="123" y="344"/>
                </a:lnTo>
                <a:lnTo>
                  <a:pt x="121" y="325"/>
                </a:lnTo>
                <a:lnTo>
                  <a:pt x="121" y="307"/>
                </a:lnTo>
                <a:lnTo>
                  <a:pt x="119" y="290"/>
                </a:lnTo>
                <a:lnTo>
                  <a:pt x="119" y="275"/>
                </a:lnTo>
                <a:lnTo>
                  <a:pt x="117" y="259"/>
                </a:lnTo>
                <a:lnTo>
                  <a:pt x="117" y="244"/>
                </a:lnTo>
                <a:lnTo>
                  <a:pt x="115" y="231"/>
                </a:lnTo>
                <a:lnTo>
                  <a:pt x="113" y="217"/>
                </a:lnTo>
                <a:lnTo>
                  <a:pt x="111" y="206"/>
                </a:lnTo>
                <a:lnTo>
                  <a:pt x="110" y="194"/>
                </a:lnTo>
                <a:lnTo>
                  <a:pt x="108" y="183"/>
                </a:lnTo>
                <a:lnTo>
                  <a:pt x="106" y="173"/>
                </a:lnTo>
                <a:lnTo>
                  <a:pt x="104" y="163"/>
                </a:lnTo>
                <a:lnTo>
                  <a:pt x="102" y="154"/>
                </a:lnTo>
                <a:lnTo>
                  <a:pt x="100" y="146"/>
                </a:lnTo>
                <a:lnTo>
                  <a:pt x="98" y="138"/>
                </a:lnTo>
                <a:lnTo>
                  <a:pt x="96" y="133"/>
                </a:lnTo>
                <a:lnTo>
                  <a:pt x="94" y="12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Freeform 85"/>
          <p:cNvSpPr/>
          <p:nvPr/>
        </p:nvSpPr>
        <p:spPr>
          <a:xfrm>
            <a:off x="6900840" y="3011400"/>
            <a:ext cx="252360" cy="179640"/>
          </a:xfrm>
          <a:custGeom>
            <a:avLst/>
            <a:gdLst/>
            <a:ahLst/>
            <a:rect l="l" t="t" r="r" b="b"/>
            <a:pathLst>
              <a:path w="317" h="224">
                <a:moveTo>
                  <a:pt x="0" y="0"/>
                </a:moveTo>
                <a:lnTo>
                  <a:pt x="22" y="0"/>
                </a:lnTo>
                <a:lnTo>
                  <a:pt x="43" y="0"/>
                </a:lnTo>
                <a:lnTo>
                  <a:pt x="62" y="0"/>
                </a:lnTo>
                <a:lnTo>
                  <a:pt x="81" y="2"/>
                </a:lnTo>
                <a:lnTo>
                  <a:pt x="100" y="2"/>
                </a:lnTo>
                <a:lnTo>
                  <a:pt x="118" y="4"/>
                </a:lnTo>
                <a:lnTo>
                  <a:pt x="135" y="6"/>
                </a:lnTo>
                <a:lnTo>
                  <a:pt x="150" y="10"/>
                </a:lnTo>
                <a:lnTo>
                  <a:pt x="166" y="11"/>
                </a:lnTo>
                <a:lnTo>
                  <a:pt x="179" y="15"/>
                </a:lnTo>
                <a:lnTo>
                  <a:pt x="194" y="19"/>
                </a:lnTo>
                <a:lnTo>
                  <a:pt x="206" y="23"/>
                </a:lnTo>
                <a:lnTo>
                  <a:pt x="219" y="29"/>
                </a:lnTo>
                <a:lnTo>
                  <a:pt x="231" y="34"/>
                </a:lnTo>
                <a:lnTo>
                  <a:pt x="240" y="40"/>
                </a:lnTo>
                <a:lnTo>
                  <a:pt x="252" y="46"/>
                </a:lnTo>
                <a:lnTo>
                  <a:pt x="265" y="59"/>
                </a:lnTo>
                <a:lnTo>
                  <a:pt x="279" y="73"/>
                </a:lnTo>
                <a:lnTo>
                  <a:pt x="288" y="86"/>
                </a:lnTo>
                <a:lnTo>
                  <a:pt x="298" y="100"/>
                </a:lnTo>
                <a:lnTo>
                  <a:pt x="304" y="105"/>
                </a:lnTo>
                <a:lnTo>
                  <a:pt x="308" y="113"/>
                </a:lnTo>
                <a:lnTo>
                  <a:pt x="310" y="119"/>
                </a:lnTo>
                <a:lnTo>
                  <a:pt x="313" y="127"/>
                </a:lnTo>
                <a:lnTo>
                  <a:pt x="315" y="132"/>
                </a:lnTo>
                <a:lnTo>
                  <a:pt x="315" y="140"/>
                </a:lnTo>
                <a:lnTo>
                  <a:pt x="317" y="146"/>
                </a:lnTo>
                <a:lnTo>
                  <a:pt x="317" y="153"/>
                </a:lnTo>
                <a:lnTo>
                  <a:pt x="317" y="161"/>
                </a:lnTo>
                <a:lnTo>
                  <a:pt x="317" y="169"/>
                </a:lnTo>
                <a:lnTo>
                  <a:pt x="315" y="177"/>
                </a:lnTo>
                <a:lnTo>
                  <a:pt x="315" y="184"/>
                </a:lnTo>
                <a:lnTo>
                  <a:pt x="313" y="190"/>
                </a:lnTo>
                <a:lnTo>
                  <a:pt x="311" y="196"/>
                </a:lnTo>
                <a:lnTo>
                  <a:pt x="310" y="201"/>
                </a:lnTo>
                <a:lnTo>
                  <a:pt x="306" y="205"/>
                </a:lnTo>
                <a:lnTo>
                  <a:pt x="302" y="211"/>
                </a:lnTo>
                <a:lnTo>
                  <a:pt x="298" y="215"/>
                </a:lnTo>
                <a:lnTo>
                  <a:pt x="294" y="217"/>
                </a:lnTo>
                <a:lnTo>
                  <a:pt x="290" y="219"/>
                </a:lnTo>
                <a:lnTo>
                  <a:pt x="285" y="221"/>
                </a:lnTo>
                <a:lnTo>
                  <a:pt x="279" y="223"/>
                </a:lnTo>
                <a:lnTo>
                  <a:pt x="271" y="224"/>
                </a:lnTo>
                <a:lnTo>
                  <a:pt x="265" y="224"/>
                </a:lnTo>
                <a:lnTo>
                  <a:pt x="258" y="224"/>
                </a:lnTo>
                <a:lnTo>
                  <a:pt x="248" y="223"/>
                </a:lnTo>
                <a:lnTo>
                  <a:pt x="240" y="221"/>
                </a:lnTo>
                <a:lnTo>
                  <a:pt x="233" y="217"/>
                </a:lnTo>
                <a:lnTo>
                  <a:pt x="223" y="215"/>
                </a:lnTo>
                <a:lnTo>
                  <a:pt x="214" y="209"/>
                </a:lnTo>
                <a:lnTo>
                  <a:pt x="204" y="205"/>
                </a:lnTo>
                <a:lnTo>
                  <a:pt x="194" y="200"/>
                </a:lnTo>
                <a:lnTo>
                  <a:pt x="185" y="192"/>
                </a:lnTo>
                <a:lnTo>
                  <a:pt x="173" y="186"/>
                </a:lnTo>
                <a:lnTo>
                  <a:pt x="164" y="178"/>
                </a:lnTo>
                <a:lnTo>
                  <a:pt x="152" y="169"/>
                </a:lnTo>
                <a:lnTo>
                  <a:pt x="141" y="159"/>
                </a:lnTo>
                <a:lnTo>
                  <a:pt x="129" y="150"/>
                </a:lnTo>
                <a:lnTo>
                  <a:pt x="118" y="140"/>
                </a:lnTo>
                <a:lnTo>
                  <a:pt x="106" y="129"/>
                </a:lnTo>
                <a:lnTo>
                  <a:pt x="95" y="117"/>
                </a:lnTo>
                <a:lnTo>
                  <a:pt x="83" y="107"/>
                </a:lnTo>
                <a:lnTo>
                  <a:pt x="72" y="96"/>
                </a:lnTo>
                <a:lnTo>
                  <a:pt x="62" y="86"/>
                </a:lnTo>
                <a:lnTo>
                  <a:pt x="52" y="77"/>
                </a:lnTo>
                <a:lnTo>
                  <a:pt x="43" y="67"/>
                </a:lnTo>
                <a:lnTo>
                  <a:pt x="35" y="59"/>
                </a:lnTo>
                <a:lnTo>
                  <a:pt x="27" y="50"/>
                </a:lnTo>
                <a:lnTo>
                  <a:pt x="22" y="42"/>
                </a:lnTo>
                <a:lnTo>
                  <a:pt x="16" y="34"/>
                </a:lnTo>
                <a:lnTo>
                  <a:pt x="10" y="27"/>
                </a:lnTo>
                <a:lnTo>
                  <a:pt x="6" y="21"/>
                </a:lnTo>
                <a:lnTo>
                  <a:pt x="4" y="15"/>
                </a:lnTo>
                <a:lnTo>
                  <a:pt x="0" y="10"/>
                </a:lnTo>
                <a:lnTo>
                  <a:pt x="0" y="4"/>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Freeform 86"/>
          <p:cNvSpPr/>
          <p:nvPr/>
        </p:nvSpPr>
        <p:spPr>
          <a:xfrm>
            <a:off x="6764400" y="2682720"/>
            <a:ext cx="788760" cy="873360"/>
          </a:xfrm>
          <a:custGeom>
            <a:avLst/>
            <a:gdLst/>
            <a:ahLst/>
            <a:rect l="l" t="t" r="r" b="b"/>
            <a:pathLst>
              <a:path w="994" h="1100">
                <a:moveTo>
                  <a:pt x="689" y="1029"/>
                </a:moveTo>
                <a:lnTo>
                  <a:pt x="681" y="1039"/>
                </a:lnTo>
                <a:lnTo>
                  <a:pt x="673" y="1046"/>
                </a:lnTo>
                <a:lnTo>
                  <a:pt x="666" y="1054"/>
                </a:lnTo>
                <a:lnTo>
                  <a:pt x="658" y="1060"/>
                </a:lnTo>
                <a:lnTo>
                  <a:pt x="650" y="1068"/>
                </a:lnTo>
                <a:lnTo>
                  <a:pt x="645" y="1073"/>
                </a:lnTo>
                <a:lnTo>
                  <a:pt x="637" y="1079"/>
                </a:lnTo>
                <a:lnTo>
                  <a:pt x="629" y="1083"/>
                </a:lnTo>
                <a:lnTo>
                  <a:pt x="622" y="1087"/>
                </a:lnTo>
                <a:lnTo>
                  <a:pt x="614" y="1091"/>
                </a:lnTo>
                <a:lnTo>
                  <a:pt x="606" y="1094"/>
                </a:lnTo>
                <a:lnTo>
                  <a:pt x="599" y="1096"/>
                </a:lnTo>
                <a:lnTo>
                  <a:pt x="591" y="1098"/>
                </a:lnTo>
                <a:lnTo>
                  <a:pt x="583" y="1100"/>
                </a:lnTo>
                <a:lnTo>
                  <a:pt x="576" y="1100"/>
                </a:lnTo>
                <a:lnTo>
                  <a:pt x="570" y="1100"/>
                </a:lnTo>
                <a:lnTo>
                  <a:pt x="562" y="1100"/>
                </a:lnTo>
                <a:lnTo>
                  <a:pt x="554" y="1100"/>
                </a:lnTo>
                <a:lnTo>
                  <a:pt x="549" y="1098"/>
                </a:lnTo>
                <a:lnTo>
                  <a:pt x="543" y="1096"/>
                </a:lnTo>
                <a:lnTo>
                  <a:pt x="539" y="1094"/>
                </a:lnTo>
                <a:lnTo>
                  <a:pt x="535" y="1091"/>
                </a:lnTo>
                <a:lnTo>
                  <a:pt x="531" y="1087"/>
                </a:lnTo>
                <a:lnTo>
                  <a:pt x="528" y="1083"/>
                </a:lnTo>
                <a:lnTo>
                  <a:pt x="526" y="1079"/>
                </a:lnTo>
                <a:lnTo>
                  <a:pt x="522" y="1073"/>
                </a:lnTo>
                <a:lnTo>
                  <a:pt x="520" y="1068"/>
                </a:lnTo>
                <a:lnTo>
                  <a:pt x="518" y="1060"/>
                </a:lnTo>
                <a:lnTo>
                  <a:pt x="518" y="1054"/>
                </a:lnTo>
                <a:lnTo>
                  <a:pt x="516" y="1046"/>
                </a:lnTo>
                <a:lnTo>
                  <a:pt x="516" y="1039"/>
                </a:lnTo>
                <a:lnTo>
                  <a:pt x="516" y="1029"/>
                </a:lnTo>
                <a:lnTo>
                  <a:pt x="514" y="1023"/>
                </a:lnTo>
                <a:lnTo>
                  <a:pt x="510" y="1016"/>
                </a:lnTo>
                <a:lnTo>
                  <a:pt x="506" y="1008"/>
                </a:lnTo>
                <a:lnTo>
                  <a:pt x="501" y="1000"/>
                </a:lnTo>
                <a:lnTo>
                  <a:pt x="495" y="993"/>
                </a:lnTo>
                <a:lnTo>
                  <a:pt x="489" y="985"/>
                </a:lnTo>
                <a:lnTo>
                  <a:pt x="483" y="977"/>
                </a:lnTo>
                <a:lnTo>
                  <a:pt x="476" y="968"/>
                </a:lnTo>
                <a:lnTo>
                  <a:pt x="468" y="958"/>
                </a:lnTo>
                <a:lnTo>
                  <a:pt x="460" y="949"/>
                </a:lnTo>
                <a:lnTo>
                  <a:pt x="451" y="939"/>
                </a:lnTo>
                <a:lnTo>
                  <a:pt x="441" y="929"/>
                </a:lnTo>
                <a:lnTo>
                  <a:pt x="432" y="920"/>
                </a:lnTo>
                <a:lnTo>
                  <a:pt x="420" y="910"/>
                </a:lnTo>
                <a:lnTo>
                  <a:pt x="409" y="899"/>
                </a:lnTo>
                <a:lnTo>
                  <a:pt x="397" y="887"/>
                </a:lnTo>
                <a:lnTo>
                  <a:pt x="382" y="879"/>
                </a:lnTo>
                <a:lnTo>
                  <a:pt x="368" y="870"/>
                </a:lnTo>
                <a:lnTo>
                  <a:pt x="357" y="862"/>
                </a:lnTo>
                <a:lnTo>
                  <a:pt x="345" y="854"/>
                </a:lnTo>
                <a:lnTo>
                  <a:pt x="334" y="847"/>
                </a:lnTo>
                <a:lnTo>
                  <a:pt x="324" y="839"/>
                </a:lnTo>
                <a:lnTo>
                  <a:pt x="316" y="833"/>
                </a:lnTo>
                <a:lnTo>
                  <a:pt x="309" y="826"/>
                </a:lnTo>
                <a:lnTo>
                  <a:pt x="303" y="820"/>
                </a:lnTo>
                <a:lnTo>
                  <a:pt x="297" y="816"/>
                </a:lnTo>
                <a:lnTo>
                  <a:pt x="293" y="810"/>
                </a:lnTo>
                <a:lnTo>
                  <a:pt x="291" y="806"/>
                </a:lnTo>
                <a:lnTo>
                  <a:pt x="290" y="803"/>
                </a:lnTo>
                <a:lnTo>
                  <a:pt x="288" y="799"/>
                </a:lnTo>
                <a:lnTo>
                  <a:pt x="290" y="795"/>
                </a:lnTo>
                <a:lnTo>
                  <a:pt x="291" y="793"/>
                </a:lnTo>
                <a:lnTo>
                  <a:pt x="293" y="791"/>
                </a:lnTo>
                <a:lnTo>
                  <a:pt x="297" y="789"/>
                </a:lnTo>
                <a:lnTo>
                  <a:pt x="301" y="787"/>
                </a:lnTo>
                <a:lnTo>
                  <a:pt x="305" y="785"/>
                </a:lnTo>
                <a:lnTo>
                  <a:pt x="311" y="785"/>
                </a:lnTo>
                <a:lnTo>
                  <a:pt x="316" y="785"/>
                </a:lnTo>
                <a:lnTo>
                  <a:pt x="324" y="785"/>
                </a:lnTo>
                <a:lnTo>
                  <a:pt x="330" y="785"/>
                </a:lnTo>
                <a:lnTo>
                  <a:pt x="338" y="785"/>
                </a:lnTo>
                <a:lnTo>
                  <a:pt x="347" y="787"/>
                </a:lnTo>
                <a:lnTo>
                  <a:pt x="355" y="789"/>
                </a:lnTo>
                <a:lnTo>
                  <a:pt x="364" y="791"/>
                </a:lnTo>
                <a:lnTo>
                  <a:pt x="376" y="793"/>
                </a:lnTo>
                <a:lnTo>
                  <a:pt x="386" y="797"/>
                </a:lnTo>
                <a:lnTo>
                  <a:pt x="397" y="801"/>
                </a:lnTo>
                <a:lnTo>
                  <a:pt x="411" y="805"/>
                </a:lnTo>
                <a:lnTo>
                  <a:pt x="422" y="808"/>
                </a:lnTo>
                <a:lnTo>
                  <a:pt x="434" y="812"/>
                </a:lnTo>
                <a:lnTo>
                  <a:pt x="445" y="816"/>
                </a:lnTo>
                <a:lnTo>
                  <a:pt x="455" y="820"/>
                </a:lnTo>
                <a:lnTo>
                  <a:pt x="464" y="824"/>
                </a:lnTo>
                <a:lnTo>
                  <a:pt x="474" y="826"/>
                </a:lnTo>
                <a:lnTo>
                  <a:pt x="483" y="828"/>
                </a:lnTo>
                <a:lnTo>
                  <a:pt x="491" y="830"/>
                </a:lnTo>
                <a:lnTo>
                  <a:pt x="506" y="831"/>
                </a:lnTo>
                <a:lnTo>
                  <a:pt x="514" y="833"/>
                </a:lnTo>
                <a:lnTo>
                  <a:pt x="520" y="833"/>
                </a:lnTo>
                <a:lnTo>
                  <a:pt x="526" y="833"/>
                </a:lnTo>
                <a:lnTo>
                  <a:pt x="531" y="831"/>
                </a:lnTo>
                <a:lnTo>
                  <a:pt x="537" y="830"/>
                </a:lnTo>
                <a:lnTo>
                  <a:pt x="543" y="828"/>
                </a:lnTo>
                <a:lnTo>
                  <a:pt x="547" y="828"/>
                </a:lnTo>
                <a:lnTo>
                  <a:pt x="553" y="826"/>
                </a:lnTo>
                <a:lnTo>
                  <a:pt x="558" y="824"/>
                </a:lnTo>
                <a:lnTo>
                  <a:pt x="562" y="822"/>
                </a:lnTo>
                <a:lnTo>
                  <a:pt x="568" y="818"/>
                </a:lnTo>
                <a:lnTo>
                  <a:pt x="572" y="814"/>
                </a:lnTo>
                <a:lnTo>
                  <a:pt x="577" y="808"/>
                </a:lnTo>
                <a:lnTo>
                  <a:pt x="583" y="801"/>
                </a:lnTo>
                <a:lnTo>
                  <a:pt x="587" y="795"/>
                </a:lnTo>
                <a:lnTo>
                  <a:pt x="593" y="787"/>
                </a:lnTo>
                <a:lnTo>
                  <a:pt x="597" y="778"/>
                </a:lnTo>
                <a:lnTo>
                  <a:pt x="602" y="768"/>
                </a:lnTo>
                <a:lnTo>
                  <a:pt x="608" y="759"/>
                </a:lnTo>
                <a:lnTo>
                  <a:pt x="612" y="747"/>
                </a:lnTo>
                <a:lnTo>
                  <a:pt x="618" y="735"/>
                </a:lnTo>
                <a:lnTo>
                  <a:pt x="622" y="722"/>
                </a:lnTo>
                <a:lnTo>
                  <a:pt x="627" y="709"/>
                </a:lnTo>
                <a:lnTo>
                  <a:pt x="631" y="693"/>
                </a:lnTo>
                <a:lnTo>
                  <a:pt x="637" y="678"/>
                </a:lnTo>
                <a:lnTo>
                  <a:pt x="643" y="663"/>
                </a:lnTo>
                <a:lnTo>
                  <a:pt x="647" y="645"/>
                </a:lnTo>
                <a:lnTo>
                  <a:pt x="652" y="628"/>
                </a:lnTo>
                <a:lnTo>
                  <a:pt x="656" y="609"/>
                </a:lnTo>
                <a:lnTo>
                  <a:pt x="662" y="590"/>
                </a:lnTo>
                <a:lnTo>
                  <a:pt x="666" y="570"/>
                </a:lnTo>
                <a:lnTo>
                  <a:pt x="672" y="549"/>
                </a:lnTo>
                <a:lnTo>
                  <a:pt x="677" y="528"/>
                </a:lnTo>
                <a:lnTo>
                  <a:pt x="681" y="507"/>
                </a:lnTo>
                <a:lnTo>
                  <a:pt x="687" y="484"/>
                </a:lnTo>
                <a:lnTo>
                  <a:pt x="691" y="461"/>
                </a:lnTo>
                <a:lnTo>
                  <a:pt x="697" y="438"/>
                </a:lnTo>
                <a:lnTo>
                  <a:pt x="702" y="415"/>
                </a:lnTo>
                <a:lnTo>
                  <a:pt x="704" y="390"/>
                </a:lnTo>
                <a:lnTo>
                  <a:pt x="706" y="367"/>
                </a:lnTo>
                <a:lnTo>
                  <a:pt x="708" y="346"/>
                </a:lnTo>
                <a:lnTo>
                  <a:pt x="708" y="325"/>
                </a:lnTo>
                <a:lnTo>
                  <a:pt x="710" y="306"/>
                </a:lnTo>
                <a:lnTo>
                  <a:pt x="710" y="288"/>
                </a:lnTo>
                <a:lnTo>
                  <a:pt x="712" y="271"/>
                </a:lnTo>
                <a:lnTo>
                  <a:pt x="712" y="256"/>
                </a:lnTo>
                <a:lnTo>
                  <a:pt x="712" y="240"/>
                </a:lnTo>
                <a:lnTo>
                  <a:pt x="710" y="229"/>
                </a:lnTo>
                <a:lnTo>
                  <a:pt x="710" y="217"/>
                </a:lnTo>
                <a:lnTo>
                  <a:pt x="708" y="206"/>
                </a:lnTo>
                <a:lnTo>
                  <a:pt x="708" y="196"/>
                </a:lnTo>
                <a:lnTo>
                  <a:pt x="706" y="188"/>
                </a:lnTo>
                <a:lnTo>
                  <a:pt x="704" y="183"/>
                </a:lnTo>
                <a:lnTo>
                  <a:pt x="702" y="177"/>
                </a:lnTo>
                <a:lnTo>
                  <a:pt x="698" y="175"/>
                </a:lnTo>
                <a:lnTo>
                  <a:pt x="695" y="175"/>
                </a:lnTo>
                <a:lnTo>
                  <a:pt x="689" y="175"/>
                </a:lnTo>
                <a:lnTo>
                  <a:pt x="681" y="173"/>
                </a:lnTo>
                <a:lnTo>
                  <a:pt x="673" y="173"/>
                </a:lnTo>
                <a:lnTo>
                  <a:pt x="664" y="173"/>
                </a:lnTo>
                <a:lnTo>
                  <a:pt x="654" y="173"/>
                </a:lnTo>
                <a:lnTo>
                  <a:pt x="643" y="173"/>
                </a:lnTo>
                <a:lnTo>
                  <a:pt x="629" y="173"/>
                </a:lnTo>
                <a:lnTo>
                  <a:pt x="614" y="173"/>
                </a:lnTo>
                <a:lnTo>
                  <a:pt x="599" y="173"/>
                </a:lnTo>
                <a:lnTo>
                  <a:pt x="583" y="173"/>
                </a:lnTo>
                <a:lnTo>
                  <a:pt x="566" y="175"/>
                </a:lnTo>
                <a:lnTo>
                  <a:pt x="547" y="175"/>
                </a:lnTo>
                <a:lnTo>
                  <a:pt x="526" y="177"/>
                </a:lnTo>
                <a:lnTo>
                  <a:pt x="505" y="179"/>
                </a:lnTo>
                <a:lnTo>
                  <a:pt x="482" y="179"/>
                </a:lnTo>
                <a:lnTo>
                  <a:pt x="458" y="181"/>
                </a:lnTo>
                <a:lnTo>
                  <a:pt x="434" y="183"/>
                </a:lnTo>
                <a:lnTo>
                  <a:pt x="407" y="185"/>
                </a:lnTo>
                <a:lnTo>
                  <a:pt x="380" y="186"/>
                </a:lnTo>
                <a:lnTo>
                  <a:pt x="351" y="190"/>
                </a:lnTo>
                <a:lnTo>
                  <a:pt x="320" y="192"/>
                </a:lnTo>
                <a:lnTo>
                  <a:pt x="290" y="194"/>
                </a:lnTo>
                <a:lnTo>
                  <a:pt x="257" y="198"/>
                </a:lnTo>
                <a:lnTo>
                  <a:pt x="224" y="202"/>
                </a:lnTo>
                <a:lnTo>
                  <a:pt x="190" y="204"/>
                </a:lnTo>
                <a:lnTo>
                  <a:pt x="153" y="208"/>
                </a:lnTo>
                <a:lnTo>
                  <a:pt x="117" y="211"/>
                </a:lnTo>
                <a:lnTo>
                  <a:pt x="78" y="215"/>
                </a:lnTo>
                <a:lnTo>
                  <a:pt x="40" y="219"/>
                </a:lnTo>
                <a:lnTo>
                  <a:pt x="0" y="225"/>
                </a:lnTo>
                <a:lnTo>
                  <a:pt x="0" y="177"/>
                </a:lnTo>
                <a:lnTo>
                  <a:pt x="0" y="131"/>
                </a:lnTo>
                <a:lnTo>
                  <a:pt x="34" y="129"/>
                </a:lnTo>
                <a:lnTo>
                  <a:pt x="67" y="129"/>
                </a:lnTo>
                <a:lnTo>
                  <a:pt x="100" y="129"/>
                </a:lnTo>
                <a:lnTo>
                  <a:pt x="130" y="127"/>
                </a:lnTo>
                <a:lnTo>
                  <a:pt x="161" y="127"/>
                </a:lnTo>
                <a:lnTo>
                  <a:pt x="192" y="125"/>
                </a:lnTo>
                <a:lnTo>
                  <a:pt x="220" y="123"/>
                </a:lnTo>
                <a:lnTo>
                  <a:pt x="249" y="121"/>
                </a:lnTo>
                <a:lnTo>
                  <a:pt x="276" y="119"/>
                </a:lnTo>
                <a:lnTo>
                  <a:pt x="303" y="115"/>
                </a:lnTo>
                <a:lnTo>
                  <a:pt x="330" y="114"/>
                </a:lnTo>
                <a:lnTo>
                  <a:pt x="355" y="110"/>
                </a:lnTo>
                <a:lnTo>
                  <a:pt x="380" y="106"/>
                </a:lnTo>
                <a:lnTo>
                  <a:pt x="405" y="102"/>
                </a:lnTo>
                <a:lnTo>
                  <a:pt x="428" y="98"/>
                </a:lnTo>
                <a:lnTo>
                  <a:pt x="451" y="94"/>
                </a:lnTo>
                <a:lnTo>
                  <a:pt x="472" y="89"/>
                </a:lnTo>
                <a:lnTo>
                  <a:pt x="491" y="85"/>
                </a:lnTo>
                <a:lnTo>
                  <a:pt x="512" y="81"/>
                </a:lnTo>
                <a:lnTo>
                  <a:pt x="530" y="75"/>
                </a:lnTo>
                <a:lnTo>
                  <a:pt x="547" y="71"/>
                </a:lnTo>
                <a:lnTo>
                  <a:pt x="562" y="67"/>
                </a:lnTo>
                <a:lnTo>
                  <a:pt x="576" y="64"/>
                </a:lnTo>
                <a:lnTo>
                  <a:pt x="589" y="58"/>
                </a:lnTo>
                <a:lnTo>
                  <a:pt x="601" y="54"/>
                </a:lnTo>
                <a:lnTo>
                  <a:pt x="612" y="50"/>
                </a:lnTo>
                <a:lnTo>
                  <a:pt x="622" y="44"/>
                </a:lnTo>
                <a:lnTo>
                  <a:pt x="629" y="41"/>
                </a:lnTo>
                <a:lnTo>
                  <a:pt x="635" y="37"/>
                </a:lnTo>
                <a:lnTo>
                  <a:pt x="641" y="31"/>
                </a:lnTo>
                <a:lnTo>
                  <a:pt x="645" y="27"/>
                </a:lnTo>
                <a:lnTo>
                  <a:pt x="649" y="23"/>
                </a:lnTo>
                <a:lnTo>
                  <a:pt x="654" y="18"/>
                </a:lnTo>
                <a:lnTo>
                  <a:pt x="660" y="14"/>
                </a:lnTo>
                <a:lnTo>
                  <a:pt x="668" y="10"/>
                </a:lnTo>
                <a:lnTo>
                  <a:pt x="677" y="6"/>
                </a:lnTo>
                <a:lnTo>
                  <a:pt x="685" y="4"/>
                </a:lnTo>
                <a:lnTo>
                  <a:pt x="695" y="2"/>
                </a:lnTo>
                <a:lnTo>
                  <a:pt x="704" y="0"/>
                </a:lnTo>
                <a:lnTo>
                  <a:pt x="716" y="0"/>
                </a:lnTo>
                <a:lnTo>
                  <a:pt x="718" y="0"/>
                </a:lnTo>
                <a:lnTo>
                  <a:pt x="721" y="0"/>
                </a:lnTo>
                <a:lnTo>
                  <a:pt x="727" y="2"/>
                </a:lnTo>
                <a:lnTo>
                  <a:pt x="733" y="4"/>
                </a:lnTo>
                <a:lnTo>
                  <a:pt x="739" y="6"/>
                </a:lnTo>
                <a:lnTo>
                  <a:pt x="746" y="10"/>
                </a:lnTo>
                <a:lnTo>
                  <a:pt x="756" y="12"/>
                </a:lnTo>
                <a:lnTo>
                  <a:pt x="766" y="18"/>
                </a:lnTo>
                <a:lnTo>
                  <a:pt x="775" y="21"/>
                </a:lnTo>
                <a:lnTo>
                  <a:pt x="787" y="27"/>
                </a:lnTo>
                <a:lnTo>
                  <a:pt x="798" y="33"/>
                </a:lnTo>
                <a:lnTo>
                  <a:pt x="812" y="39"/>
                </a:lnTo>
                <a:lnTo>
                  <a:pt x="825" y="46"/>
                </a:lnTo>
                <a:lnTo>
                  <a:pt x="840" y="54"/>
                </a:lnTo>
                <a:lnTo>
                  <a:pt x="858" y="62"/>
                </a:lnTo>
                <a:lnTo>
                  <a:pt x="873" y="71"/>
                </a:lnTo>
                <a:lnTo>
                  <a:pt x="888" y="81"/>
                </a:lnTo>
                <a:lnTo>
                  <a:pt x="902" y="92"/>
                </a:lnTo>
                <a:lnTo>
                  <a:pt x="913" y="102"/>
                </a:lnTo>
                <a:lnTo>
                  <a:pt x="925" y="110"/>
                </a:lnTo>
                <a:lnTo>
                  <a:pt x="936" y="119"/>
                </a:lnTo>
                <a:lnTo>
                  <a:pt x="946" y="127"/>
                </a:lnTo>
                <a:lnTo>
                  <a:pt x="956" y="135"/>
                </a:lnTo>
                <a:lnTo>
                  <a:pt x="963" y="142"/>
                </a:lnTo>
                <a:lnTo>
                  <a:pt x="971" y="148"/>
                </a:lnTo>
                <a:lnTo>
                  <a:pt x="977" y="154"/>
                </a:lnTo>
                <a:lnTo>
                  <a:pt x="981" y="160"/>
                </a:lnTo>
                <a:lnTo>
                  <a:pt x="986" y="163"/>
                </a:lnTo>
                <a:lnTo>
                  <a:pt x="988" y="167"/>
                </a:lnTo>
                <a:lnTo>
                  <a:pt x="992" y="171"/>
                </a:lnTo>
                <a:lnTo>
                  <a:pt x="992" y="175"/>
                </a:lnTo>
                <a:lnTo>
                  <a:pt x="994" y="177"/>
                </a:lnTo>
                <a:lnTo>
                  <a:pt x="988" y="183"/>
                </a:lnTo>
                <a:lnTo>
                  <a:pt x="983" y="188"/>
                </a:lnTo>
                <a:lnTo>
                  <a:pt x="979" y="194"/>
                </a:lnTo>
                <a:lnTo>
                  <a:pt x="973" y="200"/>
                </a:lnTo>
                <a:lnTo>
                  <a:pt x="969" y="208"/>
                </a:lnTo>
                <a:lnTo>
                  <a:pt x="963" y="213"/>
                </a:lnTo>
                <a:lnTo>
                  <a:pt x="958" y="219"/>
                </a:lnTo>
                <a:lnTo>
                  <a:pt x="954" y="225"/>
                </a:lnTo>
                <a:lnTo>
                  <a:pt x="948" y="227"/>
                </a:lnTo>
                <a:lnTo>
                  <a:pt x="944" y="233"/>
                </a:lnTo>
                <a:lnTo>
                  <a:pt x="938" y="238"/>
                </a:lnTo>
                <a:lnTo>
                  <a:pt x="933" y="246"/>
                </a:lnTo>
                <a:lnTo>
                  <a:pt x="929" y="256"/>
                </a:lnTo>
                <a:lnTo>
                  <a:pt x="923" y="267"/>
                </a:lnTo>
                <a:lnTo>
                  <a:pt x="919" y="281"/>
                </a:lnTo>
                <a:lnTo>
                  <a:pt x="913" y="296"/>
                </a:lnTo>
                <a:lnTo>
                  <a:pt x="908" y="311"/>
                </a:lnTo>
                <a:lnTo>
                  <a:pt x="904" y="330"/>
                </a:lnTo>
                <a:lnTo>
                  <a:pt x="898" y="350"/>
                </a:lnTo>
                <a:lnTo>
                  <a:pt x="894" y="371"/>
                </a:lnTo>
                <a:lnTo>
                  <a:pt x="888" y="394"/>
                </a:lnTo>
                <a:lnTo>
                  <a:pt x="883" y="419"/>
                </a:lnTo>
                <a:lnTo>
                  <a:pt x="879" y="446"/>
                </a:lnTo>
                <a:lnTo>
                  <a:pt x="873" y="472"/>
                </a:lnTo>
                <a:lnTo>
                  <a:pt x="869" y="501"/>
                </a:lnTo>
                <a:lnTo>
                  <a:pt x="864" y="528"/>
                </a:lnTo>
                <a:lnTo>
                  <a:pt x="860" y="555"/>
                </a:lnTo>
                <a:lnTo>
                  <a:pt x="854" y="580"/>
                </a:lnTo>
                <a:lnTo>
                  <a:pt x="848" y="605"/>
                </a:lnTo>
                <a:lnTo>
                  <a:pt x="844" y="628"/>
                </a:lnTo>
                <a:lnTo>
                  <a:pt x="839" y="649"/>
                </a:lnTo>
                <a:lnTo>
                  <a:pt x="835" y="672"/>
                </a:lnTo>
                <a:lnTo>
                  <a:pt x="829" y="691"/>
                </a:lnTo>
                <a:lnTo>
                  <a:pt x="823" y="712"/>
                </a:lnTo>
                <a:lnTo>
                  <a:pt x="819" y="732"/>
                </a:lnTo>
                <a:lnTo>
                  <a:pt x="814" y="749"/>
                </a:lnTo>
                <a:lnTo>
                  <a:pt x="810" y="768"/>
                </a:lnTo>
                <a:lnTo>
                  <a:pt x="804" y="783"/>
                </a:lnTo>
                <a:lnTo>
                  <a:pt x="800" y="801"/>
                </a:lnTo>
                <a:lnTo>
                  <a:pt x="794" y="816"/>
                </a:lnTo>
                <a:lnTo>
                  <a:pt x="785" y="847"/>
                </a:lnTo>
                <a:lnTo>
                  <a:pt x="771" y="878"/>
                </a:lnTo>
                <a:lnTo>
                  <a:pt x="760" y="904"/>
                </a:lnTo>
                <a:lnTo>
                  <a:pt x="746" y="931"/>
                </a:lnTo>
                <a:lnTo>
                  <a:pt x="733" y="958"/>
                </a:lnTo>
                <a:lnTo>
                  <a:pt x="718" y="983"/>
                </a:lnTo>
                <a:lnTo>
                  <a:pt x="702" y="1006"/>
                </a:lnTo>
                <a:lnTo>
                  <a:pt x="689" y="10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Freeform 87"/>
          <p:cNvSpPr/>
          <p:nvPr/>
        </p:nvSpPr>
        <p:spPr>
          <a:xfrm>
            <a:off x="6732720" y="2359080"/>
            <a:ext cx="484200" cy="446040"/>
          </a:xfrm>
          <a:custGeom>
            <a:avLst/>
            <a:gdLst/>
            <a:ahLst/>
            <a:rect l="l" t="t" r="r" b="b"/>
            <a:pathLst>
              <a:path w="611" h="563">
                <a:moveTo>
                  <a:pt x="200" y="350"/>
                </a:moveTo>
                <a:lnTo>
                  <a:pt x="223" y="319"/>
                </a:lnTo>
                <a:lnTo>
                  <a:pt x="246" y="288"/>
                </a:lnTo>
                <a:lnTo>
                  <a:pt x="256" y="275"/>
                </a:lnTo>
                <a:lnTo>
                  <a:pt x="267" y="261"/>
                </a:lnTo>
                <a:lnTo>
                  <a:pt x="277" y="248"/>
                </a:lnTo>
                <a:lnTo>
                  <a:pt x="285" y="235"/>
                </a:lnTo>
                <a:lnTo>
                  <a:pt x="294" y="223"/>
                </a:lnTo>
                <a:lnTo>
                  <a:pt x="302" y="210"/>
                </a:lnTo>
                <a:lnTo>
                  <a:pt x="308" y="198"/>
                </a:lnTo>
                <a:lnTo>
                  <a:pt x="315" y="189"/>
                </a:lnTo>
                <a:lnTo>
                  <a:pt x="321" y="177"/>
                </a:lnTo>
                <a:lnTo>
                  <a:pt x="325" y="167"/>
                </a:lnTo>
                <a:lnTo>
                  <a:pt x="329" y="158"/>
                </a:lnTo>
                <a:lnTo>
                  <a:pt x="332" y="148"/>
                </a:lnTo>
                <a:lnTo>
                  <a:pt x="336" y="135"/>
                </a:lnTo>
                <a:lnTo>
                  <a:pt x="338" y="121"/>
                </a:lnTo>
                <a:lnTo>
                  <a:pt x="340" y="110"/>
                </a:lnTo>
                <a:lnTo>
                  <a:pt x="340" y="98"/>
                </a:lnTo>
                <a:lnTo>
                  <a:pt x="338" y="93"/>
                </a:lnTo>
                <a:lnTo>
                  <a:pt x="338" y="87"/>
                </a:lnTo>
                <a:lnTo>
                  <a:pt x="336" y="83"/>
                </a:lnTo>
                <a:lnTo>
                  <a:pt x="334" y="77"/>
                </a:lnTo>
                <a:lnTo>
                  <a:pt x="331" y="73"/>
                </a:lnTo>
                <a:lnTo>
                  <a:pt x="327" y="70"/>
                </a:lnTo>
                <a:lnTo>
                  <a:pt x="323" y="68"/>
                </a:lnTo>
                <a:lnTo>
                  <a:pt x="319" y="66"/>
                </a:lnTo>
                <a:lnTo>
                  <a:pt x="311" y="62"/>
                </a:lnTo>
                <a:lnTo>
                  <a:pt x="306" y="60"/>
                </a:lnTo>
                <a:lnTo>
                  <a:pt x="300" y="56"/>
                </a:lnTo>
                <a:lnTo>
                  <a:pt x="296" y="54"/>
                </a:lnTo>
                <a:lnTo>
                  <a:pt x="292" y="50"/>
                </a:lnTo>
                <a:lnTo>
                  <a:pt x="288" y="48"/>
                </a:lnTo>
                <a:lnTo>
                  <a:pt x="286" y="45"/>
                </a:lnTo>
                <a:lnTo>
                  <a:pt x="285" y="41"/>
                </a:lnTo>
                <a:lnTo>
                  <a:pt x="285" y="39"/>
                </a:lnTo>
                <a:lnTo>
                  <a:pt x="285" y="35"/>
                </a:lnTo>
                <a:lnTo>
                  <a:pt x="285" y="31"/>
                </a:lnTo>
                <a:lnTo>
                  <a:pt x="285" y="29"/>
                </a:lnTo>
                <a:lnTo>
                  <a:pt x="288" y="23"/>
                </a:lnTo>
                <a:lnTo>
                  <a:pt x="292" y="18"/>
                </a:lnTo>
                <a:lnTo>
                  <a:pt x="294" y="16"/>
                </a:lnTo>
                <a:lnTo>
                  <a:pt x="298" y="14"/>
                </a:lnTo>
                <a:lnTo>
                  <a:pt x="302" y="12"/>
                </a:lnTo>
                <a:lnTo>
                  <a:pt x="308" y="10"/>
                </a:lnTo>
                <a:lnTo>
                  <a:pt x="311" y="8"/>
                </a:lnTo>
                <a:lnTo>
                  <a:pt x="317" y="6"/>
                </a:lnTo>
                <a:lnTo>
                  <a:pt x="325" y="4"/>
                </a:lnTo>
                <a:lnTo>
                  <a:pt x="332" y="2"/>
                </a:lnTo>
                <a:lnTo>
                  <a:pt x="340" y="2"/>
                </a:lnTo>
                <a:lnTo>
                  <a:pt x="348" y="0"/>
                </a:lnTo>
                <a:lnTo>
                  <a:pt x="357" y="0"/>
                </a:lnTo>
                <a:lnTo>
                  <a:pt x="367" y="0"/>
                </a:lnTo>
                <a:lnTo>
                  <a:pt x="377" y="0"/>
                </a:lnTo>
                <a:lnTo>
                  <a:pt x="388" y="2"/>
                </a:lnTo>
                <a:lnTo>
                  <a:pt x="400" y="4"/>
                </a:lnTo>
                <a:lnTo>
                  <a:pt x="411" y="6"/>
                </a:lnTo>
                <a:lnTo>
                  <a:pt x="430" y="10"/>
                </a:lnTo>
                <a:lnTo>
                  <a:pt x="452" y="18"/>
                </a:lnTo>
                <a:lnTo>
                  <a:pt x="471" y="23"/>
                </a:lnTo>
                <a:lnTo>
                  <a:pt x="490" y="33"/>
                </a:lnTo>
                <a:lnTo>
                  <a:pt x="507" y="41"/>
                </a:lnTo>
                <a:lnTo>
                  <a:pt x="524" y="52"/>
                </a:lnTo>
                <a:lnTo>
                  <a:pt x="542" y="64"/>
                </a:lnTo>
                <a:lnTo>
                  <a:pt x="557" y="77"/>
                </a:lnTo>
                <a:lnTo>
                  <a:pt x="565" y="83"/>
                </a:lnTo>
                <a:lnTo>
                  <a:pt x="571" y="91"/>
                </a:lnTo>
                <a:lnTo>
                  <a:pt x="576" y="96"/>
                </a:lnTo>
                <a:lnTo>
                  <a:pt x="582" y="102"/>
                </a:lnTo>
                <a:lnTo>
                  <a:pt x="586" y="108"/>
                </a:lnTo>
                <a:lnTo>
                  <a:pt x="592" y="114"/>
                </a:lnTo>
                <a:lnTo>
                  <a:pt x="595" y="119"/>
                </a:lnTo>
                <a:lnTo>
                  <a:pt x="597" y="125"/>
                </a:lnTo>
                <a:lnTo>
                  <a:pt x="603" y="135"/>
                </a:lnTo>
                <a:lnTo>
                  <a:pt x="607" y="146"/>
                </a:lnTo>
                <a:lnTo>
                  <a:pt x="609" y="160"/>
                </a:lnTo>
                <a:lnTo>
                  <a:pt x="611" y="171"/>
                </a:lnTo>
                <a:lnTo>
                  <a:pt x="609" y="175"/>
                </a:lnTo>
                <a:lnTo>
                  <a:pt x="605" y="179"/>
                </a:lnTo>
                <a:lnTo>
                  <a:pt x="603" y="185"/>
                </a:lnTo>
                <a:lnTo>
                  <a:pt x="597" y="189"/>
                </a:lnTo>
                <a:lnTo>
                  <a:pt x="594" y="194"/>
                </a:lnTo>
                <a:lnTo>
                  <a:pt x="588" y="202"/>
                </a:lnTo>
                <a:lnTo>
                  <a:pt x="580" y="208"/>
                </a:lnTo>
                <a:lnTo>
                  <a:pt x="572" y="215"/>
                </a:lnTo>
                <a:lnTo>
                  <a:pt x="563" y="223"/>
                </a:lnTo>
                <a:lnTo>
                  <a:pt x="553" y="233"/>
                </a:lnTo>
                <a:lnTo>
                  <a:pt x="544" y="240"/>
                </a:lnTo>
                <a:lnTo>
                  <a:pt x="532" y="250"/>
                </a:lnTo>
                <a:lnTo>
                  <a:pt x="519" y="261"/>
                </a:lnTo>
                <a:lnTo>
                  <a:pt x="505" y="271"/>
                </a:lnTo>
                <a:lnTo>
                  <a:pt x="492" y="283"/>
                </a:lnTo>
                <a:lnTo>
                  <a:pt x="476" y="294"/>
                </a:lnTo>
                <a:lnTo>
                  <a:pt x="461" y="308"/>
                </a:lnTo>
                <a:lnTo>
                  <a:pt x="444" y="321"/>
                </a:lnTo>
                <a:lnTo>
                  <a:pt x="427" y="334"/>
                </a:lnTo>
                <a:lnTo>
                  <a:pt x="407" y="348"/>
                </a:lnTo>
                <a:lnTo>
                  <a:pt x="388" y="363"/>
                </a:lnTo>
                <a:lnTo>
                  <a:pt x="367" y="379"/>
                </a:lnTo>
                <a:lnTo>
                  <a:pt x="344" y="394"/>
                </a:lnTo>
                <a:lnTo>
                  <a:pt x="323" y="409"/>
                </a:lnTo>
                <a:lnTo>
                  <a:pt x="298" y="427"/>
                </a:lnTo>
                <a:lnTo>
                  <a:pt x="275" y="444"/>
                </a:lnTo>
                <a:lnTo>
                  <a:pt x="248" y="463"/>
                </a:lnTo>
                <a:lnTo>
                  <a:pt x="223" y="482"/>
                </a:lnTo>
                <a:lnTo>
                  <a:pt x="194" y="501"/>
                </a:lnTo>
                <a:lnTo>
                  <a:pt x="166" y="521"/>
                </a:lnTo>
                <a:lnTo>
                  <a:pt x="137" y="542"/>
                </a:lnTo>
                <a:lnTo>
                  <a:pt x="106" y="563"/>
                </a:lnTo>
                <a:lnTo>
                  <a:pt x="54" y="563"/>
                </a:lnTo>
                <a:lnTo>
                  <a:pt x="0" y="563"/>
                </a:lnTo>
                <a:lnTo>
                  <a:pt x="25" y="540"/>
                </a:lnTo>
                <a:lnTo>
                  <a:pt x="50" y="515"/>
                </a:lnTo>
                <a:lnTo>
                  <a:pt x="75" y="490"/>
                </a:lnTo>
                <a:lnTo>
                  <a:pt x="100" y="465"/>
                </a:lnTo>
                <a:lnTo>
                  <a:pt x="125" y="438"/>
                </a:lnTo>
                <a:lnTo>
                  <a:pt x="150" y="409"/>
                </a:lnTo>
                <a:lnTo>
                  <a:pt x="175" y="381"/>
                </a:lnTo>
                <a:lnTo>
                  <a:pt x="200" y="35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88"/>
          <p:cNvSpPr/>
          <p:nvPr/>
        </p:nvSpPr>
        <p:spPr>
          <a:xfrm>
            <a:off x="5554800" y="2757600"/>
            <a:ext cx="923760" cy="1428480"/>
          </a:xfrm>
          <a:custGeom>
            <a:avLst/>
            <a:gdLst/>
            <a:ahLst/>
            <a:rect l="l" t="t" r="r" b="b"/>
            <a:pathLst>
              <a:path w="1165" h="1801">
                <a:moveTo>
                  <a:pt x="119" y="142"/>
                </a:moveTo>
                <a:lnTo>
                  <a:pt x="113" y="131"/>
                </a:lnTo>
                <a:lnTo>
                  <a:pt x="109" y="121"/>
                </a:lnTo>
                <a:lnTo>
                  <a:pt x="105" y="112"/>
                </a:lnTo>
                <a:lnTo>
                  <a:pt x="101" y="102"/>
                </a:lnTo>
                <a:lnTo>
                  <a:pt x="98" y="92"/>
                </a:lnTo>
                <a:lnTo>
                  <a:pt x="96" y="85"/>
                </a:lnTo>
                <a:lnTo>
                  <a:pt x="90" y="69"/>
                </a:lnTo>
                <a:lnTo>
                  <a:pt x="88" y="62"/>
                </a:lnTo>
                <a:lnTo>
                  <a:pt x="88" y="56"/>
                </a:lnTo>
                <a:lnTo>
                  <a:pt x="86" y="50"/>
                </a:lnTo>
                <a:lnTo>
                  <a:pt x="86" y="45"/>
                </a:lnTo>
                <a:lnTo>
                  <a:pt x="88" y="39"/>
                </a:lnTo>
                <a:lnTo>
                  <a:pt x="88" y="33"/>
                </a:lnTo>
                <a:lnTo>
                  <a:pt x="90" y="29"/>
                </a:lnTo>
                <a:lnTo>
                  <a:pt x="92" y="23"/>
                </a:lnTo>
                <a:lnTo>
                  <a:pt x="92" y="21"/>
                </a:lnTo>
                <a:lnTo>
                  <a:pt x="94" y="20"/>
                </a:lnTo>
                <a:lnTo>
                  <a:pt x="94" y="18"/>
                </a:lnTo>
                <a:lnTo>
                  <a:pt x="96" y="16"/>
                </a:lnTo>
                <a:lnTo>
                  <a:pt x="99" y="14"/>
                </a:lnTo>
                <a:lnTo>
                  <a:pt x="101" y="12"/>
                </a:lnTo>
                <a:lnTo>
                  <a:pt x="105" y="10"/>
                </a:lnTo>
                <a:lnTo>
                  <a:pt x="109" y="8"/>
                </a:lnTo>
                <a:lnTo>
                  <a:pt x="119" y="4"/>
                </a:lnTo>
                <a:lnTo>
                  <a:pt x="130" y="2"/>
                </a:lnTo>
                <a:lnTo>
                  <a:pt x="144" y="0"/>
                </a:lnTo>
                <a:lnTo>
                  <a:pt x="159" y="0"/>
                </a:lnTo>
                <a:lnTo>
                  <a:pt x="174" y="0"/>
                </a:lnTo>
                <a:lnTo>
                  <a:pt x="190" y="2"/>
                </a:lnTo>
                <a:lnTo>
                  <a:pt x="209" y="4"/>
                </a:lnTo>
                <a:lnTo>
                  <a:pt x="228" y="8"/>
                </a:lnTo>
                <a:lnTo>
                  <a:pt x="249" y="14"/>
                </a:lnTo>
                <a:lnTo>
                  <a:pt x="270" y="20"/>
                </a:lnTo>
                <a:lnTo>
                  <a:pt x="293" y="27"/>
                </a:lnTo>
                <a:lnTo>
                  <a:pt x="316" y="37"/>
                </a:lnTo>
                <a:lnTo>
                  <a:pt x="316" y="117"/>
                </a:lnTo>
                <a:lnTo>
                  <a:pt x="316" y="196"/>
                </a:lnTo>
                <a:lnTo>
                  <a:pt x="316" y="275"/>
                </a:lnTo>
                <a:lnTo>
                  <a:pt x="314" y="352"/>
                </a:lnTo>
                <a:lnTo>
                  <a:pt x="313" y="425"/>
                </a:lnTo>
                <a:lnTo>
                  <a:pt x="313" y="499"/>
                </a:lnTo>
                <a:lnTo>
                  <a:pt x="311" y="570"/>
                </a:lnTo>
                <a:lnTo>
                  <a:pt x="309" y="640"/>
                </a:lnTo>
                <a:lnTo>
                  <a:pt x="307" y="707"/>
                </a:lnTo>
                <a:lnTo>
                  <a:pt x="305" y="774"/>
                </a:lnTo>
                <a:lnTo>
                  <a:pt x="303" y="839"/>
                </a:lnTo>
                <a:lnTo>
                  <a:pt x="301" y="901"/>
                </a:lnTo>
                <a:lnTo>
                  <a:pt x="297" y="962"/>
                </a:lnTo>
                <a:lnTo>
                  <a:pt x="295" y="1022"/>
                </a:lnTo>
                <a:lnTo>
                  <a:pt x="293" y="1081"/>
                </a:lnTo>
                <a:lnTo>
                  <a:pt x="291" y="1137"/>
                </a:lnTo>
                <a:lnTo>
                  <a:pt x="288" y="1164"/>
                </a:lnTo>
                <a:lnTo>
                  <a:pt x="286" y="1190"/>
                </a:lnTo>
                <a:lnTo>
                  <a:pt x="284" y="1215"/>
                </a:lnTo>
                <a:lnTo>
                  <a:pt x="282" y="1240"/>
                </a:lnTo>
                <a:lnTo>
                  <a:pt x="280" y="1263"/>
                </a:lnTo>
                <a:lnTo>
                  <a:pt x="278" y="1286"/>
                </a:lnTo>
                <a:lnTo>
                  <a:pt x="276" y="1309"/>
                </a:lnTo>
                <a:lnTo>
                  <a:pt x="274" y="1331"/>
                </a:lnTo>
                <a:lnTo>
                  <a:pt x="272" y="1350"/>
                </a:lnTo>
                <a:lnTo>
                  <a:pt x="270" y="1371"/>
                </a:lnTo>
                <a:lnTo>
                  <a:pt x="268" y="1388"/>
                </a:lnTo>
                <a:lnTo>
                  <a:pt x="266" y="1405"/>
                </a:lnTo>
                <a:lnTo>
                  <a:pt x="266" y="1423"/>
                </a:lnTo>
                <a:lnTo>
                  <a:pt x="265" y="1438"/>
                </a:lnTo>
                <a:lnTo>
                  <a:pt x="263" y="1453"/>
                </a:lnTo>
                <a:lnTo>
                  <a:pt x="263" y="1469"/>
                </a:lnTo>
                <a:lnTo>
                  <a:pt x="261" y="1482"/>
                </a:lnTo>
                <a:lnTo>
                  <a:pt x="261" y="1494"/>
                </a:lnTo>
                <a:lnTo>
                  <a:pt x="261" y="1507"/>
                </a:lnTo>
                <a:lnTo>
                  <a:pt x="259" y="1517"/>
                </a:lnTo>
                <a:lnTo>
                  <a:pt x="259" y="1528"/>
                </a:lnTo>
                <a:lnTo>
                  <a:pt x="259" y="1536"/>
                </a:lnTo>
                <a:lnTo>
                  <a:pt x="259" y="1546"/>
                </a:lnTo>
                <a:lnTo>
                  <a:pt x="259" y="1553"/>
                </a:lnTo>
                <a:lnTo>
                  <a:pt x="259" y="1561"/>
                </a:lnTo>
                <a:lnTo>
                  <a:pt x="259" y="1567"/>
                </a:lnTo>
                <a:lnTo>
                  <a:pt x="261" y="1572"/>
                </a:lnTo>
                <a:lnTo>
                  <a:pt x="261" y="1576"/>
                </a:lnTo>
                <a:lnTo>
                  <a:pt x="261" y="1580"/>
                </a:lnTo>
                <a:lnTo>
                  <a:pt x="263" y="1584"/>
                </a:lnTo>
                <a:lnTo>
                  <a:pt x="263" y="1586"/>
                </a:lnTo>
                <a:lnTo>
                  <a:pt x="265" y="1588"/>
                </a:lnTo>
                <a:lnTo>
                  <a:pt x="266" y="1588"/>
                </a:lnTo>
                <a:lnTo>
                  <a:pt x="268" y="1590"/>
                </a:lnTo>
                <a:lnTo>
                  <a:pt x="270" y="1590"/>
                </a:lnTo>
                <a:lnTo>
                  <a:pt x="274" y="1590"/>
                </a:lnTo>
                <a:lnTo>
                  <a:pt x="278" y="1592"/>
                </a:lnTo>
                <a:lnTo>
                  <a:pt x="282" y="1592"/>
                </a:lnTo>
                <a:lnTo>
                  <a:pt x="288" y="1592"/>
                </a:lnTo>
                <a:lnTo>
                  <a:pt x="293" y="1592"/>
                </a:lnTo>
                <a:lnTo>
                  <a:pt x="301" y="1592"/>
                </a:lnTo>
                <a:lnTo>
                  <a:pt x="307" y="1592"/>
                </a:lnTo>
                <a:lnTo>
                  <a:pt x="314" y="1590"/>
                </a:lnTo>
                <a:lnTo>
                  <a:pt x="324" y="1590"/>
                </a:lnTo>
                <a:lnTo>
                  <a:pt x="332" y="1590"/>
                </a:lnTo>
                <a:lnTo>
                  <a:pt x="341" y="1588"/>
                </a:lnTo>
                <a:lnTo>
                  <a:pt x="353" y="1588"/>
                </a:lnTo>
                <a:lnTo>
                  <a:pt x="362" y="1586"/>
                </a:lnTo>
                <a:lnTo>
                  <a:pt x="374" y="1584"/>
                </a:lnTo>
                <a:lnTo>
                  <a:pt x="387" y="1582"/>
                </a:lnTo>
                <a:lnTo>
                  <a:pt x="399" y="1580"/>
                </a:lnTo>
                <a:lnTo>
                  <a:pt x="412" y="1578"/>
                </a:lnTo>
                <a:lnTo>
                  <a:pt x="428" y="1576"/>
                </a:lnTo>
                <a:lnTo>
                  <a:pt x="441" y="1574"/>
                </a:lnTo>
                <a:lnTo>
                  <a:pt x="457" y="1572"/>
                </a:lnTo>
                <a:lnTo>
                  <a:pt x="474" y="1569"/>
                </a:lnTo>
                <a:lnTo>
                  <a:pt x="489" y="1567"/>
                </a:lnTo>
                <a:lnTo>
                  <a:pt x="506" y="1563"/>
                </a:lnTo>
                <a:lnTo>
                  <a:pt x="524" y="1559"/>
                </a:lnTo>
                <a:lnTo>
                  <a:pt x="543" y="1555"/>
                </a:lnTo>
                <a:lnTo>
                  <a:pt x="562" y="1551"/>
                </a:lnTo>
                <a:lnTo>
                  <a:pt x="581" y="1547"/>
                </a:lnTo>
                <a:lnTo>
                  <a:pt x="600" y="1544"/>
                </a:lnTo>
                <a:lnTo>
                  <a:pt x="622" y="1540"/>
                </a:lnTo>
                <a:lnTo>
                  <a:pt x="643" y="1534"/>
                </a:lnTo>
                <a:lnTo>
                  <a:pt x="664" y="1530"/>
                </a:lnTo>
                <a:lnTo>
                  <a:pt x="683" y="1526"/>
                </a:lnTo>
                <a:lnTo>
                  <a:pt x="702" y="1523"/>
                </a:lnTo>
                <a:lnTo>
                  <a:pt x="719" y="1519"/>
                </a:lnTo>
                <a:lnTo>
                  <a:pt x="737" y="1515"/>
                </a:lnTo>
                <a:lnTo>
                  <a:pt x="754" y="1511"/>
                </a:lnTo>
                <a:lnTo>
                  <a:pt x="771" y="1507"/>
                </a:lnTo>
                <a:lnTo>
                  <a:pt x="787" y="1505"/>
                </a:lnTo>
                <a:lnTo>
                  <a:pt x="802" y="1501"/>
                </a:lnTo>
                <a:lnTo>
                  <a:pt x="817" y="1500"/>
                </a:lnTo>
                <a:lnTo>
                  <a:pt x="831" y="1496"/>
                </a:lnTo>
                <a:lnTo>
                  <a:pt x="844" y="1494"/>
                </a:lnTo>
                <a:lnTo>
                  <a:pt x="858" y="1490"/>
                </a:lnTo>
                <a:lnTo>
                  <a:pt x="869" y="1488"/>
                </a:lnTo>
                <a:lnTo>
                  <a:pt x="881" y="1486"/>
                </a:lnTo>
                <a:lnTo>
                  <a:pt x="890" y="1484"/>
                </a:lnTo>
                <a:lnTo>
                  <a:pt x="902" y="1482"/>
                </a:lnTo>
                <a:lnTo>
                  <a:pt x="911" y="1480"/>
                </a:lnTo>
                <a:lnTo>
                  <a:pt x="921" y="1478"/>
                </a:lnTo>
                <a:lnTo>
                  <a:pt x="929" y="1476"/>
                </a:lnTo>
                <a:lnTo>
                  <a:pt x="936" y="1475"/>
                </a:lnTo>
                <a:lnTo>
                  <a:pt x="944" y="1475"/>
                </a:lnTo>
                <a:lnTo>
                  <a:pt x="950" y="1473"/>
                </a:lnTo>
                <a:lnTo>
                  <a:pt x="956" y="1473"/>
                </a:lnTo>
                <a:lnTo>
                  <a:pt x="961" y="1471"/>
                </a:lnTo>
                <a:lnTo>
                  <a:pt x="965" y="1471"/>
                </a:lnTo>
                <a:lnTo>
                  <a:pt x="969" y="1469"/>
                </a:lnTo>
                <a:lnTo>
                  <a:pt x="973" y="1469"/>
                </a:lnTo>
                <a:lnTo>
                  <a:pt x="977" y="1469"/>
                </a:lnTo>
                <a:lnTo>
                  <a:pt x="979" y="1469"/>
                </a:lnTo>
                <a:lnTo>
                  <a:pt x="981" y="1469"/>
                </a:lnTo>
                <a:lnTo>
                  <a:pt x="982" y="1469"/>
                </a:lnTo>
                <a:lnTo>
                  <a:pt x="986" y="1469"/>
                </a:lnTo>
                <a:lnTo>
                  <a:pt x="990" y="1469"/>
                </a:lnTo>
                <a:lnTo>
                  <a:pt x="994" y="1471"/>
                </a:lnTo>
                <a:lnTo>
                  <a:pt x="1000" y="1473"/>
                </a:lnTo>
                <a:lnTo>
                  <a:pt x="1005" y="1473"/>
                </a:lnTo>
                <a:lnTo>
                  <a:pt x="1011" y="1475"/>
                </a:lnTo>
                <a:lnTo>
                  <a:pt x="1017" y="1476"/>
                </a:lnTo>
                <a:lnTo>
                  <a:pt x="1032" y="1482"/>
                </a:lnTo>
                <a:lnTo>
                  <a:pt x="1050" y="1488"/>
                </a:lnTo>
                <a:lnTo>
                  <a:pt x="1067" y="1496"/>
                </a:lnTo>
                <a:lnTo>
                  <a:pt x="1086" y="1503"/>
                </a:lnTo>
                <a:lnTo>
                  <a:pt x="1096" y="1511"/>
                </a:lnTo>
                <a:lnTo>
                  <a:pt x="1103" y="1517"/>
                </a:lnTo>
                <a:lnTo>
                  <a:pt x="1113" y="1523"/>
                </a:lnTo>
                <a:lnTo>
                  <a:pt x="1121" y="1528"/>
                </a:lnTo>
                <a:lnTo>
                  <a:pt x="1128" y="1534"/>
                </a:lnTo>
                <a:lnTo>
                  <a:pt x="1134" y="1540"/>
                </a:lnTo>
                <a:lnTo>
                  <a:pt x="1140" y="1544"/>
                </a:lnTo>
                <a:lnTo>
                  <a:pt x="1146" y="1549"/>
                </a:lnTo>
                <a:lnTo>
                  <a:pt x="1149" y="1553"/>
                </a:lnTo>
                <a:lnTo>
                  <a:pt x="1153" y="1557"/>
                </a:lnTo>
                <a:lnTo>
                  <a:pt x="1157" y="1561"/>
                </a:lnTo>
                <a:lnTo>
                  <a:pt x="1161" y="1565"/>
                </a:lnTo>
                <a:lnTo>
                  <a:pt x="1163" y="1567"/>
                </a:lnTo>
                <a:lnTo>
                  <a:pt x="1165" y="1571"/>
                </a:lnTo>
                <a:lnTo>
                  <a:pt x="1165" y="1572"/>
                </a:lnTo>
                <a:lnTo>
                  <a:pt x="1165" y="1574"/>
                </a:lnTo>
                <a:lnTo>
                  <a:pt x="1165" y="1580"/>
                </a:lnTo>
                <a:lnTo>
                  <a:pt x="1163" y="1584"/>
                </a:lnTo>
                <a:lnTo>
                  <a:pt x="1161" y="1588"/>
                </a:lnTo>
                <a:lnTo>
                  <a:pt x="1157" y="1590"/>
                </a:lnTo>
                <a:lnTo>
                  <a:pt x="1153" y="1594"/>
                </a:lnTo>
                <a:lnTo>
                  <a:pt x="1149" y="1597"/>
                </a:lnTo>
                <a:lnTo>
                  <a:pt x="1144" y="1599"/>
                </a:lnTo>
                <a:lnTo>
                  <a:pt x="1138" y="1601"/>
                </a:lnTo>
                <a:lnTo>
                  <a:pt x="1130" y="1603"/>
                </a:lnTo>
                <a:lnTo>
                  <a:pt x="1123" y="1605"/>
                </a:lnTo>
                <a:lnTo>
                  <a:pt x="1113" y="1607"/>
                </a:lnTo>
                <a:lnTo>
                  <a:pt x="1103" y="1609"/>
                </a:lnTo>
                <a:lnTo>
                  <a:pt x="1094" y="1609"/>
                </a:lnTo>
                <a:lnTo>
                  <a:pt x="1082" y="1609"/>
                </a:lnTo>
                <a:lnTo>
                  <a:pt x="1071" y="1611"/>
                </a:lnTo>
                <a:lnTo>
                  <a:pt x="1059" y="1611"/>
                </a:lnTo>
                <a:lnTo>
                  <a:pt x="1034" y="1611"/>
                </a:lnTo>
                <a:lnTo>
                  <a:pt x="1007" y="1611"/>
                </a:lnTo>
                <a:lnTo>
                  <a:pt x="981" y="1611"/>
                </a:lnTo>
                <a:lnTo>
                  <a:pt x="954" y="1613"/>
                </a:lnTo>
                <a:lnTo>
                  <a:pt x="927" y="1613"/>
                </a:lnTo>
                <a:lnTo>
                  <a:pt x="898" y="1615"/>
                </a:lnTo>
                <a:lnTo>
                  <a:pt x="873" y="1619"/>
                </a:lnTo>
                <a:lnTo>
                  <a:pt x="848" y="1622"/>
                </a:lnTo>
                <a:lnTo>
                  <a:pt x="835" y="1624"/>
                </a:lnTo>
                <a:lnTo>
                  <a:pt x="821" y="1628"/>
                </a:lnTo>
                <a:lnTo>
                  <a:pt x="806" y="1630"/>
                </a:lnTo>
                <a:lnTo>
                  <a:pt x="791" y="1634"/>
                </a:lnTo>
                <a:lnTo>
                  <a:pt x="773" y="1636"/>
                </a:lnTo>
                <a:lnTo>
                  <a:pt x="756" y="1640"/>
                </a:lnTo>
                <a:lnTo>
                  <a:pt x="737" y="1643"/>
                </a:lnTo>
                <a:lnTo>
                  <a:pt x="718" y="1645"/>
                </a:lnTo>
                <a:lnTo>
                  <a:pt x="698" y="1649"/>
                </a:lnTo>
                <a:lnTo>
                  <a:pt x="677" y="1653"/>
                </a:lnTo>
                <a:lnTo>
                  <a:pt x="654" y="1657"/>
                </a:lnTo>
                <a:lnTo>
                  <a:pt x="631" y="1659"/>
                </a:lnTo>
                <a:lnTo>
                  <a:pt x="606" y="1663"/>
                </a:lnTo>
                <a:lnTo>
                  <a:pt x="581" y="1665"/>
                </a:lnTo>
                <a:lnTo>
                  <a:pt x="556" y="1668"/>
                </a:lnTo>
                <a:lnTo>
                  <a:pt x="529" y="1670"/>
                </a:lnTo>
                <a:lnTo>
                  <a:pt x="503" y="1674"/>
                </a:lnTo>
                <a:lnTo>
                  <a:pt x="478" y="1678"/>
                </a:lnTo>
                <a:lnTo>
                  <a:pt x="453" y="1684"/>
                </a:lnTo>
                <a:lnTo>
                  <a:pt x="430" y="1688"/>
                </a:lnTo>
                <a:lnTo>
                  <a:pt x="407" y="1693"/>
                </a:lnTo>
                <a:lnTo>
                  <a:pt x="387" y="1697"/>
                </a:lnTo>
                <a:lnTo>
                  <a:pt x="366" y="1701"/>
                </a:lnTo>
                <a:lnTo>
                  <a:pt x="349" y="1707"/>
                </a:lnTo>
                <a:lnTo>
                  <a:pt x="332" y="1713"/>
                </a:lnTo>
                <a:lnTo>
                  <a:pt x="314" y="1716"/>
                </a:lnTo>
                <a:lnTo>
                  <a:pt x="299" y="1722"/>
                </a:lnTo>
                <a:lnTo>
                  <a:pt x="286" y="1728"/>
                </a:lnTo>
                <a:lnTo>
                  <a:pt x="272" y="1734"/>
                </a:lnTo>
                <a:lnTo>
                  <a:pt x="259" y="1739"/>
                </a:lnTo>
                <a:lnTo>
                  <a:pt x="247" y="1745"/>
                </a:lnTo>
                <a:lnTo>
                  <a:pt x="238" y="1753"/>
                </a:lnTo>
                <a:lnTo>
                  <a:pt x="226" y="1759"/>
                </a:lnTo>
                <a:lnTo>
                  <a:pt x="215" y="1764"/>
                </a:lnTo>
                <a:lnTo>
                  <a:pt x="203" y="1770"/>
                </a:lnTo>
                <a:lnTo>
                  <a:pt x="194" y="1776"/>
                </a:lnTo>
                <a:lnTo>
                  <a:pt x="184" y="1780"/>
                </a:lnTo>
                <a:lnTo>
                  <a:pt x="174" y="1784"/>
                </a:lnTo>
                <a:lnTo>
                  <a:pt x="167" y="1787"/>
                </a:lnTo>
                <a:lnTo>
                  <a:pt x="159" y="1789"/>
                </a:lnTo>
                <a:lnTo>
                  <a:pt x="151" y="1793"/>
                </a:lnTo>
                <a:lnTo>
                  <a:pt x="144" y="1795"/>
                </a:lnTo>
                <a:lnTo>
                  <a:pt x="138" y="1797"/>
                </a:lnTo>
                <a:lnTo>
                  <a:pt x="134" y="1797"/>
                </a:lnTo>
                <a:lnTo>
                  <a:pt x="128" y="1799"/>
                </a:lnTo>
                <a:lnTo>
                  <a:pt x="124" y="1799"/>
                </a:lnTo>
                <a:lnTo>
                  <a:pt x="121" y="1799"/>
                </a:lnTo>
                <a:lnTo>
                  <a:pt x="119" y="1801"/>
                </a:lnTo>
                <a:lnTo>
                  <a:pt x="115" y="1799"/>
                </a:lnTo>
                <a:lnTo>
                  <a:pt x="113" y="1799"/>
                </a:lnTo>
                <a:lnTo>
                  <a:pt x="109" y="1797"/>
                </a:lnTo>
                <a:lnTo>
                  <a:pt x="105" y="1795"/>
                </a:lnTo>
                <a:lnTo>
                  <a:pt x="101" y="1793"/>
                </a:lnTo>
                <a:lnTo>
                  <a:pt x="98" y="1791"/>
                </a:lnTo>
                <a:lnTo>
                  <a:pt x="90" y="1784"/>
                </a:lnTo>
                <a:lnTo>
                  <a:pt x="80" y="1776"/>
                </a:lnTo>
                <a:lnTo>
                  <a:pt x="71" y="1764"/>
                </a:lnTo>
                <a:lnTo>
                  <a:pt x="61" y="1753"/>
                </a:lnTo>
                <a:lnTo>
                  <a:pt x="52" y="1741"/>
                </a:lnTo>
                <a:lnTo>
                  <a:pt x="46" y="1734"/>
                </a:lnTo>
                <a:lnTo>
                  <a:pt x="38" y="1728"/>
                </a:lnTo>
                <a:lnTo>
                  <a:pt x="32" y="1722"/>
                </a:lnTo>
                <a:lnTo>
                  <a:pt x="27" y="1716"/>
                </a:lnTo>
                <a:lnTo>
                  <a:pt x="23" y="1711"/>
                </a:lnTo>
                <a:lnTo>
                  <a:pt x="17" y="1705"/>
                </a:lnTo>
                <a:lnTo>
                  <a:pt x="13" y="1699"/>
                </a:lnTo>
                <a:lnTo>
                  <a:pt x="11" y="1693"/>
                </a:lnTo>
                <a:lnTo>
                  <a:pt x="5" y="1682"/>
                </a:lnTo>
                <a:lnTo>
                  <a:pt x="2" y="1670"/>
                </a:lnTo>
                <a:lnTo>
                  <a:pt x="0" y="1659"/>
                </a:lnTo>
                <a:lnTo>
                  <a:pt x="0" y="1645"/>
                </a:lnTo>
                <a:lnTo>
                  <a:pt x="0" y="1642"/>
                </a:lnTo>
                <a:lnTo>
                  <a:pt x="0" y="1638"/>
                </a:lnTo>
                <a:lnTo>
                  <a:pt x="2" y="1632"/>
                </a:lnTo>
                <a:lnTo>
                  <a:pt x="4" y="1628"/>
                </a:lnTo>
                <a:lnTo>
                  <a:pt x="5" y="1624"/>
                </a:lnTo>
                <a:lnTo>
                  <a:pt x="9" y="1619"/>
                </a:lnTo>
                <a:lnTo>
                  <a:pt x="13" y="1615"/>
                </a:lnTo>
                <a:lnTo>
                  <a:pt x="17" y="1611"/>
                </a:lnTo>
                <a:lnTo>
                  <a:pt x="27" y="1601"/>
                </a:lnTo>
                <a:lnTo>
                  <a:pt x="38" y="1594"/>
                </a:lnTo>
                <a:lnTo>
                  <a:pt x="52" y="1584"/>
                </a:lnTo>
                <a:lnTo>
                  <a:pt x="65" y="1574"/>
                </a:lnTo>
                <a:lnTo>
                  <a:pt x="69" y="1574"/>
                </a:lnTo>
                <a:lnTo>
                  <a:pt x="73" y="1571"/>
                </a:lnTo>
                <a:lnTo>
                  <a:pt x="76" y="1569"/>
                </a:lnTo>
                <a:lnTo>
                  <a:pt x="80" y="1565"/>
                </a:lnTo>
                <a:lnTo>
                  <a:pt x="82" y="1561"/>
                </a:lnTo>
                <a:lnTo>
                  <a:pt x="86" y="1555"/>
                </a:lnTo>
                <a:lnTo>
                  <a:pt x="90" y="1549"/>
                </a:lnTo>
                <a:lnTo>
                  <a:pt x="92" y="1544"/>
                </a:lnTo>
                <a:lnTo>
                  <a:pt x="96" y="1538"/>
                </a:lnTo>
                <a:lnTo>
                  <a:pt x="99" y="1530"/>
                </a:lnTo>
                <a:lnTo>
                  <a:pt x="101" y="1521"/>
                </a:lnTo>
                <a:lnTo>
                  <a:pt x="105" y="1513"/>
                </a:lnTo>
                <a:lnTo>
                  <a:pt x="107" y="1503"/>
                </a:lnTo>
                <a:lnTo>
                  <a:pt x="109" y="1492"/>
                </a:lnTo>
                <a:lnTo>
                  <a:pt x="113" y="1482"/>
                </a:lnTo>
                <a:lnTo>
                  <a:pt x="115" y="1471"/>
                </a:lnTo>
                <a:lnTo>
                  <a:pt x="117" y="1457"/>
                </a:lnTo>
                <a:lnTo>
                  <a:pt x="121" y="1444"/>
                </a:lnTo>
                <a:lnTo>
                  <a:pt x="123" y="1430"/>
                </a:lnTo>
                <a:lnTo>
                  <a:pt x="124" y="1417"/>
                </a:lnTo>
                <a:lnTo>
                  <a:pt x="126" y="1402"/>
                </a:lnTo>
                <a:lnTo>
                  <a:pt x="128" y="1386"/>
                </a:lnTo>
                <a:lnTo>
                  <a:pt x="130" y="1371"/>
                </a:lnTo>
                <a:lnTo>
                  <a:pt x="132" y="1354"/>
                </a:lnTo>
                <a:lnTo>
                  <a:pt x="134" y="1336"/>
                </a:lnTo>
                <a:lnTo>
                  <a:pt x="136" y="1317"/>
                </a:lnTo>
                <a:lnTo>
                  <a:pt x="138" y="1300"/>
                </a:lnTo>
                <a:lnTo>
                  <a:pt x="140" y="1281"/>
                </a:lnTo>
                <a:lnTo>
                  <a:pt x="140" y="1260"/>
                </a:lnTo>
                <a:lnTo>
                  <a:pt x="142" y="1238"/>
                </a:lnTo>
                <a:lnTo>
                  <a:pt x="144" y="1217"/>
                </a:lnTo>
                <a:lnTo>
                  <a:pt x="146" y="1196"/>
                </a:lnTo>
                <a:lnTo>
                  <a:pt x="155" y="1027"/>
                </a:lnTo>
                <a:lnTo>
                  <a:pt x="159" y="943"/>
                </a:lnTo>
                <a:lnTo>
                  <a:pt x="163" y="860"/>
                </a:lnTo>
                <a:lnTo>
                  <a:pt x="167" y="778"/>
                </a:lnTo>
                <a:lnTo>
                  <a:pt x="169" y="695"/>
                </a:lnTo>
                <a:lnTo>
                  <a:pt x="171" y="613"/>
                </a:lnTo>
                <a:lnTo>
                  <a:pt x="171" y="534"/>
                </a:lnTo>
                <a:lnTo>
                  <a:pt x="171" y="513"/>
                </a:lnTo>
                <a:lnTo>
                  <a:pt x="171" y="494"/>
                </a:lnTo>
                <a:lnTo>
                  <a:pt x="171" y="474"/>
                </a:lnTo>
                <a:lnTo>
                  <a:pt x="171" y="457"/>
                </a:lnTo>
                <a:lnTo>
                  <a:pt x="171" y="440"/>
                </a:lnTo>
                <a:lnTo>
                  <a:pt x="169" y="423"/>
                </a:lnTo>
                <a:lnTo>
                  <a:pt x="169" y="405"/>
                </a:lnTo>
                <a:lnTo>
                  <a:pt x="169" y="388"/>
                </a:lnTo>
                <a:lnTo>
                  <a:pt x="167" y="373"/>
                </a:lnTo>
                <a:lnTo>
                  <a:pt x="167" y="357"/>
                </a:lnTo>
                <a:lnTo>
                  <a:pt x="167" y="342"/>
                </a:lnTo>
                <a:lnTo>
                  <a:pt x="165" y="329"/>
                </a:lnTo>
                <a:lnTo>
                  <a:pt x="163" y="315"/>
                </a:lnTo>
                <a:lnTo>
                  <a:pt x="163" y="302"/>
                </a:lnTo>
                <a:lnTo>
                  <a:pt x="161" y="288"/>
                </a:lnTo>
                <a:lnTo>
                  <a:pt x="159" y="275"/>
                </a:lnTo>
                <a:lnTo>
                  <a:pt x="157" y="263"/>
                </a:lnTo>
                <a:lnTo>
                  <a:pt x="155" y="252"/>
                </a:lnTo>
                <a:lnTo>
                  <a:pt x="155" y="240"/>
                </a:lnTo>
                <a:lnTo>
                  <a:pt x="151" y="231"/>
                </a:lnTo>
                <a:lnTo>
                  <a:pt x="149" y="221"/>
                </a:lnTo>
                <a:lnTo>
                  <a:pt x="147" y="212"/>
                </a:lnTo>
                <a:lnTo>
                  <a:pt x="146" y="202"/>
                </a:lnTo>
                <a:lnTo>
                  <a:pt x="144" y="194"/>
                </a:lnTo>
                <a:lnTo>
                  <a:pt x="140" y="185"/>
                </a:lnTo>
                <a:lnTo>
                  <a:pt x="138" y="177"/>
                </a:lnTo>
                <a:lnTo>
                  <a:pt x="134" y="171"/>
                </a:lnTo>
                <a:lnTo>
                  <a:pt x="132" y="164"/>
                </a:lnTo>
                <a:lnTo>
                  <a:pt x="128" y="158"/>
                </a:lnTo>
                <a:lnTo>
                  <a:pt x="124" y="152"/>
                </a:lnTo>
                <a:lnTo>
                  <a:pt x="123" y="146"/>
                </a:lnTo>
                <a:lnTo>
                  <a:pt x="119" y="14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89"/>
          <p:cNvSpPr/>
          <p:nvPr/>
        </p:nvSpPr>
        <p:spPr>
          <a:xfrm>
            <a:off x="5888160" y="3065400"/>
            <a:ext cx="556920" cy="739800"/>
          </a:xfrm>
          <a:custGeom>
            <a:avLst/>
            <a:gdLst/>
            <a:ahLst/>
            <a:rect l="l" t="t" r="r" b="b"/>
            <a:pathLst>
              <a:path w="703" h="931">
                <a:moveTo>
                  <a:pt x="4" y="4"/>
                </a:moveTo>
                <a:lnTo>
                  <a:pt x="8" y="2"/>
                </a:lnTo>
                <a:lnTo>
                  <a:pt x="13" y="0"/>
                </a:lnTo>
                <a:lnTo>
                  <a:pt x="19" y="0"/>
                </a:lnTo>
                <a:lnTo>
                  <a:pt x="25" y="0"/>
                </a:lnTo>
                <a:lnTo>
                  <a:pt x="33" y="2"/>
                </a:lnTo>
                <a:lnTo>
                  <a:pt x="38" y="4"/>
                </a:lnTo>
                <a:lnTo>
                  <a:pt x="46" y="6"/>
                </a:lnTo>
                <a:lnTo>
                  <a:pt x="52" y="8"/>
                </a:lnTo>
                <a:lnTo>
                  <a:pt x="60" y="12"/>
                </a:lnTo>
                <a:lnTo>
                  <a:pt x="69" y="15"/>
                </a:lnTo>
                <a:lnTo>
                  <a:pt x="77" y="21"/>
                </a:lnTo>
                <a:lnTo>
                  <a:pt x="84" y="25"/>
                </a:lnTo>
                <a:lnTo>
                  <a:pt x="104" y="37"/>
                </a:lnTo>
                <a:lnTo>
                  <a:pt x="123" y="50"/>
                </a:lnTo>
                <a:lnTo>
                  <a:pt x="142" y="69"/>
                </a:lnTo>
                <a:lnTo>
                  <a:pt x="165" y="88"/>
                </a:lnTo>
                <a:lnTo>
                  <a:pt x="188" y="110"/>
                </a:lnTo>
                <a:lnTo>
                  <a:pt x="211" y="131"/>
                </a:lnTo>
                <a:lnTo>
                  <a:pt x="238" y="156"/>
                </a:lnTo>
                <a:lnTo>
                  <a:pt x="251" y="169"/>
                </a:lnTo>
                <a:lnTo>
                  <a:pt x="265" y="182"/>
                </a:lnTo>
                <a:lnTo>
                  <a:pt x="278" y="196"/>
                </a:lnTo>
                <a:lnTo>
                  <a:pt x="292" y="209"/>
                </a:lnTo>
                <a:lnTo>
                  <a:pt x="307" y="225"/>
                </a:lnTo>
                <a:lnTo>
                  <a:pt x="321" y="240"/>
                </a:lnTo>
                <a:lnTo>
                  <a:pt x="346" y="271"/>
                </a:lnTo>
                <a:lnTo>
                  <a:pt x="372" y="303"/>
                </a:lnTo>
                <a:lnTo>
                  <a:pt x="401" y="338"/>
                </a:lnTo>
                <a:lnTo>
                  <a:pt x="430" y="371"/>
                </a:lnTo>
                <a:lnTo>
                  <a:pt x="461" y="405"/>
                </a:lnTo>
                <a:lnTo>
                  <a:pt x="493" y="442"/>
                </a:lnTo>
                <a:lnTo>
                  <a:pt x="526" y="476"/>
                </a:lnTo>
                <a:lnTo>
                  <a:pt x="561" y="513"/>
                </a:lnTo>
                <a:lnTo>
                  <a:pt x="574" y="530"/>
                </a:lnTo>
                <a:lnTo>
                  <a:pt x="587" y="547"/>
                </a:lnTo>
                <a:lnTo>
                  <a:pt x="601" y="566"/>
                </a:lnTo>
                <a:lnTo>
                  <a:pt x="612" y="584"/>
                </a:lnTo>
                <a:lnTo>
                  <a:pt x="622" y="601"/>
                </a:lnTo>
                <a:lnTo>
                  <a:pt x="633" y="618"/>
                </a:lnTo>
                <a:lnTo>
                  <a:pt x="641" y="635"/>
                </a:lnTo>
                <a:lnTo>
                  <a:pt x="651" y="653"/>
                </a:lnTo>
                <a:lnTo>
                  <a:pt x="658" y="670"/>
                </a:lnTo>
                <a:lnTo>
                  <a:pt x="666" y="687"/>
                </a:lnTo>
                <a:lnTo>
                  <a:pt x="672" y="705"/>
                </a:lnTo>
                <a:lnTo>
                  <a:pt x="678" y="720"/>
                </a:lnTo>
                <a:lnTo>
                  <a:pt x="681" y="737"/>
                </a:lnTo>
                <a:lnTo>
                  <a:pt x="685" y="753"/>
                </a:lnTo>
                <a:lnTo>
                  <a:pt x="689" y="768"/>
                </a:lnTo>
                <a:lnTo>
                  <a:pt x="693" y="785"/>
                </a:lnTo>
                <a:lnTo>
                  <a:pt x="695" y="799"/>
                </a:lnTo>
                <a:lnTo>
                  <a:pt x="697" y="814"/>
                </a:lnTo>
                <a:lnTo>
                  <a:pt x="699" y="827"/>
                </a:lnTo>
                <a:lnTo>
                  <a:pt x="699" y="839"/>
                </a:lnTo>
                <a:lnTo>
                  <a:pt x="701" y="852"/>
                </a:lnTo>
                <a:lnTo>
                  <a:pt x="701" y="862"/>
                </a:lnTo>
                <a:lnTo>
                  <a:pt x="703" y="873"/>
                </a:lnTo>
                <a:lnTo>
                  <a:pt x="703" y="881"/>
                </a:lnTo>
                <a:lnTo>
                  <a:pt x="703" y="891"/>
                </a:lnTo>
                <a:lnTo>
                  <a:pt x="701" y="898"/>
                </a:lnTo>
                <a:lnTo>
                  <a:pt x="701" y="904"/>
                </a:lnTo>
                <a:lnTo>
                  <a:pt x="699" y="912"/>
                </a:lnTo>
                <a:lnTo>
                  <a:pt x="699" y="916"/>
                </a:lnTo>
                <a:lnTo>
                  <a:pt x="697" y="920"/>
                </a:lnTo>
                <a:lnTo>
                  <a:pt x="695" y="923"/>
                </a:lnTo>
                <a:lnTo>
                  <a:pt x="693" y="927"/>
                </a:lnTo>
                <a:lnTo>
                  <a:pt x="689" y="929"/>
                </a:lnTo>
                <a:lnTo>
                  <a:pt x="687" y="929"/>
                </a:lnTo>
                <a:lnTo>
                  <a:pt x="685" y="931"/>
                </a:lnTo>
                <a:lnTo>
                  <a:pt x="681" y="931"/>
                </a:lnTo>
                <a:lnTo>
                  <a:pt x="680" y="931"/>
                </a:lnTo>
                <a:lnTo>
                  <a:pt x="676" y="931"/>
                </a:lnTo>
                <a:lnTo>
                  <a:pt x="670" y="927"/>
                </a:lnTo>
                <a:lnTo>
                  <a:pt x="664" y="923"/>
                </a:lnTo>
                <a:lnTo>
                  <a:pt x="657" y="918"/>
                </a:lnTo>
                <a:lnTo>
                  <a:pt x="649" y="912"/>
                </a:lnTo>
                <a:lnTo>
                  <a:pt x="639" y="902"/>
                </a:lnTo>
                <a:lnTo>
                  <a:pt x="637" y="902"/>
                </a:lnTo>
                <a:lnTo>
                  <a:pt x="633" y="900"/>
                </a:lnTo>
                <a:lnTo>
                  <a:pt x="630" y="897"/>
                </a:lnTo>
                <a:lnTo>
                  <a:pt x="628" y="895"/>
                </a:lnTo>
                <a:lnTo>
                  <a:pt x="624" y="891"/>
                </a:lnTo>
                <a:lnTo>
                  <a:pt x="618" y="887"/>
                </a:lnTo>
                <a:lnTo>
                  <a:pt x="614" y="881"/>
                </a:lnTo>
                <a:lnTo>
                  <a:pt x="610" y="877"/>
                </a:lnTo>
                <a:lnTo>
                  <a:pt x="605" y="872"/>
                </a:lnTo>
                <a:lnTo>
                  <a:pt x="599" y="866"/>
                </a:lnTo>
                <a:lnTo>
                  <a:pt x="593" y="858"/>
                </a:lnTo>
                <a:lnTo>
                  <a:pt x="587" y="850"/>
                </a:lnTo>
                <a:lnTo>
                  <a:pt x="582" y="843"/>
                </a:lnTo>
                <a:lnTo>
                  <a:pt x="574" y="835"/>
                </a:lnTo>
                <a:lnTo>
                  <a:pt x="568" y="827"/>
                </a:lnTo>
                <a:lnTo>
                  <a:pt x="561" y="818"/>
                </a:lnTo>
                <a:lnTo>
                  <a:pt x="553" y="808"/>
                </a:lnTo>
                <a:lnTo>
                  <a:pt x="545" y="797"/>
                </a:lnTo>
                <a:lnTo>
                  <a:pt x="537" y="787"/>
                </a:lnTo>
                <a:lnTo>
                  <a:pt x="530" y="776"/>
                </a:lnTo>
                <a:lnTo>
                  <a:pt x="513" y="753"/>
                </a:lnTo>
                <a:lnTo>
                  <a:pt x="495" y="728"/>
                </a:lnTo>
                <a:lnTo>
                  <a:pt x="476" y="699"/>
                </a:lnTo>
                <a:lnTo>
                  <a:pt x="457" y="670"/>
                </a:lnTo>
                <a:lnTo>
                  <a:pt x="436" y="639"/>
                </a:lnTo>
                <a:lnTo>
                  <a:pt x="415" y="607"/>
                </a:lnTo>
                <a:lnTo>
                  <a:pt x="392" y="574"/>
                </a:lnTo>
                <a:lnTo>
                  <a:pt x="371" y="541"/>
                </a:lnTo>
                <a:lnTo>
                  <a:pt x="349" y="511"/>
                </a:lnTo>
                <a:lnTo>
                  <a:pt x="328" y="480"/>
                </a:lnTo>
                <a:lnTo>
                  <a:pt x="307" y="449"/>
                </a:lnTo>
                <a:lnTo>
                  <a:pt x="286" y="420"/>
                </a:lnTo>
                <a:lnTo>
                  <a:pt x="267" y="394"/>
                </a:lnTo>
                <a:lnTo>
                  <a:pt x="248" y="365"/>
                </a:lnTo>
                <a:lnTo>
                  <a:pt x="228" y="338"/>
                </a:lnTo>
                <a:lnTo>
                  <a:pt x="209" y="313"/>
                </a:lnTo>
                <a:lnTo>
                  <a:pt x="190" y="286"/>
                </a:lnTo>
                <a:lnTo>
                  <a:pt x="173" y="263"/>
                </a:lnTo>
                <a:lnTo>
                  <a:pt x="156" y="238"/>
                </a:lnTo>
                <a:lnTo>
                  <a:pt x="140" y="215"/>
                </a:lnTo>
                <a:lnTo>
                  <a:pt x="125" y="192"/>
                </a:lnTo>
                <a:lnTo>
                  <a:pt x="109" y="169"/>
                </a:lnTo>
                <a:lnTo>
                  <a:pt x="92" y="150"/>
                </a:lnTo>
                <a:lnTo>
                  <a:pt x="77" y="131"/>
                </a:lnTo>
                <a:lnTo>
                  <a:pt x="63" y="113"/>
                </a:lnTo>
                <a:lnTo>
                  <a:pt x="52" y="98"/>
                </a:lnTo>
                <a:lnTo>
                  <a:pt x="40" y="83"/>
                </a:lnTo>
                <a:lnTo>
                  <a:pt x="33" y="69"/>
                </a:lnTo>
                <a:lnTo>
                  <a:pt x="23" y="56"/>
                </a:lnTo>
                <a:lnTo>
                  <a:pt x="17" y="46"/>
                </a:lnTo>
                <a:lnTo>
                  <a:pt x="12" y="37"/>
                </a:lnTo>
                <a:lnTo>
                  <a:pt x="6" y="27"/>
                </a:lnTo>
                <a:lnTo>
                  <a:pt x="4" y="19"/>
                </a:lnTo>
                <a:lnTo>
                  <a:pt x="2" y="14"/>
                </a:lnTo>
                <a:lnTo>
                  <a:pt x="0" y="10"/>
                </a:lnTo>
                <a:lnTo>
                  <a:pt x="0" y="6"/>
                </a:lnTo>
                <a:lnTo>
                  <a:pt x="2" y="4"/>
                </a:lnTo>
                <a:lnTo>
                  <a:pt x="4" y="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90"/>
          <p:cNvSpPr/>
          <p:nvPr/>
        </p:nvSpPr>
        <p:spPr>
          <a:xfrm>
            <a:off x="5846760" y="2914560"/>
            <a:ext cx="603360" cy="990720"/>
          </a:xfrm>
          <a:custGeom>
            <a:avLst/>
            <a:gdLst/>
            <a:ahLst/>
            <a:rect l="l" t="t" r="r" b="b"/>
            <a:pathLst>
              <a:path w="760" h="1248">
                <a:moveTo>
                  <a:pt x="559" y="643"/>
                </a:moveTo>
                <a:lnTo>
                  <a:pt x="543" y="674"/>
                </a:lnTo>
                <a:lnTo>
                  <a:pt x="528" y="705"/>
                </a:lnTo>
                <a:lnTo>
                  <a:pt x="511" y="733"/>
                </a:lnTo>
                <a:lnTo>
                  <a:pt x="495" y="762"/>
                </a:lnTo>
                <a:lnTo>
                  <a:pt x="476" y="791"/>
                </a:lnTo>
                <a:lnTo>
                  <a:pt x="459" y="820"/>
                </a:lnTo>
                <a:lnTo>
                  <a:pt x="440" y="848"/>
                </a:lnTo>
                <a:lnTo>
                  <a:pt x="419" y="875"/>
                </a:lnTo>
                <a:lnTo>
                  <a:pt x="399" y="902"/>
                </a:lnTo>
                <a:lnTo>
                  <a:pt x="378" y="929"/>
                </a:lnTo>
                <a:lnTo>
                  <a:pt x="357" y="954"/>
                </a:lnTo>
                <a:lnTo>
                  <a:pt x="334" y="981"/>
                </a:lnTo>
                <a:lnTo>
                  <a:pt x="311" y="1006"/>
                </a:lnTo>
                <a:lnTo>
                  <a:pt x="288" y="1031"/>
                </a:lnTo>
                <a:lnTo>
                  <a:pt x="265" y="1056"/>
                </a:lnTo>
                <a:lnTo>
                  <a:pt x="240" y="1081"/>
                </a:lnTo>
                <a:lnTo>
                  <a:pt x="227" y="1092"/>
                </a:lnTo>
                <a:lnTo>
                  <a:pt x="215" y="1104"/>
                </a:lnTo>
                <a:lnTo>
                  <a:pt x="202" y="1115"/>
                </a:lnTo>
                <a:lnTo>
                  <a:pt x="190" y="1127"/>
                </a:lnTo>
                <a:lnTo>
                  <a:pt x="177" y="1136"/>
                </a:lnTo>
                <a:lnTo>
                  <a:pt x="165" y="1146"/>
                </a:lnTo>
                <a:lnTo>
                  <a:pt x="144" y="1163"/>
                </a:lnTo>
                <a:lnTo>
                  <a:pt x="123" y="1181"/>
                </a:lnTo>
                <a:lnTo>
                  <a:pt x="106" y="1194"/>
                </a:lnTo>
                <a:lnTo>
                  <a:pt x="89" y="1207"/>
                </a:lnTo>
                <a:lnTo>
                  <a:pt x="71" y="1217"/>
                </a:lnTo>
                <a:lnTo>
                  <a:pt x="58" y="1227"/>
                </a:lnTo>
                <a:lnTo>
                  <a:pt x="44" y="1234"/>
                </a:lnTo>
                <a:lnTo>
                  <a:pt x="35" y="1240"/>
                </a:lnTo>
                <a:lnTo>
                  <a:pt x="25" y="1244"/>
                </a:lnTo>
                <a:lnTo>
                  <a:pt x="17" y="1248"/>
                </a:lnTo>
                <a:lnTo>
                  <a:pt x="10" y="1248"/>
                </a:lnTo>
                <a:lnTo>
                  <a:pt x="6" y="1248"/>
                </a:lnTo>
                <a:lnTo>
                  <a:pt x="2" y="1248"/>
                </a:lnTo>
                <a:lnTo>
                  <a:pt x="0" y="1244"/>
                </a:lnTo>
                <a:lnTo>
                  <a:pt x="0" y="1240"/>
                </a:lnTo>
                <a:lnTo>
                  <a:pt x="2" y="1234"/>
                </a:lnTo>
                <a:lnTo>
                  <a:pt x="4" y="1227"/>
                </a:lnTo>
                <a:lnTo>
                  <a:pt x="10" y="1217"/>
                </a:lnTo>
                <a:lnTo>
                  <a:pt x="16" y="1207"/>
                </a:lnTo>
                <a:lnTo>
                  <a:pt x="23" y="1196"/>
                </a:lnTo>
                <a:lnTo>
                  <a:pt x="33" y="1182"/>
                </a:lnTo>
                <a:lnTo>
                  <a:pt x="42" y="1167"/>
                </a:lnTo>
                <a:lnTo>
                  <a:pt x="56" y="1150"/>
                </a:lnTo>
                <a:lnTo>
                  <a:pt x="69" y="1131"/>
                </a:lnTo>
                <a:lnTo>
                  <a:pt x="85" y="1111"/>
                </a:lnTo>
                <a:lnTo>
                  <a:pt x="102" y="1088"/>
                </a:lnTo>
                <a:lnTo>
                  <a:pt x="110" y="1077"/>
                </a:lnTo>
                <a:lnTo>
                  <a:pt x="119" y="1063"/>
                </a:lnTo>
                <a:lnTo>
                  <a:pt x="129" y="1052"/>
                </a:lnTo>
                <a:lnTo>
                  <a:pt x="140" y="1039"/>
                </a:lnTo>
                <a:lnTo>
                  <a:pt x="150" y="1023"/>
                </a:lnTo>
                <a:lnTo>
                  <a:pt x="161" y="1010"/>
                </a:lnTo>
                <a:lnTo>
                  <a:pt x="206" y="952"/>
                </a:lnTo>
                <a:lnTo>
                  <a:pt x="248" y="895"/>
                </a:lnTo>
                <a:lnTo>
                  <a:pt x="267" y="864"/>
                </a:lnTo>
                <a:lnTo>
                  <a:pt x="288" y="835"/>
                </a:lnTo>
                <a:lnTo>
                  <a:pt x="307" y="806"/>
                </a:lnTo>
                <a:lnTo>
                  <a:pt x="327" y="776"/>
                </a:lnTo>
                <a:lnTo>
                  <a:pt x="346" y="747"/>
                </a:lnTo>
                <a:lnTo>
                  <a:pt x="363" y="716"/>
                </a:lnTo>
                <a:lnTo>
                  <a:pt x="380" y="685"/>
                </a:lnTo>
                <a:lnTo>
                  <a:pt x="396" y="655"/>
                </a:lnTo>
                <a:lnTo>
                  <a:pt x="411" y="622"/>
                </a:lnTo>
                <a:lnTo>
                  <a:pt x="426" y="589"/>
                </a:lnTo>
                <a:lnTo>
                  <a:pt x="440" y="559"/>
                </a:lnTo>
                <a:lnTo>
                  <a:pt x="453" y="524"/>
                </a:lnTo>
                <a:lnTo>
                  <a:pt x="465" y="493"/>
                </a:lnTo>
                <a:lnTo>
                  <a:pt x="476" y="465"/>
                </a:lnTo>
                <a:lnTo>
                  <a:pt x="486" y="436"/>
                </a:lnTo>
                <a:lnTo>
                  <a:pt x="495" y="409"/>
                </a:lnTo>
                <a:lnTo>
                  <a:pt x="503" y="384"/>
                </a:lnTo>
                <a:lnTo>
                  <a:pt x="511" y="359"/>
                </a:lnTo>
                <a:lnTo>
                  <a:pt x="518" y="334"/>
                </a:lnTo>
                <a:lnTo>
                  <a:pt x="526" y="313"/>
                </a:lnTo>
                <a:lnTo>
                  <a:pt x="532" y="292"/>
                </a:lnTo>
                <a:lnTo>
                  <a:pt x="536" y="273"/>
                </a:lnTo>
                <a:lnTo>
                  <a:pt x="542" y="253"/>
                </a:lnTo>
                <a:lnTo>
                  <a:pt x="545" y="236"/>
                </a:lnTo>
                <a:lnTo>
                  <a:pt x="549" y="221"/>
                </a:lnTo>
                <a:lnTo>
                  <a:pt x="553" y="205"/>
                </a:lnTo>
                <a:lnTo>
                  <a:pt x="557" y="192"/>
                </a:lnTo>
                <a:lnTo>
                  <a:pt x="559" y="180"/>
                </a:lnTo>
                <a:lnTo>
                  <a:pt x="561" y="171"/>
                </a:lnTo>
                <a:lnTo>
                  <a:pt x="563" y="159"/>
                </a:lnTo>
                <a:lnTo>
                  <a:pt x="563" y="150"/>
                </a:lnTo>
                <a:lnTo>
                  <a:pt x="565" y="138"/>
                </a:lnTo>
                <a:lnTo>
                  <a:pt x="565" y="129"/>
                </a:lnTo>
                <a:lnTo>
                  <a:pt x="563" y="121"/>
                </a:lnTo>
                <a:lnTo>
                  <a:pt x="563" y="111"/>
                </a:lnTo>
                <a:lnTo>
                  <a:pt x="561" y="104"/>
                </a:lnTo>
                <a:lnTo>
                  <a:pt x="555" y="86"/>
                </a:lnTo>
                <a:lnTo>
                  <a:pt x="549" y="73"/>
                </a:lnTo>
                <a:lnTo>
                  <a:pt x="545" y="67"/>
                </a:lnTo>
                <a:lnTo>
                  <a:pt x="542" y="61"/>
                </a:lnTo>
                <a:lnTo>
                  <a:pt x="538" y="56"/>
                </a:lnTo>
                <a:lnTo>
                  <a:pt x="532" y="52"/>
                </a:lnTo>
                <a:lnTo>
                  <a:pt x="528" y="46"/>
                </a:lnTo>
                <a:lnTo>
                  <a:pt x="524" y="42"/>
                </a:lnTo>
                <a:lnTo>
                  <a:pt x="520" y="38"/>
                </a:lnTo>
                <a:lnTo>
                  <a:pt x="518" y="35"/>
                </a:lnTo>
                <a:lnTo>
                  <a:pt x="515" y="33"/>
                </a:lnTo>
                <a:lnTo>
                  <a:pt x="515" y="29"/>
                </a:lnTo>
                <a:lnTo>
                  <a:pt x="515" y="25"/>
                </a:lnTo>
                <a:lnTo>
                  <a:pt x="515" y="23"/>
                </a:lnTo>
                <a:lnTo>
                  <a:pt x="515" y="19"/>
                </a:lnTo>
                <a:lnTo>
                  <a:pt x="517" y="17"/>
                </a:lnTo>
                <a:lnTo>
                  <a:pt x="518" y="15"/>
                </a:lnTo>
                <a:lnTo>
                  <a:pt x="522" y="14"/>
                </a:lnTo>
                <a:lnTo>
                  <a:pt x="528" y="10"/>
                </a:lnTo>
                <a:lnTo>
                  <a:pt x="532" y="8"/>
                </a:lnTo>
                <a:lnTo>
                  <a:pt x="538" y="6"/>
                </a:lnTo>
                <a:lnTo>
                  <a:pt x="545" y="4"/>
                </a:lnTo>
                <a:lnTo>
                  <a:pt x="551" y="2"/>
                </a:lnTo>
                <a:lnTo>
                  <a:pt x="557" y="0"/>
                </a:lnTo>
                <a:lnTo>
                  <a:pt x="563" y="0"/>
                </a:lnTo>
                <a:lnTo>
                  <a:pt x="568" y="0"/>
                </a:lnTo>
                <a:lnTo>
                  <a:pt x="574" y="2"/>
                </a:lnTo>
                <a:lnTo>
                  <a:pt x="582" y="4"/>
                </a:lnTo>
                <a:lnTo>
                  <a:pt x="589" y="6"/>
                </a:lnTo>
                <a:lnTo>
                  <a:pt x="597" y="10"/>
                </a:lnTo>
                <a:lnTo>
                  <a:pt x="605" y="14"/>
                </a:lnTo>
                <a:lnTo>
                  <a:pt x="614" y="17"/>
                </a:lnTo>
                <a:lnTo>
                  <a:pt x="624" y="21"/>
                </a:lnTo>
                <a:lnTo>
                  <a:pt x="634" y="27"/>
                </a:lnTo>
                <a:lnTo>
                  <a:pt x="643" y="33"/>
                </a:lnTo>
                <a:lnTo>
                  <a:pt x="655" y="38"/>
                </a:lnTo>
                <a:lnTo>
                  <a:pt x="666" y="44"/>
                </a:lnTo>
                <a:lnTo>
                  <a:pt x="678" y="52"/>
                </a:lnTo>
                <a:lnTo>
                  <a:pt x="689" y="60"/>
                </a:lnTo>
                <a:lnTo>
                  <a:pt x="701" y="69"/>
                </a:lnTo>
                <a:lnTo>
                  <a:pt x="710" y="77"/>
                </a:lnTo>
                <a:lnTo>
                  <a:pt x="720" y="85"/>
                </a:lnTo>
                <a:lnTo>
                  <a:pt x="728" y="92"/>
                </a:lnTo>
                <a:lnTo>
                  <a:pt x="735" y="100"/>
                </a:lnTo>
                <a:lnTo>
                  <a:pt x="741" y="106"/>
                </a:lnTo>
                <a:lnTo>
                  <a:pt x="747" y="113"/>
                </a:lnTo>
                <a:lnTo>
                  <a:pt x="753" y="119"/>
                </a:lnTo>
                <a:lnTo>
                  <a:pt x="755" y="127"/>
                </a:lnTo>
                <a:lnTo>
                  <a:pt x="758" y="133"/>
                </a:lnTo>
                <a:lnTo>
                  <a:pt x="760" y="138"/>
                </a:lnTo>
                <a:lnTo>
                  <a:pt x="760" y="142"/>
                </a:lnTo>
                <a:lnTo>
                  <a:pt x="760" y="148"/>
                </a:lnTo>
                <a:lnTo>
                  <a:pt x="760" y="154"/>
                </a:lnTo>
                <a:lnTo>
                  <a:pt x="758" y="157"/>
                </a:lnTo>
                <a:lnTo>
                  <a:pt x="753" y="171"/>
                </a:lnTo>
                <a:lnTo>
                  <a:pt x="747" y="186"/>
                </a:lnTo>
                <a:lnTo>
                  <a:pt x="743" y="202"/>
                </a:lnTo>
                <a:lnTo>
                  <a:pt x="737" y="219"/>
                </a:lnTo>
                <a:lnTo>
                  <a:pt x="733" y="238"/>
                </a:lnTo>
                <a:lnTo>
                  <a:pt x="728" y="257"/>
                </a:lnTo>
                <a:lnTo>
                  <a:pt x="722" y="278"/>
                </a:lnTo>
                <a:lnTo>
                  <a:pt x="718" y="300"/>
                </a:lnTo>
                <a:lnTo>
                  <a:pt x="712" y="311"/>
                </a:lnTo>
                <a:lnTo>
                  <a:pt x="707" y="324"/>
                </a:lnTo>
                <a:lnTo>
                  <a:pt x="701" y="340"/>
                </a:lnTo>
                <a:lnTo>
                  <a:pt x="693" y="355"/>
                </a:lnTo>
                <a:lnTo>
                  <a:pt x="685" y="372"/>
                </a:lnTo>
                <a:lnTo>
                  <a:pt x="676" y="390"/>
                </a:lnTo>
                <a:lnTo>
                  <a:pt x="668" y="411"/>
                </a:lnTo>
                <a:lnTo>
                  <a:pt x="659" y="432"/>
                </a:lnTo>
                <a:lnTo>
                  <a:pt x="647" y="453"/>
                </a:lnTo>
                <a:lnTo>
                  <a:pt x="637" y="476"/>
                </a:lnTo>
                <a:lnTo>
                  <a:pt x="626" y="501"/>
                </a:lnTo>
                <a:lnTo>
                  <a:pt x="613" y="528"/>
                </a:lnTo>
                <a:lnTo>
                  <a:pt x="601" y="555"/>
                </a:lnTo>
                <a:lnTo>
                  <a:pt x="588" y="584"/>
                </a:lnTo>
                <a:lnTo>
                  <a:pt x="574" y="612"/>
                </a:lnTo>
                <a:lnTo>
                  <a:pt x="559" y="64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91"/>
          <p:cNvSpPr/>
          <p:nvPr/>
        </p:nvSpPr>
        <p:spPr>
          <a:xfrm>
            <a:off x="5721480" y="2654280"/>
            <a:ext cx="873000" cy="225360"/>
          </a:xfrm>
          <a:custGeom>
            <a:avLst/>
            <a:gdLst/>
            <a:ahLst/>
            <a:rect l="l" t="t" r="r" b="b"/>
            <a:pathLst>
              <a:path w="1100" h="284">
                <a:moveTo>
                  <a:pt x="583" y="82"/>
                </a:moveTo>
                <a:lnTo>
                  <a:pt x="620" y="73"/>
                </a:lnTo>
                <a:lnTo>
                  <a:pt x="654" y="61"/>
                </a:lnTo>
                <a:lnTo>
                  <a:pt x="687" y="54"/>
                </a:lnTo>
                <a:lnTo>
                  <a:pt x="702" y="48"/>
                </a:lnTo>
                <a:lnTo>
                  <a:pt x="718" y="44"/>
                </a:lnTo>
                <a:lnTo>
                  <a:pt x="731" y="40"/>
                </a:lnTo>
                <a:lnTo>
                  <a:pt x="746" y="36"/>
                </a:lnTo>
                <a:lnTo>
                  <a:pt x="760" y="32"/>
                </a:lnTo>
                <a:lnTo>
                  <a:pt x="771" y="31"/>
                </a:lnTo>
                <a:lnTo>
                  <a:pt x="785" y="27"/>
                </a:lnTo>
                <a:lnTo>
                  <a:pt x="796" y="25"/>
                </a:lnTo>
                <a:lnTo>
                  <a:pt x="808" y="21"/>
                </a:lnTo>
                <a:lnTo>
                  <a:pt x="819" y="19"/>
                </a:lnTo>
                <a:lnTo>
                  <a:pt x="831" y="17"/>
                </a:lnTo>
                <a:lnTo>
                  <a:pt x="841" y="13"/>
                </a:lnTo>
                <a:lnTo>
                  <a:pt x="850" y="11"/>
                </a:lnTo>
                <a:lnTo>
                  <a:pt x="860" y="9"/>
                </a:lnTo>
                <a:lnTo>
                  <a:pt x="867" y="9"/>
                </a:lnTo>
                <a:lnTo>
                  <a:pt x="875" y="8"/>
                </a:lnTo>
                <a:lnTo>
                  <a:pt x="883" y="6"/>
                </a:lnTo>
                <a:lnTo>
                  <a:pt x="890" y="4"/>
                </a:lnTo>
                <a:lnTo>
                  <a:pt x="896" y="4"/>
                </a:lnTo>
                <a:lnTo>
                  <a:pt x="904" y="2"/>
                </a:lnTo>
                <a:lnTo>
                  <a:pt x="908" y="2"/>
                </a:lnTo>
                <a:lnTo>
                  <a:pt x="913" y="2"/>
                </a:lnTo>
                <a:lnTo>
                  <a:pt x="917" y="0"/>
                </a:lnTo>
                <a:lnTo>
                  <a:pt x="921" y="0"/>
                </a:lnTo>
                <a:lnTo>
                  <a:pt x="925" y="0"/>
                </a:lnTo>
                <a:lnTo>
                  <a:pt x="929" y="0"/>
                </a:lnTo>
                <a:lnTo>
                  <a:pt x="931" y="0"/>
                </a:lnTo>
                <a:lnTo>
                  <a:pt x="935" y="0"/>
                </a:lnTo>
                <a:lnTo>
                  <a:pt x="938" y="2"/>
                </a:lnTo>
                <a:lnTo>
                  <a:pt x="942" y="2"/>
                </a:lnTo>
                <a:lnTo>
                  <a:pt x="948" y="4"/>
                </a:lnTo>
                <a:lnTo>
                  <a:pt x="954" y="4"/>
                </a:lnTo>
                <a:lnTo>
                  <a:pt x="960" y="6"/>
                </a:lnTo>
                <a:lnTo>
                  <a:pt x="965" y="8"/>
                </a:lnTo>
                <a:lnTo>
                  <a:pt x="981" y="11"/>
                </a:lnTo>
                <a:lnTo>
                  <a:pt x="996" y="15"/>
                </a:lnTo>
                <a:lnTo>
                  <a:pt x="1015" y="19"/>
                </a:lnTo>
                <a:lnTo>
                  <a:pt x="1034" y="23"/>
                </a:lnTo>
                <a:lnTo>
                  <a:pt x="1048" y="32"/>
                </a:lnTo>
                <a:lnTo>
                  <a:pt x="1061" y="42"/>
                </a:lnTo>
                <a:lnTo>
                  <a:pt x="1073" y="50"/>
                </a:lnTo>
                <a:lnTo>
                  <a:pt x="1082" y="59"/>
                </a:lnTo>
                <a:lnTo>
                  <a:pt x="1086" y="63"/>
                </a:lnTo>
                <a:lnTo>
                  <a:pt x="1090" y="69"/>
                </a:lnTo>
                <a:lnTo>
                  <a:pt x="1092" y="73"/>
                </a:lnTo>
                <a:lnTo>
                  <a:pt x="1096" y="77"/>
                </a:lnTo>
                <a:lnTo>
                  <a:pt x="1098" y="80"/>
                </a:lnTo>
                <a:lnTo>
                  <a:pt x="1100" y="86"/>
                </a:lnTo>
                <a:lnTo>
                  <a:pt x="1100" y="90"/>
                </a:lnTo>
                <a:lnTo>
                  <a:pt x="1100" y="94"/>
                </a:lnTo>
                <a:lnTo>
                  <a:pt x="1100" y="96"/>
                </a:lnTo>
                <a:lnTo>
                  <a:pt x="1098" y="100"/>
                </a:lnTo>
                <a:lnTo>
                  <a:pt x="1096" y="102"/>
                </a:lnTo>
                <a:lnTo>
                  <a:pt x="1092" y="103"/>
                </a:lnTo>
                <a:lnTo>
                  <a:pt x="1088" y="107"/>
                </a:lnTo>
                <a:lnTo>
                  <a:pt x="1082" y="109"/>
                </a:lnTo>
                <a:lnTo>
                  <a:pt x="1077" y="111"/>
                </a:lnTo>
                <a:lnTo>
                  <a:pt x="1071" y="115"/>
                </a:lnTo>
                <a:lnTo>
                  <a:pt x="1061" y="117"/>
                </a:lnTo>
                <a:lnTo>
                  <a:pt x="1054" y="121"/>
                </a:lnTo>
                <a:lnTo>
                  <a:pt x="1044" y="123"/>
                </a:lnTo>
                <a:lnTo>
                  <a:pt x="1032" y="127"/>
                </a:lnTo>
                <a:lnTo>
                  <a:pt x="1021" y="128"/>
                </a:lnTo>
                <a:lnTo>
                  <a:pt x="1008" y="132"/>
                </a:lnTo>
                <a:lnTo>
                  <a:pt x="994" y="136"/>
                </a:lnTo>
                <a:lnTo>
                  <a:pt x="979" y="138"/>
                </a:lnTo>
                <a:lnTo>
                  <a:pt x="963" y="142"/>
                </a:lnTo>
                <a:lnTo>
                  <a:pt x="946" y="146"/>
                </a:lnTo>
                <a:lnTo>
                  <a:pt x="929" y="150"/>
                </a:lnTo>
                <a:lnTo>
                  <a:pt x="910" y="153"/>
                </a:lnTo>
                <a:lnTo>
                  <a:pt x="890" y="155"/>
                </a:lnTo>
                <a:lnTo>
                  <a:pt x="869" y="159"/>
                </a:lnTo>
                <a:lnTo>
                  <a:pt x="848" y="163"/>
                </a:lnTo>
                <a:lnTo>
                  <a:pt x="825" y="167"/>
                </a:lnTo>
                <a:lnTo>
                  <a:pt x="802" y="171"/>
                </a:lnTo>
                <a:lnTo>
                  <a:pt x="777" y="175"/>
                </a:lnTo>
                <a:lnTo>
                  <a:pt x="752" y="180"/>
                </a:lnTo>
                <a:lnTo>
                  <a:pt x="725" y="184"/>
                </a:lnTo>
                <a:lnTo>
                  <a:pt x="699" y="188"/>
                </a:lnTo>
                <a:lnTo>
                  <a:pt x="670" y="192"/>
                </a:lnTo>
                <a:lnTo>
                  <a:pt x="641" y="196"/>
                </a:lnTo>
                <a:lnTo>
                  <a:pt x="610" y="201"/>
                </a:lnTo>
                <a:lnTo>
                  <a:pt x="580" y="207"/>
                </a:lnTo>
                <a:lnTo>
                  <a:pt x="549" y="211"/>
                </a:lnTo>
                <a:lnTo>
                  <a:pt x="520" y="217"/>
                </a:lnTo>
                <a:lnTo>
                  <a:pt x="491" y="222"/>
                </a:lnTo>
                <a:lnTo>
                  <a:pt x="462" y="226"/>
                </a:lnTo>
                <a:lnTo>
                  <a:pt x="436" y="230"/>
                </a:lnTo>
                <a:lnTo>
                  <a:pt x="411" y="236"/>
                </a:lnTo>
                <a:lnTo>
                  <a:pt x="384" y="240"/>
                </a:lnTo>
                <a:lnTo>
                  <a:pt x="359" y="244"/>
                </a:lnTo>
                <a:lnTo>
                  <a:pt x="336" y="247"/>
                </a:lnTo>
                <a:lnTo>
                  <a:pt x="311" y="251"/>
                </a:lnTo>
                <a:lnTo>
                  <a:pt x="290" y="253"/>
                </a:lnTo>
                <a:lnTo>
                  <a:pt x="267" y="257"/>
                </a:lnTo>
                <a:lnTo>
                  <a:pt x="246" y="259"/>
                </a:lnTo>
                <a:lnTo>
                  <a:pt x="224" y="263"/>
                </a:lnTo>
                <a:lnTo>
                  <a:pt x="205" y="265"/>
                </a:lnTo>
                <a:lnTo>
                  <a:pt x="186" y="267"/>
                </a:lnTo>
                <a:lnTo>
                  <a:pt x="169" y="270"/>
                </a:lnTo>
                <a:lnTo>
                  <a:pt x="151" y="272"/>
                </a:lnTo>
                <a:lnTo>
                  <a:pt x="134" y="274"/>
                </a:lnTo>
                <a:lnTo>
                  <a:pt x="119" y="276"/>
                </a:lnTo>
                <a:lnTo>
                  <a:pt x="103" y="276"/>
                </a:lnTo>
                <a:lnTo>
                  <a:pt x="90" y="278"/>
                </a:lnTo>
                <a:lnTo>
                  <a:pt x="77" y="280"/>
                </a:lnTo>
                <a:lnTo>
                  <a:pt x="63" y="280"/>
                </a:lnTo>
                <a:lnTo>
                  <a:pt x="52" y="282"/>
                </a:lnTo>
                <a:lnTo>
                  <a:pt x="42" y="282"/>
                </a:lnTo>
                <a:lnTo>
                  <a:pt x="32" y="282"/>
                </a:lnTo>
                <a:lnTo>
                  <a:pt x="23" y="284"/>
                </a:lnTo>
                <a:lnTo>
                  <a:pt x="13" y="284"/>
                </a:lnTo>
                <a:lnTo>
                  <a:pt x="6" y="284"/>
                </a:lnTo>
                <a:lnTo>
                  <a:pt x="0" y="284"/>
                </a:lnTo>
                <a:lnTo>
                  <a:pt x="0" y="219"/>
                </a:lnTo>
                <a:lnTo>
                  <a:pt x="0" y="153"/>
                </a:lnTo>
                <a:lnTo>
                  <a:pt x="34" y="153"/>
                </a:lnTo>
                <a:lnTo>
                  <a:pt x="71" y="153"/>
                </a:lnTo>
                <a:lnTo>
                  <a:pt x="105" y="151"/>
                </a:lnTo>
                <a:lnTo>
                  <a:pt x="142" y="150"/>
                </a:lnTo>
                <a:lnTo>
                  <a:pt x="178" y="148"/>
                </a:lnTo>
                <a:lnTo>
                  <a:pt x="213" y="144"/>
                </a:lnTo>
                <a:lnTo>
                  <a:pt x="249" y="140"/>
                </a:lnTo>
                <a:lnTo>
                  <a:pt x="286" y="136"/>
                </a:lnTo>
                <a:lnTo>
                  <a:pt x="324" y="132"/>
                </a:lnTo>
                <a:lnTo>
                  <a:pt x="361" y="127"/>
                </a:lnTo>
                <a:lnTo>
                  <a:pt x="397" y="121"/>
                </a:lnTo>
                <a:lnTo>
                  <a:pt x="434" y="115"/>
                </a:lnTo>
                <a:lnTo>
                  <a:pt x="472" y="107"/>
                </a:lnTo>
                <a:lnTo>
                  <a:pt x="508" y="100"/>
                </a:lnTo>
                <a:lnTo>
                  <a:pt x="547" y="92"/>
                </a:lnTo>
                <a:lnTo>
                  <a:pt x="583" y="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31"/>
                                        </p:tgtEl>
                                        <p:attrNameLst>
                                          <p:attrName>style.visibility</p:attrName>
                                        </p:attrNameLst>
                                      </p:cBhvr>
                                      <p:to>
                                        <p:strVal val="visible"/>
                                      </p:to>
                                    </p:set>
                                    <p:anim calcmode="lin" valueType="num">
                                      <p:cBhvr additive="base">
                                        <p:cTn id="172" dur="500" fill="hold"/>
                                        <p:tgtEl>
                                          <p:spTgt spid="131"/>
                                        </p:tgtEl>
                                        <p:attrNameLst>
                                          <p:attrName>ppt_x</p:attrName>
                                        </p:attrNameLst>
                                      </p:cBhvr>
                                      <p:tavLst>
                                        <p:tav tm="0">
                                          <p:val>
                                            <p:strVal val="0-#ppt_w/2"/>
                                          </p:val>
                                        </p:tav>
                                        <p:tav tm="100000">
                                          <p:val>
                                            <p:strVal val="#ppt_x"/>
                                          </p:val>
                                        </p:tav>
                                      </p:tavLst>
                                    </p:anim>
                                    <p:anim calcmode="lin" valueType="num">
                                      <p:cBhvr additive="base">
                                        <p:cTn id="17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41"/>
                                        </p:tgtEl>
                                        <p:attrNameLst>
                                          <p:attrName>style.visibility</p:attrName>
                                        </p:attrNameLst>
                                      </p:cBhvr>
                                      <p:to>
                                        <p:strVal val="visible"/>
                                      </p:to>
                                    </p:set>
                                    <p:animEffect filter="wipe(left)" transition="in">
                                      <p:cBhvr additive="repl">
                                        <p:cTn id="178" dur="500"/>
                                        <p:tgtEl>
                                          <p:spTgt spid="141"/>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8" presetSubtype="6">
                                  <p:stCondLst>
                                    <p:cond delay="0"/>
                                  </p:stCondLst>
                                  <p:childTnLst>
                                    <p:set>
                                      <p:cBhvr>
                                        <p:cTn id="182" dur="1" fill="hold">
                                          <p:stCondLst>
                                            <p:cond delay="0"/>
                                          </p:stCondLst>
                                        </p:cTn>
                                        <p:tgtEl>
                                          <p:spTgt spid="138"/>
                                        </p:tgtEl>
                                        <p:attrNameLst>
                                          <p:attrName>style.visibility</p:attrName>
                                        </p:attrNameLst>
                                      </p:cBhvr>
                                      <p:to>
                                        <p:strVal val="visible"/>
                                      </p:to>
                                    </p:set>
                                    <p:animEffect filter="strips(downRight)" transition="in">
                                      <p:cBhvr additive="repl">
                                        <p:cTn id="183" dur="500"/>
                                        <p:tgtEl>
                                          <p:spTgt spid="13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140"/>
                                        </p:tgtEl>
                                        <p:attrNameLst>
                                          <p:attrName>style.visibility</p:attrName>
                                        </p:attrNameLst>
                                      </p:cBhvr>
                                      <p:to>
                                        <p:strVal val="visible"/>
                                      </p:to>
                                    </p:set>
                                    <p:animEffect filter="wipe(up)" transition="in">
                                      <p:cBhvr additive="repl">
                                        <p:cTn id="188" dur="500"/>
                                        <p:tgtEl>
                                          <p:spTgt spid="140"/>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39"/>
                                        </p:tgtEl>
                                        <p:attrNameLst>
                                          <p:attrName>style.visibility</p:attrName>
                                        </p:attrNameLst>
                                      </p:cBhvr>
                                      <p:to>
                                        <p:strVal val="visible"/>
                                      </p:to>
                                    </p:set>
                                    <p:animEffect filter="wipe(up)" transition="in">
                                      <p:cBhvr additive="repl">
                                        <p:cTn id="193" dur="500"/>
                                        <p:tgtEl>
                                          <p:spTgt spid="139"/>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7"/>
                                        </p:tgtEl>
                                        <p:attrNameLst>
                                          <p:attrName>style.visibility</p:attrName>
                                        </p:attrNameLst>
                                      </p:cBhvr>
                                      <p:to>
                                        <p:strVal val="visible"/>
                                      </p:to>
                                    </p:set>
                                    <p:animEffect filter="wipe(up)" transition="in">
                                      <p:cBhvr additive="repl">
                                        <p:cTn id="198" dur="500"/>
                                        <p:tgtEl>
                                          <p:spTgt spid="137"/>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8" presetSubtype="6">
                                  <p:stCondLst>
                                    <p:cond delay="0"/>
                                  </p:stCondLst>
                                  <p:childTnLst>
                                    <p:set>
                                      <p:cBhvr>
                                        <p:cTn id="202" dur="1" fill="hold">
                                          <p:stCondLst>
                                            <p:cond delay="0"/>
                                          </p:stCondLst>
                                        </p:cTn>
                                        <p:tgtEl>
                                          <p:spTgt spid="136"/>
                                        </p:tgtEl>
                                        <p:attrNameLst>
                                          <p:attrName>style.visibility</p:attrName>
                                        </p:attrNameLst>
                                      </p:cBhvr>
                                      <p:to>
                                        <p:strVal val="visible"/>
                                      </p:to>
                                    </p:set>
                                    <p:animEffect filter="strips(downRight)" transition="in">
                                      <p:cBhvr additive="repl">
                                        <p:cTn id="203" dur="500"/>
                                        <p:tgtEl>
                                          <p:spTgt spid="13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35"/>
                                        </p:tgtEl>
                                        <p:attrNameLst>
                                          <p:attrName>style.visibility</p:attrName>
                                        </p:attrNameLst>
                                      </p:cBhvr>
                                      <p:to>
                                        <p:strVal val="visible"/>
                                      </p:to>
                                    </p:set>
                                    <p:animEffect filter="wipe(up)" transition="in">
                                      <p:cBhvr additive="repl">
                                        <p:cTn id="208" dur="500"/>
                                        <p:tgtEl>
                                          <p:spTgt spid="135"/>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134"/>
                                        </p:tgtEl>
                                        <p:attrNameLst>
                                          <p:attrName>style.visibility</p:attrName>
                                        </p:attrNameLst>
                                      </p:cBhvr>
                                      <p:to>
                                        <p:strVal val="visible"/>
                                      </p:to>
                                    </p:set>
                                    <p:animEffect filter="strips(downRight)" transition="in">
                                      <p:cBhvr additive="repl">
                                        <p:cTn id="213" dur="500"/>
                                        <p:tgtEl>
                                          <p:spTgt spid="134"/>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33"/>
                                        </p:tgtEl>
                                        <p:attrNameLst>
                                          <p:attrName>style.visibility</p:attrName>
                                        </p:attrNameLst>
                                      </p:cBhvr>
                                      <p:to>
                                        <p:strVal val="visible"/>
                                      </p:to>
                                    </p:set>
                                    <p:animEffect filter="wipe(left)" transition="in">
                                      <p:cBhvr additive="repl">
                                        <p:cTn id="218" dur="500"/>
                                        <p:tgtEl>
                                          <p:spTgt spid="13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resetSubtype="16">
                                  <p:stCondLst>
                                    <p:cond delay="0"/>
                                  </p:stCondLst>
                                  <p:childTnLst>
                                    <p:set>
                                      <p:cBhvr>
                                        <p:cTn id="222" dur="1" fill="hold">
                                          <p:stCondLst>
                                            <p:cond delay="0"/>
                                          </p:stCondLst>
                                        </p:cTn>
                                        <p:tgtEl>
                                          <p:spTgt spid="128"/>
                                        </p:tgtEl>
                                        <p:attrNameLst>
                                          <p:attrName>style.visibility</p:attrName>
                                        </p:attrNameLst>
                                      </p:cBhvr>
                                      <p:to>
                                        <p:strVal val="visible"/>
                                      </p:to>
                                    </p:set>
                                    <p:anim calcmode="lin" valueType="num">
                                      <p:cBhvr additive="repl">
                                        <p:cTn id="223" dur="500" fill="hold"/>
                                        <p:tgtEl>
                                          <p:spTgt spid="128"/>
                                        </p:tgtEl>
                                        <p:attrNameLst>
                                          <p:attrName>ppt_w</p:attrName>
                                        </p:attrNameLst>
                                      </p:cBhvr>
                                      <p:tavLst>
                                        <p:tav tm="0">
                                          <p:val>
                                            <p:fltVal val="0"/>
                                          </p:val>
                                        </p:tav>
                                        <p:tav tm="100000">
                                          <p:val>
                                            <p:strVal val="#ppt_w"/>
                                          </p:val>
                                        </p:tav>
                                      </p:tavLst>
                                    </p:anim>
                                    <p:anim calcmode="lin" valueType="num">
                                      <p:cBhvr additive="repl">
                                        <p:cTn id="224" dur="500" fill="hold"/>
                                        <p:tgtEl>
                                          <p:spTgt spid="128"/>
                                        </p:tgtEl>
                                        <p:attrNameLst>
                                          <p:attrName>ppt_h</p:attrName>
                                        </p:attrNameLst>
                                      </p:cBhvr>
                                      <p:tavLst>
                                        <p:tav tm="0">
                                          <p:val>
                                            <p:fltVal val="0"/>
                                          </p:val>
                                        </p:tav>
                                        <p:tav tm="100000">
                                          <p:val>
                                            <p:strVal val="#ppt_h"/>
                                          </p:val>
                                        </p:tav>
                                      </p:tavLst>
                                    </p:anim>
                                    <p:animEffect filter="fade" transition="in">
                                      <p:cBhvr additive="repl">
                                        <p:cTn id="22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矩形 4"/>
          <p:cNvSpPr/>
          <p:nvPr/>
        </p:nvSpPr>
        <p:spPr>
          <a:xfrm>
            <a:off x="2218680" y="21556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颤</a:t>
            </a:r>
            <a:endParaRPr b="0" lang="en-US" sz="8000" spc="-1" strike="noStrike">
              <a:solidFill>
                <a:srgbClr val="000000"/>
              </a:solidFill>
              <a:latin typeface="Calibri"/>
            </a:endParaRPr>
          </a:p>
        </p:txBody>
      </p:sp>
      <p:grpSp>
        <p:nvGrpSpPr>
          <p:cNvPr id="143" name="组合 8"/>
          <p:cNvGrpSpPr/>
          <p:nvPr/>
        </p:nvGrpSpPr>
        <p:grpSpPr>
          <a:xfrm>
            <a:off x="1400040" y="3583080"/>
            <a:ext cx="2840040" cy="1574280"/>
            <a:chOff x="1400040" y="3583080"/>
            <a:chExt cx="2840040" cy="1574280"/>
          </a:xfrm>
        </p:grpSpPr>
        <p:pic>
          <p:nvPicPr>
            <p:cNvPr id="144" name="图示 4" descr=""/>
            <p:cNvPicPr/>
            <p:nvPr/>
          </p:nvPicPr>
          <p:blipFill>
            <a:blip r:embed="rId1"/>
            <a:stretch/>
          </p:blipFill>
          <p:spPr>
            <a:xfrm>
              <a:off x="1400040" y="3583080"/>
              <a:ext cx="2840040" cy="1574280"/>
            </a:xfrm>
            <a:prstGeom prst="rect">
              <a:avLst/>
            </a:prstGeom>
            <a:ln w="0">
              <a:noFill/>
            </a:ln>
          </p:spPr>
        </p:pic>
        <p:sp>
          <p:nvSpPr>
            <p:cNvPr id="145" name="矩形 2"/>
            <p:cNvSpPr/>
            <p:nvPr/>
          </p:nvSpPr>
          <p:spPr>
            <a:xfrm>
              <a:off x="1444680" y="419472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部要紧凑，右部起笔偏下，末笔点长而有力。</a:t>
              </a:r>
              <a:endParaRPr b="0" lang="en-US" sz="2000" spc="-1" strike="noStrike">
                <a:solidFill>
                  <a:srgbClr val="000000"/>
                </a:solidFill>
                <a:latin typeface="Calibri"/>
              </a:endParaRPr>
            </a:p>
          </p:txBody>
        </p:sp>
      </p:grpSp>
      <p:sp>
        <p:nvSpPr>
          <p:cNvPr id="146" name="矩形 3"/>
          <p:cNvSpPr/>
          <p:nvPr/>
        </p:nvSpPr>
        <p:spPr>
          <a:xfrm>
            <a:off x="1969920" y="1476360"/>
            <a:ext cx="1665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chàn </a:t>
            </a:r>
            <a:endParaRPr b="0" lang="en-US" sz="4800" spc="-1" strike="noStrike">
              <a:solidFill>
                <a:srgbClr val="000000"/>
              </a:solidFill>
              <a:latin typeface="Calibri"/>
            </a:endParaRPr>
          </a:p>
        </p:txBody>
      </p:sp>
      <p:graphicFrame>
        <p:nvGraphicFramePr>
          <p:cNvPr id="147" name=""/>
          <p:cNvGraphicFramePr/>
          <p:nvPr/>
        </p:nvGraphicFramePr>
        <p:xfrm>
          <a:off x="5114880" y="1990800"/>
          <a:ext cx="3041640" cy="303984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Freeform 462"/>
          <p:cNvSpPr/>
          <p:nvPr/>
        </p:nvSpPr>
        <p:spPr>
          <a:xfrm>
            <a:off x="7124760" y="4094280"/>
            <a:ext cx="492120" cy="500040"/>
          </a:xfrm>
          <a:custGeom>
            <a:avLst/>
            <a:gdLst/>
            <a:ahLst/>
            <a:rect l="l" t="t" r="r" b="b"/>
            <a:pathLst>
              <a:path w="620" h="630">
                <a:moveTo>
                  <a:pt x="390" y="142"/>
                </a:moveTo>
                <a:lnTo>
                  <a:pt x="416" y="154"/>
                </a:lnTo>
                <a:lnTo>
                  <a:pt x="440" y="167"/>
                </a:lnTo>
                <a:lnTo>
                  <a:pt x="463" y="180"/>
                </a:lnTo>
                <a:lnTo>
                  <a:pt x="484" y="194"/>
                </a:lnTo>
                <a:lnTo>
                  <a:pt x="501" y="207"/>
                </a:lnTo>
                <a:lnTo>
                  <a:pt x="520" y="221"/>
                </a:lnTo>
                <a:lnTo>
                  <a:pt x="535" y="234"/>
                </a:lnTo>
                <a:lnTo>
                  <a:pt x="549" y="250"/>
                </a:lnTo>
                <a:lnTo>
                  <a:pt x="562" y="263"/>
                </a:lnTo>
                <a:lnTo>
                  <a:pt x="574" y="278"/>
                </a:lnTo>
                <a:lnTo>
                  <a:pt x="583" y="292"/>
                </a:lnTo>
                <a:lnTo>
                  <a:pt x="591" y="307"/>
                </a:lnTo>
                <a:lnTo>
                  <a:pt x="599" y="321"/>
                </a:lnTo>
                <a:lnTo>
                  <a:pt x="605" y="336"/>
                </a:lnTo>
                <a:lnTo>
                  <a:pt x="608" y="351"/>
                </a:lnTo>
                <a:lnTo>
                  <a:pt x="610" y="367"/>
                </a:lnTo>
                <a:lnTo>
                  <a:pt x="612" y="382"/>
                </a:lnTo>
                <a:lnTo>
                  <a:pt x="614" y="399"/>
                </a:lnTo>
                <a:lnTo>
                  <a:pt x="616" y="415"/>
                </a:lnTo>
                <a:lnTo>
                  <a:pt x="618" y="430"/>
                </a:lnTo>
                <a:lnTo>
                  <a:pt x="620" y="445"/>
                </a:lnTo>
                <a:lnTo>
                  <a:pt x="620" y="459"/>
                </a:lnTo>
                <a:lnTo>
                  <a:pt x="620" y="472"/>
                </a:lnTo>
                <a:lnTo>
                  <a:pt x="620" y="484"/>
                </a:lnTo>
                <a:lnTo>
                  <a:pt x="620" y="497"/>
                </a:lnTo>
                <a:lnTo>
                  <a:pt x="620" y="509"/>
                </a:lnTo>
                <a:lnTo>
                  <a:pt x="620" y="518"/>
                </a:lnTo>
                <a:lnTo>
                  <a:pt x="618" y="530"/>
                </a:lnTo>
                <a:lnTo>
                  <a:pt x="616" y="539"/>
                </a:lnTo>
                <a:lnTo>
                  <a:pt x="614" y="547"/>
                </a:lnTo>
                <a:lnTo>
                  <a:pt x="612" y="557"/>
                </a:lnTo>
                <a:lnTo>
                  <a:pt x="610" y="564"/>
                </a:lnTo>
                <a:lnTo>
                  <a:pt x="607" y="578"/>
                </a:lnTo>
                <a:lnTo>
                  <a:pt x="599" y="591"/>
                </a:lnTo>
                <a:lnTo>
                  <a:pt x="593" y="603"/>
                </a:lnTo>
                <a:lnTo>
                  <a:pt x="585" y="612"/>
                </a:lnTo>
                <a:lnTo>
                  <a:pt x="582" y="616"/>
                </a:lnTo>
                <a:lnTo>
                  <a:pt x="578" y="620"/>
                </a:lnTo>
                <a:lnTo>
                  <a:pt x="574" y="622"/>
                </a:lnTo>
                <a:lnTo>
                  <a:pt x="570" y="626"/>
                </a:lnTo>
                <a:lnTo>
                  <a:pt x="568" y="628"/>
                </a:lnTo>
                <a:lnTo>
                  <a:pt x="564" y="628"/>
                </a:lnTo>
                <a:lnTo>
                  <a:pt x="562" y="630"/>
                </a:lnTo>
                <a:lnTo>
                  <a:pt x="559" y="630"/>
                </a:lnTo>
                <a:lnTo>
                  <a:pt x="553" y="630"/>
                </a:lnTo>
                <a:lnTo>
                  <a:pt x="547" y="626"/>
                </a:lnTo>
                <a:lnTo>
                  <a:pt x="539" y="622"/>
                </a:lnTo>
                <a:lnTo>
                  <a:pt x="532" y="618"/>
                </a:lnTo>
                <a:lnTo>
                  <a:pt x="522" y="610"/>
                </a:lnTo>
                <a:lnTo>
                  <a:pt x="512" y="603"/>
                </a:lnTo>
                <a:lnTo>
                  <a:pt x="501" y="591"/>
                </a:lnTo>
                <a:lnTo>
                  <a:pt x="489" y="580"/>
                </a:lnTo>
                <a:lnTo>
                  <a:pt x="476" y="568"/>
                </a:lnTo>
                <a:lnTo>
                  <a:pt x="461" y="553"/>
                </a:lnTo>
                <a:lnTo>
                  <a:pt x="445" y="537"/>
                </a:lnTo>
                <a:lnTo>
                  <a:pt x="428" y="518"/>
                </a:lnTo>
                <a:lnTo>
                  <a:pt x="411" y="499"/>
                </a:lnTo>
                <a:lnTo>
                  <a:pt x="392" y="478"/>
                </a:lnTo>
                <a:lnTo>
                  <a:pt x="372" y="457"/>
                </a:lnTo>
                <a:lnTo>
                  <a:pt x="351" y="432"/>
                </a:lnTo>
                <a:lnTo>
                  <a:pt x="330" y="409"/>
                </a:lnTo>
                <a:lnTo>
                  <a:pt x="309" y="388"/>
                </a:lnTo>
                <a:lnTo>
                  <a:pt x="288" y="367"/>
                </a:lnTo>
                <a:lnTo>
                  <a:pt x="269" y="346"/>
                </a:lnTo>
                <a:lnTo>
                  <a:pt x="250" y="324"/>
                </a:lnTo>
                <a:lnTo>
                  <a:pt x="230" y="305"/>
                </a:lnTo>
                <a:lnTo>
                  <a:pt x="213" y="286"/>
                </a:lnTo>
                <a:lnTo>
                  <a:pt x="196" y="267"/>
                </a:lnTo>
                <a:lnTo>
                  <a:pt x="180" y="250"/>
                </a:lnTo>
                <a:lnTo>
                  <a:pt x="165" y="230"/>
                </a:lnTo>
                <a:lnTo>
                  <a:pt x="150" y="215"/>
                </a:lnTo>
                <a:lnTo>
                  <a:pt x="136" y="198"/>
                </a:lnTo>
                <a:lnTo>
                  <a:pt x="125" y="182"/>
                </a:lnTo>
                <a:lnTo>
                  <a:pt x="111" y="169"/>
                </a:lnTo>
                <a:lnTo>
                  <a:pt x="102" y="156"/>
                </a:lnTo>
                <a:lnTo>
                  <a:pt x="90" y="142"/>
                </a:lnTo>
                <a:lnTo>
                  <a:pt x="79" y="129"/>
                </a:lnTo>
                <a:lnTo>
                  <a:pt x="69" y="117"/>
                </a:lnTo>
                <a:lnTo>
                  <a:pt x="58" y="106"/>
                </a:lnTo>
                <a:lnTo>
                  <a:pt x="50" y="94"/>
                </a:lnTo>
                <a:lnTo>
                  <a:pt x="40" y="84"/>
                </a:lnTo>
                <a:lnTo>
                  <a:pt x="33" y="75"/>
                </a:lnTo>
                <a:lnTo>
                  <a:pt x="27" y="65"/>
                </a:lnTo>
                <a:lnTo>
                  <a:pt x="21" y="56"/>
                </a:lnTo>
                <a:lnTo>
                  <a:pt x="15" y="48"/>
                </a:lnTo>
                <a:lnTo>
                  <a:pt x="11" y="40"/>
                </a:lnTo>
                <a:lnTo>
                  <a:pt x="8" y="33"/>
                </a:lnTo>
                <a:lnTo>
                  <a:pt x="4" y="27"/>
                </a:lnTo>
                <a:lnTo>
                  <a:pt x="2" y="21"/>
                </a:lnTo>
                <a:lnTo>
                  <a:pt x="0" y="17"/>
                </a:lnTo>
                <a:lnTo>
                  <a:pt x="0" y="13"/>
                </a:lnTo>
                <a:lnTo>
                  <a:pt x="0" y="10"/>
                </a:lnTo>
                <a:lnTo>
                  <a:pt x="0" y="8"/>
                </a:lnTo>
                <a:lnTo>
                  <a:pt x="0" y="6"/>
                </a:lnTo>
                <a:lnTo>
                  <a:pt x="2" y="4"/>
                </a:lnTo>
                <a:lnTo>
                  <a:pt x="4" y="2"/>
                </a:lnTo>
                <a:lnTo>
                  <a:pt x="8" y="2"/>
                </a:lnTo>
                <a:lnTo>
                  <a:pt x="11" y="0"/>
                </a:lnTo>
                <a:lnTo>
                  <a:pt x="15" y="0"/>
                </a:lnTo>
                <a:lnTo>
                  <a:pt x="21" y="0"/>
                </a:lnTo>
                <a:lnTo>
                  <a:pt x="27" y="0"/>
                </a:lnTo>
                <a:lnTo>
                  <a:pt x="33" y="0"/>
                </a:lnTo>
                <a:lnTo>
                  <a:pt x="40" y="2"/>
                </a:lnTo>
                <a:lnTo>
                  <a:pt x="50" y="2"/>
                </a:lnTo>
                <a:lnTo>
                  <a:pt x="58" y="4"/>
                </a:lnTo>
                <a:lnTo>
                  <a:pt x="67" y="6"/>
                </a:lnTo>
                <a:lnTo>
                  <a:pt x="79" y="8"/>
                </a:lnTo>
                <a:lnTo>
                  <a:pt x="90" y="10"/>
                </a:lnTo>
                <a:lnTo>
                  <a:pt x="104" y="12"/>
                </a:lnTo>
                <a:lnTo>
                  <a:pt x="117" y="15"/>
                </a:lnTo>
                <a:lnTo>
                  <a:pt x="130" y="19"/>
                </a:lnTo>
                <a:lnTo>
                  <a:pt x="144" y="25"/>
                </a:lnTo>
                <a:lnTo>
                  <a:pt x="159" y="31"/>
                </a:lnTo>
                <a:lnTo>
                  <a:pt x="177" y="37"/>
                </a:lnTo>
                <a:lnTo>
                  <a:pt x="194" y="42"/>
                </a:lnTo>
                <a:lnTo>
                  <a:pt x="211" y="50"/>
                </a:lnTo>
                <a:lnTo>
                  <a:pt x="230" y="60"/>
                </a:lnTo>
                <a:lnTo>
                  <a:pt x="250" y="69"/>
                </a:lnTo>
                <a:lnTo>
                  <a:pt x="271" y="79"/>
                </a:lnTo>
                <a:lnTo>
                  <a:pt x="292" y="88"/>
                </a:lnTo>
                <a:lnTo>
                  <a:pt x="315" y="102"/>
                </a:lnTo>
                <a:lnTo>
                  <a:pt x="338" y="113"/>
                </a:lnTo>
                <a:lnTo>
                  <a:pt x="363" y="127"/>
                </a:lnTo>
                <a:lnTo>
                  <a:pt x="390" y="14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463"/>
          <p:cNvSpPr/>
          <p:nvPr/>
        </p:nvSpPr>
        <p:spPr>
          <a:xfrm>
            <a:off x="6369120" y="3375000"/>
            <a:ext cx="849240" cy="1222560"/>
          </a:xfrm>
          <a:custGeom>
            <a:avLst/>
            <a:gdLst/>
            <a:ahLst/>
            <a:rect l="l" t="t" r="r" b="b"/>
            <a:pathLst>
              <a:path w="1069" h="1539">
                <a:moveTo>
                  <a:pt x="2" y="1536"/>
                </a:moveTo>
                <a:lnTo>
                  <a:pt x="0" y="1534"/>
                </a:lnTo>
                <a:lnTo>
                  <a:pt x="0" y="1530"/>
                </a:lnTo>
                <a:lnTo>
                  <a:pt x="2" y="1526"/>
                </a:lnTo>
                <a:lnTo>
                  <a:pt x="4" y="1520"/>
                </a:lnTo>
                <a:lnTo>
                  <a:pt x="8" y="1516"/>
                </a:lnTo>
                <a:lnTo>
                  <a:pt x="13" y="1511"/>
                </a:lnTo>
                <a:lnTo>
                  <a:pt x="21" y="1503"/>
                </a:lnTo>
                <a:lnTo>
                  <a:pt x="29" y="1497"/>
                </a:lnTo>
                <a:lnTo>
                  <a:pt x="38" y="1490"/>
                </a:lnTo>
                <a:lnTo>
                  <a:pt x="50" y="1480"/>
                </a:lnTo>
                <a:lnTo>
                  <a:pt x="63" y="1472"/>
                </a:lnTo>
                <a:lnTo>
                  <a:pt x="77" y="1463"/>
                </a:lnTo>
                <a:lnTo>
                  <a:pt x="92" y="1451"/>
                </a:lnTo>
                <a:lnTo>
                  <a:pt x="107" y="1442"/>
                </a:lnTo>
                <a:lnTo>
                  <a:pt x="127" y="1430"/>
                </a:lnTo>
                <a:lnTo>
                  <a:pt x="144" y="1417"/>
                </a:lnTo>
                <a:lnTo>
                  <a:pt x="184" y="1392"/>
                </a:lnTo>
                <a:lnTo>
                  <a:pt x="225" y="1365"/>
                </a:lnTo>
                <a:lnTo>
                  <a:pt x="246" y="1349"/>
                </a:lnTo>
                <a:lnTo>
                  <a:pt x="267" y="1336"/>
                </a:lnTo>
                <a:lnTo>
                  <a:pt x="288" y="1321"/>
                </a:lnTo>
                <a:lnTo>
                  <a:pt x="311" y="1305"/>
                </a:lnTo>
                <a:lnTo>
                  <a:pt x="332" y="1288"/>
                </a:lnTo>
                <a:lnTo>
                  <a:pt x="355" y="1273"/>
                </a:lnTo>
                <a:lnTo>
                  <a:pt x="378" y="1253"/>
                </a:lnTo>
                <a:lnTo>
                  <a:pt x="401" y="1236"/>
                </a:lnTo>
                <a:lnTo>
                  <a:pt x="424" y="1217"/>
                </a:lnTo>
                <a:lnTo>
                  <a:pt x="447" y="1196"/>
                </a:lnTo>
                <a:lnTo>
                  <a:pt x="472" y="1175"/>
                </a:lnTo>
                <a:lnTo>
                  <a:pt x="495" y="1154"/>
                </a:lnTo>
                <a:lnTo>
                  <a:pt x="518" y="1131"/>
                </a:lnTo>
                <a:lnTo>
                  <a:pt x="539" y="1108"/>
                </a:lnTo>
                <a:lnTo>
                  <a:pt x="560" y="1083"/>
                </a:lnTo>
                <a:lnTo>
                  <a:pt x="580" y="1058"/>
                </a:lnTo>
                <a:lnTo>
                  <a:pt x="601" y="1033"/>
                </a:lnTo>
                <a:lnTo>
                  <a:pt x="620" y="1008"/>
                </a:lnTo>
                <a:lnTo>
                  <a:pt x="639" y="981"/>
                </a:lnTo>
                <a:lnTo>
                  <a:pt x="658" y="954"/>
                </a:lnTo>
                <a:lnTo>
                  <a:pt x="677" y="925"/>
                </a:lnTo>
                <a:lnTo>
                  <a:pt x="695" y="896"/>
                </a:lnTo>
                <a:lnTo>
                  <a:pt x="710" y="866"/>
                </a:lnTo>
                <a:lnTo>
                  <a:pt x="727" y="835"/>
                </a:lnTo>
                <a:lnTo>
                  <a:pt x="743" y="804"/>
                </a:lnTo>
                <a:lnTo>
                  <a:pt x="756" y="772"/>
                </a:lnTo>
                <a:lnTo>
                  <a:pt x="770" y="739"/>
                </a:lnTo>
                <a:lnTo>
                  <a:pt x="783" y="705"/>
                </a:lnTo>
                <a:lnTo>
                  <a:pt x="795" y="672"/>
                </a:lnTo>
                <a:lnTo>
                  <a:pt x="804" y="641"/>
                </a:lnTo>
                <a:lnTo>
                  <a:pt x="816" y="610"/>
                </a:lnTo>
                <a:lnTo>
                  <a:pt x="825" y="582"/>
                </a:lnTo>
                <a:lnTo>
                  <a:pt x="835" y="551"/>
                </a:lnTo>
                <a:lnTo>
                  <a:pt x="843" y="522"/>
                </a:lnTo>
                <a:lnTo>
                  <a:pt x="850" y="495"/>
                </a:lnTo>
                <a:lnTo>
                  <a:pt x="858" y="466"/>
                </a:lnTo>
                <a:lnTo>
                  <a:pt x="864" y="440"/>
                </a:lnTo>
                <a:lnTo>
                  <a:pt x="869" y="415"/>
                </a:lnTo>
                <a:lnTo>
                  <a:pt x="875" y="388"/>
                </a:lnTo>
                <a:lnTo>
                  <a:pt x="879" y="363"/>
                </a:lnTo>
                <a:lnTo>
                  <a:pt x="883" y="338"/>
                </a:lnTo>
                <a:lnTo>
                  <a:pt x="885" y="315"/>
                </a:lnTo>
                <a:lnTo>
                  <a:pt x="887" y="292"/>
                </a:lnTo>
                <a:lnTo>
                  <a:pt x="887" y="269"/>
                </a:lnTo>
                <a:lnTo>
                  <a:pt x="885" y="250"/>
                </a:lnTo>
                <a:lnTo>
                  <a:pt x="881" y="232"/>
                </a:lnTo>
                <a:lnTo>
                  <a:pt x="879" y="215"/>
                </a:lnTo>
                <a:lnTo>
                  <a:pt x="877" y="198"/>
                </a:lnTo>
                <a:lnTo>
                  <a:pt x="875" y="182"/>
                </a:lnTo>
                <a:lnTo>
                  <a:pt x="871" y="167"/>
                </a:lnTo>
                <a:lnTo>
                  <a:pt x="869" y="154"/>
                </a:lnTo>
                <a:lnTo>
                  <a:pt x="868" y="140"/>
                </a:lnTo>
                <a:lnTo>
                  <a:pt x="864" y="129"/>
                </a:lnTo>
                <a:lnTo>
                  <a:pt x="862" y="117"/>
                </a:lnTo>
                <a:lnTo>
                  <a:pt x="860" y="108"/>
                </a:lnTo>
                <a:lnTo>
                  <a:pt x="858" y="98"/>
                </a:lnTo>
                <a:lnTo>
                  <a:pt x="854" y="90"/>
                </a:lnTo>
                <a:lnTo>
                  <a:pt x="852" y="83"/>
                </a:lnTo>
                <a:lnTo>
                  <a:pt x="850" y="77"/>
                </a:lnTo>
                <a:lnTo>
                  <a:pt x="848" y="71"/>
                </a:lnTo>
                <a:lnTo>
                  <a:pt x="843" y="67"/>
                </a:lnTo>
                <a:lnTo>
                  <a:pt x="839" y="61"/>
                </a:lnTo>
                <a:lnTo>
                  <a:pt x="835" y="56"/>
                </a:lnTo>
                <a:lnTo>
                  <a:pt x="833" y="52"/>
                </a:lnTo>
                <a:lnTo>
                  <a:pt x="831" y="46"/>
                </a:lnTo>
                <a:lnTo>
                  <a:pt x="829" y="42"/>
                </a:lnTo>
                <a:lnTo>
                  <a:pt x="829" y="38"/>
                </a:lnTo>
                <a:lnTo>
                  <a:pt x="829" y="33"/>
                </a:lnTo>
                <a:lnTo>
                  <a:pt x="831" y="29"/>
                </a:lnTo>
                <a:lnTo>
                  <a:pt x="833" y="25"/>
                </a:lnTo>
                <a:lnTo>
                  <a:pt x="835" y="21"/>
                </a:lnTo>
                <a:lnTo>
                  <a:pt x="839" y="17"/>
                </a:lnTo>
                <a:lnTo>
                  <a:pt x="843" y="14"/>
                </a:lnTo>
                <a:lnTo>
                  <a:pt x="848" y="12"/>
                </a:lnTo>
                <a:lnTo>
                  <a:pt x="854" y="8"/>
                </a:lnTo>
                <a:lnTo>
                  <a:pt x="860" y="6"/>
                </a:lnTo>
                <a:lnTo>
                  <a:pt x="868" y="4"/>
                </a:lnTo>
                <a:lnTo>
                  <a:pt x="875" y="2"/>
                </a:lnTo>
                <a:lnTo>
                  <a:pt x="883" y="0"/>
                </a:lnTo>
                <a:lnTo>
                  <a:pt x="891" y="0"/>
                </a:lnTo>
                <a:lnTo>
                  <a:pt x="898" y="0"/>
                </a:lnTo>
                <a:lnTo>
                  <a:pt x="904" y="0"/>
                </a:lnTo>
                <a:lnTo>
                  <a:pt x="914" y="2"/>
                </a:lnTo>
                <a:lnTo>
                  <a:pt x="921" y="4"/>
                </a:lnTo>
                <a:lnTo>
                  <a:pt x="937" y="8"/>
                </a:lnTo>
                <a:lnTo>
                  <a:pt x="954" y="14"/>
                </a:lnTo>
                <a:lnTo>
                  <a:pt x="971" y="23"/>
                </a:lnTo>
                <a:lnTo>
                  <a:pt x="990" y="33"/>
                </a:lnTo>
                <a:lnTo>
                  <a:pt x="1000" y="37"/>
                </a:lnTo>
                <a:lnTo>
                  <a:pt x="1010" y="42"/>
                </a:lnTo>
                <a:lnTo>
                  <a:pt x="1017" y="46"/>
                </a:lnTo>
                <a:lnTo>
                  <a:pt x="1025" y="52"/>
                </a:lnTo>
                <a:lnTo>
                  <a:pt x="1031" y="56"/>
                </a:lnTo>
                <a:lnTo>
                  <a:pt x="1038" y="61"/>
                </a:lnTo>
                <a:lnTo>
                  <a:pt x="1044" y="65"/>
                </a:lnTo>
                <a:lnTo>
                  <a:pt x="1050" y="69"/>
                </a:lnTo>
                <a:lnTo>
                  <a:pt x="1054" y="75"/>
                </a:lnTo>
                <a:lnTo>
                  <a:pt x="1058" y="79"/>
                </a:lnTo>
                <a:lnTo>
                  <a:pt x="1061" y="83"/>
                </a:lnTo>
                <a:lnTo>
                  <a:pt x="1063" y="86"/>
                </a:lnTo>
                <a:lnTo>
                  <a:pt x="1065" y="88"/>
                </a:lnTo>
                <a:lnTo>
                  <a:pt x="1067" y="92"/>
                </a:lnTo>
                <a:lnTo>
                  <a:pt x="1069" y="96"/>
                </a:lnTo>
                <a:lnTo>
                  <a:pt x="1069" y="98"/>
                </a:lnTo>
                <a:lnTo>
                  <a:pt x="1069" y="104"/>
                </a:lnTo>
                <a:lnTo>
                  <a:pt x="1069" y="109"/>
                </a:lnTo>
                <a:lnTo>
                  <a:pt x="1069" y="115"/>
                </a:lnTo>
                <a:lnTo>
                  <a:pt x="1069" y="123"/>
                </a:lnTo>
                <a:lnTo>
                  <a:pt x="1069" y="131"/>
                </a:lnTo>
                <a:lnTo>
                  <a:pt x="1067" y="140"/>
                </a:lnTo>
                <a:lnTo>
                  <a:pt x="1067" y="148"/>
                </a:lnTo>
                <a:lnTo>
                  <a:pt x="1067" y="159"/>
                </a:lnTo>
                <a:lnTo>
                  <a:pt x="1065" y="169"/>
                </a:lnTo>
                <a:lnTo>
                  <a:pt x="1065" y="181"/>
                </a:lnTo>
                <a:lnTo>
                  <a:pt x="1063" y="194"/>
                </a:lnTo>
                <a:lnTo>
                  <a:pt x="1063" y="207"/>
                </a:lnTo>
                <a:lnTo>
                  <a:pt x="1061" y="221"/>
                </a:lnTo>
                <a:lnTo>
                  <a:pt x="1059" y="236"/>
                </a:lnTo>
                <a:lnTo>
                  <a:pt x="1058" y="252"/>
                </a:lnTo>
                <a:lnTo>
                  <a:pt x="1056" y="269"/>
                </a:lnTo>
                <a:lnTo>
                  <a:pt x="1054" y="286"/>
                </a:lnTo>
                <a:lnTo>
                  <a:pt x="1050" y="305"/>
                </a:lnTo>
                <a:lnTo>
                  <a:pt x="1048" y="324"/>
                </a:lnTo>
                <a:lnTo>
                  <a:pt x="1046" y="344"/>
                </a:lnTo>
                <a:lnTo>
                  <a:pt x="1042" y="363"/>
                </a:lnTo>
                <a:lnTo>
                  <a:pt x="1040" y="384"/>
                </a:lnTo>
                <a:lnTo>
                  <a:pt x="1036" y="405"/>
                </a:lnTo>
                <a:lnTo>
                  <a:pt x="1033" y="428"/>
                </a:lnTo>
                <a:lnTo>
                  <a:pt x="1029" y="449"/>
                </a:lnTo>
                <a:lnTo>
                  <a:pt x="1025" y="472"/>
                </a:lnTo>
                <a:lnTo>
                  <a:pt x="1019" y="497"/>
                </a:lnTo>
                <a:lnTo>
                  <a:pt x="1015" y="522"/>
                </a:lnTo>
                <a:lnTo>
                  <a:pt x="1010" y="547"/>
                </a:lnTo>
                <a:lnTo>
                  <a:pt x="1004" y="572"/>
                </a:lnTo>
                <a:lnTo>
                  <a:pt x="998" y="599"/>
                </a:lnTo>
                <a:lnTo>
                  <a:pt x="990" y="626"/>
                </a:lnTo>
                <a:lnTo>
                  <a:pt x="983" y="653"/>
                </a:lnTo>
                <a:lnTo>
                  <a:pt x="975" y="680"/>
                </a:lnTo>
                <a:lnTo>
                  <a:pt x="965" y="705"/>
                </a:lnTo>
                <a:lnTo>
                  <a:pt x="958" y="729"/>
                </a:lnTo>
                <a:lnTo>
                  <a:pt x="946" y="754"/>
                </a:lnTo>
                <a:lnTo>
                  <a:pt x="937" y="777"/>
                </a:lnTo>
                <a:lnTo>
                  <a:pt x="927" y="802"/>
                </a:lnTo>
                <a:lnTo>
                  <a:pt x="916" y="825"/>
                </a:lnTo>
                <a:lnTo>
                  <a:pt x="892" y="870"/>
                </a:lnTo>
                <a:lnTo>
                  <a:pt x="869" y="914"/>
                </a:lnTo>
                <a:lnTo>
                  <a:pt x="844" y="954"/>
                </a:lnTo>
                <a:lnTo>
                  <a:pt x="821" y="994"/>
                </a:lnTo>
                <a:lnTo>
                  <a:pt x="791" y="1035"/>
                </a:lnTo>
                <a:lnTo>
                  <a:pt x="760" y="1071"/>
                </a:lnTo>
                <a:lnTo>
                  <a:pt x="727" y="1108"/>
                </a:lnTo>
                <a:lnTo>
                  <a:pt x="695" y="1144"/>
                </a:lnTo>
                <a:lnTo>
                  <a:pt x="660" y="1177"/>
                </a:lnTo>
                <a:lnTo>
                  <a:pt x="624" y="1209"/>
                </a:lnTo>
                <a:lnTo>
                  <a:pt x="585" y="1242"/>
                </a:lnTo>
                <a:lnTo>
                  <a:pt x="549" y="1273"/>
                </a:lnTo>
                <a:lnTo>
                  <a:pt x="528" y="1288"/>
                </a:lnTo>
                <a:lnTo>
                  <a:pt x="509" y="1305"/>
                </a:lnTo>
                <a:lnTo>
                  <a:pt x="489" y="1321"/>
                </a:lnTo>
                <a:lnTo>
                  <a:pt x="468" y="1336"/>
                </a:lnTo>
                <a:lnTo>
                  <a:pt x="447" y="1351"/>
                </a:lnTo>
                <a:lnTo>
                  <a:pt x="426" y="1365"/>
                </a:lnTo>
                <a:lnTo>
                  <a:pt x="405" y="1378"/>
                </a:lnTo>
                <a:lnTo>
                  <a:pt x="384" y="1392"/>
                </a:lnTo>
                <a:lnTo>
                  <a:pt x="342" y="1417"/>
                </a:lnTo>
                <a:lnTo>
                  <a:pt x="297" y="1440"/>
                </a:lnTo>
                <a:lnTo>
                  <a:pt x="253" y="1463"/>
                </a:lnTo>
                <a:lnTo>
                  <a:pt x="209" y="1484"/>
                </a:lnTo>
                <a:lnTo>
                  <a:pt x="188" y="1490"/>
                </a:lnTo>
                <a:lnTo>
                  <a:pt x="167" y="1497"/>
                </a:lnTo>
                <a:lnTo>
                  <a:pt x="148" y="1503"/>
                </a:lnTo>
                <a:lnTo>
                  <a:pt x="130" y="1511"/>
                </a:lnTo>
                <a:lnTo>
                  <a:pt x="111" y="1516"/>
                </a:lnTo>
                <a:lnTo>
                  <a:pt x="96" y="1520"/>
                </a:lnTo>
                <a:lnTo>
                  <a:pt x="81" y="1526"/>
                </a:lnTo>
                <a:lnTo>
                  <a:pt x="67" y="1530"/>
                </a:lnTo>
                <a:lnTo>
                  <a:pt x="54" y="1534"/>
                </a:lnTo>
                <a:lnTo>
                  <a:pt x="42" y="1536"/>
                </a:lnTo>
                <a:lnTo>
                  <a:pt x="33" y="1538"/>
                </a:lnTo>
                <a:lnTo>
                  <a:pt x="23" y="1539"/>
                </a:lnTo>
                <a:lnTo>
                  <a:pt x="15" y="1539"/>
                </a:lnTo>
                <a:lnTo>
                  <a:pt x="10" y="1539"/>
                </a:lnTo>
                <a:lnTo>
                  <a:pt x="4" y="1538"/>
                </a:lnTo>
                <a:lnTo>
                  <a:pt x="2" y="15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464"/>
          <p:cNvSpPr/>
          <p:nvPr/>
        </p:nvSpPr>
        <p:spPr>
          <a:xfrm>
            <a:off x="6794640" y="3051000"/>
            <a:ext cx="784080" cy="1040040"/>
          </a:xfrm>
          <a:custGeom>
            <a:avLst/>
            <a:gdLst/>
            <a:ahLst/>
            <a:rect l="l" t="t" r="r" b="b"/>
            <a:pathLst>
              <a:path w="989" h="1311">
                <a:moveTo>
                  <a:pt x="899" y="745"/>
                </a:moveTo>
                <a:lnTo>
                  <a:pt x="899" y="770"/>
                </a:lnTo>
                <a:lnTo>
                  <a:pt x="897" y="795"/>
                </a:lnTo>
                <a:lnTo>
                  <a:pt x="897" y="820"/>
                </a:lnTo>
                <a:lnTo>
                  <a:pt x="897" y="843"/>
                </a:lnTo>
                <a:lnTo>
                  <a:pt x="897" y="866"/>
                </a:lnTo>
                <a:lnTo>
                  <a:pt x="897" y="889"/>
                </a:lnTo>
                <a:lnTo>
                  <a:pt x="897" y="910"/>
                </a:lnTo>
                <a:lnTo>
                  <a:pt x="895" y="931"/>
                </a:lnTo>
                <a:lnTo>
                  <a:pt x="895" y="952"/>
                </a:lnTo>
                <a:lnTo>
                  <a:pt x="895" y="971"/>
                </a:lnTo>
                <a:lnTo>
                  <a:pt x="893" y="991"/>
                </a:lnTo>
                <a:lnTo>
                  <a:pt x="893" y="1010"/>
                </a:lnTo>
                <a:lnTo>
                  <a:pt x="893" y="1027"/>
                </a:lnTo>
                <a:lnTo>
                  <a:pt x="891" y="1044"/>
                </a:lnTo>
                <a:lnTo>
                  <a:pt x="891" y="1062"/>
                </a:lnTo>
                <a:lnTo>
                  <a:pt x="889" y="1077"/>
                </a:lnTo>
                <a:lnTo>
                  <a:pt x="889" y="1092"/>
                </a:lnTo>
                <a:lnTo>
                  <a:pt x="887" y="1108"/>
                </a:lnTo>
                <a:lnTo>
                  <a:pt x="887" y="1121"/>
                </a:lnTo>
                <a:lnTo>
                  <a:pt x="885" y="1133"/>
                </a:lnTo>
                <a:lnTo>
                  <a:pt x="885" y="1146"/>
                </a:lnTo>
                <a:lnTo>
                  <a:pt x="883" y="1158"/>
                </a:lnTo>
                <a:lnTo>
                  <a:pt x="883" y="1169"/>
                </a:lnTo>
                <a:lnTo>
                  <a:pt x="881" y="1179"/>
                </a:lnTo>
                <a:lnTo>
                  <a:pt x="880" y="1188"/>
                </a:lnTo>
                <a:lnTo>
                  <a:pt x="880" y="1196"/>
                </a:lnTo>
                <a:lnTo>
                  <a:pt x="878" y="1204"/>
                </a:lnTo>
                <a:lnTo>
                  <a:pt x="878" y="1211"/>
                </a:lnTo>
                <a:lnTo>
                  <a:pt x="876" y="1217"/>
                </a:lnTo>
                <a:lnTo>
                  <a:pt x="874" y="1223"/>
                </a:lnTo>
                <a:lnTo>
                  <a:pt x="874" y="1229"/>
                </a:lnTo>
                <a:lnTo>
                  <a:pt x="872" y="1233"/>
                </a:lnTo>
                <a:lnTo>
                  <a:pt x="868" y="1242"/>
                </a:lnTo>
                <a:lnTo>
                  <a:pt x="862" y="1252"/>
                </a:lnTo>
                <a:lnTo>
                  <a:pt x="858" y="1259"/>
                </a:lnTo>
                <a:lnTo>
                  <a:pt x="855" y="1267"/>
                </a:lnTo>
                <a:lnTo>
                  <a:pt x="851" y="1275"/>
                </a:lnTo>
                <a:lnTo>
                  <a:pt x="847" y="1280"/>
                </a:lnTo>
                <a:lnTo>
                  <a:pt x="845" y="1286"/>
                </a:lnTo>
                <a:lnTo>
                  <a:pt x="841" y="1292"/>
                </a:lnTo>
                <a:lnTo>
                  <a:pt x="839" y="1296"/>
                </a:lnTo>
                <a:lnTo>
                  <a:pt x="835" y="1300"/>
                </a:lnTo>
                <a:lnTo>
                  <a:pt x="833" y="1304"/>
                </a:lnTo>
                <a:lnTo>
                  <a:pt x="830" y="1307"/>
                </a:lnTo>
                <a:lnTo>
                  <a:pt x="828" y="1309"/>
                </a:lnTo>
                <a:lnTo>
                  <a:pt x="826" y="1311"/>
                </a:lnTo>
                <a:lnTo>
                  <a:pt x="822" y="1311"/>
                </a:lnTo>
                <a:lnTo>
                  <a:pt x="820" y="1311"/>
                </a:lnTo>
                <a:lnTo>
                  <a:pt x="818" y="1311"/>
                </a:lnTo>
                <a:lnTo>
                  <a:pt x="814" y="1311"/>
                </a:lnTo>
                <a:lnTo>
                  <a:pt x="810" y="1309"/>
                </a:lnTo>
                <a:lnTo>
                  <a:pt x="809" y="1307"/>
                </a:lnTo>
                <a:lnTo>
                  <a:pt x="805" y="1304"/>
                </a:lnTo>
                <a:lnTo>
                  <a:pt x="801" y="1300"/>
                </a:lnTo>
                <a:lnTo>
                  <a:pt x="797" y="1296"/>
                </a:lnTo>
                <a:lnTo>
                  <a:pt x="793" y="1292"/>
                </a:lnTo>
                <a:lnTo>
                  <a:pt x="789" y="1286"/>
                </a:lnTo>
                <a:lnTo>
                  <a:pt x="787" y="1280"/>
                </a:lnTo>
                <a:lnTo>
                  <a:pt x="784" y="1275"/>
                </a:lnTo>
                <a:lnTo>
                  <a:pt x="780" y="1267"/>
                </a:lnTo>
                <a:lnTo>
                  <a:pt x="776" y="1259"/>
                </a:lnTo>
                <a:lnTo>
                  <a:pt x="774" y="1252"/>
                </a:lnTo>
                <a:lnTo>
                  <a:pt x="770" y="1242"/>
                </a:lnTo>
                <a:lnTo>
                  <a:pt x="768" y="1233"/>
                </a:lnTo>
                <a:lnTo>
                  <a:pt x="762" y="1225"/>
                </a:lnTo>
                <a:lnTo>
                  <a:pt x="759" y="1215"/>
                </a:lnTo>
                <a:lnTo>
                  <a:pt x="757" y="1206"/>
                </a:lnTo>
                <a:lnTo>
                  <a:pt x="753" y="1194"/>
                </a:lnTo>
                <a:lnTo>
                  <a:pt x="751" y="1181"/>
                </a:lnTo>
                <a:lnTo>
                  <a:pt x="749" y="1167"/>
                </a:lnTo>
                <a:lnTo>
                  <a:pt x="747" y="1152"/>
                </a:lnTo>
                <a:lnTo>
                  <a:pt x="747" y="1137"/>
                </a:lnTo>
                <a:lnTo>
                  <a:pt x="747" y="1119"/>
                </a:lnTo>
                <a:lnTo>
                  <a:pt x="747" y="1102"/>
                </a:lnTo>
                <a:lnTo>
                  <a:pt x="747" y="1085"/>
                </a:lnTo>
                <a:lnTo>
                  <a:pt x="747" y="1066"/>
                </a:lnTo>
                <a:lnTo>
                  <a:pt x="749" y="1046"/>
                </a:lnTo>
                <a:lnTo>
                  <a:pt x="751" y="1025"/>
                </a:lnTo>
                <a:lnTo>
                  <a:pt x="753" y="1004"/>
                </a:lnTo>
                <a:lnTo>
                  <a:pt x="755" y="981"/>
                </a:lnTo>
                <a:lnTo>
                  <a:pt x="757" y="960"/>
                </a:lnTo>
                <a:lnTo>
                  <a:pt x="759" y="935"/>
                </a:lnTo>
                <a:lnTo>
                  <a:pt x="761" y="912"/>
                </a:lnTo>
                <a:lnTo>
                  <a:pt x="762" y="887"/>
                </a:lnTo>
                <a:lnTo>
                  <a:pt x="762" y="862"/>
                </a:lnTo>
                <a:lnTo>
                  <a:pt x="764" y="837"/>
                </a:lnTo>
                <a:lnTo>
                  <a:pt x="764" y="810"/>
                </a:lnTo>
                <a:lnTo>
                  <a:pt x="766" y="783"/>
                </a:lnTo>
                <a:lnTo>
                  <a:pt x="766" y="756"/>
                </a:lnTo>
                <a:lnTo>
                  <a:pt x="766" y="728"/>
                </a:lnTo>
                <a:lnTo>
                  <a:pt x="768" y="699"/>
                </a:lnTo>
                <a:lnTo>
                  <a:pt x="768" y="670"/>
                </a:lnTo>
                <a:lnTo>
                  <a:pt x="768" y="639"/>
                </a:lnTo>
                <a:lnTo>
                  <a:pt x="768" y="609"/>
                </a:lnTo>
                <a:lnTo>
                  <a:pt x="768" y="578"/>
                </a:lnTo>
                <a:lnTo>
                  <a:pt x="768" y="547"/>
                </a:lnTo>
                <a:lnTo>
                  <a:pt x="768" y="515"/>
                </a:lnTo>
                <a:lnTo>
                  <a:pt x="768" y="486"/>
                </a:lnTo>
                <a:lnTo>
                  <a:pt x="768" y="457"/>
                </a:lnTo>
                <a:lnTo>
                  <a:pt x="768" y="430"/>
                </a:lnTo>
                <a:lnTo>
                  <a:pt x="768" y="405"/>
                </a:lnTo>
                <a:lnTo>
                  <a:pt x="766" y="382"/>
                </a:lnTo>
                <a:lnTo>
                  <a:pt x="766" y="359"/>
                </a:lnTo>
                <a:lnTo>
                  <a:pt x="766" y="338"/>
                </a:lnTo>
                <a:lnTo>
                  <a:pt x="766" y="319"/>
                </a:lnTo>
                <a:lnTo>
                  <a:pt x="764" y="302"/>
                </a:lnTo>
                <a:lnTo>
                  <a:pt x="764" y="286"/>
                </a:lnTo>
                <a:lnTo>
                  <a:pt x="762" y="273"/>
                </a:lnTo>
                <a:lnTo>
                  <a:pt x="761" y="259"/>
                </a:lnTo>
                <a:lnTo>
                  <a:pt x="759" y="248"/>
                </a:lnTo>
                <a:lnTo>
                  <a:pt x="757" y="238"/>
                </a:lnTo>
                <a:lnTo>
                  <a:pt x="755" y="231"/>
                </a:lnTo>
                <a:lnTo>
                  <a:pt x="753" y="223"/>
                </a:lnTo>
                <a:lnTo>
                  <a:pt x="749" y="215"/>
                </a:lnTo>
                <a:lnTo>
                  <a:pt x="745" y="209"/>
                </a:lnTo>
                <a:lnTo>
                  <a:pt x="743" y="206"/>
                </a:lnTo>
                <a:lnTo>
                  <a:pt x="739" y="200"/>
                </a:lnTo>
                <a:lnTo>
                  <a:pt x="734" y="196"/>
                </a:lnTo>
                <a:lnTo>
                  <a:pt x="730" y="192"/>
                </a:lnTo>
                <a:lnTo>
                  <a:pt x="724" y="188"/>
                </a:lnTo>
                <a:lnTo>
                  <a:pt x="718" y="186"/>
                </a:lnTo>
                <a:lnTo>
                  <a:pt x="713" y="183"/>
                </a:lnTo>
                <a:lnTo>
                  <a:pt x="705" y="181"/>
                </a:lnTo>
                <a:lnTo>
                  <a:pt x="697" y="179"/>
                </a:lnTo>
                <a:lnTo>
                  <a:pt x="690" y="179"/>
                </a:lnTo>
                <a:lnTo>
                  <a:pt x="682" y="177"/>
                </a:lnTo>
                <a:lnTo>
                  <a:pt x="672" y="177"/>
                </a:lnTo>
                <a:lnTo>
                  <a:pt x="665" y="177"/>
                </a:lnTo>
                <a:lnTo>
                  <a:pt x="659" y="177"/>
                </a:lnTo>
                <a:lnTo>
                  <a:pt x="651" y="177"/>
                </a:lnTo>
                <a:lnTo>
                  <a:pt x="645" y="179"/>
                </a:lnTo>
                <a:lnTo>
                  <a:pt x="636" y="179"/>
                </a:lnTo>
                <a:lnTo>
                  <a:pt x="626" y="179"/>
                </a:lnTo>
                <a:lnTo>
                  <a:pt x="617" y="181"/>
                </a:lnTo>
                <a:lnTo>
                  <a:pt x="605" y="183"/>
                </a:lnTo>
                <a:lnTo>
                  <a:pt x="594" y="185"/>
                </a:lnTo>
                <a:lnTo>
                  <a:pt x="580" y="186"/>
                </a:lnTo>
                <a:lnTo>
                  <a:pt x="565" y="188"/>
                </a:lnTo>
                <a:lnTo>
                  <a:pt x="549" y="190"/>
                </a:lnTo>
                <a:lnTo>
                  <a:pt x="534" y="192"/>
                </a:lnTo>
                <a:lnTo>
                  <a:pt x="517" y="196"/>
                </a:lnTo>
                <a:lnTo>
                  <a:pt x="498" y="198"/>
                </a:lnTo>
                <a:lnTo>
                  <a:pt x="478" y="202"/>
                </a:lnTo>
                <a:lnTo>
                  <a:pt x="459" y="204"/>
                </a:lnTo>
                <a:lnTo>
                  <a:pt x="438" y="208"/>
                </a:lnTo>
                <a:lnTo>
                  <a:pt x="415" y="211"/>
                </a:lnTo>
                <a:lnTo>
                  <a:pt x="392" y="215"/>
                </a:lnTo>
                <a:lnTo>
                  <a:pt x="367" y="219"/>
                </a:lnTo>
                <a:lnTo>
                  <a:pt x="342" y="223"/>
                </a:lnTo>
                <a:lnTo>
                  <a:pt x="317" y="229"/>
                </a:lnTo>
                <a:lnTo>
                  <a:pt x="288" y="232"/>
                </a:lnTo>
                <a:lnTo>
                  <a:pt x="262" y="238"/>
                </a:lnTo>
                <a:lnTo>
                  <a:pt x="233" y="242"/>
                </a:lnTo>
                <a:lnTo>
                  <a:pt x="202" y="248"/>
                </a:lnTo>
                <a:lnTo>
                  <a:pt x="171" y="254"/>
                </a:lnTo>
                <a:lnTo>
                  <a:pt x="139" y="259"/>
                </a:lnTo>
                <a:lnTo>
                  <a:pt x="106" y="265"/>
                </a:lnTo>
                <a:lnTo>
                  <a:pt x="71" y="271"/>
                </a:lnTo>
                <a:lnTo>
                  <a:pt x="37" y="277"/>
                </a:lnTo>
                <a:lnTo>
                  <a:pt x="0" y="282"/>
                </a:lnTo>
                <a:lnTo>
                  <a:pt x="0" y="231"/>
                </a:lnTo>
                <a:lnTo>
                  <a:pt x="0" y="177"/>
                </a:lnTo>
                <a:lnTo>
                  <a:pt x="52" y="171"/>
                </a:lnTo>
                <a:lnTo>
                  <a:pt x="106" y="165"/>
                </a:lnTo>
                <a:lnTo>
                  <a:pt x="158" y="158"/>
                </a:lnTo>
                <a:lnTo>
                  <a:pt x="208" y="150"/>
                </a:lnTo>
                <a:lnTo>
                  <a:pt x="260" y="140"/>
                </a:lnTo>
                <a:lnTo>
                  <a:pt x="311" y="131"/>
                </a:lnTo>
                <a:lnTo>
                  <a:pt x="363" y="121"/>
                </a:lnTo>
                <a:lnTo>
                  <a:pt x="417" y="112"/>
                </a:lnTo>
                <a:lnTo>
                  <a:pt x="442" y="106"/>
                </a:lnTo>
                <a:lnTo>
                  <a:pt x="467" y="102"/>
                </a:lnTo>
                <a:lnTo>
                  <a:pt x="492" y="96"/>
                </a:lnTo>
                <a:lnTo>
                  <a:pt x="515" y="90"/>
                </a:lnTo>
                <a:lnTo>
                  <a:pt x="536" y="87"/>
                </a:lnTo>
                <a:lnTo>
                  <a:pt x="555" y="81"/>
                </a:lnTo>
                <a:lnTo>
                  <a:pt x="574" y="77"/>
                </a:lnTo>
                <a:lnTo>
                  <a:pt x="592" y="71"/>
                </a:lnTo>
                <a:lnTo>
                  <a:pt x="609" y="67"/>
                </a:lnTo>
                <a:lnTo>
                  <a:pt x="624" y="62"/>
                </a:lnTo>
                <a:lnTo>
                  <a:pt x="638" y="56"/>
                </a:lnTo>
                <a:lnTo>
                  <a:pt x="651" y="52"/>
                </a:lnTo>
                <a:lnTo>
                  <a:pt x="663" y="46"/>
                </a:lnTo>
                <a:lnTo>
                  <a:pt x="672" y="42"/>
                </a:lnTo>
                <a:lnTo>
                  <a:pt x="682" y="37"/>
                </a:lnTo>
                <a:lnTo>
                  <a:pt x="690" y="33"/>
                </a:lnTo>
                <a:lnTo>
                  <a:pt x="705" y="23"/>
                </a:lnTo>
                <a:lnTo>
                  <a:pt x="718" y="14"/>
                </a:lnTo>
                <a:lnTo>
                  <a:pt x="734" y="8"/>
                </a:lnTo>
                <a:lnTo>
                  <a:pt x="747" y="4"/>
                </a:lnTo>
                <a:lnTo>
                  <a:pt x="753" y="2"/>
                </a:lnTo>
                <a:lnTo>
                  <a:pt x="761" y="0"/>
                </a:lnTo>
                <a:lnTo>
                  <a:pt x="766" y="0"/>
                </a:lnTo>
                <a:lnTo>
                  <a:pt x="772" y="0"/>
                </a:lnTo>
                <a:lnTo>
                  <a:pt x="778" y="0"/>
                </a:lnTo>
                <a:lnTo>
                  <a:pt x="784" y="2"/>
                </a:lnTo>
                <a:lnTo>
                  <a:pt x="789" y="4"/>
                </a:lnTo>
                <a:lnTo>
                  <a:pt x="793" y="6"/>
                </a:lnTo>
                <a:lnTo>
                  <a:pt x="805" y="10"/>
                </a:lnTo>
                <a:lnTo>
                  <a:pt x="816" y="16"/>
                </a:lnTo>
                <a:lnTo>
                  <a:pt x="828" y="21"/>
                </a:lnTo>
                <a:lnTo>
                  <a:pt x="843" y="27"/>
                </a:lnTo>
                <a:lnTo>
                  <a:pt x="858" y="33"/>
                </a:lnTo>
                <a:lnTo>
                  <a:pt x="874" y="41"/>
                </a:lnTo>
                <a:lnTo>
                  <a:pt x="891" y="48"/>
                </a:lnTo>
                <a:lnTo>
                  <a:pt x="910" y="58"/>
                </a:lnTo>
                <a:lnTo>
                  <a:pt x="926" y="73"/>
                </a:lnTo>
                <a:lnTo>
                  <a:pt x="937" y="87"/>
                </a:lnTo>
                <a:lnTo>
                  <a:pt x="949" y="98"/>
                </a:lnTo>
                <a:lnTo>
                  <a:pt x="960" y="110"/>
                </a:lnTo>
                <a:lnTo>
                  <a:pt x="970" y="121"/>
                </a:lnTo>
                <a:lnTo>
                  <a:pt x="977" y="131"/>
                </a:lnTo>
                <a:lnTo>
                  <a:pt x="983" y="140"/>
                </a:lnTo>
                <a:lnTo>
                  <a:pt x="989" y="150"/>
                </a:lnTo>
                <a:lnTo>
                  <a:pt x="989" y="160"/>
                </a:lnTo>
                <a:lnTo>
                  <a:pt x="987" y="171"/>
                </a:lnTo>
                <a:lnTo>
                  <a:pt x="983" y="181"/>
                </a:lnTo>
                <a:lnTo>
                  <a:pt x="979" y="192"/>
                </a:lnTo>
                <a:lnTo>
                  <a:pt x="974" y="204"/>
                </a:lnTo>
                <a:lnTo>
                  <a:pt x="968" y="215"/>
                </a:lnTo>
                <a:lnTo>
                  <a:pt x="958" y="229"/>
                </a:lnTo>
                <a:lnTo>
                  <a:pt x="951" y="244"/>
                </a:lnTo>
                <a:lnTo>
                  <a:pt x="949" y="248"/>
                </a:lnTo>
                <a:lnTo>
                  <a:pt x="945" y="252"/>
                </a:lnTo>
                <a:lnTo>
                  <a:pt x="943" y="257"/>
                </a:lnTo>
                <a:lnTo>
                  <a:pt x="941" y="263"/>
                </a:lnTo>
                <a:lnTo>
                  <a:pt x="939" y="271"/>
                </a:lnTo>
                <a:lnTo>
                  <a:pt x="937" y="279"/>
                </a:lnTo>
                <a:lnTo>
                  <a:pt x="935" y="288"/>
                </a:lnTo>
                <a:lnTo>
                  <a:pt x="933" y="298"/>
                </a:lnTo>
                <a:lnTo>
                  <a:pt x="931" y="307"/>
                </a:lnTo>
                <a:lnTo>
                  <a:pt x="929" y="319"/>
                </a:lnTo>
                <a:lnTo>
                  <a:pt x="928" y="330"/>
                </a:lnTo>
                <a:lnTo>
                  <a:pt x="926" y="342"/>
                </a:lnTo>
                <a:lnTo>
                  <a:pt x="924" y="355"/>
                </a:lnTo>
                <a:lnTo>
                  <a:pt x="922" y="371"/>
                </a:lnTo>
                <a:lnTo>
                  <a:pt x="920" y="384"/>
                </a:lnTo>
                <a:lnTo>
                  <a:pt x="920" y="399"/>
                </a:lnTo>
                <a:lnTo>
                  <a:pt x="918" y="417"/>
                </a:lnTo>
                <a:lnTo>
                  <a:pt x="916" y="432"/>
                </a:lnTo>
                <a:lnTo>
                  <a:pt x="914" y="451"/>
                </a:lnTo>
                <a:lnTo>
                  <a:pt x="914" y="469"/>
                </a:lnTo>
                <a:lnTo>
                  <a:pt x="912" y="488"/>
                </a:lnTo>
                <a:lnTo>
                  <a:pt x="910" y="507"/>
                </a:lnTo>
                <a:lnTo>
                  <a:pt x="908" y="528"/>
                </a:lnTo>
                <a:lnTo>
                  <a:pt x="908" y="549"/>
                </a:lnTo>
                <a:lnTo>
                  <a:pt x="906" y="570"/>
                </a:lnTo>
                <a:lnTo>
                  <a:pt x="905" y="593"/>
                </a:lnTo>
                <a:lnTo>
                  <a:pt x="905" y="616"/>
                </a:lnTo>
                <a:lnTo>
                  <a:pt x="903" y="641"/>
                </a:lnTo>
                <a:lnTo>
                  <a:pt x="901" y="666"/>
                </a:lnTo>
                <a:lnTo>
                  <a:pt x="901" y="691"/>
                </a:lnTo>
                <a:lnTo>
                  <a:pt x="899" y="718"/>
                </a:lnTo>
                <a:lnTo>
                  <a:pt x="899" y="74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465"/>
          <p:cNvSpPr/>
          <p:nvPr/>
        </p:nvSpPr>
        <p:spPr>
          <a:xfrm>
            <a:off x="6694560" y="3166920"/>
            <a:ext cx="150840" cy="893880"/>
          </a:xfrm>
          <a:custGeom>
            <a:avLst/>
            <a:gdLst/>
            <a:ahLst/>
            <a:rect l="l" t="t" r="r" b="b"/>
            <a:pathLst>
              <a:path w="190" h="1127">
                <a:moveTo>
                  <a:pt x="21" y="98"/>
                </a:moveTo>
                <a:lnTo>
                  <a:pt x="15" y="86"/>
                </a:lnTo>
                <a:lnTo>
                  <a:pt x="11" y="79"/>
                </a:lnTo>
                <a:lnTo>
                  <a:pt x="7" y="69"/>
                </a:lnTo>
                <a:lnTo>
                  <a:pt x="5" y="62"/>
                </a:lnTo>
                <a:lnTo>
                  <a:pt x="4" y="54"/>
                </a:lnTo>
                <a:lnTo>
                  <a:pt x="2" y="48"/>
                </a:lnTo>
                <a:lnTo>
                  <a:pt x="2" y="42"/>
                </a:lnTo>
                <a:lnTo>
                  <a:pt x="0" y="37"/>
                </a:lnTo>
                <a:lnTo>
                  <a:pt x="2" y="31"/>
                </a:lnTo>
                <a:lnTo>
                  <a:pt x="2" y="25"/>
                </a:lnTo>
                <a:lnTo>
                  <a:pt x="4" y="21"/>
                </a:lnTo>
                <a:lnTo>
                  <a:pt x="5" y="17"/>
                </a:lnTo>
                <a:lnTo>
                  <a:pt x="7" y="14"/>
                </a:lnTo>
                <a:lnTo>
                  <a:pt x="11" y="10"/>
                </a:lnTo>
                <a:lnTo>
                  <a:pt x="15" y="8"/>
                </a:lnTo>
                <a:lnTo>
                  <a:pt x="21" y="4"/>
                </a:lnTo>
                <a:lnTo>
                  <a:pt x="25" y="2"/>
                </a:lnTo>
                <a:lnTo>
                  <a:pt x="30" y="0"/>
                </a:lnTo>
                <a:lnTo>
                  <a:pt x="38" y="0"/>
                </a:lnTo>
                <a:lnTo>
                  <a:pt x="44" y="0"/>
                </a:lnTo>
                <a:lnTo>
                  <a:pt x="52" y="0"/>
                </a:lnTo>
                <a:lnTo>
                  <a:pt x="61" y="0"/>
                </a:lnTo>
                <a:lnTo>
                  <a:pt x="71" y="2"/>
                </a:lnTo>
                <a:lnTo>
                  <a:pt x="80" y="4"/>
                </a:lnTo>
                <a:lnTo>
                  <a:pt x="90" y="8"/>
                </a:lnTo>
                <a:lnTo>
                  <a:pt x="101" y="10"/>
                </a:lnTo>
                <a:lnTo>
                  <a:pt x="115" y="14"/>
                </a:lnTo>
                <a:lnTo>
                  <a:pt x="128" y="19"/>
                </a:lnTo>
                <a:lnTo>
                  <a:pt x="142" y="25"/>
                </a:lnTo>
                <a:lnTo>
                  <a:pt x="157" y="31"/>
                </a:lnTo>
                <a:lnTo>
                  <a:pt x="172" y="37"/>
                </a:lnTo>
                <a:lnTo>
                  <a:pt x="190" y="44"/>
                </a:lnTo>
                <a:lnTo>
                  <a:pt x="190" y="100"/>
                </a:lnTo>
                <a:lnTo>
                  <a:pt x="190" y="156"/>
                </a:lnTo>
                <a:lnTo>
                  <a:pt x="188" y="209"/>
                </a:lnTo>
                <a:lnTo>
                  <a:pt x="188" y="261"/>
                </a:lnTo>
                <a:lnTo>
                  <a:pt x="188" y="313"/>
                </a:lnTo>
                <a:lnTo>
                  <a:pt x="188" y="365"/>
                </a:lnTo>
                <a:lnTo>
                  <a:pt x="188" y="413"/>
                </a:lnTo>
                <a:lnTo>
                  <a:pt x="188" y="461"/>
                </a:lnTo>
                <a:lnTo>
                  <a:pt x="186" y="509"/>
                </a:lnTo>
                <a:lnTo>
                  <a:pt x="186" y="555"/>
                </a:lnTo>
                <a:lnTo>
                  <a:pt x="184" y="599"/>
                </a:lnTo>
                <a:lnTo>
                  <a:pt x="184" y="643"/>
                </a:lnTo>
                <a:lnTo>
                  <a:pt x="182" y="685"/>
                </a:lnTo>
                <a:lnTo>
                  <a:pt x="180" y="728"/>
                </a:lnTo>
                <a:lnTo>
                  <a:pt x="178" y="770"/>
                </a:lnTo>
                <a:lnTo>
                  <a:pt x="176" y="810"/>
                </a:lnTo>
                <a:lnTo>
                  <a:pt x="174" y="829"/>
                </a:lnTo>
                <a:lnTo>
                  <a:pt x="174" y="848"/>
                </a:lnTo>
                <a:lnTo>
                  <a:pt x="172" y="866"/>
                </a:lnTo>
                <a:lnTo>
                  <a:pt x="171" y="883"/>
                </a:lnTo>
                <a:lnTo>
                  <a:pt x="171" y="900"/>
                </a:lnTo>
                <a:lnTo>
                  <a:pt x="169" y="918"/>
                </a:lnTo>
                <a:lnTo>
                  <a:pt x="167" y="933"/>
                </a:lnTo>
                <a:lnTo>
                  <a:pt x="167" y="948"/>
                </a:lnTo>
                <a:lnTo>
                  <a:pt x="165" y="962"/>
                </a:lnTo>
                <a:lnTo>
                  <a:pt x="165" y="977"/>
                </a:lnTo>
                <a:lnTo>
                  <a:pt x="163" y="989"/>
                </a:lnTo>
                <a:lnTo>
                  <a:pt x="161" y="1002"/>
                </a:lnTo>
                <a:lnTo>
                  <a:pt x="161" y="1014"/>
                </a:lnTo>
                <a:lnTo>
                  <a:pt x="159" y="1025"/>
                </a:lnTo>
                <a:lnTo>
                  <a:pt x="157" y="1037"/>
                </a:lnTo>
                <a:lnTo>
                  <a:pt x="157" y="1046"/>
                </a:lnTo>
                <a:lnTo>
                  <a:pt x="155" y="1056"/>
                </a:lnTo>
                <a:lnTo>
                  <a:pt x="153" y="1065"/>
                </a:lnTo>
                <a:lnTo>
                  <a:pt x="153" y="1073"/>
                </a:lnTo>
                <a:lnTo>
                  <a:pt x="151" y="1081"/>
                </a:lnTo>
                <a:lnTo>
                  <a:pt x="151" y="1088"/>
                </a:lnTo>
                <a:lnTo>
                  <a:pt x="149" y="1094"/>
                </a:lnTo>
                <a:lnTo>
                  <a:pt x="147" y="1100"/>
                </a:lnTo>
                <a:lnTo>
                  <a:pt x="147" y="1106"/>
                </a:lnTo>
                <a:lnTo>
                  <a:pt x="146" y="1111"/>
                </a:lnTo>
                <a:lnTo>
                  <a:pt x="144" y="1115"/>
                </a:lnTo>
                <a:lnTo>
                  <a:pt x="144" y="1117"/>
                </a:lnTo>
                <a:lnTo>
                  <a:pt x="142" y="1121"/>
                </a:lnTo>
                <a:lnTo>
                  <a:pt x="140" y="1123"/>
                </a:lnTo>
                <a:lnTo>
                  <a:pt x="140" y="1125"/>
                </a:lnTo>
                <a:lnTo>
                  <a:pt x="138" y="1125"/>
                </a:lnTo>
                <a:lnTo>
                  <a:pt x="138" y="1127"/>
                </a:lnTo>
                <a:lnTo>
                  <a:pt x="132" y="1125"/>
                </a:lnTo>
                <a:lnTo>
                  <a:pt x="126" y="1125"/>
                </a:lnTo>
                <a:lnTo>
                  <a:pt x="123" y="1123"/>
                </a:lnTo>
                <a:lnTo>
                  <a:pt x="117" y="1121"/>
                </a:lnTo>
                <a:lnTo>
                  <a:pt x="113" y="1117"/>
                </a:lnTo>
                <a:lnTo>
                  <a:pt x="107" y="1113"/>
                </a:lnTo>
                <a:lnTo>
                  <a:pt x="103" y="1110"/>
                </a:lnTo>
                <a:lnTo>
                  <a:pt x="98" y="1104"/>
                </a:lnTo>
                <a:lnTo>
                  <a:pt x="94" y="1098"/>
                </a:lnTo>
                <a:lnTo>
                  <a:pt x="88" y="1092"/>
                </a:lnTo>
                <a:lnTo>
                  <a:pt x="82" y="1085"/>
                </a:lnTo>
                <a:lnTo>
                  <a:pt x="78" y="1077"/>
                </a:lnTo>
                <a:lnTo>
                  <a:pt x="73" y="1067"/>
                </a:lnTo>
                <a:lnTo>
                  <a:pt x="69" y="1056"/>
                </a:lnTo>
                <a:lnTo>
                  <a:pt x="63" y="1046"/>
                </a:lnTo>
                <a:lnTo>
                  <a:pt x="59" y="1035"/>
                </a:lnTo>
                <a:lnTo>
                  <a:pt x="52" y="1023"/>
                </a:lnTo>
                <a:lnTo>
                  <a:pt x="46" y="1014"/>
                </a:lnTo>
                <a:lnTo>
                  <a:pt x="40" y="1006"/>
                </a:lnTo>
                <a:lnTo>
                  <a:pt x="34" y="996"/>
                </a:lnTo>
                <a:lnTo>
                  <a:pt x="30" y="989"/>
                </a:lnTo>
                <a:lnTo>
                  <a:pt x="25" y="979"/>
                </a:lnTo>
                <a:lnTo>
                  <a:pt x="21" y="971"/>
                </a:lnTo>
                <a:lnTo>
                  <a:pt x="19" y="964"/>
                </a:lnTo>
                <a:lnTo>
                  <a:pt x="13" y="950"/>
                </a:lnTo>
                <a:lnTo>
                  <a:pt x="9" y="937"/>
                </a:lnTo>
                <a:lnTo>
                  <a:pt x="7" y="925"/>
                </a:lnTo>
                <a:lnTo>
                  <a:pt x="7" y="916"/>
                </a:lnTo>
                <a:lnTo>
                  <a:pt x="7" y="912"/>
                </a:lnTo>
                <a:lnTo>
                  <a:pt x="7" y="906"/>
                </a:lnTo>
                <a:lnTo>
                  <a:pt x="7" y="900"/>
                </a:lnTo>
                <a:lnTo>
                  <a:pt x="9" y="893"/>
                </a:lnTo>
                <a:lnTo>
                  <a:pt x="11" y="883"/>
                </a:lnTo>
                <a:lnTo>
                  <a:pt x="11" y="872"/>
                </a:lnTo>
                <a:lnTo>
                  <a:pt x="13" y="860"/>
                </a:lnTo>
                <a:lnTo>
                  <a:pt x="15" y="847"/>
                </a:lnTo>
                <a:lnTo>
                  <a:pt x="17" y="829"/>
                </a:lnTo>
                <a:lnTo>
                  <a:pt x="19" y="812"/>
                </a:lnTo>
                <a:lnTo>
                  <a:pt x="21" y="795"/>
                </a:lnTo>
                <a:lnTo>
                  <a:pt x="23" y="774"/>
                </a:lnTo>
                <a:lnTo>
                  <a:pt x="27" y="753"/>
                </a:lnTo>
                <a:lnTo>
                  <a:pt x="28" y="729"/>
                </a:lnTo>
                <a:lnTo>
                  <a:pt x="30" y="705"/>
                </a:lnTo>
                <a:lnTo>
                  <a:pt x="32" y="678"/>
                </a:lnTo>
                <a:lnTo>
                  <a:pt x="36" y="651"/>
                </a:lnTo>
                <a:lnTo>
                  <a:pt x="38" y="624"/>
                </a:lnTo>
                <a:lnTo>
                  <a:pt x="40" y="599"/>
                </a:lnTo>
                <a:lnTo>
                  <a:pt x="42" y="574"/>
                </a:lnTo>
                <a:lnTo>
                  <a:pt x="44" y="549"/>
                </a:lnTo>
                <a:lnTo>
                  <a:pt x="48" y="524"/>
                </a:lnTo>
                <a:lnTo>
                  <a:pt x="50" y="501"/>
                </a:lnTo>
                <a:lnTo>
                  <a:pt x="52" y="478"/>
                </a:lnTo>
                <a:lnTo>
                  <a:pt x="53" y="434"/>
                </a:lnTo>
                <a:lnTo>
                  <a:pt x="57" y="390"/>
                </a:lnTo>
                <a:lnTo>
                  <a:pt x="57" y="348"/>
                </a:lnTo>
                <a:lnTo>
                  <a:pt x="59" y="309"/>
                </a:lnTo>
                <a:lnTo>
                  <a:pt x="57" y="275"/>
                </a:lnTo>
                <a:lnTo>
                  <a:pt x="55" y="242"/>
                </a:lnTo>
                <a:lnTo>
                  <a:pt x="55" y="227"/>
                </a:lnTo>
                <a:lnTo>
                  <a:pt x="53" y="211"/>
                </a:lnTo>
                <a:lnTo>
                  <a:pt x="52" y="196"/>
                </a:lnTo>
                <a:lnTo>
                  <a:pt x="50" y="182"/>
                </a:lnTo>
                <a:lnTo>
                  <a:pt x="46" y="169"/>
                </a:lnTo>
                <a:lnTo>
                  <a:pt x="44" y="158"/>
                </a:lnTo>
                <a:lnTo>
                  <a:pt x="40" y="146"/>
                </a:lnTo>
                <a:lnTo>
                  <a:pt x="36" y="134"/>
                </a:lnTo>
                <a:lnTo>
                  <a:pt x="32" y="123"/>
                </a:lnTo>
                <a:lnTo>
                  <a:pt x="28" y="113"/>
                </a:lnTo>
                <a:lnTo>
                  <a:pt x="25" y="106"/>
                </a:lnTo>
                <a:lnTo>
                  <a:pt x="21" y="9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466"/>
          <p:cNvSpPr/>
          <p:nvPr/>
        </p:nvSpPr>
        <p:spPr>
          <a:xfrm>
            <a:off x="6907320" y="2752560"/>
            <a:ext cx="269640" cy="449280"/>
          </a:xfrm>
          <a:custGeom>
            <a:avLst/>
            <a:gdLst/>
            <a:ahLst/>
            <a:rect l="l" t="t" r="r" b="b"/>
            <a:pathLst>
              <a:path w="340" h="566">
                <a:moveTo>
                  <a:pt x="196" y="369"/>
                </a:moveTo>
                <a:lnTo>
                  <a:pt x="179" y="392"/>
                </a:lnTo>
                <a:lnTo>
                  <a:pt x="164" y="415"/>
                </a:lnTo>
                <a:lnTo>
                  <a:pt x="148" y="436"/>
                </a:lnTo>
                <a:lnTo>
                  <a:pt x="133" y="455"/>
                </a:lnTo>
                <a:lnTo>
                  <a:pt x="120" y="472"/>
                </a:lnTo>
                <a:lnTo>
                  <a:pt x="106" y="489"/>
                </a:lnTo>
                <a:lnTo>
                  <a:pt x="93" y="505"/>
                </a:lnTo>
                <a:lnTo>
                  <a:pt x="79" y="516"/>
                </a:lnTo>
                <a:lnTo>
                  <a:pt x="68" y="528"/>
                </a:lnTo>
                <a:lnTo>
                  <a:pt x="56" y="539"/>
                </a:lnTo>
                <a:lnTo>
                  <a:pt x="47" y="547"/>
                </a:lnTo>
                <a:lnTo>
                  <a:pt x="35" y="555"/>
                </a:lnTo>
                <a:lnTo>
                  <a:pt x="25" y="559"/>
                </a:lnTo>
                <a:lnTo>
                  <a:pt x="18" y="562"/>
                </a:lnTo>
                <a:lnTo>
                  <a:pt x="8" y="566"/>
                </a:lnTo>
                <a:lnTo>
                  <a:pt x="0" y="566"/>
                </a:lnTo>
                <a:lnTo>
                  <a:pt x="43" y="424"/>
                </a:lnTo>
                <a:lnTo>
                  <a:pt x="85" y="282"/>
                </a:lnTo>
                <a:lnTo>
                  <a:pt x="129" y="140"/>
                </a:lnTo>
                <a:lnTo>
                  <a:pt x="171" y="0"/>
                </a:lnTo>
                <a:lnTo>
                  <a:pt x="189" y="12"/>
                </a:lnTo>
                <a:lnTo>
                  <a:pt x="206" y="23"/>
                </a:lnTo>
                <a:lnTo>
                  <a:pt x="223" y="35"/>
                </a:lnTo>
                <a:lnTo>
                  <a:pt x="239" y="46"/>
                </a:lnTo>
                <a:lnTo>
                  <a:pt x="252" y="56"/>
                </a:lnTo>
                <a:lnTo>
                  <a:pt x="265" y="67"/>
                </a:lnTo>
                <a:lnTo>
                  <a:pt x="277" y="77"/>
                </a:lnTo>
                <a:lnTo>
                  <a:pt x="288" y="84"/>
                </a:lnTo>
                <a:lnTo>
                  <a:pt x="298" y="94"/>
                </a:lnTo>
                <a:lnTo>
                  <a:pt x="308" y="102"/>
                </a:lnTo>
                <a:lnTo>
                  <a:pt x="315" y="108"/>
                </a:lnTo>
                <a:lnTo>
                  <a:pt x="321" y="113"/>
                </a:lnTo>
                <a:lnTo>
                  <a:pt x="327" y="119"/>
                </a:lnTo>
                <a:lnTo>
                  <a:pt x="333" y="125"/>
                </a:lnTo>
                <a:lnTo>
                  <a:pt x="336" y="129"/>
                </a:lnTo>
                <a:lnTo>
                  <a:pt x="340" y="131"/>
                </a:lnTo>
                <a:lnTo>
                  <a:pt x="338" y="136"/>
                </a:lnTo>
                <a:lnTo>
                  <a:pt x="336" y="144"/>
                </a:lnTo>
                <a:lnTo>
                  <a:pt x="334" y="152"/>
                </a:lnTo>
                <a:lnTo>
                  <a:pt x="329" y="161"/>
                </a:lnTo>
                <a:lnTo>
                  <a:pt x="325" y="171"/>
                </a:lnTo>
                <a:lnTo>
                  <a:pt x="317" y="182"/>
                </a:lnTo>
                <a:lnTo>
                  <a:pt x="310" y="196"/>
                </a:lnTo>
                <a:lnTo>
                  <a:pt x="302" y="209"/>
                </a:lnTo>
                <a:lnTo>
                  <a:pt x="292" y="225"/>
                </a:lnTo>
                <a:lnTo>
                  <a:pt x="281" y="242"/>
                </a:lnTo>
                <a:lnTo>
                  <a:pt x="269" y="259"/>
                </a:lnTo>
                <a:lnTo>
                  <a:pt x="256" y="278"/>
                </a:lnTo>
                <a:lnTo>
                  <a:pt x="242" y="299"/>
                </a:lnTo>
                <a:lnTo>
                  <a:pt x="229" y="321"/>
                </a:lnTo>
                <a:lnTo>
                  <a:pt x="214" y="344"/>
                </a:lnTo>
                <a:lnTo>
                  <a:pt x="196" y="3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467"/>
          <p:cNvSpPr/>
          <p:nvPr/>
        </p:nvSpPr>
        <p:spPr>
          <a:xfrm>
            <a:off x="6711840" y="2614680"/>
            <a:ext cx="960480" cy="233280"/>
          </a:xfrm>
          <a:custGeom>
            <a:avLst/>
            <a:gdLst/>
            <a:ahLst/>
            <a:rect l="l" t="t" r="r" b="b"/>
            <a:pathLst>
              <a:path w="1209" h="294">
                <a:moveTo>
                  <a:pt x="455" y="119"/>
                </a:moveTo>
                <a:lnTo>
                  <a:pt x="485" y="112"/>
                </a:lnTo>
                <a:lnTo>
                  <a:pt x="516" y="104"/>
                </a:lnTo>
                <a:lnTo>
                  <a:pt x="545" y="98"/>
                </a:lnTo>
                <a:lnTo>
                  <a:pt x="572" y="92"/>
                </a:lnTo>
                <a:lnTo>
                  <a:pt x="599" y="85"/>
                </a:lnTo>
                <a:lnTo>
                  <a:pt x="624" y="79"/>
                </a:lnTo>
                <a:lnTo>
                  <a:pt x="649" y="73"/>
                </a:lnTo>
                <a:lnTo>
                  <a:pt x="672" y="67"/>
                </a:lnTo>
                <a:lnTo>
                  <a:pt x="695" y="62"/>
                </a:lnTo>
                <a:lnTo>
                  <a:pt x="718" y="58"/>
                </a:lnTo>
                <a:lnTo>
                  <a:pt x="739" y="52"/>
                </a:lnTo>
                <a:lnTo>
                  <a:pt x="758" y="46"/>
                </a:lnTo>
                <a:lnTo>
                  <a:pt x="777" y="43"/>
                </a:lnTo>
                <a:lnTo>
                  <a:pt x="796" y="37"/>
                </a:lnTo>
                <a:lnTo>
                  <a:pt x="814" y="31"/>
                </a:lnTo>
                <a:lnTo>
                  <a:pt x="833" y="27"/>
                </a:lnTo>
                <a:lnTo>
                  <a:pt x="846" y="23"/>
                </a:lnTo>
                <a:lnTo>
                  <a:pt x="860" y="21"/>
                </a:lnTo>
                <a:lnTo>
                  <a:pt x="873" y="19"/>
                </a:lnTo>
                <a:lnTo>
                  <a:pt x="887" y="18"/>
                </a:lnTo>
                <a:lnTo>
                  <a:pt x="898" y="14"/>
                </a:lnTo>
                <a:lnTo>
                  <a:pt x="910" y="12"/>
                </a:lnTo>
                <a:lnTo>
                  <a:pt x="921" y="10"/>
                </a:lnTo>
                <a:lnTo>
                  <a:pt x="931" y="8"/>
                </a:lnTo>
                <a:lnTo>
                  <a:pt x="950" y="6"/>
                </a:lnTo>
                <a:lnTo>
                  <a:pt x="969" y="2"/>
                </a:lnTo>
                <a:lnTo>
                  <a:pt x="986" y="0"/>
                </a:lnTo>
                <a:lnTo>
                  <a:pt x="1002" y="0"/>
                </a:lnTo>
                <a:lnTo>
                  <a:pt x="1011" y="0"/>
                </a:lnTo>
                <a:lnTo>
                  <a:pt x="1023" y="2"/>
                </a:lnTo>
                <a:lnTo>
                  <a:pt x="1036" y="6"/>
                </a:lnTo>
                <a:lnTo>
                  <a:pt x="1052" y="8"/>
                </a:lnTo>
                <a:lnTo>
                  <a:pt x="1059" y="10"/>
                </a:lnTo>
                <a:lnTo>
                  <a:pt x="1069" y="12"/>
                </a:lnTo>
                <a:lnTo>
                  <a:pt x="1077" y="14"/>
                </a:lnTo>
                <a:lnTo>
                  <a:pt x="1086" y="18"/>
                </a:lnTo>
                <a:lnTo>
                  <a:pt x="1098" y="19"/>
                </a:lnTo>
                <a:lnTo>
                  <a:pt x="1107" y="21"/>
                </a:lnTo>
                <a:lnTo>
                  <a:pt x="1119" y="23"/>
                </a:lnTo>
                <a:lnTo>
                  <a:pt x="1130" y="27"/>
                </a:lnTo>
                <a:lnTo>
                  <a:pt x="1140" y="31"/>
                </a:lnTo>
                <a:lnTo>
                  <a:pt x="1150" y="37"/>
                </a:lnTo>
                <a:lnTo>
                  <a:pt x="1157" y="43"/>
                </a:lnTo>
                <a:lnTo>
                  <a:pt x="1165" y="46"/>
                </a:lnTo>
                <a:lnTo>
                  <a:pt x="1173" y="52"/>
                </a:lnTo>
                <a:lnTo>
                  <a:pt x="1178" y="56"/>
                </a:lnTo>
                <a:lnTo>
                  <a:pt x="1184" y="62"/>
                </a:lnTo>
                <a:lnTo>
                  <a:pt x="1190" y="66"/>
                </a:lnTo>
                <a:lnTo>
                  <a:pt x="1194" y="71"/>
                </a:lnTo>
                <a:lnTo>
                  <a:pt x="1198" y="77"/>
                </a:lnTo>
                <a:lnTo>
                  <a:pt x="1201" y="81"/>
                </a:lnTo>
                <a:lnTo>
                  <a:pt x="1203" y="87"/>
                </a:lnTo>
                <a:lnTo>
                  <a:pt x="1207" y="90"/>
                </a:lnTo>
                <a:lnTo>
                  <a:pt x="1207" y="96"/>
                </a:lnTo>
                <a:lnTo>
                  <a:pt x="1209" y="100"/>
                </a:lnTo>
                <a:lnTo>
                  <a:pt x="1209" y="106"/>
                </a:lnTo>
                <a:lnTo>
                  <a:pt x="1209" y="108"/>
                </a:lnTo>
                <a:lnTo>
                  <a:pt x="1207" y="112"/>
                </a:lnTo>
                <a:lnTo>
                  <a:pt x="1205" y="114"/>
                </a:lnTo>
                <a:lnTo>
                  <a:pt x="1201" y="115"/>
                </a:lnTo>
                <a:lnTo>
                  <a:pt x="1198" y="119"/>
                </a:lnTo>
                <a:lnTo>
                  <a:pt x="1192" y="121"/>
                </a:lnTo>
                <a:lnTo>
                  <a:pt x="1184" y="125"/>
                </a:lnTo>
                <a:lnTo>
                  <a:pt x="1176" y="129"/>
                </a:lnTo>
                <a:lnTo>
                  <a:pt x="1169" y="131"/>
                </a:lnTo>
                <a:lnTo>
                  <a:pt x="1159" y="135"/>
                </a:lnTo>
                <a:lnTo>
                  <a:pt x="1150" y="137"/>
                </a:lnTo>
                <a:lnTo>
                  <a:pt x="1138" y="140"/>
                </a:lnTo>
                <a:lnTo>
                  <a:pt x="1125" y="144"/>
                </a:lnTo>
                <a:lnTo>
                  <a:pt x="1111" y="148"/>
                </a:lnTo>
                <a:lnTo>
                  <a:pt x="1098" y="152"/>
                </a:lnTo>
                <a:lnTo>
                  <a:pt x="1082" y="156"/>
                </a:lnTo>
                <a:lnTo>
                  <a:pt x="1065" y="160"/>
                </a:lnTo>
                <a:lnTo>
                  <a:pt x="1048" y="163"/>
                </a:lnTo>
                <a:lnTo>
                  <a:pt x="1031" y="167"/>
                </a:lnTo>
                <a:lnTo>
                  <a:pt x="1011" y="171"/>
                </a:lnTo>
                <a:lnTo>
                  <a:pt x="990" y="175"/>
                </a:lnTo>
                <a:lnTo>
                  <a:pt x="969" y="179"/>
                </a:lnTo>
                <a:lnTo>
                  <a:pt x="946" y="183"/>
                </a:lnTo>
                <a:lnTo>
                  <a:pt x="923" y="186"/>
                </a:lnTo>
                <a:lnTo>
                  <a:pt x="900" y="192"/>
                </a:lnTo>
                <a:lnTo>
                  <a:pt x="873" y="196"/>
                </a:lnTo>
                <a:lnTo>
                  <a:pt x="848" y="200"/>
                </a:lnTo>
                <a:lnTo>
                  <a:pt x="819" y="206"/>
                </a:lnTo>
                <a:lnTo>
                  <a:pt x="793" y="210"/>
                </a:lnTo>
                <a:lnTo>
                  <a:pt x="764" y="215"/>
                </a:lnTo>
                <a:lnTo>
                  <a:pt x="733" y="219"/>
                </a:lnTo>
                <a:lnTo>
                  <a:pt x="702" y="225"/>
                </a:lnTo>
                <a:lnTo>
                  <a:pt x="670" y="231"/>
                </a:lnTo>
                <a:lnTo>
                  <a:pt x="639" y="234"/>
                </a:lnTo>
                <a:lnTo>
                  <a:pt x="610" y="240"/>
                </a:lnTo>
                <a:lnTo>
                  <a:pt x="581" y="244"/>
                </a:lnTo>
                <a:lnTo>
                  <a:pt x="555" y="248"/>
                </a:lnTo>
                <a:lnTo>
                  <a:pt x="528" y="252"/>
                </a:lnTo>
                <a:lnTo>
                  <a:pt x="503" y="256"/>
                </a:lnTo>
                <a:lnTo>
                  <a:pt x="478" y="259"/>
                </a:lnTo>
                <a:lnTo>
                  <a:pt x="453" y="263"/>
                </a:lnTo>
                <a:lnTo>
                  <a:pt x="430" y="267"/>
                </a:lnTo>
                <a:lnTo>
                  <a:pt x="407" y="269"/>
                </a:lnTo>
                <a:lnTo>
                  <a:pt x="386" y="273"/>
                </a:lnTo>
                <a:lnTo>
                  <a:pt x="366" y="275"/>
                </a:lnTo>
                <a:lnTo>
                  <a:pt x="345" y="279"/>
                </a:lnTo>
                <a:lnTo>
                  <a:pt x="328" y="281"/>
                </a:lnTo>
                <a:lnTo>
                  <a:pt x="309" y="282"/>
                </a:lnTo>
                <a:lnTo>
                  <a:pt x="293" y="284"/>
                </a:lnTo>
                <a:lnTo>
                  <a:pt x="276" y="286"/>
                </a:lnTo>
                <a:lnTo>
                  <a:pt x="261" y="288"/>
                </a:lnTo>
                <a:lnTo>
                  <a:pt x="247" y="290"/>
                </a:lnTo>
                <a:lnTo>
                  <a:pt x="234" y="292"/>
                </a:lnTo>
                <a:lnTo>
                  <a:pt x="221" y="292"/>
                </a:lnTo>
                <a:lnTo>
                  <a:pt x="209" y="292"/>
                </a:lnTo>
                <a:lnTo>
                  <a:pt x="198" y="294"/>
                </a:lnTo>
                <a:lnTo>
                  <a:pt x="188" y="294"/>
                </a:lnTo>
                <a:lnTo>
                  <a:pt x="178" y="294"/>
                </a:lnTo>
                <a:lnTo>
                  <a:pt x="171" y="294"/>
                </a:lnTo>
                <a:lnTo>
                  <a:pt x="163" y="294"/>
                </a:lnTo>
                <a:lnTo>
                  <a:pt x="157" y="294"/>
                </a:lnTo>
                <a:lnTo>
                  <a:pt x="151" y="292"/>
                </a:lnTo>
                <a:lnTo>
                  <a:pt x="146" y="292"/>
                </a:lnTo>
                <a:lnTo>
                  <a:pt x="142" y="290"/>
                </a:lnTo>
                <a:lnTo>
                  <a:pt x="134" y="290"/>
                </a:lnTo>
                <a:lnTo>
                  <a:pt x="126" y="290"/>
                </a:lnTo>
                <a:lnTo>
                  <a:pt x="119" y="288"/>
                </a:lnTo>
                <a:lnTo>
                  <a:pt x="111" y="286"/>
                </a:lnTo>
                <a:lnTo>
                  <a:pt x="102" y="282"/>
                </a:lnTo>
                <a:lnTo>
                  <a:pt x="94" y="279"/>
                </a:lnTo>
                <a:lnTo>
                  <a:pt x="84" y="275"/>
                </a:lnTo>
                <a:lnTo>
                  <a:pt x="75" y="269"/>
                </a:lnTo>
                <a:lnTo>
                  <a:pt x="65" y="263"/>
                </a:lnTo>
                <a:lnTo>
                  <a:pt x="57" y="257"/>
                </a:lnTo>
                <a:lnTo>
                  <a:pt x="48" y="250"/>
                </a:lnTo>
                <a:lnTo>
                  <a:pt x="38" y="240"/>
                </a:lnTo>
                <a:lnTo>
                  <a:pt x="29" y="233"/>
                </a:lnTo>
                <a:lnTo>
                  <a:pt x="19" y="221"/>
                </a:lnTo>
                <a:lnTo>
                  <a:pt x="9" y="210"/>
                </a:lnTo>
                <a:lnTo>
                  <a:pt x="0" y="198"/>
                </a:lnTo>
                <a:lnTo>
                  <a:pt x="52" y="192"/>
                </a:lnTo>
                <a:lnTo>
                  <a:pt x="107" y="186"/>
                </a:lnTo>
                <a:lnTo>
                  <a:pt x="161" y="179"/>
                </a:lnTo>
                <a:lnTo>
                  <a:pt x="217" y="169"/>
                </a:lnTo>
                <a:lnTo>
                  <a:pt x="274" y="158"/>
                </a:lnTo>
                <a:lnTo>
                  <a:pt x="332" y="146"/>
                </a:lnTo>
                <a:lnTo>
                  <a:pt x="363" y="140"/>
                </a:lnTo>
                <a:lnTo>
                  <a:pt x="391" y="135"/>
                </a:lnTo>
                <a:lnTo>
                  <a:pt x="422" y="127"/>
                </a:lnTo>
                <a:lnTo>
                  <a:pt x="455" y="1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468"/>
          <p:cNvSpPr/>
          <p:nvPr/>
        </p:nvSpPr>
        <p:spPr>
          <a:xfrm>
            <a:off x="5389560" y="4213080"/>
            <a:ext cx="1125720" cy="392400"/>
          </a:xfrm>
          <a:custGeom>
            <a:avLst/>
            <a:gdLst/>
            <a:ahLst/>
            <a:rect l="l" t="t" r="r" b="b"/>
            <a:pathLst>
              <a:path w="1418" h="493">
                <a:moveTo>
                  <a:pt x="1171" y="163"/>
                </a:moveTo>
                <a:lnTo>
                  <a:pt x="1111" y="188"/>
                </a:lnTo>
                <a:lnTo>
                  <a:pt x="1054" y="211"/>
                </a:lnTo>
                <a:lnTo>
                  <a:pt x="994" y="232"/>
                </a:lnTo>
                <a:lnTo>
                  <a:pt x="936" y="253"/>
                </a:lnTo>
                <a:lnTo>
                  <a:pt x="877" y="270"/>
                </a:lnTo>
                <a:lnTo>
                  <a:pt x="819" y="290"/>
                </a:lnTo>
                <a:lnTo>
                  <a:pt x="760" y="305"/>
                </a:lnTo>
                <a:lnTo>
                  <a:pt x="702" y="322"/>
                </a:lnTo>
                <a:lnTo>
                  <a:pt x="673" y="328"/>
                </a:lnTo>
                <a:lnTo>
                  <a:pt x="645" y="336"/>
                </a:lnTo>
                <a:lnTo>
                  <a:pt x="618" y="343"/>
                </a:lnTo>
                <a:lnTo>
                  <a:pt x="593" y="351"/>
                </a:lnTo>
                <a:lnTo>
                  <a:pt x="566" y="359"/>
                </a:lnTo>
                <a:lnTo>
                  <a:pt x="543" y="366"/>
                </a:lnTo>
                <a:lnTo>
                  <a:pt x="520" y="374"/>
                </a:lnTo>
                <a:lnTo>
                  <a:pt x="497" y="382"/>
                </a:lnTo>
                <a:lnTo>
                  <a:pt x="476" y="387"/>
                </a:lnTo>
                <a:lnTo>
                  <a:pt x="455" y="395"/>
                </a:lnTo>
                <a:lnTo>
                  <a:pt x="435" y="403"/>
                </a:lnTo>
                <a:lnTo>
                  <a:pt x="416" y="411"/>
                </a:lnTo>
                <a:lnTo>
                  <a:pt x="399" y="418"/>
                </a:lnTo>
                <a:lnTo>
                  <a:pt x="382" y="426"/>
                </a:lnTo>
                <a:lnTo>
                  <a:pt x="366" y="434"/>
                </a:lnTo>
                <a:lnTo>
                  <a:pt x="351" y="441"/>
                </a:lnTo>
                <a:lnTo>
                  <a:pt x="336" y="447"/>
                </a:lnTo>
                <a:lnTo>
                  <a:pt x="322" y="455"/>
                </a:lnTo>
                <a:lnTo>
                  <a:pt x="309" y="460"/>
                </a:lnTo>
                <a:lnTo>
                  <a:pt x="297" y="466"/>
                </a:lnTo>
                <a:lnTo>
                  <a:pt x="286" y="470"/>
                </a:lnTo>
                <a:lnTo>
                  <a:pt x="274" y="474"/>
                </a:lnTo>
                <a:lnTo>
                  <a:pt x="263" y="478"/>
                </a:lnTo>
                <a:lnTo>
                  <a:pt x="253" y="482"/>
                </a:lnTo>
                <a:lnTo>
                  <a:pt x="244" y="485"/>
                </a:lnTo>
                <a:lnTo>
                  <a:pt x="234" y="487"/>
                </a:lnTo>
                <a:lnTo>
                  <a:pt x="226" y="489"/>
                </a:lnTo>
                <a:lnTo>
                  <a:pt x="219" y="491"/>
                </a:lnTo>
                <a:lnTo>
                  <a:pt x="211" y="491"/>
                </a:lnTo>
                <a:lnTo>
                  <a:pt x="205" y="493"/>
                </a:lnTo>
                <a:lnTo>
                  <a:pt x="199" y="493"/>
                </a:lnTo>
                <a:lnTo>
                  <a:pt x="194" y="493"/>
                </a:lnTo>
                <a:lnTo>
                  <a:pt x="180" y="487"/>
                </a:lnTo>
                <a:lnTo>
                  <a:pt x="165" y="482"/>
                </a:lnTo>
                <a:lnTo>
                  <a:pt x="149" y="472"/>
                </a:lnTo>
                <a:lnTo>
                  <a:pt x="136" y="464"/>
                </a:lnTo>
                <a:lnTo>
                  <a:pt x="121" y="453"/>
                </a:lnTo>
                <a:lnTo>
                  <a:pt x="105" y="441"/>
                </a:lnTo>
                <a:lnTo>
                  <a:pt x="92" y="428"/>
                </a:lnTo>
                <a:lnTo>
                  <a:pt x="77" y="414"/>
                </a:lnTo>
                <a:lnTo>
                  <a:pt x="67" y="405"/>
                </a:lnTo>
                <a:lnTo>
                  <a:pt x="59" y="395"/>
                </a:lnTo>
                <a:lnTo>
                  <a:pt x="52" y="386"/>
                </a:lnTo>
                <a:lnTo>
                  <a:pt x="44" y="376"/>
                </a:lnTo>
                <a:lnTo>
                  <a:pt x="36" y="368"/>
                </a:lnTo>
                <a:lnTo>
                  <a:pt x="30" y="359"/>
                </a:lnTo>
                <a:lnTo>
                  <a:pt x="25" y="351"/>
                </a:lnTo>
                <a:lnTo>
                  <a:pt x="19" y="343"/>
                </a:lnTo>
                <a:lnTo>
                  <a:pt x="13" y="336"/>
                </a:lnTo>
                <a:lnTo>
                  <a:pt x="9" y="326"/>
                </a:lnTo>
                <a:lnTo>
                  <a:pt x="7" y="318"/>
                </a:lnTo>
                <a:lnTo>
                  <a:pt x="4" y="313"/>
                </a:lnTo>
                <a:lnTo>
                  <a:pt x="2" y="305"/>
                </a:lnTo>
                <a:lnTo>
                  <a:pt x="0" y="297"/>
                </a:lnTo>
                <a:lnTo>
                  <a:pt x="0" y="290"/>
                </a:lnTo>
                <a:lnTo>
                  <a:pt x="0" y="282"/>
                </a:lnTo>
                <a:lnTo>
                  <a:pt x="0" y="278"/>
                </a:lnTo>
                <a:lnTo>
                  <a:pt x="0" y="272"/>
                </a:lnTo>
                <a:lnTo>
                  <a:pt x="4" y="268"/>
                </a:lnTo>
                <a:lnTo>
                  <a:pt x="6" y="265"/>
                </a:lnTo>
                <a:lnTo>
                  <a:pt x="9" y="261"/>
                </a:lnTo>
                <a:lnTo>
                  <a:pt x="15" y="257"/>
                </a:lnTo>
                <a:lnTo>
                  <a:pt x="21" y="255"/>
                </a:lnTo>
                <a:lnTo>
                  <a:pt x="27" y="251"/>
                </a:lnTo>
                <a:lnTo>
                  <a:pt x="34" y="249"/>
                </a:lnTo>
                <a:lnTo>
                  <a:pt x="42" y="247"/>
                </a:lnTo>
                <a:lnTo>
                  <a:pt x="50" y="245"/>
                </a:lnTo>
                <a:lnTo>
                  <a:pt x="59" y="245"/>
                </a:lnTo>
                <a:lnTo>
                  <a:pt x="69" y="244"/>
                </a:lnTo>
                <a:lnTo>
                  <a:pt x="80" y="244"/>
                </a:lnTo>
                <a:lnTo>
                  <a:pt x="92" y="242"/>
                </a:lnTo>
                <a:lnTo>
                  <a:pt x="103" y="242"/>
                </a:lnTo>
                <a:lnTo>
                  <a:pt x="126" y="247"/>
                </a:lnTo>
                <a:lnTo>
                  <a:pt x="149" y="249"/>
                </a:lnTo>
                <a:lnTo>
                  <a:pt x="171" y="253"/>
                </a:lnTo>
                <a:lnTo>
                  <a:pt x="190" y="253"/>
                </a:lnTo>
                <a:lnTo>
                  <a:pt x="197" y="255"/>
                </a:lnTo>
                <a:lnTo>
                  <a:pt x="207" y="255"/>
                </a:lnTo>
                <a:lnTo>
                  <a:pt x="215" y="255"/>
                </a:lnTo>
                <a:lnTo>
                  <a:pt x="222" y="255"/>
                </a:lnTo>
                <a:lnTo>
                  <a:pt x="228" y="255"/>
                </a:lnTo>
                <a:lnTo>
                  <a:pt x="236" y="255"/>
                </a:lnTo>
                <a:lnTo>
                  <a:pt x="242" y="255"/>
                </a:lnTo>
                <a:lnTo>
                  <a:pt x="247" y="255"/>
                </a:lnTo>
                <a:lnTo>
                  <a:pt x="249" y="255"/>
                </a:lnTo>
                <a:lnTo>
                  <a:pt x="253" y="255"/>
                </a:lnTo>
                <a:lnTo>
                  <a:pt x="257" y="255"/>
                </a:lnTo>
                <a:lnTo>
                  <a:pt x="263" y="253"/>
                </a:lnTo>
                <a:lnTo>
                  <a:pt x="268" y="253"/>
                </a:lnTo>
                <a:lnTo>
                  <a:pt x="276" y="251"/>
                </a:lnTo>
                <a:lnTo>
                  <a:pt x="284" y="249"/>
                </a:lnTo>
                <a:lnTo>
                  <a:pt x="293" y="249"/>
                </a:lnTo>
                <a:lnTo>
                  <a:pt x="303" y="247"/>
                </a:lnTo>
                <a:lnTo>
                  <a:pt x="313" y="244"/>
                </a:lnTo>
                <a:lnTo>
                  <a:pt x="324" y="242"/>
                </a:lnTo>
                <a:lnTo>
                  <a:pt x="338" y="240"/>
                </a:lnTo>
                <a:lnTo>
                  <a:pt x="349" y="236"/>
                </a:lnTo>
                <a:lnTo>
                  <a:pt x="364" y="234"/>
                </a:lnTo>
                <a:lnTo>
                  <a:pt x="378" y="230"/>
                </a:lnTo>
                <a:lnTo>
                  <a:pt x="395" y="226"/>
                </a:lnTo>
                <a:lnTo>
                  <a:pt x="411" y="222"/>
                </a:lnTo>
                <a:lnTo>
                  <a:pt x="428" y="219"/>
                </a:lnTo>
                <a:lnTo>
                  <a:pt x="447" y="215"/>
                </a:lnTo>
                <a:lnTo>
                  <a:pt x="466" y="209"/>
                </a:lnTo>
                <a:lnTo>
                  <a:pt x="487" y="205"/>
                </a:lnTo>
                <a:lnTo>
                  <a:pt x="506" y="199"/>
                </a:lnTo>
                <a:lnTo>
                  <a:pt x="530" y="196"/>
                </a:lnTo>
                <a:lnTo>
                  <a:pt x="553" y="190"/>
                </a:lnTo>
                <a:lnTo>
                  <a:pt x="576" y="184"/>
                </a:lnTo>
                <a:lnTo>
                  <a:pt x="601" y="178"/>
                </a:lnTo>
                <a:lnTo>
                  <a:pt x="625" y="171"/>
                </a:lnTo>
                <a:lnTo>
                  <a:pt x="652" y="165"/>
                </a:lnTo>
                <a:lnTo>
                  <a:pt x="679" y="159"/>
                </a:lnTo>
                <a:lnTo>
                  <a:pt x="708" y="151"/>
                </a:lnTo>
                <a:lnTo>
                  <a:pt x="737" y="144"/>
                </a:lnTo>
                <a:lnTo>
                  <a:pt x="768" y="136"/>
                </a:lnTo>
                <a:lnTo>
                  <a:pt x="796" y="130"/>
                </a:lnTo>
                <a:lnTo>
                  <a:pt x="823" y="125"/>
                </a:lnTo>
                <a:lnTo>
                  <a:pt x="852" y="119"/>
                </a:lnTo>
                <a:lnTo>
                  <a:pt x="879" y="113"/>
                </a:lnTo>
                <a:lnTo>
                  <a:pt x="904" y="107"/>
                </a:lnTo>
                <a:lnTo>
                  <a:pt x="929" y="101"/>
                </a:lnTo>
                <a:lnTo>
                  <a:pt x="954" y="96"/>
                </a:lnTo>
                <a:lnTo>
                  <a:pt x="977" y="90"/>
                </a:lnTo>
                <a:lnTo>
                  <a:pt x="1000" y="84"/>
                </a:lnTo>
                <a:lnTo>
                  <a:pt x="1023" y="78"/>
                </a:lnTo>
                <a:lnTo>
                  <a:pt x="1044" y="75"/>
                </a:lnTo>
                <a:lnTo>
                  <a:pt x="1063" y="69"/>
                </a:lnTo>
                <a:lnTo>
                  <a:pt x="1084" y="65"/>
                </a:lnTo>
                <a:lnTo>
                  <a:pt x="1103" y="59"/>
                </a:lnTo>
                <a:lnTo>
                  <a:pt x="1121" y="55"/>
                </a:lnTo>
                <a:lnTo>
                  <a:pt x="1140" y="52"/>
                </a:lnTo>
                <a:lnTo>
                  <a:pt x="1157" y="46"/>
                </a:lnTo>
                <a:lnTo>
                  <a:pt x="1173" y="42"/>
                </a:lnTo>
                <a:lnTo>
                  <a:pt x="1188" y="38"/>
                </a:lnTo>
                <a:lnTo>
                  <a:pt x="1203" y="34"/>
                </a:lnTo>
                <a:lnTo>
                  <a:pt x="1217" y="30"/>
                </a:lnTo>
                <a:lnTo>
                  <a:pt x="1230" y="29"/>
                </a:lnTo>
                <a:lnTo>
                  <a:pt x="1244" y="25"/>
                </a:lnTo>
                <a:lnTo>
                  <a:pt x="1255" y="23"/>
                </a:lnTo>
                <a:lnTo>
                  <a:pt x="1267" y="19"/>
                </a:lnTo>
                <a:lnTo>
                  <a:pt x="1278" y="17"/>
                </a:lnTo>
                <a:lnTo>
                  <a:pt x="1288" y="13"/>
                </a:lnTo>
                <a:lnTo>
                  <a:pt x="1297" y="11"/>
                </a:lnTo>
                <a:lnTo>
                  <a:pt x="1305" y="9"/>
                </a:lnTo>
                <a:lnTo>
                  <a:pt x="1313" y="7"/>
                </a:lnTo>
                <a:lnTo>
                  <a:pt x="1320" y="6"/>
                </a:lnTo>
                <a:lnTo>
                  <a:pt x="1326" y="6"/>
                </a:lnTo>
                <a:lnTo>
                  <a:pt x="1338" y="4"/>
                </a:lnTo>
                <a:lnTo>
                  <a:pt x="1349" y="2"/>
                </a:lnTo>
                <a:lnTo>
                  <a:pt x="1359" y="0"/>
                </a:lnTo>
                <a:lnTo>
                  <a:pt x="1368" y="0"/>
                </a:lnTo>
                <a:lnTo>
                  <a:pt x="1376" y="0"/>
                </a:lnTo>
                <a:lnTo>
                  <a:pt x="1384" y="0"/>
                </a:lnTo>
                <a:lnTo>
                  <a:pt x="1391" y="2"/>
                </a:lnTo>
                <a:lnTo>
                  <a:pt x="1397" y="4"/>
                </a:lnTo>
                <a:lnTo>
                  <a:pt x="1401" y="6"/>
                </a:lnTo>
                <a:lnTo>
                  <a:pt x="1407" y="7"/>
                </a:lnTo>
                <a:lnTo>
                  <a:pt x="1411" y="11"/>
                </a:lnTo>
                <a:lnTo>
                  <a:pt x="1412" y="13"/>
                </a:lnTo>
                <a:lnTo>
                  <a:pt x="1414" y="17"/>
                </a:lnTo>
                <a:lnTo>
                  <a:pt x="1416" y="23"/>
                </a:lnTo>
                <a:lnTo>
                  <a:pt x="1418" y="27"/>
                </a:lnTo>
                <a:lnTo>
                  <a:pt x="1418" y="30"/>
                </a:lnTo>
                <a:lnTo>
                  <a:pt x="1414" y="36"/>
                </a:lnTo>
                <a:lnTo>
                  <a:pt x="1411" y="42"/>
                </a:lnTo>
                <a:lnTo>
                  <a:pt x="1403" y="48"/>
                </a:lnTo>
                <a:lnTo>
                  <a:pt x="1395" y="54"/>
                </a:lnTo>
                <a:lnTo>
                  <a:pt x="1386" y="59"/>
                </a:lnTo>
                <a:lnTo>
                  <a:pt x="1374" y="67"/>
                </a:lnTo>
                <a:lnTo>
                  <a:pt x="1363" y="75"/>
                </a:lnTo>
                <a:lnTo>
                  <a:pt x="1347" y="82"/>
                </a:lnTo>
                <a:lnTo>
                  <a:pt x="1332" y="90"/>
                </a:lnTo>
                <a:lnTo>
                  <a:pt x="1315" y="100"/>
                </a:lnTo>
                <a:lnTo>
                  <a:pt x="1293" y="107"/>
                </a:lnTo>
                <a:lnTo>
                  <a:pt x="1272" y="119"/>
                </a:lnTo>
                <a:lnTo>
                  <a:pt x="1249" y="128"/>
                </a:lnTo>
                <a:lnTo>
                  <a:pt x="1224" y="140"/>
                </a:lnTo>
                <a:lnTo>
                  <a:pt x="1199" y="151"/>
                </a:lnTo>
                <a:lnTo>
                  <a:pt x="1171" y="16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469"/>
          <p:cNvSpPr/>
          <p:nvPr/>
        </p:nvSpPr>
        <p:spPr>
          <a:xfrm>
            <a:off x="5961240" y="2322360"/>
            <a:ext cx="264960" cy="314640"/>
          </a:xfrm>
          <a:custGeom>
            <a:avLst/>
            <a:gdLst/>
            <a:ahLst/>
            <a:rect l="l" t="t" r="r" b="b"/>
            <a:pathLst>
              <a:path w="334" h="395">
                <a:moveTo>
                  <a:pt x="320" y="303"/>
                </a:moveTo>
                <a:lnTo>
                  <a:pt x="318" y="315"/>
                </a:lnTo>
                <a:lnTo>
                  <a:pt x="316" y="326"/>
                </a:lnTo>
                <a:lnTo>
                  <a:pt x="312" y="336"/>
                </a:lnTo>
                <a:lnTo>
                  <a:pt x="310" y="345"/>
                </a:lnTo>
                <a:lnTo>
                  <a:pt x="309" y="353"/>
                </a:lnTo>
                <a:lnTo>
                  <a:pt x="307" y="361"/>
                </a:lnTo>
                <a:lnTo>
                  <a:pt x="303" y="368"/>
                </a:lnTo>
                <a:lnTo>
                  <a:pt x="301" y="374"/>
                </a:lnTo>
                <a:lnTo>
                  <a:pt x="299" y="378"/>
                </a:lnTo>
                <a:lnTo>
                  <a:pt x="295" y="384"/>
                </a:lnTo>
                <a:lnTo>
                  <a:pt x="293" y="387"/>
                </a:lnTo>
                <a:lnTo>
                  <a:pt x="291" y="389"/>
                </a:lnTo>
                <a:lnTo>
                  <a:pt x="289" y="391"/>
                </a:lnTo>
                <a:lnTo>
                  <a:pt x="286" y="393"/>
                </a:lnTo>
                <a:lnTo>
                  <a:pt x="284" y="395"/>
                </a:lnTo>
                <a:lnTo>
                  <a:pt x="282" y="395"/>
                </a:lnTo>
                <a:lnTo>
                  <a:pt x="278" y="395"/>
                </a:lnTo>
                <a:lnTo>
                  <a:pt x="276" y="393"/>
                </a:lnTo>
                <a:lnTo>
                  <a:pt x="272" y="391"/>
                </a:lnTo>
                <a:lnTo>
                  <a:pt x="266" y="389"/>
                </a:lnTo>
                <a:lnTo>
                  <a:pt x="261" y="387"/>
                </a:lnTo>
                <a:lnTo>
                  <a:pt x="255" y="384"/>
                </a:lnTo>
                <a:lnTo>
                  <a:pt x="249" y="382"/>
                </a:lnTo>
                <a:lnTo>
                  <a:pt x="241" y="376"/>
                </a:lnTo>
                <a:lnTo>
                  <a:pt x="234" y="372"/>
                </a:lnTo>
                <a:lnTo>
                  <a:pt x="226" y="366"/>
                </a:lnTo>
                <a:lnTo>
                  <a:pt x="216" y="363"/>
                </a:lnTo>
                <a:lnTo>
                  <a:pt x="207" y="357"/>
                </a:lnTo>
                <a:lnTo>
                  <a:pt x="197" y="349"/>
                </a:lnTo>
                <a:lnTo>
                  <a:pt x="188" y="343"/>
                </a:lnTo>
                <a:lnTo>
                  <a:pt x="176" y="336"/>
                </a:lnTo>
                <a:lnTo>
                  <a:pt x="165" y="330"/>
                </a:lnTo>
                <a:lnTo>
                  <a:pt x="153" y="320"/>
                </a:lnTo>
                <a:lnTo>
                  <a:pt x="142" y="313"/>
                </a:lnTo>
                <a:lnTo>
                  <a:pt x="130" y="303"/>
                </a:lnTo>
                <a:lnTo>
                  <a:pt x="120" y="293"/>
                </a:lnTo>
                <a:lnTo>
                  <a:pt x="111" y="284"/>
                </a:lnTo>
                <a:lnTo>
                  <a:pt x="101" y="272"/>
                </a:lnTo>
                <a:lnTo>
                  <a:pt x="92" y="261"/>
                </a:lnTo>
                <a:lnTo>
                  <a:pt x="84" y="249"/>
                </a:lnTo>
                <a:lnTo>
                  <a:pt x="76" y="238"/>
                </a:lnTo>
                <a:lnTo>
                  <a:pt x="69" y="224"/>
                </a:lnTo>
                <a:lnTo>
                  <a:pt x="63" y="209"/>
                </a:lnTo>
                <a:lnTo>
                  <a:pt x="55" y="196"/>
                </a:lnTo>
                <a:lnTo>
                  <a:pt x="49" y="180"/>
                </a:lnTo>
                <a:lnTo>
                  <a:pt x="44" y="165"/>
                </a:lnTo>
                <a:lnTo>
                  <a:pt x="38" y="148"/>
                </a:lnTo>
                <a:lnTo>
                  <a:pt x="34" y="130"/>
                </a:lnTo>
                <a:lnTo>
                  <a:pt x="26" y="117"/>
                </a:lnTo>
                <a:lnTo>
                  <a:pt x="21" y="103"/>
                </a:lnTo>
                <a:lnTo>
                  <a:pt x="17" y="90"/>
                </a:lnTo>
                <a:lnTo>
                  <a:pt x="11" y="78"/>
                </a:lnTo>
                <a:lnTo>
                  <a:pt x="7" y="67"/>
                </a:lnTo>
                <a:lnTo>
                  <a:pt x="5" y="57"/>
                </a:lnTo>
                <a:lnTo>
                  <a:pt x="3" y="48"/>
                </a:lnTo>
                <a:lnTo>
                  <a:pt x="1" y="40"/>
                </a:lnTo>
                <a:lnTo>
                  <a:pt x="0" y="32"/>
                </a:lnTo>
                <a:lnTo>
                  <a:pt x="0" y="25"/>
                </a:lnTo>
                <a:lnTo>
                  <a:pt x="0" y="19"/>
                </a:lnTo>
                <a:lnTo>
                  <a:pt x="1" y="13"/>
                </a:lnTo>
                <a:lnTo>
                  <a:pt x="1" y="9"/>
                </a:lnTo>
                <a:lnTo>
                  <a:pt x="3" y="6"/>
                </a:lnTo>
                <a:lnTo>
                  <a:pt x="5" y="2"/>
                </a:lnTo>
                <a:lnTo>
                  <a:pt x="7" y="0"/>
                </a:lnTo>
                <a:lnTo>
                  <a:pt x="11" y="0"/>
                </a:lnTo>
                <a:lnTo>
                  <a:pt x="13" y="0"/>
                </a:lnTo>
                <a:lnTo>
                  <a:pt x="19" y="0"/>
                </a:lnTo>
                <a:lnTo>
                  <a:pt x="23" y="2"/>
                </a:lnTo>
                <a:lnTo>
                  <a:pt x="28" y="2"/>
                </a:lnTo>
                <a:lnTo>
                  <a:pt x="34" y="4"/>
                </a:lnTo>
                <a:lnTo>
                  <a:pt x="40" y="6"/>
                </a:lnTo>
                <a:lnTo>
                  <a:pt x="48" y="7"/>
                </a:lnTo>
                <a:lnTo>
                  <a:pt x="55" y="9"/>
                </a:lnTo>
                <a:lnTo>
                  <a:pt x="63" y="11"/>
                </a:lnTo>
                <a:lnTo>
                  <a:pt x="72" y="13"/>
                </a:lnTo>
                <a:lnTo>
                  <a:pt x="80" y="15"/>
                </a:lnTo>
                <a:lnTo>
                  <a:pt x="92" y="17"/>
                </a:lnTo>
                <a:lnTo>
                  <a:pt x="101" y="21"/>
                </a:lnTo>
                <a:lnTo>
                  <a:pt x="113" y="23"/>
                </a:lnTo>
                <a:lnTo>
                  <a:pt x="124" y="25"/>
                </a:lnTo>
                <a:lnTo>
                  <a:pt x="138" y="29"/>
                </a:lnTo>
                <a:lnTo>
                  <a:pt x="149" y="32"/>
                </a:lnTo>
                <a:lnTo>
                  <a:pt x="161" y="36"/>
                </a:lnTo>
                <a:lnTo>
                  <a:pt x="174" y="40"/>
                </a:lnTo>
                <a:lnTo>
                  <a:pt x="186" y="46"/>
                </a:lnTo>
                <a:lnTo>
                  <a:pt x="197" y="50"/>
                </a:lnTo>
                <a:lnTo>
                  <a:pt x="209" y="57"/>
                </a:lnTo>
                <a:lnTo>
                  <a:pt x="220" y="63"/>
                </a:lnTo>
                <a:lnTo>
                  <a:pt x="241" y="78"/>
                </a:lnTo>
                <a:lnTo>
                  <a:pt x="261" y="94"/>
                </a:lnTo>
                <a:lnTo>
                  <a:pt x="270" y="103"/>
                </a:lnTo>
                <a:lnTo>
                  <a:pt x="278" y="111"/>
                </a:lnTo>
                <a:lnTo>
                  <a:pt x="287" y="121"/>
                </a:lnTo>
                <a:lnTo>
                  <a:pt x="295" y="130"/>
                </a:lnTo>
                <a:lnTo>
                  <a:pt x="301" y="140"/>
                </a:lnTo>
                <a:lnTo>
                  <a:pt x="307" y="151"/>
                </a:lnTo>
                <a:lnTo>
                  <a:pt x="312" y="161"/>
                </a:lnTo>
                <a:lnTo>
                  <a:pt x="318" y="171"/>
                </a:lnTo>
                <a:lnTo>
                  <a:pt x="322" y="180"/>
                </a:lnTo>
                <a:lnTo>
                  <a:pt x="326" y="192"/>
                </a:lnTo>
                <a:lnTo>
                  <a:pt x="330" y="201"/>
                </a:lnTo>
                <a:lnTo>
                  <a:pt x="332" y="211"/>
                </a:lnTo>
                <a:lnTo>
                  <a:pt x="332" y="222"/>
                </a:lnTo>
                <a:lnTo>
                  <a:pt x="334" y="234"/>
                </a:lnTo>
                <a:lnTo>
                  <a:pt x="334" y="244"/>
                </a:lnTo>
                <a:lnTo>
                  <a:pt x="332" y="255"/>
                </a:lnTo>
                <a:lnTo>
                  <a:pt x="330" y="267"/>
                </a:lnTo>
                <a:lnTo>
                  <a:pt x="328" y="278"/>
                </a:lnTo>
                <a:lnTo>
                  <a:pt x="324" y="290"/>
                </a:lnTo>
                <a:lnTo>
                  <a:pt x="320" y="30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470"/>
          <p:cNvSpPr/>
          <p:nvPr/>
        </p:nvSpPr>
        <p:spPr>
          <a:xfrm>
            <a:off x="5491080" y="2541600"/>
            <a:ext cx="1212840" cy="245880"/>
          </a:xfrm>
          <a:custGeom>
            <a:avLst/>
            <a:gdLst/>
            <a:ahLst/>
            <a:rect l="l" t="t" r="r" b="b"/>
            <a:pathLst>
              <a:path w="1528" h="309">
                <a:moveTo>
                  <a:pt x="158" y="303"/>
                </a:moveTo>
                <a:lnTo>
                  <a:pt x="142" y="298"/>
                </a:lnTo>
                <a:lnTo>
                  <a:pt x="129" y="294"/>
                </a:lnTo>
                <a:lnTo>
                  <a:pt x="114" y="288"/>
                </a:lnTo>
                <a:lnTo>
                  <a:pt x="98" y="280"/>
                </a:lnTo>
                <a:lnTo>
                  <a:pt x="85" y="273"/>
                </a:lnTo>
                <a:lnTo>
                  <a:pt x="69" y="263"/>
                </a:lnTo>
                <a:lnTo>
                  <a:pt x="62" y="257"/>
                </a:lnTo>
                <a:lnTo>
                  <a:pt x="54" y="252"/>
                </a:lnTo>
                <a:lnTo>
                  <a:pt x="48" y="244"/>
                </a:lnTo>
                <a:lnTo>
                  <a:pt x="41" y="238"/>
                </a:lnTo>
                <a:lnTo>
                  <a:pt x="33" y="230"/>
                </a:lnTo>
                <a:lnTo>
                  <a:pt x="27" y="225"/>
                </a:lnTo>
                <a:lnTo>
                  <a:pt x="21" y="217"/>
                </a:lnTo>
                <a:lnTo>
                  <a:pt x="16" y="213"/>
                </a:lnTo>
                <a:lnTo>
                  <a:pt x="12" y="207"/>
                </a:lnTo>
                <a:lnTo>
                  <a:pt x="8" y="202"/>
                </a:lnTo>
                <a:lnTo>
                  <a:pt x="6" y="198"/>
                </a:lnTo>
                <a:lnTo>
                  <a:pt x="2" y="194"/>
                </a:lnTo>
                <a:lnTo>
                  <a:pt x="2" y="190"/>
                </a:lnTo>
                <a:lnTo>
                  <a:pt x="0" y="188"/>
                </a:lnTo>
                <a:lnTo>
                  <a:pt x="0" y="184"/>
                </a:lnTo>
                <a:lnTo>
                  <a:pt x="2" y="182"/>
                </a:lnTo>
                <a:lnTo>
                  <a:pt x="4" y="179"/>
                </a:lnTo>
                <a:lnTo>
                  <a:pt x="6" y="177"/>
                </a:lnTo>
                <a:lnTo>
                  <a:pt x="10" y="175"/>
                </a:lnTo>
                <a:lnTo>
                  <a:pt x="14" y="171"/>
                </a:lnTo>
                <a:lnTo>
                  <a:pt x="18" y="171"/>
                </a:lnTo>
                <a:lnTo>
                  <a:pt x="23" y="171"/>
                </a:lnTo>
                <a:lnTo>
                  <a:pt x="29" y="171"/>
                </a:lnTo>
                <a:lnTo>
                  <a:pt x="39" y="171"/>
                </a:lnTo>
                <a:lnTo>
                  <a:pt x="48" y="171"/>
                </a:lnTo>
                <a:lnTo>
                  <a:pt x="62" y="171"/>
                </a:lnTo>
                <a:lnTo>
                  <a:pt x="75" y="171"/>
                </a:lnTo>
                <a:lnTo>
                  <a:pt x="91" y="171"/>
                </a:lnTo>
                <a:lnTo>
                  <a:pt x="108" y="169"/>
                </a:lnTo>
                <a:lnTo>
                  <a:pt x="127" y="169"/>
                </a:lnTo>
                <a:lnTo>
                  <a:pt x="148" y="167"/>
                </a:lnTo>
                <a:lnTo>
                  <a:pt x="169" y="167"/>
                </a:lnTo>
                <a:lnTo>
                  <a:pt x="194" y="165"/>
                </a:lnTo>
                <a:lnTo>
                  <a:pt x="219" y="163"/>
                </a:lnTo>
                <a:lnTo>
                  <a:pt x="246" y="161"/>
                </a:lnTo>
                <a:lnTo>
                  <a:pt x="275" y="159"/>
                </a:lnTo>
                <a:lnTo>
                  <a:pt x="302" y="158"/>
                </a:lnTo>
                <a:lnTo>
                  <a:pt x="330" y="158"/>
                </a:lnTo>
                <a:lnTo>
                  <a:pt x="361" y="156"/>
                </a:lnTo>
                <a:lnTo>
                  <a:pt x="394" y="154"/>
                </a:lnTo>
                <a:lnTo>
                  <a:pt x="426" y="152"/>
                </a:lnTo>
                <a:lnTo>
                  <a:pt x="463" y="148"/>
                </a:lnTo>
                <a:lnTo>
                  <a:pt x="499" y="144"/>
                </a:lnTo>
                <a:lnTo>
                  <a:pt x="536" y="138"/>
                </a:lnTo>
                <a:lnTo>
                  <a:pt x="576" y="135"/>
                </a:lnTo>
                <a:lnTo>
                  <a:pt x="616" y="129"/>
                </a:lnTo>
                <a:lnTo>
                  <a:pt x="659" y="121"/>
                </a:lnTo>
                <a:lnTo>
                  <a:pt x="701" y="115"/>
                </a:lnTo>
                <a:lnTo>
                  <a:pt x="745" y="106"/>
                </a:lnTo>
                <a:lnTo>
                  <a:pt x="791" y="98"/>
                </a:lnTo>
                <a:lnTo>
                  <a:pt x="837" y="88"/>
                </a:lnTo>
                <a:lnTo>
                  <a:pt x="887" y="79"/>
                </a:lnTo>
                <a:lnTo>
                  <a:pt x="910" y="75"/>
                </a:lnTo>
                <a:lnTo>
                  <a:pt x="933" y="69"/>
                </a:lnTo>
                <a:lnTo>
                  <a:pt x="956" y="65"/>
                </a:lnTo>
                <a:lnTo>
                  <a:pt x="979" y="60"/>
                </a:lnTo>
                <a:lnTo>
                  <a:pt x="1000" y="56"/>
                </a:lnTo>
                <a:lnTo>
                  <a:pt x="1021" y="52"/>
                </a:lnTo>
                <a:lnTo>
                  <a:pt x="1043" y="48"/>
                </a:lnTo>
                <a:lnTo>
                  <a:pt x="1062" y="44"/>
                </a:lnTo>
                <a:lnTo>
                  <a:pt x="1081" y="40"/>
                </a:lnTo>
                <a:lnTo>
                  <a:pt x="1100" y="37"/>
                </a:lnTo>
                <a:lnTo>
                  <a:pt x="1117" y="35"/>
                </a:lnTo>
                <a:lnTo>
                  <a:pt x="1137" y="31"/>
                </a:lnTo>
                <a:lnTo>
                  <a:pt x="1152" y="27"/>
                </a:lnTo>
                <a:lnTo>
                  <a:pt x="1169" y="25"/>
                </a:lnTo>
                <a:lnTo>
                  <a:pt x="1185" y="21"/>
                </a:lnTo>
                <a:lnTo>
                  <a:pt x="1200" y="19"/>
                </a:lnTo>
                <a:lnTo>
                  <a:pt x="1215" y="17"/>
                </a:lnTo>
                <a:lnTo>
                  <a:pt x="1229" y="16"/>
                </a:lnTo>
                <a:lnTo>
                  <a:pt x="1242" y="14"/>
                </a:lnTo>
                <a:lnTo>
                  <a:pt x="1256" y="12"/>
                </a:lnTo>
                <a:lnTo>
                  <a:pt x="1267" y="10"/>
                </a:lnTo>
                <a:lnTo>
                  <a:pt x="1279" y="8"/>
                </a:lnTo>
                <a:lnTo>
                  <a:pt x="1290" y="6"/>
                </a:lnTo>
                <a:lnTo>
                  <a:pt x="1302" y="6"/>
                </a:lnTo>
                <a:lnTo>
                  <a:pt x="1311" y="4"/>
                </a:lnTo>
                <a:lnTo>
                  <a:pt x="1321" y="2"/>
                </a:lnTo>
                <a:lnTo>
                  <a:pt x="1331" y="2"/>
                </a:lnTo>
                <a:lnTo>
                  <a:pt x="1338" y="2"/>
                </a:lnTo>
                <a:lnTo>
                  <a:pt x="1348" y="0"/>
                </a:lnTo>
                <a:lnTo>
                  <a:pt x="1354" y="0"/>
                </a:lnTo>
                <a:lnTo>
                  <a:pt x="1361" y="0"/>
                </a:lnTo>
                <a:lnTo>
                  <a:pt x="1367" y="0"/>
                </a:lnTo>
                <a:lnTo>
                  <a:pt x="1386" y="6"/>
                </a:lnTo>
                <a:lnTo>
                  <a:pt x="1405" y="10"/>
                </a:lnTo>
                <a:lnTo>
                  <a:pt x="1421" y="16"/>
                </a:lnTo>
                <a:lnTo>
                  <a:pt x="1438" y="23"/>
                </a:lnTo>
                <a:lnTo>
                  <a:pt x="1453" y="31"/>
                </a:lnTo>
                <a:lnTo>
                  <a:pt x="1469" y="40"/>
                </a:lnTo>
                <a:lnTo>
                  <a:pt x="1476" y="46"/>
                </a:lnTo>
                <a:lnTo>
                  <a:pt x="1482" y="52"/>
                </a:lnTo>
                <a:lnTo>
                  <a:pt x="1490" y="60"/>
                </a:lnTo>
                <a:lnTo>
                  <a:pt x="1498" y="65"/>
                </a:lnTo>
                <a:lnTo>
                  <a:pt x="1501" y="73"/>
                </a:lnTo>
                <a:lnTo>
                  <a:pt x="1507" y="79"/>
                </a:lnTo>
                <a:lnTo>
                  <a:pt x="1511" y="87"/>
                </a:lnTo>
                <a:lnTo>
                  <a:pt x="1515" y="90"/>
                </a:lnTo>
                <a:lnTo>
                  <a:pt x="1521" y="100"/>
                </a:lnTo>
                <a:lnTo>
                  <a:pt x="1524" y="110"/>
                </a:lnTo>
                <a:lnTo>
                  <a:pt x="1526" y="113"/>
                </a:lnTo>
                <a:lnTo>
                  <a:pt x="1528" y="115"/>
                </a:lnTo>
                <a:lnTo>
                  <a:pt x="1528" y="119"/>
                </a:lnTo>
                <a:lnTo>
                  <a:pt x="1528" y="121"/>
                </a:lnTo>
                <a:lnTo>
                  <a:pt x="1528" y="125"/>
                </a:lnTo>
                <a:lnTo>
                  <a:pt x="1528" y="127"/>
                </a:lnTo>
                <a:lnTo>
                  <a:pt x="1526" y="129"/>
                </a:lnTo>
                <a:lnTo>
                  <a:pt x="1524" y="133"/>
                </a:lnTo>
                <a:lnTo>
                  <a:pt x="1521" y="135"/>
                </a:lnTo>
                <a:lnTo>
                  <a:pt x="1517" y="136"/>
                </a:lnTo>
                <a:lnTo>
                  <a:pt x="1513" y="140"/>
                </a:lnTo>
                <a:lnTo>
                  <a:pt x="1507" y="142"/>
                </a:lnTo>
                <a:lnTo>
                  <a:pt x="1501" y="144"/>
                </a:lnTo>
                <a:lnTo>
                  <a:pt x="1494" y="146"/>
                </a:lnTo>
                <a:lnTo>
                  <a:pt x="1486" y="148"/>
                </a:lnTo>
                <a:lnTo>
                  <a:pt x="1476" y="150"/>
                </a:lnTo>
                <a:lnTo>
                  <a:pt x="1467" y="152"/>
                </a:lnTo>
                <a:lnTo>
                  <a:pt x="1457" y="154"/>
                </a:lnTo>
                <a:lnTo>
                  <a:pt x="1446" y="156"/>
                </a:lnTo>
                <a:lnTo>
                  <a:pt x="1434" y="156"/>
                </a:lnTo>
                <a:lnTo>
                  <a:pt x="1421" y="158"/>
                </a:lnTo>
                <a:lnTo>
                  <a:pt x="1409" y="158"/>
                </a:lnTo>
                <a:lnTo>
                  <a:pt x="1396" y="158"/>
                </a:lnTo>
                <a:lnTo>
                  <a:pt x="1380" y="159"/>
                </a:lnTo>
                <a:lnTo>
                  <a:pt x="1365" y="159"/>
                </a:lnTo>
                <a:lnTo>
                  <a:pt x="1350" y="159"/>
                </a:lnTo>
                <a:lnTo>
                  <a:pt x="1331" y="159"/>
                </a:lnTo>
                <a:lnTo>
                  <a:pt x="1313" y="161"/>
                </a:lnTo>
                <a:lnTo>
                  <a:pt x="1292" y="161"/>
                </a:lnTo>
                <a:lnTo>
                  <a:pt x="1271" y="163"/>
                </a:lnTo>
                <a:lnTo>
                  <a:pt x="1248" y="165"/>
                </a:lnTo>
                <a:lnTo>
                  <a:pt x="1225" y="167"/>
                </a:lnTo>
                <a:lnTo>
                  <a:pt x="1200" y="169"/>
                </a:lnTo>
                <a:lnTo>
                  <a:pt x="1173" y="171"/>
                </a:lnTo>
                <a:lnTo>
                  <a:pt x="1146" y="173"/>
                </a:lnTo>
                <a:lnTo>
                  <a:pt x="1117" y="175"/>
                </a:lnTo>
                <a:lnTo>
                  <a:pt x="1087" y="177"/>
                </a:lnTo>
                <a:lnTo>
                  <a:pt x="1056" y="181"/>
                </a:lnTo>
                <a:lnTo>
                  <a:pt x="1023" y="182"/>
                </a:lnTo>
                <a:lnTo>
                  <a:pt x="991" y="184"/>
                </a:lnTo>
                <a:lnTo>
                  <a:pt x="954" y="190"/>
                </a:lnTo>
                <a:lnTo>
                  <a:pt x="918" y="194"/>
                </a:lnTo>
                <a:lnTo>
                  <a:pt x="883" y="200"/>
                </a:lnTo>
                <a:lnTo>
                  <a:pt x="849" y="206"/>
                </a:lnTo>
                <a:lnTo>
                  <a:pt x="780" y="215"/>
                </a:lnTo>
                <a:lnTo>
                  <a:pt x="714" y="225"/>
                </a:lnTo>
                <a:lnTo>
                  <a:pt x="649" y="234"/>
                </a:lnTo>
                <a:lnTo>
                  <a:pt x="584" y="244"/>
                </a:lnTo>
                <a:lnTo>
                  <a:pt x="521" y="254"/>
                </a:lnTo>
                <a:lnTo>
                  <a:pt x="457" y="265"/>
                </a:lnTo>
                <a:lnTo>
                  <a:pt x="426" y="271"/>
                </a:lnTo>
                <a:lnTo>
                  <a:pt x="398" y="278"/>
                </a:lnTo>
                <a:lnTo>
                  <a:pt x="369" y="284"/>
                </a:lnTo>
                <a:lnTo>
                  <a:pt x="344" y="290"/>
                </a:lnTo>
                <a:lnTo>
                  <a:pt x="321" y="294"/>
                </a:lnTo>
                <a:lnTo>
                  <a:pt x="298" y="298"/>
                </a:lnTo>
                <a:lnTo>
                  <a:pt x="277" y="302"/>
                </a:lnTo>
                <a:lnTo>
                  <a:pt x="258" y="303"/>
                </a:lnTo>
                <a:lnTo>
                  <a:pt x="240" y="305"/>
                </a:lnTo>
                <a:lnTo>
                  <a:pt x="225" y="307"/>
                </a:lnTo>
                <a:lnTo>
                  <a:pt x="210" y="309"/>
                </a:lnTo>
                <a:lnTo>
                  <a:pt x="196" y="309"/>
                </a:lnTo>
                <a:lnTo>
                  <a:pt x="185" y="309"/>
                </a:lnTo>
                <a:lnTo>
                  <a:pt x="175" y="307"/>
                </a:lnTo>
                <a:lnTo>
                  <a:pt x="165" y="305"/>
                </a:lnTo>
                <a:lnTo>
                  <a:pt x="158" y="30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471"/>
          <p:cNvSpPr/>
          <p:nvPr/>
        </p:nvSpPr>
        <p:spPr>
          <a:xfrm>
            <a:off x="5699160" y="2803680"/>
            <a:ext cx="1022400" cy="701640"/>
          </a:xfrm>
          <a:custGeom>
            <a:avLst/>
            <a:gdLst/>
            <a:ahLst/>
            <a:rect l="l" t="t" r="r" b="b"/>
            <a:pathLst>
              <a:path w="1288" h="883">
                <a:moveTo>
                  <a:pt x="638" y="79"/>
                </a:moveTo>
                <a:lnTo>
                  <a:pt x="672" y="73"/>
                </a:lnTo>
                <a:lnTo>
                  <a:pt x="703" y="69"/>
                </a:lnTo>
                <a:lnTo>
                  <a:pt x="732" y="64"/>
                </a:lnTo>
                <a:lnTo>
                  <a:pt x="760" y="60"/>
                </a:lnTo>
                <a:lnTo>
                  <a:pt x="787" y="54"/>
                </a:lnTo>
                <a:lnTo>
                  <a:pt x="810" y="50"/>
                </a:lnTo>
                <a:lnTo>
                  <a:pt x="833" y="46"/>
                </a:lnTo>
                <a:lnTo>
                  <a:pt x="855" y="41"/>
                </a:lnTo>
                <a:lnTo>
                  <a:pt x="874" y="37"/>
                </a:lnTo>
                <a:lnTo>
                  <a:pt x="891" y="33"/>
                </a:lnTo>
                <a:lnTo>
                  <a:pt x="908" y="29"/>
                </a:lnTo>
                <a:lnTo>
                  <a:pt x="922" y="25"/>
                </a:lnTo>
                <a:lnTo>
                  <a:pt x="935" y="21"/>
                </a:lnTo>
                <a:lnTo>
                  <a:pt x="947" y="19"/>
                </a:lnTo>
                <a:lnTo>
                  <a:pt x="956" y="16"/>
                </a:lnTo>
                <a:lnTo>
                  <a:pt x="964" y="14"/>
                </a:lnTo>
                <a:lnTo>
                  <a:pt x="974" y="8"/>
                </a:lnTo>
                <a:lnTo>
                  <a:pt x="983" y="6"/>
                </a:lnTo>
                <a:lnTo>
                  <a:pt x="993" y="2"/>
                </a:lnTo>
                <a:lnTo>
                  <a:pt x="1002" y="2"/>
                </a:lnTo>
                <a:lnTo>
                  <a:pt x="1012" y="0"/>
                </a:lnTo>
                <a:lnTo>
                  <a:pt x="1022" y="0"/>
                </a:lnTo>
                <a:lnTo>
                  <a:pt x="1043" y="0"/>
                </a:lnTo>
                <a:lnTo>
                  <a:pt x="1045" y="2"/>
                </a:lnTo>
                <a:lnTo>
                  <a:pt x="1048" y="6"/>
                </a:lnTo>
                <a:lnTo>
                  <a:pt x="1052" y="8"/>
                </a:lnTo>
                <a:lnTo>
                  <a:pt x="1058" y="12"/>
                </a:lnTo>
                <a:lnTo>
                  <a:pt x="1066" y="16"/>
                </a:lnTo>
                <a:lnTo>
                  <a:pt x="1071" y="19"/>
                </a:lnTo>
                <a:lnTo>
                  <a:pt x="1081" y="25"/>
                </a:lnTo>
                <a:lnTo>
                  <a:pt x="1089" y="29"/>
                </a:lnTo>
                <a:lnTo>
                  <a:pt x="1098" y="35"/>
                </a:lnTo>
                <a:lnTo>
                  <a:pt x="1108" y="41"/>
                </a:lnTo>
                <a:lnTo>
                  <a:pt x="1119" y="46"/>
                </a:lnTo>
                <a:lnTo>
                  <a:pt x="1131" y="52"/>
                </a:lnTo>
                <a:lnTo>
                  <a:pt x="1144" y="58"/>
                </a:lnTo>
                <a:lnTo>
                  <a:pt x="1156" y="66"/>
                </a:lnTo>
                <a:lnTo>
                  <a:pt x="1171" y="71"/>
                </a:lnTo>
                <a:lnTo>
                  <a:pt x="1185" y="79"/>
                </a:lnTo>
                <a:lnTo>
                  <a:pt x="1196" y="89"/>
                </a:lnTo>
                <a:lnTo>
                  <a:pt x="1208" y="98"/>
                </a:lnTo>
                <a:lnTo>
                  <a:pt x="1219" y="108"/>
                </a:lnTo>
                <a:lnTo>
                  <a:pt x="1229" y="115"/>
                </a:lnTo>
                <a:lnTo>
                  <a:pt x="1238" y="125"/>
                </a:lnTo>
                <a:lnTo>
                  <a:pt x="1246" y="133"/>
                </a:lnTo>
                <a:lnTo>
                  <a:pt x="1254" y="140"/>
                </a:lnTo>
                <a:lnTo>
                  <a:pt x="1261" y="148"/>
                </a:lnTo>
                <a:lnTo>
                  <a:pt x="1267" y="156"/>
                </a:lnTo>
                <a:lnTo>
                  <a:pt x="1273" y="163"/>
                </a:lnTo>
                <a:lnTo>
                  <a:pt x="1277" y="169"/>
                </a:lnTo>
                <a:lnTo>
                  <a:pt x="1283" y="175"/>
                </a:lnTo>
                <a:lnTo>
                  <a:pt x="1284" y="181"/>
                </a:lnTo>
                <a:lnTo>
                  <a:pt x="1286" y="186"/>
                </a:lnTo>
                <a:lnTo>
                  <a:pt x="1288" y="192"/>
                </a:lnTo>
                <a:lnTo>
                  <a:pt x="1288" y="198"/>
                </a:lnTo>
                <a:lnTo>
                  <a:pt x="1284" y="208"/>
                </a:lnTo>
                <a:lnTo>
                  <a:pt x="1279" y="215"/>
                </a:lnTo>
                <a:lnTo>
                  <a:pt x="1273" y="223"/>
                </a:lnTo>
                <a:lnTo>
                  <a:pt x="1265" y="229"/>
                </a:lnTo>
                <a:lnTo>
                  <a:pt x="1258" y="234"/>
                </a:lnTo>
                <a:lnTo>
                  <a:pt x="1248" y="240"/>
                </a:lnTo>
                <a:lnTo>
                  <a:pt x="1242" y="242"/>
                </a:lnTo>
                <a:lnTo>
                  <a:pt x="1237" y="246"/>
                </a:lnTo>
                <a:lnTo>
                  <a:pt x="1231" y="248"/>
                </a:lnTo>
                <a:lnTo>
                  <a:pt x="1223" y="250"/>
                </a:lnTo>
                <a:lnTo>
                  <a:pt x="1219" y="252"/>
                </a:lnTo>
                <a:lnTo>
                  <a:pt x="1215" y="254"/>
                </a:lnTo>
                <a:lnTo>
                  <a:pt x="1213" y="257"/>
                </a:lnTo>
                <a:lnTo>
                  <a:pt x="1210" y="259"/>
                </a:lnTo>
                <a:lnTo>
                  <a:pt x="1206" y="265"/>
                </a:lnTo>
                <a:lnTo>
                  <a:pt x="1202" y="269"/>
                </a:lnTo>
                <a:lnTo>
                  <a:pt x="1198" y="275"/>
                </a:lnTo>
                <a:lnTo>
                  <a:pt x="1194" y="281"/>
                </a:lnTo>
                <a:lnTo>
                  <a:pt x="1190" y="286"/>
                </a:lnTo>
                <a:lnTo>
                  <a:pt x="1187" y="292"/>
                </a:lnTo>
                <a:lnTo>
                  <a:pt x="1183" y="300"/>
                </a:lnTo>
                <a:lnTo>
                  <a:pt x="1179" y="309"/>
                </a:lnTo>
                <a:lnTo>
                  <a:pt x="1173" y="317"/>
                </a:lnTo>
                <a:lnTo>
                  <a:pt x="1169" y="327"/>
                </a:lnTo>
                <a:lnTo>
                  <a:pt x="1165" y="336"/>
                </a:lnTo>
                <a:lnTo>
                  <a:pt x="1162" y="346"/>
                </a:lnTo>
                <a:lnTo>
                  <a:pt x="1158" y="357"/>
                </a:lnTo>
                <a:lnTo>
                  <a:pt x="1152" y="369"/>
                </a:lnTo>
                <a:lnTo>
                  <a:pt x="1148" y="380"/>
                </a:lnTo>
                <a:lnTo>
                  <a:pt x="1144" y="392"/>
                </a:lnTo>
                <a:lnTo>
                  <a:pt x="1139" y="405"/>
                </a:lnTo>
                <a:lnTo>
                  <a:pt x="1135" y="419"/>
                </a:lnTo>
                <a:lnTo>
                  <a:pt x="1129" y="432"/>
                </a:lnTo>
                <a:lnTo>
                  <a:pt x="1125" y="448"/>
                </a:lnTo>
                <a:lnTo>
                  <a:pt x="1119" y="463"/>
                </a:lnTo>
                <a:lnTo>
                  <a:pt x="1114" y="478"/>
                </a:lnTo>
                <a:lnTo>
                  <a:pt x="1110" y="494"/>
                </a:lnTo>
                <a:lnTo>
                  <a:pt x="1104" y="511"/>
                </a:lnTo>
                <a:lnTo>
                  <a:pt x="1098" y="526"/>
                </a:lnTo>
                <a:lnTo>
                  <a:pt x="1093" y="543"/>
                </a:lnTo>
                <a:lnTo>
                  <a:pt x="1081" y="580"/>
                </a:lnTo>
                <a:lnTo>
                  <a:pt x="1075" y="599"/>
                </a:lnTo>
                <a:lnTo>
                  <a:pt x="1070" y="616"/>
                </a:lnTo>
                <a:lnTo>
                  <a:pt x="1064" y="634"/>
                </a:lnTo>
                <a:lnTo>
                  <a:pt x="1058" y="651"/>
                </a:lnTo>
                <a:lnTo>
                  <a:pt x="1052" y="666"/>
                </a:lnTo>
                <a:lnTo>
                  <a:pt x="1046" y="682"/>
                </a:lnTo>
                <a:lnTo>
                  <a:pt x="1041" y="697"/>
                </a:lnTo>
                <a:lnTo>
                  <a:pt x="1035" y="712"/>
                </a:lnTo>
                <a:lnTo>
                  <a:pt x="1029" y="726"/>
                </a:lnTo>
                <a:lnTo>
                  <a:pt x="1023" y="739"/>
                </a:lnTo>
                <a:lnTo>
                  <a:pt x="1020" y="751"/>
                </a:lnTo>
                <a:lnTo>
                  <a:pt x="1014" y="764"/>
                </a:lnTo>
                <a:lnTo>
                  <a:pt x="1008" y="776"/>
                </a:lnTo>
                <a:lnTo>
                  <a:pt x="1002" y="785"/>
                </a:lnTo>
                <a:lnTo>
                  <a:pt x="998" y="797"/>
                </a:lnTo>
                <a:lnTo>
                  <a:pt x="993" y="806"/>
                </a:lnTo>
                <a:lnTo>
                  <a:pt x="989" y="816"/>
                </a:lnTo>
                <a:lnTo>
                  <a:pt x="983" y="824"/>
                </a:lnTo>
                <a:lnTo>
                  <a:pt x="979" y="833"/>
                </a:lnTo>
                <a:lnTo>
                  <a:pt x="974" y="841"/>
                </a:lnTo>
                <a:lnTo>
                  <a:pt x="970" y="847"/>
                </a:lnTo>
                <a:lnTo>
                  <a:pt x="966" y="853"/>
                </a:lnTo>
                <a:lnTo>
                  <a:pt x="960" y="858"/>
                </a:lnTo>
                <a:lnTo>
                  <a:pt x="956" y="864"/>
                </a:lnTo>
                <a:lnTo>
                  <a:pt x="952" y="868"/>
                </a:lnTo>
                <a:lnTo>
                  <a:pt x="949" y="874"/>
                </a:lnTo>
                <a:lnTo>
                  <a:pt x="945" y="876"/>
                </a:lnTo>
                <a:lnTo>
                  <a:pt x="939" y="879"/>
                </a:lnTo>
                <a:lnTo>
                  <a:pt x="935" y="881"/>
                </a:lnTo>
                <a:lnTo>
                  <a:pt x="931" y="883"/>
                </a:lnTo>
                <a:lnTo>
                  <a:pt x="927" y="883"/>
                </a:lnTo>
                <a:lnTo>
                  <a:pt x="926" y="883"/>
                </a:lnTo>
                <a:lnTo>
                  <a:pt x="918" y="883"/>
                </a:lnTo>
                <a:lnTo>
                  <a:pt x="910" y="883"/>
                </a:lnTo>
                <a:lnTo>
                  <a:pt x="904" y="883"/>
                </a:lnTo>
                <a:lnTo>
                  <a:pt x="901" y="881"/>
                </a:lnTo>
                <a:lnTo>
                  <a:pt x="895" y="879"/>
                </a:lnTo>
                <a:lnTo>
                  <a:pt x="891" y="877"/>
                </a:lnTo>
                <a:lnTo>
                  <a:pt x="887" y="876"/>
                </a:lnTo>
                <a:lnTo>
                  <a:pt x="883" y="872"/>
                </a:lnTo>
                <a:lnTo>
                  <a:pt x="881" y="870"/>
                </a:lnTo>
                <a:lnTo>
                  <a:pt x="878" y="866"/>
                </a:lnTo>
                <a:lnTo>
                  <a:pt x="876" y="860"/>
                </a:lnTo>
                <a:lnTo>
                  <a:pt x="876" y="856"/>
                </a:lnTo>
                <a:lnTo>
                  <a:pt x="874" y="851"/>
                </a:lnTo>
                <a:lnTo>
                  <a:pt x="874" y="845"/>
                </a:lnTo>
                <a:lnTo>
                  <a:pt x="872" y="837"/>
                </a:lnTo>
                <a:lnTo>
                  <a:pt x="872" y="831"/>
                </a:lnTo>
                <a:lnTo>
                  <a:pt x="872" y="822"/>
                </a:lnTo>
                <a:lnTo>
                  <a:pt x="874" y="812"/>
                </a:lnTo>
                <a:lnTo>
                  <a:pt x="876" y="801"/>
                </a:lnTo>
                <a:lnTo>
                  <a:pt x="878" y="787"/>
                </a:lnTo>
                <a:lnTo>
                  <a:pt x="879" y="770"/>
                </a:lnTo>
                <a:lnTo>
                  <a:pt x="883" y="753"/>
                </a:lnTo>
                <a:lnTo>
                  <a:pt x="887" y="734"/>
                </a:lnTo>
                <a:lnTo>
                  <a:pt x="891" y="712"/>
                </a:lnTo>
                <a:lnTo>
                  <a:pt x="895" y="689"/>
                </a:lnTo>
                <a:lnTo>
                  <a:pt x="901" y="664"/>
                </a:lnTo>
                <a:lnTo>
                  <a:pt x="906" y="638"/>
                </a:lnTo>
                <a:lnTo>
                  <a:pt x="912" y="609"/>
                </a:lnTo>
                <a:lnTo>
                  <a:pt x="918" y="578"/>
                </a:lnTo>
                <a:lnTo>
                  <a:pt x="924" y="545"/>
                </a:lnTo>
                <a:lnTo>
                  <a:pt x="931" y="511"/>
                </a:lnTo>
                <a:lnTo>
                  <a:pt x="937" y="474"/>
                </a:lnTo>
                <a:lnTo>
                  <a:pt x="941" y="457"/>
                </a:lnTo>
                <a:lnTo>
                  <a:pt x="945" y="438"/>
                </a:lnTo>
                <a:lnTo>
                  <a:pt x="949" y="423"/>
                </a:lnTo>
                <a:lnTo>
                  <a:pt x="951" y="405"/>
                </a:lnTo>
                <a:lnTo>
                  <a:pt x="954" y="388"/>
                </a:lnTo>
                <a:lnTo>
                  <a:pt x="956" y="373"/>
                </a:lnTo>
                <a:lnTo>
                  <a:pt x="960" y="357"/>
                </a:lnTo>
                <a:lnTo>
                  <a:pt x="962" y="344"/>
                </a:lnTo>
                <a:lnTo>
                  <a:pt x="964" y="330"/>
                </a:lnTo>
                <a:lnTo>
                  <a:pt x="966" y="317"/>
                </a:lnTo>
                <a:lnTo>
                  <a:pt x="968" y="304"/>
                </a:lnTo>
                <a:lnTo>
                  <a:pt x="970" y="292"/>
                </a:lnTo>
                <a:lnTo>
                  <a:pt x="972" y="279"/>
                </a:lnTo>
                <a:lnTo>
                  <a:pt x="974" y="269"/>
                </a:lnTo>
                <a:lnTo>
                  <a:pt x="975" y="257"/>
                </a:lnTo>
                <a:lnTo>
                  <a:pt x="975" y="248"/>
                </a:lnTo>
                <a:lnTo>
                  <a:pt x="977" y="238"/>
                </a:lnTo>
                <a:lnTo>
                  <a:pt x="979" y="229"/>
                </a:lnTo>
                <a:lnTo>
                  <a:pt x="979" y="219"/>
                </a:lnTo>
                <a:lnTo>
                  <a:pt x="979" y="211"/>
                </a:lnTo>
                <a:lnTo>
                  <a:pt x="981" y="204"/>
                </a:lnTo>
                <a:lnTo>
                  <a:pt x="981" y="198"/>
                </a:lnTo>
                <a:lnTo>
                  <a:pt x="981" y="192"/>
                </a:lnTo>
                <a:lnTo>
                  <a:pt x="981" y="185"/>
                </a:lnTo>
                <a:lnTo>
                  <a:pt x="981" y="181"/>
                </a:lnTo>
                <a:lnTo>
                  <a:pt x="981" y="175"/>
                </a:lnTo>
                <a:lnTo>
                  <a:pt x="981" y="171"/>
                </a:lnTo>
                <a:lnTo>
                  <a:pt x="979" y="167"/>
                </a:lnTo>
                <a:lnTo>
                  <a:pt x="979" y="163"/>
                </a:lnTo>
                <a:lnTo>
                  <a:pt x="979" y="162"/>
                </a:lnTo>
                <a:lnTo>
                  <a:pt x="977" y="160"/>
                </a:lnTo>
                <a:lnTo>
                  <a:pt x="977" y="158"/>
                </a:lnTo>
                <a:lnTo>
                  <a:pt x="974" y="156"/>
                </a:lnTo>
                <a:lnTo>
                  <a:pt x="970" y="154"/>
                </a:lnTo>
                <a:lnTo>
                  <a:pt x="966" y="152"/>
                </a:lnTo>
                <a:lnTo>
                  <a:pt x="962" y="150"/>
                </a:lnTo>
                <a:lnTo>
                  <a:pt x="956" y="150"/>
                </a:lnTo>
                <a:lnTo>
                  <a:pt x="952" y="148"/>
                </a:lnTo>
                <a:lnTo>
                  <a:pt x="945" y="148"/>
                </a:lnTo>
                <a:lnTo>
                  <a:pt x="939" y="146"/>
                </a:lnTo>
                <a:lnTo>
                  <a:pt x="926" y="146"/>
                </a:lnTo>
                <a:lnTo>
                  <a:pt x="908" y="146"/>
                </a:lnTo>
                <a:lnTo>
                  <a:pt x="891" y="146"/>
                </a:lnTo>
                <a:lnTo>
                  <a:pt x="872" y="146"/>
                </a:lnTo>
                <a:lnTo>
                  <a:pt x="866" y="146"/>
                </a:lnTo>
                <a:lnTo>
                  <a:pt x="860" y="146"/>
                </a:lnTo>
                <a:lnTo>
                  <a:pt x="851" y="146"/>
                </a:lnTo>
                <a:lnTo>
                  <a:pt x="841" y="146"/>
                </a:lnTo>
                <a:lnTo>
                  <a:pt x="832" y="148"/>
                </a:lnTo>
                <a:lnTo>
                  <a:pt x="818" y="150"/>
                </a:lnTo>
                <a:lnTo>
                  <a:pt x="805" y="150"/>
                </a:lnTo>
                <a:lnTo>
                  <a:pt x="789" y="152"/>
                </a:lnTo>
                <a:lnTo>
                  <a:pt x="772" y="154"/>
                </a:lnTo>
                <a:lnTo>
                  <a:pt x="755" y="158"/>
                </a:lnTo>
                <a:lnTo>
                  <a:pt x="736" y="160"/>
                </a:lnTo>
                <a:lnTo>
                  <a:pt x="714" y="162"/>
                </a:lnTo>
                <a:lnTo>
                  <a:pt x="691" y="165"/>
                </a:lnTo>
                <a:lnTo>
                  <a:pt x="668" y="169"/>
                </a:lnTo>
                <a:lnTo>
                  <a:pt x="643" y="171"/>
                </a:lnTo>
                <a:lnTo>
                  <a:pt x="617" y="175"/>
                </a:lnTo>
                <a:lnTo>
                  <a:pt x="590" y="181"/>
                </a:lnTo>
                <a:lnTo>
                  <a:pt x="559" y="185"/>
                </a:lnTo>
                <a:lnTo>
                  <a:pt x="528" y="188"/>
                </a:lnTo>
                <a:lnTo>
                  <a:pt x="498" y="194"/>
                </a:lnTo>
                <a:lnTo>
                  <a:pt x="463" y="200"/>
                </a:lnTo>
                <a:lnTo>
                  <a:pt x="428" y="204"/>
                </a:lnTo>
                <a:lnTo>
                  <a:pt x="392" y="210"/>
                </a:lnTo>
                <a:lnTo>
                  <a:pt x="354" y="217"/>
                </a:lnTo>
                <a:lnTo>
                  <a:pt x="315" y="223"/>
                </a:lnTo>
                <a:lnTo>
                  <a:pt x="275" y="231"/>
                </a:lnTo>
                <a:lnTo>
                  <a:pt x="233" y="236"/>
                </a:lnTo>
                <a:lnTo>
                  <a:pt x="189" y="244"/>
                </a:lnTo>
                <a:lnTo>
                  <a:pt x="144" y="252"/>
                </a:lnTo>
                <a:lnTo>
                  <a:pt x="98" y="259"/>
                </a:lnTo>
                <a:lnTo>
                  <a:pt x="50" y="269"/>
                </a:lnTo>
                <a:lnTo>
                  <a:pt x="0" y="277"/>
                </a:lnTo>
                <a:lnTo>
                  <a:pt x="0" y="185"/>
                </a:lnTo>
                <a:lnTo>
                  <a:pt x="46" y="177"/>
                </a:lnTo>
                <a:lnTo>
                  <a:pt x="93" y="169"/>
                </a:lnTo>
                <a:lnTo>
                  <a:pt x="137" y="162"/>
                </a:lnTo>
                <a:lnTo>
                  <a:pt x="181" y="156"/>
                </a:lnTo>
                <a:lnTo>
                  <a:pt x="223" y="148"/>
                </a:lnTo>
                <a:lnTo>
                  <a:pt x="267" y="140"/>
                </a:lnTo>
                <a:lnTo>
                  <a:pt x="308" y="133"/>
                </a:lnTo>
                <a:lnTo>
                  <a:pt x="348" y="127"/>
                </a:lnTo>
                <a:lnTo>
                  <a:pt x="388" y="119"/>
                </a:lnTo>
                <a:lnTo>
                  <a:pt x="427" y="114"/>
                </a:lnTo>
                <a:lnTo>
                  <a:pt x="465" y="108"/>
                </a:lnTo>
                <a:lnTo>
                  <a:pt x="501" y="102"/>
                </a:lnTo>
                <a:lnTo>
                  <a:pt x="538" y="94"/>
                </a:lnTo>
                <a:lnTo>
                  <a:pt x="572" y="91"/>
                </a:lnTo>
                <a:lnTo>
                  <a:pt x="605" y="85"/>
                </a:lnTo>
                <a:lnTo>
                  <a:pt x="638" y="7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472"/>
          <p:cNvSpPr/>
          <p:nvPr/>
        </p:nvSpPr>
        <p:spPr>
          <a:xfrm>
            <a:off x="5888160" y="3081240"/>
            <a:ext cx="141120" cy="255600"/>
          </a:xfrm>
          <a:custGeom>
            <a:avLst/>
            <a:gdLst/>
            <a:ahLst/>
            <a:rect l="l" t="t" r="r" b="b"/>
            <a:pathLst>
              <a:path w="179" h="322">
                <a:moveTo>
                  <a:pt x="10" y="19"/>
                </a:moveTo>
                <a:lnTo>
                  <a:pt x="12" y="17"/>
                </a:lnTo>
                <a:lnTo>
                  <a:pt x="18" y="15"/>
                </a:lnTo>
                <a:lnTo>
                  <a:pt x="22" y="11"/>
                </a:lnTo>
                <a:lnTo>
                  <a:pt x="29" y="9"/>
                </a:lnTo>
                <a:lnTo>
                  <a:pt x="37" y="7"/>
                </a:lnTo>
                <a:lnTo>
                  <a:pt x="45" y="5"/>
                </a:lnTo>
                <a:lnTo>
                  <a:pt x="54" y="3"/>
                </a:lnTo>
                <a:lnTo>
                  <a:pt x="66" y="3"/>
                </a:lnTo>
                <a:lnTo>
                  <a:pt x="77" y="2"/>
                </a:lnTo>
                <a:lnTo>
                  <a:pt x="89" y="2"/>
                </a:lnTo>
                <a:lnTo>
                  <a:pt x="102" y="0"/>
                </a:lnTo>
                <a:lnTo>
                  <a:pt x="116" y="0"/>
                </a:lnTo>
                <a:lnTo>
                  <a:pt x="131" y="2"/>
                </a:lnTo>
                <a:lnTo>
                  <a:pt x="146" y="2"/>
                </a:lnTo>
                <a:lnTo>
                  <a:pt x="162" y="3"/>
                </a:lnTo>
                <a:lnTo>
                  <a:pt x="179" y="5"/>
                </a:lnTo>
                <a:lnTo>
                  <a:pt x="175" y="19"/>
                </a:lnTo>
                <a:lnTo>
                  <a:pt x="171" y="32"/>
                </a:lnTo>
                <a:lnTo>
                  <a:pt x="167" y="48"/>
                </a:lnTo>
                <a:lnTo>
                  <a:pt x="165" y="63"/>
                </a:lnTo>
                <a:lnTo>
                  <a:pt x="162" y="80"/>
                </a:lnTo>
                <a:lnTo>
                  <a:pt x="162" y="98"/>
                </a:lnTo>
                <a:lnTo>
                  <a:pt x="160" y="115"/>
                </a:lnTo>
                <a:lnTo>
                  <a:pt x="160" y="134"/>
                </a:lnTo>
                <a:lnTo>
                  <a:pt x="160" y="155"/>
                </a:lnTo>
                <a:lnTo>
                  <a:pt x="162" y="176"/>
                </a:lnTo>
                <a:lnTo>
                  <a:pt x="162" y="197"/>
                </a:lnTo>
                <a:lnTo>
                  <a:pt x="165" y="220"/>
                </a:lnTo>
                <a:lnTo>
                  <a:pt x="167" y="245"/>
                </a:lnTo>
                <a:lnTo>
                  <a:pt x="171" y="270"/>
                </a:lnTo>
                <a:lnTo>
                  <a:pt x="175" y="295"/>
                </a:lnTo>
                <a:lnTo>
                  <a:pt x="179" y="322"/>
                </a:lnTo>
                <a:lnTo>
                  <a:pt x="171" y="322"/>
                </a:lnTo>
                <a:lnTo>
                  <a:pt x="164" y="320"/>
                </a:lnTo>
                <a:lnTo>
                  <a:pt x="158" y="318"/>
                </a:lnTo>
                <a:lnTo>
                  <a:pt x="150" y="316"/>
                </a:lnTo>
                <a:lnTo>
                  <a:pt x="142" y="311"/>
                </a:lnTo>
                <a:lnTo>
                  <a:pt x="137" y="307"/>
                </a:lnTo>
                <a:lnTo>
                  <a:pt x="129" y="301"/>
                </a:lnTo>
                <a:lnTo>
                  <a:pt x="123" y="295"/>
                </a:lnTo>
                <a:lnTo>
                  <a:pt x="117" y="288"/>
                </a:lnTo>
                <a:lnTo>
                  <a:pt x="112" y="280"/>
                </a:lnTo>
                <a:lnTo>
                  <a:pt x="106" y="270"/>
                </a:lnTo>
                <a:lnTo>
                  <a:pt x="102" y="261"/>
                </a:lnTo>
                <a:lnTo>
                  <a:pt x="98" y="251"/>
                </a:lnTo>
                <a:lnTo>
                  <a:pt x="94" y="241"/>
                </a:lnTo>
                <a:lnTo>
                  <a:pt x="91" y="230"/>
                </a:lnTo>
                <a:lnTo>
                  <a:pt x="89" y="217"/>
                </a:lnTo>
                <a:lnTo>
                  <a:pt x="83" y="193"/>
                </a:lnTo>
                <a:lnTo>
                  <a:pt x="75" y="170"/>
                </a:lnTo>
                <a:lnTo>
                  <a:pt x="68" y="149"/>
                </a:lnTo>
                <a:lnTo>
                  <a:pt x="60" y="130"/>
                </a:lnTo>
                <a:lnTo>
                  <a:pt x="56" y="121"/>
                </a:lnTo>
                <a:lnTo>
                  <a:pt x="50" y="113"/>
                </a:lnTo>
                <a:lnTo>
                  <a:pt x="46" y="103"/>
                </a:lnTo>
                <a:lnTo>
                  <a:pt x="43" y="98"/>
                </a:lnTo>
                <a:lnTo>
                  <a:pt x="37" y="90"/>
                </a:lnTo>
                <a:lnTo>
                  <a:pt x="33" y="84"/>
                </a:lnTo>
                <a:lnTo>
                  <a:pt x="27" y="78"/>
                </a:lnTo>
                <a:lnTo>
                  <a:pt x="23" y="73"/>
                </a:lnTo>
                <a:lnTo>
                  <a:pt x="18" y="69"/>
                </a:lnTo>
                <a:lnTo>
                  <a:pt x="14" y="67"/>
                </a:lnTo>
                <a:lnTo>
                  <a:pt x="10" y="63"/>
                </a:lnTo>
                <a:lnTo>
                  <a:pt x="8" y="61"/>
                </a:lnTo>
                <a:lnTo>
                  <a:pt x="6" y="57"/>
                </a:lnTo>
                <a:lnTo>
                  <a:pt x="4" y="53"/>
                </a:lnTo>
                <a:lnTo>
                  <a:pt x="2" y="50"/>
                </a:lnTo>
                <a:lnTo>
                  <a:pt x="2" y="46"/>
                </a:lnTo>
                <a:lnTo>
                  <a:pt x="0" y="38"/>
                </a:lnTo>
                <a:lnTo>
                  <a:pt x="2" y="32"/>
                </a:lnTo>
                <a:lnTo>
                  <a:pt x="6" y="25"/>
                </a:lnTo>
                <a:lnTo>
                  <a:pt x="10" y="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473"/>
          <p:cNvSpPr/>
          <p:nvPr/>
        </p:nvSpPr>
        <p:spPr>
          <a:xfrm>
            <a:off x="5967360" y="3033720"/>
            <a:ext cx="372960" cy="219240"/>
          </a:xfrm>
          <a:custGeom>
            <a:avLst/>
            <a:gdLst/>
            <a:ahLst/>
            <a:rect l="l" t="t" r="r" b="b"/>
            <a:pathLst>
              <a:path w="470" h="277">
                <a:moveTo>
                  <a:pt x="457" y="106"/>
                </a:moveTo>
                <a:lnTo>
                  <a:pt x="451" y="108"/>
                </a:lnTo>
                <a:lnTo>
                  <a:pt x="446" y="111"/>
                </a:lnTo>
                <a:lnTo>
                  <a:pt x="442" y="115"/>
                </a:lnTo>
                <a:lnTo>
                  <a:pt x="436" y="121"/>
                </a:lnTo>
                <a:lnTo>
                  <a:pt x="428" y="131"/>
                </a:lnTo>
                <a:lnTo>
                  <a:pt x="419" y="142"/>
                </a:lnTo>
                <a:lnTo>
                  <a:pt x="411" y="156"/>
                </a:lnTo>
                <a:lnTo>
                  <a:pt x="403" y="169"/>
                </a:lnTo>
                <a:lnTo>
                  <a:pt x="398" y="182"/>
                </a:lnTo>
                <a:lnTo>
                  <a:pt x="392" y="198"/>
                </a:lnTo>
                <a:lnTo>
                  <a:pt x="386" y="207"/>
                </a:lnTo>
                <a:lnTo>
                  <a:pt x="382" y="217"/>
                </a:lnTo>
                <a:lnTo>
                  <a:pt x="376" y="225"/>
                </a:lnTo>
                <a:lnTo>
                  <a:pt x="373" y="232"/>
                </a:lnTo>
                <a:lnTo>
                  <a:pt x="367" y="240"/>
                </a:lnTo>
                <a:lnTo>
                  <a:pt x="363" y="246"/>
                </a:lnTo>
                <a:lnTo>
                  <a:pt x="357" y="252"/>
                </a:lnTo>
                <a:lnTo>
                  <a:pt x="351" y="257"/>
                </a:lnTo>
                <a:lnTo>
                  <a:pt x="348" y="261"/>
                </a:lnTo>
                <a:lnTo>
                  <a:pt x="342" y="267"/>
                </a:lnTo>
                <a:lnTo>
                  <a:pt x="338" y="269"/>
                </a:lnTo>
                <a:lnTo>
                  <a:pt x="332" y="273"/>
                </a:lnTo>
                <a:lnTo>
                  <a:pt x="328" y="275"/>
                </a:lnTo>
                <a:lnTo>
                  <a:pt x="323" y="277"/>
                </a:lnTo>
                <a:lnTo>
                  <a:pt x="319" y="277"/>
                </a:lnTo>
                <a:lnTo>
                  <a:pt x="313" y="277"/>
                </a:lnTo>
                <a:lnTo>
                  <a:pt x="313" y="253"/>
                </a:lnTo>
                <a:lnTo>
                  <a:pt x="313" y="230"/>
                </a:lnTo>
                <a:lnTo>
                  <a:pt x="313" y="209"/>
                </a:lnTo>
                <a:lnTo>
                  <a:pt x="311" y="188"/>
                </a:lnTo>
                <a:lnTo>
                  <a:pt x="309" y="169"/>
                </a:lnTo>
                <a:lnTo>
                  <a:pt x="307" y="152"/>
                </a:lnTo>
                <a:lnTo>
                  <a:pt x="303" y="134"/>
                </a:lnTo>
                <a:lnTo>
                  <a:pt x="300" y="119"/>
                </a:lnTo>
                <a:lnTo>
                  <a:pt x="298" y="115"/>
                </a:lnTo>
                <a:lnTo>
                  <a:pt x="296" y="111"/>
                </a:lnTo>
                <a:lnTo>
                  <a:pt x="294" y="110"/>
                </a:lnTo>
                <a:lnTo>
                  <a:pt x="292" y="106"/>
                </a:lnTo>
                <a:lnTo>
                  <a:pt x="288" y="104"/>
                </a:lnTo>
                <a:lnTo>
                  <a:pt x="282" y="102"/>
                </a:lnTo>
                <a:lnTo>
                  <a:pt x="279" y="100"/>
                </a:lnTo>
                <a:lnTo>
                  <a:pt x="273" y="98"/>
                </a:lnTo>
                <a:lnTo>
                  <a:pt x="267" y="98"/>
                </a:lnTo>
                <a:lnTo>
                  <a:pt x="261" y="96"/>
                </a:lnTo>
                <a:lnTo>
                  <a:pt x="256" y="96"/>
                </a:lnTo>
                <a:lnTo>
                  <a:pt x="248" y="96"/>
                </a:lnTo>
                <a:lnTo>
                  <a:pt x="240" y="96"/>
                </a:lnTo>
                <a:lnTo>
                  <a:pt x="232" y="96"/>
                </a:lnTo>
                <a:lnTo>
                  <a:pt x="223" y="96"/>
                </a:lnTo>
                <a:lnTo>
                  <a:pt x="213" y="96"/>
                </a:lnTo>
                <a:lnTo>
                  <a:pt x="204" y="98"/>
                </a:lnTo>
                <a:lnTo>
                  <a:pt x="194" y="100"/>
                </a:lnTo>
                <a:lnTo>
                  <a:pt x="183" y="100"/>
                </a:lnTo>
                <a:lnTo>
                  <a:pt x="171" y="102"/>
                </a:lnTo>
                <a:lnTo>
                  <a:pt x="160" y="106"/>
                </a:lnTo>
                <a:lnTo>
                  <a:pt x="148" y="108"/>
                </a:lnTo>
                <a:lnTo>
                  <a:pt x="123" y="113"/>
                </a:lnTo>
                <a:lnTo>
                  <a:pt x="94" y="119"/>
                </a:lnTo>
                <a:lnTo>
                  <a:pt x="65" y="127"/>
                </a:lnTo>
                <a:lnTo>
                  <a:pt x="35" y="136"/>
                </a:lnTo>
                <a:lnTo>
                  <a:pt x="0" y="146"/>
                </a:lnTo>
                <a:lnTo>
                  <a:pt x="0" y="65"/>
                </a:lnTo>
                <a:lnTo>
                  <a:pt x="8" y="65"/>
                </a:lnTo>
                <a:lnTo>
                  <a:pt x="17" y="65"/>
                </a:lnTo>
                <a:lnTo>
                  <a:pt x="25" y="65"/>
                </a:lnTo>
                <a:lnTo>
                  <a:pt x="35" y="63"/>
                </a:lnTo>
                <a:lnTo>
                  <a:pt x="54" y="60"/>
                </a:lnTo>
                <a:lnTo>
                  <a:pt x="75" y="56"/>
                </a:lnTo>
                <a:lnTo>
                  <a:pt x="98" y="50"/>
                </a:lnTo>
                <a:lnTo>
                  <a:pt x="121" y="44"/>
                </a:lnTo>
                <a:lnTo>
                  <a:pt x="146" y="37"/>
                </a:lnTo>
                <a:lnTo>
                  <a:pt x="171" y="27"/>
                </a:lnTo>
                <a:lnTo>
                  <a:pt x="194" y="21"/>
                </a:lnTo>
                <a:lnTo>
                  <a:pt x="217" y="17"/>
                </a:lnTo>
                <a:lnTo>
                  <a:pt x="236" y="12"/>
                </a:lnTo>
                <a:lnTo>
                  <a:pt x="256" y="8"/>
                </a:lnTo>
                <a:lnTo>
                  <a:pt x="265" y="6"/>
                </a:lnTo>
                <a:lnTo>
                  <a:pt x="273" y="6"/>
                </a:lnTo>
                <a:lnTo>
                  <a:pt x="282" y="4"/>
                </a:lnTo>
                <a:lnTo>
                  <a:pt x="288" y="2"/>
                </a:lnTo>
                <a:lnTo>
                  <a:pt x="296" y="2"/>
                </a:lnTo>
                <a:lnTo>
                  <a:pt x="302" y="0"/>
                </a:lnTo>
                <a:lnTo>
                  <a:pt x="307" y="0"/>
                </a:lnTo>
                <a:lnTo>
                  <a:pt x="313" y="0"/>
                </a:lnTo>
                <a:lnTo>
                  <a:pt x="323" y="0"/>
                </a:lnTo>
                <a:lnTo>
                  <a:pt x="334" y="2"/>
                </a:lnTo>
                <a:lnTo>
                  <a:pt x="348" y="6"/>
                </a:lnTo>
                <a:lnTo>
                  <a:pt x="361" y="10"/>
                </a:lnTo>
                <a:lnTo>
                  <a:pt x="376" y="15"/>
                </a:lnTo>
                <a:lnTo>
                  <a:pt x="394" y="21"/>
                </a:lnTo>
                <a:lnTo>
                  <a:pt x="411" y="31"/>
                </a:lnTo>
                <a:lnTo>
                  <a:pt x="430" y="40"/>
                </a:lnTo>
                <a:lnTo>
                  <a:pt x="438" y="44"/>
                </a:lnTo>
                <a:lnTo>
                  <a:pt x="444" y="50"/>
                </a:lnTo>
                <a:lnTo>
                  <a:pt x="449" y="54"/>
                </a:lnTo>
                <a:lnTo>
                  <a:pt x="455" y="60"/>
                </a:lnTo>
                <a:lnTo>
                  <a:pt x="459" y="63"/>
                </a:lnTo>
                <a:lnTo>
                  <a:pt x="463" y="69"/>
                </a:lnTo>
                <a:lnTo>
                  <a:pt x="465" y="73"/>
                </a:lnTo>
                <a:lnTo>
                  <a:pt x="467" y="77"/>
                </a:lnTo>
                <a:lnTo>
                  <a:pt x="469" y="83"/>
                </a:lnTo>
                <a:lnTo>
                  <a:pt x="470" y="87"/>
                </a:lnTo>
                <a:lnTo>
                  <a:pt x="469" y="90"/>
                </a:lnTo>
                <a:lnTo>
                  <a:pt x="469" y="94"/>
                </a:lnTo>
                <a:lnTo>
                  <a:pt x="467" y="96"/>
                </a:lnTo>
                <a:lnTo>
                  <a:pt x="465" y="100"/>
                </a:lnTo>
                <a:lnTo>
                  <a:pt x="461" y="104"/>
                </a:lnTo>
                <a:lnTo>
                  <a:pt x="457" y="10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474"/>
          <p:cNvSpPr/>
          <p:nvPr/>
        </p:nvSpPr>
        <p:spPr>
          <a:xfrm>
            <a:off x="5999040" y="3222720"/>
            <a:ext cx="289080" cy="114120"/>
          </a:xfrm>
          <a:custGeom>
            <a:avLst/>
            <a:gdLst/>
            <a:ahLst/>
            <a:rect l="l" t="t" r="r" b="b"/>
            <a:pathLst>
              <a:path w="364" h="144">
                <a:moveTo>
                  <a:pt x="0" y="144"/>
                </a:moveTo>
                <a:lnTo>
                  <a:pt x="0" y="65"/>
                </a:lnTo>
                <a:lnTo>
                  <a:pt x="174" y="33"/>
                </a:lnTo>
                <a:lnTo>
                  <a:pt x="262" y="15"/>
                </a:lnTo>
                <a:lnTo>
                  <a:pt x="351" y="0"/>
                </a:lnTo>
                <a:lnTo>
                  <a:pt x="364" y="79"/>
                </a:lnTo>
                <a:lnTo>
                  <a:pt x="182" y="111"/>
                </a:lnTo>
                <a:lnTo>
                  <a:pt x="90" y="129"/>
                </a:lnTo>
                <a:lnTo>
                  <a:pt x="0" y="14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475"/>
          <p:cNvSpPr/>
          <p:nvPr/>
        </p:nvSpPr>
        <p:spPr>
          <a:xfrm>
            <a:off x="5570640" y="2935440"/>
            <a:ext cx="261720" cy="644400"/>
          </a:xfrm>
          <a:custGeom>
            <a:avLst/>
            <a:gdLst/>
            <a:ahLst/>
            <a:rect l="l" t="t" r="r" b="b"/>
            <a:pathLst>
              <a:path w="330" h="812">
                <a:moveTo>
                  <a:pt x="31" y="98"/>
                </a:moveTo>
                <a:lnTo>
                  <a:pt x="23" y="92"/>
                </a:lnTo>
                <a:lnTo>
                  <a:pt x="16" y="87"/>
                </a:lnTo>
                <a:lnTo>
                  <a:pt x="8" y="79"/>
                </a:lnTo>
                <a:lnTo>
                  <a:pt x="4" y="69"/>
                </a:lnTo>
                <a:lnTo>
                  <a:pt x="2" y="64"/>
                </a:lnTo>
                <a:lnTo>
                  <a:pt x="2" y="58"/>
                </a:lnTo>
                <a:lnTo>
                  <a:pt x="0" y="52"/>
                </a:lnTo>
                <a:lnTo>
                  <a:pt x="0" y="46"/>
                </a:lnTo>
                <a:lnTo>
                  <a:pt x="0" y="41"/>
                </a:lnTo>
                <a:lnTo>
                  <a:pt x="2" y="33"/>
                </a:lnTo>
                <a:lnTo>
                  <a:pt x="4" y="27"/>
                </a:lnTo>
                <a:lnTo>
                  <a:pt x="6" y="20"/>
                </a:lnTo>
                <a:lnTo>
                  <a:pt x="6" y="16"/>
                </a:lnTo>
                <a:lnTo>
                  <a:pt x="10" y="10"/>
                </a:lnTo>
                <a:lnTo>
                  <a:pt x="14" y="8"/>
                </a:lnTo>
                <a:lnTo>
                  <a:pt x="19" y="4"/>
                </a:lnTo>
                <a:lnTo>
                  <a:pt x="27" y="2"/>
                </a:lnTo>
                <a:lnTo>
                  <a:pt x="39" y="0"/>
                </a:lnTo>
                <a:lnTo>
                  <a:pt x="50" y="0"/>
                </a:lnTo>
                <a:lnTo>
                  <a:pt x="62" y="0"/>
                </a:lnTo>
                <a:lnTo>
                  <a:pt x="77" y="0"/>
                </a:lnTo>
                <a:lnTo>
                  <a:pt x="94" y="0"/>
                </a:lnTo>
                <a:lnTo>
                  <a:pt x="111" y="2"/>
                </a:lnTo>
                <a:lnTo>
                  <a:pt x="133" y="4"/>
                </a:lnTo>
                <a:lnTo>
                  <a:pt x="154" y="8"/>
                </a:lnTo>
                <a:lnTo>
                  <a:pt x="177" y="10"/>
                </a:lnTo>
                <a:lnTo>
                  <a:pt x="200" y="16"/>
                </a:lnTo>
                <a:lnTo>
                  <a:pt x="227" y="20"/>
                </a:lnTo>
                <a:lnTo>
                  <a:pt x="227" y="23"/>
                </a:lnTo>
                <a:lnTo>
                  <a:pt x="227" y="29"/>
                </a:lnTo>
                <a:lnTo>
                  <a:pt x="227" y="33"/>
                </a:lnTo>
                <a:lnTo>
                  <a:pt x="229" y="39"/>
                </a:lnTo>
                <a:lnTo>
                  <a:pt x="229" y="46"/>
                </a:lnTo>
                <a:lnTo>
                  <a:pt x="229" y="52"/>
                </a:lnTo>
                <a:lnTo>
                  <a:pt x="230" y="60"/>
                </a:lnTo>
                <a:lnTo>
                  <a:pt x="230" y="69"/>
                </a:lnTo>
                <a:lnTo>
                  <a:pt x="232" y="77"/>
                </a:lnTo>
                <a:lnTo>
                  <a:pt x="234" y="87"/>
                </a:lnTo>
                <a:lnTo>
                  <a:pt x="236" y="96"/>
                </a:lnTo>
                <a:lnTo>
                  <a:pt x="236" y="108"/>
                </a:lnTo>
                <a:lnTo>
                  <a:pt x="238" y="119"/>
                </a:lnTo>
                <a:lnTo>
                  <a:pt x="240" y="131"/>
                </a:lnTo>
                <a:lnTo>
                  <a:pt x="242" y="144"/>
                </a:lnTo>
                <a:lnTo>
                  <a:pt x="244" y="156"/>
                </a:lnTo>
                <a:lnTo>
                  <a:pt x="248" y="169"/>
                </a:lnTo>
                <a:lnTo>
                  <a:pt x="250" y="185"/>
                </a:lnTo>
                <a:lnTo>
                  <a:pt x="252" y="198"/>
                </a:lnTo>
                <a:lnTo>
                  <a:pt x="254" y="213"/>
                </a:lnTo>
                <a:lnTo>
                  <a:pt x="257" y="231"/>
                </a:lnTo>
                <a:lnTo>
                  <a:pt x="259" y="246"/>
                </a:lnTo>
                <a:lnTo>
                  <a:pt x="263" y="263"/>
                </a:lnTo>
                <a:lnTo>
                  <a:pt x="265" y="281"/>
                </a:lnTo>
                <a:lnTo>
                  <a:pt x="269" y="300"/>
                </a:lnTo>
                <a:lnTo>
                  <a:pt x="271" y="319"/>
                </a:lnTo>
                <a:lnTo>
                  <a:pt x="275" y="338"/>
                </a:lnTo>
                <a:lnTo>
                  <a:pt x="278" y="357"/>
                </a:lnTo>
                <a:lnTo>
                  <a:pt x="280" y="377"/>
                </a:lnTo>
                <a:lnTo>
                  <a:pt x="284" y="398"/>
                </a:lnTo>
                <a:lnTo>
                  <a:pt x="288" y="421"/>
                </a:lnTo>
                <a:lnTo>
                  <a:pt x="292" y="442"/>
                </a:lnTo>
                <a:lnTo>
                  <a:pt x="296" y="463"/>
                </a:lnTo>
                <a:lnTo>
                  <a:pt x="298" y="484"/>
                </a:lnTo>
                <a:lnTo>
                  <a:pt x="302" y="505"/>
                </a:lnTo>
                <a:lnTo>
                  <a:pt x="305" y="526"/>
                </a:lnTo>
                <a:lnTo>
                  <a:pt x="307" y="545"/>
                </a:lnTo>
                <a:lnTo>
                  <a:pt x="311" y="563"/>
                </a:lnTo>
                <a:lnTo>
                  <a:pt x="313" y="580"/>
                </a:lnTo>
                <a:lnTo>
                  <a:pt x="315" y="597"/>
                </a:lnTo>
                <a:lnTo>
                  <a:pt x="317" y="615"/>
                </a:lnTo>
                <a:lnTo>
                  <a:pt x="321" y="630"/>
                </a:lnTo>
                <a:lnTo>
                  <a:pt x="323" y="645"/>
                </a:lnTo>
                <a:lnTo>
                  <a:pt x="323" y="659"/>
                </a:lnTo>
                <a:lnTo>
                  <a:pt x="325" y="674"/>
                </a:lnTo>
                <a:lnTo>
                  <a:pt x="326" y="686"/>
                </a:lnTo>
                <a:lnTo>
                  <a:pt x="328" y="699"/>
                </a:lnTo>
                <a:lnTo>
                  <a:pt x="328" y="711"/>
                </a:lnTo>
                <a:lnTo>
                  <a:pt x="330" y="722"/>
                </a:lnTo>
                <a:lnTo>
                  <a:pt x="330" y="732"/>
                </a:lnTo>
                <a:lnTo>
                  <a:pt x="330" y="741"/>
                </a:lnTo>
                <a:lnTo>
                  <a:pt x="330" y="751"/>
                </a:lnTo>
                <a:lnTo>
                  <a:pt x="330" y="760"/>
                </a:lnTo>
                <a:lnTo>
                  <a:pt x="330" y="768"/>
                </a:lnTo>
                <a:lnTo>
                  <a:pt x="330" y="774"/>
                </a:lnTo>
                <a:lnTo>
                  <a:pt x="330" y="782"/>
                </a:lnTo>
                <a:lnTo>
                  <a:pt x="328" y="787"/>
                </a:lnTo>
                <a:lnTo>
                  <a:pt x="328" y="793"/>
                </a:lnTo>
                <a:lnTo>
                  <a:pt x="326" y="797"/>
                </a:lnTo>
                <a:lnTo>
                  <a:pt x="325" y="801"/>
                </a:lnTo>
                <a:lnTo>
                  <a:pt x="325" y="805"/>
                </a:lnTo>
                <a:lnTo>
                  <a:pt x="323" y="808"/>
                </a:lnTo>
                <a:lnTo>
                  <a:pt x="319" y="810"/>
                </a:lnTo>
                <a:lnTo>
                  <a:pt x="317" y="812"/>
                </a:lnTo>
                <a:lnTo>
                  <a:pt x="315" y="812"/>
                </a:lnTo>
                <a:lnTo>
                  <a:pt x="313" y="812"/>
                </a:lnTo>
                <a:lnTo>
                  <a:pt x="309" y="812"/>
                </a:lnTo>
                <a:lnTo>
                  <a:pt x="307" y="810"/>
                </a:lnTo>
                <a:lnTo>
                  <a:pt x="303" y="808"/>
                </a:lnTo>
                <a:lnTo>
                  <a:pt x="302" y="805"/>
                </a:lnTo>
                <a:lnTo>
                  <a:pt x="298" y="801"/>
                </a:lnTo>
                <a:lnTo>
                  <a:pt x="296" y="797"/>
                </a:lnTo>
                <a:lnTo>
                  <a:pt x="292" y="791"/>
                </a:lnTo>
                <a:lnTo>
                  <a:pt x="288" y="785"/>
                </a:lnTo>
                <a:lnTo>
                  <a:pt x="284" y="778"/>
                </a:lnTo>
                <a:lnTo>
                  <a:pt x="282" y="772"/>
                </a:lnTo>
                <a:lnTo>
                  <a:pt x="278" y="762"/>
                </a:lnTo>
                <a:lnTo>
                  <a:pt x="275" y="755"/>
                </a:lnTo>
                <a:lnTo>
                  <a:pt x="271" y="745"/>
                </a:lnTo>
                <a:lnTo>
                  <a:pt x="267" y="734"/>
                </a:lnTo>
                <a:lnTo>
                  <a:pt x="263" y="722"/>
                </a:lnTo>
                <a:lnTo>
                  <a:pt x="259" y="711"/>
                </a:lnTo>
                <a:lnTo>
                  <a:pt x="254" y="697"/>
                </a:lnTo>
                <a:lnTo>
                  <a:pt x="250" y="684"/>
                </a:lnTo>
                <a:lnTo>
                  <a:pt x="246" y="670"/>
                </a:lnTo>
                <a:lnTo>
                  <a:pt x="240" y="655"/>
                </a:lnTo>
                <a:lnTo>
                  <a:pt x="236" y="640"/>
                </a:lnTo>
                <a:lnTo>
                  <a:pt x="230" y="624"/>
                </a:lnTo>
                <a:lnTo>
                  <a:pt x="227" y="607"/>
                </a:lnTo>
                <a:lnTo>
                  <a:pt x="221" y="590"/>
                </a:lnTo>
                <a:lnTo>
                  <a:pt x="215" y="570"/>
                </a:lnTo>
                <a:lnTo>
                  <a:pt x="209" y="551"/>
                </a:lnTo>
                <a:lnTo>
                  <a:pt x="206" y="532"/>
                </a:lnTo>
                <a:lnTo>
                  <a:pt x="200" y="511"/>
                </a:lnTo>
                <a:lnTo>
                  <a:pt x="194" y="490"/>
                </a:lnTo>
                <a:lnTo>
                  <a:pt x="188" y="469"/>
                </a:lnTo>
                <a:lnTo>
                  <a:pt x="181" y="448"/>
                </a:lnTo>
                <a:lnTo>
                  <a:pt x="175" y="426"/>
                </a:lnTo>
                <a:lnTo>
                  <a:pt x="169" y="407"/>
                </a:lnTo>
                <a:lnTo>
                  <a:pt x="163" y="388"/>
                </a:lnTo>
                <a:lnTo>
                  <a:pt x="158" y="371"/>
                </a:lnTo>
                <a:lnTo>
                  <a:pt x="152" y="352"/>
                </a:lnTo>
                <a:lnTo>
                  <a:pt x="148" y="334"/>
                </a:lnTo>
                <a:lnTo>
                  <a:pt x="142" y="317"/>
                </a:lnTo>
                <a:lnTo>
                  <a:pt x="136" y="302"/>
                </a:lnTo>
                <a:lnTo>
                  <a:pt x="131" y="286"/>
                </a:lnTo>
                <a:lnTo>
                  <a:pt x="125" y="271"/>
                </a:lnTo>
                <a:lnTo>
                  <a:pt x="121" y="256"/>
                </a:lnTo>
                <a:lnTo>
                  <a:pt x="115" y="242"/>
                </a:lnTo>
                <a:lnTo>
                  <a:pt x="110" y="229"/>
                </a:lnTo>
                <a:lnTo>
                  <a:pt x="106" y="217"/>
                </a:lnTo>
                <a:lnTo>
                  <a:pt x="100" y="204"/>
                </a:lnTo>
                <a:lnTo>
                  <a:pt x="94" y="192"/>
                </a:lnTo>
                <a:lnTo>
                  <a:pt x="90" y="183"/>
                </a:lnTo>
                <a:lnTo>
                  <a:pt x="87" y="171"/>
                </a:lnTo>
                <a:lnTo>
                  <a:pt x="81" y="162"/>
                </a:lnTo>
                <a:lnTo>
                  <a:pt x="77" y="154"/>
                </a:lnTo>
                <a:lnTo>
                  <a:pt x="71" y="144"/>
                </a:lnTo>
                <a:lnTo>
                  <a:pt x="67" y="137"/>
                </a:lnTo>
                <a:lnTo>
                  <a:pt x="64" y="131"/>
                </a:lnTo>
                <a:lnTo>
                  <a:pt x="60" y="125"/>
                </a:lnTo>
                <a:lnTo>
                  <a:pt x="54" y="119"/>
                </a:lnTo>
                <a:lnTo>
                  <a:pt x="50" y="114"/>
                </a:lnTo>
                <a:lnTo>
                  <a:pt x="46" y="110"/>
                </a:lnTo>
                <a:lnTo>
                  <a:pt x="42" y="106"/>
                </a:lnTo>
                <a:lnTo>
                  <a:pt x="39" y="102"/>
                </a:lnTo>
                <a:lnTo>
                  <a:pt x="35" y="100"/>
                </a:lnTo>
                <a:lnTo>
                  <a:pt x="31" y="9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476"/>
          <p:cNvSpPr/>
          <p:nvPr/>
        </p:nvSpPr>
        <p:spPr>
          <a:xfrm>
            <a:off x="5802480" y="3400560"/>
            <a:ext cx="660240" cy="136440"/>
          </a:xfrm>
          <a:custGeom>
            <a:avLst/>
            <a:gdLst/>
            <a:ahLst/>
            <a:rect l="l" t="t" r="r" b="b"/>
            <a:pathLst>
              <a:path w="833" h="171">
                <a:moveTo>
                  <a:pt x="38" y="171"/>
                </a:moveTo>
                <a:lnTo>
                  <a:pt x="19" y="138"/>
                </a:lnTo>
                <a:lnTo>
                  <a:pt x="0" y="105"/>
                </a:lnTo>
                <a:lnTo>
                  <a:pt x="8" y="100"/>
                </a:lnTo>
                <a:lnTo>
                  <a:pt x="15" y="96"/>
                </a:lnTo>
                <a:lnTo>
                  <a:pt x="25" y="90"/>
                </a:lnTo>
                <a:lnTo>
                  <a:pt x="34" y="86"/>
                </a:lnTo>
                <a:lnTo>
                  <a:pt x="44" y="82"/>
                </a:lnTo>
                <a:lnTo>
                  <a:pt x="54" y="80"/>
                </a:lnTo>
                <a:lnTo>
                  <a:pt x="65" y="76"/>
                </a:lnTo>
                <a:lnTo>
                  <a:pt x="77" y="73"/>
                </a:lnTo>
                <a:lnTo>
                  <a:pt x="90" y="71"/>
                </a:lnTo>
                <a:lnTo>
                  <a:pt x="104" y="67"/>
                </a:lnTo>
                <a:lnTo>
                  <a:pt x="117" y="65"/>
                </a:lnTo>
                <a:lnTo>
                  <a:pt x="130" y="61"/>
                </a:lnTo>
                <a:lnTo>
                  <a:pt x="146" y="59"/>
                </a:lnTo>
                <a:lnTo>
                  <a:pt x="161" y="57"/>
                </a:lnTo>
                <a:lnTo>
                  <a:pt x="178" y="53"/>
                </a:lnTo>
                <a:lnTo>
                  <a:pt x="196" y="52"/>
                </a:lnTo>
                <a:lnTo>
                  <a:pt x="224" y="46"/>
                </a:lnTo>
                <a:lnTo>
                  <a:pt x="255" y="42"/>
                </a:lnTo>
                <a:lnTo>
                  <a:pt x="288" y="36"/>
                </a:lnTo>
                <a:lnTo>
                  <a:pt x="322" y="32"/>
                </a:lnTo>
                <a:lnTo>
                  <a:pt x="357" y="27"/>
                </a:lnTo>
                <a:lnTo>
                  <a:pt x="393" y="23"/>
                </a:lnTo>
                <a:lnTo>
                  <a:pt x="430" y="17"/>
                </a:lnTo>
                <a:lnTo>
                  <a:pt x="468" y="13"/>
                </a:lnTo>
                <a:lnTo>
                  <a:pt x="509" y="7"/>
                </a:lnTo>
                <a:lnTo>
                  <a:pt x="549" y="4"/>
                </a:lnTo>
                <a:lnTo>
                  <a:pt x="591" y="2"/>
                </a:lnTo>
                <a:lnTo>
                  <a:pt x="635" y="0"/>
                </a:lnTo>
                <a:lnTo>
                  <a:pt x="658" y="0"/>
                </a:lnTo>
                <a:lnTo>
                  <a:pt x="681" y="0"/>
                </a:lnTo>
                <a:lnTo>
                  <a:pt x="706" y="0"/>
                </a:lnTo>
                <a:lnTo>
                  <a:pt x="729" y="0"/>
                </a:lnTo>
                <a:lnTo>
                  <a:pt x="754" y="0"/>
                </a:lnTo>
                <a:lnTo>
                  <a:pt x="779" y="0"/>
                </a:lnTo>
                <a:lnTo>
                  <a:pt x="806" y="0"/>
                </a:lnTo>
                <a:lnTo>
                  <a:pt x="833" y="0"/>
                </a:lnTo>
                <a:lnTo>
                  <a:pt x="833" y="78"/>
                </a:lnTo>
                <a:lnTo>
                  <a:pt x="633" y="101"/>
                </a:lnTo>
                <a:lnTo>
                  <a:pt x="436" y="124"/>
                </a:lnTo>
                <a:lnTo>
                  <a:pt x="238" y="148"/>
                </a:lnTo>
                <a:lnTo>
                  <a:pt x="38" y="17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477"/>
          <p:cNvSpPr/>
          <p:nvPr/>
        </p:nvSpPr>
        <p:spPr>
          <a:xfrm>
            <a:off x="5749920" y="3557520"/>
            <a:ext cx="795240" cy="571680"/>
          </a:xfrm>
          <a:custGeom>
            <a:avLst/>
            <a:gdLst/>
            <a:ahLst/>
            <a:rect l="l" t="t" r="r" b="b"/>
            <a:pathLst>
              <a:path w="1002" h="720">
                <a:moveTo>
                  <a:pt x="846" y="461"/>
                </a:moveTo>
                <a:lnTo>
                  <a:pt x="837" y="490"/>
                </a:lnTo>
                <a:lnTo>
                  <a:pt x="827" y="517"/>
                </a:lnTo>
                <a:lnTo>
                  <a:pt x="819" y="542"/>
                </a:lnTo>
                <a:lnTo>
                  <a:pt x="812" y="565"/>
                </a:lnTo>
                <a:lnTo>
                  <a:pt x="804" y="588"/>
                </a:lnTo>
                <a:lnTo>
                  <a:pt x="798" y="607"/>
                </a:lnTo>
                <a:lnTo>
                  <a:pt x="790" y="624"/>
                </a:lnTo>
                <a:lnTo>
                  <a:pt x="785" y="641"/>
                </a:lnTo>
                <a:lnTo>
                  <a:pt x="781" y="655"/>
                </a:lnTo>
                <a:lnTo>
                  <a:pt x="775" y="668"/>
                </a:lnTo>
                <a:lnTo>
                  <a:pt x="771" y="680"/>
                </a:lnTo>
                <a:lnTo>
                  <a:pt x="767" y="689"/>
                </a:lnTo>
                <a:lnTo>
                  <a:pt x="764" y="697"/>
                </a:lnTo>
                <a:lnTo>
                  <a:pt x="760" y="705"/>
                </a:lnTo>
                <a:lnTo>
                  <a:pt x="758" y="709"/>
                </a:lnTo>
                <a:lnTo>
                  <a:pt x="754" y="713"/>
                </a:lnTo>
                <a:lnTo>
                  <a:pt x="752" y="714"/>
                </a:lnTo>
                <a:lnTo>
                  <a:pt x="748" y="716"/>
                </a:lnTo>
                <a:lnTo>
                  <a:pt x="742" y="718"/>
                </a:lnTo>
                <a:lnTo>
                  <a:pt x="739" y="720"/>
                </a:lnTo>
                <a:lnTo>
                  <a:pt x="731" y="720"/>
                </a:lnTo>
                <a:lnTo>
                  <a:pt x="725" y="720"/>
                </a:lnTo>
                <a:lnTo>
                  <a:pt x="718" y="720"/>
                </a:lnTo>
                <a:lnTo>
                  <a:pt x="708" y="720"/>
                </a:lnTo>
                <a:lnTo>
                  <a:pt x="700" y="720"/>
                </a:lnTo>
                <a:lnTo>
                  <a:pt x="691" y="718"/>
                </a:lnTo>
                <a:lnTo>
                  <a:pt x="681" y="716"/>
                </a:lnTo>
                <a:lnTo>
                  <a:pt x="670" y="714"/>
                </a:lnTo>
                <a:lnTo>
                  <a:pt x="660" y="711"/>
                </a:lnTo>
                <a:lnTo>
                  <a:pt x="648" y="709"/>
                </a:lnTo>
                <a:lnTo>
                  <a:pt x="637" y="703"/>
                </a:lnTo>
                <a:lnTo>
                  <a:pt x="623" y="699"/>
                </a:lnTo>
                <a:lnTo>
                  <a:pt x="635" y="661"/>
                </a:lnTo>
                <a:lnTo>
                  <a:pt x="647" y="622"/>
                </a:lnTo>
                <a:lnTo>
                  <a:pt x="658" y="588"/>
                </a:lnTo>
                <a:lnTo>
                  <a:pt x="668" y="553"/>
                </a:lnTo>
                <a:lnTo>
                  <a:pt x="677" y="521"/>
                </a:lnTo>
                <a:lnTo>
                  <a:pt x="685" y="490"/>
                </a:lnTo>
                <a:lnTo>
                  <a:pt x="693" y="461"/>
                </a:lnTo>
                <a:lnTo>
                  <a:pt x="700" y="434"/>
                </a:lnTo>
                <a:lnTo>
                  <a:pt x="706" y="407"/>
                </a:lnTo>
                <a:lnTo>
                  <a:pt x="712" y="384"/>
                </a:lnTo>
                <a:lnTo>
                  <a:pt x="718" y="361"/>
                </a:lnTo>
                <a:lnTo>
                  <a:pt x="721" y="340"/>
                </a:lnTo>
                <a:lnTo>
                  <a:pt x="723" y="323"/>
                </a:lnTo>
                <a:lnTo>
                  <a:pt x="727" y="306"/>
                </a:lnTo>
                <a:lnTo>
                  <a:pt x="727" y="290"/>
                </a:lnTo>
                <a:lnTo>
                  <a:pt x="729" y="277"/>
                </a:lnTo>
                <a:lnTo>
                  <a:pt x="729" y="265"/>
                </a:lnTo>
                <a:lnTo>
                  <a:pt x="729" y="254"/>
                </a:lnTo>
                <a:lnTo>
                  <a:pt x="727" y="242"/>
                </a:lnTo>
                <a:lnTo>
                  <a:pt x="727" y="233"/>
                </a:lnTo>
                <a:lnTo>
                  <a:pt x="727" y="223"/>
                </a:lnTo>
                <a:lnTo>
                  <a:pt x="727" y="213"/>
                </a:lnTo>
                <a:lnTo>
                  <a:pt x="727" y="206"/>
                </a:lnTo>
                <a:lnTo>
                  <a:pt x="727" y="198"/>
                </a:lnTo>
                <a:lnTo>
                  <a:pt x="725" y="190"/>
                </a:lnTo>
                <a:lnTo>
                  <a:pt x="725" y="185"/>
                </a:lnTo>
                <a:lnTo>
                  <a:pt x="723" y="179"/>
                </a:lnTo>
                <a:lnTo>
                  <a:pt x="723" y="173"/>
                </a:lnTo>
                <a:lnTo>
                  <a:pt x="721" y="167"/>
                </a:lnTo>
                <a:lnTo>
                  <a:pt x="719" y="164"/>
                </a:lnTo>
                <a:lnTo>
                  <a:pt x="718" y="160"/>
                </a:lnTo>
                <a:lnTo>
                  <a:pt x="716" y="158"/>
                </a:lnTo>
                <a:lnTo>
                  <a:pt x="712" y="156"/>
                </a:lnTo>
                <a:lnTo>
                  <a:pt x="708" y="154"/>
                </a:lnTo>
                <a:lnTo>
                  <a:pt x="702" y="154"/>
                </a:lnTo>
                <a:lnTo>
                  <a:pt x="696" y="152"/>
                </a:lnTo>
                <a:lnTo>
                  <a:pt x="689" y="152"/>
                </a:lnTo>
                <a:lnTo>
                  <a:pt x="679" y="152"/>
                </a:lnTo>
                <a:lnTo>
                  <a:pt x="670" y="154"/>
                </a:lnTo>
                <a:lnTo>
                  <a:pt x="660" y="154"/>
                </a:lnTo>
                <a:lnTo>
                  <a:pt x="648" y="156"/>
                </a:lnTo>
                <a:lnTo>
                  <a:pt x="637" y="158"/>
                </a:lnTo>
                <a:lnTo>
                  <a:pt x="623" y="160"/>
                </a:lnTo>
                <a:lnTo>
                  <a:pt x="610" y="162"/>
                </a:lnTo>
                <a:lnTo>
                  <a:pt x="595" y="164"/>
                </a:lnTo>
                <a:lnTo>
                  <a:pt x="579" y="165"/>
                </a:lnTo>
                <a:lnTo>
                  <a:pt x="562" y="169"/>
                </a:lnTo>
                <a:lnTo>
                  <a:pt x="547" y="171"/>
                </a:lnTo>
                <a:lnTo>
                  <a:pt x="526" y="177"/>
                </a:lnTo>
                <a:lnTo>
                  <a:pt x="504" y="183"/>
                </a:lnTo>
                <a:lnTo>
                  <a:pt x="480" y="187"/>
                </a:lnTo>
                <a:lnTo>
                  <a:pt x="453" y="194"/>
                </a:lnTo>
                <a:lnTo>
                  <a:pt x="426" y="200"/>
                </a:lnTo>
                <a:lnTo>
                  <a:pt x="397" y="206"/>
                </a:lnTo>
                <a:lnTo>
                  <a:pt x="364" y="212"/>
                </a:lnTo>
                <a:lnTo>
                  <a:pt x="332" y="219"/>
                </a:lnTo>
                <a:lnTo>
                  <a:pt x="297" y="225"/>
                </a:lnTo>
                <a:lnTo>
                  <a:pt x="259" y="233"/>
                </a:lnTo>
                <a:lnTo>
                  <a:pt x="220" y="240"/>
                </a:lnTo>
                <a:lnTo>
                  <a:pt x="180" y="248"/>
                </a:lnTo>
                <a:lnTo>
                  <a:pt x="138" y="254"/>
                </a:lnTo>
                <a:lnTo>
                  <a:pt x="94" y="261"/>
                </a:lnTo>
                <a:lnTo>
                  <a:pt x="48" y="269"/>
                </a:lnTo>
                <a:lnTo>
                  <a:pt x="0" y="277"/>
                </a:lnTo>
                <a:lnTo>
                  <a:pt x="0" y="231"/>
                </a:lnTo>
                <a:lnTo>
                  <a:pt x="0" y="185"/>
                </a:lnTo>
                <a:lnTo>
                  <a:pt x="7" y="181"/>
                </a:lnTo>
                <a:lnTo>
                  <a:pt x="15" y="179"/>
                </a:lnTo>
                <a:lnTo>
                  <a:pt x="25" y="177"/>
                </a:lnTo>
                <a:lnTo>
                  <a:pt x="34" y="175"/>
                </a:lnTo>
                <a:lnTo>
                  <a:pt x="44" y="171"/>
                </a:lnTo>
                <a:lnTo>
                  <a:pt x="53" y="169"/>
                </a:lnTo>
                <a:lnTo>
                  <a:pt x="65" y="167"/>
                </a:lnTo>
                <a:lnTo>
                  <a:pt x="76" y="165"/>
                </a:lnTo>
                <a:lnTo>
                  <a:pt x="99" y="160"/>
                </a:lnTo>
                <a:lnTo>
                  <a:pt x="126" y="154"/>
                </a:lnTo>
                <a:lnTo>
                  <a:pt x="153" y="150"/>
                </a:lnTo>
                <a:lnTo>
                  <a:pt x="182" y="144"/>
                </a:lnTo>
                <a:lnTo>
                  <a:pt x="194" y="142"/>
                </a:lnTo>
                <a:lnTo>
                  <a:pt x="207" y="141"/>
                </a:lnTo>
                <a:lnTo>
                  <a:pt x="222" y="137"/>
                </a:lnTo>
                <a:lnTo>
                  <a:pt x="238" y="135"/>
                </a:lnTo>
                <a:lnTo>
                  <a:pt x="253" y="133"/>
                </a:lnTo>
                <a:lnTo>
                  <a:pt x="270" y="129"/>
                </a:lnTo>
                <a:lnTo>
                  <a:pt x="288" y="127"/>
                </a:lnTo>
                <a:lnTo>
                  <a:pt x="307" y="123"/>
                </a:lnTo>
                <a:lnTo>
                  <a:pt x="326" y="121"/>
                </a:lnTo>
                <a:lnTo>
                  <a:pt x="347" y="117"/>
                </a:lnTo>
                <a:lnTo>
                  <a:pt x="366" y="114"/>
                </a:lnTo>
                <a:lnTo>
                  <a:pt x="389" y="110"/>
                </a:lnTo>
                <a:lnTo>
                  <a:pt x="410" y="106"/>
                </a:lnTo>
                <a:lnTo>
                  <a:pt x="433" y="102"/>
                </a:lnTo>
                <a:lnTo>
                  <a:pt x="456" y="96"/>
                </a:lnTo>
                <a:lnTo>
                  <a:pt x="481" y="93"/>
                </a:lnTo>
                <a:lnTo>
                  <a:pt x="503" y="87"/>
                </a:lnTo>
                <a:lnTo>
                  <a:pt x="524" y="83"/>
                </a:lnTo>
                <a:lnTo>
                  <a:pt x="543" y="77"/>
                </a:lnTo>
                <a:lnTo>
                  <a:pt x="562" y="71"/>
                </a:lnTo>
                <a:lnTo>
                  <a:pt x="579" y="68"/>
                </a:lnTo>
                <a:lnTo>
                  <a:pt x="597" y="64"/>
                </a:lnTo>
                <a:lnTo>
                  <a:pt x="612" y="58"/>
                </a:lnTo>
                <a:lnTo>
                  <a:pt x="627" y="54"/>
                </a:lnTo>
                <a:lnTo>
                  <a:pt x="641" y="50"/>
                </a:lnTo>
                <a:lnTo>
                  <a:pt x="654" y="46"/>
                </a:lnTo>
                <a:lnTo>
                  <a:pt x="668" y="43"/>
                </a:lnTo>
                <a:lnTo>
                  <a:pt x="679" y="39"/>
                </a:lnTo>
                <a:lnTo>
                  <a:pt x="689" y="35"/>
                </a:lnTo>
                <a:lnTo>
                  <a:pt x="698" y="31"/>
                </a:lnTo>
                <a:lnTo>
                  <a:pt x="708" y="29"/>
                </a:lnTo>
                <a:lnTo>
                  <a:pt x="716" y="27"/>
                </a:lnTo>
                <a:lnTo>
                  <a:pt x="729" y="22"/>
                </a:lnTo>
                <a:lnTo>
                  <a:pt x="742" y="16"/>
                </a:lnTo>
                <a:lnTo>
                  <a:pt x="754" y="12"/>
                </a:lnTo>
                <a:lnTo>
                  <a:pt x="766" y="8"/>
                </a:lnTo>
                <a:lnTo>
                  <a:pt x="777" y="4"/>
                </a:lnTo>
                <a:lnTo>
                  <a:pt x="787" y="2"/>
                </a:lnTo>
                <a:lnTo>
                  <a:pt x="796" y="0"/>
                </a:lnTo>
                <a:lnTo>
                  <a:pt x="806" y="0"/>
                </a:lnTo>
                <a:lnTo>
                  <a:pt x="810" y="0"/>
                </a:lnTo>
                <a:lnTo>
                  <a:pt x="812" y="0"/>
                </a:lnTo>
                <a:lnTo>
                  <a:pt x="817" y="2"/>
                </a:lnTo>
                <a:lnTo>
                  <a:pt x="821" y="2"/>
                </a:lnTo>
                <a:lnTo>
                  <a:pt x="827" y="4"/>
                </a:lnTo>
                <a:lnTo>
                  <a:pt x="833" y="6"/>
                </a:lnTo>
                <a:lnTo>
                  <a:pt x="838" y="8"/>
                </a:lnTo>
                <a:lnTo>
                  <a:pt x="846" y="12"/>
                </a:lnTo>
                <a:lnTo>
                  <a:pt x="854" y="14"/>
                </a:lnTo>
                <a:lnTo>
                  <a:pt x="861" y="18"/>
                </a:lnTo>
                <a:lnTo>
                  <a:pt x="871" y="23"/>
                </a:lnTo>
                <a:lnTo>
                  <a:pt x="879" y="27"/>
                </a:lnTo>
                <a:lnTo>
                  <a:pt x="890" y="33"/>
                </a:lnTo>
                <a:lnTo>
                  <a:pt x="900" y="39"/>
                </a:lnTo>
                <a:lnTo>
                  <a:pt x="911" y="45"/>
                </a:lnTo>
                <a:lnTo>
                  <a:pt x="923" y="52"/>
                </a:lnTo>
                <a:lnTo>
                  <a:pt x="932" y="60"/>
                </a:lnTo>
                <a:lnTo>
                  <a:pt x="942" y="68"/>
                </a:lnTo>
                <a:lnTo>
                  <a:pt x="950" y="73"/>
                </a:lnTo>
                <a:lnTo>
                  <a:pt x="957" y="79"/>
                </a:lnTo>
                <a:lnTo>
                  <a:pt x="965" y="87"/>
                </a:lnTo>
                <a:lnTo>
                  <a:pt x="971" y="93"/>
                </a:lnTo>
                <a:lnTo>
                  <a:pt x="977" y="96"/>
                </a:lnTo>
                <a:lnTo>
                  <a:pt x="982" y="102"/>
                </a:lnTo>
                <a:lnTo>
                  <a:pt x="986" y="106"/>
                </a:lnTo>
                <a:lnTo>
                  <a:pt x="990" y="112"/>
                </a:lnTo>
                <a:lnTo>
                  <a:pt x="994" y="116"/>
                </a:lnTo>
                <a:lnTo>
                  <a:pt x="996" y="119"/>
                </a:lnTo>
                <a:lnTo>
                  <a:pt x="1000" y="123"/>
                </a:lnTo>
                <a:lnTo>
                  <a:pt x="1000" y="125"/>
                </a:lnTo>
                <a:lnTo>
                  <a:pt x="1002" y="129"/>
                </a:lnTo>
                <a:lnTo>
                  <a:pt x="1002" y="131"/>
                </a:lnTo>
                <a:lnTo>
                  <a:pt x="1002" y="141"/>
                </a:lnTo>
                <a:lnTo>
                  <a:pt x="1000" y="150"/>
                </a:lnTo>
                <a:lnTo>
                  <a:pt x="996" y="160"/>
                </a:lnTo>
                <a:lnTo>
                  <a:pt x="992" y="169"/>
                </a:lnTo>
                <a:lnTo>
                  <a:pt x="986" y="177"/>
                </a:lnTo>
                <a:lnTo>
                  <a:pt x="980" y="185"/>
                </a:lnTo>
                <a:lnTo>
                  <a:pt x="973" y="192"/>
                </a:lnTo>
                <a:lnTo>
                  <a:pt x="963" y="198"/>
                </a:lnTo>
                <a:lnTo>
                  <a:pt x="957" y="202"/>
                </a:lnTo>
                <a:lnTo>
                  <a:pt x="952" y="206"/>
                </a:lnTo>
                <a:lnTo>
                  <a:pt x="946" y="213"/>
                </a:lnTo>
                <a:lnTo>
                  <a:pt x="940" y="223"/>
                </a:lnTo>
                <a:lnTo>
                  <a:pt x="934" y="233"/>
                </a:lnTo>
                <a:lnTo>
                  <a:pt x="929" y="246"/>
                </a:lnTo>
                <a:lnTo>
                  <a:pt x="921" y="260"/>
                </a:lnTo>
                <a:lnTo>
                  <a:pt x="913" y="275"/>
                </a:lnTo>
                <a:lnTo>
                  <a:pt x="906" y="292"/>
                </a:lnTo>
                <a:lnTo>
                  <a:pt x="898" y="311"/>
                </a:lnTo>
                <a:lnTo>
                  <a:pt x="890" y="332"/>
                </a:lnTo>
                <a:lnTo>
                  <a:pt x="881" y="355"/>
                </a:lnTo>
                <a:lnTo>
                  <a:pt x="873" y="379"/>
                </a:lnTo>
                <a:lnTo>
                  <a:pt x="863" y="405"/>
                </a:lnTo>
                <a:lnTo>
                  <a:pt x="854" y="432"/>
                </a:lnTo>
                <a:lnTo>
                  <a:pt x="846" y="4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478"/>
          <p:cNvSpPr/>
          <p:nvPr/>
        </p:nvSpPr>
        <p:spPr>
          <a:xfrm>
            <a:off x="5864400" y="4017960"/>
            <a:ext cx="444240" cy="136440"/>
          </a:xfrm>
          <a:custGeom>
            <a:avLst/>
            <a:gdLst/>
            <a:ahLst/>
            <a:rect l="l" t="t" r="r" b="b"/>
            <a:pathLst>
              <a:path w="558" h="173">
                <a:moveTo>
                  <a:pt x="558" y="0"/>
                </a:moveTo>
                <a:lnTo>
                  <a:pt x="549" y="15"/>
                </a:lnTo>
                <a:lnTo>
                  <a:pt x="541" y="29"/>
                </a:lnTo>
                <a:lnTo>
                  <a:pt x="535" y="44"/>
                </a:lnTo>
                <a:lnTo>
                  <a:pt x="529" y="56"/>
                </a:lnTo>
                <a:lnTo>
                  <a:pt x="526" y="67"/>
                </a:lnTo>
                <a:lnTo>
                  <a:pt x="522" y="79"/>
                </a:lnTo>
                <a:lnTo>
                  <a:pt x="522" y="83"/>
                </a:lnTo>
                <a:lnTo>
                  <a:pt x="520" y="86"/>
                </a:lnTo>
                <a:lnTo>
                  <a:pt x="520" y="90"/>
                </a:lnTo>
                <a:lnTo>
                  <a:pt x="520" y="92"/>
                </a:lnTo>
                <a:lnTo>
                  <a:pt x="389" y="113"/>
                </a:lnTo>
                <a:lnTo>
                  <a:pt x="259" y="133"/>
                </a:lnTo>
                <a:lnTo>
                  <a:pt x="128" y="152"/>
                </a:lnTo>
                <a:lnTo>
                  <a:pt x="0" y="173"/>
                </a:lnTo>
                <a:lnTo>
                  <a:pt x="0" y="119"/>
                </a:lnTo>
                <a:lnTo>
                  <a:pt x="0" y="67"/>
                </a:lnTo>
                <a:lnTo>
                  <a:pt x="138" y="50"/>
                </a:lnTo>
                <a:lnTo>
                  <a:pt x="278" y="33"/>
                </a:lnTo>
                <a:lnTo>
                  <a:pt x="418" y="17"/>
                </a:lnTo>
                <a:lnTo>
                  <a:pt x="558"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479"/>
          <p:cNvSpPr/>
          <p:nvPr/>
        </p:nvSpPr>
        <p:spPr>
          <a:xfrm>
            <a:off x="5627520" y="3697200"/>
            <a:ext cx="281160" cy="495360"/>
          </a:xfrm>
          <a:custGeom>
            <a:avLst/>
            <a:gdLst/>
            <a:ahLst/>
            <a:rect l="l" t="t" r="r" b="b"/>
            <a:pathLst>
              <a:path w="355" h="626">
                <a:moveTo>
                  <a:pt x="52" y="129"/>
                </a:moveTo>
                <a:lnTo>
                  <a:pt x="44" y="121"/>
                </a:lnTo>
                <a:lnTo>
                  <a:pt x="39" y="113"/>
                </a:lnTo>
                <a:lnTo>
                  <a:pt x="33" y="108"/>
                </a:lnTo>
                <a:lnTo>
                  <a:pt x="27" y="100"/>
                </a:lnTo>
                <a:lnTo>
                  <a:pt x="21" y="94"/>
                </a:lnTo>
                <a:lnTo>
                  <a:pt x="17" y="88"/>
                </a:lnTo>
                <a:lnTo>
                  <a:pt x="14" y="81"/>
                </a:lnTo>
                <a:lnTo>
                  <a:pt x="12" y="75"/>
                </a:lnTo>
                <a:lnTo>
                  <a:pt x="6" y="63"/>
                </a:lnTo>
                <a:lnTo>
                  <a:pt x="2" y="50"/>
                </a:lnTo>
                <a:lnTo>
                  <a:pt x="0" y="37"/>
                </a:lnTo>
                <a:lnTo>
                  <a:pt x="0" y="23"/>
                </a:lnTo>
                <a:lnTo>
                  <a:pt x="0" y="17"/>
                </a:lnTo>
                <a:lnTo>
                  <a:pt x="2" y="14"/>
                </a:lnTo>
                <a:lnTo>
                  <a:pt x="6" y="10"/>
                </a:lnTo>
                <a:lnTo>
                  <a:pt x="12" y="8"/>
                </a:lnTo>
                <a:lnTo>
                  <a:pt x="19" y="6"/>
                </a:lnTo>
                <a:lnTo>
                  <a:pt x="27" y="4"/>
                </a:lnTo>
                <a:lnTo>
                  <a:pt x="39" y="2"/>
                </a:lnTo>
                <a:lnTo>
                  <a:pt x="50" y="0"/>
                </a:lnTo>
                <a:lnTo>
                  <a:pt x="64" y="0"/>
                </a:lnTo>
                <a:lnTo>
                  <a:pt x="79" y="0"/>
                </a:lnTo>
                <a:lnTo>
                  <a:pt x="96" y="2"/>
                </a:lnTo>
                <a:lnTo>
                  <a:pt x="115" y="2"/>
                </a:lnTo>
                <a:lnTo>
                  <a:pt x="135" y="4"/>
                </a:lnTo>
                <a:lnTo>
                  <a:pt x="158" y="4"/>
                </a:lnTo>
                <a:lnTo>
                  <a:pt x="183" y="8"/>
                </a:lnTo>
                <a:lnTo>
                  <a:pt x="207" y="10"/>
                </a:lnTo>
                <a:lnTo>
                  <a:pt x="219" y="56"/>
                </a:lnTo>
                <a:lnTo>
                  <a:pt x="225" y="77"/>
                </a:lnTo>
                <a:lnTo>
                  <a:pt x="231" y="100"/>
                </a:lnTo>
                <a:lnTo>
                  <a:pt x="236" y="121"/>
                </a:lnTo>
                <a:lnTo>
                  <a:pt x="240" y="142"/>
                </a:lnTo>
                <a:lnTo>
                  <a:pt x="246" y="161"/>
                </a:lnTo>
                <a:lnTo>
                  <a:pt x="252" y="182"/>
                </a:lnTo>
                <a:lnTo>
                  <a:pt x="255" y="202"/>
                </a:lnTo>
                <a:lnTo>
                  <a:pt x="261" y="221"/>
                </a:lnTo>
                <a:lnTo>
                  <a:pt x="265" y="238"/>
                </a:lnTo>
                <a:lnTo>
                  <a:pt x="271" y="257"/>
                </a:lnTo>
                <a:lnTo>
                  <a:pt x="275" y="275"/>
                </a:lnTo>
                <a:lnTo>
                  <a:pt x="279" y="290"/>
                </a:lnTo>
                <a:lnTo>
                  <a:pt x="282" y="307"/>
                </a:lnTo>
                <a:lnTo>
                  <a:pt x="286" y="323"/>
                </a:lnTo>
                <a:lnTo>
                  <a:pt x="290" y="338"/>
                </a:lnTo>
                <a:lnTo>
                  <a:pt x="294" y="353"/>
                </a:lnTo>
                <a:lnTo>
                  <a:pt x="298" y="367"/>
                </a:lnTo>
                <a:lnTo>
                  <a:pt x="302" y="380"/>
                </a:lnTo>
                <a:lnTo>
                  <a:pt x="305" y="394"/>
                </a:lnTo>
                <a:lnTo>
                  <a:pt x="309" y="405"/>
                </a:lnTo>
                <a:lnTo>
                  <a:pt x="313" y="417"/>
                </a:lnTo>
                <a:lnTo>
                  <a:pt x="315" y="428"/>
                </a:lnTo>
                <a:lnTo>
                  <a:pt x="319" y="440"/>
                </a:lnTo>
                <a:lnTo>
                  <a:pt x="321" y="449"/>
                </a:lnTo>
                <a:lnTo>
                  <a:pt x="325" y="459"/>
                </a:lnTo>
                <a:lnTo>
                  <a:pt x="326" y="468"/>
                </a:lnTo>
                <a:lnTo>
                  <a:pt x="330" y="476"/>
                </a:lnTo>
                <a:lnTo>
                  <a:pt x="332" y="484"/>
                </a:lnTo>
                <a:lnTo>
                  <a:pt x="336" y="491"/>
                </a:lnTo>
                <a:lnTo>
                  <a:pt x="338" y="497"/>
                </a:lnTo>
                <a:lnTo>
                  <a:pt x="340" y="511"/>
                </a:lnTo>
                <a:lnTo>
                  <a:pt x="342" y="520"/>
                </a:lnTo>
                <a:lnTo>
                  <a:pt x="344" y="532"/>
                </a:lnTo>
                <a:lnTo>
                  <a:pt x="348" y="541"/>
                </a:lnTo>
                <a:lnTo>
                  <a:pt x="350" y="551"/>
                </a:lnTo>
                <a:lnTo>
                  <a:pt x="351" y="561"/>
                </a:lnTo>
                <a:lnTo>
                  <a:pt x="351" y="568"/>
                </a:lnTo>
                <a:lnTo>
                  <a:pt x="353" y="576"/>
                </a:lnTo>
                <a:lnTo>
                  <a:pt x="355" y="584"/>
                </a:lnTo>
                <a:lnTo>
                  <a:pt x="355" y="589"/>
                </a:lnTo>
                <a:lnTo>
                  <a:pt x="355" y="595"/>
                </a:lnTo>
                <a:lnTo>
                  <a:pt x="355" y="601"/>
                </a:lnTo>
                <a:lnTo>
                  <a:pt x="355" y="607"/>
                </a:lnTo>
                <a:lnTo>
                  <a:pt x="353" y="610"/>
                </a:lnTo>
                <a:lnTo>
                  <a:pt x="353" y="614"/>
                </a:lnTo>
                <a:lnTo>
                  <a:pt x="351" y="616"/>
                </a:lnTo>
                <a:lnTo>
                  <a:pt x="346" y="620"/>
                </a:lnTo>
                <a:lnTo>
                  <a:pt x="338" y="624"/>
                </a:lnTo>
                <a:lnTo>
                  <a:pt x="332" y="626"/>
                </a:lnTo>
                <a:lnTo>
                  <a:pt x="323" y="624"/>
                </a:lnTo>
                <a:lnTo>
                  <a:pt x="319" y="624"/>
                </a:lnTo>
                <a:lnTo>
                  <a:pt x="315" y="622"/>
                </a:lnTo>
                <a:lnTo>
                  <a:pt x="309" y="620"/>
                </a:lnTo>
                <a:lnTo>
                  <a:pt x="305" y="618"/>
                </a:lnTo>
                <a:lnTo>
                  <a:pt x="300" y="616"/>
                </a:lnTo>
                <a:lnTo>
                  <a:pt x="296" y="612"/>
                </a:lnTo>
                <a:lnTo>
                  <a:pt x="290" y="609"/>
                </a:lnTo>
                <a:lnTo>
                  <a:pt x="286" y="603"/>
                </a:lnTo>
                <a:lnTo>
                  <a:pt x="280" y="601"/>
                </a:lnTo>
                <a:lnTo>
                  <a:pt x="275" y="595"/>
                </a:lnTo>
                <a:lnTo>
                  <a:pt x="269" y="589"/>
                </a:lnTo>
                <a:lnTo>
                  <a:pt x="263" y="582"/>
                </a:lnTo>
                <a:lnTo>
                  <a:pt x="257" y="572"/>
                </a:lnTo>
                <a:lnTo>
                  <a:pt x="252" y="561"/>
                </a:lnTo>
                <a:lnTo>
                  <a:pt x="246" y="547"/>
                </a:lnTo>
                <a:lnTo>
                  <a:pt x="238" y="534"/>
                </a:lnTo>
                <a:lnTo>
                  <a:pt x="232" y="518"/>
                </a:lnTo>
                <a:lnTo>
                  <a:pt x="225" y="501"/>
                </a:lnTo>
                <a:lnTo>
                  <a:pt x="217" y="482"/>
                </a:lnTo>
                <a:lnTo>
                  <a:pt x="211" y="463"/>
                </a:lnTo>
                <a:lnTo>
                  <a:pt x="204" y="440"/>
                </a:lnTo>
                <a:lnTo>
                  <a:pt x="196" y="417"/>
                </a:lnTo>
                <a:lnTo>
                  <a:pt x="188" y="392"/>
                </a:lnTo>
                <a:lnTo>
                  <a:pt x="183" y="367"/>
                </a:lnTo>
                <a:lnTo>
                  <a:pt x="173" y="342"/>
                </a:lnTo>
                <a:lnTo>
                  <a:pt x="163" y="319"/>
                </a:lnTo>
                <a:lnTo>
                  <a:pt x="154" y="298"/>
                </a:lnTo>
                <a:lnTo>
                  <a:pt x="144" y="276"/>
                </a:lnTo>
                <a:lnTo>
                  <a:pt x="136" y="257"/>
                </a:lnTo>
                <a:lnTo>
                  <a:pt x="129" y="240"/>
                </a:lnTo>
                <a:lnTo>
                  <a:pt x="119" y="223"/>
                </a:lnTo>
                <a:lnTo>
                  <a:pt x="112" y="207"/>
                </a:lnTo>
                <a:lnTo>
                  <a:pt x="104" y="194"/>
                </a:lnTo>
                <a:lnTo>
                  <a:pt x="96" y="180"/>
                </a:lnTo>
                <a:lnTo>
                  <a:pt x="88" y="169"/>
                </a:lnTo>
                <a:lnTo>
                  <a:pt x="81" y="157"/>
                </a:lnTo>
                <a:lnTo>
                  <a:pt x="73" y="148"/>
                </a:lnTo>
                <a:lnTo>
                  <a:pt x="65" y="140"/>
                </a:lnTo>
                <a:lnTo>
                  <a:pt x="60" y="134"/>
                </a:lnTo>
                <a:lnTo>
                  <a:pt x="52" y="1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480"/>
          <p:cNvSpPr/>
          <p:nvPr/>
        </p:nvSpPr>
        <p:spPr>
          <a:xfrm>
            <a:off x="5802480" y="3816360"/>
            <a:ext cx="412560" cy="139680"/>
          </a:xfrm>
          <a:custGeom>
            <a:avLst/>
            <a:gdLst/>
            <a:ahLst/>
            <a:rect l="l" t="t" r="r" b="b"/>
            <a:pathLst>
              <a:path w="520" h="174">
                <a:moveTo>
                  <a:pt x="0" y="96"/>
                </a:moveTo>
                <a:lnTo>
                  <a:pt x="27" y="88"/>
                </a:lnTo>
                <a:lnTo>
                  <a:pt x="54" y="82"/>
                </a:lnTo>
                <a:lnTo>
                  <a:pt x="81" y="76"/>
                </a:lnTo>
                <a:lnTo>
                  <a:pt x="105" y="71"/>
                </a:lnTo>
                <a:lnTo>
                  <a:pt x="130" y="65"/>
                </a:lnTo>
                <a:lnTo>
                  <a:pt x="153" y="59"/>
                </a:lnTo>
                <a:lnTo>
                  <a:pt x="177" y="55"/>
                </a:lnTo>
                <a:lnTo>
                  <a:pt x="200" y="50"/>
                </a:lnTo>
                <a:lnTo>
                  <a:pt x="221" y="46"/>
                </a:lnTo>
                <a:lnTo>
                  <a:pt x="242" y="40"/>
                </a:lnTo>
                <a:lnTo>
                  <a:pt x="261" y="36"/>
                </a:lnTo>
                <a:lnTo>
                  <a:pt x="280" y="32"/>
                </a:lnTo>
                <a:lnTo>
                  <a:pt x="299" y="28"/>
                </a:lnTo>
                <a:lnTo>
                  <a:pt x="317" y="25"/>
                </a:lnTo>
                <a:lnTo>
                  <a:pt x="334" y="21"/>
                </a:lnTo>
                <a:lnTo>
                  <a:pt x="349" y="19"/>
                </a:lnTo>
                <a:lnTo>
                  <a:pt x="365" y="15"/>
                </a:lnTo>
                <a:lnTo>
                  <a:pt x="378" y="13"/>
                </a:lnTo>
                <a:lnTo>
                  <a:pt x="391" y="11"/>
                </a:lnTo>
                <a:lnTo>
                  <a:pt x="405" y="7"/>
                </a:lnTo>
                <a:lnTo>
                  <a:pt x="416" y="5"/>
                </a:lnTo>
                <a:lnTo>
                  <a:pt x="428" y="5"/>
                </a:lnTo>
                <a:lnTo>
                  <a:pt x="439" y="4"/>
                </a:lnTo>
                <a:lnTo>
                  <a:pt x="447" y="2"/>
                </a:lnTo>
                <a:lnTo>
                  <a:pt x="457" y="2"/>
                </a:lnTo>
                <a:lnTo>
                  <a:pt x="464" y="0"/>
                </a:lnTo>
                <a:lnTo>
                  <a:pt x="472" y="0"/>
                </a:lnTo>
                <a:lnTo>
                  <a:pt x="478" y="0"/>
                </a:lnTo>
                <a:lnTo>
                  <a:pt x="484" y="0"/>
                </a:lnTo>
                <a:lnTo>
                  <a:pt x="487" y="2"/>
                </a:lnTo>
                <a:lnTo>
                  <a:pt x="491" y="2"/>
                </a:lnTo>
                <a:lnTo>
                  <a:pt x="495" y="4"/>
                </a:lnTo>
                <a:lnTo>
                  <a:pt x="499" y="7"/>
                </a:lnTo>
                <a:lnTo>
                  <a:pt x="503" y="15"/>
                </a:lnTo>
                <a:lnTo>
                  <a:pt x="509" y="21"/>
                </a:lnTo>
                <a:lnTo>
                  <a:pt x="512" y="28"/>
                </a:lnTo>
                <a:lnTo>
                  <a:pt x="516" y="36"/>
                </a:lnTo>
                <a:lnTo>
                  <a:pt x="518" y="44"/>
                </a:lnTo>
                <a:lnTo>
                  <a:pt x="520" y="50"/>
                </a:lnTo>
                <a:lnTo>
                  <a:pt x="520" y="55"/>
                </a:lnTo>
                <a:lnTo>
                  <a:pt x="520" y="57"/>
                </a:lnTo>
                <a:lnTo>
                  <a:pt x="518" y="61"/>
                </a:lnTo>
                <a:lnTo>
                  <a:pt x="518" y="63"/>
                </a:lnTo>
                <a:lnTo>
                  <a:pt x="514" y="67"/>
                </a:lnTo>
                <a:lnTo>
                  <a:pt x="512" y="71"/>
                </a:lnTo>
                <a:lnTo>
                  <a:pt x="509" y="75"/>
                </a:lnTo>
                <a:lnTo>
                  <a:pt x="505" y="78"/>
                </a:lnTo>
                <a:lnTo>
                  <a:pt x="501" y="82"/>
                </a:lnTo>
                <a:lnTo>
                  <a:pt x="495" y="86"/>
                </a:lnTo>
                <a:lnTo>
                  <a:pt x="489" y="90"/>
                </a:lnTo>
                <a:lnTo>
                  <a:pt x="484" y="92"/>
                </a:lnTo>
                <a:lnTo>
                  <a:pt x="476" y="96"/>
                </a:lnTo>
                <a:lnTo>
                  <a:pt x="468" y="100"/>
                </a:lnTo>
                <a:lnTo>
                  <a:pt x="461" y="103"/>
                </a:lnTo>
                <a:lnTo>
                  <a:pt x="451" y="105"/>
                </a:lnTo>
                <a:lnTo>
                  <a:pt x="441" y="109"/>
                </a:lnTo>
                <a:lnTo>
                  <a:pt x="345" y="128"/>
                </a:lnTo>
                <a:lnTo>
                  <a:pt x="248" y="148"/>
                </a:lnTo>
                <a:lnTo>
                  <a:pt x="217" y="151"/>
                </a:lnTo>
                <a:lnTo>
                  <a:pt x="188" y="155"/>
                </a:lnTo>
                <a:lnTo>
                  <a:pt x="159" y="159"/>
                </a:lnTo>
                <a:lnTo>
                  <a:pt x="129" y="161"/>
                </a:lnTo>
                <a:lnTo>
                  <a:pt x="98" y="163"/>
                </a:lnTo>
                <a:lnTo>
                  <a:pt x="65" y="167"/>
                </a:lnTo>
                <a:lnTo>
                  <a:pt x="33" y="169"/>
                </a:lnTo>
                <a:lnTo>
                  <a:pt x="0" y="174"/>
                </a:lnTo>
                <a:lnTo>
                  <a:pt x="0"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base">
                                        <p:cTn id="232" dur="500" fill="hold"/>
                                        <p:tgtEl>
                                          <p:spTgt spid="146"/>
                                        </p:tgtEl>
                                        <p:attrNameLst>
                                          <p:attrName>ppt_x</p:attrName>
                                        </p:attrNameLst>
                                      </p:cBhvr>
                                      <p:tavLst>
                                        <p:tav tm="0">
                                          <p:val>
                                            <p:strVal val="0-#ppt_w/2"/>
                                          </p:val>
                                        </p:tav>
                                        <p:tav tm="100000">
                                          <p:val>
                                            <p:strVal val="#ppt_x"/>
                                          </p:val>
                                        </p:tav>
                                      </p:tavLst>
                                    </p:anim>
                                    <p:anim calcmode="lin" valueType="num">
                                      <p:cBhvr additive="base">
                                        <p:cTn id="23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55"/>
                                        </p:tgtEl>
                                        <p:attrNameLst>
                                          <p:attrName>style.visibility</p:attrName>
                                        </p:attrNameLst>
                                      </p:cBhvr>
                                      <p:to>
                                        <p:strVal val="visible"/>
                                      </p:to>
                                    </p:set>
                                    <p:animEffect filter="wipe(left)" transition="in">
                                      <p:cBhvr additive="repl">
                                        <p:cTn id="238" dur="500"/>
                                        <p:tgtEl>
                                          <p:spTgt spid="155"/>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56"/>
                                        </p:tgtEl>
                                        <p:attrNameLst>
                                          <p:attrName>style.visibility</p:attrName>
                                        </p:attrNameLst>
                                      </p:cBhvr>
                                      <p:to>
                                        <p:strVal val="visible"/>
                                      </p:to>
                                    </p:set>
                                    <p:animEffect filter="wipe(left)" transition="in">
                                      <p:cBhvr additive="repl">
                                        <p:cTn id="243" dur="500"/>
                                        <p:tgtEl>
                                          <p:spTgt spid="15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61"/>
                                        </p:tgtEl>
                                        <p:attrNameLst>
                                          <p:attrName>style.visibility</p:attrName>
                                        </p:attrNameLst>
                                      </p:cBhvr>
                                      <p:to>
                                        <p:strVal val="visible"/>
                                      </p:to>
                                    </p:set>
                                    <p:animEffect filter="wipe(left)" transition="in">
                                      <p:cBhvr additive="repl">
                                        <p:cTn id="248" dur="500"/>
                                        <p:tgtEl>
                                          <p:spTgt spid="16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8" presetSubtype="6">
                                  <p:stCondLst>
                                    <p:cond delay="0"/>
                                  </p:stCondLst>
                                  <p:childTnLst>
                                    <p:set>
                                      <p:cBhvr>
                                        <p:cTn id="252" dur="1" fill="hold">
                                          <p:stCondLst>
                                            <p:cond delay="0"/>
                                          </p:stCondLst>
                                        </p:cTn>
                                        <p:tgtEl>
                                          <p:spTgt spid="157"/>
                                        </p:tgtEl>
                                        <p:attrNameLst>
                                          <p:attrName>style.visibility</p:attrName>
                                        </p:attrNameLst>
                                      </p:cBhvr>
                                      <p:to>
                                        <p:strVal val="visible"/>
                                      </p:to>
                                    </p:set>
                                    <p:animEffect filter="strips(downRight)" transition="in">
                                      <p:cBhvr additive="repl">
                                        <p:cTn id="253" dur="500"/>
                                        <p:tgtEl>
                                          <p:spTgt spid="15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8"/>
                                        </p:tgtEl>
                                        <p:attrNameLst>
                                          <p:attrName>style.visibility</p:attrName>
                                        </p:attrNameLst>
                                      </p:cBhvr>
                                      <p:to>
                                        <p:strVal val="visible"/>
                                      </p:to>
                                    </p:set>
                                    <p:animEffect filter="wipe(left)" transition="in">
                                      <p:cBhvr additive="repl">
                                        <p:cTn id="258" dur="500"/>
                                        <p:tgtEl>
                                          <p:spTgt spid="158"/>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6">
                                  <p:stCondLst>
                                    <p:cond delay="0"/>
                                  </p:stCondLst>
                                  <p:childTnLst>
                                    <p:set>
                                      <p:cBhvr>
                                        <p:cTn id="262" dur="1" fill="hold">
                                          <p:stCondLst>
                                            <p:cond delay="0"/>
                                          </p:stCondLst>
                                        </p:cTn>
                                        <p:tgtEl>
                                          <p:spTgt spid="159"/>
                                        </p:tgtEl>
                                        <p:attrNameLst>
                                          <p:attrName>style.visibility</p:attrName>
                                        </p:attrNameLst>
                                      </p:cBhvr>
                                      <p:to>
                                        <p:strVal val="visible"/>
                                      </p:to>
                                    </p:set>
                                    <p:animEffect filter="strips(downRight)" transition="in">
                                      <p:cBhvr additive="repl">
                                        <p:cTn id="263" dur="500"/>
                                        <p:tgtEl>
                                          <p:spTgt spid="159"/>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60"/>
                                        </p:tgtEl>
                                        <p:attrNameLst>
                                          <p:attrName>style.visibility</p:attrName>
                                        </p:attrNameLst>
                                      </p:cBhvr>
                                      <p:to>
                                        <p:strVal val="visible"/>
                                      </p:to>
                                    </p:set>
                                    <p:animEffect filter="wipe(left)" transition="in">
                                      <p:cBhvr additive="repl">
                                        <p:cTn id="268" dur="500"/>
                                        <p:tgtEl>
                                          <p:spTgt spid="16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65"/>
                                        </p:tgtEl>
                                        <p:attrNameLst>
                                          <p:attrName>style.visibility</p:attrName>
                                        </p:attrNameLst>
                                      </p:cBhvr>
                                      <p:to>
                                        <p:strVal val="visible"/>
                                      </p:to>
                                    </p:set>
                                    <p:animEffect filter="wipe(left)" transition="in">
                                      <p:cBhvr additive="repl">
                                        <p:cTn id="278" dur="500"/>
                                        <p:tgtEl>
                                          <p:spTgt spid="165"/>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8" presetSubtype="6">
                                  <p:stCondLst>
                                    <p:cond delay="0"/>
                                  </p:stCondLst>
                                  <p:childTnLst>
                                    <p:set>
                                      <p:cBhvr>
                                        <p:cTn id="282" dur="1" fill="hold">
                                          <p:stCondLst>
                                            <p:cond delay="0"/>
                                          </p:stCondLst>
                                        </p:cTn>
                                        <p:tgtEl>
                                          <p:spTgt spid="163"/>
                                        </p:tgtEl>
                                        <p:attrNameLst>
                                          <p:attrName>style.visibility</p:attrName>
                                        </p:attrNameLst>
                                      </p:cBhvr>
                                      <p:to>
                                        <p:strVal val="visible"/>
                                      </p:to>
                                    </p:set>
                                    <p:animEffect filter="strips(downRight)" transition="in">
                                      <p:cBhvr additive="repl">
                                        <p:cTn id="283" dur="500"/>
                                        <p:tgtEl>
                                          <p:spTgt spid="163"/>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66"/>
                                        </p:tgtEl>
                                        <p:attrNameLst>
                                          <p:attrName>style.visibility</p:attrName>
                                        </p:attrNameLst>
                                      </p:cBhvr>
                                      <p:to>
                                        <p:strVal val="visible"/>
                                      </p:to>
                                    </p:set>
                                    <p:animEffect filter="wipe(left)" transition="in">
                                      <p:cBhvr additive="repl">
                                        <p:cTn id="288" dur="500"/>
                                        <p:tgtEl>
                                          <p:spTgt spid="166"/>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64"/>
                                        </p:tgtEl>
                                        <p:attrNameLst>
                                          <p:attrName>style.visibility</p:attrName>
                                        </p:attrNameLst>
                                      </p:cBhvr>
                                      <p:to>
                                        <p:strVal val="visible"/>
                                      </p:to>
                                    </p:set>
                                    <p:animEffect filter="wipe(left)" transition="in">
                                      <p:cBhvr additive="repl">
                                        <p:cTn id="293" dur="500"/>
                                        <p:tgtEl>
                                          <p:spTgt spid="16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4"/>
                                        </p:tgtEl>
                                        <p:attrNameLst>
                                          <p:attrName>style.visibility</p:attrName>
                                        </p:attrNameLst>
                                      </p:cBhvr>
                                      <p:to>
                                        <p:strVal val="visible"/>
                                      </p:to>
                                    </p:set>
                                    <p:animEffect filter="wipe(left)" transition="in">
                                      <p:cBhvr additive="repl">
                                        <p:cTn id="298" dur="500"/>
                                        <p:tgtEl>
                                          <p:spTgt spid="154"/>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3"/>
                                        </p:tgtEl>
                                        <p:attrNameLst>
                                          <p:attrName>style.visibility</p:attrName>
                                        </p:attrNameLst>
                                      </p:cBhvr>
                                      <p:to>
                                        <p:strVal val="visible"/>
                                      </p:to>
                                    </p:set>
                                    <p:animEffect filter="wipe(left)" transition="in">
                                      <p:cBhvr additive="repl">
                                        <p:cTn id="303" dur="500"/>
                                        <p:tgtEl>
                                          <p:spTgt spid="153"/>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52"/>
                                        </p:tgtEl>
                                        <p:attrNameLst>
                                          <p:attrName>style.visibility</p:attrName>
                                        </p:attrNameLst>
                                      </p:cBhvr>
                                      <p:to>
                                        <p:strVal val="visible"/>
                                      </p:to>
                                    </p:set>
                                    <p:animEffect filter="wipe(up)" transition="in">
                                      <p:cBhvr additive="repl">
                                        <p:cTn id="308" dur="500"/>
                                        <p:tgtEl>
                                          <p:spTgt spid="15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51"/>
                                        </p:tgtEl>
                                        <p:attrNameLst>
                                          <p:attrName>style.visibility</p:attrName>
                                        </p:attrNameLst>
                                      </p:cBhvr>
                                      <p:to>
                                        <p:strVal val="visible"/>
                                      </p:to>
                                    </p:set>
                                    <p:animEffect filter="wipe(up)" transition="in">
                                      <p:cBhvr additive="repl">
                                        <p:cTn id="313" dur="500"/>
                                        <p:tgtEl>
                                          <p:spTgt spid="15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6">
                                  <p:stCondLst>
                                    <p:cond delay="0"/>
                                  </p:stCondLst>
                                  <p:childTnLst>
                                    <p:set>
                                      <p:cBhvr>
                                        <p:cTn id="317" dur="1" fill="hold">
                                          <p:stCondLst>
                                            <p:cond delay="0"/>
                                          </p:stCondLst>
                                        </p:cTn>
                                        <p:tgtEl>
                                          <p:spTgt spid="150"/>
                                        </p:tgtEl>
                                        <p:attrNameLst>
                                          <p:attrName>style.visibility</p:attrName>
                                        </p:attrNameLst>
                                      </p:cBhvr>
                                      <p:to>
                                        <p:strVal val="visible"/>
                                      </p:to>
                                    </p:set>
                                    <p:animEffect filter="strips(downRight)" transition="in">
                                      <p:cBhvr additive="repl">
                                        <p:cTn id="318" dur="500"/>
                                        <p:tgtEl>
                                          <p:spTgt spid="150"/>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49"/>
                                        </p:tgtEl>
                                        <p:attrNameLst>
                                          <p:attrName>style.visibility</p:attrName>
                                        </p:attrNameLst>
                                      </p:cBhvr>
                                      <p:to>
                                        <p:strVal val="visible"/>
                                      </p:to>
                                    </p:set>
                                    <p:animEffect filter="wipe(up)" transition="in">
                                      <p:cBhvr additive="repl">
                                        <p:cTn id="323" dur="500"/>
                                        <p:tgtEl>
                                          <p:spTgt spid="149"/>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8"/>
                                        </p:tgtEl>
                                        <p:attrNameLst>
                                          <p:attrName>style.visibility</p:attrName>
                                        </p:attrNameLst>
                                      </p:cBhvr>
                                      <p:to>
                                        <p:strVal val="visible"/>
                                      </p:to>
                                    </p:set>
                                    <p:animEffect filter="wipe(left)" transition="in">
                                      <p:cBhvr additive="repl">
                                        <p:cTn id="328" dur="500"/>
                                        <p:tgtEl>
                                          <p:spTgt spid="148"/>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3" presetSubtype="16">
                                  <p:stCondLst>
                                    <p:cond delay="0"/>
                                  </p:stCondLst>
                                  <p:childTnLst>
                                    <p:set>
                                      <p:cBhvr>
                                        <p:cTn id="332" dur="1" fill="hold">
                                          <p:stCondLst>
                                            <p:cond delay="0"/>
                                          </p:stCondLst>
                                        </p:cTn>
                                        <p:tgtEl>
                                          <p:spTgt spid="143"/>
                                        </p:tgtEl>
                                        <p:attrNameLst>
                                          <p:attrName>style.visibility</p:attrName>
                                        </p:attrNameLst>
                                      </p:cBhvr>
                                      <p:to>
                                        <p:strVal val="visible"/>
                                      </p:to>
                                    </p:set>
                                    <p:anim calcmode="lin" valueType="num">
                                      <p:cBhvr additive="repl">
                                        <p:cTn id="333" dur="500" fill="hold"/>
                                        <p:tgtEl>
                                          <p:spTgt spid="143"/>
                                        </p:tgtEl>
                                        <p:attrNameLst>
                                          <p:attrName>ppt_w</p:attrName>
                                        </p:attrNameLst>
                                      </p:cBhvr>
                                      <p:tavLst>
                                        <p:tav tm="0">
                                          <p:val>
                                            <p:fltVal val="0"/>
                                          </p:val>
                                        </p:tav>
                                        <p:tav tm="100000">
                                          <p:val>
                                            <p:strVal val="#ppt_w"/>
                                          </p:val>
                                        </p:tav>
                                      </p:tavLst>
                                    </p:anim>
                                    <p:anim calcmode="lin" valueType="num">
                                      <p:cBhvr additive="repl">
                                        <p:cTn id="334" dur="500" fill="hold"/>
                                        <p:tgtEl>
                                          <p:spTgt spid="143"/>
                                        </p:tgtEl>
                                        <p:attrNameLst>
                                          <p:attrName>ppt_h</p:attrName>
                                        </p:attrNameLst>
                                      </p:cBhvr>
                                      <p:tavLst>
                                        <p:tav tm="0">
                                          <p:val>
                                            <p:fltVal val="0"/>
                                          </p:val>
                                        </p:tav>
                                        <p:tav tm="100000">
                                          <p:val>
                                            <p:strVal val="#ppt_h"/>
                                          </p:val>
                                        </p:tav>
                                      </p:tavLst>
                                    </p:anim>
                                    <p:animEffect filter="fade" transition="in">
                                      <p:cBhvr additive="repl">
                                        <p:cTn id="3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4"/>
          <p:cNvSpPr/>
          <p:nvPr/>
        </p:nvSpPr>
        <p:spPr>
          <a:xfrm>
            <a:off x="2218680" y="21686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翱</a:t>
            </a:r>
            <a:endParaRPr b="0" lang="en-US" sz="8000" spc="-1" strike="noStrike">
              <a:solidFill>
                <a:srgbClr val="000000"/>
              </a:solidFill>
              <a:latin typeface="Calibri"/>
            </a:endParaRPr>
          </a:p>
        </p:txBody>
      </p:sp>
      <p:grpSp>
        <p:nvGrpSpPr>
          <p:cNvPr id="168" name="组合 8"/>
          <p:cNvGrpSpPr/>
          <p:nvPr/>
        </p:nvGrpSpPr>
        <p:grpSpPr>
          <a:xfrm>
            <a:off x="1400040" y="3595680"/>
            <a:ext cx="2840040" cy="1573560"/>
            <a:chOff x="1400040" y="3595680"/>
            <a:chExt cx="2840040" cy="1573560"/>
          </a:xfrm>
        </p:grpSpPr>
        <p:pic>
          <p:nvPicPr>
            <p:cNvPr id="169" name="图示 4" descr=""/>
            <p:cNvPicPr/>
            <p:nvPr/>
          </p:nvPicPr>
          <p:blipFill>
            <a:blip r:embed="rId1"/>
            <a:stretch/>
          </p:blipFill>
          <p:spPr>
            <a:xfrm>
              <a:off x="1400040" y="3595680"/>
              <a:ext cx="2840040" cy="1573560"/>
            </a:xfrm>
            <a:prstGeom prst="rect">
              <a:avLst/>
            </a:prstGeom>
            <a:ln w="0">
              <a:noFill/>
            </a:ln>
          </p:spPr>
        </p:pic>
        <p:sp>
          <p:nvSpPr>
            <p:cNvPr id="170" name="矩形 2"/>
            <p:cNvSpPr/>
            <p:nvPr/>
          </p:nvSpPr>
          <p:spPr>
            <a:xfrm>
              <a:off x="1444680" y="420768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皋”长于“羽”。</a:t>
              </a:r>
              <a:endParaRPr b="0" lang="en-US" sz="2000" spc="-1" strike="noStrike">
                <a:solidFill>
                  <a:srgbClr val="000000"/>
                </a:solidFill>
                <a:latin typeface="Calibri"/>
              </a:endParaRPr>
            </a:p>
          </p:txBody>
        </p:sp>
      </p:grpSp>
      <p:sp>
        <p:nvSpPr>
          <p:cNvPr id="171" name="矩形 3"/>
          <p:cNvSpPr/>
          <p:nvPr/>
        </p:nvSpPr>
        <p:spPr>
          <a:xfrm>
            <a:off x="1803240" y="1488960"/>
            <a:ext cx="1665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 </a:t>
            </a:r>
            <a:r>
              <a:rPr b="1" lang="en-US" sz="4800" spc="-1" strike="noStrike">
                <a:solidFill>
                  <a:srgbClr val="ff0000"/>
                </a:solidFill>
                <a:latin typeface="方正姚体"/>
                <a:ea typeface="方正姚体"/>
              </a:rPr>
              <a:t>áo </a:t>
            </a:r>
            <a:endParaRPr b="0" lang="en-US" sz="4800" spc="-1" strike="noStrike">
              <a:solidFill>
                <a:srgbClr val="000000"/>
              </a:solidFill>
              <a:latin typeface="Calibri"/>
            </a:endParaRPr>
          </a:p>
        </p:txBody>
      </p:sp>
      <p:graphicFrame>
        <p:nvGraphicFramePr>
          <p:cNvPr id="172" name=""/>
          <p:cNvGraphicFramePr/>
          <p:nvPr/>
        </p:nvGraphicFramePr>
        <p:xfrm>
          <a:off x="5114880" y="2003400"/>
          <a:ext cx="3041640" cy="3040200"/>
        </p:xfrm>
        <a:graphic>
          <a:graphicData uri="http://schemas.openxmlformats.org/drawingml/2006/table">
            <a:tbl>
              <a:tblPr/>
              <a:tblGrid>
                <a:gridCol w="1522440"/>
                <a:gridCol w="1519200"/>
              </a:tblGrid>
              <a:tr h="1513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Freeform 181"/>
          <p:cNvSpPr/>
          <p:nvPr/>
        </p:nvSpPr>
        <p:spPr>
          <a:xfrm>
            <a:off x="7240680" y="2892600"/>
            <a:ext cx="523800" cy="1695240"/>
          </a:xfrm>
          <a:custGeom>
            <a:avLst/>
            <a:gdLst/>
            <a:ahLst/>
            <a:rect l="l" t="t" r="r" b="b"/>
            <a:pathLst>
              <a:path w="660" h="2134">
                <a:moveTo>
                  <a:pt x="489" y="2038"/>
                </a:moveTo>
                <a:lnTo>
                  <a:pt x="483" y="2048"/>
                </a:lnTo>
                <a:lnTo>
                  <a:pt x="476" y="2059"/>
                </a:lnTo>
                <a:lnTo>
                  <a:pt x="470" y="2069"/>
                </a:lnTo>
                <a:lnTo>
                  <a:pt x="462" y="2078"/>
                </a:lnTo>
                <a:lnTo>
                  <a:pt x="457" y="2086"/>
                </a:lnTo>
                <a:lnTo>
                  <a:pt x="449" y="2094"/>
                </a:lnTo>
                <a:lnTo>
                  <a:pt x="443" y="2101"/>
                </a:lnTo>
                <a:lnTo>
                  <a:pt x="437" y="2107"/>
                </a:lnTo>
                <a:lnTo>
                  <a:pt x="432" y="2113"/>
                </a:lnTo>
                <a:lnTo>
                  <a:pt x="428" y="2119"/>
                </a:lnTo>
                <a:lnTo>
                  <a:pt x="422" y="2123"/>
                </a:lnTo>
                <a:lnTo>
                  <a:pt x="418" y="2126"/>
                </a:lnTo>
                <a:lnTo>
                  <a:pt x="414" y="2130"/>
                </a:lnTo>
                <a:lnTo>
                  <a:pt x="410" y="2132"/>
                </a:lnTo>
                <a:lnTo>
                  <a:pt x="407" y="2132"/>
                </a:lnTo>
                <a:lnTo>
                  <a:pt x="405" y="2134"/>
                </a:lnTo>
                <a:lnTo>
                  <a:pt x="399" y="2132"/>
                </a:lnTo>
                <a:lnTo>
                  <a:pt x="395" y="2132"/>
                </a:lnTo>
                <a:lnTo>
                  <a:pt x="391" y="2130"/>
                </a:lnTo>
                <a:lnTo>
                  <a:pt x="385" y="2126"/>
                </a:lnTo>
                <a:lnTo>
                  <a:pt x="382" y="2123"/>
                </a:lnTo>
                <a:lnTo>
                  <a:pt x="378" y="2119"/>
                </a:lnTo>
                <a:lnTo>
                  <a:pt x="374" y="2113"/>
                </a:lnTo>
                <a:lnTo>
                  <a:pt x="368" y="2107"/>
                </a:lnTo>
                <a:lnTo>
                  <a:pt x="364" y="2101"/>
                </a:lnTo>
                <a:lnTo>
                  <a:pt x="361" y="2094"/>
                </a:lnTo>
                <a:lnTo>
                  <a:pt x="359" y="2086"/>
                </a:lnTo>
                <a:lnTo>
                  <a:pt x="355" y="2078"/>
                </a:lnTo>
                <a:lnTo>
                  <a:pt x="351" y="2069"/>
                </a:lnTo>
                <a:lnTo>
                  <a:pt x="349" y="2059"/>
                </a:lnTo>
                <a:lnTo>
                  <a:pt x="345" y="2048"/>
                </a:lnTo>
                <a:lnTo>
                  <a:pt x="343" y="2038"/>
                </a:lnTo>
                <a:lnTo>
                  <a:pt x="338" y="2027"/>
                </a:lnTo>
                <a:lnTo>
                  <a:pt x="334" y="2015"/>
                </a:lnTo>
                <a:lnTo>
                  <a:pt x="326" y="2004"/>
                </a:lnTo>
                <a:lnTo>
                  <a:pt x="318" y="1990"/>
                </a:lnTo>
                <a:lnTo>
                  <a:pt x="311" y="1979"/>
                </a:lnTo>
                <a:lnTo>
                  <a:pt x="301" y="1967"/>
                </a:lnTo>
                <a:lnTo>
                  <a:pt x="291" y="1954"/>
                </a:lnTo>
                <a:lnTo>
                  <a:pt x="282" y="1942"/>
                </a:lnTo>
                <a:lnTo>
                  <a:pt x="270" y="1929"/>
                </a:lnTo>
                <a:lnTo>
                  <a:pt x="259" y="1917"/>
                </a:lnTo>
                <a:lnTo>
                  <a:pt x="245" y="1906"/>
                </a:lnTo>
                <a:lnTo>
                  <a:pt x="232" y="1892"/>
                </a:lnTo>
                <a:lnTo>
                  <a:pt x="219" y="1881"/>
                </a:lnTo>
                <a:lnTo>
                  <a:pt x="203" y="1869"/>
                </a:lnTo>
                <a:lnTo>
                  <a:pt x="190" y="1858"/>
                </a:lnTo>
                <a:lnTo>
                  <a:pt x="174" y="1846"/>
                </a:lnTo>
                <a:lnTo>
                  <a:pt x="155" y="1835"/>
                </a:lnTo>
                <a:lnTo>
                  <a:pt x="140" y="1823"/>
                </a:lnTo>
                <a:lnTo>
                  <a:pt x="124" y="1814"/>
                </a:lnTo>
                <a:lnTo>
                  <a:pt x="111" y="1804"/>
                </a:lnTo>
                <a:lnTo>
                  <a:pt x="98" y="1796"/>
                </a:lnTo>
                <a:lnTo>
                  <a:pt x="86" y="1789"/>
                </a:lnTo>
                <a:lnTo>
                  <a:pt x="75" y="1781"/>
                </a:lnTo>
                <a:lnTo>
                  <a:pt x="67" y="1773"/>
                </a:lnTo>
                <a:lnTo>
                  <a:pt x="57" y="1767"/>
                </a:lnTo>
                <a:lnTo>
                  <a:pt x="52" y="1762"/>
                </a:lnTo>
                <a:lnTo>
                  <a:pt x="46" y="1756"/>
                </a:lnTo>
                <a:lnTo>
                  <a:pt x="42" y="1750"/>
                </a:lnTo>
                <a:lnTo>
                  <a:pt x="40" y="1746"/>
                </a:lnTo>
                <a:lnTo>
                  <a:pt x="38" y="1743"/>
                </a:lnTo>
                <a:lnTo>
                  <a:pt x="38" y="1741"/>
                </a:lnTo>
                <a:lnTo>
                  <a:pt x="40" y="1739"/>
                </a:lnTo>
                <a:lnTo>
                  <a:pt x="40" y="1735"/>
                </a:lnTo>
                <a:lnTo>
                  <a:pt x="42" y="1733"/>
                </a:lnTo>
                <a:lnTo>
                  <a:pt x="44" y="1733"/>
                </a:lnTo>
                <a:lnTo>
                  <a:pt x="48" y="1731"/>
                </a:lnTo>
                <a:lnTo>
                  <a:pt x="52" y="1731"/>
                </a:lnTo>
                <a:lnTo>
                  <a:pt x="55" y="1729"/>
                </a:lnTo>
                <a:lnTo>
                  <a:pt x="61" y="1729"/>
                </a:lnTo>
                <a:lnTo>
                  <a:pt x="69" y="1731"/>
                </a:lnTo>
                <a:lnTo>
                  <a:pt x="76" y="1731"/>
                </a:lnTo>
                <a:lnTo>
                  <a:pt x="86" y="1733"/>
                </a:lnTo>
                <a:lnTo>
                  <a:pt x="96" y="1733"/>
                </a:lnTo>
                <a:lnTo>
                  <a:pt x="107" y="1737"/>
                </a:lnTo>
                <a:lnTo>
                  <a:pt x="119" y="1739"/>
                </a:lnTo>
                <a:lnTo>
                  <a:pt x="132" y="1743"/>
                </a:lnTo>
                <a:lnTo>
                  <a:pt x="146" y="1746"/>
                </a:lnTo>
                <a:lnTo>
                  <a:pt x="161" y="1750"/>
                </a:lnTo>
                <a:lnTo>
                  <a:pt x="176" y="1754"/>
                </a:lnTo>
                <a:lnTo>
                  <a:pt x="192" y="1758"/>
                </a:lnTo>
                <a:lnTo>
                  <a:pt x="207" y="1762"/>
                </a:lnTo>
                <a:lnTo>
                  <a:pt x="220" y="1764"/>
                </a:lnTo>
                <a:lnTo>
                  <a:pt x="234" y="1766"/>
                </a:lnTo>
                <a:lnTo>
                  <a:pt x="247" y="1767"/>
                </a:lnTo>
                <a:lnTo>
                  <a:pt x="259" y="1769"/>
                </a:lnTo>
                <a:lnTo>
                  <a:pt x="270" y="1769"/>
                </a:lnTo>
                <a:lnTo>
                  <a:pt x="282" y="1769"/>
                </a:lnTo>
                <a:lnTo>
                  <a:pt x="291" y="1769"/>
                </a:lnTo>
                <a:lnTo>
                  <a:pt x="303" y="1769"/>
                </a:lnTo>
                <a:lnTo>
                  <a:pt x="311" y="1767"/>
                </a:lnTo>
                <a:lnTo>
                  <a:pt x="320" y="1767"/>
                </a:lnTo>
                <a:lnTo>
                  <a:pt x="328" y="1766"/>
                </a:lnTo>
                <a:lnTo>
                  <a:pt x="336" y="1764"/>
                </a:lnTo>
                <a:lnTo>
                  <a:pt x="343" y="1762"/>
                </a:lnTo>
                <a:lnTo>
                  <a:pt x="351" y="1760"/>
                </a:lnTo>
                <a:lnTo>
                  <a:pt x="357" y="1756"/>
                </a:lnTo>
                <a:lnTo>
                  <a:pt x="362" y="1752"/>
                </a:lnTo>
                <a:lnTo>
                  <a:pt x="368" y="1746"/>
                </a:lnTo>
                <a:lnTo>
                  <a:pt x="374" y="1741"/>
                </a:lnTo>
                <a:lnTo>
                  <a:pt x="380" y="1733"/>
                </a:lnTo>
                <a:lnTo>
                  <a:pt x="384" y="1725"/>
                </a:lnTo>
                <a:lnTo>
                  <a:pt x="389" y="1718"/>
                </a:lnTo>
                <a:lnTo>
                  <a:pt x="393" y="1708"/>
                </a:lnTo>
                <a:lnTo>
                  <a:pt x="397" y="1696"/>
                </a:lnTo>
                <a:lnTo>
                  <a:pt x="401" y="1687"/>
                </a:lnTo>
                <a:lnTo>
                  <a:pt x="405" y="1673"/>
                </a:lnTo>
                <a:lnTo>
                  <a:pt x="409" y="1662"/>
                </a:lnTo>
                <a:lnTo>
                  <a:pt x="410" y="1648"/>
                </a:lnTo>
                <a:lnTo>
                  <a:pt x="414" y="1633"/>
                </a:lnTo>
                <a:lnTo>
                  <a:pt x="416" y="1618"/>
                </a:lnTo>
                <a:lnTo>
                  <a:pt x="418" y="1610"/>
                </a:lnTo>
                <a:lnTo>
                  <a:pt x="418" y="1600"/>
                </a:lnTo>
                <a:lnTo>
                  <a:pt x="420" y="1591"/>
                </a:lnTo>
                <a:lnTo>
                  <a:pt x="420" y="1579"/>
                </a:lnTo>
                <a:lnTo>
                  <a:pt x="422" y="1568"/>
                </a:lnTo>
                <a:lnTo>
                  <a:pt x="422" y="1554"/>
                </a:lnTo>
                <a:lnTo>
                  <a:pt x="422" y="1543"/>
                </a:lnTo>
                <a:lnTo>
                  <a:pt x="424" y="1528"/>
                </a:lnTo>
                <a:lnTo>
                  <a:pt x="424" y="1512"/>
                </a:lnTo>
                <a:lnTo>
                  <a:pt x="424" y="1497"/>
                </a:lnTo>
                <a:lnTo>
                  <a:pt x="426" y="1480"/>
                </a:lnTo>
                <a:lnTo>
                  <a:pt x="426" y="1462"/>
                </a:lnTo>
                <a:lnTo>
                  <a:pt x="426" y="1443"/>
                </a:lnTo>
                <a:lnTo>
                  <a:pt x="426" y="1424"/>
                </a:lnTo>
                <a:lnTo>
                  <a:pt x="426" y="1405"/>
                </a:lnTo>
                <a:lnTo>
                  <a:pt x="426" y="1382"/>
                </a:lnTo>
                <a:lnTo>
                  <a:pt x="428" y="1361"/>
                </a:lnTo>
                <a:lnTo>
                  <a:pt x="428" y="1338"/>
                </a:lnTo>
                <a:lnTo>
                  <a:pt x="428" y="1314"/>
                </a:lnTo>
                <a:lnTo>
                  <a:pt x="428" y="1290"/>
                </a:lnTo>
                <a:lnTo>
                  <a:pt x="428" y="1263"/>
                </a:lnTo>
                <a:lnTo>
                  <a:pt x="428" y="1238"/>
                </a:lnTo>
                <a:lnTo>
                  <a:pt x="428" y="1209"/>
                </a:lnTo>
                <a:lnTo>
                  <a:pt x="428" y="1182"/>
                </a:lnTo>
                <a:lnTo>
                  <a:pt x="428" y="1151"/>
                </a:lnTo>
                <a:lnTo>
                  <a:pt x="428" y="1123"/>
                </a:lnTo>
                <a:lnTo>
                  <a:pt x="428" y="1092"/>
                </a:lnTo>
                <a:lnTo>
                  <a:pt x="428" y="1059"/>
                </a:lnTo>
                <a:lnTo>
                  <a:pt x="428" y="1027"/>
                </a:lnTo>
                <a:lnTo>
                  <a:pt x="428" y="992"/>
                </a:lnTo>
                <a:lnTo>
                  <a:pt x="428" y="957"/>
                </a:lnTo>
                <a:lnTo>
                  <a:pt x="428" y="923"/>
                </a:lnTo>
                <a:lnTo>
                  <a:pt x="428" y="888"/>
                </a:lnTo>
                <a:lnTo>
                  <a:pt x="428" y="854"/>
                </a:lnTo>
                <a:lnTo>
                  <a:pt x="428" y="821"/>
                </a:lnTo>
                <a:lnTo>
                  <a:pt x="428" y="790"/>
                </a:lnTo>
                <a:lnTo>
                  <a:pt x="428" y="760"/>
                </a:lnTo>
                <a:lnTo>
                  <a:pt x="428" y="729"/>
                </a:lnTo>
                <a:lnTo>
                  <a:pt x="428" y="700"/>
                </a:lnTo>
                <a:lnTo>
                  <a:pt x="428" y="673"/>
                </a:lnTo>
                <a:lnTo>
                  <a:pt x="428" y="646"/>
                </a:lnTo>
                <a:lnTo>
                  <a:pt x="428" y="620"/>
                </a:lnTo>
                <a:lnTo>
                  <a:pt x="428" y="595"/>
                </a:lnTo>
                <a:lnTo>
                  <a:pt x="428" y="570"/>
                </a:lnTo>
                <a:lnTo>
                  <a:pt x="428" y="547"/>
                </a:lnTo>
                <a:lnTo>
                  <a:pt x="428" y="524"/>
                </a:lnTo>
                <a:lnTo>
                  <a:pt x="428" y="503"/>
                </a:lnTo>
                <a:lnTo>
                  <a:pt x="426" y="481"/>
                </a:lnTo>
                <a:lnTo>
                  <a:pt x="426" y="462"/>
                </a:lnTo>
                <a:lnTo>
                  <a:pt x="426" y="443"/>
                </a:lnTo>
                <a:lnTo>
                  <a:pt x="426" y="426"/>
                </a:lnTo>
                <a:lnTo>
                  <a:pt x="426" y="408"/>
                </a:lnTo>
                <a:lnTo>
                  <a:pt x="426" y="393"/>
                </a:lnTo>
                <a:lnTo>
                  <a:pt x="424" y="378"/>
                </a:lnTo>
                <a:lnTo>
                  <a:pt x="424" y="362"/>
                </a:lnTo>
                <a:lnTo>
                  <a:pt x="424" y="349"/>
                </a:lnTo>
                <a:lnTo>
                  <a:pt x="422" y="337"/>
                </a:lnTo>
                <a:lnTo>
                  <a:pt x="422" y="326"/>
                </a:lnTo>
                <a:lnTo>
                  <a:pt x="422" y="314"/>
                </a:lnTo>
                <a:lnTo>
                  <a:pt x="420" y="305"/>
                </a:lnTo>
                <a:lnTo>
                  <a:pt x="420" y="295"/>
                </a:lnTo>
                <a:lnTo>
                  <a:pt x="418" y="288"/>
                </a:lnTo>
                <a:lnTo>
                  <a:pt x="418" y="282"/>
                </a:lnTo>
                <a:lnTo>
                  <a:pt x="416" y="276"/>
                </a:lnTo>
                <a:lnTo>
                  <a:pt x="412" y="257"/>
                </a:lnTo>
                <a:lnTo>
                  <a:pt x="409" y="241"/>
                </a:lnTo>
                <a:lnTo>
                  <a:pt x="407" y="226"/>
                </a:lnTo>
                <a:lnTo>
                  <a:pt x="405" y="215"/>
                </a:lnTo>
                <a:lnTo>
                  <a:pt x="401" y="203"/>
                </a:lnTo>
                <a:lnTo>
                  <a:pt x="399" y="194"/>
                </a:lnTo>
                <a:lnTo>
                  <a:pt x="397" y="188"/>
                </a:lnTo>
                <a:lnTo>
                  <a:pt x="395" y="186"/>
                </a:lnTo>
                <a:lnTo>
                  <a:pt x="393" y="182"/>
                </a:lnTo>
                <a:lnTo>
                  <a:pt x="391" y="180"/>
                </a:lnTo>
                <a:lnTo>
                  <a:pt x="389" y="176"/>
                </a:lnTo>
                <a:lnTo>
                  <a:pt x="385" y="174"/>
                </a:lnTo>
                <a:lnTo>
                  <a:pt x="382" y="174"/>
                </a:lnTo>
                <a:lnTo>
                  <a:pt x="378" y="172"/>
                </a:lnTo>
                <a:lnTo>
                  <a:pt x="372" y="172"/>
                </a:lnTo>
                <a:lnTo>
                  <a:pt x="366" y="170"/>
                </a:lnTo>
                <a:lnTo>
                  <a:pt x="361" y="170"/>
                </a:lnTo>
                <a:lnTo>
                  <a:pt x="353" y="172"/>
                </a:lnTo>
                <a:lnTo>
                  <a:pt x="343" y="172"/>
                </a:lnTo>
                <a:lnTo>
                  <a:pt x="336" y="174"/>
                </a:lnTo>
                <a:lnTo>
                  <a:pt x="324" y="174"/>
                </a:lnTo>
                <a:lnTo>
                  <a:pt x="313" y="178"/>
                </a:lnTo>
                <a:lnTo>
                  <a:pt x="301" y="180"/>
                </a:lnTo>
                <a:lnTo>
                  <a:pt x="288" y="184"/>
                </a:lnTo>
                <a:lnTo>
                  <a:pt x="274" y="188"/>
                </a:lnTo>
                <a:lnTo>
                  <a:pt x="259" y="192"/>
                </a:lnTo>
                <a:lnTo>
                  <a:pt x="243" y="195"/>
                </a:lnTo>
                <a:lnTo>
                  <a:pt x="228" y="199"/>
                </a:lnTo>
                <a:lnTo>
                  <a:pt x="215" y="203"/>
                </a:lnTo>
                <a:lnTo>
                  <a:pt x="201" y="207"/>
                </a:lnTo>
                <a:lnTo>
                  <a:pt x="190" y="211"/>
                </a:lnTo>
                <a:lnTo>
                  <a:pt x="178" y="213"/>
                </a:lnTo>
                <a:lnTo>
                  <a:pt x="167" y="217"/>
                </a:lnTo>
                <a:lnTo>
                  <a:pt x="157" y="218"/>
                </a:lnTo>
                <a:lnTo>
                  <a:pt x="147" y="220"/>
                </a:lnTo>
                <a:lnTo>
                  <a:pt x="138" y="222"/>
                </a:lnTo>
                <a:lnTo>
                  <a:pt x="130" y="224"/>
                </a:lnTo>
                <a:lnTo>
                  <a:pt x="124" y="224"/>
                </a:lnTo>
                <a:lnTo>
                  <a:pt x="117" y="226"/>
                </a:lnTo>
                <a:lnTo>
                  <a:pt x="111" y="226"/>
                </a:lnTo>
                <a:lnTo>
                  <a:pt x="105" y="226"/>
                </a:lnTo>
                <a:lnTo>
                  <a:pt x="101" y="228"/>
                </a:lnTo>
                <a:lnTo>
                  <a:pt x="92" y="226"/>
                </a:lnTo>
                <a:lnTo>
                  <a:pt x="82" y="224"/>
                </a:lnTo>
                <a:lnTo>
                  <a:pt x="73" y="222"/>
                </a:lnTo>
                <a:lnTo>
                  <a:pt x="65" y="217"/>
                </a:lnTo>
                <a:lnTo>
                  <a:pt x="55" y="211"/>
                </a:lnTo>
                <a:lnTo>
                  <a:pt x="50" y="207"/>
                </a:lnTo>
                <a:lnTo>
                  <a:pt x="46" y="201"/>
                </a:lnTo>
                <a:lnTo>
                  <a:pt x="42" y="197"/>
                </a:lnTo>
                <a:lnTo>
                  <a:pt x="36" y="192"/>
                </a:lnTo>
                <a:lnTo>
                  <a:pt x="32" y="186"/>
                </a:lnTo>
                <a:lnTo>
                  <a:pt x="28" y="180"/>
                </a:lnTo>
                <a:lnTo>
                  <a:pt x="19" y="170"/>
                </a:lnTo>
                <a:lnTo>
                  <a:pt x="11" y="163"/>
                </a:lnTo>
                <a:lnTo>
                  <a:pt x="5" y="157"/>
                </a:lnTo>
                <a:lnTo>
                  <a:pt x="2" y="151"/>
                </a:lnTo>
                <a:lnTo>
                  <a:pt x="0" y="146"/>
                </a:lnTo>
                <a:lnTo>
                  <a:pt x="0" y="144"/>
                </a:lnTo>
                <a:lnTo>
                  <a:pt x="0" y="140"/>
                </a:lnTo>
                <a:lnTo>
                  <a:pt x="0" y="138"/>
                </a:lnTo>
                <a:lnTo>
                  <a:pt x="0" y="136"/>
                </a:lnTo>
                <a:lnTo>
                  <a:pt x="2" y="134"/>
                </a:lnTo>
                <a:lnTo>
                  <a:pt x="4" y="132"/>
                </a:lnTo>
                <a:lnTo>
                  <a:pt x="4" y="128"/>
                </a:lnTo>
                <a:lnTo>
                  <a:pt x="5" y="126"/>
                </a:lnTo>
                <a:lnTo>
                  <a:pt x="7" y="124"/>
                </a:lnTo>
                <a:lnTo>
                  <a:pt x="11" y="122"/>
                </a:lnTo>
                <a:lnTo>
                  <a:pt x="13" y="122"/>
                </a:lnTo>
                <a:lnTo>
                  <a:pt x="17" y="121"/>
                </a:lnTo>
                <a:lnTo>
                  <a:pt x="21" y="121"/>
                </a:lnTo>
                <a:lnTo>
                  <a:pt x="27" y="121"/>
                </a:lnTo>
                <a:lnTo>
                  <a:pt x="32" y="121"/>
                </a:lnTo>
                <a:lnTo>
                  <a:pt x="38" y="119"/>
                </a:lnTo>
                <a:lnTo>
                  <a:pt x="44" y="119"/>
                </a:lnTo>
                <a:lnTo>
                  <a:pt x="52" y="119"/>
                </a:lnTo>
                <a:lnTo>
                  <a:pt x="59" y="119"/>
                </a:lnTo>
                <a:lnTo>
                  <a:pt x="67" y="119"/>
                </a:lnTo>
                <a:lnTo>
                  <a:pt x="76" y="119"/>
                </a:lnTo>
                <a:lnTo>
                  <a:pt x="84" y="119"/>
                </a:lnTo>
                <a:lnTo>
                  <a:pt x="92" y="119"/>
                </a:lnTo>
                <a:lnTo>
                  <a:pt x="99" y="119"/>
                </a:lnTo>
                <a:lnTo>
                  <a:pt x="107" y="117"/>
                </a:lnTo>
                <a:lnTo>
                  <a:pt x="126" y="115"/>
                </a:lnTo>
                <a:lnTo>
                  <a:pt x="146" y="111"/>
                </a:lnTo>
                <a:lnTo>
                  <a:pt x="167" y="109"/>
                </a:lnTo>
                <a:lnTo>
                  <a:pt x="190" y="103"/>
                </a:lnTo>
                <a:lnTo>
                  <a:pt x="211" y="99"/>
                </a:lnTo>
                <a:lnTo>
                  <a:pt x="234" y="96"/>
                </a:lnTo>
                <a:lnTo>
                  <a:pt x="245" y="94"/>
                </a:lnTo>
                <a:lnTo>
                  <a:pt x="255" y="90"/>
                </a:lnTo>
                <a:lnTo>
                  <a:pt x="266" y="88"/>
                </a:lnTo>
                <a:lnTo>
                  <a:pt x="276" y="84"/>
                </a:lnTo>
                <a:lnTo>
                  <a:pt x="284" y="80"/>
                </a:lnTo>
                <a:lnTo>
                  <a:pt x="293" y="78"/>
                </a:lnTo>
                <a:lnTo>
                  <a:pt x="309" y="71"/>
                </a:lnTo>
                <a:lnTo>
                  <a:pt x="322" y="61"/>
                </a:lnTo>
                <a:lnTo>
                  <a:pt x="336" y="53"/>
                </a:lnTo>
                <a:lnTo>
                  <a:pt x="345" y="44"/>
                </a:lnTo>
                <a:lnTo>
                  <a:pt x="357" y="36"/>
                </a:lnTo>
                <a:lnTo>
                  <a:pt x="361" y="27"/>
                </a:lnTo>
                <a:lnTo>
                  <a:pt x="366" y="19"/>
                </a:lnTo>
                <a:lnTo>
                  <a:pt x="374" y="13"/>
                </a:lnTo>
                <a:lnTo>
                  <a:pt x="382" y="9"/>
                </a:lnTo>
                <a:lnTo>
                  <a:pt x="389" y="5"/>
                </a:lnTo>
                <a:lnTo>
                  <a:pt x="399" y="2"/>
                </a:lnTo>
                <a:lnTo>
                  <a:pt x="407" y="0"/>
                </a:lnTo>
                <a:lnTo>
                  <a:pt x="416" y="0"/>
                </a:lnTo>
                <a:lnTo>
                  <a:pt x="422" y="2"/>
                </a:lnTo>
                <a:lnTo>
                  <a:pt x="426" y="5"/>
                </a:lnTo>
                <a:lnTo>
                  <a:pt x="432" y="7"/>
                </a:lnTo>
                <a:lnTo>
                  <a:pt x="439" y="11"/>
                </a:lnTo>
                <a:lnTo>
                  <a:pt x="447" y="15"/>
                </a:lnTo>
                <a:lnTo>
                  <a:pt x="455" y="19"/>
                </a:lnTo>
                <a:lnTo>
                  <a:pt x="462" y="23"/>
                </a:lnTo>
                <a:lnTo>
                  <a:pt x="470" y="27"/>
                </a:lnTo>
                <a:lnTo>
                  <a:pt x="480" y="30"/>
                </a:lnTo>
                <a:lnTo>
                  <a:pt x="491" y="36"/>
                </a:lnTo>
                <a:lnTo>
                  <a:pt x="501" y="40"/>
                </a:lnTo>
                <a:lnTo>
                  <a:pt x="512" y="46"/>
                </a:lnTo>
                <a:lnTo>
                  <a:pt x="524" y="51"/>
                </a:lnTo>
                <a:lnTo>
                  <a:pt x="535" y="57"/>
                </a:lnTo>
                <a:lnTo>
                  <a:pt x="549" y="65"/>
                </a:lnTo>
                <a:lnTo>
                  <a:pt x="562" y="71"/>
                </a:lnTo>
                <a:lnTo>
                  <a:pt x="574" y="80"/>
                </a:lnTo>
                <a:lnTo>
                  <a:pt x="583" y="88"/>
                </a:lnTo>
                <a:lnTo>
                  <a:pt x="593" y="98"/>
                </a:lnTo>
                <a:lnTo>
                  <a:pt x="602" y="105"/>
                </a:lnTo>
                <a:lnTo>
                  <a:pt x="612" y="113"/>
                </a:lnTo>
                <a:lnTo>
                  <a:pt x="620" y="121"/>
                </a:lnTo>
                <a:lnTo>
                  <a:pt x="627" y="128"/>
                </a:lnTo>
                <a:lnTo>
                  <a:pt x="633" y="134"/>
                </a:lnTo>
                <a:lnTo>
                  <a:pt x="639" y="142"/>
                </a:lnTo>
                <a:lnTo>
                  <a:pt x="645" y="147"/>
                </a:lnTo>
                <a:lnTo>
                  <a:pt x="648" y="153"/>
                </a:lnTo>
                <a:lnTo>
                  <a:pt x="652" y="159"/>
                </a:lnTo>
                <a:lnTo>
                  <a:pt x="656" y="165"/>
                </a:lnTo>
                <a:lnTo>
                  <a:pt x="658" y="170"/>
                </a:lnTo>
                <a:lnTo>
                  <a:pt x="658" y="174"/>
                </a:lnTo>
                <a:lnTo>
                  <a:pt x="660" y="180"/>
                </a:lnTo>
                <a:lnTo>
                  <a:pt x="658" y="192"/>
                </a:lnTo>
                <a:lnTo>
                  <a:pt x="656" y="203"/>
                </a:lnTo>
                <a:lnTo>
                  <a:pt x="654" y="215"/>
                </a:lnTo>
                <a:lnTo>
                  <a:pt x="650" y="224"/>
                </a:lnTo>
                <a:lnTo>
                  <a:pt x="645" y="232"/>
                </a:lnTo>
                <a:lnTo>
                  <a:pt x="639" y="240"/>
                </a:lnTo>
                <a:lnTo>
                  <a:pt x="631" y="245"/>
                </a:lnTo>
                <a:lnTo>
                  <a:pt x="623" y="251"/>
                </a:lnTo>
                <a:lnTo>
                  <a:pt x="616" y="255"/>
                </a:lnTo>
                <a:lnTo>
                  <a:pt x="610" y="259"/>
                </a:lnTo>
                <a:lnTo>
                  <a:pt x="604" y="263"/>
                </a:lnTo>
                <a:lnTo>
                  <a:pt x="600" y="268"/>
                </a:lnTo>
                <a:lnTo>
                  <a:pt x="595" y="276"/>
                </a:lnTo>
                <a:lnTo>
                  <a:pt x="591" y="284"/>
                </a:lnTo>
                <a:lnTo>
                  <a:pt x="587" y="293"/>
                </a:lnTo>
                <a:lnTo>
                  <a:pt x="585" y="303"/>
                </a:lnTo>
                <a:lnTo>
                  <a:pt x="581" y="314"/>
                </a:lnTo>
                <a:lnTo>
                  <a:pt x="579" y="328"/>
                </a:lnTo>
                <a:lnTo>
                  <a:pt x="577" y="339"/>
                </a:lnTo>
                <a:lnTo>
                  <a:pt x="577" y="355"/>
                </a:lnTo>
                <a:lnTo>
                  <a:pt x="576" y="368"/>
                </a:lnTo>
                <a:lnTo>
                  <a:pt x="576" y="385"/>
                </a:lnTo>
                <a:lnTo>
                  <a:pt x="574" y="401"/>
                </a:lnTo>
                <a:lnTo>
                  <a:pt x="574" y="420"/>
                </a:lnTo>
                <a:lnTo>
                  <a:pt x="572" y="439"/>
                </a:lnTo>
                <a:lnTo>
                  <a:pt x="570" y="460"/>
                </a:lnTo>
                <a:lnTo>
                  <a:pt x="568" y="483"/>
                </a:lnTo>
                <a:lnTo>
                  <a:pt x="568" y="504"/>
                </a:lnTo>
                <a:lnTo>
                  <a:pt x="566" y="527"/>
                </a:lnTo>
                <a:lnTo>
                  <a:pt x="566" y="551"/>
                </a:lnTo>
                <a:lnTo>
                  <a:pt x="564" y="575"/>
                </a:lnTo>
                <a:lnTo>
                  <a:pt x="564" y="600"/>
                </a:lnTo>
                <a:lnTo>
                  <a:pt x="564" y="625"/>
                </a:lnTo>
                <a:lnTo>
                  <a:pt x="562" y="652"/>
                </a:lnTo>
                <a:lnTo>
                  <a:pt x="562" y="679"/>
                </a:lnTo>
                <a:lnTo>
                  <a:pt x="562" y="708"/>
                </a:lnTo>
                <a:lnTo>
                  <a:pt x="562" y="737"/>
                </a:lnTo>
                <a:lnTo>
                  <a:pt x="562" y="766"/>
                </a:lnTo>
                <a:lnTo>
                  <a:pt x="562" y="796"/>
                </a:lnTo>
                <a:lnTo>
                  <a:pt x="562" y="827"/>
                </a:lnTo>
                <a:lnTo>
                  <a:pt x="562" y="961"/>
                </a:lnTo>
                <a:lnTo>
                  <a:pt x="562" y="1030"/>
                </a:lnTo>
                <a:lnTo>
                  <a:pt x="564" y="1098"/>
                </a:lnTo>
                <a:lnTo>
                  <a:pt x="566" y="1167"/>
                </a:lnTo>
                <a:lnTo>
                  <a:pt x="568" y="1236"/>
                </a:lnTo>
                <a:lnTo>
                  <a:pt x="570" y="1307"/>
                </a:lnTo>
                <a:lnTo>
                  <a:pt x="574" y="1378"/>
                </a:lnTo>
                <a:lnTo>
                  <a:pt x="576" y="1414"/>
                </a:lnTo>
                <a:lnTo>
                  <a:pt x="577" y="1449"/>
                </a:lnTo>
                <a:lnTo>
                  <a:pt x="579" y="1481"/>
                </a:lnTo>
                <a:lnTo>
                  <a:pt x="581" y="1512"/>
                </a:lnTo>
                <a:lnTo>
                  <a:pt x="581" y="1543"/>
                </a:lnTo>
                <a:lnTo>
                  <a:pt x="583" y="1574"/>
                </a:lnTo>
                <a:lnTo>
                  <a:pt x="583" y="1600"/>
                </a:lnTo>
                <a:lnTo>
                  <a:pt x="583" y="1629"/>
                </a:lnTo>
                <a:lnTo>
                  <a:pt x="583" y="1654"/>
                </a:lnTo>
                <a:lnTo>
                  <a:pt x="583" y="1679"/>
                </a:lnTo>
                <a:lnTo>
                  <a:pt x="581" y="1702"/>
                </a:lnTo>
                <a:lnTo>
                  <a:pt x="581" y="1723"/>
                </a:lnTo>
                <a:lnTo>
                  <a:pt x="579" y="1744"/>
                </a:lnTo>
                <a:lnTo>
                  <a:pt x="577" y="1764"/>
                </a:lnTo>
                <a:lnTo>
                  <a:pt x="576" y="1781"/>
                </a:lnTo>
                <a:lnTo>
                  <a:pt x="574" y="1798"/>
                </a:lnTo>
                <a:lnTo>
                  <a:pt x="572" y="1815"/>
                </a:lnTo>
                <a:lnTo>
                  <a:pt x="568" y="1833"/>
                </a:lnTo>
                <a:lnTo>
                  <a:pt x="564" y="1850"/>
                </a:lnTo>
                <a:lnTo>
                  <a:pt x="560" y="1867"/>
                </a:lnTo>
                <a:lnTo>
                  <a:pt x="551" y="1900"/>
                </a:lnTo>
                <a:lnTo>
                  <a:pt x="541" y="1931"/>
                </a:lnTo>
                <a:lnTo>
                  <a:pt x="529" y="1961"/>
                </a:lnTo>
                <a:lnTo>
                  <a:pt x="516" y="1988"/>
                </a:lnTo>
                <a:lnTo>
                  <a:pt x="510" y="2002"/>
                </a:lnTo>
                <a:lnTo>
                  <a:pt x="503" y="2013"/>
                </a:lnTo>
                <a:lnTo>
                  <a:pt x="497" y="2027"/>
                </a:lnTo>
                <a:lnTo>
                  <a:pt x="489" y="203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182"/>
          <p:cNvSpPr/>
          <p:nvPr/>
        </p:nvSpPr>
        <p:spPr>
          <a:xfrm>
            <a:off x="7164360" y="3614760"/>
            <a:ext cx="360360" cy="393840"/>
          </a:xfrm>
          <a:custGeom>
            <a:avLst/>
            <a:gdLst/>
            <a:ahLst/>
            <a:rect l="l" t="t" r="r" b="b"/>
            <a:pathLst>
              <a:path w="453" h="496">
                <a:moveTo>
                  <a:pt x="282" y="133"/>
                </a:moveTo>
                <a:lnTo>
                  <a:pt x="299" y="116"/>
                </a:lnTo>
                <a:lnTo>
                  <a:pt x="316" y="100"/>
                </a:lnTo>
                <a:lnTo>
                  <a:pt x="332" y="85"/>
                </a:lnTo>
                <a:lnTo>
                  <a:pt x="347" y="70"/>
                </a:lnTo>
                <a:lnTo>
                  <a:pt x="361" y="58"/>
                </a:lnTo>
                <a:lnTo>
                  <a:pt x="374" y="47"/>
                </a:lnTo>
                <a:lnTo>
                  <a:pt x="387" y="35"/>
                </a:lnTo>
                <a:lnTo>
                  <a:pt x="399" y="27"/>
                </a:lnTo>
                <a:lnTo>
                  <a:pt x="409" y="20"/>
                </a:lnTo>
                <a:lnTo>
                  <a:pt x="418" y="12"/>
                </a:lnTo>
                <a:lnTo>
                  <a:pt x="426" y="8"/>
                </a:lnTo>
                <a:lnTo>
                  <a:pt x="434" y="4"/>
                </a:lnTo>
                <a:lnTo>
                  <a:pt x="439" y="0"/>
                </a:lnTo>
                <a:lnTo>
                  <a:pt x="445" y="0"/>
                </a:lnTo>
                <a:lnTo>
                  <a:pt x="449" y="0"/>
                </a:lnTo>
                <a:lnTo>
                  <a:pt x="453" y="2"/>
                </a:lnTo>
                <a:lnTo>
                  <a:pt x="453" y="4"/>
                </a:lnTo>
                <a:lnTo>
                  <a:pt x="453" y="10"/>
                </a:lnTo>
                <a:lnTo>
                  <a:pt x="453" y="16"/>
                </a:lnTo>
                <a:lnTo>
                  <a:pt x="449" y="23"/>
                </a:lnTo>
                <a:lnTo>
                  <a:pt x="445" y="33"/>
                </a:lnTo>
                <a:lnTo>
                  <a:pt x="439" y="45"/>
                </a:lnTo>
                <a:lnTo>
                  <a:pt x="434" y="58"/>
                </a:lnTo>
                <a:lnTo>
                  <a:pt x="426" y="73"/>
                </a:lnTo>
                <a:lnTo>
                  <a:pt x="416" y="89"/>
                </a:lnTo>
                <a:lnTo>
                  <a:pt x="405" y="108"/>
                </a:lnTo>
                <a:lnTo>
                  <a:pt x="393" y="127"/>
                </a:lnTo>
                <a:lnTo>
                  <a:pt x="382" y="150"/>
                </a:lnTo>
                <a:lnTo>
                  <a:pt x="366" y="173"/>
                </a:lnTo>
                <a:lnTo>
                  <a:pt x="351" y="198"/>
                </a:lnTo>
                <a:lnTo>
                  <a:pt x="336" y="225"/>
                </a:lnTo>
                <a:lnTo>
                  <a:pt x="318" y="254"/>
                </a:lnTo>
                <a:lnTo>
                  <a:pt x="301" y="283"/>
                </a:lnTo>
                <a:lnTo>
                  <a:pt x="284" y="309"/>
                </a:lnTo>
                <a:lnTo>
                  <a:pt x="268" y="334"/>
                </a:lnTo>
                <a:lnTo>
                  <a:pt x="253" y="357"/>
                </a:lnTo>
                <a:lnTo>
                  <a:pt x="238" y="379"/>
                </a:lnTo>
                <a:lnTo>
                  <a:pt x="226" y="398"/>
                </a:lnTo>
                <a:lnTo>
                  <a:pt x="213" y="415"/>
                </a:lnTo>
                <a:lnTo>
                  <a:pt x="201" y="432"/>
                </a:lnTo>
                <a:lnTo>
                  <a:pt x="192" y="446"/>
                </a:lnTo>
                <a:lnTo>
                  <a:pt x="182" y="459"/>
                </a:lnTo>
                <a:lnTo>
                  <a:pt x="174" y="469"/>
                </a:lnTo>
                <a:lnTo>
                  <a:pt x="167" y="478"/>
                </a:lnTo>
                <a:lnTo>
                  <a:pt x="159" y="484"/>
                </a:lnTo>
                <a:lnTo>
                  <a:pt x="155" y="490"/>
                </a:lnTo>
                <a:lnTo>
                  <a:pt x="153" y="490"/>
                </a:lnTo>
                <a:lnTo>
                  <a:pt x="151" y="492"/>
                </a:lnTo>
                <a:lnTo>
                  <a:pt x="149" y="492"/>
                </a:lnTo>
                <a:lnTo>
                  <a:pt x="148" y="494"/>
                </a:lnTo>
                <a:lnTo>
                  <a:pt x="146" y="496"/>
                </a:lnTo>
                <a:lnTo>
                  <a:pt x="142" y="496"/>
                </a:lnTo>
                <a:lnTo>
                  <a:pt x="138" y="496"/>
                </a:lnTo>
                <a:lnTo>
                  <a:pt x="134" y="496"/>
                </a:lnTo>
                <a:lnTo>
                  <a:pt x="130" y="494"/>
                </a:lnTo>
                <a:lnTo>
                  <a:pt x="124" y="492"/>
                </a:lnTo>
                <a:lnTo>
                  <a:pt x="121" y="490"/>
                </a:lnTo>
                <a:lnTo>
                  <a:pt x="115" y="486"/>
                </a:lnTo>
                <a:lnTo>
                  <a:pt x="109" y="482"/>
                </a:lnTo>
                <a:lnTo>
                  <a:pt x="103" y="476"/>
                </a:lnTo>
                <a:lnTo>
                  <a:pt x="96" y="471"/>
                </a:lnTo>
                <a:lnTo>
                  <a:pt x="90" y="465"/>
                </a:lnTo>
                <a:lnTo>
                  <a:pt x="84" y="457"/>
                </a:lnTo>
                <a:lnTo>
                  <a:pt x="76" y="450"/>
                </a:lnTo>
                <a:lnTo>
                  <a:pt x="71" y="442"/>
                </a:lnTo>
                <a:lnTo>
                  <a:pt x="63" y="434"/>
                </a:lnTo>
                <a:lnTo>
                  <a:pt x="53" y="427"/>
                </a:lnTo>
                <a:lnTo>
                  <a:pt x="46" y="419"/>
                </a:lnTo>
                <a:lnTo>
                  <a:pt x="38" y="413"/>
                </a:lnTo>
                <a:lnTo>
                  <a:pt x="32" y="405"/>
                </a:lnTo>
                <a:lnTo>
                  <a:pt x="25" y="400"/>
                </a:lnTo>
                <a:lnTo>
                  <a:pt x="19" y="394"/>
                </a:lnTo>
                <a:lnTo>
                  <a:pt x="15" y="386"/>
                </a:lnTo>
                <a:lnTo>
                  <a:pt x="11" y="381"/>
                </a:lnTo>
                <a:lnTo>
                  <a:pt x="7" y="375"/>
                </a:lnTo>
                <a:lnTo>
                  <a:pt x="4" y="369"/>
                </a:lnTo>
                <a:lnTo>
                  <a:pt x="2" y="363"/>
                </a:lnTo>
                <a:lnTo>
                  <a:pt x="0" y="357"/>
                </a:lnTo>
                <a:lnTo>
                  <a:pt x="0" y="352"/>
                </a:lnTo>
                <a:lnTo>
                  <a:pt x="0" y="346"/>
                </a:lnTo>
                <a:lnTo>
                  <a:pt x="2" y="342"/>
                </a:lnTo>
                <a:lnTo>
                  <a:pt x="4" y="338"/>
                </a:lnTo>
                <a:lnTo>
                  <a:pt x="4" y="333"/>
                </a:lnTo>
                <a:lnTo>
                  <a:pt x="5" y="329"/>
                </a:lnTo>
                <a:lnTo>
                  <a:pt x="9" y="325"/>
                </a:lnTo>
                <a:lnTo>
                  <a:pt x="13" y="321"/>
                </a:lnTo>
                <a:lnTo>
                  <a:pt x="19" y="317"/>
                </a:lnTo>
                <a:lnTo>
                  <a:pt x="23" y="317"/>
                </a:lnTo>
                <a:lnTo>
                  <a:pt x="29" y="315"/>
                </a:lnTo>
                <a:lnTo>
                  <a:pt x="32" y="315"/>
                </a:lnTo>
                <a:lnTo>
                  <a:pt x="38" y="313"/>
                </a:lnTo>
                <a:lnTo>
                  <a:pt x="44" y="313"/>
                </a:lnTo>
                <a:lnTo>
                  <a:pt x="52" y="313"/>
                </a:lnTo>
                <a:lnTo>
                  <a:pt x="55" y="315"/>
                </a:lnTo>
                <a:lnTo>
                  <a:pt x="59" y="317"/>
                </a:lnTo>
                <a:lnTo>
                  <a:pt x="65" y="317"/>
                </a:lnTo>
                <a:lnTo>
                  <a:pt x="69" y="319"/>
                </a:lnTo>
                <a:lnTo>
                  <a:pt x="78" y="317"/>
                </a:lnTo>
                <a:lnTo>
                  <a:pt x="88" y="317"/>
                </a:lnTo>
                <a:lnTo>
                  <a:pt x="96" y="313"/>
                </a:lnTo>
                <a:lnTo>
                  <a:pt x="105" y="309"/>
                </a:lnTo>
                <a:lnTo>
                  <a:pt x="115" y="306"/>
                </a:lnTo>
                <a:lnTo>
                  <a:pt x="124" y="302"/>
                </a:lnTo>
                <a:lnTo>
                  <a:pt x="126" y="298"/>
                </a:lnTo>
                <a:lnTo>
                  <a:pt x="130" y="294"/>
                </a:lnTo>
                <a:lnTo>
                  <a:pt x="136" y="290"/>
                </a:lnTo>
                <a:lnTo>
                  <a:pt x="142" y="285"/>
                </a:lnTo>
                <a:lnTo>
                  <a:pt x="149" y="277"/>
                </a:lnTo>
                <a:lnTo>
                  <a:pt x="157" y="269"/>
                </a:lnTo>
                <a:lnTo>
                  <a:pt x="167" y="260"/>
                </a:lnTo>
                <a:lnTo>
                  <a:pt x="176" y="250"/>
                </a:lnTo>
                <a:lnTo>
                  <a:pt x="186" y="238"/>
                </a:lnTo>
                <a:lnTo>
                  <a:pt x="197" y="227"/>
                </a:lnTo>
                <a:lnTo>
                  <a:pt x="211" y="214"/>
                </a:lnTo>
                <a:lnTo>
                  <a:pt x="222" y="198"/>
                </a:lnTo>
                <a:lnTo>
                  <a:pt x="236" y="185"/>
                </a:lnTo>
                <a:lnTo>
                  <a:pt x="251" y="167"/>
                </a:lnTo>
                <a:lnTo>
                  <a:pt x="267" y="152"/>
                </a:lnTo>
                <a:lnTo>
                  <a:pt x="282" y="13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183"/>
          <p:cNvSpPr/>
          <p:nvPr/>
        </p:nvSpPr>
        <p:spPr>
          <a:xfrm>
            <a:off x="7186680" y="3284640"/>
            <a:ext cx="239760" cy="217440"/>
          </a:xfrm>
          <a:custGeom>
            <a:avLst/>
            <a:gdLst/>
            <a:ahLst/>
            <a:rect l="l" t="t" r="r" b="b"/>
            <a:pathLst>
              <a:path w="303" h="274">
                <a:moveTo>
                  <a:pt x="0" y="10"/>
                </a:moveTo>
                <a:lnTo>
                  <a:pt x="2" y="8"/>
                </a:lnTo>
                <a:lnTo>
                  <a:pt x="5" y="6"/>
                </a:lnTo>
                <a:lnTo>
                  <a:pt x="9" y="4"/>
                </a:lnTo>
                <a:lnTo>
                  <a:pt x="13" y="4"/>
                </a:lnTo>
                <a:lnTo>
                  <a:pt x="19" y="2"/>
                </a:lnTo>
                <a:lnTo>
                  <a:pt x="23" y="2"/>
                </a:lnTo>
                <a:lnTo>
                  <a:pt x="30" y="2"/>
                </a:lnTo>
                <a:lnTo>
                  <a:pt x="36" y="0"/>
                </a:lnTo>
                <a:lnTo>
                  <a:pt x="44" y="2"/>
                </a:lnTo>
                <a:lnTo>
                  <a:pt x="51" y="2"/>
                </a:lnTo>
                <a:lnTo>
                  <a:pt x="59" y="2"/>
                </a:lnTo>
                <a:lnTo>
                  <a:pt x="69" y="4"/>
                </a:lnTo>
                <a:lnTo>
                  <a:pt x="78" y="4"/>
                </a:lnTo>
                <a:lnTo>
                  <a:pt x="88" y="6"/>
                </a:lnTo>
                <a:lnTo>
                  <a:pt x="97" y="8"/>
                </a:lnTo>
                <a:lnTo>
                  <a:pt x="109" y="10"/>
                </a:lnTo>
                <a:lnTo>
                  <a:pt x="132" y="19"/>
                </a:lnTo>
                <a:lnTo>
                  <a:pt x="153" y="29"/>
                </a:lnTo>
                <a:lnTo>
                  <a:pt x="172" y="38"/>
                </a:lnTo>
                <a:lnTo>
                  <a:pt x="192" y="48"/>
                </a:lnTo>
                <a:lnTo>
                  <a:pt x="209" y="58"/>
                </a:lnTo>
                <a:lnTo>
                  <a:pt x="224" y="69"/>
                </a:lnTo>
                <a:lnTo>
                  <a:pt x="240" y="81"/>
                </a:lnTo>
                <a:lnTo>
                  <a:pt x="255" y="94"/>
                </a:lnTo>
                <a:lnTo>
                  <a:pt x="261" y="100"/>
                </a:lnTo>
                <a:lnTo>
                  <a:pt x="266" y="107"/>
                </a:lnTo>
                <a:lnTo>
                  <a:pt x="272" y="113"/>
                </a:lnTo>
                <a:lnTo>
                  <a:pt x="278" y="119"/>
                </a:lnTo>
                <a:lnTo>
                  <a:pt x="282" y="125"/>
                </a:lnTo>
                <a:lnTo>
                  <a:pt x="286" y="130"/>
                </a:lnTo>
                <a:lnTo>
                  <a:pt x="291" y="142"/>
                </a:lnTo>
                <a:lnTo>
                  <a:pt x="297" y="153"/>
                </a:lnTo>
                <a:lnTo>
                  <a:pt x="301" y="165"/>
                </a:lnTo>
                <a:lnTo>
                  <a:pt x="303" y="177"/>
                </a:lnTo>
                <a:lnTo>
                  <a:pt x="303" y="190"/>
                </a:lnTo>
                <a:lnTo>
                  <a:pt x="303" y="196"/>
                </a:lnTo>
                <a:lnTo>
                  <a:pt x="303" y="201"/>
                </a:lnTo>
                <a:lnTo>
                  <a:pt x="303" y="207"/>
                </a:lnTo>
                <a:lnTo>
                  <a:pt x="303" y="213"/>
                </a:lnTo>
                <a:lnTo>
                  <a:pt x="303" y="221"/>
                </a:lnTo>
                <a:lnTo>
                  <a:pt x="301" y="228"/>
                </a:lnTo>
                <a:lnTo>
                  <a:pt x="299" y="234"/>
                </a:lnTo>
                <a:lnTo>
                  <a:pt x="297" y="240"/>
                </a:lnTo>
                <a:lnTo>
                  <a:pt x="295" y="246"/>
                </a:lnTo>
                <a:lnTo>
                  <a:pt x="291" y="249"/>
                </a:lnTo>
                <a:lnTo>
                  <a:pt x="282" y="259"/>
                </a:lnTo>
                <a:lnTo>
                  <a:pt x="278" y="263"/>
                </a:lnTo>
                <a:lnTo>
                  <a:pt x="272" y="267"/>
                </a:lnTo>
                <a:lnTo>
                  <a:pt x="268" y="269"/>
                </a:lnTo>
                <a:lnTo>
                  <a:pt x="264" y="271"/>
                </a:lnTo>
                <a:lnTo>
                  <a:pt x="259" y="273"/>
                </a:lnTo>
                <a:lnTo>
                  <a:pt x="255" y="274"/>
                </a:lnTo>
                <a:lnTo>
                  <a:pt x="251" y="273"/>
                </a:lnTo>
                <a:lnTo>
                  <a:pt x="249" y="273"/>
                </a:lnTo>
                <a:lnTo>
                  <a:pt x="245" y="271"/>
                </a:lnTo>
                <a:lnTo>
                  <a:pt x="240" y="267"/>
                </a:lnTo>
                <a:lnTo>
                  <a:pt x="236" y="263"/>
                </a:lnTo>
                <a:lnTo>
                  <a:pt x="230" y="257"/>
                </a:lnTo>
                <a:lnTo>
                  <a:pt x="222" y="251"/>
                </a:lnTo>
                <a:lnTo>
                  <a:pt x="215" y="246"/>
                </a:lnTo>
                <a:lnTo>
                  <a:pt x="207" y="238"/>
                </a:lnTo>
                <a:lnTo>
                  <a:pt x="197" y="228"/>
                </a:lnTo>
                <a:lnTo>
                  <a:pt x="188" y="219"/>
                </a:lnTo>
                <a:lnTo>
                  <a:pt x="176" y="209"/>
                </a:lnTo>
                <a:lnTo>
                  <a:pt x="163" y="196"/>
                </a:lnTo>
                <a:lnTo>
                  <a:pt x="151" y="184"/>
                </a:lnTo>
                <a:lnTo>
                  <a:pt x="136" y="169"/>
                </a:lnTo>
                <a:lnTo>
                  <a:pt x="121" y="153"/>
                </a:lnTo>
                <a:lnTo>
                  <a:pt x="105" y="138"/>
                </a:lnTo>
                <a:lnTo>
                  <a:pt x="92" y="125"/>
                </a:lnTo>
                <a:lnTo>
                  <a:pt x="78" y="109"/>
                </a:lnTo>
                <a:lnTo>
                  <a:pt x="67" y="98"/>
                </a:lnTo>
                <a:lnTo>
                  <a:pt x="55" y="86"/>
                </a:lnTo>
                <a:lnTo>
                  <a:pt x="46" y="75"/>
                </a:lnTo>
                <a:lnTo>
                  <a:pt x="36" y="63"/>
                </a:lnTo>
                <a:lnTo>
                  <a:pt x="28" y="56"/>
                </a:lnTo>
                <a:lnTo>
                  <a:pt x="23" y="46"/>
                </a:lnTo>
                <a:lnTo>
                  <a:pt x="15" y="38"/>
                </a:lnTo>
                <a:lnTo>
                  <a:pt x="11" y="33"/>
                </a:lnTo>
                <a:lnTo>
                  <a:pt x="7" y="25"/>
                </a:lnTo>
                <a:lnTo>
                  <a:pt x="3" y="21"/>
                </a:lnTo>
                <a:lnTo>
                  <a:pt x="2" y="15"/>
                </a:lnTo>
                <a:lnTo>
                  <a:pt x="0" y="13"/>
                </a:lnTo>
                <a:lnTo>
                  <a:pt x="0" y="1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184"/>
          <p:cNvSpPr/>
          <p:nvPr/>
        </p:nvSpPr>
        <p:spPr>
          <a:xfrm>
            <a:off x="6548400" y="3711600"/>
            <a:ext cx="387360" cy="390600"/>
          </a:xfrm>
          <a:custGeom>
            <a:avLst/>
            <a:gdLst/>
            <a:ahLst/>
            <a:rect l="l" t="t" r="r" b="b"/>
            <a:pathLst>
              <a:path w="490" h="494">
                <a:moveTo>
                  <a:pt x="52" y="432"/>
                </a:moveTo>
                <a:lnTo>
                  <a:pt x="39" y="415"/>
                </a:lnTo>
                <a:lnTo>
                  <a:pt x="27" y="398"/>
                </a:lnTo>
                <a:lnTo>
                  <a:pt x="23" y="390"/>
                </a:lnTo>
                <a:lnTo>
                  <a:pt x="18" y="382"/>
                </a:lnTo>
                <a:lnTo>
                  <a:pt x="14" y="377"/>
                </a:lnTo>
                <a:lnTo>
                  <a:pt x="10" y="369"/>
                </a:lnTo>
                <a:lnTo>
                  <a:pt x="6" y="363"/>
                </a:lnTo>
                <a:lnTo>
                  <a:pt x="4" y="355"/>
                </a:lnTo>
                <a:lnTo>
                  <a:pt x="2" y="350"/>
                </a:lnTo>
                <a:lnTo>
                  <a:pt x="0" y="344"/>
                </a:lnTo>
                <a:lnTo>
                  <a:pt x="0" y="338"/>
                </a:lnTo>
                <a:lnTo>
                  <a:pt x="0" y="334"/>
                </a:lnTo>
                <a:lnTo>
                  <a:pt x="2" y="329"/>
                </a:lnTo>
                <a:lnTo>
                  <a:pt x="4" y="325"/>
                </a:lnTo>
                <a:lnTo>
                  <a:pt x="4" y="323"/>
                </a:lnTo>
                <a:lnTo>
                  <a:pt x="4" y="319"/>
                </a:lnTo>
                <a:lnTo>
                  <a:pt x="6" y="317"/>
                </a:lnTo>
                <a:lnTo>
                  <a:pt x="8" y="315"/>
                </a:lnTo>
                <a:lnTo>
                  <a:pt x="10" y="313"/>
                </a:lnTo>
                <a:lnTo>
                  <a:pt x="14" y="311"/>
                </a:lnTo>
                <a:lnTo>
                  <a:pt x="20" y="308"/>
                </a:lnTo>
                <a:lnTo>
                  <a:pt x="29" y="306"/>
                </a:lnTo>
                <a:lnTo>
                  <a:pt x="39" y="302"/>
                </a:lnTo>
                <a:lnTo>
                  <a:pt x="50" y="302"/>
                </a:lnTo>
                <a:lnTo>
                  <a:pt x="64" y="300"/>
                </a:lnTo>
                <a:lnTo>
                  <a:pt x="77" y="300"/>
                </a:lnTo>
                <a:lnTo>
                  <a:pt x="89" y="300"/>
                </a:lnTo>
                <a:lnTo>
                  <a:pt x="100" y="300"/>
                </a:lnTo>
                <a:lnTo>
                  <a:pt x="112" y="298"/>
                </a:lnTo>
                <a:lnTo>
                  <a:pt x="121" y="298"/>
                </a:lnTo>
                <a:lnTo>
                  <a:pt x="131" y="296"/>
                </a:lnTo>
                <a:lnTo>
                  <a:pt x="140" y="292"/>
                </a:lnTo>
                <a:lnTo>
                  <a:pt x="150" y="288"/>
                </a:lnTo>
                <a:lnTo>
                  <a:pt x="152" y="286"/>
                </a:lnTo>
                <a:lnTo>
                  <a:pt x="156" y="283"/>
                </a:lnTo>
                <a:lnTo>
                  <a:pt x="162" y="277"/>
                </a:lnTo>
                <a:lnTo>
                  <a:pt x="167" y="273"/>
                </a:lnTo>
                <a:lnTo>
                  <a:pt x="175" y="265"/>
                </a:lnTo>
                <a:lnTo>
                  <a:pt x="183" y="260"/>
                </a:lnTo>
                <a:lnTo>
                  <a:pt x="190" y="252"/>
                </a:lnTo>
                <a:lnTo>
                  <a:pt x="202" y="242"/>
                </a:lnTo>
                <a:lnTo>
                  <a:pt x="211" y="233"/>
                </a:lnTo>
                <a:lnTo>
                  <a:pt x="223" y="221"/>
                </a:lnTo>
                <a:lnTo>
                  <a:pt x="236" y="210"/>
                </a:lnTo>
                <a:lnTo>
                  <a:pt x="248" y="196"/>
                </a:lnTo>
                <a:lnTo>
                  <a:pt x="261" y="181"/>
                </a:lnTo>
                <a:lnTo>
                  <a:pt x="277" y="165"/>
                </a:lnTo>
                <a:lnTo>
                  <a:pt x="292" y="150"/>
                </a:lnTo>
                <a:lnTo>
                  <a:pt x="307" y="133"/>
                </a:lnTo>
                <a:lnTo>
                  <a:pt x="323" y="117"/>
                </a:lnTo>
                <a:lnTo>
                  <a:pt x="338" y="102"/>
                </a:lnTo>
                <a:lnTo>
                  <a:pt x="352" y="89"/>
                </a:lnTo>
                <a:lnTo>
                  <a:pt x="365" y="75"/>
                </a:lnTo>
                <a:lnTo>
                  <a:pt x="378" y="64"/>
                </a:lnTo>
                <a:lnTo>
                  <a:pt x="390" y="54"/>
                </a:lnTo>
                <a:lnTo>
                  <a:pt x="402" y="43"/>
                </a:lnTo>
                <a:lnTo>
                  <a:pt x="413" y="35"/>
                </a:lnTo>
                <a:lnTo>
                  <a:pt x="423" y="27"/>
                </a:lnTo>
                <a:lnTo>
                  <a:pt x="432" y="20"/>
                </a:lnTo>
                <a:lnTo>
                  <a:pt x="440" y="14"/>
                </a:lnTo>
                <a:lnTo>
                  <a:pt x="448" y="10"/>
                </a:lnTo>
                <a:lnTo>
                  <a:pt x="453" y="6"/>
                </a:lnTo>
                <a:lnTo>
                  <a:pt x="457" y="2"/>
                </a:lnTo>
                <a:lnTo>
                  <a:pt x="463" y="0"/>
                </a:lnTo>
                <a:lnTo>
                  <a:pt x="465" y="0"/>
                </a:lnTo>
                <a:lnTo>
                  <a:pt x="469" y="0"/>
                </a:lnTo>
                <a:lnTo>
                  <a:pt x="474" y="2"/>
                </a:lnTo>
                <a:lnTo>
                  <a:pt x="478" y="6"/>
                </a:lnTo>
                <a:lnTo>
                  <a:pt x="482" y="10"/>
                </a:lnTo>
                <a:lnTo>
                  <a:pt x="484" y="18"/>
                </a:lnTo>
                <a:lnTo>
                  <a:pt x="486" y="22"/>
                </a:lnTo>
                <a:lnTo>
                  <a:pt x="486" y="25"/>
                </a:lnTo>
                <a:lnTo>
                  <a:pt x="488" y="31"/>
                </a:lnTo>
                <a:lnTo>
                  <a:pt x="488" y="37"/>
                </a:lnTo>
                <a:lnTo>
                  <a:pt x="488" y="43"/>
                </a:lnTo>
                <a:lnTo>
                  <a:pt x="490" y="48"/>
                </a:lnTo>
                <a:lnTo>
                  <a:pt x="488" y="56"/>
                </a:lnTo>
                <a:lnTo>
                  <a:pt x="486" y="64"/>
                </a:lnTo>
                <a:lnTo>
                  <a:pt x="484" y="73"/>
                </a:lnTo>
                <a:lnTo>
                  <a:pt x="480" y="85"/>
                </a:lnTo>
                <a:lnTo>
                  <a:pt x="474" y="96"/>
                </a:lnTo>
                <a:lnTo>
                  <a:pt x="467" y="110"/>
                </a:lnTo>
                <a:lnTo>
                  <a:pt x="459" y="123"/>
                </a:lnTo>
                <a:lnTo>
                  <a:pt x="449" y="139"/>
                </a:lnTo>
                <a:lnTo>
                  <a:pt x="440" y="154"/>
                </a:lnTo>
                <a:lnTo>
                  <a:pt x="428" y="171"/>
                </a:lnTo>
                <a:lnTo>
                  <a:pt x="415" y="190"/>
                </a:lnTo>
                <a:lnTo>
                  <a:pt x="402" y="210"/>
                </a:lnTo>
                <a:lnTo>
                  <a:pt x="386" y="231"/>
                </a:lnTo>
                <a:lnTo>
                  <a:pt x="369" y="254"/>
                </a:lnTo>
                <a:lnTo>
                  <a:pt x="350" y="277"/>
                </a:lnTo>
                <a:lnTo>
                  <a:pt x="330" y="300"/>
                </a:lnTo>
                <a:lnTo>
                  <a:pt x="311" y="325"/>
                </a:lnTo>
                <a:lnTo>
                  <a:pt x="292" y="348"/>
                </a:lnTo>
                <a:lnTo>
                  <a:pt x="275" y="369"/>
                </a:lnTo>
                <a:lnTo>
                  <a:pt x="259" y="388"/>
                </a:lnTo>
                <a:lnTo>
                  <a:pt x="244" y="405"/>
                </a:lnTo>
                <a:lnTo>
                  <a:pt x="229" y="423"/>
                </a:lnTo>
                <a:lnTo>
                  <a:pt x="215" y="438"/>
                </a:lnTo>
                <a:lnTo>
                  <a:pt x="204" y="451"/>
                </a:lnTo>
                <a:lnTo>
                  <a:pt x="194" y="463"/>
                </a:lnTo>
                <a:lnTo>
                  <a:pt x="183" y="473"/>
                </a:lnTo>
                <a:lnTo>
                  <a:pt x="175" y="480"/>
                </a:lnTo>
                <a:lnTo>
                  <a:pt x="167" y="486"/>
                </a:lnTo>
                <a:lnTo>
                  <a:pt x="162" y="490"/>
                </a:lnTo>
                <a:lnTo>
                  <a:pt x="156" y="492"/>
                </a:lnTo>
                <a:lnTo>
                  <a:pt x="154" y="494"/>
                </a:lnTo>
                <a:lnTo>
                  <a:pt x="152" y="494"/>
                </a:lnTo>
                <a:lnTo>
                  <a:pt x="150" y="494"/>
                </a:lnTo>
                <a:lnTo>
                  <a:pt x="150" y="492"/>
                </a:lnTo>
                <a:lnTo>
                  <a:pt x="144" y="492"/>
                </a:lnTo>
                <a:lnTo>
                  <a:pt x="139" y="490"/>
                </a:lnTo>
                <a:lnTo>
                  <a:pt x="135" y="490"/>
                </a:lnTo>
                <a:lnTo>
                  <a:pt x="129" y="488"/>
                </a:lnTo>
                <a:lnTo>
                  <a:pt x="123" y="486"/>
                </a:lnTo>
                <a:lnTo>
                  <a:pt x="117" y="482"/>
                </a:lnTo>
                <a:lnTo>
                  <a:pt x="106" y="476"/>
                </a:lnTo>
                <a:lnTo>
                  <a:pt x="92" y="467"/>
                </a:lnTo>
                <a:lnTo>
                  <a:pt x="79" y="457"/>
                </a:lnTo>
                <a:lnTo>
                  <a:pt x="66" y="446"/>
                </a:lnTo>
                <a:lnTo>
                  <a:pt x="52" y="4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185"/>
          <p:cNvSpPr/>
          <p:nvPr/>
        </p:nvSpPr>
        <p:spPr>
          <a:xfrm>
            <a:off x="6673680" y="3379680"/>
            <a:ext cx="214560" cy="225360"/>
          </a:xfrm>
          <a:custGeom>
            <a:avLst/>
            <a:gdLst/>
            <a:ahLst/>
            <a:rect l="l" t="t" r="r" b="b"/>
            <a:pathLst>
              <a:path w="268" h="284">
                <a:moveTo>
                  <a:pt x="195" y="80"/>
                </a:moveTo>
                <a:lnTo>
                  <a:pt x="205" y="88"/>
                </a:lnTo>
                <a:lnTo>
                  <a:pt x="213" y="94"/>
                </a:lnTo>
                <a:lnTo>
                  <a:pt x="220" y="102"/>
                </a:lnTo>
                <a:lnTo>
                  <a:pt x="228" y="107"/>
                </a:lnTo>
                <a:lnTo>
                  <a:pt x="234" y="115"/>
                </a:lnTo>
                <a:lnTo>
                  <a:pt x="240" y="121"/>
                </a:lnTo>
                <a:lnTo>
                  <a:pt x="245" y="128"/>
                </a:lnTo>
                <a:lnTo>
                  <a:pt x="249" y="134"/>
                </a:lnTo>
                <a:lnTo>
                  <a:pt x="255" y="142"/>
                </a:lnTo>
                <a:lnTo>
                  <a:pt x="259" y="148"/>
                </a:lnTo>
                <a:lnTo>
                  <a:pt x="261" y="155"/>
                </a:lnTo>
                <a:lnTo>
                  <a:pt x="265" y="161"/>
                </a:lnTo>
                <a:lnTo>
                  <a:pt x="266" y="169"/>
                </a:lnTo>
                <a:lnTo>
                  <a:pt x="266" y="175"/>
                </a:lnTo>
                <a:lnTo>
                  <a:pt x="268" y="182"/>
                </a:lnTo>
                <a:lnTo>
                  <a:pt x="268" y="188"/>
                </a:lnTo>
                <a:lnTo>
                  <a:pt x="268" y="201"/>
                </a:lnTo>
                <a:lnTo>
                  <a:pt x="268" y="213"/>
                </a:lnTo>
                <a:lnTo>
                  <a:pt x="268" y="224"/>
                </a:lnTo>
                <a:lnTo>
                  <a:pt x="266" y="234"/>
                </a:lnTo>
                <a:lnTo>
                  <a:pt x="265" y="242"/>
                </a:lnTo>
                <a:lnTo>
                  <a:pt x="263" y="249"/>
                </a:lnTo>
                <a:lnTo>
                  <a:pt x="261" y="255"/>
                </a:lnTo>
                <a:lnTo>
                  <a:pt x="257" y="261"/>
                </a:lnTo>
                <a:lnTo>
                  <a:pt x="253" y="265"/>
                </a:lnTo>
                <a:lnTo>
                  <a:pt x="249" y="269"/>
                </a:lnTo>
                <a:lnTo>
                  <a:pt x="247" y="274"/>
                </a:lnTo>
                <a:lnTo>
                  <a:pt x="243" y="276"/>
                </a:lnTo>
                <a:lnTo>
                  <a:pt x="242" y="280"/>
                </a:lnTo>
                <a:lnTo>
                  <a:pt x="240" y="282"/>
                </a:lnTo>
                <a:lnTo>
                  <a:pt x="236" y="284"/>
                </a:lnTo>
                <a:lnTo>
                  <a:pt x="232" y="284"/>
                </a:lnTo>
                <a:lnTo>
                  <a:pt x="230" y="284"/>
                </a:lnTo>
                <a:lnTo>
                  <a:pt x="226" y="282"/>
                </a:lnTo>
                <a:lnTo>
                  <a:pt x="220" y="280"/>
                </a:lnTo>
                <a:lnTo>
                  <a:pt x="217" y="276"/>
                </a:lnTo>
                <a:lnTo>
                  <a:pt x="211" y="271"/>
                </a:lnTo>
                <a:lnTo>
                  <a:pt x="203" y="265"/>
                </a:lnTo>
                <a:lnTo>
                  <a:pt x="195" y="259"/>
                </a:lnTo>
                <a:lnTo>
                  <a:pt x="188" y="249"/>
                </a:lnTo>
                <a:lnTo>
                  <a:pt x="178" y="242"/>
                </a:lnTo>
                <a:lnTo>
                  <a:pt x="169" y="232"/>
                </a:lnTo>
                <a:lnTo>
                  <a:pt x="159" y="221"/>
                </a:lnTo>
                <a:lnTo>
                  <a:pt x="147" y="209"/>
                </a:lnTo>
                <a:lnTo>
                  <a:pt x="136" y="196"/>
                </a:lnTo>
                <a:lnTo>
                  <a:pt x="124" y="182"/>
                </a:lnTo>
                <a:lnTo>
                  <a:pt x="111" y="169"/>
                </a:lnTo>
                <a:lnTo>
                  <a:pt x="99" y="153"/>
                </a:lnTo>
                <a:lnTo>
                  <a:pt x="86" y="136"/>
                </a:lnTo>
                <a:lnTo>
                  <a:pt x="73" y="123"/>
                </a:lnTo>
                <a:lnTo>
                  <a:pt x="61" y="109"/>
                </a:lnTo>
                <a:lnTo>
                  <a:pt x="51" y="96"/>
                </a:lnTo>
                <a:lnTo>
                  <a:pt x="42" y="84"/>
                </a:lnTo>
                <a:lnTo>
                  <a:pt x="32" y="73"/>
                </a:lnTo>
                <a:lnTo>
                  <a:pt x="25" y="63"/>
                </a:lnTo>
                <a:lnTo>
                  <a:pt x="19" y="54"/>
                </a:lnTo>
                <a:lnTo>
                  <a:pt x="13" y="46"/>
                </a:lnTo>
                <a:lnTo>
                  <a:pt x="7" y="38"/>
                </a:lnTo>
                <a:lnTo>
                  <a:pt x="4" y="31"/>
                </a:lnTo>
                <a:lnTo>
                  <a:pt x="2" y="25"/>
                </a:lnTo>
                <a:lnTo>
                  <a:pt x="0" y="19"/>
                </a:lnTo>
                <a:lnTo>
                  <a:pt x="0" y="15"/>
                </a:lnTo>
                <a:lnTo>
                  <a:pt x="0" y="11"/>
                </a:lnTo>
                <a:lnTo>
                  <a:pt x="2" y="9"/>
                </a:lnTo>
                <a:lnTo>
                  <a:pt x="5" y="6"/>
                </a:lnTo>
                <a:lnTo>
                  <a:pt x="13" y="2"/>
                </a:lnTo>
                <a:lnTo>
                  <a:pt x="21" y="0"/>
                </a:lnTo>
                <a:lnTo>
                  <a:pt x="28" y="0"/>
                </a:lnTo>
                <a:lnTo>
                  <a:pt x="38" y="0"/>
                </a:lnTo>
                <a:lnTo>
                  <a:pt x="50" y="2"/>
                </a:lnTo>
                <a:lnTo>
                  <a:pt x="61" y="6"/>
                </a:lnTo>
                <a:lnTo>
                  <a:pt x="75" y="9"/>
                </a:lnTo>
                <a:lnTo>
                  <a:pt x="88" y="13"/>
                </a:lnTo>
                <a:lnTo>
                  <a:pt x="103" y="21"/>
                </a:lnTo>
                <a:lnTo>
                  <a:pt x="119" y="27"/>
                </a:lnTo>
                <a:lnTo>
                  <a:pt x="134" y="36"/>
                </a:lnTo>
                <a:lnTo>
                  <a:pt x="151" y="46"/>
                </a:lnTo>
                <a:lnTo>
                  <a:pt x="167" y="56"/>
                </a:lnTo>
                <a:lnTo>
                  <a:pt x="182" y="67"/>
                </a:lnTo>
                <a:lnTo>
                  <a:pt x="195" y="8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186"/>
          <p:cNvSpPr/>
          <p:nvPr/>
        </p:nvSpPr>
        <p:spPr>
          <a:xfrm>
            <a:off x="6637320" y="2960640"/>
            <a:ext cx="530280" cy="1558800"/>
          </a:xfrm>
          <a:custGeom>
            <a:avLst/>
            <a:gdLst/>
            <a:ahLst/>
            <a:rect l="l" t="t" r="r" b="b"/>
            <a:pathLst>
              <a:path w="668" h="1966">
                <a:moveTo>
                  <a:pt x="376" y="1895"/>
                </a:moveTo>
                <a:lnTo>
                  <a:pt x="372" y="1883"/>
                </a:lnTo>
                <a:lnTo>
                  <a:pt x="368" y="1872"/>
                </a:lnTo>
                <a:lnTo>
                  <a:pt x="364" y="1862"/>
                </a:lnTo>
                <a:lnTo>
                  <a:pt x="360" y="1850"/>
                </a:lnTo>
                <a:lnTo>
                  <a:pt x="355" y="1841"/>
                </a:lnTo>
                <a:lnTo>
                  <a:pt x="347" y="1829"/>
                </a:lnTo>
                <a:lnTo>
                  <a:pt x="339" y="1820"/>
                </a:lnTo>
                <a:lnTo>
                  <a:pt x="332" y="1810"/>
                </a:lnTo>
                <a:lnTo>
                  <a:pt x="324" y="1801"/>
                </a:lnTo>
                <a:lnTo>
                  <a:pt x="316" y="1789"/>
                </a:lnTo>
                <a:lnTo>
                  <a:pt x="307" y="1779"/>
                </a:lnTo>
                <a:lnTo>
                  <a:pt x="297" y="1770"/>
                </a:lnTo>
                <a:lnTo>
                  <a:pt x="276" y="1749"/>
                </a:lnTo>
                <a:lnTo>
                  <a:pt x="253" y="1726"/>
                </a:lnTo>
                <a:lnTo>
                  <a:pt x="240" y="1716"/>
                </a:lnTo>
                <a:lnTo>
                  <a:pt x="228" y="1708"/>
                </a:lnTo>
                <a:lnTo>
                  <a:pt x="216" y="1701"/>
                </a:lnTo>
                <a:lnTo>
                  <a:pt x="205" y="1691"/>
                </a:lnTo>
                <a:lnTo>
                  <a:pt x="195" y="1683"/>
                </a:lnTo>
                <a:lnTo>
                  <a:pt x="188" y="1678"/>
                </a:lnTo>
                <a:lnTo>
                  <a:pt x="180" y="1670"/>
                </a:lnTo>
                <a:lnTo>
                  <a:pt x="172" y="1664"/>
                </a:lnTo>
                <a:lnTo>
                  <a:pt x="165" y="1659"/>
                </a:lnTo>
                <a:lnTo>
                  <a:pt x="161" y="1653"/>
                </a:lnTo>
                <a:lnTo>
                  <a:pt x="155" y="1647"/>
                </a:lnTo>
                <a:lnTo>
                  <a:pt x="151" y="1643"/>
                </a:lnTo>
                <a:lnTo>
                  <a:pt x="149" y="1639"/>
                </a:lnTo>
                <a:lnTo>
                  <a:pt x="145" y="1635"/>
                </a:lnTo>
                <a:lnTo>
                  <a:pt x="145" y="1632"/>
                </a:lnTo>
                <a:lnTo>
                  <a:pt x="145" y="1630"/>
                </a:lnTo>
                <a:lnTo>
                  <a:pt x="145" y="1628"/>
                </a:lnTo>
                <a:lnTo>
                  <a:pt x="145" y="1626"/>
                </a:lnTo>
                <a:lnTo>
                  <a:pt x="149" y="1624"/>
                </a:lnTo>
                <a:lnTo>
                  <a:pt x="151" y="1624"/>
                </a:lnTo>
                <a:lnTo>
                  <a:pt x="155" y="1622"/>
                </a:lnTo>
                <a:lnTo>
                  <a:pt x="161" y="1622"/>
                </a:lnTo>
                <a:lnTo>
                  <a:pt x="165" y="1620"/>
                </a:lnTo>
                <a:lnTo>
                  <a:pt x="172" y="1620"/>
                </a:lnTo>
                <a:lnTo>
                  <a:pt x="180" y="1620"/>
                </a:lnTo>
                <a:lnTo>
                  <a:pt x="188" y="1622"/>
                </a:lnTo>
                <a:lnTo>
                  <a:pt x="195" y="1622"/>
                </a:lnTo>
                <a:lnTo>
                  <a:pt x="205" y="1624"/>
                </a:lnTo>
                <a:lnTo>
                  <a:pt x="216" y="1624"/>
                </a:lnTo>
                <a:lnTo>
                  <a:pt x="228" y="1626"/>
                </a:lnTo>
                <a:lnTo>
                  <a:pt x="240" y="1628"/>
                </a:lnTo>
                <a:lnTo>
                  <a:pt x="253" y="1630"/>
                </a:lnTo>
                <a:lnTo>
                  <a:pt x="264" y="1634"/>
                </a:lnTo>
                <a:lnTo>
                  <a:pt x="276" y="1637"/>
                </a:lnTo>
                <a:lnTo>
                  <a:pt x="286" y="1641"/>
                </a:lnTo>
                <a:lnTo>
                  <a:pt x="297" y="1643"/>
                </a:lnTo>
                <a:lnTo>
                  <a:pt x="307" y="1645"/>
                </a:lnTo>
                <a:lnTo>
                  <a:pt x="316" y="1647"/>
                </a:lnTo>
                <a:lnTo>
                  <a:pt x="326" y="1647"/>
                </a:lnTo>
                <a:lnTo>
                  <a:pt x="334" y="1649"/>
                </a:lnTo>
                <a:lnTo>
                  <a:pt x="343" y="1647"/>
                </a:lnTo>
                <a:lnTo>
                  <a:pt x="351" y="1647"/>
                </a:lnTo>
                <a:lnTo>
                  <a:pt x="359" y="1645"/>
                </a:lnTo>
                <a:lnTo>
                  <a:pt x="364" y="1643"/>
                </a:lnTo>
                <a:lnTo>
                  <a:pt x="372" y="1641"/>
                </a:lnTo>
                <a:lnTo>
                  <a:pt x="378" y="1637"/>
                </a:lnTo>
                <a:lnTo>
                  <a:pt x="383" y="1634"/>
                </a:lnTo>
                <a:lnTo>
                  <a:pt x="387" y="1630"/>
                </a:lnTo>
                <a:lnTo>
                  <a:pt x="389" y="1628"/>
                </a:lnTo>
                <a:lnTo>
                  <a:pt x="391" y="1626"/>
                </a:lnTo>
                <a:lnTo>
                  <a:pt x="395" y="1624"/>
                </a:lnTo>
                <a:lnTo>
                  <a:pt x="397" y="1620"/>
                </a:lnTo>
                <a:lnTo>
                  <a:pt x="399" y="1616"/>
                </a:lnTo>
                <a:lnTo>
                  <a:pt x="401" y="1611"/>
                </a:lnTo>
                <a:lnTo>
                  <a:pt x="403" y="1605"/>
                </a:lnTo>
                <a:lnTo>
                  <a:pt x="405" y="1599"/>
                </a:lnTo>
                <a:lnTo>
                  <a:pt x="407" y="1591"/>
                </a:lnTo>
                <a:lnTo>
                  <a:pt x="410" y="1584"/>
                </a:lnTo>
                <a:lnTo>
                  <a:pt x="412" y="1574"/>
                </a:lnTo>
                <a:lnTo>
                  <a:pt x="414" y="1566"/>
                </a:lnTo>
                <a:lnTo>
                  <a:pt x="416" y="1555"/>
                </a:lnTo>
                <a:lnTo>
                  <a:pt x="418" y="1545"/>
                </a:lnTo>
                <a:lnTo>
                  <a:pt x="420" y="1534"/>
                </a:lnTo>
                <a:lnTo>
                  <a:pt x="422" y="1522"/>
                </a:lnTo>
                <a:lnTo>
                  <a:pt x="424" y="1509"/>
                </a:lnTo>
                <a:lnTo>
                  <a:pt x="426" y="1495"/>
                </a:lnTo>
                <a:lnTo>
                  <a:pt x="428" y="1482"/>
                </a:lnTo>
                <a:lnTo>
                  <a:pt x="430" y="1467"/>
                </a:lnTo>
                <a:lnTo>
                  <a:pt x="431" y="1451"/>
                </a:lnTo>
                <a:lnTo>
                  <a:pt x="433" y="1436"/>
                </a:lnTo>
                <a:lnTo>
                  <a:pt x="435" y="1419"/>
                </a:lnTo>
                <a:lnTo>
                  <a:pt x="437" y="1401"/>
                </a:lnTo>
                <a:lnTo>
                  <a:pt x="439" y="1382"/>
                </a:lnTo>
                <a:lnTo>
                  <a:pt x="439" y="1363"/>
                </a:lnTo>
                <a:lnTo>
                  <a:pt x="441" y="1344"/>
                </a:lnTo>
                <a:lnTo>
                  <a:pt x="443" y="1323"/>
                </a:lnTo>
                <a:lnTo>
                  <a:pt x="445" y="1301"/>
                </a:lnTo>
                <a:lnTo>
                  <a:pt x="445" y="1280"/>
                </a:lnTo>
                <a:lnTo>
                  <a:pt x="447" y="1257"/>
                </a:lnTo>
                <a:lnTo>
                  <a:pt x="449" y="1234"/>
                </a:lnTo>
                <a:lnTo>
                  <a:pt x="451" y="1190"/>
                </a:lnTo>
                <a:lnTo>
                  <a:pt x="453" y="1146"/>
                </a:lnTo>
                <a:lnTo>
                  <a:pt x="453" y="1102"/>
                </a:lnTo>
                <a:lnTo>
                  <a:pt x="454" y="1060"/>
                </a:lnTo>
                <a:lnTo>
                  <a:pt x="456" y="1017"/>
                </a:lnTo>
                <a:lnTo>
                  <a:pt x="456" y="975"/>
                </a:lnTo>
                <a:lnTo>
                  <a:pt x="458" y="933"/>
                </a:lnTo>
                <a:lnTo>
                  <a:pt x="458" y="893"/>
                </a:lnTo>
                <a:lnTo>
                  <a:pt x="458" y="852"/>
                </a:lnTo>
                <a:lnTo>
                  <a:pt x="458" y="812"/>
                </a:lnTo>
                <a:lnTo>
                  <a:pt x="460" y="774"/>
                </a:lnTo>
                <a:lnTo>
                  <a:pt x="460" y="735"/>
                </a:lnTo>
                <a:lnTo>
                  <a:pt x="460" y="697"/>
                </a:lnTo>
                <a:lnTo>
                  <a:pt x="460" y="660"/>
                </a:lnTo>
                <a:lnTo>
                  <a:pt x="460" y="624"/>
                </a:lnTo>
                <a:lnTo>
                  <a:pt x="460" y="587"/>
                </a:lnTo>
                <a:lnTo>
                  <a:pt x="460" y="551"/>
                </a:lnTo>
                <a:lnTo>
                  <a:pt x="460" y="518"/>
                </a:lnTo>
                <a:lnTo>
                  <a:pt x="460" y="486"/>
                </a:lnTo>
                <a:lnTo>
                  <a:pt x="460" y="457"/>
                </a:lnTo>
                <a:lnTo>
                  <a:pt x="460" y="428"/>
                </a:lnTo>
                <a:lnTo>
                  <a:pt x="458" y="401"/>
                </a:lnTo>
                <a:lnTo>
                  <a:pt x="458" y="376"/>
                </a:lnTo>
                <a:lnTo>
                  <a:pt x="458" y="353"/>
                </a:lnTo>
                <a:lnTo>
                  <a:pt x="458" y="332"/>
                </a:lnTo>
                <a:lnTo>
                  <a:pt x="456" y="311"/>
                </a:lnTo>
                <a:lnTo>
                  <a:pt x="456" y="294"/>
                </a:lnTo>
                <a:lnTo>
                  <a:pt x="454" y="276"/>
                </a:lnTo>
                <a:lnTo>
                  <a:pt x="453" y="261"/>
                </a:lnTo>
                <a:lnTo>
                  <a:pt x="453" y="248"/>
                </a:lnTo>
                <a:lnTo>
                  <a:pt x="451" y="236"/>
                </a:lnTo>
                <a:lnTo>
                  <a:pt x="449" y="227"/>
                </a:lnTo>
                <a:lnTo>
                  <a:pt x="443" y="215"/>
                </a:lnTo>
                <a:lnTo>
                  <a:pt x="439" y="202"/>
                </a:lnTo>
                <a:lnTo>
                  <a:pt x="433" y="192"/>
                </a:lnTo>
                <a:lnTo>
                  <a:pt x="428" y="184"/>
                </a:lnTo>
                <a:lnTo>
                  <a:pt x="422" y="177"/>
                </a:lnTo>
                <a:lnTo>
                  <a:pt x="420" y="173"/>
                </a:lnTo>
                <a:lnTo>
                  <a:pt x="416" y="171"/>
                </a:lnTo>
                <a:lnTo>
                  <a:pt x="412" y="169"/>
                </a:lnTo>
                <a:lnTo>
                  <a:pt x="408" y="169"/>
                </a:lnTo>
                <a:lnTo>
                  <a:pt x="405" y="167"/>
                </a:lnTo>
                <a:lnTo>
                  <a:pt x="399" y="167"/>
                </a:lnTo>
                <a:lnTo>
                  <a:pt x="385" y="167"/>
                </a:lnTo>
                <a:lnTo>
                  <a:pt x="370" y="169"/>
                </a:lnTo>
                <a:lnTo>
                  <a:pt x="353" y="173"/>
                </a:lnTo>
                <a:lnTo>
                  <a:pt x="335" y="177"/>
                </a:lnTo>
                <a:lnTo>
                  <a:pt x="316" y="181"/>
                </a:lnTo>
                <a:lnTo>
                  <a:pt x="297" y="186"/>
                </a:lnTo>
                <a:lnTo>
                  <a:pt x="276" y="194"/>
                </a:lnTo>
                <a:lnTo>
                  <a:pt x="253" y="204"/>
                </a:lnTo>
                <a:lnTo>
                  <a:pt x="241" y="209"/>
                </a:lnTo>
                <a:lnTo>
                  <a:pt x="232" y="215"/>
                </a:lnTo>
                <a:lnTo>
                  <a:pt x="220" y="221"/>
                </a:lnTo>
                <a:lnTo>
                  <a:pt x="211" y="227"/>
                </a:lnTo>
                <a:lnTo>
                  <a:pt x="201" y="230"/>
                </a:lnTo>
                <a:lnTo>
                  <a:pt x="192" y="234"/>
                </a:lnTo>
                <a:lnTo>
                  <a:pt x="182" y="236"/>
                </a:lnTo>
                <a:lnTo>
                  <a:pt x="174" y="240"/>
                </a:lnTo>
                <a:lnTo>
                  <a:pt x="165" y="242"/>
                </a:lnTo>
                <a:lnTo>
                  <a:pt x="157" y="242"/>
                </a:lnTo>
                <a:lnTo>
                  <a:pt x="149" y="244"/>
                </a:lnTo>
                <a:lnTo>
                  <a:pt x="144" y="244"/>
                </a:lnTo>
                <a:lnTo>
                  <a:pt x="136" y="244"/>
                </a:lnTo>
                <a:lnTo>
                  <a:pt x="130" y="242"/>
                </a:lnTo>
                <a:lnTo>
                  <a:pt x="124" y="242"/>
                </a:lnTo>
                <a:lnTo>
                  <a:pt x="121" y="240"/>
                </a:lnTo>
                <a:lnTo>
                  <a:pt x="115" y="238"/>
                </a:lnTo>
                <a:lnTo>
                  <a:pt x="111" y="238"/>
                </a:lnTo>
                <a:lnTo>
                  <a:pt x="105" y="236"/>
                </a:lnTo>
                <a:lnTo>
                  <a:pt x="99" y="232"/>
                </a:lnTo>
                <a:lnTo>
                  <a:pt x="94" y="229"/>
                </a:lnTo>
                <a:lnTo>
                  <a:pt x="88" y="225"/>
                </a:lnTo>
                <a:lnTo>
                  <a:pt x="80" y="219"/>
                </a:lnTo>
                <a:lnTo>
                  <a:pt x="73" y="213"/>
                </a:lnTo>
                <a:lnTo>
                  <a:pt x="65" y="207"/>
                </a:lnTo>
                <a:lnTo>
                  <a:pt x="57" y="200"/>
                </a:lnTo>
                <a:lnTo>
                  <a:pt x="50" y="192"/>
                </a:lnTo>
                <a:lnTo>
                  <a:pt x="40" y="184"/>
                </a:lnTo>
                <a:lnTo>
                  <a:pt x="30" y="175"/>
                </a:lnTo>
                <a:lnTo>
                  <a:pt x="21" y="165"/>
                </a:lnTo>
                <a:lnTo>
                  <a:pt x="9" y="154"/>
                </a:lnTo>
                <a:lnTo>
                  <a:pt x="0" y="144"/>
                </a:lnTo>
                <a:lnTo>
                  <a:pt x="40" y="138"/>
                </a:lnTo>
                <a:lnTo>
                  <a:pt x="78" y="133"/>
                </a:lnTo>
                <a:lnTo>
                  <a:pt x="117" y="127"/>
                </a:lnTo>
                <a:lnTo>
                  <a:pt x="151" y="119"/>
                </a:lnTo>
                <a:lnTo>
                  <a:pt x="186" y="113"/>
                </a:lnTo>
                <a:lnTo>
                  <a:pt x="203" y="110"/>
                </a:lnTo>
                <a:lnTo>
                  <a:pt x="218" y="106"/>
                </a:lnTo>
                <a:lnTo>
                  <a:pt x="234" y="104"/>
                </a:lnTo>
                <a:lnTo>
                  <a:pt x="249" y="100"/>
                </a:lnTo>
                <a:lnTo>
                  <a:pt x="264" y="98"/>
                </a:lnTo>
                <a:lnTo>
                  <a:pt x="278" y="96"/>
                </a:lnTo>
                <a:lnTo>
                  <a:pt x="301" y="90"/>
                </a:lnTo>
                <a:lnTo>
                  <a:pt x="320" y="85"/>
                </a:lnTo>
                <a:lnTo>
                  <a:pt x="341" y="77"/>
                </a:lnTo>
                <a:lnTo>
                  <a:pt x="359" y="69"/>
                </a:lnTo>
                <a:lnTo>
                  <a:pt x="374" y="62"/>
                </a:lnTo>
                <a:lnTo>
                  <a:pt x="382" y="58"/>
                </a:lnTo>
                <a:lnTo>
                  <a:pt x="389" y="54"/>
                </a:lnTo>
                <a:lnTo>
                  <a:pt x="395" y="48"/>
                </a:lnTo>
                <a:lnTo>
                  <a:pt x="401" y="44"/>
                </a:lnTo>
                <a:lnTo>
                  <a:pt x="407" y="40"/>
                </a:lnTo>
                <a:lnTo>
                  <a:pt x="412" y="35"/>
                </a:lnTo>
                <a:lnTo>
                  <a:pt x="420" y="27"/>
                </a:lnTo>
                <a:lnTo>
                  <a:pt x="430" y="19"/>
                </a:lnTo>
                <a:lnTo>
                  <a:pt x="439" y="14"/>
                </a:lnTo>
                <a:lnTo>
                  <a:pt x="447" y="8"/>
                </a:lnTo>
                <a:lnTo>
                  <a:pt x="456" y="4"/>
                </a:lnTo>
                <a:lnTo>
                  <a:pt x="466" y="2"/>
                </a:lnTo>
                <a:lnTo>
                  <a:pt x="476" y="0"/>
                </a:lnTo>
                <a:lnTo>
                  <a:pt x="485" y="0"/>
                </a:lnTo>
                <a:lnTo>
                  <a:pt x="487" y="2"/>
                </a:lnTo>
                <a:lnTo>
                  <a:pt x="489" y="4"/>
                </a:lnTo>
                <a:lnTo>
                  <a:pt x="493" y="6"/>
                </a:lnTo>
                <a:lnTo>
                  <a:pt x="499" y="8"/>
                </a:lnTo>
                <a:lnTo>
                  <a:pt x="502" y="12"/>
                </a:lnTo>
                <a:lnTo>
                  <a:pt x="508" y="14"/>
                </a:lnTo>
                <a:lnTo>
                  <a:pt x="514" y="17"/>
                </a:lnTo>
                <a:lnTo>
                  <a:pt x="522" y="19"/>
                </a:lnTo>
                <a:lnTo>
                  <a:pt x="527" y="23"/>
                </a:lnTo>
                <a:lnTo>
                  <a:pt x="535" y="27"/>
                </a:lnTo>
                <a:lnTo>
                  <a:pt x="545" y="31"/>
                </a:lnTo>
                <a:lnTo>
                  <a:pt x="552" y="37"/>
                </a:lnTo>
                <a:lnTo>
                  <a:pt x="562" y="40"/>
                </a:lnTo>
                <a:lnTo>
                  <a:pt x="572" y="46"/>
                </a:lnTo>
                <a:lnTo>
                  <a:pt x="583" y="52"/>
                </a:lnTo>
                <a:lnTo>
                  <a:pt x="595" y="60"/>
                </a:lnTo>
                <a:lnTo>
                  <a:pt x="602" y="65"/>
                </a:lnTo>
                <a:lnTo>
                  <a:pt x="610" y="73"/>
                </a:lnTo>
                <a:lnTo>
                  <a:pt x="618" y="79"/>
                </a:lnTo>
                <a:lnTo>
                  <a:pt x="625" y="85"/>
                </a:lnTo>
                <a:lnTo>
                  <a:pt x="631" y="90"/>
                </a:lnTo>
                <a:lnTo>
                  <a:pt x="639" y="94"/>
                </a:lnTo>
                <a:lnTo>
                  <a:pt x="643" y="100"/>
                </a:lnTo>
                <a:lnTo>
                  <a:pt x="648" y="104"/>
                </a:lnTo>
                <a:lnTo>
                  <a:pt x="652" y="110"/>
                </a:lnTo>
                <a:lnTo>
                  <a:pt x="656" y="113"/>
                </a:lnTo>
                <a:lnTo>
                  <a:pt x="660" y="117"/>
                </a:lnTo>
                <a:lnTo>
                  <a:pt x="662" y="119"/>
                </a:lnTo>
                <a:lnTo>
                  <a:pt x="664" y="123"/>
                </a:lnTo>
                <a:lnTo>
                  <a:pt x="666" y="127"/>
                </a:lnTo>
                <a:lnTo>
                  <a:pt x="666" y="129"/>
                </a:lnTo>
                <a:lnTo>
                  <a:pt x="668" y="131"/>
                </a:lnTo>
                <a:lnTo>
                  <a:pt x="666" y="136"/>
                </a:lnTo>
                <a:lnTo>
                  <a:pt x="664" y="142"/>
                </a:lnTo>
                <a:lnTo>
                  <a:pt x="662" y="150"/>
                </a:lnTo>
                <a:lnTo>
                  <a:pt x="658" y="157"/>
                </a:lnTo>
                <a:lnTo>
                  <a:pt x="656" y="165"/>
                </a:lnTo>
                <a:lnTo>
                  <a:pt x="650" y="173"/>
                </a:lnTo>
                <a:lnTo>
                  <a:pt x="643" y="192"/>
                </a:lnTo>
                <a:lnTo>
                  <a:pt x="633" y="205"/>
                </a:lnTo>
                <a:lnTo>
                  <a:pt x="625" y="219"/>
                </a:lnTo>
                <a:lnTo>
                  <a:pt x="620" y="232"/>
                </a:lnTo>
                <a:lnTo>
                  <a:pt x="614" y="248"/>
                </a:lnTo>
                <a:lnTo>
                  <a:pt x="608" y="265"/>
                </a:lnTo>
                <a:lnTo>
                  <a:pt x="602" y="282"/>
                </a:lnTo>
                <a:lnTo>
                  <a:pt x="600" y="292"/>
                </a:lnTo>
                <a:lnTo>
                  <a:pt x="598" y="301"/>
                </a:lnTo>
                <a:lnTo>
                  <a:pt x="597" y="313"/>
                </a:lnTo>
                <a:lnTo>
                  <a:pt x="595" y="323"/>
                </a:lnTo>
                <a:lnTo>
                  <a:pt x="593" y="328"/>
                </a:lnTo>
                <a:lnTo>
                  <a:pt x="591" y="336"/>
                </a:lnTo>
                <a:lnTo>
                  <a:pt x="591" y="344"/>
                </a:lnTo>
                <a:lnTo>
                  <a:pt x="589" y="353"/>
                </a:lnTo>
                <a:lnTo>
                  <a:pt x="589" y="363"/>
                </a:lnTo>
                <a:lnTo>
                  <a:pt x="589" y="374"/>
                </a:lnTo>
                <a:lnTo>
                  <a:pt x="587" y="386"/>
                </a:lnTo>
                <a:lnTo>
                  <a:pt x="587" y="399"/>
                </a:lnTo>
                <a:lnTo>
                  <a:pt x="587" y="413"/>
                </a:lnTo>
                <a:lnTo>
                  <a:pt x="585" y="428"/>
                </a:lnTo>
                <a:lnTo>
                  <a:pt x="585" y="443"/>
                </a:lnTo>
                <a:lnTo>
                  <a:pt x="585" y="461"/>
                </a:lnTo>
                <a:lnTo>
                  <a:pt x="583" y="478"/>
                </a:lnTo>
                <a:lnTo>
                  <a:pt x="583" y="497"/>
                </a:lnTo>
                <a:lnTo>
                  <a:pt x="583" y="516"/>
                </a:lnTo>
                <a:lnTo>
                  <a:pt x="583" y="538"/>
                </a:lnTo>
                <a:lnTo>
                  <a:pt x="583" y="559"/>
                </a:lnTo>
                <a:lnTo>
                  <a:pt x="583" y="582"/>
                </a:lnTo>
                <a:lnTo>
                  <a:pt x="583" y="605"/>
                </a:lnTo>
                <a:lnTo>
                  <a:pt x="581" y="630"/>
                </a:lnTo>
                <a:lnTo>
                  <a:pt x="581" y="655"/>
                </a:lnTo>
                <a:lnTo>
                  <a:pt x="581" y="682"/>
                </a:lnTo>
                <a:lnTo>
                  <a:pt x="581" y="708"/>
                </a:lnTo>
                <a:lnTo>
                  <a:pt x="581" y="735"/>
                </a:lnTo>
                <a:lnTo>
                  <a:pt x="581" y="766"/>
                </a:lnTo>
                <a:lnTo>
                  <a:pt x="581" y="795"/>
                </a:lnTo>
                <a:lnTo>
                  <a:pt x="581" y="825"/>
                </a:lnTo>
                <a:lnTo>
                  <a:pt x="581" y="858"/>
                </a:lnTo>
                <a:lnTo>
                  <a:pt x="581" y="891"/>
                </a:lnTo>
                <a:lnTo>
                  <a:pt x="581" y="925"/>
                </a:lnTo>
                <a:lnTo>
                  <a:pt x="581" y="960"/>
                </a:lnTo>
                <a:lnTo>
                  <a:pt x="581" y="994"/>
                </a:lnTo>
                <a:lnTo>
                  <a:pt x="579" y="1031"/>
                </a:lnTo>
                <a:lnTo>
                  <a:pt x="579" y="1067"/>
                </a:lnTo>
                <a:lnTo>
                  <a:pt x="577" y="1102"/>
                </a:lnTo>
                <a:lnTo>
                  <a:pt x="577" y="1134"/>
                </a:lnTo>
                <a:lnTo>
                  <a:pt x="577" y="1167"/>
                </a:lnTo>
                <a:lnTo>
                  <a:pt x="575" y="1200"/>
                </a:lnTo>
                <a:lnTo>
                  <a:pt x="575" y="1230"/>
                </a:lnTo>
                <a:lnTo>
                  <a:pt x="574" y="1259"/>
                </a:lnTo>
                <a:lnTo>
                  <a:pt x="574" y="1288"/>
                </a:lnTo>
                <a:lnTo>
                  <a:pt x="574" y="1317"/>
                </a:lnTo>
                <a:lnTo>
                  <a:pt x="572" y="1344"/>
                </a:lnTo>
                <a:lnTo>
                  <a:pt x="572" y="1371"/>
                </a:lnTo>
                <a:lnTo>
                  <a:pt x="572" y="1396"/>
                </a:lnTo>
                <a:lnTo>
                  <a:pt x="570" y="1419"/>
                </a:lnTo>
                <a:lnTo>
                  <a:pt x="570" y="1442"/>
                </a:lnTo>
                <a:lnTo>
                  <a:pt x="570" y="1465"/>
                </a:lnTo>
                <a:lnTo>
                  <a:pt x="570" y="1486"/>
                </a:lnTo>
                <a:lnTo>
                  <a:pt x="568" y="1507"/>
                </a:lnTo>
                <a:lnTo>
                  <a:pt x="568" y="1526"/>
                </a:lnTo>
                <a:lnTo>
                  <a:pt x="568" y="1545"/>
                </a:lnTo>
                <a:lnTo>
                  <a:pt x="566" y="1563"/>
                </a:lnTo>
                <a:lnTo>
                  <a:pt x="566" y="1580"/>
                </a:lnTo>
                <a:lnTo>
                  <a:pt x="566" y="1597"/>
                </a:lnTo>
                <a:lnTo>
                  <a:pt x="564" y="1611"/>
                </a:lnTo>
                <a:lnTo>
                  <a:pt x="564" y="1626"/>
                </a:lnTo>
                <a:lnTo>
                  <a:pt x="562" y="1639"/>
                </a:lnTo>
                <a:lnTo>
                  <a:pt x="562" y="1651"/>
                </a:lnTo>
                <a:lnTo>
                  <a:pt x="562" y="1664"/>
                </a:lnTo>
                <a:lnTo>
                  <a:pt x="560" y="1674"/>
                </a:lnTo>
                <a:lnTo>
                  <a:pt x="560" y="1683"/>
                </a:lnTo>
                <a:lnTo>
                  <a:pt x="558" y="1693"/>
                </a:lnTo>
                <a:lnTo>
                  <a:pt x="558" y="1703"/>
                </a:lnTo>
                <a:lnTo>
                  <a:pt x="554" y="1718"/>
                </a:lnTo>
                <a:lnTo>
                  <a:pt x="552" y="1731"/>
                </a:lnTo>
                <a:lnTo>
                  <a:pt x="550" y="1747"/>
                </a:lnTo>
                <a:lnTo>
                  <a:pt x="549" y="1760"/>
                </a:lnTo>
                <a:lnTo>
                  <a:pt x="545" y="1774"/>
                </a:lnTo>
                <a:lnTo>
                  <a:pt x="543" y="1787"/>
                </a:lnTo>
                <a:lnTo>
                  <a:pt x="535" y="1810"/>
                </a:lnTo>
                <a:lnTo>
                  <a:pt x="527" y="1833"/>
                </a:lnTo>
                <a:lnTo>
                  <a:pt x="520" y="1854"/>
                </a:lnTo>
                <a:lnTo>
                  <a:pt x="508" y="1875"/>
                </a:lnTo>
                <a:lnTo>
                  <a:pt x="502" y="1885"/>
                </a:lnTo>
                <a:lnTo>
                  <a:pt x="497" y="1895"/>
                </a:lnTo>
                <a:lnTo>
                  <a:pt x="489" y="1902"/>
                </a:lnTo>
                <a:lnTo>
                  <a:pt x="483" y="1910"/>
                </a:lnTo>
                <a:lnTo>
                  <a:pt x="478" y="1918"/>
                </a:lnTo>
                <a:lnTo>
                  <a:pt x="472" y="1925"/>
                </a:lnTo>
                <a:lnTo>
                  <a:pt x="466" y="1931"/>
                </a:lnTo>
                <a:lnTo>
                  <a:pt x="460" y="1937"/>
                </a:lnTo>
                <a:lnTo>
                  <a:pt x="456" y="1943"/>
                </a:lnTo>
                <a:lnTo>
                  <a:pt x="451" y="1948"/>
                </a:lnTo>
                <a:lnTo>
                  <a:pt x="447" y="1952"/>
                </a:lnTo>
                <a:lnTo>
                  <a:pt x="443" y="1956"/>
                </a:lnTo>
                <a:lnTo>
                  <a:pt x="439" y="1958"/>
                </a:lnTo>
                <a:lnTo>
                  <a:pt x="435" y="1962"/>
                </a:lnTo>
                <a:lnTo>
                  <a:pt x="431" y="1964"/>
                </a:lnTo>
                <a:lnTo>
                  <a:pt x="430" y="1964"/>
                </a:lnTo>
                <a:lnTo>
                  <a:pt x="426" y="1966"/>
                </a:lnTo>
                <a:lnTo>
                  <a:pt x="424" y="1966"/>
                </a:lnTo>
                <a:lnTo>
                  <a:pt x="422" y="1966"/>
                </a:lnTo>
                <a:lnTo>
                  <a:pt x="418" y="1964"/>
                </a:lnTo>
                <a:lnTo>
                  <a:pt x="416" y="1964"/>
                </a:lnTo>
                <a:lnTo>
                  <a:pt x="412" y="1962"/>
                </a:lnTo>
                <a:lnTo>
                  <a:pt x="408" y="1958"/>
                </a:lnTo>
                <a:lnTo>
                  <a:pt x="407" y="1956"/>
                </a:lnTo>
                <a:lnTo>
                  <a:pt x="403" y="1952"/>
                </a:lnTo>
                <a:lnTo>
                  <a:pt x="399" y="1948"/>
                </a:lnTo>
                <a:lnTo>
                  <a:pt x="395" y="1943"/>
                </a:lnTo>
                <a:lnTo>
                  <a:pt x="393" y="1937"/>
                </a:lnTo>
                <a:lnTo>
                  <a:pt x="389" y="1931"/>
                </a:lnTo>
                <a:lnTo>
                  <a:pt x="385" y="1925"/>
                </a:lnTo>
                <a:lnTo>
                  <a:pt x="383" y="1918"/>
                </a:lnTo>
                <a:lnTo>
                  <a:pt x="380" y="1910"/>
                </a:lnTo>
                <a:lnTo>
                  <a:pt x="378" y="1902"/>
                </a:lnTo>
                <a:lnTo>
                  <a:pt x="376" y="189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187"/>
          <p:cNvSpPr/>
          <p:nvPr/>
        </p:nvSpPr>
        <p:spPr>
          <a:xfrm>
            <a:off x="6100920" y="3770280"/>
            <a:ext cx="169560" cy="932040"/>
          </a:xfrm>
          <a:custGeom>
            <a:avLst/>
            <a:gdLst/>
            <a:ahLst/>
            <a:rect l="l" t="t" r="r" b="b"/>
            <a:pathLst>
              <a:path w="213" h="1173">
                <a:moveTo>
                  <a:pt x="8" y="10"/>
                </a:moveTo>
                <a:lnTo>
                  <a:pt x="10" y="8"/>
                </a:lnTo>
                <a:lnTo>
                  <a:pt x="13" y="6"/>
                </a:lnTo>
                <a:lnTo>
                  <a:pt x="17" y="4"/>
                </a:lnTo>
                <a:lnTo>
                  <a:pt x="23" y="2"/>
                </a:lnTo>
                <a:lnTo>
                  <a:pt x="29" y="2"/>
                </a:lnTo>
                <a:lnTo>
                  <a:pt x="35" y="0"/>
                </a:lnTo>
                <a:lnTo>
                  <a:pt x="42" y="0"/>
                </a:lnTo>
                <a:lnTo>
                  <a:pt x="50" y="0"/>
                </a:lnTo>
                <a:lnTo>
                  <a:pt x="58" y="0"/>
                </a:lnTo>
                <a:lnTo>
                  <a:pt x="67" y="0"/>
                </a:lnTo>
                <a:lnTo>
                  <a:pt x="77" y="2"/>
                </a:lnTo>
                <a:lnTo>
                  <a:pt x="86" y="2"/>
                </a:lnTo>
                <a:lnTo>
                  <a:pt x="106" y="6"/>
                </a:lnTo>
                <a:lnTo>
                  <a:pt x="129" y="10"/>
                </a:lnTo>
                <a:lnTo>
                  <a:pt x="140" y="14"/>
                </a:lnTo>
                <a:lnTo>
                  <a:pt x="150" y="19"/>
                </a:lnTo>
                <a:lnTo>
                  <a:pt x="159" y="23"/>
                </a:lnTo>
                <a:lnTo>
                  <a:pt x="167" y="27"/>
                </a:lnTo>
                <a:lnTo>
                  <a:pt x="175" y="33"/>
                </a:lnTo>
                <a:lnTo>
                  <a:pt x="182" y="37"/>
                </a:lnTo>
                <a:lnTo>
                  <a:pt x="188" y="41"/>
                </a:lnTo>
                <a:lnTo>
                  <a:pt x="194" y="46"/>
                </a:lnTo>
                <a:lnTo>
                  <a:pt x="198" y="50"/>
                </a:lnTo>
                <a:lnTo>
                  <a:pt x="203" y="54"/>
                </a:lnTo>
                <a:lnTo>
                  <a:pt x="205" y="60"/>
                </a:lnTo>
                <a:lnTo>
                  <a:pt x="209" y="64"/>
                </a:lnTo>
                <a:lnTo>
                  <a:pt x="211" y="67"/>
                </a:lnTo>
                <a:lnTo>
                  <a:pt x="213" y="73"/>
                </a:lnTo>
                <a:lnTo>
                  <a:pt x="213" y="77"/>
                </a:lnTo>
                <a:lnTo>
                  <a:pt x="213" y="81"/>
                </a:lnTo>
                <a:lnTo>
                  <a:pt x="213" y="89"/>
                </a:lnTo>
                <a:lnTo>
                  <a:pt x="213" y="96"/>
                </a:lnTo>
                <a:lnTo>
                  <a:pt x="213" y="106"/>
                </a:lnTo>
                <a:lnTo>
                  <a:pt x="213" y="115"/>
                </a:lnTo>
                <a:lnTo>
                  <a:pt x="213" y="125"/>
                </a:lnTo>
                <a:lnTo>
                  <a:pt x="213" y="137"/>
                </a:lnTo>
                <a:lnTo>
                  <a:pt x="213" y="150"/>
                </a:lnTo>
                <a:lnTo>
                  <a:pt x="211" y="161"/>
                </a:lnTo>
                <a:lnTo>
                  <a:pt x="211" y="177"/>
                </a:lnTo>
                <a:lnTo>
                  <a:pt x="211" y="190"/>
                </a:lnTo>
                <a:lnTo>
                  <a:pt x="209" y="206"/>
                </a:lnTo>
                <a:lnTo>
                  <a:pt x="209" y="223"/>
                </a:lnTo>
                <a:lnTo>
                  <a:pt x="207" y="240"/>
                </a:lnTo>
                <a:lnTo>
                  <a:pt x="205" y="257"/>
                </a:lnTo>
                <a:lnTo>
                  <a:pt x="203" y="277"/>
                </a:lnTo>
                <a:lnTo>
                  <a:pt x="202" y="298"/>
                </a:lnTo>
                <a:lnTo>
                  <a:pt x="200" y="317"/>
                </a:lnTo>
                <a:lnTo>
                  <a:pt x="198" y="338"/>
                </a:lnTo>
                <a:lnTo>
                  <a:pt x="196" y="361"/>
                </a:lnTo>
                <a:lnTo>
                  <a:pt x="192" y="384"/>
                </a:lnTo>
                <a:lnTo>
                  <a:pt x="190" y="409"/>
                </a:lnTo>
                <a:lnTo>
                  <a:pt x="188" y="432"/>
                </a:lnTo>
                <a:lnTo>
                  <a:pt x="186" y="459"/>
                </a:lnTo>
                <a:lnTo>
                  <a:pt x="184" y="484"/>
                </a:lnTo>
                <a:lnTo>
                  <a:pt x="182" y="511"/>
                </a:lnTo>
                <a:lnTo>
                  <a:pt x="182" y="538"/>
                </a:lnTo>
                <a:lnTo>
                  <a:pt x="180" y="566"/>
                </a:lnTo>
                <a:lnTo>
                  <a:pt x="178" y="595"/>
                </a:lnTo>
                <a:lnTo>
                  <a:pt x="178" y="624"/>
                </a:lnTo>
                <a:lnTo>
                  <a:pt x="178" y="655"/>
                </a:lnTo>
                <a:lnTo>
                  <a:pt x="177" y="686"/>
                </a:lnTo>
                <a:lnTo>
                  <a:pt x="177" y="716"/>
                </a:lnTo>
                <a:lnTo>
                  <a:pt x="177" y="749"/>
                </a:lnTo>
                <a:lnTo>
                  <a:pt x="177" y="781"/>
                </a:lnTo>
                <a:lnTo>
                  <a:pt x="177" y="812"/>
                </a:lnTo>
                <a:lnTo>
                  <a:pt x="175" y="841"/>
                </a:lnTo>
                <a:lnTo>
                  <a:pt x="175" y="868"/>
                </a:lnTo>
                <a:lnTo>
                  <a:pt x="173" y="893"/>
                </a:lnTo>
                <a:lnTo>
                  <a:pt x="171" y="918"/>
                </a:lnTo>
                <a:lnTo>
                  <a:pt x="169" y="941"/>
                </a:lnTo>
                <a:lnTo>
                  <a:pt x="167" y="964"/>
                </a:lnTo>
                <a:lnTo>
                  <a:pt x="165" y="983"/>
                </a:lnTo>
                <a:lnTo>
                  <a:pt x="163" y="1002"/>
                </a:lnTo>
                <a:lnTo>
                  <a:pt x="161" y="1019"/>
                </a:lnTo>
                <a:lnTo>
                  <a:pt x="159" y="1037"/>
                </a:lnTo>
                <a:lnTo>
                  <a:pt x="157" y="1050"/>
                </a:lnTo>
                <a:lnTo>
                  <a:pt x="155" y="1064"/>
                </a:lnTo>
                <a:lnTo>
                  <a:pt x="154" y="1077"/>
                </a:lnTo>
                <a:lnTo>
                  <a:pt x="148" y="1087"/>
                </a:lnTo>
                <a:lnTo>
                  <a:pt x="144" y="1098"/>
                </a:lnTo>
                <a:lnTo>
                  <a:pt x="140" y="1108"/>
                </a:lnTo>
                <a:lnTo>
                  <a:pt x="136" y="1117"/>
                </a:lnTo>
                <a:lnTo>
                  <a:pt x="132" y="1125"/>
                </a:lnTo>
                <a:lnTo>
                  <a:pt x="130" y="1133"/>
                </a:lnTo>
                <a:lnTo>
                  <a:pt x="127" y="1140"/>
                </a:lnTo>
                <a:lnTo>
                  <a:pt x="125" y="1146"/>
                </a:lnTo>
                <a:lnTo>
                  <a:pt x="121" y="1152"/>
                </a:lnTo>
                <a:lnTo>
                  <a:pt x="119" y="1158"/>
                </a:lnTo>
                <a:lnTo>
                  <a:pt x="115" y="1162"/>
                </a:lnTo>
                <a:lnTo>
                  <a:pt x="113" y="1165"/>
                </a:lnTo>
                <a:lnTo>
                  <a:pt x="111" y="1169"/>
                </a:lnTo>
                <a:lnTo>
                  <a:pt x="109" y="1171"/>
                </a:lnTo>
                <a:lnTo>
                  <a:pt x="106" y="1171"/>
                </a:lnTo>
                <a:lnTo>
                  <a:pt x="104" y="1173"/>
                </a:lnTo>
                <a:lnTo>
                  <a:pt x="102" y="1171"/>
                </a:lnTo>
                <a:lnTo>
                  <a:pt x="100" y="1171"/>
                </a:lnTo>
                <a:lnTo>
                  <a:pt x="96" y="1169"/>
                </a:lnTo>
                <a:lnTo>
                  <a:pt x="92" y="1165"/>
                </a:lnTo>
                <a:lnTo>
                  <a:pt x="90" y="1162"/>
                </a:lnTo>
                <a:lnTo>
                  <a:pt x="86" y="1158"/>
                </a:lnTo>
                <a:lnTo>
                  <a:pt x="82" y="1152"/>
                </a:lnTo>
                <a:lnTo>
                  <a:pt x="79" y="1146"/>
                </a:lnTo>
                <a:lnTo>
                  <a:pt x="75" y="1140"/>
                </a:lnTo>
                <a:lnTo>
                  <a:pt x="69" y="1133"/>
                </a:lnTo>
                <a:lnTo>
                  <a:pt x="65" y="1125"/>
                </a:lnTo>
                <a:lnTo>
                  <a:pt x="61" y="1117"/>
                </a:lnTo>
                <a:lnTo>
                  <a:pt x="58" y="1108"/>
                </a:lnTo>
                <a:lnTo>
                  <a:pt x="52" y="1098"/>
                </a:lnTo>
                <a:lnTo>
                  <a:pt x="48" y="1087"/>
                </a:lnTo>
                <a:lnTo>
                  <a:pt x="44" y="1077"/>
                </a:lnTo>
                <a:lnTo>
                  <a:pt x="38" y="1064"/>
                </a:lnTo>
                <a:lnTo>
                  <a:pt x="35" y="1050"/>
                </a:lnTo>
                <a:lnTo>
                  <a:pt x="31" y="1039"/>
                </a:lnTo>
                <a:lnTo>
                  <a:pt x="29" y="1027"/>
                </a:lnTo>
                <a:lnTo>
                  <a:pt x="25" y="1016"/>
                </a:lnTo>
                <a:lnTo>
                  <a:pt x="21" y="1006"/>
                </a:lnTo>
                <a:lnTo>
                  <a:pt x="19" y="996"/>
                </a:lnTo>
                <a:lnTo>
                  <a:pt x="17" y="989"/>
                </a:lnTo>
                <a:lnTo>
                  <a:pt x="13" y="979"/>
                </a:lnTo>
                <a:lnTo>
                  <a:pt x="11" y="973"/>
                </a:lnTo>
                <a:lnTo>
                  <a:pt x="11" y="966"/>
                </a:lnTo>
                <a:lnTo>
                  <a:pt x="10" y="960"/>
                </a:lnTo>
                <a:lnTo>
                  <a:pt x="8" y="954"/>
                </a:lnTo>
                <a:lnTo>
                  <a:pt x="8" y="950"/>
                </a:lnTo>
                <a:lnTo>
                  <a:pt x="8" y="947"/>
                </a:lnTo>
                <a:lnTo>
                  <a:pt x="8" y="945"/>
                </a:lnTo>
                <a:lnTo>
                  <a:pt x="8" y="943"/>
                </a:lnTo>
                <a:lnTo>
                  <a:pt x="8" y="939"/>
                </a:lnTo>
                <a:lnTo>
                  <a:pt x="8" y="935"/>
                </a:lnTo>
                <a:lnTo>
                  <a:pt x="10" y="929"/>
                </a:lnTo>
                <a:lnTo>
                  <a:pt x="10" y="924"/>
                </a:lnTo>
                <a:lnTo>
                  <a:pt x="11" y="918"/>
                </a:lnTo>
                <a:lnTo>
                  <a:pt x="13" y="910"/>
                </a:lnTo>
                <a:lnTo>
                  <a:pt x="15" y="902"/>
                </a:lnTo>
                <a:lnTo>
                  <a:pt x="17" y="895"/>
                </a:lnTo>
                <a:lnTo>
                  <a:pt x="19" y="885"/>
                </a:lnTo>
                <a:lnTo>
                  <a:pt x="21" y="877"/>
                </a:lnTo>
                <a:lnTo>
                  <a:pt x="23" y="868"/>
                </a:lnTo>
                <a:lnTo>
                  <a:pt x="27" y="847"/>
                </a:lnTo>
                <a:lnTo>
                  <a:pt x="31" y="826"/>
                </a:lnTo>
                <a:lnTo>
                  <a:pt x="33" y="812"/>
                </a:lnTo>
                <a:lnTo>
                  <a:pt x="36" y="801"/>
                </a:lnTo>
                <a:lnTo>
                  <a:pt x="38" y="785"/>
                </a:lnTo>
                <a:lnTo>
                  <a:pt x="40" y="770"/>
                </a:lnTo>
                <a:lnTo>
                  <a:pt x="42" y="755"/>
                </a:lnTo>
                <a:lnTo>
                  <a:pt x="44" y="737"/>
                </a:lnTo>
                <a:lnTo>
                  <a:pt x="48" y="718"/>
                </a:lnTo>
                <a:lnTo>
                  <a:pt x="50" y="699"/>
                </a:lnTo>
                <a:lnTo>
                  <a:pt x="52" y="678"/>
                </a:lnTo>
                <a:lnTo>
                  <a:pt x="54" y="657"/>
                </a:lnTo>
                <a:lnTo>
                  <a:pt x="56" y="634"/>
                </a:lnTo>
                <a:lnTo>
                  <a:pt x="59" y="609"/>
                </a:lnTo>
                <a:lnTo>
                  <a:pt x="61" y="584"/>
                </a:lnTo>
                <a:lnTo>
                  <a:pt x="63" y="557"/>
                </a:lnTo>
                <a:lnTo>
                  <a:pt x="65" y="530"/>
                </a:lnTo>
                <a:lnTo>
                  <a:pt x="67" y="501"/>
                </a:lnTo>
                <a:lnTo>
                  <a:pt x="67" y="472"/>
                </a:lnTo>
                <a:lnTo>
                  <a:pt x="67" y="446"/>
                </a:lnTo>
                <a:lnTo>
                  <a:pt x="67" y="419"/>
                </a:lnTo>
                <a:lnTo>
                  <a:pt x="67" y="396"/>
                </a:lnTo>
                <a:lnTo>
                  <a:pt x="67" y="371"/>
                </a:lnTo>
                <a:lnTo>
                  <a:pt x="67" y="350"/>
                </a:lnTo>
                <a:lnTo>
                  <a:pt x="67" y="328"/>
                </a:lnTo>
                <a:lnTo>
                  <a:pt x="67" y="309"/>
                </a:lnTo>
                <a:lnTo>
                  <a:pt x="67" y="290"/>
                </a:lnTo>
                <a:lnTo>
                  <a:pt x="67" y="273"/>
                </a:lnTo>
                <a:lnTo>
                  <a:pt x="67" y="257"/>
                </a:lnTo>
                <a:lnTo>
                  <a:pt x="67" y="242"/>
                </a:lnTo>
                <a:lnTo>
                  <a:pt x="67" y="227"/>
                </a:lnTo>
                <a:lnTo>
                  <a:pt x="67" y="213"/>
                </a:lnTo>
                <a:lnTo>
                  <a:pt x="67" y="202"/>
                </a:lnTo>
                <a:lnTo>
                  <a:pt x="67" y="190"/>
                </a:lnTo>
                <a:lnTo>
                  <a:pt x="63" y="171"/>
                </a:lnTo>
                <a:lnTo>
                  <a:pt x="58" y="156"/>
                </a:lnTo>
                <a:lnTo>
                  <a:pt x="54" y="140"/>
                </a:lnTo>
                <a:lnTo>
                  <a:pt x="48" y="125"/>
                </a:lnTo>
                <a:lnTo>
                  <a:pt x="42" y="110"/>
                </a:lnTo>
                <a:lnTo>
                  <a:pt x="35" y="96"/>
                </a:lnTo>
                <a:lnTo>
                  <a:pt x="27" y="83"/>
                </a:lnTo>
                <a:lnTo>
                  <a:pt x="19" y="69"/>
                </a:lnTo>
                <a:lnTo>
                  <a:pt x="15" y="64"/>
                </a:lnTo>
                <a:lnTo>
                  <a:pt x="11" y="56"/>
                </a:lnTo>
                <a:lnTo>
                  <a:pt x="8" y="52"/>
                </a:lnTo>
                <a:lnTo>
                  <a:pt x="6" y="46"/>
                </a:lnTo>
                <a:lnTo>
                  <a:pt x="4" y="42"/>
                </a:lnTo>
                <a:lnTo>
                  <a:pt x="2" y="37"/>
                </a:lnTo>
                <a:lnTo>
                  <a:pt x="0" y="31"/>
                </a:lnTo>
                <a:lnTo>
                  <a:pt x="0" y="23"/>
                </a:lnTo>
                <a:lnTo>
                  <a:pt x="0" y="19"/>
                </a:lnTo>
                <a:lnTo>
                  <a:pt x="4" y="14"/>
                </a:lnTo>
                <a:lnTo>
                  <a:pt x="8" y="1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88"/>
          <p:cNvSpPr/>
          <p:nvPr/>
        </p:nvSpPr>
        <p:spPr>
          <a:xfrm>
            <a:off x="5784840" y="4016520"/>
            <a:ext cx="766800" cy="222120"/>
          </a:xfrm>
          <a:custGeom>
            <a:avLst/>
            <a:gdLst/>
            <a:ahLst/>
            <a:rect l="l" t="t" r="r" b="b"/>
            <a:pathLst>
              <a:path w="965" h="281">
                <a:moveTo>
                  <a:pt x="17" y="229"/>
                </a:moveTo>
                <a:lnTo>
                  <a:pt x="13" y="219"/>
                </a:lnTo>
                <a:lnTo>
                  <a:pt x="9" y="210"/>
                </a:lnTo>
                <a:lnTo>
                  <a:pt x="5" y="200"/>
                </a:lnTo>
                <a:lnTo>
                  <a:pt x="2" y="190"/>
                </a:lnTo>
                <a:lnTo>
                  <a:pt x="2" y="181"/>
                </a:lnTo>
                <a:lnTo>
                  <a:pt x="0" y="169"/>
                </a:lnTo>
                <a:lnTo>
                  <a:pt x="2" y="163"/>
                </a:lnTo>
                <a:lnTo>
                  <a:pt x="2" y="158"/>
                </a:lnTo>
                <a:lnTo>
                  <a:pt x="4" y="150"/>
                </a:lnTo>
                <a:lnTo>
                  <a:pt x="5" y="144"/>
                </a:lnTo>
                <a:lnTo>
                  <a:pt x="23" y="144"/>
                </a:lnTo>
                <a:lnTo>
                  <a:pt x="40" y="142"/>
                </a:lnTo>
                <a:lnTo>
                  <a:pt x="59" y="140"/>
                </a:lnTo>
                <a:lnTo>
                  <a:pt x="80" y="138"/>
                </a:lnTo>
                <a:lnTo>
                  <a:pt x="103" y="137"/>
                </a:lnTo>
                <a:lnTo>
                  <a:pt x="126" y="135"/>
                </a:lnTo>
                <a:lnTo>
                  <a:pt x="151" y="131"/>
                </a:lnTo>
                <a:lnTo>
                  <a:pt x="176" y="127"/>
                </a:lnTo>
                <a:lnTo>
                  <a:pt x="205" y="121"/>
                </a:lnTo>
                <a:lnTo>
                  <a:pt x="234" y="115"/>
                </a:lnTo>
                <a:lnTo>
                  <a:pt x="263" y="110"/>
                </a:lnTo>
                <a:lnTo>
                  <a:pt x="293" y="104"/>
                </a:lnTo>
                <a:lnTo>
                  <a:pt x="326" y="96"/>
                </a:lnTo>
                <a:lnTo>
                  <a:pt x="361" y="89"/>
                </a:lnTo>
                <a:lnTo>
                  <a:pt x="395" y="81"/>
                </a:lnTo>
                <a:lnTo>
                  <a:pt x="430" y="71"/>
                </a:lnTo>
                <a:lnTo>
                  <a:pt x="464" y="64"/>
                </a:lnTo>
                <a:lnTo>
                  <a:pt x="495" y="54"/>
                </a:lnTo>
                <a:lnTo>
                  <a:pt x="526" y="46"/>
                </a:lnTo>
                <a:lnTo>
                  <a:pt x="554" y="41"/>
                </a:lnTo>
                <a:lnTo>
                  <a:pt x="583" y="33"/>
                </a:lnTo>
                <a:lnTo>
                  <a:pt x="610" y="27"/>
                </a:lnTo>
                <a:lnTo>
                  <a:pt x="635" y="23"/>
                </a:lnTo>
                <a:lnTo>
                  <a:pt x="658" y="18"/>
                </a:lnTo>
                <a:lnTo>
                  <a:pt x="679" y="14"/>
                </a:lnTo>
                <a:lnTo>
                  <a:pt x="700" y="10"/>
                </a:lnTo>
                <a:lnTo>
                  <a:pt x="720" y="6"/>
                </a:lnTo>
                <a:lnTo>
                  <a:pt x="737" y="4"/>
                </a:lnTo>
                <a:lnTo>
                  <a:pt x="754" y="2"/>
                </a:lnTo>
                <a:lnTo>
                  <a:pt x="769" y="0"/>
                </a:lnTo>
                <a:lnTo>
                  <a:pt x="783" y="0"/>
                </a:lnTo>
                <a:lnTo>
                  <a:pt x="794" y="0"/>
                </a:lnTo>
                <a:lnTo>
                  <a:pt x="804" y="0"/>
                </a:lnTo>
                <a:lnTo>
                  <a:pt x="814" y="0"/>
                </a:lnTo>
                <a:lnTo>
                  <a:pt x="823" y="2"/>
                </a:lnTo>
                <a:lnTo>
                  <a:pt x="833" y="4"/>
                </a:lnTo>
                <a:lnTo>
                  <a:pt x="842" y="6"/>
                </a:lnTo>
                <a:lnTo>
                  <a:pt x="854" y="10"/>
                </a:lnTo>
                <a:lnTo>
                  <a:pt x="875" y="16"/>
                </a:lnTo>
                <a:lnTo>
                  <a:pt x="896" y="25"/>
                </a:lnTo>
                <a:lnTo>
                  <a:pt x="919" y="35"/>
                </a:lnTo>
                <a:lnTo>
                  <a:pt x="942" y="46"/>
                </a:lnTo>
                <a:lnTo>
                  <a:pt x="965" y="60"/>
                </a:lnTo>
                <a:lnTo>
                  <a:pt x="944" y="69"/>
                </a:lnTo>
                <a:lnTo>
                  <a:pt x="923" y="77"/>
                </a:lnTo>
                <a:lnTo>
                  <a:pt x="900" y="87"/>
                </a:lnTo>
                <a:lnTo>
                  <a:pt x="879" y="94"/>
                </a:lnTo>
                <a:lnTo>
                  <a:pt x="854" y="102"/>
                </a:lnTo>
                <a:lnTo>
                  <a:pt x="831" y="110"/>
                </a:lnTo>
                <a:lnTo>
                  <a:pt x="806" y="117"/>
                </a:lnTo>
                <a:lnTo>
                  <a:pt x="781" y="125"/>
                </a:lnTo>
                <a:lnTo>
                  <a:pt x="754" y="131"/>
                </a:lnTo>
                <a:lnTo>
                  <a:pt x="729" y="138"/>
                </a:lnTo>
                <a:lnTo>
                  <a:pt x="700" y="146"/>
                </a:lnTo>
                <a:lnTo>
                  <a:pt x="673" y="152"/>
                </a:lnTo>
                <a:lnTo>
                  <a:pt x="643" y="160"/>
                </a:lnTo>
                <a:lnTo>
                  <a:pt x="614" y="165"/>
                </a:lnTo>
                <a:lnTo>
                  <a:pt x="583" y="173"/>
                </a:lnTo>
                <a:lnTo>
                  <a:pt x="553" y="181"/>
                </a:lnTo>
                <a:lnTo>
                  <a:pt x="520" y="186"/>
                </a:lnTo>
                <a:lnTo>
                  <a:pt x="491" y="192"/>
                </a:lnTo>
                <a:lnTo>
                  <a:pt x="462" y="200"/>
                </a:lnTo>
                <a:lnTo>
                  <a:pt x="435" y="206"/>
                </a:lnTo>
                <a:lnTo>
                  <a:pt x="410" y="210"/>
                </a:lnTo>
                <a:lnTo>
                  <a:pt x="386" y="215"/>
                </a:lnTo>
                <a:lnTo>
                  <a:pt x="364" y="221"/>
                </a:lnTo>
                <a:lnTo>
                  <a:pt x="343" y="225"/>
                </a:lnTo>
                <a:lnTo>
                  <a:pt x="322" y="229"/>
                </a:lnTo>
                <a:lnTo>
                  <a:pt x="305" y="233"/>
                </a:lnTo>
                <a:lnTo>
                  <a:pt x="288" y="236"/>
                </a:lnTo>
                <a:lnTo>
                  <a:pt x="272" y="240"/>
                </a:lnTo>
                <a:lnTo>
                  <a:pt x="257" y="244"/>
                </a:lnTo>
                <a:lnTo>
                  <a:pt x="245" y="246"/>
                </a:lnTo>
                <a:lnTo>
                  <a:pt x="234" y="250"/>
                </a:lnTo>
                <a:lnTo>
                  <a:pt x="224" y="252"/>
                </a:lnTo>
                <a:lnTo>
                  <a:pt x="207" y="259"/>
                </a:lnTo>
                <a:lnTo>
                  <a:pt x="190" y="267"/>
                </a:lnTo>
                <a:lnTo>
                  <a:pt x="174" y="273"/>
                </a:lnTo>
                <a:lnTo>
                  <a:pt x="159" y="277"/>
                </a:lnTo>
                <a:lnTo>
                  <a:pt x="144" y="281"/>
                </a:lnTo>
                <a:lnTo>
                  <a:pt x="138" y="281"/>
                </a:lnTo>
                <a:lnTo>
                  <a:pt x="130" y="281"/>
                </a:lnTo>
                <a:lnTo>
                  <a:pt x="123" y="281"/>
                </a:lnTo>
                <a:lnTo>
                  <a:pt x="117" y="279"/>
                </a:lnTo>
                <a:lnTo>
                  <a:pt x="109" y="279"/>
                </a:lnTo>
                <a:lnTo>
                  <a:pt x="103" y="277"/>
                </a:lnTo>
                <a:lnTo>
                  <a:pt x="90" y="271"/>
                </a:lnTo>
                <a:lnTo>
                  <a:pt x="76" y="267"/>
                </a:lnTo>
                <a:lnTo>
                  <a:pt x="67" y="261"/>
                </a:lnTo>
                <a:lnTo>
                  <a:pt x="55" y="256"/>
                </a:lnTo>
                <a:lnTo>
                  <a:pt x="46" y="250"/>
                </a:lnTo>
                <a:lnTo>
                  <a:pt x="36" y="244"/>
                </a:lnTo>
                <a:lnTo>
                  <a:pt x="27" y="236"/>
                </a:lnTo>
                <a:lnTo>
                  <a:pt x="17" y="2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189"/>
          <p:cNvSpPr/>
          <p:nvPr/>
        </p:nvSpPr>
        <p:spPr>
          <a:xfrm>
            <a:off x="6242040" y="3597120"/>
            <a:ext cx="395280" cy="266760"/>
          </a:xfrm>
          <a:custGeom>
            <a:avLst/>
            <a:gdLst/>
            <a:ahLst/>
            <a:rect l="l" t="t" r="r" b="b"/>
            <a:pathLst>
              <a:path w="499" h="336">
                <a:moveTo>
                  <a:pt x="401" y="133"/>
                </a:moveTo>
                <a:lnTo>
                  <a:pt x="412" y="139"/>
                </a:lnTo>
                <a:lnTo>
                  <a:pt x="422" y="146"/>
                </a:lnTo>
                <a:lnTo>
                  <a:pt x="431" y="154"/>
                </a:lnTo>
                <a:lnTo>
                  <a:pt x="441" y="162"/>
                </a:lnTo>
                <a:lnTo>
                  <a:pt x="451" y="169"/>
                </a:lnTo>
                <a:lnTo>
                  <a:pt x="458" y="177"/>
                </a:lnTo>
                <a:lnTo>
                  <a:pt x="466" y="187"/>
                </a:lnTo>
                <a:lnTo>
                  <a:pt x="472" y="194"/>
                </a:lnTo>
                <a:lnTo>
                  <a:pt x="477" y="202"/>
                </a:lnTo>
                <a:lnTo>
                  <a:pt x="483" y="212"/>
                </a:lnTo>
                <a:lnTo>
                  <a:pt x="487" y="219"/>
                </a:lnTo>
                <a:lnTo>
                  <a:pt x="491" y="229"/>
                </a:lnTo>
                <a:lnTo>
                  <a:pt x="495" y="238"/>
                </a:lnTo>
                <a:lnTo>
                  <a:pt x="497" y="246"/>
                </a:lnTo>
                <a:lnTo>
                  <a:pt x="497" y="256"/>
                </a:lnTo>
                <a:lnTo>
                  <a:pt x="499" y="265"/>
                </a:lnTo>
                <a:lnTo>
                  <a:pt x="495" y="273"/>
                </a:lnTo>
                <a:lnTo>
                  <a:pt x="493" y="281"/>
                </a:lnTo>
                <a:lnTo>
                  <a:pt x="491" y="288"/>
                </a:lnTo>
                <a:lnTo>
                  <a:pt x="489" y="296"/>
                </a:lnTo>
                <a:lnTo>
                  <a:pt x="487" y="302"/>
                </a:lnTo>
                <a:lnTo>
                  <a:pt x="483" y="308"/>
                </a:lnTo>
                <a:lnTo>
                  <a:pt x="481" y="313"/>
                </a:lnTo>
                <a:lnTo>
                  <a:pt x="479" y="319"/>
                </a:lnTo>
                <a:lnTo>
                  <a:pt x="477" y="323"/>
                </a:lnTo>
                <a:lnTo>
                  <a:pt x="476" y="327"/>
                </a:lnTo>
                <a:lnTo>
                  <a:pt x="474" y="329"/>
                </a:lnTo>
                <a:lnTo>
                  <a:pt x="470" y="332"/>
                </a:lnTo>
                <a:lnTo>
                  <a:pt x="468" y="334"/>
                </a:lnTo>
                <a:lnTo>
                  <a:pt x="466" y="334"/>
                </a:lnTo>
                <a:lnTo>
                  <a:pt x="464" y="336"/>
                </a:lnTo>
                <a:lnTo>
                  <a:pt x="462" y="336"/>
                </a:lnTo>
                <a:lnTo>
                  <a:pt x="456" y="336"/>
                </a:lnTo>
                <a:lnTo>
                  <a:pt x="449" y="334"/>
                </a:lnTo>
                <a:lnTo>
                  <a:pt x="441" y="331"/>
                </a:lnTo>
                <a:lnTo>
                  <a:pt x="431" y="327"/>
                </a:lnTo>
                <a:lnTo>
                  <a:pt x="422" y="323"/>
                </a:lnTo>
                <a:lnTo>
                  <a:pt x="408" y="315"/>
                </a:lnTo>
                <a:lnTo>
                  <a:pt x="395" y="308"/>
                </a:lnTo>
                <a:lnTo>
                  <a:pt x="380" y="300"/>
                </a:lnTo>
                <a:lnTo>
                  <a:pt x="364" y="288"/>
                </a:lnTo>
                <a:lnTo>
                  <a:pt x="347" y="279"/>
                </a:lnTo>
                <a:lnTo>
                  <a:pt x="328" y="265"/>
                </a:lnTo>
                <a:lnTo>
                  <a:pt x="309" y="252"/>
                </a:lnTo>
                <a:lnTo>
                  <a:pt x="287" y="235"/>
                </a:lnTo>
                <a:lnTo>
                  <a:pt x="266" y="219"/>
                </a:lnTo>
                <a:lnTo>
                  <a:pt x="243" y="200"/>
                </a:lnTo>
                <a:lnTo>
                  <a:pt x="218" y="181"/>
                </a:lnTo>
                <a:lnTo>
                  <a:pt x="191" y="164"/>
                </a:lnTo>
                <a:lnTo>
                  <a:pt x="168" y="146"/>
                </a:lnTo>
                <a:lnTo>
                  <a:pt x="145" y="131"/>
                </a:lnTo>
                <a:lnTo>
                  <a:pt x="124" y="118"/>
                </a:lnTo>
                <a:lnTo>
                  <a:pt x="103" y="104"/>
                </a:lnTo>
                <a:lnTo>
                  <a:pt x="86" y="91"/>
                </a:lnTo>
                <a:lnTo>
                  <a:pt x="71" y="81"/>
                </a:lnTo>
                <a:lnTo>
                  <a:pt x="55" y="70"/>
                </a:lnTo>
                <a:lnTo>
                  <a:pt x="42" y="62"/>
                </a:lnTo>
                <a:lnTo>
                  <a:pt x="30" y="54"/>
                </a:lnTo>
                <a:lnTo>
                  <a:pt x="21" y="46"/>
                </a:lnTo>
                <a:lnTo>
                  <a:pt x="13" y="41"/>
                </a:lnTo>
                <a:lnTo>
                  <a:pt x="7" y="35"/>
                </a:lnTo>
                <a:lnTo>
                  <a:pt x="3" y="31"/>
                </a:lnTo>
                <a:lnTo>
                  <a:pt x="1" y="27"/>
                </a:lnTo>
                <a:lnTo>
                  <a:pt x="0" y="25"/>
                </a:lnTo>
                <a:lnTo>
                  <a:pt x="1" y="20"/>
                </a:lnTo>
                <a:lnTo>
                  <a:pt x="1" y="18"/>
                </a:lnTo>
                <a:lnTo>
                  <a:pt x="5" y="16"/>
                </a:lnTo>
                <a:lnTo>
                  <a:pt x="9" y="12"/>
                </a:lnTo>
                <a:lnTo>
                  <a:pt x="15" y="10"/>
                </a:lnTo>
                <a:lnTo>
                  <a:pt x="21" y="8"/>
                </a:lnTo>
                <a:lnTo>
                  <a:pt x="28" y="4"/>
                </a:lnTo>
                <a:lnTo>
                  <a:pt x="36" y="0"/>
                </a:lnTo>
                <a:lnTo>
                  <a:pt x="42" y="0"/>
                </a:lnTo>
                <a:lnTo>
                  <a:pt x="48" y="0"/>
                </a:lnTo>
                <a:lnTo>
                  <a:pt x="53" y="2"/>
                </a:lnTo>
                <a:lnTo>
                  <a:pt x="59" y="2"/>
                </a:lnTo>
                <a:lnTo>
                  <a:pt x="67" y="4"/>
                </a:lnTo>
                <a:lnTo>
                  <a:pt x="74" y="4"/>
                </a:lnTo>
                <a:lnTo>
                  <a:pt x="84" y="6"/>
                </a:lnTo>
                <a:lnTo>
                  <a:pt x="92" y="8"/>
                </a:lnTo>
                <a:lnTo>
                  <a:pt x="103" y="10"/>
                </a:lnTo>
                <a:lnTo>
                  <a:pt x="113" y="12"/>
                </a:lnTo>
                <a:lnTo>
                  <a:pt x="124" y="14"/>
                </a:lnTo>
                <a:lnTo>
                  <a:pt x="138" y="16"/>
                </a:lnTo>
                <a:lnTo>
                  <a:pt x="151" y="18"/>
                </a:lnTo>
                <a:lnTo>
                  <a:pt x="165" y="20"/>
                </a:lnTo>
                <a:lnTo>
                  <a:pt x="178" y="22"/>
                </a:lnTo>
                <a:lnTo>
                  <a:pt x="195" y="25"/>
                </a:lnTo>
                <a:lnTo>
                  <a:pt x="222" y="35"/>
                </a:lnTo>
                <a:lnTo>
                  <a:pt x="249" y="45"/>
                </a:lnTo>
                <a:lnTo>
                  <a:pt x="276" y="56"/>
                </a:lnTo>
                <a:lnTo>
                  <a:pt x="303" y="70"/>
                </a:lnTo>
                <a:lnTo>
                  <a:pt x="328" y="83"/>
                </a:lnTo>
                <a:lnTo>
                  <a:pt x="353" y="98"/>
                </a:lnTo>
                <a:lnTo>
                  <a:pt x="378" y="116"/>
                </a:lnTo>
                <a:lnTo>
                  <a:pt x="401" y="13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190"/>
          <p:cNvSpPr/>
          <p:nvPr/>
        </p:nvSpPr>
        <p:spPr>
          <a:xfrm>
            <a:off x="5489640" y="3244680"/>
            <a:ext cx="765000" cy="1003320"/>
          </a:xfrm>
          <a:custGeom>
            <a:avLst/>
            <a:gdLst/>
            <a:ahLst/>
            <a:rect l="l" t="t" r="r" b="b"/>
            <a:pathLst>
              <a:path w="966" h="1263">
                <a:moveTo>
                  <a:pt x="707" y="683"/>
                </a:moveTo>
                <a:lnTo>
                  <a:pt x="686" y="710"/>
                </a:lnTo>
                <a:lnTo>
                  <a:pt x="666" y="735"/>
                </a:lnTo>
                <a:lnTo>
                  <a:pt x="647" y="760"/>
                </a:lnTo>
                <a:lnTo>
                  <a:pt x="626" y="785"/>
                </a:lnTo>
                <a:lnTo>
                  <a:pt x="607" y="808"/>
                </a:lnTo>
                <a:lnTo>
                  <a:pt x="590" y="831"/>
                </a:lnTo>
                <a:lnTo>
                  <a:pt x="570" y="852"/>
                </a:lnTo>
                <a:lnTo>
                  <a:pt x="551" y="873"/>
                </a:lnTo>
                <a:lnTo>
                  <a:pt x="534" y="895"/>
                </a:lnTo>
                <a:lnTo>
                  <a:pt x="515" y="914"/>
                </a:lnTo>
                <a:lnTo>
                  <a:pt x="497" y="933"/>
                </a:lnTo>
                <a:lnTo>
                  <a:pt x="480" y="952"/>
                </a:lnTo>
                <a:lnTo>
                  <a:pt x="463" y="969"/>
                </a:lnTo>
                <a:lnTo>
                  <a:pt x="448" y="987"/>
                </a:lnTo>
                <a:lnTo>
                  <a:pt x="430" y="1002"/>
                </a:lnTo>
                <a:lnTo>
                  <a:pt x="415" y="1019"/>
                </a:lnTo>
                <a:lnTo>
                  <a:pt x="398" y="1035"/>
                </a:lnTo>
                <a:lnTo>
                  <a:pt x="378" y="1050"/>
                </a:lnTo>
                <a:lnTo>
                  <a:pt x="361" y="1063"/>
                </a:lnTo>
                <a:lnTo>
                  <a:pt x="342" y="1079"/>
                </a:lnTo>
                <a:lnTo>
                  <a:pt x="325" y="1090"/>
                </a:lnTo>
                <a:lnTo>
                  <a:pt x="307" y="1104"/>
                </a:lnTo>
                <a:lnTo>
                  <a:pt x="271" y="1129"/>
                </a:lnTo>
                <a:lnTo>
                  <a:pt x="236" y="1152"/>
                </a:lnTo>
                <a:lnTo>
                  <a:pt x="202" y="1173"/>
                </a:lnTo>
                <a:lnTo>
                  <a:pt x="167" y="1192"/>
                </a:lnTo>
                <a:lnTo>
                  <a:pt x="137" y="1211"/>
                </a:lnTo>
                <a:lnTo>
                  <a:pt x="119" y="1219"/>
                </a:lnTo>
                <a:lnTo>
                  <a:pt x="106" y="1227"/>
                </a:lnTo>
                <a:lnTo>
                  <a:pt x="92" y="1234"/>
                </a:lnTo>
                <a:lnTo>
                  <a:pt x="79" y="1240"/>
                </a:lnTo>
                <a:lnTo>
                  <a:pt x="68" y="1246"/>
                </a:lnTo>
                <a:lnTo>
                  <a:pt x="56" y="1252"/>
                </a:lnTo>
                <a:lnTo>
                  <a:pt x="46" y="1255"/>
                </a:lnTo>
                <a:lnTo>
                  <a:pt x="37" y="1257"/>
                </a:lnTo>
                <a:lnTo>
                  <a:pt x="29" y="1259"/>
                </a:lnTo>
                <a:lnTo>
                  <a:pt x="21" y="1261"/>
                </a:lnTo>
                <a:lnTo>
                  <a:pt x="16" y="1263"/>
                </a:lnTo>
                <a:lnTo>
                  <a:pt x="12" y="1263"/>
                </a:lnTo>
                <a:lnTo>
                  <a:pt x="8" y="1263"/>
                </a:lnTo>
                <a:lnTo>
                  <a:pt x="4" y="1263"/>
                </a:lnTo>
                <a:lnTo>
                  <a:pt x="2" y="1261"/>
                </a:lnTo>
                <a:lnTo>
                  <a:pt x="2" y="1259"/>
                </a:lnTo>
                <a:lnTo>
                  <a:pt x="0" y="1255"/>
                </a:lnTo>
                <a:lnTo>
                  <a:pt x="0" y="1253"/>
                </a:lnTo>
                <a:lnTo>
                  <a:pt x="4" y="1248"/>
                </a:lnTo>
                <a:lnTo>
                  <a:pt x="6" y="1242"/>
                </a:lnTo>
                <a:lnTo>
                  <a:pt x="12" y="1236"/>
                </a:lnTo>
                <a:lnTo>
                  <a:pt x="20" y="1228"/>
                </a:lnTo>
                <a:lnTo>
                  <a:pt x="29" y="1221"/>
                </a:lnTo>
                <a:lnTo>
                  <a:pt x="39" y="1211"/>
                </a:lnTo>
                <a:lnTo>
                  <a:pt x="52" y="1202"/>
                </a:lnTo>
                <a:lnTo>
                  <a:pt x="66" y="1188"/>
                </a:lnTo>
                <a:lnTo>
                  <a:pt x="81" y="1177"/>
                </a:lnTo>
                <a:lnTo>
                  <a:pt x="98" y="1161"/>
                </a:lnTo>
                <a:lnTo>
                  <a:pt x="117" y="1146"/>
                </a:lnTo>
                <a:lnTo>
                  <a:pt x="139" y="1129"/>
                </a:lnTo>
                <a:lnTo>
                  <a:pt x="160" y="1111"/>
                </a:lnTo>
                <a:lnTo>
                  <a:pt x="185" y="1090"/>
                </a:lnTo>
                <a:lnTo>
                  <a:pt x="208" y="1069"/>
                </a:lnTo>
                <a:lnTo>
                  <a:pt x="229" y="1048"/>
                </a:lnTo>
                <a:lnTo>
                  <a:pt x="252" y="1027"/>
                </a:lnTo>
                <a:lnTo>
                  <a:pt x="275" y="1002"/>
                </a:lnTo>
                <a:lnTo>
                  <a:pt x="298" y="979"/>
                </a:lnTo>
                <a:lnTo>
                  <a:pt x="321" y="954"/>
                </a:lnTo>
                <a:lnTo>
                  <a:pt x="344" y="929"/>
                </a:lnTo>
                <a:lnTo>
                  <a:pt x="367" y="902"/>
                </a:lnTo>
                <a:lnTo>
                  <a:pt x="390" y="875"/>
                </a:lnTo>
                <a:lnTo>
                  <a:pt x="413" y="847"/>
                </a:lnTo>
                <a:lnTo>
                  <a:pt x="436" y="818"/>
                </a:lnTo>
                <a:lnTo>
                  <a:pt x="457" y="787"/>
                </a:lnTo>
                <a:lnTo>
                  <a:pt x="480" y="756"/>
                </a:lnTo>
                <a:lnTo>
                  <a:pt x="503" y="726"/>
                </a:lnTo>
                <a:lnTo>
                  <a:pt x="526" y="693"/>
                </a:lnTo>
                <a:lnTo>
                  <a:pt x="549" y="660"/>
                </a:lnTo>
                <a:lnTo>
                  <a:pt x="570" y="626"/>
                </a:lnTo>
                <a:lnTo>
                  <a:pt x="592" y="593"/>
                </a:lnTo>
                <a:lnTo>
                  <a:pt x="611" y="562"/>
                </a:lnTo>
                <a:lnTo>
                  <a:pt x="630" y="534"/>
                </a:lnTo>
                <a:lnTo>
                  <a:pt x="647" y="505"/>
                </a:lnTo>
                <a:lnTo>
                  <a:pt x="664" y="476"/>
                </a:lnTo>
                <a:lnTo>
                  <a:pt x="680" y="449"/>
                </a:lnTo>
                <a:lnTo>
                  <a:pt x="693" y="424"/>
                </a:lnTo>
                <a:lnTo>
                  <a:pt x="707" y="399"/>
                </a:lnTo>
                <a:lnTo>
                  <a:pt x="718" y="376"/>
                </a:lnTo>
                <a:lnTo>
                  <a:pt x="730" y="353"/>
                </a:lnTo>
                <a:lnTo>
                  <a:pt x="739" y="330"/>
                </a:lnTo>
                <a:lnTo>
                  <a:pt x="749" y="309"/>
                </a:lnTo>
                <a:lnTo>
                  <a:pt x="757" y="290"/>
                </a:lnTo>
                <a:lnTo>
                  <a:pt x="762" y="271"/>
                </a:lnTo>
                <a:lnTo>
                  <a:pt x="768" y="251"/>
                </a:lnTo>
                <a:lnTo>
                  <a:pt x="772" y="217"/>
                </a:lnTo>
                <a:lnTo>
                  <a:pt x="776" y="182"/>
                </a:lnTo>
                <a:lnTo>
                  <a:pt x="780" y="150"/>
                </a:lnTo>
                <a:lnTo>
                  <a:pt x="782" y="117"/>
                </a:lnTo>
                <a:lnTo>
                  <a:pt x="783" y="86"/>
                </a:lnTo>
                <a:lnTo>
                  <a:pt x="783" y="56"/>
                </a:lnTo>
                <a:lnTo>
                  <a:pt x="783" y="42"/>
                </a:lnTo>
                <a:lnTo>
                  <a:pt x="783" y="27"/>
                </a:lnTo>
                <a:lnTo>
                  <a:pt x="782" y="13"/>
                </a:lnTo>
                <a:lnTo>
                  <a:pt x="780" y="0"/>
                </a:lnTo>
                <a:lnTo>
                  <a:pt x="799" y="2"/>
                </a:lnTo>
                <a:lnTo>
                  <a:pt x="818" y="6"/>
                </a:lnTo>
                <a:lnTo>
                  <a:pt x="835" y="8"/>
                </a:lnTo>
                <a:lnTo>
                  <a:pt x="853" y="12"/>
                </a:lnTo>
                <a:lnTo>
                  <a:pt x="868" y="15"/>
                </a:lnTo>
                <a:lnTo>
                  <a:pt x="881" y="17"/>
                </a:lnTo>
                <a:lnTo>
                  <a:pt x="895" y="21"/>
                </a:lnTo>
                <a:lnTo>
                  <a:pt x="906" y="25"/>
                </a:lnTo>
                <a:lnTo>
                  <a:pt x="918" y="29"/>
                </a:lnTo>
                <a:lnTo>
                  <a:pt x="927" y="35"/>
                </a:lnTo>
                <a:lnTo>
                  <a:pt x="935" y="38"/>
                </a:lnTo>
                <a:lnTo>
                  <a:pt x="943" y="42"/>
                </a:lnTo>
                <a:lnTo>
                  <a:pt x="949" y="46"/>
                </a:lnTo>
                <a:lnTo>
                  <a:pt x="954" y="52"/>
                </a:lnTo>
                <a:lnTo>
                  <a:pt x="958" y="56"/>
                </a:lnTo>
                <a:lnTo>
                  <a:pt x="962" y="60"/>
                </a:lnTo>
                <a:lnTo>
                  <a:pt x="964" y="67"/>
                </a:lnTo>
                <a:lnTo>
                  <a:pt x="964" y="75"/>
                </a:lnTo>
                <a:lnTo>
                  <a:pt x="966" y="84"/>
                </a:lnTo>
                <a:lnTo>
                  <a:pt x="966" y="94"/>
                </a:lnTo>
                <a:lnTo>
                  <a:pt x="966" y="104"/>
                </a:lnTo>
                <a:lnTo>
                  <a:pt x="964" y="115"/>
                </a:lnTo>
                <a:lnTo>
                  <a:pt x="962" y="129"/>
                </a:lnTo>
                <a:lnTo>
                  <a:pt x="960" y="140"/>
                </a:lnTo>
                <a:lnTo>
                  <a:pt x="958" y="156"/>
                </a:lnTo>
                <a:lnTo>
                  <a:pt x="954" y="169"/>
                </a:lnTo>
                <a:lnTo>
                  <a:pt x="950" y="184"/>
                </a:lnTo>
                <a:lnTo>
                  <a:pt x="947" y="202"/>
                </a:lnTo>
                <a:lnTo>
                  <a:pt x="943" y="219"/>
                </a:lnTo>
                <a:lnTo>
                  <a:pt x="937" y="236"/>
                </a:lnTo>
                <a:lnTo>
                  <a:pt x="931" y="255"/>
                </a:lnTo>
                <a:lnTo>
                  <a:pt x="926" y="276"/>
                </a:lnTo>
                <a:lnTo>
                  <a:pt x="918" y="299"/>
                </a:lnTo>
                <a:lnTo>
                  <a:pt x="910" y="321"/>
                </a:lnTo>
                <a:lnTo>
                  <a:pt x="901" y="346"/>
                </a:lnTo>
                <a:lnTo>
                  <a:pt x="891" y="369"/>
                </a:lnTo>
                <a:lnTo>
                  <a:pt x="879" y="392"/>
                </a:lnTo>
                <a:lnTo>
                  <a:pt x="868" y="417"/>
                </a:lnTo>
                <a:lnTo>
                  <a:pt x="856" y="442"/>
                </a:lnTo>
                <a:lnTo>
                  <a:pt x="843" y="466"/>
                </a:lnTo>
                <a:lnTo>
                  <a:pt x="828" y="491"/>
                </a:lnTo>
                <a:lnTo>
                  <a:pt x="814" y="516"/>
                </a:lnTo>
                <a:lnTo>
                  <a:pt x="797" y="543"/>
                </a:lnTo>
                <a:lnTo>
                  <a:pt x="782" y="570"/>
                </a:lnTo>
                <a:lnTo>
                  <a:pt x="764" y="597"/>
                </a:lnTo>
                <a:lnTo>
                  <a:pt x="745" y="626"/>
                </a:lnTo>
                <a:lnTo>
                  <a:pt x="726" y="655"/>
                </a:lnTo>
                <a:lnTo>
                  <a:pt x="707" y="68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191"/>
          <p:cNvSpPr/>
          <p:nvPr/>
        </p:nvSpPr>
        <p:spPr>
          <a:xfrm>
            <a:off x="5626080" y="3406680"/>
            <a:ext cx="1030320" cy="228600"/>
          </a:xfrm>
          <a:custGeom>
            <a:avLst/>
            <a:gdLst/>
            <a:ahLst/>
            <a:rect l="l" t="t" r="r" b="b"/>
            <a:pathLst>
              <a:path w="1298" h="288">
                <a:moveTo>
                  <a:pt x="559" y="96"/>
                </a:moveTo>
                <a:lnTo>
                  <a:pt x="587" y="91"/>
                </a:lnTo>
                <a:lnTo>
                  <a:pt x="616" y="85"/>
                </a:lnTo>
                <a:lnTo>
                  <a:pt x="643" y="79"/>
                </a:lnTo>
                <a:lnTo>
                  <a:pt x="670" y="75"/>
                </a:lnTo>
                <a:lnTo>
                  <a:pt x="697" y="70"/>
                </a:lnTo>
                <a:lnTo>
                  <a:pt x="722" y="66"/>
                </a:lnTo>
                <a:lnTo>
                  <a:pt x="747" y="60"/>
                </a:lnTo>
                <a:lnTo>
                  <a:pt x="772" y="56"/>
                </a:lnTo>
                <a:lnTo>
                  <a:pt x="795" y="52"/>
                </a:lnTo>
                <a:lnTo>
                  <a:pt x="818" y="47"/>
                </a:lnTo>
                <a:lnTo>
                  <a:pt x="839" y="43"/>
                </a:lnTo>
                <a:lnTo>
                  <a:pt x="860" y="39"/>
                </a:lnTo>
                <a:lnTo>
                  <a:pt x="881" y="35"/>
                </a:lnTo>
                <a:lnTo>
                  <a:pt x="900" y="33"/>
                </a:lnTo>
                <a:lnTo>
                  <a:pt x="920" y="29"/>
                </a:lnTo>
                <a:lnTo>
                  <a:pt x="939" y="25"/>
                </a:lnTo>
                <a:lnTo>
                  <a:pt x="956" y="24"/>
                </a:lnTo>
                <a:lnTo>
                  <a:pt x="973" y="20"/>
                </a:lnTo>
                <a:lnTo>
                  <a:pt x="989" y="18"/>
                </a:lnTo>
                <a:lnTo>
                  <a:pt x="1004" y="16"/>
                </a:lnTo>
                <a:lnTo>
                  <a:pt x="1019" y="12"/>
                </a:lnTo>
                <a:lnTo>
                  <a:pt x="1033" y="10"/>
                </a:lnTo>
                <a:lnTo>
                  <a:pt x="1046" y="8"/>
                </a:lnTo>
                <a:lnTo>
                  <a:pt x="1058" y="8"/>
                </a:lnTo>
                <a:lnTo>
                  <a:pt x="1069" y="6"/>
                </a:lnTo>
                <a:lnTo>
                  <a:pt x="1081" y="4"/>
                </a:lnTo>
                <a:lnTo>
                  <a:pt x="1090" y="4"/>
                </a:lnTo>
                <a:lnTo>
                  <a:pt x="1100" y="2"/>
                </a:lnTo>
                <a:lnTo>
                  <a:pt x="1108" y="2"/>
                </a:lnTo>
                <a:lnTo>
                  <a:pt x="1115" y="0"/>
                </a:lnTo>
                <a:lnTo>
                  <a:pt x="1123" y="0"/>
                </a:lnTo>
                <a:lnTo>
                  <a:pt x="1129" y="0"/>
                </a:lnTo>
                <a:lnTo>
                  <a:pt x="1150" y="2"/>
                </a:lnTo>
                <a:lnTo>
                  <a:pt x="1171" y="2"/>
                </a:lnTo>
                <a:lnTo>
                  <a:pt x="1190" y="6"/>
                </a:lnTo>
                <a:lnTo>
                  <a:pt x="1209" y="8"/>
                </a:lnTo>
                <a:lnTo>
                  <a:pt x="1225" y="12"/>
                </a:lnTo>
                <a:lnTo>
                  <a:pt x="1232" y="14"/>
                </a:lnTo>
                <a:lnTo>
                  <a:pt x="1238" y="16"/>
                </a:lnTo>
                <a:lnTo>
                  <a:pt x="1246" y="18"/>
                </a:lnTo>
                <a:lnTo>
                  <a:pt x="1252" y="20"/>
                </a:lnTo>
                <a:lnTo>
                  <a:pt x="1257" y="24"/>
                </a:lnTo>
                <a:lnTo>
                  <a:pt x="1261" y="25"/>
                </a:lnTo>
                <a:lnTo>
                  <a:pt x="1271" y="33"/>
                </a:lnTo>
                <a:lnTo>
                  <a:pt x="1278" y="41"/>
                </a:lnTo>
                <a:lnTo>
                  <a:pt x="1284" y="48"/>
                </a:lnTo>
                <a:lnTo>
                  <a:pt x="1288" y="54"/>
                </a:lnTo>
                <a:lnTo>
                  <a:pt x="1294" y="58"/>
                </a:lnTo>
                <a:lnTo>
                  <a:pt x="1296" y="64"/>
                </a:lnTo>
                <a:lnTo>
                  <a:pt x="1298" y="68"/>
                </a:lnTo>
                <a:lnTo>
                  <a:pt x="1298" y="73"/>
                </a:lnTo>
                <a:lnTo>
                  <a:pt x="1296" y="75"/>
                </a:lnTo>
                <a:lnTo>
                  <a:pt x="1290" y="77"/>
                </a:lnTo>
                <a:lnTo>
                  <a:pt x="1284" y="81"/>
                </a:lnTo>
                <a:lnTo>
                  <a:pt x="1278" y="83"/>
                </a:lnTo>
                <a:lnTo>
                  <a:pt x="1269" y="87"/>
                </a:lnTo>
                <a:lnTo>
                  <a:pt x="1259" y="91"/>
                </a:lnTo>
                <a:lnTo>
                  <a:pt x="1248" y="93"/>
                </a:lnTo>
                <a:lnTo>
                  <a:pt x="1234" y="96"/>
                </a:lnTo>
                <a:lnTo>
                  <a:pt x="1221" y="100"/>
                </a:lnTo>
                <a:lnTo>
                  <a:pt x="1204" y="104"/>
                </a:lnTo>
                <a:lnTo>
                  <a:pt x="1186" y="106"/>
                </a:lnTo>
                <a:lnTo>
                  <a:pt x="1169" y="110"/>
                </a:lnTo>
                <a:lnTo>
                  <a:pt x="1148" y="112"/>
                </a:lnTo>
                <a:lnTo>
                  <a:pt x="1127" y="116"/>
                </a:lnTo>
                <a:lnTo>
                  <a:pt x="1104" y="118"/>
                </a:lnTo>
                <a:lnTo>
                  <a:pt x="1079" y="121"/>
                </a:lnTo>
                <a:lnTo>
                  <a:pt x="1054" y="125"/>
                </a:lnTo>
                <a:lnTo>
                  <a:pt x="1027" y="131"/>
                </a:lnTo>
                <a:lnTo>
                  <a:pt x="998" y="135"/>
                </a:lnTo>
                <a:lnTo>
                  <a:pt x="969" y="141"/>
                </a:lnTo>
                <a:lnTo>
                  <a:pt x="941" y="146"/>
                </a:lnTo>
                <a:lnTo>
                  <a:pt x="908" y="152"/>
                </a:lnTo>
                <a:lnTo>
                  <a:pt x="875" y="158"/>
                </a:lnTo>
                <a:lnTo>
                  <a:pt x="843" y="164"/>
                </a:lnTo>
                <a:lnTo>
                  <a:pt x="808" y="169"/>
                </a:lnTo>
                <a:lnTo>
                  <a:pt x="772" y="177"/>
                </a:lnTo>
                <a:lnTo>
                  <a:pt x="735" y="183"/>
                </a:lnTo>
                <a:lnTo>
                  <a:pt x="697" y="189"/>
                </a:lnTo>
                <a:lnTo>
                  <a:pt x="658" y="196"/>
                </a:lnTo>
                <a:lnTo>
                  <a:pt x="618" y="202"/>
                </a:lnTo>
                <a:lnTo>
                  <a:pt x="576" y="210"/>
                </a:lnTo>
                <a:lnTo>
                  <a:pt x="534" y="217"/>
                </a:lnTo>
                <a:lnTo>
                  <a:pt x="513" y="221"/>
                </a:lnTo>
                <a:lnTo>
                  <a:pt x="491" y="225"/>
                </a:lnTo>
                <a:lnTo>
                  <a:pt x="472" y="229"/>
                </a:lnTo>
                <a:lnTo>
                  <a:pt x="451" y="233"/>
                </a:lnTo>
                <a:lnTo>
                  <a:pt x="434" y="237"/>
                </a:lnTo>
                <a:lnTo>
                  <a:pt x="415" y="240"/>
                </a:lnTo>
                <a:lnTo>
                  <a:pt x="397" y="244"/>
                </a:lnTo>
                <a:lnTo>
                  <a:pt x="380" y="248"/>
                </a:lnTo>
                <a:lnTo>
                  <a:pt x="365" y="252"/>
                </a:lnTo>
                <a:lnTo>
                  <a:pt x="349" y="256"/>
                </a:lnTo>
                <a:lnTo>
                  <a:pt x="334" y="258"/>
                </a:lnTo>
                <a:lnTo>
                  <a:pt x="321" y="262"/>
                </a:lnTo>
                <a:lnTo>
                  <a:pt x="307" y="263"/>
                </a:lnTo>
                <a:lnTo>
                  <a:pt x="294" y="265"/>
                </a:lnTo>
                <a:lnTo>
                  <a:pt x="280" y="269"/>
                </a:lnTo>
                <a:lnTo>
                  <a:pt x="269" y="271"/>
                </a:lnTo>
                <a:lnTo>
                  <a:pt x="257" y="273"/>
                </a:lnTo>
                <a:lnTo>
                  <a:pt x="248" y="275"/>
                </a:lnTo>
                <a:lnTo>
                  <a:pt x="238" y="277"/>
                </a:lnTo>
                <a:lnTo>
                  <a:pt x="229" y="279"/>
                </a:lnTo>
                <a:lnTo>
                  <a:pt x="221" y="281"/>
                </a:lnTo>
                <a:lnTo>
                  <a:pt x="213" y="281"/>
                </a:lnTo>
                <a:lnTo>
                  <a:pt x="205" y="283"/>
                </a:lnTo>
                <a:lnTo>
                  <a:pt x="198" y="285"/>
                </a:lnTo>
                <a:lnTo>
                  <a:pt x="192" y="285"/>
                </a:lnTo>
                <a:lnTo>
                  <a:pt x="188" y="286"/>
                </a:lnTo>
                <a:lnTo>
                  <a:pt x="182" y="286"/>
                </a:lnTo>
                <a:lnTo>
                  <a:pt x="179" y="286"/>
                </a:lnTo>
                <a:lnTo>
                  <a:pt x="175" y="288"/>
                </a:lnTo>
                <a:lnTo>
                  <a:pt x="173" y="288"/>
                </a:lnTo>
                <a:lnTo>
                  <a:pt x="171" y="288"/>
                </a:lnTo>
                <a:lnTo>
                  <a:pt x="169" y="288"/>
                </a:lnTo>
                <a:lnTo>
                  <a:pt x="159" y="288"/>
                </a:lnTo>
                <a:lnTo>
                  <a:pt x="148" y="288"/>
                </a:lnTo>
                <a:lnTo>
                  <a:pt x="136" y="288"/>
                </a:lnTo>
                <a:lnTo>
                  <a:pt x="125" y="286"/>
                </a:lnTo>
                <a:lnTo>
                  <a:pt x="111" y="286"/>
                </a:lnTo>
                <a:lnTo>
                  <a:pt x="100" y="283"/>
                </a:lnTo>
                <a:lnTo>
                  <a:pt x="86" y="281"/>
                </a:lnTo>
                <a:lnTo>
                  <a:pt x="73" y="277"/>
                </a:lnTo>
                <a:lnTo>
                  <a:pt x="63" y="275"/>
                </a:lnTo>
                <a:lnTo>
                  <a:pt x="56" y="271"/>
                </a:lnTo>
                <a:lnTo>
                  <a:pt x="48" y="269"/>
                </a:lnTo>
                <a:lnTo>
                  <a:pt x="40" y="267"/>
                </a:lnTo>
                <a:lnTo>
                  <a:pt x="35" y="265"/>
                </a:lnTo>
                <a:lnTo>
                  <a:pt x="27" y="262"/>
                </a:lnTo>
                <a:lnTo>
                  <a:pt x="23" y="260"/>
                </a:lnTo>
                <a:lnTo>
                  <a:pt x="17" y="258"/>
                </a:lnTo>
                <a:lnTo>
                  <a:pt x="14" y="254"/>
                </a:lnTo>
                <a:lnTo>
                  <a:pt x="10" y="252"/>
                </a:lnTo>
                <a:lnTo>
                  <a:pt x="6" y="248"/>
                </a:lnTo>
                <a:lnTo>
                  <a:pt x="4" y="244"/>
                </a:lnTo>
                <a:lnTo>
                  <a:pt x="2" y="240"/>
                </a:lnTo>
                <a:lnTo>
                  <a:pt x="0" y="237"/>
                </a:lnTo>
                <a:lnTo>
                  <a:pt x="0" y="233"/>
                </a:lnTo>
                <a:lnTo>
                  <a:pt x="0" y="229"/>
                </a:lnTo>
                <a:lnTo>
                  <a:pt x="6" y="227"/>
                </a:lnTo>
                <a:lnTo>
                  <a:pt x="12" y="223"/>
                </a:lnTo>
                <a:lnTo>
                  <a:pt x="19" y="221"/>
                </a:lnTo>
                <a:lnTo>
                  <a:pt x="29" y="217"/>
                </a:lnTo>
                <a:lnTo>
                  <a:pt x="37" y="215"/>
                </a:lnTo>
                <a:lnTo>
                  <a:pt x="48" y="212"/>
                </a:lnTo>
                <a:lnTo>
                  <a:pt x="58" y="210"/>
                </a:lnTo>
                <a:lnTo>
                  <a:pt x="69" y="206"/>
                </a:lnTo>
                <a:lnTo>
                  <a:pt x="81" y="202"/>
                </a:lnTo>
                <a:lnTo>
                  <a:pt x="94" y="200"/>
                </a:lnTo>
                <a:lnTo>
                  <a:pt x="108" y="196"/>
                </a:lnTo>
                <a:lnTo>
                  <a:pt x="123" y="192"/>
                </a:lnTo>
                <a:lnTo>
                  <a:pt x="138" y="189"/>
                </a:lnTo>
                <a:lnTo>
                  <a:pt x="154" y="185"/>
                </a:lnTo>
                <a:lnTo>
                  <a:pt x="171" y="181"/>
                </a:lnTo>
                <a:lnTo>
                  <a:pt x="188" y="177"/>
                </a:lnTo>
                <a:lnTo>
                  <a:pt x="205" y="171"/>
                </a:lnTo>
                <a:lnTo>
                  <a:pt x="225" y="167"/>
                </a:lnTo>
                <a:lnTo>
                  <a:pt x="244" y="164"/>
                </a:lnTo>
                <a:lnTo>
                  <a:pt x="263" y="158"/>
                </a:lnTo>
                <a:lnTo>
                  <a:pt x="284" y="154"/>
                </a:lnTo>
                <a:lnTo>
                  <a:pt x="305" y="150"/>
                </a:lnTo>
                <a:lnTo>
                  <a:pt x="328" y="144"/>
                </a:lnTo>
                <a:lnTo>
                  <a:pt x="351" y="139"/>
                </a:lnTo>
                <a:lnTo>
                  <a:pt x="374" y="135"/>
                </a:lnTo>
                <a:lnTo>
                  <a:pt x="399" y="129"/>
                </a:lnTo>
                <a:lnTo>
                  <a:pt x="424" y="123"/>
                </a:lnTo>
                <a:lnTo>
                  <a:pt x="449" y="120"/>
                </a:lnTo>
                <a:lnTo>
                  <a:pt x="476" y="114"/>
                </a:lnTo>
                <a:lnTo>
                  <a:pt x="503" y="108"/>
                </a:lnTo>
                <a:lnTo>
                  <a:pt x="530" y="102"/>
                </a:lnTo>
                <a:lnTo>
                  <a:pt x="559"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192"/>
          <p:cNvSpPr/>
          <p:nvPr/>
        </p:nvSpPr>
        <p:spPr>
          <a:xfrm>
            <a:off x="5837400" y="2760840"/>
            <a:ext cx="187200" cy="598320"/>
          </a:xfrm>
          <a:custGeom>
            <a:avLst/>
            <a:gdLst/>
            <a:ahLst/>
            <a:rect l="l" t="t" r="r" b="b"/>
            <a:pathLst>
              <a:path w="236" h="754">
                <a:moveTo>
                  <a:pt x="73" y="192"/>
                </a:moveTo>
                <a:lnTo>
                  <a:pt x="71" y="172"/>
                </a:lnTo>
                <a:lnTo>
                  <a:pt x="69" y="157"/>
                </a:lnTo>
                <a:lnTo>
                  <a:pt x="67" y="142"/>
                </a:lnTo>
                <a:lnTo>
                  <a:pt x="63" y="128"/>
                </a:lnTo>
                <a:lnTo>
                  <a:pt x="57" y="115"/>
                </a:lnTo>
                <a:lnTo>
                  <a:pt x="52" y="103"/>
                </a:lnTo>
                <a:lnTo>
                  <a:pt x="44" y="92"/>
                </a:lnTo>
                <a:lnTo>
                  <a:pt x="36" y="82"/>
                </a:lnTo>
                <a:lnTo>
                  <a:pt x="27" y="78"/>
                </a:lnTo>
                <a:lnTo>
                  <a:pt x="19" y="71"/>
                </a:lnTo>
                <a:lnTo>
                  <a:pt x="13" y="65"/>
                </a:lnTo>
                <a:lnTo>
                  <a:pt x="8" y="57"/>
                </a:lnTo>
                <a:lnTo>
                  <a:pt x="4" y="50"/>
                </a:lnTo>
                <a:lnTo>
                  <a:pt x="2" y="40"/>
                </a:lnTo>
                <a:lnTo>
                  <a:pt x="0" y="32"/>
                </a:lnTo>
                <a:lnTo>
                  <a:pt x="0" y="23"/>
                </a:lnTo>
                <a:lnTo>
                  <a:pt x="0" y="19"/>
                </a:lnTo>
                <a:lnTo>
                  <a:pt x="2" y="13"/>
                </a:lnTo>
                <a:lnTo>
                  <a:pt x="6" y="9"/>
                </a:lnTo>
                <a:lnTo>
                  <a:pt x="9" y="5"/>
                </a:lnTo>
                <a:lnTo>
                  <a:pt x="17" y="3"/>
                </a:lnTo>
                <a:lnTo>
                  <a:pt x="21" y="2"/>
                </a:lnTo>
                <a:lnTo>
                  <a:pt x="25" y="2"/>
                </a:lnTo>
                <a:lnTo>
                  <a:pt x="31" y="0"/>
                </a:lnTo>
                <a:lnTo>
                  <a:pt x="34" y="0"/>
                </a:lnTo>
                <a:lnTo>
                  <a:pt x="42" y="0"/>
                </a:lnTo>
                <a:lnTo>
                  <a:pt x="48" y="0"/>
                </a:lnTo>
                <a:lnTo>
                  <a:pt x="56" y="0"/>
                </a:lnTo>
                <a:lnTo>
                  <a:pt x="63" y="0"/>
                </a:lnTo>
                <a:lnTo>
                  <a:pt x="71" y="0"/>
                </a:lnTo>
                <a:lnTo>
                  <a:pt x="81" y="2"/>
                </a:lnTo>
                <a:lnTo>
                  <a:pt x="88" y="2"/>
                </a:lnTo>
                <a:lnTo>
                  <a:pt x="100" y="3"/>
                </a:lnTo>
                <a:lnTo>
                  <a:pt x="109" y="5"/>
                </a:lnTo>
                <a:lnTo>
                  <a:pt x="121" y="9"/>
                </a:lnTo>
                <a:lnTo>
                  <a:pt x="132" y="11"/>
                </a:lnTo>
                <a:lnTo>
                  <a:pt x="144" y="15"/>
                </a:lnTo>
                <a:lnTo>
                  <a:pt x="157" y="19"/>
                </a:lnTo>
                <a:lnTo>
                  <a:pt x="171" y="23"/>
                </a:lnTo>
                <a:lnTo>
                  <a:pt x="184" y="28"/>
                </a:lnTo>
                <a:lnTo>
                  <a:pt x="200" y="34"/>
                </a:lnTo>
                <a:lnTo>
                  <a:pt x="215" y="40"/>
                </a:lnTo>
                <a:lnTo>
                  <a:pt x="230" y="48"/>
                </a:lnTo>
                <a:lnTo>
                  <a:pt x="230" y="92"/>
                </a:lnTo>
                <a:lnTo>
                  <a:pt x="232" y="134"/>
                </a:lnTo>
                <a:lnTo>
                  <a:pt x="232" y="174"/>
                </a:lnTo>
                <a:lnTo>
                  <a:pt x="234" y="215"/>
                </a:lnTo>
                <a:lnTo>
                  <a:pt x="234" y="253"/>
                </a:lnTo>
                <a:lnTo>
                  <a:pt x="236" y="291"/>
                </a:lnTo>
                <a:lnTo>
                  <a:pt x="236" y="326"/>
                </a:lnTo>
                <a:lnTo>
                  <a:pt x="236" y="361"/>
                </a:lnTo>
                <a:lnTo>
                  <a:pt x="236" y="393"/>
                </a:lnTo>
                <a:lnTo>
                  <a:pt x="236" y="426"/>
                </a:lnTo>
                <a:lnTo>
                  <a:pt x="236" y="456"/>
                </a:lnTo>
                <a:lnTo>
                  <a:pt x="236" y="485"/>
                </a:lnTo>
                <a:lnTo>
                  <a:pt x="236" y="512"/>
                </a:lnTo>
                <a:lnTo>
                  <a:pt x="236" y="537"/>
                </a:lnTo>
                <a:lnTo>
                  <a:pt x="236" y="562"/>
                </a:lnTo>
                <a:lnTo>
                  <a:pt x="236" y="585"/>
                </a:lnTo>
                <a:lnTo>
                  <a:pt x="236" y="606"/>
                </a:lnTo>
                <a:lnTo>
                  <a:pt x="234" y="625"/>
                </a:lnTo>
                <a:lnTo>
                  <a:pt x="234" y="645"/>
                </a:lnTo>
                <a:lnTo>
                  <a:pt x="232" y="662"/>
                </a:lnTo>
                <a:lnTo>
                  <a:pt x="230" y="677"/>
                </a:lnTo>
                <a:lnTo>
                  <a:pt x="230" y="693"/>
                </a:lnTo>
                <a:lnTo>
                  <a:pt x="228" y="704"/>
                </a:lnTo>
                <a:lnTo>
                  <a:pt x="226" y="716"/>
                </a:lnTo>
                <a:lnTo>
                  <a:pt x="224" y="725"/>
                </a:lnTo>
                <a:lnTo>
                  <a:pt x="223" y="735"/>
                </a:lnTo>
                <a:lnTo>
                  <a:pt x="221" y="741"/>
                </a:lnTo>
                <a:lnTo>
                  <a:pt x="217" y="746"/>
                </a:lnTo>
                <a:lnTo>
                  <a:pt x="215" y="750"/>
                </a:lnTo>
                <a:lnTo>
                  <a:pt x="211" y="754"/>
                </a:lnTo>
                <a:lnTo>
                  <a:pt x="209" y="754"/>
                </a:lnTo>
                <a:lnTo>
                  <a:pt x="205" y="754"/>
                </a:lnTo>
                <a:lnTo>
                  <a:pt x="201" y="754"/>
                </a:lnTo>
                <a:lnTo>
                  <a:pt x="200" y="754"/>
                </a:lnTo>
                <a:lnTo>
                  <a:pt x="196" y="752"/>
                </a:lnTo>
                <a:lnTo>
                  <a:pt x="192" y="750"/>
                </a:lnTo>
                <a:lnTo>
                  <a:pt x="190" y="748"/>
                </a:lnTo>
                <a:lnTo>
                  <a:pt x="186" y="744"/>
                </a:lnTo>
                <a:lnTo>
                  <a:pt x="182" y="742"/>
                </a:lnTo>
                <a:lnTo>
                  <a:pt x="180" y="739"/>
                </a:lnTo>
                <a:lnTo>
                  <a:pt x="176" y="735"/>
                </a:lnTo>
                <a:lnTo>
                  <a:pt x="175" y="729"/>
                </a:lnTo>
                <a:lnTo>
                  <a:pt x="173" y="725"/>
                </a:lnTo>
                <a:lnTo>
                  <a:pt x="169" y="719"/>
                </a:lnTo>
                <a:lnTo>
                  <a:pt x="167" y="712"/>
                </a:lnTo>
                <a:lnTo>
                  <a:pt x="163" y="706"/>
                </a:lnTo>
                <a:lnTo>
                  <a:pt x="161" y="698"/>
                </a:lnTo>
                <a:lnTo>
                  <a:pt x="159" y="691"/>
                </a:lnTo>
                <a:lnTo>
                  <a:pt x="155" y="683"/>
                </a:lnTo>
                <a:lnTo>
                  <a:pt x="153" y="673"/>
                </a:lnTo>
                <a:lnTo>
                  <a:pt x="152" y="666"/>
                </a:lnTo>
                <a:lnTo>
                  <a:pt x="148" y="656"/>
                </a:lnTo>
                <a:lnTo>
                  <a:pt x="146" y="645"/>
                </a:lnTo>
                <a:lnTo>
                  <a:pt x="144" y="635"/>
                </a:lnTo>
                <a:lnTo>
                  <a:pt x="142" y="623"/>
                </a:lnTo>
                <a:lnTo>
                  <a:pt x="138" y="612"/>
                </a:lnTo>
                <a:lnTo>
                  <a:pt x="136" y="600"/>
                </a:lnTo>
                <a:lnTo>
                  <a:pt x="134" y="587"/>
                </a:lnTo>
                <a:lnTo>
                  <a:pt x="132" y="575"/>
                </a:lnTo>
                <a:lnTo>
                  <a:pt x="129" y="562"/>
                </a:lnTo>
                <a:lnTo>
                  <a:pt x="127" y="547"/>
                </a:lnTo>
                <a:lnTo>
                  <a:pt x="125" y="533"/>
                </a:lnTo>
                <a:lnTo>
                  <a:pt x="123" y="518"/>
                </a:lnTo>
                <a:lnTo>
                  <a:pt x="121" y="503"/>
                </a:lnTo>
                <a:lnTo>
                  <a:pt x="117" y="472"/>
                </a:lnTo>
                <a:lnTo>
                  <a:pt x="111" y="441"/>
                </a:lnTo>
                <a:lnTo>
                  <a:pt x="107" y="414"/>
                </a:lnTo>
                <a:lnTo>
                  <a:pt x="105" y="387"/>
                </a:lnTo>
                <a:lnTo>
                  <a:pt x="102" y="362"/>
                </a:lnTo>
                <a:lnTo>
                  <a:pt x="98" y="339"/>
                </a:lnTo>
                <a:lnTo>
                  <a:pt x="94" y="316"/>
                </a:lnTo>
                <a:lnTo>
                  <a:pt x="92" y="297"/>
                </a:lnTo>
                <a:lnTo>
                  <a:pt x="88" y="278"/>
                </a:lnTo>
                <a:lnTo>
                  <a:pt x="86" y="261"/>
                </a:lnTo>
                <a:lnTo>
                  <a:pt x="84" y="245"/>
                </a:lnTo>
                <a:lnTo>
                  <a:pt x="81" y="230"/>
                </a:lnTo>
                <a:lnTo>
                  <a:pt x="79" y="218"/>
                </a:lnTo>
                <a:lnTo>
                  <a:pt x="77" y="207"/>
                </a:lnTo>
                <a:lnTo>
                  <a:pt x="75" y="197"/>
                </a:lnTo>
                <a:lnTo>
                  <a:pt x="73" y="1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193"/>
          <p:cNvSpPr/>
          <p:nvPr/>
        </p:nvSpPr>
        <p:spPr>
          <a:xfrm>
            <a:off x="6012000" y="3178080"/>
            <a:ext cx="431640" cy="104760"/>
          </a:xfrm>
          <a:custGeom>
            <a:avLst/>
            <a:gdLst/>
            <a:ahLst/>
            <a:rect l="l" t="t" r="r" b="b"/>
            <a:pathLst>
              <a:path w="545" h="132">
                <a:moveTo>
                  <a:pt x="267" y="25"/>
                </a:moveTo>
                <a:lnTo>
                  <a:pt x="297" y="19"/>
                </a:lnTo>
                <a:lnTo>
                  <a:pt x="330" y="15"/>
                </a:lnTo>
                <a:lnTo>
                  <a:pt x="362" y="11"/>
                </a:lnTo>
                <a:lnTo>
                  <a:pt x="395" y="7"/>
                </a:lnTo>
                <a:lnTo>
                  <a:pt x="432" y="5"/>
                </a:lnTo>
                <a:lnTo>
                  <a:pt x="466" y="1"/>
                </a:lnTo>
                <a:lnTo>
                  <a:pt x="485" y="1"/>
                </a:lnTo>
                <a:lnTo>
                  <a:pt x="505" y="1"/>
                </a:lnTo>
                <a:lnTo>
                  <a:pt x="524" y="0"/>
                </a:lnTo>
                <a:lnTo>
                  <a:pt x="545" y="0"/>
                </a:lnTo>
                <a:lnTo>
                  <a:pt x="545" y="48"/>
                </a:lnTo>
                <a:lnTo>
                  <a:pt x="545" y="96"/>
                </a:lnTo>
                <a:lnTo>
                  <a:pt x="541" y="96"/>
                </a:lnTo>
                <a:lnTo>
                  <a:pt x="537" y="96"/>
                </a:lnTo>
                <a:lnTo>
                  <a:pt x="531" y="96"/>
                </a:lnTo>
                <a:lnTo>
                  <a:pt x="524" y="97"/>
                </a:lnTo>
                <a:lnTo>
                  <a:pt x="518" y="97"/>
                </a:lnTo>
                <a:lnTo>
                  <a:pt x="508" y="97"/>
                </a:lnTo>
                <a:lnTo>
                  <a:pt x="501" y="97"/>
                </a:lnTo>
                <a:lnTo>
                  <a:pt x="491" y="97"/>
                </a:lnTo>
                <a:lnTo>
                  <a:pt x="480" y="99"/>
                </a:lnTo>
                <a:lnTo>
                  <a:pt x="468" y="99"/>
                </a:lnTo>
                <a:lnTo>
                  <a:pt x="457" y="99"/>
                </a:lnTo>
                <a:lnTo>
                  <a:pt x="443" y="101"/>
                </a:lnTo>
                <a:lnTo>
                  <a:pt x="428" y="101"/>
                </a:lnTo>
                <a:lnTo>
                  <a:pt x="414" y="103"/>
                </a:lnTo>
                <a:lnTo>
                  <a:pt x="397" y="103"/>
                </a:lnTo>
                <a:lnTo>
                  <a:pt x="382" y="105"/>
                </a:lnTo>
                <a:lnTo>
                  <a:pt x="364" y="105"/>
                </a:lnTo>
                <a:lnTo>
                  <a:pt x="345" y="107"/>
                </a:lnTo>
                <a:lnTo>
                  <a:pt x="326" y="109"/>
                </a:lnTo>
                <a:lnTo>
                  <a:pt x="307" y="109"/>
                </a:lnTo>
                <a:lnTo>
                  <a:pt x="286" y="111"/>
                </a:lnTo>
                <a:lnTo>
                  <a:pt x="263" y="113"/>
                </a:lnTo>
                <a:lnTo>
                  <a:pt x="242" y="115"/>
                </a:lnTo>
                <a:lnTo>
                  <a:pt x="217" y="117"/>
                </a:lnTo>
                <a:lnTo>
                  <a:pt x="194" y="119"/>
                </a:lnTo>
                <a:lnTo>
                  <a:pt x="169" y="121"/>
                </a:lnTo>
                <a:lnTo>
                  <a:pt x="142" y="122"/>
                </a:lnTo>
                <a:lnTo>
                  <a:pt x="115" y="124"/>
                </a:lnTo>
                <a:lnTo>
                  <a:pt x="88" y="126"/>
                </a:lnTo>
                <a:lnTo>
                  <a:pt x="59" y="128"/>
                </a:lnTo>
                <a:lnTo>
                  <a:pt x="29" y="130"/>
                </a:lnTo>
                <a:lnTo>
                  <a:pt x="0" y="132"/>
                </a:lnTo>
                <a:lnTo>
                  <a:pt x="0" y="84"/>
                </a:lnTo>
                <a:lnTo>
                  <a:pt x="0" y="36"/>
                </a:lnTo>
                <a:lnTo>
                  <a:pt x="19" y="36"/>
                </a:lnTo>
                <a:lnTo>
                  <a:pt x="38" y="36"/>
                </a:lnTo>
                <a:lnTo>
                  <a:pt x="57" y="36"/>
                </a:lnTo>
                <a:lnTo>
                  <a:pt x="76" y="36"/>
                </a:lnTo>
                <a:lnTo>
                  <a:pt x="94" y="36"/>
                </a:lnTo>
                <a:lnTo>
                  <a:pt x="113" y="36"/>
                </a:lnTo>
                <a:lnTo>
                  <a:pt x="146" y="34"/>
                </a:lnTo>
                <a:lnTo>
                  <a:pt x="178" y="32"/>
                </a:lnTo>
                <a:lnTo>
                  <a:pt x="209" y="30"/>
                </a:lnTo>
                <a:lnTo>
                  <a:pt x="238" y="28"/>
                </a:lnTo>
                <a:lnTo>
                  <a:pt x="267" y="2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Freeform 194"/>
          <p:cNvSpPr/>
          <p:nvPr/>
        </p:nvSpPr>
        <p:spPr>
          <a:xfrm>
            <a:off x="5991120" y="2960640"/>
            <a:ext cx="379440" cy="131760"/>
          </a:xfrm>
          <a:custGeom>
            <a:avLst/>
            <a:gdLst/>
            <a:ahLst/>
            <a:rect l="l" t="t" r="r" b="b"/>
            <a:pathLst>
              <a:path w="478" h="167">
                <a:moveTo>
                  <a:pt x="474" y="96"/>
                </a:moveTo>
                <a:lnTo>
                  <a:pt x="472" y="100"/>
                </a:lnTo>
                <a:lnTo>
                  <a:pt x="470" y="102"/>
                </a:lnTo>
                <a:lnTo>
                  <a:pt x="466" y="106"/>
                </a:lnTo>
                <a:lnTo>
                  <a:pt x="462" y="108"/>
                </a:lnTo>
                <a:lnTo>
                  <a:pt x="455" y="110"/>
                </a:lnTo>
                <a:lnTo>
                  <a:pt x="451" y="111"/>
                </a:lnTo>
                <a:lnTo>
                  <a:pt x="447" y="111"/>
                </a:lnTo>
                <a:lnTo>
                  <a:pt x="443" y="113"/>
                </a:lnTo>
                <a:lnTo>
                  <a:pt x="437" y="115"/>
                </a:lnTo>
                <a:lnTo>
                  <a:pt x="432" y="117"/>
                </a:lnTo>
                <a:lnTo>
                  <a:pt x="424" y="119"/>
                </a:lnTo>
                <a:lnTo>
                  <a:pt x="420" y="121"/>
                </a:lnTo>
                <a:lnTo>
                  <a:pt x="416" y="121"/>
                </a:lnTo>
                <a:lnTo>
                  <a:pt x="411" y="123"/>
                </a:lnTo>
                <a:lnTo>
                  <a:pt x="405" y="125"/>
                </a:lnTo>
                <a:lnTo>
                  <a:pt x="399" y="125"/>
                </a:lnTo>
                <a:lnTo>
                  <a:pt x="393" y="127"/>
                </a:lnTo>
                <a:lnTo>
                  <a:pt x="386" y="129"/>
                </a:lnTo>
                <a:lnTo>
                  <a:pt x="376" y="131"/>
                </a:lnTo>
                <a:lnTo>
                  <a:pt x="368" y="133"/>
                </a:lnTo>
                <a:lnTo>
                  <a:pt x="359" y="133"/>
                </a:lnTo>
                <a:lnTo>
                  <a:pt x="349" y="134"/>
                </a:lnTo>
                <a:lnTo>
                  <a:pt x="338" y="136"/>
                </a:lnTo>
                <a:lnTo>
                  <a:pt x="326" y="138"/>
                </a:lnTo>
                <a:lnTo>
                  <a:pt x="315" y="140"/>
                </a:lnTo>
                <a:lnTo>
                  <a:pt x="303" y="142"/>
                </a:lnTo>
                <a:lnTo>
                  <a:pt x="290" y="144"/>
                </a:lnTo>
                <a:lnTo>
                  <a:pt x="276" y="144"/>
                </a:lnTo>
                <a:lnTo>
                  <a:pt x="261" y="146"/>
                </a:lnTo>
                <a:lnTo>
                  <a:pt x="247" y="148"/>
                </a:lnTo>
                <a:lnTo>
                  <a:pt x="230" y="150"/>
                </a:lnTo>
                <a:lnTo>
                  <a:pt x="215" y="152"/>
                </a:lnTo>
                <a:lnTo>
                  <a:pt x="197" y="154"/>
                </a:lnTo>
                <a:lnTo>
                  <a:pt x="180" y="156"/>
                </a:lnTo>
                <a:lnTo>
                  <a:pt x="163" y="156"/>
                </a:lnTo>
                <a:lnTo>
                  <a:pt x="144" y="157"/>
                </a:lnTo>
                <a:lnTo>
                  <a:pt x="126" y="159"/>
                </a:lnTo>
                <a:lnTo>
                  <a:pt x="105" y="161"/>
                </a:lnTo>
                <a:lnTo>
                  <a:pt x="86" y="161"/>
                </a:lnTo>
                <a:lnTo>
                  <a:pt x="65" y="163"/>
                </a:lnTo>
                <a:lnTo>
                  <a:pt x="44" y="165"/>
                </a:lnTo>
                <a:lnTo>
                  <a:pt x="21" y="165"/>
                </a:lnTo>
                <a:lnTo>
                  <a:pt x="0" y="167"/>
                </a:lnTo>
                <a:lnTo>
                  <a:pt x="6" y="108"/>
                </a:lnTo>
                <a:lnTo>
                  <a:pt x="11" y="48"/>
                </a:lnTo>
                <a:lnTo>
                  <a:pt x="38" y="46"/>
                </a:lnTo>
                <a:lnTo>
                  <a:pt x="63" y="46"/>
                </a:lnTo>
                <a:lnTo>
                  <a:pt x="88" y="46"/>
                </a:lnTo>
                <a:lnTo>
                  <a:pt x="111" y="44"/>
                </a:lnTo>
                <a:lnTo>
                  <a:pt x="134" y="44"/>
                </a:lnTo>
                <a:lnTo>
                  <a:pt x="155" y="42"/>
                </a:lnTo>
                <a:lnTo>
                  <a:pt x="174" y="42"/>
                </a:lnTo>
                <a:lnTo>
                  <a:pt x="192" y="40"/>
                </a:lnTo>
                <a:lnTo>
                  <a:pt x="209" y="38"/>
                </a:lnTo>
                <a:lnTo>
                  <a:pt x="224" y="37"/>
                </a:lnTo>
                <a:lnTo>
                  <a:pt x="240" y="35"/>
                </a:lnTo>
                <a:lnTo>
                  <a:pt x="253" y="33"/>
                </a:lnTo>
                <a:lnTo>
                  <a:pt x="265" y="31"/>
                </a:lnTo>
                <a:lnTo>
                  <a:pt x="274" y="27"/>
                </a:lnTo>
                <a:lnTo>
                  <a:pt x="284" y="25"/>
                </a:lnTo>
                <a:lnTo>
                  <a:pt x="292" y="23"/>
                </a:lnTo>
                <a:lnTo>
                  <a:pt x="303" y="19"/>
                </a:lnTo>
                <a:lnTo>
                  <a:pt x="316" y="14"/>
                </a:lnTo>
                <a:lnTo>
                  <a:pt x="328" y="10"/>
                </a:lnTo>
                <a:lnTo>
                  <a:pt x="340" y="6"/>
                </a:lnTo>
                <a:lnTo>
                  <a:pt x="351" y="4"/>
                </a:lnTo>
                <a:lnTo>
                  <a:pt x="363" y="2"/>
                </a:lnTo>
                <a:lnTo>
                  <a:pt x="374" y="0"/>
                </a:lnTo>
                <a:lnTo>
                  <a:pt x="387" y="0"/>
                </a:lnTo>
                <a:lnTo>
                  <a:pt x="401" y="4"/>
                </a:lnTo>
                <a:lnTo>
                  <a:pt x="412" y="8"/>
                </a:lnTo>
                <a:lnTo>
                  <a:pt x="424" y="14"/>
                </a:lnTo>
                <a:lnTo>
                  <a:pt x="434" y="17"/>
                </a:lnTo>
                <a:lnTo>
                  <a:pt x="441" y="21"/>
                </a:lnTo>
                <a:lnTo>
                  <a:pt x="449" y="27"/>
                </a:lnTo>
                <a:lnTo>
                  <a:pt x="455" y="31"/>
                </a:lnTo>
                <a:lnTo>
                  <a:pt x="460" y="35"/>
                </a:lnTo>
                <a:lnTo>
                  <a:pt x="464" y="44"/>
                </a:lnTo>
                <a:lnTo>
                  <a:pt x="470" y="54"/>
                </a:lnTo>
                <a:lnTo>
                  <a:pt x="472" y="62"/>
                </a:lnTo>
                <a:lnTo>
                  <a:pt x="476" y="69"/>
                </a:lnTo>
                <a:lnTo>
                  <a:pt x="478" y="77"/>
                </a:lnTo>
                <a:lnTo>
                  <a:pt x="478" y="85"/>
                </a:lnTo>
                <a:lnTo>
                  <a:pt x="478" y="86"/>
                </a:lnTo>
                <a:lnTo>
                  <a:pt x="476" y="90"/>
                </a:lnTo>
                <a:lnTo>
                  <a:pt x="476" y="92"/>
                </a:lnTo>
                <a:lnTo>
                  <a:pt x="474"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Freeform 195"/>
          <p:cNvSpPr/>
          <p:nvPr/>
        </p:nvSpPr>
        <p:spPr>
          <a:xfrm>
            <a:off x="5991120" y="2719440"/>
            <a:ext cx="665280" cy="566640"/>
          </a:xfrm>
          <a:custGeom>
            <a:avLst/>
            <a:gdLst/>
            <a:ahLst/>
            <a:rect l="l" t="t" r="r" b="b"/>
            <a:pathLst>
              <a:path w="837" h="714">
                <a:moveTo>
                  <a:pt x="704" y="411"/>
                </a:moveTo>
                <a:lnTo>
                  <a:pt x="698" y="432"/>
                </a:lnTo>
                <a:lnTo>
                  <a:pt x="695" y="453"/>
                </a:lnTo>
                <a:lnTo>
                  <a:pt x="691" y="474"/>
                </a:lnTo>
                <a:lnTo>
                  <a:pt x="685" y="493"/>
                </a:lnTo>
                <a:lnTo>
                  <a:pt x="681" y="512"/>
                </a:lnTo>
                <a:lnTo>
                  <a:pt x="677" y="530"/>
                </a:lnTo>
                <a:lnTo>
                  <a:pt x="673" y="547"/>
                </a:lnTo>
                <a:lnTo>
                  <a:pt x="670" y="562"/>
                </a:lnTo>
                <a:lnTo>
                  <a:pt x="664" y="576"/>
                </a:lnTo>
                <a:lnTo>
                  <a:pt x="662" y="589"/>
                </a:lnTo>
                <a:lnTo>
                  <a:pt x="658" y="603"/>
                </a:lnTo>
                <a:lnTo>
                  <a:pt x="654" y="614"/>
                </a:lnTo>
                <a:lnTo>
                  <a:pt x="650" y="626"/>
                </a:lnTo>
                <a:lnTo>
                  <a:pt x="649" y="635"/>
                </a:lnTo>
                <a:lnTo>
                  <a:pt x="645" y="643"/>
                </a:lnTo>
                <a:lnTo>
                  <a:pt x="643" y="651"/>
                </a:lnTo>
                <a:lnTo>
                  <a:pt x="639" y="658"/>
                </a:lnTo>
                <a:lnTo>
                  <a:pt x="633" y="668"/>
                </a:lnTo>
                <a:lnTo>
                  <a:pt x="629" y="674"/>
                </a:lnTo>
                <a:lnTo>
                  <a:pt x="625" y="681"/>
                </a:lnTo>
                <a:lnTo>
                  <a:pt x="620" y="687"/>
                </a:lnTo>
                <a:lnTo>
                  <a:pt x="616" y="693"/>
                </a:lnTo>
                <a:lnTo>
                  <a:pt x="612" y="699"/>
                </a:lnTo>
                <a:lnTo>
                  <a:pt x="608" y="702"/>
                </a:lnTo>
                <a:lnTo>
                  <a:pt x="604" y="706"/>
                </a:lnTo>
                <a:lnTo>
                  <a:pt x="601" y="708"/>
                </a:lnTo>
                <a:lnTo>
                  <a:pt x="597" y="712"/>
                </a:lnTo>
                <a:lnTo>
                  <a:pt x="593" y="712"/>
                </a:lnTo>
                <a:lnTo>
                  <a:pt x="591" y="714"/>
                </a:lnTo>
                <a:lnTo>
                  <a:pt x="587" y="712"/>
                </a:lnTo>
                <a:lnTo>
                  <a:pt x="585" y="712"/>
                </a:lnTo>
                <a:lnTo>
                  <a:pt x="581" y="710"/>
                </a:lnTo>
                <a:lnTo>
                  <a:pt x="578" y="706"/>
                </a:lnTo>
                <a:lnTo>
                  <a:pt x="572" y="702"/>
                </a:lnTo>
                <a:lnTo>
                  <a:pt x="564" y="700"/>
                </a:lnTo>
                <a:lnTo>
                  <a:pt x="558" y="699"/>
                </a:lnTo>
                <a:lnTo>
                  <a:pt x="551" y="697"/>
                </a:lnTo>
                <a:lnTo>
                  <a:pt x="545" y="693"/>
                </a:lnTo>
                <a:lnTo>
                  <a:pt x="539" y="691"/>
                </a:lnTo>
                <a:lnTo>
                  <a:pt x="533" y="687"/>
                </a:lnTo>
                <a:lnTo>
                  <a:pt x="531" y="683"/>
                </a:lnTo>
                <a:lnTo>
                  <a:pt x="530" y="679"/>
                </a:lnTo>
                <a:lnTo>
                  <a:pt x="528" y="674"/>
                </a:lnTo>
                <a:lnTo>
                  <a:pt x="528" y="668"/>
                </a:lnTo>
                <a:lnTo>
                  <a:pt x="526" y="660"/>
                </a:lnTo>
                <a:lnTo>
                  <a:pt x="526" y="652"/>
                </a:lnTo>
                <a:lnTo>
                  <a:pt x="526" y="643"/>
                </a:lnTo>
                <a:lnTo>
                  <a:pt x="526" y="631"/>
                </a:lnTo>
                <a:lnTo>
                  <a:pt x="528" y="620"/>
                </a:lnTo>
                <a:lnTo>
                  <a:pt x="528" y="608"/>
                </a:lnTo>
                <a:lnTo>
                  <a:pt x="530" y="593"/>
                </a:lnTo>
                <a:lnTo>
                  <a:pt x="531" y="578"/>
                </a:lnTo>
                <a:lnTo>
                  <a:pt x="535" y="562"/>
                </a:lnTo>
                <a:lnTo>
                  <a:pt x="537" y="545"/>
                </a:lnTo>
                <a:lnTo>
                  <a:pt x="541" y="526"/>
                </a:lnTo>
                <a:lnTo>
                  <a:pt x="547" y="507"/>
                </a:lnTo>
                <a:lnTo>
                  <a:pt x="551" y="485"/>
                </a:lnTo>
                <a:lnTo>
                  <a:pt x="554" y="468"/>
                </a:lnTo>
                <a:lnTo>
                  <a:pt x="558" y="449"/>
                </a:lnTo>
                <a:lnTo>
                  <a:pt x="562" y="432"/>
                </a:lnTo>
                <a:lnTo>
                  <a:pt x="564" y="414"/>
                </a:lnTo>
                <a:lnTo>
                  <a:pt x="568" y="399"/>
                </a:lnTo>
                <a:lnTo>
                  <a:pt x="570" y="384"/>
                </a:lnTo>
                <a:lnTo>
                  <a:pt x="572" y="368"/>
                </a:lnTo>
                <a:lnTo>
                  <a:pt x="576" y="353"/>
                </a:lnTo>
                <a:lnTo>
                  <a:pt x="578" y="340"/>
                </a:lnTo>
                <a:lnTo>
                  <a:pt x="578" y="326"/>
                </a:lnTo>
                <a:lnTo>
                  <a:pt x="579" y="315"/>
                </a:lnTo>
                <a:lnTo>
                  <a:pt x="581" y="290"/>
                </a:lnTo>
                <a:lnTo>
                  <a:pt x="581" y="267"/>
                </a:lnTo>
                <a:lnTo>
                  <a:pt x="581" y="255"/>
                </a:lnTo>
                <a:lnTo>
                  <a:pt x="581" y="246"/>
                </a:lnTo>
                <a:lnTo>
                  <a:pt x="581" y="236"/>
                </a:lnTo>
                <a:lnTo>
                  <a:pt x="581" y="226"/>
                </a:lnTo>
                <a:lnTo>
                  <a:pt x="581" y="217"/>
                </a:lnTo>
                <a:lnTo>
                  <a:pt x="581" y="209"/>
                </a:lnTo>
                <a:lnTo>
                  <a:pt x="579" y="194"/>
                </a:lnTo>
                <a:lnTo>
                  <a:pt x="579" y="180"/>
                </a:lnTo>
                <a:lnTo>
                  <a:pt x="578" y="167"/>
                </a:lnTo>
                <a:lnTo>
                  <a:pt x="574" y="157"/>
                </a:lnTo>
                <a:lnTo>
                  <a:pt x="570" y="148"/>
                </a:lnTo>
                <a:lnTo>
                  <a:pt x="564" y="142"/>
                </a:lnTo>
                <a:lnTo>
                  <a:pt x="558" y="138"/>
                </a:lnTo>
                <a:lnTo>
                  <a:pt x="553" y="134"/>
                </a:lnTo>
                <a:lnTo>
                  <a:pt x="545" y="130"/>
                </a:lnTo>
                <a:lnTo>
                  <a:pt x="539" y="126"/>
                </a:lnTo>
                <a:lnTo>
                  <a:pt x="531" y="125"/>
                </a:lnTo>
                <a:lnTo>
                  <a:pt x="526" y="123"/>
                </a:lnTo>
                <a:lnTo>
                  <a:pt x="522" y="123"/>
                </a:lnTo>
                <a:lnTo>
                  <a:pt x="516" y="123"/>
                </a:lnTo>
                <a:lnTo>
                  <a:pt x="508" y="123"/>
                </a:lnTo>
                <a:lnTo>
                  <a:pt x="501" y="123"/>
                </a:lnTo>
                <a:lnTo>
                  <a:pt x="489" y="123"/>
                </a:lnTo>
                <a:lnTo>
                  <a:pt x="478" y="123"/>
                </a:lnTo>
                <a:lnTo>
                  <a:pt x="464" y="123"/>
                </a:lnTo>
                <a:lnTo>
                  <a:pt x="449" y="123"/>
                </a:lnTo>
                <a:lnTo>
                  <a:pt x="432" y="125"/>
                </a:lnTo>
                <a:lnTo>
                  <a:pt x="412" y="125"/>
                </a:lnTo>
                <a:lnTo>
                  <a:pt x="393" y="125"/>
                </a:lnTo>
                <a:lnTo>
                  <a:pt x="372" y="126"/>
                </a:lnTo>
                <a:lnTo>
                  <a:pt x="349" y="128"/>
                </a:lnTo>
                <a:lnTo>
                  <a:pt x="324" y="128"/>
                </a:lnTo>
                <a:lnTo>
                  <a:pt x="299" y="130"/>
                </a:lnTo>
                <a:lnTo>
                  <a:pt x="270" y="132"/>
                </a:lnTo>
                <a:lnTo>
                  <a:pt x="242" y="134"/>
                </a:lnTo>
                <a:lnTo>
                  <a:pt x="213" y="136"/>
                </a:lnTo>
                <a:lnTo>
                  <a:pt x="186" y="140"/>
                </a:lnTo>
                <a:lnTo>
                  <a:pt x="161" y="142"/>
                </a:lnTo>
                <a:lnTo>
                  <a:pt x="138" y="144"/>
                </a:lnTo>
                <a:lnTo>
                  <a:pt x="115" y="146"/>
                </a:lnTo>
                <a:lnTo>
                  <a:pt x="96" y="148"/>
                </a:lnTo>
                <a:lnTo>
                  <a:pt x="78" y="150"/>
                </a:lnTo>
                <a:lnTo>
                  <a:pt x="61" y="151"/>
                </a:lnTo>
                <a:lnTo>
                  <a:pt x="48" y="153"/>
                </a:lnTo>
                <a:lnTo>
                  <a:pt x="34" y="153"/>
                </a:lnTo>
                <a:lnTo>
                  <a:pt x="25" y="155"/>
                </a:lnTo>
                <a:lnTo>
                  <a:pt x="19" y="155"/>
                </a:lnTo>
                <a:lnTo>
                  <a:pt x="15" y="157"/>
                </a:lnTo>
                <a:lnTo>
                  <a:pt x="11" y="157"/>
                </a:lnTo>
                <a:lnTo>
                  <a:pt x="7" y="157"/>
                </a:lnTo>
                <a:lnTo>
                  <a:pt x="6" y="157"/>
                </a:lnTo>
                <a:lnTo>
                  <a:pt x="4" y="157"/>
                </a:lnTo>
                <a:lnTo>
                  <a:pt x="2" y="159"/>
                </a:lnTo>
                <a:lnTo>
                  <a:pt x="0" y="159"/>
                </a:lnTo>
                <a:lnTo>
                  <a:pt x="0" y="128"/>
                </a:lnTo>
                <a:lnTo>
                  <a:pt x="0" y="100"/>
                </a:lnTo>
                <a:lnTo>
                  <a:pt x="34" y="92"/>
                </a:lnTo>
                <a:lnTo>
                  <a:pt x="71" y="86"/>
                </a:lnTo>
                <a:lnTo>
                  <a:pt x="103" y="79"/>
                </a:lnTo>
                <a:lnTo>
                  <a:pt x="136" y="73"/>
                </a:lnTo>
                <a:lnTo>
                  <a:pt x="169" y="67"/>
                </a:lnTo>
                <a:lnTo>
                  <a:pt x="199" y="61"/>
                </a:lnTo>
                <a:lnTo>
                  <a:pt x="228" y="55"/>
                </a:lnTo>
                <a:lnTo>
                  <a:pt x="257" y="52"/>
                </a:lnTo>
                <a:lnTo>
                  <a:pt x="284" y="46"/>
                </a:lnTo>
                <a:lnTo>
                  <a:pt x="311" y="42"/>
                </a:lnTo>
                <a:lnTo>
                  <a:pt x="336" y="36"/>
                </a:lnTo>
                <a:lnTo>
                  <a:pt x="361" y="32"/>
                </a:lnTo>
                <a:lnTo>
                  <a:pt x="384" y="29"/>
                </a:lnTo>
                <a:lnTo>
                  <a:pt x="405" y="25"/>
                </a:lnTo>
                <a:lnTo>
                  <a:pt x="426" y="21"/>
                </a:lnTo>
                <a:lnTo>
                  <a:pt x="447" y="19"/>
                </a:lnTo>
                <a:lnTo>
                  <a:pt x="466" y="15"/>
                </a:lnTo>
                <a:lnTo>
                  <a:pt x="483" y="13"/>
                </a:lnTo>
                <a:lnTo>
                  <a:pt x="501" y="11"/>
                </a:lnTo>
                <a:lnTo>
                  <a:pt x="518" y="7"/>
                </a:lnTo>
                <a:lnTo>
                  <a:pt x="531" y="6"/>
                </a:lnTo>
                <a:lnTo>
                  <a:pt x="547" y="6"/>
                </a:lnTo>
                <a:lnTo>
                  <a:pt x="560" y="4"/>
                </a:lnTo>
                <a:lnTo>
                  <a:pt x="572" y="2"/>
                </a:lnTo>
                <a:lnTo>
                  <a:pt x="583" y="2"/>
                </a:lnTo>
                <a:lnTo>
                  <a:pt x="593" y="0"/>
                </a:lnTo>
                <a:lnTo>
                  <a:pt x="601" y="0"/>
                </a:lnTo>
                <a:lnTo>
                  <a:pt x="608" y="0"/>
                </a:lnTo>
                <a:lnTo>
                  <a:pt x="616" y="0"/>
                </a:lnTo>
                <a:lnTo>
                  <a:pt x="622" y="2"/>
                </a:lnTo>
                <a:lnTo>
                  <a:pt x="627" y="2"/>
                </a:lnTo>
                <a:lnTo>
                  <a:pt x="631" y="4"/>
                </a:lnTo>
                <a:lnTo>
                  <a:pt x="645" y="7"/>
                </a:lnTo>
                <a:lnTo>
                  <a:pt x="658" y="11"/>
                </a:lnTo>
                <a:lnTo>
                  <a:pt x="673" y="17"/>
                </a:lnTo>
                <a:lnTo>
                  <a:pt x="689" y="23"/>
                </a:lnTo>
                <a:lnTo>
                  <a:pt x="704" y="31"/>
                </a:lnTo>
                <a:lnTo>
                  <a:pt x="723" y="40"/>
                </a:lnTo>
                <a:lnTo>
                  <a:pt x="733" y="44"/>
                </a:lnTo>
                <a:lnTo>
                  <a:pt x="743" y="50"/>
                </a:lnTo>
                <a:lnTo>
                  <a:pt x="754" y="55"/>
                </a:lnTo>
                <a:lnTo>
                  <a:pt x="764" y="63"/>
                </a:lnTo>
                <a:lnTo>
                  <a:pt x="773" y="69"/>
                </a:lnTo>
                <a:lnTo>
                  <a:pt x="781" y="77"/>
                </a:lnTo>
                <a:lnTo>
                  <a:pt x="789" y="82"/>
                </a:lnTo>
                <a:lnTo>
                  <a:pt x="796" y="90"/>
                </a:lnTo>
                <a:lnTo>
                  <a:pt x="802" y="96"/>
                </a:lnTo>
                <a:lnTo>
                  <a:pt x="808" y="102"/>
                </a:lnTo>
                <a:lnTo>
                  <a:pt x="814" y="107"/>
                </a:lnTo>
                <a:lnTo>
                  <a:pt x="819" y="113"/>
                </a:lnTo>
                <a:lnTo>
                  <a:pt x="823" y="119"/>
                </a:lnTo>
                <a:lnTo>
                  <a:pt x="827" y="125"/>
                </a:lnTo>
                <a:lnTo>
                  <a:pt x="829" y="128"/>
                </a:lnTo>
                <a:lnTo>
                  <a:pt x="833" y="134"/>
                </a:lnTo>
                <a:lnTo>
                  <a:pt x="835" y="138"/>
                </a:lnTo>
                <a:lnTo>
                  <a:pt x="837" y="142"/>
                </a:lnTo>
                <a:lnTo>
                  <a:pt x="837" y="144"/>
                </a:lnTo>
                <a:lnTo>
                  <a:pt x="837" y="148"/>
                </a:lnTo>
                <a:lnTo>
                  <a:pt x="833" y="151"/>
                </a:lnTo>
                <a:lnTo>
                  <a:pt x="827" y="157"/>
                </a:lnTo>
                <a:lnTo>
                  <a:pt x="823" y="163"/>
                </a:lnTo>
                <a:lnTo>
                  <a:pt x="817" y="171"/>
                </a:lnTo>
                <a:lnTo>
                  <a:pt x="812" y="176"/>
                </a:lnTo>
                <a:lnTo>
                  <a:pt x="804" y="184"/>
                </a:lnTo>
                <a:lnTo>
                  <a:pt x="796" y="190"/>
                </a:lnTo>
                <a:lnTo>
                  <a:pt x="789" y="196"/>
                </a:lnTo>
                <a:lnTo>
                  <a:pt x="783" y="198"/>
                </a:lnTo>
                <a:lnTo>
                  <a:pt x="775" y="201"/>
                </a:lnTo>
                <a:lnTo>
                  <a:pt x="769" y="207"/>
                </a:lnTo>
                <a:lnTo>
                  <a:pt x="764" y="215"/>
                </a:lnTo>
                <a:lnTo>
                  <a:pt x="758" y="222"/>
                </a:lnTo>
                <a:lnTo>
                  <a:pt x="752" y="234"/>
                </a:lnTo>
                <a:lnTo>
                  <a:pt x="746" y="246"/>
                </a:lnTo>
                <a:lnTo>
                  <a:pt x="741" y="257"/>
                </a:lnTo>
                <a:lnTo>
                  <a:pt x="737" y="272"/>
                </a:lnTo>
                <a:lnTo>
                  <a:pt x="731" y="288"/>
                </a:lnTo>
                <a:lnTo>
                  <a:pt x="727" y="305"/>
                </a:lnTo>
                <a:lnTo>
                  <a:pt x="721" y="322"/>
                </a:lnTo>
                <a:lnTo>
                  <a:pt x="718" y="341"/>
                </a:lnTo>
                <a:lnTo>
                  <a:pt x="712" y="363"/>
                </a:lnTo>
                <a:lnTo>
                  <a:pt x="708" y="386"/>
                </a:lnTo>
                <a:lnTo>
                  <a:pt x="704" y="41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Freeform 196"/>
          <p:cNvSpPr/>
          <p:nvPr/>
        </p:nvSpPr>
        <p:spPr>
          <a:xfrm>
            <a:off x="6012000" y="2417760"/>
            <a:ext cx="414360" cy="419040"/>
          </a:xfrm>
          <a:custGeom>
            <a:avLst/>
            <a:gdLst/>
            <a:ahLst/>
            <a:rect l="l" t="t" r="r" b="b"/>
            <a:pathLst>
              <a:path w="522" h="528">
                <a:moveTo>
                  <a:pt x="522" y="167"/>
                </a:moveTo>
                <a:lnTo>
                  <a:pt x="520" y="171"/>
                </a:lnTo>
                <a:lnTo>
                  <a:pt x="518" y="176"/>
                </a:lnTo>
                <a:lnTo>
                  <a:pt x="516" y="182"/>
                </a:lnTo>
                <a:lnTo>
                  <a:pt x="512" y="188"/>
                </a:lnTo>
                <a:lnTo>
                  <a:pt x="506" y="194"/>
                </a:lnTo>
                <a:lnTo>
                  <a:pt x="501" y="199"/>
                </a:lnTo>
                <a:lnTo>
                  <a:pt x="493" y="205"/>
                </a:lnTo>
                <a:lnTo>
                  <a:pt x="485" y="211"/>
                </a:lnTo>
                <a:lnTo>
                  <a:pt x="478" y="219"/>
                </a:lnTo>
                <a:lnTo>
                  <a:pt x="466" y="226"/>
                </a:lnTo>
                <a:lnTo>
                  <a:pt x="457" y="234"/>
                </a:lnTo>
                <a:lnTo>
                  <a:pt x="443" y="242"/>
                </a:lnTo>
                <a:lnTo>
                  <a:pt x="432" y="249"/>
                </a:lnTo>
                <a:lnTo>
                  <a:pt x="416" y="257"/>
                </a:lnTo>
                <a:lnTo>
                  <a:pt x="403" y="267"/>
                </a:lnTo>
                <a:lnTo>
                  <a:pt x="387" y="274"/>
                </a:lnTo>
                <a:lnTo>
                  <a:pt x="355" y="297"/>
                </a:lnTo>
                <a:lnTo>
                  <a:pt x="322" y="322"/>
                </a:lnTo>
                <a:lnTo>
                  <a:pt x="288" y="347"/>
                </a:lnTo>
                <a:lnTo>
                  <a:pt x="253" y="374"/>
                </a:lnTo>
                <a:lnTo>
                  <a:pt x="219" y="401"/>
                </a:lnTo>
                <a:lnTo>
                  <a:pt x="186" y="430"/>
                </a:lnTo>
                <a:lnTo>
                  <a:pt x="151" y="460"/>
                </a:lnTo>
                <a:lnTo>
                  <a:pt x="121" y="491"/>
                </a:lnTo>
                <a:lnTo>
                  <a:pt x="59" y="508"/>
                </a:lnTo>
                <a:lnTo>
                  <a:pt x="0" y="528"/>
                </a:lnTo>
                <a:lnTo>
                  <a:pt x="13" y="508"/>
                </a:lnTo>
                <a:lnTo>
                  <a:pt x="27" y="489"/>
                </a:lnTo>
                <a:lnTo>
                  <a:pt x="42" y="472"/>
                </a:lnTo>
                <a:lnTo>
                  <a:pt x="55" y="455"/>
                </a:lnTo>
                <a:lnTo>
                  <a:pt x="67" y="437"/>
                </a:lnTo>
                <a:lnTo>
                  <a:pt x="80" y="420"/>
                </a:lnTo>
                <a:lnTo>
                  <a:pt x="94" y="405"/>
                </a:lnTo>
                <a:lnTo>
                  <a:pt x="105" y="389"/>
                </a:lnTo>
                <a:lnTo>
                  <a:pt x="117" y="374"/>
                </a:lnTo>
                <a:lnTo>
                  <a:pt x="128" y="359"/>
                </a:lnTo>
                <a:lnTo>
                  <a:pt x="138" y="345"/>
                </a:lnTo>
                <a:lnTo>
                  <a:pt x="149" y="332"/>
                </a:lnTo>
                <a:lnTo>
                  <a:pt x="159" y="318"/>
                </a:lnTo>
                <a:lnTo>
                  <a:pt x="169" y="307"/>
                </a:lnTo>
                <a:lnTo>
                  <a:pt x="178" y="295"/>
                </a:lnTo>
                <a:lnTo>
                  <a:pt x="188" y="284"/>
                </a:lnTo>
                <a:lnTo>
                  <a:pt x="197" y="272"/>
                </a:lnTo>
                <a:lnTo>
                  <a:pt x="205" y="263"/>
                </a:lnTo>
                <a:lnTo>
                  <a:pt x="213" y="251"/>
                </a:lnTo>
                <a:lnTo>
                  <a:pt x="220" y="242"/>
                </a:lnTo>
                <a:lnTo>
                  <a:pt x="228" y="234"/>
                </a:lnTo>
                <a:lnTo>
                  <a:pt x="234" y="224"/>
                </a:lnTo>
                <a:lnTo>
                  <a:pt x="240" y="217"/>
                </a:lnTo>
                <a:lnTo>
                  <a:pt x="245" y="209"/>
                </a:lnTo>
                <a:lnTo>
                  <a:pt x="251" y="203"/>
                </a:lnTo>
                <a:lnTo>
                  <a:pt x="257" y="196"/>
                </a:lnTo>
                <a:lnTo>
                  <a:pt x="261" y="190"/>
                </a:lnTo>
                <a:lnTo>
                  <a:pt x="267" y="184"/>
                </a:lnTo>
                <a:lnTo>
                  <a:pt x="268" y="178"/>
                </a:lnTo>
                <a:lnTo>
                  <a:pt x="272" y="174"/>
                </a:lnTo>
                <a:lnTo>
                  <a:pt x="276" y="171"/>
                </a:lnTo>
                <a:lnTo>
                  <a:pt x="278" y="167"/>
                </a:lnTo>
                <a:lnTo>
                  <a:pt x="282" y="161"/>
                </a:lnTo>
                <a:lnTo>
                  <a:pt x="286" y="153"/>
                </a:lnTo>
                <a:lnTo>
                  <a:pt x="290" y="146"/>
                </a:lnTo>
                <a:lnTo>
                  <a:pt x="291" y="140"/>
                </a:lnTo>
                <a:lnTo>
                  <a:pt x="293" y="132"/>
                </a:lnTo>
                <a:lnTo>
                  <a:pt x="295" y="126"/>
                </a:lnTo>
                <a:lnTo>
                  <a:pt x="297" y="113"/>
                </a:lnTo>
                <a:lnTo>
                  <a:pt x="297" y="100"/>
                </a:lnTo>
                <a:lnTo>
                  <a:pt x="297" y="86"/>
                </a:lnTo>
                <a:lnTo>
                  <a:pt x="293" y="73"/>
                </a:lnTo>
                <a:lnTo>
                  <a:pt x="290" y="59"/>
                </a:lnTo>
                <a:lnTo>
                  <a:pt x="288" y="52"/>
                </a:lnTo>
                <a:lnTo>
                  <a:pt x="286" y="46"/>
                </a:lnTo>
                <a:lnTo>
                  <a:pt x="284" y="40"/>
                </a:lnTo>
                <a:lnTo>
                  <a:pt x="284" y="36"/>
                </a:lnTo>
                <a:lnTo>
                  <a:pt x="282" y="27"/>
                </a:lnTo>
                <a:lnTo>
                  <a:pt x="282" y="21"/>
                </a:lnTo>
                <a:lnTo>
                  <a:pt x="284" y="13"/>
                </a:lnTo>
                <a:lnTo>
                  <a:pt x="286" y="11"/>
                </a:lnTo>
                <a:lnTo>
                  <a:pt x="288" y="9"/>
                </a:lnTo>
                <a:lnTo>
                  <a:pt x="291" y="6"/>
                </a:lnTo>
                <a:lnTo>
                  <a:pt x="293" y="4"/>
                </a:lnTo>
                <a:lnTo>
                  <a:pt x="297" y="2"/>
                </a:lnTo>
                <a:lnTo>
                  <a:pt x="303" y="0"/>
                </a:lnTo>
                <a:lnTo>
                  <a:pt x="307" y="0"/>
                </a:lnTo>
                <a:lnTo>
                  <a:pt x="313" y="0"/>
                </a:lnTo>
                <a:lnTo>
                  <a:pt x="318" y="2"/>
                </a:lnTo>
                <a:lnTo>
                  <a:pt x="324" y="4"/>
                </a:lnTo>
                <a:lnTo>
                  <a:pt x="332" y="6"/>
                </a:lnTo>
                <a:lnTo>
                  <a:pt x="339" y="7"/>
                </a:lnTo>
                <a:lnTo>
                  <a:pt x="355" y="15"/>
                </a:lnTo>
                <a:lnTo>
                  <a:pt x="374" y="25"/>
                </a:lnTo>
                <a:lnTo>
                  <a:pt x="393" y="34"/>
                </a:lnTo>
                <a:lnTo>
                  <a:pt x="414" y="46"/>
                </a:lnTo>
                <a:lnTo>
                  <a:pt x="435" y="59"/>
                </a:lnTo>
                <a:lnTo>
                  <a:pt x="447" y="65"/>
                </a:lnTo>
                <a:lnTo>
                  <a:pt x="457" y="73"/>
                </a:lnTo>
                <a:lnTo>
                  <a:pt x="466" y="78"/>
                </a:lnTo>
                <a:lnTo>
                  <a:pt x="474" y="86"/>
                </a:lnTo>
                <a:lnTo>
                  <a:pt x="481" y="92"/>
                </a:lnTo>
                <a:lnTo>
                  <a:pt x="489" y="100"/>
                </a:lnTo>
                <a:lnTo>
                  <a:pt x="495" y="105"/>
                </a:lnTo>
                <a:lnTo>
                  <a:pt x="501" y="113"/>
                </a:lnTo>
                <a:lnTo>
                  <a:pt x="506" y="119"/>
                </a:lnTo>
                <a:lnTo>
                  <a:pt x="510" y="126"/>
                </a:lnTo>
                <a:lnTo>
                  <a:pt x="514" y="132"/>
                </a:lnTo>
                <a:lnTo>
                  <a:pt x="516" y="140"/>
                </a:lnTo>
                <a:lnTo>
                  <a:pt x="518" y="146"/>
                </a:lnTo>
                <a:lnTo>
                  <a:pt x="520" y="153"/>
                </a:lnTo>
                <a:lnTo>
                  <a:pt x="520" y="161"/>
                </a:lnTo>
                <a:lnTo>
                  <a:pt x="522" y="1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71"/>
                                        </p:tgtEl>
                                        <p:attrNameLst>
                                          <p:attrName>style.visibility</p:attrName>
                                        </p:attrNameLst>
                                      </p:cBhvr>
                                      <p:to>
                                        <p:strVal val="visible"/>
                                      </p:to>
                                    </p:set>
                                    <p:anim calcmode="lin" valueType="num">
                                      <p:cBhvr additive="base">
                                        <p:cTn id="342" dur="500" fill="hold"/>
                                        <p:tgtEl>
                                          <p:spTgt spid="171"/>
                                        </p:tgtEl>
                                        <p:attrNameLst>
                                          <p:attrName>ppt_x</p:attrName>
                                        </p:attrNameLst>
                                      </p:cBhvr>
                                      <p:tavLst>
                                        <p:tav tm="0">
                                          <p:val>
                                            <p:strVal val="0-#ppt_w/2"/>
                                          </p:val>
                                        </p:tav>
                                        <p:tav tm="100000">
                                          <p:val>
                                            <p:strVal val="#ppt_x"/>
                                          </p:val>
                                        </p:tav>
                                      </p:tavLst>
                                    </p:anim>
                                    <p:anim calcmode="lin" valueType="num">
                                      <p:cBhvr additive="base">
                                        <p:cTn id="343"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188"/>
                                        </p:tgtEl>
                                        <p:attrNameLst>
                                          <p:attrName>style.visibility</p:attrName>
                                        </p:attrNameLst>
                                      </p:cBhvr>
                                      <p:to>
                                        <p:strVal val="visible"/>
                                      </p:to>
                                    </p:set>
                                    <p:animEffect filter="wipe(up)" transition="in">
                                      <p:cBhvr additive="repl">
                                        <p:cTn id="348" dur="500"/>
                                        <p:tgtEl>
                                          <p:spTgt spid="188"/>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184"/>
                                        </p:tgtEl>
                                        <p:attrNameLst>
                                          <p:attrName>style.visibility</p:attrName>
                                        </p:attrNameLst>
                                      </p:cBhvr>
                                      <p:to>
                                        <p:strVal val="visible"/>
                                      </p:to>
                                    </p:set>
                                    <p:animEffect filter="wipe(up)" transition="in">
                                      <p:cBhvr additive="repl">
                                        <p:cTn id="353" dur="500"/>
                                        <p:tgtEl>
                                          <p:spTgt spid="184"/>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8" presetSubtype="6">
                                  <p:stCondLst>
                                    <p:cond delay="0"/>
                                  </p:stCondLst>
                                  <p:childTnLst>
                                    <p:set>
                                      <p:cBhvr>
                                        <p:cTn id="357" dur="1" fill="hold">
                                          <p:stCondLst>
                                            <p:cond delay="0"/>
                                          </p:stCondLst>
                                        </p:cTn>
                                        <p:tgtEl>
                                          <p:spTgt spid="187"/>
                                        </p:tgtEl>
                                        <p:attrNameLst>
                                          <p:attrName>style.visibility</p:attrName>
                                        </p:attrNameLst>
                                      </p:cBhvr>
                                      <p:to>
                                        <p:strVal val="visible"/>
                                      </p:to>
                                    </p:set>
                                    <p:animEffect filter="strips(downRight)" transition="in">
                                      <p:cBhvr additive="repl">
                                        <p:cTn id="358" dur="500"/>
                                        <p:tgtEl>
                                          <p:spTgt spid="18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86"/>
                                        </p:tgtEl>
                                        <p:attrNameLst>
                                          <p:attrName>style.visibility</p:attrName>
                                        </p:attrNameLst>
                                      </p:cBhvr>
                                      <p:to>
                                        <p:strVal val="visible"/>
                                      </p:to>
                                    </p:set>
                                    <p:animEffect filter="wipe(left)" transition="in">
                                      <p:cBhvr additive="repl">
                                        <p:cTn id="363" dur="500"/>
                                        <p:tgtEl>
                                          <p:spTgt spid="186"/>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85"/>
                                        </p:tgtEl>
                                        <p:attrNameLst>
                                          <p:attrName>style.visibility</p:attrName>
                                        </p:attrNameLst>
                                      </p:cBhvr>
                                      <p:to>
                                        <p:strVal val="visible"/>
                                      </p:to>
                                    </p:set>
                                    <p:animEffect filter="wipe(left)" transition="in">
                                      <p:cBhvr additive="repl">
                                        <p:cTn id="368" dur="500"/>
                                        <p:tgtEl>
                                          <p:spTgt spid="18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83"/>
                                        </p:tgtEl>
                                        <p:attrNameLst>
                                          <p:attrName>style.visibility</p:attrName>
                                        </p:attrNameLst>
                                      </p:cBhvr>
                                      <p:to>
                                        <p:strVal val="visible"/>
                                      </p:to>
                                    </p:set>
                                    <p:animEffect filter="wipe(left)" transition="in">
                                      <p:cBhvr additive="repl">
                                        <p:cTn id="373" dur="500"/>
                                        <p:tgtEl>
                                          <p:spTgt spid="183"/>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82"/>
                                        </p:tgtEl>
                                        <p:attrNameLst>
                                          <p:attrName>style.visibility</p:attrName>
                                        </p:attrNameLst>
                                      </p:cBhvr>
                                      <p:to>
                                        <p:strVal val="visible"/>
                                      </p:to>
                                    </p:set>
                                    <p:animEffect filter="wipe(up)" transition="in">
                                      <p:cBhvr additive="repl">
                                        <p:cTn id="378" dur="500"/>
                                        <p:tgtEl>
                                          <p:spTgt spid="18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81"/>
                                        </p:tgtEl>
                                        <p:attrNameLst>
                                          <p:attrName>style.visibility</p:attrName>
                                        </p:attrNameLst>
                                      </p:cBhvr>
                                      <p:to>
                                        <p:strVal val="visible"/>
                                      </p:to>
                                    </p:set>
                                    <p:animEffect filter="wipe(left)" transition="in">
                                      <p:cBhvr additive="repl">
                                        <p:cTn id="383" dur="500"/>
                                        <p:tgtEl>
                                          <p:spTgt spid="181"/>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80"/>
                                        </p:tgtEl>
                                        <p:attrNameLst>
                                          <p:attrName>style.visibility</p:attrName>
                                        </p:attrNameLst>
                                      </p:cBhvr>
                                      <p:to>
                                        <p:strVal val="visible"/>
                                      </p:to>
                                    </p:set>
                                    <p:animEffect filter="wipe(left)" transition="in">
                                      <p:cBhvr additive="repl">
                                        <p:cTn id="388" dur="500"/>
                                        <p:tgtEl>
                                          <p:spTgt spid="18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79"/>
                                        </p:tgtEl>
                                        <p:attrNameLst>
                                          <p:attrName>style.visibility</p:attrName>
                                        </p:attrNameLst>
                                      </p:cBhvr>
                                      <p:to>
                                        <p:strVal val="visible"/>
                                      </p:to>
                                    </p:set>
                                    <p:animEffect filter="wipe(up)" transition="in">
                                      <p:cBhvr additive="repl">
                                        <p:cTn id="393" dur="500"/>
                                        <p:tgtEl>
                                          <p:spTgt spid="179"/>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8" presetSubtype="6">
                                  <p:stCondLst>
                                    <p:cond delay="0"/>
                                  </p:stCondLst>
                                  <p:childTnLst>
                                    <p:set>
                                      <p:cBhvr>
                                        <p:cTn id="397" dur="1" fill="hold">
                                          <p:stCondLst>
                                            <p:cond delay="0"/>
                                          </p:stCondLst>
                                        </p:cTn>
                                        <p:tgtEl>
                                          <p:spTgt spid="178"/>
                                        </p:tgtEl>
                                        <p:attrNameLst>
                                          <p:attrName>style.visibility</p:attrName>
                                        </p:attrNameLst>
                                      </p:cBhvr>
                                      <p:to>
                                        <p:strVal val="visible"/>
                                      </p:to>
                                    </p:set>
                                    <p:animEffect filter="strips(downRight)" transition="in">
                                      <p:cBhvr additive="repl">
                                        <p:cTn id="398" dur="500"/>
                                        <p:tgtEl>
                                          <p:spTgt spid="17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7"/>
                                        </p:tgtEl>
                                        <p:attrNameLst>
                                          <p:attrName>style.visibility</p:attrName>
                                        </p:attrNameLst>
                                      </p:cBhvr>
                                      <p:to>
                                        <p:strVal val="visible"/>
                                      </p:to>
                                    </p:set>
                                    <p:animEffect filter="wipe(left)" transition="in">
                                      <p:cBhvr additive="repl">
                                        <p:cTn id="403" dur="500"/>
                                        <p:tgtEl>
                                          <p:spTgt spid="177"/>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76"/>
                                        </p:tgtEl>
                                        <p:attrNameLst>
                                          <p:attrName>style.visibility</p:attrName>
                                        </p:attrNameLst>
                                      </p:cBhvr>
                                      <p:to>
                                        <p:strVal val="visible"/>
                                      </p:to>
                                    </p:set>
                                    <p:animEffect filter="wipe(left)" transition="in">
                                      <p:cBhvr additive="repl">
                                        <p:cTn id="408" dur="500"/>
                                        <p:tgtEl>
                                          <p:spTgt spid="176"/>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8" presetSubtype="6">
                                  <p:stCondLst>
                                    <p:cond delay="0"/>
                                  </p:stCondLst>
                                  <p:childTnLst>
                                    <p:set>
                                      <p:cBhvr>
                                        <p:cTn id="412" dur="1" fill="hold">
                                          <p:stCondLst>
                                            <p:cond delay="0"/>
                                          </p:stCondLst>
                                        </p:cTn>
                                        <p:tgtEl>
                                          <p:spTgt spid="173"/>
                                        </p:tgtEl>
                                        <p:attrNameLst>
                                          <p:attrName>style.visibility</p:attrName>
                                        </p:attrNameLst>
                                      </p:cBhvr>
                                      <p:to>
                                        <p:strVal val="visible"/>
                                      </p:to>
                                    </p:set>
                                    <p:animEffect filter="strips(downRight)" transition="in">
                                      <p:cBhvr additive="repl">
                                        <p:cTn id="413" dur="500"/>
                                        <p:tgtEl>
                                          <p:spTgt spid="173"/>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75"/>
                                        </p:tgtEl>
                                        <p:attrNameLst>
                                          <p:attrName>style.visibility</p:attrName>
                                        </p:attrNameLst>
                                      </p:cBhvr>
                                      <p:to>
                                        <p:strVal val="visible"/>
                                      </p:to>
                                    </p:set>
                                    <p:animEffect filter="wipe(left)" transition="in">
                                      <p:cBhvr additive="repl">
                                        <p:cTn id="418" dur="500"/>
                                        <p:tgtEl>
                                          <p:spTgt spid="17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74"/>
                                        </p:tgtEl>
                                        <p:attrNameLst>
                                          <p:attrName>style.visibility</p:attrName>
                                        </p:attrNameLst>
                                      </p:cBhvr>
                                      <p:to>
                                        <p:strVal val="visible"/>
                                      </p:to>
                                    </p:set>
                                    <p:animEffect filter="wipe(left)" transition="in">
                                      <p:cBhvr additive="repl">
                                        <p:cTn id="423" dur="500"/>
                                        <p:tgtEl>
                                          <p:spTgt spid="17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53" presetSubtype="16">
                                  <p:stCondLst>
                                    <p:cond delay="0"/>
                                  </p:stCondLst>
                                  <p:childTnLst>
                                    <p:set>
                                      <p:cBhvr>
                                        <p:cTn id="427" dur="1" fill="hold">
                                          <p:stCondLst>
                                            <p:cond delay="0"/>
                                          </p:stCondLst>
                                        </p:cTn>
                                        <p:tgtEl>
                                          <p:spTgt spid="168"/>
                                        </p:tgtEl>
                                        <p:attrNameLst>
                                          <p:attrName>style.visibility</p:attrName>
                                        </p:attrNameLst>
                                      </p:cBhvr>
                                      <p:to>
                                        <p:strVal val="visible"/>
                                      </p:to>
                                    </p:set>
                                    <p:anim calcmode="lin" valueType="num">
                                      <p:cBhvr additive="repl">
                                        <p:cTn id="428" dur="500" fill="hold"/>
                                        <p:tgtEl>
                                          <p:spTgt spid="168"/>
                                        </p:tgtEl>
                                        <p:attrNameLst>
                                          <p:attrName>ppt_w</p:attrName>
                                        </p:attrNameLst>
                                      </p:cBhvr>
                                      <p:tavLst>
                                        <p:tav tm="0">
                                          <p:val>
                                            <p:fltVal val="0"/>
                                          </p:val>
                                        </p:tav>
                                        <p:tav tm="100000">
                                          <p:val>
                                            <p:strVal val="#ppt_w"/>
                                          </p:val>
                                        </p:tav>
                                      </p:tavLst>
                                    </p:anim>
                                    <p:anim calcmode="lin" valueType="num">
                                      <p:cBhvr additive="repl">
                                        <p:cTn id="429" dur="500" fill="hold"/>
                                        <p:tgtEl>
                                          <p:spTgt spid="168"/>
                                        </p:tgtEl>
                                        <p:attrNameLst>
                                          <p:attrName>ppt_h</p:attrName>
                                        </p:attrNameLst>
                                      </p:cBhvr>
                                      <p:tavLst>
                                        <p:tav tm="0">
                                          <p:val>
                                            <p:fltVal val="0"/>
                                          </p:val>
                                        </p:tav>
                                        <p:tav tm="100000">
                                          <p:val>
                                            <p:strVal val="#ppt_h"/>
                                          </p:val>
                                        </p:tav>
                                      </p:tavLst>
                                    </p:anim>
                                    <p:animEffect filter="fade" transition="in">
                                      <p:cBhvr additive="repl">
                                        <p:cTn id="43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组合 2"/>
          <p:cNvGrpSpPr/>
          <p:nvPr/>
        </p:nvGrpSpPr>
        <p:grpSpPr>
          <a:xfrm>
            <a:off x="719280" y="1366920"/>
            <a:ext cx="2904840" cy="666720"/>
            <a:chOff x="719280" y="1366920"/>
            <a:chExt cx="2904840" cy="666720"/>
          </a:xfrm>
        </p:grpSpPr>
        <p:sp>
          <p:nvSpPr>
            <p:cNvPr id="190" name="圆角矩形 12"/>
            <p:cNvSpPr/>
            <p:nvPr/>
          </p:nvSpPr>
          <p:spPr>
            <a:xfrm>
              <a:off x="1535040" y="1504800"/>
              <a:ext cx="2089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91" name="图片 9" descr="book.gif"/>
            <p:cNvPicPr/>
            <p:nvPr/>
          </p:nvPicPr>
          <p:blipFill>
            <a:blip r:embed="rId1"/>
            <a:stretch/>
          </p:blipFill>
          <p:spPr>
            <a:xfrm>
              <a:off x="719280" y="1366920"/>
              <a:ext cx="1087200" cy="666720"/>
            </a:xfrm>
            <a:prstGeom prst="rect">
              <a:avLst/>
            </a:prstGeom>
            <a:ln w="0">
              <a:noFill/>
            </a:ln>
          </p:spPr>
        </p:pic>
        <p:sp>
          <p:nvSpPr>
            <p:cNvPr id="192" name="文本框 16"/>
            <p:cNvSpPr/>
            <p:nvPr/>
          </p:nvSpPr>
          <p:spPr>
            <a:xfrm>
              <a:off x="1794600" y="15238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易读错字</a:t>
              </a:r>
              <a:endParaRPr b="0" lang="en-US" sz="2400" spc="-1" strike="noStrike">
                <a:solidFill>
                  <a:srgbClr val="000000"/>
                </a:solidFill>
                <a:latin typeface="Calibri"/>
              </a:endParaRPr>
            </a:p>
          </p:txBody>
        </p:sp>
      </p:grpSp>
      <p:sp>
        <p:nvSpPr>
          <p:cNvPr id="193" name="TextBox 1"/>
          <p:cNvSpPr/>
          <p:nvPr/>
        </p:nvSpPr>
        <p:spPr>
          <a:xfrm>
            <a:off x="2230560" y="3330720"/>
            <a:ext cx="578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ff"/>
                </a:solidFill>
                <a:latin typeface="Calibri"/>
              </a:rPr>
              <a:t>敞</a:t>
            </a:r>
            <a:r>
              <a:rPr b="1" lang="zh-CN" sz="3200" spc="-1" strike="noStrike">
                <a:solidFill>
                  <a:srgbClr val="000000"/>
                </a:solidFill>
                <a:latin typeface="Calibri"/>
              </a:rPr>
              <a:t>开              啼</a:t>
            </a:r>
            <a:r>
              <a:rPr b="1" lang="zh-CN" sz="3200" spc="-1" strike="noStrike">
                <a:solidFill>
                  <a:srgbClr val="0000ff"/>
                </a:solidFill>
                <a:latin typeface="Calibri"/>
              </a:rPr>
              <a:t>啭              翱</a:t>
            </a:r>
            <a:r>
              <a:rPr b="1" lang="zh-CN" sz="3200" spc="-1" strike="noStrike">
                <a:solidFill>
                  <a:srgbClr val="000000"/>
                </a:solidFill>
                <a:latin typeface="Calibri"/>
              </a:rPr>
              <a:t>翔</a:t>
            </a:r>
            <a:endParaRPr b="0" lang="en-US" sz="3200" spc="-1" strike="noStrike">
              <a:solidFill>
                <a:srgbClr val="000000"/>
              </a:solidFill>
              <a:latin typeface="Calibri"/>
            </a:endParaRPr>
          </a:p>
        </p:txBody>
      </p:sp>
      <p:sp>
        <p:nvSpPr>
          <p:cNvPr id="194" name="矩形 8"/>
          <p:cNvSpPr/>
          <p:nvPr/>
        </p:nvSpPr>
        <p:spPr>
          <a:xfrm>
            <a:off x="1874520" y="2898720"/>
            <a:ext cx="126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chǎng</a:t>
            </a:r>
            <a:endParaRPr b="0" lang="en-US" sz="2800" spc="-1" strike="noStrike">
              <a:solidFill>
                <a:srgbClr val="000000"/>
              </a:solidFill>
              <a:latin typeface="Calibri"/>
            </a:endParaRPr>
          </a:p>
        </p:txBody>
      </p:sp>
      <p:sp>
        <p:nvSpPr>
          <p:cNvPr id="195" name="矩形 9"/>
          <p:cNvSpPr/>
          <p:nvPr/>
        </p:nvSpPr>
        <p:spPr>
          <a:xfrm>
            <a:off x="4241880" y="2867040"/>
            <a:ext cx="142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 </a:t>
            </a:r>
            <a:r>
              <a:rPr b="1" lang="en-US" sz="2800" spc="-1" strike="noStrike">
                <a:solidFill>
                  <a:srgbClr val="ff0000"/>
                </a:solidFill>
                <a:latin typeface="方正姚体"/>
                <a:ea typeface="方正姚体"/>
              </a:rPr>
              <a:t>zhuàn</a:t>
            </a:r>
            <a:r>
              <a:rPr b="1" lang="en-US" sz="2400" spc="-1" strike="noStrike">
                <a:solidFill>
                  <a:srgbClr val="ff0000"/>
                </a:solidFill>
                <a:latin typeface="宋体"/>
              </a:rPr>
              <a:t> </a:t>
            </a:r>
            <a:endParaRPr b="0" lang="en-US" sz="2400" spc="-1" strike="noStrike">
              <a:solidFill>
                <a:srgbClr val="000000"/>
              </a:solidFill>
              <a:latin typeface="Calibri"/>
            </a:endParaRPr>
          </a:p>
        </p:txBody>
      </p:sp>
      <p:sp>
        <p:nvSpPr>
          <p:cNvPr id="196" name="矩形 10"/>
          <p:cNvSpPr/>
          <p:nvPr/>
        </p:nvSpPr>
        <p:spPr>
          <a:xfrm>
            <a:off x="6336720" y="2908440"/>
            <a:ext cx="86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宋体"/>
              </a:rPr>
              <a:t> </a:t>
            </a:r>
            <a:r>
              <a:rPr b="1" lang="en-US" sz="3200" spc="-1" strike="noStrike">
                <a:solidFill>
                  <a:srgbClr val="ff0000"/>
                </a:solidFill>
                <a:latin typeface="方正姚体"/>
                <a:ea typeface="方正姚体"/>
              </a:rPr>
              <a:t>áo</a:t>
            </a:r>
            <a:r>
              <a:rPr b="1" lang="en-US" sz="2800" spc="-1" strike="noStrike">
                <a:solidFill>
                  <a:srgbClr val="ff0000"/>
                </a:solidFill>
                <a:latin typeface="宋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94"/>
                                        </p:tgtEl>
                                        <p:attrNameLst>
                                          <p:attrName>style.visibility</p:attrName>
                                        </p:attrNameLst>
                                      </p:cBhvr>
                                      <p:to>
                                        <p:strVal val="visible"/>
                                      </p:to>
                                    </p:set>
                                    <p:animEffect filter="wipe(left)" transition="in">
                                      <p:cBhvr additive="repl">
                                        <p:cTn id="437" dur="500"/>
                                        <p:tgtEl>
                                          <p:spTgt spid="194"/>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195"/>
                                        </p:tgtEl>
                                        <p:attrNameLst>
                                          <p:attrName>style.visibility</p:attrName>
                                        </p:attrNameLst>
                                      </p:cBhvr>
                                      <p:to>
                                        <p:strVal val="visible"/>
                                      </p:to>
                                    </p:set>
                                    <p:animEffect filter="wipe(left)" transition="in">
                                      <p:cBhvr additive="repl">
                                        <p:cTn id="442" dur="500"/>
                                        <p:tgtEl>
                                          <p:spTgt spid="195"/>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96"/>
                                        </p:tgtEl>
                                        <p:attrNameLst>
                                          <p:attrName>style.visibility</p:attrName>
                                        </p:attrNameLst>
                                      </p:cBhvr>
                                      <p:to>
                                        <p:strVal val="visible"/>
                                      </p:to>
                                    </p:set>
                                    <p:animEffect filter="wipe(left)" transition="in">
                                      <p:cBhvr additive="repl">
                                        <p:cTn id="447"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30T07:54:39Z</dcterms:modified>
  <cp:revision>44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