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7A9A9-154E-4B03-B51C-BE7ADCA467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C0BD3-A4A6-41B2-BE41-28F121B91B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9AEE1-A0FF-419E-9B1F-9920A960FC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A80DA-311F-4A2F-87EA-DDBC0B8440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CE4D0-328C-4065-9B59-D80D44877B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99C3E-8A36-4EAA-8556-A38205FB1B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0470E-A9D8-4617-9CF7-04D84F1878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7FD-3381-43E4-B132-0D963223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FD2-51C9-4852-817B-A23D214A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693-FAD6-4BD1-AA28-FBD4331F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195-5C6A-4FC4-9EB6-5CD43659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8CF-F4C4-4C75-8F88-344D04C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1D3-0186-4178-83FF-72D5CD0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3C5-8AC9-4652-8B58-2DC46C0C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922-67C6-4BAD-A57D-4D6948D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A24-F092-465B-8528-FE239B48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F2B-0855-4957-880C-6CD0FE28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AC0-9424-4806-A08A-C9A19C3F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56C-E623-4BB7-A1D7-D389B945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04F8B-55FE-4C60-B973-07849CA2DA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24160" y="3953880"/>
            <a:ext cx="505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在一个雪花飞舞的圣诞前夕，有一个美丽的小女孩儿，她有家难归，在寒冷的街头卖火柴。小女孩儿有着怎样的命运，发生了怎样的故事呢？就让我们走进那个风雪交加的夜晚吧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任意多边形 8"/>
          <p:cNvSpPr/>
          <p:nvPr/>
        </p:nvSpPr>
        <p:spPr>
          <a:xfrm>
            <a:off x="1690560" y="2568600"/>
            <a:ext cx="6039000" cy="271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蹒   跚   蜷   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1508760" y="234936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2944080" y="23493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9"/>
          <p:cNvSpPr/>
          <p:nvPr/>
        </p:nvSpPr>
        <p:spPr>
          <a:xfrm>
            <a:off x="4387680" y="234936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5960520" y="2349360"/>
            <a:ext cx="13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gě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84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7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1265400" y="3149640"/>
            <a:ext cx="69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围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着 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橱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窗  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哎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火柴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1684440" y="259236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ú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5190120" y="259236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92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矩形 9"/>
          <p:cNvSpPr/>
          <p:nvPr/>
        </p:nvSpPr>
        <p:spPr>
          <a:xfrm>
            <a:off x="3370320" y="25923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ō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1211760" y="392256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3452760" y="3906720"/>
            <a:ext cx="5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ā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6242400" y="38862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ě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1684440" y="29019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4"/>
          <p:cNvGrpSpPr/>
          <p:nvPr/>
        </p:nvGrpSpPr>
        <p:grpSpPr>
          <a:xfrm>
            <a:off x="2178000" y="2438280"/>
            <a:ext cx="3828960" cy="1373400"/>
            <a:chOff x="2178000" y="2438280"/>
            <a:chExt cx="3828960" cy="1373400"/>
          </a:xfrm>
        </p:grpSpPr>
        <p:sp>
          <p:nvSpPr>
            <p:cNvPr id="201" name="左大括号 2"/>
            <p:cNvSpPr/>
            <p:nvPr/>
          </p:nvSpPr>
          <p:spPr>
            <a:xfrm>
              <a:off x="2178000" y="2680920"/>
              <a:ext cx="209520" cy="951120"/>
            </a:xfrm>
            <a:custGeom>
              <a:avLst/>
              <a:gdLst>
                <a:gd name="textAreaLeft" fmla="*/ 133920 w 209520"/>
                <a:gd name="textAreaRight" fmla="*/ 209880 w 209520"/>
                <a:gd name="textAreaTop" fmla="*/ 5400 h 951120"/>
                <a:gd name="textAreaBottom" fmla="*/ 9457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99"/>
                    <a:pt x="10800" y="397"/>
                  </a:cubicBezTo>
                  <a:lnTo>
                    <a:pt x="10800" y="10403"/>
                  </a:lnTo>
                  <a:cubicBezTo>
                    <a:pt x="10800" y="10602"/>
                    <a:pt x="5400" y="10800"/>
                    <a:pt x="0" y="10800"/>
                  </a:cubicBezTo>
                  <a:cubicBezTo>
                    <a:pt x="5400" y="10800"/>
                    <a:pt x="10800" y="10999"/>
                    <a:pt x="10800" y="11197"/>
                  </a:cubicBezTo>
                  <a:lnTo>
                    <a:pt x="10800" y="21203"/>
                  </a:lnTo>
                  <a:cubicBezTo>
                    <a:pt x="10800" y="21402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3"/>
            <p:cNvSpPr/>
            <p:nvPr/>
          </p:nvSpPr>
          <p:spPr>
            <a:xfrm>
              <a:off x="2249280" y="2438280"/>
              <a:ext cx="37576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ōn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冲动 冲走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chòn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冲劲儿 冲压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1751040" y="435780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2212920" y="3917880"/>
            <a:ext cx="3440160" cy="1373400"/>
            <a:chOff x="2212920" y="3917880"/>
            <a:chExt cx="3440160" cy="1373400"/>
          </a:xfrm>
        </p:grpSpPr>
        <p:sp>
          <p:nvSpPr>
            <p:cNvPr id="205" name="左大括号 14"/>
            <p:cNvSpPr/>
            <p:nvPr/>
          </p:nvSpPr>
          <p:spPr>
            <a:xfrm>
              <a:off x="2212920" y="4136760"/>
              <a:ext cx="150480" cy="9525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2560"/>
                <a:gd name="textAreaBottom" fmla="*/ 948960 h 95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15"/>
            <p:cNvSpPr/>
            <p:nvPr/>
          </p:nvSpPr>
          <p:spPr>
            <a:xfrm>
              <a:off x="2347560" y="3917880"/>
              <a:ext cx="33055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ē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挣扎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è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挣钱 挣脱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08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"/>
          <p:cNvSpPr/>
          <p:nvPr/>
        </p:nvSpPr>
        <p:spPr>
          <a:xfrm>
            <a:off x="1227240" y="1760400"/>
            <a:ext cx="74563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蹒跚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冻僵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奇异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精致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组合 1"/>
          <p:cNvGrpSpPr/>
          <p:nvPr/>
        </p:nvGrpSpPr>
        <p:grpSpPr>
          <a:xfrm>
            <a:off x="558720" y="1127160"/>
            <a:ext cx="2594160" cy="666720"/>
            <a:chOff x="558720" y="1127160"/>
            <a:chExt cx="2594160" cy="666720"/>
          </a:xfrm>
        </p:grpSpPr>
        <p:sp>
          <p:nvSpPr>
            <p:cNvPr id="213" name="圆角矩形 5"/>
            <p:cNvSpPr/>
            <p:nvPr/>
          </p:nvSpPr>
          <p:spPr>
            <a:xfrm>
              <a:off x="1374840" y="12650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2716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文本框 16"/>
            <p:cNvSpPr/>
            <p:nvPr/>
          </p:nvSpPr>
          <p:spPr>
            <a:xfrm>
              <a:off x="1634040" y="12841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矩形 1"/>
          <p:cNvSpPr/>
          <p:nvPr/>
        </p:nvSpPr>
        <p:spPr>
          <a:xfrm>
            <a:off x="2043000" y="1754280"/>
            <a:ext cx="66405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腿脚不灵便， 走路缓慢、摇摆的样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奶奶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蹒跚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走向门口，我连忙去扶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肢体因受冻而僵硬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走在纷飞的大雪中，他感到自己的手脚都要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冻僵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奇特；惊异。本文中形容火柴发出的光很奇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的服装看起来很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奇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精巧细致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件工艺品制作得非常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精致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1"/>
          <p:cNvSpPr/>
          <p:nvPr/>
        </p:nvSpPr>
        <p:spPr>
          <a:xfrm>
            <a:off x="1227240" y="1776240"/>
            <a:ext cx="745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闪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温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组合 1"/>
          <p:cNvGrpSpPr/>
          <p:nvPr/>
        </p:nvGrpSpPr>
        <p:grpSpPr>
          <a:xfrm>
            <a:off x="558720" y="1143000"/>
            <a:ext cx="2594160" cy="666720"/>
            <a:chOff x="558720" y="1143000"/>
            <a:chExt cx="2594160" cy="666720"/>
          </a:xfrm>
        </p:grpSpPr>
        <p:sp>
          <p:nvSpPr>
            <p:cNvPr id="219" name="圆角矩形 5"/>
            <p:cNvSpPr/>
            <p:nvPr/>
          </p:nvSpPr>
          <p:spPr>
            <a:xfrm>
              <a:off x="1374840" y="12808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4300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文本框 16"/>
            <p:cNvSpPr/>
            <p:nvPr/>
          </p:nvSpPr>
          <p:spPr>
            <a:xfrm>
              <a:off x="1634040" y="129996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矩形 1"/>
          <p:cNvSpPr/>
          <p:nvPr/>
        </p:nvSpPr>
        <p:spPr>
          <a:xfrm>
            <a:off x="2043000" y="1770120"/>
            <a:ext cx="664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光亮）动摇不定，忽明忽暗。本文中指星星发出忽明忽暗的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夜空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闪烁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群星仿佛无数个一眨一眨的小眼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气候）不冷不热。②（性情、态度、言语等）不严厉，不粗暴，使人感到亲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昆明气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温和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四季如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温和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眼光望着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"/>
          <p:cNvSpPr/>
          <p:nvPr/>
        </p:nvSpPr>
        <p:spPr>
          <a:xfrm>
            <a:off x="1227240" y="176040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慈爱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暖烘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哆哆嗦嗦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1"/>
          <p:cNvGrpSpPr/>
          <p:nvPr/>
        </p:nvGrpSpPr>
        <p:grpSpPr>
          <a:xfrm>
            <a:off x="558720" y="1127160"/>
            <a:ext cx="2594160" cy="666720"/>
            <a:chOff x="558720" y="1127160"/>
            <a:chExt cx="2594160" cy="666720"/>
          </a:xfrm>
        </p:grpSpPr>
        <p:sp>
          <p:nvSpPr>
            <p:cNvPr id="225" name="圆角矩形 5"/>
            <p:cNvSpPr/>
            <p:nvPr/>
          </p:nvSpPr>
          <p:spPr>
            <a:xfrm>
              <a:off x="1374840" y="12650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2716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文本框 16"/>
            <p:cNvSpPr/>
            <p:nvPr/>
          </p:nvSpPr>
          <p:spPr>
            <a:xfrm>
              <a:off x="1634040" y="12841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1"/>
          <p:cNvSpPr/>
          <p:nvPr/>
        </p:nvSpPr>
        <p:spPr>
          <a:xfrm>
            <a:off x="1889280" y="1755720"/>
            <a:ext cx="664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（年长者对年幼者）仁慈而充满怜爱之情。本文中指奶奶仁慈的形象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刘奶奶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慈爱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说：“快喝口热水暖暖吧！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温暖宜人。本文中指小女孩想象自己坐在火炉旁温暖的感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太阳晒得被子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暖烘烘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因受外界刺激而身体不由自主地颤动。本文中指饥寒交迫使小女孩浑身不住地颤抖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今天天气真冷，冻得我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哆哆嗦嗦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1"/>
          <p:cNvSpPr/>
          <p:nvPr/>
        </p:nvSpPr>
        <p:spPr>
          <a:xfrm>
            <a:off x="887400" y="147168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-4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小女孩悲惨的生活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一个小女孩在下着雪的平安夜里卖火柴，但一根也没有卖出去，她又冷又饿，还不敢回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5-11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五次幻象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女孩五次擦燃火柴，看到了各种美好的幻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3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小女孩悲惨死去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女孩在平安夜悲惨地冻死在街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6"/>
          <p:cNvSpPr/>
          <p:nvPr/>
        </p:nvSpPr>
        <p:spPr>
          <a:xfrm>
            <a:off x="555480" y="123192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女孩几次擦燃火柴？她都看到什么？她为什么会看到这些？请同学们自己读课文，并完成表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73040" y="2662200"/>
          <a:ext cx="8371080" cy="3078360"/>
        </p:xfrm>
        <a:graphic>
          <a:graphicData uri="http://schemas.openxmlformats.org/drawingml/2006/table">
            <a:tbl>
              <a:tblPr/>
              <a:tblGrid>
                <a:gridCol w="1251000"/>
                <a:gridCol w="1380960"/>
                <a:gridCol w="1387800"/>
                <a:gridCol w="1434960"/>
                <a:gridCol w="1512720"/>
                <a:gridCol w="1403640"/>
              </a:tblGrid>
              <a:tr h="711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三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四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五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69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看到的东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9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2" name="Text Box 119"/>
          <p:cNvSpPr/>
          <p:nvPr/>
        </p:nvSpPr>
        <p:spPr>
          <a:xfrm>
            <a:off x="611280" y="907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20"/>
          <p:cNvSpPr/>
          <p:nvPr/>
        </p:nvSpPr>
        <p:spPr>
          <a:xfrm>
            <a:off x="1960560" y="3651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火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25"/>
          <p:cNvSpPr/>
          <p:nvPr/>
        </p:nvSpPr>
        <p:spPr>
          <a:xfrm>
            <a:off x="3379680" y="3651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烤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26"/>
          <p:cNvSpPr/>
          <p:nvPr/>
        </p:nvSpPr>
        <p:spPr>
          <a:xfrm>
            <a:off x="4641840" y="36511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圣诞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27"/>
          <p:cNvSpPr/>
          <p:nvPr/>
        </p:nvSpPr>
        <p:spPr>
          <a:xfrm>
            <a:off x="6208560" y="365112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奶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28"/>
          <p:cNvSpPr/>
          <p:nvPr/>
        </p:nvSpPr>
        <p:spPr>
          <a:xfrm>
            <a:off x="7450200" y="3467160"/>
            <a:ext cx="16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奶奶抱她飞走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29"/>
          <p:cNvSpPr/>
          <p:nvPr/>
        </p:nvSpPr>
        <p:spPr>
          <a:xfrm>
            <a:off x="1655640" y="4575240"/>
            <a:ext cx="14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寒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渴望温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30"/>
          <p:cNvSpPr/>
          <p:nvPr/>
        </p:nvSpPr>
        <p:spPr>
          <a:xfrm>
            <a:off x="7513560" y="46544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愿离开奶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31"/>
          <p:cNvSpPr/>
          <p:nvPr/>
        </p:nvSpPr>
        <p:spPr>
          <a:xfrm>
            <a:off x="3083040" y="4575240"/>
            <a:ext cx="14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饥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渴望食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32"/>
          <p:cNvSpPr/>
          <p:nvPr/>
        </p:nvSpPr>
        <p:spPr>
          <a:xfrm>
            <a:off x="4378320" y="4575240"/>
            <a:ext cx="15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孤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渴望欢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5908680" y="4575240"/>
            <a:ext cx="141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痛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渴望疼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44" name="矩形 11"/>
          <p:cNvSpPr/>
          <p:nvPr/>
        </p:nvSpPr>
        <p:spPr>
          <a:xfrm>
            <a:off x="1017720" y="240516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写的是一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可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小女孩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平安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冻死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街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故事，揭示了资本主义社会的罪恶，表达了作者对小女孩悲惨遭遇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深切同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7167"/>
          <p:cNvSpPr/>
          <p:nvPr/>
        </p:nvSpPr>
        <p:spPr>
          <a:xfrm>
            <a:off x="1020600" y="195732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ú  ɡuānɡ            shāo hu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īnɡ wànɡ             chú chuā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7" name="图片 1" descr=""/>
          <p:cNvPicPr/>
          <p:nvPr/>
        </p:nvPicPr>
        <p:blipFill>
          <a:blip r:embed="rId2"/>
          <a:stretch/>
        </p:blipFill>
        <p:spPr>
          <a:xfrm>
            <a:off x="1819440" y="3044880"/>
            <a:ext cx="149364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21" descr=""/>
          <p:cNvPicPr/>
          <p:nvPr/>
        </p:nvPicPr>
        <p:blipFill>
          <a:blip r:embed="rId3"/>
          <a:stretch/>
        </p:blipFill>
        <p:spPr>
          <a:xfrm>
            <a:off x="4041720" y="3014640"/>
            <a:ext cx="1494000" cy="76212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3" descr=""/>
          <p:cNvPicPr/>
          <p:nvPr/>
        </p:nvPicPr>
        <p:blipFill>
          <a:blip r:embed="rId4"/>
          <a:stretch/>
        </p:blipFill>
        <p:spPr>
          <a:xfrm>
            <a:off x="1819440" y="4200480"/>
            <a:ext cx="1493640" cy="76212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24" descr=""/>
          <p:cNvPicPr/>
          <p:nvPr/>
        </p:nvPicPr>
        <p:blipFill>
          <a:blip r:embed="rId5"/>
          <a:stretch/>
        </p:blipFill>
        <p:spPr>
          <a:xfrm>
            <a:off x="4041720" y="4200480"/>
            <a:ext cx="1494000" cy="762120"/>
          </a:xfrm>
          <a:prstGeom prst="rect">
            <a:avLst/>
          </a:prstGeom>
          <a:ln w="0">
            <a:noFill/>
          </a:ln>
        </p:spPr>
      </p:pic>
      <p:sp>
        <p:nvSpPr>
          <p:cNvPr id="251" name="矩形 7"/>
          <p:cNvSpPr/>
          <p:nvPr/>
        </p:nvSpPr>
        <p:spPr>
          <a:xfrm>
            <a:off x="1779480" y="314784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烛 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6"/>
          <p:cNvSpPr/>
          <p:nvPr/>
        </p:nvSpPr>
        <p:spPr>
          <a:xfrm>
            <a:off x="3995640" y="3086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烧 火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17"/>
          <p:cNvSpPr/>
          <p:nvPr/>
        </p:nvSpPr>
        <p:spPr>
          <a:xfrm>
            <a:off x="1779480" y="427356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兴 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8"/>
          <p:cNvSpPr/>
          <p:nvPr/>
        </p:nvSpPr>
        <p:spPr>
          <a:xfrm>
            <a:off x="4002120" y="427356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橱 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1"/>
          <a:stretch/>
        </p:blipFill>
        <p:spPr>
          <a:xfrm>
            <a:off x="1889280" y="2266920"/>
            <a:ext cx="5365440" cy="29815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1184400" y="905040"/>
            <a:ext cx="6997680" cy="1180800"/>
            <a:chOff x="1184400" y="905040"/>
            <a:chExt cx="6997680" cy="1180800"/>
          </a:xfrm>
        </p:grpSpPr>
        <p:sp>
          <p:nvSpPr>
            <p:cNvPr id="66" name="Text Box 2"/>
            <p:cNvSpPr/>
            <p:nvPr/>
          </p:nvSpPr>
          <p:spPr>
            <a:xfrm>
              <a:off x="2443320" y="1011240"/>
              <a:ext cx="5738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卖火柴的小女孩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1184400" y="905040"/>
              <a:ext cx="1180800" cy="1180800"/>
              <a:chOff x="1184400" y="905040"/>
              <a:chExt cx="1180800" cy="11808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118440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1253520" y="984960"/>
                <a:ext cx="100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1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71" name="任意多边形 24" descr=""/>
            <p:cNvPicPr/>
            <p:nvPr/>
          </p:nvPicPr>
          <p:blipFill>
            <a:blip r:embed="rId6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任意多边形 26" descr=""/>
            <p:cNvPicPr/>
            <p:nvPr/>
          </p:nvPicPr>
          <p:blipFill>
            <a:blip r:embed="rId7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任意多边形 27" descr=""/>
            <p:cNvPicPr/>
            <p:nvPr/>
          </p:nvPicPr>
          <p:blipFill>
            <a:blip r:embed="rId8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任意多边形 28" descr=""/>
            <p:cNvPicPr/>
            <p:nvPr/>
          </p:nvPicPr>
          <p:blipFill>
            <a:blip r:embed="rId9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流程图: 摘录 29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流程图: 摘录 3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流程图: 摘录 3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3"/>
          <p:cNvSpPr/>
          <p:nvPr/>
        </p:nvSpPr>
        <p:spPr>
          <a:xfrm>
            <a:off x="1768320" y="157464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一比，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蹒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瞒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蜷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倦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"/>
          <p:cNvSpPr/>
          <p:nvPr/>
        </p:nvSpPr>
        <p:spPr>
          <a:xfrm>
            <a:off x="4659480" y="210996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删（　　　）跚（　　　）烛（　　　）浊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左大括号 2"/>
          <p:cNvSpPr/>
          <p:nvPr/>
        </p:nvSpPr>
        <p:spPr>
          <a:xfrm>
            <a:off x="1636560" y="2325600"/>
            <a:ext cx="144720" cy="792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左大括号 15"/>
          <p:cNvSpPr/>
          <p:nvPr/>
        </p:nvSpPr>
        <p:spPr>
          <a:xfrm>
            <a:off x="4564080" y="232560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左大括号 16"/>
          <p:cNvSpPr/>
          <p:nvPr/>
        </p:nvSpPr>
        <p:spPr>
          <a:xfrm>
            <a:off x="1625760" y="3419640"/>
            <a:ext cx="142560" cy="79200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左大括号 17"/>
          <p:cNvSpPr/>
          <p:nvPr/>
        </p:nvSpPr>
        <p:spPr>
          <a:xfrm>
            <a:off x="4564080" y="3419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8"/>
          <p:cNvSpPr/>
          <p:nvPr/>
        </p:nvSpPr>
        <p:spPr>
          <a:xfrm>
            <a:off x="2592000" y="223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蹒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2592000" y="278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隐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18"/>
          <p:cNvSpPr/>
          <p:nvPr/>
        </p:nvSpPr>
        <p:spPr>
          <a:xfrm>
            <a:off x="5534640" y="2219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删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9"/>
          <p:cNvSpPr/>
          <p:nvPr/>
        </p:nvSpPr>
        <p:spPr>
          <a:xfrm>
            <a:off x="5534640" y="278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蹒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20"/>
          <p:cNvSpPr/>
          <p:nvPr/>
        </p:nvSpPr>
        <p:spPr>
          <a:xfrm>
            <a:off x="2592000" y="333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蜷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22"/>
          <p:cNvSpPr/>
          <p:nvPr/>
        </p:nvSpPr>
        <p:spPr>
          <a:xfrm>
            <a:off x="2593080" y="388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疲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3"/>
          <p:cNvSpPr/>
          <p:nvPr/>
        </p:nvSpPr>
        <p:spPr>
          <a:xfrm>
            <a:off x="5535360" y="333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烛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24"/>
          <p:cNvSpPr/>
          <p:nvPr/>
        </p:nvSpPr>
        <p:spPr>
          <a:xfrm>
            <a:off x="5535360" y="3870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浑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3"/>
          <p:cNvSpPr/>
          <p:nvPr/>
        </p:nvSpPr>
        <p:spPr>
          <a:xfrm>
            <a:off x="833400" y="1590840"/>
            <a:ext cx="76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找出没有错别字的一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拖鞋　蜷着　②摇蓝　喷香　③维一　擦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照样子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暖烘烘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冷又黑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哆哆嗦嗦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8"/>
          <p:cNvSpPr/>
          <p:nvPr/>
        </p:nvSpPr>
        <p:spPr>
          <a:xfrm>
            <a:off x="4603680" y="1716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9"/>
          <p:cNvSpPr/>
          <p:nvPr/>
        </p:nvSpPr>
        <p:spPr>
          <a:xfrm>
            <a:off x="2937960" y="3343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金灿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20"/>
          <p:cNvSpPr/>
          <p:nvPr/>
        </p:nvSpPr>
        <p:spPr>
          <a:xfrm>
            <a:off x="4771440" y="3343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亮闪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4"/>
          <p:cNvSpPr/>
          <p:nvPr/>
        </p:nvSpPr>
        <p:spPr>
          <a:xfrm>
            <a:off x="6613200" y="3343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软绵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0"/>
          <p:cNvSpPr/>
          <p:nvPr/>
        </p:nvSpPr>
        <p:spPr>
          <a:xfrm>
            <a:off x="3152880" y="387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又松又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1"/>
          <p:cNvSpPr/>
          <p:nvPr/>
        </p:nvSpPr>
        <p:spPr>
          <a:xfrm>
            <a:off x="5049000" y="387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又香又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12"/>
          <p:cNvSpPr/>
          <p:nvPr/>
        </p:nvSpPr>
        <p:spPr>
          <a:xfrm>
            <a:off x="6939720" y="387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又高又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3"/>
          <p:cNvSpPr/>
          <p:nvPr/>
        </p:nvSpPr>
        <p:spPr>
          <a:xfrm>
            <a:off x="3176640" y="445284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高高瘦瘦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14"/>
          <p:cNvSpPr/>
          <p:nvPr/>
        </p:nvSpPr>
        <p:spPr>
          <a:xfrm>
            <a:off x="4938840" y="445284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红红火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5"/>
          <p:cNvSpPr/>
          <p:nvPr/>
        </p:nvSpPr>
        <p:spPr>
          <a:xfrm>
            <a:off x="6939720" y="444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简简单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2"/>
          <p:cNvSpPr/>
          <p:nvPr/>
        </p:nvSpPr>
        <p:spPr>
          <a:xfrm>
            <a:off x="611280" y="1066680"/>
            <a:ext cx="7956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判断下列语句描写人物的方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小高在码头上有说有笑，这时候不吭声了，紧闭着嘴唇，两眼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发愣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父亲坚决地对母亲说：“不是常对你说吗？我是不能轻易离开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京的。 你要知道现在是什么时候，这里的工作多么重要。我哪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离开呢？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两个人走马灯似的转了三四圈，终于三抓两挠，揪在了一起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4)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糟糕！”我心里咯噔一下：这下准要坏事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5)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爷爷退休已有两年了，瘦瘦巴巴的身架，一脸的鱼网纹。头顶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灰白的头发，好像戴着一顶小毡帽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2272680" y="2092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神态描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0"/>
          <p:cNvSpPr/>
          <p:nvPr/>
        </p:nvSpPr>
        <p:spPr>
          <a:xfrm>
            <a:off x="2556000" y="34513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语言描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3"/>
          <p:cNvSpPr/>
          <p:nvPr/>
        </p:nvSpPr>
        <p:spPr>
          <a:xfrm>
            <a:off x="1322280" y="4365720"/>
            <a:ext cx="14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动作描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4"/>
          <p:cNvSpPr/>
          <p:nvPr/>
        </p:nvSpPr>
        <p:spPr>
          <a:xfrm>
            <a:off x="6372360" y="486900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心理描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8"/>
          <p:cNvSpPr/>
          <p:nvPr/>
        </p:nvSpPr>
        <p:spPr>
          <a:xfrm>
            <a:off x="5330880" y="573264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外貌描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52252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“蹒、跚”等生字；会写“烛、烧”等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理解课文内容，感受卖火柴的小女孩儿悲惨的命运，体会作者的思想感情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859200" y="1776240"/>
            <a:ext cx="47484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安徒生（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1805—1875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世纪丹麦著名的作家，被称为“世界童话之王”。他家境贫寒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4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岁开始自谋生计。他一生写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60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多篇童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海的女儿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丑小鸭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卖火柴的小女孩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拇指姑娘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皇帝的新装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打火匣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坚定的锡兵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野天鹅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1000080" y="2011320"/>
            <a:ext cx="2779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烛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2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95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火”第四笔捺画变为点；“虫”竖宜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矩形 3"/>
          <p:cNvSpPr/>
          <p:nvPr/>
        </p:nvSpPr>
        <p:spPr>
          <a:xfrm>
            <a:off x="2124000" y="1868400"/>
            <a:ext cx="13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95"/>
          <p:cNvSpPr/>
          <p:nvPr/>
        </p:nvSpPr>
        <p:spPr>
          <a:xfrm>
            <a:off x="7227720" y="4227480"/>
            <a:ext cx="465480" cy="568440"/>
          </a:xfrm>
          <a:custGeom>
            <a:avLst/>
            <a:gdLst/>
            <a:ahLst/>
            <a:rect l="l" t="t" r="r" b="b"/>
            <a:pathLst>
              <a:path w="585" h="716">
                <a:moveTo>
                  <a:pt x="322" y="176"/>
                </a:moveTo>
                <a:lnTo>
                  <a:pt x="349" y="193"/>
                </a:lnTo>
                <a:lnTo>
                  <a:pt x="374" y="211"/>
                </a:lnTo>
                <a:lnTo>
                  <a:pt x="397" y="230"/>
                </a:lnTo>
                <a:lnTo>
                  <a:pt x="420" y="247"/>
                </a:lnTo>
                <a:lnTo>
                  <a:pt x="441" y="264"/>
                </a:lnTo>
                <a:lnTo>
                  <a:pt x="460" y="282"/>
                </a:lnTo>
                <a:lnTo>
                  <a:pt x="478" y="299"/>
                </a:lnTo>
                <a:lnTo>
                  <a:pt x="493" y="316"/>
                </a:lnTo>
                <a:lnTo>
                  <a:pt x="508" y="334"/>
                </a:lnTo>
                <a:lnTo>
                  <a:pt x="522" y="349"/>
                </a:lnTo>
                <a:lnTo>
                  <a:pt x="535" y="366"/>
                </a:lnTo>
                <a:lnTo>
                  <a:pt x="545" y="383"/>
                </a:lnTo>
                <a:lnTo>
                  <a:pt x="554" y="399"/>
                </a:lnTo>
                <a:lnTo>
                  <a:pt x="564" y="414"/>
                </a:lnTo>
                <a:lnTo>
                  <a:pt x="570" y="430"/>
                </a:lnTo>
                <a:lnTo>
                  <a:pt x="576" y="445"/>
                </a:lnTo>
                <a:lnTo>
                  <a:pt x="578" y="462"/>
                </a:lnTo>
                <a:lnTo>
                  <a:pt x="579" y="479"/>
                </a:lnTo>
                <a:lnTo>
                  <a:pt x="581" y="497"/>
                </a:lnTo>
                <a:lnTo>
                  <a:pt x="583" y="512"/>
                </a:lnTo>
                <a:lnTo>
                  <a:pt x="583" y="526"/>
                </a:lnTo>
                <a:lnTo>
                  <a:pt x="585" y="541"/>
                </a:lnTo>
                <a:lnTo>
                  <a:pt x="585" y="554"/>
                </a:lnTo>
                <a:lnTo>
                  <a:pt x="585" y="568"/>
                </a:lnTo>
                <a:lnTo>
                  <a:pt x="585" y="579"/>
                </a:lnTo>
                <a:lnTo>
                  <a:pt x="585" y="591"/>
                </a:lnTo>
                <a:lnTo>
                  <a:pt x="583" y="602"/>
                </a:lnTo>
                <a:lnTo>
                  <a:pt x="583" y="612"/>
                </a:lnTo>
                <a:lnTo>
                  <a:pt x="581" y="623"/>
                </a:lnTo>
                <a:lnTo>
                  <a:pt x="579" y="631"/>
                </a:lnTo>
                <a:lnTo>
                  <a:pt x="578" y="641"/>
                </a:lnTo>
                <a:lnTo>
                  <a:pt x="576" y="648"/>
                </a:lnTo>
                <a:lnTo>
                  <a:pt x="566" y="664"/>
                </a:lnTo>
                <a:lnTo>
                  <a:pt x="556" y="675"/>
                </a:lnTo>
                <a:lnTo>
                  <a:pt x="547" y="687"/>
                </a:lnTo>
                <a:lnTo>
                  <a:pt x="537" y="696"/>
                </a:lnTo>
                <a:lnTo>
                  <a:pt x="533" y="702"/>
                </a:lnTo>
                <a:lnTo>
                  <a:pt x="530" y="704"/>
                </a:lnTo>
                <a:lnTo>
                  <a:pt x="526" y="708"/>
                </a:lnTo>
                <a:lnTo>
                  <a:pt x="522" y="712"/>
                </a:lnTo>
                <a:lnTo>
                  <a:pt x="518" y="714"/>
                </a:lnTo>
                <a:lnTo>
                  <a:pt x="514" y="714"/>
                </a:lnTo>
                <a:lnTo>
                  <a:pt x="512" y="716"/>
                </a:lnTo>
                <a:lnTo>
                  <a:pt x="508" y="716"/>
                </a:lnTo>
                <a:lnTo>
                  <a:pt x="503" y="716"/>
                </a:lnTo>
                <a:lnTo>
                  <a:pt x="497" y="712"/>
                </a:lnTo>
                <a:lnTo>
                  <a:pt x="489" y="708"/>
                </a:lnTo>
                <a:lnTo>
                  <a:pt x="482" y="702"/>
                </a:lnTo>
                <a:lnTo>
                  <a:pt x="472" y="696"/>
                </a:lnTo>
                <a:lnTo>
                  <a:pt x="462" y="687"/>
                </a:lnTo>
                <a:lnTo>
                  <a:pt x="451" y="675"/>
                </a:lnTo>
                <a:lnTo>
                  <a:pt x="439" y="664"/>
                </a:lnTo>
                <a:lnTo>
                  <a:pt x="426" y="650"/>
                </a:lnTo>
                <a:lnTo>
                  <a:pt x="412" y="633"/>
                </a:lnTo>
                <a:lnTo>
                  <a:pt x="397" y="616"/>
                </a:lnTo>
                <a:lnTo>
                  <a:pt x="382" y="597"/>
                </a:lnTo>
                <a:lnTo>
                  <a:pt x="364" y="575"/>
                </a:lnTo>
                <a:lnTo>
                  <a:pt x="347" y="552"/>
                </a:lnTo>
                <a:lnTo>
                  <a:pt x="338" y="539"/>
                </a:lnTo>
                <a:lnTo>
                  <a:pt x="328" y="527"/>
                </a:lnTo>
                <a:lnTo>
                  <a:pt x="318" y="514"/>
                </a:lnTo>
                <a:lnTo>
                  <a:pt x="309" y="501"/>
                </a:lnTo>
                <a:lnTo>
                  <a:pt x="290" y="472"/>
                </a:lnTo>
                <a:lnTo>
                  <a:pt x="270" y="445"/>
                </a:lnTo>
                <a:lnTo>
                  <a:pt x="253" y="420"/>
                </a:lnTo>
                <a:lnTo>
                  <a:pt x="236" y="395"/>
                </a:lnTo>
                <a:lnTo>
                  <a:pt x="219" y="370"/>
                </a:lnTo>
                <a:lnTo>
                  <a:pt x="201" y="347"/>
                </a:lnTo>
                <a:lnTo>
                  <a:pt x="186" y="326"/>
                </a:lnTo>
                <a:lnTo>
                  <a:pt x="171" y="303"/>
                </a:lnTo>
                <a:lnTo>
                  <a:pt x="155" y="282"/>
                </a:lnTo>
                <a:lnTo>
                  <a:pt x="140" y="263"/>
                </a:lnTo>
                <a:lnTo>
                  <a:pt x="126" y="241"/>
                </a:lnTo>
                <a:lnTo>
                  <a:pt x="115" y="222"/>
                </a:lnTo>
                <a:lnTo>
                  <a:pt x="102" y="203"/>
                </a:lnTo>
                <a:lnTo>
                  <a:pt x="90" y="186"/>
                </a:lnTo>
                <a:lnTo>
                  <a:pt x="80" y="167"/>
                </a:lnTo>
                <a:lnTo>
                  <a:pt x="69" y="149"/>
                </a:lnTo>
                <a:lnTo>
                  <a:pt x="59" y="134"/>
                </a:lnTo>
                <a:lnTo>
                  <a:pt x="52" y="120"/>
                </a:lnTo>
                <a:lnTo>
                  <a:pt x="42" y="107"/>
                </a:lnTo>
                <a:lnTo>
                  <a:pt x="34" y="96"/>
                </a:lnTo>
                <a:lnTo>
                  <a:pt x="29" y="84"/>
                </a:lnTo>
                <a:lnTo>
                  <a:pt x="23" y="74"/>
                </a:lnTo>
                <a:lnTo>
                  <a:pt x="17" y="65"/>
                </a:lnTo>
                <a:lnTo>
                  <a:pt x="11" y="55"/>
                </a:lnTo>
                <a:lnTo>
                  <a:pt x="7" y="48"/>
                </a:lnTo>
                <a:lnTo>
                  <a:pt x="4" y="42"/>
                </a:lnTo>
                <a:lnTo>
                  <a:pt x="2" y="34"/>
                </a:lnTo>
                <a:lnTo>
                  <a:pt x="0" y="28"/>
                </a:lnTo>
                <a:lnTo>
                  <a:pt x="0" y="25"/>
                </a:lnTo>
                <a:lnTo>
                  <a:pt x="0" y="21"/>
                </a:lnTo>
                <a:lnTo>
                  <a:pt x="2" y="17"/>
                </a:lnTo>
                <a:lnTo>
                  <a:pt x="4" y="13"/>
                </a:lnTo>
                <a:lnTo>
                  <a:pt x="4" y="11"/>
                </a:lnTo>
                <a:lnTo>
                  <a:pt x="4" y="9"/>
                </a:lnTo>
                <a:lnTo>
                  <a:pt x="6" y="7"/>
                </a:lnTo>
                <a:lnTo>
                  <a:pt x="7" y="5"/>
                </a:lnTo>
                <a:lnTo>
                  <a:pt x="11" y="5"/>
                </a:lnTo>
                <a:lnTo>
                  <a:pt x="13" y="3"/>
                </a:lnTo>
                <a:lnTo>
                  <a:pt x="17" y="3"/>
                </a:lnTo>
                <a:lnTo>
                  <a:pt x="21" y="1"/>
                </a:lnTo>
                <a:lnTo>
                  <a:pt x="30" y="1"/>
                </a:lnTo>
                <a:lnTo>
                  <a:pt x="42" y="0"/>
                </a:lnTo>
                <a:lnTo>
                  <a:pt x="55" y="0"/>
                </a:lnTo>
                <a:lnTo>
                  <a:pt x="69" y="0"/>
                </a:lnTo>
                <a:lnTo>
                  <a:pt x="77" y="3"/>
                </a:lnTo>
                <a:lnTo>
                  <a:pt x="86" y="7"/>
                </a:lnTo>
                <a:lnTo>
                  <a:pt x="96" y="13"/>
                </a:lnTo>
                <a:lnTo>
                  <a:pt x="107" y="19"/>
                </a:lnTo>
                <a:lnTo>
                  <a:pt x="119" y="25"/>
                </a:lnTo>
                <a:lnTo>
                  <a:pt x="132" y="32"/>
                </a:lnTo>
                <a:lnTo>
                  <a:pt x="146" y="42"/>
                </a:lnTo>
                <a:lnTo>
                  <a:pt x="161" y="51"/>
                </a:lnTo>
                <a:lnTo>
                  <a:pt x="178" y="63"/>
                </a:lnTo>
                <a:lnTo>
                  <a:pt x="196" y="76"/>
                </a:lnTo>
                <a:lnTo>
                  <a:pt x="213" y="90"/>
                </a:lnTo>
                <a:lnTo>
                  <a:pt x="232" y="103"/>
                </a:lnTo>
                <a:lnTo>
                  <a:pt x="253" y="120"/>
                </a:lnTo>
                <a:lnTo>
                  <a:pt x="276" y="138"/>
                </a:lnTo>
                <a:lnTo>
                  <a:pt x="299" y="155"/>
                </a:lnTo>
                <a:lnTo>
                  <a:pt x="322" y="1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96"/>
          <p:cNvSpPr/>
          <p:nvPr/>
        </p:nvSpPr>
        <p:spPr>
          <a:xfrm>
            <a:off x="6237360" y="4452840"/>
            <a:ext cx="1278000" cy="366840"/>
          </a:xfrm>
          <a:custGeom>
            <a:avLst/>
            <a:gdLst/>
            <a:ahLst/>
            <a:rect l="l" t="t" r="r" b="b"/>
            <a:pathLst>
              <a:path w="1611" h="462">
                <a:moveTo>
                  <a:pt x="718" y="134"/>
                </a:moveTo>
                <a:lnTo>
                  <a:pt x="785" y="122"/>
                </a:lnTo>
                <a:lnTo>
                  <a:pt x="849" y="109"/>
                </a:lnTo>
                <a:lnTo>
                  <a:pt x="912" y="98"/>
                </a:lnTo>
                <a:lnTo>
                  <a:pt x="973" y="86"/>
                </a:lnTo>
                <a:lnTo>
                  <a:pt x="1033" y="76"/>
                </a:lnTo>
                <a:lnTo>
                  <a:pt x="1090" y="65"/>
                </a:lnTo>
                <a:lnTo>
                  <a:pt x="1146" y="55"/>
                </a:lnTo>
                <a:lnTo>
                  <a:pt x="1200" y="46"/>
                </a:lnTo>
                <a:lnTo>
                  <a:pt x="1252" y="38"/>
                </a:lnTo>
                <a:lnTo>
                  <a:pt x="1302" y="30"/>
                </a:lnTo>
                <a:lnTo>
                  <a:pt x="1351" y="23"/>
                </a:lnTo>
                <a:lnTo>
                  <a:pt x="1398" y="17"/>
                </a:lnTo>
                <a:lnTo>
                  <a:pt x="1444" y="11"/>
                </a:lnTo>
                <a:lnTo>
                  <a:pt x="1488" y="7"/>
                </a:lnTo>
                <a:lnTo>
                  <a:pt x="1530" y="3"/>
                </a:lnTo>
                <a:lnTo>
                  <a:pt x="1570" y="0"/>
                </a:lnTo>
                <a:lnTo>
                  <a:pt x="1591" y="34"/>
                </a:lnTo>
                <a:lnTo>
                  <a:pt x="1611" y="67"/>
                </a:lnTo>
                <a:lnTo>
                  <a:pt x="1588" y="73"/>
                </a:lnTo>
                <a:lnTo>
                  <a:pt x="1563" y="78"/>
                </a:lnTo>
                <a:lnTo>
                  <a:pt x="1536" y="84"/>
                </a:lnTo>
                <a:lnTo>
                  <a:pt x="1509" y="92"/>
                </a:lnTo>
                <a:lnTo>
                  <a:pt x="1480" y="99"/>
                </a:lnTo>
                <a:lnTo>
                  <a:pt x="1449" y="107"/>
                </a:lnTo>
                <a:lnTo>
                  <a:pt x="1417" y="117"/>
                </a:lnTo>
                <a:lnTo>
                  <a:pt x="1384" y="126"/>
                </a:lnTo>
                <a:lnTo>
                  <a:pt x="1350" y="136"/>
                </a:lnTo>
                <a:lnTo>
                  <a:pt x="1315" y="146"/>
                </a:lnTo>
                <a:lnTo>
                  <a:pt x="1277" y="157"/>
                </a:lnTo>
                <a:lnTo>
                  <a:pt x="1240" y="167"/>
                </a:lnTo>
                <a:lnTo>
                  <a:pt x="1200" y="178"/>
                </a:lnTo>
                <a:lnTo>
                  <a:pt x="1161" y="192"/>
                </a:lnTo>
                <a:lnTo>
                  <a:pt x="1119" y="203"/>
                </a:lnTo>
                <a:lnTo>
                  <a:pt x="1079" y="217"/>
                </a:lnTo>
                <a:lnTo>
                  <a:pt x="1033" y="228"/>
                </a:lnTo>
                <a:lnTo>
                  <a:pt x="991" y="242"/>
                </a:lnTo>
                <a:lnTo>
                  <a:pt x="948" y="253"/>
                </a:lnTo>
                <a:lnTo>
                  <a:pt x="906" y="266"/>
                </a:lnTo>
                <a:lnTo>
                  <a:pt x="866" y="278"/>
                </a:lnTo>
                <a:lnTo>
                  <a:pt x="826" y="291"/>
                </a:lnTo>
                <a:lnTo>
                  <a:pt x="787" y="303"/>
                </a:lnTo>
                <a:lnTo>
                  <a:pt x="749" y="314"/>
                </a:lnTo>
                <a:lnTo>
                  <a:pt x="712" y="324"/>
                </a:lnTo>
                <a:lnTo>
                  <a:pt x="676" y="336"/>
                </a:lnTo>
                <a:lnTo>
                  <a:pt x="639" y="345"/>
                </a:lnTo>
                <a:lnTo>
                  <a:pt x="607" y="357"/>
                </a:lnTo>
                <a:lnTo>
                  <a:pt x="572" y="366"/>
                </a:lnTo>
                <a:lnTo>
                  <a:pt x="540" y="374"/>
                </a:lnTo>
                <a:lnTo>
                  <a:pt x="509" y="384"/>
                </a:lnTo>
                <a:lnTo>
                  <a:pt x="478" y="391"/>
                </a:lnTo>
                <a:lnTo>
                  <a:pt x="447" y="401"/>
                </a:lnTo>
                <a:lnTo>
                  <a:pt x="417" y="410"/>
                </a:lnTo>
                <a:lnTo>
                  <a:pt x="390" y="418"/>
                </a:lnTo>
                <a:lnTo>
                  <a:pt x="363" y="428"/>
                </a:lnTo>
                <a:lnTo>
                  <a:pt x="340" y="433"/>
                </a:lnTo>
                <a:lnTo>
                  <a:pt x="317" y="441"/>
                </a:lnTo>
                <a:lnTo>
                  <a:pt x="296" y="445"/>
                </a:lnTo>
                <a:lnTo>
                  <a:pt x="277" y="451"/>
                </a:lnTo>
                <a:lnTo>
                  <a:pt x="257" y="455"/>
                </a:lnTo>
                <a:lnTo>
                  <a:pt x="242" y="458"/>
                </a:lnTo>
                <a:lnTo>
                  <a:pt x="227" y="460"/>
                </a:lnTo>
                <a:lnTo>
                  <a:pt x="213" y="462"/>
                </a:lnTo>
                <a:lnTo>
                  <a:pt x="200" y="462"/>
                </a:lnTo>
                <a:lnTo>
                  <a:pt x="190" y="462"/>
                </a:lnTo>
                <a:lnTo>
                  <a:pt x="181" y="460"/>
                </a:lnTo>
                <a:lnTo>
                  <a:pt x="173" y="458"/>
                </a:lnTo>
                <a:lnTo>
                  <a:pt x="165" y="458"/>
                </a:lnTo>
                <a:lnTo>
                  <a:pt x="158" y="456"/>
                </a:lnTo>
                <a:lnTo>
                  <a:pt x="150" y="455"/>
                </a:lnTo>
                <a:lnTo>
                  <a:pt x="142" y="451"/>
                </a:lnTo>
                <a:lnTo>
                  <a:pt x="135" y="447"/>
                </a:lnTo>
                <a:lnTo>
                  <a:pt x="127" y="441"/>
                </a:lnTo>
                <a:lnTo>
                  <a:pt x="119" y="435"/>
                </a:lnTo>
                <a:lnTo>
                  <a:pt x="113" y="428"/>
                </a:lnTo>
                <a:lnTo>
                  <a:pt x="106" y="420"/>
                </a:lnTo>
                <a:lnTo>
                  <a:pt x="98" y="410"/>
                </a:lnTo>
                <a:lnTo>
                  <a:pt x="90" y="401"/>
                </a:lnTo>
                <a:lnTo>
                  <a:pt x="83" y="391"/>
                </a:lnTo>
                <a:lnTo>
                  <a:pt x="75" y="378"/>
                </a:lnTo>
                <a:lnTo>
                  <a:pt x="67" y="366"/>
                </a:lnTo>
                <a:lnTo>
                  <a:pt x="60" y="351"/>
                </a:lnTo>
                <a:lnTo>
                  <a:pt x="54" y="337"/>
                </a:lnTo>
                <a:lnTo>
                  <a:pt x="44" y="322"/>
                </a:lnTo>
                <a:lnTo>
                  <a:pt x="35" y="309"/>
                </a:lnTo>
                <a:lnTo>
                  <a:pt x="27" y="293"/>
                </a:lnTo>
                <a:lnTo>
                  <a:pt x="21" y="282"/>
                </a:lnTo>
                <a:lnTo>
                  <a:pt x="16" y="268"/>
                </a:lnTo>
                <a:lnTo>
                  <a:pt x="10" y="257"/>
                </a:lnTo>
                <a:lnTo>
                  <a:pt x="6" y="247"/>
                </a:lnTo>
                <a:lnTo>
                  <a:pt x="4" y="238"/>
                </a:lnTo>
                <a:lnTo>
                  <a:pt x="0" y="228"/>
                </a:lnTo>
                <a:lnTo>
                  <a:pt x="0" y="220"/>
                </a:lnTo>
                <a:lnTo>
                  <a:pt x="0" y="213"/>
                </a:lnTo>
                <a:lnTo>
                  <a:pt x="0" y="207"/>
                </a:lnTo>
                <a:lnTo>
                  <a:pt x="2" y="201"/>
                </a:lnTo>
                <a:lnTo>
                  <a:pt x="4" y="195"/>
                </a:lnTo>
                <a:lnTo>
                  <a:pt x="8" y="192"/>
                </a:lnTo>
                <a:lnTo>
                  <a:pt x="14" y="190"/>
                </a:lnTo>
                <a:lnTo>
                  <a:pt x="23" y="184"/>
                </a:lnTo>
                <a:lnTo>
                  <a:pt x="33" y="180"/>
                </a:lnTo>
                <a:lnTo>
                  <a:pt x="42" y="178"/>
                </a:lnTo>
                <a:lnTo>
                  <a:pt x="52" y="178"/>
                </a:lnTo>
                <a:lnTo>
                  <a:pt x="64" y="178"/>
                </a:lnTo>
                <a:lnTo>
                  <a:pt x="73" y="180"/>
                </a:lnTo>
                <a:lnTo>
                  <a:pt x="83" y="184"/>
                </a:lnTo>
                <a:lnTo>
                  <a:pt x="92" y="190"/>
                </a:lnTo>
                <a:lnTo>
                  <a:pt x="98" y="194"/>
                </a:lnTo>
                <a:lnTo>
                  <a:pt x="106" y="199"/>
                </a:lnTo>
                <a:lnTo>
                  <a:pt x="113" y="203"/>
                </a:lnTo>
                <a:lnTo>
                  <a:pt x="121" y="207"/>
                </a:lnTo>
                <a:lnTo>
                  <a:pt x="131" y="211"/>
                </a:lnTo>
                <a:lnTo>
                  <a:pt x="140" y="213"/>
                </a:lnTo>
                <a:lnTo>
                  <a:pt x="150" y="215"/>
                </a:lnTo>
                <a:lnTo>
                  <a:pt x="159" y="217"/>
                </a:lnTo>
                <a:lnTo>
                  <a:pt x="163" y="217"/>
                </a:lnTo>
                <a:lnTo>
                  <a:pt x="167" y="218"/>
                </a:lnTo>
                <a:lnTo>
                  <a:pt x="171" y="218"/>
                </a:lnTo>
                <a:lnTo>
                  <a:pt x="177" y="218"/>
                </a:lnTo>
                <a:lnTo>
                  <a:pt x="184" y="218"/>
                </a:lnTo>
                <a:lnTo>
                  <a:pt x="192" y="218"/>
                </a:lnTo>
                <a:lnTo>
                  <a:pt x="200" y="218"/>
                </a:lnTo>
                <a:lnTo>
                  <a:pt x="209" y="218"/>
                </a:lnTo>
                <a:lnTo>
                  <a:pt x="219" y="218"/>
                </a:lnTo>
                <a:lnTo>
                  <a:pt x="230" y="217"/>
                </a:lnTo>
                <a:lnTo>
                  <a:pt x="244" y="217"/>
                </a:lnTo>
                <a:lnTo>
                  <a:pt x="257" y="215"/>
                </a:lnTo>
                <a:lnTo>
                  <a:pt x="271" y="213"/>
                </a:lnTo>
                <a:lnTo>
                  <a:pt x="286" y="211"/>
                </a:lnTo>
                <a:lnTo>
                  <a:pt x="302" y="209"/>
                </a:lnTo>
                <a:lnTo>
                  <a:pt x="319" y="207"/>
                </a:lnTo>
                <a:lnTo>
                  <a:pt x="338" y="203"/>
                </a:lnTo>
                <a:lnTo>
                  <a:pt x="355" y="201"/>
                </a:lnTo>
                <a:lnTo>
                  <a:pt x="376" y="197"/>
                </a:lnTo>
                <a:lnTo>
                  <a:pt x="397" y="194"/>
                </a:lnTo>
                <a:lnTo>
                  <a:pt x="419" y="190"/>
                </a:lnTo>
                <a:lnTo>
                  <a:pt x="442" y="186"/>
                </a:lnTo>
                <a:lnTo>
                  <a:pt x="465" y="182"/>
                </a:lnTo>
                <a:lnTo>
                  <a:pt x="490" y="178"/>
                </a:lnTo>
                <a:lnTo>
                  <a:pt x="515" y="174"/>
                </a:lnTo>
                <a:lnTo>
                  <a:pt x="541" y="169"/>
                </a:lnTo>
                <a:lnTo>
                  <a:pt x="568" y="165"/>
                </a:lnTo>
                <a:lnTo>
                  <a:pt x="597" y="159"/>
                </a:lnTo>
                <a:lnTo>
                  <a:pt x="626" y="153"/>
                </a:lnTo>
                <a:lnTo>
                  <a:pt x="655" y="147"/>
                </a:lnTo>
                <a:lnTo>
                  <a:pt x="687" y="142"/>
                </a:lnTo>
                <a:lnTo>
                  <a:pt x="718" y="1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97"/>
          <p:cNvSpPr/>
          <p:nvPr/>
        </p:nvSpPr>
        <p:spPr>
          <a:xfrm>
            <a:off x="6789600" y="2751120"/>
            <a:ext cx="262080" cy="1819440"/>
          </a:xfrm>
          <a:custGeom>
            <a:avLst/>
            <a:gdLst/>
            <a:ahLst/>
            <a:rect l="l" t="t" r="r" b="b"/>
            <a:pathLst>
              <a:path w="328" h="2291">
                <a:moveTo>
                  <a:pt x="115" y="11"/>
                </a:moveTo>
                <a:lnTo>
                  <a:pt x="138" y="15"/>
                </a:lnTo>
                <a:lnTo>
                  <a:pt x="163" y="21"/>
                </a:lnTo>
                <a:lnTo>
                  <a:pt x="184" y="26"/>
                </a:lnTo>
                <a:lnTo>
                  <a:pt x="205" y="32"/>
                </a:lnTo>
                <a:lnTo>
                  <a:pt x="224" y="38"/>
                </a:lnTo>
                <a:lnTo>
                  <a:pt x="242" y="46"/>
                </a:lnTo>
                <a:lnTo>
                  <a:pt x="259" y="55"/>
                </a:lnTo>
                <a:lnTo>
                  <a:pt x="274" y="65"/>
                </a:lnTo>
                <a:lnTo>
                  <a:pt x="282" y="69"/>
                </a:lnTo>
                <a:lnTo>
                  <a:pt x="288" y="74"/>
                </a:lnTo>
                <a:lnTo>
                  <a:pt x="294" y="80"/>
                </a:lnTo>
                <a:lnTo>
                  <a:pt x="299" y="84"/>
                </a:lnTo>
                <a:lnTo>
                  <a:pt x="305" y="90"/>
                </a:lnTo>
                <a:lnTo>
                  <a:pt x="309" y="94"/>
                </a:lnTo>
                <a:lnTo>
                  <a:pt x="313" y="99"/>
                </a:lnTo>
                <a:lnTo>
                  <a:pt x="317" y="103"/>
                </a:lnTo>
                <a:lnTo>
                  <a:pt x="320" y="113"/>
                </a:lnTo>
                <a:lnTo>
                  <a:pt x="324" y="121"/>
                </a:lnTo>
                <a:lnTo>
                  <a:pt x="326" y="126"/>
                </a:lnTo>
                <a:lnTo>
                  <a:pt x="328" y="132"/>
                </a:lnTo>
                <a:lnTo>
                  <a:pt x="328" y="153"/>
                </a:lnTo>
                <a:lnTo>
                  <a:pt x="326" y="163"/>
                </a:lnTo>
                <a:lnTo>
                  <a:pt x="326" y="172"/>
                </a:lnTo>
                <a:lnTo>
                  <a:pt x="324" y="182"/>
                </a:lnTo>
                <a:lnTo>
                  <a:pt x="322" y="193"/>
                </a:lnTo>
                <a:lnTo>
                  <a:pt x="319" y="203"/>
                </a:lnTo>
                <a:lnTo>
                  <a:pt x="315" y="213"/>
                </a:lnTo>
                <a:lnTo>
                  <a:pt x="311" y="228"/>
                </a:lnTo>
                <a:lnTo>
                  <a:pt x="307" y="243"/>
                </a:lnTo>
                <a:lnTo>
                  <a:pt x="303" y="261"/>
                </a:lnTo>
                <a:lnTo>
                  <a:pt x="301" y="278"/>
                </a:lnTo>
                <a:lnTo>
                  <a:pt x="299" y="295"/>
                </a:lnTo>
                <a:lnTo>
                  <a:pt x="297" y="305"/>
                </a:lnTo>
                <a:lnTo>
                  <a:pt x="296" y="316"/>
                </a:lnTo>
                <a:lnTo>
                  <a:pt x="294" y="326"/>
                </a:lnTo>
                <a:lnTo>
                  <a:pt x="292" y="337"/>
                </a:lnTo>
                <a:lnTo>
                  <a:pt x="290" y="349"/>
                </a:lnTo>
                <a:lnTo>
                  <a:pt x="288" y="362"/>
                </a:lnTo>
                <a:lnTo>
                  <a:pt x="286" y="370"/>
                </a:lnTo>
                <a:lnTo>
                  <a:pt x="286" y="382"/>
                </a:lnTo>
                <a:lnTo>
                  <a:pt x="284" y="395"/>
                </a:lnTo>
                <a:lnTo>
                  <a:pt x="282" y="414"/>
                </a:lnTo>
                <a:lnTo>
                  <a:pt x="282" y="435"/>
                </a:lnTo>
                <a:lnTo>
                  <a:pt x="280" y="460"/>
                </a:lnTo>
                <a:lnTo>
                  <a:pt x="280" y="487"/>
                </a:lnTo>
                <a:lnTo>
                  <a:pt x="278" y="520"/>
                </a:lnTo>
                <a:lnTo>
                  <a:pt x="276" y="554"/>
                </a:lnTo>
                <a:lnTo>
                  <a:pt x="276" y="593"/>
                </a:lnTo>
                <a:lnTo>
                  <a:pt x="274" y="633"/>
                </a:lnTo>
                <a:lnTo>
                  <a:pt x="272" y="677"/>
                </a:lnTo>
                <a:lnTo>
                  <a:pt x="272" y="727"/>
                </a:lnTo>
                <a:lnTo>
                  <a:pt x="271" y="779"/>
                </a:lnTo>
                <a:lnTo>
                  <a:pt x="269" y="833"/>
                </a:lnTo>
                <a:lnTo>
                  <a:pt x="269" y="892"/>
                </a:lnTo>
                <a:lnTo>
                  <a:pt x="267" y="954"/>
                </a:lnTo>
                <a:lnTo>
                  <a:pt x="265" y="1019"/>
                </a:lnTo>
                <a:lnTo>
                  <a:pt x="265" y="1088"/>
                </a:lnTo>
                <a:lnTo>
                  <a:pt x="263" y="1159"/>
                </a:lnTo>
                <a:lnTo>
                  <a:pt x="261" y="1234"/>
                </a:lnTo>
                <a:lnTo>
                  <a:pt x="261" y="1314"/>
                </a:lnTo>
                <a:lnTo>
                  <a:pt x="259" y="1395"/>
                </a:lnTo>
                <a:lnTo>
                  <a:pt x="257" y="1481"/>
                </a:lnTo>
                <a:lnTo>
                  <a:pt x="257" y="1572"/>
                </a:lnTo>
                <a:lnTo>
                  <a:pt x="255" y="1664"/>
                </a:lnTo>
                <a:lnTo>
                  <a:pt x="253" y="1760"/>
                </a:lnTo>
                <a:lnTo>
                  <a:pt x="253" y="1860"/>
                </a:lnTo>
                <a:lnTo>
                  <a:pt x="251" y="1961"/>
                </a:lnTo>
                <a:lnTo>
                  <a:pt x="251" y="2069"/>
                </a:lnTo>
                <a:lnTo>
                  <a:pt x="249" y="2178"/>
                </a:lnTo>
                <a:lnTo>
                  <a:pt x="248" y="2291"/>
                </a:lnTo>
                <a:lnTo>
                  <a:pt x="102" y="2291"/>
                </a:lnTo>
                <a:lnTo>
                  <a:pt x="102" y="2171"/>
                </a:lnTo>
                <a:lnTo>
                  <a:pt x="102" y="2053"/>
                </a:lnTo>
                <a:lnTo>
                  <a:pt x="102" y="1940"/>
                </a:lnTo>
                <a:lnTo>
                  <a:pt x="102" y="1831"/>
                </a:lnTo>
                <a:lnTo>
                  <a:pt x="102" y="1723"/>
                </a:lnTo>
                <a:lnTo>
                  <a:pt x="102" y="1622"/>
                </a:lnTo>
                <a:lnTo>
                  <a:pt x="102" y="1522"/>
                </a:lnTo>
                <a:lnTo>
                  <a:pt x="102" y="1426"/>
                </a:lnTo>
                <a:lnTo>
                  <a:pt x="102" y="1334"/>
                </a:lnTo>
                <a:lnTo>
                  <a:pt x="102" y="1245"/>
                </a:lnTo>
                <a:lnTo>
                  <a:pt x="100" y="1161"/>
                </a:lnTo>
                <a:lnTo>
                  <a:pt x="100" y="1080"/>
                </a:lnTo>
                <a:lnTo>
                  <a:pt x="100" y="1003"/>
                </a:lnTo>
                <a:lnTo>
                  <a:pt x="100" y="931"/>
                </a:lnTo>
                <a:lnTo>
                  <a:pt x="100" y="860"/>
                </a:lnTo>
                <a:lnTo>
                  <a:pt x="100" y="794"/>
                </a:lnTo>
                <a:lnTo>
                  <a:pt x="100" y="731"/>
                </a:lnTo>
                <a:lnTo>
                  <a:pt x="100" y="671"/>
                </a:lnTo>
                <a:lnTo>
                  <a:pt x="98" y="616"/>
                </a:lnTo>
                <a:lnTo>
                  <a:pt x="98" y="564"/>
                </a:lnTo>
                <a:lnTo>
                  <a:pt x="98" y="516"/>
                </a:lnTo>
                <a:lnTo>
                  <a:pt x="98" y="472"/>
                </a:lnTo>
                <a:lnTo>
                  <a:pt x="96" y="431"/>
                </a:lnTo>
                <a:lnTo>
                  <a:pt x="96" y="393"/>
                </a:lnTo>
                <a:lnTo>
                  <a:pt x="96" y="360"/>
                </a:lnTo>
                <a:lnTo>
                  <a:pt x="94" y="330"/>
                </a:lnTo>
                <a:lnTo>
                  <a:pt x="94" y="303"/>
                </a:lnTo>
                <a:lnTo>
                  <a:pt x="92" y="282"/>
                </a:lnTo>
                <a:lnTo>
                  <a:pt x="92" y="263"/>
                </a:lnTo>
                <a:lnTo>
                  <a:pt x="90" y="247"/>
                </a:lnTo>
                <a:lnTo>
                  <a:pt x="90" y="236"/>
                </a:lnTo>
                <a:lnTo>
                  <a:pt x="88" y="226"/>
                </a:lnTo>
                <a:lnTo>
                  <a:pt x="82" y="201"/>
                </a:lnTo>
                <a:lnTo>
                  <a:pt x="77" y="178"/>
                </a:lnTo>
                <a:lnTo>
                  <a:pt x="69" y="157"/>
                </a:lnTo>
                <a:lnTo>
                  <a:pt x="59" y="138"/>
                </a:lnTo>
                <a:lnTo>
                  <a:pt x="56" y="128"/>
                </a:lnTo>
                <a:lnTo>
                  <a:pt x="50" y="119"/>
                </a:lnTo>
                <a:lnTo>
                  <a:pt x="46" y="111"/>
                </a:lnTo>
                <a:lnTo>
                  <a:pt x="42" y="103"/>
                </a:lnTo>
                <a:lnTo>
                  <a:pt x="36" y="96"/>
                </a:lnTo>
                <a:lnTo>
                  <a:pt x="31" y="90"/>
                </a:lnTo>
                <a:lnTo>
                  <a:pt x="27" y="84"/>
                </a:lnTo>
                <a:lnTo>
                  <a:pt x="21" y="78"/>
                </a:lnTo>
                <a:lnTo>
                  <a:pt x="17" y="74"/>
                </a:lnTo>
                <a:lnTo>
                  <a:pt x="13" y="73"/>
                </a:lnTo>
                <a:lnTo>
                  <a:pt x="10" y="69"/>
                </a:lnTo>
                <a:lnTo>
                  <a:pt x="6" y="65"/>
                </a:lnTo>
                <a:lnTo>
                  <a:pt x="4" y="61"/>
                </a:lnTo>
                <a:lnTo>
                  <a:pt x="2" y="57"/>
                </a:lnTo>
                <a:lnTo>
                  <a:pt x="2" y="53"/>
                </a:lnTo>
                <a:lnTo>
                  <a:pt x="0" y="50"/>
                </a:lnTo>
                <a:lnTo>
                  <a:pt x="0" y="40"/>
                </a:lnTo>
                <a:lnTo>
                  <a:pt x="2" y="30"/>
                </a:lnTo>
                <a:lnTo>
                  <a:pt x="4" y="21"/>
                </a:lnTo>
                <a:lnTo>
                  <a:pt x="8" y="11"/>
                </a:lnTo>
                <a:lnTo>
                  <a:pt x="13" y="5"/>
                </a:lnTo>
                <a:lnTo>
                  <a:pt x="21" y="3"/>
                </a:lnTo>
                <a:lnTo>
                  <a:pt x="25" y="2"/>
                </a:lnTo>
                <a:lnTo>
                  <a:pt x="31" y="2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6" y="2"/>
                </a:lnTo>
                <a:lnTo>
                  <a:pt x="63" y="2"/>
                </a:lnTo>
                <a:lnTo>
                  <a:pt x="71" y="3"/>
                </a:lnTo>
                <a:lnTo>
                  <a:pt x="81" y="3"/>
                </a:lnTo>
                <a:lnTo>
                  <a:pt x="92" y="5"/>
                </a:lnTo>
                <a:lnTo>
                  <a:pt x="102" y="7"/>
                </a:lnTo>
                <a:lnTo>
                  <a:pt x="115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98"/>
          <p:cNvSpPr/>
          <p:nvPr/>
        </p:nvSpPr>
        <p:spPr>
          <a:xfrm>
            <a:off x="6532560" y="3862440"/>
            <a:ext cx="930240" cy="225360"/>
          </a:xfrm>
          <a:custGeom>
            <a:avLst/>
            <a:gdLst/>
            <a:ahLst/>
            <a:rect l="l" t="t" r="r" b="b"/>
            <a:pathLst>
              <a:path w="1170" h="284">
                <a:moveTo>
                  <a:pt x="679" y="67"/>
                </a:moveTo>
                <a:lnTo>
                  <a:pt x="706" y="63"/>
                </a:lnTo>
                <a:lnTo>
                  <a:pt x="733" y="59"/>
                </a:lnTo>
                <a:lnTo>
                  <a:pt x="758" y="55"/>
                </a:lnTo>
                <a:lnTo>
                  <a:pt x="783" y="54"/>
                </a:lnTo>
                <a:lnTo>
                  <a:pt x="806" y="50"/>
                </a:lnTo>
                <a:lnTo>
                  <a:pt x="829" y="46"/>
                </a:lnTo>
                <a:lnTo>
                  <a:pt x="852" y="42"/>
                </a:lnTo>
                <a:lnTo>
                  <a:pt x="873" y="40"/>
                </a:lnTo>
                <a:lnTo>
                  <a:pt x="894" y="36"/>
                </a:lnTo>
                <a:lnTo>
                  <a:pt x="913" y="34"/>
                </a:lnTo>
                <a:lnTo>
                  <a:pt x="932" y="31"/>
                </a:lnTo>
                <a:lnTo>
                  <a:pt x="952" y="29"/>
                </a:lnTo>
                <a:lnTo>
                  <a:pt x="969" y="25"/>
                </a:lnTo>
                <a:lnTo>
                  <a:pt x="986" y="23"/>
                </a:lnTo>
                <a:lnTo>
                  <a:pt x="1001" y="21"/>
                </a:lnTo>
                <a:lnTo>
                  <a:pt x="1017" y="19"/>
                </a:lnTo>
                <a:lnTo>
                  <a:pt x="1030" y="15"/>
                </a:lnTo>
                <a:lnTo>
                  <a:pt x="1044" y="13"/>
                </a:lnTo>
                <a:lnTo>
                  <a:pt x="1057" y="11"/>
                </a:lnTo>
                <a:lnTo>
                  <a:pt x="1069" y="11"/>
                </a:lnTo>
                <a:lnTo>
                  <a:pt x="1080" y="9"/>
                </a:lnTo>
                <a:lnTo>
                  <a:pt x="1090" y="7"/>
                </a:lnTo>
                <a:lnTo>
                  <a:pt x="1099" y="6"/>
                </a:lnTo>
                <a:lnTo>
                  <a:pt x="1107" y="6"/>
                </a:lnTo>
                <a:lnTo>
                  <a:pt x="1115" y="4"/>
                </a:lnTo>
                <a:lnTo>
                  <a:pt x="1122" y="2"/>
                </a:lnTo>
                <a:lnTo>
                  <a:pt x="1128" y="2"/>
                </a:lnTo>
                <a:lnTo>
                  <a:pt x="1132" y="2"/>
                </a:lnTo>
                <a:lnTo>
                  <a:pt x="1138" y="0"/>
                </a:lnTo>
                <a:lnTo>
                  <a:pt x="1140" y="0"/>
                </a:lnTo>
                <a:lnTo>
                  <a:pt x="1144" y="0"/>
                </a:lnTo>
                <a:lnTo>
                  <a:pt x="1145" y="0"/>
                </a:lnTo>
                <a:lnTo>
                  <a:pt x="1147" y="4"/>
                </a:lnTo>
                <a:lnTo>
                  <a:pt x="1149" y="6"/>
                </a:lnTo>
                <a:lnTo>
                  <a:pt x="1151" y="11"/>
                </a:lnTo>
                <a:lnTo>
                  <a:pt x="1155" y="15"/>
                </a:lnTo>
                <a:lnTo>
                  <a:pt x="1157" y="21"/>
                </a:lnTo>
                <a:lnTo>
                  <a:pt x="1159" y="27"/>
                </a:lnTo>
                <a:lnTo>
                  <a:pt x="1161" y="34"/>
                </a:lnTo>
                <a:lnTo>
                  <a:pt x="1163" y="42"/>
                </a:lnTo>
                <a:lnTo>
                  <a:pt x="1165" y="52"/>
                </a:lnTo>
                <a:lnTo>
                  <a:pt x="1167" y="61"/>
                </a:lnTo>
                <a:lnTo>
                  <a:pt x="1167" y="71"/>
                </a:lnTo>
                <a:lnTo>
                  <a:pt x="1168" y="82"/>
                </a:lnTo>
                <a:lnTo>
                  <a:pt x="1170" y="94"/>
                </a:lnTo>
                <a:lnTo>
                  <a:pt x="1170" y="107"/>
                </a:lnTo>
                <a:lnTo>
                  <a:pt x="1170" y="121"/>
                </a:lnTo>
                <a:lnTo>
                  <a:pt x="1170" y="136"/>
                </a:lnTo>
                <a:lnTo>
                  <a:pt x="879" y="173"/>
                </a:lnTo>
                <a:lnTo>
                  <a:pt x="585" y="209"/>
                </a:lnTo>
                <a:lnTo>
                  <a:pt x="291" y="246"/>
                </a:lnTo>
                <a:lnTo>
                  <a:pt x="0" y="284"/>
                </a:lnTo>
                <a:lnTo>
                  <a:pt x="0" y="217"/>
                </a:lnTo>
                <a:lnTo>
                  <a:pt x="0" y="150"/>
                </a:lnTo>
                <a:lnTo>
                  <a:pt x="32" y="146"/>
                </a:lnTo>
                <a:lnTo>
                  <a:pt x="67" y="144"/>
                </a:lnTo>
                <a:lnTo>
                  <a:pt x="101" y="140"/>
                </a:lnTo>
                <a:lnTo>
                  <a:pt x="140" y="136"/>
                </a:lnTo>
                <a:lnTo>
                  <a:pt x="178" y="132"/>
                </a:lnTo>
                <a:lnTo>
                  <a:pt x="216" y="128"/>
                </a:lnTo>
                <a:lnTo>
                  <a:pt x="257" y="123"/>
                </a:lnTo>
                <a:lnTo>
                  <a:pt x="299" y="119"/>
                </a:lnTo>
                <a:lnTo>
                  <a:pt x="341" y="113"/>
                </a:lnTo>
                <a:lnTo>
                  <a:pt x="387" y="107"/>
                </a:lnTo>
                <a:lnTo>
                  <a:pt x="431" y="102"/>
                </a:lnTo>
                <a:lnTo>
                  <a:pt x="479" y="96"/>
                </a:lnTo>
                <a:lnTo>
                  <a:pt x="527" y="90"/>
                </a:lnTo>
                <a:lnTo>
                  <a:pt x="575" y="82"/>
                </a:lnTo>
                <a:lnTo>
                  <a:pt x="627" y="75"/>
                </a:lnTo>
                <a:lnTo>
                  <a:pt x="679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99"/>
          <p:cNvSpPr/>
          <p:nvPr/>
        </p:nvSpPr>
        <p:spPr>
          <a:xfrm>
            <a:off x="6448320" y="3328920"/>
            <a:ext cx="1214640" cy="608040"/>
          </a:xfrm>
          <a:custGeom>
            <a:avLst/>
            <a:gdLst/>
            <a:ahLst/>
            <a:rect l="l" t="t" r="r" b="b"/>
            <a:pathLst>
              <a:path w="1532" h="768">
                <a:moveTo>
                  <a:pt x="1386" y="108"/>
                </a:moveTo>
                <a:lnTo>
                  <a:pt x="1403" y="117"/>
                </a:lnTo>
                <a:lnTo>
                  <a:pt x="1418" y="127"/>
                </a:lnTo>
                <a:lnTo>
                  <a:pt x="1434" y="136"/>
                </a:lnTo>
                <a:lnTo>
                  <a:pt x="1447" y="146"/>
                </a:lnTo>
                <a:lnTo>
                  <a:pt x="1461" y="154"/>
                </a:lnTo>
                <a:lnTo>
                  <a:pt x="1472" y="163"/>
                </a:lnTo>
                <a:lnTo>
                  <a:pt x="1484" y="171"/>
                </a:lnTo>
                <a:lnTo>
                  <a:pt x="1493" y="179"/>
                </a:lnTo>
                <a:lnTo>
                  <a:pt x="1503" y="186"/>
                </a:lnTo>
                <a:lnTo>
                  <a:pt x="1511" y="192"/>
                </a:lnTo>
                <a:lnTo>
                  <a:pt x="1516" y="200"/>
                </a:lnTo>
                <a:lnTo>
                  <a:pt x="1522" y="205"/>
                </a:lnTo>
                <a:lnTo>
                  <a:pt x="1526" y="211"/>
                </a:lnTo>
                <a:lnTo>
                  <a:pt x="1530" y="217"/>
                </a:lnTo>
                <a:lnTo>
                  <a:pt x="1532" y="223"/>
                </a:lnTo>
                <a:lnTo>
                  <a:pt x="1532" y="228"/>
                </a:lnTo>
                <a:lnTo>
                  <a:pt x="1532" y="238"/>
                </a:lnTo>
                <a:lnTo>
                  <a:pt x="1530" y="246"/>
                </a:lnTo>
                <a:lnTo>
                  <a:pt x="1526" y="253"/>
                </a:lnTo>
                <a:lnTo>
                  <a:pt x="1520" y="259"/>
                </a:lnTo>
                <a:lnTo>
                  <a:pt x="1516" y="261"/>
                </a:lnTo>
                <a:lnTo>
                  <a:pt x="1513" y="263"/>
                </a:lnTo>
                <a:lnTo>
                  <a:pt x="1509" y="265"/>
                </a:lnTo>
                <a:lnTo>
                  <a:pt x="1503" y="267"/>
                </a:lnTo>
                <a:lnTo>
                  <a:pt x="1499" y="267"/>
                </a:lnTo>
                <a:lnTo>
                  <a:pt x="1491" y="269"/>
                </a:lnTo>
                <a:lnTo>
                  <a:pt x="1486" y="269"/>
                </a:lnTo>
                <a:lnTo>
                  <a:pt x="1478" y="269"/>
                </a:lnTo>
                <a:lnTo>
                  <a:pt x="1470" y="273"/>
                </a:lnTo>
                <a:lnTo>
                  <a:pt x="1465" y="275"/>
                </a:lnTo>
                <a:lnTo>
                  <a:pt x="1457" y="280"/>
                </a:lnTo>
                <a:lnTo>
                  <a:pt x="1451" y="284"/>
                </a:lnTo>
                <a:lnTo>
                  <a:pt x="1443" y="290"/>
                </a:lnTo>
                <a:lnTo>
                  <a:pt x="1438" y="296"/>
                </a:lnTo>
                <a:lnTo>
                  <a:pt x="1432" y="303"/>
                </a:lnTo>
                <a:lnTo>
                  <a:pt x="1424" y="311"/>
                </a:lnTo>
                <a:lnTo>
                  <a:pt x="1418" y="321"/>
                </a:lnTo>
                <a:lnTo>
                  <a:pt x="1413" y="328"/>
                </a:lnTo>
                <a:lnTo>
                  <a:pt x="1407" y="340"/>
                </a:lnTo>
                <a:lnTo>
                  <a:pt x="1399" y="351"/>
                </a:lnTo>
                <a:lnTo>
                  <a:pt x="1394" y="363"/>
                </a:lnTo>
                <a:lnTo>
                  <a:pt x="1386" y="376"/>
                </a:lnTo>
                <a:lnTo>
                  <a:pt x="1380" y="390"/>
                </a:lnTo>
                <a:lnTo>
                  <a:pt x="1372" y="405"/>
                </a:lnTo>
                <a:lnTo>
                  <a:pt x="1365" y="422"/>
                </a:lnTo>
                <a:lnTo>
                  <a:pt x="1357" y="442"/>
                </a:lnTo>
                <a:lnTo>
                  <a:pt x="1349" y="461"/>
                </a:lnTo>
                <a:lnTo>
                  <a:pt x="1340" y="480"/>
                </a:lnTo>
                <a:lnTo>
                  <a:pt x="1330" y="501"/>
                </a:lnTo>
                <a:lnTo>
                  <a:pt x="1323" y="522"/>
                </a:lnTo>
                <a:lnTo>
                  <a:pt x="1313" y="543"/>
                </a:lnTo>
                <a:lnTo>
                  <a:pt x="1301" y="566"/>
                </a:lnTo>
                <a:lnTo>
                  <a:pt x="1292" y="589"/>
                </a:lnTo>
                <a:lnTo>
                  <a:pt x="1282" y="612"/>
                </a:lnTo>
                <a:lnTo>
                  <a:pt x="1271" y="637"/>
                </a:lnTo>
                <a:lnTo>
                  <a:pt x="1259" y="662"/>
                </a:lnTo>
                <a:lnTo>
                  <a:pt x="1248" y="687"/>
                </a:lnTo>
                <a:lnTo>
                  <a:pt x="1236" y="714"/>
                </a:lnTo>
                <a:lnTo>
                  <a:pt x="1225" y="741"/>
                </a:lnTo>
                <a:lnTo>
                  <a:pt x="1213" y="768"/>
                </a:lnTo>
                <a:lnTo>
                  <a:pt x="1138" y="768"/>
                </a:lnTo>
                <a:lnTo>
                  <a:pt x="1065" y="768"/>
                </a:lnTo>
                <a:lnTo>
                  <a:pt x="1075" y="737"/>
                </a:lnTo>
                <a:lnTo>
                  <a:pt x="1083" y="706"/>
                </a:lnTo>
                <a:lnTo>
                  <a:pt x="1090" y="678"/>
                </a:lnTo>
                <a:lnTo>
                  <a:pt x="1098" y="649"/>
                </a:lnTo>
                <a:lnTo>
                  <a:pt x="1106" y="622"/>
                </a:lnTo>
                <a:lnTo>
                  <a:pt x="1111" y="595"/>
                </a:lnTo>
                <a:lnTo>
                  <a:pt x="1119" y="570"/>
                </a:lnTo>
                <a:lnTo>
                  <a:pt x="1125" y="545"/>
                </a:lnTo>
                <a:lnTo>
                  <a:pt x="1131" y="522"/>
                </a:lnTo>
                <a:lnTo>
                  <a:pt x="1136" y="499"/>
                </a:lnTo>
                <a:lnTo>
                  <a:pt x="1142" y="478"/>
                </a:lnTo>
                <a:lnTo>
                  <a:pt x="1146" y="457"/>
                </a:lnTo>
                <a:lnTo>
                  <a:pt x="1152" y="436"/>
                </a:lnTo>
                <a:lnTo>
                  <a:pt x="1156" y="417"/>
                </a:lnTo>
                <a:lnTo>
                  <a:pt x="1159" y="399"/>
                </a:lnTo>
                <a:lnTo>
                  <a:pt x="1163" y="382"/>
                </a:lnTo>
                <a:lnTo>
                  <a:pt x="1167" y="367"/>
                </a:lnTo>
                <a:lnTo>
                  <a:pt x="1169" y="349"/>
                </a:lnTo>
                <a:lnTo>
                  <a:pt x="1173" y="336"/>
                </a:lnTo>
                <a:lnTo>
                  <a:pt x="1175" y="323"/>
                </a:lnTo>
                <a:lnTo>
                  <a:pt x="1177" y="309"/>
                </a:lnTo>
                <a:lnTo>
                  <a:pt x="1179" y="298"/>
                </a:lnTo>
                <a:lnTo>
                  <a:pt x="1179" y="286"/>
                </a:lnTo>
                <a:lnTo>
                  <a:pt x="1180" y="276"/>
                </a:lnTo>
                <a:lnTo>
                  <a:pt x="1180" y="267"/>
                </a:lnTo>
                <a:lnTo>
                  <a:pt x="1180" y="259"/>
                </a:lnTo>
                <a:lnTo>
                  <a:pt x="1180" y="252"/>
                </a:lnTo>
                <a:lnTo>
                  <a:pt x="1179" y="246"/>
                </a:lnTo>
                <a:lnTo>
                  <a:pt x="1179" y="240"/>
                </a:lnTo>
                <a:lnTo>
                  <a:pt x="1177" y="236"/>
                </a:lnTo>
                <a:lnTo>
                  <a:pt x="1175" y="232"/>
                </a:lnTo>
                <a:lnTo>
                  <a:pt x="1173" y="228"/>
                </a:lnTo>
                <a:lnTo>
                  <a:pt x="1167" y="223"/>
                </a:lnTo>
                <a:lnTo>
                  <a:pt x="1161" y="219"/>
                </a:lnTo>
                <a:lnTo>
                  <a:pt x="1156" y="215"/>
                </a:lnTo>
                <a:lnTo>
                  <a:pt x="1148" y="211"/>
                </a:lnTo>
                <a:lnTo>
                  <a:pt x="1140" y="207"/>
                </a:lnTo>
                <a:lnTo>
                  <a:pt x="1133" y="204"/>
                </a:lnTo>
                <a:lnTo>
                  <a:pt x="1123" y="202"/>
                </a:lnTo>
                <a:lnTo>
                  <a:pt x="1115" y="200"/>
                </a:lnTo>
                <a:lnTo>
                  <a:pt x="1106" y="198"/>
                </a:lnTo>
                <a:lnTo>
                  <a:pt x="1094" y="198"/>
                </a:lnTo>
                <a:lnTo>
                  <a:pt x="1085" y="196"/>
                </a:lnTo>
                <a:lnTo>
                  <a:pt x="1073" y="196"/>
                </a:lnTo>
                <a:lnTo>
                  <a:pt x="1061" y="196"/>
                </a:lnTo>
                <a:lnTo>
                  <a:pt x="1050" y="198"/>
                </a:lnTo>
                <a:lnTo>
                  <a:pt x="1038" y="200"/>
                </a:lnTo>
                <a:lnTo>
                  <a:pt x="1027" y="202"/>
                </a:lnTo>
                <a:lnTo>
                  <a:pt x="1019" y="204"/>
                </a:lnTo>
                <a:lnTo>
                  <a:pt x="1010" y="205"/>
                </a:lnTo>
                <a:lnTo>
                  <a:pt x="1000" y="207"/>
                </a:lnTo>
                <a:lnTo>
                  <a:pt x="989" y="209"/>
                </a:lnTo>
                <a:lnTo>
                  <a:pt x="975" y="211"/>
                </a:lnTo>
                <a:lnTo>
                  <a:pt x="960" y="213"/>
                </a:lnTo>
                <a:lnTo>
                  <a:pt x="942" y="217"/>
                </a:lnTo>
                <a:lnTo>
                  <a:pt x="923" y="219"/>
                </a:lnTo>
                <a:lnTo>
                  <a:pt x="904" y="223"/>
                </a:lnTo>
                <a:lnTo>
                  <a:pt x="881" y="227"/>
                </a:lnTo>
                <a:lnTo>
                  <a:pt x="858" y="230"/>
                </a:lnTo>
                <a:lnTo>
                  <a:pt x="833" y="234"/>
                </a:lnTo>
                <a:lnTo>
                  <a:pt x="806" y="238"/>
                </a:lnTo>
                <a:lnTo>
                  <a:pt x="779" y="244"/>
                </a:lnTo>
                <a:lnTo>
                  <a:pt x="749" y="248"/>
                </a:lnTo>
                <a:lnTo>
                  <a:pt x="718" y="253"/>
                </a:lnTo>
                <a:lnTo>
                  <a:pt x="685" y="259"/>
                </a:lnTo>
                <a:lnTo>
                  <a:pt x="651" y="265"/>
                </a:lnTo>
                <a:lnTo>
                  <a:pt x="614" y="271"/>
                </a:lnTo>
                <a:lnTo>
                  <a:pt x="576" y="276"/>
                </a:lnTo>
                <a:lnTo>
                  <a:pt x="537" y="284"/>
                </a:lnTo>
                <a:lnTo>
                  <a:pt x="497" y="290"/>
                </a:lnTo>
                <a:lnTo>
                  <a:pt x="453" y="298"/>
                </a:lnTo>
                <a:lnTo>
                  <a:pt x="409" y="305"/>
                </a:lnTo>
                <a:lnTo>
                  <a:pt x="365" y="313"/>
                </a:lnTo>
                <a:lnTo>
                  <a:pt x="317" y="321"/>
                </a:lnTo>
                <a:lnTo>
                  <a:pt x="269" y="330"/>
                </a:lnTo>
                <a:lnTo>
                  <a:pt x="217" y="338"/>
                </a:lnTo>
                <a:lnTo>
                  <a:pt x="165" y="348"/>
                </a:lnTo>
                <a:lnTo>
                  <a:pt x="111" y="357"/>
                </a:lnTo>
                <a:lnTo>
                  <a:pt x="58" y="367"/>
                </a:lnTo>
                <a:lnTo>
                  <a:pt x="0" y="376"/>
                </a:lnTo>
                <a:lnTo>
                  <a:pt x="0" y="228"/>
                </a:lnTo>
                <a:lnTo>
                  <a:pt x="90" y="223"/>
                </a:lnTo>
                <a:lnTo>
                  <a:pt x="180" y="215"/>
                </a:lnTo>
                <a:lnTo>
                  <a:pt x="271" y="207"/>
                </a:lnTo>
                <a:lnTo>
                  <a:pt x="317" y="202"/>
                </a:lnTo>
                <a:lnTo>
                  <a:pt x="363" y="196"/>
                </a:lnTo>
                <a:lnTo>
                  <a:pt x="407" y="190"/>
                </a:lnTo>
                <a:lnTo>
                  <a:pt x="453" y="184"/>
                </a:lnTo>
                <a:lnTo>
                  <a:pt x="499" y="177"/>
                </a:lnTo>
                <a:lnTo>
                  <a:pt x="545" y="171"/>
                </a:lnTo>
                <a:lnTo>
                  <a:pt x="593" y="161"/>
                </a:lnTo>
                <a:lnTo>
                  <a:pt x="639" y="154"/>
                </a:lnTo>
                <a:lnTo>
                  <a:pt x="685" y="144"/>
                </a:lnTo>
                <a:lnTo>
                  <a:pt x="733" y="134"/>
                </a:lnTo>
                <a:lnTo>
                  <a:pt x="756" y="131"/>
                </a:lnTo>
                <a:lnTo>
                  <a:pt x="777" y="127"/>
                </a:lnTo>
                <a:lnTo>
                  <a:pt x="799" y="123"/>
                </a:lnTo>
                <a:lnTo>
                  <a:pt x="818" y="119"/>
                </a:lnTo>
                <a:lnTo>
                  <a:pt x="837" y="115"/>
                </a:lnTo>
                <a:lnTo>
                  <a:pt x="856" y="111"/>
                </a:lnTo>
                <a:lnTo>
                  <a:pt x="875" y="108"/>
                </a:lnTo>
                <a:lnTo>
                  <a:pt x="893" y="104"/>
                </a:lnTo>
                <a:lnTo>
                  <a:pt x="910" y="100"/>
                </a:lnTo>
                <a:lnTo>
                  <a:pt x="927" y="96"/>
                </a:lnTo>
                <a:lnTo>
                  <a:pt x="942" y="92"/>
                </a:lnTo>
                <a:lnTo>
                  <a:pt x="958" y="88"/>
                </a:lnTo>
                <a:lnTo>
                  <a:pt x="971" y="85"/>
                </a:lnTo>
                <a:lnTo>
                  <a:pt x="985" y="81"/>
                </a:lnTo>
                <a:lnTo>
                  <a:pt x="998" y="79"/>
                </a:lnTo>
                <a:lnTo>
                  <a:pt x="1012" y="75"/>
                </a:lnTo>
                <a:lnTo>
                  <a:pt x="1023" y="71"/>
                </a:lnTo>
                <a:lnTo>
                  <a:pt x="1035" y="67"/>
                </a:lnTo>
                <a:lnTo>
                  <a:pt x="1044" y="65"/>
                </a:lnTo>
                <a:lnTo>
                  <a:pt x="1054" y="62"/>
                </a:lnTo>
                <a:lnTo>
                  <a:pt x="1063" y="58"/>
                </a:lnTo>
                <a:lnTo>
                  <a:pt x="1073" y="54"/>
                </a:lnTo>
                <a:lnTo>
                  <a:pt x="1081" y="52"/>
                </a:lnTo>
                <a:lnTo>
                  <a:pt x="1086" y="48"/>
                </a:lnTo>
                <a:lnTo>
                  <a:pt x="1094" y="46"/>
                </a:lnTo>
                <a:lnTo>
                  <a:pt x="1100" y="42"/>
                </a:lnTo>
                <a:lnTo>
                  <a:pt x="1104" y="40"/>
                </a:lnTo>
                <a:lnTo>
                  <a:pt x="1109" y="37"/>
                </a:lnTo>
                <a:lnTo>
                  <a:pt x="1111" y="35"/>
                </a:lnTo>
                <a:lnTo>
                  <a:pt x="1115" y="31"/>
                </a:lnTo>
                <a:lnTo>
                  <a:pt x="1117" y="29"/>
                </a:lnTo>
                <a:lnTo>
                  <a:pt x="1119" y="27"/>
                </a:lnTo>
                <a:lnTo>
                  <a:pt x="1125" y="21"/>
                </a:lnTo>
                <a:lnTo>
                  <a:pt x="1129" y="15"/>
                </a:lnTo>
                <a:lnTo>
                  <a:pt x="1136" y="12"/>
                </a:lnTo>
                <a:lnTo>
                  <a:pt x="1142" y="8"/>
                </a:lnTo>
                <a:lnTo>
                  <a:pt x="1152" y="4"/>
                </a:lnTo>
                <a:lnTo>
                  <a:pt x="1161" y="2"/>
                </a:lnTo>
                <a:lnTo>
                  <a:pt x="1165" y="0"/>
                </a:lnTo>
                <a:lnTo>
                  <a:pt x="1173" y="0"/>
                </a:lnTo>
                <a:lnTo>
                  <a:pt x="1179" y="0"/>
                </a:lnTo>
                <a:lnTo>
                  <a:pt x="1186" y="0"/>
                </a:lnTo>
                <a:lnTo>
                  <a:pt x="1194" y="2"/>
                </a:lnTo>
                <a:lnTo>
                  <a:pt x="1202" y="4"/>
                </a:lnTo>
                <a:lnTo>
                  <a:pt x="1211" y="8"/>
                </a:lnTo>
                <a:lnTo>
                  <a:pt x="1221" y="12"/>
                </a:lnTo>
                <a:lnTo>
                  <a:pt x="1230" y="15"/>
                </a:lnTo>
                <a:lnTo>
                  <a:pt x="1242" y="21"/>
                </a:lnTo>
                <a:lnTo>
                  <a:pt x="1253" y="27"/>
                </a:lnTo>
                <a:lnTo>
                  <a:pt x="1265" y="33"/>
                </a:lnTo>
                <a:lnTo>
                  <a:pt x="1278" y="38"/>
                </a:lnTo>
                <a:lnTo>
                  <a:pt x="1292" y="46"/>
                </a:lnTo>
                <a:lnTo>
                  <a:pt x="1305" y="54"/>
                </a:lnTo>
                <a:lnTo>
                  <a:pt x="1321" y="63"/>
                </a:lnTo>
                <a:lnTo>
                  <a:pt x="1336" y="73"/>
                </a:lnTo>
                <a:lnTo>
                  <a:pt x="1351" y="83"/>
                </a:lnTo>
                <a:lnTo>
                  <a:pt x="1369" y="94"/>
                </a:lnTo>
                <a:lnTo>
                  <a:pt x="1386" y="1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00"/>
          <p:cNvSpPr/>
          <p:nvPr/>
        </p:nvSpPr>
        <p:spPr>
          <a:xfrm>
            <a:off x="6346800" y="3483000"/>
            <a:ext cx="263520" cy="676080"/>
          </a:xfrm>
          <a:custGeom>
            <a:avLst/>
            <a:gdLst/>
            <a:ahLst/>
            <a:rect l="l" t="t" r="r" b="b"/>
            <a:pathLst>
              <a:path w="332" h="850">
                <a:moveTo>
                  <a:pt x="235" y="46"/>
                </a:moveTo>
                <a:lnTo>
                  <a:pt x="235" y="92"/>
                </a:lnTo>
                <a:lnTo>
                  <a:pt x="236" y="136"/>
                </a:lnTo>
                <a:lnTo>
                  <a:pt x="240" y="182"/>
                </a:lnTo>
                <a:lnTo>
                  <a:pt x="244" y="228"/>
                </a:lnTo>
                <a:lnTo>
                  <a:pt x="250" y="274"/>
                </a:lnTo>
                <a:lnTo>
                  <a:pt x="258" y="318"/>
                </a:lnTo>
                <a:lnTo>
                  <a:pt x="265" y="365"/>
                </a:lnTo>
                <a:lnTo>
                  <a:pt x="275" y="411"/>
                </a:lnTo>
                <a:lnTo>
                  <a:pt x="279" y="436"/>
                </a:lnTo>
                <a:lnTo>
                  <a:pt x="284" y="459"/>
                </a:lnTo>
                <a:lnTo>
                  <a:pt x="288" y="482"/>
                </a:lnTo>
                <a:lnTo>
                  <a:pt x="292" y="505"/>
                </a:lnTo>
                <a:lnTo>
                  <a:pt x="296" y="526"/>
                </a:lnTo>
                <a:lnTo>
                  <a:pt x="300" y="547"/>
                </a:lnTo>
                <a:lnTo>
                  <a:pt x="302" y="566"/>
                </a:lnTo>
                <a:lnTo>
                  <a:pt x="306" y="585"/>
                </a:lnTo>
                <a:lnTo>
                  <a:pt x="309" y="603"/>
                </a:lnTo>
                <a:lnTo>
                  <a:pt x="311" y="620"/>
                </a:lnTo>
                <a:lnTo>
                  <a:pt x="315" y="635"/>
                </a:lnTo>
                <a:lnTo>
                  <a:pt x="317" y="652"/>
                </a:lnTo>
                <a:lnTo>
                  <a:pt x="321" y="666"/>
                </a:lnTo>
                <a:lnTo>
                  <a:pt x="323" y="681"/>
                </a:lnTo>
                <a:lnTo>
                  <a:pt x="325" y="695"/>
                </a:lnTo>
                <a:lnTo>
                  <a:pt x="329" y="708"/>
                </a:lnTo>
                <a:lnTo>
                  <a:pt x="331" y="720"/>
                </a:lnTo>
                <a:lnTo>
                  <a:pt x="331" y="731"/>
                </a:lnTo>
                <a:lnTo>
                  <a:pt x="332" y="743"/>
                </a:lnTo>
                <a:lnTo>
                  <a:pt x="332" y="752"/>
                </a:lnTo>
                <a:lnTo>
                  <a:pt x="332" y="762"/>
                </a:lnTo>
                <a:lnTo>
                  <a:pt x="332" y="771"/>
                </a:lnTo>
                <a:lnTo>
                  <a:pt x="331" y="781"/>
                </a:lnTo>
                <a:lnTo>
                  <a:pt x="329" y="789"/>
                </a:lnTo>
                <a:lnTo>
                  <a:pt x="327" y="796"/>
                </a:lnTo>
                <a:lnTo>
                  <a:pt x="325" y="802"/>
                </a:lnTo>
                <a:lnTo>
                  <a:pt x="321" y="808"/>
                </a:lnTo>
                <a:lnTo>
                  <a:pt x="317" y="814"/>
                </a:lnTo>
                <a:lnTo>
                  <a:pt x="313" y="818"/>
                </a:lnTo>
                <a:lnTo>
                  <a:pt x="309" y="823"/>
                </a:lnTo>
                <a:lnTo>
                  <a:pt x="306" y="825"/>
                </a:lnTo>
                <a:lnTo>
                  <a:pt x="302" y="829"/>
                </a:lnTo>
                <a:lnTo>
                  <a:pt x="296" y="835"/>
                </a:lnTo>
                <a:lnTo>
                  <a:pt x="290" y="839"/>
                </a:lnTo>
                <a:lnTo>
                  <a:pt x="286" y="843"/>
                </a:lnTo>
                <a:lnTo>
                  <a:pt x="281" y="844"/>
                </a:lnTo>
                <a:lnTo>
                  <a:pt x="277" y="846"/>
                </a:lnTo>
                <a:lnTo>
                  <a:pt x="271" y="848"/>
                </a:lnTo>
                <a:lnTo>
                  <a:pt x="267" y="848"/>
                </a:lnTo>
                <a:lnTo>
                  <a:pt x="263" y="850"/>
                </a:lnTo>
                <a:lnTo>
                  <a:pt x="258" y="848"/>
                </a:lnTo>
                <a:lnTo>
                  <a:pt x="254" y="848"/>
                </a:lnTo>
                <a:lnTo>
                  <a:pt x="250" y="846"/>
                </a:lnTo>
                <a:lnTo>
                  <a:pt x="246" y="844"/>
                </a:lnTo>
                <a:lnTo>
                  <a:pt x="242" y="841"/>
                </a:lnTo>
                <a:lnTo>
                  <a:pt x="240" y="839"/>
                </a:lnTo>
                <a:lnTo>
                  <a:pt x="236" y="833"/>
                </a:lnTo>
                <a:lnTo>
                  <a:pt x="235" y="829"/>
                </a:lnTo>
                <a:lnTo>
                  <a:pt x="229" y="825"/>
                </a:lnTo>
                <a:lnTo>
                  <a:pt x="225" y="821"/>
                </a:lnTo>
                <a:lnTo>
                  <a:pt x="221" y="818"/>
                </a:lnTo>
                <a:lnTo>
                  <a:pt x="217" y="812"/>
                </a:lnTo>
                <a:lnTo>
                  <a:pt x="213" y="804"/>
                </a:lnTo>
                <a:lnTo>
                  <a:pt x="210" y="796"/>
                </a:lnTo>
                <a:lnTo>
                  <a:pt x="206" y="789"/>
                </a:lnTo>
                <a:lnTo>
                  <a:pt x="202" y="779"/>
                </a:lnTo>
                <a:lnTo>
                  <a:pt x="200" y="768"/>
                </a:lnTo>
                <a:lnTo>
                  <a:pt x="196" y="756"/>
                </a:lnTo>
                <a:lnTo>
                  <a:pt x="194" y="743"/>
                </a:lnTo>
                <a:lnTo>
                  <a:pt x="190" y="729"/>
                </a:lnTo>
                <a:lnTo>
                  <a:pt x="188" y="716"/>
                </a:lnTo>
                <a:lnTo>
                  <a:pt x="187" y="700"/>
                </a:lnTo>
                <a:lnTo>
                  <a:pt x="183" y="685"/>
                </a:lnTo>
                <a:lnTo>
                  <a:pt x="181" y="668"/>
                </a:lnTo>
                <a:lnTo>
                  <a:pt x="179" y="651"/>
                </a:lnTo>
                <a:lnTo>
                  <a:pt x="175" y="635"/>
                </a:lnTo>
                <a:lnTo>
                  <a:pt x="171" y="618"/>
                </a:lnTo>
                <a:lnTo>
                  <a:pt x="169" y="601"/>
                </a:lnTo>
                <a:lnTo>
                  <a:pt x="165" y="583"/>
                </a:lnTo>
                <a:lnTo>
                  <a:pt x="162" y="566"/>
                </a:lnTo>
                <a:lnTo>
                  <a:pt x="158" y="547"/>
                </a:lnTo>
                <a:lnTo>
                  <a:pt x="152" y="528"/>
                </a:lnTo>
                <a:lnTo>
                  <a:pt x="144" y="487"/>
                </a:lnTo>
                <a:lnTo>
                  <a:pt x="135" y="445"/>
                </a:lnTo>
                <a:lnTo>
                  <a:pt x="125" y="401"/>
                </a:lnTo>
                <a:lnTo>
                  <a:pt x="116" y="357"/>
                </a:lnTo>
                <a:lnTo>
                  <a:pt x="110" y="334"/>
                </a:lnTo>
                <a:lnTo>
                  <a:pt x="104" y="313"/>
                </a:lnTo>
                <a:lnTo>
                  <a:pt x="100" y="292"/>
                </a:lnTo>
                <a:lnTo>
                  <a:pt x="94" y="271"/>
                </a:lnTo>
                <a:lnTo>
                  <a:pt x="91" y="251"/>
                </a:lnTo>
                <a:lnTo>
                  <a:pt x="85" y="232"/>
                </a:lnTo>
                <a:lnTo>
                  <a:pt x="79" y="215"/>
                </a:lnTo>
                <a:lnTo>
                  <a:pt x="75" y="198"/>
                </a:lnTo>
                <a:lnTo>
                  <a:pt x="69" y="182"/>
                </a:lnTo>
                <a:lnTo>
                  <a:pt x="64" y="167"/>
                </a:lnTo>
                <a:lnTo>
                  <a:pt x="60" y="153"/>
                </a:lnTo>
                <a:lnTo>
                  <a:pt x="54" y="140"/>
                </a:lnTo>
                <a:lnTo>
                  <a:pt x="50" y="128"/>
                </a:lnTo>
                <a:lnTo>
                  <a:pt x="45" y="119"/>
                </a:lnTo>
                <a:lnTo>
                  <a:pt x="39" y="109"/>
                </a:lnTo>
                <a:lnTo>
                  <a:pt x="35" y="100"/>
                </a:lnTo>
                <a:lnTo>
                  <a:pt x="27" y="92"/>
                </a:lnTo>
                <a:lnTo>
                  <a:pt x="21" y="86"/>
                </a:lnTo>
                <a:lnTo>
                  <a:pt x="16" y="79"/>
                </a:lnTo>
                <a:lnTo>
                  <a:pt x="12" y="71"/>
                </a:lnTo>
                <a:lnTo>
                  <a:pt x="8" y="65"/>
                </a:lnTo>
                <a:lnTo>
                  <a:pt x="6" y="59"/>
                </a:lnTo>
                <a:lnTo>
                  <a:pt x="2" y="54"/>
                </a:lnTo>
                <a:lnTo>
                  <a:pt x="2" y="48"/>
                </a:lnTo>
                <a:lnTo>
                  <a:pt x="0" y="42"/>
                </a:lnTo>
                <a:lnTo>
                  <a:pt x="0" y="36"/>
                </a:lnTo>
                <a:lnTo>
                  <a:pt x="0" y="31"/>
                </a:lnTo>
                <a:lnTo>
                  <a:pt x="0" y="27"/>
                </a:lnTo>
                <a:lnTo>
                  <a:pt x="4" y="15"/>
                </a:lnTo>
                <a:lnTo>
                  <a:pt x="8" y="6"/>
                </a:lnTo>
                <a:lnTo>
                  <a:pt x="12" y="4"/>
                </a:lnTo>
                <a:lnTo>
                  <a:pt x="16" y="2"/>
                </a:lnTo>
                <a:lnTo>
                  <a:pt x="21" y="0"/>
                </a:lnTo>
                <a:lnTo>
                  <a:pt x="31" y="0"/>
                </a:lnTo>
                <a:lnTo>
                  <a:pt x="39" y="0"/>
                </a:lnTo>
                <a:lnTo>
                  <a:pt x="50" y="2"/>
                </a:lnTo>
                <a:lnTo>
                  <a:pt x="62" y="4"/>
                </a:lnTo>
                <a:lnTo>
                  <a:pt x="77" y="6"/>
                </a:lnTo>
                <a:lnTo>
                  <a:pt x="91" y="8"/>
                </a:lnTo>
                <a:lnTo>
                  <a:pt x="108" y="11"/>
                </a:lnTo>
                <a:lnTo>
                  <a:pt x="125" y="15"/>
                </a:lnTo>
                <a:lnTo>
                  <a:pt x="144" y="21"/>
                </a:lnTo>
                <a:lnTo>
                  <a:pt x="165" y="25"/>
                </a:lnTo>
                <a:lnTo>
                  <a:pt x="187" y="32"/>
                </a:lnTo>
                <a:lnTo>
                  <a:pt x="210" y="38"/>
                </a:lnTo>
                <a:lnTo>
                  <a:pt x="235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01"/>
          <p:cNvSpPr/>
          <p:nvPr/>
        </p:nvSpPr>
        <p:spPr>
          <a:xfrm>
            <a:off x="5910120" y="4191120"/>
            <a:ext cx="362160" cy="314280"/>
          </a:xfrm>
          <a:custGeom>
            <a:avLst/>
            <a:gdLst/>
            <a:ahLst/>
            <a:rect l="l" t="t" r="r" b="b"/>
            <a:pathLst>
              <a:path w="457" h="398">
                <a:moveTo>
                  <a:pt x="214" y="20"/>
                </a:moveTo>
                <a:lnTo>
                  <a:pt x="225" y="24"/>
                </a:lnTo>
                <a:lnTo>
                  <a:pt x="237" y="27"/>
                </a:lnTo>
                <a:lnTo>
                  <a:pt x="248" y="31"/>
                </a:lnTo>
                <a:lnTo>
                  <a:pt x="262" y="35"/>
                </a:lnTo>
                <a:lnTo>
                  <a:pt x="273" y="41"/>
                </a:lnTo>
                <a:lnTo>
                  <a:pt x="285" y="47"/>
                </a:lnTo>
                <a:lnTo>
                  <a:pt x="294" y="52"/>
                </a:lnTo>
                <a:lnTo>
                  <a:pt x="306" y="60"/>
                </a:lnTo>
                <a:lnTo>
                  <a:pt x="317" y="68"/>
                </a:lnTo>
                <a:lnTo>
                  <a:pt x="329" y="77"/>
                </a:lnTo>
                <a:lnTo>
                  <a:pt x="340" y="87"/>
                </a:lnTo>
                <a:lnTo>
                  <a:pt x="352" y="96"/>
                </a:lnTo>
                <a:lnTo>
                  <a:pt x="363" y="106"/>
                </a:lnTo>
                <a:lnTo>
                  <a:pt x="375" y="118"/>
                </a:lnTo>
                <a:lnTo>
                  <a:pt x="386" y="129"/>
                </a:lnTo>
                <a:lnTo>
                  <a:pt x="400" y="143"/>
                </a:lnTo>
                <a:lnTo>
                  <a:pt x="409" y="154"/>
                </a:lnTo>
                <a:lnTo>
                  <a:pt x="417" y="166"/>
                </a:lnTo>
                <a:lnTo>
                  <a:pt x="425" y="179"/>
                </a:lnTo>
                <a:lnTo>
                  <a:pt x="432" y="191"/>
                </a:lnTo>
                <a:lnTo>
                  <a:pt x="438" y="202"/>
                </a:lnTo>
                <a:lnTo>
                  <a:pt x="442" y="214"/>
                </a:lnTo>
                <a:lnTo>
                  <a:pt x="448" y="223"/>
                </a:lnTo>
                <a:lnTo>
                  <a:pt x="450" y="235"/>
                </a:lnTo>
                <a:lnTo>
                  <a:pt x="453" y="246"/>
                </a:lnTo>
                <a:lnTo>
                  <a:pt x="455" y="256"/>
                </a:lnTo>
                <a:lnTo>
                  <a:pt x="457" y="265"/>
                </a:lnTo>
                <a:lnTo>
                  <a:pt x="457" y="277"/>
                </a:lnTo>
                <a:lnTo>
                  <a:pt x="457" y="286"/>
                </a:lnTo>
                <a:lnTo>
                  <a:pt x="455" y="296"/>
                </a:lnTo>
                <a:lnTo>
                  <a:pt x="455" y="308"/>
                </a:lnTo>
                <a:lnTo>
                  <a:pt x="453" y="317"/>
                </a:lnTo>
                <a:lnTo>
                  <a:pt x="450" y="327"/>
                </a:lnTo>
                <a:lnTo>
                  <a:pt x="448" y="336"/>
                </a:lnTo>
                <a:lnTo>
                  <a:pt x="444" y="344"/>
                </a:lnTo>
                <a:lnTo>
                  <a:pt x="440" y="352"/>
                </a:lnTo>
                <a:lnTo>
                  <a:pt x="438" y="359"/>
                </a:lnTo>
                <a:lnTo>
                  <a:pt x="434" y="367"/>
                </a:lnTo>
                <a:lnTo>
                  <a:pt x="430" y="373"/>
                </a:lnTo>
                <a:lnTo>
                  <a:pt x="427" y="379"/>
                </a:lnTo>
                <a:lnTo>
                  <a:pt x="423" y="382"/>
                </a:lnTo>
                <a:lnTo>
                  <a:pt x="419" y="386"/>
                </a:lnTo>
                <a:lnTo>
                  <a:pt x="415" y="390"/>
                </a:lnTo>
                <a:lnTo>
                  <a:pt x="411" y="392"/>
                </a:lnTo>
                <a:lnTo>
                  <a:pt x="407" y="396"/>
                </a:lnTo>
                <a:lnTo>
                  <a:pt x="405" y="396"/>
                </a:lnTo>
                <a:lnTo>
                  <a:pt x="402" y="398"/>
                </a:lnTo>
                <a:lnTo>
                  <a:pt x="400" y="398"/>
                </a:lnTo>
                <a:lnTo>
                  <a:pt x="396" y="398"/>
                </a:lnTo>
                <a:lnTo>
                  <a:pt x="392" y="396"/>
                </a:lnTo>
                <a:lnTo>
                  <a:pt x="388" y="394"/>
                </a:lnTo>
                <a:lnTo>
                  <a:pt x="384" y="392"/>
                </a:lnTo>
                <a:lnTo>
                  <a:pt x="379" y="388"/>
                </a:lnTo>
                <a:lnTo>
                  <a:pt x="373" y="384"/>
                </a:lnTo>
                <a:lnTo>
                  <a:pt x="365" y="379"/>
                </a:lnTo>
                <a:lnTo>
                  <a:pt x="359" y="373"/>
                </a:lnTo>
                <a:lnTo>
                  <a:pt x="352" y="367"/>
                </a:lnTo>
                <a:lnTo>
                  <a:pt x="342" y="359"/>
                </a:lnTo>
                <a:lnTo>
                  <a:pt x="333" y="352"/>
                </a:lnTo>
                <a:lnTo>
                  <a:pt x="323" y="342"/>
                </a:lnTo>
                <a:lnTo>
                  <a:pt x="313" y="333"/>
                </a:lnTo>
                <a:lnTo>
                  <a:pt x="302" y="323"/>
                </a:lnTo>
                <a:lnTo>
                  <a:pt x="290" y="311"/>
                </a:lnTo>
                <a:lnTo>
                  <a:pt x="279" y="300"/>
                </a:lnTo>
                <a:lnTo>
                  <a:pt x="265" y="286"/>
                </a:lnTo>
                <a:lnTo>
                  <a:pt x="252" y="273"/>
                </a:lnTo>
                <a:lnTo>
                  <a:pt x="238" y="260"/>
                </a:lnTo>
                <a:lnTo>
                  <a:pt x="223" y="244"/>
                </a:lnTo>
                <a:lnTo>
                  <a:pt x="208" y="229"/>
                </a:lnTo>
                <a:lnTo>
                  <a:pt x="192" y="212"/>
                </a:lnTo>
                <a:lnTo>
                  <a:pt x="175" y="194"/>
                </a:lnTo>
                <a:lnTo>
                  <a:pt x="158" y="177"/>
                </a:lnTo>
                <a:lnTo>
                  <a:pt x="141" y="158"/>
                </a:lnTo>
                <a:lnTo>
                  <a:pt x="121" y="139"/>
                </a:lnTo>
                <a:lnTo>
                  <a:pt x="104" y="120"/>
                </a:lnTo>
                <a:lnTo>
                  <a:pt x="83" y="98"/>
                </a:lnTo>
                <a:lnTo>
                  <a:pt x="64" y="75"/>
                </a:lnTo>
                <a:lnTo>
                  <a:pt x="43" y="54"/>
                </a:lnTo>
                <a:lnTo>
                  <a:pt x="22" y="31"/>
                </a:lnTo>
                <a:lnTo>
                  <a:pt x="0" y="6"/>
                </a:lnTo>
                <a:lnTo>
                  <a:pt x="14" y="4"/>
                </a:lnTo>
                <a:lnTo>
                  <a:pt x="29" y="2"/>
                </a:lnTo>
                <a:lnTo>
                  <a:pt x="43" y="2"/>
                </a:lnTo>
                <a:lnTo>
                  <a:pt x="58" y="0"/>
                </a:lnTo>
                <a:lnTo>
                  <a:pt x="72" y="0"/>
                </a:lnTo>
                <a:lnTo>
                  <a:pt x="85" y="0"/>
                </a:lnTo>
                <a:lnTo>
                  <a:pt x="112" y="2"/>
                </a:lnTo>
                <a:lnTo>
                  <a:pt x="137" y="6"/>
                </a:lnTo>
                <a:lnTo>
                  <a:pt x="162" y="10"/>
                </a:lnTo>
                <a:lnTo>
                  <a:pt x="189" y="16"/>
                </a:lnTo>
                <a:lnTo>
                  <a:pt x="214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02"/>
          <p:cNvSpPr/>
          <p:nvPr/>
        </p:nvSpPr>
        <p:spPr>
          <a:xfrm>
            <a:off x="5961240" y="3178080"/>
            <a:ext cx="487080" cy="395280"/>
          </a:xfrm>
          <a:custGeom>
            <a:avLst/>
            <a:gdLst/>
            <a:ahLst/>
            <a:rect l="l" t="t" r="r" b="b"/>
            <a:pathLst>
              <a:path w="612" h="499">
                <a:moveTo>
                  <a:pt x="361" y="54"/>
                </a:moveTo>
                <a:lnTo>
                  <a:pt x="355" y="44"/>
                </a:lnTo>
                <a:lnTo>
                  <a:pt x="353" y="37"/>
                </a:lnTo>
                <a:lnTo>
                  <a:pt x="353" y="33"/>
                </a:lnTo>
                <a:lnTo>
                  <a:pt x="353" y="29"/>
                </a:lnTo>
                <a:lnTo>
                  <a:pt x="353" y="25"/>
                </a:lnTo>
                <a:lnTo>
                  <a:pt x="353" y="21"/>
                </a:lnTo>
                <a:lnTo>
                  <a:pt x="355" y="19"/>
                </a:lnTo>
                <a:lnTo>
                  <a:pt x="357" y="15"/>
                </a:lnTo>
                <a:lnTo>
                  <a:pt x="361" y="13"/>
                </a:lnTo>
                <a:lnTo>
                  <a:pt x="364" y="10"/>
                </a:lnTo>
                <a:lnTo>
                  <a:pt x="368" y="8"/>
                </a:lnTo>
                <a:lnTo>
                  <a:pt x="374" y="6"/>
                </a:lnTo>
                <a:lnTo>
                  <a:pt x="380" y="2"/>
                </a:lnTo>
                <a:lnTo>
                  <a:pt x="387" y="0"/>
                </a:lnTo>
                <a:lnTo>
                  <a:pt x="397" y="0"/>
                </a:lnTo>
                <a:lnTo>
                  <a:pt x="409" y="2"/>
                </a:lnTo>
                <a:lnTo>
                  <a:pt x="422" y="6"/>
                </a:lnTo>
                <a:lnTo>
                  <a:pt x="437" y="12"/>
                </a:lnTo>
                <a:lnTo>
                  <a:pt x="447" y="15"/>
                </a:lnTo>
                <a:lnTo>
                  <a:pt x="455" y="19"/>
                </a:lnTo>
                <a:lnTo>
                  <a:pt x="464" y="23"/>
                </a:lnTo>
                <a:lnTo>
                  <a:pt x="474" y="29"/>
                </a:lnTo>
                <a:lnTo>
                  <a:pt x="485" y="35"/>
                </a:lnTo>
                <a:lnTo>
                  <a:pt x="495" y="40"/>
                </a:lnTo>
                <a:lnTo>
                  <a:pt x="506" y="46"/>
                </a:lnTo>
                <a:lnTo>
                  <a:pt x="520" y="54"/>
                </a:lnTo>
                <a:lnTo>
                  <a:pt x="530" y="61"/>
                </a:lnTo>
                <a:lnTo>
                  <a:pt x="537" y="69"/>
                </a:lnTo>
                <a:lnTo>
                  <a:pt x="547" y="75"/>
                </a:lnTo>
                <a:lnTo>
                  <a:pt x="554" y="83"/>
                </a:lnTo>
                <a:lnTo>
                  <a:pt x="562" y="88"/>
                </a:lnTo>
                <a:lnTo>
                  <a:pt x="568" y="96"/>
                </a:lnTo>
                <a:lnTo>
                  <a:pt x="576" y="102"/>
                </a:lnTo>
                <a:lnTo>
                  <a:pt x="581" y="108"/>
                </a:lnTo>
                <a:lnTo>
                  <a:pt x="591" y="121"/>
                </a:lnTo>
                <a:lnTo>
                  <a:pt x="601" y="134"/>
                </a:lnTo>
                <a:lnTo>
                  <a:pt x="606" y="148"/>
                </a:lnTo>
                <a:lnTo>
                  <a:pt x="612" y="161"/>
                </a:lnTo>
                <a:lnTo>
                  <a:pt x="612" y="169"/>
                </a:lnTo>
                <a:lnTo>
                  <a:pt x="610" y="177"/>
                </a:lnTo>
                <a:lnTo>
                  <a:pt x="606" y="184"/>
                </a:lnTo>
                <a:lnTo>
                  <a:pt x="602" y="192"/>
                </a:lnTo>
                <a:lnTo>
                  <a:pt x="597" y="200"/>
                </a:lnTo>
                <a:lnTo>
                  <a:pt x="591" y="207"/>
                </a:lnTo>
                <a:lnTo>
                  <a:pt x="583" y="215"/>
                </a:lnTo>
                <a:lnTo>
                  <a:pt x="574" y="223"/>
                </a:lnTo>
                <a:lnTo>
                  <a:pt x="564" y="230"/>
                </a:lnTo>
                <a:lnTo>
                  <a:pt x="553" y="238"/>
                </a:lnTo>
                <a:lnTo>
                  <a:pt x="541" y="246"/>
                </a:lnTo>
                <a:lnTo>
                  <a:pt x="528" y="253"/>
                </a:lnTo>
                <a:lnTo>
                  <a:pt x="514" y="261"/>
                </a:lnTo>
                <a:lnTo>
                  <a:pt x="499" y="269"/>
                </a:lnTo>
                <a:lnTo>
                  <a:pt x="483" y="276"/>
                </a:lnTo>
                <a:lnTo>
                  <a:pt x="466" y="284"/>
                </a:lnTo>
                <a:lnTo>
                  <a:pt x="449" y="292"/>
                </a:lnTo>
                <a:lnTo>
                  <a:pt x="428" y="301"/>
                </a:lnTo>
                <a:lnTo>
                  <a:pt x="407" y="311"/>
                </a:lnTo>
                <a:lnTo>
                  <a:pt x="384" y="321"/>
                </a:lnTo>
                <a:lnTo>
                  <a:pt x="361" y="332"/>
                </a:lnTo>
                <a:lnTo>
                  <a:pt x="334" y="346"/>
                </a:lnTo>
                <a:lnTo>
                  <a:pt x="307" y="357"/>
                </a:lnTo>
                <a:lnTo>
                  <a:pt x="278" y="371"/>
                </a:lnTo>
                <a:lnTo>
                  <a:pt x="247" y="386"/>
                </a:lnTo>
                <a:lnTo>
                  <a:pt x="217" y="399"/>
                </a:lnTo>
                <a:lnTo>
                  <a:pt x="184" y="415"/>
                </a:lnTo>
                <a:lnTo>
                  <a:pt x="149" y="432"/>
                </a:lnTo>
                <a:lnTo>
                  <a:pt x="115" y="447"/>
                </a:lnTo>
                <a:lnTo>
                  <a:pt x="78" y="465"/>
                </a:lnTo>
                <a:lnTo>
                  <a:pt x="40" y="482"/>
                </a:lnTo>
                <a:lnTo>
                  <a:pt x="0" y="499"/>
                </a:lnTo>
                <a:lnTo>
                  <a:pt x="0" y="459"/>
                </a:lnTo>
                <a:lnTo>
                  <a:pt x="0" y="418"/>
                </a:lnTo>
                <a:lnTo>
                  <a:pt x="32" y="399"/>
                </a:lnTo>
                <a:lnTo>
                  <a:pt x="61" y="378"/>
                </a:lnTo>
                <a:lnTo>
                  <a:pt x="90" y="361"/>
                </a:lnTo>
                <a:lnTo>
                  <a:pt x="117" y="342"/>
                </a:lnTo>
                <a:lnTo>
                  <a:pt x="144" y="324"/>
                </a:lnTo>
                <a:lnTo>
                  <a:pt x="167" y="307"/>
                </a:lnTo>
                <a:lnTo>
                  <a:pt x="190" y="292"/>
                </a:lnTo>
                <a:lnTo>
                  <a:pt x="209" y="276"/>
                </a:lnTo>
                <a:lnTo>
                  <a:pt x="230" y="261"/>
                </a:lnTo>
                <a:lnTo>
                  <a:pt x="247" y="248"/>
                </a:lnTo>
                <a:lnTo>
                  <a:pt x="263" y="234"/>
                </a:lnTo>
                <a:lnTo>
                  <a:pt x="278" y="221"/>
                </a:lnTo>
                <a:lnTo>
                  <a:pt x="290" y="209"/>
                </a:lnTo>
                <a:lnTo>
                  <a:pt x="301" y="198"/>
                </a:lnTo>
                <a:lnTo>
                  <a:pt x="313" y="186"/>
                </a:lnTo>
                <a:lnTo>
                  <a:pt x="320" y="177"/>
                </a:lnTo>
                <a:lnTo>
                  <a:pt x="326" y="165"/>
                </a:lnTo>
                <a:lnTo>
                  <a:pt x="334" y="156"/>
                </a:lnTo>
                <a:lnTo>
                  <a:pt x="339" y="146"/>
                </a:lnTo>
                <a:lnTo>
                  <a:pt x="345" y="138"/>
                </a:lnTo>
                <a:lnTo>
                  <a:pt x="349" y="129"/>
                </a:lnTo>
                <a:lnTo>
                  <a:pt x="353" y="121"/>
                </a:lnTo>
                <a:lnTo>
                  <a:pt x="357" y="111"/>
                </a:lnTo>
                <a:lnTo>
                  <a:pt x="359" y="104"/>
                </a:lnTo>
                <a:lnTo>
                  <a:pt x="363" y="98"/>
                </a:lnTo>
                <a:lnTo>
                  <a:pt x="363" y="90"/>
                </a:lnTo>
                <a:lnTo>
                  <a:pt x="364" y="83"/>
                </a:lnTo>
                <a:lnTo>
                  <a:pt x="364" y="77"/>
                </a:lnTo>
                <a:lnTo>
                  <a:pt x="364" y="71"/>
                </a:lnTo>
                <a:lnTo>
                  <a:pt x="363" y="65"/>
                </a:lnTo>
                <a:lnTo>
                  <a:pt x="363" y="60"/>
                </a:lnTo>
                <a:lnTo>
                  <a:pt x="361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03"/>
          <p:cNvSpPr/>
          <p:nvPr/>
        </p:nvSpPr>
        <p:spPr>
          <a:xfrm>
            <a:off x="5421240" y="2751120"/>
            <a:ext cx="660600" cy="2271600"/>
          </a:xfrm>
          <a:custGeom>
            <a:avLst/>
            <a:gdLst/>
            <a:ahLst/>
            <a:rect l="l" t="t" r="r" b="b"/>
            <a:pathLst>
              <a:path w="833" h="2862">
                <a:moveTo>
                  <a:pt x="4" y="2860"/>
                </a:moveTo>
                <a:lnTo>
                  <a:pt x="2" y="2856"/>
                </a:lnTo>
                <a:lnTo>
                  <a:pt x="0" y="2852"/>
                </a:lnTo>
                <a:lnTo>
                  <a:pt x="2" y="2844"/>
                </a:lnTo>
                <a:lnTo>
                  <a:pt x="4" y="2837"/>
                </a:lnTo>
                <a:lnTo>
                  <a:pt x="8" y="2827"/>
                </a:lnTo>
                <a:lnTo>
                  <a:pt x="12" y="2815"/>
                </a:lnTo>
                <a:lnTo>
                  <a:pt x="18" y="2804"/>
                </a:lnTo>
                <a:lnTo>
                  <a:pt x="25" y="2789"/>
                </a:lnTo>
                <a:lnTo>
                  <a:pt x="35" y="2773"/>
                </a:lnTo>
                <a:lnTo>
                  <a:pt x="45" y="2756"/>
                </a:lnTo>
                <a:lnTo>
                  <a:pt x="56" y="2737"/>
                </a:lnTo>
                <a:lnTo>
                  <a:pt x="69" y="2716"/>
                </a:lnTo>
                <a:lnTo>
                  <a:pt x="85" y="2693"/>
                </a:lnTo>
                <a:lnTo>
                  <a:pt x="100" y="2670"/>
                </a:lnTo>
                <a:lnTo>
                  <a:pt x="117" y="2643"/>
                </a:lnTo>
                <a:lnTo>
                  <a:pt x="137" y="2616"/>
                </a:lnTo>
                <a:lnTo>
                  <a:pt x="175" y="2560"/>
                </a:lnTo>
                <a:lnTo>
                  <a:pt x="213" y="2503"/>
                </a:lnTo>
                <a:lnTo>
                  <a:pt x="250" y="2443"/>
                </a:lnTo>
                <a:lnTo>
                  <a:pt x="284" y="2384"/>
                </a:lnTo>
                <a:lnTo>
                  <a:pt x="302" y="2353"/>
                </a:lnTo>
                <a:lnTo>
                  <a:pt x="317" y="2322"/>
                </a:lnTo>
                <a:lnTo>
                  <a:pt x="332" y="2291"/>
                </a:lnTo>
                <a:lnTo>
                  <a:pt x="348" y="2259"/>
                </a:lnTo>
                <a:lnTo>
                  <a:pt x="363" y="2228"/>
                </a:lnTo>
                <a:lnTo>
                  <a:pt x="377" y="2195"/>
                </a:lnTo>
                <a:lnTo>
                  <a:pt x="390" y="2163"/>
                </a:lnTo>
                <a:lnTo>
                  <a:pt x="403" y="2130"/>
                </a:lnTo>
                <a:lnTo>
                  <a:pt x="415" y="2098"/>
                </a:lnTo>
                <a:lnTo>
                  <a:pt x="426" y="2063"/>
                </a:lnTo>
                <a:lnTo>
                  <a:pt x="438" y="2028"/>
                </a:lnTo>
                <a:lnTo>
                  <a:pt x="449" y="1994"/>
                </a:lnTo>
                <a:lnTo>
                  <a:pt x="461" y="1957"/>
                </a:lnTo>
                <a:lnTo>
                  <a:pt x="473" y="1921"/>
                </a:lnTo>
                <a:lnTo>
                  <a:pt x="482" y="1885"/>
                </a:lnTo>
                <a:lnTo>
                  <a:pt x="492" y="1848"/>
                </a:lnTo>
                <a:lnTo>
                  <a:pt x="513" y="1773"/>
                </a:lnTo>
                <a:lnTo>
                  <a:pt x="530" y="1694"/>
                </a:lnTo>
                <a:lnTo>
                  <a:pt x="547" y="1616"/>
                </a:lnTo>
                <a:lnTo>
                  <a:pt x="563" y="1537"/>
                </a:lnTo>
                <a:lnTo>
                  <a:pt x="567" y="1495"/>
                </a:lnTo>
                <a:lnTo>
                  <a:pt x="572" y="1453"/>
                </a:lnTo>
                <a:lnTo>
                  <a:pt x="576" y="1410"/>
                </a:lnTo>
                <a:lnTo>
                  <a:pt x="580" y="1366"/>
                </a:lnTo>
                <a:lnTo>
                  <a:pt x="584" y="1322"/>
                </a:lnTo>
                <a:lnTo>
                  <a:pt x="588" y="1276"/>
                </a:lnTo>
                <a:lnTo>
                  <a:pt x="592" y="1230"/>
                </a:lnTo>
                <a:lnTo>
                  <a:pt x="593" y="1184"/>
                </a:lnTo>
                <a:lnTo>
                  <a:pt x="597" y="1136"/>
                </a:lnTo>
                <a:lnTo>
                  <a:pt x="599" y="1086"/>
                </a:lnTo>
                <a:lnTo>
                  <a:pt x="603" y="1038"/>
                </a:lnTo>
                <a:lnTo>
                  <a:pt x="605" y="988"/>
                </a:lnTo>
                <a:lnTo>
                  <a:pt x="609" y="936"/>
                </a:lnTo>
                <a:lnTo>
                  <a:pt x="611" y="884"/>
                </a:lnTo>
                <a:lnTo>
                  <a:pt x="613" y="833"/>
                </a:lnTo>
                <a:lnTo>
                  <a:pt x="616" y="781"/>
                </a:lnTo>
                <a:lnTo>
                  <a:pt x="616" y="754"/>
                </a:lnTo>
                <a:lnTo>
                  <a:pt x="616" y="727"/>
                </a:lnTo>
                <a:lnTo>
                  <a:pt x="616" y="702"/>
                </a:lnTo>
                <a:lnTo>
                  <a:pt x="616" y="679"/>
                </a:lnTo>
                <a:lnTo>
                  <a:pt x="615" y="654"/>
                </a:lnTo>
                <a:lnTo>
                  <a:pt x="615" y="631"/>
                </a:lnTo>
                <a:lnTo>
                  <a:pt x="615" y="610"/>
                </a:lnTo>
                <a:lnTo>
                  <a:pt x="615" y="587"/>
                </a:lnTo>
                <a:lnTo>
                  <a:pt x="615" y="566"/>
                </a:lnTo>
                <a:lnTo>
                  <a:pt x="615" y="545"/>
                </a:lnTo>
                <a:lnTo>
                  <a:pt x="615" y="526"/>
                </a:lnTo>
                <a:lnTo>
                  <a:pt x="615" y="504"/>
                </a:lnTo>
                <a:lnTo>
                  <a:pt x="615" y="485"/>
                </a:lnTo>
                <a:lnTo>
                  <a:pt x="615" y="468"/>
                </a:lnTo>
                <a:lnTo>
                  <a:pt x="615" y="449"/>
                </a:lnTo>
                <a:lnTo>
                  <a:pt x="615" y="431"/>
                </a:lnTo>
                <a:lnTo>
                  <a:pt x="615" y="416"/>
                </a:lnTo>
                <a:lnTo>
                  <a:pt x="613" y="399"/>
                </a:lnTo>
                <a:lnTo>
                  <a:pt x="613" y="383"/>
                </a:lnTo>
                <a:lnTo>
                  <a:pt x="613" y="368"/>
                </a:lnTo>
                <a:lnTo>
                  <a:pt x="613" y="355"/>
                </a:lnTo>
                <a:lnTo>
                  <a:pt x="611" y="339"/>
                </a:lnTo>
                <a:lnTo>
                  <a:pt x="611" y="326"/>
                </a:lnTo>
                <a:lnTo>
                  <a:pt x="611" y="312"/>
                </a:lnTo>
                <a:lnTo>
                  <a:pt x="609" y="301"/>
                </a:lnTo>
                <a:lnTo>
                  <a:pt x="609" y="288"/>
                </a:lnTo>
                <a:lnTo>
                  <a:pt x="607" y="276"/>
                </a:lnTo>
                <a:lnTo>
                  <a:pt x="607" y="266"/>
                </a:lnTo>
                <a:lnTo>
                  <a:pt x="605" y="255"/>
                </a:lnTo>
                <a:lnTo>
                  <a:pt x="605" y="245"/>
                </a:lnTo>
                <a:lnTo>
                  <a:pt x="603" y="236"/>
                </a:lnTo>
                <a:lnTo>
                  <a:pt x="603" y="226"/>
                </a:lnTo>
                <a:lnTo>
                  <a:pt x="599" y="209"/>
                </a:lnTo>
                <a:lnTo>
                  <a:pt x="597" y="193"/>
                </a:lnTo>
                <a:lnTo>
                  <a:pt x="593" y="178"/>
                </a:lnTo>
                <a:lnTo>
                  <a:pt x="590" y="163"/>
                </a:lnTo>
                <a:lnTo>
                  <a:pt x="586" y="149"/>
                </a:lnTo>
                <a:lnTo>
                  <a:pt x="582" y="138"/>
                </a:lnTo>
                <a:lnTo>
                  <a:pt x="578" y="126"/>
                </a:lnTo>
                <a:lnTo>
                  <a:pt x="574" y="115"/>
                </a:lnTo>
                <a:lnTo>
                  <a:pt x="570" y="105"/>
                </a:lnTo>
                <a:lnTo>
                  <a:pt x="565" y="97"/>
                </a:lnTo>
                <a:lnTo>
                  <a:pt x="561" y="90"/>
                </a:lnTo>
                <a:lnTo>
                  <a:pt x="555" y="82"/>
                </a:lnTo>
                <a:lnTo>
                  <a:pt x="551" y="76"/>
                </a:lnTo>
                <a:lnTo>
                  <a:pt x="545" y="71"/>
                </a:lnTo>
                <a:lnTo>
                  <a:pt x="542" y="67"/>
                </a:lnTo>
                <a:lnTo>
                  <a:pt x="536" y="65"/>
                </a:lnTo>
                <a:lnTo>
                  <a:pt x="532" y="61"/>
                </a:lnTo>
                <a:lnTo>
                  <a:pt x="528" y="59"/>
                </a:lnTo>
                <a:lnTo>
                  <a:pt x="524" y="55"/>
                </a:lnTo>
                <a:lnTo>
                  <a:pt x="521" y="51"/>
                </a:lnTo>
                <a:lnTo>
                  <a:pt x="519" y="50"/>
                </a:lnTo>
                <a:lnTo>
                  <a:pt x="517" y="46"/>
                </a:lnTo>
                <a:lnTo>
                  <a:pt x="517" y="42"/>
                </a:lnTo>
                <a:lnTo>
                  <a:pt x="517" y="38"/>
                </a:lnTo>
                <a:lnTo>
                  <a:pt x="517" y="34"/>
                </a:lnTo>
                <a:lnTo>
                  <a:pt x="517" y="30"/>
                </a:lnTo>
                <a:lnTo>
                  <a:pt x="519" y="26"/>
                </a:lnTo>
                <a:lnTo>
                  <a:pt x="521" y="23"/>
                </a:lnTo>
                <a:lnTo>
                  <a:pt x="524" y="19"/>
                </a:lnTo>
                <a:lnTo>
                  <a:pt x="528" y="17"/>
                </a:lnTo>
                <a:lnTo>
                  <a:pt x="532" y="13"/>
                </a:lnTo>
                <a:lnTo>
                  <a:pt x="536" y="11"/>
                </a:lnTo>
                <a:lnTo>
                  <a:pt x="540" y="7"/>
                </a:lnTo>
                <a:lnTo>
                  <a:pt x="544" y="5"/>
                </a:lnTo>
                <a:lnTo>
                  <a:pt x="547" y="3"/>
                </a:lnTo>
                <a:lnTo>
                  <a:pt x="553" y="3"/>
                </a:lnTo>
                <a:lnTo>
                  <a:pt x="559" y="2"/>
                </a:lnTo>
                <a:lnTo>
                  <a:pt x="567" y="2"/>
                </a:lnTo>
                <a:lnTo>
                  <a:pt x="574" y="0"/>
                </a:lnTo>
                <a:lnTo>
                  <a:pt x="582" y="0"/>
                </a:lnTo>
                <a:lnTo>
                  <a:pt x="592" y="0"/>
                </a:lnTo>
                <a:lnTo>
                  <a:pt x="601" y="2"/>
                </a:lnTo>
                <a:lnTo>
                  <a:pt x="611" y="2"/>
                </a:lnTo>
                <a:lnTo>
                  <a:pt x="622" y="3"/>
                </a:lnTo>
                <a:lnTo>
                  <a:pt x="645" y="5"/>
                </a:lnTo>
                <a:lnTo>
                  <a:pt x="668" y="11"/>
                </a:lnTo>
                <a:lnTo>
                  <a:pt x="693" y="21"/>
                </a:lnTo>
                <a:lnTo>
                  <a:pt x="716" y="30"/>
                </a:lnTo>
                <a:lnTo>
                  <a:pt x="737" y="40"/>
                </a:lnTo>
                <a:lnTo>
                  <a:pt x="757" y="50"/>
                </a:lnTo>
                <a:lnTo>
                  <a:pt x="766" y="53"/>
                </a:lnTo>
                <a:lnTo>
                  <a:pt x="776" y="57"/>
                </a:lnTo>
                <a:lnTo>
                  <a:pt x="783" y="61"/>
                </a:lnTo>
                <a:lnTo>
                  <a:pt x="791" y="65"/>
                </a:lnTo>
                <a:lnTo>
                  <a:pt x="797" y="69"/>
                </a:lnTo>
                <a:lnTo>
                  <a:pt x="805" y="73"/>
                </a:lnTo>
                <a:lnTo>
                  <a:pt x="810" y="74"/>
                </a:lnTo>
                <a:lnTo>
                  <a:pt x="816" y="78"/>
                </a:lnTo>
                <a:lnTo>
                  <a:pt x="820" y="88"/>
                </a:lnTo>
                <a:lnTo>
                  <a:pt x="826" y="101"/>
                </a:lnTo>
                <a:lnTo>
                  <a:pt x="830" y="113"/>
                </a:lnTo>
                <a:lnTo>
                  <a:pt x="831" y="126"/>
                </a:lnTo>
                <a:lnTo>
                  <a:pt x="833" y="142"/>
                </a:lnTo>
                <a:lnTo>
                  <a:pt x="833" y="155"/>
                </a:lnTo>
                <a:lnTo>
                  <a:pt x="833" y="163"/>
                </a:lnTo>
                <a:lnTo>
                  <a:pt x="833" y="170"/>
                </a:lnTo>
                <a:lnTo>
                  <a:pt x="831" y="178"/>
                </a:lnTo>
                <a:lnTo>
                  <a:pt x="830" y="186"/>
                </a:lnTo>
                <a:lnTo>
                  <a:pt x="828" y="192"/>
                </a:lnTo>
                <a:lnTo>
                  <a:pt x="826" y="197"/>
                </a:lnTo>
                <a:lnTo>
                  <a:pt x="826" y="203"/>
                </a:lnTo>
                <a:lnTo>
                  <a:pt x="824" y="211"/>
                </a:lnTo>
                <a:lnTo>
                  <a:pt x="822" y="218"/>
                </a:lnTo>
                <a:lnTo>
                  <a:pt x="822" y="226"/>
                </a:lnTo>
                <a:lnTo>
                  <a:pt x="820" y="236"/>
                </a:lnTo>
                <a:lnTo>
                  <a:pt x="820" y="245"/>
                </a:lnTo>
                <a:lnTo>
                  <a:pt x="818" y="255"/>
                </a:lnTo>
                <a:lnTo>
                  <a:pt x="816" y="264"/>
                </a:lnTo>
                <a:lnTo>
                  <a:pt x="816" y="276"/>
                </a:lnTo>
                <a:lnTo>
                  <a:pt x="814" y="288"/>
                </a:lnTo>
                <a:lnTo>
                  <a:pt x="814" y="299"/>
                </a:lnTo>
                <a:lnTo>
                  <a:pt x="812" y="312"/>
                </a:lnTo>
                <a:lnTo>
                  <a:pt x="812" y="326"/>
                </a:lnTo>
                <a:lnTo>
                  <a:pt x="810" y="339"/>
                </a:lnTo>
                <a:lnTo>
                  <a:pt x="810" y="355"/>
                </a:lnTo>
                <a:lnTo>
                  <a:pt x="808" y="370"/>
                </a:lnTo>
                <a:lnTo>
                  <a:pt x="808" y="385"/>
                </a:lnTo>
                <a:lnTo>
                  <a:pt x="807" y="401"/>
                </a:lnTo>
                <a:lnTo>
                  <a:pt x="807" y="418"/>
                </a:lnTo>
                <a:lnTo>
                  <a:pt x="807" y="435"/>
                </a:lnTo>
                <a:lnTo>
                  <a:pt x="805" y="455"/>
                </a:lnTo>
                <a:lnTo>
                  <a:pt x="805" y="472"/>
                </a:lnTo>
                <a:lnTo>
                  <a:pt x="805" y="493"/>
                </a:lnTo>
                <a:lnTo>
                  <a:pt x="803" y="512"/>
                </a:lnTo>
                <a:lnTo>
                  <a:pt x="803" y="533"/>
                </a:lnTo>
                <a:lnTo>
                  <a:pt x="803" y="554"/>
                </a:lnTo>
                <a:lnTo>
                  <a:pt x="803" y="575"/>
                </a:lnTo>
                <a:lnTo>
                  <a:pt x="803" y="598"/>
                </a:lnTo>
                <a:lnTo>
                  <a:pt x="803" y="622"/>
                </a:lnTo>
                <a:lnTo>
                  <a:pt x="803" y="645"/>
                </a:lnTo>
                <a:lnTo>
                  <a:pt x="799" y="693"/>
                </a:lnTo>
                <a:lnTo>
                  <a:pt x="797" y="741"/>
                </a:lnTo>
                <a:lnTo>
                  <a:pt x="795" y="787"/>
                </a:lnTo>
                <a:lnTo>
                  <a:pt x="793" y="833"/>
                </a:lnTo>
                <a:lnTo>
                  <a:pt x="787" y="923"/>
                </a:lnTo>
                <a:lnTo>
                  <a:pt x="782" y="1013"/>
                </a:lnTo>
                <a:lnTo>
                  <a:pt x="778" y="1101"/>
                </a:lnTo>
                <a:lnTo>
                  <a:pt x="772" y="1188"/>
                </a:lnTo>
                <a:lnTo>
                  <a:pt x="768" y="1274"/>
                </a:lnTo>
                <a:lnTo>
                  <a:pt x="762" y="1361"/>
                </a:lnTo>
                <a:lnTo>
                  <a:pt x="759" y="1403"/>
                </a:lnTo>
                <a:lnTo>
                  <a:pt x="755" y="1447"/>
                </a:lnTo>
                <a:lnTo>
                  <a:pt x="751" y="1489"/>
                </a:lnTo>
                <a:lnTo>
                  <a:pt x="745" y="1533"/>
                </a:lnTo>
                <a:lnTo>
                  <a:pt x="739" y="1575"/>
                </a:lnTo>
                <a:lnTo>
                  <a:pt x="732" y="1618"/>
                </a:lnTo>
                <a:lnTo>
                  <a:pt x="724" y="1662"/>
                </a:lnTo>
                <a:lnTo>
                  <a:pt x="714" y="1704"/>
                </a:lnTo>
                <a:lnTo>
                  <a:pt x="707" y="1748"/>
                </a:lnTo>
                <a:lnTo>
                  <a:pt x="697" y="1790"/>
                </a:lnTo>
                <a:lnTo>
                  <a:pt x="686" y="1835"/>
                </a:lnTo>
                <a:lnTo>
                  <a:pt x="676" y="1877"/>
                </a:lnTo>
                <a:lnTo>
                  <a:pt x="653" y="1963"/>
                </a:lnTo>
                <a:lnTo>
                  <a:pt x="630" y="2050"/>
                </a:lnTo>
                <a:lnTo>
                  <a:pt x="615" y="2092"/>
                </a:lnTo>
                <a:lnTo>
                  <a:pt x="597" y="2134"/>
                </a:lnTo>
                <a:lnTo>
                  <a:pt x="580" y="2174"/>
                </a:lnTo>
                <a:lnTo>
                  <a:pt x="563" y="2217"/>
                </a:lnTo>
                <a:lnTo>
                  <a:pt x="544" y="2255"/>
                </a:lnTo>
                <a:lnTo>
                  <a:pt x="522" y="2293"/>
                </a:lnTo>
                <a:lnTo>
                  <a:pt x="501" y="2332"/>
                </a:lnTo>
                <a:lnTo>
                  <a:pt x="480" y="2370"/>
                </a:lnTo>
                <a:lnTo>
                  <a:pt x="457" y="2405"/>
                </a:lnTo>
                <a:lnTo>
                  <a:pt x="432" y="2441"/>
                </a:lnTo>
                <a:lnTo>
                  <a:pt x="407" y="2476"/>
                </a:lnTo>
                <a:lnTo>
                  <a:pt x="382" y="2508"/>
                </a:lnTo>
                <a:lnTo>
                  <a:pt x="355" y="2541"/>
                </a:lnTo>
                <a:lnTo>
                  <a:pt x="327" y="2572"/>
                </a:lnTo>
                <a:lnTo>
                  <a:pt x="300" y="2600"/>
                </a:lnTo>
                <a:lnTo>
                  <a:pt x="269" y="2629"/>
                </a:lnTo>
                <a:lnTo>
                  <a:pt x="256" y="2645"/>
                </a:lnTo>
                <a:lnTo>
                  <a:pt x="240" y="2660"/>
                </a:lnTo>
                <a:lnTo>
                  <a:pt x="227" y="2673"/>
                </a:lnTo>
                <a:lnTo>
                  <a:pt x="213" y="2687"/>
                </a:lnTo>
                <a:lnTo>
                  <a:pt x="200" y="2700"/>
                </a:lnTo>
                <a:lnTo>
                  <a:pt x="188" y="2714"/>
                </a:lnTo>
                <a:lnTo>
                  <a:pt x="175" y="2725"/>
                </a:lnTo>
                <a:lnTo>
                  <a:pt x="164" y="2737"/>
                </a:lnTo>
                <a:lnTo>
                  <a:pt x="152" y="2748"/>
                </a:lnTo>
                <a:lnTo>
                  <a:pt x="140" y="2758"/>
                </a:lnTo>
                <a:lnTo>
                  <a:pt x="129" y="2767"/>
                </a:lnTo>
                <a:lnTo>
                  <a:pt x="119" y="2777"/>
                </a:lnTo>
                <a:lnTo>
                  <a:pt x="110" y="2787"/>
                </a:lnTo>
                <a:lnTo>
                  <a:pt x="100" y="2796"/>
                </a:lnTo>
                <a:lnTo>
                  <a:pt x="91" y="2804"/>
                </a:lnTo>
                <a:lnTo>
                  <a:pt x="83" y="2812"/>
                </a:lnTo>
                <a:lnTo>
                  <a:pt x="73" y="2817"/>
                </a:lnTo>
                <a:lnTo>
                  <a:pt x="66" y="2825"/>
                </a:lnTo>
                <a:lnTo>
                  <a:pt x="58" y="2831"/>
                </a:lnTo>
                <a:lnTo>
                  <a:pt x="52" y="2837"/>
                </a:lnTo>
                <a:lnTo>
                  <a:pt x="45" y="2840"/>
                </a:lnTo>
                <a:lnTo>
                  <a:pt x="39" y="2844"/>
                </a:lnTo>
                <a:lnTo>
                  <a:pt x="33" y="2848"/>
                </a:lnTo>
                <a:lnTo>
                  <a:pt x="29" y="2852"/>
                </a:lnTo>
                <a:lnTo>
                  <a:pt x="23" y="2854"/>
                </a:lnTo>
                <a:lnTo>
                  <a:pt x="20" y="2858"/>
                </a:lnTo>
                <a:lnTo>
                  <a:pt x="16" y="2860"/>
                </a:lnTo>
                <a:lnTo>
                  <a:pt x="12" y="2860"/>
                </a:lnTo>
                <a:lnTo>
                  <a:pt x="10" y="2860"/>
                </a:lnTo>
                <a:lnTo>
                  <a:pt x="6" y="2862"/>
                </a:lnTo>
                <a:lnTo>
                  <a:pt x="4" y="28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04"/>
          <p:cNvSpPr/>
          <p:nvPr/>
        </p:nvSpPr>
        <p:spPr>
          <a:xfrm>
            <a:off x="5454720" y="3541680"/>
            <a:ext cx="264960" cy="430200"/>
          </a:xfrm>
          <a:custGeom>
            <a:avLst/>
            <a:gdLst/>
            <a:ahLst/>
            <a:rect l="l" t="t" r="r" b="b"/>
            <a:pathLst>
              <a:path w="334" h="541">
                <a:moveTo>
                  <a:pt x="280" y="217"/>
                </a:moveTo>
                <a:lnTo>
                  <a:pt x="289" y="234"/>
                </a:lnTo>
                <a:lnTo>
                  <a:pt x="297" y="251"/>
                </a:lnTo>
                <a:lnTo>
                  <a:pt x="305" y="267"/>
                </a:lnTo>
                <a:lnTo>
                  <a:pt x="312" y="282"/>
                </a:lnTo>
                <a:lnTo>
                  <a:pt x="318" y="297"/>
                </a:lnTo>
                <a:lnTo>
                  <a:pt x="322" y="313"/>
                </a:lnTo>
                <a:lnTo>
                  <a:pt x="326" y="326"/>
                </a:lnTo>
                <a:lnTo>
                  <a:pt x="330" y="341"/>
                </a:lnTo>
                <a:lnTo>
                  <a:pt x="332" y="355"/>
                </a:lnTo>
                <a:lnTo>
                  <a:pt x="332" y="368"/>
                </a:lnTo>
                <a:lnTo>
                  <a:pt x="334" y="382"/>
                </a:lnTo>
                <a:lnTo>
                  <a:pt x="332" y="395"/>
                </a:lnTo>
                <a:lnTo>
                  <a:pt x="330" y="407"/>
                </a:lnTo>
                <a:lnTo>
                  <a:pt x="328" y="420"/>
                </a:lnTo>
                <a:lnTo>
                  <a:pt x="324" y="434"/>
                </a:lnTo>
                <a:lnTo>
                  <a:pt x="320" y="445"/>
                </a:lnTo>
                <a:lnTo>
                  <a:pt x="314" y="459"/>
                </a:lnTo>
                <a:lnTo>
                  <a:pt x="311" y="470"/>
                </a:lnTo>
                <a:lnTo>
                  <a:pt x="305" y="480"/>
                </a:lnTo>
                <a:lnTo>
                  <a:pt x="301" y="489"/>
                </a:lnTo>
                <a:lnTo>
                  <a:pt x="295" y="497"/>
                </a:lnTo>
                <a:lnTo>
                  <a:pt x="291" y="505"/>
                </a:lnTo>
                <a:lnTo>
                  <a:pt x="286" y="512"/>
                </a:lnTo>
                <a:lnTo>
                  <a:pt x="282" y="518"/>
                </a:lnTo>
                <a:lnTo>
                  <a:pt x="278" y="524"/>
                </a:lnTo>
                <a:lnTo>
                  <a:pt x="274" y="528"/>
                </a:lnTo>
                <a:lnTo>
                  <a:pt x="270" y="531"/>
                </a:lnTo>
                <a:lnTo>
                  <a:pt x="266" y="535"/>
                </a:lnTo>
                <a:lnTo>
                  <a:pt x="263" y="537"/>
                </a:lnTo>
                <a:lnTo>
                  <a:pt x="259" y="539"/>
                </a:lnTo>
                <a:lnTo>
                  <a:pt x="257" y="539"/>
                </a:lnTo>
                <a:lnTo>
                  <a:pt x="253" y="541"/>
                </a:lnTo>
                <a:lnTo>
                  <a:pt x="247" y="539"/>
                </a:lnTo>
                <a:lnTo>
                  <a:pt x="241" y="537"/>
                </a:lnTo>
                <a:lnTo>
                  <a:pt x="236" y="533"/>
                </a:lnTo>
                <a:lnTo>
                  <a:pt x="228" y="528"/>
                </a:lnTo>
                <a:lnTo>
                  <a:pt x="220" y="520"/>
                </a:lnTo>
                <a:lnTo>
                  <a:pt x="213" y="510"/>
                </a:lnTo>
                <a:lnTo>
                  <a:pt x="203" y="501"/>
                </a:lnTo>
                <a:lnTo>
                  <a:pt x="195" y="487"/>
                </a:lnTo>
                <a:lnTo>
                  <a:pt x="186" y="474"/>
                </a:lnTo>
                <a:lnTo>
                  <a:pt x="174" y="459"/>
                </a:lnTo>
                <a:lnTo>
                  <a:pt x="165" y="439"/>
                </a:lnTo>
                <a:lnTo>
                  <a:pt x="153" y="420"/>
                </a:lnTo>
                <a:lnTo>
                  <a:pt x="142" y="399"/>
                </a:lnTo>
                <a:lnTo>
                  <a:pt x="130" y="376"/>
                </a:lnTo>
                <a:lnTo>
                  <a:pt x="119" y="351"/>
                </a:lnTo>
                <a:lnTo>
                  <a:pt x="107" y="324"/>
                </a:lnTo>
                <a:lnTo>
                  <a:pt x="96" y="297"/>
                </a:lnTo>
                <a:lnTo>
                  <a:pt x="84" y="272"/>
                </a:lnTo>
                <a:lnTo>
                  <a:pt x="73" y="247"/>
                </a:lnTo>
                <a:lnTo>
                  <a:pt x="63" y="224"/>
                </a:lnTo>
                <a:lnTo>
                  <a:pt x="53" y="203"/>
                </a:lnTo>
                <a:lnTo>
                  <a:pt x="44" y="184"/>
                </a:lnTo>
                <a:lnTo>
                  <a:pt x="36" y="165"/>
                </a:lnTo>
                <a:lnTo>
                  <a:pt x="28" y="148"/>
                </a:lnTo>
                <a:lnTo>
                  <a:pt x="23" y="132"/>
                </a:lnTo>
                <a:lnTo>
                  <a:pt x="17" y="119"/>
                </a:lnTo>
                <a:lnTo>
                  <a:pt x="11" y="105"/>
                </a:lnTo>
                <a:lnTo>
                  <a:pt x="7" y="92"/>
                </a:lnTo>
                <a:lnTo>
                  <a:pt x="3" y="80"/>
                </a:lnTo>
                <a:lnTo>
                  <a:pt x="2" y="71"/>
                </a:lnTo>
                <a:lnTo>
                  <a:pt x="2" y="61"/>
                </a:lnTo>
                <a:lnTo>
                  <a:pt x="0" y="54"/>
                </a:lnTo>
                <a:lnTo>
                  <a:pt x="0" y="46"/>
                </a:lnTo>
                <a:lnTo>
                  <a:pt x="2" y="40"/>
                </a:lnTo>
                <a:lnTo>
                  <a:pt x="2" y="34"/>
                </a:lnTo>
                <a:lnTo>
                  <a:pt x="3" y="29"/>
                </a:lnTo>
                <a:lnTo>
                  <a:pt x="3" y="23"/>
                </a:lnTo>
                <a:lnTo>
                  <a:pt x="5" y="19"/>
                </a:lnTo>
                <a:lnTo>
                  <a:pt x="7" y="15"/>
                </a:lnTo>
                <a:lnTo>
                  <a:pt x="11" y="11"/>
                </a:lnTo>
                <a:lnTo>
                  <a:pt x="15" y="6"/>
                </a:lnTo>
                <a:lnTo>
                  <a:pt x="23" y="2"/>
                </a:lnTo>
                <a:lnTo>
                  <a:pt x="30" y="0"/>
                </a:lnTo>
                <a:lnTo>
                  <a:pt x="40" y="0"/>
                </a:lnTo>
                <a:lnTo>
                  <a:pt x="44" y="0"/>
                </a:lnTo>
                <a:lnTo>
                  <a:pt x="46" y="0"/>
                </a:lnTo>
                <a:lnTo>
                  <a:pt x="51" y="2"/>
                </a:lnTo>
                <a:lnTo>
                  <a:pt x="55" y="2"/>
                </a:lnTo>
                <a:lnTo>
                  <a:pt x="61" y="4"/>
                </a:lnTo>
                <a:lnTo>
                  <a:pt x="65" y="6"/>
                </a:lnTo>
                <a:lnTo>
                  <a:pt x="73" y="6"/>
                </a:lnTo>
                <a:lnTo>
                  <a:pt x="78" y="7"/>
                </a:lnTo>
                <a:lnTo>
                  <a:pt x="94" y="13"/>
                </a:lnTo>
                <a:lnTo>
                  <a:pt x="109" y="17"/>
                </a:lnTo>
                <a:lnTo>
                  <a:pt x="128" y="23"/>
                </a:lnTo>
                <a:lnTo>
                  <a:pt x="147" y="27"/>
                </a:lnTo>
                <a:lnTo>
                  <a:pt x="155" y="32"/>
                </a:lnTo>
                <a:lnTo>
                  <a:pt x="163" y="40"/>
                </a:lnTo>
                <a:lnTo>
                  <a:pt x="170" y="46"/>
                </a:lnTo>
                <a:lnTo>
                  <a:pt x="178" y="55"/>
                </a:lnTo>
                <a:lnTo>
                  <a:pt x="188" y="63"/>
                </a:lnTo>
                <a:lnTo>
                  <a:pt x="195" y="75"/>
                </a:lnTo>
                <a:lnTo>
                  <a:pt x="205" y="84"/>
                </a:lnTo>
                <a:lnTo>
                  <a:pt x="213" y="96"/>
                </a:lnTo>
                <a:lnTo>
                  <a:pt x="222" y="109"/>
                </a:lnTo>
                <a:lnTo>
                  <a:pt x="232" y="123"/>
                </a:lnTo>
                <a:lnTo>
                  <a:pt x="240" y="136"/>
                </a:lnTo>
                <a:lnTo>
                  <a:pt x="247" y="151"/>
                </a:lnTo>
                <a:lnTo>
                  <a:pt x="257" y="167"/>
                </a:lnTo>
                <a:lnTo>
                  <a:pt x="264" y="182"/>
                </a:lnTo>
                <a:lnTo>
                  <a:pt x="272" y="199"/>
                </a:lnTo>
                <a:lnTo>
                  <a:pt x="280" y="2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烧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；右部竖弯钩书写要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1967040" y="1868400"/>
            <a:ext cx="15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95"/>
          <p:cNvSpPr/>
          <p:nvPr/>
        </p:nvSpPr>
        <p:spPr>
          <a:xfrm>
            <a:off x="6912000" y="4151160"/>
            <a:ext cx="879480" cy="868680"/>
          </a:xfrm>
          <a:custGeom>
            <a:avLst/>
            <a:gdLst/>
            <a:ahLst/>
            <a:rect l="l" t="t" r="r" b="b"/>
            <a:pathLst>
              <a:path w="1108" h="1094">
                <a:moveTo>
                  <a:pt x="785" y="1069"/>
                </a:moveTo>
                <a:lnTo>
                  <a:pt x="754" y="1073"/>
                </a:lnTo>
                <a:lnTo>
                  <a:pt x="722" y="1078"/>
                </a:lnTo>
                <a:lnTo>
                  <a:pt x="689" y="1082"/>
                </a:lnTo>
                <a:lnTo>
                  <a:pt x="657" y="1086"/>
                </a:lnTo>
                <a:lnTo>
                  <a:pt x="622" y="1090"/>
                </a:lnTo>
                <a:lnTo>
                  <a:pt x="586" y="1092"/>
                </a:lnTo>
                <a:lnTo>
                  <a:pt x="566" y="1094"/>
                </a:lnTo>
                <a:lnTo>
                  <a:pt x="547" y="1094"/>
                </a:lnTo>
                <a:lnTo>
                  <a:pt x="528" y="1094"/>
                </a:lnTo>
                <a:lnTo>
                  <a:pt x="509" y="1094"/>
                </a:lnTo>
                <a:lnTo>
                  <a:pt x="488" y="1094"/>
                </a:lnTo>
                <a:lnTo>
                  <a:pt x="468" y="1094"/>
                </a:lnTo>
                <a:lnTo>
                  <a:pt x="449" y="1094"/>
                </a:lnTo>
                <a:lnTo>
                  <a:pt x="432" y="1092"/>
                </a:lnTo>
                <a:lnTo>
                  <a:pt x="396" y="1088"/>
                </a:lnTo>
                <a:lnTo>
                  <a:pt x="361" y="1082"/>
                </a:lnTo>
                <a:lnTo>
                  <a:pt x="344" y="1080"/>
                </a:lnTo>
                <a:lnTo>
                  <a:pt x="326" y="1076"/>
                </a:lnTo>
                <a:lnTo>
                  <a:pt x="311" y="1071"/>
                </a:lnTo>
                <a:lnTo>
                  <a:pt x="296" y="1067"/>
                </a:lnTo>
                <a:lnTo>
                  <a:pt x="278" y="1061"/>
                </a:lnTo>
                <a:lnTo>
                  <a:pt x="263" y="1055"/>
                </a:lnTo>
                <a:lnTo>
                  <a:pt x="248" y="1050"/>
                </a:lnTo>
                <a:lnTo>
                  <a:pt x="232" y="1042"/>
                </a:lnTo>
                <a:lnTo>
                  <a:pt x="215" y="1034"/>
                </a:lnTo>
                <a:lnTo>
                  <a:pt x="202" y="1027"/>
                </a:lnTo>
                <a:lnTo>
                  <a:pt x="186" y="1019"/>
                </a:lnTo>
                <a:lnTo>
                  <a:pt x="173" y="1011"/>
                </a:lnTo>
                <a:lnTo>
                  <a:pt x="159" y="1004"/>
                </a:lnTo>
                <a:lnTo>
                  <a:pt x="146" y="996"/>
                </a:lnTo>
                <a:lnTo>
                  <a:pt x="134" y="986"/>
                </a:lnTo>
                <a:lnTo>
                  <a:pt x="123" y="979"/>
                </a:lnTo>
                <a:lnTo>
                  <a:pt x="111" y="971"/>
                </a:lnTo>
                <a:lnTo>
                  <a:pt x="102" y="961"/>
                </a:lnTo>
                <a:lnTo>
                  <a:pt x="92" y="952"/>
                </a:lnTo>
                <a:lnTo>
                  <a:pt x="83" y="942"/>
                </a:lnTo>
                <a:lnTo>
                  <a:pt x="73" y="931"/>
                </a:lnTo>
                <a:lnTo>
                  <a:pt x="65" y="921"/>
                </a:lnTo>
                <a:lnTo>
                  <a:pt x="58" y="909"/>
                </a:lnTo>
                <a:lnTo>
                  <a:pt x="50" y="896"/>
                </a:lnTo>
                <a:lnTo>
                  <a:pt x="48" y="890"/>
                </a:lnTo>
                <a:lnTo>
                  <a:pt x="44" y="881"/>
                </a:lnTo>
                <a:lnTo>
                  <a:pt x="40" y="871"/>
                </a:lnTo>
                <a:lnTo>
                  <a:pt x="38" y="861"/>
                </a:lnTo>
                <a:lnTo>
                  <a:pt x="35" y="850"/>
                </a:lnTo>
                <a:lnTo>
                  <a:pt x="33" y="835"/>
                </a:lnTo>
                <a:lnTo>
                  <a:pt x="29" y="821"/>
                </a:lnTo>
                <a:lnTo>
                  <a:pt x="27" y="804"/>
                </a:lnTo>
                <a:lnTo>
                  <a:pt x="23" y="787"/>
                </a:lnTo>
                <a:lnTo>
                  <a:pt x="21" y="767"/>
                </a:lnTo>
                <a:lnTo>
                  <a:pt x="19" y="748"/>
                </a:lnTo>
                <a:lnTo>
                  <a:pt x="17" y="727"/>
                </a:lnTo>
                <a:lnTo>
                  <a:pt x="15" y="704"/>
                </a:lnTo>
                <a:lnTo>
                  <a:pt x="12" y="679"/>
                </a:lnTo>
                <a:lnTo>
                  <a:pt x="10" y="652"/>
                </a:lnTo>
                <a:lnTo>
                  <a:pt x="10" y="625"/>
                </a:lnTo>
                <a:lnTo>
                  <a:pt x="8" y="597"/>
                </a:lnTo>
                <a:lnTo>
                  <a:pt x="6" y="568"/>
                </a:lnTo>
                <a:lnTo>
                  <a:pt x="4" y="537"/>
                </a:lnTo>
                <a:lnTo>
                  <a:pt x="4" y="504"/>
                </a:lnTo>
                <a:lnTo>
                  <a:pt x="2" y="470"/>
                </a:lnTo>
                <a:lnTo>
                  <a:pt x="2" y="433"/>
                </a:lnTo>
                <a:lnTo>
                  <a:pt x="0" y="397"/>
                </a:lnTo>
                <a:lnTo>
                  <a:pt x="0" y="359"/>
                </a:lnTo>
                <a:lnTo>
                  <a:pt x="0" y="318"/>
                </a:lnTo>
                <a:lnTo>
                  <a:pt x="0" y="278"/>
                </a:lnTo>
                <a:lnTo>
                  <a:pt x="0" y="234"/>
                </a:lnTo>
                <a:lnTo>
                  <a:pt x="0" y="190"/>
                </a:lnTo>
                <a:lnTo>
                  <a:pt x="0" y="146"/>
                </a:lnTo>
                <a:lnTo>
                  <a:pt x="0" y="98"/>
                </a:lnTo>
                <a:lnTo>
                  <a:pt x="2" y="50"/>
                </a:lnTo>
                <a:lnTo>
                  <a:pt x="2" y="0"/>
                </a:lnTo>
                <a:lnTo>
                  <a:pt x="21" y="17"/>
                </a:lnTo>
                <a:lnTo>
                  <a:pt x="40" y="32"/>
                </a:lnTo>
                <a:lnTo>
                  <a:pt x="58" y="50"/>
                </a:lnTo>
                <a:lnTo>
                  <a:pt x="73" y="63"/>
                </a:lnTo>
                <a:lnTo>
                  <a:pt x="86" y="78"/>
                </a:lnTo>
                <a:lnTo>
                  <a:pt x="100" y="92"/>
                </a:lnTo>
                <a:lnTo>
                  <a:pt x="111" y="103"/>
                </a:lnTo>
                <a:lnTo>
                  <a:pt x="121" y="115"/>
                </a:lnTo>
                <a:lnTo>
                  <a:pt x="131" y="126"/>
                </a:lnTo>
                <a:lnTo>
                  <a:pt x="138" y="136"/>
                </a:lnTo>
                <a:lnTo>
                  <a:pt x="144" y="144"/>
                </a:lnTo>
                <a:lnTo>
                  <a:pt x="150" y="151"/>
                </a:lnTo>
                <a:lnTo>
                  <a:pt x="154" y="159"/>
                </a:lnTo>
                <a:lnTo>
                  <a:pt x="157" y="163"/>
                </a:lnTo>
                <a:lnTo>
                  <a:pt x="157" y="169"/>
                </a:lnTo>
                <a:lnTo>
                  <a:pt x="159" y="170"/>
                </a:lnTo>
                <a:lnTo>
                  <a:pt x="157" y="174"/>
                </a:lnTo>
                <a:lnTo>
                  <a:pt x="156" y="178"/>
                </a:lnTo>
                <a:lnTo>
                  <a:pt x="154" y="184"/>
                </a:lnTo>
                <a:lnTo>
                  <a:pt x="152" y="192"/>
                </a:lnTo>
                <a:lnTo>
                  <a:pt x="150" y="199"/>
                </a:lnTo>
                <a:lnTo>
                  <a:pt x="150" y="207"/>
                </a:lnTo>
                <a:lnTo>
                  <a:pt x="148" y="218"/>
                </a:lnTo>
                <a:lnTo>
                  <a:pt x="148" y="228"/>
                </a:lnTo>
                <a:lnTo>
                  <a:pt x="146" y="241"/>
                </a:lnTo>
                <a:lnTo>
                  <a:pt x="144" y="255"/>
                </a:lnTo>
                <a:lnTo>
                  <a:pt x="144" y="268"/>
                </a:lnTo>
                <a:lnTo>
                  <a:pt x="142" y="284"/>
                </a:lnTo>
                <a:lnTo>
                  <a:pt x="140" y="301"/>
                </a:lnTo>
                <a:lnTo>
                  <a:pt x="138" y="318"/>
                </a:lnTo>
                <a:lnTo>
                  <a:pt x="136" y="336"/>
                </a:lnTo>
                <a:lnTo>
                  <a:pt x="134" y="357"/>
                </a:lnTo>
                <a:lnTo>
                  <a:pt x="133" y="378"/>
                </a:lnTo>
                <a:lnTo>
                  <a:pt x="131" y="399"/>
                </a:lnTo>
                <a:lnTo>
                  <a:pt x="129" y="420"/>
                </a:lnTo>
                <a:lnTo>
                  <a:pt x="127" y="439"/>
                </a:lnTo>
                <a:lnTo>
                  <a:pt x="125" y="458"/>
                </a:lnTo>
                <a:lnTo>
                  <a:pt x="123" y="478"/>
                </a:lnTo>
                <a:lnTo>
                  <a:pt x="121" y="497"/>
                </a:lnTo>
                <a:lnTo>
                  <a:pt x="119" y="514"/>
                </a:lnTo>
                <a:lnTo>
                  <a:pt x="119" y="531"/>
                </a:lnTo>
                <a:lnTo>
                  <a:pt x="119" y="547"/>
                </a:lnTo>
                <a:lnTo>
                  <a:pt x="117" y="562"/>
                </a:lnTo>
                <a:lnTo>
                  <a:pt x="117" y="577"/>
                </a:lnTo>
                <a:lnTo>
                  <a:pt x="119" y="593"/>
                </a:lnTo>
                <a:lnTo>
                  <a:pt x="119" y="606"/>
                </a:lnTo>
                <a:lnTo>
                  <a:pt x="121" y="620"/>
                </a:lnTo>
                <a:lnTo>
                  <a:pt x="123" y="633"/>
                </a:lnTo>
                <a:lnTo>
                  <a:pt x="125" y="647"/>
                </a:lnTo>
                <a:lnTo>
                  <a:pt x="127" y="662"/>
                </a:lnTo>
                <a:lnTo>
                  <a:pt x="131" y="675"/>
                </a:lnTo>
                <a:lnTo>
                  <a:pt x="133" y="687"/>
                </a:lnTo>
                <a:lnTo>
                  <a:pt x="134" y="700"/>
                </a:lnTo>
                <a:lnTo>
                  <a:pt x="138" y="712"/>
                </a:lnTo>
                <a:lnTo>
                  <a:pt x="140" y="723"/>
                </a:lnTo>
                <a:lnTo>
                  <a:pt x="144" y="733"/>
                </a:lnTo>
                <a:lnTo>
                  <a:pt x="152" y="754"/>
                </a:lnTo>
                <a:lnTo>
                  <a:pt x="159" y="771"/>
                </a:lnTo>
                <a:lnTo>
                  <a:pt x="171" y="789"/>
                </a:lnTo>
                <a:lnTo>
                  <a:pt x="177" y="796"/>
                </a:lnTo>
                <a:lnTo>
                  <a:pt x="182" y="804"/>
                </a:lnTo>
                <a:lnTo>
                  <a:pt x="198" y="819"/>
                </a:lnTo>
                <a:lnTo>
                  <a:pt x="213" y="831"/>
                </a:lnTo>
                <a:lnTo>
                  <a:pt x="229" y="842"/>
                </a:lnTo>
                <a:lnTo>
                  <a:pt x="248" y="854"/>
                </a:lnTo>
                <a:lnTo>
                  <a:pt x="269" y="863"/>
                </a:lnTo>
                <a:lnTo>
                  <a:pt x="278" y="867"/>
                </a:lnTo>
                <a:lnTo>
                  <a:pt x="290" y="871"/>
                </a:lnTo>
                <a:lnTo>
                  <a:pt x="301" y="875"/>
                </a:lnTo>
                <a:lnTo>
                  <a:pt x="313" y="877"/>
                </a:lnTo>
                <a:lnTo>
                  <a:pt x="326" y="881"/>
                </a:lnTo>
                <a:lnTo>
                  <a:pt x="340" y="883"/>
                </a:lnTo>
                <a:lnTo>
                  <a:pt x="367" y="888"/>
                </a:lnTo>
                <a:lnTo>
                  <a:pt x="396" y="890"/>
                </a:lnTo>
                <a:lnTo>
                  <a:pt x="426" y="892"/>
                </a:lnTo>
                <a:lnTo>
                  <a:pt x="459" y="894"/>
                </a:lnTo>
                <a:lnTo>
                  <a:pt x="491" y="892"/>
                </a:lnTo>
                <a:lnTo>
                  <a:pt x="509" y="892"/>
                </a:lnTo>
                <a:lnTo>
                  <a:pt x="528" y="890"/>
                </a:lnTo>
                <a:lnTo>
                  <a:pt x="545" y="888"/>
                </a:lnTo>
                <a:lnTo>
                  <a:pt x="564" y="888"/>
                </a:lnTo>
                <a:lnTo>
                  <a:pt x="584" y="886"/>
                </a:lnTo>
                <a:lnTo>
                  <a:pt x="605" y="883"/>
                </a:lnTo>
                <a:lnTo>
                  <a:pt x="622" y="881"/>
                </a:lnTo>
                <a:lnTo>
                  <a:pt x="639" y="879"/>
                </a:lnTo>
                <a:lnTo>
                  <a:pt x="657" y="875"/>
                </a:lnTo>
                <a:lnTo>
                  <a:pt x="672" y="873"/>
                </a:lnTo>
                <a:lnTo>
                  <a:pt x="687" y="869"/>
                </a:lnTo>
                <a:lnTo>
                  <a:pt x="703" y="867"/>
                </a:lnTo>
                <a:lnTo>
                  <a:pt x="718" y="863"/>
                </a:lnTo>
                <a:lnTo>
                  <a:pt x="731" y="860"/>
                </a:lnTo>
                <a:lnTo>
                  <a:pt x="745" y="856"/>
                </a:lnTo>
                <a:lnTo>
                  <a:pt x="756" y="852"/>
                </a:lnTo>
                <a:lnTo>
                  <a:pt x="770" y="848"/>
                </a:lnTo>
                <a:lnTo>
                  <a:pt x="781" y="842"/>
                </a:lnTo>
                <a:lnTo>
                  <a:pt x="791" y="837"/>
                </a:lnTo>
                <a:lnTo>
                  <a:pt x="802" y="831"/>
                </a:lnTo>
                <a:lnTo>
                  <a:pt x="812" y="825"/>
                </a:lnTo>
                <a:lnTo>
                  <a:pt x="822" y="817"/>
                </a:lnTo>
                <a:lnTo>
                  <a:pt x="827" y="810"/>
                </a:lnTo>
                <a:lnTo>
                  <a:pt x="835" y="800"/>
                </a:lnTo>
                <a:lnTo>
                  <a:pt x="841" y="789"/>
                </a:lnTo>
                <a:lnTo>
                  <a:pt x="848" y="777"/>
                </a:lnTo>
                <a:lnTo>
                  <a:pt x="854" y="766"/>
                </a:lnTo>
                <a:lnTo>
                  <a:pt x="862" y="750"/>
                </a:lnTo>
                <a:lnTo>
                  <a:pt x="868" y="735"/>
                </a:lnTo>
                <a:lnTo>
                  <a:pt x="873" y="718"/>
                </a:lnTo>
                <a:lnTo>
                  <a:pt x="879" y="700"/>
                </a:lnTo>
                <a:lnTo>
                  <a:pt x="887" y="681"/>
                </a:lnTo>
                <a:lnTo>
                  <a:pt x="893" y="662"/>
                </a:lnTo>
                <a:lnTo>
                  <a:pt x="898" y="639"/>
                </a:lnTo>
                <a:lnTo>
                  <a:pt x="902" y="616"/>
                </a:lnTo>
                <a:lnTo>
                  <a:pt x="908" y="593"/>
                </a:lnTo>
                <a:lnTo>
                  <a:pt x="914" y="568"/>
                </a:lnTo>
                <a:lnTo>
                  <a:pt x="918" y="541"/>
                </a:lnTo>
                <a:lnTo>
                  <a:pt x="920" y="514"/>
                </a:lnTo>
                <a:lnTo>
                  <a:pt x="923" y="489"/>
                </a:lnTo>
                <a:lnTo>
                  <a:pt x="925" y="466"/>
                </a:lnTo>
                <a:lnTo>
                  <a:pt x="929" y="447"/>
                </a:lnTo>
                <a:lnTo>
                  <a:pt x="931" y="426"/>
                </a:lnTo>
                <a:lnTo>
                  <a:pt x="935" y="408"/>
                </a:lnTo>
                <a:lnTo>
                  <a:pt x="939" y="393"/>
                </a:lnTo>
                <a:lnTo>
                  <a:pt x="941" y="378"/>
                </a:lnTo>
                <a:lnTo>
                  <a:pt x="944" y="366"/>
                </a:lnTo>
                <a:lnTo>
                  <a:pt x="948" y="355"/>
                </a:lnTo>
                <a:lnTo>
                  <a:pt x="952" y="345"/>
                </a:lnTo>
                <a:lnTo>
                  <a:pt x="954" y="336"/>
                </a:lnTo>
                <a:lnTo>
                  <a:pt x="958" y="330"/>
                </a:lnTo>
                <a:lnTo>
                  <a:pt x="960" y="324"/>
                </a:lnTo>
                <a:lnTo>
                  <a:pt x="964" y="318"/>
                </a:lnTo>
                <a:lnTo>
                  <a:pt x="966" y="316"/>
                </a:lnTo>
                <a:lnTo>
                  <a:pt x="967" y="316"/>
                </a:lnTo>
                <a:lnTo>
                  <a:pt x="971" y="320"/>
                </a:lnTo>
                <a:lnTo>
                  <a:pt x="973" y="324"/>
                </a:lnTo>
                <a:lnTo>
                  <a:pt x="977" y="330"/>
                </a:lnTo>
                <a:lnTo>
                  <a:pt x="981" y="339"/>
                </a:lnTo>
                <a:lnTo>
                  <a:pt x="983" y="349"/>
                </a:lnTo>
                <a:lnTo>
                  <a:pt x="987" y="360"/>
                </a:lnTo>
                <a:lnTo>
                  <a:pt x="991" y="374"/>
                </a:lnTo>
                <a:lnTo>
                  <a:pt x="994" y="389"/>
                </a:lnTo>
                <a:lnTo>
                  <a:pt x="1000" y="405"/>
                </a:lnTo>
                <a:lnTo>
                  <a:pt x="1004" y="424"/>
                </a:lnTo>
                <a:lnTo>
                  <a:pt x="1008" y="445"/>
                </a:lnTo>
                <a:lnTo>
                  <a:pt x="1012" y="466"/>
                </a:lnTo>
                <a:lnTo>
                  <a:pt x="1017" y="489"/>
                </a:lnTo>
                <a:lnTo>
                  <a:pt x="1021" y="514"/>
                </a:lnTo>
                <a:lnTo>
                  <a:pt x="1025" y="541"/>
                </a:lnTo>
                <a:lnTo>
                  <a:pt x="1029" y="570"/>
                </a:lnTo>
                <a:lnTo>
                  <a:pt x="1031" y="597"/>
                </a:lnTo>
                <a:lnTo>
                  <a:pt x="1033" y="623"/>
                </a:lnTo>
                <a:lnTo>
                  <a:pt x="1037" y="647"/>
                </a:lnTo>
                <a:lnTo>
                  <a:pt x="1040" y="670"/>
                </a:lnTo>
                <a:lnTo>
                  <a:pt x="1044" y="691"/>
                </a:lnTo>
                <a:lnTo>
                  <a:pt x="1048" y="710"/>
                </a:lnTo>
                <a:lnTo>
                  <a:pt x="1052" y="729"/>
                </a:lnTo>
                <a:lnTo>
                  <a:pt x="1058" y="744"/>
                </a:lnTo>
                <a:lnTo>
                  <a:pt x="1062" y="760"/>
                </a:lnTo>
                <a:lnTo>
                  <a:pt x="1067" y="773"/>
                </a:lnTo>
                <a:lnTo>
                  <a:pt x="1073" y="785"/>
                </a:lnTo>
                <a:lnTo>
                  <a:pt x="1079" y="796"/>
                </a:lnTo>
                <a:lnTo>
                  <a:pt x="1085" y="804"/>
                </a:lnTo>
                <a:lnTo>
                  <a:pt x="1092" y="812"/>
                </a:lnTo>
                <a:lnTo>
                  <a:pt x="1098" y="817"/>
                </a:lnTo>
                <a:lnTo>
                  <a:pt x="1102" y="823"/>
                </a:lnTo>
                <a:lnTo>
                  <a:pt x="1106" y="827"/>
                </a:lnTo>
                <a:lnTo>
                  <a:pt x="1106" y="833"/>
                </a:lnTo>
                <a:lnTo>
                  <a:pt x="1108" y="840"/>
                </a:lnTo>
                <a:lnTo>
                  <a:pt x="1106" y="846"/>
                </a:lnTo>
                <a:lnTo>
                  <a:pt x="1104" y="854"/>
                </a:lnTo>
                <a:lnTo>
                  <a:pt x="1102" y="860"/>
                </a:lnTo>
                <a:lnTo>
                  <a:pt x="1098" y="869"/>
                </a:lnTo>
                <a:lnTo>
                  <a:pt x="1092" y="877"/>
                </a:lnTo>
                <a:lnTo>
                  <a:pt x="1086" y="885"/>
                </a:lnTo>
                <a:lnTo>
                  <a:pt x="1079" y="894"/>
                </a:lnTo>
                <a:lnTo>
                  <a:pt x="1071" y="904"/>
                </a:lnTo>
                <a:lnTo>
                  <a:pt x="1062" y="915"/>
                </a:lnTo>
                <a:lnTo>
                  <a:pt x="1050" y="925"/>
                </a:lnTo>
                <a:lnTo>
                  <a:pt x="1039" y="936"/>
                </a:lnTo>
                <a:lnTo>
                  <a:pt x="1025" y="950"/>
                </a:lnTo>
                <a:lnTo>
                  <a:pt x="1012" y="961"/>
                </a:lnTo>
                <a:lnTo>
                  <a:pt x="998" y="973"/>
                </a:lnTo>
                <a:lnTo>
                  <a:pt x="985" y="984"/>
                </a:lnTo>
                <a:lnTo>
                  <a:pt x="969" y="994"/>
                </a:lnTo>
                <a:lnTo>
                  <a:pt x="956" y="1004"/>
                </a:lnTo>
                <a:lnTo>
                  <a:pt x="941" y="1013"/>
                </a:lnTo>
                <a:lnTo>
                  <a:pt x="925" y="1021"/>
                </a:lnTo>
                <a:lnTo>
                  <a:pt x="910" y="1028"/>
                </a:lnTo>
                <a:lnTo>
                  <a:pt x="895" y="1036"/>
                </a:lnTo>
                <a:lnTo>
                  <a:pt x="879" y="1042"/>
                </a:lnTo>
                <a:lnTo>
                  <a:pt x="864" y="1048"/>
                </a:lnTo>
                <a:lnTo>
                  <a:pt x="848" y="1053"/>
                </a:lnTo>
                <a:lnTo>
                  <a:pt x="833" y="1057"/>
                </a:lnTo>
                <a:lnTo>
                  <a:pt x="816" y="1061"/>
                </a:lnTo>
                <a:lnTo>
                  <a:pt x="801" y="1065"/>
                </a:lnTo>
                <a:lnTo>
                  <a:pt x="785" y="10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96"/>
          <p:cNvSpPr/>
          <p:nvPr/>
        </p:nvSpPr>
        <p:spPr>
          <a:xfrm>
            <a:off x="6108840" y="4214880"/>
            <a:ext cx="661680" cy="830160"/>
          </a:xfrm>
          <a:custGeom>
            <a:avLst/>
            <a:gdLst/>
            <a:ahLst/>
            <a:rect l="l" t="t" r="r" b="b"/>
            <a:pathLst>
              <a:path w="833" h="1046">
                <a:moveTo>
                  <a:pt x="581" y="396"/>
                </a:moveTo>
                <a:lnTo>
                  <a:pt x="591" y="375"/>
                </a:lnTo>
                <a:lnTo>
                  <a:pt x="600" y="352"/>
                </a:lnTo>
                <a:lnTo>
                  <a:pt x="610" y="329"/>
                </a:lnTo>
                <a:lnTo>
                  <a:pt x="618" y="306"/>
                </a:lnTo>
                <a:lnTo>
                  <a:pt x="625" y="281"/>
                </a:lnTo>
                <a:lnTo>
                  <a:pt x="633" y="258"/>
                </a:lnTo>
                <a:lnTo>
                  <a:pt x="639" y="233"/>
                </a:lnTo>
                <a:lnTo>
                  <a:pt x="644" y="208"/>
                </a:lnTo>
                <a:lnTo>
                  <a:pt x="650" y="183"/>
                </a:lnTo>
                <a:lnTo>
                  <a:pt x="654" y="158"/>
                </a:lnTo>
                <a:lnTo>
                  <a:pt x="658" y="133"/>
                </a:lnTo>
                <a:lnTo>
                  <a:pt x="660" y="106"/>
                </a:lnTo>
                <a:lnTo>
                  <a:pt x="662" y="81"/>
                </a:lnTo>
                <a:lnTo>
                  <a:pt x="664" y="54"/>
                </a:lnTo>
                <a:lnTo>
                  <a:pt x="664" y="27"/>
                </a:lnTo>
                <a:lnTo>
                  <a:pt x="666" y="0"/>
                </a:lnTo>
                <a:lnTo>
                  <a:pt x="685" y="20"/>
                </a:lnTo>
                <a:lnTo>
                  <a:pt x="702" y="39"/>
                </a:lnTo>
                <a:lnTo>
                  <a:pt x="719" y="56"/>
                </a:lnTo>
                <a:lnTo>
                  <a:pt x="737" y="73"/>
                </a:lnTo>
                <a:lnTo>
                  <a:pt x="752" y="89"/>
                </a:lnTo>
                <a:lnTo>
                  <a:pt x="765" y="104"/>
                </a:lnTo>
                <a:lnTo>
                  <a:pt x="777" y="117"/>
                </a:lnTo>
                <a:lnTo>
                  <a:pt x="788" y="129"/>
                </a:lnTo>
                <a:lnTo>
                  <a:pt x="800" y="142"/>
                </a:lnTo>
                <a:lnTo>
                  <a:pt x="808" y="152"/>
                </a:lnTo>
                <a:lnTo>
                  <a:pt x="815" y="162"/>
                </a:lnTo>
                <a:lnTo>
                  <a:pt x="821" y="171"/>
                </a:lnTo>
                <a:lnTo>
                  <a:pt x="827" y="179"/>
                </a:lnTo>
                <a:lnTo>
                  <a:pt x="831" y="187"/>
                </a:lnTo>
                <a:lnTo>
                  <a:pt x="833" y="192"/>
                </a:lnTo>
                <a:lnTo>
                  <a:pt x="833" y="198"/>
                </a:lnTo>
                <a:lnTo>
                  <a:pt x="833" y="204"/>
                </a:lnTo>
                <a:lnTo>
                  <a:pt x="833" y="210"/>
                </a:lnTo>
                <a:lnTo>
                  <a:pt x="831" y="215"/>
                </a:lnTo>
                <a:lnTo>
                  <a:pt x="829" y="223"/>
                </a:lnTo>
                <a:lnTo>
                  <a:pt x="827" y="231"/>
                </a:lnTo>
                <a:lnTo>
                  <a:pt x="823" y="240"/>
                </a:lnTo>
                <a:lnTo>
                  <a:pt x="819" y="250"/>
                </a:lnTo>
                <a:lnTo>
                  <a:pt x="815" y="259"/>
                </a:lnTo>
                <a:lnTo>
                  <a:pt x="811" y="271"/>
                </a:lnTo>
                <a:lnTo>
                  <a:pt x="808" y="282"/>
                </a:lnTo>
                <a:lnTo>
                  <a:pt x="802" y="294"/>
                </a:lnTo>
                <a:lnTo>
                  <a:pt x="796" y="307"/>
                </a:lnTo>
                <a:lnTo>
                  <a:pt x="792" y="323"/>
                </a:lnTo>
                <a:lnTo>
                  <a:pt x="785" y="336"/>
                </a:lnTo>
                <a:lnTo>
                  <a:pt x="779" y="354"/>
                </a:lnTo>
                <a:lnTo>
                  <a:pt x="773" y="371"/>
                </a:lnTo>
                <a:lnTo>
                  <a:pt x="765" y="388"/>
                </a:lnTo>
                <a:lnTo>
                  <a:pt x="758" y="405"/>
                </a:lnTo>
                <a:lnTo>
                  <a:pt x="748" y="423"/>
                </a:lnTo>
                <a:lnTo>
                  <a:pt x="739" y="442"/>
                </a:lnTo>
                <a:lnTo>
                  <a:pt x="729" y="459"/>
                </a:lnTo>
                <a:lnTo>
                  <a:pt x="717" y="478"/>
                </a:lnTo>
                <a:lnTo>
                  <a:pt x="706" y="497"/>
                </a:lnTo>
                <a:lnTo>
                  <a:pt x="694" y="517"/>
                </a:lnTo>
                <a:lnTo>
                  <a:pt x="681" y="536"/>
                </a:lnTo>
                <a:lnTo>
                  <a:pt x="668" y="555"/>
                </a:lnTo>
                <a:lnTo>
                  <a:pt x="641" y="593"/>
                </a:lnTo>
                <a:lnTo>
                  <a:pt x="610" y="634"/>
                </a:lnTo>
                <a:lnTo>
                  <a:pt x="581" y="674"/>
                </a:lnTo>
                <a:lnTo>
                  <a:pt x="562" y="695"/>
                </a:lnTo>
                <a:lnTo>
                  <a:pt x="543" y="716"/>
                </a:lnTo>
                <a:lnTo>
                  <a:pt x="524" y="737"/>
                </a:lnTo>
                <a:lnTo>
                  <a:pt x="504" y="759"/>
                </a:lnTo>
                <a:lnTo>
                  <a:pt x="483" y="778"/>
                </a:lnTo>
                <a:lnTo>
                  <a:pt x="462" y="797"/>
                </a:lnTo>
                <a:lnTo>
                  <a:pt x="441" y="816"/>
                </a:lnTo>
                <a:lnTo>
                  <a:pt x="420" y="833"/>
                </a:lnTo>
                <a:lnTo>
                  <a:pt x="374" y="868"/>
                </a:lnTo>
                <a:lnTo>
                  <a:pt x="328" y="901"/>
                </a:lnTo>
                <a:lnTo>
                  <a:pt x="280" y="933"/>
                </a:lnTo>
                <a:lnTo>
                  <a:pt x="232" y="964"/>
                </a:lnTo>
                <a:lnTo>
                  <a:pt x="205" y="975"/>
                </a:lnTo>
                <a:lnTo>
                  <a:pt x="180" y="987"/>
                </a:lnTo>
                <a:lnTo>
                  <a:pt x="157" y="997"/>
                </a:lnTo>
                <a:lnTo>
                  <a:pt x="136" y="1006"/>
                </a:lnTo>
                <a:lnTo>
                  <a:pt x="117" y="1014"/>
                </a:lnTo>
                <a:lnTo>
                  <a:pt x="99" y="1021"/>
                </a:lnTo>
                <a:lnTo>
                  <a:pt x="82" y="1027"/>
                </a:lnTo>
                <a:lnTo>
                  <a:pt x="67" y="1033"/>
                </a:lnTo>
                <a:lnTo>
                  <a:pt x="53" y="1037"/>
                </a:lnTo>
                <a:lnTo>
                  <a:pt x="42" y="1041"/>
                </a:lnTo>
                <a:lnTo>
                  <a:pt x="32" y="1045"/>
                </a:lnTo>
                <a:lnTo>
                  <a:pt x="23" y="1045"/>
                </a:lnTo>
                <a:lnTo>
                  <a:pt x="15" y="1046"/>
                </a:lnTo>
                <a:lnTo>
                  <a:pt x="9" y="1046"/>
                </a:lnTo>
                <a:lnTo>
                  <a:pt x="5" y="1045"/>
                </a:lnTo>
                <a:lnTo>
                  <a:pt x="3" y="1043"/>
                </a:lnTo>
                <a:lnTo>
                  <a:pt x="1" y="1037"/>
                </a:lnTo>
                <a:lnTo>
                  <a:pt x="0" y="1033"/>
                </a:lnTo>
                <a:lnTo>
                  <a:pt x="1" y="1027"/>
                </a:lnTo>
                <a:lnTo>
                  <a:pt x="3" y="1020"/>
                </a:lnTo>
                <a:lnTo>
                  <a:pt x="5" y="1014"/>
                </a:lnTo>
                <a:lnTo>
                  <a:pt x="9" y="1008"/>
                </a:lnTo>
                <a:lnTo>
                  <a:pt x="15" y="1000"/>
                </a:lnTo>
                <a:lnTo>
                  <a:pt x="21" y="993"/>
                </a:lnTo>
                <a:lnTo>
                  <a:pt x="28" y="985"/>
                </a:lnTo>
                <a:lnTo>
                  <a:pt x="36" y="977"/>
                </a:lnTo>
                <a:lnTo>
                  <a:pt x="46" y="970"/>
                </a:lnTo>
                <a:lnTo>
                  <a:pt x="57" y="962"/>
                </a:lnTo>
                <a:lnTo>
                  <a:pt x="69" y="952"/>
                </a:lnTo>
                <a:lnTo>
                  <a:pt x="82" y="943"/>
                </a:lnTo>
                <a:lnTo>
                  <a:pt x="96" y="933"/>
                </a:lnTo>
                <a:lnTo>
                  <a:pt x="111" y="924"/>
                </a:lnTo>
                <a:lnTo>
                  <a:pt x="138" y="902"/>
                </a:lnTo>
                <a:lnTo>
                  <a:pt x="167" y="881"/>
                </a:lnTo>
                <a:lnTo>
                  <a:pt x="197" y="858"/>
                </a:lnTo>
                <a:lnTo>
                  <a:pt x="228" y="833"/>
                </a:lnTo>
                <a:lnTo>
                  <a:pt x="245" y="820"/>
                </a:lnTo>
                <a:lnTo>
                  <a:pt x="261" y="807"/>
                </a:lnTo>
                <a:lnTo>
                  <a:pt x="278" y="793"/>
                </a:lnTo>
                <a:lnTo>
                  <a:pt x="293" y="778"/>
                </a:lnTo>
                <a:lnTo>
                  <a:pt x="311" y="762"/>
                </a:lnTo>
                <a:lnTo>
                  <a:pt x="328" y="747"/>
                </a:lnTo>
                <a:lnTo>
                  <a:pt x="345" y="730"/>
                </a:lnTo>
                <a:lnTo>
                  <a:pt x="364" y="712"/>
                </a:lnTo>
                <a:lnTo>
                  <a:pt x="395" y="678"/>
                </a:lnTo>
                <a:lnTo>
                  <a:pt x="424" y="641"/>
                </a:lnTo>
                <a:lnTo>
                  <a:pt x="453" y="603"/>
                </a:lnTo>
                <a:lnTo>
                  <a:pt x="481" y="565"/>
                </a:lnTo>
                <a:lnTo>
                  <a:pt x="508" y="524"/>
                </a:lnTo>
                <a:lnTo>
                  <a:pt x="533" y="482"/>
                </a:lnTo>
                <a:lnTo>
                  <a:pt x="558" y="440"/>
                </a:lnTo>
                <a:lnTo>
                  <a:pt x="581" y="3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97"/>
          <p:cNvSpPr/>
          <p:nvPr/>
        </p:nvSpPr>
        <p:spPr>
          <a:xfrm>
            <a:off x="6378480" y="4032360"/>
            <a:ext cx="917640" cy="234720"/>
          </a:xfrm>
          <a:custGeom>
            <a:avLst/>
            <a:gdLst/>
            <a:ahLst/>
            <a:rect l="l" t="t" r="r" b="b"/>
            <a:pathLst>
              <a:path w="1156" h="296">
                <a:moveTo>
                  <a:pt x="181" y="163"/>
                </a:moveTo>
                <a:lnTo>
                  <a:pt x="196" y="159"/>
                </a:lnTo>
                <a:lnTo>
                  <a:pt x="211" y="157"/>
                </a:lnTo>
                <a:lnTo>
                  <a:pt x="229" y="153"/>
                </a:lnTo>
                <a:lnTo>
                  <a:pt x="248" y="150"/>
                </a:lnTo>
                <a:lnTo>
                  <a:pt x="269" y="146"/>
                </a:lnTo>
                <a:lnTo>
                  <a:pt x="292" y="142"/>
                </a:lnTo>
                <a:lnTo>
                  <a:pt x="317" y="136"/>
                </a:lnTo>
                <a:lnTo>
                  <a:pt x="344" y="130"/>
                </a:lnTo>
                <a:lnTo>
                  <a:pt x="371" y="123"/>
                </a:lnTo>
                <a:lnTo>
                  <a:pt x="401" y="117"/>
                </a:lnTo>
                <a:lnTo>
                  <a:pt x="432" y="109"/>
                </a:lnTo>
                <a:lnTo>
                  <a:pt x="465" y="100"/>
                </a:lnTo>
                <a:lnTo>
                  <a:pt x="501" y="90"/>
                </a:lnTo>
                <a:lnTo>
                  <a:pt x="536" y="81"/>
                </a:lnTo>
                <a:lnTo>
                  <a:pt x="574" y="69"/>
                </a:lnTo>
                <a:lnTo>
                  <a:pt x="615" y="58"/>
                </a:lnTo>
                <a:lnTo>
                  <a:pt x="653" y="48"/>
                </a:lnTo>
                <a:lnTo>
                  <a:pt x="687" y="38"/>
                </a:lnTo>
                <a:lnTo>
                  <a:pt x="724" y="31"/>
                </a:lnTo>
                <a:lnTo>
                  <a:pt x="757" y="25"/>
                </a:lnTo>
                <a:lnTo>
                  <a:pt x="789" y="19"/>
                </a:lnTo>
                <a:lnTo>
                  <a:pt x="820" y="13"/>
                </a:lnTo>
                <a:lnTo>
                  <a:pt x="849" y="10"/>
                </a:lnTo>
                <a:lnTo>
                  <a:pt x="876" y="6"/>
                </a:lnTo>
                <a:lnTo>
                  <a:pt x="902" y="4"/>
                </a:lnTo>
                <a:lnTo>
                  <a:pt x="927" y="2"/>
                </a:lnTo>
                <a:lnTo>
                  <a:pt x="950" y="0"/>
                </a:lnTo>
                <a:lnTo>
                  <a:pt x="973" y="0"/>
                </a:lnTo>
                <a:lnTo>
                  <a:pt x="995" y="0"/>
                </a:lnTo>
                <a:lnTo>
                  <a:pt x="1014" y="0"/>
                </a:lnTo>
                <a:lnTo>
                  <a:pt x="1031" y="2"/>
                </a:lnTo>
                <a:lnTo>
                  <a:pt x="1048" y="4"/>
                </a:lnTo>
                <a:lnTo>
                  <a:pt x="1062" y="10"/>
                </a:lnTo>
                <a:lnTo>
                  <a:pt x="1073" y="13"/>
                </a:lnTo>
                <a:lnTo>
                  <a:pt x="1085" y="19"/>
                </a:lnTo>
                <a:lnTo>
                  <a:pt x="1094" y="25"/>
                </a:lnTo>
                <a:lnTo>
                  <a:pt x="1104" y="29"/>
                </a:lnTo>
                <a:lnTo>
                  <a:pt x="1114" y="34"/>
                </a:lnTo>
                <a:lnTo>
                  <a:pt x="1121" y="38"/>
                </a:lnTo>
                <a:lnTo>
                  <a:pt x="1129" y="44"/>
                </a:lnTo>
                <a:lnTo>
                  <a:pt x="1135" y="50"/>
                </a:lnTo>
                <a:lnTo>
                  <a:pt x="1140" y="54"/>
                </a:lnTo>
                <a:lnTo>
                  <a:pt x="1146" y="59"/>
                </a:lnTo>
                <a:lnTo>
                  <a:pt x="1150" y="63"/>
                </a:lnTo>
                <a:lnTo>
                  <a:pt x="1152" y="69"/>
                </a:lnTo>
                <a:lnTo>
                  <a:pt x="1154" y="73"/>
                </a:lnTo>
                <a:lnTo>
                  <a:pt x="1156" y="79"/>
                </a:lnTo>
                <a:lnTo>
                  <a:pt x="1156" y="84"/>
                </a:lnTo>
                <a:lnTo>
                  <a:pt x="1156" y="88"/>
                </a:lnTo>
                <a:lnTo>
                  <a:pt x="1156" y="92"/>
                </a:lnTo>
                <a:lnTo>
                  <a:pt x="1154" y="98"/>
                </a:lnTo>
                <a:lnTo>
                  <a:pt x="1152" y="102"/>
                </a:lnTo>
                <a:lnTo>
                  <a:pt x="1150" y="105"/>
                </a:lnTo>
                <a:lnTo>
                  <a:pt x="1146" y="107"/>
                </a:lnTo>
                <a:lnTo>
                  <a:pt x="1140" y="115"/>
                </a:lnTo>
                <a:lnTo>
                  <a:pt x="1131" y="121"/>
                </a:lnTo>
                <a:lnTo>
                  <a:pt x="1121" y="127"/>
                </a:lnTo>
                <a:lnTo>
                  <a:pt x="1110" y="130"/>
                </a:lnTo>
                <a:lnTo>
                  <a:pt x="1096" y="136"/>
                </a:lnTo>
                <a:lnTo>
                  <a:pt x="1087" y="138"/>
                </a:lnTo>
                <a:lnTo>
                  <a:pt x="1075" y="142"/>
                </a:lnTo>
                <a:lnTo>
                  <a:pt x="1066" y="144"/>
                </a:lnTo>
                <a:lnTo>
                  <a:pt x="1052" y="146"/>
                </a:lnTo>
                <a:lnTo>
                  <a:pt x="1041" y="150"/>
                </a:lnTo>
                <a:lnTo>
                  <a:pt x="1025" y="152"/>
                </a:lnTo>
                <a:lnTo>
                  <a:pt x="1012" y="155"/>
                </a:lnTo>
                <a:lnTo>
                  <a:pt x="995" y="157"/>
                </a:lnTo>
                <a:lnTo>
                  <a:pt x="977" y="161"/>
                </a:lnTo>
                <a:lnTo>
                  <a:pt x="960" y="165"/>
                </a:lnTo>
                <a:lnTo>
                  <a:pt x="941" y="167"/>
                </a:lnTo>
                <a:lnTo>
                  <a:pt x="922" y="171"/>
                </a:lnTo>
                <a:lnTo>
                  <a:pt x="901" y="175"/>
                </a:lnTo>
                <a:lnTo>
                  <a:pt x="877" y="180"/>
                </a:lnTo>
                <a:lnTo>
                  <a:pt x="854" y="184"/>
                </a:lnTo>
                <a:lnTo>
                  <a:pt x="831" y="190"/>
                </a:lnTo>
                <a:lnTo>
                  <a:pt x="732" y="209"/>
                </a:lnTo>
                <a:lnTo>
                  <a:pt x="682" y="219"/>
                </a:lnTo>
                <a:lnTo>
                  <a:pt x="632" y="226"/>
                </a:lnTo>
                <a:lnTo>
                  <a:pt x="582" y="236"/>
                </a:lnTo>
                <a:lnTo>
                  <a:pt x="534" y="242"/>
                </a:lnTo>
                <a:lnTo>
                  <a:pt x="484" y="249"/>
                </a:lnTo>
                <a:lnTo>
                  <a:pt x="434" y="255"/>
                </a:lnTo>
                <a:lnTo>
                  <a:pt x="409" y="259"/>
                </a:lnTo>
                <a:lnTo>
                  <a:pt x="386" y="265"/>
                </a:lnTo>
                <a:lnTo>
                  <a:pt x="365" y="269"/>
                </a:lnTo>
                <a:lnTo>
                  <a:pt x="344" y="272"/>
                </a:lnTo>
                <a:lnTo>
                  <a:pt x="325" y="276"/>
                </a:lnTo>
                <a:lnTo>
                  <a:pt x="305" y="278"/>
                </a:lnTo>
                <a:lnTo>
                  <a:pt x="288" y="282"/>
                </a:lnTo>
                <a:lnTo>
                  <a:pt x="273" y="284"/>
                </a:lnTo>
                <a:lnTo>
                  <a:pt x="258" y="288"/>
                </a:lnTo>
                <a:lnTo>
                  <a:pt x="246" y="290"/>
                </a:lnTo>
                <a:lnTo>
                  <a:pt x="233" y="292"/>
                </a:lnTo>
                <a:lnTo>
                  <a:pt x="223" y="292"/>
                </a:lnTo>
                <a:lnTo>
                  <a:pt x="213" y="294"/>
                </a:lnTo>
                <a:lnTo>
                  <a:pt x="206" y="294"/>
                </a:lnTo>
                <a:lnTo>
                  <a:pt x="198" y="294"/>
                </a:lnTo>
                <a:lnTo>
                  <a:pt x="194" y="296"/>
                </a:lnTo>
                <a:lnTo>
                  <a:pt x="183" y="294"/>
                </a:lnTo>
                <a:lnTo>
                  <a:pt x="173" y="292"/>
                </a:lnTo>
                <a:lnTo>
                  <a:pt x="162" y="290"/>
                </a:lnTo>
                <a:lnTo>
                  <a:pt x="148" y="284"/>
                </a:lnTo>
                <a:lnTo>
                  <a:pt x="135" y="278"/>
                </a:lnTo>
                <a:lnTo>
                  <a:pt x="119" y="272"/>
                </a:lnTo>
                <a:lnTo>
                  <a:pt x="102" y="265"/>
                </a:lnTo>
                <a:lnTo>
                  <a:pt x="85" y="255"/>
                </a:lnTo>
                <a:lnTo>
                  <a:pt x="73" y="251"/>
                </a:lnTo>
                <a:lnTo>
                  <a:pt x="64" y="249"/>
                </a:lnTo>
                <a:lnTo>
                  <a:pt x="54" y="246"/>
                </a:lnTo>
                <a:lnTo>
                  <a:pt x="46" y="242"/>
                </a:lnTo>
                <a:lnTo>
                  <a:pt x="39" y="238"/>
                </a:lnTo>
                <a:lnTo>
                  <a:pt x="31" y="234"/>
                </a:lnTo>
                <a:lnTo>
                  <a:pt x="25" y="230"/>
                </a:lnTo>
                <a:lnTo>
                  <a:pt x="20" y="226"/>
                </a:lnTo>
                <a:lnTo>
                  <a:pt x="16" y="223"/>
                </a:lnTo>
                <a:lnTo>
                  <a:pt x="12" y="219"/>
                </a:lnTo>
                <a:lnTo>
                  <a:pt x="8" y="213"/>
                </a:lnTo>
                <a:lnTo>
                  <a:pt x="6" y="209"/>
                </a:lnTo>
                <a:lnTo>
                  <a:pt x="2" y="203"/>
                </a:lnTo>
                <a:lnTo>
                  <a:pt x="2" y="200"/>
                </a:lnTo>
                <a:lnTo>
                  <a:pt x="0" y="194"/>
                </a:lnTo>
                <a:lnTo>
                  <a:pt x="0" y="190"/>
                </a:lnTo>
                <a:lnTo>
                  <a:pt x="20" y="184"/>
                </a:lnTo>
                <a:lnTo>
                  <a:pt x="39" y="180"/>
                </a:lnTo>
                <a:lnTo>
                  <a:pt x="60" y="178"/>
                </a:lnTo>
                <a:lnTo>
                  <a:pt x="81" y="177"/>
                </a:lnTo>
                <a:lnTo>
                  <a:pt x="104" y="173"/>
                </a:lnTo>
                <a:lnTo>
                  <a:pt x="129" y="171"/>
                </a:lnTo>
                <a:lnTo>
                  <a:pt x="154" y="167"/>
                </a:lnTo>
                <a:lnTo>
                  <a:pt x="181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98"/>
          <p:cNvSpPr/>
          <p:nvPr/>
        </p:nvSpPr>
        <p:spPr>
          <a:xfrm>
            <a:off x="6426360" y="3262320"/>
            <a:ext cx="927000" cy="709560"/>
          </a:xfrm>
          <a:custGeom>
            <a:avLst/>
            <a:gdLst/>
            <a:ahLst/>
            <a:rect l="l" t="t" r="r" b="b"/>
            <a:pathLst>
              <a:path w="1169" h="894">
                <a:moveTo>
                  <a:pt x="603" y="501"/>
                </a:moveTo>
                <a:lnTo>
                  <a:pt x="629" y="478"/>
                </a:lnTo>
                <a:lnTo>
                  <a:pt x="654" y="457"/>
                </a:lnTo>
                <a:lnTo>
                  <a:pt x="679" y="435"/>
                </a:lnTo>
                <a:lnTo>
                  <a:pt x="702" y="416"/>
                </a:lnTo>
                <a:lnTo>
                  <a:pt x="723" y="395"/>
                </a:lnTo>
                <a:lnTo>
                  <a:pt x="745" y="376"/>
                </a:lnTo>
                <a:lnTo>
                  <a:pt x="766" y="359"/>
                </a:lnTo>
                <a:lnTo>
                  <a:pt x="785" y="339"/>
                </a:lnTo>
                <a:lnTo>
                  <a:pt x="802" y="322"/>
                </a:lnTo>
                <a:lnTo>
                  <a:pt x="819" y="305"/>
                </a:lnTo>
                <a:lnTo>
                  <a:pt x="837" y="290"/>
                </a:lnTo>
                <a:lnTo>
                  <a:pt x="852" y="272"/>
                </a:lnTo>
                <a:lnTo>
                  <a:pt x="865" y="257"/>
                </a:lnTo>
                <a:lnTo>
                  <a:pt x="879" y="240"/>
                </a:lnTo>
                <a:lnTo>
                  <a:pt x="892" y="224"/>
                </a:lnTo>
                <a:lnTo>
                  <a:pt x="904" y="211"/>
                </a:lnTo>
                <a:lnTo>
                  <a:pt x="913" y="195"/>
                </a:lnTo>
                <a:lnTo>
                  <a:pt x="925" y="182"/>
                </a:lnTo>
                <a:lnTo>
                  <a:pt x="933" y="169"/>
                </a:lnTo>
                <a:lnTo>
                  <a:pt x="942" y="155"/>
                </a:lnTo>
                <a:lnTo>
                  <a:pt x="948" y="144"/>
                </a:lnTo>
                <a:lnTo>
                  <a:pt x="956" y="132"/>
                </a:lnTo>
                <a:lnTo>
                  <a:pt x="961" y="121"/>
                </a:lnTo>
                <a:lnTo>
                  <a:pt x="967" y="111"/>
                </a:lnTo>
                <a:lnTo>
                  <a:pt x="971" y="101"/>
                </a:lnTo>
                <a:lnTo>
                  <a:pt x="973" y="92"/>
                </a:lnTo>
                <a:lnTo>
                  <a:pt x="977" y="84"/>
                </a:lnTo>
                <a:lnTo>
                  <a:pt x="979" y="76"/>
                </a:lnTo>
                <a:lnTo>
                  <a:pt x="979" y="69"/>
                </a:lnTo>
                <a:lnTo>
                  <a:pt x="979" y="63"/>
                </a:lnTo>
                <a:lnTo>
                  <a:pt x="977" y="57"/>
                </a:lnTo>
                <a:lnTo>
                  <a:pt x="977" y="51"/>
                </a:lnTo>
                <a:lnTo>
                  <a:pt x="973" y="48"/>
                </a:lnTo>
                <a:lnTo>
                  <a:pt x="973" y="42"/>
                </a:lnTo>
                <a:lnTo>
                  <a:pt x="971" y="38"/>
                </a:lnTo>
                <a:lnTo>
                  <a:pt x="971" y="34"/>
                </a:lnTo>
                <a:lnTo>
                  <a:pt x="971" y="30"/>
                </a:lnTo>
                <a:lnTo>
                  <a:pt x="971" y="27"/>
                </a:lnTo>
                <a:lnTo>
                  <a:pt x="975" y="21"/>
                </a:lnTo>
                <a:lnTo>
                  <a:pt x="979" y="15"/>
                </a:lnTo>
                <a:lnTo>
                  <a:pt x="984" y="9"/>
                </a:lnTo>
                <a:lnTo>
                  <a:pt x="992" y="4"/>
                </a:lnTo>
                <a:lnTo>
                  <a:pt x="1000" y="0"/>
                </a:lnTo>
                <a:lnTo>
                  <a:pt x="1002" y="0"/>
                </a:lnTo>
                <a:lnTo>
                  <a:pt x="1006" y="0"/>
                </a:lnTo>
                <a:lnTo>
                  <a:pt x="1009" y="2"/>
                </a:lnTo>
                <a:lnTo>
                  <a:pt x="1013" y="2"/>
                </a:lnTo>
                <a:lnTo>
                  <a:pt x="1017" y="4"/>
                </a:lnTo>
                <a:lnTo>
                  <a:pt x="1023" y="5"/>
                </a:lnTo>
                <a:lnTo>
                  <a:pt x="1034" y="11"/>
                </a:lnTo>
                <a:lnTo>
                  <a:pt x="1040" y="13"/>
                </a:lnTo>
                <a:lnTo>
                  <a:pt x="1048" y="17"/>
                </a:lnTo>
                <a:lnTo>
                  <a:pt x="1055" y="23"/>
                </a:lnTo>
                <a:lnTo>
                  <a:pt x="1063" y="27"/>
                </a:lnTo>
                <a:lnTo>
                  <a:pt x="1071" y="32"/>
                </a:lnTo>
                <a:lnTo>
                  <a:pt x="1079" y="38"/>
                </a:lnTo>
                <a:lnTo>
                  <a:pt x="1088" y="46"/>
                </a:lnTo>
                <a:lnTo>
                  <a:pt x="1096" y="51"/>
                </a:lnTo>
                <a:lnTo>
                  <a:pt x="1109" y="67"/>
                </a:lnTo>
                <a:lnTo>
                  <a:pt x="1121" y="82"/>
                </a:lnTo>
                <a:lnTo>
                  <a:pt x="1132" y="96"/>
                </a:lnTo>
                <a:lnTo>
                  <a:pt x="1142" y="109"/>
                </a:lnTo>
                <a:lnTo>
                  <a:pt x="1150" y="123"/>
                </a:lnTo>
                <a:lnTo>
                  <a:pt x="1157" y="136"/>
                </a:lnTo>
                <a:lnTo>
                  <a:pt x="1163" y="147"/>
                </a:lnTo>
                <a:lnTo>
                  <a:pt x="1169" y="157"/>
                </a:lnTo>
                <a:lnTo>
                  <a:pt x="1169" y="161"/>
                </a:lnTo>
                <a:lnTo>
                  <a:pt x="1167" y="165"/>
                </a:lnTo>
                <a:lnTo>
                  <a:pt x="1165" y="171"/>
                </a:lnTo>
                <a:lnTo>
                  <a:pt x="1163" y="174"/>
                </a:lnTo>
                <a:lnTo>
                  <a:pt x="1161" y="180"/>
                </a:lnTo>
                <a:lnTo>
                  <a:pt x="1157" y="186"/>
                </a:lnTo>
                <a:lnTo>
                  <a:pt x="1153" y="192"/>
                </a:lnTo>
                <a:lnTo>
                  <a:pt x="1150" y="197"/>
                </a:lnTo>
                <a:lnTo>
                  <a:pt x="1146" y="203"/>
                </a:lnTo>
                <a:lnTo>
                  <a:pt x="1140" y="211"/>
                </a:lnTo>
                <a:lnTo>
                  <a:pt x="1134" y="217"/>
                </a:lnTo>
                <a:lnTo>
                  <a:pt x="1127" y="224"/>
                </a:lnTo>
                <a:lnTo>
                  <a:pt x="1121" y="232"/>
                </a:lnTo>
                <a:lnTo>
                  <a:pt x="1113" y="242"/>
                </a:lnTo>
                <a:lnTo>
                  <a:pt x="1103" y="249"/>
                </a:lnTo>
                <a:lnTo>
                  <a:pt x="1096" y="259"/>
                </a:lnTo>
                <a:lnTo>
                  <a:pt x="1086" y="268"/>
                </a:lnTo>
                <a:lnTo>
                  <a:pt x="1077" y="278"/>
                </a:lnTo>
                <a:lnTo>
                  <a:pt x="1065" y="288"/>
                </a:lnTo>
                <a:lnTo>
                  <a:pt x="1055" y="299"/>
                </a:lnTo>
                <a:lnTo>
                  <a:pt x="1044" y="311"/>
                </a:lnTo>
                <a:lnTo>
                  <a:pt x="1031" y="322"/>
                </a:lnTo>
                <a:lnTo>
                  <a:pt x="1019" y="334"/>
                </a:lnTo>
                <a:lnTo>
                  <a:pt x="1006" y="345"/>
                </a:lnTo>
                <a:lnTo>
                  <a:pt x="992" y="359"/>
                </a:lnTo>
                <a:lnTo>
                  <a:pt x="977" y="372"/>
                </a:lnTo>
                <a:lnTo>
                  <a:pt x="961" y="385"/>
                </a:lnTo>
                <a:lnTo>
                  <a:pt x="946" y="399"/>
                </a:lnTo>
                <a:lnTo>
                  <a:pt x="931" y="414"/>
                </a:lnTo>
                <a:lnTo>
                  <a:pt x="913" y="430"/>
                </a:lnTo>
                <a:lnTo>
                  <a:pt x="896" y="445"/>
                </a:lnTo>
                <a:lnTo>
                  <a:pt x="879" y="460"/>
                </a:lnTo>
                <a:lnTo>
                  <a:pt x="841" y="493"/>
                </a:lnTo>
                <a:lnTo>
                  <a:pt x="804" y="524"/>
                </a:lnTo>
                <a:lnTo>
                  <a:pt x="766" y="552"/>
                </a:lnTo>
                <a:lnTo>
                  <a:pt x="729" y="579"/>
                </a:lnTo>
                <a:lnTo>
                  <a:pt x="691" y="606"/>
                </a:lnTo>
                <a:lnTo>
                  <a:pt x="654" y="631"/>
                </a:lnTo>
                <a:lnTo>
                  <a:pt x="618" y="656"/>
                </a:lnTo>
                <a:lnTo>
                  <a:pt x="581" y="679"/>
                </a:lnTo>
                <a:lnTo>
                  <a:pt x="545" y="700"/>
                </a:lnTo>
                <a:lnTo>
                  <a:pt x="510" y="719"/>
                </a:lnTo>
                <a:lnTo>
                  <a:pt x="474" y="739"/>
                </a:lnTo>
                <a:lnTo>
                  <a:pt x="439" y="758"/>
                </a:lnTo>
                <a:lnTo>
                  <a:pt x="405" y="773"/>
                </a:lnTo>
                <a:lnTo>
                  <a:pt x="370" y="789"/>
                </a:lnTo>
                <a:lnTo>
                  <a:pt x="336" y="804"/>
                </a:lnTo>
                <a:lnTo>
                  <a:pt x="301" y="817"/>
                </a:lnTo>
                <a:lnTo>
                  <a:pt x="284" y="823"/>
                </a:lnTo>
                <a:lnTo>
                  <a:pt x="267" y="829"/>
                </a:lnTo>
                <a:lnTo>
                  <a:pt x="249" y="835"/>
                </a:lnTo>
                <a:lnTo>
                  <a:pt x="234" y="840"/>
                </a:lnTo>
                <a:lnTo>
                  <a:pt x="219" y="846"/>
                </a:lnTo>
                <a:lnTo>
                  <a:pt x="203" y="850"/>
                </a:lnTo>
                <a:lnTo>
                  <a:pt x="190" y="856"/>
                </a:lnTo>
                <a:lnTo>
                  <a:pt x="174" y="860"/>
                </a:lnTo>
                <a:lnTo>
                  <a:pt x="161" y="863"/>
                </a:lnTo>
                <a:lnTo>
                  <a:pt x="150" y="867"/>
                </a:lnTo>
                <a:lnTo>
                  <a:pt x="136" y="871"/>
                </a:lnTo>
                <a:lnTo>
                  <a:pt x="125" y="875"/>
                </a:lnTo>
                <a:lnTo>
                  <a:pt x="113" y="877"/>
                </a:lnTo>
                <a:lnTo>
                  <a:pt x="103" y="881"/>
                </a:lnTo>
                <a:lnTo>
                  <a:pt x="94" y="883"/>
                </a:lnTo>
                <a:lnTo>
                  <a:pt x="84" y="885"/>
                </a:lnTo>
                <a:lnTo>
                  <a:pt x="75" y="886"/>
                </a:lnTo>
                <a:lnTo>
                  <a:pt x="65" y="888"/>
                </a:lnTo>
                <a:lnTo>
                  <a:pt x="57" y="890"/>
                </a:lnTo>
                <a:lnTo>
                  <a:pt x="50" y="892"/>
                </a:lnTo>
                <a:lnTo>
                  <a:pt x="44" y="892"/>
                </a:lnTo>
                <a:lnTo>
                  <a:pt x="36" y="892"/>
                </a:lnTo>
                <a:lnTo>
                  <a:pt x="31" y="894"/>
                </a:lnTo>
                <a:lnTo>
                  <a:pt x="25" y="894"/>
                </a:lnTo>
                <a:lnTo>
                  <a:pt x="21" y="892"/>
                </a:lnTo>
                <a:lnTo>
                  <a:pt x="17" y="892"/>
                </a:lnTo>
                <a:lnTo>
                  <a:pt x="13" y="892"/>
                </a:lnTo>
                <a:lnTo>
                  <a:pt x="9" y="890"/>
                </a:lnTo>
                <a:lnTo>
                  <a:pt x="6" y="888"/>
                </a:lnTo>
                <a:lnTo>
                  <a:pt x="4" y="888"/>
                </a:lnTo>
                <a:lnTo>
                  <a:pt x="2" y="885"/>
                </a:lnTo>
                <a:lnTo>
                  <a:pt x="2" y="883"/>
                </a:lnTo>
                <a:lnTo>
                  <a:pt x="0" y="883"/>
                </a:lnTo>
                <a:lnTo>
                  <a:pt x="0" y="881"/>
                </a:lnTo>
                <a:lnTo>
                  <a:pt x="0" y="879"/>
                </a:lnTo>
                <a:lnTo>
                  <a:pt x="0" y="877"/>
                </a:lnTo>
                <a:lnTo>
                  <a:pt x="4" y="871"/>
                </a:lnTo>
                <a:lnTo>
                  <a:pt x="7" y="865"/>
                </a:lnTo>
                <a:lnTo>
                  <a:pt x="13" y="860"/>
                </a:lnTo>
                <a:lnTo>
                  <a:pt x="21" y="854"/>
                </a:lnTo>
                <a:lnTo>
                  <a:pt x="31" y="846"/>
                </a:lnTo>
                <a:lnTo>
                  <a:pt x="44" y="837"/>
                </a:lnTo>
                <a:lnTo>
                  <a:pt x="55" y="829"/>
                </a:lnTo>
                <a:lnTo>
                  <a:pt x="71" y="819"/>
                </a:lnTo>
                <a:lnTo>
                  <a:pt x="88" y="808"/>
                </a:lnTo>
                <a:lnTo>
                  <a:pt x="105" y="798"/>
                </a:lnTo>
                <a:lnTo>
                  <a:pt x="125" y="787"/>
                </a:lnTo>
                <a:lnTo>
                  <a:pt x="146" y="775"/>
                </a:lnTo>
                <a:lnTo>
                  <a:pt x="169" y="764"/>
                </a:lnTo>
                <a:lnTo>
                  <a:pt x="194" y="752"/>
                </a:lnTo>
                <a:lnTo>
                  <a:pt x="244" y="725"/>
                </a:lnTo>
                <a:lnTo>
                  <a:pt x="293" y="698"/>
                </a:lnTo>
                <a:lnTo>
                  <a:pt x="345" y="670"/>
                </a:lnTo>
                <a:lnTo>
                  <a:pt x="397" y="641"/>
                </a:lnTo>
                <a:lnTo>
                  <a:pt x="424" y="625"/>
                </a:lnTo>
                <a:lnTo>
                  <a:pt x="451" y="608"/>
                </a:lnTo>
                <a:lnTo>
                  <a:pt x="476" y="593"/>
                </a:lnTo>
                <a:lnTo>
                  <a:pt x="501" y="576"/>
                </a:lnTo>
                <a:lnTo>
                  <a:pt x="528" y="558"/>
                </a:lnTo>
                <a:lnTo>
                  <a:pt x="553" y="539"/>
                </a:lnTo>
                <a:lnTo>
                  <a:pt x="578" y="520"/>
                </a:lnTo>
                <a:lnTo>
                  <a:pt x="603" y="5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99"/>
          <p:cNvSpPr/>
          <p:nvPr/>
        </p:nvSpPr>
        <p:spPr>
          <a:xfrm>
            <a:off x="6454800" y="3032280"/>
            <a:ext cx="869760" cy="388800"/>
          </a:xfrm>
          <a:custGeom>
            <a:avLst/>
            <a:gdLst/>
            <a:ahLst/>
            <a:rect l="l" t="t" r="r" b="b"/>
            <a:pathLst>
              <a:path w="1096" h="489">
                <a:moveTo>
                  <a:pt x="0" y="395"/>
                </a:moveTo>
                <a:lnTo>
                  <a:pt x="56" y="370"/>
                </a:lnTo>
                <a:lnTo>
                  <a:pt x="110" y="345"/>
                </a:lnTo>
                <a:lnTo>
                  <a:pt x="163" y="322"/>
                </a:lnTo>
                <a:lnTo>
                  <a:pt x="213" y="301"/>
                </a:lnTo>
                <a:lnTo>
                  <a:pt x="263" y="278"/>
                </a:lnTo>
                <a:lnTo>
                  <a:pt x="311" y="259"/>
                </a:lnTo>
                <a:lnTo>
                  <a:pt x="357" y="238"/>
                </a:lnTo>
                <a:lnTo>
                  <a:pt x="401" y="219"/>
                </a:lnTo>
                <a:lnTo>
                  <a:pt x="446" y="201"/>
                </a:lnTo>
                <a:lnTo>
                  <a:pt x="486" y="184"/>
                </a:lnTo>
                <a:lnTo>
                  <a:pt x="526" y="167"/>
                </a:lnTo>
                <a:lnTo>
                  <a:pt x="565" y="151"/>
                </a:lnTo>
                <a:lnTo>
                  <a:pt x="601" y="136"/>
                </a:lnTo>
                <a:lnTo>
                  <a:pt x="638" y="123"/>
                </a:lnTo>
                <a:lnTo>
                  <a:pt x="670" y="109"/>
                </a:lnTo>
                <a:lnTo>
                  <a:pt x="703" y="96"/>
                </a:lnTo>
                <a:lnTo>
                  <a:pt x="733" y="84"/>
                </a:lnTo>
                <a:lnTo>
                  <a:pt x="762" y="73"/>
                </a:lnTo>
                <a:lnTo>
                  <a:pt x="789" y="63"/>
                </a:lnTo>
                <a:lnTo>
                  <a:pt x="816" y="54"/>
                </a:lnTo>
                <a:lnTo>
                  <a:pt x="839" y="44"/>
                </a:lnTo>
                <a:lnTo>
                  <a:pt x="862" y="36"/>
                </a:lnTo>
                <a:lnTo>
                  <a:pt x="883" y="29"/>
                </a:lnTo>
                <a:lnTo>
                  <a:pt x="902" y="23"/>
                </a:lnTo>
                <a:lnTo>
                  <a:pt x="920" y="17"/>
                </a:lnTo>
                <a:lnTo>
                  <a:pt x="937" y="13"/>
                </a:lnTo>
                <a:lnTo>
                  <a:pt x="952" y="8"/>
                </a:lnTo>
                <a:lnTo>
                  <a:pt x="964" y="6"/>
                </a:lnTo>
                <a:lnTo>
                  <a:pt x="975" y="2"/>
                </a:lnTo>
                <a:lnTo>
                  <a:pt x="985" y="0"/>
                </a:lnTo>
                <a:lnTo>
                  <a:pt x="993" y="0"/>
                </a:lnTo>
                <a:lnTo>
                  <a:pt x="1000" y="0"/>
                </a:lnTo>
                <a:lnTo>
                  <a:pt x="1010" y="2"/>
                </a:lnTo>
                <a:lnTo>
                  <a:pt x="1021" y="4"/>
                </a:lnTo>
                <a:lnTo>
                  <a:pt x="1031" y="6"/>
                </a:lnTo>
                <a:lnTo>
                  <a:pt x="1041" y="9"/>
                </a:lnTo>
                <a:lnTo>
                  <a:pt x="1048" y="11"/>
                </a:lnTo>
                <a:lnTo>
                  <a:pt x="1056" y="15"/>
                </a:lnTo>
                <a:lnTo>
                  <a:pt x="1064" y="17"/>
                </a:lnTo>
                <a:lnTo>
                  <a:pt x="1071" y="21"/>
                </a:lnTo>
                <a:lnTo>
                  <a:pt x="1077" y="23"/>
                </a:lnTo>
                <a:lnTo>
                  <a:pt x="1081" y="27"/>
                </a:lnTo>
                <a:lnTo>
                  <a:pt x="1087" y="31"/>
                </a:lnTo>
                <a:lnTo>
                  <a:pt x="1091" y="34"/>
                </a:lnTo>
                <a:lnTo>
                  <a:pt x="1092" y="38"/>
                </a:lnTo>
                <a:lnTo>
                  <a:pt x="1094" y="42"/>
                </a:lnTo>
                <a:lnTo>
                  <a:pt x="1096" y="48"/>
                </a:lnTo>
                <a:lnTo>
                  <a:pt x="1096" y="52"/>
                </a:lnTo>
                <a:lnTo>
                  <a:pt x="1096" y="55"/>
                </a:lnTo>
                <a:lnTo>
                  <a:pt x="1094" y="59"/>
                </a:lnTo>
                <a:lnTo>
                  <a:pt x="1092" y="63"/>
                </a:lnTo>
                <a:lnTo>
                  <a:pt x="1089" y="69"/>
                </a:lnTo>
                <a:lnTo>
                  <a:pt x="1085" y="73"/>
                </a:lnTo>
                <a:lnTo>
                  <a:pt x="1079" y="79"/>
                </a:lnTo>
                <a:lnTo>
                  <a:pt x="1073" y="82"/>
                </a:lnTo>
                <a:lnTo>
                  <a:pt x="1067" y="88"/>
                </a:lnTo>
                <a:lnTo>
                  <a:pt x="1058" y="94"/>
                </a:lnTo>
                <a:lnTo>
                  <a:pt x="1050" y="100"/>
                </a:lnTo>
                <a:lnTo>
                  <a:pt x="1041" y="107"/>
                </a:lnTo>
                <a:lnTo>
                  <a:pt x="1029" y="113"/>
                </a:lnTo>
                <a:lnTo>
                  <a:pt x="1018" y="119"/>
                </a:lnTo>
                <a:lnTo>
                  <a:pt x="1006" y="127"/>
                </a:lnTo>
                <a:lnTo>
                  <a:pt x="991" y="134"/>
                </a:lnTo>
                <a:lnTo>
                  <a:pt x="977" y="142"/>
                </a:lnTo>
                <a:lnTo>
                  <a:pt x="962" y="150"/>
                </a:lnTo>
                <a:lnTo>
                  <a:pt x="945" y="157"/>
                </a:lnTo>
                <a:lnTo>
                  <a:pt x="927" y="165"/>
                </a:lnTo>
                <a:lnTo>
                  <a:pt x="910" y="174"/>
                </a:lnTo>
                <a:lnTo>
                  <a:pt x="891" y="184"/>
                </a:lnTo>
                <a:lnTo>
                  <a:pt x="870" y="192"/>
                </a:lnTo>
                <a:lnTo>
                  <a:pt x="849" y="201"/>
                </a:lnTo>
                <a:lnTo>
                  <a:pt x="828" y="211"/>
                </a:lnTo>
                <a:lnTo>
                  <a:pt x="803" y="222"/>
                </a:lnTo>
                <a:lnTo>
                  <a:pt x="780" y="232"/>
                </a:lnTo>
                <a:lnTo>
                  <a:pt x="755" y="244"/>
                </a:lnTo>
                <a:lnTo>
                  <a:pt x="728" y="255"/>
                </a:lnTo>
                <a:lnTo>
                  <a:pt x="701" y="267"/>
                </a:lnTo>
                <a:lnTo>
                  <a:pt x="674" y="278"/>
                </a:lnTo>
                <a:lnTo>
                  <a:pt x="645" y="290"/>
                </a:lnTo>
                <a:lnTo>
                  <a:pt x="614" y="303"/>
                </a:lnTo>
                <a:lnTo>
                  <a:pt x="584" y="315"/>
                </a:lnTo>
                <a:lnTo>
                  <a:pt x="555" y="326"/>
                </a:lnTo>
                <a:lnTo>
                  <a:pt x="528" y="338"/>
                </a:lnTo>
                <a:lnTo>
                  <a:pt x="499" y="349"/>
                </a:lnTo>
                <a:lnTo>
                  <a:pt x="472" y="361"/>
                </a:lnTo>
                <a:lnTo>
                  <a:pt x="448" y="370"/>
                </a:lnTo>
                <a:lnTo>
                  <a:pt x="423" y="380"/>
                </a:lnTo>
                <a:lnTo>
                  <a:pt x="398" y="389"/>
                </a:lnTo>
                <a:lnTo>
                  <a:pt x="375" y="399"/>
                </a:lnTo>
                <a:lnTo>
                  <a:pt x="353" y="407"/>
                </a:lnTo>
                <a:lnTo>
                  <a:pt x="332" y="416"/>
                </a:lnTo>
                <a:lnTo>
                  <a:pt x="311" y="424"/>
                </a:lnTo>
                <a:lnTo>
                  <a:pt x="292" y="430"/>
                </a:lnTo>
                <a:lnTo>
                  <a:pt x="273" y="437"/>
                </a:lnTo>
                <a:lnTo>
                  <a:pt x="254" y="443"/>
                </a:lnTo>
                <a:lnTo>
                  <a:pt x="236" y="451"/>
                </a:lnTo>
                <a:lnTo>
                  <a:pt x="221" y="455"/>
                </a:lnTo>
                <a:lnTo>
                  <a:pt x="206" y="461"/>
                </a:lnTo>
                <a:lnTo>
                  <a:pt x="190" y="466"/>
                </a:lnTo>
                <a:lnTo>
                  <a:pt x="177" y="470"/>
                </a:lnTo>
                <a:lnTo>
                  <a:pt x="165" y="474"/>
                </a:lnTo>
                <a:lnTo>
                  <a:pt x="154" y="478"/>
                </a:lnTo>
                <a:lnTo>
                  <a:pt x="142" y="480"/>
                </a:lnTo>
                <a:lnTo>
                  <a:pt x="133" y="484"/>
                </a:lnTo>
                <a:lnTo>
                  <a:pt x="123" y="485"/>
                </a:lnTo>
                <a:lnTo>
                  <a:pt x="115" y="485"/>
                </a:lnTo>
                <a:lnTo>
                  <a:pt x="108" y="487"/>
                </a:lnTo>
                <a:lnTo>
                  <a:pt x="102" y="489"/>
                </a:lnTo>
                <a:lnTo>
                  <a:pt x="96" y="489"/>
                </a:lnTo>
                <a:lnTo>
                  <a:pt x="90" y="489"/>
                </a:lnTo>
                <a:lnTo>
                  <a:pt x="87" y="487"/>
                </a:lnTo>
                <a:lnTo>
                  <a:pt x="85" y="487"/>
                </a:lnTo>
                <a:lnTo>
                  <a:pt x="71" y="482"/>
                </a:lnTo>
                <a:lnTo>
                  <a:pt x="60" y="474"/>
                </a:lnTo>
                <a:lnTo>
                  <a:pt x="48" y="466"/>
                </a:lnTo>
                <a:lnTo>
                  <a:pt x="39" y="455"/>
                </a:lnTo>
                <a:lnTo>
                  <a:pt x="33" y="449"/>
                </a:lnTo>
                <a:lnTo>
                  <a:pt x="29" y="443"/>
                </a:lnTo>
                <a:lnTo>
                  <a:pt x="23" y="437"/>
                </a:lnTo>
                <a:lnTo>
                  <a:pt x="19" y="430"/>
                </a:lnTo>
                <a:lnTo>
                  <a:pt x="14" y="422"/>
                </a:lnTo>
                <a:lnTo>
                  <a:pt x="10" y="413"/>
                </a:lnTo>
                <a:lnTo>
                  <a:pt x="6" y="405"/>
                </a:lnTo>
                <a:lnTo>
                  <a:pt x="0" y="3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100"/>
          <p:cNvSpPr/>
          <p:nvPr/>
        </p:nvSpPr>
        <p:spPr>
          <a:xfrm>
            <a:off x="6559560" y="2773440"/>
            <a:ext cx="1001880" cy="1243080"/>
          </a:xfrm>
          <a:custGeom>
            <a:avLst/>
            <a:gdLst/>
            <a:ahLst/>
            <a:rect l="l" t="t" r="r" b="b"/>
            <a:pathLst>
              <a:path w="1261" h="1566">
                <a:moveTo>
                  <a:pt x="1253" y="1485"/>
                </a:moveTo>
                <a:lnTo>
                  <a:pt x="1257" y="1495"/>
                </a:lnTo>
                <a:lnTo>
                  <a:pt x="1259" y="1504"/>
                </a:lnTo>
                <a:lnTo>
                  <a:pt x="1261" y="1512"/>
                </a:lnTo>
                <a:lnTo>
                  <a:pt x="1261" y="1520"/>
                </a:lnTo>
                <a:lnTo>
                  <a:pt x="1261" y="1527"/>
                </a:lnTo>
                <a:lnTo>
                  <a:pt x="1259" y="1533"/>
                </a:lnTo>
                <a:lnTo>
                  <a:pt x="1257" y="1539"/>
                </a:lnTo>
                <a:lnTo>
                  <a:pt x="1253" y="1545"/>
                </a:lnTo>
                <a:lnTo>
                  <a:pt x="1249" y="1550"/>
                </a:lnTo>
                <a:lnTo>
                  <a:pt x="1244" y="1554"/>
                </a:lnTo>
                <a:lnTo>
                  <a:pt x="1238" y="1556"/>
                </a:lnTo>
                <a:lnTo>
                  <a:pt x="1230" y="1560"/>
                </a:lnTo>
                <a:lnTo>
                  <a:pt x="1222" y="1562"/>
                </a:lnTo>
                <a:lnTo>
                  <a:pt x="1213" y="1564"/>
                </a:lnTo>
                <a:lnTo>
                  <a:pt x="1203" y="1564"/>
                </a:lnTo>
                <a:lnTo>
                  <a:pt x="1192" y="1566"/>
                </a:lnTo>
                <a:lnTo>
                  <a:pt x="1180" y="1564"/>
                </a:lnTo>
                <a:lnTo>
                  <a:pt x="1169" y="1564"/>
                </a:lnTo>
                <a:lnTo>
                  <a:pt x="1155" y="1562"/>
                </a:lnTo>
                <a:lnTo>
                  <a:pt x="1142" y="1560"/>
                </a:lnTo>
                <a:lnTo>
                  <a:pt x="1128" y="1558"/>
                </a:lnTo>
                <a:lnTo>
                  <a:pt x="1115" y="1554"/>
                </a:lnTo>
                <a:lnTo>
                  <a:pt x="1101" y="1550"/>
                </a:lnTo>
                <a:lnTo>
                  <a:pt x="1086" y="1547"/>
                </a:lnTo>
                <a:lnTo>
                  <a:pt x="1057" y="1537"/>
                </a:lnTo>
                <a:lnTo>
                  <a:pt x="1027" y="1525"/>
                </a:lnTo>
                <a:lnTo>
                  <a:pt x="994" y="1514"/>
                </a:lnTo>
                <a:lnTo>
                  <a:pt x="963" y="1499"/>
                </a:lnTo>
                <a:lnTo>
                  <a:pt x="946" y="1491"/>
                </a:lnTo>
                <a:lnTo>
                  <a:pt x="927" y="1483"/>
                </a:lnTo>
                <a:lnTo>
                  <a:pt x="908" y="1474"/>
                </a:lnTo>
                <a:lnTo>
                  <a:pt x="888" y="1464"/>
                </a:lnTo>
                <a:lnTo>
                  <a:pt x="869" y="1454"/>
                </a:lnTo>
                <a:lnTo>
                  <a:pt x="850" y="1443"/>
                </a:lnTo>
                <a:lnTo>
                  <a:pt x="831" y="1431"/>
                </a:lnTo>
                <a:lnTo>
                  <a:pt x="812" y="1420"/>
                </a:lnTo>
                <a:lnTo>
                  <a:pt x="791" y="1406"/>
                </a:lnTo>
                <a:lnTo>
                  <a:pt x="771" y="1395"/>
                </a:lnTo>
                <a:lnTo>
                  <a:pt x="750" y="1380"/>
                </a:lnTo>
                <a:lnTo>
                  <a:pt x="731" y="1366"/>
                </a:lnTo>
                <a:lnTo>
                  <a:pt x="710" y="1351"/>
                </a:lnTo>
                <a:lnTo>
                  <a:pt x="691" y="1335"/>
                </a:lnTo>
                <a:lnTo>
                  <a:pt x="670" y="1318"/>
                </a:lnTo>
                <a:lnTo>
                  <a:pt x="650" y="1301"/>
                </a:lnTo>
                <a:lnTo>
                  <a:pt x="627" y="1286"/>
                </a:lnTo>
                <a:lnTo>
                  <a:pt x="606" y="1268"/>
                </a:lnTo>
                <a:lnTo>
                  <a:pt x="585" y="1251"/>
                </a:lnTo>
                <a:lnTo>
                  <a:pt x="564" y="1234"/>
                </a:lnTo>
                <a:lnTo>
                  <a:pt x="545" y="1215"/>
                </a:lnTo>
                <a:lnTo>
                  <a:pt x="526" y="1195"/>
                </a:lnTo>
                <a:lnTo>
                  <a:pt x="506" y="1174"/>
                </a:lnTo>
                <a:lnTo>
                  <a:pt x="487" y="1153"/>
                </a:lnTo>
                <a:lnTo>
                  <a:pt x="470" y="1130"/>
                </a:lnTo>
                <a:lnTo>
                  <a:pt x="453" y="1107"/>
                </a:lnTo>
                <a:lnTo>
                  <a:pt x="435" y="1082"/>
                </a:lnTo>
                <a:lnTo>
                  <a:pt x="420" y="1057"/>
                </a:lnTo>
                <a:lnTo>
                  <a:pt x="405" y="1030"/>
                </a:lnTo>
                <a:lnTo>
                  <a:pt x="389" y="1003"/>
                </a:lnTo>
                <a:lnTo>
                  <a:pt x="376" y="975"/>
                </a:lnTo>
                <a:lnTo>
                  <a:pt x="362" y="946"/>
                </a:lnTo>
                <a:lnTo>
                  <a:pt x="347" y="917"/>
                </a:lnTo>
                <a:lnTo>
                  <a:pt x="332" y="888"/>
                </a:lnTo>
                <a:lnTo>
                  <a:pt x="316" y="859"/>
                </a:lnTo>
                <a:lnTo>
                  <a:pt x="303" y="829"/>
                </a:lnTo>
                <a:lnTo>
                  <a:pt x="290" y="798"/>
                </a:lnTo>
                <a:lnTo>
                  <a:pt x="276" y="765"/>
                </a:lnTo>
                <a:lnTo>
                  <a:pt x="265" y="733"/>
                </a:lnTo>
                <a:lnTo>
                  <a:pt x="251" y="700"/>
                </a:lnTo>
                <a:lnTo>
                  <a:pt x="240" y="667"/>
                </a:lnTo>
                <a:lnTo>
                  <a:pt x="228" y="633"/>
                </a:lnTo>
                <a:lnTo>
                  <a:pt x="219" y="598"/>
                </a:lnTo>
                <a:lnTo>
                  <a:pt x="207" y="562"/>
                </a:lnTo>
                <a:lnTo>
                  <a:pt x="188" y="491"/>
                </a:lnTo>
                <a:lnTo>
                  <a:pt x="169" y="418"/>
                </a:lnTo>
                <a:lnTo>
                  <a:pt x="163" y="399"/>
                </a:lnTo>
                <a:lnTo>
                  <a:pt x="157" y="381"/>
                </a:lnTo>
                <a:lnTo>
                  <a:pt x="153" y="364"/>
                </a:lnTo>
                <a:lnTo>
                  <a:pt x="148" y="347"/>
                </a:lnTo>
                <a:lnTo>
                  <a:pt x="142" y="332"/>
                </a:lnTo>
                <a:lnTo>
                  <a:pt x="138" y="316"/>
                </a:lnTo>
                <a:lnTo>
                  <a:pt x="132" y="301"/>
                </a:lnTo>
                <a:lnTo>
                  <a:pt x="128" y="286"/>
                </a:lnTo>
                <a:lnTo>
                  <a:pt x="124" y="272"/>
                </a:lnTo>
                <a:lnTo>
                  <a:pt x="119" y="259"/>
                </a:lnTo>
                <a:lnTo>
                  <a:pt x="115" y="245"/>
                </a:lnTo>
                <a:lnTo>
                  <a:pt x="111" y="234"/>
                </a:lnTo>
                <a:lnTo>
                  <a:pt x="107" y="222"/>
                </a:lnTo>
                <a:lnTo>
                  <a:pt x="103" y="211"/>
                </a:lnTo>
                <a:lnTo>
                  <a:pt x="100" y="199"/>
                </a:lnTo>
                <a:lnTo>
                  <a:pt x="96" y="190"/>
                </a:lnTo>
                <a:lnTo>
                  <a:pt x="92" y="180"/>
                </a:lnTo>
                <a:lnTo>
                  <a:pt x="88" y="170"/>
                </a:lnTo>
                <a:lnTo>
                  <a:pt x="84" y="163"/>
                </a:lnTo>
                <a:lnTo>
                  <a:pt x="82" y="155"/>
                </a:lnTo>
                <a:lnTo>
                  <a:pt x="78" y="147"/>
                </a:lnTo>
                <a:lnTo>
                  <a:pt x="75" y="140"/>
                </a:lnTo>
                <a:lnTo>
                  <a:pt x="73" y="134"/>
                </a:lnTo>
                <a:lnTo>
                  <a:pt x="69" y="128"/>
                </a:lnTo>
                <a:lnTo>
                  <a:pt x="67" y="122"/>
                </a:lnTo>
                <a:lnTo>
                  <a:pt x="63" y="117"/>
                </a:lnTo>
                <a:lnTo>
                  <a:pt x="61" y="113"/>
                </a:lnTo>
                <a:lnTo>
                  <a:pt x="57" y="109"/>
                </a:lnTo>
                <a:lnTo>
                  <a:pt x="55" y="107"/>
                </a:lnTo>
                <a:lnTo>
                  <a:pt x="53" y="103"/>
                </a:lnTo>
                <a:lnTo>
                  <a:pt x="50" y="101"/>
                </a:lnTo>
                <a:lnTo>
                  <a:pt x="48" y="101"/>
                </a:lnTo>
                <a:lnTo>
                  <a:pt x="42" y="97"/>
                </a:lnTo>
                <a:lnTo>
                  <a:pt x="36" y="95"/>
                </a:lnTo>
                <a:lnTo>
                  <a:pt x="30" y="92"/>
                </a:lnTo>
                <a:lnTo>
                  <a:pt x="25" y="88"/>
                </a:lnTo>
                <a:lnTo>
                  <a:pt x="21" y="84"/>
                </a:lnTo>
                <a:lnTo>
                  <a:pt x="17" y="80"/>
                </a:lnTo>
                <a:lnTo>
                  <a:pt x="11" y="71"/>
                </a:lnTo>
                <a:lnTo>
                  <a:pt x="5" y="61"/>
                </a:lnTo>
                <a:lnTo>
                  <a:pt x="4" y="48"/>
                </a:lnTo>
                <a:lnTo>
                  <a:pt x="2" y="36"/>
                </a:lnTo>
                <a:lnTo>
                  <a:pt x="0" y="21"/>
                </a:lnTo>
                <a:lnTo>
                  <a:pt x="0" y="17"/>
                </a:lnTo>
                <a:lnTo>
                  <a:pt x="2" y="13"/>
                </a:lnTo>
                <a:lnTo>
                  <a:pt x="4" y="9"/>
                </a:lnTo>
                <a:lnTo>
                  <a:pt x="7" y="5"/>
                </a:lnTo>
                <a:lnTo>
                  <a:pt x="11" y="3"/>
                </a:lnTo>
                <a:lnTo>
                  <a:pt x="17" y="1"/>
                </a:lnTo>
                <a:lnTo>
                  <a:pt x="23" y="1"/>
                </a:lnTo>
                <a:lnTo>
                  <a:pt x="29" y="0"/>
                </a:lnTo>
                <a:lnTo>
                  <a:pt x="36" y="0"/>
                </a:lnTo>
                <a:lnTo>
                  <a:pt x="46" y="0"/>
                </a:lnTo>
                <a:lnTo>
                  <a:pt x="55" y="0"/>
                </a:lnTo>
                <a:lnTo>
                  <a:pt x="67" y="1"/>
                </a:lnTo>
                <a:lnTo>
                  <a:pt x="78" y="1"/>
                </a:lnTo>
                <a:lnTo>
                  <a:pt x="92" y="3"/>
                </a:lnTo>
                <a:lnTo>
                  <a:pt x="105" y="5"/>
                </a:lnTo>
                <a:lnTo>
                  <a:pt x="121" y="9"/>
                </a:lnTo>
                <a:lnTo>
                  <a:pt x="134" y="13"/>
                </a:lnTo>
                <a:lnTo>
                  <a:pt x="148" y="19"/>
                </a:lnTo>
                <a:lnTo>
                  <a:pt x="159" y="23"/>
                </a:lnTo>
                <a:lnTo>
                  <a:pt x="171" y="28"/>
                </a:lnTo>
                <a:lnTo>
                  <a:pt x="182" y="32"/>
                </a:lnTo>
                <a:lnTo>
                  <a:pt x="192" y="38"/>
                </a:lnTo>
                <a:lnTo>
                  <a:pt x="201" y="44"/>
                </a:lnTo>
                <a:lnTo>
                  <a:pt x="211" y="48"/>
                </a:lnTo>
                <a:lnTo>
                  <a:pt x="220" y="53"/>
                </a:lnTo>
                <a:lnTo>
                  <a:pt x="228" y="57"/>
                </a:lnTo>
                <a:lnTo>
                  <a:pt x="236" y="63"/>
                </a:lnTo>
                <a:lnTo>
                  <a:pt x="243" y="67"/>
                </a:lnTo>
                <a:lnTo>
                  <a:pt x="249" y="72"/>
                </a:lnTo>
                <a:lnTo>
                  <a:pt x="255" y="78"/>
                </a:lnTo>
                <a:lnTo>
                  <a:pt x="261" y="82"/>
                </a:lnTo>
                <a:lnTo>
                  <a:pt x="265" y="88"/>
                </a:lnTo>
                <a:lnTo>
                  <a:pt x="267" y="94"/>
                </a:lnTo>
                <a:lnTo>
                  <a:pt x="270" y="99"/>
                </a:lnTo>
                <a:lnTo>
                  <a:pt x="272" y="105"/>
                </a:lnTo>
                <a:lnTo>
                  <a:pt x="274" y="113"/>
                </a:lnTo>
                <a:lnTo>
                  <a:pt x="276" y="119"/>
                </a:lnTo>
                <a:lnTo>
                  <a:pt x="278" y="128"/>
                </a:lnTo>
                <a:lnTo>
                  <a:pt x="280" y="136"/>
                </a:lnTo>
                <a:lnTo>
                  <a:pt x="282" y="145"/>
                </a:lnTo>
                <a:lnTo>
                  <a:pt x="284" y="165"/>
                </a:lnTo>
                <a:lnTo>
                  <a:pt x="288" y="186"/>
                </a:lnTo>
                <a:lnTo>
                  <a:pt x="288" y="209"/>
                </a:lnTo>
                <a:lnTo>
                  <a:pt x="290" y="232"/>
                </a:lnTo>
                <a:lnTo>
                  <a:pt x="290" y="245"/>
                </a:lnTo>
                <a:lnTo>
                  <a:pt x="290" y="259"/>
                </a:lnTo>
                <a:lnTo>
                  <a:pt x="291" y="276"/>
                </a:lnTo>
                <a:lnTo>
                  <a:pt x="293" y="291"/>
                </a:lnTo>
                <a:lnTo>
                  <a:pt x="297" y="310"/>
                </a:lnTo>
                <a:lnTo>
                  <a:pt x="301" y="330"/>
                </a:lnTo>
                <a:lnTo>
                  <a:pt x="305" y="349"/>
                </a:lnTo>
                <a:lnTo>
                  <a:pt x="309" y="370"/>
                </a:lnTo>
                <a:lnTo>
                  <a:pt x="315" y="393"/>
                </a:lnTo>
                <a:lnTo>
                  <a:pt x="320" y="418"/>
                </a:lnTo>
                <a:lnTo>
                  <a:pt x="328" y="443"/>
                </a:lnTo>
                <a:lnTo>
                  <a:pt x="336" y="470"/>
                </a:lnTo>
                <a:lnTo>
                  <a:pt x="343" y="499"/>
                </a:lnTo>
                <a:lnTo>
                  <a:pt x="353" y="527"/>
                </a:lnTo>
                <a:lnTo>
                  <a:pt x="362" y="558"/>
                </a:lnTo>
                <a:lnTo>
                  <a:pt x="374" y="589"/>
                </a:lnTo>
                <a:lnTo>
                  <a:pt x="382" y="621"/>
                </a:lnTo>
                <a:lnTo>
                  <a:pt x="391" y="652"/>
                </a:lnTo>
                <a:lnTo>
                  <a:pt x="401" y="681"/>
                </a:lnTo>
                <a:lnTo>
                  <a:pt x="412" y="710"/>
                </a:lnTo>
                <a:lnTo>
                  <a:pt x="422" y="739"/>
                </a:lnTo>
                <a:lnTo>
                  <a:pt x="434" y="765"/>
                </a:lnTo>
                <a:lnTo>
                  <a:pt x="445" y="790"/>
                </a:lnTo>
                <a:lnTo>
                  <a:pt x="457" y="815"/>
                </a:lnTo>
                <a:lnTo>
                  <a:pt x="468" y="840"/>
                </a:lnTo>
                <a:lnTo>
                  <a:pt x="481" y="863"/>
                </a:lnTo>
                <a:lnTo>
                  <a:pt x="493" y="886"/>
                </a:lnTo>
                <a:lnTo>
                  <a:pt x="506" y="907"/>
                </a:lnTo>
                <a:lnTo>
                  <a:pt x="522" y="929"/>
                </a:lnTo>
                <a:lnTo>
                  <a:pt x="535" y="948"/>
                </a:lnTo>
                <a:lnTo>
                  <a:pt x="551" y="967"/>
                </a:lnTo>
                <a:lnTo>
                  <a:pt x="566" y="984"/>
                </a:lnTo>
                <a:lnTo>
                  <a:pt x="579" y="1003"/>
                </a:lnTo>
                <a:lnTo>
                  <a:pt x="595" y="1023"/>
                </a:lnTo>
                <a:lnTo>
                  <a:pt x="608" y="1042"/>
                </a:lnTo>
                <a:lnTo>
                  <a:pt x="624" y="1061"/>
                </a:lnTo>
                <a:lnTo>
                  <a:pt x="641" y="1080"/>
                </a:lnTo>
                <a:lnTo>
                  <a:pt x="658" y="1097"/>
                </a:lnTo>
                <a:lnTo>
                  <a:pt x="675" y="1115"/>
                </a:lnTo>
                <a:lnTo>
                  <a:pt x="693" y="1132"/>
                </a:lnTo>
                <a:lnTo>
                  <a:pt x="712" y="1147"/>
                </a:lnTo>
                <a:lnTo>
                  <a:pt x="733" y="1163"/>
                </a:lnTo>
                <a:lnTo>
                  <a:pt x="752" y="1178"/>
                </a:lnTo>
                <a:lnTo>
                  <a:pt x="773" y="1193"/>
                </a:lnTo>
                <a:lnTo>
                  <a:pt x="796" y="1209"/>
                </a:lnTo>
                <a:lnTo>
                  <a:pt x="819" y="1222"/>
                </a:lnTo>
                <a:lnTo>
                  <a:pt x="842" y="1236"/>
                </a:lnTo>
                <a:lnTo>
                  <a:pt x="867" y="1249"/>
                </a:lnTo>
                <a:lnTo>
                  <a:pt x="888" y="1261"/>
                </a:lnTo>
                <a:lnTo>
                  <a:pt x="910" y="1272"/>
                </a:lnTo>
                <a:lnTo>
                  <a:pt x="929" y="1284"/>
                </a:lnTo>
                <a:lnTo>
                  <a:pt x="948" y="1293"/>
                </a:lnTo>
                <a:lnTo>
                  <a:pt x="965" y="1303"/>
                </a:lnTo>
                <a:lnTo>
                  <a:pt x="981" y="1311"/>
                </a:lnTo>
                <a:lnTo>
                  <a:pt x="996" y="1318"/>
                </a:lnTo>
                <a:lnTo>
                  <a:pt x="1009" y="1324"/>
                </a:lnTo>
                <a:lnTo>
                  <a:pt x="1023" y="1330"/>
                </a:lnTo>
                <a:lnTo>
                  <a:pt x="1032" y="1335"/>
                </a:lnTo>
                <a:lnTo>
                  <a:pt x="1044" y="1339"/>
                </a:lnTo>
                <a:lnTo>
                  <a:pt x="1052" y="1341"/>
                </a:lnTo>
                <a:lnTo>
                  <a:pt x="1059" y="1343"/>
                </a:lnTo>
                <a:lnTo>
                  <a:pt x="1065" y="1343"/>
                </a:lnTo>
                <a:lnTo>
                  <a:pt x="1069" y="1343"/>
                </a:lnTo>
                <a:lnTo>
                  <a:pt x="1073" y="1341"/>
                </a:lnTo>
                <a:lnTo>
                  <a:pt x="1075" y="1339"/>
                </a:lnTo>
                <a:lnTo>
                  <a:pt x="1077" y="1337"/>
                </a:lnTo>
                <a:lnTo>
                  <a:pt x="1080" y="1335"/>
                </a:lnTo>
                <a:lnTo>
                  <a:pt x="1082" y="1332"/>
                </a:lnTo>
                <a:lnTo>
                  <a:pt x="1086" y="1326"/>
                </a:lnTo>
                <a:lnTo>
                  <a:pt x="1090" y="1318"/>
                </a:lnTo>
                <a:lnTo>
                  <a:pt x="1094" y="1311"/>
                </a:lnTo>
                <a:lnTo>
                  <a:pt x="1100" y="1301"/>
                </a:lnTo>
                <a:lnTo>
                  <a:pt x="1103" y="1291"/>
                </a:lnTo>
                <a:lnTo>
                  <a:pt x="1109" y="1280"/>
                </a:lnTo>
                <a:lnTo>
                  <a:pt x="1113" y="1266"/>
                </a:lnTo>
                <a:lnTo>
                  <a:pt x="1119" y="1251"/>
                </a:lnTo>
                <a:lnTo>
                  <a:pt x="1125" y="1236"/>
                </a:lnTo>
                <a:lnTo>
                  <a:pt x="1130" y="1220"/>
                </a:lnTo>
                <a:lnTo>
                  <a:pt x="1138" y="1201"/>
                </a:lnTo>
                <a:lnTo>
                  <a:pt x="1144" y="1182"/>
                </a:lnTo>
                <a:lnTo>
                  <a:pt x="1148" y="1165"/>
                </a:lnTo>
                <a:lnTo>
                  <a:pt x="1153" y="1149"/>
                </a:lnTo>
                <a:lnTo>
                  <a:pt x="1157" y="1134"/>
                </a:lnTo>
                <a:lnTo>
                  <a:pt x="1161" y="1120"/>
                </a:lnTo>
                <a:lnTo>
                  <a:pt x="1165" y="1107"/>
                </a:lnTo>
                <a:lnTo>
                  <a:pt x="1171" y="1096"/>
                </a:lnTo>
                <a:lnTo>
                  <a:pt x="1174" y="1084"/>
                </a:lnTo>
                <a:lnTo>
                  <a:pt x="1178" y="1074"/>
                </a:lnTo>
                <a:lnTo>
                  <a:pt x="1182" y="1067"/>
                </a:lnTo>
                <a:lnTo>
                  <a:pt x="1186" y="1059"/>
                </a:lnTo>
                <a:lnTo>
                  <a:pt x="1190" y="1051"/>
                </a:lnTo>
                <a:lnTo>
                  <a:pt x="1194" y="1048"/>
                </a:lnTo>
                <a:lnTo>
                  <a:pt x="1196" y="1042"/>
                </a:lnTo>
                <a:lnTo>
                  <a:pt x="1199" y="1040"/>
                </a:lnTo>
                <a:lnTo>
                  <a:pt x="1201" y="1038"/>
                </a:lnTo>
                <a:lnTo>
                  <a:pt x="1205" y="1038"/>
                </a:lnTo>
                <a:lnTo>
                  <a:pt x="1207" y="1038"/>
                </a:lnTo>
                <a:lnTo>
                  <a:pt x="1209" y="1040"/>
                </a:lnTo>
                <a:lnTo>
                  <a:pt x="1209" y="1044"/>
                </a:lnTo>
                <a:lnTo>
                  <a:pt x="1211" y="1049"/>
                </a:lnTo>
                <a:lnTo>
                  <a:pt x="1213" y="1055"/>
                </a:lnTo>
                <a:lnTo>
                  <a:pt x="1215" y="1065"/>
                </a:lnTo>
                <a:lnTo>
                  <a:pt x="1215" y="1074"/>
                </a:lnTo>
                <a:lnTo>
                  <a:pt x="1217" y="1084"/>
                </a:lnTo>
                <a:lnTo>
                  <a:pt x="1217" y="1097"/>
                </a:lnTo>
                <a:lnTo>
                  <a:pt x="1219" y="1111"/>
                </a:lnTo>
                <a:lnTo>
                  <a:pt x="1220" y="1126"/>
                </a:lnTo>
                <a:lnTo>
                  <a:pt x="1220" y="1144"/>
                </a:lnTo>
                <a:lnTo>
                  <a:pt x="1222" y="1161"/>
                </a:lnTo>
                <a:lnTo>
                  <a:pt x="1224" y="1180"/>
                </a:lnTo>
                <a:lnTo>
                  <a:pt x="1226" y="1201"/>
                </a:lnTo>
                <a:lnTo>
                  <a:pt x="1228" y="1222"/>
                </a:lnTo>
                <a:lnTo>
                  <a:pt x="1228" y="1243"/>
                </a:lnTo>
                <a:lnTo>
                  <a:pt x="1228" y="1264"/>
                </a:lnTo>
                <a:lnTo>
                  <a:pt x="1230" y="1286"/>
                </a:lnTo>
                <a:lnTo>
                  <a:pt x="1230" y="1307"/>
                </a:lnTo>
                <a:lnTo>
                  <a:pt x="1232" y="1326"/>
                </a:lnTo>
                <a:lnTo>
                  <a:pt x="1232" y="1343"/>
                </a:lnTo>
                <a:lnTo>
                  <a:pt x="1234" y="1362"/>
                </a:lnTo>
                <a:lnTo>
                  <a:pt x="1236" y="1378"/>
                </a:lnTo>
                <a:lnTo>
                  <a:pt x="1238" y="1395"/>
                </a:lnTo>
                <a:lnTo>
                  <a:pt x="1240" y="1410"/>
                </a:lnTo>
                <a:lnTo>
                  <a:pt x="1242" y="1426"/>
                </a:lnTo>
                <a:lnTo>
                  <a:pt x="1244" y="1439"/>
                </a:lnTo>
                <a:lnTo>
                  <a:pt x="1245" y="1453"/>
                </a:lnTo>
                <a:lnTo>
                  <a:pt x="1247" y="1464"/>
                </a:lnTo>
                <a:lnTo>
                  <a:pt x="1249" y="1476"/>
                </a:lnTo>
                <a:lnTo>
                  <a:pt x="1253" y="14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101"/>
          <p:cNvSpPr/>
          <p:nvPr/>
        </p:nvSpPr>
        <p:spPr>
          <a:xfrm>
            <a:off x="5996160" y="4238640"/>
            <a:ext cx="334800" cy="311040"/>
          </a:xfrm>
          <a:custGeom>
            <a:avLst/>
            <a:gdLst/>
            <a:ahLst/>
            <a:rect l="l" t="t" r="r" b="b"/>
            <a:pathLst>
              <a:path w="422" h="392">
                <a:moveTo>
                  <a:pt x="349" y="142"/>
                </a:moveTo>
                <a:lnTo>
                  <a:pt x="358" y="152"/>
                </a:lnTo>
                <a:lnTo>
                  <a:pt x="366" y="161"/>
                </a:lnTo>
                <a:lnTo>
                  <a:pt x="374" y="171"/>
                </a:lnTo>
                <a:lnTo>
                  <a:pt x="380" y="180"/>
                </a:lnTo>
                <a:lnTo>
                  <a:pt x="387" y="190"/>
                </a:lnTo>
                <a:lnTo>
                  <a:pt x="393" y="202"/>
                </a:lnTo>
                <a:lnTo>
                  <a:pt x="399" y="211"/>
                </a:lnTo>
                <a:lnTo>
                  <a:pt x="403" y="221"/>
                </a:lnTo>
                <a:lnTo>
                  <a:pt x="406" y="230"/>
                </a:lnTo>
                <a:lnTo>
                  <a:pt x="410" y="240"/>
                </a:lnTo>
                <a:lnTo>
                  <a:pt x="414" y="250"/>
                </a:lnTo>
                <a:lnTo>
                  <a:pt x="416" y="259"/>
                </a:lnTo>
                <a:lnTo>
                  <a:pt x="418" y="271"/>
                </a:lnTo>
                <a:lnTo>
                  <a:pt x="420" y="280"/>
                </a:lnTo>
                <a:lnTo>
                  <a:pt x="422" y="290"/>
                </a:lnTo>
                <a:lnTo>
                  <a:pt x="422" y="299"/>
                </a:lnTo>
                <a:lnTo>
                  <a:pt x="422" y="311"/>
                </a:lnTo>
                <a:lnTo>
                  <a:pt x="420" y="323"/>
                </a:lnTo>
                <a:lnTo>
                  <a:pt x="420" y="332"/>
                </a:lnTo>
                <a:lnTo>
                  <a:pt x="418" y="342"/>
                </a:lnTo>
                <a:lnTo>
                  <a:pt x="418" y="349"/>
                </a:lnTo>
                <a:lnTo>
                  <a:pt x="416" y="357"/>
                </a:lnTo>
                <a:lnTo>
                  <a:pt x="414" y="365"/>
                </a:lnTo>
                <a:lnTo>
                  <a:pt x="410" y="371"/>
                </a:lnTo>
                <a:lnTo>
                  <a:pt x="408" y="376"/>
                </a:lnTo>
                <a:lnTo>
                  <a:pt x="405" y="380"/>
                </a:lnTo>
                <a:lnTo>
                  <a:pt x="401" y="384"/>
                </a:lnTo>
                <a:lnTo>
                  <a:pt x="395" y="386"/>
                </a:lnTo>
                <a:lnTo>
                  <a:pt x="391" y="390"/>
                </a:lnTo>
                <a:lnTo>
                  <a:pt x="385" y="390"/>
                </a:lnTo>
                <a:lnTo>
                  <a:pt x="380" y="392"/>
                </a:lnTo>
                <a:lnTo>
                  <a:pt x="374" y="392"/>
                </a:lnTo>
                <a:lnTo>
                  <a:pt x="370" y="392"/>
                </a:lnTo>
                <a:lnTo>
                  <a:pt x="364" y="390"/>
                </a:lnTo>
                <a:lnTo>
                  <a:pt x="360" y="388"/>
                </a:lnTo>
                <a:lnTo>
                  <a:pt x="355" y="386"/>
                </a:lnTo>
                <a:lnTo>
                  <a:pt x="349" y="382"/>
                </a:lnTo>
                <a:lnTo>
                  <a:pt x="343" y="378"/>
                </a:lnTo>
                <a:lnTo>
                  <a:pt x="337" y="372"/>
                </a:lnTo>
                <a:lnTo>
                  <a:pt x="330" y="367"/>
                </a:lnTo>
                <a:lnTo>
                  <a:pt x="322" y="361"/>
                </a:lnTo>
                <a:lnTo>
                  <a:pt x="314" y="353"/>
                </a:lnTo>
                <a:lnTo>
                  <a:pt x="305" y="346"/>
                </a:lnTo>
                <a:lnTo>
                  <a:pt x="295" y="338"/>
                </a:lnTo>
                <a:lnTo>
                  <a:pt x="286" y="328"/>
                </a:lnTo>
                <a:lnTo>
                  <a:pt x="276" y="319"/>
                </a:lnTo>
                <a:lnTo>
                  <a:pt x="264" y="307"/>
                </a:lnTo>
                <a:lnTo>
                  <a:pt x="253" y="296"/>
                </a:lnTo>
                <a:lnTo>
                  <a:pt x="241" y="282"/>
                </a:lnTo>
                <a:lnTo>
                  <a:pt x="230" y="271"/>
                </a:lnTo>
                <a:lnTo>
                  <a:pt x="216" y="255"/>
                </a:lnTo>
                <a:lnTo>
                  <a:pt x="203" y="242"/>
                </a:lnTo>
                <a:lnTo>
                  <a:pt x="190" y="227"/>
                </a:lnTo>
                <a:lnTo>
                  <a:pt x="174" y="209"/>
                </a:lnTo>
                <a:lnTo>
                  <a:pt x="159" y="194"/>
                </a:lnTo>
                <a:lnTo>
                  <a:pt x="143" y="175"/>
                </a:lnTo>
                <a:lnTo>
                  <a:pt x="128" y="157"/>
                </a:lnTo>
                <a:lnTo>
                  <a:pt x="111" y="138"/>
                </a:lnTo>
                <a:lnTo>
                  <a:pt x="94" y="119"/>
                </a:lnTo>
                <a:lnTo>
                  <a:pt x="76" y="98"/>
                </a:lnTo>
                <a:lnTo>
                  <a:pt x="57" y="77"/>
                </a:lnTo>
                <a:lnTo>
                  <a:pt x="40" y="56"/>
                </a:lnTo>
                <a:lnTo>
                  <a:pt x="21" y="33"/>
                </a:lnTo>
                <a:lnTo>
                  <a:pt x="0" y="10"/>
                </a:lnTo>
                <a:lnTo>
                  <a:pt x="15" y="4"/>
                </a:lnTo>
                <a:lnTo>
                  <a:pt x="30" y="2"/>
                </a:lnTo>
                <a:lnTo>
                  <a:pt x="38" y="0"/>
                </a:lnTo>
                <a:lnTo>
                  <a:pt x="48" y="0"/>
                </a:lnTo>
                <a:lnTo>
                  <a:pt x="57" y="0"/>
                </a:lnTo>
                <a:lnTo>
                  <a:pt x="67" y="0"/>
                </a:lnTo>
                <a:lnTo>
                  <a:pt x="76" y="0"/>
                </a:lnTo>
                <a:lnTo>
                  <a:pt x="88" y="0"/>
                </a:lnTo>
                <a:lnTo>
                  <a:pt x="99" y="0"/>
                </a:lnTo>
                <a:lnTo>
                  <a:pt x="111" y="2"/>
                </a:lnTo>
                <a:lnTo>
                  <a:pt x="124" y="4"/>
                </a:lnTo>
                <a:lnTo>
                  <a:pt x="138" y="4"/>
                </a:lnTo>
                <a:lnTo>
                  <a:pt x="153" y="8"/>
                </a:lnTo>
                <a:lnTo>
                  <a:pt x="168" y="10"/>
                </a:lnTo>
                <a:lnTo>
                  <a:pt x="184" y="13"/>
                </a:lnTo>
                <a:lnTo>
                  <a:pt x="199" y="19"/>
                </a:lnTo>
                <a:lnTo>
                  <a:pt x="213" y="25"/>
                </a:lnTo>
                <a:lnTo>
                  <a:pt x="228" y="33"/>
                </a:lnTo>
                <a:lnTo>
                  <a:pt x="239" y="38"/>
                </a:lnTo>
                <a:lnTo>
                  <a:pt x="253" y="46"/>
                </a:lnTo>
                <a:lnTo>
                  <a:pt x="264" y="52"/>
                </a:lnTo>
                <a:lnTo>
                  <a:pt x="276" y="60"/>
                </a:lnTo>
                <a:lnTo>
                  <a:pt x="287" y="69"/>
                </a:lnTo>
                <a:lnTo>
                  <a:pt x="299" y="77"/>
                </a:lnTo>
                <a:lnTo>
                  <a:pt x="309" y="86"/>
                </a:lnTo>
                <a:lnTo>
                  <a:pt x="318" y="96"/>
                </a:lnTo>
                <a:lnTo>
                  <a:pt x="326" y="108"/>
                </a:lnTo>
                <a:lnTo>
                  <a:pt x="334" y="117"/>
                </a:lnTo>
                <a:lnTo>
                  <a:pt x="341" y="129"/>
                </a:lnTo>
                <a:lnTo>
                  <a:pt x="349" y="1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102"/>
          <p:cNvSpPr/>
          <p:nvPr/>
        </p:nvSpPr>
        <p:spPr>
          <a:xfrm>
            <a:off x="6026040" y="3379680"/>
            <a:ext cx="405000" cy="416160"/>
          </a:xfrm>
          <a:custGeom>
            <a:avLst/>
            <a:gdLst/>
            <a:ahLst/>
            <a:rect l="l" t="t" r="r" b="b"/>
            <a:pathLst>
              <a:path w="511" h="524">
                <a:moveTo>
                  <a:pt x="276" y="194"/>
                </a:moveTo>
                <a:lnTo>
                  <a:pt x="284" y="185"/>
                </a:lnTo>
                <a:lnTo>
                  <a:pt x="288" y="175"/>
                </a:lnTo>
                <a:lnTo>
                  <a:pt x="294" y="167"/>
                </a:lnTo>
                <a:lnTo>
                  <a:pt x="298" y="158"/>
                </a:lnTo>
                <a:lnTo>
                  <a:pt x="301" y="150"/>
                </a:lnTo>
                <a:lnTo>
                  <a:pt x="303" y="141"/>
                </a:lnTo>
                <a:lnTo>
                  <a:pt x="305" y="133"/>
                </a:lnTo>
                <a:lnTo>
                  <a:pt x="307" y="125"/>
                </a:lnTo>
                <a:lnTo>
                  <a:pt x="307" y="118"/>
                </a:lnTo>
                <a:lnTo>
                  <a:pt x="307" y="112"/>
                </a:lnTo>
                <a:lnTo>
                  <a:pt x="307" y="104"/>
                </a:lnTo>
                <a:lnTo>
                  <a:pt x="307" y="98"/>
                </a:lnTo>
                <a:lnTo>
                  <a:pt x="305" y="87"/>
                </a:lnTo>
                <a:lnTo>
                  <a:pt x="301" y="77"/>
                </a:lnTo>
                <a:lnTo>
                  <a:pt x="298" y="66"/>
                </a:lnTo>
                <a:lnTo>
                  <a:pt x="294" y="56"/>
                </a:lnTo>
                <a:lnTo>
                  <a:pt x="292" y="47"/>
                </a:lnTo>
                <a:lnTo>
                  <a:pt x="292" y="39"/>
                </a:lnTo>
                <a:lnTo>
                  <a:pt x="292" y="29"/>
                </a:lnTo>
                <a:lnTo>
                  <a:pt x="294" y="22"/>
                </a:lnTo>
                <a:lnTo>
                  <a:pt x="298" y="16"/>
                </a:lnTo>
                <a:lnTo>
                  <a:pt x="301" y="10"/>
                </a:lnTo>
                <a:lnTo>
                  <a:pt x="305" y="6"/>
                </a:lnTo>
                <a:lnTo>
                  <a:pt x="313" y="2"/>
                </a:lnTo>
                <a:lnTo>
                  <a:pt x="321" y="0"/>
                </a:lnTo>
                <a:lnTo>
                  <a:pt x="328" y="0"/>
                </a:lnTo>
                <a:lnTo>
                  <a:pt x="338" y="0"/>
                </a:lnTo>
                <a:lnTo>
                  <a:pt x="349" y="2"/>
                </a:lnTo>
                <a:lnTo>
                  <a:pt x="361" y="6"/>
                </a:lnTo>
                <a:lnTo>
                  <a:pt x="374" y="10"/>
                </a:lnTo>
                <a:lnTo>
                  <a:pt x="386" y="16"/>
                </a:lnTo>
                <a:lnTo>
                  <a:pt x="399" y="24"/>
                </a:lnTo>
                <a:lnTo>
                  <a:pt x="411" y="31"/>
                </a:lnTo>
                <a:lnTo>
                  <a:pt x="422" y="39"/>
                </a:lnTo>
                <a:lnTo>
                  <a:pt x="434" y="50"/>
                </a:lnTo>
                <a:lnTo>
                  <a:pt x="445" y="62"/>
                </a:lnTo>
                <a:lnTo>
                  <a:pt x="457" y="75"/>
                </a:lnTo>
                <a:lnTo>
                  <a:pt x="470" y="89"/>
                </a:lnTo>
                <a:lnTo>
                  <a:pt x="476" y="96"/>
                </a:lnTo>
                <a:lnTo>
                  <a:pt x="482" y="104"/>
                </a:lnTo>
                <a:lnTo>
                  <a:pt x="488" y="110"/>
                </a:lnTo>
                <a:lnTo>
                  <a:pt x="491" y="118"/>
                </a:lnTo>
                <a:lnTo>
                  <a:pt x="495" y="123"/>
                </a:lnTo>
                <a:lnTo>
                  <a:pt x="499" y="129"/>
                </a:lnTo>
                <a:lnTo>
                  <a:pt x="503" y="135"/>
                </a:lnTo>
                <a:lnTo>
                  <a:pt x="505" y="139"/>
                </a:lnTo>
                <a:lnTo>
                  <a:pt x="507" y="144"/>
                </a:lnTo>
                <a:lnTo>
                  <a:pt x="509" y="148"/>
                </a:lnTo>
                <a:lnTo>
                  <a:pt x="511" y="152"/>
                </a:lnTo>
                <a:lnTo>
                  <a:pt x="511" y="156"/>
                </a:lnTo>
                <a:lnTo>
                  <a:pt x="511" y="160"/>
                </a:lnTo>
                <a:lnTo>
                  <a:pt x="509" y="164"/>
                </a:lnTo>
                <a:lnTo>
                  <a:pt x="509" y="166"/>
                </a:lnTo>
                <a:lnTo>
                  <a:pt x="507" y="169"/>
                </a:lnTo>
                <a:lnTo>
                  <a:pt x="505" y="171"/>
                </a:lnTo>
                <a:lnTo>
                  <a:pt x="501" y="175"/>
                </a:lnTo>
                <a:lnTo>
                  <a:pt x="499" y="179"/>
                </a:lnTo>
                <a:lnTo>
                  <a:pt x="495" y="183"/>
                </a:lnTo>
                <a:lnTo>
                  <a:pt x="489" y="187"/>
                </a:lnTo>
                <a:lnTo>
                  <a:pt x="484" y="192"/>
                </a:lnTo>
                <a:lnTo>
                  <a:pt x="476" y="198"/>
                </a:lnTo>
                <a:lnTo>
                  <a:pt x="470" y="206"/>
                </a:lnTo>
                <a:lnTo>
                  <a:pt x="461" y="212"/>
                </a:lnTo>
                <a:lnTo>
                  <a:pt x="451" y="219"/>
                </a:lnTo>
                <a:lnTo>
                  <a:pt x="441" y="229"/>
                </a:lnTo>
                <a:lnTo>
                  <a:pt x="430" y="237"/>
                </a:lnTo>
                <a:lnTo>
                  <a:pt x="418" y="246"/>
                </a:lnTo>
                <a:lnTo>
                  <a:pt x="407" y="256"/>
                </a:lnTo>
                <a:lnTo>
                  <a:pt x="393" y="265"/>
                </a:lnTo>
                <a:lnTo>
                  <a:pt x="378" y="277"/>
                </a:lnTo>
                <a:lnTo>
                  <a:pt x="363" y="288"/>
                </a:lnTo>
                <a:lnTo>
                  <a:pt x="347" y="300"/>
                </a:lnTo>
                <a:lnTo>
                  <a:pt x="330" y="311"/>
                </a:lnTo>
                <a:lnTo>
                  <a:pt x="313" y="325"/>
                </a:lnTo>
                <a:lnTo>
                  <a:pt x="294" y="338"/>
                </a:lnTo>
                <a:lnTo>
                  <a:pt x="274" y="354"/>
                </a:lnTo>
                <a:lnTo>
                  <a:pt x="255" y="367"/>
                </a:lnTo>
                <a:lnTo>
                  <a:pt x="234" y="382"/>
                </a:lnTo>
                <a:lnTo>
                  <a:pt x="211" y="398"/>
                </a:lnTo>
                <a:lnTo>
                  <a:pt x="190" y="415"/>
                </a:lnTo>
                <a:lnTo>
                  <a:pt x="165" y="432"/>
                </a:lnTo>
                <a:lnTo>
                  <a:pt x="142" y="450"/>
                </a:lnTo>
                <a:lnTo>
                  <a:pt x="117" y="467"/>
                </a:lnTo>
                <a:lnTo>
                  <a:pt x="90" y="486"/>
                </a:lnTo>
                <a:lnTo>
                  <a:pt x="63" y="505"/>
                </a:lnTo>
                <a:lnTo>
                  <a:pt x="36" y="524"/>
                </a:lnTo>
                <a:lnTo>
                  <a:pt x="17" y="492"/>
                </a:lnTo>
                <a:lnTo>
                  <a:pt x="0" y="459"/>
                </a:lnTo>
                <a:lnTo>
                  <a:pt x="29" y="436"/>
                </a:lnTo>
                <a:lnTo>
                  <a:pt x="56" y="415"/>
                </a:lnTo>
                <a:lnTo>
                  <a:pt x="81" y="394"/>
                </a:lnTo>
                <a:lnTo>
                  <a:pt x="104" y="375"/>
                </a:lnTo>
                <a:lnTo>
                  <a:pt x="127" y="356"/>
                </a:lnTo>
                <a:lnTo>
                  <a:pt x="146" y="336"/>
                </a:lnTo>
                <a:lnTo>
                  <a:pt x="165" y="319"/>
                </a:lnTo>
                <a:lnTo>
                  <a:pt x="184" y="302"/>
                </a:lnTo>
                <a:lnTo>
                  <a:pt x="200" y="286"/>
                </a:lnTo>
                <a:lnTo>
                  <a:pt x="215" y="269"/>
                </a:lnTo>
                <a:lnTo>
                  <a:pt x="228" y="256"/>
                </a:lnTo>
                <a:lnTo>
                  <a:pt x="240" y="242"/>
                </a:lnTo>
                <a:lnTo>
                  <a:pt x="251" y="229"/>
                </a:lnTo>
                <a:lnTo>
                  <a:pt x="261" y="217"/>
                </a:lnTo>
                <a:lnTo>
                  <a:pt x="269" y="206"/>
                </a:lnTo>
                <a:lnTo>
                  <a:pt x="276" y="1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03"/>
          <p:cNvSpPr/>
          <p:nvPr/>
        </p:nvSpPr>
        <p:spPr>
          <a:xfrm>
            <a:off x="5533920" y="2951280"/>
            <a:ext cx="590760" cy="2081160"/>
          </a:xfrm>
          <a:custGeom>
            <a:avLst/>
            <a:gdLst/>
            <a:ahLst/>
            <a:rect l="l" t="t" r="r" b="b"/>
            <a:pathLst>
              <a:path w="745" h="2622">
                <a:moveTo>
                  <a:pt x="428" y="2160"/>
                </a:moveTo>
                <a:lnTo>
                  <a:pt x="399" y="2204"/>
                </a:lnTo>
                <a:lnTo>
                  <a:pt x="370" y="2248"/>
                </a:lnTo>
                <a:lnTo>
                  <a:pt x="342" y="2292"/>
                </a:lnTo>
                <a:lnTo>
                  <a:pt x="311" y="2334"/>
                </a:lnTo>
                <a:lnTo>
                  <a:pt x="278" y="2374"/>
                </a:lnTo>
                <a:lnTo>
                  <a:pt x="244" y="2415"/>
                </a:lnTo>
                <a:lnTo>
                  <a:pt x="227" y="2434"/>
                </a:lnTo>
                <a:lnTo>
                  <a:pt x="209" y="2453"/>
                </a:lnTo>
                <a:lnTo>
                  <a:pt x="192" y="2470"/>
                </a:lnTo>
                <a:lnTo>
                  <a:pt x="175" y="2490"/>
                </a:lnTo>
                <a:lnTo>
                  <a:pt x="157" y="2505"/>
                </a:lnTo>
                <a:lnTo>
                  <a:pt x="140" y="2522"/>
                </a:lnTo>
                <a:lnTo>
                  <a:pt x="125" y="2536"/>
                </a:lnTo>
                <a:lnTo>
                  <a:pt x="109" y="2551"/>
                </a:lnTo>
                <a:lnTo>
                  <a:pt x="96" y="2563"/>
                </a:lnTo>
                <a:lnTo>
                  <a:pt x="83" y="2574"/>
                </a:lnTo>
                <a:lnTo>
                  <a:pt x="71" y="2586"/>
                </a:lnTo>
                <a:lnTo>
                  <a:pt x="60" y="2595"/>
                </a:lnTo>
                <a:lnTo>
                  <a:pt x="48" y="2603"/>
                </a:lnTo>
                <a:lnTo>
                  <a:pt x="40" y="2609"/>
                </a:lnTo>
                <a:lnTo>
                  <a:pt x="31" y="2614"/>
                </a:lnTo>
                <a:lnTo>
                  <a:pt x="25" y="2618"/>
                </a:lnTo>
                <a:lnTo>
                  <a:pt x="17" y="2622"/>
                </a:lnTo>
                <a:lnTo>
                  <a:pt x="13" y="2622"/>
                </a:lnTo>
                <a:lnTo>
                  <a:pt x="10" y="2622"/>
                </a:lnTo>
                <a:lnTo>
                  <a:pt x="6" y="2620"/>
                </a:lnTo>
                <a:lnTo>
                  <a:pt x="2" y="2618"/>
                </a:lnTo>
                <a:lnTo>
                  <a:pt x="0" y="2612"/>
                </a:lnTo>
                <a:lnTo>
                  <a:pt x="0" y="2607"/>
                </a:lnTo>
                <a:lnTo>
                  <a:pt x="0" y="2599"/>
                </a:lnTo>
                <a:lnTo>
                  <a:pt x="2" y="2589"/>
                </a:lnTo>
                <a:lnTo>
                  <a:pt x="6" y="2580"/>
                </a:lnTo>
                <a:lnTo>
                  <a:pt x="10" y="2568"/>
                </a:lnTo>
                <a:lnTo>
                  <a:pt x="17" y="2555"/>
                </a:lnTo>
                <a:lnTo>
                  <a:pt x="25" y="2541"/>
                </a:lnTo>
                <a:lnTo>
                  <a:pt x="35" y="2526"/>
                </a:lnTo>
                <a:lnTo>
                  <a:pt x="46" y="2509"/>
                </a:lnTo>
                <a:lnTo>
                  <a:pt x="60" y="2492"/>
                </a:lnTo>
                <a:lnTo>
                  <a:pt x="73" y="2472"/>
                </a:lnTo>
                <a:lnTo>
                  <a:pt x="90" y="2453"/>
                </a:lnTo>
                <a:lnTo>
                  <a:pt x="108" y="2432"/>
                </a:lnTo>
                <a:lnTo>
                  <a:pt x="127" y="2409"/>
                </a:lnTo>
                <a:lnTo>
                  <a:pt x="144" y="2386"/>
                </a:lnTo>
                <a:lnTo>
                  <a:pt x="161" y="2361"/>
                </a:lnTo>
                <a:lnTo>
                  <a:pt x="180" y="2336"/>
                </a:lnTo>
                <a:lnTo>
                  <a:pt x="198" y="2307"/>
                </a:lnTo>
                <a:lnTo>
                  <a:pt x="217" y="2279"/>
                </a:lnTo>
                <a:lnTo>
                  <a:pt x="234" y="2250"/>
                </a:lnTo>
                <a:lnTo>
                  <a:pt x="251" y="2217"/>
                </a:lnTo>
                <a:lnTo>
                  <a:pt x="269" y="2184"/>
                </a:lnTo>
                <a:lnTo>
                  <a:pt x="288" y="2152"/>
                </a:lnTo>
                <a:lnTo>
                  <a:pt x="305" y="2115"/>
                </a:lnTo>
                <a:lnTo>
                  <a:pt x="322" y="2079"/>
                </a:lnTo>
                <a:lnTo>
                  <a:pt x="338" y="2042"/>
                </a:lnTo>
                <a:lnTo>
                  <a:pt x="355" y="2004"/>
                </a:lnTo>
                <a:lnTo>
                  <a:pt x="372" y="1964"/>
                </a:lnTo>
                <a:lnTo>
                  <a:pt x="388" y="1923"/>
                </a:lnTo>
                <a:lnTo>
                  <a:pt x="403" y="1881"/>
                </a:lnTo>
                <a:lnTo>
                  <a:pt x="418" y="1839"/>
                </a:lnTo>
                <a:lnTo>
                  <a:pt x="432" y="1797"/>
                </a:lnTo>
                <a:lnTo>
                  <a:pt x="447" y="1754"/>
                </a:lnTo>
                <a:lnTo>
                  <a:pt x="459" y="1712"/>
                </a:lnTo>
                <a:lnTo>
                  <a:pt x="470" y="1670"/>
                </a:lnTo>
                <a:lnTo>
                  <a:pt x="482" y="1628"/>
                </a:lnTo>
                <a:lnTo>
                  <a:pt x="493" y="1586"/>
                </a:lnTo>
                <a:lnTo>
                  <a:pt x="503" y="1543"/>
                </a:lnTo>
                <a:lnTo>
                  <a:pt x="511" y="1501"/>
                </a:lnTo>
                <a:lnTo>
                  <a:pt x="518" y="1457"/>
                </a:lnTo>
                <a:lnTo>
                  <a:pt x="526" y="1415"/>
                </a:lnTo>
                <a:lnTo>
                  <a:pt x="532" y="1371"/>
                </a:lnTo>
                <a:lnTo>
                  <a:pt x="537" y="1328"/>
                </a:lnTo>
                <a:lnTo>
                  <a:pt x="541" y="1284"/>
                </a:lnTo>
                <a:lnTo>
                  <a:pt x="545" y="1240"/>
                </a:lnTo>
                <a:lnTo>
                  <a:pt x="549" y="1196"/>
                </a:lnTo>
                <a:lnTo>
                  <a:pt x="553" y="1111"/>
                </a:lnTo>
                <a:lnTo>
                  <a:pt x="557" y="1025"/>
                </a:lnTo>
                <a:lnTo>
                  <a:pt x="561" y="939"/>
                </a:lnTo>
                <a:lnTo>
                  <a:pt x="562" y="850"/>
                </a:lnTo>
                <a:lnTo>
                  <a:pt x="564" y="762"/>
                </a:lnTo>
                <a:lnTo>
                  <a:pt x="564" y="674"/>
                </a:lnTo>
                <a:lnTo>
                  <a:pt x="564" y="630"/>
                </a:lnTo>
                <a:lnTo>
                  <a:pt x="562" y="586"/>
                </a:lnTo>
                <a:lnTo>
                  <a:pt x="562" y="541"/>
                </a:lnTo>
                <a:lnTo>
                  <a:pt x="561" y="497"/>
                </a:lnTo>
                <a:lnTo>
                  <a:pt x="559" y="474"/>
                </a:lnTo>
                <a:lnTo>
                  <a:pt x="559" y="453"/>
                </a:lnTo>
                <a:lnTo>
                  <a:pt x="557" y="432"/>
                </a:lnTo>
                <a:lnTo>
                  <a:pt x="555" y="413"/>
                </a:lnTo>
                <a:lnTo>
                  <a:pt x="555" y="394"/>
                </a:lnTo>
                <a:lnTo>
                  <a:pt x="553" y="374"/>
                </a:lnTo>
                <a:lnTo>
                  <a:pt x="553" y="355"/>
                </a:lnTo>
                <a:lnTo>
                  <a:pt x="551" y="338"/>
                </a:lnTo>
                <a:lnTo>
                  <a:pt x="549" y="321"/>
                </a:lnTo>
                <a:lnTo>
                  <a:pt x="549" y="305"/>
                </a:lnTo>
                <a:lnTo>
                  <a:pt x="547" y="290"/>
                </a:lnTo>
                <a:lnTo>
                  <a:pt x="545" y="275"/>
                </a:lnTo>
                <a:lnTo>
                  <a:pt x="545" y="259"/>
                </a:lnTo>
                <a:lnTo>
                  <a:pt x="543" y="246"/>
                </a:lnTo>
                <a:lnTo>
                  <a:pt x="541" y="232"/>
                </a:lnTo>
                <a:lnTo>
                  <a:pt x="539" y="219"/>
                </a:lnTo>
                <a:lnTo>
                  <a:pt x="539" y="207"/>
                </a:lnTo>
                <a:lnTo>
                  <a:pt x="537" y="196"/>
                </a:lnTo>
                <a:lnTo>
                  <a:pt x="536" y="184"/>
                </a:lnTo>
                <a:lnTo>
                  <a:pt x="534" y="175"/>
                </a:lnTo>
                <a:lnTo>
                  <a:pt x="534" y="165"/>
                </a:lnTo>
                <a:lnTo>
                  <a:pt x="532" y="157"/>
                </a:lnTo>
                <a:lnTo>
                  <a:pt x="530" y="148"/>
                </a:lnTo>
                <a:lnTo>
                  <a:pt x="528" y="140"/>
                </a:lnTo>
                <a:lnTo>
                  <a:pt x="526" y="133"/>
                </a:lnTo>
                <a:lnTo>
                  <a:pt x="524" y="127"/>
                </a:lnTo>
                <a:lnTo>
                  <a:pt x="522" y="121"/>
                </a:lnTo>
                <a:lnTo>
                  <a:pt x="520" y="115"/>
                </a:lnTo>
                <a:lnTo>
                  <a:pt x="518" y="111"/>
                </a:lnTo>
                <a:lnTo>
                  <a:pt x="516" y="108"/>
                </a:lnTo>
                <a:lnTo>
                  <a:pt x="514" y="104"/>
                </a:lnTo>
                <a:lnTo>
                  <a:pt x="513" y="102"/>
                </a:lnTo>
                <a:lnTo>
                  <a:pt x="505" y="98"/>
                </a:lnTo>
                <a:lnTo>
                  <a:pt x="499" y="96"/>
                </a:lnTo>
                <a:lnTo>
                  <a:pt x="493" y="92"/>
                </a:lnTo>
                <a:lnTo>
                  <a:pt x="489" y="88"/>
                </a:lnTo>
                <a:lnTo>
                  <a:pt x="484" y="85"/>
                </a:lnTo>
                <a:lnTo>
                  <a:pt x="480" y="81"/>
                </a:lnTo>
                <a:lnTo>
                  <a:pt x="474" y="71"/>
                </a:lnTo>
                <a:lnTo>
                  <a:pt x="468" y="60"/>
                </a:lnTo>
                <a:lnTo>
                  <a:pt x="466" y="48"/>
                </a:lnTo>
                <a:lnTo>
                  <a:pt x="465" y="37"/>
                </a:lnTo>
                <a:lnTo>
                  <a:pt x="465" y="21"/>
                </a:lnTo>
                <a:lnTo>
                  <a:pt x="465" y="17"/>
                </a:lnTo>
                <a:lnTo>
                  <a:pt x="465" y="14"/>
                </a:lnTo>
                <a:lnTo>
                  <a:pt x="468" y="10"/>
                </a:lnTo>
                <a:lnTo>
                  <a:pt x="470" y="6"/>
                </a:lnTo>
                <a:lnTo>
                  <a:pt x="474" y="4"/>
                </a:lnTo>
                <a:lnTo>
                  <a:pt x="480" y="2"/>
                </a:lnTo>
                <a:lnTo>
                  <a:pt x="486" y="0"/>
                </a:lnTo>
                <a:lnTo>
                  <a:pt x="491" y="0"/>
                </a:lnTo>
                <a:lnTo>
                  <a:pt x="499" y="0"/>
                </a:lnTo>
                <a:lnTo>
                  <a:pt x="509" y="0"/>
                </a:lnTo>
                <a:lnTo>
                  <a:pt x="518" y="0"/>
                </a:lnTo>
                <a:lnTo>
                  <a:pt x="530" y="0"/>
                </a:lnTo>
                <a:lnTo>
                  <a:pt x="541" y="2"/>
                </a:lnTo>
                <a:lnTo>
                  <a:pt x="555" y="4"/>
                </a:lnTo>
                <a:lnTo>
                  <a:pt x="568" y="6"/>
                </a:lnTo>
                <a:lnTo>
                  <a:pt x="584" y="8"/>
                </a:lnTo>
                <a:lnTo>
                  <a:pt x="599" y="14"/>
                </a:lnTo>
                <a:lnTo>
                  <a:pt x="614" y="19"/>
                </a:lnTo>
                <a:lnTo>
                  <a:pt x="628" y="23"/>
                </a:lnTo>
                <a:lnTo>
                  <a:pt x="641" y="29"/>
                </a:lnTo>
                <a:lnTo>
                  <a:pt x="653" y="33"/>
                </a:lnTo>
                <a:lnTo>
                  <a:pt x="664" y="38"/>
                </a:lnTo>
                <a:lnTo>
                  <a:pt x="674" y="44"/>
                </a:lnTo>
                <a:lnTo>
                  <a:pt x="683" y="50"/>
                </a:lnTo>
                <a:lnTo>
                  <a:pt x="691" y="56"/>
                </a:lnTo>
                <a:lnTo>
                  <a:pt x="701" y="62"/>
                </a:lnTo>
                <a:lnTo>
                  <a:pt x="706" y="67"/>
                </a:lnTo>
                <a:lnTo>
                  <a:pt x="712" y="73"/>
                </a:lnTo>
                <a:lnTo>
                  <a:pt x="718" y="81"/>
                </a:lnTo>
                <a:lnTo>
                  <a:pt x="722" y="86"/>
                </a:lnTo>
                <a:lnTo>
                  <a:pt x="726" y="94"/>
                </a:lnTo>
                <a:lnTo>
                  <a:pt x="729" y="102"/>
                </a:lnTo>
                <a:lnTo>
                  <a:pt x="733" y="115"/>
                </a:lnTo>
                <a:lnTo>
                  <a:pt x="737" y="131"/>
                </a:lnTo>
                <a:lnTo>
                  <a:pt x="741" y="146"/>
                </a:lnTo>
                <a:lnTo>
                  <a:pt x="743" y="161"/>
                </a:lnTo>
                <a:lnTo>
                  <a:pt x="745" y="179"/>
                </a:lnTo>
                <a:lnTo>
                  <a:pt x="745" y="196"/>
                </a:lnTo>
                <a:lnTo>
                  <a:pt x="745" y="204"/>
                </a:lnTo>
                <a:lnTo>
                  <a:pt x="745" y="213"/>
                </a:lnTo>
                <a:lnTo>
                  <a:pt x="743" y="223"/>
                </a:lnTo>
                <a:lnTo>
                  <a:pt x="741" y="232"/>
                </a:lnTo>
                <a:lnTo>
                  <a:pt x="739" y="246"/>
                </a:lnTo>
                <a:lnTo>
                  <a:pt x="735" y="259"/>
                </a:lnTo>
                <a:lnTo>
                  <a:pt x="733" y="276"/>
                </a:lnTo>
                <a:lnTo>
                  <a:pt x="731" y="292"/>
                </a:lnTo>
                <a:lnTo>
                  <a:pt x="729" y="311"/>
                </a:lnTo>
                <a:lnTo>
                  <a:pt x="727" y="330"/>
                </a:lnTo>
                <a:lnTo>
                  <a:pt x="726" y="351"/>
                </a:lnTo>
                <a:lnTo>
                  <a:pt x="724" y="372"/>
                </a:lnTo>
                <a:lnTo>
                  <a:pt x="722" y="397"/>
                </a:lnTo>
                <a:lnTo>
                  <a:pt x="722" y="422"/>
                </a:lnTo>
                <a:lnTo>
                  <a:pt x="720" y="447"/>
                </a:lnTo>
                <a:lnTo>
                  <a:pt x="718" y="476"/>
                </a:lnTo>
                <a:lnTo>
                  <a:pt x="718" y="505"/>
                </a:lnTo>
                <a:lnTo>
                  <a:pt x="718" y="536"/>
                </a:lnTo>
                <a:lnTo>
                  <a:pt x="716" y="568"/>
                </a:lnTo>
                <a:lnTo>
                  <a:pt x="716" y="603"/>
                </a:lnTo>
                <a:lnTo>
                  <a:pt x="716" y="676"/>
                </a:lnTo>
                <a:lnTo>
                  <a:pt x="716" y="749"/>
                </a:lnTo>
                <a:lnTo>
                  <a:pt x="716" y="820"/>
                </a:lnTo>
                <a:lnTo>
                  <a:pt x="714" y="891"/>
                </a:lnTo>
                <a:lnTo>
                  <a:pt x="714" y="962"/>
                </a:lnTo>
                <a:lnTo>
                  <a:pt x="712" y="1031"/>
                </a:lnTo>
                <a:lnTo>
                  <a:pt x="708" y="1100"/>
                </a:lnTo>
                <a:lnTo>
                  <a:pt x="704" y="1169"/>
                </a:lnTo>
                <a:lnTo>
                  <a:pt x="703" y="1206"/>
                </a:lnTo>
                <a:lnTo>
                  <a:pt x="699" y="1242"/>
                </a:lnTo>
                <a:lnTo>
                  <a:pt x="695" y="1278"/>
                </a:lnTo>
                <a:lnTo>
                  <a:pt x="691" y="1313"/>
                </a:lnTo>
                <a:lnTo>
                  <a:pt x="681" y="1382"/>
                </a:lnTo>
                <a:lnTo>
                  <a:pt x="672" y="1449"/>
                </a:lnTo>
                <a:lnTo>
                  <a:pt x="658" y="1516"/>
                </a:lnTo>
                <a:lnTo>
                  <a:pt x="647" y="1582"/>
                </a:lnTo>
                <a:lnTo>
                  <a:pt x="633" y="1645"/>
                </a:lnTo>
                <a:lnTo>
                  <a:pt x="620" y="1710"/>
                </a:lnTo>
                <a:lnTo>
                  <a:pt x="601" y="1774"/>
                </a:lnTo>
                <a:lnTo>
                  <a:pt x="582" y="1837"/>
                </a:lnTo>
                <a:lnTo>
                  <a:pt x="572" y="1866"/>
                </a:lnTo>
                <a:lnTo>
                  <a:pt x="561" y="1897"/>
                </a:lnTo>
                <a:lnTo>
                  <a:pt x="549" y="1925"/>
                </a:lnTo>
                <a:lnTo>
                  <a:pt x="537" y="1954"/>
                </a:lnTo>
                <a:lnTo>
                  <a:pt x="526" y="1983"/>
                </a:lnTo>
                <a:lnTo>
                  <a:pt x="513" y="2010"/>
                </a:lnTo>
                <a:lnTo>
                  <a:pt x="499" y="2037"/>
                </a:lnTo>
                <a:lnTo>
                  <a:pt x="486" y="2062"/>
                </a:lnTo>
                <a:lnTo>
                  <a:pt x="472" y="2088"/>
                </a:lnTo>
                <a:lnTo>
                  <a:pt x="457" y="2112"/>
                </a:lnTo>
                <a:lnTo>
                  <a:pt x="443" y="2136"/>
                </a:lnTo>
                <a:lnTo>
                  <a:pt x="428" y="21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04"/>
          <p:cNvSpPr/>
          <p:nvPr/>
        </p:nvSpPr>
        <p:spPr>
          <a:xfrm>
            <a:off x="5595840" y="3543480"/>
            <a:ext cx="223920" cy="450720"/>
          </a:xfrm>
          <a:custGeom>
            <a:avLst/>
            <a:gdLst/>
            <a:ahLst/>
            <a:rect l="l" t="t" r="r" b="b"/>
            <a:pathLst>
              <a:path w="282" h="568">
                <a:moveTo>
                  <a:pt x="265" y="292"/>
                </a:moveTo>
                <a:lnTo>
                  <a:pt x="268" y="305"/>
                </a:lnTo>
                <a:lnTo>
                  <a:pt x="272" y="320"/>
                </a:lnTo>
                <a:lnTo>
                  <a:pt x="274" y="334"/>
                </a:lnTo>
                <a:lnTo>
                  <a:pt x="278" y="347"/>
                </a:lnTo>
                <a:lnTo>
                  <a:pt x="280" y="361"/>
                </a:lnTo>
                <a:lnTo>
                  <a:pt x="280" y="374"/>
                </a:lnTo>
                <a:lnTo>
                  <a:pt x="282" y="388"/>
                </a:lnTo>
                <a:lnTo>
                  <a:pt x="282" y="399"/>
                </a:lnTo>
                <a:lnTo>
                  <a:pt x="282" y="412"/>
                </a:lnTo>
                <a:lnTo>
                  <a:pt x="280" y="424"/>
                </a:lnTo>
                <a:lnTo>
                  <a:pt x="280" y="435"/>
                </a:lnTo>
                <a:lnTo>
                  <a:pt x="278" y="447"/>
                </a:lnTo>
                <a:lnTo>
                  <a:pt x="274" y="457"/>
                </a:lnTo>
                <a:lnTo>
                  <a:pt x="272" y="468"/>
                </a:lnTo>
                <a:lnTo>
                  <a:pt x="268" y="478"/>
                </a:lnTo>
                <a:lnTo>
                  <a:pt x="265" y="489"/>
                </a:lnTo>
                <a:lnTo>
                  <a:pt x="259" y="499"/>
                </a:lnTo>
                <a:lnTo>
                  <a:pt x="255" y="507"/>
                </a:lnTo>
                <a:lnTo>
                  <a:pt x="251" y="516"/>
                </a:lnTo>
                <a:lnTo>
                  <a:pt x="245" y="524"/>
                </a:lnTo>
                <a:lnTo>
                  <a:pt x="242" y="530"/>
                </a:lnTo>
                <a:lnTo>
                  <a:pt x="238" y="537"/>
                </a:lnTo>
                <a:lnTo>
                  <a:pt x="232" y="543"/>
                </a:lnTo>
                <a:lnTo>
                  <a:pt x="228" y="547"/>
                </a:lnTo>
                <a:lnTo>
                  <a:pt x="224" y="553"/>
                </a:lnTo>
                <a:lnTo>
                  <a:pt x="219" y="556"/>
                </a:lnTo>
                <a:lnTo>
                  <a:pt x="215" y="560"/>
                </a:lnTo>
                <a:lnTo>
                  <a:pt x="211" y="562"/>
                </a:lnTo>
                <a:lnTo>
                  <a:pt x="205" y="564"/>
                </a:lnTo>
                <a:lnTo>
                  <a:pt x="201" y="566"/>
                </a:lnTo>
                <a:lnTo>
                  <a:pt x="196" y="568"/>
                </a:lnTo>
                <a:lnTo>
                  <a:pt x="192" y="568"/>
                </a:lnTo>
                <a:lnTo>
                  <a:pt x="188" y="566"/>
                </a:lnTo>
                <a:lnTo>
                  <a:pt x="182" y="564"/>
                </a:lnTo>
                <a:lnTo>
                  <a:pt x="176" y="558"/>
                </a:lnTo>
                <a:lnTo>
                  <a:pt x="171" y="553"/>
                </a:lnTo>
                <a:lnTo>
                  <a:pt x="165" y="545"/>
                </a:lnTo>
                <a:lnTo>
                  <a:pt x="159" y="533"/>
                </a:lnTo>
                <a:lnTo>
                  <a:pt x="153" y="522"/>
                </a:lnTo>
                <a:lnTo>
                  <a:pt x="146" y="508"/>
                </a:lnTo>
                <a:lnTo>
                  <a:pt x="140" y="493"/>
                </a:lnTo>
                <a:lnTo>
                  <a:pt x="132" y="476"/>
                </a:lnTo>
                <a:lnTo>
                  <a:pt x="124" y="455"/>
                </a:lnTo>
                <a:lnTo>
                  <a:pt x="117" y="434"/>
                </a:lnTo>
                <a:lnTo>
                  <a:pt x="109" y="411"/>
                </a:lnTo>
                <a:lnTo>
                  <a:pt x="101" y="386"/>
                </a:lnTo>
                <a:lnTo>
                  <a:pt x="92" y="359"/>
                </a:lnTo>
                <a:lnTo>
                  <a:pt x="84" y="330"/>
                </a:lnTo>
                <a:lnTo>
                  <a:pt x="73" y="303"/>
                </a:lnTo>
                <a:lnTo>
                  <a:pt x="63" y="276"/>
                </a:lnTo>
                <a:lnTo>
                  <a:pt x="53" y="251"/>
                </a:lnTo>
                <a:lnTo>
                  <a:pt x="46" y="226"/>
                </a:lnTo>
                <a:lnTo>
                  <a:pt x="38" y="203"/>
                </a:lnTo>
                <a:lnTo>
                  <a:pt x="30" y="178"/>
                </a:lnTo>
                <a:lnTo>
                  <a:pt x="25" y="157"/>
                </a:lnTo>
                <a:lnTo>
                  <a:pt x="19" y="136"/>
                </a:lnTo>
                <a:lnTo>
                  <a:pt x="15" y="115"/>
                </a:lnTo>
                <a:lnTo>
                  <a:pt x="11" y="96"/>
                </a:lnTo>
                <a:lnTo>
                  <a:pt x="7" y="77"/>
                </a:lnTo>
                <a:lnTo>
                  <a:pt x="4" y="59"/>
                </a:lnTo>
                <a:lnTo>
                  <a:pt x="2" y="42"/>
                </a:lnTo>
                <a:lnTo>
                  <a:pt x="0" y="27"/>
                </a:lnTo>
                <a:lnTo>
                  <a:pt x="0" y="13"/>
                </a:lnTo>
                <a:lnTo>
                  <a:pt x="0" y="0"/>
                </a:lnTo>
                <a:lnTo>
                  <a:pt x="21" y="11"/>
                </a:lnTo>
                <a:lnTo>
                  <a:pt x="44" y="23"/>
                </a:lnTo>
                <a:lnTo>
                  <a:pt x="67" y="34"/>
                </a:lnTo>
                <a:lnTo>
                  <a:pt x="88" y="48"/>
                </a:lnTo>
                <a:lnTo>
                  <a:pt x="109" y="61"/>
                </a:lnTo>
                <a:lnTo>
                  <a:pt x="130" y="77"/>
                </a:lnTo>
                <a:lnTo>
                  <a:pt x="149" y="90"/>
                </a:lnTo>
                <a:lnTo>
                  <a:pt x="169" y="105"/>
                </a:lnTo>
                <a:lnTo>
                  <a:pt x="176" y="113"/>
                </a:lnTo>
                <a:lnTo>
                  <a:pt x="186" y="123"/>
                </a:lnTo>
                <a:lnTo>
                  <a:pt x="194" y="130"/>
                </a:lnTo>
                <a:lnTo>
                  <a:pt x="201" y="140"/>
                </a:lnTo>
                <a:lnTo>
                  <a:pt x="209" y="149"/>
                </a:lnTo>
                <a:lnTo>
                  <a:pt x="217" y="161"/>
                </a:lnTo>
                <a:lnTo>
                  <a:pt x="222" y="173"/>
                </a:lnTo>
                <a:lnTo>
                  <a:pt x="230" y="184"/>
                </a:lnTo>
                <a:lnTo>
                  <a:pt x="242" y="207"/>
                </a:lnTo>
                <a:lnTo>
                  <a:pt x="245" y="221"/>
                </a:lnTo>
                <a:lnTo>
                  <a:pt x="251" y="234"/>
                </a:lnTo>
                <a:lnTo>
                  <a:pt x="255" y="247"/>
                </a:lnTo>
                <a:lnTo>
                  <a:pt x="259" y="261"/>
                </a:lnTo>
                <a:lnTo>
                  <a:pt x="261" y="276"/>
                </a:lnTo>
                <a:lnTo>
                  <a:pt x="265" y="2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2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日”略窄长，“王”三横间距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3"/>
          <p:cNvSpPr/>
          <p:nvPr/>
        </p:nvSpPr>
        <p:spPr>
          <a:xfrm>
            <a:off x="1967040" y="1868400"/>
            <a:ext cx="161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à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79"/>
          <p:cNvSpPr/>
          <p:nvPr/>
        </p:nvSpPr>
        <p:spPr>
          <a:xfrm>
            <a:off x="6703920" y="2957400"/>
            <a:ext cx="209520" cy="1866960"/>
          </a:xfrm>
          <a:custGeom>
            <a:avLst/>
            <a:gdLst/>
            <a:ahLst/>
            <a:rect l="l" t="t" r="r" b="b"/>
            <a:pathLst>
              <a:path w="264" h="2351">
                <a:moveTo>
                  <a:pt x="42" y="2351"/>
                </a:moveTo>
                <a:lnTo>
                  <a:pt x="42" y="2234"/>
                </a:lnTo>
                <a:lnTo>
                  <a:pt x="42" y="2121"/>
                </a:lnTo>
                <a:lnTo>
                  <a:pt x="42" y="2009"/>
                </a:lnTo>
                <a:lnTo>
                  <a:pt x="42" y="1902"/>
                </a:lnTo>
                <a:lnTo>
                  <a:pt x="40" y="1796"/>
                </a:lnTo>
                <a:lnTo>
                  <a:pt x="40" y="1695"/>
                </a:lnTo>
                <a:lnTo>
                  <a:pt x="40" y="1597"/>
                </a:lnTo>
                <a:lnTo>
                  <a:pt x="40" y="1499"/>
                </a:lnTo>
                <a:lnTo>
                  <a:pt x="38" y="1405"/>
                </a:lnTo>
                <a:lnTo>
                  <a:pt x="38" y="1315"/>
                </a:lnTo>
                <a:lnTo>
                  <a:pt x="36" y="1226"/>
                </a:lnTo>
                <a:lnTo>
                  <a:pt x="36" y="1142"/>
                </a:lnTo>
                <a:lnTo>
                  <a:pt x="34" y="1059"/>
                </a:lnTo>
                <a:lnTo>
                  <a:pt x="34" y="979"/>
                </a:lnTo>
                <a:lnTo>
                  <a:pt x="32" y="902"/>
                </a:lnTo>
                <a:lnTo>
                  <a:pt x="30" y="829"/>
                </a:lnTo>
                <a:lnTo>
                  <a:pt x="30" y="758"/>
                </a:lnTo>
                <a:lnTo>
                  <a:pt x="28" y="689"/>
                </a:lnTo>
                <a:lnTo>
                  <a:pt x="26" y="624"/>
                </a:lnTo>
                <a:lnTo>
                  <a:pt x="24" y="560"/>
                </a:lnTo>
                <a:lnTo>
                  <a:pt x="24" y="499"/>
                </a:lnTo>
                <a:lnTo>
                  <a:pt x="23" y="441"/>
                </a:lnTo>
                <a:lnTo>
                  <a:pt x="21" y="388"/>
                </a:lnTo>
                <a:lnTo>
                  <a:pt x="19" y="336"/>
                </a:lnTo>
                <a:lnTo>
                  <a:pt x="17" y="286"/>
                </a:lnTo>
                <a:lnTo>
                  <a:pt x="15" y="240"/>
                </a:lnTo>
                <a:lnTo>
                  <a:pt x="11" y="196"/>
                </a:lnTo>
                <a:lnTo>
                  <a:pt x="9" y="155"/>
                </a:lnTo>
                <a:lnTo>
                  <a:pt x="7" y="115"/>
                </a:lnTo>
                <a:lnTo>
                  <a:pt x="5" y="80"/>
                </a:lnTo>
                <a:lnTo>
                  <a:pt x="3" y="48"/>
                </a:lnTo>
                <a:lnTo>
                  <a:pt x="0" y="17"/>
                </a:lnTo>
                <a:lnTo>
                  <a:pt x="132" y="8"/>
                </a:lnTo>
                <a:lnTo>
                  <a:pt x="264" y="0"/>
                </a:lnTo>
                <a:lnTo>
                  <a:pt x="255" y="278"/>
                </a:lnTo>
                <a:lnTo>
                  <a:pt x="245" y="560"/>
                </a:lnTo>
                <a:lnTo>
                  <a:pt x="239" y="846"/>
                </a:lnTo>
                <a:lnTo>
                  <a:pt x="234" y="1138"/>
                </a:lnTo>
                <a:lnTo>
                  <a:pt x="228" y="1436"/>
                </a:lnTo>
                <a:lnTo>
                  <a:pt x="224" y="1735"/>
                </a:lnTo>
                <a:lnTo>
                  <a:pt x="222" y="2040"/>
                </a:lnTo>
                <a:lnTo>
                  <a:pt x="222" y="2351"/>
                </a:lnTo>
                <a:lnTo>
                  <a:pt x="132" y="2351"/>
                </a:lnTo>
                <a:lnTo>
                  <a:pt x="42" y="23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80"/>
          <p:cNvSpPr/>
          <p:nvPr/>
        </p:nvSpPr>
        <p:spPr>
          <a:xfrm>
            <a:off x="6053040" y="4653000"/>
            <a:ext cx="1635120" cy="312840"/>
          </a:xfrm>
          <a:custGeom>
            <a:avLst/>
            <a:gdLst/>
            <a:ahLst/>
            <a:rect l="l" t="t" r="r" b="b"/>
            <a:pathLst>
              <a:path w="2059" h="396">
                <a:moveTo>
                  <a:pt x="1946" y="87"/>
                </a:moveTo>
                <a:lnTo>
                  <a:pt x="1960" y="98"/>
                </a:lnTo>
                <a:lnTo>
                  <a:pt x="1975" y="110"/>
                </a:lnTo>
                <a:lnTo>
                  <a:pt x="1987" y="121"/>
                </a:lnTo>
                <a:lnTo>
                  <a:pt x="2000" y="133"/>
                </a:lnTo>
                <a:lnTo>
                  <a:pt x="2010" y="142"/>
                </a:lnTo>
                <a:lnTo>
                  <a:pt x="2021" y="152"/>
                </a:lnTo>
                <a:lnTo>
                  <a:pt x="2029" y="161"/>
                </a:lnTo>
                <a:lnTo>
                  <a:pt x="2036" y="171"/>
                </a:lnTo>
                <a:lnTo>
                  <a:pt x="2044" y="179"/>
                </a:lnTo>
                <a:lnTo>
                  <a:pt x="2050" y="186"/>
                </a:lnTo>
                <a:lnTo>
                  <a:pt x="2054" y="192"/>
                </a:lnTo>
                <a:lnTo>
                  <a:pt x="2056" y="198"/>
                </a:lnTo>
                <a:lnTo>
                  <a:pt x="2058" y="204"/>
                </a:lnTo>
                <a:lnTo>
                  <a:pt x="2059" y="209"/>
                </a:lnTo>
                <a:lnTo>
                  <a:pt x="2058" y="213"/>
                </a:lnTo>
                <a:lnTo>
                  <a:pt x="2056" y="217"/>
                </a:lnTo>
                <a:lnTo>
                  <a:pt x="2054" y="219"/>
                </a:lnTo>
                <a:lnTo>
                  <a:pt x="2052" y="223"/>
                </a:lnTo>
                <a:lnTo>
                  <a:pt x="2050" y="225"/>
                </a:lnTo>
                <a:lnTo>
                  <a:pt x="2046" y="229"/>
                </a:lnTo>
                <a:lnTo>
                  <a:pt x="2040" y="230"/>
                </a:lnTo>
                <a:lnTo>
                  <a:pt x="2034" y="232"/>
                </a:lnTo>
                <a:lnTo>
                  <a:pt x="2029" y="236"/>
                </a:lnTo>
                <a:lnTo>
                  <a:pt x="2023" y="238"/>
                </a:lnTo>
                <a:lnTo>
                  <a:pt x="2015" y="240"/>
                </a:lnTo>
                <a:lnTo>
                  <a:pt x="2006" y="242"/>
                </a:lnTo>
                <a:lnTo>
                  <a:pt x="1996" y="244"/>
                </a:lnTo>
                <a:lnTo>
                  <a:pt x="1987" y="246"/>
                </a:lnTo>
                <a:lnTo>
                  <a:pt x="1975" y="248"/>
                </a:lnTo>
                <a:lnTo>
                  <a:pt x="1963" y="250"/>
                </a:lnTo>
                <a:lnTo>
                  <a:pt x="1952" y="252"/>
                </a:lnTo>
                <a:lnTo>
                  <a:pt x="1939" y="254"/>
                </a:lnTo>
                <a:lnTo>
                  <a:pt x="1925" y="255"/>
                </a:lnTo>
                <a:lnTo>
                  <a:pt x="1910" y="255"/>
                </a:lnTo>
                <a:lnTo>
                  <a:pt x="1894" y="257"/>
                </a:lnTo>
                <a:lnTo>
                  <a:pt x="1877" y="259"/>
                </a:lnTo>
                <a:lnTo>
                  <a:pt x="1860" y="259"/>
                </a:lnTo>
                <a:lnTo>
                  <a:pt x="1841" y="261"/>
                </a:lnTo>
                <a:lnTo>
                  <a:pt x="1821" y="261"/>
                </a:lnTo>
                <a:lnTo>
                  <a:pt x="1802" y="263"/>
                </a:lnTo>
                <a:lnTo>
                  <a:pt x="1781" y="263"/>
                </a:lnTo>
                <a:lnTo>
                  <a:pt x="1760" y="263"/>
                </a:lnTo>
                <a:lnTo>
                  <a:pt x="1737" y="265"/>
                </a:lnTo>
                <a:lnTo>
                  <a:pt x="1714" y="265"/>
                </a:lnTo>
                <a:lnTo>
                  <a:pt x="1689" y="265"/>
                </a:lnTo>
                <a:lnTo>
                  <a:pt x="1664" y="265"/>
                </a:lnTo>
                <a:lnTo>
                  <a:pt x="1639" y="265"/>
                </a:lnTo>
                <a:lnTo>
                  <a:pt x="1612" y="265"/>
                </a:lnTo>
                <a:lnTo>
                  <a:pt x="1503" y="267"/>
                </a:lnTo>
                <a:lnTo>
                  <a:pt x="1393" y="269"/>
                </a:lnTo>
                <a:lnTo>
                  <a:pt x="1338" y="271"/>
                </a:lnTo>
                <a:lnTo>
                  <a:pt x="1284" y="273"/>
                </a:lnTo>
                <a:lnTo>
                  <a:pt x="1228" y="277"/>
                </a:lnTo>
                <a:lnTo>
                  <a:pt x="1175" y="280"/>
                </a:lnTo>
                <a:lnTo>
                  <a:pt x="1119" y="284"/>
                </a:lnTo>
                <a:lnTo>
                  <a:pt x="1065" y="288"/>
                </a:lnTo>
                <a:lnTo>
                  <a:pt x="1010" y="294"/>
                </a:lnTo>
                <a:lnTo>
                  <a:pt x="956" y="300"/>
                </a:lnTo>
                <a:lnTo>
                  <a:pt x="900" y="305"/>
                </a:lnTo>
                <a:lnTo>
                  <a:pt x="846" y="313"/>
                </a:lnTo>
                <a:lnTo>
                  <a:pt x="791" y="323"/>
                </a:lnTo>
                <a:lnTo>
                  <a:pt x="737" y="330"/>
                </a:lnTo>
                <a:lnTo>
                  <a:pt x="710" y="336"/>
                </a:lnTo>
                <a:lnTo>
                  <a:pt x="683" y="340"/>
                </a:lnTo>
                <a:lnTo>
                  <a:pt x="658" y="344"/>
                </a:lnTo>
                <a:lnTo>
                  <a:pt x="633" y="348"/>
                </a:lnTo>
                <a:lnTo>
                  <a:pt x="608" y="351"/>
                </a:lnTo>
                <a:lnTo>
                  <a:pt x="585" y="355"/>
                </a:lnTo>
                <a:lnTo>
                  <a:pt x="562" y="359"/>
                </a:lnTo>
                <a:lnTo>
                  <a:pt x="539" y="363"/>
                </a:lnTo>
                <a:lnTo>
                  <a:pt x="518" y="365"/>
                </a:lnTo>
                <a:lnTo>
                  <a:pt x="497" y="369"/>
                </a:lnTo>
                <a:lnTo>
                  <a:pt x="476" y="371"/>
                </a:lnTo>
                <a:lnTo>
                  <a:pt x="457" y="373"/>
                </a:lnTo>
                <a:lnTo>
                  <a:pt x="438" y="376"/>
                </a:lnTo>
                <a:lnTo>
                  <a:pt x="420" y="378"/>
                </a:lnTo>
                <a:lnTo>
                  <a:pt x="403" y="380"/>
                </a:lnTo>
                <a:lnTo>
                  <a:pt x="386" y="382"/>
                </a:lnTo>
                <a:lnTo>
                  <a:pt x="370" y="384"/>
                </a:lnTo>
                <a:lnTo>
                  <a:pt x="355" y="386"/>
                </a:lnTo>
                <a:lnTo>
                  <a:pt x="340" y="388"/>
                </a:lnTo>
                <a:lnTo>
                  <a:pt x="326" y="388"/>
                </a:lnTo>
                <a:lnTo>
                  <a:pt x="315" y="390"/>
                </a:lnTo>
                <a:lnTo>
                  <a:pt x="301" y="392"/>
                </a:lnTo>
                <a:lnTo>
                  <a:pt x="290" y="392"/>
                </a:lnTo>
                <a:lnTo>
                  <a:pt x="280" y="394"/>
                </a:lnTo>
                <a:lnTo>
                  <a:pt x="271" y="394"/>
                </a:lnTo>
                <a:lnTo>
                  <a:pt x="261" y="394"/>
                </a:lnTo>
                <a:lnTo>
                  <a:pt x="251" y="396"/>
                </a:lnTo>
                <a:lnTo>
                  <a:pt x="246" y="396"/>
                </a:lnTo>
                <a:lnTo>
                  <a:pt x="238" y="396"/>
                </a:lnTo>
                <a:lnTo>
                  <a:pt x="232" y="396"/>
                </a:lnTo>
                <a:lnTo>
                  <a:pt x="226" y="396"/>
                </a:lnTo>
                <a:lnTo>
                  <a:pt x="223" y="396"/>
                </a:lnTo>
                <a:lnTo>
                  <a:pt x="215" y="396"/>
                </a:lnTo>
                <a:lnTo>
                  <a:pt x="205" y="394"/>
                </a:lnTo>
                <a:lnTo>
                  <a:pt x="196" y="392"/>
                </a:lnTo>
                <a:lnTo>
                  <a:pt x="184" y="388"/>
                </a:lnTo>
                <a:lnTo>
                  <a:pt x="173" y="382"/>
                </a:lnTo>
                <a:lnTo>
                  <a:pt x="159" y="376"/>
                </a:lnTo>
                <a:lnTo>
                  <a:pt x="146" y="369"/>
                </a:lnTo>
                <a:lnTo>
                  <a:pt x="132" y="359"/>
                </a:lnTo>
                <a:lnTo>
                  <a:pt x="117" y="349"/>
                </a:lnTo>
                <a:lnTo>
                  <a:pt x="102" y="340"/>
                </a:lnTo>
                <a:lnTo>
                  <a:pt x="86" y="326"/>
                </a:lnTo>
                <a:lnTo>
                  <a:pt x="71" y="313"/>
                </a:lnTo>
                <a:lnTo>
                  <a:pt x="54" y="300"/>
                </a:lnTo>
                <a:lnTo>
                  <a:pt x="36" y="284"/>
                </a:lnTo>
                <a:lnTo>
                  <a:pt x="19" y="267"/>
                </a:lnTo>
                <a:lnTo>
                  <a:pt x="0" y="250"/>
                </a:lnTo>
                <a:lnTo>
                  <a:pt x="8" y="250"/>
                </a:lnTo>
                <a:lnTo>
                  <a:pt x="15" y="250"/>
                </a:lnTo>
                <a:lnTo>
                  <a:pt x="23" y="250"/>
                </a:lnTo>
                <a:lnTo>
                  <a:pt x="31" y="248"/>
                </a:lnTo>
                <a:lnTo>
                  <a:pt x="40" y="248"/>
                </a:lnTo>
                <a:lnTo>
                  <a:pt x="50" y="248"/>
                </a:lnTo>
                <a:lnTo>
                  <a:pt x="59" y="248"/>
                </a:lnTo>
                <a:lnTo>
                  <a:pt x="71" y="246"/>
                </a:lnTo>
                <a:lnTo>
                  <a:pt x="83" y="246"/>
                </a:lnTo>
                <a:lnTo>
                  <a:pt x="94" y="244"/>
                </a:lnTo>
                <a:lnTo>
                  <a:pt x="106" y="244"/>
                </a:lnTo>
                <a:lnTo>
                  <a:pt x="119" y="242"/>
                </a:lnTo>
                <a:lnTo>
                  <a:pt x="132" y="240"/>
                </a:lnTo>
                <a:lnTo>
                  <a:pt x="146" y="238"/>
                </a:lnTo>
                <a:lnTo>
                  <a:pt x="161" y="236"/>
                </a:lnTo>
                <a:lnTo>
                  <a:pt x="177" y="236"/>
                </a:lnTo>
                <a:lnTo>
                  <a:pt x="192" y="232"/>
                </a:lnTo>
                <a:lnTo>
                  <a:pt x="207" y="230"/>
                </a:lnTo>
                <a:lnTo>
                  <a:pt x="225" y="229"/>
                </a:lnTo>
                <a:lnTo>
                  <a:pt x="242" y="227"/>
                </a:lnTo>
                <a:lnTo>
                  <a:pt x="259" y="225"/>
                </a:lnTo>
                <a:lnTo>
                  <a:pt x="276" y="221"/>
                </a:lnTo>
                <a:lnTo>
                  <a:pt x="296" y="219"/>
                </a:lnTo>
                <a:lnTo>
                  <a:pt x="315" y="215"/>
                </a:lnTo>
                <a:lnTo>
                  <a:pt x="334" y="211"/>
                </a:lnTo>
                <a:lnTo>
                  <a:pt x="355" y="209"/>
                </a:lnTo>
                <a:lnTo>
                  <a:pt x="376" y="206"/>
                </a:lnTo>
                <a:lnTo>
                  <a:pt x="397" y="202"/>
                </a:lnTo>
                <a:lnTo>
                  <a:pt x="418" y="198"/>
                </a:lnTo>
                <a:lnTo>
                  <a:pt x="441" y="192"/>
                </a:lnTo>
                <a:lnTo>
                  <a:pt x="463" y="188"/>
                </a:lnTo>
                <a:lnTo>
                  <a:pt x="487" y="184"/>
                </a:lnTo>
                <a:lnTo>
                  <a:pt x="576" y="165"/>
                </a:lnTo>
                <a:lnTo>
                  <a:pt x="664" y="150"/>
                </a:lnTo>
                <a:lnTo>
                  <a:pt x="750" y="135"/>
                </a:lnTo>
                <a:lnTo>
                  <a:pt x="837" y="121"/>
                </a:lnTo>
                <a:lnTo>
                  <a:pt x="923" y="108"/>
                </a:lnTo>
                <a:lnTo>
                  <a:pt x="965" y="100"/>
                </a:lnTo>
                <a:lnTo>
                  <a:pt x="1006" y="94"/>
                </a:lnTo>
                <a:lnTo>
                  <a:pt x="1048" y="88"/>
                </a:lnTo>
                <a:lnTo>
                  <a:pt x="1088" y="83"/>
                </a:lnTo>
                <a:lnTo>
                  <a:pt x="1129" y="75"/>
                </a:lnTo>
                <a:lnTo>
                  <a:pt x="1167" y="69"/>
                </a:lnTo>
                <a:lnTo>
                  <a:pt x="1205" y="67"/>
                </a:lnTo>
                <a:lnTo>
                  <a:pt x="1244" y="63"/>
                </a:lnTo>
                <a:lnTo>
                  <a:pt x="1280" y="60"/>
                </a:lnTo>
                <a:lnTo>
                  <a:pt x="1317" y="54"/>
                </a:lnTo>
                <a:lnTo>
                  <a:pt x="1351" y="50"/>
                </a:lnTo>
                <a:lnTo>
                  <a:pt x="1384" y="46"/>
                </a:lnTo>
                <a:lnTo>
                  <a:pt x="1416" y="42"/>
                </a:lnTo>
                <a:lnTo>
                  <a:pt x="1449" y="37"/>
                </a:lnTo>
                <a:lnTo>
                  <a:pt x="1480" y="33"/>
                </a:lnTo>
                <a:lnTo>
                  <a:pt x="1509" y="27"/>
                </a:lnTo>
                <a:lnTo>
                  <a:pt x="1537" y="23"/>
                </a:lnTo>
                <a:lnTo>
                  <a:pt x="1566" y="19"/>
                </a:lnTo>
                <a:lnTo>
                  <a:pt x="1593" y="16"/>
                </a:lnTo>
                <a:lnTo>
                  <a:pt x="1618" y="12"/>
                </a:lnTo>
                <a:lnTo>
                  <a:pt x="1643" y="8"/>
                </a:lnTo>
                <a:lnTo>
                  <a:pt x="1668" y="4"/>
                </a:lnTo>
                <a:lnTo>
                  <a:pt x="1689" y="2"/>
                </a:lnTo>
                <a:lnTo>
                  <a:pt x="1708" y="0"/>
                </a:lnTo>
                <a:lnTo>
                  <a:pt x="1727" y="0"/>
                </a:lnTo>
                <a:lnTo>
                  <a:pt x="1749" y="0"/>
                </a:lnTo>
                <a:lnTo>
                  <a:pt x="1768" y="2"/>
                </a:lnTo>
                <a:lnTo>
                  <a:pt x="1785" y="6"/>
                </a:lnTo>
                <a:lnTo>
                  <a:pt x="1804" y="10"/>
                </a:lnTo>
                <a:lnTo>
                  <a:pt x="1821" y="14"/>
                </a:lnTo>
                <a:lnTo>
                  <a:pt x="1839" y="19"/>
                </a:lnTo>
                <a:lnTo>
                  <a:pt x="1856" y="27"/>
                </a:lnTo>
                <a:lnTo>
                  <a:pt x="1873" y="35"/>
                </a:lnTo>
                <a:lnTo>
                  <a:pt x="1889" y="42"/>
                </a:lnTo>
                <a:lnTo>
                  <a:pt x="1904" y="52"/>
                </a:lnTo>
                <a:lnTo>
                  <a:pt x="1917" y="63"/>
                </a:lnTo>
                <a:lnTo>
                  <a:pt x="1933" y="75"/>
                </a:lnTo>
                <a:lnTo>
                  <a:pt x="1946" y="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81"/>
          <p:cNvSpPr/>
          <p:nvPr/>
        </p:nvSpPr>
        <p:spPr>
          <a:xfrm>
            <a:off x="6362640" y="3722760"/>
            <a:ext cx="947880" cy="272880"/>
          </a:xfrm>
          <a:custGeom>
            <a:avLst/>
            <a:gdLst/>
            <a:ahLst/>
            <a:rect l="l" t="t" r="r" b="b"/>
            <a:pathLst>
              <a:path w="1193" h="344">
                <a:moveTo>
                  <a:pt x="153" y="181"/>
                </a:moveTo>
                <a:lnTo>
                  <a:pt x="167" y="177"/>
                </a:lnTo>
                <a:lnTo>
                  <a:pt x="182" y="173"/>
                </a:lnTo>
                <a:lnTo>
                  <a:pt x="199" y="169"/>
                </a:lnTo>
                <a:lnTo>
                  <a:pt x="218" y="165"/>
                </a:lnTo>
                <a:lnTo>
                  <a:pt x="238" y="160"/>
                </a:lnTo>
                <a:lnTo>
                  <a:pt x="261" y="154"/>
                </a:lnTo>
                <a:lnTo>
                  <a:pt x="286" y="150"/>
                </a:lnTo>
                <a:lnTo>
                  <a:pt x="311" y="142"/>
                </a:lnTo>
                <a:lnTo>
                  <a:pt x="337" y="137"/>
                </a:lnTo>
                <a:lnTo>
                  <a:pt x="368" y="131"/>
                </a:lnTo>
                <a:lnTo>
                  <a:pt x="399" y="123"/>
                </a:lnTo>
                <a:lnTo>
                  <a:pt x="431" y="116"/>
                </a:lnTo>
                <a:lnTo>
                  <a:pt x="466" y="108"/>
                </a:lnTo>
                <a:lnTo>
                  <a:pt x="504" y="100"/>
                </a:lnTo>
                <a:lnTo>
                  <a:pt x="524" y="96"/>
                </a:lnTo>
                <a:lnTo>
                  <a:pt x="543" y="91"/>
                </a:lnTo>
                <a:lnTo>
                  <a:pt x="562" y="87"/>
                </a:lnTo>
                <a:lnTo>
                  <a:pt x="583" y="83"/>
                </a:lnTo>
                <a:lnTo>
                  <a:pt x="621" y="73"/>
                </a:lnTo>
                <a:lnTo>
                  <a:pt x="658" y="64"/>
                </a:lnTo>
                <a:lnTo>
                  <a:pt x="692" y="56"/>
                </a:lnTo>
                <a:lnTo>
                  <a:pt x="725" y="48"/>
                </a:lnTo>
                <a:lnTo>
                  <a:pt x="758" y="41"/>
                </a:lnTo>
                <a:lnTo>
                  <a:pt x="788" y="35"/>
                </a:lnTo>
                <a:lnTo>
                  <a:pt x="817" y="27"/>
                </a:lnTo>
                <a:lnTo>
                  <a:pt x="844" y="23"/>
                </a:lnTo>
                <a:lnTo>
                  <a:pt x="869" y="18"/>
                </a:lnTo>
                <a:lnTo>
                  <a:pt x="892" y="14"/>
                </a:lnTo>
                <a:lnTo>
                  <a:pt x="913" y="10"/>
                </a:lnTo>
                <a:lnTo>
                  <a:pt x="934" y="6"/>
                </a:lnTo>
                <a:lnTo>
                  <a:pt x="954" y="4"/>
                </a:lnTo>
                <a:lnTo>
                  <a:pt x="971" y="2"/>
                </a:lnTo>
                <a:lnTo>
                  <a:pt x="986" y="0"/>
                </a:lnTo>
                <a:lnTo>
                  <a:pt x="1000" y="0"/>
                </a:lnTo>
                <a:lnTo>
                  <a:pt x="1021" y="0"/>
                </a:lnTo>
                <a:lnTo>
                  <a:pt x="1040" y="0"/>
                </a:lnTo>
                <a:lnTo>
                  <a:pt x="1057" y="0"/>
                </a:lnTo>
                <a:lnTo>
                  <a:pt x="1074" y="2"/>
                </a:lnTo>
                <a:lnTo>
                  <a:pt x="1092" y="4"/>
                </a:lnTo>
                <a:lnTo>
                  <a:pt x="1107" y="8"/>
                </a:lnTo>
                <a:lnTo>
                  <a:pt x="1122" y="12"/>
                </a:lnTo>
                <a:lnTo>
                  <a:pt x="1138" y="18"/>
                </a:lnTo>
                <a:lnTo>
                  <a:pt x="1145" y="20"/>
                </a:lnTo>
                <a:lnTo>
                  <a:pt x="1153" y="23"/>
                </a:lnTo>
                <a:lnTo>
                  <a:pt x="1159" y="27"/>
                </a:lnTo>
                <a:lnTo>
                  <a:pt x="1165" y="31"/>
                </a:lnTo>
                <a:lnTo>
                  <a:pt x="1170" y="35"/>
                </a:lnTo>
                <a:lnTo>
                  <a:pt x="1174" y="41"/>
                </a:lnTo>
                <a:lnTo>
                  <a:pt x="1178" y="45"/>
                </a:lnTo>
                <a:lnTo>
                  <a:pt x="1182" y="50"/>
                </a:lnTo>
                <a:lnTo>
                  <a:pt x="1186" y="54"/>
                </a:lnTo>
                <a:lnTo>
                  <a:pt x="1188" y="58"/>
                </a:lnTo>
                <a:lnTo>
                  <a:pt x="1192" y="68"/>
                </a:lnTo>
                <a:lnTo>
                  <a:pt x="1193" y="75"/>
                </a:lnTo>
                <a:lnTo>
                  <a:pt x="1193" y="83"/>
                </a:lnTo>
                <a:lnTo>
                  <a:pt x="1193" y="89"/>
                </a:lnTo>
                <a:lnTo>
                  <a:pt x="1192" y="96"/>
                </a:lnTo>
                <a:lnTo>
                  <a:pt x="1190" y="106"/>
                </a:lnTo>
                <a:lnTo>
                  <a:pt x="1186" y="114"/>
                </a:lnTo>
                <a:lnTo>
                  <a:pt x="1182" y="123"/>
                </a:lnTo>
                <a:lnTo>
                  <a:pt x="1176" y="133"/>
                </a:lnTo>
                <a:lnTo>
                  <a:pt x="1170" y="140"/>
                </a:lnTo>
                <a:lnTo>
                  <a:pt x="1167" y="148"/>
                </a:lnTo>
                <a:lnTo>
                  <a:pt x="1161" y="150"/>
                </a:lnTo>
                <a:lnTo>
                  <a:pt x="1155" y="154"/>
                </a:lnTo>
                <a:lnTo>
                  <a:pt x="1147" y="158"/>
                </a:lnTo>
                <a:lnTo>
                  <a:pt x="1140" y="162"/>
                </a:lnTo>
                <a:lnTo>
                  <a:pt x="1132" y="165"/>
                </a:lnTo>
                <a:lnTo>
                  <a:pt x="1122" y="171"/>
                </a:lnTo>
                <a:lnTo>
                  <a:pt x="1113" y="175"/>
                </a:lnTo>
                <a:lnTo>
                  <a:pt x="1101" y="179"/>
                </a:lnTo>
                <a:lnTo>
                  <a:pt x="1090" y="185"/>
                </a:lnTo>
                <a:lnTo>
                  <a:pt x="1078" y="188"/>
                </a:lnTo>
                <a:lnTo>
                  <a:pt x="1065" y="192"/>
                </a:lnTo>
                <a:lnTo>
                  <a:pt x="1051" y="198"/>
                </a:lnTo>
                <a:lnTo>
                  <a:pt x="1036" y="202"/>
                </a:lnTo>
                <a:lnTo>
                  <a:pt x="1021" y="206"/>
                </a:lnTo>
                <a:lnTo>
                  <a:pt x="1003" y="210"/>
                </a:lnTo>
                <a:lnTo>
                  <a:pt x="986" y="213"/>
                </a:lnTo>
                <a:lnTo>
                  <a:pt x="967" y="219"/>
                </a:lnTo>
                <a:lnTo>
                  <a:pt x="946" y="225"/>
                </a:lnTo>
                <a:lnTo>
                  <a:pt x="925" y="231"/>
                </a:lnTo>
                <a:lnTo>
                  <a:pt x="904" y="236"/>
                </a:lnTo>
                <a:lnTo>
                  <a:pt x="879" y="242"/>
                </a:lnTo>
                <a:lnTo>
                  <a:pt x="854" y="248"/>
                </a:lnTo>
                <a:lnTo>
                  <a:pt x="827" y="254"/>
                </a:lnTo>
                <a:lnTo>
                  <a:pt x="800" y="259"/>
                </a:lnTo>
                <a:lnTo>
                  <a:pt x="771" y="265"/>
                </a:lnTo>
                <a:lnTo>
                  <a:pt x="742" y="269"/>
                </a:lnTo>
                <a:lnTo>
                  <a:pt x="712" y="275"/>
                </a:lnTo>
                <a:lnTo>
                  <a:pt x="679" y="279"/>
                </a:lnTo>
                <a:lnTo>
                  <a:pt x="646" y="283"/>
                </a:lnTo>
                <a:lnTo>
                  <a:pt x="612" y="286"/>
                </a:lnTo>
                <a:lnTo>
                  <a:pt x="577" y="290"/>
                </a:lnTo>
                <a:lnTo>
                  <a:pt x="541" y="294"/>
                </a:lnTo>
                <a:lnTo>
                  <a:pt x="522" y="298"/>
                </a:lnTo>
                <a:lnTo>
                  <a:pt x="504" y="300"/>
                </a:lnTo>
                <a:lnTo>
                  <a:pt x="485" y="304"/>
                </a:lnTo>
                <a:lnTo>
                  <a:pt x="468" y="306"/>
                </a:lnTo>
                <a:lnTo>
                  <a:pt x="451" y="307"/>
                </a:lnTo>
                <a:lnTo>
                  <a:pt x="433" y="311"/>
                </a:lnTo>
                <a:lnTo>
                  <a:pt x="418" y="313"/>
                </a:lnTo>
                <a:lnTo>
                  <a:pt x="403" y="315"/>
                </a:lnTo>
                <a:lnTo>
                  <a:pt x="387" y="317"/>
                </a:lnTo>
                <a:lnTo>
                  <a:pt x="374" y="321"/>
                </a:lnTo>
                <a:lnTo>
                  <a:pt x="360" y="323"/>
                </a:lnTo>
                <a:lnTo>
                  <a:pt x="347" y="325"/>
                </a:lnTo>
                <a:lnTo>
                  <a:pt x="334" y="327"/>
                </a:lnTo>
                <a:lnTo>
                  <a:pt x="322" y="329"/>
                </a:lnTo>
                <a:lnTo>
                  <a:pt x="311" y="329"/>
                </a:lnTo>
                <a:lnTo>
                  <a:pt x="299" y="330"/>
                </a:lnTo>
                <a:lnTo>
                  <a:pt x="288" y="332"/>
                </a:lnTo>
                <a:lnTo>
                  <a:pt x="278" y="334"/>
                </a:lnTo>
                <a:lnTo>
                  <a:pt x="259" y="336"/>
                </a:lnTo>
                <a:lnTo>
                  <a:pt x="240" y="338"/>
                </a:lnTo>
                <a:lnTo>
                  <a:pt x="224" y="340"/>
                </a:lnTo>
                <a:lnTo>
                  <a:pt x="211" y="342"/>
                </a:lnTo>
                <a:lnTo>
                  <a:pt x="199" y="342"/>
                </a:lnTo>
                <a:lnTo>
                  <a:pt x="190" y="342"/>
                </a:lnTo>
                <a:lnTo>
                  <a:pt x="180" y="344"/>
                </a:lnTo>
                <a:lnTo>
                  <a:pt x="165" y="342"/>
                </a:lnTo>
                <a:lnTo>
                  <a:pt x="149" y="340"/>
                </a:lnTo>
                <a:lnTo>
                  <a:pt x="142" y="338"/>
                </a:lnTo>
                <a:lnTo>
                  <a:pt x="132" y="336"/>
                </a:lnTo>
                <a:lnTo>
                  <a:pt x="124" y="332"/>
                </a:lnTo>
                <a:lnTo>
                  <a:pt x="117" y="329"/>
                </a:lnTo>
                <a:lnTo>
                  <a:pt x="109" y="325"/>
                </a:lnTo>
                <a:lnTo>
                  <a:pt x="101" y="321"/>
                </a:lnTo>
                <a:lnTo>
                  <a:pt x="94" y="315"/>
                </a:lnTo>
                <a:lnTo>
                  <a:pt x="86" y="309"/>
                </a:lnTo>
                <a:lnTo>
                  <a:pt x="78" y="302"/>
                </a:lnTo>
                <a:lnTo>
                  <a:pt x="71" y="294"/>
                </a:lnTo>
                <a:lnTo>
                  <a:pt x="63" y="286"/>
                </a:lnTo>
                <a:lnTo>
                  <a:pt x="55" y="279"/>
                </a:lnTo>
                <a:lnTo>
                  <a:pt x="46" y="269"/>
                </a:lnTo>
                <a:lnTo>
                  <a:pt x="36" y="261"/>
                </a:lnTo>
                <a:lnTo>
                  <a:pt x="28" y="254"/>
                </a:lnTo>
                <a:lnTo>
                  <a:pt x="21" y="246"/>
                </a:lnTo>
                <a:lnTo>
                  <a:pt x="15" y="240"/>
                </a:lnTo>
                <a:lnTo>
                  <a:pt x="11" y="235"/>
                </a:lnTo>
                <a:lnTo>
                  <a:pt x="7" y="229"/>
                </a:lnTo>
                <a:lnTo>
                  <a:pt x="3" y="225"/>
                </a:lnTo>
                <a:lnTo>
                  <a:pt x="2" y="221"/>
                </a:lnTo>
                <a:lnTo>
                  <a:pt x="0" y="215"/>
                </a:lnTo>
                <a:lnTo>
                  <a:pt x="0" y="212"/>
                </a:lnTo>
                <a:lnTo>
                  <a:pt x="2" y="210"/>
                </a:lnTo>
                <a:lnTo>
                  <a:pt x="2" y="206"/>
                </a:lnTo>
                <a:lnTo>
                  <a:pt x="5" y="202"/>
                </a:lnTo>
                <a:lnTo>
                  <a:pt x="9" y="200"/>
                </a:lnTo>
                <a:lnTo>
                  <a:pt x="13" y="196"/>
                </a:lnTo>
                <a:lnTo>
                  <a:pt x="25" y="190"/>
                </a:lnTo>
                <a:lnTo>
                  <a:pt x="38" y="187"/>
                </a:lnTo>
                <a:lnTo>
                  <a:pt x="51" y="183"/>
                </a:lnTo>
                <a:lnTo>
                  <a:pt x="59" y="183"/>
                </a:lnTo>
                <a:lnTo>
                  <a:pt x="67" y="181"/>
                </a:lnTo>
                <a:lnTo>
                  <a:pt x="76" y="181"/>
                </a:lnTo>
                <a:lnTo>
                  <a:pt x="86" y="181"/>
                </a:lnTo>
                <a:lnTo>
                  <a:pt x="96" y="181"/>
                </a:lnTo>
                <a:lnTo>
                  <a:pt x="105" y="181"/>
                </a:lnTo>
                <a:lnTo>
                  <a:pt x="117" y="181"/>
                </a:lnTo>
                <a:lnTo>
                  <a:pt x="128" y="181"/>
                </a:lnTo>
                <a:lnTo>
                  <a:pt x="140" y="181"/>
                </a:lnTo>
                <a:lnTo>
                  <a:pt x="153" y="1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82"/>
          <p:cNvSpPr/>
          <p:nvPr/>
        </p:nvSpPr>
        <p:spPr>
          <a:xfrm>
            <a:off x="5546880" y="2946240"/>
            <a:ext cx="661680" cy="2124360"/>
          </a:xfrm>
          <a:custGeom>
            <a:avLst/>
            <a:gdLst/>
            <a:ahLst/>
            <a:rect l="l" t="t" r="r" b="b"/>
            <a:pathLst>
              <a:path w="833" h="2675">
                <a:moveTo>
                  <a:pt x="764" y="326"/>
                </a:moveTo>
                <a:lnTo>
                  <a:pt x="760" y="328"/>
                </a:lnTo>
                <a:lnTo>
                  <a:pt x="756" y="332"/>
                </a:lnTo>
                <a:lnTo>
                  <a:pt x="752" y="337"/>
                </a:lnTo>
                <a:lnTo>
                  <a:pt x="748" y="345"/>
                </a:lnTo>
                <a:lnTo>
                  <a:pt x="744" y="355"/>
                </a:lnTo>
                <a:lnTo>
                  <a:pt x="743" y="366"/>
                </a:lnTo>
                <a:lnTo>
                  <a:pt x="739" y="378"/>
                </a:lnTo>
                <a:lnTo>
                  <a:pt x="737" y="393"/>
                </a:lnTo>
                <a:lnTo>
                  <a:pt x="733" y="408"/>
                </a:lnTo>
                <a:lnTo>
                  <a:pt x="731" y="426"/>
                </a:lnTo>
                <a:lnTo>
                  <a:pt x="729" y="445"/>
                </a:lnTo>
                <a:lnTo>
                  <a:pt x="727" y="466"/>
                </a:lnTo>
                <a:lnTo>
                  <a:pt x="725" y="489"/>
                </a:lnTo>
                <a:lnTo>
                  <a:pt x="723" y="512"/>
                </a:lnTo>
                <a:lnTo>
                  <a:pt x="721" y="539"/>
                </a:lnTo>
                <a:lnTo>
                  <a:pt x="720" y="566"/>
                </a:lnTo>
                <a:lnTo>
                  <a:pt x="718" y="595"/>
                </a:lnTo>
                <a:lnTo>
                  <a:pt x="716" y="625"/>
                </a:lnTo>
                <a:lnTo>
                  <a:pt x="716" y="658"/>
                </a:lnTo>
                <a:lnTo>
                  <a:pt x="714" y="692"/>
                </a:lnTo>
                <a:lnTo>
                  <a:pt x="712" y="729"/>
                </a:lnTo>
                <a:lnTo>
                  <a:pt x="712" y="765"/>
                </a:lnTo>
                <a:lnTo>
                  <a:pt x="710" y="804"/>
                </a:lnTo>
                <a:lnTo>
                  <a:pt x="710" y="844"/>
                </a:lnTo>
                <a:lnTo>
                  <a:pt x="710" y="886"/>
                </a:lnTo>
                <a:lnTo>
                  <a:pt x="708" y="930"/>
                </a:lnTo>
                <a:lnTo>
                  <a:pt x="708" y="975"/>
                </a:lnTo>
                <a:lnTo>
                  <a:pt x="708" y="1021"/>
                </a:lnTo>
                <a:lnTo>
                  <a:pt x="708" y="1069"/>
                </a:lnTo>
                <a:lnTo>
                  <a:pt x="708" y="1118"/>
                </a:lnTo>
                <a:lnTo>
                  <a:pt x="708" y="1170"/>
                </a:lnTo>
                <a:lnTo>
                  <a:pt x="708" y="1224"/>
                </a:lnTo>
                <a:lnTo>
                  <a:pt x="708" y="1278"/>
                </a:lnTo>
                <a:lnTo>
                  <a:pt x="708" y="1332"/>
                </a:lnTo>
                <a:lnTo>
                  <a:pt x="708" y="1383"/>
                </a:lnTo>
                <a:lnTo>
                  <a:pt x="706" y="1433"/>
                </a:lnTo>
                <a:lnTo>
                  <a:pt x="706" y="1483"/>
                </a:lnTo>
                <a:lnTo>
                  <a:pt x="706" y="1533"/>
                </a:lnTo>
                <a:lnTo>
                  <a:pt x="706" y="1581"/>
                </a:lnTo>
                <a:lnTo>
                  <a:pt x="706" y="1627"/>
                </a:lnTo>
                <a:lnTo>
                  <a:pt x="706" y="1671"/>
                </a:lnTo>
                <a:lnTo>
                  <a:pt x="706" y="1715"/>
                </a:lnTo>
                <a:lnTo>
                  <a:pt x="706" y="1760"/>
                </a:lnTo>
                <a:lnTo>
                  <a:pt x="706" y="1800"/>
                </a:lnTo>
                <a:lnTo>
                  <a:pt x="706" y="1840"/>
                </a:lnTo>
                <a:lnTo>
                  <a:pt x="706" y="1880"/>
                </a:lnTo>
                <a:lnTo>
                  <a:pt x="706" y="1919"/>
                </a:lnTo>
                <a:lnTo>
                  <a:pt x="706" y="1955"/>
                </a:lnTo>
                <a:lnTo>
                  <a:pt x="704" y="1992"/>
                </a:lnTo>
                <a:lnTo>
                  <a:pt x="704" y="2026"/>
                </a:lnTo>
                <a:lnTo>
                  <a:pt x="704" y="2059"/>
                </a:lnTo>
                <a:lnTo>
                  <a:pt x="704" y="2092"/>
                </a:lnTo>
                <a:lnTo>
                  <a:pt x="702" y="2122"/>
                </a:lnTo>
                <a:lnTo>
                  <a:pt x="702" y="2151"/>
                </a:lnTo>
                <a:lnTo>
                  <a:pt x="702" y="2180"/>
                </a:lnTo>
                <a:lnTo>
                  <a:pt x="700" y="2209"/>
                </a:lnTo>
                <a:lnTo>
                  <a:pt x="700" y="2234"/>
                </a:lnTo>
                <a:lnTo>
                  <a:pt x="700" y="2259"/>
                </a:lnTo>
                <a:lnTo>
                  <a:pt x="698" y="2282"/>
                </a:lnTo>
                <a:lnTo>
                  <a:pt x="698" y="2305"/>
                </a:lnTo>
                <a:lnTo>
                  <a:pt x="696" y="2326"/>
                </a:lnTo>
                <a:lnTo>
                  <a:pt x="696" y="2345"/>
                </a:lnTo>
                <a:lnTo>
                  <a:pt x="695" y="2364"/>
                </a:lnTo>
                <a:lnTo>
                  <a:pt x="693" y="2381"/>
                </a:lnTo>
                <a:lnTo>
                  <a:pt x="693" y="2401"/>
                </a:lnTo>
                <a:lnTo>
                  <a:pt x="691" y="2418"/>
                </a:lnTo>
                <a:lnTo>
                  <a:pt x="689" y="2435"/>
                </a:lnTo>
                <a:lnTo>
                  <a:pt x="689" y="2450"/>
                </a:lnTo>
                <a:lnTo>
                  <a:pt x="687" y="2466"/>
                </a:lnTo>
                <a:lnTo>
                  <a:pt x="685" y="2481"/>
                </a:lnTo>
                <a:lnTo>
                  <a:pt x="685" y="2497"/>
                </a:lnTo>
                <a:lnTo>
                  <a:pt x="683" y="2510"/>
                </a:lnTo>
                <a:lnTo>
                  <a:pt x="681" y="2523"/>
                </a:lnTo>
                <a:lnTo>
                  <a:pt x="679" y="2537"/>
                </a:lnTo>
                <a:lnTo>
                  <a:pt x="679" y="2548"/>
                </a:lnTo>
                <a:lnTo>
                  <a:pt x="677" y="2562"/>
                </a:lnTo>
                <a:lnTo>
                  <a:pt x="675" y="2571"/>
                </a:lnTo>
                <a:lnTo>
                  <a:pt x="673" y="2583"/>
                </a:lnTo>
                <a:lnTo>
                  <a:pt x="672" y="2593"/>
                </a:lnTo>
                <a:lnTo>
                  <a:pt x="672" y="2602"/>
                </a:lnTo>
                <a:lnTo>
                  <a:pt x="670" y="2612"/>
                </a:lnTo>
                <a:lnTo>
                  <a:pt x="668" y="2619"/>
                </a:lnTo>
                <a:lnTo>
                  <a:pt x="666" y="2627"/>
                </a:lnTo>
                <a:lnTo>
                  <a:pt x="664" y="2635"/>
                </a:lnTo>
                <a:lnTo>
                  <a:pt x="662" y="2641"/>
                </a:lnTo>
                <a:lnTo>
                  <a:pt x="660" y="2646"/>
                </a:lnTo>
                <a:lnTo>
                  <a:pt x="658" y="2652"/>
                </a:lnTo>
                <a:lnTo>
                  <a:pt x="656" y="2658"/>
                </a:lnTo>
                <a:lnTo>
                  <a:pt x="654" y="2662"/>
                </a:lnTo>
                <a:lnTo>
                  <a:pt x="652" y="2665"/>
                </a:lnTo>
                <a:lnTo>
                  <a:pt x="650" y="2669"/>
                </a:lnTo>
                <a:lnTo>
                  <a:pt x="647" y="2671"/>
                </a:lnTo>
                <a:lnTo>
                  <a:pt x="645" y="2673"/>
                </a:lnTo>
                <a:lnTo>
                  <a:pt x="643" y="2675"/>
                </a:lnTo>
                <a:lnTo>
                  <a:pt x="641" y="2675"/>
                </a:lnTo>
                <a:lnTo>
                  <a:pt x="637" y="2675"/>
                </a:lnTo>
                <a:lnTo>
                  <a:pt x="633" y="2675"/>
                </a:lnTo>
                <a:lnTo>
                  <a:pt x="627" y="2673"/>
                </a:lnTo>
                <a:lnTo>
                  <a:pt x="622" y="2671"/>
                </a:lnTo>
                <a:lnTo>
                  <a:pt x="616" y="2665"/>
                </a:lnTo>
                <a:lnTo>
                  <a:pt x="612" y="2662"/>
                </a:lnTo>
                <a:lnTo>
                  <a:pt x="606" y="2654"/>
                </a:lnTo>
                <a:lnTo>
                  <a:pt x="601" y="2646"/>
                </a:lnTo>
                <a:lnTo>
                  <a:pt x="595" y="2637"/>
                </a:lnTo>
                <a:lnTo>
                  <a:pt x="591" y="2627"/>
                </a:lnTo>
                <a:lnTo>
                  <a:pt x="585" y="2614"/>
                </a:lnTo>
                <a:lnTo>
                  <a:pt x="579" y="2600"/>
                </a:lnTo>
                <a:lnTo>
                  <a:pt x="576" y="2587"/>
                </a:lnTo>
                <a:lnTo>
                  <a:pt x="570" y="2569"/>
                </a:lnTo>
                <a:lnTo>
                  <a:pt x="564" y="2552"/>
                </a:lnTo>
                <a:lnTo>
                  <a:pt x="560" y="2533"/>
                </a:lnTo>
                <a:lnTo>
                  <a:pt x="554" y="2512"/>
                </a:lnTo>
                <a:lnTo>
                  <a:pt x="547" y="2493"/>
                </a:lnTo>
                <a:lnTo>
                  <a:pt x="541" y="2474"/>
                </a:lnTo>
                <a:lnTo>
                  <a:pt x="535" y="2454"/>
                </a:lnTo>
                <a:lnTo>
                  <a:pt x="531" y="2433"/>
                </a:lnTo>
                <a:lnTo>
                  <a:pt x="528" y="2410"/>
                </a:lnTo>
                <a:lnTo>
                  <a:pt x="524" y="2389"/>
                </a:lnTo>
                <a:lnTo>
                  <a:pt x="522" y="2364"/>
                </a:lnTo>
                <a:lnTo>
                  <a:pt x="520" y="2341"/>
                </a:lnTo>
                <a:lnTo>
                  <a:pt x="518" y="2316"/>
                </a:lnTo>
                <a:lnTo>
                  <a:pt x="518" y="2291"/>
                </a:lnTo>
                <a:lnTo>
                  <a:pt x="518" y="2264"/>
                </a:lnTo>
                <a:lnTo>
                  <a:pt x="520" y="2237"/>
                </a:lnTo>
                <a:lnTo>
                  <a:pt x="520" y="2209"/>
                </a:lnTo>
                <a:lnTo>
                  <a:pt x="522" y="2180"/>
                </a:lnTo>
                <a:lnTo>
                  <a:pt x="524" y="2151"/>
                </a:lnTo>
                <a:lnTo>
                  <a:pt x="528" y="2120"/>
                </a:lnTo>
                <a:lnTo>
                  <a:pt x="529" y="2092"/>
                </a:lnTo>
                <a:lnTo>
                  <a:pt x="531" y="2063"/>
                </a:lnTo>
                <a:lnTo>
                  <a:pt x="533" y="2030"/>
                </a:lnTo>
                <a:lnTo>
                  <a:pt x="535" y="1996"/>
                </a:lnTo>
                <a:lnTo>
                  <a:pt x="535" y="1959"/>
                </a:lnTo>
                <a:lnTo>
                  <a:pt x="537" y="1923"/>
                </a:lnTo>
                <a:lnTo>
                  <a:pt x="537" y="1884"/>
                </a:lnTo>
                <a:lnTo>
                  <a:pt x="539" y="1844"/>
                </a:lnTo>
                <a:lnTo>
                  <a:pt x="539" y="1802"/>
                </a:lnTo>
                <a:lnTo>
                  <a:pt x="539" y="1758"/>
                </a:lnTo>
                <a:lnTo>
                  <a:pt x="539" y="1713"/>
                </a:lnTo>
                <a:lnTo>
                  <a:pt x="541" y="1665"/>
                </a:lnTo>
                <a:lnTo>
                  <a:pt x="541" y="1619"/>
                </a:lnTo>
                <a:lnTo>
                  <a:pt x="541" y="1570"/>
                </a:lnTo>
                <a:lnTo>
                  <a:pt x="541" y="1520"/>
                </a:lnTo>
                <a:lnTo>
                  <a:pt x="541" y="1468"/>
                </a:lnTo>
                <a:lnTo>
                  <a:pt x="541" y="1364"/>
                </a:lnTo>
                <a:lnTo>
                  <a:pt x="541" y="1262"/>
                </a:lnTo>
                <a:lnTo>
                  <a:pt x="539" y="1163"/>
                </a:lnTo>
                <a:lnTo>
                  <a:pt x="539" y="1065"/>
                </a:lnTo>
                <a:lnTo>
                  <a:pt x="537" y="967"/>
                </a:lnTo>
                <a:lnTo>
                  <a:pt x="535" y="871"/>
                </a:lnTo>
                <a:lnTo>
                  <a:pt x="531" y="777"/>
                </a:lnTo>
                <a:lnTo>
                  <a:pt x="528" y="685"/>
                </a:lnTo>
                <a:lnTo>
                  <a:pt x="526" y="662"/>
                </a:lnTo>
                <a:lnTo>
                  <a:pt x="524" y="641"/>
                </a:lnTo>
                <a:lnTo>
                  <a:pt x="522" y="618"/>
                </a:lnTo>
                <a:lnTo>
                  <a:pt x="522" y="598"/>
                </a:lnTo>
                <a:lnTo>
                  <a:pt x="520" y="577"/>
                </a:lnTo>
                <a:lnTo>
                  <a:pt x="518" y="558"/>
                </a:lnTo>
                <a:lnTo>
                  <a:pt x="518" y="541"/>
                </a:lnTo>
                <a:lnTo>
                  <a:pt x="516" y="522"/>
                </a:lnTo>
                <a:lnTo>
                  <a:pt x="514" y="504"/>
                </a:lnTo>
                <a:lnTo>
                  <a:pt x="514" y="487"/>
                </a:lnTo>
                <a:lnTo>
                  <a:pt x="512" y="472"/>
                </a:lnTo>
                <a:lnTo>
                  <a:pt x="510" y="456"/>
                </a:lnTo>
                <a:lnTo>
                  <a:pt x="510" y="441"/>
                </a:lnTo>
                <a:lnTo>
                  <a:pt x="508" y="428"/>
                </a:lnTo>
                <a:lnTo>
                  <a:pt x="506" y="414"/>
                </a:lnTo>
                <a:lnTo>
                  <a:pt x="506" y="401"/>
                </a:lnTo>
                <a:lnTo>
                  <a:pt x="505" y="389"/>
                </a:lnTo>
                <a:lnTo>
                  <a:pt x="503" y="378"/>
                </a:lnTo>
                <a:lnTo>
                  <a:pt x="501" y="366"/>
                </a:lnTo>
                <a:lnTo>
                  <a:pt x="501" y="355"/>
                </a:lnTo>
                <a:lnTo>
                  <a:pt x="499" y="345"/>
                </a:lnTo>
                <a:lnTo>
                  <a:pt x="497" y="335"/>
                </a:lnTo>
                <a:lnTo>
                  <a:pt x="497" y="328"/>
                </a:lnTo>
                <a:lnTo>
                  <a:pt x="495" y="320"/>
                </a:lnTo>
                <a:lnTo>
                  <a:pt x="493" y="312"/>
                </a:lnTo>
                <a:lnTo>
                  <a:pt x="493" y="305"/>
                </a:lnTo>
                <a:lnTo>
                  <a:pt x="491" y="299"/>
                </a:lnTo>
                <a:lnTo>
                  <a:pt x="489" y="293"/>
                </a:lnTo>
                <a:lnTo>
                  <a:pt x="489" y="287"/>
                </a:lnTo>
                <a:lnTo>
                  <a:pt x="487" y="284"/>
                </a:lnTo>
                <a:lnTo>
                  <a:pt x="485" y="280"/>
                </a:lnTo>
                <a:lnTo>
                  <a:pt x="485" y="276"/>
                </a:lnTo>
                <a:lnTo>
                  <a:pt x="480" y="270"/>
                </a:lnTo>
                <a:lnTo>
                  <a:pt x="474" y="266"/>
                </a:lnTo>
                <a:lnTo>
                  <a:pt x="466" y="261"/>
                </a:lnTo>
                <a:lnTo>
                  <a:pt x="458" y="257"/>
                </a:lnTo>
                <a:lnTo>
                  <a:pt x="451" y="255"/>
                </a:lnTo>
                <a:lnTo>
                  <a:pt x="441" y="253"/>
                </a:lnTo>
                <a:lnTo>
                  <a:pt x="434" y="251"/>
                </a:lnTo>
                <a:lnTo>
                  <a:pt x="422" y="249"/>
                </a:lnTo>
                <a:lnTo>
                  <a:pt x="412" y="249"/>
                </a:lnTo>
                <a:lnTo>
                  <a:pt x="401" y="249"/>
                </a:lnTo>
                <a:lnTo>
                  <a:pt x="387" y="249"/>
                </a:lnTo>
                <a:lnTo>
                  <a:pt x="376" y="251"/>
                </a:lnTo>
                <a:lnTo>
                  <a:pt x="363" y="253"/>
                </a:lnTo>
                <a:lnTo>
                  <a:pt x="349" y="255"/>
                </a:lnTo>
                <a:lnTo>
                  <a:pt x="334" y="257"/>
                </a:lnTo>
                <a:lnTo>
                  <a:pt x="318" y="261"/>
                </a:lnTo>
                <a:lnTo>
                  <a:pt x="282" y="272"/>
                </a:lnTo>
                <a:lnTo>
                  <a:pt x="245" y="282"/>
                </a:lnTo>
                <a:lnTo>
                  <a:pt x="207" y="289"/>
                </a:lnTo>
                <a:lnTo>
                  <a:pt x="169" y="297"/>
                </a:lnTo>
                <a:lnTo>
                  <a:pt x="128" y="303"/>
                </a:lnTo>
                <a:lnTo>
                  <a:pt x="109" y="305"/>
                </a:lnTo>
                <a:lnTo>
                  <a:pt x="88" y="307"/>
                </a:lnTo>
                <a:lnTo>
                  <a:pt x="67" y="307"/>
                </a:lnTo>
                <a:lnTo>
                  <a:pt x="44" y="309"/>
                </a:lnTo>
                <a:lnTo>
                  <a:pt x="23" y="309"/>
                </a:lnTo>
                <a:lnTo>
                  <a:pt x="0" y="309"/>
                </a:lnTo>
                <a:lnTo>
                  <a:pt x="0" y="253"/>
                </a:lnTo>
                <a:lnTo>
                  <a:pt x="0" y="195"/>
                </a:lnTo>
                <a:lnTo>
                  <a:pt x="25" y="191"/>
                </a:lnTo>
                <a:lnTo>
                  <a:pt x="50" y="188"/>
                </a:lnTo>
                <a:lnTo>
                  <a:pt x="75" y="184"/>
                </a:lnTo>
                <a:lnTo>
                  <a:pt x="98" y="180"/>
                </a:lnTo>
                <a:lnTo>
                  <a:pt x="121" y="176"/>
                </a:lnTo>
                <a:lnTo>
                  <a:pt x="144" y="170"/>
                </a:lnTo>
                <a:lnTo>
                  <a:pt x="165" y="165"/>
                </a:lnTo>
                <a:lnTo>
                  <a:pt x="186" y="161"/>
                </a:lnTo>
                <a:lnTo>
                  <a:pt x="207" y="155"/>
                </a:lnTo>
                <a:lnTo>
                  <a:pt x="226" y="149"/>
                </a:lnTo>
                <a:lnTo>
                  <a:pt x="245" y="143"/>
                </a:lnTo>
                <a:lnTo>
                  <a:pt x="265" y="138"/>
                </a:lnTo>
                <a:lnTo>
                  <a:pt x="282" y="132"/>
                </a:lnTo>
                <a:lnTo>
                  <a:pt x="299" y="126"/>
                </a:lnTo>
                <a:lnTo>
                  <a:pt x="316" y="119"/>
                </a:lnTo>
                <a:lnTo>
                  <a:pt x="332" y="113"/>
                </a:lnTo>
                <a:lnTo>
                  <a:pt x="357" y="107"/>
                </a:lnTo>
                <a:lnTo>
                  <a:pt x="370" y="103"/>
                </a:lnTo>
                <a:lnTo>
                  <a:pt x="382" y="97"/>
                </a:lnTo>
                <a:lnTo>
                  <a:pt x="391" y="94"/>
                </a:lnTo>
                <a:lnTo>
                  <a:pt x="403" y="88"/>
                </a:lnTo>
                <a:lnTo>
                  <a:pt x="412" y="84"/>
                </a:lnTo>
                <a:lnTo>
                  <a:pt x="422" y="78"/>
                </a:lnTo>
                <a:lnTo>
                  <a:pt x="432" y="72"/>
                </a:lnTo>
                <a:lnTo>
                  <a:pt x="439" y="67"/>
                </a:lnTo>
                <a:lnTo>
                  <a:pt x="447" y="61"/>
                </a:lnTo>
                <a:lnTo>
                  <a:pt x="453" y="55"/>
                </a:lnTo>
                <a:lnTo>
                  <a:pt x="458" y="49"/>
                </a:lnTo>
                <a:lnTo>
                  <a:pt x="464" y="44"/>
                </a:lnTo>
                <a:lnTo>
                  <a:pt x="468" y="38"/>
                </a:lnTo>
                <a:lnTo>
                  <a:pt x="472" y="32"/>
                </a:lnTo>
                <a:lnTo>
                  <a:pt x="476" y="26"/>
                </a:lnTo>
                <a:lnTo>
                  <a:pt x="482" y="19"/>
                </a:lnTo>
                <a:lnTo>
                  <a:pt x="487" y="15"/>
                </a:lnTo>
                <a:lnTo>
                  <a:pt x="495" y="9"/>
                </a:lnTo>
                <a:lnTo>
                  <a:pt x="505" y="5"/>
                </a:lnTo>
                <a:lnTo>
                  <a:pt x="508" y="3"/>
                </a:lnTo>
                <a:lnTo>
                  <a:pt x="514" y="1"/>
                </a:lnTo>
                <a:lnTo>
                  <a:pt x="520" y="1"/>
                </a:lnTo>
                <a:lnTo>
                  <a:pt x="526" y="0"/>
                </a:lnTo>
                <a:lnTo>
                  <a:pt x="533" y="0"/>
                </a:lnTo>
                <a:lnTo>
                  <a:pt x="541" y="0"/>
                </a:lnTo>
                <a:lnTo>
                  <a:pt x="549" y="0"/>
                </a:lnTo>
                <a:lnTo>
                  <a:pt x="556" y="1"/>
                </a:lnTo>
                <a:lnTo>
                  <a:pt x="566" y="3"/>
                </a:lnTo>
                <a:lnTo>
                  <a:pt x="574" y="5"/>
                </a:lnTo>
                <a:lnTo>
                  <a:pt x="583" y="9"/>
                </a:lnTo>
                <a:lnTo>
                  <a:pt x="593" y="13"/>
                </a:lnTo>
                <a:lnTo>
                  <a:pt x="604" y="17"/>
                </a:lnTo>
                <a:lnTo>
                  <a:pt x="614" y="23"/>
                </a:lnTo>
                <a:lnTo>
                  <a:pt x="624" y="30"/>
                </a:lnTo>
                <a:lnTo>
                  <a:pt x="635" y="36"/>
                </a:lnTo>
                <a:lnTo>
                  <a:pt x="647" y="46"/>
                </a:lnTo>
                <a:lnTo>
                  <a:pt x="658" y="53"/>
                </a:lnTo>
                <a:lnTo>
                  <a:pt x="670" y="63"/>
                </a:lnTo>
                <a:lnTo>
                  <a:pt x="681" y="74"/>
                </a:lnTo>
                <a:lnTo>
                  <a:pt x="695" y="86"/>
                </a:lnTo>
                <a:lnTo>
                  <a:pt x="708" y="97"/>
                </a:lnTo>
                <a:lnTo>
                  <a:pt x="720" y="109"/>
                </a:lnTo>
                <a:lnTo>
                  <a:pt x="731" y="120"/>
                </a:lnTo>
                <a:lnTo>
                  <a:pt x="743" y="132"/>
                </a:lnTo>
                <a:lnTo>
                  <a:pt x="754" y="143"/>
                </a:lnTo>
                <a:lnTo>
                  <a:pt x="764" y="153"/>
                </a:lnTo>
                <a:lnTo>
                  <a:pt x="773" y="163"/>
                </a:lnTo>
                <a:lnTo>
                  <a:pt x="783" y="172"/>
                </a:lnTo>
                <a:lnTo>
                  <a:pt x="791" y="180"/>
                </a:lnTo>
                <a:lnTo>
                  <a:pt x="798" y="190"/>
                </a:lnTo>
                <a:lnTo>
                  <a:pt x="804" y="197"/>
                </a:lnTo>
                <a:lnTo>
                  <a:pt x="812" y="203"/>
                </a:lnTo>
                <a:lnTo>
                  <a:pt x="817" y="209"/>
                </a:lnTo>
                <a:lnTo>
                  <a:pt x="821" y="214"/>
                </a:lnTo>
                <a:lnTo>
                  <a:pt x="825" y="220"/>
                </a:lnTo>
                <a:lnTo>
                  <a:pt x="829" y="224"/>
                </a:lnTo>
                <a:lnTo>
                  <a:pt x="833" y="228"/>
                </a:lnTo>
                <a:lnTo>
                  <a:pt x="833" y="234"/>
                </a:lnTo>
                <a:lnTo>
                  <a:pt x="831" y="239"/>
                </a:lnTo>
                <a:lnTo>
                  <a:pt x="829" y="245"/>
                </a:lnTo>
                <a:lnTo>
                  <a:pt x="827" y="251"/>
                </a:lnTo>
                <a:lnTo>
                  <a:pt x="825" y="259"/>
                </a:lnTo>
                <a:lnTo>
                  <a:pt x="821" y="264"/>
                </a:lnTo>
                <a:lnTo>
                  <a:pt x="817" y="270"/>
                </a:lnTo>
                <a:lnTo>
                  <a:pt x="814" y="276"/>
                </a:lnTo>
                <a:lnTo>
                  <a:pt x="808" y="282"/>
                </a:lnTo>
                <a:lnTo>
                  <a:pt x="802" y="289"/>
                </a:lnTo>
                <a:lnTo>
                  <a:pt x="791" y="301"/>
                </a:lnTo>
                <a:lnTo>
                  <a:pt x="777" y="312"/>
                </a:lnTo>
                <a:lnTo>
                  <a:pt x="764" y="3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83"/>
          <p:cNvSpPr/>
          <p:nvPr/>
        </p:nvSpPr>
        <p:spPr>
          <a:xfrm>
            <a:off x="6297480" y="2790720"/>
            <a:ext cx="1101960" cy="349200"/>
          </a:xfrm>
          <a:custGeom>
            <a:avLst/>
            <a:gdLst/>
            <a:ahLst/>
            <a:rect l="l" t="t" r="r" b="b"/>
            <a:pathLst>
              <a:path w="1390" h="439">
                <a:moveTo>
                  <a:pt x="0" y="341"/>
                </a:moveTo>
                <a:lnTo>
                  <a:pt x="0" y="339"/>
                </a:lnTo>
                <a:lnTo>
                  <a:pt x="2" y="338"/>
                </a:lnTo>
                <a:lnTo>
                  <a:pt x="4" y="336"/>
                </a:lnTo>
                <a:lnTo>
                  <a:pt x="8" y="334"/>
                </a:lnTo>
                <a:lnTo>
                  <a:pt x="12" y="330"/>
                </a:lnTo>
                <a:lnTo>
                  <a:pt x="17" y="328"/>
                </a:lnTo>
                <a:lnTo>
                  <a:pt x="25" y="324"/>
                </a:lnTo>
                <a:lnTo>
                  <a:pt x="33" y="320"/>
                </a:lnTo>
                <a:lnTo>
                  <a:pt x="42" y="316"/>
                </a:lnTo>
                <a:lnTo>
                  <a:pt x="52" y="313"/>
                </a:lnTo>
                <a:lnTo>
                  <a:pt x="63" y="309"/>
                </a:lnTo>
                <a:lnTo>
                  <a:pt x="75" y="303"/>
                </a:lnTo>
                <a:lnTo>
                  <a:pt x="88" y="299"/>
                </a:lnTo>
                <a:lnTo>
                  <a:pt x="104" y="293"/>
                </a:lnTo>
                <a:lnTo>
                  <a:pt x="119" y="288"/>
                </a:lnTo>
                <a:lnTo>
                  <a:pt x="134" y="282"/>
                </a:lnTo>
                <a:lnTo>
                  <a:pt x="152" y="276"/>
                </a:lnTo>
                <a:lnTo>
                  <a:pt x="171" y="268"/>
                </a:lnTo>
                <a:lnTo>
                  <a:pt x="190" y="263"/>
                </a:lnTo>
                <a:lnTo>
                  <a:pt x="211" y="255"/>
                </a:lnTo>
                <a:lnTo>
                  <a:pt x="232" y="247"/>
                </a:lnTo>
                <a:lnTo>
                  <a:pt x="255" y="240"/>
                </a:lnTo>
                <a:lnTo>
                  <a:pt x="280" y="232"/>
                </a:lnTo>
                <a:lnTo>
                  <a:pt x="303" y="224"/>
                </a:lnTo>
                <a:lnTo>
                  <a:pt x="330" y="215"/>
                </a:lnTo>
                <a:lnTo>
                  <a:pt x="357" y="205"/>
                </a:lnTo>
                <a:lnTo>
                  <a:pt x="386" y="197"/>
                </a:lnTo>
                <a:lnTo>
                  <a:pt x="415" y="188"/>
                </a:lnTo>
                <a:lnTo>
                  <a:pt x="443" y="178"/>
                </a:lnTo>
                <a:lnTo>
                  <a:pt x="476" y="167"/>
                </a:lnTo>
                <a:lnTo>
                  <a:pt x="507" y="157"/>
                </a:lnTo>
                <a:lnTo>
                  <a:pt x="541" y="146"/>
                </a:lnTo>
                <a:lnTo>
                  <a:pt x="572" y="136"/>
                </a:lnTo>
                <a:lnTo>
                  <a:pt x="605" y="128"/>
                </a:lnTo>
                <a:lnTo>
                  <a:pt x="635" y="119"/>
                </a:lnTo>
                <a:lnTo>
                  <a:pt x="664" y="111"/>
                </a:lnTo>
                <a:lnTo>
                  <a:pt x="693" y="103"/>
                </a:lnTo>
                <a:lnTo>
                  <a:pt x="720" y="96"/>
                </a:lnTo>
                <a:lnTo>
                  <a:pt x="747" y="88"/>
                </a:lnTo>
                <a:lnTo>
                  <a:pt x="772" y="80"/>
                </a:lnTo>
                <a:lnTo>
                  <a:pt x="797" y="75"/>
                </a:lnTo>
                <a:lnTo>
                  <a:pt x="822" y="67"/>
                </a:lnTo>
                <a:lnTo>
                  <a:pt x="845" y="61"/>
                </a:lnTo>
                <a:lnTo>
                  <a:pt x="866" y="55"/>
                </a:lnTo>
                <a:lnTo>
                  <a:pt x="887" y="50"/>
                </a:lnTo>
                <a:lnTo>
                  <a:pt x="908" y="44"/>
                </a:lnTo>
                <a:lnTo>
                  <a:pt x="927" y="40"/>
                </a:lnTo>
                <a:lnTo>
                  <a:pt x="944" y="34"/>
                </a:lnTo>
                <a:lnTo>
                  <a:pt x="964" y="30"/>
                </a:lnTo>
                <a:lnTo>
                  <a:pt x="979" y="27"/>
                </a:lnTo>
                <a:lnTo>
                  <a:pt x="994" y="23"/>
                </a:lnTo>
                <a:lnTo>
                  <a:pt x="1010" y="19"/>
                </a:lnTo>
                <a:lnTo>
                  <a:pt x="1023" y="15"/>
                </a:lnTo>
                <a:lnTo>
                  <a:pt x="1037" y="13"/>
                </a:lnTo>
                <a:lnTo>
                  <a:pt x="1048" y="9"/>
                </a:lnTo>
                <a:lnTo>
                  <a:pt x="1058" y="7"/>
                </a:lnTo>
                <a:lnTo>
                  <a:pt x="1069" y="6"/>
                </a:lnTo>
                <a:lnTo>
                  <a:pt x="1077" y="4"/>
                </a:lnTo>
                <a:lnTo>
                  <a:pt x="1085" y="2"/>
                </a:lnTo>
                <a:lnTo>
                  <a:pt x="1092" y="2"/>
                </a:lnTo>
                <a:lnTo>
                  <a:pt x="1098" y="0"/>
                </a:lnTo>
                <a:lnTo>
                  <a:pt x="1104" y="0"/>
                </a:lnTo>
                <a:lnTo>
                  <a:pt x="1108" y="0"/>
                </a:lnTo>
                <a:lnTo>
                  <a:pt x="1111" y="0"/>
                </a:lnTo>
                <a:lnTo>
                  <a:pt x="1113" y="0"/>
                </a:lnTo>
                <a:lnTo>
                  <a:pt x="1117" y="0"/>
                </a:lnTo>
                <a:lnTo>
                  <a:pt x="1123" y="0"/>
                </a:lnTo>
                <a:lnTo>
                  <a:pt x="1129" y="2"/>
                </a:lnTo>
                <a:lnTo>
                  <a:pt x="1134" y="4"/>
                </a:lnTo>
                <a:lnTo>
                  <a:pt x="1142" y="6"/>
                </a:lnTo>
                <a:lnTo>
                  <a:pt x="1150" y="7"/>
                </a:lnTo>
                <a:lnTo>
                  <a:pt x="1159" y="9"/>
                </a:lnTo>
                <a:lnTo>
                  <a:pt x="1169" y="11"/>
                </a:lnTo>
                <a:lnTo>
                  <a:pt x="1179" y="13"/>
                </a:lnTo>
                <a:lnTo>
                  <a:pt x="1190" y="17"/>
                </a:lnTo>
                <a:lnTo>
                  <a:pt x="1200" y="19"/>
                </a:lnTo>
                <a:lnTo>
                  <a:pt x="1211" y="23"/>
                </a:lnTo>
                <a:lnTo>
                  <a:pt x="1225" y="25"/>
                </a:lnTo>
                <a:lnTo>
                  <a:pt x="1250" y="32"/>
                </a:lnTo>
                <a:lnTo>
                  <a:pt x="1275" y="44"/>
                </a:lnTo>
                <a:lnTo>
                  <a:pt x="1298" y="55"/>
                </a:lnTo>
                <a:lnTo>
                  <a:pt x="1309" y="63"/>
                </a:lnTo>
                <a:lnTo>
                  <a:pt x="1321" y="69"/>
                </a:lnTo>
                <a:lnTo>
                  <a:pt x="1330" y="75"/>
                </a:lnTo>
                <a:lnTo>
                  <a:pt x="1340" y="80"/>
                </a:lnTo>
                <a:lnTo>
                  <a:pt x="1347" y="86"/>
                </a:lnTo>
                <a:lnTo>
                  <a:pt x="1357" y="94"/>
                </a:lnTo>
                <a:lnTo>
                  <a:pt x="1363" y="100"/>
                </a:lnTo>
                <a:lnTo>
                  <a:pt x="1370" y="105"/>
                </a:lnTo>
                <a:lnTo>
                  <a:pt x="1376" y="111"/>
                </a:lnTo>
                <a:lnTo>
                  <a:pt x="1382" y="117"/>
                </a:lnTo>
                <a:lnTo>
                  <a:pt x="1386" y="125"/>
                </a:lnTo>
                <a:lnTo>
                  <a:pt x="1388" y="130"/>
                </a:lnTo>
                <a:lnTo>
                  <a:pt x="1390" y="132"/>
                </a:lnTo>
                <a:lnTo>
                  <a:pt x="1390" y="136"/>
                </a:lnTo>
                <a:lnTo>
                  <a:pt x="1388" y="140"/>
                </a:lnTo>
                <a:lnTo>
                  <a:pt x="1388" y="144"/>
                </a:lnTo>
                <a:lnTo>
                  <a:pt x="1384" y="146"/>
                </a:lnTo>
                <a:lnTo>
                  <a:pt x="1382" y="149"/>
                </a:lnTo>
                <a:lnTo>
                  <a:pt x="1378" y="153"/>
                </a:lnTo>
                <a:lnTo>
                  <a:pt x="1372" y="157"/>
                </a:lnTo>
                <a:lnTo>
                  <a:pt x="1367" y="161"/>
                </a:lnTo>
                <a:lnTo>
                  <a:pt x="1361" y="165"/>
                </a:lnTo>
                <a:lnTo>
                  <a:pt x="1353" y="169"/>
                </a:lnTo>
                <a:lnTo>
                  <a:pt x="1346" y="172"/>
                </a:lnTo>
                <a:lnTo>
                  <a:pt x="1338" y="176"/>
                </a:lnTo>
                <a:lnTo>
                  <a:pt x="1328" y="180"/>
                </a:lnTo>
                <a:lnTo>
                  <a:pt x="1317" y="184"/>
                </a:lnTo>
                <a:lnTo>
                  <a:pt x="1307" y="188"/>
                </a:lnTo>
                <a:lnTo>
                  <a:pt x="1294" y="194"/>
                </a:lnTo>
                <a:lnTo>
                  <a:pt x="1282" y="197"/>
                </a:lnTo>
                <a:lnTo>
                  <a:pt x="1269" y="201"/>
                </a:lnTo>
                <a:lnTo>
                  <a:pt x="1255" y="205"/>
                </a:lnTo>
                <a:lnTo>
                  <a:pt x="1240" y="211"/>
                </a:lnTo>
                <a:lnTo>
                  <a:pt x="1225" y="215"/>
                </a:lnTo>
                <a:lnTo>
                  <a:pt x="1207" y="219"/>
                </a:lnTo>
                <a:lnTo>
                  <a:pt x="1190" y="224"/>
                </a:lnTo>
                <a:lnTo>
                  <a:pt x="1173" y="228"/>
                </a:lnTo>
                <a:lnTo>
                  <a:pt x="1154" y="232"/>
                </a:lnTo>
                <a:lnTo>
                  <a:pt x="1134" y="238"/>
                </a:lnTo>
                <a:lnTo>
                  <a:pt x="1115" y="242"/>
                </a:lnTo>
                <a:lnTo>
                  <a:pt x="1094" y="245"/>
                </a:lnTo>
                <a:lnTo>
                  <a:pt x="1073" y="251"/>
                </a:lnTo>
                <a:lnTo>
                  <a:pt x="1050" y="255"/>
                </a:lnTo>
                <a:lnTo>
                  <a:pt x="1027" y="261"/>
                </a:lnTo>
                <a:lnTo>
                  <a:pt x="981" y="270"/>
                </a:lnTo>
                <a:lnTo>
                  <a:pt x="937" y="278"/>
                </a:lnTo>
                <a:lnTo>
                  <a:pt x="893" y="288"/>
                </a:lnTo>
                <a:lnTo>
                  <a:pt x="850" y="297"/>
                </a:lnTo>
                <a:lnTo>
                  <a:pt x="808" y="307"/>
                </a:lnTo>
                <a:lnTo>
                  <a:pt x="770" y="315"/>
                </a:lnTo>
                <a:lnTo>
                  <a:pt x="731" y="324"/>
                </a:lnTo>
                <a:lnTo>
                  <a:pt x="693" y="332"/>
                </a:lnTo>
                <a:lnTo>
                  <a:pt x="658" y="339"/>
                </a:lnTo>
                <a:lnTo>
                  <a:pt x="624" y="347"/>
                </a:lnTo>
                <a:lnTo>
                  <a:pt x="589" y="355"/>
                </a:lnTo>
                <a:lnTo>
                  <a:pt x="559" y="363"/>
                </a:lnTo>
                <a:lnTo>
                  <a:pt x="528" y="370"/>
                </a:lnTo>
                <a:lnTo>
                  <a:pt x="499" y="378"/>
                </a:lnTo>
                <a:lnTo>
                  <a:pt x="470" y="384"/>
                </a:lnTo>
                <a:lnTo>
                  <a:pt x="443" y="391"/>
                </a:lnTo>
                <a:lnTo>
                  <a:pt x="417" y="397"/>
                </a:lnTo>
                <a:lnTo>
                  <a:pt x="390" y="403"/>
                </a:lnTo>
                <a:lnTo>
                  <a:pt x="365" y="409"/>
                </a:lnTo>
                <a:lnTo>
                  <a:pt x="342" y="412"/>
                </a:lnTo>
                <a:lnTo>
                  <a:pt x="321" y="416"/>
                </a:lnTo>
                <a:lnTo>
                  <a:pt x="301" y="420"/>
                </a:lnTo>
                <a:lnTo>
                  <a:pt x="282" y="424"/>
                </a:lnTo>
                <a:lnTo>
                  <a:pt x="267" y="428"/>
                </a:lnTo>
                <a:lnTo>
                  <a:pt x="252" y="430"/>
                </a:lnTo>
                <a:lnTo>
                  <a:pt x="238" y="434"/>
                </a:lnTo>
                <a:lnTo>
                  <a:pt x="227" y="435"/>
                </a:lnTo>
                <a:lnTo>
                  <a:pt x="217" y="437"/>
                </a:lnTo>
                <a:lnTo>
                  <a:pt x="209" y="437"/>
                </a:lnTo>
                <a:lnTo>
                  <a:pt x="202" y="439"/>
                </a:lnTo>
                <a:lnTo>
                  <a:pt x="198" y="439"/>
                </a:lnTo>
                <a:lnTo>
                  <a:pt x="194" y="439"/>
                </a:lnTo>
                <a:lnTo>
                  <a:pt x="182" y="439"/>
                </a:lnTo>
                <a:lnTo>
                  <a:pt x="171" y="437"/>
                </a:lnTo>
                <a:lnTo>
                  <a:pt x="157" y="434"/>
                </a:lnTo>
                <a:lnTo>
                  <a:pt x="144" y="428"/>
                </a:lnTo>
                <a:lnTo>
                  <a:pt x="129" y="420"/>
                </a:lnTo>
                <a:lnTo>
                  <a:pt x="113" y="412"/>
                </a:lnTo>
                <a:lnTo>
                  <a:pt x="98" y="403"/>
                </a:lnTo>
                <a:lnTo>
                  <a:pt x="83" y="391"/>
                </a:lnTo>
                <a:lnTo>
                  <a:pt x="73" y="387"/>
                </a:lnTo>
                <a:lnTo>
                  <a:pt x="63" y="386"/>
                </a:lnTo>
                <a:lnTo>
                  <a:pt x="54" y="382"/>
                </a:lnTo>
                <a:lnTo>
                  <a:pt x="46" y="378"/>
                </a:lnTo>
                <a:lnTo>
                  <a:pt x="38" y="376"/>
                </a:lnTo>
                <a:lnTo>
                  <a:pt x="33" y="372"/>
                </a:lnTo>
                <a:lnTo>
                  <a:pt x="25" y="370"/>
                </a:lnTo>
                <a:lnTo>
                  <a:pt x="19" y="366"/>
                </a:lnTo>
                <a:lnTo>
                  <a:pt x="15" y="363"/>
                </a:lnTo>
                <a:lnTo>
                  <a:pt x="12" y="361"/>
                </a:lnTo>
                <a:lnTo>
                  <a:pt x="8" y="357"/>
                </a:lnTo>
                <a:lnTo>
                  <a:pt x="4" y="355"/>
                </a:lnTo>
                <a:lnTo>
                  <a:pt x="2" y="351"/>
                </a:lnTo>
                <a:lnTo>
                  <a:pt x="0" y="347"/>
                </a:lnTo>
                <a:lnTo>
                  <a:pt x="0" y="345"/>
                </a:lnTo>
                <a:lnTo>
                  <a:pt x="0" y="3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84"/>
          <p:cNvSpPr/>
          <p:nvPr/>
        </p:nvSpPr>
        <p:spPr>
          <a:xfrm>
            <a:off x="5546880" y="4664160"/>
            <a:ext cx="474480" cy="160200"/>
          </a:xfrm>
          <a:custGeom>
            <a:avLst/>
            <a:gdLst/>
            <a:ahLst/>
            <a:rect l="l" t="t" r="r" b="b"/>
            <a:pathLst>
              <a:path w="597" h="201">
                <a:moveTo>
                  <a:pt x="0" y="71"/>
                </a:moveTo>
                <a:lnTo>
                  <a:pt x="19" y="65"/>
                </a:lnTo>
                <a:lnTo>
                  <a:pt x="40" y="61"/>
                </a:lnTo>
                <a:lnTo>
                  <a:pt x="78" y="51"/>
                </a:lnTo>
                <a:lnTo>
                  <a:pt x="115" y="44"/>
                </a:lnTo>
                <a:lnTo>
                  <a:pt x="149" y="36"/>
                </a:lnTo>
                <a:lnTo>
                  <a:pt x="182" y="30"/>
                </a:lnTo>
                <a:lnTo>
                  <a:pt x="215" y="23"/>
                </a:lnTo>
                <a:lnTo>
                  <a:pt x="244" y="17"/>
                </a:lnTo>
                <a:lnTo>
                  <a:pt x="270" y="13"/>
                </a:lnTo>
                <a:lnTo>
                  <a:pt x="297" y="9"/>
                </a:lnTo>
                <a:lnTo>
                  <a:pt x="320" y="5"/>
                </a:lnTo>
                <a:lnTo>
                  <a:pt x="343" y="3"/>
                </a:lnTo>
                <a:lnTo>
                  <a:pt x="364" y="1"/>
                </a:lnTo>
                <a:lnTo>
                  <a:pt x="384" y="0"/>
                </a:lnTo>
                <a:lnTo>
                  <a:pt x="401" y="1"/>
                </a:lnTo>
                <a:lnTo>
                  <a:pt x="416" y="1"/>
                </a:lnTo>
                <a:lnTo>
                  <a:pt x="430" y="5"/>
                </a:lnTo>
                <a:lnTo>
                  <a:pt x="472" y="17"/>
                </a:lnTo>
                <a:lnTo>
                  <a:pt x="491" y="23"/>
                </a:lnTo>
                <a:lnTo>
                  <a:pt x="512" y="26"/>
                </a:lnTo>
                <a:lnTo>
                  <a:pt x="533" y="32"/>
                </a:lnTo>
                <a:lnTo>
                  <a:pt x="554" y="34"/>
                </a:lnTo>
                <a:lnTo>
                  <a:pt x="576" y="36"/>
                </a:lnTo>
                <a:lnTo>
                  <a:pt x="597" y="38"/>
                </a:lnTo>
                <a:lnTo>
                  <a:pt x="597" y="103"/>
                </a:lnTo>
                <a:lnTo>
                  <a:pt x="597" y="168"/>
                </a:lnTo>
                <a:lnTo>
                  <a:pt x="297" y="184"/>
                </a:lnTo>
                <a:lnTo>
                  <a:pt x="0" y="201"/>
                </a:lnTo>
                <a:lnTo>
                  <a:pt x="0" y="136"/>
                </a:lnTo>
                <a:lnTo>
                  <a:pt x="0" y="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85"/>
          <p:cNvSpPr/>
          <p:nvPr/>
        </p:nvSpPr>
        <p:spPr>
          <a:xfrm>
            <a:off x="5546880" y="3814920"/>
            <a:ext cx="352440" cy="160200"/>
          </a:xfrm>
          <a:custGeom>
            <a:avLst/>
            <a:gdLst/>
            <a:ahLst/>
            <a:rect l="l" t="t" r="r" b="b"/>
            <a:pathLst>
              <a:path w="443" h="203">
                <a:moveTo>
                  <a:pt x="387" y="32"/>
                </a:moveTo>
                <a:lnTo>
                  <a:pt x="395" y="34"/>
                </a:lnTo>
                <a:lnTo>
                  <a:pt x="403" y="38"/>
                </a:lnTo>
                <a:lnTo>
                  <a:pt x="409" y="42"/>
                </a:lnTo>
                <a:lnTo>
                  <a:pt x="414" y="46"/>
                </a:lnTo>
                <a:lnTo>
                  <a:pt x="418" y="49"/>
                </a:lnTo>
                <a:lnTo>
                  <a:pt x="424" y="55"/>
                </a:lnTo>
                <a:lnTo>
                  <a:pt x="428" y="59"/>
                </a:lnTo>
                <a:lnTo>
                  <a:pt x="432" y="65"/>
                </a:lnTo>
                <a:lnTo>
                  <a:pt x="434" y="69"/>
                </a:lnTo>
                <a:lnTo>
                  <a:pt x="437" y="72"/>
                </a:lnTo>
                <a:lnTo>
                  <a:pt x="441" y="82"/>
                </a:lnTo>
                <a:lnTo>
                  <a:pt x="443" y="90"/>
                </a:lnTo>
                <a:lnTo>
                  <a:pt x="443" y="97"/>
                </a:lnTo>
                <a:lnTo>
                  <a:pt x="443" y="103"/>
                </a:lnTo>
                <a:lnTo>
                  <a:pt x="441" y="109"/>
                </a:lnTo>
                <a:lnTo>
                  <a:pt x="439" y="115"/>
                </a:lnTo>
                <a:lnTo>
                  <a:pt x="435" y="120"/>
                </a:lnTo>
                <a:lnTo>
                  <a:pt x="432" y="126"/>
                </a:lnTo>
                <a:lnTo>
                  <a:pt x="426" y="132"/>
                </a:lnTo>
                <a:lnTo>
                  <a:pt x="420" y="138"/>
                </a:lnTo>
                <a:lnTo>
                  <a:pt x="412" y="143"/>
                </a:lnTo>
                <a:lnTo>
                  <a:pt x="403" y="149"/>
                </a:lnTo>
                <a:lnTo>
                  <a:pt x="395" y="153"/>
                </a:lnTo>
                <a:lnTo>
                  <a:pt x="384" y="159"/>
                </a:lnTo>
                <a:lnTo>
                  <a:pt x="372" y="163"/>
                </a:lnTo>
                <a:lnTo>
                  <a:pt x="361" y="167"/>
                </a:lnTo>
                <a:lnTo>
                  <a:pt x="347" y="170"/>
                </a:lnTo>
                <a:lnTo>
                  <a:pt x="334" y="174"/>
                </a:lnTo>
                <a:lnTo>
                  <a:pt x="318" y="178"/>
                </a:lnTo>
                <a:lnTo>
                  <a:pt x="301" y="184"/>
                </a:lnTo>
                <a:lnTo>
                  <a:pt x="282" y="190"/>
                </a:lnTo>
                <a:lnTo>
                  <a:pt x="263" y="193"/>
                </a:lnTo>
                <a:lnTo>
                  <a:pt x="245" y="197"/>
                </a:lnTo>
                <a:lnTo>
                  <a:pt x="226" y="199"/>
                </a:lnTo>
                <a:lnTo>
                  <a:pt x="207" y="201"/>
                </a:lnTo>
                <a:lnTo>
                  <a:pt x="188" y="203"/>
                </a:lnTo>
                <a:lnTo>
                  <a:pt x="169" y="203"/>
                </a:lnTo>
                <a:lnTo>
                  <a:pt x="149" y="203"/>
                </a:lnTo>
                <a:lnTo>
                  <a:pt x="128" y="201"/>
                </a:lnTo>
                <a:lnTo>
                  <a:pt x="109" y="199"/>
                </a:lnTo>
                <a:lnTo>
                  <a:pt x="88" y="197"/>
                </a:lnTo>
                <a:lnTo>
                  <a:pt x="67" y="193"/>
                </a:lnTo>
                <a:lnTo>
                  <a:pt x="44" y="190"/>
                </a:lnTo>
                <a:lnTo>
                  <a:pt x="23" y="184"/>
                </a:lnTo>
                <a:lnTo>
                  <a:pt x="0" y="178"/>
                </a:lnTo>
                <a:lnTo>
                  <a:pt x="0" y="113"/>
                </a:lnTo>
                <a:lnTo>
                  <a:pt x="0" y="48"/>
                </a:lnTo>
                <a:lnTo>
                  <a:pt x="21" y="48"/>
                </a:lnTo>
                <a:lnTo>
                  <a:pt x="44" y="48"/>
                </a:lnTo>
                <a:lnTo>
                  <a:pt x="63" y="46"/>
                </a:lnTo>
                <a:lnTo>
                  <a:pt x="82" y="46"/>
                </a:lnTo>
                <a:lnTo>
                  <a:pt x="100" y="44"/>
                </a:lnTo>
                <a:lnTo>
                  <a:pt x="117" y="42"/>
                </a:lnTo>
                <a:lnTo>
                  <a:pt x="134" y="40"/>
                </a:lnTo>
                <a:lnTo>
                  <a:pt x="148" y="38"/>
                </a:lnTo>
                <a:lnTo>
                  <a:pt x="161" y="34"/>
                </a:lnTo>
                <a:lnTo>
                  <a:pt x="174" y="32"/>
                </a:lnTo>
                <a:lnTo>
                  <a:pt x="186" y="30"/>
                </a:lnTo>
                <a:lnTo>
                  <a:pt x="197" y="26"/>
                </a:lnTo>
                <a:lnTo>
                  <a:pt x="209" y="24"/>
                </a:lnTo>
                <a:lnTo>
                  <a:pt x="219" y="21"/>
                </a:lnTo>
                <a:lnTo>
                  <a:pt x="226" y="19"/>
                </a:lnTo>
                <a:lnTo>
                  <a:pt x="236" y="15"/>
                </a:lnTo>
                <a:lnTo>
                  <a:pt x="249" y="9"/>
                </a:lnTo>
                <a:lnTo>
                  <a:pt x="263" y="5"/>
                </a:lnTo>
                <a:lnTo>
                  <a:pt x="276" y="1"/>
                </a:lnTo>
                <a:lnTo>
                  <a:pt x="288" y="0"/>
                </a:lnTo>
                <a:lnTo>
                  <a:pt x="297" y="0"/>
                </a:lnTo>
                <a:lnTo>
                  <a:pt x="305" y="0"/>
                </a:lnTo>
                <a:lnTo>
                  <a:pt x="313" y="0"/>
                </a:lnTo>
                <a:lnTo>
                  <a:pt x="318" y="0"/>
                </a:lnTo>
                <a:lnTo>
                  <a:pt x="324" y="0"/>
                </a:lnTo>
                <a:lnTo>
                  <a:pt x="330" y="1"/>
                </a:lnTo>
                <a:lnTo>
                  <a:pt x="336" y="5"/>
                </a:lnTo>
                <a:lnTo>
                  <a:pt x="343" y="9"/>
                </a:lnTo>
                <a:lnTo>
                  <a:pt x="351" y="13"/>
                </a:lnTo>
                <a:lnTo>
                  <a:pt x="361" y="19"/>
                </a:lnTo>
                <a:lnTo>
                  <a:pt x="366" y="23"/>
                </a:lnTo>
                <a:lnTo>
                  <a:pt x="374" y="24"/>
                </a:lnTo>
                <a:lnTo>
                  <a:pt x="380" y="28"/>
                </a:lnTo>
                <a:lnTo>
                  <a:pt x="387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86"/>
          <p:cNvSpPr/>
          <p:nvPr/>
        </p:nvSpPr>
        <p:spPr>
          <a:xfrm>
            <a:off x="5421240" y="3068640"/>
            <a:ext cx="192240" cy="1963800"/>
          </a:xfrm>
          <a:custGeom>
            <a:avLst/>
            <a:gdLst/>
            <a:ahLst/>
            <a:rect l="l" t="t" r="r" b="b"/>
            <a:pathLst>
              <a:path w="242" h="2472">
                <a:moveTo>
                  <a:pt x="242" y="40"/>
                </a:moveTo>
                <a:lnTo>
                  <a:pt x="242" y="161"/>
                </a:lnTo>
                <a:lnTo>
                  <a:pt x="242" y="278"/>
                </a:lnTo>
                <a:lnTo>
                  <a:pt x="242" y="392"/>
                </a:lnTo>
                <a:lnTo>
                  <a:pt x="242" y="501"/>
                </a:lnTo>
                <a:lnTo>
                  <a:pt x="242" y="608"/>
                </a:lnTo>
                <a:lnTo>
                  <a:pt x="242" y="710"/>
                </a:lnTo>
                <a:lnTo>
                  <a:pt x="242" y="810"/>
                </a:lnTo>
                <a:lnTo>
                  <a:pt x="242" y="906"/>
                </a:lnTo>
                <a:lnTo>
                  <a:pt x="242" y="998"/>
                </a:lnTo>
                <a:lnTo>
                  <a:pt x="242" y="1088"/>
                </a:lnTo>
                <a:lnTo>
                  <a:pt x="242" y="1173"/>
                </a:lnTo>
                <a:lnTo>
                  <a:pt x="242" y="1255"/>
                </a:lnTo>
                <a:lnTo>
                  <a:pt x="242" y="1334"/>
                </a:lnTo>
                <a:lnTo>
                  <a:pt x="242" y="1409"/>
                </a:lnTo>
                <a:lnTo>
                  <a:pt x="242" y="1480"/>
                </a:lnTo>
                <a:lnTo>
                  <a:pt x="242" y="1547"/>
                </a:lnTo>
                <a:lnTo>
                  <a:pt x="242" y="1612"/>
                </a:lnTo>
                <a:lnTo>
                  <a:pt x="242" y="1674"/>
                </a:lnTo>
                <a:lnTo>
                  <a:pt x="242" y="1731"/>
                </a:lnTo>
                <a:lnTo>
                  <a:pt x="242" y="1785"/>
                </a:lnTo>
                <a:lnTo>
                  <a:pt x="242" y="1835"/>
                </a:lnTo>
                <a:lnTo>
                  <a:pt x="242" y="1883"/>
                </a:lnTo>
                <a:lnTo>
                  <a:pt x="242" y="1925"/>
                </a:lnTo>
                <a:lnTo>
                  <a:pt x="242" y="1965"/>
                </a:lnTo>
                <a:lnTo>
                  <a:pt x="242" y="2002"/>
                </a:lnTo>
                <a:lnTo>
                  <a:pt x="242" y="2034"/>
                </a:lnTo>
                <a:lnTo>
                  <a:pt x="242" y="2065"/>
                </a:lnTo>
                <a:lnTo>
                  <a:pt x="242" y="2092"/>
                </a:lnTo>
                <a:lnTo>
                  <a:pt x="242" y="2113"/>
                </a:lnTo>
                <a:lnTo>
                  <a:pt x="242" y="2134"/>
                </a:lnTo>
                <a:lnTo>
                  <a:pt x="242" y="2150"/>
                </a:lnTo>
                <a:lnTo>
                  <a:pt x="242" y="2161"/>
                </a:lnTo>
                <a:lnTo>
                  <a:pt x="240" y="2182"/>
                </a:lnTo>
                <a:lnTo>
                  <a:pt x="237" y="2203"/>
                </a:lnTo>
                <a:lnTo>
                  <a:pt x="235" y="2223"/>
                </a:lnTo>
                <a:lnTo>
                  <a:pt x="235" y="2242"/>
                </a:lnTo>
                <a:lnTo>
                  <a:pt x="233" y="2259"/>
                </a:lnTo>
                <a:lnTo>
                  <a:pt x="231" y="2276"/>
                </a:lnTo>
                <a:lnTo>
                  <a:pt x="229" y="2294"/>
                </a:lnTo>
                <a:lnTo>
                  <a:pt x="229" y="2309"/>
                </a:lnTo>
                <a:lnTo>
                  <a:pt x="227" y="2324"/>
                </a:lnTo>
                <a:lnTo>
                  <a:pt x="225" y="2338"/>
                </a:lnTo>
                <a:lnTo>
                  <a:pt x="225" y="2351"/>
                </a:lnTo>
                <a:lnTo>
                  <a:pt x="223" y="2363"/>
                </a:lnTo>
                <a:lnTo>
                  <a:pt x="221" y="2376"/>
                </a:lnTo>
                <a:lnTo>
                  <a:pt x="219" y="2386"/>
                </a:lnTo>
                <a:lnTo>
                  <a:pt x="217" y="2397"/>
                </a:lnTo>
                <a:lnTo>
                  <a:pt x="215" y="2407"/>
                </a:lnTo>
                <a:lnTo>
                  <a:pt x="212" y="2414"/>
                </a:lnTo>
                <a:lnTo>
                  <a:pt x="210" y="2424"/>
                </a:lnTo>
                <a:lnTo>
                  <a:pt x="206" y="2430"/>
                </a:lnTo>
                <a:lnTo>
                  <a:pt x="204" y="2438"/>
                </a:lnTo>
                <a:lnTo>
                  <a:pt x="202" y="2443"/>
                </a:lnTo>
                <a:lnTo>
                  <a:pt x="198" y="2449"/>
                </a:lnTo>
                <a:lnTo>
                  <a:pt x="196" y="2453"/>
                </a:lnTo>
                <a:lnTo>
                  <a:pt x="194" y="2457"/>
                </a:lnTo>
                <a:lnTo>
                  <a:pt x="190" y="2461"/>
                </a:lnTo>
                <a:lnTo>
                  <a:pt x="189" y="2464"/>
                </a:lnTo>
                <a:lnTo>
                  <a:pt x="187" y="2466"/>
                </a:lnTo>
                <a:lnTo>
                  <a:pt x="183" y="2468"/>
                </a:lnTo>
                <a:lnTo>
                  <a:pt x="177" y="2470"/>
                </a:lnTo>
                <a:lnTo>
                  <a:pt x="173" y="2472"/>
                </a:lnTo>
                <a:lnTo>
                  <a:pt x="167" y="2472"/>
                </a:lnTo>
                <a:lnTo>
                  <a:pt x="162" y="2470"/>
                </a:lnTo>
                <a:lnTo>
                  <a:pt x="158" y="2468"/>
                </a:lnTo>
                <a:lnTo>
                  <a:pt x="152" y="2464"/>
                </a:lnTo>
                <a:lnTo>
                  <a:pt x="146" y="2462"/>
                </a:lnTo>
                <a:lnTo>
                  <a:pt x="142" y="2457"/>
                </a:lnTo>
                <a:lnTo>
                  <a:pt x="137" y="2451"/>
                </a:lnTo>
                <a:lnTo>
                  <a:pt x="133" y="2445"/>
                </a:lnTo>
                <a:lnTo>
                  <a:pt x="127" y="2438"/>
                </a:lnTo>
                <a:lnTo>
                  <a:pt x="123" y="2430"/>
                </a:lnTo>
                <a:lnTo>
                  <a:pt x="119" y="2420"/>
                </a:lnTo>
                <a:lnTo>
                  <a:pt x="116" y="2409"/>
                </a:lnTo>
                <a:lnTo>
                  <a:pt x="112" y="2399"/>
                </a:lnTo>
                <a:lnTo>
                  <a:pt x="108" y="2386"/>
                </a:lnTo>
                <a:lnTo>
                  <a:pt x="106" y="2372"/>
                </a:lnTo>
                <a:lnTo>
                  <a:pt x="104" y="2357"/>
                </a:lnTo>
                <a:lnTo>
                  <a:pt x="100" y="2351"/>
                </a:lnTo>
                <a:lnTo>
                  <a:pt x="98" y="2343"/>
                </a:lnTo>
                <a:lnTo>
                  <a:pt x="96" y="2336"/>
                </a:lnTo>
                <a:lnTo>
                  <a:pt x="94" y="2328"/>
                </a:lnTo>
                <a:lnTo>
                  <a:pt x="93" y="2319"/>
                </a:lnTo>
                <a:lnTo>
                  <a:pt x="91" y="2309"/>
                </a:lnTo>
                <a:lnTo>
                  <a:pt x="89" y="2297"/>
                </a:lnTo>
                <a:lnTo>
                  <a:pt x="87" y="2288"/>
                </a:lnTo>
                <a:lnTo>
                  <a:pt x="87" y="2274"/>
                </a:lnTo>
                <a:lnTo>
                  <a:pt x="85" y="2263"/>
                </a:lnTo>
                <a:lnTo>
                  <a:pt x="85" y="2249"/>
                </a:lnTo>
                <a:lnTo>
                  <a:pt x="83" y="2236"/>
                </a:lnTo>
                <a:lnTo>
                  <a:pt x="83" y="2221"/>
                </a:lnTo>
                <a:lnTo>
                  <a:pt x="81" y="2205"/>
                </a:lnTo>
                <a:lnTo>
                  <a:pt x="81" y="2190"/>
                </a:lnTo>
                <a:lnTo>
                  <a:pt x="81" y="2175"/>
                </a:lnTo>
                <a:lnTo>
                  <a:pt x="81" y="2157"/>
                </a:lnTo>
                <a:lnTo>
                  <a:pt x="81" y="2138"/>
                </a:lnTo>
                <a:lnTo>
                  <a:pt x="81" y="2121"/>
                </a:lnTo>
                <a:lnTo>
                  <a:pt x="81" y="2102"/>
                </a:lnTo>
                <a:lnTo>
                  <a:pt x="81" y="2081"/>
                </a:lnTo>
                <a:lnTo>
                  <a:pt x="81" y="2061"/>
                </a:lnTo>
                <a:lnTo>
                  <a:pt x="81" y="2040"/>
                </a:lnTo>
                <a:lnTo>
                  <a:pt x="81" y="2017"/>
                </a:lnTo>
                <a:lnTo>
                  <a:pt x="83" y="1996"/>
                </a:lnTo>
                <a:lnTo>
                  <a:pt x="83" y="1973"/>
                </a:lnTo>
                <a:lnTo>
                  <a:pt x="85" y="1948"/>
                </a:lnTo>
                <a:lnTo>
                  <a:pt x="85" y="1923"/>
                </a:lnTo>
                <a:lnTo>
                  <a:pt x="85" y="1898"/>
                </a:lnTo>
                <a:lnTo>
                  <a:pt x="87" y="1873"/>
                </a:lnTo>
                <a:lnTo>
                  <a:pt x="89" y="1846"/>
                </a:lnTo>
                <a:lnTo>
                  <a:pt x="89" y="1820"/>
                </a:lnTo>
                <a:lnTo>
                  <a:pt x="93" y="1766"/>
                </a:lnTo>
                <a:lnTo>
                  <a:pt x="94" y="1712"/>
                </a:lnTo>
                <a:lnTo>
                  <a:pt x="94" y="1656"/>
                </a:lnTo>
                <a:lnTo>
                  <a:pt x="96" y="1599"/>
                </a:lnTo>
                <a:lnTo>
                  <a:pt x="98" y="1539"/>
                </a:lnTo>
                <a:lnTo>
                  <a:pt x="98" y="1480"/>
                </a:lnTo>
                <a:lnTo>
                  <a:pt x="98" y="1418"/>
                </a:lnTo>
                <a:lnTo>
                  <a:pt x="100" y="1355"/>
                </a:lnTo>
                <a:lnTo>
                  <a:pt x="98" y="1292"/>
                </a:lnTo>
                <a:lnTo>
                  <a:pt x="98" y="1226"/>
                </a:lnTo>
                <a:lnTo>
                  <a:pt x="98" y="1159"/>
                </a:lnTo>
                <a:lnTo>
                  <a:pt x="96" y="1092"/>
                </a:lnTo>
                <a:lnTo>
                  <a:pt x="94" y="1023"/>
                </a:lnTo>
                <a:lnTo>
                  <a:pt x="94" y="952"/>
                </a:lnTo>
                <a:lnTo>
                  <a:pt x="93" y="879"/>
                </a:lnTo>
                <a:lnTo>
                  <a:pt x="89" y="808"/>
                </a:lnTo>
                <a:lnTo>
                  <a:pt x="89" y="772"/>
                </a:lnTo>
                <a:lnTo>
                  <a:pt x="87" y="735"/>
                </a:lnTo>
                <a:lnTo>
                  <a:pt x="85" y="701"/>
                </a:lnTo>
                <a:lnTo>
                  <a:pt x="85" y="668"/>
                </a:lnTo>
                <a:lnTo>
                  <a:pt x="83" y="635"/>
                </a:lnTo>
                <a:lnTo>
                  <a:pt x="81" y="605"/>
                </a:lnTo>
                <a:lnTo>
                  <a:pt x="81" y="574"/>
                </a:lnTo>
                <a:lnTo>
                  <a:pt x="79" y="543"/>
                </a:lnTo>
                <a:lnTo>
                  <a:pt x="77" y="514"/>
                </a:lnTo>
                <a:lnTo>
                  <a:pt x="75" y="487"/>
                </a:lnTo>
                <a:lnTo>
                  <a:pt x="75" y="461"/>
                </a:lnTo>
                <a:lnTo>
                  <a:pt x="73" y="436"/>
                </a:lnTo>
                <a:lnTo>
                  <a:pt x="71" y="411"/>
                </a:lnTo>
                <a:lnTo>
                  <a:pt x="70" y="386"/>
                </a:lnTo>
                <a:lnTo>
                  <a:pt x="68" y="363"/>
                </a:lnTo>
                <a:lnTo>
                  <a:pt x="66" y="342"/>
                </a:lnTo>
                <a:lnTo>
                  <a:pt x="66" y="321"/>
                </a:lnTo>
                <a:lnTo>
                  <a:pt x="64" y="301"/>
                </a:lnTo>
                <a:lnTo>
                  <a:pt x="62" y="282"/>
                </a:lnTo>
                <a:lnTo>
                  <a:pt x="60" y="263"/>
                </a:lnTo>
                <a:lnTo>
                  <a:pt x="58" y="246"/>
                </a:lnTo>
                <a:lnTo>
                  <a:pt x="56" y="230"/>
                </a:lnTo>
                <a:lnTo>
                  <a:pt x="54" y="215"/>
                </a:lnTo>
                <a:lnTo>
                  <a:pt x="52" y="202"/>
                </a:lnTo>
                <a:lnTo>
                  <a:pt x="50" y="188"/>
                </a:lnTo>
                <a:lnTo>
                  <a:pt x="48" y="175"/>
                </a:lnTo>
                <a:lnTo>
                  <a:pt x="45" y="163"/>
                </a:lnTo>
                <a:lnTo>
                  <a:pt x="43" y="154"/>
                </a:lnTo>
                <a:lnTo>
                  <a:pt x="41" y="144"/>
                </a:lnTo>
                <a:lnTo>
                  <a:pt x="39" y="136"/>
                </a:lnTo>
                <a:lnTo>
                  <a:pt x="37" y="129"/>
                </a:lnTo>
                <a:lnTo>
                  <a:pt x="33" y="121"/>
                </a:lnTo>
                <a:lnTo>
                  <a:pt x="25" y="111"/>
                </a:lnTo>
                <a:lnTo>
                  <a:pt x="20" y="104"/>
                </a:lnTo>
                <a:lnTo>
                  <a:pt x="14" y="94"/>
                </a:lnTo>
                <a:lnTo>
                  <a:pt x="10" y="84"/>
                </a:lnTo>
                <a:lnTo>
                  <a:pt x="6" y="77"/>
                </a:lnTo>
                <a:lnTo>
                  <a:pt x="4" y="67"/>
                </a:lnTo>
                <a:lnTo>
                  <a:pt x="2" y="59"/>
                </a:lnTo>
                <a:lnTo>
                  <a:pt x="0" y="52"/>
                </a:lnTo>
                <a:lnTo>
                  <a:pt x="0" y="44"/>
                </a:lnTo>
                <a:lnTo>
                  <a:pt x="0" y="38"/>
                </a:lnTo>
                <a:lnTo>
                  <a:pt x="2" y="31"/>
                </a:lnTo>
                <a:lnTo>
                  <a:pt x="4" y="25"/>
                </a:lnTo>
                <a:lnTo>
                  <a:pt x="8" y="19"/>
                </a:lnTo>
                <a:lnTo>
                  <a:pt x="10" y="15"/>
                </a:lnTo>
                <a:lnTo>
                  <a:pt x="16" y="12"/>
                </a:lnTo>
                <a:lnTo>
                  <a:pt x="20" y="8"/>
                </a:lnTo>
                <a:lnTo>
                  <a:pt x="25" y="4"/>
                </a:lnTo>
                <a:lnTo>
                  <a:pt x="31" y="2"/>
                </a:lnTo>
                <a:lnTo>
                  <a:pt x="41" y="2"/>
                </a:lnTo>
                <a:lnTo>
                  <a:pt x="48" y="0"/>
                </a:lnTo>
                <a:lnTo>
                  <a:pt x="58" y="0"/>
                </a:lnTo>
                <a:lnTo>
                  <a:pt x="70" y="2"/>
                </a:lnTo>
                <a:lnTo>
                  <a:pt x="81" y="2"/>
                </a:lnTo>
                <a:lnTo>
                  <a:pt x="94" y="4"/>
                </a:lnTo>
                <a:lnTo>
                  <a:pt x="108" y="8"/>
                </a:lnTo>
                <a:lnTo>
                  <a:pt x="123" y="10"/>
                </a:lnTo>
                <a:lnTo>
                  <a:pt x="141" y="13"/>
                </a:lnTo>
                <a:lnTo>
                  <a:pt x="158" y="19"/>
                </a:lnTo>
                <a:lnTo>
                  <a:pt x="177" y="23"/>
                </a:lnTo>
                <a:lnTo>
                  <a:pt x="198" y="29"/>
                </a:lnTo>
                <a:lnTo>
                  <a:pt x="219" y="35"/>
                </a:lnTo>
                <a:lnTo>
                  <a:pt x="242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4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木”的捺变点，“豆”的下横变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矩形 3"/>
          <p:cNvSpPr/>
          <p:nvPr/>
        </p:nvSpPr>
        <p:spPr>
          <a:xfrm>
            <a:off x="2124000" y="1868400"/>
            <a:ext cx="12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82"/>
          <p:cNvSpPr/>
          <p:nvPr/>
        </p:nvSpPr>
        <p:spPr>
          <a:xfrm>
            <a:off x="7074000" y="3197160"/>
            <a:ext cx="363600" cy="1879560"/>
          </a:xfrm>
          <a:custGeom>
            <a:avLst/>
            <a:gdLst/>
            <a:ahLst/>
            <a:rect l="l" t="t" r="r" b="b"/>
            <a:pathLst>
              <a:path w="459" h="2367">
                <a:moveTo>
                  <a:pt x="171" y="39"/>
                </a:moveTo>
                <a:lnTo>
                  <a:pt x="177" y="29"/>
                </a:lnTo>
                <a:lnTo>
                  <a:pt x="182" y="22"/>
                </a:lnTo>
                <a:lnTo>
                  <a:pt x="190" y="16"/>
                </a:lnTo>
                <a:lnTo>
                  <a:pt x="200" y="10"/>
                </a:lnTo>
                <a:lnTo>
                  <a:pt x="209" y="4"/>
                </a:lnTo>
                <a:lnTo>
                  <a:pt x="219" y="2"/>
                </a:lnTo>
                <a:lnTo>
                  <a:pt x="232" y="0"/>
                </a:lnTo>
                <a:lnTo>
                  <a:pt x="246" y="0"/>
                </a:lnTo>
                <a:lnTo>
                  <a:pt x="259" y="0"/>
                </a:lnTo>
                <a:lnTo>
                  <a:pt x="274" y="2"/>
                </a:lnTo>
                <a:lnTo>
                  <a:pt x="292" y="6"/>
                </a:lnTo>
                <a:lnTo>
                  <a:pt x="309" y="10"/>
                </a:lnTo>
                <a:lnTo>
                  <a:pt x="319" y="14"/>
                </a:lnTo>
                <a:lnTo>
                  <a:pt x="328" y="18"/>
                </a:lnTo>
                <a:lnTo>
                  <a:pt x="338" y="22"/>
                </a:lnTo>
                <a:lnTo>
                  <a:pt x="349" y="27"/>
                </a:lnTo>
                <a:lnTo>
                  <a:pt x="359" y="33"/>
                </a:lnTo>
                <a:lnTo>
                  <a:pt x="370" y="39"/>
                </a:lnTo>
                <a:lnTo>
                  <a:pt x="382" y="45"/>
                </a:lnTo>
                <a:lnTo>
                  <a:pt x="393" y="52"/>
                </a:lnTo>
                <a:lnTo>
                  <a:pt x="403" y="60"/>
                </a:lnTo>
                <a:lnTo>
                  <a:pt x="413" y="70"/>
                </a:lnTo>
                <a:lnTo>
                  <a:pt x="422" y="77"/>
                </a:lnTo>
                <a:lnTo>
                  <a:pt x="430" y="85"/>
                </a:lnTo>
                <a:lnTo>
                  <a:pt x="436" y="94"/>
                </a:lnTo>
                <a:lnTo>
                  <a:pt x="441" y="104"/>
                </a:lnTo>
                <a:lnTo>
                  <a:pt x="447" y="114"/>
                </a:lnTo>
                <a:lnTo>
                  <a:pt x="451" y="123"/>
                </a:lnTo>
                <a:lnTo>
                  <a:pt x="453" y="133"/>
                </a:lnTo>
                <a:lnTo>
                  <a:pt x="457" y="144"/>
                </a:lnTo>
                <a:lnTo>
                  <a:pt x="457" y="154"/>
                </a:lnTo>
                <a:lnTo>
                  <a:pt x="459" y="165"/>
                </a:lnTo>
                <a:lnTo>
                  <a:pt x="459" y="177"/>
                </a:lnTo>
                <a:lnTo>
                  <a:pt x="457" y="189"/>
                </a:lnTo>
                <a:lnTo>
                  <a:pt x="457" y="202"/>
                </a:lnTo>
                <a:lnTo>
                  <a:pt x="455" y="213"/>
                </a:lnTo>
                <a:lnTo>
                  <a:pt x="451" y="219"/>
                </a:lnTo>
                <a:lnTo>
                  <a:pt x="449" y="227"/>
                </a:lnTo>
                <a:lnTo>
                  <a:pt x="447" y="235"/>
                </a:lnTo>
                <a:lnTo>
                  <a:pt x="445" y="244"/>
                </a:lnTo>
                <a:lnTo>
                  <a:pt x="443" y="254"/>
                </a:lnTo>
                <a:lnTo>
                  <a:pt x="441" y="263"/>
                </a:lnTo>
                <a:lnTo>
                  <a:pt x="440" y="275"/>
                </a:lnTo>
                <a:lnTo>
                  <a:pt x="438" y="286"/>
                </a:lnTo>
                <a:lnTo>
                  <a:pt x="436" y="298"/>
                </a:lnTo>
                <a:lnTo>
                  <a:pt x="436" y="311"/>
                </a:lnTo>
                <a:lnTo>
                  <a:pt x="434" y="325"/>
                </a:lnTo>
                <a:lnTo>
                  <a:pt x="432" y="340"/>
                </a:lnTo>
                <a:lnTo>
                  <a:pt x="430" y="354"/>
                </a:lnTo>
                <a:lnTo>
                  <a:pt x="430" y="371"/>
                </a:lnTo>
                <a:lnTo>
                  <a:pt x="428" y="386"/>
                </a:lnTo>
                <a:lnTo>
                  <a:pt x="426" y="403"/>
                </a:lnTo>
                <a:lnTo>
                  <a:pt x="426" y="423"/>
                </a:lnTo>
                <a:lnTo>
                  <a:pt x="424" y="440"/>
                </a:lnTo>
                <a:lnTo>
                  <a:pt x="424" y="459"/>
                </a:lnTo>
                <a:lnTo>
                  <a:pt x="422" y="480"/>
                </a:lnTo>
                <a:lnTo>
                  <a:pt x="422" y="501"/>
                </a:lnTo>
                <a:lnTo>
                  <a:pt x="420" y="522"/>
                </a:lnTo>
                <a:lnTo>
                  <a:pt x="420" y="544"/>
                </a:lnTo>
                <a:lnTo>
                  <a:pt x="420" y="567"/>
                </a:lnTo>
                <a:lnTo>
                  <a:pt x="418" y="590"/>
                </a:lnTo>
                <a:lnTo>
                  <a:pt x="418" y="615"/>
                </a:lnTo>
                <a:lnTo>
                  <a:pt x="418" y="640"/>
                </a:lnTo>
                <a:lnTo>
                  <a:pt x="418" y="665"/>
                </a:lnTo>
                <a:lnTo>
                  <a:pt x="417" y="691"/>
                </a:lnTo>
                <a:lnTo>
                  <a:pt x="417" y="718"/>
                </a:lnTo>
                <a:lnTo>
                  <a:pt x="417" y="747"/>
                </a:lnTo>
                <a:lnTo>
                  <a:pt x="417" y="776"/>
                </a:lnTo>
                <a:lnTo>
                  <a:pt x="417" y="832"/>
                </a:lnTo>
                <a:lnTo>
                  <a:pt x="417" y="887"/>
                </a:lnTo>
                <a:lnTo>
                  <a:pt x="417" y="943"/>
                </a:lnTo>
                <a:lnTo>
                  <a:pt x="417" y="995"/>
                </a:lnTo>
                <a:lnTo>
                  <a:pt x="418" y="1046"/>
                </a:lnTo>
                <a:lnTo>
                  <a:pt x="418" y="1098"/>
                </a:lnTo>
                <a:lnTo>
                  <a:pt x="418" y="1146"/>
                </a:lnTo>
                <a:lnTo>
                  <a:pt x="418" y="1194"/>
                </a:lnTo>
                <a:lnTo>
                  <a:pt x="420" y="1240"/>
                </a:lnTo>
                <a:lnTo>
                  <a:pt x="420" y="1286"/>
                </a:lnTo>
                <a:lnTo>
                  <a:pt x="420" y="1329"/>
                </a:lnTo>
                <a:lnTo>
                  <a:pt x="422" y="1371"/>
                </a:lnTo>
                <a:lnTo>
                  <a:pt x="424" y="1411"/>
                </a:lnTo>
                <a:lnTo>
                  <a:pt x="426" y="1451"/>
                </a:lnTo>
                <a:lnTo>
                  <a:pt x="428" y="1488"/>
                </a:lnTo>
                <a:lnTo>
                  <a:pt x="430" y="1524"/>
                </a:lnTo>
                <a:lnTo>
                  <a:pt x="430" y="1561"/>
                </a:lnTo>
                <a:lnTo>
                  <a:pt x="430" y="1597"/>
                </a:lnTo>
                <a:lnTo>
                  <a:pt x="430" y="1632"/>
                </a:lnTo>
                <a:lnTo>
                  <a:pt x="430" y="1665"/>
                </a:lnTo>
                <a:lnTo>
                  <a:pt x="430" y="1697"/>
                </a:lnTo>
                <a:lnTo>
                  <a:pt x="430" y="1728"/>
                </a:lnTo>
                <a:lnTo>
                  <a:pt x="430" y="1757"/>
                </a:lnTo>
                <a:lnTo>
                  <a:pt x="430" y="1785"/>
                </a:lnTo>
                <a:lnTo>
                  <a:pt x="430" y="1812"/>
                </a:lnTo>
                <a:lnTo>
                  <a:pt x="430" y="1837"/>
                </a:lnTo>
                <a:lnTo>
                  <a:pt x="430" y="1862"/>
                </a:lnTo>
                <a:lnTo>
                  <a:pt x="430" y="1885"/>
                </a:lnTo>
                <a:lnTo>
                  <a:pt x="430" y="1906"/>
                </a:lnTo>
                <a:lnTo>
                  <a:pt x="430" y="1928"/>
                </a:lnTo>
                <a:lnTo>
                  <a:pt x="430" y="1947"/>
                </a:lnTo>
                <a:lnTo>
                  <a:pt x="430" y="1966"/>
                </a:lnTo>
                <a:lnTo>
                  <a:pt x="430" y="1983"/>
                </a:lnTo>
                <a:lnTo>
                  <a:pt x="428" y="2000"/>
                </a:lnTo>
                <a:lnTo>
                  <a:pt x="426" y="2018"/>
                </a:lnTo>
                <a:lnTo>
                  <a:pt x="424" y="2035"/>
                </a:lnTo>
                <a:lnTo>
                  <a:pt x="422" y="2052"/>
                </a:lnTo>
                <a:lnTo>
                  <a:pt x="420" y="2071"/>
                </a:lnTo>
                <a:lnTo>
                  <a:pt x="413" y="2106"/>
                </a:lnTo>
                <a:lnTo>
                  <a:pt x="403" y="2141"/>
                </a:lnTo>
                <a:lnTo>
                  <a:pt x="393" y="2175"/>
                </a:lnTo>
                <a:lnTo>
                  <a:pt x="382" y="2212"/>
                </a:lnTo>
                <a:lnTo>
                  <a:pt x="369" y="2246"/>
                </a:lnTo>
                <a:lnTo>
                  <a:pt x="361" y="2261"/>
                </a:lnTo>
                <a:lnTo>
                  <a:pt x="355" y="2275"/>
                </a:lnTo>
                <a:lnTo>
                  <a:pt x="347" y="2286"/>
                </a:lnTo>
                <a:lnTo>
                  <a:pt x="342" y="2300"/>
                </a:lnTo>
                <a:lnTo>
                  <a:pt x="334" y="2309"/>
                </a:lnTo>
                <a:lnTo>
                  <a:pt x="328" y="2319"/>
                </a:lnTo>
                <a:lnTo>
                  <a:pt x="321" y="2329"/>
                </a:lnTo>
                <a:lnTo>
                  <a:pt x="315" y="2336"/>
                </a:lnTo>
                <a:lnTo>
                  <a:pt x="309" y="2344"/>
                </a:lnTo>
                <a:lnTo>
                  <a:pt x="301" y="2350"/>
                </a:lnTo>
                <a:lnTo>
                  <a:pt x="296" y="2356"/>
                </a:lnTo>
                <a:lnTo>
                  <a:pt x="290" y="2359"/>
                </a:lnTo>
                <a:lnTo>
                  <a:pt x="284" y="2363"/>
                </a:lnTo>
                <a:lnTo>
                  <a:pt x="280" y="2365"/>
                </a:lnTo>
                <a:lnTo>
                  <a:pt x="274" y="2367"/>
                </a:lnTo>
                <a:lnTo>
                  <a:pt x="271" y="2367"/>
                </a:lnTo>
                <a:lnTo>
                  <a:pt x="265" y="2363"/>
                </a:lnTo>
                <a:lnTo>
                  <a:pt x="261" y="2361"/>
                </a:lnTo>
                <a:lnTo>
                  <a:pt x="257" y="2356"/>
                </a:lnTo>
                <a:lnTo>
                  <a:pt x="253" y="2352"/>
                </a:lnTo>
                <a:lnTo>
                  <a:pt x="250" y="2346"/>
                </a:lnTo>
                <a:lnTo>
                  <a:pt x="246" y="2340"/>
                </a:lnTo>
                <a:lnTo>
                  <a:pt x="244" y="2334"/>
                </a:lnTo>
                <a:lnTo>
                  <a:pt x="240" y="2327"/>
                </a:lnTo>
                <a:lnTo>
                  <a:pt x="238" y="2319"/>
                </a:lnTo>
                <a:lnTo>
                  <a:pt x="234" y="2309"/>
                </a:lnTo>
                <a:lnTo>
                  <a:pt x="232" y="2302"/>
                </a:lnTo>
                <a:lnTo>
                  <a:pt x="230" y="2292"/>
                </a:lnTo>
                <a:lnTo>
                  <a:pt x="226" y="2281"/>
                </a:lnTo>
                <a:lnTo>
                  <a:pt x="225" y="2269"/>
                </a:lnTo>
                <a:lnTo>
                  <a:pt x="223" y="2258"/>
                </a:lnTo>
                <a:lnTo>
                  <a:pt x="221" y="2246"/>
                </a:lnTo>
                <a:lnTo>
                  <a:pt x="217" y="2235"/>
                </a:lnTo>
                <a:lnTo>
                  <a:pt x="215" y="2221"/>
                </a:lnTo>
                <a:lnTo>
                  <a:pt x="209" y="2208"/>
                </a:lnTo>
                <a:lnTo>
                  <a:pt x="205" y="2196"/>
                </a:lnTo>
                <a:lnTo>
                  <a:pt x="200" y="2183"/>
                </a:lnTo>
                <a:lnTo>
                  <a:pt x="192" y="2171"/>
                </a:lnTo>
                <a:lnTo>
                  <a:pt x="184" y="2158"/>
                </a:lnTo>
                <a:lnTo>
                  <a:pt x="177" y="2146"/>
                </a:lnTo>
                <a:lnTo>
                  <a:pt x="169" y="2133"/>
                </a:lnTo>
                <a:lnTo>
                  <a:pt x="159" y="2121"/>
                </a:lnTo>
                <a:lnTo>
                  <a:pt x="150" y="2108"/>
                </a:lnTo>
                <a:lnTo>
                  <a:pt x="140" y="2096"/>
                </a:lnTo>
                <a:lnTo>
                  <a:pt x="119" y="2071"/>
                </a:lnTo>
                <a:lnTo>
                  <a:pt x="98" y="2047"/>
                </a:lnTo>
                <a:lnTo>
                  <a:pt x="86" y="2035"/>
                </a:lnTo>
                <a:lnTo>
                  <a:pt x="75" y="2025"/>
                </a:lnTo>
                <a:lnTo>
                  <a:pt x="65" y="2018"/>
                </a:lnTo>
                <a:lnTo>
                  <a:pt x="56" y="2008"/>
                </a:lnTo>
                <a:lnTo>
                  <a:pt x="48" y="2000"/>
                </a:lnTo>
                <a:lnTo>
                  <a:pt x="40" y="1991"/>
                </a:lnTo>
                <a:lnTo>
                  <a:pt x="33" y="1983"/>
                </a:lnTo>
                <a:lnTo>
                  <a:pt x="25" y="1977"/>
                </a:lnTo>
                <a:lnTo>
                  <a:pt x="19" y="1970"/>
                </a:lnTo>
                <a:lnTo>
                  <a:pt x="13" y="1964"/>
                </a:lnTo>
                <a:lnTo>
                  <a:pt x="10" y="1958"/>
                </a:lnTo>
                <a:lnTo>
                  <a:pt x="6" y="1952"/>
                </a:lnTo>
                <a:lnTo>
                  <a:pt x="4" y="1949"/>
                </a:lnTo>
                <a:lnTo>
                  <a:pt x="0" y="1945"/>
                </a:lnTo>
                <a:lnTo>
                  <a:pt x="0" y="1941"/>
                </a:lnTo>
                <a:lnTo>
                  <a:pt x="0" y="1939"/>
                </a:lnTo>
                <a:lnTo>
                  <a:pt x="0" y="1937"/>
                </a:lnTo>
                <a:lnTo>
                  <a:pt x="0" y="1935"/>
                </a:lnTo>
                <a:lnTo>
                  <a:pt x="4" y="1933"/>
                </a:lnTo>
                <a:lnTo>
                  <a:pt x="6" y="1931"/>
                </a:lnTo>
                <a:lnTo>
                  <a:pt x="10" y="1929"/>
                </a:lnTo>
                <a:lnTo>
                  <a:pt x="15" y="1929"/>
                </a:lnTo>
                <a:lnTo>
                  <a:pt x="21" y="1929"/>
                </a:lnTo>
                <a:lnTo>
                  <a:pt x="29" y="1929"/>
                </a:lnTo>
                <a:lnTo>
                  <a:pt x="36" y="1929"/>
                </a:lnTo>
                <a:lnTo>
                  <a:pt x="46" y="1929"/>
                </a:lnTo>
                <a:lnTo>
                  <a:pt x="56" y="1929"/>
                </a:lnTo>
                <a:lnTo>
                  <a:pt x="67" y="1931"/>
                </a:lnTo>
                <a:lnTo>
                  <a:pt x="79" y="1933"/>
                </a:lnTo>
                <a:lnTo>
                  <a:pt x="92" y="1933"/>
                </a:lnTo>
                <a:lnTo>
                  <a:pt x="106" y="1937"/>
                </a:lnTo>
                <a:lnTo>
                  <a:pt x="123" y="1939"/>
                </a:lnTo>
                <a:lnTo>
                  <a:pt x="136" y="1943"/>
                </a:lnTo>
                <a:lnTo>
                  <a:pt x="148" y="1947"/>
                </a:lnTo>
                <a:lnTo>
                  <a:pt x="161" y="1951"/>
                </a:lnTo>
                <a:lnTo>
                  <a:pt x="173" y="1954"/>
                </a:lnTo>
                <a:lnTo>
                  <a:pt x="184" y="1956"/>
                </a:lnTo>
                <a:lnTo>
                  <a:pt x="194" y="1958"/>
                </a:lnTo>
                <a:lnTo>
                  <a:pt x="203" y="1958"/>
                </a:lnTo>
                <a:lnTo>
                  <a:pt x="213" y="1958"/>
                </a:lnTo>
                <a:lnTo>
                  <a:pt x="221" y="1958"/>
                </a:lnTo>
                <a:lnTo>
                  <a:pt x="228" y="1958"/>
                </a:lnTo>
                <a:lnTo>
                  <a:pt x="236" y="1956"/>
                </a:lnTo>
                <a:lnTo>
                  <a:pt x="242" y="1954"/>
                </a:lnTo>
                <a:lnTo>
                  <a:pt x="246" y="1951"/>
                </a:lnTo>
                <a:lnTo>
                  <a:pt x="251" y="1947"/>
                </a:lnTo>
                <a:lnTo>
                  <a:pt x="255" y="1943"/>
                </a:lnTo>
                <a:lnTo>
                  <a:pt x="257" y="1939"/>
                </a:lnTo>
                <a:lnTo>
                  <a:pt x="259" y="1933"/>
                </a:lnTo>
                <a:lnTo>
                  <a:pt x="261" y="1928"/>
                </a:lnTo>
                <a:lnTo>
                  <a:pt x="265" y="1920"/>
                </a:lnTo>
                <a:lnTo>
                  <a:pt x="267" y="1914"/>
                </a:lnTo>
                <a:lnTo>
                  <a:pt x="269" y="1904"/>
                </a:lnTo>
                <a:lnTo>
                  <a:pt x="271" y="1897"/>
                </a:lnTo>
                <a:lnTo>
                  <a:pt x="273" y="1887"/>
                </a:lnTo>
                <a:lnTo>
                  <a:pt x="274" y="1878"/>
                </a:lnTo>
                <a:lnTo>
                  <a:pt x="276" y="1866"/>
                </a:lnTo>
                <a:lnTo>
                  <a:pt x="276" y="1855"/>
                </a:lnTo>
                <a:lnTo>
                  <a:pt x="278" y="1841"/>
                </a:lnTo>
                <a:lnTo>
                  <a:pt x="280" y="1828"/>
                </a:lnTo>
                <a:lnTo>
                  <a:pt x="280" y="1814"/>
                </a:lnTo>
                <a:lnTo>
                  <a:pt x="280" y="1799"/>
                </a:lnTo>
                <a:lnTo>
                  <a:pt x="282" y="1782"/>
                </a:lnTo>
                <a:lnTo>
                  <a:pt x="282" y="1764"/>
                </a:lnTo>
                <a:lnTo>
                  <a:pt x="282" y="1757"/>
                </a:lnTo>
                <a:lnTo>
                  <a:pt x="282" y="1747"/>
                </a:lnTo>
                <a:lnTo>
                  <a:pt x="282" y="1737"/>
                </a:lnTo>
                <a:lnTo>
                  <a:pt x="282" y="1726"/>
                </a:lnTo>
                <a:lnTo>
                  <a:pt x="282" y="1714"/>
                </a:lnTo>
                <a:lnTo>
                  <a:pt x="282" y="1699"/>
                </a:lnTo>
                <a:lnTo>
                  <a:pt x="282" y="1686"/>
                </a:lnTo>
                <a:lnTo>
                  <a:pt x="282" y="1670"/>
                </a:lnTo>
                <a:lnTo>
                  <a:pt x="282" y="1653"/>
                </a:lnTo>
                <a:lnTo>
                  <a:pt x="282" y="1634"/>
                </a:lnTo>
                <a:lnTo>
                  <a:pt x="282" y="1615"/>
                </a:lnTo>
                <a:lnTo>
                  <a:pt x="282" y="1595"/>
                </a:lnTo>
                <a:lnTo>
                  <a:pt x="282" y="1574"/>
                </a:lnTo>
                <a:lnTo>
                  <a:pt x="282" y="1551"/>
                </a:lnTo>
                <a:lnTo>
                  <a:pt x="282" y="1526"/>
                </a:lnTo>
                <a:lnTo>
                  <a:pt x="282" y="1503"/>
                </a:lnTo>
                <a:lnTo>
                  <a:pt x="282" y="1476"/>
                </a:lnTo>
                <a:lnTo>
                  <a:pt x="282" y="1450"/>
                </a:lnTo>
                <a:lnTo>
                  <a:pt x="282" y="1421"/>
                </a:lnTo>
                <a:lnTo>
                  <a:pt x="282" y="1392"/>
                </a:lnTo>
                <a:lnTo>
                  <a:pt x="282" y="1361"/>
                </a:lnTo>
                <a:lnTo>
                  <a:pt x="282" y="1329"/>
                </a:lnTo>
                <a:lnTo>
                  <a:pt x="282" y="1296"/>
                </a:lnTo>
                <a:lnTo>
                  <a:pt x="282" y="1263"/>
                </a:lnTo>
                <a:lnTo>
                  <a:pt x="282" y="1227"/>
                </a:lnTo>
                <a:lnTo>
                  <a:pt x="282" y="1190"/>
                </a:lnTo>
                <a:lnTo>
                  <a:pt x="282" y="1154"/>
                </a:lnTo>
                <a:lnTo>
                  <a:pt x="282" y="1116"/>
                </a:lnTo>
                <a:lnTo>
                  <a:pt x="282" y="1075"/>
                </a:lnTo>
                <a:lnTo>
                  <a:pt x="282" y="1035"/>
                </a:lnTo>
                <a:lnTo>
                  <a:pt x="282" y="993"/>
                </a:lnTo>
                <a:lnTo>
                  <a:pt x="282" y="949"/>
                </a:lnTo>
                <a:lnTo>
                  <a:pt x="282" y="906"/>
                </a:lnTo>
                <a:lnTo>
                  <a:pt x="282" y="864"/>
                </a:lnTo>
                <a:lnTo>
                  <a:pt x="282" y="824"/>
                </a:lnTo>
                <a:lnTo>
                  <a:pt x="282" y="784"/>
                </a:lnTo>
                <a:lnTo>
                  <a:pt x="282" y="745"/>
                </a:lnTo>
                <a:lnTo>
                  <a:pt x="282" y="709"/>
                </a:lnTo>
                <a:lnTo>
                  <a:pt x="282" y="672"/>
                </a:lnTo>
                <a:lnTo>
                  <a:pt x="282" y="638"/>
                </a:lnTo>
                <a:lnTo>
                  <a:pt x="282" y="605"/>
                </a:lnTo>
                <a:lnTo>
                  <a:pt x="282" y="572"/>
                </a:lnTo>
                <a:lnTo>
                  <a:pt x="282" y="542"/>
                </a:lnTo>
                <a:lnTo>
                  <a:pt x="280" y="513"/>
                </a:lnTo>
                <a:lnTo>
                  <a:pt x="280" y="484"/>
                </a:lnTo>
                <a:lnTo>
                  <a:pt x="280" y="457"/>
                </a:lnTo>
                <a:lnTo>
                  <a:pt x="280" y="430"/>
                </a:lnTo>
                <a:lnTo>
                  <a:pt x="280" y="405"/>
                </a:lnTo>
                <a:lnTo>
                  <a:pt x="280" y="382"/>
                </a:lnTo>
                <a:lnTo>
                  <a:pt x="280" y="359"/>
                </a:lnTo>
                <a:lnTo>
                  <a:pt x="278" y="338"/>
                </a:lnTo>
                <a:lnTo>
                  <a:pt x="278" y="319"/>
                </a:lnTo>
                <a:lnTo>
                  <a:pt x="278" y="300"/>
                </a:lnTo>
                <a:lnTo>
                  <a:pt x="278" y="283"/>
                </a:lnTo>
                <a:lnTo>
                  <a:pt x="276" y="267"/>
                </a:lnTo>
                <a:lnTo>
                  <a:pt x="276" y="252"/>
                </a:lnTo>
                <a:lnTo>
                  <a:pt x="276" y="236"/>
                </a:lnTo>
                <a:lnTo>
                  <a:pt x="274" y="225"/>
                </a:lnTo>
                <a:lnTo>
                  <a:pt x="274" y="213"/>
                </a:lnTo>
                <a:lnTo>
                  <a:pt x="274" y="202"/>
                </a:lnTo>
                <a:lnTo>
                  <a:pt x="273" y="194"/>
                </a:lnTo>
                <a:lnTo>
                  <a:pt x="273" y="185"/>
                </a:lnTo>
                <a:lnTo>
                  <a:pt x="271" y="179"/>
                </a:lnTo>
                <a:lnTo>
                  <a:pt x="271" y="173"/>
                </a:lnTo>
                <a:lnTo>
                  <a:pt x="265" y="158"/>
                </a:lnTo>
                <a:lnTo>
                  <a:pt x="259" y="146"/>
                </a:lnTo>
                <a:lnTo>
                  <a:pt x="251" y="133"/>
                </a:lnTo>
                <a:lnTo>
                  <a:pt x="244" y="123"/>
                </a:lnTo>
                <a:lnTo>
                  <a:pt x="234" y="114"/>
                </a:lnTo>
                <a:lnTo>
                  <a:pt x="226" y="106"/>
                </a:lnTo>
                <a:lnTo>
                  <a:pt x="217" y="98"/>
                </a:lnTo>
                <a:lnTo>
                  <a:pt x="207" y="93"/>
                </a:lnTo>
                <a:lnTo>
                  <a:pt x="200" y="89"/>
                </a:lnTo>
                <a:lnTo>
                  <a:pt x="192" y="83"/>
                </a:lnTo>
                <a:lnTo>
                  <a:pt x="186" y="77"/>
                </a:lnTo>
                <a:lnTo>
                  <a:pt x="180" y="71"/>
                </a:lnTo>
                <a:lnTo>
                  <a:pt x="177" y="64"/>
                </a:lnTo>
                <a:lnTo>
                  <a:pt x="173" y="58"/>
                </a:lnTo>
                <a:lnTo>
                  <a:pt x="173" y="48"/>
                </a:lnTo>
                <a:lnTo>
                  <a:pt x="171" y="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83"/>
          <p:cNvSpPr/>
          <p:nvPr/>
        </p:nvSpPr>
        <p:spPr>
          <a:xfrm>
            <a:off x="7043760" y="3627360"/>
            <a:ext cx="654120" cy="249480"/>
          </a:xfrm>
          <a:custGeom>
            <a:avLst/>
            <a:gdLst/>
            <a:ahLst/>
            <a:rect l="l" t="t" r="r" b="b"/>
            <a:pathLst>
              <a:path w="825" h="314">
                <a:moveTo>
                  <a:pt x="664" y="19"/>
                </a:moveTo>
                <a:lnTo>
                  <a:pt x="677" y="13"/>
                </a:lnTo>
                <a:lnTo>
                  <a:pt x="693" y="9"/>
                </a:lnTo>
                <a:lnTo>
                  <a:pt x="706" y="5"/>
                </a:lnTo>
                <a:lnTo>
                  <a:pt x="719" y="2"/>
                </a:lnTo>
                <a:lnTo>
                  <a:pt x="733" y="0"/>
                </a:lnTo>
                <a:lnTo>
                  <a:pt x="741" y="0"/>
                </a:lnTo>
                <a:lnTo>
                  <a:pt x="746" y="0"/>
                </a:lnTo>
                <a:lnTo>
                  <a:pt x="754" y="2"/>
                </a:lnTo>
                <a:lnTo>
                  <a:pt x="762" y="2"/>
                </a:lnTo>
                <a:lnTo>
                  <a:pt x="767" y="4"/>
                </a:lnTo>
                <a:lnTo>
                  <a:pt x="775" y="5"/>
                </a:lnTo>
                <a:lnTo>
                  <a:pt x="781" y="9"/>
                </a:lnTo>
                <a:lnTo>
                  <a:pt x="787" y="11"/>
                </a:lnTo>
                <a:lnTo>
                  <a:pt x="792" y="15"/>
                </a:lnTo>
                <a:lnTo>
                  <a:pt x="798" y="19"/>
                </a:lnTo>
                <a:lnTo>
                  <a:pt x="802" y="23"/>
                </a:lnTo>
                <a:lnTo>
                  <a:pt x="806" y="27"/>
                </a:lnTo>
                <a:lnTo>
                  <a:pt x="813" y="36"/>
                </a:lnTo>
                <a:lnTo>
                  <a:pt x="817" y="46"/>
                </a:lnTo>
                <a:lnTo>
                  <a:pt x="821" y="59"/>
                </a:lnTo>
                <a:lnTo>
                  <a:pt x="823" y="71"/>
                </a:lnTo>
                <a:lnTo>
                  <a:pt x="825" y="86"/>
                </a:lnTo>
                <a:lnTo>
                  <a:pt x="823" y="94"/>
                </a:lnTo>
                <a:lnTo>
                  <a:pt x="823" y="99"/>
                </a:lnTo>
                <a:lnTo>
                  <a:pt x="819" y="107"/>
                </a:lnTo>
                <a:lnTo>
                  <a:pt x="817" y="113"/>
                </a:lnTo>
                <a:lnTo>
                  <a:pt x="813" y="119"/>
                </a:lnTo>
                <a:lnTo>
                  <a:pt x="808" y="126"/>
                </a:lnTo>
                <a:lnTo>
                  <a:pt x="802" y="130"/>
                </a:lnTo>
                <a:lnTo>
                  <a:pt x="796" y="136"/>
                </a:lnTo>
                <a:lnTo>
                  <a:pt x="788" y="142"/>
                </a:lnTo>
                <a:lnTo>
                  <a:pt x="781" y="146"/>
                </a:lnTo>
                <a:lnTo>
                  <a:pt x="771" y="149"/>
                </a:lnTo>
                <a:lnTo>
                  <a:pt x="762" y="153"/>
                </a:lnTo>
                <a:lnTo>
                  <a:pt x="750" y="157"/>
                </a:lnTo>
                <a:lnTo>
                  <a:pt x="739" y="161"/>
                </a:lnTo>
                <a:lnTo>
                  <a:pt x="727" y="163"/>
                </a:lnTo>
                <a:lnTo>
                  <a:pt x="714" y="167"/>
                </a:lnTo>
                <a:lnTo>
                  <a:pt x="698" y="171"/>
                </a:lnTo>
                <a:lnTo>
                  <a:pt x="685" y="176"/>
                </a:lnTo>
                <a:lnTo>
                  <a:pt x="669" y="182"/>
                </a:lnTo>
                <a:lnTo>
                  <a:pt x="654" y="186"/>
                </a:lnTo>
                <a:lnTo>
                  <a:pt x="637" y="192"/>
                </a:lnTo>
                <a:lnTo>
                  <a:pt x="620" y="197"/>
                </a:lnTo>
                <a:lnTo>
                  <a:pt x="600" y="203"/>
                </a:lnTo>
                <a:lnTo>
                  <a:pt x="583" y="209"/>
                </a:lnTo>
                <a:lnTo>
                  <a:pt x="564" y="213"/>
                </a:lnTo>
                <a:lnTo>
                  <a:pt x="543" y="220"/>
                </a:lnTo>
                <a:lnTo>
                  <a:pt x="522" y="226"/>
                </a:lnTo>
                <a:lnTo>
                  <a:pt x="501" y="232"/>
                </a:lnTo>
                <a:lnTo>
                  <a:pt x="478" y="238"/>
                </a:lnTo>
                <a:lnTo>
                  <a:pt x="455" y="245"/>
                </a:lnTo>
                <a:lnTo>
                  <a:pt x="431" y="253"/>
                </a:lnTo>
                <a:lnTo>
                  <a:pt x="407" y="261"/>
                </a:lnTo>
                <a:lnTo>
                  <a:pt x="382" y="266"/>
                </a:lnTo>
                <a:lnTo>
                  <a:pt x="357" y="274"/>
                </a:lnTo>
                <a:lnTo>
                  <a:pt x="334" y="280"/>
                </a:lnTo>
                <a:lnTo>
                  <a:pt x="312" y="286"/>
                </a:lnTo>
                <a:lnTo>
                  <a:pt x="289" y="290"/>
                </a:lnTo>
                <a:lnTo>
                  <a:pt x="270" y="295"/>
                </a:lnTo>
                <a:lnTo>
                  <a:pt x="249" y="299"/>
                </a:lnTo>
                <a:lnTo>
                  <a:pt x="230" y="301"/>
                </a:lnTo>
                <a:lnTo>
                  <a:pt x="213" y="305"/>
                </a:lnTo>
                <a:lnTo>
                  <a:pt x="195" y="307"/>
                </a:lnTo>
                <a:lnTo>
                  <a:pt x="180" y="309"/>
                </a:lnTo>
                <a:lnTo>
                  <a:pt x="165" y="311"/>
                </a:lnTo>
                <a:lnTo>
                  <a:pt x="149" y="313"/>
                </a:lnTo>
                <a:lnTo>
                  <a:pt x="136" y="313"/>
                </a:lnTo>
                <a:lnTo>
                  <a:pt x="122" y="313"/>
                </a:lnTo>
                <a:lnTo>
                  <a:pt x="111" y="314"/>
                </a:lnTo>
                <a:lnTo>
                  <a:pt x="99" y="313"/>
                </a:lnTo>
                <a:lnTo>
                  <a:pt x="90" y="313"/>
                </a:lnTo>
                <a:lnTo>
                  <a:pt x="78" y="313"/>
                </a:lnTo>
                <a:lnTo>
                  <a:pt x="69" y="311"/>
                </a:lnTo>
                <a:lnTo>
                  <a:pt x="61" y="309"/>
                </a:lnTo>
                <a:lnTo>
                  <a:pt x="51" y="309"/>
                </a:lnTo>
                <a:lnTo>
                  <a:pt x="44" y="307"/>
                </a:lnTo>
                <a:lnTo>
                  <a:pt x="36" y="303"/>
                </a:lnTo>
                <a:lnTo>
                  <a:pt x="30" y="301"/>
                </a:lnTo>
                <a:lnTo>
                  <a:pt x="25" y="297"/>
                </a:lnTo>
                <a:lnTo>
                  <a:pt x="19" y="295"/>
                </a:lnTo>
                <a:lnTo>
                  <a:pt x="13" y="291"/>
                </a:lnTo>
                <a:lnTo>
                  <a:pt x="9" y="288"/>
                </a:lnTo>
                <a:lnTo>
                  <a:pt x="5" y="282"/>
                </a:lnTo>
                <a:lnTo>
                  <a:pt x="3" y="278"/>
                </a:lnTo>
                <a:lnTo>
                  <a:pt x="0" y="274"/>
                </a:lnTo>
                <a:lnTo>
                  <a:pt x="0" y="272"/>
                </a:lnTo>
                <a:lnTo>
                  <a:pt x="0" y="270"/>
                </a:lnTo>
                <a:lnTo>
                  <a:pt x="0" y="268"/>
                </a:lnTo>
                <a:lnTo>
                  <a:pt x="2" y="266"/>
                </a:lnTo>
                <a:lnTo>
                  <a:pt x="3" y="265"/>
                </a:lnTo>
                <a:lnTo>
                  <a:pt x="5" y="263"/>
                </a:lnTo>
                <a:lnTo>
                  <a:pt x="7" y="259"/>
                </a:lnTo>
                <a:lnTo>
                  <a:pt x="11" y="257"/>
                </a:lnTo>
                <a:lnTo>
                  <a:pt x="17" y="253"/>
                </a:lnTo>
                <a:lnTo>
                  <a:pt x="21" y="249"/>
                </a:lnTo>
                <a:lnTo>
                  <a:pt x="26" y="247"/>
                </a:lnTo>
                <a:lnTo>
                  <a:pt x="32" y="243"/>
                </a:lnTo>
                <a:lnTo>
                  <a:pt x="40" y="240"/>
                </a:lnTo>
                <a:lnTo>
                  <a:pt x="48" y="236"/>
                </a:lnTo>
                <a:lnTo>
                  <a:pt x="55" y="232"/>
                </a:lnTo>
                <a:lnTo>
                  <a:pt x="65" y="226"/>
                </a:lnTo>
                <a:lnTo>
                  <a:pt x="74" y="222"/>
                </a:lnTo>
                <a:lnTo>
                  <a:pt x="84" y="218"/>
                </a:lnTo>
                <a:lnTo>
                  <a:pt x="96" y="213"/>
                </a:lnTo>
                <a:lnTo>
                  <a:pt x="107" y="209"/>
                </a:lnTo>
                <a:lnTo>
                  <a:pt x="119" y="203"/>
                </a:lnTo>
                <a:lnTo>
                  <a:pt x="132" y="197"/>
                </a:lnTo>
                <a:lnTo>
                  <a:pt x="145" y="192"/>
                </a:lnTo>
                <a:lnTo>
                  <a:pt x="159" y="188"/>
                </a:lnTo>
                <a:lnTo>
                  <a:pt x="174" y="182"/>
                </a:lnTo>
                <a:lnTo>
                  <a:pt x="190" y="176"/>
                </a:lnTo>
                <a:lnTo>
                  <a:pt x="205" y="171"/>
                </a:lnTo>
                <a:lnTo>
                  <a:pt x="222" y="165"/>
                </a:lnTo>
                <a:lnTo>
                  <a:pt x="240" y="159"/>
                </a:lnTo>
                <a:lnTo>
                  <a:pt x="257" y="151"/>
                </a:lnTo>
                <a:lnTo>
                  <a:pt x="276" y="146"/>
                </a:lnTo>
                <a:lnTo>
                  <a:pt x="295" y="140"/>
                </a:lnTo>
                <a:lnTo>
                  <a:pt x="314" y="132"/>
                </a:lnTo>
                <a:lnTo>
                  <a:pt x="334" y="126"/>
                </a:lnTo>
                <a:lnTo>
                  <a:pt x="351" y="121"/>
                </a:lnTo>
                <a:lnTo>
                  <a:pt x="370" y="115"/>
                </a:lnTo>
                <a:lnTo>
                  <a:pt x="387" y="109"/>
                </a:lnTo>
                <a:lnTo>
                  <a:pt x="403" y="103"/>
                </a:lnTo>
                <a:lnTo>
                  <a:pt x="420" y="99"/>
                </a:lnTo>
                <a:lnTo>
                  <a:pt x="435" y="94"/>
                </a:lnTo>
                <a:lnTo>
                  <a:pt x="451" y="88"/>
                </a:lnTo>
                <a:lnTo>
                  <a:pt x="466" y="84"/>
                </a:lnTo>
                <a:lnTo>
                  <a:pt x="479" y="80"/>
                </a:lnTo>
                <a:lnTo>
                  <a:pt x="495" y="75"/>
                </a:lnTo>
                <a:lnTo>
                  <a:pt x="506" y="71"/>
                </a:lnTo>
                <a:lnTo>
                  <a:pt x="520" y="67"/>
                </a:lnTo>
                <a:lnTo>
                  <a:pt x="533" y="63"/>
                </a:lnTo>
                <a:lnTo>
                  <a:pt x="545" y="59"/>
                </a:lnTo>
                <a:lnTo>
                  <a:pt x="556" y="55"/>
                </a:lnTo>
                <a:lnTo>
                  <a:pt x="566" y="52"/>
                </a:lnTo>
                <a:lnTo>
                  <a:pt x="577" y="48"/>
                </a:lnTo>
                <a:lnTo>
                  <a:pt x="587" y="46"/>
                </a:lnTo>
                <a:lnTo>
                  <a:pt x="595" y="42"/>
                </a:lnTo>
                <a:lnTo>
                  <a:pt x="604" y="40"/>
                </a:lnTo>
                <a:lnTo>
                  <a:pt x="612" y="36"/>
                </a:lnTo>
                <a:lnTo>
                  <a:pt x="620" y="34"/>
                </a:lnTo>
                <a:lnTo>
                  <a:pt x="627" y="32"/>
                </a:lnTo>
                <a:lnTo>
                  <a:pt x="635" y="28"/>
                </a:lnTo>
                <a:lnTo>
                  <a:pt x="641" y="27"/>
                </a:lnTo>
                <a:lnTo>
                  <a:pt x="646" y="25"/>
                </a:lnTo>
                <a:lnTo>
                  <a:pt x="652" y="23"/>
                </a:lnTo>
                <a:lnTo>
                  <a:pt x="656" y="23"/>
                </a:lnTo>
                <a:lnTo>
                  <a:pt x="660" y="21"/>
                </a:lnTo>
                <a:lnTo>
                  <a:pt x="664" y="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84"/>
          <p:cNvSpPr/>
          <p:nvPr/>
        </p:nvSpPr>
        <p:spPr>
          <a:xfrm>
            <a:off x="7029360" y="4046400"/>
            <a:ext cx="179640" cy="274680"/>
          </a:xfrm>
          <a:custGeom>
            <a:avLst/>
            <a:gdLst/>
            <a:ahLst/>
            <a:rect l="l" t="t" r="r" b="b"/>
            <a:pathLst>
              <a:path w="227" h="347">
                <a:moveTo>
                  <a:pt x="154" y="347"/>
                </a:moveTo>
                <a:lnTo>
                  <a:pt x="150" y="347"/>
                </a:lnTo>
                <a:lnTo>
                  <a:pt x="148" y="345"/>
                </a:lnTo>
                <a:lnTo>
                  <a:pt x="144" y="343"/>
                </a:lnTo>
                <a:lnTo>
                  <a:pt x="142" y="339"/>
                </a:lnTo>
                <a:lnTo>
                  <a:pt x="139" y="335"/>
                </a:lnTo>
                <a:lnTo>
                  <a:pt x="135" y="332"/>
                </a:lnTo>
                <a:lnTo>
                  <a:pt x="131" y="326"/>
                </a:lnTo>
                <a:lnTo>
                  <a:pt x="125" y="318"/>
                </a:lnTo>
                <a:lnTo>
                  <a:pt x="121" y="310"/>
                </a:lnTo>
                <a:lnTo>
                  <a:pt x="116" y="303"/>
                </a:lnTo>
                <a:lnTo>
                  <a:pt x="110" y="295"/>
                </a:lnTo>
                <a:lnTo>
                  <a:pt x="104" y="286"/>
                </a:lnTo>
                <a:lnTo>
                  <a:pt x="98" y="274"/>
                </a:lnTo>
                <a:lnTo>
                  <a:pt x="92" y="264"/>
                </a:lnTo>
                <a:lnTo>
                  <a:pt x="87" y="253"/>
                </a:lnTo>
                <a:lnTo>
                  <a:pt x="79" y="239"/>
                </a:lnTo>
                <a:lnTo>
                  <a:pt x="71" y="228"/>
                </a:lnTo>
                <a:lnTo>
                  <a:pt x="62" y="214"/>
                </a:lnTo>
                <a:lnTo>
                  <a:pt x="54" y="203"/>
                </a:lnTo>
                <a:lnTo>
                  <a:pt x="48" y="191"/>
                </a:lnTo>
                <a:lnTo>
                  <a:pt x="41" y="180"/>
                </a:lnTo>
                <a:lnTo>
                  <a:pt x="35" y="170"/>
                </a:lnTo>
                <a:lnTo>
                  <a:pt x="29" y="159"/>
                </a:lnTo>
                <a:lnTo>
                  <a:pt x="25" y="147"/>
                </a:lnTo>
                <a:lnTo>
                  <a:pt x="20" y="138"/>
                </a:lnTo>
                <a:lnTo>
                  <a:pt x="16" y="126"/>
                </a:lnTo>
                <a:lnTo>
                  <a:pt x="14" y="117"/>
                </a:lnTo>
                <a:lnTo>
                  <a:pt x="10" y="107"/>
                </a:lnTo>
                <a:lnTo>
                  <a:pt x="8" y="95"/>
                </a:lnTo>
                <a:lnTo>
                  <a:pt x="6" y="86"/>
                </a:lnTo>
                <a:lnTo>
                  <a:pt x="6" y="76"/>
                </a:lnTo>
                <a:lnTo>
                  <a:pt x="6" y="67"/>
                </a:lnTo>
                <a:lnTo>
                  <a:pt x="4" y="59"/>
                </a:lnTo>
                <a:lnTo>
                  <a:pt x="2" y="51"/>
                </a:lnTo>
                <a:lnTo>
                  <a:pt x="0" y="46"/>
                </a:lnTo>
                <a:lnTo>
                  <a:pt x="0" y="38"/>
                </a:lnTo>
                <a:lnTo>
                  <a:pt x="0" y="28"/>
                </a:lnTo>
                <a:lnTo>
                  <a:pt x="2" y="19"/>
                </a:lnTo>
                <a:lnTo>
                  <a:pt x="4" y="13"/>
                </a:lnTo>
                <a:lnTo>
                  <a:pt x="6" y="9"/>
                </a:lnTo>
                <a:lnTo>
                  <a:pt x="8" y="7"/>
                </a:lnTo>
                <a:lnTo>
                  <a:pt x="10" y="3"/>
                </a:lnTo>
                <a:lnTo>
                  <a:pt x="12" y="1"/>
                </a:lnTo>
                <a:lnTo>
                  <a:pt x="14" y="1"/>
                </a:lnTo>
                <a:lnTo>
                  <a:pt x="16" y="0"/>
                </a:lnTo>
                <a:lnTo>
                  <a:pt x="18" y="0"/>
                </a:lnTo>
                <a:lnTo>
                  <a:pt x="21" y="0"/>
                </a:lnTo>
                <a:lnTo>
                  <a:pt x="25" y="0"/>
                </a:lnTo>
                <a:lnTo>
                  <a:pt x="29" y="1"/>
                </a:lnTo>
                <a:lnTo>
                  <a:pt x="35" y="1"/>
                </a:lnTo>
                <a:lnTo>
                  <a:pt x="41" y="3"/>
                </a:lnTo>
                <a:lnTo>
                  <a:pt x="46" y="5"/>
                </a:lnTo>
                <a:lnTo>
                  <a:pt x="54" y="7"/>
                </a:lnTo>
                <a:lnTo>
                  <a:pt x="62" y="11"/>
                </a:lnTo>
                <a:lnTo>
                  <a:pt x="69" y="15"/>
                </a:lnTo>
                <a:lnTo>
                  <a:pt x="79" y="19"/>
                </a:lnTo>
                <a:lnTo>
                  <a:pt x="89" y="23"/>
                </a:lnTo>
                <a:lnTo>
                  <a:pt x="98" y="26"/>
                </a:lnTo>
                <a:lnTo>
                  <a:pt x="108" y="32"/>
                </a:lnTo>
                <a:lnTo>
                  <a:pt x="119" y="38"/>
                </a:lnTo>
                <a:lnTo>
                  <a:pt x="129" y="46"/>
                </a:lnTo>
                <a:lnTo>
                  <a:pt x="140" y="53"/>
                </a:lnTo>
                <a:lnTo>
                  <a:pt x="152" y="61"/>
                </a:lnTo>
                <a:lnTo>
                  <a:pt x="162" y="69"/>
                </a:lnTo>
                <a:lnTo>
                  <a:pt x="171" y="76"/>
                </a:lnTo>
                <a:lnTo>
                  <a:pt x="181" y="84"/>
                </a:lnTo>
                <a:lnTo>
                  <a:pt x="188" y="92"/>
                </a:lnTo>
                <a:lnTo>
                  <a:pt x="196" y="99"/>
                </a:lnTo>
                <a:lnTo>
                  <a:pt x="202" y="107"/>
                </a:lnTo>
                <a:lnTo>
                  <a:pt x="208" y="115"/>
                </a:lnTo>
                <a:lnTo>
                  <a:pt x="211" y="122"/>
                </a:lnTo>
                <a:lnTo>
                  <a:pt x="215" y="132"/>
                </a:lnTo>
                <a:lnTo>
                  <a:pt x="219" y="140"/>
                </a:lnTo>
                <a:lnTo>
                  <a:pt x="223" y="149"/>
                </a:lnTo>
                <a:lnTo>
                  <a:pt x="225" y="159"/>
                </a:lnTo>
                <a:lnTo>
                  <a:pt x="227" y="167"/>
                </a:lnTo>
                <a:lnTo>
                  <a:pt x="227" y="176"/>
                </a:lnTo>
                <a:lnTo>
                  <a:pt x="227" y="188"/>
                </a:lnTo>
                <a:lnTo>
                  <a:pt x="227" y="199"/>
                </a:lnTo>
                <a:lnTo>
                  <a:pt x="227" y="211"/>
                </a:lnTo>
                <a:lnTo>
                  <a:pt x="227" y="222"/>
                </a:lnTo>
                <a:lnTo>
                  <a:pt x="225" y="232"/>
                </a:lnTo>
                <a:lnTo>
                  <a:pt x="225" y="241"/>
                </a:lnTo>
                <a:lnTo>
                  <a:pt x="223" y="251"/>
                </a:lnTo>
                <a:lnTo>
                  <a:pt x="221" y="259"/>
                </a:lnTo>
                <a:lnTo>
                  <a:pt x="219" y="266"/>
                </a:lnTo>
                <a:lnTo>
                  <a:pt x="217" y="274"/>
                </a:lnTo>
                <a:lnTo>
                  <a:pt x="215" y="282"/>
                </a:lnTo>
                <a:lnTo>
                  <a:pt x="213" y="287"/>
                </a:lnTo>
                <a:lnTo>
                  <a:pt x="211" y="291"/>
                </a:lnTo>
                <a:lnTo>
                  <a:pt x="210" y="297"/>
                </a:lnTo>
                <a:lnTo>
                  <a:pt x="208" y="301"/>
                </a:lnTo>
                <a:lnTo>
                  <a:pt x="204" y="305"/>
                </a:lnTo>
                <a:lnTo>
                  <a:pt x="202" y="307"/>
                </a:lnTo>
                <a:lnTo>
                  <a:pt x="198" y="316"/>
                </a:lnTo>
                <a:lnTo>
                  <a:pt x="192" y="324"/>
                </a:lnTo>
                <a:lnTo>
                  <a:pt x="185" y="332"/>
                </a:lnTo>
                <a:lnTo>
                  <a:pt x="179" y="337"/>
                </a:lnTo>
                <a:lnTo>
                  <a:pt x="171" y="341"/>
                </a:lnTo>
                <a:lnTo>
                  <a:pt x="165" y="345"/>
                </a:lnTo>
                <a:lnTo>
                  <a:pt x="158" y="347"/>
                </a:lnTo>
                <a:lnTo>
                  <a:pt x="154" y="3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85"/>
          <p:cNvSpPr/>
          <p:nvPr/>
        </p:nvSpPr>
        <p:spPr>
          <a:xfrm>
            <a:off x="6332400" y="4371840"/>
            <a:ext cx="682920" cy="322560"/>
          </a:xfrm>
          <a:custGeom>
            <a:avLst/>
            <a:gdLst/>
            <a:ahLst/>
            <a:rect l="l" t="t" r="r" b="b"/>
            <a:pathLst>
              <a:path w="860" h="405">
                <a:moveTo>
                  <a:pt x="160" y="233"/>
                </a:moveTo>
                <a:lnTo>
                  <a:pt x="161" y="231"/>
                </a:lnTo>
                <a:lnTo>
                  <a:pt x="165" y="229"/>
                </a:lnTo>
                <a:lnTo>
                  <a:pt x="169" y="227"/>
                </a:lnTo>
                <a:lnTo>
                  <a:pt x="173" y="225"/>
                </a:lnTo>
                <a:lnTo>
                  <a:pt x="179" y="223"/>
                </a:lnTo>
                <a:lnTo>
                  <a:pt x="185" y="221"/>
                </a:lnTo>
                <a:lnTo>
                  <a:pt x="190" y="219"/>
                </a:lnTo>
                <a:lnTo>
                  <a:pt x="196" y="217"/>
                </a:lnTo>
                <a:lnTo>
                  <a:pt x="204" y="213"/>
                </a:lnTo>
                <a:lnTo>
                  <a:pt x="211" y="211"/>
                </a:lnTo>
                <a:lnTo>
                  <a:pt x="219" y="208"/>
                </a:lnTo>
                <a:lnTo>
                  <a:pt x="229" y="204"/>
                </a:lnTo>
                <a:lnTo>
                  <a:pt x="238" y="202"/>
                </a:lnTo>
                <a:lnTo>
                  <a:pt x="248" y="198"/>
                </a:lnTo>
                <a:lnTo>
                  <a:pt x="259" y="194"/>
                </a:lnTo>
                <a:lnTo>
                  <a:pt x="271" y="190"/>
                </a:lnTo>
                <a:lnTo>
                  <a:pt x="282" y="186"/>
                </a:lnTo>
                <a:lnTo>
                  <a:pt x="294" y="181"/>
                </a:lnTo>
                <a:lnTo>
                  <a:pt x="307" y="177"/>
                </a:lnTo>
                <a:lnTo>
                  <a:pt x="321" y="173"/>
                </a:lnTo>
                <a:lnTo>
                  <a:pt x="334" y="167"/>
                </a:lnTo>
                <a:lnTo>
                  <a:pt x="350" y="162"/>
                </a:lnTo>
                <a:lnTo>
                  <a:pt x="365" y="158"/>
                </a:lnTo>
                <a:lnTo>
                  <a:pt x="380" y="152"/>
                </a:lnTo>
                <a:lnTo>
                  <a:pt x="398" y="146"/>
                </a:lnTo>
                <a:lnTo>
                  <a:pt x="415" y="138"/>
                </a:lnTo>
                <a:lnTo>
                  <a:pt x="432" y="133"/>
                </a:lnTo>
                <a:lnTo>
                  <a:pt x="449" y="127"/>
                </a:lnTo>
                <a:lnTo>
                  <a:pt x="469" y="119"/>
                </a:lnTo>
                <a:lnTo>
                  <a:pt x="488" y="112"/>
                </a:lnTo>
                <a:lnTo>
                  <a:pt x="507" y="106"/>
                </a:lnTo>
                <a:lnTo>
                  <a:pt x="528" y="98"/>
                </a:lnTo>
                <a:lnTo>
                  <a:pt x="549" y="90"/>
                </a:lnTo>
                <a:lnTo>
                  <a:pt x="568" y="83"/>
                </a:lnTo>
                <a:lnTo>
                  <a:pt x="588" y="77"/>
                </a:lnTo>
                <a:lnTo>
                  <a:pt x="605" y="69"/>
                </a:lnTo>
                <a:lnTo>
                  <a:pt x="624" y="64"/>
                </a:lnTo>
                <a:lnTo>
                  <a:pt x="641" y="58"/>
                </a:lnTo>
                <a:lnTo>
                  <a:pt x="657" y="52"/>
                </a:lnTo>
                <a:lnTo>
                  <a:pt x="674" y="46"/>
                </a:lnTo>
                <a:lnTo>
                  <a:pt x="689" y="43"/>
                </a:lnTo>
                <a:lnTo>
                  <a:pt x="703" y="37"/>
                </a:lnTo>
                <a:lnTo>
                  <a:pt x="716" y="33"/>
                </a:lnTo>
                <a:lnTo>
                  <a:pt x="730" y="29"/>
                </a:lnTo>
                <a:lnTo>
                  <a:pt x="743" y="25"/>
                </a:lnTo>
                <a:lnTo>
                  <a:pt x="755" y="21"/>
                </a:lnTo>
                <a:lnTo>
                  <a:pt x="766" y="18"/>
                </a:lnTo>
                <a:lnTo>
                  <a:pt x="778" y="16"/>
                </a:lnTo>
                <a:lnTo>
                  <a:pt x="787" y="12"/>
                </a:lnTo>
                <a:lnTo>
                  <a:pt x="797" y="10"/>
                </a:lnTo>
                <a:lnTo>
                  <a:pt x="804" y="8"/>
                </a:lnTo>
                <a:lnTo>
                  <a:pt x="814" y="6"/>
                </a:lnTo>
                <a:lnTo>
                  <a:pt x="822" y="4"/>
                </a:lnTo>
                <a:lnTo>
                  <a:pt x="828" y="4"/>
                </a:lnTo>
                <a:lnTo>
                  <a:pt x="833" y="2"/>
                </a:lnTo>
                <a:lnTo>
                  <a:pt x="839" y="2"/>
                </a:lnTo>
                <a:lnTo>
                  <a:pt x="845" y="0"/>
                </a:lnTo>
                <a:lnTo>
                  <a:pt x="849" y="0"/>
                </a:lnTo>
                <a:lnTo>
                  <a:pt x="852" y="0"/>
                </a:lnTo>
                <a:lnTo>
                  <a:pt x="854" y="0"/>
                </a:lnTo>
                <a:lnTo>
                  <a:pt x="856" y="2"/>
                </a:lnTo>
                <a:lnTo>
                  <a:pt x="858" y="2"/>
                </a:lnTo>
                <a:lnTo>
                  <a:pt x="860" y="2"/>
                </a:lnTo>
                <a:lnTo>
                  <a:pt x="860" y="4"/>
                </a:lnTo>
                <a:lnTo>
                  <a:pt x="860" y="6"/>
                </a:lnTo>
                <a:lnTo>
                  <a:pt x="858" y="10"/>
                </a:lnTo>
                <a:lnTo>
                  <a:pt x="856" y="12"/>
                </a:lnTo>
                <a:lnTo>
                  <a:pt x="854" y="16"/>
                </a:lnTo>
                <a:lnTo>
                  <a:pt x="852" y="19"/>
                </a:lnTo>
                <a:lnTo>
                  <a:pt x="849" y="23"/>
                </a:lnTo>
                <a:lnTo>
                  <a:pt x="845" y="27"/>
                </a:lnTo>
                <a:lnTo>
                  <a:pt x="839" y="31"/>
                </a:lnTo>
                <a:lnTo>
                  <a:pt x="833" y="37"/>
                </a:lnTo>
                <a:lnTo>
                  <a:pt x="828" y="41"/>
                </a:lnTo>
                <a:lnTo>
                  <a:pt x="820" y="46"/>
                </a:lnTo>
                <a:lnTo>
                  <a:pt x="812" y="52"/>
                </a:lnTo>
                <a:lnTo>
                  <a:pt x="804" y="56"/>
                </a:lnTo>
                <a:lnTo>
                  <a:pt x="795" y="62"/>
                </a:lnTo>
                <a:lnTo>
                  <a:pt x="785" y="69"/>
                </a:lnTo>
                <a:lnTo>
                  <a:pt x="776" y="75"/>
                </a:lnTo>
                <a:lnTo>
                  <a:pt x="764" y="83"/>
                </a:lnTo>
                <a:lnTo>
                  <a:pt x="753" y="89"/>
                </a:lnTo>
                <a:lnTo>
                  <a:pt x="741" y="96"/>
                </a:lnTo>
                <a:lnTo>
                  <a:pt x="728" y="104"/>
                </a:lnTo>
                <a:lnTo>
                  <a:pt x="714" y="112"/>
                </a:lnTo>
                <a:lnTo>
                  <a:pt x="699" y="119"/>
                </a:lnTo>
                <a:lnTo>
                  <a:pt x="684" y="129"/>
                </a:lnTo>
                <a:lnTo>
                  <a:pt x="668" y="137"/>
                </a:lnTo>
                <a:lnTo>
                  <a:pt x="651" y="146"/>
                </a:lnTo>
                <a:lnTo>
                  <a:pt x="634" y="156"/>
                </a:lnTo>
                <a:lnTo>
                  <a:pt x="616" y="165"/>
                </a:lnTo>
                <a:lnTo>
                  <a:pt x="597" y="175"/>
                </a:lnTo>
                <a:lnTo>
                  <a:pt x="578" y="185"/>
                </a:lnTo>
                <a:lnTo>
                  <a:pt x="559" y="196"/>
                </a:lnTo>
                <a:lnTo>
                  <a:pt x="538" y="208"/>
                </a:lnTo>
                <a:lnTo>
                  <a:pt x="517" y="219"/>
                </a:lnTo>
                <a:lnTo>
                  <a:pt x="495" y="229"/>
                </a:lnTo>
                <a:lnTo>
                  <a:pt x="474" y="240"/>
                </a:lnTo>
                <a:lnTo>
                  <a:pt x="453" y="252"/>
                </a:lnTo>
                <a:lnTo>
                  <a:pt x="434" y="261"/>
                </a:lnTo>
                <a:lnTo>
                  <a:pt x="415" y="271"/>
                </a:lnTo>
                <a:lnTo>
                  <a:pt x="396" y="281"/>
                </a:lnTo>
                <a:lnTo>
                  <a:pt x="378" y="290"/>
                </a:lnTo>
                <a:lnTo>
                  <a:pt x="361" y="300"/>
                </a:lnTo>
                <a:lnTo>
                  <a:pt x="346" y="307"/>
                </a:lnTo>
                <a:lnTo>
                  <a:pt x="328" y="315"/>
                </a:lnTo>
                <a:lnTo>
                  <a:pt x="313" y="323"/>
                </a:lnTo>
                <a:lnTo>
                  <a:pt x="300" y="330"/>
                </a:lnTo>
                <a:lnTo>
                  <a:pt x="284" y="338"/>
                </a:lnTo>
                <a:lnTo>
                  <a:pt x="271" y="346"/>
                </a:lnTo>
                <a:lnTo>
                  <a:pt x="257" y="352"/>
                </a:lnTo>
                <a:lnTo>
                  <a:pt x="246" y="357"/>
                </a:lnTo>
                <a:lnTo>
                  <a:pt x="234" y="363"/>
                </a:lnTo>
                <a:lnTo>
                  <a:pt x="223" y="369"/>
                </a:lnTo>
                <a:lnTo>
                  <a:pt x="211" y="375"/>
                </a:lnTo>
                <a:lnTo>
                  <a:pt x="202" y="378"/>
                </a:lnTo>
                <a:lnTo>
                  <a:pt x="192" y="382"/>
                </a:lnTo>
                <a:lnTo>
                  <a:pt x="183" y="386"/>
                </a:lnTo>
                <a:lnTo>
                  <a:pt x="175" y="390"/>
                </a:lnTo>
                <a:lnTo>
                  <a:pt x="167" y="394"/>
                </a:lnTo>
                <a:lnTo>
                  <a:pt x="160" y="396"/>
                </a:lnTo>
                <a:lnTo>
                  <a:pt x="152" y="398"/>
                </a:lnTo>
                <a:lnTo>
                  <a:pt x="146" y="401"/>
                </a:lnTo>
                <a:lnTo>
                  <a:pt x="140" y="401"/>
                </a:lnTo>
                <a:lnTo>
                  <a:pt x="135" y="403"/>
                </a:lnTo>
                <a:lnTo>
                  <a:pt x="131" y="405"/>
                </a:lnTo>
                <a:lnTo>
                  <a:pt x="127" y="405"/>
                </a:lnTo>
                <a:lnTo>
                  <a:pt x="123" y="405"/>
                </a:lnTo>
                <a:lnTo>
                  <a:pt x="110" y="405"/>
                </a:lnTo>
                <a:lnTo>
                  <a:pt x="96" y="403"/>
                </a:lnTo>
                <a:lnTo>
                  <a:pt x="85" y="400"/>
                </a:lnTo>
                <a:lnTo>
                  <a:pt x="75" y="394"/>
                </a:lnTo>
                <a:lnTo>
                  <a:pt x="69" y="390"/>
                </a:lnTo>
                <a:lnTo>
                  <a:pt x="66" y="386"/>
                </a:lnTo>
                <a:lnTo>
                  <a:pt x="60" y="382"/>
                </a:lnTo>
                <a:lnTo>
                  <a:pt x="56" y="376"/>
                </a:lnTo>
                <a:lnTo>
                  <a:pt x="50" y="371"/>
                </a:lnTo>
                <a:lnTo>
                  <a:pt x="46" y="365"/>
                </a:lnTo>
                <a:lnTo>
                  <a:pt x="41" y="359"/>
                </a:lnTo>
                <a:lnTo>
                  <a:pt x="37" y="352"/>
                </a:lnTo>
                <a:lnTo>
                  <a:pt x="29" y="336"/>
                </a:lnTo>
                <a:lnTo>
                  <a:pt x="21" y="325"/>
                </a:lnTo>
                <a:lnTo>
                  <a:pt x="14" y="311"/>
                </a:lnTo>
                <a:lnTo>
                  <a:pt x="10" y="300"/>
                </a:lnTo>
                <a:lnTo>
                  <a:pt x="4" y="288"/>
                </a:lnTo>
                <a:lnTo>
                  <a:pt x="2" y="279"/>
                </a:lnTo>
                <a:lnTo>
                  <a:pt x="0" y="269"/>
                </a:lnTo>
                <a:lnTo>
                  <a:pt x="0" y="257"/>
                </a:lnTo>
                <a:lnTo>
                  <a:pt x="0" y="254"/>
                </a:lnTo>
                <a:lnTo>
                  <a:pt x="0" y="248"/>
                </a:lnTo>
                <a:lnTo>
                  <a:pt x="2" y="244"/>
                </a:lnTo>
                <a:lnTo>
                  <a:pt x="4" y="240"/>
                </a:lnTo>
                <a:lnTo>
                  <a:pt x="6" y="238"/>
                </a:lnTo>
                <a:lnTo>
                  <a:pt x="10" y="234"/>
                </a:lnTo>
                <a:lnTo>
                  <a:pt x="18" y="231"/>
                </a:lnTo>
                <a:lnTo>
                  <a:pt x="21" y="229"/>
                </a:lnTo>
                <a:lnTo>
                  <a:pt x="25" y="227"/>
                </a:lnTo>
                <a:lnTo>
                  <a:pt x="31" y="227"/>
                </a:lnTo>
                <a:lnTo>
                  <a:pt x="37" y="227"/>
                </a:lnTo>
                <a:lnTo>
                  <a:pt x="42" y="227"/>
                </a:lnTo>
                <a:lnTo>
                  <a:pt x="48" y="227"/>
                </a:lnTo>
                <a:lnTo>
                  <a:pt x="54" y="229"/>
                </a:lnTo>
                <a:lnTo>
                  <a:pt x="62" y="233"/>
                </a:lnTo>
                <a:lnTo>
                  <a:pt x="75" y="236"/>
                </a:lnTo>
                <a:lnTo>
                  <a:pt x="89" y="238"/>
                </a:lnTo>
                <a:lnTo>
                  <a:pt x="102" y="240"/>
                </a:lnTo>
                <a:lnTo>
                  <a:pt x="115" y="242"/>
                </a:lnTo>
                <a:lnTo>
                  <a:pt x="127" y="240"/>
                </a:lnTo>
                <a:lnTo>
                  <a:pt x="138" y="238"/>
                </a:lnTo>
                <a:lnTo>
                  <a:pt x="150" y="236"/>
                </a:lnTo>
                <a:lnTo>
                  <a:pt x="160" y="2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86"/>
          <p:cNvSpPr/>
          <p:nvPr/>
        </p:nvSpPr>
        <p:spPr>
          <a:xfrm>
            <a:off x="6751800" y="4132440"/>
            <a:ext cx="155520" cy="360360"/>
          </a:xfrm>
          <a:custGeom>
            <a:avLst/>
            <a:gdLst/>
            <a:ahLst/>
            <a:rect l="l" t="t" r="r" b="b"/>
            <a:pathLst>
              <a:path w="198" h="455">
                <a:moveTo>
                  <a:pt x="86" y="441"/>
                </a:moveTo>
                <a:lnTo>
                  <a:pt x="44" y="447"/>
                </a:lnTo>
                <a:lnTo>
                  <a:pt x="0" y="455"/>
                </a:lnTo>
                <a:lnTo>
                  <a:pt x="6" y="417"/>
                </a:lnTo>
                <a:lnTo>
                  <a:pt x="14" y="382"/>
                </a:lnTo>
                <a:lnTo>
                  <a:pt x="17" y="347"/>
                </a:lnTo>
                <a:lnTo>
                  <a:pt x="23" y="317"/>
                </a:lnTo>
                <a:lnTo>
                  <a:pt x="27" y="286"/>
                </a:lnTo>
                <a:lnTo>
                  <a:pt x="31" y="257"/>
                </a:lnTo>
                <a:lnTo>
                  <a:pt x="33" y="230"/>
                </a:lnTo>
                <a:lnTo>
                  <a:pt x="35" y="205"/>
                </a:lnTo>
                <a:lnTo>
                  <a:pt x="37" y="182"/>
                </a:lnTo>
                <a:lnTo>
                  <a:pt x="37" y="159"/>
                </a:lnTo>
                <a:lnTo>
                  <a:pt x="37" y="140"/>
                </a:lnTo>
                <a:lnTo>
                  <a:pt x="37" y="121"/>
                </a:lnTo>
                <a:lnTo>
                  <a:pt x="35" y="106"/>
                </a:lnTo>
                <a:lnTo>
                  <a:pt x="33" y="90"/>
                </a:lnTo>
                <a:lnTo>
                  <a:pt x="29" y="77"/>
                </a:lnTo>
                <a:lnTo>
                  <a:pt x="25" y="67"/>
                </a:lnTo>
                <a:lnTo>
                  <a:pt x="21" y="60"/>
                </a:lnTo>
                <a:lnTo>
                  <a:pt x="17" y="52"/>
                </a:lnTo>
                <a:lnTo>
                  <a:pt x="14" y="46"/>
                </a:lnTo>
                <a:lnTo>
                  <a:pt x="12" y="38"/>
                </a:lnTo>
                <a:lnTo>
                  <a:pt x="10" y="33"/>
                </a:lnTo>
                <a:lnTo>
                  <a:pt x="8" y="27"/>
                </a:lnTo>
                <a:lnTo>
                  <a:pt x="8" y="23"/>
                </a:lnTo>
                <a:lnTo>
                  <a:pt x="8" y="17"/>
                </a:lnTo>
                <a:lnTo>
                  <a:pt x="10" y="13"/>
                </a:lnTo>
                <a:lnTo>
                  <a:pt x="10" y="10"/>
                </a:lnTo>
                <a:lnTo>
                  <a:pt x="14" y="8"/>
                </a:lnTo>
                <a:lnTo>
                  <a:pt x="15" y="4"/>
                </a:lnTo>
                <a:lnTo>
                  <a:pt x="19" y="2"/>
                </a:lnTo>
                <a:lnTo>
                  <a:pt x="25" y="0"/>
                </a:lnTo>
                <a:lnTo>
                  <a:pt x="31" y="0"/>
                </a:lnTo>
                <a:lnTo>
                  <a:pt x="37" y="0"/>
                </a:lnTo>
                <a:lnTo>
                  <a:pt x="46" y="0"/>
                </a:lnTo>
                <a:lnTo>
                  <a:pt x="58" y="2"/>
                </a:lnTo>
                <a:lnTo>
                  <a:pt x="69" y="6"/>
                </a:lnTo>
                <a:lnTo>
                  <a:pt x="83" y="10"/>
                </a:lnTo>
                <a:lnTo>
                  <a:pt x="94" y="15"/>
                </a:lnTo>
                <a:lnTo>
                  <a:pt x="108" y="21"/>
                </a:lnTo>
                <a:lnTo>
                  <a:pt x="121" y="31"/>
                </a:lnTo>
                <a:lnTo>
                  <a:pt x="136" y="40"/>
                </a:lnTo>
                <a:lnTo>
                  <a:pt x="148" y="54"/>
                </a:lnTo>
                <a:lnTo>
                  <a:pt x="161" y="67"/>
                </a:lnTo>
                <a:lnTo>
                  <a:pt x="171" y="81"/>
                </a:lnTo>
                <a:lnTo>
                  <a:pt x="181" y="94"/>
                </a:lnTo>
                <a:lnTo>
                  <a:pt x="186" y="106"/>
                </a:lnTo>
                <a:lnTo>
                  <a:pt x="190" y="111"/>
                </a:lnTo>
                <a:lnTo>
                  <a:pt x="192" y="119"/>
                </a:lnTo>
                <a:lnTo>
                  <a:pt x="194" y="125"/>
                </a:lnTo>
                <a:lnTo>
                  <a:pt x="196" y="132"/>
                </a:lnTo>
                <a:lnTo>
                  <a:pt x="196" y="138"/>
                </a:lnTo>
                <a:lnTo>
                  <a:pt x="198" y="146"/>
                </a:lnTo>
                <a:lnTo>
                  <a:pt x="196" y="155"/>
                </a:lnTo>
                <a:lnTo>
                  <a:pt x="196" y="163"/>
                </a:lnTo>
                <a:lnTo>
                  <a:pt x="192" y="175"/>
                </a:lnTo>
                <a:lnTo>
                  <a:pt x="190" y="186"/>
                </a:lnTo>
                <a:lnTo>
                  <a:pt x="186" y="200"/>
                </a:lnTo>
                <a:lnTo>
                  <a:pt x="181" y="215"/>
                </a:lnTo>
                <a:lnTo>
                  <a:pt x="175" y="230"/>
                </a:lnTo>
                <a:lnTo>
                  <a:pt x="169" y="248"/>
                </a:lnTo>
                <a:lnTo>
                  <a:pt x="161" y="267"/>
                </a:lnTo>
                <a:lnTo>
                  <a:pt x="154" y="288"/>
                </a:lnTo>
                <a:lnTo>
                  <a:pt x="144" y="309"/>
                </a:lnTo>
                <a:lnTo>
                  <a:pt x="134" y="332"/>
                </a:lnTo>
                <a:lnTo>
                  <a:pt x="123" y="357"/>
                </a:lnTo>
                <a:lnTo>
                  <a:pt x="111" y="384"/>
                </a:lnTo>
                <a:lnTo>
                  <a:pt x="100" y="411"/>
                </a:lnTo>
                <a:lnTo>
                  <a:pt x="86" y="4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87"/>
          <p:cNvSpPr/>
          <p:nvPr/>
        </p:nvSpPr>
        <p:spPr>
          <a:xfrm>
            <a:off x="6492960" y="4218120"/>
            <a:ext cx="145800" cy="220680"/>
          </a:xfrm>
          <a:custGeom>
            <a:avLst/>
            <a:gdLst/>
            <a:ahLst/>
            <a:rect l="l" t="t" r="r" b="b"/>
            <a:pathLst>
              <a:path w="182" h="279">
                <a:moveTo>
                  <a:pt x="165" y="212"/>
                </a:moveTo>
                <a:lnTo>
                  <a:pt x="159" y="225"/>
                </a:lnTo>
                <a:lnTo>
                  <a:pt x="153" y="238"/>
                </a:lnTo>
                <a:lnTo>
                  <a:pt x="148" y="250"/>
                </a:lnTo>
                <a:lnTo>
                  <a:pt x="140" y="260"/>
                </a:lnTo>
                <a:lnTo>
                  <a:pt x="136" y="263"/>
                </a:lnTo>
                <a:lnTo>
                  <a:pt x="134" y="267"/>
                </a:lnTo>
                <a:lnTo>
                  <a:pt x="130" y="271"/>
                </a:lnTo>
                <a:lnTo>
                  <a:pt x="126" y="273"/>
                </a:lnTo>
                <a:lnTo>
                  <a:pt x="124" y="275"/>
                </a:lnTo>
                <a:lnTo>
                  <a:pt x="121" y="277"/>
                </a:lnTo>
                <a:lnTo>
                  <a:pt x="119" y="279"/>
                </a:lnTo>
                <a:lnTo>
                  <a:pt x="115" y="279"/>
                </a:lnTo>
                <a:lnTo>
                  <a:pt x="113" y="279"/>
                </a:lnTo>
                <a:lnTo>
                  <a:pt x="111" y="277"/>
                </a:lnTo>
                <a:lnTo>
                  <a:pt x="107" y="275"/>
                </a:lnTo>
                <a:lnTo>
                  <a:pt x="103" y="271"/>
                </a:lnTo>
                <a:lnTo>
                  <a:pt x="100" y="265"/>
                </a:lnTo>
                <a:lnTo>
                  <a:pt x="96" y="261"/>
                </a:lnTo>
                <a:lnTo>
                  <a:pt x="92" y="254"/>
                </a:lnTo>
                <a:lnTo>
                  <a:pt x="88" y="246"/>
                </a:lnTo>
                <a:lnTo>
                  <a:pt x="82" y="238"/>
                </a:lnTo>
                <a:lnTo>
                  <a:pt x="78" y="229"/>
                </a:lnTo>
                <a:lnTo>
                  <a:pt x="73" y="217"/>
                </a:lnTo>
                <a:lnTo>
                  <a:pt x="67" y="206"/>
                </a:lnTo>
                <a:lnTo>
                  <a:pt x="61" y="192"/>
                </a:lnTo>
                <a:lnTo>
                  <a:pt x="55" y="177"/>
                </a:lnTo>
                <a:lnTo>
                  <a:pt x="48" y="162"/>
                </a:lnTo>
                <a:lnTo>
                  <a:pt x="42" y="144"/>
                </a:lnTo>
                <a:lnTo>
                  <a:pt x="34" y="129"/>
                </a:lnTo>
                <a:lnTo>
                  <a:pt x="28" y="116"/>
                </a:lnTo>
                <a:lnTo>
                  <a:pt x="23" y="104"/>
                </a:lnTo>
                <a:lnTo>
                  <a:pt x="19" y="91"/>
                </a:lnTo>
                <a:lnTo>
                  <a:pt x="15" y="81"/>
                </a:lnTo>
                <a:lnTo>
                  <a:pt x="11" y="70"/>
                </a:lnTo>
                <a:lnTo>
                  <a:pt x="7" y="62"/>
                </a:lnTo>
                <a:lnTo>
                  <a:pt x="5" y="52"/>
                </a:lnTo>
                <a:lnTo>
                  <a:pt x="4" y="45"/>
                </a:lnTo>
                <a:lnTo>
                  <a:pt x="2" y="37"/>
                </a:lnTo>
                <a:lnTo>
                  <a:pt x="0" y="31"/>
                </a:lnTo>
                <a:lnTo>
                  <a:pt x="0" y="25"/>
                </a:lnTo>
                <a:lnTo>
                  <a:pt x="0" y="22"/>
                </a:lnTo>
                <a:lnTo>
                  <a:pt x="2" y="18"/>
                </a:lnTo>
                <a:lnTo>
                  <a:pt x="4" y="14"/>
                </a:lnTo>
                <a:lnTo>
                  <a:pt x="5" y="10"/>
                </a:lnTo>
                <a:lnTo>
                  <a:pt x="9" y="6"/>
                </a:lnTo>
                <a:lnTo>
                  <a:pt x="17" y="2"/>
                </a:lnTo>
                <a:lnTo>
                  <a:pt x="23" y="0"/>
                </a:lnTo>
                <a:lnTo>
                  <a:pt x="32" y="0"/>
                </a:lnTo>
                <a:lnTo>
                  <a:pt x="42" y="0"/>
                </a:lnTo>
                <a:lnTo>
                  <a:pt x="53" y="2"/>
                </a:lnTo>
                <a:lnTo>
                  <a:pt x="65" y="6"/>
                </a:lnTo>
                <a:lnTo>
                  <a:pt x="78" y="10"/>
                </a:lnTo>
                <a:lnTo>
                  <a:pt x="92" y="16"/>
                </a:lnTo>
                <a:lnTo>
                  <a:pt x="103" y="22"/>
                </a:lnTo>
                <a:lnTo>
                  <a:pt x="115" y="27"/>
                </a:lnTo>
                <a:lnTo>
                  <a:pt x="126" y="35"/>
                </a:lnTo>
                <a:lnTo>
                  <a:pt x="136" y="43"/>
                </a:lnTo>
                <a:lnTo>
                  <a:pt x="146" y="52"/>
                </a:lnTo>
                <a:lnTo>
                  <a:pt x="151" y="58"/>
                </a:lnTo>
                <a:lnTo>
                  <a:pt x="155" y="64"/>
                </a:lnTo>
                <a:lnTo>
                  <a:pt x="159" y="70"/>
                </a:lnTo>
                <a:lnTo>
                  <a:pt x="165" y="77"/>
                </a:lnTo>
                <a:lnTo>
                  <a:pt x="169" y="85"/>
                </a:lnTo>
                <a:lnTo>
                  <a:pt x="172" y="93"/>
                </a:lnTo>
                <a:lnTo>
                  <a:pt x="176" y="102"/>
                </a:lnTo>
                <a:lnTo>
                  <a:pt x="178" y="110"/>
                </a:lnTo>
                <a:lnTo>
                  <a:pt x="180" y="117"/>
                </a:lnTo>
                <a:lnTo>
                  <a:pt x="182" y="127"/>
                </a:lnTo>
                <a:lnTo>
                  <a:pt x="182" y="135"/>
                </a:lnTo>
                <a:lnTo>
                  <a:pt x="182" y="144"/>
                </a:lnTo>
                <a:lnTo>
                  <a:pt x="182" y="154"/>
                </a:lnTo>
                <a:lnTo>
                  <a:pt x="182" y="162"/>
                </a:lnTo>
                <a:lnTo>
                  <a:pt x="180" y="171"/>
                </a:lnTo>
                <a:lnTo>
                  <a:pt x="178" y="179"/>
                </a:lnTo>
                <a:lnTo>
                  <a:pt x="176" y="187"/>
                </a:lnTo>
                <a:lnTo>
                  <a:pt x="172" y="196"/>
                </a:lnTo>
                <a:lnTo>
                  <a:pt x="169" y="204"/>
                </a:lnTo>
                <a:lnTo>
                  <a:pt x="165" y="2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88"/>
          <p:cNvSpPr/>
          <p:nvPr/>
        </p:nvSpPr>
        <p:spPr>
          <a:xfrm>
            <a:off x="6526080" y="3695760"/>
            <a:ext cx="468360" cy="350640"/>
          </a:xfrm>
          <a:custGeom>
            <a:avLst/>
            <a:gdLst/>
            <a:ahLst/>
            <a:rect l="l" t="t" r="r" b="b"/>
            <a:pathLst>
              <a:path w="589" h="442">
                <a:moveTo>
                  <a:pt x="505" y="67"/>
                </a:moveTo>
                <a:lnTo>
                  <a:pt x="514" y="75"/>
                </a:lnTo>
                <a:lnTo>
                  <a:pt x="526" y="81"/>
                </a:lnTo>
                <a:lnTo>
                  <a:pt x="534" y="88"/>
                </a:lnTo>
                <a:lnTo>
                  <a:pt x="543" y="94"/>
                </a:lnTo>
                <a:lnTo>
                  <a:pt x="551" y="100"/>
                </a:lnTo>
                <a:lnTo>
                  <a:pt x="558" y="106"/>
                </a:lnTo>
                <a:lnTo>
                  <a:pt x="564" y="111"/>
                </a:lnTo>
                <a:lnTo>
                  <a:pt x="570" y="117"/>
                </a:lnTo>
                <a:lnTo>
                  <a:pt x="574" y="121"/>
                </a:lnTo>
                <a:lnTo>
                  <a:pt x="578" y="127"/>
                </a:lnTo>
                <a:lnTo>
                  <a:pt x="582" y="131"/>
                </a:lnTo>
                <a:lnTo>
                  <a:pt x="585" y="134"/>
                </a:lnTo>
                <a:lnTo>
                  <a:pt x="587" y="138"/>
                </a:lnTo>
                <a:lnTo>
                  <a:pt x="589" y="142"/>
                </a:lnTo>
                <a:lnTo>
                  <a:pt x="589" y="144"/>
                </a:lnTo>
                <a:lnTo>
                  <a:pt x="589" y="148"/>
                </a:lnTo>
                <a:lnTo>
                  <a:pt x="585" y="152"/>
                </a:lnTo>
                <a:lnTo>
                  <a:pt x="580" y="159"/>
                </a:lnTo>
                <a:lnTo>
                  <a:pt x="576" y="167"/>
                </a:lnTo>
                <a:lnTo>
                  <a:pt x="570" y="175"/>
                </a:lnTo>
                <a:lnTo>
                  <a:pt x="564" y="180"/>
                </a:lnTo>
                <a:lnTo>
                  <a:pt x="557" y="188"/>
                </a:lnTo>
                <a:lnTo>
                  <a:pt x="549" y="196"/>
                </a:lnTo>
                <a:lnTo>
                  <a:pt x="541" y="202"/>
                </a:lnTo>
                <a:lnTo>
                  <a:pt x="535" y="204"/>
                </a:lnTo>
                <a:lnTo>
                  <a:pt x="532" y="207"/>
                </a:lnTo>
                <a:lnTo>
                  <a:pt x="526" y="213"/>
                </a:lnTo>
                <a:lnTo>
                  <a:pt x="522" y="217"/>
                </a:lnTo>
                <a:lnTo>
                  <a:pt x="518" y="225"/>
                </a:lnTo>
                <a:lnTo>
                  <a:pt x="512" y="230"/>
                </a:lnTo>
                <a:lnTo>
                  <a:pt x="509" y="238"/>
                </a:lnTo>
                <a:lnTo>
                  <a:pt x="503" y="248"/>
                </a:lnTo>
                <a:lnTo>
                  <a:pt x="499" y="257"/>
                </a:lnTo>
                <a:lnTo>
                  <a:pt x="495" y="267"/>
                </a:lnTo>
                <a:lnTo>
                  <a:pt x="489" y="276"/>
                </a:lnTo>
                <a:lnTo>
                  <a:pt x="486" y="288"/>
                </a:lnTo>
                <a:lnTo>
                  <a:pt x="476" y="311"/>
                </a:lnTo>
                <a:lnTo>
                  <a:pt x="466" y="334"/>
                </a:lnTo>
                <a:lnTo>
                  <a:pt x="463" y="347"/>
                </a:lnTo>
                <a:lnTo>
                  <a:pt x="457" y="359"/>
                </a:lnTo>
                <a:lnTo>
                  <a:pt x="451" y="369"/>
                </a:lnTo>
                <a:lnTo>
                  <a:pt x="445" y="380"/>
                </a:lnTo>
                <a:lnTo>
                  <a:pt x="439" y="390"/>
                </a:lnTo>
                <a:lnTo>
                  <a:pt x="434" y="397"/>
                </a:lnTo>
                <a:lnTo>
                  <a:pt x="428" y="405"/>
                </a:lnTo>
                <a:lnTo>
                  <a:pt x="420" y="413"/>
                </a:lnTo>
                <a:lnTo>
                  <a:pt x="415" y="420"/>
                </a:lnTo>
                <a:lnTo>
                  <a:pt x="407" y="426"/>
                </a:lnTo>
                <a:lnTo>
                  <a:pt x="399" y="430"/>
                </a:lnTo>
                <a:lnTo>
                  <a:pt x="391" y="434"/>
                </a:lnTo>
                <a:lnTo>
                  <a:pt x="382" y="438"/>
                </a:lnTo>
                <a:lnTo>
                  <a:pt x="374" y="440"/>
                </a:lnTo>
                <a:lnTo>
                  <a:pt x="365" y="442"/>
                </a:lnTo>
                <a:lnTo>
                  <a:pt x="357" y="442"/>
                </a:lnTo>
                <a:lnTo>
                  <a:pt x="361" y="417"/>
                </a:lnTo>
                <a:lnTo>
                  <a:pt x="363" y="392"/>
                </a:lnTo>
                <a:lnTo>
                  <a:pt x="367" y="367"/>
                </a:lnTo>
                <a:lnTo>
                  <a:pt x="368" y="344"/>
                </a:lnTo>
                <a:lnTo>
                  <a:pt x="370" y="319"/>
                </a:lnTo>
                <a:lnTo>
                  <a:pt x="374" y="296"/>
                </a:lnTo>
                <a:lnTo>
                  <a:pt x="376" y="275"/>
                </a:lnTo>
                <a:lnTo>
                  <a:pt x="380" y="253"/>
                </a:lnTo>
                <a:lnTo>
                  <a:pt x="384" y="240"/>
                </a:lnTo>
                <a:lnTo>
                  <a:pt x="388" y="227"/>
                </a:lnTo>
                <a:lnTo>
                  <a:pt x="390" y="215"/>
                </a:lnTo>
                <a:lnTo>
                  <a:pt x="390" y="204"/>
                </a:lnTo>
                <a:lnTo>
                  <a:pt x="390" y="194"/>
                </a:lnTo>
                <a:lnTo>
                  <a:pt x="388" y="186"/>
                </a:lnTo>
                <a:lnTo>
                  <a:pt x="384" y="179"/>
                </a:lnTo>
                <a:lnTo>
                  <a:pt x="380" y="175"/>
                </a:lnTo>
                <a:lnTo>
                  <a:pt x="376" y="169"/>
                </a:lnTo>
                <a:lnTo>
                  <a:pt x="370" y="165"/>
                </a:lnTo>
                <a:lnTo>
                  <a:pt x="363" y="163"/>
                </a:lnTo>
                <a:lnTo>
                  <a:pt x="357" y="161"/>
                </a:lnTo>
                <a:lnTo>
                  <a:pt x="349" y="161"/>
                </a:lnTo>
                <a:lnTo>
                  <a:pt x="344" y="161"/>
                </a:lnTo>
                <a:lnTo>
                  <a:pt x="336" y="161"/>
                </a:lnTo>
                <a:lnTo>
                  <a:pt x="332" y="161"/>
                </a:lnTo>
                <a:lnTo>
                  <a:pt x="326" y="161"/>
                </a:lnTo>
                <a:lnTo>
                  <a:pt x="319" y="161"/>
                </a:lnTo>
                <a:lnTo>
                  <a:pt x="311" y="163"/>
                </a:lnTo>
                <a:lnTo>
                  <a:pt x="299" y="165"/>
                </a:lnTo>
                <a:lnTo>
                  <a:pt x="286" y="167"/>
                </a:lnTo>
                <a:lnTo>
                  <a:pt x="272" y="171"/>
                </a:lnTo>
                <a:lnTo>
                  <a:pt x="257" y="175"/>
                </a:lnTo>
                <a:lnTo>
                  <a:pt x="240" y="179"/>
                </a:lnTo>
                <a:lnTo>
                  <a:pt x="221" y="182"/>
                </a:lnTo>
                <a:lnTo>
                  <a:pt x="200" y="188"/>
                </a:lnTo>
                <a:lnTo>
                  <a:pt x="177" y="194"/>
                </a:lnTo>
                <a:lnTo>
                  <a:pt x="152" y="200"/>
                </a:lnTo>
                <a:lnTo>
                  <a:pt x="125" y="205"/>
                </a:lnTo>
                <a:lnTo>
                  <a:pt x="98" y="213"/>
                </a:lnTo>
                <a:lnTo>
                  <a:pt x="67" y="221"/>
                </a:lnTo>
                <a:lnTo>
                  <a:pt x="36" y="228"/>
                </a:lnTo>
                <a:lnTo>
                  <a:pt x="17" y="175"/>
                </a:lnTo>
                <a:lnTo>
                  <a:pt x="0" y="121"/>
                </a:lnTo>
                <a:lnTo>
                  <a:pt x="19" y="117"/>
                </a:lnTo>
                <a:lnTo>
                  <a:pt x="38" y="113"/>
                </a:lnTo>
                <a:lnTo>
                  <a:pt x="56" y="109"/>
                </a:lnTo>
                <a:lnTo>
                  <a:pt x="73" y="106"/>
                </a:lnTo>
                <a:lnTo>
                  <a:pt x="90" y="102"/>
                </a:lnTo>
                <a:lnTo>
                  <a:pt x="107" y="98"/>
                </a:lnTo>
                <a:lnTo>
                  <a:pt x="123" y="96"/>
                </a:lnTo>
                <a:lnTo>
                  <a:pt x="138" y="92"/>
                </a:lnTo>
                <a:lnTo>
                  <a:pt x="152" y="88"/>
                </a:lnTo>
                <a:lnTo>
                  <a:pt x="167" y="86"/>
                </a:lnTo>
                <a:lnTo>
                  <a:pt x="180" y="83"/>
                </a:lnTo>
                <a:lnTo>
                  <a:pt x="194" y="81"/>
                </a:lnTo>
                <a:lnTo>
                  <a:pt x="205" y="77"/>
                </a:lnTo>
                <a:lnTo>
                  <a:pt x="217" y="73"/>
                </a:lnTo>
                <a:lnTo>
                  <a:pt x="228" y="71"/>
                </a:lnTo>
                <a:lnTo>
                  <a:pt x="240" y="67"/>
                </a:lnTo>
                <a:lnTo>
                  <a:pt x="249" y="65"/>
                </a:lnTo>
                <a:lnTo>
                  <a:pt x="259" y="63"/>
                </a:lnTo>
                <a:lnTo>
                  <a:pt x="269" y="60"/>
                </a:lnTo>
                <a:lnTo>
                  <a:pt x="276" y="58"/>
                </a:lnTo>
                <a:lnTo>
                  <a:pt x="284" y="54"/>
                </a:lnTo>
                <a:lnTo>
                  <a:pt x="292" y="52"/>
                </a:lnTo>
                <a:lnTo>
                  <a:pt x="297" y="50"/>
                </a:lnTo>
                <a:lnTo>
                  <a:pt x="303" y="46"/>
                </a:lnTo>
                <a:lnTo>
                  <a:pt x="309" y="44"/>
                </a:lnTo>
                <a:lnTo>
                  <a:pt x="315" y="42"/>
                </a:lnTo>
                <a:lnTo>
                  <a:pt x="319" y="38"/>
                </a:lnTo>
                <a:lnTo>
                  <a:pt x="322" y="37"/>
                </a:lnTo>
                <a:lnTo>
                  <a:pt x="326" y="35"/>
                </a:lnTo>
                <a:lnTo>
                  <a:pt x="328" y="31"/>
                </a:lnTo>
                <a:lnTo>
                  <a:pt x="330" y="29"/>
                </a:lnTo>
                <a:lnTo>
                  <a:pt x="332" y="27"/>
                </a:lnTo>
                <a:lnTo>
                  <a:pt x="336" y="21"/>
                </a:lnTo>
                <a:lnTo>
                  <a:pt x="342" y="17"/>
                </a:lnTo>
                <a:lnTo>
                  <a:pt x="347" y="12"/>
                </a:lnTo>
                <a:lnTo>
                  <a:pt x="353" y="8"/>
                </a:lnTo>
                <a:lnTo>
                  <a:pt x="361" y="6"/>
                </a:lnTo>
                <a:lnTo>
                  <a:pt x="370" y="2"/>
                </a:lnTo>
                <a:lnTo>
                  <a:pt x="374" y="2"/>
                </a:lnTo>
                <a:lnTo>
                  <a:pt x="380" y="0"/>
                </a:lnTo>
                <a:lnTo>
                  <a:pt x="386" y="0"/>
                </a:lnTo>
                <a:lnTo>
                  <a:pt x="393" y="0"/>
                </a:lnTo>
                <a:lnTo>
                  <a:pt x="403" y="6"/>
                </a:lnTo>
                <a:lnTo>
                  <a:pt x="415" y="10"/>
                </a:lnTo>
                <a:lnTo>
                  <a:pt x="426" y="15"/>
                </a:lnTo>
                <a:lnTo>
                  <a:pt x="439" y="23"/>
                </a:lnTo>
                <a:lnTo>
                  <a:pt x="453" y="31"/>
                </a:lnTo>
                <a:lnTo>
                  <a:pt x="461" y="37"/>
                </a:lnTo>
                <a:lnTo>
                  <a:pt x="470" y="40"/>
                </a:lnTo>
                <a:lnTo>
                  <a:pt x="478" y="46"/>
                </a:lnTo>
                <a:lnTo>
                  <a:pt x="486" y="52"/>
                </a:lnTo>
                <a:lnTo>
                  <a:pt x="495" y="60"/>
                </a:lnTo>
                <a:lnTo>
                  <a:pt x="505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89"/>
          <p:cNvSpPr/>
          <p:nvPr/>
        </p:nvSpPr>
        <p:spPr>
          <a:xfrm>
            <a:off x="6603840" y="4014720"/>
            <a:ext cx="284400" cy="127080"/>
          </a:xfrm>
          <a:custGeom>
            <a:avLst/>
            <a:gdLst/>
            <a:ahLst/>
            <a:rect l="l" t="t" r="r" b="b"/>
            <a:pathLst>
              <a:path w="357" h="161">
                <a:moveTo>
                  <a:pt x="0" y="67"/>
                </a:moveTo>
                <a:lnTo>
                  <a:pt x="46" y="58"/>
                </a:lnTo>
                <a:lnTo>
                  <a:pt x="69" y="52"/>
                </a:lnTo>
                <a:lnTo>
                  <a:pt x="90" y="46"/>
                </a:lnTo>
                <a:lnTo>
                  <a:pt x="113" y="42"/>
                </a:lnTo>
                <a:lnTo>
                  <a:pt x="132" y="37"/>
                </a:lnTo>
                <a:lnTo>
                  <a:pt x="153" y="33"/>
                </a:lnTo>
                <a:lnTo>
                  <a:pt x="173" y="27"/>
                </a:lnTo>
                <a:lnTo>
                  <a:pt x="178" y="25"/>
                </a:lnTo>
                <a:lnTo>
                  <a:pt x="188" y="21"/>
                </a:lnTo>
                <a:lnTo>
                  <a:pt x="196" y="19"/>
                </a:lnTo>
                <a:lnTo>
                  <a:pt x="203" y="17"/>
                </a:lnTo>
                <a:lnTo>
                  <a:pt x="213" y="16"/>
                </a:lnTo>
                <a:lnTo>
                  <a:pt x="224" y="12"/>
                </a:lnTo>
                <a:lnTo>
                  <a:pt x="234" y="10"/>
                </a:lnTo>
                <a:lnTo>
                  <a:pt x="246" y="8"/>
                </a:lnTo>
                <a:lnTo>
                  <a:pt x="257" y="6"/>
                </a:lnTo>
                <a:lnTo>
                  <a:pt x="270" y="6"/>
                </a:lnTo>
                <a:lnTo>
                  <a:pt x="284" y="4"/>
                </a:lnTo>
                <a:lnTo>
                  <a:pt x="297" y="2"/>
                </a:lnTo>
                <a:lnTo>
                  <a:pt x="311" y="2"/>
                </a:lnTo>
                <a:lnTo>
                  <a:pt x="326" y="0"/>
                </a:lnTo>
                <a:lnTo>
                  <a:pt x="341" y="0"/>
                </a:lnTo>
                <a:lnTo>
                  <a:pt x="357" y="0"/>
                </a:lnTo>
                <a:lnTo>
                  <a:pt x="357" y="41"/>
                </a:lnTo>
                <a:lnTo>
                  <a:pt x="357" y="81"/>
                </a:lnTo>
                <a:lnTo>
                  <a:pt x="267" y="100"/>
                </a:lnTo>
                <a:lnTo>
                  <a:pt x="178" y="121"/>
                </a:lnTo>
                <a:lnTo>
                  <a:pt x="0" y="161"/>
                </a:lnTo>
                <a:lnTo>
                  <a:pt x="0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90"/>
          <p:cNvSpPr/>
          <p:nvPr/>
        </p:nvSpPr>
        <p:spPr>
          <a:xfrm>
            <a:off x="6575400" y="3441600"/>
            <a:ext cx="419040" cy="168480"/>
          </a:xfrm>
          <a:custGeom>
            <a:avLst/>
            <a:gdLst/>
            <a:ahLst/>
            <a:rect l="l" t="t" r="r" b="b"/>
            <a:pathLst>
              <a:path w="528" h="213">
                <a:moveTo>
                  <a:pt x="0" y="145"/>
                </a:moveTo>
                <a:lnTo>
                  <a:pt x="35" y="128"/>
                </a:lnTo>
                <a:lnTo>
                  <a:pt x="69" y="113"/>
                </a:lnTo>
                <a:lnTo>
                  <a:pt x="102" y="97"/>
                </a:lnTo>
                <a:lnTo>
                  <a:pt x="133" y="82"/>
                </a:lnTo>
                <a:lnTo>
                  <a:pt x="162" y="71"/>
                </a:lnTo>
                <a:lnTo>
                  <a:pt x="190" y="57"/>
                </a:lnTo>
                <a:lnTo>
                  <a:pt x="215" y="47"/>
                </a:lnTo>
                <a:lnTo>
                  <a:pt x="240" y="36"/>
                </a:lnTo>
                <a:lnTo>
                  <a:pt x="261" y="28"/>
                </a:lnTo>
                <a:lnTo>
                  <a:pt x="283" y="21"/>
                </a:lnTo>
                <a:lnTo>
                  <a:pt x="302" y="15"/>
                </a:lnTo>
                <a:lnTo>
                  <a:pt x="317" y="9"/>
                </a:lnTo>
                <a:lnTo>
                  <a:pt x="332" y="5"/>
                </a:lnTo>
                <a:lnTo>
                  <a:pt x="348" y="1"/>
                </a:lnTo>
                <a:lnTo>
                  <a:pt x="359" y="0"/>
                </a:lnTo>
                <a:lnTo>
                  <a:pt x="369" y="0"/>
                </a:lnTo>
                <a:lnTo>
                  <a:pt x="382" y="0"/>
                </a:lnTo>
                <a:lnTo>
                  <a:pt x="396" y="1"/>
                </a:lnTo>
                <a:lnTo>
                  <a:pt x="411" y="3"/>
                </a:lnTo>
                <a:lnTo>
                  <a:pt x="425" y="7"/>
                </a:lnTo>
                <a:lnTo>
                  <a:pt x="438" y="11"/>
                </a:lnTo>
                <a:lnTo>
                  <a:pt x="451" y="15"/>
                </a:lnTo>
                <a:lnTo>
                  <a:pt x="480" y="26"/>
                </a:lnTo>
                <a:lnTo>
                  <a:pt x="486" y="28"/>
                </a:lnTo>
                <a:lnTo>
                  <a:pt x="492" y="32"/>
                </a:lnTo>
                <a:lnTo>
                  <a:pt x="497" y="34"/>
                </a:lnTo>
                <a:lnTo>
                  <a:pt x="503" y="38"/>
                </a:lnTo>
                <a:lnTo>
                  <a:pt x="507" y="42"/>
                </a:lnTo>
                <a:lnTo>
                  <a:pt x="511" y="46"/>
                </a:lnTo>
                <a:lnTo>
                  <a:pt x="519" y="53"/>
                </a:lnTo>
                <a:lnTo>
                  <a:pt x="522" y="59"/>
                </a:lnTo>
                <a:lnTo>
                  <a:pt x="526" y="67"/>
                </a:lnTo>
                <a:lnTo>
                  <a:pt x="528" y="74"/>
                </a:lnTo>
                <a:lnTo>
                  <a:pt x="528" y="80"/>
                </a:lnTo>
                <a:lnTo>
                  <a:pt x="526" y="82"/>
                </a:lnTo>
                <a:lnTo>
                  <a:pt x="522" y="84"/>
                </a:lnTo>
                <a:lnTo>
                  <a:pt x="517" y="88"/>
                </a:lnTo>
                <a:lnTo>
                  <a:pt x="511" y="92"/>
                </a:lnTo>
                <a:lnTo>
                  <a:pt x="503" y="95"/>
                </a:lnTo>
                <a:lnTo>
                  <a:pt x="494" y="99"/>
                </a:lnTo>
                <a:lnTo>
                  <a:pt x="484" y="105"/>
                </a:lnTo>
                <a:lnTo>
                  <a:pt x="473" y="109"/>
                </a:lnTo>
                <a:lnTo>
                  <a:pt x="461" y="115"/>
                </a:lnTo>
                <a:lnTo>
                  <a:pt x="448" y="120"/>
                </a:lnTo>
                <a:lnTo>
                  <a:pt x="434" y="126"/>
                </a:lnTo>
                <a:lnTo>
                  <a:pt x="419" y="132"/>
                </a:lnTo>
                <a:lnTo>
                  <a:pt x="402" y="138"/>
                </a:lnTo>
                <a:lnTo>
                  <a:pt x="384" y="145"/>
                </a:lnTo>
                <a:lnTo>
                  <a:pt x="365" y="151"/>
                </a:lnTo>
                <a:lnTo>
                  <a:pt x="344" y="159"/>
                </a:lnTo>
                <a:lnTo>
                  <a:pt x="323" y="167"/>
                </a:lnTo>
                <a:lnTo>
                  <a:pt x="300" y="174"/>
                </a:lnTo>
                <a:lnTo>
                  <a:pt x="281" y="180"/>
                </a:lnTo>
                <a:lnTo>
                  <a:pt x="261" y="186"/>
                </a:lnTo>
                <a:lnTo>
                  <a:pt x="244" y="190"/>
                </a:lnTo>
                <a:lnTo>
                  <a:pt x="227" y="193"/>
                </a:lnTo>
                <a:lnTo>
                  <a:pt x="211" y="197"/>
                </a:lnTo>
                <a:lnTo>
                  <a:pt x="198" y="201"/>
                </a:lnTo>
                <a:lnTo>
                  <a:pt x="187" y="205"/>
                </a:lnTo>
                <a:lnTo>
                  <a:pt x="175" y="207"/>
                </a:lnTo>
                <a:lnTo>
                  <a:pt x="165" y="209"/>
                </a:lnTo>
                <a:lnTo>
                  <a:pt x="156" y="211"/>
                </a:lnTo>
                <a:lnTo>
                  <a:pt x="148" y="213"/>
                </a:lnTo>
                <a:lnTo>
                  <a:pt x="142" y="213"/>
                </a:lnTo>
                <a:lnTo>
                  <a:pt x="139" y="213"/>
                </a:lnTo>
                <a:lnTo>
                  <a:pt x="135" y="213"/>
                </a:lnTo>
                <a:lnTo>
                  <a:pt x="131" y="213"/>
                </a:lnTo>
                <a:lnTo>
                  <a:pt x="125" y="213"/>
                </a:lnTo>
                <a:lnTo>
                  <a:pt x="119" y="211"/>
                </a:lnTo>
                <a:lnTo>
                  <a:pt x="112" y="209"/>
                </a:lnTo>
                <a:lnTo>
                  <a:pt x="106" y="205"/>
                </a:lnTo>
                <a:lnTo>
                  <a:pt x="98" y="203"/>
                </a:lnTo>
                <a:lnTo>
                  <a:pt x="91" y="199"/>
                </a:lnTo>
                <a:lnTo>
                  <a:pt x="81" y="195"/>
                </a:lnTo>
                <a:lnTo>
                  <a:pt x="64" y="186"/>
                </a:lnTo>
                <a:lnTo>
                  <a:pt x="43" y="174"/>
                </a:lnTo>
                <a:lnTo>
                  <a:pt x="21" y="161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91"/>
          <p:cNvSpPr/>
          <p:nvPr/>
        </p:nvSpPr>
        <p:spPr>
          <a:xfrm>
            <a:off x="6458040" y="2941560"/>
            <a:ext cx="981000" cy="319320"/>
          </a:xfrm>
          <a:custGeom>
            <a:avLst/>
            <a:gdLst/>
            <a:ahLst/>
            <a:rect l="l" t="t" r="r" b="b"/>
            <a:pathLst>
              <a:path w="1236" h="401">
                <a:moveTo>
                  <a:pt x="0" y="282"/>
                </a:moveTo>
                <a:lnTo>
                  <a:pt x="30" y="278"/>
                </a:lnTo>
                <a:lnTo>
                  <a:pt x="63" y="274"/>
                </a:lnTo>
                <a:lnTo>
                  <a:pt x="96" y="269"/>
                </a:lnTo>
                <a:lnTo>
                  <a:pt x="130" y="263"/>
                </a:lnTo>
                <a:lnTo>
                  <a:pt x="167" y="257"/>
                </a:lnTo>
                <a:lnTo>
                  <a:pt x="205" y="249"/>
                </a:lnTo>
                <a:lnTo>
                  <a:pt x="243" y="242"/>
                </a:lnTo>
                <a:lnTo>
                  <a:pt x="282" y="232"/>
                </a:lnTo>
                <a:lnTo>
                  <a:pt x="324" y="221"/>
                </a:lnTo>
                <a:lnTo>
                  <a:pt x="366" y="209"/>
                </a:lnTo>
                <a:lnTo>
                  <a:pt x="408" y="198"/>
                </a:lnTo>
                <a:lnTo>
                  <a:pt x="453" y="184"/>
                </a:lnTo>
                <a:lnTo>
                  <a:pt x="499" y="171"/>
                </a:lnTo>
                <a:lnTo>
                  <a:pt x="545" y="155"/>
                </a:lnTo>
                <a:lnTo>
                  <a:pt x="591" y="138"/>
                </a:lnTo>
                <a:lnTo>
                  <a:pt x="639" y="121"/>
                </a:lnTo>
                <a:lnTo>
                  <a:pt x="662" y="113"/>
                </a:lnTo>
                <a:lnTo>
                  <a:pt x="687" y="106"/>
                </a:lnTo>
                <a:lnTo>
                  <a:pt x="708" y="100"/>
                </a:lnTo>
                <a:lnTo>
                  <a:pt x="731" y="92"/>
                </a:lnTo>
                <a:lnTo>
                  <a:pt x="752" y="86"/>
                </a:lnTo>
                <a:lnTo>
                  <a:pt x="773" y="79"/>
                </a:lnTo>
                <a:lnTo>
                  <a:pt x="794" y="73"/>
                </a:lnTo>
                <a:lnTo>
                  <a:pt x="813" y="67"/>
                </a:lnTo>
                <a:lnTo>
                  <a:pt x="833" y="61"/>
                </a:lnTo>
                <a:lnTo>
                  <a:pt x="852" y="58"/>
                </a:lnTo>
                <a:lnTo>
                  <a:pt x="869" y="52"/>
                </a:lnTo>
                <a:lnTo>
                  <a:pt x="888" y="46"/>
                </a:lnTo>
                <a:lnTo>
                  <a:pt x="904" y="42"/>
                </a:lnTo>
                <a:lnTo>
                  <a:pt x="921" y="38"/>
                </a:lnTo>
                <a:lnTo>
                  <a:pt x="936" y="34"/>
                </a:lnTo>
                <a:lnTo>
                  <a:pt x="952" y="31"/>
                </a:lnTo>
                <a:lnTo>
                  <a:pt x="967" y="27"/>
                </a:lnTo>
                <a:lnTo>
                  <a:pt x="980" y="23"/>
                </a:lnTo>
                <a:lnTo>
                  <a:pt x="994" y="19"/>
                </a:lnTo>
                <a:lnTo>
                  <a:pt x="1007" y="17"/>
                </a:lnTo>
                <a:lnTo>
                  <a:pt x="1021" y="13"/>
                </a:lnTo>
                <a:lnTo>
                  <a:pt x="1032" y="11"/>
                </a:lnTo>
                <a:lnTo>
                  <a:pt x="1044" y="10"/>
                </a:lnTo>
                <a:lnTo>
                  <a:pt x="1053" y="8"/>
                </a:lnTo>
                <a:lnTo>
                  <a:pt x="1063" y="6"/>
                </a:lnTo>
                <a:lnTo>
                  <a:pt x="1073" y="4"/>
                </a:lnTo>
                <a:lnTo>
                  <a:pt x="1082" y="4"/>
                </a:lnTo>
                <a:lnTo>
                  <a:pt x="1090" y="2"/>
                </a:lnTo>
                <a:lnTo>
                  <a:pt x="1097" y="2"/>
                </a:lnTo>
                <a:lnTo>
                  <a:pt x="1105" y="2"/>
                </a:lnTo>
                <a:lnTo>
                  <a:pt x="1113" y="0"/>
                </a:lnTo>
                <a:lnTo>
                  <a:pt x="1119" y="0"/>
                </a:lnTo>
                <a:lnTo>
                  <a:pt x="1136" y="2"/>
                </a:lnTo>
                <a:lnTo>
                  <a:pt x="1153" y="4"/>
                </a:lnTo>
                <a:lnTo>
                  <a:pt x="1168" y="8"/>
                </a:lnTo>
                <a:lnTo>
                  <a:pt x="1184" y="11"/>
                </a:lnTo>
                <a:lnTo>
                  <a:pt x="1190" y="15"/>
                </a:lnTo>
                <a:lnTo>
                  <a:pt x="1195" y="19"/>
                </a:lnTo>
                <a:lnTo>
                  <a:pt x="1203" y="23"/>
                </a:lnTo>
                <a:lnTo>
                  <a:pt x="1209" y="29"/>
                </a:lnTo>
                <a:lnTo>
                  <a:pt x="1215" y="34"/>
                </a:lnTo>
                <a:lnTo>
                  <a:pt x="1218" y="40"/>
                </a:lnTo>
                <a:lnTo>
                  <a:pt x="1224" y="46"/>
                </a:lnTo>
                <a:lnTo>
                  <a:pt x="1230" y="54"/>
                </a:lnTo>
                <a:lnTo>
                  <a:pt x="1232" y="61"/>
                </a:lnTo>
                <a:lnTo>
                  <a:pt x="1236" y="69"/>
                </a:lnTo>
                <a:lnTo>
                  <a:pt x="1236" y="75"/>
                </a:lnTo>
                <a:lnTo>
                  <a:pt x="1236" y="82"/>
                </a:lnTo>
                <a:lnTo>
                  <a:pt x="1234" y="88"/>
                </a:lnTo>
                <a:lnTo>
                  <a:pt x="1232" y="94"/>
                </a:lnTo>
                <a:lnTo>
                  <a:pt x="1226" y="102"/>
                </a:lnTo>
                <a:lnTo>
                  <a:pt x="1220" y="107"/>
                </a:lnTo>
                <a:lnTo>
                  <a:pt x="1215" y="113"/>
                </a:lnTo>
                <a:lnTo>
                  <a:pt x="1205" y="119"/>
                </a:lnTo>
                <a:lnTo>
                  <a:pt x="1197" y="127"/>
                </a:lnTo>
                <a:lnTo>
                  <a:pt x="1186" y="132"/>
                </a:lnTo>
                <a:lnTo>
                  <a:pt x="1174" y="140"/>
                </a:lnTo>
                <a:lnTo>
                  <a:pt x="1161" y="146"/>
                </a:lnTo>
                <a:lnTo>
                  <a:pt x="1145" y="153"/>
                </a:lnTo>
                <a:lnTo>
                  <a:pt x="1130" y="161"/>
                </a:lnTo>
                <a:lnTo>
                  <a:pt x="1115" y="169"/>
                </a:lnTo>
                <a:lnTo>
                  <a:pt x="1097" y="175"/>
                </a:lnTo>
                <a:lnTo>
                  <a:pt x="1078" y="182"/>
                </a:lnTo>
                <a:lnTo>
                  <a:pt x="1059" y="188"/>
                </a:lnTo>
                <a:lnTo>
                  <a:pt x="1040" y="196"/>
                </a:lnTo>
                <a:lnTo>
                  <a:pt x="1019" y="201"/>
                </a:lnTo>
                <a:lnTo>
                  <a:pt x="998" y="207"/>
                </a:lnTo>
                <a:lnTo>
                  <a:pt x="975" y="215"/>
                </a:lnTo>
                <a:lnTo>
                  <a:pt x="952" y="221"/>
                </a:lnTo>
                <a:lnTo>
                  <a:pt x="929" y="226"/>
                </a:lnTo>
                <a:lnTo>
                  <a:pt x="906" y="232"/>
                </a:lnTo>
                <a:lnTo>
                  <a:pt x="881" y="240"/>
                </a:lnTo>
                <a:lnTo>
                  <a:pt x="854" y="246"/>
                </a:lnTo>
                <a:lnTo>
                  <a:pt x="829" y="253"/>
                </a:lnTo>
                <a:lnTo>
                  <a:pt x="802" y="261"/>
                </a:lnTo>
                <a:lnTo>
                  <a:pt x="775" y="269"/>
                </a:lnTo>
                <a:lnTo>
                  <a:pt x="760" y="272"/>
                </a:lnTo>
                <a:lnTo>
                  <a:pt x="742" y="274"/>
                </a:lnTo>
                <a:lnTo>
                  <a:pt x="727" y="278"/>
                </a:lnTo>
                <a:lnTo>
                  <a:pt x="710" y="282"/>
                </a:lnTo>
                <a:lnTo>
                  <a:pt x="692" y="286"/>
                </a:lnTo>
                <a:lnTo>
                  <a:pt x="673" y="290"/>
                </a:lnTo>
                <a:lnTo>
                  <a:pt x="656" y="294"/>
                </a:lnTo>
                <a:lnTo>
                  <a:pt x="635" y="297"/>
                </a:lnTo>
                <a:lnTo>
                  <a:pt x="616" y="301"/>
                </a:lnTo>
                <a:lnTo>
                  <a:pt x="595" y="305"/>
                </a:lnTo>
                <a:lnTo>
                  <a:pt x="573" y="309"/>
                </a:lnTo>
                <a:lnTo>
                  <a:pt x="552" y="313"/>
                </a:lnTo>
                <a:lnTo>
                  <a:pt x="531" y="317"/>
                </a:lnTo>
                <a:lnTo>
                  <a:pt x="508" y="322"/>
                </a:lnTo>
                <a:lnTo>
                  <a:pt x="485" y="326"/>
                </a:lnTo>
                <a:lnTo>
                  <a:pt x="460" y="330"/>
                </a:lnTo>
                <a:lnTo>
                  <a:pt x="435" y="334"/>
                </a:lnTo>
                <a:lnTo>
                  <a:pt x="410" y="338"/>
                </a:lnTo>
                <a:lnTo>
                  <a:pt x="385" y="342"/>
                </a:lnTo>
                <a:lnTo>
                  <a:pt x="358" y="345"/>
                </a:lnTo>
                <a:lnTo>
                  <a:pt x="332" y="349"/>
                </a:lnTo>
                <a:lnTo>
                  <a:pt x="305" y="355"/>
                </a:lnTo>
                <a:lnTo>
                  <a:pt x="276" y="359"/>
                </a:lnTo>
                <a:lnTo>
                  <a:pt x="249" y="363"/>
                </a:lnTo>
                <a:lnTo>
                  <a:pt x="218" y="368"/>
                </a:lnTo>
                <a:lnTo>
                  <a:pt x="190" y="372"/>
                </a:lnTo>
                <a:lnTo>
                  <a:pt x="159" y="376"/>
                </a:lnTo>
                <a:lnTo>
                  <a:pt x="128" y="382"/>
                </a:lnTo>
                <a:lnTo>
                  <a:pt x="97" y="386"/>
                </a:lnTo>
                <a:lnTo>
                  <a:pt x="65" y="392"/>
                </a:lnTo>
                <a:lnTo>
                  <a:pt x="32" y="397"/>
                </a:lnTo>
                <a:lnTo>
                  <a:pt x="0" y="401"/>
                </a:lnTo>
                <a:lnTo>
                  <a:pt x="0" y="342"/>
                </a:lnTo>
                <a:lnTo>
                  <a:pt x="0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192"/>
          <p:cNvSpPr/>
          <p:nvPr/>
        </p:nvSpPr>
        <p:spPr>
          <a:xfrm>
            <a:off x="6066000" y="3117960"/>
            <a:ext cx="449280" cy="1662120"/>
          </a:xfrm>
          <a:custGeom>
            <a:avLst/>
            <a:gdLst/>
            <a:ahLst/>
            <a:rect l="l" t="t" r="r" b="b"/>
            <a:pathLst>
              <a:path w="567" h="2094">
                <a:moveTo>
                  <a:pt x="496" y="1061"/>
                </a:moveTo>
                <a:lnTo>
                  <a:pt x="486" y="1126"/>
                </a:lnTo>
                <a:lnTo>
                  <a:pt x="474" y="1190"/>
                </a:lnTo>
                <a:lnTo>
                  <a:pt x="463" y="1253"/>
                </a:lnTo>
                <a:lnTo>
                  <a:pt x="448" y="1314"/>
                </a:lnTo>
                <a:lnTo>
                  <a:pt x="432" y="1376"/>
                </a:lnTo>
                <a:lnTo>
                  <a:pt x="413" y="1435"/>
                </a:lnTo>
                <a:lnTo>
                  <a:pt x="394" y="1497"/>
                </a:lnTo>
                <a:lnTo>
                  <a:pt x="384" y="1526"/>
                </a:lnTo>
                <a:lnTo>
                  <a:pt x="373" y="1556"/>
                </a:lnTo>
                <a:lnTo>
                  <a:pt x="361" y="1589"/>
                </a:lnTo>
                <a:lnTo>
                  <a:pt x="350" y="1620"/>
                </a:lnTo>
                <a:lnTo>
                  <a:pt x="336" y="1650"/>
                </a:lnTo>
                <a:lnTo>
                  <a:pt x="325" y="1679"/>
                </a:lnTo>
                <a:lnTo>
                  <a:pt x="311" y="1708"/>
                </a:lnTo>
                <a:lnTo>
                  <a:pt x="298" y="1735"/>
                </a:lnTo>
                <a:lnTo>
                  <a:pt x="284" y="1762"/>
                </a:lnTo>
                <a:lnTo>
                  <a:pt x="271" y="1787"/>
                </a:lnTo>
                <a:lnTo>
                  <a:pt x="258" y="1812"/>
                </a:lnTo>
                <a:lnTo>
                  <a:pt x="242" y="1835"/>
                </a:lnTo>
                <a:lnTo>
                  <a:pt x="229" y="1858"/>
                </a:lnTo>
                <a:lnTo>
                  <a:pt x="213" y="1879"/>
                </a:lnTo>
                <a:lnTo>
                  <a:pt x="198" y="1900"/>
                </a:lnTo>
                <a:lnTo>
                  <a:pt x="183" y="1921"/>
                </a:lnTo>
                <a:lnTo>
                  <a:pt x="167" y="1940"/>
                </a:lnTo>
                <a:lnTo>
                  <a:pt x="152" y="1957"/>
                </a:lnTo>
                <a:lnTo>
                  <a:pt x="135" y="1977"/>
                </a:lnTo>
                <a:lnTo>
                  <a:pt x="121" y="1994"/>
                </a:lnTo>
                <a:lnTo>
                  <a:pt x="108" y="2011"/>
                </a:lnTo>
                <a:lnTo>
                  <a:pt x="94" y="2027"/>
                </a:lnTo>
                <a:lnTo>
                  <a:pt x="81" y="2040"/>
                </a:lnTo>
                <a:lnTo>
                  <a:pt x="69" y="2051"/>
                </a:lnTo>
                <a:lnTo>
                  <a:pt x="60" y="2061"/>
                </a:lnTo>
                <a:lnTo>
                  <a:pt x="50" y="2071"/>
                </a:lnTo>
                <a:lnTo>
                  <a:pt x="41" y="2076"/>
                </a:lnTo>
                <a:lnTo>
                  <a:pt x="33" y="2084"/>
                </a:lnTo>
                <a:lnTo>
                  <a:pt x="25" y="2088"/>
                </a:lnTo>
                <a:lnTo>
                  <a:pt x="20" y="2092"/>
                </a:lnTo>
                <a:lnTo>
                  <a:pt x="14" y="2094"/>
                </a:lnTo>
                <a:lnTo>
                  <a:pt x="10" y="2094"/>
                </a:lnTo>
                <a:lnTo>
                  <a:pt x="6" y="2094"/>
                </a:lnTo>
                <a:lnTo>
                  <a:pt x="4" y="2092"/>
                </a:lnTo>
                <a:lnTo>
                  <a:pt x="2" y="2088"/>
                </a:lnTo>
                <a:lnTo>
                  <a:pt x="0" y="2084"/>
                </a:lnTo>
                <a:lnTo>
                  <a:pt x="0" y="2080"/>
                </a:lnTo>
                <a:lnTo>
                  <a:pt x="0" y="2074"/>
                </a:lnTo>
                <a:lnTo>
                  <a:pt x="0" y="2067"/>
                </a:lnTo>
                <a:lnTo>
                  <a:pt x="2" y="2059"/>
                </a:lnTo>
                <a:lnTo>
                  <a:pt x="4" y="2051"/>
                </a:lnTo>
                <a:lnTo>
                  <a:pt x="8" y="2042"/>
                </a:lnTo>
                <a:lnTo>
                  <a:pt x="12" y="2030"/>
                </a:lnTo>
                <a:lnTo>
                  <a:pt x="16" y="2019"/>
                </a:lnTo>
                <a:lnTo>
                  <a:pt x="21" y="2007"/>
                </a:lnTo>
                <a:lnTo>
                  <a:pt x="29" y="1994"/>
                </a:lnTo>
                <a:lnTo>
                  <a:pt x="37" y="1979"/>
                </a:lnTo>
                <a:lnTo>
                  <a:pt x="44" y="1963"/>
                </a:lnTo>
                <a:lnTo>
                  <a:pt x="54" y="1948"/>
                </a:lnTo>
                <a:lnTo>
                  <a:pt x="66" y="1931"/>
                </a:lnTo>
                <a:lnTo>
                  <a:pt x="77" y="1913"/>
                </a:lnTo>
                <a:lnTo>
                  <a:pt x="89" y="1892"/>
                </a:lnTo>
                <a:lnTo>
                  <a:pt x="100" y="1873"/>
                </a:lnTo>
                <a:lnTo>
                  <a:pt x="112" y="1850"/>
                </a:lnTo>
                <a:lnTo>
                  <a:pt x="123" y="1827"/>
                </a:lnTo>
                <a:lnTo>
                  <a:pt x="135" y="1802"/>
                </a:lnTo>
                <a:lnTo>
                  <a:pt x="146" y="1777"/>
                </a:lnTo>
                <a:lnTo>
                  <a:pt x="158" y="1750"/>
                </a:lnTo>
                <a:lnTo>
                  <a:pt x="169" y="1721"/>
                </a:lnTo>
                <a:lnTo>
                  <a:pt x="181" y="1693"/>
                </a:lnTo>
                <a:lnTo>
                  <a:pt x="192" y="1662"/>
                </a:lnTo>
                <a:lnTo>
                  <a:pt x="204" y="1629"/>
                </a:lnTo>
                <a:lnTo>
                  <a:pt x="215" y="1597"/>
                </a:lnTo>
                <a:lnTo>
                  <a:pt x="227" y="1562"/>
                </a:lnTo>
                <a:lnTo>
                  <a:pt x="238" y="1527"/>
                </a:lnTo>
                <a:lnTo>
                  <a:pt x="250" y="1489"/>
                </a:lnTo>
                <a:lnTo>
                  <a:pt x="261" y="1451"/>
                </a:lnTo>
                <a:lnTo>
                  <a:pt x="271" y="1412"/>
                </a:lnTo>
                <a:lnTo>
                  <a:pt x="283" y="1374"/>
                </a:lnTo>
                <a:lnTo>
                  <a:pt x="292" y="1334"/>
                </a:lnTo>
                <a:lnTo>
                  <a:pt x="313" y="1253"/>
                </a:lnTo>
                <a:lnTo>
                  <a:pt x="330" y="1172"/>
                </a:lnTo>
                <a:lnTo>
                  <a:pt x="348" y="1088"/>
                </a:lnTo>
                <a:lnTo>
                  <a:pt x="355" y="1046"/>
                </a:lnTo>
                <a:lnTo>
                  <a:pt x="361" y="1003"/>
                </a:lnTo>
                <a:lnTo>
                  <a:pt x="369" y="961"/>
                </a:lnTo>
                <a:lnTo>
                  <a:pt x="375" y="919"/>
                </a:lnTo>
                <a:lnTo>
                  <a:pt x="380" y="877"/>
                </a:lnTo>
                <a:lnTo>
                  <a:pt x="384" y="835"/>
                </a:lnTo>
                <a:lnTo>
                  <a:pt x="386" y="792"/>
                </a:lnTo>
                <a:lnTo>
                  <a:pt x="390" y="752"/>
                </a:lnTo>
                <a:lnTo>
                  <a:pt x="392" y="712"/>
                </a:lnTo>
                <a:lnTo>
                  <a:pt x="394" y="673"/>
                </a:lnTo>
                <a:lnTo>
                  <a:pt x="396" y="637"/>
                </a:lnTo>
                <a:lnTo>
                  <a:pt x="398" y="600"/>
                </a:lnTo>
                <a:lnTo>
                  <a:pt x="400" y="566"/>
                </a:lnTo>
                <a:lnTo>
                  <a:pt x="402" y="533"/>
                </a:lnTo>
                <a:lnTo>
                  <a:pt x="403" y="501"/>
                </a:lnTo>
                <a:lnTo>
                  <a:pt x="405" y="470"/>
                </a:lnTo>
                <a:lnTo>
                  <a:pt x="405" y="441"/>
                </a:lnTo>
                <a:lnTo>
                  <a:pt x="407" y="412"/>
                </a:lnTo>
                <a:lnTo>
                  <a:pt x="407" y="385"/>
                </a:lnTo>
                <a:lnTo>
                  <a:pt x="409" y="360"/>
                </a:lnTo>
                <a:lnTo>
                  <a:pt x="409" y="335"/>
                </a:lnTo>
                <a:lnTo>
                  <a:pt x="409" y="312"/>
                </a:lnTo>
                <a:lnTo>
                  <a:pt x="407" y="291"/>
                </a:lnTo>
                <a:lnTo>
                  <a:pt x="405" y="270"/>
                </a:lnTo>
                <a:lnTo>
                  <a:pt x="402" y="251"/>
                </a:lnTo>
                <a:lnTo>
                  <a:pt x="400" y="232"/>
                </a:lnTo>
                <a:lnTo>
                  <a:pt x="398" y="215"/>
                </a:lnTo>
                <a:lnTo>
                  <a:pt x="396" y="197"/>
                </a:lnTo>
                <a:lnTo>
                  <a:pt x="392" y="184"/>
                </a:lnTo>
                <a:lnTo>
                  <a:pt x="390" y="169"/>
                </a:lnTo>
                <a:lnTo>
                  <a:pt x="386" y="155"/>
                </a:lnTo>
                <a:lnTo>
                  <a:pt x="382" y="144"/>
                </a:lnTo>
                <a:lnTo>
                  <a:pt x="380" y="132"/>
                </a:lnTo>
                <a:lnTo>
                  <a:pt x="377" y="121"/>
                </a:lnTo>
                <a:lnTo>
                  <a:pt x="373" y="111"/>
                </a:lnTo>
                <a:lnTo>
                  <a:pt x="369" y="101"/>
                </a:lnTo>
                <a:lnTo>
                  <a:pt x="365" y="94"/>
                </a:lnTo>
                <a:lnTo>
                  <a:pt x="361" y="86"/>
                </a:lnTo>
                <a:lnTo>
                  <a:pt x="355" y="78"/>
                </a:lnTo>
                <a:lnTo>
                  <a:pt x="352" y="71"/>
                </a:lnTo>
                <a:lnTo>
                  <a:pt x="350" y="63"/>
                </a:lnTo>
                <a:lnTo>
                  <a:pt x="348" y="57"/>
                </a:lnTo>
                <a:lnTo>
                  <a:pt x="346" y="51"/>
                </a:lnTo>
                <a:lnTo>
                  <a:pt x="344" y="46"/>
                </a:lnTo>
                <a:lnTo>
                  <a:pt x="344" y="40"/>
                </a:lnTo>
                <a:lnTo>
                  <a:pt x="344" y="34"/>
                </a:lnTo>
                <a:lnTo>
                  <a:pt x="344" y="30"/>
                </a:lnTo>
                <a:lnTo>
                  <a:pt x="346" y="26"/>
                </a:lnTo>
                <a:lnTo>
                  <a:pt x="348" y="21"/>
                </a:lnTo>
                <a:lnTo>
                  <a:pt x="352" y="17"/>
                </a:lnTo>
                <a:lnTo>
                  <a:pt x="355" y="13"/>
                </a:lnTo>
                <a:lnTo>
                  <a:pt x="361" y="11"/>
                </a:lnTo>
                <a:lnTo>
                  <a:pt x="367" y="7"/>
                </a:lnTo>
                <a:lnTo>
                  <a:pt x="373" y="5"/>
                </a:lnTo>
                <a:lnTo>
                  <a:pt x="378" y="3"/>
                </a:lnTo>
                <a:lnTo>
                  <a:pt x="384" y="2"/>
                </a:lnTo>
                <a:lnTo>
                  <a:pt x="390" y="0"/>
                </a:lnTo>
                <a:lnTo>
                  <a:pt x="398" y="0"/>
                </a:lnTo>
                <a:lnTo>
                  <a:pt x="407" y="0"/>
                </a:lnTo>
                <a:lnTo>
                  <a:pt x="417" y="2"/>
                </a:lnTo>
                <a:lnTo>
                  <a:pt x="426" y="3"/>
                </a:lnTo>
                <a:lnTo>
                  <a:pt x="438" y="5"/>
                </a:lnTo>
                <a:lnTo>
                  <a:pt x="449" y="9"/>
                </a:lnTo>
                <a:lnTo>
                  <a:pt x="463" y="13"/>
                </a:lnTo>
                <a:lnTo>
                  <a:pt x="476" y="19"/>
                </a:lnTo>
                <a:lnTo>
                  <a:pt x="490" y="25"/>
                </a:lnTo>
                <a:lnTo>
                  <a:pt x="505" y="32"/>
                </a:lnTo>
                <a:lnTo>
                  <a:pt x="522" y="40"/>
                </a:lnTo>
                <a:lnTo>
                  <a:pt x="540" y="48"/>
                </a:lnTo>
                <a:lnTo>
                  <a:pt x="557" y="59"/>
                </a:lnTo>
                <a:lnTo>
                  <a:pt x="559" y="80"/>
                </a:lnTo>
                <a:lnTo>
                  <a:pt x="561" y="105"/>
                </a:lnTo>
                <a:lnTo>
                  <a:pt x="563" y="128"/>
                </a:lnTo>
                <a:lnTo>
                  <a:pt x="565" y="153"/>
                </a:lnTo>
                <a:lnTo>
                  <a:pt x="565" y="180"/>
                </a:lnTo>
                <a:lnTo>
                  <a:pt x="565" y="205"/>
                </a:lnTo>
                <a:lnTo>
                  <a:pt x="567" y="232"/>
                </a:lnTo>
                <a:lnTo>
                  <a:pt x="567" y="261"/>
                </a:lnTo>
                <a:lnTo>
                  <a:pt x="567" y="289"/>
                </a:lnTo>
                <a:lnTo>
                  <a:pt x="565" y="318"/>
                </a:lnTo>
                <a:lnTo>
                  <a:pt x="565" y="349"/>
                </a:lnTo>
                <a:lnTo>
                  <a:pt x="565" y="380"/>
                </a:lnTo>
                <a:lnTo>
                  <a:pt x="563" y="412"/>
                </a:lnTo>
                <a:lnTo>
                  <a:pt x="561" y="445"/>
                </a:lnTo>
                <a:lnTo>
                  <a:pt x="559" y="478"/>
                </a:lnTo>
                <a:lnTo>
                  <a:pt x="557" y="514"/>
                </a:lnTo>
                <a:lnTo>
                  <a:pt x="555" y="550"/>
                </a:lnTo>
                <a:lnTo>
                  <a:pt x="551" y="587"/>
                </a:lnTo>
                <a:lnTo>
                  <a:pt x="549" y="623"/>
                </a:lnTo>
                <a:lnTo>
                  <a:pt x="545" y="658"/>
                </a:lnTo>
                <a:lnTo>
                  <a:pt x="538" y="729"/>
                </a:lnTo>
                <a:lnTo>
                  <a:pt x="530" y="798"/>
                </a:lnTo>
                <a:lnTo>
                  <a:pt x="522" y="865"/>
                </a:lnTo>
                <a:lnTo>
                  <a:pt x="513" y="931"/>
                </a:lnTo>
                <a:lnTo>
                  <a:pt x="505" y="996"/>
                </a:lnTo>
                <a:lnTo>
                  <a:pt x="496" y="10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93"/>
          <p:cNvSpPr/>
          <p:nvPr/>
        </p:nvSpPr>
        <p:spPr>
          <a:xfrm>
            <a:off x="6450120" y="3781440"/>
            <a:ext cx="193680" cy="403200"/>
          </a:xfrm>
          <a:custGeom>
            <a:avLst/>
            <a:gdLst/>
            <a:ahLst/>
            <a:rect l="l" t="t" r="r" b="b"/>
            <a:pathLst>
              <a:path w="246" h="508">
                <a:moveTo>
                  <a:pt x="246" y="508"/>
                </a:moveTo>
                <a:lnTo>
                  <a:pt x="234" y="504"/>
                </a:lnTo>
                <a:lnTo>
                  <a:pt x="225" y="502"/>
                </a:lnTo>
                <a:lnTo>
                  <a:pt x="215" y="499"/>
                </a:lnTo>
                <a:lnTo>
                  <a:pt x="205" y="497"/>
                </a:lnTo>
                <a:lnTo>
                  <a:pt x="198" y="495"/>
                </a:lnTo>
                <a:lnTo>
                  <a:pt x="190" y="491"/>
                </a:lnTo>
                <a:lnTo>
                  <a:pt x="184" y="487"/>
                </a:lnTo>
                <a:lnTo>
                  <a:pt x="177" y="483"/>
                </a:lnTo>
                <a:lnTo>
                  <a:pt x="173" y="479"/>
                </a:lnTo>
                <a:lnTo>
                  <a:pt x="167" y="476"/>
                </a:lnTo>
                <a:lnTo>
                  <a:pt x="163" y="472"/>
                </a:lnTo>
                <a:lnTo>
                  <a:pt x="159" y="466"/>
                </a:lnTo>
                <a:lnTo>
                  <a:pt x="156" y="460"/>
                </a:lnTo>
                <a:lnTo>
                  <a:pt x="152" y="454"/>
                </a:lnTo>
                <a:lnTo>
                  <a:pt x="150" y="449"/>
                </a:lnTo>
                <a:lnTo>
                  <a:pt x="148" y="441"/>
                </a:lnTo>
                <a:lnTo>
                  <a:pt x="144" y="435"/>
                </a:lnTo>
                <a:lnTo>
                  <a:pt x="142" y="429"/>
                </a:lnTo>
                <a:lnTo>
                  <a:pt x="140" y="422"/>
                </a:lnTo>
                <a:lnTo>
                  <a:pt x="138" y="412"/>
                </a:lnTo>
                <a:lnTo>
                  <a:pt x="134" y="405"/>
                </a:lnTo>
                <a:lnTo>
                  <a:pt x="132" y="393"/>
                </a:lnTo>
                <a:lnTo>
                  <a:pt x="131" y="382"/>
                </a:lnTo>
                <a:lnTo>
                  <a:pt x="129" y="370"/>
                </a:lnTo>
                <a:lnTo>
                  <a:pt x="127" y="357"/>
                </a:lnTo>
                <a:lnTo>
                  <a:pt x="123" y="343"/>
                </a:lnTo>
                <a:lnTo>
                  <a:pt x="121" y="328"/>
                </a:lnTo>
                <a:lnTo>
                  <a:pt x="119" y="312"/>
                </a:lnTo>
                <a:lnTo>
                  <a:pt x="117" y="295"/>
                </a:lnTo>
                <a:lnTo>
                  <a:pt x="115" y="278"/>
                </a:lnTo>
                <a:lnTo>
                  <a:pt x="111" y="259"/>
                </a:lnTo>
                <a:lnTo>
                  <a:pt x="109" y="239"/>
                </a:lnTo>
                <a:lnTo>
                  <a:pt x="108" y="220"/>
                </a:lnTo>
                <a:lnTo>
                  <a:pt x="104" y="201"/>
                </a:lnTo>
                <a:lnTo>
                  <a:pt x="100" y="182"/>
                </a:lnTo>
                <a:lnTo>
                  <a:pt x="96" y="165"/>
                </a:lnTo>
                <a:lnTo>
                  <a:pt x="92" y="147"/>
                </a:lnTo>
                <a:lnTo>
                  <a:pt x="86" y="132"/>
                </a:lnTo>
                <a:lnTo>
                  <a:pt x="79" y="117"/>
                </a:lnTo>
                <a:lnTo>
                  <a:pt x="73" y="101"/>
                </a:lnTo>
                <a:lnTo>
                  <a:pt x="65" y="88"/>
                </a:lnTo>
                <a:lnTo>
                  <a:pt x="58" y="74"/>
                </a:lnTo>
                <a:lnTo>
                  <a:pt x="50" y="61"/>
                </a:lnTo>
                <a:lnTo>
                  <a:pt x="40" y="49"/>
                </a:lnTo>
                <a:lnTo>
                  <a:pt x="31" y="40"/>
                </a:lnTo>
                <a:lnTo>
                  <a:pt x="21" y="30"/>
                </a:lnTo>
                <a:lnTo>
                  <a:pt x="10" y="21"/>
                </a:lnTo>
                <a:lnTo>
                  <a:pt x="0" y="13"/>
                </a:lnTo>
                <a:lnTo>
                  <a:pt x="84" y="5"/>
                </a:lnTo>
                <a:lnTo>
                  <a:pt x="171" y="0"/>
                </a:lnTo>
                <a:lnTo>
                  <a:pt x="190" y="126"/>
                </a:lnTo>
                <a:lnTo>
                  <a:pt x="207" y="253"/>
                </a:lnTo>
                <a:lnTo>
                  <a:pt x="246" y="5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94"/>
          <p:cNvSpPr/>
          <p:nvPr/>
        </p:nvSpPr>
        <p:spPr>
          <a:xfrm>
            <a:off x="6008760" y="3844800"/>
            <a:ext cx="234720" cy="185760"/>
          </a:xfrm>
          <a:custGeom>
            <a:avLst/>
            <a:gdLst/>
            <a:ahLst/>
            <a:rect l="l" t="t" r="r" b="b"/>
            <a:pathLst>
              <a:path w="296" h="234">
                <a:moveTo>
                  <a:pt x="0" y="0"/>
                </a:moveTo>
                <a:lnTo>
                  <a:pt x="25" y="0"/>
                </a:lnTo>
                <a:lnTo>
                  <a:pt x="48" y="0"/>
                </a:lnTo>
                <a:lnTo>
                  <a:pt x="71" y="0"/>
                </a:lnTo>
                <a:lnTo>
                  <a:pt x="91" y="2"/>
                </a:lnTo>
                <a:lnTo>
                  <a:pt x="110" y="4"/>
                </a:lnTo>
                <a:lnTo>
                  <a:pt x="129" y="6"/>
                </a:lnTo>
                <a:lnTo>
                  <a:pt x="146" y="8"/>
                </a:lnTo>
                <a:lnTo>
                  <a:pt x="162" y="12"/>
                </a:lnTo>
                <a:lnTo>
                  <a:pt x="175" y="14"/>
                </a:lnTo>
                <a:lnTo>
                  <a:pt x="188" y="17"/>
                </a:lnTo>
                <a:lnTo>
                  <a:pt x="202" y="23"/>
                </a:lnTo>
                <a:lnTo>
                  <a:pt x="211" y="27"/>
                </a:lnTo>
                <a:lnTo>
                  <a:pt x="223" y="33"/>
                </a:lnTo>
                <a:lnTo>
                  <a:pt x="231" y="39"/>
                </a:lnTo>
                <a:lnTo>
                  <a:pt x="240" y="44"/>
                </a:lnTo>
                <a:lnTo>
                  <a:pt x="248" y="52"/>
                </a:lnTo>
                <a:lnTo>
                  <a:pt x="254" y="60"/>
                </a:lnTo>
                <a:lnTo>
                  <a:pt x="259" y="67"/>
                </a:lnTo>
                <a:lnTo>
                  <a:pt x="265" y="75"/>
                </a:lnTo>
                <a:lnTo>
                  <a:pt x="271" y="81"/>
                </a:lnTo>
                <a:lnTo>
                  <a:pt x="275" y="87"/>
                </a:lnTo>
                <a:lnTo>
                  <a:pt x="279" y="94"/>
                </a:lnTo>
                <a:lnTo>
                  <a:pt x="284" y="106"/>
                </a:lnTo>
                <a:lnTo>
                  <a:pt x="290" y="119"/>
                </a:lnTo>
                <a:lnTo>
                  <a:pt x="294" y="133"/>
                </a:lnTo>
                <a:lnTo>
                  <a:pt x="296" y="146"/>
                </a:lnTo>
                <a:lnTo>
                  <a:pt x="296" y="159"/>
                </a:lnTo>
                <a:lnTo>
                  <a:pt x="296" y="167"/>
                </a:lnTo>
                <a:lnTo>
                  <a:pt x="296" y="173"/>
                </a:lnTo>
                <a:lnTo>
                  <a:pt x="296" y="179"/>
                </a:lnTo>
                <a:lnTo>
                  <a:pt x="296" y="184"/>
                </a:lnTo>
                <a:lnTo>
                  <a:pt x="296" y="194"/>
                </a:lnTo>
                <a:lnTo>
                  <a:pt x="294" y="204"/>
                </a:lnTo>
                <a:lnTo>
                  <a:pt x="292" y="209"/>
                </a:lnTo>
                <a:lnTo>
                  <a:pt x="290" y="217"/>
                </a:lnTo>
                <a:lnTo>
                  <a:pt x="288" y="221"/>
                </a:lnTo>
                <a:lnTo>
                  <a:pt x="284" y="227"/>
                </a:lnTo>
                <a:lnTo>
                  <a:pt x="281" y="229"/>
                </a:lnTo>
                <a:lnTo>
                  <a:pt x="279" y="230"/>
                </a:lnTo>
                <a:lnTo>
                  <a:pt x="275" y="232"/>
                </a:lnTo>
                <a:lnTo>
                  <a:pt x="271" y="234"/>
                </a:lnTo>
                <a:lnTo>
                  <a:pt x="265" y="234"/>
                </a:lnTo>
                <a:lnTo>
                  <a:pt x="259" y="234"/>
                </a:lnTo>
                <a:lnTo>
                  <a:pt x="254" y="234"/>
                </a:lnTo>
                <a:lnTo>
                  <a:pt x="248" y="234"/>
                </a:lnTo>
                <a:lnTo>
                  <a:pt x="242" y="232"/>
                </a:lnTo>
                <a:lnTo>
                  <a:pt x="235" y="230"/>
                </a:lnTo>
                <a:lnTo>
                  <a:pt x="227" y="227"/>
                </a:lnTo>
                <a:lnTo>
                  <a:pt x="219" y="223"/>
                </a:lnTo>
                <a:lnTo>
                  <a:pt x="211" y="219"/>
                </a:lnTo>
                <a:lnTo>
                  <a:pt x="204" y="213"/>
                </a:lnTo>
                <a:lnTo>
                  <a:pt x="194" y="207"/>
                </a:lnTo>
                <a:lnTo>
                  <a:pt x="187" y="200"/>
                </a:lnTo>
                <a:lnTo>
                  <a:pt x="175" y="192"/>
                </a:lnTo>
                <a:lnTo>
                  <a:pt x="162" y="183"/>
                </a:lnTo>
                <a:lnTo>
                  <a:pt x="150" y="175"/>
                </a:lnTo>
                <a:lnTo>
                  <a:pt x="139" y="165"/>
                </a:lnTo>
                <a:lnTo>
                  <a:pt x="127" y="154"/>
                </a:lnTo>
                <a:lnTo>
                  <a:pt x="115" y="144"/>
                </a:lnTo>
                <a:lnTo>
                  <a:pt x="104" y="133"/>
                </a:lnTo>
                <a:lnTo>
                  <a:pt x="92" y="119"/>
                </a:lnTo>
                <a:lnTo>
                  <a:pt x="81" y="108"/>
                </a:lnTo>
                <a:lnTo>
                  <a:pt x="69" y="94"/>
                </a:lnTo>
                <a:lnTo>
                  <a:pt x="58" y="79"/>
                </a:lnTo>
                <a:lnTo>
                  <a:pt x="46" y="65"/>
                </a:lnTo>
                <a:lnTo>
                  <a:pt x="35" y="50"/>
                </a:lnTo>
                <a:lnTo>
                  <a:pt x="23" y="33"/>
                </a:lnTo>
                <a:lnTo>
                  <a:pt x="12" y="1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95"/>
          <p:cNvSpPr/>
          <p:nvPr/>
        </p:nvSpPr>
        <p:spPr>
          <a:xfrm>
            <a:off x="5421240" y="3537000"/>
            <a:ext cx="598680" cy="1000080"/>
          </a:xfrm>
          <a:custGeom>
            <a:avLst/>
            <a:gdLst/>
            <a:ahLst/>
            <a:rect l="l" t="t" r="r" b="b"/>
            <a:pathLst>
              <a:path w="755" h="1260">
                <a:moveTo>
                  <a:pt x="632" y="0"/>
                </a:moveTo>
                <a:lnTo>
                  <a:pt x="663" y="23"/>
                </a:lnTo>
                <a:lnTo>
                  <a:pt x="693" y="47"/>
                </a:lnTo>
                <a:lnTo>
                  <a:pt x="755" y="93"/>
                </a:lnTo>
                <a:lnTo>
                  <a:pt x="741" y="141"/>
                </a:lnTo>
                <a:lnTo>
                  <a:pt x="726" y="187"/>
                </a:lnTo>
                <a:lnTo>
                  <a:pt x="711" y="233"/>
                </a:lnTo>
                <a:lnTo>
                  <a:pt x="695" y="279"/>
                </a:lnTo>
                <a:lnTo>
                  <a:pt x="678" y="323"/>
                </a:lnTo>
                <a:lnTo>
                  <a:pt x="661" y="367"/>
                </a:lnTo>
                <a:lnTo>
                  <a:pt x="642" y="411"/>
                </a:lnTo>
                <a:lnTo>
                  <a:pt x="624" y="453"/>
                </a:lnTo>
                <a:lnTo>
                  <a:pt x="603" y="496"/>
                </a:lnTo>
                <a:lnTo>
                  <a:pt x="584" y="538"/>
                </a:lnTo>
                <a:lnTo>
                  <a:pt x="563" y="578"/>
                </a:lnTo>
                <a:lnTo>
                  <a:pt x="542" y="618"/>
                </a:lnTo>
                <a:lnTo>
                  <a:pt x="519" y="659"/>
                </a:lnTo>
                <a:lnTo>
                  <a:pt x="496" y="699"/>
                </a:lnTo>
                <a:lnTo>
                  <a:pt x="471" y="737"/>
                </a:lnTo>
                <a:lnTo>
                  <a:pt x="448" y="776"/>
                </a:lnTo>
                <a:lnTo>
                  <a:pt x="423" y="812"/>
                </a:lnTo>
                <a:lnTo>
                  <a:pt x="398" y="847"/>
                </a:lnTo>
                <a:lnTo>
                  <a:pt x="375" y="881"/>
                </a:lnTo>
                <a:lnTo>
                  <a:pt x="354" y="914"/>
                </a:lnTo>
                <a:lnTo>
                  <a:pt x="331" y="945"/>
                </a:lnTo>
                <a:lnTo>
                  <a:pt x="309" y="974"/>
                </a:lnTo>
                <a:lnTo>
                  <a:pt x="290" y="1000"/>
                </a:lnTo>
                <a:lnTo>
                  <a:pt x="271" y="1025"/>
                </a:lnTo>
                <a:lnTo>
                  <a:pt x="252" y="1050"/>
                </a:lnTo>
                <a:lnTo>
                  <a:pt x="235" y="1073"/>
                </a:lnTo>
                <a:lnTo>
                  <a:pt x="215" y="1095"/>
                </a:lnTo>
                <a:lnTo>
                  <a:pt x="200" y="1114"/>
                </a:lnTo>
                <a:lnTo>
                  <a:pt x="183" y="1131"/>
                </a:lnTo>
                <a:lnTo>
                  <a:pt x="167" y="1148"/>
                </a:lnTo>
                <a:lnTo>
                  <a:pt x="154" y="1164"/>
                </a:lnTo>
                <a:lnTo>
                  <a:pt x="141" y="1177"/>
                </a:lnTo>
                <a:lnTo>
                  <a:pt x="123" y="1189"/>
                </a:lnTo>
                <a:lnTo>
                  <a:pt x="110" y="1200"/>
                </a:lnTo>
                <a:lnTo>
                  <a:pt x="96" y="1210"/>
                </a:lnTo>
                <a:lnTo>
                  <a:pt x="85" y="1219"/>
                </a:lnTo>
                <a:lnTo>
                  <a:pt x="73" y="1227"/>
                </a:lnTo>
                <a:lnTo>
                  <a:pt x="62" y="1235"/>
                </a:lnTo>
                <a:lnTo>
                  <a:pt x="52" y="1242"/>
                </a:lnTo>
                <a:lnTo>
                  <a:pt x="45" y="1246"/>
                </a:lnTo>
                <a:lnTo>
                  <a:pt x="37" y="1252"/>
                </a:lnTo>
                <a:lnTo>
                  <a:pt x="29" y="1256"/>
                </a:lnTo>
                <a:lnTo>
                  <a:pt x="23" y="1258"/>
                </a:lnTo>
                <a:lnTo>
                  <a:pt x="18" y="1260"/>
                </a:lnTo>
                <a:lnTo>
                  <a:pt x="14" y="1260"/>
                </a:lnTo>
                <a:lnTo>
                  <a:pt x="10" y="1260"/>
                </a:lnTo>
                <a:lnTo>
                  <a:pt x="6" y="1260"/>
                </a:lnTo>
                <a:lnTo>
                  <a:pt x="4" y="1258"/>
                </a:lnTo>
                <a:lnTo>
                  <a:pt x="2" y="1254"/>
                </a:lnTo>
                <a:lnTo>
                  <a:pt x="0" y="1252"/>
                </a:lnTo>
                <a:lnTo>
                  <a:pt x="0" y="1248"/>
                </a:lnTo>
                <a:lnTo>
                  <a:pt x="0" y="1244"/>
                </a:lnTo>
                <a:lnTo>
                  <a:pt x="0" y="1240"/>
                </a:lnTo>
                <a:lnTo>
                  <a:pt x="2" y="1235"/>
                </a:lnTo>
                <a:lnTo>
                  <a:pt x="4" y="1229"/>
                </a:lnTo>
                <a:lnTo>
                  <a:pt x="6" y="1223"/>
                </a:lnTo>
                <a:lnTo>
                  <a:pt x="10" y="1217"/>
                </a:lnTo>
                <a:lnTo>
                  <a:pt x="14" y="1210"/>
                </a:lnTo>
                <a:lnTo>
                  <a:pt x="18" y="1202"/>
                </a:lnTo>
                <a:lnTo>
                  <a:pt x="23" y="1192"/>
                </a:lnTo>
                <a:lnTo>
                  <a:pt x="29" y="1183"/>
                </a:lnTo>
                <a:lnTo>
                  <a:pt x="37" y="1173"/>
                </a:lnTo>
                <a:lnTo>
                  <a:pt x="45" y="1162"/>
                </a:lnTo>
                <a:lnTo>
                  <a:pt x="54" y="1150"/>
                </a:lnTo>
                <a:lnTo>
                  <a:pt x="62" y="1139"/>
                </a:lnTo>
                <a:lnTo>
                  <a:pt x="70" y="1127"/>
                </a:lnTo>
                <a:lnTo>
                  <a:pt x="79" y="1112"/>
                </a:lnTo>
                <a:lnTo>
                  <a:pt x="91" y="1096"/>
                </a:lnTo>
                <a:lnTo>
                  <a:pt x="102" y="1079"/>
                </a:lnTo>
                <a:lnTo>
                  <a:pt x="114" y="1062"/>
                </a:lnTo>
                <a:lnTo>
                  <a:pt x="129" y="1041"/>
                </a:lnTo>
                <a:lnTo>
                  <a:pt x="142" y="1020"/>
                </a:lnTo>
                <a:lnTo>
                  <a:pt x="158" y="997"/>
                </a:lnTo>
                <a:lnTo>
                  <a:pt x="175" y="972"/>
                </a:lnTo>
                <a:lnTo>
                  <a:pt x="192" y="945"/>
                </a:lnTo>
                <a:lnTo>
                  <a:pt x="210" y="916"/>
                </a:lnTo>
                <a:lnTo>
                  <a:pt x="229" y="887"/>
                </a:lnTo>
                <a:lnTo>
                  <a:pt x="248" y="856"/>
                </a:lnTo>
                <a:lnTo>
                  <a:pt x="267" y="822"/>
                </a:lnTo>
                <a:lnTo>
                  <a:pt x="286" y="789"/>
                </a:lnTo>
                <a:lnTo>
                  <a:pt x="298" y="772"/>
                </a:lnTo>
                <a:lnTo>
                  <a:pt x="308" y="755"/>
                </a:lnTo>
                <a:lnTo>
                  <a:pt x="319" y="737"/>
                </a:lnTo>
                <a:lnTo>
                  <a:pt x="329" y="718"/>
                </a:lnTo>
                <a:lnTo>
                  <a:pt x="340" y="699"/>
                </a:lnTo>
                <a:lnTo>
                  <a:pt x="350" y="680"/>
                </a:lnTo>
                <a:lnTo>
                  <a:pt x="361" y="661"/>
                </a:lnTo>
                <a:lnTo>
                  <a:pt x="371" y="640"/>
                </a:lnTo>
                <a:lnTo>
                  <a:pt x="382" y="620"/>
                </a:lnTo>
                <a:lnTo>
                  <a:pt x="394" y="597"/>
                </a:lnTo>
                <a:lnTo>
                  <a:pt x="404" y="576"/>
                </a:lnTo>
                <a:lnTo>
                  <a:pt x="415" y="553"/>
                </a:lnTo>
                <a:lnTo>
                  <a:pt x="427" y="530"/>
                </a:lnTo>
                <a:lnTo>
                  <a:pt x="438" y="507"/>
                </a:lnTo>
                <a:lnTo>
                  <a:pt x="448" y="484"/>
                </a:lnTo>
                <a:lnTo>
                  <a:pt x="459" y="459"/>
                </a:lnTo>
                <a:lnTo>
                  <a:pt x="471" y="434"/>
                </a:lnTo>
                <a:lnTo>
                  <a:pt x="482" y="409"/>
                </a:lnTo>
                <a:lnTo>
                  <a:pt x="492" y="382"/>
                </a:lnTo>
                <a:lnTo>
                  <a:pt x="503" y="356"/>
                </a:lnTo>
                <a:lnTo>
                  <a:pt x="515" y="329"/>
                </a:lnTo>
                <a:lnTo>
                  <a:pt x="524" y="302"/>
                </a:lnTo>
                <a:lnTo>
                  <a:pt x="536" y="273"/>
                </a:lnTo>
                <a:lnTo>
                  <a:pt x="547" y="246"/>
                </a:lnTo>
                <a:lnTo>
                  <a:pt x="557" y="215"/>
                </a:lnTo>
                <a:lnTo>
                  <a:pt x="569" y="187"/>
                </a:lnTo>
                <a:lnTo>
                  <a:pt x="580" y="156"/>
                </a:lnTo>
                <a:lnTo>
                  <a:pt x="590" y="127"/>
                </a:lnTo>
                <a:lnTo>
                  <a:pt x="601" y="94"/>
                </a:lnTo>
                <a:lnTo>
                  <a:pt x="611" y="64"/>
                </a:lnTo>
                <a:lnTo>
                  <a:pt x="620" y="31"/>
                </a:lnTo>
                <a:lnTo>
                  <a:pt x="632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96"/>
          <p:cNvSpPr/>
          <p:nvPr/>
        </p:nvSpPr>
        <p:spPr>
          <a:xfrm>
            <a:off x="5892840" y="2793960"/>
            <a:ext cx="230040" cy="2239920"/>
          </a:xfrm>
          <a:custGeom>
            <a:avLst/>
            <a:gdLst/>
            <a:ahLst/>
            <a:rect l="l" t="t" r="r" b="b"/>
            <a:pathLst>
              <a:path w="290" h="2821">
                <a:moveTo>
                  <a:pt x="23" y="67"/>
                </a:moveTo>
                <a:lnTo>
                  <a:pt x="20" y="59"/>
                </a:lnTo>
                <a:lnTo>
                  <a:pt x="16" y="52"/>
                </a:lnTo>
                <a:lnTo>
                  <a:pt x="14" y="46"/>
                </a:lnTo>
                <a:lnTo>
                  <a:pt x="12" y="40"/>
                </a:lnTo>
                <a:lnTo>
                  <a:pt x="12" y="36"/>
                </a:lnTo>
                <a:lnTo>
                  <a:pt x="12" y="30"/>
                </a:lnTo>
                <a:lnTo>
                  <a:pt x="12" y="27"/>
                </a:lnTo>
                <a:lnTo>
                  <a:pt x="14" y="23"/>
                </a:lnTo>
                <a:lnTo>
                  <a:pt x="16" y="19"/>
                </a:lnTo>
                <a:lnTo>
                  <a:pt x="18" y="15"/>
                </a:lnTo>
                <a:lnTo>
                  <a:pt x="22" y="13"/>
                </a:lnTo>
                <a:lnTo>
                  <a:pt x="25" y="9"/>
                </a:lnTo>
                <a:lnTo>
                  <a:pt x="31" y="7"/>
                </a:lnTo>
                <a:lnTo>
                  <a:pt x="37" y="4"/>
                </a:lnTo>
                <a:lnTo>
                  <a:pt x="43" y="2"/>
                </a:lnTo>
                <a:lnTo>
                  <a:pt x="48" y="0"/>
                </a:lnTo>
                <a:lnTo>
                  <a:pt x="62" y="0"/>
                </a:lnTo>
                <a:lnTo>
                  <a:pt x="77" y="2"/>
                </a:lnTo>
                <a:lnTo>
                  <a:pt x="91" y="4"/>
                </a:lnTo>
                <a:lnTo>
                  <a:pt x="106" y="7"/>
                </a:lnTo>
                <a:lnTo>
                  <a:pt x="121" y="11"/>
                </a:lnTo>
                <a:lnTo>
                  <a:pt x="137" y="15"/>
                </a:lnTo>
                <a:lnTo>
                  <a:pt x="154" y="21"/>
                </a:lnTo>
                <a:lnTo>
                  <a:pt x="171" y="27"/>
                </a:lnTo>
                <a:lnTo>
                  <a:pt x="190" y="32"/>
                </a:lnTo>
                <a:lnTo>
                  <a:pt x="206" y="38"/>
                </a:lnTo>
                <a:lnTo>
                  <a:pt x="221" y="46"/>
                </a:lnTo>
                <a:lnTo>
                  <a:pt x="237" y="54"/>
                </a:lnTo>
                <a:lnTo>
                  <a:pt x="250" y="63"/>
                </a:lnTo>
                <a:lnTo>
                  <a:pt x="261" y="73"/>
                </a:lnTo>
                <a:lnTo>
                  <a:pt x="273" y="82"/>
                </a:lnTo>
                <a:lnTo>
                  <a:pt x="283" y="94"/>
                </a:lnTo>
                <a:lnTo>
                  <a:pt x="285" y="98"/>
                </a:lnTo>
                <a:lnTo>
                  <a:pt x="286" y="105"/>
                </a:lnTo>
                <a:lnTo>
                  <a:pt x="288" y="113"/>
                </a:lnTo>
                <a:lnTo>
                  <a:pt x="288" y="123"/>
                </a:lnTo>
                <a:lnTo>
                  <a:pt x="290" y="134"/>
                </a:lnTo>
                <a:lnTo>
                  <a:pt x="290" y="146"/>
                </a:lnTo>
                <a:lnTo>
                  <a:pt x="290" y="159"/>
                </a:lnTo>
                <a:lnTo>
                  <a:pt x="290" y="173"/>
                </a:lnTo>
                <a:lnTo>
                  <a:pt x="290" y="188"/>
                </a:lnTo>
                <a:lnTo>
                  <a:pt x="290" y="205"/>
                </a:lnTo>
                <a:lnTo>
                  <a:pt x="290" y="224"/>
                </a:lnTo>
                <a:lnTo>
                  <a:pt x="288" y="244"/>
                </a:lnTo>
                <a:lnTo>
                  <a:pt x="288" y="263"/>
                </a:lnTo>
                <a:lnTo>
                  <a:pt x="286" y="286"/>
                </a:lnTo>
                <a:lnTo>
                  <a:pt x="285" y="309"/>
                </a:lnTo>
                <a:lnTo>
                  <a:pt x="283" y="334"/>
                </a:lnTo>
                <a:lnTo>
                  <a:pt x="281" y="359"/>
                </a:lnTo>
                <a:lnTo>
                  <a:pt x="277" y="387"/>
                </a:lnTo>
                <a:lnTo>
                  <a:pt x="275" y="416"/>
                </a:lnTo>
                <a:lnTo>
                  <a:pt x="271" y="447"/>
                </a:lnTo>
                <a:lnTo>
                  <a:pt x="267" y="478"/>
                </a:lnTo>
                <a:lnTo>
                  <a:pt x="265" y="512"/>
                </a:lnTo>
                <a:lnTo>
                  <a:pt x="261" y="547"/>
                </a:lnTo>
                <a:lnTo>
                  <a:pt x="258" y="583"/>
                </a:lnTo>
                <a:lnTo>
                  <a:pt x="254" y="624"/>
                </a:lnTo>
                <a:lnTo>
                  <a:pt x="250" y="662"/>
                </a:lnTo>
                <a:lnTo>
                  <a:pt x="248" y="704"/>
                </a:lnTo>
                <a:lnTo>
                  <a:pt x="244" y="746"/>
                </a:lnTo>
                <a:lnTo>
                  <a:pt x="240" y="792"/>
                </a:lnTo>
                <a:lnTo>
                  <a:pt x="238" y="839"/>
                </a:lnTo>
                <a:lnTo>
                  <a:pt x="237" y="887"/>
                </a:lnTo>
                <a:lnTo>
                  <a:pt x="233" y="936"/>
                </a:lnTo>
                <a:lnTo>
                  <a:pt x="229" y="988"/>
                </a:lnTo>
                <a:lnTo>
                  <a:pt x="225" y="1044"/>
                </a:lnTo>
                <a:lnTo>
                  <a:pt x="221" y="1100"/>
                </a:lnTo>
                <a:lnTo>
                  <a:pt x="217" y="1157"/>
                </a:lnTo>
                <a:lnTo>
                  <a:pt x="214" y="1215"/>
                </a:lnTo>
                <a:lnTo>
                  <a:pt x="212" y="1274"/>
                </a:lnTo>
                <a:lnTo>
                  <a:pt x="208" y="1336"/>
                </a:lnTo>
                <a:lnTo>
                  <a:pt x="206" y="1399"/>
                </a:lnTo>
                <a:lnTo>
                  <a:pt x="204" y="1462"/>
                </a:lnTo>
                <a:lnTo>
                  <a:pt x="202" y="1528"/>
                </a:lnTo>
                <a:lnTo>
                  <a:pt x="200" y="1595"/>
                </a:lnTo>
                <a:lnTo>
                  <a:pt x="198" y="1664"/>
                </a:lnTo>
                <a:lnTo>
                  <a:pt x="198" y="1733"/>
                </a:lnTo>
                <a:lnTo>
                  <a:pt x="196" y="1804"/>
                </a:lnTo>
                <a:lnTo>
                  <a:pt x="196" y="1877"/>
                </a:lnTo>
                <a:lnTo>
                  <a:pt x="196" y="1952"/>
                </a:lnTo>
                <a:lnTo>
                  <a:pt x="194" y="1990"/>
                </a:lnTo>
                <a:lnTo>
                  <a:pt x="194" y="2027"/>
                </a:lnTo>
                <a:lnTo>
                  <a:pt x="192" y="2063"/>
                </a:lnTo>
                <a:lnTo>
                  <a:pt x="192" y="2100"/>
                </a:lnTo>
                <a:lnTo>
                  <a:pt x="190" y="2134"/>
                </a:lnTo>
                <a:lnTo>
                  <a:pt x="189" y="2167"/>
                </a:lnTo>
                <a:lnTo>
                  <a:pt x="189" y="2199"/>
                </a:lnTo>
                <a:lnTo>
                  <a:pt x="187" y="2230"/>
                </a:lnTo>
                <a:lnTo>
                  <a:pt x="187" y="2261"/>
                </a:lnTo>
                <a:lnTo>
                  <a:pt x="185" y="2290"/>
                </a:lnTo>
                <a:lnTo>
                  <a:pt x="183" y="2318"/>
                </a:lnTo>
                <a:lnTo>
                  <a:pt x="181" y="2347"/>
                </a:lnTo>
                <a:lnTo>
                  <a:pt x="181" y="2372"/>
                </a:lnTo>
                <a:lnTo>
                  <a:pt x="179" y="2399"/>
                </a:lnTo>
                <a:lnTo>
                  <a:pt x="177" y="2424"/>
                </a:lnTo>
                <a:lnTo>
                  <a:pt x="177" y="2447"/>
                </a:lnTo>
                <a:lnTo>
                  <a:pt x="175" y="2470"/>
                </a:lnTo>
                <a:lnTo>
                  <a:pt x="173" y="2491"/>
                </a:lnTo>
                <a:lnTo>
                  <a:pt x="171" y="2512"/>
                </a:lnTo>
                <a:lnTo>
                  <a:pt x="169" y="2531"/>
                </a:lnTo>
                <a:lnTo>
                  <a:pt x="169" y="2551"/>
                </a:lnTo>
                <a:lnTo>
                  <a:pt x="167" y="2570"/>
                </a:lnTo>
                <a:lnTo>
                  <a:pt x="166" y="2587"/>
                </a:lnTo>
                <a:lnTo>
                  <a:pt x="164" y="2602"/>
                </a:lnTo>
                <a:lnTo>
                  <a:pt x="162" y="2618"/>
                </a:lnTo>
                <a:lnTo>
                  <a:pt x="160" y="2633"/>
                </a:lnTo>
                <a:lnTo>
                  <a:pt x="158" y="2647"/>
                </a:lnTo>
                <a:lnTo>
                  <a:pt x="156" y="2658"/>
                </a:lnTo>
                <a:lnTo>
                  <a:pt x="154" y="2672"/>
                </a:lnTo>
                <a:lnTo>
                  <a:pt x="152" y="2681"/>
                </a:lnTo>
                <a:lnTo>
                  <a:pt x="148" y="2691"/>
                </a:lnTo>
                <a:lnTo>
                  <a:pt x="146" y="2700"/>
                </a:lnTo>
                <a:lnTo>
                  <a:pt x="141" y="2716"/>
                </a:lnTo>
                <a:lnTo>
                  <a:pt x="135" y="2729"/>
                </a:lnTo>
                <a:lnTo>
                  <a:pt x="129" y="2743"/>
                </a:lnTo>
                <a:lnTo>
                  <a:pt x="123" y="2754"/>
                </a:lnTo>
                <a:lnTo>
                  <a:pt x="119" y="2764"/>
                </a:lnTo>
                <a:lnTo>
                  <a:pt x="116" y="2775"/>
                </a:lnTo>
                <a:lnTo>
                  <a:pt x="112" y="2783"/>
                </a:lnTo>
                <a:lnTo>
                  <a:pt x="108" y="2791"/>
                </a:lnTo>
                <a:lnTo>
                  <a:pt x="104" y="2798"/>
                </a:lnTo>
                <a:lnTo>
                  <a:pt x="100" y="2804"/>
                </a:lnTo>
                <a:lnTo>
                  <a:pt x="98" y="2810"/>
                </a:lnTo>
                <a:lnTo>
                  <a:pt x="95" y="2814"/>
                </a:lnTo>
                <a:lnTo>
                  <a:pt x="93" y="2817"/>
                </a:lnTo>
                <a:lnTo>
                  <a:pt x="91" y="2819"/>
                </a:lnTo>
                <a:lnTo>
                  <a:pt x="87" y="2821"/>
                </a:lnTo>
                <a:lnTo>
                  <a:pt x="85" y="2821"/>
                </a:lnTo>
                <a:lnTo>
                  <a:pt x="83" y="2821"/>
                </a:lnTo>
                <a:lnTo>
                  <a:pt x="81" y="2819"/>
                </a:lnTo>
                <a:lnTo>
                  <a:pt x="77" y="2816"/>
                </a:lnTo>
                <a:lnTo>
                  <a:pt x="75" y="2812"/>
                </a:lnTo>
                <a:lnTo>
                  <a:pt x="71" y="2806"/>
                </a:lnTo>
                <a:lnTo>
                  <a:pt x="68" y="2798"/>
                </a:lnTo>
                <a:lnTo>
                  <a:pt x="64" y="2791"/>
                </a:lnTo>
                <a:lnTo>
                  <a:pt x="62" y="2781"/>
                </a:lnTo>
                <a:lnTo>
                  <a:pt x="58" y="2769"/>
                </a:lnTo>
                <a:lnTo>
                  <a:pt x="54" y="2758"/>
                </a:lnTo>
                <a:lnTo>
                  <a:pt x="50" y="2745"/>
                </a:lnTo>
                <a:lnTo>
                  <a:pt x="48" y="2731"/>
                </a:lnTo>
                <a:lnTo>
                  <a:pt x="45" y="2716"/>
                </a:lnTo>
                <a:lnTo>
                  <a:pt x="41" y="2698"/>
                </a:lnTo>
                <a:lnTo>
                  <a:pt x="39" y="2679"/>
                </a:lnTo>
                <a:lnTo>
                  <a:pt x="37" y="2660"/>
                </a:lnTo>
                <a:lnTo>
                  <a:pt x="31" y="2641"/>
                </a:lnTo>
                <a:lnTo>
                  <a:pt x="27" y="2622"/>
                </a:lnTo>
                <a:lnTo>
                  <a:pt x="23" y="2602"/>
                </a:lnTo>
                <a:lnTo>
                  <a:pt x="20" y="2585"/>
                </a:lnTo>
                <a:lnTo>
                  <a:pt x="18" y="2568"/>
                </a:lnTo>
                <a:lnTo>
                  <a:pt x="14" y="2551"/>
                </a:lnTo>
                <a:lnTo>
                  <a:pt x="12" y="2535"/>
                </a:lnTo>
                <a:lnTo>
                  <a:pt x="8" y="2520"/>
                </a:lnTo>
                <a:lnTo>
                  <a:pt x="6" y="2505"/>
                </a:lnTo>
                <a:lnTo>
                  <a:pt x="4" y="2491"/>
                </a:lnTo>
                <a:lnTo>
                  <a:pt x="2" y="2478"/>
                </a:lnTo>
                <a:lnTo>
                  <a:pt x="2" y="2464"/>
                </a:lnTo>
                <a:lnTo>
                  <a:pt x="0" y="2453"/>
                </a:lnTo>
                <a:lnTo>
                  <a:pt x="0" y="2441"/>
                </a:lnTo>
                <a:lnTo>
                  <a:pt x="0" y="2430"/>
                </a:lnTo>
                <a:lnTo>
                  <a:pt x="0" y="2420"/>
                </a:lnTo>
                <a:lnTo>
                  <a:pt x="0" y="2412"/>
                </a:lnTo>
                <a:lnTo>
                  <a:pt x="0" y="2403"/>
                </a:lnTo>
                <a:lnTo>
                  <a:pt x="0" y="2393"/>
                </a:lnTo>
                <a:lnTo>
                  <a:pt x="2" y="2382"/>
                </a:lnTo>
                <a:lnTo>
                  <a:pt x="2" y="2370"/>
                </a:lnTo>
                <a:lnTo>
                  <a:pt x="4" y="2359"/>
                </a:lnTo>
                <a:lnTo>
                  <a:pt x="6" y="2345"/>
                </a:lnTo>
                <a:lnTo>
                  <a:pt x="8" y="2332"/>
                </a:lnTo>
                <a:lnTo>
                  <a:pt x="8" y="2316"/>
                </a:lnTo>
                <a:lnTo>
                  <a:pt x="10" y="2301"/>
                </a:lnTo>
                <a:lnTo>
                  <a:pt x="14" y="2284"/>
                </a:lnTo>
                <a:lnTo>
                  <a:pt x="16" y="2269"/>
                </a:lnTo>
                <a:lnTo>
                  <a:pt x="18" y="2249"/>
                </a:lnTo>
                <a:lnTo>
                  <a:pt x="20" y="2232"/>
                </a:lnTo>
                <a:lnTo>
                  <a:pt x="22" y="2213"/>
                </a:lnTo>
                <a:lnTo>
                  <a:pt x="23" y="2194"/>
                </a:lnTo>
                <a:lnTo>
                  <a:pt x="25" y="2173"/>
                </a:lnTo>
                <a:lnTo>
                  <a:pt x="29" y="2151"/>
                </a:lnTo>
                <a:lnTo>
                  <a:pt x="31" y="2128"/>
                </a:lnTo>
                <a:lnTo>
                  <a:pt x="33" y="2105"/>
                </a:lnTo>
                <a:lnTo>
                  <a:pt x="35" y="2080"/>
                </a:lnTo>
                <a:lnTo>
                  <a:pt x="37" y="2055"/>
                </a:lnTo>
                <a:lnTo>
                  <a:pt x="41" y="2031"/>
                </a:lnTo>
                <a:lnTo>
                  <a:pt x="43" y="2004"/>
                </a:lnTo>
                <a:lnTo>
                  <a:pt x="45" y="1977"/>
                </a:lnTo>
                <a:lnTo>
                  <a:pt x="47" y="1948"/>
                </a:lnTo>
                <a:lnTo>
                  <a:pt x="50" y="1919"/>
                </a:lnTo>
                <a:lnTo>
                  <a:pt x="52" y="1890"/>
                </a:lnTo>
                <a:lnTo>
                  <a:pt x="54" y="1860"/>
                </a:lnTo>
                <a:lnTo>
                  <a:pt x="56" y="1829"/>
                </a:lnTo>
                <a:lnTo>
                  <a:pt x="58" y="1796"/>
                </a:lnTo>
                <a:lnTo>
                  <a:pt x="62" y="1766"/>
                </a:lnTo>
                <a:lnTo>
                  <a:pt x="64" y="1733"/>
                </a:lnTo>
                <a:lnTo>
                  <a:pt x="66" y="1700"/>
                </a:lnTo>
                <a:lnTo>
                  <a:pt x="66" y="1670"/>
                </a:lnTo>
                <a:lnTo>
                  <a:pt x="68" y="1639"/>
                </a:lnTo>
                <a:lnTo>
                  <a:pt x="70" y="1608"/>
                </a:lnTo>
                <a:lnTo>
                  <a:pt x="71" y="1579"/>
                </a:lnTo>
                <a:lnTo>
                  <a:pt x="71" y="1551"/>
                </a:lnTo>
                <a:lnTo>
                  <a:pt x="73" y="1522"/>
                </a:lnTo>
                <a:lnTo>
                  <a:pt x="75" y="1466"/>
                </a:lnTo>
                <a:lnTo>
                  <a:pt x="79" y="1412"/>
                </a:lnTo>
                <a:lnTo>
                  <a:pt x="81" y="1361"/>
                </a:lnTo>
                <a:lnTo>
                  <a:pt x="85" y="1311"/>
                </a:lnTo>
                <a:lnTo>
                  <a:pt x="85" y="1259"/>
                </a:lnTo>
                <a:lnTo>
                  <a:pt x="85" y="1207"/>
                </a:lnTo>
                <a:lnTo>
                  <a:pt x="87" y="1153"/>
                </a:lnTo>
                <a:lnTo>
                  <a:pt x="87" y="1098"/>
                </a:lnTo>
                <a:lnTo>
                  <a:pt x="89" y="1069"/>
                </a:lnTo>
                <a:lnTo>
                  <a:pt x="89" y="1040"/>
                </a:lnTo>
                <a:lnTo>
                  <a:pt x="89" y="1011"/>
                </a:lnTo>
                <a:lnTo>
                  <a:pt x="91" y="981"/>
                </a:lnTo>
                <a:lnTo>
                  <a:pt x="93" y="950"/>
                </a:lnTo>
                <a:lnTo>
                  <a:pt x="95" y="919"/>
                </a:lnTo>
                <a:lnTo>
                  <a:pt x="96" y="887"/>
                </a:lnTo>
                <a:lnTo>
                  <a:pt x="98" y="856"/>
                </a:lnTo>
                <a:lnTo>
                  <a:pt x="100" y="823"/>
                </a:lnTo>
                <a:lnTo>
                  <a:pt x="102" y="792"/>
                </a:lnTo>
                <a:lnTo>
                  <a:pt x="104" y="762"/>
                </a:lnTo>
                <a:lnTo>
                  <a:pt x="104" y="731"/>
                </a:lnTo>
                <a:lnTo>
                  <a:pt x="106" y="702"/>
                </a:lnTo>
                <a:lnTo>
                  <a:pt x="106" y="675"/>
                </a:lnTo>
                <a:lnTo>
                  <a:pt x="106" y="649"/>
                </a:lnTo>
                <a:lnTo>
                  <a:pt x="106" y="622"/>
                </a:lnTo>
                <a:lnTo>
                  <a:pt x="106" y="595"/>
                </a:lnTo>
                <a:lnTo>
                  <a:pt x="106" y="570"/>
                </a:lnTo>
                <a:lnTo>
                  <a:pt x="106" y="545"/>
                </a:lnTo>
                <a:lnTo>
                  <a:pt x="104" y="520"/>
                </a:lnTo>
                <a:lnTo>
                  <a:pt x="102" y="472"/>
                </a:lnTo>
                <a:lnTo>
                  <a:pt x="98" y="428"/>
                </a:lnTo>
                <a:lnTo>
                  <a:pt x="96" y="405"/>
                </a:lnTo>
                <a:lnTo>
                  <a:pt x="95" y="384"/>
                </a:lnTo>
                <a:lnTo>
                  <a:pt x="93" y="363"/>
                </a:lnTo>
                <a:lnTo>
                  <a:pt x="91" y="343"/>
                </a:lnTo>
                <a:lnTo>
                  <a:pt x="89" y="326"/>
                </a:lnTo>
                <a:lnTo>
                  <a:pt x="89" y="309"/>
                </a:lnTo>
                <a:lnTo>
                  <a:pt x="89" y="292"/>
                </a:lnTo>
                <a:lnTo>
                  <a:pt x="87" y="276"/>
                </a:lnTo>
                <a:lnTo>
                  <a:pt x="87" y="263"/>
                </a:lnTo>
                <a:lnTo>
                  <a:pt x="87" y="247"/>
                </a:lnTo>
                <a:lnTo>
                  <a:pt x="87" y="236"/>
                </a:lnTo>
                <a:lnTo>
                  <a:pt x="85" y="224"/>
                </a:lnTo>
                <a:lnTo>
                  <a:pt x="85" y="213"/>
                </a:lnTo>
                <a:lnTo>
                  <a:pt x="85" y="203"/>
                </a:lnTo>
                <a:lnTo>
                  <a:pt x="85" y="194"/>
                </a:lnTo>
                <a:lnTo>
                  <a:pt x="85" y="186"/>
                </a:lnTo>
                <a:lnTo>
                  <a:pt x="81" y="171"/>
                </a:lnTo>
                <a:lnTo>
                  <a:pt x="75" y="157"/>
                </a:lnTo>
                <a:lnTo>
                  <a:pt x="70" y="142"/>
                </a:lnTo>
                <a:lnTo>
                  <a:pt x="64" y="126"/>
                </a:lnTo>
                <a:lnTo>
                  <a:pt x="56" y="111"/>
                </a:lnTo>
                <a:lnTo>
                  <a:pt x="47" y="96"/>
                </a:lnTo>
                <a:lnTo>
                  <a:pt x="43" y="88"/>
                </a:lnTo>
                <a:lnTo>
                  <a:pt x="37" y="80"/>
                </a:lnTo>
                <a:lnTo>
                  <a:pt x="31" y="73"/>
                </a:lnTo>
                <a:lnTo>
                  <a:pt x="23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97"/>
          <p:cNvSpPr/>
          <p:nvPr/>
        </p:nvSpPr>
        <p:spPr>
          <a:xfrm>
            <a:off x="5548320" y="3419640"/>
            <a:ext cx="760320" cy="255600"/>
          </a:xfrm>
          <a:custGeom>
            <a:avLst/>
            <a:gdLst/>
            <a:ahLst/>
            <a:rect l="l" t="t" r="r" b="b"/>
            <a:pathLst>
              <a:path w="957" h="320">
                <a:moveTo>
                  <a:pt x="186" y="320"/>
                </a:moveTo>
                <a:lnTo>
                  <a:pt x="172" y="320"/>
                </a:lnTo>
                <a:lnTo>
                  <a:pt x="157" y="318"/>
                </a:lnTo>
                <a:lnTo>
                  <a:pt x="142" y="314"/>
                </a:lnTo>
                <a:lnTo>
                  <a:pt x="124" y="311"/>
                </a:lnTo>
                <a:lnTo>
                  <a:pt x="109" y="305"/>
                </a:lnTo>
                <a:lnTo>
                  <a:pt x="94" y="297"/>
                </a:lnTo>
                <a:lnTo>
                  <a:pt x="78" y="289"/>
                </a:lnTo>
                <a:lnTo>
                  <a:pt x="63" y="280"/>
                </a:lnTo>
                <a:lnTo>
                  <a:pt x="50" y="274"/>
                </a:lnTo>
                <a:lnTo>
                  <a:pt x="38" y="268"/>
                </a:lnTo>
                <a:lnTo>
                  <a:pt x="28" y="261"/>
                </a:lnTo>
                <a:lnTo>
                  <a:pt x="19" y="253"/>
                </a:lnTo>
                <a:lnTo>
                  <a:pt x="11" y="245"/>
                </a:lnTo>
                <a:lnTo>
                  <a:pt x="9" y="241"/>
                </a:lnTo>
                <a:lnTo>
                  <a:pt x="7" y="240"/>
                </a:lnTo>
                <a:lnTo>
                  <a:pt x="5" y="236"/>
                </a:lnTo>
                <a:lnTo>
                  <a:pt x="4" y="232"/>
                </a:lnTo>
                <a:lnTo>
                  <a:pt x="2" y="230"/>
                </a:lnTo>
                <a:lnTo>
                  <a:pt x="2" y="226"/>
                </a:lnTo>
                <a:lnTo>
                  <a:pt x="0" y="224"/>
                </a:lnTo>
                <a:lnTo>
                  <a:pt x="0" y="222"/>
                </a:lnTo>
                <a:lnTo>
                  <a:pt x="2" y="218"/>
                </a:lnTo>
                <a:lnTo>
                  <a:pt x="4" y="217"/>
                </a:lnTo>
                <a:lnTo>
                  <a:pt x="7" y="215"/>
                </a:lnTo>
                <a:lnTo>
                  <a:pt x="13" y="211"/>
                </a:lnTo>
                <a:lnTo>
                  <a:pt x="19" y="209"/>
                </a:lnTo>
                <a:lnTo>
                  <a:pt x="27" y="205"/>
                </a:lnTo>
                <a:lnTo>
                  <a:pt x="36" y="201"/>
                </a:lnTo>
                <a:lnTo>
                  <a:pt x="46" y="199"/>
                </a:lnTo>
                <a:lnTo>
                  <a:pt x="55" y="195"/>
                </a:lnTo>
                <a:lnTo>
                  <a:pt x="69" y="192"/>
                </a:lnTo>
                <a:lnTo>
                  <a:pt x="80" y="188"/>
                </a:lnTo>
                <a:lnTo>
                  <a:pt x="94" y="182"/>
                </a:lnTo>
                <a:lnTo>
                  <a:pt x="109" y="178"/>
                </a:lnTo>
                <a:lnTo>
                  <a:pt x="124" y="172"/>
                </a:lnTo>
                <a:lnTo>
                  <a:pt x="142" y="170"/>
                </a:lnTo>
                <a:lnTo>
                  <a:pt x="159" y="167"/>
                </a:lnTo>
                <a:lnTo>
                  <a:pt x="178" y="163"/>
                </a:lnTo>
                <a:lnTo>
                  <a:pt x="197" y="159"/>
                </a:lnTo>
                <a:lnTo>
                  <a:pt x="217" y="153"/>
                </a:lnTo>
                <a:lnTo>
                  <a:pt x="238" y="147"/>
                </a:lnTo>
                <a:lnTo>
                  <a:pt x="259" y="142"/>
                </a:lnTo>
                <a:lnTo>
                  <a:pt x="282" y="134"/>
                </a:lnTo>
                <a:lnTo>
                  <a:pt x="305" y="128"/>
                </a:lnTo>
                <a:lnTo>
                  <a:pt x="330" y="121"/>
                </a:lnTo>
                <a:lnTo>
                  <a:pt x="355" y="113"/>
                </a:lnTo>
                <a:lnTo>
                  <a:pt x="382" y="103"/>
                </a:lnTo>
                <a:lnTo>
                  <a:pt x="409" y="96"/>
                </a:lnTo>
                <a:lnTo>
                  <a:pt x="435" y="86"/>
                </a:lnTo>
                <a:lnTo>
                  <a:pt x="464" y="76"/>
                </a:lnTo>
                <a:lnTo>
                  <a:pt x="495" y="67"/>
                </a:lnTo>
                <a:lnTo>
                  <a:pt x="524" y="59"/>
                </a:lnTo>
                <a:lnTo>
                  <a:pt x="552" y="51"/>
                </a:lnTo>
                <a:lnTo>
                  <a:pt x="579" y="44"/>
                </a:lnTo>
                <a:lnTo>
                  <a:pt x="604" y="38"/>
                </a:lnTo>
                <a:lnTo>
                  <a:pt x="629" y="32"/>
                </a:lnTo>
                <a:lnTo>
                  <a:pt x="652" y="27"/>
                </a:lnTo>
                <a:lnTo>
                  <a:pt x="675" y="23"/>
                </a:lnTo>
                <a:lnTo>
                  <a:pt x="696" y="17"/>
                </a:lnTo>
                <a:lnTo>
                  <a:pt x="718" y="13"/>
                </a:lnTo>
                <a:lnTo>
                  <a:pt x="737" y="9"/>
                </a:lnTo>
                <a:lnTo>
                  <a:pt x="754" y="7"/>
                </a:lnTo>
                <a:lnTo>
                  <a:pt x="771" y="3"/>
                </a:lnTo>
                <a:lnTo>
                  <a:pt x="787" y="2"/>
                </a:lnTo>
                <a:lnTo>
                  <a:pt x="800" y="0"/>
                </a:lnTo>
                <a:lnTo>
                  <a:pt x="814" y="0"/>
                </a:lnTo>
                <a:lnTo>
                  <a:pt x="827" y="0"/>
                </a:lnTo>
                <a:lnTo>
                  <a:pt x="837" y="0"/>
                </a:lnTo>
                <a:lnTo>
                  <a:pt x="848" y="0"/>
                </a:lnTo>
                <a:lnTo>
                  <a:pt x="858" y="0"/>
                </a:lnTo>
                <a:lnTo>
                  <a:pt x="867" y="2"/>
                </a:lnTo>
                <a:lnTo>
                  <a:pt x="877" y="3"/>
                </a:lnTo>
                <a:lnTo>
                  <a:pt x="885" y="3"/>
                </a:lnTo>
                <a:lnTo>
                  <a:pt x="902" y="7"/>
                </a:lnTo>
                <a:lnTo>
                  <a:pt x="915" y="11"/>
                </a:lnTo>
                <a:lnTo>
                  <a:pt x="929" y="17"/>
                </a:lnTo>
                <a:lnTo>
                  <a:pt x="938" y="21"/>
                </a:lnTo>
                <a:lnTo>
                  <a:pt x="950" y="27"/>
                </a:lnTo>
                <a:lnTo>
                  <a:pt x="954" y="36"/>
                </a:lnTo>
                <a:lnTo>
                  <a:pt x="956" y="46"/>
                </a:lnTo>
                <a:lnTo>
                  <a:pt x="957" y="55"/>
                </a:lnTo>
                <a:lnTo>
                  <a:pt x="957" y="67"/>
                </a:lnTo>
                <a:lnTo>
                  <a:pt x="957" y="76"/>
                </a:lnTo>
                <a:lnTo>
                  <a:pt x="956" y="86"/>
                </a:lnTo>
                <a:lnTo>
                  <a:pt x="954" y="96"/>
                </a:lnTo>
                <a:lnTo>
                  <a:pt x="950" y="107"/>
                </a:lnTo>
                <a:lnTo>
                  <a:pt x="944" y="111"/>
                </a:lnTo>
                <a:lnTo>
                  <a:pt x="938" y="117"/>
                </a:lnTo>
                <a:lnTo>
                  <a:pt x="931" y="121"/>
                </a:lnTo>
                <a:lnTo>
                  <a:pt x="921" y="126"/>
                </a:lnTo>
                <a:lnTo>
                  <a:pt x="911" y="132"/>
                </a:lnTo>
                <a:lnTo>
                  <a:pt x="900" y="136"/>
                </a:lnTo>
                <a:lnTo>
                  <a:pt x="886" y="142"/>
                </a:lnTo>
                <a:lnTo>
                  <a:pt x="873" y="147"/>
                </a:lnTo>
                <a:lnTo>
                  <a:pt x="858" y="153"/>
                </a:lnTo>
                <a:lnTo>
                  <a:pt x="842" y="159"/>
                </a:lnTo>
                <a:lnTo>
                  <a:pt x="825" y="165"/>
                </a:lnTo>
                <a:lnTo>
                  <a:pt x="806" y="172"/>
                </a:lnTo>
                <a:lnTo>
                  <a:pt x="785" y="178"/>
                </a:lnTo>
                <a:lnTo>
                  <a:pt x="764" y="186"/>
                </a:lnTo>
                <a:lnTo>
                  <a:pt x="741" y="192"/>
                </a:lnTo>
                <a:lnTo>
                  <a:pt x="716" y="199"/>
                </a:lnTo>
                <a:lnTo>
                  <a:pt x="691" y="207"/>
                </a:lnTo>
                <a:lnTo>
                  <a:pt x="666" y="215"/>
                </a:lnTo>
                <a:lnTo>
                  <a:pt x="643" y="220"/>
                </a:lnTo>
                <a:lnTo>
                  <a:pt x="618" y="228"/>
                </a:lnTo>
                <a:lnTo>
                  <a:pt x="597" y="234"/>
                </a:lnTo>
                <a:lnTo>
                  <a:pt x="574" y="240"/>
                </a:lnTo>
                <a:lnTo>
                  <a:pt x="552" y="245"/>
                </a:lnTo>
                <a:lnTo>
                  <a:pt x="531" y="249"/>
                </a:lnTo>
                <a:lnTo>
                  <a:pt x="510" y="255"/>
                </a:lnTo>
                <a:lnTo>
                  <a:pt x="491" y="259"/>
                </a:lnTo>
                <a:lnTo>
                  <a:pt x="472" y="265"/>
                </a:lnTo>
                <a:lnTo>
                  <a:pt x="453" y="268"/>
                </a:lnTo>
                <a:lnTo>
                  <a:pt x="433" y="270"/>
                </a:lnTo>
                <a:lnTo>
                  <a:pt x="416" y="274"/>
                </a:lnTo>
                <a:lnTo>
                  <a:pt x="399" y="278"/>
                </a:lnTo>
                <a:lnTo>
                  <a:pt x="384" y="280"/>
                </a:lnTo>
                <a:lnTo>
                  <a:pt x="351" y="289"/>
                </a:lnTo>
                <a:lnTo>
                  <a:pt x="322" y="297"/>
                </a:lnTo>
                <a:lnTo>
                  <a:pt x="307" y="301"/>
                </a:lnTo>
                <a:lnTo>
                  <a:pt x="293" y="305"/>
                </a:lnTo>
                <a:lnTo>
                  <a:pt x="280" y="307"/>
                </a:lnTo>
                <a:lnTo>
                  <a:pt x="266" y="311"/>
                </a:lnTo>
                <a:lnTo>
                  <a:pt x="255" y="313"/>
                </a:lnTo>
                <a:lnTo>
                  <a:pt x="242" y="314"/>
                </a:lnTo>
                <a:lnTo>
                  <a:pt x="232" y="316"/>
                </a:lnTo>
                <a:lnTo>
                  <a:pt x="220" y="318"/>
                </a:lnTo>
                <a:lnTo>
                  <a:pt x="211" y="318"/>
                </a:lnTo>
                <a:lnTo>
                  <a:pt x="201" y="320"/>
                </a:lnTo>
                <a:lnTo>
                  <a:pt x="194" y="320"/>
                </a:lnTo>
                <a:lnTo>
                  <a:pt x="186" y="3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2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6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 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娄”上下重心在一条线上，“女”横略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矩形 3"/>
          <p:cNvSpPr/>
          <p:nvPr/>
        </p:nvSpPr>
        <p:spPr>
          <a:xfrm>
            <a:off x="2139840" y="1868400"/>
            <a:ext cx="12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ǒ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20"/>
          <p:cNvSpPr/>
          <p:nvPr/>
        </p:nvSpPr>
        <p:spPr>
          <a:xfrm>
            <a:off x="6219720" y="4110120"/>
            <a:ext cx="933480" cy="882720"/>
          </a:xfrm>
          <a:custGeom>
            <a:avLst/>
            <a:gdLst/>
            <a:ahLst/>
            <a:rect l="l" t="t" r="r" b="b"/>
            <a:pathLst>
              <a:path w="1175" h="1111">
                <a:moveTo>
                  <a:pt x="841" y="774"/>
                </a:moveTo>
                <a:lnTo>
                  <a:pt x="820" y="793"/>
                </a:lnTo>
                <a:lnTo>
                  <a:pt x="799" y="812"/>
                </a:lnTo>
                <a:lnTo>
                  <a:pt x="778" y="829"/>
                </a:lnTo>
                <a:lnTo>
                  <a:pt x="757" y="845"/>
                </a:lnTo>
                <a:lnTo>
                  <a:pt x="736" y="862"/>
                </a:lnTo>
                <a:lnTo>
                  <a:pt x="712" y="877"/>
                </a:lnTo>
                <a:lnTo>
                  <a:pt x="689" y="893"/>
                </a:lnTo>
                <a:lnTo>
                  <a:pt x="666" y="906"/>
                </a:lnTo>
                <a:lnTo>
                  <a:pt x="643" y="921"/>
                </a:lnTo>
                <a:lnTo>
                  <a:pt x="620" y="935"/>
                </a:lnTo>
                <a:lnTo>
                  <a:pt x="595" y="946"/>
                </a:lnTo>
                <a:lnTo>
                  <a:pt x="572" y="958"/>
                </a:lnTo>
                <a:lnTo>
                  <a:pt x="547" y="969"/>
                </a:lnTo>
                <a:lnTo>
                  <a:pt x="522" y="981"/>
                </a:lnTo>
                <a:lnTo>
                  <a:pt x="499" y="992"/>
                </a:lnTo>
                <a:lnTo>
                  <a:pt x="474" y="1002"/>
                </a:lnTo>
                <a:lnTo>
                  <a:pt x="448" y="1012"/>
                </a:lnTo>
                <a:lnTo>
                  <a:pt x="423" y="1019"/>
                </a:lnTo>
                <a:lnTo>
                  <a:pt x="398" y="1029"/>
                </a:lnTo>
                <a:lnTo>
                  <a:pt x="373" y="1036"/>
                </a:lnTo>
                <a:lnTo>
                  <a:pt x="350" y="1044"/>
                </a:lnTo>
                <a:lnTo>
                  <a:pt x="327" y="1052"/>
                </a:lnTo>
                <a:lnTo>
                  <a:pt x="304" y="1060"/>
                </a:lnTo>
                <a:lnTo>
                  <a:pt x="281" y="1067"/>
                </a:lnTo>
                <a:lnTo>
                  <a:pt x="259" y="1073"/>
                </a:lnTo>
                <a:lnTo>
                  <a:pt x="240" y="1079"/>
                </a:lnTo>
                <a:lnTo>
                  <a:pt x="219" y="1083"/>
                </a:lnTo>
                <a:lnTo>
                  <a:pt x="200" y="1088"/>
                </a:lnTo>
                <a:lnTo>
                  <a:pt x="183" y="1092"/>
                </a:lnTo>
                <a:lnTo>
                  <a:pt x="165" y="1096"/>
                </a:lnTo>
                <a:lnTo>
                  <a:pt x="148" y="1100"/>
                </a:lnTo>
                <a:lnTo>
                  <a:pt x="133" y="1102"/>
                </a:lnTo>
                <a:lnTo>
                  <a:pt x="117" y="1104"/>
                </a:lnTo>
                <a:lnTo>
                  <a:pt x="104" y="1106"/>
                </a:lnTo>
                <a:lnTo>
                  <a:pt x="91" y="1108"/>
                </a:lnTo>
                <a:lnTo>
                  <a:pt x="77" y="1109"/>
                </a:lnTo>
                <a:lnTo>
                  <a:pt x="66" y="1111"/>
                </a:lnTo>
                <a:lnTo>
                  <a:pt x="56" y="1111"/>
                </a:lnTo>
                <a:lnTo>
                  <a:pt x="45" y="1111"/>
                </a:lnTo>
                <a:lnTo>
                  <a:pt x="37" y="1111"/>
                </a:lnTo>
                <a:lnTo>
                  <a:pt x="29" y="1111"/>
                </a:lnTo>
                <a:lnTo>
                  <a:pt x="21" y="1111"/>
                </a:lnTo>
                <a:lnTo>
                  <a:pt x="16" y="1111"/>
                </a:lnTo>
                <a:lnTo>
                  <a:pt x="12" y="1109"/>
                </a:lnTo>
                <a:lnTo>
                  <a:pt x="8" y="1108"/>
                </a:lnTo>
                <a:lnTo>
                  <a:pt x="4" y="1106"/>
                </a:lnTo>
                <a:lnTo>
                  <a:pt x="4" y="1104"/>
                </a:lnTo>
                <a:lnTo>
                  <a:pt x="2" y="1102"/>
                </a:lnTo>
                <a:lnTo>
                  <a:pt x="2" y="1100"/>
                </a:lnTo>
                <a:lnTo>
                  <a:pt x="0" y="1096"/>
                </a:lnTo>
                <a:lnTo>
                  <a:pt x="2" y="1094"/>
                </a:lnTo>
                <a:lnTo>
                  <a:pt x="4" y="1090"/>
                </a:lnTo>
                <a:lnTo>
                  <a:pt x="8" y="1086"/>
                </a:lnTo>
                <a:lnTo>
                  <a:pt x="14" y="1083"/>
                </a:lnTo>
                <a:lnTo>
                  <a:pt x="20" y="1079"/>
                </a:lnTo>
                <a:lnTo>
                  <a:pt x="27" y="1075"/>
                </a:lnTo>
                <a:lnTo>
                  <a:pt x="35" y="1071"/>
                </a:lnTo>
                <a:lnTo>
                  <a:pt x="45" y="1067"/>
                </a:lnTo>
                <a:lnTo>
                  <a:pt x="54" y="1063"/>
                </a:lnTo>
                <a:lnTo>
                  <a:pt x="66" y="1058"/>
                </a:lnTo>
                <a:lnTo>
                  <a:pt x="79" y="1054"/>
                </a:lnTo>
                <a:lnTo>
                  <a:pt x="92" y="1048"/>
                </a:lnTo>
                <a:lnTo>
                  <a:pt x="106" y="1044"/>
                </a:lnTo>
                <a:lnTo>
                  <a:pt x="121" y="1038"/>
                </a:lnTo>
                <a:lnTo>
                  <a:pt x="137" y="1031"/>
                </a:lnTo>
                <a:lnTo>
                  <a:pt x="154" y="1025"/>
                </a:lnTo>
                <a:lnTo>
                  <a:pt x="171" y="1015"/>
                </a:lnTo>
                <a:lnTo>
                  <a:pt x="188" y="1008"/>
                </a:lnTo>
                <a:lnTo>
                  <a:pt x="208" y="1000"/>
                </a:lnTo>
                <a:lnTo>
                  <a:pt x="227" y="990"/>
                </a:lnTo>
                <a:lnTo>
                  <a:pt x="248" y="981"/>
                </a:lnTo>
                <a:lnTo>
                  <a:pt x="269" y="971"/>
                </a:lnTo>
                <a:lnTo>
                  <a:pt x="290" y="962"/>
                </a:lnTo>
                <a:lnTo>
                  <a:pt x="311" y="950"/>
                </a:lnTo>
                <a:lnTo>
                  <a:pt x="334" y="939"/>
                </a:lnTo>
                <a:lnTo>
                  <a:pt x="357" y="927"/>
                </a:lnTo>
                <a:lnTo>
                  <a:pt x="380" y="916"/>
                </a:lnTo>
                <a:lnTo>
                  <a:pt x="403" y="902"/>
                </a:lnTo>
                <a:lnTo>
                  <a:pt x="426" y="889"/>
                </a:lnTo>
                <a:lnTo>
                  <a:pt x="451" y="875"/>
                </a:lnTo>
                <a:lnTo>
                  <a:pt x="474" y="864"/>
                </a:lnTo>
                <a:lnTo>
                  <a:pt x="499" y="850"/>
                </a:lnTo>
                <a:lnTo>
                  <a:pt x="522" y="837"/>
                </a:lnTo>
                <a:lnTo>
                  <a:pt x="545" y="823"/>
                </a:lnTo>
                <a:lnTo>
                  <a:pt x="592" y="795"/>
                </a:lnTo>
                <a:lnTo>
                  <a:pt x="613" y="779"/>
                </a:lnTo>
                <a:lnTo>
                  <a:pt x="634" y="764"/>
                </a:lnTo>
                <a:lnTo>
                  <a:pt x="655" y="747"/>
                </a:lnTo>
                <a:lnTo>
                  <a:pt x="674" y="731"/>
                </a:lnTo>
                <a:lnTo>
                  <a:pt x="695" y="714"/>
                </a:lnTo>
                <a:lnTo>
                  <a:pt x="712" y="697"/>
                </a:lnTo>
                <a:lnTo>
                  <a:pt x="732" y="678"/>
                </a:lnTo>
                <a:lnTo>
                  <a:pt x="749" y="660"/>
                </a:lnTo>
                <a:lnTo>
                  <a:pt x="766" y="641"/>
                </a:lnTo>
                <a:lnTo>
                  <a:pt x="782" y="624"/>
                </a:lnTo>
                <a:lnTo>
                  <a:pt x="797" y="605"/>
                </a:lnTo>
                <a:lnTo>
                  <a:pt x="810" y="585"/>
                </a:lnTo>
                <a:lnTo>
                  <a:pt x="826" y="566"/>
                </a:lnTo>
                <a:lnTo>
                  <a:pt x="839" y="547"/>
                </a:lnTo>
                <a:lnTo>
                  <a:pt x="851" y="528"/>
                </a:lnTo>
                <a:lnTo>
                  <a:pt x="864" y="509"/>
                </a:lnTo>
                <a:lnTo>
                  <a:pt x="876" y="489"/>
                </a:lnTo>
                <a:lnTo>
                  <a:pt x="887" y="470"/>
                </a:lnTo>
                <a:lnTo>
                  <a:pt x="899" y="451"/>
                </a:lnTo>
                <a:lnTo>
                  <a:pt x="908" y="430"/>
                </a:lnTo>
                <a:lnTo>
                  <a:pt x="918" y="411"/>
                </a:lnTo>
                <a:lnTo>
                  <a:pt x="927" y="390"/>
                </a:lnTo>
                <a:lnTo>
                  <a:pt x="935" y="370"/>
                </a:lnTo>
                <a:lnTo>
                  <a:pt x="945" y="349"/>
                </a:lnTo>
                <a:lnTo>
                  <a:pt x="950" y="328"/>
                </a:lnTo>
                <a:lnTo>
                  <a:pt x="958" y="307"/>
                </a:lnTo>
                <a:lnTo>
                  <a:pt x="962" y="288"/>
                </a:lnTo>
                <a:lnTo>
                  <a:pt x="966" y="271"/>
                </a:lnTo>
                <a:lnTo>
                  <a:pt x="970" y="253"/>
                </a:lnTo>
                <a:lnTo>
                  <a:pt x="974" y="236"/>
                </a:lnTo>
                <a:lnTo>
                  <a:pt x="977" y="221"/>
                </a:lnTo>
                <a:lnTo>
                  <a:pt x="979" y="205"/>
                </a:lnTo>
                <a:lnTo>
                  <a:pt x="981" y="190"/>
                </a:lnTo>
                <a:lnTo>
                  <a:pt x="985" y="177"/>
                </a:lnTo>
                <a:lnTo>
                  <a:pt x="987" y="163"/>
                </a:lnTo>
                <a:lnTo>
                  <a:pt x="989" y="152"/>
                </a:lnTo>
                <a:lnTo>
                  <a:pt x="989" y="138"/>
                </a:lnTo>
                <a:lnTo>
                  <a:pt x="991" y="129"/>
                </a:lnTo>
                <a:lnTo>
                  <a:pt x="993" y="119"/>
                </a:lnTo>
                <a:lnTo>
                  <a:pt x="993" y="109"/>
                </a:lnTo>
                <a:lnTo>
                  <a:pt x="993" y="100"/>
                </a:lnTo>
                <a:lnTo>
                  <a:pt x="993" y="94"/>
                </a:lnTo>
                <a:lnTo>
                  <a:pt x="991" y="86"/>
                </a:lnTo>
                <a:lnTo>
                  <a:pt x="991" y="79"/>
                </a:lnTo>
                <a:lnTo>
                  <a:pt x="989" y="71"/>
                </a:lnTo>
                <a:lnTo>
                  <a:pt x="989" y="65"/>
                </a:lnTo>
                <a:lnTo>
                  <a:pt x="989" y="52"/>
                </a:lnTo>
                <a:lnTo>
                  <a:pt x="993" y="40"/>
                </a:lnTo>
                <a:lnTo>
                  <a:pt x="997" y="29"/>
                </a:lnTo>
                <a:lnTo>
                  <a:pt x="1002" y="19"/>
                </a:lnTo>
                <a:lnTo>
                  <a:pt x="1004" y="13"/>
                </a:lnTo>
                <a:lnTo>
                  <a:pt x="1008" y="11"/>
                </a:lnTo>
                <a:lnTo>
                  <a:pt x="1012" y="8"/>
                </a:lnTo>
                <a:lnTo>
                  <a:pt x="1018" y="6"/>
                </a:lnTo>
                <a:lnTo>
                  <a:pt x="1020" y="2"/>
                </a:lnTo>
                <a:lnTo>
                  <a:pt x="1022" y="2"/>
                </a:lnTo>
                <a:lnTo>
                  <a:pt x="1025" y="0"/>
                </a:lnTo>
                <a:lnTo>
                  <a:pt x="1031" y="0"/>
                </a:lnTo>
                <a:lnTo>
                  <a:pt x="1035" y="0"/>
                </a:lnTo>
                <a:lnTo>
                  <a:pt x="1041" y="0"/>
                </a:lnTo>
                <a:lnTo>
                  <a:pt x="1046" y="2"/>
                </a:lnTo>
                <a:lnTo>
                  <a:pt x="1052" y="4"/>
                </a:lnTo>
                <a:lnTo>
                  <a:pt x="1060" y="6"/>
                </a:lnTo>
                <a:lnTo>
                  <a:pt x="1068" y="8"/>
                </a:lnTo>
                <a:lnTo>
                  <a:pt x="1075" y="10"/>
                </a:lnTo>
                <a:lnTo>
                  <a:pt x="1083" y="13"/>
                </a:lnTo>
                <a:lnTo>
                  <a:pt x="1093" y="17"/>
                </a:lnTo>
                <a:lnTo>
                  <a:pt x="1102" y="21"/>
                </a:lnTo>
                <a:lnTo>
                  <a:pt x="1112" y="25"/>
                </a:lnTo>
                <a:lnTo>
                  <a:pt x="1123" y="31"/>
                </a:lnTo>
                <a:lnTo>
                  <a:pt x="1131" y="36"/>
                </a:lnTo>
                <a:lnTo>
                  <a:pt x="1139" y="44"/>
                </a:lnTo>
                <a:lnTo>
                  <a:pt x="1146" y="52"/>
                </a:lnTo>
                <a:lnTo>
                  <a:pt x="1152" y="59"/>
                </a:lnTo>
                <a:lnTo>
                  <a:pt x="1158" y="67"/>
                </a:lnTo>
                <a:lnTo>
                  <a:pt x="1162" y="75"/>
                </a:lnTo>
                <a:lnTo>
                  <a:pt x="1165" y="83"/>
                </a:lnTo>
                <a:lnTo>
                  <a:pt x="1169" y="90"/>
                </a:lnTo>
                <a:lnTo>
                  <a:pt x="1171" y="98"/>
                </a:lnTo>
                <a:lnTo>
                  <a:pt x="1173" y="107"/>
                </a:lnTo>
                <a:lnTo>
                  <a:pt x="1173" y="117"/>
                </a:lnTo>
                <a:lnTo>
                  <a:pt x="1175" y="125"/>
                </a:lnTo>
                <a:lnTo>
                  <a:pt x="1175" y="136"/>
                </a:lnTo>
                <a:lnTo>
                  <a:pt x="1173" y="146"/>
                </a:lnTo>
                <a:lnTo>
                  <a:pt x="1173" y="157"/>
                </a:lnTo>
                <a:lnTo>
                  <a:pt x="1171" y="169"/>
                </a:lnTo>
                <a:lnTo>
                  <a:pt x="1165" y="180"/>
                </a:lnTo>
                <a:lnTo>
                  <a:pt x="1162" y="194"/>
                </a:lnTo>
                <a:lnTo>
                  <a:pt x="1156" y="207"/>
                </a:lnTo>
                <a:lnTo>
                  <a:pt x="1150" y="221"/>
                </a:lnTo>
                <a:lnTo>
                  <a:pt x="1144" y="234"/>
                </a:lnTo>
                <a:lnTo>
                  <a:pt x="1139" y="250"/>
                </a:lnTo>
                <a:lnTo>
                  <a:pt x="1133" y="265"/>
                </a:lnTo>
                <a:lnTo>
                  <a:pt x="1127" y="282"/>
                </a:lnTo>
                <a:lnTo>
                  <a:pt x="1121" y="299"/>
                </a:lnTo>
                <a:lnTo>
                  <a:pt x="1116" y="317"/>
                </a:lnTo>
                <a:lnTo>
                  <a:pt x="1108" y="334"/>
                </a:lnTo>
                <a:lnTo>
                  <a:pt x="1102" y="353"/>
                </a:lnTo>
                <a:lnTo>
                  <a:pt x="1096" y="372"/>
                </a:lnTo>
                <a:lnTo>
                  <a:pt x="1089" y="392"/>
                </a:lnTo>
                <a:lnTo>
                  <a:pt x="1083" y="413"/>
                </a:lnTo>
                <a:lnTo>
                  <a:pt x="1075" y="434"/>
                </a:lnTo>
                <a:lnTo>
                  <a:pt x="1069" y="455"/>
                </a:lnTo>
                <a:lnTo>
                  <a:pt x="1060" y="476"/>
                </a:lnTo>
                <a:lnTo>
                  <a:pt x="1050" y="497"/>
                </a:lnTo>
                <a:lnTo>
                  <a:pt x="1041" y="518"/>
                </a:lnTo>
                <a:lnTo>
                  <a:pt x="1029" y="539"/>
                </a:lnTo>
                <a:lnTo>
                  <a:pt x="1018" y="560"/>
                </a:lnTo>
                <a:lnTo>
                  <a:pt x="1002" y="582"/>
                </a:lnTo>
                <a:lnTo>
                  <a:pt x="989" y="603"/>
                </a:lnTo>
                <a:lnTo>
                  <a:pt x="974" y="624"/>
                </a:lnTo>
                <a:lnTo>
                  <a:pt x="956" y="645"/>
                </a:lnTo>
                <a:lnTo>
                  <a:pt x="939" y="668"/>
                </a:lnTo>
                <a:lnTo>
                  <a:pt x="922" y="689"/>
                </a:lnTo>
                <a:lnTo>
                  <a:pt x="903" y="710"/>
                </a:lnTo>
                <a:lnTo>
                  <a:pt x="881" y="731"/>
                </a:lnTo>
                <a:lnTo>
                  <a:pt x="862" y="752"/>
                </a:lnTo>
                <a:lnTo>
                  <a:pt x="841" y="7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21"/>
          <p:cNvSpPr/>
          <p:nvPr/>
        </p:nvSpPr>
        <p:spPr>
          <a:xfrm>
            <a:off x="6566040" y="4024440"/>
            <a:ext cx="819000" cy="1025280"/>
          </a:xfrm>
          <a:custGeom>
            <a:avLst/>
            <a:gdLst/>
            <a:ahLst/>
            <a:rect l="l" t="t" r="r" b="b"/>
            <a:pathLst>
              <a:path w="1033" h="1291">
                <a:moveTo>
                  <a:pt x="75" y="706"/>
                </a:moveTo>
                <a:lnTo>
                  <a:pt x="65" y="704"/>
                </a:lnTo>
                <a:lnTo>
                  <a:pt x="58" y="700"/>
                </a:lnTo>
                <a:lnTo>
                  <a:pt x="50" y="698"/>
                </a:lnTo>
                <a:lnTo>
                  <a:pt x="42" y="694"/>
                </a:lnTo>
                <a:lnTo>
                  <a:pt x="37" y="691"/>
                </a:lnTo>
                <a:lnTo>
                  <a:pt x="31" y="687"/>
                </a:lnTo>
                <a:lnTo>
                  <a:pt x="25" y="683"/>
                </a:lnTo>
                <a:lnTo>
                  <a:pt x="21" y="679"/>
                </a:lnTo>
                <a:lnTo>
                  <a:pt x="17" y="675"/>
                </a:lnTo>
                <a:lnTo>
                  <a:pt x="14" y="671"/>
                </a:lnTo>
                <a:lnTo>
                  <a:pt x="10" y="668"/>
                </a:lnTo>
                <a:lnTo>
                  <a:pt x="8" y="662"/>
                </a:lnTo>
                <a:lnTo>
                  <a:pt x="6" y="658"/>
                </a:lnTo>
                <a:lnTo>
                  <a:pt x="4" y="652"/>
                </a:lnTo>
                <a:lnTo>
                  <a:pt x="4" y="648"/>
                </a:lnTo>
                <a:lnTo>
                  <a:pt x="4" y="645"/>
                </a:lnTo>
                <a:lnTo>
                  <a:pt x="2" y="641"/>
                </a:lnTo>
                <a:lnTo>
                  <a:pt x="0" y="637"/>
                </a:lnTo>
                <a:lnTo>
                  <a:pt x="0" y="631"/>
                </a:lnTo>
                <a:lnTo>
                  <a:pt x="0" y="625"/>
                </a:lnTo>
                <a:lnTo>
                  <a:pt x="2" y="618"/>
                </a:lnTo>
                <a:lnTo>
                  <a:pt x="4" y="610"/>
                </a:lnTo>
                <a:lnTo>
                  <a:pt x="6" y="600"/>
                </a:lnTo>
                <a:lnTo>
                  <a:pt x="10" y="591"/>
                </a:lnTo>
                <a:lnTo>
                  <a:pt x="14" y="579"/>
                </a:lnTo>
                <a:lnTo>
                  <a:pt x="17" y="568"/>
                </a:lnTo>
                <a:lnTo>
                  <a:pt x="21" y="554"/>
                </a:lnTo>
                <a:lnTo>
                  <a:pt x="27" y="541"/>
                </a:lnTo>
                <a:lnTo>
                  <a:pt x="33" y="527"/>
                </a:lnTo>
                <a:lnTo>
                  <a:pt x="38" y="512"/>
                </a:lnTo>
                <a:lnTo>
                  <a:pt x="44" y="497"/>
                </a:lnTo>
                <a:lnTo>
                  <a:pt x="50" y="479"/>
                </a:lnTo>
                <a:lnTo>
                  <a:pt x="63" y="447"/>
                </a:lnTo>
                <a:lnTo>
                  <a:pt x="77" y="414"/>
                </a:lnTo>
                <a:lnTo>
                  <a:pt x="88" y="383"/>
                </a:lnTo>
                <a:lnTo>
                  <a:pt x="100" y="353"/>
                </a:lnTo>
                <a:lnTo>
                  <a:pt x="111" y="322"/>
                </a:lnTo>
                <a:lnTo>
                  <a:pt x="119" y="291"/>
                </a:lnTo>
                <a:lnTo>
                  <a:pt x="125" y="276"/>
                </a:lnTo>
                <a:lnTo>
                  <a:pt x="127" y="259"/>
                </a:lnTo>
                <a:lnTo>
                  <a:pt x="131" y="243"/>
                </a:lnTo>
                <a:lnTo>
                  <a:pt x="133" y="228"/>
                </a:lnTo>
                <a:lnTo>
                  <a:pt x="134" y="213"/>
                </a:lnTo>
                <a:lnTo>
                  <a:pt x="136" y="199"/>
                </a:lnTo>
                <a:lnTo>
                  <a:pt x="138" y="188"/>
                </a:lnTo>
                <a:lnTo>
                  <a:pt x="140" y="174"/>
                </a:lnTo>
                <a:lnTo>
                  <a:pt x="140" y="163"/>
                </a:lnTo>
                <a:lnTo>
                  <a:pt x="140" y="151"/>
                </a:lnTo>
                <a:lnTo>
                  <a:pt x="142" y="142"/>
                </a:lnTo>
                <a:lnTo>
                  <a:pt x="142" y="130"/>
                </a:lnTo>
                <a:lnTo>
                  <a:pt x="140" y="111"/>
                </a:lnTo>
                <a:lnTo>
                  <a:pt x="140" y="94"/>
                </a:lnTo>
                <a:lnTo>
                  <a:pt x="136" y="78"/>
                </a:lnTo>
                <a:lnTo>
                  <a:pt x="133" y="63"/>
                </a:lnTo>
                <a:lnTo>
                  <a:pt x="131" y="55"/>
                </a:lnTo>
                <a:lnTo>
                  <a:pt x="129" y="49"/>
                </a:lnTo>
                <a:lnTo>
                  <a:pt x="127" y="44"/>
                </a:lnTo>
                <a:lnTo>
                  <a:pt x="127" y="40"/>
                </a:lnTo>
                <a:lnTo>
                  <a:pt x="127" y="34"/>
                </a:lnTo>
                <a:lnTo>
                  <a:pt x="127" y="30"/>
                </a:lnTo>
                <a:lnTo>
                  <a:pt x="127" y="26"/>
                </a:lnTo>
                <a:lnTo>
                  <a:pt x="127" y="23"/>
                </a:lnTo>
                <a:lnTo>
                  <a:pt x="129" y="19"/>
                </a:lnTo>
                <a:lnTo>
                  <a:pt x="131" y="15"/>
                </a:lnTo>
                <a:lnTo>
                  <a:pt x="133" y="13"/>
                </a:lnTo>
                <a:lnTo>
                  <a:pt x="136" y="9"/>
                </a:lnTo>
                <a:lnTo>
                  <a:pt x="140" y="7"/>
                </a:lnTo>
                <a:lnTo>
                  <a:pt x="144" y="5"/>
                </a:lnTo>
                <a:lnTo>
                  <a:pt x="150" y="3"/>
                </a:lnTo>
                <a:lnTo>
                  <a:pt x="157" y="0"/>
                </a:lnTo>
                <a:lnTo>
                  <a:pt x="165" y="1"/>
                </a:lnTo>
                <a:lnTo>
                  <a:pt x="177" y="3"/>
                </a:lnTo>
                <a:lnTo>
                  <a:pt x="188" y="5"/>
                </a:lnTo>
                <a:lnTo>
                  <a:pt x="202" y="11"/>
                </a:lnTo>
                <a:lnTo>
                  <a:pt x="207" y="15"/>
                </a:lnTo>
                <a:lnTo>
                  <a:pt x="215" y="17"/>
                </a:lnTo>
                <a:lnTo>
                  <a:pt x="223" y="23"/>
                </a:lnTo>
                <a:lnTo>
                  <a:pt x="230" y="26"/>
                </a:lnTo>
                <a:lnTo>
                  <a:pt x="238" y="32"/>
                </a:lnTo>
                <a:lnTo>
                  <a:pt x="246" y="38"/>
                </a:lnTo>
                <a:lnTo>
                  <a:pt x="253" y="44"/>
                </a:lnTo>
                <a:lnTo>
                  <a:pt x="263" y="51"/>
                </a:lnTo>
                <a:lnTo>
                  <a:pt x="275" y="65"/>
                </a:lnTo>
                <a:lnTo>
                  <a:pt x="286" y="76"/>
                </a:lnTo>
                <a:lnTo>
                  <a:pt x="298" y="88"/>
                </a:lnTo>
                <a:lnTo>
                  <a:pt x="305" y="99"/>
                </a:lnTo>
                <a:lnTo>
                  <a:pt x="313" y="111"/>
                </a:lnTo>
                <a:lnTo>
                  <a:pt x="315" y="115"/>
                </a:lnTo>
                <a:lnTo>
                  <a:pt x="317" y="120"/>
                </a:lnTo>
                <a:lnTo>
                  <a:pt x="319" y="124"/>
                </a:lnTo>
                <a:lnTo>
                  <a:pt x="321" y="130"/>
                </a:lnTo>
                <a:lnTo>
                  <a:pt x="321" y="134"/>
                </a:lnTo>
                <a:lnTo>
                  <a:pt x="323" y="140"/>
                </a:lnTo>
                <a:lnTo>
                  <a:pt x="319" y="144"/>
                </a:lnTo>
                <a:lnTo>
                  <a:pt x="317" y="151"/>
                </a:lnTo>
                <a:lnTo>
                  <a:pt x="313" y="159"/>
                </a:lnTo>
                <a:lnTo>
                  <a:pt x="309" y="167"/>
                </a:lnTo>
                <a:lnTo>
                  <a:pt x="303" y="178"/>
                </a:lnTo>
                <a:lnTo>
                  <a:pt x="298" y="188"/>
                </a:lnTo>
                <a:lnTo>
                  <a:pt x="292" y="201"/>
                </a:lnTo>
                <a:lnTo>
                  <a:pt x="286" y="215"/>
                </a:lnTo>
                <a:lnTo>
                  <a:pt x="278" y="230"/>
                </a:lnTo>
                <a:lnTo>
                  <a:pt x="271" y="245"/>
                </a:lnTo>
                <a:lnTo>
                  <a:pt x="263" y="263"/>
                </a:lnTo>
                <a:lnTo>
                  <a:pt x="255" y="280"/>
                </a:lnTo>
                <a:lnTo>
                  <a:pt x="246" y="301"/>
                </a:lnTo>
                <a:lnTo>
                  <a:pt x="236" y="320"/>
                </a:lnTo>
                <a:lnTo>
                  <a:pt x="227" y="343"/>
                </a:lnTo>
                <a:lnTo>
                  <a:pt x="215" y="366"/>
                </a:lnTo>
                <a:lnTo>
                  <a:pt x="205" y="391"/>
                </a:lnTo>
                <a:lnTo>
                  <a:pt x="194" y="414"/>
                </a:lnTo>
                <a:lnTo>
                  <a:pt x="184" y="435"/>
                </a:lnTo>
                <a:lnTo>
                  <a:pt x="177" y="456"/>
                </a:lnTo>
                <a:lnTo>
                  <a:pt x="167" y="476"/>
                </a:lnTo>
                <a:lnTo>
                  <a:pt x="159" y="491"/>
                </a:lnTo>
                <a:lnTo>
                  <a:pt x="154" y="506"/>
                </a:lnTo>
                <a:lnTo>
                  <a:pt x="146" y="520"/>
                </a:lnTo>
                <a:lnTo>
                  <a:pt x="140" y="533"/>
                </a:lnTo>
                <a:lnTo>
                  <a:pt x="136" y="543"/>
                </a:lnTo>
                <a:lnTo>
                  <a:pt x="131" y="552"/>
                </a:lnTo>
                <a:lnTo>
                  <a:pt x="127" y="562"/>
                </a:lnTo>
                <a:lnTo>
                  <a:pt x="125" y="568"/>
                </a:lnTo>
                <a:lnTo>
                  <a:pt x="123" y="573"/>
                </a:lnTo>
                <a:lnTo>
                  <a:pt x="121" y="577"/>
                </a:lnTo>
                <a:lnTo>
                  <a:pt x="121" y="581"/>
                </a:lnTo>
                <a:lnTo>
                  <a:pt x="121" y="583"/>
                </a:lnTo>
                <a:lnTo>
                  <a:pt x="123" y="585"/>
                </a:lnTo>
                <a:lnTo>
                  <a:pt x="125" y="589"/>
                </a:lnTo>
                <a:lnTo>
                  <a:pt x="127" y="593"/>
                </a:lnTo>
                <a:lnTo>
                  <a:pt x="131" y="597"/>
                </a:lnTo>
                <a:lnTo>
                  <a:pt x="136" y="600"/>
                </a:lnTo>
                <a:lnTo>
                  <a:pt x="142" y="604"/>
                </a:lnTo>
                <a:lnTo>
                  <a:pt x="148" y="608"/>
                </a:lnTo>
                <a:lnTo>
                  <a:pt x="156" y="614"/>
                </a:lnTo>
                <a:lnTo>
                  <a:pt x="163" y="620"/>
                </a:lnTo>
                <a:lnTo>
                  <a:pt x="171" y="623"/>
                </a:lnTo>
                <a:lnTo>
                  <a:pt x="181" y="629"/>
                </a:lnTo>
                <a:lnTo>
                  <a:pt x="192" y="637"/>
                </a:lnTo>
                <a:lnTo>
                  <a:pt x="202" y="643"/>
                </a:lnTo>
                <a:lnTo>
                  <a:pt x="215" y="648"/>
                </a:lnTo>
                <a:lnTo>
                  <a:pt x="227" y="656"/>
                </a:lnTo>
                <a:lnTo>
                  <a:pt x="232" y="660"/>
                </a:lnTo>
                <a:lnTo>
                  <a:pt x="238" y="664"/>
                </a:lnTo>
                <a:lnTo>
                  <a:pt x="246" y="668"/>
                </a:lnTo>
                <a:lnTo>
                  <a:pt x="253" y="671"/>
                </a:lnTo>
                <a:lnTo>
                  <a:pt x="269" y="681"/>
                </a:lnTo>
                <a:lnTo>
                  <a:pt x="286" y="689"/>
                </a:lnTo>
                <a:lnTo>
                  <a:pt x="305" y="698"/>
                </a:lnTo>
                <a:lnTo>
                  <a:pt x="326" y="710"/>
                </a:lnTo>
                <a:lnTo>
                  <a:pt x="349" y="719"/>
                </a:lnTo>
                <a:lnTo>
                  <a:pt x="374" y="731"/>
                </a:lnTo>
                <a:lnTo>
                  <a:pt x="401" y="744"/>
                </a:lnTo>
                <a:lnTo>
                  <a:pt x="428" y="756"/>
                </a:lnTo>
                <a:lnTo>
                  <a:pt x="459" y="769"/>
                </a:lnTo>
                <a:lnTo>
                  <a:pt x="490" y="783"/>
                </a:lnTo>
                <a:lnTo>
                  <a:pt x="522" y="798"/>
                </a:lnTo>
                <a:lnTo>
                  <a:pt x="557" y="813"/>
                </a:lnTo>
                <a:lnTo>
                  <a:pt x="591" y="829"/>
                </a:lnTo>
                <a:lnTo>
                  <a:pt x="628" y="846"/>
                </a:lnTo>
                <a:lnTo>
                  <a:pt x="664" y="861"/>
                </a:lnTo>
                <a:lnTo>
                  <a:pt x="701" y="879"/>
                </a:lnTo>
                <a:lnTo>
                  <a:pt x="733" y="894"/>
                </a:lnTo>
                <a:lnTo>
                  <a:pt x="764" y="909"/>
                </a:lnTo>
                <a:lnTo>
                  <a:pt x="795" y="925"/>
                </a:lnTo>
                <a:lnTo>
                  <a:pt x="822" y="940"/>
                </a:lnTo>
                <a:lnTo>
                  <a:pt x="848" y="955"/>
                </a:lnTo>
                <a:lnTo>
                  <a:pt x="860" y="961"/>
                </a:lnTo>
                <a:lnTo>
                  <a:pt x="873" y="969"/>
                </a:lnTo>
                <a:lnTo>
                  <a:pt x="885" y="977"/>
                </a:lnTo>
                <a:lnTo>
                  <a:pt x="895" y="982"/>
                </a:lnTo>
                <a:lnTo>
                  <a:pt x="906" y="990"/>
                </a:lnTo>
                <a:lnTo>
                  <a:pt x="916" y="996"/>
                </a:lnTo>
                <a:lnTo>
                  <a:pt x="925" y="1003"/>
                </a:lnTo>
                <a:lnTo>
                  <a:pt x="933" y="1009"/>
                </a:lnTo>
                <a:lnTo>
                  <a:pt x="943" y="1017"/>
                </a:lnTo>
                <a:lnTo>
                  <a:pt x="950" y="1023"/>
                </a:lnTo>
                <a:lnTo>
                  <a:pt x="958" y="1030"/>
                </a:lnTo>
                <a:lnTo>
                  <a:pt x="964" y="1036"/>
                </a:lnTo>
                <a:lnTo>
                  <a:pt x="971" y="1042"/>
                </a:lnTo>
                <a:lnTo>
                  <a:pt x="977" y="1048"/>
                </a:lnTo>
                <a:lnTo>
                  <a:pt x="981" y="1055"/>
                </a:lnTo>
                <a:lnTo>
                  <a:pt x="987" y="1061"/>
                </a:lnTo>
                <a:lnTo>
                  <a:pt x="991" y="1067"/>
                </a:lnTo>
                <a:lnTo>
                  <a:pt x="994" y="1073"/>
                </a:lnTo>
                <a:lnTo>
                  <a:pt x="1000" y="1084"/>
                </a:lnTo>
                <a:lnTo>
                  <a:pt x="1006" y="1096"/>
                </a:lnTo>
                <a:lnTo>
                  <a:pt x="1012" y="1107"/>
                </a:lnTo>
                <a:lnTo>
                  <a:pt x="1015" y="1119"/>
                </a:lnTo>
                <a:lnTo>
                  <a:pt x="1019" y="1128"/>
                </a:lnTo>
                <a:lnTo>
                  <a:pt x="1023" y="1140"/>
                </a:lnTo>
                <a:lnTo>
                  <a:pt x="1027" y="1149"/>
                </a:lnTo>
                <a:lnTo>
                  <a:pt x="1029" y="1159"/>
                </a:lnTo>
                <a:lnTo>
                  <a:pt x="1031" y="1169"/>
                </a:lnTo>
                <a:lnTo>
                  <a:pt x="1033" y="1178"/>
                </a:lnTo>
                <a:lnTo>
                  <a:pt x="1033" y="1190"/>
                </a:lnTo>
                <a:lnTo>
                  <a:pt x="1033" y="1199"/>
                </a:lnTo>
                <a:lnTo>
                  <a:pt x="1033" y="1207"/>
                </a:lnTo>
                <a:lnTo>
                  <a:pt x="1033" y="1217"/>
                </a:lnTo>
                <a:lnTo>
                  <a:pt x="1031" y="1226"/>
                </a:lnTo>
                <a:lnTo>
                  <a:pt x="1029" y="1236"/>
                </a:lnTo>
                <a:lnTo>
                  <a:pt x="1027" y="1245"/>
                </a:lnTo>
                <a:lnTo>
                  <a:pt x="1023" y="1253"/>
                </a:lnTo>
                <a:lnTo>
                  <a:pt x="1021" y="1261"/>
                </a:lnTo>
                <a:lnTo>
                  <a:pt x="1017" y="1268"/>
                </a:lnTo>
                <a:lnTo>
                  <a:pt x="1015" y="1272"/>
                </a:lnTo>
                <a:lnTo>
                  <a:pt x="1012" y="1278"/>
                </a:lnTo>
                <a:lnTo>
                  <a:pt x="1006" y="1282"/>
                </a:lnTo>
                <a:lnTo>
                  <a:pt x="1002" y="1286"/>
                </a:lnTo>
                <a:lnTo>
                  <a:pt x="998" y="1288"/>
                </a:lnTo>
                <a:lnTo>
                  <a:pt x="992" y="1289"/>
                </a:lnTo>
                <a:lnTo>
                  <a:pt x="989" y="1291"/>
                </a:lnTo>
                <a:lnTo>
                  <a:pt x="983" y="1291"/>
                </a:lnTo>
                <a:lnTo>
                  <a:pt x="977" y="1291"/>
                </a:lnTo>
                <a:lnTo>
                  <a:pt x="971" y="1291"/>
                </a:lnTo>
                <a:lnTo>
                  <a:pt x="966" y="1289"/>
                </a:lnTo>
                <a:lnTo>
                  <a:pt x="958" y="1288"/>
                </a:lnTo>
                <a:lnTo>
                  <a:pt x="954" y="1284"/>
                </a:lnTo>
                <a:lnTo>
                  <a:pt x="950" y="1282"/>
                </a:lnTo>
                <a:lnTo>
                  <a:pt x="946" y="1278"/>
                </a:lnTo>
                <a:lnTo>
                  <a:pt x="941" y="1274"/>
                </a:lnTo>
                <a:lnTo>
                  <a:pt x="935" y="1270"/>
                </a:lnTo>
                <a:lnTo>
                  <a:pt x="927" y="1264"/>
                </a:lnTo>
                <a:lnTo>
                  <a:pt x="920" y="1259"/>
                </a:lnTo>
                <a:lnTo>
                  <a:pt x="912" y="1255"/>
                </a:lnTo>
                <a:lnTo>
                  <a:pt x="904" y="1247"/>
                </a:lnTo>
                <a:lnTo>
                  <a:pt x="895" y="1241"/>
                </a:lnTo>
                <a:lnTo>
                  <a:pt x="885" y="1234"/>
                </a:lnTo>
                <a:lnTo>
                  <a:pt x="873" y="1228"/>
                </a:lnTo>
                <a:lnTo>
                  <a:pt x="862" y="1218"/>
                </a:lnTo>
                <a:lnTo>
                  <a:pt x="850" y="1211"/>
                </a:lnTo>
                <a:lnTo>
                  <a:pt x="839" y="1203"/>
                </a:lnTo>
                <a:lnTo>
                  <a:pt x="825" y="1193"/>
                </a:lnTo>
                <a:lnTo>
                  <a:pt x="812" y="1184"/>
                </a:lnTo>
                <a:lnTo>
                  <a:pt x="797" y="1174"/>
                </a:lnTo>
                <a:lnTo>
                  <a:pt x="783" y="1163"/>
                </a:lnTo>
                <a:lnTo>
                  <a:pt x="768" y="1151"/>
                </a:lnTo>
                <a:lnTo>
                  <a:pt x="751" y="1140"/>
                </a:lnTo>
                <a:lnTo>
                  <a:pt x="733" y="1128"/>
                </a:lnTo>
                <a:lnTo>
                  <a:pt x="716" y="1117"/>
                </a:lnTo>
                <a:lnTo>
                  <a:pt x="699" y="1103"/>
                </a:lnTo>
                <a:lnTo>
                  <a:pt x="680" y="1090"/>
                </a:lnTo>
                <a:lnTo>
                  <a:pt x="660" y="1076"/>
                </a:lnTo>
                <a:lnTo>
                  <a:pt x="641" y="1063"/>
                </a:lnTo>
                <a:lnTo>
                  <a:pt x="622" y="1048"/>
                </a:lnTo>
                <a:lnTo>
                  <a:pt x="601" y="1032"/>
                </a:lnTo>
                <a:lnTo>
                  <a:pt x="578" y="1017"/>
                </a:lnTo>
                <a:lnTo>
                  <a:pt x="557" y="1002"/>
                </a:lnTo>
                <a:lnTo>
                  <a:pt x="534" y="984"/>
                </a:lnTo>
                <a:lnTo>
                  <a:pt x="511" y="969"/>
                </a:lnTo>
                <a:lnTo>
                  <a:pt x="486" y="954"/>
                </a:lnTo>
                <a:lnTo>
                  <a:pt x="465" y="940"/>
                </a:lnTo>
                <a:lnTo>
                  <a:pt x="442" y="925"/>
                </a:lnTo>
                <a:lnTo>
                  <a:pt x="420" y="911"/>
                </a:lnTo>
                <a:lnTo>
                  <a:pt x="399" y="898"/>
                </a:lnTo>
                <a:lnTo>
                  <a:pt x="380" y="884"/>
                </a:lnTo>
                <a:lnTo>
                  <a:pt x="359" y="873"/>
                </a:lnTo>
                <a:lnTo>
                  <a:pt x="342" y="859"/>
                </a:lnTo>
                <a:lnTo>
                  <a:pt x="323" y="848"/>
                </a:lnTo>
                <a:lnTo>
                  <a:pt x="305" y="838"/>
                </a:lnTo>
                <a:lnTo>
                  <a:pt x="288" y="827"/>
                </a:lnTo>
                <a:lnTo>
                  <a:pt x="271" y="815"/>
                </a:lnTo>
                <a:lnTo>
                  <a:pt x="255" y="806"/>
                </a:lnTo>
                <a:lnTo>
                  <a:pt x="240" y="796"/>
                </a:lnTo>
                <a:lnTo>
                  <a:pt x="225" y="788"/>
                </a:lnTo>
                <a:lnTo>
                  <a:pt x="211" y="779"/>
                </a:lnTo>
                <a:lnTo>
                  <a:pt x="198" y="771"/>
                </a:lnTo>
                <a:lnTo>
                  <a:pt x="184" y="764"/>
                </a:lnTo>
                <a:lnTo>
                  <a:pt x="173" y="756"/>
                </a:lnTo>
                <a:lnTo>
                  <a:pt x="161" y="750"/>
                </a:lnTo>
                <a:lnTo>
                  <a:pt x="150" y="742"/>
                </a:lnTo>
                <a:lnTo>
                  <a:pt x="138" y="737"/>
                </a:lnTo>
                <a:lnTo>
                  <a:pt x="129" y="733"/>
                </a:lnTo>
                <a:lnTo>
                  <a:pt x="121" y="727"/>
                </a:lnTo>
                <a:lnTo>
                  <a:pt x="111" y="723"/>
                </a:lnTo>
                <a:lnTo>
                  <a:pt x="104" y="719"/>
                </a:lnTo>
                <a:lnTo>
                  <a:pt x="96" y="716"/>
                </a:lnTo>
                <a:lnTo>
                  <a:pt x="90" y="712"/>
                </a:lnTo>
                <a:lnTo>
                  <a:pt x="85" y="710"/>
                </a:lnTo>
                <a:lnTo>
                  <a:pt x="79" y="708"/>
                </a:lnTo>
                <a:lnTo>
                  <a:pt x="75" y="7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22"/>
          <p:cNvSpPr/>
          <p:nvPr/>
        </p:nvSpPr>
        <p:spPr>
          <a:xfrm>
            <a:off x="6146640" y="4154400"/>
            <a:ext cx="1532160" cy="254160"/>
          </a:xfrm>
          <a:custGeom>
            <a:avLst/>
            <a:gdLst/>
            <a:ahLst/>
            <a:rect l="l" t="t" r="r" b="b"/>
            <a:pathLst>
              <a:path w="1929" h="318">
                <a:moveTo>
                  <a:pt x="438" y="276"/>
                </a:moveTo>
                <a:lnTo>
                  <a:pt x="409" y="282"/>
                </a:lnTo>
                <a:lnTo>
                  <a:pt x="382" y="286"/>
                </a:lnTo>
                <a:lnTo>
                  <a:pt x="357" y="289"/>
                </a:lnTo>
                <a:lnTo>
                  <a:pt x="332" y="293"/>
                </a:lnTo>
                <a:lnTo>
                  <a:pt x="311" y="297"/>
                </a:lnTo>
                <a:lnTo>
                  <a:pt x="290" y="299"/>
                </a:lnTo>
                <a:lnTo>
                  <a:pt x="271" y="303"/>
                </a:lnTo>
                <a:lnTo>
                  <a:pt x="252" y="305"/>
                </a:lnTo>
                <a:lnTo>
                  <a:pt x="236" y="307"/>
                </a:lnTo>
                <a:lnTo>
                  <a:pt x="221" y="309"/>
                </a:lnTo>
                <a:lnTo>
                  <a:pt x="208" y="311"/>
                </a:lnTo>
                <a:lnTo>
                  <a:pt x="196" y="313"/>
                </a:lnTo>
                <a:lnTo>
                  <a:pt x="186" y="313"/>
                </a:lnTo>
                <a:lnTo>
                  <a:pt x="177" y="314"/>
                </a:lnTo>
                <a:lnTo>
                  <a:pt x="171" y="314"/>
                </a:lnTo>
                <a:lnTo>
                  <a:pt x="165" y="314"/>
                </a:lnTo>
                <a:lnTo>
                  <a:pt x="161" y="316"/>
                </a:lnTo>
                <a:lnTo>
                  <a:pt x="156" y="318"/>
                </a:lnTo>
                <a:lnTo>
                  <a:pt x="152" y="318"/>
                </a:lnTo>
                <a:lnTo>
                  <a:pt x="146" y="318"/>
                </a:lnTo>
                <a:lnTo>
                  <a:pt x="140" y="316"/>
                </a:lnTo>
                <a:lnTo>
                  <a:pt x="135" y="314"/>
                </a:lnTo>
                <a:lnTo>
                  <a:pt x="129" y="313"/>
                </a:lnTo>
                <a:lnTo>
                  <a:pt x="123" y="309"/>
                </a:lnTo>
                <a:lnTo>
                  <a:pt x="117" y="305"/>
                </a:lnTo>
                <a:lnTo>
                  <a:pt x="110" y="301"/>
                </a:lnTo>
                <a:lnTo>
                  <a:pt x="104" y="295"/>
                </a:lnTo>
                <a:lnTo>
                  <a:pt x="98" y="289"/>
                </a:lnTo>
                <a:lnTo>
                  <a:pt x="85" y="278"/>
                </a:lnTo>
                <a:lnTo>
                  <a:pt x="71" y="265"/>
                </a:lnTo>
                <a:lnTo>
                  <a:pt x="64" y="257"/>
                </a:lnTo>
                <a:lnTo>
                  <a:pt x="54" y="251"/>
                </a:lnTo>
                <a:lnTo>
                  <a:pt x="48" y="243"/>
                </a:lnTo>
                <a:lnTo>
                  <a:pt x="41" y="238"/>
                </a:lnTo>
                <a:lnTo>
                  <a:pt x="35" y="232"/>
                </a:lnTo>
                <a:lnTo>
                  <a:pt x="29" y="226"/>
                </a:lnTo>
                <a:lnTo>
                  <a:pt x="23" y="220"/>
                </a:lnTo>
                <a:lnTo>
                  <a:pt x="17" y="215"/>
                </a:lnTo>
                <a:lnTo>
                  <a:pt x="14" y="209"/>
                </a:lnTo>
                <a:lnTo>
                  <a:pt x="10" y="205"/>
                </a:lnTo>
                <a:lnTo>
                  <a:pt x="8" y="199"/>
                </a:lnTo>
                <a:lnTo>
                  <a:pt x="4" y="195"/>
                </a:lnTo>
                <a:lnTo>
                  <a:pt x="2" y="190"/>
                </a:lnTo>
                <a:lnTo>
                  <a:pt x="2" y="186"/>
                </a:lnTo>
                <a:lnTo>
                  <a:pt x="0" y="180"/>
                </a:lnTo>
                <a:lnTo>
                  <a:pt x="0" y="176"/>
                </a:lnTo>
                <a:lnTo>
                  <a:pt x="14" y="176"/>
                </a:lnTo>
                <a:lnTo>
                  <a:pt x="27" y="176"/>
                </a:lnTo>
                <a:lnTo>
                  <a:pt x="41" y="174"/>
                </a:lnTo>
                <a:lnTo>
                  <a:pt x="56" y="174"/>
                </a:lnTo>
                <a:lnTo>
                  <a:pt x="73" y="174"/>
                </a:lnTo>
                <a:lnTo>
                  <a:pt x="90" y="172"/>
                </a:lnTo>
                <a:lnTo>
                  <a:pt x="110" y="172"/>
                </a:lnTo>
                <a:lnTo>
                  <a:pt x="129" y="170"/>
                </a:lnTo>
                <a:lnTo>
                  <a:pt x="150" y="170"/>
                </a:lnTo>
                <a:lnTo>
                  <a:pt x="171" y="169"/>
                </a:lnTo>
                <a:lnTo>
                  <a:pt x="194" y="167"/>
                </a:lnTo>
                <a:lnTo>
                  <a:pt x="217" y="165"/>
                </a:lnTo>
                <a:lnTo>
                  <a:pt x="240" y="163"/>
                </a:lnTo>
                <a:lnTo>
                  <a:pt x="267" y="161"/>
                </a:lnTo>
                <a:lnTo>
                  <a:pt x="292" y="159"/>
                </a:lnTo>
                <a:lnTo>
                  <a:pt x="321" y="155"/>
                </a:lnTo>
                <a:lnTo>
                  <a:pt x="350" y="153"/>
                </a:lnTo>
                <a:lnTo>
                  <a:pt x="378" y="149"/>
                </a:lnTo>
                <a:lnTo>
                  <a:pt x="409" y="147"/>
                </a:lnTo>
                <a:lnTo>
                  <a:pt x="440" y="144"/>
                </a:lnTo>
                <a:lnTo>
                  <a:pt x="472" y="140"/>
                </a:lnTo>
                <a:lnTo>
                  <a:pt x="505" y="136"/>
                </a:lnTo>
                <a:lnTo>
                  <a:pt x="540" y="132"/>
                </a:lnTo>
                <a:lnTo>
                  <a:pt x="576" y="128"/>
                </a:lnTo>
                <a:lnTo>
                  <a:pt x="613" y="124"/>
                </a:lnTo>
                <a:lnTo>
                  <a:pt x="649" y="119"/>
                </a:lnTo>
                <a:lnTo>
                  <a:pt x="689" y="115"/>
                </a:lnTo>
                <a:lnTo>
                  <a:pt x="728" y="109"/>
                </a:lnTo>
                <a:lnTo>
                  <a:pt x="768" y="105"/>
                </a:lnTo>
                <a:lnTo>
                  <a:pt x="810" y="99"/>
                </a:lnTo>
                <a:lnTo>
                  <a:pt x="852" y="94"/>
                </a:lnTo>
                <a:lnTo>
                  <a:pt x="897" y="88"/>
                </a:lnTo>
                <a:lnTo>
                  <a:pt x="941" y="82"/>
                </a:lnTo>
                <a:lnTo>
                  <a:pt x="983" y="76"/>
                </a:lnTo>
                <a:lnTo>
                  <a:pt x="1023" y="71"/>
                </a:lnTo>
                <a:lnTo>
                  <a:pt x="1064" y="65"/>
                </a:lnTo>
                <a:lnTo>
                  <a:pt x="1104" y="61"/>
                </a:lnTo>
                <a:lnTo>
                  <a:pt x="1140" y="55"/>
                </a:lnTo>
                <a:lnTo>
                  <a:pt x="1177" y="51"/>
                </a:lnTo>
                <a:lnTo>
                  <a:pt x="1213" y="46"/>
                </a:lnTo>
                <a:lnTo>
                  <a:pt x="1246" y="42"/>
                </a:lnTo>
                <a:lnTo>
                  <a:pt x="1281" y="38"/>
                </a:lnTo>
                <a:lnTo>
                  <a:pt x="1311" y="34"/>
                </a:lnTo>
                <a:lnTo>
                  <a:pt x="1342" y="30"/>
                </a:lnTo>
                <a:lnTo>
                  <a:pt x="1371" y="28"/>
                </a:lnTo>
                <a:lnTo>
                  <a:pt x="1400" y="25"/>
                </a:lnTo>
                <a:lnTo>
                  <a:pt x="1426" y="23"/>
                </a:lnTo>
                <a:lnTo>
                  <a:pt x="1453" y="19"/>
                </a:lnTo>
                <a:lnTo>
                  <a:pt x="1476" y="17"/>
                </a:lnTo>
                <a:lnTo>
                  <a:pt x="1499" y="15"/>
                </a:lnTo>
                <a:lnTo>
                  <a:pt x="1522" y="13"/>
                </a:lnTo>
                <a:lnTo>
                  <a:pt x="1543" y="9"/>
                </a:lnTo>
                <a:lnTo>
                  <a:pt x="1563" y="9"/>
                </a:lnTo>
                <a:lnTo>
                  <a:pt x="1582" y="7"/>
                </a:lnTo>
                <a:lnTo>
                  <a:pt x="1599" y="5"/>
                </a:lnTo>
                <a:lnTo>
                  <a:pt x="1614" y="3"/>
                </a:lnTo>
                <a:lnTo>
                  <a:pt x="1630" y="3"/>
                </a:lnTo>
                <a:lnTo>
                  <a:pt x="1643" y="2"/>
                </a:lnTo>
                <a:lnTo>
                  <a:pt x="1655" y="2"/>
                </a:lnTo>
                <a:lnTo>
                  <a:pt x="1666" y="0"/>
                </a:lnTo>
                <a:lnTo>
                  <a:pt x="1676" y="0"/>
                </a:lnTo>
                <a:lnTo>
                  <a:pt x="1686" y="0"/>
                </a:lnTo>
                <a:lnTo>
                  <a:pt x="1693" y="0"/>
                </a:lnTo>
                <a:lnTo>
                  <a:pt x="1699" y="0"/>
                </a:lnTo>
                <a:lnTo>
                  <a:pt x="1720" y="0"/>
                </a:lnTo>
                <a:lnTo>
                  <a:pt x="1741" y="2"/>
                </a:lnTo>
                <a:lnTo>
                  <a:pt x="1760" y="3"/>
                </a:lnTo>
                <a:lnTo>
                  <a:pt x="1778" y="9"/>
                </a:lnTo>
                <a:lnTo>
                  <a:pt x="1795" y="13"/>
                </a:lnTo>
                <a:lnTo>
                  <a:pt x="1812" y="21"/>
                </a:lnTo>
                <a:lnTo>
                  <a:pt x="1826" y="28"/>
                </a:lnTo>
                <a:lnTo>
                  <a:pt x="1841" y="38"/>
                </a:lnTo>
                <a:lnTo>
                  <a:pt x="1853" y="46"/>
                </a:lnTo>
                <a:lnTo>
                  <a:pt x="1864" y="55"/>
                </a:lnTo>
                <a:lnTo>
                  <a:pt x="1876" y="65"/>
                </a:lnTo>
                <a:lnTo>
                  <a:pt x="1885" y="74"/>
                </a:lnTo>
                <a:lnTo>
                  <a:pt x="1895" y="84"/>
                </a:lnTo>
                <a:lnTo>
                  <a:pt x="1904" y="94"/>
                </a:lnTo>
                <a:lnTo>
                  <a:pt x="1924" y="113"/>
                </a:lnTo>
                <a:lnTo>
                  <a:pt x="1925" y="119"/>
                </a:lnTo>
                <a:lnTo>
                  <a:pt x="1925" y="126"/>
                </a:lnTo>
                <a:lnTo>
                  <a:pt x="1927" y="132"/>
                </a:lnTo>
                <a:lnTo>
                  <a:pt x="1929" y="136"/>
                </a:lnTo>
                <a:lnTo>
                  <a:pt x="1929" y="146"/>
                </a:lnTo>
                <a:lnTo>
                  <a:pt x="1929" y="149"/>
                </a:lnTo>
                <a:lnTo>
                  <a:pt x="1927" y="153"/>
                </a:lnTo>
                <a:lnTo>
                  <a:pt x="1927" y="157"/>
                </a:lnTo>
                <a:lnTo>
                  <a:pt x="1925" y="161"/>
                </a:lnTo>
                <a:lnTo>
                  <a:pt x="1922" y="163"/>
                </a:lnTo>
                <a:lnTo>
                  <a:pt x="1920" y="167"/>
                </a:lnTo>
                <a:lnTo>
                  <a:pt x="1916" y="169"/>
                </a:lnTo>
                <a:lnTo>
                  <a:pt x="1910" y="170"/>
                </a:lnTo>
                <a:lnTo>
                  <a:pt x="1904" y="174"/>
                </a:lnTo>
                <a:lnTo>
                  <a:pt x="1899" y="176"/>
                </a:lnTo>
                <a:lnTo>
                  <a:pt x="1893" y="178"/>
                </a:lnTo>
                <a:lnTo>
                  <a:pt x="1883" y="180"/>
                </a:lnTo>
                <a:lnTo>
                  <a:pt x="1876" y="182"/>
                </a:lnTo>
                <a:lnTo>
                  <a:pt x="1866" y="184"/>
                </a:lnTo>
                <a:lnTo>
                  <a:pt x="1854" y="184"/>
                </a:lnTo>
                <a:lnTo>
                  <a:pt x="1843" y="186"/>
                </a:lnTo>
                <a:lnTo>
                  <a:pt x="1829" y="186"/>
                </a:lnTo>
                <a:lnTo>
                  <a:pt x="1816" y="186"/>
                </a:lnTo>
                <a:lnTo>
                  <a:pt x="1801" y="186"/>
                </a:lnTo>
                <a:lnTo>
                  <a:pt x="1785" y="186"/>
                </a:lnTo>
                <a:lnTo>
                  <a:pt x="1768" y="184"/>
                </a:lnTo>
                <a:lnTo>
                  <a:pt x="1749" y="184"/>
                </a:lnTo>
                <a:lnTo>
                  <a:pt x="1730" y="182"/>
                </a:lnTo>
                <a:lnTo>
                  <a:pt x="1709" y="180"/>
                </a:lnTo>
                <a:lnTo>
                  <a:pt x="1687" y="178"/>
                </a:lnTo>
                <a:lnTo>
                  <a:pt x="1662" y="176"/>
                </a:lnTo>
                <a:lnTo>
                  <a:pt x="1639" y="174"/>
                </a:lnTo>
                <a:lnTo>
                  <a:pt x="1616" y="172"/>
                </a:lnTo>
                <a:lnTo>
                  <a:pt x="1593" y="170"/>
                </a:lnTo>
                <a:lnTo>
                  <a:pt x="1570" y="169"/>
                </a:lnTo>
                <a:lnTo>
                  <a:pt x="1547" y="167"/>
                </a:lnTo>
                <a:lnTo>
                  <a:pt x="1526" y="167"/>
                </a:lnTo>
                <a:lnTo>
                  <a:pt x="1484" y="165"/>
                </a:lnTo>
                <a:lnTo>
                  <a:pt x="1446" y="163"/>
                </a:lnTo>
                <a:lnTo>
                  <a:pt x="1405" y="163"/>
                </a:lnTo>
                <a:lnTo>
                  <a:pt x="1369" y="163"/>
                </a:lnTo>
                <a:lnTo>
                  <a:pt x="1332" y="163"/>
                </a:lnTo>
                <a:lnTo>
                  <a:pt x="1315" y="163"/>
                </a:lnTo>
                <a:lnTo>
                  <a:pt x="1296" y="163"/>
                </a:lnTo>
                <a:lnTo>
                  <a:pt x="1277" y="165"/>
                </a:lnTo>
                <a:lnTo>
                  <a:pt x="1256" y="165"/>
                </a:lnTo>
                <a:lnTo>
                  <a:pt x="1234" y="167"/>
                </a:lnTo>
                <a:lnTo>
                  <a:pt x="1211" y="167"/>
                </a:lnTo>
                <a:lnTo>
                  <a:pt x="1188" y="169"/>
                </a:lnTo>
                <a:lnTo>
                  <a:pt x="1163" y="170"/>
                </a:lnTo>
                <a:lnTo>
                  <a:pt x="1138" y="172"/>
                </a:lnTo>
                <a:lnTo>
                  <a:pt x="1112" y="174"/>
                </a:lnTo>
                <a:lnTo>
                  <a:pt x="1085" y="176"/>
                </a:lnTo>
                <a:lnTo>
                  <a:pt x="1056" y="178"/>
                </a:lnTo>
                <a:lnTo>
                  <a:pt x="1027" y="182"/>
                </a:lnTo>
                <a:lnTo>
                  <a:pt x="996" y="184"/>
                </a:lnTo>
                <a:lnTo>
                  <a:pt x="964" y="186"/>
                </a:lnTo>
                <a:lnTo>
                  <a:pt x="933" y="188"/>
                </a:lnTo>
                <a:lnTo>
                  <a:pt x="866" y="197"/>
                </a:lnTo>
                <a:lnTo>
                  <a:pt x="803" y="207"/>
                </a:lnTo>
                <a:lnTo>
                  <a:pt x="737" y="217"/>
                </a:lnTo>
                <a:lnTo>
                  <a:pt x="676" y="228"/>
                </a:lnTo>
                <a:lnTo>
                  <a:pt x="614" y="238"/>
                </a:lnTo>
                <a:lnTo>
                  <a:pt x="555" y="251"/>
                </a:lnTo>
                <a:lnTo>
                  <a:pt x="495" y="263"/>
                </a:lnTo>
                <a:lnTo>
                  <a:pt x="438" y="2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23"/>
          <p:cNvSpPr/>
          <p:nvPr/>
        </p:nvSpPr>
        <p:spPr>
          <a:xfrm>
            <a:off x="6821640" y="3513240"/>
            <a:ext cx="804600" cy="498240"/>
          </a:xfrm>
          <a:custGeom>
            <a:avLst/>
            <a:gdLst/>
            <a:ahLst/>
            <a:rect l="l" t="t" r="r" b="b"/>
            <a:pathLst>
              <a:path w="1013" h="627">
                <a:moveTo>
                  <a:pt x="0" y="13"/>
                </a:moveTo>
                <a:lnTo>
                  <a:pt x="34" y="5"/>
                </a:lnTo>
                <a:lnTo>
                  <a:pt x="69" y="0"/>
                </a:lnTo>
                <a:lnTo>
                  <a:pt x="92" y="19"/>
                </a:lnTo>
                <a:lnTo>
                  <a:pt x="113" y="36"/>
                </a:lnTo>
                <a:lnTo>
                  <a:pt x="132" y="53"/>
                </a:lnTo>
                <a:lnTo>
                  <a:pt x="153" y="71"/>
                </a:lnTo>
                <a:lnTo>
                  <a:pt x="172" y="88"/>
                </a:lnTo>
                <a:lnTo>
                  <a:pt x="191" y="103"/>
                </a:lnTo>
                <a:lnTo>
                  <a:pt x="211" y="119"/>
                </a:lnTo>
                <a:lnTo>
                  <a:pt x="230" y="134"/>
                </a:lnTo>
                <a:lnTo>
                  <a:pt x="266" y="163"/>
                </a:lnTo>
                <a:lnTo>
                  <a:pt x="301" y="190"/>
                </a:lnTo>
                <a:lnTo>
                  <a:pt x="334" y="215"/>
                </a:lnTo>
                <a:lnTo>
                  <a:pt x="364" y="239"/>
                </a:lnTo>
                <a:lnTo>
                  <a:pt x="395" y="263"/>
                </a:lnTo>
                <a:lnTo>
                  <a:pt x="426" y="286"/>
                </a:lnTo>
                <a:lnTo>
                  <a:pt x="458" y="305"/>
                </a:lnTo>
                <a:lnTo>
                  <a:pt x="491" y="324"/>
                </a:lnTo>
                <a:lnTo>
                  <a:pt x="525" y="343"/>
                </a:lnTo>
                <a:lnTo>
                  <a:pt x="560" y="360"/>
                </a:lnTo>
                <a:lnTo>
                  <a:pt x="597" y="376"/>
                </a:lnTo>
                <a:lnTo>
                  <a:pt x="616" y="383"/>
                </a:lnTo>
                <a:lnTo>
                  <a:pt x="635" y="391"/>
                </a:lnTo>
                <a:lnTo>
                  <a:pt x="669" y="408"/>
                </a:lnTo>
                <a:lnTo>
                  <a:pt x="704" y="426"/>
                </a:lnTo>
                <a:lnTo>
                  <a:pt x="737" y="443"/>
                </a:lnTo>
                <a:lnTo>
                  <a:pt x="769" y="456"/>
                </a:lnTo>
                <a:lnTo>
                  <a:pt x="802" y="470"/>
                </a:lnTo>
                <a:lnTo>
                  <a:pt x="833" y="483"/>
                </a:lnTo>
                <a:lnTo>
                  <a:pt x="863" y="495"/>
                </a:lnTo>
                <a:lnTo>
                  <a:pt x="894" y="504"/>
                </a:lnTo>
                <a:lnTo>
                  <a:pt x="909" y="512"/>
                </a:lnTo>
                <a:lnTo>
                  <a:pt x="923" y="518"/>
                </a:lnTo>
                <a:lnTo>
                  <a:pt x="936" y="524"/>
                </a:lnTo>
                <a:lnTo>
                  <a:pt x="948" y="529"/>
                </a:lnTo>
                <a:lnTo>
                  <a:pt x="959" y="533"/>
                </a:lnTo>
                <a:lnTo>
                  <a:pt x="969" y="537"/>
                </a:lnTo>
                <a:lnTo>
                  <a:pt x="977" y="543"/>
                </a:lnTo>
                <a:lnTo>
                  <a:pt x="984" y="545"/>
                </a:lnTo>
                <a:lnTo>
                  <a:pt x="992" y="549"/>
                </a:lnTo>
                <a:lnTo>
                  <a:pt x="998" y="552"/>
                </a:lnTo>
                <a:lnTo>
                  <a:pt x="1002" y="554"/>
                </a:lnTo>
                <a:lnTo>
                  <a:pt x="1005" y="558"/>
                </a:lnTo>
                <a:lnTo>
                  <a:pt x="1009" y="560"/>
                </a:lnTo>
                <a:lnTo>
                  <a:pt x="1011" y="562"/>
                </a:lnTo>
                <a:lnTo>
                  <a:pt x="1013" y="566"/>
                </a:lnTo>
                <a:lnTo>
                  <a:pt x="1013" y="568"/>
                </a:lnTo>
                <a:lnTo>
                  <a:pt x="1009" y="570"/>
                </a:lnTo>
                <a:lnTo>
                  <a:pt x="1007" y="573"/>
                </a:lnTo>
                <a:lnTo>
                  <a:pt x="1002" y="575"/>
                </a:lnTo>
                <a:lnTo>
                  <a:pt x="998" y="579"/>
                </a:lnTo>
                <a:lnTo>
                  <a:pt x="990" y="581"/>
                </a:lnTo>
                <a:lnTo>
                  <a:pt x="982" y="585"/>
                </a:lnTo>
                <a:lnTo>
                  <a:pt x="975" y="589"/>
                </a:lnTo>
                <a:lnTo>
                  <a:pt x="965" y="593"/>
                </a:lnTo>
                <a:lnTo>
                  <a:pt x="955" y="596"/>
                </a:lnTo>
                <a:lnTo>
                  <a:pt x="944" y="600"/>
                </a:lnTo>
                <a:lnTo>
                  <a:pt x="930" y="602"/>
                </a:lnTo>
                <a:lnTo>
                  <a:pt x="917" y="606"/>
                </a:lnTo>
                <a:lnTo>
                  <a:pt x="902" y="610"/>
                </a:lnTo>
                <a:lnTo>
                  <a:pt x="884" y="612"/>
                </a:lnTo>
                <a:lnTo>
                  <a:pt x="867" y="616"/>
                </a:lnTo>
                <a:lnTo>
                  <a:pt x="848" y="618"/>
                </a:lnTo>
                <a:lnTo>
                  <a:pt x="829" y="620"/>
                </a:lnTo>
                <a:lnTo>
                  <a:pt x="810" y="621"/>
                </a:lnTo>
                <a:lnTo>
                  <a:pt x="790" y="623"/>
                </a:lnTo>
                <a:lnTo>
                  <a:pt x="773" y="625"/>
                </a:lnTo>
                <a:lnTo>
                  <a:pt x="756" y="625"/>
                </a:lnTo>
                <a:lnTo>
                  <a:pt x="739" y="627"/>
                </a:lnTo>
                <a:lnTo>
                  <a:pt x="721" y="627"/>
                </a:lnTo>
                <a:lnTo>
                  <a:pt x="706" y="627"/>
                </a:lnTo>
                <a:lnTo>
                  <a:pt x="691" y="627"/>
                </a:lnTo>
                <a:lnTo>
                  <a:pt x="677" y="627"/>
                </a:lnTo>
                <a:lnTo>
                  <a:pt x="662" y="625"/>
                </a:lnTo>
                <a:lnTo>
                  <a:pt x="648" y="625"/>
                </a:lnTo>
                <a:lnTo>
                  <a:pt x="635" y="623"/>
                </a:lnTo>
                <a:lnTo>
                  <a:pt x="623" y="621"/>
                </a:lnTo>
                <a:lnTo>
                  <a:pt x="612" y="620"/>
                </a:lnTo>
                <a:lnTo>
                  <a:pt x="600" y="618"/>
                </a:lnTo>
                <a:lnTo>
                  <a:pt x="589" y="616"/>
                </a:lnTo>
                <a:lnTo>
                  <a:pt x="577" y="612"/>
                </a:lnTo>
                <a:lnTo>
                  <a:pt x="566" y="606"/>
                </a:lnTo>
                <a:lnTo>
                  <a:pt x="554" y="600"/>
                </a:lnTo>
                <a:lnTo>
                  <a:pt x="541" y="595"/>
                </a:lnTo>
                <a:lnTo>
                  <a:pt x="529" y="587"/>
                </a:lnTo>
                <a:lnTo>
                  <a:pt x="516" y="579"/>
                </a:lnTo>
                <a:lnTo>
                  <a:pt x="502" y="570"/>
                </a:lnTo>
                <a:lnTo>
                  <a:pt x="489" y="558"/>
                </a:lnTo>
                <a:lnTo>
                  <a:pt x="476" y="547"/>
                </a:lnTo>
                <a:lnTo>
                  <a:pt x="462" y="535"/>
                </a:lnTo>
                <a:lnTo>
                  <a:pt x="447" y="522"/>
                </a:lnTo>
                <a:lnTo>
                  <a:pt x="433" y="506"/>
                </a:lnTo>
                <a:lnTo>
                  <a:pt x="418" y="489"/>
                </a:lnTo>
                <a:lnTo>
                  <a:pt x="403" y="472"/>
                </a:lnTo>
                <a:lnTo>
                  <a:pt x="387" y="454"/>
                </a:lnTo>
                <a:lnTo>
                  <a:pt x="372" y="435"/>
                </a:lnTo>
                <a:lnTo>
                  <a:pt x="355" y="414"/>
                </a:lnTo>
                <a:lnTo>
                  <a:pt x="337" y="391"/>
                </a:lnTo>
                <a:lnTo>
                  <a:pt x="316" y="368"/>
                </a:lnTo>
                <a:lnTo>
                  <a:pt x="297" y="345"/>
                </a:lnTo>
                <a:lnTo>
                  <a:pt x="274" y="320"/>
                </a:lnTo>
                <a:lnTo>
                  <a:pt x="253" y="293"/>
                </a:lnTo>
                <a:lnTo>
                  <a:pt x="228" y="266"/>
                </a:lnTo>
                <a:lnTo>
                  <a:pt x="203" y="238"/>
                </a:lnTo>
                <a:lnTo>
                  <a:pt x="176" y="209"/>
                </a:lnTo>
                <a:lnTo>
                  <a:pt x="149" y="178"/>
                </a:lnTo>
                <a:lnTo>
                  <a:pt x="122" y="147"/>
                </a:lnTo>
                <a:lnTo>
                  <a:pt x="92" y="115"/>
                </a:lnTo>
                <a:lnTo>
                  <a:pt x="63" y="82"/>
                </a:lnTo>
                <a:lnTo>
                  <a:pt x="30" y="48"/>
                </a:lnTo>
                <a:lnTo>
                  <a:pt x="0" y="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124"/>
          <p:cNvSpPr/>
          <p:nvPr/>
        </p:nvSpPr>
        <p:spPr>
          <a:xfrm>
            <a:off x="6284880" y="3524400"/>
            <a:ext cx="536760" cy="572760"/>
          </a:xfrm>
          <a:custGeom>
            <a:avLst/>
            <a:gdLst/>
            <a:ahLst/>
            <a:rect l="l" t="t" r="r" b="b"/>
            <a:pathLst>
              <a:path w="676" h="722">
                <a:moveTo>
                  <a:pt x="121" y="580"/>
                </a:moveTo>
                <a:lnTo>
                  <a:pt x="128" y="572"/>
                </a:lnTo>
                <a:lnTo>
                  <a:pt x="138" y="564"/>
                </a:lnTo>
                <a:lnTo>
                  <a:pt x="148" y="555"/>
                </a:lnTo>
                <a:lnTo>
                  <a:pt x="157" y="545"/>
                </a:lnTo>
                <a:lnTo>
                  <a:pt x="169" y="536"/>
                </a:lnTo>
                <a:lnTo>
                  <a:pt x="178" y="524"/>
                </a:lnTo>
                <a:lnTo>
                  <a:pt x="190" y="512"/>
                </a:lnTo>
                <a:lnTo>
                  <a:pt x="200" y="501"/>
                </a:lnTo>
                <a:lnTo>
                  <a:pt x="211" y="488"/>
                </a:lnTo>
                <a:lnTo>
                  <a:pt x="223" y="474"/>
                </a:lnTo>
                <a:lnTo>
                  <a:pt x="234" y="461"/>
                </a:lnTo>
                <a:lnTo>
                  <a:pt x="248" y="445"/>
                </a:lnTo>
                <a:lnTo>
                  <a:pt x="259" y="430"/>
                </a:lnTo>
                <a:lnTo>
                  <a:pt x="272" y="415"/>
                </a:lnTo>
                <a:lnTo>
                  <a:pt x="284" y="397"/>
                </a:lnTo>
                <a:lnTo>
                  <a:pt x="297" y="380"/>
                </a:lnTo>
                <a:lnTo>
                  <a:pt x="311" y="361"/>
                </a:lnTo>
                <a:lnTo>
                  <a:pt x="324" y="342"/>
                </a:lnTo>
                <a:lnTo>
                  <a:pt x="340" y="322"/>
                </a:lnTo>
                <a:lnTo>
                  <a:pt x="353" y="301"/>
                </a:lnTo>
                <a:lnTo>
                  <a:pt x="368" y="280"/>
                </a:lnTo>
                <a:lnTo>
                  <a:pt x="382" y="259"/>
                </a:lnTo>
                <a:lnTo>
                  <a:pt x="397" y="236"/>
                </a:lnTo>
                <a:lnTo>
                  <a:pt x="413" y="213"/>
                </a:lnTo>
                <a:lnTo>
                  <a:pt x="428" y="188"/>
                </a:lnTo>
                <a:lnTo>
                  <a:pt x="445" y="163"/>
                </a:lnTo>
                <a:lnTo>
                  <a:pt x="461" y="138"/>
                </a:lnTo>
                <a:lnTo>
                  <a:pt x="476" y="111"/>
                </a:lnTo>
                <a:lnTo>
                  <a:pt x="493" y="84"/>
                </a:lnTo>
                <a:lnTo>
                  <a:pt x="510" y="58"/>
                </a:lnTo>
                <a:lnTo>
                  <a:pt x="528" y="29"/>
                </a:lnTo>
                <a:lnTo>
                  <a:pt x="545" y="0"/>
                </a:lnTo>
                <a:lnTo>
                  <a:pt x="610" y="17"/>
                </a:lnTo>
                <a:lnTo>
                  <a:pt x="676" y="36"/>
                </a:lnTo>
                <a:lnTo>
                  <a:pt x="668" y="52"/>
                </a:lnTo>
                <a:lnTo>
                  <a:pt x="660" y="67"/>
                </a:lnTo>
                <a:lnTo>
                  <a:pt x="651" y="83"/>
                </a:lnTo>
                <a:lnTo>
                  <a:pt x="641" y="98"/>
                </a:lnTo>
                <a:lnTo>
                  <a:pt x="631" y="115"/>
                </a:lnTo>
                <a:lnTo>
                  <a:pt x="622" y="132"/>
                </a:lnTo>
                <a:lnTo>
                  <a:pt x="610" y="150"/>
                </a:lnTo>
                <a:lnTo>
                  <a:pt x="597" y="167"/>
                </a:lnTo>
                <a:lnTo>
                  <a:pt x="585" y="186"/>
                </a:lnTo>
                <a:lnTo>
                  <a:pt x="572" y="205"/>
                </a:lnTo>
                <a:lnTo>
                  <a:pt x="545" y="244"/>
                </a:lnTo>
                <a:lnTo>
                  <a:pt x="516" y="286"/>
                </a:lnTo>
                <a:lnTo>
                  <a:pt x="486" y="328"/>
                </a:lnTo>
                <a:lnTo>
                  <a:pt x="470" y="351"/>
                </a:lnTo>
                <a:lnTo>
                  <a:pt x="455" y="374"/>
                </a:lnTo>
                <a:lnTo>
                  <a:pt x="438" y="395"/>
                </a:lnTo>
                <a:lnTo>
                  <a:pt x="420" y="417"/>
                </a:lnTo>
                <a:lnTo>
                  <a:pt x="403" y="438"/>
                </a:lnTo>
                <a:lnTo>
                  <a:pt x="384" y="459"/>
                </a:lnTo>
                <a:lnTo>
                  <a:pt x="367" y="478"/>
                </a:lnTo>
                <a:lnTo>
                  <a:pt x="347" y="497"/>
                </a:lnTo>
                <a:lnTo>
                  <a:pt x="328" y="516"/>
                </a:lnTo>
                <a:lnTo>
                  <a:pt x="309" y="534"/>
                </a:lnTo>
                <a:lnTo>
                  <a:pt x="290" y="551"/>
                </a:lnTo>
                <a:lnTo>
                  <a:pt x="271" y="568"/>
                </a:lnTo>
                <a:lnTo>
                  <a:pt x="249" y="585"/>
                </a:lnTo>
                <a:lnTo>
                  <a:pt x="230" y="601"/>
                </a:lnTo>
                <a:lnTo>
                  <a:pt x="211" y="616"/>
                </a:lnTo>
                <a:lnTo>
                  <a:pt x="192" y="630"/>
                </a:lnTo>
                <a:lnTo>
                  <a:pt x="169" y="643"/>
                </a:lnTo>
                <a:lnTo>
                  <a:pt x="150" y="656"/>
                </a:lnTo>
                <a:lnTo>
                  <a:pt x="130" y="668"/>
                </a:lnTo>
                <a:lnTo>
                  <a:pt x="113" y="678"/>
                </a:lnTo>
                <a:lnTo>
                  <a:pt x="98" y="687"/>
                </a:lnTo>
                <a:lnTo>
                  <a:pt x="82" y="695"/>
                </a:lnTo>
                <a:lnTo>
                  <a:pt x="69" y="703"/>
                </a:lnTo>
                <a:lnTo>
                  <a:pt x="57" y="708"/>
                </a:lnTo>
                <a:lnTo>
                  <a:pt x="46" y="712"/>
                </a:lnTo>
                <a:lnTo>
                  <a:pt x="36" y="716"/>
                </a:lnTo>
                <a:lnTo>
                  <a:pt x="27" y="720"/>
                </a:lnTo>
                <a:lnTo>
                  <a:pt x="21" y="722"/>
                </a:lnTo>
                <a:lnTo>
                  <a:pt x="13" y="722"/>
                </a:lnTo>
                <a:lnTo>
                  <a:pt x="9" y="722"/>
                </a:lnTo>
                <a:lnTo>
                  <a:pt x="6" y="720"/>
                </a:lnTo>
                <a:lnTo>
                  <a:pt x="2" y="718"/>
                </a:lnTo>
                <a:lnTo>
                  <a:pt x="0" y="716"/>
                </a:lnTo>
                <a:lnTo>
                  <a:pt x="0" y="712"/>
                </a:lnTo>
                <a:lnTo>
                  <a:pt x="2" y="708"/>
                </a:lnTo>
                <a:lnTo>
                  <a:pt x="2" y="703"/>
                </a:lnTo>
                <a:lnTo>
                  <a:pt x="6" y="697"/>
                </a:lnTo>
                <a:lnTo>
                  <a:pt x="9" y="689"/>
                </a:lnTo>
                <a:lnTo>
                  <a:pt x="15" y="681"/>
                </a:lnTo>
                <a:lnTo>
                  <a:pt x="21" y="674"/>
                </a:lnTo>
                <a:lnTo>
                  <a:pt x="31" y="664"/>
                </a:lnTo>
                <a:lnTo>
                  <a:pt x="38" y="655"/>
                </a:lnTo>
                <a:lnTo>
                  <a:pt x="50" y="643"/>
                </a:lnTo>
                <a:lnTo>
                  <a:pt x="61" y="631"/>
                </a:lnTo>
                <a:lnTo>
                  <a:pt x="73" y="620"/>
                </a:lnTo>
                <a:lnTo>
                  <a:pt x="88" y="607"/>
                </a:lnTo>
                <a:lnTo>
                  <a:pt x="104" y="593"/>
                </a:lnTo>
                <a:lnTo>
                  <a:pt x="121" y="5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125"/>
          <p:cNvSpPr/>
          <p:nvPr/>
        </p:nvSpPr>
        <p:spPr>
          <a:xfrm>
            <a:off x="6711840" y="2776680"/>
            <a:ext cx="196920" cy="1226880"/>
          </a:xfrm>
          <a:custGeom>
            <a:avLst/>
            <a:gdLst/>
            <a:ahLst/>
            <a:rect l="l" t="t" r="r" b="b"/>
            <a:pathLst>
              <a:path w="248" h="1547">
                <a:moveTo>
                  <a:pt x="68" y="297"/>
                </a:moveTo>
                <a:lnTo>
                  <a:pt x="64" y="278"/>
                </a:lnTo>
                <a:lnTo>
                  <a:pt x="62" y="257"/>
                </a:lnTo>
                <a:lnTo>
                  <a:pt x="60" y="239"/>
                </a:lnTo>
                <a:lnTo>
                  <a:pt x="58" y="222"/>
                </a:lnTo>
                <a:lnTo>
                  <a:pt x="56" y="205"/>
                </a:lnTo>
                <a:lnTo>
                  <a:pt x="52" y="190"/>
                </a:lnTo>
                <a:lnTo>
                  <a:pt x="50" y="176"/>
                </a:lnTo>
                <a:lnTo>
                  <a:pt x="48" y="163"/>
                </a:lnTo>
                <a:lnTo>
                  <a:pt x="44" y="149"/>
                </a:lnTo>
                <a:lnTo>
                  <a:pt x="41" y="138"/>
                </a:lnTo>
                <a:lnTo>
                  <a:pt x="39" y="126"/>
                </a:lnTo>
                <a:lnTo>
                  <a:pt x="35" y="117"/>
                </a:lnTo>
                <a:lnTo>
                  <a:pt x="31" y="107"/>
                </a:lnTo>
                <a:lnTo>
                  <a:pt x="27" y="99"/>
                </a:lnTo>
                <a:lnTo>
                  <a:pt x="23" y="90"/>
                </a:lnTo>
                <a:lnTo>
                  <a:pt x="20" y="84"/>
                </a:lnTo>
                <a:lnTo>
                  <a:pt x="16" y="78"/>
                </a:lnTo>
                <a:lnTo>
                  <a:pt x="12" y="74"/>
                </a:lnTo>
                <a:lnTo>
                  <a:pt x="8" y="69"/>
                </a:lnTo>
                <a:lnTo>
                  <a:pt x="6" y="65"/>
                </a:lnTo>
                <a:lnTo>
                  <a:pt x="4" y="59"/>
                </a:lnTo>
                <a:lnTo>
                  <a:pt x="2" y="55"/>
                </a:lnTo>
                <a:lnTo>
                  <a:pt x="0" y="46"/>
                </a:lnTo>
                <a:lnTo>
                  <a:pt x="0" y="36"/>
                </a:lnTo>
                <a:lnTo>
                  <a:pt x="0" y="26"/>
                </a:lnTo>
                <a:lnTo>
                  <a:pt x="4" y="17"/>
                </a:lnTo>
                <a:lnTo>
                  <a:pt x="8" y="7"/>
                </a:lnTo>
                <a:lnTo>
                  <a:pt x="10" y="5"/>
                </a:lnTo>
                <a:lnTo>
                  <a:pt x="14" y="3"/>
                </a:lnTo>
                <a:lnTo>
                  <a:pt x="18" y="1"/>
                </a:lnTo>
                <a:lnTo>
                  <a:pt x="21" y="1"/>
                </a:lnTo>
                <a:lnTo>
                  <a:pt x="25" y="0"/>
                </a:lnTo>
                <a:lnTo>
                  <a:pt x="31" y="0"/>
                </a:lnTo>
                <a:lnTo>
                  <a:pt x="39" y="0"/>
                </a:lnTo>
                <a:lnTo>
                  <a:pt x="44" y="0"/>
                </a:lnTo>
                <a:lnTo>
                  <a:pt x="52" y="0"/>
                </a:lnTo>
                <a:lnTo>
                  <a:pt x="60" y="1"/>
                </a:lnTo>
                <a:lnTo>
                  <a:pt x="69" y="3"/>
                </a:lnTo>
                <a:lnTo>
                  <a:pt x="79" y="5"/>
                </a:lnTo>
                <a:lnTo>
                  <a:pt x="89" y="9"/>
                </a:lnTo>
                <a:lnTo>
                  <a:pt x="100" y="11"/>
                </a:lnTo>
                <a:lnTo>
                  <a:pt x="114" y="15"/>
                </a:lnTo>
                <a:lnTo>
                  <a:pt x="125" y="21"/>
                </a:lnTo>
                <a:lnTo>
                  <a:pt x="139" y="26"/>
                </a:lnTo>
                <a:lnTo>
                  <a:pt x="150" y="34"/>
                </a:lnTo>
                <a:lnTo>
                  <a:pt x="162" y="40"/>
                </a:lnTo>
                <a:lnTo>
                  <a:pt x="173" y="48"/>
                </a:lnTo>
                <a:lnTo>
                  <a:pt x="183" y="53"/>
                </a:lnTo>
                <a:lnTo>
                  <a:pt x="190" y="59"/>
                </a:lnTo>
                <a:lnTo>
                  <a:pt x="200" y="65"/>
                </a:lnTo>
                <a:lnTo>
                  <a:pt x="208" y="69"/>
                </a:lnTo>
                <a:lnTo>
                  <a:pt x="213" y="74"/>
                </a:lnTo>
                <a:lnTo>
                  <a:pt x="219" y="80"/>
                </a:lnTo>
                <a:lnTo>
                  <a:pt x="225" y="84"/>
                </a:lnTo>
                <a:lnTo>
                  <a:pt x="231" y="90"/>
                </a:lnTo>
                <a:lnTo>
                  <a:pt x="235" y="94"/>
                </a:lnTo>
                <a:lnTo>
                  <a:pt x="238" y="99"/>
                </a:lnTo>
                <a:lnTo>
                  <a:pt x="240" y="103"/>
                </a:lnTo>
                <a:lnTo>
                  <a:pt x="244" y="109"/>
                </a:lnTo>
                <a:lnTo>
                  <a:pt x="246" y="115"/>
                </a:lnTo>
                <a:lnTo>
                  <a:pt x="246" y="122"/>
                </a:lnTo>
                <a:lnTo>
                  <a:pt x="248" y="134"/>
                </a:lnTo>
                <a:lnTo>
                  <a:pt x="248" y="145"/>
                </a:lnTo>
                <a:lnTo>
                  <a:pt x="246" y="155"/>
                </a:lnTo>
                <a:lnTo>
                  <a:pt x="244" y="165"/>
                </a:lnTo>
                <a:lnTo>
                  <a:pt x="240" y="172"/>
                </a:lnTo>
                <a:lnTo>
                  <a:pt x="236" y="178"/>
                </a:lnTo>
                <a:lnTo>
                  <a:pt x="233" y="184"/>
                </a:lnTo>
                <a:lnTo>
                  <a:pt x="231" y="188"/>
                </a:lnTo>
                <a:lnTo>
                  <a:pt x="229" y="191"/>
                </a:lnTo>
                <a:lnTo>
                  <a:pt x="229" y="195"/>
                </a:lnTo>
                <a:lnTo>
                  <a:pt x="227" y="203"/>
                </a:lnTo>
                <a:lnTo>
                  <a:pt x="227" y="209"/>
                </a:lnTo>
                <a:lnTo>
                  <a:pt x="225" y="216"/>
                </a:lnTo>
                <a:lnTo>
                  <a:pt x="225" y="226"/>
                </a:lnTo>
                <a:lnTo>
                  <a:pt x="223" y="236"/>
                </a:lnTo>
                <a:lnTo>
                  <a:pt x="221" y="247"/>
                </a:lnTo>
                <a:lnTo>
                  <a:pt x="221" y="259"/>
                </a:lnTo>
                <a:lnTo>
                  <a:pt x="219" y="272"/>
                </a:lnTo>
                <a:lnTo>
                  <a:pt x="219" y="287"/>
                </a:lnTo>
                <a:lnTo>
                  <a:pt x="217" y="301"/>
                </a:lnTo>
                <a:lnTo>
                  <a:pt x="217" y="318"/>
                </a:lnTo>
                <a:lnTo>
                  <a:pt x="215" y="335"/>
                </a:lnTo>
                <a:lnTo>
                  <a:pt x="213" y="353"/>
                </a:lnTo>
                <a:lnTo>
                  <a:pt x="213" y="372"/>
                </a:lnTo>
                <a:lnTo>
                  <a:pt x="211" y="393"/>
                </a:lnTo>
                <a:lnTo>
                  <a:pt x="211" y="414"/>
                </a:lnTo>
                <a:lnTo>
                  <a:pt x="210" y="435"/>
                </a:lnTo>
                <a:lnTo>
                  <a:pt x="210" y="458"/>
                </a:lnTo>
                <a:lnTo>
                  <a:pt x="208" y="483"/>
                </a:lnTo>
                <a:lnTo>
                  <a:pt x="206" y="508"/>
                </a:lnTo>
                <a:lnTo>
                  <a:pt x="206" y="533"/>
                </a:lnTo>
                <a:lnTo>
                  <a:pt x="204" y="560"/>
                </a:lnTo>
                <a:lnTo>
                  <a:pt x="204" y="589"/>
                </a:lnTo>
                <a:lnTo>
                  <a:pt x="202" y="618"/>
                </a:lnTo>
                <a:lnTo>
                  <a:pt x="202" y="648"/>
                </a:lnTo>
                <a:lnTo>
                  <a:pt x="200" y="679"/>
                </a:lnTo>
                <a:lnTo>
                  <a:pt x="198" y="712"/>
                </a:lnTo>
                <a:lnTo>
                  <a:pt x="198" y="744"/>
                </a:lnTo>
                <a:lnTo>
                  <a:pt x="196" y="777"/>
                </a:lnTo>
                <a:lnTo>
                  <a:pt x="196" y="811"/>
                </a:lnTo>
                <a:lnTo>
                  <a:pt x="194" y="844"/>
                </a:lnTo>
                <a:lnTo>
                  <a:pt x="194" y="877"/>
                </a:lnTo>
                <a:lnTo>
                  <a:pt x="192" y="907"/>
                </a:lnTo>
                <a:lnTo>
                  <a:pt x="192" y="938"/>
                </a:lnTo>
                <a:lnTo>
                  <a:pt x="190" y="969"/>
                </a:lnTo>
                <a:lnTo>
                  <a:pt x="190" y="998"/>
                </a:lnTo>
                <a:lnTo>
                  <a:pt x="190" y="1025"/>
                </a:lnTo>
                <a:lnTo>
                  <a:pt x="188" y="1053"/>
                </a:lnTo>
                <a:lnTo>
                  <a:pt x="188" y="1078"/>
                </a:lnTo>
                <a:lnTo>
                  <a:pt x="188" y="1105"/>
                </a:lnTo>
                <a:lnTo>
                  <a:pt x="188" y="1128"/>
                </a:lnTo>
                <a:lnTo>
                  <a:pt x="187" y="1153"/>
                </a:lnTo>
                <a:lnTo>
                  <a:pt x="187" y="1176"/>
                </a:lnTo>
                <a:lnTo>
                  <a:pt x="187" y="1197"/>
                </a:lnTo>
                <a:lnTo>
                  <a:pt x="187" y="1218"/>
                </a:lnTo>
                <a:lnTo>
                  <a:pt x="187" y="1239"/>
                </a:lnTo>
                <a:lnTo>
                  <a:pt x="187" y="1259"/>
                </a:lnTo>
                <a:lnTo>
                  <a:pt x="187" y="1276"/>
                </a:lnTo>
                <a:lnTo>
                  <a:pt x="185" y="1295"/>
                </a:lnTo>
                <a:lnTo>
                  <a:pt x="185" y="1311"/>
                </a:lnTo>
                <a:lnTo>
                  <a:pt x="185" y="1328"/>
                </a:lnTo>
                <a:lnTo>
                  <a:pt x="185" y="1341"/>
                </a:lnTo>
                <a:lnTo>
                  <a:pt x="185" y="1355"/>
                </a:lnTo>
                <a:lnTo>
                  <a:pt x="185" y="1368"/>
                </a:lnTo>
                <a:lnTo>
                  <a:pt x="185" y="1382"/>
                </a:lnTo>
                <a:lnTo>
                  <a:pt x="185" y="1391"/>
                </a:lnTo>
                <a:lnTo>
                  <a:pt x="185" y="1403"/>
                </a:lnTo>
                <a:lnTo>
                  <a:pt x="185" y="1412"/>
                </a:lnTo>
                <a:lnTo>
                  <a:pt x="185" y="1420"/>
                </a:lnTo>
                <a:lnTo>
                  <a:pt x="185" y="1428"/>
                </a:lnTo>
                <a:lnTo>
                  <a:pt x="185" y="1433"/>
                </a:lnTo>
                <a:lnTo>
                  <a:pt x="185" y="1447"/>
                </a:lnTo>
                <a:lnTo>
                  <a:pt x="185" y="1460"/>
                </a:lnTo>
                <a:lnTo>
                  <a:pt x="183" y="1472"/>
                </a:lnTo>
                <a:lnTo>
                  <a:pt x="183" y="1483"/>
                </a:lnTo>
                <a:lnTo>
                  <a:pt x="181" y="1493"/>
                </a:lnTo>
                <a:lnTo>
                  <a:pt x="181" y="1502"/>
                </a:lnTo>
                <a:lnTo>
                  <a:pt x="179" y="1510"/>
                </a:lnTo>
                <a:lnTo>
                  <a:pt x="177" y="1518"/>
                </a:lnTo>
                <a:lnTo>
                  <a:pt x="175" y="1525"/>
                </a:lnTo>
                <a:lnTo>
                  <a:pt x="173" y="1531"/>
                </a:lnTo>
                <a:lnTo>
                  <a:pt x="171" y="1535"/>
                </a:lnTo>
                <a:lnTo>
                  <a:pt x="169" y="1539"/>
                </a:lnTo>
                <a:lnTo>
                  <a:pt x="167" y="1543"/>
                </a:lnTo>
                <a:lnTo>
                  <a:pt x="165" y="1545"/>
                </a:lnTo>
                <a:lnTo>
                  <a:pt x="163" y="1547"/>
                </a:lnTo>
                <a:lnTo>
                  <a:pt x="162" y="1547"/>
                </a:lnTo>
                <a:lnTo>
                  <a:pt x="156" y="1547"/>
                </a:lnTo>
                <a:lnTo>
                  <a:pt x="150" y="1545"/>
                </a:lnTo>
                <a:lnTo>
                  <a:pt x="142" y="1541"/>
                </a:lnTo>
                <a:lnTo>
                  <a:pt x="137" y="1535"/>
                </a:lnTo>
                <a:lnTo>
                  <a:pt x="131" y="1533"/>
                </a:lnTo>
                <a:lnTo>
                  <a:pt x="127" y="1529"/>
                </a:lnTo>
                <a:lnTo>
                  <a:pt x="123" y="1525"/>
                </a:lnTo>
                <a:lnTo>
                  <a:pt x="119" y="1520"/>
                </a:lnTo>
                <a:lnTo>
                  <a:pt x="116" y="1516"/>
                </a:lnTo>
                <a:lnTo>
                  <a:pt x="112" y="1510"/>
                </a:lnTo>
                <a:lnTo>
                  <a:pt x="106" y="1502"/>
                </a:lnTo>
                <a:lnTo>
                  <a:pt x="102" y="1497"/>
                </a:lnTo>
                <a:lnTo>
                  <a:pt x="94" y="1481"/>
                </a:lnTo>
                <a:lnTo>
                  <a:pt x="87" y="1466"/>
                </a:lnTo>
                <a:lnTo>
                  <a:pt x="81" y="1447"/>
                </a:lnTo>
                <a:lnTo>
                  <a:pt x="77" y="1428"/>
                </a:lnTo>
                <a:lnTo>
                  <a:pt x="75" y="1418"/>
                </a:lnTo>
                <a:lnTo>
                  <a:pt x="75" y="1406"/>
                </a:lnTo>
                <a:lnTo>
                  <a:pt x="75" y="1397"/>
                </a:lnTo>
                <a:lnTo>
                  <a:pt x="73" y="1385"/>
                </a:lnTo>
                <a:lnTo>
                  <a:pt x="75" y="1372"/>
                </a:lnTo>
                <a:lnTo>
                  <a:pt x="75" y="1359"/>
                </a:lnTo>
                <a:lnTo>
                  <a:pt x="77" y="1347"/>
                </a:lnTo>
                <a:lnTo>
                  <a:pt x="79" y="1332"/>
                </a:lnTo>
                <a:lnTo>
                  <a:pt x="79" y="1326"/>
                </a:lnTo>
                <a:lnTo>
                  <a:pt x="81" y="1320"/>
                </a:lnTo>
                <a:lnTo>
                  <a:pt x="81" y="1312"/>
                </a:lnTo>
                <a:lnTo>
                  <a:pt x="83" y="1305"/>
                </a:lnTo>
                <a:lnTo>
                  <a:pt x="83" y="1295"/>
                </a:lnTo>
                <a:lnTo>
                  <a:pt x="85" y="1286"/>
                </a:lnTo>
                <a:lnTo>
                  <a:pt x="85" y="1276"/>
                </a:lnTo>
                <a:lnTo>
                  <a:pt x="85" y="1266"/>
                </a:lnTo>
                <a:lnTo>
                  <a:pt x="87" y="1255"/>
                </a:lnTo>
                <a:lnTo>
                  <a:pt x="87" y="1243"/>
                </a:lnTo>
                <a:lnTo>
                  <a:pt x="87" y="1232"/>
                </a:lnTo>
                <a:lnTo>
                  <a:pt x="87" y="1218"/>
                </a:lnTo>
                <a:lnTo>
                  <a:pt x="89" y="1205"/>
                </a:lnTo>
                <a:lnTo>
                  <a:pt x="89" y="1192"/>
                </a:lnTo>
                <a:lnTo>
                  <a:pt x="89" y="1176"/>
                </a:lnTo>
                <a:lnTo>
                  <a:pt x="89" y="1163"/>
                </a:lnTo>
                <a:lnTo>
                  <a:pt x="89" y="1145"/>
                </a:lnTo>
                <a:lnTo>
                  <a:pt x="89" y="1130"/>
                </a:lnTo>
                <a:lnTo>
                  <a:pt x="91" y="1113"/>
                </a:lnTo>
                <a:lnTo>
                  <a:pt x="91" y="1096"/>
                </a:lnTo>
                <a:lnTo>
                  <a:pt x="91" y="1078"/>
                </a:lnTo>
                <a:lnTo>
                  <a:pt x="91" y="1059"/>
                </a:lnTo>
                <a:lnTo>
                  <a:pt x="91" y="1040"/>
                </a:lnTo>
                <a:lnTo>
                  <a:pt x="91" y="1021"/>
                </a:lnTo>
                <a:lnTo>
                  <a:pt x="91" y="1000"/>
                </a:lnTo>
                <a:lnTo>
                  <a:pt x="91" y="978"/>
                </a:lnTo>
                <a:lnTo>
                  <a:pt x="91" y="957"/>
                </a:lnTo>
                <a:lnTo>
                  <a:pt x="91" y="934"/>
                </a:lnTo>
                <a:lnTo>
                  <a:pt x="91" y="911"/>
                </a:lnTo>
                <a:lnTo>
                  <a:pt x="91" y="888"/>
                </a:lnTo>
                <a:lnTo>
                  <a:pt x="91" y="865"/>
                </a:lnTo>
                <a:lnTo>
                  <a:pt x="91" y="840"/>
                </a:lnTo>
                <a:lnTo>
                  <a:pt x="91" y="794"/>
                </a:lnTo>
                <a:lnTo>
                  <a:pt x="91" y="750"/>
                </a:lnTo>
                <a:lnTo>
                  <a:pt x="89" y="706"/>
                </a:lnTo>
                <a:lnTo>
                  <a:pt x="89" y="666"/>
                </a:lnTo>
                <a:lnTo>
                  <a:pt x="87" y="625"/>
                </a:lnTo>
                <a:lnTo>
                  <a:pt x="87" y="587"/>
                </a:lnTo>
                <a:lnTo>
                  <a:pt x="85" y="552"/>
                </a:lnTo>
                <a:lnTo>
                  <a:pt x="83" y="518"/>
                </a:lnTo>
                <a:lnTo>
                  <a:pt x="81" y="483"/>
                </a:lnTo>
                <a:lnTo>
                  <a:pt x="79" y="453"/>
                </a:lnTo>
                <a:lnTo>
                  <a:pt x="77" y="424"/>
                </a:lnTo>
                <a:lnTo>
                  <a:pt x="75" y="395"/>
                </a:lnTo>
                <a:lnTo>
                  <a:pt x="73" y="368"/>
                </a:lnTo>
                <a:lnTo>
                  <a:pt x="71" y="343"/>
                </a:lnTo>
                <a:lnTo>
                  <a:pt x="69" y="320"/>
                </a:lnTo>
                <a:lnTo>
                  <a:pt x="68" y="2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126"/>
          <p:cNvSpPr/>
          <p:nvPr/>
        </p:nvSpPr>
        <p:spPr>
          <a:xfrm>
            <a:off x="6391440" y="3384720"/>
            <a:ext cx="925200" cy="230040"/>
          </a:xfrm>
          <a:custGeom>
            <a:avLst/>
            <a:gdLst/>
            <a:ahLst/>
            <a:rect l="l" t="t" r="r" b="b"/>
            <a:pathLst>
              <a:path w="1167" h="290">
                <a:moveTo>
                  <a:pt x="0" y="202"/>
                </a:moveTo>
                <a:lnTo>
                  <a:pt x="4" y="202"/>
                </a:lnTo>
                <a:lnTo>
                  <a:pt x="8" y="202"/>
                </a:lnTo>
                <a:lnTo>
                  <a:pt x="14" y="200"/>
                </a:lnTo>
                <a:lnTo>
                  <a:pt x="20" y="200"/>
                </a:lnTo>
                <a:lnTo>
                  <a:pt x="27" y="198"/>
                </a:lnTo>
                <a:lnTo>
                  <a:pt x="35" y="198"/>
                </a:lnTo>
                <a:lnTo>
                  <a:pt x="43" y="196"/>
                </a:lnTo>
                <a:lnTo>
                  <a:pt x="52" y="194"/>
                </a:lnTo>
                <a:lnTo>
                  <a:pt x="64" y="192"/>
                </a:lnTo>
                <a:lnTo>
                  <a:pt x="73" y="190"/>
                </a:lnTo>
                <a:lnTo>
                  <a:pt x="85" y="188"/>
                </a:lnTo>
                <a:lnTo>
                  <a:pt x="98" y="187"/>
                </a:lnTo>
                <a:lnTo>
                  <a:pt x="112" y="185"/>
                </a:lnTo>
                <a:lnTo>
                  <a:pt x="125" y="181"/>
                </a:lnTo>
                <a:lnTo>
                  <a:pt x="140" y="179"/>
                </a:lnTo>
                <a:lnTo>
                  <a:pt x="156" y="175"/>
                </a:lnTo>
                <a:lnTo>
                  <a:pt x="173" y="171"/>
                </a:lnTo>
                <a:lnTo>
                  <a:pt x="190" y="169"/>
                </a:lnTo>
                <a:lnTo>
                  <a:pt x="208" y="165"/>
                </a:lnTo>
                <a:lnTo>
                  <a:pt x="227" y="162"/>
                </a:lnTo>
                <a:lnTo>
                  <a:pt x="246" y="156"/>
                </a:lnTo>
                <a:lnTo>
                  <a:pt x="265" y="152"/>
                </a:lnTo>
                <a:lnTo>
                  <a:pt x="286" y="148"/>
                </a:lnTo>
                <a:lnTo>
                  <a:pt x="309" y="144"/>
                </a:lnTo>
                <a:lnTo>
                  <a:pt x="330" y="139"/>
                </a:lnTo>
                <a:lnTo>
                  <a:pt x="354" y="135"/>
                </a:lnTo>
                <a:lnTo>
                  <a:pt x="378" y="129"/>
                </a:lnTo>
                <a:lnTo>
                  <a:pt x="402" y="123"/>
                </a:lnTo>
                <a:lnTo>
                  <a:pt x="426" y="117"/>
                </a:lnTo>
                <a:lnTo>
                  <a:pt x="453" y="112"/>
                </a:lnTo>
                <a:lnTo>
                  <a:pt x="480" y="106"/>
                </a:lnTo>
                <a:lnTo>
                  <a:pt x="507" y="100"/>
                </a:lnTo>
                <a:lnTo>
                  <a:pt x="534" y="94"/>
                </a:lnTo>
                <a:lnTo>
                  <a:pt x="561" y="89"/>
                </a:lnTo>
                <a:lnTo>
                  <a:pt x="586" y="83"/>
                </a:lnTo>
                <a:lnTo>
                  <a:pt x="611" y="77"/>
                </a:lnTo>
                <a:lnTo>
                  <a:pt x="636" y="73"/>
                </a:lnTo>
                <a:lnTo>
                  <a:pt x="659" y="68"/>
                </a:lnTo>
                <a:lnTo>
                  <a:pt x="682" y="62"/>
                </a:lnTo>
                <a:lnTo>
                  <a:pt x="705" y="58"/>
                </a:lnTo>
                <a:lnTo>
                  <a:pt x="726" y="52"/>
                </a:lnTo>
                <a:lnTo>
                  <a:pt x="745" y="48"/>
                </a:lnTo>
                <a:lnTo>
                  <a:pt x="766" y="45"/>
                </a:lnTo>
                <a:lnTo>
                  <a:pt x="785" y="41"/>
                </a:lnTo>
                <a:lnTo>
                  <a:pt x="803" y="37"/>
                </a:lnTo>
                <a:lnTo>
                  <a:pt x="820" y="33"/>
                </a:lnTo>
                <a:lnTo>
                  <a:pt x="837" y="29"/>
                </a:lnTo>
                <a:lnTo>
                  <a:pt x="853" y="25"/>
                </a:lnTo>
                <a:lnTo>
                  <a:pt x="868" y="23"/>
                </a:lnTo>
                <a:lnTo>
                  <a:pt x="883" y="20"/>
                </a:lnTo>
                <a:lnTo>
                  <a:pt x="897" y="18"/>
                </a:lnTo>
                <a:lnTo>
                  <a:pt x="910" y="14"/>
                </a:lnTo>
                <a:lnTo>
                  <a:pt x="924" y="12"/>
                </a:lnTo>
                <a:lnTo>
                  <a:pt x="935" y="10"/>
                </a:lnTo>
                <a:lnTo>
                  <a:pt x="947" y="8"/>
                </a:lnTo>
                <a:lnTo>
                  <a:pt x="956" y="6"/>
                </a:lnTo>
                <a:lnTo>
                  <a:pt x="966" y="4"/>
                </a:lnTo>
                <a:lnTo>
                  <a:pt x="975" y="4"/>
                </a:lnTo>
                <a:lnTo>
                  <a:pt x="983" y="2"/>
                </a:lnTo>
                <a:lnTo>
                  <a:pt x="991" y="0"/>
                </a:lnTo>
                <a:lnTo>
                  <a:pt x="998" y="0"/>
                </a:lnTo>
                <a:lnTo>
                  <a:pt x="1004" y="0"/>
                </a:lnTo>
                <a:lnTo>
                  <a:pt x="1010" y="0"/>
                </a:lnTo>
                <a:lnTo>
                  <a:pt x="1014" y="0"/>
                </a:lnTo>
                <a:lnTo>
                  <a:pt x="1041" y="0"/>
                </a:lnTo>
                <a:lnTo>
                  <a:pt x="1054" y="0"/>
                </a:lnTo>
                <a:lnTo>
                  <a:pt x="1068" y="0"/>
                </a:lnTo>
                <a:lnTo>
                  <a:pt x="1081" y="2"/>
                </a:lnTo>
                <a:lnTo>
                  <a:pt x="1094" y="4"/>
                </a:lnTo>
                <a:lnTo>
                  <a:pt x="1108" y="8"/>
                </a:lnTo>
                <a:lnTo>
                  <a:pt x="1121" y="12"/>
                </a:lnTo>
                <a:lnTo>
                  <a:pt x="1127" y="16"/>
                </a:lnTo>
                <a:lnTo>
                  <a:pt x="1133" y="18"/>
                </a:lnTo>
                <a:lnTo>
                  <a:pt x="1139" y="22"/>
                </a:lnTo>
                <a:lnTo>
                  <a:pt x="1142" y="23"/>
                </a:lnTo>
                <a:lnTo>
                  <a:pt x="1150" y="31"/>
                </a:lnTo>
                <a:lnTo>
                  <a:pt x="1158" y="37"/>
                </a:lnTo>
                <a:lnTo>
                  <a:pt x="1162" y="45"/>
                </a:lnTo>
                <a:lnTo>
                  <a:pt x="1165" y="50"/>
                </a:lnTo>
                <a:lnTo>
                  <a:pt x="1167" y="58"/>
                </a:lnTo>
                <a:lnTo>
                  <a:pt x="1167" y="64"/>
                </a:lnTo>
                <a:lnTo>
                  <a:pt x="1167" y="66"/>
                </a:lnTo>
                <a:lnTo>
                  <a:pt x="1165" y="68"/>
                </a:lnTo>
                <a:lnTo>
                  <a:pt x="1164" y="69"/>
                </a:lnTo>
                <a:lnTo>
                  <a:pt x="1160" y="73"/>
                </a:lnTo>
                <a:lnTo>
                  <a:pt x="1156" y="75"/>
                </a:lnTo>
                <a:lnTo>
                  <a:pt x="1150" y="79"/>
                </a:lnTo>
                <a:lnTo>
                  <a:pt x="1144" y="81"/>
                </a:lnTo>
                <a:lnTo>
                  <a:pt x="1137" y="85"/>
                </a:lnTo>
                <a:lnTo>
                  <a:pt x="1129" y="87"/>
                </a:lnTo>
                <a:lnTo>
                  <a:pt x="1119" y="91"/>
                </a:lnTo>
                <a:lnTo>
                  <a:pt x="1110" y="93"/>
                </a:lnTo>
                <a:lnTo>
                  <a:pt x="1098" y="96"/>
                </a:lnTo>
                <a:lnTo>
                  <a:pt x="1085" y="100"/>
                </a:lnTo>
                <a:lnTo>
                  <a:pt x="1073" y="104"/>
                </a:lnTo>
                <a:lnTo>
                  <a:pt x="1058" y="108"/>
                </a:lnTo>
                <a:lnTo>
                  <a:pt x="1045" y="112"/>
                </a:lnTo>
                <a:lnTo>
                  <a:pt x="1027" y="116"/>
                </a:lnTo>
                <a:lnTo>
                  <a:pt x="1010" y="119"/>
                </a:lnTo>
                <a:lnTo>
                  <a:pt x="993" y="123"/>
                </a:lnTo>
                <a:lnTo>
                  <a:pt x="974" y="127"/>
                </a:lnTo>
                <a:lnTo>
                  <a:pt x="954" y="131"/>
                </a:lnTo>
                <a:lnTo>
                  <a:pt x="933" y="137"/>
                </a:lnTo>
                <a:lnTo>
                  <a:pt x="912" y="141"/>
                </a:lnTo>
                <a:lnTo>
                  <a:pt x="889" y="146"/>
                </a:lnTo>
                <a:lnTo>
                  <a:pt x="866" y="150"/>
                </a:lnTo>
                <a:lnTo>
                  <a:pt x="841" y="156"/>
                </a:lnTo>
                <a:lnTo>
                  <a:pt x="814" y="162"/>
                </a:lnTo>
                <a:lnTo>
                  <a:pt x="787" y="165"/>
                </a:lnTo>
                <a:lnTo>
                  <a:pt x="760" y="171"/>
                </a:lnTo>
                <a:lnTo>
                  <a:pt x="732" y="177"/>
                </a:lnTo>
                <a:lnTo>
                  <a:pt x="703" y="183"/>
                </a:lnTo>
                <a:lnTo>
                  <a:pt x="672" y="188"/>
                </a:lnTo>
                <a:lnTo>
                  <a:pt x="641" y="194"/>
                </a:lnTo>
                <a:lnTo>
                  <a:pt x="611" y="200"/>
                </a:lnTo>
                <a:lnTo>
                  <a:pt x="580" y="206"/>
                </a:lnTo>
                <a:lnTo>
                  <a:pt x="551" y="212"/>
                </a:lnTo>
                <a:lnTo>
                  <a:pt x="524" y="217"/>
                </a:lnTo>
                <a:lnTo>
                  <a:pt x="497" y="223"/>
                </a:lnTo>
                <a:lnTo>
                  <a:pt x="471" y="227"/>
                </a:lnTo>
                <a:lnTo>
                  <a:pt x="448" y="233"/>
                </a:lnTo>
                <a:lnTo>
                  <a:pt x="423" y="236"/>
                </a:lnTo>
                <a:lnTo>
                  <a:pt x="400" y="240"/>
                </a:lnTo>
                <a:lnTo>
                  <a:pt x="378" y="244"/>
                </a:lnTo>
                <a:lnTo>
                  <a:pt x="357" y="250"/>
                </a:lnTo>
                <a:lnTo>
                  <a:pt x="336" y="254"/>
                </a:lnTo>
                <a:lnTo>
                  <a:pt x="317" y="258"/>
                </a:lnTo>
                <a:lnTo>
                  <a:pt x="300" y="260"/>
                </a:lnTo>
                <a:lnTo>
                  <a:pt x="282" y="263"/>
                </a:lnTo>
                <a:lnTo>
                  <a:pt x="265" y="267"/>
                </a:lnTo>
                <a:lnTo>
                  <a:pt x="250" y="269"/>
                </a:lnTo>
                <a:lnTo>
                  <a:pt x="235" y="273"/>
                </a:lnTo>
                <a:lnTo>
                  <a:pt x="221" y="275"/>
                </a:lnTo>
                <a:lnTo>
                  <a:pt x="210" y="277"/>
                </a:lnTo>
                <a:lnTo>
                  <a:pt x="198" y="279"/>
                </a:lnTo>
                <a:lnTo>
                  <a:pt x="187" y="281"/>
                </a:lnTo>
                <a:lnTo>
                  <a:pt x="177" y="283"/>
                </a:lnTo>
                <a:lnTo>
                  <a:pt x="167" y="284"/>
                </a:lnTo>
                <a:lnTo>
                  <a:pt x="160" y="286"/>
                </a:lnTo>
                <a:lnTo>
                  <a:pt x="152" y="286"/>
                </a:lnTo>
                <a:lnTo>
                  <a:pt x="146" y="288"/>
                </a:lnTo>
                <a:lnTo>
                  <a:pt x="140" y="288"/>
                </a:lnTo>
                <a:lnTo>
                  <a:pt x="137" y="290"/>
                </a:lnTo>
                <a:lnTo>
                  <a:pt x="133" y="290"/>
                </a:lnTo>
                <a:lnTo>
                  <a:pt x="131" y="290"/>
                </a:lnTo>
                <a:lnTo>
                  <a:pt x="117" y="288"/>
                </a:lnTo>
                <a:lnTo>
                  <a:pt x="106" y="288"/>
                </a:lnTo>
                <a:lnTo>
                  <a:pt x="94" y="284"/>
                </a:lnTo>
                <a:lnTo>
                  <a:pt x="85" y="283"/>
                </a:lnTo>
                <a:lnTo>
                  <a:pt x="75" y="279"/>
                </a:lnTo>
                <a:lnTo>
                  <a:pt x="66" y="273"/>
                </a:lnTo>
                <a:lnTo>
                  <a:pt x="48" y="265"/>
                </a:lnTo>
                <a:lnTo>
                  <a:pt x="39" y="260"/>
                </a:lnTo>
                <a:lnTo>
                  <a:pt x="31" y="254"/>
                </a:lnTo>
                <a:lnTo>
                  <a:pt x="25" y="246"/>
                </a:lnTo>
                <a:lnTo>
                  <a:pt x="20" y="238"/>
                </a:lnTo>
                <a:lnTo>
                  <a:pt x="14" y="229"/>
                </a:lnTo>
                <a:lnTo>
                  <a:pt x="10" y="221"/>
                </a:lnTo>
                <a:lnTo>
                  <a:pt x="0" y="2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27"/>
          <p:cNvSpPr/>
          <p:nvPr/>
        </p:nvSpPr>
        <p:spPr>
          <a:xfrm>
            <a:off x="6989760" y="2989440"/>
            <a:ext cx="326880" cy="290160"/>
          </a:xfrm>
          <a:custGeom>
            <a:avLst/>
            <a:gdLst/>
            <a:ahLst/>
            <a:rect l="l" t="t" r="r" b="b"/>
            <a:pathLst>
              <a:path w="412" h="367">
                <a:moveTo>
                  <a:pt x="176" y="144"/>
                </a:moveTo>
                <a:lnTo>
                  <a:pt x="180" y="137"/>
                </a:lnTo>
                <a:lnTo>
                  <a:pt x="184" y="129"/>
                </a:lnTo>
                <a:lnTo>
                  <a:pt x="188" y="123"/>
                </a:lnTo>
                <a:lnTo>
                  <a:pt x="190" y="117"/>
                </a:lnTo>
                <a:lnTo>
                  <a:pt x="194" y="106"/>
                </a:lnTo>
                <a:lnTo>
                  <a:pt x="195" y="94"/>
                </a:lnTo>
                <a:lnTo>
                  <a:pt x="195" y="85"/>
                </a:lnTo>
                <a:lnTo>
                  <a:pt x="195" y="75"/>
                </a:lnTo>
                <a:lnTo>
                  <a:pt x="192" y="64"/>
                </a:lnTo>
                <a:lnTo>
                  <a:pt x="188" y="56"/>
                </a:lnTo>
                <a:lnTo>
                  <a:pt x="184" y="46"/>
                </a:lnTo>
                <a:lnTo>
                  <a:pt x="182" y="39"/>
                </a:lnTo>
                <a:lnTo>
                  <a:pt x="180" y="31"/>
                </a:lnTo>
                <a:lnTo>
                  <a:pt x="182" y="25"/>
                </a:lnTo>
                <a:lnTo>
                  <a:pt x="184" y="19"/>
                </a:lnTo>
                <a:lnTo>
                  <a:pt x="184" y="18"/>
                </a:lnTo>
                <a:lnTo>
                  <a:pt x="188" y="14"/>
                </a:lnTo>
                <a:lnTo>
                  <a:pt x="190" y="12"/>
                </a:lnTo>
                <a:lnTo>
                  <a:pt x="192" y="10"/>
                </a:lnTo>
                <a:lnTo>
                  <a:pt x="195" y="8"/>
                </a:lnTo>
                <a:lnTo>
                  <a:pt x="201" y="4"/>
                </a:lnTo>
                <a:lnTo>
                  <a:pt x="203" y="2"/>
                </a:lnTo>
                <a:lnTo>
                  <a:pt x="207" y="0"/>
                </a:lnTo>
                <a:lnTo>
                  <a:pt x="211" y="0"/>
                </a:lnTo>
                <a:lnTo>
                  <a:pt x="215" y="0"/>
                </a:lnTo>
                <a:lnTo>
                  <a:pt x="220" y="0"/>
                </a:lnTo>
                <a:lnTo>
                  <a:pt x="228" y="0"/>
                </a:lnTo>
                <a:lnTo>
                  <a:pt x="234" y="0"/>
                </a:lnTo>
                <a:lnTo>
                  <a:pt x="242" y="2"/>
                </a:lnTo>
                <a:lnTo>
                  <a:pt x="249" y="4"/>
                </a:lnTo>
                <a:lnTo>
                  <a:pt x="259" y="8"/>
                </a:lnTo>
                <a:lnTo>
                  <a:pt x="266" y="10"/>
                </a:lnTo>
                <a:lnTo>
                  <a:pt x="276" y="14"/>
                </a:lnTo>
                <a:lnTo>
                  <a:pt x="297" y="21"/>
                </a:lnTo>
                <a:lnTo>
                  <a:pt x="318" y="29"/>
                </a:lnTo>
                <a:lnTo>
                  <a:pt x="330" y="35"/>
                </a:lnTo>
                <a:lnTo>
                  <a:pt x="339" y="39"/>
                </a:lnTo>
                <a:lnTo>
                  <a:pt x="347" y="44"/>
                </a:lnTo>
                <a:lnTo>
                  <a:pt x="357" y="48"/>
                </a:lnTo>
                <a:lnTo>
                  <a:pt x="364" y="54"/>
                </a:lnTo>
                <a:lnTo>
                  <a:pt x="370" y="58"/>
                </a:lnTo>
                <a:lnTo>
                  <a:pt x="378" y="64"/>
                </a:lnTo>
                <a:lnTo>
                  <a:pt x="384" y="67"/>
                </a:lnTo>
                <a:lnTo>
                  <a:pt x="387" y="73"/>
                </a:lnTo>
                <a:lnTo>
                  <a:pt x="393" y="77"/>
                </a:lnTo>
                <a:lnTo>
                  <a:pt x="397" y="81"/>
                </a:lnTo>
                <a:lnTo>
                  <a:pt x="401" y="87"/>
                </a:lnTo>
                <a:lnTo>
                  <a:pt x="407" y="96"/>
                </a:lnTo>
                <a:lnTo>
                  <a:pt x="412" y="106"/>
                </a:lnTo>
                <a:lnTo>
                  <a:pt x="412" y="113"/>
                </a:lnTo>
                <a:lnTo>
                  <a:pt x="409" y="119"/>
                </a:lnTo>
                <a:lnTo>
                  <a:pt x="405" y="129"/>
                </a:lnTo>
                <a:lnTo>
                  <a:pt x="399" y="137"/>
                </a:lnTo>
                <a:lnTo>
                  <a:pt x="391" y="144"/>
                </a:lnTo>
                <a:lnTo>
                  <a:pt x="384" y="154"/>
                </a:lnTo>
                <a:lnTo>
                  <a:pt x="372" y="163"/>
                </a:lnTo>
                <a:lnTo>
                  <a:pt x="361" y="173"/>
                </a:lnTo>
                <a:lnTo>
                  <a:pt x="347" y="183"/>
                </a:lnTo>
                <a:lnTo>
                  <a:pt x="332" y="194"/>
                </a:lnTo>
                <a:lnTo>
                  <a:pt x="316" y="206"/>
                </a:lnTo>
                <a:lnTo>
                  <a:pt x="297" y="217"/>
                </a:lnTo>
                <a:lnTo>
                  <a:pt x="278" y="229"/>
                </a:lnTo>
                <a:lnTo>
                  <a:pt x="257" y="242"/>
                </a:lnTo>
                <a:lnTo>
                  <a:pt x="236" y="256"/>
                </a:lnTo>
                <a:lnTo>
                  <a:pt x="213" y="269"/>
                </a:lnTo>
                <a:lnTo>
                  <a:pt x="186" y="286"/>
                </a:lnTo>
                <a:lnTo>
                  <a:pt x="163" y="300"/>
                </a:lnTo>
                <a:lnTo>
                  <a:pt x="140" y="313"/>
                </a:lnTo>
                <a:lnTo>
                  <a:pt x="119" y="325"/>
                </a:lnTo>
                <a:lnTo>
                  <a:pt x="99" y="334"/>
                </a:lnTo>
                <a:lnTo>
                  <a:pt x="82" y="344"/>
                </a:lnTo>
                <a:lnTo>
                  <a:pt x="67" y="352"/>
                </a:lnTo>
                <a:lnTo>
                  <a:pt x="53" y="357"/>
                </a:lnTo>
                <a:lnTo>
                  <a:pt x="40" y="361"/>
                </a:lnTo>
                <a:lnTo>
                  <a:pt x="30" y="365"/>
                </a:lnTo>
                <a:lnTo>
                  <a:pt x="21" y="367"/>
                </a:lnTo>
                <a:lnTo>
                  <a:pt x="13" y="367"/>
                </a:lnTo>
                <a:lnTo>
                  <a:pt x="7" y="367"/>
                </a:lnTo>
                <a:lnTo>
                  <a:pt x="4" y="365"/>
                </a:lnTo>
                <a:lnTo>
                  <a:pt x="0" y="361"/>
                </a:lnTo>
                <a:lnTo>
                  <a:pt x="0" y="357"/>
                </a:lnTo>
                <a:lnTo>
                  <a:pt x="0" y="355"/>
                </a:lnTo>
                <a:lnTo>
                  <a:pt x="2" y="352"/>
                </a:lnTo>
                <a:lnTo>
                  <a:pt x="2" y="348"/>
                </a:lnTo>
                <a:lnTo>
                  <a:pt x="4" y="344"/>
                </a:lnTo>
                <a:lnTo>
                  <a:pt x="7" y="340"/>
                </a:lnTo>
                <a:lnTo>
                  <a:pt x="11" y="334"/>
                </a:lnTo>
                <a:lnTo>
                  <a:pt x="15" y="328"/>
                </a:lnTo>
                <a:lnTo>
                  <a:pt x="19" y="323"/>
                </a:lnTo>
                <a:lnTo>
                  <a:pt x="25" y="315"/>
                </a:lnTo>
                <a:lnTo>
                  <a:pt x="30" y="307"/>
                </a:lnTo>
                <a:lnTo>
                  <a:pt x="38" y="300"/>
                </a:lnTo>
                <a:lnTo>
                  <a:pt x="44" y="292"/>
                </a:lnTo>
                <a:lnTo>
                  <a:pt x="53" y="284"/>
                </a:lnTo>
                <a:lnTo>
                  <a:pt x="61" y="275"/>
                </a:lnTo>
                <a:lnTo>
                  <a:pt x="73" y="267"/>
                </a:lnTo>
                <a:lnTo>
                  <a:pt x="82" y="257"/>
                </a:lnTo>
                <a:lnTo>
                  <a:pt x="99" y="238"/>
                </a:lnTo>
                <a:lnTo>
                  <a:pt x="115" y="221"/>
                </a:lnTo>
                <a:lnTo>
                  <a:pt x="130" y="206"/>
                </a:lnTo>
                <a:lnTo>
                  <a:pt x="142" y="190"/>
                </a:lnTo>
                <a:lnTo>
                  <a:pt x="153" y="177"/>
                </a:lnTo>
                <a:lnTo>
                  <a:pt x="159" y="171"/>
                </a:lnTo>
                <a:lnTo>
                  <a:pt x="163" y="165"/>
                </a:lnTo>
                <a:lnTo>
                  <a:pt x="169" y="160"/>
                </a:lnTo>
                <a:lnTo>
                  <a:pt x="171" y="154"/>
                </a:lnTo>
                <a:lnTo>
                  <a:pt x="174" y="148"/>
                </a:lnTo>
                <a:lnTo>
                  <a:pt x="176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28"/>
          <p:cNvSpPr/>
          <p:nvPr/>
        </p:nvSpPr>
        <p:spPr>
          <a:xfrm>
            <a:off x="6446880" y="3152880"/>
            <a:ext cx="196920" cy="250560"/>
          </a:xfrm>
          <a:custGeom>
            <a:avLst/>
            <a:gdLst/>
            <a:ahLst/>
            <a:rect l="l" t="t" r="r" b="b"/>
            <a:pathLst>
              <a:path w="248" h="316">
                <a:moveTo>
                  <a:pt x="83" y="228"/>
                </a:moveTo>
                <a:lnTo>
                  <a:pt x="69" y="203"/>
                </a:lnTo>
                <a:lnTo>
                  <a:pt x="56" y="178"/>
                </a:lnTo>
                <a:lnTo>
                  <a:pt x="45" y="151"/>
                </a:lnTo>
                <a:lnTo>
                  <a:pt x="33" y="122"/>
                </a:lnTo>
                <a:lnTo>
                  <a:pt x="21" y="94"/>
                </a:lnTo>
                <a:lnTo>
                  <a:pt x="12" y="65"/>
                </a:lnTo>
                <a:lnTo>
                  <a:pt x="8" y="50"/>
                </a:lnTo>
                <a:lnTo>
                  <a:pt x="6" y="32"/>
                </a:lnTo>
                <a:lnTo>
                  <a:pt x="2" y="17"/>
                </a:lnTo>
                <a:lnTo>
                  <a:pt x="0" y="0"/>
                </a:lnTo>
                <a:lnTo>
                  <a:pt x="16" y="0"/>
                </a:lnTo>
                <a:lnTo>
                  <a:pt x="31" y="2"/>
                </a:lnTo>
                <a:lnTo>
                  <a:pt x="45" y="3"/>
                </a:lnTo>
                <a:lnTo>
                  <a:pt x="60" y="5"/>
                </a:lnTo>
                <a:lnTo>
                  <a:pt x="73" y="7"/>
                </a:lnTo>
                <a:lnTo>
                  <a:pt x="87" y="9"/>
                </a:lnTo>
                <a:lnTo>
                  <a:pt x="100" y="13"/>
                </a:lnTo>
                <a:lnTo>
                  <a:pt x="112" y="17"/>
                </a:lnTo>
                <a:lnTo>
                  <a:pt x="123" y="23"/>
                </a:lnTo>
                <a:lnTo>
                  <a:pt x="135" y="26"/>
                </a:lnTo>
                <a:lnTo>
                  <a:pt x="146" y="32"/>
                </a:lnTo>
                <a:lnTo>
                  <a:pt x="156" y="38"/>
                </a:lnTo>
                <a:lnTo>
                  <a:pt x="165" y="44"/>
                </a:lnTo>
                <a:lnTo>
                  <a:pt x="173" y="50"/>
                </a:lnTo>
                <a:lnTo>
                  <a:pt x="181" y="57"/>
                </a:lnTo>
                <a:lnTo>
                  <a:pt x="188" y="63"/>
                </a:lnTo>
                <a:lnTo>
                  <a:pt x="202" y="78"/>
                </a:lnTo>
                <a:lnTo>
                  <a:pt x="213" y="94"/>
                </a:lnTo>
                <a:lnTo>
                  <a:pt x="223" y="111"/>
                </a:lnTo>
                <a:lnTo>
                  <a:pt x="231" y="126"/>
                </a:lnTo>
                <a:lnTo>
                  <a:pt x="238" y="144"/>
                </a:lnTo>
                <a:lnTo>
                  <a:pt x="240" y="151"/>
                </a:lnTo>
                <a:lnTo>
                  <a:pt x="244" y="159"/>
                </a:lnTo>
                <a:lnTo>
                  <a:pt x="244" y="167"/>
                </a:lnTo>
                <a:lnTo>
                  <a:pt x="246" y="174"/>
                </a:lnTo>
                <a:lnTo>
                  <a:pt x="248" y="182"/>
                </a:lnTo>
                <a:lnTo>
                  <a:pt x="248" y="190"/>
                </a:lnTo>
                <a:lnTo>
                  <a:pt x="246" y="209"/>
                </a:lnTo>
                <a:lnTo>
                  <a:pt x="246" y="224"/>
                </a:lnTo>
                <a:lnTo>
                  <a:pt x="242" y="240"/>
                </a:lnTo>
                <a:lnTo>
                  <a:pt x="240" y="255"/>
                </a:lnTo>
                <a:lnTo>
                  <a:pt x="238" y="261"/>
                </a:lnTo>
                <a:lnTo>
                  <a:pt x="236" y="266"/>
                </a:lnTo>
                <a:lnTo>
                  <a:pt x="235" y="272"/>
                </a:lnTo>
                <a:lnTo>
                  <a:pt x="233" y="276"/>
                </a:lnTo>
                <a:lnTo>
                  <a:pt x="231" y="282"/>
                </a:lnTo>
                <a:lnTo>
                  <a:pt x="229" y="284"/>
                </a:lnTo>
                <a:lnTo>
                  <a:pt x="227" y="288"/>
                </a:lnTo>
                <a:lnTo>
                  <a:pt x="225" y="291"/>
                </a:lnTo>
                <a:lnTo>
                  <a:pt x="219" y="295"/>
                </a:lnTo>
                <a:lnTo>
                  <a:pt x="213" y="299"/>
                </a:lnTo>
                <a:lnTo>
                  <a:pt x="208" y="305"/>
                </a:lnTo>
                <a:lnTo>
                  <a:pt x="200" y="309"/>
                </a:lnTo>
                <a:lnTo>
                  <a:pt x="194" y="311"/>
                </a:lnTo>
                <a:lnTo>
                  <a:pt x="187" y="314"/>
                </a:lnTo>
                <a:lnTo>
                  <a:pt x="181" y="314"/>
                </a:lnTo>
                <a:lnTo>
                  <a:pt x="177" y="316"/>
                </a:lnTo>
                <a:lnTo>
                  <a:pt x="173" y="316"/>
                </a:lnTo>
                <a:lnTo>
                  <a:pt x="171" y="314"/>
                </a:lnTo>
                <a:lnTo>
                  <a:pt x="167" y="313"/>
                </a:lnTo>
                <a:lnTo>
                  <a:pt x="164" y="311"/>
                </a:lnTo>
                <a:lnTo>
                  <a:pt x="160" y="309"/>
                </a:lnTo>
                <a:lnTo>
                  <a:pt x="154" y="305"/>
                </a:lnTo>
                <a:lnTo>
                  <a:pt x="148" y="301"/>
                </a:lnTo>
                <a:lnTo>
                  <a:pt x="142" y="295"/>
                </a:lnTo>
                <a:lnTo>
                  <a:pt x="137" y="289"/>
                </a:lnTo>
                <a:lnTo>
                  <a:pt x="129" y="284"/>
                </a:lnTo>
                <a:lnTo>
                  <a:pt x="123" y="276"/>
                </a:lnTo>
                <a:lnTo>
                  <a:pt x="116" y="268"/>
                </a:lnTo>
                <a:lnTo>
                  <a:pt x="108" y="259"/>
                </a:lnTo>
                <a:lnTo>
                  <a:pt x="100" y="249"/>
                </a:lnTo>
                <a:lnTo>
                  <a:pt x="91" y="240"/>
                </a:lnTo>
                <a:lnTo>
                  <a:pt x="83" y="2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29"/>
          <p:cNvSpPr/>
          <p:nvPr/>
        </p:nvSpPr>
        <p:spPr>
          <a:xfrm>
            <a:off x="5732640" y="2868480"/>
            <a:ext cx="380880" cy="2178360"/>
          </a:xfrm>
          <a:custGeom>
            <a:avLst/>
            <a:gdLst/>
            <a:ahLst/>
            <a:rect l="l" t="t" r="r" b="b"/>
            <a:pathLst>
              <a:path w="480" h="2743">
                <a:moveTo>
                  <a:pt x="86" y="2439"/>
                </a:moveTo>
                <a:lnTo>
                  <a:pt x="73" y="2428"/>
                </a:lnTo>
                <a:lnTo>
                  <a:pt x="62" y="2416"/>
                </a:lnTo>
                <a:lnTo>
                  <a:pt x="52" y="2405"/>
                </a:lnTo>
                <a:lnTo>
                  <a:pt x="42" y="2395"/>
                </a:lnTo>
                <a:lnTo>
                  <a:pt x="33" y="2384"/>
                </a:lnTo>
                <a:lnTo>
                  <a:pt x="27" y="2374"/>
                </a:lnTo>
                <a:lnTo>
                  <a:pt x="19" y="2366"/>
                </a:lnTo>
                <a:lnTo>
                  <a:pt x="14" y="2357"/>
                </a:lnTo>
                <a:lnTo>
                  <a:pt x="10" y="2349"/>
                </a:lnTo>
                <a:lnTo>
                  <a:pt x="6" y="2341"/>
                </a:lnTo>
                <a:lnTo>
                  <a:pt x="4" y="2336"/>
                </a:lnTo>
                <a:lnTo>
                  <a:pt x="2" y="2330"/>
                </a:lnTo>
                <a:lnTo>
                  <a:pt x="0" y="2324"/>
                </a:lnTo>
                <a:lnTo>
                  <a:pt x="0" y="2320"/>
                </a:lnTo>
                <a:lnTo>
                  <a:pt x="2" y="2316"/>
                </a:lnTo>
                <a:lnTo>
                  <a:pt x="4" y="2313"/>
                </a:lnTo>
                <a:lnTo>
                  <a:pt x="6" y="2311"/>
                </a:lnTo>
                <a:lnTo>
                  <a:pt x="10" y="2309"/>
                </a:lnTo>
                <a:lnTo>
                  <a:pt x="14" y="2309"/>
                </a:lnTo>
                <a:lnTo>
                  <a:pt x="17" y="2309"/>
                </a:lnTo>
                <a:lnTo>
                  <a:pt x="21" y="2309"/>
                </a:lnTo>
                <a:lnTo>
                  <a:pt x="27" y="2309"/>
                </a:lnTo>
                <a:lnTo>
                  <a:pt x="33" y="2309"/>
                </a:lnTo>
                <a:lnTo>
                  <a:pt x="40" y="2311"/>
                </a:lnTo>
                <a:lnTo>
                  <a:pt x="48" y="2313"/>
                </a:lnTo>
                <a:lnTo>
                  <a:pt x="56" y="2316"/>
                </a:lnTo>
                <a:lnTo>
                  <a:pt x="65" y="2318"/>
                </a:lnTo>
                <a:lnTo>
                  <a:pt x="75" y="2322"/>
                </a:lnTo>
                <a:lnTo>
                  <a:pt x="85" y="2326"/>
                </a:lnTo>
                <a:lnTo>
                  <a:pt x="96" y="2330"/>
                </a:lnTo>
                <a:lnTo>
                  <a:pt x="110" y="2334"/>
                </a:lnTo>
                <a:lnTo>
                  <a:pt x="121" y="2338"/>
                </a:lnTo>
                <a:lnTo>
                  <a:pt x="134" y="2343"/>
                </a:lnTo>
                <a:lnTo>
                  <a:pt x="146" y="2347"/>
                </a:lnTo>
                <a:lnTo>
                  <a:pt x="159" y="2349"/>
                </a:lnTo>
                <a:lnTo>
                  <a:pt x="171" y="2353"/>
                </a:lnTo>
                <a:lnTo>
                  <a:pt x="181" y="2355"/>
                </a:lnTo>
                <a:lnTo>
                  <a:pt x="192" y="2355"/>
                </a:lnTo>
                <a:lnTo>
                  <a:pt x="202" y="2357"/>
                </a:lnTo>
                <a:lnTo>
                  <a:pt x="209" y="2355"/>
                </a:lnTo>
                <a:lnTo>
                  <a:pt x="219" y="2355"/>
                </a:lnTo>
                <a:lnTo>
                  <a:pt x="227" y="2353"/>
                </a:lnTo>
                <a:lnTo>
                  <a:pt x="234" y="2351"/>
                </a:lnTo>
                <a:lnTo>
                  <a:pt x="240" y="2347"/>
                </a:lnTo>
                <a:lnTo>
                  <a:pt x="248" y="2343"/>
                </a:lnTo>
                <a:lnTo>
                  <a:pt x="253" y="2338"/>
                </a:lnTo>
                <a:lnTo>
                  <a:pt x="259" y="2332"/>
                </a:lnTo>
                <a:lnTo>
                  <a:pt x="263" y="2326"/>
                </a:lnTo>
                <a:lnTo>
                  <a:pt x="263" y="2324"/>
                </a:lnTo>
                <a:lnTo>
                  <a:pt x="265" y="2322"/>
                </a:lnTo>
                <a:lnTo>
                  <a:pt x="265" y="2320"/>
                </a:lnTo>
                <a:lnTo>
                  <a:pt x="265" y="2316"/>
                </a:lnTo>
                <a:lnTo>
                  <a:pt x="265" y="2313"/>
                </a:lnTo>
                <a:lnTo>
                  <a:pt x="267" y="2309"/>
                </a:lnTo>
                <a:lnTo>
                  <a:pt x="267" y="2305"/>
                </a:lnTo>
                <a:lnTo>
                  <a:pt x="267" y="2299"/>
                </a:lnTo>
                <a:lnTo>
                  <a:pt x="269" y="2295"/>
                </a:lnTo>
                <a:lnTo>
                  <a:pt x="269" y="2290"/>
                </a:lnTo>
                <a:lnTo>
                  <a:pt x="269" y="2282"/>
                </a:lnTo>
                <a:lnTo>
                  <a:pt x="269" y="2276"/>
                </a:lnTo>
                <a:lnTo>
                  <a:pt x="271" y="2268"/>
                </a:lnTo>
                <a:lnTo>
                  <a:pt x="271" y="2261"/>
                </a:lnTo>
                <a:lnTo>
                  <a:pt x="271" y="2251"/>
                </a:lnTo>
                <a:lnTo>
                  <a:pt x="273" y="2242"/>
                </a:lnTo>
                <a:lnTo>
                  <a:pt x="273" y="2234"/>
                </a:lnTo>
                <a:lnTo>
                  <a:pt x="273" y="2222"/>
                </a:lnTo>
                <a:lnTo>
                  <a:pt x="273" y="2213"/>
                </a:lnTo>
                <a:lnTo>
                  <a:pt x="275" y="2201"/>
                </a:lnTo>
                <a:lnTo>
                  <a:pt x="275" y="2190"/>
                </a:lnTo>
                <a:lnTo>
                  <a:pt x="275" y="2178"/>
                </a:lnTo>
                <a:lnTo>
                  <a:pt x="277" y="2165"/>
                </a:lnTo>
                <a:lnTo>
                  <a:pt x="277" y="2153"/>
                </a:lnTo>
                <a:lnTo>
                  <a:pt x="277" y="2140"/>
                </a:lnTo>
                <a:lnTo>
                  <a:pt x="277" y="2124"/>
                </a:lnTo>
                <a:lnTo>
                  <a:pt x="278" y="2111"/>
                </a:lnTo>
                <a:lnTo>
                  <a:pt x="278" y="2096"/>
                </a:lnTo>
                <a:lnTo>
                  <a:pt x="278" y="2080"/>
                </a:lnTo>
                <a:lnTo>
                  <a:pt x="280" y="2065"/>
                </a:lnTo>
                <a:lnTo>
                  <a:pt x="280" y="2048"/>
                </a:lnTo>
                <a:lnTo>
                  <a:pt x="280" y="2030"/>
                </a:lnTo>
                <a:lnTo>
                  <a:pt x="280" y="2013"/>
                </a:lnTo>
                <a:lnTo>
                  <a:pt x="282" y="1996"/>
                </a:lnTo>
                <a:lnTo>
                  <a:pt x="282" y="1977"/>
                </a:lnTo>
                <a:lnTo>
                  <a:pt x="282" y="1957"/>
                </a:lnTo>
                <a:lnTo>
                  <a:pt x="284" y="1938"/>
                </a:lnTo>
                <a:lnTo>
                  <a:pt x="284" y="1917"/>
                </a:lnTo>
                <a:lnTo>
                  <a:pt x="284" y="1896"/>
                </a:lnTo>
                <a:lnTo>
                  <a:pt x="284" y="1875"/>
                </a:lnTo>
                <a:lnTo>
                  <a:pt x="286" y="1854"/>
                </a:lnTo>
                <a:lnTo>
                  <a:pt x="286" y="1833"/>
                </a:lnTo>
                <a:lnTo>
                  <a:pt x="286" y="1810"/>
                </a:lnTo>
                <a:lnTo>
                  <a:pt x="288" y="1787"/>
                </a:lnTo>
                <a:lnTo>
                  <a:pt x="288" y="1762"/>
                </a:lnTo>
                <a:lnTo>
                  <a:pt x="288" y="1739"/>
                </a:lnTo>
                <a:lnTo>
                  <a:pt x="288" y="1714"/>
                </a:lnTo>
                <a:lnTo>
                  <a:pt x="290" y="1689"/>
                </a:lnTo>
                <a:lnTo>
                  <a:pt x="290" y="1662"/>
                </a:lnTo>
                <a:lnTo>
                  <a:pt x="290" y="1637"/>
                </a:lnTo>
                <a:lnTo>
                  <a:pt x="292" y="1610"/>
                </a:lnTo>
                <a:lnTo>
                  <a:pt x="292" y="1583"/>
                </a:lnTo>
                <a:lnTo>
                  <a:pt x="292" y="1554"/>
                </a:lnTo>
                <a:lnTo>
                  <a:pt x="292" y="1526"/>
                </a:lnTo>
                <a:lnTo>
                  <a:pt x="294" y="1497"/>
                </a:lnTo>
                <a:lnTo>
                  <a:pt x="294" y="1468"/>
                </a:lnTo>
                <a:lnTo>
                  <a:pt x="294" y="1439"/>
                </a:lnTo>
                <a:lnTo>
                  <a:pt x="296" y="1408"/>
                </a:lnTo>
                <a:lnTo>
                  <a:pt x="296" y="1378"/>
                </a:lnTo>
                <a:lnTo>
                  <a:pt x="296" y="1345"/>
                </a:lnTo>
                <a:lnTo>
                  <a:pt x="296" y="1314"/>
                </a:lnTo>
                <a:lnTo>
                  <a:pt x="298" y="1282"/>
                </a:lnTo>
                <a:lnTo>
                  <a:pt x="298" y="1249"/>
                </a:lnTo>
                <a:lnTo>
                  <a:pt x="298" y="1215"/>
                </a:lnTo>
                <a:lnTo>
                  <a:pt x="300" y="1182"/>
                </a:lnTo>
                <a:lnTo>
                  <a:pt x="300" y="1149"/>
                </a:lnTo>
                <a:lnTo>
                  <a:pt x="298" y="1117"/>
                </a:lnTo>
                <a:lnTo>
                  <a:pt x="298" y="1084"/>
                </a:lnTo>
                <a:lnTo>
                  <a:pt x="298" y="1053"/>
                </a:lnTo>
                <a:lnTo>
                  <a:pt x="298" y="1023"/>
                </a:lnTo>
                <a:lnTo>
                  <a:pt x="298" y="992"/>
                </a:lnTo>
                <a:lnTo>
                  <a:pt x="298" y="961"/>
                </a:lnTo>
                <a:lnTo>
                  <a:pt x="298" y="932"/>
                </a:lnTo>
                <a:lnTo>
                  <a:pt x="298" y="904"/>
                </a:lnTo>
                <a:lnTo>
                  <a:pt x="298" y="875"/>
                </a:lnTo>
                <a:lnTo>
                  <a:pt x="298" y="848"/>
                </a:lnTo>
                <a:lnTo>
                  <a:pt x="298" y="821"/>
                </a:lnTo>
                <a:lnTo>
                  <a:pt x="298" y="794"/>
                </a:lnTo>
                <a:lnTo>
                  <a:pt x="296" y="767"/>
                </a:lnTo>
                <a:lnTo>
                  <a:pt x="296" y="742"/>
                </a:lnTo>
                <a:lnTo>
                  <a:pt x="296" y="717"/>
                </a:lnTo>
                <a:lnTo>
                  <a:pt x="296" y="693"/>
                </a:lnTo>
                <a:lnTo>
                  <a:pt x="296" y="668"/>
                </a:lnTo>
                <a:lnTo>
                  <a:pt x="294" y="645"/>
                </a:lnTo>
                <a:lnTo>
                  <a:pt x="294" y="622"/>
                </a:lnTo>
                <a:lnTo>
                  <a:pt x="294" y="598"/>
                </a:lnTo>
                <a:lnTo>
                  <a:pt x="294" y="575"/>
                </a:lnTo>
                <a:lnTo>
                  <a:pt x="292" y="554"/>
                </a:lnTo>
                <a:lnTo>
                  <a:pt x="292" y="533"/>
                </a:lnTo>
                <a:lnTo>
                  <a:pt x="292" y="512"/>
                </a:lnTo>
                <a:lnTo>
                  <a:pt x="292" y="493"/>
                </a:lnTo>
                <a:lnTo>
                  <a:pt x="290" y="474"/>
                </a:lnTo>
                <a:lnTo>
                  <a:pt x="290" y="455"/>
                </a:lnTo>
                <a:lnTo>
                  <a:pt x="290" y="435"/>
                </a:lnTo>
                <a:lnTo>
                  <a:pt x="288" y="418"/>
                </a:lnTo>
                <a:lnTo>
                  <a:pt x="288" y="401"/>
                </a:lnTo>
                <a:lnTo>
                  <a:pt x="288" y="383"/>
                </a:lnTo>
                <a:lnTo>
                  <a:pt x="286" y="366"/>
                </a:lnTo>
                <a:lnTo>
                  <a:pt x="286" y="351"/>
                </a:lnTo>
                <a:lnTo>
                  <a:pt x="284" y="336"/>
                </a:lnTo>
                <a:lnTo>
                  <a:pt x="284" y="320"/>
                </a:lnTo>
                <a:lnTo>
                  <a:pt x="284" y="305"/>
                </a:lnTo>
                <a:lnTo>
                  <a:pt x="282" y="291"/>
                </a:lnTo>
                <a:lnTo>
                  <a:pt x="282" y="278"/>
                </a:lnTo>
                <a:lnTo>
                  <a:pt x="280" y="264"/>
                </a:lnTo>
                <a:lnTo>
                  <a:pt x="280" y="253"/>
                </a:lnTo>
                <a:lnTo>
                  <a:pt x="278" y="241"/>
                </a:lnTo>
                <a:lnTo>
                  <a:pt x="278" y="230"/>
                </a:lnTo>
                <a:lnTo>
                  <a:pt x="277" y="218"/>
                </a:lnTo>
                <a:lnTo>
                  <a:pt x="275" y="207"/>
                </a:lnTo>
                <a:lnTo>
                  <a:pt x="275" y="197"/>
                </a:lnTo>
                <a:lnTo>
                  <a:pt x="273" y="188"/>
                </a:lnTo>
                <a:lnTo>
                  <a:pt x="273" y="180"/>
                </a:lnTo>
                <a:lnTo>
                  <a:pt x="271" y="170"/>
                </a:lnTo>
                <a:lnTo>
                  <a:pt x="269" y="163"/>
                </a:lnTo>
                <a:lnTo>
                  <a:pt x="269" y="155"/>
                </a:lnTo>
                <a:lnTo>
                  <a:pt x="267" y="149"/>
                </a:lnTo>
                <a:lnTo>
                  <a:pt x="265" y="142"/>
                </a:lnTo>
                <a:lnTo>
                  <a:pt x="265" y="136"/>
                </a:lnTo>
                <a:lnTo>
                  <a:pt x="263" y="130"/>
                </a:lnTo>
                <a:lnTo>
                  <a:pt x="261" y="126"/>
                </a:lnTo>
                <a:lnTo>
                  <a:pt x="261" y="121"/>
                </a:lnTo>
                <a:lnTo>
                  <a:pt x="259" y="117"/>
                </a:lnTo>
                <a:lnTo>
                  <a:pt x="257" y="113"/>
                </a:lnTo>
                <a:lnTo>
                  <a:pt x="255" y="111"/>
                </a:lnTo>
                <a:lnTo>
                  <a:pt x="253" y="109"/>
                </a:lnTo>
                <a:lnTo>
                  <a:pt x="253" y="107"/>
                </a:lnTo>
                <a:lnTo>
                  <a:pt x="252" y="105"/>
                </a:lnTo>
                <a:lnTo>
                  <a:pt x="238" y="99"/>
                </a:lnTo>
                <a:lnTo>
                  <a:pt x="227" y="94"/>
                </a:lnTo>
                <a:lnTo>
                  <a:pt x="217" y="86"/>
                </a:lnTo>
                <a:lnTo>
                  <a:pt x="213" y="82"/>
                </a:lnTo>
                <a:lnTo>
                  <a:pt x="209" y="76"/>
                </a:lnTo>
                <a:lnTo>
                  <a:pt x="207" y="73"/>
                </a:lnTo>
                <a:lnTo>
                  <a:pt x="206" y="67"/>
                </a:lnTo>
                <a:lnTo>
                  <a:pt x="204" y="61"/>
                </a:lnTo>
                <a:lnTo>
                  <a:pt x="202" y="55"/>
                </a:lnTo>
                <a:lnTo>
                  <a:pt x="202" y="50"/>
                </a:lnTo>
                <a:lnTo>
                  <a:pt x="202" y="44"/>
                </a:lnTo>
                <a:lnTo>
                  <a:pt x="202" y="36"/>
                </a:lnTo>
                <a:lnTo>
                  <a:pt x="204" y="30"/>
                </a:lnTo>
                <a:lnTo>
                  <a:pt x="206" y="23"/>
                </a:lnTo>
                <a:lnTo>
                  <a:pt x="206" y="17"/>
                </a:lnTo>
                <a:lnTo>
                  <a:pt x="209" y="11"/>
                </a:lnTo>
                <a:lnTo>
                  <a:pt x="213" y="7"/>
                </a:lnTo>
                <a:lnTo>
                  <a:pt x="217" y="5"/>
                </a:lnTo>
                <a:lnTo>
                  <a:pt x="223" y="2"/>
                </a:lnTo>
                <a:lnTo>
                  <a:pt x="230" y="0"/>
                </a:lnTo>
                <a:lnTo>
                  <a:pt x="238" y="0"/>
                </a:lnTo>
                <a:lnTo>
                  <a:pt x="246" y="0"/>
                </a:lnTo>
                <a:lnTo>
                  <a:pt x="257" y="0"/>
                </a:lnTo>
                <a:lnTo>
                  <a:pt x="267" y="2"/>
                </a:lnTo>
                <a:lnTo>
                  <a:pt x="278" y="3"/>
                </a:lnTo>
                <a:lnTo>
                  <a:pt x="292" y="5"/>
                </a:lnTo>
                <a:lnTo>
                  <a:pt x="305" y="9"/>
                </a:lnTo>
                <a:lnTo>
                  <a:pt x="319" y="13"/>
                </a:lnTo>
                <a:lnTo>
                  <a:pt x="334" y="17"/>
                </a:lnTo>
                <a:lnTo>
                  <a:pt x="349" y="25"/>
                </a:lnTo>
                <a:lnTo>
                  <a:pt x="363" y="30"/>
                </a:lnTo>
                <a:lnTo>
                  <a:pt x="376" y="38"/>
                </a:lnTo>
                <a:lnTo>
                  <a:pt x="390" y="44"/>
                </a:lnTo>
                <a:lnTo>
                  <a:pt x="401" y="50"/>
                </a:lnTo>
                <a:lnTo>
                  <a:pt x="411" y="55"/>
                </a:lnTo>
                <a:lnTo>
                  <a:pt x="422" y="61"/>
                </a:lnTo>
                <a:lnTo>
                  <a:pt x="432" y="67"/>
                </a:lnTo>
                <a:lnTo>
                  <a:pt x="440" y="71"/>
                </a:lnTo>
                <a:lnTo>
                  <a:pt x="447" y="76"/>
                </a:lnTo>
                <a:lnTo>
                  <a:pt x="453" y="82"/>
                </a:lnTo>
                <a:lnTo>
                  <a:pt x="461" y="86"/>
                </a:lnTo>
                <a:lnTo>
                  <a:pt x="465" y="92"/>
                </a:lnTo>
                <a:lnTo>
                  <a:pt x="468" y="96"/>
                </a:lnTo>
                <a:lnTo>
                  <a:pt x="472" y="101"/>
                </a:lnTo>
                <a:lnTo>
                  <a:pt x="476" y="105"/>
                </a:lnTo>
                <a:lnTo>
                  <a:pt x="478" y="111"/>
                </a:lnTo>
                <a:lnTo>
                  <a:pt x="478" y="115"/>
                </a:lnTo>
                <a:lnTo>
                  <a:pt x="480" y="126"/>
                </a:lnTo>
                <a:lnTo>
                  <a:pt x="480" y="138"/>
                </a:lnTo>
                <a:lnTo>
                  <a:pt x="478" y="151"/>
                </a:lnTo>
                <a:lnTo>
                  <a:pt x="476" y="165"/>
                </a:lnTo>
                <a:lnTo>
                  <a:pt x="472" y="178"/>
                </a:lnTo>
                <a:lnTo>
                  <a:pt x="468" y="192"/>
                </a:lnTo>
                <a:lnTo>
                  <a:pt x="465" y="207"/>
                </a:lnTo>
                <a:lnTo>
                  <a:pt x="461" y="217"/>
                </a:lnTo>
                <a:lnTo>
                  <a:pt x="459" y="226"/>
                </a:lnTo>
                <a:lnTo>
                  <a:pt x="457" y="238"/>
                </a:lnTo>
                <a:lnTo>
                  <a:pt x="455" y="249"/>
                </a:lnTo>
                <a:lnTo>
                  <a:pt x="453" y="261"/>
                </a:lnTo>
                <a:lnTo>
                  <a:pt x="451" y="274"/>
                </a:lnTo>
                <a:lnTo>
                  <a:pt x="449" y="288"/>
                </a:lnTo>
                <a:lnTo>
                  <a:pt x="447" y="301"/>
                </a:lnTo>
                <a:lnTo>
                  <a:pt x="445" y="314"/>
                </a:lnTo>
                <a:lnTo>
                  <a:pt x="444" y="330"/>
                </a:lnTo>
                <a:lnTo>
                  <a:pt x="444" y="345"/>
                </a:lnTo>
                <a:lnTo>
                  <a:pt x="442" y="362"/>
                </a:lnTo>
                <a:lnTo>
                  <a:pt x="442" y="380"/>
                </a:lnTo>
                <a:lnTo>
                  <a:pt x="440" y="397"/>
                </a:lnTo>
                <a:lnTo>
                  <a:pt x="440" y="414"/>
                </a:lnTo>
                <a:lnTo>
                  <a:pt x="440" y="433"/>
                </a:lnTo>
                <a:lnTo>
                  <a:pt x="438" y="455"/>
                </a:lnTo>
                <a:lnTo>
                  <a:pt x="436" y="479"/>
                </a:lnTo>
                <a:lnTo>
                  <a:pt x="434" y="504"/>
                </a:lnTo>
                <a:lnTo>
                  <a:pt x="434" y="533"/>
                </a:lnTo>
                <a:lnTo>
                  <a:pt x="432" y="562"/>
                </a:lnTo>
                <a:lnTo>
                  <a:pt x="430" y="593"/>
                </a:lnTo>
                <a:lnTo>
                  <a:pt x="430" y="627"/>
                </a:lnTo>
                <a:lnTo>
                  <a:pt x="430" y="645"/>
                </a:lnTo>
                <a:lnTo>
                  <a:pt x="430" y="662"/>
                </a:lnTo>
                <a:lnTo>
                  <a:pt x="430" y="679"/>
                </a:lnTo>
                <a:lnTo>
                  <a:pt x="430" y="698"/>
                </a:lnTo>
                <a:lnTo>
                  <a:pt x="428" y="717"/>
                </a:lnTo>
                <a:lnTo>
                  <a:pt x="428" y="739"/>
                </a:lnTo>
                <a:lnTo>
                  <a:pt x="428" y="758"/>
                </a:lnTo>
                <a:lnTo>
                  <a:pt x="428" y="779"/>
                </a:lnTo>
                <a:lnTo>
                  <a:pt x="428" y="800"/>
                </a:lnTo>
                <a:lnTo>
                  <a:pt x="428" y="821"/>
                </a:lnTo>
                <a:lnTo>
                  <a:pt x="428" y="844"/>
                </a:lnTo>
                <a:lnTo>
                  <a:pt x="428" y="867"/>
                </a:lnTo>
                <a:lnTo>
                  <a:pt x="428" y="890"/>
                </a:lnTo>
                <a:lnTo>
                  <a:pt x="428" y="913"/>
                </a:lnTo>
                <a:lnTo>
                  <a:pt x="428" y="938"/>
                </a:lnTo>
                <a:lnTo>
                  <a:pt x="428" y="963"/>
                </a:lnTo>
                <a:lnTo>
                  <a:pt x="428" y="988"/>
                </a:lnTo>
                <a:lnTo>
                  <a:pt x="428" y="1013"/>
                </a:lnTo>
                <a:lnTo>
                  <a:pt x="424" y="1117"/>
                </a:lnTo>
                <a:lnTo>
                  <a:pt x="422" y="1222"/>
                </a:lnTo>
                <a:lnTo>
                  <a:pt x="420" y="1326"/>
                </a:lnTo>
                <a:lnTo>
                  <a:pt x="420" y="1430"/>
                </a:lnTo>
                <a:lnTo>
                  <a:pt x="420" y="1533"/>
                </a:lnTo>
                <a:lnTo>
                  <a:pt x="422" y="1639"/>
                </a:lnTo>
                <a:lnTo>
                  <a:pt x="424" y="1742"/>
                </a:lnTo>
                <a:lnTo>
                  <a:pt x="428" y="1846"/>
                </a:lnTo>
                <a:lnTo>
                  <a:pt x="428" y="1873"/>
                </a:lnTo>
                <a:lnTo>
                  <a:pt x="428" y="1900"/>
                </a:lnTo>
                <a:lnTo>
                  <a:pt x="428" y="1925"/>
                </a:lnTo>
                <a:lnTo>
                  <a:pt x="428" y="1950"/>
                </a:lnTo>
                <a:lnTo>
                  <a:pt x="428" y="1975"/>
                </a:lnTo>
                <a:lnTo>
                  <a:pt x="428" y="2000"/>
                </a:lnTo>
                <a:lnTo>
                  <a:pt x="428" y="2023"/>
                </a:lnTo>
                <a:lnTo>
                  <a:pt x="428" y="2046"/>
                </a:lnTo>
                <a:lnTo>
                  <a:pt x="428" y="2067"/>
                </a:lnTo>
                <a:lnTo>
                  <a:pt x="428" y="2090"/>
                </a:lnTo>
                <a:lnTo>
                  <a:pt x="428" y="2111"/>
                </a:lnTo>
                <a:lnTo>
                  <a:pt x="428" y="2132"/>
                </a:lnTo>
                <a:lnTo>
                  <a:pt x="428" y="2151"/>
                </a:lnTo>
                <a:lnTo>
                  <a:pt x="426" y="2171"/>
                </a:lnTo>
                <a:lnTo>
                  <a:pt x="426" y="2190"/>
                </a:lnTo>
                <a:lnTo>
                  <a:pt x="426" y="2209"/>
                </a:lnTo>
                <a:lnTo>
                  <a:pt x="426" y="2226"/>
                </a:lnTo>
                <a:lnTo>
                  <a:pt x="426" y="2245"/>
                </a:lnTo>
                <a:lnTo>
                  <a:pt x="426" y="2261"/>
                </a:lnTo>
                <a:lnTo>
                  <a:pt x="424" y="2278"/>
                </a:lnTo>
                <a:lnTo>
                  <a:pt x="424" y="2293"/>
                </a:lnTo>
                <a:lnTo>
                  <a:pt x="424" y="2311"/>
                </a:lnTo>
                <a:lnTo>
                  <a:pt x="424" y="2324"/>
                </a:lnTo>
                <a:lnTo>
                  <a:pt x="422" y="2339"/>
                </a:lnTo>
                <a:lnTo>
                  <a:pt x="422" y="2366"/>
                </a:lnTo>
                <a:lnTo>
                  <a:pt x="420" y="2393"/>
                </a:lnTo>
                <a:lnTo>
                  <a:pt x="419" y="2416"/>
                </a:lnTo>
                <a:lnTo>
                  <a:pt x="417" y="2439"/>
                </a:lnTo>
                <a:lnTo>
                  <a:pt x="413" y="2460"/>
                </a:lnTo>
                <a:lnTo>
                  <a:pt x="411" y="2480"/>
                </a:lnTo>
                <a:lnTo>
                  <a:pt x="407" y="2499"/>
                </a:lnTo>
                <a:lnTo>
                  <a:pt x="403" y="2518"/>
                </a:lnTo>
                <a:lnTo>
                  <a:pt x="399" y="2535"/>
                </a:lnTo>
                <a:lnTo>
                  <a:pt x="394" y="2551"/>
                </a:lnTo>
                <a:lnTo>
                  <a:pt x="390" y="2568"/>
                </a:lnTo>
                <a:lnTo>
                  <a:pt x="384" y="2583"/>
                </a:lnTo>
                <a:lnTo>
                  <a:pt x="378" y="2597"/>
                </a:lnTo>
                <a:lnTo>
                  <a:pt x="373" y="2610"/>
                </a:lnTo>
                <a:lnTo>
                  <a:pt x="367" y="2624"/>
                </a:lnTo>
                <a:lnTo>
                  <a:pt x="359" y="2635"/>
                </a:lnTo>
                <a:lnTo>
                  <a:pt x="353" y="2647"/>
                </a:lnTo>
                <a:lnTo>
                  <a:pt x="348" y="2658"/>
                </a:lnTo>
                <a:lnTo>
                  <a:pt x="340" y="2670"/>
                </a:lnTo>
                <a:lnTo>
                  <a:pt x="334" y="2679"/>
                </a:lnTo>
                <a:lnTo>
                  <a:pt x="321" y="2693"/>
                </a:lnTo>
                <a:lnTo>
                  <a:pt x="307" y="2704"/>
                </a:lnTo>
                <a:lnTo>
                  <a:pt x="296" y="2716"/>
                </a:lnTo>
                <a:lnTo>
                  <a:pt x="284" y="2725"/>
                </a:lnTo>
                <a:lnTo>
                  <a:pt x="278" y="2729"/>
                </a:lnTo>
                <a:lnTo>
                  <a:pt x="273" y="2733"/>
                </a:lnTo>
                <a:lnTo>
                  <a:pt x="269" y="2735"/>
                </a:lnTo>
                <a:lnTo>
                  <a:pt x="265" y="2737"/>
                </a:lnTo>
                <a:lnTo>
                  <a:pt x="259" y="2739"/>
                </a:lnTo>
                <a:lnTo>
                  <a:pt x="257" y="2741"/>
                </a:lnTo>
                <a:lnTo>
                  <a:pt x="253" y="2743"/>
                </a:lnTo>
                <a:lnTo>
                  <a:pt x="252" y="2743"/>
                </a:lnTo>
                <a:lnTo>
                  <a:pt x="248" y="2743"/>
                </a:lnTo>
                <a:lnTo>
                  <a:pt x="242" y="2741"/>
                </a:lnTo>
                <a:lnTo>
                  <a:pt x="238" y="2739"/>
                </a:lnTo>
                <a:lnTo>
                  <a:pt x="236" y="2735"/>
                </a:lnTo>
                <a:lnTo>
                  <a:pt x="232" y="2731"/>
                </a:lnTo>
                <a:lnTo>
                  <a:pt x="229" y="2727"/>
                </a:lnTo>
                <a:lnTo>
                  <a:pt x="227" y="2721"/>
                </a:lnTo>
                <a:lnTo>
                  <a:pt x="223" y="2716"/>
                </a:lnTo>
                <a:lnTo>
                  <a:pt x="221" y="2708"/>
                </a:lnTo>
                <a:lnTo>
                  <a:pt x="217" y="2700"/>
                </a:lnTo>
                <a:lnTo>
                  <a:pt x="215" y="2693"/>
                </a:lnTo>
                <a:lnTo>
                  <a:pt x="213" y="2683"/>
                </a:lnTo>
                <a:lnTo>
                  <a:pt x="211" y="2673"/>
                </a:lnTo>
                <a:lnTo>
                  <a:pt x="209" y="2664"/>
                </a:lnTo>
                <a:lnTo>
                  <a:pt x="206" y="2652"/>
                </a:lnTo>
                <a:lnTo>
                  <a:pt x="204" y="2641"/>
                </a:lnTo>
                <a:lnTo>
                  <a:pt x="202" y="2629"/>
                </a:lnTo>
                <a:lnTo>
                  <a:pt x="198" y="2616"/>
                </a:lnTo>
                <a:lnTo>
                  <a:pt x="194" y="2604"/>
                </a:lnTo>
                <a:lnTo>
                  <a:pt x="190" y="2591"/>
                </a:lnTo>
                <a:lnTo>
                  <a:pt x="186" y="2579"/>
                </a:lnTo>
                <a:lnTo>
                  <a:pt x="181" y="2566"/>
                </a:lnTo>
                <a:lnTo>
                  <a:pt x="175" y="2553"/>
                </a:lnTo>
                <a:lnTo>
                  <a:pt x="167" y="2541"/>
                </a:lnTo>
                <a:lnTo>
                  <a:pt x="159" y="2528"/>
                </a:lnTo>
                <a:lnTo>
                  <a:pt x="152" y="2514"/>
                </a:lnTo>
                <a:lnTo>
                  <a:pt x="142" y="2503"/>
                </a:lnTo>
                <a:lnTo>
                  <a:pt x="133" y="2489"/>
                </a:lnTo>
                <a:lnTo>
                  <a:pt x="121" y="2476"/>
                </a:lnTo>
                <a:lnTo>
                  <a:pt x="111" y="2464"/>
                </a:lnTo>
                <a:lnTo>
                  <a:pt x="98" y="2451"/>
                </a:lnTo>
                <a:lnTo>
                  <a:pt x="86" y="24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30"/>
          <p:cNvSpPr/>
          <p:nvPr/>
        </p:nvSpPr>
        <p:spPr>
          <a:xfrm>
            <a:off x="5405400" y="3843360"/>
            <a:ext cx="892080" cy="603360"/>
          </a:xfrm>
          <a:custGeom>
            <a:avLst/>
            <a:gdLst/>
            <a:ahLst/>
            <a:rect l="l" t="t" r="r" b="b"/>
            <a:pathLst>
              <a:path w="1125" h="760">
                <a:moveTo>
                  <a:pt x="146" y="557"/>
                </a:moveTo>
                <a:lnTo>
                  <a:pt x="148" y="555"/>
                </a:lnTo>
                <a:lnTo>
                  <a:pt x="154" y="553"/>
                </a:lnTo>
                <a:lnTo>
                  <a:pt x="158" y="551"/>
                </a:lnTo>
                <a:lnTo>
                  <a:pt x="166" y="547"/>
                </a:lnTo>
                <a:lnTo>
                  <a:pt x="171" y="545"/>
                </a:lnTo>
                <a:lnTo>
                  <a:pt x="179" y="541"/>
                </a:lnTo>
                <a:lnTo>
                  <a:pt x="187" y="536"/>
                </a:lnTo>
                <a:lnTo>
                  <a:pt x="196" y="532"/>
                </a:lnTo>
                <a:lnTo>
                  <a:pt x="206" y="526"/>
                </a:lnTo>
                <a:lnTo>
                  <a:pt x="217" y="520"/>
                </a:lnTo>
                <a:lnTo>
                  <a:pt x="229" y="513"/>
                </a:lnTo>
                <a:lnTo>
                  <a:pt x="240" y="507"/>
                </a:lnTo>
                <a:lnTo>
                  <a:pt x="254" y="499"/>
                </a:lnTo>
                <a:lnTo>
                  <a:pt x="267" y="492"/>
                </a:lnTo>
                <a:lnTo>
                  <a:pt x="283" y="482"/>
                </a:lnTo>
                <a:lnTo>
                  <a:pt x="298" y="472"/>
                </a:lnTo>
                <a:lnTo>
                  <a:pt x="313" y="463"/>
                </a:lnTo>
                <a:lnTo>
                  <a:pt x="331" y="453"/>
                </a:lnTo>
                <a:lnTo>
                  <a:pt x="348" y="442"/>
                </a:lnTo>
                <a:lnTo>
                  <a:pt x="367" y="432"/>
                </a:lnTo>
                <a:lnTo>
                  <a:pt x="386" y="419"/>
                </a:lnTo>
                <a:lnTo>
                  <a:pt x="407" y="407"/>
                </a:lnTo>
                <a:lnTo>
                  <a:pt x="428" y="394"/>
                </a:lnTo>
                <a:lnTo>
                  <a:pt x="450" y="380"/>
                </a:lnTo>
                <a:lnTo>
                  <a:pt x="473" y="367"/>
                </a:lnTo>
                <a:lnTo>
                  <a:pt x="496" y="353"/>
                </a:lnTo>
                <a:lnTo>
                  <a:pt x="521" y="338"/>
                </a:lnTo>
                <a:lnTo>
                  <a:pt x="546" y="323"/>
                </a:lnTo>
                <a:lnTo>
                  <a:pt x="571" y="305"/>
                </a:lnTo>
                <a:lnTo>
                  <a:pt x="597" y="290"/>
                </a:lnTo>
                <a:lnTo>
                  <a:pt x="624" y="273"/>
                </a:lnTo>
                <a:lnTo>
                  <a:pt x="653" y="255"/>
                </a:lnTo>
                <a:lnTo>
                  <a:pt x="680" y="236"/>
                </a:lnTo>
                <a:lnTo>
                  <a:pt x="707" y="219"/>
                </a:lnTo>
                <a:lnTo>
                  <a:pt x="732" y="204"/>
                </a:lnTo>
                <a:lnTo>
                  <a:pt x="757" y="188"/>
                </a:lnTo>
                <a:lnTo>
                  <a:pt x="780" y="173"/>
                </a:lnTo>
                <a:lnTo>
                  <a:pt x="805" y="159"/>
                </a:lnTo>
                <a:lnTo>
                  <a:pt x="826" y="146"/>
                </a:lnTo>
                <a:lnTo>
                  <a:pt x="849" y="133"/>
                </a:lnTo>
                <a:lnTo>
                  <a:pt x="870" y="119"/>
                </a:lnTo>
                <a:lnTo>
                  <a:pt x="889" y="108"/>
                </a:lnTo>
                <a:lnTo>
                  <a:pt x="908" y="98"/>
                </a:lnTo>
                <a:lnTo>
                  <a:pt x="928" y="87"/>
                </a:lnTo>
                <a:lnTo>
                  <a:pt x="945" y="77"/>
                </a:lnTo>
                <a:lnTo>
                  <a:pt x="962" y="67"/>
                </a:lnTo>
                <a:lnTo>
                  <a:pt x="977" y="60"/>
                </a:lnTo>
                <a:lnTo>
                  <a:pt x="993" y="52"/>
                </a:lnTo>
                <a:lnTo>
                  <a:pt x="1008" y="44"/>
                </a:lnTo>
                <a:lnTo>
                  <a:pt x="1022" y="37"/>
                </a:lnTo>
                <a:lnTo>
                  <a:pt x="1035" y="31"/>
                </a:lnTo>
                <a:lnTo>
                  <a:pt x="1047" y="25"/>
                </a:lnTo>
                <a:lnTo>
                  <a:pt x="1058" y="21"/>
                </a:lnTo>
                <a:lnTo>
                  <a:pt x="1068" y="16"/>
                </a:lnTo>
                <a:lnTo>
                  <a:pt x="1077" y="12"/>
                </a:lnTo>
                <a:lnTo>
                  <a:pt x="1087" y="10"/>
                </a:lnTo>
                <a:lnTo>
                  <a:pt x="1095" y="6"/>
                </a:lnTo>
                <a:lnTo>
                  <a:pt x="1102" y="4"/>
                </a:lnTo>
                <a:lnTo>
                  <a:pt x="1108" y="2"/>
                </a:lnTo>
                <a:lnTo>
                  <a:pt x="1112" y="2"/>
                </a:lnTo>
                <a:lnTo>
                  <a:pt x="1118" y="0"/>
                </a:lnTo>
                <a:lnTo>
                  <a:pt x="1119" y="0"/>
                </a:lnTo>
                <a:lnTo>
                  <a:pt x="1123" y="2"/>
                </a:lnTo>
                <a:lnTo>
                  <a:pt x="1125" y="2"/>
                </a:lnTo>
                <a:lnTo>
                  <a:pt x="1125" y="4"/>
                </a:lnTo>
                <a:lnTo>
                  <a:pt x="1125" y="8"/>
                </a:lnTo>
                <a:lnTo>
                  <a:pt x="1123" y="12"/>
                </a:lnTo>
                <a:lnTo>
                  <a:pt x="1121" y="17"/>
                </a:lnTo>
                <a:lnTo>
                  <a:pt x="1118" y="21"/>
                </a:lnTo>
                <a:lnTo>
                  <a:pt x="1114" y="27"/>
                </a:lnTo>
                <a:lnTo>
                  <a:pt x="1110" y="35"/>
                </a:lnTo>
                <a:lnTo>
                  <a:pt x="1104" y="42"/>
                </a:lnTo>
                <a:lnTo>
                  <a:pt x="1096" y="50"/>
                </a:lnTo>
                <a:lnTo>
                  <a:pt x="1091" y="58"/>
                </a:lnTo>
                <a:lnTo>
                  <a:pt x="1081" y="67"/>
                </a:lnTo>
                <a:lnTo>
                  <a:pt x="1072" y="77"/>
                </a:lnTo>
                <a:lnTo>
                  <a:pt x="1062" y="87"/>
                </a:lnTo>
                <a:lnTo>
                  <a:pt x="1050" y="98"/>
                </a:lnTo>
                <a:lnTo>
                  <a:pt x="1039" y="110"/>
                </a:lnTo>
                <a:lnTo>
                  <a:pt x="1025" y="123"/>
                </a:lnTo>
                <a:lnTo>
                  <a:pt x="1012" y="135"/>
                </a:lnTo>
                <a:lnTo>
                  <a:pt x="997" y="148"/>
                </a:lnTo>
                <a:lnTo>
                  <a:pt x="981" y="163"/>
                </a:lnTo>
                <a:lnTo>
                  <a:pt x="966" y="179"/>
                </a:lnTo>
                <a:lnTo>
                  <a:pt x="949" y="194"/>
                </a:lnTo>
                <a:lnTo>
                  <a:pt x="929" y="209"/>
                </a:lnTo>
                <a:lnTo>
                  <a:pt x="910" y="227"/>
                </a:lnTo>
                <a:lnTo>
                  <a:pt x="891" y="244"/>
                </a:lnTo>
                <a:lnTo>
                  <a:pt x="870" y="261"/>
                </a:lnTo>
                <a:lnTo>
                  <a:pt x="849" y="280"/>
                </a:lnTo>
                <a:lnTo>
                  <a:pt x="826" y="300"/>
                </a:lnTo>
                <a:lnTo>
                  <a:pt x="803" y="319"/>
                </a:lnTo>
                <a:lnTo>
                  <a:pt x="778" y="340"/>
                </a:lnTo>
                <a:lnTo>
                  <a:pt x="753" y="361"/>
                </a:lnTo>
                <a:lnTo>
                  <a:pt x="726" y="384"/>
                </a:lnTo>
                <a:lnTo>
                  <a:pt x="699" y="405"/>
                </a:lnTo>
                <a:lnTo>
                  <a:pt x="672" y="428"/>
                </a:lnTo>
                <a:lnTo>
                  <a:pt x="645" y="449"/>
                </a:lnTo>
                <a:lnTo>
                  <a:pt x="620" y="470"/>
                </a:lnTo>
                <a:lnTo>
                  <a:pt x="595" y="492"/>
                </a:lnTo>
                <a:lnTo>
                  <a:pt x="572" y="511"/>
                </a:lnTo>
                <a:lnTo>
                  <a:pt x="547" y="530"/>
                </a:lnTo>
                <a:lnTo>
                  <a:pt x="526" y="547"/>
                </a:lnTo>
                <a:lnTo>
                  <a:pt x="503" y="564"/>
                </a:lnTo>
                <a:lnTo>
                  <a:pt x="482" y="582"/>
                </a:lnTo>
                <a:lnTo>
                  <a:pt x="463" y="597"/>
                </a:lnTo>
                <a:lnTo>
                  <a:pt x="442" y="612"/>
                </a:lnTo>
                <a:lnTo>
                  <a:pt x="425" y="628"/>
                </a:lnTo>
                <a:lnTo>
                  <a:pt x="405" y="641"/>
                </a:lnTo>
                <a:lnTo>
                  <a:pt x="388" y="655"/>
                </a:lnTo>
                <a:lnTo>
                  <a:pt x="371" y="666"/>
                </a:lnTo>
                <a:lnTo>
                  <a:pt x="356" y="678"/>
                </a:lnTo>
                <a:lnTo>
                  <a:pt x="340" y="689"/>
                </a:lnTo>
                <a:lnTo>
                  <a:pt x="327" y="699"/>
                </a:lnTo>
                <a:lnTo>
                  <a:pt x="311" y="708"/>
                </a:lnTo>
                <a:lnTo>
                  <a:pt x="300" y="716"/>
                </a:lnTo>
                <a:lnTo>
                  <a:pt x="286" y="724"/>
                </a:lnTo>
                <a:lnTo>
                  <a:pt x="277" y="731"/>
                </a:lnTo>
                <a:lnTo>
                  <a:pt x="265" y="737"/>
                </a:lnTo>
                <a:lnTo>
                  <a:pt x="256" y="743"/>
                </a:lnTo>
                <a:lnTo>
                  <a:pt x="246" y="749"/>
                </a:lnTo>
                <a:lnTo>
                  <a:pt x="238" y="753"/>
                </a:lnTo>
                <a:lnTo>
                  <a:pt x="231" y="754"/>
                </a:lnTo>
                <a:lnTo>
                  <a:pt x="223" y="756"/>
                </a:lnTo>
                <a:lnTo>
                  <a:pt x="217" y="758"/>
                </a:lnTo>
                <a:lnTo>
                  <a:pt x="213" y="760"/>
                </a:lnTo>
                <a:lnTo>
                  <a:pt x="208" y="760"/>
                </a:lnTo>
                <a:lnTo>
                  <a:pt x="204" y="758"/>
                </a:lnTo>
                <a:lnTo>
                  <a:pt x="198" y="758"/>
                </a:lnTo>
                <a:lnTo>
                  <a:pt x="190" y="758"/>
                </a:lnTo>
                <a:lnTo>
                  <a:pt x="183" y="756"/>
                </a:lnTo>
                <a:lnTo>
                  <a:pt x="175" y="754"/>
                </a:lnTo>
                <a:lnTo>
                  <a:pt x="167" y="751"/>
                </a:lnTo>
                <a:lnTo>
                  <a:pt x="160" y="749"/>
                </a:lnTo>
                <a:lnTo>
                  <a:pt x="152" y="745"/>
                </a:lnTo>
                <a:lnTo>
                  <a:pt x="144" y="741"/>
                </a:lnTo>
                <a:lnTo>
                  <a:pt x="135" y="735"/>
                </a:lnTo>
                <a:lnTo>
                  <a:pt x="127" y="730"/>
                </a:lnTo>
                <a:lnTo>
                  <a:pt x="118" y="724"/>
                </a:lnTo>
                <a:lnTo>
                  <a:pt x="110" y="716"/>
                </a:lnTo>
                <a:lnTo>
                  <a:pt x="100" y="708"/>
                </a:lnTo>
                <a:lnTo>
                  <a:pt x="93" y="701"/>
                </a:lnTo>
                <a:lnTo>
                  <a:pt x="83" y="693"/>
                </a:lnTo>
                <a:lnTo>
                  <a:pt x="75" y="683"/>
                </a:lnTo>
                <a:lnTo>
                  <a:pt x="64" y="674"/>
                </a:lnTo>
                <a:lnTo>
                  <a:pt x="54" y="664"/>
                </a:lnTo>
                <a:lnTo>
                  <a:pt x="45" y="657"/>
                </a:lnTo>
                <a:lnTo>
                  <a:pt x="37" y="647"/>
                </a:lnTo>
                <a:lnTo>
                  <a:pt x="29" y="639"/>
                </a:lnTo>
                <a:lnTo>
                  <a:pt x="23" y="632"/>
                </a:lnTo>
                <a:lnTo>
                  <a:pt x="18" y="624"/>
                </a:lnTo>
                <a:lnTo>
                  <a:pt x="14" y="616"/>
                </a:lnTo>
                <a:lnTo>
                  <a:pt x="8" y="611"/>
                </a:lnTo>
                <a:lnTo>
                  <a:pt x="6" y="603"/>
                </a:lnTo>
                <a:lnTo>
                  <a:pt x="4" y="597"/>
                </a:lnTo>
                <a:lnTo>
                  <a:pt x="2" y="591"/>
                </a:lnTo>
                <a:lnTo>
                  <a:pt x="0" y="586"/>
                </a:lnTo>
                <a:lnTo>
                  <a:pt x="0" y="580"/>
                </a:lnTo>
                <a:lnTo>
                  <a:pt x="2" y="574"/>
                </a:lnTo>
                <a:lnTo>
                  <a:pt x="4" y="570"/>
                </a:lnTo>
                <a:lnTo>
                  <a:pt x="4" y="568"/>
                </a:lnTo>
                <a:lnTo>
                  <a:pt x="4" y="564"/>
                </a:lnTo>
                <a:lnTo>
                  <a:pt x="6" y="563"/>
                </a:lnTo>
                <a:lnTo>
                  <a:pt x="8" y="561"/>
                </a:lnTo>
                <a:lnTo>
                  <a:pt x="10" y="559"/>
                </a:lnTo>
                <a:lnTo>
                  <a:pt x="14" y="557"/>
                </a:lnTo>
                <a:lnTo>
                  <a:pt x="20" y="553"/>
                </a:lnTo>
                <a:lnTo>
                  <a:pt x="29" y="553"/>
                </a:lnTo>
                <a:lnTo>
                  <a:pt x="39" y="551"/>
                </a:lnTo>
                <a:lnTo>
                  <a:pt x="45" y="553"/>
                </a:lnTo>
                <a:lnTo>
                  <a:pt x="50" y="553"/>
                </a:lnTo>
                <a:lnTo>
                  <a:pt x="56" y="555"/>
                </a:lnTo>
                <a:lnTo>
                  <a:pt x="64" y="557"/>
                </a:lnTo>
                <a:lnTo>
                  <a:pt x="75" y="561"/>
                </a:lnTo>
                <a:lnTo>
                  <a:pt x="87" y="564"/>
                </a:lnTo>
                <a:lnTo>
                  <a:pt x="98" y="566"/>
                </a:lnTo>
                <a:lnTo>
                  <a:pt x="108" y="566"/>
                </a:lnTo>
                <a:lnTo>
                  <a:pt x="118" y="566"/>
                </a:lnTo>
                <a:lnTo>
                  <a:pt x="127" y="564"/>
                </a:lnTo>
                <a:lnTo>
                  <a:pt x="137" y="561"/>
                </a:lnTo>
                <a:lnTo>
                  <a:pt x="146" y="5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31"/>
          <p:cNvSpPr/>
          <p:nvPr/>
        </p:nvSpPr>
        <p:spPr>
          <a:xfrm>
            <a:off x="5595840" y="3463920"/>
            <a:ext cx="720720" cy="250920"/>
          </a:xfrm>
          <a:custGeom>
            <a:avLst/>
            <a:gdLst/>
            <a:ahLst/>
            <a:rect l="l" t="t" r="r" b="b"/>
            <a:pathLst>
              <a:path w="908" h="317">
                <a:moveTo>
                  <a:pt x="71" y="290"/>
                </a:moveTo>
                <a:lnTo>
                  <a:pt x="62" y="288"/>
                </a:lnTo>
                <a:lnTo>
                  <a:pt x="54" y="286"/>
                </a:lnTo>
                <a:lnTo>
                  <a:pt x="46" y="282"/>
                </a:lnTo>
                <a:lnTo>
                  <a:pt x="39" y="279"/>
                </a:lnTo>
                <a:lnTo>
                  <a:pt x="33" y="275"/>
                </a:lnTo>
                <a:lnTo>
                  <a:pt x="27" y="271"/>
                </a:lnTo>
                <a:lnTo>
                  <a:pt x="21" y="267"/>
                </a:lnTo>
                <a:lnTo>
                  <a:pt x="18" y="263"/>
                </a:lnTo>
                <a:lnTo>
                  <a:pt x="14" y="259"/>
                </a:lnTo>
                <a:lnTo>
                  <a:pt x="10" y="255"/>
                </a:lnTo>
                <a:lnTo>
                  <a:pt x="6" y="252"/>
                </a:lnTo>
                <a:lnTo>
                  <a:pt x="4" y="246"/>
                </a:lnTo>
                <a:lnTo>
                  <a:pt x="2" y="242"/>
                </a:lnTo>
                <a:lnTo>
                  <a:pt x="0" y="236"/>
                </a:lnTo>
                <a:lnTo>
                  <a:pt x="0" y="232"/>
                </a:lnTo>
                <a:lnTo>
                  <a:pt x="0" y="229"/>
                </a:lnTo>
                <a:lnTo>
                  <a:pt x="0" y="227"/>
                </a:lnTo>
                <a:lnTo>
                  <a:pt x="2" y="225"/>
                </a:lnTo>
                <a:lnTo>
                  <a:pt x="4" y="223"/>
                </a:lnTo>
                <a:lnTo>
                  <a:pt x="6" y="221"/>
                </a:lnTo>
                <a:lnTo>
                  <a:pt x="10" y="219"/>
                </a:lnTo>
                <a:lnTo>
                  <a:pt x="14" y="217"/>
                </a:lnTo>
                <a:lnTo>
                  <a:pt x="18" y="215"/>
                </a:lnTo>
                <a:lnTo>
                  <a:pt x="23" y="211"/>
                </a:lnTo>
                <a:lnTo>
                  <a:pt x="31" y="209"/>
                </a:lnTo>
                <a:lnTo>
                  <a:pt x="37" y="206"/>
                </a:lnTo>
                <a:lnTo>
                  <a:pt x="45" y="202"/>
                </a:lnTo>
                <a:lnTo>
                  <a:pt x="54" y="200"/>
                </a:lnTo>
                <a:lnTo>
                  <a:pt x="64" y="196"/>
                </a:lnTo>
                <a:lnTo>
                  <a:pt x="73" y="192"/>
                </a:lnTo>
                <a:lnTo>
                  <a:pt x="85" y="188"/>
                </a:lnTo>
                <a:lnTo>
                  <a:pt x="96" y="184"/>
                </a:lnTo>
                <a:lnTo>
                  <a:pt x="108" y="179"/>
                </a:lnTo>
                <a:lnTo>
                  <a:pt x="121" y="175"/>
                </a:lnTo>
                <a:lnTo>
                  <a:pt x="135" y="171"/>
                </a:lnTo>
                <a:lnTo>
                  <a:pt x="148" y="167"/>
                </a:lnTo>
                <a:lnTo>
                  <a:pt x="164" y="161"/>
                </a:lnTo>
                <a:lnTo>
                  <a:pt x="181" y="158"/>
                </a:lnTo>
                <a:lnTo>
                  <a:pt x="196" y="152"/>
                </a:lnTo>
                <a:lnTo>
                  <a:pt x="213" y="146"/>
                </a:lnTo>
                <a:lnTo>
                  <a:pt x="233" y="140"/>
                </a:lnTo>
                <a:lnTo>
                  <a:pt x="250" y="136"/>
                </a:lnTo>
                <a:lnTo>
                  <a:pt x="269" y="131"/>
                </a:lnTo>
                <a:lnTo>
                  <a:pt x="290" y="125"/>
                </a:lnTo>
                <a:lnTo>
                  <a:pt x="311" y="119"/>
                </a:lnTo>
                <a:lnTo>
                  <a:pt x="332" y="113"/>
                </a:lnTo>
                <a:lnTo>
                  <a:pt x="354" y="108"/>
                </a:lnTo>
                <a:lnTo>
                  <a:pt x="377" y="102"/>
                </a:lnTo>
                <a:lnTo>
                  <a:pt x="400" y="96"/>
                </a:lnTo>
                <a:lnTo>
                  <a:pt x="423" y="90"/>
                </a:lnTo>
                <a:lnTo>
                  <a:pt x="444" y="85"/>
                </a:lnTo>
                <a:lnTo>
                  <a:pt x="465" y="79"/>
                </a:lnTo>
                <a:lnTo>
                  <a:pt x="486" y="73"/>
                </a:lnTo>
                <a:lnTo>
                  <a:pt x="505" y="67"/>
                </a:lnTo>
                <a:lnTo>
                  <a:pt x="524" y="64"/>
                </a:lnTo>
                <a:lnTo>
                  <a:pt x="542" y="58"/>
                </a:lnTo>
                <a:lnTo>
                  <a:pt x="561" y="54"/>
                </a:lnTo>
                <a:lnTo>
                  <a:pt x="578" y="50"/>
                </a:lnTo>
                <a:lnTo>
                  <a:pt x="593" y="46"/>
                </a:lnTo>
                <a:lnTo>
                  <a:pt x="611" y="41"/>
                </a:lnTo>
                <a:lnTo>
                  <a:pt x="626" y="37"/>
                </a:lnTo>
                <a:lnTo>
                  <a:pt x="640" y="35"/>
                </a:lnTo>
                <a:lnTo>
                  <a:pt x="655" y="31"/>
                </a:lnTo>
                <a:lnTo>
                  <a:pt x="666" y="27"/>
                </a:lnTo>
                <a:lnTo>
                  <a:pt x="680" y="23"/>
                </a:lnTo>
                <a:lnTo>
                  <a:pt x="691" y="21"/>
                </a:lnTo>
                <a:lnTo>
                  <a:pt x="703" y="17"/>
                </a:lnTo>
                <a:lnTo>
                  <a:pt x="714" y="16"/>
                </a:lnTo>
                <a:lnTo>
                  <a:pt x="724" y="14"/>
                </a:lnTo>
                <a:lnTo>
                  <a:pt x="734" y="12"/>
                </a:lnTo>
                <a:lnTo>
                  <a:pt x="741" y="10"/>
                </a:lnTo>
                <a:lnTo>
                  <a:pt x="751" y="8"/>
                </a:lnTo>
                <a:lnTo>
                  <a:pt x="757" y="6"/>
                </a:lnTo>
                <a:lnTo>
                  <a:pt x="764" y="4"/>
                </a:lnTo>
                <a:lnTo>
                  <a:pt x="770" y="4"/>
                </a:lnTo>
                <a:lnTo>
                  <a:pt x="776" y="2"/>
                </a:lnTo>
                <a:lnTo>
                  <a:pt x="780" y="2"/>
                </a:lnTo>
                <a:lnTo>
                  <a:pt x="784" y="0"/>
                </a:lnTo>
                <a:lnTo>
                  <a:pt x="787" y="0"/>
                </a:lnTo>
                <a:lnTo>
                  <a:pt x="789" y="0"/>
                </a:lnTo>
                <a:lnTo>
                  <a:pt x="793" y="0"/>
                </a:lnTo>
                <a:lnTo>
                  <a:pt x="795" y="2"/>
                </a:lnTo>
                <a:lnTo>
                  <a:pt x="801" y="2"/>
                </a:lnTo>
                <a:lnTo>
                  <a:pt x="805" y="2"/>
                </a:lnTo>
                <a:lnTo>
                  <a:pt x="810" y="4"/>
                </a:lnTo>
                <a:lnTo>
                  <a:pt x="816" y="6"/>
                </a:lnTo>
                <a:lnTo>
                  <a:pt x="824" y="8"/>
                </a:lnTo>
                <a:lnTo>
                  <a:pt x="832" y="10"/>
                </a:lnTo>
                <a:lnTo>
                  <a:pt x="839" y="12"/>
                </a:lnTo>
                <a:lnTo>
                  <a:pt x="847" y="16"/>
                </a:lnTo>
                <a:lnTo>
                  <a:pt x="856" y="17"/>
                </a:lnTo>
                <a:lnTo>
                  <a:pt x="866" y="21"/>
                </a:lnTo>
                <a:lnTo>
                  <a:pt x="887" y="29"/>
                </a:lnTo>
                <a:lnTo>
                  <a:pt x="908" y="39"/>
                </a:lnTo>
                <a:lnTo>
                  <a:pt x="906" y="44"/>
                </a:lnTo>
                <a:lnTo>
                  <a:pt x="906" y="50"/>
                </a:lnTo>
                <a:lnTo>
                  <a:pt x="903" y="58"/>
                </a:lnTo>
                <a:lnTo>
                  <a:pt x="901" y="65"/>
                </a:lnTo>
                <a:lnTo>
                  <a:pt x="897" y="73"/>
                </a:lnTo>
                <a:lnTo>
                  <a:pt x="893" y="83"/>
                </a:lnTo>
                <a:lnTo>
                  <a:pt x="885" y="102"/>
                </a:lnTo>
                <a:lnTo>
                  <a:pt x="881" y="104"/>
                </a:lnTo>
                <a:lnTo>
                  <a:pt x="879" y="106"/>
                </a:lnTo>
                <a:lnTo>
                  <a:pt x="876" y="110"/>
                </a:lnTo>
                <a:lnTo>
                  <a:pt x="872" y="112"/>
                </a:lnTo>
                <a:lnTo>
                  <a:pt x="866" y="113"/>
                </a:lnTo>
                <a:lnTo>
                  <a:pt x="860" y="117"/>
                </a:lnTo>
                <a:lnTo>
                  <a:pt x="855" y="119"/>
                </a:lnTo>
                <a:lnTo>
                  <a:pt x="849" y="123"/>
                </a:lnTo>
                <a:lnTo>
                  <a:pt x="843" y="127"/>
                </a:lnTo>
                <a:lnTo>
                  <a:pt x="835" y="129"/>
                </a:lnTo>
                <a:lnTo>
                  <a:pt x="828" y="133"/>
                </a:lnTo>
                <a:lnTo>
                  <a:pt x="818" y="136"/>
                </a:lnTo>
                <a:lnTo>
                  <a:pt x="810" y="138"/>
                </a:lnTo>
                <a:lnTo>
                  <a:pt x="801" y="142"/>
                </a:lnTo>
                <a:lnTo>
                  <a:pt x="789" y="146"/>
                </a:lnTo>
                <a:lnTo>
                  <a:pt x="780" y="150"/>
                </a:lnTo>
                <a:lnTo>
                  <a:pt x="768" y="154"/>
                </a:lnTo>
                <a:lnTo>
                  <a:pt x="757" y="158"/>
                </a:lnTo>
                <a:lnTo>
                  <a:pt x="745" y="161"/>
                </a:lnTo>
                <a:lnTo>
                  <a:pt x="732" y="165"/>
                </a:lnTo>
                <a:lnTo>
                  <a:pt x="718" y="171"/>
                </a:lnTo>
                <a:lnTo>
                  <a:pt x="705" y="175"/>
                </a:lnTo>
                <a:lnTo>
                  <a:pt x="691" y="181"/>
                </a:lnTo>
                <a:lnTo>
                  <a:pt x="676" y="184"/>
                </a:lnTo>
                <a:lnTo>
                  <a:pt x="663" y="190"/>
                </a:lnTo>
                <a:lnTo>
                  <a:pt x="645" y="194"/>
                </a:lnTo>
                <a:lnTo>
                  <a:pt x="630" y="200"/>
                </a:lnTo>
                <a:lnTo>
                  <a:pt x="613" y="206"/>
                </a:lnTo>
                <a:lnTo>
                  <a:pt x="595" y="209"/>
                </a:lnTo>
                <a:lnTo>
                  <a:pt x="578" y="215"/>
                </a:lnTo>
                <a:lnTo>
                  <a:pt x="561" y="221"/>
                </a:lnTo>
                <a:lnTo>
                  <a:pt x="542" y="229"/>
                </a:lnTo>
                <a:lnTo>
                  <a:pt x="522" y="234"/>
                </a:lnTo>
                <a:lnTo>
                  <a:pt x="503" y="240"/>
                </a:lnTo>
                <a:lnTo>
                  <a:pt x="484" y="244"/>
                </a:lnTo>
                <a:lnTo>
                  <a:pt x="467" y="250"/>
                </a:lnTo>
                <a:lnTo>
                  <a:pt x="450" y="255"/>
                </a:lnTo>
                <a:lnTo>
                  <a:pt x="432" y="259"/>
                </a:lnTo>
                <a:lnTo>
                  <a:pt x="417" y="265"/>
                </a:lnTo>
                <a:lnTo>
                  <a:pt x="402" y="269"/>
                </a:lnTo>
                <a:lnTo>
                  <a:pt x="386" y="273"/>
                </a:lnTo>
                <a:lnTo>
                  <a:pt x="371" y="277"/>
                </a:lnTo>
                <a:lnTo>
                  <a:pt x="357" y="280"/>
                </a:lnTo>
                <a:lnTo>
                  <a:pt x="344" y="284"/>
                </a:lnTo>
                <a:lnTo>
                  <a:pt x="331" y="288"/>
                </a:lnTo>
                <a:lnTo>
                  <a:pt x="317" y="290"/>
                </a:lnTo>
                <a:lnTo>
                  <a:pt x="306" y="294"/>
                </a:lnTo>
                <a:lnTo>
                  <a:pt x="294" y="296"/>
                </a:lnTo>
                <a:lnTo>
                  <a:pt x="284" y="298"/>
                </a:lnTo>
                <a:lnTo>
                  <a:pt x="273" y="302"/>
                </a:lnTo>
                <a:lnTo>
                  <a:pt x="263" y="303"/>
                </a:lnTo>
                <a:lnTo>
                  <a:pt x="256" y="305"/>
                </a:lnTo>
                <a:lnTo>
                  <a:pt x="246" y="307"/>
                </a:lnTo>
                <a:lnTo>
                  <a:pt x="238" y="309"/>
                </a:lnTo>
                <a:lnTo>
                  <a:pt x="231" y="309"/>
                </a:lnTo>
                <a:lnTo>
                  <a:pt x="223" y="311"/>
                </a:lnTo>
                <a:lnTo>
                  <a:pt x="217" y="313"/>
                </a:lnTo>
                <a:lnTo>
                  <a:pt x="212" y="313"/>
                </a:lnTo>
                <a:lnTo>
                  <a:pt x="206" y="315"/>
                </a:lnTo>
                <a:lnTo>
                  <a:pt x="202" y="315"/>
                </a:lnTo>
                <a:lnTo>
                  <a:pt x="198" y="315"/>
                </a:lnTo>
                <a:lnTo>
                  <a:pt x="194" y="315"/>
                </a:lnTo>
                <a:lnTo>
                  <a:pt x="190" y="315"/>
                </a:lnTo>
                <a:lnTo>
                  <a:pt x="188" y="317"/>
                </a:lnTo>
                <a:lnTo>
                  <a:pt x="179" y="315"/>
                </a:lnTo>
                <a:lnTo>
                  <a:pt x="169" y="313"/>
                </a:lnTo>
                <a:lnTo>
                  <a:pt x="156" y="311"/>
                </a:lnTo>
                <a:lnTo>
                  <a:pt x="142" y="307"/>
                </a:lnTo>
                <a:lnTo>
                  <a:pt x="127" y="303"/>
                </a:lnTo>
                <a:lnTo>
                  <a:pt x="119" y="302"/>
                </a:lnTo>
                <a:lnTo>
                  <a:pt x="110" y="300"/>
                </a:lnTo>
                <a:lnTo>
                  <a:pt x="102" y="298"/>
                </a:lnTo>
                <a:lnTo>
                  <a:pt x="91" y="296"/>
                </a:lnTo>
                <a:lnTo>
                  <a:pt x="81" y="294"/>
                </a:lnTo>
                <a:lnTo>
                  <a:pt x="71" y="2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2:37:17Z</dcterms:modified>
  <cp:revision>4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