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BD603-758C-44B5-BC88-8AEA1C3C0F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07A83-5ED0-4CE3-92DB-2C88B2B491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398E5-0522-4E97-8D60-9D239B3BFC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C2C26-E70C-4186-82DD-2CDAB90A7B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70E50-572B-4B49-8661-1716433327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A9406-C012-46D3-88AE-6E1ECF80BCC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DF1F2-02EC-4384-9BA5-9C32512026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86D87-ADC4-477A-A4B0-0617C20C9C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CA8DD-9830-4006-B803-EC581CB27D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58D6A-7039-4E31-B142-6DB2FD958A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63147-8EF1-4B16-A90F-940359E5E6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B87-0451-4848-8B9C-108CCFFB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74D-84C8-4CF8-9308-32B9BFD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DFA-404E-4B83-B106-6D9B3B16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852-3FB2-4164-A5FC-857A0B3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754-2BF7-4474-870A-7F58BC6E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997-CB88-4CE0-B59E-2A70F6F3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017-9E6C-45F7-B50C-5448B3C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3F4-2FFC-4D31-B94D-C83C5093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DBA-F948-4484-96AD-389F8BCD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539-A5EF-44FC-8BA7-38F6CB8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F73-97C4-4C59-B4C1-E9474431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0FE-2A8F-4D4A-A4B7-FB54BDB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5620D-9B98-4BDF-8EBA-E850668FA5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3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060640" y="2328840"/>
            <a:ext cx="55404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46320" y="905040"/>
            <a:ext cx="5611680" cy="1180800"/>
            <a:chOff x="2146320" y="905040"/>
            <a:chExt cx="5611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4336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钓鱼的启示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46320" y="905040"/>
              <a:ext cx="1197000" cy="1180800"/>
              <a:chOff x="2146320" y="905040"/>
              <a:chExt cx="11970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116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14632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2218680" y="2179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114880" y="20145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9" name="组合 8"/>
          <p:cNvGrpSpPr/>
          <p:nvPr/>
        </p:nvGrpSpPr>
        <p:grpSpPr>
          <a:xfrm>
            <a:off x="1400040" y="3606840"/>
            <a:ext cx="2840040" cy="1619640"/>
            <a:chOff x="1400040" y="3606840"/>
            <a:chExt cx="2840040" cy="1619640"/>
          </a:xfrm>
        </p:grpSpPr>
        <p:pic>
          <p:nvPicPr>
            <p:cNvPr id="19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06840"/>
              <a:ext cx="284004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矩形 2"/>
            <p:cNvSpPr/>
            <p:nvPr/>
          </p:nvSpPr>
          <p:spPr>
            <a:xfrm>
              <a:off x="1444680" y="421812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大”的撇和捺要舒展，“示”底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3"/>
          <p:cNvSpPr/>
          <p:nvPr/>
        </p:nvSpPr>
        <p:spPr>
          <a:xfrm>
            <a:off x="2011320" y="1500120"/>
            <a:ext cx="12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à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89"/>
          <p:cNvSpPr/>
          <p:nvPr/>
        </p:nvSpPr>
        <p:spPr>
          <a:xfrm>
            <a:off x="5904000" y="3927600"/>
            <a:ext cx="230040" cy="482400"/>
          </a:xfrm>
          <a:custGeom>
            <a:avLst/>
            <a:gdLst/>
            <a:ahLst/>
            <a:rect l="l" t="t" r="r" b="b"/>
            <a:pathLst>
              <a:path w="290" h="609">
                <a:moveTo>
                  <a:pt x="232" y="0"/>
                </a:moveTo>
                <a:lnTo>
                  <a:pt x="243" y="27"/>
                </a:lnTo>
                <a:lnTo>
                  <a:pt x="255" y="56"/>
                </a:lnTo>
                <a:lnTo>
                  <a:pt x="265" y="85"/>
                </a:lnTo>
                <a:lnTo>
                  <a:pt x="274" y="115"/>
                </a:lnTo>
                <a:lnTo>
                  <a:pt x="280" y="146"/>
                </a:lnTo>
                <a:lnTo>
                  <a:pt x="284" y="161"/>
                </a:lnTo>
                <a:lnTo>
                  <a:pt x="286" y="177"/>
                </a:lnTo>
                <a:lnTo>
                  <a:pt x="288" y="192"/>
                </a:lnTo>
                <a:lnTo>
                  <a:pt x="290" y="207"/>
                </a:lnTo>
                <a:lnTo>
                  <a:pt x="290" y="223"/>
                </a:lnTo>
                <a:lnTo>
                  <a:pt x="290" y="238"/>
                </a:lnTo>
                <a:lnTo>
                  <a:pt x="286" y="271"/>
                </a:lnTo>
                <a:lnTo>
                  <a:pt x="278" y="301"/>
                </a:lnTo>
                <a:lnTo>
                  <a:pt x="270" y="332"/>
                </a:lnTo>
                <a:lnTo>
                  <a:pt x="263" y="363"/>
                </a:lnTo>
                <a:lnTo>
                  <a:pt x="251" y="396"/>
                </a:lnTo>
                <a:lnTo>
                  <a:pt x="240" y="426"/>
                </a:lnTo>
                <a:lnTo>
                  <a:pt x="224" y="457"/>
                </a:lnTo>
                <a:lnTo>
                  <a:pt x="217" y="474"/>
                </a:lnTo>
                <a:lnTo>
                  <a:pt x="209" y="490"/>
                </a:lnTo>
                <a:lnTo>
                  <a:pt x="197" y="505"/>
                </a:lnTo>
                <a:lnTo>
                  <a:pt x="188" y="518"/>
                </a:lnTo>
                <a:lnTo>
                  <a:pt x="178" y="532"/>
                </a:lnTo>
                <a:lnTo>
                  <a:pt x="169" y="543"/>
                </a:lnTo>
                <a:lnTo>
                  <a:pt x="161" y="555"/>
                </a:lnTo>
                <a:lnTo>
                  <a:pt x="153" y="564"/>
                </a:lnTo>
                <a:lnTo>
                  <a:pt x="146" y="572"/>
                </a:lnTo>
                <a:lnTo>
                  <a:pt x="138" y="580"/>
                </a:lnTo>
                <a:lnTo>
                  <a:pt x="132" y="587"/>
                </a:lnTo>
                <a:lnTo>
                  <a:pt x="126" y="593"/>
                </a:lnTo>
                <a:lnTo>
                  <a:pt x="121" y="597"/>
                </a:lnTo>
                <a:lnTo>
                  <a:pt x="117" y="601"/>
                </a:lnTo>
                <a:lnTo>
                  <a:pt x="113" y="605"/>
                </a:lnTo>
                <a:lnTo>
                  <a:pt x="109" y="607"/>
                </a:lnTo>
                <a:lnTo>
                  <a:pt x="105" y="609"/>
                </a:lnTo>
                <a:lnTo>
                  <a:pt x="103" y="609"/>
                </a:lnTo>
                <a:lnTo>
                  <a:pt x="100" y="609"/>
                </a:lnTo>
                <a:lnTo>
                  <a:pt x="94" y="607"/>
                </a:lnTo>
                <a:lnTo>
                  <a:pt x="90" y="607"/>
                </a:lnTo>
                <a:lnTo>
                  <a:pt x="86" y="605"/>
                </a:lnTo>
                <a:lnTo>
                  <a:pt x="82" y="601"/>
                </a:lnTo>
                <a:lnTo>
                  <a:pt x="76" y="599"/>
                </a:lnTo>
                <a:lnTo>
                  <a:pt x="73" y="595"/>
                </a:lnTo>
                <a:lnTo>
                  <a:pt x="69" y="591"/>
                </a:lnTo>
                <a:lnTo>
                  <a:pt x="65" y="586"/>
                </a:lnTo>
                <a:lnTo>
                  <a:pt x="59" y="582"/>
                </a:lnTo>
                <a:lnTo>
                  <a:pt x="55" y="574"/>
                </a:lnTo>
                <a:lnTo>
                  <a:pt x="52" y="568"/>
                </a:lnTo>
                <a:lnTo>
                  <a:pt x="46" y="561"/>
                </a:lnTo>
                <a:lnTo>
                  <a:pt x="42" y="555"/>
                </a:lnTo>
                <a:lnTo>
                  <a:pt x="38" y="545"/>
                </a:lnTo>
                <a:lnTo>
                  <a:pt x="34" y="538"/>
                </a:lnTo>
                <a:lnTo>
                  <a:pt x="27" y="520"/>
                </a:lnTo>
                <a:lnTo>
                  <a:pt x="19" y="503"/>
                </a:lnTo>
                <a:lnTo>
                  <a:pt x="13" y="488"/>
                </a:lnTo>
                <a:lnTo>
                  <a:pt x="7" y="474"/>
                </a:lnTo>
                <a:lnTo>
                  <a:pt x="4" y="461"/>
                </a:lnTo>
                <a:lnTo>
                  <a:pt x="2" y="449"/>
                </a:lnTo>
                <a:lnTo>
                  <a:pt x="0" y="440"/>
                </a:lnTo>
                <a:lnTo>
                  <a:pt x="0" y="430"/>
                </a:lnTo>
                <a:lnTo>
                  <a:pt x="0" y="426"/>
                </a:lnTo>
                <a:lnTo>
                  <a:pt x="0" y="424"/>
                </a:lnTo>
                <a:lnTo>
                  <a:pt x="2" y="420"/>
                </a:lnTo>
                <a:lnTo>
                  <a:pt x="4" y="417"/>
                </a:lnTo>
                <a:lnTo>
                  <a:pt x="7" y="407"/>
                </a:lnTo>
                <a:lnTo>
                  <a:pt x="15" y="397"/>
                </a:lnTo>
                <a:lnTo>
                  <a:pt x="23" y="386"/>
                </a:lnTo>
                <a:lnTo>
                  <a:pt x="32" y="372"/>
                </a:lnTo>
                <a:lnTo>
                  <a:pt x="44" y="359"/>
                </a:lnTo>
                <a:lnTo>
                  <a:pt x="57" y="346"/>
                </a:lnTo>
                <a:lnTo>
                  <a:pt x="63" y="338"/>
                </a:lnTo>
                <a:lnTo>
                  <a:pt x="71" y="328"/>
                </a:lnTo>
                <a:lnTo>
                  <a:pt x="78" y="319"/>
                </a:lnTo>
                <a:lnTo>
                  <a:pt x="88" y="305"/>
                </a:lnTo>
                <a:lnTo>
                  <a:pt x="96" y="290"/>
                </a:lnTo>
                <a:lnTo>
                  <a:pt x="105" y="275"/>
                </a:lnTo>
                <a:lnTo>
                  <a:pt x="117" y="255"/>
                </a:lnTo>
                <a:lnTo>
                  <a:pt x="123" y="246"/>
                </a:lnTo>
                <a:lnTo>
                  <a:pt x="126" y="236"/>
                </a:lnTo>
                <a:lnTo>
                  <a:pt x="132" y="225"/>
                </a:lnTo>
                <a:lnTo>
                  <a:pt x="138" y="213"/>
                </a:lnTo>
                <a:lnTo>
                  <a:pt x="144" y="202"/>
                </a:lnTo>
                <a:lnTo>
                  <a:pt x="149" y="188"/>
                </a:lnTo>
                <a:lnTo>
                  <a:pt x="157" y="177"/>
                </a:lnTo>
                <a:lnTo>
                  <a:pt x="163" y="163"/>
                </a:lnTo>
                <a:lnTo>
                  <a:pt x="169" y="150"/>
                </a:lnTo>
                <a:lnTo>
                  <a:pt x="174" y="134"/>
                </a:lnTo>
                <a:lnTo>
                  <a:pt x="182" y="119"/>
                </a:lnTo>
                <a:lnTo>
                  <a:pt x="188" y="104"/>
                </a:lnTo>
                <a:lnTo>
                  <a:pt x="195" y="88"/>
                </a:lnTo>
                <a:lnTo>
                  <a:pt x="203" y="71"/>
                </a:lnTo>
                <a:lnTo>
                  <a:pt x="209" y="54"/>
                </a:lnTo>
                <a:lnTo>
                  <a:pt x="217" y="37"/>
                </a:lnTo>
                <a:lnTo>
                  <a:pt x="224" y="19"/>
                </a:lnTo>
                <a:lnTo>
                  <a:pt x="232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90"/>
          <p:cNvSpPr/>
          <p:nvPr/>
        </p:nvSpPr>
        <p:spPr>
          <a:xfrm>
            <a:off x="6845400" y="3960720"/>
            <a:ext cx="379440" cy="430200"/>
          </a:xfrm>
          <a:custGeom>
            <a:avLst/>
            <a:gdLst/>
            <a:ahLst/>
            <a:rect l="l" t="t" r="r" b="b"/>
            <a:pathLst>
              <a:path w="478" h="544">
                <a:moveTo>
                  <a:pt x="129" y="41"/>
                </a:moveTo>
                <a:lnTo>
                  <a:pt x="159" y="54"/>
                </a:lnTo>
                <a:lnTo>
                  <a:pt x="188" y="66"/>
                </a:lnTo>
                <a:lnTo>
                  <a:pt x="215" y="77"/>
                </a:lnTo>
                <a:lnTo>
                  <a:pt x="242" y="89"/>
                </a:lnTo>
                <a:lnTo>
                  <a:pt x="267" y="100"/>
                </a:lnTo>
                <a:lnTo>
                  <a:pt x="276" y="106"/>
                </a:lnTo>
                <a:lnTo>
                  <a:pt x="288" y="112"/>
                </a:lnTo>
                <a:lnTo>
                  <a:pt x="299" y="117"/>
                </a:lnTo>
                <a:lnTo>
                  <a:pt x="309" y="123"/>
                </a:lnTo>
                <a:lnTo>
                  <a:pt x="319" y="131"/>
                </a:lnTo>
                <a:lnTo>
                  <a:pt x="328" y="137"/>
                </a:lnTo>
                <a:lnTo>
                  <a:pt x="344" y="150"/>
                </a:lnTo>
                <a:lnTo>
                  <a:pt x="361" y="163"/>
                </a:lnTo>
                <a:lnTo>
                  <a:pt x="376" y="177"/>
                </a:lnTo>
                <a:lnTo>
                  <a:pt x="390" y="190"/>
                </a:lnTo>
                <a:lnTo>
                  <a:pt x="403" y="204"/>
                </a:lnTo>
                <a:lnTo>
                  <a:pt x="418" y="217"/>
                </a:lnTo>
                <a:lnTo>
                  <a:pt x="443" y="244"/>
                </a:lnTo>
                <a:lnTo>
                  <a:pt x="451" y="258"/>
                </a:lnTo>
                <a:lnTo>
                  <a:pt x="459" y="271"/>
                </a:lnTo>
                <a:lnTo>
                  <a:pt x="464" y="284"/>
                </a:lnTo>
                <a:lnTo>
                  <a:pt x="470" y="298"/>
                </a:lnTo>
                <a:lnTo>
                  <a:pt x="474" y="311"/>
                </a:lnTo>
                <a:lnTo>
                  <a:pt x="476" y="325"/>
                </a:lnTo>
                <a:lnTo>
                  <a:pt x="478" y="338"/>
                </a:lnTo>
                <a:lnTo>
                  <a:pt x="478" y="352"/>
                </a:lnTo>
                <a:lnTo>
                  <a:pt x="478" y="365"/>
                </a:lnTo>
                <a:lnTo>
                  <a:pt x="476" y="380"/>
                </a:lnTo>
                <a:lnTo>
                  <a:pt x="474" y="396"/>
                </a:lnTo>
                <a:lnTo>
                  <a:pt x="472" y="411"/>
                </a:lnTo>
                <a:lnTo>
                  <a:pt x="468" y="426"/>
                </a:lnTo>
                <a:lnTo>
                  <a:pt x="464" y="442"/>
                </a:lnTo>
                <a:lnTo>
                  <a:pt x="461" y="457"/>
                </a:lnTo>
                <a:lnTo>
                  <a:pt x="455" y="471"/>
                </a:lnTo>
                <a:lnTo>
                  <a:pt x="451" y="484"/>
                </a:lnTo>
                <a:lnTo>
                  <a:pt x="445" y="496"/>
                </a:lnTo>
                <a:lnTo>
                  <a:pt x="439" y="507"/>
                </a:lnTo>
                <a:lnTo>
                  <a:pt x="432" y="517"/>
                </a:lnTo>
                <a:lnTo>
                  <a:pt x="426" y="524"/>
                </a:lnTo>
                <a:lnTo>
                  <a:pt x="418" y="532"/>
                </a:lnTo>
                <a:lnTo>
                  <a:pt x="415" y="538"/>
                </a:lnTo>
                <a:lnTo>
                  <a:pt x="409" y="544"/>
                </a:lnTo>
                <a:lnTo>
                  <a:pt x="403" y="542"/>
                </a:lnTo>
                <a:lnTo>
                  <a:pt x="397" y="540"/>
                </a:lnTo>
                <a:lnTo>
                  <a:pt x="392" y="538"/>
                </a:lnTo>
                <a:lnTo>
                  <a:pt x="382" y="532"/>
                </a:lnTo>
                <a:lnTo>
                  <a:pt x="372" y="526"/>
                </a:lnTo>
                <a:lnTo>
                  <a:pt x="368" y="522"/>
                </a:lnTo>
                <a:lnTo>
                  <a:pt x="363" y="519"/>
                </a:lnTo>
                <a:lnTo>
                  <a:pt x="357" y="513"/>
                </a:lnTo>
                <a:lnTo>
                  <a:pt x="351" y="507"/>
                </a:lnTo>
                <a:lnTo>
                  <a:pt x="345" y="501"/>
                </a:lnTo>
                <a:lnTo>
                  <a:pt x="340" y="496"/>
                </a:lnTo>
                <a:lnTo>
                  <a:pt x="332" y="488"/>
                </a:lnTo>
                <a:lnTo>
                  <a:pt x="324" y="480"/>
                </a:lnTo>
                <a:lnTo>
                  <a:pt x="317" y="471"/>
                </a:lnTo>
                <a:lnTo>
                  <a:pt x="307" y="459"/>
                </a:lnTo>
                <a:lnTo>
                  <a:pt x="297" y="448"/>
                </a:lnTo>
                <a:lnTo>
                  <a:pt x="288" y="434"/>
                </a:lnTo>
                <a:lnTo>
                  <a:pt x="276" y="419"/>
                </a:lnTo>
                <a:lnTo>
                  <a:pt x="265" y="403"/>
                </a:lnTo>
                <a:lnTo>
                  <a:pt x="253" y="388"/>
                </a:lnTo>
                <a:lnTo>
                  <a:pt x="240" y="369"/>
                </a:lnTo>
                <a:lnTo>
                  <a:pt x="226" y="350"/>
                </a:lnTo>
                <a:lnTo>
                  <a:pt x="211" y="329"/>
                </a:lnTo>
                <a:lnTo>
                  <a:pt x="194" y="307"/>
                </a:lnTo>
                <a:lnTo>
                  <a:pt x="177" y="282"/>
                </a:lnTo>
                <a:lnTo>
                  <a:pt x="159" y="259"/>
                </a:lnTo>
                <a:lnTo>
                  <a:pt x="140" y="233"/>
                </a:lnTo>
                <a:lnTo>
                  <a:pt x="123" y="208"/>
                </a:lnTo>
                <a:lnTo>
                  <a:pt x="104" y="185"/>
                </a:lnTo>
                <a:lnTo>
                  <a:pt x="88" y="163"/>
                </a:lnTo>
                <a:lnTo>
                  <a:pt x="73" y="142"/>
                </a:lnTo>
                <a:lnTo>
                  <a:pt x="59" y="123"/>
                </a:lnTo>
                <a:lnTo>
                  <a:pt x="48" y="106"/>
                </a:lnTo>
                <a:lnTo>
                  <a:pt x="36" y="89"/>
                </a:lnTo>
                <a:lnTo>
                  <a:pt x="27" y="73"/>
                </a:lnTo>
                <a:lnTo>
                  <a:pt x="19" y="60"/>
                </a:lnTo>
                <a:lnTo>
                  <a:pt x="13" y="48"/>
                </a:lnTo>
                <a:lnTo>
                  <a:pt x="8" y="37"/>
                </a:lnTo>
                <a:lnTo>
                  <a:pt x="4" y="27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0"/>
                </a:lnTo>
                <a:lnTo>
                  <a:pt x="15" y="0"/>
                </a:lnTo>
                <a:lnTo>
                  <a:pt x="19" y="0"/>
                </a:lnTo>
                <a:lnTo>
                  <a:pt x="25" y="2"/>
                </a:lnTo>
                <a:lnTo>
                  <a:pt x="33" y="2"/>
                </a:lnTo>
                <a:lnTo>
                  <a:pt x="38" y="4"/>
                </a:lnTo>
                <a:lnTo>
                  <a:pt x="48" y="8"/>
                </a:lnTo>
                <a:lnTo>
                  <a:pt x="56" y="10"/>
                </a:lnTo>
                <a:lnTo>
                  <a:pt x="65" y="14"/>
                </a:lnTo>
                <a:lnTo>
                  <a:pt x="77" y="18"/>
                </a:lnTo>
                <a:lnTo>
                  <a:pt x="88" y="23"/>
                </a:lnTo>
                <a:lnTo>
                  <a:pt x="102" y="29"/>
                </a:lnTo>
                <a:lnTo>
                  <a:pt x="115" y="35"/>
                </a:lnTo>
                <a:lnTo>
                  <a:pt x="129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91"/>
          <p:cNvSpPr/>
          <p:nvPr/>
        </p:nvSpPr>
        <p:spPr>
          <a:xfrm>
            <a:off x="6270480" y="3755880"/>
            <a:ext cx="381240" cy="854280"/>
          </a:xfrm>
          <a:custGeom>
            <a:avLst/>
            <a:gdLst/>
            <a:ahLst/>
            <a:rect l="l" t="t" r="r" b="b"/>
            <a:pathLst>
              <a:path w="480" h="1075">
                <a:moveTo>
                  <a:pt x="108" y="812"/>
                </a:moveTo>
                <a:lnTo>
                  <a:pt x="92" y="799"/>
                </a:lnTo>
                <a:lnTo>
                  <a:pt x="79" y="785"/>
                </a:lnTo>
                <a:lnTo>
                  <a:pt x="67" y="774"/>
                </a:lnTo>
                <a:lnTo>
                  <a:pt x="56" y="762"/>
                </a:lnTo>
                <a:lnTo>
                  <a:pt x="44" y="751"/>
                </a:lnTo>
                <a:lnTo>
                  <a:pt x="35" y="741"/>
                </a:lnTo>
                <a:lnTo>
                  <a:pt x="27" y="731"/>
                </a:lnTo>
                <a:lnTo>
                  <a:pt x="21" y="724"/>
                </a:lnTo>
                <a:lnTo>
                  <a:pt x="14" y="716"/>
                </a:lnTo>
                <a:lnTo>
                  <a:pt x="10" y="708"/>
                </a:lnTo>
                <a:lnTo>
                  <a:pt x="6" y="701"/>
                </a:lnTo>
                <a:lnTo>
                  <a:pt x="2" y="695"/>
                </a:lnTo>
                <a:lnTo>
                  <a:pt x="0" y="691"/>
                </a:lnTo>
                <a:lnTo>
                  <a:pt x="0" y="685"/>
                </a:lnTo>
                <a:lnTo>
                  <a:pt x="0" y="683"/>
                </a:lnTo>
                <a:lnTo>
                  <a:pt x="2" y="680"/>
                </a:lnTo>
                <a:lnTo>
                  <a:pt x="6" y="678"/>
                </a:lnTo>
                <a:lnTo>
                  <a:pt x="8" y="676"/>
                </a:lnTo>
                <a:lnTo>
                  <a:pt x="14" y="676"/>
                </a:lnTo>
                <a:lnTo>
                  <a:pt x="18" y="676"/>
                </a:lnTo>
                <a:lnTo>
                  <a:pt x="23" y="676"/>
                </a:lnTo>
                <a:lnTo>
                  <a:pt x="31" y="676"/>
                </a:lnTo>
                <a:lnTo>
                  <a:pt x="39" y="678"/>
                </a:lnTo>
                <a:lnTo>
                  <a:pt x="46" y="678"/>
                </a:lnTo>
                <a:lnTo>
                  <a:pt x="56" y="680"/>
                </a:lnTo>
                <a:lnTo>
                  <a:pt x="66" y="683"/>
                </a:lnTo>
                <a:lnTo>
                  <a:pt x="77" y="685"/>
                </a:lnTo>
                <a:lnTo>
                  <a:pt x="89" y="689"/>
                </a:lnTo>
                <a:lnTo>
                  <a:pt x="100" y="691"/>
                </a:lnTo>
                <a:lnTo>
                  <a:pt x="114" y="695"/>
                </a:lnTo>
                <a:lnTo>
                  <a:pt x="127" y="699"/>
                </a:lnTo>
                <a:lnTo>
                  <a:pt x="142" y="705"/>
                </a:lnTo>
                <a:lnTo>
                  <a:pt x="158" y="708"/>
                </a:lnTo>
                <a:lnTo>
                  <a:pt x="171" y="712"/>
                </a:lnTo>
                <a:lnTo>
                  <a:pt x="185" y="716"/>
                </a:lnTo>
                <a:lnTo>
                  <a:pt x="198" y="718"/>
                </a:lnTo>
                <a:lnTo>
                  <a:pt x="210" y="720"/>
                </a:lnTo>
                <a:lnTo>
                  <a:pt x="219" y="722"/>
                </a:lnTo>
                <a:lnTo>
                  <a:pt x="229" y="724"/>
                </a:lnTo>
                <a:lnTo>
                  <a:pt x="238" y="724"/>
                </a:lnTo>
                <a:lnTo>
                  <a:pt x="248" y="724"/>
                </a:lnTo>
                <a:lnTo>
                  <a:pt x="254" y="724"/>
                </a:lnTo>
                <a:lnTo>
                  <a:pt x="261" y="724"/>
                </a:lnTo>
                <a:lnTo>
                  <a:pt x="267" y="722"/>
                </a:lnTo>
                <a:lnTo>
                  <a:pt x="273" y="722"/>
                </a:lnTo>
                <a:lnTo>
                  <a:pt x="277" y="720"/>
                </a:lnTo>
                <a:lnTo>
                  <a:pt x="281" y="718"/>
                </a:lnTo>
                <a:lnTo>
                  <a:pt x="282" y="716"/>
                </a:lnTo>
                <a:lnTo>
                  <a:pt x="284" y="714"/>
                </a:lnTo>
                <a:lnTo>
                  <a:pt x="286" y="710"/>
                </a:lnTo>
                <a:lnTo>
                  <a:pt x="288" y="706"/>
                </a:lnTo>
                <a:lnTo>
                  <a:pt x="292" y="701"/>
                </a:lnTo>
                <a:lnTo>
                  <a:pt x="294" y="695"/>
                </a:lnTo>
                <a:lnTo>
                  <a:pt x="296" y="689"/>
                </a:lnTo>
                <a:lnTo>
                  <a:pt x="298" y="682"/>
                </a:lnTo>
                <a:lnTo>
                  <a:pt x="300" y="674"/>
                </a:lnTo>
                <a:lnTo>
                  <a:pt x="302" y="666"/>
                </a:lnTo>
                <a:lnTo>
                  <a:pt x="304" y="659"/>
                </a:lnTo>
                <a:lnTo>
                  <a:pt x="307" y="649"/>
                </a:lnTo>
                <a:lnTo>
                  <a:pt x="309" y="639"/>
                </a:lnTo>
                <a:lnTo>
                  <a:pt x="313" y="618"/>
                </a:lnTo>
                <a:lnTo>
                  <a:pt x="317" y="597"/>
                </a:lnTo>
                <a:lnTo>
                  <a:pt x="317" y="574"/>
                </a:lnTo>
                <a:lnTo>
                  <a:pt x="317" y="549"/>
                </a:lnTo>
                <a:lnTo>
                  <a:pt x="317" y="524"/>
                </a:lnTo>
                <a:lnTo>
                  <a:pt x="319" y="499"/>
                </a:lnTo>
                <a:lnTo>
                  <a:pt x="321" y="470"/>
                </a:lnTo>
                <a:lnTo>
                  <a:pt x="323" y="442"/>
                </a:lnTo>
                <a:lnTo>
                  <a:pt x="325" y="413"/>
                </a:lnTo>
                <a:lnTo>
                  <a:pt x="329" y="382"/>
                </a:lnTo>
                <a:lnTo>
                  <a:pt x="329" y="365"/>
                </a:lnTo>
                <a:lnTo>
                  <a:pt x="329" y="349"/>
                </a:lnTo>
                <a:lnTo>
                  <a:pt x="329" y="330"/>
                </a:lnTo>
                <a:lnTo>
                  <a:pt x="327" y="311"/>
                </a:lnTo>
                <a:lnTo>
                  <a:pt x="325" y="292"/>
                </a:lnTo>
                <a:lnTo>
                  <a:pt x="325" y="271"/>
                </a:lnTo>
                <a:lnTo>
                  <a:pt x="323" y="250"/>
                </a:lnTo>
                <a:lnTo>
                  <a:pt x="321" y="227"/>
                </a:lnTo>
                <a:lnTo>
                  <a:pt x="317" y="202"/>
                </a:lnTo>
                <a:lnTo>
                  <a:pt x="315" y="177"/>
                </a:lnTo>
                <a:lnTo>
                  <a:pt x="311" y="152"/>
                </a:lnTo>
                <a:lnTo>
                  <a:pt x="309" y="123"/>
                </a:lnTo>
                <a:lnTo>
                  <a:pt x="305" y="94"/>
                </a:lnTo>
                <a:lnTo>
                  <a:pt x="302" y="63"/>
                </a:lnTo>
                <a:lnTo>
                  <a:pt x="298" y="33"/>
                </a:lnTo>
                <a:lnTo>
                  <a:pt x="294" y="0"/>
                </a:lnTo>
                <a:lnTo>
                  <a:pt x="309" y="12"/>
                </a:lnTo>
                <a:lnTo>
                  <a:pt x="323" y="21"/>
                </a:lnTo>
                <a:lnTo>
                  <a:pt x="338" y="31"/>
                </a:lnTo>
                <a:lnTo>
                  <a:pt x="350" y="40"/>
                </a:lnTo>
                <a:lnTo>
                  <a:pt x="363" y="50"/>
                </a:lnTo>
                <a:lnTo>
                  <a:pt x="375" y="58"/>
                </a:lnTo>
                <a:lnTo>
                  <a:pt x="386" y="65"/>
                </a:lnTo>
                <a:lnTo>
                  <a:pt x="398" y="73"/>
                </a:lnTo>
                <a:lnTo>
                  <a:pt x="407" y="81"/>
                </a:lnTo>
                <a:lnTo>
                  <a:pt x="417" y="86"/>
                </a:lnTo>
                <a:lnTo>
                  <a:pt x="425" y="92"/>
                </a:lnTo>
                <a:lnTo>
                  <a:pt x="434" y="98"/>
                </a:lnTo>
                <a:lnTo>
                  <a:pt x="440" y="104"/>
                </a:lnTo>
                <a:lnTo>
                  <a:pt x="448" y="110"/>
                </a:lnTo>
                <a:lnTo>
                  <a:pt x="453" y="115"/>
                </a:lnTo>
                <a:lnTo>
                  <a:pt x="457" y="119"/>
                </a:lnTo>
                <a:lnTo>
                  <a:pt x="459" y="121"/>
                </a:lnTo>
                <a:lnTo>
                  <a:pt x="459" y="125"/>
                </a:lnTo>
                <a:lnTo>
                  <a:pt x="461" y="129"/>
                </a:lnTo>
                <a:lnTo>
                  <a:pt x="461" y="133"/>
                </a:lnTo>
                <a:lnTo>
                  <a:pt x="463" y="136"/>
                </a:lnTo>
                <a:lnTo>
                  <a:pt x="463" y="142"/>
                </a:lnTo>
                <a:lnTo>
                  <a:pt x="465" y="152"/>
                </a:lnTo>
                <a:lnTo>
                  <a:pt x="467" y="165"/>
                </a:lnTo>
                <a:lnTo>
                  <a:pt x="469" y="181"/>
                </a:lnTo>
                <a:lnTo>
                  <a:pt x="471" y="198"/>
                </a:lnTo>
                <a:lnTo>
                  <a:pt x="472" y="217"/>
                </a:lnTo>
                <a:lnTo>
                  <a:pt x="474" y="236"/>
                </a:lnTo>
                <a:lnTo>
                  <a:pt x="476" y="259"/>
                </a:lnTo>
                <a:lnTo>
                  <a:pt x="476" y="282"/>
                </a:lnTo>
                <a:lnTo>
                  <a:pt x="478" y="309"/>
                </a:lnTo>
                <a:lnTo>
                  <a:pt x="478" y="336"/>
                </a:lnTo>
                <a:lnTo>
                  <a:pt x="480" y="367"/>
                </a:lnTo>
                <a:lnTo>
                  <a:pt x="480" y="397"/>
                </a:lnTo>
                <a:lnTo>
                  <a:pt x="480" y="430"/>
                </a:lnTo>
                <a:lnTo>
                  <a:pt x="480" y="463"/>
                </a:lnTo>
                <a:lnTo>
                  <a:pt x="480" y="495"/>
                </a:lnTo>
                <a:lnTo>
                  <a:pt x="478" y="526"/>
                </a:lnTo>
                <a:lnTo>
                  <a:pt x="478" y="557"/>
                </a:lnTo>
                <a:lnTo>
                  <a:pt x="476" y="586"/>
                </a:lnTo>
                <a:lnTo>
                  <a:pt x="476" y="614"/>
                </a:lnTo>
                <a:lnTo>
                  <a:pt x="474" y="641"/>
                </a:lnTo>
                <a:lnTo>
                  <a:pt x="472" y="668"/>
                </a:lnTo>
                <a:lnTo>
                  <a:pt x="471" y="693"/>
                </a:lnTo>
                <a:lnTo>
                  <a:pt x="469" y="718"/>
                </a:lnTo>
                <a:lnTo>
                  <a:pt x="467" y="741"/>
                </a:lnTo>
                <a:lnTo>
                  <a:pt x="465" y="762"/>
                </a:lnTo>
                <a:lnTo>
                  <a:pt x="463" y="783"/>
                </a:lnTo>
                <a:lnTo>
                  <a:pt x="461" y="802"/>
                </a:lnTo>
                <a:lnTo>
                  <a:pt x="459" y="820"/>
                </a:lnTo>
                <a:lnTo>
                  <a:pt x="457" y="835"/>
                </a:lnTo>
                <a:lnTo>
                  <a:pt x="455" y="850"/>
                </a:lnTo>
                <a:lnTo>
                  <a:pt x="451" y="866"/>
                </a:lnTo>
                <a:lnTo>
                  <a:pt x="448" y="881"/>
                </a:lnTo>
                <a:lnTo>
                  <a:pt x="444" y="895"/>
                </a:lnTo>
                <a:lnTo>
                  <a:pt x="440" y="910"/>
                </a:lnTo>
                <a:lnTo>
                  <a:pt x="436" y="923"/>
                </a:lnTo>
                <a:lnTo>
                  <a:pt x="430" y="937"/>
                </a:lnTo>
                <a:lnTo>
                  <a:pt x="425" y="948"/>
                </a:lnTo>
                <a:lnTo>
                  <a:pt x="419" y="960"/>
                </a:lnTo>
                <a:lnTo>
                  <a:pt x="413" y="971"/>
                </a:lnTo>
                <a:lnTo>
                  <a:pt x="407" y="983"/>
                </a:lnTo>
                <a:lnTo>
                  <a:pt x="401" y="993"/>
                </a:lnTo>
                <a:lnTo>
                  <a:pt x="396" y="1002"/>
                </a:lnTo>
                <a:lnTo>
                  <a:pt x="388" y="1012"/>
                </a:lnTo>
                <a:lnTo>
                  <a:pt x="382" y="1019"/>
                </a:lnTo>
                <a:lnTo>
                  <a:pt x="377" y="1027"/>
                </a:lnTo>
                <a:lnTo>
                  <a:pt x="369" y="1033"/>
                </a:lnTo>
                <a:lnTo>
                  <a:pt x="363" y="1039"/>
                </a:lnTo>
                <a:lnTo>
                  <a:pt x="355" y="1044"/>
                </a:lnTo>
                <a:lnTo>
                  <a:pt x="350" y="1050"/>
                </a:lnTo>
                <a:lnTo>
                  <a:pt x="344" y="1054"/>
                </a:lnTo>
                <a:lnTo>
                  <a:pt x="336" y="1058"/>
                </a:lnTo>
                <a:lnTo>
                  <a:pt x="325" y="1064"/>
                </a:lnTo>
                <a:lnTo>
                  <a:pt x="313" y="1069"/>
                </a:lnTo>
                <a:lnTo>
                  <a:pt x="302" y="1071"/>
                </a:lnTo>
                <a:lnTo>
                  <a:pt x="292" y="1073"/>
                </a:lnTo>
                <a:lnTo>
                  <a:pt x="282" y="1075"/>
                </a:lnTo>
                <a:lnTo>
                  <a:pt x="279" y="1073"/>
                </a:lnTo>
                <a:lnTo>
                  <a:pt x="275" y="1073"/>
                </a:lnTo>
                <a:lnTo>
                  <a:pt x="271" y="1071"/>
                </a:lnTo>
                <a:lnTo>
                  <a:pt x="267" y="1069"/>
                </a:lnTo>
                <a:lnTo>
                  <a:pt x="263" y="1067"/>
                </a:lnTo>
                <a:lnTo>
                  <a:pt x="261" y="1064"/>
                </a:lnTo>
                <a:lnTo>
                  <a:pt x="259" y="1060"/>
                </a:lnTo>
                <a:lnTo>
                  <a:pt x="256" y="1054"/>
                </a:lnTo>
                <a:lnTo>
                  <a:pt x="254" y="1050"/>
                </a:lnTo>
                <a:lnTo>
                  <a:pt x="252" y="1044"/>
                </a:lnTo>
                <a:lnTo>
                  <a:pt x="252" y="1037"/>
                </a:lnTo>
                <a:lnTo>
                  <a:pt x="250" y="1029"/>
                </a:lnTo>
                <a:lnTo>
                  <a:pt x="248" y="1021"/>
                </a:lnTo>
                <a:lnTo>
                  <a:pt x="248" y="1012"/>
                </a:lnTo>
                <a:lnTo>
                  <a:pt x="248" y="1002"/>
                </a:lnTo>
                <a:lnTo>
                  <a:pt x="248" y="991"/>
                </a:lnTo>
                <a:lnTo>
                  <a:pt x="244" y="979"/>
                </a:lnTo>
                <a:lnTo>
                  <a:pt x="242" y="968"/>
                </a:lnTo>
                <a:lnTo>
                  <a:pt x="236" y="958"/>
                </a:lnTo>
                <a:lnTo>
                  <a:pt x="233" y="946"/>
                </a:lnTo>
                <a:lnTo>
                  <a:pt x="227" y="935"/>
                </a:lnTo>
                <a:lnTo>
                  <a:pt x="219" y="923"/>
                </a:lnTo>
                <a:lnTo>
                  <a:pt x="211" y="912"/>
                </a:lnTo>
                <a:lnTo>
                  <a:pt x="204" y="902"/>
                </a:lnTo>
                <a:lnTo>
                  <a:pt x="194" y="891"/>
                </a:lnTo>
                <a:lnTo>
                  <a:pt x="185" y="879"/>
                </a:lnTo>
                <a:lnTo>
                  <a:pt x="173" y="868"/>
                </a:lnTo>
                <a:lnTo>
                  <a:pt x="162" y="856"/>
                </a:lnTo>
                <a:lnTo>
                  <a:pt x="150" y="845"/>
                </a:lnTo>
                <a:lnTo>
                  <a:pt x="137" y="835"/>
                </a:lnTo>
                <a:lnTo>
                  <a:pt x="121" y="824"/>
                </a:lnTo>
                <a:lnTo>
                  <a:pt x="108" y="8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92"/>
          <p:cNvSpPr/>
          <p:nvPr/>
        </p:nvSpPr>
        <p:spPr>
          <a:xfrm>
            <a:off x="5958000" y="3622680"/>
            <a:ext cx="1230120" cy="228600"/>
          </a:xfrm>
          <a:custGeom>
            <a:avLst/>
            <a:gdLst/>
            <a:ahLst/>
            <a:rect l="l" t="t" r="r" b="b"/>
            <a:pathLst>
              <a:path w="1549" h="288">
                <a:moveTo>
                  <a:pt x="1503" y="192"/>
                </a:moveTo>
                <a:lnTo>
                  <a:pt x="1495" y="192"/>
                </a:lnTo>
                <a:lnTo>
                  <a:pt x="1485" y="192"/>
                </a:lnTo>
                <a:lnTo>
                  <a:pt x="1476" y="192"/>
                </a:lnTo>
                <a:lnTo>
                  <a:pt x="1462" y="192"/>
                </a:lnTo>
                <a:lnTo>
                  <a:pt x="1449" y="192"/>
                </a:lnTo>
                <a:lnTo>
                  <a:pt x="1434" y="192"/>
                </a:lnTo>
                <a:lnTo>
                  <a:pt x="1414" y="192"/>
                </a:lnTo>
                <a:lnTo>
                  <a:pt x="1395" y="192"/>
                </a:lnTo>
                <a:lnTo>
                  <a:pt x="1374" y="192"/>
                </a:lnTo>
                <a:lnTo>
                  <a:pt x="1353" y="192"/>
                </a:lnTo>
                <a:lnTo>
                  <a:pt x="1328" y="192"/>
                </a:lnTo>
                <a:lnTo>
                  <a:pt x="1301" y="192"/>
                </a:lnTo>
                <a:lnTo>
                  <a:pt x="1272" y="192"/>
                </a:lnTo>
                <a:lnTo>
                  <a:pt x="1242" y="192"/>
                </a:lnTo>
                <a:lnTo>
                  <a:pt x="1211" y="192"/>
                </a:lnTo>
                <a:lnTo>
                  <a:pt x="1176" y="192"/>
                </a:lnTo>
                <a:lnTo>
                  <a:pt x="1107" y="194"/>
                </a:lnTo>
                <a:lnTo>
                  <a:pt x="1036" y="194"/>
                </a:lnTo>
                <a:lnTo>
                  <a:pt x="965" y="198"/>
                </a:lnTo>
                <a:lnTo>
                  <a:pt x="894" y="204"/>
                </a:lnTo>
                <a:lnTo>
                  <a:pt x="823" y="209"/>
                </a:lnTo>
                <a:lnTo>
                  <a:pt x="789" y="213"/>
                </a:lnTo>
                <a:lnTo>
                  <a:pt x="752" y="217"/>
                </a:lnTo>
                <a:lnTo>
                  <a:pt x="716" y="223"/>
                </a:lnTo>
                <a:lnTo>
                  <a:pt x="679" y="229"/>
                </a:lnTo>
                <a:lnTo>
                  <a:pt x="643" y="234"/>
                </a:lnTo>
                <a:lnTo>
                  <a:pt x="606" y="240"/>
                </a:lnTo>
                <a:lnTo>
                  <a:pt x="570" y="248"/>
                </a:lnTo>
                <a:lnTo>
                  <a:pt x="535" y="254"/>
                </a:lnTo>
                <a:lnTo>
                  <a:pt x="501" y="259"/>
                </a:lnTo>
                <a:lnTo>
                  <a:pt x="470" y="263"/>
                </a:lnTo>
                <a:lnTo>
                  <a:pt x="439" y="267"/>
                </a:lnTo>
                <a:lnTo>
                  <a:pt x="411" y="271"/>
                </a:lnTo>
                <a:lnTo>
                  <a:pt x="384" y="275"/>
                </a:lnTo>
                <a:lnTo>
                  <a:pt x="359" y="279"/>
                </a:lnTo>
                <a:lnTo>
                  <a:pt x="336" y="280"/>
                </a:lnTo>
                <a:lnTo>
                  <a:pt x="313" y="282"/>
                </a:lnTo>
                <a:lnTo>
                  <a:pt x="292" y="284"/>
                </a:lnTo>
                <a:lnTo>
                  <a:pt x="272" y="286"/>
                </a:lnTo>
                <a:lnTo>
                  <a:pt x="255" y="286"/>
                </a:lnTo>
                <a:lnTo>
                  <a:pt x="238" y="288"/>
                </a:lnTo>
                <a:lnTo>
                  <a:pt x="222" y="288"/>
                </a:lnTo>
                <a:lnTo>
                  <a:pt x="209" y="288"/>
                </a:lnTo>
                <a:lnTo>
                  <a:pt x="194" y="288"/>
                </a:lnTo>
                <a:lnTo>
                  <a:pt x="178" y="286"/>
                </a:lnTo>
                <a:lnTo>
                  <a:pt x="165" y="284"/>
                </a:lnTo>
                <a:lnTo>
                  <a:pt x="150" y="282"/>
                </a:lnTo>
                <a:lnTo>
                  <a:pt x="136" y="279"/>
                </a:lnTo>
                <a:lnTo>
                  <a:pt x="123" y="273"/>
                </a:lnTo>
                <a:lnTo>
                  <a:pt x="109" y="267"/>
                </a:lnTo>
                <a:lnTo>
                  <a:pt x="96" y="261"/>
                </a:lnTo>
                <a:lnTo>
                  <a:pt x="82" y="254"/>
                </a:lnTo>
                <a:lnTo>
                  <a:pt x="69" y="246"/>
                </a:lnTo>
                <a:lnTo>
                  <a:pt x="57" y="238"/>
                </a:lnTo>
                <a:lnTo>
                  <a:pt x="46" y="229"/>
                </a:lnTo>
                <a:lnTo>
                  <a:pt x="32" y="217"/>
                </a:lnTo>
                <a:lnTo>
                  <a:pt x="23" y="206"/>
                </a:lnTo>
                <a:lnTo>
                  <a:pt x="11" y="194"/>
                </a:lnTo>
                <a:lnTo>
                  <a:pt x="0" y="181"/>
                </a:lnTo>
                <a:lnTo>
                  <a:pt x="15" y="181"/>
                </a:lnTo>
                <a:lnTo>
                  <a:pt x="31" y="181"/>
                </a:lnTo>
                <a:lnTo>
                  <a:pt x="48" y="181"/>
                </a:lnTo>
                <a:lnTo>
                  <a:pt x="65" y="179"/>
                </a:lnTo>
                <a:lnTo>
                  <a:pt x="82" y="179"/>
                </a:lnTo>
                <a:lnTo>
                  <a:pt x="100" y="177"/>
                </a:lnTo>
                <a:lnTo>
                  <a:pt x="119" y="175"/>
                </a:lnTo>
                <a:lnTo>
                  <a:pt x="138" y="175"/>
                </a:lnTo>
                <a:lnTo>
                  <a:pt x="157" y="173"/>
                </a:lnTo>
                <a:lnTo>
                  <a:pt x="176" y="171"/>
                </a:lnTo>
                <a:lnTo>
                  <a:pt x="198" y="169"/>
                </a:lnTo>
                <a:lnTo>
                  <a:pt x="219" y="167"/>
                </a:lnTo>
                <a:lnTo>
                  <a:pt x="240" y="163"/>
                </a:lnTo>
                <a:lnTo>
                  <a:pt x="261" y="161"/>
                </a:lnTo>
                <a:lnTo>
                  <a:pt x="284" y="160"/>
                </a:lnTo>
                <a:lnTo>
                  <a:pt x="307" y="156"/>
                </a:lnTo>
                <a:lnTo>
                  <a:pt x="330" y="152"/>
                </a:lnTo>
                <a:lnTo>
                  <a:pt x="355" y="150"/>
                </a:lnTo>
                <a:lnTo>
                  <a:pt x="380" y="146"/>
                </a:lnTo>
                <a:lnTo>
                  <a:pt x="405" y="142"/>
                </a:lnTo>
                <a:lnTo>
                  <a:pt x="430" y="138"/>
                </a:lnTo>
                <a:lnTo>
                  <a:pt x="455" y="135"/>
                </a:lnTo>
                <a:lnTo>
                  <a:pt x="482" y="131"/>
                </a:lnTo>
                <a:lnTo>
                  <a:pt x="508" y="125"/>
                </a:lnTo>
                <a:lnTo>
                  <a:pt x="537" y="121"/>
                </a:lnTo>
                <a:lnTo>
                  <a:pt x="564" y="117"/>
                </a:lnTo>
                <a:lnTo>
                  <a:pt x="593" y="112"/>
                </a:lnTo>
                <a:lnTo>
                  <a:pt x="624" y="108"/>
                </a:lnTo>
                <a:lnTo>
                  <a:pt x="652" y="102"/>
                </a:lnTo>
                <a:lnTo>
                  <a:pt x="683" y="96"/>
                </a:lnTo>
                <a:lnTo>
                  <a:pt x="714" y="90"/>
                </a:lnTo>
                <a:lnTo>
                  <a:pt x="745" y="85"/>
                </a:lnTo>
                <a:lnTo>
                  <a:pt x="777" y="79"/>
                </a:lnTo>
                <a:lnTo>
                  <a:pt x="806" y="73"/>
                </a:lnTo>
                <a:lnTo>
                  <a:pt x="837" y="69"/>
                </a:lnTo>
                <a:lnTo>
                  <a:pt x="865" y="64"/>
                </a:lnTo>
                <a:lnTo>
                  <a:pt x="892" y="58"/>
                </a:lnTo>
                <a:lnTo>
                  <a:pt x="921" y="54"/>
                </a:lnTo>
                <a:lnTo>
                  <a:pt x="946" y="50"/>
                </a:lnTo>
                <a:lnTo>
                  <a:pt x="973" y="44"/>
                </a:lnTo>
                <a:lnTo>
                  <a:pt x="998" y="41"/>
                </a:lnTo>
                <a:lnTo>
                  <a:pt x="1021" y="37"/>
                </a:lnTo>
                <a:lnTo>
                  <a:pt x="1044" y="33"/>
                </a:lnTo>
                <a:lnTo>
                  <a:pt x="1067" y="29"/>
                </a:lnTo>
                <a:lnTo>
                  <a:pt x="1088" y="25"/>
                </a:lnTo>
                <a:lnTo>
                  <a:pt x="1109" y="21"/>
                </a:lnTo>
                <a:lnTo>
                  <a:pt x="1128" y="19"/>
                </a:lnTo>
                <a:lnTo>
                  <a:pt x="1148" y="16"/>
                </a:lnTo>
                <a:lnTo>
                  <a:pt x="1167" y="14"/>
                </a:lnTo>
                <a:lnTo>
                  <a:pt x="1184" y="12"/>
                </a:lnTo>
                <a:lnTo>
                  <a:pt x="1201" y="8"/>
                </a:lnTo>
                <a:lnTo>
                  <a:pt x="1217" y="6"/>
                </a:lnTo>
                <a:lnTo>
                  <a:pt x="1232" y="4"/>
                </a:lnTo>
                <a:lnTo>
                  <a:pt x="1247" y="4"/>
                </a:lnTo>
                <a:lnTo>
                  <a:pt x="1261" y="2"/>
                </a:lnTo>
                <a:lnTo>
                  <a:pt x="1274" y="0"/>
                </a:lnTo>
                <a:lnTo>
                  <a:pt x="1286" y="0"/>
                </a:lnTo>
                <a:lnTo>
                  <a:pt x="1297" y="0"/>
                </a:lnTo>
                <a:lnTo>
                  <a:pt x="1309" y="0"/>
                </a:lnTo>
                <a:lnTo>
                  <a:pt x="1318" y="0"/>
                </a:lnTo>
                <a:lnTo>
                  <a:pt x="1328" y="0"/>
                </a:lnTo>
                <a:lnTo>
                  <a:pt x="1336" y="0"/>
                </a:lnTo>
                <a:lnTo>
                  <a:pt x="1343" y="0"/>
                </a:lnTo>
                <a:lnTo>
                  <a:pt x="1351" y="2"/>
                </a:lnTo>
                <a:lnTo>
                  <a:pt x="1365" y="4"/>
                </a:lnTo>
                <a:lnTo>
                  <a:pt x="1376" y="6"/>
                </a:lnTo>
                <a:lnTo>
                  <a:pt x="1388" y="10"/>
                </a:lnTo>
                <a:lnTo>
                  <a:pt x="1399" y="14"/>
                </a:lnTo>
                <a:lnTo>
                  <a:pt x="1420" y="19"/>
                </a:lnTo>
                <a:lnTo>
                  <a:pt x="1439" y="29"/>
                </a:lnTo>
                <a:lnTo>
                  <a:pt x="1459" y="39"/>
                </a:lnTo>
                <a:lnTo>
                  <a:pt x="1474" y="48"/>
                </a:lnTo>
                <a:lnTo>
                  <a:pt x="1489" y="60"/>
                </a:lnTo>
                <a:lnTo>
                  <a:pt x="1503" y="73"/>
                </a:lnTo>
                <a:lnTo>
                  <a:pt x="1509" y="81"/>
                </a:lnTo>
                <a:lnTo>
                  <a:pt x="1514" y="87"/>
                </a:lnTo>
                <a:lnTo>
                  <a:pt x="1520" y="94"/>
                </a:lnTo>
                <a:lnTo>
                  <a:pt x="1524" y="100"/>
                </a:lnTo>
                <a:lnTo>
                  <a:pt x="1532" y="112"/>
                </a:lnTo>
                <a:lnTo>
                  <a:pt x="1539" y="125"/>
                </a:lnTo>
                <a:lnTo>
                  <a:pt x="1543" y="135"/>
                </a:lnTo>
                <a:lnTo>
                  <a:pt x="1547" y="144"/>
                </a:lnTo>
                <a:lnTo>
                  <a:pt x="1549" y="152"/>
                </a:lnTo>
                <a:lnTo>
                  <a:pt x="1549" y="154"/>
                </a:lnTo>
                <a:lnTo>
                  <a:pt x="1549" y="158"/>
                </a:lnTo>
                <a:lnTo>
                  <a:pt x="1549" y="161"/>
                </a:lnTo>
                <a:lnTo>
                  <a:pt x="1547" y="165"/>
                </a:lnTo>
                <a:lnTo>
                  <a:pt x="1543" y="171"/>
                </a:lnTo>
                <a:lnTo>
                  <a:pt x="1539" y="175"/>
                </a:lnTo>
                <a:lnTo>
                  <a:pt x="1532" y="179"/>
                </a:lnTo>
                <a:lnTo>
                  <a:pt x="1528" y="181"/>
                </a:lnTo>
                <a:lnTo>
                  <a:pt x="1524" y="184"/>
                </a:lnTo>
                <a:lnTo>
                  <a:pt x="1520" y="186"/>
                </a:lnTo>
                <a:lnTo>
                  <a:pt x="1514" y="188"/>
                </a:lnTo>
                <a:lnTo>
                  <a:pt x="1509" y="190"/>
                </a:lnTo>
                <a:lnTo>
                  <a:pt x="1503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93"/>
          <p:cNvSpPr/>
          <p:nvPr/>
        </p:nvSpPr>
        <p:spPr>
          <a:xfrm>
            <a:off x="6254640" y="3321000"/>
            <a:ext cx="638280" cy="179280"/>
          </a:xfrm>
          <a:custGeom>
            <a:avLst/>
            <a:gdLst/>
            <a:ahLst/>
            <a:rect l="l" t="t" r="r" b="b"/>
            <a:pathLst>
              <a:path w="804" h="227">
                <a:moveTo>
                  <a:pt x="0" y="156"/>
                </a:moveTo>
                <a:lnTo>
                  <a:pt x="0" y="154"/>
                </a:lnTo>
                <a:lnTo>
                  <a:pt x="2" y="152"/>
                </a:lnTo>
                <a:lnTo>
                  <a:pt x="2" y="150"/>
                </a:lnTo>
                <a:lnTo>
                  <a:pt x="4" y="150"/>
                </a:lnTo>
                <a:lnTo>
                  <a:pt x="6" y="148"/>
                </a:lnTo>
                <a:lnTo>
                  <a:pt x="10" y="146"/>
                </a:lnTo>
                <a:lnTo>
                  <a:pt x="12" y="144"/>
                </a:lnTo>
                <a:lnTo>
                  <a:pt x="16" y="142"/>
                </a:lnTo>
                <a:lnTo>
                  <a:pt x="19" y="140"/>
                </a:lnTo>
                <a:lnTo>
                  <a:pt x="25" y="136"/>
                </a:lnTo>
                <a:lnTo>
                  <a:pt x="29" y="134"/>
                </a:lnTo>
                <a:lnTo>
                  <a:pt x="35" y="133"/>
                </a:lnTo>
                <a:lnTo>
                  <a:pt x="42" y="129"/>
                </a:lnTo>
                <a:lnTo>
                  <a:pt x="48" y="127"/>
                </a:lnTo>
                <a:lnTo>
                  <a:pt x="56" y="123"/>
                </a:lnTo>
                <a:lnTo>
                  <a:pt x="64" y="121"/>
                </a:lnTo>
                <a:lnTo>
                  <a:pt x="71" y="117"/>
                </a:lnTo>
                <a:lnTo>
                  <a:pt x="81" y="115"/>
                </a:lnTo>
                <a:lnTo>
                  <a:pt x="88" y="111"/>
                </a:lnTo>
                <a:lnTo>
                  <a:pt x="98" y="108"/>
                </a:lnTo>
                <a:lnTo>
                  <a:pt x="110" y="104"/>
                </a:lnTo>
                <a:lnTo>
                  <a:pt x="119" y="100"/>
                </a:lnTo>
                <a:lnTo>
                  <a:pt x="131" y="96"/>
                </a:lnTo>
                <a:lnTo>
                  <a:pt x="142" y="92"/>
                </a:lnTo>
                <a:lnTo>
                  <a:pt x="156" y="88"/>
                </a:lnTo>
                <a:lnTo>
                  <a:pt x="169" y="85"/>
                </a:lnTo>
                <a:lnTo>
                  <a:pt x="181" y="81"/>
                </a:lnTo>
                <a:lnTo>
                  <a:pt x="196" y="77"/>
                </a:lnTo>
                <a:lnTo>
                  <a:pt x="209" y="73"/>
                </a:lnTo>
                <a:lnTo>
                  <a:pt x="225" y="67"/>
                </a:lnTo>
                <a:lnTo>
                  <a:pt x="240" y="63"/>
                </a:lnTo>
                <a:lnTo>
                  <a:pt x="257" y="60"/>
                </a:lnTo>
                <a:lnTo>
                  <a:pt x="286" y="52"/>
                </a:lnTo>
                <a:lnTo>
                  <a:pt x="315" y="46"/>
                </a:lnTo>
                <a:lnTo>
                  <a:pt x="344" y="40"/>
                </a:lnTo>
                <a:lnTo>
                  <a:pt x="371" y="35"/>
                </a:lnTo>
                <a:lnTo>
                  <a:pt x="396" y="29"/>
                </a:lnTo>
                <a:lnTo>
                  <a:pt x="421" y="25"/>
                </a:lnTo>
                <a:lnTo>
                  <a:pt x="444" y="19"/>
                </a:lnTo>
                <a:lnTo>
                  <a:pt x="465" y="15"/>
                </a:lnTo>
                <a:lnTo>
                  <a:pt x="486" y="12"/>
                </a:lnTo>
                <a:lnTo>
                  <a:pt x="505" y="10"/>
                </a:lnTo>
                <a:lnTo>
                  <a:pt x="522" y="6"/>
                </a:lnTo>
                <a:lnTo>
                  <a:pt x="540" y="4"/>
                </a:lnTo>
                <a:lnTo>
                  <a:pt x="555" y="2"/>
                </a:lnTo>
                <a:lnTo>
                  <a:pt x="570" y="0"/>
                </a:lnTo>
                <a:lnTo>
                  <a:pt x="584" y="0"/>
                </a:lnTo>
                <a:lnTo>
                  <a:pt x="595" y="0"/>
                </a:lnTo>
                <a:lnTo>
                  <a:pt x="616" y="0"/>
                </a:lnTo>
                <a:lnTo>
                  <a:pt x="637" y="2"/>
                </a:lnTo>
                <a:lnTo>
                  <a:pt x="659" y="4"/>
                </a:lnTo>
                <a:lnTo>
                  <a:pt x="680" y="8"/>
                </a:lnTo>
                <a:lnTo>
                  <a:pt x="699" y="10"/>
                </a:lnTo>
                <a:lnTo>
                  <a:pt x="716" y="15"/>
                </a:lnTo>
                <a:lnTo>
                  <a:pt x="732" y="19"/>
                </a:lnTo>
                <a:lnTo>
                  <a:pt x="739" y="21"/>
                </a:lnTo>
                <a:lnTo>
                  <a:pt x="747" y="23"/>
                </a:lnTo>
                <a:lnTo>
                  <a:pt x="758" y="33"/>
                </a:lnTo>
                <a:lnTo>
                  <a:pt x="770" y="40"/>
                </a:lnTo>
                <a:lnTo>
                  <a:pt x="779" y="46"/>
                </a:lnTo>
                <a:lnTo>
                  <a:pt x="789" y="52"/>
                </a:lnTo>
                <a:lnTo>
                  <a:pt x="795" y="58"/>
                </a:lnTo>
                <a:lnTo>
                  <a:pt x="799" y="60"/>
                </a:lnTo>
                <a:lnTo>
                  <a:pt x="801" y="62"/>
                </a:lnTo>
                <a:lnTo>
                  <a:pt x="803" y="63"/>
                </a:lnTo>
                <a:lnTo>
                  <a:pt x="803" y="67"/>
                </a:lnTo>
                <a:lnTo>
                  <a:pt x="804" y="69"/>
                </a:lnTo>
                <a:lnTo>
                  <a:pt x="804" y="71"/>
                </a:lnTo>
                <a:lnTo>
                  <a:pt x="804" y="75"/>
                </a:lnTo>
                <a:lnTo>
                  <a:pt x="803" y="81"/>
                </a:lnTo>
                <a:lnTo>
                  <a:pt x="799" y="85"/>
                </a:lnTo>
                <a:lnTo>
                  <a:pt x="795" y="88"/>
                </a:lnTo>
                <a:lnTo>
                  <a:pt x="787" y="94"/>
                </a:lnTo>
                <a:lnTo>
                  <a:pt x="779" y="98"/>
                </a:lnTo>
                <a:lnTo>
                  <a:pt x="776" y="100"/>
                </a:lnTo>
                <a:lnTo>
                  <a:pt x="770" y="102"/>
                </a:lnTo>
                <a:lnTo>
                  <a:pt x="764" y="106"/>
                </a:lnTo>
                <a:lnTo>
                  <a:pt x="758" y="108"/>
                </a:lnTo>
                <a:lnTo>
                  <a:pt x="751" y="110"/>
                </a:lnTo>
                <a:lnTo>
                  <a:pt x="741" y="111"/>
                </a:lnTo>
                <a:lnTo>
                  <a:pt x="732" y="115"/>
                </a:lnTo>
                <a:lnTo>
                  <a:pt x="720" y="119"/>
                </a:lnTo>
                <a:lnTo>
                  <a:pt x="707" y="121"/>
                </a:lnTo>
                <a:lnTo>
                  <a:pt x="693" y="125"/>
                </a:lnTo>
                <a:lnTo>
                  <a:pt x="678" y="129"/>
                </a:lnTo>
                <a:lnTo>
                  <a:pt x="660" y="134"/>
                </a:lnTo>
                <a:lnTo>
                  <a:pt x="641" y="138"/>
                </a:lnTo>
                <a:lnTo>
                  <a:pt x="620" y="144"/>
                </a:lnTo>
                <a:lnTo>
                  <a:pt x="599" y="148"/>
                </a:lnTo>
                <a:lnTo>
                  <a:pt x="576" y="154"/>
                </a:lnTo>
                <a:lnTo>
                  <a:pt x="551" y="159"/>
                </a:lnTo>
                <a:lnTo>
                  <a:pt x="524" y="165"/>
                </a:lnTo>
                <a:lnTo>
                  <a:pt x="495" y="173"/>
                </a:lnTo>
                <a:lnTo>
                  <a:pt x="467" y="179"/>
                </a:lnTo>
                <a:lnTo>
                  <a:pt x="434" y="184"/>
                </a:lnTo>
                <a:lnTo>
                  <a:pt x="405" y="192"/>
                </a:lnTo>
                <a:lnTo>
                  <a:pt x="376" y="196"/>
                </a:lnTo>
                <a:lnTo>
                  <a:pt x="351" y="202"/>
                </a:lnTo>
                <a:lnTo>
                  <a:pt x="326" y="206"/>
                </a:lnTo>
                <a:lnTo>
                  <a:pt x="303" y="209"/>
                </a:lnTo>
                <a:lnTo>
                  <a:pt x="282" y="213"/>
                </a:lnTo>
                <a:lnTo>
                  <a:pt x="263" y="217"/>
                </a:lnTo>
                <a:lnTo>
                  <a:pt x="248" y="219"/>
                </a:lnTo>
                <a:lnTo>
                  <a:pt x="232" y="221"/>
                </a:lnTo>
                <a:lnTo>
                  <a:pt x="217" y="223"/>
                </a:lnTo>
                <a:lnTo>
                  <a:pt x="206" y="225"/>
                </a:lnTo>
                <a:lnTo>
                  <a:pt x="196" y="225"/>
                </a:lnTo>
                <a:lnTo>
                  <a:pt x="188" y="225"/>
                </a:lnTo>
                <a:lnTo>
                  <a:pt x="181" y="227"/>
                </a:lnTo>
                <a:lnTo>
                  <a:pt x="175" y="227"/>
                </a:lnTo>
                <a:lnTo>
                  <a:pt x="165" y="227"/>
                </a:lnTo>
                <a:lnTo>
                  <a:pt x="156" y="225"/>
                </a:lnTo>
                <a:lnTo>
                  <a:pt x="144" y="223"/>
                </a:lnTo>
                <a:lnTo>
                  <a:pt x="131" y="219"/>
                </a:lnTo>
                <a:lnTo>
                  <a:pt x="117" y="215"/>
                </a:lnTo>
                <a:lnTo>
                  <a:pt x="104" y="211"/>
                </a:lnTo>
                <a:lnTo>
                  <a:pt x="87" y="207"/>
                </a:lnTo>
                <a:lnTo>
                  <a:pt x="71" y="204"/>
                </a:lnTo>
                <a:lnTo>
                  <a:pt x="62" y="200"/>
                </a:lnTo>
                <a:lnTo>
                  <a:pt x="54" y="198"/>
                </a:lnTo>
                <a:lnTo>
                  <a:pt x="46" y="194"/>
                </a:lnTo>
                <a:lnTo>
                  <a:pt x="40" y="192"/>
                </a:lnTo>
                <a:lnTo>
                  <a:pt x="33" y="188"/>
                </a:lnTo>
                <a:lnTo>
                  <a:pt x="27" y="184"/>
                </a:lnTo>
                <a:lnTo>
                  <a:pt x="23" y="182"/>
                </a:lnTo>
                <a:lnTo>
                  <a:pt x="17" y="179"/>
                </a:lnTo>
                <a:lnTo>
                  <a:pt x="14" y="175"/>
                </a:lnTo>
                <a:lnTo>
                  <a:pt x="10" y="171"/>
                </a:lnTo>
                <a:lnTo>
                  <a:pt x="8" y="169"/>
                </a:lnTo>
                <a:lnTo>
                  <a:pt x="4" y="165"/>
                </a:lnTo>
                <a:lnTo>
                  <a:pt x="2" y="163"/>
                </a:lnTo>
                <a:lnTo>
                  <a:pt x="2" y="159"/>
                </a:lnTo>
                <a:lnTo>
                  <a:pt x="0" y="158"/>
                </a:lnTo>
                <a:lnTo>
                  <a:pt x="0" y="1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94"/>
          <p:cNvSpPr/>
          <p:nvPr/>
        </p:nvSpPr>
        <p:spPr>
          <a:xfrm>
            <a:off x="6624720" y="2817720"/>
            <a:ext cx="1184040" cy="838440"/>
          </a:xfrm>
          <a:custGeom>
            <a:avLst/>
            <a:gdLst/>
            <a:ahLst/>
            <a:rect l="l" t="t" r="r" b="b"/>
            <a:pathLst>
              <a:path w="1491" h="1055">
                <a:moveTo>
                  <a:pt x="652" y="549"/>
                </a:moveTo>
                <a:lnTo>
                  <a:pt x="687" y="576"/>
                </a:lnTo>
                <a:lnTo>
                  <a:pt x="721" y="602"/>
                </a:lnTo>
                <a:lnTo>
                  <a:pt x="756" y="627"/>
                </a:lnTo>
                <a:lnTo>
                  <a:pt x="790" y="650"/>
                </a:lnTo>
                <a:lnTo>
                  <a:pt x="827" y="673"/>
                </a:lnTo>
                <a:lnTo>
                  <a:pt x="861" y="696"/>
                </a:lnTo>
                <a:lnTo>
                  <a:pt x="896" y="718"/>
                </a:lnTo>
                <a:lnTo>
                  <a:pt x="931" y="737"/>
                </a:lnTo>
                <a:lnTo>
                  <a:pt x="967" y="756"/>
                </a:lnTo>
                <a:lnTo>
                  <a:pt x="1002" y="775"/>
                </a:lnTo>
                <a:lnTo>
                  <a:pt x="1036" y="792"/>
                </a:lnTo>
                <a:lnTo>
                  <a:pt x="1071" y="810"/>
                </a:lnTo>
                <a:lnTo>
                  <a:pt x="1105" y="827"/>
                </a:lnTo>
                <a:lnTo>
                  <a:pt x="1142" y="842"/>
                </a:lnTo>
                <a:lnTo>
                  <a:pt x="1176" y="858"/>
                </a:lnTo>
                <a:lnTo>
                  <a:pt x="1211" y="871"/>
                </a:lnTo>
                <a:lnTo>
                  <a:pt x="1228" y="879"/>
                </a:lnTo>
                <a:lnTo>
                  <a:pt x="1245" y="887"/>
                </a:lnTo>
                <a:lnTo>
                  <a:pt x="1261" y="894"/>
                </a:lnTo>
                <a:lnTo>
                  <a:pt x="1276" y="900"/>
                </a:lnTo>
                <a:lnTo>
                  <a:pt x="1291" y="908"/>
                </a:lnTo>
                <a:lnTo>
                  <a:pt x="1305" y="913"/>
                </a:lnTo>
                <a:lnTo>
                  <a:pt x="1320" y="919"/>
                </a:lnTo>
                <a:lnTo>
                  <a:pt x="1334" y="927"/>
                </a:lnTo>
                <a:lnTo>
                  <a:pt x="1345" y="931"/>
                </a:lnTo>
                <a:lnTo>
                  <a:pt x="1359" y="936"/>
                </a:lnTo>
                <a:lnTo>
                  <a:pt x="1370" y="942"/>
                </a:lnTo>
                <a:lnTo>
                  <a:pt x="1382" y="946"/>
                </a:lnTo>
                <a:lnTo>
                  <a:pt x="1391" y="952"/>
                </a:lnTo>
                <a:lnTo>
                  <a:pt x="1401" y="956"/>
                </a:lnTo>
                <a:lnTo>
                  <a:pt x="1410" y="959"/>
                </a:lnTo>
                <a:lnTo>
                  <a:pt x="1420" y="965"/>
                </a:lnTo>
                <a:lnTo>
                  <a:pt x="1430" y="967"/>
                </a:lnTo>
                <a:lnTo>
                  <a:pt x="1437" y="971"/>
                </a:lnTo>
                <a:lnTo>
                  <a:pt x="1445" y="975"/>
                </a:lnTo>
                <a:lnTo>
                  <a:pt x="1451" y="979"/>
                </a:lnTo>
                <a:lnTo>
                  <a:pt x="1456" y="981"/>
                </a:lnTo>
                <a:lnTo>
                  <a:pt x="1462" y="984"/>
                </a:lnTo>
                <a:lnTo>
                  <a:pt x="1468" y="986"/>
                </a:lnTo>
                <a:lnTo>
                  <a:pt x="1474" y="988"/>
                </a:lnTo>
                <a:lnTo>
                  <a:pt x="1478" y="992"/>
                </a:lnTo>
                <a:lnTo>
                  <a:pt x="1481" y="994"/>
                </a:lnTo>
                <a:lnTo>
                  <a:pt x="1483" y="996"/>
                </a:lnTo>
                <a:lnTo>
                  <a:pt x="1485" y="998"/>
                </a:lnTo>
                <a:lnTo>
                  <a:pt x="1487" y="998"/>
                </a:lnTo>
                <a:lnTo>
                  <a:pt x="1489" y="1000"/>
                </a:lnTo>
                <a:lnTo>
                  <a:pt x="1491" y="1002"/>
                </a:lnTo>
                <a:lnTo>
                  <a:pt x="1491" y="1004"/>
                </a:lnTo>
                <a:lnTo>
                  <a:pt x="1489" y="1006"/>
                </a:lnTo>
                <a:lnTo>
                  <a:pt x="1489" y="1007"/>
                </a:lnTo>
                <a:lnTo>
                  <a:pt x="1485" y="1009"/>
                </a:lnTo>
                <a:lnTo>
                  <a:pt x="1481" y="1011"/>
                </a:lnTo>
                <a:lnTo>
                  <a:pt x="1478" y="1013"/>
                </a:lnTo>
                <a:lnTo>
                  <a:pt x="1472" y="1015"/>
                </a:lnTo>
                <a:lnTo>
                  <a:pt x="1464" y="1019"/>
                </a:lnTo>
                <a:lnTo>
                  <a:pt x="1456" y="1021"/>
                </a:lnTo>
                <a:lnTo>
                  <a:pt x="1449" y="1023"/>
                </a:lnTo>
                <a:lnTo>
                  <a:pt x="1439" y="1025"/>
                </a:lnTo>
                <a:lnTo>
                  <a:pt x="1428" y="1027"/>
                </a:lnTo>
                <a:lnTo>
                  <a:pt x="1416" y="1029"/>
                </a:lnTo>
                <a:lnTo>
                  <a:pt x="1405" y="1032"/>
                </a:lnTo>
                <a:lnTo>
                  <a:pt x="1391" y="1034"/>
                </a:lnTo>
                <a:lnTo>
                  <a:pt x="1378" y="1036"/>
                </a:lnTo>
                <a:lnTo>
                  <a:pt x="1362" y="1038"/>
                </a:lnTo>
                <a:lnTo>
                  <a:pt x="1328" y="1042"/>
                </a:lnTo>
                <a:lnTo>
                  <a:pt x="1295" y="1046"/>
                </a:lnTo>
                <a:lnTo>
                  <a:pt x="1263" y="1048"/>
                </a:lnTo>
                <a:lnTo>
                  <a:pt x="1230" y="1050"/>
                </a:lnTo>
                <a:lnTo>
                  <a:pt x="1199" y="1050"/>
                </a:lnTo>
                <a:lnTo>
                  <a:pt x="1167" y="1050"/>
                </a:lnTo>
                <a:lnTo>
                  <a:pt x="1107" y="1052"/>
                </a:lnTo>
                <a:lnTo>
                  <a:pt x="1092" y="1054"/>
                </a:lnTo>
                <a:lnTo>
                  <a:pt x="1076" y="1054"/>
                </a:lnTo>
                <a:lnTo>
                  <a:pt x="1063" y="1055"/>
                </a:lnTo>
                <a:lnTo>
                  <a:pt x="1050" y="1055"/>
                </a:lnTo>
                <a:lnTo>
                  <a:pt x="1023" y="1055"/>
                </a:lnTo>
                <a:lnTo>
                  <a:pt x="1000" y="1054"/>
                </a:lnTo>
                <a:lnTo>
                  <a:pt x="977" y="1052"/>
                </a:lnTo>
                <a:lnTo>
                  <a:pt x="957" y="1048"/>
                </a:lnTo>
                <a:lnTo>
                  <a:pt x="938" y="1044"/>
                </a:lnTo>
                <a:lnTo>
                  <a:pt x="919" y="1038"/>
                </a:lnTo>
                <a:lnTo>
                  <a:pt x="908" y="1036"/>
                </a:lnTo>
                <a:lnTo>
                  <a:pt x="896" y="1030"/>
                </a:lnTo>
                <a:lnTo>
                  <a:pt x="884" y="1025"/>
                </a:lnTo>
                <a:lnTo>
                  <a:pt x="871" y="1019"/>
                </a:lnTo>
                <a:lnTo>
                  <a:pt x="858" y="1009"/>
                </a:lnTo>
                <a:lnTo>
                  <a:pt x="844" y="1000"/>
                </a:lnTo>
                <a:lnTo>
                  <a:pt x="829" y="988"/>
                </a:lnTo>
                <a:lnTo>
                  <a:pt x="813" y="977"/>
                </a:lnTo>
                <a:lnTo>
                  <a:pt x="798" y="961"/>
                </a:lnTo>
                <a:lnTo>
                  <a:pt x="783" y="946"/>
                </a:lnTo>
                <a:lnTo>
                  <a:pt x="765" y="931"/>
                </a:lnTo>
                <a:lnTo>
                  <a:pt x="748" y="911"/>
                </a:lnTo>
                <a:lnTo>
                  <a:pt x="731" y="892"/>
                </a:lnTo>
                <a:lnTo>
                  <a:pt x="714" y="871"/>
                </a:lnTo>
                <a:lnTo>
                  <a:pt x="694" y="848"/>
                </a:lnTo>
                <a:lnTo>
                  <a:pt x="675" y="823"/>
                </a:lnTo>
                <a:lnTo>
                  <a:pt x="664" y="812"/>
                </a:lnTo>
                <a:lnTo>
                  <a:pt x="652" y="798"/>
                </a:lnTo>
                <a:lnTo>
                  <a:pt x="641" y="783"/>
                </a:lnTo>
                <a:lnTo>
                  <a:pt x="627" y="767"/>
                </a:lnTo>
                <a:lnTo>
                  <a:pt x="614" y="752"/>
                </a:lnTo>
                <a:lnTo>
                  <a:pt x="598" y="737"/>
                </a:lnTo>
                <a:lnTo>
                  <a:pt x="583" y="720"/>
                </a:lnTo>
                <a:lnTo>
                  <a:pt x="568" y="700"/>
                </a:lnTo>
                <a:lnTo>
                  <a:pt x="552" y="681"/>
                </a:lnTo>
                <a:lnTo>
                  <a:pt x="535" y="662"/>
                </a:lnTo>
                <a:lnTo>
                  <a:pt x="518" y="643"/>
                </a:lnTo>
                <a:lnTo>
                  <a:pt x="499" y="622"/>
                </a:lnTo>
                <a:lnTo>
                  <a:pt x="479" y="599"/>
                </a:lnTo>
                <a:lnTo>
                  <a:pt x="460" y="577"/>
                </a:lnTo>
                <a:lnTo>
                  <a:pt x="441" y="553"/>
                </a:lnTo>
                <a:lnTo>
                  <a:pt x="420" y="529"/>
                </a:lnTo>
                <a:lnTo>
                  <a:pt x="397" y="505"/>
                </a:lnTo>
                <a:lnTo>
                  <a:pt x="376" y="478"/>
                </a:lnTo>
                <a:lnTo>
                  <a:pt x="353" y="453"/>
                </a:lnTo>
                <a:lnTo>
                  <a:pt x="330" y="424"/>
                </a:lnTo>
                <a:lnTo>
                  <a:pt x="305" y="397"/>
                </a:lnTo>
                <a:lnTo>
                  <a:pt x="280" y="368"/>
                </a:lnTo>
                <a:lnTo>
                  <a:pt x="255" y="338"/>
                </a:lnTo>
                <a:lnTo>
                  <a:pt x="230" y="309"/>
                </a:lnTo>
                <a:lnTo>
                  <a:pt x="203" y="276"/>
                </a:lnTo>
                <a:lnTo>
                  <a:pt x="176" y="245"/>
                </a:lnTo>
                <a:lnTo>
                  <a:pt x="147" y="213"/>
                </a:lnTo>
                <a:lnTo>
                  <a:pt x="119" y="178"/>
                </a:lnTo>
                <a:lnTo>
                  <a:pt x="90" y="144"/>
                </a:lnTo>
                <a:lnTo>
                  <a:pt x="61" y="109"/>
                </a:lnTo>
                <a:lnTo>
                  <a:pt x="30" y="73"/>
                </a:lnTo>
                <a:lnTo>
                  <a:pt x="0" y="36"/>
                </a:lnTo>
                <a:lnTo>
                  <a:pt x="46" y="17"/>
                </a:lnTo>
                <a:lnTo>
                  <a:pt x="94" y="0"/>
                </a:lnTo>
                <a:lnTo>
                  <a:pt x="98" y="5"/>
                </a:lnTo>
                <a:lnTo>
                  <a:pt x="103" y="11"/>
                </a:lnTo>
                <a:lnTo>
                  <a:pt x="109" y="17"/>
                </a:lnTo>
                <a:lnTo>
                  <a:pt x="117" y="25"/>
                </a:lnTo>
                <a:lnTo>
                  <a:pt x="124" y="32"/>
                </a:lnTo>
                <a:lnTo>
                  <a:pt x="134" y="42"/>
                </a:lnTo>
                <a:lnTo>
                  <a:pt x="144" y="52"/>
                </a:lnTo>
                <a:lnTo>
                  <a:pt x="153" y="63"/>
                </a:lnTo>
                <a:lnTo>
                  <a:pt x="163" y="75"/>
                </a:lnTo>
                <a:lnTo>
                  <a:pt x="174" y="86"/>
                </a:lnTo>
                <a:lnTo>
                  <a:pt x="188" y="100"/>
                </a:lnTo>
                <a:lnTo>
                  <a:pt x="199" y="113"/>
                </a:lnTo>
                <a:lnTo>
                  <a:pt x="213" y="128"/>
                </a:lnTo>
                <a:lnTo>
                  <a:pt x="226" y="144"/>
                </a:lnTo>
                <a:lnTo>
                  <a:pt x="241" y="161"/>
                </a:lnTo>
                <a:lnTo>
                  <a:pt x="257" y="178"/>
                </a:lnTo>
                <a:lnTo>
                  <a:pt x="272" y="197"/>
                </a:lnTo>
                <a:lnTo>
                  <a:pt x="288" y="217"/>
                </a:lnTo>
                <a:lnTo>
                  <a:pt x="307" y="236"/>
                </a:lnTo>
                <a:lnTo>
                  <a:pt x="326" y="255"/>
                </a:lnTo>
                <a:lnTo>
                  <a:pt x="347" y="276"/>
                </a:lnTo>
                <a:lnTo>
                  <a:pt x="368" y="297"/>
                </a:lnTo>
                <a:lnTo>
                  <a:pt x="391" y="318"/>
                </a:lnTo>
                <a:lnTo>
                  <a:pt x="414" y="341"/>
                </a:lnTo>
                <a:lnTo>
                  <a:pt x="439" y="364"/>
                </a:lnTo>
                <a:lnTo>
                  <a:pt x="466" y="387"/>
                </a:lnTo>
                <a:lnTo>
                  <a:pt x="495" y="412"/>
                </a:lnTo>
                <a:lnTo>
                  <a:pt x="524" y="439"/>
                </a:lnTo>
                <a:lnTo>
                  <a:pt x="554" y="464"/>
                </a:lnTo>
                <a:lnTo>
                  <a:pt x="585" y="491"/>
                </a:lnTo>
                <a:lnTo>
                  <a:pt x="618" y="520"/>
                </a:lnTo>
                <a:lnTo>
                  <a:pt x="652" y="5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5"/>
          <p:cNvSpPr/>
          <p:nvPr/>
        </p:nvSpPr>
        <p:spPr>
          <a:xfrm>
            <a:off x="5970600" y="2693880"/>
            <a:ext cx="1292040" cy="270000"/>
          </a:xfrm>
          <a:custGeom>
            <a:avLst/>
            <a:gdLst/>
            <a:ahLst/>
            <a:rect l="l" t="t" r="r" b="b"/>
            <a:pathLst>
              <a:path w="1628" h="340">
                <a:moveTo>
                  <a:pt x="1568" y="144"/>
                </a:moveTo>
                <a:lnTo>
                  <a:pt x="1565" y="144"/>
                </a:lnTo>
                <a:lnTo>
                  <a:pt x="1561" y="146"/>
                </a:lnTo>
                <a:lnTo>
                  <a:pt x="1557" y="148"/>
                </a:lnTo>
                <a:lnTo>
                  <a:pt x="1551" y="148"/>
                </a:lnTo>
                <a:lnTo>
                  <a:pt x="1545" y="150"/>
                </a:lnTo>
                <a:lnTo>
                  <a:pt x="1540" y="150"/>
                </a:lnTo>
                <a:lnTo>
                  <a:pt x="1532" y="152"/>
                </a:lnTo>
                <a:lnTo>
                  <a:pt x="1526" y="154"/>
                </a:lnTo>
                <a:lnTo>
                  <a:pt x="1518" y="154"/>
                </a:lnTo>
                <a:lnTo>
                  <a:pt x="1509" y="156"/>
                </a:lnTo>
                <a:lnTo>
                  <a:pt x="1501" y="158"/>
                </a:lnTo>
                <a:lnTo>
                  <a:pt x="1492" y="160"/>
                </a:lnTo>
                <a:lnTo>
                  <a:pt x="1482" y="160"/>
                </a:lnTo>
                <a:lnTo>
                  <a:pt x="1470" y="161"/>
                </a:lnTo>
                <a:lnTo>
                  <a:pt x="1459" y="163"/>
                </a:lnTo>
                <a:lnTo>
                  <a:pt x="1447" y="165"/>
                </a:lnTo>
                <a:lnTo>
                  <a:pt x="1436" y="167"/>
                </a:lnTo>
                <a:lnTo>
                  <a:pt x="1424" y="169"/>
                </a:lnTo>
                <a:lnTo>
                  <a:pt x="1411" y="169"/>
                </a:lnTo>
                <a:lnTo>
                  <a:pt x="1398" y="171"/>
                </a:lnTo>
                <a:lnTo>
                  <a:pt x="1382" y="175"/>
                </a:lnTo>
                <a:lnTo>
                  <a:pt x="1369" y="177"/>
                </a:lnTo>
                <a:lnTo>
                  <a:pt x="1353" y="179"/>
                </a:lnTo>
                <a:lnTo>
                  <a:pt x="1338" y="181"/>
                </a:lnTo>
                <a:lnTo>
                  <a:pt x="1323" y="183"/>
                </a:lnTo>
                <a:lnTo>
                  <a:pt x="1305" y="186"/>
                </a:lnTo>
                <a:lnTo>
                  <a:pt x="1288" y="188"/>
                </a:lnTo>
                <a:lnTo>
                  <a:pt x="1271" y="190"/>
                </a:lnTo>
                <a:lnTo>
                  <a:pt x="1254" y="194"/>
                </a:lnTo>
                <a:lnTo>
                  <a:pt x="1234" y="198"/>
                </a:lnTo>
                <a:lnTo>
                  <a:pt x="1215" y="200"/>
                </a:lnTo>
                <a:lnTo>
                  <a:pt x="1196" y="204"/>
                </a:lnTo>
                <a:lnTo>
                  <a:pt x="1177" y="208"/>
                </a:lnTo>
                <a:lnTo>
                  <a:pt x="1158" y="209"/>
                </a:lnTo>
                <a:lnTo>
                  <a:pt x="1140" y="213"/>
                </a:lnTo>
                <a:lnTo>
                  <a:pt x="1121" y="217"/>
                </a:lnTo>
                <a:lnTo>
                  <a:pt x="1104" y="219"/>
                </a:lnTo>
                <a:lnTo>
                  <a:pt x="1089" y="221"/>
                </a:lnTo>
                <a:lnTo>
                  <a:pt x="1071" y="225"/>
                </a:lnTo>
                <a:lnTo>
                  <a:pt x="1056" y="227"/>
                </a:lnTo>
                <a:lnTo>
                  <a:pt x="1041" y="229"/>
                </a:lnTo>
                <a:lnTo>
                  <a:pt x="1027" y="231"/>
                </a:lnTo>
                <a:lnTo>
                  <a:pt x="1012" y="232"/>
                </a:lnTo>
                <a:lnTo>
                  <a:pt x="998" y="234"/>
                </a:lnTo>
                <a:lnTo>
                  <a:pt x="987" y="236"/>
                </a:lnTo>
                <a:lnTo>
                  <a:pt x="973" y="238"/>
                </a:lnTo>
                <a:lnTo>
                  <a:pt x="962" y="240"/>
                </a:lnTo>
                <a:lnTo>
                  <a:pt x="950" y="242"/>
                </a:lnTo>
                <a:lnTo>
                  <a:pt x="939" y="242"/>
                </a:lnTo>
                <a:lnTo>
                  <a:pt x="929" y="244"/>
                </a:lnTo>
                <a:lnTo>
                  <a:pt x="920" y="244"/>
                </a:lnTo>
                <a:lnTo>
                  <a:pt x="910" y="246"/>
                </a:lnTo>
                <a:lnTo>
                  <a:pt x="900" y="246"/>
                </a:lnTo>
                <a:lnTo>
                  <a:pt x="893" y="248"/>
                </a:lnTo>
                <a:lnTo>
                  <a:pt x="885" y="248"/>
                </a:lnTo>
                <a:lnTo>
                  <a:pt x="877" y="250"/>
                </a:lnTo>
                <a:lnTo>
                  <a:pt x="870" y="250"/>
                </a:lnTo>
                <a:lnTo>
                  <a:pt x="864" y="250"/>
                </a:lnTo>
                <a:lnTo>
                  <a:pt x="858" y="250"/>
                </a:lnTo>
                <a:lnTo>
                  <a:pt x="852" y="250"/>
                </a:lnTo>
                <a:lnTo>
                  <a:pt x="847" y="252"/>
                </a:lnTo>
                <a:lnTo>
                  <a:pt x="843" y="252"/>
                </a:lnTo>
                <a:lnTo>
                  <a:pt x="839" y="252"/>
                </a:lnTo>
                <a:lnTo>
                  <a:pt x="835" y="252"/>
                </a:lnTo>
                <a:lnTo>
                  <a:pt x="827" y="252"/>
                </a:lnTo>
                <a:lnTo>
                  <a:pt x="818" y="252"/>
                </a:lnTo>
                <a:lnTo>
                  <a:pt x="808" y="252"/>
                </a:lnTo>
                <a:lnTo>
                  <a:pt x="795" y="254"/>
                </a:lnTo>
                <a:lnTo>
                  <a:pt x="781" y="256"/>
                </a:lnTo>
                <a:lnTo>
                  <a:pt x="766" y="257"/>
                </a:lnTo>
                <a:lnTo>
                  <a:pt x="749" y="259"/>
                </a:lnTo>
                <a:lnTo>
                  <a:pt x="730" y="261"/>
                </a:lnTo>
                <a:lnTo>
                  <a:pt x="708" y="265"/>
                </a:lnTo>
                <a:lnTo>
                  <a:pt x="685" y="269"/>
                </a:lnTo>
                <a:lnTo>
                  <a:pt x="660" y="273"/>
                </a:lnTo>
                <a:lnTo>
                  <a:pt x="634" y="277"/>
                </a:lnTo>
                <a:lnTo>
                  <a:pt x="605" y="280"/>
                </a:lnTo>
                <a:lnTo>
                  <a:pt x="574" y="286"/>
                </a:lnTo>
                <a:lnTo>
                  <a:pt x="543" y="292"/>
                </a:lnTo>
                <a:lnTo>
                  <a:pt x="509" y="300"/>
                </a:lnTo>
                <a:lnTo>
                  <a:pt x="474" y="305"/>
                </a:lnTo>
                <a:lnTo>
                  <a:pt x="442" y="311"/>
                </a:lnTo>
                <a:lnTo>
                  <a:pt x="411" y="317"/>
                </a:lnTo>
                <a:lnTo>
                  <a:pt x="380" y="323"/>
                </a:lnTo>
                <a:lnTo>
                  <a:pt x="351" y="327"/>
                </a:lnTo>
                <a:lnTo>
                  <a:pt x="325" y="330"/>
                </a:lnTo>
                <a:lnTo>
                  <a:pt x="300" y="332"/>
                </a:lnTo>
                <a:lnTo>
                  <a:pt x="275" y="336"/>
                </a:lnTo>
                <a:lnTo>
                  <a:pt x="252" y="338"/>
                </a:lnTo>
                <a:lnTo>
                  <a:pt x="231" y="338"/>
                </a:lnTo>
                <a:lnTo>
                  <a:pt x="211" y="340"/>
                </a:lnTo>
                <a:lnTo>
                  <a:pt x="192" y="340"/>
                </a:lnTo>
                <a:lnTo>
                  <a:pt x="177" y="340"/>
                </a:lnTo>
                <a:lnTo>
                  <a:pt x="161" y="338"/>
                </a:lnTo>
                <a:lnTo>
                  <a:pt x="148" y="336"/>
                </a:lnTo>
                <a:lnTo>
                  <a:pt x="136" y="334"/>
                </a:lnTo>
                <a:lnTo>
                  <a:pt x="115" y="330"/>
                </a:lnTo>
                <a:lnTo>
                  <a:pt x="94" y="327"/>
                </a:lnTo>
                <a:lnTo>
                  <a:pt x="77" y="321"/>
                </a:lnTo>
                <a:lnTo>
                  <a:pt x="67" y="319"/>
                </a:lnTo>
                <a:lnTo>
                  <a:pt x="60" y="315"/>
                </a:lnTo>
                <a:lnTo>
                  <a:pt x="52" y="313"/>
                </a:lnTo>
                <a:lnTo>
                  <a:pt x="46" y="309"/>
                </a:lnTo>
                <a:lnTo>
                  <a:pt x="40" y="307"/>
                </a:lnTo>
                <a:lnTo>
                  <a:pt x="35" y="303"/>
                </a:lnTo>
                <a:lnTo>
                  <a:pt x="29" y="300"/>
                </a:lnTo>
                <a:lnTo>
                  <a:pt x="25" y="296"/>
                </a:lnTo>
                <a:lnTo>
                  <a:pt x="21" y="292"/>
                </a:lnTo>
                <a:lnTo>
                  <a:pt x="19" y="288"/>
                </a:lnTo>
                <a:lnTo>
                  <a:pt x="16" y="282"/>
                </a:lnTo>
                <a:lnTo>
                  <a:pt x="12" y="279"/>
                </a:lnTo>
                <a:lnTo>
                  <a:pt x="8" y="275"/>
                </a:lnTo>
                <a:lnTo>
                  <a:pt x="6" y="271"/>
                </a:lnTo>
                <a:lnTo>
                  <a:pt x="2" y="265"/>
                </a:lnTo>
                <a:lnTo>
                  <a:pt x="0" y="259"/>
                </a:lnTo>
                <a:lnTo>
                  <a:pt x="0" y="254"/>
                </a:lnTo>
                <a:lnTo>
                  <a:pt x="2" y="248"/>
                </a:lnTo>
                <a:lnTo>
                  <a:pt x="4" y="244"/>
                </a:lnTo>
                <a:lnTo>
                  <a:pt x="8" y="240"/>
                </a:lnTo>
                <a:lnTo>
                  <a:pt x="10" y="236"/>
                </a:lnTo>
                <a:lnTo>
                  <a:pt x="14" y="234"/>
                </a:lnTo>
                <a:lnTo>
                  <a:pt x="17" y="234"/>
                </a:lnTo>
                <a:lnTo>
                  <a:pt x="21" y="232"/>
                </a:lnTo>
                <a:lnTo>
                  <a:pt x="25" y="231"/>
                </a:lnTo>
                <a:lnTo>
                  <a:pt x="31" y="231"/>
                </a:lnTo>
                <a:lnTo>
                  <a:pt x="37" y="229"/>
                </a:lnTo>
                <a:lnTo>
                  <a:pt x="44" y="229"/>
                </a:lnTo>
                <a:lnTo>
                  <a:pt x="52" y="229"/>
                </a:lnTo>
                <a:lnTo>
                  <a:pt x="60" y="229"/>
                </a:lnTo>
                <a:lnTo>
                  <a:pt x="69" y="227"/>
                </a:lnTo>
                <a:lnTo>
                  <a:pt x="79" y="227"/>
                </a:lnTo>
                <a:lnTo>
                  <a:pt x="88" y="227"/>
                </a:lnTo>
                <a:lnTo>
                  <a:pt x="100" y="227"/>
                </a:lnTo>
                <a:lnTo>
                  <a:pt x="111" y="227"/>
                </a:lnTo>
                <a:lnTo>
                  <a:pt x="125" y="227"/>
                </a:lnTo>
                <a:lnTo>
                  <a:pt x="131" y="227"/>
                </a:lnTo>
                <a:lnTo>
                  <a:pt x="138" y="227"/>
                </a:lnTo>
                <a:lnTo>
                  <a:pt x="148" y="227"/>
                </a:lnTo>
                <a:lnTo>
                  <a:pt x="158" y="225"/>
                </a:lnTo>
                <a:lnTo>
                  <a:pt x="167" y="225"/>
                </a:lnTo>
                <a:lnTo>
                  <a:pt x="179" y="223"/>
                </a:lnTo>
                <a:lnTo>
                  <a:pt x="190" y="223"/>
                </a:lnTo>
                <a:lnTo>
                  <a:pt x="204" y="221"/>
                </a:lnTo>
                <a:lnTo>
                  <a:pt x="217" y="219"/>
                </a:lnTo>
                <a:lnTo>
                  <a:pt x="231" y="217"/>
                </a:lnTo>
                <a:lnTo>
                  <a:pt x="246" y="215"/>
                </a:lnTo>
                <a:lnTo>
                  <a:pt x="261" y="211"/>
                </a:lnTo>
                <a:lnTo>
                  <a:pt x="278" y="209"/>
                </a:lnTo>
                <a:lnTo>
                  <a:pt x="296" y="206"/>
                </a:lnTo>
                <a:lnTo>
                  <a:pt x="313" y="204"/>
                </a:lnTo>
                <a:lnTo>
                  <a:pt x="332" y="200"/>
                </a:lnTo>
                <a:lnTo>
                  <a:pt x="353" y="196"/>
                </a:lnTo>
                <a:lnTo>
                  <a:pt x="373" y="192"/>
                </a:lnTo>
                <a:lnTo>
                  <a:pt x="394" y="188"/>
                </a:lnTo>
                <a:lnTo>
                  <a:pt x="417" y="183"/>
                </a:lnTo>
                <a:lnTo>
                  <a:pt x="440" y="179"/>
                </a:lnTo>
                <a:lnTo>
                  <a:pt x="463" y="173"/>
                </a:lnTo>
                <a:lnTo>
                  <a:pt x="488" y="169"/>
                </a:lnTo>
                <a:lnTo>
                  <a:pt x="513" y="163"/>
                </a:lnTo>
                <a:lnTo>
                  <a:pt x="540" y="158"/>
                </a:lnTo>
                <a:lnTo>
                  <a:pt x="564" y="150"/>
                </a:lnTo>
                <a:lnTo>
                  <a:pt x="593" y="144"/>
                </a:lnTo>
                <a:lnTo>
                  <a:pt x="620" y="138"/>
                </a:lnTo>
                <a:lnTo>
                  <a:pt x="651" y="131"/>
                </a:lnTo>
                <a:lnTo>
                  <a:pt x="680" y="123"/>
                </a:lnTo>
                <a:lnTo>
                  <a:pt x="710" y="115"/>
                </a:lnTo>
                <a:lnTo>
                  <a:pt x="741" y="108"/>
                </a:lnTo>
                <a:lnTo>
                  <a:pt x="774" y="102"/>
                </a:lnTo>
                <a:lnTo>
                  <a:pt x="804" y="94"/>
                </a:lnTo>
                <a:lnTo>
                  <a:pt x="833" y="89"/>
                </a:lnTo>
                <a:lnTo>
                  <a:pt x="862" y="83"/>
                </a:lnTo>
                <a:lnTo>
                  <a:pt x="891" y="77"/>
                </a:lnTo>
                <a:lnTo>
                  <a:pt x="920" y="71"/>
                </a:lnTo>
                <a:lnTo>
                  <a:pt x="946" y="65"/>
                </a:lnTo>
                <a:lnTo>
                  <a:pt x="973" y="60"/>
                </a:lnTo>
                <a:lnTo>
                  <a:pt x="998" y="56"/>
                </a:lnTo>
                <a:lnTo>
                  <a:pt x="1023" y="50"/>
                </a:lnTo>
                <a:lnTo>
                  <a:pt x="1048" y="46"/>
                </a:lnTo>
                <a:lnTo>
                  <a:pt x="1071" y="42"/>
                </a:lnTo>
                <a:lnTo>
                  <a:pt x="1094" y="39"/>
                </a:lnTo>
                <a:lnTo>
                  <a:pt x="1115" y="35"/>
                </a:lnTo>
                <a:lnTo>
                  <a:pt x="1138" y="31"/>
                </a:lnTo>
                <a:lnTo>
                  <a:pt x="1158" y="27"/>
                </a:lnTo>
                <a:lnTo>
                  <a:pt x="1179" y="23"/>
                </a:lnTo>
                <a:lnTo>
                  <a:pt x="1198" y="21"/>
                </a:lnTo>
                <a:lnTo>
                  <a:pt x="1215" y="17"/>
                </a:lnTo>
                <a:lnTo>
                  <a:pt x="1232" y="16"/>
                </a:lnTo>
                <a:lnTo>
                  <a:pt x="1250" y="14"/>
                </a:lnTo>
                <a:lnTo>
                  <a:pt x="1265" y="12"/>
                </a:lnTo>
                <a:lnTo>
                  <a:pt x="1280" y="10"/>
                </a:lnTo>
                <a:lnTo>
                  <a:pt x="1296" y="8"/>
                </a:lnTo>
                <a:lnTo>
                  <a:pt x="1309" y="6"/>
                </a:lnTo>
                <a:lnTo>
                  <a:pt x="1323" y="4"/>
                </a:lnTo>
                <a:lnTo>
                  <a:pt x="1334" y="4"/>
                </a:lnTo>
                <a:lnTo>
                  <a:pt x="1346" y="2"/>
                </a:lnTo>
                <a:lnTo>
                  <a:pt x="1355" y="2"/>
                </a:lnTo>
                <a:lnTo>
                  <a:pt x="1365" y="0"/>
                </a:lnTo>
                <a:lnTo>
                  <a:pt x="1375" y="0"/>
                </a:lnTo>
                <a:lnTo>
                  <a:pt x="1382" y="0"/>
                </a:lnTo>
                <a:lnTo>
                  <a:pt x="1413" y="2"/>
                </a:lnTo>
                <a:lnTo>
                  <a:pt x="1442" y="2"/>
                </a:lnTo>
                <a:lnTo>
                  <a:pt x="1455" y="4"/>
                </a:lnTo>
                <a:lnTo>
                  <a:pt x="1469" y="6"/>
                </a:lnTo>
                <a:lnTo>
                  <a:pt x="1482" y="6"/>
                </a:lnTo>
                <a:lnTo>
                  <a:pt x="1494" y="8"/>
                </a:lnTo>
                <a:lnTo>
                  <a:pt x="1505" y="10"/>
                </a:lnTo>
                <a:lnTo>
                  <a:pt x="1517" y="12"/>
                </a:lnTo>
                <a:lnTo>
                  <a:pt x="1526" y="14"/>
                </a:lnTo>
                <a:lnTo>
                  <a:pt x="1536" y="16"/>
                </a:lnTo>
                <a:lnTo>
                  <a:pt x="1545" y="17"/>
                </a:lnTo>
                <a:lnTo>
                  <a:pt x="1555" y="19"/>
                </a:lnTo>
                <a:lnTo>
                  <a:pt x="1563" y="23"/>
                </a:lnTo>
                <a:lnTo>
                  <a:pt x="1568" y="25"/>
                </a:lnTo>
                <a:lnTo>
                  <a:pt x="1582" y="33"/>
                </a:lnTo>
                <a:lnTo>
                  <a:pt x="1593" y="42"/>
                </a:lnTo>
                <a:lnTo>
                  <a:pt x="1603" y="50"/>
                </a:lnTo>
                <a:lnTo>
                  <a:pt x="1611" y="60"/>
                </a:lnTo>
                <a:lnTo>
                  <a:pt x="1618" y="67"/>
                </a:lnTo>
                <a:lnTo>
                  <a:pt x="1620" y="69"/>
                </a:lnTo>
                <a:lnTo>
                  <a:pt x="1624" y="73"/>
                </a:lnTo>
                <a:lnTo>
                  <a:pt x="1626" y="77"/>
                </a:lnTo>
                <a:lnTo>
                  <a:pt x="1626" y="79"/>
                </a:lnTo>
                <a:lnTo>
                  <a:pt x="1628" y="83"/>
                </a:lnTo>
                <a:lnTo>
                  <a:pt x="1628" y="85"/>
                </a:lnTo>
                <a:lnTo>
                  <a:pt x="1628" y="89"/>
                </a:lnTo>
                <a:lnTo>
                  <a:pt x="1626" y="92"/>
                </a:lnTo>
                <a:lnTo>
                  <a:pt x="1626" y="98"/>
                </a:lnTo>
                <a:lnTo>
                  <a:pt x="1624" y="102"/>
                </a:lnTo>
                <a:lnTo>
                  <a:pt x="1620" y="106"/>
                </a:lnTo>
                <a:lnTo>
                  <a:pt x="1618" y="110"/>
                </a:lnTo>
                <a:lnTo>
                  <a:pt x="1611" y="119"/>
                </a:lnTo>
                <a:lnTo>
                  <a:pt x="1603" y="127"/>
                </a:lnTo>
                <a:lnTo>
                  <a:pt x="1593" y="133"/>
                </a:lnTo>
                <a:lnTo>
                  <a:pt x="1582" y="138"/>
                </a:lnTo>
                <a:lnTo>
                  <a:pt x="1568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96"/>
          <p:cNvSpPr/>
          <p:nvPr/>
        </p:nvSpPr>
        <p:spPr>
          <a:xfrm>
            <a:off x="5532480" y="2328840"/>
            <a:ext cx="1131840" cy="1552680"/>
          </a:xfrm>
          <a:custGeom>
            <a:avLst/>
            <a:gdLst/>
            <a:ahLst/>
            <a:rect l="l" t="t" r="r" b="b"/>
            <a:pathLst>
              <a:path w="1427" h="1956">
                <a:moveTo>
                  <a:pt x="1423" y="103"/>
                </a:moveTo>
                <a:lnTo>
                  <a:pt x="1425" y="107"/>
                </a:lnTo>
                <a:lnTo>
                  <a:pt x="1427" y="115"/>
                </a:lnTo>
                <a:lnTo>
                  <a:pt x="1427" y="122"/>
                </a:lnTo>
                <a:lnTo>
                  <a:pt x="1425" y="134"/>
                </a:lnTo>
                <a:lnTo>
                  <a:pt x="1423" y="145"/>
                </a:lnTo>
                <a:lnTo>
                  <a:pt x="1421" y="159"/>
                </a:lnTo>
                <a:lnTo>
                  <a:pt x="1417" y="174"/>
                </a:lnTo>
                <a:lnTo>
                  <a:pt x="1413" y="190"/>
                </a:lnTo>
                <a:lnTo>
                  <a:pt x="1409" y="209"/>
                </a:lnTo>
                <a:lnTo>
                  <a:pt x="1403" y="228"/>
                </a:lnTo>
                <a:lnTo>
                  <a:pt x="1398" y="249"/>
                </a:lnTo>
                <a:lnTo>
                  <a:pt x="1390" y="272"/>
                </a:lnTo>
                <a:lnTo>
                  <a:pt x="1382" y="295"/>
                </a:lnTo>
                <a:lnTo>
                  <a:pt x="1373" y="322"/>
                </a:lnTo>
                <a:lnTo>
                  <a:pt x="1363" y="349"/>
                </a:lnTo>
                <a:lnTo>
                  <a:pt x="1354" y="378"/>
                </a:lnTo>
                <a:lnTo>
                  <a:pt x="1342" y="408"/>
                </a:lnTo>
                <a:lnTo>
                  <a:pt x="1331" y="441"/>
                </a:lnTo>
                <a:lnTo>
                  <a:pt x="1319" y="474"/>
                </a:lnTo>
                <a:lnTo>
                  <a:pt x="1306" y="506"/>
                </a:lnTo>
                <a:lnTo>
                  <a:pt x="1292" y="541"/>
                </a:lnTo>
                <a:lnTo>
                  <a:pt x="1279" y="575"/>
                </a:lnTo>
                <a:lnTo>
                  <a:pt x="1263" y="610"/>
                </a:lnTo>
                <a:lnTo>
                  <a:pt x="1248" y="646"/>
                </a:lnTo>
                <a:lnTo>
                  <a:pt x="1233" y="681"/>
                </a:lnTo>
                <a:lnTo>
                  <a:pt x="1215" y="717"/>
                </a:lnTo>
                <a:lnTo>
                  <a:pt x="1200" y="756"/>
                </a:lnTo>
                <a:lnTo>
                  <a:pt x="1183" y="792"/>
                </a:lnTo>
                <a:lnTo>
                  <a:pt x="1164" y="831"/>
                </a:lnTo>
                <a:lnTo>
                  <a:pt x="1146" y="871"/>
                </a:lnTo>
                <a:lnTo>
                  <a:pt x="1127" y="909"/>
                </a:lnTo>
                <a:lnTo>
                  <a:pt x="1108" y="950"/>
                </a:lnTo>
                <a:lnTo>
                  <a:pt x="1087" y="990"/>
                </a:lnTo>
                <a:lnTo>
                  <a:pt x="1064" y="1030"/>
                </a:lnTo>
                <a:lnTo>
                  <a:pt x="1041" y="1069"/>
                </a:lnTo>
                <a:lnTo>
                  <a:pt x="1018" y="1107"/>
                </a:lnTo>
                <a:lnTo>
                  <a:pt x="993" y="1144"/>
                </a:lnTo>
                <a:lnTo>
                  <a:pt x="968" y="1182"/>
                </a:lnTo>
                <a:lnTo>
                  <a:pt x="943" y="1216"/>
                </a:lnTo>
                <a:lnTo>
                  <a:pt x="916" y="1253"/>
                </a:lnTo>
                <a:lnTo>
                  <a:pt x="889" y="1288"/>
                </a:lnTo>
                <a:lnTo>
                  <a:pt x="862" y="1322"/>
                </a:lnTo>
                <a:lnTo>
                  <a:pt x="835" y="1355"/>
                </a:lnTo>
                <a:lnTo>
                  <a:pt x="807" y="1387"/>
                </a:lnTo>
                <a:lnTo>
                  <a:pt x="778" y="1420"/>
                </a:lnTo>
                <a:lnTo>
                  <a:pt x="749" y="1451"/>
                </a:lnTo>
                <a:lnTo>
                  <a:pt x="718" y="1481"/>
                </a:lnTo>
                <a:lnTo>
                  <a:pt x="689" y="1512"/>
                </a:lnTo>
                <a:lnTo>
                  <a:pt x="657" y="1541"/>
                </a:lnTo>
                <a:lnTo>
                  <a:pt x="624" y="1568"/>
                </a:lnTo>
                <a:lnTo>
                  <a:pt x="593" y="1595"/>
                </a:lnTo>
                <a:lnTo>
                  <a:pt x="563" y="1622"/>
                </a:lnTo>
                <a:lnTo>
                  <a:pt x="532" y="1646"/>
                </a:lnTo>
                <a:lnTo>
                  <a:pt x="501" y="1671"/>
                </a:lnTo>
                <a:lnTo>
                  <a:pt x="473" y="1694"/>
                </a:lnTo>
                <a:lnTo>
                  <a:pt x="444" y="1716"/>
                </a:lnTo>
                <a:lnTo>
                  <a:pt x="415" y="1737"/>
                </a:lnTo>
                <a:lnTo>
                  <a:pt x="386" y="1758"/>
                </a:lnTo>
                <a:lnTo>
                  <a:pt x="357" y="1777"/>
                </a:lnTo>
                <a:lnTo>
                  <a:pt x="331" y="1794"/>
                </a:lnTo>
                <a:lnTo>
                  <a:pt x="304" y="1812"/>
                </a:lnTo>
                <a:lnTo>
                  <a:pt x="277" y="1829"/>
                </a:lnTo>
                <a:lnTo>
                  <a:pt x="250" y="1844"/>
                </a:lnTo>
                <a:lnTo>
                  <a:pt x="223" y="1858"/>
                </a:lnTo>
                <a:lnTo>
                  <a:pt x="198" y="1873"/>
                </a:lnTo>
                <a:lnTo>
                  <a:pt x="173" y="1886"/>
                </a:lnTo>
                <a:lnTo>
                  <a:pt x="152" y="1898"/>
                </a:lnTo>
                <a:lnTo>
                  <a:pt x="131" y="1909"/>
                </a:lnTo>
                <a:lnTo>
                  <a:pt x="112" y="1919"/>
                </a:lnTo>
                <a:lnTo>
                  <a:pt x="94" y="1929"/>
                </a:lnTo>
                <a:lnTo>
                  <a:pt x="79" y="1936"/>
                </a:lnTo>
                <a:lnTo>
                  <a:pt x="64" y="1942"/>
                </a:lnTo>
                <a:lnTo>
                  <a:pt x="52" y="1946"/>
                </a:lnTo>
                <a:lnTo>
                  <a:pt x="41" y="1950"/>
                </a:lnTo>
                <a:lnTo>
                  <a:pt x="31" y="1954"/>
                </a:lnTo>
                <a:lnTo>
                  <a:pt x="21" y="1956"/>
                </a:lnTo>
                <a:lnTo>
                  <a:pt x="14" y="1956"/>
                </a:lnTo>
                <a:lnTo>
                  <a:pt x="8" y="1956"/>
                </a:lnTo>
                <a:lnTo>
                  <a:pt x="4" y="1956"/>
                </a:lnTo>
                <a:lnTo>
                  <a:pt x="2" y="1954"/>
                </a:lnTo>
                <a:lnTo>
                  <a:pt x="0" y="1950"/>
                </a:lnTo>
                <a:lnTo>
                  <a:pt x="0" y="1948"/>
                </a:lnTo>
                <a:lnTo>
                  <a:pt x="0" y="1944"/>
                </a:lnTo>
                <a:lnTo>
                  <a:pt x="2" y="1940"/>
                </a:lnTo>
                <a:lnTo>
                  <a:pt x="4" y="1936"/>
                </a:lnTo>
                <a:lnTo>
                  <a:pt x="8" y="1931"/>
                </a:lnTo>
                <a:lnTo>
                  <a:pt x="12" y="1925"/>
                </a:lnTo>
                <a:lnTo>
                  <a:pt x="18" y="1919"/>
                </a:lnTo>
                <a:lnTo>
                  <a:pt x="25" y="1913"/>
                </a:lnTo>
                <a:lnTo>
                  <a:pt x="31" y="1906"/>
                </a:lnTo>
                <a:lnTo>
                  <a:pt x="41" y="1898"/>
                </a:lnTo>
                <a:lnTo>
                  <a:pt x="50" y="1892"/>
                </a:lnTo>
                <a:lnTo>
                  <a:pt x="60" y="1883"/>
                </a:lnTo>
                <a:lnTo>
                  <a:pt x="71" y="1875"/>
                </a:lnTo>
                <a:lnTo>
                  <a:pt x="83" y="1867"/>
                </a:lnTo>
                <a:lnTo>
                  <a:pt x="94" y="1858"/>
                </a:lnTo>
                <a:lnTo>
                  <a:pt x="106" y="1848"/>
                </a:lnTo>
                <a:lnTo>
                  <a:pt x="117" y="1838"/>
                </a:lnTo>
                <a:lnTo>
                  <a:pt x="131" y="1829"/>
                </a:lnTo>
                <a:lnTo>
                  <a:pt x="144" y="1817"/>
                </a:lnTo>
                <a:lnTo>
                  <a:pt x="160" y="1806"/>
                </a:lnTo>
                <a:lnTo>
                  <a:pt x="175" y="1792"/>
                </a:lnTo>
                <a:lnTo>
                  <a:pt x="190" y="1781"/>
                </a:lnTo>
                <a:lnTo>
                  <a:pt x="208" y="1767"/>
                </a:lnTo>
                <a:lnTo>
                  <a:pt x="225" y="1752"/>
                </a:lnTo>
                <a:lnTo>
                  <a:pt x="242" y="1737"/>
                </a:lnTo>
                <a:lnTo>
                  <a:pt x="261" y="1721"/>
                </a:lnTo>
                <a:lnTo>
                  <a:pt x="281" y="1706"/>
                </a:lnTo>
                <a:lnTo>
                  <a:pt x="300" y="1689"/>
                </a:lnTo>
                <a:lnTo>
                  <a:pt x="321" y="1670"/>
                </a:lnTo>
                <a:lnTo>
                  <a:pt x="342" y="1650"/>
                </a:lnTo>
                <a:lnTo>
                  <a:pt x="363" y="1631"/>
                </a:lnTo>
                <a:lnTo>
                  <a:pt x="384" y="1612"/>
                </a:lnTo>
                <a:lnTo>
                  <a:pt x="407" y="1593"/>
                </a:lnTo>
                <a:lnTo>
                  <a:pt x="428" y="1574"/>
                </a:lnTo>
                <a:lnTo>
                  <a:pt x="451" y="1552"/>
                </a:lnTo>
                <a:lnTo>
                  <a:pt x="474" y="1529"/>
                </a:lnTo>
                <a:lnTo>
                  <a:pt x="499" y="1506"/>
                </a:lnTo>
                <a:lnTo>
                  <a:pt x="522" y="1483"/>
                </a:lnTo>
                <a:lnTo>
                  <a:pt x="547" y="1458"/>
                </a:lnTo>
                <a:lnTo>
                  <a:pt x="570" y="1433"/>
                </a:lnTo>
                <a:lnTo>
                  <a:pt x="595" y="1407"/>
                </a:lnTo>
                <a:lnTo>
                  <a:pt x="620" y="1380"/>
                </a:lnTo>
                <a:lnTo>
                  <a:pt x="645" y="1351"/>
                </a:lnTo>
                <a:lnTo>
                  <a:pt x="670" y="1320"/>
                </a:lnTo>
                <a:lnTo>
                  <a:pt x="695" y="1289"/>
                </a:lnTo>
                <a:lnTo>
                  <a:pt x="722" y="1259"/>
                </a:lnTo>
                <a:lnTo>
                  <a:pt x="747" y="1224"/>
                </a:lnTo>
                <a:lnTo>
                  <a:pt x="793" y="1157"/>
                </a:lnTo>
                <a:lnTo>
                  <a:pt x="816" y="1122"/>
                </a:lnTo>
                <a:lnTo>
                  <a:pt x="839" y="1090"/>
                </a:lnTo>
                <a:lnTo>
                  <a:pt x="860" y="1055"/>
                </a:lnTo>
                <a:lnTo>
                  <a:pt x="881" y="1021"/>
                </a:lnTo>
                <a:lnTo>
                  <a:pt x="903" y="988"/>
                </a:lnTo>
                <a:lnTo>
                  <a:pt x="922" y="954"/>
                </a:lnTo>
                <a:lnTo>
                  <a:pt x="941" y="919"/>
                </a:lnTo>
                <a:lnTo>
                  <a:pt x="960" y="882"/>
                </a:lnTo>
                <a:lnTo>
                  <a:pt x="979" y="848"/>
                </a:lnTo>
                <a:lnTo>
                  <a:pt x="997" y="811"/>
                </a:lnTo>
                <a:lnTo>
                  <a:pt x="1014" y="775"/>
                </a:lnTo>
                <a:lnTo>
                  <a:pt x="1031" y="739"/>
                </a:lnTo>
                <a:lnTo>
                  <a:pt x="1046" y="702"/>
                </a:lnTo>
                <a:lnTo>
                  <a:pt x="1062" y="664"/>
                </a:lnTo>
                <a:lnTo>
                  <a:pt x="1075" y="629"/>
                </a:lnTo>
                <a:lnTo>
                  <a:pt x="1087" y="595"/>
                </a:lnTo>
                <a:lnTo>
                  <a:pt x="1098" y="562"/>
                </a:lnTo>
                <a:lnTo>
                  <a:pt x="1110" y="529"/>
                </a:lnTo>
                <a:lnTo>
                  <a:pt x="1119" y="499"/>
                </a:lnTo>
                <a:lnTo>
                  <a:pt x="1131" y="468"/>
                </a:lnTo>
                <a:lnTo>
                  <a:pt x="1141" y="441"/>
                </a:lnTo>
                <a:lnTo>
                  <a:pt x="1148" y="412"/>
                </a:lnTo>
                <a:lnTo>
                  <a:pt x="1158" y="387"/>
                </a:lnTo>
                <a:lnTo>
                  <a:pt x="1165" y="360"/>
                </a:lnTo>
                <a:lnTo>
                  <a:pt x="1173" y="337"/>
                </a:lnTo>
                <a:lnTo>
                  <a:pt x="1179" y="314"/>
                </a:lnTo>
                <a:lnTo>
                  <a:pt x="1187" y="293"/>
                </a:lnTo>
                <a:lnTo>
                  <a:pt x="1192" y="272"/>
                </a:lnTo>
                <a:lnTo>
                  <a:pt x="1196" y="253"/>
                </a:lnTo>
                <a:lnTo>
                  <a:pt x="1202" y="234"/>
                </a:lnTo>
                <a:lnTo>
                  <a:pt x="1204" y="216"/>
                </a:lnTo>
                <a:lnTo>
                  <a:pt x="1206" y="199"/>
                </a:lnTo>
                <a:lnTo>
                  <a:pt x="1206" y="184"/>
                </a:lnTo>
                <a:lnTo>
                  <a:pt x="1208" y="168"/>
                </a:lnTo>
                <a:lnTo>
                  <a:pt x="1208" y="155"/>
                </a:lnTo>
                <a:lnTo>
                  <a:pt x="1210" y="142"/>
                </a:lnTo>
                <a:lnTo>
                  <a:pt x="1210" y="128"/>
                </a:lnTo>
                <a:lnTo>
                  <a:pt x="1210" y="117"/>
                </a:lnTo>
                <a:lnTo>
                  <a:pt x="1208" y="107"/>
                </a:lnTo>
                <a:lnTo>
                  <a:pt x="1208" y="97"/>
                </a:lnTo>
                <a:lnTo>
                  <a:pt x="1206" y="88"/>
                </a:lnTo>
                <a:lnTo>
                  <a:pt x="1204" y="80"/>
                </a:lnTo>
                <a:lnTo>
                  <a:pt x="1200" y="72"/>
                </a:lnTo>
                <a:lnTo>
                  <a:pt x="1198" y="65"/>
                </a:lnTo>
                <a:lnTo>
                  <a:pt x="1194" y="59"/>
                </a:lnTo>
                <a:lnTo>
                  <a:pt x="1190" y="55"/>
                </a:lnTo>
                <a:lnTo>
                  <a:pt x="1187" y="53"/>
                </a:lnTo>
                <a:lnTo>
                  <a:pt x="1183" y="49"/>
                </a:lnTo>
                <a:lnTo>
                  <a:pt x="1179" y="48"/>
                </a:lnTo>
                <a:lnTo>
                  <a:pt x="1177" y="44"/>
                </a:lnTo>
                <a:lnTo>
                  <a:pt x="1173" y="38"/>
                </a:lnTo>
                <a:lnTo>
                  <a:pt x="1171" y="30"/>
                </a:lnTo>
                <a:lnTo>
                  <a:pt x="1171" y="24"/>
                </a:lnTo>
                <a:lnTo>
                  <a:pt x="1171" y="17"/>
                </a:lnTo>
                <a:lnTo>
                  <a:pt x="1175" y="11"/>
                </a:lnTo>
                <a:lnTo>
                  <a:pt x="1179" y="7"/>
                </a:lnTo>
                <a:lnTo>
                  <a:pt x="1181" y="5"/>
                </a:lnTo>
                <a:lnTo>
                  <a:pt x="1185" y="3"/>
                </a:lnTo>
                <a:lnTo>
                  <a:pt x="1189" y="1"/>
                </a:lnTo>
                <a:lnTo>
                  <a:pt x="1194" y="0"/>
                </a:lnTo>
                <a:lnTo>
                  <a:pt x="1200" y="0"/>
                </a:lnTo>
                <a:lnTo>
                  <a:pt x="1206" y="0"/>
                </a:lnTo>
                <a:lnTo>
                  <a:pt x="1213" y="0"/>
                </a:lnTo>
                <a:lnTo>
                  <a:pt x="1221" y="0"/>
                </a:lnTo>
                <a:lnTo>
                  <a:pt x="1229" y="0"/>
                </a:lnTo>
                <a:lnTo>
                  <a:pt x="1238" y="1"/>
                </a:lnTo>
                <a:lnTo>
                  <a:pt x="1248" y="3"/>
                </a:lnTo>
                <a:lnTo>
                  <a:pt x="1260" y="5"/>
                </a:lnTo>
                <a:lnTo>
                  <a:pt x="1269" y="7"/>
                </a:lnTo>
                <a:lnTo>
                  <a:pt x="1281" y="11"/>
                </a:lnTo>
                <a:lnTo>
                  <a:pt x="1294" y="15"/>
                </a:lnTo>
                <a:lnTo>
                  <a:pt x="1308" y="19"/>
                </a:lnTo>
                <a:lnTo>
                  <a:pt x="1319" y="23"/>
                </a:lnTo>
                <a:lnTo>
                  <a:pt x="1331" y="28"/>
                </a:lnTo>
                <a:lnTo>
                  <a:pt x="1342" y="32"/>
                </a:lnTo>
                <a:lnTo>
                  <a:pt x="1352" y="38"/>
                </a:lnTo>
                <a:lnTo>
                  <a:pt x="1361" y="42"/>
                </a:lnTo>
                <a:lnTo>
                  <a:pt x="1371" y="48"/>
                </a:lnTo>
                <a:lnTo>
                  <a:pt x="1379" y="51"/>
                </a:lnTo>
                <a:lnTo>
                  <a:pt x="1386" y="57"/>
                </a:lnTo>
                <a:lnTo>
                  <a:pt x="1394" y="61"/>
                </a:lnTo>
                <a:lnTo>
                  <a:pt x="1400" y="67"/>
                </a:lnTo>
                <a:lnTo>
                  <a:pt x="1405" y="72"/>
                </a:lnTo>
                <a:lnTo>
                  <a:pt x="1409" y="78"/>
                </a:lnTo>
                <a:lnTo>
                  <a:pt x="1415" y="84"/>
                </a:lnTo>
                <a:lnTo>
                  <a:pt x="1417" y="90"/>
                </a:lnTo>
                <a:lnTo>
                  <a:pt x="1421" y="95"/>
                </a:lnTo>
                <a:lnTo>
                  <a:pt x="1423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2218680" y="2138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14880" y="19731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组合 8"/>
          <p:cNvGrpSpPr/>
          <p:nvPr/>
        </p:nvGrpSpPr>
        <p:grpSpPr>
          <a:xfrm>
            <a:off x="1400040" y="3565440"/>
            <a:ext cx="2840040" cy="1620000"/>
            <a:chOff x="1400040" y="3565440"/>
            <a:chExt cx="2840040" cy="1620000"/>
          </a:xfrm>
        </p:grpSpPr>
        <p:pic>
          <p:nvPicPr>
            <p:cNvPr id="20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6544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"/>
            <p:cNvSpPr/>
            <p:nvPr/>
          </p:nvSpPr>
          <p:spPr>
            <a:xfrm>
              <a:off x="1444680" y="417708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高右低。右部底横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矩形 3"/>
          <p:cNvSpPr/>
          <p:nvPr/>
        </p:nvSpPr>
        <p:spPr>
          <a:xfrm>
            <a:off x="2049480" y="1459080"/>
            <a:ext cx="119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i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64"/>
          <p:cNvSpPr/>
          <p:nvPr/>
        </p:nvSpPr>
        <p:spPr>
          <a:xfrm>
            <a:off x="6048360" y="4227480"/>
            <a:ext cx="1631880" cy="311040"/>
          </a:xfrm>
          <a:custGeom>
            <a:avLst/>
            <a:gdLst/>
            <a:ahLst/>
            <a:rect l="l" t="t" r="r" b="b"/>
            <a:pathLst>
              <a:path w="2055" h="391">
                <a:moveTo>
                  <a:pt x="1990" y="117"/>
                </a:moveTo>
                <a:lnTo>
                  <a:pt x="1998" y="125"/>
                </a:lnTo>
                <a:lnTo>
                  <a:pt x="2007" y="132"/>
                </a:lnTo>
                <a:lnTo>
                  <a:pt x="2015" y="140"/>
                </a:lnTo>
                <a:lnTo>
                  <a:pt x="2023" y="146"/>
                </a:lnTo>
                <a:lnTo>
                  <a:pt x="2029" y="153"/>
                </a:lnTo>
                <a:lnTo>
                  <a:pt x="2034" y="159"/>
                </a:lnTo>
                <a:lnTo>
                  <a:pt x="2040" y="165"/>
                </a:lnTo>
                <a:lnTo>
                  <a:pt x="2044" y="171"/>
                </a:lnTo>
                <a:lnTo>
                  <a:pt x="2048" y="176"/>
                </a:lnTo>
                <a:lnTo>
                  <a:pt x="2052" y="180"/>
                </a:lnTo>
                <a:lnTo>
                  <a:pt x="2054" y="186"/>
                </a:lnTo>
                <a:lnTo>
                  <a:pt x="2055" y="190"/>
                </a:lnTo>
                <a:lnTo>
                  <a:pt x="2055" y="194"/>
                </a:lnTo>
                <a:lnTo>
                  <a:pt x="2055" y="197"/>
                </a:lnTo>
                <a:lnTo>
                  <a:pt x="2055" y="199"/>
                </a:lnTo>
                <a:lnTo>
                  <a:pt x="2054" y="203"/>
                </a:lnTo>
                <a:lnTo>
                  <a:pt x="2052" y="205"/>
                </a:lnTo>
                <a:lnTo>
                  <a:pt x="2048" y="205"/>
                </a:lnTo>
                <a:lnTo>
                  <a:pt x="2046" y="207"/>
                </a:lnTo>
                <a:lnTo>
                  <a:pt x="2042" y="209"/>
                </a:lnTo>
                <a:lnTo>
                  <a:pt x="2036" y="211"/>
                </a:lnTo>
                <a:lnTo>
                  <a:pt x="2030" y="211"/>
                </a:lnTo>
                <a:lnTo>
                  <a:pt x="2025" y="213"/>
                </a:lnTo>
                <a:lnTo>
                  <a:pt x="2017" y="215"/>
                </a:lnTo>
                <a:lnTo>
                  <a:pt x="2009" y="215"/>
                </a:lnTo>
                <a:lnTo>
                  <a:pt x="2000" y="217"/>
                </a:lnTo>
                <a:lnTo>
                  <a:pt x="1990" y="217"/>
                </a:lnTo>
                <a:lnTo>
                  <a:pt x="1981" y="219"/>
                </a:lnTo>
                <a:lnTo>
                  <a:pt x="1969" y="220"/>
                </a:lnTo>
                <a:lnTo>
                  <a:pt x="1956" y="220"/>
                </a:lnTo>
                <a:lnTo>
                  <a:pt x="1942" y="222"/>
                </a:lnTo>
                <a:lnTo>
                  <a:pt x="1929" y="222"/>
                </a:lnTo>
                <a:lnTo>
                  <a:pt x="1915" y="224"/>
                </a:lnTo>
                <a:lnTo>
                  <a:pt x="1900" y="224"/>
                </a:lnTo>
                <a:lnTo>
                  <a:pt x="1883" y="226"/>
                </a:lnTo>
                <a:lnTo>
                  <a:pt x="1865" y="226"/>
                </a:lnTo>
                <a:lnTo>
                  <a:pt x="1848" y="228"/>
                </a:lnTo>
                <a:lnTo>
                  <a:pt x="1829" y="228"/>
                </a:lnTo>
                <a:lnTo>
                  <a:pt x="1810" y="228"/>
                </a:lnTo>
                <a:lnTo>
                  <a:pt x="1789" y="230"/>
                </a:lnTo>
                <a:lnTo>
                  <a:pt x="1768" y="230"/>
                </a:lnTo>
                <a:lnTo>
                  <a:pt x="1746" y="230"/>
                </a:lnTo>
                <a:lnTo>
                  <a:pt x="1723" y="230"/>
                </a:lnTo>
                <a:lnTo>
                  <a:pt x="1700" y="232"/>
                </a:lnTo>
                <a:lnTo>
                  <a:pt x="1675" y="232"/>
                </a:lnTo>
                <a:lnTo>
                  <a:pt x="1650" y="232"/>
                </a:lnTo>
                <a:lnTo>
                  <a:pt x="1624" y="232"/>
                </a:lnTo>
                <a:lnTo>
                  <a:pt x="1597" y="232"/>
                </a:lnTo>
                <a:lnTo>
                  <a:pt x="1541" y="232"/>
                </a:lnTo>
                <a:lnTo>
                  <a:pt x="1487" y="234"/>
                </a:lnTo>
                <a:lnTo>
                  <a:pt x="1432" y="236"/>
                </a:lnTo>
                <a:lnTo>
                  <a:pt x="1376" y="238"/>
                </a:lnTo>
                <a:lnTo>
                  <a:pt x="1320" y="240"/>
                </a:lnTo>
                <a:lnTo>
                  <a:pt x="1263" y="244"/>
                </a:lnTo>
                <a:lnTo>
                  <a:pt x="1207" y="247"/>
                </a:lnTo>
                <a:lnTo>
                  <a:pt x="1149" y="251"/>
                </a:lnTo>
                <a:lnTo>
                  <a:pt x="1092" y="257"/>
                </a:lnTo>
                <a:lnTo>
                  <a:pt x="1034" y="263"/>
                </a:lnTo>
                <a:lnTo>
                  <a:pt x="977" y="268"/>
                </a:lnTo>
                <a:lnTo>
                  <a:pt x="919" y="274"/>
                </a:lnTo>
                <a:lnTo>
                  <a:pt x="802" y="290"/>
                </a:lnTo>
                <a:lnTo>
                  <a:pt x="685" y="305"/>
                </a:lnTo>
                <a:lnTo>
                  <a:pt x="654" y="311"/>
                </a:lnTo>
                <a:lnTo>
                  <a:pt x="625" y="316"/>
                </a:lnTo>
                <a:lnTo>
                  <a:pt x="599" y="320"/>
                </a:lnTo>
                <a:lnTo>
                  <a:pt x="572" y="326"/>
                </a:lnTo>
                <a:lnTo>
                  <a:pt x="547" y="330"/>
                </a:lnTo>
                <a:lnTo>
                  <a:pt x="522" y="336"/>
                </a:lnTo>
                <a:lnTo>
                  <a:pt x="497" y="339"/>
                </a:lnTo>
                <a:lnTo>
                  <a:pt x="474" y="343"/>
                </a:lnTo>
                <a:lnTo>
                  <a:pt x="451" y="347"/>
                </a:lnTo>
                <a:lnTo>
                  <a:pt x="430" y="351"/>
                </a:lnTo>
                <a:lnTo>
                  <a:pt x="409" y="355"/>
                </a:lnTo>
                <a:lnTo>
                  <a:pt x="387" y="359"/>
                </a:lnTo>
                <a:lnTo>
                  <a:pt x="368" y="363"/>
                </a:lnTo>
                <a:lnTo>
                  <a:pt x="351" y="364"/>
                </a:lnTo>
                <a:lnTo>
                  <a:pt x="334" y="368"/>
                </a:lnTo>
                <a:lnTo>
                  <a:pt x="316" y="370"/>
                </a:lnTo>
                <a:lnTo>
                  <a:pt x="301" y="374"/>
                </a:lnTo>
                <a:lnTo>
                  <a:pt x="286" y="376"/>
                </a:lnTo>
                <a:lnTo>
                  <a:pt x="272" y="378"/>
                </a:lnTo>
                <a:lnTo>
                  <a:pt x="261" y="380"/>
                </a:lnTo>
                <a:lnTo>
                  <a:pt x="247" y="382"/>
                </a:lnTo>
                <a:lnTo>
                  <a:pt x="238" y="384"/>
                </a:lnTo>
                <a:lnTo>
                  <a:pt x="226" y="386"/>
                </a:lnTo>
                <a:lnTo>
                  <a:pt x="217" y="387"/>
                </a:lnTo>
                <a:lnTo>
                  <a:pt x="209" y="387"/>
                </a:lnTo>
                <a:lnTo>
                  <a:pt x="201" y="389"/>
                </a:lnTo>
                <a:lnTo>
                  <a:pt x="195" y="389"/>
                </a:lnTo>
                <a:lnTo>
                  <a:pt x="190" y="391"/>
                </a:lnTo>
                <a:lnTo>
                  <a:pt x="186" y="391"/>
                </a:lnTo>
                <a:lnTo>
                  <a:pt x="182" y="391"/>
                </a:lnTo>
                <a:lnTo>
                  <a:pt x="178" y="391"/>
                </a:lnTo>
                <a:lnTo>
                  <a:pt x="167" y="391"/>
                </a:lnTo>
                <a:lnTo>
                  <a:pt x="155" y="389"/>
                </a:lnTo>
                <a:lnTo>
                  <a:pt x="144" y="386"/>
                </a:lnTo>
                <a:lnTo>
                  <a:pt x="138" y="382"/>
                </a:lnTo>
                <a:lnTo>
                  <a:pt x="130" y="380"/>
                </a:lnTo>
                <a:lnTo>
                  <a:pt x="124" y="376"/>
                </a:lnTo>
                <a:lnTo>
                  <a:pt x="119" y="372"/>
                </a:lnTo>
                <a:lnTo>
                  <a:pt x="111" y="366"/>
                </a:lnTo>
                <a:lnTo>
                  <a:pt x="103" y="361"/>
                </a:lnTo>
                <a:lnTo>
                  <a:pt x="98" y="355"/>
                </a:lnTo>
                <a:lnTo>
                  <a:pt x="90" y="349"/>
                </a:lnTo>
                <a:lnTo>
                  <a:pt x="82" y="341"/>
                </a:lnTo>
                <a:lnTo>
                  <a:pt x="76" y="334"/>
                </a:lnTo>
                <a:lnTo>
                  <a:pt x="67" y="326"/>
                </a:lnTo>
                <a:lnTo>
                  <a:pt x="59" y="318"/>
                </a:lnTo>
                <a:lnTo>
                  <a:pt x="50" y="311"/>
                </a:lnTo>
                <a:lnTo>
                  <a:pt x="44" y="303"/>
                </a:lnTo>
                <a:lnTo>
                  <a:pt x="36" y="297"/>
                </a:lnTo>
                <a:lnTo>
                  <a:pt x="30" y="290"/>
                </a:lnTo>
                <a:lnTo>
                  <a:pt x="25" y="284"/>
                </a:lnTo>
                <a:lnTo>
                  <a:pt x="19" y="278"/>
                </a:lnTo>
                <a:lnTo>
                  <a:pt x="15" y="270"/>
                </a:lnTo>
                <a:lnTo>
                  <a:pt x="11" y="265"/>
                </a:lnTo>
                <a:lnTo>
                  <a:pt x="7" y="259"/>
                </a:lnTo>
                <a:lnTo>
                  <a:pt x="5" y="255"/>
                </a:lnTo>
                <a:lnTo>
                  <a:pt x="4" y="249"/>
                </a:lnTo>
                <a:lnTo>
                  <a:pt x="2" y="244"/>
                </a:lnTo>
                <a:lnTo>
                  <a:pt x="0" y="238"/>
                </a:lnTo>
                <a:lnTo>
                  <a:pt x="0" y="232"/>
                </a:lnTo>
                <a:lnTo>
                  <a:pt x="27" y="232"/>
                </a:lnTo>
                <a:lnTo>
                  <a:pt x="55" y="232"/>
                </a:lnTo>
                <a:lnTo>
                  <a:pt x="86" y="230"/>
                </a:lnTo>
                <a:lnTo>
                  <a:pt x="117" y="230"/>
                </a:lnTo>
                <a:lnTo>
                  <a:pt x="149" y="228"/>
                </a:lnTo>
                <a:lnTo>
                  <a:pt x="186" y="226"/>
                </a:lnTo>
                <a:lnTo>
                  <a:pt x="222" y="222"/>
                </a:lnTo>
                <a:lnTo>
                  <a:pt x="261" y="220"/>
                </a:lnTo>
                <a:lnTo>
                  <a:pt x="299" y="217"/>
                </a:lnTo>
                <a:lnTo>
                  <a:pt x="341" y="213"/>
                </a:lnTo>
                <a:lnTo>
                  <a:pt x="386" y="207"/>
                </a:lnTo>
                <a:lnTo>
                  <a:pt x="409" y="205"/>
                </a:lnTo>
                <a:lnTo>
                  <a:pt x="432" y="201"/>
                </a:lnTo>
                <a:lnTo>
                  <a:pt x="455" y="199"/>
                </a:lnTo>
                <a:lnTo>
                  <a:pt x="480" y="196"/>
                </a:lnTo>
                <a:lnTo>
                  <a:pt x="503" y="194"/>
                </a:lnTo>
                <a:lnTo>
                  <a:pt x="528" y="190"/>
                </a:lnTo>
                <a:lnTo>
                  <a:pt x="554" y="186"/>
                </a:lnTo>
                <a:lnTo>
                  <a:pt x="579" y="182"/>
                </a:lnTo>
                <a:lnTo>
                  <a:pt x="606" y="178"/>
                </a:lnTo>
                <a:lnTo>
                  <a:pt x="633" y="174"/>
                </a:lnTo>
                <a:lnTo>
                  <a:pt x="685" y="167"/>
                </a:lnTo>
                <a:lnTo>
                  <a:pt x="737" y="159"/>
                </a:lnTo>
                <a:lnTo>
                  <a:pt x="787" y="151"/>
                </a:lnTo>
                <a:lnTo>
                  <a:pt x="835" y="144"/>
                </a:lnTo>
                <a:lnTo>
                  <a:pt x="883" y="136"/>
                </a:lnTo>
                <a:lnTo>
                  <a:pt x="931" y="130"/>
                </a:lnTo>
                <a:lnTo>
                  <a:pt x="977" y="123"/>
                </a:lnTo>
                <a:lnTo>
                  <a:pt x="1021" y="117"/>
                </a:lnTo>
                <a:lnTo>
                  <a:pt x="1065" y="109"/>
                </a:lnTo>
                <a:lnTo>
                  <a:pt x="1109" y="103"/>
                </a:lnTo>
                <a:lnTo>
                  <a:pt x="1151" y="96"/>
                </a:lnTo>
                <a:lnTo>
                  <a:pt x="1192" y="88"/>
                </a:lnTo>
                <a:lnTo>
                  <a:pt x="1232" y="82"/>
                </a:lnTo>
                <a:lnTo>
                  <a:pt x="1270" y="75"/>
                </a:lnTo>
                <a:lnTo>
                  <a:pt x="1307" y="67"/>
                </a:lnTo>
                <a:lnTo>
                  <a:pt x="1343" y="57"/>
                </a:lnTo>
                <a:lnTo>
                  <a:pt x="1378" y="50"/>
                </a:lnTo>
                <a:lnTo>
                  <a:pt x="1411" y="42"/>
                </a:lnTo>
                <a:lnTo>
                  <a:pt x="1443" y="36"/>
                </a:lnTo>
                <a:lnTo>
                  <a:pt x="1472" y="30"/>
                </a:lnTo>
                <a:lnTo>
                  <a:pt x="1499" y="25"/>
                </a:lnTo>
                <a:lnTo>
                  <a:pt x="1526" y="21"/>
                </a:lnTo>
                <a:lnTo>
                  <a:pt x="1551" y="15"/>
                </a:lnTo>
                <a:lnTo>
                  <a:pt x="1574" y="13"/>
                </a:lnTo>
                <a:lnTo>
                  <a:pt x="1597" y="9"/>
                </a:lnTo>
                <a:lnTo>
                  <a:pt x="1616" y="7"/>
                </a:lnTo>
                <a:lnTo>
                  <a:pt x="1635" y="4"/>
                </a:lnTo>
                <a:lnTo>
                  <a:pt x="1652" y="4"/>
                </a:lnTo>
                <a:lnTo>
                  <a:pt x="1670" y="2"/>
                </a:lnTo>
                <a:lnTo>
                  <a:pt x="1685" y="0"/>
                </a:lnTo>
                <a:lnTo>
                  <a:pt x="1698" y="0"/>
                </a:lnTo>
                <a:lnTo>
                  <a:pt x="1710" y="0"/>
                </a:lnTo>
                <a:lnTo>
                  <a:pt x="1748" y="0"/>
                </a:lnTo>
                <a:lnTo>
                  <a:pt x="1768" y="0"/>
                </a:lnTo>
                <a:lnTo>
                  <a:pt x="1785" y="2"/>
                </a:lnTo>
                <a:lnTo>
                  <a:pt x="1802" y="4"/>
                </a:lnTo>
                <a:lnTo>
                  <a:pt x="1819" y="6"/>
                </a:lnTo>
                <a:lnTo>
                  <a:pt x="1835" y="9"/>
                </a:lnTo>
                <a:lnTo>
                  <a:pt x="1850" y="15"/>
                </a:lnTo>
                <a:lnTo>
                  <a:pt x="1858" y="17"/>
                </a:lnTo>
                <a:lnTo>
                  <a:pt x="1865" y="21"/>
                </a:lnTo>
                <a:lnTo>
                  <a:pt x="1873" y="25"/>
                </a:lnTo>
                <a:lnTo>
                  <a:pt x="1881" y="30"/>
                </a:lnTo>
                <a:lnTo>
                  <a:pt x="1888" y="36"/>
                </a:lnTo>
                <a:lnTo>
                  <a:pt x="1898" y="42"/>
                </a:lnTo>
                <a:lnTo>
                  <a:pt x="1915" y="54"/>
                </a:lnTo>
                <a:lnTo>
                  <a:pt x="1933" y="69"/>
                </a:lnTo>
                <a:lnTo>
                  <a:pt x="1952" y="84"/>
                </a:lnTo>
                <a:lnTo>
                  <a:pt x="1971" y="100"/>
                </a:lnTo>
                <a:lnTo>
                  <a:pt x="1990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65"/>
          <p:cNvSpPr/>
          <p:nvPr/>
        </p:nvSpPr>
        <p:spPr>
          <a:xfrm>
            <a:off x="6450120" y="2809800"/>
            <a:ext cx="955440" cy="1544760"/>
          </a:xfrm>
          <a:custGeom>
            <a:avLst/>
            <a:gdLst/>
            <a:ahLst/>
            <a:rect l="l" t="t" r="r" b="b"/>
            <a:pathLst>
              <a:path w="1204" h="1944">
                <a:moveTo>
                  <a:pt x="851" y="44"/>
                </a:moveTo>
                <a:lnTo>
                  <a:pt x="855" y="32"/>
                </a:lnTo>
                <a:lnTo>
                  <a:pt x="862" y="25"/>
                </a:lnTo>
                <a:lnTo>
                  <a:pt x="868" y="17"/>
                </a:lnTo>
                <a:lnTo>
                  <a:pt x="876" y="9"/>
                </a:lnTo>
                <a:lnTo>
                  <a:pt x="885" y="5"/>
                </a:lnTo>
                <a:lnTo>
                  <a:pt x="895" y="2"/>
                </a:lnTo>
                <a:lnTo>
                  <a:pt x="905" y="0"/>
                </a:lnTo>
                <a:lnTo>
                  <a:pt x="914" y="0"/>
                </a:lnTo>
                <a:lnTo>
                  <a:pt x="918" y="0"/>
                </a:lnTo>
                <a:lnTo>
                  <a:pt x="924" y="0"/>
                </a:lnTo>
                <a:lnTo>
                  <a:pt x="929" y="2"/>
                </a:lnTo>
                <a:lnTo>
                  <a:pt x="937" y="5"/>
                </a:lnTo>
                <a:lnTo>
                  <a:pt x="945" y="7"/>
                </a:lnTo>
                <a:lnTo>
                  <a:pt x="952" y="11"/>
                </a:lnTo>
                <a:lnTo>
                  <a:pt x="962" y="15"/>
                </a:lnTo>
                <a:lnTo>
                  <a:pt x="972" y="21"/>
                </a:lnTo>
                <a:lnTo>
                  <a:pt x="983" y="27"/>
                </a:lnTo>
                <a:lnTo>
                  <a:pt x="995" y="32"/>
                </a:lnTo>
                <a:lnTo>
                  <a:pt x="1006" y="40"/>
                </a:lnTo>
                <a:lnTo>
                  <a:pt x="1018" y="48"/>
                </a:lnTo>
                <a:lnTo>
                  <a:pt x="1033" y="57"/>
                </a:lnTo>
                <a:lnTo>
                  <a:pt x="1047" y="65"/>
                </a:lnTo>
                <a:lnTo>
                  <a:pt x="1062" y="75"/>
                </a:lnTo>
                <a:lnTo>
                  <a:pt x="1077" y="86"/>
                </a:lnTo>
                <a:lnTo>
                  <a:pt x="1095" y="100"/>
                </a:lnTo>
                <a:lnTo>
                  <a:pt x="1108" y="113"/>
                </a:lnTo>
                <a:lnTo>
                  <a:pt x="1121" y="124"/>
                </a:lnTo>
                <a:lnTo>
                  <a:pt x="1135" y="136"/>
                </a:lnTo>
                <a:lnTo>
                  <a:pt x="1146" y="146"/>
                </a:lnTo>
                <a:lnTo>
                  <a:pt x="1156" y="155"/>
                </a:lnTo>
                <a:lnTo>
                  <a:pt x="1166" y="165"/>
                </a:lnTo>
                <a:lnTo>
                  <a:pt x="1175" y="174"/>
                </a:lnTo>
                <a:lnTo>
                  <a:pt x="1181" y="182"/>
                </a:lnTo>
                <a:lnTo>
                  <a:pt x="1189" y="188"/>
                </a:lnTo>
                <a:lnTo>
                  <a:pt x="1192" y="195"/>
                </a:lnTo>
                <a:lnTo>
                  <a:pt x="1196" y="201"/>
                </a:lnTo>
                <a:lnTo>
                  <a:pt x="1200" y="205"/>
                </a:lnTo>
                <a:lnTo>
                  <a:pt x="1202" y="211"/>
                </a:lnTo>
                <a:lnTo>
                  <a:pt x="1204" y="215"/>
                </a:lnTo>
                <a:lnTo>
                  <a:pt x="1204" y="217"/>
                </a:lnTo>
                <a:lnTo>
                  <a:pt x="1204" y="228"/>
                </a:lnTo>
                <a:lnTo>
                  <a:pt x="1202" y="238"/>
                </a:lnTo>
                <a:lnTo>
                  <a:pt x="1198" y="249"/>
                </a:lnTo>
                <a:lnTo>
                  <a:pt x="1194" y="259"/>
                </a:lnTo>
                <a:lnTo>
                  <a:pt x="1191" y="263"/>
                </a:lnTo>
                <a:lnTo>
                  <a:pt x="1187" y="268"/>
                </a:lnTo>
                <a:lnTo>
                  <a:pt x="1183" y="272"/>
                </a:lnTo>
                <a:lnTo>
                  <a:pt x="1177" y="276"/>
                </a:lnTo>
                <a:lnTo>
                  <a:pt x="1173" y="280"/>
                </a:lnTo>
                <a:lnTo>
                  <a:pt x="1167" y="284"/>
                </a:lnTo>
                <a:lnTo>
                  <a:pt x="1162" y="286"/>
                </a:lnTo>
                <a:lnTo>
                  <a:pt x="1154" y="290"/>
                </a:lnTo>
                <a:lnTo>
                  <a:pt x="1146" y="293"/>
                </a:lnTo>
                <a:lnTo>
                  <a:pt x="1141" y="297"/>
                </a:lnTo>
                <a:lnTo>
                  <a:pt x="1135" y="301"/>
                </a:lnTo>
                <a:lnTo>
                  <a:pt x="1131" y="305"/>
                </a:lnTo>
                <a:lnTo>
                  <a:pt x="1125" y="311"/>
                </a:lnTo>
                <a:lnTo>
                  <a:pt x="1121" y="318"/>
                </a:lnTo>
                <a:lnTo>
                  <a:pt x="1118" y="324"/>
                </a:lnTo>
                <a:lnTo>
                  <a:pt x="1114" y="332"/>
                </a:lnTo>
                <a:lnTo>
                  <a:pt x="1112" y="339"/>
                </a:lnTo>
                <a:lnTo>
                  <a:pt x="1110" y="347"/>
                </a:lnTo>
                <a:lnTo>
                  <a:pt x="1106" y="364"/>
                </a:lnTo>
                <a:lnTo>
                  <a:pt x="1104" y="386"/>
                </a:lnTo>
                <a:lnTo>
                  <a:pt x="1104" y="407"/>
                </a:lnTo>
                <a:lnTo>
                  <a:pt x="1102" y="412"/>
                </a:lnTo>
                <a:lnTo>
                  <a:pt x="1100" y="420"/>
                </a:lnTo>
                <a:lnTo>
                  <a:pt x="1098" y="430"/>
                </a:lnTo>
                <a:lnTo>
                  <a:pt x="1098" y="439"/>
                </a:lnTo>
                <a:lnTo>
                  <a:pt x="1096" y="451"/>
                </a:lnTo>
                <a:lnTo>
                  <a:pt x="1095" y="462"/>
                </a:lnTo>
                <a:lnTo>
                  <a:pt x="1093" y="474"/>
                </a:lnTo>
                <a:lnTo>
                  <a:pt x="1091" y="487"/>
                </a:lnTo>
                <a:lnTo>
                  <a:pt x="1089" y="503"/>
                </a:lnTo>
                <a:lnTo>
                  <a:pt x="1087" y="518"/>
                </a:lnTo>
                <a:lnTo>
                  <a:pt x="1085" y="533"/>
                </a:lnTo>
                <a:lnTo>
                  <a:pt x="1083" y="551"/>
                </a:lnTo>
                <a:lnTo>
                  <a:pt x="1081" y="568"/>
                </a:lnTo>
                <a:lnTo>
                  <a:pt x="1077" y="587"/>
                </a:lnTo>
                <a:lnTo>
                  <a:pt x="1075" y="606"/>
                </a:lnTo>
                <a:lnTo>
                  <a:pt x="1073" y="627"/>
                </a:lnTo>
                <a:lnTo>
                  <a:pt x="1070" y="648"/>
                </a:lnTo>
                <a:lnTo>
                  <a:pt x="1068" y="671"/>
                </a:lnTo>
                <a:lnTo>
                  <a:pt x="1064" y="695"/>
                </a:lnTo>
                <a:lnTo>
                  <a:pt x="1062" y="719"/>
                </a:lnTo>
                <a:lnTo>
                  <a:pt x="1058" y="744"/>
                </a:lnTo>
                <a:lnTo>
                  <a:pt x="1054" y="771"/>
                </a:lnTo>
                <a:lnTo>
                  <a:pt x="1050" y="798"/>
                </a:lnTo>
                <a:lnTo>
                  <a:pt x="1048" y="827"/>
                </a:lnTo>
                <a:lnTo>
                  <a:pt x="1045" y="856"/>
                </a:lnTo>
                <a:lnTo>
                  <a:pt x="1041" y="886"/>
                </a:lnTo>
                <a:lnTo>
                  <a:pt x="1037" y="917"/>
                </a:lnTo>
                <a:lnTo>
                  <a:pt x="1031" y="950"/>
                </a:lnTo>
                <a:lnTo>
                  <a:pt x="1027" y="982"/>
                </a:lnTo>
                <a:lnTo>
                  <a:pt x="1024" y="1017"/>
                </a:lnTo>
                <a:lnTo>
                  <a:pt x="1020" y="1052"/>
                </a:lnTo>
                <a:lnTo>
                  <a:pt x="1014" y="1088"/>
                </a:lnTo>
                <a:lnTo>
                  <a:pt x="1008" y="1124"/>
                </a:lnTo>
                <a:lnTo>
                  <a:pt x="1002" y="1161"/>
                </a:lnTo>
                <a:lnTo>
                  <a:pt x="999" y="1195"/>
                </a:lnTo>
                <a:lnTo>
                  <a:pt x="993" y="1230"/>
                </a:lnTo>
                <a:lnTo>
                  <a:pt x="987" y="1263"/>
                </a:lnTo>
                <a:lnTo>
                  <a:pt x="981" y="1297"/>
                </a:lnTo>
                <a:lnTo>
                  <a:pt x="977" y="1330"/>
                </a:lnTo>
                <a:lnTo>
                  <a:pt x="972" y="1361"/>
                </a:lnTo>
                <a:lnTo>
                  <a:pt x="968" y="1391"/>
                </a:lnTo>
                <a:lnTo>
                  <a:pt x="964" y="1422"/>
                </a:lnTo>
                <a:lnTo>
                  <a:pt x="958" y="1453"/>
                </a:lnTo>
                <a:lnTo>
                  <a:pt x="954" y="1481"/>
                </a:lnTo>
                <a:lnTo>
                  <a:pt x="951" y="1510"/>
                </a:lnTo>
                <a:lnTo>
                  <a:pt x="947" y="1539"/>
                </a:lnTo>
                <a:lnTo>
                  <a:pt x="943" y="1566"/>
                </a:lnTo>
                <a:lnTo>
                  <a:pt x="939" y="1593"/>
                </a:lnTo>
                <a:lnTo>
                  <a:pt x="935" y="1620"/>
                </a:lnTo>
                <a:lnTo>
                  <a:pt x="931" y="1645"/>
                </a:lnTo>
                <a:lnTo>
                  <a:pt x="929" y="1670"/>
                </a:lnTo>
                <a:lnTo>
                  <a:pt x="926" y="1695"/>
                </a:lnTo>
                <a:lnTo>
                  <a:pt x="924" y="1718"/>
                </a:lnTo>
                <a:lnTo>
                  <a:pt x="920" y="1741"/>
                </a:lnTo>
                <a:lnTo>
                  <a:pt x="918" y="1764"/>
                </a:lnTo>
                <a:lnTo>
                  <a:pt x="914" y="1787"/>
                </a:lnTo>
                <a:lnTo>
                  <a:pt x="912" y="1808"/>
                </a:lnTo>
                <a:lnTo>
                  <a:pt x="910" y="1829"/>
                </a:lnTo>
                <a:lnTo>
                  <a:pt x="908" y="1850"/>
                </a:lnTo>
                <a:lnTo>
                  <a:pt x="906" y="1869"/>
                </a:lnTo>
                <a:lnTo>
                  <a:pt x="905" y="1888"/>
                </a:lnTo>
                <a:lnTo>
                  <a:pt x="903" y="1908"/>
                </a:lnTo>
                <a:lnTo>
                  <a:pt x="903" y="1927"/>
                </a:lnTo>
                <a:lnTo>
                  <a:pt x="901" y="1944"/>
                </a:lnTo>
                <a:lnTo>
                  <a:pt x="824" y="1938"/>
                </a:lnTo>
                <a:lnTo>
                  <a:pt x="749" y="1931"/>
                </a:lnTo>
                <a:lnTo>
                  <a:pt x="755" y="1877"/>
                </a:lnTo>
                <a:lnTo>
                  <a:pt x="761" y="1825"/>
                </a:lnTo>
                <a:lnTo>
                  <a:pt x="766" y="1775"/>
                </a:lnTo>
                <a:lnTo>
                  <a:pt x="772" y="1725"/>
                </a:lnTo>
                <a:lnTo>
                  <a:pt x="776" y="1677"/>
                </a:lnTo>
                <a:lnTo>
                  <a:pt x="782" y="1629"/>
                </a:lnTo>
                <a:lnTo>
                  <a:pt x="787" y="1581"/>
                </a:lnTo>
                <a:lnTo>
                  <a:pt x="793" y="1535"/>
                </a:lnTo>
                <a:lnTo>
                  <a:pt x="799" y="1489"/>
                </a:lnTo>
                <a:lnTo>
                  <a:pt x="803" y="1445"/>
                </a:lnTo>
                <a:lnTo>
                  <a:pt x="809" y="1401"/>
                </a:lnTo>
                <a:lnTo>
                  <a:pt x="812" y="1359"/>
                </a:lnTo>
                <a:lnTo>
                  <a:pt x="818" y="1316"/>
                </a:lnTo>
                <a:lnTo>
                  <a:pt x="822" y="1276"/>
                </a:lnTo>
                <a:lnTo>
                  <a:pt x="828" y="1236"/>
                </a:lnTo>
                <a:lnTo>
                  <a:pt x="832" y="1197"/>
                </a:lnTo>
                <a:lnTo>
                  <a:pt x="837" y="1159"/>
                </a:lnTo>
                <a:lnTo>
                  <a:pt x="841" y="1121"/>
                </a:lnTo>
                <a:lnTo>
                  <a:pt x="845" y="1084"/>
                </a:lnTo>
                <a:lnTo>
                  <a:pt x="849" y="1048"/>
                </a:lnTo>
                <a:lnTo>
                  <a:pt x="853" y="1013"/>
                </a:lnTo>
                <a:lnTo>
                  <a:pt x="857" y="979"/>
                </a:lnTo>
                <a:lnTo>
                  <a:pt x="860" y="946"/>
                </a:lnTo>
                <a:lnTo>
                  <a:pt x="864" y="913"/>
                </a:lnTo>
                <a:lnTo>
                  <a:pt x="868" y="883"/>
                </a:lnTo>
                <a:lnTo>
                  <a:pt x="872" y="850"/>
                </a:lnTo>
                <a:lnTo>
                  <a:pt x="874" y="821"/>
                </a:lnTo>
                <a:lnTo>
                  <a:pt x="878" y="790"/>
                </a:lnTo>
                <a:lnTo>
                  <a:pt x="880" y="764"/>
                </a:lnTo>
                <a:lnTo>
                  <a:pt x="883" y="735"/>
                </a:lnTo>
                <a:lnTo>
                  <a:pt x="885" y="708"/>
                </a:lnTo>
                <a:lnTo>
                  <a:pt x="887" y="681"/>
                </a:lnTo>
                <a:lnTo>
                  <a:pt x="889" y="656"/>
                </a:lnTo>
                <a:lnTo>
                  <a:pt x="889" y="631"/>
                </a:lnTo>
                <a:lnTo>
                  <a:pt x="891" y="608"/>
                </a:lnTo>
                <a:lnTo>
                  <a:pt x="893" y="585"/>
                </a:lnTo>
                <a:lnTo>
                  <a:pt x="893" y="562"/>
                </a:lnTo>
                <a:lnTo>
                  <a:pt x="895" y="541"/>
                </a:lnTo>
                <a:lnTo>
                  <a:pt x="895" y="520"/>
                </a:lnTo>
                <a:lnTo>
                  <a:pt x="897" y="499"/>
                </a:lnTo>
                <a:lnTo>
                  <a:pt x="899" y="480"/>
                </a:lnTo>
                <a:lnTo>
                  <a:pt x="899" y="460"/>
                </a:lnTo>
                <a:lnTo>
                  <a:pt x="901" y="443"/>
                </a:lnTo>
                <a:lnTo>
                  <a:pt x="901" y="426"/>
                </a:lnTo>
                <a:lnTo>
                  <a:pt x="901" y="410"/>
                </a:lnTo>
                <a:lnTo>
                  <a:pt x="903" y="395"/>
                </a:lnTo>
                <a:lnTo>
                  <a:pt x="903" y="380"/>
                </a:lnTo>
                <a:lnTo>
                  <a:pt x="905" y="366"/>
                </a:lnTo>
                <a:lnTo>
                  <a:pt x="905" y="353"/>
                </a:lnTo>
                <a:lnTo>
                  <a:pt x="905" y="339"/>
                </a:lnTo>
                <a:lnTo>
                  <a:pt x="905" y="328"/>
                </a:lnTo>
                <a:lnTo>
                  <a:pt x="905" y="318"/>
                </a:lnTo>
                <a:lnTo>
                  <a:pt x="906" y="307"/>
                </a:lnTo>
                <a:lnTo>
                  <a:pt x="906" y="297"/>
                </a:lnTo>
                <a:lnTo>
                  <a:pt x="906" y="290"/>
                </a:lnTo>
                <a:lnTo>
                  <a:pt x="906" y="282"/>
                </a:lnTo>
                <a:lnTo>
                  <a:pt x="906" y="274"/>
                </a:lnTo>
                <a:lnTo>
                  <a:pt x="905" y="268"/>
                </a:lnTo>
                <a:lnTo>
                  <a:pt x="905" y="263"/>
                </a:lnTo>
                <a:lnTo>
                  <a:pt x="905" y="257"/>
                </a:lnTo>
                <a:lnTo>
                  <a:pt x="905" y="253"/>
                </a:lnTo>
                <a:lnTo>
                  <a:pt x="903" y="251"/>
                </a:lnTo>
                <a:lnTo>
                  <a:pt x="903" y="247"/>
                </a:lnTo>
                <a:lnTo>
                  <a:pt x="901" y="245"/>
                </a:lnTo>
                <a:lnTo>
                  <a:pt x="899" y="243"/>
                </a:lnTo>
                <a:lnTo>
                  <a:pt x="895" y="242"/>
                </a:lnTo>
                <a:lnTo>
                  <a:pt x="891" y="240"/>
                </a:lnTo>
                <a:lnTo>
                  <a:pt x="887" y="238"/>
                </a:lnTo>
                <a:lnTo>
                  <a:pt x="878" y="236"/>
                </a:lnTo>
                <a:lnTo>
                  <a:pt x="866" y="234"/>
                </a:lnTo>
                <a:lnTo>
                  <a:pt x="853" y="232"/>
                </a:lnTo>
                <a:lnTo>
                  <a:pt x="839" y="232"/>
                </a:lnTo>
                <a:lnTo>
                  <a:pt x="826" y="232"/>
                </a:lnTo>
                <a:lnTo>
                  <a:pt x="812" y="232"/>
                </a:lnTo>
                <a:lnTo>
                  <a:pt x="805" y="232"/>
                </a:lnTo>
                <a:lnTo>
                  <a:pt x="793" y="232"/>
                </a:lnTo>
                <a:lnTo>
                  <a:pt x="782" y="234"/>
                </a:lnTo>
                <a:lnTo>
                  <a:pt x="768" y="238"/>
                </a:lnTo>
                <a:lnTo>
                  <a:pt x="755" y="240"/>
                </a:lnTo>
                <a:lnTo>
                  <a:pt x="738" y="243"/>
                </a:lnTo>
                <a:lnTo>
                  <a:pt x="718" y="247"/>
                </a:lnTo>
                <a:lnTo>
                  <a:pt x="697" y="253"/>
                </a:lnTo>
                <a:lnTo>
                  <a:pt x="676" y="259"/>
                </a:lnTo>
                <a:lnTo>
                  <a:pt x="651" y="265"/>
                </a:lnTo>
                <a:lnTo>
                  <a:pt x="626" y="272"/>
                </a:lnTo>
                <a:lnTo>
                  <a:pt x="597" y="280"/>
                </a:lnTo>
                <a:lnTo>
                  <a:pt x="569" y="290"/>
                </a:lnTo>
                <a:lnTo>
                  <a:pt x="538" y="297"/>
                </a:lnTo>
                <a:lnTo>
                  <a:pt x="505" y="309"/>
                </a:lnTo>
                <a:lnTo>
                  <a:pt x="471" y="318"/>
                </a:lnTo>
                <a:lnTo>
                  <a:pt x="452" y="324"/>
                </a:lnTo>
                <a:lnTo>
                  <a:pt x="434" y="330"/>
                </a:lnTo>
                <a:lnTo>
                  <a:pt x="419" y="334"/>
                </a:lnTo>
                <a:lnTo>
                  <a:pt x="404" y="339"/>
                </a:lnTo>
                <a:lnTo>
                  <a:pt x="386" y="343"/>
                </a:lnTo>
                <a:lnTo>
                  <a:pt x="373" y="349"/>
                </a:lnTo>
                <a:lnTo>
                  <a:pt x="357" y="353"/>
                </a:lnTo>
                <a:lnTo>
                  <a:pt x="344" y="357"/>
                </a:lnTo>
                <a:lnTo>
                  <a:pt x="331" y="361"/>
                </a:lnTo>
                <a:lnTo>
                  <a:pt x="317" y="364"/>
                </a:lnTo>
                <a:lnTo>
                  <a:pt x="304" y="368"/>
                </a:lnTo>
                <a:lnTo>
                  <a:pt x="292" y="372"/>
                </a:lnTo>
                <a:lnTo>
                  <a:pt x="281" y="374"/>
                </a:lnTo>
                <a:lnTo>
                  <a:pt x="269" y="378"/>
                </a:lnTo>
                <a:lnTo>
                  <a:pt x="260" y="380"/>
                </a:lnTo>
                <a:lnTo>
                  <a:pt x="250" y="384"/>
                </a:lnTo>
                <a:lnTo>
                  <a:pt x="240" y="386"/>
                </a:lnTo>
                <a:lnTo>
                  <a:pt x="231" y="387"/>
                </a:lnTo>
                <a:lnTo>
                  <a:pt x="213" y="391"/>
                </a:lnTo>
                <a:lnTo>
                  <a:pt x="200" y="393"/>
                </a:lnTo>
                <a:lnTo>
                  <a:pt x="187" y="395"/>
                </a:lnTo>
                <a:lnTo>
                  <a:pt x="175" y="395"/>
                </a:lnTo>
                <a:lnTo>
                  <a:pt x="166" y="395"/>
                </a:lnTo>
                <a:lnTo>
                  <a:pt x="158" y="393"/>
                </a:lnTo>
                <a:lnTo>
                  <a:pt x="154" y="391"/>
                </a:lnTo>
                <a:lnTo>
                  <a:pt x="146" y="391"/>
                </a:lnTo>
                <a:lnTo>
                  <a:pt x="139" y="389"/>
                </a:lnTo>
                <a:lnTo>
                  <a:pt x="131" y="386"/>
                </a:lnTo>
                <a:lnTo>
                  <a:pt x="121" y="382"/>
                </a:lnTo>
                <a:lnTo>
                  <a:pt x="114" y="374"/>
                </a:lnTo>
                <a:lnTo>
                  <a:pt x="104" y="368"/>
                </a:lnTo>
                <a:lnTo>
                  <a:pt x="94" y="359"/>
                </a:lnTo>
                <a:lnTo>
                  <a:pt x="87" y="349"/>
                </a:lnTo>
                <a:lnTo>
                  <a:pt x="77" y="339"/>
                </a:lnTo>
                <a:lnTo>
                  <a:pt x="66" y="328"/>
                </a:lnTo>
                <a:lnTo>
                  <a:pt x="56" y="314"/>
                </a:lnTo>
                <a:lnTo>
                  <a:pt x="47" y="299"/>
                </a:lnTo>
                <a:lnTo>
                  <a:pt x="35" y="284"/>
                </a:lnTo>
                <a:lnTo>
                  <a:pt x="23" y="268"/>
                </a:lnTo>
                <a:lnTo>
                  <a:pt x="12" y="249"/>
                </a:lnTo>
                <a:lnTo>
                  <a:pt x="0" y="232"/>
                </a:lnTo>
                <a:lnTo>
                  <a:pt x="23" y="232"/>
                </a:lnTo>
                <a:lnTo>
                  <a:pt x="47" y="230"/>
                </a:lnTo>
                <a:lnTo>
                  <a:pt x="70" y="228"/>
                </a:lnTo>
                <a:lnTo>
                  <a:pt x="96" y="226"/>
                </a:lnTo>
                <a:lnTo>
                  <a:pt x="123" y="224"/>
                </a:lnTo>
                <a:lnTo>
                  <a:pt x="150" y="220"/>
                </a:lnTo>
                <a:lnTo>
                  <a:pt x="179" y="217"/>
                </a:lnTo>
                <a:lnTo>
                  <a:pt x="210" y="213"/>
                </a:lnTo>
                <a:lnTo>
                  <a:pt x="242" y="207"/>
                </a:lnTo>
                <a:lnTo>
                  <a:pt x="275" y="201"/>
                </a:lnTo>
                <a:lnTo>
                  <a:pt x="308" y="195"/>
                </a:lnTo>
                <a:lnTo>
                  <a:pt x="344" y="190"/>
                </a:lnTo>
                <a:lnTo>
                  <a:pt x="379" y="182"/>
                </a:lnTo>
                <a:lnTo>
                  <a:pt x="417" y="174"/>
                </a:lnTo>
                <a:lnTo>
                  <a:pt x="455" y="167"/>
                </a:lnTo>
                <a:lnTo>
                  <a:pt x="496" y="159"/>
                </a:lnTo>
                <a:lnTo>
                  <a:pt x="515" y="155"/>
                </a:lnTo>
                <a:lnTo>
                  <a:pt x="534" y="151"/>
                </a:lnTo>
                <a:lnTo>
                  <a:pt x="553" y="147"/>
                </a:lnTo>
                <a:lnTo>
                  <a:pt x="572" y="142"/>
                </a:lnTo>
                <a:lnTo>
                  <a:pt x="590" y="138"/>
                </a:lnTo>
                <a:lnTo>
                  <a:pt x="607" y="134"/>
                </a:lnTo>
                <a:lnTo>
                  <a:pt x="624" y="130"/>
                </a:lnTo>
                <a:lnTo>
                  <a:pt x="640" y="126"/>
                </a:lnTo>
                <a:lnTo>
                  <a:pt x="655" y="123"/>
                </a:lnTo>
                <a:lnTo>
                  <a:pt x="670" y="119"/>
                </a:lnTo>
                <a:lnTo>
                  <a:pt x="684" y="115"/>
                </a:lnTo>
                <a:lnTo>
                  <a:pt x="699" y="111"/>
                </a:lnTo>
                <a:lnTo>
                  <a:pt x="713" y="107"/>
                </a:lnTo>
                <a:lnTo>
                  <a:pt x="724" y="103"/>
                </a:lnTo>
                <a:lnTo>
                  <a:pt x="738" y="100"/>
                </a:lnTo>
                <a:lnTo>
                  <a:pt x="749" y="96"/>
                </a:lnTo>
                <a:lnTo>
                  <a:pt x="759" y="92"/>
                </a:lnTo>
                <a:lnTo>
                  <a:pt x="770" y="88"/>
                </a:lnTo>
                <a:lnTo>
                  <a:pt x="780" y="84"/>
                </a:lnTo>
                <a:lnTo>
                  <a:pt x="789" y="80"/>
                </a:lnTo>
                <a:lnTo>
                  <a:pt x="797" y="76"/>
                </a:lnTo>
                <a:lnTo>
                  <a:pt x="805" y="75"/>
                </a:lnTo>
                <a:lnTo>
                  <a:pt x="812" y="71"/>
                </a:lnTo>
                <a:lnTo>
                  <a:pt x="820" y="67"/>
                </a:lnTo>
                <a:lnTo>
                  <a:pt x="826" y="63"/>
                </a:lnTo>
                <a:lnTo>
                  <a:pt x="832" y="61"/>
                </a:lnTo>
                <a:lnTo>
                  <a:pt x="835" y="57"/>
                </a:lnTo>
                <a:lnTo>
                  <a:pt x="839" y="53"/>
                </a:lnTo>
                <a:lnTo>
                  <a:pt x="843" y="52"/>
                </a:lnTo>
                <a:lnTo>
                  <a:pt x="847" y="48"/>
                </a:lnTo>
                <a:lnTo>
                  <a:pt x="849" y="46"/>
                </a:lnTo>
                <a:lnTo>
                  <a:pt x="851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6"/>
          <p:cNvSpPr/>
          <p:nvPr/>
        </p:nvSpPr>
        <p:spPr>
          <a:xfrm>
            <a:off x="6400800" y="3548160"/>
            <a:ext cx="674640" cy="206280"/>
          </a:xfrm>
          <a:custGeom>
            <a:avLst/>
            <a:gdLst/>
            <a:ahLst/>
            <a:rect l="l" t="t" r="r" b="b"/>
            <a:pathLst>
              <a:path w="850" h="261">
                <a:moveTo>
                  <a:pt x="0" y="159"/>
                </a:moveTo>
                <a:lnTo>
                  <a:pt x="40" y="149"/>
                </a:lnTo>
                <a:lnTo>
                  <a:pt x="79" y="140"/>
                </a:lnTo>
                <a:lnTo>
                  <a:pt x="117" y="130"/>
                </a:lnTo>
                <a:lnTo>
                  <a:pt x="152" y="123"/>
                </a:lnTo>
                <a:lnTo>
                  <a:pt x="188" y="115"/>
                </a:lnTo>
                <a:lnTo>
                  <a:pt x="221" y="105"/>
                </a:lnTo>
                <a:lnTo>
                  <a:pt x="253" y="98"/>
                </a:lnTo>
                <a:lnTo>
                  <a:pt x="286" y="90"/>
                </a:lnTo>
                <a:lnTo>
                  <a:pt x="317" y="82"/>
                </a:lnTo>
                <a:lnTo>
                  <a:pt x="346" y="76"/>
                </a:lnTo>
                <a:lnTo>
                  <a:pt x="372" y="69"/>
                </a:lnTo>
                <a:lnTo>
                  <a:pt x="399" y="63"/>
                </a:lnTo>
                <a:lnTo>
                  <a:pt x="426" y="57"/>
                </a:lnTo>
                <a:lnTo>
                  <a:pt x="451" y="52"/>
                </a:lnTo>
                <a:lnTo>
                  <a:pt x="474" y="46"/>
                </a:lnTo>
                <a:lnTo>
                  <a:pt x="495" y="40"/>
                </a:lnTo>
                <a:lnTo>
                  <a:pt x="516" y="36"/>
                </a:lnTo>
                <a:lnTo>
                  <a:pt x="538" y="30"/>
                </a:lnTo>
                <a:lnTo>
                  <a:pt x="557" y="27"/>
                </a:lnTo>
                <a:lnTo>
                  <a:pt x="574" y="23"/>
                </a:lnTo>
                <a:lnTo>
                  <a:pt x="589" y="19"/>
                </a:lnTo>
                <a:lnTo>
                  <a:pt x="605" y="15"/>
                </a:lnTo>
                <a:lnTo>
                  <a:pt x="620" y="13"/>
                </a:lnTo>
                <a:lnTo>
                  <a:pt x="634" y="9"/>
                </a:lnTo>
                <a:lnTo>
                  <a:pt x="645" y="7"/>
                </a:lnTo>
                <a:lnTo>
                  <a:pt x="657" y="5"/>
                </a:lnTo>
                <a:lnTo>
                  <a:pt x="666" y="4"/>
                </a:lnTo>
                <a:lnTo>
                  <a:pt x="674" y="2"/>
                </a:lnTo>
                <a:lnTo>
                  <a:pt x="682" y="2"/>
                </a:lnTo>
                <a:lnTo>
                  <a:pt x="687" y="0"/>
                </a:lnTo>
                <a:lnTo>
                  <a:pt x="693" y="0"/>
                </a:lnTo>
                <a:lnTo>
                  <a:pt x="697" y="0"/>
                </a:lnTo>
                <a:lnTo>
                  <a:pt x="710" y="0"/>
                </a:lnTo>
                <a:lnTo>
                  <a:pt x="724" y="0"/>
                </a:lnTo>
                <a:lnTo>
                  <a:pt x="735" y="0"/>
                </a:lnTo>
                <a:lnTo>
                  <a:pt x="749" y="2"/>
                </a:lnTo>
                <a:lnTo>
                  <a:pt x="760" y="4"/>
                </a:lnTo>
                <a:lnTo>
                  <a:pt x="772" y="5"/>
                </a:lnTo>
                <a:lnTo>
                  <a:pt x="785" y="9"/>
                </a:lnTo>
                <a:lnTo>
                  <a:pt x="799" y="13"/>
                </a:lnTo>
                <a:lnTo>
                  <a:pt x="806" y="17"/>
                </a:lnTo>
                <a:lnTo>
                  <a:pt x="812" y="19"/>
                </a:lnTo>
                <a:lnTo>
                  <a:pt x="818" y="23"/>
                </a:lnTo>
                <a:lnTo>
                  <a:pt x="822" y="27"/>
                </a:lnTo>
                <a:lnTo>
                  <a:pt x="827" y="30"/>
                </a:lnTo>
                <a:lnTo>
                  <a:pt x="831" y="34"/>
                </a:lnTo>
                <a:lnTo>
                  <a:pt x="839" y="42"/>
                </a:lnTo>
                <a:lnTo>
                  <a:pt x="843" y="52"/>
                </a:lnTo>
                <a:lnTo>
                  <a:pt x="847" y="59"/>
                </a:lnTo>
                <a:lnTo>
                  <a:pt x="848" y="65"/>
                </a:lnTo>
                <a:lnTo>
                  <a:pt x="850" y="73"/>
                </a:lnTo>
                <a:lnTo>
                  <a:pt x="848" y="82"/>
                </a:lnTo>
                <a:lnTo>
                  <a:pt x="847" y="92"/>
                </a:lnTo>
                <a:lnTo>
                  <a:pt x="843" y="100"/>
                </a:lnTo>
                <a:lnTo>
                  <a:pt x="839" y="107"/>
                </a:lnTo>
                <a:lnTo>
                  <a:pt x="831" y="113"/>
                </a:lnTo>
                <a:lnTo>
                  <a:pt x="827" y="117"/>
                </a:lnTo>
                <a:lnTo>
                  <a:pt x="822" y="119"/>
                </a:lnTo>
                <a:lnTo>
                  <a:pt x="818" y="123"/>
                </a:lnTo>
                <a:lnTo>
                  <a:pt x="812" y="124"/>
                </a:lnTo>
                <a:lnTo>
                  <a:pt x="806" y="128"/>
                </a:lnTo>
                <a:lnTo>
                  <a:pt x="799" y="130"/>
                </a:lnTo>
                <a:lnTo>
                  <a:pt x="791" y="134"/>
                </a:lnTo>
                <a:lnTo>
                  <a:pt x="781" y="136"/>
                </a:lnTo>
                <a:lnTo>
                  <a:pt x="770" y="140"/>
                </a:lnTo>
                <a:lnTo>
                  <a:pt x="756" y="144"/>
                </a:lnTo>
                <a:lnTo>
                  <a:pt x="741" y="147"/>
                </a:lnTo>
                <a:lnTo>
                  <a:pt x="724" y="151"/>
                </a:lnTo>
                <a:lnTo>
                  <a:pt x="705" y="155"/>
                </a:lnTo>
                <a:lnTo>
                  <a:pt x="685" y="161"/>
                </a:lnTo>
                <a:lnTo>
                  <a:pt x="662" y="165"/>
                </a:lnTo>
                <a:lnTo>
                  <a:pt x="637" y="171"/>
                </a:lnTo>
                <a:lnTo>
                  <a:pt x="612" y="176"/>
                </a:lnTo>
                <a:lnTo>
                  <a:pt x="586" y="180"/>
                </a:lnTo>
                <a:lnTo>
                  <a:pt x="555" y="186"/>
                </a:lnTo>
                <a:lnTo>
                  <a:pt x="524" y="192"/>
                </a:lnTo>
                <a:lnTo>
                  <a:pt x="491" y="197"/>
                </a:lnTo>
                <a:lnTo>
                  <a:pt x="457" y="203"/>
                </a:lnTo>
                <a:lnTo>
                  <a:pt x="422" y="211"/>
                </a:lnTo>
                <a:lnTo>
                  <a:pt x="390" y="219"/>
                </a:lnTo>
                <a:lnTo>
                  <a:pt x="357" y="224"/>
                </a:lnTo>
                <a:lnTo>
                  <a:pt x="328" y="230"/>
                </a:lnTo>
                <a:lnTo>
                  <a:pt x="315" y="234"/>
                </a:lnTo>
                <a:lnTo>
                  <a:pt x="301" y="236"/>
                </a:lnTo>
                <a:lnTo>
                  <a:pt x="288" y="238"/>
                </a:lnTo>
                <a:lnTo>
                  <a:pt x="276" y="240"/>
                </a:lnTo>
                <a:lnTo>
                  <a:pt x="265" y="243"/>
                </a:lnTo>
                <a:lnTo>
                  <a:pt x="253" y="245"/>
                </a:lnTo>
                <a:lnTo>
                  <a:pt x="242" y="247"/>
                </a:lnTo>
                <a:lnTo>
                  <a:pt x="232" y="249"/>
                </a:lnTo>
                <a:lnTo>
                  <a:pt x="223" y="249"/>
                </a:lnTo>
                <a:lnTo>
                  <a:pt x="213" y="251"/>
                </a:lnTo>
                <a:lnTo>
                  <a:pt x="204" y="253"/>
                </a:lnTo>
                <a:lnTo>
                  <a:pt x="196" y="255"/>
                </a:lnTo>
                <a:lnTo>
                  <a:pt x="188" y="255"/>
                </a:lnTo>
                <a:lnTo>
                  <a:pt x="181" y="257"/>
                </a:lnTo>
                <a:lnTo>
                  <a:pt x="175" y="257"/>
                </a:lnTo>
                <a:lnTo>
                  <a:pt x="169" y="259"/>
                </a:lnTo>
                <a:lnTo>
                  <a:pt x="163" y="259"/>
                </a:lnTo>
                <a:lnTo>
                  <a:pt x="157" y="259"/>
                </a:lnTo>
                <a:lnTo>
                  <a:pt x="154" y="259"/>
                </a:lnTo>
                <a:lnTo>
                  <a:pt x="150" y="261"/>
                </a:lnTo>
                <a:lnTo>
                  <a:pt x="146" y="261"/>
                </a:lnTo>
                <a:lnTo>
                  <a:pt x="144" y="261"/>
                </a:lnTo>
                <a:lnTo>
                  <a:pt x="142" y="261"/>
                </a:lnTo>
                <a:lnTo>
                  <a:pt x="140" y="261"/>
                </a:lnTo>
                <a:lnTo>
                  <a:pt x="134" y="261"/>
                </a:lnTo>
                <a:lnTo>
                  <a:pt x="129" y="259"/>
                </a:lnTo>
                <a:lnTo>
                  <a:pt x="123" y="257"/>
                </a:lnTo>
                <a:lnTo>
                  <a:pt x="115" y="255"/>
                </a:lnTo>
                <a:lnTo>
                  <a:pt x="110" y="251"/>
                </a:lnTo>
                <a:lnTo>
                  <a:pt x="102" y="247"/>
                </a:lnTo>
                <a:lnTo>
                  <a:pt x="92" y="243"/>
                </a:lnTo>
                <a:lnTo>
                  <a:pt x="85" y="238"/>
                </a:lnTo>
                <a:lnTo>
                  <a:pt x="75" y="230"/>
                </a:lnTo>
                <a:lnTo>
                  <a:pt x="65" y="224"/>
                </a:lnTo>
                <a:lnTo>
                  <a:pt x="56" y="215"/>
                </a:lnTo>
                <a:lnTo>
                  <a:pt x="44" y="205"/>
                </a:lnTo>
                <a:lnTo>
                  <a:pt x="35" y="195"/>
                </a:lnTo>
                <a:lnTo>
                  <a:pt x="23" y="184"/>
                </a:lnTo>
                <a:lnTo>
                  <a:pt x="12" y="172"/>
                </a:lnTo>
                <a:lnTo>
                  <a:pt x="0" y="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67"/>
          <p:cNvSpPr/>
          <p:nvPr/>
        </p:nvSpPr>
        <p:spPr>
          <a:xfrm>
            <a:off x="6561000" y="3022560"/>
            <a:ext cx="276480" cy="1417680"/>
          </a:xfrm>
          <a:custGeom>
            <a:avLst/>
            <a:gdLst/>
            <a:ahLst/>
            <a:rect l="l" t="t" r="r" b="b"/>
            <a:pathLst>
              <a:path w="347" h="1785">
                <a:moveTo>
                  <a:pt x="140" y="1785"/>
                </a:moveTo>
                <a:lnTo>
                  <a:pt x="0" y="1785"/>
                </a:lnTo>
                <a:lnTo>
                  <a:pt x="5" y="1735"/>
                </a:lnTo>
                <a:lnTo>
                  <a:pt x="11" y="1687"/>
                </a:lnTo>
                <a:lnTo>
                  <a:pt x="17" y="1639"/>
                </a:lnTo>
                <a:lnTo>
                  <a:pt x="23" y="1591"/>
                </a:lnTo>
                <a:lnTo>
                  <a:pt x="28" y="1545"/>
                </a:lnTo>
                <a:lnTo>
                  <a:pt x="32" y="1501"/>
                </a:lnTo>
                <a:lnTo>
                  <a:pt x="38" y="1457"/>
                </a:lnTo>
                <a:lnTo>
                  <a:pt x="44" y="1413"/>
                </a:lnTo>
                <a:lnTo>
                  <a:pt x="49" y="1370"/>
                </a:lnTo>
                <a:lnTo>
                  <a:pt x="53" y="1330"/>
                </a:lnTo>
                <a:lnTo>
                  <a:pt x="59" y="1290"/>
                </a:lnTo>
                <a:lnTo>
                  <a:pt x="65" y="1249"/>
                </a:lnTo>
                <a:lnTo>
                  <a:pt x="69" y="1211"/>
                </a:lnTo>
                <a:lnTo>
                  <a:pt x="74" y="1175"/>
                </a:lnTo>
                <a:lnTo>
                  <a:pt x="78" y="1138"/>
                </a:lnTo>
                <a:lnTo>
                  <a:pt x="82" y="1104"/>
                </a:lnTo>
                <a:lnTo>
                  <a:pt x="88" y="1069"/>
                </a:lnTo>
                <a:lnTo>
                  <a:pt x="92" y="1035"/>
                </a:lnTo>
                <a:lnTo>
                  <a:pt x="96" y="1004"/>
                </a:lnTo>
                <a:lnTo>
                  <a:pt x="99" y="973"/>
                </a:lnTo>
                <a:lnTo>
                  <a:pt x="103" y="942"/>
                </a:lnTo>
                <a:lnTo>
                  <a:pt x="107" y="914"/>
                </a:lnTo>
                <a:lnTo>
                  <a:pt x="111" y="885"/>
                </a:lnTo>
                <a:lnTo>
                  <a:pt x="115" y="858"/>
                </a:lnTo>
                <a:lnTo>
                  <a:pt x="119" y="833"/>
                </a:lnTo>
                <a:lnTo>
                  <a:pt x="122" y="808"/>
                </a:lnTo>
                <a:lnTo>
                  <a:pt x="124" y="783"/>
                </a:lnTo>
                <a:lnTo>
                  <a:pt x="128" y="762"/>
                </a:lnTo>
                <a:lnTo>
                  <a:pt x="130" y="739"/>
                </a:lnTo>
                <a:lnTo>
                  <a:pt x="134" y="720"/>
                </a:lnTo>
                <a:lnTo>
                  <a:pt x="136" y="701"/>
                </a:lnTo>
                <a:lnTo>
                  <a:pt x="140" y="681"/>
                </a:lnTo>
                <a:lnTo>
                  <a:pt x="142" y="647"/>
                </a:lnTo>
                <a:lnTo>
                  <a:pt x="144" y="614"/>
                </a:lnTo>
                <a:lnTo>
                  <a:pt x="145" y="583"/>
                </a:lnTo>
                <a:lnTo>
                  <a:pt x="147" y="555"/>
                </a:lnTo>
                <a:lnTo>
                  <a:pt x="149" y="526"/>
                </a:lnTo>
                <a:lnTo>
                  <a:pt x="153" y="501"/>
                </a:lnTo>
                <a:lnTo>
                  <a:pt x="155" y="476"/>
                </a:lnTo>
                <a:lnTo>
                  <a:pt x="157" y="453"/>
                </a:lnTo>
                <a:lnTo>
                  <a:pt x="157" y="432"/>
                </a:lnTo>
                <a:lnTo>
                  <a:pt x="159" y="413"/>
                </a:lnTo>
                <a:lnTo>
                  <a:pt x="161" y="395"/>
                </a:lnTo>
                <a:lnTo>
                  <a:pt x="163" y="380"/>
                </a:lnTo>
                <a:lnTo>
                  <a:pt x="163" y="367"/>
                </a:lnTo>
                <a:lnTo>
                  <a:pt x="163" y="353"/>
                </a:lnTo>
                <a:lnTo>
                  <a:pt x="165" y="342"/>
                </a:lnTo>
                <a:lnTo>
                  <a:pt x="165" y="334"/>
                </a:lnTo>
                <a:lnTo>
                  <a:pt x="165" y="324"/>
                </a:lnTo>
                <a:lnTo>
                  <a:pt x="163" y="315"/>
                </a:lnTo>
                <a:lnTo>
                  <a:pt x="163" y="303"/>
                </a:lnTo>
                <a:lnTo>
                  <a:pt x="163" y="290"/>
                </a:lnTo>
                <a:lnTo>
                  <a:pt x="161" y="274"/>
                </a:lnTo>
                <a:lnTo>
                  <a:pt x="159" y="259"/>
                </a:lnTo>
                <a:lnTo>
                  <a:pt x="157" y="240"/>
                </a:lnTo>
                <a:lnTo>
                  <a:pt x="157" y="221"/>
                </a:lnTo>
                <a:lnTo>
                  <a:pt x="155" y="200"/>
                </a:lnTo>
                <a:lnTo>
                  <a:pt x="153" y="177"/>
                </a:lnTo>
                <a:lnTo>
                  <a:pt x="149" y="152"/>
                </a:lnTo>
                <a:lnTo>
                  <a:pt x="147" y="125"/>
                </a:lnTo>
                <a:lnTo>
                  <a:pt x="145" y="96"/>
                </a:lnTo>
                <a:lnTo>
                  <a:pt x="145" y="82"/>
                </a:lnTo>
                <a:lnTo>
                  <a:pt x="144" y="67"/>
                </a:lnTo>
                <a:lnTo>
                  <a:pt x="142" y="50"/>
                </a:lnTo>
                <a:lnTo>
                  <a:pt x="142" y="34"/>
                </a:lnTo>
                <a:lnTo>
                  <a:pt x="140" y="17"/>
                </a:lnTo>
                <a:lnTo>
                  <a:pt x="140" y="0"/>
                </a:lnTo>
                <a:lnTo>
                  <a:pt x="161" y="19"/>
                </a:lnTo>
                <a:lnTo>
                  <a:pt x="184" y="36"/>
                </a:lnTo>
                <a:lnTo>
                  <a:pt x="203" y="52"/>
                </a:lnTo>
                <a:lnTo>
                  <a:pt x="222" y="69"/>
                </a:lnTo>
                <a:lnTo>
                  <a:pt x="239" y="82"/>
                </a:lnTo>
                <a:lnTo>
                  <a:pt x="255" y="96"/>
                </a:lnTo>
                <a:lnTo>
                  <a:pt x="270" y="109"/>
                </a:lnTo>
                <a:lnTo>
                  <a:pt x="282" y="121"/>
                </a:lnTo>
                <a:lnTo>
                  <a:pt x="295" y="132"/>
                </a:lnTo>
                <a:lnTo>
                  <a:pt x="305" y="142"/>
                </a:lnTo>
                <a:lnTo>
                  <a:pt x="314" y="152"/>
                </a:lnTo>
                <a:lnTo>
                  <a:pt x="322" y="161"/>
                </a:lnTo>
                <a:lnTo>
                  <a:pt x="328" y="169"/>
                </a:lnTo>
                <a:lnTo>
                  <a:pt x="334" y="177"/>
                </a:lnTo>
                <a:lnTo>
                  <a:pt x="337" y="182"/>
                </a:lnTo>
                <a:lnTo>
                  <a:pt x="341" y="188"/>
                </a:lnTo>
                <a:lnTo>
                  <a:pt x="343" y="196"/>
                </a:lnTo>
                <a:lnTo>
                  <a:pt x="345" y="205"/>
                </a:lnTo>
                <a:lnTo>
                  <a:pt x="345" y="215"/>
                </a:lnTo>
                <a:lnTo>
                  <a:pt x="347" y="226"/>
                </a:lnTo>
                <a:lnTo>
                  <a:pt x="347" y="238"/>
                </a:lnTo>
                <a:lnTo>
                  <a:pt x="347" y="249"/>
                </a:lnTo>
                <a:lnTo>
                  <a:pt x="345" y="263"/>
                </a:lnTo>
                <a:lnTo>
                  <a:pt x="345" y="274"/>
                </a:lnTo>
                <a:lnTo>
                  <a:pt x="343" y="290"/>
                </a:lnTo>
                <a:lnTo>
                  <a:pt x="341" y="303"/>
                </a:lnTo>
                <a:lnTo>
                  <a:pt x="339" y="319"/>
                </a:lnTo>
                <a:lnTo>
                  <a:pt x="337" y="336"/>
                </a:lnTo>
                <a:lnTo>
                  <a:pt x="335" y="351"/>
                </a:lnTo>
                <a:lnTo>
                  <a:pt x="334" y="368"/>
                </a:lnTo>
                <a:lnTo>
                  <a:pt x="332" y="388"/>
                </a:lnTo>
                <a:lnTo>
                  <a:pt x="330" y="407"/>
                </a:lnTo>
                <a:lnTo>
                  <a:pt x="326" y="416"/>
                </a:lnTo>
                <a:lnTo>
                  <a:pt x="324" y="430"/>
                </a:lnTo>
                <a:lnTo>
                  <a:pt x="320" y="443"/>
                </a:lnTo>
                <a:lnTo>
                  <a:pt x="318" y="461"/>
                </a:lnTo>
                <a:lnTo>
                  <a:pt x="314" y="480"/>
                </a:lnTo>
                <a:lnTo>
                  <a:pt x="311" y="501"/>
                </a:lnTo>
                <a:lnTo>
                  <a:pt x="307" y="524"/>
                </a:lnTo>
                <a:lnTo>
                  <a:pt x="303" y="551"/>
                </a:lnTo>
                <a:lnTo>
                  <a:pt x="299" y="578"/>
                </a:lnTo>
                <a:lnTo>
                  <a:pt x="293" y="606"/>
                </a:lnTo>
                <a:lnTo>
                  <a:pt x="289" y="639"/>
                </a:lnTo>
                <a:lnTo>
                  <a:pt x="284" y="672"/>
                </a:lnTo>
                <a:lnTo>
                  <a:pt x="278" y="708"/>
                </a:lnTo>
                <a:lnTo>
                  <a:pt x="274" y="747"/>
                </a:lnTo>
                <a:lnTo>
                  <a:pt x="268" y="787"/>
                </a:lnTo>
                <a:lnTo>
                  <a:pt x="263" y="829"/>
                </a:lnTo>
                <a:lnTo>
                  <a:pt x="255" y="873"/>
                </a:lnTo>
                <a:lnTo>
                  <a:pt x="249" y="919"/>
                </a:lnTo>
                <a:lnTo>
                  <a:pt x="243" y="967"/>
                </a:lnTo>
                <a:lnTo>
                  <a:pt x="236" y="1019"/>
                </a:lnTo>
                <a:lnTo>
                  <a:pt x="230" y="1071"/>
                </a:lnTo>
                <a:lnTo>
                  <a:pt x="222" y="1125"/>
                </a:lnTo>
                <a:lnTo>
                  <a:pt x="215" y="1182"/>
                </a:lnTo>
                <a:lnTo>
                  <a:pt x="207" y="1242"/>
                </a:lnTo>
                <a:lnTo>
                  <a:pt x="199" y="1301"/>
                </a:lnTo>
                <a:lnTo>
                  <a:pt x="192" y="1365"/>
                </a:lnTo>
                <a:lnTo>
                  <a:pt x="182" y="1430"/>
                </a:lnTo>
                <a:lnTo>
                  <a:pt x="174" y="1497"/>
                </a:lnTo>
                <a:lnTo>
                  <a:pt x="167" y="1566"/>
                </a:lnTo>
                <a:lnTo>
                  <a:pt x="157" y="1637"/>
                </a:lnTo>
                <a:lnTo>
                  <a:pt x="147" y="1710"/>
                </a:lnTo>
                <a:lnTo>
                  <a:pt x="140" y="17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68"/>
          <p:cNvSpPr/>
          <p:nvPr/>
        </p:nvSpPr>
        <p:spPr>
          <a:xfrm>
            <a:off x="5405400" y="4113360"/>
            <a:ext cx="863640" cy="525240"/>
          </a:xfrm>
          <a:custGeom>
            <a:avLst/>
            <a:gdLst/>
            <a:ahLst/>
            <a:rect l="l" t="t" r="r" b="b"/>
            <a:pathLst>
              <a:path w="1088" h="663">
                <a:moveTo>
                  <a:pt x="671" y="371"/>
                </a:moveTo>
                <a:lnTo>
                  <a:pt x="645" y="388"/>
                </a:lnTo>
                <a:lnTo>
                  <a:pt x="620" y="407"/>
                </a:lnTo>
                <a:lnTo>
                  <a:pt x="597" y="425"/>
                </a:lnTo>
                <a:lnTo>
                  <a:pt x="572" y="442"/>
                </a:lnTo>
                <a:lnTo>
                  <a:pt x="551" y="459"/>
                </a:lnTo>
                <a:lnTo>
                  <a:pt x="528" y="474"/>
                </a:lnTo>
                <a:lnTo>
                  <a:pt x="506" y="490"/>
                </a:lnTo>
                <a:lnTo>
                  <a:pt x="485" y="503"/>
                </a:lnTo>
                <a:lnTo>
                  <a:pt x="466" y="519"/>
                </a:lnTo>
                <a:lnTo>
                  <a:pt x="447" y="532"/>
                </a:lnTo>
                <a:lnTo>
                  <a:pt x="428" y="544"/>
                </a:lnTo>
                <a:lnTo>
                  <a:pt x="410" y="557"/>
                </a:lnTo>
                <a:lnTo>
                  <a:pt x="393" y="567"/>
                </a:lnTo>
                <a:lnTo>
                  <a:pt x="378" y="578"/>
                </a:lnTo>
                <a:lnTo>
                  <a:pt x="361" y="588"/>
                </a:lnTo>
                <a:lnTo>
                  <a:pt x="347" y="597"/>
                </a:lnTo>
                <a:lnTo>
                  <a:pt x="332" y="607"/>
                </a:lnTo>
                <a:lnTo>
                  <a:pt x="318" y="615"/>
                </a:lnTo>
                <a:lnTo>
                  <a:pt x="307" y="622"/>
                </a:lnTo>
                <a:lnTo>
                  <a:pt x="293" y="630"/>
                </a:lnTo>
                <a:lnTo>
                  <a:pt x="282" y="636"/>
                </a:lnTo>
                <a:lnTo>
                  <a:pt x="272" y="641"/>
                </a:lnTo>
                <a:lnTo>
                  <a:pt x="261" y="645"/>
                </a:lnTo>
                <a:lnTo>
                  <a:pt x="251" y="649"/>
                </a:lnTo>
                <a:lnTo>
                  <a:pt x="243" y="653"/>
                </a:lnTo>
                <a:lnTo>
                  <a:pt x="236" y="657"/>
                </a:lnTo>
                <a:lnTo>
                  <a:pt x="228" y="659"/>
                </a:lnTo>
                <a:lnTo>
                  <a:pt x="222" y="661"/>
                </a:lnTo>
                <a:lnTo>
                  <a:pt x="215" y="661"/>
                </a:lnTo>
                <a:lnTo>
                  <a:pt x="211" y="663"/>
                </a:lnTo>
                <a:lnTo>
                  <a:pt x="205" y="661"/>
                </a:lnTo>
                <a:lnTo>
                  <a:pt x="201" y="661"/>
                </a:lnTo>
                <a:lnTo>
                  <a:pt x="188" y="655"/>
                </a:lnTo>
                <a:lnTo>
                  <a:pt x="171" y="647"/>
                </a:lnTo>
                <a:lnTo>
                  <a:pt x="155" y="638"/>
                </a:lnTo>
                <a:lnTo>
                  <a:pt x="147" y="632"/>
                </a:lnTo>
                <a:lnTo>
                  <a:pt x="138" y="626"/>
                </a:lnTo>
                <a:lnTo>
                  <a:pt x="130" y="618"/>
                </a:lnTo>
                <a:lnTo>
                  <a:pt x="123" y="613"/>
                </a:lnTo>
                <a:lnTo>
                  <a:pt x="113" y="605"/>
                </a:lnTo>
                <a:lnTo>
                  <a:pt x="105" y="597"/>
                </a:lnTo>
                <a:lnTo>
                  <a:pt x="98" y="588"/>
                </a:lnTo>
                <a:lnTo>
                  <a:pt x="90" y="578"/>
                </a:lnTo>
                <a:lnTo>
                  <a:pt x="82" y="568"/>
                </a:lnTo>
                <a:lnTo>
                  <a:pt x="75" y="559"/>
                </a:lnTo>
                <a:lnTo>
                  <a:pt x="65" y="547"/>
                </a:lnTo>
                <a:lnTo>
                  <a:pt x="57" y="538"/>
                </a:lnTo>
                <a:lnTo>
                  <a:pt x="50" y="526"/>
                </a:lnTo>
                <a:lnTo>
                  <a:pt x="42" y="517"/>
                </a:lnTo>
                <a:lnTo>
                  <a:pt x="34" y="509"/>
                </a:lnTo>
                <a:lnTo>
                  <a:pt x="28" y="499"/>
                </a:lnTo>
                <a:lnTo>
                  <a:pt x="23" y="490"/>
                </a:lnTo>
                <a:lnTo>
                  <a:pt x="19" y="482"/>
                </a:lnTo>
                <a:lnTo>
                  <a:pt x="13" y="474"/>
                </a:lnTo>
                <a:lnTo>
                  <a:pt x="9" y="467"/>
                </a:lnTo>
                <a:lnTo>
                  <a:pt x="5" y="459"/>
                </a:lnTo>
                <a:lnTo>
                  <a:pt x="4" y="451"/>
                </a:lnTo>
                <a:lnTo>
                  <a:pt x="2" y="446"/>
                </a:lnTo>
                <a:lnTo>
                  <a:pt x="0" y="440"/>
                </a:lnTo>
                <a:lnTo>
                  <a:pt x="0" y="434"/>
                </a:lnTo>
                <a:lnTo>
                  <a:pt x="0" y="428"/>
                </a:lnTo>
                <a:lnTo>
                  <a:pt x="0" y="423"/>
                </a:lnTo>
                <a:lnTo>
                  <a:pt x="0" y="417"/>
                </a:lnTo>
                <a:lnTo>
                  <a:pt x="2" y="413"/>
                </a:lnTo>
                <a:lnTo>
                  <a:pt x="4" y="409"/>
                </a:lnTo>
                <a:lnTo>
                  <a:pt x="5" y="405"/>
                </a:lnTo>
                <a:lnTo>
                  <a:pt x="9" y="401"/>
                </a:lnTo>
                <a:lnTo>
                  <a:pt x="13" y="400"/>
                </a:lnTo>
                <a:lnTo>
                  <a:pt x="17" y="398"/>
                </a:lnTo>
                <a:lnTo>
                  <a:pt x="23" y="396"/>
                </a:lnTo>
                <a:lnTo>
                  <a:pt x="28" y="394"/>
                </a:lnTo>
                <a:lnTo>
                  <a:pt x="34" y="394"/>
                </a:lnTo>
                <a:lnTo>
                  <a:pt x="42" y="392"/>
                </a:lnTo>
                <a:lnTo>
                  <a:pt x="50" y="394"/>
                </a:lnTo>
                <a:lnTo>
                  <a:pt x="57" y="394"/>
                </a:lnTo>
                <a:lnTo>
                  <a:pt x="65" y="396"/>
                </a:lnTo>
                <a:lnTo>
                  <a:pt x="75" y="400"/>
                </a:lnTo>
                <a:lnTo>
                  <a:pt x="94" y="403"/>
                </a:lnTo>
                <a:lnTo>
                  <a:pt x="111" y="409"/>
                </a:lnTo>
                <a:lnTo>
                  <a:pt x="126" y="413"/>
                </a:lnTo>
                <a:lnTo>
                  <a:pt x="142" y="417"/>
                </a:lnTo>
                <a:lnTo>
                  <a:pt x="155" y="419"/>
                </a:lnTo>
                <a:lnTo>
                  <a:pt x="161" y="419"/>
                </a:lnTo>
                <a:lnTo>
                  <a:pt x="169" y="419"/>
                </a:lnTo>
                <a:lnTo>
                  <a:pt x="174" y="419"/>
                </a:lnTo>
                <a:lnTo>
                  <a:pt x="178" y="417"/>
                </a:lnTo>
                <a:lnTo>
                  <a:pt x="184" y="415"/>
                </a:lnTo>
                <a:lnTo>
                  <a:pt x="190" y="413"/>
                </a:lnTo>
                <a:lnTo>
                  <a:pt x="192" y="413"/>
                </a:lnTo>
                <a:lnTo>
                  <a:pt x="194" y="413"/>
                </a:lnTo>
                <a:lnTo>
                  <a:pt x="195" y="411"/>
                </a:lnTo>
                <a:lnTo>
                  <a:pt x="199" y="411"/>
                </a:lnTo>
                <a:lnTo>
                  <a:pt x="205" y="409"/>
                </a:lnTo>
                <a:lnTo>
                  <a:pt x="209" y="407"/>
                </a:lnTo>
                <a:lnTo>
                  <a:pt x="215" y="405"/>
                </a:lnTo>
                <a:lnTo>
                  <a:pt x="222" y="401"/>
                </a:lnTo>
                <a:lnTo>
                  <a:pt x="230" y="400"/>
                </a:lnTo>
                <a:lnTo>
                  <a:pt x="238" y="396"/>
                </a:lnTo>
                <a:lnTo>
                  <a:pt x="247" y="392"/>
                </a:lnTo>
                <a:lnTo>
                  <a:pt x="255" y="388"/>
                </a:lnTo>
                <a:lnTo>
                  <a:pt x="266" y="384"/>
                </a:lnTo>
                <a:lnTo>
                  <a:pt x="276" y="378"/>
                </a:lnTo>
                <a:lnTo>
                  <a:pt x="288" y="375"/>
                </a:lnTo>
                <a:lnTo>
                  <a:pt x="301" y="369"/>
                </a:lnTo>
                <a:lnTo>
                  <a:pt x="313" y="363"/>
                </a:lnTo>
                <a:lnTo>
                  <a:pt x="326" y="355"/>
                </a:lnTo>
                <a:lnTo>
                  <a:pt x="341" y="350"/>
                </a:lnTo>
                <a:lnTo>
                  <a:pt x="355" y="342"/>
                </a:lnTo>
                <a:lnTo>
                  <a:pt x="370" y="334"/>
                </a:lnTo>
                <a:lnTo>
                  <a:pt x="387" y="327"/>
                </a:lnTo>
                <a:lnTo>
                  <a:pt x="405" y="319"/>
                </a:lnTo>
                <a:lnTo>
                  <a:pt x="422" y="309"/>
                </a:lnTo>
                <a:lnTo>
                  <a:pt x="439" y="302"/>
                </a:lnTo>
                <a:lnTo>
                  <a:pt x="458" y="292"/>
                </a:lnTo>
                <a:lnTo>
                  <a:pt x="478" y="281"/>
                </a:lnTo>
                <a:lnTo>
                  <a:pt x="497" y="271"/>
                </a:lnTo>
                <a:lnTo>
                  <a:pt x="518" y="259"/>
                </a:lnTo>
                <a:lnTo>
                  <a:pt x="537" y="248"/>
                </a:lnTo>
                <a:lnTo>
                  <a:pt x="560" y="236"/>
                </a:lnTo>
                <a:lnTo>
                  <a:pt x="581" y="225"/>
                </a:lnTo>
                <a:lnTo>
                  <a:pt x="604" y="211"/>
                </a:lnTo>
                <a:lnTo>
                  <a:pt x="625" y="200"/>
                </a:lnTo>
                <a:lnTo>
                  <a:pt x="647" y="188"/>
                </a:lnTo>
                <a:lnTo>
                  <a:pt x="668" y="177"/>
                </a:lnTo>
                <a:lnTo>
                  <a:pt x="687" y="167"/>
                </a:lnTo>
                <a:lnTo>
                  <a:pt x="708" y="156"/>
                </a:lnTo>
                <a:lnTo>
                  <a:pt x="727" y="146"/>
                </a:lnTo>
                <a:lnTo>
                  <a:pt x="744" y="137"/>
                </a:lnTo>
                <a:lnTo>
                  <a:pt x="764" y="127"/>
                </a:lnTo>
                <a:lnTo>
                  <a:pt x="781" y="117"/>
                </a:lnTo>
                <a:lnTo>
                  <a:pt x="798" y="110"/>
                </a:lnTo>
                <a:lnTo>
                  <a:pt x="814" y="102"/>
                </a:lnTo>
                <a:lnTo>
                  <a:pt x="829" y="92"/>
                </a:lnTo>
                <a:lnTo>
                  <a:pt x="844" y="85"/>
                </a:lnTo>
                <a:lnTo>
                  <a:pt x="860" y="79"/>
                </a:lnTo>
                <a:lnTo>
                  <a:pt x="873" y="71"/>
                </a:lnTo>
                <a:lnTo>
                  <a:pt x="886" y="66"/>
                </a:lnTo>
                <a:lnTo>
                  <a:pt x="900" y="58"/>
                </a:lnTo>
                <a:lnTo>
                  <a:pt x="911" y="52"/>
                </a:lnTo>
                <a:lnTo>
                  <a:pt x="923" y="46"/>
                </a:lnTo>
                <a:lnTo>
                  <a:pt x="934" y="43"/>
                </a:lnTo>
                <a:lnTo>
                  <a:pt x="944" y="37"/>
                </a:lnTo>
                <a:lnTo>
                  <a:pt x="954" y="33"/>
                </a:lnTo>
                <a:lnTo>
                  <a:pt x="963" y="29"/>
                </a:lnTo>
                <a:lnTo>
                  <a:pt x="971" y="25"/>
                </a:lnTo>
                <a:lnTo>
                  <a:pt x="979" y="21"/>
                </a:lnTo>
                <a:lnTo>
                  <a:pt x="986" y="18"/>
                </a:lnTo>
                <a:lnTo>
                  <a:pt x="994" y="16"/>
                </a:lnTo>
                <a:lnTo>
                  <a:pt x="1000" y="12"/>
                </a:lnTo>
                <a:lnTo>
                  <a:pt x="1004" y="10"/>
                </a:lnTo>
                <a:lnTo>
                  <a:pt x="1009" y="8"/>
                </a:lnTo>
                <a:lnTo>
                  <a:pt x="1013" y="6"/>
                </a:lnTo>
                <a:lnTo>
                  <a:pt x="1019" y="4"/>
                </a:lnTo>
                <a:lnTo>
                  <a:pt x="1027" y="2"/>
                </a:lnTo>
                <a:lnTo>
                  <a:pt x="1032" y="0"/>
                </a:lnTo>
                <a:lnTo>
                  <a:pt x="1038" y="0"/>
                </a:lnTo>
                <a:lnTo>
                  <a:pt x="1044" y="0"/>
                </a:lnTo>
                <a:lnTo>
                  <a:pt x="1050" y="0"/>
                </a:lnTo>
                <a:lnTo>
                  <a:pt x="1059" y="2"/>
                </a:lnTo>
                <a:lnTo>
                  <a:pt x="1069" y="6"/>
                </a:lnTo>
                <a:lnTo>
                  <a:pt x="1077" y="10"/>
                </a:lnTo>
                <a:lnTo>
                  <a:pt x="1084" y="16"/>
                </a:lnTo>
                <a:lnTo>
                  <a:pt x="1088" y="21"/>
                </a:lnTo>
                <a:lnTo>
                  <a:pt x="1088" y="23"/>
                </a:lnTo>
                <a:lnTo>
                  <a:pt x="1086" y="25"/>
                </a:lnTo>
                <a:lnTo>
                  <a:pt x="1084" y="27"/>
                </a:lnTo>
                <a:lnTo>
                  <a:pt x="1082" y="31"/>
                </a:lnTo>
                <a:lnTo>
                  <a:pt x="1078" y="35"/>
                </a:lnTo>
                <a:lnTo>
                  <a:pt x="1075" y="41"/>
                </a:lnTo>
                <a:lnTo>
                  <a:pt x="1069" y="44"/>
                </a:lnTo>
                <a:lnTo>
                  <a:pt x="1063" y="50"/>
                </a:lnTo>
                <a:lnTo>
                  <a:pt x="1055" y="58"/>
                </a:lnTo>
                <a:lnTo>
                  <a:pt x="1048" y="64"/>
                </a:lnTo>
                <a:lnTo>
                  <a:pt x="1038" y="71"/>
                </a:lnTo>
                <a:lnTo>
                  <a:pt x="1029" y="79"/>
                </a:lnTo>
                <a:lnTo>
                  <a:pt x="1019" y="89"/>
                </a:lnTo>
                <a:lnTo>
                  <a:pt x="1007" y="98"/>
                </a:lnTo>
                <a:lnTo>
                  <a:pt x="996" y="108"/>
                </a:lnTo>
                <a:lnTo>
                  <a:pt x="982" y="117"/>
                </a:lnTo>
                <a:lnTo>
                  <a:pt x="969" y="129"/>
                </a:lnTo>
                <a:lnTo>
                  <a:pt x="956" y="140"/>
                </a:lnTo>
                <a:lnTo>
                  <a:pt x="940" y="154"/>
                </a:lnTo>
                <a:lnTo>
                  <a:pt x="925" y="167"/>
                </a:lnTo>
                <a:lnTo>
                  <a:pt x="908" y="181"/>
                </a:lnTo>
                <a:lnTo>
                  <a:pt x="890" y="194"/>
                </a:lnTo>
                <a:lnTo>
                  <a:pt x="871" y="210"/>
                </a:lnTo>
                <a:lnTo>
                  <a:pt x="852" y="225"/>
                </a:lnTo>
                <a:lnTo>
                  <a:pt x="833" y="240"/>
                </a:lnTo>
                <a:lnTo>
                  <a:pt x="812" y="258"/>
                </a:lnTo>
                <a:lnTo>
                  <a:pt x="791" y="275"/>
                </a:lnTo>
                <a:lnTo>
                  <a:pt x="767" y="292"/>
                </a:lnTo>
                <a:lnTo>
                  <a:pt x="744" y="311"/>
                </a:lnTo>
                <a:lnTo>
                  <a:pt x="721" y="330"/>
                </a:lnTo>
                <a:lnTo>
                  <a:pt x="696" y="350"/>
                </a:lnTo>
                <a:lnTo>
                  <a:pt x="671" y="3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69"/>
          <p:cNvSpPr/>
          <p:nvPr/>
        </p:nvSpPr>
        <p:spPr>
          <a:xfrm>
            <a:off x="5592600" y="2933640"/>
            <a:ext cx="750960" cy="1138320"/>
          </a:xfrm>
          <a:custGeom>
            <a:avLst/>
            <a:gdLst/>
            <a:ahLst/>
            <a:rect l="l" t="t" r="r" b="b"/>
            <a:pathLst>
              <a:path w="946" h="1434">
                <a:moveTo>
                  <a:pt x="549" y="1201"/>
                </a:moveTo>
                <a:lnTo>
                  <a:pt x="530" y="1209"/>
                </a:lnTo>
                <a:lnTo>
                  <a:pt x="510" y="1217"/>
                </a:lnTo>
                <a:lnTo>
                  <a:pt x="491" y="1226"/>
                </a:lnTo>
                <a:lnTo>
                  <a:pt x="472" y="1234"/>
                </a:lnTo>
                <a:lnTo>
                  <a:pt x="455" y="1240"/>
                </a:lnTo>
                <a:lnTo>
                  <a:pt x="439" y="1247"/>
                </a:lnTo>
                <a:lnTo>
                  <a:pt x="422" y="1255"/>
                </a:lnTo>
                <a:lnTo>
                  <a:pt x="407" y="1263"/>
                </a:lnTo>
                <a:lnTo>
                  <a:pt x="391" y="1268"/>
                </a:lnTo>
                <a:lnTo>
                  <a:pt x="376" y="1276"/>
                </a:lnTo>
                <a:lnTo>
                  <a:pt x="363" y="1282"/>
                </a:lnTo>
                <a:lnTo>
                  <a:pt x="349" y="1288"/>
                </a:lnTo>
                <a:lnTo>
                  <a:pt x="336" y="1293"/>
                </a:lnTo>
                <a:lnTo>
                  <a:pt x="324" y="1299"/>
                </a:lnTo>
                <a:lnTo>
                  <a:pt x="313" y="1305"/>
                </a:lnTo>
                <a:lnTo>
                  <a:pt x="301" y="1311"/>
                </a:lnTo>
                <a:lnTo>
                  <a:pt x="292" y="1316"/>
                </a:lnTo>
                <a:lnTo>
                  <a:pt x="282" y="1322"/>
                </a:lnTo>
                <a:lnTo>
                  <a:pt x="272" y="1326"/>
                </a:lnTo>
                <a:lnTo>
                  <a:pt x="263" y="1332"/>
                </a:lnTo>
                <a:lnTo>
                  <a:pt x="255" y="1336"/>
                </a:lnTo>
                <a:lnTo>
                  <a:pt x="247" y="1339"/>
                </a:lnTo>
                <a:lnTo>
                  <a:pt x="242" y="1345"/>
                </a:lnTo>
                <a:lnTo>
                  <a:pt x="236" y="1349"/>
                </a:lnTo>
                <a:lnTo>
                  <a:pt x="230" y="1353"/>
                </a:lnTo>
                <a:lnTo>
                  <a:pt x="224" y="1357"/>
                </a:lnTo>
                <a:lnTo>
                  <a:pt x="221" y="1361"/>
                </a:lnTo>
                <a:lnTo>
                  <a:pt x="217" y="1362"/>
                </a:lnTo>
                <a:lnTo>
                  <a:pt x="213" y="1366"/>
                </a:lnTo>
                <a:lnTo>
                  <a:pt x="211" y="1370"/>
                </a:lnTo>
                <a:lnTo>
                  <a:pt x="209" y="1372"/>
                </a:lnTo>
                <a:lnTo>
                  <a:pt x="207" y="1376"/>
                </a:lnTo>
                <a:lnTo>
                  <a:pt x="201" y="1384"/>
                </a:lnTo>
                <a:lnTo>
                  <a:pt x="197" y="1391"/>
                </a:lnTo>
                <a:lnTo>
                  <a:pt x="192" y="1397"/>
                </a:lnTo>
                <a:lnTo>
                  <a:pt x="188" y="1403"/>
                </a:lnTo>
                <a:lnTo>
                  <a:pt x="182" y="1409"/>
                </a:lnTo>
                <a:lnTo>
                  <a:pt x="178" y="1412"/>
                </a:lnTo>
                <a:lnTo>
                  <a:pt x="173" y="1418"/>
                </a:lnTo>
                <a:lnTo>
                  <a:pt x="169" y="1420"/>
                </a:lnTo>
                <a:lnTo>
                  <a:pt x="163" y="1424"/>
                </a:lnTo>
                <a:lnTo>
                  <a:pt x="159" y="1426"/>
                </a:lnTo>
                <a:lnTo>
                  <a:pt x="149" y="1430"/>
                </a:lnTo>
                <a:lnTo>
                  <a:pt x="140" y="1434"/>
                </a:lnTo>
                <a:lnTo>
                  <a:pt x="130" y="1434"/>
                </a:lnTo>
                <a:lnTo>
                  <a:pt x="126" y="1434"/>
                </a:lnTo>
                <a:lnTo>
                  <a:pt x="121" y="1432"/>
                </a:lnTo>
                <a:lnTo>
                  <a:pt x="117" y="1430"/>
                </a:lnTo>
                <a:lnTo>
                  <a:pt x="111" y="1428"/>
                </a:lnTo>
                <a:lnTo>
                  <a:pt x="105" y="1426"/>
                </a:lnTo>
                <a:lnTo>
                  <a:pt x="102" y="1422"/>
                </a:lnTo>
                <a:lnTo>
                  <a:pt x="96" y="1416"/>
                </a:lnTo>
                <a:lnTo>
                  <a:pt x="90" y="1412"/>
                </a:lnTo>
                <a:lnTo>
                  <a:pt x="84" y="1407"/>
                </a:lnTo>
                <a:lnTo>
                  <a:pt x="78" y="1399"/>
                </a:lnTo>
                <a:lnTo>
                  <a:pt x="73" y="1393"/>
                </a:lnTo>
                <a:lnTo>
                  <a:pt x="67" y="1386"/>
                </a:lnTo>
                <a:lnTo>
                  <a:pt x="61" y="1376"/>
                </a:lnTo>
                <a:lnTo>
                  <a:pt x="55" y="1366"/>
                </a:lnTo>
                <a:lnTo>
                  <a:pt x="48" y="1357"/>
                </a:lnTo>
                <a:lnTo>
                  <a:pt x="42" y="1347"/>
                </a:lnTo>
                <a:lnTo>
                  <a:pt x="34" y="1338"/>
                </a:lnTo>
                <a:lnTo>
                  <a:pt x="29" y="1330"/>
                </a:lnTo>
                <a:lnTo>
                  <a:pt x="23" y="1322"/>
                </a:lnTo>
                <a:lnTo>
                  <a:pt x="19" y="1315"/>
                </a:lnTo>
                <a:lnTo>
                  <a:pt x="13" y="1307"/>
                </a:lnTo>
                <a:lnTo>
                  <a:pt x="9" y="1297"/>
                </a:lnTo>
                <a:lnTo>
                  <a:pt x="7" y="1290"/>
                </a:lnTo>
                <a:lnTo>
                  <a:pt x="4" y="1284"/>
                </a:lnTo>
                <a:lnTo>
                  <a:pt x="2" y="1276"/>
                </a:lnTo>
                <a:lnTo>
                  <a:pt x="0" y="1268"/>
                </a:lnTo>
                <a:lnTo>
                  <a:pt x="0" y="1261"/>
                </a:lnTo>
                <a:lnTo>
                  <a:pt x="0" y="1255"/>
                </a:lnTo>
                <a:lnTo>
                  <a:pt x="0" y="1247"/>
                </a:lnTo>
                <a:lnTo>
                  <a:pt x="0" y="1242"/>
                </a:lnTo>
                <a:lnTo>
                  <a:pt x="2" y="1236"/>
                </a:lnTo>
                <a:lnTo>
                  <a:pt x="4" y="1230"/>
                </a:lnTo>
                <a:lnTo>
                  <a:pt x="4" y="1228"/>
                </a:lnTo>
                <a:lnTo>
                  <a:pt x="6" y="1224"/>
                </a:lnTo>
                <a:lnTo>
                  <a:pt x="6" y="1220"/>
                </a:lnTo>
                <a:lnTo>
                  <a:pt x="7" y="1217"/>
                </a:lnTo>
                <a:lnTo>
                  <a:pt x="11" y="1213"/>
                </a:lnTo>
                <a:lnTo>
                  <a:pt x="13" y="1209"/>
                </a:lnTo>
                <a:lnTo>
                  <a:pt x="17" y="1205"/>
                </a:lnTo>
                <a:lnTo>
                  <a:pt x="21" y="1201"/>
                </a:lnTo>
                <a:lnTo>
                  <a:pt x="30" y="1194"/>
                </a:lnTo>
                <a:lnTo>
                  <a:pt x="42" y="1186"/>
                </a:lnTo>
                <a:lnTo>
                  <a:pt x="54" y="1178"/>
                </a:lnTo>
                <a:lnTo>
                  <a:pt x="67" y="1172"/>
                </a:lnTo>
                <a:lnTo>
                  <a:pt x="75" y="1169"/>
                </a:lnTo>
                <a:lnTo>
                  <a:pt x="82" y="1163"/>
                </a:lnTo>
                <a:lnTo>
                  <a:pt x="92" y="1157"/>
                </a:lnTo>
                <a:lnTo>
                  <a:pt x="103" y="1148"/>
                </a:lnTo>
                <a:lnTo>
                  <a:pt x="115" y="1138"/>
                </a:lnTo>
                <a:lnTo>
                  <a:pt x="126" y="1126"/>
                </a:lnTo>
                <a:lnTo>
                  <a:pt x="140" y="1111"/>
                </a:lnTo>
                <a:lnTo>
                  <a:pt x="153" y="1096"/>
                </a:lnTo>
                <a:lnTo>
                  <a:pt x="169" y="1078"/>
                </a:lnTo>
                <a:lnTo>
                  <a:pt x="184" y="1061"/>
                </a:lnTo>
                <a:lnTo>
                  <a:pt x="199" y="1040"/>
                </a:lnTo>
                <a:lnTo>
                  <a:pt x="217" y="1017"/>
                </a:lnTo>
                <a:lnTo>
                  <a:pt x="236" y="994"/>
                </a:lnTo>
                <a:lnTo>
                  <a:pt x="255" y="967"/>
                </a:lnTo>
                <a:lnTo>
                  <a:pt x="274" y="940"/>
                </a:lnTo>
                <a:lnTo>
                  <a:pt x="295" y="911"/>
                </a:lnTo>
                <a:lnTo>
                  <a:pt x="315" y="883"/>
                </a:lnTo>
                <a:lnTo>
                  <a:pt x="334" y="856"/>
                </a:lnTo>
                <a:lnTo>
                  <a:pt x="351" y="825"/>
                </a:lnTo>
                <a:lnTo>
                  <a:pt x="370" y="796"/>
                </a:lnTo>
                <a:lnTo>
                  <a:pt x="389" y="766"/>
                </a:lnTo>
                <a:lnTo>
                  <a:pt x="409" y="737"/>
                </a:lnTo>
                <a:lnTo>
                  <a:pt x="428" y="704"/>
                </a:lnTo>
                <a:lnTo>
                  <a:pt x="447" y="673"/>
                </a:lnTo>
                <a:lnTo>
                  <a:pt x="466" y="641"/>
                </a:lnTo>
                <a:lnTo>
                  <a:pt x="485" y="608"/>
                </a:lnTo>
                <a:lnTo>
                  <a:pt x="505" y="576"/>
                </a:lnTo>
                <a:lnTo>
                  <a:pt x="524" y="541"/>
                </a:lnTo>
                <a:lnTo>
                  <a:pt x="562" y="474"/>
                </a:lnTo>
                <a:lnTo>
                  <a:pt x="599" y="403"/>
                </a:lnTo>
                <a:lnTo>
                  <a:pt x="616" y="368"/>
                </a:lnTo>
                <a:lnTo>
                  <a:pt x="629" y="336"/>
                </a:lnTo>
                <a:lnTo>
                  <a:pt x="643" y="305"/>
                </a:lnTo>
                <a:lnTo>
                  <a:pt x="656" y="274"/>
                </a:lnTo>
                <a:lnTo>
                  <a:pt x="668" y="247"/>
                </a:lnTo>
                <a:lnTo>
                  <a:pt x="677" y="222"/>
                </a:lnTo>
                <a:lnTo>
                  <a:pt x="685" y="197"/>
                </a:lnTo>
                <a:lnTo>
                  <a:pt x="695" y="176"/>
                </a:lnTo>
                <a:lnTo>
                  <a:pt x="700" y="155"/>
                </a:lnTo>
                <a:lnTo>
                  <a:pt x="706" y="138"/>
                </a:lnTo>
                <a:lnTo>
                  <a:pt x="708" y="128"/>
                </a:lnTo>
                <a:lnTo>
                  <a:pt x="710" y="121"/>
                </a:lnTo>
                <a:lnTo>
                  <a:pt x="712" y="113"/>
                </a:lnTo>
                <a:lnTo>
                  <a:pt x="714" y="107"/>
                </a:lnTo>
                <a:lnTo>
                  <a:pt x="714" y="100"/>
                </a:lnTo>
                <a:lnTo>
                  <a:pt x="716" y="94"/>
                </a:lnTo>
                <a:lnTo>
                  <a:pt x="716" y="88"/>
                </a:lnTo>
                <a:lnTo>
                  <a:pt x="716" y="84"/>
                </a:lnTo>
                <a:lnTo>
                  <a:pt x="716" y="78"/>
                </a:lnTo>
                <a:lnTo>
                  <a:pt x="716" y="75"/>
                </a:lnTo>
                <a:lnTo>
                  <a:pt x="714" y="73"/>
                </a:lnTo>
                <a:lnTo>
                  <a:pt x="714" y="69"/>
                </a:lnTo>
                <a:lnTo>
                  <a:pt x="708" y="67"/>
                </a:lnTo>
                <a:lnTo>
                  <a:pt x="704" y="63"/>
                </a:lnTo>
                <a:lnTo>
                  <a:pt x="702" y="59"/>
                </a:lnTo>
                <a:lnTo>
                  <a:pt x="698" y="55"/>
                </a:lnTo>
                <a:lnTo>
                  <a:pt x="697" y="52"/>
                </a:lnTo>
                <a:lnTo>
                  <a:pt x="695" y="48"/>
                </a:lnTo>
                <a:lnTo>
                  <a:pt x="695" y="44"/>
                </a:lnTo>
                <a:lnTo>
                  <a:pt x="695" y="40"/>
                </a:lnTo>
                <a:lnTo>
                  <a:pt x="695" y="36"/>
                </a:lnTo>
                <a:lnTo>
                  <a:pt x="695" y="32"/>
                </a:lnTo>
                <a:lnTo>
                  <a:pt x="697" y="28"/>
                </a:lnTo>
                <a:lnTo>
                  <a:pt x="698" y="25"/>
                </a:lnTo>
                <a:lnTo>
                  <a:pt x="702" y="21"/>
                </a:lnTo>
                <a:lnTo>
                  <a:pt x="704" y="17"/>
                </a:lnTo>
                <a:lnTo>
                  <a:pt x="708" y="13"/>
                </a:lnTo>
                <a:lnTo>
                  <a:pt x="714" y="11"/>
                </a:lnTo>
                <a:lnTo>
                  <a:pt x="723" y="5"/>
                </a:lnTo>
                <a:lnTo>
                  <a:pt x="733" y="2"/>
                </a:lnTo>
                <a:lnTo>
                  <a:pt x="743" y="0"/>
                </a:lnTo>
                <a:lnTo>
                  <a:pt x="752" y="0"/>
                </a:lnTo>
                <a:lnTo>
                  <a:pt x="764" y="0"/>
                </a:lnTo>
                <a:lnTo>
                  <a:pt x="775" y="2"/>
                </a:lnTo>
                <a:lnTo>
                  <a:pt x="789" y="5"/>
                </a:lnTo>
                <a:lnTo>
                  <a:pt x="802" y="11"/>
                </a:lnTo>
                <a:lnTo>
                  <a:pt x="816" y="17"/>
                </a:lnTo>
                <a:lnTo>
                  <a:pt x="829" y="25"/>
                </a:lnTo>
                <a:lnTo>
                  <a:pt x="841" y="34"/>
                </a:lnTo>
                <a:lnTo>
                  <a:pt x="852" y="44"/>
                </a:lnTo>
                <a:lnTo>
                  <a:pt x="865" y="55"/>
                </a:lnTo>
                <a:lnTo>
                  <a:pt x="877" y="69"/>
                </a:lnTo>
                <a:lnTo>
                  <a:pt x="890" y="82"/>
                </a:lnTo>
                <a:lnTo>
                  <a:pt x="904" y="98"/>
                </a:lnTo>
                <a:lnTo>
                  <a:pt x="910" y="105"/>
                </a:lnTo>
                <a:lnTo>
                  <a:pt x="915" y="113"/>
                </a:lnTo>
                <a:lnTo>
                  <a:pt x="921" y="121"/>
                </a:lnTo>
                <a:lnTo>
                  <a:pt x="927" y="128"/>
                </a:lnTo>
                <a:lnTo>
                  <a:pt x="931" y="136"/>
                </a:lnTo>
                <a:lnTo>
                  <a:pt x="935" y="142"/>
                </a:lnTo>
                <a:lnTo>
                  <a:pt x="938" y="147"/>
                </a:lnTo>
                <a:lnTo>
                  <a:pt x="940" y="155"/>
                </a:lnTo>
                <a:lnTo>
                  <a:pt x="942" y="161"/>
                </a:lnTo>
                <a:lnTo>
                  <a:pt x="944" y="167"/>
                </a:lnTo>
                <a:lnTo>
                  <a:pt x="946" y="172"/>
                </a:lnTo>
                <a:lnTo>
                  <a:pt x="946" y="178"/>
                </a:lnTo>
                <a:lnTo>
                  <a:pt x="946" y="184"/>
                </a:lnTo>
                <a:lnTo>
                  <a:pt x="944" y="190"/>
                </a:lnTo>
                <a:lnTo>
                  <a:pt x="944" y="194"/>
                </a:lnTo>
                <a:lnTo>
                  <a:pt x="942" y="199"/>
                </a:lnTo>
                <a:lnTo>
                  <a:pt x="936" y="211"/>
                </a:lnTo>
                <a:lnTo>
                  <a:pt x="929" y="224"/>
                </a:lnTo>
                <a:lnTo>
                  <a:pt x="921" y="238"/>
                </a:lnTo>
                <a:lnTo>
                  <a:pt x="912" y="253"/>
                </a:lnTo>
                <a:lnTo>
                  <a:pt x="900" y="270"/>
                </a:lnTo>
                <a:lnTo>
                  <a:pt x="892" y="280"/>
                </a:lnTo>
                <a:lnTo>
                  <a:pt x="887" y="290"/>
                </a:lnTo>
                <a:lnTo>
                  <a:pt x="879" y="299"/>
                </a:lnTo>
                <a:lnTo>
                  <a:pt x="871" y="309"/>
                </a:lnTo>
                <a:lnTo>
                  <a:pt x="862" y="320"/>
                </a:lnTo>
                <a:lnTo>
                  <a:pt x="852" y="330"/>
                </a:lnTo>
                <a:lnTo>
                  <a:pt x="848" y="336"/>
                </a:lnTo>
                <a:lnTo>
                  <a:pt x="842" y="343"/>
                </a:lnTo>
                <a:lnTo>
                  <a:pt x="837" y="349"/>
                </a:lnTo>
                <a:lnTo>
                  <a:pt x="831" y="357"/>
                </a:lnTo>
                <a:lnTo>
                  <a:pt x="825" y="364"/>
                </a:lnTo>
                <a:lnTo>
                  <a:pt x="819" y="372"/>
                </a:lnTo>
                <a:lnTo>
                  <a:pt x="812" y="382"/>
                </a:lnTo>
                <a:lnTo>
                  <a:pt x="806" y="389"/>
                </a:lnTo>
                <a:lnTo>
                  <a:pt x="798" y="399"/>
                </a:lnTo>
                <a:lnTo>
                  <a:pt x="791" y="410"/>
                </a:lnTo>
                <a:lnTo>
                  <a:pt x="783" y="420"/>
                </a:lnTo>
                <a:lnTo>
                  <a:pt x="773" y="432"/>
                </a:lnTo>
                <a:lnTo>
                  <a:pt x="756" y="455"/>
                </a:lnTo>
                <a:lnTo>
                  <a:pt x="739" y="480"/>
                </a:lnTo>
                <a:lnTo>
                  <a:pt x="718" y="508"/>
                </a:lnTo>
                <a:lnTo>
                  <a:pt x="698" y="537"/>
                </a:lnTo>
                <a:lnTo>
                  <a:pt x="675" y="568"/>
                </a:lnTo>
                <a:lnTo>
                  <a:pt x="652" y="600"/>
                </a:lnTo>
                <a:lnTo>
                  <a:pt x="627" y="635"/>
                </a:lnTo>
                <a:lnTo>
                  <a:pt x="602" y="673"/>
                </a:lnTo>
                <a:lnTo>
                  <a:pt x="576" y="712"/>
                </a:lnTo>
                <a:lnTo>
                  <a:pt x="549" y="752"/>
                </a:lnTo>
                <a:lnTo>
                  <a:pt x="533" y="771"/>
                </a:lnTo>
                <a:lnTo>
                  <a:pt x="520" y="791"/>
                </a:lnTo>
                <a:lnTo>
                  <a:pt x="507" y="810"/>
                </a:lnTo>
                <a:lnTo>
                  <a:pt x="493" y="829"/>
                </a:lnTo>
                <a:lnTo>
                  <a:pt x="480" y="846"/>
                </a:lnTo>
                <a:lnTo>
                  <a:pt x="468" y="863"/>
                </a:lnTo>
                <a:lnTo>
                  <a:pt x="457" y="881"/>
                </a:lnTo>
                <a:lnTo>
                  <a:pt x="445" y="896"/>
                </a:lnTo>
                <a:lnTo>
                  <a:pt x="434" y="911"/>
                </a:lnTo>
                <a:lnTo>
                  <a:pt x="424" y="927"/>
                </a:lnTo>
                <a:lnTo>
                  <a:pt x="414" y="940"/>
                </a:lnTo>
                <a:lnTo>
                  <a:pt x="407" y="954"/>
                </a:lnTo>
                <a:lnTo>
                  <a:pt x="397" y="967"/>
                </a:lnTo>
                <a:lnTo>
                  <a:pt x="389" y="979"/>
                </a:lnTo>
                <a:lnTo>
                  <a:pt x="382" y="990"/>
                </a:lnTo>
                <a:lnTo>
                  <a:pt x="376" y="1002"/>
                </a:lnTo>
                <a:lnTo>
                  <a:pt x="368" y="1013"/>
                </a:lnTo>
                <a:lnTo>
                  <a:pt x="363" y="1023"/>
                </a:lnTo>
                <a:lnTo>
                  <a:pt x="359" y="1032"/>
                </a:lnTo>
                <a:lnTo>
                  <a:pt x="353" y="1040"/>
                </a:lnTo>
                <a:lnTo>
                  <a:pt x="349" y="1050"/>
                </a:lnTo>
                <a:lnTo>
                  <a:pt x="345" y="1057"/>
                </a:lnTo>
                <a:lnTo>
                  <a:pt x="341" y="1063"/>
                </a:lnTo>
                <a:lnTo>
                  <a:pt x="340" y="1071"/>
                </a:lnTo>
                <a:lnTo>
                  <a:pt x="336" y="1076"/>
                </a:lnTo>
                <a:lnTo>
                  <a:pt x="334" y="1080"/>
                </a:lnTo>
                <a:lnTo>
                  <a:pt x="334" y="1086"/>
                </a:lnTo>
                <a:lnTo>
                  <a:pt x="332" y="1090"/>
                </a:lnTo>
                <a:lnTo>
                  <a:pt x="332" y="1094"/>
                </a:lnTo>
                <a:lnTo>
                  <a:pt x="332" y="1096"/>
                </a:lnTo>
                <a:lnTo>
                  <a:pt x="332" y="1098"/>
                </a:lnTo>
                <a:lnTo>
                  <a:pt x="334" y="1100"/>
                </a:lnTo>
                <a:lnTo>
                  <a:pt x="340" y="1105"/>
                </a:lnTo>
                <a:lnTo>
                  <a:pt x="345" y="1107"/>
                </a:lnTo>
                <a:lnTo>
                  <a:pt x="353" y="1109"/>
                </a:lnTo>
                <a:lnTo>
                  <a:pt x="363" y="1111"/>
                </a:lnTo>
                <a:lnTo>
                  <a:pt x="372" y="1109"/>
                </a:lnTo>
                <a:lnTo>
                  <a:pt x="384" y="1107"/>
                </a:lnTo>
                <a:lnTo>
                  <a:pt x="395" y="1105"/>
                </a:lnTo>
                <a:lnTo>
                  <a:pt x="409" y="1100"/>
                </a:lnTo>
                <a:lnTo>
                  <a:pt x="416" y="1098"/>
                </a:lnTo>
                <a:lnTo>
                  <a:pt x="426" y="1094"/>
                </a:lnTo>
                <a:lnTo>
                  <a:pt x="435" y="1092"/>
                </a:lnTo>
                <a:lnTo>
                  <a:pt x="447" y="1088"/>
                </a:lnTo>
                <a:lnTo>
                  <a:pt x="459" y="1086"/>
                </a:lnTo>
                <a:lnTo>
                  <a:pt x="472" y="1082"/>
                </a:lnTo>
                <a:lnTo>
                  <a:pt x="487" y="1080"/>
                </a:lnTo>
                <a:lnTo>
                  <a:pt x="503" y="1076"/>
                </a:lnTo>
                <a:lnTo>
                  <a:pt x="520" y="1073"/>
                </a:lnTo>
                <a:lnTo>
                  <a:pt x="537" y="1069"/>
                </a:lnTo>
                <a:lnTo>
                  <a:pt x="555" y="1065"/>
                </a:lnTo>
                <a:lnTo>
                  <a:pt x="576" y="1061"/>
                </a:lnTo>
                <a:lnTo>
                  <a:pt x="595" y="1057"/>
                </a:lnTo>
                <a:lnTo>
                  <a:pt x="618" y="1052"/>
                </a:lnTo>
                <a:lnTo>
                  <a:pt x="639" y="1048"/>
                </a:lnTo>
                <a:lnTo>
                  <a:pt x="662" y="1042"/>
                </a:lnTo>
                <a:lnTo>
                  <a:pt x="685" y="1036"/>
                </a:lnTo>
                <a:lnTo>
                  <a:pt x="706" y="1032"/>
                </a:lnTo>
                <a:lnTo>
                  <a:pt x="727" y="1029"/>
                </a:lnTo>
                <a:lnTo>
                  <a:pt x="746" y="1025"/>
                </a:lnTo>
                <a:lnTo>
                  <a:pt x="764" y="1023"/>
                </a:lnTo>
                <a:lnTo>
                  <a:pt x="779" y="1021"/>
                </a:lnTo>
                <a:lnTo>
                  <a:pt x="794" y="1019"/>
                </a:lnTo>
                <a:lnTo>
                  <a:pt x="806" y="1017"/>
                </a:lnTo>
                <a:lnTo>
                  <a:pt x="819" y="1017"/>
                </a:lnTo>
                <a:lnTo>
                  <a:pt x="829" y="1017"/>
                </a:lnTo>
                <a:lnTo>
                  <a:pt x="839" y="1019"/>
                </a:lnTo>
                <a:lnTo>
                  <a:pt x="846" y="1019"/>
                </a:lnTo>
                <a:lnTo>
                  <a:pt x="854" y="1021"/>
                </a:lnTo>
                <a:lnTo>
                  <a:pt x="858" y="1023"/>
                </a:lnTo>
                <a:lnTo>
                  <a:pt x="862" y="1025"/>
                </a:lnTo>
                <a:lnTo>
                  <a:pt x="865" y="1027"/>
                </a:lnTo>
                <a:lnTo>
                  <a:pt x="865" y="1030"/>
                </a:lnTo>
                <a:lnTo>
                  <a:pt x="865" y="1032"/>
                </a:lnTo>
                <a:lnTo>
                  <a:pt x="865" y="1036"/>
                </a:lnTo>
                <a:lnTo>
                  <a:pt x="864" y="1040"/>
                </a:lnTo>
                <a:lnTo>
                  <a:pt x="862" y="1042"/>
                </a:lnTo>
                <a:lnTo>
                  <a:pt x="860" y="1046"/>
                </a:lnTo>
                <a:lnTo>
                  <a:pt x="856" y="1050"/>
                </a:lnTo>
                <a:lnTo>
                  <a:pt x="852" y="1053"/>
                </a:lnTo>
                <a:lnTo>
                  <a:pt x="846" y="1059"/>
                </a:lnTo>
                <a:lnTo>
                  <a:pt x="841" y="1063"/>
                </a:lnTo>
                <a:lnTo>
                  <a:pt x="835" y="1067"/>
                </a:lnTo>
                <a:lnTo>
                  <a:pt x="827" y="1071"/>
                </a:lnTo>
                <a:lnTo>
                  <a:pt x="819" y="1076"/>
                </a:lnTo>
                <a:lnTo>
                  <a:pt x="812" y="1082"/>
                </a:lnTo>
                <a:lnTo>
                  <a:pt x="802" y="1086"/>
                </a:lnTo>
                <a:lnTo>
                  <a:pt x="793" y="1092"/>
                </a:lnTo>
                <a:lnTo>
                  <a:pt x="781" y="1098"/>
                </a:lnTo>
                <a:lnTo>
                  <a:pt x="771" y="1103"/>
                </a:lnTo>
                <a:lnTo>
                  <a:pt x="760" y="1109"/>
                </a:lnTo>
                <a:lnTo>
                  <a:pt x="746" y="1115"/>
                </a:lnTo>
                <a:lnTo>
                  <a:pt x="733" y="1121"/>
                </a:lnTo>
                <a:lnTo>
                  <a:pt x="720" y="1128"/>
                </a:lnTo>
                <a:lnTo>
                  <a:pt x="706" y="1134"/>
                </a:lnTo>
                <a:lnTo>
                  <a:pt x="691" y="1140"/>
                </a:lnTo>
                <a:lnTo>
                  <a:pt x="675" y="1148"/>
                </a:lnTo>
                <a:lnTo>
                  <a:pt x="658" y="1155"/>
                </a:lnTo>
                <a:lnTo>
                  <a:pt x="643" y="1163"/>
                </a:lnTo>
                <a:lnTo>
                  <a:pt x="624" y="1169"/>
                </a:lnTo>
                <a:lnTo>
                  <a:pt x="606" y="1176"/>
                </a:lnTo>
                <a:lnTo>
                  <a:pt x="587" y="1186"/>
                </a:lnTo>
                <a:lnTo>
                  <a:pt x="568" y="1194"/>
                </a:lnTo>
                <a:lnTo>
                  <a:pt x="549" y="12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70"/>
          <p:cNvSpPr/>
          <p:nvPr/>
        </p:nvSpPr>
        <p:spPr>
          <a:xfrm>
            <a:off x="5486400" y="2371680"/>
            <a:ext cx="631800" cy="1136520"/>
          </a:xfrm>
          <a:custGeom>
            <a:avLst/>
            <a:gdLst/>
            <a:ahLst/>
            <a:rect l="l" t="t" r="r" b="b"/>
            <a:pathLst>
              <a:path w="797" h="1432">
                <a:moveTo>
                  <a:pt x="367" y="691"/>
                </a:moveTo>
                <a:lnTo>
                  <a:pt x="394" y="638"/>
                </a:lnTo>
                <a:lnTo>
                  <a:pt x="421" y="584"/>
                </a:lnTo>
                <a:lnTo>
                  <a:pt x="446" y="534"/>
                </a:lnTo>
                <a:lnTo>
                  <a:pt x="469" y="484"/>
                </a:lnTo>
                <a:lnTo>
                  <a:pt x="480" y="459"/>
                </a:lnTo>
                <a:lnTo>
                  <a:pt x="492" y="436"/>
                </a:lnTo>
                <a:lnTo>
                  <a:pt x="501" y="411"/>
                </a:lnTo>
                <a:lnTo>
                  <a:pt x="511" y="388"/>
                </a:lnTo>
                <a:lnTo>
                  <a:pt x="521" y="365"/>
                </a:lnTo>
                <a:lnTo>
                  <a:pt x="528" y="344"/>
                </a:lnTo>
                <a:lnTo>
                  <a:pt x="536" y="321"/>
                </a:lnTo>
                <a:lnTo>
                  <a:pt x="544" y="300"/>
                </a:lnTo>
                <a:lnTo>
                  <a:pt x="551" y="281"/>
                </a:lnTo>
                <a:lnTo>
                  <a:pt x="557" y="261"/>
                </a:lnTo>
                <a:lnTo>
                  <a:pt x="561" y="244"/>
                </a:lnTo>
                <a:lnTo>
                  <a:pt x="565" y="229"/>
                </a:lnTo>
                <a:lnTo>
                  <a:pt x="569" y="212"/>
                </a:lnTo>
                <a:lnTo>
                  <a:pt x="570" y="198"/>
                </a:lnTo>
                <a:lnTo>
                  <a:pt x="572" y="183"/>
                </a:lnTo>
                <a:lnTo>
                  <a:pt x="574" y="169"/>
                </a:lnTo>
                <a:lnTo>
                  <a:pt x="574" y="158"/>
                </a:lnTo>
                <a:lnTo>
                  <a:pt x="574" y="146"/>
                </a:lnTo>
                <a:lnTo>
                  <a:pt x="572" y="135"/>
                </a:lnTo>
                <a:lnTo>
                  <a:pt x="570" y="125"/>
                </a:lnTo>
                <a:lnTo>
                  <a:pt x="569" y="116"/>
                </a:lnTo>
                <a:lnTo>
                  <a:pt x="565" y="108"/>
                </a:lnTo>
                <a:lnTo>
                  <a:pt x="561" y="102"/>
                </a:lnTo>
                <a:lnTo>
                  <a:pt x="557" y="96"/>
                </a:lnTo>
                <a:lnTo>
                  <a:pt x="551" y="91"/>
                </a:lnTo>
                <a:lnTo>
                  <a:pt x="546" y="85"/>
                </a:lnTo>
                <a:lnTo>
                  <a:pt x="540" y="79"/>
                </a:lnTo>
                <a:lnTo>
                  <a:pt x="536" y="73"/>
                </a:lnTo>
                <a:lnTo>
                  <a:pt x="532" y="68"/>
                </a:lnTo>
                <a:lnTo>
                  <a:pt x="530" y="64"/>
                </a:lnTo>
                <a:lnTo>
                  <a:pt x="528" y="58"/>
                </a:lnTo>
                <a:lnTo>
                  <a:pt x="526" y="52"/>
                </a:lnTo>
                <a:lnTo>
                  <a:pt x="526" y="47"/>
                </a:lnTo>
                <a:lnTo>
                  <a:pt x="526" y="41"/>
                </a:lnTo>
                <a:lnTo>
                  <a:pt x="528" y="35"/>
                </a:lnTo>
                <a:lnTo>
                  <a:pt x="530" y="31"/>
                </a:lnTo>
                <a:lnTo>
                  <a:pt x="532" y="25"/>
                </a:lnTo>
                <a:lnTo>
                  <a:pt x="536" y="20"/>
                </a:lnTo>
                <a:lnTo>
                  <a:pt x="540" y="14"/>
                </a:lnTo>
                <a:lnTo>
                  <a:pt x="544" y="8"/>
                </a:lnTo>
                <a:lnTo>
                  <a:pt x="547" y="6"/>
                </a:lnTo>
                <a:lnTo>
                  <a:pt x="551" y="4"/>
                </a:lnTo>
                <a:lnTo>
                  <a:pt x="555" y="2"/>
                </a:lnTo>
                <a:lnTo>
                  <a:pt x="561" y="0"/>
                </a:lnTo>
                <a:lnTo>
                  <a:pt x="567" y="0"/>
                </a:lnTo>
                <a:lnTo>
                  <a:pt x="574" y="0"/>
                </a:lnTo>
                <a:lnTo>
                  <a:pt x="582" y="0"/>
                </a:lnTo>
                <a:lnTo>
                  <a:pt x="590" y="0"/>
                </a:lnTo>
                <a:lnTo>
                  <a:pt x="599" y="2"/>
                </a:lnTo>
                <a:lnTo>
                  <a:pt x="609" y="4"/>
                </a:lnTo>
                <a:lnTo>
                  <a:pt x="620" y="8"/>
                </a:lnTo>
                <a:lnTo>
                  <a:pt x="632" y="12"/>
                </a:lnTo>
                <a:lnTo>
                  <a:pt x="643" y="18"/>
                </a:lnTo>
                <a:lnTo>
                  <a:pt x="657" y="23"/>
                </a:lnTo>
                <a:lnTo>
                  <a:pt x="670" y="29"/>
                </a:lnTo>
                <a:lnTo>
                  <a:pt x="684" y="37"/>
                </a:lnTo>
                <a:lnTo>
                  <a:pt x="695" y="47"/>
                </a:lnTo>
                <a:lnTo>
                  <a:pt x="707" y="54"/>
                </a:lnTo>
                <a:lnTo>
                  <a:pt x="716" y="62"/>
                </a:lnTo>
                <a:lnTo>
                  <a:pt x="726" y="70"/>
                </a:lnTo>
                <a:lnTo>
                  <a:pt x="736" y="77"/>
                </a:lnTo>
                <a:lnTo>
                  <a:pt x="743" y="85"/>
                </a:lnTo>
                <a:lnTo>
                  <a:pt x="753" y="94"/>
                </a:lnTo>
                <a:lnTo>
                  <a:pt x="759" y="100"/>
                </a:lnTo>
                <a:lnTo>
                  <a:pt x="766" y="108"/>
                </a:lnTo>
                <a:lnTo>
                  <a:pt x="772" y="116"/>
                </a:lnTo>
                <a:lnTo>
                  <a:pt x="778" y="123"/>
                </a:lnTo>
                <a:lnTo>
                  <a:pt x="784" y="129"/>
                </a:lnTo>
                <a:lnTo>
                  <a:pt x="787" y="135"/>
                </a:lnTo>
                <a:lnTo>
                  <a:pt x="791" y="142"/>
                </a:lnTo>
                <a:lnTo>
                  <a:pt x="795" y="148"/>
                </a:lnTo>
                <a:lnTo>
                  <a:pt x="797" y="154"/>
                </a:lnTo>
                <a:lnTo>
                  <a:pt x="797" y="160"/>
                </a:lnTo>
                <a:lnTo>
                  <a:pt x="795" y="167"/>
                </a:lnTo>
                <a:lnTo>
                  <a:pt x="793" y="177"/>
                </a:lnTo>
                <a:lnTo>
                  <a:pt x="789" y="189"/>
                </a:lnTo>
                <a:lnTo>
                  <a:pt x="785" y="202"/>
                </a:lnTo>
                <a:lnTo>
                  <a:pt x="780" y="217"/>
                </a:lnTo>
                <a:lnTo>
                  <a:pt x="774" y="233"/>
                </a:lnTo>
                <a:lnTo>
                  <a:pt x="766" y="252"/>
                </a:lnTo>
                <a:lnTo>
                  <a:pt x="759" y="271"/>
                </a:lnTo>
                <a:lnTo>
                  <a:pt x="749" y="292"/>
                </a:lnTo>
                <a:lnTo>
                  <a:pt x="739" y="317"/>
                </a:lnTo>
                <a:lnTo>
                  <a:pt x="728" y="342"/>
                </a:lnTo>
                <a:lnTo>
                  <a:pt x="714" y="369"/>
                </a:lnTo>
                <a:lnTo>
                  <a:pt x="701" y="396"/>
                </a:lnTo>
                <a:lnTo>
                  <a:pt x="688" y="427"/>
                </a:lnTo>
                <a:lnTo>
                  <a:pt x="670" y="459"/>
                </a:lnTo>
                <a:lnTo>
                  <a:pt x="638" y="524"/>
                </a:lnTo>
                <a:lnTo>
                  <a:pt x="605" y="588"/>
                </a:lnTo>
                <a:lnTo>
                  <a:pt x="570" y="649"/>
                </a:lnTo>
                <a:lnTo>
                  <a:pt x="536" y="711"/>
                </a:lnTo>
                <a:lnTo>
                  <a:pt x="501" y="772"/>
                </a:lnTo>
                <a:lnTo>
                  <a:pt x="465" y="832"/>
                </a:lnTo>
                <a:lnTo>
                  <a:pt x="428" y="891"/>
                </a:lnTo>
                <a:lnTo>
                  <a:pt x="392" y="952"/>
                </a:lnTo>
                <a:lnTo>
                  <a:pt x="382" y="966"/>
                </a:lnTo>
                <a:lnTo>
                  <a:pt x="375" y="981"/>
                </a:lnTo>
                <a:lnTo>
                  <a:pt x="365" y="995"/>
                </a:lnTo>
                <a:lnTo>
                  <a:pt x="357" y="1008"/>
                </a:lnTo>
                <a:lnTo>
                  <a:pt x="350" y="1022"/>
                </a:lnTo>
                <a:lnTo>
                  <a:pt x="342" y="1033"/>
                </a:lnTo>
                <a:lnTo>
                  <a:pt x="334" y="1045"/>
                </a:lnTo>
                <a:lnTo>
                  <a:pt x="329" y="1056"/>
                </a:lnTo>
                <a:lnTo>
                  <a:pt x="317" y="1077"/>
                </a:lnTo>
                <a:lnTo>
                  <a:pt x="306" y="1096"/>
                </a:lnTo>
                <a:lnTo>
                  <a:pt x="296" y="1114"/>
                </a:lnTo>
                <a:lnTo>
                  <a:pt x="288" y="1131"/>
                </a:lnTo>
                <a:lnTo>
                  <a:pt x="283" y="1144"/>
                </a:lnTo>
                <a:lnTo>
                  <a:pt x="277" y="1156"/>
                </a:lnTo>
                <a:lnTo>
                  <a:pt x="273" y="1167"/>
                </a:lnTo>
                <a:lnTo>
                  <a:pt x="271" y="1177"/>
                </a:lnTo>
                <a:lnTo>
                  <a:pt x="271" y="1185"/>
                </a:lnTo>
                <a:lnTo>
                  <a:pt x="271" y="1190"/>
                </a:lnTo>
                <a:lnTo>
                  <a:pt x="275" y="1196"/>
                </a:lnTo>
                <a:lnTo>
                  <a:pt x="279" y="1200"/>
                </a:lnTo>
                <a:lnTo>
                  <a:pt x="281" y="1200"/>
                </a:lnTo>
                <a:lnTo>
                  <a:pt x="283" y="1202"/>
                </a:lnTo>
                <a:lnTo>
                  <a:pt x="286" y="1202"/>
                </a:lnTo>
                <a:lnTo>
                  <a:pt x="290" y="1204"/>
                </a:lnTo>
                <a:lnTo>
                  <a:pt x="296" y="1204"/>
                </a:lnTo>
                <a:lnTo>
                  <a:pt x="302" y="1204"/>
                </a:lnTo>
                <a:lnTo>
                  <a:pt x="308" y="1204"/>
                </a:lnTo>
                <a:lnTo>
                  <a:pt x="317" y="1204"/>
                </a:lnTo>
                <a:lnTo>
                  <a:pt x="325" y="1204"/>
                </a:lnTo>
                <a:lnTo>
                  <a:pt x="334" y="1204"/>
                </a:lnTo>
                <a:lnTo>
                  <a:pt x="346" y="1204"/>
                </a:lnTo>
                <a:lnTo>
                  <a:pt x="357" y="1204"/>
                </a:lnTo>
                <a:lnTo>
                  <a:pt x="369" y="1204"/>
                </a:lnTo>
                <a:lnTo>
                  <a:pt x="382" y="1202"/>
                </a:lnTo>
                <a:lnTo>
                  <a:pt x="396" y="1202"/>
                </a:lnTo>
                <a:lnTo>
                  <a:pt x="411" y="1202"/>
                </a:lnTo>
                <a:lnTo>
                  <a:pt x="427" y="1200"/>
                </a:lnTo>
                <a:lnTo>
                  <a:pt x="444" y="1198"/>
                </a:lnTo>
                <a:lnTo>
                  <a:pt x="461" y="1198"/>
                </a:lnTo>
                <a:lnTo>
                  <a:pt x="480" y="1196"/>
                </a:lnTo>
                <a:lnTo>
                  <a:pt x="499" y="1194"/>
                </a:lnTo>
                <a:lnTo>
                  <a:pt x="521" y="1192"/>
                </a:lnTo>
                <a:lnTo>
                  <a:pt x="542" y="1190"/>
                </a:lnTo>
                <a:lnTo>
                  <a:pt x="563" y="1189"/>
                </a:lnTo>
                <a:lnTo>
                  <a:pt x="586" y="1187"/>
                </a:lnTo>
                <a:lnTo>
                  <a:pt x="611" y="1185"/>
                </a:lnTo>
                <a:lnTo>
                  <a:pt x="636" y="1183"/>
                </a:lnTo>
                <a:lnTo>
                  <a:pt x="661" y="1181"/>
                </a:lnTo>
                <a:lnTo>
                  <a:pt x="688" y="1177"/>
                </a:lnTo>
                <a:lnTo>
                  <a:pt x="714" y="1175"/>
                </a:lnTo>
                <a:lnTo>
                  <a:pt x="743" y="1173"/>
                </a:lnTo>
                <a:lnTo>
                  <a:pt x="772" y="1169"/>
                </a:lnTo>
                <a:lnTo>
                  <a:pt x="764" y="1187"/>
                </a:lnTo>
                <a:lnTo>
                  <a:pt x="757" y="1200"/>
                </a:lnTo>
                <a:lnTo>
                  <a:pt x="747" y="1214"/>
                </a:lnTo>
                <a:lnTo>
                  <a:pt x="737" y="1227"/>
                </a:lnTo>
                <a:lnTo>
                  <a:pt x="726" y="1238"/>
                </a:lnTo>
                <a:lnTo>
                  <a:pt x="714" y="1250"/>
                </a:lnTo>
                <a:lnTo>
                  <a:pt x="703" y="1260"/>
                </a:lnTo>
                <a:lnTo>
                  <a:pt x="690" y="1269"/>
                </a:lnTo>
                <a:lnTo>
                  <a:pt x="674" y="1279"/>
                </a:lnTo>
                <a:lnTo>
                  <a:pt x="661" y="1286"/>
                </a:lnTo>
                <a:lnTo>
                  <a:pt x="645" y="1292"/>
                </a:lnTo>
                <a:lnTo>
                  <a:pt x="628" y="1298"/>
                </a:lnTo>
                <a:lnTo>
                  <a:pt x="611" y="1304"/>
                </a:lnTo>
                <a:lnTo>
                  <a:pt x="594" y="1308"/>
                </a:lnTo>
                <a:lnTo>
                  <a:pt x="576" y="1311"/>
                </a:lnTo>
                <a:lnTo>
                  <a:pt x="557" y="1315"/>
                </a:lnTo>
                <a:lnTo>
                  <a:pt x="519" y="1321"/>
                </a:lnTo>
                <a:lnTo>
                  <a:pt x="484" y="1327"/>
                </a:lnTo>
                <a:lnTo>
                  <a:pt x="448" y="1333"/>
                </a:lnTo>
                <a:lnTo>
                  <a:pt x="415" y="1338"/>
                </a:lnTo>
                <a:lnTo>
                  <a:pt x="382" y="1346"/>
                </a:lnTo>
                <a:lnTo>
                  <a:pt x="350" y="1354"/>
                </a:lnTo>
                <a:lnTo>
                  <a:pt x="319" y="1363"/>
                </a:lnTo>
                <a:lnTo>
                  <a:pt x="290" y="1373"/>
                </a:lnTo>
                <a:lnTo>
                  <a:pt x="275" y="1380"/>
                </a:lnTo>
                <a:lnTo>
                  <a:pt x="260" y="1388"/>
                </a:lnTo>
                <a:lnTo>
                  <a:pt x="244" y="1396"/>
                </a:lnTo>
                <a:lnTo>
                  <a:pt x="231" y="1402"/>
                </a:lnTo>
                <a:lnTo>
                  <a:pt x="219" y="1405"/>
                </a:lnTo>
                <a:lnTo>
                  <a:pt x="208" y="1411"/>
                </a:lnTo>
                <a:lnTo>
                  <a:pt x="196" y="1415"/>
                </a:lnTo>
                <a:lnTo>
                  <a:pt x="187" y="1419"/>
                </a:lnTo>
                <a:lnTo>
                  <a:pt x="177" y="1423"/>
                </a:lnTo>
                <a:lnTo>
                  <a:pt x="169" y="1425"/>
                </a:lnTo>
                <a:lnTo>
                  <a:pt x="162" y="1427"/>
                </a:lnTo>
                <a:lnTo>
                  <a:pt x="156" y="1428"/>
                </a:lnTo>
                <a:lnTo>
                  <a:pt x="150" y="1430"/>
                </a:lnTo>
                <a:lnTo>
                  <a:pt x="144" y="1430"/>
                </a:lnTo>
                <a:lnTo>
                  <a:pt x="142" y="1430"/>
                </a:lnTo>
                <a:lnTo>
                  <a:pt x="139" y="1432"/>
                </a:lnTo>
                <a:lnTo>
                  <a:pt x="135" y="1430"/>
                </a:lnTo>
                <a:lnTo>
                  <a:pt x="129" y="1430"/>
                </a:lnTo>
                <a:lnTo>
                  <a:pt x="125" y="1428"/>
                </a:lnTo>
                <a:lnTo>
                  <a:pt x="119" y="1427"/>
                </a:lnTo>
                <a:lnTo>
                  <a:pt x="114" y="1423"/>
                </a:lnTo>
                <a:lnTo>
                  <a:pt x="110" y="1421"/>
                </a:lnTo>
                <a:lnTo>
                  <a:pt x="104" y="1415"/>
                </a:lnTo>
                <a:lnTo>
                  <a:pt x="98" y="1411"/>
                </a:lnTo>
                <a:lnTo>
                  <a:pt x="94" y="1407"/>
                </a:lnTo>
                <a:lnTo>
                  <a:pt x="89" y="1402"/>
                </a:lnTo>
                <a:lnTo>
                  <a:pt x="75" y="1388"/>
                </a:lnTo>
                <a:lnTo>
                  <a:pt x="64" y="1375"/>
                </a:lnTo>
                <a:lnTo>
                  <a:pt x="50" y="1359"/>
                </a:lnTo>
                <a:lnTo>
                  <a:pt x="43" y="1350"/>
                </a:lnTo>
                <a:lnTo>
                  <a:pt x="37" y="1342"/>
                </a:lnTo>
                <a:lnTo>
                  <a:pt x="31" y="1334"/>
                </a:lnTo>
                <a:lnTo>
                  <a:pt x="25" y="1327"/>
                </a:lnTo>
                <a:lnTo>
                  <a:pt x="22" y="1319"/>
                </a:lnTo>
                <a:lnTo>
                  <a:pt x="18" y="1311"/>
                </a:lnTo>
                <a:lnTo>
                  <a:pt x="10" y="1296"/>
                </a:lnTo>
                <a:lnTo>
                  <a:pt x="6" y="1285"/>
                </a:lnTo>
                <a:lnTo>
                  <a:pt x="4" y="1279"/>
                </a:lnTo>
                <a:lnTo>
                  <a:pt x="2" y="1273"/>
                </a:lnTo>
                <a:lnTo>
                  <a:pt x="0" y="1267"/>
                </a:lnTo>
                <a:lnTo>
                  <a:pt x="0" y="1263"/>
                </a:lnTo>
                <a:lnTo>
                  <a:pt x="0" y="1260"/>
                </a:lnTo>
                <a:lnTo>
                  <a:pt x="0" y="1258"/>
                </a:lnTo>
                <a:lnTo>
                  <a:pt x="0" y="1254"/>
                </a:lnTo>
                <a:lnTo>
                  <a:pt x="0" y="1252"/>
                </a:lnTo>
                <a:lnTo>
                  <a:pt x="2" y="1248"/>
                </a:lnTo>
                <a:lnTo>
                  <a:pt x="4" y="1244"/>
                </a:lnTo>
                <a:lnTo>
                  <a:pt x="6" y="1240"/>
                </a:lnTo>
                <a:lnTo>
                  <a:pt x="10" y="1235"/>
                </a:lnTo>
                <a:lnTo>
                  <a:pt x="14" y="1231"/>
                </a:lnTo>
                <a:lnTo>
                  <a:pt x="18" y="1227"/>
                </a:lnTo>
                <a:lnTo>
                  <a:pt x="25" y="1217"/>
                </a:lnTo>
                <a:lnTo>
                  <a:pt x="37" y="1206"/>
                </a:lnTo>
                <a:lnTo>
                  <a:pt x="48" y="1196"/>
                </a:lnTo>
                <a:lnTo>
                  <a:pt x="64" y="1185"/>
                </a:lnTo>
                <a:lnTo>
                  <a:pt x="70" y="1181"/>
                </a:lnTo>
                <a:lnTo>
                  <a:pt x="77" y="1177"/>
                </a:lnTo>
                <a:lnTo>
                  <a:pt x="85" y="1171"/>
                </a:lnTo>
                <a:lnTo>
                  <a:pt x="94" y="1166"/>
                </a:lnTo>
                <a:lnTo>
                  <a:pt x="102" y="1158"/>
                </a:lnTo>
                <a:lnTo>
                  <a:pt x="110" y="1150"/>
                </a:lnTo>
                <a:lnTo>
                  <a:pt x="119" y="1142"/>
                </a:lnTo>
                <a:lnTo>
                  <a:pt x="127" y="1133"/>
                </a:lnTo>
                <a:lnTo>
                  <a:pt x="137" y="1121"/>
                </a:lnTo>
                <a:lnTo>
                  <a:pt x="146" y="1110"/>
                </a:lnTo>
                <a:lnTo>
                  <a:pt x="156" y="1098"/>
                </a:lnTo>
                <a:lnTo>
                  <a:pt x="165" y="1085"/>
                </a:lnTo>
                <a:lnTo>
                  <a:pt x="173" y="1071"/>
                </a:lnTo>
                <a:lnTo>
                  <a:pt x="183" y="1056"/>
                </a:lnTo>
                <a:lnTo>
                  <a:pt x="192" y="1041"/>
                </a:lnTo>
                <a:lnTo>
                  <a:pt x="202" y="1025"/>
                </a:lnTo>
                <a:lnTo>
                  <a:pt x="210" y="1010"/>
                </a:lnTo>
                <a:lnTo>
                  <a:pt x="217" y="995"/>
                </a:lnTo>
                <a:lnTo>
                  <a:pt x="225" y="979"/>
                </a:lnTo>
                <a:lnTo>
                  <a:pt x="235" y="962"/>
                </a:lnTo>
                <a:lnTo>
                  <a:pt x="244" y="945"/>
                </a:lnTo>
                <a:lnTo>
                  <a:pt x="254" y="926"/>
                </a:lnTo>
                <a:lnTo>
                  <a:pt x="265" y="906"/>
                </a:lnTo>
                <a:lnTo>
                  <a:pt x="275" y="885"/>
                </a:lnTo>
                <a:lnTo>
                  <a:pt x="286" y="864"/>
                </a:lnTo>
                <a:lnTo>
                  <a:pt x="298" y="841"/>
                </a:lnTo>
                <a:lnTo>
                  <a:pt x="309" y="818"/>
                </a:lnTo>
                <a:lnTo>
                  <a:pt x="321" y="795"/>
                </a:lnTo>
                <a:lnTo>
                  <a:pt x="332" y="770"/>
                </a:lnTo>
                <a:lnTo>
                  <a:pt x="344" y="743"/>
                </a:lnTo>
                <a:lnTo>
                  <a:pt x="356" y="718"/>
                </a:lnTo>
                <a:lnTo>
                  <a:pt x="367" y="6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3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1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四横间距匀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2"/>
          <p:cNvSpPr/>
          <p:nvPr/>
        </p:nvSpPr>
        <p:spPr>
          <a:xfrm>
            <a:off x="2192400" y="1825560"/>
            <a:ext cx="103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ě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69"/>
          <p:cNvSpPr/>
          <p:nvPr/>
        </p:nvSpPr>
        <p:spPr>
          <a:xfrm>
            <a:off x="5572080" y="2820960"/>
            <a:ext cx="763560" cy="1285920"/>
          </a:xfrm>
          <a:custGeom>
            <a:avLst/>
            <a:gdLst/>
            <a:ahLst/>
            <a:rect l="l" t="t" r="r" b="b"/>
            <a:pathLst>
              <a:path w="1444" h="2428">
                <a:moveTo>
                  <a:pt x="1028" y="151"/>
                </a:moveTo>
                <a:lnTo>
                  <a:pt x="1022" y="141"/>
                </a:lnTo>
                <a:lnTo>
                  <a:pt x="1017" y="131"/>
                </a:lnTo>
                <a:lnTo>
                  <a:pt x="1012" y="122"/>
                </a:lnTo>
                <a:lnTo>
                  <a:pt x="1009" y="113"/>
                </a:lnTo>
                <a:lnTo>
                  <a:pt x="1006" y="105"/>
                </a:lnTo>
                <a:lnTo>
                  <a:pt x="1004" y="96"/>
                </a:lnTo>
                <a:lnTo>
                  <a:pt x="1002" y="89"/>
                </a:lnTo>
                <a:lnTo>
                  <a:pt x="1001" y="80"/>
                </a:lnTo>
                <a:lnTo>
                  <a:pt x="1001" y="73"/>
                </a:lnTo>
                <a:lnTo>
                  <a:pt x="1001" y="66"/>
                </a:lnTo>
                <a:lnTo>
                  <a:pt x="1001" y="59"/>
                </a:lnTo>
                <a:lnTo>
                  <a:pt x="1002" y="51"/>
                </a:lnTo>
                <a:lnTo>
                  <a:pt x="1004" y="46"/>
                </a:lnTo>
                <a:lnTo>
                  <a:pt x="1005" y="38"/>
                </a:lnTo>
                <a:lnTo>
                  <a:pt x="1008" y="31"/>
                </a:lnTo>
                <a:lnTo>
                  <a:pt x="1011" y="26"/>
                </a:lnTo>
                <a:lnTo>
                  <a:pt x="1015" y="21"/>
                </a:lnTo>
                <a:lnTo>
                  <a:pt x="1019" y="18"/>
                </a:lnTo>
                <a:lnTo>
                  <a:pt x="1024" y="15"/>
                </a:lnTo>
                <a:lnTo>
                  <a:pt x="1031" y="13"/>
                </a:lnTo>
                <a:lnTo>
                  <a:pt x="1037" y="10"/>
                </a:lnTo>
                <a:lnTo>
                  <a:pt x="1045" y="7"/>
                </a:lnTo>
                <a:lnTo>
                  <a:pt x="1054" y="4"/>
                </a:lnTo>
                <a:lnTo>
                  <a:pt x="1063" y="2"/>
                </a:lnTo>
                <a:lnTo>
                  <a:pt x="1073" y="1"/>
                </a:lnTo>
                <a:lnTo>
                  <a:pt x="1084" y="0"/>
                </a:lnTo>
                <a:lnTo>
                  <a:pt x="1096" y="0"/>
                </a:lnTo>
                <a:lnTo>
                  <a:pt x="1109" y="0"/>
                </a:lnTo>
                <a:lnTo>
                  <a:pt x="1122" y="0"/>
                </a:lnTo>
                <a:lnTo>
                  <a:pt x="1136" y="1"/>
                </a:lnTo>
                <a:lnTo>
                  <a:pt x="1152" y="4"/>
                </a:lnTo>
                <a:lnTo>
                  <a:pt x="1168" y="7"/>
                </a:lnTo>
                <a:lnTo>
                  <a:pt x="1184" y="11"/>
                </a:lnTo>
                <a:lnTo>
                  <a:pt x="1198" y="14"/>
                </a:lnTo>
                <a:lnTo>
                  <a:pt x="1214" y="18"/>
                </a:lnTo>
                <a:lnTo>
                  <a:pt x="1228" y="24"/>
                </a:lnTo>
                <a:lnTo>
                  <a:pt x="1243" y="28"/>
                </a:lnTo>
                <a:lnTo>
                  <a:pt x="1257" y="34"/>
                </a:lnTo>
                <a:lnTo>
                  <a:pt x="1271" y="40"/>
                </a:lnTo>
                <a:lnTo>
                  <a:pt x="1284" y="46"/>
                </a:lnTo>
                <a:lnTo>
                  <a:pt x="1297" y="51"/>
                </a:lnTo>
                <a:lnTo>
                  <a:pt x="1309" y="57"/>
                </a:lnTo>
                <a:lnTo>
                  <a:pt x="1322" y="63"/>
                </a:lnTo>
                <a:lnTo>
                  <a:pt x="1333" y="70"/>
                </a:lnTo>
                <a:lnTo>
                  <a:pt x="1343" y="76"/>
                </a:lnTo>
                <a:lnTo>
                  <a:pt x="1355" y="83"/>
                </a:lnTo>
                <a:lnTo>
                  <a:pt x="1365" y="90"/>
                </a:lnTo>
                <a:lnTo>
                  <a:pt x="1375" y="97"/>
                </a:lnTo>
                <a:lnTo>
                  <a:pt x="1384" y="106"/>
                </a:lnTo>
                <a:lnTo>
                  <a:pt x="1392" y="116"/>
                </a:lnTo>
                <a:lnTo>
                  <a:pt x="1401" y="125"/>
                </a:lnTo>
                <a:lnTo>
                  <a:pt x="1408" y="133"/>
                </a:lnTo>
                <a:lnTo>
                  <a:pt x="1414" y="142"/>
                </a:lnTo>
                <a:lnTo>
                  <a:pt x="1420" y="149"/>
                </a:lnTo>
                <a:lnTo>
                  <a:pt x="1424" y="157"/>
                </a:lnTo>
                <a:lnTo>
                  <a:pt x="1430" y="164"/>
                </a:lnTo>
                <a:lnTo>
                  <a:pt x="1433" y="171"/>
                </a:lnTo>
                <a:lnTo>
                  <a:pt x="1435" y="177"/>
                </a:lnTo>
                <a:lnTo>
                  <a:pt x="1438" y="182"/>
                </a:lnTo>
                <a:lnTo>
                  <a:pt x="1441" y="187"/>
                </a:lnTo>
                <a:lnTo>
                  <a:pt x="1443" y="193"/>
                </a:lnTo>
                <a:lnTo>
                  <a:pt x="1443" y="197"/>
                </a:lnTo>
                <a:lnTo>
                  <a:pt x="1444" y="201"/>
                </a:lnTo>
                <a:lnTo>
                  <a:pt x="1444" y="204"/>
                </a:lnTo>
                <a:lnTo>
                  <a:pt x="1444" y="208"/>
                </a:lnTo>
                <a:lnTo>
                  <a:pt x="1443" y="213"/>
                </a:lnTo>
                <a:lnTo>
                  <a:pt x="1443" y="218"/>
                </a:lnTo>
                <a:lnTo>
                  <a:pt x="1441" y="224"/>
                </a:lnTo>
                <a:lnTo>
                  <a:pt x="1438" y="231"/>
                </a:lnTo>
                <a:lnTo>
                  <a:pt x="1437" y="239"/>
                </a:lnTo>
                <a:lnTo>
                  <a:pt x="1434" y="249"/>
                </a:lnTo>
                <a:lnTo>
                  <a:pt x="1431" y="257"/>
                </a:lnTo>
                <a:lnTo>
                  <a:pt x="1427" y="269"/>
                </a:lnTo>
                <a:lnTo>
                  <a:pt x="1422" y="279"/>
                </a:lnTo>
                <a:lnTo>
                  <a:pt x="1418" y="292"/>
                </a:lnTo>
                <a:lnTo>
                  <a:pt x="1414" y="305"/>
                </a:lnTo>
                <a:lnTo>
                  <a:pt x="1408" y="318"/>
                </a:lnTo>
                <a:lnTo>
                  <a:pt x="1402" y="334"/>
                </a:lnTo>
                <a:lnTo>
                  <a:pt x="1397" y="348"/>
                </a:lnTo>
                <a:lnTo>
                  <a:pt x="1389" y="365"/>
                </a:lnTo>
                <a:lnTo>
                  <a:pt x="1382" y="383"/>
                </a:lnTo>
                <a:lnTo>
                  <a:pt x="1375" y="400"/>
                </a:lnTo>
                <a:lnTo>
                  <a:pt x="1366" y="419"/>
                </a:lnTo>
                <a:lnTo>
                  <a:pt x="1358" y="439"/>
                </a:lnTo>
                <a:lnTo>
                  <a:pt x="1349" y="459"/>
                </a:lnTo>
                <a:lnTo>
                  <a:pt x="1339" y="480"/>
                </a:lnTo>
                <a:lnTo>
                  <a:pt x="1329" y="503"/>
                </a:lnTo>
                <a:lnTo>
                  <a:pt x="1319" y="527"/>
                </a:lnTo>
                <a:lnTo>
                  <a:pt x="1309" y="550"/>
                </a:lnTo>
                <a:lnTo>
                  <a:pt x="1297" y="574"/>
                </a:lnTo>
                <a:lnTo>
                  <a:pt x="1284" y="600"/>
                </a:lnTo>
                <a:lnTo>
                  <a:pt x="1273" y="627"/>
                </a:lnTo>
                <a:lnTo>
                  <a:pt x="1260" y="655"/>
                </a:lnTo>
                <a:lnTo>
                  <a:pt x="1247" y="682"/>
                </a:lnTo>
                <a:lnTo>
                  <a:pt x="1232" y="711"/>
                </a:lnTo>
                <a:lnTo>
                  <a:pt x="1219" y="741"/>
                </a:lnTo>
                <a:lnTo>
                  <a:pt x="1189" y="801"/>
                </a:lnTo>
                <a:lnTo>
                  <a:pt x="1160" y="862"/>
                </a:lnTo>
                <a:lnTo>
                  <a:pt x="1132" y="921"/>
                </a:lnTo>
                <a:lnTo>
                  <a:pt x="1101" y="980"/>
                </a:lnTo>
                <a:lnTo>
                  <a:pt x="1073" y="1039"/>
                </a:lnTo>
                <a:lnTo>
                  <a:pt x="1042" y="1097"/>
                </a:lnTo>
                <a:lnTo>
                  <a:pt x="1011" y="1154"/>
                </a:lnTo>
                <a:lnTo>
                  <a:pt x="981" y="1212"/>
                </a:lnTo>
                <a:lnTo>
                  <a:pt x="949" y="1268"/>
                </a:lnTo>
                <a:lnTo>
                  <a:pt x="917" y="1324"/>
                </a:lnTo>
                <a:lnTo>
                  <a:pt x="886" y="1380"/>
                </a:lnTo>
                <a:lnTo>
                  <a:pt x="852" y="1436"/>
                </a:lnTo>
                <a:lnTo>
                  <a:pt x="819" y="1491"/>
                </a:lnTo>
                <a:lnTo>
                  <a:pt x="786" y="1546"/>
                </a:lnTo>
                <a:lnTo>
                  <a:pt x="752" y="1600"/>
                </a:lnTo>
                <a:lnTo>
                  <a:pt x="717" y="1655"/>
                </a:lnTo>
                <a:lnTo>
                  <a:pt x="698" y="1681"/>
                </a:lnTo>
                <a:lnTo>
                  <a:pt x="681" y="1707"/>
                </a:lnTo>
                <a:lnTo>
                  <a:pt x="664" y="1733"/>
                </a:lnTo>
                <a:lnTo>
                  <a:pt x="647" y="1759"/>
                </a:lnTo>
                <a:lnTo>
                  <a:pt x="631" y="1783"/>
                </a:lnTo>
                <a:lnTo>
                  <a:pt x="613" y="1806"/>
                </a:lnTo>
                <a:lnTo>
                  <a:pt x="598" y="1831"/>
                </a:lnTo>
                <a:lnTo>
                  <a:pt x="580" y="1854"/>
                </a:lnTo>
                <a:lnTo>
                  <a:pt x="564" y="1875"/>
                </a:lnTo>
                <a:lnTo>
                  <a:pt x="549" y="1898"/>
                </a:lnTo>
                <a:lnTo>
                  <a:pt x="533" y="1920"/>
                </a:lnTo>
                <a:lnTo>
                  <a:pt x="517" y="1940"/>
                </a:lnTo>
                <a:lnTo>
                  <a:pt x="503" y="1962"/>
                </a:lnTo>
                <a:lnTo>
                  <a:pt x="487" y="1981"/>
                </a:lnTo>
                <a:lnTo>
                  <a:pt x="472" y="2001"/>
                </a:lnTo>
                <a:lnTo>
                  <a:pt x="457" y="2019"/>
                </a:lnTo>
                <a:lnTo>
                  <a:pt x="442" y="2038"/>
                </a:lnTo>
                <a:lnTo>
                  <a:pt x="428" y="2057"/>
                </a:lnTo>
                <a:lnTo>
                  <a:pt x="413" y="2074"/>
                </a:lnTo>
                <a:lnTo>
                  <a:pt x="399" y="2091"/>
                </a:lnTo>
                <a:lnTo>
                  <a:pt x="386" y="2107"/>
                </a:lnTo>
                <a:lnTo>
                  <a:pt x="372" y="2125"/>
                </a:lnTo>
                <a:lnTo>
                  <a:pt x="359" y="2140"/>
                </a:lnTo>
                <a:lnTo>
                  <a:pt x="346" y="2155"/>
                </a:lnTo>
                <a:lnTo>
                  <a:pt x="333" y="2171"/>
                </a:lnTo>
                <a:lnTo>
                  <a:pt x="320" y="2185"/>
                </a:lnTo>
                <a:lnTo>
                  <a:pt x="307" y="2199"/>
                </a:lnTo>
                <a:lnTo>
                  <a:pt x="295" y="2212"/>
                </a:lnTo>
                <a:lnTo>
                  <a:pt x="284" y="2227"/>
                </a:lnTo>
                <a:lnTo>
                  <a:pt x="271" y="2238"/>
                </a:lnTo>
                <a:lnTo>
                  <a:pt x="259" y="2251"/>
                </a:lnTo>
                <a:lnTo>
                  <a:pt x="249" y="2264"/>
                </a:lnTo>
                <a:lnTo>
                  <a:pt x="236" y="2276"/>
                </a:lnTo>
                <a:lnTo>
                  <a:pt x="223" y="2286"/>
                </a:lnTo>
                <a:lnTo>
                  <a:pt x="212" y="2297"/>
                </a:lnTo>
                <a:lnTo>
                  <a:pt x="199" y="2307"/>
                </a:lnTo>
                <a:lnTo>
                  <a:pt x="187" y="2317"/>
                </a:lnTo>
                <a:lnTo>
                  <a:pt x="176" y="2327"/>
                </a:lnTo>
                <a:lnTo>
                  <a:pt x="166" y="2336"/>
                </a:lnTo>
                <a:lnTo>
                  <a:pt x="156" y="2345"/>
                </a:lnTo>
                <a:lnTo>
                  <a:pt x="144" y="2353"/>
                </a:lnTo>
                <a:lnTo>
                  <a:pt x="134" y="2361"/>
                </a:lnTo>
                <a:lnTo>
                  <a:pt x="125" y="2368"/>
                </a:lnTo>
                <a:lnTo>
                  <a:pt x="115" y="2375"/>
                </a:lnTo>
                <a:lnTo>
                  <a:pt x="107" y="2381"/>
                </a:lnTo>
                <a:lnTo>
                  <a:pt x="98" y="2388"/>
                </a:lnTo>
                <a:lnTo>
                  <a:pt x="89" y="2394"/>
                </a:lnTo>
                <a:lnTo>
                  <a:pt x="82" y="2398"/>
                </a:lnTo>
                <a:lnTo>
                  <a:pt x="75" y="2404"/>
                </a:lnTo>
                <a:lnTo>
                  <a:pt x="66" y="2408"/>
                </a:lnTo>
                <a:lnTo>
                  <a:pt x="61" y="2411"/>
                </a:lnTo>
                <a:lnTo>
                  <a:pt x="53" y="2415"/>
                </a:lnTo>
                <a:lnTo>
                  <a:pt x="48" y="2418"/>
                </a:lnTo>
                <a:lnTo>
                  <a:pt x="42" y="2421"/>
                </a:lnTo>
                <a:lnTo>
                  <a:pt x="36" y="2423"/>
                </a:lnTo>
                <a:lnTo>
                  <a:pt x="32" y="2425"/>
                </a:lnTo>
                <a:lnTo>
                  <a:pt x="28" y="2427"/>
                </a:lnTo>
                <a:lnTo>
                  <a:pt x="23" y="2427"/>
                </a:lnTo>
                <a:lnTo>
                  <a:pt x="19" y="2428"/>
                </a:lnTo>
                <a:lnTo>
                  <a:pt x="16" y="2428"/>
                </a:lnTo>
                <a:lnTo>
                  <a:pt x="13" y="2428"/>
                </a:lnTo>
                <a:lnTo>
                  <a:pt x="10" y="2427"/>
                </a:lnTo>
                <a:lnTo>
                  <a:pt x="7" y="2427"/>
                </a:lnTo>
                <a:lnTo>
                  <a:pt x="6" y="2425"/>
                </a:lnTo>
                <a:lnTo>
                  <a:pt x="3" y="2424"/>
                </a:lnTo>
                <a:lnTo>
                  <a:pt x="2" y="2423"/>
                </a:lnTo>
                <a:lnTo>
                  <a:pt x="0" y="2420"/>
                </a:lnTo>
                <a:lnTo>
                  <a:pt x="0" y="2415"/>
                </a:lnTo>
                <a:lnTo>
                  <a:pt x="0" y="2410"/>
                </a:lnTo>
                <a:lnTo>
                  <a:pt x="2" y="2404"/>
                </a:lnTo>
                <a:lnTo>
                  <a:pt x="4" y="2395"/>
                </a:lnTo>
                <a:lnTo>
                  <a:pt x="9" y="2387"/>
                </a:lnTo>
                <a:lnTo>
                  <a:pt x="13" y="2376"/>
                </a:lnTo>
                <a:lnTo>
                  <a:pt x="19" y="2366"/>
                </a:lnTo>
                <a:lnTo>
                  <a:pt x="25" y="2355"/>
                </a:lnTo>
                <a:lnTo>
                  <a:pt x="33" y="2342"/>
                </a:lnTo>
                <a:lnTo>
                  <a:pt x="42" y="2327"/>
                </a:lnTo>
                <a:lnTo>
                  <a:pt x="52" y="2313"/>
                </a:lnTo>
                <a:lnTo>
                  <a:pt x="63" y="2297"/>
                </a:lnTo>
                <a:lnTo>
                  <a:pt x="75" y="2281"/>
                </a:lnTo>
                <a:lnTo>
                  <a:pt x="82" y="2273"/>
                </a:lnTo>
                <a:lnTo>
                  <a:pt x="88" y="2264"/>
                </a:lnTo>
                <a:lnTo>
                  <a:pt x="95" y="2254"/>
                </a:lnTo>
                <a:lnTo>
                  <a:pt x="104" y="2244"/>
                </a:lnTo>
                <a:lnTo>
                  <a:pt x="111" y="2232"/>
                </a:lnTo>
                <a:lnTo>
                  <a:pt x="120" y="2221"/>
                </a:lnTo>
                <a:lnTo>
                  <a:pt x="128" y="2209"/>
                </a:lnTo>
                <a:lnTo>
                  <a:pt x="137" y="2198"/>
                </a:lnTo>
                <a:lnTo>
                  <a:pt x="146" y="2185"/>
                </a:lnTo>
                <a:lnTo>
                  <a:pt x="154" y="2172"/>
                </a:lnTo>
                <a:lnTo>
                  <a:pt x="164" y="2158"/>
                </a:lnTo>
                <a:lnTo>
                  <a:pt x="174" y="2143"/>
                </a:lnTo>
                <a:lnTo>
                  <a:pt x="184" y="2129"/>
                </a:lnTo>
                <a:lnTo>
                  <a:pt x="195" y="2113"/>
                </a:lnTo>
                <a:lnTo>
                  <a:pt x="206" y="2097"/>
                </a:lnTo>
                <a:lnTo>
                  <a:pt x="216" y="2080"/>
                </a:lnTo>
                <a:lnTo>
                  <a:pt x="228" y="2064"/>
                </a:lnTo>
                <a:lnTo>
                  <a:pt x="239" y="2045"/>
                </a:lnTo>
                <a:lnTo>
                  <a:pt x="251" y="2028"/>
                </a:lnTo>
                <a:lnTo>
                  <a:pt x="262" y="2009"/>
                </a:lnTo>
                <a:lnTo>
                  <a:pt x="275" y="1991"/>
                </a:lnTo>
                <a:lnTo>
                  <a:pt x="287" y="1970"/>
                </a:lnTo>
                <a:lnTo>
                  <a:pt x="300" y="1950"/>
                </a:lnTo>
                <a:lnTo>
                  <a:pt x="313" y="1930"/>
                </a:lnTo>
                <a:lnTo>
                  <a:pt x="326" y="1909"/>
                </a:lnTo>
                <a:lnTo>
                  <a:pt x="338" y="1887"/>
                </a:lnTo>
                <a:lnTo>
                  <a:pt x="351" y="1864"/>
                </a:lnTo>
                <a:lnTo>
                  <a:pt x="366" y="1841"/>
                </a:lnTo>
                <a:lnTo>
                  <a:pt x="379" y="1818"/>
                </a:lnTo>
                <a:lnTo>
                  <a:pt x="393" y="1793"/>
                </a:lnTo>
                <a:lnTo>
                  <a:pt x="408" y="1769"/>
                </a:lnTo>
                <a:lnTo>
                  <a:pt x="422" y="1744"/>
                </a:lnTo>
                <a:lnTo>
                  <a:pt x="478" y="1649"/>
                </a:lnTo>
                <a:lnTo>
                  <a:pt x="507" y="1603"/>
                </a:lnTo>
                <a:lnTo>
                  <a:pt x="534" y="1556"/>
                </a:lnTo>
                <a:lnTo>
                  <a:pt x="562" y="1510"/>
                </a:lnTo>
                <a:lnTo>
                  <a:pt x="588" y="1462"/>
                </a:lnTo>
                <a:lnTo>
                  <a:pt x="615" y="1416"/>
                </a:lnTo>
                <a:lnTo>
                  <a:pt x="641" y="1370"/>
                </a:lnTo>
                <a:lnTo>
                  <a:pt x="665" y="1324"/>
                </a:lnTo>
                <a:lnTo>
                  <a:pt x="690" y="1278"/>
                </a:lnTo>
                <a:lnTo>
                  <a:pt x="713" y="1233"/>
                </a:lnTo>
                <a:lnTo>
                  <a:pt x="736" y="1187"/>
                </a:lnTo>
                <a:lnTo>
                  <a:pt x="759" y="1143"/>
                </a:lnTo>
                <a:lnTo>
                  <a:pt x="780" y="1098"/>
                </a:lnTo>
                <a:lnTo>
                  <a:pt x="801" y="1055"/>
                </a:lnTo>
                <a:lnTo>
                  <a:pt x="821" y="1010"/>
                </a:lnTo>
                <a:lnTo>
                  <a:pt x="837" y="967"/>
                </a:lnTo>
                <a:lnTo>
                  <a:pt x="851" y="925"/>
                </a:lnTo>
                <a:lnTo>
                  <a:pt x="867" y="885"/>
                </a:lnTo>
                <a:lnTo>
                  <a:pt x="881" y="845"/>
                </a:lnTo>
                <a:lnTo>
                  <a:pt x="896" y="806"/>
                </a:lnTo>
                <a:lnTo>
                  <a:pt x="910" y="768"/>
                </a:lnTo>
                <a:lnTo>
                  <a:pt x="924" y="732"/>
                </a:lnTo>
                <a:lnTo>
                  <a:pt x="937" y="696"/>
                </a:lnTo>
                <a:lnTo>
                  <a:pt x="950" y="662"/>
                </a:lnTo>
                <a:lnTo>
                  <a:pt x="962" y="627"/>
                </a:lnTo>
                <a:lnTo>
                  <a:pt x="975" y="594"/>
                </a:lnTo>
                <a:lnTo>
                  <a:pt x="986" y="561"/>
                </a:lnTo>
                <a:lnTo>
                  <a:pt x="998" y="529"/>
                </a:lnTo>
                <a:lnTo>
                  <a:pt x="1008" y="498"/>
                </a:lnTo>
                <a:lnTo>
                  <a:pt x="1018" y="467"/>
                </a:lnTo>
                <a:lnTo>
                  <a:pt x="1028" y="437"/>
                </a:lnTo>
                <a:lnTo>
                  <a:pt x="1032" y="421"/>
                </a:lnTo>
                <a:lnTo>
                  <a:pt x="1037" y="407"/>
                </a:lnTo>
                <a:lnTo>
                  <a:pt x="1041" y="393"/>
                </a:lnTo>
                <a:lnTo>
                  <a:pt x="1045" y="380"/>
                </a:lnTo>
                <a:lnTo>
                  <a:pt x="1048" y="367"/>
                </a:lnTo>
                <a:lnTo>
                  <a:pt x="1051" y="354"/>
                </a:lnTo>
                <a:lnTo>
                  <a:pt x="1054" y="341"/>
                </a:lnTo>
                <a:lnTo>
                  <a:pt x="1057" y="329"/>
                </a:lnTo>
                <a:lnTo>
                  <a:pt x="1060" y="318"/>
                </a:lnTo>
                <a:lnTo>
                  <a:pt x="1061" y="306"/>
                </a:lnTo>
                <a:lnTo>
                  <a:pt x="1063" y="295"/>
                </a:lnTo>
                <a:lnTo>
                  <a:pt x="1064" y="285"/>
                </a:lnTo>
                <a:lnTo>
                  <a:pt x="1065" y="275"/>
                </a:lnTo>
                <a:lnTo>
                  <a:pt x="1065" y="264"/>
                </a:lnTo>
                <a:lnTo>
                  <a:pt x="1067" y="256"/>
                </a:lnTo>
                <a:lnTo>
                  <a:pt x="1067" y="247"/>
                </a:lnTo>
                <a:lnTo>
                  <a:pt x="1067" y="239"/>
                </a:lnTo>
                <a:lnTo>
                  <a:pt x="1065" y="230"/>
                </a:lnTo>
                <a:lnTo>
                  <a:pt x="1064" y="214"/>
                </a:lnTo>
                <a:lnTo>
                  <a:pt x="1061" y="200"/>
                </a:lnTo>
                <a:lnTo>
                  <a:pt x="1057" y="188"/>
                </a:lnTo>
                <a:lnTo>
                  <a:pt x="1051" y="177"/>
                </a:lnTo>
                <a:lnTo>
                  <a:pt x="1045" y="167"/>
                </a:lnTo>
                <a:lnTo>
                  <a:pt x="1037" y="158"/>
                </a:lnTo>
                <a:lnTo>
                  <a:pt x="1028" y="1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70"/>
          <p:cNvSpPr/>
          <p:nvPr/>
        </p:nvSpPr>
        <p:spPr>
          <a:xfrm>
            <a:off x="6070680" y="3270240"/>
            <a:ext cx="558720" cy="407880"/>
          </a:xfrm>
          <a:custGeom>
            <a:avLst/>
            <a:gdLst/>
            <a:ahLst/>
            <a:rect l="l" t="t" r="r" b="b"/>
            <a:pathLst>
              <a:path w="1058" h="770">
                <a:moveTo>
                  <a:pt x="728" y="556"/>
                </a:moveTo>
                <a:lnTo>
                  <a:pt x="719" y="569"/>
                </a:lnTo>
                <a:lnTo>
                  <a:pt x="712" y="582"/>
                </a:lnTo>
                <a:lnTo>
                  <a:pt x="704" y="593"/>
                </a:lnTo>
                <a:lnTo>
                  <a:pt x="696" y="606"/>
                </a:lnTo>
                <a:lnTo>
                  <a:pt x="689" y="618"/>
                </a:lnTo>
                <a:lnTo>
                  <a:pt x="682" y="628"/>
                </a:lnTo>
                <a:lnTo>
                  <a:pt x="675" y="639"/>
                </a:lnTo>
                <a:lnTo>
                  <a:pt x="668" y="649"/>
                </a:lnTo>
                <a:lnTo>
                  <a:pt x="660" y="659"/>
                </a:lnTo>
                <a:lnTo>
                  <a:pt x="653" y="668"/>
                </a:lnTo>
                <a:lnTo>
                  <a:pt x="646" y="678"/>
                </a:lnTo>
                <a:lnTo>
                  <a:pt x="640" y="687"/>
                </a:lnTo>
                <a:lnTo>
                  <a:pt x="633" y="694"/>
                </a:lnTo>
                <a:lnTo>
                  <a:pt x="627" y="703"/>
                </a:lnTo>
                <a:lnTo>
                  <a:pt x="622" y="710"/>
                </a:lnTo>
                <a:lnTo>
                  <a:pt x="616" y="717"/>
                </a:lnTo>
                <a:lnTo>
                  <a:pt x="610" y="723"/>
                </a:lnTo>
                <a:lnTo>
                  <a:pt x="604" y="728"/>
                </a:lnTo>
                <a:lnTo>
                  <a:pt x="600" y="734"/>
                </a:lnTo>
                <a:lnTo>
                  <a:pt x="594" y="740"/>
                </a:lnTo>
                <a:lnTo>
                  <a:pt x="590" y="744"/>
                </a:lnTo>
                <a:lnTo>
                  <a:pt x="586" y="749"/>
                </a:lnTo>
                <a:lnTo>
                  <a:pt x="581" y="753"/>
                </a:lnTo>
                <a:lnTo>
                  <a:pt x="577" y="756"/>
                </a:lnTo>
                <a:lnTo>
                  <a:pt x="573" y="759"/>
                </a:lnTo>
                <a:lnTo>
                  <a:pt x="570" y="762"/>
                </a:lnTo>
                <a:lnTo>
                  <a:pt x="567" y="764"/>
                </a:lnTo>
                <a:lnTo>
                  <a:pt x="564" y="766"/>
                </a:lnTo>
                <a:lnTo>
                  <a:pt x="561" y="767"/>
                </a:lnTo>
                <a:lnTo>
                  <a:pt x="558" y="769"/>
                </a:lnTo>
                <a:lnTo>
                  <a:pt x="557" y="769"/>
                </a:lnTo>
                <a:lnTo>
                  <a:pt x="555" y="770"/>
                </a:lnTo>
                <a:lnTo>
                  <a:pt x="551" y="769"/>
                </a:lnTo>
                <a:lnTo>
                  <a:pt x="548" y="769"/>
                </a:lnTo>
                <a:lnTo>
                  <a:pt x="545" y="767"/>
                </a:lnTo>
                <a:lnTo>
                  <a:pt x="544" y="766"/>
                </a:lnTo>
                <a:lnTo>
                  <a:pt x="541" y="763"/>
                </a:lnTo>
                <a:lnTo>
                  <a:pt x="540" y="760"/>
                </a:lnTo>
                <a:lnTo>
                  <a:pt x="537" y="757"/>
                </a:lnTo>
                <a:lnTo>
                  <a:pt x="535" y="753"/>
                </a:lnTo>
                <a:lnTo>
                  <a:pt x="534" y="749"/>
                </a:lnTo>
                <a:lnTo>
                  <a:pt x="534" y="744"/>
                </a:lnTo>
                <a:lnTo>
                  <a:pt x="532" y="739"/>
                </a:lnTo>
                <a:lnTo>
                  <a:pt x="531" y="733"/>
                </a:lnTo>
                <a:lnTo>
                  <a:pt x="531" y="727"/>
                </a:lnTo>
                <a:lnTo>
                  <a:pt x="531" y="720"/>
                </a:lnTo>
                <a:lnTo>
                  <a:pt x="531" y="713"/>
                </a:lnTo>
                <a:lnTo>
                  <a:pt x="531" y="705"/>
                </a:lnTo>
                <a:lnTo>
                  <a:pt x="532" y="697"/>
                </a:lnTo>
                <a:lnTo>
                  <a:pt x="532" y="688"/>
                </a:lnTo>
                <a:lnTo>
                  <a:pt x="534" y="679"/>
                </a:lnTo>
                <a:lnTo>
                  <a:pt x="535" y="669"/>
                </a:lnTo>
                <a:lnTo>
                  <a:pt x="537" y="659"/>
                </a:lnTo>
                <a:lnTo>
                  <a:pt x="538" y="649"/>
                </a:lnTo>
                <a:lnTo>
                  <a:pt x="541" y="638"/>
                </a:lnTo>
                <a:lnTo>
                  <a:pt x="542" y="626"/>
                </a:lnTo>
                <a:lnTo>
                  <a:pt x="545" y="615"/>
                </a:lnTo>
                <a:lnTo>
                  <a:pt x="548" y="602"/>
                </a:lnTo>
                <a:lnTo>
                  <a:pt x="551" y="589"/>
                </a:lnTo>
                <a:lnTo>
                  <a:pt x="555" y="576"/>
                </a:lnTo>
                <a:lnTo>
                  <a:pt x="558" y="563"/>
                </a:lnTo>
                <a:lnTo>
                  <a:pt x="563" y="548"/>
                </a:lnTo>
                <a:lnTo>
                  <a:pt x="567" y="534"/>
                </a:lnTo>
                <a:lnTo>
                  <a:pt x="573" y="520"/>
                </a:lnTo>
                <a:lnTo>
                  <a:pt x="577" y="504"/>
                </a:lnTo>
                <a:lnTo>
                  <a:pt x="581" y="489"/>
                </a:lnTo>
                <a:lnTo>
                  <a:pt x="586" y="475"/>
                </a:lnTo>
                <a:lnTo>
                  <a:pt x="590" y="462"/>
                </a:lnTo>
                <a:lnTo>
                  <a:pt x="593" y="449"/>
                </a:lnTo>
                <a:lnTo>
                  <a:pt x="597" y="436"/>
                </a:lnTo>
                <a:lnTo>
                  <a:pt x="601" y="423"/>
                </a:lnTo>
                <a:lnTo>
                  <a:pt x="604" y="412"/>
                </a:lnTo>
                <a:lnTo>
                  <a:pt x="607" y="400"/>
                </a:lnTo>
                <a:lnTo>
                  <a:pt x="610" y="389"/>
                </a:lnTo>
                <a:lnTo>
                  <a:pt x="613" y="379"/>
                </a:lnTo>
                <a:lnTo>
                  <a:pt x="616" y="369"/>
                </a:lnTo>
                <a:lnTo>
                  <a:pt x="617" y="358"/>
                </a:lnTo>
                <a:lnTo>
                  <a:pt x="620" y="348"/>
                </a:lnTo>
                <a:lnTo>
                  <a:pt x="622" y="340"/>
                </a:lnTo>
                <a:lnTo>
                  <a:pt x="623" y="331"/>
                </a:lnTo>
                <a:lnTo>
                  <a:pt x="624" y="322"/>
                </a:lnTo>
                <a:lnTo>
                  <a:pt x="626" y="315"/>
                </a:lnTo>
                <a:lnTo>
                  <a:pt x="627" y="308"/>
                </a:lnTo>
                <a:lnTo>
                  <a:pt x="629" y="301"/>
                </a:lnTo>
                <a:lnTo>
                  <a:pt x="629" y="294"/>
                </a:lnTo>
                <a:lnTo>
                  <a:pt x="630" y="288"/>
                </a:lnTo>
                <a:lnTo>
                  <a:pt x="630" y="282"/>
                </a:lnTo>
                <a:lnTo>
                  <a:pt x="630" y="278"/>
                </a:lnTo>
                <a:lnTo>
                  <a:pt x="630" y="272"/>
                </a:lnTo>
                <a:lnTo>
                  <a:pt x="630" y="268"/>
                </a:lnTo>
                <a:lnTo>
                  <a:pt x="629" y="265"/>
                </a:lnTo>
                <a:lnTo>
                  <a:pt x="629" y="261"/>
                </a:lnTo>
                <a:lnTo>
                  <a:pt x="627" y="258"/>
                </a:lnTo>
                <a:lnTo>
                  <a:pt x="626" y="255"/>
                </a:lnTo>
                <a:lnTo>
                  <a:pt x="626" y="252"/>
                </a:lnTo>
                <a:lnTo>
                  <a:pt x="624" y="250"/>
                </a:lnTo>
                <a:lnTo>
                  <a:pt x="620" y="248"/>
                </a:lnTo>
                <a:lnTo>
                  <a:pt x="616" y="245"/>
                </a:lnTo>
                <a:lnTo>
                  <a:pt x="611" y="242"/>
                </a:lnTo>
                <a:lnTo>
                  <a:pt x="607" y="240"/>
                </a:lnTo>
                <a:lnTo>
                  <a:pt x="601" y="239"/>
                </a:lnTo>
                <a:lnTo>
                  <a:pt x="596" y="238"/>
                </a:lnTo>
                <a:lnTo>
                  <a:pt x="588" y="238"/>
                </a:lnTo>
                <a:lnTo>
                  <a:pt x="580" y="238"/>
                </a:lnTo>
                <a:lnTo>
                  <a:pt x="573" y="238"/>
                </a:lnTo>
                <a:lnTo>
                  <a:pt x="563" y="238"/>
                </a:lnTo>
                <a:lnTo>
                  <a:pt x="552" y="239"/>
                </a:lnTo>
                <a:lnTo>
                  <a:pt x="541" y="240"/>
                </a:lnTo>
                <a:lnTo>
                  <a:pt x="528" y="242"/>
                </a:lnTo>
                <a:lnTo>
                  <a:pt x="515" y="245"/>
                </a:lnTo>
                <a:lnTo>
                  <a:pt x="501" y="248"/>
                </a:lnTo>
                <a:lnTo>
                  <a:pt x="485" y="250"/>
                </a:lnTo>
                <a:lnTo>
                  <a:pt x="476" y="252"/>
                </a:lnTo>
                <a:lnTo>
                  <a:pt x="468" y="253"/>
                </a:lnTo>
                <a:lnTo>
                  <a:pt x="459" y="256"/>
                </a:lnTo>
                <a:lnTo>
                  <a:pt x="449" y="258"/>
                </a:lnTo>
                <a:lnTo>
                  <a:pt x="439" y="259"/>
                </a:lnTo>
                <a:lnTo>
                  <a:pt x="429" y="261"/>
                </a:lnTo>
                <a:lnTo>
                  <a:pt x="419" y="262"/>
                </a:lnTo>
                <a:lnTo>
                  <a:pt x="407" y="263"/>
                </a:lnTo>
                <a:lnTo>
                  <a:pt x="396" y="265"/>
                </a:lnTo>
                <a:lnTo>
                  <a:pt x="383" y="266"/>
                </a:lnTo>
                <a:lnTo>
                  <a:pt x="370" y="268"/>
                </a:lnTo>
                <a:lnTo>
                  <a:pt x="357" y="269"/>
                </a:lnTo>
                <a:lnTo>
                  <a:pt x="344" y="271"/>
                </a:lnTo>
                <a:lnTo>
                  <a:pt x="329" y="272"/>
                </a:lnTo>
                <a:lnTo>
                  <a:pt x="315" y="274"/>
                </a:lnTo>
                <a:lnTo>
                  <a:pt x="301" y="275"/>
                </a:lnTo>
                <a:lnTo>
                  <a:pt x="286" y="276"/>
                </a:lnTo>
                <a:lnTo>
                  <a:pt x="270" y="278"/>
                </a:lnTo>
                <a:lnTo>
                  <a:pt x="253" y="279"/>
                </a:lnTo>
                <a:lnTo>
                  <a:pt x="237" y="279"/>
                </a:lnTo>
                <a:lnTo>
                  <a:pt x="220" y="281"/>
                </a:lnTo>
                <a:lnTo>
                  <a:pt x="203" y="282"/>
                </a:lnTo>
                <a:lnTo>
                  <a:pt x="184" y="282"/>
                </a:lnTo>
                <a:lnTo>
                  <a:pt x="165" y="284"/>
                </a:lnTo>
                <a:lnTo>
                  <a:pt x="146" y="284"/>
                </a:lnTo>
                <a:lnTo>
                  <a:pt x="128" y="285"/>
                </a:lnTo>
                <a:lnTo>
                  <a:pt x="108" y="285"/>
                </a:lnTo>
                <a:lnTo>
                  <a:pt x="86" y="285"/>
                </a:lnTo>
                <a:lnTo>
                  <a:pt x="66" y="286"/>
                </a:lnTo>
                <a:lnTo>
                  <a:pt x="44" y="286"/>
                </a:lnTo>
                <a:lnTo>
                  <a:pt x="23" y="286"/>
                </a:lnTo>
                <a:lnTo>
                  <a:pt x="0" y="286"/>
                </a:lnTo>
                <a:lnTo>
                  <a:pt x="0" y="214"/>
                </a:lnTo>
                <a:lnTo>
                  <a:pt x="0" y="144"/>
                </a:lnTo>
                <a:lnTo>
                  <a:pt x="31" y="140"/>
                </a:lnTo>
                <a:lnTo>
                  <a:pt x="63" y="137"/>
                </a:lnTo>
                <a:lnTo>
                  <a:pt x="93" y="132"/>
                </a:lnTo>
                <a:lnTo>
                  <a:pt x="123" y="130"/>
                </a:lnTo>
                <a:lnTo>
                  <a:pt x="152" y="127"/>
                </a:lnTo>
                <a:lnTo>
                  <a:pt x="180" y="122"/>
                </a:lnTo>
                <a:lnTo>
                  <a:pt x="207" y="119"/>
                </a:lnTo>
                <a:lnTo>
                  <a:pt x="234" y="117"/>
                </a:lnTo>
                <a:lnTo>
                  <a:pt x="260" y="112"/>
                </a:lnTo>
                <a:lnTo>
                  <a:pt x="285" y="109"/>
                </a:lnTo>
                <a:lnTo>
                  <a:pt x="309" y="107"/>
                </a:lnTo>
                <a:lnTo>
                  <a:pt x="332" y="102"/>
                </a:lnTo>
                <a:lnTo>
                  <a:pt x="355" y="99"/>
                </a:lnTo>
                <a:lnTo>
                  <a:pt x="377" y="96"/>
                </a:lnTo>
                <a:lnTo>
                  <a:pt x="398" y="92"/>
                </a:lnTo>
                <a:lnTo>
                  <a:pt x="419" y="89"/>
                </a:lnTo>
                <a:lnTo>
                  <a:pt x="437" y="86"/>
                </a:lnTo>
                <a:lnTo>
                  <a:pt x="456" y="82"/>
                </a:lnTo>
                <a:lnTo>
                  <a:pt x="475" y="79"/>
                </a:lnTo>
                <a:lnTo>
                  <a:pt x="492" y="76"/>
                </a:lnTo>
                <a:lnTo>
                  <a:pt x="508" y="72"/>
                </a:lnTo>
                <a:lnTo>
                  <a:pt x="524" y="69"/>
                </a:lnTo>
                <a:lnTo>
                  <a:pt x="540" y="66"/>
                </a:lnTo>
                <a:lnTo>
                  <a:pt x="552" y="62"/>
                </a:lnTo>
                <a:lnTo>
                  <a:pt x="567" y="59"/>
                </a:lnTo>
                <a:lnTo>
                  <a:pt x="580" y="56"/>
                </a:lnTo>
                <a:lnTo>
                  <a:pt x="591" y="52"/>
                </a:lnTo>
                <a:lnTo>
                  <a:pt x="603" y="49"/>
                </a:lnTo>
                <a:lnTo>
                  <a:pt x="613" y="46"/>
                </a:lnTo>
                <a:lnTo>
                  <a:pt x="623" y="42"/>
                </a:lnTo>
                <a:lnTo>
                  <a:pt x="633" y="39"/>
                </a:lnTo>
                <a:lnTo>
                  <a:pt x="642" y="36"/>
                </a:lnTo>
                <a:lnTo>
                  <a:pt x="653" y="32"/>
                </a:lnTo>
                <a:lnTo>
                  <a:pt x="666" y="29"/>
                </a:lnTo>
                <a:lnTo>
                  <a:pt x="678" y="26"/>
                </a:lnTo>
                <a:lnTo>
                  <a:pt x="689" y="22"/>
                </a:lnTo>
                <a:lnTo>
                  <a:pt x="701" y="19"/>
                </a:lnTo>
                <a:lnTo>
                  <a:pt x="712" y="16"/>
                </a:lnTo>
                <a:lnTo>
                  <a:pt x="722" y="13"/>
                </a:lnTo>
                <a:lnTo>
                  <a:pt x="732" y="12"/>
                </a:lnTo>
                <a:lnTo>
                  <a:pt x="741" y="9"/>
                </a:lnTo>
                <a:lnTo>
                  <a:pt x="751" y="6"/>
                </a:lnTo>
                <a:lnTo>
                  <a:pt x="760" y="4"/>
                </a:lnTo>
                <a:lnTo>
                  <a:pt x="768" y="3"/>
                </a:lnTo>
                <a:lnTo>
                  <a:pt x="776" y="1"/>
                </a:lnTo>
                <a:lnTo>
                  <a:pt x="783" y="1"/>
                </a:lnTo>
                <a:lnTo>
                  <a:pt x="790" y="0"/>
                </a:lnTo>
                <a:lnTo>
                  <a:pt x="797" y="0"/>
                </a:lnTo>
                <a:lnTo>
                  <a:pt x="802" y="0"/>
                </a:lnTo>
                <a:lnTo>
                  <a:pt x="806" y="1"/>
                </a:lnTo>
                <a:lnTo>
                  <a:pt x="810" y="3"/>
                </a:lnTo>
                <a:lnTo>
                  <a:pt x="817" y="6"/>
                </a:lnTo>
                <a:lnTo>
                  <a:pt x="823" y="10"/>
                </a:lnTo>
                <a:lnTo>
                  <a:pt x="832" y="14"/>
                </a:lnTo>
                <a:lnTo>
                  <a:pt x="840" y="19"/>
                </a:lnTo>
                <a:lnTo>
                  <a:pt x="849" y="24"/>
                </a:lnTo>
                <a:lnTo>
                  <a:pt x="859" y="30"/>
                </a:lnTo>
                <a:lnTo>
                  <a:pt x="871" y="37"/>
                </a:lnTo>
                <a:lnTo>
                  <a:pt x="882" y="45"/>
                </a:lnTo>
                <a:lnTo>
                  <a:pt x="895" y="52"/>
                </a:lnTo>
                <a:lnTo>
                  <a:pt x="908" y="60"/>
                </a:lnTo>
                <a:lnTo>
                  <a:pt x="922" y="69"/>
                </a:lnTo>
                <a:lnTo>
                  <a:pt x="938" y="79"/>
                </a:lnTo>
                <a:lnTo>
                  <a:pt x="954" y="89"/>
                </a:lnTo>
                <a:lnTo>
                  <a:pt x="966" y="102"/>
                </a:lnTo>
                <a:lnTo>
                  <a:pt x="977" y="115"/>
                </a:lnTo>
                <a:lnTo>
                  <a:pt x="989" y="128"/>
                </a:lnTo>
                <a:lnTo>
                  <a:pt x="999" y="140"/>
                </a:lnTo>
                <a:lnTo>
                  <a:pt x="1007" y="151"/>
                </a:lnTo>
                <a:lnTo>
                  <a:pt x="1016" y="161"/>
                </a:lnTo>
                <a:lnTo>
                  <a:pt x="1025" y="171"/>
                </a:lnTo>
                <a:lnTo>
                  <a:pt x="1030" y="181"/>
                </a:lnTo>
                <a:lnTo>
                  <a:pt x="1038" y="190"/>
                </a:lnTo>
                <a:lnTo>
                  <a:pt x="1042" y="199"/>
                </a:lnTo>
                <a:lnTo>
                  <a:pt x="1046" y="206"/>
                </a:lnTo>
                <a:lnTo>
                  <a:pt x="1051" y="213"/>
                </a:lnTo>
                <a:lnTo>
                  <a:pt x="1053" y="219"/>
                </a:lnTo>
                <a:lnTo>
                  <a:pt x="1055" y="225"/>
                </a:lnTo>
                <a:lnTo>
                  <a:pt x="1056" y="229"/>
                </a:lnTo>
                <a:lnTo>
                  <a:pt x="1058" y="233"/>
                </a:lnTo>
                <a:lnTo>
                  <a:pt x="1056" y="239"/>
                </a:lnTo>
                <a:lnTo>
                  <a:pt x="1055" y="245"/>
                </a:lnTo>
                <a:lnTo>
                  <a:pt x="1053" y="250"/>
                </a:lnTo>
                <a:lnTo>
                  <a:pt x="1051" y="256"/>
                </a:lnTo>
                <a:lnTo>
                  <a:pt x="1048" y="262"/>
                </a:lnTo>
                <a:lnTo>
                  <a:pt x="1043" y="266"/>
                </a:lnTo>
                <a:lnTo>
                  <a:pt x="1039" y="271"/>
                </a:lnTo>
                <a:lnTo>
                  <a:pt x="1033" y="275"/>
                </a:lnTo>
                <a:lnTo>
                  <a:pt x="1028" y="279"/>
                </a:lnTo>
                <a:lnTo>
                  <a:pt x="1020" y="284"/>
                </a:lnTo>
                <a:lnTo>
                  <a:pt x="1013" y="286"/>
                </a:lnTo>
                <a:lnTo>
                  <a:pt x="1006" y="291"/>
                </a:lnTo>
                <a:lnTo>
                  <a:pt x="997" y="294"/>
                </a:lnTo>
                <a:lnTo>
                  <a:pt x="989" y="298"/>
                </a:lnTo>
                <a:lnTo>
                  <a:pt x="980" y="301"/>
                </a:lnTo>
                <a:lnTo>
                  <a:pt x="971" y="305"/>
                </a:lnTo>
                <a:lnTo>
                  <a:pt x="966" y="307"/>
                </a:lnTo>
                <a:lnTo>
                  <a:pt x="960" y="308"/>
                </a:lnTo>
                <a:lnTo>
                  <a:pt x="956" y="311"/>
                </a:lnTo>
                <a:lnTo>
                  <a:pt x="950" y="314"/>
                </a:lnTo>
                <a:lnTo>
                  <a:pt x="944" y="318"/>
                </a:lnTo>
                <a:lnTo>
                  <a:pt x="938" y="322"/>
                </a:lnTo>
                <a:lnTo>
                  <a:pt x="931" y="327"/>
                </a:lnTo>
                <a:lnTo>
                  <a:pt x="925" y="331"/>
                </a:lnTo>
                <a:lnTo>
                  <a:pt x="918" y="335"/>
                </a:lnTo>
                <a:lnTo>
                  <a:pt x="912" y="341"/>
                </a:lnTo>
                <a:lnTo>
                  <a:pt x="905" y="347"/>
                </a:lnTo>
                <a:lnTo>
                  <a:pt x="898" y="354"/>
                </a:lnTo>
                <a:lnTo>
                  <a:pt x="891" y="360"/>
                </a:lnTo>
                <a:lnTo>
                  <a:pt x="884" y="367"/>
                </a:lnTo>
                <a:lnTo>
                  <a:pt x="876" y="374"/>
                </a:lnTo>
                <a:lnTo>
                  <a:pt x="868" y="383"/>
                </a:lnTo>
                <a:lnTo>
                  <a:pt x="861" y="390"/>
                </a:lnTo>
                <a:lnTo>
                  <a:pt x="852" y="399"/>
                </a:lnTo>
                <a:lnTo>
                  <a:pt x="845" y="407"/>
                </a:lnTo>
                <a:lnTo>
                  <a:pt x="836" y="417"/>
                </a:lnTo>
                <a:lnTo>
                  <a:pt x="827" y="426"/>
                </a:lnTo>
                <a:lnTo>
                  <a:pt x="819" y="436"/>
                </a:lnTo>
                <a:lnTo>
                  <a:pt x="802" y="458"/>
                </a:lnTo>
                <a:lnTo>
                  <a:pt x="784" y="479"/>
                </a:lnTo>
                <a:lnTo>
                  <a:pt x="766" y="504"/>
                </a:lnTo>
                <a:lnTo>
                  <a:pt x="747" y="528"/>
                </a:lnTo>
                <a:lnTo>
                  <a:pt x="728" y="5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1"/>
          <p:cNvSpPr/>
          <p:nvPr/>
        </p:nvSpPr>
        <p:spPr>
          <a:xfrm>
            <a:off x="6643800" y="3081240"/>
            <a:ext cx="995400" cy="230400"/>
          </a:xfrm>
          <a:custGeom>
            <a:avLst/>
            <a:gdLst/>
            <a:ahLst/>
            <a:rect l="l" t="t" r="r" b="b"/>
            <a:pathLst>
              <a:path w="1879" h="436">
                <a:moveTo>
                  <a:pt x="76" y="430"/>
                </a:moveTo>
                <a:lnTo>
                  <a:pt x="71" y="426"/>
                </a:lnTo>
                <a:lnTo>
                  <a:pt x="65" y="421"/>
                </a:lnTo>
                <a:lnTo>
                  <a:pt x="53" y="413"/>
                </a:lnTo>
                <a:lnTo>
                  <a:pt x="43" y="403"/>
                </a:lnTo>
                <a:lnTo>
                  <a:pt x="35" y="391"/>
                </a:lnTo>
                <a:lnTo>
                  <a:pt x="27" y="380"/>
                </a:lnTo>
                <a:lnTo>
                  <a:pt x="20" y="367"/>
                </a:lnTo>
                <a:lnTo>
                  <a:pt x="13" y="354"/>
                </a:lnTo>
                <a:lnTo>
                  <a:pt x="7" y="341"/>
                </a:lnTo>
                <a:lnTo>
                  <a:pt x="4" y="336"/>
                </a:lnTo>
                <a:lnTo>
                  <a:pt x="2" y="334"/>
                </a:lnTo>
                <a:lnTo>
                  <a:pt x="0" y="329"/>
                </a:lnTo>
                <a:lnTo>
                  <a:pt x="0" y="326"/>
                </a:lnTo>
                <a:lnTo>
                  <a:pt x="0" y="323"/>
                </a:lnTo>
                <a:lnTo>
                  <a:pt x="0" y="319"/>
                </a:lnTo>
                <a:lnTo>
                  <a:pt x="2" y="316"/>
                </a:lnTo>
                <a:lnTo>
                  <a:pt x="3" y="313"/>
                </a:lnTo>
                <a:lnTo>
                  <a:pt x="4" y="309"/>
                </a:lnTo>
                <a:lnTo>
                  <a:pt x="6" y="306"/>
                </a:lnTo>
                <a:lnTo>
                  <a:pt x="12" y="299"/>
                </a:lnTo>
                <a:lnTo>
                  <a:pt x="17" y="293"/>
                </a:lnTo>
                <a:lnTo>
                  <a:pt x="25" y="286"/>
                </a:lnTo>
                <a:lnTo>
                  <a:pt x="26" y="286"/>
                </a:lnTo>
                <a:lnTo>
                  <a:pt x="29" y="286"/>
                </a:lnTo>
                <a:lnTo>
                  <a:pt x="33" y="286"/>
                </a:lnTo>
                <a:lnTo>
                  <a:pt x="38" y="285"/>
                </a:lnTo>
                <a:lnTo>
                  <a:pt x="43" y="285"/>
                </a:lnTo>
                <a:lnTo>
                  <a:pt x="51" y="285"/>
                </a:lnTo>
                <a:lnTo>
                  <a:pt x="58" y="283"/>
                </a:lnTo>
                <a:lnTo>
                  <a:pt x="66" y="283"/>
                </a:lnTo>
                <a:lnTo>
                  <a:pt x="75" y="282"/>
                </a:lnTo>
                <a:lnTo>
                  <a:pt x="85" y="280"/>
                </a:lnTo>
                <a:lnTo>
                  <a:pt x="95" y="279"/>
                </a:lnTo>
                <a:lnTo>
                  <a:pt x="108" y="277"/>
                </a:lnTo>
                <a:lnTo>
                  <a:pt x="120" y="276"/>
                </a:lnTo>
                <a:lnTo>
                  <a:pt x="134" y="274"/>
                </a:lnTo>
                <a:lnTo>
                  <a:pt x="148" y="273"/>
                </a:lnTo>
                <a:lnTo>
                  <a:pt x="163" y="272"/>
                </a:lnTo>
                <a:lnTo>
                  <a:pt x="179" y="269"/>
                </a:lnTo>
                <a:lnTo>
                  <a:pt x="196" y="266"/>
                </a:lnTo>
                <a:lnTo>
                  <a:pt x="213" y="264"/>
                </a:lnTo>
                <a:lnTo>
                  <a:pt x="232" y="262"/>
                </a:lnTo>
                <a:lnTo>
                  <a:pt x="251" y="259"/>
                </a:lnTo>
                <a:lnTo>
                  <a:pt x="271" y="256"/>
                </a:lnTo>
                <a:lnTo>
                  <a:pt x="291" y="253"/>
                </a:lnTo>
                <a:lnTo>
                  <a:pt x="313" y="249"/>
                </a:lnTo>
                <a:lnTo>
                  <a:pt x="334" y="246"/>
                </a:lnTo>
                <a:lnTo>
                  <a:pt x="357" y="241"/>
                </a:lnTo>
                <a:lnTo>
                  <a:pt x="380" y="237"/>
                </a:lnTo>
                <a:lnTo>
                  <a:pt x="405" y="234"/>
                </a:lnTo>
                <a:lnTo>
                  <a:pt x="431" y="230"/>
                </a:lnTo>
                <a:lnTo>
                  <a:pt x="456" y="224"/>
                </a:lnTo>
                <a:lnTo>
                  <a:pt x="482" y="220"/>
                </a:lnTo>
                <a:lnTo>
                  <a:pt x="510" y="215"/>
                </a:lnTo>
                <a:lnTo>
                  <a:pt x="537" y="210"/>
                </a:lnTo>
                <a:lnTo>
                  <a:pt x="564" y="204"/>
                </a:lnTo>
                <a:lnTo>
                  <a:pt x="590" y="200"/>
                </a:lnTo>
                <a:lnTo>
                  <a:pt x="618" y="195"/>
                </a:lnTo>
                <a:lnTo>
                  <a:pt x="642" y="190"/>
                </a:lnTo>
                <a:lnTo>
                  <a:pt x="668" y="185"/>
                </a:lnTo>
                <a:lnTo>
                  <a:pt x="694" y="181"/>
                </a:lnTo>
                <a:lnTo>
                  <a:pt x="718" y="177"/>
                </a:lnTo>
                <a:lnTo>
                  <a:pt x="743" y="172"/>
                </a:lnTo>
                <a:lnTo>
                  <a:pt x="766" y="168"/>
                </a:lnTo>
                <a:lnTo>
                  <a:pt x="789" y="164"/>
                </a:lnTo>
                <a:lnTo>
                  <a:pt x="813" y="159"/>
                </a:lnTo>
                <a:lnTo>
                  <a:pt x="835" y="155"/>
                </a:lnTo>
                <a:lnTo>
                  <a:pt x="858" y="151"/>
                </a:lnTo>
                <a:lnTo>
                  <a:pt x="880" y="146"/>
                </a:lnTo>
                <a:lnTo>
                  <a:pt x="901" y="143"/>
                </a:lnTo>
                <a:lnTo>
                  <a:pt x="944" y="135"/>
                </a:lnTo>
                <a:lnTo>
                  <a:pt x="985" y="126"/>
                </a:lnTo>
                <a:lnTo>
                  <a:pt x="1025" y="118"/>
                </a:lnTo>
                <a:lnTo>
                  <a:pt x="1063" y="109"/>
                </a:lnTo>
                <a:lnTo>
                  <a:pt x="1100" y="100"/>
                </a:lnTo>
                <a:lnTo>
                  <a:pt x="1136" y="92"/>
                </a:lnTo>
                <a:lnTo>
                  <a:pt x="1171" y="82"/>
                </a:lnTo>
                <a:lnTo>
                  <a:pt x="1204" y="71"/>
                </a:lnTo>
                <a:lnTo>
                  <a:pt x="1235" y="61"/>
                </a:lnTo>
                <a:lnTo>
                  <a:pt x="1266" y="53"/>
                </a:lnTo>
                <a:lnTo>
                  <a:pt x="1294" y="44"/>
                </a:lnTo>
                <a:lnTo>
                  <a:pt x="1323" y="37"/>
                </a:lnTo>
                <a:lnTo>
                  <a:pt x="1350" y="31"/>
                </a:lnTo>
                <a:lnTo>
                  <a:pt x="1376" y="25"/>
                </a:lnTo>
                <a:lnTo>
                  <a:pt x="1402" y="20"/>
                </a:lnTo>
                <a:lnTo>
                  <a:pt x="1425" y="15"/>
                </a:lnTo>
                <a:lnTo>
                  <a:pt x="1448" y="11"/>
                </a:lnTo>
                <a:lnTo>
                  <a:pt x="1471" y="8"/>
                </a:lnTo>
                <a:lnTo>
                  <a:pt x="1492" y="5"/>
                </a:lnTo>
                <a:lnTo>
                  <a:pt x="1512" y="2"/>
                </a:lnTo>
                <a:lnTo>
                  <a:pt x="1532" y="1"/>
                </a:lnTo>
                <a:lnTo>
                  <a:pt x="1551" y="1"/>
                </a:lnTo>
                <a:lnTo>
                  <a:pt x="1568" y="0"/>
                </a:lnTo>
                <a:lnTo>
                  <a:pt x="1585" y="0"/>
                </a:lnTo>
                <a:lnTo>
                  <a:pt x="1598" y="0"/>
                </a:lnTo>
                <a:lnTo>
                  <a:pt x="1611" y="1"/>
                </a:lnTo>
                <a:lnTo>
                  <a:pt x="1624" y="1"/>
                </a:lnTo>
                <a:lnTo>
                  <a:pt x="1637" y="2"/>
                </a:lnTo>
                <a:lnTo>
                  <a:pt x="1650" y="5"/>
                </a:lnTo>
                <a:lnTo>
                  <a:pt x="1663" y="7"/>
                </a:lnTo>
                <a:lnTo>
                  <a:pt x="1676" y="10"/>
                </a:lnTo>
                <a:lnTo>
                  <a:pt x="1689" y="12"/>
                </a:lnTo>
                <a:lnTo>
                  <a:pt x="1702" y="17"/>
                </a:lnTo>
                <a:lnTo>
                  <a:pt x="1715" y="20"/>
                </a:lnTo>
                <a:lnTo>
                  <a:pt x="1728" y="25"/>
                </a:lnTo>
                <a:lnTo>
                  <a:pt x="1741" y="30"/>
                </a:lnTo>
                <a:lnTo>
                  <a:pt x="1754" y="36"/>
                </a:lnTo>
                <a:lnTo>
                  <a:pt x="1767" y="41"/>
                </a:lnTo>
                <a:lnTo>
                  <a:pt x="1779" y="47"/>
                </a:lnTo>
                <a:lnTo>
                  <a:pt x="1792" y="54"/>
                </a:lnTo>
                <a:lnTo>
                  <a:pt x="1803" y="60"/>
                </a:lnTo>
                <a:lnTo>
                  <a:pt x="1811" y="67"/>
                </a:lnTo>
                <a:lnTo>
                  <a:pt x="1820" y="74"/>
                </a:lnTo>
                <a:lnTo>
                  <a:pt x="1828" y="80"/>
                </a:lnTo>
                <a:lnTo>
                  <a:pt x="1836" y="87"/>
                </a:lnTo>
                <a:lnTo>
                  <a:pt x="1843" y="93"/>
                </a:lnTo>
                <a:lnTo>
                  <a:pt x="1849" y="100"/>
                </a:lnTo>
                <a:lnTo>
                  <a:pt x="1856" y="107"/>
                </a:lnTo>
                <a:lnTo>
                  <a:pt x="1860" y="113"/>
                </a:lnTo>
                <a:lnTo>
                  <a:pt x="1866" y="120"/>
                </a:lnTo>
                <a:lnTo>
                  <a:pt x="1869" y="128"/>
                </a:lnTo>
                <a:lnTo>
                  <a:pt x="1873" y="133"/>
                </a:lnTo>
                <a:lnTo>
                  <a:pt x="1876" y="141"/>
                </a:lnTo>
                <a:lnTo>
                  <a:pt x="1877" y="148"/>
                </a:lnTo>
                <a:lnTo>
                  <a:pt x="1879" y="154"/>
                </a:lnTo>
                <a:lnTo>
                  <a:pt x="1879" y="161"/>
                </a:lnTo>
                <a:lnTo>
                  <a:pt x="1879" y="164"/>
                </a:lnTo>
                <a:lnTo>
                  <a:pt x="1877" y="168"/>
                </a:lnTo>
                <a:lnTo>
                  <a:pt x="1877" y="171"/>
                </a:lnTo>
                <a:lnTo>
                  <a:pt x="1876" y="174"/>
                </a:lnTo>
                <a:lnTo>
                  <a:pt x="1873" y="177"/>
                </a:lnTo>
                <a:lnTo>
                  <a:pt x="1872" y="179"/>
                </a:lnTo>
                <a:lnTo>
                  <a:pt x="1869" y="182"/>
                </a:lnTo>
                <a:lnTo>
                  <a:pt x="1866" y="185"/>
                </a:lnTo>
                <a:lnTo>
                  <a:pt x="1862" y="187"/>
                </a:lnTo>
                <a:lnTo>
                  <a:pt x="1859" y="190"/>
                </a:lnTo>
                <a:lnTo>
                  <a:pt x="1853" y="192"/>
                </a:lnTo>
                <a:lnTo>
                  <a:pt x="1849" y="194"/>
                </a:lnTo>
                <a:lnTo>
                  <a:pt x="1843" y="197"/>
                </a:lnTo>
                <a:lnTo>
                  <a:pt x="1837" y="200"/>
                </a:lnTo>
                <a:lnTo>
                  <a:pt x="1831" y="201"/>
                </a:lnTo>
                <a:lnTo>
                  <a:pt x="1824" y="204"/>
                </a:lnTo>
                <a:lnTo>
                  <a:pt x="1818" y="205"/>
                </a:lnTo>
                <a:lnTo>
                  <a:pt x="1810" y="207"/>
                </a:lnTo>
                <a:lnTo>
                  <a:pt x="1803" y="210"/>
                </a:lnTo>
                <a:lnTo>
                  <a:pt x="1794" y="211"/>
                </a:lnTo>
                <a:lnTo>
                  <a:pt x="1784" y="213"/>
                </a:lnTo>
                <a:lnTo>
                  <a:pt x="1775" y="215"/>
                </a:lnTo>
                <a:lnTo>
                  <a:pt x="1765" y="217"/>
                </a:lnTo>
                <a:lnTo>
                  <a:pt x="1755" y="218"/>
                </a:lnTo>
                <a:lnTo>
                  <a:pt x="1743" y="220"/>
                </a:lnTo>
                <a:lnTo>
                  <a:pt x="1732" y="223"/>
                </a:lnTo>
                <a:lnTo>
                  <a:pt x="1720" y="224"/>
                </a:lnTo>
                <a:lnTo>
                  <a:pt x="1707" y="226"/>
                </a:lnTo>
                <a:lnTo>
                  <a:pt x="1695" y="227"/>
                </a:lnTo>
                <a:lnTo>
                  <a:pt x="1682" y="230"/>
                </a:lnTo>
                <a:lnTo>
                  <a:pt x="1669" y="231"/>
                </a:lnTo>
                <a:lnTo>
                  <a:pt x="1654" y="233"/>
                </a:lnTo>
                <a:lnTo>
                  <a:pt x="1624" y="236"/>
                </a:lnTo>
                <a:lnTo>
                  <a:pt x="1594" y="240"/>
                </a:lnTo>
                <a:lnTo>
                  <a:pt x="1564" y="243"/>
                </a:lnTo>
                <a:lnTo>
                  <a:pt x="1533" y="246"/>
                </a:lnTo>
                <a:lnTo>
                  <a:pt x="1503" y="250"/>
                </a:lnTo>
                <a:lnTo>
                  <a:pt x="1471" y="253"/>
                </a:lnTo>
                <a:lnTo>
                  <a:pt x="1438" y="257"/>
                </a:lnTo>
                <a:lnTo>
                  <a:pt x="1407" y="262"/>
                </a:lnTo>
                <a:lnTo>
                  <a:pt x="1373" y="266"/>
                </a:lnTo>
                <a:lnTo>
                  <a:pt x="1340" y="270"/>
                </a:lnTo>
                <a:lnTo>
                  <a:pt x="1307" y="274"/>
                </a:lnTo>
                <a:lnTo>
                  <a:pt x="1273" y="280"/>
                </a:lnTo>
                <a:lnTo>
                  <a:pt x="1240" y="286"/>
                </a:lnTo>
                <a:lnTo>
                  <a:pt x="1205" y="292"/>
                </a:lnTo>
                <a:lnTo>
                  <a:pt x="1169" y="298"/>
                </a:lnTo>
                <a:lnTo>
                  <a:pt x="1135" y="305"/>
                </a:lnTo>
                <a:lnTo>
                  <a:pt x="1099" y="310"/>
                </a:lnTo>
                <a:lnTo>
                  <a:pt x="1061" y="318"/>
                </a:lnTo>
                <a:lnTo>
                  <a:pt x="1025" y="325"/>
                </a:lnTo>
                <a:lnTo>
                  <a:pt x="988" y="331"/>
                </a:lnTo>
                <a:lnTo>
                  <a:pt x="949" y="338"/>
                </a:lnTo>
                <a:lnTo>
                  <a:pt x="911" y="344"/>
                </a:lnTo>
                <a:lnTo>
                  <a:pt x="873" y="349"/>
                </a:lnTo>
                <a:lnTo>
                  <a:pt x="832" y="355"/>
                </a:lnTo>
                <a:lnTo>
                  <a:pt x="792" y="361"/>
                </a:lnTo>
                <a:lnTo>
                  <a:pt x="752" y="367"/>
                </a:lnTo>
                <a:lnTo>
                  <a:pt x="710" y="372"/>
                </a:lnTo>
                <a:lnTo>
                  <a:pt x="668" y="377"/>
                </a:lnTo>
                <a:lnTo>
                  <a:pt x="625" y="381"/>
                </a:lnTo>
                <a:lnTo>
                  <a:pt x="582" y="385"/>
                </a:lnTo>
                <a:lnTo>
                  <a:pt x="537" y="390"/>
                </a:lnTo>
                <a:lnTo>
                  <a:pt x="492" y="394"/>
                </a:lnTo>
                <a:lnTo>
                  <a:pt x="469" y="397"/>
                </a:lnTo>
                <a:lnTo>
                  <a:pt x="448" y="400"/>
                </a:lnTo>
                <a:lnTo>
                  <a:pt x="428" y="403"/>
                </a:lnTo>
                <a:lnTo>
                  <a:pt x="406" y="405"/>
                </a:lnTo>
                <a:lnTo>
                  <a:pt x="386" y="408"/>
                </a:lnTo>
                <a:lnTo>
                  <a:pt x="367" y="411"/>
                </a:lnTo>
                <a:lnTo>
                  <a:pt x="349" y="414"/>
                </a:lnTo>
                <a:lnTo>
                  <a:pt x="330" y="417"/>
                </a:lnTo>
                <a:lnTo>
                  <a:pt x="313" y="420"/>
                </a:lnTo>
                <a:lnTo>
                  <a:pt x="295" y="421"/>
                </a:lnTo>
                <a:lnTo>
                  <a:pt x="279" y="424"/>
                </a:lnTo>
                <a:lnTo>
                  <a:pt x="264" y="426"/>
                </a:lnTo>
                <a:lnTo>
                  <a:pt x="248" y="427"/>
                </a:lnTo>
                <a:lnTo>
                  <a:pt x="233" y="429"/>
                </a:lnTo>
                <a:lnTo>
                  <a:pt x="220" y="430"/>
                </a:lnTo>
                <a:lnTo>
                  <a:pt x="206" y="431"/>
                </a:lnTo>
                <a:lnTo>
                  <a:pt x="194" y="433"/>
                </a:lnTo>
                <a:lnTo>
                  <a:pt x="182" y="434"/>
                </a:lnTo>
                <a:lnTo>
                  <a:pt x="170" y="434"/>
                </a:lnTo>
                <a:lnTo>
                  <a:pt x="160" y="436"/>
                </a:lnTo>
                <a:lnTo>
                  <a:pt x="148" y="436"/>
                </a:lnTo>
                <a:lnTo>
                  <a:pt x="140" y="436"/>
                </a:lnTo>
                <a:lnTo>
                  <a:pt x="130" y="436"/>
                </a:lnTo>
                <a:lnTo>
                  <a:pt x="122" y="436"/>
                </a:lnTo>
                <a:lnTo>
                  <a:pt x="114" y="436"/>
                </a:lnTo>
                <a:lnTo>
                  <a:pt x="107" y="436"/>
                </a:lnTo>
                <a:lnTo>
                  <a:pt x="101" y="436"/>
                </a:lnTo>
                <a:lnTo>
                  <a:pt x="94" y="434"/>
                </a:lnTo>
                <a:lnTo>
                  <a:pt x="89" y="433"/>
                </a:lnTo>
                <a:lnTo>
                  <a:pt x="84" y="433"/>
                </a:lnTo>
                <a:lnTo>
                  <a:pt x="79" y="431"/>
                </a:lnTo>
                <a:lnTo>
                  <a:pt x="76" y="4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72"/>
          <p:cNvSpPr/>
          <p:nvPr/>
        </p:nvSpPr>
        <p:spPr>
          <a:xfrm>
            <a:off x="6421320" y="4000680"/>
            <a:ext cx="1428840" cy="290160"/>
          </a:xfrm>
          <a:custGeom>
            <a:avLst/>
            <a:gdLst/>
            <a:ahLst/>
            <a:rect l="l" t="t" r="r" b="b"/>
            <a:pathLst>
              <a:path w="2700" h="549">
                <a:moveTo>
                  <a:pt x="134" y="537"/>
                </a:moveTo>
                <a:lnTo>
                  <a:pt x="115" y="524"/>
                </a:lnTo>
                <a:lnTo>
                  <a:pt x="95" y="510"/>
                </a:lnTo>
                <a:lnTo>
                  <a:pt x="78" y="497"/>
                </a:lnTo>
                <a:lnTo>
                  <a:pt x="69" y="490"/>
                </a:lnTo>
                <a:lnTo>
                  <a:pt x="61" y="482"/>
                </a:lnTo>
                <a:lnTo>
                  <a:pt x="52" y="477"/>
                </a:lnTo>
                <a:lnTo>
                  <a:pt x="45" y="469"/>
                </a:lnTo>
                <a:lnTo>
                  <a:pt x="38" y="462"/>
                </a:lnTo>
                <a:lnTo>
                  <a:pt x="32" y="457"/>
                </a:lnTo>
                <a:lnTo>
                  <a:pt x="26" y="449"/>
                </a:lnTo>
                <a:lnTo>
                  <a:pt x="20" y="442"/>
                </a:lnTo>
                <a:lnTo>
                  <a:pt x="16" y="436"/>
                </a:lnTo>
                <a:lnTo>
                  <a:pt x="13" y="429"/>
                </a:lnTo>
                <a:lnTo>
                  <a:pt x="9" y="423"/>
                </a:lnTo>
                <a:lnTo>
                  <a:pt x="8" y="416"/>
                </a:lnTo>
                <a:lnTo>
                  <a:pt x="5" y="410"/>
                </a:lnTo>
                <a:lnTo>
                  <a:pt x="3" y="406"/>
                </a:lnTo>
                <a:lnTo>
                  <a:pt x="2" y="400"/>
                </a:lnTo>
                <a:lnTo>
                  <a:pt x="0" y="396"/>
                </a:lnTo>
                <a:lnTo>
                  <a:pt x="0" y="392"/>
                </a:lnTo>
                <a:lnTo>
                  <a:pt x="0" y="387"/>
                </a:lnTo>
                <a:lnTo>
                  <a:pt x="0" y="383"/>
                </a:lnTo>
                <a:lnTo>
                  <a:pt x="0" y="379"/>
                </a:lnTo>
                <a:lnTo>
                  <a:pt x="2" y="376"/>
                </a:lnTo>
                <a:lnTo>
                  <a:pt x="3" y="372"/>
                </a:lnTo>
                <a:lnTo>
                  <a:pt x="5" y="369"/>
                </a:lnTo>
                <a:lnTo>
                  <a:pt x="8" y="364"/>
                </a:lnTo>
                <a:lnTo>
                  <a:pt x="9" y="362"/>
                </a:lnTo>
                <a:lnTo>
                  <a:pt x="13" y="359"/>
                </a:lnTo>
                <a:lnTo>
                  <a:pt x="15" y="357"/>
                </a:lnTo>
                <a:lnTo>
                  <a:pt x="20" y="357"/>
                </a:lnTo>
                <a:lnTo>
                  <a:pt x="28" y="357"/>
                </a:lnTo>
                <a:lnTo>
                  <a:pt x="36" y="356"/>
                </a:lnTo>
                <a:lnTo>
                  <a:pt x="48" y="354"/>
                </a:lnTo>
                <a:lnTo>
                  <a:pt x="61" y="353"/>
                </a:lnTo>
                <a:lnTo>
                  <a:pt x="77" y="350"/>
                </a:lnTo>
                <a:lnTo>
                  <a:pt x="94" y="349"/>
                </a:lnTo>
                <a:lnTo>
                  <a:pt x="114" y="346"/>
                </a:lnTo>
                <a:lnTo>
                  <a:pt x="136" y="343"/>
                </a:lnTo>
                <a:lnTo>
                  <a:pt x="160" y="338"/>
                </a:lnTo>
                <a:lnTo>
                  <a:pt x="186" y="336"/>
                </a:lnTo>
                <a:lnTo>
                  <a:pt x="215" y="331"/>
                </a:lnTo>
                <a:lnTo>
                  <a:pt x="245" y="327"/>
                </a:lnTo>
                <a:lnTo>
                  <a:pt x="277" y="321"/>
                </a:lnTo>
                <a:lnTo>
                  <a:pt x="311" y="317"/>
                </a:lnTo>
                <a:lnTo>
                  <a:pt x="349" y="311"/>
                </a:lnTo>
                <a:lnTo>
                  <a:pt x="388" y="305"/>
                </a:lnTo>
                <a:lnTo>
                  <a:pt x="429" y="298"/>
                </a:lnTo>
                <a:lnTo>
                  <a:pt x="473" y="292"/>
                </a:lnTo>
                <a:lnTo>
                  <a:pt x="517" y="285"/>
                </a:lnTo>
                <a:lnTo>
                  <a:pt x="565" y="277"/>
                </a:lnTo>
                <a:lnTo>
                  <a:pt x="615" y="269"/>
                </a:lnTo>
                <a:lnTo>
                  <a:pt x="667" y="261"/>
                </a:lnTo>
                <a:lnTo>
                  <a:pt x="720" y="252"/>
                </a:lnTo>
                <a:lnTo>
                  <a:pt x="776" y="243"/>
                </a:lnTo>
                <a:lnTo>
                  <a:pt x="834" y="233"/>
                </a:lnTo>
                <a:lnTo>
                  <a:pt x="894" y="223"/>
                </a:lnTo>
                <a:lnTo>
                  <a:pt x="958" y="213"/>
                </a:lnTo>
                <a:lnTo>
                  <a:pt x="1021" y="202"/>
                </a:lnTo>
                <a:lnTo>
                  <a:pt x="1089" y="190"/>
                </a:lnTo>
                <a:lnTo>
                  <a:pt x="1158" y="179"/>
                </a:lnTo>
                <a:lnTo>
                  <a:pt x="1224" y="167"/>
                </a:lnTo>
                <a:lnTo>
                  <a:pt x="1290" y="156"/>
                </a:lnTo>
                <a:lnTo>
                  <a:pt x="1354" y="146"/>
                </a:lnTo>
                <a:lnTo>
                  <a:pt x="1414" y="134"/>
                </a:lnTo>
                <a:lnTo>
                  <a:pt x="1474" y="124"/>
                </a:lnTo>
                <a:lnTo>
                  <a:pt x="1532" y="115"/>
                </a:lnTo>
                <a:lnTo>
                  <a:pt x="1587" y="105"/>
                </a:lnTo>
                <a:lnTo>
                  <a:pt x="1641" y="97"/>
                </a:lnTo>
                <a:lnTo>
                  <a:pt x="1693" y="88"/>
                </a:lnTo>
                <a:lnTo>
                  <a:pt x="1742" y="81"/>
                </a:lnTo>
                <a:lnTo>
                  <a:pt x="1790" y="74"/>
                </a:lnTo>
                <a:lnTo>
                  <a:pt x="1836" y="66"/>
                </a:lnTo>
                <a:lnTo>
                  <a:pt x="1880" y="59"/>
                </a:lnTo>
                <a:lnTo>
                  <a:pt x="1922" y="53"/>
                </a:lnTo>
                <a:lnTo>
                  <a:pt x="1961" y="46"/>
                </a:lnTo>
                <a:lnTo>
                  <a:pt x="2000" y="42"/>
                </a:lnTo>
                <a:lnTo>
                  <a:pt x="2036" y="36"/>
                </a:lnTo>
                <a:lnTo>
                  <a:pt x="2069" y="32"/>
                </a:lnTo>
                <a:lnTo>
                  <a:pt x="2102" y="26"/>
                </a:lnTo>
                <a:lnTo>
                  <a:pt x="2132" y="23"/>
                </a:lnTo>
                <a:lnTo>
                  <a:pt x="2160" y="19"/>
                </a:lnTo>
                <a:lnTo>
                  <a:pt x="2186" y="16"/>
                </a:lnTo>
                <a:lnTo>
                  <a:pt x="2210" y="12"/>
                </a:lnTo>
                <a:lnTo>
                  <a:pt x="2232" y="10"/>
                </a:lnTo>
                <a:lnTo>
                  <a:pt x="2252" y="7"/>
                </a:lnTo>
                <a:lnTo>
                  <a:pt x="2269" y="4"/>
                </a:lnTo>
                <a:lnTo>
                  <a:pt x="2286" y="3"/>
                </a:lnTo>
                <a:lnTo>
                  <a:pt x="2299" y="2"/>
                </a:lnTo>
                <a:lnTo>
                  <a:pt x="2312" y="0"/>
                </a:lnTo>
                <a:lnTo>
                  <a:pt x="2321" y="0"/>
                </a:lnTo>
                <a:lnTo>
                  <a:pt x="2330" y="0"/>
                </a:lnTo>
                <a:lnTo>
                  <a:pt x="2335" y="0"/>
                </a:lnTo>
                <a:lnTo>
                  <a:pt x="2345" y="0"/>
                </a:lnTo>
                <a:lnTo>
                  <a:pt x="2357" y="0"/>
                </a:lnTo>
                <a:lnTo>
                  <a:pt x="2368" y="2"/>
                </a:lnTo>
                <a:lnTo>
                  <a:pt x="2381" y="3"/>
                </a:lnTo>
                <a:lnTo>
                  <a:pt x="2394" y="4"/>
                </a:lnTo>
                <a:lnTo>
                  <a:pt x="2407" y="7"/>
                </a:lnTo>
                <a:lnTo>
                  <a:pt x="2422" y="12"/>
                </a:lnTo>
                <a:lnTo>
                  <a:pt x="2436" y="15"/>
                </a:lnTo>
                <a:lnTo>
                  <a:pt x="2451" y="19"/>
                </a:lnTo>
                <a:lnTo>
                  <a:pt x="2465" y="25"/>
                </a:lnTo>
                <a:lnTo>
                  <a:pt x="2481" y="30"/>
                </a:lnTo>
                <a:lnTo>
                  <a:pt x="2497" y="38"/>
                </a:lnTo>
                <a:lnTo>
                  <a:pt x="2512" y="45"/>
                </a:lnTo>
                <a:lnTo>
                  <a:pt x="2528" y="52"/>
                </a:lnTo>
                <a:lnTo>
                  <a:pt x="2544" y="62"/>
                </a:lnTo>
                <a:lnTo>
                  <a:pt x="2561" y="72"/>
                </a:lnTo>
                <a:lnTo>
                  <a:pt x="2576" y="81"/>
                </a:lnTo>
                <a:lnTo>
                  <a:pt x="2592" y="91"/>
                </a:lnTo>
                <a:lnTo>
                  <a:pt x="2606" y="101"/>
                </a:lnTo>
                <a:lnTo>
                  <a:pt x="2619" y="110"/>
                </a:lnTo>
                <a:lnTo>
                  <a:pt x="2630" y="118"/>
                </a:lnTo>
                <a:lnTo>
                  <a:pt x="2642" y="125"/>
                </a:lnTo>
                <a:lnTo>
                  <a:pt x="2654" y="134"/>
                </a:lnTo>
                <a:lnTo>
                  <a:pt x="2662" y="141"/>
                </a:lnTo>
                <a:lnTo>
                  <a:pt x="2671" y="148"/>
                </a:lnTo>
                <a:lnTo>
                  <a:pt x="2678" y="156"/>
                </a:lnTo>
                <a:lnTo>
                  <a:pt x="2685" y="163"/>
                </a:lnTo>
                <a:lnTo>
                  <a:pt x="2689" y="170"/>
                </a:lnTo>
                <a:lnTo>
                  <a:pt x="2694" y="176"/>
                </a:lnTo>
                <a:lnTo>
                  <a:pt x="2697" y="183"/>
                </a:lnTo>
                <a:lnTo>
                  <a:pt x="2700" y="190"/>
                </a:lnTo>
                <a:lnTo>
                  <a:pt x="2700" y="197"/>
                </a:lnTo>
                <a:lnTo>
                  <a:pt x="2700" y="206"/>
                </a:lnTo>
                <a:lnTo>
                  <a:pt x="2697" y="215"/>
                </a:lnTo>
                <a:lnTo>
                  <a:pt x="2694" y="223"/>
                </a:lnTo>
                <a:lnTo>
                  <a:pt x="2689" y="231"/>
                </a:lnTo>
                <a:lnTo>
                  <a:pt x="2684" y="238"/>
                </a:lnTo>
                <a:lnTo>
                  <a:pt x="2677" y="243"/>
                </a:lnTo>
                <a:lnTo>
                  <a:pt x="2668" y="248"/>
                </a:lnTo>
                <a:lnTo>
                  <a:pt x="2658" y="254"/>
                </a:lnTo>
                <a:lnTo>
                  <a:pt x="2654" y="255"/>
                </a:lnTo>
                <a:lnTo>
                  <a:pt x="2648" y="256"/>
                </a:lnTo>
                <a:lnTo>
                  <a:pt x="2641" y="258"/>
                </a:lnTo>
                <a:lnTo>
                  <a:pt x="2635" y="261"/>
                </a:lnTo>
                <a:lnTo>
                  <a:pt x="2628" y="262"/>
                </a:lnTo>
                <a:lnTo>
                  <a:pt x="2620" y="262"/>
                </a:lnTo>
                <a:lnTo>
                  <a:pt x="2613" y="264"/>
                </a:lnTo>
                <a:lnTo>
                  <a:pt x="2605" y="265"/>
                </a:lnTo>
                <a:lnTo>
                  <a:pt x="2596" y="266"/>
                </a:lnTo>
                <a:lnTo>
                  <a:pt x="2587" y="266"/>
                </a:lnTo>
                <a:lnTo>
                  <a:pt x="2579" y="268"/>
                </a:lnTo>
                <a:lnTo>
                  <a:pt x="2569" y="268"/>
                </a:lnTo>
                <a:lnTo>
                  <a:pt x="2558" y="268"/>
                </a:lnTo>
                <a:lnTo>
                  <a:pt x="2548" y="268"/>
                </a:lnTo>
                <a:lnTo>
                  <a:pt x="2537" y="268"/>
                </a:lnTo>
                <a:lnTo>
                  <a:pt x="2527" y="269"/>
                </a:lnTo>
                <a:lnTo>
                  <a:pt x="2504" y="269"/>
                </a:lnTo>
                <a:lnTo>
                  <a:pt x="2479" y="268"/>
                </a:lnTo>
                <a:lnTo>
                  <a:pt x="2433" y="268"/>
                </a:lnTo>
                <a:lnTo>
                  <a:pt x="2384" y="268"/>
                </a:lnTo>
                <a:lnTo>
                  <a:pt x="2335" y="266"/>
                </a:lnTo>
                <a:lnTo>
                  <a:pt x="2286" y="264"/>
                </a:lnTo>
                <a:lnTo>
                  <a:pt x="2239" y="261"/>
                </a:lnTo>
                <a:lnTo>
                  <a:pt x="2214" y="259"/>
                </a:lnTo>
                <a:lnTo>
                  <a:pt x="2191" y="256"/>
                </a:lnTo>
                <a:lnTo>
                  <a:pt x="2168" y="254"/>
                </a:lnTo>
                <a:lnTo>
                  <a:pt x="2145" y="251"/>
                </a:lnTo>
                <a:lnTo>
                  <a:pt x="2132" y="251"/>
                </a:lnTo>
                <a:lnTo>
                  <a:pt x="2118" y="251"/>
                </a:lnTo>
                <a:lnTo>
                  <a:pt x="2102" y="252"/>
                </a:lnTo>
                <a:lnTo>
                  <a:pt x="2086" y="252"/>
                </a:lnTo>
                <a:lnTo>
                  <a:pt x="2069" y="254"/>
                </a:lnTo>
                <a:lnTo>
                  <a:pt x="2050" y="254"/>
                </a:lnTo>
                <a:lnTo>
                  <a:pt x="2032" y="255"/>
                </a:lnTo>
                <a:lnTo>
                  <a:pt x="2011" y="256"/>
                </a:lnTo>
                <a:lnTo>
                  <a:pt x="1991" y="258"/>
                </a:lnTo>
                <a:lnTo>
                  <a:pt x="1970" y="261"/>
                </a:lnTo>
                <a:lnTo>
                  <a:pt x="1948" y="262"/>
                </a:lnTo>
                <a:lnTo>
                  <a:pt x="1924" y="265"/>
                </a:lnTo>
                <a:lnTo>
                  <a:pt x="1901" y="266"/>
                </a:lnTo>
                <a:lnTo>
                  <a:pt x="1875" y="269"/>
                </a:lnTo>
                <a:lnTo>
                  <a:pt x="1849" y="272"/>
                </a:lnTo>
                <a:lnTo>
                  <a:pt x="1821" y="275"/>
                </a:lnTo>
                <a:lnTo>
                  <a:pt x="1794" y="278"/>
                </a:lnTo>
                <a:lnTo>
                  <a:pt x="1765" y="281"/>
                </a:lnTo>
                <a:lnTo>
                  <a:pt x="1736" y="284"/>
                </a:lnTo>
                <a:lnTo>
                  <a:pt x="1706" y="288"/>
                </a:lnTo>
                <a:lnTo>
                  <a:pt x="1675" y="291"/>
                </a:lnTo>
                <a:lnTo>
                  <a:pt x="1643" y="295"/>
                </a:lnTo>
                <a:lnTo>
                  <a:pt x="1610" y="300"/>
                </a:lnTo>
                <a:lnTo>
                  <a:pt x="1577" y="302"/>
                </a:lnTo>
                <a:lnTo>
                  <a:pt x="1542" y="307"/>
                </a:lnTo>
                <a:lnTo>
                  <a:pt x="1508" y="311"/>
                </a:lnTo>
                <a:lnTo>
                  <a:pt x="1472" y="315"/>
                </a:lnTo>
                <a:lnTo>
                  <a:pt x="1434" y="320"/>
                </a:lnTo>
                <a:lnTo>
                  <a:pt x="1397" y="326"/>
                </a:lnTo>
                <a:lnTo>
                  <a:pt x="1358" y="330"/>
                </a:lnTo>
                <a:lnTo>
                  <a:pt x="1318" y="334"/>
                </a:lnTo>
                <a:lnTo>
                  <a:pt x="1279" y="340"/>
                </a:lnTo>
                <a:lnTo>
                  <a:pt x="1238" y="347"/>
                </a:lnTo>
                <a:lnTo>
                  <a:pt x="1198" y="353"/>
                </a:lnTo>
                <a:lnTo>
                  <a:pt x="1161" y="360"/>
                </a:lnTo>
                <a:lnTo>
                  <a:pt x="1122" y="366"/>
                </a:lnTo>
                <a:lnTo>
                  <a:pt x="1086" y="373"/>
                </a:lnTo>
                <a:lnTo>
                  <a:pt x="1050" y="379"/>
                </a:lnTo>
                <a:lnTo>
                  <a:pt x="1014" y="385"/>
                </a:lnTo>
                <a:lnTo>
                  <a:pt x="979" y="390"/>
                </a:lnTo>
                <a:lnTo>
                  <a:pt x="946" y="396"/>
                </a:lnTo>
                <a:lnTo>
                  <a:pt x="914" y="402"/>
                </a:lnTo>
                <a:lnTo>
                  <a:pt x="881" y="408"/>
                </a:lnTo>
                <a:lnTo>
                  <a:pt x="851" y="413"/>
                </a:lnTo>
                <a:lnTo>
                  <a:pt x="821" y="419"/>
                </a:lnTo>
                <a:lnTo>
                  <a:pt x="792" y="425"/>
                </a:lnTo>
                <a:lnTo>
                  <a:pt x="763" y="429"/>
                </a:lnTo>
                <a:lnTo>
                  <a:pt x="737" y="435"/>
                </a:lnTo>
                <a:lnTo>
                  <a:pt x="710" y="439"/>
                </a:lnTo>
                <a:lnTo>
                  <a:pt x="686" y="444"/>
                </a:lnTo>
                <a:lnTo>
                  <a:pt x="660" y="449"/>
                </a:lnTo>
                <a:lnTo>
                  <a:pt x="637" y="454"/>
                </a:lnTo>
                <a:lnTo>
                  <a:pt x="614" y="458"/>
                </a:lnTo>
                <a:lnTo>
                  <a:pt x="592" y="462"/>
                </a:lnTo>
                <a:lnTo>
                  <a:pt x="572" y="467"/>
                </a:lnTo>
                <a:lnTo>
                  <a:pt x="552" y="471"/>
                </a:lnTo>
                <a:lnTo>
                  <a:pt x="533" y="475"/>
                </a:lnTo>
                <a:lnTo>
                  <a:pt x="516" y="480"/>
                </a:lnTo>
                <a:lnTo>
                  <a:pt x="498" y="482"/>
                </a:lnTo>
                <a:lnTo>
                  <a:pt x="483" y="487"/>
                </a:lnTo>
                <a:lnTo>
                  <a:pt x="467" y="491"/>
                </a:lnTo>
                <a:lnTo>
                  <a:pt x="454" y="494"/>
                </a:lnTo>
                <a:lnTo>
                  <a:pt x="441" y="498"/>
                </a:lnTo>
                <a:lnTo>
                  <a:pt x="429" y="501"/>
                </a:lnTo>
                <a:lnTo>
                  <a:pt x="406" y="511"/>
                </a:lnTo>
                <a:lnTo>
                  <a:pt x="385" y="520"/>
                </a:lnTo>
                <a:lnTo>
                  <a:pt x="363" y="527"/>
                </a:lnTo>
                <a:lnTo>
                  <a:pt x="341" y="533"/>
                </a:lnTo>
                <a:lnTo>
                  <a:pt x="321" y="537"/>
                </a:lnTo>
                <a:lnTo>
                  <a:pt x="301" y="541"/>
                </a:lnTo>
                <a:lnTo>
                  <a:pt x="281" y="544"/>
                </a:lnTo>
                <a:lnTo>
                  <a:pt x="262" y="546"/>
                </a:lnTo>
                <a:lnTo>
                  <a:pt x="244" y="547"/>
                </a:lnTo>
                <a:lnTo>
                  <a:pt x="226" y="549"/>
                </a:lnTo>
                <a:lnTo>
                  <a:pt x="209" y="547"/>
                </a:lnTo>
                <a:lnTo>
                  <a:pt x="192" y="547"/>
                </a:lnTo>
                <a:lnTo>
                  <a:pt x="177" y="546"/>
                </a:lnTo>
                <a:lnTo>
                  <a:pt x="162" y="543"/>
                </a:lnTo>
                <a:lnTo>
                  <a:pt x="147" y="540"/>
                </a:lnTo>
                <a:lnTo>
                  <a:pt x="134" y="5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73"/>
          <p:cNvSpPr/>
          <p:nvPr/>
        </p:nvSpPr>
        <p:spPr>
          <a:xfrm>
            <a:off x="7223040" y="3193920"/>
            <a:ext cx="149400" cy="1906560"/>
          </a:xfrm>
          <a:custGeom>
            <a:avLst/>
            <a:gdLst/>
            <a:ahLst/>
            <a:rect l="l" t="t" r="r" b="b"/>
            <a:pathLst>
              <a:path w="283" h="3601">
                <a:moveTo>
                  <a:pt x="111" y="3601"/>
                </a:moveTo>
                <a:lnTo>
                  <a:pt x="106" y="3599"/>
                </a:lnTo>
                <a:lnTo>
                  <a:pt x="103" y="3598"/>
                </a:lnTo>
                <a:lnTo>
                  <a:pt x="101" y="3596"/>
                </a:lnTo>
                <a:lnTo>
                  <a:pt x="98" y="3592"/>
                </a:lnTo>
                <a:lnTo>
                  <a:pt x="95" y="3588"/>
                </a:lnTo>
                <a:lnTo>
                  <a:pt x="92" y="3583"/>
                </a:lnTo>
                <a:lnTo>
                  <a:pt x="89" y="3576"/>
                </a:lnTo>
                <a:lnTo>
                  <a:pt x="88" y="3569"/>
                </a:lnTo>
                <a:lnTo>
                  <a:pt x="85" y="3562"/>
                </a:lnTo>
                <a:lnTo>
                  <a:pt x="82" y="3552"/>
                </a:lnTo>
                <a:lnTo>
                  <a:pt x="79" y="3542"/>
                </a:lnTo>
                <a:lnTo>
                  <a:pt x="78" y="3531"/>
                </a:lnTo>
                <a:lnTo>
                  <a:pt x="75" y="3519"/>
                </a:lnTo>
                <a:lnTo>
                  <a:pt x="73" y="3506"/>
                </a:lnTo>
                <a:lnTo>
                  <a:pt x="70" y="3493"/>
                </a:lnTo>
                <a:lnTo>
                  <a:pt x="69" y="3477"/>
                </a:lnTo>
                <a:lnTo>
                  <a:pt x="66" y="3461"/>
                </a:lnTo>
                <a:lnTo>
                  <a:pt x="65" y="3444"/>
                </a:lnTo>
                <a:lnTo>
                  <a:pt x="63" y="3426"/>
                </a:lnTo>
                <a:lnTo>
                  <a:pt x="60" y="3408"/>
                </a:lnTo>
                <a:lnTo>
                  <a:pt x="59" y="3388"/>
                </a:lnTo>
                <a:lnTo>
                  <a:pt x="57" y="3366"/>
                </a:lnTo>
                <a:lnTo>
                  <a:pt x="56" y="3344"/>
                </a:lnTo>
                <a:lnTo>
                  <a:pt x="53" y="3321"/>
                </a:lnTo>
                <a:lnTo>
                  <a:pt x="52" y="3297"/>
                </a:lnTo>
                <a:lnTo>
                  <a:pt x="50" y="3271"/>
                </a:lnTo>
                <a:lnTo>
                  <a:pt x="49" y="3245"/>
                </a:lnTo>
                <a:lnTo>
                  <a:pt x="47" y="3218"/>
                </a:lnTo>
                <a:lnTo>
                  <a:pt x="46" y="3190"/>
                </a:lnTo>
                <a:lnTo>
                  <a:pt x="44" y="3160"/>
                </a:lnTo>
                <a:lnTo>
                  <a:pt x="43" y="3130"/>
                </a:lnTo>
                <a:lnTo>
                  <a:pt x="42" y="3100"/>
                </a:lnTo>
                <a:lnTo>
                  <a:pt x="39" y="3065"/>
                </a:lnTo>
                <a:lnTo>
                  <a:pt x="37" y="3032"/>
                </a:lnTo>
                <a:lnTo>
                  <a:pt x="36" y="3000"/>
                </a:lnTo>
                <a:lnTo>
                  <a:pt x="36" y="2967"/>
                </a:lnTo>
                <a:lnTo>
                  <a:pt x="34" y="2935"/>
                </a:lnTo>
                <a:lnTo>
                  <a:pt x="33" y="2904"/>
                </a:lnTo>
                <a:lnTo>
                  <a:pt x="31" y="2874"/>
                </a:lnTo>
                <a:lnTo>
                  <a:pt x="31" y="2843"/>
                </a:lnTo>
                <a:lnTo>
                  <a:pt x="29" y="2783"/>
                </a:lnTo>
                <a:lnTo>
                  <a:pt x="27" y="2724"/>
                </a:lnTo>
                <a:lnTo>
                  <a:pt x="27" y="2665"/>
                </a:lnTo>
                <a:lnTo>
                  <a:pt x="26" y="2609"/>
                </a:lnTo>
                <a:lnTo>
                  <a:pt x="26" y="2553"/>
                </a:lnTo>
                <a:lnTo>
                  <a:pt x="24" y="2498"/>
                </a:lnTo>
                <a:lnTo>
                  <a:pt x="24" y="2445"/>
                </a:lnTo>
                <a:lnTo>
                  <a:pt x="24" y="2391"/>
                </a:lnTo>
                <a:lnTo>
                  <a:pt x="24" y="2338"/>
                </a:lnTo>
                <a:lnTo>
                  <a:pt x="24" y="2288"/>
                </a:lnTo>
                <a:lnTo>
                  <a:pt x="24" y="2236"/>
                </a:lnTo>
                <a:lnTo>
                  <a:pt x="24" y="2185"/>
                </a:lnTo>
                <a:lnTo>
                  <a:pt x="24" y="2136"/>
                </a:lnTo>
                <a:lnTo>
                  <a:pt x="23" y="2111"/>
                </a:lnTo>
                <a:lnTo>
                  <a:pt x="23" y="2083"/>
                </a:lnTo>
                <a:lnTo>
                  <a:pt x="23" y="2056"/>
                </a:lnTo>
                <a:lnTo>
                  <a:pt x="23" y="2027"/>
                </a:lnTo>
                <a:lnTo>
                  <a:pt x="23" y="1998"/>
                </a:lnTo>
                <a:lnTo>
                  <a:pt x="23" y="1967"/>
                </a:lnTo>
                <a:lnTo>
                  <a:pt x="23" y="1935"/>
                </a:lnTo>
                <a:lnTo>
                  <a:pt x="23" y="1903"/>
                </a:lnTo>
                <a:lnTo>
                  <a:pt x="23" y="1869"/>
                </a:lnTo>
                <a:lnTo>
                  <a:pt x="23" y="1834"/>
                </a:lnTo>
                <a:lnTo>
                  <a:pt x="23" y="1798"/>
                </a:lnTo>
                <a:lnTo>
                  <a:pt x="21" y="1762"/>
                </a:lnTo>
                <a:lnTo>
                  <a:pt x="21" y="1725"/>
                </a:lnTo>
                <a:lnTo>
                  <a:pt x="21" y="1686"/>
                </a:lnTo>
                <a:lnTo>
                  <a:pt x="21" y="1647"/>
                </a:lnTo>
                <a:lnTo>
                  <a:pt x="20" y="1607"/>
                </a:lnTo>
                <a:lnTo>
                  <a:pt x="20" y="1565"/>
                </a:lnTo>
                <a:lnTo>
                  <a:pt x="18" y="1522"/>
                </a:lnTo>
                <a:lnTo>
                  <a:pt x="18" y="1479"/>
                </a:lnTo>
                <a:lnTo>
                  <a:pt x="17" y="1434"/>
                </a:lnTo>
                <a:lnTo>
                  <a:pt x="17" y="1388"/>
                </a:lnTo>
                <a:lnTo>
                  <a:pt x="16" y="1342"/>
                </a:lnTo>
                <a:lnTo>
                  <a:pt x="16" y="1294"/>
                </a:lnTo>
                <a:lnTo>
                  <a:pt x="14" y="1245"/>
                </a:lnTo>
                <a:lnTo>
                  <a:pt x="13" y="1195"/>
                </a:lnTo>
                <a:lnTo>
                  <a:pt x="11" y="1145"/>
                </a:lnTo>
                <a:lnTo>
                  <a:pt x="10" y="1093"/>
                </a:lnTo>
                <a:lnTo>
                  <a:pt x="10" y="1041"/>
                </a:lnTo>
                <a:lnTo>
                  <a:pt x="8" y="986"/>
                </a:lnTo>
                <a:lnTo>
                  <a:pt x="7" y="931"/>
                </a:lnTo>
                <a:lnTo>
                  <a:pt x="6" y="904"/>
                </a:lnTo>
                <a:lnTo>
                  <a:pt x="4" y="877"/>
                </a:lnTo>
                <a:lnTo>
                  <a:pt x="4" y="851"/>
                </a:lnTo>
                <a:lnTo>
                  <a:pt x="4" y="823"/>
                </a:lnTo>
                <a:lnTo>
                  <a:pt x="3" y="798"/>
                </a:lnTo>
                <a:lnTo>
                  <a:pt x="3" y="773"/>
                </a:lnTo>
                <a:lnTo>
                  <a:pt x="1" y="747"/>
                </a:lnTo>
                <a:lnTo>
                  <a:pt x="1" y="723"/>
                </a:lnTo>
                <a:lnTo>
                  <a:pt x="1" y="700"/>
                </a:lnTo>
                <a:lnTo>
                  <a:pt x="1" y="675"/>
                </a:lnTo>
                <a:lnTo>
                  <a:pt x="0" y="652"/>
                </a:lnTo>
                <a:lnTo>
                  <a:pt x="0" y="629"/>
                </a:lnTo>
                <a:lnTo>
                  <a:pt x="0" y="606"/>
                </a:lnTo>
                <a:lnTo>
                  <a:pt x="0" y="585"/>
                </a:lnTo>
                <a:lnTo>
                  <a:pt x="0" y="563"/>
                </a:lnTo>
                <a:lnTo>
                  <a:pt x="0" y="541"/>
                </a:lnTo>
                <a:lnTo>
                  <a:pt x="0" y="521"/>
                </a:lnTo>
                <a:lnTo>
                  <a:pt x="0" y="501"/>
                </a:lnTo>
                <a:lnTo>
                  <a:pt x="0" y="481"/>
                </a:lnTo>
                <a:lnTo>
                  <a:pt x="0" y="461"/>
                </a:lnTo>
                <a:lnTo>
                  <a:pt x="0" y="442"/>
                </a:lnTo>
                <a:lnTo>
                  <a:pt x="0" y="423"/>
                </a:lnTo>
                <a:lnTo>
                  <a:pt x="0" y="405"/>
                </a:lnTo>
                <a:lnTo>
                  <a:pt x="1" y="387"/>
                </a:lnTo>
                <a:lnTo>
                  <a:pt x="1" y="369"/>
                </a:lnTo>
                <a:lnTo>
                  <a:pt x="1" y="353"/>
                </a:lnTo>
                <a:lnTo>
                  <a:pt x="1" y="335"/>
                </a:lnTo>
                <a:lnTo>
                  <a:pt x="3" y="320"/>
                </a:lnTo>
                <a:lnTo>
                  <a:pt x="3" y="304"/>
                </a:lnTo>
                <a:lnTo>
                  <a:pt x="3" y="288"/>
                </a:lnTo>
                <a:lnTo>
                  <a:pt x="4" y="272"/>
                </a:lnTo>
                <a:lnTo>
                  <a:pt x="4" y="258"/>
                </a:lnTo>
                <a:lnTo>
                  <a:pt x="4" y="243"/>
                </a:lnTo>
                <a:lnTo>
                  <a:pt x="6" y="230"/>
                </a:lnTo>
                <a:lnTo>
                  <a:pt x="6" y="216"/>
                </a:lnTo>
                <a:lnTo>
                  <a:pt x="7" y="203"/>
                </a:lnTo>
                <a:lnTo>
                  <a:pt x="7" y="190"/>
                </a:lnTo>
                <a:lnTo>
                  <a:pt x="8" y="179"/>
                </a:lnTo>
                <a:lnTo>
                  <a:pt x="10" y="167"/>
                </a:lnTo>
                <a:lnTo>
                  <a:pt x="10" y="156"/>
                </a:lnTo>
                <a:lnTo>
                  <a:pt x="11" y="144"/>
                </a:lnTo>
                <a:lnTo>
                  <a:pt x="13" y="134"/>
                </a:lnTo>
                <a:lnTo>
                  <a:pt x="13" y="124"/>
                </a:lnTo>
                <a:lnTo>
                  <a:pt x="14" y="114"/>
                </a:lnTo>
                <a:lnTo>
                  <a:pt x="16" y="104"/>
                </a:lnTo>
                <a:lnTo>
                  <a:pt x="16" y="95"/>
                </a:lnTo>
                <a:lnTo>
                  <a:pt x="17" y="86"/>
                </a:lnTo>
                <a:lnTo>
                  <a:pt x="18" y="78"/>
                </a:lnTo>
                <a:lnTo>
                  <a:pt x="20" y="71"/>
                </a:lnTo>
                <a:lnTo>
                  <a:pt x="21" y="63"/>
                </a:lnTo>
                <a:lnTo>
                  <a:pt x="21" y="56"/>
                </a:lnTo>
                <a:lnTo>
                  <a:pt x="23" y="49"/>
                </a:lnTo>
                <a:lnTo>
                  <a:pt x="24" y="43"/>
                </a:lnTo>
                <a:lnTo>
                  <a:pt x="26" y="37"/>
                </a:lnTo>
                <a:lnTo>
                  <a:pt x="27" y="32"/>
                </a:lnTo>
                <a:lnTo>
                  <a:pt x="29" y="27"/>
                </a:lnTo>
                <a:lnTo>
                  <a:pt x="30" y="22"/>
                </a:lnTo>
                <a:lnTo>
                  <a:pt x="31" y="17"/>
                </a:lnTo>
                <a:lnTo>
                  <a:pt x="33" y="14"/>
                </a:lnTo>
                <a:lnTo>
                  <a:pt x="34" y="10"/>
                </a:lnTo>
                <a:lnTo>
                  <a:pt x="36" y="7"/>
                </a:lnTo>
                <a:lnTo>
                  <a:pt x="37" y="4"/>
                </a:lnTo>
                <a:lnTo>
                  <a:pt x="39" y="3"/>
                </a:lnTo>
                <a:lnTo>
                  <a:pt x="42" y="0"/>
                </a:lnTo>
                <a:lnTo>
                  <a:pt x="54" y="14"/>
                </a:lnTo>
                <a:lnTo>
                  <a:pt x="69" y="27"/>
                </a:lnTo>
                <a:lnTo>
                  <a:pt x="82" y="40"/>
                </a:lnTo>
                <a:lnTo>
                  <a:pt x="95" y="52"/>
                </a:lnTo>
                <a:lnTo>
                  <a:pt x="108" y="65"/>
                </a:lnTo>
                <a:lnTo>
                  <a:pt x="121" y="76"/>
                </a:lnTo>
                <a:lnTo>
                  <a:pt x="132" y="88"/>
                </a:lnTo>
                <a:lnTo>
                  <a:pt x="144" y="98"/>
                </a:lnTo>
                <a:lnTo>
                  <a:pt x="155" y="109"/>
                </a:lnTo>
                <a:lnTo>
                  <a:pt x="165" y="120"/>
                </a:lnTo>
                <a:lnTo>
                  <a:pt x="175" y="130"/>
                </a:lnTo>
                <a:lnTo>
                  <a:pt x="185" y="138"/>
                </a:lnTo>
                <a:lnTo>
                  <a:pt x="194" y="148"/>
                </a:lnTo>
                <a:lnTo>
                  <a:pt x="203" y="157"/>
                </a:lnTo>
                <a:lnTo>
                  <a:pt x="211" y="166"/>
                </a:lnTo>
                <a:lnTo>
                  <a:pt x="220" y="174"/>
                </a:lnTo>
                <a:lnTo>
                  <a:pt x="227" y="181"/>
                </a:lnTo>
                <a:lnTo>
                  <a:pt x="234" y="189"/>
                </a:lnTo>
                <a:lnTo>
                  <a:pt x="242" y="196"/>
                </a:lnTo>
                <a:lnTo>
                  <a:pt x="247" y="202"/>
                </a:lnTo>
                <a:lnTo>
                  <a:pt x="253" y="209"/>
                </a:lnTo>
                <a:lnTo>
                  <a:pt x="257" y="215"/>
                </a:lnTo>
                <a:lnTo>
                  <a:pt x="263" y="220"/>
                </a:lnTo>
                <a:lnTo>
                  <a:pt x="268" y="225"/>
                </a:lnTo>
                <a:lnTo>
                  <a:pt x="270" y="229"/>
                </a:lnTo>
                <a:lnTo>
                  <a:pt x="275" y="233"/>
                </a:lnTo>
                <a:lnTo>
                  <a:pt x="278" y="238"/>
                </a:lnTo>
                <a:lnTo>
                  <a:pt x="279" y="242"/>
                </a:lnTo>
                <a:lnTo>
                  <a:pt x="280" y="245"/>
                </a:lnTo>
                <a:lnTo>
                  <a:pt x="282" y="248"/>
                </a:lnTo>
                <a:lnTo>
                  <a:pt x="283" y="249"/>
                </a:lnTo>
                <a:lnTo>
                  <a:pt x="283" y="252"/>
                </a:lnTo>
                <a:lnTo>
                  <a:pt x="283" y="253"/>
                </a:lnTo>
                <a:lnTo>
                  <a:pt x="283" y="256"/>
                </a:lnTo>
                <a:lnTo>
                  <a:pt x="283" y="259"/>
                </a:lnTo>
                <a:lnTo>
                  <a:pt x="283" y="262"/>
                </a:lnTo>
                <a:lnTo>
                  <a:pt x="283" y="266"/>
                </a:lnTo>
                <a:lnTo>
                  <a:pt x="283" y="271"/>
                </a:lnTo>
                <a:lnTo>
                  <a:pt x="283" y="275"/>
                </a:lnTo>
                <a:lnTo>
                  <a:pt x="283" y="281"/>
                </a:lnTo>
                <a:lnTo>
                  <a:pt x="283" y="287"/>
                </a:lnTo>
                <a:lnTo>
                  <a:pt x="283" y="294"/>
                </a:lnTo>
                <a:lnTo>
                  <a:pt x="282" y="299"/>
                </a:lnTo>
                <a:lnTo>
                  <a:pt x="282" y="307"/>
                </a:lnTo>
                <a:lnTo>
                  <a:pt x="282" y="315"/>
                </a:lnTo>
                <a:lnTo>
                  <a:pt x="282" y="323"/>
                </a:lnTo>
                <a:lnTo>
                  <a:pt x="282" y="331"/>
                </a:lnTo>
                <a:lnTo>
                  <a:pt x="280" y="341"/>
                </a:lnTo>
                <a:lnTo>
                  <a:pt x="280" y="350"/>
                </a:lnTo>
                <a:lnTo>
                  <a:pt x="280" y="360"/>
                </a:lnTo>
                <a:lnTo>
                  <a:pt x="279" y="370"/>
                </a:lnTo>
                <a:lnTo>
                  <a:pt x="279" y="382"/>
                </a:lnTo>
                <a:lnTo>
                  <a:pt x="278" y="392"/>
                </a:lnTo>
                <a:lnTo>
                  <a:pt x="278" y="403"/>
                </a:lnTo>
                <a:lnTo>
                  <a:pt x="276" y="415"/>
                </a:lnTo>
                <a:lnTo>
                  <a:pt x="276" y="428"/>
                </a:lnTo>
                <a:lnTo>
                  <a:pt x="275" y="441"/>
                </a:lnTo>
                <a:lnTo>
                  <a:pt x="273" y="454"/>
                </a:lnTo>
                <a:lnTo>
                  <a:pt x="272" y="479"/>
                </a:lnTo>
                <a:lnTo>
                  <a:pt x="269" y="508"/>
                </a:lnTo>
                <a:lnTo>
                  <a:pt x="266" y="538"/>
                </a:lnTo>
                <a:lnTo>
                  <a:pt x="263" y="572"/>
                </a:lnTo>
                <a:lnTo>
                  <a:pt x="260" y="608"/>
                </a:lnTo>
                <a:lnTo>
                  <a:pt x="259" y="644"/>
                </a:lnTo>
                <a:lnTo>
                  <a:pt x="256" y="682"/>
                </a:lnTo>
                <a:lnTo>
                  <a:pt x="255" y="721"/>
                </a:lnTo>
                <a:lnTo>
                  <a:pt x="255" y="762"/>
                </a:lnTo>
                <a:lnTo>
                  <a:pt x="253" y="803"/>
                </a:lnTo>
                <a:lnTo>
                  <a:pt x="253" y="847"/>
                </a:lnTo>
                <a:lnTo>
                  <a:pt x="253" y="891"/>
                </a:lnTo>
                <a:lnTo>
                  <a:pt x="255" y="936"/>
                </a:lnTo>
                <a:lnTo>
                  <a:pt x="255" y="983"/>
                </a:lnTo>
                <a:lnTo>
                  <a:pt x="256" y="1031"/>
                </a:lnTo>
                <a:lnTo>
                  <a:pt x="259" y="1081"/>
                </a:lnTo>
                <a:lnTo>
                  <a:pt x="260" y="1132"/>
                </a:lnTo>
                <a:lnTo>
                  <a:pt x="263" y="1183"/>
                </a:lnTo>
                <a:lnTo>
                  <a:pt x="266" y="1237"/>
                </a:lnTo>
                <a:lnTo>
                  <a:pt x="266" y="1290"/>
                </a:lnTo>
                <a:lnTo>
                  <a:pt x="266" y="1348"/>
                </a:lnTo>
                <a:lnTo>
                  <a:pt x="266" y="1405"/>
                </a:lnTo>
                <a:lnTo>
                  <a:pt x="266" y="1464"/>
                </a:lnTo>
                <a:lnTo>
                  <a:pt x="266" y="1526"/>
                </a:lnTo>
                <a:lnTo>
                  <a:pt x="266" y="1589"/>
                </a:lnTo>
                <a:lnTo>
                  <a:pt x="266" y="1654"/>
                </a:lnTo>
                <a:lnTo>
                  <a:pt x="266" y="1722"/>
                </a:lnTo>
                <a:lnTo>
                  <a:pt x="266" y="1791"/>
                </a:lnTo>
                <a:lnTo>
                  <a:pt x="266" y="1861"/>
                </a:lnTo>
                <a:lnTo>
                  <a:pt x="266" y="1935"/>
                </a:lnTo>
                <a:lnTo>
                  <a:pt x="266" y="2010"/>
                </a:lnTo>
                <a:lnTo>
                  <a:pt x="266" y="2086"/>
                </a:lnTo>
                <a:lnTo>
                  <a:pt x="266" y="2165"/>
                </a:lnTo>
                <a:lnTo>
                  <a:pt x="266" y="2246"/>
                </a:lnTo>
                <a:lnTo>
                  <a:pt x="266" y="2329"/>
                </a:lnTo>
                <a:lnTo>
                  <a:pt x="266" y="2411"/>
                </a:lnTo>
                <a:lnTo>
                  <a:pt x="265" y="2492"/>
                </a:lnTo>
                <a:lnTo>
                  <a:pt x="265" y="2568"/>
                </a:lnTo>
                <a:lnTo>
                  <a:pt x="263" y="2643"/>
                </a:lnTo>
                <a:lnTo>
                  <a:pt x="260" y="2715"/>
                </a:lnTo>
                <a:lnTo>
                  <a:pt x="259" y="2784"/>
                </a:lnTo>
                <a:lnTo>
                  <a:pt x="256" y="2852"/>
                </a:lnTo>
                <a:lnTo>
                  <a:pt x="253" y="2915"/>
                </a:lnTo>
                <a:lnTo>
                  <a:pt x="249" y="2976"/>
                </a:lnTo>
                <a:lnTo>
                  <a:pt x="246" y="3033"/>
                </a:lnTo>
                <a:lnTo>
                  <a:pt x="242" y="3088"/>
                </a:lnTo>
                <a:lnTo>
                  <a:pt x="236" y="3140"/>
                </a:lnTo>
                <a:lnTo>
                  <a:pt x="232" y="3187"/>
                </a:lnTo>
                <a:lnTo>
                  <a:pt x="226" y="3233"/>
                </a:lnTo>
                <a:lnTo>
                  <a:pt x="220" y="3275"/>
                </a:lnTo>
                <a:lnTo>
                  <a:pt x="214" y="3314"/>
                </a:lnTo>
                <a:lnTo>
                  <a:pt x="210" y="3331"/>
                </a:lnTo>
                <a:lnTo>
                  <a:pt x="207" y="3349"/>
                </a:lnTo>
                <a:lnTo>
                  <a:pt x="204" y="3366"/>
                </a:lnTo>
                <a:lnTo>
                  <a:pt x="201" y="3382"/>
                </a:lnTo>
                <a:lnTo>
                  <a:pt x="197" y="3398"/>
                </a:lnTo>
                <a:lnTo>
                  <a:pt x="194" y="3413"/>
                </a:lnTo>
                <a:lnTo>
                  <a:pt x="191" y="3428"/>
                </a:lnTo>
                <a:lnTo>
                  <a:pt x="188" y="3441"/>
                </a:lnTo>
                <a:lnTo>
                  <a:pt x="184" y="3455"/>
                </a:lnTo>
                <a:lnTo>
                  <a:pt x="181" y="3467"/>
                </a:lnTo>
                <a:lnTo>
                  <a:pt x="178" y="3480"/>
                </a:lnTo>
                <a:lnTo>
                  <a:pt x="175" y="3491"/>
                </a:lnTo>
                <a:lnTo>
                  <a:pt x="171" y="3501"/>
                </a:lnTo>
                <a:lnTo>
                  <a:pt x="168" y="3511"/>
                </a:lnTo>
                <a:lnTo>
                  <a:pt x="165" y="3521"/>
                </a:lnTo>
                <a:lnTo>
                  <a:pt x="162" y="3530"/>
                </a:lnTo>
                <a:lnTo>
                  <a:pt x="158" y="3539"/>
                </a:lnTo>
                <a:lnTo>
                  <a:pt x="155" y="3547"/>
                </a:lnTo>
                <a:lnTo>
                  <a:pt x="152" y="3555"/>
                </a:lnTo>
                <a:lnTo>
                  <a:pt x="149" y="3562"/>
                </a:lnTo>
                <a:lnTo>
                  <a:pt x="145" y="3567"/>
                </a:lnTo>
                <a:lnTo>
                  <a:pt x="142" y="3573"/>
                </a:lnTo>
                <a:lnTo>
                  <a:pt x="139" y="3579"/>
                </a:lnTo>
                <a:lnTo>
                  <a:pt x="137" y="3583"/>
                </a:lnTo>
                <a:lnTo>
                  <a:pt x="132" y="3586"/>
                </a:lnTo>
                <a:lnTo>
                  <a:pt x="129" y="3590"/>
                </a:lnTo>
                <a:lnTo>
                  <a:pt x="126" y="3593"/>
                </a:lnTo>
                <a:lnTo>
                  <a:pt x="124" y="3596"/>
                </a:lnTo>
                <a:lnTo>
                  <a:pt x="119" y="3598"/>
                </a:lnTo>
                <a:lnTo>
                  <a:pt x="116" y="3599"/>
                </a:lnTo>
                <a:lnTo>
                  <a:pt x="114" y="3599"/>
                </a:lnTo>
                <a:lnTo>
                  <a:pt x="111" y="36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74"/>
          <p:cNvSpPr/>
          <p:nvPr/>
        </p:nvSpPr>
        <p:spPr>
          <a:xfrm>
            <a:off x="6767640" y="3289320"/>
            <a:ext cx="109440" cy="882720"/>
          </a:xfrm>
          <a:custGeom>
            <a:avLst/>
            <a:gdLst/>
            <a:ahLst/>
            <a:rect l="l" t="t" r="r" b="b"/>
            <a:pathLst>
              <a:path w="209" h="1666">
                <a:moveTo>
                  <a:pt x="0" y="0"/>
                </a:moveTo>
                <a:lnTo>
                  <a:pt x="16" y="6"/>
                </a:lnTo>
                <a:lnTo>
                  <a:pt x="30" y="13"/>
                </a:lnTo>
                <a:lnTo>
                  <a:pt x="45" y="20"/>
                </a:lnTo>
                <a:lnTo>
                  <a:pt x="59" y="26"/>
                </a:lnTo>
                <a:lnTo>
                  <a:pt x="72" y="33"/>
                </a:lnTo>
                <a:lnTo>
                  <a:pt x="83" y="39"/>
                </a:lnTo>
                <a:lnTo>
                  <a:pt x="95" y="45"/>
                </a:lnTo>
                <a:lnTo>
                  <a:pt x="106" y="52"/>
                </a:lnTo>
                <a:lnTo>
                  <a:pt x="117" y="58"/>
                </a:lnTo>
                <a:lnTo>
                  <a:pt x="127" y="62"/>
                </a:lnTo>
                <a:lnTo>
                  <a:pt x="135" y="68"/>
                </a:lnTo>
                <a:lnTo>
                  <a:pt x="144" y="73"/>
                </a:lnTo>
                <a:lnTo>
                  <a:pt x="152" y="78"/>
                </a:lnTo>
                <a:lnTo>
                  <a:pt x="160" y="82"/>
                </a:lnTo>
                <a:lnTo>
                  <a:pt x="167" y="86"/>
                </a:lnTo>
                <a:lnTo>
                  <a:pt x="174" y="89"/>
                </a:lnTo>
                <a:lnTo>
                  <a:pt x="176" y="94"/>
                </a:lnTo>
                <a:lnTo>
                  <a:pt x="177" y="98"/>
                </a:lnTo>
                <a:lnTo>
                  <a:pt x="178" y="104"/>
                </a:lnTo>
                <a:lnTo>
                  <a:pt x="180" y="111"/>
                </a:lnTo>
                <a:lnTo>
                  <a:pt x="181" y="118"/>
                </a:lnTo>
                <a:lnTo>
                  <a:pt x="183" y="127"/>
                </a:lnTo>
                <a:lnTo>
                  <a:pt x="184" y="135"/>
                </a:lnTo>
                <a:lnTo>
                  <a:pt x="186" y="147"/>
                </a:lnTo>
                <a:lnTo>
                  <a:pt x="187" y="158"/>
                </a:lnTo>
                <a:lnTo>
                  <a:pt x="188" y="170"/>
                </a:lnTo>
                <a:lnTo>
                  <a:pt x="190" y="183"/>
                </a:lnTo>
                <a:lnTo>
                  <a:pt x="191" y="197"/>
                </a:lnTo>
                <a:lnTo>
                  <a:pt x="193" y="213"/>
                </a:lnTo>
                <a:lnTo>
                  <a:pt x="194" y="229"/>
                </a:lnTo>
                <a:lnTo>
                  <a:pt x="196" y="246"/>
                </a:lnTo>
                <a:lnTo>
                  <a:pt x="197" y="263"/>
                </a:lnTo>
                <a:lnTo>
                  <a:pt x="199" y="282"/>
                </a:lnTo>
                <a:lnTo>
                  <a:pt x="200" y="302"/>
                </a:lnTo>
                <a:lnTo>
                  <a:pt x="200" y="324"/>
                </a:lnTo>
                <a:lnTo>
                  <a:pt x="201" y="345"/>
                </a:lnTo>
                <a:lnTo>
                  <a:pt x="203" y="369"/>
                </a:lnTo>
                <a:lnTo>
                  <a:pt x="203" y="392"/>
                </a:lnTo>
                <a:lnTo>
                  <a:pt x="204" y="416"/>
                </a:lnTo>
                <a:lnTo>
                  <a:pt x="204" y="442"/>
                </a:lnTo>
                <a:lnTo>
                  <a:pt x="206" y="468"/>
                </a:lnTo>
                <a:lnTo>
                  <a:pt x="206" y="495"/>
                </a:lnTo>
                <a:lnTo>
                  <a:pt x="207" y="524"/>
                </a:lnTo>
                <a:lnTo>
                  <a:pt x="207" y="553"/>
                </a:lnTo>
                <a:lnTo>
                  <a:pt x="207" y="583"/>
                </a:lnTo>
                <a:lnTo>
                  <a:pt x="207" y="615"/>
                </a:lnTo>
                <a:lnTo>
                  <a:pt x="207" y="648"/>
                </a:lnTo>
                <a:lnTo>
                  <a:pt x="209" y="681"/>
                </a:lnTo>
                <a:lnTo>
                  <a:pt x="207" y="750"/>
                </a:lnTo>
                <a:lnTo>
                  <a:pt x="207" y="819"/>
                </a:lnTo>
                <a:lnTo>
                  <a:pt x="206" y="887"/>
                </a:lnTo>
                <a:lnTo>
                  <a:pt x="204" y="953"/>
                </a:lnTo>
                <a:lnTo>
                  <a:pt x="203" y="1018"/>
                </a:lnTo>
                <a:lnTo>
                  <a:pt x="200" y="1081"/>
                </a:lnTo>
                <a:lnTo>
                  <a:pt x="197" y="1144"/>
                </a:lnTo>
                <a:lnTo>
                  <a:pt x="194" y="1206"/>
                </a:lnTo>
                <a:lnTo>
                  <a:pt x="191" y="1267"/>
                </a:lnTo>
                <a:lnTo>
                  <a:pt x="187" y="1326"/>
                </a:lnTo>
                <a:lnTo>
                  <a:pt x="183" y="1385"/>
                </a:lnTo>
                <a:lnTo>
                  <a:pt x="178" y="1442"/>
                </a:lnTo>
                <a:lnTo>
                  <a:pt x="168" y="1556"/>
                </a:lnTo>
                <a:lnTo>
                  <a:pt x="157" y="1666"/>
                </a:lnTo>
                <a:lnTo>
                  <a:pt x="78" y="1666"/>
                </a:lnTo>
                <a:lnTo>
                  <a:pt x="0" y="1666"/>
                </a:lnTo>
                <a:lnTo>
                  <a:pt x="0" y="83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75"/>
          <p:cNvSpPr/>
          <p:nvPr/>
        </p:nvSpPr>
        <p:spPr>
          <a:xfrm>
            <a:off x="6831000" y="3508200"/>
            <a:ext cx="339840" cy="113040"/>
          </a:xfrm>
          <a:custGeom>
            <a:avLst/>
            <a:gdLst/>
            <a:ahLst/>
            <a:rect l="l" t="t" r="r" b="b"/>
            <a:pathLst>
              <a:path w="641" h="214">
                <a:moveTo>
                  <a:pt x="572" y="36"/>
                </a:moveTo>
                <a:lnTo>
                  <a:pt x="580" y="39"/>
                </a:lnTo>
                <a:lnTo>
                  <a:pt x="589" y="43"/>
                </a:lnTo>
                <a:lnTo>
                  <a:pt x="598" y="47"/>
                </a:lnTo>
                <a:lnTo>
                  <a:pt x="605" y="52"/>
                </a:lnTo>
                <a:lnTo>
                  <a:pt x="611" y="56"/>
                </a:lnTo>
                <a:lnTo>
                  <a:pt x="616" y="62"/>
                </a:lnTo>
                <a:lnTo>
                  <a:pt x="621" y="66"/>
                </a:lnTo>
                <a:lnTo>
                  <a:pt x="626" y="72"/>
                </a:lnTo>
                <a:lnTo>
                  <a:pt x="629" y="76"/>
                </a:lnTo>
                <a:lnTo>
                  <a:pt x="632" y="82"/>
                </a:lnTo>
                <a:lnTo>
                  <a:pt x="635" y="86"/>
                </a:lnTo>
                <a:lnTo>
                  <a:pt x="638" y="90"/>
                </a:lnTo>
                <a:lnTo>
                  <a:pt x="639" y="95"/>
                </a:lnTo>
                <a:lnTo>
                  <a:pt x="639" y="99"/>
                </a:lnTo>
                <a:lnTo>
                  <a:pt x="641" y="103"/>
                </a:lnTo>
                <a:lnTo>
                  <a:pt x="641" y="108"/>
                </a:lnTo>
                <a:lnTo>
                  <a:pt x="637" y="111"/>
                </a:lnTo>
                <a:lnTo>
                  <a:pt x="632" y="115"/>
                </a:lnTo>
                <a:lnTo>
                  <a:pt x="625" y="119"/>
                </a:lnTo>
                <a:lnTo>
                  <a:pt x="618" y="124"/>
                </a:lnTo>
                <a:lnTo>
                  <a:pt x="609" y="128"/>
                </a:lnTo>
                <a:lnTo>
                  <a:pt x="599" y="132"/>
                </a:lnTo>
                <a:lnTo>
                  <a:pt x="589" y="138"/>
                </a:lnTo>
                <a:lnTo>
                  <a:pt x="576" y="142"/>
                </a:lnTo>
                <a:lnTo>
                  <a:pt x="563" y="148"/>
                </a:lnTo>
                <a:lnTo>
                  <a:pt x="547" y="152"/>
                </a:lnTo>
                <a:lnTo>
                  <a:pt x="531" y="158"/>
                </a:lnTo>
                <a:lnTo>
                  <a:pt x="514" y="162"/>
                </a:lnTo>
                <a:lnTo>
                  <a:pt x="495" y="167"/>
                </a:lnTo>
                <a:lnTo>
                  <a:pt x="475" y="171"/>
                </a:lnTo>
                <a:lnTo>
                  <a:pt x="455" y="175"/>
                </a:lnTo>
                <a:lnTo>
                  <a:pt x="434" y="178"/>
                </a:lnTo>
                <a:lnTo>
                  <a:pt x="380" y="185"/>
                </a:lnTo>
                <a:lnTo>
                  <a:pt x="328" y="191"/>
                </a:lnTo>
                <a:lnTo>
                  <a:pt x="275" y="198"/>
                </a:lnTo>
                <a:lnTo>
                  <a:pt x="223" y="203"/>
                </a:lnTo>
                <a:lnTo>
                  <a:pt x="169" y="208"/>
                </a:lnTo>
                <a:lnTo>
                  <a:pt x="114" y="211"/>
                </a:lnTo>
                <a:lnTo>
                  <a:pt x="85" y="213"/>
                </a:lnTo>
                <a:lnTo>
                  <a:pt x="58" y="213"/>
                </a:lnTo>
                <a:lnTo>
                  <a:pt x="29" y="214"/>
                </a:lnTo>
                <a:lnTo>
                  <a:pt x="0" y="214"/>
                </a:lnTo>
                <a:lnTo>
                  <a:pt x="0" y="134"/>
                </a:lnTo>
                <a:lnTo>
                  <a:pt x="0" y="53"/>
                </a:lnTo>
                <a:lnTo>
                  <a:pt x="22" y="53"/>
                </a:lnTo>
                <a:lnTo>
                  <a:pt x="45" y="52"/>
                </a:lnTo>
                <a:lnTo>
                  <a:pt x="90" y="50"/>
                </a:lnTo>
                <a:lnTo>
                  <a:pt x="136" y="47"/>
                </a:lnTo>
                <a:lnTo>
                  <a:pt x="179" y="41"/>
                </a:lnTo>
                <a:lnTo>
                  <a:pt x="223" y="37"/>
                </a:lnTo>
                <a:lnTo>
                  <a:pt x="265" y="30"/>
                </a:lnTo>
                <a:lnTo>
                  <a:pt x="307" y="24"/>
                </a:lnTo>
                <a:lnTo>
                  <a:pt x="327" y="20"/>
                </a:lnTo>
                <a:lnTo>
                  <a:pt x="347" y="17"/>
                </a:lnTo>
                <a:lnTo>
                  <a:pt x="362" y="14"/>
                </a:lnTo>
                <a:lnTo>
                  <a:pt x="377" y="11"/>
                </a:lnTo>
                <a:lnTo>
                  <a:pt x="392" y="8"/>
                </a:lnTo>
                <a:lnTo>
                  <a:pt x="405" y="7"/>
                </a:lnTo>
                <a:lnTo>
                  <a:pt x="418" y="5"/>
                </a:lnTo>
                <a:lnTo>
                  <a:pt x="429" y="4"/>
                </a:lnTo>
                <a:lnTo>
                  <a:pt x="439" y="3"/>
                </a:lnTo>
                <a:lnTo>
                  <a:pt x="451" y="1"/>
                </a:lnTo>
                <a:lnTo>
                  <a:pt x="459" y="1"/>
                </a:lnTo>
                <a:lnTo>
                  <a:pt x="468" y="1"/>
                </a:lnTo>
                <a:lnTo>
                  <a:pt x="475" y="0"/>
                </a:lnTo>
                <a:lnTo>
                  <a:pt x="483" y="0"/>
                </a:lnTo>
                <a:lnTo>
                  <a:pt x="488" y="0"/>
                </a:lnTo>
                <a:lnTo>
                  <a:pt x="494" y="0"/>
                </a:lnTo>
                <a:lnTo>
                  <a:pt x="498" y="0"/>
                </a:lnTo>
                <a:lnTo>
                  <a:pt x="503" y="0"/>
                </a:lnTo>
                <a:lnTo>
                  <a:pt x="506" y="0"/>
                </a:lnTo>
                <a:lnTo>
                  <a:pt x="508" y="1"/>
                </a:lnTo>
                <a:lnTo>
                  <a:pt x="516" y="3"/>
                </a:lnTo>
                <a:lnTo>
                  <a:pt x="523" y="5"/>
                </a:lnTo>
                <a:lnTo>
                  <a:pt x="530" y="11"/>
                </a:lnTo>
                <a:lnTo>
                  <a:pt x="539" y="16"/>
                </a:lnTo>
                <a:lnTo>
                  <a:pt x="549" y="21"/>
                </a:lnTo>
                <a:lnTo>
                  <a:pt x="560" y="29"/>
                </a:lnTo>
                <a:lnTo>
                  <a:pt x="566" y="31"/>
                </a:lnTo>
                <a:lnTo>
                  <a:pt x="572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76"/>
          <p:cNvSpPr/>
          <p:nvPr/>
        </p:nvSpPr>
        <p:spPr>
          <a:xfrm>
            <a:off x="6831000" y="3792600"/>
            <a:ext cx="320760" cy="114120"/>
          </a:xfrm>
          <a:custGeom>
            <a:avLst/>
            <a:gdLst/>
            <a:ahLst/>
            <a:rect l="l" t="t" r="r" b="b"/>
            <a:pathLst>
              <a:path w="606" h="216">
                <a:moveTo>
                  <a:pt x="606" y="72"/>
                </a:moveTo>
                <a:lnTo>
                  <a:pt x="606" y="82"/>
                </a:lnTo>
                <a:lnTo>
                  <a:pt x="603" y="90"/>
                </a:lnTo>
                <a:lnTo>
                  <a:pt x="601" y="100"/>
                </a:lnTo>
                <a:lnTo>
                  <a:pt x="596" y="108"/>
                </a:lnTo>
                <a:lnTo>
                  <a:pt x="590" y="116"/>
                </a:lnTo>
                <a:lnTo>
                  <a:pt x="585" y="124"/>
                </a:lnTo>
                <a:lnTo>
                  <a:pt x="576" y="131"/>
                </a:lnTo>
                <a:lnTo>
                  <a:pt x="567" y="138"/>
                </a:lnTo>
                <a:lnTo>
                  <a:pt x="557" y="145"/>
                </a:lnTo>
                <a:lnTo>
                  <a:pt x="546" y="151"/>
                </a:lnTo>
                <a:lnTo>
                  <a:pt x="533" y="157"/>
                </a:lnTo>
                <a:lnTo>
                  <a:pt x="519" y="162"/>
                </a:lnTo>
                <a:lnTo>
                  <a:pt x="503" y="167"/>
                </a:lnTo>
                <a:lnTo>
                  <a:pt x="487" y="171"/>
                </a:lnTo>
                <a:lnTo>
                  <a:pt x="470" y="175"/>
                </a:lnTo>
                <a:lnTo>
                  <a:pt x="451" y="180"/>
                </a:lnTo>
                <a:lnTo>
                  <a:pt x="428" y="183"/>
                </a:lnTo>
                <a:lnTo>
                  <a:pt x="403" y="185"/>
                </a:lnTo>
                <a:lnTo>
                  <a:pt x="380" y="188"/>
                </a:lnTo>
                <a:lnTo>
                  <a:pt x="356" y="193"/>
                </a:lnTo>
                <a:lnTo>
                  <a:pt x="330" y="195"/>
                </a:lnTo>
                <a:lnTo>
                  <a:pt x="305" y="198"/>
                </a:lnTo>
                <a:lnTo>
                  <a:pt x="278" y="201"/>
                </a:lnTo>
                <a:lnTo>
                  <a:pt x="251" y="204"/>
                </a:lnTo>
                <a:lnTo>
                  <a:pt x="223" y="206"/>
                </a:lnTo>
                <a:lnTo>
                  <a:pt x="195" y="208"/>
                </a:lnTo>
                <a:lnTo>
                  <a:pt x="164" y="210"/>
                </a:lnTo>
                <a:lnTo>
                  <a:pt x="134" y="211"/>
                </a:lnTo>
                <a:lnTo>
                  <a:pt x="101" y="213"/>
                </a:lnTo>
                <a:lnTo>
                  <a:pt x="69" y="214"/>
                </a:lnTo>
                <a:lnTo>
                  <a:pt x="35" y="214"/>
                </a:lnTo>
                <a:lnTo>
                  <a:pt x="0" y="216"/>
                </a:lnTo>
                <a:lnTo>
                  <a:pt x="0" y="134"/>
                </a:lnTo>
                <a:lnTo>
                  <a:pt x="0" y="54"/>
                </a:lnTo>
                <a:lnTo>
                  <a:pt x="28" y="53"/>
                </a:lnTo>
                <a:lnTo>
                  <a:pt x="56" y="53"/>
                </a:lnTo>
                <a:lnTo>
                  <a:pt x="82" y="52"/>
                </a:lnTo>
                <a:lnTo>
                  <a:pt x="107" y="50"/>
                </a:lnTo>
                <a:lnTo>
                  <a:pt x="131" y="49"/>
                </a:lnTo>
                <a:lnTo>
                  <a:pt x="156" y="47"/>
                </a:lnTo>
                <a:lnTo>
                  <a:pt x="177" y="44"/>
                </a:lnTo>
                <a:lnTo>
                  <a:pt x="199" y="43"/>
                </a:lnTo>
                <a:lnTo>
                  <a:pt x="219" y="40"/>
                </a:lnTo>
                <a:lnTo>
                  <a:pt x="239" y="37"/>
                </a:lnTo>
                <a:lnTo>
                  <a:pt x="259" y="34"/>
                </a:lnTo>
                <a:lnTo>
                  <a:pt x="278" y="31"/>
                </a:lnTo>
                <a:lnTo>
                  <a:pt x="295" y="27"/>
                </a:lnTo>
                <a:lnTo>
                  <a:pt x="313" y="24"/>
                </a:lnTo>
                <a:lnTo>
                  <a:pt x="330" y="21"/>
                </a:lnTo>
                <a:lnTo>
                  <a:pt x="347" y="18"/>
                </a:lnTo>
                <a:lnTo>
                  <a:pt x="362" y="14"/>
                </a:lnTo>
                <a:lnTo>
                  <a:pt x="377" y="11"/>
                </a:lnTo>
                <a:lnTo>
                  <a:pt x="392" y="10"/>
                </a:lnTo>
                <a:lnTo>
                  <a:pt x="405" y="7"/>
                </a:lnTo>
                <a:lnTo>
                  <a:pt x="418" y="5"/>
                </a:lnTo>
                <a:lnTo>
                  <a:pt x="431" y="4"/>
                </a:lnTo>
                <a:lnTo>
                  <a:pt x="444" y="3"/>
                </a:lnTo>
                <a:lnTo>
                  <a:pt x="455" y="3"/>
                </a:lnTo>
                <a:lnTo>
                  <a:pt x="465" y="1"/>
                </a:lnTo>
                <a:lnTo>
                  <a:pt x="477" y="1"/>
                </a:lnTo>
                <a:lnTo>
                  <a:pt x="497" y="0"/>
                </a:lnTo>
                <a:lnTo>
                  <a:pt x="517" y="0"/>
                </a:lnTo>
                <a:lnTo>
                  <a:pt x="537" y="0"/>
                </a:lnTo>
                <a:lnTo>
                  <a:pt x="546" y="0"/>
                </a:lnTo>
                <a:lnTo>
                  <a:pt x="555" y="1"/>
                </a:lnTo>
                <a:lnTo>
                  <a:pt x="563" y="1"/>
                </a:lnTo>
                <a:lnTo>
                  <a:pt x="570" y="4"/>
                </a:lnTo>
                <a:lnTo>
                  <a:pt x="576" y="5"/>
                </a:lnTo>
                <a:lnTo>
                  <a:pt x="582" y="8"/>
                </a:lnTo>
                <a:lnTo>
                  <a:pt x="586" y="11"/>
                </a:lnTo>
                <a:lnTo>
                  <a:pt x="592" y="16"/>
                </a:lnTo>
                <a:lnTo>
                  <a:pt x="595" y="20"/>
                </a:lnTo>
                <a:lnTo>
                  <a:pt x="598" y="26"/>
                </a:lnTo>
                <a:lnTo>
                  <a:pt x="601" y="31"/>
                </a:lnTo>
                <a:lnTo>
                  <a:pt x="603" y="37"/>
                </a:lnTo>
                <a:lnTo>
                  <a:pt x="605" y="44"/>
                </a:lnTo>
                <a:lnTo>
                  <a:pt x="605" y="53"/>
                </a:lnTo>
                <a:lnTo>
                  <a:pt x="606" y="62"/>
                </a:lnTo>
                <a:lnTo>
                  <a:pt x="606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77"/>
          <p:cNvSpPr/>
          <p:nvPr/>
        </p:nvSpPr>
        <p:spPr>
          <a:xfrm>
            <a:off x="5969160" y="3656160"/>
            <a:ext cx="504720" cy="1046160"/>
          </a:xfrm>
          <a:custGeom>
            <a:avLst/>
            <a:gdLst/>
            <a:ahLst/>
            <a:rect l="l" t="t" r="r" b="b"/>
            <a:pathLst>
              <a:path w="954" h="1977">
                <a:moveTo>
                  <a:pt x="121" y="1977"/>
                </a:moveTo>
                <a:lnTo>
                  <a:pt x="118" y="1972"/>
                </a:lnTo>
                <a:lnTo>
                  <a:pt x="113" y="1968"/>
                </a:lnTo>
                <a:lnTo>
                  <a:pt x="109" y="1962"/>
                </a:lnTo>
                <a:lnTo>
                  <a:pt x="105" y="1956"/>
                </a:lnTo>
                <a:lnTo>
                  <a:pt x="100" y="1949"/>
                </a:lnTo>
                <a:lnTo>
                  <a:pt x="96" y="1942"/>
                </a:lnTo>
                <a:lnTo>
                  <a:pt x="90" y="1932"/>
                </a:lnTo>
                <a:lnTo>
                  <a:pt x="86" y="1923"/>
                </a:lnTo>
                <a:lnTo>
                  <a:pt x="80" y="1912"/>
                </a:lnTo>
                <a:lnTo>
                  <a:pt x="76" y="1902"/>
                </a:lnTo>
                <a:lnTo>
                  <a:pt x="72" y="1889"/>
                </a:lnTo>
                <a:lnTo>
                  <a:pt x="66" y="1876"/>
                </a:lnTo>
                <a:lnTo>
                  <a:pt x="62" y="1861"/>
                </a:lnTo>
                <a:lnTo>
                  <a:pt x="59" y="1847"/>
                </a:lnTo>
                <a:lnTo>
                  <a:pt x="54" y="1831"/>
                </a:lnTo>
                <a:lnTo>
                  <a:pt x="51" y="1815"/>
                </a:lnTo>
                <a:lnTo>
                  <a:pt x="44" y="1800"/>
                </a:lnTo>
                <a:lnTo>
                  <a:pt x="38" y="1784"/>
                </a:lnTo>
                <a:lnTo>
                  <a:pt x="33" y="1769"/>
                </a:lnTo>
                <a:lnTo>
                  <a:pt x="28" y="1755"/>
                </a:lnTo>
                <a:lnTo>
                  <a:pt x="24" y="1741"/>
                </a:lnTo>
                <a:lnTo>
                  <a:pt x="20" y="1728"/>
                </a:lnTo>
                <a:lnTo>
                  <a:pt x="15" y="1716"/>
                </a:lnTo>
                <a:lnTo>
                  <a:pt x="13" y="1703"/>
                </a:lnTo>
                <a:lnTo>
                  <a:pt x="10" y="1692"/>
                </a:lnTo>
                <a:lnTo>
                  <a:pt x="7" y="1682"/>
                </a:lnTo>
                <a:lnTo>
                  <a:pt x="4" y="1670"/>
                </a:lnTo>
                <a:lnTo>
                  <a:pt x="3" y="1660"/>
                </a:lnTo>
                <a:lnTo>
                  <a:pt x="1" y="1650"/>
                </a:lnTo>
                <a:lnTo>
                  <a:pt x="0" y="1638"/>
                </a:lnTo>
                <a:lnTo>
                  <a:pt x="0" y="1628"/>
                </a:lnTo>
                <a:lnTo>
                  <a:pt x="0" y="1620"/>
                </a:lnTo>
                <a:lnTo>
                  <a:pt x="0" y="1612"/>
                </a:lnTo>
                <a:lnTo>
                  <a:pt x="1" y="1605"/>
                </a:lnTo>
                <a:lnTo>
                  <a:pt x="3" y="1598"/>
                </a:lnTo>
                <a:lnTo>
                  <a:pt x="5" y="1592"/>
                </a:lnTo>
                <a:lnTo>
                  <a:pt x="8" y="1585"/>
                </a:lnTo>
                <a:lnTo>
                  <a:pt x="13" y="1578"/>
                </a:lnTo>
                <a:lnTo>
                  <a:pt x="18" y="1571"/>
                </a:lnTo>
                <a:lnTo>
                  <a:pt x="23" y="1563"/>
                </a:lnTo>
                <a:lnTo>
                  <a:pt x="28" y="1555"/>
                </a:lnTo>
                <a:lnTo>
                  <a:pt x="36" y="1548"/>
                </a:lnTo>
                <a:lnTo>
                  <a:pt x="43" y="1539"/>
                </a:lnTo>
                <a:lnTo>
                  <a:pt x="50" y="1530"/>
                </a:lnTo>
                <a:lnTo>
                  <a:pt x="59" y="1522"/>
                </a:lnTo>
                <a:lnTo>
                  <a:pt x="67" y="1513"/>
                </a:lnTo>
                <a:lnTo>
                  <a:pt x="76" y="1503"/>
                </a:lnTo>
                <a:lnTo>
                  <a:pt x="86" y="1494"/>
                </a:lnTo>
                <a:lnTo>
                  <a:pt x="90" y="1490"/>
                </a:lnTo>
                <a:lnTo>
                  <a:pt x="96" y="1486"/>
                </a:lnTo>
                <a:lnTo>
                  <a:pt x="100" y="1480"/>
                </a:lnTo>
                <a:lnTo>
                  <a:pt x="105" y="1473"/>
                </a:lnTo>
                <a:lnTo>
                  <a:pt x="110" y="1466"/>
                </a:lnTo>
                <a:lnTo>
                  <a:pt x="115" y="1458"/>
                </a:lnTo>
                <a:lnTo>
                  <a:pt x="119" y="1450"/>
                </a:lnTo>
                <a:lnTo>
                  <a:pt x="125" y="1440"/>
                </a:lnTo>
                <a:lnTo>
                  <a:pt x="129" y="1430"/>
                </a:lnTo>
                <a:lnTo>
                  <a:pt x="134" y="1418"/>
                </a:lnTo>
                <a:lnTo>
                  <a:pt x="139" y="1405"/>
                </a:lnTo>
                <a:lnTo>
                  <a:pt x="144" y="1392"/>
                </a:lnTo>
                <a:lnTo>
                  <a:pt x="148" y="1379"/>
                </a:lnTo>
                <a:lnTo>
                  <a:pt x="152" y="1363"/>
                </a:lnTo>
                <a:lnTo>
                  <a:pt x="157" y="1349"/>
                </a:lnTo>
                <a:lnTo>
                  <a:pt x="162" y="1332"/>
                </a:lnTo>
                <a:lnTo>
                  <a:pt x="167" y="1314"/>
                </a:lnTo>
                <a:lnTo>
                  <a:pt x="171" y="1297"/>
                </a:lnTo>
                <a:lnTo>
                  <a:pt x="175" y="1278"/>
                </a:lnTo>
                <a:lnTo>
                  <a:pt x="180" y="1258"/>
                </a:lnTo>
                <a:lnTo>
                  <a:pt x="184" y="1238"/>
                </a:lnTo>
                <a:lnTo>
                  <a:pt x="187" y="1217"/>
                </a:lnTo>
                <a:lnTo>
                  <a:pt x="191" y="1193"/>
                </a:lnTo>
                <a:lnTo>
                  <a:pt x="195" y="1170"/>
                </a:lnTo>
                <a:lnTo>
                  <a:pt x="200" y="1147"/>
                </a:lnTo>
                <a:lnTo>
                  <a:pt x="203" y="1121"/>
                </a:lnTo>
                <a:lnTo>
                  <a:pt x="207" y="1097"/>
                </a:lnTo>
                <a:lnTo>
                  <a:pt x="211" y="1070"/>
                </a:lnTo>
                <a:lnTo>
                  <a:pt x="214" y="1042"/>
                </a:lnTo>
                <a:lnTo>
                  <a:pt x="217" y="1015"/>
                </a:lnTo>
                <a:lnTo>
                  <a:pt x="221" y="986"/>
                </a:lnTo>
                <a:lnTo>
                  <a:pt x="224" y="956"/>
                </a:lnTo>
                <a:lnTo>
                  <a:pt x="226" y="926"/>
                </a:lnTo>
                <a:lnTo>
                  <a:pt x="227" y="897"/>
                </a:lnTo>
                <a:lnTo>
                  <a:pt x="229" y="868"/>
                </a:lnTo>
                <a:lnTo>
                  <a:pt x="230" y="841"/>
                </a:lnTo>
                <a:lnTo>
                  <a:pt x="233" y="813"/>
                </a:lnTo>
                <a:lnTo>
                  <a:pt x="234" y="786"/>
                </a:lnTo>
                <a:lnTo>
                  <a:pt x="236" y="760"/>
                </a:lnTo>
                <a:lnTo>
                  <a:pt x="237" y="734"/>
                </a:lnTo>
                <a:lnTo>
                  <a:pt x="239" y="710"/>
                </a:lnTo>
                <a:lnTo>
                  <a:pt x="240" y="685"/>
                </a:lnTo>
                <a:lnTo>
                  <a:pt x="241" y="662"/>
                </a:lnTo>
                <a:lnTo>
                  <a:pt x="243" y="639"/>
                </a:lnTo>
                <a:lnTo>
                  <a:pt x="244" y="618"/>
                </a:lnTo>
                <a:lnTo>
                  <a:pt x="246" y="596"/>
                </a:lnTo>
                <a:lnTo>
                  <a:pt x="247" y="576"/>
                </a:lnTo>
                <a:lnTo>
                  <a:pt x="249" y="556"/>
                </a:lnTo>
                <a:lnTo>
                  <a:pt x="249" y="536"/>
                </a:lnTo>
                <a:lnTo>
                  <a:pt x="250" y="517"/>
                </a:lnTo>
                <a:lnTo>
                  <a:pt x="252" y="500"/>
                </a:lnTo>
                <a:lnTo>
                  <a:pt x="253" y="482"/>
                </a:lnTo>
                <a:lnTo>
                  <a:pt x="253" y="465"/>
                </a:lnTo>
                <a:lnTo>
                  <a:pt x="254" y="449"/>
                </a:lnTo>
                <a:lnTo>
                  <a:pt x="254" y="435"/>
                </a:lnTo>
                <a:lnTo>
                  <a:pt x="256" y="420"/>
                </a:lnTo>
                <a:lnTo>
                  <a:pt x="256" y="406"/>
                </a:lnTo>
                <a:lnTo>
                  <a:pt x="257" y="393"/>
                </a:lnTo>
                <a:lnTo>
                  <a:pt x="257" y="380"/>
                </a:lnTo>
                <a:lnTo>
                  <a:pt x="257" y="369"/>
                </a:lnTo>
                <a:lnTo>
                  <a:pt x="259" y="358"/>
                </a:lnTo>
                <a:lnTo>
                  <a:pt x="259" y="348"/>
                </a:lnTo>
                <a:lnTo>
                  <a:pt x="259" y="338"/>
                </a:lnTo>
                <a:lnTo>
                  <a:pt x="259" y="330"/>
                </a:lnTo>
                <a:lnTo>
                  <a:pt x="256" y="312"/>
                </a:lnTo>
                <a:lnTo>
                  <a:pt x="253" y="297"/>
                </a:lnTo>
                <a:lnTo>
                  <a:pt x="249" y="281"/>
                </a:lnTo>
                <a:lnTo>
                  <a:pt x="246" y="266"/>
                </a:lnTo>
                <a:lnTo>
                  <a:pt x="243" y="252"/>
                </a:lnTo>
                <a:lnTo>
                  <a:pt x="240" y="238"/>
                </a:lnTo>
                <a:lnTo>
                  <a:pt x="236" y="223"/>
                </a:lnTo>
                <a:lnTo>
                  <a:pt x="233" y="210"/>
                </a:lnTo>
                <a:lnTo>
                  <a:pt x="230" y="199"/>
                </a:lnTo>
                <a:lnTo>
                  <a:pt x="227" y="187"/>
                </a:lnTo>
                <a:lnTo>
                  <a:pt x="223" y="176"/>
                </a:lnTo>
                <a:lnTo>
                  <a:pt x="220" y="166"/>
                </a:lnTo>
                <a:lnTo>
                  <a:pt x="217" y="157"/>
                </a:lnTo>
                <a:lnTo>
                  <a:pt x="214" y="148"/>
                </a:lnTo>
                <a:lnTo>
                  <a:pt x="210" y="140"/>
                </a:lnTo>
                <a:lnTo>
                  <a:pt x="207" y="132"/>
                </a:lnTo>
                <a:lnTo>
                  <a:pt x="201" y="125"/>
                </a:lnTo>
                <a:lnTo>
                  <a:pt x="195" y="119"/>
                </a:lnTo>
                <a:lnTo>
                  <a:pt x="190" y="112"/>
                </a:lnTo>
                <a:lnTo>
                  <a:pt x="184" y="105"/>
                </a:lnTo>
                <a:lnTo>
                  <a:pt x="180" y="99"/>
                </a:lnTo>
                <a:lnTo>
                  <a:pt x="177" y="92"/>
                </a:lnTo>
                <a:lnTo>
                  <a:pt x="172" y="85"/>
                </a:lnTo>
                <a:lnTo>
                  <a:pt x="171" y="79"/>
                </a:lnTo>
                <a:lnTo>
                  <a:pt x="168" y="72"/>
                </a:lnTo>
                <a:lnTo>
                  <a:pt x="167" y="65"/>
                </a:lnTo>
                <a:lnTo>
                  <a:pt x="165" y="59"/>
                </a:lnTo>
                <a:lnTo>
                  <a:pt x="165" y="52"/>
                </a:lnTo>
                <a:lnTo>
                  <a:pt x="167" y="46"/>
                </a:lnTo>
                <a:lnTo>
                  <a:pt x="168" y="39"/>
                </a:lnTo>
                <a:lnTo>
                  <a:pt x="170" y="32"/>
                </a:lnTo>
                <a:lnTo>
                  <a:pt x="172" y="26"/>
                </a:lnTo>
                <a:lnTo>
                  <a:pt x="175" y="22"/>
                </a:lnTo>
                <a:lnTo>
                  <a:pt x="180" y="19"/>
                </a:lnTo>
                <a:lnTo>
                  <a:pt x="184" y="14"/>
                </a:lnTo>
                <a:lnTo>
                  <a:pt x="188" y="12"/>
                </a:lnTo>
                <a:lnTo>
                  <a:pt x="194" y="9"/>
                </a:lnTo>
                <a:lnTo>
                  <a:pt x="200" y="6"/>
                </a:lnTo>
                <a:lnTo>
                  <a:pt x="207" y="4"/>
                </a:lnTo>
                <a:lnTo>
                  <a:pt x="214" y="3"/>
                </a:lnTo>
                <a:lnTo>
                  <a:pt x="221" y="1"/>
                </a:lnTo>
                <a:lnTo>
                  <a:pt x="230" y="0"/>
                </a:lnTo>
                <a:lnTo>
                  <a:pt x="239" y="0"/>
                </a:lnTo>
                <a:lnTo>
                  <a:pt x="247" y="0"/>
                </a:lnTo>
                <a:lnTo>
                  <a:pt x="257" y="0"/>
                </a:lnTo>
                <a:lnTo>
                  <a:pt x="269" y="1"/>
                </a:lnTo>
                <a:lnTo>
                  <a:pt x="280" y="4"/>
                </a:lnTo>
                <a:lnTo>
                  <a:pt x="293" y="7"/>
                </a:lnTo>
                <a:lnTo>
                  <a:pt x="306" y="12"/>
                </a:lnTo>
                <a:lnTo>
                  <a:pt x="319" y="14"/>
                </a:lnTo>
                <a:lnTo>
                  <a:pt x="345" y="23"/>
                </a:lnTo>
                <a:lnTo>
                  <a:pt x="371" y="35"/>
                </a:lnTo>
                <a:lnTo>
                  <a:pt x="396" y="45"/>
                </a:lnTo>
                <a:lnTo>
                  <a:pt x="420" y="58"/>
                </a:lnTo>
                <a:lnTo>
                  <a:pt x="443" y="71"/>
                </a:lnTo>
                <a:lnTo>
                  <a:pt x="453" y="76"/>
                </a:lnTo>
                <a:lnTo>
                  <a:pt x="465" y="84"/>
                </a:lnTo>
                <a:lnTo>
                  <a:pt x="475" y="89"/>
                </a:lnTo>
                <a:lnTo>
                  <a:pt x="485" y="96"/>
                </a:lnTo>
                <a:lnTo>
                  <a:pt x="493" y="104"/>
                </a:lnTo>
                <a:lnTo>
                  <a:pt x="502" y="111"/>
                </a:lnTo>
                <a:lnTo>
                  <a:pt x="509" y="117"/>
                </a:lnTo>
                <a:lnTo>
                  <a:pt x="516" y="124"/>
                </a:lnTo>
                <a:lnTo>
                  <a:pt x="524" y="130"/>
                </a:lnTo>
                <a:lnTo>
                  <a:pt x="529" y="137"/>
                </a:lnTo>
                <a:lnTo>
                  <a:pt x="534" y="143"/>
                </a:lnTo>
                <a:lnTo>
                  <a:pt x="538" y="148"/>
                </a:lnTo>
                <a:lnTo>
                  <a:pt x="542" y="154"/>
                </a:lnTo>
                <a:lnTo>
                  <a:pt x="545" y="160"/>
                </a:lnTo>
                <a:lnTo>
                  <a:pt x="548" y="166"/>
                </a:lnTo>
                <a:lnTo>
                  <a:pt x="551" y="170"/>
                </a:lnTo>
                <a:lnTo>
                  <a:pt x="552" y="174"/>
                </a:lnTo>
                <a:lnTo>
                  <a:pt x="552" y="179"/>
                </a:lnTo>
                <a:lnTo>
                  <a:pt x="554" y="183"/>
                </a:lnTo>
                <a:lnTo>
                  <a:pt x="554" y="187"/>
                </a:lnTo>
                <a:lnTo>
                  <a:pt x="554" y="190"/>
                </a:lnTo>
                <a:lnTo>
                  <a:pt x="552" y="194"/>
                </a:lnTo>
                <a:lnTo>
                  <a:pt x="552" y="200"/>
                </a:lnTo>
                <a:lnTo>
                  <a:pt x="551" y="206"/>
                </a:lnTo>
                <a:lnTo>
                  <a:pt x="550" y="213"/>
                </a:lnTo>
                <a:lnTo>
                  <a:pt x="547" y="222"/>
                </a:lnTo>
                <a:lnTo>
                  <a:pt x="545" y="230"/>
                </a:lnTo>
                <a:lnTo>
                  <a:pt x="542" y="240"/>
                </a:lnTo>
                <a:lnTo>
                  <a:pt x="541" y="251"/>
                </a:lnTo>
                <a:lnTo>
                  <a:pt x="538" y="262"/>
                </a:lnTo>
                <a:lnTo>
                  <a:pt x="535" y="274"/>
                </a:lnTo>
                <a:lnTo>
                  <a:pt x="532" y="286"/>
                </a:lnTo>
                <a:lnTo>
                  <a:pt x="529" y="301"/>
                </a:lnTo>
                <a:lnTo>
                  <a:pt x="525" y="315"/>
                </a:lnTo>
                <a:lnTo>
                  <a:pt x="522" y="331"/>
                </a:lnTo>
                <a:lnTo>
                  <a:pt x="519" y="347"/>
                </a:lnTo>
                <a:lnTo>
                  <a:pt x="516" y="356"/>
                </a:lnTo>
                <a:lnTo>
                  <a:pt x="514" y="364"/>
                </a:lnTo>
                <a:lnTo>
                  <a:pt x="509" y="374"/>
                </a:lnTo>
                <a:lnTo>
                  <a:pt x="506" y="384"/>
                </a:lnTo>
                <a:lnTo>
                  <a:pt x="503" y="396"/>
                </a:lnTo>
                <a:lnTo>
                  <a:pt x="499" y="407"/>
                </a:lnTo>
                <a:lnTo>
                  <a:pt x="496" y="419"/>
                </a:lnTo>
                <a:lnTo>
                  <a:pt x="493" y="432"/>
                </a:lnTo>
                <a:lnTo>
                  <a:pt x="491" y="445"/>
                </a:lnTo>
                <a:lnTo>
                  <a:pt x="486" y="458"/>
                </a:lnTo>
                <a:lnTo>
                  <a:pt x="483" y="472"/>
                </a:lnTo>
                <a:lnTo>
                  <a:pt x="480" y="487"/>
                </a:lnTo>
                <a:lnTo>
                  <a:pt x="476" y="502"/>
                </a:lnTo>
                <a:lnTo>
                  <a:pt x="473" y="518"/>
                </a:lnTo>
                <a:lnTo>
                  <a:pt x="470" y="534"/>
                </a:lnTo>
                <a:lnTo>
                  <a:pt x="467" y="551"/>
                </a:lnTo>
                <a:lnTo>
                  <a:pt x="463" y="569"/>
                </a:lnTo>
                <a:lnTo>
                  <a:pt x="460" y="586"/>
                </a:lnTo>
                <a:lnTo>
                  <a:pt x="457" y="605"/>
                </a:lnTo>
                <a:lnTo>
                  <a:pt x="453" y="625"/>
                </a:lnTo>
                <a:lnTo>
                  <a:pt x="450" y="644"/>
                </a:lnTo>
                <a:lnTo>
                  <a:pt x="447" y="665"/>
                </a:lnTo>
                <a:lnTo>
                  <a:pt x="444" y="685"/>
                </a:lnTo>
                <a:lnTo>
                  <a:pt x="440" y="707"/>
                </a:lnTo>
                <a:lnTo>
                  <a:pt x="437" y="730"/>
                </a:lnTo>
                <a:lnTo>
                  <a:pt x="434" y="753"/>
                </a:lnTo>
                <a:lnTo>
                  <a:pt x="432" y="776"/>
                </a:lnTo>
                <a:lnTo>
                  <a:pt x="427" y="800"/>
                </a:lnTo>
                <a:lnTo>
                  <a:pt x="424" y="825"/>
                </a:lnTo>
                <a:lnTo>
                  <a:pt x="421" y="849"/>
                </a:lnTo>
                <a:lnTo>
                  <a:pt x="419" y="877"/>
                </a:lnTo>
                <a:lnTo>
                  <a:pt x="416" y="903"/>
                </a:lnTo>
                <a:lnTo>
                  <a:pt x="411" y="929"/>
                </a:lnTo>
                <a:lnTo>
                  <a:pt x="408" y="954"/>
                </a:lnTo>
                <a:lnTo>
                  <a:pt x="407" y="980"/>
                </a:lnTo>
                <a:lnTo>
                  <a:pt x="404" y="1005"/>
                </a:lnTo>
                <a:lnTo>
                  <a:pt x="401" y="1028"/>
                </a:lnTo>
                <a:lnTo>
                  <a:pt x="400" y="1051"/>
                </a:lnTo>
                <a:lnTo>
                  <a:pt x="397" y="1073"/>
                </a:lnTo>
                <a:lnTo>
                  <a:pt x="396" y="1094"/>
                </a:lnTo>
                <a:lnTo>
                  <a:pt x="394" y="1114"/>
                </a:lnTo>
                <a:lnTo>
                  <a:pt x="393" y="1134"/>
                </a:lnTo>
                <a:lnTo>
                  <a:pt x="391" y="1153"/>
                </a:lnTo>
                <a:lnTo>
                  <a:pt x="390" y="1170"/>
                </a:lnTo>
                <a:lnTo>
                  <a:pt x="390" y="1188"/>
                </a:lnTo>
                <a:lnTo>
                  <a:pt x="388" y="1205"/>
                </a:lnTo>
                <a:lnTo>
                  <a:pt x="388" y="1221"/>
                </a:lnTo>
                <a:lnTo>
                  <a:pt x="387" y="1237"/>
                </a:lnTo>
                <a:lnTo>
                  <a:pt x="387" y="1250"/>
                </a:lnTo>
                <a:lnTo>
                  <a:pt x="387" y="1264"/>
                </a:lnTo>
                <a:lnTo>
                  <a:pt x="387" y="1277"/>
                </a:lnTo>
                <a:lnTo>
                  <a:pt x="387" y="1288"/>
                </a:lnTo>
                <a:lnTo>
                  <a:pt x="387" y="1300"/>
                </a:lnTo>
                <a:lnTo>
                  <a:pt x="387" y="1310"/>
                </a:lnTo>
                <a:lnTo>
                  <a:pt x="388" y="1319"/>
                </a:lnTo>
                <a:lnTo>
                  <a:pt x="388" y="1327"/>
                </a:lnTo>
                <a:lnTo>
                  <a:pt x="390" y="1336"/>
                </a:lnTo>
                <a:lnTo>
                  <a:pt x="390" y="1343"/>
                </a:lnTo>
                <a:lnTo>
                  <a:pt x="391" y="1349"/>
                </a:lnTo>
                <a:lnTo>
                  <a:pt x="393" y="1355"/>
                </a:lnTo>
                <a:lnTo>
                  <a:pt x="393" y="1359"/>
                </a:lnTo>
                <a:lnTo>
                  <a:pt x="394" y="1363"/>
                </a:lnTo>
                <a:lnTo>
                  <a:pt x="396" y="1366"/>
                </a:lnTo>
                <a:lnTo>
                  <a:pt x="398" y="1369"/>
                </a:lnTo>
                <a:lnTo>
                  <a:pt x="400" y="1371"/>
                </a:lnTo>
                <a:lnTo>
                  <a:pt x="401" y="1372"/>
                </a:lnTo>
                <a:lnTo>
                  <a:pt x="404" y="1372"/>
                </a:lnTo>
                <a:lnTo>
                  <a:pt x="407" y="1373"/>
                </a:lnTo>
                <a:lnTo>
                  <a:pt x="411" y="1375"/>
                </a:lnTo>
                <a:lnTo>
                  <a:pt x="416" y="1375"/>
                </a:lnTo>
                <a:lnTo>
                  <a:pt x="420" y="1375"/>
                </a:lnTo>
                <a:lnTo>
                  <a:pt x="424" y="1375"/>
                </a:lnTo>
                <a:lnTo>
                  <a:pt x="429" y="1375"/>
                </a:lnTo>
                <a:lnTo>
                  <a:pt x="434" y="1373"/>
                </a:lnTo>
                <a:lnTo>
                  <a:pt x="442" y="1373"/>
                </a:lnTo>
                <a:lnTo>
                  <a:pt x="447" y="1372"/>
                </a:lnTo>
                <a:lnTo>
                  <a:pt x="455" y="1371"/>
                </a:lnTo>
                <a:lnTo>
                  <a:pt x="462" y="1369"/>
                </a:lnTo>
                <a:lnTo>
                  <a:pt x="470" y="1366"/>
                </a:lnTo>
                <a:lnTo>
                  <a:pt x="478" y="1365"/>
                </a:lnTo>
                <a:lnTo>
                  <a:pt x="488" y="1362"/>
                </a:lnTo>
                <a:lnTo>
                  <a:pt x="496" y="1359"/>
                </a:lnTo>
                <a:lnTo>
                  <a:pt x="506" y="1356"/>
                </a:lnTo>
                <a:lnTo>
                  <a:pt x="516" y="1352"/>
                </a:lnTo>
                <a:lnTo>
                  <a:pt x="527" y="1348"/>
                </a:lnTo>
                <a:lnTo>
                  <a:pt x="538" y="1343"/>
                </a:lnTo>
                <a:lnTo>
                  <a:pt x="550" y="1339"/>
                </a:lnTo>
                <a:lnTo>
                  <a:pt x="561" y="1333"/>
                </a:lnTo>
                <a:lnTo>
                  <a:pt x="574" y="1329"/>
                </a:lnTo>
                <a:lnTo>
                  <a:pt x="587" y="1322"/>
                </a:lnTo>
                <a:lnTo>
                  <a:pt x="600" y="1316"/>
                </a:lnTo>
                <a:lnTo>
                  <a:pt x="614" y="1309"/>
                </a:lnTo>
                <a:lnTo>
                  <a:pt x="629" y="1303"/>
                </a:lnTo>
                <a:lnTo>
                  <a:pt x="643" y="1294"/>
                </a:lnTo>
                <a:lnTo>
                  <a:pt x="659" y="1287"/>
                </a:lnTo>
                <a:lnTo>
                  <a:pt x="675" y="1278"/>
                </a:lnTo>
                <a:lnTo>
                  <a:pt x="691" y="1270"/>
                </a:lnTo>
                <a:lnTo>
                  <a:pt x="706" y="1263"/>
                </a:lnTo>
                <a:lnTo>
                  <a:pt x="721" y="1254"/>
                </a:lnTo>
                <a:lnTo>
                  <a:pt x="735" y="1247"/>
                </a:lnTo>
                <a:lnTo>
                  <a:pt x="750" y="1240"/>
                </a:lnTo>
                <a:lnTo>
                  <a:pt x="763" y="1234"/>
                </a:lnTo>
                <a:lnTo>
                  <a:pt x="776" y="1227"/>
                </a:lnTo>
                <a:lnTo>
                  <a:pt x="789" y="1221"/>
                </a:lnTo>
                <a:lnTo>
                  <a:pt x="800" y="1215"/>
                </a:lnTo>
                <a:lnTo>
                  <a:pt x="813" y="1209"/>
                </a:lnTo>
                <a:lnTo>
                  <a:pt x="823" y="1205"/>
                </a:lnTo>
                <a:lnTo>
                  <a:pt x="835" y="1199"/>
                </a:lnTo>
                <a:lnTo>
                  <a:pt x="845" y="1195"/>
                </a:lnTo>
                <a:lnTo>
                  <a:pt x="853" y="1192"/>
                </a:lnTo>
                <a:lnTo>
                  <a:pt x="863" y="1188"/>
                </a:lnTo>
                <a:lnTo>
                  <a:pt x="872" y="1183"/>
                </a:lnTo>
                <a:lnTo>
                  <a:pt x="881" y="1181"/>
                </a:lnTo>
                <a:lnTo>
                  <a:pt x="888" y="1178"/>
                </a:lnTo>
                <a:lnTo>
                  <a:pt x="895" y="1176"/>
                </a:lnTo>
                <a:lnTo>
                  <a:pt x="902" y="1173"/>
                </a:lnTo>
                <a:lnTo>
                  <a:pt x="909" y="1172"/>
                </a:lnTo>
                <a:lnTo>
                  <a:pt x="915" y="1170"/>
                </a:lnTo>
                <a:lnTo>
                  <a:pt x="921" y="1169"/>
                </a:lnTo>
                <a:lnTo>
                  <a:pt x="927" y="1168"/>
                </a:lnTo>
                <a:lnTo>
                  <a:pt x="931" y="1168"/>
                </a:lnTo>
                <a:lnTo>
                  <a:pt x="935" y="1166"/>
                </a:lnTo>
                <a:lnTo>
                  <a:pt x="940" y="1166"/>
                </a:lnTo>
                <a:lnTo>
                  <a:pt x="943" y="1168"/>
                </a:lnTo>
                <a:lnTo>
                  <a:pt x="945" y="1168"/>
                </a:lnTo>
                <a:lnTo>
                  <a:pt x="948" y="1169"/>
                </a:lnTo>
                <a:lnTo>
                  <a:pt x="951" y="1169"/>
                </a:lnTo>
                <a:lnTo>
                  <a:pt x="953" y="1172"/>
                </a:lnTo>
                <a:lnTo>
                  <a:pt x="954" y="1173"/>
                </a:lnTo>
                <a:lnTo>
                  <a:pt x="954" y="1175"/>
                </a:lnTo>
                <a:lnTo>
                  <a:pt x="954" y="1178"/>
                </a:lnTo>
                <a:lnTo>
                  <a:pt x="954" y="1181"/>
                </a:lnTo>
                <a:lnTo>
                  <a:pt x="953" y="1185"/>
                </a:lnTo>
                <a:lnTo>
                  <a:pt x="951" y="1189"/>
                </a:lnTo>
                <a:lnTo>
                  <a:pt x="948" y="1193"/>
                </a:lnTo>
                <a:lnTo>
                  <a:pt x="945" y="1198"/>
                </a:lnTo>
                <a:lnTo>
                  <a:pt x="943" y="1204"/>
                </a:lnTo>
                <a:lnTo>
                  <a:pt x="938" y="1209"/>
                </a:lnTo>
                <a:lnTo>
                  <a:pt x="934" y="1215"/>
                </a:lnTo>
                <a:lnTo>
                  <a:pt x="928" y="1221"/>
                </a:lnTo>
                <a:lnTo>
                  <a:pt x="922" y="1228"/>
                </a:lnTo>
                <a:lnTo>
                  <a:pt x="917" y="1235"/>
                </a:lnTo>
                <a:lnTo>
                  <a:pt x="909" y="1242"/>
                </a:lnTo>
                <a:lnTo>
                  <a:pt x="902" y="1251"/>
                </a:lnTo>
                <a:lnTo>
                  <a:pt x="894" y="1260"/>
                </a:lnTo>
                <a:lnTo>
                  <a:pt x="885" y="1268"/>
                </a:lnTo>
                <a:lnTo>
                  <a:pt x="876" y="1278"/>
                </a:lnTo>
                <a:lnTo>
                  <a:pt x="866" y="1288"/>
                </a:lnTo>
                <a:lnTo>
                  <a:pt x="856" y="1299"/>
                </a:lnTo>
                <a:lnTo>
                  <a:pt x="846" y="1309"/>
                </a:lnTo>
                <a:lnTo>
                  <a:pt x="835" y="1320"/>
                </a:lnTo>
                <a:lnTo>
                  <a:pt x="823" y="1332"/>
                </a:lnTo>
                <a:lnTo>
                  <a:pt x="810" y="1343"/>
                </a:lnTo>
                <a:lnTo>
                  <a:pt x="797" y="1356"/>
                </a:lnTo>
                <a:lnTo>
                  <a:pt x="784" y="1369"/>
                </a:lnTo>
                <a:lnTo>
                  <a:pt x="770" y="1382"/>
                </a:lnTo>
                <a:lnTo>
                  <a:pt x="755" y="1396"/>
                </a:lnTo>
                <a:lnTo>
                  <a:pt x="741" y="1409"/>
                </a:lnTo>
                <a:lnTo>
                  <a:pt x="727" y="1425"/>
                </a:lnTo>
                <a:lnTo>
                  <a:pt x="711" y="1440"/>
                </a:lnTo>
                <a:lnTo>
                  <a:pt x="678" y="1470"/>
                </a:lnTo>
                <a:lnTo>
                  <a:pt x="647" y="1499"/>
                </a:lnTo>
                <a:lnTo>
                  <a:pt x="617" y="1527"/>
                </a:lnTo>
                <a:lnTo>
                  <a:pt x="587" y="1555"/>
                </a:lnTo>
                <a:lnTo>
                  <a:pt x="558" y="1581"/>
                </a:lnTo>
                <a:lnTo>
                  <a:pt x="531" y="1607"/>
                </a:lnTo>
                <a:lnTo>
                  <a:pt x="503" y="1631"/>
                </a:lnTo>
                <a:lnTo>
                  <a:pt x="479" y="1654"/>
                </a:lnTo>
                <a:lnTo>
                  <a:pt x="453" y="1677"/>
                </a:lnTo>
                <a:lnTo>
                  <a:pt x="430" y="1700"/>
                </a:lnTo>
                <a:lnTo>
                  <a:pt x="407" y="1722"/>
                </a:lnTo>
                <a:lnTo>
                  <a:pt x="385" y="1742"/>
                </a:lnTo>
                <a:lnTo>
                  <a:pt x="365" y="1761"/>
                </a:lnTo>
                <a:lnTo>
                  <a:pt x="347" y="1779"/>
                </a:lnTo>
                <a:lnTo>
                  <a:pt x="328" y="1798"/>
                </a:lnTo>
                <a:lnTo>
                  <a:pt x="312" y="1815"/>
                </a:lnTo>
                <a:lnTo>
                  <a:pt x="295" y="1836"/>
                </a:lnTo>
                <a:lnTo>
                  <a:pt x="280" y="1854"/>
                </a:lnTo>
                <a:lnTo>
                  <a:pt x="265" y="1870"/>
                </a:lnTo>
                <a:lnTo>
                  <a:pt x="250" y="1886"/>
                </a:lnTo>
                <a:lnTo>
                  <a:pt x="236" y="1900"/>
                </a:lnTo>
                <a:lnTo>
                  <a:pt x="223" y="1915"/>
                </a:lnTo>
                <a:lnTo>
                  <a:pt x="210" y="1926"/>
                </a:lnTo>
                <a:lnTo>
                  <a:pt x="197" y="1936"/>
                </a:lnTo>
                <a:lnTo>
                  <a:pt x="185" y="1946"/>
                </a:lnTo>
                <a:lnTo>
                  <a:pt x="174" y="1954"/>
                </a:lnTo>
                <a:lnTo>
                  <a:pt x="162" y="1961"/>
                </a:lnTo>
                <a:lnTo>
                  <a:pt x="152" y="1967"/>
                </a:lnTo>
                <a:lnTo>
                  <a:pt x="144" y="1971"/>
                </a:lnTo>
                <a:lnTo>
                  <a:pt x="135" y="1974"/>
                </a:lnTo>
                <a:lnTo>
                  <a:pt x="128" y="1977"/>
                </a:lnTo>
                <a:lnTo>
                  <a:pt x="121" y="19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抉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3"/>
          <p:cNvGrpSpPr/>
          <p:nvPr/>
        </p:nvGrpSpPr>
        <p:grpSpPr>
          <a:xfrm>
            <a:off x="992160" y="3975120"/>
            <a:ext cx="3435480" cy="1571760"/>
            <a:chOff x="992160" y="3975120"/>
            <a:chExt cx="3435480" cy="1571760"/>
          </a:xfrm>
        </p:grpSpPr>
        <p:pic>
          <p:nvPicPr>
            <p:cNvPr id="232" name="图示 4" descr=""/>
            <p:cNvPicPr/>
            <p:nvPr/>
          </p:nvPicPr>
          <p:blipFill>
            <a:blip r:embed="rId1"/>
            <a:stretch/>
          </p:blipFill>
          <p:spPr>
            <a:xfrm>
              <a:off x="992160" y="3975120"/>
              <a:ext cx="34354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矩形 2"/>
            <p:cNvSpPr/>
            <p:nvPr/>
          </p:nvSpPr>
          <p:spPr>
            <a:xfrm>
              <a:off x="1044000" y="4587840"/>
              <a:ext cx="335664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的横略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矩形 2"/>
          <p:cNvSpPr/>
          <p:nvPr/>
        </p:nvSpPr>
        <p:spPr>
          <a:xfrm>
            <a:off x="2192400" y="1825560"/>
            <a:ext cx="14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u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79"/>
          <p:cNvSpPr/>
          <p:nvPr/>
        </p:nvSpPr>
        <p:spPr>
          <a:xfrm>
            <a:off x="5878440" y="2881440"/>
            <a:ext cx="417600" cy="2193840"/>
          </a:xfrm>
          <a:custGeom>
            <a:avLst/>
            <a:gdLst/>
            <a:ahLst/>
            <a:rect l="l" t="t" r="r" b="b"/>
            <a:pathLst>
              <a:path w="787" h="4145">
                <a:moveTo>
                  <a:pt x="708" y="3383"/>
                </a:moveTo>
                <a:lnTo>
                  <a:pt x="710" y="3412"/>
                </a:lnTo>
                <a:lnTo>
                  <a:pt x="711" y="3442"/>
                </a:lnTo>
                <a:lnTo>
                  <a:pt x="711" y="3472"/>
                </a:lnTo>
                <a:lnTo>
                  <a:pt x="711" y="3503"/>
                </a:lnTo>
                <a:lnTo>
                  <a:pt x="710" y="3533"/>
                </a:lnTo>
                <a:lnTo>
                  <a:pt x="707" y="3563"/>
                </a:lnTo>
                <a:lnTo>
                  <a:pt x="703" y="3593"/>
                </a:lnTo>
                <a:lnTo>
                  <a:pt x="698" y="3623"/>
                </a:lnTo>
                <a:lnTo>
                  <a:pt x="692" y="3654"/>
                </a:lnTo>
                <a:lnTo>
                  <a:pt x="685" y="3684"/>
                </a:lnTo>
                <a:lnTo>
                  <a:pt x="679" y="3713"/>
                </a:lnTo>
                <a:lnTo>
                  <a:pt x="671" y="3743"/>
                </a:lnTo>
                <a:lnTo>
                  <a:pt x="662" y="3773"/>
                </a:lnTo>
                <a:lnTo>
                  <a:pt x="654" y="3803"/>
                </a:lnTo>
                <a:lnTo>
                  <a:pt x="645" y="3834"/>
                </a:lnTo>
                <a:lnTo>
                  <a:pt x="635" y="3864"/>
                </a:lnTo>
                <a:lnTo>
                  <a:pt x="631" y="3881"/>
                </a:lnTo>
                <a:lnTo>
                  <a:pt x="625" y="3897"/>
                </a:lnTo>
                <a:lnTo>
                  <a:pt x="620" y="3911"/>
                </a:lnTo>
                <a:lnTo>
                  <a:pt x="615" y="3927"/>
                </a:lnTo>
                <a:lnTo>
                  <a:pt x="610" y="3942"/>
                </a:lnTo>
                <a:lnTo>
                  <a:pt x="605" y="3955"/>
                </a:lnTo>
                <a:lnTo>
                  <a:pt x="600" y="3969"/>
                </a:lnTo>
                <a:lnTo>
                  <a:pt x="596" y="3980"/>
                </a:lnTo>
                <a:lnTo>
                  <a:pt x="590" y="3993"/>
                </a:lnTo>
                <a:lnTo>
                  <a:pt x="586" y="4005"/>
                </a:lnTo>
                <a:lnTo>
                  <a:pt x="582" y="4016"/>
                </a:lnTo>
                <a:lnTo>
                  <a:pt x="577" y="4027"/>
                </a:lnTo>
                <a:lnTo>
                  <a:pt x="572" y="4037"/>
                </a:lnTo>
                <a:lnTo>
                  <a:pt x="567" y="4047"/>
                </a:lnTo>
                <a:lnTo>
                  <a:pt x="563" y="4055"/>
                </a:lnTo>
                <a:lnTo>
                  <a:pt x="559" y="4064"/>
                </a:lnTo>
                <a:lnTo>
                  <a:pt x="554" y="4073"/>
                </a:lnTo>
                <a:lnTo>
                  <a:pt x="551" y="4080"/>
                </a:lnTo>
                <a:lnTo>
                  <a:pt x="547" y="4087"/>
                </a:lnTo>
                <a:lnTo>
                  <a:pt x="543" y="4094"/>
                </a:lnTo>
                <a:lnTo>
                  <a:pt x="538" y="4101"/>
                </a:lnTo>
                <a:lnTo>
                  <a:pt x="536" y="4107"/>
                </a:lnTo>
                <a:lnTo>
                  <a:pt x="533" y="4113"/>
                </a:lnTo>
                <a:lnTo>
                  <a:pt x="528" y="4117"/>
                </a:lnTo>
                <a:lnTo>
                  <a:pt x="525" y="4123"/>
                </a:lnTo>
                <a:lnTo>
                  <a:pt x="523" y="4127"/>
                </a:lnTo>
                <a:lnTo>
                  <a:pt x="520" y="4130"/>
                </a:lnTo>
                <a:lnTo>
                  <a:pt x="517" y="4134"/>
                </a:lnTo>
                <a:lnTo>
                  <a:pt x="515" y="4137"/>
                </a:lnTo>
                <a:lnTo>
                  <a:pt x="512" y="4140"/>
                </a:lnTo>
                <a:lnTo>
                  <a:pt x="511" y="4143"/>
                </a:lnTo>
                <a:lnTo>
                  <a:pt x="510" y="4145"/>
                </a:lnTo>
                <a:lnTo>
                  <a:pt x="502" y="4145"/>
                </a:lnTo>
                <a:lnTo>
                  <a:pt x="495" y="4143"/>
                </a:lnTo>
                <a:lnTo>
                  <a:pt x="488" y="4140"/>
                </a:lnTo>
                <a:lnTo>
                  <a:pt x="482" y="4137"/>
                </a:lnTo>
                <a:lnTo>
                  <a:pt x="475" y="4133"/>
                </a:lnTo>
                <a:lnTo>
                  <a:pt x="468" y="4127"/>
                </a:lnTo>
                <a:lnTo>
                  <a:pt x="462" y="4120"/>
                </a:lnTo>
                <a:lnTo>
                  <a:pt x="455" y="4113"/>
                </a:lnTo>
                <a:lnTo>
                  <a:pt x="448" y="4103"/>
                </a:lnTo>
                <a:lnTo>
                  <a:pt x="441" y="4093"/>
                </a:lnTo>
                <a:lnTo>
                  <a:pt x="435" y="4081"/>
                </a:lnTo>
                <a:lnTo>
                  <a:pt x="428" y="4068"/>
                </a:lnTo>
                <a:lnTo>
                  <a:pt x="420" y="4055"/>
                </a:lnTo>
                <a:lnTo>
                  <a:pt x="413" y="4039"/>
                </a:lnTo>
                <a:lnTo>
                  <a:pt x="407" y="4022"/>
                </a:lnTo>
                <a:lnTo>
                  <a:pt x="400" y="4005"/>
                </a:lnTo>
                <a:lnTo>
                  <a:pt x="390" y="3985"/>
                </a:lnTo>
                <a:lnTo>
                  <a:pt x="379" y="3966"/>
                </a:lnTo>
                <a:lnTo>
                  <a:pt x="369" y="3947"/>
                </a:lnTo>
                <a:lnTo>
                  <a:pt x="356" y="3929"/>
                </a:lnTo>
                <a:lnTo>
                  <a:pt x="344" y="3910"/>
                </a:lnTo>
                <a:lnTo>
                  <a:pt x="331" y="3891"/>
                </a:lnTo>
                <a:lnTo>
                  <a:pt x="317" y="3872"/>
                </a:lnTo>
                <a:lnTo>
                  <a:pt x="304" y="3854"/>
                </a:lnTo>
                <a:lnTo>
                  <a:pt x="288" y="3835"/>
                </a:lnTo>
                <a:lnTo>
                  <a:pt x="274" y="3816"/>
                </a:lnTo>
                <a:lnTo>
                  <a:pt x="256" y="3798"/>
                </a:lnTo>
                <a:lnTo>
                  <a:pt x="240" y="3779"/>
                </a:lnTo>
                <a:lnTo>
                  <a:pt x="223" y="3760"/>
                </a:lnTo>
                <a:lnTo>
                  <a:pt x="204" y="3741"/>
                </a:lnTo>
                <a:lnTo>
                  <a:pt x="186" y="3723"/>
                </a:lnTo>
                <a:lnTo>
                  <a:pt x="166" y="3704"/>
                </a:lnTo>
                <a:lnTo>
                  <a:pt x="154" y="3694"/>
                </a:lnTo>
                <a:lnTo>
                  <a:pt x="143" y="3684"/>
                </a:lnTo>
                <a:lnTo>
                  <a:pt x="132" y="3675"/>
                </a:lnTo>
                <a:lnTo>
                  <a:pt x="122" y="3667"/>
                </a:lnTo>
                <a:lnTo>
                  <a:pt x="112" y="3658"/>
                </a:lnTo>
                <a:lnTo>
                  <a:pt x="102" y="3649"/>
                </a:lnTo>
                <a:lnTo>
                  <a:pt x="94" y="3641"/>
                </a:lnTo>
                <a:lnTo>
                  <a:pt x="85" y="3632"/>
                </a:lnTo>
                <a:lnTo>
                  <a:pt x="76" y="3623"/>
                </a:lnTo>
                <a:lnTo>
                  <a:pt x="69" y="3616"/>
                </a:lnTo>
                <a:lnTo>
                  <a:pt x="62" y="3608"/>
                </a:lnTo>
                <a:lnTo>
                  <a:pt x="55" y="3600"/>
                </a:lnTo>
                <a:lnTo>
                  <a:pt x="48" y="3593"/>
                </a:lnTo>
                <a:lnTo>
                  <a:pt x="42" y="3586"/>
                </a:lnTo>
                <a:lnTo>
                  <a:pt x="36" y="3579"/>
                </a:lnTo>
                <a:lnTo>
                  <a:pt x="30" y="3573"/>
                </a:lnTo>
                <a:lnTo>
                  <a:pt x="26" y="3566"/>
                </a:lnTo>
                <a:lnTo>
                  <a:pt x="22" y="3560"/>
                </a:lnTo>
                <a:lnTo>
                  <a:pt x="17" y="3554"/>
                </a:lnTo>
                <a:lnTo>
                  <a:pt x="14" y="3549"/>
                </a:lnTo>
                <a:lnTo>
                  <a:pt x="10" y="3543"/>
                </a:lnTo>
                <a:lnTo>
                  <a:pt x="7" y="3538"/>
                </a:lnTo>
                <a:lnTo>
                  <a:pt x="6" y="3533"/>
                </a:lnTo>
                <a:lnTo>
                  <a:pt x="3" y="3528"/>
                </a:lnTo>
                <a:lnTo>
                  <a:pt x="1" y="3524"/>
                </a:lnTo>
                <a:lnTo>
                  <a:pt x="1" y="3520"/>
                </a:lnTo>
                <a:lnTo>
                  <a:pt x="0" y="3517"/>
                </a:lnTo>
                <a:lnTo>
                  <a:pt x="0" y="3513"/>
                </a:lnTo>
                <a:lnTo>
                  <a:pt x="0" y="3510"/>
                </a:lnTo>
                <a:lnTo>
                  <a:pt x="0" y="3507"/>
                </a:lnTo>
                <a:lnTo>
                  <a:pt x="1" y="3504"/>
                </a:lnTo>
                <a:lnTo>
                  <a:pt x="3" y="3503"/>
                </a:lnTo>
                <a:lnTo>
                  <a:pt x="3" y="3501"/>
                </a:lnTo>
                <a:lnTo>
                  <a:pt x="4" y="3500"/>
                </a:lnTo>
                <a:lnTo>
                  <a:pt x="4" y="3498"/>
                </a:lnTo>
                <a:lnTo>
                  <a:pt x="6" y="3497"/>
                </a:lnTo>
                <a:lnTo>
                  <a:pt x="9" y="3497"/>
                </a:lnTo>
                <a:lnTo>
                  <a:pt x="10" y="3495"/>
                </a:lnTo>
                <a:lnTo>
                  <a:pt x="13" y="3495"/>
                </a:lnTo>
                <a:lnTo>
                  <a:pt x="16" y="3495"/>
                </a:lnTo>
                <a:lnTo>
                  <a:pt x="20" y="3494"/>
                </a:lnTo>
                <a:lnTo>
                  <a:pt x="23" y="3494"/>
                </a:lnTo>
                <a:lnTo>
                  <a:pt x="27" y="3495"/>
                </a:lnTo>
                <a:lnTo>
                  <a:pt x="33" y="3495"/>
                </a:lnTo>
                <a:lnTo>
                  <a:pt x="37" y="3495"/>
                </a:lnTo>
                <a:lnTo>
                  <a:pt x="43" y="3497"/>
                </a:lnTo>
                <a:lnTo>
                  <a:pt x="49" y="3497"/>
                </a:lnTo>
                <a:lnTo>
                  <a:pt x="55" y="3498"/>
                </a:lnTo>
                <a:lnTo>
                  <a:pt x="62" y="3498"/>
                </a:lnTo>
                <a:lnTo>
                  <a:pt x="69" y="3500"/>
                </a:lnTo>
                <a:lnTo>
                  <a:pt x="76" y="3501"/>
                </a:lnTo>
                <a:lnTo>
                  <a:pt x="84" y="3503"/>
                </a:lnTo>
                <a:lnTo>
                  <a:pt x="99" y="3505"/>
                </a:lnTo>
                <a:lnTo>
                  <a:pt x="118" y="3508"/>
                </a:lnTo>
                <a:lnTo>
                  <a:pt x="137" y="3511"/>
                </a:lnTo>
                <a:lnTo>
                  <a:pt x="157" y="3515"/>
                </a:lnTo>
                <a:lnTo>
                  <a:pt x="179" y="3518"/>
                </a:lnTo>
                <a:lnTo>
                  <a:pt x="202" y="3523"/>
                </a:lnTo>
                <a:lnTo>
                  <a:pt x="225" y="3530"/>
                </a:lnTo>
                <a:lnTo>
                  <a:pt x="246" y="3536"/>
                </a:lnTo>
                <a:lnTo>
                  <a:pt x="268" y="3541"/>
                </a:lnTo>
                <a:lnTo>
                  <a:pt x="286" y="3546"/>
                </a:lnTo>
                <a:lnTo>
                  <a:pt x="305" y="3550"/>
                </a:lnTo>
                <a:lnTo>
                  <a:pt x="322" y="3553"/>
                </a:lnTo>
                <a:lnTo>
                  <a:pt x="338" y="3554"/>
                </a:lnTo>
                <a:lnTo>
                  <a:pt x="353" y="3556"/>
                </a:lnTo>
                <a:lnTo>
                  <a:pt x="367" y="3556"/>
                </a:lnTo>
                <a:lnTo>
                  <a:pt x="380" y="3556"/>
                </a:lnTo>
                <a:lnTo>
                  <a:pt x="392" y="3556"/>
                </a:lnTo>
                <a:lnTo>
                  <a:pt x="403" y="3554"/>
                </a:lnTo>
                <a:lnTo>
                  <a:pt x="412" y="3551"/>
                </a:lnTo>
                <a:lnTo>
                  <a:pt x="422" y="3550"/>
                </a:lnTo>
                <a:lnTo>
                  <a:pt x="429" y="3546"/>
                </a:lnTo>
                <a:lnTo>
                  <a:pt x="436" y="3543"/>
                </a:lnTo>
                <a:lnTo>
                  <a:pt x="438" y="3541"/>
                </a:lnTo>
                <a:lnTo>
                  <a:pt x="441" y="3538"/>
                </a:lnTo>
                <a:lnTo>
                  <a:pt x="442" y="3534"/>
                </a:lnTo>
                <a:lnTo>
                  <a:pt x="443" y="3531"/>
                </a:lnTo>
                <a:lnTo>
                  <a:pt x="446" y="3526"/>
                </a:lnTo>
                <a:lnTo>
                  <a:pt x="448" y="3521"/>
                </a:lnTo>
                <a:lnTo>
                  <a:pt x="451" y="3515"/>
                </a:lnTo>
                <a:lnTo>
                  <a:pt x="452" y="3510"/>
                </a:lnTo>
                <a:lnTo>
                  <a:pt x="455" y="3503"/>
                </a:lnTo>
                <a:lnTo>
                  <a:pt x="458" y="3495"/>
                </a:lnTo>
                <a:lnTo>
                  <a:pt x="459" y="3487"/>
                </a:lnTo>
                <a:lnTo>
                  <a:pt x="462" y="3479"/>
                </a:lnTo>
                <a:lnTo>
                  <a:pt x="465" y="3469"/>
                </a:lnTo>
                <a:lnTo>
                  <a:pt x="468" y="3461"/>
                </a:lnTo>
                <a:lnTo>
                  <a:pt x="469" y="3451"/>
                </a:lnTo>
                <a:lnTo>
                  <a:pt x="472" y="3441"/>
                </a:lnTo>
                <a:lnTo>
                  <a:pt x="475" y="3429"/>
                </a:lnTo>
                <a:lnTo>
                  <a:pt x="478" y="3418"/>
                </a:lnTo>
                <a:lnTo>
                  <a:pt x="481" y="3405"/>
                </a:lnTo>
                <a:lnTo>
                  <a:pt x="482" y="3393"/>
                </a:lnTo>
                <a:lnTo>
                  <a:pt x="485" y="3379"/>
                </a:lnTo>
                <a:lnTo>
                  <a:pt x="488" y="3366"/>
                </a:lnTo>
                <a:lnTo>
                  <a:pt x="489" y="3351"/>
                </a:lnTo>
                <a:lnTo>
                  <a:pt x="492" y="3337"/>
                </a:lnTo>
                <a:lnTo>
                  <a:pt x="495" y="3321"/>
                </a:lnTo>
                <a:lnTo>
                  <a:pt x="497" y="3305"/>
                </a:lnTo>
                <a:lnTo>
                  <a:pt x="500" y="3289"/>
                </a:lnTo>
                <a:lnTo>
                  <a:pt x="501" y="3274"/>
                </a:lnTo>
                <a:lnTo>
                  <a:pt x="504" y="3256"/>
                </a:lnTo>
                <a:lnTo>
                  <a:pt x="505" y="3239"/>
                </a:lnTo>
                <a:lnTo>
                  <a:pt x="507" y="3220"/>
                </a:lnTo>
                <a:lnTo>
                  <a:pt x="510" y="3202"/>
                </a:lnTo>
                <a:lnTo>
                  <a:pt x="511" y="3184"/>
                </a:lnTo>
                <a:lnTo>
                  <a:pt x="512" y="3164"/>
                </a:lnTo>
                <a:lnTo>
                  <a:pt x="514" y="3141"/>
                </a:lnTo>
                <a:lnTo>
                  <a:pt x="515" y="3117"/>
                </a:lnTo>
                <a:lnTo>
                  <a:pt x="515" y="3091"/>
                </a:lnTo>
                <a:lnTo>
                  <a:pt x="517" y="3062"/>
                </a:lnTo>
                <a:lnTo>
                  <a:pt x="518" y="3032"/>
                </a:lnTo>
                <a:lnTo>
                  <a:pt x="520" y="2999"/>
                </a:lnTo>
                <a:lnTo>
                  <a:pt x="520" y="2964"/>
                </a:lnTo>
                <a:lnTo>
                  <a:pt x="521" y="2927"/>
                </a:lnTo>
                <a:lnTo>
                  <a:pt x="521" y="2888"/>
                </a:lnTo>
                <a:lnTo>
                  <a:pt x="523" y="2847"/>
                </a:lnTo>
                <a:lnTo>
                  <a:pt x="523" y="2804"/>
                </a:lnTo>
                <a:lnTo>
                  <a:pt x="524" y="2760"/>
                </a:lnTo>
                <a:lnTo>
                  <a:pt x="524" y="2712"/>
                </a:lnTo>
                <a:lnTo>
                  <a:pt x="524" y="2663"/>
                </a:lnTo>
                <a:lnTo>
                  <a:pt x="525" y="2611"/>
                </a:lnTo>
                <a:lnTo>
                  <a:pt x="525" y="2558"/>
                </a:lnTo>
                <a:lnTo>
                  <a:pt x="525" y="2502"/>
                </a:lnTo>
                <a:lnTo>
                  <a:pt x="525" y="2444"/>
                </a:lnTo>
                <a:lnTo>
                  <a:pt x="525" y="2385"/>
                </a:lnTo>
                <a:lnTo>
                  <a:pt x="527" y="2323"/>
                </a:lnTo>
                <a:lnTo>
                  <a:pt x="527" y="2260"/>
                </a:lnTo>
                <a:lnTo>
                  <a:pt x="527" y="2194"/>
                </a:lnTo>
                <a:lnTo>
                  <a:pt x="527" y="2126"/>
                </a:lnTo>
                <a:lnTo>
                  <a:pt x="527" y="2057"/>
                </a:lnTo>
                <a:lnTo>
                  <a:pt x="527" y="1985"/>
                </a:lnTo>
                <a:lnTo>
                  <a:pt x="527" y="1912"/>
                </a:lnTo>
                <a:lnTo>
                  <a:pt x="527" y="1835"/>
                </a:lnTo>
                <a:lnTo>
                  <a:pt x="527" y="1758"/>
                </a:lnTo>
                <a:lnTo>
                  <a:pt x="527" y="1679"/>
                </a:lnTo>
                <a:lnTo>
                  <a:pt x="527" y="1596"/>
                </a:lnTo>
                <a:lnTo>
                  <a:pt x="525" y="1517"/>
                </a:lnTo>
                <a:lnTo>
                  <a:pt x="524" y="1440"/>
                </a:lnTo>
                <a:lnTo>
                  <a:pt x="521" y="1365"/>
                </a:lnTo>
                <a:lnTo>
                  <a:pt x="520" y="1291"/>
                </a:lnTo>
                <a:lnTo>
                  <a:pt x="517" y="1221"/>
                </a:lnTo>
                <a:lnTo>
                  <a:pt x="515" y="1152"/>
                </a:lnTo>
                <a:lnTo>
                  <a:pt x="512" y="1085"/>
                </a:lnTo>
                <a:lnTo>
                  <a:pt x="510" y="1022"/>
                </a:lnTo>
                <a:lnTo>
                  <a:pt x="507" y="960"/>
                </a:lnTo>
                <a:lnTo>
                  <a:pt x="505" y="900"/>
                </a:lnTo>
                <a:lnTo>
                  <a:pt x="502" y="844"/>
                </a:lnTo>
                <a:lnTo>
                  <a:pt x="500" y="789"/>
                </a:lnTo>
                <a:lnTo>
                  <a:pt x="495" y="736"/>
                </a:lnTo>
                <a:lnTo>
                  <a:pt x="492" y="685"/>
                </a:lnTo>
                <a:lnTo>
                  <a:pt x="489" y="638"/>
                </a:lnTo>
                <a:lnTo>
                  <a:pt x="487" y="592"/>
                </a:lnTo>
                <a:lnTo>
                  <a:pt x="482" y="548"/>
                </a:lnTo>
                <a:lnTo>
                  <a:pt x="479" y="507"/>
                </a:lnTo>
                <a:lnTo>
                  <a:pt x="475" y="468"/>
                </a:lnTo>
                <a:lnTo>
                  <a:pt x="472" y="430"/>
                </a:lnTo>
                <a:lnTo>
                  <a:pt x="468" y="397"/>
                </a:lnTo>
                <a:lnTo>
                  <a:pt x="464" y="364"/>
                </a:lnTo>
                <a:lnTo>
                  <a:pt x="459" y="335"/>
                </a:lnTo>
                <a:lnTo>
                  <a:pt x="455" y="308"/>
                </a:lnTo>
                <a:lnTo>
                  <a:pt x="451" y="282"/>
                </a:lnTo>
                <a:lnTo>
                  <a:pt x="446" y="259"/>
                </a:lnTo>
                <a:lnTo>
                  <a:pt x="442" y="239"/>
                </a:lnTo>
                <a:lnTo>
                  <a:pt x="438" y="222"/>
                </a:lnTo>
                <a:lnTo>
                  <a:pt x="433" y="206"/>
                </a:lnTo>
                <a:lnTo>
                  <a:pt x="428" y="191"/>
                </a:lnTo>
                <a:lnTo>
                  <a:pt x="423" y="181"/>
                </a:lnTo>
                <a:lnTo>
                  <a:pt x="419" y="173"/>
                </a:lnTo>
                <a:lnTo>
                  <a:pt x="406" y="161"/>
                </a:lnTo>
                <a:lnTo>
                  <a:pt x="394" y="150"/>
                </a:lnTo>
                <a:lnTo>
                  <a:pt x="384" y="138"/>
                </a:lnTo>
                <a:lnTo>
                  <a:pt x="374" y="127"/>
                </a:lnTo>
                <a:lnTo>
                  <a:pt x="367" y="117"/>
                </a:lnTo>
                <a:lnTo>
                  <a:pt x="360" y="105"/>
                </a:lnTo>
                <a:lnTo>
                  <a:pt x="356" y="95"/>
                </a:lnTo>
                <a:lnTo>
                  <a:pt x="351" y="85"/>
                </a:lnTo>
                <a:lnTo>
                  <a:pt x="348" y="75"/>
                </a:lnTo>
                <a:lnTo>
                  <a:pt x="347" y="65"/>
                </a:lnTo>
                <a:lnTo>
                  <a:pt x="347" y="55"/>
                </a:lnTo>
                <a:lnTo>
                  <a:pt x="347" y="46"/>
                </a:lnTo>
                <a:lnTo>
                  <a:pt x="350" y="36"/>
                </a:lnTo>
                <a:lnTo>
                  <a:pt x="353" y="27"/>
                </a:lnTo>
                <a:lnTo>
                  <a:pt x="358" y="20"/>
                </a:lnTo>
                <a:lnTo>
                  <a:pt x="364" y="11"/>
                </a:lnTo>
                <a:lnTo>
                  <a:pt x="371" y="9"/>
                </a:lnTo>
                <a:lnTo>
                  <a:pt x="380" y="4"/>
                </a:lnTo>
                <a:lnTo>
                  <a:pt x="389" y="3"/>
                </a:lnTo>
                <a:lnTo>
                  <a:pt x="399" y="1"/>
                </a:lnTo>
                <a:lnTo>
                  <a:pt x="409" y="0"/>
                </a:lnTo>
                <a:lnTo>
                  <a:pt x="422" y="0"/>
                </a:lnTo>
                <a:lnTo>
                  <a:pt x="433" y="0"/>
                </a:lnTo>
                <a:lnTo>
                  <a:pt x="448" y="1"/>
                </a:lnTo>
                <a:lnTo>
                  <a:pt x="462" y="3"/>
                </a:lnTo>
                <a:lnTo>
                  <a:pt x="479" y="7"/>
                </a:lnTo>
                <a:lnTo>
                  <a:pt x="495" y="11"/>
                </a:lnTo>
                <a:lnTo>
                  <a:pt x="514" y="17"/>
                </a:lnTo>
                <a:lnTo>
                  <a:pt x="534" y="23"/>
                </a:lnTo>
                <a:lnTo>
                  <a:pt x="554" y="32"/>
                </a:lnTo>
                <a:lnTo>
                  <a:pt x="576" y="42"/>
                </a:lnTo>
                <a:lnTo>
                  <a:pt x="587" y="46"/>
                </a:lnTo>
                <a:lnTo>
                  <a:pt x="599" y="52"/>
                </a:lnTo>
                <a:lnTo>
                  <a:pt x="619" y="63"/>
                </a:lnTo>
                <a:lnTo>
                  <a:pt x="636" y="75"/>
                </a:lnTo>
                <a:lnTo>
                  <a:pt x="654" y="86"/>
                </a:lnTo>
                <a:lnTo>
                  <a:pt x="671" y="98"/>
                </a:lnTo>
                <a:lnTo>
                  <a:pt x="685" y="109"/>
                </a:lnTo>
                <a:lnTo>
                  <a:pt x="700" y="119"/>
                </a:lnTo>
                <a:lnTo>
                  <a:pt x="711" y="131"/>
                </a:lnTo>
                <a:lnTo>
                  <a:pt x="723" y="142"/>
                </a:lnTo>
                <a:lnTo>
                  <a:pt x="734" y="154"/>
                </a:lnTo>
                <a:lnTo>
                  <a:pt x="743" y="166"/>
                </a:lnTo>
                <a:lnTo>
                  <a:pt x="751" y="176"/>
                </a:lnTo>
                <a:lnTo>
                  <a:pt x="759" y="187"/>
                </a:lnTo>
                <a:lnTo>
                  <a:pt x="766" y="199"/>
                </a:lnTo>
                <a:lnTo>
                  <a:pt x="772" y="210"/>
                </a:lnTo>
                <a:lnTo>
                  <a:pt x="776" y="222"/>
                </a:lnTo>
                <a:lnTo>
                  <a:pt x="780" y="233"/>
                </a:lnTo>
                <a:lnTo>
                  <a:pt x="783" y="243"/>
                </a:lnTo>
                <a:lnTo>
                  <a:pt x="785" y="255"/>
                </a:lnTo>
                <a:lnTo>
                  <a:pt x="786" y="266"/>
                </a:lnTo>
                <a:lnTo>
                  <a:pt x="787" y="278"/>
                </a:lnTo>
                <a:lnTo>
                  <a:pt x="787" y="289"/>
                </a:lnTo>
                <a:lnTo>
                  <a:pt x="786" y="301"/>
                </a:lnTo>
                <a:lnTo>
                  <a:pt x="786" y="314"/>
                </a:lnTo>
                <a:lnTo>
                  <a:pt x="785" y="325"/>
                </a:lnTo>
                <a:lnTo>
                  <a:pt x="782" y="338"/>
                </a:lnTo>
                <a:lnTo>
                  <a:pt x="780" y="350"/>
                </a:lnTo>
                <a:lnTo>
                  <a:pt x="777" y="363"/>
                </a:lnTo>
                <a:lnTo>
                  <a:pt x="774" y="377"/>
                </a:lnTo>
                <a:lnTo>
                  <a:pt x="772" y="390"/>
                </a:lnTo>
                <a:lnTo>
                  <a:pt x="769" y="404"/>
                </a:lnTo>
                <a:lnTo>
                  <a:pt x="764" y="419"/>
                </a:lnTo>
                <a:lnTo>
                  <a:pt x="762" y="433"/>
                </a:lnTo>
                <a:lnTo>
                  <a:pt x="759" y="449"/>
                </a:lnTo>
                <a:lnTo>
                  <a:pt x="754" y="465"/>
                </a:lnTo>
                <a:lnTo>
                  <a:pt x="751" y="482"/>
                </a:lnTo>
                <a:lnTo>
                  <a:pt x="749" y="501"/>
                </a:lnTo>
                <a:lnTo>
                  <a:pt x="746" y="520"/>
                </a:lnTo>
                <a:lnTo>
                  <a:pt x="743" y="540"/>
                </a:lnTo>
                <a:lnTo>
                  <a:pt x="740" y="561"/>
                </a:lnTo>
                <a:lnTo>
                  <a:pt x="737" y="583"/>
                </a:lnTo>
                <a:lnTo>
                  <a:pt x="734" y="606"/>
                </a:lnTo>
                <a:lnTo>
                  <a:pt x="733" y="630"/>
                </a:lnTo>
                <a:lnTo>
                  <a:pt x="730" y="655"/>
                </a:lnTo>
                <a:lnTo>
                  <a:pt x="728" y="681"/>
                </a:lnTo>
                <a:lnTo>
                  <a:pt x="727" y="708"/>
                </a:lnTo>
                <a:lnTo>
                  <a:pt x="727" y="736"/>
                </a:lnTo>
                <a:lnTo>
                  <a:pt x="726" y="764"/>
                </a:lnTo>
                <a:lnTo>
                  <a:pt x="726" y="795"/>
                </a:lnTo>
                <a:lnTo>
                  <a:pt x="724" y="812"/>
                </a:lnTo>
                <a:lnTo>
                  <a:pt x="723" y="831"/>
                </a:lnTo>
                <a:lnTo>
                  <a:pt x="721" y="851"/>
                </a:lnTo>
                <a:lnTo>
                  <a:pt x="720" y="872"/>
                </a:lnTo>
                <a:lnTo>
                  <a:pt x="718" y="897"/>
                </a:lnTo>
                <a:lnTo>
                  <a:pt x="717" y="921"/>
                </a:lnTo>
                <a:lnTo>
                  <a:pt x="715" y="947"/>
                </a:lnTo>
                <a:lnTo>
                  <a:pt x="715" y="975"/>
                </a:lnTo>
                <a:lnTo>
                  <a:pt x="714" y="1003"/>
                </a:lnTo>
                <a:lnTo>
                  <a:pt x="714" y="1035"/>
                </a:lnTo>
                <a:lnTo>
                  <a:pt x="713" y="1067"/>
                </a:lnTo>
                <a:lnTo>
                  <a:pt x="713" y="1100"/>
                </a:lnTo>
                <a:lnTo>
                  <a:pt x="711" y="1134"/>
                </a:lnTo>
                <a:lnTo>
                  <a:pt x="711" y="1172"/>
                </a:lnTo>
                <a:lnTo>
                  <a:pt x="710" y="1209"/>
                </a:lnTo>
                <a:lnTo>
                  <a:pt x="710" y="1248"/>
                </a:lnTo>
                <a:lnTo>
                  <a:pt x="710" y="1288"/>
                </a:lnTo>
                <a:lnTo>
                  <a:pt x="710" y="1332"/>
                </a:lnTo>
                <a:lnTo>
                  <a:pt x="708" y="1375"/>
                </a:lnTo>
                <a:lnTo>
                  <a:pt x="708" y="1419"/>
                </a:lnTo>
                <a:lnTo>
                  <a:pt x="708" y="1467"/>
                </a:lnTo>
                <a:lnTo>
                  <a:pt x="708" y="1514"/>
                </a:lnTo>
                <a:lnTo>
                  <a:pt x="708" y="1565"/>
                </a:lnTo>
                <a:lnTo>
                  <a:pt x="708" y="1615"/>
                </a:lnTo>
                <a:lnTo>
                  <a:pt x="708" y="1668"/>
                </a:lnTo>
                <a:lnTo>
                  <a:pt x="708" y="1722"/>
                </a:lnTo>
                <a:lnTo>
                  <a:pt x="708" y="1778"/>
                </a:lnTo>
                <a:lnTo>
                  <a:pt x="708" y="1834"/>
                </a:lnTo>
                <a:lnTo>
                  <a:pt x="708" y="1893"/>
                </a:lnTo>
                <a:lnTo>
                  <a:pt x="708" y="1953"/>
                </a:lnTo>
                <a:lnTo>
                  <a:pt x="708" y="2015"/>
                </a:lnTo>
                <a:lnTo>
                  <a:pt x="708" y="2079"/>
                </a:lnTo>
                <a:lnTo>
                  <a:pt x="708" y="2144"/>
                </a:lnTo>
                <a:lnTo>
                  <a:pt x="708" y="2207"/>
                </a:lnTo>
                <a:lnTo>
                  <a:pt x="708" y="2269"/>
                </a:lnTo>
                <a:lnTo>
                  <a:pt x="708" y="2328"/>
                </a:lnTo>
                <a:lnTo>
                  <a:pt x="708" y="2387"/>
                </a:lnTo>
                <a:lnTo>
                  <a:pt x="708" y="2444"/>
                </a:lnTo>
                <a:lnTo>
                  <a:pt x="708" y="2499"/>
                </a:lnTo>
                <a:lnTo>
                  <a:pt x="708" y="2552"/>
                </a:lnTo>
                <a:lnTo>
                  <a:pt x="708" y="2606"/>
                </a:lnTo>
                <a:lnTo>
                  <a:pt x="708" y="2656"/>
                </a:lnTo>
                <a:lnTo>
                  <a:pt x="708" y="2705"/>
                </a:lnTo>
                <a:lnTo>
                  <a:pt x="708" y="2752"/>
                </a:lnTo>
                <a:lnTo>
                  <a:pt x="708" y="2797"/>
                </a:lnTo>
                <a:lnTo>
                  <a:pt x="708" y="2842"/>
                </a:lnTo>
                <a:lnTo>
                  <a:pt x="708" y="2885"/>
                </a:lnTo>
                <a:lnTo>
                  <a:pt x="708" y="2925"/>
                </a:lnTo>
                <a:lnTo>
                  <a:pt x="708" y="2966"/>
                </a:lnTo>
                <a:lnTo>
                  <a:pt x="708" y="3004"/>
                </a:lnTo>
                <a:lnTo>
                  <a:pt x="708" y="3040"/>
                </a:lnTo>
                <a:lnTo>
                  <a:pt x="708" y="3075"/>
                </a:lnTo>
                <a:lnTo>
                  <a:pt x="708" y="3109"/>
                </a:lnTo>
                <a:lnTo>
                  <a:pt x="708" y="3141"/>
                </a:lnTo>
                <a:lnTo>
                  <a:pt x="708" y="3171"/>
                </a:lnTo>
                <a:lnTo>
                  <a:pt x="708" y="3202"/>
                </a:lnTo>
                <a:lnTo>
                  <a:pt x="708" y="3229"/>
                </a:lnTo>
                <a:lnTo>
                  <a:pt x="708" y="3255"/>
                </a:lnTo>
                <a:lnTo>
                  <a:pt x="708" y="3279"/>
                </a:lnTo>
                <a:lnTo>
                  <a:pt x="708" y="3304"/>
                </a:lnTo>
                <a:lnTo>
                  <a:pt x="708" y="3325"/>
                </a:lnTo>
                <a:lnTo>
                  <a:pt x="708" y="3346"/>
                </a:lnTo>
                <a:lnTo>
                  <a:pt x="708" y="3364"/>
                </a:lnTo>
                <a:lnTo>
                  <a:pt x="708" y="33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80"/>
          <p:cNvSpPr/>
          <p:nvPr/>
        </p:nvSpPr>
        <p:spPr>
          <a:xfrm>
            <a:off x="6540480" y="3313080"/>
            <a:ext cx="917640" cy="657360"/>
          </a:xfrm>
          <a:custGeom>
            <a:avLst/>
            <a:gdLst/>
            <a:ahLst/>
            <a:rect l="l" t="t" r="r" b="b"/>
            <a:pathLst>
              <a:path w="1733" h="1244">
                <a:moveTo>
                  <a:pt x="1282" y="60"/>
                </a:moveTo>
                <a:lnTo>
                  <a:pt x="1291" y="52"/>
                </a:lnTo>
                <a:lnTo>
                  <a:pt x="1301" y="46"/>
                </a:lnTo>
                <a:lnTo>
                  <a:pt x="1310" y="39"/>
                </a:lnTo>
                <a:lnTo>
                  <a:pt x="1318" y="33"/>
                </a:lnTo>
                <a:lnTo>
                  <a:pt x="1327" y="27"/>
                </a:lnTo>
                <a:lnTo>
                  <a:pt x="1335" y="23"/>
                </a:lnTo>
                <a:lnTo>
                  <a:pt x="1343" y="18"/>
                </a:lnTo>
                <a:lnTo>
                  <a:pt x="1351" y="14"/>
                </a:lnTo>
                <a:lnTo>
                  <a:pt x="1359" y="10"/>
                </a:lnTo>
                <a:lnTo>
                  <a:pt x="1366" y="7"/>
                </a:lnTo>
                <a:lnTo>
                  <a:pt x="1373" y="6"/>
                </a:lnTo>
                <a:lnTo>
                  <a:pt x="1380" y="3"/>
                </a:lnTo>
                <a:lnTo>
                  <a:pt x="1387" y="1"/>
                </a:lnTo>
                <a:lnTo>
                  <a:pt x="1394" y="0"/>
                </a:lnTo>
                <a:lnTo>
                  <a:pt x="1400" y="0"/>
                </a:lnTo>
                <a:lnTo>
                  <a:pt x="1407" y="0"/>
                </a:lnTo>
                <a:lnTo>
                  <a:pt x="1412" y="0"/>
                </a:lnTo>
                <a:lnTo>
                  <a:pt x="1416" y="1"/>
                </a:lnTo>
                <a:lnTo>
                  <a:pt x="1423" y="3"/>
                </a:lnTo>
                <a:lnTo>
                  <a:pt x="1430" y="7"/>
                </a:lnTo>
                <a:lnTo>
                  <a:pt x="1439" y="11"/>
                </a:lnTo>
                <a:lnTo>
                  <a:pt x="1449" y="16"/>
                </a:lnTo>
                <a:lnTo>
                  <a:pt x="1459" y="21"/>
                </a:lnTo>
                <a:lnTo>
                  <a:pt x="1471" y="29"/>
                </a:lnTo>
                <a:lnTo>
                  <a:pt x="1484" y="37"/>
                </a:lnTo>
                <a:lnTo>
                  <a:pt x="1497" y="46"/>
                </a:lnTo>
                <a:lnTo>
                  <a:pt x="1510" y="56"/>
                </a:lnTo>
                <a:lnTo>
                  <a:pt x="1525" y="67"/>
                </a:lnTo>
                <a:lnTo>
                  <a:pt x="1540" y="79"/>
                </a:lnTo>
                <a:lnTo>
                  <a:pt x="1556" y="92"/>
                </a:lnTo>
                <a:lnTo>
                  <a:pt x="1572" y="105"/>
                </a:lnTo>
                <a:lnTo>
                  <a:pt x="1589" y="121"/>
                </a:lnTo>
                <a:lnTo>
                  <a:pt x="1605" y="135"/>
                </a:lnTo>
                <a:lnTo>
                  <a:pt x="1621" y="149"/>
                </a:lnTo>
                <a:lnTo>
                  <a:pt x="1635" y="162"/>
                </a:lnTo>
                <a:lnTo>
                  <a:pt x="1648" y="177"/>
                </a:lnTo>
                <a:lnTo>
                  <a:pt x="1661" y="188"/>
                </a:lnTo>
                <a:lnTo>
                  <a:pt x="1674" y="201"/>
                </a:lnTo>
                <a:lnTo>
                  <a:pt x="1684" y="213"/>
                </a:lnTo>
                <a:lnTo>
                  <a:pt x="1694" y="223"/>
                </a:lnTo>
                <a:lnTo>
                  <a:pt x="1703" y="233"/>
                </a:lnTo>
                <a:lnTo>
                  <a:pt x="1711" y="242"/>
                </a:lnTo>
                <a:lnTo>
                  <a:pt x="1717" y="250"/>
                </a:lnTo>
                <a:lnTo>
                  <a:pt x="1723" y="257"/>
                </a:lnTo>
                <a:lnTo>
                  <a:pt x="1727" y="265"/>
                </a:lnTo>
                <a:lnTo>
                  <a:pt x="1730" y="270"/>
                </a:lnTo>
                <a:lnTo>
                  <a:pt x="1733" y="276"/>
                </a:lnTo>
                <a:lnTo>
                  <a:pt x="1733" y="280"/>
                </a:lnTo>
                <a:lnTo>
                  <a:pt x="1733" y="288"/>
                </a:lnTo>
                <a:lnTo>
                  <a:pt x="1731" y="295"/>
                </a:lnTo>
                <a:lnTo>
                  <a:pt x="1731" y="302"/>
                </a:lnTo>
                <a:lnTo>
                  <a:pt x="1728" y="309"/>
                </a:lnTo>
                <a:lnTo>
                  <a:pt x="1727" y="316"/>
                </a:lnTo>
                <a:lnTo>
                  <a:pt x="1724" y="324"/>
                </a:lnTo>
                <a:lnTo>
                  <a:pt x="1721" y="331"/>
                </a:lnTo>
                <a:lnTo>
                  <a:pt x="1717" y="338"/>
                </a:lnTo>
                <a:lnTo>
                  <a:pt x="1713" y="344"/>
                </a:lnTo>
                <a:lnTo>
                  <a:pt x="1707" y="350"/>
                </a:lnTo>
                <a:lnTo>
                  <a:pt x="1701" y="355"/>
                </a:lnTo>
                <a:lnTo>
                  <a:pt x="1694" y="361"/>
                </a:lnTo>
                <a:lnTo>
                  <a:pt x="1687" y="367"/>
                </a:lnTo>
                <a:lnTo>
                  <a:pt x="1678" y="371"/>
                </a:lnTo>
                <a:lnTo>
                  <a:pt x="1669" y="377"/>
                </a:lnTo>
                <a:lnTo>
                  <a:pt x="1661" y="381"/>
                </a:lnTo>
                <a:lnTo>
                  <a:pt x="1658" y="381"/>
                </a:lnTo>
                <a:lnTo>
                  <a:pt x="1655" y="383"/>
                </a:lnTo>
                <a:lnTo>
                  <a:pt x="1652" y="386"/>
                </a:lnTo>
                <a:lnTo>
                  <a:pt x="1649" y="387"/>
                </a:lnTo>
                <a:lnTo>
                  <a:pt x="1646" y="390"/>
                </a:lnTo>
                <a:lnTo>
                  <a:pt x="1644" y="394"/>
                </a:lnTo>
                <a:lnTo>
                  <a:pt x="1641" y="397"/>
                </a:lnTo>
                <a:lnTo>
                  <a:pt x="1638" y="401"/>
                </a:lnTo>
                <a:lnTo>
                  <a:pt x="1633" y="406"/>
                </a:lnTo>
                <a:lnTo>
                  <a:pt x="1631" y="410"/>
                </a:lnTo>
                <a:lnTo>
                  <a:pt x="1628" y="416"/>
                </a:lnTo>
                <a:lnTo>
                  <a:pt x="1623" y="422"/>
                </a:lnTo>
                <a:lnTo>
                  <a:pt x="1621" y="427"/>
                </a:lnTo>
                <a:lnTo>
                  <a:pt x="1616" y="433"/>
                </a:lnTo>
                <a:lnTo>
                  <a:pt x="1612" y="440"/>
                </a:lnTo>
                <a:lnTo>
                  <a:pt x="1609" y="447"/>
                </a:lnTo>
                <a:lnTo>
                  <a:pt x="1605" y="455"/>
                </a:lnTo>
                <a:lnTo>
                  <a:pt x="1600" y="463"/>
                </a:lnTo>
                <a:lnTo>
                  <a:pt x="1596" y="472"/>
                </a:lnTo>
                <a:lnTo>
                  <a:pt x="1592" y="481"/>
                </a:lnTo>
                <a:lnTo>
                  <a:pt x="1587" y="489"/>
                </a:lnTo>
                <a:lnTo>
                  <a:pt x="1583" y="499"/>
                </a:lnTo>
                <a:lnTo>
                  <a:pt x="1579" y="509"/>
                </a:lnTo>
                <a:lnTo>
                  <a:pt x="1574" y="519"/>
                </a:lnTo>
                <a:lnTo>
                  <a:pt x="1569" y="530"/>
                </a:lnTo>
                <a:lnTo>
                  <a:pt x="1564" y="541"/>
                </a:lnTo>
                <a:lnTo>
                  <a:pt x="1559" y="553"/>
                </a:lnTo>
                <a:lnTo>
                  <a:pt x="1554" y="564"/>
                </a:lnTo>
                <a:lnTo>
                  <a:pt x="1549" y="577"/>
                </a:lnTo>
                <a:lnTo>
                  <a:pt x="1544" y="590"/>
                </a:lnTo>
                <a:lnTo>
                  <a:pt x="1538" y="603"/>
                </a:lnTo>
                <a:lnTo>
                  <a:pt x="1533" y="616"/>
                </a:lnTo>
                <a:lnTo>
                  <a:pt x="1527" y="629"/>
                </a:lnTo>
                <a:lnTo>
                  <a:pt x="1521" y="643"/>
                </a:lnTo>
                <a:lnTo>
                  <a:pt x="1515" y="658"/>
                </a:lnTo>
                <a:lnTo>
                  <a:pt x="1510" y="674"/>
                </a:lnTo>
                <a:lnTo>
                  <a:pt x="1504" y="688"/>
                </a:lnTo>
                <a:lnTo>
                  <a:pt x="1498" y="704"/>
                </a:lnTo>
                <a:lnTo>
                  <a:pt x="1491" y="721"/>
                </a:lnTo>
                <a:lnTo>
                  <a:pt x="1485" y="737"/>
                </a:lnTo>
                <a:lnTo>
                  <a:pt x="1478" y="754"/>
                </a:lnTo>
                <a:lnTo>
                  <a:pt x="1472" y="771"/>
                </a:lnTo>
                <a:lnTo>
                  <a:pt x="1465" y="789"/>
                </a:lnTo>
                <a:lnTo>
                  <a:pt x="1459" y="806"/>
                </a:lnTo>
                <a:lnTo>
                  <a:pt x="1452" y="825"/>
                </a:lnTo>
                <a:lnTo>
                  <a:pt x="1445" y="843"/>
                </a:lnTo>
                <a:lnTo>
                  <a:pt x="1438" y="862"/>
                </a:lnTo>
                <a:lnTo>
                  <a:pt x="1430" y="882"/>
                </a:lnTo>
                <a:lnTo>
                  <a:pt x="1423" y="902"/>
                </a:lnTo>
                <a:lnTo>
                  <a:pt x="1416" y="923"/>
                </a:lnTo>
                <a:lnTo>
                  <a:pt x="1409" y="943"/>
                </a:lnTo>
                <a:lnTo>
                  <a:pt x="1400" y="963"/>
                </a:lnTo>
                <a:lnTo>
                  <a:pt x="1393" y="984"/>
                </a:lnTo>
                <a:lnTo>
                  <a:pt x="1384" y="1006"/>
                </a:lnTo>
                <a:lnTo>
                  <a:pt x="1377" y="1028"/>
                </a:lnTo>
                <a:lnTo>
                  <a:pt x="1369" y="1051"/>
                </a:lnTo>
                <a:lnTo>
                  <a:pt x="1360" y="1074"/>
                </a:lnTo>
                <a:lnTo>
                  <a:pt x="1353" y="1097"/>
                </a:lnTo>
                <a:lnTo>
                  <a:pt x="1344" y="1120"/>
                </a:lnTo>
                <a:lnTo>
                  <a:pt x="1335" y="1144"/>
                </a:lnTo>
                <a:lnTo>
                  <a:pt x="1318" y="1193"/>
                </a:lnTo>
                <a:lnTo>
                  <a:pt x="1299" y="1242"/>
                </a:lnTo>
                <a:lnTo>
                  <a:pt x="1156" y="1244"/>
                </a:lnTo>
                <a:lnTo>
                  <a:pt x="1163" y="1196"/>
                </a:lnTo>
                <a:lnTo>
                  <a:pt x="1171" y="1151"/>
                </a:lnTo>
                <a:lnTo>
                  <a:pt x="1179" y="1108"/>
                </a:lnTo>
                <a:lnTo>
                  <a:pt x="1186" y="1067"/>
                </a:lnTo>
                <a:lnTo>
                  <a:pt x="1194" y="1025"/>
                </a:lnTo>
                <a:lnTo>
                  <a:pt x="1202" y="986"/>
                </a:lnTo>
                <a:lnTo>
                  <a:pt x="1207" y="948"/>
                </a:lnTo>
                <a:lnTo>
                  <a:pt x="1215" y="911"/>
                </a:lnTo>
                <a:lnTo>
                  <a:pt x="1222" y="876"/>
                </a:lnTo>
                <a:lnTo>
                  <a:pt x="1228" y="842"/>
                </a:lnTo>
                <a:lnTo>
                  <a:pt x="1233" y="809"/>
                </a:lnTo>
                <a:lnTo>
                  <a:pt x="1239" y="779"/>
                </a:lnTo>
                <a:lnTo>
                  <a:pt x="1245" y="748"/>
                </a:lnTo>
                <a:lnTo>
                  <a:pt x="1251" y="720"/>
                </a:lnTo>
                <a:lnTo>
                  <a:pt x="1255" y="692"/>
                </a:lnTo>
                <a:lnTo>
                  <a:pt x="1261" y="666"/>
                </a:lnTo>
                <a:lnTo>
                  <a:pt x="1265" y="642"/>
                </a:lnTo>
                <a:lnTo>
                  <a:pt x="1269" y="617"/>
                </a:lnTo>
                <a:lnTo>
                  <a:pt x="1274" y="596"/>
                </a:lnTo>
                <a:lnTo>
                  <a:pt x="1276" y="576"/>
                </a:lnTo>
                <a:lnTo>
                  <a:pt x="1281" y="555"/>
                </a:lnTo>
                <a:lnTo>
                  <a:pt x="1284" y="537"/>
                </a:lnTo>
                <a:lnTo>
                  <a:pt x="1287" y="519"/>
                </a:lnTo>
                <a:lnTo>
                  <a:pt x="1289" y="504"/>
                </a:lnTo>
                <a:lnTo>
                  <a:pt x="1292" y="489"/>
                </a:lnTo>
                <a:lnTo>
                  <a:pt x="1294" y="476"/>
                </a:lnTo>
                <a:lnTo>
                  <a:pt x="1295" y="463"/>
                </a:lnTo>
                <a:lnTo>
                  <a:pt x="1297" y="453"/>
                </a:lnTo>
                <a:lnTo>
                  <a:pt x="1298" y="443"/>
                </a:lnTo>
                <a:lnTo>
                  <a:pt x="1299" y="435"/>
                </a:lnTo>
                <a:lnTo>
                  <a:pt x="1299" y="427"/>
                </a:lnTo>
                <a:lnTo>
                  <a:pt x="1299" y="422"/>
                </a:lnTo>
                <a:lnTo>
                  <a:pt x="1299" y="410"/>
                </a:lnTo>
                <a:lnTo>
                  <a:pt x="1299" y="399"/>
                </a:lnTo>
                <a:lnTo>
                  <a:pt x="1299" y="388"/>
                </a:lnTo>
                <a:lnTo>
                  <a:pt x="1299" y="380"/>
                </a:lnTo>
                <a:lnTo>
                  <a:pt x="1299" y="370"/>
                </a:lnTo>
                <a:lnTo>
                  <a:pt x="1298" y="361"/>
                </a:lnTo>
                <a:lnTo>
                  <a:pt x="1298" y="354"/>
                </a:lnTo>
                <a:lnTo>
                  <a:pt x="1297" y="345"/>
                </a:lnTo>
                <a:lnTo>
                  <a:pt x="1297" y="338"/>
                </a:lnTo>
                <a:lnTo>
                  <a:pt x="1295" y="331"/>
                </a:lnTo>
                <a:lnTo>
                  <a:pt x="1294" y="325"/>
                </a:lnTo>
                <a:lnTo>
                  <a:pt x="1292" y="319"/>
                </a:lnTo>
                <a:lnTo>
                  <a:pt x="1289" y="314"/>
                </a:lnTo>
                <a:lnTo>
                  <a:pt x="1288" y="309"/>
                </a:lnTo>
                <a:lnTo>
                  <a:pt x="1285" y="304"/>
                </a:lnTo>
                <a:lnTo>
                  <a:pt x="1282" y="301"/>
                </a:lnTo>
                <a:lnTo>
                  <a:pt x="1279" y="298"/>
                </a:lnTo>
                <a:lnTo>
                  <a:pt x="1276" y="296"/>
                </a:lnTo>
                <a:lnTo>
                  <a:pt x="1272" y="296"/>
                </a:lnTo>
                <a:lnTo>
                  <a:pt x="1268" y="295"/>
                </a:lnTo>
                <a:lnTo>
                  <a:pt x="1261" y="295"/>
                </a:lnTo>
                <a:lnTo>
                  <a:pt x="1255" y="295"/>
                </a:lnTo>
                <a:lnTo>
                  <a:pt x="1246" y="295"/>
                </a:lnTo>
                <a:lnTo>
                  <a:pt x="1238" y="295"/>
                </a:lnTo>
                <a:lnTo>
                  <a:pt x="1228" y="296"/>
                </a:lnTo>
                <a:lnTo>
                  <a:pt x="1217" y="298"/>
                </a:lnTo>
                <a:lnTo>
                  <a:pt x="1204" y="299"/>
                </a:lnTo>
                <a:lnTo>
                  <a:pt x="1193" y="301"/>
                </a:lnTo>
                <a:lnTo>
                  <a:pt x="1179" y="302"/>
                </a:lnTo>
                <a:lnTo>
                  <a:pt x="1164" y="305"/>
                </a:lnTo>
                <a:lnTo>
                  <a:pt x="1148" y="306"/>
                </a:lnTo>
                <a:lnTo>
                  <a:pt x="1132" y="309"/>
                </a:lnTo>
                <a:lnTo>
                  <a:pt x="1115" y="312"/>
                </a:lnTo>
                <a:lnTo>
                  <a:pt x="1097" y="316"/>
                </a:lnTo>
                <a:lnTo>
                  <a:pt x="1078" y="319"/>
                </a:lnTo>
                <a:lnTo>
                  <a:pt x="1056" y="322"/>
                </a:lnTo>
                <a:lnTo>
                  <a:pt x="1036" y="327"/>
                </a:lnTo>
                <a:lnTo>
                  <a:pt x="1013" y="331"/>
                </a:lnTo>
                <a:lnTo>
                  <a:pt x="990" y="335"/>
                </a:lnTo>
                <a:lnTo>
                  <a:pt x="966" y="340"/>
                </a:lnTo>
                <a:lnTo>
                  <a:pt x="941" y="344"/>
                </a:lnTo>
                <a:lnTo>
                  <a:pt x="915" y="348"/>
                </a:lnTo>
                <a:lnTo>
                  <a:pt x="888" y="354"/>
                </a:lnTo>
                <a:lnTo>
                  <a:pt x="860" y="358"/>
                </a:lnTo>
                <a:lnTo>
                  <a:pt x="832" y="364"/>
                </a:lnTo>
                <a:lnTo>
                  <a:pt x="801" y="370"/>
                </a:lnTo>
                <a:lnTo>
                  <a:pt x="771" y="376"/>
                </a:lnTo>
                <a:lnTo>
                  <a:pt x="739" y="381"/>
                </a:lnTo>
                <a:lnTo>
                  <a:pt x="708" y="388"/>
                </a:lnTo>
                <a:lnTo>
                  <a:pt x="678" y="396"/>
                </a:lnTo>
                <a:lnTo>
                  <a:pt x="647" y="403"/>
                </a:lnTo>
                <a:lnTo>
                  <a:pt x="620" y="409"/>
                </a:lnTo>
                <a:lnTo>
                  <a:pt x="591" y="416"/>
                </a:lnTo>
                <a:lnTo>
                  <a:pt x="565" y="422"/>
                </a:lnTo>
                <a:lnTo>
                  <a:pt x="539" y="427"/>
                </a:lnTo>
                <a:lnTo>
                  <a:pt x="515" y="433"/>
                </a:lnTo>
                <a:lnTo>
                  <a:pt x="492" y="439"/>
                </a:lnTo>
                <a:lnTo>
                  <a:pt x="470" y="445"/>
                </a:lnTo>
                <a:lnTo>
                  <a:pt x="449" y="449"/>
                </a:lnTo>
                <a:lnTo>
                  <a:pt x="429" y="455"/>
                </a:lnTo>
                <a:lnTo>
                  <a:pt x="408" y="459"/>
                </a:lnTo>
                <a:lnTo>
                  <a:pt x="390" y="463"/>
                </a:lnTo>
                <a:lnTo>
                  <a:pt x="372" y="468"/>
                </a:lnTo>
                <a:lnTo>
                  <a:pt x="355" y="471"/>
                </a:lnTo>
                <a:lnTo>
                  <a:pt x="341" y="475"/>
                </a:lnTo>
                <a:lnTo>
                  <a:pt x="325" y="478"/>
                </a:lnTo>
                <a:lnTo>
                  <a:pt x="312" y="481"/>
                </a:lnTo>
                <a:lnTo>
                  <a:pt x="299" y="483"/>
                </a:lnTo>
                <a:lnTo>
                  <a:pt x="287" y="486"/>
                </a:lnTo>
                <a:lnTo>
                  <a:pt x="276" y="489"/>
                </a:lnTo>
                <a:lnTo>
                  <a:pt x="266" y="492"/>
                </a:lnTo>
                <a:lnTo>
                  <a:pt x="257" y="494"/>
                </a:lnTo>
                <a:lnTo>
                  <a:pt x="249" y="495"/>
                </a:lnTo>
                <a:lnTo>
                  <a:pt x="241" y="496"/>
                </a:lnTo>
                <a:lnTo>
                  <a:pt x="234" y="498"/>
                </a:lnTo>
                <a:lnTo>
                  <a:pt x="228" y="499"/>
                </a:lnTo>
                <a:lnTo>
                  <a:pt x="224" y="499"/>
                </a:lnTo>
                <a:lnTo>
                  <a:pt x="221" y="501"/>
                </a:lnTo>
                <a:lnTo>
                  <a:pt x="217" y="501"/>
                </a:lnTo>
                <a:lnTo>
                  <a:pt x="215" y="501"/>
                </a:lnTo>
                <a:lnTo>
                  <a:pt x="211" y="501"/>
                </a:lnTo>
                <a:lnTo>
                  <a:pt x="207" y="499"/>
                </a:lnTo>
                <a:lnTo>
                  <a:pt x="203" y="499"/>
                </a:lnTo>
                <a:lnTo>
                  <a:pt x="195" y="496"/>
                </a:lnTo>
                <a:lnTo>
                  <a:pt x="190" y="495"/>
                </a:lnTo>
                <a:lnTo>
                  <a:pt x="182" y="492"/>
                </a:lnTo>
                <a:lnTo>
                  <a:pt x="174" y="489"/>
                </a:lnTo>
                <a:lnTo>
                  <a:pt x="167" y="486"/>
                </a:lnTo>
                <a:lnTo>
                  <a:pt x="158" y="482"/>
                </a:lnTo>
                <a:lnTo>
                  <a:pt x="148" y="478"/>
                </a:lnTo>
                <a:lnTo>
                  <a:pt x="139" y="472"/>
                </a:lnTo>
                <a:lnTo>
                  <a:pt x="129" y="468"/>
                </a:lnTo>
                <a:lnTo>
                  <a:pt x="119" y="460"/>
                </a:lnTo>
                <a:lnTo>
                  <a:pt x="110" y="455"/>
                </a:lnTo>
                <a:lnTo>
                  <a:pt x="100" y="447"/>
                </a:lnTo>
                <a:lnTo>
                  <a:pt x="90" y="440"/>
                </a:lnTo>
                <a:lnTo>
                  <a:pt x="80" y="436"/>
                </a:lnTo>
                <a:lnTo>
                  <a:pt x="70" y="432"/>
                </a:lnTo>
                <a:lnTo>
                  <a:pt x="61" y="427"/>
                </a:lnTo>
                <a:lnTo>
                  <a:pt x="53" y="422"/>
                </a:lnTo>
                <a:lnTo>
                  <a:pt x="44" y="417"/>
                </a:lnTo>
                <a:lnTo>
                  <a:pt x="37" y="411"/>
                </a:lnTo>
                <a:lnTo>
                  <a:pt x="30" y="406"/>
                </a:lnTo>
                <a:lnTo>
                  <a:pt x="24" y="400"/>
                </a:lnTo>
                <a:lnTo>
                  <a:pt x="18" y="394"/>
                </a:lnTo>
                <a:lnTo>
                  <a:pt x="14" y="390"/>
                </a:lnTo>
                <a:lnTo>
                  <a:pt x="10" y="384"/>
                </a:lnTo>
                <a:lnTo>
                  <a:pt x="5" y="378"/>
                </a:lnTo>
                <a:lnTo>
                  <a:pt x="2" y="374"/>
                </a:lnTo>
                <a:lnTo>
                  <a:pt x="1" y="368"/>
                </a:lnTo>
                <a:lnTo>
                  <a:pt x="0" y="364"/>
                </a:lnTo>
                <a:lnTo>
                  <a:pt x="0" y="361"/>
                </a:lnTo>
                <a:lnTo>
                  <a:pt x="0" y="357"/>
                </a:lnTo>
                <a:lnTo>
                  <a:pt x="1" y="354"/>
                </a:lnTo>
                <a:lnTo>
                  <a:pt x="2" y="351"/>
                </a:lnTo>
                <a:lnTo>
                  <a:pt x="5" y="348"/>
                </a:lnTo>
                <a:lnTo>
                  <a:pt x="10" y="347"/>
                </a:lnTo>
                <a:lnTo>
                  <a:pt x="15" y="344"/>
                </a:lnTo>
                <a:lnTo>
                  <a:pt x="21" y="342"/>
                </a:lnTo>
                <a:lnTo>
                  <a:pt x="28" y="341"/>
                </a:lnTo>
                <a:lnTo>
                  <a:pt x="37" y="338"/>
                </a:lnTo>
                <a:lnTo>
                  <a:pt x="46" y="337"/>
                </a:lnTo>
                <a:lnTo>
                  <a:pt x="56" y="335"/>
                </a:lnTo>
                <a:lnTo>
                  <a:pt x="67" y="332"/>
                </a:lnTo>
                <a:lnTo>
                  <a:pt x="80" y="329"/>
                </a:lnTo>
                <a:lnTo>
                  <a:pt x="95" y="327"/>
                </a:lnTo>
                <a:lnTo>
                  <a:pt x="109" y="324"/>
                </a:lnTo>
                <a:lnTo>
                  <a:pt x="126" y="321"/>
                </a:lnTo>
                <a:lnTo>
                  <a:pt x="132" y="319"/>
                </a:lnTo>
                <a:lnTo>
                  <a:pt x="141" y="319"/>
                </a:lnTo>
                <a:lnTo>
                  <a:pt x="149" y="319"/>
                </a:lnTo>
                <a:lnTo>
                  <a:pt x="158" y="318"/>
                </a:lnTo>
                <a:lnTo>
                  <a:pt x="168" y="318"/>
                </a:lnTo>
                <a:lnTo>
                  <a:pt x="179" y="316"/>
                </a:lnTo>
                <a:lnTo>
                  <a:pt x="191" y="315"/>
                </a:lnTo>
                <a:lnTo>
                  <a:pt x="204" y="312"/>
                </a:lnTo>
                <a:lnTo>
                  <a:pt x="217" y="311"/>
                </a:lnTo>
                <a:lnTo>
                  <a:pt x="231" y="309"/>
                </a:lnTo>
                <a:lnTo>
                  <a:pt x="246" y="306"/>
                </a:lnTo>
                <a:lnTo>
                  <a:pt x="262" y="304"/>
                </a:lnTo>
                <a:lnTo>
                  <a:pt x="277" y="301"/>
                </a:lnTo>
                <a:lnTo>
                  <a:pt x="295" y="298"/>
                </a:lnTo>
                <a:lnTo>
                  <a:pt x="312" y="295"/>
                </a:lnTo>
                <a:lnTo>
                  <a:pt x="331" y="291"/>
                </a:lnTo>
                <a:lnTo>
                  <a:pt x="351" y="286"/>
                </a:lnTo>
                <a:lnTo>
                  <a:pt x="371" y="283"/>
                </a:lnTo>
                <a:lnTo>
                  <a:pt x="391" y="279"/>
                </a:lnTo>
                <a:lnTo>
                  <a:pt x="414" y="273"/>
                </a:lnTo>
                <a:lnTo>
                  <a:pt x="436" y="269"/>
                </a:lnTo>
                <a:lnTo>
                  <a:pt x="460" y="265"/>
                </a:lnTo>
                <a:lnTo>
                  <a:pt x="485" y="259"/>
                </a:lnTo>
                <a:lnTo>
                  <a:pt x="509" y="253"/>
                </a:lnTo>
                <a:lnTo>
                  <a:pt x="535" y="247"/>
                </a:lnTo>
                <a:lnTo>
                  <a:pt x="562" y="242"/>
                </a:lnTo>
                <a:lnTo>
                  <a:pt x="590" y="236"/>
                </a:lnTo>
                <a:lnTo>
                  <a:pt x="617" y="229"/>
                </a:lnTo>
                <a:lnTo>
                  <a:pt x="647" y="221"/>
                </a:lnTo>
                <a:lnTo>
                  <a:pt x="678" y="214"/>
                </a:lnTo>
                <a:lnTo>
                  <a:pt x="708" y="207"/>
                </a:lnTo>
                <a:lnTo>
                  <a:pt x="739" y="200"/>
                </a:lnTo>
                <a:lnTo>
                  <a:pt x="770" y="194"/>
                </a:lnTo>
                <a:lnTo>
                  <a:pt x="799" y="188"/>
                </a:lnTo>
                <a:lnTo>
                  <a:pt x="827" y="183"/>
                </a:lnTo>
                <a:lnTo>
                  <a:pt x="855" y="177"/>
                </a:lnTo>
                <a:lnTo>
                  <a:pt x="881" y="171"/>
                </a:lnTo>
                <a:lnTo>
                  <a:pt x="906" y="165"/>
                </a:lnTo>
                <a:lnTo>
                  <a:pt x="932" y="161"/>
                </a:lnTo>
                <a:lnTo>
                  <a:pt x="955" y="155"/>
                </a:lnTo>
                <a:lnTo>
                  <a:pt x="980" y="149"/>
                </a:lnTo>
                <a:lnTo>
                  <a:pt x="1001" y="144"/>
                </a:lnTo>
                <a:lnTo>
                  <a:pt x="1023" y="139"/>
                </a:lnTo>
                <a:lnTo>
                  <a:pt x="1045" y="134"/>
                </a:lnTo>
                <a:lnTo>
                  <a:pt x="1063" y="129"/>
                </a:lnTo>
                <a:lnTo>
                  <a:pt x="1084" y="124"/>
                </a:lnTo>
                <a:lnTo>
                  <a:pt x="1101" y="119"/>
                </a:lnTo>
                <a:lnTo>
                  <a:pt x="1118" y="115"/>
                </a:lnTo>
                <a:lnTo>
                  <a:pt x="1135" y="109"/>
                </a:lnTo>
                <a:lnTo>
                  <a:pt x="1151" y="105"/>
                </a:lnTo>
                <a:lnTo>
                  <a:pt x="1166" y="101"/>
                </a:lnTo>
                <a:lnTo>
                  <a:pt x="1180" y="96"/>
                </a:lnTo>
                <a:lnTo>
                  <a:pt x="1193" y="92"/>
                </a:lnTo>
                <a:lnTo>
                  <a:pt x="1206" y="89"/>
                </a:lnTo>
                <a:lnTo>
                  <a:pt x="1216" y="85"/>
                </a:lnTo>
                <a:lnTo>
                  <a:pt x="1228" y="82"/>
                </a:lnTo>
                <a:lnTo>
                  <a:pt x="1238" y="78"/>
                </a:lnTo>
                <a:lnTo>
                  <a:pt x="1246" y="75"/>
                </a:lnTo>
                <a:lnTo>
                  <a:pt x="1253" y="72"/>
                </a:lnTo>
                <a:lnTo>
                  <a:pt x="1261" y="69"/>
                </a:lnTo>
                <a:lnTo>
                  <a:pt x="1268" y="66"/>
                </a:lnTo>
                <a:lnTo>
                  <a:pt x="1274" y="63"/>
                </a:lnTo>
                <a:lnTo>
                  <a:pt x="1278" y="62"/>
                </a:lnTo>
                <a:lnTo>
                  <a:pt x="1282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81"/>
          <p:cNvSpPr/>
          <p:nvPr/>
        </p:nvSpPr>
        <p:spPr>
          <a:xfrm>
            <a:off x="6289560" y="2798640"/>
            <a:ext cx="722520" cy="2089440"/>
          </a:xfrm>
          <a:custGeom>
            <a:avLst/>
            <a:gdLst/>
            <a:ahLst/>
            <a:rect l="l" t="t" r="r" b="b"/>
            <a:pathLst>
              <a:path w="1364" h="3949">
                <a:moveTo>
                  <a:pt x="743" y="3419"/>
                </a:moveTo>
                <a:lnTo>
                  <a:pt x="729" y="3438"/>
                </a:lnTo>
                <a:lnTo>
                  <a:pt x="713" y="3457"/>
                </a:lnTo>
                <a:lnTo>
                  <a:pt x="699" y="3474"/>
                </a:lnTo>
                <a:lnTo>
                  <a:pt x="683" y="3493"/>
                </a:lnTo>
                <a:lnTo>
                  <a:pt x="668" y="3510"/>
                </a:lnTo>
                <a:lnTo>
                  <a:pt x="652" y="3526"/>
                </a:lnTo>
                <a:lnTo>
                  <a:pt x="637" y="3543"/>
                </a:lnTo>
                <a:lnTo>
                  <a:pt x="622" y="3559"/>
                </a:lnTo>
                <a:lnTo>
                  <a:pt x="606" y="3575"/>
                </a:lnTo>
                <a:lnTo>
                  <a:pt x="592" y="3590"/>
                </a:lnTo>
                <a:lnTo>
                  <a:pt x="576" y="3605"/>
                </a:lnTo>
                <a:lnTo>
                  <a:pt x="560" y="3619"/>
                </a:lnTo>
                <a:lnTo>
                  <a:pt x="546" y="3634"/>
                </a:lnTo>
                <a:lnTo>
                  <a:pt x="530" y="3648"/>
                </a:lnTo>
                <a:lnTo>
                  <a:pt x="500" y="3675"/>
                </a:lnTo>
                <a:lnTo>
                  <a:pt x="470" y="3700"/>
                </a:lnTo>
                <a:lnTo>
                  <a:pt x="438" y="3724"/>
                </a:lnTo>
                <a:lnTo>
                  <a:pt x="408" y="3747"/>
                </a:lnTo>
                <a:lnTo>
                  <a:pt x="378" y="3769"/>
                </a:lnTo>
                <a:lnTo>
                  <a:pt x="347" y="3789"/>
                </a:lnTo>
                <a:lnTo>
                  <a:pt x="316" y="3806"/>
                </a:lnTo>
                <a:lnTo>
                  <a:pt x="285" y="3824"/>
                </a:lnTo>
                <a:lnTo>
                  <a:pt x="255" y="3841"/>
                </a:lnTo>
                <a:lnTo>
                  <a:pt x="241" y="3850"/>
                </a:lnTo>
                <a:lnTo>
                  <a:pt x="226" y="3858"/>
                </a:lnTo>
                <a:lnTo>
                  <a:pt x="212" y="3867"/>
                </a:lnTo>
                <a:lnTo>
                  <a:pt x="199" y="3874"/>
                </a:lnTo>
                <a:lnTo>
                  <a:pt x="186" y="3883"/>
                </a:lnTo>
                <a:lnTo>
                  <a:pt x="173" y="3890"/>
                </a:lnTo>
                <a:lnTo>
                  <a:pt x="162" y="3896"/>
                </a:lnTo>
                <a:lnTo>
                  <a:pt x="150" y="3901"/>
                </a:lnTo>
                <a:lnTo>
                  <a:pt x="139" y="3907"/>
                </a:lnTo>
                <a:lnTo>
                  <a:pt x="128" y="3913"/>
                </a:lnTo>
                <a:lnTo>
                  <a:pt x="118" y="3917"/>
                </a:lnTo>
                <a:lnTo>
                  <a:pt x="110" y="3923"/>
                </a:lnTo>
                <a:lnTo>
                  <a:pt x="100" y="3926"/>
                </a:lnTo>
                <a:lnTo>
                  <a:pt x="91" y="3930"/>
                </a:lnTo>
                <a:lnTo>
                  <a:pt x="82" y="3933"/>
                </a:lnTo>
                <a:lnTo>
                  <a:pt x="75" y="3936"/>
                </a:lnTo>
                <a:lnTo>
                  <a:pt x="68" y="3939"/>
                </a:lnTo>
                <a:lnTo>
                  <a:pt x="61" y="3942"/>
                </a:lnTo>
                <a:lnTo>
                  <a:pt x="54" y="3943"/>
                </a:lnTo>
                <a:lnTo>
                  <a:pt x="48" y="3945"/>
                </a:lnTo>
                <a:lnTo>
                  <a:pt x="42" y="3946"/>
                </a:lnTo>
                <a:lnTo>
                  <a:pt x="36" y="3947"/>
                </a:lnTo>
                <a:lnTo>
                  <a:pt x="32" y="3947"/>
                </a:lnTo>
                <a:lnTo>
                  <a:pt x="26" y="3947"/>
                </a:lnTo>
                <a:lnTo>
                  <a:pt x="22" y="3949"/>
                </a:lnTo>
                <a:lnTo>
                  <a:pt x="19" y="3947"/>
                </a:lnTo>
                <a:lnTo>
                  <a:pt x="15" y="3947"/>
                </a:lnTo>
                <a:lnTo>
                  <a:pt x="12" y="3946"/>
                </a:lnTo>
                <a:lnTo>
                  <a:pt x="6" y="3945"/>
                </a:lnTo>
                <a:lnTo>
                  <a:pt x="3" y="3942"/>
                </a:lnTo>
                <a:lnTo>
                  <a:pt x="2" y="3939"/>
                </a:lnTo>
                <a:lnTo>
                  <a:pt x="0" y="3936"/>
                </a:lnTo>
                <a:lnTo>
                  <a:pt x="0" y="3934"/>
                </a:lnTo>
                <a:lnTo>
                  <a:pt x="0" y="3930"/>
                </a:lnTo>
                <a:lnTo>
                  <a:pt x="2" y="3927"/>
                </a:lnTo>
                <a:lnTo>
                  <a:pt x="3" y="3923"/>
                </a:lnTo>
                <a:lnTo>
                  <a:pt x="6" y="3919"/>
                </a:lnTo>
                <a:lnTo>
                  <a:pt x="9" y="3914"/>
                </a:lnTo>
                <a:lnTo>
                  <a:pt x="12" y="3910"/>
                </a:lnTo>
                <a:lnTo>
                  <a:pt x="16" y="3904"/>
                </a:lnTo>
                <a:lnTo>
                  <a:pt x="21" y="3900"/>
                </a:lnTo>
                <a:lnTo>
                  <a:pt x="26" y="3893"/>
                </a:lnTo>
                <a:lnTo>
                  <a:pt x="32" y="3887"/>
                </a:lnTo>
                <a:lnTo>
                  <a:pt x="38" y="3881"/>
                </a:lnTo>
                <a:lnTo>
                  <a:pt x="45" y="3874"/>
                </a:lnTo>
                <a:lnTo>
                  <a:pt x="52" y="3867"/>
                </a:lnTo>
                <a:lnTo>
                  <a:pt x="61" y="3858"/>
                </a:lnTo>
                <a:lnTo>
                  <a:pt x="69" y="3851"/>
                </a:lnTo>
                <a:lnTo>
                  <a:pt x="78" y="3842"/>
                </a:lnTo>
                <a:lnTo>
                  <a:pt x="87" y="3834"/>
                </a:lnTo>
                <a:lnTo>
                  <a:pt x="97" y="3825"/>
                </a:lnTo>
                <a:lnTo>
                  <a:pt x="108" y="3815"/>
                </a:lnTo>
                <a:lnTo>
                  <a:pt x="118" y="3805"/>
                </a:lnTo>
                <a:lnTo>
                  <a:pt x="130" y="3795"/>
                </a:lnTo>
                <a:lnTo>
                  <a:pt x="141" y="3785"/>
                </a:lnTo>
                <a:lnTo>
                  <a:pt x="154" y="3773"/>
                </a:lnTo>
                <a:lnTo>
                  <a:pt x="167" y="3762"/>
                </a:lnTo>
                <a:lnTo>
                  <a:pt x="180" y="3750"/>
                </a:lnTo>
                <a:lnTo>
                  <a:pt x="193" y="3739"/>
                </a:lnTo>
                <a:lnTo>
                  <a:pt x="208" y="3726"/>
                </a:lnTo>
                <a:lnTo>
                  <a:pt x="222" y="3713"/>
                </a:lnTo>
                <a:lnTo>
                  <a:pt x="238" y="3700"/>
                </a:lnTo>
                <a:lnTo>
                  <a:pt x="267" y="3672"/>
                </a:lnTo>
                <a:lnTo>
                  <a:pt x="297" y="3645"/>
                </a:lnTo>
                <a:lnTo>
                  <a:pt x="326" y="3616"/>
                </a:lnTo>
                <a:lnTo>
                  <a:pt x="356" y="3586"/>
                </a:lnTo>
                <a:lnTo>
                  <a:pt x="385" y="3556"/>
                </a:lnTo>
                <a:lnTo>
                  <a:pt x="412" y="3524"/>
                </a:lnTo>
                <a:lnTo>
                  <a:pt x="441" y="3493"/>
                </a:lnTo>
                <a:lnTo>
                  <a:pt x="468" y="3459"/>
                </a:lnTo>
                <a:lnTo>
                  <a:pt x="494" y="3425"/>
                </a:lnTo>
                <a:lnTo>
                  <a:pt x="521" y="3390"/>
                </a:lnTo>
                <a:lnTo>
                  <a:pt x="547" y="3354"/>
                </a:lnTo>
                <a:lnTo>
                  <a:pt x="573" y="3317"/>
                </a:lnTo>
                <a:lnTo>
                  <a:pt x="598" y="3278"/>
                </a:lnTo>
                <a:lnTo>
                  <a:pt x="622" y="3239"/>
                </a:lnTo>
                <a:lnTo>
                  <a:pt x="647" y="3200"/>
                </a:lnTo>
                <a:lnTo>
                  <a:pt x="671" y="3159"/>
                </a:lnTo>
                <a:lnTo>
                  <a:pt x="683" y="3137"/>
                </a:lnTo>
                <a:lnTo>
                  <a:pt x="693" y="3115"/>
                </a:lnTo>
                <a:lnTo>
                  <a:pt x="704" y="3094"/>
                </a:lnTo>
                <a:lnTo>
                  <a:pt x="716" y="3072"/>
                </a:lnTo>
                <a:lnTo>
                  <a:pt x="727" y="3049"/>
                </a:lnTo>
                <a:lnTo>
                  <a:pt x="737" y="3025"/>
                </a:lnTo>
                <a:lnTo>
                  <a:pt x="748" y="3002"/>
                </a:lnTo>
                <a:lnTo>
                  <a:pt x="758" y="2977"/>
                </a:lnTo>
                <a:lnTo>
                  <a:pt x="769" y="2953"/>
                </a:lnTo>
                <a:lnTo>
                  <a:pt x="778" y="2927"/>
                </a:lnTo>
                <a:lnTo>
                  <a:pt x="788" y="2901"/>
                </a:lnTo>
                <a:lnTo>
                  <a:pt x="798" y="2875"/>
                </a:lnTo>
                <a:lnTo>
                  <a:pt x="808" y="2848"/>
                </a:lnTo>
                <a:lnTo>
                  <a:pt x="817" y="2820"/>
                </a:lnTo>
                <a:lnTo>
                  <a:pt x="827" y="2793"/>
                </a:lnTo>
                <a:lnTo>
                  <a:pt x="835" y="2764"/>
                </a:lnTo>
                <a:lnTo>
                  <a:pt x="844" y="2735"/>
                </a:lnTo>
                <a:lnTo>
                  <a:pt x="853" y="2705"/>
                </a:lnTo>
                <a:lnTo>
                  <a:pt x="861" y="2676"/>
                </a:lnTo>
                <a:lnTo>
                  <a:pt x="870" y="2645"/>
                </a:lnTo>
                <a:lnTo>
                  <a:pt x="879" y="2614"/>
                </a:lnTo>
                <a:lnTo>
                  <a:pt x="886" y="2583"/>
                </a:lnTo>
                <a:lnTo>
                  <a:pt x="894" y="2550"/>
                </a:lnTo>
                <a:lnTo>
                  <a:pt x="902" y="2518"/>
                </a:lnTo>
                <a:lnTo>
                  <a:pt x="910" y="2485"/>
                </a:lnTo>
                <a:lnTo>
                  <a:pt x="917" y="2450"/>
                </a:lnTo>
                <a:lnTo>
                  <a:pt x="925" y="2416"/>
                </a:lnTo>
                <a:lnTo>
                  <a:pt x="932" y="2381"/>
                </a:lnTo>
                <a:lnTo>
                  <a:pt x="939" y="2345"/>
                </a:lnTo>
                <a:lnTo>
                  <a:pt x="946" y="2309"/>
                </a:lnTo>
                <a:lnTo>
                  <a:pt x="953" y="2272"/>
                </a:lnTo>
                <a:lnTo>
                  <a:pt x="961" y="2236"/>
                </a:lnTo>
                <a:lnTo>
                  <a:pt x="979" y="2083"/>
                </a:lnTo>
                <a:lnTo>
                  <a:pt x="997" y="1928"/>
                </a:lnTo>
                <a:lnTo>
                  <a:pt x="1011" y="1768"/>
                </a:lnTo>
                <a:lnTo>
                  <a:pt x="1024" y="1607"/>
                </a:lnTo>
                <a:lnTo>
                  <a:pt x="1035" y="1441"/>
                </a:lnTo>
                <a:lnTo>
                  <a:pt x="1043" y="1274"/>
                </a:lnTo>
                <a:lnTo>
                  <a:pt x="1048" y="1104"/>
                </a:lnTo>
                <a:lnTo>
                  <a:pt x="1050" y="931"/>
                </a:lnTo>
                <a:lnTo>
                  <a:pt x="1050" y="888"/>
                </a:lnTo>
                <a:lnTo>
                  <a:pt x="1050" y="848"/>
                </a:lnTo>
                <a:lnTo>
                  <a:pt x="1050" y="808"/>
                </a:lnTo>
                <a:lnTo>
                  <a:pt x="1048" y="769"/>
                </a:lnTo>
                <a:lnTo>
                  <a:pt x="1048" y="731"/>
                </a:lnTo>
                <a:lnTo>
                  <a:pt x="1048" y="695"/>
                </a:lnTo>
                <a:lnTo>
                  <a:pt x="1047" y="659"/>
                </a:lnTo>
                <a:lnTo>
                  <a:pt x="1046" y="626"/>
                </a:lnTo>
                <a:lnTo>
                  <a:pt x="1046" y="593"/>
                </a:lnTo>
                <a:lnTo>
                  <a:pt x="1044" y="561"/>
                </a:lnTo>
                <a:lnTo>
                  <a:pt x="1043" y="533"/>
                </a:lnTo>
                <a:lnTo>
                  <a:pt x="1041" y="502"/>
                </a:lnTo>
                <a:lnTo>
                  <a:pt x="1040" y="475"/>
                </a:lnTo>
                <a:lnTo>
                  <a:pt x="1038" y="449"/>
                </a:lnTo>
                <a:lnTo>
                  <a:pt x="1035" y="423"/>
                </a:lnTo>
                <a:lnTo>
                  <a:pt x="1034" y="400"/>
                </a:lnTo>
                <a:lnTo>
                  <a:pt x="1031" y="377"/>
                </a:lnTo>
                <a:lnTo>
                  <a:pt x="1030" y="356"/>
                </a:lnTo>
                <a:lnTo>
                  <a:pt x="1027" y="334"/>
                </a:lnTo>
                <a:lnTo>
                  <a:pt x="1024" y="315"/>
                </a:lnTo>
                <a:lnTo>
                  <a:pt x="1021" y="297"/>
                </a:lnTo>
                <a:lnTo>
                  <a:pt x="1018" y="279"/>
                </a:lnTo>
                <a:lnTo>
                  <a:pt x="1015" y="263"/>
                </a:lnTo>
                <a:lnTo>
                  <a:pt x="1011" y="249"/>
                </a:lnTo>
                <a:lnTo>
                  <a:pt x="1008" y="235"/>
                </a:lnTo>
                <a:lnTo>
                  <a:pt x="1004" y="222"/>
                </a:lnTo>
                <a:lnTo>
                  <a:pt x="1001" y="210"/>
                </a:lnTo>
                <a:lnTo>
                  <a:pt x="997" y="200"/>
                </a:lnTo>
                <a:lnTo>
                  <a:pt x="992" y="190"/>
                </a:lnTo>
                <a:lnTo>
                  <a:pt x="988" y="181"/>
                </a:lnTo>
                <a:lnTo>
                  <a:pt x="982" y="174"/>
                </a:lnTo>
                <a:lnTo>
                  <a:pt x="978" y="168"/>
                </a:lnTo>
                <a:lnTo>
                  <a:pt x="968" y="157"/>
                </a:lnTo>
                <a:lnTo>
                  <a:pt x="959" y="147"/>
                </a:lnTo>
                <a:lnTo>
                  <a:pt x="952" y="137"/>
                </a:lnTo>
                <a:lnTo>
                  <a:pt x="945" y="127"/>
                </a:lnTo>
                <a:lnTo>
                  <a:pt x="938" y="117"/>
                </a:lnTo>
                <a:lnTo>
                  <a:pt x="932" y="108"/>
                </a:lnTo>
                <a:lnTo>
                  <a:pt x="927" y="99"/>
                </a:lnTo>
                <a:lnTo>
                  <a:pt x="925" y="91"/>
                </a:lnTo>
                <a:lnTo>
                  <a:pt x="920" y="82"/>
                </a:lnTo>
                <a:lnTo>
                  <a:pt x="919" y="75"/>
                </a:lnTo>
                <a:lnTo>
                  <a:pt x="917" y="66"/>
                </a:lnTo>
                <a:lnTo>
                  <a:pt x="917" y="59"/>
                </a:lnTo>
                <a:lnTo>
                  <a:pt x="917" y="50"/>
                </a:lnTo>
                <a:lnTo>
                  <a:pt x="919" y="43"/>
                </a:lnTo>
                <a:lnTo>
                  <a:pt x="920" y="36"/>
                </a:lnTo>
                <a:lnTo>
                  <a:pt x="925" y="29"/>
                </a:lnTo>
                <a:lnTo>
                  <a:pt x="927" y="22"/>
                </a:lnTo>
                <a:lnTo>
                  <a:pt x="933" y="14"/>
                </a:lnTo>
                <a:lnTo>
                  <a:pt x="939" y="10"/>
                </a:lnTo>
                <a:lnTo>
                  <a:pt x="948" y="6"/>
                </a:lnTo>
                <a:lnTo>
                  <a:pt x="956" y="3"/>
                </a:lnTo>
                <a:lnTo>
                  <a:pt x="966" y="0"/>
                </a:lnTo>
                <a:lnTo>
                  <a:pt x="978" y="0"/>
                </a:lnTo>
                <a:lnTo>
                  <a:pt x="991" y="0"/>
                </a:lnTo>
                <a:lnTo>
                  <a:pt x="1005" y="1"/>
                </a:lnTo>
                <a:lnTo>
                  <a:pt x="1021" y="4"/>
                </a:lnTo>
                <a:lnTo>
                  <a:pt x="1038" y="9"/>
                </a:lnTo>
                <a:lnTo>
                  <a:pt x="1056" y="13"/>
                </a:lnTo>
                <a:lnTo>
                  <a:pt x="1076" y="20"/>
                </a:lnTo>
                <a:lnTo>
                  <a:pt x="1096" y="29"/>
                </a:lnTo>
                <a:lnTo>
                  <a:pt x="1117" y="37"/>
                </a:lnTo>
                <a:lnTo>
                  <a:pt x="1129" y="43"/>
                </a:lnTo>
                <a:lnTo>
                  <a:pt x="1141" y="49"/>
                </a:lnTo>
                <a:lnTo>
                  <a:pt x="1164" y="59"/>
                </a:lnTo>
                <a:lnTo>
                  <a:pt x="1185" y="71"/>
                </a:lnTo>
                <a:lnTo>
                  <a:pt x="1205" y="81"/>
                </a:lnTo>
                <a:lnTo>
                  <a:pt x="1225" y="91"/>
                </a:lnTo>
                <a:lnTo>
                  <a:pt x="1243" y="99"/>
                </a:lnTo>
                <a:lnTo>
                  <a:pt x="1260" y="109"/>
                </a:lnTo>
                <a:lnTo>
                  <a:pt x="1276" y="118"/>
                </a:lnTo>
                <a:lnTo>
                  <a:pt x="1289" y="127"/>
                </a:lnTo>
                <a:lnTo>
                  <a:pt x="1302" y="134"/>
                </a:lnTo>
                <a:lnTo>
                  <a:pt x="1313" y="143"/>
                </a:lnTo>
                <a:lnTo>
                  <a:pt x="1325" y="151"/>
                </a:lnTo>
                <a:lnTo>
                  <a:pt x="1333" y="158"/>
                </a:lnTo>
                <a:lnTo>
                  <a:pt x="1341" y="166"/>
                </a:lnTo>
                <a:lnTo>
                  <a:pt x="1348" y="174"/>
                </a:lnTo>
                <a:lnTo>
                  <a:pt x="1354" y="181"/>
                </a:lnTo>
                <a:lnTo>
                  <a:pt x="1358" y="189"/>
                </a:lnTo>
                <a:lnTo>
                  <a:pt x="1359" y="200"/>
                </a:lnTo>
                <a:lnTo>
                  <a:pt x="1362" y="212"/>
                </a:lnTo>
                <a:lnTo>
                  <a:pt x="1364" y="223"/>
                </a:lnTo>
                <a:lnTo>
                  <a:pt x="1364" y="233"/>
                </a:lnTo>
                <a:lnTo>
                  <a:pt x="1364" y="245"/>
                </a:lnTo>
                <a:lnTo>
                  <a:pt x="1364" y="256"/>
                </a:lnTo>
                <a:lnTo>
                  <a:pt x="1362" y="268"/>
                </a:lnTo>
                <a:lnTo>
                  <a:pt x="1361" y="279"/>
                </a:lnTo>
                <a:lnTo>
                  <a:pt x="1359" y="291"/>
                </a:lnTo>
                <a:lnTo>
                  <a:pt x="1356" y="301"/>
                </a:lnTo>
                <a:lnTo>
                  <a:pt x="1352" y="324"/>
                </a:lnTo>
                <a:lnTo>
                  <a:pt x="1345" y="347"/>
                </a:lnTo>
                <a:lnTo>
                  <a:pt x="1339" y="370"/>
                </a:lnTo>
                <a:lnTo>
                  <a:pt x="1338" y="376"/>
                </a:lnTo>
                <a:lnTo>
                  <a:pt x="1336" y="383"/>
                </a:lnTo>
                <a:lnTo>
                  <a:pt x="1333" y="393"/>
                </a:lnTo>
                <a:lnTo>
                  <a:pt x="1332" y="403"/>
                </a:lnTo>
                <a:lnTo>
                  <a:pt x="1331" y="415"/>
                </a:lnTo>
                <a:lnTo>
                  <a:pt x="1329" y="429"/>
                </a:lnTo>
                <a:lnTo>
                  <a:pt x="1328" y="443"/>
                </a:lnTo>
                <a:lnTo>
                  <a:pt x="1326" y="459"/>
                </a:lnTo>
                <a:lnTo>
                  <a:pt x="1323" y="478"/>
                </a:lnTo>
                <a:lnTo>
                  <a:pt x="1322" y="497"/>
                </a:lnTo>
                <a:lnTo>
                  <a:pt x="1320" y="517"/>
                </a:lnTo>
                <a:lnTo>
                  <a:pt x="1319" y="538"/>
                </a:lnTo>
                <a:lnTo>
                  <a:pt x="1318" y="561"/>
                </a:lnTo>
                <a:lnTo>
                  <a:pt x="1315" y="587"/>
                </a:lnTo>
                <a:lnTo>
                  <a:pt x="1313" y="613"/>
                </a:lnTo>
                <a:lnTo>
                  <a:pt x="1312" y="641"/>
                </a:lnTo>
                <a:lnTo>
                  <a:pt x="1310" y="669"/>
                </a:lnTo>
                <a:lnTo>
                  <a:pt x="1309" y="700"/>
                </a:lnTo>
                <a:lnTo>
                  <a:pt x="1306" y="731"/>
                </a:lnTo>
                <a:lnTo>
                  <a:pt x="1305" y="764"/>
                </a:lnTo>
                <a:lnTo>
                  <a:pt x="1303" y="799"/>
                </a:lnTo>
                <a:lnTo>
                  <a:pt x="1302" y="835"/>
                </a:lnTo>
                <a:lnTo>
                  <a:pt x="1300" y="872"/>
                </a:lnTo>
                <a:lnTo>
                  <a:pt x="1297" y="911"/>
                </a:lnTo>
                <a:lnTo>
                  <a:pt x="1296" y="952"/>
                </a:lnTo>
                <a:lnTo>
                  <a:pt x="1295" y="993"/>
                </a:lnTo>
                <a:lnTo>
                  <a:pt x="1293" y="1037"/>
                </a:lnTo>
                <a:lnTo>
                  <a:pt x="1292" y="1080"/>
                </a:lnTo>
                <a:lnTo>
                  <a:pt x="1290" y="1126"/>
                </a:lnTo>
                <a:lnTo>
                  <a:pt x="1287" y="1173"/>
                </a:lnTo>
                <a:lnTo>
                  <a:pt x="1286" y="1222"/>
                </a:lnTo>
                <a:lnTo>
                  <a:pt x="1284" y="1273"/>
                </a:lnTo>
                <a:lnTo>
                  <a:pt x="1280" y="1372"/>
                </a:lnTo>
                <a:lnTo>
                  <a:pt x="1276" y="1470"/>
                </a:lnTo>
                <a:lnTo>
                  <a:pt x="1270" y="1566"/>
                </a:lnTo>
                <a:lnTo>
                  <a:pt x="1264" y="1660"/>
                </a:lnTo>
                <a:lnTo>
                  <a:pt x="1257" y="1751"/>
                </a:lnTo>
                <a:lnTo>
                  <a:pt x="1248" y="1840"/>
                </a:lnTo>
                <a:lnTo>
                  <a:pt x="1240" y="1926"/>
                </a:lnTo>
                <a:lnTo>
                  <a:pt x="1230" y="2010"/>
                </a:lnTo>
                <a:lnTo>
                  <a:pt x="1220" y="2092"/>
                </a:lnTo>
                <a:lnTo>
                  <a:pt x="1208" y="2171"/>
                </a:lnTo>
                <a:lnTo>
                  <a:pt x="1195" y="2247"/>
                </a:lnTo>
                <a:lnTo>
                  <a:pt x="1182" y="2322"/>
                </a:lnTo>
                <a:lnTo>
                  <a:pt x="1169" y="2394"/>
                </a:lnTo>
                <a:lnTo>
                  <a:pt x="1155" y="2463"/>
                </a:lnTo>
                <a:lnTo>
                  <a:pt x="1139" y="2531"/>
                </a:lnTo>
                <a:lnTo>
                  <a:pt x="1123" y="2597"/>
                </a:lnTo>
                <a:lnTo>
                  <a:pt x="1115" y="2629"/>
                </a:lnTo>
                <a:lnTo>
                  <a:pt x="1106" y="2660"/>
                </a:lnTo>
                <a:lnTo>
                  <a:pt x="1096" y="2691"/>
                </a:lnTo>
                <a:lnTo>
                  <a:pt x="1087" y="2722"/>
                </a:lnTo>
                <a:lnTo>
                  <a:pt x="1077" y="2753"/>
                </a:lnTo>
                <a:lnTo>
                  <a:pt x="1069" y="2781"/>
                </a:lnTo>
                <a:lnTo>
                  <a:pt x="1058" y="2812"/>
                </a:lnTo>
                <a:lnTo>
                  <a:pt x="1048" y="2840"/>
                </a:lnTo>
                <a:lnTo>
                  <a:pt x="1038" y="2869"/>
                </a:lnTo>
                <a:lnTo>
                  <a:pt x="1027" y="2898"/>
                </a:lnTo>
                <a:lnTo>
                  <a:pt x="1017" y="2925"/>
                </a:lnTo>
                <a:lnTo>
                  <a:pt x="1005" y="2954"/>
                </a:lnTo>
                <a:lnTo>
                  <a:pt x="995" y="2981"/>
                </a:lnTo>
                <a:lnTo>
                  <a:pt x="984" y="3007"/>
                </a:lnTo>
                <a:lnTo>
                  <a:pt x="972" y="3035"/>
                </a:lnTo>
                <a:lnTo>
                  <a:pt x="959" y="3061"/>
                </a:lnTo>
                <a:lnTo>
                  <a:pt x="948" y="3085"/>
                </a:lnTo>
                <a:lnTo>
                  <a:pt x="935" y="3111"/>
                </a:lnTo>
                <a:lnTo>
                  <a:pt x="923" y="3135"/>
                </a:lnTo>
                <a:lnTo>
                  <a:pt x="910" y="3160"/>
                </a:lnTo>
                <a:lnTo>
                  <a:pt x="897" y="3184"/>
                </a:lnTo>
                <a:lnTo>
                  <a:pt x="884" y="3207"/>
                </a:lnTo>
                <a:lnTo>
                  <a:pt x="871" y="3231"/>
                </a:lnTo>
                <a:lnTo>
                  <a:pt x="858" y="3254"/>
                </a:lnTo>
                <a:lnTo>
                  <a:pt x="844" y="3275"/>
                </a:lnTo>
                <a:lnTo>
                  <a:pt x="830" y="3297"/>
                </a:lnTo>
                <a:lnTo>
                  <a:pt x="817" y="3318"/>
                </a:lnTo>
                <a:lnTo>
                  <a:pt x="802" y="3340"/>
                </a:lnTo>
                <a:lnTo>
                  <a:pt x="788" y="3360"/>
                </a:lnTo>
                <a:lnTo>
                  <a:pt x="773" y="3380"/>
                </a:lnTo>
                <a:lnTo>
                  <a:pt x="758" y="3400"/>
                </a:lnTo>
                <a:lnTo>
                  <a:pt x="743" y="34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82"/>
          <p:cNvSpPr/>
          <p:nvPr/>
        </p:nvSpPr>
        <p:spPr>
          <a:xfrm>
            <a:off x="6845400" y="4013280"/>
            <a:ext cx="993600" cy="877680"/>
          </a:xfrm>
          <a:custGeom>
            <a:avLst/>
            <a:gdLst/>
            <a:ahLst/>
            <a:rect l="l" t="t" r="r" b="b"/>
            <a:pathLst>
              <a:path w="1878" h="1660">
                <a:moveTo>
                  <a:pt x="1175" y="1646"/>
                </a:moveTo>
                <a:lnTo>
                  <a:pt x="1157" y="1641"/>
                </a:lnTo>
                <a:lnTo>
                  <a:pt x="1141" y="1637"/>
                </a:lnTo>
                <a:lnTo>
                  <a:pt x="1126" y="1633"/>
                </a:lnTo>
                <a:lnTo>
                  <a:pt x="1110" y="1630"/>
                </a:lnTo>
                <a:lnTo>
                  <a:pt x="1095" y="1626"/>
                </a:lnTo>
                <a:lnTo>
                  <a:pt x="1081" y="1623"/>
                </a:lnTo>
                <a:lnTo>
                  <a:pt x="1067" y="1618"/>
                </a:lnTo>
                <a:lnTo>
                  <a:pt x="1054" y="1614"/>
                </a:lnTo>
                <a:lnTo>
                  <a:pt x="1042" y="1611"/>
                </a:lnTo>
                <a:lnTo>
                  <a:pt x="1031" y="1607"/>
                </a:lnTo>
                <a:lnTo>
                  <a:pt x="1019" y="1604"/>
                </a:lnTo>
                <a:lnTo>
                  <a:pt x="1009" y="1600"/>
                </a:lnTo>
                <a:lnTo>
                  <a:pt x="999" y="1595"/>
                </a:lnTo>
                <a:lnTo>
                  <a:pt x="990" y="1592"/>
                </a:lnTo>
                <a:lnTo>
                  <a:pt x="982" y="1588"/>
                </a:lnTo>
                <a:lnTo>
                  <a:pt x="976" y="1585"/>
                </a:lnTo>
                <a:lnTo>
                  <a:pt x="970" y="1582"/>
                </a:lnTo>
                <a:lnTo>
                  <a:pt x="964" y="1579"/>
                </a:lnTo>
                <a:lnTo>
                  <a:pt x="960" y="1577"/>
                </a:lnTo>
                <a:lnTo>
                  <a:pt x="954" y="1574"/>
                </a:lnTo>
                <a:lnTo>
                  <a:pt x="948" y="1571"/>
                </a:lnTo>
                <a:lnTo>
                  <a:pt x="943" y="1566"/>
                </a:lnTo>
                <a:lnTo>
                  <a:pt x="937" y="1562"/>
                </a:lnTo>
                <a:lnTo>
                  <a:pt x="930" y="1558"/>
                </a:lnTo>
                <a:lnTo>
                  <a:pt x="924" y="1552"/>
                </a:lnTo>
                <a:lnTo>
                  <a:pt x="918" y="1546"/>
                </a:lnTo>
                <a:lnTo>
                  <a:pt x="911" y="1541"/>
                </a:lnTo>
                <a:lnTo>
                  <a:pt x="904" y="1535"/>
                </a:lnTo>
                <a:lnTo>
                  <a:pt x="897" y="1528"/>
                </a:lnTo>
                <a:lnTo>
                  <a:pt x="891" y="1520"/>
                </a:lnTo>
                <a:lnTo>
                  <a:pt x="882" y="1513"/>
                </a:lnTo>
                <a:lnTo>
                  <a:pt x="875" y="1505"/>
                </a:lnTo>
                <a:lnTo>
                  <a:pt x="868" y="1496"/>
                </a:lnTo>
                <a:lnTo>
                  <a:pt x="859" y="1487"/>
                </a:lnTo>
                <a:lnTo>
                  <a:pt x="852" y="1477"/>
                </a:lnTo>
                <a:lnTo>
                  <a:pt x="843" y="1467"/>
                </a:lnTo>
                <a:lnTo>
                  <a:pt x="835" y="1457"/>
                </a:lnTo>
                <a:lnTo>
                  <a:pt x="826" y="1446"/>
                </a:lnTo>
                <a:lnTo>
                  <a:pt x="816" y="1434"/>
                </a:lnTo>
                <a:lnTo>
                  <a:pt x="807" y="1421"/>
                </a:lnTo>
                <a:lnTo>
                  <a:pt x="797" y="1408"/>
                </a:lnTo>
                <a:lnTo>
                  <a:pt x="787" y="1395"/>
                </a:lnTo>
                <a:lnTo>
                  <a:pt x="777" y="1381"/>
                </a:lnTo>
                <a:lnTo>
                  <a:pt x="767" y="1368"/>
                </a:lnTo>
                <a:lnTo>
                  <a:pt x="756" y="1352"/>
                </a:lnTo>
                <a:lnTo>
                  <a:pt x="746" y="1336"/>
                </a:lnTo>
                <a:lnTo>
                  <a:pt x="734" y="1320"/>
                </a:lnTo>
                <a:lnTo>
                  <a:pt x="722" y="1304"/>
                </a:lnTo>
                <a:lnTo>
                  <a:pt x="711" y="1286"/>
                </a:lnTo>
                <a:lnTo>
                  <a:pt x="698" y="1267"/>
                </a:lnTo>
                <a:lnTo>
                  <a:pt x="684" y="1247"/>
                </a:lnTo>
                <a:lnTo>
                  <a:pt x="669" y="1227"/>
                </a:lnTo>
                <a:lnTo>
                  <a:pt x="655" y="1204"/>
                </a:lnTo>
                <a:lnTo>
                  <a:pt x="638" y="1181"/>
                </a:lnTo>
                <a:lnTo>
                  <a:pt x="622" y="1156"/>
                </a:lnTo>
                <a:lnTo>
                  <a:pt x="604" y="1130"/>
                </a:lnTo>
                <a:lnTo>
                  <a:pt x="586" y="1103"/>
                </a:lnTo>
                <a:lnTo>
                  <a:pt x="567" y="1074"/>
                </a:lnTo>
                <a:lnTo>
                  <a:pt x="548" y="1045"/>
                </a:lnTo>
                <a:lnTo>
                  <a:pt x="528" y="1014"/>
                </a:lnTo>
                <a:lnTo>
                  <a:pt x="507" y="982"/>
                </a:lnTo>
                <a:lnTo>
                  <a:pt x="485" y="949"/>
                </a:lnTo>
                <a:lnTo>
                  <a:pt x="463" y="914"/>
                </a:lnTo>
                <a:lnTo>
                  <a:pt x="440" y="878"/>
                </a:lnTo>
                <a:lnTo>
                  <a:pt x="417" y="841"/>
                </a:lnTo>
                <a:lnTo>
                  <a:pt x="393" y="802"/>
                </a:lnTo>
                <a:lnTo>
                  <a:pt x="368" y="762"/>
                </a:lnTo>
                <a:lnTo>
                  <a:pt x="344" y="721"/>
                </a:lnTo>
                <a:lnTo>
                  <a:pt x="318" y="678"/>
                </a:lnTo>
                <a:lnTo>
                  <a:pt x="292" y="635"/>
                </a:lnTo>
                <a:lnTo>
                  <a:pt x="265" y="589"/>
                </a:lnTo>
                <a:lnTo>
                  <a:pt x="237" y="543"/>
                </a:lnTo>
                <a:lnTo>
                  <a:pt x="210" y="495"/>
                </a:lnTo>
                <a:lnTo>
                  <a:pt x="181" y="445"/>
                </a:lnTo>
                <a:lnTo>
                  <a:pt x="152" y="395"/>
                </a:lnTo>
                <a:lnTo>
                  <a:pt x="122" y="343"/>
                </a:lnTo>
                <a:lnTo>
                  <a:pt x="93" y="290"/>
                </a:lnTo>
                <a:lnTo>
                  <a:pt x="62" y="233"/>
                </a:lnTo>
                <a:lnTo>
                  <a:pt x="31" y="177"/>
                </a:lnTo>
                <a:lnTo>
                  <a:pt x="0" y="120"/>
                </a:lnTo>
                <a:lnTo>
                  <a:pt x="19" y="89"/>
                </a:lnTo>
                <a:lnTo>
                  <a:pt x="36" y="59"/>
                </a:lnTo>
                <a:lnTo>
                  <a:pt x="55" y="29"/>
                </a:lnTo>
                <a:lnTo>
                  <a:pt x="73" y="0"/>
                </a:lnTo>
                <a:lnTo>
                  <a:pt x="80" y="13"/>
                </a:lnTo>
                <a:lnTo>
                  <a:pt x="91" y="28"/>
                </a:lnTo>
                <a:lnTo>
                  <a:pt x="99" y="41"/>
                </a:lnTo>
                <a:lnTo>
                  <a:pt x="109" y="56"/>
                </a:lnTo>
                <a:lnTo>
                  <a:pt x="119" y="71"/>
                </a:lnTo>
                <a:lnTo>
                  <a:pt x="131" y="87"/>
                </a:lnTo>
                <a:lnTo>
                  <a:pt x="142" y="104"/>
                </a:lnTo>
                <a:lnTo>
                  <a:pt x="154" y="120"/>
                </a:lnTo>
                <a:lnTo>
                  <a:pt x="165" y="137"/>
                </a:lnTo>
                <a:lnTo>
                  <a:pt x="178" y="154"/>
                </a:lnTo>
                <a:lnTo>
                  <a:pt x="191" y="173"/>
                </a:lnTo>
                <a:lnTo>
                  <a:pt x="206" y="190"/>
                </a:lnTo>
                <a:lnTo>
                  <a:pt x="220" y="210"/>
                </a:lnTo>
                <a:lnTo>
                  <a:pt x="234" y="229"/>
                </a:lnTo>
                <a:lnTo>
                  <a:pt x="249" y="249"/>
                </a:lnTo>
                <a:lnTo>
                  <a:pt x="265" y="269"/>
                </a:lnTo>
                <a:lnTo>
                  <a:pt x="281" y="291"/>
                </a:lnTo>
                <a:lnTo>
                  <a:pt x="298" y="311"/>
                </a:lnTo>
                <a:lnTo>
                  <a:pt x="314" y="334"/>
                </a:lnTo>
                <a:lnTo>
                  <a:pt x="331" y="356"/>
                </a:lnTo>
                <a:lnTo>
                  <a:pt x="350" y="379"/>
                </a:lnTo>
                <a:lnTo>
                  <a:pt x="368" y="402"/>
                </a:lnTo>
                <a:lnTo>
                  <a:pt x="387" y="426"/>
                </a:lnTo>
                <a:lnTo>
                  <a:pt x="406" y="449"/>
                </a:lnTo>
                <a:lnTo>
                  <a:pt x="426" y="475"/>
                </a:lnTo>
                <a:lnTo>
                  <a:pt x="446" y="500"/>
                </a:lnTo>
                <a:lnTo>
                  <a:pt x="466" y="526"/>
                </a:lnTo>
                <a:lnTo>
                  <a:pt x="488" y="552"/>
                </a:lnTo>
                <a:lnTo>
                  <a:pt x="509" y="579"/>
                </a:lnTo>
                <a:lnTo>
                  <a:pt x="532" y="606"/>
                </a:lnTo>
                <a:lnTo>
                  <a:pt x="554" y="634"/>
                </a:lnTo>
                <a:lnTo>
                  <a:pt x="579" y="662"/>
                </a:lnTo>
                <a:lnTo>
                  <a:pt x="602" y="690"/>
                </a:lnTo>
                <a:lnTo>
                  <a:pt x="625" y="717"/>
                </a:lnTo>
                <a:lnTo>
                  <a:pt x="649" y="744"/>
                </a:lnTo>
                <a:lnTo>
                  <a:pt x="674" y="772"/>
                </a:lnTo>
                <a:lnTo>
                  <a:pt x="698" y="798"/>
                </a:lnTo>
                <a:lnTo>
                  <a:pt x="722" y="824"/>
                </a:lnTo>
                <a:lnTo>
                  <a:pt x="747" y="848"/>
                </a:lnTo>
                <a:lnTo>
                  <a:pt x="773" y="873"/>
                </a:lnTo>
                <a:lnTo>
                  <a:pt x="799" y="897"/>
                </a:lnTo>
                <a:lnTo>
                  <a:pt x="823" y="920"/>
                </a:lnTo>
                <a:lnTo>
                  <a:pt x="849" y="945"/>
                </a:lnTo>
                <a:lnTo>
                  <a:pt x="875" y="966"/>
                </a:lnTo>
                <a:lnTo>
                  <a:pt x="901" y="989"/>
                </a:lnTo>
                <a:lnTo>
                  <a:pt x="928" y="1011"/>
                </a:lnTo>
                <a:lnTo>
                  <a:pt x="954" y="1032"/>
                </a:lnTo>
                <a:lnTo>
                  <a:pt x="982" y="1053"/>
                </a:lnTo>
                <a:lnTo>
                  <a:pt x="1008" y="1073"/>
                </a:lnTo>
                <a:lnTo>
                  <a:pt x="1035" y="1093"/>
                </a:lnTo>
                <a:lnTo>
                  <a:pt x="1062" y="1113"/>
                </a:lnTo>
                <a:lnTo>
                  <a:pt x="1090" y="1132"/>
                </a:lnTo>
                <a:lnTo>
                  <a:pt x="1117" y="1150"/>
                </a:lnTo>
                <a:lnTo>
                  <a:pt x="1144" y="1168"/>
                </a:lnTo>
                <a:lnTo>
                  <a:pt x="1172" y="1185"/>
                </a:lnTo>
                <a:lnTo>
                  <a:pt x="1200" y="1202"/>
                </a:lnTo>
                <a:lnTo>
                  <a:pt x="1228" y="1220"/>
                </a:lnTo>
                <a:lnTo>
                  <a:pt x="1257" y="1235"/>
                </a:lnTo>
                <a:lnTo>
                  <a:pt x="1284" y="1251"/>
                </a:lnTo>
                <a:lnTo>
                  <a:pt x="1313" y="1267"/>
                </a:lnTo>
                <a:lnTo>
                  <a:pt x="1341" y="1281"/>
                </a:lnTo>
                <a:lnTo>
                  <a:pt x="1369" y="1296"/>
                </a:lnTo>
                <a:lnTo>
                  <a:pt x="1398" y="1310"/>
                </a:lnTo>
                <a:lnTo>
                  <a:pt x="1426" y="1325"/>
                </a:lnTo>
                <a:lnTo>
                  <a:pt x="1455" y="1339"/>
                </a:lnTo>
                <a:lnTo>
                  <a:pt x="1483" y="1353"/>
                </a:lnTo>
                <a:lnTo>
                  <a:pt x="1508" y="1368"/>
                </a:lnTo>
                <a:lnTo>
                  <a:pt x="1534" y="1381"/>
                </a:lnTo>
                <a:lnTo>
                  <a:pt x="1559" y="1394"/>
                </a:lnTo>
                <a:lnTo>
                  <a:pt x="1582" y="1407"/>
                </a:lnTo>
                <a:lnTo>
                  <a:pt x="1605" y="1418"/>
                </a:lnTo>
                <a:lnTo>
                  <a:pt x="1627" y="1431"/>
                </a:lnTo>
                <a:lnTo>
                  <a:pt x="1647" y="1441"/>
                </a:lnTo>
                <a:lnTo>
                  <a:pt x="1667" y="1453"/>
                </a:lnTo>
                <a:lnTo>
                  <a:pt x="1686" y="1463"/>
                </a:lnTo>
                <a:lnTo>
                  <a:pt x="1704" y="1473"/>
                </a:lnTo>
                <a:lnTo>
                  <a:pt x="1722" y="1482"/>
                </a:lnTo>
                <a:lnTo>
                  <a:pt x="1737" y="1492"/>
                </a:lnTo>
                <a:lnTo>
                  <a:pt x="1752" y="1499"/>
                </a:lnTo>
                <a:lnTo>
                  <a:pt x="1766" y="1507"/>
                </a:lnTo>
                <a:lnTo>
                  <a:pt x="1781" y="1516"/>
                </a:lnTo>
                <a:lnTo>
                  <a:pt x="1794" y="1523"/>
                </a:lnTo>
                <a:lnTo>
                  <a:pt x="1805" y="1529"/>
                </a:lnTo>
                <a:lnTo>
                  <a:pt x="1815" y="1536"/>
                </a:lnTo>
                <a:lnTo>
                  <a:pt x="1825" y="1542"/>
                </a:lnTo>
                <a:lnTo>
                  <a:pt x="1835" y="1548"/>
                </a:lnTo>
                <a:lnTo>
                  <a:pt x="1842" y="1554"/>
                </a:lnTo>
                <a:lnTo>
                  <a:pt x="1850" y="1558"/>
                </a:lnTo>
                <a:lnTo>
                  <a:pt x="1857" y="1562"/>
                </a:lnTo>
                <a:lnTo>
                  <a:pt x="1863" y="1566"/>
                </a:lnTo>
                <a:lnTo>
                  <a:pt x="1867" y="1571"/>
                </a:lnTo>
                <a:lnTo>
                  <a:pt x="1871" y="1574"/>
                </a:lnTo>
                <a:lnTo>
                  <a:pt x="1874" y="1578"/>
                </a:lnTo>
                <a:lnTo>
                  <a:pt x="1876" y="1579"/>
                </a:lnTo>
                <a:lnTo>
                  <a:pt x="1877" y="1582"/>
                </a:lnTo>
                <a:lnTo>
                  <a:pt x="1878" y="1585"/>
                </a:lnTo>
                <a:lnTo>
                  <a:pt x="1877" y="1587"/>
                </a:lnTo>
                <a:lnTo>
                  <a:pt x="1877" y="1588"/>
                </a:lnTo>
                <a:lnTo>
                  <a:pt x="1876" y="1590"/>
                </a:lnTo>
                <a:lnTo>
                  <a:pt x="1874" y="1592"/>
                </a:lnTo>
                <a:lnTo>
                  <a:pt x="1871" y="1594"/>
                </a:lnTo>
                <a:lnTo>
                  <a:pt x="1868" y="1595"/>
                </a:lnTo>
                <a:lnTo>
                  <a:pt x="1865" y="1598"/>
                </a:lnTo>
                <a:lnTo>
                  <a:pt x="1861" y="1600"/>
                </a:lnTo>
                <a:lnTo>
                  <a:pt x="1857" y="1601"/>
                </a:lnTo>
                <a:lnTo>
                  <a:pt x="1851" y="1604"/>
                </a:lnTo>
                <a:lnTo>
                  <a:pt x="1845" y="1605"/>
                </a:lnTo>
                <a:lnTo>
                  <a:pt x="1840" y="1607"/>
                </a:lnTo>
                <a:lnTo>
                  <a:pt x="1834" y="1608"/>
                </a:lnTo>
                <a:lnTo>
                  <a:pt x="1827" y="1611"/>
                </a:lnTo>
                <a:lnTo>
                  <a:pt x="1818" y="1613"/>
                </a:lnTo>
                <a:lnTo>
                  <a:pt x="1811" y="1614"/>
                </a:lnTo>
                <a:lnTo>
                  <a:pt x="1802" y="1617"/>
                </a:lnTo>
                <a:lnTo>
                  <a:pt x="1792" y="1618"/>
                </a:lnTo>
                <a:lnTo>
                  <a:pt x="1782" y="1620"/>
                </a:lnTo>
                <a:lnTo>
                  <a:pt x="1772" y="1623"/>
                </a:lnTo>
                <a:lnTo>
                  <a:pt x="1762" y="1624"/>
                </a:lnTo>
                <a:lnTo>
                  <a:pt x="1750" y="1626"/>
                </a:lnTo>
                <a:lnTo>
                  <a:pt x="1737" y="1627"/>
                </a:lnTo>
                <a:lnTo>
                  <a:pt x="1726" y="1630"/>
                </a:lnTo>
                <a:lnTo>
                  <a:pt x="1713" y="1631"/>
                </a:lnTo>
                <a:lnTo>
                  <a:pt x="1699" y="1633"/>
                </a:lnTo>
                <a:lnTo>
                  <a:pt x="1686" y="1636"/>
                </a:lnTo>
                <a:lnTo>
                  <a:pt x="1671" y="1637"/>
                </a:lnTo>
                <a:lnTo>
                  <a:pt x="1655" y="1638"/>
                </a:lnTo>
                <a:lnTo>
                  <a:pt x="1639" y="1641"/>
                </a:lnTo>
                <a:lnTo>
                  <a:pt x="1624" y="1643"/>
                </a:lnTo>
                <a:lnTo>
                  <a:pt x="1608" y="1646"/>
                </a:lnTo>
                <a:lnTo>
                  <a:pt x="1573" y="1649"/>
                </a:lnTo>
                <a:lnTo>
                  <a:pt x="1542" y="1651"/>
                </a:lnTo>
                <a:lnTo>
                  <a:pt x="1510" y="1654"/>
                </a:lnTo>
                <a:lnTo>
                  <a:pt x="1478" y="1656"/>
                </a:lnTo>
                <a:lnTo>
                  <a:pt x="1448" y="1659"/>
                </a:lnTo>
                <a:lnTo>
                  <a:pt x="1419" y="1659"/>
                </a:lnTo>
                <a:lnTo>
                  <a:pt x="1390" y="1660"/>
                </a:lnTo>
                <a:lnTo>
                  <a:pt x="1363" y="1660"/>
                </a:lnTo>
                <a:lnTo>
                  <a:pt x="1337" y="1660"/>
                </a:lnTo>
                <a:lnTo>
                  <a:pt x="1311" y="1659"/>
                </a:lnTo>
                <a:lnTo>
                  <a:pt x="1285" y="1659"/>
                </a:lnTo>
                <a:lnTo>
                  <a:pt x="1262" y="1656"/>
                </a:lnTo>
                <a:lnTo>
                  <a:pt x="1238" y="1654"/>
                </a:lnTo>
                <a:lnTo>
                  <a:pt x="1216" y="1651"/>
                </a:lnTo>
                <a:lnTo>
                  <a:pt x="1195" y="1649"/>
                </a:lnTo>
                <a:lnTo>
                  <a:pt x="1175" y="16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83"/>
          <p:cNvSpPr/>
          <p:nvPr/>
        </p:nvSpPr>
        <p:spPr>
          <a:xfrm>
            <a:off x="6340320" y="3843360"/>
            <a:ext cx="1451160" cy="297000"/>
          </a:xfrm>
          <a:custGeom>
            <a:avLst/>
            <a:gdLst/>
            <a:ahLst/>
            <a:rect l="l" t="t" r="r" b="b"/>
            <a:pathLst>
              <a:path w="2744" h="562">
                <a:moveTo>
                  <a:pt x="2744" y="241"/>
                </a:moveTo>
                <a:lnTo>
                  <a:pt x="2744" y="243"/>
                </a:lnTo>
                <a:lnTo>
                  <a:pt x="2742" y="248"/>
                </a:lnTo>
                <a:lnTo>
                  <a:pt x="2741" y="251"/>
                </a:lnTo>
                <a:lnTo>
                  <a:pt x="2738" y="254"/>
                </a:lnTo>
                <a:lnTo>
                  <a:pt x="2735" y="258"/>
                </a:lnTo>
                <a:lnTo>
                  <a:pt x="2731" y="261"/>
                </a:lnTo>
                <a:lnTo>
                  <a:pt x="2725" y="264"/>
                </a:lnTo>
                <a:lnTo>
                  <a:pt x="2719" y="266"/>
                </a:lnTo>
                <a:lnTo>
                  <a:pt x="2714" y="269"/>
                </a:lnTo>
                <a:lnTo>
                  <a:pt x="2706" y="272"/>
                </a:lnTo>
                <a:lnTo>
                  <a:pt x="2698" y="274"/>
                </a:lnTo>
                <a:lnTo>
                  <a:pt x="2689" y="277"/>
                </a:lnTo>
                <a:lnTo>
                  <a:pt x="2680" y="279"/>
                </a:lnTo>
                <a:lnTo>
                  <a:pt x="2669" y="281"/>
                </a:lnTo>
                <a:lnTo>
                  <a:pt x="2659" y="284"/>
                </a:lnTo>
                <a:lnTo>
                  <a:pt x="2647" y="285"/>
                </a:lnTo>
                <a:lnTo>
                  <a:pt x="2634" y="287"/>
                </a:lnTo>
                <a:lnTo>
                  <a:pt x="2620" y="288"/>
                </a:lnTo>
                <a:lnTo>
                  <a:pt x="2606" y="291"/>
                </a:lnTo>
                <a:lnTo>
                  <a:pt x="2591" y="292"/>
                </a:lnTo>
                <a:lnTo>
                  <a:pt x="2575" y="294"/>
                </a:lnTo>
                <a:lnTo>
                  <a:pt x="2558" y="294"/>
                </a:lnTo>
                <a:lnTo>
                  <a:pt x="2541" y="295"/>
                </a:lnTo>
                <a:lnTo>
                  <a:pt x="2522" y="297"/>
                </a:lnTo>
                <a:lnTo>
                  <a:pt x="2503" y="298"/>
                </a:lnTo>
                <a:lnTo>
                  <a:pt x="2483" y="298"/>
                </a:lnTo>
                <a:lnTo>
                  <a:pt x="2463" y="298"/>
                </a:lnTo>
                <a:lnTo>
                  <a:pt x="2441" y="300"/>
                </a:lnTo>
                <a:lnTo>
                  <a:pt x="2418" y="300"/>
                </a:lnTo>
                <a:lnTo>
                  <a:pt x="2395" y="300"/>
                </a:lnTo>
                <a:lnTo>
                  <a:pt x="2371" y="300"/>
                </a:lnTo>
                <a:lnTo>
                  <a:pt x="2346" y="301"/>
                </a:lnTo>
                <a:lnTo>
                  <a:pt x="2295" y="301"/>
                </a:lnTo>
                <a:lnTo>
                  <a:pt x="2243" y="301"/>
                </a:lnTo>
                <a:lnTo>
                  <a:pt x="2191" y="302"/>
                </a:lnTo>
                <a:lnTo>
                  <a:pt x="2136" y="304"/>
                </a:lnTo>
                <a:lnTo>
                  <a:pt x="2082" y="307"/>
                </a:lnTo>
                <a:lnTo>
                  <a:pt x="2027" y="308"/>
                </a:lnTo>
                <a:lnTo>
                  <a:pt x="1971" y="311"/>
                </a:lnTo>
                <a:lnTo>
                  <a:pt x="1913" y="315"/>
                </a:lnTo>
                <a:lnTo>
                  <a:pt x="1856" y="320"/>
                </a:lnTo>
                <a:lnTo>
                  <a:pt x="1797" y="324"/>
                </a:lnTo>
                <a:lnTo>
                  <a:pt x="1736" y="328"/>
                </a:lnTo>
                <a:lnTo>
                  <a:pt x="1676" y="334"/>
                </a:lnTo>
                <a:lnTo>
                  <a:pt x="1615" y="340"/>
                </a:lnTo>
                <a:lnTo>
                  <a:pt x="1552" y="347"/>
                </a:lnTo>
                <a:lnTo>
                  <a:pt x="1488" y="353"/>
                </a:lnTo>
                <a:lnTo>
                  <a:pt x="1425" y="362"/>
                </a:lnTo>
                <a:lnTo>
                  <a:pt x="1393" y="364"/>
                </a:lnTo>
                <a:lnTo>
                  <a:pt x="1362" y="369"/>
                </a:lnTo>
                <a:lnTo>
                  <a:pt x="1330" y="372"/>
                </a:lnTo>
                <a:lnTo>
                  <a:pt x="1300" y="376"/>
                </a:lnTo>
                <a:lnTo>
                  <a:pt x="1270" y="380"/>
                </a:lnTo>
                <a:lnTo>
                  <a:pt x="1239" y="383"/>
                </a:lnTo>
                <a:lnTo>
                  <a:pt x="1211" y="387"/>
                </a:lnTo>
                <a:lnTo>
                  <a:pt x="1182" y="392"/>
                </a:lnTo>
                <a:lnTo>
                  <a:pt x="1153" y="395"/>
                </a:lnTo>
                <a:lnTo>
                  <a:pt x="1124" y="399"/>
                </a:lnTo>
                <a:lnTo>
                  <a:pt x="1097" y="402"/>
                </a:lnTo>
                <a:lnTo>
                  <a:pt x="1070" y="406"/>
                </a:lnTo>
                <a:lnTo>
                  <a:pt x="1042" y="410"/>
                </a:lnTo>
                <a:lnTo>
                  <a:pt x="1015" y="413"/>
                </a:lnTo>
                <a:lnTo>
                  <a:pt x="989" y="418"/>
                </a:lnTo>
                <a:lnTo>
                  <a:pt x="963" y="421"/>
                </a:lnTo>
                <a:lnTo>
                  <a:pt x="937" y="425"/>
                </a:lnTo>
                <a:lnTo>
                  <a:pt x="911" y="428"/>
                </a:lnTo>
                <a:lnTo>
                  <a:pt x="887" y="432"/>
                </a:lnTo>
                <a:lnTo>
                  <a:pt x="862" y="436"/>
                </a:lnTo>
                <a:lnTo>
                  <a:pt x="815" y="444"/>
                </a:lnTo>
                <a:lnTo>
                  <a:pt x="767" y="451"/>
                </a:lnTo>
                <a:lnTo>
                  <a:pt x="723" y="458"/>
                </a:lnTo>
                <a:lnTo>
                  <a:pt x="678" y="465"/>
                </a:lnTo>
                <a:lnTo>
                  <a:pt x="636" y="474"/>
                </a:lnTo>
                <a:lnTo>
                  <a:pt x="594" y="481"/>
                </a:lnTo>
                <a:lnTo>
                  <a:pt x="574" y="487"/>
                </a:lnTo>
                <a:lnTo>
                  <a:pt x="556" y="493"/>
                </a:lnTo>
                <a:lnTo>
                  <a:pt x="535" y="497"/>
                </a:lnTo>
                <a:lnTo>
                  <a:pt x="518" y="503"/>
                </a:lnTo>
                <a:lnTo>
                  <a:pt x="499" y="507"/>
                </a:lnTo>
                <a:lnTo>
                  <a:pt x="482" y="511"/>
                </a:lnTo>
                <a:lnTo>
                  <a:pt x="466" y="516"/>
                </a:lnTo>
                <a:lnTo>
                  <a:pt x="449" y="520"/>
                </a:lnTo>
                <a:lnTo>
                  <a:pt x="433" y="523"/>
                </a:lnTo>
                <a:lnTo>
                  <a:pt x="419" y="527"/>
                </a:lnTo>
                <a:lnTo>
                  <a:pt x="404" y="530"/>
                </a:lnTo>
                <a:lnTo>
                  <a:pt x="390" y="533"/>
                </a:lnTo>
                <a:lnTo>
                  <a:pt x="377" y="536"/>
                </a:lnTo>
                <a:lnTo>
                  <a:pt x="364" y="539"/>
                </a:lnTo>
                <a:lnTo>
                  <a:pt x="351" y="541"/>
                </a:lnTo>
                <a:lnTo>
                  <a:pt x="340" y="544"/>
                </a:lnTo>
                <a:lnTo>
                  <a:pt x="328" y="546"/>
                </a:lnTo>
                <a:lnTo>
                  <a:pt x="318" y="549"/>
                </a:lnTo>
                <a:lnTo>
                  <a:pt x="308" y="550"/>
                </a:lnTo>
                <a:lnTo>
                  <a:pt x="299" y="552"/>
                </a:lnTo>
                <a:lnTo>
                  <a:pt x="291" y="553"/>
                </a:lnTo>
                <a:lnTo>
                  <a:pt x="282" y="554"/>
                </a:lnTo>
                <a:lnTo>
                  <a:pt x="275" y="556"/>
                </a:lnTo>
                <a:lnTo>
                  <a:pt x="268" y="557"/>
                </a:lnTo>
                <a:lnTo>
                  <a:pt x="261" y="557"/>
                </a:lnTo>
                <a:lnTo>
                  <a:pt x="255" y="559"/>
                </a:lnTo>
                <a:lnTo>
                  <a:pt x="250" y="560"/>
                </a:lnTo>
                <a:lnTo>
                  <a:pt x="246" y="560"/>
                </a:lnTo>
                <a:lnTo>
                  <a:pt x="242" y="560"/>
                </a:lnTo>
                <a:lnTo>
                  <a:pt x="239" y="560"/>
                </a:lnTo>
                <a:lnTo>
                  <a:pt x="236" y="560"/>
                </a:lnTo>
                <a:lnTo>
                  <a:pt x="235" y="562"/>
                </a:lnTo>
                <a:lnTo>
                  <a:pt x="230" y="560"/>
                </a:lnTo>
                <a:lnTo>
                  <a:pt x="226" y="560"/>
                </a:lnTo>
                <a:lnTo>
                  <a:pt x="220" y="559"/>
                </a:lnTo>
                <a:lnTo>
                  <a:pt x="214" y="557"/>
                </a:lnTo>
                <a:lnTo>
                  <a:pt x="207" y="554"/>
                </a:lnTo>
                <a:lnTo>
                  <a:pt x="200" y="552"/>
                </a:lnTo>
                <a:lnTo>
                  <a:pt x="191" y="549"/>
                </a:lnTo>
                <a:lnTo>
                  <a:pt x="184" y="544"/>
                </a:lnTo>
                <a:lnTo>
                  <a:pt x="176" y="539"/>
                </a:lnTo>
                <a:lnTo>
                  <a:pt x="165" y="533"/>
                </a:lnTo>
                <a:lnTo>
                  <a:pt x="157" y="527"/>
                </a:lnTo>
                <a:lnTo>
                  <a:pt x="147" y="518"/>
                </a:lnTo>
                <a:lnTo>
                  <a:pt x="137" y="511"/>
                </a:lnTo>
                <a:lnTo>
                  <a:pt x="127" y="501"/>
                </a:lnTo>
                <a:lnTo>
                  <a:pt x="117" y="493"/>
                </a:lnTo>
                <a:lnTo>
                  <a:pt x="108" y="481"/>
                </a:lnTo>
                <a:lnTo>
                  <a:pt x="95" y="469"/>
                </a:lnTo>
                <a:lnTo>
                  <a:pt x="82" y="459"/>
                </a:lnTo>
                <a:lnTo>
                  <a:pt x="70" y="449"/>
                </a:lnTo>
                <a:lnTo>
                  <a:pt x="60" y="439"/>
                </a:lnTo>
                <a:lnTo>
                  <a:pt x="50" y="431"/>
                </a:lnTo>
                <a:lnTo>
                  <a:pt x="42" y="422"/>
                </a:lnTo>
                <a:lnTo>
                  <a:pt x="33" y="413"/>
                </a:lnTo>
                <a:lnTo>
                  <a:pt x="26" y="406"/>
                </a:lnTo>
                <a:lnTo>
                  <a:pt x="20" y="399"/>
                </a:lnTo>
                <a:lnTo>
                  <a:pt x="14" y="392"/>
                </a:lnTo>
                <a:lnTo>
                  <a:pt x="10" y="386"/>
                </a:lnTo>
                <a:lnTo>
                  <a:pt x="6" y="379"/>
                </a:lnTo>
                <a:lnTo>
                  <a:pt x="3" y="374"/>
                </a:lnTo>
                <a:lnTo>
                  <a:pt x="1" y="369"/>
                </a:lnTo>
                <a:lnTo>
                  <a:pt x="0" y="364"/>
                </a:lnTo>
                <a:lnTo>
                  <a:pt x="0" y="362"/>
                </a:lnTo>
                <a:lnTo>
                  <a:pt x="4" y="360"/>
                </a:lnTo>
                <a:lnTo>
                  <a:pt x="10" y="360"/>
                </a:lnTo>
                <a:lnTo>
                  <a:pt x="16" y="360"/>
                </a:lnTo>
                <a:lnTo>
                  <a:pt x="23" y="360"/>
                </a:lnTo>
                <a:lnTo>
                  <a:pt x="30" y="360"/>
                </a:lnTo>
                <a:lnTo>
                  <a:pt x="37" y="359"/>
                </a:lnTo>
                <a:lnTo>
                  <a:pt x="45" y="359"/>
                </a:lnTo>
                <a:lnTo>
                  <a:pt x="53" y="357"/>
                </a:lnTo>
                <a:lnTo>
                  <a:pt x="62" y="357"/>
                </a:lnTo>
                <a:lnTo>
                  <a:pt x="70" y="356"/>
                </a:lnTo>
                <a:lnTo>
                  <a:pt x="81" y="354"/>
                </a:lnTo>
                <a:lnTo>
                  <a:pt x="91" y="353"/>
                </a:lnTo>
                <a:lnTo>
                  <a:pt x="101" y="353"/>
                </a:lnTo>
                <a:lnTo>
                  <a:pt x="111" y="351"/>
                </a:lnTo>
                <a:lnTo>
                  <a:pt x="122" y="350"/>
                </a:lnTo>
                <a:lnTo>
                  <a:pt x="134" y="349"/>
                </a:lnTo>
                <a:lnTo>
                  <a:pt x="147" y="347"/>
                </a:lnTo>
                <a:lnTo>
                  <a:pt x="158" y="346"/>
                </a:lnTo>
                <a:lnTo>
                  <a:pt x="171" y="344"/>
                </a:lnTo>
                <a:lnTo>
                  <a:pt x="186" y="343"/>
                </a:lnTo>
                <a:lnTo>
                  <a:pt x="199" y="340"/>
                </a:lnTo>
                <a:lnTo>
                  <a:pt x="213" y="338"/>
                </a:lnTo>
                <a:lnTo>
                  <a:pt x="227" y="337"/>
                </a:lnTo>
                <a:lnTo>
                  <a:pt x="242" y="336"/>
                </a:lnTo>
                <a:lnTo>
                  <a:pt x="258" y="334"/>
                </a:lnTo>
                <a:lnTo>
                  <a:pt x="273" y="331"/>
                </a:lnTo>
                <a:lnTo>
                  <a:pt x="291" y="330"/>
                </a:lnTo>
                <a:lnTo>
                  <a:pt x="307" y="328"/>
                </a:lnTo>
                <a:lnTo>
                  <a:pt x="324" y="326"/>
                </a:lnTo>
                <a:lnTo>
                  <a:pt x="341" y="324"/>
                </a:lnTo>
                <a:lnTo>
                  <a:pt x="360" y="323"/>
                </a:lnTo>
                <a:lnTo>
                  <a:pt x="379" y="321"/>
                </a:lnTo>
                <a:lnTo>
                  <a:pt x="416" y="317"/>
                </a:lnTo>
                <a:lnTo>
                  <a:pt x="455" y="313"/>
                </a:lnTo>
                <a:lnTo>
                  <a:pt x="495" y="307"/>
                </a:lnTo>
                <a:lnTo>
                  <a:pt x="537" y="302"/>
                </a:lnTo>
                <a:lnTo>
                  <a:pt x="580" y="297"/>
                </a:lnTo>
                <a:lnTo>
                  <a:pt x="625" y="290"/>
                </a:lnTo>
                <a:lnTo>
                  <a:pt x="648" y="287"/>
                </a:lnTo>
                <a:lnTo>
                  <a:pt x="671" y="282"/>
                </a:lnTo>
                <a:lnTo>
                  <a:pt x="695" y="279"/>
                </a:lnTo>
                <a:lnTo>
                  <a:pt x="718" y="275"/>
                </a:lnTo>
                <a:lnTo>
                  <a:pt x="743" y="272"/>
                </a:lnTo>
                <a:lnTo>
                  <a:pt x="769" y="268"/>
                </a:lnTo>
                <a:lnTo>
                  <a:pt x="793" y="264"/>
                </a:lnTo>
                <a:lnTo>
                  <a:pt x="819" y="259"/>
                </a:lnTo>
                <a:lnTo>
                  <a:pt x="845" y="255"/>
                </a:lnTo>
                <a:lnTo>
                  <a:pt x="871" y="251"/>
                </a:lnTo>
                <a:lnTo>
                  <a:pt x="897" y="246"/>
                </a:lnTo>
                <a:lnTo>
                  <a:pt x="924" y="242"/>
                </a:lnTo>
                <a:lnTo>
                  <a:pt x="952" y="238"/>
                </a:lnTo>
                <a:lnTo>
                  <a:pt x="979" y="232"/>
                </a:lnTo>
                <a:lnTo>
                  <a:pt x="1008" y="228"/>
                </a:lnTo>
                <a:lnTo>
                  <a:pt x="1036" y="222"/>
                </a:lnTo>
                <a:lnTo>
                  <a:pt x="1065" y="218"/>
                </a:lnTo>
                <a:lnTo>
                  <a:pt x="1094" y="212"/>
                </a:lnTo>
                <a:lnTo>
                  <a:pt x="1124" y="206"/>
                </a:lnTo>
                <a:lnTo>
                  <a:pt x="1154" y="200"/>
                </a:lnTo>
                <a:lnTo>
                  <a:pt x="1215" y="193"/>
                </a:lnTo>
                <a:lnTo>
                  <a:pt x="1274" y="184"/>
                </a:lnTo>
                <a:lnTo>
                  <a:pt x="1332" y="177"/>
                </a:lnTo>
                <a:lnTo>
                  <a:pt x="1388" y="170"/>
                </a:lnTo>
                <a:lnTo>
                  <a:pt x="1442" y="161"/>
                </a:lnTo>
                <a:lnTo>
                  <a:pt x="1497" y="154"/>
                </a:lnTo>
                <a:lnTo>
                  <a:pt x="1523" y="150"/>
                </a:lnTo>
                <a:lnTo>
                  <a:pt x="1549" y="146"/>
                </a:lnTo>
                <a:lnTo>
                  <a:pt x="1575" y="141"/>
                </a:lnTo>
                <a:lnTo>
                  <a:pt x="1599" y="138"/>
                </a:lnTo>
                <a:lnTo>
                  <a:pt x="1624" y="134"/>
                </a:lnTo>
                <a:lnTo>
                  <a:pt x="1648" y="130"/>
                </a:lnTo>
                <a:lnTo>
                  <a:pt x="1673" y="125"/>
                </a:lnTo>
                <a:lnTo>
                  <a:pt x="1696" y="121"/>
                </a:lnTo>
                <a:lnTo>
                  <a:pt x="1719" y="115"/>
                </a:lnTo>
                <a:lnTo>
                  <a:pt x="1742" y="111"/>
                </a:lnTo>
                <a:lnTo>
                  <a:pt x="1765" y="107"/>
                </a:lnTo>
                <a:lnTo>
                  <a:pt x="1786" y="102"/>
                </a:lnTo>
                <a:lnTo>
                  <a:pt x="1808" y="97"/>
                </a:lnTo>
                <a:lnTo>
                  <a:pt x="1830" y="92"/>
                </a:lnTo>
                <a:lnTo>
                  <a:pt x="1851" y="87"/>
                </a:lnTo>
                <a:lnTo>
                  <a:pt x="1871" y="82"/>
                </a:lnTo>
                <a:lnTo>
                  <a:pt x="1892" y="76"/>
                </a:lnTo>
                <a:lnTo>
                  <a:pt x="1912" y="71"/>
                </a:lnTo>
                <a:lnTo>
                  <a:pt x="1930" y="65"/>
                </a:lnTo>
                <a:lnTo>
                  <a:pt x="1949" y="61"/>
                </a:lnTo>
                <a:lnTo>
                  <a:pt x="1987" y="52"/>
                </a:lnTo>
                <a:lnTo>
                  <a:pt x="2023" y="46"/>
                </a:lnTo>
                <a:lnTo>
                  <a:pt x="2057" y="39"/>
                </a:lnTo>
                <a:lnTo>
                  <a:pt x="2090" y="33"/>
                </a:lnTo>
                <a:lnTo>
                  <a:pt x="2123" y="28"/>
                </a:lnTo>
                <a:lnTo>
                  <a:pt x="2155" y="23"/>
                </a:lnTo>
                <a:lnTo>
                  <a:pt x="2187" y="19"/>
                </a:lnTo>
                <a:lnTo>
                  <a:pt x="2215" y="15"/>
                </a:lnTo>
                <a:lnTo>
                  <a:pt x="2244" y="10"/>
                </a:lnTo>
                <a:lnTo>
                  <a:pt x="2270" y="7"/>
                </a:lnTo>
                <a:lnTo>
                  <a:pt x="2296" y="6"/>
                </a:lnTo>
                <a:lnTo>
                  <a:pt x="2308" y="4"/>
                </a:lnTo>
                <a:lnTo>
                  <a:pt x="2321" y="3"/>
                </a:lnTo>
                <a:lnTo>
                  <a:pt x="2332" y="2"/>
                </a:lnTo>
                <a:lnTo>
                  <a:pt x="2342" y="2"/>
                </a:lnTo>
                <a:lnTo>
                  <a:pt x="2354" y="2"/>
                </a:lnTo>
                <a:lnTo>
                  <a:pt x="2364" y="0"/>
                </a:lnTo>
                <a:lnTo>
                  <a:pt x="2374" y="0"/>
                </a:lnTo>
                <a:lnTo>
                  <a:pt x="2382" y="0"/>
                </a:lnTo>
                <a:lnTo>
                  <a:pt x="2393" y="0"/>
                </a:lnTo>
                <a:lnTo>
                  <a:pt x="2401" y="0"/>
                </a:lnTo>
                <a:lnTo>
                  <a:pt x="2417" y="0"/>
                </a:lnTo>
                <a:lnTo>
                  <a:pt x="2434" y="0"/>
                </a:lnTo>
                <a:lnTo>
                  <a:pt x="2452" y="2"/>
                </a:lnTo>
                <a:lnTo>
                  <a:pt x="2469" y="3"/>
                </a:lnTo>
                <a:lnTo>
                  <a:pt x="2485" y="6"/>
                </a:lnTo>
                <a:lnTo>
                  <a:pt x="2502" y="9"/>
                </a:lnTo>
                <a:lnTo>
                  <a:pt x="2518" y="13"/>
                </a:lnTo>
                <a:lnTo>
                  <a:pt x="2534" y="17"/>
                </a:lnTo>
                <a:lnTo>
                  <a:pt x="2549" y="22"/>
                </a:lnTo>
                <a:lnTo>
                  <a:pt x="2565" y="28"/>
                </a:lnTo>
                <a:lnTo>
                  <a:pt x="2581" y="35"/>
                </a:lnTo>
                <a:lnTo>
                  <a:pt x="2597" y="42"/>
                </a:lnTo>
                <a:lnTo>
                  <a:pt x="2611" y="49"/>
                </a:lnTo>
                <a:lnTo>
                  <a:pt x="2626" y="59"/>
                </a:lnTo>
                <a:lnTo>
                  <a:pt x="2640" y="68"/>
                </a:lnTo>
                <a:lnTo>
                  <a:pt x="2653" y="79"/>
                </a:lnTo>
                <a:lnTo>
                  <a:pt x="2663" y="91"/>
                </a:lnTo>
                <a:lnTo>
                  <a:pt x="2672" y="102"/>
                </a:lnTo>
                <a:lnTo>
                  <a:pt x="2682" y="114"/>
                </a:lnTo>
                <a:lnTo>
                  <a:pt x="2690" y="125"/>
                </a:lnTo>
                <a:lnTo>
                  <a:pt x="2698" y="135"/>
                </a:lnTo>
                <a:lnTo>
                  <a:pt x="2705" y="147"/>
                </a:lnTo>
                <a:lnTo>
                  <a:pt x="2712" y="157"/>
                </a:lnTo>
                <a:lnTo>
                  <a:pt x="2719" y="167"/>
                </a:lnTo>
                <a:lnTo>
                  <a:pt x="2725" y="177"/>
                </a:lnTo>
                <a:lnTo>
                  <a:pt x="2729" y="187"/>
                </a:lnTo>
                <a:lnTo>
                  <a:pt x="2734" y="197"/>
                </a:lnTo>
                <a:lnTo>
                  <a:pt x="2737" y="206"/>
                </a:lnTo>
                <a:lnTo>
                  <a:pt x="2739" y="216"/>
                </a:lnTo>
                <a:lnTo>
                  <a:pt x="2742" y="225"/>
                </a:lnTo>
                <a:lnTo>
                  <a:pt x="2744" y="232"/>
                </a:lnTo>
                <a:lnTo>
                  <a:pt x="2744" y="2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reeform 84"/>
          <p:cNvSpPr/>
          <p:nvPr/>
        </p:nvSpPr>
        <p:spPr>
          <a:xfrm>
            <a:off x="5699160" y="3514680"/>
            <a:ext cx="765000" cy="222120"/>
          </a:xfrm>
          <a:custGeom>
            <a:avLst/>
            <a:gdLst/>
            <a:ahLst/>
            <a:rect l="l" t="t" r="r" b="b"/>
            <a:pathLst>
              <a:path w="1446" h="421">
                <a:moveTo>
                  <a:pt x="0" y="301"/>
                </a:moveTo>
                <a:lnTo>
                  <a:pt x="0" y="298"/>
                </a:lnTo>
                <a:lnTo>
                  <a:pt x="2" y="297"/>
                </a:lnTo>
                <a:lnTo>
                  <a:pt x="5" y="294"/>
                </a:lnTo>
                <a:lnTo>
                  <a:pt x="9" y="291"/>
                </a:lnTo>
                <a:lnTo>
                  <a:pt x="13" y="288"/>
                </a:lnTo>
                <a:lnTo>
                  <a:pt x="19" y="285"/>
                </a:lnTo>
                <a:lnTo>
                  <a:pt x="26" y="281"/>
                </a:lnTo>
                <a:lnTo>
                  <a:pt x="35" y="278"/>
                </a:lnTo>
                <a:lnTo>
                  <a:pt x="43" y="274"/>
                </a:lnTo>
                <a:lnTo>
                  <a:pt x="54" y="271"/>
                </a:lnTo>
                <a:lnTo>
                  <a:pt x="65" y="267"/>
                </a:lnTo>
                <a:lnTo>
                  <a:pt x="78" y="261"/>
                </a:lnTo>
                <a:lnTo>
                  <a:pt x="91" y="257"/>
                </a:lnTo>
                <a:lnTo>
                  <a:pt x="105" y="252"/>
                </a:lnTo>
                <a:lnTo>
                  <a:pt x="121" y="246"/>
                </a:lnTo>
                <a:lnTo>
                  <a:pt x="138" y="241"/>
                </a:lnTo>
                <a:lnTo>
                  <a:pt x="156" y="235"/>
                </a:lnTo>
                <a:lnTo>
                  <a:pt x="174" y="229"/>
                </a:lnTo>
                <a:lnTo>
                  <a:pt x="195" y="223"/>
                </a:lnTo>
                <a:lnTo>
                  <a:pt x="216" y="216"/>
                </a:lnTo>
                <a:lnTo>
                  <a:pt x="239" y="210"/>
                </a:lnTo>
                <a:lnTo>
                  <a:pt x="262" y="203"/>
                </a:lnTo>
                <a:lnTo>
                  <a:pt x="287" y="196"/>
                </a:lnTo>
                <a:lnTo>
                  <a:pt x="313" y="189"/>
                </a:lnTo>
                <a:lnTo>
                  <a:pt x="340" y="180"/>
                </a:lnTo>
                <a:lnTo>
                  <a:pt x="367" y="173"/>
                </a:lnTo>
                <a:lnTo>
                  <a:pt x="396" y="164"/>
                </a:lnTo>
                <a:lnTo>
                  <a:pt x="426" y="156"/>
                </a:lnTo>
                <a:lnTo>
                  <a:pt x="458" y="147"/>
                </a:lnTo>
                <a:lnTo>
                  <a:pt x="491" y="138"/>
                </a:lnTo>
                <a:lnTo>
                  <a:pt x="524" y="130"/>
                </a:lnTo>
                <a:lnTo>
                  <a:pt x="560" y="120"/>
                </a:lnTo>
                <a:lnTo>
                  <a:pt x="593" y="113"/>
                </a:lnTo>
                <a:lnTo>
                  <a:pt x="625" y="105"/>
                </a:lnTo>
                <a:lnTo>
                  <a:pt x="657" y="98"/>
                </a:lnTo>
                <a:lnTo>
                  <a:pt x="688" y="91"/>
                </a:lnTo>
                <a:lnTo>
                  <a:pt x="719" y="85"/>
                </a:lnTo>
                <a:lnTo>
                  <a:pt x="747" y="78"/>
                </a:lnTo>
                <a:lnTo>
                  <a:pt x="776" y="72"/>
                </a:lnTo>
                <a:lnTo>
                  <a:pt x="804" y="66"/>
                </a:lnTo>
                <a:lnTo>
                  <a:pt x="829" y="61"/>
                </a:lnTo>
                <a:lnTo>
                  <a:pt x="855" y="55"/>
                </a:lnTo>
                <a:lnTo>
                  <a:pt x="881" y="51"/>
                </a:lnTo>
                <a:lnTo>
                  <a:pt x="906" y="46"/>
                </a:lnTo>
                <a:lnTo>
                  <a:pt x="929" y="41"/>
                </a:lnTo>
                <a:lnTo>
                  <a:pt x="950" y="36"/>
                </a:lnTo>
                <a:lnTo>
                  <a:pt x="972" y="33"/>
                </a:lnTo>
                <a:lnTo>
                  <a:pt x="994" y="29"/>
                </a:lnTo>
                <a:lnTo>
                  <a:pt x="1014" y="25"/>
                </a:lnTo>
                <a:lnTo>
                  <a:pt x="1032" y="22"/>
                </a:lnTo>
                <a:lnTo>
                  <a:pt x="1050" y="19"/>
                </a:lnTo>
                <a:lnTo>
                  <a:pt x="1067" y="16"/>
                </a:lnTo>
                <a:lnTo>
                  <a:pt x="1084" y="13"/>
                </a:lnTo>
                <a:lnTo>
                  <a:pt x="1100" y="10"/>
                </a:lnTo>
                <a:lnTo>
                  <a:pt x="1114" y="9"/>
                </a:lnTo>
                <a:lnTo>
                  <a:pt x="1129" y="7"/>
                </a:lnTo>
                <a:lnTo>
                  <a:pt x="1142" y="5"/>
                </a:lnTo>
                <a:lnTo>
                  <a:pt x="1155" y="3"/>
                </a:lnTo>
                <a:lnTo>
                  <a:pt x="1166" y="2"/>
                </a:lnTo>
                <a:lnTo>
                  <a:pt x="1176" y="2"/>
                </a:lnTo>
                <a:lnTo>
                  <a:pt x="1186" y="0"/>
                </a:lnTo>
                <a:lnTo>
                  <a:pt x="1195" y="0"/>
                </a:lnTo>
                <a:lnTo>
                  <a:pt x="1202" y="0"/>
                </a:lnTo>
                <a:lnTo>
                  <a:pt x="1211" y="0"/>
                </a:lnTo>
                <a:lnTo>
                  <a:pt x="1221" y="0"/>
                </a:lnTo>
                <a:lnTo>
                  <a:pt x="1231" y="0"/>
                </a:lnTo>
                <a:lnTo>
                  <a:pt x="1241" y="2"/>
                </a:lnTo>
                <a:lnTo>
                  <a:pt x="1251" y="3"/>
                </a:lnTo>
                <a:lnTo>
                  <a:pt x="1271" y="7"/>
                </a:lnTo>
                <a:lnTo>
                  <a:pt x="1292" y="12"/>
                </a:lnTo>
                <a:lnTo>
                  <a:pt x="1312" y="18"/>
                </a:lnTo>
                <a:lnTo>
                  <a:pt x="1332" y="25"/>
                </a:lnTo>
                <a:lnTo>
                  <a:pt x="1352" y="32"/>
                </a:lnTo>
                <a:lnTo>
                  <a:pt x="1372" y="41"/>
                </a:lnTo>
                <a:lnTo>
                  <a:pt x="1382" y="48"/>
                </a:lnTo>
                <a:lnTo>
                  <a:pt x="1391" y="55"/>
                </a:lnTo>
                <a:lnTo>
                  <a:pt x="1400" y="62"/>
                </a:lnTo>
                <a:lnTo>
                  <a:pt x="1407" y="69"/>
                </a:lnTo>
                <a:lnTo>
                  <a:pt x="1412" y="77"/>
                </a:lnTo>
                <a:lnTo>
                  <a:pt x="1418" y="84"/>
                </a:lnTo>
                <a:lnTo>
                  <a:pt x="1424" y="91"/>
                </a:lnTo>
                <a:lnTo>
                  <a:pt x="1428" y="98"/>
                </a:lnTo>
                <a:lnTo>
                  <a:pt x="1433" y="104"/>
                </a:lnTo>
                <a:lnTo>
                  <a:pt x="1436" y="110"/>
                </a:lnTo>
                <a:lnTo>
                  <a:pt x="1438" y="115"/>
                </a:lnTo>
                <a:lnTo>
                  <a:pt x="1441" y="121"/>
                </a:lnTo>
                <a:lnTo>
                  <a:pt x="1443" y="127"/>
                </a:lnTo>
                <a:lnTo>
                  <a:pt x="1444" y="131"/>
                </a:lnTo>
                <a:lnTo>
                  <a:pt x="1444" y="136"/>
                </a:lnTo>
                <a:lnTo>
                  <a:pt x="1446" y="140"/>
                </a:lnTo>
                <a:lnTo>
                  <a:pt x="1444" y="141"/>
                </a:lnTo>
                <a:lnTo>
                  <a:pt x="1443" y="144"/>
                </a:lnTo>
                <a:lnTo>
                  <a:pt x="1440" y="147"/>
                </a:lnTo>
                <a:lnTo>
                  <a:pt x="1436" y="149"/>
                </a:lnTo>
                <a:lnTo>
                  <a:pt x="1430" y="151"/>
                </a:lnTo>
                <a:lnTo>
                  <a:pt x="1424" y="156"/>
                </a:lnTo>
                <a:lnTo>
                  <a:pt x="1417" y="159"/>
                </a:lnTo>
                <a:lnTo>
                  <a:pt x="1408" y="161"/>
                </a:lnTo>
                <a:lnTo>
                  <a:pt x="1398" y="166"/>
                </a:lnTo>
                <a:lnTo>
                  <a:pt x="1387" y="170"/>
                </a:lnTo>
                <a:lnTo>
                  <a:pt x="1375" y="173"/>
                </a:lnTo>
                <a:lnTo>
                  <a:pt x="1362" y="177"/>
                </a:lnTo>
                <a:lnTo>
                  <a:pt x="1348" y="183"/>
                </a:lnTo>
                <a:lnTo>
                  <a:pt x="1332" y="187"/>
                </a:lnTo>
                <a:lnTo>
                  <a:pt x="1316" y="192"/>
                </a:lnTo>
                <a:lnTo>
                  <a:pt x="1297" y="197"/>
                </a:lnTo>
                <a:lnTo>
                  <a:pt x="1279" y="202"/>
                </a:lnTo>
                <a:lnTo>
                  <a:pt x="1260" y="208"/>
                </a:lnTo>
                <a:lnTo>
                  <a:pt x="1238" y="213"/>
                </a:lnTo>
                <a:lnTo>
                  <a:pt x="1217" y="219"/>
                </a:lnTo>
                <a:lnTo>
                  <a:pt x="1194" y="225"/>
                </a:lnTo>
                <a:lnTo>
                  <a:pt x="1169" y="231"/>
                </a:lnTo>
                <a:lnTo>
                  <a:pt x="1143" y="238"/>
                </a:lnTo>
                <a:lnTo>
                  <a:pt x="1117" y="244"/>
                </a:lnTo>
                <a:lnTo>
                  <a:pt x="1090" y="251"/>
                </a:lnTo>
                <a:lnTo>
                  <a:pt x="1061" y="257"/>
                </a:lnTo>
                <a:lnTo>
                  <a:pt x="1031" y="264"/>
                </a:lnTo>
                <a:lnTo>
                  <a:pt x="1001" y="271"/>
                </a:lnTo>
                <a:lnTo>
                  <a:pt x="969" y="278"/>
                </a:lnTo>
                <a:lnTo>
                  <a:pt x="936" y="285"/>
                </a:lnTo>
                <a:lnTo>
                  <a:pt x="901" y="293"/>
                </a:lnTo>
                <a:lnTo>
                  <a:pt x="867" y="301"/>
                </a:lnTo>
                <a:lnTo>
                  <a:pt x="832" y="308"/>
                </a:lnTo>
                <a:lnTo>
                  <a:pt x="798" y="316"/>
                </a:lnTo>
                <a:lnTo>
                  <a:pt x="765" y="323"/>
                </a:lnTo>
                <a:lnTo>
                  <a:pt x="733" y="328"/>
                </a:lnTo>
                <a:lnTo>
                  <a:pt x="703" y="336"/>
                </a:lnTo>
                <a:lnTo>
                  <a:pt x="673" y="341"/>
                </a:lnTo>
                <a:lnTo>
                  <a:pt x="644" y="349"/>
                </a:lnTo>
                <a:lnTo>
                  <a:pt x="616" y="354"/>
                </a:lnTo>
                <a:lnTo>
                  <a:pt x="590" y="359"/>
                </a:lnTo>
                <a:lnTo>
                  <a:pt x="565" y="364"/>
                </a:lnTo>
                <a:lnTo>
                  <a:pt x="540" y="370"/>
                </a:lnTo>
                <a:lnTo>
                  <a:pt x="517" y="375"/>
                </a:lnTo>
                <a:lnTo>
                  <a:pt x="494" y="379"/>
                </a:lnTo>
                <a:lnTo>
                  <a:pt x="472" y="383"/>
                </a:lnTo>
                <a:lnTo>
                  <a:pt x="452" y="388"/>
                </a:lnTo>
                <a:lnTo>
                  <a:pt x="434" y="392"/>
                </a:lnTo>
                <a:lnTo>
                  <a:pt x="416" y="395"/>
                </a:lnTo>
                <a:lnTo>
                  <a:pt x="399" y="398"/>
                </a:lnTo>
                <a:lnTo>
                  <a:pt x="383" y="402"/>
                </a:lnTo>
                <a:lnTo>
                  <a:pt x="367" y="405"/>
                </a:lnTo>
                <a:lnTo>
                  <a:pt x="354" y="406"/>
                </a:lnTo>
                <a:lnTo>
                  <a:pt x="341" y="409"/>
                </a:lnTo>
                <a:lnTo>
                  <a:pt x="328" y="412"/>
                </a:lnTo>
                <a:lnTo>
                  <a:pt x="318" y="413"/>
                </a:lnTo>
                <a:lnTo>
                  <a:pt x="308" y="415"/>
                </a:lnTo>
                <a:lnTo>
                  <a:pt x="300" y="416"/>
                </a:lnTo>
                <a:lnTo>
                  <a:pt x="293" y="418"/>
                </a:lnTo>
                <a:lnTo>
                  <a:pt x="287" y="419"/>
                </a:lnTo>
                <a:lnTo>
                  <a:pt x="281" y="419"/>
                </a:lnTo>
                <a:lnTo>
                  <a:pt x="277" y="421"/>
                </a:lnTo>
                <a:lnTo>
                  <a:pt x="274" y="421"/>
                </a:lnTo>
                <a:lnTo>
                  <a:pt x="271" y="421"/>
                </a:lnTo>
                <a:lnTo>
                  <a:pt x="267" y="421"/>
                </a:lnTo>
                <a:lnTo>
                  <a:pt x="262" y="419"/>
                </a:lnTo>
                <a:lnTo>
                  <a:pt x="257" y="419"/>
                </a:lnTo>
                <a:lnTo>
                  <a:pt x="251" y="418"/>
                </a:lnTo>
                <a:lnTo>
                  <a:pt x="244" y="415"/>
                </a:lnTo>
                <a:lnTo>
                  <a:pt x="236" y="413"/>
                </a:lnTo>
                <a:lnTo>
                  <a:pt x="228" y="411"/>
                </a:lnTo>
                <a:lnTo>
                  <a:pt x="219" y="408"/>
                </a:lnTo>
                <a:lnTo>
                  <a:pt x="209" y="405"/>
                </a:lnTo>
                <a:lnTo>
                  <a:pt x="199" y="402"/>
                </a:lnTo>
                <a:lnTo>
                  <a:pt x="189" y="399"/>
                </a:lnTo>
                <a:lnTo>
                  <a:pt x="177" y="396"/>
                </a:lnTo>
                <a:lnTo>
                  <a:pt x="164" y="392"/>
                </a:lnTo>
                <a:lnTo>
                  <a:pt x="153" y="388"/>
                </a:lnTo>
                <a:lnTo>
                  <a:pt x="140" y="385"/>
                </a:lnTo>
                <a:lnTo>
                  <a:pt x="127" y="380"/>
                </a:lnTo>
                <a:lnTo>
                  <a:pt x="110" y="376"/>
                </a:lnTo>
                <a:lnTo>
                  <a:pt x="95" y="372"/>
                </a:lnTo>
                <a:lnTo>
                  <a:pt x="81" y="367"/>
                </a:lnTo>
                <a:lnTo>
                  <a:pt x="68" y="362"/>
                </a:lnTo>
                <a:lnTo>
                  <a:pt x="58" y="357"/>
                </a:lnTo>
                <a:lnTo>
                  <a:pt x="46" y="352"/>
                </a:lnTo>
                <a:lnTo>
                  <a:pt x="38" y="346"/>
                </a:lnTo>
                <a:lnTo>
                  <a:pt x="29" y="340"/>
                </a:lnTo>
                <a:lnTo>
                  <a:pt x="22" y="334"/>
                </a:lnTo>
                <a:lnTo>
                  <a:pt x="16" y="330"/>
                </a:lnTo>
                <a:lnTo>
                  <a:pt x="12" y="324"/>
                </a:lnTo>
                <a:lnTo>
                  <a:pt x="7" y="318"/>
                </a:lnTo>
                <a:lnTo>
                  <a:pt x="5" y="314"/>
                </a:lnTo>
                <a:lnTo>
                  <a:pt x="2" y="308"/>
                </a:lnTo>
                <a:lnTo>
                  <a:pt x="0" y="304"/>
                </a:lnTo>
                <a:lnTo>
                  <a:pt x="0" y="3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85"/>
          <p:cNvSpPr/>
          <p:nvPr/>
        </p:nvSpPr>
        <p:spPr>
          <a:xfrm>
            <a:off x="5562720" y="3798720"/>
            <a:ext cx="901440" cy="735120"/>
          </a:xfrm>
          <a:custGeom>
            <a:avLst/>
            <a:gdLst/>
            <a:ahLst/>
            <a:rect l="l" t="t" r="r" b="b"/>
            <a:pathLst>
              <a:path w="1703" h="1387">
                <a:moveTo>
                  <a:pt x="1269" y="483"/>
                </a:moveTo>
                <a:lnTo>
                  <a:pt x="1240" y="509"/>
                </a:lnTo>
                <a:lnTo>
                  <a:pt x="1212" y="535"/>
                </a:lnTo>
                <a:lnTo>
                  <a:pt x="1184" y="561"/>
                </a:lnTo>
                <a:lnTo>
                  <a:pt x="1157" y="587"/>
                </a:lnTo>
                <a:lnTo>
                  <a:pt x="1131" y="612"/>
                </a:lnTo>
                <a:lnTo>
                  <a:pt x="1104" y="636"/>
                </a:lnTo>
                <a:lnTo>
                  <a:pt x="1078" y="660"/>
                </a:lnTo>
                <a:lnTo>
                  <a:pt x="1053" y="683"/>
                </a:lnTo>
                <a:lnTo>
                  <a:pt x="1027" y="708"/>
                </a:lnTo>
                <a:lnTo>
                  <a:pt x="1003" y="731"/>
                </a:lnTo>
                <a:lnTo>
                  <a:pt x="978" y="753"/>
                </a:lnTo>
                <a:lnTo>
                  <a:pt x="954" y="776"/>
                </a:lnTo>
                <a:lnTo>
                  <a:pt x="931" y="797"/>
                </a:lnTo>
                <a:lnTo>
                  <a:pt x="908" y="819"/>
                </a:lnTo>
                <a:lnTo>
                  <a:pt x="885" y="839"/>
                </a:lnTo>
                <a:lnTo>
                  <a:pt x="862" y="861"/>
                </a:lnTo>
                <a:lnTo>
                  <a:pt x="840" y="881"/>
                </a:lnTo>
                <a:lnTo>
                  <a:pt x="819" y="901"/>
                </a:lnTo>
                <a:lnTo>
                  <a:pt x="799" y="921"/>
                </a:lnTo>
                <a:lnTo>
                  <a:pt x="777" y="940"/>
                </a:lnTo>
                <a:lnTo>
                  <a:pt x="757" y="958"/>
                </a:lnTo>
                <a:lnTo>
                  <a:pt x="738" y="977"/>
                </a:lnTo>
                <a:lnTo>
                  <a:pt x="718" y="996"/>
                </a:lnTo>
                <a:lnTo>
                  <a:pt x="699" y="1013"/>
                </a:lnTo>
                <a:lnTo>
                  <a:pt x="681" y="1032"/>
                </a:lnTo>
                <a:lnTo>
                  <a:pt x="663" y="1049"/>
                </a:lnTo>
                <a:lnTo>
                  <a:pt x="645" y="1066"/>
                </a:lnTo>
                <a:lnTo>
                  <a:pt x="629" y="1082"/>
                </a:lnTo>
                <a:lnTo>
                  <a:pt x="611" y="1098"/>
                </a:lnTo>
                <a:lnTo>
                  <a:pt x="596" y="1114"/>
                </a:lnTo>
                <a:lnTo>
                  <a:pt x="580" y="1130"/>
                </a:lnTo>
                <a:lnTo>
                  <a:pt x="564" y="1146"/>
                </a:lnTo>
                <a:lnTo>
                  <a:pt x="550" y="1160"/>
                </a:lnTo>
                <a:lnTo>
                  <a:pt x="535" y="1176"/>
                </a:lnTo>
                <a:lnTo>
                  <a:pt x="521" y="1189"/>
                </a:lnTo>
                <a:lnTo>
                  <a:pt x="506" y="1203"/>
                </a:lnTo>
                <a:lnTo>
                  <a:pt x="492" y="1216"/>
                </a:lnTo>
                <a:lnTo>
                  <a:pt x="479" y="1228"/>
                </a:lnTo>
                <a:lnTo>
                  <a:pt x="466" y="1241"/>
                </a:lnTo>
                <a:lnTo>
                  <a:pt x="453" y="1252"/>
                </a:lnTo>
                <a:lnTo>
                  <a:pt x="442" y="1264"/>
                </a:lnTo>
                <a:lnTo>
                  <a:pt x="429" y="1274"/>
                </a:lnTo>
                <a:lnTo>
                  <a:pt x="417" y="1284"/>
                </a:lnTo>
                <a:lnTo>
                  <a:pt x="406" y="1294"/>
                </a:lnTo>
                <a:lnTo>
                  <a:pt x="395" y="1303"/>
                </a:lnTo>
                <a:lnTo>
                  <a:pt x="384" y="1311"/>
                </a:lnTo>
                <a:lnTo>
                  <a:pt x="374" y="1320"/>
                </a:lnTo>
                <a:lnTo>
                  <a:pt x="364" y="1327"/>
                </a:lnTo>
                <a:lnTo>
                  <a:pt x="354" y="1334"/>
                </a:lnTo>
                <a:lnTo>
                  <a:pt x="345" y="1341"/>
                </a:lnTo>
                <a:lnTo>
                  <a:pt x="336" y="1347"/>
                </a:lnTo>
                <a:lnTo>
                  <a:pt x="328" y="1353"/>
                </a:lnTo>
                <a:lnTo>
                  <a:pt x="319" y="1359"/>
                </a:lnTo>
                <a:lnTo>
                  <a:pt x="312" y="1363"/>
                </a:lnTo>
                <a:lnTo>
                  <a:pt x="305" y="1367"/>
                </a:lnTo>
                <a:lnTo>
                  <a:pt x="298" y="1372"/>
                </a:lnTo>
                <a:lnTo>
                  <a:pt x="292" y="1376"/>
                </a:lnTo>
                <a:lnTo>
                  <a:pt x="285" y="1379"/>
                </a:lnTo>
                <a:lnTo>
                  <a:pt x="279" y="1382"/>
                </a:lnTo>
                <a:lnTo>
                  <a:pt x="275" y="1383"/>
                </a:lnTo>
                <a:lnTo>
                  <a:pt x="269" y="1385"/>
                </a:lnTo>
                <a:lnTo>
                  <a:pt x="264" y="1386"/>
                </a:lnTo>
                <a:lnTo>
                  <a:pt x="262" y="1386"/>
                </a:lnTo>
                <a:lnTo>
                  <a:pt x="257" y="1387"/>
                </a:lnTo>
                <a:lnTo>
                  <a:pt x="247" y="1386"/>
                </a:lnTo>
                <a:lnTo>
                  <a:pt x="237" y="1385"/>
                </a:lnTo>
                <a:lnTo>
                  <a:pt x="227" y="1383"/>
                </a:lnTo>
                <a:lnTo>
                  <a:pt x="217" y="1379"/>
                </a:lnTo>
                <a:lnTo>
                  <a:pt x="205" y="1374"/>
                </a:lnTo>
                <a:lnTo>
                  <a:pt x="195" y="1370"/>
                </a:lnTo>
                <a:lnTo>
                  <a:pt x="185" y="1364"/>
                </a:lnTo>
                <a:lnTo>
                  <a:pt x="175" y="1357"/>
                </a:lnTo>
                <a:lnTo>
                  <a:pt x="165" y="1349"/>
                </a:lnTo>
                <a:lnTo>
                  <a:pt x="155" y="1340"/>
                </a:lnTo>
                <a:lnTo>
                  <a:pt x="145" y="1330"/>
                </a:lnTo>
                <a:lnTo>
                  <a:pt x="135" y="1320"/>
                </a:lnTo>
                <a:lnTo>
                  <a:pt x="125" y="1308"/>
                </a:lnTo>
                <a:lnTo>
                  <a:pt x="115" y="1295"/>
                </a:lnTo>
                <a:lnTo>
                  <a:pt x="105" y="1281"/>
                </a:lnTo>
                <a:lnTo>
                  <a:pt x="95" y="1267"/>
                </a:lnTo>
                <a:lnTo>
                  <a:pt x="82" y="1252"/>
                </a:lnTo>
                <a:lnTo>
                  <a:pt x="70" y="1238"/>
                </a:lnTo>
                <a:lnTo>
                  <a:pt x="59" y="1223"/>
                </a:lnTo>
                <a:lnTo>
                  <a:pt x="49" y="1209"/>
                </a:lnTo>
                <a:lnTo>
                  <a:pt x="38" y="1196"/>
                </a:lnTo>
                <a:lnTo>
                  <a:pt x="30" y="1183"/>
                </a:lnTo>
                <a:lnTo>
                  <a:pt x="23" y="1170"/>
                </a:lnTo>
                <a:lnTo>
                  <a:pt x="17" y="1159"/>
                </a:lnTo>
                <a:lnTo>
                  <a:pt x="11" y="1146"/>
                </a:lnTo>
                <a:lnTo>
                  <a:pt x="7" y="1134"/>
                </a:lnTo>
                <a:lnTo>
                  <a:pt x="4" y="1123"/>
                </a:lnTo>
                <a:lnTo>
                  <a:pt x="1" y="1111"/>
                </a:lnTo>
                <a:lnTo>
                  <a:pt x="0" y="1100"/>
                </a:lnTo>
                <a:lnTo>
                  <a:pt x="1" y="1088"/>
                </a:lnTo>
                <a:lnTo>
                  <a:pt x="2" y="1076"/>
                </a:lnTo>
                <a:lnTo>
                  <a:pt x="5" y="1066"/>
                </a:lnTo>
                <a:lnTo>
                  <a:pt x="5" y="1055"/>
                </a:lnTo>
                <a:lnTo>
                  <a:pt x="7" y="1045"/>
                </a:lnTo>
                <a:lnTo>
                  <a:pt x="8" y="1036"/>
                </a:lnTo>
                <a:lnTo>
                  <a:pt x="11" y="1028"/>
                </a:lnTo>
                <a:lnTo>
                  <a:pt x="14" y="1020"/>
                </a:lnTo>
                <a:lnTo>
                  <a:pt x="18" y="1015"/>
                </a:lnTo>
                <a:lnTo>
                  <a:pt x="24" y="1009"/>
                </a:lnTo>
                <a:lnTo>
                  <a:pt x="30" y="1006"/>
                </a:lnTo>
                <a:lnTo>
                  <a:pt x="36" y="1002"/>
                </a:lnTo>
                <a:lnTo>
                  <a:pt x="43" y="1000"/>
                </a:lnTo>
                <a:lnTo>
                  <a:pt x="50" y="999"/>
                </a:lnTo>
                <a:lnTo>
                  <a:pt x="57" y="997"/>
                </a:lnTo>
                <a:lnTo>
                  <a:pt x="66" y="999"/>
                </a:lnTo>
                <a:lnTo>
                  <a:pt x="76" y="1000"/>
                </a:lnTo>
                <a:lnTo>
                  <a:pt x="85" y="1002"/>
                </a:lnTo>
                <a:lnTo>
                  <a:pt x="95" y="1006"/>
                </a:lnTo>
                <a:lnTo>
                  <a:pt x="105" y="1009"/>
                </a:lnTo>
                <a:lnTo>
                  <a:pt x="115" y="1012"/>
                </a:lnTo>
                <a:lnTo>
                  <a:pt x="123" y="1015"/>
                </a:lnTo>
                <a:lnTo>
                  <a:pt x="132" y="1017"/>
                </a:lnTo>
                <a:lnTo>
                  <a:pt x="141" y="1019"/>
                </a:lnTo>
                <a:lnTo>
                  <a:pt x="148" y="1020"/>
                </a:lnTo>
                <a:lnTo>
                  <a:pt x="155" y="1020"/>
                </a:lnTo>
                <a:lnTo>
                  <a:pt x="162" y="1020"/>
                </a:lnTo>
                <a:lnTo>
                  <a:pt x="169" y="1020"/>
                </a:lnTo>
                <a:lnTo>
                  <a:pt x="175" y="1019"/>
                </a:lnTo>
                <a:lnTo>
                  <a:pt x="181" y="1019"/>
                </a:lnTo>
                <a:lnTo>
                  <a:pt x="187" y="1016"/>
                </a:lnTo>
                <a:lnTo>
                  <a:pt x="191" y="1015"/>
                </a:lnTo>
                <a:lnTo>
                  <a:pt x="195" y="1012"/>
                </a:lnTo>
                <a:lnTo>
                  <a:pt x="200" y="1009"/>
                </a:lnTo>
                <a:lnTo>
                  <a:pt x="203" y="1006"/>
                </a:lnTo>
                <a:lnTo>
                  <a:pt x="207" y="1005"/>
                </a:lnTo>
                <a:lnTo>
                  <a:pt x="213" y="1003"/>
                </a:lnTo>
                <a:lnTo>
                  <a:pt x="218" y="1002"/>
                </a:lnTo>
                <a:lnTo>
                  <a:pt x="227" y="999"/>
                </a:lnTo>
                <a:lnTo>
                  <a:pt x="236" y="994"/>
                </a:lnTo>
                <a:lnTo>
                  <a:pt x="246" y="990"/>
                </a:lnTo>
                <a:lnTo>
                  <a:pt x="256" y="984"/>
                </a:lnTo>
                <a:lnTo>
                  <a:pt x="269" y="979"/>
                </a:lnTo>
                <a:lnTo>
                  <a:pt x="282" y="971"/>
                </a:lnTo>
                <a:lnTo>
                  <a:pt x="296" y="964"/>
                </a:lnTo>
                <a:lnTo>
                  <a:pt x="312" y="956"/>
                </a:lnTo>
                <a:lnTo>
                  <a:pt x="328" y="947"/>
                </a:lnTo>
                <a:lnTo>
                  <a:pt x="345" y="937"/>
                </a:lnTo>
                <a:lnTo>
                  <a:pt x="362" y="927"/>
                </a:lnTo>
                <a:lnTo>
                  <a:pt x="381" y="917"/>
                </a:lnTo>
                <a:lnTo>
                  <a:pt x="401" y="905"/>
                </a:lnTo>
                <a:lnTo>
                  <a:pt x="410" y="899"/>
                </a:lnTo>
                <a:lnTo>
                  <a:pt x="420" y="892"/>
                </a:lnTo>
                <a:lnTo>
                  <a:pt x="430" y="885"/>
                </a:lnTo>
                <a:lnTo>
                  <a:pt x="442" y="878"/>
                </a:lnTo>
                <a:lnTo>
                  <a:pt x="454" y="869"/>
                </a:lnTo>
                <a:lnTo>
                  <a:pt x="467" y="861"/>
                </a:lnTo>
                <a:lnTo>
                  <a:pt x="482" y="850"/>
                </a:lnTo>
                <a:lnTo>
                  <a:pt x="496" y="840"/>
                </a:lnTo>
                <a:lnTo>
                  <a:pt x="512" y="830"/>
                </a:lnTo>
                <a:lnTo>
                  <a:pt x="529" y="819"/>
                </a:lnTo>
                <a:lnTo>
                  <a:pt x="547" y="806"/>
                </a:lnTo>
                <a:lnTo>
                  <a:pt x="564" y="793"/>
                </a:lnTo>
                <a:lnTo>
                  <a:pt x="584" y="780"/>
                </a:lnTo>
                <a:lnTo>
                  <a:pt x="604" y="766"/>
                </a:lnTo>
                <a:lnTo>
                  <a:pt x="624" y="751"/>
                </a:lnTo>
                <a:lnTo>
                  <a:pt x="646" y="735"/>
                </a:lnTo>
                <a:lnTo>
                  <a:pt x="669" y="719"/>
                </a:lnTo>
                <a:lnTo>
                  <a:pt x="692" y="702"/>
                </a:lnTo>
                <a:lnTo>
                  <a:pt x="716" y="685"/>
                </a:lnTo>
                <a:lnTo>
                  <a:pt x="741" y="666"/>
                </a:lnTo>
                <a:lnTo>
                  <a:pt x="767" y="647"/>
                </a:lnTo>
                <a:lnTo>
                  <a:pt x="794" y="627"/>
                </a:lnTo>
                <a:lnTo>
                  <a:pt x="822" y="606"/>
                </a:lnTo>
                <a:lnTo>
                  <a:pt x="850" y="584"/>
                </a:lnTo>
                <a:lnTo>
                  <a:pt x="879" y="563"/>
                </a:lnTo>
                <a:lnTo>
                  <a:pt x="909" y="540"/>
                </a:lnTo>
                <a:lnTo>
                  <a:pt x="940" y="515"/>
                </a:lnTo>
                <a:lnTo>
                  <a:pt x="971" y="491"/>
                </a:lnTo>
                <a:lnTo>
                  <a:pt x="1004" y="465"/>
                </a:lnTo>
                <a:lnTo>
                  <a:pt x="1038" y="439"/>
                </a:lnTo>
                <a:lnTo>
                  <a:pt x="1071" y="411"/>
                </a:lnTo>
                <a:lnTo>
                  <a:pt x="1107" y="384"/>
                </a:lnTo>
                <a:lnTo>
                  <a:pt x="1141" y="357"/>
                </a:lnTo>
                <a:lnTo>
                  <a:pt x="1174" y="332"/>
                </a:lnTo>
                <a:lnTo>
                  <a:pt x="1207" y="308"/>
                </a:lnTo>
                <a:lnTo>
                  <a:pt x="1239" y="285"/>
                </a:lnTo>
                <a:lnTo>
                  <a:pt x="1269" y="262"/>
                </a:lnTo>
                <a:lnTo>
                  <a:pt x="1300" y="242"/>
                </a:lnTo>
                <a:lnTo>
                  <a:pt x="1328" y="220"/>
                </a:lnTo>
                <a:lnTo>
                  <a:pt x="1356" y="201"/>
                </a:lnTo>
                <a:lnTo>
                  <a:pt x="1382" y="183"/>
                </a:lnTo>
                <a:lnTo>
                  <a:pt x="1407" y="165"/>
                </a:lnTo>
                <a:lnTo>
                  <a:pt x="1432" y="148"/>
                </a:lnTo>
                <a:lnTo>
                  <a:pt x="1455" y="132"/>
                </a:lnTo>
                <a:lnTo>
                  <a:pt x="1478" y="118"/>
                </a:lnTo>
                <a:lnTo>
                  <a:pt x="1498" y="103"/>
                </a:lnTo>
                <a:lnTo>
                  <a:pt x="1520" y="90"/>
                </a:lnTo>
                <a:lnTo>
                  <a:pt x="1538" y="79"/>
                </a:lnTo>
                <a:lnTo>
                  <a:pt x="1557" y="67"/>
                </a:lnTo>
                <a:lnTo>
                  <a:pt x="1573" y="57"/>
                </a:lnTo>
                <a:lnTo>
                  <a:pt x="1590" y="47"/>
                </a:lnTo>
                <a:lnTo>
                  <a:pt x="1605" y="39"/>
                </a:lnTo>
                <a:lnTo>
                  <a:pt x="1619" y="31"/>
                </a:lnTo>
                <a:lnTo>
                  <a:pt x="1632" y="24"/>
                </a:lnTo>
                <a:lnTo>
                  <a:pt x="1644" y="18"/>
                </a:lnTo>
                <a:lnTo>
                  <a:pt x="1654" y="13"/>
                </a:lnTo>
                <a:lnTo>
                  <a:pt x="1664" y="8"/>
                </a:lnTo>
                <a:lnTo>
                  <a:pt x="1672" y="5"/>
                </a:lnTo>
                <a:lnTo>
                  <a:pt x="1680" y="3"/>
                </a:lnTo>
                <a:lnTo>
                  <a:pt x="1687" y="1"/>
                </a:lnTo>
                <a:lnTo>
                  <a:pt x="1693" y="0"/>
                </a:lnTo>
                <a:lnTo>
                  <a:pt x="1697" y="0"/>
                </a:lnTo>
                <a:lnTo>
                  <a:pt x="1700" y="0"/>
                </a:lnTo>
                <a:lnTo>
                  <a:pt x="1703" y="3"/>
                </a:lnTo>
                <a:lnTo>
                  <a:pt x="1703" y="5"/>
                </a:lnTo>
                <a:lnTo>
                  <a:pt x="1703" y="11"/>
                </a:lnTo>
                <a:lnTo>
                  <a:pt x="1703" y="17"/>
                </a:lnTo>
                <a:lnTo>
                  <a:pt x="1701" y="23"/>
                </a:lnTo>
                <a:lnTo>
                  <a:pt x="1698" y="30"/>
                </a:lnTo>
                <a:lnTo>
                  <a:pt x="1694" y="37"/>
                </a:lnTo>
                <a:lnTo>
                  <a:pt x="1690" y="46"/>
                </a:lnTo>
                <a:lnTo>
                  <a:pt x="1684" y="54"/>
                </a:lnTo>
                <a:lnTo>
                  <a:pt x="1678" y="64"/>
                </a:lnTo>
                <a:lnTo>
                  <a:pt x="1671" y="75"/>
                </a:lnTo>
                <a:lnTo>
                  <a:pt x="1662" y="86"/>
                </a:lnTo>
                <a:lnTo>
                  <a:pt x="1652" y="98"/>
                </a:lnTo>
                <a:lnTo>
                  <a:pt x="1642" y="109"/>
                </a:lnTo>
                <a:lnTo>
                  <a:pt x="1631" y="123"/>
                </a:lnTo>
                <a:lnTo>
                  <a:pt x="1619" y="136"/>
                </a:lnTo>
                <a:lnTo>
                  <a:pt x="1606" y="151"/>
                </a:lnTo>
                <a:lnTo>
                  <a:pt x="1592" y="167"/>
                </a:lnTo>
                <a:lnTo>
                  <a:pt x="1576" y="183"/>
                </a:lnTo>
                <a:lnTo>
                  <a:pt x="1560" y="200"/>
                </a:lnTo>
                <a:lnTo>
                  <a:pt x="1544" y="217"/>
                </a:lnTo>
                <a:lnTo>
                  <a:pt x="1526" y="236"/>
                </a:lnTo>
                <a:lnTo>
                  <a:pt x="1507" y="254"/>
                </a:lnTo>
                <a:lnTo>
                  <a:pt x="1488" y="273"/>
                </a:lnTo>
                <a:lnTo>
                  <a:pt x="1467" y="295"/>
                </a:lnTo>
                <a:lnTo>
                  <a:pt x="1445" y="315"/>
                </a:lnTo>
                <a:lnTo>
                  <a:pt x="1423" y="337"/>
                </a:lnTo>
                <a:lnTo>
                  <a:pt x="1399" y="360"/>
                </a:lnTo>
                <a:lnTo>
                  <a:pt x="1376" y="383"/>
                </a:lnTo>
                <a:lnTo>
                  <a:pt x="1350" y="407"/>
                </a:lnTo>
                <a:lnTo>
                  <a:pt x="1324" y="432"/>
                </a:lnTo>
                <a:lnTo>
                  <a:pt x="1297" y="457"/>
                </a:lnTo>
                <a:lnTo>
                  <a:pt x="1269" y="4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任意多边形 8"/>
          <p:cNvSpPr/>
          <p:nvPr/>
        </p:nvSpPr>
        <p:spPr>
          <a:xfrm>
            <a:off x="1706400" y="2936880"/>
            <a:ext cx="5394600" cy="1706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饵     涟     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1780200" y="2638440"/>
            <a:ext cx="6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ě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6"/>
          <p:cNvSpPr/>
          <p:nvPr/>
        </p:nvSpPr>
        <p:spPr>
          <a:xfrm>
            <a:off x="3869280" y="268776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6152040" y="268452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4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171440" y="3030480"/>
            <a:ext cx="68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鱼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饵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漪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鱼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动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皎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1797120" y="266400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ě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4396320" y="2624040"/>
            <a:ext cx="5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5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矩形 9"/>
          <p:cNvSpPr/>
          <p:nvPr/>
        </p:nvSpPr>
        <p:spPr>
          <a:xfrm>
            <a:off x="3735720" y="380700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0"/>
          <p:cNvSpPr/>
          <p:nvPr/>
        </p:nvSpPr>
        <p:spPr>
          <a:xfrm>
            <a:off x="1271520" y="37926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7009920" y="262584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ā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1711440" y="30862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2273400" y="2249640"/>
            <a:ext cx="2728800" cy="2652840"/>
            <a:chOff x="2273400" y="2249640"/>
            <a:chExt cx="2728800" cy="2652840"/>
          </a:xfrm>
        </p:grpSpPr>
        <p:sp>
          <p:nvSpPr>
            <p:cNvPr id="263" name="左大括号 2"/>
            <p:cNvSpPr/>
            <p:nvPr/>
          </p:nvSpPr>
          <p:spPr>
            <a:xfrm>
              <a:off x="2273400" y="2519280"/>
              <a:ext cx="174600" cy="1674720"/>
            </a:xfrm>
            <a:custGeom>
              <a:avLst/>
              <a:gdLst>
                <a:gd name="textAreaLeft" fmla="*/ 111600 w 174600"/>
                <a:gd name="textAreaRight" fmla="*/ 174960 w 174600"/>
                <a:gd name="textAreaTop" fmla="*/ 4320 h 1674720"/>
                <a:gd name="textAreaBottom" fmla="*/ 1670400 h 16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4"/>
                    <a:pt x="10800" y="188"/>
                  </a:cubicBezTo>
                  <a:lnTo>
                    <a:pt x="10800" y="10612"/>
                  </a:lnTo>
                  <a:cubicBezTo>
                    <a:pt x="10800" y="10706"/>
                    <a:pt x="5400" y="10800"/>
                    <a:pt x="0" y="10800"/>
                  </a:cubicBezTo>
                  <a:cubicBezTo>
                    <a:pt x="5400" y="10800"/>
                    <a:pt x="10800" y="10894"/>
                    <a:pt x="10800" y="10988"/>
                  </a:cubicBezTo>
                  <a:lnTo>
                    <a:pt x="10800" y="21412"/>
                  </a:lnTo>
                  <a:cubicBezTo>
                    <a:pt x="10800" y="2150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Box 3"/>
            <p:cNvSpPr/>
            <p:nvPr/>
          </p:nvSpPr>
          <p:spPr>
            <a:xfrm>
              <a:off x="2395440" y="2249640"/>
              <a:ext cx="26067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à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漂亮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漂泊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i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漂白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TextBox 13"/>
          <p:cNvSpPr/>
          <p:nvPr/>
        </p:nvSpPr>
        <p:spPr>
          <a:xfrm>
            <a:off x="1779480" y="46562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5"/>
          <p:cNvGrpSpPr/>
          <p:nvPr/>
        </p:nvGrpSpPr>
        <p:grpSpPr>
          <a:xfrm>
            <a:off x="2322360" y="4214880"/>
            <a:ext cx="3573720" cy="1373400"/>
            <a:chOff x="2322360" y="4214880"/>
            <a:chExt cx="3573720" cy="1373400"/>
          </a:xfrm>
        </p:grpSpPr>
        <p:sp>
          <p:nvSpPr>
            <p:cNvPr id="267" name="左大括号 14"/>
            <p:cNvSpPr/>
            <p:nvPr/>
          </p:nvSpPr>
          <p:spPr>
            <a:xfrm>
              <a:off x="2322360" y="4521240"/>
              <a:ext cx="150480" cy="95112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15"/>
            <p:cNvSpPr/>
            <p:nvPr/>
          </p:nvSpPr>
          <p:spPr>
            <a:xfrm>
              <a:off x="2457000" y="4214880"/>
              <a:ext cx="3439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ě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舍得　不舍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宿舍　鸡舍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7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1"/>
          <p:cNvSpPr/>
          <p:nvPr/>
        </p:nvSpPr>
        <p:spPr>
          <a:xfrm>
            <a:off x="1274760" y="182412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辉映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涟漪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剧烈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翕动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矩形 1"/>
          <p:cNvSpPr/>
          <p:nvPr/>
        </p:nvSpPr>
        <p:spPr>
          <a:xfrm>
            <a:off x="2085840" y="1830240"/>
            <a:ext cx="66452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照耀；映射。文中指晚霞映射到湖面上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月光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辉映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到湖面上，湖面显得特别宁静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细小的波纹。文中指湖面上细小的波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微风吹过，湖面上泛起层层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涟漪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猛烈。文中指渔竿猛烈抖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地震来临时，地面会剧烈地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震动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嘴唇等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一张一合地动。文中指鱼鳃一开一合地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小鱼的鳃不停地翕动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1258920" y="180828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皎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沮丧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8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矩形 1"/>
          <p:cNvSpPr/>
          <p:nvPr/>
        </p:nvSpPr>
        <p:spPr>
          <a:xfrm>
            <a:off x="2070000" y="1830240"/>
            <a:ext cx="62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月亮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明亮而洁白。文中指月光明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今晚月色特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皎洁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灰心失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使用手段，使人认识模糊而做坏事。②吸引；招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①为官者要做到不为金钱名利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诱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窗外的景色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诱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1"/>
          <p:cNvSpPr/>
          <p:nvPr/>
        </p:nvSpPr>
        <p:spPr>
          <a:xfrm>
            <a:off x="1258920" y="1808280"/>
            <a:ext cx="7456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抉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小心翼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筋疲力尽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8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矩形 1"/>
          <p:cNvSpPr/>
          <p:nvPr/>
        </p:nvSpPr>
        <p:spPr>
          <a:xfrm>
            <a:off x="2419200" y="1830240"/>
            <a:ext cx="6296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挑选，选择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面对人生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抉择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我们要理智地对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举动十分谨慎，丝毫不敢疏忽。文中指“我”非常谨慎地控制着渔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小心翼翼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把小鱼放在鱼缸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非常疲劳，一点儿力气也没有了。文中指鱼一点儿力气也没有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早已累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筋疲力尽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没有力气再站起来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66880" y="2365200"/>
            <a:ext cx="74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“辉映、涟漪、翕动、皎洁、抉择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"/>
          <p:cNvSpPr/>
          <p:nvPr/>
        </p:nvSpPr>
        <p:spPr>
          <a:xfrm>
            <a:off x="1258920" y="1808280"/>
            <a:ext cx="7456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不容争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依依不舍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无可奈何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9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矩形 1"/>
          <p:cNvSpPr/>
          <p:nvPr/>
        </p:nvSpPr>
        <p:spPr>
          <a:xfrm>
            <a:off x="2070000" y="1830240"/>
            <a:ext cx="62960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不允许争辩或辩解。文中指父亲的声音非常坚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的态度非常坚决，不容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争辩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舍不得离开。文中指“我”舍不得把鱼放回到湖里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马上就要毕业了，大家都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依依不舍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没有办法；没有办法可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17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妈妈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无可奈何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地说：“我走了，再也不管你了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1"/>
          <p:cNvSpPr/>
          <p:nvPr/>
        </p:nvSpPr>
        <p:spPr>
          <a:xfrm>
            <a:off x="3454560" y="18050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剧烈　激烈　猛烈　强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2"/>
          <p:cNvSpPr/>
          <p:nvPr/>
        </p:nvSpPr>
        <p:spPr>
          <a:xfrm>
            <a:off x="2162160" y="2154240"/>
            <a:ext cx="662616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四个词语都是形容词，都含有“凶猛”“厉害”的意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侧重点不同，“剧烈”重在急剧、猛烈，常用来形容社会的重大变革，事物的矛盾冲突，急剧的运动，以及肉体上的痛楚等；“激烈”重在尖锐紧张，常用来形容激昂、热烈的言论、情绪或紧张的竞赛、斗争等；“猛烈”重在来势凶猛，常用来形容来势急、力量猛、性质凶的事物；“强烈”重在强劲有力，多用来形容极强的光线、电波或浓度很高的色彩、气味，也用来形容人的感情、思想、要求和主张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00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组合 4"/>
          <p:cNvGrpSpPr/>
          <p:nvPr/>
        </p:nvGrpSpPr>
        <p:grpSpPr>
          <a:xfrm>
            <a:off x="681120" y="2192400"/>
            <a:ext cx="1670040" cy="459720"/>
            <a:chOff x="681120" y="2192400"/>
            <a:chExt cx="1670040" cy="459720"/>
          </a:xfrm>
        </p:grpSpPr>
        <p:pic>
          <p:nvPicPr>
            <p:cNvPr id="304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2467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3"/>
            <p:cNvSpPr/>
            <p:nvPr/>
          </p:nvSpPr>
          <p:spPr>
            <a:xfrm>
              <a:off x="1024200" y="21924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组合 20"/>
          <p:cNvGrpSpPr/>
          <p:nvPr/>
        </p:nvGrpSpPr>
        <p:grpSpPr>
          <a:xfrm>
            <a:off x="681120" y="2727360"/>
            <a:ext cx="1670040" cy="459720"/>
            <a:chOff x="681120" y="2727360"/>
            <a:chExt cx="1670040" cy="459720"/>
          </a:xfrm>
        </p:grpSpPr>
        <p:pic>
          <p:nvPicPr>
            <p:cNvPr id="307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27817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22"/>
            <p:cNvSpPr/>
            <p:nvPr/>
          </p:nvSpPr>
          <p:spPr>
            <a:xfrm>
              <a:off x="1024200" y="27273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1"/>
          <p:cNvSpPr/>
          <p:nvPr/>
        </p:nvSpPr>
        <p:spPr>
          <a:xfrm>
            <a:off x="3538800" y="19000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剧烈　激烈　猛烈　强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"/>
          <p:cNvSpPr/>
          <p:nvPr/>
        </p:nvSpPr>
        <p:spPr>
          <a:xfrm>
            <a:off x="2162160" y="2317680"/>
            <a:ext cx="66261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震了，大地在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剧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晃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班和二班进行了一场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激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足球比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暴风雨来得更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猛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些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对她的思念越来越</a:t>
            </a: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强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312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23"/>
          <p:cNvGrpSpPr/>
          <p:nvPr/>
        </p:nvGrpSpPr>
        <p:grpSpPr>
          <a:xfrm>
            <a:off x="681120" y="2373480"/>
            <a:ext cx="1670040" cy="459720"/>
            <a:chOff x="681120" y="2373480"/>
            <a:chExt cx="1670040" cy="459720"/>
          </a:xfrm>
        </p:grpSpPr>
        <p:pic>
          <p:nvPicPr>
            <p:cNvPr id="31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4278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25"/>
            <p:cNvSpPr/>
            <p:nvPr/>
          </p:nvSpPr>
          <p:spPr>
            <a:xfrm>
              <a:off x="1024200" y="23734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1106640" y="2273400"/>
            <a:ext cx="74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10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随父钓鱼放鱼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回忆“我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岁时随父亲去钓鱼的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深远的影响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钓鱼这件事对“我”的一生产生的深远影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7"/>
          <p:cNvSpPr/>
          <p:nvPr/>
        </p:nvSpPr>
        <p:spPr>
          <a:xfrm>
            <a:off x="1378080" y="3089160"/>
            <a:ext cx="70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”和父亲在鲈鱼捕捞开放日的前一天傍晚去钓鱼，钓到的是一条又大又漂亮的鲈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5"/>
          <p:cNvSpPr/>
          <p:nvPr/>
        </p:nvSpPr>
        <p:spPr>
          <a:xfrm>
            <a:off x="882720" y="1282680"/>
            <a:ext cx="753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“我”和父亲在什么时候去钓的鱼？“我”和父亲钓到了一条什么样的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322" name="矩形 11"/>
          <p:cNvSpPr/>
          <p:nvPr/>
        </p:nvSpPr>
        <p:spPr>
          <a:xfrm>
            <a:off x="1017720" y="2309760"/>
            <a:ext cx="73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中的“我”和父亲在鲈鱼捕捞开放日的前一天傍晚去钓鱼，经过好长时间，费了好大劲儿，终于钓到了一条又大又漂亮的鲈鱼，“我”和父亲很得意。可是，父亲发现距离开放捕捞鲈鱼的时间还有两个小时，就坚决要求“我”把鱼放掉，“我”只好把鱼放回湖里。后来，“我”成为了著名的建筑设计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24" name="矩形 13"/>
          <p:cNvSpPr/>
          <p:nvPr/>
        </p:nvSpPr>
        <p:spPr>
          <a:xfrm>
            <a:off x="1442880" y="2273400"/>
            <a:ext cx="697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边加点字注音全部正确的一项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鲈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lú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鱼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ěr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涟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ī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翕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ǔ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鱼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āi)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剧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无可奈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mài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心翼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ì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尽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ì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41"/>
          <p:cNvSpPr/>
          <p:nvPr/>
        </p:nvSpPr>
        <p:spPr>
          <a:xfrm>
            <a:off x="4502880" y="306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41"/>
          <p:cNvSpPr/>
          <p:nvPr/>
        </p:nvSpPr>
        <p:spPr>
          <a:xfrm>
            <a:off x="1902600" y="363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1892880" y="306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41"/>
          <p:cNvSpPr/>
          <p:nvPr/>
        </p:nvSpPr>
        <p:spPr>
          <a:xfrm>
            <a:off x="6663600" y="3081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41"/>
          <p:cNvSpPr/>
          <p:nvPr/>
        </p:nvSpPr>
        <p:spPr>
          <a:xfrm>
            <a:off x="2521800" y="41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41"/>
          <p:cNvSpPr/>
          <p:nvPr/>
        </p:nvSpPr>
        <p:spPr>
          <a:xfrm>
            <a:off x="4515480" y="365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41"/>
          <p:cNvSpPr/>
          <p:nvPr/>
        </p:nvSpPr>
        <p:spPr>
          <a:xfrm>
            <a:off x="6361920" y="4183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41"/>
          <p:cNvSpPr/>
          <p:nvPr/>
        </p:nvSpPr>
        <p:spPr>
          <a:xfrm>
            <a:off x="5128200" y="41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41"/>
          <p:cNvSpPr/>
          <p:nvPr/>
        </p:nvSpPr>
        <p:spPr>
          <a:xfrm>
            <a:off x="6344280" y="3639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26"/>
          <p:cNvSpPr/>
          <p:nvPr/>
        </p:nvSpPr>
        <p:spPr>
          <a:xfrm>
            <a:off x="7066080" y="2273400"/>
            <a:ext cx="3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3995640" y="24811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995640" y="3562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749600" y="24811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749600" y="3562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矩形 28"/>
          <p:cNvSpPr/>
          <p:nvPr/>
        </p:nvSpPr>
        <p:spPr>
          <a:xfrm>
            <a:off x="971640" y="139068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看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ēn  suí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jiàn q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jù  li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ǎo jié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qǐ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qiú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qínɡ  x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ú  nà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niǔ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yuē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29"/>
          <p:cNvSpPr/>
          <p:nvPr/>
        </p:nvSpPr>
        <p:spPr>
          <a:xfrm>
            <a:off x="1966680" y="2523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 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0"/>
          <p:cNvSpPr/>
          <p:nvPr/>
        </p:nvSpPr>
        <p:spPr>
          <a:xfrm>
            <a:off x="1966680" y="360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皎 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1"/>
          <p:cNvSpPr/>
          <p:nvPr/>
        </p:nvSpPr>
        <p:spPr>
          <a:xfrm>
            <a:off x="4212000" y="2530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溅 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32"/>
          <p:cNvSpPr/>
          <p:nvPr/>
        </p:nvSpPr>
        <p:spPr>
          <a:xfrm>
            <a:off x="4221720" y="3589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乞 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6227640" y="245124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矩形 34"/>
          <p:cNvSpPr/>
          <p:nvPr/>
        </p:nvSpPr>
        <p:spPr>
          <a:xfrm>
            <a:off x="6453720" y="2478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剧 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227640" y="35751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矩形 36"/>
          <p:cNvSpPr/>
          <p:nvPr/>
        </p:nvSpPr>
        <p:spPr>
          <a:xfrm>
            <a:off x="6453720" y="3602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 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747800" y="467820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矩形 38"/>
          <p:cNvSpPr/>
          <p:nvPr/>
        </p:nvSpPr>
        <p:spPr>
          <a:xfrm>
            <a:off x="1973520" y="4705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 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995640" y="46594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矩形 40"/>
          <p:cNvSpPr/>
          <p:nvPr/>
        </p:nvSpPr>
        <p:spPr>
          <a:xfrm>
            <a:off x="4221720" y="4686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纽 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9"/>
          <p:cNvSpPr/>
          <p:nvPr/>
        </p:nvSpPr>
        <p:spPr>
          <a:xfrm>
            <a:off x="611280" y="1093680"/>
            <a:ext cx="85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争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分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野外迷路的时候，大自然可以帮助我们（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大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着，竟然哭出了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平静　　安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还会钓到别的鱼的。”父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抬头看了一下四周，看不见别人的影子，到处都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14"/>
          <p:cNvSpPr/>
          <p:nvPr/>
        </p:nvSpPr>
        <p:spPr>
          <a:xfrm>
            <a:off x="1351080" y="496728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15"/>
          <p:cNvSpPr/>
          <p:nvPr/>
        </p:nvSpPr>
        <p:spPr>
          <a:xfrm>
            <a:off x="7043400" y="232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分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16"/>
          <p:cNvSpPr/>
          <p:nvPr/>
        </p:nvSpPr>
        <p:spPr>
          <a:xfrm>
            <a:off x="2325240" y="288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争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17"/>
          <p:cNvSpPr/>
          <p:nvPr/>
        </p:nvSpPr>
        <p:spPr>
          <a:xfrm>
            <a:off x="5787720" y="399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平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8"/>
          <p:cNvSpPr/>
          <p:nvPr/>
        </p:nvSpPr>
        <p:spPr>
          <a:xfrm>
            <a:off x="431640" y="1258920"/>
            <a:ext cx="83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改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很喜欢这条大鲈鱼。我只能把大鲈鱼放回湖里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关联词语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晚霞辉映的湖面上溅起了一圈圈彩色的涟漪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的自习课上，我画了一幅画和一篇作文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9"/>
          <p:cNvSpPr/>
          <p:nvPr/>
        </p:nvSpPr>
        <p:spPr>
          <a:xfrm>
            <a:off x="954000" y="51166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今天的自习课上，我画了一幅画，写了一篇作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0"/>
          <p:cNvSpPr/>
          <p:nvPr/>
        </p:nvSpPr>
        <p:spPr>
          <a:xfrm>
            <a:off x="971640" y="2921040"/>
            <a:ext cx="75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虽然我很喜欢这条大鲈鱼，但是只能把它放回湖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11"/>
          <p:cNvSpPr/>
          <p:nvPr/>
        </p:nvSpPr>
        <p:spPr>
          <a:xfrm>
            <a:off x="1003320" y="40100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湖面上溅起了涟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5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79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部被包部分不要写得太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3"/>
          <p:cNvSpPr/>
          <p:nvPr/>
        </p:nvSpPr>
        <p:spPr>
          <a:xfrm>
            <a:off x="2011320" y="1868400"/>
            <a:ext cx="127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u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17"/>
          <p:cNvSpPr/>
          <p:nvPr/>
        </p:nvSpPr>
        <p:spPr>
          <a:xfrm>
            <a:off x="6423120" y="3052800"/>
            <a:ext cx="1044360" cy="241200"/>
          </a:xfrm>
          <a:custGeom>
            <a:avLst/>
            <a:gdLst/>
            <a:ahLst/>
            <a:rect l="l" t="t" r="r" b="b"/>
            <a:pathLst>
              <a:path w="1316" h="303">
                <a:moveTo>
                  <a:pt x="1240" y="155"/>
                </a:moveTo>
                <a:lnTo>
                  <a:pt x="1230" y="159"/>
                </a:lnTo>
                <a:lnTo>
                  <a:pt x="1218" y="161"/>
                </a:lnTo>
                <a:lnTo>
                  <a:pt x="1207" y="163"/>
                </a:lnTo>
                <a:lnTo>
                  <a:pt x="1194" y="165"/>
                </a:lnTo>
                <a:lnTo>
                  <a:pt x="1178" y="169"/>
                </a:lnTo>
                <a:lnTo>
                  <a:pt x="1163" y="171"/>
                </a:lnTo>
                <a:lnTo>
                  <a:pt x="1146" y="173"/>
                </a:lnTo>
                <a:lnTo>
                  <a:pt x="1128" y="174"/>
                </a:lnTo>
                <a:lnTo>
                  <a:pt x="1109" y="178"/>
                </a:lnTo>
                <a:lnTo>
                  <a:pt x="1090" y="180"/>
                </a:lnTo>
                <a:lnTo>
                  <a:pt x="1069" y="182"/>
                </a:lnTo>
                <a:lnTo>
                  <a:pt x="1046" y="184"/>
                </a:lnTo>
                <a:lnTo>
                  <a:pt x="1025" y="188"/>
                </a:lnTo>
                <a:lnTo>
                  <a:pt x="1000" y="190"/>
                </a:lnTo>
                <a:lnTo>
                  <a:pt x="975" y="192"/>
                </a:lnTo>
                <a:lnTo>
                  <a:pt x="950" y="196"/>
                </a:lnTo>
                <a:lnTo>
                  <a:pt x="921" y="199"/>
                </a:lnTo>
                <a:lnTo>
                  <a:pt x="892" y="205"/>
                </a:lnTo>
                <a:lnTo>
                  <a:pt x="861" y="209"/>
                </a:lnTo>
                <a:lnTo>
                  <a:pt x="833" y="215"/>
                </a:lnTo>
                <a:lnTo>
                  <a:pt x="800" y="219"/>
                </a:lnTo>
                <a:lnTo>
                  <a:pt x="769" y="224"/>
                </a:lnTo>
                <a:lnTo>
                  <a:pt x="739" y="228"/>
                </a:lnTo>
                <a:lnTo>
                  <a:pt x="706" y="234"/>
                </a:lnTo>
                <a:lnTo>
                  <a:pt x="639" y="244"/>
                </a:lnTo>
                <a:lnTo>
                  <a:pt x="572" y="253"/>
                </a:lnTo>
                <a:lnTo>
                  <a:pt x="503" y="263"/>
                </a:lnTo>
                <a:lnTo>
                  <a:pt x="433" y="272"/>
                </a:lnTo>
                <a:lnTo>
                  <a:pt x="399" y="278"/>
                </a:lnTo>
                <a:lnTo>
                  <a:pt x="364" y="282"/>
                </a:lnTo>
                <a:lnTo>
                  <a:pt x="334" y="286"/>
                </a:lnTo>
                <a:lnTo>
                  <a:pt x="305" y="290"/>
                </a:lnTo>
                <a:lnTo>
                  <a:pt x="291" y="292"/>
                </a:lnTo>
                <a:lnTo>
                  <a:pt x="278" y="293"/>
                </a:lnTo>
                <a:lnTo>
                  <a:pt x="265" y="295"/>
                </a:lnTo>
                <a:lnTo>
                  <a:pt x="253" y="295"/>
                </a:lnTo>
                <a:lnTo>
                  <a:pt x="241" y="297"/>
                </a:lnTo>
                <a:lnTo>
                  <a:pt x="230" y="299"/>
                </a:lnTo>
                <a:lnTo>
                  <a:pt x="218" y="299"/>
                </a:lnTo>
                <a:lnTo>
                  <a:pt x="209" y="301"/>
                </a:lnTo>
                <a:lnTo>
                  <a:pt x="199" y="301"/>
                </a:lnTo>
                <a:lnTo>
                  <a:pt x="190" y="303"/>
                </a:lnTo>
                <a:lnTo>
                  <a:pt x="180" y="303"/>
                </a:lnTo>
                <a:lnTo>
                  <a:pt x="172" y="303"/>
                </a:lnTo>
                <a:lnTo>
                  <a:pt x="165" y="303"/>
                </a:lnTo>
                <a:lnTo>
                  <a:pt x="157" y="303"/>
                </a:lnTo>
                <a:lnTo>
                  <a:pt x="151" y="303"/>
                </a:lnTo>
                <a:lnTo>
                  <a:pt x="146" y="303"/>
                </a:lnTo>
                <a:lnTo>
                  <a:pt x="140" y="303"/>
                </a:lnTo>
                <a:lnTo>
                  <a:pt x="134" y="303"/>
                </a:lnTo>
                <a:lnTo>
                  <a:pt x="130" y="303"/>
                </a:lnTo>
                <a:lnTo>
                  <a:pt x="126" y="303"/>
                </a:lnTo>
                <a:lnTo>
                  <a:pt x="122" y="301"/>
                </a:lnTo>
                <a:lnTo>
                  <a:pt x="121" y="301"/>
                </a:lnTo>
                <a:lnTo>
                  <a:pt x="119" y="299"/>
                </a:lnTo>
                <a:lnTo>
                  <a:pt x="117" y="299"/>
                </a:lnTo>
                <a:lnTo>
                  <a:pt x="111" y="297"/>
                </a:lnTo>
                <a:lnTo>
                  <a:pt x="105" y="295"/>
                </a:lnTo>
                <a:lnTo>
                  <a:pt x="98" y="293"/>
                </a:lnTo>
                <a:lnTo>
                  <a:pt x="88" y="288"/>
                </a:lnTo>
                <a:lnTo>
                  <a:pt x="84" y="284"/>
                </a:lnTo>
                <a:lnTo>
                  <a:pt x="78" y="280"/>
                </a:lnTo>
                <a:lnTo>
                  <a:pt x="73" y="276"/>
                </a:lnTo>
                <a:lnTo>
                  <a:pt x="67" y="272"/>
                </a:lnTo>
                <a:lnTo>
                  <a:pt x="61" y="267"/>
                </a:lnTo>
                <a:lnTo>
                  <a:pt x="55" y="261"/>
                </a:lnTo>
                <a:lnTo>
                  <a:pt x="48" y="253"/>
                </a:lnTo>
                <a:lnTo>
                  <a:pt x="42" y="247"/>
                </a:lnTo>
                <a:lnTo>
                  <a:pt x="34" y="242"/>
                </a:lnTo>
                <a:lnTo>
                  <a:pt x="28" y="238"/>
                </a:lnTo>
                <a:lnTo>
                  <a:pt x="23" y="234"/>
                </a:lnTo>
                <a:lnTo>
                  <a:pt x="19" y="228"/>
                </a:lnTo>
                <a:lnTo>
                  <a:pt x="13" y="226"/>
                </a:lnTo>
                <a:lnTo>
                  <a:pt x="9" y="222"/>
                </a:lnTo>
                <a:lnTo>
                  <a:pt x="7" y="219"/>
                </a:lnTo>
                <a:lnTo>
                  <a:pt x="3" y="215"/>
                </a:lnTo>
                <a:lnTo>
                  <a:pt x="2" y="213"/>
                </a:lnTo>
                <a:lnTo>
                  <a:pt x="0" y="209"/>
                </a:lnTo>
                <a:lnTo>
                  <a:pt x="0" y="207"/>
                </a:lnTo>
                <a:lnTo>
                  <a:pt x="0" y="205"/>
                </a:lnTo>
                <a:lnTo>
                  <a:pt x="0" y="201"/>
                </a:lnTo>
                <a:lnTo>
                  <a:pt x="0" y="199"/>
                </a:lnTo>
                <a:lnTo>
                  <a:pt x="2" y="197"/>
                </a:lnTo>
                <a:lnTo>
                  <a:pt x="3" y="196"/>
                </a:lnTo>
                <a:lnTo>
                  <a:pt x="5" y="192"/>
                </a:lnTo>
                <a:lnTo>
                  <a:pt x="9" y="190"/>
                </a:lnTo>
                <a:lnTo>
                  <a:pt x="13" y="188"/>
                </a:lnTo>
                <a:lnTo>
                  <a:pt x="17" y="188"/>
                </a:lnTo>
                <a:lnTo>
                  <a:pt x="23" y="186"/>
                </a:lnTo>
                <a:lnTo>
                  <a:pt x="28" y="184"/>
                </a:lnTo>
                <a:lnTo>
                  <a:pt x="34" y="184"/>
                </a:lnTo>
                <a:lnTo>
                  <a:pt x="42" y="184"/>
                </a:lnTo>
                <a:lnTo>
                  <a:pt x="50" y="182"/>
                </a:lnTo>
                <a:lnTo>
                  <a:pt x="57" y="182"/>
                </a:lnTo>
                <a:lnTo>
                  <a:pt x="65" y="182"/>
                </a:lnTo>
                <a:lnTo>
                  <a:pt x="74" y="182"/>
                </a:lnTo>
                <a:lnTo>
                  <a:pt x="84" y="182"/>
                </a:lnTo>
                <a:lnTo>
                  <a:pt x="96" y="182"/>
                </a:lnTo>
                <a:lnTo>
                  <a:pt x="105" y="182"/>
                </a:lnTo>
                <a:lnTo>
                  <a:pt x="117" y="182"/>
                </a:lnTo>
                <a:lnTo>
                  <a:pt x="130" y="182"/>
                </a:lnTo>
                <a:lnTo>
                  <a:pt x="144" y="180"/>
                </a:lnTo>
                <a:lnTo>
                  <a:pt x="159" y="180"/>
                </a:lnTo>
                <a:lnTo>
                  <a:pt x="176" y="178"/>
                </a:lnTo>
                <a:lnTo>
                  <a:pt x="195" y="178"/>
                </a:lnTo>
                <a:lnTo>
                  <a:pt x="217" y="176"/>
                </a:lnTo>
                <a:lnTo>
                  <a:pt x="238" y="173"/>
                </a:lnTo>
                <a:lnTo>
                  <a:pt x="263" y="171"/>
                </a:lnTo>
                <a:lnTo>
                  <a:pt x="288" y="167"/>
                </a:lnTo>
                <a:lnTo>
                  <a:pt x="316" y="163"/>
                </a:lnTo>
                <a:lnTo>
                  <a:pt x="345" y="159"/>
                </a:lnTo>
                <a:lnTo>
                  <a:pt x="360" y="157"/>
                </a:lnTo>
                <a:lnTo>
                  <a:pt x="376" y="155"/>
                </a:lnTo>
                <a:lnTo>
                  <a:pt x="393" y="151"/>
                </a:lnTo>
                <a:lnTo>
                  <a:pt x="408" y="149"/>
                </a:lnTo>
                <a:lnTo>
                  <a:pt x="426" y="146"/>
                </a:lnTo>
                <a:lnTo>
                  <a:pt x="445" y="144"/>
                </a:lnTo>
                <a:lnTo>
                  <a:pt x="462" y="140"/>
                </a:lnTo>
                <a:lnTo>
                  <a:pt x="481" y="136"/>
                </a:lnTo>
                <a:lnTo>
                  <a:pt x="501" y="132"/>
                </a:lnTo>
                <a:lnTo>
                  <a:pt x="522" y="130"/>
                </a:lnTo>
                <a:lnTo>
                  <a:pt x="560" y="123"/>
                </a:lnTo>
                <a:lnTo>
                  <a:pt x="598" y="115"/>
                </a:lnTo>
                <a:lnTo>
                  <a:pt x="635" y="109"/>
                </a:lnTo>
                <a:lnTo>
                  <a:pt x="670" y="101"/>
                </a:lnTo>
                <a:lnTo>
                  <a:pt x="704" y="96"/>
                </a:lnTo>
                <a:lnTo>
                  <a:pt x="735" y="90"/>
                </a:lnTo>
                <a:lnTo>
                  <a:pt x="765" y="84"/>
                </a:lnTo>
                <a:lnTo>
                  <a:pt x="796" y="78"/>
                </a:lnTo>
                <a:lnTo>
                  <a:pt x="823" y="73"/>
                </a:lnTo>
                <a:lnTo>
                  <a:pt x="850" y="69"/>
                </a:lnTo>
                <a:lnTo>
                  <a:pt x="873" y="63"/>
                </a:lnTo>
                <a:lnTo>
                  <a:pt x="898" y="59"/>
                </a:lnTo>
                <a:lnTo>
                  <a:pt x="919" y="54"/>
                </a:lnTo>
                <a:lnTo>
                  <a:pt x="938" y="48"/>
                </a:lnTo>
                <a:lnTo>
                  <a:pt x="957" y="44"/>
                </a:lnTo>
                <a:lnTo>
                  <a:pt x="975" y="38"/>
                </a:lnTo>
                <a:lnTo>
                  <a:pt x="992" y="34"/>
                </a:lnTo>
                <a:lnTo>
                  <a:pt x="1007" y="29"/>
                </a:lnTo>
                <a:lnTo>
                  <a:pt x="1021" y="25"/>
                </a:lnTo>
                <a:lnTo>
                  <a:pt x="1034" y="21"/>
                </a:lnTo>
                <a:lnTo>
                  <a:pt x="1048" y="17"/>
                </a:lnTo>
                <a:lnTo>
                  <a:pt x="1059" y="15"/>
                </a:lnTo>
                <a:lnTo>
                  <a:pt x="1071" y="11"/>
                </a:lnTo>
                <a:lnTo>
                  <a:pt x="1080" y="9"/>
                </a:lnTo>
                <a:lnTo>
                  <a:pt x="1090" y="7"/>
                </a:lnTo>
                <a:lnTo>
                  <a:pt x="1099" y="6"/>
                </a:lnTo>
                <a:lnTo>
                  <a:pt x="1107" y="4"/>
                </a:lnTo>
                <a:lnTo>
                  <a:pt x="1115" y="2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0" y="0"/>
                </a:lnTo>
                <a:lnTo>
                  <a:pt x="1149" y="0"/>
                </a:lnTo>
                <a:lnTo>
                  <a:pt x="1161" y="2"/>
                </a:lnTo>
                <a:lnTo>
                  <a:pt x="1172" y="6"/>
                </a:lnTo>
                <a:lnTo>
                  <a:pt x="1186" y="9"/>
                </a:lnTo>
                <a:lnTo>
                  <a:pt x="1201" y="15"/>
                </a:lnTo>
                <a:lnTo>
                  <a:pt x="1217" y="21"/>
                </a:lnTo>
                <a:lnTo>
                  <a:pt x="1234" y="29"/>
                </a:lnTo>
                <a:lnTo>
                  <a:pt x="1253" y="38"/>
                </a:lnTo>
                <a:lnTo>
                  <a:pt x="1259" y="46"/>
                </a:lnTo>
                <a:lnTo>
                  <a:pt x="1266" y="52"/>
                </a:lnTo>
                <a:lnTo>
                  <a:pt x="1272" y="57"/>
                </a:lnTo>
                <a:lnTo>
                  <a:pt x="1278" y="63"/>
                </a:lnTo>
                <a:lnTo>
                  <a:pt x="1289" y="73"/>
                </a:lnTo>
                <a:lnTo>
                  <a:pt x="1299" y="80"/>
                </a:lnTo>
                <a:lnTo>
                  <a:pt x="1303" y="84"/>
                </a:lnTo>
                <a:lnTo>
                  <a:pt x="1305" y="88"/>
                </a:lnTo>
                <a:lnTo>
                  <a:pt x="1309" y="90"/>
                </a:lnTo>
                <a:lnTo>
                  <a:pt x="1311" y="94"/>
                </a:lnTo>
                <a:lnTo>
                  <a:pt x="1313" y="96"/>
                </a:lnTo>
                <a:lnTo>
                  <a:pt x="1314" y="98"/>
                </a:lnTo>
                <a:lnTo>
                  <a:pt x="1316" y="101"/>
                </a:lnTo>
                <a:lnTo>
                  <a:pt x="1316" y="103"/>
                </a:lnTo>
                <a:lnTo>
                  <a:pt x="1316" y="105"/>
                </a:lnTo>
                <a:lnTo>
                  <a:pt x="1314" y="109"/>
                </a:lnTo>
                <a:lnTo>
                  <a:pt x="1313" y="111"/>
                </a:lnTo>
                <a:lnTo>
                  <a:pt x="1311" y="115"/>
                </a:lnTo>
                <a:lnTo>
                  <a:pt x="1309" y="119"/>
                </a:lnTo>
                <a:lnTo>
                  <a:pt x="1305" y="123"/>
                </a:lnTo>
                <a:lnTo>
                  <a:pt x="1301" y="126"/>
                </a:lnTo>
                <a:lnTo>
                  <a:pt x="1297" y="130"/>
                </a:lnTo>
                <a:lnTo>
                  <a:pt x="1291" y="132"/>
                </a:lnTo>
                <a:lnTo>
                  <a:pt x="1286" y="136"/>
                </a:lnTo>
                <a:lnTo>
                  <a:pt x="1280" y="140"/>
                </a:lnTo>
                <a:lnTo>
                  <a:pt x="1274" y="144"/>
                </a:lnTo>
                <a:lnTo>
                  <a:pt x="1266" y="148"/>
                </a:lnTo>
                <a:lnTo>
                  <a:pt x="1259" y="149"/>
                </a:lnTo>
                <a:lnTo>
                  <a:pt x="1249" y="153"/>
                </a:lnTo>
                <a:lnTo>
                  <a:pt x="1240" y="1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18"/>
          <p:cNvSpPr/>
          <p:nvPr/>
        </p:nvSpPr>
        <p:spPr>
          <a:xfrm>
            <a:off x="6313320" y="2739960"/>
            <a:ext cx="673200" cy="1182600"/>
          </a:xfrm>
          <a:custGeom>
            <a:avLst/>
            <a:gdLst/>
            <a:ahLst/>
            <a:rect l="l" t="t" r="r" b="b"/>
            <a:pathLst>
              <a:path w="849" h="1492">
                <a:moveTo>
                  <a:pt x="484" y="954"/>
                </a:moveTo>
                <a:lnTo>
                  <a:pt x="465" y="989"/>
                </a:lnTo>
                <a:lnTo>
                  <a:pt x="446" y="1022"/>
                </a:lnTo>
                <a:lnTo>
                  <a:pt x="427" y="1054"/>
                </a:lnTo>
                <a:lnTo>
                  <a:pt x="407" y="1085"/>
                </a:lnTo>
                <a:lnTo>
                  <a:pt x="388" y="1114"/>
                </a:lnTo>
                <a:lnTo>
                  <a:pt x="371" y="1142"/>
                </a:lnTo>
                <a:lnTo>
                  <a:pt x="352" y="1171"/>
                </a:lnTo>
                <a:lnTo>
                  <a:pt x="332" y="1198"/>
                </a:lnTo>
                <a:lnTo>
                  <a:pt x="313" y="1223"/>
                </a:lnTo>
                <a:lnTo>
                  <a:pt x="294" y="1248"/>
                </a:lnTo>
                <a:lnTo>
                  <a:pt x="275" y="1271"/>
                </a:lnTo>
                <a:lnTo>
                  <a:pt x="256" y="1294"/>
                </a:lnTo>
                <a:lnTo>
                  <a:pt x="237" y="1315"/>
                </a:lnTo>
                <a:lnTo>
                  <a:pt x="217" y="1334"/>
                </a:lnTo>
                <a:lnTo>
                  <a:pt x="200" y="1354"/>
                </a:lnTo>
                <a:lnTo>
                  <a:pt x="181" y="1371"/>
                </a:lnTo>
                <a:lnTo>
                  <a:pt x="162" y="1388"/>
                </a:lnTo>
                <a:lnTo>
                  <a:pt x="144" y="1403"/>
                </a:lnTo>
                <a:lnTo>
                  <a:pt x="129" y="1417"/>
                </a:lnTo>
                <a:lnTo>
                  <a:pt x="112" y="1430"/>
                </a:lnTo>
                <a:lnTo>
                  <a:pt x="98" y="1442"/>
                </a:lnTo>
                <a:lnTo>
                  <a:pt x="85" y="1453"/>
                </a:lnTo>
                <a:lnTo>
                  <a:pt x="71" y="1461"/>
                </a:lnTo>
                <a:lnTo>
                  <a:pt x="60" y="1469"/>
                </a:lnTo>
                <a:lnTo>
                  <a:pt x="48" y="1476"/>
                </a:lnTo>
                <a:lnTo>
                  <a:pt x="39" y="1482"/>
                </a:lnTo>
                <a:lnTo>
                  <a:pt x="31" y="1486"/>
                </a:lnTo>
                <a:lnTo>
                  <a:pt x="23" y="1488"/>
                </a:lnTo>
                <a:lnTo>
                  <a:pt x="16" y="1490"/>
                </a:lnTo>
                <a:lnTo>
                  <a:pt x="10" y="1492"/>
                </a:lnTo>
                <a:lnTo>
                  <a:pt x="6" y="1490"/>
                </a:lnTo>
                <a:lnTo>
                  <a:pt x="4" y="1488"/>
                </a:lnTo>
                <a:lnTo>
                  <a:pt x="2" y="1486"/>
                </a:lnTo>
                <a:lnTo>
                  <a:pt x="0" y="1482"/>
                </a:lnTo>
                <a:lnTo>
                  <a:pt x="0" y="1476"/>
                </a:lnTo>
                <a:lnTo>
                  <a:pt x="2" y="1471"/>
                </a:lnTo>
                <a:lnTo>
                  <a:pt x="4" y="1465"/>
                </a:lnTo>
                <a:lnTo>
                  <a:pt x="8" y="1457"/>
                </a:lnTo>
                <a:lnTo>
                  <a:pt x="12" y="1448"/>
                </a:lnTo>
                <a:lnTo>
                  <a:pt x="18" y="1438"/>
                </a:lnTo>
                <a:lnTo>
                  <a:pt x="23" y="1428"/>
                </a:lnTo>
                <a:lnTo>
                  <a:pt x="31" y="1415"/>
                </a:lnTo>
                <a:lnTo>
                  <a:pt x="41" y="1403"/>
                </a:lnTo>
                <a:lnTo>
                  <a:pt x="50" y="1388"/>
                </a:lnTo>
                <a:lnTo>
                  <a:pt x="62" y="1373"/>
                </a:lnTo>
                <a:lnTo>
                  <a:pt x="75" y="1356"/>
                </a:lnTo>
                <a:lnTo>
                  <a:pt x="89" y="1338"/>
                </a:lnTo>
                <a:lnTo>
                  <a:pt x="104" y="1319"/>
                </a:lnTo>
                <a:lnTo>
                  <a:pt x="121" y="1300"/>
                </a:lnTo>
                <a:lnTo>
                  <a:pt x="137" y="1279"/>
                </a:lnTo>
                <a:lnTo>
                  <a:pt x="154" y="1256"/>
                </a:lnTo>
                <a:lnTo>
                  <a:pt x="171" y="1235"/>
                </a:lnTo>
                <a:lnTo>
                  <a:pt x="189" y="1210"/>
                </a:lnTo>
                <a:lnTo>
                  <a:pt x="204" y="1185"/>
                </a:lnTo>
                <a:lnTo>
                  <a:pt x="221" y="1160"/>
                </a:lnTo>
                <a:lnTo>
                  <a:pt x="238" y="1133"/>
                </a:lnTo>
                <a:lnTo>
                  <a:pt x="256" y="1104"/>
                </a:lnTo>
                <a:lnTo>
                  <a:pt x="273" y="1075"/>
                </a:lnTo>
                <a:lnTo>
                  <a:pt x="292" y="1045"/>
                </a:lnTo>
                <a:lnTo>
                  <a:pt x="309" y="1014"/>
                </a:lnTo>
                <a:lnTo>
                  <a:pt x="327" y="981"/>
                </a:lnTo>
                <a:lnTo>
                  <a:pt x="346" y="949"/>
                </a:lnTo>
                <a:lnTo>
                  <a:pt x="363" y="914"/>
                </a:lnTo>
                <a:lnTo>
                  <a:pt x="382" y="878"/>
                </a:lnTo>
                <a:lnTo>
                  <a:pt x="398" y="841"/>
                </a:lnTo>
                <a:lnTo>
                  <a:pt x="415" y="805"/>
                </a:lnTo>
                <a:lnTo>
                  <a:pt x="430" y="770"/>
                </a:lnTo>
                <a:lnTo>
                  <a:pt x="446" y="736"/>
                </a:lnTo>
                <a:lnTo>
                  <a:pt x="461" y="701"/>
                </a:lnTo>
                <a:lnTo>
                  <a:pt x="475" y="668"/>
                </a:lnTo>
                <a:lnTo>
                  <a:pt x="490" y="634"/>
                </a:lnTo>
                <a:lnTo>
                  <a:pt x="503" y="601"/>
                </a:lnTo>
                <a:lnTo>
                  <a:pt x="517" y="570"/>
                </a:lnTo>
                <a:lnTo>
                  <a:pt x="530" y="538"/>
                </a:lnTo>
                <a:lnTo>
                  <a:pt x="542" y="507"/>
                </a:lnTo>
                <a:lnTo>
                  <a:pt x="555" y="476"/>
                </a:lnTo>
                <a:lnTo>
                  <a:pt x="567" y="446"/>
                </a:lnTo>
                <a:lnTo>
                  <a:pt x="576" y="415"/>
                </a:lnTo>
                <a:lnTo>
                  <a:pt x="588" y="386"/>
                </a:lnTo>
                <a:lnTo>
                  <a:pt x="597" y="357"/>
                </a:lnTo>
                <a:lnTo>
                  <a:pt x="603" y="329"/>
                </a:lnTo>
                <a:lnTo>
                  <a:pt x="609" y="302"/>
                </a:lnTo>
                <a:lnTo>
                  <a:pt x="615" y="275"/>
                </a:lnTo>
                <a:lnTo>
                  <a:pt x="620" y="252"/>
                </a:lnTo>
                <a:lnTo>
                  <a:pt x="624" y="229"/>
                </a:lnTo>
                <a:lnTo>
                  <a:pt x="628" y="208"/>
                </a:lnTo>
                <a:lnTo>
                  <a:pt x="630" y="188"/>
                </a:lnTo>
                <a:lnTo>
                  <a:pt x="632" y="171"/>
                </a:lnTo>
                <a:lnTo>
                  <a:pt x="634" y="154"/>
                </a:lnTo>
                <a:lnTo>
                  <a:pt x="634" y="140"/>
                </a:lnTo>
                <a:lnTo>
                  <a:pt x="634" y="127"/>
                </a:lnTo>
                <a:lnTo>
                  <a:pt x="634" y="116"/>
                </a:lnTo>
                <a:lnTo>
                  <a:pt x="632" y="104"/>
                </a:lnTo>
                <a:lnTo>
                  <a:pt x="630" y="96"/>
                </a:lnTo>
                <a:lnTo>
                  <a:pt x="626" y="89"/>
                </a:lnTo>
                <a:lnTo>
                  <a:pt x="622" y="83"/>
                </a:lnTo>
                <a:lnTo>
                  <a:pt x="617" y="77"/>
                </a:lnTo>
                <a:lnTo>
                  <a:pt x="613" y="73"/>
                </a:lnTo>
                <a:lnTo>
                  <a:pt x="611" y="68"/>
                </a:lnTo>
                <a:lnTo>
                  <a:pt x="607" y="64"/>
                </a:lnTo>
                <a:lnTo>
                  <a:pt x="605" y="60"/>
                </a:lnTo>
                <a:lnTo>
                  <a:pt x="603" y="54"/>
                </a:lnTo>
                <a:lnTo>
                  <a:pt x="601" y="46"/>
                </a:lnTo>
                <a:lnTo>
                  <a:pt x="601" y="37"/>
                </a:lnTo>
                <a:lnTo>
                  <a:pt x="603" y="29"/>
                </a:lnTo>
                <a:lnTo>
                  <a:pt x="605" y="23"/>
                </a:lnTo>
                <a:lnTo>
                  <a:pt x="609" y="18"/>
                </a:lnTo>
                <a:lnTo>
                  <a:pt x="615" y="14"/>
                </a:lnTo>
                <a:lnTo>
                  <a:pt x="620" y="8"/>
                </a:lnTo>
                <a:lnTo>
                  <a:pt x="628" y="4"/>
                </a:lnTo>
                <a:lnTo>
                  <a:pt x="638" y="2"/>
                </a:lnTo>
                <a:lnTo>
                  <a:pt x="647" y="0"/>
                </a:lnTo>
                <a:lnTo>
                  <a:pt x="659" y="0"/>
                </a:lnTo>
                <a:lnTo>
                  <a:pt x="665" y="0"/>
                </a:lnTo>
                <a:lnTo>
                  <a:pt x="672" y="2"/>
                </a:lnTo>
                <a:lnTo>
                  <a:pt x="678" y="2"/>
                </a:lnTo>
                <a:lnTo>
                  <a:pt x="686" y="6"/>
                </a:lnTo>
                <a:lnTo>
                  <a:pt x="699" y="10"/>
                </a:lnTo>
                <a:lnTo>
                  <a:pt x="711" y="16"/>
                </a:lnTo>
                <a:lnTo>
                  <a:pt x="724" y="20"/>
                </a:lnTo>
                <a:lnTo>
                  <a:pt x="736" y="25"/>
                </a:lnTo>
                <a:lnTo>
                  <a:pt x="747" y="29"/>
                </a:lnTo>
                <a:lnTo>
                  <a:pt x="759" y="35"/>
                </a:lnTo>
                <a:lnTo>
                  <a:pt x="772" y="39"/>
                </a:lnTo>
                <a:lnTo>
                  <a:pt x="785" y="45"/>
                </a:lnTo>
                <a:lnTo>
                  <a:pt x="793" y="48"/>
                </a:lnTo>
                <a:lnTo>
                  <a:pt x="799" y="54"/>
                </a:lnTo>
                <a:lnTo>
                  <a:pt x="805" y="58"/>
                </a:lnTo>
                <a:lnTo>
                  <a:pt x="810" y="64"/>
                </a:lnTo>
                <a:lnTo>
                  <a:pt x="820" y="73"/>
                </a:lnTo>
                <a:lnTo>
                  <a:pt x="828" y="83"/>
                </a:lnTo>
                <a:lnTo>
                  <a:pt x="833" y="92"/>
                </a:lnTo>
                <a:lnTo>
                  <a:pt x="839" y="102"/>
                </a:lnTo>
                <a:lnTo>
                  <a:pt x="845" y="112"/>
                </a:lnTo>
                <a:lnTo>
                  <a:pt x="849" y="123"/>
                </a:lnTo>
                <a:lnTo>
                  <a:pt x="849" y="131"/>
                </a:lnTo>
                <a:lnTo>
                  <a:pt x="847" y="139"/>
                </a:lnTo>
                <a:lnTo>
                  <a:pt x="845" y="150"/>
                </a:lnTo>
                <a:lnTo>
                  <a:pt x="841" y="162"/>
                </a:lnTo>
                <a:lnTo>
                  <a:pt x="837" y="175"/>
                </a:lnTo>
                <a:lnTo>
                  <a:pt x="833" y="188"/>
                </a:lnTo>
                <a:lnTo>
                  <a:pt x="828" y="206"/>
                </a:lnTo>
                <a:lnTo>
                  <a:pt x="822" y="223"/>
                </a:lnTo>
                <a:lnTo>
                  <a:pt x="814" y="242"/>
                </a:lnTo>
                <a:lnTo>
                  <a:pt x="807" y="263"/>
                </a:lnTo>
                <a:lnTo>
                  <a:pt x="799" y="284"/>
                </a:lnTo>
                <a:lnTo>
                  <a:pt x="789" y="309"/>
                </a:lnTo>
                <a:lnTo>
                  <a:pt x="780" y="334"/>
                </a:lnTo>
                <a:lnTo>
                  <a:pt x="770" y="361"/>
                </a:lnTo>
                <a:lnTo>
                  <a:pt x="759" y="390"/>
                </a:lnTo>
                <a:lnTo>
                  <a:pt x="749" y="421"/>
                </a:lnTo>
                <a:lnTo>
                  <a:pt x="736" y="453"/>
                </a:lnTo>
                <a:lnTo>
                  <a:pt x="724" y="486"/>
                </a:lnTo>
                <a:lnTo>
                  <a:pt x="711" y="519"/>
                </a:lnTo>
                <a:lnTo>
                  <a:pt x="697" y="551"/>
                </a:lnTo>
                <a:lnTo>
                  <a:pt x="682" y="584"/>
                </a:lnTo>
                <a:lnTo>
                  <a:pt x="666" y="617"/>
                </a:lnTo>
                <a:lnTo>
                  <a:pt x="651" y="649"/>
                </a:lnTo>
                <a:lnTo>
                  <a:pt x="634" y="684"/>
                </a:lnTo>
                <a:lnTo>
                  <a:pt x="617" y="716"/>
                </a:lnTo>
                <a:lnTo>
                  <a:pt x="599" y="751"/>
                </a:lnTo>
                <a:lnTo>
                  <a:pt x="582" y="784"/>
                </a:lnTo>
                <a:lnTo>
                  <a:pt x="563" y="818"/>
                </a:lnTo>
                <a:lnTo>
                  <a:pt x="544" y="853"/>
                </a:lnTo>
                <a:lnTo>
                  <a:pt x="524" y="887"/>
                </a:lnTo>
                <a:lnTo>
                  <a:pt x="503" y="920"/>
                </a:lnTo>
                <a:lnTo>
                  <a:pt x="484" y="9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19"/>
          <p:cNvSpPr/>
          <p:nvPr/>
        </p:nvSpPr>
        <p:spPr>
          <a:xfrm>
            <a:off x="6716880" y="3476520"/>
            <a:ext cx="529920" cy="1190880"/>
          </a:xfrm>
          <a:custGeom>
            <a:avLst/>
            <a:gdLst/>
            <a:ahLst/>
            <a:rect l="l" t="t" r="r" b="b"/>
            <a:pathLst>
              <a:path w="668" h="1499">
                <a:moveTo>
                  <a:pt x="657" y="1223"/>
                </a:moveTo>
                <a:lnTo>
                  <a:pt x="651" y="1248"/>
                </a:lnTo>
                <a:lnTo>
                  <a:pt x="645" y="1271"/>
                </a:lnTo>
                <a:lnTo>
                  <a:pt x="639" y="1296"/>
                </a:lnTo>
                <a:lnTo>
                  <a:pt x="633" y="1321"/>
                </a:lnTo>
                <a:lnTo>
                  <a:pt x="626" y="1346"/>
                </a:lnTo>
                <a:lnTo>
                  <a:pt x="616" y="1369"/>
                </a:lnTo>
                <a:lnTo>
                  <a:pt x="610" y="1382"/>
                </a:lnTo>
                <a:lnTo>
                  <a:pt x="605" y="1394"/>
                </a:lnTo>
                <a:lnTo>
                  <a:pt x="599" y="1405"/>
                </a:lnTo>
                <a:lnTo>
                  <a:pt x="593" y="1419"/>
                </a:lnTo>
                <a:lnTo>
                  <a:pt x="586" y="1430"/>
                </a:lnTo>
                <a:lnTo>
                  <a:pt x="578" y="1442"/>
                </a:lnTo>
                <a:lnTo>
                  <a:pt x="572" y="1452"/>
                </a:lnTo>
                <a:lnTo>
                  <a:pt x="564" y="1461"/>
                </a:lnTo>
                <a:lnTo>
                  <a:pt x="557" y="1469"/>
                </a:lnTo>
                <a:lnTo>
                  <a:pt x="551" y="1476"/>
                </a:lnTo>
                <a:lnTo>
                  <a:pt x="543" y="1482"/>
                </a:lnTo>
                <a:lnTo>
                  <a:pt x="538" y="1488"/>
                </a:lnTo>
                <a:lnTo>
                  <a:pt x="532" y="1492"/>
                </a:lnTo>
                <a:lnTo>
                  <a:pt x="524" y="1496"/>
                </a:lnTo>
                <a:lnTo>
                  <a:pt x="518" y="1498"/>
                </a:lnTo>
                <a:lnTo>
                  <a:pt x="513" y="1499"/>
                </a:lnTo>
                <a:lnTo>
                  <a:pt x="507" y="1499"/>
                </a:lnTo>
                <a:lnTo>
                  <a:pt x="501" y="1499"/>
                </a:lnTo>
                <a:lnTo>
                  <a:pt x="497" y="1499"/>
                </a:lnTo>
                <a:lnTo>
                  <a:pt x="491" y="1498"/>
                </a:lnTo>
                <a:lnTo>
                  <a:pt x="484" y="1496"/>
                </a:lnTo>
                <a:lnTo>
                  <a:pt x="478" y="1496"/>
                </a:lnTo>
                <a:lnTo>
                  <a:pt x="472" y="1494"/>
                </a:lnTo>
                <a:lnTo>
                  <a:pt x="468" y="1492"/>
                </a:lnTo>
                <a:lnTo>
                  <a:pt x="463" y="1490"/>
                </a:lnTo>
                <a:lnTo>
                  <a:pt x="459" y="1486"/>
                </a:lnTo>
                <a:lnTo>
                  <a:pt x="455" y="1482"/>
                </a:lnTo>
                <a:lnTo>
                  <a:pt x="451" y="1476"/>
                </a:lnTo>
                <a:lnTo>
                  <a:pt x="449" y="1473"/>
                </a:lnTo>
                <a:lnTo>
                  <a:pt x="447" y="1467"/>
                </a:lnTo>
                <a:lnTo>
                  <a:pt x="445" y="1459"/>
                </a:lnTo>
                <a:lnTo>
                  <a:pt x="443" y="1453"/>
                </a:lnTo>
                <a:lnTo>
                  <a:pt x="443" y="1446"/>
                </a:lnTo>
                <a:lnTo>
                  <a:pt x="442" y="1436"/>
                </a:lnTo>
                <a:lnTo>
                  <a:pt x="442" y="1428"/>
                </a:lnTo>
                <a:lnTo>
                  <a:pt x="442" y="1419"/>
                </a:lnTo>
                <a:lnTo>
                  <a:pt x="442" y="1411"/>
                </a:lnTo>
                <a:lnTo>
                  <a:pt x="440" y="1404"/>
                </a:lnTo>
                <a:lnTo>
                  <a:pt x="438" y="1396"/>
                </a:lnTo>
                <a:lnTo>
                  <a:pt x="436" y="1386"/>
                </a:lnTo>
                <a:lnTo>
                  <a:pt x="434" y="1379"/>
                </a:lnTo>
                <a:lnTo>
                  <a:pt x="430" y="1371"/>
                </a:lnTo>
                <a:lnTo>
                  <a:pt x="426" y="1361"/>
                </a:lnTo>
                <a:lnTo>
                  <a:pt x="420" y="1352"/>
                </a:lnTo>
                <a:lnTo>
                  <a:pt x="415" y="1342"/>
                </a:lnTo>
                <a:lnTo>
                  <a:pt x="409" y="1334"/>
                </a:lnTo>
                <a:lnTo>
                  <a:pt x="401" y="1325"/>
                </a:lnTo>
                <a:lnTo>
                  <a:pt x="394" y="1315"/>
                </a:lnTo>
                <a:lnTo>
                  <a:pt x="384" y="1306"/>
                </a:lnTo>
                <a:lnTo>
                  <a:pt x="374" y="1296"/>
                </a:lnTo>
                <a:lnTo>
                  <a:pt x="365" y="1285"/>
                </a:lnTo>
                <a:lnTo>
                  <a:pt x="353" y="1275"/>
                </a:lnTo>
                <a:lnTo>
                  <a:pt x="342" y="1267"/>
                </a:lnTo>
                <a:lnTo>
                  <a:pt x="332" y="1261"/>
                </a:lnTo>
                <a:lnTo>
                  <a:pt x="323" y="1254"/>
                </a:lnTo>
                <a:lnTo>
                  <a:pt x="315" y="1246"/>
                </a:lnTo>
                <a:lnTo>
                  <a:pt x="307" y="1238"/>
                </a:lnTo>
                <a:lnTo>
                  <a:pt x="301" y="1233"/>
                </a:lnTo>
                <a:lnTo>
                  <a:pt x="298" y="1227"/>
                </a:lnTo>
                <a:lnTo>
                  <a:pt x="294" y="1219"/>
                </a:lnTo>
                <a:lnTo>
                  <a:pt x="290" y="1213"/>
                </a:lnTo>
                <a:lnTo>
                  <a:pt x="288" y="1208"/>
                </a:lnTo>
                <a:lnTo>
                  <a:pt x="286" y="1204"/>
                </a:lnTo>
                <a:lnTo>
                  <a:pt x="286" y="1198"/>
                </a:lnTo>
                <a:lnTo>
                  <a:pt x="286" y="1194"/>
                </a:lnTo>
                <a:lnTo>
                  <a:pt x="286" y="1190"/>
                </a:lnTo>
                <a:lnTo>
                  <a:pt x="288" y="1187"/>
                </a:lnTo>
                <a:lnTo>
                  <a:pt x="290" y="1185"/>
                </a:lnTo>
                <a:lnTo>
                  <a:pt x="296" y="1181"/>
                </a:lnTo>
                <a:lnTo>
                  <a:pt x="301" y="1177"/>
                </a:lnTo>
                <a:lnTo>
                  <a:pt x="305" y="1175"/>
                </a:lnTo>
                <a:lnTo>
                  <a:pt x="311" y="1175"/>
                </a:lnTo>
                <a:lnTo>
                  <a:pt x="315" y="1175"/>
                </a:lnTo>
                <a:lnTo>
                  <a:pt x="321" y="1175"/>
                </a:lnTo>
                <a:lnTo>
                  <a:pt x="326" y="1175"/>
                </a:lnTo>
                <a:lnTo>
                  <a:pt x="334" y="1175"/>
                </a:lnTo>
                <a:lnTo>
                  <a:pt x="342" y="1175"/>
                </a:lnTo>
                <a:lnTo>
                  <a:pt x="349" y="1177"/>
                </a:lnTo>
                <a:lnTo>
                  <a:pt x="359" y="1179"/>
                </a:lnTo>
                <a:lnTo>
                  <a:pt x="369" y="1179"/>
                </a:lnTo>
                <a:lnTo>
                  <a:pt x="380" y="1183"/>
                </a:lnTo>
                <a:lnTo>
                  <a:pt x="392" y="1185"/>
                </a:lnTo>
                <a:lnTo>
                  <a:pt x="401" y="1187"/>
                </a:lnTo>
                <a:lnTo>
                  <a:pt x="413" y="1189"/>
                </a:lnTo>
                <a:lnTo>
                  <a:pt x="422" y="1190"/>
                </a:lnTo>
                <a:lnTo>
                  <a:pt x="432" y="1192"/>
                </a:lnTo>
                <a:lnTo>
                  <a:pt x="440" y="1192"/>
                </a:lnTo>
                <a:lnTo>
                  <a:pt x="447" y="1192"/>
                </a:lnTo>
                <a:lnTo>
                  <a:pt x="453" y="1192"/>
                </a:lnTo>
                <a:lnTo>
                  <a:pt x="461" y="1192"/>
                </a:lnTo>
                <a:lnTo>
                  <a:pt x="467" y="1192"/>
                </a:lnTo>
                <a:lnTo>
                  <a:pt x="470" y="1190"/>
                </a:lnTo>
                <a:lnTo>
                  <a:pt x="476" y="1189"/>
                </a:lnTo>
                <a:lnTo>
                  <a:pt x="480" y="1187"/>
                </a:lnTo>
                <a:lnTo>
                  <a:pt x="484" y="1183"/>
                </a:lnTo>
                <a:lnTo>
                  <a:pt x="486" y="1179"/>
                </a:lnTo>
                <a:lnTo>
                  <a:pt x="490" y="1175"/>
                </a:lnTo>
                <a:lnTo>
                  <a:pt x="491" y="1171"/>
                </a:lnTo>
                <a:lnTo>
                  <a:pt x="493" y="1165"/>
                </a:lnTo>
                <a:lnTo>
                  <a:pt x="495" y="1160"/>
                </a:lnTo>
                <a:lnTo>
                  <a:pt x="497" y="1152"/>
                </a:lnTo>
                <a:lnTo>
                  <a:pt x="499" y="1144"/>
                </a:lnTo>
                <a:lnTo>
                  <a:pt x="499" y="1135"/>
                </a:lnTo>
                <a:lnTo>
                  <a:pt x="501" y="1125"/>
                </a:lnTo>
                <a:lnTo>
                  <a:pt x="501" y="1114"/>
                </a:lnTo>
                <a:lnTo>
                  <a:pt x="503" y="1102"/>
                </a:lnTo>
                <a:lnTo>
                  <a:pt x="503" y="1089"/>
                </a:lnTo>
                <a:lnTo>
                  <a:pt x="503" y="1073"/>
                </a:lnTo>
                <a:lnTo>
                  <a:pt x="503" y="1058"/>
                </a:lnTo>
                <a:lnTo>
                  <a:pt x="503" y="1041"/>
                </a:lnTo>
                <a:lnTo>
                  <a:pt x="503" y="1023"/>
                </a:lnTo>
                <a:lnTo>
                  <a:pt x="505" y="1004"/>
                </a:lnTo>
                <a:lnTo>
                  <a:pt x="505" y="985"/>
                </a:lnTo>
                <a:lnTo>
                  <a:pt x="505" y="964"/>
                </a:lnTo>
                <a:lnTo>
                  <a:pt x="505" y="943"/>
                </a:lnTo>
                <a:lnTo>
                  <a:pt x="505" y="922"/>
                </a:lnTo>
                <a:lnTo>
                  <a:pt x="503" y="899"/>
                </a:lnTo>
                <a:lnTo>
                  <a:pt x="503" y="876"/>
                </a:lnTo>
                <a:lnTo>
                  <a:pt x="503" y="851"/>
                </a:lnTo>
                <a:lnTo>
                  <a:pt x="503" y="824"/>
                </a:lnTo>
                <a:lnTo>
                  <a:pt x="503" y="797"/>
                </a:lnTo>
                <a:lnTo>
                  <a:pt x="503" y="768"/>
                </a:lnTo>
                <a:lnTo>
                  <a:pt x="501" y="737"/>
                </a:lnTo>
                <a:lnTo>
                  <a:pt x="501" y="707"/>
                </a:lnTo>
                <a:lnTo>
                  <a:pt x="499" y="674"/>
                </a:lnTo>
                <a:lnTo>
                  <a:pt x="499" y="641"/>
                </a:lnTo>
                <a:lnTo>
                  <a:pt x="497" y="607"/>
                </a:lnTo>
                <a:lnTo>
                  <a:pt x="495" y="570"/>
                </a:lnTo>
                <a:lnTo>
                  <a:pt x="493" y="534"/>
                </a:lnTo>
                <a:lnTo>
                  <a:pt x="491" y="496"/>
                </a:lnTo>
                <a:lnTo>
                  <a:pt x="490" y="459"/>
                </a:lnTo>
                <a:lnTo>
                  <a:pt x="486" y="425"/>
                </a:lnTo>
                <a:lnTo>
                  <a:pt x="486" y="409"/>
                </a:lnTo>
                <a:lnTo>
                  <a:pt x="484" y="394"/>
                </a:lnTo>
                <a:lnTo>
                  <a:pt x="482" y="379"/>
                </a:lnTo>
                <a:lnTo>
                  <a:pt x="480" y="363"/>
                </a:lnTo>
                <a:lnTo>
                  <a:pt x="478" y="350"/>
                </a:lnTo>
                <a:lnTo>
                  <a:pt x="476" y="334"/>
                </a:lnTo>
                <a:lnTo>
                  <a:pt x="474" y="323"/>
                </a:lnTo>
                <a:lnTo>
                  <a:pt x="474" y="309"/>
                </a:lnTo>
                <a:lnTo>
                  <a:pt x="472" y="298"/>
                </a:lnTo>
                <a:lnTo>
                  <a:pt x="470" y="286"/>
                </a:lnTo>
                <a:lnTo>
                  <a:pt x="468" y="275"/>
                </a:lnTo>
                <a:lnTo>
                  <a:pt x="467" y="263"/>
                </a:lnTo>
                <a:lnTo>
                  <a:pt x="465" y="254"/>
                </a:lnTo>
                <a:lnTo>
                  <a:pt x="463" y="244"/>
                </a:lnTo>
                <a:lnTo>
                  <a:pt x="461" y="235"/>
                </a:lnTo>
                <a:lnTo>
                  <a:pt x="459" y="227"/>
                </a:lnTo>
                <a:lnTo>
                  <a:pt x="457" y="219"/>
                </a:lnTo>
                <a:lnTo>
                  <a:pt x="455" y="212"/>
                </a:lnTo>
                <a:lnTo>
                  <a:pt x="455" y="204"/>
                </a:lnTo>
                <a:lnTo>
                  <a:pt x="453" y="198"/>
                </a:lnTo>
                <a:lnTo>
                  <a:pt x="451" y="192"/>
                </a:lnTo>
                <a:lnTo>
                  <a:pt x="449" y="187"/>
                </a:lnTo>
                <a:lnTo>
                  <a:pt x="447" y="183"/>
                </a:lnTo>
                <a:lnTo>
                  <a:pt x="445" y="179"/>
                </a:lnTo>
                <a:lnTo>
                  <a:pt x="445" y="175"/>
                </a:lnTo>
                <a:lnTo>
                  <a:pt x="443" y="173"/>
                </a:lnTo>
                <a:lnTo>
                  <a:pt x="442" y="171"/>
                </a:lnTo>
                <a:lnTo>
                  <a:pt x="442" y="169"/>
                </a:lnTo>
                <a:lnTo>
                  <a:pt x="440" y="167"/>
                </a:lnTo>
                <a:lnTo>
                  <a:pt x="438" y="167"/>
                </a:lnTo>
                <a:lnTo>
                  <a:pt x="434" y="165"/>
                </a:lnTo>
                <a:lnTo>
                  <a:pt x="430" y="165"/>
                </a:lnTo>
                <a:lnTo>
                  <a:pt x="424" y="165"/>
                </a:lnTo>
                <a:lnTo>
                  <a:pt x="420" y="165"/>
                </a:lnTo>
                <a:lnTo>
                  <a:pt x="413" y="164"/>
                </a:lnTo>
                <a:lnTo>
                  <a:pt x="405" y="164"/>
                </a:lnTo>
                <a:lnTo>
                  <a:pt x="397" y="164"/>
                </a:lnTo>
                <a:lnTo>
                  <a:pt x="390" y="165"/>
                </a:lnTo>
                <a:lnTo>
                  <a:pt x="380" y="165"/>
                </a:lnTo>
                <a:lnTo>
                  <a:pt x="369" y="165"/>
                </a:lnTo>
                <a:lnTo>
                  <a:pt x="357" y="167"/>
                </a:lnTo>
                <a:lnTo>
                  <a:pt x="346" y="167"/>
                </a:lnTo>
                <a:lnTo>
                  <a:pt x="334" y="169"/>
                </a:lnTo>
                <a:lnTo>
                  <a:pt x="321" y="171"/>
                </a:lnTo>
                <a:lnTo>
                  <a:pt x="305" y="171"/>
                </a:lnTo>
                <a:lnTo>
                  <a:pt x="290" y="173"/>
                </a:lnTo>
                <a:lnTo>
                  <a:pt x="275" y="175"/>
                </a:lnTo>
                <a:lnTo>
                  <a:pt x="257" y="179"/>
                </a:lnTo>
                <a:lnTo>
                  <a:pt x="240" y="181"/>
                </a:lnTo>
                <a:lnTo>
                  <a:pt x="223" y="183"/>
                </a:lnTo>
                <a:lnTo>
                  <a:pt x="204" y="187"/>
                </a:lnTo>
                <a:lnTo>
                  <a:pt x="184" y="188"/>
                </a:lnTo>
                <a:lnTo>
                  <a:pt x="163" y="192"/>
                </a:lnTo>
                <a:lnTo>
                  <a:pt x="142" y="196"/>
                </a:lnTo>
                <a:lnTo>
                  <a:pt x="121" y="200"/>
                </a:lnTo>
                <a:lnTo>
                  <a:pt x="98" y="204"/>
                </a:lnTo>
                <a:lnTo>
                  <a:pt x="75" y="208"/>
                </a:lnTo>
                <a:lnTo>
                  <a:pt x="50" y="212"/>
                </a:lnTo>
                <a:lnTo>
                  <a:pt x="25" y="217"/>
                </a:lnTo>
                <a:lnTo>
                  <a:pt x="0" y="221"/>
                </a:lnTo>
                <a:lnTo>
                  <a:pt x="6" y="169"/>
                </a:lnTo>
                <a:lnTo>
                  <a:pt x="12" y="117"/>
                </a:lnTo>
                <a:lnTo>
                  <a:pt x="35" y="116"/>
                </a:lnTo>
                <a:lnTo>
                  <a:pt x="58" y="112"/>
                </a:lnTo>
                <a:lnTo>
                  <a:pt x="79" y="110"/>
                </a:lnTo>
                <a:lnTo>
                  <a:pt x="100" y="108"/>
                </a:lnTo>
                <a:lnTo>
                  <a:pt x="119" y="104"/>
                </a:lnTo>
                <a:lnTo>
                  <a:pt x="138" y="102"/>
                </a:lnTo>
                <a:lnTo>
                  <a:pt x="157" y="100"/>
                </a:lnTo>
                <a:lnTo>
                  <a:pt x="175" y="98"/>
                </a:lnTo>
                <a:lnTo>
                  <a:pt x="192" y="94"/>
                </a:lnTo>
                <a:lnTo>
                  <a:pt x="207" y="93"/>
                </a:lnTo>
                <a:lnTo>
                  <a:pt x="223" y="91"/>
                </a:lnTo>
                <a:lnTo>
                  <a:pt x="238" y="89"/>
                </a:lnTo>
                <a:lnTo>
                  <a:pt x="252" y="85"/>
                </a:lnTo>
                <a:lnTo>
                  <a:pt x="265" y="83"/>
                </a:lnTo>
                <a:lnTo>
                  <a:pt x="276" y="81"/>
                </a:lnTo>
                <a:lnTo>
                  <a:pt x="290" y="79"/>
                </a:lnTo>
                <a:lnTo>
                  <a:pt x="307" y="73"/>
                </a:lnTo>
                <a:lnTo>
                  <a:pt x="324" y="68"/>
                </a:lnTo>
                <a:lnTo>
                  <a:pt x="342" y="62"/>
                </a:lnTo>
                <a:lnTo>
                  <a:pt x="355" y="56"/>
                </a:lnTo>
                <a:lnTo>
                  <a:pt x="369" y="50"/>
                </a:lnTo>
                <a:lnTo>
                  <a:pt x="382" y="43"/>
                </a:lnTo>
                <a:lnTo>
                  <a:pt x="394" y="35"/>
                </a:lnTo>
                <a:lnTo>
                  <a:pt x="403" y="25"/>
                </a:lnTo>
                <a:lnTo>
                  <a:pt x="409" y="21"/>
                </a:lnTo>
                <a:lnTo>
                  <a:pt x="415" y="16"/>
                </a:lnTo>
                <a:lnTo>
                  <a:pt x="422" y="12"/>
                </a:lnTo>
                <a:lnTo>
                  <a:pt x="432" y="8"/>
                </a:lnTo>
                <a:lnTo>
                  <a:pt x="442" y="4"/>
                </a:lnTo>
                <a:lnTo>
                  <a:pt x="453" y="2"/>
                </a:lnTo>
                <a:lnTo>
                  <a:pt x="465" y="0"/>
                </a:lnTo>
                <a:lnTo>
                  <a:pt x="480" y="0"/>
                </a:lnTo>
                <a:lnTo>
                  <a:pt x="490" y="4"/>
                </a:lnTo>
                <a:lnTo>
                  <a:pt x="501" y="10"/>
                </a:lnTo>
                <a:lnTo>
                  <a:pt x="513" y="16"/>
                </a:lnTo>
                <a:lnTo>
                  <a:pt x="526" y="23"/>
                </a:lnTo>
                <a:lnTo>
                  <a:pt x="541" y="31"/>
                </a:lnTo>
                <a:lnTo>
                  <a:pt x="549" y="35"/>
                </a:lnTo>
                <a:lnTo>
                  <a:pt x="557" y="41"/>
                </a:lnTo>
                <a:lnTo>
                  <a:pt x="566" y="46"/>
                </a:lnTo>
                <a:lnTo>
                  <a:pt x="574" y="52"/>
                </a:lnTo>
                <a:lnTo>
                  <a:pt x="584" y="58"/>
                </a:lnTo>
                <a:lnTo>
                  <a:pt x="593" y="66"/>
                </a:lnTo>
                <a:lnTo>
                  <a:pt x="601" y="73"/>
                </a:lnTo>
                <a:lnTo>
                  <a:pt x="610" y="79"/>
                </a:lnTo>
                <a:lnTo>
                  <a:pt x="618" y="87"/>
                </a:lnTo>
                <a:lnTo>
                  <a:pt x="626" y="93"/>
                </a:lnTo>
                <a:lnTo>
                  <a:pt x="632" y="98"/>
                </a:lnTo>
                <a:lnTo>
                  <a:pt x="639" y="104"/>
                </a:lnTo>
                <a:lnTo>
                  <a:pt x="643" y="110"/>
                </a:lnTo>
                <a:lnTo>
                  <a:pt x="649" y="114"/>
                </a:lnTo>
                <a:lnTo>
                  <a:pt x="653" y="119"/>
                </a:lnTo>
                <a:lnTo>
                  <a:pt x="657" y="123"/>
                </a:lnTo>
                <a:lnTo>
                  <a:pt x="660" y="127"/>
                </a:lnTo>
                <a:lnTo>
                  <a:pt x="664" y="131"/>
                </a:lnTo>
                <a:lnTo>
                  <a:pt x="666" y="135"/>
                </a:lnTo>
                <a:lnTo>
                  <a:pt x="666" y="137"/>
                </a:lnTo>
                <a:lnTo>
                  <a:pt x="668" y="141"/>
                </a:lnTo>
                <a:lnTo>
                  <a:pt x="668" y="142"/>
                </a:lnTo>
                <a:lnTo>
                  <a:pt x="668" y="152"/>
                </a:lnTo>
                <a:lnTo>
                  <a:pt x="666" y="164"/>
                </a:lnTo>
                <a:lnTo>
                  <a:pt x="664" y="173"/>
                </a:lnTo>
                <a:lnTo>
                  <a:pt x="660" y="183"/>
                </a:lnTo>
                <a:lnTo>
                  <a:pt x="657" y="192"/>
                </a:lnTo>
                <a:lnTo>
                  <a:pt x="653" y="202"/>
                </a:lnTo>
                <a:lnTo>
                  <a:pt x="643" y="221"/>
                </a:lnTo>
                <a:lnTo>
                  <a:pt x="641" y="225"/>
                </a:lnTo>
                <a:lnTo>
                  <a:pt x="639" y="227"/>
                </a:lnTo>
                <a:lnTo>
                  <a:pt x="637" y="233"/>
                </a:lnTo>
                <a:lnTo>
                  <a:pt x="635" y="236"/>
                </a:lnTo>
                <a:lnTo>
                  <a:pt x="633" y="242"/>
                </a:lnTo>
                <a:lnTo>
                  <a:pt x="632" y="250"/>
                </a:lnTo>
                <a:lnTo>
                  <a:pt x="630" y="258"/>
                </a:lnTo>
                <a:lnTo>
                  <a:pt x="630" y="265"/>
                </a:lnTo>
                <a:lnTo>
                  <a:pt x="628" y="275"/>
                </a:lnTo>
                <a:lnTo>
                  <a:pt x="628" y="284"/>
                </a:lnTo>
                <a:lnTo>
                  <a:pt x="626" y="294"/>
                </a:lnTo>
                <a:lnTo>
                  <a:pt x="626" y="306"/>
                </a:lnTo>
                <a:lnTo>
                  <a:pt x="626" y="317"/>
                </a:lnTo>
                <a:lnTo>
                  <a:pt x="624" y="331"/>
                </a:lnTo>
                <a:lnTo>
                  <a:pt x="624" y="344"/>
                </a:lnTo>
                <a:lnTo>
                  <a:pt x="624" y="357"/>
                </a:lnTo>
                <a:lnTo>
                  <a:pt x="624" y="373"/>
                </a:lnTo>
                <a:lnTo>
                  <a:pt x="624" y="388"/>
                </a:lnTo>
                <a:lnTo>
                  <a:pt x="626" y="405"/>
                </a:lnTo>
                <a:lnTo>
                  <a:pt x="626" y="423"/>
                </a:lnTo>
                <a:lnTo>
                  <a:pt x="626" y="440"/>
                </a:lnTo>
                <a:lnTo>
                  <a:pt x="628" y="459"/>
                </a:lnTo>
                <a:lnTo>
                  <a:pt x="628" y="478"/>
                </a:lnTo>
                <a:lnTo>
                  <a:pt x="630" y="499"/>
                </a:lnTo>
                <a:lnTo>
                  <a:pt x="630" y="521"/>
                </a:lnTo>
                <a:lnTo>
                  <a:pt x="632" y="542"/>
                </a:lnTo>
                <a:lnTo>
                  <a:pt x="633" y="565"/>
                </a:lnTo>
                <a:lnTo>
                  <a:pt x="635" y="588"/>
                </a:lnTo>
                <a:lnTo>
                  <a:pt x="637" y="613"/>
                </a:lnTo>
                <a:lnTo>
                  <a:pt x="639" y="638"/>
                </a:lnTo>
                <a:lnTo>
                  <a:pt x="641" y="663"/>
                </a:lnTo>
                <a:lnTo>
                  <a:pt x="643" y="689"/>
                </a:lnTo>
                <a:lnTo>
                  <a:pt x="645" y="716"/>
                </a:lnTo>
                <a:lnTo>
                  <a:pt x="645" y="741"/>
                </a:lnTo>
                <a:lnTo>
                  <a:pt x="647" y="768"/>
                </a:lnTo>
                <a:lnTo>
                  <a:pt x="647" y="791"/>
                </a:lnTo>
                <a:lnTo>
                  <a:pt x="649" y="816"/>
                </a:lnTo>
                <a:lnTo>
                  <a:pt x="649" y="839"/>
                </a:lnTo>
                <a:lnTo>
                  <a:pt x="651" y="862"/>
                </a:lnTo>
                <a:lnTo>
                  <a:pt x="653" y="885"/>
                </a:lnTo>
                <a:lnTo>
                  <a:pt x="653" y="906"/>
                </a:lnTo>
                <a:lnTo>
                  <a:pt x="655" y="927"/>
                </a:lnTo>
                <a:lnTo>
                  <a:pt x="655" y="947"/>
                </a:lnTo>
                <a:lnTo>
                  <a:pt x="657" y="968"/>
                </a:lnTo>
                <a:lnTo>
                  <a:pt x="657" y="987"/>
                </a:lnTo>
                <a:lnTo>
                  <a:pt x="657" y="1004"/>
                </a:lnTo>
                <a:lnTo>
                  <a:pt x="658" y="1022"/>
                </a:lnTo>
                <a:lnTo>
                  <a:pt x="658" y="1039"/>
                </a:lnTo>
                <a:lnTo>
                  <a:pt x="658" y="1056"/>
                </a:lnTo>
                <a:lnTo>
                  <a:pt x="660" y="1071"/>
                </a:lnTo>
                <a:lnTo>
                  <a:pt x="660" y="1087"/>
                </a:lnTo>
                <a:lnTo>
                  <a:pt x="660" y="1102"/>
                </a:lnTo>
                <a:lnTo>
                  <a:pt x="660" y="1116"/>
                </a:lnTo>
                <a:lnTo>
                  <a:pt x="660" y="1129"/>
                </a:lnTo>
                <a:lnTo>
                  <a:pt x="660" y="1141"/>
                </a:lnTo>
                <a:lnTo>
                  <a:pt x="660" y="1152"/>
                </a:lnTo>
                <a:lnTo>
                  <a:pt x="660" y="1164"/>
                </a:lnTo>
                <a:lnTo>
                  <a:pt x="660" y="1175"/>
                </a:lnTo>
                <a:lnTo>
                  <a:pt x="660" y="1185"/>
                </a:lnTo>
                <a:lnTo>
                  <a:pt x="658" y="1194"/>
                </a:lnTo>
                <a:lnTo>
                  <a:pt x="658" y="1202"/>
                </a:lnTo>
                <a:lnTo>
                  <a:pt x="658" y="1210"/>
                </a:lnTo>
                <a:lnTo>
                  <a:pt x="657" y="1217"/>
                </a:lnTo>
                <a:lnTo>
                  <a:pt x="657" y="12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0"/>
          <p:cNvSpPr/>
          <p:nvPr/>
        </p:nvSpPr>
        <p:spPr>
          <a:xfrm>
            <a:off x="6630840" y="3562200"/>
            <a:ext cx="115920" cy="1000440"/>
          </a:xfrm>
          <a:custGeom>
            <a:avLst/>
            <a:gdLst/>
            <a:ahLst/>
            <a:rect l="l" t="t" r="r" b="b"/>
            <a:pathLst>
              <a:path w="145" h="1259">
                <a:moveTo>
                  <a:pt x="5" y="9"/>
                </a:moveTo>
                <a:lnTo>
                  <a:pt x="7" y="8"/>
                </a:lnTo>
                <a:lnTo>
                  <a:pt x="11" y="6"/>
                </a:lnTo>
                <a:lnTo>
                  <a:pt x="17" y="4"/>
                </a:lnTo>
                <a:lnTo>
                  <a:pt x="23" y="2"/>
                </a:lnTo>
                <a:lnTo>
                  <a:pt x="28" y="0"/>
                </a:lnTo>
                <a:lnTo>
                  <a:pt x="34" y="0"/>
                </a:lnTo>
                <a:lnTo>
                  <a:pt x="42" y="0"/>
                </a:lnTo>
                <a:lnTo>
                  <a:pt x="51" y="0"/>
                </a:lnTo>
                <a:lnTo>
                  <a:pt x="61" y="0"/>
                </a:lnTo>
                <a:lnTo>
                  <a:pt x="71" y="0"/>
                </a:lnTo>
                <a:lnTo>
                  <a:pt x="82" y="0"/>
                </a:lnTo>
                <a:lnTo>
                  <a:pt x="92" y="2"/>
                </a:lnTo>
                <a:lnTo>
                  <a:pt x="105" y="4"/>
                </a:lnTo>
                <a:lnTo>
                  <a:pt x="117" y="6"/>
                </a:lnTo>
                <a:lnTo>
                  <a:pt x="130" y="8"/>
                </a:lnTo>
                <a:lnTo>
                  <a:pt x="145" y="9"/>
                </a:lnTo>
                <a:lnTo>
                  <a:pt x="145" y="59"/>
                </a:lnTo>
                <a:lnTo>
                  <a:pt x="145" y="107"/>
                </a:lnTo>
                <a:lnTo>
                  <a:pt x="145" y="153"/>
                </a:lnTo>
                <a:lnTo>
                  <a:pt x="144" y="199"/>
                </a:lnTo>
                <a:lnTo>
                  <a:pt x="144" y="246"/>
                </a:lnTo>
                <a:lnTo>
                  <a:pt x="144" y="288"/>
                </a:lnTo>
                <a:lnTo>
                  <a:pt x="144" y="332"/>
                </a:lnTo>
                <a:lnTo>
                  <a:pt x="144" y="372"/>
                </a:lnTo>
                <a:lnTo>
                  <a:pt x="144" y="413"/>
                </a:lnTo>
                <a:lnTo>
                  <a:pt x="144" y="453"/>
                </a:lnTo>
                <a:lnTo>
                  <a:pt x="144" y="489"/>
                </a:lnTo>
                <a:lnTo>
                  <a:pt x="144" y="528"/>
                </a:lnTo>
                <a:lnTo>
                  <a:pt x="144" y="562"/>
                </a:lnTo>
                <a:lnTo>
                  <a:pt x="144" y="597"/>
                </a:lnTo>
                <a:lnTo>
                  <a:pt x="144" y="631"/>
                </a:lnTo>
                <a:lnTo>
                  <a:pt x="144" y="662"/>
                </a:lnTo>
                <a:lnTo>
                  <a:pt x="142" y="695"/>
                </a:lnTo>
                <a:lnTo>
                  <a:pt x="142" y="724"/>
                </a:lnTo>
                <a:lnTo>
                  <a:pt x="142" y="752"/>
                </a:lnTo>
                <a:lnTo>
                  <a:pt x="142" y="781"/>
                </a:lnTo>
                <a:lnTo>
                  <a:pt x="142" y="808"/>
                </a:lnTo>
                <a:lnTo>
                  <a:pt x="140" y="833"/>
                </a:lnTo>
                <a:lnTo>
                  <a:pt x="140" y="858"/>
                </a:lnTo>
                <a:lnTo>
                  <a:pt x="140" y="881"/>
                </a:lnTo>
                <a:lnTo>
                  <a:pt x="138" y="902"/>
                </a:lnTo>
                <a:lnTo>
                  <a:pt x="138" y="923"/>
                </a:lnTo>
                <a:lnTo>
                  <a:pt x="136" y="942"/>
                </a:lnTo>
                <a:lnTo>
                  <a:pt x="136" y="962"/>
                </a:lnTo>
                <a:lnTo>
                  <a:pt x="134" y="979"/>
                </a:lnTo>
                <a:lnTo>
                  <a:pt x="134" y="996"/>
                </a:lnTo>
                <a:lnTo>
                  <a:pt x="132" y="1010"/>
                </a:lnTo>
                <a:lnTo>
                  <a:pt x="132" y="1025"/>
                </a:lnTo>
                <a:lnTo>
                  <a:pt x="130" y="1054"/>
                </a:lnTo>
                <a:lnTo>
                  <a:pt x="126" y="1079"/>
                </a:lnTo>
                <a:lnTo>
                  <a:pt x="124" y="1104"/>
                </a:lnTo>
                <a:lnTo>
                  <a:pt x="122" y="1127"/>
                </a:lnTo>
                <a:lnTo>
                  <a:pt x="121" y="1148"/>
                </a:lnTo>
                <a:lnTo>
                  <a:pt x="117" y="1167"/>
                </a:lnTo>
                <a:lnTo>
                  <a:pt x="115" y="1184"/>
                </a:lnTo>
                <a:lnTo>
                  <a:pt x="113" y="1200"/>
                </a:lnTo>
                <a:lnTo>
                  <a:pt x="111" y="1213"/>
                </a:lnTo>
                <a:lnTo>
                  <a:pt x="109" y="1226"/>
                </a:lnTo>
                <a:lnTo>
                  <a:pt x="105" y="1236"/>
                </a:lnTo>
                <a:lnTo>
                  <a:pt x="103" y="1244"/>
                </a:lnTo>
                <a:lnTo>
                  <a:pt x="101" y="1249"/>
                </a:lnTo>
                <a:lnTo>
                  <a:pt x="99" y="1255"/>
                </a:lnTo>
                <a:lnTo>
                  <a:pt x="96" y="1257"/>
                </a:lnTo>
                <a:lnTo>
                  <a:pt x="94" y="1259"/>
                </a:lnTo>
                <a:lnTo>
                  <a:pt x="90" y="1259"/>
                </a:lnTo>
                <a:lnTo>
                  <a:pt x="84" y="1257"/>
                </a:lnTo>
                <a:lnTo>
                  <a:pt x="80" y="1255"/>
                </a:lnTo>
                <a:lnTo>
                  <a:pt x="74" y="1253"/>
                </a:lnTo>
                <a:lnTo>
                  <a:pt x="71" y="1251"/>
                </a:lnTo>
                <a:lnTo>
                  <a:pt x="67" y="1248"/>
                </a:lnTo>
                <a:lnTo>
                  <a:pt x="61" y="1244"/>
                </a:lnTo>
                <a:lnTo>
                  <a:pt x="57" y="1240"/>
                </a:lnTo>
                <a:lnTo>
                  <a:pt x="53" y="1234"/>
                </a:lnTo>
                <a:lnTo>
                  <a:pt x="50" y="1228"/>
                </a:lnTo>
                <a:lnTo>
                  <a:pt x="46" y="1223"/>
                </a:lnTo>
                <a:lnTo>
                  <a:pt x="42" y="1215"/>
                </a:lnTo>
                <a:lnTo>
                  <a:pt x="40" y="1207"/>
                </a:lnTo>
                <a:lnTo>
                  <a:pt x="36" y="1200"/>
                </a:lnTo>
                <a:lnTo>
                  <a:pt x="34" y="1190"/>
                </a:lnTo>
                <a:lnTo>
                  <a:pt x="30" y="1180"/>
                </a:lnTo>
                <a:lnTo>
                  <a:pt x="26" y="1161"/>
                </a:lnTo>
                <a:lnTo>
                  <a:pt x="21" y="1144"/>
                </a:lnTo>
                <a:lnTo>
                  <a:pt x="17" y="1129"/>
                </a:lnTo>
                <a:lnTo>
                  <a:pt x="13" y="1113"/>
                </a:lnTo>
                <a:lnTo>
                  <a:pt x="11" y="1107"/>
                </a:lnTo>
                <a:lnTo>
                  <a:pt x="9" y="1102"/>
                </a:lnTo>
                <a:lnTo>
                  <a:pt x="9" y="1096"/>
                </a:lnTo>
                <a:lnTo>
                  <a:pt x="7" y="1090"/>
                </a:lnTo>
                <a:lnTo>
                  <a:pt x="7" y="1086"/>
                </a:lnTo>
                <a:lnTo>
                  <a:pt x="5" y="1082"/>
                </a:lnTo>
                <a:lnTo>
                  <a:pt x="5" y="1079"/>
                </a:lnTo>
                <a:lnTo>
                  <a:pt x="5" y="1077"/>
                </a:lnTo>
                <a:lnTo>
                  <a:pt x="3" y="1073"/>
                </a:lnTo>
                <a:lnTo>
                  <a:pt x="2" y="1069"/>
                </a:lnTo>
                <a:lnTo>
                  <a:pt x="2" y="1065"/>
                </a:lnTo>
                <a:lnTo>
                  <a:pt x="0" y="1059"/>
                </a:lnTo>
                <a:lnTo>
                  <a:pt x="0" y="1054"/>
                </a:lnTo>
                <a:lnTo>
                  <a:pt x="2" y="1046"/>
                </a:lnTo>
                <a:lnTo>
                  <a:pt x="2" y="1036"/>
                </a:lnTo>
                <a:lnTo>
                  <a:pt x="3" y="1027"/>
                </a:lnTo>
                <a:lnTo>
                  <a:pt x="3" y="1017"/>
                </a:lnTo>
                <a:lnTo>
                  <a:pt x="5" y="1006"/>
                </a:lnTo>
                <a:lnTo>
                  <a:pt x="7" y="994"/>
                </a:lnTo>
                <a:lnTo>
                  <a:pt x="9" y="981"/>
                </a:lnTo>
                <a:lnTo>
                  <a:pt x="11" y="967"/>
                </a:lnTo>
                <a:lnTo>
                  <a:pt x="13" y="952"/>
                </a:lnTo>
                <a:lnTo>
                  <a:pt x="17" y="937"/>
                </a:lnTo>
                <a:lnTo>
                  <a:pt x="19" y="921"/>
                </a:lnTo>
                <a:lnTo>
                  <a:pt x="21" y="902"/>
                </a:lnTo>
                <a:lnTo>
                  <a:pt x="23" y="883"/>
                </a:lnTo>
                <a:lnTo>
                  <a:pt x="25" y="862"/>
                </a:lnTo>
                <a:lnTo>
                  <a:pt x="25" y="841"/>
                </a:lnTo>
                <a:lnTo>
                  <a:pt x="26" y="816"/>
                </a:lnTo>
                <a:lnTo>
                  <a:pt x="28" y="791"/>
                </a:lnTo>
                <a:lnTo>
                  <a:pt x="28" y="764"/>
                </a:lnTo>
                <a:lnTo>
                  <a:pt x="28" y="737"/>
                </a:lnTo>
                <a:lnTo>
                  <a:pt x="30" y="706"/>
                </a:lnTo>
                <a:lnTo>
                  <a:pt x="30" y="676"/>
                </a:lnTo>
                <a:lnTo>
                  <a:pt x="30" y="645"/>
                </a:lnTo>
                <a:lnTo>
                  <a:pt x="30" y="610"/>
                </a:lnTo>
                <a:lnTo>
                  <a:pt x="30" y="576"/>
                </a:lnTo>
                <a:lnTo>
                  <a:pt x="30" y="539"/>
                </a:lnTo>
                <a:lnTo>
                  <a:pt x="30" y="503"/>
                </a:lnTo>
                <a:lnTo>
                  <a:pt x="30" y="464"/>
                </a:lnTo>
                <a:lnTo>
                  <a:pt x="30" y="426"/>
                </a:lnTo>
                <a:lnTo>
                  <a:pt x="30" y="390"/>
                </a:lnTo>
                <a:lnTo>
                  <a:pt x="30" y="355"/>
                </a:lnTo>
                <a:lnTo>
                  <a:pt x="30" y="322"/>
                </a:lnTo>
                <a:lnTo>
                  <a:pt x="30" y="307"/>
                </a:lnTo>
                <a:lnTo>
                  <a:pt x="30" y="292"/>
                </a:lnTo>
                <a:lnTo>
                  <a:pt x="30" y="278"/>
                </a:lnTo>
                <a:lnTo>
                  <a:pt x="30" y="265"/>
                </a:lnTo>
                <a:lnTo>
                  <a:pt x="30" y="249"/>
                </a:lnTo>
                <a:lnTo>
                  <a:pt x="30" y="238"/>
                </a:lnTo>
                <a:lnTo>
                  <a:pt x="30" y="224"/>
                </a:lnTo>
                <a:lnTo>
                  <a:pt x="28" y="213"/>
                </a:lnTo>
                <a:lnTo>
                  <a:pt x="28" y="201"/>
                </a:lnTo>
                <a:lnTo>
                  <a:pt x="28" y="190"/>
                </a:lnTo>
                <a:lnTo>
                  <a:pt x="28" y="178"/>
                </a:lnTo>
                <a:lnTo>
                  <a:pt x="28" y="169"/>
                </a:lnTo>
                <a:lnTo>
                  <a:pt x="26" y="159"/>
                </a:lnTo>
                <a:lnTo>
                  <a:pt x="26" y="150"/>
                </a:lnTo>
                <a:lnTo>
                  <a:pt x="26" y="142"/>
                </a:lnTo>
                <a:lnTo>
                  <a:pt x="25" y="134"/>
                </a:lnTo>
                <a:lnTo>
                  <a:pt x="25" y="127"/>
                </a:lnTo>
                <a:lnTo>
                  <a:pt x="25" y="119"/>
                </a:lnTo>
                <a:lnTo>
                  <a:pt x="23" y="111"/>
                </a:lnTo>
                <a:lnTo>
                  <a:pt x="23" y="105"/>
                </a:lnTo>
                <a:lnTo>
                  <a:pt x="21" y="100"/>
                </a:lnTo>
                <a:lnTo>
                  <a:pt x="21" y="96"/>
                </a:lnTo>
                <a:lnTo>
                  <a:pt x="19" y="92"/>
                </a:lnTo>
                <a:lnTo>
                  <a:pt x="19" y="88"/>
                </a:lnTo>
                <a:lnTo>
                  <a:pt x="13" y="73"/>
                </a:lnTo>
                <a:lnTo>
                  <a:pt x="9" y="59"/>
                </a:lnTo>
                <a:lnTo>
                  <a:pt x="5" y="48"/>
                </a:lnTo>
                <a:lnTo>
                  <a:pt x="3" y="38"/>
                </a:lnTo>
                <a:lnTo>
                  <a:pt x="2" y="29"/>
                </a:lnTo>
                <a:lnTo>
                  <a:pt x="0" y="21"/>
                </a:lnTo>
                <a:lnTo>
                  <a:pt x="2" y="17"/>
                </a:lnTo>
                <a:lnTo>
                  <a:pt x="2" y="15"/>
                </a:lnTo>
                <a:lnTo>
                  <a:pt x="3" y="11"/>
                </a:lnTo>
                <a:lnTo>
                  <a:pt x="5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1"/>
          <p:cNvSpPr/>
          <p:nvPr/>
        </p:nvSpPr>
        <p:spPr>
          <a:xfrm>
            <a:off x="6726240" y="3786120"/>
            <a:ext cx="279360" cy="114480"/>
          </a:xfrm>
          <a:custGeom>
            <a:avLst/>
            <a:gdLst/>
            <a:ahLst/>
            <a:rect l="l" t="t" r="r" b="b"/>
            <a:pathLst>
              <a:path w="353" h="144">
                <a:moveTo>
                  <a:pt x="0" y="144"/>
                </a:moveTo>
                <a:lnTo>
                  <a:pt x="0" y="92"/>
                </a:lnTo>
                <a:lnTo>
                  <a:pt x="0" y="40"/>
                </a:lnTo>
                <a:lnTo>
                  <a:pt x="13" y="38"/>
                </a:lnTo>
                <a:lnTo>
                  <a:pt x="26" y="37"/>
                </a:lnTo>
                <a:lnTo>
                  <a:pt x="38" y="35"/>
                </a:lnTo>
                <a:lnTo>
                  <a:pt x="51" y="31"/>
                </a:lnTo>
                <a:lnTo>
                  <a:pt x="63" y="27"/>
                </a:lnTo>
                <a:lnTo>
                  <a:pt x="74" y="23"/>
                </a:lnTo>
                <a:lnTo>
                  <a:pt x="88" y="19"/>
                </a:lnTo>
                <a:lnTo>
                  <a:pt x="101" y="13"/>
                </a:lnTo>
                <a:lnTo>
                  <a:pt x="115" y="10"/>
                </a:lnTo>
                <a:lnTo>
                  <a:pt x="128" y="6"/>
                </a:lnTo>
                <a:lnTo>
                  <a:pt x="140" y="4"/>
                </a:lnTo>
                <a:lnTo>
                  <a:pt x="151" y="2"/>
                </a:lnTo>
                <a:lnTo>
                  <a:pt x="163" y="2"/>
                </a:lnTo>
                <a:lnTo>
                  <a:pt x="176" y="0"/>
                </a:lnTo>
                <a:lnTo>
                  <a:pt x="188" y="0"/>
                </a:lnTo>
                <a:lnTo>
                  <a:pt x="203" y="0"/>
                </a:lnTo>
                <a:lnTo>
                  <a:pt x="216" y="0"/>
                </a:lnTo>
                <a:lnTo>
                  <a:pt x="228" y="0"/>
                </a:lnTo>
                <a:lnTo>
                  <a:pt x="240" y="2"/>
                </a:lnTo>
                <a:lnTo>
                  <a:pt x="253" y="2"/>
                </a:lnTo>
                <a:lnTo>
                  <a:pt x="264" y="4"/>
                </a:lnTo>
                <a:lnTo>
                  <a:pt x="276" y="6"/>
                </a:lnTo>
                <a:lnTo>
                  <a:pt x="289" y="10"/>
                </a:lnTo>
                <a:lnTo>
                  <a:pt x="303" y="13"/>
                </a:lnTo>
                <a:lnTo>
                  <a:pt x="311" y="15"/>
                </a:lnTo>
                <a:lnTo>
                  <a:pt x="316" y="19"/>
                </a:lnTo>
                <a:lnTo>
                  <a:pt x="322" y="21"/>
                </a:lnTo>
                <a:lnTo>
                  <a:pt x="326" y="25"/>
                </a:lnTo>
                <a:lnTo>
                  <a:pt x="332" y="29"/>
                </a:lnTo>
                <a:lnTo>
                  <a:pt x="335" y="33"/>
                </a:lnTo>
                <a:lnTo>
                  <a:pt x="339" y="37"/>
                </a:lnTo>
                <a:lnTo>
                  <a:pt x="343" y="40"/>
                </a:lnTo>
                <a:lnTo>
                  <a:pt x="347" y="46"/>
                </a:lnTo>
                <a:lnTo>
                  <a:pt x="351" y="54"/>
                </a:lnTo>
                <a:lnTo>
                  <a:pt x="353" y="60"/>
                </a:lnTo>
                <a:lnTo>
                  <a:pt x="353" y="65"/>
                </a:lnTo>
                <a:lnTo>
                  <a:pt x="353" y="67"/>
                </a:lnTo>
                <a:lnTo>
                  <a:pt x="349" y="67"/>
                </a:lnTo>
                <a:lnTo>
                  <a:pt x="347" y="69"/>
                </a:lnTo>
                <a:lnTo>
                  <a:pt x="343" y="71"/>
                </a:lnTo>
                <a:lnTo>
                  <a:pt x="339" y="73"/>
                </a:lnTo>
                <a:lnTo>
                  <a:pt x="335" y="75"/>
                </a:lnTo>
                <a:lnTo>
                  <a:pt x="330" y="75"/>
                </a:lnTo>
                <a:lnTo>
                  <a:pt x="324" y="77"/>
                </a:lnTo>
                <a:lnTo>
                  <a:pt x="318" y="79"/>
                </a:lnTo>
                <a:lnTo>
                  <a:pt x="312" y="81"/>
                </a:lnTo>
                <a:lnTo>
                  <a:pt x="305" y="83"/>
                </a:lnTo>
                <a:lnTo>
                  <a:pt x="295" y="86"/>
                </a:lnTo>
                <a:lnTo>
                  <a:pt x="288" y="88"/>
                </a:lnTo>
                <a:lnTo>
                  <a:pt x="278" y="90"/>
                </a:lnTo>
                <a:lnTo>
                  <a:pt x="268" y="92"/>
                </a:lnTo>
                <a:lnTo>
                  <a:pt x="257" y="94"/>
                </a:lnTo>
                <a:lnTo>
                  <a:pt x="245" y="98"/>
                </a:lnTo>
                <a:lnTo>
                  <a:pt x="234" y="100"/>
                </a:lnTo>
                <a:lnTo>
                  <a:pt x="222" y="102"/>
                </a:lnTo>
                <a:lnTo>
                  <a:pt x="209" y="106"/>
                </a:lnTo>
                <a:lnTo>
                  <a:pt x="195" y="108"/>
                </a:lnTo>
                <a:lnTo>
                  <a:pt x="180" y="111"/>
                </a:lnTo>
                <a:lnTo>
                  <a:pt x="165" y="113"/>
                </a:lnTo>
                <a:lnTo>
                  <a:pt x="149" y="117"/>
                </a:lnTo>
                <a:lnTo>
                  <a:pt x="132" y="119"/>
                </a:lnTo>
                <a:lnTo>
                  <a:pt x="117" y="123"/>
                </a:lnTo>
                <a:lnTo>
                  <a:pt x="97" y="127"/>
                </a:lnTo>
                <a:lnTo>
                  <a:pt x="80" y="129"/>
                </a:lnTo>
                <a:lnTo>
                  <a:pt x="61" y="132"/>
                </a:lnTo>
                <a:lnTo>
                  <a:pt x="42" y="136"/>
                </a:lnTo>
                <a:lnTo>
                  <a:pt x="21" y="140"/>
                </a:lnTo>
                <a:lnTo>
                  <a:pt x="0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2"/>
          <p:cNvSpPr/>
          <p:nvPr/>
        </p:nvSpPr>
        <p:spPr>
          <a:xfrm>
            <a:off x="6705720" y="4065480"/>
            <a:ext cx="311040" cy="114480"/>
          </a:xfrm>
          <a:custGeom>
            <a:avLst/>
            <a:gdLst/>
            <a:ahLst/>
            <a:rect l="l" t="t" r="r" b="b"/>
            <a:pathLst>
              <a:path w="391" h="144">
                <a:moveTo>
                  <a:pt x="253" y="117"/>
                </a:moveTo>
                <a:lnTo>
                  <a:pt x="220" y="123"/>
                </a:lnTo>
                <a:lnTo>
                  <a:pt x="188" y="127"/>
                </a:lnTo>
                <a:lnTo>
                  <a:pt x="157" y="133"/>
                </a:lnTo>
                <a:lnTo>
                  <a:pt x="126" y="137"/>
                </a:lnTo>
                <a:lnTo>
                  <a:pt x="96" y="138"/>
                </a:lnTo>
                <a:lnTo>
                  <a:pt x="65" y="142"/>
                </a:lnTo>
                <a:lnTo>
                  <a:pt x="32" y="142"/>
                </a:lnTo>
                <a:lnTo>
                  <a:pt x="0" y="144"/>
                </a:lnTo>
                <a:lnTo>
                  <a:pt x="0" y="92"/>
                </a:lnTo>
                <a:lnTo>
                  <a:pt x="0" y="41"/>
                </a:lnTo>
                <a:lnTo>
                  <a:pt x="11" y="39"/>
                </a:lnTo>
                <a:lnTo>
                  <a:pt x="23" y="39"/>
                </a:lnTo>
                <a:lnTo>
                  <a:pt x="32" y="39"/>
                </a:lnTo>
                <a:lnTo>
                  <a:pt x="42" y="37"/>
                </a:lnTo>
                <a:lnTo>
                  <a:pt x="61" y="35"/>
                </a:lnTo>
                <a:lnTo>
                  <a:pt x="78" y="31"/>
                </a:lnTo>
                <a:lnTo>
                  <a:pt x="96" y="27"/>
                </a:lnTo>
                <a:lnTo>
                  <a:pt x="111" y="23"/>
                </a:lnTo>
                <a:lnTo>
                  <a:pt x="124" y="19"/>
                </a:lnTo>
                <a:lnTo>
                  <a:pt x="140" y="14"/>
                </a:lnTo>
                <a:lnTo>
                  <a:pt x="153" y="10"/>
                </a:lnTo>
                <a:lnTo>
                  <a:pt x="165" y="6"/>
                </a:lnTo>
                <a:lnTo>
                  <a:pt x="176" y="4"/>
                </a:lnTo>
                <a:lnTo>
                  <a:pt x="190" y="2"/>
                </a:lnTo>
                <a:lnTo>
                  <a:pt x="201" y="2"/>
                </a:lnTo>
                <a:lnTo>
                  <a:pt x="213" y="0"/>
                </a:lnTo>
                <a:lnTo>
                  <a:pt x="226" y="0"/>
                </a:lnTo>
                <a:lnTo>
                  <a:pt x="240" y="0"/>
                </a:lnTo>
                <a:lnTo>
                  <a:pt x="253" y="0"/>
                </a:lnTo>
                <a:lnTo>
                  <a:pt x="266" y="0"/>
                </a:lnTo>
                <a:lnTo>
                  <a:pt x="278" y="2"/>
                </a:lnTo>
                <a:lnTo>
                  <a:pt x="289" y="2"/>
                </a:lnTo>
                <a:lnTo>
                  <a:pt x="301" y="4"/>
                </a:lnTo>
                <a:lnTo>
                  <a:pt x="314" y="6"/>
                </a:lnTo>
                <a:lnTo>
                  <a:pt x="326" y="10"/>
                </a:lnTo>
                <a:lnTo>
                  <a:pt x="341" y="14"/>
                </a:lnTo>
                <a:lnTo>
                  <a:pt x="347" y="16"/>
                </a:lnTo>
                <a:lnTo>
                  <a:pt x="353" y="19"/>
                </a:lnTo>
                <a:lnTo>
                  <a:pt x="359" y="23"/>
                </a:lnTo>
                <a:lnTo>
                  <a:pt x="364" y="25"/>
                </a:lnTo>
                <a:lnTo>
                  <a:pt x="368" y="29"/>
                </a:lnTo>
                <a:lnTo>
                  <a:pt x="374" y="33"/>
                </a:lnTo>
                <a:lnTo>
                  <a:pt x="376" y="37"/>
                </a:lnTo>
                <a:lnTo>
                  <a:pt x="380" y="41"/>
                </a:lnTo>
                <a:lnTo>
                  <a:pt x="385" y="46"/>
                </a:lnTo>
                <a:lnTo>
                  <a:pt x="387" y="54"/>
                </a:lnTo>
                <a:lnTo>
                  <a:pt x="389" y="60"/>
                </a:lnTo>
                <a:lnTo>
                  <a:pt x="391" y="66"/>
                </a:lnTo>
                <a:lnTo>
                  <a:pt x="389" y="69"/>
                </a:lnTo>
                <a:lnTo>
                  <a:pt x="389" y="71"/>
                </a:lnTo>
                <a:lnTo>
                  <a:pt x="385" y="75"/>
                </a:lnTo>
                <a:lnTo>
                  <a:pt x="382" y="77"/>
                </a:lnTo>
                <a:lnTo>
                  <a:pt x="376" y="81"/>
                </a:lnTo>
                <a:lnTo>
                  <a:pt x="370" y="85"/>
                </a:lnTo>
                <a:lnTo>
                  <a:pt x="362" y="89"/>
                </a:lnTo>
                <a:lnTo>
                  <a:pt x="355" y="92"/>
                </a:lnTo>
                <a:lnTo>
                  <a:pt x="345" y="96"/>
                </a:lnTo>
                <a:lnTo>
                  <a:pt x="336" y="98"/>
                </a:lnTo>
                <a:lnTo>
                  <a:pt x="324" y="102"/>
                </a:lnTo>
                <a:lnTo>
                  <a:pt x="311" y="106"/>
                </a:lnTo>
                <a:lnTo>
                  <a:pt x="297" y="110"/>
                </a:lnTo>
                <a:lnTo>
                  <a:pt x="284" y="112"/>
                </a:lnTo>
                <a:lnTo>
                  <a:pt x="268" y="115"/>
                </a:lnTo>
                <a:lnTo>
                  <a:pt x="253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23"/>
          <p:cNvSpPr/>
          <p:nvPr/>
        </p:nvSpPr>
        <p:spPr>
          <a:xfrm>
            <a:off x="5845320" y="4529160"/>
            <a:ext cx="1912680" cy="487440"/>
          </a:xfrm>
          <a:custGeom>
            <a:avLst/>
            <a:gdLst/>
            <a:ahLst/>
            <a:rect l="l" t="t" r="r" b="b"/>
            <a:pathLst>
              <a:path w="2409" h="612">
                <a:moveTo>
                  <a:pt x="1741" y="612"/>
                </a:moveTo>
                <a:lnTo>
                  <a:pt x="1737" y="610"/>
                </a:lnTo>
                <a:lnTo>
                  <a:pt x="1731" y="608"/>
                </a:lnTo>
                <a:lnTo>
                  <a:pt x="1726" y="606"/>
                </a:lnTo>
                <a:lnTo>
                  <a:pt x="1718" y="604"/>
                </a:lnTo>
                <a:lnTo>
                  <a:pt x="1710" y="601"/>
                </a:lnTo>
                <a:lnTo>
                  <a:pt x="1701" y="599"/>
                </a:lnTo>
                <a:lnTo>
                  <a:pt x="1691" y="595"/>
                </a:lnTo>
                <a:lnTo>
                  <a:pt x="1680" y="591"/>
                </a:lnTo>
                <a:lnTo>
                  <a:pt x="1666" y="585"/>
                </a:lnTo>
                <a:lnTo>
                  <a:pt x="1653" y="581"/>
                </a:lnTo>
                <a:lnTo>
                  <a:pt x="1639" y="576"/>
                </a:lnTo>
                <a:lnTo>
                  <a:pt x="1624" y="570"/>
                </a:lnTo>
                <a:lnTo>
                  <a:pt x="1607" y="564"/>
                </a:lnTo>
                <a:lnTo>
                  <a:pt x="1589" y="556"/>
                </a:lnTo>
                <a:lnTo>
                  <a:pt x="1570" y="549"/>
                </a:lnTo>
                <a:lnTo>
                  <a:pt x="1551" y="541"/>
                </a:lnTo>
                <a:lnTo>
                  <a:pt x="1530" y="533"/>
                </a:lnTo>
                <a:lnTo>
                  <a:pt x="1509" y="526"/>
                </a:lnTo>
                <a:lnTo>
                  <a:pt x="1486" y="516"/>
                </a:lnTo>
                <a:lnTo>
                  <a:pt x="1463" y="506"/>
                </a:lnTo>
                <a:lnTo>
                  <a:pt x="1438" y="497"/>
                </a:lnTo>
                <a:lnTo>
                  <a:pt x="1413" y="485"/>
                </a:lnTo>
                <a:lnTo>
                  <a:pt x="1386" y="476"/>
                </a:lnTo>
                <a:lnTo>
                  <a:pt x="1357" y="464"/>
                </a:lnTo>
                <a:lnTo>
                  <a:pt x="1328" y="451"/>
                </a:lnTo>
                <a:lnTo>
                  <a:pt x="1298" y="439"/>
                </a:lnTo>
                <a:lnTo>
                  <a:pt x="1267" y="426"/>
                </a:lnTo>
                <a:lnTo>
                  <a:pt x="1236" y="412"/>
                </a:lnTo>
                <a:lnTo>
                  <a:pt x="1202" y="397"/>
                </a:lnTo>
                <a:lnTo>
                  <a:pt x="1169" y="384"/>
                </a:lnTo>
                <a:lnTo>
                  <a:pt x="1135" y="368"/>
                </a:lnTo>
                <a:lnTo>
                  <a:pt x="1098" y="353"/>
                </a:lnTo>
                <a:lnTo>
                  <a:pt x="1062" y="336"/>
                </a:lnTo>
                <a:lnTo>
                  <a:pt x="1027" y="320"/>
                </a:lnTo>
                <a:lnTo>
                  <a:pt x="993" y="307"/>
                </a:lnTo>
                <a:lnTo>
                  <a:pt x="960" y="291"/>
                </a:lnTo>
                <a:lnTo>
                  <a:pt x="927" y="278"/>
                </a:lnTo>
                <a:lnTo>
                  <a:pt x="895" y="265"/>
                </a:lnTo>
                <a:lnTo>
                  <a:pt x="866" y="253"/>
                </a:lnTo>
                <a:lnTo>
                  <a:pt x="835" y="242"/>
                </a:lnTo>
                <a:lnTo>
                  <a:pt x="806" y="230"/>
                </a:lnTo>
                <a:lnTo>
                  <a:pt x="779" y="219"/>
                </a:lnTo>
                <a:lnTo>
                  <a:pt x="753" y="207"/>
                </a:lnTo>
                <a:lnTo>
                  <a:pt x="728" y="197"/>
                </a:lnTo>
                <a:lnTo>
                  <a:pt x="703" y="188"/>
                </a:lnTo>
                <a:lnTo>
                  <a:pt x="680" y="180"/>
                </a:lnTo>
                <a:lnTo>
                  <a:pt x="657" y="171"/>
                </a:lnTo>
                <a:lnTo>
                  <a:pt x="636" y="163"/>
                </a:lnTo>
                <a:lnTo>
                  <a:pt x="614" y="157"/>
                </a:lnTo>
                <a:lnTo>
                  <a:pt x="595" y="149"/>
                </a:lnTo>
                <a:lnTo>
                  <a:pt x="578" y="144"/>
                </a:lnTo>
                <a:lnTo>
                  <a:pt x="559" y="138"/>
                </a:lnTo>
                <a:lnTo>
                  <a:pt x="543" y="132"/>
                </a:lnTo>
                <a:lnTo>
                  <a:pt x="528" y="126"/>
                </a:lnTo>
                <a:lnTo>
                  <a:pt x="513" y="123"/>
                </a:lnTo>
                <a:lnTo>
                  <a:pt x="499" y="119"/>
                </a:lnTo>
                <a:lnTo>
                  <a:pt x="488" y="115"/>
                </a:lnTo>
                <a:lnTo>
                  <a:pt x="476" y="113"/>
                </a:lnTo>
                <a:lnTo>
                  <a:pt x="465" y="109"/>
                </a:lnTo>
                <a:lnTo>
                  <a:pt x="455" y="107"/>
                </a:lnTo>
                <a:lnTo>
                  <a:pt x="447" y="107"/>
                </a:lnTo>
                <a:lnTo>
                  <a:pt x="440" y="105"/>
                </a:lnTo>
                <a:lnTo>
                  <a:pt x="434" y="105"/>
                </a:lnTo>
                <a:lnTo>
                  <a:pt x="428" y="105"/>
                </a:lnTo>
                <a:lnTo>
                  <a:pt x="409" y="105"/>
                </a:lnTo>
                <a:lnTo>
                  <a:pt x="388" y="107"/>
                </a:lnTo>
                <a:lnTo>
                  <a:pt x="367" y="109"/>
                </a:lnTo>
                <a:lnTo>
                  <a:pt x="344" y="113"/>
                </a:lnTo>
                <a:lnTo>
                  <a:pt x="319" y="117"/>
                </a:lnTo>
                <a:lnTo>
                  <a:pt x="294" y="121"/>
                </a:lnTo>
                <a:lnTo>
                  <a:pt x="267" y="126"/>
                </a:lnTo>
                <a:lnTo>
                  <a:pt x="240" y="130"/>
                </a:lnTo>
                <a:lnTo>
                  <a:pt x="227" y="136"/>
                </a:lnTo>
                <a:lnTo>
                  <a:pt x="213" y="140"/>
                </a:lnTo>
                <a:lnTo>
                  <a:pt x="200" y="144"/>
                </a:lnTo>
                <a:lnTo>
                  <a:pt x="188" y="146"/>
                </a:lnTo>
                <a:lnTo>
                  <a:pt x="177" y="148"/>
                </a:lnTo>
                <a:lnTo>
                  <a:pt x="165" y="149"/>
                </a:lnTo>
                <a:lnTo>
                  <a:pt x="154" y="149"/>
                </a:lnTo>
                <a:lnTo>
                  <a:pt x="144" y="149"/>
                </a:lnTo>
                <a:lnTo>
                  <a:pt x="136" y="149"/>
                </a:lnTo>
                <a:lnTo>
                  <a:pt x="127" y="149"/>
                </a:lnTo>
                <a:lnTo>
                  <a:pt x="119" y="148"/>
                </a:lnTo>
                <a:lnTo>
                  <a:pt x="112" y="146"/>
                </a:lnTo>
                <a:lnTo>
                  <a:pt x="106" y="142"/>
                </a:lnTo>
                <a:lnTo>
                  <a:pt x="98" y="140"/>
                </a:lnTo>
                <a:lnTo>
                  <a:pt x="92" y="136"/>
                </a:lnTo>
                <a:lnTo>
                  <a:pt x="88" y="130"/>
                </a:lnTo>
                <a:lnTo>
                  <a:pt x="81" y="128"/>
                </a:lnTo>
                <a:lnTo>
                  <a:pt x="75" y="125"/>
                </a:lnTo>
                <a:lnTo>
                  <a:pt x="67" y="121"/>
                </a:lnTo>
                <a:lnTo>
                  <a:pt x="62" y="117"/>
                </a:lnTo>
                <a:lnTo>
                  <a:pt x="50" y="107"/>
                </a:lnTo>
                <a:lnTo>
                  <a:pt x="39" y="96"/>
                </a:lnTo>
                <a:lnTo>
                  <a:pt x="29" y="82"/>
                </a:lnTo>
                <a:lnTo>
                  <a:pt x="19" y="69"/>
                </a:lnTo>
                <a:lnTo>
                  <a:pt x="10" y="53"/>
                </a:lnTo>
                <a:lnTo>
                  <a:pt x="0" y="40"/>
                </a:lnTo>
                <a:lnTo>
                  <a:pt x="27" y="36"/>
                </a:lnTo>
                <a:lnTo>
                  <a:pt x="54" y="34"/>
                </a:lnTo>
                <a:lnTo>
                  <a:pt x="79" y="32"/>
                </a:lnTo>
                <a:lnTo>
                  <a:pt x="102" y="30"/>
                </a:lnTo>
                <a:lnTo>
                  <a:pt x="123" y="27"/>
                </a:lnTo>
                <a:lnTo>
                  <a:pt x="144" y="25"/>
                </a:lnTo>
                <a:lnTo>
                  <a:pt x="163" y="23"/>
                </a:lnTo>
                <a:lnTo>
                  <a:pt x="181" y="21"/>
                </a:lnTo>
                <a:lnTo>
                  <a:pt x="198" y="17"/>
                </a:lnTo>
                <a:lnTo>
                  <a:pt x="213" y="15"/>
                </a:lnTo>
                <a:lnTo>
                  <a:pt x="227" y="13"/>
                </a:lnTo>
                <a:lnTo>
                  <a:pt x="240" y="9"/>
                </a:lnTo>
                <a:lnTo>
                  <a:pt x="252" y="7"/>
                </a:lnTo>
                <a:lnTo>
                  <a:pt x="261" y="5"/>
                </a:lnTo>
                <a:lnTo>
                  <a:pt x="271" y="4"/>
                </a:lnTo>
                <a:lnTo>
                  <a:pt x="278" y="0"/>
                </a:lnTo>
                <a:lnTo>
                  <a:pt x="292" y="0"/>
                </a:lnTo>
                <a:lnTo>
                  <a:pt x="309" y="0"/>
                </a:lnTo>
                <a:lnTo>
                  <a:pt x="325" y="0"/>
                </a:lnTo>
                <a:lnTo>
                  <a:pt x="344" y="0"/>
                </a:lnTo>
                <a:lnTo>
                  <a:pt x="363" y="0"/>
                </a:lnTo>
                <a:lnTo>
                  <a:pt x="384" y="0"/>
                </a:lnTo>
                <a:lnTo>
                  <a:pt x="405" y="0"/>
                </a:lnTo>
                <a:lnTo>
                  <a:pt x="428" y="0"/>
                </a:lnTo>
                <a:lnTo>
                  <a:pt x="442" y="0"/>
                </a:lnTo>
                <a:lnTo>
                  <a:pt x="453" y="2"/>
                </a:lnTo>
                <a:lnTo>
                  <a:pt x="467" y="4"/>
                </a:lnTo>
                <a:lnTo>
                  <a:pt x="480" y="5"/>
                </a:lnTo>
                <a:lnTo>
                  <a:pt x="495" y="7"/>
                </a:lnTo>
                <a:lnTo>
                  <a:pt x="511" y="11"/>
                </a:lnTo>
                <a:lnTo>
                  <a:pt x="526" y="13"/>
                </a:lnTo>
                <a:lnTo>
                  <a:pt x="541" y="17"/>
                </a:lnTo>
                <a:lnTo>
                  <a:pt x="574" y="27"/>
                </a:lnTo>
                <a:lnTo>
                  <a:pt x="609" y="38"/>
                </a:lnTo>
                <a:lnTo>
                  <a:pt x="643" y="52"/>
                </a:lnTo>
                <a:lnTo>
                  <a:pt x="682" y="65"/>
                </a:lnTo>
                <a:lnTo>
                  <a:pt x="691" y="71"/>
                </a:lnTo>
                <a:lnTo>
                  <a:pt x="701" y="75"/>
                </a:lnTo>
                <a:lnTo>
                  <a:pt x="712" y="80"/>
                </a:lnTo>
                <a:lnTo>
                  <a:pt x="724" y="86"/>
                </a:lnTo>
                <a:lnTo>
                  <a:pt x="735" y="90"/>
                </a:lnTo>
                <a:lnTo>
                  <a:pt x="747" y="96"/>
                </a:lnTo>
                <a:lnTo>
                  <a:pt x="760" y="100"/>
                </a:lnTo>
                <a:lnTo>
                  <a:pt x="774" y="105"/>
                </a:lnTo>
                <a:lnTo>
                  <a:pt x="787" y="109"/>
                </a:lnTo>
                <a:lnTo>
                  <a:pt x="801" y="115"/>
                </a:lnTo>
                <a:lnTo>
                  <a:pt x="816" y="121"/>
                </a:lnTo>
                <a:lnTo>
                  <a:pt x="831" y="125"/>
                </a:lnTo>
                <a:lnTo>
                  <a:pt x="847" y="130"/>
                </a:lnTo>
                <a:lnTo>
                  <a:pt x="864" y="134"/>
                </a:lnTo>
                <a:lnTo>
                  <a:pt x="879" y="140"/>
                </a:lnTo>
                <a:lnTo>
                  <a:pt x="897" y="146"/>
                </a:lnTo>
                <a:lnTo>
                  <a:pt x="914" y="149"/>
                </a:lnTo>
                <a:lnTo>
                  <a:pt x="933" y="155"/>
                </a:lnTo>
                <a:lnTo>
                  <a:pt x="971" y="167"/>
                </a:lnTo>
                <a:lnTo>
                  <a:pt x="1010" y="176"/>
                </a:lnTo>
                <a:lnTo>
                  <a:pt x="1052" y="188"/>
                </a:lnTo>
                <a:lnTo>
                  <a:pt x="1096" y="199"/>
                </a:lnTo>
                <a:lnTo>
                  <a:pt x="1140" y="211"/>
                </a:lnTo>
                <a:lnTo>
                  <a:pt x="1188" y="222"/>
                </a:lnTo>
                <a:lnTo>
                  <a:pt x="1236" y="236"/>
                </a:lnTo>
                <a:lnTo>
                  <a:pt x="1286" y="247"/>
                </a:lnTo>
                <a:lnTo>
                  <a:pt x="1336" y="259"/>
                </a:lnTo>
                <a:lnTo>
                  <a:pt x="1386" y="268"/>
                </a:lnTo>
                <a:lnTo>
                  <a:pt x="1434" y="280"/>
                </a:lnTo>
                <a:lnTo>
                  <a:pt x="1484" y="290"/>
                </a:lnTo>
                <a:lnTo>
                  <a:pt x="1534" y="297"/>
                </a:lnTo>
                <a:lnTo>
                  <a:pt x="1584" y="305"/>
                </a:lnTo>
                <a:lnTo>
                  <a:pt x="1634" y="313"/>
                </a:lnTo>
                <a:lnTo>
                  <a:pt x="1684" y="320"/>
                </a:lnTo>
                <a:lnTo>
                  <a:pt x="1733" y="326"/>
                </a:lnTo>
                <a:lnTo>
                  <a:pt x="1783" y="332"/>
                </a:lnTo>
                <a:lnTo>
                  <a:pt x="1831" y="338"/>
                </a:lnTo>
                <a:lnTo>
                  <a:pt x="1881" y="341"/>
                </a:lnTo>
                <a:lnTo>
                  <a:pt x="1931" y="345"/>
                </a:lnTo>
                <a:lnTo>
                  <a:pt x="1981" y="349"/>
                </a:lnTo>
                <a:lnTo>
                  <a:pt x="2031" y="353"/>
                </a:lnTo>
                <a:lnTo>
                  <a:pt x="2054" y="353"/>
                </a:lnTo>
                <a:lnTo>
                  <a:pt x="2077" y="355"/>
                </a:lnTo>
                <a:lnTo>
                  <a:pt x="2098" y="357"/>
                </a:lnTo>
                <a:lnTo>
                  <a:pt x="2119" y="357"/>
                </a:lnTo>
                <a:lnTo>
                  <a:pt x="2140" y="359"/>
                </a:lnTo>
                <a:lnTo>
                  <a:pt x="2160" y="361"/>
                </a:lnTo>
                <a:lnTo>
                  <a:pt x="2179" y="363"/>
                </a:lnTo>
                <a:lnTo>
                  <a:pt x="2196" y="364"/>
                </a:lnTo>
                <a:lnTo>
                  <a:pt x="2213" y="366"/>
                </a:lnTo>
                <a:lnTo>
                  <a:pt x="2231" y="366"/>
                </a:lnTo>
                <a:lnTo>
                  <a:pt x="2246" y="368"/>
                </a:lnTo>
                <a:lnTo>
                  <a:pt x="2261" y="370"/>
                </a:lnTo>
                <a:lnTo>
                  <a:pt x="2277" y="372"/>
                </a:lnTo>
                <a:lnTo>
                  <a:pt x="2290" y="374"/>
                </a:lnTo>
                <a:lnTo>
                  <a:pt x="2303" y="376"/>
                </a:lnTo>
                <a:lnTo>
                  <a:pt x="2315" y="378"/>
                </a:lnTo>
                <a:lnTo>
                  <a:pt x="2327" y="380"/>
                </a:lnTo>
                <a:lnTo>
                  <a:pt x="2338" y="382"/>
                </a:lnTo>
                <a:lnTo>
                  <a:pt x="2348" y="384"/>
                </a:lnTo>
                <a:lnTo>
                  <a:pt x="2357" y="386"/>
                </a:lnTo>
                <a:lnTo>
                  <a:pt x="2365" y="387"/>
                </a:lnTo>
                <a:lnTo>
                  <a:pt x="2373" y="389"/>
                </a:lnTo>
                <a:lnTo>
                  <a:pt x="2380" y="391"/>
                </a:lnTo>
                <a:lnTo>
                  <a:pt x="2386" y="391"/>
                </a:lnTo>
                <a:lnTo>
                  <a:pt x="2392" y="393"/>
                </a:lnTo>
                <a:lnTo>
                  <a:pt x="2396" y="395"/>
                </a:lnTo>
                <a:lnTo>
                  <a:pt x="2399" y="397"/>
                </a:lnTo>
                <a:lnTo>
                  <a:pt x="2403" y="399"/>
                </a:lnTo>
                <a:lnTo>
                  <a:pt x="2407" y="399"/>
                </a:lnTo>
                <a:lnTo>
                  <a:pt x="2409" y="401"/>
                </a:lnTo>
                <a:lnTo>
                  <a:pt x="2409" y="403"/>
                </a:lnTo>
                <a:lnTo>
                  <a:pt x="2409" y="405"/>
                </a:lnTo>
                <a:lnTo>
                  <a:pt x="2409" y="409"/>
                </a:lnTo>
                <a:lnTo>
                  <a:pt x="2407" y="414"/>
                </a:lnTo>
                <a:lnTo>
                  <a:pt x="2403" y="418"/>
                </a:lnTo>
                <a:lnTo>
                  <a:pt x="2398" y="424"/>
                </a:lnTo>
                <a:lnTo>
                  <a:pt x="2392" y="430"/>
                </a:lnTo>
                <a:lnTo>
                  <a:pt x="2384" y="434"/>
                </a:lnTo>
                <a:lnTo>
                  <a:pt x="2374" y="439"/>
                </a:lnTo>
                <a:lnTo>
                  <a:pt x="2363" y="445"/>
                </a:lnTo>
                <a:lnTo>
                  <a:pt x="2351" y="453"/>
                </a:lnTo>
                <a:lnTo>
                  <a:pt x="2338" y="458"/>
                </a:lnTo>
                <a:lnTo>
                  <a:pt x="2325" y="466"/>
                </a:lnTo>
                <a:lnTo>
                  <a:pt x="2309" y="474"/>
                </a:lnTo>
                <a:lnTo>
                  <a:pt x="2292" y="482"/>
                </a:lnTo>
                <a:lnTo>
                  <a:pt x="2273" y="489"/>
                </a:lnTo>
                <a:lnTo>
                  <a:pt x="2254" y="499"/>
                </a:lnTo>
                <a:lnTo>
                  <a:pt x="2232" y="508"/>
                </a:lnTo>
                <a:lnTo>
                  <a:pt x="2190" y="522"/>
                </a:lnTo>
                <a:lnTo>
                  <a:pt x="2150" y="535"/>
                </a:lnTo>
                <a:lnTo>
                  <a:pt x="2112" y="547"/>
                </a:lnTo>
                <a:lnTo>
                  <a:pt x="2073" y="556"/>
                </a:lnTo>
                <a:lnTo>
                  <a:pt x="2035" y="566"/>
                </a:lnTo>
                <a:lnTo>
                  <a:pt x="1998" y="574"/>
                </a:lnTo>
                <a:lnTo>
                  <a:pt x="1964" y="581"/>
                </a:lnTo>
                <a:lnTo>
                  <a:pt x="1931" y="587"/>
                </a:lnTo>
                <a:lnTo>
                  <a:pt x="1914" y="589"/>
                </a:lnTo>
                <a:lnTo>
                  <a:pt x="1898" y="591"/>
                </a:lnTo>
                <a:lnTo>
                  <a:pt x="1883" y="593"/>
                </a:lnTo>
                <a:lnTo>
                  <a:pt x="1868" y="597"/>
                </a:lnTo>
                <a:lnTo>
                  <a:pt x="1854" y="599"/>
                </a:lnTo>
                <a:lnTo>
                  <a:pt x="1841" y="601"/>
                </a:lnTo>
                <a:lnTo>
                  <a:pt x="1829" y="602"/>
                </a:lnTo>
                <a:lnTo>
                  <a:pt x="1816" y="604"/>
                </a:lnTo>
                <a:lnTo>
                  <a:pt x="1804" y="606"/>
                </a:lnTo>
                <a:lnTo>
                  <a:pt x="1795" y="608"/>
                </a:lnTo>
                <a:lnTo>
                  <a:pt x="1783" y="608"/>
                </a:lnTo>
                <a:lnTo>
                  <a:pt x="1774" y="610"/>
                </a:lnTo>
                <a:lnTo>
                  <a:pt x="1764" y="610"/>
                </a:lnTo>
                <a:lnTo>
                  <a:pt x="1756" y="612"/>
                </a:lnTo>
                <a:lnTo>
                  <a:pt x="1749" y="612"/>
                </a:lnTo>
                <a:lnTo>
                  <a:pt x="1741" y="6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24"/>
          <p:cNvSpPr/>
          <p:nvPr/>
        </p:nvSpPr>
        <p:spPr>
          <a:xfrm>
            <a:off x="5894280" y="3889440"/>
            <a:ext cx="430200" cy="691920"/>
          </a:xfrm>
          <a:custGeom>
            <a:avLst/>
            <a:gdLst/>
            <a:ahLst/>
            <a:rect l="l" t="t" r="r" b="b"/>
            <a:pathLst>
              <a:path w="543" h="871">
                <a:moveTo>
                  <a:pt x="418" y="871"/>
                </a:moveTo>
                <a:lnTo>
                  <a:pt x="414" y="863"/>
                </a:lnTo>
                <a:lnTo>
                  <a:pt x="412" y="856"/>
                </a:lnTo>
                <a:lnTo>
                  <a:pt x="410" y="846"/>
                </a:lnTo>
                <a:lnTo>
                  <a:pt x="407" y="835"/>
                </a:lnTo>
                <a:lnTo>
                  <a:pt x="405" y="823"/>
                </a:lnTo>
                <a:lnTo>
                  <a:pt x="401" y="811"/>
                </a:lnTo>
                <a:lnTo>
                  <a:pt x="399" y="800"/>
                </a:lnTo>
                <a:lnTo>
                  <a:pt x="395" y="785"/>
                </a:lnTo>
                <a:lnTo>
                  <a:pt x="391" y="771"/>
                </a:lnTo>
                <a:lnTo>
                  <a:pt x="387" y="756"/>
                </a:lnTo>
                <a:lnTo>
                  <a:pt x="383" y="740"/>
                </a:lnTo>
                <a:lnTo>
                  <a:pt x="378" y="723"/>
                </a:lnTo>
                <a:lnTo>
                  <a:pt x="372" y="706"/>
                </a:lnTo>
                <a:lnTo>
                  <a:pt x="366" y="689"/>
                </a:lnTo>
                <a:lnTo>
                  <a:pt x="360" y="669"/>
                </a:lnTo>
                <a:lnTo>
                  <a:pt x="355" y="650"/>
                </a:lnTo>
                <a:lnTo>
                  <a:pt x="347" y="631"/>
                </a:lnTo>
                <a:lnTo>
                  <a:pt x="341" y="614"/>
                </a:lnTo>
                <a:lnTo>
                  <a:pt x="335" y="597"/>
                </a:lnTo>
                <a:lnTo>
                  <a:pt x="330" y="579"/>
                </a:lnTo>
                <a:lnTo>
                  <a:pt x="326" y="564"/>
                </a:lnTo>
                <a:lnTo>
                  <a:pt x="322" y="549"/>
                </a:lnTo>
                <a:lnTo>
                  <a:pt x="318" y="535"/>
                </a:lnTo>
                <a:lnTo>
                  <a:pt x="314" y="522"/>
                </a:lnTo>
                <a:lnTo>
                  <a:pt x="312" y="510"/>
                </a:lnTo>
                <a:lnTo>
                  <a:pt x="311" y="497"/>
                </a:lnTo>
                <a:lnTo>
                  <a:pt x="309" y="487"/>
                </a:lnTo>
                <a:lnTo>
                  <a:pt x="307" y="476"/>
                </a:lnTo>
                <a:lnTo>
                  <a:pt x="305" y="466"/>
                </a:lnTo>
                <a:lnTo>
                  <a:pt x="305" y="458"/>
                </a:lnTo>
                <a:lnTo>
                  <a:pt x="305" y="449"/>
                </a:lnTo>
                <a:lnTo>
                  <a:pt x="305" y="443"/>
                </a:lnTo>
                <a:lnTo>
                  <a:pt x="301" y="435"/>
                </a:lnTo>
                <a:lnTo>
                  <a:pt x="301" y="428"/>
                </a:lnTo>
                <a:lnTo>
                  <a:pt x="299" y="418"/>
                </a:lnTo>
                <a:lnTo>
                  <a:pt x="299" y="410"/>
                </a:lnTo>
                <a:lnTo>
                  <a:pt x="299" y="403"/>
                </a:lnTo>
                <a:lnTo>
                  <a:pt x="299" y="393"/>
                </a:lnTo>
                <a:lnTo>
                  <a:pt x="303" y="374"/>
                </a:lnTo>
                <a:lnTo>
                  <a:pt x="307" y="355"/>
                </a:lnTo>
                <a:lnTo>
                  <a:pt x="312" y="332"/>
                </a:lnTo>
                <a:lnTo>
                  <a:pt x="320" y="311"/>
                </a:lnTo>
                <a:lnTo>
                  <a:pt x="330" y="286"/>
                </a:lnTo>
                <a:lnTo>
                  <a:pt x="332" y="274"/>
                </a:lnTo>
                <a:lnTo>
                  <a:pt x="334" y="263"/>
                </a:lnTo>
                <a:lnTo>
                  <a:pt x="334" y="253"/>
                </a:lnTo>
                <a:lnTo>
                  <a:pt x="335" y="241"/>
                </a:lnTo>
                <a:lnTo>
                  <a:pt x="337" y="232"/>
                </a:lnTo>
                <a:lnTo>
                  <a:pt x="337" y="224"/>
                </a:lnTo>
                <a:lnTo>
                  <a:pt x="337" y="215"/>
                </a:lnTo>
                <a:lnTo>
                  <a:pt x="337" y="209"/>
                </a:lnTo>
                <a:lnTo>
                  <a:pt x="337" y="201"/>
                </a:lnTo>
                <a:lnTo>
                  <a:pt x="337" y="195"/>
                </a:lnTo>
                <a:lnTo>
                  <a:pt x="337" y="188"/>
                </a:lnTo>
                <a:lnTo>
                  <a:pt x="335" y="184"/>
                </a:lnTo>
                <a:lnTo>
                  <a:pt x="334" y="178"/>
                </a:lnTo>
                <a:lnTo>
                  <a:pt x="334" y="174"/>
                </a:lnTo>
                <a:lnTo>
                  <a:pt x="332" y="170"/>
                </a:lnTo>
                <a:lnTo>
                  <a:pt x="330" y="168"/>
                </a:lnTo>
                <a:lnTo>
                  <a:pt x="324" y="165"/>
                </a:lnTo>
                <a:lnTo>
                  <a:pt x="318" y="161"/>
                </a:lnTo>
                <a:lnTo>
                  <a:pt x="311" y="159"/>
                </a:lnTo>
                <a:lnTo>
                  <a:pt x="303" y="159"/>
                </a:lnTo>
                <a:lnTo>
                  <a:pt x="297" y="159"/>
                </a:lnTo>
                <a:lnTo>
                  <a:pt x="289" y="161"/>
                </a:lnTo>
                <a:lnTo>
                  <a:pt x="284" y="165"/>
                </a:lnTo>
                <a:lnTo>
                  <a:pt x="278" y="168"/>
                </a:lnTo>
                <a:lnTo>
                  <a:pt x="268" y="172"/>
                </a:lnTo>
                <a:lnTo>
                  <a:pt x="257" y="176"/>
                </a:lnTo>
                <a:lnTo>
                  <a:pt x="243" y="180"/>
                </a:lnTo>
                <a:lnTo>
                  <a:pt x="230" y="182"/>
                </a:lnTo>
                <a:lnTo>
                  <a:pt x="222" y="184"/>
                </a:lnTo>
                <a:lnTo>
                  <a:pt x="213" y="184"/>
                </a:lnTo>
                <a:lnTo>
                  <a:pt x="205" y="186"/>
                </a:lnTo>
                <a:lnTo>
                  <a:pt x="195" y="188"/>
                </a:lnTo>
                <a:lnTo>
                  <a:pt x="186" y="190"/>
                </a:lnTo>
                <a:lnTo>
                  <a:pt x="174" y="190"/>
                </a:lnTo>
                <a:lnTo>
                  <a:pt x="165" y="193"/>
                </a:lnTo>
                <a:lnTo>
                  <a:pt x="153" y="195"/>
                </a:lnTo>
                <a:lnTo>
                  <a:pt x="142" y="197"/>
                </a:lnTo>
                <a:lnTo>
                  <a:pt x="130" y="199"/>
                </a:lnTo>
                <a:lnTo>
                  <a:pt x="119" y="201"/>
                </a:lnTo>
                <a:lnTo>
                  <a:pt x="109" y="203"/>
                </a:lnTo>
                <a:lnTo>
                  <a:pt x="101" y="203"/>
                </a:lnTo>
                <a:lnTo>
                  <a:pt x="92" y="205"/>
                </a:lnTo>
                <a:lnTo>
                  <a:pt x="84" y="205"/>
                </a:lnTo>
                <a:lnTo>
                  <a:pt x="76" y="205"/>
                </a:lnTo>
                <a:lnTo>
                  <a:pt x="71" y="205"/>
                </a:lnTo>
                <a:lnTo>
                  <a:pt x="63" y="205"/>
                </a:lnTo>
                <a:lnTo>
                  <a:pt x="57" y="203"/>
                </a:lnTo>
                <a:lnTo>
                  <a:pt x="53" y="203"/>
                </a:lnTo>
                <a:lnTo>
                  <a:pt x="50" y="201"/>
                </a:lnTo>
                <a:lnTo>
                  <a:pt x="46" y="199"/>
                </a:lnTo>
                <a:lnTo>
                  <a:pt x="42" y="197"/>
                </a:lnTo>
                <a:lnTo>
                  <a:pt x="40" y="195"/>
                </a:lnTo>
                <a:lnTo>
                  <a:pt x="21" y="176"/>
                </a:lnTo>
                <a:lnTo>
                  <a:pt x="2" y="155"/>
                </a:lnTo>
                <a:lnTo>
                  <a:pt x="0" y="153"/>
                </a:lnTo>
                <a:lnTo>
                  <a:pt x="0" y="151"/>
                </a:lnTo>
                <a:lnTo>
                  <a:pt x="0" y="147"/>
                </a:lnTo>
                <a:lnTo>
                  <a:pt x="3" y="145"/>
                </a:lnTo>
                <a:lnTo>
                  <a:pt x="7" y="144"/>
                </a:lnTo>
                <a:lnTo>
                  <a:pt x="13" y="140"/>
                </a:lnTo>
                <a:lnTo>
                  <a:pt x="19" y="138"/>
                </a:lnTo>
                <a:lnTo>
                  <a:pt x="26" y="134"/>
                </a:lnTo>
                <a:lnTo>
                  <a:pt x="36" y="132"/>
                </a:lnTo>
                <a:lnTo>
                  <a:pt x="46" y="128"/>
                </a:lnTo>
                <a:lnTo>
                  <a:pt x="57" y="124"/>
                </a:lnTo>
                <a:lnTo>
                  <a:pt x="69" y="120"/>
                </a:lnTo>
                <a:lnTo>
                  <a:pt x="82" y="117"/>
                </a:lnTo>
                <a:lnTo>
                  <a:pt x="96" y="113"/>
                </a:lnTo>
                <a:lnTo>
                  <a:pt x="111" y="109"/>
                </a:lnTo>
                <a:lnTo>
                  <a:pt x="128" y="103"/>
                </a:lnTo>
                <a:lnTo>
                  <a:pt x="144" y="101"/>
                </a:lnTo>
                <a:lnTo>
                  <a:pt x="159" y="97"/>
                </a:lnTo>
                <a:lnTo>
                  <a:pt x="174" y="96"/>
                </a:lnTo>
                <a:lnTo>
                  <a:pt x="188" y="92"/>
                </a:lnTo>
                <a:lnTo>
                  <a:pt x="201" y="88"/>
                </a:lnTo>
                <a:lnTo>
                  <a:pt x="215" y="84"/>
                </a:lnTo>
                <a:lnTo>
                  <a:pt x="226" y="80"/>
                </a:lnTo>
                <a:lnTo>
                  <a:pt x="238" y="76"/>
                </a:lnTo>
                <a:lnTo>
                  <a:pt x="247" y="72"/>
                </a:lnTo>
                <a:lnTo>
                  <a:pt x="257" y="67"/>
                </a:lnTo>
                <a:lnTo>
                  <a:pt x="264" y="63"/>
                </a:lnTo>
                <a:lnTo>
                  <a:pt x="272" y="57"/>
                </a:lnTo>
                <a:lnTo>
                  <a:pt x="280" y="53"/>
                </a:lnTo>
                <a:lnTo>
                  <a:pt x="284" y="48"/>
                </a:lnTo>
                <a:lnTo>
                  <a:pt x="288" y="44"/>
                </a:lnTo>
                <a:lnTo>
                  <a:pt x="291" y="38"/>
                </a:lnTo>
                <a:lnTo>
                  <a:pt x="297" y="30"/>
                </a:lnTo>
                <a:lnTo>
                  <a:pt x="303" y="21"/>
                </a:lnTo>
                <a:lnTo>
                  <a:pt x="311" y="15"/>
                </a:lnTo>
                <a:lnTo>
                  <a:pt x="320" y="9"/>
                </a:lnTo>
                <a:lnTo>
                  <a:pt x="330" y="5"/>
                </a:lnTo>
                <a:lnTo>
                  <a:pt x="341" y="1"/>
                </a:lnTo>
                <a:lnTo>
                  <a:pt x="353" y="0"/>
                </a:lnTo>
                <a:lnTo>
                  <a:pt x="366" y="0"/>
                </a:lnTo>
                <a:lnTo>
                  <a:pt x="376" y="5"/>
                </a:lnTo>
                <a:lnTo>
                  <a:pt x="387" y="9"/>
                </a:lnTo>
                <a:lnTo>
                  <a:pt x="401" y="15"/>
                </a:lnTo>
                <a:lnTo>
                  <a:pt x="414" y="23"/>
                </a:lnTo>
                <a:lnTo>
                  <a:pt x="430" y="30"/>
                </a:lnTo>
                <a:lnTo>
                  <a:pt x="437" y="34"/>
                </a:lnTo>
                <a:lnTo>
                  <a:pt x="445" y="40"/>
                </a:lnTo>
                <a:lnTo>
                  <a:pt x="453" y="46"/>
                </a:lnTo>
                <a:lnTo>
                  <a:pt x="462" y="51"/>
                </a:lnTo>
                <a:lnTo>
                  <a:pt x="472" y="57"/>
                </a:lnTo>
                <a:lnTo>
                  <a:pt x="481" y="65"/>
                </a:lnTo>
                <a:lnTo>
                  <a:pt x="495" y="78"/>
                </a:lnTo>
                <a:lnTo>
                  <a:pt x="506" y="92"/>
                </a:lnTo>
                <a:lnTo>
                  <a:pt x="516" y="103"/>
                </a:lnTo>
                <a:lnTo>
                  <a:pt x="526" y="113"/>
                </a:lnTo>
                <a:lnTo>
                  <a:pt x="533" y="122"/>
                </a:lnTo>
                <a:lnTo>
                  <a:pt x="537" y="126"/>
                </a:lnTo>
                <a:lnTo>
                  <a:pt x="539" y="130"/>
                </a:lnTo>
                <a:lnTo>
                  <a:pt x="541" y="134"/>
                </a:lnTo>
                <a:lnTo>
                  <a:pt x="543" y="138"/>
                </a:lnTo>
                <a:lnTo>
                  <a:pt x="543" y="140"/>
                </a:lnTo>
                <a:lnTo>
                  <a:pt x="543" y="144"/>
                </a:lnTo>
                <a:lnTo>
                  <a:pt x="541" y="147"/>
                </a:lnTo>
                <a:lnTo>
                  <a:pt x="539" y="153"/>
                </a:lnTo>
                <a:lnTo>
                  <a:pt x="535" y="161"/>
                </a:lnTo>
                <a:lnTo>
                  <a:pt x="531" y="167"/>
                </a:lnTo>
                <a:lnTo>
                  <a:pt x="527" y="174"/>
                </a:lnTo>
                <a:lnTo>
                  <a:pt x="524" y="182"/>
                </a:lnTo>
                <a:lnTo>
                  <a:pt x="520" y="192"/>
                </a:lnTo>
                <a:lnTo>
                  <a:pt x="514" y="199"/>
                </a:lnTo>
                <a:lnTo>
                  <a:pt x="504" y="218"/>
                </a:lnTo>
                <a:lnTo>
                  <a:pt x="493" y="239"/>
                </a:lnTo>
                <a:lnTo>
                  <a:pt x="481" y="263"/>
                </a:lnTo>
                <a:lnTo>
                  <a:pt x="468" y="286"/>
                </a:lnTo>
                <a:lnTo>
                  <a:pt x="460" y="297"/>
                </a:lnTo>
                <a:lnTo>
                  <a:pt x="455" y="309"/>
                </a:lnTo>
                <a:lnTo>
                  <a:pt x="449" y="320"/>
                </a:lnTo>
                <a:lnTo>
                  <a:pt x="443" y="330"/>
                </a:lnTo>
                <a:lnTo>
                  <a:pt x="437" y="339"/>
                </a:lnTo>
                <a:lnTo>
                  <a:pt x="431" y="349"/>
                </a:lnTo>
                <a:lnTo>
                  <a:pt x="426" y="357"/>
                </a:lnTo>
                <a:lnTo>
                  <a:pt x="422" y="364"/>
                </a:lnTo>
                <a:lnTo>
                  <a:pt x="418" y="372"/>
                </a:lnTo>
                <a:lnTo>
                  <a:pt x="414" y="378"/>
                </a:lnTo>
                <a:lnTo>
                  <a:pt x="412" y="383"/>
                </a:lnTo>
                <a:lnTo>
                  <a:pt x="408" y="389"/>
                </a:lnTo>
                <a:lnTo>
                  <a:pt x="407" y="393"/>
                </a:lnTo>
                <a:lnTo>
                  <a:pt x="407" y="397"/>
                </a:lnTo>
                <a:lnTo>
                  <a:pt x="405" y="401"/>
                </a:lnTo>
                <a:lnTo>
                  <a:pt x="405" y="403"/>
                </a:lnTo>
                <a:lnTo>
                  <a:pt x="405" y="406"/>
                </a:lnTo>
                <a:lnTo>
                  <a:pt x="405" y="410"/>
                </a:lnTo>
                <a:lnTo>
                  <a:pt x="407" y="414"/>
                </a:lnTo>
                <a:lnTo>
                  <a:pt x="407" y="420"/>
                </a:lnTo>
                <a:lnTo>
                  <a:pt x="408" y="428"/>
                </a:lnTo>
                <a:lnTo>
                  <a:pt x="410" y="433"/>
                </a:lnTo>
                <a:lnTo>
                  <a:pt x="412" y="443"/>
                </a:lnTo>
                <a:lnTo>
                  <a:pt x="416" y="453"/>
                </a:lnTo>
                <a:lnTo>
                  <a:pt x="420" y="462"/>
                </a:lnTo>
                <a:lnTo>
                  <a:pt x="424" y="474"/>
                </a:lnTo>
                <a:lnTo>
                  <a:pt x="428" y="485"/>
                </a:lnTo>
                <a:lnTo>
                  <a:pt x="431" y="499"/>
                </a:lnTo>
                <a:lnTo>
                  <a:pt x="437" y="512"/>
                </a:lnTo>
                <a:lnTo>
                  <a:pt x="443" y="527"/>
                </a:lnTo>
                <a:lnTo>
                  <a:pt x="449" y="543"/>
                </a:lnTo>
                <a:lnTo>
                  <a:pt x="455" y="560"/>
                </a:lnTo>
                <a:lnTo>
                  <a:pt x="462" y="577"/>
                </a:lnTo>
                <a:lnTo>
                  <a:pt x="468" y="595"/>
                </a:lnTo>
                <a:lnTo>
                  <a:pt x="472" y="612"/>
                </a:lnTo>
                <a:lnTo>
                  <a:pt x="476" y="631"/>
                </a:lnTo>
                <a:lnTo>
                  <a:pt x="479" y="648"/>
                </a:lnTo>
                <a:lnTo>
                  <a:pt x="481" y="668"/>
                </a:lnTo>
                <a:lnTo>
                  <a:pt x="483" y="687"/>
                </a:lnTo>
                <a:lnTo>
                  <a:pt x="485" y="706"/>
                </a:lnTo>
                <a:lnTo>
                  <a:pt x="485" y="725"/>
                </a:lnTo>
                <a:lnTo>
                  <a:pt x="485" y="746"/>
                </a:lnTo>
                <a:lnTo>
                  <a:pt x="483" y="765"/>
                </a:lnTo>
                <a:lnTo>
                  <a:pt x="481" y="787"/>
                </a:lnTo>
                <a:lnTo>
                  <a:pt x="479" y="808"/>
                </a:lnTo>
                <a:lnTo>
                  <a:pt x="476" y="829"/>
                </a:lnTo>
                <a:lnTo>
                  <a:pt x="472" y="850"/>
                </a:lnTo>
                <a:lnTo>
                  <a:pt x="468" y="871"/>
                </a:lnTo>
                <a:lnTo>
                  <a:pt x="418" y="8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25"/>
          <p:cNvSpPr/>
          <p:nvPr/>
        </p:nvSpPr>
        <p:spPr>
          <a:xfrm>
            <a:off x="6148440" y="3327480"/>
            <a:ext cx="182520" cy="314280"/>
          </a:xfrm>
          <a:custGeom>
            <a:avLst/>
            <a:gdLst/>
            <a:ahLst/>
            <a:rect l="l" t="t" r="r" b="b"/>
            <a:pathLst>
              <a:path w="230" h="396">
                <a:moveTo>
                  <a:pt x="198" y="202"/>
                </a:moveTo>
                <a:lnTo>
                  <a:pt x="206" y="213"/>
                </a:lnTo>
                <a:lnTo>
                  <a:pt x="211" y="225"/>
                </a:lnTo>
                <a:lnTo>
                  <a:pt x="215" y="234"/>
                </a:lnTo>
                <a:lnTo>
                  <a:pt x="219" y="246"/>
                </a:lnTo>
                <a:lnTo>
                  <a:pt x="223" y="256"/>
                </a:lnTo>
                <a:lnTo>
                  <a:pt x="227" y="265"/>
                </a:lnTo>
                <a:lnTo>
                  <a:pt x="229" y="275"/>
                </a:lnTo>
                <a:lnTo>
                  <a:pt x="229" y="282"/>
                </a:lnTo>
                <a:lnTo>
                  <a:pt x="230" y="290"/>
                </a:lnTo>
                <a:lnTo>
                  <a:pt x="230" y="300"/>
                </a:lnTo>
                <a:lnTo>
                  <a:pt x="230" y="307"/>
                </a:lnTo>
                <a:lnTo>
                  <a:pt x="230" y="315"/>
                </a:lnTo>
                <a:lnTo>
                  <a:pt x="227" y="330"/>
                </a:lnTo>
                <a:lnTo>
                  <a:pt x="223" y="344"/>
                </a:lnTo>
                <a:lnTo>
                  <a:pt x="219" y="352"/>
                </a:lnTo>
                <a:lnTo>
                  <a:pt x="215" y="357"/>
                </a:lnTo>
                <a:lnTo>
                  <a:pt x="211" y="363"/>
                </a:lnTo>
                <a:lnTo>
                  <a:pt x="207" y="369"/>
                </a:lnTo>
                <a:lnTo>
                  <a:pt x="204" y="375"/>
                </a:lnTo>
                <a:lnTo>
                  <a:pt x="200" y="378"/>
                </a:lnTo>
                <a:lnTo>
                  <a:pt x="196" y="382"/>
                </a:lnTo>
                <a:lnTo>
                  <a:pt x="194" y="384"/>
                </a:lnTo>
                <a:lnTo>
                  <a:pt x="188" y="390"/>
                </a:lnTo>
                <a:lnTo>
                  <a:pt x="182" y="394"/>
                </a:lnTo>
                <a:lnTo>
                  <a:pt x="177" y="396"/>
                </a:lnTo>
                <a:lnTo>
                  <a:pt x="173" y="396"/>
                </a:lnTo>
                <a:lnTo>
                  <a:pt x="171" y="396"/>
                </a:lnTo>
                <a:lnTo>
                  <a:pt x="167" y="396"/>
                </a:lnTo>
                <a:lnTo>
                  <a:pt x="163" y="394"/>
                </a:lnTo>
                <a:lnTo>
                  <a:pt x="159" y="392"/>
                </a:lnTo>
                <a:lnTo>
                  <a:pt x="154" y="388"/>
                </a:lnTo>
                <a:lnTo>
                  <a:pt x="150" y="386"/>
                </a:lnTo>
                <a:lnTo>
                  <a:pt x="144" y="382"/>
                </a:lnTo>
                <a:lnTo>
                  <a:pt x="138" y="376"/>
                </a:lnTo>
                <a:lnTo>
                  <a:pt x="133" y="373"/>
                </a:lnTo>
                <a:lnTo>
                  <a:pt x="125" y="365"/>
                </a:lnTo>
                <a:lnTo>
                  <a:pt x="119" y="359"/>
                </a:lnTo>
                <a:lnTo>
                  <a:pt x="113" y="352"/>
                </a:lnTo>
                <a:lnTo>
                  <a:pt x="106" y="344"/>
                </a:lnTo>
                <a:lnTo>
                  <a:pt x="98" y="336"/>
                </a:lnTo>
                <a:lnTo>
                  <a:pt x="92" y="329"/>
                </a:lnTo>
                <a:lnTo>
                  <a:pt x="85" y="319"/>
                </a:lnTo>
                <a:lnTo>
                  <a:pt x="71" y="298"/>
                </a:lnTo>
                <a:lnTo>
                  <a:pt x="60" y="277"/>
                </a:lnTo>
                <a:lnTo>
                  <a:pt x="48" y="254"/>
                </a:lnTo>
                <a:lnTo>
                  <a:pt x="37" y="231"/>
                </a:lnTo>
                <a:lnTo>
                  <a:pt x="29" y="206"/>
                </a:lnTo>
                <a:lnTo>
                  <a:pt x="21" y="179"/>
                </a:lnTo>
                <a:lnTo>
                  <a:pt x="14" y="152"/>
                </a:lnTo>
                <a:lnTo>
                  <a:pt x="10" y="123"/>
                </a:lnTo>
                <a:lnTo>
                  <a:pt x="6" y="112"/>
                </a:lnTo>
                <a:lnTo>
                  <a:pt x="4" y="100"/>
                </a:lnTo>
                <a:lnTo>
                  <a:pt x="4" y="89"/>
                </a:lnTo>
                <a:lnTo>
                  <a:pt x="2" y="79"/>
                </a:lnTo>
                <a:lnTo>
                  <a:pt x="0" y="69"/>
                </a:lnTo>
                <a:lnTo>
                  <a:pt x="0" y="60"/>
                </a:lnTo>
                <a:lnTo>
                  <a:pt x="0" y="52"/>
                </a:lnTo>
                <a:lnTo>
                  <a:pt x="0" y="44"/>
                </a:lnTo>
                <a:lnTo>
                  <a:pt x="0" y="39"/>
                </a:lnTo>
                <a:lnTo>
                  <a:pt x="0" y="31"/>
                </a:lnTo>
                <a:lnTo>
                  <a:pt x="0" y="25"/>
                </a:lnTo>
                <a:lnTo>
                  <a:pt x="2" y="21"/>
                </a:lnTo>
                <a:lnTo>
                  <a:pt x="4" y="16"/>
                </a:lnTo>
                <a:lnTo>
                  <a:pt x="4" y="12"/>
                </a:lnTo>
                <a:lnTo>
                  <a:pt x="6" y="8"/>
                </a:lnTo>
                <a:lnTo>
                  <a:pt x="10" y="6"/>
                </a:lnTo>
                <a:lnTo>
                  <a:pt x="12" y="4"/>
                </a:lnTo>
                <a:lnTo>
                  <a:pt x="15" y="2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3" y="2"/>
                </a:lnTo>
                <a:lnTo>
                  <a:pt x="39" y="4"/>
                </a:lnTo>
                <a:lnTo>
                  <a:pt x="44" y="6"/>
                </a:lnTo>
                <a:lnTo>
                  <a:pt x="50" y="8"/>
                </a:lnTo>
                <a:lnTo>
                  <a:pt x="56" y="12"/>
                </a:lnTo>
                <a:lnTo>
                  <a:pt x="63" y="16"/>
                </a:lnTo>
                <a:lnTo>
                  <a:pt x="69" y="19"/>
                </a:lnTo>
                <a:lnTo>
                  <a:pt x="77" y="25"/>
                </a:lnTo>
                <a:lnTo>
                  <a:pt x="83" y="31"/>
                </a:lnTo>
                <a:lnTo>
                  <a:pt x="90" y="39"/>
                </a:lnTo>
                <a:lnTo>
                  <a:pt x="98" y="44"/>
                </a:lnTo>
                <a:lnTo>
                  <a:pt x="111" y="60"/>
                </a:lnTo>
                <a:lnTo>
                  <a:pt x="125" y="77"/>
                </a:lnTo>
                <a:lnTo>
                  <a:pt x="138" y="94"/>
                </a:lnTo>
                <a:lnTo>
                  <a:pt x="152" y="114"/>
                </a:lnTo>
                <a:lnTo>
                  <a:pt x="165" y="133"/>
                </a:lnTo>
                <a:lnTo>
                  <a:pt x="177" y="154"/>
                </a:lnTo>
                <a:lnTo>
                  <a:pt x="188" y="177"/>
                </a:lnTo>
                <a:lnTo>
                  <a:pt x="198" y="2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26"/>
          <p:cNvSpPr/>
          <p:nvPr/>
        </p:nvSpPr>
        <p:spPr>
          <a:xfrm>
            <a:off x="5554800" y="2919240"/>
            <a:ext cx="581040" cy="1003320"/>
          </a:xfrm>
          <a:custGeom>
            <a:avLst/>
            <a:gdLst/>
            <a:ahLst/>
            <a:rect l="l" t="t" r="r" b="b"/>
            <a:pathLst>
              <a:path w="733" h="1265">
                <a:moveTo>
                  <a:pt x="378" y="1209"/>
                </a:moveTo>
                <a:lnTo>
                  <a:pt x="378" y="1200"/>
                </a:lnTo>
                <a:lnTo>
                  <a:pt x="376" y="1190"/>
                </a:lnTo>
                <a:lnTo>
                  <a:pt x="374" y="1180"/>
                </a:lnTo>
                <a:lnTo>
                  <a:pt x="372" y="1171"/>
                </a:lnTo>
                <a:lnTo>
                  <a:pt x="368" y="1161"/>
                </a:lnTo>
                <a:lnTo>
                  <a:pt x="362" y="1152"/>
                </a:lnTo>
                <a:lnTo>
                  <a:pt x="357" y="1142"/>
                </a:lnTo>
                <a:lnTo>
                  <a:pt x="351" y="1132"/>
                </a:lnTo>
                <a:lnTo>
                  <a:pt x="345" y="1123"/>
                </a:lnTo>
                <a:lnTo>
                  <a:pt x="337" y="1111"/>
                </a:lnTo>
                <a:lnTo>
                  <a:pt x="328" y="1102"/>
                </a:lnTo>
                <a:lnTo>
                  <a:pt x="320" y="1092"/>
                </a:lnTo>
                <a:lnTo>
                  <a:pt x="311" y="1082"/>
                </a:lnTo>
                <a:lnTo>
                  <a:pt x="299" y="1073"/>
                </a:lnTo>
                <a:lnTo>
                  <a:pt x="289" y="1063"/>
                </a:lnTo>
                <a:lnTo>
                  <a:pt x="278" y="1054"/>
                </a:lnTo>
                <a:lnTo>
                  <a:pt x="264" y="1044"/>
                </a:lnTo>
                <a:lnTo>
                  <a:pt x="251" y="1034"/>
                </a:lnTo>
                <a:lnTo>
                  <a:pt x="239" y="1025"/>
                </a:lnTo>
                <a:lnTo>
                  <a:pt x="228" y="1017"/>
                </a:lnTo>
                <a:lnTo>
                  <a:pt x="218" y="1008"/>
                </a:lnTo>
                <a:lnTo>
                  <a:pt x="209" y="1000"/>
                </a:lnTo>
                <a:lnTo>
                  <a:pt x="201" y="994"/>
                </a:lnTo>
                <a:lnTo>
                  <a:pt x="193" y="986"/>
                </a:lnTo>
                <a:lnTo>
                  <a:pt x="188" y="981"/>
                </a:lnTo>
                <a:lnTo>
                  <a:pt x="184" y="975"/>
                </a:lnTo>
                <a:lnTo>
                  <a:pt x="180" y="969"/>
                </a:lnTo>
                <a:lnTo>
                  <a:pt x="176" y="963"/>
                </a:lnTo>
                <a:lnTo>
                  <a:pt x="174" y="960"/>
                </a:lnTo>
                <a:lnTo>
                  <a:pt x="174" y="956"/>
                </a:lnTo>
                <a:lnTo>
                  <a:pt x="174" y="952"/>
                </a:lnTo>
                <a:lnTo>
                  <a:pt x="176" y="950"/>
                </a:lnTo>
                <a:lnTo>
                  <a:pt x="180" y="946"/>
                </a:lnTo>
                <a:lnTo>
                  <a:pt x="182" y="944"/>
                </a:lnTo>
                <a:lnTo>
                  <a:pt x="186" y="942"/>
                </a:lnTo>
                <a:lnTo>
                  <a:pt x="192" y="942"/>
                </a:lnTo>
                <a:lnTo>
                  <a:pt x="195" y="940"/>
                </a:lnTo>
                <a:lnTo>
                  <a:pt x="201" y="940"/>
                </a:lnTo>
                <a:lnTo>
                  <a:pt x="207" y="940"/>
                </a:lnTo>
                <a:lnTo>
                  <a:pt x="215" y="938"/>
                </a:lnTo>
                <a:lnTo>
                  <a:pt x="222" y="940"/>
                </a:lnTo>
                <a:lnTo>
                  <a:pt x="230" y="940"/>
                </a:lnTo>
                <a:lnTo>
                  <a:pt x="238" y="940"/>
                </a:lnTo>
                <a:lnTo>
                  <a:pt x="247" y="942"/>
                </a:lnTo>
                <a:lnTo>
                  <a:pt x="257" y="942"/>
                </a:lnTo>
                <a:lnTo>
                  <a:pt x="268" y="944"/>
                </a:lnTo>
                <a:lnTo>
                  <a:pt x="278" y="946"/>
                </a:lnTo>
                <a:lnTo>
                  <a:pt x="289" y="950"/>
                </a:lnTo>
                <a:lnTo>
                  <a:pt x="301" y="952"/>
                </a:lnTo>
                <a:lnTo>
                  <a:pt x="312" y="954"/>
                </a:lnTo>
                <a:lnTo>
                  <a:pt x="322" y="956"/>
                </a:lnTo>
                <a:lnTo>
                  <a:pt x="334" y="956"/>
                </a:lnTo>
                <a:lnTo>
                  <a:pt x="341" y="958"/>
                </a:lnTo>
                <a:lnTo>
                  <a:pt x="351" y="958"/>
                </a:lnTo>
                <a:lnTo>
                  <a:pt x="358" y="960"/>
                </a:lnTo>
                <a:lnTo>
                  <a:pt x="366" y="960"/>
                </a:lnTo>
                <a:lnTo>
                  <a:pt x="372" y="960"/>
                </a:lnTo>
                <a:lnTo>
                  <a:pt x="380" y="958"/>
                </a:lnTo>
                <a:lnTo>
                  <a:pt x="385" y="958"/>
                </a:lnTo>
                <a:lnTo>
                  <a:pt x="389" y="956"/>
                </a:lnTo>
                <a:lnTo>
                  <a:pt x="393" y="956"/>
                </a:lnTo>
                <a:lnTo>
                  <a:pt x="397" y="954"/>
                </a:lnTo>
                <a:lnTo>
                  <a:pt x="401" y="952"/>
                </a:lnTo>
                <a:lnTo>
                  <a:pt x="405" y="950"/>
                </a:lnTo>
                <a:lnTo>
                  <a:pt x="406" y="946"/>
                </a:lnTo>
                <a:lnTo>
                  <a:pt x="408" y="942"/>
                </a:lnTo>
                <a:lnTo>
                  <a:pt x="408" y="937"/>
                </a:lnTo>
                <a:lnTo>
                  <a:pt x="410" y="931"/>
                </a:lnTo>
                <a:lnTo>
                  <a:pt x="410" y="925"/>
                </a:lnTo>
                <a:lnTo>
                  <a:pt x="410" y="917"/>
                </a:lnTo>
                <a:lnTo>
                  <a:pt x="410" y="908"/>
                </a:lnTo>
                <a:lnTo>
                  <a:pt x="410" y="896"/>
                </a:lnTo>
                <a:lnTo>
                  <a:pt x="408" y="885"/>
                </a:lnTo>
                <a:lnTo>
                  <a:pt x="406" y="873"/>
                </a:lnTo>
                <a:lnTo>
                  <a:pt x="403" y="858"/>
                </a:lnTo>
                <a:lnTo>
                  <a:pt x="399" y="843"/>
                </a:lnTo>
                <a:lnTo>
                  <a:pt x="395" y="827"/>
                </a:lnTo>
                <a:lnTo>
                  <a:pt x="391" y="808"/>
                </a:lnTo>
                <a:lnTo>
                  <a:pt x="385" y="789"/>
                </a:lnTo>
                <a:lnTo>
                  <a:pt x="378" y="768"/>
                </a:lnTo>
                <a:lnTo>
                  <a:pt x="372" y="748"/>
                </a:lnTo>
                <a:lnTo>
                  <a:pt x="366" y="729"/>
                </a:lnTo>
                <a:lnTo>
                  <a:pt x="360" y="712"/>
                </a:lnTo>
                <a:lnTo>
                  <a:pt x="355" y="697"/>
                </a:lnTo>
                <a:lnTo>
                  <a:pt x="351" y="681"/>
                </a:lnTo>
                <a:lnTo>
                  <a:pt x="347" y="668"/>
                </a:lnTo>
                <a:lnTo>
                  <a:pt x="343" y="654"/>
                </a:lnTo>
                <a:lnTo>
                  <a:pt x="339" y="641"/>
                </a:lnTo>
                <a:lnTo>
                  <a:pt x="335" y="631"/>
                </a:lnTo>
                <a:lnTo>
                  <a:pt x="334" y="620"/>
                </a:lnTo>
                <a:lnTo>
                  <a:pt x="332" y="612"/>
                </a:lnTo>
                <a:lnTo>
                  <a:pt x="330" y="604"/>
                </a:lnTo>
                <a:lnTo>
                  <a:pt x="330" y="597"/>
                </a:lnTo>
                <a:lnTo>
                  <a:pt x="328" y="593"/>
                </a:lnTo>
                <a:lnTo>
                  <a:pt x="328" y="587"/>
                </a:lnTo>
                <a:lnTo>
                  <a:pt x="328" y="585"/>
                </a:lnTo>
                <a:lnTo>
                  <a:pt x="328" y="581"/>
                </a:lnTo>
                <a:lnTo>
                  <a:pt x="328" y="578"/>
                </a:lnTo>
                <a:lnTo>
                  <a:pt x="330" y="572"/>
                </a:lnTo>
                <a:lnTo>
                  <a:pt x="330" y="566"/>
                </a:lnTo>
                <a:lnTo>
                  <a:pt x="332" y="558"/>
                </a:lnTo>
                <a:lnTo>
                  <a:pt x="334" y="549"/>
                </a:lnTo>
                <a:lnTo>
                  <a:pt x="335" y="539"/>
                </a:lnTo>
                <a:lnTo>
                  <a:pt x="339" y="528"/>
                </a:lnTo>
                <a:lnTo>
                  <a:pt x="343" y="516"/>
                </a:lnTo>
                <a:lnTo>
                  <a:pt x="347" y="503"/>
                </a:lnTo>
                <a:lnTo>
                  <a:pt x="351" y="489"/>
                </a:lnTo>
                <a:lnTo>
                  <a:pt x="355" y="474"/>
                </a:lnTo>
                <a:lnTo>
                  <a:pt x="360" y="457"/>
                </a:lnTo>
                <a:lnTo>
                  <a:pt x="366" y="439"/>
                </a:lnTo>
                <a:lnTo>
                  <a:pt x="372" y="422"/>
                </a:lnTo>
                <a:lnTo>
                  <a:pt x="378" y="403"/>
                </a:lnTo>
                <a:lnTo>
                  <a:pt x="385" y="384"/>
                </a:lnTo>
                <a:lnTo>
                  <a:pt x="391" y="365"/>
                </a:lnTo>
                <a:lnTo>
                  <a:pt x="397" y="347"/>
                </a:lnTo>
                <a:lnTo>
                  <a:pt x="401" y="332"/>
                </a:lnTo>
                <a:lnTo>
                  <a:pt x="406" y="317"/>
                </a:lnTo>
                <a:lnTo>
                  <a:pt x="410" y="303"/>
                </a:lnTo>
                <a:lnTo>
                  <a:pt x="414" y="290"/>
                </a:lnTo>
                <a:lnTo>
                  <a:pt x="416" y="278"/>
                </a:lnTo>
                <a:lnTo>
                  <a:pt x="418" y="267"/>
                </a:lnTo>
                <a:lnTo>
                  <a:pt x="420" y="257"/>
                </a:lnTo>
                <a:lnTo>
                  <a:pt x="420" y="247"/>
                </a:lnTo>
                <a:lnTo>
                  <a:pt x="420" y="240"/>
                </a:lnTo>
                <a:lnTo>
                  <a:pt x="420" y="234"/>
                </a:lnTo>
                <a:lnTo>
                  <a:pt x="420" y="228"/>
                </a:lnTo>
                <a:lnTo>
                  <a:pt x="418" y="224"/>
                </a:lnTo>
                <a:lnTo>
                  <a:pt x="416" y="221"/>
                </a:lnTo>
                <a:lnTo>
                  <a:pt x="414" y="219"/>
                </a:lnTo>
                <a:lnTo>
                  <a:pt x="410" y="217"/>
                </a:lnTo>
                <a:lnTo>
                  <a:pt x="405" y="215"/>
                </a:lnTo>
                <a:lnTo>
                  <a:pt x="401" y="215"/>
                </a:lnTo>
                <a:lnTo>
                  <a:pt x="393" y="215"/>
                </a:lnTo>
                <a:lnTo>
                  <a:pt x="387" y="215"/>
                </a:lnTo>
                <a:lnTo>
                  <a:pt x="380" y="217"/>
                </a:lnTo>
                <a:lnTo>
                  <a:pt x="370" y="217"/>
                </a:lnTo>
                <a:lnTo>
                  <a:pt x="360" y="219"/>
                </a:lnTo>
                <a:lnTo>
                  <a:pt x="351" y="221"/>
                </a:lnTo>
                <a:lnTo>
                  <a:pt x="341" y="223"/>
                </a:lnTo>
                <a:lnTo>
                  <a:pt x="330" y="224"/>
                </a:lnTo>
                <a:lnTo>
                  <a:pt x="318" y="226"/>
                </a:lnTo>
                <a:lnTo>
                  <a:pt x="305" y="228"/>
                </a:lnTo>
                <a:lnTo>
                  <a:pt x="291" y="230"/>
                </a:lnTo>
                <a:lnTo>
                  <a:pt x="278" y="234"/>
                </a:lnTo>
                <a:lnTo>
                  <a:pt x="245" y="244"/>
                </a:lnTo>
                <a:lnTo>
                  <a:pt x="211" y="251"/>
                </a:lnTo>
                <a:lnTo>
                  <a:pt x="178" y="257"/>
                </a:lnTo>
                <a:lnTo>
                  <a:pt x="144" y="263"/>
                </a:lnTo>
                <a:lnTo>
                  <a:pt x="109" y="267"/>
                </a:lnTo>
                <a:lnTo>
                  <a:pt x="74" y="270"/>
                </a:lnTo>
                <a:lnTo>
                  <a:pt x="38" y="272"/>
                </a:lnTo>
                <a:lnTo>
                  <a:pt x="0" y="272"/>
                </a:lnTo>
                <a:lnTo>
                  <a:pt x="0" y="207"/>
                </a:lnTo>
                <a:lnTo>
                  <a:pt x="17" y="207"/>
                </a:lnTo>
                <a:lnTo>
                  <a:pt x="34" y="207"/>
                </a:lnTo>
                <a:lnTo>
                  <a:pt x="49" y="205"/>
                </a:lnTo>
                <a:lnTo>
                  <a:pt x="67" y="203"/>
                </a:lnTo>
                <a:lnTo>
                  <a:pt x="84" y="201"/>
                </a:lnTo>
                <a:lnTo>
                  <a:pt x="99" y="198"/>
                </a:lnTo>
                <a:lnTo>
                  <a:pt x="117" y="194"/>
                </a:lnTo>
                <a:lnTo>
                  <a:pt x="134" y="190"/>
                </a:lnTo>
                <a:lnTo>
                  <a:pt x="168" y="180"/>
                </a:lnTo>
                <a:lnTo>
                  <a:pt x="205" y="169"/>
                </a:lnTo>
                <a:lnTo>
                  <a:pt x="239" y="157"/>
                </a:lnTo>
                <a:lnTo>
                  <a:pt x="278" y="142"/>
                </a:lnTo>
                <a:lnTo>
                  <a:pt x="293" y="134"/>
                </a:lnTo>
                <a:lnTo>
                  <a:pt x="309" y="128"/>
                </a:lnTo>
                <a:lnTo>
                  <a:pt x="324" y="121"/>
                </a:lnTo>
                <a:lnTo>
                  <a:pt x="339" y="115"/>
                </a:lnTo>
                <a:lnTo>
                  <a:pt x="353" y="109"/>
                </a:lnTo>
                <a:lnTo>
                  <a:pt x="366" y="102"/>
                </a:lnTo>
                <a:lnTo>
                  <a:pt x="378" y="96"/>
                </a:lnTo>
                <a:lnTo>
                  <a:pt x="389" y="90"/>
                </a:lnTo>
                <a:lnTo>
                  <a:pt x="401" y="84"/>
                </a:lnTo>
                <a:lnTo>
                  <a:pt x="410" y="79"/>
                </a:lnTo>
                <a:lnTo>
                  <a:pt x="420" y="73"/>
                </a:lnTo>
                <a:lnTo>
                  <a:pt x="428" y="65"/>
                </a:lnTo>
                <a:lnTo>
                  <a:pt x="435" y="59"/>
                </a:lnTo>
                <a:lnTo>
                  <a:pt x="443" y="52"/>
                </a:lnTo>
                <a:lnTo>
                  <a:pt x="449" y="46"/>
                </a:lnTo>
                <a:lnTo>
                  <a:pt x="454" y="38"/>
                </a:lnTo>
                <a:lnTo>
                  <a:pt x="460" y="29"/>
                </a:lnTo>
                <a:lnTo>
                  <a:pt x="466" y="21"/>
                </a:lnTo>
                <a:lnTo>
                  <a:pt x="474" y="15"/>
                </a:lnTo>
                <a:lnTo>
                  <a:pt x="481" y="9"/>
                </a:lnTo>
                <a:lnTo>
                  <a:pt x="489" y="6"/>
                </a:lnTo>
                <a:lnTo>
                  <a:pt x="499" y="2"/>
                </a:lnTo>
                <a:lnTo>
                  <a:pt x="508" y="0"/>
                </a:lnTo>
                <a:lnTo>
                  <a:pt x="518" y="0"/>
                </a:lnTo>
                <a:lnTo>
                  <a:pt x="522" y="0"/>
                </a:lnTo>
                <a:lnTo>
                  <a:pt x="527" y="0"/>
                </a:lnTo>
                <a:lnTo>
                  <a:pt x="533" y="2"/>
                </a:lnTo>
                <a:lnTo>
                  <a:pt x="539" y="4"/>
                </a:lnTo>
                <a:lnTo>
                  <a:pt x="545" y="6"/>
                </a:lnTo>
                <a:lnTo>
                  <a:pt x="552" y="9"/>
                </a:lnTo>
                <a:lnTo>
                  <a:pt x="558" y="13"/>
                </a:lnTo>
                <a:lnTo>
                  <a:pt x="566" y="17"/>
                </a:lnTo>
                <a:lnTo>
                  <a:pt x="583" y="27"/>
                </a:lnTo>
                <a:lnTo>
                  <a:pt x="591" y="32"/>
                </a:lnTo>
                <a:lnTo>
                  <a:pt x="600" y="38"/>
                </a:lnTo>
                <a:lnTo>
                  <a:pt x="610" y="44"/>
                </a:lnTo>
                <a:lnTo>
                  <a:pt x="621" y="50"/>
                </a:lnTo>
                <a:lnTo>
                  <a:pt x="633" y="57"/>
                </a:lnTo>
                <a:lnTo>
                  <a:pt x="644" y="65"/>
                </a:lnTo>
                <a:lnTo>
                  <a:pt x="654" y="75"/>
                </a:lnTo>
                <a:lnTo>
                  <a:pt x="666" y="82"/>
                </a:lnTo>
                <a:lnTo>
                  <a:pt x="675" y="92"/>
                </a:lnTo>
                <a:lnTo>
                  <a:pt x="683" y="102"/>
                </a:lnTo>
                <a:lnTo>
                  <a:pt x="692" y="109"/>
                </a:lnTo>
                <a:lnTo>
                  <a:pt x="698" y="117"/>
                </a:lnTo>
                <a:lnTo>
                  <a:pt x="706" y="125"/>
                </a:lnTo>
                <a:lnTo>
                  <a:pt x="712" y="130"/>
                </a:lnTo>
                <a:lnTo>
                  <a:pt x="716" y="138"/>
                </a:lnTo>
                <a:lnTo>
                  <a:pt x="721" y="144"/>
                </a:lnTo>
                <a:lnTo>
                  <a:pt x="723" y="150"/>
                </a:lnTo>
                <a:lnTo>
                  <a:pt x="727" y="153"/>
                </a:lnTo>
                <a:lnTo>
                  <a:pt x="729" y="159"/>
                </a:lnTo>
                <a:lnTo>
                  <a:pt x="731" y="163"/>
                </a:lnTo>
                <a:lnTo>
                  <a:pt x="731" y="165"/>
                </a:lnTo>
                <a:lnTo>
                  <a:pt x="733" y="169"/>
                </a:lnTo>
                <a:lnTo>
                  <a:pt x="731" y="178"/>
                </a:lnTo>
                <a:lnTo>
                  <a:pt x="729" y="188"/>
                </a:lnTo>
                <a:lnTo>
                  <a:pt x="725" y="198"/>
                </a:lnTo>
                <a:lnTo>
                  <a:pt x="721" y="205"/>
                </a:lnTo>
                <a:lnTo>
                  <a:pt x="714" y="213"/>
                </a:lnTo>
                <a:lnTo>
                  <a:pt x="710" y="219"/>
                </a:lnTo>
                <a:lnTo>
                  <a:pt x="706" y="221"/>
                </a:lnTo>
                <a:lnTo>
                  <a:pt x="700" y="224"/>
                </a:lnTo>
                <a:lnTo>
                  <a:pt x="694" y="228"/>
                </a:lnTo>
                <a:lnTo>
                  <a:pt x="689" y="230"/>
                </a:lnTo>
                <a:lnTo>
                  <a:pt x="681" y="234"/>
                </a:lnTo>
                <a:lnTo>
                  <a:pt x="673" y="236"/>
                </a:lnTo>
                <a:lnTo>
                  <a:pt x="668" y="242"/>
                </a:lnTo>
                <a:lnTo>
                  <a:pt x="658" y="246"/>
                </a:lnTo>
                <a:lnTo>
                  <a:pt x="650" y="253"/>
                </a:lnTo>
                <a:lnTo>
                  <a:pt x="643" y="261"/>
                </a:lnTo>
                <a:lnTo>
                  <a:pt x="633" y="269"/>
                </a:lnTo>
                <a:lnTo>
                  <a:pt x="623" y="278"/>
                </a:lnTo>
                <a:lnTo>
                  <a:pt x="616" y="288"/>
                </a:lnTo>
                <a:lnTo>
                  <a:pt x="606" y="299"/>
                </a:lnTo>
                <a:lnTo>
                  <a:pt x="595" y="313"/>
                </a:lnTo>
                <a:lnTo>
                  <a:pt x="585" y="326"/>
                </a:lnTo>
                <a:lnTo>
                  <a:pt x="575" y="340"/>
                </a:lnTo>
                <a:lnTo>
                  <a:pt x="564" y="353"/>
                </a:lnTo>
                <a:lnTo>
                  <a:pt x="552" y="370"/>
                </a:lnTo>
                <a:lnTo>
                  <a:pt x="541" y="386"/>
                </a:lnTo>
                <a:lnTo>
                  <a:pt x="529" y="403"/>
                </a:lnTo>
                <a:lnTo>
                  <a:pt x="518" y="420"/>
                </a:lnTo>
                <a:lnTo>
                  <a:pt x="508" y="436"/>
                </a:lnTo>
                <a:lnTo>
                  <a:pt x="497" y="451"/>
                </a:lnTo>
                <a:lnTo>
                  <a:pt x="487" y="466"/>
                </a:lnTo>
                <a:lnTo>
                  <a:pt x="478" y="480"/>
                </a:lnTo>
                <a:lnTo>
                  <a:pt x="470" y="493"/>
                </a:lnTo>
                <a:lnTo>
                  <a:pt x="462" y="505"/>
                </a:lnTo>
                <a:lnTo>
                  <a:pt x="454" y="516"/>
                </a:lnTo>
                <a:lnTo>
                  <a:pt x="447" y="528"/>
                </a:lnTo>
                <a:lnTo>
                  <a:pt x="441" y="537"/>
                </a:lnTo>
                <a:lnTo>
                  <a:pt x="435" y="545"/>
                </a:lnTo>
                <a:lnTo>
                  <a:pt x="430" y="553"/>
                </a:lnTo>
                <a:lnTo>
                  <a:pt x="426" y="558"/>
                </a:lnTo>
                <a:lnTo>
                  <a:pt x="422" y="564"/>
                </a:lnTo>
                <a:lnTo>
                  <a:pt x="418" y="568"/>
                </a:lnTo>
                <a:lnTo>
                  <a:pt x="416" y="572"/>
                </a:lnTo>
                <a:lnTo>
                  <a:pt x="414" y="576"/>
                </a:lnTo>
                <a:lnTo>
                  <a:pt x="414" y="580"/>
                </a:lnTo>
                <a:lnTo>
                  <a:pt x="414" y="585"/>
                </a:lnTo>
                <a:lnTo>
                  <a:pt x="414" y="593"/>
                </a:lnTo>
                <a:lnTo>
                  <a:pt x="416" y="603"/>
                </a:lnTo>
                <a:lnTo>
                  <a:pt x="420" y="612"/>
                </a:lnTo>
                <a:lnTo>
                  <a:pt x="424" y="626"/>
                </a:lnTo>
                <a:lnTo>
                  <a:pt x="428" y="639"/>
                </a:lnTo>
                <a:lnTo>
                  <a:pt x="433" y="652"/>
                </a:lnTo>
                <a:lnTo>
                  <a:pt x="441" y="670"/>
                </a:lnTo>
                <a:lnTo>
                  <a:pt x="449" y="687"/>
                </a:lnTo>
                <a:lnTo>
                  <a:pt x="458" y="704"/>
                </a:lnTo>
                <a:lnTo>
                  <a:pt x="468" y="725"/>
                </a:lnTo>
                <a:lnTo>
                  <a:pt x="479" y="747"/>
                </a:lnTo>
                <a:lnTo>
                  <a:pt x="491" y="770"/>
                </a:lnTo>
                <a:lnTo>
                  <a:pt x="504" y="793"/>
                </a:lnTo>
                <a:lnTo>
                  <a:pt x="516" y="819"/>
                </a:lnTo>
                <a:lnTo>
                  <a:pt x="525" y="844"/>
                </a:lnTo>
                <a:lnTo>
                  <a:pt x="535" y="869"/>
                </a:lnTo>
                <a:lnTo>
                  <a:pt x="543" y="894"/>
                </a:lnTo>
                <a:lnTo>
                  <a:pt x="549" y="917"/>
                </a:lnTo>
                <a:lnTo>
                  <a:pt x="554" y="938"/>
                </a:lnTo>
                <a:lnTo>
                  <a:pt x="558" y="962"/>
                </a:lnTo>
                <a:lnTo>
                  <a:pt x="560" y="983"/>
                </a:lnTo>
                <a:lnTo>
                  <a:pt x="562" y="1002"/>
                </a:lnTo>
                <a:lnTo>
                  <a:pt x="564" y="1023"/>
                </a:lnTo>
                <a:lnTo>
                  <a:pt x="562" y="1042"/>
                </a:lnTo>
                <a:lnTo>
                  <a:pt x="560" y="1059"/>
                </a:lnTo>
                <a:lnTo>
                  <a:pt x="558" y="1079"/>
                </a:lnTo>
                <a:lnTo>
                  <a:pt x="554" y="1096"/>
                </a:lnTo>
                <a:lnTo>
                  <a:pt x="549" y="1115"/>
                </a:lnTo>
                <a:lnTo>
                  <a:pt x="543" y="1132"/>
                </a:lnTo>
                <a:lnTo>
                  <a:pt x="535" y="1148"/>
                </a:lnTo>
                <a:lnTo>
                  <a:pt x="529" y="1163"/>
                </a:lnTo>
                <a:lnTo>
                  <a:pt x="522" y="1178"/>
                </a:lnTo>
                <a:lnTo>
                  <a:pt x="514" y="1190"/>
                </a:lnTo>
                <a:lnTo>
                  <a:pt x="508" y="1201"/>
                </a:lnTo>
                <a:lnTo>
                  <a:pt x="501" y="1213"/>
                </a:lnTo>
                <a:lnTo>
                  <a:pt x="495" y="1223"/>
                </a:lnTo>
                <a:lnTo>
                  <a:pt x="487" y="1230"/>
                </a:lnTo>
                <a:lnTo>
                  <a:pt x="481" y="1238"/>
                </a:lnTo>
                <a:lnTo>
                  <a:pt x="476" y="1244"/>
                </a:lnTo>
                <a:lnTo>
                  <a:pt x="468" y="1249"/>
                </a:lnTo>
                <a:lnTo>
                  <a:pt x="462" y="1253"/>
                </a:lnTo>
                <a:lnTo>
                  <a:pt x="456" y="1257"/>
                </a:lnTo>
                <a:lnTo>
                  <a:pt x="453" y="1259"/>
                </a:lnTo>
                <a:lnTo>
                  <a:pt x="447" y="1261"/>
                </a:lnTo>
                <a:lnTo>
                  <a:pt x="441" y="1261"/>
                </a:lnTo>
                <a:lnTo>
                  <a:pt x="435" y="1263"/>
                </a:lnTo>
                <a:lnTo>
                  <a:pt x="428" y="1265"/>
                </a:lnTo>
                <a:lnTo>
                  <a:pt x="422" y="1265"/>
                </a:lnTo>
                <a:lnTo>
                  <a:pt x="418" y="1265"/>
                </a:lnTo>
                <a:lnTo>
                  <a:pt x="412" y="1263"/>
                </a:lnTo>
                <a:lnTo>
                  <a:pt x="408" y="1261"/>
                </a:lnTo>
                <a:lnTo>
                  <a:pt x="405" y="1259"/>
                </a:lnTo>
                <a:lnTo>
                  <a:pt x="401" y="1255"/>
                </a:lnTo>
                <a:lnTo>
                  <a:pt x="397" y="1251"/>
                </a:lnTo>
                <a:lnTo>
                  <a:pt x="393" y="1248"/>
                </a:lnTo>
                <a:lnTo>
                  <a:pt x="391" y="1242"/>
                </a:lnTo>
                <a:lnTo>
                  <a:pt x="387" y="1236"/>
                </a:lnTo>
                <a:lnTo>
                  <a:pt x="383" y="1224"/>
                </a:lnTo>
                <a:lnTo>
                  <a:pt x="378" y="1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127"/>
          <p:cNvSpPr/>
          <p:nvPr/>
        </p:nvSpPr>
        <p:spPr>
          <a:xfrm>
            <a:off x="5481720" y="3062160"/>
            <a:ext cx="154080" cy="1913040"/>
          </a:xfrm>
          <a:custGeom>
            <a:avLst/>
            <a:gdLst/>
            <a:ahLst/>
            <a:rect l="l" t="t" r="r" b="b"/>
            <a:pathLst>
              <a:path w="194" h="2409">
                <a:moveTo>
                  <a:pt x="29" y="14"/>
                </a:moveTo>
                <a:lnTo>
                  <a:pt x="33" y="10"/>
                </a:lnTo>
                <a:lnTo>
                  <a:pt x="37" y="6"/>
                </a:lnTo>
                <a:lnTo>
                  <a:pt x="43" y="4"/>
                </a:lnTo>
                <a:lnTo>
                  <a:pt x="48" y="2"/>
                </a:lnTo>
                <a:lnTo>
                  <a:pt x="56" y="0"/>
                </a:lnTo>
                <a:lnTo>
                  <a:pt x="64" y="0"/>
                </a:lnTo>
                <a:lnTo>
                  <a:pt x="73" y="2"/>
                </a:lnTo>
                <a:lnTo>
                  <a:pt x="83" y="2"/>
                </a:lnTo>
                <a:lnTo>
                  <a:pt x="94" y="4"/>
                </a:lnTo>
                <a:lnTo>
                  <a:pt x="106" y="8"/>
                </a:lnTo>
                <a:lnTo>
                  <a:pt x="119" y="12"/>
                </a:lnTo>
                <a:lnTo>
                  <a:pt x="133" y="16"/>
                </a:lnTo>
                <a:lnTo>
                  <a:pt x="146" y="21"/>
                </a:lnTo>
                <a:lnTo>
                  <a:pt x="162" y="27"/>
                </a:lnTo>
                <a:lnTo>
                  <a:pt x="177" y="33"/>
                </a:lnTo>
                <a:lnTo>
                  <a:pt x="194" y="41"/>
                </a:lnTo>
                <a:lnTo>
                  <a:pt x="194" y="162"/>
                </a:lnTo>
                <a:lnTo>
                  <a:pt x="194" y="281"/>
                </a:lnTo>
                <a:lnTo>
                  <a:pt x="194" y="396"/>
                </a:lnTo>
                <a:lnTo>
                  <a:pt x="192" y="505"/>
                </a:lnTo>
                <a:lnTo>
                  <a:pt x="192" y="615"/>
                </a:lnTo>
                <a:lnTo>
                  <a:pt x="192" y="718"/>
                </a:lnTo>
                <a:lnTo>
                  <a:pt x="192" y="820"/>
                </a:lnTo>
                <a:lnTo>
                  <a:pt x="192" y="916"/>
                </a:lnTo>
                <a:lnTo>
                  <a:pt x="190" y="1010"/>
                </a:lnTo>
                <a:lnTo>
                  <a:pt x="190" y="1100"/>
                </a:lnTo>
                <a:lnTo>
                  <a:pt x="189" y="1188"/>
                </a:lnTo>
                <a:lnTo>
                  <a:pt x="189" y="1271"/>
                </a:lnTo>
                <a:lnTo>
                  <a:pt x="187" y="1352"/>
                </a:lnTo>
                <a:lnTo>
                  <a:pt x="187" y="1428"/>
                </a:lnTo>
                <a:lnTo>
                  <a:pt x="185" y="1501"/>
                </a:lnTo>
                <a:lnTo>
                  <a:pt x="185" y="1570"/>
                </a:lnTo>
                <a:lnTo>
                  <a:pt x="183" y="1638"/>
                </a:lnTo>
                <a:lnTo>
                  <a:pt x="181" y="1701"/>
                </a:lnTo>
                <a:lnTo>
                  <a:pt x="181" y="1760"/>
                </a:lnTo>
                <a:lnTo>
                  <a:pt x="179" y="1816"/>
                </a:lnTo>
                <a:lnTo>
                  <a:pt x="177" y="1868"/>
                </a:lnTo>
                <a:lnTo>
                  <a:pt x="175" y="1916"/>
                </a:lnTo>
                <a:lnTo>
                  <a:pt x="173" y="1962"/>
                </a:lnTo>
                <a:lnTo>
                  <a:pt x="173" y="2004"/>
                </a:lnTo>
                <a:lnTo>
                  <a:pt x="171" y="2043"/>
                </a:lnTo>
                <a:lnTo>
                  <a:pt x="169" y="2077"/>
                </a:lnTo>
                <a:lnTo>
                  <a:pt x="167" y="2110"/>
                </a:lnTo>
                <a:lnTo>
                  <a:pt x="166" y="2137"/>
                </a:lnTo>
                <a:lnTo>
                  <a:pt x="164" y="2162"/>
                </a:lnTo>
                <a:lnTo>
                  <a:pt x="160" y="2183"/>
                </a:lnTo>
                <a:lnTo>
                  <a:pt x="158" y="2200"/>
                </a:lnTo>
                <a:lnTo>
                  <a:pt x="156" y="2213"/>
                </a:lnTo>
                <a:lnTo>
                  <a:pt x="152" y="2238"/>
                </a:lnTo>
                <a:lnTo>
                  <a:pt x="146" y="2260"/>
                </a:lnTo>
                <a:lnTo>
                  <a:pt x="142" y="2281"/>
                </a:lnTo>
                <a:lnTo>
                  <a:pt x="137" y="2300"/>
                </a:lnTo>
                <a:lnTo>
                  <a:pt x="133" y="2317"/>
                </a:lnTo>
                <a:lnTo>
                  <a:pt x="129" y="2332"/>
                </a:lnTo>
                <a:lnTo>
                  <a:pt x="125" y="2348"/>
                </a:lnTo>
                <a:lnTo>
                  <a:pt x="119" y="2361"/>
                </a:lnTo>
                <a:lnTo>
                  <a:pt x="116" y="2373"/>
                </a:lnTo>
                <a:lnTo>
                  <a:pt x="112" y="2382"/>
                </a:lnTo>
                <a:lnTo>
                  <a:pt x="108" y="2390"/>
                </a:lnTo>
                <a:lnTo>
                  <a:pt x="104" y="2398"/>
                </a:lnTo>
                <a:lnTo>
                  <a:pt x="102" y="2402"/>
                </a:lnTo>
                <a:lnTo>
                  <a:pt x="98" y="2405"/>
                </a:lnTo>
                <a:lnTo>
                  <a:pt x="96" y="2409"/>
                </a:lnTo>
                <a:lnTo>
                  <a:pt x="93" y="2409"/>
                </a:lnTo>
                <a:lnTo>
                  <a:pt x="91" y="2407"/>
                </a:lnTo>
                <a:lnTo>
                  <a:pt x="89" y="2403"/>
                </a:lnTo>
                <a:lnTo>
                  <a:pt x="85" y="2400"/>
                </a:lnTo>
                <a:lnTo>
                  <a:pt x="81" y="2394"/>
                </a:lnTo>
                <a:lnTo>
                  <a:pt x="79" y="2390"/>
                </a:lnTo>
                <a:lnTo>
                  <a:pt x="75" y="2384"/>
                </a:lnTo>
                <a:lnTo>
                  <a:pt x="71" y="2377"/>
                </a:lnTo>
                <a:lnTo>
                  <a:pt x="68" y="2371"/>
                </a:lnTo>
                <a:lnTo>
                  <a:pt x="64" y="2363"/>
                </a:lnTo>
                <a:lnTo>
                  <a:pt x="60" y="2354"/>
                </a:lnTo>
                <a:lnTo>
                  <a:pt x="58" y="2346"/>
                </a:lnTo>
                <a:lnTo>
                  <a:pt x="54" y="2336"/>
                </a:lnTo>
                <a:lnTo>
                  <a:pt x="50" y="2327"/>
                </a:lnTo>
                <a:lnTo>
                  <a:pt x="48" y="2315"/>
                </a:lnTo>
                <a:lnTo>
                  <a:pt x="45" y="2304"/>
                </a:lnTo>
                <a:lnTo>
                  <a:pt x="43" y="2292"/>
                </a:lnTo>
                <a:lnTo>
                  <a:pt x="33" y="2269"/>
                </a:lnTo>
                <a:lnTo>
                  <a:pt x="25" y="2246"/>
                </a:lnTo>
                <a:lnTo>
                  <a:pt x="20" y="2225"/>
                </a:lnTo>
                <a:lnTo>
                  <a:pt x="14" y="2204"/>
                </a:lnTo>
                <a:lnTo>
                  <a:pt x="10" y="2185"/>
                </a:lnTo>
                <a:lnTo>
                  <a:pt x="8" y="2167"/>
                </a:lnTo>
                <a:lnTo>
                  <a:pt x="6" y="2152"/>
                </a:lnTo>
                <a:lnTo>
                  <a:pt x="4" y="2137"/>
                </a:lnTo>
                <a:lnTo>
                  <a:pt x="4" y="2131"/>
                </a:lnTo>
                <a:lnTo>
                  <a:pt x="2" y="2127"/>
                </a:lnTo>
                <a:lnTo>
                  <a:pt x="2" y="2123"/>
                </a:lnTo>
                <a:lnTo>
                  <a:pt x="0" y="2117"/>
                </a:lnTo>
                <a:lnTo>
                  <a:pt x="0" y="2112"/>
                </a:lnTo>
                <a:lnTo>
                  <a:pt x="0" y="2104"/>
                </a:lnTo>
                <a:lnTo>
                  <a:pt x="0" y="2096"/>
                </a:lnTo>
                <a:lnTo>
                  <a:pt x="0" y="2089"/>
                </a:lnTo>
                <a:lnTo>
                  <a:pt x="0" y="2081"/>
                </a:lnTo>
                <a:lnTo>
                  <a:pt x="0" y="2073"/>
                </a:lnTo>
                <a:lnTo>
                  <a:pt x="0" y="2064"/>
                </a:lnTo>
                <a:lnTo>
                  <a:pt x="0" y="2054"/>
                </a:lnTo>
                <a:lnTo>
                  <a:pt x="0" y="2043"/>
                </a:lnTo>
                <a:lnTo>
                  <a:pt x="2" y="2033"/>
                </a:lnTo>
                <a:lnTo>
                  <a:pt x="2" y="2021"/>
                </a:lnTo>
                <a:lnTo>
                  <a:pt x="4" y="2008"/>
                </a:lnTo>
                <a:lnTo>
                  <a:pt x="4" y="1997"/>
                </a:lnTo>
                <a:lnTo>
                  <a:pt x="6" y="1983"/>
                </a:lnTo>
                <a:lnTo>
                  <a:pt x="6" y="1970"/>
                </a:lnTo>
                <a:lnTo>
                  <a:pt x="8" y="1956"/>
                </a:lnTo>
                <a:lnTo>
                  <a:pt x="10" y="1941"/>
                </a:lnTo>
                <a:lnTo>
                  <a:pt x="10" y="1926"/>
                </a:lnTo>
                <a:lnTo>
                  <a:pt x="12" y="1910"/>
                </a:lnTo>
                <a:lnTo>
                  <a:pt x="14" y="1895"/>
                </a:lnTo>
                <a:lnTo>
                  <a:pt x="16" y="1878"/>
                </a:lnTo>
                <a:lnTo>
                  <a:pt x="18" y="1860"/>
                </a:lnTo>
                <a:lnTo>
                  <a:pt x="20" y="1843"/>
                </a:lnTo>
                <a:lnTo>
                  <a:pt x="22" y="1824"/>
                </a:lnTo>
                <a:lnTo>
                  <a:pt x="23" y="1805"/>
                </a:lnTo>
                <a:lnTo>
                  <a:pt x="25" y="1785"/>
                </a:lnTo>
                <a:lnTo>
                  <a:pt x="27" y="1766"/>
                </a:lnTo>
                <a:lnTo>
                  <a:pt x="29" y="1745"/>
                </a:lnTo>
                <a:lnTo>
                  <a:pt x="31" y="1724"/>
                </a:lnTo>
                <a:lnTo>
                  <a:pt x="35" y="1703"/>
                </a:lnTo>
                <a:lnTo>
                  <a:pt x="37" y="1680"/>
                </a:lnTo>
                <a:lnTo>
                  <a:pt x="39" y="1659"/>
                </a:lnTo>
                <a:lnTo>
                  <a:pt x="41" y="1634"/>
                </a:lnTo>
                <a:lnTo>
                  <a:pt x="43" y="1611"/>
                </a:lnTo>
                <a:lnTo>
                  <a:pt x="45" y="1586"/>
                </a:lnTo>
                <a:lnTo>
                  <a:pt x="47" y="1561"/>
                </a:lnTo>
                <a:lnTo>
                  <a:pt x="48" y="1536"/>
                </a:lnTo>
                <a:lnTo>
                  <a:pt x="50" y="1511"/>
                </a:lnTo>
                <a:lnTo>
                  <a:pt x="50" y="1484"/>
                </a:lnTo>
                <a:lnTo>
                  <a:pt x="52" y="1457"/>
                </a:lnTo>
                <a:lnTo>
                  <a:pt x="54" y="1428"/>
                </a:lnTo>
                <a:lnTo>
                  <a:pt x="56" y="1400"/>
                </a:lnTo>
                <a:lnTo>
                  <a:pt x="56" y="1371"/>
                </a:lnTo>
                <a:lnTo>
                  <a:pt x="58" y="1342"/>
                </a:lnTo>
                <a:lnTo>
                  <a:pt x="60" y="1311"/>
                </a:lnTo>
                <a:lnTo>
                  <a:pt x="60" y="1281"/>
                </a:lnTo>
                <a:lnTo>
                  <a:pt x="62" y="1250"/>
                </a:lnTo>
                <a:lnTo>
                  <a:pt x="62" y="1217"/>
                </a:lnTo>
                <a:lnTo>
                  <a:pt x="64" y="1185"/>
                </a:lnTo>
                <a:lnTo>
                  <a:pt x="64" y="1152"/>
                </a:lnTo>
                <a:lnTo>
                  <a:pt x="64" y="1117"/>
                </a:lnTo>
                <a:lnTo>
                  <a:pt x="66" y="1083"/>
                </a:lnTo>
                <a:lnTo>
                  <a:pt x="66" y="1048"/>
                </a:lnTo>
                <a:lnTo>
                  <a:pt x="66" y="1012"/>
                </a:lnTo>
                <a:lnTo>
                  <a:pt x="68" y="975"/>
                </a:lnTo>
                <a:lnTo>
                  <a:pt x="68" y="939"/>
                </a:lnTo>
                <a:lnTo>
                  <a:pt x="68" y="901"/>
                </a:lnTo>
                <a:lnTo>
                  <a:pt x="68" y="862"/>
                </a:lnTo>
                <a:lnTo>
                  <a:pt x="68" y="822"/>
                </a:lnTo>
                <a:lnTo>
                  <a:pt x="68" y="783"/>
                </a:lnTo>
                <a:lnTo>
                  <a:pt x="68" y="743"/>
                </a:lnTo>
                <a:lnTo>
                  <a:pt x="68" y="707"/>
                </a:lnTo>
                <a:lnTo>
                  <a:pt x="68" y="670"/>
                </a:lnTo>
                <a:lnTo>
                  <a:pt x="68" y="636"/>
                </a:lnTo>
                <a:lnTo>
                  <a:pt x="68" y="601"/>
                </a:lnTo>
                <a:lnTo>
                  <a:pt x="66" y="568"/>
                </a:lnTo>
                <a:lnTo>
                  <a:pt x="66" y="536"/>
                </a:lnTo>
                <a:lnTo>
                  <a:pt x="66" y="505"/>
                </a:lnTo>
                <a:lnTo>
                  <a:pt x="66" y="474"/>
                </a:lnTo>
                <a:lnTo>
                  <a:pt x="64" y="446"/>
                </a:lnTo>
                <a:lnTo>
                  <a:pt x="64" y="419"/>
                </a:lnTo>
                <a:lnTo>
                  <a:pt x="64" y="392"/>
                </a:lnTo>
                <a:lnTo>
                  <a:pt x="62" y="367"/>
                </a:lnTo>
                <a:lnTo>
                  <a:pt x="62" y="342"/>
                </a:lnTo>
                <a:lnTo>
                  <a:pt x="60" y="319"/>
                </a:lnTo>
                <a:lnTo>
                  <a:pt x="60" y="296"/>
                </a:lnTo>
                <a:lnTo>
                  <a:pt x="58" y="275"/>
                </a:lnTo>
                <a:lnTo>
                  <a:pt x="58" y="256"/>
                </a:lnTo>
                <a:lnTo>
                  <a:pt x="56" y="236"/>
                </a:lnTo>
                <a:lnTo>
                  <a:pt x="56" y="219"/>
                </a:lnTo>
                <a:lnTo>
                  <a:pt x="54" y="202"/>
                </a:lnTo>
                <a:lnTo>
                  <a:pt x="54" y="186"/>
                </a:lnTo>
                <a:lnTo>
                  <a:pt x="52" y="171"/>
                </a:lnTo>
                <a:lnTo>
                  <a:pt x="52" y="158"/>
                </a:lnTo>
                <a:lnTo>
                  <a:pt x="50" y="146"/>
                </a:lnTo>
                <a:lnTo>
                  <a:pt x="50" y="135"/>
                </a:lnTo>
                <a:lnTo>
                  <a:pt x="48" y="125"/>
                </a:lnTo>
                <a:lnTo>
                  <a:pt x="47" y="115"/>
                </a:lnTo>
                <a:lnTo>
                  <a:pt x="47" y="108"/>
                </a:lnTo>
                <a:lnTo>
                  <a:pt x="45" y="102"/>
                </a:lnTo>
                <a:lnTo>
                  <a:pt x="45" y="96"/>
                </a:lnTo>
                <a:lnTo>
                  <a:pt x="43" y="92"/>
                </a:lnTo>
                <a:lnTo>
                  <a:pt x="39" y="85"/>
                </a:lnTo>
                <a:lnTo>
                  <a:pt x="35" y="79"/>
                </a:lnTo>
                <a:lnTo>
                  <a:pt x="31" y="71"/>
                </a:lnTo>
                <a:lnTo>
                  <a:pt x="29" y="66"/>
                </a:lnTo>
                <a:lnTo>
                  <a:pt x="25" y="60"/>
                </a:lnTo>
                <a:lnTo>
                  <a:pt x="23" y="54"/>
                </a:lnTo>
                <a:lnTo>
                  <a:pt x="22" y="44"/>
                </a:lnTo>
                <a:lnTo>
                  <a:pt x="22" y="35"/>
                </a:lnTo>
                <a:lnTo>
                  <a:pt x="23" y="27"/>
                </a:lnTo>
                <a:lnTo>
                  <a:pt x="25" y="19"/>
                </a:lnTo>
                <a:lnTo>
                  <a:pt x="29" y="1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4"/>
          <p:cNvSpPr/>
          <p:nvPr/>
        </p:nvSpPr>
        <p:spPr>
          <a:xfrm>
            <a:off x="2218680" y="2165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114880" y="20001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组合 8"/>
          <p:cNvGrpSpPr/>
          <p:nvPr/>
        </p:nvGrpSpPr>
        <p:grpSpPr>
          <a:xfrm>
            <a:off x="1400040" y="3592440"/>
            <a:ext cx="2840040" cy="1571400"/>
            <a:chOff x="1400040" y="3592440"/>
            <a:chExt cx="2840040" cy="1571400"/>
          </a:xfrm>
        </p:grpSpPr>
        <p:pic>
          <p:nvPicPr>
            <p:cNvPr id="9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9244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2"/>
            <p:cNvSpPr/>
            <p:nvPr/>
          </p:nvSpPr>
          <p:spPr>
            <a:xfrm>
              <a:off x="1444680" y="42066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三点水略呈弧状，“贝”窄小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3"/>
          <p:cNvSpPr/>
          <p:nvPr/>
        </p:nvSpPr>
        <p:spPr>
          <a:xfrm>
            <a:off x="1882800" y="1486080"/>
            <a:ext cx="14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19"/>
          <p:cNvSpPr/>
          <p:nvPr/>
        </p:nvSpPr>
        <p:spPr>
          <a:xfrm>
            <a:off x="7088040" y="2496960"/>
            <a:ext cx="316080" cy="208080"/>
          </a:xfrm>
          <a:custGeom>
            <a:avLst/>
            <a:gdLst/>
            <a:ahLst/>
            <a:rect l="l" t="t" r="r" b="b"/>
            <a:pathLst>
              <a:path w="399" h="261">
                <a:moveTo>
                  <a:pt x="25" y="13"/>
                </a:moveTo>
                <a:lnTo>
                  <a:pt x="35" y="8"/>
                </a:lnTo>
                <a:lnTo>
                  <a:pt x="46" y="4"/>
                </a:lnTo>
                <a:lnTo>
                  <a:pt x="60" y="2"/>
                </a:lnTo>
                <a:lnTo>
                  <a:pt x="73" y="0"/>
                </a:lnTo>
                <a:lnTo>
                  <a:pt x="89" y="0"/>
                </a:lnTo>
                <a:lnTo>
                  <a:pt x="104" y="0"/>
                </a:lnTo>
                <a:lnTo>
                  <a:pt x="121" y="0"/>
                </a:lnTo>
                <a:lnTo>
                  <a:pt x="140" y="0"/>
                </a:lnTo>
                <a:lnTo>
                  <a:pt x="156" y="0"/>
                </a:lnTo>
                <a:lnTo>
                  <a:pt x="171" y="2"/>
                </a:lnTo>
                <a:lnTo>
                  <a:pt x="188" y="4"/>
                </a:lnTo>
                <a:lnTo>
                  <a:pt x="206" y="8"/>
                </a:lnTo>
                <a:lnTo>
                  <a:pt x="223" y="11"/>
                </a:lnTo>
                <a:lnTo>
                  <a:pt x="242" y="15"/>
                </a:lnTo>
                <a:lnTo>
                  <a:pt x="280" y="25"/>
                </a:lnTo>
                <a:lnTo>
                  <a:pt x="286" y="29"/>
                </a:lnTo>
                <a:lnTo>
                  <a:pt x="294" y="31"/>
                </a:lnTo>
                <a:lnTo>
                  <a:pt x="302" y="34"/>
                </a:lnTo>
                <a:lnTo>
                  <a:pt x="309" y="40"/>
                </a:lnTo>
                <a:lnTo>
                  <a:pt x="323" y="50"/>
                </a:lnTo>
                <a:lnTo>
                  <a:pt x="336" y="61"/>
                </a:lnTo>
                <a:lnTo>
                  <a:pt x="348" y="75"/>
                </a:lnTo>
                <a:lnTo>
                  <a:pt x="361" y="88"/>
                </a:lnTo>
                <a:lnTo>
                  <a:pt x="373" y="102"/>
                </a:lnTo>
                <a:lnTo>
                  <a:pt x="382" y="117"/>
                </a:lnTo>
                <a:lnTo>
                  <a:pt x="386" y="136"/>
                </a:lnTo>
                <a:lnTo>
                  <a:pt x="390" y="153"/>
                </a:lnTo>
                <a:lnTo>
                  <a:pt x="394" y="169"/>
                </a:lnTo>
                <a:lnTo>
                  <a:pt x="398" y="184"/>
                </a:lnTo>
                <a:lnTo>
                  <a:pt x="399" y="190"/>
                </a:lnTo>
                <a:lnTo>
                  <a:pt x="399" y="196"/>
                </a:lnTo>
                <a:lnTo>
                  <a:pt x="399" y="201"/>
                </a:lnTo>
                <a:lnTo>
                  <a:pt x="399" y="207"/>
                </a:lnTo>
                <a:lnTo>
                  <a:pt x="399" y="211"/>
                </a:lnTo>
                <a:lnTo>
                  <a:pt x="398" y="215"/>
                </a:lnTo>
                <a:lnTo>
                  <a:pt x="398" y="219"/>
                </a:lnTo>
                <a:lnTo>
                  <a:pt x="396" y="221"/>
                </a:lnTo>
                <a:lnTo>
                  <a:pt x="390" y="230"/>
                </a:lnTo>
                <a:lnTo>
                  <a:pt x="382" y="238"/>
                </a:lnTo>
                <a:lnTo>
                  <a:pt x="375" y="246"/>
                </a:lnTo>
                <a:lnTo>
                  <a:pt x="365" y="251"/>
                </a:lnTo>
                <a:lnTo>
                  <a:pt x="355" y="255"/>
                </a:lnTo>
                <a:lnTo>
                  <a:pt x="344" y="259"/>
                </a:lnTo>
                <a:lnTo>
                  <a:pt x="332" y="259"/>
                </a:lnTo>
                <a:lnTo>
                  <a:pt x="319" y="261"/>
                </a:lnTo>
                <a:lnTo>
                  <a:pt x="311" y="261"/>
                </a:lnTo>
                <a:lnTo>
                  <a:pt x="303" y="259"/>
                </a:lnTo>
                <a:lnTo>
                  <a:pt x="296" y="257"/>
                </a:lnTo>
                <a:lnTo>
                  <a:pt x="286" y="253"/>
                </a:lnTo>
                <a:lnTo>
                  <a:pt x="279" y="249"/>
                </a:lnTo>
                <a:lnTo>
                  <a:pt x="269" y="246"/>
                </a:lnTo>
                <a:lnTo>
                  <a:pt x="257" y="240"/>
                </a:lnTo>
                <a:lnTo>
                  <a:pt x="248" y="232"/>
                </a:lnTo>
                <a:lnTo>
                  <a:pt x="236" y="226"/>
                </a:lnTo>
                <a:lnTo>
                  <a:pt x="225" y="219"/>
                </a:lnTo>
                <a:lnTo>
                  <a:pt x="213" y="209"/>
                </a:lnTo>
                <a:lnTo>
                  <a:pt x="200" y="200"/>
                </a:lnTo>
                <a:lnTo>
                  <a:pt x="186" y="190"/>
                </a:lnTo>
                <a:lnTo>
                  <a:pt x="171" y="180"/>
                </a:lnTo>
                <a:lnTo>
                  <a:pt x="156" y="169"/>
                </a:lnTo>
                <a:lnTo>
                  <a:pt x="140" y="155"/>
                </a:lnTo>
                <a:lnTo>
                  <a:pt x="123" y="144"/>
                </a:lnTo>
                <a:lnTo>
                  <a:pt x="108" y="132"/>
                </a:lnTo>
                <a:lnTo>
                  <a:pt x="94" y="121"/>
                </a:lnTo>
                <a:lnTo>
                  <a:pt x="81" y="111"/>
                </a:lnTo>
                <a:lnTo>
                  <a:pt x="67" y="102"/>
                </a:lnTo>
                <a:lnTo>
                  <a:pt x="56" y="94"/>
                </a:lnTo>
                <a:lnTo>
                  <a:pt x="46" y="84"/>
                </a:lnTo>
                <a:lnTo>
                  <a:pt x="37" y="77"/>
                </a:lnTo>
                <a:lnTo>
                  <a:pt x="29" y="71"/>
                </a:lnTo>
                <a:lnTo>
                  <a:pt x="21" y="63"/>
                </a:lnTo>
                <a:lnTo>
                  <a:pt x="14" y="57"/>
                </a:lnTo>
                <a:lnTo>
                  <a:pt x="10" y="54"/>
                </a:lnTo>
                <a:lnTo>
                  <a:pt x="6" y="48"/>
                </a:lnTo>
                <a:lnTo>
                  <a:pt x="2" y="44"/>
                </a:lnTo>
                <a:lnTo>
                  <a:pt x="0" y="40"/>
                </a:lnTo>
                <a:lnTo>
                  <a:pt x="0" y="38"/>
                </a:lnTo>
                <a:lnTo>
                  <a:pt x="0" y="34"/>
                </a:lnTo>
                <a:lnTo>
                  <a:pt x="2" y="31"/>
                </a:lnTo>
                <a:lnTo>
                  <a:pt x="4" y="29"/>
                </a:lnTo>
                <a:lnTo>
                  <a:pt x="8" y="25"/>
                </a:lnTo>
                <a:lnTo>
                  <a:pt x="12" y="23"/>
                </a:lnTo>
                <a:lnTo>
                  <a:pt x="16" y="21"/>
                </a:lnTo>
                <a:lnTo>
                  <a:pt x="21" y="17"/>
                </a:lnTo>
                <a:lnTo>
                  <a:pt x="25" y="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20"/>
          <p:cNvSpPr/>
          <p:nvPr/>
        </p:nvSpPr>
        <p:spPr>
          <a:xfrm>
            <a:off x="6659640" y="2338560"/>
            <a:ext cx="1071360" cy="2276280"/>
          </a:xfrm>
          <a:custGeom>
            <a:avLst/>
            <a:gdLst/>
            <a:ahLst/>
            <a:rect l="l" t="t" r="r" b="b"/>
            <a:pathLst>
              <a:path w="1349" h="2868">
                <a:moveTo>
                  <a:pt x="1342" y="2686"/>
                </a:moveTo>
                <a:lnTo>
                  <a:pt x="1343" y="2707"/>
                </a:lnTo>
                <a:lnTo>
                  <a:pt x="1345" y="2726"/>
                </a:lnTo>
                <a:lnTo>
                  <a:pt x="1345" y="2745"/>
                </a:lnTo>
                <a:lnTo>
                  <a:pt x="1347" y="2762"/>
                </a:lnTo>
                <a:lnTo>
                  <a:pt x="1349" y="2780"/>
                </a:lnTo>
                <a:lnTo>
                  <a:pt x="1349" y="2795"/>
                </a:lnTo>
                <a:lnTo>
                  <a:pt x="1349" y="2809"/>
                </a:lnTo>
                <a:lnTo>
                  <a:pt x="1349" y="2820"/>
                </a:lnTo>
                <a:lnTo>
                  <a:pt x="1347" y="2832"/>
                </a:lnTo>
                <a:lnTo>
                  <a:pt x="1347" y="2841"/>
                </a:lnTo>
                <a:lnTo>
                  <a:pt x="1345" y="2849"/>
                </a:lnTo>
                <a:lnTo>
                  <a:pt x="1343" y="2857"/>
                </a:lnTo>
                <a:lnTo>
                  <a:pt x="1340" y="2860"/>
                </a:lnTo>
                <a:lnTo>
                  <a:pt x="1336" y="2864"/>
                </a:lnTo>
                <a:lnTo>
                  <a:pt x="1332" y="2868"/>
                </a:lnTo>
                <a:lnTo>
                  <a:pt x="1328" y="2868"/>
                </a:lnTo>
                <a:lnTo>
                  <a:pt x="1322" y="2868"/>
                </a:lnTo>
                <a:lnTo>
                  <a:pt x="1317" y="2868"/>
                </a:lnTo>
                <a:lnTo>
                  <a:pt x="1311" y="2866"/>
                </a:lnTo>
                <a:lnTo>
                  <a:pt x="1305" y="2866"/>
                </a:lnTo>
                <a:lnTo>
                  <a:pt x="1297" y="2864"/>
                </a:lnTo>
                <a:lnTo>
                  <a:pt x="1288" y="2862"/>
                </a:lnTo>
                <a:lnTo>
                  <a:pt x="1280" y="2860"/>
                </a:lnTo>
                <a:lnTo>
                  <a:pt x="1271" y="2857"/>
                </a:lnTo>
                <a:lnTo>
                  <a:pt x="1261" y="2853"/>
                </a:lnTo>
                <a:lnTo>
                  <a:pt x="1249" y="2851"/>
                </a:lnTo>
                <a:lnTo>
                  <a:pt x="1240" y="2845"/>
                </a:lnTo>
                <a:lnTo>
                  <a:pt x="1228" y="2841"/>
                </a:lnTo>
                <a:lnTo>
                  <a:pt x="1215" y="2835"/>
                </a:lnTo>
                <a:lnTo>
                  <a:pt x="1203" y="2830"/>
                </a:lnTo>
                <a:lnTo>
                  <a:pt x="1190" y="2822"/>
                </a:lnTo>
                <a:lnTo>
                  <a:pt x="1175" y="2816"/>
                </a:lnTo>
                <a:lnTo>
                  <a:pt x="1159" y="2809"/>
                </a:lnTo>
                <a:lnTo>
                  <a:pt x="1142" y="2799"/>
                </a:lnTo>
                <a:lnTo>
                  <a:pt x="1123" y="2789"/>
                </a:lnTo>
                <a:lnTo>
                  <a:pt x="1105" y="2778"/>
                </a:lnTo>
                <a:lnTo>
                  <a:pt x="1088" y="2766"/>
                </a:lnTo>
                <a:lnTo>
                  <a:pt x="1069" y="2753"/>
                </a:lnTo>
                <a:lnTo>
                  <a:pt x="1050" y="2739"/>
                </a:lnTo>
                <a:lnTo>
                  <a:pt x="1033" y="2724"/>
                </a:lnTo>
                <a:lnTo>
                  <a:pt x="1013" y="2709"/>
                </a:lnTo>
                <a:lnTo>
                  <a:pt x="992" y="2690"/>
                </a:lnTo>
                <a:lnTo>
                  <a:pt x="973" y="2670"/>
                </a:lnTo>
                <a:lnTo>
                  <a:pt x="954" y="2651"/>
                </a:lnTo>
                <a:lnTo>
                  <a:pt x="933" y="2628"/>
                </a:lnTo>
                <a:lnTo>
                  <a:pt x="912" y="2605"/>
                </a:lnTo>
                <a:lnTo>
                  <a:pt x="890" y="2580"/>
                </a:lnTo>
                <a:lnTo>
                  <a:pt x="869" y="2555"/>
                </a:lnTo>
                <a:lnTo>
                  <a:pt x="846" y="2528"/>
                </a:lnTo>
                <a:lnTo>
                  <a:pt x="823" y="2503"/>
                </a:lnTo>
                <a:lnTo>
                  <a:pt x="800" y="2475"/>
                </a:lnTo>
                <a:lnTo>
                  <a:pt x="777" y="2446"/>
                </a:lnTo>
                <a:lnTo>
                  <a:pt x="754" y="2415"/>
                </a:lnTo>
                <a:lnTo>
                  <a:pt x="731" y="2384"/>
                </a:lnTo>
                <a:lnTo>
                  <a:pt x="710" y="2352"/>
                </a:lnTo>
                <a:lnTo>
                  <a:pt x="689" y="2319"/>
                </a:lnTo>
                <a:lnTo>
                  <a:pt x="666" y="2285"/>
                </a:lnTo>
                <a:lnTo>
                  <a:pt x="645" y="2248"/>
                </a:lnTo>
                <a:lnTo>
                  <a:pt x="626" y="2212"/>
                </a:lnTo>
                <a:lnTo>
                  <a:pt x="604" y="2171"/>
                </a:lnTo>
                <a:lnTo>
                  <a:pt x="583" y="2133"/>
                </a:lnTo>
                <a:lnTo>
                  <a:pt x="564" y="2091"/>
                </a:lnTo>
                <a:lnTo>
                  <a:pt x="545" y="2048"/>
                </a:lnTo>
                <a:lnTo>
                  <a:pt x="526" y="2006"/>
                </a:lnTo>
                <a:lnTo>
                  <a:pt x="509" y="1960"/>
                </a:lnTo>
                <a:lnTo>
                  <a:pt x="489" y="1914"/>
                </a:lnTo>
                <a:lnTo>
                  <a:pt x="470" y="1868"/>
                </a:lnTo>
                <a:lnTo>
                  <a:pt x="453" y="1818"/>
                </a:lnTo>
                <a:lnTo>
                  <a:pt x="436" y="1768"/>
                </a:lnTo>
                <a:lnTo>
                  <a:pt x="418" y="1718"/>
                </a:lnTo>
                <a:lnTo>
                  <a:pt x="401" y="1666"/>
                </a:lnTo>
                <a:lnTo>
                  <a:pt x="384" y="1613"/>
                </a:lnTo>
                <a:lnTo>
                  <a:pt x="366" y="1559"/>
                </a:lnTo>
                <a:lnTo>
                  <a:pt x="349" y="1503"/>
                </a:lnTo>
                <a:lnTo>
                  <a:pt x="334" y="1446"/>
                </a:lnTo>
                <a:lnTo>
                  <a:pt x="318" y="1388"/>
                </a:lnTo>
                <a:lnTo>
                  <a:pt x="303" y="1329"/>
                </a:lnTo>
                <a:lnTo>
                  <a:pt x="288" y="1267"/>
                </a:lnTo>
                <a:lnTo>
                  <a:pt x="272" y="1206"/>
                </a:lnTo>
                <a:lnTo>
                  <a:pt x="259" y="1142"/>
                </a:lnTo>
                <a:lnTo>
                  <a:pt x="246" y="1081"/>
                </a:lnTo>
                <a:lnTo>
                  <a:pt x="232" y="1023"/>
                </a:lnTo>
                <a:lnTo>
                  <a:pt x="219" y="966"/>
                </a:lnTo>
                <a:lnTo>
                  <a:pt x="207" y="910"/>
                </a:lnTo>
                <a:lnTo>
                  <a:pt x="196" y="855"/>
                </a:lnTo>
                <a:lnTo>
                  <a:pt x="184" y="803"/>
                </a:lnTo>
                <a:lnTo>
                  <a:pt x="175" y="753"/>
                </a:lnTo>
                <a:lnTo>
                  <a:pt x="165" y="703"/>
                </a:lnTo>
                <a:lnTo>
                  <a:pt x="157" y="655"/>
                </a:lnTo>
                <a:lnTo>
                  <a:pt x="150" y="609"/>
                </a:lnTo>
                <a:lnTo>
                  <a:pt x="142" y="565"/>
                </a:lnTo>
                <a:lnTo>
                  <a:pt x="136" y="522"/>
                </a:lnTo>
                <a:lnTo>
                  <a:pt x="130" y="482"/>
                </a:lnTo>
                <a:lnTo>
                  <a:pt x="125" y="444"/>
                </a:lnTo>
                <a:lnTo>
                  <a:pt x="121" y="405"/>
                </a:lnTo>
                <a:lnTo>
                  <a:pt x="119" y="371"/>
                </a:lnTo>
                <a:lnTo>
                  <a:pt x="117" y="340"/>
                </a:lnTo>
                <a:lnTo>
                  <a:pt x="113" y="309"/>
                </a:lnTo>
                <a:lnTo>
                  <a:pt x="111" y="283"/>
                </a:lnTo>
                <a:lnTo>
                  <a:pt x="107" y="256"/>
                </a:lnTo>
                <a:lnTo>
                  <a:pt x="104" y="231"/>
                </a:lnTo>
                <a:lnTo>
                  <a:pt x="100" y="210"/>
                </a:lnTo>
                <a:lnTo>
                  <a:pt x="96" y="188"/>
                </a:lnTo>
                <a:lnTo>
                  <a:pt x="90" y="169"/>
                </a:lnTo>
                <a:lnTo>
                  <a:pt x="86" y="152"/>
                </a:lnTo>
                <a:lnTo>
                  <a:pt x="80" y="135"/>
                </a:lnTo>
                <a:lnTo>
                  <a:pt x="77" y="129"/>
                </a:lnTo>
                <a:lnTo>
                  <a:pt x="75" y="121"/>
                </a:lnTo>
                <a:lnTo>
                  <a:pt x="71" y="116"/>
                </a:lnTo>
                <a:lnTo>
                  <a:pt x="69" y="110"/>
                </a:lnTo>
                <a:lnTo>
                  <a:pt x="65" y="106"/>
                </a:lnTo>
                <a:lnTo>
                  <a:pt x="63" y="100"/>
                </a:lnTo>
                <a:lnTo>
                  <a:pt x="59" y="96"/>
                </a:lnTo>
                <a:lnTo>
                  <a:pt x="56" y="92"/>
                </a:lnTo>
                <a:lnTo>
                  <a:pt x="54" y="89"/>
                </a:lnTo>
                <a:lnTo>
                  <a:pt x="50" y="87"/>
                </a:lnTo>
                <a:lnTo>
                  <a:pt x="46" y="85"/>
                </a:lnTo>
                <a:lnTo>
                  <a:pt x="42" y="83"/>
                </a:lnTo>
                <a:lnTo>
                  <a:pt x="36" y="81"/>
                </a:lnTo>
                <a:lnTo>
                  <a:pt x="29" y="77"/>
                </a:lnTo>
                <a:lnTo>
                  <a:pt x="23" y="75"/>
                </a:lnTo>
                <a:lnTo>
                  <a:pt x="19" y="71"/>
                </a:lnTo>
                <a:lnTo>
                  <a:pt x="13" y="68"/>
                </a:lnTo>
                <a:lnTo>
                  <a:pt x="9" y="64"/>
                </a:lnTo>
                <a:lnTo>
                  <a:pt x="8" y="60"/>
                </a:lnTo>
                <a:lnTo>
                  <a:pt x="4" y="56"/>
                </a:lnTo>
                <a:lnTo>
                  <a:pt x="2" y="52"/>
                </a:lnTo>
                <a:lnTo>
                  <a:pt x="0" y="46"/>
                </a:lnTo>
                <a:lnTo>
                  <a:pt x="0" y="43"/>
                </a:lnTo>
                <a:lnTo>
                  <a:pt x="0" y="37"/>
                </a:lnTo>
                <a:lnTo>
                  <a:pt x="0" y="33"/>
                </a:lnTo>
                <a:lnTo>
                  <a:pt x="0" y="27"/>
                </a:lnTo>
                <a:lnTo>
                  <a:pt x="2" y="23"/>
                </a:lnTo>
                <a:lnTo>
                  <a:pt x="4" y="18"/>
                </a:lnTo>
                <a:lnTo>
                  <a:pt x="9" y="14"/>
                </a:lnTo>
                <a:lnTo>
                  <a:pt x="17" y="8"/>
                </a:lnTo>
                <a:lnTo>
                  <a:pt x="25" y="4"/>
                </a:lnTo>
                <a:lnTo>
                  <a:pt x="34" y="2"/>
                </a:lnTo>
                <a:lnTo>
                  <a:pt x="40" y="0"/>
                </a:lnTo>
                <a:lnTo>
                  <a:pt x="46" y="0"/>
                </a:lnTo>
                <a:lnTo>
                  <a:pt x="54" y="0"/>
                </a:lnTo>
                <a:lnTo>
                  <a:pt x="59" y="0"/>
                </a:lnTo>
                <a:lnTo>
                  <a:pt x="67" y="0"/>
                </a:lnTo>
                <a:lnTo>
                  <a:pt x="75" y="2"/>
                </a:lnTo>
                <a:lnTo>
                  <a:pt x="84" y="2"/>
                </a:lnTo>
                <a:lnTo>
                  <a:pt x="94" y="6"/>
                </a:lnTo>
                <a:lnTo>
                  <a:pt x="246" y="45"/>
                </a:lnTo>
                <a:lnTo>
                  <a:pt x="253" y="50"/>
                </a:lnTo>
                <a:lnTo>
                  <a:pt x="259" y="56"/>
                </a:lnTo>
                <a:lnTo>
                  <a:pt x="267" y="62"/>
                </a:lnTo>
                <a:lnTo>
                  <a:pt x="272" y="69"/>
                </a:lnTo>
                <a:lnTo>
                  <a:pt x="276" y="77"/>
                </a:lnTo>
                <a:lnTo>
                  <a:pt x="282" y="85"/>
                </a:lnTo>
                <a:lnTo>
                  <a:pt x="286" y="92"/>
                </a:lnTo>
                <a:lnTo>
                  <a:pt x="290" y="102"/>
                </a:lnTo>
                <a:lnTo>
                  <a:pt x="294" y="112"/>
                </a:lnTo>
                <a:lnTo>
                  <a:pt x="295" y="121"/>
                </a:lnTo>
                <a:lnTo>
                  <a:pt x="297" y="131"/>
                </a:lnTo>
                <a:lnTo>
                  <a:pt x="299" y="142"/>
                </a:lnTo>
                <a:lnTo>
                  <a:pt x="299" y="152"/>
                </a:lnTo>
                <a:lnTo>
                  <a:pt x="299" y="164"/>
                </a:lnTo>
                <a:lnTo>
                  <a:pt x="299" y="175"/>
                </a:lnTo>
                <a:lnTo>
                  <a:pt x="297" y="188"/>
                </a:lnTo>
                <a:lnTo>
                  <a:pt x="295" y="204"/>
                </a:lnTo>
                <a:lnTo>
                  <a:pt x="294" y="219"/>
                </a:lnTo>
                <a:lnTo>
                  <a:pt x="292" y="235"/>
                </a:lnTo>
                <a:lnTo>
                  <a:pt x="292" y="252"/>
                </a:lnTo>
                <a:lnTo>
                  <a:pt x="292" y="269"/>
                </a:lnTo>
                <a:lnTo>
                  <a:pt x="292" y="286"/>
                </a:lnTo>
                <a:lnTo>
                  <a:pt x="294" y="306"/>
                </a:lnTo>
                <a:lnTo>
                  <a:pt x="294" y="323"/>
                </a:lnTo>
                <a:lnTo>
                  <a:pt x="297" y="363"/>
                </a:lnTo>
                <a:lnTo>
                  <a:pt x="301" y="403"/>
                </a:lnTo>
                <a:lnTo>
                  <a:pt x="305" y="446"/>
                </a:lnTo>
                <a:lnTo>
                  <a:pt x="311" y="490"/>
                </a:lnTo>
                <a:lnTo>
                  <a:pt x="313" y="513"/>
                </a:lnTo>
                <a:lnTo>
                  <a:pt x="315" y="540"/>
                </a:lnTo>
                <a:lnTo>
                  <a:pt x="317" y="565"/>
                </a:lnTo>
                <a:lnTo>
                  <a:pt x="320" y="592"/>
                </a:lnTo>
                <a:lnTo>
                  <a:pt x="322" y="618"/>
                </a:lnTo>
                <a:lnTo>
                  <a:pt x="326" y="645"/>
                </a:lnTo>
                <a:lnTo>
                  <a:pt x="328" y="674"/>
                </a:lnTo>
                <a:lnTo>
                  <a:pt x="332" y="703"/>
                </a:lnTo>
                <a:lnTo>
                  <a:pt x="340" y="760"/>
                </a:lnTo>
                <a:lnTo>
                  <a:pt x="349" y="822"/>
                </a:lnTo>
                <a:lnTo>
                  <a:pt x="355" y="853"/>
                </a:lnTo>
                <a:lnTo>
                  <a:pt x="361" y="883"/>
                </a:lnTo>
                <a:lnTo>
                  <a:pt x="366" y="914"/>
                </a:lnTo>
                <a:lnTo>
                  <a:pt x="374" y="947"/>
                </a:lnTo>
                <a:lnTo>
                  <a:pt x="378" y="979"/>
                </a:lnTo>
                <a:lnTo>
                  <a:pt x="384" y="1014"/>
                </a:lnTo>
                <a:lnTo>
                  <a:pt x="391" y="1048"/>
                </a:lnTo>
                <a:lnTo>
                  <a:pt x="399" y="1087"/>
                </a:lnTo>
                <a:lnTo>
                  <a:pt x="409" y="1125"/>
                </a:lnTo>
                <a:lnTo>
                  <a:pt x="418" y="1165"/>
                </a:lnTo>
                <a:lnTo>
                  <a:pt x="430" y="1206"/>
                </a:lnTo>
                <a:lnTo>
                  <a:pt x="441" y="1250"/>
                </a:lnTo>
                <a:lnTo>
                  <a:pt x="453" y="1294"/>
                </a:lnTo>
                <a:lnTo>
                  <a:pt x="466" y="1342"/>
                </a:lnTo>
                <a:lnTo>
                  <a:pt x="482" y="1390"/>
                </a:lnTo>
                <a:lnTo>
                  <a:pt x="495" y="1438"/>
                </a:lnTo>
                <a:lnTo>
                  <a:pt x="512" y="1490"/>
                </a:lnTo>
                <a:lnTo>
                  <a:pt x="528" y="1542"/>
                </a:lnTo>
                <a:lnTo>
                  <a:pt x="545" y="1595"/>
                </a:lnTo>
                <a:lnTo>
                  <a:pt x="564" y="1653"/>
                </a:lnTo>
                <a:lnTo>
                  <a:pt x="583" y="1709"/>
                </a:lnTo>
                <a:lnTo>
                  <a:pt x="603" y="1762"/>
                </a:lnTo>
                <a:lnTo>
                  <a:pt x="622" y="1814"/>
                </a:lnTo>
                <a:lnTo>
                  <a:pt x="643" y="1864"/>
                </a:lnTo>
                <a:lnTo>
                  <a:pt x="662" y="1914"/>
                </a:lnTo>
                <a:lnTo>
                  <a:pt x="683" y="1962"/>
                </a:lnTo>
                <a:lnTo>
                  <a:pt x="704" y="2006"/>
                </a:lnTo>
                <a:lnTo>
                  <a:pt x="727" y="2050"/>
                </a:lnTo>
                <a:lnTo>
                  <a:pt x="748" y="2093"/>
                </a:lnTo>
                <a:lnTo>
                  <a:pt x="770" y="2133"/>
                </a:lnTo>
                <a:lnTo>
                  <a:pt x="781" y="2152"/>
                </a:lnTo>
                <a:lnTo>
                  <a:pt x="793" y="2171"/>
                </a:lnTo>
                <a:lnTo>
                  <a:pt x="804" y="2189"/>
                </a:lnTo>
                <a:lnTo>
                  <a:pt x="816" y="2208"/>
                </a:lnTo>
                <a:lnTo>
                  <a:pt x="827" y="2225"/>
                </a:lnTo>
                <a:lnTo>
                  <a:pt x="839" y="2240"/>
                </a:lnTo>
                <a:lnTo>
                  <a:pt x="850" y="2258"/>
                </a:lnTo>
                <a:lnTo>
                  <a:pt x="862" y="2273"/>
                </a:lnTo>
                <a:lnTo>
                  <a:pt x="873" y="2288"/>
                </a:lnTo>
                <a:lnTo>
                  <a:pt x="885" y="2304"/>
                </a:lnTo>
                <a:lnTo>
                  <a:pt x="896" y="2319"/>
                </a:lnTo>
                <a:lnTo>
                  <a:pt x="908" y="2333"/>
                </a:lnTo>
                <a:lnTo>
                  <a:pt x="929" y="2359"/>
                </a:lnTo>
                <a:lnTo>
                  <a:pt x="948" y="2382"/>
                </a:lnTo>
                <a:lnTo>
                  <a:pt x="967" y="2405"/>
                </a:lnTo>
                <a:lnTo>
                  <a:pt x="986" y="2428"/>
                </a:lnTo>
                <a:lnTo>
                  <a:pt x="1004" y="2448"/>
                </a:lnTo>
                <a:lnTo>
                  <a:pt x="1019" y="2467"/>
                </a:lnTo>
                <a:lnTo>
                  <a:pt x="1034" y="2482"/>
                </a:lnTo>
                <a:lnTo>
                  <a:pt x="1050" y="2498"/>
                </a:lnTo>
                <a:lnTo>
                  <a:pt x="1061" y="2511"/>
                </a:lnTo>
                <a:lnTo>
                  <a:pt x="1075" y="2523"/>
                </a:lnTo>
                <a:lnTo>
                  <a:pt x="1086" y="2532"/>
                </a:lnTo>
                <a:lnTo>
                  <a:pt x="1096" y="2540"/>
                </a:lnTo>
                <a:lnTo>
                  <a:pt x="1105" y="2546"/>
                </a:lnTo>
                <a:lnTo>
                  <a:pt x="1113" y="2551"/>
                </a:lnTo>
                <a:lnTo>
                  <a:pt x="1119" y="2553"/>
                </a:lnTo>
                <a:lnTo>
                  <a:pt x="1125" y="2555"/>
                </a:lnTo>
                <a:lnTo>
                  <a:pt x="1128" y="2553"/>
                </a:lnTo>
                <a:lnTo>
                  <a:pt x="1134" y="2551"/>
                </a:lnTo>
                <a:lnTo>
                  <a:pt x="1140" y="2547"/>
                </a:lnTo>
                <a:lnTo>
                  <a:pt x="1146" y="2542"/>
                </a:lnTo>
                <a:lnTo>
                  <a:pt x="1152" y="2534"/>
                </a:lnTo>
                <a:lnTo>
                  <a:pt x="1157" y="2526"/>
                </a:lnTo>
                <a:lnTo>
                  <a:pt x="1165" y="2515"/>
                </a:lnTo>
                <a:lnTo>
                  <a:pt x="1171" y="2503"/>
                </a:lnTo>
                <a:lnTo>
                  <a:pt x="1176" y="2490"/>
                </a:lnTo>
                <a:lnTo>
                  <a:pt x="1184" y="2475"/>
                </a:lnTo>
                <a:lnTo>
                  <a:pt x="1192" y="2457"/>
                </a:lnTo>
                <a:lnTo>
                  <a:pt x="1198" y="2438"/>
                </a:lnTo>
                <a:lnTo>
                  <a:pt x="1205" y="2417"/>
                </a:lnTo>
                <a:lnTo>
                  <a:pt x="1213" y="2396"/>
                </a:lnTo>
                <a:lnTo>
                  <a:pt x="1219" y="2371"/>
                </a:lnTo>
                <a:lnTo>
                  <a:pt x="1226" y="2346"/>
                </a:lnTo>
                <a:lnTo>
                  <a:pt x="1234" y="2319"/>
                </a:lnTo>
                <a:lnTo>
                  <a:pt x="1240" y="2294"/>
                </a:lnTo>
                <a:lnTo>
                  <a:pt x="1246" y="2273"/>
                </a:lnTo>
                <a:lnTo>
                  <a:pt x="1253" y="2252"/>
                </a:lnTo>
                <a:lnTo>
                  <a:pt x="1259" y="2233"/>
                </a:lnTo>
                <a:lnTo>
                  <a:pt x="1263" y="2215"/>
                </a:lnTo>
                <a:lnTo>
                  <a:pt x="1269" y="2200"/>
                </a:lnTo>
                <a:lnTo>
                  <a:pt x="1274" y="2187"/>
                </a:lnTo>
                <a:lnTo>
                  <a:pt x="1278" y="2175"/>
                </a:lnTo>
                <a:lnTo>
                  <a:pt x="1282" y="2164"/>
                </a:lnTo>
                <a:lnTo>
                  <a:pt x="1286" y="2156"/>
                </a:lnTo>
                <a:lnTo>
                  <a:pt x="1290" y="2148"/>
                </a:lnTo>
                <a:lnTo>
                  <a:pt x="1294" y="2142"/>
                </a:lnTo>
                <a:lnTo>
                  <a:pt x="1297" y="2139"/>
                </a:lnTo>
                <a:lnTo>
                  <a:pt x="1299" y="2137"/>
                </a:lnTo>
                <a:lnTo>
                  <a:pt x="1303" y="2137"/>
                </a:lnTo>
                <a:lnTo>
                  <a:pt x="1305" y="2137"/>
                </a:lnTo>
                <a:lnTo>
                  <a:pt x="1307" y="2139"/>
                </a:lnTo>
                <a:lnTo>
                  <a:pt x="1309" y="2142"/>
                </a:lnTo>
                <a:lnTo>
                  <a:pt x="1313" y="2148"/>
                </a:lnTo>
                <a:lnTo>
                  <a:pt x="1315" y="2154"/>
                </a:lnTo>
                <a:lnTo>
                  <a:pt x="1317" y="2164"/>
                </a:lnTo>
                <a:lnTo>
                  <a:pt x="1318" y="2173"/>
                </a:lnTo>
                <a:lnTo>
                  <a:pt x="1320" y="2183"/>
                </a:lnTo>
                <a:lnTo>
                  <a:pt x="1322" y="2196"/>
                </a:lnTo>
                <a:lnTo>
                  <a:pt x="1324" y="2210"/>
                </a:lnTo>
                <a:lnTo>
                  <a:pt x="1324" y="2225"/>
                </a:lnTo>
                <a:lnTo>
                  <a:pt x="1326" y="2240"/>
                </a:lnTo>
                <a:lnTo>
                  <a:pt x="1326" y="2258"/>
                </a:lnTo>
                <a:lnTo>
                  <a:pt x="1328" y="2277"/>
                </a:lnTo>
                <a:lnTo>
                  <a:pt x="1328" y="2298"/>
                </a:lnTo>
                <a:lnTo>
                  <a:pt x="1328" y="2319"/>
                </a:lnTo>
                <a:lnTo>
                  <a:pt x="1328" y="2363"/>
                </a:lnTo>
                <a:lnTo>
                  <a:pt x="1328" y="2409"/>
                </a:lnTo>
                <a:lnTo>
                  <a:pt x="1328" y="2455"/>
                </a:lnTo>
                <a:lnTo>
                  <a:pt x="1330" y="2501"/>
                </a:lnTo>
                <a:lnTo>
                  <a:pt x="1332" y="2549"/>
                </a:lnTo>
                <a:lnTo>
                  <a:pt x="1334" y="2595"/>
                </a:lnTo>
                <a:lnTo>
                  <a:pt x="1336" y="2640"/>
                </a:lnTo>
                <a:lnTo>
                  <a:pt x="1342" y="26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21"/>
          <p:cNvSpPr/>
          <p:nvPr/>
        </p:nvSpPr>
        <p:spPr>
          <a:xfrm>
            <a:off x="6551640" y="3468600"/>
            <a:ext cx="919080" cy="809640"/>
          </a:xfrm>
          <a:custGeom>
            <a:avLst/>
            <a:gdLst/>
            <a:ahLst/>
            <a:rect l="l" t="t" r="r" b="b"/>
            <a:pathLst>
              <a:path w="1159" h="1021">
                <a:moveTo>
                  <a:pt x="764" y="633"/>
                </a:moveTo>
                <a:lnTo>
                  <a:pt x="742" y="652"/>
                </a:lnTo>
                <a:lnTo>
                  <a:pt x="719" y="671"/>
                </a:lnTo>
                <a:lnTo>
                  <a:pt x="694" y="691"/>
                </a:lnTo>
                <a:lnTo>
                  <a:pt x="669" y="710"/>
                </a:lnTo>
                <a:lnTo>
                  <a:pt x="643" y="727"/>
                </a:lnTo>
                <a:lnTo>
                  <a:pt x="616" y="746"/>
                </a:lnTo>
                <a:lnTo>
                  <a:pt x="587" y="764"/>
                </a:lnTo>
                <a:lnTo>
                  <a:pt x="558" y="781"/>
                </a:lnTo>
                <a:lnTo>
                  <a:pt x="527" y="798"/>
                </a:lnTo>
                <a:lnTo>
                  <a:pt x="497" y="815"/>
                </a:lnTo>
                <a:lnTo>
                  <a:pt x="464" y="833"/>
                </a:lnTo>
                <a:lnTo>
                  <a:pt x="431" y="850"/>
                </a:lnTo>
                <a:lnTo>
                  <a:pt x="397" y="867"/>
                </a:lnTo>
                <a:lnTo>
                  <a:pt x="364" y="884"/>
                </a:lnTo>
                <a:lnTo>
                  <a:pt x="328" y="902"/>
                </a:lnTo>
                <a:lnTo>
                  <a:pt x="293" y="921"/>
                </a:lnTo>
                <a:lnTo>
                  <a:pt x="276" y="929"/>
                </a:lnTo>
                <a:lnTo>
                  <a:pt x="259" y="936"/>
                </a:lnTo>
                <a:lnTo>
                  <a:pt x="241" y="944"/>
                </a:lnTo>
                <a:lnTo>
                  <a:pt x="226" y="952"/>
                </a:lnTo>
                <a:lnTo>
                  <a:pt x="211" y="959"/>
                </a:lnTo>
                <a:lnTo>
                  <a:pt x="195" y="965"/>
                </a:lnTo>
                <a:lnTo>
                  <a:pt x="182" y="971"/>
                </a:lnTo>
                <a:lnTo>
                  <a:pt x="167" y="977"/>
                </a:lnTo>
                <a:lnTo>
                  <a:pt x="153" y="982"/>
                </a:lnTo>
                <a:lnTo>
                  <a:pt x="142" y="988"/>
                </a:lnTo>
                <a:lnTo>
                  <a:pt x="128" y="992"/>
                </a:lnTo>
                <a:lnTo>
                  <a:pt x="117" y="998"/>
                </a:lnTo>
                <a:lnTo>
                  <a:pt x="105" y="1002"/>
                </a:lnTo>
                <a:lnTo>
                  <a:pt x="96" y="1003"/>
                </a:lnTo>
                <a:lnTo>
                  <a:pt x="84" y="1007"/>
                </a:lnTo>
                <a:lnTo>
                  <a:pt x="74" y="1011"/>
                </a:lnTo>
                <a:lnTo>
                  <a:pt x="67" y="1013"/>
                </a:lnTo>
                <a:lnTo>
                  <a:pt x="57" y="1015"/>
                </a:lnTo>
                <a:lnTo>
                  <a:pt x="49" y="1017"/>
                </a:lnTo>
                <a:lnTo>
                  <a:pt x="42" y="1019"/>
                </a:lnTo>
                <a:lnTo>
                  <a:pt x="36" y="1021"/>
                </a:lnTo>
                <a:lnTo>
                  <a:pt x="30" y="1021"/>
                </a:lnTo>
                <a:lnTo>
                  <a:pt x="25" y="1021"/>
                </a:lnTo>
                <a:lnTo>
                  <a:pt x="19" y="1021"/>
                </a:lnTo>
                <a:lnTo>
                  <a:pt x="15" y="1021"/>
                </a:lnTo>
                <a:lnTo>
                  <a:pt x="11" y="1021"/>
                </a:lnTo>
                <a:lnTo>
                  <a:pt x="7" y="1021"/>
                </a:lnTo>
                <a:lnTo>
                  <a:pt x="5" y="1019"/>
                </a:lnTo>
                <a:lnTo>
                  <a:pt x="3" y="1017"/>
                </a:lnTo>
                <a:lnTo>
                  <a:pt x="1" y="1015"/>
                </a:lnTo>
                <a:lnTo>
                  <a:pt x="0" y="1013"/>
                </a:lnTo>
                <a:lnTo>
                  <a:pt x="0" y="1011"/>
                </a:lnTo>
                <a:lnTo>
                  <a:pt x="1" y="1009"/>
                </a:lnTo>
                <a:lnTo>
                  <a:pt x="3" y="1005"/>
                </a:lnTo>
                <a:lnTo>
                  <a:pt x="5" y="1002"/>
                </a:lnTo>
                <a:lnTo>
                  <a:pt x="9" y="998"/>
                </a:lnTo>
                <a:lnTo>
                  <a:pt x="15" y="992"/>
                </a:lnTo>
                <a:lnTo>
                  <a:pt x="21" y="988"/>
                </a:lnTo>
                <a:lnTo>
                  <a:pt x="28" y="982"/>
                </a:lnTo>
                <a:lnTo>
                  <a:pt x="36" y="977"/>
                </a:lnTo>
                <a:lnTo>
                  <a:pt x="46" y="969"/>
                </a:lnTo>
                <a:lnTo>
                  <a:pt x="57" y="963"/>
                </a:lnTo>
                <a:lnTo>
                  <a:pt x="69" y="956"/>
                </a:lnTo>
                <a:lnTo>
                  <a:pt x="80" y="950"/>
                </a:lnTo>
                <a:lnTo>
                  <a:pt x="94" y="942"/>
                </a:lnTo>
                <a:lnTo>
                  <a:pt x="109" y="934"/>
                </a:lnTo>
                <a:lnTo>
                  <a:pt x="124" y="927"/>
                </a:lnTo>
                <a:lnTo>
                  <a:pt x="140" y="921"/>
                </a:lnTo>
                <a:lnTo>
                  <a:pt x="157" y="911"/>
                </a:lnTo>
                <a:lnTo>
                  <a:pt x="174" y="904"/>
                </a:lnTo>
                <a:lnTo>
                  <a:pt x="193" y="892"/>
                </a:lnTo>
                <a:lnTo>
                  <a:pt x="213" y="881"/>
                </a:lnTo>
                <a:lnTo>
                  <a:pt x="232" y="867"/>
                </a:lnTo>
                <a:lnTo>
                  <a:pt x="253" y="854"/>
                </a:lnTo>
                <a:lnTo>
                  <a:pt x="274" y="838"/>
                </a:lnTo>
                <a:lnTo>
                  <a:pt x="297" y="823"/>
                </a:lnTo>
                <a:lnTo>
                  <a:pt x="320" y="804"/>
                </a:lnTo>
                <a:lnTo>
                  <a:pt x="343" y="787"/>
                </a:lnTo>
                <a:lnTo>
                  <a:pt x="368" y="765"/>
                </a:lnTo>
                <a:lnTo>
                  <a:pt x="395" y="744"/>
                </a:lnTo>
                <a:lnTo>
                  <a:pt x="422" y="721"/>
                </a:lnTo>
                <a:lnTo>
                  <a:pt x="451" y="698"/>
                </a:lnTo>
                <a:lnTo>
                  <a:pt x="479" y="671"/>
                </a:lnTo>
                <a:lnTo>
                  <a:pt x="510" y="646"/>
                </a:lnTo>
                <a:lnTo>
                  <a:pt x="539" y="622"/>
                </a:lnTo>
                <a:lnTo>
                  <a:pt x="570" y="597"/>
                </a:lnTo>
                <a:lnTo>
                  <a:pt x="597" y="572"/>
                </a:lnTo>
                <a:lnTo>
                  <a:pt x="623" y="547"/>
                </a:lnTo>
                <a:lnTo>
                  <a:pt x="650" y="524"/>
                </a:lnTo>
                <a:lnTo>
                  <a:pt x="675" y="499"/>
                </a:lnTo>
                <a:lnTo>
                  <a:pt x="698" y="474"/>
                </a:lnTo>
                <a:lnTo>
                  <a:pt x="721" y="451"/>
                </a:lnTo>
                <a:lnTo>
                  <a:pt x="742" y="428"/>
                </a:lnTo>
                <a:lnTo>
                  <a:pt x="764" y="403"/>
                </a:lnTo>
                <a:lnTo>
                  <a:pt x="783" y="380"/>
                </a:lnTo>
                <a:lnTo>
                  <a:pt x="802" y="357"/>
                </a:lnTo>
                <a:lnTo>
                  <a:pt x="819" y="334"/>
                </a:lnTo>
                <a:lnTo>
                  <a:pt x="836" y="311"/>
                </a:lnTo>
                <a:lnTo>
                  <a:pt x="852" y="289"/>
                </a:lnTo>
                <a:lnTo>
                  <a:pt x="865" y="266"/>
                </a:lnTo>
                <a:lnTo>
                  <a:pt x="879" y="245"/>
                </a:lnTo>
                <a:lnTo>
                  <a:pt x="892" y="224"/>
                </a:lnTo>
                <a:lnTo>
                  <a:pt x="904" y="205"/>
                </a:lnTo>
                <a:lnTo>
                  <a:pt x="913" y="188"/>
                </a:lnTo>
                <a:lnTo>
                  <a:pt x="923" y="170"/>
                </a:lnTo>
                <a:lnTo>
                  <a:pt x="930" y="155"/>
                </a:lnTo>
                <a:lnTo>
                  <a:pt x="936" y="140"/>
                </a:lnTo>
                <a:lnTo>
                  <a:pt x="942" y="128"/>
                </a:lnTo>
                <a:lnTo>
                  <a:pt x="946" y="115"/>
                </a:lnTo>
                <a:lnTo>
                  <a:pt x="950" y="103"/>
                </a:lnTo>
                <a:lnTo>
                  <a:pt x="952" y="94"/>
                </a:lnTo>
                <a:lnTo>
                  <a:pt x="952" y="84"/>
                </a:lnTo>
                <a:lnTo>
                  <a:pt x="952" y="76"/>
                </a:lnTo>
                <a:lnTo>
                  <a:pt x="950" y="69"/>
                </a:lnTo>
                <a:lnTo>
                  <a:pt x="946" y="63"/>
                </a:lnTo>
                <a:lnTo>
                  <a:pt x="942" y="57"/>
                </a:lnTo>
                <a:lnTo>
                  <a:pt x="938" y="53"/>
                </a:lnTo>
                <a:lnTo>
                  <a:pt x="934" y="48"/>
                </a:lnTo>
                <a:lnTo>
                  <a:pt x="930" y="44"/>
                </a:lnTo>
                <a:lnTo>
                  <a:pt x="929" y="40"/>
                </a:lnTo>
                <a:lnTo>
                  <a:pt x="927" y="36"/>
                </a:lnTo>
                <a:lnTo>
                  <a:pt x="925" y="32"/>
                </a:lnTo>
                <a:lnTo>
                  <a:pt x="923" y="28"/>
                </a:lnTo>
                <a:lnTo>
                  <a:pt x="923" y="26"/>
                </a:lnTo>
                <a:lnTo>
                  <a:pt x="923" y="23"/>
                </a:lnTo>
                <a:lnTo>
                  <a:pt x="925" y="21"/>
                </a:lnTo>
                <a:lnTo>
                  <a:pt x="927" y="17"/>
                </a:lnTo>
                <a:lnTo>
                  <a:pt x="929" y="15"/>
                </a:lnTo>
                <a:lnTo>
                  <a:pt x="930" y="13"/>
                </a:lnTo>
                <a:lnTo>
                  <a:pt x="934" y="9"/>
                </a:lnTo>
                <a:lnTo>
                  <a:pt x="938" y="7"/>
                </a:lnTo>
                <a:lnTo>
                  <a:pt x="942" y="5"/>
                </a:lnTo>
                <a:lnTo>
                  <a:pt x="948" y="3"/>
                </a:lnTo>
                <a:lnTo>
                  <a:pt x="952" y="2"/>
                </a:lnTo>
                <a:lnTo>
                  <a:pt x="957" y="0"/>
                </a:lnTo>
                <a:lnTo>
                  <a:pt x="963" y="0"/>
                </a:lnTo>
                <a:lnTo>
                  <a:pt x="971" y="0"/>
                </a:lnTo>
                <a:lnTo>
                  <a:pt x="977" y="2"/>
                </a:lnTo>
                <a:lnTo>
                  <a:pt x="984" y="3"/>
                </a:lnTo>
                <a:lnTo>
                  <a:pt x="992" y="5"/>
                </a:lnTo>
                <a:lnTo>
                  <a:pt x="1000" y="7"/>
                </a:lnTo>
                <a:lnTo>
                  <a:pt x="1007" y="11"/>
                </a:lnTo>
                <a:lnTo>
                  <a:pt x="1017" y="15"/>
                </a:lnTo>
                <a:lnTo>
                  <a:pt x="1026" y="19"/>
                </a:lnTo>
                <a:lnTo>
                  <a:pt x="1036" y="25"/>
                </a:lnTo>
                <a:lnTo>
                  <a:pt x="1048" y="30"/>
                </a:lnTo>
                <a:lnTo>
                  <a:pt x="1057" y="38"/>
                </a:lnTo>
                <a:lnTo>
                  <a:pt x="1071" y="44"/>
                </a:lnTo>
                <a:lnTo>
                  <a:pt x="1080" y="51"/>
                </a:lnTo>
                <a:lnTo>
                  <a:pt x="1092" y="59"/>
                </a:lnTo>
                <a:lnTo>
                  <a:pt x="1101" y="67"/>
                </a:lnTo>
                <a:lnTo>
                  <a:pt x="1111" y="74"/>
                </a:lnTo>
                <a:lnTo>
                  <a:pt x="1119" y="80"/>
                </a:lnTo>
                <a:lnTo>
                  <a:pt x="1126" y="88"/>
                </a:lnTo>
                <a:lnTo>
                  <a:pt x="1132" y="96"/>
                </a:lnTo>
                <a:lnTo>
                  <a:pt x="1138" y="101"/>
                </a:lnTo>
                <a:lnTo>
                  <a:pt x="1144" y="109"/>
                </a:lnTo>
                <a:lnTo>
                  <a:pt x="1147" y="115"/>
                </a:lnTo>
                <a:lnTo>
                  <a:pt x="1151" y="121"/>
                </a:lnTo>
                <a:lnTo>
                  <a:pt x="1153" y="126"/>
                </a:lnTo>
                <a:lnTo>
                  <a:pt x="1155" y="132"/>
                </a:lnTo>
                <a:lnTo>
                  <a:pt x="1157" y="138"/>
                </a:lnTo>
                <a:lnTo>
                  <a:pt x="1159" y="144"/>
                </a:lnTo>
                <a:lnTo>
                  <a:pt x="1159" y="149"/>
                </a:lnTo>
                <a:lnTo>
                  <a:pt x="1159" y="157"/>
                </a:lnTo>
                <a:lnTo>
                  <a:pt x="1157" y="165"/>
                </a:lnTo>
                <a:lnTo>
                  <a:pt x="1155" y="172"/>
                </a:lnTo>
                <a:lnTo>
                  <a:pt x="1151" y="182"/>
                </a:lnTo>
                <a:lnTo>
                  <a:pt x="1147" y="190"/>
                </a:lnTo>
                <a:lnTo>
                  <a:pt x="1144" y="199"/>
                </a:lnTo>
                <a:lnTo>
                  <a:pt x="1138" y="211"/>
                </a:lnTo>
                <a:lnTo>
                  <a:pt x="1132" y="220"/>
                </a:lnTo>
                <a:lnTo>
                  <a:pt x="1124" y="232"/>
                </a:lnTo>
                <a:lnTo>
                  <a:pt x="1117" y="243"/>
                </a:lnTo>
                <a:lnTo>
                  <a:pt x="1109" y="257"/>
                </a:lnTo>
                <a:lnTo>
                  <a:pt x="1099" y="270"/>
                </a:lnTo>
                <a:lnTo>
                  <a:pt x="1090" y="284"/>
                </a:lnTo>
                <a:lnTo>
                  <a:pt x="1078" y="299"/>
                </a:lnTo>
                <a:lnTo>
                  <a:pt x="1069" y="314"/>
                </a:lnTo>
                <a:lnTo>
                  <a:pt x="1057" y="332"/>
                </a:lnTo>
                <a:lnTo>
                  <a:pt x="1042" y="349"/>
                </a:lnTo>
                <a:lnTo>
                  <a:pt x="1026" y="366"/>
                </a:lnTo>
                <a:lnTo>
                  <a:pt x="1011" y="383"/>
                </a:lnTo>
                <a:lnTo>
                  <a:pt x="996" y="401"/>
                </a:lnTo>
                <a:lnTo>
                  <a:pt x="978" y="418"/>
                </a:lnTo>
                <a:lnTo>
                  <a:pt x="961" y="435"/>
                </a:lnTo>
                <a:lnTo>
                  <a:pt x="944" y="455"/>
                </a:lnTo>
                <a:lnTo>
                  <a:pt x="925" y="472"/>
                </a:lnTo>
                <a:lnTo>
                  <a:pt x="886" y="510"/>
                </a:lnTo>
                <a:lnTo>
                  <a:pt x="867" y="529"/>
                </a:lnTo>
                <a:lnTo>
                  <a:pt x="846" y="549"/>
                </a:lnTo>
                <a:lnTo>
                  <a:pt x="827" y="568"/>
                </a:lnTo>
                <a:lnTo>
                  <a:pt x="806" y="589"/>
                </a:lnTo>
                <a:lnTo>
                  <a:pt x="785" y="610"/>
                </a:lnTo>
                <a:lnTo>
                  <a:pt x="764" y="6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22"/>
          <p:cNvSpPr/>
          <p:nvPr/>
        </p:nvSpPr>
        <p:spPr>
          <a:xfrm>
            <a:off x="6637320" y="3244680"/>
            <a:ext cx="833400" cy="311400"/>
          </a:xfrm>
          <a:custGeom>
            <a:avLst/>
            <a:gdLst/>
            <a:ahLst/>
            <a:rect l="l" t="t" r="r" b="b"/>
            <a:pathLst>
              <a:path w="1050" h="392">
                <a:moveTo>
                  <a:pt x="107" y="392"/>
                </a:moveTo>
                <a:lnTo>
                  <a:pt x="98" y="392"/>
                </a:lnTo>
                <a:lnTo>
                  <a:pt x="88" y="390"/>
                </a:lnTo>
                <a:lnTo>
                  <a:pt x="79" y="388"/>
                </a:lnTo>
                <a:lnTo>
                  <a:pt x="69" y="384"/>
                </a:lnTo>
                <a:lnTo>
                  <a:pt x="59" y="380"/>
                </a:lnTo>
                <a:lnTo>
                  <a:pt x="50" y="377"/>
                </a:lnTo>
                <a:lnTo>
                  <a:pt x="31" y="367"/>
                </a:lnTo>
                <a:lnTo>
                  <a:pt x="23" y="361"/>
                </a:lnTo>
                <a:lnTo>
                  <a:pt x="15" y="356"/>
                </a:lnTo>
                <a:lnTo>
                  <a:pt x="10" y="348"/>
                </a:lnTo>
                <a:lnTo>
                  <a:pt x="4" y="340"/>
                </a:lnTo>
                <a:lnTo>
                  <a:pt x="2" y="333"/>
                </a:lnTo>
                <a:lnTo>
                  <a:pt x="2" y="329"/>
                </a:lnTo>
                <a:lnTo>
                  <a:pt x="0" y="327"/>
                </a:lnTo>
                <a:lnTo>
                  <a:pt x="2" y="323"/>
                </a:lnTo>
                <a:lnTo>
                  <a:pt x="2" y="319"/>
                </a:lnTo>
                <a:lnTo>
                  <a:pt x="4" y="317"/>
                </a:lnTo>
                <a:lnTo>
                  <a:pt x="6" y="315"/>
                </a:lnTo>
                <a:lnTo>
                  <a:pt x="8" y="313"/>
                </a:lnTo>
                <a:lnTo>
                  <a:pt x="10" y="311"/>
                </a:lnTo>
                <a:lnTo>
                  <a:pt x="12" y="309"/>
                </a:lnTo>
                <a:lnTo>
                  <a:pt x="15" y="308"/>
                </a:lnTo>
                <a:lnTo>
                  <a:pt x="21" y="306"/>
                </a:lnTo>
                <a:lnTo>
                  <a:pt x="25" y="302"/>
                </a:lnTo>
                <a:lnTo>
                  <a:pt x="31" y="300"/>
                </a:lnTo>
                <a:lnTo>
                  <a:pt x="36" y="298"/>
                </a:lnTo>
                <a:lnTo>
                  <a:pt x="44" y="294"/>
                </a:lnTo>
                <a:lnTo>
                  <a:pt x="52" y="290"/>
                </a:lnTo>
                <a:lnTo>
                  <a:pt x="59" y="286"/>
                </a:lnTo>
                <a:lnTo>
                  <a:pt x="69" y="283"/>
                </a:lnTo>
                <a:lnTo>
                  <a:pt x="79" y="279"/>
                </a:lnTo>
                <a:lnTo>
                  <a:pt x="90" y="273"/>
                </a:lnTo>
                <a:lnTo>
                  <a:pt x="102" y="269"/>
                </a:lnTo>
                <a:lnTo>
                  <a:pt x="113" y="263"/>
                </a:lnTo>
                <a:lnTo>
                  <a:pt x="125" y="260"/>
                </a:lnTo>
                <a:lnTo>
                  <a:pt x="138" y="254"/>
                </a:lnTo>
                <a:lnTo>
                  <a:pt x="154" y="248"/>
                </a:lnTo>
                <a:lnTo>
                  <a:pt x="167" y="240"/>
                </a:lnTo>
                <a:lnTo>
                  <a:pt x="182" y="235"/>
                </a:lnTo>
                <a:lnTo>
                  <a:pt x="200" y="229"/>
                </a:lnTo>
                <a:lnTo>
                  <a:pt x="215" y="221"/>
                </a:lnTo>
                <a:lnTo>
                  <a:pt x="234" y="214"/>
                </a:lnTo>
                <a:lnTo>
                  <a:pt x="251" y="206"/>
                </a:lnTo>
                <a:lnTo>
                  <a:pt x="271" y="198"/>
                </a:lnTo>
                <a:lnTo>
                  <a:pt x="290" y="190"/>
                </a:lnTo>
                <a:lnTo>
                  <a:pt x="311" y="181"/>
                </a:lnTo>
                <a:lnTo>
                  <a:pt x="332" y="173"/>
                </a:lnTo>
                <a:lnTo>
                  <a:pt x="355" y="164"/>
                </a:lnTo>
                <a:lnTo>
                  <a:pt x="376" y="154"/>
                </a:lnTo>
                <a:lnTo>
                  <a:pt x="401" y="144"/>
                </a:lnTo>
                <a:lnTo>
                  <a:pt x="445" y="127"/>
                </a:lnTo>
                <a:lnTo>
                  <a:pt x="488" y="112"/>
                </a:lnTo>
                <a:lnTo>
                  <a:pt x="530" y="96"/>
                </a:lnTo>
                <a:lnTo>
                  <a:pt x="570" y="83"/>
                </a:lnTo>
                <a:lnTo>
                  <a:pt x="607" y="70"/>
                </a:lnTo>
                <a:lnTo>
                  <a:pt x="645" y="58"/>
                </a:lnTo>
                <a:lnTo>
                  <a:pt x="679" y="47"/>
                </a:lnTo>
                <a:lnTo>
                  <a:pt x="712" y="37"/>
                </a:lnTo>
                <a:lnTo>
                  <a:pt x="743" y="29"/>
                </a:lnTo>
                <a:lnTo>
                  <a:pt x="774" y="22"/>
                </a:lnTo>
                <a:lnTo>
                  <a:pt x="800" y="16"/>
                </a:lnTo>
                <a:lnTo>
                  <a:pt x="814" y="12"/>
                </a:lnTo>
                <a:lnTo>
                  <a:pt x="825" y="10"/>
                </a:lnTo>
                <a:lnTo>
                  <a:pt x="839" y="8"/>
                </a:lnTo>
                <a:lnTo>
                  <a:pt x="850" y="6"/>
                </a:lnTo>
                <a:lnTo>
                  <a:pt x="862" y="4"/>
                </a:lnTo>
                <a:lnTo>
                  <a:pt x="871" y="2"/>
                </a:lnTo>
                <a:lnTo>
                  <a:pt x="883" y="2"/>
                </a:lnTo>
                <a:lnTo>
                  <a:pt x="893" y="0"/>
                </a:lnTo>
                <a:lnTo>
                  <a:pt x="900" y="0"/>
                </a:lnTo>
                <a:lnTo>
                  <a:pt x="910" y="0"/>
                </a:lnTo>
                <a:lnTo>
                  <a:pt x="925" y="0"/>
                </a:lnTo>
                <a:lnTo>
                  <a:pt x="941" y="0"/>
                </a:lnTo>
                <a:lnTo>
                  <a:pt x="956" y="2"/>
                </a:lnTo>
                <a:lnTo>
                  <a:pt x="969" y="2"/>
                </a:lnTo>
                <a:lnTo>
                  <a:pt x="981" y="4"/>
                </a:lnTo>
                <a:lnTo>
                  <a:pt x="992" y="6"/>
                </a:lnTo>
                <a:lnTo>
                  <a:pt x="1004" y="6"/>
                </a:lnTo>
                <a:lnTo>
                  <a:pt x="1013" y="8"/>
                </a:lnTo>
                <a:lnTo>
                  <a:pt x="1021" y="10"/>
                </a:lnTo>
                <a:lnTo>
                  <a:pt x="1029" y="12"/>
                </a:lnTo>
                <a:lnTo>
                  <a:pt x="1035" y="14"/>
                </a:lnTo>
                <a:lnTo>
                  <a:pt x="1040" y="18"/>
                </a:lnTo>
                <a:lnTo>
                  <a:pt x="1044" y="20"/>
                </a:lnTo>
                <a:lnTo>
                  <a:pt x="1048" y="22"/>
                </a:lnTo>
                <a:lnTo>
                  <a:pt x="1048" y="23"/>
                </a:lnTo>
                <a:lnTo>
                  <a:pt x="1050" y="27"/>
                </a:lnTo>
                <a:lnTo>
                  <a:pt x="1048" y="31"/>
                </a:lnTo>
                <a:lnTo>
                  <a:pt x="1046" y="39"/>
                </a:lnTo>
                <a:lnTo>
                  <a:pt x="1044" y="47"/>
                </a:lnTo>
                <a:lnTo>
                  <a:pt x="1038" y="54"/>
                </a:lnTo>
                <a:lnTo>
                  <a:pt x="1031" y="64"/>
                </a:lnTo>
                <a:lnTo>
                  <a:pt x="1027" y="68"/>
                </a:lnTo>
                <a:lnTo>
                  <a:pt x="1023" y="71"/>
                </a:lnTo>
                <a:lnTo>
                  <a:pt x="1017" y="77"/>
                </a:lnTo>
                <a:lnTo>
                  <a:pt x="1012" y="83"/>
                </a:lnTo>
                <a:lnTo>
                  <a:pt x="1006" y="87"/>
                </a:lnTo>
                <a:lnTo>
                  <a:pt x="998" y="93"/>
                </a:lnTo>
                <a:lnTo>
                  <a:pt x="994" y="94"/>
                </a:lnTo>
                <a:lnTo>
                  <a:pt x="990" y="96"/>
                </a:lnTo>
                <a:lnTo>
                  <a:pt x="985" y="100"/>
                </a:lnTo>
                <a:lnTo>
                  <a:pt x="979" y="104"/>
                </a:lnTo>
                <a:lnTo>
                  <a:pt x="973" y="106"/>
                </a:lnTo>
                <a:lnTo>
                  <a:pt x="965" y="110"/>
                </a:lnTo>
                <a:lnTo>
                  <a:pt x="960" y="114"/>
                </a:lnTo>
                <a:lnTo>
                  <a:pt x="950" y="118"/>
                </a:lnTo>
                <a:lnTo>
                  <a:pt x="942" y="121"/>
                </a:lnTo>
                <a:lnTo>
                  <a:pt x="933" y="125"/>
                </a:lnTo>
                <a:lnTo>
                  <a:pt x="921" y="129"/>
                </a:lnTo>
                <a:lnTo>
                  <a:pt x="912" y="133"/>
                </a:lnTo>
                <a:lnTo>
                  <a:pt x="900" y="137"/>
                </a:lnTo>
                <a:lnTo>
                  <a:pt x="889" y="142"/>
                </a:lnTo>
                <a:lnTo>
                  <a:pt x="875" y="146"/>
                </a:lnTo>
                <a:lnTo>
                  <a:pt x="862" y="152"/>
                </a:lnTo>
                <a:lnTo>
                  <a:pt x="848" y="158"/>
                </a:lnTo>
                <a:lnTo>
                  <a:pt x="833" y="164"/>
                </a:lnTo>
                <a:lnTo>
                  <a:pt x="818" y="169"/>
                </a:lnTo>
                <a:lnTo>
                  <a:pt x="802" y="175"/>
                </a:lnTo>
                <a:lnTo>
                  <a:pt x="785" y="181"/>
                </a:lnTo>
                <a:lnTo>
                  <a:pt x="768" y="187"/>
                </a:lnTo>
                <a:lnTo>
                  <a:pt x="749" y="192"/>
                </a:lnTo>
                <a:lnTo>
                  <a:pt x="729" y="200"/>
                </a:lnTo>
                <a:lnTo>
                  <a:pt x="710" y="208"/>
                </a:lnTo>
                <a:lnTo>
                  <a:pt x="691" y="214"/>
                </a:lnTo>
                <a:lnTo>
                  <a:pt x="670" y="221"/>
                </a:lnTo>
                <a:lnTo>
                  <a:pt x="647" y="229"/>
                </a:lnTo>
                <a:lnTo>
                  <a:pt x="626" y="237"/>
                </a:lnTo>
                <a:lnTo>
                  <a:pt x="603" y="244"/>
                </a:lnTo>
                <a:lnTo>
                  <a:pt x="578" y="254"/>
                </a:lnTo>
                <a:lnTo>
                  <a:pt x="553" y="261"/>
                </a:lnTo>
                <a:lnTo>
                  <a:pt x="528" y="271"/>
                </a:lnTo>
                <a:lnTo>
                  <a:pt x="505" y="279"/>
                </a:lnTo>
                <a:lnTo>
                  <a:pt x="482" y="286"/>
                </a:lnTo>
                <a:lnTo>
                  <a:pt x="459" y="294"/>
                </a:lnTo>
                <a:lnTo>
                  <a:pt x="436" y="302"/>
                </a:lnTo>
                <a:lnTo>
                  <a:pt x="415" y="309"/>
                </a:lnTo>
                <a:lnTo>
                  <a:pt x="395" y="315"/>
                </a:lnTo>
                <a:lnTo>
                  <a:pt x="374" y="321"/>
                </a:lnTo>
                <a:lnTo>
                  <a:pt x="355" y="329"/>
                </a:lnTo>
                <a:lnTo>
                  <a:pt x="336" y="334"/>
                </a:lnTo>
                <a:lnTo>
                  <a:pt x="319" y="338"/>
                </a:lnTo>
                <a:lnTo>
                  <a:pt x="301" y="344"/>
                </a:lnTo>
                <a:lnTo>
                  <a:pt x="286" y="350"/>
                </a:lnTo>
                <a:lnTo>
                  <a:pt x="269" y="354"/>
                </a:lnTo>
                <a:lnTo>
                  <a:pt x="253" y="357"/>
                </a:lnTo>
                <a:lnTo>
                  <a:pt x="240" y="361"/>
                </a:lnTo>
                <a:lnTo>
                  <a:pt x="226" y="365"/>
                </a:lnTo>
                <a:lnTo>
                  <a:pt x="213" y="369"/>
                </a:lnTo>
                <a:lnTo>
                  <a:pt x="202" y="373"/>
                </a:lnTo>
                <a:lnTo>
                  <a:pt x="190" y="377"/>
                </a:lnTo>
                <a:lnTo>
                  <a:pt x="178" y="379"/>
                </a:lnTo>
                <a:lnTo>
                  <a:pt x="169" y="380"/>
                </a:lnTo>
                <a:lnTo>
                  <a:pt x="159" y="382"/>
                </a:lnTo>
                <a:lnTo>
                  <a:pt x="150" y="384"/>
                </a:lnTo>
                <a:lnTo>
                  <a:pt x="142" y="386"/>
                </a:lnTo>
                <a:lnTo>
                  <a:pt x="134" y="388"/>
                </a:lnTo>
                <a:lnTo>
                  <a:pt x="129" y="390"/>
                </a:lnTo>
                <a:lnTo>
                  <a:pt x="123" y="390"/>
                </a:lnTo>
                <a:lnTo>
                  <a:pt x="119" y="392"/>
                </a:lnTo>
                <a:lnTo>
                  <a:pt x="113" y="392"/>
                </a:lnTo>
                <a:lnTo>
                  <a:pt x="109" y="392"/>
                </a:lnTo>
                <a:lnTo>
                  <a:pt x="107" y="3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23"/>
          <p:cNvSpPr/>
          <p:nvPr/>
        </p:nvSpPr>
        <p:spPr>
          <a:xfrm>
            <a:off x="6651720" y="2900520"/>
            <a:ext cx="739800" cy="250560"/>
          </a:xfrm>
          <a:custGeom>
            <a:avLst/>
            <a:gdLst/>
            <a:ahLst/>
            <a:rect l="l" t="t" r="r" b="b"/>
            <a:pathLst>
              <a:path w="931" h="316">
                <a:moveTo>
                  <a:pt x="728" y="146"/>
                </a:moveTo>
                <a:lnTo>
                  <a:pt x="701" y="153"/>
                </a:lnTo>
                <a:lnTo>
                  <a:pt x="676" y="161"/>
                </a:lnTo>
                <a:lnTo>
                  <a:pt x="651" y="169"/>
                </a:lnTo>
                <a:lnTo>
                  <a:pt x="626" y="176"/>
                </a:lnTo>
                <a:lnTo>
                  <a:pt x="580" y="190"/>
                </a:lnTo>
                <a:lnTo>
                  <a:pt x="534" y="205"/>
                </a:lnTo>
                <a:lnTo>
                  <a:pt x="488" y="218"/>
                </a:lnTo>
                <a:lnTo>
                  <a:pt x="444" y="234"/>
                </a:lnTo>
                <a:lnTo>
                  <a:pt x="401" y="249"/>
                </a:lnTo>
                <a:lnTo>
                  <a:pt x="357" y="265"/>
                </a:lnTo>
                <a:lnTo>
                  <a:pt x="336" y="270"/>
                </a:lnTo>
                <a:lnTo>
                  <a:pt x="317" y="278"/>
                </a:lnTo>
                <a:lnTo>
                  <a:pt x="296" y="284"/>
                </a:lnTo>
                <a:lnTo>
                  <a:pt x="277" y="289"/>
                </a:lnTo>
                <a:lnTo>
                  <a:pt x="259" y="293"/>
                </a:lnTo>
                <a:lnTo>
                  <a:pt x="240" y="297"/>
                </a:lnTo>
                <a:lnTo>
                  <a:pt x="223" y="301"/>
                </a:lnTo>
                <a:lnTo>
                  <a:pt x="208" y="305"/>
                </a:lnTo>
                <a:lnTo>
                  <a:pt x="190" y="307"/>
                </a:lnTo>
                <a:lnTo>
                  <a:pt x="177" y="311"/>
                </a:lnTo>
                <a:lnTo>
                  <a:pt x="161" y="313"/>
                </a:lnTo>
                <a:lnTo>
                  <a:pt x="148" y="313"/>
                </a:lnTo>
                <a:lnTo>
                  <a:pt x="137" y="314"/>
                </a:lnTo>
                <a:lnTo>
                  <a:pt x="125" y="314"/>
                </a:lnTo>
                <a:lnTo>
                  <a:pt x="114" y="316"/>
                </a:lnTo>
                <a:lnTo>
                  <a:pt x="104" y="316"/>
                </a:lnTo>
                <a:lnTo>
                  <a:pt x="92" y="316"/>
                </a:lnTo>
                <a:lnTo>
                  <a:pt x="81" y="314"/>
                </a:lnTo>
                <a:lnTo>
                  <a:pt x="71" y="314"/>
                </a:lnTo>
                <a:lnTo>
                  <a:pt x="62" y="314"/>
                </a:lnTo>
                <a:lnTo>
                  <a:pt x="54" y="313"/>
                </a:lnTo>
                <a:lnTo>
                  <a:pt x="46" y="311"/>
                </a:lnTo>
                <a:lnTo>
                  <a:pt x="41" y="309"/>
                </a:lnTo>
                <a:lnTo>
                  <a:pt x="33" y="309"/>
                </a:lnTo>
                <a:lnTo>
                  <a:pt x="27" y="307"/>
                </a:lnTo>
                <a:lnTo>
                  <a:pt x="23" y="303"/>
                </a:lnTo>
                <a:lnTo>
                  <a:pt x="18" y="301"/>
                </a:lnTo>
                <a:lnTo>
                  <a:pt x="14" y="299"/>
                </a:lnTo>
                <a:lnTo>
                  <a:pt x="8" y="295"/>
                </a:lnTo>
                <a:lnTo>
                  <a:pt x="2" y="289"/>
                </a:lnTo>
                <a:lnTo>
                  <a:pt x="0" y="288"/>
                </a:lnTo>
                <a:lnTo>
                  <a:pt x="2" y="286"/>
                </a:lnTo>
                <a:lnTo>
                  <a:pt x="2" y="284"/>
                </a:lnTo>
                <a:lnTo>
                  <a:pt x="6" y="280"/>
                </a:lnTo>
                <a:lnTo>
                  <a:pt x="8" y="278"/>
                </a:lnTo>
                <a:lnTo>
                  <a:pt x="12" y="276"/>
                </a:lnTo>
                <a:lnTo>
                  <a:pt x="18" y="272"/>
                </a:lnTo>
                <a:lnTo>
                  <a:pt x="21" y="268"/>
                </a:lnTo>
                <a:lnTo>
                  <a:pt x="27" y="266"/>
                </a:lnTo>
                <a:lnTo>
                  <a:pt x="35" y="263"/>
                </a:lnTo>
                <a:lnTo>
                  <a:pt x="42" y="259"/>
                </a:lnTo>
                <a:lnTo>
                  <a:pt x="52" y="253"/>
                </a:lnTo>
                <a:lnTo>
                  <a:pt x="60" y="249"/>
                </a:lnTo>
                <a:lnTo>
                  <a:pt x="71" y="245"/>
                </a:lnTo>
                <a:lnTo>
                  <a:pt x="81" y="240"/>
                </a:lnTo>
                <a:lnTo>
                  <a:pt x="92" y="234"/>
                </a:lnTo>
                <a:lnTo>
                  <a:pt x="106" y="228"/>
                </a:lnTo>
                <a:lnTo>
                  <a:pt x="119" y="222"/>
                </a:lnTo>
                <a:lnTo>
                  <a:pt x="133" y="217"/>
                </a:lnTo>
                <a:lnTo>
                  <a:pt x="148" y="211"/>
                </a:lnTo>
                <a:lnTo>
                  <a:pt x="165" y="203"/>
                </a:lnTo>
                <a:lnTo>
                  <a:pt x="181" y="197"/>
                </a:lnTo>
                <a:lnTo>
                  <a:pt x="198" y="190"/>
                </a:lnTo>
                <a:lnTo>
                  <a:pt x="217" y="182"/>
                </a:lnTo>
                <a:lnTo>
                  <a:pt x="236" y="174"/>
                </a:lnTo>
                <a:lnTo>
                  <a:pt x="257" y="165"/>
                </a:lnTo>
                <a:lnTo>
                  <a:pt x="279" y="157"/>
                </a:lnTo>
                <a:lnTo>
                  <a:pt x="300" y="147"/>
                </a:lnTo>
                <a:lnTo>
                  <a:pt x="323" y="140"/>
                </a:lnTo>
                <a:lnTo>
                  <a:pt x="346" y="130"/>
                </a:lnTo>
                <a:lnTo>
                  <a:pt x="371" y="121"/>
                </a:lnTo>
                <a:lnTo>
                  <a:pt x="394" y="111"/>
                </a:lnTo>
                <a:lnTo>
                  <a:pt x="417" y="103"/>
                </a:lnTo>
                <a:lnTo>
                  <a:pt x="440" y="96"/>
                </a:lnTo>
                <a:lnTo>
                  <a:pt x="461" y="88"/>
                </a:lnTo>
                <a:lnTo>
                  <a:pt x="482" y="80"/>
                </a:lnTo>
                <a:lnTo>
                  <a:pt x="503" y="73"/>
                </a:lnTo>
                <a:lnTo>
                  <a:pt x="522" y="67"/>
                </a:lnTo>
                <a:lnTo>
                  <a:pt x="542" y="61"/>
                </a:lnTo>
                <a:lnTo>
                  <a:pt x="561" y="53"/>
                </a:lnTo>
                <a:lnTo>
                  <a:pt x="580" y="48"/>
                </a:lnTo>
                <a:lnTo>
                  <a:pt x="597" y="44"/>
                </a:lnTo>
                <a:lnTo>
                  <a:pt x="614" y="38"/>
                </a:lnTo>
                <a:lnTo>
                  <a:pt x="632" y="34"/>
                </a:lnTo>
                <a:lnTo>
                  <a:pt x="647" y="28"/>
                </a:lnTo>
                <a:lnTo>
                  <a:pt x="662" y="25"/>
                </a:lnTo>
                <a:lnTo>
                  <a:pt x="678" y="21"/>
                </a:lnTo>
                <a:lnTo>
                  <a:pt x="691" y="17"/>
                </a:lnTo>
                <a:lnTo>
                  <a:pt x="707" y="15"/>
                </a:lnTo>
                <a:lnTo>
                  <a:pt x="718" y="11"/>
                </a:lnTo>
                <a:lnTo>
                  <a:pt x="732" y="9"/>
                </a:lnTo>
                <a:lnTo>
                  <a:pt x="743" y="7"/>
                </a:lnTo>
                <a:lnTo>
                  <a:pt x="755" y="5"/>
                </a:lnTo>
                <a:lnTo>
                  <a:pt x="766" y="3"/>
                </a:lnTo>
                <a:lnTo>
                  <a:pt x="778" y="2"/>
                </a:lnTo>
                <a:lnTo>
                  <a:pt x="787" y="2"/>
                </a:lnTo>
                <a:lnTo>
                  <a:pt x="797" y="0"/>
                </a:lnTo>
                <a:lnTo>
                  <a:pt x="804" y="0"/>
                </a:lnTo>
                <a:lnTo>
                  <a:pt x="814" y="0"/>
                </a:lnTo>
                <a:lnTo>
                  <a:pt x="822" y="0"/>
                </a:lnTo>
                <a:lnTo>
                  <a:pt x="829" y="0"/>
                </a:lnTo>
                <a:lnTo>
                  <a:pt x="835" y="2"/>
                </a:lnTo>
                <a:lnTo>
                  <a:pt x="841" y="2"/>
                </a:lnTo>
                <a:lnTo>
                  <a:pt x="852" y="5"/>
                </a:lnTo>
                <a:lnTo>
                  <a:pt x="864" y="7"/>
                </a:lnTo>
                <a:lnTo>
                  <a:pt x="874" y="11"/>
                </a:lnTo>
                <a:lnTo>
                  <a:pt x="883" y="15"/>
                </a:lnTo>
                <a:lnTo>
                  <a:pt x="891" y="17"/>
                </a:lnTo>
                <a:lnTo>
                  <a:pt x="899" y="21"/>
                </a:lnTo>
                <a:lnTo>
                  <a:pt x="904" y="25"/>
                </a:lnTo>
                <a:lnTo>
                  <a:pt x="910" y="28"/>
                </a:lnTo>
                <a:lnTo>
                  <a:pt x="916" y="32"/>
                </a:lnTo>
                <a:lnTo>
                  <a:pt x="920" y="36"/>
                </a:lnTo>
                <a:lnTo>
                  <a:pt x="924" y="40"/>
                </a:lnTo>
                <a:lnTo>
                  <a:pt x="925" y="42"/>
                </a:lnTo>
                <a:lnTo>
                  <a:pt x="927" y="46"/>
                </a:lnTo>
                <a:lnTo>
                  <a:pt x="929" y="50"/>
                </a:lnTo>
                <a:lnTo>
                  <a:pt x="931" y="51"/>
                </a:lnTo>
                <a:lnTo>
                  <a:pt x="931" y="55"/>
                </a:lnTo>
                <a:lnTo>
                  <a:pt x="929" y="57"/>
                </a:lnTo>
                <a:lnTo>
                  <a:pt x="927" y="61"/>
                </a:lnTo>
                <a:lnTo>
                  <a:pt x="924" y="65"/>
                </a:lnTo>
                <a:lnTo>
                  <a:pt x="918" y="69"/>
                </a:lnTo>
                <a:lnTo>
                  <a:pt x="912" y="73"/>
                </a:lnTo>
                <a:lnTo>
                  <a:pt x="902" y="78"/>
                </a:lnTo>
                <a:lnTo>
                  <a:pt x="893" y="84"/>
                </a:lnTo>
                <a:lnTo>
                  <a:pt x="881" y="90"/>
                </a:lnTo>
                <a:lnTo>
                  <a:pt x="868" y="96"/>
                </a:lnTo>
                <a:lnTo>
                  <a:pt x="852" y="103"/>
                </a:lnTo>
                <a:lnTo>
                  <a:pt x="837" y="109"/>
                </a:lnTo>
                <a:lnTo>
                  <a:pt x="818" y="117"/>
                </a:lnTo>
                <a:lnTo>
                  <a:pt x="799" y="124"/>
                </a:lnTo>
                <a:lnTo>
                  <a:pt x="776" y="130"/>
                </a:lnTo>
                <a:lnTo>
                  <a:pt x="753" y="138"/>
                </a:lnTo>
                <a:lnTo>
                  <a:pt x="728" y="1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24"/>
          <p:cNvSpPr/>
          <p:nvPr/>
        </p:nvSpPr>
        <p:spPr>
          <a:xfrm>
            <a:off x="6227640" y="3857760"/>
            <a:ext cx="354240" cy="280800"/>
          </a:xfrm>
          <a:custGeom>
            <a:avLst/>
            <a:gdLst/>
            <a:ahLst/>
            <a:rect l="l" t="t" r="r" b="b"/>
            <a:pathLst>
              <a:path w="445" h="355">
                <a:moveTo>
                  <a:pt x="0" y="0"/>
                </a:moveTo>
                <a:lnTo>
                  <a:pt x="13" y="0"/>
                </a:lnTo>
                <a:lnTo>
                  <a:pt x="27" y="0"/>
                </a:lnTo>
                <a:lnTo>
                  <a:pt x="40" y="2"/>
                </a:lnTo>
                <a:lnTo>
                  <a:pt x="55" y="4"/>
                </a:lnTo>
                <a:lnTo>
                  <a:pt x="71" y="8"/>
                </a:lnTo>
                <a:lnTo>
                  <a:pt x="86" y="10"/>
                </a:lnTo>
                <a:lnTo>
                  <a:pt x="103" y="14"/>
                </a:lnTo>
                <a:lnTo>
                  <a:pt x="121" y="19"/>
                </a:lnTo>
                <a:lnTo>
                  <a:pt x="140" y="25"/>
                </a:lnTo>
                <a:lnTo>
                  <a:pt x="157" y="31"/>
                </a:lnTo>
                <a:lnTo>
                  <a:pt x="176" y="37"/>
                </a:lnTo>
                <a:lnTo>
                  <a:pt x="197" y="44"/>
                </a:lnTo>
                <a:lnTo>
                  <a:pt x="217" y="52"/>
                </a:lnTo>
                <a:lnTo>
                  <a:pt x="238" y="60"/>
                </a:lnTo>
                <a:lnTo>
                  <a:pt x="259" y="69"/>
                </a:lnTo>
                <a:lnTo>
                  <a:pt x="280" y="79"/>
                </a:lnTo>
                <a:lnTo>
                  <a:pt x="301" y="88"/>
                </a:lnTo>
                <a:lnTo>
                  <a:pt x="320" y="98"/>
                </a:lnTo>
                <a:lnTo>
                  <a:pt x="337" y="109"/>
                </a:lnTo>
                <a:lnTo>
                  <a:pt x="355" y="121"/>
                </a:lnTo>
                <a:lnTo>
                  <a:pt x="368" y="131"/>
                </a:lnTo>
                <a:lnTo>
                  <a:pt x="382" y="142"/>
                </a:lnTo>
                <a:lnTo>
                  <a:pt x="395" y="154"/>
                </a:lnTo>
                <a:lnTo>
                  <a:pt x="405" y="165"/>
                </a:lnTo>
                <a:lnTo>
                  <a:pt x="414" y="177"/>
                </a:lnTo>
                <a:lnTo>
                  <a:pt x="424" y="188"/>
                </a:lnTo>
                <a:lnTo>
                  <a:pt x="430" y="200"/>
                </a:lnTo>
                <a:lnTo>
                  <a:pt x="435" y="213"/>
                </a:lnTo>
                <a:lnTo>
                  <a:pt x="439" y="225"/>
                </a:lnTo>
                <a:lnTo>
                  <a:pt x="443" y="236"/>
                </a:lnTo>
                <a:lnTo>
                  <a:pt x="445" y="250"/>
                </a:lnTo>
                <a:lnTo>
                  <a:pt x="445" y="261"/>
                </a:lnTo>
                <a:lnTo>
                  <a:pt x="445" y="273"/>
                </a:lnTo>
                <a:lnTo>
                  <a:pt x="445" y="284"/>
                </a:lnTo>
                <a:lnTo>
                  <a:pt x="445" y="296"/>
                </a:lnTo>
                <a:lnTo>
                  <a:pt x="443" y="305"/>
                </a:lnTo>
                <a:lnTo>
                  <a:pt x="441" y="315"/>
                </a:lnTo>
                <a:lnTo>
                  <a:pt x="439" y="323"/>
                </a:lnTo>
                <a:lnTo>
                  <a:pt x="437" y="330"/>
                </a:lnTo>
                <a:lnTo>
                  <a:pt x="433" y="336"/>
                </a:lnTo>
                <a:lnTo>
                  <a:pt x="432" y="342"/>
                </a:lnTo>
                <a:lnTo>
                  <a:pt x="428" y="347"/>
                </a:lnTo>
                <a:lnTo>
                  <a:pt x="424" y="351"/>
                </a:lnTo>
                <a:lnTo>
                  <a:pt x="418" y="353"/>
                </a:lnTo>
                <a:lnTo>
                  <a:pt x="414" y="355"/>
                </a:lnTo>
                <a:lnTo>
                  <a:pt x="408" y="355"/>
                </a:lnTo>
                <a:lnTo>
                  <a:pt x="401" y="355"/>
                </a:lnTo>
                <a:lnTo>
                  <a:pt x="395" y="353"/>
                </a:lnTo>
                <a:lnTo>
                  <a:pt x="391" y="351"/>
                </a:lnTo>
                <a:lnTo>
                  <a:pt x="387" y="349"/>
                </a:lnTo>
                <a:lnTo>
                  <a:pt x="382" y="346"/>
                </a:lnTo>
                <a:lnTo>
                  <a:pt x="376" y="344"/>
                </a:lnTo>
                <a:lnTo>
                  <a:pt x="370" y="340"/>
                </a:lnTo>
                <a:lnTo>
                  <a:pt x="364" y="334"/>
                </a:lnTo>
                <a:lnTo>
                  <a:pt x="357" y="330"/>
                </a:lnTo>
                <a:lnTo>
                  <a:pt x="349" y="324"/>
                </a:lnTo>
                <a:lnTo>
                  <a:pt x="341" y="317"/>
                </a:lnTo>
                <a:lnTo>
                  <a:pt x="332" y="311"/>
                </a:lnTo>
                <a:lnTo>
                  <a:pt x="322" y="303"/>
                </a:lnTo>
                <a:lnTo>
                  <a:pt x="313" y="294"/>
                </a:lnTo>
                <a:lnTo>
                  <a:pt x="303" y="286"/>
                </a:lnTo>
                <a:lnTo>
                  <a:pt x="291" y="276"/>
                </a:lnTo>
                <a:lnTo>
                  <a:pt x="280" y="267"/>
                </a:lnTo>
                <a:lnTo>
                  <a:pt x="268" y="255"/>
                </a:lnTo>
                <a:lnTo>
                  <a:pt x="255" y="244"/>
                </a:lnTo>
                <a:lnTo>
                  <a:pt x="242" y="232"/>
                </a:lnTo>
                <a:lnTo>
                  <a:pt x="228" y="219"/>
                </a:lnTo>
                <a:lnTo>
                  <a:pt x="215" y="207"/>
                </a:lnTo>
                <a:lnTo>
                  <a:pt x="199" y="192"/>
                </a:lnTo>
                <a:lnTo>
                  <a:pt x="184" y="179"/>
                </a:lnTo>
                <a:lnTo>
                  <a:pt x="169" y="163"/>
                </a:lnTo>
                <a:lnTo>
                  <a:pt x="151" y="148"/>
                </a:lnTo>
                <a:lnTo>
                  <a:pt x="136" y="131"/>
                </a:lnTo>
                <a:lnTo>
                  <a:pt x="117" y="115"/>
                </a:lnTo>
                <a:lnTo>
                  <a:pt x="99" y="96"/>
                </a:lnTo>
                <a:lnTo>
                  <a:pt x="80" y="79"/>
                </a:lnTo>
                <a:lnTo>
                  <a:pt x="61" y="60"/>
                </a:lnTo>
                <a:lnTo>
                  <a:pt x="42" y="40"/>
                </a:lnTo>
                <a:lnTo>
                  <a:pt x="21" y="2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25"/>
          <p:cNvSpPr/>
          <p:nvPr/>
        </p:nvSpPr>
        <p:spPr>
          <a:xfrm>
            <a:off x="5892840" y="3078000"/>
            <a:ext cx="446040" cy="1236960"/>
          </a:xfrm>
          <a:custGeom>
            <a:avLst/>
            <a:gdLst/>
            <a:ahLst/>
            <a:rect l="l" t="t" r="r" b="b"/>
            <a:pathLst>
              <a:path w="563" h="1559">
                <a:moveTo>
                  <a:pt x="373" y="79"/>
                </a:moveTo>
                <a:lnTo>
                  <a:pt x="363" y="73"/>
                </a:lnTo>
                <a:lnTo>
                  <a:pt x="355" y="69"/>
                </a:lnTo>
                <a:lnTo>
                  <a:pt x="350" y="64"/>
                </a:lnTo>
                <a:lnTo>
                  <a:pt x="346" y="58"/>
                </a:lnTo>
                <a:lnTo>
                  <a:pt x="342" y="50"/>
                </a:lnTo>
                <a:lnTo>
                  <a:pt x="342" y="48"/>
                </a:lnTo>
                <a:lnTo>
                  <a:pt x="342" y="44"/>
                </a:lnTo>
                <a:lnTo>
                  <a:pt x="342" y="41"/>
                </a:lnTo>
                <a:lnTo>
                  <a:pt x="344" y="35"/>
                </a:lnTo>
                <a:lnTo>
                  <a:pt x="344" y="31"/>
                </a:lnTo>
                <a:lnTo>
                  <a:pt x="348" y="27"/>
                </a:lnTo>
                <a:lnTo>
                  <a:pt x="352" y="21"/>
                </a:lnTo>
                <a:lnTo>
                  <a:pt x="357" y="17"/>
                </a:lnTo>
                <a:lnTo>
                  <a:pt x="363" y="12"/>
                </a:lnTo>
                <a:lnTo>
                  <a:pt x="369" y="8"/>
                </a:lnTo>
                <a:lnTo>
                  <a:pt x="377" y="6"/>
                </a:lnTo>
                <a:lnTo>
                  <a:pt x="386" y="2"/>
                </a:lnTo>
                <a:lnTo>
                  <a:pt x="392" y="2"/>
                </a:lnTo>
                <a:lnTo>
                  <a:pt x="398" y="0"/>
                </a:lnTo>
                <a:lnTo>
                  <a:pt x="403" y="0"/>
                </a:lnTo>
                <a:lnTo>
                  <a:pt x="411" y="0"/>
                </a:lnTo>
                <a:lnTo>
                  <a:pt x="425" y="0"/>
                </a:lnTo>
                <a:lnTo>
                  <a:pt x="436" y="0"/>
                </a:lnTo>
                <a:lnTo>
                  <a:pt x="450" y="0"/>
                </a:lnTo>
                <a:lnTo>
                  <a:pt x="461" y="2"/>
                </a:lnTo>
                <a:lnTo>
                  <a:pt x="473" y="4"/>
                </a:lnTo>
                <a:lnTo>
                  <a:pt x="486" y="6"/>
                </a:lnTo>
                <a:lnTo>
                  <a:pt x="498" y="8"/>
                </a:lnTo>
                <a:lnTo>
                  <a:pt x="513" y="14"/>
                </a:lnTo>
                <a:lnTo>
                  <a:pt x="519" y="16"/>
                </a:lnTo>
                <a:lnTo>
                  <a:pt x="524" y="19"/>
                </a:lnTo>
                <a:lnTo>
                  <a:pt x="530" y="23"/>
                </a:lnTo>
                <a:lnTo>
                  <a:pt x="536" y="29"/>
                </a:lnTo>
                <a:lnTo>
                  <a:pt x="542" y="35"/>
                </a:lnTo>
                <a:lnTo>
                  <a:pt x="546" y="41"/>
                </a:lnTo>
                <a:lnTo>
                  <a:pt x="549" y="48"/>
                </a:lnTo>
                <a:lnTo>
                  <a:pt x="551" y="56"/>
                </a:lnTo>
                <a:lnTo>
                  <a:pt x="555" y="65"/>
                </a:lnTo>
                <a:lnTo>
                  <a:pt x="557" y="75"/>
                </a:lnTo>
                <a:lnTo>
                  <a:pt x="559" y="87"/>
                </a:lnTo>
                <a:lnTo>
                  <a:pt x="561" y="98"/>
                </a:lnTo>
                <a:lnTo>
                  <a:pt x="563" y="112"/>
                </a:lnTo>
                <a:lnTo>
                  <a:pt x="563" y="125"/>
                </a:lnTo>
                <a:lnTo>
                  <a:pt x="563" y="140"/>
                </a:lnTo>
                <a:lnTo>
                  <a:pt x="563" y="158"/>
                </a:lnTo>
                <a:lnTo>
                  <a:pt x="561" y="175"/>
                </a:lnTo>
                <a:lnTo>
                  <a:pt x="559" y="192"/>
                </a:lnTo>
                <a:lnTo>
                  <a:pt x="557" y="211"/>
                </a:lnTo>
                <a:lnTo>
                  <a:pt x="555" y="231"/>
                </a:lnTo>
                <a:lnTo>
                  <a:pt x="555" y="250"/>
                </a:lnTo>
                <a:lnTo>
                  <a:pt x="553" y="271"/>
                </a:lnTo>
                <a:lnTo>
                  <a:pt x="553" y="292"/>
                </a:lnTo>
                <a:lnTo>
                  <a:pt x="551" y="313"/>
                </a:lnTo>
                <a:lnTo>
                  <a:pt x="551" y="355"/>
                </a:lnTo>
                <a:lnTo>
                  <a:pt x="551" y="401"/>
                </a:lnTo>
                <a:lnTo>
                  <a:pt x="551" y="449"/>
                </a:lnTo>
                <a:lnTo>
                  <a:pt x="551" y="497"/>
                </a:lnTo>
                <a:lnTo>
                  <a:pt x="546" y="551"/>
                </a:lnTo>
                <a:lnTo>
                  <a:pt x="538" y="607"/>
                </a:lnTo>
                <a:lnTo>
                  <a:pt x="530" y="664"/>
                </a:lnTo>
                <a:lnTo>
                  <a:pt x="521" y="724"/>
                </a:lnTo>
                <a:lnTo>
                  <a:pt x="515" y="755"/>
                </a:lnTo>
                <a:lnTo>
                  <a:pt x="507" y="785"/>
                </a:lnTo>
                <a:lnTo>
                  <a:pt x="501" y="816"/>
                </a:lnTo>
                <a:lnTo>
                  <a:pt x="494" y="849"/>
                </a:lnTo>
                <a:lnTo>
                  <a:pt x="486" y="879"/>
                </a:lnTo>
                <a:lnTo>
                  <a:pt x="478" y="914"/>
                </a:lnTo>
                <a:lnTo>
                  <a:pt x="471" y="947"/>
                </a:lnTo>
                <a:lnTo>
                  <a:pt x="461" y="981"/>
                </a:lnTo>
                <a:lnTo>
                  <a:pt x="451" y="1018"/>
                </a:lnTo>
                <a:lnTo>
                  <a:pt x="440" y="1052"/>
                </a:lnTo>
                <a:lnTo>
                  <a:pt x="428" y="1085"/>
                </a:lnTo>
                <a:lnTo>
                  <a:pt x="417" y="1117"/>
                </a:lnTo>
                <a:lnTo>
                  <a:pt x="403" y="1148"/>
                </a:lnTo>
                <a:lnTo>
                  <a:pt x="388" y="1179"/>
                </a:lnTo>
                <a:lnTo>
                  <a:pt x="373" y="1208"/>
                </a:lnTo>
                <a:lnTo>
                  <a:pt x="357" y="1234"/>
                </a:lnTo>
                <a:lnTo>
                  <a:pt x="342" y="1261"/>
                </a:lnTo>
                <a:lnTo>
                  <a:pt x="325" y="1286"/>
                </a:lnTo>
                <a:lnTo>
                  <a:pt x="306" y="1311"/>
                </a:lnTo>
                <a:lnTo>
                  <a:pt x="288" y="1332"/>
                </a:lnTo>
                <a:lnTo>
                  <a:pt x="269" y="1355"/>
                </a:lnTo>
                <a:lnTo>
                  <a:pt x="248" y="1375"/>
                </a:lnTo>
                <a:lnTo>
                  <a:pt x="227" y="1394"/>
                </a:lnTo>
                <a:lnTo>
                  <a:pt x="208" y="1413"/>
                </a:lnTo>
                <a:lnTo>
                  <a:pt x="185" y="1432"/>
                </a:lnTo>
                <a:lnTo>
                  <a:pt x="162" y="1449"/>
                </a:lnTo>
                <a:lnTo>
                  <a:pt x="142" y="1467"/>
                </a:lnTo>
                <a:lnTo>
                  <a:pt x="123" y="1480"/>
                </a:lnTo>
                <a:lnTo>
                  <a:pt x="106" y="1495"/>
                </a:lnTo>
                <a:lnTo>
                  <a:pt x="91" y="1507"/>
                </a:lnTo>
                <a:lnTo>
                  <a:pt x="75" y="1519"/>
                </a:lnTo>
                <a:lnTo>
                  <a:pt x="62" y="1528"/>
                </a:lnTo>
                <a:lnTo>
                  <a:pt x="50" y="1538"/>
                </a:lnTo>
                <a:lnTo>
                  <a:pt x="41" y="1543"/>
                </a:lnTo>
                <a:lnTo>
                  <a:pt x="31" y="1549"/>
                </a:lnTo>
                <a:lnTo>
                  <a:pt x="23" y="1553"/>
                </a:lnTo>
                <a:lnTo>
                  <a:pt x="16" y="1557"/>
                </a:lnTo>
                <a:lnTo>
                  <a:pt x="10" y="1559"/>
                </a:lnTo>
                <a:lnTo>
                  <a:pt x="6" y="1557"/>
                </a:lnTo>
                <a:lnTo>
                  <a:pt x="4" y="1557"/>
                </a:lnTo>
                <a:lnTo>
                  <a:pt x="0" y="1553"/>
                </a:lnTo>
                <a:lnTo>
                  <a:pt x="0" y="1549"/>
                </a:lnTo>
                <a:lnTo>
                  <a:pt x="0" y="1545"/>
                </a:lnTo>
                <a:lnTo>
                  <a:pt x="0" y="1542"/>
                </a:lnTo>
                <a:lnTo>
                  <a:pt x="2" y="1536"/>
                </a:lnTo>
                <a:lnTo>
                  <a:pt x="4" y="1530"/>
                </a:lnTo>
                <a:lnTo>
                  <a:pt x="8" y="1522"/>
                </a:lnTo>
                <a:lnTo>
                  <a:pt x="14" y="1515"/>
                </a:lnTo>
                <a:lnTo>
                  <a:pt x="18" y="1507"/>
                </a:lnTo>
                <a:lnTo>
                  <a:pt x="25" y="1497"/>
                </a:lnTo>
                <a:lnTo>
                  <a:pt x="31" y="1488"/>
                </a:lnTo>
                <a:lnTo>
                  <a:pt x="39" y="1476"/>
                </a:lnTo>
                <a:lnTo>
                  <a:pt x="48" y="1465"/>
                </a:lnTo>
                <a:lnTo>
                  <a:pt x="58" y="1453"/>
                </a:lnTo>
                <a:lnTo>
                  <a:pt x="68" y="1440"/>
                </a:lnTo>
                <a:lnTo>
                  <a:pt x="79" y="1426"/>
                </a:lnTo>
                <a:lnTo>
                  <a:pt x="104" y="1396"/>
                </a:lnTo>
                <a:lnTo>
                  <a:pt x="127" y="1365"/>
                </a:lnTo>
                <a:lnTo>
                  <a:pt x="150" y="1332"/>
                </a:lnTo>
                <a:lnTo>
                  <a:pt x="173" y="1300"/>
                </a:lnTo>
                <a:lnTo>
                  <a:pt x="196" y="1265"/>
                </a:lnTo>
                <a:lnTo>
                  <a:pt x="217" y="1233"/>
                </a:lnTo>
                <a:lnTo>
                  <a:pt x="238" y="1198"/>
                </a:lnTo>
                <a:lnTo>
                  <a:pt x="258" y="1163"/>
                </a:lnTo>
                <a:lnTo>
                  <a:pt x="265" y="1146"/>
                </a:lnTo>
                <a:lnTo>
                  <a:pt x="271" y="1129"/>
                </a:lnTo>
                <a:lnTo>
                  <a:pt x="279" y="1110"/>
                </a:lnTo>
                <a:lnTo>
                  <a:pt x="286" y="1090"/>
                </a:lnTo>
                <a:lnTo>
                  <a:pt x="294" y="1069"/>
                </a:lnTo>
                <a:lnTo>
                  <a:pt x="300" y="1048"/>
                </a:lnTo>
                <a:lnTo>
                  <a:pt x="307" y="1027"/>
                </a:lnTo>
                <a:lnTo>
                  <a:pt x="315" y="1006"/>
                </a:lnTo>
                <a:lnTo>
                  <a:pt x="323" y="983"/>
                </a:lnTo>
                <a:lnTo>
                  <a:pt x="329" y="958"/>
                </a:lnTo>
                <a:lnTo>
                  <a:pt x="336" y="933"/>
                </a:lnTo>
                <a:lnTo>
                  <a:pt x="344" y="908"/>
                </a:lnTo>
                <a:lnTo>
                  <a:pt x="352" y="881"/>
                </a:lnTo>
                <a:lnTo>
                  <a:pt x="357" y="854"/>
                </a:lnTo>
                <a:lnTo>
                  <a:pt x="365" y="828"/>
                </a:lnTo>
                <a:lnTo>
                  <a:pt x="373" y="799"/>
                </a:lnTo>
                <a:lnTo>
                  <a:pt x="379" y="768"/>
                </a:lnTo>
                <a:lnTo>
                  <a:pt x="386" y="739"/>
                </a:lnTo>
                <a:lnTo>
                  <a:pt x="390" y="710"/>
                </a:lnTo>
                <a:lnTo>
                  <a:pt x="396" y="680"/>
                </a:lnTo>
                <a:lnTo>
                  <a:pt x="402" y="651"/>
                </a:lnTo>
                <a:lnTo>
                  <a:pt x="405" y="622"/>
                </a:lnTo>
                <a:lnTo>
                  <a:pt x="411" y="563"/>
                </a:lnTo>
                <a:lnTo>
                  <a:pt x="417" y="503"/>
                </a:lnTo>
                <a:lnTo>
                  <a:pt x="421" y="446"/>
                </a:lnTo>
                <a:lnTo>
                  <a:pt x="423" y="386"/>
                </a:lnTo>
                <a:lnTo>
                  <a:pt x="423" y="327"/>
                </a:lnTo>
                <a:lnTo>
                  <a:pt x="421" y="298"/>
                </a:lnTo>
                <a:lnTo>
                  <a:pt x="419" y="273"/>
                </a:lnTo>
                <a:lnTo>
                  <a:pt x="417" y="248"/>
                </a:lnTo>
                <a:lnTo>
                  <a:pt x="413" y="225"/>
                </a:lnTo>
                <a:lnTo>
                  <a:pt x="411" y="202"/>
                </a:lnTo>
                <a:lnTo>
                  <a:pt x="407" y="183"/>
                </a:lnTo>
                <a:lnTo>
                  <a:pt x="405" y="165"/>
                </a:lnTo>
                <a:lnTo>
                  <a:pt x="402" y="148"/>
                </a:lnTo>
                <a:lnTo>
                  <a:pt x="400" y="135"/>
                </a:lnTo>
                <a:lnTo>
                  <a:pt x="396" y="121"/>
                </a:lnTo>
                <a:lnTo>
                  <a:pt x="392" y="110"/>
                </a:lnTo>
                <a:lnTo>
                  <a:pt x="388" y="100"/>
                </a:lnTo>
                <a:lnTo>
                  <a:pt x="384" y="92"/>
                </a:lnTo>
                <a:lnTo>
                  <a:pt x="380" y="87"/>
                </a:lnTo>
                <a:lnTo>
                  <a:pt x="377" y="81"/>
                </a:lnTo>
                <a:lnTo>
                  <a:pt x="373" y="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26"/>
          <p:cNvSpPr/>
          <p:nvPr/>
        </p:nvSpPr>
        <p:spPr>
          <a:xfrm>
            <a:off x="6027840" y="2766960"/>
            <a:ext cx="574560" cy="1014480"/>
          </a:xfrm>
          <a:custGeom>
            <a:avLst/>
            <a:gdLst/>
            <a:ahLst/>
            <a:rect l="l" t="t" r="r" b="b"/>
            <a:pathLst>
              <a:path w="726" h="1276">
                <a:moveTo>
                  <a:pt x="674" y="718"/>
                </a:moveTo>
                <a:lnTo>
                  <a:pt x="674" y="746"/>
                </a:lnTo>
                <a:lnTo>
                  <a:pt x="674" y="775"/>
                </a:lnTo>
                <a:lnTo>
                  <a:pt x="674" y="802"/>
                </a:lnTo>
                <a:lnTo>
                  <a:pt x="674" y="829"/>
                </a:lnTo>
                <a:lnTo>
                  <a:pt x="674" y="856"/>
                </a:lnTo>
                <a:lnTo>
                  <a:pt x="672" y="881"/>
                </a:lnTo>
                <a:lnTo>
                  <a:pt x="672" y="906"/>
                </a:lnTo>
                <a:lnTo>
                  <a:pt x="672" y="929"/>
                </a:lnTo>
                <a:lnTo>
                  <a:pt x="670" y="952"/>
                </a:lnTo>
                <a:lnTo>
                  <a:pt x="670" y="973"/>
                </a:lnTo>
                <a:lnTo>
                  <a:pt x="670" y="994"/>
                </a:lnTo>
                <a:lnTo>
                  <a:pt x="668" y="1015"/>
                </a:lnTo>
                <a:lnTo>
                  <a:pt x="668" y="1034"/>
                </a:lnTo>
                <a:lnTo>
                  <a:pt x="666" y="1053"/>
                </a:lnTo>
                <a:lnTo>
                  <a:pt x="666" y="1073"/>
                </a:lnTo>
                <a:lnTo>
                  <a:pt x="664" y="1090"/>
                </a:lnTo>
                <a:lnTo>
                  <a:pt x="662" y="1105"/>
                </a:lnTo>
                <a:lnTo>
                  <a:pt x="662" y="1121"/>
                </a:lnTo>
                <a:lnTo>
                  <a:pt x="661" y="1136"/>
                </a:lnTo>
                <a:lnTo>
                  <a:pt x="659" y="1149"/>
                </a:lnTo>
                <a:lnTo>
                  <a:pt x="657" y="1163"/>
                </a:lnTo>
                <a:lnTo>
                  <a:pt x="657" y="1176"/>
                </a:lnTo>
                <a:lnTo>
                  <a:pt x="655" y="1188"/>
                </a:lnTo>
                <a:lnTo>
                  <a:pt x="653" y="1197"/>
                </a:lnTo>
                <a:lnTo>
                  <a:pt x="651" y="1207"/>
                </a:lnTo>
                <a:lnTo>
                  <a:pt x="649" y="1217"/>
                </a:lnTo>
                <a:lnTo>
                  <a:pt x="647" y="1224"/>
                </a:lnTo>
                <a:lnTo>
                  <a:pt x="645" y="1232"/>
                </a:lnTo>
                <a:lnTo>
                  <a:pt x="643" y="1240"/>
                </a:lnTo>
                <a:lnTo>
                  <a:pt x="639" y="1245"/>
                </a:lnTo>
                <a:lnTo>
                  <a:pt x="638" y="1249"/>
                </a:lnTo>
                <a:lnTo>
                  <a:pt x="636" y="1255"/>
                </a:lnTo>
                <a:lnTo>
                  <a:pt x="632" y="1261"/>
                </a:lnTo>
                <a:lnTo>
                  <a:pt x="626" y="1266"/>
                </a:lnTo>
                <a:lnTo>
                  <a:pt x="622" y="1270"/>
                </a:lnTo>
                <a:lnTo>
                  <a:pt x="616" y="1274"/>
                </a:lnTo>
                <a:lnTo>
                  <a:pt x="613" y="1276"/>
                </a:lnTo>
                <a:lnTo>
                  <a:pt x="607" y="1276"/>
                </a:lnTo>
                <a:lnTo>
                  <a:pt x="603" y="1276"/>
                </a:lnTo>
                <a:lnTo>
                  <a:pt x="597" y="1274"/>
                </a:lnTo>
                <a:lnTo>
                  <a:pt x="593" y="1270"/>
                </a:lnTo>
                <a:lnTo>
                  <a:pt x="588" y="1266"/>
                </a:lnTo>
                <a:lnTo>
                  <a:pt x="584" y="1261"/>
                </a:lnTo>
                <a:lnTo>
                  <a:pt x="578" y="1255"/>
                </a:lnTo>
                <a:lnTo>
                  <a:pt x="574" y="1245"/>
                </a:lnTo>
                <a:lnTo>
                  <a:pt x="568" y="1238"/>
                </a:lnTo>
                <a:lnTo>
                  <a:pt x="565" y="1226"/>
                </a:lnTo>
                <a:lnTo>
                  <a:pt x="559" y="1215"/>
                </a:lnTo>
                <a:lnTo>
                  <a:pt x="555" y="1201"/>
                </a:lnTo>
                <a:lnTo>
                  <a:pt x="551" y="1188"/>
                </a:lnTo>
                <a:lnTo>
                  <a:pt x="547" y="1174"/>
                </a:lnTo>
                <a:lnTo>
                  <a:pt x="545" y="1157"/>
                </a:lnTo>
                <a:lnTo>
                  <a:pt x="543" y="1142"/>
                </a:lnTo>
                <a:lnTo>
                  <a:pt x="542" y="1123"/>
                </a:lnTo>
                <a:lnTo>
                  <a:pt x="540" y="1103"/>
                </a:lnTo>
                <a:lnTo>
                  <a:pt x="540" y="1084"/>
                </a:lnTo>
                <a:lnTo>
                  <a:pt x="540" y="1063"/>
                </a:lnTo>
                <a:lnTo>
                  <a:pt x="540" y="1040"/>
                </a:lnTo>
                <a:lnTo>
                  <a:pt x="540" y="1015"/>
                </a:lnTo>
                <a:lnTo>
                  <a:pt x="540" y="990"/>
                </a:lnTo>
                <a:lnTo>
                  <a:pt x="542" y="963"/>
                </a:lnTo>
                <a:lnTo>
                  <a:pt x="543" y="936"/>
                </a:lnTo>
                <a:lnTo>
                  <a:pt x="545" y="906"/>
                </a:lnTo>
                <a:lnTo>
                  <a:pt x="547" y="875"/>
                </a:lnTo>
                <a:lnTo>
                  <a:pt x="549" y="844"/>
                </a:lnTo>
                <a:lnTo>
                  <a:pt x="551" y="814"/>
                </a:lnTo>
                <a:lnTo>
                  <a:pt x="553" y="785"/>
                </a:lnTo>
                <a:lnTo>
                  <a:pt x="555" y="758"/>
                </a:lnTo>
                <a:lnTo>
                  <a:pt x="555" y="731"/>
                </a:lnTo>
                <a:lnTo>
                  <a:pt x="557" y="704"/>
                </a:lnTo>
                <a:lnTo>
                  <a:pt x="557" y="679"/>
                </a:lnTo>
                <a:lnTo>
                  <a:pt x="557" y="656"/>
                </a:lnTo>
                <a:lnTo>
                  <a:pt x="559" y="633"/>
                </a:lnTo>
                <a:lnTo>
                  <a:pt x="559" y="612"/>
                </a:lnTo>
                <a:lnTo>
                  <a:pt x="559" y="591"/>
                </a:lnTo>
                <a:lnTo>
                  <a:pt x="559" y="570"/>
                </a:lnTo>
                <a:lnTo>
                  <a:pt x="559" y="551"/>
                </a:lnTo>
                <a:lnTo>
                  <a:pt x="559" y="531"/>
                </a:lnTo>
                <a:lnTo>
                  <a:pt x="559" y="514"/>
                </a:lnTo>
                <a:lnTo>
                  <a:pt x="559" y="497"/>
                </a:lnTo>
                <a:lnTo>
                  <a:pt x="559" y="480"/>
                </a:lnTo>
                <a:lnTo>
                  <a:pt x="559" y="462"/>
                </a:lnTo>
                <a:lnTo>
                  <a:pt x="559" y="447"/>
                </a:lnTo>
                <a:lnTo>
                  <a:pt x="559" y="432"/>
                </a:lnTo>
                <a:lnTo>
                  <a:pt x="559" y="403"/>
                </a:lnTo>
                <a:lnTo>
                  <a:pt x="557" y="374"/>
                </a:lnTo>
                <a:lnTo>
                  <a:pt x="557" y="349"/>
                </a:lnTo>
                <a:lnTo>
                  <a:pt x="555" y="322"/>
                </a:lnTo>
                <a:lnTo>
                  <a:pt x="551" y="299"/>
                </a:lnTo>
                <a:lnTo>
                  <a:pt x="547" y="274"/>
                </a:lnTo>
                <a:lnTo>
                  <a:pt x="545" y="263"/>
                </a:lnTo>
                <a:lnTo>
                  <a:pt x="542" y="251"/>
                </a:lnTo>
                <a:lnTo>
                  <a:pt x="540" y="242"/>
                </a:lnTo>
                <a:lnTo>
                  <a:pt x="538" y="232"/>
                </a:lnTo>
                <a:lnTo>
                  <a:pt x="534" y="222"/>
                </a:lnTo>
                <a:lnTo>
                  <a:pt x="532" y="215"/>
                </a:lnTo>
                <a:lnTo>
                  <a:pt x="528" y="209"/>
                </a:lnTo>
                <a:lnTo>
                  <a:pt x="526" y="201"/>
                </a:lnTo>
                <a:lnTo>
                  <a:pt x="522" y="195"/>
                </a:lnTo>
                <a:lnTo>
                  <a:pt x="520" y="192"/>
                </a:lnTo>
                <a:lnTo>
                  <a:pt x="517" y="186"/>
                </a:lnTo>
                <a:lnTo>
                  <a:pt x="513" y="182"/>
                </a:lnTo>
                <a:lnTo>
                  <a:pt x="505" y="174"/>
                </a:lnTo>
                <a:lnTo>
                  <a:pt x="496" y="169"/>
                </a:lnTo>
                <a:lnTo>
                  <a:pt x="494" y="169"/>
                </a:lnTo>
                <a:lnTo>
                  <a:pt x="490" y="167"/>
                </a:lnTo>
                <a:lnTo>
                  <a:pt x="486" y="167"/>
                </a:lnTo>
                <a:lnTo>
                  <a:pt x="480" y="167"/>
                </a:lnTo>
                <a:lnTo>
                  <a:pt x="474" y="165"/>
                </a:lnTo>
                <a:lnTo>
                  <a:pt x="467" y="165"/>
                </a:lnTo>
                <a:lnTo>
                  <a:pt x="459" y="165"/>
                </a:lnTo>
                <a:lnTo>
                  <a:pt x="451" y="167"/>
                </a:lnTo>
                <a:lnTo>
                  <a:pt x="442" y="167"/>
                </a:lnTo>
                <a:lnTo>
                  <a:pt x="430" y="167"/>
                </a:lnTo>
                <a:lnTo>
                  <a:pt x="421" y="169"/>
                </a:lnTo>
                <a:lnTo>
                  <a:pt x="409" y="169"/>
                </a:lnTo>
                <a:lnTo>
                  <a:pt x="396" y="170"/>
                </a:lnTo>
                <a:lnTo>
                  <a:pt x="382" y="172"/>
                </a:lnTo>
                <a:lnTo>
                  <a:pt x="369" y="172"/>
                </a:lnTo>
                <a:lnTo>
                  <a:pt x="353" y="174"/>
                </a:lnTo>
                <a:lnTo>
                  <a:pt x="336" y="176"/>
                </a:lnTo>
                <a:lnTo>
                  <a:pt x="321" y="178"/>
                </a:lnTo>
                <a:lnTo>
                  <a:pt x="302" y="182"/>
                </a:lnTo>
                <a:lnTo>
                  <a:pt x="284" y="184"/>
                </a:lnTo>
                <a:lnTo>
                  <a:pt x="265" y="186"/>
                </a:lnTo>
                <a:lnTo>
                  <a:pt x="244" y="188"/>
                </a:lnTo>
                <a:lnTo>
                  <a:pt x="225" y="192"/>
                </a:lnTo>
                <a:lnTo>
                  <a:pt x="202" y="194"/>
                </a:lnTo>
                <a:lnTo>
                  <a:pt x="181" y="197"/>
                </a:lnTo>
                <a:lnTo>
                  <a:pt x="156" y="201"/>
                </a:lnTo>
                <a:lnTo>
                  <a:pt x="133" y="203"/>
                </a:lnTo>
                <a:lnTo>
                  <a:pt x="108" y="207"/>
                </a:lnTo>
                <a:lnTo>
                  <a:pt x="81" y="211"/>
                </a:lnTo>
                <a:lnTo>
                  <a:pt x="56" y="215"/>
                </a:lnTo>
                <a:lnTo>
                  <a:pt x="27" y="218"/>
                </a:lnTo>
                <a:lnTo>
                  <a:pt x="0" y="222"/>
                </a:lnTo>
                <a:lnTo>
                  <a:pt x="12" y="163"/>
                </a:lnTo>
                <a:lnTo>
                  <a:pt x="25" y="103"/>
                </a:lnTo>
                <a:lnTo>
                  <a:pt x="58" y="103"/>
                </a:lnTo>
                <a:lnTo>
                  <a:pt x="92" y="101"/>
                </a:lnTo>
                <a:lnTo>
                  <a:pt x="125" y="99"/>
                </a:lnTo>
                <a:lnTo>
                  <a:pt x="158" y="96"/>
                </a:lnTo>
                <a:lnTo>
                  <a:pt x="192" y="92"/>
                </a:lnTo>
                <a:lnTo>
                  <a:pt x="225" y="88"/>
                </a:lnTo>
                <a:lnTo>
                  <a:pt x="292" y="78"/>
                </a:lnTo>
                <a:lnTo>
                  <a:pt x="309" y="75"/>
                </a:lnTo>
                <a:lnTo>
                  <a:pt x="325" y="73"/>
                </a:lnTo>
                <a:lnTo>
                  <a:pt x="340" y="69"/>
                </a:lnTo>
                <a:lnTo>
                  <a:pt x="353" y="65"/>
                </a:lnTo>
                <a:lnTo>
                  <a:pt x="369" y="63"/>
                </a:lnTo>
                <a:lnTo>
                  <a:pt x="380" y="59"/>
                </a:lnTo>
                <a:lnTo>
                  <a:pt x="394" y="55"/>
                </a:lnTo>
                <a:lnTo>
                  <a:pt x="405" y="51"/>
                </a:lnTo>
                <a:lnTo>
                  <a:pt x="417" y="48"/>
                </a:lnTo>
                <a:lnTo>
                  <a:pt x="426" y="44"/>
                </a:lnTo>
                <a:lnTo>
                  <a:pt x="436" y="40"/>
                </a:lnTo>
                <a:lnTo>
                  <a:pt x="444" y="36"/>
                </a:lnTo>
                <a:lnTo>
                  <a:pt x="453" y="34"/>
                </a:lnTo>
                <a:lnTo>
                  <a:pt x="459" y="30"/>
                </a:lnTo>
                <a:lnTo>
                  <a:pt x="465" y="28"/>
                </a:lnTo>
                <a:lnTo>
                  <a:pt x="471" y="25"/>
                </a:lnTo>
                <a:lnTo>
                  <a:pt x="490" y="15"/>
                </a:lnTo>
                <a:lnTo>
                  <a:pt x="499" y="11"/>
                </a:lnTo>
                <a:lnTo>
                  <a:pt x="509" y="7"/>
                </a:lnTo>
                <a:lnTo>
                  <a:pt x="519" y="3"/>
                </a:lnTo>
                <a:lnTo>
                  <a:pt x="528" y="2"/>
                </a:lnTo>
                <a:lnTo>
                  <a:pt x="538" y="0"/>
                </a:lnTo>
                <a:lnTo>
                  <a:pt x="547" y="0"/>
                </a:lnTo>
                <a:lnTo>
                  <a:pt x="549" y="2"/>
                </a:lnTo>
                <a:lnTo>
                  <a:pt x="553" y="3"/>
                </a:lnTo>
                <a:lnTo>
                  <a:pt x="557" y="7"/>
                </a:lnTo>
                <a:lnTo>
                  <a:pt x="561" y="9"/>
                </a:lnTo>
                <a:lnTo>
                  <a:pt x="567" y="11"/>
                </a:lnTo>
                <a:lnTo>
                  <a:pt x="570" y="15"/>
                </a:lnTo>
                <a:lnTo>
                  <a:pt x="576" y="17"/>
                </a:lnTo>
                <a:lnTo>
                  <a:pt x="584" y="21"/>
                </a:lnTo>
                <a:lnTo>
                  <a:pt x="597" y="27"/>
                </a:lnTo>
                <a:lnTo>
                  <a:pt x="613" y="34"/>
                </a:lnTo>
                <a:lnTo>
                  <a:pt x="630" y="42"/>
                </a:lnTo>
                <a:lnTo>
                  <a:pt x="649" y="51"/>
                </a:lnTo>
                <a:lnTo>
                  <a:pt x="659" y="59"/>
                </a:lnTo>
                <a:lnTo>
                  <a:pt x="666" y="65"/>
                </a:lnTo>
                <a:lnTo>
                  <a:pt x="674" y="73"/>
                </a:lnTo>
                <a:lnTo>
                  <a:pt x="682" y="78"/>
                </a:lnTo>
                <a:lnTo>
                  <a:pt x="689" y="84"/>
                </a:lnTo>
                <a:lnTo>
                  <a:pt x="695" y="90"/>
                </a:lnTo>
                <a:lnTo>
                  <a:pt x="701" y="96"/>
                </a:lnTo>
                <a:lnTo>
                  <a:pt x="705" y="101"/>
                </a:lnTo>
                <a:lnTo>
                  <a:pt x="710" y="105"/>
                </a:lnTo>
                <a:lnTo>
                  <a:pt x="714" y="109"/>
                </a:lnTo>
                <a:lnTo>
                  <a:pt x="718" y="113"/>
                </a:lnTo>
                <a:lnTo>
                  <a:pt x="720" y="117"/>
                </a:lnTo>
                <a:lnTo>
                  <a:pt x="722" y="121"/>
                </a:lnTo>
                <a:lnTo>
                  <a:pt x="724" y="124"/>
                </a:lnTo>
                <a:lnTo>
                  <a:pt x="724" y="126"/>
                </a:lnTo>
                <a:lnTo>
                  <a:pt x="726" y="130"/>
                </a:lnTo>
                <a:lnTo>
                  <a:pt x="724" y="140"/>
                </a:lnTo>
                <a:lnTo>
                  <a:pt x="722" y="149"/>
                </a:lnTo>
                <a:lnTo>
                  <a:pt x="720" y="159"/>
                </a:lnTo>
                <a:lnTo>
                  <a:pt x="716" y="169"/>
                </a:lnTo>
                <a:lnTo>
                  <a:pt x="712" y="178"/>
                </a:lnTo>
                <a:lnTo>
                  <a:pt x="709" y="188"/>
                </a:lnTo>
                <a:lnTo>
                  <a:pt x="699" y="209"/>
                </a:lnTo>
                <a:lnTo>
                  <a:pt x="699" y="211"/>
                </a:lnTo>
                <a:lnTo>
                  <a:pt x="697" y="215"/>
                </a:lnTo>
                <a:lnTo>
                  <a:pt x="695" y="220"/>
                </a:lnTo>
                <a:lnTo>
                  <a:pt x="695" y="224"/>
                </a:lnTo>
                <a:lnTo>
                  <a:pt x="693" y="232"/>
                </a:lnTo>
                <a:lnTo>
                  <a:pt x="693" y="238"/>
                </a:lnTo>
                <a:lnTo>
                  <a:pt x="691" y="245"/>
                </a:lnTo>
                <a:lnTo>
                  <a:pt x="689" y="255"/>
                </a:lnTo>
                <a:lnTo>
                  <a:pt x="689" y="265"/>
                </a:lnTo>
                <a:lnTo>
                  <a:pt x="687" y="274"/>
                </a:lnTo>
                <a:lnTo>
                  <a:pt x="687" y="286"/>
                </a:lnTo>
                <a:lnTo>
                  <a:pt x="686" y="299"/>
                </a:lnTo>
                <a:lnTo>
                  <a:pt x="686" y="311"/>
                </a:lnTo>
                <a:lnTo>
                  <a:pt x="684" y="326"/>
                </a:lnTo>
                <a:lnTo>
                  <a:pt x="684" y="339"/>
                </a:lnTo>
                <a:lnTo>
                  <a:pt x="682" y="355"/>
                </a:lnTo>
                <a:lnTo>
                  <a:pt x="682" y="372"/>
                </a:lnTo>
                <a:lnTo>
                  <a:pt x="680" y="389"/>
                </a:lnTo>
                <a:lnTo>
                  <a:pt x="680" y="407"/>
                </a:lnTo>
                <a:lnTo>
                  <a:pt x="678" y="426"/>
                </a:lnTo>
                <a:lnTo>
                  <a:pt x="678" y="445"/>
                </a:lnTo>
                <a:lnTo>
                  <a:pt x="678" y="466"/>
                </a:lnTo>
                <a:lnTo>
                  <a:pt x="676" y="487"/>
                </a:lnTo>
                <a:lnTo>
                  <a:pt x="676" y="510"/>
                </a:lnTo>
                <a:lnTo>
                  <a:pt x="676" y="533"/>
                </a:lnTo>
                <a:lnTo>
                  <a:pt x="676" y="556"/>
                </a:lnTo>
                <a:lnTo>
                  <a:pt x="674" y="581"/>
                </a:lnTo>
                <a:lnTo>
                  <a:pt x="674" y="606"/>
                </a:lnTo>
                <a:lnTo>
                  <a:pt x="674" y="633"/>
                </a:lnTo>
                <a:lnTo>
                  <a:pt x="674" y="660"/>
                </a:lnTo>
                <a:lnTo>
                  <a:pt x="674" y="689"/>
                </a:lnTo>
                <a:lnTo>
                  <a:pt x="674" y="7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27"/>
          <p:cNvSpPr/>
          <p:nvPr/>
        </p:nvSpPr>
        <p:spPr>
          <a:xfrm>
            <a:off x="5948280" y="2843280"/>
            <a:ext cx="119160" cy="950760"/>
          </a:xfrm>
          <a:custGeom>
            <a:avLst/>
            <a:gdLst/>
            <a:ahLst/>
            <a:rect l="l" t="t" r="r" b="b"/>
            <a:pathLst>
              <a:path w="150" h="1197">
                <a:moveTo>
                  <a:pt x="10" y="113"/>
                </a:moveTo>
                <a:lnTo>
                  <a:pt x="6" y="98"/>
                </a:lnTo>
                <a:lnTo>
                  <a:pt x="4" y="86"/>
                </a:lnTo>
                <a:lnTo>
                  <a:pt x="2" y="73"/>
                </a:lnTo>
                <a:lnTo>
                  <a:pt x="0" y="61"/>
                </a:lnTo>
                <a:lnTo>
                  <a:pt x="2" y="51"/>
                </a:lnTo>
                <a:lnTo>
                  <a:pt x="4" y="40"/>
                </a:lnTo>
                <a:lnTo>
                  <a:pt x="6" y="30"/>
                </a:lnTo>
                <a:lnTo>
                  <a:pt x="10" y="21"/>
                </a:lnTo>
                <a:lnTo>
                  <a:pt x="14" y="17"/>
                </a:lnTo>
                <a:lnTo>
                  <a:pt x="16" y="11"/>
                </a:lnTo>
                <a:lnTo>
                  <a:pt x="20" y="9"/>
                </a:lnTo>
                <a:lnTo>
                  <a:pt x="25" y="5"/>
                </a:lnTo>
                <a:lnTo>
                  <a:pt x="31" y="3"/>
                </a:lnTo>
                <a:lnTo>
                  <a:pt x="37" y="2"/>
                </a:lnTo>
                <a:lnTo>
                  <a:pt x="45" y="0"/>
                </a:lnTo>
                <a:lnTo>
                  <a:pt x="52" y="0"/>
                </a:lnTo>
                <a:lnTo>
                  <a:pt x="60" y="0"/>
                </a:lnTo>
                <a:lnTo>
                  <a:pt x="70" y="0"/>
                </a:lnTo>
                <a:lnTo>
                  <a:pt x="81" y="0"/>
                </a:lnTo>
                <a:lnTo>
                  <a:pt x="93" y="0"/>
                </a:lnTo>
                <a:lnTo>
                  <a:pt x="106" y="2"/>
                </a:lnTo>
                <a:lnTo>
                  <a:pt x="119" y="3"/>
                </a:lnTo>
                <a:lnTo>
                  <a:pt x="135" y="5"/>
                </a:lnTo>
                <a:lnTo>
                  <a:pt x="150" y="7"/>
                </a:lnTo>
                <a:lnTo>
                  <a:pt x="150" y="42"/>
                </a:lnTo>
                <a:lnTo>
                  <a:pt x="150" y="74"/>
                </a:lnTo>
                <a:lnTo>
                  <a:pt x="150" y="107"/>
                </a:lnTo>
                <a:lnTo>
                  <a:pt x="150" y="138"/>
                </a:lnTo>
                <a:lnTo>
                  <a:pt x="150" y="170"/>
                </a:lnTo>
                <a:lnTo>
                  <a:pt x="150" y="201"/>
                </a:lnTo>
                <a:lnTo>
                  <a:pt x="150" y="232"/>
                </a:lnTo>
                <a:lnTo>
                  <a:pt x="150" y="261"/>
                </a:lnTo>
                <a:lnTo>
                  <a:pt x="150" y="291"/>
                </a:lnTo>
                <a:lnTo>
                  <a:pt x="150" y="320"/>
                </a:lnTo>
                <a:lnTo>
                  <a:pt x="150" y="349"/>
                </a:lnTo>
                <a:lnTo>
                  <a:pt x="150" y="376"/>
                </a:lnTo>
                <a:lnTo>
                  <a:pt x="150" y="405"/>
                </a:lnTo>
                <a:lnTo>
                  <a:pt x="150" y="432"/>
                </a:lnTo>
                <a:lnTo>
                  <a:pt x="150" y="456"/>
                </a:lnTo>
                <a:lnTo>
                  <a:pt x="150" y="483"/>
                </a:lnTo>
                <a:lnTo>
                  <a:pt x="150" y="508"/>
                </a:lnTo>
                <a:lnTo>
                  <a:pt x="150" y="533"/>
                </a:lnTo>
                <a:lnTo>
                  <a:pt x="150" y="558"/>
                </a:lnTo>
                <a:lnTo>
                  <a:pt x="150" y="583"/>
                </a:lnTo>
                <a:lnTo>
                  <a:pt x="150" y="606"/>
                </a:lnTo>
                <a:lnTo>
                  <a:pt x="150" y="629"/>
                </a:lnTo>
                <a:lnTo>
                  <a:pt x="150" y="650"/>
                </a:lnTo>
                <a:lnTo>
                  <a:pt x="150" y="673"/>
                </a:lnTo>
                <a:lnTo>
                  <a:pt x="150" y="694"/>
                </a:lnTo>
                <a:lnTo>
                  <a:pt x="150" y="716"/>
                </a:lnTo>
                <a:lnTo>
                  <a:pt x="150" y="737"/>
                </a:lnTo>
                <a:lnTo>
                  <a:pt x="148" y="756"/>
                </a:lnTo>
                <a:lnTo>
                  <a:pt x="148" y="775"/>
                </a:lnTo>
                <a:lnTo>
                  <a:pt x="148" y="794"/>
                </a:lnTo>
                <a:lnTo>
                  <a:pt x="148" y="813"/>
                </a:lnTo>
                <a:lnTo>
                  <a:pt x="148" y="831"/>
                </a:lnTo>
                <a:lnTo>
                  <a:pt x="148" y="848"/>
                </a:lnTo>
                <a:lnTo>
                  <a:pt x="148" y="865"/>
                </a:lnTo>
                <a:lnTo>
                  <a:pt x="148" y="883"/>
                </a:lnTo>
                <a:lnTo>
                  <a:pt x="148" y="898"/>
                </a:lnTo>
                <a:lnTo>
                  <a:pt x="148" y="913"/>
                </a:lnTo>
                <a:lnTo>
                  <a:pt x="148" y="929"/>
                </a:lnTo>
                <a:lnTo>
                  <a:pt x="148" y="944"/>
                </a:lnTo>
                <a:lnTo>
                  <a:pt x="146" y="957"/>
                </a:lnTo>
                <a:lnTo>
                  <a:pt x="146" y="971"/>
                </a:lnTo>
                <a:lnTo>
                  <a:pt x="146" y="984"/>
                </a:lnTo>
                <a:lnTo>
                  <a:pt x="146" y="996"/>
                </a:lnTo>
                <a:lnTo>
                  <a:pt x="146" y="1009"/>
                </a:lnTo>
                <a:lnTo>
                  <a:pt x="146" y="1021"/>
                </a:lnTo>
                <a:lnTo>
                  <a:pt x="146" y="1030"/>
                </a:lnTo>
                <a:lnTo>
                  <a:pt x="144" y="1042"/>
                </a:lnTo>
                <a:lnTo>
                  <a:pt x="144" y="1051"/>
                </a:lnTo>
                <a:lnTo>
                  <a:pt x="144" y="1061"/>
                </a:lnTo>
                <a:lnTo>
                  <a:pt x="144" y="1071"/>
                </a:lnTo>
                <a:lnTo>
                  <a:pt x="144" y="1078"/>
                </a:lnTo>
                <a:lnTo>
                  <a:pt x="143" y="1088"/>
                </a:lnTo>
                <a:lnTo>
                  <a:pt x="143" y="1096"/>
                </a:lnTo>
                <a:lnTo>
                  <a:pt x="143" y="1101"/>
                </a:lnTo>
                <a:lnTo>
                  <a:pt x="143" y="1109"/>
                </a:lnTo>
                <a:lnTo>
                  <a:pt x="143" y="1115"/>
                </a:lnTo>
                <a:lnTo>
                  <a:pt x="141" y="1121"/>
                </a:lnTo>
                <a:lnTo>
                  <a:pt x="141" y="1124"/>
                </a:lnTo>
                <a:lnTo>
                  <a:pt x="141" y="1130"/>
                </a:lnTo>
                <a:lnTo>
                  <a:pt x="141" y="1134"/>
                </a:lnTo>
                <a:lnTo>
                  <a:pt x="139" y="1138"/>
                </a:lnTo>
                <a:lnTo>
                  <a:pt x="139" y="1140"/>
                </a:lnTo>
                <a:lnTo>
                  <a:pt x="139" y="1144"/>
                </a:lnTo>
                <a:lnTo>
                  <a:pt x="137" y="1146"/>
                </a:lnTo>
                <a:lnTo>
                  <a:pt x="135" y="1151"/>
                </a:lnTo>
                <a:lnTo>
                  <a:pt x="133" y="1159"/>
                </a:lnTo>
                <a:lnTo>
                  <a:pt x="131" y="1165"/>
                </a:lnTo>
                <a:lnTo>
                  <a:pt x="129" y="1170"/>
                </a:lnTo>
                <a:lnTo>
                  <a:pt x="125" y="1174"/>
                </a:lnTo>
                <a:lnTo>
                  <a:pt x="123" y="1178"/>
                </a:lnTo>
                <a:lnTo>
                  <a:pt x="121" y="1182"/>
                </a:lnTo>
                <a:lnTo>
                  <a:pt x="119" y="1186"/>
                </a:lnTo>
                <a:lnTo>
                  <a:pt x="114" y="1192"/>
                </a:lnTo>
                <a:lnTo>
                  <a:pt x="110" y="1195"/>
                </a:lnTo>
                <a:lnTo>
                  <a:pt x="104" y="1197"/>
                </a:lnTo>
                <a:lnTo>
                  <a:pt x="100" y="1197"/>
                </a:lnTo>
                <a:lnTo>
                  <a:pt x="96" y="1197"/>
                </a:lnTo>
                <a:lnTo>
                  <a:pt x="95" y="1195"/>
                </a:lnTo>
                <a:lnTo>
                  <a:pt x="91" y="1195"/>
                </a:lnTo>
                <a:lnTo>
                  <a:pt x="87" y="1192"/>
                </a:lnTo>
                <a:lnTo>
                  <a:pt x="85" y="1190"/>
                </a:lnTo>
                <a:lnTo>
                  <a:pt x="81" y="1186"/>
                </a:lnTo>
                <a:lnTo>
                  <a:pt x="77" y="1182"/>
                </a:lnTo>
                <a:lnTo>
                  <a:pt x="72" y="1176"/>
                </a:lnTo>
                <a:lnTo>
                  <a:pt x="68" y="1170"/>
                </a:lnTo>
                <a:lnTo>
                  <a:pt x="64" y="1163"/>
                </a:lnTo>
                <a:lnTo>
                  <a:pt x="60" y="1157"/>
                </a:lnTo>
                <a:lnTo>
                  <a:pt x="54" y="1147"/>
                </a:lnTo>
                <a:lnTo>
                  <a:pt x="50" y="1138"/>
                </a:lnTo>
                <a:lnTo>
                  <a:pt x="45" y="1128"/>
                </a:lnTo>
                <a:lnTo>
                  <a:pt x="41" y="1117"/>
                </a:lnTo>
                <a:lnTo>
                  <a:pt x="37" y="1105"/>
                </a:lnTo>
                <a:lnTo>
                  <a:pt x="29" y="1094"/>
                </a:lnTo>
                <a:lnTo>
                  <a:pt x="24" y="1082"/>
                </a:lnTo>
                <a:lnTo>
                  <a:pt x="18" y="1071"/>
                </a:lnTo>
                <a:lnTo>
                  <a:pt x="14" y="1059"/>
                </a:lnTo>
                <a:lnTo>
                  <a:pt x="10" y="1048"/>
                </a:lnTo>
                <a:lnTo>
                  <a:pt x="8" y="1036"/>
                </a:lnTo>
                <a:lnTo>
                  <a:pt x="6" y="1025"/>
                </a:lnTo>
                <a:lnTo>
                  <a:pt x="4" y="1015"/>
                </a:lnTo>
                <a:lnTo>
                  <a:pt x="4" y="1004"/>
                </a:lnTo>
                <a:lnTo>
                  <a:pt x="2" y="992"/>
                </a:lnTo>
                <a:lnTo>
                  <a:pt x="2" y="980"/>
                </a:lnTo>
                <a:lnTo>
                  <a:pt x="4" y="969"/>
                </a:lnTo>
                <a:lnTo>
                  <a:pt x="6" y="946"/>
                </a:lnTo>
                <a:lnTo>
                  <a:pt x="10" y="923"/>
                </a:lnTo>
                <a:lnTo>
                  <a:pt x="12" y="909"/>
                </a:lnTo>
                <a:lnTo>
                  <a:pt x="16" y="894"/>
                </a:lnTo>
                <a:lnTo>
                  <a:pt x="18" y="877"/>
                </a:lnTo>
                <a:lnTo>
                  <a:pt x="20" y="860"/>
                </a:lnTo>
                <a:lnTo>
                  <a:pt x="22" y="838"/>
                </a:lnTo>
                <a:lnTo>
                  <a:pt x="24" y="815"/>
                </a:lnTo>
                <a:lnTo>
                  <a:pt x="25" y="792"/>
                </a:lnTo>
                <a:lnTo>
                  <a:pt x="27" y="765"/>
                </a:lnTo>
                <a:lnTo>
                  <a:pt x="29" y="739"/>
                </a:lnTo>
                <a:lnTo>
                  <a:pt x="31" y="708"/>
                </a:lnTo>
                <a:lnTo>
                  <a:pt x="33" y="677"/>
                </a:lnTo>
                <a:lnTo>
                  <a:pt x="33" y="643"/>
                </a:lnTo>
                <a:lnTo>
                  <a:pt x="35" y="608"/>
                </a:lnTo>
                <a:lnTo>
                  <a:pt x="35" y="572"/>
                </a:lnTo>
                <a:lnTo>
                  <a:pt x="35" y="531"/>
                </a:lnTo>
                <a:lnTo>
                  <a:pt x="37" y="491"/>
                </a:lnTo>
                <a:lnTo>
                  <a:pt x="37" y="472"/>
                </a:lnTo>
                <a:lnTo>
                  <a:pt x="35" y="451"/>
                </a:lnTo>
                <a:lnTo>
                  <a:pt x="35" y="432"/>
                </a:lnTo>
                <a:lnTo>
                  <a:pt x="35" y="412"/>
                </a:lnTo>
                <a:lnTo>
                  <a:pt x="35" y="395"/>
                </a:lnTo>
                <a:lnTo>
                  <a:pt x="35" y="378"/>
                </a:lnTo>
                <a:lnTo>
                  <a:pt x="35" y="360"/>
                </a:lnTo>
                <a:lnTo>
                  <a:pt x="33" y="343"/>
                </a:lnTo>
                <a:lnTo>
                  <a:pt x="33" y="328"/>
                </a:lnTo>
                <a:lnTo>
                  <a:pt x="33" y="312"/>
                </a:lnTo>
                <a:lnTo>
                  <a:pt x="31" y="299"/>
                </a:lnTo>
                <a:lnTo>
                  <a:pt x="31" y="284"/>
                </a:lnTo>
                <a:lnTo>
                  <a:pt x="31" y="270"/>
                </a:lnTo>
                <a:lnTo>
                  <a:pt x="29" y="257"/>
                </a:lnTo>
                <a:lnTo>
                  <a:pt x="29" y="245"/>
                </a:lnTo>
                <a:lnTo>
                  <a:pt x="27" y="234"/>
                </a:lnTo>
                <a:lnTo>
                  <a:pt x="27" y="222"/>
                </a:lnTo>
                <a:lnTo>
                  <a:pt x="25" y="211"/>
                </a:lnTo>
                <a:lnTo>
                  <a:pt x="25" y="201"/>
                </a:lnTo>
                <a:lnTo>
                  <a:pt x="24" y="192"/>
                </a:lnTo>
                <a:lnTo>
                  <a:pt x="24" y="182"/>
                </a:lnTo>
                <a:lnTo>
                  <a:pt x="22" y="172"/>
                </a:lnTo>
                <a:lnTo>
                  <a:pt x="22" y="165"/>
                </a:lnTo>
                <a:lnTo>
                  <a:pt x="20" y="157"/>
                </a:lnTo>
                <a:lnTo>
                  <a:pt x="18" y="149"/>
                </a:lnTo>
                <a:lnTo>
                  <a:pt x="18" y="144"/>
                </a:lnTo>
                <a:lnTo>
                  <a:pt x="16" y="136"/>
                </a:lnTo>
                <a:lnTo>
                  <a:pt x="16" y="130"/>
                </a:lnTo>
                <a:lnTo>
                  <a:pt x="14" y="126"/>
                </a:lnTo>
                <a:lnTo>
                  <a:pt x="12" y="121"/>
                </a:lnTo>
                <a:lnTo>
                  <a:pt x="10" y="1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28"/>
          <p:cNvSpPr/>
          <p:nvPr/>
        </p:nvSpPr>
        <p:spPr>
          <a:xfrm>
            <a:off x="5502240" y="3503520"/>
            <a:ext cx="376200" cy="862200"/>
          </a:xfrm>
          <a:custGeom>
            <a:avLst/>
            <a:gdLst/>
            <a:ahLst/>
            <a:rect l="l" t="t" r="r" b="b"/>
            <a:pathLst>
              <a:path w="474" h="1086">
                <a:moveTo>
                  <a:pt x="382" y="562"/>
                </a:moveTo>
                <a:lnTo>
                  <a:pt x="374" y="595"/>
                </a:lnTo>
                <a:lnTo>
                  <a:pt x="369" y="625"/>
                </a:lnTo>
                <a:lnTo>
                  <a:pt x="361" y="656"/>
                </a:lnTo>
                <a:lnTo>
                  <a:pt x="355" y="687"/>
                </a:lnTo>
                <a:lnTo>
                  <a:pt x="348" y="714"/>
                </a:lnTo>
                <a:lnTo>
                  <a:pt x="342" y="743"/>
                </a:lnTo>
                <a:lnTo>
                  <a:pt x="336" y="768"/>
                </a:lnTo>
                <a:lnTo>
                  <a:pt x="330" y="792"/>
                </a:lnTo>
                <a:lnTo>
                  <a:pt x="324" y="817"/>
                </a:lnTo>
                <a:lnTo>
                  <a:pt x="319" y="840"/>
                </a:lnTo>
                <a:lnTo>
                  <a:pt x="313" y="862"/>
                </a:lnTo>
                <a:lnTo>
                  <a:pt x="307" y="883"/>
                </a:lnTo>
                <a:lnTo>
                  <a:pt x="301" y="904"/>
                </a:lnTo>
                <a:lnTo>
                  <a:pt x="296" y="921"/>
                </a:lnTo>
                <a:lnTo>
                  <a:pt x="292" y="940"/>
                </a:lnTo>
                <a:lnTo>
                  <a:pt x="286" y="956"/>
                </a:lnTo>
                <a:lnTo>
                  <a:pt x="282" y="973"/>
                </a:lnTo>
                <a:lnTo>
                  <a:pt x="276" y="986"/>
                </a:lnTo>
                <a:lnTo>
                  <a:pt x="273" y="1000"/>
                </a:lnTo>
                <a:lnTo>
                  <a:pt x="269" y="1013"/>
                </a:lnTo>
                <a:lnTo>
                  <a:pt x="265" y="1025"/>
                </a:lnTo>
                <a:lnTo>
                  <a:pt x="261" y="1034"/>
                </a:lnTo>
                <a:lnTo>
                  <a:pt x="257" y="1044"/>
                </a:lnTo>
                <a:lnTo>
                  <a:pt x="253" y="1054"/>
                </a:lnTo>
                <a:lnTo>
                  <a:pt x="250" y="1061"/>
                </a:lnTo>
                <a:lnTo>
                  <a:pt x="246" y="1067"/>
                </a:lnTo>
                <a:lnTo>
                  <a:pt x="242" y="1073"/>
                </a:lnTo>
                <a:lnTo>
                  <a:pt x="240" y="1077"/>
                </a:lnTo>
                <a:lnTo>
                  <a:pt x="236" y="1080"/>
                </a:lnTo>
                <a:lnTo>
                  <a:pt x="234" y="1082"/>
                </a:lnTo>
                <a:lnTo>
                  <a:pt x="230" y="1084"/>
                </a:lnTo>
                <a:lnTo>
                  <a:pt x="229" y="1086"/>
                </a:lnTo>
                <a:lnTo>
                  <a:pt x="221" y="1084"/>
                </a:lnTo>
                <a:lnTo>
                  <a:pt x="215" y="1084"/>
                </a:lnTo>
                <a:lnTo>
                  <a:pt x="207" y="1080"/>
                </a:lnTo>
                <a:lnTo>
                  <a:pt x="200" y="1078"/>
                </a:lnTo>
                <a:lnTo>
                  <a:pt x="192" y="1075"/>
                </a:lnTo>
                <a:lnTo>
                  <a:pt x="184" y="1069"/>
                </a:lnTo>
                <a:lnTo>
                  <a:pt x="177" y="1063"/>
                </a:lnTo>
                <a:lnTo>
                  <a:pt x="169" y="1055"/>
                </a:lnTo>
                <a:lnTo>
                  <a:pt x="159" y="1048"/>
                </a:lnTo>
                <a:lnTo>
                  <a:pt x="150" y="1040"/>
                </a:lnTo>
                <a:lnTo>
                  <a:pt x="142" y="1031"/>
                </a:lnTo>
                <a:lnTo>
                  <a:pt x="133" y="1019"/>
                </a:lnTo>
                <a:lnTo>
                  <a:pt x="121" y="1007"/>
                </a:lnTo>
                <a:lnTo>
                  <a:pt x="111" y="996"/>
                </a:lnTo>
                <a:lnTo>
                  <a:pt x="100" y="983"/>
                </a:lnTo>
                <a:lnTo>
                  <a:pt x="88" y="967"/>
                </a:lnTo>
                <a:lnTo>
                  <a:pt x="77" y="954"/>
                </a:lnTo>
                <a:lnTo>
                  <a:pt x="67" y="938"/>
                </a:lnTo>
                <a:lnTo>
                  <a:pt x="58" y="927"/>
                </a:lnTo>
                <a:lnTo>
                  <a:pt x="48" y="913"/>
                </a:lnTo>
                <a:lnTo>
                  <a:pt x="40" y="902"/>
                </a:lnTo>
                <a:lnTo>
                  <a:pt x="33" y="890"/>
                </a:lnTo>
                <a:lnTo>
                  <a:pt x="27" y="879"/>
                </a:lnTo>
                <a:lnTo>
                  <a:pt x="21" y="867"/>
                </a:lnTo>
                <a:lnTo>
                  <a:pt x="15" y="858"/>
                </a:lnTo>
                <a:lnTo>
                  <a:pt x="12" y="848"/>
                </a:lnTo>
                <a:lnTo>
                  <a:pt x="8" y="839"/>
                </a:lnTo>
                <a:lnTo>
                  <a:pt x="4" y="829"/>
                </a:lnTo>
                <a:lnTo>
                  <a:pt x="2" y="821"/>
                </a:lnTo>
                <a:lnTo>
                  <a:pt x="0" y="814"/>
                </a:lnTo>
                <a:lnTo>
                  <a:pt x="0" y="806"/>
                </a:lnTo>
                <a:lnTo>
                  <a:pt x="0" y="798"/>
                </a:lnTo>
                <a:lnTo>
                  <a:pt x="0" y="789"/>
                </a:lnTo>
                <a:lnTo>
                  <a:pt x="2" y="781"/>
                </a:lnTo>
                <a:lnTo>
                  <a:pt x="6" y="773"/>
                </a:lnTo>
                <a:lnTo>
                  <a:pt x="12" y="768"/>
                </a:lnTo>
                <a:lnTo>
                  <a:pt x="17" y="764"/>
                </a:lnTo>
                <a:lnTo>
                  <a:pt x="21" y="762"/>
                </a:lnTo>
                <a:lnTo>
                  <a:pt x="27" y="762"/>
                </a:lnTo>
                <a:lnTo>
                  <a:pt x="31" y="760"/>
                </a:lnTo>
                <a:lnTo>
                  <a:pt x="37" y="760"/>
                </a:lnTo>
                <a:lnTo>
                  <a:pt x="44" y="758"/>
                </a:lnTo>
                <a:lnTo>
                  <a:pt x="50" y="758"/>
                </a:lnTo>
                <a:lnTo>
                  <a:pt x="60" y="758"/>
                </a:lnTo>
                <a:lnTo>
                  <a:pt x="69" y="756"/>
                </a:lnTo>
                <a:lnTo>
                  <a:pt x="79" y="754"/>
                </a:lnTo>
                <a:lnTo>
                  <a:pt x="86" y="750"/>
                </a:lnTo>
                <a:lnTo>
                  <a:pt x="96" y="746"/>
                </a:lnTo>
                <a:lnTo>
                  <a:pt x="102" y="743"/>
                </a:lnTo>
                <a:lnTo>
                  <a:pt x="110" y="737"/>
                </a:lnTo>
                <a:lnTo>
                  <a:pt x="115" y="733"/>
                </a:lnTo>
                <a:lnTo>
                  <a:pt x="115" y="731"/>
                </a:lnTo>
                <a:lnTo>
                  <a:pt x="117" y="729"/>
                </a:lnTo>
                <a:lnTo>
                  <a:pt x="119" y="725"/>
                </a:lnTo>
                <a:lnTo>
                  <a:pt x="121" y="723"/>
                </a:lnTo>
                <a:lnTo>
                  <a:pt x="125" y="718"/>
                </a:lnTo>
                <a:lnTo>
                  <a:pt x="127" y="714"/>
                </a:lnTo>
                <a:lnTo>
                  <a:pt x="131" y="708"/>
                </a:lnTo>
                <a:lnTo>
                  <a:pt x="133" y="702"/>
                </a:lnTo>
                <a:lnTo>
                  <a:pt x="136" y="697"/>
                </a:lnTo>
                <a:lnTo>
                  <a:pt x="140" y="689"/>
                </a:lnTo>
                <a:lnTo>
                  <a:pt x="146" y="681"/>
                </a:lnTo>
                <a:lnTo>
                  <a:pt x="150" y="672"/>
                </a:lnTo>
                <a:lnTo>
                  <a:pt x="156" y="664"/>
                </a:lnTo>
                <a:lnTo>
                  <a:pt x="159" y="652"/>
                </a:lnTo>
                <a:lnTo>
                  <a:pt x="165" y="643"/>
                </a:lnTo>
                <a:lnTo>
                  <a:pt x="171" y="631"/>
                </a:lnTo>
                <a:lnTo>
                  <a:pt x="177" y="620"/>
                </a:lnTo>
                <a:lnTo>
                  <a:pt x="182" y="606"/>
                </a:lnTo>
                <a:lnTo>
                  <a:pt x="188" y="593"/>
                </a:lnTo>
                <a:lnTo>
                  <a:pt x="196" y="579"/>
                </a:lnTo>
                <a:lnTo>
                  <a:pt x="202" y="564"/>
                </a:lnTo>
                <a:lnTo>
                  <a:pt x="209" y="549"/>
                </a:lnTo>
                <a:lnTo>
                  <a:pt x="217" y="533"/>
                </a:lnTo>
                <a:lnTo>
                  <a:pt x="225" y="516"/>
                </a:lnTo>
                <a:lnTo>
                  <a:pt x="232" y="499"/>
                </a:lnTo>
                <a:lnTo>
                  <a:pt x="240" y="480"/>
                </a:lnTo>
                <a:lnTo>
                  <a:pt x="248" y="460"/>
                </a:lnTo>
                <a:lnTo>
                  <a:pt x="257" y="441"/>
                </a:lnTo>
                <a:lnTo>
                  <a:pt x="265" y="420"/>
                </a:lnTo>
                <a:lnTo>
                  <a:pt x="275" y="399"/>
                </a:lnTo>
                <a:lnTo>
                  <a:pt x="282" y="376"/>
                </a:lnTo>
                <a:lnTo>
                  <a:pt x="292" y="353"/>
                </a:lnTo>
                <a:lnTo>
                  <a:pt x="301" y="330"/>
                </a:lnTo>
                <a:lnTo>
                  <a:pt x="311" y="309"/>
                </a:lnTo>
                <a:lnTo>
                  <a:pt x="319" y="288"/>
                </a:lnTo>
                <a:lnTo>
                  <a:pt x="328" y="267"/>
                </a:lnTo>
                <a:lnTo>
                  <a:pt x="336" y="245"/>
                </a:lnTo>
                <a:lnTo>
                  <a:pt x="346" y="226"/>
                </a:lnTo>
                <a:lnTo>
                  <a:pt x="353" y="209"/>
                </a:lnTo>
                <a:lnTo>
                  <a:pt x="361" y="192"/>
                </a:lnTo>
                <a:lnTo>
                  <a:pt x="369" y="174"/>
                </a:lnTo>
                <a:lnTo>
                  <a:pt x="376" y="159"/>
                </a:lnTo>
                <a:lnTo>
                  <a:pt x="382" y="144"/>
                </a:lnTo>
                <a:lnTo>
                  <a:pt x="390" y="128"/>
                </a:lnTo>
                <a:lnTo>
                  <a:pt x="395" y="115"/>
                </a:lnTo>
                <a:lnTo>
                  <a:pt x="403" y="101"/>
                </a:lnTo>
                <a:lnTo>
                  <a:pt x="409" y="90"/>
                </a:lnTo>
                <a:lnTo>
                  <a:pt x="415" y="78"/>
                </a:lnTo>
                <a:lnTo>
                  <a:pt x="420" y="67"/>
                </a:lnTo>
                <a:lnTo>
                  <a:pt x="424" y="57"/>
                </a:lnTo>
                <a:lnTo>
                  <a:pt x="430" y="48"/>
                </a:lnTo>
                <a:lnTo>
                  <a:pt x="436" y="40"/>
                </a:lnTo>
                <a:lnTo>
                  <a:pt x="440" y="32"/>
                </a:lnTo>
                <a:lnTo>
                  <a:pt x="443" y="27"/>
                </a:lnTo>
                <a:lnTo>
                  <a:pt x="447" y="21"/>
                </a:lnTo>
                <a:lnTo>
                  <a:pt x="451" y="15"/>
                </a:lnTo>
                <a:lnTo>
                  <a:pt x="455" y="9"/>
                </a:lnTo>
                <a:lnTo>
                  <a:pt x="459" y="7"/>
                </a:lnTo>
                <a:lnTo>
                  <a:pt x="461" y="4"/>
                </a:lnTo>
                <a:lnTo>
                  <a:pt x="463" y="2"/>
                </a:lnTo>
                <a:lnTo>
                  <a:pt x="465" y="0"/>
                </a:lnTo>
                <a:lnTo>
                  <a:pt x="467" y="0"/>
                </a:lnTo>
                <a:lnTo>
                  <a:pt x="468" y="0"/>
                </a:lnTo>
                <a:lnTo>
                  <a:pt x="470" y="0"/>
                </a:lnTo>
                <a:lnTo>
                  <a:pt x="472" y="2"/>
                </a:lnTo>
                <a:lnTo>
                  <a:pt x="472" y="6"/>
                </a:lnTo>
                <a:lnTo>
                  <a:pt x="472" y="9"/>
                </a:lnTo>
                <a:lnTo>
                  <a:pt x="474" y="13"/>
                </a:lnTo>
                <a:lnTo>
                  <a:pt x="474" y="19"/>
                </a:lnTo>
                <a:lnTo>
                  <a:pt x="474" y="27"/>
                </a:lnTo>
                <a:lnTo>
                  <a:pt x="472" y="34"/>
                </a:lnTo>
                <a:lnTo>
                  <a:pt x="472" y="44"/>
                </a:lnTo>
                <a:lnTo>
                  <a:pt x="472" y="53"/>
                </a:lnTo>
                <a:lnTo>
                  <a:pt x="470" y="65"/>
                </a:lnTo>
                <a:lnTo>
                  <a:pt x="468" y="77"/>
                </a:lnTo>
                <a:lnTo>
                  <a:pt x="468" y="90"/>
                </a:lnTo>
                <a:lnTo>
                  <a:pt x="467" y="105"/>
                </a:lnTo>
                <a:lnTo>
                  <a:pt x="465" y="121"/>
                </a:lnTo>
                <a:lnTo>
                  <a:pt x="461" y="136"/>
                </a:lnTo>
                <a:lnTo>
                  <a:pt x="459" y="153"/>
                </a:lnTo>
                <a:lnTo>
                  <a:pt x="457" y="173"/>
                </a:lnTo>
                <a:lnTo>
                  <a:pt x="453" y="192"/>
                </a:lnTo>
                <a:lnTo>
                  <a:pt x="449" y="211"/>
                </a:lnTo>
                <a:lnTo>
                  <a:pt x="445" y="232"/>
                </a:lnTo>
                <a:lnTo>
                  <a:pt x="442" y="255"/>
                </a:lnTo>
                <a:lnTo>
                  <a:pt x="438" y="278"/>
                </a:lnTo>
                <a:lnTo>
                  <a:pt x="434" y="303"/>
                </a:lnTo>
                <a:lnTo>
                  <a:pt x="428" y="328"/>
                </a:lnTo>
                <a:lnTo>
                  <a:pt x="424" y="353"/>
                </a:lnTo>
                <a:lnTo>
                  <a:pt x="419" y="380"/>
                </a:lnTo>
                <a:lnTo>
                  <a:pt x="413" y="409"/>
                </a:lnTo>
                <a:lnTo>
                  <a:pt x="407" y="437"/>
                </a:lnTo>
                <a:lnTo>
                  <a:pt x="401" y="466"/>
                </a:lnTo>
                <a:lnTo>
                  <a:pt x="395" y="497"/>
                </a:lnTo>
                <a:lnTo>
                  <a:pt x="388" y="530"/>
                </a:lnTo>
                <a:lnTo>
                  <a:pt x="382" y="5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29"/>
          <p:cNvSpPr/>
          <p:nvPr/>
        </p:nvSpPr>
        <p:spPr>
          <a:xfrm>
            <a:off x="5457960" y="3146400"/>
            <a:ext cx="266400" cy="298440"/>
          </a:xfrm>
          <a:custGeom>
            <a:avLst/>
            <a:gdLst/>
            <a:ahLst/>
            <a:rect l="l" t="t" r="r" b="b"/>
            <a:pathLst>
              <a:path w="336" h="376">
                <a:moveTo>
                  <a:pt x="31" y="109"/>
                </a:moveTo>
                <a:lnTo>
                  <a:pt x="25" y="97"/>
                </a:lnTo>
                <a:lnTo>
                  <a:pt x="22" y="86"/>
                </a:lnTo>
                <a:lnTo>
                  <a:pt x="18" y="76"/>
                </a:lnTo>
                <a:lnTo>
                  <a:pt x="14" y="67"/>
                </a:lnTo>
                <a:lnTo>
                  <a:pt x="10" y="59"/>
                </a:lnTo>
                <a:lnTo>
                  <a:pt x="8" y="51"/>
                </a:lnTo>
                <a:lnTo>
                  <a:pt x="6" y="44"/>
                </a:lnTo>
                <a:lnTo>
                  <a:pt x="4" y="38"/>
                </a:lnTo>
                <a:lnTo>
                  <a:pt x="2" y="32"/>
                </a:lnTo>
                <a:lnTo>
                  <a:pt x="0" y="26"/>
                </a:lnTo>
                <a:lnTo>
                  <a:pt x="0" y="23"/>
                </a:lnTo>
                <a:lnTo>
                  <a:pt x="0" y="17"/>
                </a:lnTo>
                <a:lnTo>
                  <a:pt x="0" y="13"/>
                </a:lnTo>
                <a:lnTo>
                  <a:pt x="0" y="11"/>
                </a:lnTo>
                <a:lnTo>
                  <a:pt x="2" y="7"/>
                </a:lnTo>
                <a:lnTo>
                  <a:pt x="4" y="5"/>
                </a:lnTo>
                <a:lnTo>
                  <a:pt x="8" y="3"/>
                </a:lnTo>
                <a:lnTo>
                  <a:pt x="10" y="2"/>
                </a:lnTo>
                <a:lnTo>
                  <a:pt x="14" y="0"/>
                </a:lnTo>
                <a:lnTo>
                  <a:pt x="18" y="0"/>
                </a:lnTo>
                <a:lnTo>
                  <a:pt x="25" y="0"/>
                </a:lnTo>
                <a:lnTo>
                  <a:pt x="35" y="2"/>
                </a:lnTo>
                <a:lnTo>
                  <a:pt x="41" y="3"/>
                </a:lnTo>
                <a:lnTo>
                  <a:pt x="47" y="3"/>
                </a:lnTo>
                <a:lnTo>
                  <a:pt x="54" y="5"/>
                </a:lnTo>
                <a:lnTo>
                  <a:pt x="60" y="9"/>
                </a:lnTo>
                <a:lnTo>
                  <a:pt x="68" y="11"/>
                </a:lnTo>
                <a:lnTo>
                  <a:pt x="75" y="13"/>
                </a:lnTo>
                <a:lnTo>
                  <a:pt x="85" y="15"/>
                </a:lnTo>
                <a:lnTo>
                  <a:pt x="94" y="19"/>
                </a:lnTo>
                <a:lnTo>
                  <a:pt x="102" y="21"/>
                </a:lnTo>
                <a:lnTo>
                  <a:pt x="110" y="25"/>
                </a:lnTo>
                <a:lnTo>
                  <a:pt x="118" y="28"/>
                </a:lnTo>
                <a:lnTo>
                  <a:pt x="125" y="32"/>
                </a:lnTo>
                <a:lnTo>
                  <a:pt x="142" y="42"/>
                </a:lnTo>
                <a:lnTo>
                  <a:pt x="162" y="53"/>
                </a:lnTo>
                <a:lnTo>
                  <a:pt x="181" y="67"/>
                </a:lnTo>
                <a:lnTo>
                  <a:pt x="202" y="80"/>
                </a:lnTo>
                <a:lnTo>
                  <a:pt x="223" y="96"/>
                </a:lnTo>
                <a:lnTo>
                  <a:pt x="246" y="109"/>
                </a:lnTo>
                <a:lnTo>
                  <a:pt x="258" y="117"/>
                </a:lnTo>
                <a:lnTo>
                  <a:pt x="269" y="124"/>
                </a:lnTo>
                <a:lnTo>
                  <a:pt x="279" y="134"/>
                </a:lnTo>
                <a:lnTo>
                  <a:pt x="286" y="142"/>
                </a:lnTo>
                <a:lnTo>
                  <a:pt x="296" y="151"/>
                </a:lnTo>
                <a:lnTo>
                  <a:pt x="302" y="159"/>
                </a:lnTo>
                <a:lnTo>
                  <a:pt x="309" y="169"/>
                </a:lnTo>
                <a:lnTo>
                  <a:pt x="315" y="178"/>
                </a:lnTo>
                <a:lnTo>
                  <a:pt x="321" y="188"/>
                </a:lnTo>
                <a:lnTo>
                  <a:pt x="325" y="199"/>
                </a:lnTo>
                <a:lnTo>
                  <a:pt x="329" y="209"/>
                </a:lnTo>
                <a:lnTo>
                  <a:pt x="331" y="220"/>
                </a:lnTo>
                <a:lnTo>
                  <a:pt x="332" y="232"/>
                </a:lnTo>
                <a:lnTo>
                  <a:pt x="334" y="243"/>
                </a:lnTo>
                <a:lnTo>
                  <a:pt x="336" y="255"/>
                </a:lnTo>
                <a:lnTo>
                  <a:pt x="336" y="266"/>
                </a:lnTo>
                <a:lnTo>
                  <a:pt x="336" y="278"/>
                </a:lnTo>
                <a:lnTo>
                  <a:pt x="336" y="289"/>
                </a:lnTo>
                <a:lnTo>
                  <a:pt x="336" y="299"/>
                </a:lnTo>
                <a:lnTo>
                  <a:pt x="336" y="309"/>
                </a:lnTo>
                <a:lnTo>
                  <a:pt x="336" y="316"/>
                </a:lnTo>
                <a:lnTo>
                  <a:pt x="334" y="324"/>
                </a:lnTo>
                <a:lnTo>
                  <a:pt x="334" y="332"/>
                </a:lnTo>
                <a:lnTo>
                  <a:pt x="334" y="337"/>
                </a:lnTo>
                <a:lnTo>
                  <a:pt x="332" y="343"/>
                </a:lnTo>
                <a:lnTo>
                  <a:pt x="332" y="349"/>
                </a:lnTo>
                <a:lnTo>
                  <a:pt x="331" y="355"/>
                </a:lnTo>
                <a:lnTo>
                  <a:pt x="331" y="359"/>
                </a:lnTo>
                <a:lnTo>
                  <a:pt x="327" y="366"/>
                </a:lnTo>
                <a:lnTo>
                  <a:pt x="323" y="372"/>
                </a:lnTo>
                <a:lnTo>
                  <a:pt x="321" y="374"/>
                </a:lnTo>
                <a:lnTo>
                  <a:pt x="317" y="374"/>
                </a:lnTo>
                <a:lnTo>
                  <a:pt x="313" y="376"/>
                </a:lnTo>
                <a:lnTo>
                  <a:pt x="309" y="376"/>
                </a:lnTo>
                <a:lnTo>
                  <a:pt x="304" y="376"/>
                </a:lnTo>
                <a:lnTo>
                  <a:pt x="300" y="376"/>
                </a:lnTo>
                <a:lnTo>
                  <a:pt x="294" y="374"/>
                </a:lnTo>
                <a:lnTo>
                  <a:pt x="288" y="372"/>
                </a:lnTo>
                <a:lnTo>
                  <a:pt x="275" y="368"/>
                </a:lnTo>
                <a:lnTo>
                  <a:pt x="261" y="362"/>
                </a:lnTo>
                <a:lnTo>
                  <a:pt x="248" y="355"/>
                </a:lnTo>
                <a:lnTo>
                  <a:pt x="235" y="345"/>
                </a:lnTo>
                <a:lnTo>
                  <a:pt x="225" y="341"/>
                </a:lnTo>
                <a:lnTo>
                  <a:pt x="215" y="339"/>
                </a:lnTo>
                <a:lnTo>
                  <a:pt x="206" y="336"/>
                </a:lnTo>
                <a:lnTo>
                  <a:pt x="198" y="330"/>
                </a:lnTo>
                <a:lnTo>
                  <a:pt x="181" y="320"/>
                </a:lnTo>
                <a:lnTo>
                  <a:pt x="167" y="309"/>
                </a:lnTo>
                <a:lnTo>
                  <a:pt x="154" y="295"/>
                </a:lnTo>
                <a:lnTo>
                  <a:pt x="141" y="282"/>
                </a:lnTo>
                <a:lnTo>
                  <a:pt x="129" y="268"/>
                </a:lnTo>
                <a:lnTo>
                  <a:pt x="119" y="253"/>
                </a:lnTo>
                <a:lnTo>
                  <a:pt x="106" y="238"/>
                </a:lnTo>
                <a:lnTo>
                  <a:pt x="93" y="222"/>
                </a:lnTo>
                <a:lnTo>
                  <a:pt x="81" y="207"/>
                </a:lnTo>
                <a:lnTo>
                  <a:pt x="70" y="192"/>
                </a:lnTo>
                <a:lnTo>
                  <a:pt x="60" y="172"/>
                </a:lnTo>
                <a:lnTo>
                  <a:pt x="48" y="153"/>
                </a:lnTo>
                <a:lnTo>
                  <a:pt x="45" y="144"/>
                </a:lnTo>
                <a:lnTo>
                  <a:pt x="39" y="132"/>
                </a:lnTo>
                <a:lnTo>
                  <a:pt x="35" y="121"/>
                </a:lnTo>
                <a:lnTo>
                  <a:pt x="31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30"/>
          <p:cNvSpPr/>
          <p:nvPr/>
        </p:nvSpPr>
        <p:spPr>
          <a:xfrm>
            <a:off x="5613480" y="2638440"/>
            <a:ext cx="299880" cy="263520"/>
          </a:xfrm>
          <a:custGeom>
            <a:avLst/>
            <a:gdLst/>
            <a:ahLst/>
            <a:rect l="l" t="t" r="r" b="b"/>
            <a:pathLst>
              <a:path w="378" h="333">
                <a:moveTo>
                  <a:pt x="369" y="267"/>
                </a:moveTo>
                <a:lnTo>
                  <a:pt x="363" y="283"/>
                </a:lnTo>
                <a:lnTo>
                  <a:pt x="357" y="294"/>
                </a:lnTo>
                <a:lnTo>
                  <a:pt x="350" y="306"/>
                </a:lnTo>
                <a:lnTo>
                  <a:pt x="342" y="315"/>
                </a:lnTo>
                <a:lnTo>
                  <a:pt x="338" y="319"/>
                </a:lnTo>
                <a:lnTo>
                  <a:pt x="332" y="323"/>
                </a:lnTo>
                <a:lnTo>
                  <a:pt x="328" y="325"/>
                </a:lnTo>
                <a:lnTo>
                  <a:pt x="325" y="329"/>
                </a:lnTo>
                <a:lnTo>
                  <a:pt x="319" y="331"/>
                </a:lnTo>
                <a:lnTo>
                  <a:pt x="315" y="333"/>
                </a:lnTo>
                <a:lnTo>
                  <a:pt x="309" y="333"/>
                </a:lnTo>
                <a:lnTo>
                  <a:pt x="305" y="333"/>
                </a:lnTo>
                <a:lnTo>
                  <a:pt x="300" y="333"/>
                </a:lnTo>
                <a:lnTo>
                  <a:pt x="294" y="331"/>
                </a:lnTo>
                <a:lnTo>
                  <a:pt x="288" y="327"/>
                </a:lnTo>
                <a:lnTo>
                  <a:pt x="280" y="323"/>
                </a:lnTo>
                <a:lnTo>
                  <a:pt x="273" y="319"/>
                </a:lnTo>
                <a:lnTo>
                  <a:pt x="265" y="311"/>
                </a:lnTo>
                <a:lnTo>
                  <a:pt x="255" y="304"/>
                </a:lnTo>
                <a:lnTo>
                  <a:pt x="246" y="296"/>
                </a:lnTo>
                <a:lnTo>
                  <a:pt x="234" y="286"/>
                </a:lnTo>
                <a:lnTo>
                  <a:pt x="225" y="275"/>
                </a:lnTo>
                <a:lnTo>
                  <a:pt x="211" y="263"/>
                </a:lnTo>
                <a:lnTo>
                  <a:pt x="200" y="250"/>
                </a:lnTo>
                <a:lnTo>
                  <a:pt x="186" y="237"/>
                </a:lnTo>
                <a:lnTo>
                  <a:pt x="171" y="221"/>
                </a:lnTo>
                <a:lnTo>
                  <a:pt x="156" y="206"/>
                </a:lnTo>
                <a:lnTo>
                  <a:pt x="140" y="189"/>
                </a:lnTo>
                <a:lnTo>
                  <a:pt x="123" y="171"/>
                </a:lnTo>
                <a:lnTo>
                  <a:pt x="108" y="156"/>
                </a:lnTo>
                <a:lnTo>
                  <a:pt x="94" y="141"/>
                </a:lnTo>
                <a:lnTo>
                  <a:pt x="81" y="125"/>
                </a:lnTo>
                <a:lnTo>
                  <a:pt x="67" y="112"/>
                </a:lnTo>
                <a:lnTo>
                  <a:pt x="56" y="98"/>
                </a:lnTo>
                <a:lnTo>
                  <a:pt x="46" y="87"/>
                </a:lnTo>
                <a:lnTo>
                  <a:pt x="37" y="75"/>
                </a:lnTo>
                <a:lnTo>
                  <a:pt x="29" y="64"/>
                </a:lnTo>
                <a:lnTo>
                  <a:pt x="21" y="54"/>
                </a:lnTo>
                <a:lnTo>
                  <a:pt x="14" y="47"/>
                </a:lnTo>
                <a:lnTo>
                  <a:pt x="10" y="39"/>
                </a:lnTo>
                <a:lnTo>
                  <a:pt x="6" y="31"/>
                </a:lnTo>
                <a:lnTo>
                  <a:pt x="2" y="27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4" y="12"/>
                </a:lnTo>
                <a:lnTo>
                  <a:pt x="6" y="10"/>
                </a:lnTo>
                <a:lnTo>
                  <a:pt x="10" y="8"/>
                </a:lnTo>
                <a:lnTo>
                  <a:pt x="16" y="6"/>
                </a:lnTo>
                <a:lnTo>
                  <a:pt x="21" y="4"/>
                </a:lnTo>
                <a:lnTo>
                  <a:pt x="27" y="2"/>
                </a:lnTo>
                <a:lnTo>
                  <a:pt x="33" y="2"/>
                </a:lnTo>
                <a:lnTo>
                  <a:pt x="41" y="0"/>
                </a:lnTo>
                <a:lnTo>
                  <a:pt x="50" y="0"/>
                </a:lnTo>
                <a:lnTo>
                  <a:pt x="58" y="0"/>
                </a:lnTo>
                <a:lnTo>
                  <a:pt x="69" y="0"/>
                </a:lnTo>
                <a:lnTo>
                  <a:pt x="79" y="2"/>
                </a:lnTo>
                <a:lnTo>
                  <a:pt x="90" y="4"/>
                </a:lnTo>
                <a:lnTo>
                  <a:pt x="102" y="6"/>
                </a:lnTo>
                <a:lnTo>
                  <a:pt x="150" y="16"/>
                </a:lnTo>
                <a:lnTo>
                  <a:pt x="173" y="22"/>
                </a:lnTo>
                <a:lnTo>
                  <a:pt x="196" y="25"/>
                </a:lnTo>
                <a:lnTo>
                  <a:pt x="217" y="31"/>
                </a:lnTo>
                <a:lnTo>
                  <a:pt x="240" y="35"/>
                </a:lnTo>
                <a:lnTo>
                  <a:pt x="259" y="41"/>
                </a:lnTo>
                <a:lnTo>
                  <a:pt x="280" y="45"/>
                </a:lnTo>
                <a:lnTo>
                  <a:pt x="294" y="56"/>
                </a:lnTo>
                <a:lnTo>
                  <a:pt x="307" y="66"/>
                </a:lnTo>
                <a:lnTo>
                  <a:pt x="321" y="75"/>
                </a:lnTo>
                <a:lnTo>
                  <a:pt x="334" y="87"/>
                </a:lnTo>
                <a:lnTo>
                  <a:pt x="346" y="98"/>
                </a:lnTo>
                <a:lnTo>
                  <a:pt x="355" y="110"/>
                </a:lnTo>
                <a:lnTo>
                  <a:pt x="359" y="116"/>
                </a:lnTo>
                <a:lnTo>
                  <a:pt x="363" y="123"/>
                </a:lnTo>
                <a:lnTo>
                  <a:pt x="367" y="129"/>
                </a:lnTo>
                <a:lnTo>
                  <a:pt x="369" y="137"/>
                </a:lnTo>
                <a:lnTo>
                  <a:pt x="373" y="152"/>
                </a:lnTo>
                <a:lnTo>
                  <a:pt x="376" y="167"/>
                </a:lnTo>
                <a:lnTo>
                  <a:pt x="378" y="185"/>
                </a:lnTo>
                <a:lnTo>
                  <a:pt x="378" y="202"/>
                </a:lnTo>
                <a:lnTo>
                  <a:pt x="378" y="219"/>
                </a:lnTo>
                <a:lnTo>
                  <a:pt x="376" y="237"/>
                </a:lnTo>
                <a:lnTo>
                  <a:pt x="373" y="252"/>
                </a:lnTo>
                <a:lnTo>
                  <a:pt x="369" y="2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4"/>
          <p:cNvSpPr/>
          <p:nvPr/>
        </p:nvSpPr>
        <p:spPr>
          <a:xfrm>
            <a:off x="2218680" y="2206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剧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14880" y="20415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3" name="组合 8"/>
          <p:cNvGrpSpPr/>
          <p:nvPr/>
        </p:nvGrpSpPr>
        <p:grpSpPr>
          <a:xfrm>
            <a:off x="1400040" y="3633840"/>
            <a:ext cx="2697120" cy="1572480"/>
            <a:chOff x="1400040" y="3633840"/>
            <a:chExt cx="2697120" cy="1572480"/>
          </a:xfrm>
        </p:grpSpPr>
        <p:pic>
          <p:nvPicPr>
            <p:cNvPr id="11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33840"/>
              <a:ext cx="269712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矩形 2"/>
            <p:cNvSpPr/>
            <p:nvPr/>
          </p:nvSpPr>
          <p:spPr>
            <a:xfrm>
              <a:off x="1443240" y="4246920"/>
              <a:ext cx="26287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宽右窄，左部撇画宜伸展，“刂”的竖钩挺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3"/>
          <p:cNvSpPr/>
          <p:nvPr/>
        </p:nvSpPr>
        <p:spPr>
          <a:xfrm>
            <a:off x="2171880" y="152712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112"/>
          <p:cNvSpPr/>
          <p:nvPr/>
        </p:nvSpPr>
        <p:spPr>
          <a:xfrm>
            <a:off x="7197840" y="2454120"/>
            <a:ext cx="511200" cy="2279880"/>
          </a:xfrm>
          <a:custGeom>
            <a:avLst/>
            <a:gdLst/>
            <a:ahLst/>
            <a:rect l="l" t="t" r="r" b="b"/>
            <a:pathLst>
              <a:path w="643" h="2871">
                <a:moveTo>
                  <a:pt x="350" y="99"/>
                </a:moveTo>
                <a:lnTo>
                  <a:pt x="342" y="92"/>
                </a:lnTo>
                <a:lnTo>
                  <a:pt x="336" y="84"/>
                </a:lnTo>
                <a:lnTo>
                  <a:pt x="330" y="78"/>
                </a:lnTo>
                <a:lnTo>
                  <a:pt x="325" y="72"/>
                </a:lnTo>
                <a:lnTo>
                  <a:pt x="321" y="65"/>
                </a:lnTo>
                <a:lnTo>
                  <a:pt x="317" y="59"/>
                </a:lnTo>
                <a:lnTo>
                  <a:pt x="315" y="53"/>
                </a:lnTo>
                <a:lnTo>
                  <a:pt x="313" y="48"/>
                </a:lnTo>
                <a:lnTo>
                  <a:pt x="311" y="44"/>
                </a:lnTo>
                <a:lnTo>
                  <a:pt x="309" y="38"/>
                </a:lnTo>
                <a:lnTo>
                  <a:pt x="311" y="32"/>
                </a:lnTo>
                <a:lnTo>
                  <a:pt x="311" y="28"/>
                </a:lnTo>
                <a:lnTo>
                  <a:pt x="313" y="23"/>
                </a:lnTo>
                <a:lnTo>
                  <a:pt x="315" y="17"/>
                </a:lnTo>
                <a:lnTo>
                  <a:pt x="319" y="13"/>
                </a:lnTo>
                <a:lnTo>
                  <a:pt x="323" y="7"/>
                </a:lnTo>
                <a:lnTo>
                  <a:pt x="328" y="5"/>
                </a:lnTo>
                <a:lnTo>
                  <a:pt x="334" y="3"/>
                </a:lnTo>
                <a:lnTo>
                  <a:pt x="340" y="1"/>
                </a:lnTo>
                <a:lnTo>
                  <a:pt x="348" y="1"/>
                </a:lnTo>
                <a:lnTo>
                  <a:pt x="355" y="0"/>
                </a:lnTo>
                <a:lnTo>
                  <a:pt x="363" y="0"/>
                </a:lnTo>
                <a:lnTo>
                  <a:pt x="371" y="0"/>
                </a:lnTo>
                <a:lnTo>
                  <a:pt x="380" y="0"/>
                </a:lnTo>
                <a:lnTo>
                  <a:pt x="390" y="0"/>
                </a:lnTo>
                <a:lnTo>
                  <a:pt x="399" y="1"/>
                </a:lnTo>
                <a:lnTo>
                  <a:pt x="409" y="3"/>
                </a:lnTo>
                <a:lnTo>
                  <a:pt x="421" y="5"/>
                </a:lnTo>
                <a:lnTo>
                  <a:pt x="430" y="9"/>
                </a:lnTo>
                <a:lnTo>
                  <a:pt x="442" y="13"/>
                </a:lnTo>
                <a:lnTo>
                  <a:pt x="453" y="17"/>
                </a:lnTo>
                <a:lnTo>
                  <a:pt x="467" y="21"/>
                </a:lnTo>
                <a:lnTo>
                  <a:pt x="490" y="34"/>
                </a:lnTo>
                <a:lnTo>
                  <a:pt x="513" y="48"/>
                </a:lnTo>
                <a:lnTo>
                  <a:pt x="534" y="61"/>
                </a:lnTo>
                <a:lnTo>
                  <a:pt x="553" y="71"/>
                </a:lnTo>
                <a:lnTo>
                  <a:pt x="572" y="82"/>
                </a:lnTo>
                <a:lnTo>
                  <a:pt x="589" y="92"/>
                </a:lnTo>
                <a:lnTo>
                  <a:pt x="607" y="101"/>
                </a:lnTo>
                <a:lnTo>
                  <a:pt x="622" y="111"/>
                </a:lnTo>
                <a:lnTo>
                  <a:pt x="626" y="119"/>
                </a:lnTo>
                <a:lnTo>
                  <a:pt x="630" y="126"/>
                </a:lnTo>
                <a:lnTo>
                  <a:pt x="634" y="132"/>
                </a:lnTo>
                <a:lnTo>
                  <a:pt x="636" y="140"/>
                </a:lnTo>
                <a:lnTo>
                  <a:pt x="637" y="145"/>
                </a:lnTo>
                <a:lnTo>
                  <a:pt x="639" y="151"/>
                </a:lnTo>
                <a:lnTo>
                  <a:pt x="641" y="157"/>
                </a:lnTo>
                <a:lnTo>
                  <a:pt x="641" y="163"/>
                </a:lnTo>
                <a:lnTo>
                  <a:pt x="643" y="176"/>
                </a:lnTo>
                <a:lnTo>
                  <a:pt x="641" y="188"/>
                </a:lnTo>
                <a:lnTo>
                  <a:pt x="637" y="201"/>
                </a:lnTo>
                <a:lnTo>
                  <a:pt x="634" y="214"/>
                </a:lnTo>
                <a:lnTo>
                  <a:pt x="632" y="218"/>
                </a:lnTo>
                <a:lnTo>
                  <a:pt x="630" y="224"/>
                </a:lnTo>
                <a:lnTo>
                  <a:pt x="628" y="230"/>
                </a:lnTo>
                <a:lnTo>
                  <a:pt x="626" y="236"/>
                </a:lnTo>
                <a:lnTo>
                  <a:pt x="624" y="241"/>
                </a:lnTo>
                <a:lnTo>
                  <a:pt x="620" y="249"/>
                </a:lnTo>
                <a:lnTo>
                  <a:pt x="618" y="257"/>
                </a:lnTo>
                <a:lnTo>
                  <a:pt x="618" y="266"/>
                </a:lnTo>
                <a:lnTo>
                  <a:pt x="616" y="276"/>
                </a:lnTo>
                <a:lnTo>
                  <a:pt x="614" y="286"/>
                </a:lnTo>
                <a:lnTo>
                  <a:pt x="612" y="297"/>
                </a:lnTo>
                <a:lnTo>
                  <a:pt x="611" y="309"/>
                </a:lnTo>
                <a:lnTo>
                  <a:pt x="609" y="320"/>
                </a:lnTo>
                <a:lnTo>
                  <a:pt x="609" y="334"/>
                </a:lnTo>
                <a:lnTo>
                  <a:pt x="607" y="347"/>
                </a:lnTo>
                <a:lnTo>
                  <a:pt x="605" y="360"/>
                </a:lnTo>
                <a:lnTo>
                  <a:pt x="605" y="376"/>
                </a:lnTo>
                <a:lnTo>
                  <a:pt x="603" y="391"/>
                </a:lnTo>
                <a:lnTo>
                  <a:pt x="601" y="408"/>
                </a:lnTo>
                <a:lnTo>
                  <a:pt x="601" y="424"/>
                </a:lnTo>
                <a:lnTo>
                  <a:pt x="599" y="443"/>
                </a:lnTo>
                <a:lnTo>
                  <a:pt x="599" y="460"/>
                </a:lnTo>
                <a:lnTo>
                  <a:pt x="599" y="479"/>
                </a:lnTo>
                <a:lnTo>
                  <a:pt x="597" y="499"/>
                </a:lnTo>
                <a:lnTo>
                  <a:pt x="597" y="520"/>
                </a:lnTo>
                <a:lnTo>
                  <a:pt x="597" y="541"/>
                </a:lnTo>
                <a:lnTo>
                  <a:pt x="597" y="562"/>
                </a:lnTo>
                <a:lnTo>
                  <a:pt x="595" y="585"/>
                </a:lnTo>
                <a:lnTo>
                  <a:pt x="595" y="608"/>
                </a:lnTo>
                <a:lnTo>
                  <a:pt x="595" y="631"/>
                </a:lnTo>
                <a:lnTo>
                  <a:pt x="595" y="656"/>
                </a:lnTo>
                <a:lnTo>
                  <a:pt x="595" y="681"/>
                </a:lnTo>
                <a:lnTo>
                  <a:pt x="595" y="737"/>
                </a:lnTo>
                <a:lnTo>
                  <a:pt x="595" y="792"/>
                </a:lnTo>
                <a:lnTo>
                  <a:pt x="595" y="850"/>
                </a:lnTo>
                <a:lnTo>
                  <a:pt x="595" y="909"/>
                </a:lnTo>
                <a:lnTo>
                  <a:pt x="595" y="971"/>
                </a:lnTo>
                <a:lnTo>
                  <a:pt x="595" y="1034"/>
                </a:lnTo>
                <a:lnTo>
                  <a:pt x="597" y="1099"/>
                </a:lnTo>
                <a:lnTo>
                  <a:pt x="597" y="1167"/>
                </a:lnTo>
                <a:lnTo>
                  <a:pt x="597" y="1234"/>
                </a:lnTo>
                <a:lnTo>
                  <a:pt x="599" y="1305"/>
                </a:lnTo>
                <a:lnTo>
                  <a:pt x="599" y="1376"/>
                </a:lnTo>
                <a:lnTo>
                  <a:pt x="601" y="1449"/>
                </a:lnTo>
                <a:lnTo>
                  <a:pt x="603" y="1524"/>
                </a:lnTo>
                <a:lnTo>
                  <a:pt x="605" y="1600"/>
                </a:lnTo>
                <a:lnTo>
                  <a:pt x="607" y="1677"/>
                </a:lnTo>
                <a:lnTo>
                  <a:pt x="609" y="1758"/>
                </a:lnTo>
                <a:lnTo>
                  <a:pt x="609" y="1796"/>
                </a:lnTo>
                <a:lnTo>
                  <a:pt x="609" y="1835"/>
                </a:lnTo>
                <a:lnTo>
                  <a:pt x="609" y="1873"/>
                </a:lnTo>
                <a:lnTo>
                  <a:pt x="607" y="1909"/>
                </a:lnTo>
                <a:lnTo>
                  <a:pt x="607" y="1946"/>
                </a:lnTo>
                <a:lnTo>
                  <a:pt x="607" y="1980"/>
                </a:lnTo>
                <a:lnTo>
                  <a:pt x="607" y="2015"/>
                </a:lnTo>
                <a:lnTo>
                  <a:pt x="605" y="2048"/>
                </a:lnTo>
                <a:lnTo>
                  <a:pt x="605" y="2080"/>
                </a:lnTo>
                <a:lnTo>
                  <a:pt x="605" y="2111"/>
                </a:lnTo>
                <a:lnTo>
                  <a:pt x="603" y="2142"/>
                </a:lnTo>
                <a:lnTo>
                  <a:pt x="603" y="2170"/>
                </a:lnTo>
                <a:lnTo>
                  <a:pt x="601" y="2199"/>
                </a:lnTo>
                <a:lnTo>
                  <a:pt x="601" y="2226"/>
                </a:lnTo>
                <a:lnTo>
                  <a:pt x="599" y="2253"/>
                </a:lnTo>
                <a:lnTo>
                  <a:pt x="599" y="2278"/>
                </a:lnTo>
                <a:lnTo>
                  <a:pt x="597" y="2303"/>
                </a:lnTo>
                <a:lnTo>
                  <a:pt x="595" y="2326"/>
                </a:lnTo>
                <a:lnTo>
                  <a:pt x="595" y="2349"/>
                </a:lnTo>
                <a:lnTo>
                  <a:pt x="593" y="2370"/>
                </a:lnTo>
                <a:lnTo>
                  <a:pt x="591" y="2391"/>
                </a:lnTo>
                <a:lnTo>
                  <a:pt x="589" y="2410"/>
                </a:lnTo>
                <a:lnTo>
                  <a:pt x="588" y="2428"/>
                </a:lnTo>
                <a:lnTo>
                  <a:pt x="586" y="2445"/>
                </a:lnTo>
                <a:lnTo>
                  <a:pt x="584" y="2462"/>
                </a:lnTo>
                <a:lnTo>
                  <a:pt x="582" y="2478"/>
                </a:lnTo>
                <a:lnTo>
                  <a:pt x="580" y="2491"/>
                </a:lnTo>
                <a:lnTo>
                  <a:pt x="578" y="2504"/>
                </a:lnTo>
                <a:lnTo>
                  <a:pt x="576" y="2518"/>
                </a:lnTo>
                <a:lnTo>
                  <a:pt x="574" y="2527"/>
                </a:lnTo>
                <a:lnTo>
                  <a:pt x="572" y="2539"/>
                </a:lnTo>
                <a:lnTo>
                  <a:pt x="570" y="2547"/>
                </a:lnTo>
                <a:lnTo>
                  <a:pt x="565" y="2566"/>
                </a:lnTo>
                <a:lnTo>
                  <a:pt x="559" y="2585"/>
                </a:lnTo>
                <a:lnTo>
                  <a:pt x="553" y="2602"/>
                </a:lnTo>
                <a:lnTo>
                  <a:pt x="547" y="2620"/>
                </a:lnTo>
                <a:lnTo>
                  <a:pt x="541" y="2637"/>
                </a:lnTo>
                <a:lnTo>
                  <a:pt x="536" y="2654"/>
                </a:lnTo>
                <a:lnTo>
                  <a:pt x="530" y="2670"/>
                </a:lnTo>
                <a:lnTo>
                  <a:pt x="522" y="2685"/>
                </a:lnTo>
                <a:lnTo>
                  <a:pt x="509" y="2714"/>
                </a:lnTo>
                <a:lnTo>
                  <a:pt x="495" y="2742"/>
                </a:lnTo>
                <a:lnTo>
                  <a:pt x="480" y="2769"/>
                </a:lnTo>
                <a:lnTo>
                  <a:pt x="467" y="2794"/>
                </a:lnTo>
                <a:lnTo>
                  <a:pt x="459" y="2802"/>
                </a:lnTo>
                <a:lnTo>
                  <a:pt x="451" y="2812"/>
                </a:lnTo>
                <a:lnTo>
                  <a:pt x="444" y="2819"/>
                </a:lnTo>
                <a:lnTo>
                  <a:pt x="438" y="2827"/>
                </a:lnTo>
                <a:lnTo>
                  <a:pt x="430" y="2835"/>
                </a:lnTo>
                <a:lnTo>
                  <a:pt x="422" y="2840"/>
                </a:lnTo>
                <a:lnTo>
                  <a:pt x="417" y="2846"/>
                </a:lnTo>
                <a:lnTo>
                  <a:pt x="409" y="2852"/>
                </a:lnTo>
                <a:lnTo>
                  <a:pt x="403" y="2856"/>
                </a:lnTo>
                <a:lnTo>
                  <a:pt x="396" y="2860"/>
                </a:lnTo>
                <a:lnTo>
                  <a:pt x="390" y="2863"/>
                </a:lnTo>
                <a:lnTo>
                  <a:pt x="384" y="2867"/>
                </a:lnTo>
                <a:lnTo>
                  <a:pt x="378" y="2869"/>
                </a:lnTo>
                <a:lnTo>
                  <a:pt x="373" y="2869"/>
                </a:lnTo>
                <a:lnTo>
                  <a:pt x="367" y="2871"/>
                </a:lnTo>
                <a:lnTo>
                  <a:pt x="363" y="2871"/>
                </a:lnTo>
                <a:lnTo>
                  <a:pt x="355" y="2869"/>
                </a:lnTo>
                <a:lnTo>
                  <a:pt x="350" y="2865"/>
                </a:lnTo>
                <a:lnTo>
                  <a:pt x="344" y="2861"/>
                </a:lnTo>
                <a:lnTo>
                  <a:pt x="338" y="2856"/>
                </a:lnTo>
                <a:lnTo>
                  <a:pt x="332" y="2852"/>
                </a:lnTo>
                <a:lnTo>
                  <a:pt x="328" y="2844"/>
                </a:lnTo>
                <a:lnTo>
                  <a:pt x="325" y="2838"/>
                </a:lnTo>
                <a:lnTo>
                  <a:pt x="321" y="2831"/>
                </a:lnTo>
                <a:lnTo>
                  <a:pt x="319" y="2823"/>
                </a:lnTo>
                <a:lnTo>
                  <a:pt x="317" y="2813"/>
                </a:lnTo>
                <a:lnTo>
                  <a:pt x="315" y="2804"/>
                </a:lnTo>
                <a:lnTo>
                  <a:pt x="313" y="2792"/>
                </a:lnTo>
                <a:lnTo>
                  <a:pt x="311" y="2781"/>
                </a:lnTo>
                <a:lnTo>
                  <a:pt x="311" y="2769"/>
                </a:lnTo>
                <a:lnTo>
                  <a:pt x="311" y="2756"/>
                </a:lnTo>
                <a:lnTo>
                  <a:pt x="311" y="2742"/>
                </a:lnTo>
                <a:lnTo>
                  <a:pt x="309" y="2725"/>
                </a:lnTo>
                <a:lnTo>
                  <a:pt x="307" y="2708"/>
                </a:lnTo>
                <a:lnTo>
                  <a:pt x="305" y="2693"/>
                </a:lnTo>
                <a:lnTo>
                  <a:pt x="300" y="2675"/>
                </a:lnTo>
                <a:lnTo>
                  <a:pt x="296" y="2660"/>
                </a:lnTo>
                <a:lnTo>
                  <a:pt x="288" y="2645"/>
                </a:lnTo>
                <a:lnTo>
                  <a:pt x="280" y="2629"/>
                </a:lnTo>
                <a:lnTo>
                  <a:pt x="271" y="2614"/>
                </a:lnTo>
                <a:lnTo>
                  <a:pt x="261" y="2598"/>
                </a:lnTo>
                <a:lnTo>
                  <a:pt x="250" y="2583"/>
                </a:lnTo>
                <a:lnTo>
                  <a:pt x="236" y="2570"/>
                </a:lnTo>
                <a:lnTo>
                  <a:pt x="223" y="2554"/>
                </a:lnTo>
                <a:lnTo>
                  <a:pt x="208" y="2539"/>
                </a:lnTo>
                <a:lnTo>
                  <a:pt x="190" y="2526"/>
                </a:lnTo>
                <a:lnTo>
                  <a:pt x="173" y="2510"/>
                </a:lnTo>
                <a:lnTo>
                  <a:pt x="156" y="2495"/>
                </a:lnTo>
                <a:lnTo>
                  <a:pt x="136" y="2483"/>
                </a:lnTo>
                <a:lnTo>
                  <a:pt x="119" y="2472"/>
                </a:lnTo>
                <a:lnTo>
                  <a:pt x="102" y="2460"/>
                </a:lnTo>
                <a:lnTo>
                  <a:pt x="87" y="2449"/>
                </a:lnTo>
                <a:lnTo>
                  <a:pt x="73" y="2439"/>
                </a:lnTo>
                <a:lnTo>
                  <a:pt x="60" y="2430"/>
                </a:lnTo>
                <a:lnTo>
                  <a:pt x="48" y="2420"/>
                </a:lnTo>
                <a:lnTo>
                  <a:pt x="39" y="2410"/>
                </a:lnTo>
                <a:lnTo>
                  <a:pt x="29" y="2403"/>
                </a:lnTo>
                <a:lnTo>
                  <a:pt x="21" y="2395"/>
                </a:lnTo>
                <a:lnTo>
                  <a:pt x="14" y="2389"/>
                </a:lnTo>
                <a:lnTo>
                  <a:pt x="10" y="2382"/>
                </a:lnTo>
                <a:lnTo>
                  <a:pt x="4" y="2378"/>
                </a:lnTo>
                <a:lnTo>
                  <a:pt x="2" y="2372"/>
                </a:lnTo>
                <a:lnTo>
                  <a:pt x="0" y="2368"/>
                </a:lnTo>
                <a:lnTo>
                  <a:pt x="0" y="2366"/>
                </a:lnTo>
                <a:lnTo>
                  <a:pt x="0" y="2364"/>
                </a:lnTo>
                <a:lnTo>
                  <a:pt x="2" y="2362"/>
                </a:lnTo>
                <a:lnTo>
                  <a:pt x="6" y="2360"/>
                </a:lnTo>
                <a:lnTo>
                  <a:pt x="12" y="2359"/>
                </a:lnTo>
                <a:lnTo>
                  <a:pt x="17" y="2359"/>
                </a:lnTo>
                <a:lnTo>
                  <a:pt x="25" y="2357"/>
                </a:lnTo>
                <a:lnTo>
                  <a:pt x="35" y="2357"/>
                </a:lnTo>
                <a:lnTo>
                  <a:pt x="46" y="2357"/>
                </a:lnTo>
                <a:lnTo>
                  <a:pt x="58" y="2359"/>
                </a:lnTo>
                <a:lnTo>
                  <a:pt x="71" y="2360"/>
                </a:lnTo>
                <a:lnTo>
                  <a:pt x="87" y="2362"/>
                </a:lnTo>
                <a:lnTo>
                  <a:pt x="104" y="2364"/>
                </a:lnTo>
                <a:lnTo>
                  <a:pt x="121" y="2366"/>
                </a:lnTo>
                <a:lnTo>
                  <a:pt x="140" y="2370"/>
                </a:lnTo>
                <a:lnTo>
                  <a:pt x="160" y="2374"/>
                </a:lnTo>
                <a:lnTo>
                  <a:pt x="181" y="2380"/>
                </a:lnTo>
                <a:lnTo>
                  <a:pt x="202" y="2385"/>
                </a:lnTo>
                <a:lnTo>
                  <a:pt x="223" y="2391"/>
                </a:lnTo>
                <a:lnTo>
                  <a:pt x="242" y="2397"/>
                </a:lnTo>
                <a:lnTo>
                  <a:pt x="261" y="2401"/>
                </a:lnTo>
                <a:lnTo>
                  <a:pt x="279" y="2405"/>
                </a:lnTo>
                <a:lnTo>
                  <a:pt x="296" y="2407"/>
                </a:lnTo>
                <a:lnTo>
                  <a:pt x="311" y="2408"/>
                </a:lnTo>
                <a:lnTo>
                  <a:pt x="325" y="2410"/>
                </a:lnTo>
                <a:lnTo>
                  <a:pt x="338" y="2410"/>
                </a:lnTo>
                <a:lnTo>
                  <a:pt x="351" y="2410"/>
                </a:lnTo>
                <a:lnTo>
                  <a:pt x="363" y="2408"/>
                </a:lnTo>
                <a:lnTo>
                  <a:pt x="373" y="2407"/>
                </a:lnTo>
                <a:lnTo>
                  <a:pt x="380" y="2405"/>
                </a:lnTo>
                <a:lnTo>
                  <a:pt x="390" y="2401"/>
                </a:lnTo>
                <a:lnTo>
                  <a:pt x="396" y="2397"/>
                </a:lnTo>
                <a:lnTo>
                  <a:pt x="401" y="2391"/>
                </a:lnTo>
                <a:lnTo>
                  <a:pt x="401" y="2389"/>
                </a:lnTo>
                <a:lnTo>
                  <a:pt x="403" y="2384"/>
                </a:lnTo>
                <a:lnTo>
                  <a:pt x="405" y="2378"/>
                </a:lnTo>
                <a:lnTo>
                  <a:pt x="405" y="2370"/>
                </a:lnTo>
                <a:lnTo>
                  <a:pt x="407" y="2360"/>
                </a:lnTo>
                <a:lnTo>
                  <a:pt x="409" y="2349"/>
                </a:lnTo>
                <a:lnTo>
                  <a:pt x="409" y="2337"/>
                </a:lnTo>
                <a:lnTo>
                  <a:pt x="411" y="2324"/>
                </a:lnTo>
                <a:lnTo>
                  <a:pt x="413" y="2309"/>
                </a:lnTo>
                <a:lnTo>
                  <a:pt x="413" y="2291"/>
                </a:lnTo>
                <a:lnTo>
                  <a:pt x="415" y="2272"/>
                </a:lnTo>
                <a:lnTo>
                  <a:pt x="415" y="2253"/>
                </a:lnTo>
                <a:lnTo>
                  <a:pt x="417" y="2232"/>
                </a:lnTo>
                <a:lnTo>
                  <a:pt x="419" y="2209"/>
                </a:lnTo>
                <a:lnTo>
                  <a:pt x="419" y="2184"/>
                </a:lnTo>
                <a:lnTo>
                  <a:pt x="421" y="2159"/>
                </a:lnTo>
                <a:lnTo>
                  <a:pt x="422" y="2130"/>
                </a:lnTo>
                <a:lnTo>
                  <a:pt x="422" y="2101"/>
                </a:lnTo>
                <a:lnTo>
                  <a:pt x="424" y="2071"/>
                </a:lnTo>
                <a:lnTo>
                  <a:pt x="426" y="2040"/>
                </a:lnTo>
                <a:lnTo>
                  <a:pt x="426" y="2005"/>
                </a:lnTo>
                <a:lnTo>
                  <a:pt x="428" y="1971"/>
                </a:lnTo>
                <a:lnTo>
                  <a:pt x="428" y="1934"/>
                </a:lnTo>
                <a:lnTo>
                  <a:pt x="430" y="1896"/>
                </a:lnTo>
                <a:lnTo>
                  <a:pt x="432" y="1856"/>
                </a:lnTo>
                <a:lnTo>
                  <a:pt x="432" y="1815"/>
                </a:lnTo>
                <a:lnTo>
                  <a:pt x="434" y="1773"/>
                </a:lnTo>
                <a:lnTo>
                  <a:pt x="436" y="1729"/>
                </a:lnTo>
                <a:lnTo>
                  <a:pt x="436" y="1683"/>
                </a:lnTo>
                <a:lnTo>
                  <a:pt x="438" y="1635"/>
                </a:lnTo>
                <a:lnTo>
                  <a:pt x="438" y="1587"/>
                </a:lnTo>
                <a:lnTo>
                  <a:pt x="440" y="1537"/>
                </a:lnTo>
                <a:lnTo>
                  <a:pt x="442" y="1487"/>
                </a:lnTo>
                <a:lnTo>
                  <a:pt x="442" y="1439"/>
                </a:lnTo>
                <a:lnTo>
                  <a:pt x="444" y="1391"/>
                </a:lnTo>
                <a:lnTo>
                  <a:pt x="444" y="1345"/>
                </a:lnTo>
                <a:lnTo>
                  <a:pt x="446" y="1299"/>
                </a:lnTo>
                <a:lnTo>
                  <a:pt x="446" y="1255"/>
                </a:lnTo>
                <a:lnTo>
                  <a:pt x="446" y="1211"/>
                </a:lnTo>
                <a:lnTo>
                  <a:pt x="447" y="1168"/>
                </a:lnTo>
                <a:lnTo>
                  <a:pt x="447" y="1126"/>
                </a:lnTo>
                <a:lnTo>
                  <a:pt x="447" y="1084"/>
                </a:lnTo>
                <a:lnTo>
                  <a:pt x="449" y="1046"/>
                </a:lnTo>
                <a:lnTo>
                  <a:pt x="449" y="1005"/>
                </a:lnTo>
                <a:lnTo>
                  <a:pt x="449" y="967"/>
                </a:lnTo>
                <a:lnTo>
                  <a:pt x="449" y="930"/>
                </a:lnTo>
                <a:lnTo>
                  <a:pt x="449" y="894"/>
                </a:lnTo>
                <a:lnTo>
                  <a:pt x="449" y="859"/>
                </a:lnTo>
                <a:lnTo>
                  <a:pt x="449" y="825"/>
                </a:lnTo>
                <a:lnTo>
                  <a:pt x="449" y="792"/>
                </a:lnTo>
                <a:lnTo>
                  <a:pt x="449" y="760"/>
                </a:lnTo>
                <a:lnTo>
                  <a:pt x="449" y="729"/>
                </a:lnTo>
                <a:lnTo>
                  <a:pt x="449" y="698"/>
                </a:lnTo>
                <a:lnTo>
                  <a:pt x="447" y="669"/>
                </a:lnTo>
                <a:lnTo>
                  <a:pt x="447" y="643"/>
                </a:lnTo>
                <a:lnTo>
                  <a:pt x="447" y="614"/>
                </a:lnTo>
                <a:lnTo>
                  <a:pt x="446" y="589"/>
                </a:lnTo>
                <a:lnTo>
                  <a:pt x="446" y="564"/>
                </a:lnTo>
                <a:lnTo>
                  <a:pt x="446" y="539"/>
                </a:lnTo>
                <a:lnTo>
                  <a:pt x="444" y="516"/>
                </a:lnTo>
                <a:lnTo>
                  <a:pt x="444" y="495"/>
                </a:lnTo>
                <a:lnTo>
                  <a:pt x="442" y="474"/>
                </a:lnTo>
                <a:lnTo>
                  <a:pt x="442" y="454"/>
                </a:lnTo>
                <a:lnTo>
                  <a:pt x="440" y="435"/>
                </a:lnTo>
                <a:lnTo>
                  <a:pt x="438" y="401"/>
                </a:lnTo>
                <a:lnTo>
                  <a:pt x="434" y="366"/>
                </a:lnTo>
                <a:lnTo>
                  <a:pt x="430" y="334"/>
                </a:lnTo>
                <a:lnTo>
                  <a:pt x="426" y="305"/>
                </a:lnTo>
                <a:lnTo>
                  <a:pt x="421" y="276"/>
                </a:lnTo>
                <a:lnTo>
                  <a:pt x="419" y="262"/>
                </a:lnTo>
                <a:lnTo>
                  <a:pt x="417" y="251"/>
                </a:lnTo>
                <a:lnTo>
                  <a:pt x="413" y="238"/>
                </a:lnTo>
                <a:lnTo>
                  <a:pt x="411" y="226"/>
                </a:lnTo>
                <a:lnTo>
                  <a:pt x="407" y="214"/>
                </a:lnTo>
                <a:lnTo>
                  <a:pt x="405" y="203"/>
                </a:lnTo>
                <a:lnTo>
                  <a:pt x="401" y="193"/>
                </a:lnTo>
                <a:lnTo>
                  <a:pt x="398" y="184"/>
                </a:lnTo>
                <a:lnTo>
                  <a:pt x="396" y="174"/>
                </a:lnTo>
                <a:lnTo>
                  <a:pt x="392" y="165"/>
                </a:lnTo>
                <a:lnTo>
                  <a:pt x="388" y="157"/>
                </a:lnTo>
                <a:lnTo>
                  <a:pt x="384" y="149"/>
                </a:lnTo>
                <a:lnTo>
                  <a:pt x="382" y="142"/>
                </a:lnTo>
                <a:lnTo>
                  <a:pt x="378" y="136"/>
                </a:lnTo>
                <a:lnTo>
                  <a:pt x="374" y="128"/>
                </a:lnTo>
                <a:lnTo>
                  <a:pt x="371" y="122"/>
                </a:lnTo>
                <a:lnTo>
                  <a:pt x="367" y="117"/>
                </a:lnTo>
                <a:lnTo>
                  <a:pt x="363" y="113"/>
                </a:lnTo>
                <a:lnTo>
                  <a:pt x="359" y="109"/>
                </a:lnTo>
                <a:lnTo>
                  <a:pt x="357" y="105"/>
                </a:lnTo>
                <a:lnTo>
                  <a:pt x="353" y="101"/>
                </a:lnTo>
                <a:lnTo>
                  <a:pt x="350" y="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113"/>
          <p:cNvSpPr/>
          <p:nvPr/>
        </p:nvSpPr>
        <p:spPr>
          <a:xfrm>
            <a:off x="7018200" y="2967120"/>
            <a:ext cx="209520" cy="984240"/>
          </a:xfrm>
          <a:custGeom>
            <a:avLst/>
            <a:gdLst/>
            <a:ahLst/>
            <a:rect l="l" t="t" r="r" b="b"/>
            <a:pathLst>
              <a:path w="265" h="1240">
                <a:moveTo>
                  <a:pt x="19" y="87"/>
                </a:moveTo>
                <a:lnTo>
                  <a:pt x="13" y="83"/>
                </a:lnTo>
                <a:lnTo>
                  <a:pt x="9" y="77"/>
                </a:lnTo>
                <a:lnTo>
                  <a:pt x="5" y="73"/>
                </a:lnTo>
                <a:lnTo>
                  <a:pt x="4" y="68"/>
                </a:lnTo>
                <a:lnTo>
                  <a:pt x="2" y="64"/>
                </a:lnTo>
                <a:lnTo>
                  <a:pt x="0" y="58"/>
                </a:lnTo>
                <a:lnTo>
                  <a:pt x="0" y="54"/>
                </a:lnTo>
                <a:lnTo>
                  <a:pt x="0" y="48"/>
                </a:lnTo>
                <a:lnTo>
                  <a:pt x="0" y="45"/>
                </a:lnTo>
                <a:lnTo>
                  <a:pt x="0" y="39"/>
                </a:lnTo>
                <a:lnTo>
                  <a:pt x="2" y="35"/>
                </a:lnTo>
                <a:lnTo>
                  <a:pt x="4" y="29"/>
                </a:lnTo>
                <a:lnTo>
                  <a:pt x="5" y="23"/>
                </a:lnTo>
                <a:lnTo>
                  <a:pt x="9" y="20"/>
                </a:lnTo>
                <a:lnTo>
                  <a:pt x="13" y="14"/>
                </a:lnTo>
                <a:lnTo>
                  <a:pt x="19" y="10"/>
                </a:lnTo>
                <a:lnTo>
                  <a:pt x="21" y="8"/>
                </a:lnTo>
                <a:lnTo>
                  <a:pt x="25" y="6"/>
                </a:lnTo>
                <a:lnTo>
                  <a:pt x="29" y="4"/>
                </a:lnTo>
                <a:lnTo>
                  <a:pt x="34" y="2"/>
                </a:lnTo>
                <a:lnTo>
                  <a:pt x="42" y="2"/>
                </a:lnTo>
                <a:lnTo>
                  <a:pt x="48" y="0"/>
                </a:lnTo>
                <a:lnTo>
                  <a:pt x="57" y="0"/>
                </a:lnTo>
                <a:lnTo>
                  <a:pt x="65" y="0"/>
                </a:lnTo>
                <a:lnTo>
                  <a:pt x="75" y="2"/>
                </a:lnTo>
                <a:lnTo>
                  <a:pt x="84" y="4"/>
                </a:lnTo>
                <a:lnTo>
                  <a:pt x="96" y="6"/>
                </a:lnTo>
                <a:lnTo>
                  <a:pt x="107" y="8"/>
                </a:lnTo>
                <a:lnTo>
                  <a:pt x="121" y="10"/>
                </a:lnTo>
                <a:lnTo>
                  <a:pt x="132" y="14"/>
                </a:lnTo>
                <a:lnTo>
                  <a:pt x="146" y="18"/>
                </a:lnTo>
                <a:lnTo>
                  <a:pt x="161" y="23"/>
                </a:lnTo>
                <a:lnTo>
                  <a:pt x="172" y="27"/>
                </a:lnTo>
                <a:lnTo>
                  <a:pt x="184" y="33"/>
                </a:lnTo>
                <a:lnTo>
                  <a:pt x="194" y="37"/>
                </a:lnTo>
                <a:lnTo>
                  <a:pt x="203" y="43"/>
                </a:lnTo>
                <a:lnTo>
                  <a:pt x="213" y="46"/>
                </a:lnTo>
                <a:lnTo>
                  <a:pt x="222" y="52"/>
                </a:lnTo>
                <a:lnTo>
                  <a:pt x="230" y="56"/>
                </a:lnTo>
                <a:lnTo>
                  <a:pt x="236" y="62"/>
                </a:lnTo>
                <a:lnTo>
                  <a:pt x="243" y="66"/>
                </a:lnTo>
                <a:lnTo>
                  <a:pt x="249" y="71"/>
                </a:lnTo>
                <a:lnTo>
                  <a:pt x="253" y="75"/>
                </a:lnTo>
                <a:lnTo>
                  <a:pt x="257" y="81"/>
                </a:lnTo>
                <a:lnTo>
                  <a:pt x="261" y="85"/>
                </a:lnTo>
                <a:lnTo>
                  <a:pt x="263" y="91"/>
                </a:lnTo>
                <a:lnTo>
                  <a:pt x="265" y="94"/>
                </a:lnTo>
                <a:lnTo>
                  <a:pt x="265" y="100"/>
                </a:lnTo>
                <a:lnTo>
                  <a:pt x="265" y="106"/>
                </a:lnTo>
                <a:lnTo>
                  <a:pt x="265" y="112"/>
                </a:lnTo>
                <a:lnTo>
                  <a:pt x="265" y="117"/>
                </a:lnTo>
                <a:lnTo>
                  <a:pt x="265" y="125"/>
                </a:lnTo>
                <a:lnTo>
                  <a:pt x="265" y="133"/>
                </a:lnTo>
                <a:lnTo>
                  <a:pt x="263" y="141"/>
                </a:lnTo>
                <a:lnTo>
                  <a:pt x="263" y="150"/>
                </a:lnTo>
                <a:lnTo>
                  <a:pt x="263" y="160"/>
                </a:lnTo>
                <a:lnTo>
                  <a:pt x="263" y="171"/>
                </a:lnTo>
                <a:lnTo>
                  <a:pt x="261" y="183"/>
                </a:lnTo>
                <a:lnTo>
                  <a:pt x="261" y="194"/>
                </a:lnTo>
                <a:lnTo>
                  <a:pt x="259" y="208"/>
                </a:lnTo>
                <a:lnTo>
                  <a:pt x="257" y="221"/>
                </a:lnTo>
                <a:lnTo>
                  <a:pt x="255" y="236"/>
                </a:lnTo>
                <a:lnTo>
                  <a:pt x="253" y="252"/>
                </a:lnTo>
                <a:lnTo>
                  <a:pt x="251" y="269"/>
                </a:lnTo>
                <a:lnTo>
                  <a:pt x="249" y="286"/>
                </a:lnTo>
                <a:lnTo>
                  <a:pt x="247" y="306"/>
                </a:lnTo>
                <a:lnTo>
                  <a:pt x="245" y="329"/>
                </a:lnTo>
                <a:lnTo>
                  <a:pt x="243" y="352"/>
                </a:lnTo>
                <a:lnTo>
                  <a:pt x="243" y="377"/>
                </a:lnTo>
                <a:lnTo>
                  <a:pt x="242" y="390"/>
                </a:lnTo>
                <a:lnTo>
                  <a:pt x="242" y="403"/>
                </a:lnTo>
                <a:lnTo>
                  <a:pt x="242" y="419"/>
                </a:lnTo>
                <a:lnTo>
                  <a:pt x="242" y="434"/>
                </a:lnTo>
                <a:lnTo>
                  <a:pt x="240" y="450"/>
                </a:lnTo>
                <a:lnTo>
                  <a:pt x="240" y="465"/>
                </a:lnTo>
                <a:lnTo>
                  <a:pt x="240" y="480"/>
                </a:lnTo>
                <a:lnTo>
                  <a:pt x="240" y="498"/>
                </a:lnTo>
                <a:lnTo>
                  <a:pt x="240" y="515"/>
                </a:lnTo>
                <a:lnTo>
                  <a:pt x="240" y="532"/>
                </a:lnTo>
                <a:lnTo>
                  <a:pt x="240" y="551"/>
                </a:lnTo>
                <a:lnTo>
                  <a:pt x="240" y="570"/>
                </a:lnTo>
                <a:lnTo>
                  <a:pt x="238" y="590"/>
                </a:lnTo>
                <a:lnTo>
                  <a:pt x="238" y="609"/>
                </a:lnTo>
                <a:lnTo>
                  <a:pt x="238" y="630"/>
                </a:lnTo>
                <a:lnTo>
                  <a:pt x="238" y="651"/>
                </a:lnTo>
                <a:lnTo>
                  <a:pt x="238" y="672"/>
                </a:lnTo>
                <a:lnTo>
                  <a:pt x="238" y="693"/>
                </a:lnTo>
                <a:lnTo>
                  <a:pt x="238" y="716"/>
                </a:lnTo>
                <a:lnTo>
                  <a:pt x="238" y="739"/>
                </a:lnTo>
                <a:lnTo>
                  <a:pt x="238" y="762"/>
                </a:lnTo>
                <a:lnTo>
                  <a:pt x="238" y="787"/>
                </a:lnTo>
                <a:lnTo>
                  <a:pt x="238" y="812"/>
                </a:lnTo>
                <a:lnTo>
                  <a:pt x="238" y="837"/>
                </a:lnTo>
                <a:lnTo>
                  <a:pt x="238" y="860"/>
                </a:lnTo>
                <a:lnTo>
                  <a:pt x="238" y="883"/>
                </a:lnTo>
                <a:lnTo>
                  <a:pt x="238" y="904"/>
                </a:lnTo>
                <a:lnTo>
                  <a:pt x="238" y="926"/>
                </a:lnTo>
                <a:lnTo>
                  <a:pt x="236" y="947"/>
                </a:lnTo>
                <a:lnTo>
                  <a:pt x="236" y="968"/>
                </a:lnTo>
                <a:lnTo>
                  <a:pt x="236" y="987"/>
                </a:lnTo>
                <a:lnTo>
                  <a:pt x="234" y="1004"/>
                </a:lnTo>
                <a:lnTo>
                  <a:pt x="234" y="1022"/>
                </a:lnTo>
                <a:lnTo>
                  <a:pt x="232" y="1039"/>
                </a:lnTo>
                <a:lnTo>
                  <a:pt x="232" y="1056"/>
                </a:lnTo>
                <a:lnTo>
                  <a:pt x="230" y="1071"/>
                </a:lnTo>
                <a:lnTo>
                  <a:pt x="230" y="1085"/>
                </a:lnTo>
                <a:lnTo>
                  <a:pt x="228" y="1100"/>
                </a:lnTo>
                <a:lnTo>
                  <a:pt x="228" y="1114"/>
                </a:lnTo>
                <a:lnTo>
                  <a:pt x="226" y="1125"/>
                </a:lnTo>
                <a:lnTo>
                  <a:pt x="224" y="1137"/>
                </a:lnTo>
                <a:lnTo>
                  <a:pt x="222" y="1148"/>
                </a:lnTo>
                <a:lnTo>
                  <a:pt x="222" y="1160"/>
                </a:lnTo>
                <a:lnTo>
                  <a:pt x="220" y="1169"/>
                </a:lnTo>
                <a:lnTo>
                  <a:pt x="219" y="1177"/>
                </a:lnTo>
                <a:lnTo>
                  <a:pt x="217" y="1187"/>
                </a:lnTo>
                <a:lnTo>
                  <a:pt x="215" y="1194"/>
                </a:lnTo>
                <a:lnTo>
                  <a:pt x="213" y="1200"/>
                </a:lnTo>
                <a:lnTo>
                  <a:pt x="211" y="1206"/>
                </a:lnTo>
                <a:lnTo>
                  <a:pt x="209" y="1212"/>
                </a:lnTo>
                <a:lnTo>
                  <a:pt x="207" y="1217"/>
                </a:lnTo>
                <a:lnTo>
                  <a:pt x="203" y="1221"/>
                </a:lnTo>
                <a:lnTo>
                  <a:pt x="201" y="1225"/>
                </a:lnTo>
                <a:lnTo>
                  <a:pt x="199" y="1227"/>
                </a:lnTo>
                <a:lnTo>
                  <a:pt x="195" y="1233"/>
                </a:lnTo>
                <a:lnTo>
                  <a:pt x="190" y="1235"/>
                </a:lnTo>
                <a:lnTo>
                  <a:pt x="184" y="1238"/>
                </a:lnTo>
                <a:lnTo>
                  <a:pt x="180" y="1240"/>
                </a:lnTo>
                <a:lnTo>
                  <a:pt x="174" y="1240"/>
                </a:lnTo>
                <a:lnTo>
                  <a:pt x="171" y="1240"/>
                </a:lnTo>
                <a:lnTo>
                  <a:pt x="165" y="1240"/>
                </a:lnTo>
                <a:lnTo>
                  <a:pt x="161" y="1238"/>
                </a:lnTo>
                <a:lnTo>
                  <a:pt x="155" y="1235"/>
                </a:lnTo>
                <a:lnTo>
                  <a:pt x="151" y="1231"/>
                </a:lnTo>
                <a:lnTo>
                  <a:pt x="146" y="1227"/>
                </a:lnTo>
                <a:lnTo>
                  <a:pt x="142" y="1221"/>
                </a:lnTo>
                <a:lnTo>
                  <a:pt x="136" y="1213"/>
                </a:lnTo>
                <a:lnTo>
                  <a:pt x="132" y="1206"/>
                </a:lnTo>
                <a:lnTo>
                  <a:pt x="126" y="1198"/>
                </a:lnTo>
                <a:lnTo>
                  <a:pt x="123" y="1189"/>
                </a:lnTo>
                <a:lnTo>
                  <a:pt x="119" y="1185"/>
                </a:lnTo>
                <a:lnTo>
                  <a:pt x="117" y="1181"/>
                </a:lnTo>
                <a:lnTo>
                  <a:pt x="115" y="1175"/>
                </a:lnTo>
                <a:lnTo>
                  <a:pt x="113" y="1169"/>
                </a:lnTo>
                <a:lnTo>
                  <a:pt x="111" y="1164"/>
                </a:lnTo>
                <a:lnTo>
                  <a:pt x="109" y="1156"/>
                </a:lnTo>
                <a:lnTo>
                  <a:pt x="107" y="1148"/>
                </a:lnTo>
                <a:lnTo>
                  <a:pt x="105" y="1141"/>
                </a:lnTo>
                <a:lnTo>
                  <a:pt x="103" y="1131"/>
                </a:lnTo>
                <a:lnTo>
                  <a:pt x="101" y="1121"/>
                </a:lnTo>
                <a:lnTo>
                  <a:pt x="100" y="1112"/>
                </a:lnTo>
                <a:lnTo>
                  <a:pt x="100" y="1102"/>
                </a:lnTo>
                <a:lnTo>
                  <a:pt x="98" y="1091"/>
                </a:lnTo>
                <a:lnTo>
                  <a:pt x="96" y="1079"/>
                </a:lnTo>
                <a:lnTo>
                  <a:pt x="96" y="1068"/>
                </a:lnTo>
                <a:lnTo>
                  <a:pt x="94" y="1054"/>
                </a:lnTo>
                <a:lnTo>
                  <a:pt x="94" y="1041"/>
                </a:lnTo>
                <a:lnTo>
                  <a:pt x="94" y="1027"/>
                </a:lnTo>
                <a:lnTo>
                  <a:pt x="92" y="1012"/>
                </a:lnTo>
                <a:lnTo>
                  <a:pt x="92" y="997"/>
                </a:lnTo>
                <a:lnTo>
                  <a:pt x="92" y="981"/>
                </a:lnTo>
                <a:lnTo>
                  <a:pt x="92" y="966"/>
                </a:lnTo>
                <a:lnTo>
                  <a:pt x="92" y="949"/>
                </a:lnTo>
                <a:lnTo>
                  <a:pt x="92" y="931"/>
                </a:lnTo>
                <a:lnTo>
                  <a:pt x="92" y="914"/>
                </a:lnTo>
                <a:lnTo>
                  <a:pt x="92" y="895"/>
                </a:lnTo>
                <a:lnTo>
                  <a:pt x="92" y="876"/>
                </a:lnTo>
                <a:lnTo>
                  <a:pt x="92" y="856"/>
                </a:lnTo>
                <a:lnTo>
                  <a:pt x="94" y="837"/>
                </a:lnTo>
                <a:lnTo>
                  <a:pt x="94" y="816"/>
                </a:lnTo>
                <a:lnTo>
                  <a:pt x="94" y="795"/>
                </a:lnTo>
                <a:lnTo>
                  <a:pt x="96" y="774"/>
                </a:lnTo>
                <a:lnTo>
                  <a:pt x="96" y="734"/>
                </a:lnTo>
                <a:lnTo>
                  <a:pt x="96" y="693"/>
                </a:lnTo>
                <a:lnTo>
                  <a:pt x="96" y="655"/>
                </a:lnTo>
                <a:lnTo>
                  <a:pt x="96" y="618"/>
                </a:lnTo>
                <a:lnTo>
                  <a:pt x="96" y="584"/>
                </a:lnTo>
                <a:lnTo>
                  <a:pt x="96" y="549"/>
                </a:lnTo>
                <a:lnTo>
                  <a:pt x="94" y="515"/>
                </a:lnTo>
                <a:lnTo>
                  <a:pt x="94" y="484"/>
                </a:lnTo>
                <a:lnTo>
                  <a:pt x="94" y="453"/>
                </a:lnTo>
                <a:lnTo>
                  <a:pt x="92" y="425"/>
                </a:lnTo>
                <a:lnTo>
                  <a:pt x="92" y="398"/>
                </a:lnTo>
                <a:lnTo>
                  <a:pt x="90" y="371"/>
                </a:lnTo>
                <a:lnTo>
                  <a:pt x="88" y="346"/>
                </a:lnTo>
                <a:lnTo>
                  <a:pt x="86" y="323"/>
                </a:lnTo>
                <a:lnTo>
                  <a:pt x="84" y="302"/>
                </a:lnTo>
                <a:lnTo>
                  <a:pt x="82" y="283"/>
                </a:lnTo>
                <a:lnTo>
                  <a:pt x="80" y="263"/>
                </a:lnTo>
                <a:lnTo>
                  <a:pt x="78" y="244"/>
                </a:lnTo>
                <a:lnTo>
                  <a:pt x="75" y="227"/>
                </a:lnTo>
                <a:lnTo>
                  <a:pt x="73" y="212"/>
                </a:lnTo>
                <a:lnTo>
                  <a:pt x="71" y="196"/>
                </a:lnTo>
                <a:lnTo>
                  <a:pt x="67" y="181"/>
                </a:lnTo>
                <a:lnTo>
                  <a:pt x="63" y="167"/>
                </a:lnTo>
                <a:lnTo>
                  <a:pt x="61" y="156"/>
                </a:lnTo>
                <a:lnTo>
                  <a:pt x="57" y="144"/>
                </a:lnTo>
                <a:lnTo>
                  <a:pt x="52" y="133"/>
                </a:lnTo>
                <a:lnTo>
                  <a:pt x="48" y="123"/>
                </a:lnTo>
                <a:lnTo>
                  <a:pt x="42" y="114"/>
                </a:lnTo>
                <a:lnTo>
                  <a:pt x="38" y="106"/>
                </a:lnTo>
                <a:lnTo>
                  <a:pt x="32" y="98"/>
                </a:lnTo>
                <a:lnTo>
                  <a:pt x="25" y="93"/>
                </a:lnTo>
                <a:lnTo>
                  <a:pt x="19" y="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114"/>
          <p:cNvSpPr/>
          <p:nvPr/>
        </p:nvSpPr>
        <p:spPr>
          <a:xfrm>
            <a:off x="6076800" y="3776760"/>
            <a:ext cx="770040" cy="442800"/>
          </a:xfrm>
          <a:custGeom>
            <a:avLst/>
            <a:gdLst/>
            <a:ahLst/>
            <a:rect l="l" t="t" r="r" b="b"/>
            <a:pathLst>
              <a:path w="971" h="558">
                <a:moveTo>
                  <a:pt x="905" y="207"/>
                </a:moveTo>
                <a:lnTo>
                  <a:pt x="902" y="209"/>
                </a:lnTo>
                <a:lnTo>
                  <a:pt x="898" y="211"/>
                </a:lnTo>
                <a:lnTo>
                  <a:pt x="896" y="215"/>
                </a:lnTo>
                <a:lnTo>
                  <a:pt x="892" y="217"/>
                </a:lnTo>
                <a:lnTo>
                  <a:pt x="888" y="220"/>
                </a:lnTo>
                <a:lnTo>
                  <a:pt x="884" y="226"/>
                </a:lnTo>
                <a:lnTo>
                  <a:pt x="881" y="232"/>
                </a:lnTo>
                <a:lnTo>
                  <a:pt x="877" y="238"/>
                </a:lnTo>
                <a:lnTo>
                  <a:pt x="873" y="243"/>
                </a:lnTo>
                <a:lnTo>
                  <a:pt x="869" y="251"/>
                </a:lnTo>
                <a:lnTo>
                  <a:pt x="865" y="257"/>
                </a:lnTo>
                <a:lnTo>
                  <a:pt x="861" y="266"/>
                </a:lnTo>
                <a:lnTo>
                  <a:pt x="857" y="274"/>
                </a:lnTo>
                <a:lnTo>
                  <a:pt x="854" y="284"/>
                </a:lnTo>
                <a:lnTo>
                  <a:pt x="850" y="293"/>
                </a:lnTo>
                <a:lnTo>
                  <a:pt x="846" y="305"/>
                </a:lnTo>
                <a:lnTo>
                  <a:pt x="842" y="316"/>
                </a:lnTo>
                <a:lnTo>
                  <a:pt x="838" y="328"/>
                </a:lnTo>
                <a:lnTo>
                  <a:pt x="834" y="339"/>
                </a:lnTo>
                <a:lnTo>
                  <a:pt x="829" y="353"/>
                </a:lnTo>
                <a:lnTo>
                  <a:pt x="825" y="366"/>
                </a:lnTo>
                <a:lnTo>
                  <a:pt x="821" y="382"/>
                </a:lnTo>
                <a:lnTo>
                  <a:pt x="817" y="397"/>
                </a:lnTo>
                <a:lnTo>
                  <a:pt x="813" y="412"/>
                </a:lnTo>
                <a:lnTo>
                  <a:pt x="808" y="428"/>
                </a:lnTo>
                <a:lnTo>
                  <a:pt x="804" y="445"/>
                </a:lnTo>
                <a:lnTo>
                  <a:pt x="800" y="462"/>
                </a:lnTo>
                <a:lnTo>
                  <a:pt x="794" y="479"/>
                </a:lnTo>
                <a:lnTo>
                  <a:pt x="790" y="499"/>
                </a:lnTo>
                <a:lnTo>
                  <a:pt x="786" y="518"/>
                </a:lnTo>
                <a:lnTo>
                  <a:pt x="781" y="537"/>
                </a:lnTo>
                <a:lnTo>
                  <a:pt x="777" y="558"/>
                </a:lnTo>
                <a:lnTo>
                  <a:pt x="646" y="558"/>
                </a:lnTo>
                <a:lnTo>
                  <a:pt x="646" y="535"/>
                </a:lnTo>
                <a:lnTo>
                  <a:pt x="646" y="514"/>
                </a:lnTo>
                <a:lnTo>
                  <a:pt x="646" y="495"/>
                </a:lnTo>
                <a:lnTo>
                  <a:pt x="646" y="474"/>
                </a:lnTo>
                <a:lnTo>
                  <a:pt x="648" y="456"/>
                </a:lnTo>
                <a:lnTo>
                  <a:pt x="648" y="437"/>
                </a:lnTo>
                <a:lnTo>
                  <a:pt x="648" y="420"/>
                </a:lnTo>
                <a:lnTo>
                  <a:pt x="648" y="403"/>
                </a:lnTo>
                <a:lnTo>
                  <a:pt x="650" y="385"/>
                </a:lnTo>
                <a:lnTo>
                  <a:pt x="650" y="368"/>
                </a:lnTo>
                <a:lnTo>
                  <a:pt x="652" y="353"/>
                </a:lnTo>
                <a:lnTo>
                  <a:pt x="652" y="339"/>
                </a:lnTo>
                <a:lnTo>
                  <a:pt x="654" y="324"/>
                </a:lnTo>
                <a:lnTo>
                  <a:pt x="656" y="311"/>
                </a:lnTo>
                <a:lnTo>
                  <a:pt x="658" y="297"/>
                </a:lnTo>
                <a:lnTo>
                  <a:pt x="660" y="286"/>
                </a:lnTo>
                <a:lnTo>
                  <a:pt x="664" y="266"/>
                </a:lnTo>
                <a:lnTo>
                  <a:pt x="667" y="249"/>
                </a:lnTo>
                <a:lnTo>
                  <a:pt x="669" y="234"/>
                </a:lnTo>
                <a:lnTo>
                  <a:pt x="669" y="218"/>
                </a:lnTo>
                <a:lnTo>
                  <a:pt x="669" y="213"/>
                </a:lnTo>
                <a:lnTo>
                  <a:pt x="669" y="207"/>
                </a:lnTo>
                <a:lnTo>
                  <a:pt x="667" y="201"/>
                </a:lnTo>
                <a:lnTo>
                  <a:pt x="667" y="195"/>
                </a:lnTo>
                <a:lnTo>
                  <a:pt x="666" y="192"/>
                </a:lnTo>
                <a:lnTo>
                  <a:pt x="664" y="188"/>
                </a:lnTo>
                <a:lnTo>
                  <a:pt x="662" y="184"/>
                </a:lnTo>
                <a:lnTo>
                  <a:pt x="660" y="182"/>
                </a:lnTo>
                <a:lnTo>
                  <a:pt x="656" y="178"/>
                </a:lnTo>
                <a:lnTo>
                  <a:pt x="650" y="174"/>
                </a:lnTo>
                <a:lnTo>
                  <a:pt x="644" y="172"/>
                </a:lnTo>
                <a:lnTo>
                  <a:pt x="637" y="170"/>
                </a:lnTo>
                <a:lnTo>
                  <a:pt x="629" y="169"/>
                </a:lnTo>
                <a:lnTo>
                  <a:pt x="619" y="169"/>
                </a:lnTo>
                <a:lnTo>
                  <a:pt x="614" y="169"/>
                </a:lnTo>
                <a:lnTo>
                  <a:pt x="608" y="169"/>
                </a:lnTo>
                <a:lnTo>
                  <a:pt x="602" y="169"/>
                </a:lnTo>
                <a:lnTo>
                  <a:pt x="595" y="169"/>
                </a:lnTo>
                <a:lnTo>
                  <a:pt x="579" y="169"/>
                </a:lnTo>
                <a:lnTo>
                  <a:pt x="564" y="170"/>
                </a:lnTo>
                <a:lnTo>
                  <a:pt x="545" y="174"/>
                </a:lnTo>
                <a:lnTo>
                  <a:pt x="525" y="178"/>
                </a:lnTo>
                <a:lnTo>
                  <a:pt x="514" y="180"/>
                </a:lnTo>
                <a:lnTo>
                  <a:pt x="504" y="184"/>
                </a:lnTo>
                <a:lnTo>
                  <a:pt x="493" y="186"/>
                </a:lnTo>
                <a:lnTo>
                  <a:pt x="479" y="190"/>
                </a:lnTo>
                <a:lnTo>
                  <a:pt x="468" y="193"/>
                </a:lnTo>
                <a:lnTo>
                  <a:pt x="454" y="197"/>
                </a:lnTo>
                <a:lnTo>
                  <a:pt x="441" y="203"/>
                </a:lnTo>
                <a:lnTo>
                  <a:pt x="428" y="207"/>
                </a:lnTo>
                <a:lnTo>
                  <a:pt x="412" y="213"/>
                </a:lnTo>
                <a:lnTo>
                  <a:pt x="395" y="217"/>
                </a:lnTo>
                <a:lnTo>
                  <a:pt x="376" y="220"/>
                </a:lnTo>
                <a:lnTo>
                  <a:pt x="357" y="224"/>
                </a:lnTo>
                <a:lnTo>
                  <a:pt x="335" y="228"/>
                </a:lnTo>
                <a:lnTo>
                  <a:pt x="312" y="232"/>
                </a:lnTo>
                <a:lnTo>
                  <a:pt x="287" y="234"/>
                </a:lnTo>
                <a:lnTo>
                  <a:pt x="262" y="238"/>
                </a:lnTo>
                <a:lnTo>
                  <a:pt x="234" y="240"/>
                </a:lnTo>
                <a:lnTo>
                  <a:pt x="205" y="241"/>
                </a:lnTo>
                <a:lnTo>
                  <a:pt x="174" y="243"/>
                </a:lnTo>
                <a:lnTo>
                  <a:pt x="142" y="243"/>
                </a:lnTo>
                <a:lnTo>
                  <a:pt x="109" y="245"/>
                </a:lnTo>
                <a:lnTo>
                  <a:pt x="74" y="245"/>
                </a:lnTo>
                <a:lnTo>
                  <a:pt x="38" y="245"/>
                </a:lnTo>
                <a:lnTo>
                  <a:pt x="0" y="247"/>
                </a:lnTo>
                <a:lnTo>
                  <a:pt x="0" y="144"/>
                </a:lnTo>
                <a:lnTo>
                  <a:pt x="51" y="142"/>
                </a:lnTo>
                <a:lnTo>
                  <a:pt x="103" y="140"/>
                </a:lnTo>
                <a:lnTo>
                  <a:pt x="155" y="136"/>
                </a:lnTo>
                <a:lnTo>
                  <a:pt x="205" y="132"/>
                </a:lnTo>
                <a:lnTo>
                  <a:pt x="230" y="128"/>
                </a:lnTo>
                <a:lnTo>
                  <a:pt x="255" y="124"/>
                </a:lnTo>
                <a:lnTo>
                  <a:pt x="280" y="121"/>
                </a:lnTo>
                <a:lnTo>
                  <a:pt x="303" y="115"/>
                </a:lnTo>
                <a:lnTo>
                  <a:pt x="328" y="111"/>
                </a:lnTo>
                <a:lnTo>
                  <a:pt x="353" y="105"/>
                </a:lnTo>
                <a:lnTo>
                  <a:pt x="376" y="98"/>
                </a:lnTo>
                <a:lnTo>
                  <a:pt x="401" y="92"/>
                </a:lnTo>
                <a:lnTo>
                  <a:pt x="424" y="86"/>
                </a:lnTo>
                <a:lnTo>
                  <a:pt x="447" y="80"/>
                </a:lnTo>
                <a:lnTo>
                  <a:pt x="468" y="76"/>
                </a:lnTo>
                <a:lnTo>
                  <a:pt x="489" y="71"/>
                </a:lnTo>
                <a:lnTo>
                  <a:pt x="506" y="67"/>
                </a:lnTo>
                <a:lnTo>
                  <a:pt x="525" y="63"/>
                </a:lnTo>
                <a:lnTo>
                  <a:pt x="541" y="57"/>
                </a:lnTo>
                <a:lnTo>
                  <a:pt x="556" y="53"/>
                </a:lnTo>
                <a:lnTo>
                  <a:pt x="570" y="50"/>
                </a:lnTo>
                <a:lnTo>
                  <a:pt x="583" y="46"/>
                </a:lnTo>
                <a:lnTo>
                  <a:pt x="595" y="42"/>
                </a:lnTo>
                <a:lnTo>
                  <a:pt x="604" y="38"/>
                </a:lnTo>
                <a:lnTo>
                  <a:pt x="614" y="34"/>
                </a:lnTo>
                <a:lnTo>
                  <a:pt x="621" y="32"/>
                </a:lnTo>
                <a:lnTo>
                  <a:pt x="629" y="28"/>
                </a:lnTo>
                <a:lnTo>
                  <a:pt x="635" y="26"/>
                </a:lnTo>
                <a:lnTo>
                  <a:pt x="654" y="17"/>
                </a:lnTo>
                <a:lnTo>
                  <a:pt x="662" y="13"/>
                </a:lnTo>
                <a:lnTo>
                  <a:pt x="671" y="7"/>
                </a:lnTo>
                <a:lnTo>
                  <a:pt x="679" y="5"/>
                </a:lnTo>
                <a:lnTo>
                  <a:pt x="687" y="2"/>
                </a:lnTo>
                <a:lnTo>
                  <a:pt x="692" y="2"/>
                </a:lnTo>
                <a:lnTo>
                  <a:pt x="698" y="0"/>
                </a:lnTo>
                <a:lnTo>
                  <a:pt x="702" y="0"/>
                </a:lnTo>
                <a:lnTo>
                  <a:pt x="706" y="2"/>
                </a:lnTo>
                <a:lnTo>
                  <a:pt x="710" y="2"/>
                </a:lnTo>
                <a:lnTo>
                  <a:pt x="715" y="3"/>
                </a:lnTo>
                <a:lnTo>
                  <a:pt x="723" y="3"/>
                </a:lnTo>
                <a:lnTo>
                  <a:pt x="729" y="5"/>
                </a:lnTo>
                <a:lnTo>
                  <a:pt x="738" y="9"/>
                </a:lnTo>
                <a:lnTo>
                  <a:pt x="748" y="11"/>
                </a:lnTo>
                <a:lnTo>
                  <a:pt x="758" y="15"/>
                </a:lnTo>
                <a:lnTo>
                  <a:pt x="769" y="19"/>
                </a:lnTo>
                <a:lnTo>
                  <a:pt x="781" y="23"/>
                </a:lnTo>
                <a:lnTo>
                  <a:pt x="794" y="26"/>
                </a:lnTo>
                <a:lnTo>
                  <a:pt x="808" y="32"/>
                </a:lnTo>
                <a:lnTo>
                  <a:pt x="823" y="38"/>
                </a:lnTo>
                <a:lnTo>
                  <a:pt x="838" y="46"/>
                </a:lnTo>
                <a:lnTo>
                  <a:pt x="854" y="51"/>
                </a:lnTo>
                <a:lnTo>
                  <a:pt x="869" y="59"/>
                </a:lnTo>
                <a:lnTo>
                  <a:pt x="882" y="67"/>
                </a:lnTo>
                <a:lnTo>
                  <a:pt x="894" y="73"/>
                </a:lnTo>
                <a:lnTo>
                  <a:pt x="905" y="80"/>
                </a:lnTo>
                <a:lnTo>
                  <a:pt x="915" y="86"/>
                </a:lnTo>
                <a:lnTo>
                  <a:pt x="925" y="92"/>
                </a:lnTo>
                <a:lnTo>
                  <a:pt x="934" y="98"/>
                </a:lnTo>
                <a:lnTo>
                  <a:pt x="942" y="103"/>
                </a:lnTo>
                <a:lnTo>
                  <a:pt x="948" y="107"/>
                </a:lnTo>
                <a:lnTo>
                  <a:pt x="953" y="113"/>
                </a:lnTo>
                <a:lnTo>
                  <a:pt x="959" y="119"/>
                </a:lnTo>
                <a:lnTo>
                  <a:pt x="963" y="122"/>
                </a:lnTo>
                <a:lnTo>
                  <a:pt x="967" y="128"/>
                </a:lnTo>
                <a:lnTo>
                  <a:pt x="969" y="132"/>
                </a:lnTo>
                <a:lnTo>
                  <a:pt x="971" y="138"/>
                </a:lnTo>
                <a:lnTo>
                  <a:pt x="971" y="144"/>
                </a:lnTo>
                <a:lnTo>
                  <a:pt x="971" y="147"/>
                </a:lnTo>
                <a:lnTo>
                  <a:pt x="969" y="153"/>
                </a:lnTo>
                <a:lnTo>
                  <a:pt x="969" y="157"/>
                </a:lnTo>
                <a:lnTo>
                  <a:pt x="967" y="163"/>
                </a:lnTo>
                <a:lnTo>
                  <a:pt x="963" y="167"/>
                </a:lnTo>
                <a:lnTo>
                  <a:pt x="961" y="170"/>
                </a:lnTo>
                <a:lnTo>
                  <a:pt x="957" y="176"/>
                </a:lnTo>
                <a:lnTo>
                  <a:pt x="953" y="180"/>
                </a:lnTo>
                <a:lnTo>
                  <a:pt x="944" y="188"/>
                </a:lnTo>
                <a:lnTo>
                  <a:pt x="932" y="195"/>
                </a:lnTo>
                <a:lnTo>
                  <a:pt x="921" y="201"/>
                </a:lnTo>
                <a:lnTo>
                  <a:pt x="905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15"/>
          <p:cNvSpPr/>
          <p:nvPr/>
        </p:nvSpPr>
        <p:spPr>
          <a:xfrm>
            <a:off x="6159600" y="4187880"/>
            <a:ext cx="574560" cy="164880"/>
          </a:xfrm>
          <a:custGeom>
            <a:avLst/>
            <a:gdLst/>
            <a:ahLst/>
            <a:rect l="l" t="t" r="r" b="b"/>
            <a:pathLst>
              <a:path w="726" h="207">
                <a:moveTo>
                  <a:pt x="0" y="104"/>
                </a:moveTo>
                <a:lnTo>
                  <a:pt x="27" y="98"/>
                </a:lnTo>
                <a:lnTo>
                  <a:pt x="54" y="92"/>
                </a:lnTo>
                <a:lnTo>
                  <a:pt x="81" y="86"/>
                </a:lnTo>
                <a:lnTo>
                  <a:pt x="106" y="80"/>
                </a:lnTo>
                <a:lnTo>
                  <a:pt x="133" y="75"/>
                </a:lnTo>
                <a:lnTo>
                  <a:pt x="156" y="71"/>
                </a:lnTo>
                <a:lnTo>
                  <a:pt x="181" y="65"/>
                </a:lnTo>
                <a:lnTo>
                  <a:pt x="204" y="59"/>
                </a:lnTo>
                <a:lnTo>
                  <a:pt x="227" y="56"/>
                </a:lnTo>
                <a:lnTo>
                  <a:pt x="248" y="52"/>
                </a:lnTo>
                <a:lnTo>
                  <a:pt x="271" y="46"/>
                </a:lnTo>
                <a:lnTo>
                  <a:pt x="292" y="42"/>
                </a:lnTo>
                <a:lnTo>
                  <a:pt x="311" y="38"/>
                </a:lnTo>
                <a:lnTo>
                  <a:pt x="332" y="34"/>
                </a:lnTo>
                <a:lnTo>
                  <a:pt x="349" y="31"/>
                </a:lnTo>
                <a:lnTo>
                  <a:pt x="369" y="27"/>
                </a:lnTo>
                <a:lnTo>
                  <a:pt x="386" y="25"/>
                </a:lnTo>
                <a:lnTo>
                  <a:pt x="403" y="21"/>
                </a:lnTo>
                <a:lnTo>
                  <a:pt x="421" y="19"/>
                </a:lnTo>
                <a:lnTo>
                  <a:pt x="438" y="15"/>
                </a:lnTo>
                <a:lnTo>
                  <a:pt x="453" y="13"/>
                </a:lnTo>
                <a:lnTo>
                  <a:pt x="467" y="11"/>
                </a:lnTo>
                <a:lnTo>
                  <a:pt x="482" y="9"/>
                </a:lnTo>
                <a:lnTo>
                  <a:pt x="495" y="8"/>
                </a:lnTo>
                <a:lnTo>
                  <a:pt x="509" y="6"/>
                </a:lnTo>
                <a:lnTo>
                  <a:pt x="520" y="4"/>
                </a:lnTo>
                <a:lnTo>
                  <a:pt x="532" y="4"/>
                </a:lnTo>
                <a:lnTo>
                  <a:pt x="543" y="2"/>
                </a:lnTo>
                <a:lnTo>
                  <a:pt x="555" y="2"/>
                </a:lnTo>
                <a:lnTo>
                  <a:pt x="564" y="2"/>
                </a:lnTo>
                <a:lnTo>
                  <a:pt x="574" y="0"/>
                </a:lnTo>
                <a:lnTo>
                  <a:pt x="584" y="0"/>
                </a:lnTo>
                <a:lnTo>
                  <a:pt x="597" y="0"/>
                </a:lnTo>
                <a:lnTo>
                  <a:pt x="611" y="0"/>
                </a:lnTo>
                <a:lnTo>
                  <a:pt x="622" y="0"/>
                </a:lnTo>
                <a:lnTo>
                  <a:pt x="634" y="0"/>
                </a:lnTo>
                <a:lnTo>
                  <a:pt x="645" y="0"/>
                </a:lnTo>
                <a:lnTo>
                  <a:pt x="655" y="2"/>
                </a:lnTo>
                <a:lnTo>
                  <a:pt x="664" y="2"/>
                </a:lnTo>
                <a:lnTo>
                  <a:pt x="672" y="2"/>
                </a:lnTo>
                <a:lnTo>
                  <a:pt x="680" y="2"/>
                </a:lnTo>
                <a:lnTo>
                  <a:pt x="685" y="4"/>
                </a:lnTo>
                <a:lnTo>
                  <a:pt x="693" y="4"/>
                </a:lnTo>
                <a:lnTo>
                  <a:pt x="697" y="6"/>
                </a:lnTo>
                <a:lnTo>
                  <a:pt x="703" y="8"/>
                </a:lnTo>
                <a:lnTo>
                  <a:pt x="707" y="9"/>
                </a:lnTo>
                <a:lnTo>
                  <a:pt x="710" y="11"/>
                </a:lnTo>
                <a:lnTo>
                  <a:pt x="712" y="13"/>
                </a:lnTo>
                <a:lnTo>
                  <a:pt x="716" y="19"/>
                </a:lnTo>
                <a:lnTo>
                  <a:pt x="720" y="25"/>
                </a:lnTo>
                <a:lnTo>
                  <a:pt x="722" y="33"/>
                </a:lnTo>
                <a:lnTo>
                  <a:pt x="724" y="40"/>
                </a:lnTo>
                <a:lnTo>
                  <a:pt x="724" y="46"/>
                </a:lnTo>
                <a:lnTo>
                  <a:pt x="726" y="54"/>
                </a:lnTo>
                <a:lnTo>
                  <a:pt x="726" y="59"/>
                </a:lnTo>
                <a:lnTo>
                  <a:pt x="726" y="65"/>
                </a:lnTo>
                <a:lnTo>
                  <a:pt x="726" y="67"/>
                </a:lnTo>
                <a:lnTo>
                  <a:pt x="724" y="71"/>
                </a:lnTo>
                <a:lnTo>
                  <a:pt x="724" y="73"/>
                </a:lnTo>
                <a:lnTo>
                  <a:pt x="722" y="75"/>
                </a:lnTo>
                <a:lnTo>
                  <a:pt x="718" y="77"/>
                </a:lnTo>
                <a:lnTo>
                  <a:pt x="716" y="80"/>
                </a:lnTo>
                <a:lnTo>
                  <a:pt x="712" y="82"/>
                </a:lnTo>
                <a:lnTo>
                  <a:pt x="708" y="84"/>
                </a:lnTo>
                <a:lnTo>
                  <a:pt x="705" y="88"/>
                </a:lnTo>
                <a:lnTo>
                  <a:pt x="699" y="90"/>
                </a:lnTo>
                <a:lnTo>
                  <a:pt x="693" y="92"/>
                </a:lnTo>
                <a:lnTo>
                  <a:pt x="687" y="94"/>
                </a:lnTo>
                <a:lnTo>
                  <a:pt x="680" y="98"/>
                </a:lnTo>
                <a:lnTo>
                  <a:pt x="674" y="100"/>
                </a:lnTo>
                <a:lnTo>
                  <a:pt x="666" y="104"/>
                </a:lnTo>
                <a:lnTo>
                  <a:pt x="657" y="105"/>
                </a:lnTo>
                <a:lnTo>
                  <a:pt x="649" y="107"/>
                </a:lnTo>
                <a:lnTo>
                  <a:pt x="639" y="111"/>
                </a:lnTo>
                <a:lnTo>
                  <a:pt x="630" y="113"/>
                </a:lnTo>
                <a:lnTo>
                  <a:pt x="618" y="117"/>
                </a:lnTo>
                <a:lnTo>
                  <a:pt x="609" y="119"/>
                </a:lnTo>
                <a:lnTo>
                  <a:pt x="597" y="123"/>
                </a:lnTo>
                <a:lnTo>
                  <a:pt x="586" y="127"/>
                </a:lnTo>
                <a:lnTo>
                  <a:pt x="572" y="128"/>
                </a:lnTo>
                <a:lnTo>
                  <a:pt x="559" y="132"/>
                </a:lnTo>
                <a:lnTo>
                  <a:pt x="545" y="134"/>
                </a:lnTo>
                <a:lnTo>
                  <a:pt x="532" y="138"/>
                </a:lnTo>
                <a:lnTo>
                  <a:pt x="516" y="142"/>
                </a:lnTo>
                <a:lnTo>
                  <a:pt x="501" y="146"/>
                </a:lnTo>
                <a:lnTo>
                  <a:pt x="486" y="150"/>
                </a:lnTo>
                <a:lnTo>
                  <a:pt x="470" y="152"/>
                </a:lnTo>
                <a:lnTo>
                  <a:pt x="453" y="155"/>
                </a:lnTo>
                <a:lnTo>
                  <a:pt x="421" y="163"/>
                </a:lnTo>
                <a:lnTo>
                  <a:pt x="386" y="169"/>
                </a:lnTo>
                <a:lnTo>
                  <a:pt x="353" y="175"/>
                </a:lnTo>
                <a:lnTo>
                  <a:pt x="323" y="180"/>
                </a:lnTo>
                <a:lnTo>
                  <a:pt x="292" y="186"/>
                </a:lnTo>
                <a:lnTo>
                  <a:pt x="261" y="190"/>
                </a:lnTo>
                <a:lnTo>
                  <a:pt x="230" y="194"/>
                </a:lnTo>
                <a:lnTo>
                  <a:pt x="202" y="198"/>
                </a:lnTo>
                <a:lnTo>
                  <a:pt x="175" y="200"/>
                </a:lnTo>
                <a:lnTo>
                  <a:pt x="146" y="201"/>
                </a:lnTo>
                <a:lnTo>
                  <a:pt x="121" y="203"/>
                </a:lnTo>
                <a:lnTo>
                  <a:pt x="94" y="205"/>
                </a:lnTo>
                <a:lnTo>
                  <a:pt x="69" y="207"/>
                </a:lnTo>
                <a:lnTo>
                  <a:pt x="44" y="207"/>
                </a:lnTo>
                <a:lnTo>
                  <a:pt x="21" y="207"/>
                </a:lnTo>
                <a:lnTo>
                  <a:pt x="0" y="207"/>
                </a:lnTo>
                <a:lnTo>
                  <a:pt x="0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16"/>
          <p:cNvSpPr/>
          <p:nvPr/>
        </p:nvSpPr>
        <p:spPr>
          <a:xfrm>
            <a:off x="5983200" y="3863880"/>
            <a:ext cx="227160" cy="652680"/>
          </a:xfrm>
          <a:custGeom>
            <a:avLst/>
            <a:gdLst/>
            <a:ahLst/>
            <a:rect l="l" t="t" r="r" b="b"/>
            <a:pathLst>
              <a:path w="286" h="821">
                <a:moveTo>
                  <a:pt x="142" y="499"/>
                </a:moveTo>
                <a:lnTo>
                  <a:pt x="139" y="478"/>
                </a:lnTo>
                <a:lnTo>
                  <a:pt x="137" y="459"/>
                </a:lnTo>
                <a:lnTo>
                  <a:pt x="133" y="438"/>
                </a:lnTo>
                <a:lnTo>
                  <a:pt x="129" y="420"/>
                </a:lnTo>
                <a:lnTo>
                  <a:pt x="125" y="401"/>
                </a:lnTo>
                <a:lnTo>
                  <a:pt x="123" y="384"/>
                </a:lnTo>
                <a:lnTo>
                  <a:pt x="119" y="367"/>
                </a:lnTo>
                <a:lnTo>
                  <a:pt x="116" y="349"/>
                </a:lnTo>
                <a:lnTo>
                  <a:pt x="114" y="334"/>
                </a:lnTo>
                <a:lnTo>
                  <a:pt x="110" y="319"/>
                </a:lnTo>
                <a:lnTo>
                  <a:pt x="106" y="303"/>
                </a:lnTo>
                <a:lnTo>
                  <a:pt x="104" y="288"/>
                </a:lnTo>
                <a:lnTo>
                  <a:pt x="100" y="274"/>
                </a:lnTo>
                <a:lnTo>
                  <a:pt x="98" y="261"/>
                </a:lnTo>
                <a:lnTo>
                  <a:pt x="94" y="248"/>
                </a:lnTo>
                <a:lnTo>
                  <a:pt x="91" y="234"/>
                </a:lnTo>
                <a:lnTo>
                  <a:pt x="89" y="223"/>
                </a:lnTo>
                <a:lnTo>
                  <a:pt x="85" y="211"/>
                </a:lnTo>
                <a:lnTo>
                  <a:pt x="83" y="200"/>
                </a:lnTo>
                <a:lnTo>
                  <a:pt x="79" y="188"/>
                </a:lnTo>
                <a:lnTo>
                  <a:pt x="75" y="178"/>
                </a:lnTo>
                <a:lnTo>
                  <a:pt x="73" y="169"/>
                </a:lnTo>
                <a:lnTo>
                  <a:pt x="66" y="150"/>
                </a:lnTo>
                <a:lnTo>
                  <a:pt x="60" y="134"/>
                </a:lnTo>
                <a:lnTo>
                  <a:pt x="54" y="119"/>
                </a:lnTo>
                <a:lnTo>
                  <a:pt x="46" y="107"/>
                </a:lnTo>
                <a:lnTo>
                  <a:pt x="39" y="96"/>
                </a:lnTo>
                <a:lnTo>
                  <a:pt x="33" y="88"/>
                </a:lnTo>
                <a:lnTo>
                  <a:pt x="25" y="82"/>
                </a:lnTo>
                <a:lnTo>
                  <a:pt x="20" y="75"/>
                </a:lnTo>
                <a:lnTo>
                  <a:pt x="16" y="67"/>
                </a:lnTo>
                <a:lnTo>
                  <a:pt x="12" y="61"/>
                </a:lnTo>
                <a:lnTo>
                  <a:pt x="8" y="54"/>
                </a:lnTo>
                <a:lnTo>
                  <a:pt x="4" y="48"/>
                </a:lnTo>
                <a:lnTo>
                  <a:pt x="2" y="42"/>
                </a:lnTo>
                <a:lnTo>
                  <a:pt x="0" y="36"/>
                </a:lnTo>
                <a:lnTo>
                  <a:pt x="0" y="31"/>
                </a:lnTo>
                <a:lnTo>
                  <a:pt x="0" y="25"/>
                </a:lnTo>
                <a:lnTo>
                  <a:pt x="0" y="19"/>
                </a:lnTo>
                <a:lnTo>
                  <a:pt x="2" y="15"/>
                </a:lnTo>
                <a:lnTo>
                  <a:pt x="6" y="11"/>
                </a:lnTo>
                <a:lnTo>
                  <a:pt x="10" y="8"/>
                </a:lnTo>
                <a:lnTo>
                  <a:pt x="14" y="6"/>
                </a:lnTo>
                <a:lnTo>
                  <a:pt x="16" y="4"/>
                </a:lnTo>
                <a:lnTo>
                  <a:pt x="22" y="2"/>
                </a:lnTo>
                <a:lnTo>
                  <a:pt x="27" y="2"/>
                </a:lnTo>
                <a:lnTo>
                  <a:pt x="35" y="0"/>
                </a:lnTo>
                <a:lnTo>
                  <a:pt x="45" y="0"/>
                </a:lnTo>
                <a:lnTo>
                  <a:pt x="56" y="2"/>
                </a:lnTo>
                <a:lnTo>
                  <a:pt x="68" y="2"/>
                </a:lnTo>
                <a:lnTo>
                  <a:pt x="81" y="4"/>
                </a:lnTo>
                <a:lnTo>
                  <a:pt x="96" y="6"/>
                </a:lnTo>
                <a:lnTo>
                  <a:pt x="114" y="8"/>
                </a:lnTo>
                <a:lnTo>
                  <a:pt x="133" y="11"/>
                </a:lnTo>
                <a:lnTo>
                  <a:pt x="152" y="15"/>
                </a:lnTo>
                <a:lnTo>
                  <a:pt x="173" y="19"/>
                </a:lnTo>
                <a:lnTo>
                  <a:pt x="196" y="23"/>
                </a:lnTo>
                <a:lnTo>
                  <a:pt x="221" y="27"/>
                </a:lnTo>
                <a:lnTo>
                  <a:pt x="246" y="33"/>
                </a:lnTo>
                <a:lnTo>
                  <a:pt x="248" y="63"/>
                </a:lnTo>
                <a:lnTo>
                  <a:pt x="252" y="96"/>
                </a:lnTo>
                <a:lnTo>
                  <a:pt x="254" y="127"/>
                </a:lnTo>
                <a:lnTo>
                  <a:pt x="256" y="155"/>
                </a:lnTo>
                <a:lnTo>
                  <a:pt x="258" y="186"/>
                </a:lnTo>
                <a:lnTo>
                  <a:pt x="260" y="213"/>
                </a:lnTo>
                <a:lnTo>
                  <a:pt x="261" y="242"/>
                </a:lnTo>
                <a:lnTo>
                  <a:pt x="263" y="267"/>
                </a:lnTo>
                <a:lnTo>
                  <a:pt x="265" y="294"/>
                </a:lnTo>
                <a:lnTo>
                  <a:pt x="267" y="319"/>
                </a:lnTo>
                <a:lnTo>
                  <a:pt x="269" y="344"/>
                </a:lnTo>
                <a:lnTo>
                  <a:pt x="271" y="367"/>
                </a:lnTo>
                <a:lnTo>
                  <a:pt x="271" y="390"/>
                </a:lnTo>
                <a:lnTo>
                  <a:pt x="273" y="411"/>
                </a:lnTo>
                <a:lnTo>
                  <a:pt x="275" y="432"/>
                </a:lnTo>
                <a:lnTo>
                  <a:pt x="275" y="453"/>
                </a:lnTo>
                <a:lnTo>
                  <a:pt x="277" y="472"/>
                </a:lnTo>
                <a:lnTo>
                  <a:pt x="279" y="491"/>
                </a:lnTo>
                <a:lnTo>
                  <a:pt x="279" y="509"/>
                </a:lnTo>
                <a:lnTo>
                  <a:pt x="281" y="528"/>
                </a:lnTo>
                <a:lnTo>
                  <a:pt x="281" y="543"/>
                </a:lnTo>
                <a:lnTo>
                  <a:pt x="281" y="560"/>
                </a:lnTo>
                <a:lnTo>
                  <a:pt x="283" y="574"/>
                </a:lnTo>
                <a:lnTo>
                  <a:pt x="283" y="589"/>
                </a:lnTo>
                <a:lnTo>
                  <a:pt x="285" y="603"/>
                </a:lnTo>
                <a:lnTo>
                  <a:pt x="285" y="616"/>
                </a:lnTo>
                <a:lnTo>
                  <a:pt x="285" y="628"/>
                </a:lnTo>
                <a:lnTo>
                  <a:pt x="285" y="639"/>
                </a:lnTo>
                <a:lnTo>
                  <a:pt x="285" y="651"/>
                </a:lnTo>
                <a:lnTo>
                  <a:pt x="285" y="660"/>
                </a:lnTo>
                <a:lnTo>
                  <a:pt x="285" y="670"/>
                </a:lnTo>
                <a:lnTo>
                  <a:pt x="286" y="679"/>
                </a:lnTo>
                <a:lnTo>
                  <a:pt x="285" y="697"/>
                </a:lnTo>
                <a:lnTo>
                  <a:pt x="285" y="712"/>
                </a:lnTo>
                <a:lnTo>
                  <a:pt x="285" y="726"/>
                </a:lnTo>
                <a:lnTo>
                  <a:pt x="283" y="741"/>
                </a:lnTo>
                <a:lnTo>
                  <a:pt x="283" y="752"/>
                </a:lnTo>
                <a:lnTo>
                  <a:pt x="281" y="764"/>
                </a:lnTo>
                <a:lnTo>
                  <a:pt x="279" y="775"/>
                </a:lnTo>
                <a:lnTo>
                  <a:pt x="275" y="785"/>
                </a:lnTo>
                <a:lnTo>
                  <a:pt x="273" y="793"/>
                </a:lnTo>
                <a:lnTo>
                  <a:pt x="271" y="800"/>
                </a:lnTo>
                <a:lnTo>
                  <a:pt x="267" y="808"/>
                </a:lnTo>
                <a:lnTo>
                  <a:pt x="263" y="812"/>
                </a:lnTo>
                <a:lnTo>
                  <a:pt x="260" y="816"/>
                </a:lnTo>
                <a:lnTo>
                  <a:pt x="256" y="820"/>
                </a:lnTo>
                <a:lnTo>
                  <a:pt x="252" y="821"/>
                </a:lnTo>
                <a:lnTo>
                  <a:pt x="246" y="821"/>
                </a:lnTo>
                <a:lnTo>
                  <a:pt x="244" y="821"/>
                </a:lnTo>
                <a:lnTo>
                  <a:pt x="242" y="821"/>
                </a:lnTo>
                <a:lnTo>
                  <a:pt x="238" y="820"/>
                </a:lnTo>
                <a:lnTo>
                  <a:pt x="237" y="818"/>
                </a:lnTo>
                <a:lnTo>
                  <a:pt x="233" y="814"/>
                </a:lnTo>
                <a:lnTo>
                  <a:pt x="231" y="812"/>
                </a:lnTo>
                <a:lnTo>
                  <a:pt x="227" y="806"/>
                </a:lnTo>
                <a:lnTo>
                  <a:pt x="225" y="802"/>
                </a:lnTo>
                <a:lnTo>
                  <a:pt x="221" y="797"/>
                </a:lnTo>
                <a:lnTo>
                  <a:pt x="219" y="791"/>
                </a:lnTo>
                <a:lnTo>
                  <a:pt x="215" y="785"/>
                </a:lnTo>
                <a:lnTo>
                  <a:pt x="213" y="777"/>
                </a:lnTo>
                <a:lnTo>
                  <a:pt x="210" y="770"/>
                </a:lnTo>
                <a:lnTo>
                  <a:pt x="206" y="762"/>
                </a:lnTo>
                <a:lnTo>
                  <a:pt x="202" y="752"/>
                </a:lnTo>
                <a:lnTo>
                  <a:pt x="200" y="743"/>
                </a:lnTo>
                <a:lnTo>
                  <a:pt x="196" y="733"/>
                </a:lnTo>
                <a:lnTo>
                  <a:pt x="192" y="722"/>
                </a:lnTo>
                <a:lnTo>
                  <a:pt x="189" y="710"/>
                </a:lnTo>
                <a:lnTo>
                  <a:pt x="187" y="697"/>
                </a:lnTo>
                <a:lnTo>
                  <a:pt x="183" y="685"/>
                </a:lnTo>
                <a:lnTo>
                  <a:pt x="179" y="672"/>
                </a:lnTo>
                <a:lnTo>
                  <a:pt x="175" y="656"/>
                </a:lnTo>
                <a:lnTo>
                  <a:pt x="171" y="641"/>
                </a:lnTo>
                <a:lnTo>
                  <a:pt x="167" y="626"/>
                </a:lnTo>
                <a:lnTo>
                  <a:pt x="165" y="610"/>
                </a:lnTo>
                <a:lnTo>
                  <a:pt x="162" y="593"/>
                </a:lnTo>
                <a:lnTo>
                  <a:pt x="158" y="576"/>
                </a:lnTo>
                <a:lnTo>
                  <a:pt x="154" y="557"/>
                </a:lnTo>
                <a:lnTo>
                  <a:pt x="150" y="537"/>
                </a:lnTo>
                <a:lnTo>
                  <a:pt x="146" y="518"/>
                </a:lnTo>
                <a:lnTo>
                  <a:pt x="142" y="4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17"/>
          <p:cNvSpPr/>
          <p:nvPr/>
        </p:nvSpPr>
        <p:spPr>
          <a:xfrm>
            <a:off x="6307200" y="3176640"/>
            <a:ext cx="206280" cy="733320"/>
          </a:xfrm>
          <a:custGeom>
            <a:avLst/>
            <a:gdLst/>
            <a:ahLst/>
            <a:rect l="l" t="t" r="r" b="b"/>
            <a:pathLst>
              <a:path w="261" h="926">
                <a:moveTo>
                  <a:pt x="35" y="110"/>
                </a:moveTo>
                <a:lnTo>
                  <a:pt x="27" y="104"/>
                </a:lnTo>
                <a:lnTo>
                  <a:pt x="21" y="100"/>
                </a:lnTo>
                <a:lnTo>
                  <a:pt x="16" y="94"/>
                </a:lnTo>
                <a:lnTo>
                  <a:pt x="12" y="91"/>
                </a:lnTo>
                <a:lnTo>
                  <a:pt x="8" y="85"/>
                </a:lnTo>
                <a:lnTo>
                  <a:pt x="6" y="81"/>
                </a:lnTo>
                <a:lnTo>
                  <a:pt x="4" y="75"/>
                </a:lnTo>
                <a:lnTo>
                  <a:pt x="2" y="71"/>
                </a:lnTo>
                <a:lnTo>
                  <a:pt x="0" y="66"/>
                </a:lnTo>
                <a:lnTo>
                  <a:pt x="0" y="62"/>
                </a:lnTo>
                <a:lnTo>
                  <a:pt x="0" y="56"/>
                </a:lnTo>
                <a:lnTo>
                  <a:pt x="2" y="52"/>
                </a:lnTo>
                <a:lnTo>
                  <a:pt x="4" y="41"/>
                </a:lnTo>
                <a:lnTo>
                  <a:pt x="8" y="31"/>
                </a:lnTo>
                <a:lnTo>
                  <a:pt x="14" y="23"/>
                </a:lnTo>
                <a:lnTo>
                  <a:pt x="20" y="16"/>
                </a:lnTo>
                <a:lnTo>
                  <a:pt x="29" y="8"/>
                </a:lnTo>
                <a:lnTo>
                  <a:pt x="39" y="4"/>
                </a:lnTo>
                <a:lnTo>
                  <a:pt x="44" y="2"/>
                </a:lnTo>
                <a:lnTo>
                  <a:pt x="50" y="2"/>
                </a:lnTo>
                <a:lnTo>
                  <a:pt x="58" y="0"/>
                </a:lnTo>
                <a:lnTo>
                  <a:pt x="66" y="0"/>
                </a:lnTo>
                <a:lnTo>
                  <a:pt x="73" y="0"/>
                </a:lnTo>
                <a:lnTo>
                  <a:pt x="81" y="2"/>
                </a:lnTo>
                <a:lnTo>
                  <a:pt x="89" y="4"/>
                </a:lnTo>
                <a:lnTo>
                  <a:pt x="98" y="6"/>
                </a:lnTo>
                <a:lnTo>
                  <a:pt x="114" y="10"/>
                </a:lnTo>
                <a:lnTo>
                  <a:pt x="131" y="16"/>
                </a:lnTo>
                <a:lnTo>
                  <a:pt x="146" y="21"/>
                </a:lnTo>
                <a:lnTo>
                  <a:pt x="163" y="27"/>
                </a:lnTo>
                <a:lnTo>
                  <a:pt x="181" y="33"/>
                </a:lnTo>
                <a:lnTo>
                  <a:pt x="198" y="41"/>
                </a:lnTo>
                <a:lnTo>
                  <a:pt x="213" y="48"/>
                </a:lnTo>
                <a:lnTo>
                  <a:pt x="229" y="58"/>
                </a:lnTo>
                <a:lnTo>
                  <a:pt x="235" y="64"/>
                </a:lnTo>
                <a:lnTo>
                  <a:pt x="240" y="69"/>
                </a:lnTo>
                <a:lnTo>
                  <a:pt x="246" y="77"/>
                </a:lnTo>
                <a:lnTo>
                  <a:pt x="250" y="85"/>
                </a:lnTo>
                <a:lnTo>
                  <a:pt x="254" y="92"/>
                </a:lnTo>
                <a:lnTo>
                  <a:pt x="258" y="102"/>
                </a:lnTo>
                <a:lnTo>
                  <a:pt x="259" y="114"/>
                </a:lnTo>
                <a:lnTo>
                  <a:pt x="261" y="123"/>
                </a:lnTo>
                <a:lnTo>
                  <a:pt x="261" y="137"/>
                </a:lnTo>
                <a:lnTo>
                  <a:pt x="261" y="148"/>
                </a:lnTo>
                <a:lnTo>
                  <a:pt x="261" y="162"/>
                </a:lnTo>
                <a:lnTo>
                  <a:pt x="261" y="177"/>
                </a:lnTo>
                <a:lnTo>
                  <a:pt x="259" y="190"/>
                </a:lnTo>
                <a:lnTo>
                  <a:pt x="258" y="206"/>
                </a:lnTo>
                <a:lnTo>
                  <a:pt x="256" y="223"/>
                </a:lnTo>
                <a:lnTo>
                  <a:pt x="254" y="238"/>
                </a:lnTo>
                <a:lnTo>
                  <a:pt x="254" y="248"/>
                </a:lnTo>
                <a:lnTo>
                  <a:pt x="252" y="258"/>
                </a:lnTo>
                <a:lnTo>
                  <a:pt x="250" y="269"/>
                </a:lnTo>
                <a:lnTo>
                  <a:pt x="248" y="279"/>
                </a:lnTo>
                <a:lnTo>
                  <a:pt x="248" y="292"/>
                </a:lnTo>
                <a:lnTo>
                  <a:pt x="246" y="306"/>
                </a:lnTo>
                <a:lnTo>
                  <a:pt x="244" y="319"/>
                </a:lnTo>
                <a:lnTo>
                  <a:pt x="242" y="332"/>
                </a:lnTo>
                <a:lnTo>
                  <a:pt x="240" y="348"/>
                </a:lnTo>
                <a:lnTo>
                  <a:pt x="238" y="365"/>
                </a:lnTo>
                <a:lnTo>
                  <a:pt x="236" y="382"/>
                </a:lnTo>
                <a:lnTo>
                  <a:pt x="235" y="400"/>
                </a:lnTo>
                <a:lnTo>
                  <a:pt x="233" y="419"/>
                </a:lnTo>
                <a:lnTo>
                  <a:pt x="231" y="438"/>
                </a:lnTo>
                <a:lnTo>
                  <a:pt x="227" y="457"/>
                </a:lnTo>
                <a:lnTo>
                  <a:pt x="225" y="478"/>
                </a:lnTo>
                <a:lnTo>
                  <a:pt x="223" y="499"/>
                </a:lnTo>
                <a:lnTo>
                  <a:pt x="219" y="522"/>
                </a:lnTo>
                <a:lnTo>
                  <a:pt x="217" y="545"/>
                </a:lnTo>
                <a:lnTo>
                  <a:pt x="215" y="570"/>
                </a:lnTo>
                <a:lnTo>
                  <a:pt x="211" y="593"/>
                </a:lnTo>
                <a:lnTo>
                  <a:pt x="210" y="620"/>
                </a:lnTo>
                <a:lnTo>
                  <a:pt x="206" y="645"/>
                </a:lnTo>
                <a:lnTo>
                  <a:pt x="204" y="672"/>
                </a:lnTo>
                <a:lnTo>
                  <a:pt x="200" y="701"/>
                </a:lnTo>
                <a:lnTo>
                  <a:pt x="196" y="728"/>
                </a:lnTo>
                <a:lnTo>
                  <a:pt x="194" y="757"/>
                </a:lnTo>
                <a:lnTo>
                  <a:pt x="190" y="787"/>
                </a:lnTo>
                <a:lnTo>
                  <a:pt x="187" y="818"/>
                </a:lnTo>
                <a:lnTo>
                  <a:pt x="183" y="849"/>
                </a:lnTo>
                <a:lnTo>
                  <a:pt x="181" y="879"/>
                </a:lnTo>
                <a:lnTo>
                  <a:pt x="177" y="912"/>
                </a:lnTo>
                <a:lnTo>
                  <a:pt x="46" y="926"/>
                </a:lnTo>
                <a:lnTo>
                  <a:pt x="56" y="862"/>
                </a:lnTo>
                <a:lnTo>
                  <a:pt x="64" y="799"/>
                </a:lnTo>
                <a:lnTo>
                  <a:pt x="71" y="736"/>
                </a:lnTo>
                <a:lnTo>
                  <a:pt x="75" y="672"/>
                </a:lnTo>
                <a:lnTo>
                  <a:pt x="81" y="607"/>
                </a:lnTo>
                <a:lnTo>
                  <a:pt x="83" y="542"/>
                </a:lnTo>
                <a:lnTo>
                  <a:pt x="85" y="474"/>
                </a:lnTo>
                <a:lnTo>
                  <a:pt x="87" y="407"/>
                </a:lnTo>
                <a:lnTo>
                  <a:pt x="85" y="375"/>
                </a:lnTo>
                <a:lnTo>
                  <a:pt x="85" y="344"/>
                </a:lnTo>
                <a:lnTo>
                  <a:pt x="85" y="313"/>
                </a:lnTo>
                <a:lnTo>
                  <a:pt x="83" y="286"/>
                </a:lnTo>
                <a:lnTo>
                  <a:pt x="81" y="261"/>
                </a:lnTo>
                <a:lnTo>
                  <a:pt x="81" y="248"/>
                </a:lnTo>
                <a:lnTo>
                  <a:pt x="79" y="236"/>
                </a:lnTo>
                <a:lnTo>
                  <a:pt x="79" y="225"/>
                </a:lnTo>
                <a:lnTo>
                  <a:pt x="77" y="215"/>
                </a:lnTo>
                <a:lnTo>
                  <a:pt x="75" y="206"/>
                </a:lnTo>
                <a:lnTo>
                  <a:pt x="75" y="196"/>
                </a:lnTo>
                <a:lnTo>
                  <a:pt x="73" y="187"/>
                </a:lnTo>
                <a:lnTo>
                  <a:pt x="71" y="177"/>
                </a:lnTo>
                <a:lnTo>
                  <a:pt x="69" y="169"/>
                </a:lnTo>
                <a:lnTo>
                  <a:pt x="68" y="162"/>
                </a:lnTo>
                <a:lnTo>
                  <a:pt x="66" y="154"/>
                </a:lnTo>
                <a:lnTo>
                  <a:pt x="64" y="148"/>
                </a:lnTo>
                <a:lnTo>
                  <a:pt x="62" y="142"/>
                </a:lnTo>
                <a:lnTo>
                  <a:pt x="58" y="137"/>
                </a:lnTo>
                <a:lnTo>
                  <a:pt x="56" y="131"/>
                </a:lnTo>
                <a:lnTo>
                  <a:pt x="54" y="127"/>
                </a:lnTo>
                <a:lnTo>
                  <a:pt x="50" y="121"/>
                </a:lnTo>
                <a:lnTo>
                  <a:pt x="46" y="119"/>
                </a:lnTo>
                <a:lnTo>
                  <a:pt x="44" y="116"/>
                </a:lnTo>
                <a:lnTo>
                  <a:pt x="41" y="114"/>
                </a:lnTo>
                <a:lnTo>
                  <a:pt x="37" y="112"/>
                </a:lnTo>
                <a:lnTo>
                  <a:pt x="35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18"/>
          <p:cNvSpPr/>
          <p:nvPr/>
        </p:nvSpPr>
        <p:spPr>
          <a:xfrm>
            <a:off x="5942160" y="3416400"/>
            <a:ext cx="987120" cy="217440"/>
          </a:xfrm>
          <a:custGeom>
            <a:avLst/>
            <a:gdLst/>
            <a:ahLst/>
            <a:rect l="l" t="t" r="r" b="b"/>
            <a:pathLst>
              <a:path w="1243" h="272">
                <a:moveTo>
                  <a:pt x="1050" y="130"/>
                </a:moveTo>
                <a:lnTo>
                  <a:pt x="1026" y="134"/>
                </a:lnTo>
                <a:lnTo>
                  <a:pt x="1003" y="140"/>
                </a:lnTo>
                <a:lnTo>
                  <a:pt x="979" y="144"/>
                </a:lnTo>
                <a:lnTo>
                  <a:pt x="952" y="149"/>
                </a:lnTo>
                <a:lnTo>
                  <a:pt x="925" y="153"/>
                </a:lnTo>
                <a:lnTo>
                  <a:pt x="898" y="159"/>
                </a:lnTo>
                <a:lnTo>
                  <a:pt x="867" y="165"/>
                </a:lnTo>
                <a:lnTo>
                  <a:pt x="836" y="170"/>
                </a:lnTo>
                <a:lnTo>
                  <a:pt x="806" y="174"/>
                </a:lnTo>
                <a:lnTo>
                  <a:pt x="773" y="180"/>
                </a:lnTo>
                <a:lnTo>
                  <a:pt x="739" y="186"/>
                </a:lnTo>
                <a:lnTo>
                  <a:pt x="704" y="193"/>
                </a:lnTo>
                <a:lnTo>
                  <a:pt x="669" y="199"/>
                </a:lnTo>
                <a:lnTo>
                  <a:pt x="633" y="205"/>
                </a:lnTo>
                <a:lnTo>
                  <a:pt x="595" y="213"/>
                </a:lnTo>
                <a:lnTo>
                  <a:pt x="556" y="220"/>
                </a:lnTo>
                <a:lnTo>
                  <a:pt x="518" y="226"/>
                </a:lnTo>
                <a:lnTo>
                  <a:pt x="479" y="234"/>
                </a:lnTo>
                <a:lnTo>
                  <a:pt x="443" y="240"/>
                </a:lnTo>
                <a:lnTo>
                  <a:pt x="407" y="245"/>
                </a:lnTo>
                <a:lnTo>
                  <a:pt x="370" y="249"/>
                </a:lnTo>
                <a:lnTo>
                  <a:pt x="334" y="253"/>
                </a:lnTo>
                <a:lnTo>
                  <a:pt x="299" y="257"/>
                </a:lnTo>
                <a:lnTo>
                  <a:pt x="264" y="261"/>
                </a:lnTo>
                <a:lnTo>
                  <a:pt x="195" y="266"/>
                </a:lnTo>
                <a:lnTo>
                  <a:pt x="128" y="268"/>
                </a:lnTo>
                <a:lnTo>
                  <a:pt x="63" y="270"/>
                </a:lnTo>
                <a:lnTo>
                  <a:pt x="0" y="272"/>
                </a:lnTo>
                <a:lnTo>
                  <a:pt x="0" y="169"/>
                </a:lnTo>
                <a:lnTo>
                  <a:pt x="21" y="169"/>
                </a:lnTo>
                <a:lnTo>
                  <a:pt x="42" y="169"/>
                </a:lnTo>
                <a:lnTo>
                  <a:pt x="63" y="169"/>
                </a:lnTo>
                <a:lnTo>
                  <a:pt x="82" y="169"/>
                </a:lnTo>
                <a:lnTo>
                  <a:pt x="101" y="169"/>
                </a:lnTo>
                <a:lnTo>
                  <a:pt x="121" y="167"/>
                </a:lnTo>
                <a:lnTo>
                  <a:pt x="138" y="167"/>
                </a:lnTo>
                <a:lnTo>
                  <a:pt x="155" y="167"/>
                </a:lnTo>
                <a:lnTo>
                  <a:pt x="172" y="167"/>
                </a:lnTo>
                <a:lnTo>
                  <a:pt x="188" y="165"/>
                </a:lnTo>
                <a:lnTo>
                  <a:pt x="203" y="165"/>
                </a:lnTo>
                <a:lnTo>
                  <a:pt x="218" y="163"/>
                </a:lnTo>
                <a:lnTo>
                  <a:pt x="232" y="161"/>
                </a:lnTo>
                <a:lnTo>
                  <a:pt x="245" y="159"/>
                </a:lnTo>
                <a:lnTo>
                  <a:pt x="259" y="157"/>
                </a:lnTo>
                <a:lnTo>
                  <a:pt x="272" y="155"/>
                </a:lnTo>
                <a:lnTo>
                  <a:pt x="284" y="153"/>
                </a:lnTo>
                <a:lnTo>
                  <a:pt x="299" y="149"/>
                </a:lnTo>
                <a:lnTo>
                  <a:pt x="314" y="147"/>
                </a:lnTo>
                <a:lnTo>
                  <a:pt x="332" y="144"/>
                </a:lnTo>
                <a:lnTo>
                  <a:pt x="351" y="140"/>
                </a:lnTo>
                <a:lnTo>
                  <a:pt x="372" y="134"/>
                </a:lnTo>
                <a:lnTo>
                  <a:pt x="395" y="130"/>
                </a:lnTo>
                <a:lnTo>
                  <a:pt x="418" y="124"/>
                </a:lnTo>
                <a:lnTo>
                  <a:pt x="443" y="119"/>
                </a:lnTo>
                <a:lnTo>
                  <a:pt x="470" y="113"/>
                </a:lnTo>
                <a:lnTo>
                  <a:pt x="497" y="107"/>
                </a:lnTo>
                <a:lnTo>
                  <a:pt x="527" y="99"/>
                </a:lnTo>
                <a:lnTo>
                  <a:pt x="558" y="92"/>
                </a:lnTo>
                <a:lnTo>
                  <a:pt x="591" y="82"/>
                </a:lnTo>
                <a:lnTo>
                  <a:pt x="625" y="74"/>
                </a:lnTo>
                <a:lnTo>
                  <a:pt x="660" y="65"/>
                </a:lnTo>
                <a:lnTo>
                  <a:pt x="694" y="57"/>
                </a:lnTo>
                <a:lnTo>
                  <a:pt x="725" y="50"/>
                </a:lnTo>
                <a:lnTo>
                  <a:pt x="758" y="44"/>
                </a:lnTo>
                <a:lnTo>
                  <a:pt x="787" y="38"/>
                </a:lnTo>
                <a:lnTo>
                  <a:pt x="815" y="32"/>
                </a:lnTo>
                <a:lnTo>
                  <a:pt x="842" y="26"/>
                </a:lnTo>
                <a:lnTo>
                  <a:pt x="867" y="23"/>
                </a:lnTo>
                <a:lnTo>
                  <a:pt x="892" y="17"/>
                </a:lnTo>
                <a:lnTo>
                  <a:pt x="915" y="13"/>
                </a:lnTo>
                <a:lnTo>
                  <a:pt x="936" y="9"/>
                </a:lnTo>
                <a:lnTo>
                  <a:pt x="957" y="7"/>
                </a:lnTo>
                <a:lnTo>
                  <a:pt x="975" y="3"/>
                </a:lnTo>
                <a:lnTo>
                  <a:pt x="994" y="2"/>
                </a:lnTo>
                <a:lnTo>
                  <a:pt x="1009" y="2"/>
                </a:lnTo>
                <a:lnTo>
                  <a:pt x="1023" y="0"/>
                </a:lnTo>
                <a:lnTo>
                  <a:pt x="1036" y="0"/>
                </a:lnTo>
                <a:lnTo>
                  <a:pt x="1059" y="0"/>
                </a:lnTo>
                <a:lnTo>
                  <a:pt x="1082" y="0"/>
                </a:lnTo>
                <a:lnTo>
                  <a:pt x="1103" y="0"/>
                </a:lnTo>
                <a:lnTo>
                  <a:pt x="1124" y="2"/>
                </a:lnTo>
                <a:lnTo>
                  <a:pt x="1142" y="3"/>
                </a:lnTo>
                <a:lnTo>
                  <a:pt x="1161" y="5"/>
                </a:lnTo>
                <a:lnTo>
                  <a:pt x="1176" y="9"/>
                </a:lnTo>
                <a:lnTo>
                  <a:pt x="1192" y="13"/>
                </a:lnTo>
                <a:lnTo>
                  <a:pt x="1199" y="15"/>
                </a:lnTo>
                <a:lnTo>
                  <a:pt x="1205" y="19"/>
                </a:lnTo>
                <a:lnTo>
                  <a:pt x="1211" y="21"/>
                </a:lnTo>
                <a:lnTo>
                  <a:pt x="1217" y="25"/>
                </a:lnTo>
                <a:lnTo>
                  <a:pt x="1220" y="28"/>
                </a:lnTo>
                <a:lnTo>
                  <a:pt x="1224" y="32"/>
                </a:lnTo>
                <a:lnTo>
                  <a:pt x="1228" y="34"/>
                </a:lnTo>
                <a:lnTo>
                  <a:pt x="1232" y="38"/>
                </a:lnTo>
                <a:lnTo>
                  <a:pt x="1238" y="46"/>
                </a:lnTo>
                <a:lnTo>
                  <a:pt x="1241" y="53"/>
                </a:lnTo>
                <a:lnTo>
                  <a:pt x="1243" y="59"/>
                </a:lnTo>
                <a:lnTo>
                  <a:pt x="1243" y="65"/>
                </a:lnTo>
                <a:lnTo>
                  <a:pt x="1240" y="67"/>
                </a:lnTo>
                <a:lnTo>
                  <a:pt x="1236" y="71"/>
                </a:lnTo>
                <a:lnTo>
                  <a:pt x="1230" y="73"/>
                </a:lnTo>
                <a:lnTo>
                  <a:pt x="1224" y="76"/>
                </a:lnTo>
                <a:lnTo>
                  <a:pt x="1217" y="80"/>
                </a:lnTo>
                <a:lnTo>
                  <a:pt x="1207" y="84"/>
                </a:lnTo>
                <a:lnTo>
                  <a:pt x="1197" y="88"/>
                </a:lnTo>
                <a:lnTo>
                  <a:pt x="1186" y="92"/>
                </a:lnTo>
                <a:lnTo>
                  <a:pt x="1172" y="96"/>
                </a:lnTo>
                <a:lnTo>
                  <a:pt x="1159" y="101"/>
                </a:lnTo>
                <a:lnTo>
                  <a:pt x="1144" y="105"/>
                </a:lnTo>
                <a:lnTo>
                  <a:pt x="1126" y="109"/>
                </a:lnTo>
                <a:lnTo>
                  <a:pt x="1109" y="115"/>
                </a:lnTo>
                <a:lnTo>
                  <a:pt x="1090" y="119"/>
                </a:lnTo>
                <a:lnTo>
                  <a:pt x="1071" y="124"/>
                </a:lnTo>
                <a:lnTo>
                  <a:pt x="1050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19"/>
          <p:cNvSpPr/>
          <p:nvPr/>
        </p:nvSpPr>
        <p:spPr>
          <a:xfrm>
            <a:off x="5437080" y="2631960"/>
            <a:ext cx="722520" cy="1762200"/>
          </a:xfrm>
          <a:custGeom>
            <a:avLst/>
            <a:gdLst/>
            <a:ahLst/>
            <a:rect l="l" t="t" r="r" b="b"/>
            <a:pathLst>
              <a:path w="910" h="2221">
                <a:moveTo>
                  <a:pt x="703" y="108"/>
                </a:moveTo>
                <a:lnTo>
                  <a:pt x="697" y="98"/>
                </a:lnTo>
                <a:lnTo>
                  <a:pt x="693" y="88"/>
                </a:lnTo>
                <a:lnTo>
                  <a:pt x="691" y="81"/>
                </a:lnTo>
                <a:lnTo>
                  <a:pt x="688" y="71"/>
                </a:lnTo>
                <a:lnTo>
                  <a:pt x="686" y="63"/>
                </a:lnTo>
                <a:lnTo>
                  <a:pt x="684" y="56"/>
                </a:lnTo>
                <a:lnTo>
                  <a:pt x="682" y="48"/>
                </a:lnTo>
                <a:lnTo>
                  <a:pt x="682" y="42"/>
                </a:lnTo>
                <a:lnTo>
                  <a:pt x="682" y="35"/>
                </a:lnTo>
                <a:lnTo>
                  <a:pt x="682" y="29"/>
                </a:lnTo>
                <a:lnTo>
                  <a:pt x="682" y="23"/>
                </a:lnTo>
                <a:lnTo>
                  <a:pt x="682" y="19"/>
                </a:lnTo>
                <a:lnTo>
                  <a:pt x="684" y="14"/>
                </a:lnTo>
                <a:lnTo>
                  <a:pt x="686" y="10"/>
                </a:lnTo>
                <a:lnTo>
                  <a:pt x="688" y="6"/>
                </a:lnTo>
                <a:lnTo>
                  <a:pt x="689" y="4"/>
                </a:lnTo>
                <a:lnTo>
                  <a:pt x="693" y="2"/>
                </a:lnTo>
                <a:lnTo>
                  <a:pt x="697" y="0"/>
                </a:lnTo>
                <a:lnTo>
                  <a:pt x="703" y="0"/>
                </a:lnTo>
                <a:lnTo>
                  <a:pt x="709" y="2"/>
                </a:lnTo>
                <a:lnTo>
                  <a:pt x="718" y="2"/>
                </a:lnTo>
                <a:lnTo>
                  <a:pt x="728" y="4"/>
                </a:lnTo>
                <a:lnTo>
                  <a:pt x="739" y="8"/>
                </a:lnTo>
                <a:lnTo>
                  <a:pt x="751" y="10"/>
                </a:lnTo>
                <a:lnTo>
                  <a:pt x="766" y="14"/>
                </a:lnTo>
                <a:lnTo>
                  <a:pt x="782" y="19"/>
                </a:lnTo>
                <a:lnTo>
                  <a:pt x="799" y="23"/>
                </a:lnTo>
                <a:lnTo>
                  <a:pt x="818" y="29"/>
                </a:lnTo>
                <a:lnTo>
                  <a:pt x="837" y="35"/>
                </a:lnTo>
                <a:lnTo>
                  <a:pt x="860" y="42"/>
                </a:lnTo>
                <a:lnTo>
                  <a:pt x="883" y="48"/>
                </a:lnTo>
                <a:lnTo>
                  <a:pt x="910" y="56"/>
                </a:lnTo>
                <a:lnTo>
                  <a:pt x="910" y="83"/>
                </a:lnTo>
                <a:lnTo>
                  <a:pt x="908" y="110"/>
                </a:lnTo>
                <a:lnTo>
                  <a:pt x="908" y="138"/>
                </a:lnTo>
                <a:lnTo>
                  <a:pt x="906" y="167"/>
                </a:lnTo>
                <a:lnTo>
                  <a:pt x="906" y="198"/>
                </a:lnTo>
                <a:lnTo>
                  <a:pt x="904" y="227"/>
                </a:lnTo>
                <a:lnTo>
                  <a:pt x="901" y="257"/>
                </a:lnTo>
                <a:lnTo>
                  <a:pt x="899" y="290"/>
                </a:lnTo>
                <a:lnTo>
                  <a:pt x="895" y="321"/>
                </a:lnTo>
                <a:lnTo>
                  <a:pt x="891" y="353"/>
                </a:lnTo>
                <a:lnTo>
                  <a:pt x="887" y="386"/>
                </a:lnTo>
                <a:lnTo>
                  <a:pt x="881" y="420"/>
                </a:lnTo>
                <a:lnTo>
                  <a:pt x="878" y="455"/>
                </a:lnTo>
                <a:lnTo>
                  <a:pt x="872" y="490"/>
                </a:lnTo>
                <a:lnTo>
                  <a:pt x="864" y="524"/>
                </a:lnTo>
                <a:lnTo>
                  <a:pt x="858" y="561"/>
                </a:lnTo>
                <a:lnTo>
                  <a:pt x="851" y="599"/>
                </a:lnTo>
                <a:lnTo>
                  <a:pt x="843" y="637"/>
                </a:lnTo>
                <a:lnTo>
                  <a:pt x="833" y="676"/>
                </a:lnTo>
                <a:lnTo>
                  <a:pt x="824" y="716"/>
                </a:lnTo>
                <a:lnTo>
                  <a:pt x="814" y="758"/>
                </a:lnTo>
                <a:lnTo>
                  <a:pt x="803" y="801"/>
                </a:lnTo>
                <a:lnTo>
                  <a:pt x="791" y="845"/>
                </a:lnTo>
                <a:lnTo>
                  <a:pt x="778" y="891"/>
                </a:lnTo>
                <a:lnTo>
                  <a:pt x="764" y="937"/>
                </a:lnTo>
                <a:lnTo>
                  <a:pt x="751" y="983"/>
                </a:lnTo>
                <a:lnTo>
                  <a:pt x="735" y="1031"/>
                </a:lnTo>
                <a:lnTo>
                  <a:pt x="720" y="1081"/>
                </a:lnTo>
                <a:lnTo>
                  <a:pt x="705" y="1131"/>
                </a:lnTo>
                <a:lnTo>
                  <a:pt x="688" y="1181"/>
                </a:lnTo>
                <a:lnTo>
                  <a:pt x="670" y="1234"/>
                </a:lnTo>
                <a:lnTo>
                  <a:pt x="651" y="1286"/>
                </a:lnTo>
                <a:lnTo>
                  <a:pt x="632" y="1342"/>
                </a:lnTo>
                <a:lnTo>
                  <a:pt x="611" y="1396"/>
                </a:lnTo>
                <a:lnTo>
                  <a:pt x="590" y="1447"/>
                </a:lnTo>
                <a:lnTo>
                  <a:pt x="569" y="1497"/>
                </a:lnTo>
                <a:lnTo>
                  <a:pt x="545" y="1547"/>
                </a:lnTo>
                <a:lnTo>
                  <a:pt x="524" y="1595"/>
                </a:lnTo>
                <a:lnTo>
                  <a:pt x="499" y="1641"/>
                </a:lnTo>
                <a:lnTo>
                  <a:pt x="476" y="1685"/>
                </a:lnTo>
                <a:lnTo>
                  <a:pt x="451" y="1728"/>
                </a:lnTo>
                <a:lnTo>
                  <a:pt x="426" y="1770"/>
                </a:lnTo>
                <a:lnTo>
                  <a:pt x="400" y="1808"/>
                </a:lnTo>
                <a:lnTo>
                  <a:pt x="373" y="1847"/>
                </a:lnTo>
                <a:lnTo>
                  <a:pt x="346" y="1885"/>
                </a:lnTo>
                <a:lnTo>
                  <a:pt x="319" y="1920"/>
                </a:lnTo>
                <a:lnTo>
                  <a:pt x="290" y="1954"/>
                </a:lnTo>
                <a:lnTo>
                  <a:pt x="261" y="1987"/>
                </a:lnTo>
                <a:lnTo>
                  <a:pt x="246" y="2002"/>
                </a:lnTo>
                <a:lnTo>
                  <a:pt x="233" y="2017"/>
                </a:lnTo>
                <a:lnTo>
                  <a:pt x="217" y="2031"/>
                </a:lnTo>
                <a:lnTo>
                  <a:pt x="204" y="2046"/>
                </a:lnTo>
                <a:lnTo>
                  <a:pt x="190" y="2060"/>
                </a:lnTo>
                <a:lnTo>
                  <a:pt x="177" y="2073"/>
                </a:lnTo>
                <a:lnTo>
                  <a:pt x="165" y="2085"/>
                </a:lnTo>
                <a:lnTo>
                  <a:pt x="154" y="2096"/>
                </a:lnTo>
                <a:lnTo>
                  <a:pt x="142" y="2108"/>
                </a:lnTo>
                <a:lnTo>
                  <a:pt x="131" y="2119"/>
                </a:lnTo>
                <a:lnTo>
                  <a:pt x="119" y="2129"/>
                </a:lnTo>
                <a:lnTo>
                  <a:pt x="110" y="2138"/>
                </a:lnTo>
                <a:lnTo>
                  <a:pt x="100" y="2148"/>
                </a:lnTo>
                <a:lnTo>
                  <a:pt x="92" y="2156"/>
                </a:lnTo>
                <a:lnTo>
                  <a:pt x="83" y="2165"/>
                </a:lnTo>
                <a:lnTo>
                  <a:pt x="75" y="2171"/>
                </a:lnTo>
                <a:lnTo>
                  <a:pt x="68" y="2179"/>
                </a:lnTo>
                <a:lnTo>
                  <a:pt x="60" y="2184"/>
                </a:lnTo>
                <a:lnTo>
                  <a:pt x="52" y="2192"/>
                </a:lnTo>
                <a:lnTo>
                  <a:pt x="46" y="2196"/>
                </a:lnTo>
                <a:lnTo>
                  <a:pt x="41" y="2202"/>
                </a:lnTo>
                <a:lnTo>
                  <a:pt x="35" y="2206"/>
                </a:lnTo>
                <a:lnTo>
                  <a:pt x="29" y="2209"/>
                </a:lnTo>
                <a:lnTo>
                  <a:pt x="25" y="2213"/>
                </a:lnTo>
                <a:lnTo>
                  <a:pt x="21" y="2215"/>
                </a:lnTo>
                <a:lnTo>
                  <a:pt x="18" y="2217"/>
                </a:lnTo>
                <a:lnTo>
                  <a:pt x="14" y="2219"/>
                </a:lnTo>
                <a:lnTo>
                  <a:pt x="10" y="2221"/>
                </a:lnTo>
                <a:lnTo>
                  <a:pt x="8" y="2221"/>
                </a:lnTo>
                <a:lnTo>
                  <a:pt x="6" y="2221"/>
                </a:lnTo>
                <a:lnTo>
                  <a:pt x="4" y="2221"/>
                </a:lnTo>
                <a:lnTo>
                  <a:pt x="2" y="2219"/>
                </a:lnTo>
                <a:lnTo>
                  <a:pt x="0" y="2215"/>
                </a:lnTo>
                <a:lnTo>
                  <a:pt x="0" y="2213"/>
                </a:lnTo>
                <a:lnTo>
                  <a:pt x="0" y="2211"/>
                </a:lnTo>
                <a:lnTo>
                  <a:pt x="2" y="2207"/>
                </a:lnTo>
                <a:lnTo>
                  <a:pt x="2" y="2204"/>
                </a:lnTo>
                <a:lnTo>
                  <a:pt x="4" y="2198"/>
                </a:lnTo>
                <a:lnTo>
                  <a:pt x="6" y="2192"/>
                </a:lnTo>
                <a:lnTo>
                  <a:pt x="8" y="2186"/>
                </a:lnTo>
                <a:lnTo>
                  <a:pt x="12" y="2181"/>
                </a:lnTo>
                <a:lnTo>
                  <a:pt x="14" y="2175"/>
                </a:lnTo>
                <a:lnTo>
                  <a:pt x="18" y="2167"/>
                </a:lnTo>
                <a:lnTo>
                  <a:pt x="21" y="2160"/>
                </a:lnTo>
                <a:lnTo>
                  <a:pt x="25" y="2152"/>
                </a:lnTo>
                <a:lnTo>
                  <a:pt x="31" y="2142"/>
                </a:lnTo>
                <a:lnTo>
                  <a:pt x="37" y="2133"/>
                </a:lnTo>
                <a:lnTo>
                  <a:pt x="43" y="2123"/>
                </a:lnTo>
                <a:lnTo>
                  <a:pt x="48" y="2112"/>
                </a:lnTo>
                <a:lnTo>
                  <a:pt x="54" y="2102"/>
                </a:lnTo>
                <a:lnTo>
                  <a:pt x="62" y="2090"/>
                </a:lnTo>
                <a:lnTo>
                  <a:pt x="69" y="2077"/>
                </a:lnTo>
                <a:lnTo>
                  <a:pt x="77" y="2065"/>
                </a:lnTo>
                <a:lnTo>
                  <a:pt x="87" y="2052"/>
                </a:lnTo>
                <a:lnTo>
                  <a:pt x="94" y="2039"/>
                </a:lnTo>
                <a:lnTo>
                  <a:pt x="104" y="2023"/>
                </a:lnTo>
                <a:lnTo>
                  <a:pt x="114" y="2010"/>
                </a:lnTo>
                <a:lnTo>
                  <a:pt x="125" y="1994"/>
                </a:lnTo>
                <a:lnTo>
                  <a:pt x="135" y="1977"/>
                </a:lnTo>
                <a:lnTo>
                  <a:pt x="146" y="1962"/>
                </a:lnTo>
                <a:lnTo>
                  <a:pt x="160" y="1945"/>
                </a:lnTo>
                <a:lnTo>
                  <a:pt x="171" y="1927"/>
                </a:lnTo>
                <a:lnTo>
                  <a:pt x="185" y="1908"/>
                </a:lnTo>
                <a:lnTo>
                  <a:pt x="210" y="1872"/>
                </a:lnTo>
                <a:lnTo>
                  <a:pt x="236" y="1833"/>
                </a:lnTo>
                <a:lnTo>
                  <a:pt x="259" y="1797"/>
                </a:lnTo>
                <a:lnTo>
                  <a:pt x="284" y="1758"/>
                </a:lnTo>
                <a:lnTo>
                  <a:pt x="307" y="1718"/>
                </a:lnTo>
                <a:lnTo>
                  <a:pt x="329" y="1678"/>
                </a:lnTo>
                <a:lnTo>
                  <a:pt x="352" y="1637"/>
                </a:lnTo>
                <a:lnTo>
                  <a:pt x="373" y="1597"/>
                </a:lnTo>
                <a:lnTo>
                  <a:pt x="392" y="1557"/>
                </a:lnTo>
                <a:lnTo>
                  <a:pt x="413" y="1515"/>
                </a:lnTo>
                <a:lnTo>
                  <a:pt x="432" y="1470"/>
                </a:lnTo>
                <a:lnTo>
                  <a:pt x="451" y="1428"/>
                </a:lnTo>
                <a:lnTo>
                  <a:pt x="469" y="1384"/>
                </a:lnTo>
                <a:lnTo>
                  <a:pt x="486" y="1340"/>
                </a:lnTo>
                <a:lnTo>
                  <a:pt x="503" y="1294"/>
                </a:lnTo>
                <a:lnTo>
                  <a:pt x="521" y="1248"/>
                </a:lnTo>
                <a:lnTo>
                  <a:pt x="536" y="1202"/>
                </a:lnTo>
                <a:lnTo>
                  <a:pt x="549" y="1156"/>
                </a:lnTo>
                <a:lnTo>
                  <a:pt x="561" y="1110"/>
                </a:lnTo>
                <a:lnTo>
                  <a:pt x="574" y="1063"/>
                </a:lnTo>
                <a:lnTo>
                  <a:pt x="586" y="1017"/>
                </a:lnTo>
                <a:lnTo>
                  <a:pt x="597" y="971"/>
                </a:lnTo>
                <a:lnTo>
                  <a:pt x="620" y="879"/>
                </a:lnTo>
                <a:lnTo>
                  <a:pt x="640" y="789"/>
                </a:lnTo>
                <a:lnTo>
                  <a:pt x="659" y="699"/>
                </a:lnTo>
                <a:lnTo>
                  <a:pt x="674" y="610"/>
                </a:lnTo>
                <a:lnTo>
                  <a:pt x="689" y="522"/>
                </a:lnTo>
                <a:lnTo>
                  <a:pt x="693" y="501"/>
                </a:lnTo>
                <a:lnTo>
                  <a:pt x="697" y="480"/>
                </a:lnTo>
                <a:lnTo>
                  <a:pt x="699" y="459"/>
                </a:lnTo>
                <a:lnTo>
                  <a:pt x="703" y="440"/>
                </a:lnTo>
                <a:lnTo>
                  <a:pt x="705" y="420"/>
                </a:lnTo>
                <a:lnTo>
                  <a:pt x="707" y="401"/>
                </a:lnTo>
                <a:lnTo>
                  <a:pt x="709" y="382"/>
                </a:lnTo>
                <a:lnTo>
                  <a:pt x="711" y="365"/>
                </a:lnTo>
                <a:lnTo>
                  <a:pt x="712" y="348"/>
                </a:lnTo>
                <a:lnTo>
                  <a:pt x="714" y="330"/>
                </a:lnTo>
                <a:lnTo>
                  <a:pt x="716" y="315"/>
                </a:lnTo>
                <a:lnTo>
                  <a:pt x="718" y="300"/>
                </a:lnTo>
                <a:lnTo>
                  <a:pt x="718" y="284"/>
                </a:lnTo>
                <a:lnTo>
                  <a:pt x="718" y="269"/>
                </a:lnTo>
                <a:lnTo>
                  <a:pt x="720" y="255"/>
                </a:lnTo>
                <a:lnTo>
                  <a:pt x="720" y="242"/>
                </a:lnTo>
                <a:lnTo>
                  <a:pt x="720" y="229"/>
                </a:lnTo>
                <a:lnTo>
                  <a:pt x="720" y="217"/>
                </a:lnTo>
                <a:lnTo>
                  <a:pt x="720" y="205"/>
                </a:lnTo>
                <a:lnTo>
                  <a:pt x="720" y="194"/>
                </a:lnTo>
                <a:lnTo>
                  <a:pt x="720" y="184"/>
                </a:lnTo>
                <a:lnTo>
                  <a:pt x="718" y="175"/>
                </a:lnTo>
                <a:lnTo>
                  <a:pt x="718" y="165"/>
                </a:lnTo>
                <a:lnTo>
                  <a:pt x="716" y="156"/>
                </a:lnTo>
                <a:lnTo>
                  <a:pt x="716" y="148"/>
                </a:lnTo>
                <a:lnTo>
                  <a:pt x="714" y="140"/>
                </a:lnTo>
                <a:lnTo>
                  <a:pt x="712" y="134"/>
                </a:lnTo>
                <a:lnTo>
                  <a:pt x="711" y="127"/>
                </a:lnTo>
                <a:lnTo>
                  <a:pt x="709" y="121"/>
                </a:lnTo>
                <a:lnTo>
                  <a:pt x="707" y="115"/>
                </a:lnTo>
                <a:lnTo>
                  <a:pt x="705" y="111"/>
                </a:lnTo>
                <a:lnTo>
                  <a:pt x="703" y="1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20"/>
          <p:cNvSpPr/>
          <p:nvPr/>
        </p:nvSpPr>
        <p:spPr>
          <a:xfrm>
            <a:off x="6046920" y="2954160"/>
            <a:ext cx="647640" cy="195480"/>
          </a:xfrm>
          <a:custGeom>
            <a:avLst/>
            <a:gdLst/>
            <a:ahLst/>
            <a:rect l="l" t="t" r="r" b="b"/>
            <a:pathLst>
              <a:path w="818" h="248">
                <a:moveTo>
                  <a:pt x="737" y="144"/>
                </a:moveTo>
                <a:lnTo>
                  <a:pt x="730" y="144"/>
                </a:lnTo>
                <a:lnTo>
                  <a:pt x="720" y="144"/>
                </a:lnTo>
                <a:lnTo>
                  <a:pt x="710" y="144"/>
                </a:lnTo>
                <a:lnTo>
                  <a:pt x="699" y="146"/>
                </a:lnTo>
                <a:lnTo>
                  <a:pt x="685" y="148"/>
                </a:lnTo>
                <a:lnTo>
                  <a:pt x="672" y="150"/>
                </a:lnTo>
                <a:lnTo>
                  <a:pt x="657" y="152"/>
                </a:lnTo>
                <a:lnTo>
                  <a:pt x="641" y="154"/>
                </a:lnTo>
                <a:lnTo>
                  <a:pt x="622" y="158"/>
                </a:lnTo>
                <a:lnTo>
                  <a:pt x="605" y="161"/>
                </a:lnTo>
                <a:lnTo>
                  <a:pt x="584" y="165"/>
                </a:lnTo>
                <a:lnTo>
                  <a:pt x="563" y="171"/>
                </a:lnTo>
                <a:lnTo>
                  <a:pt x="539" y="175"/>
                </a:lnTo>
                <a:lnTo>
                  <a:pt x="516" y="181"/>
                </a:lnTo>
                <a:lnTo>
                  <a:pt x="491" y="188"/>
                </a:lnTo>
                <a:lnTo>
                  <a:pt x="467" y="196"/>
                </a:lnTo>
                <a:lnTo>
                  <a:pt x="440" y="202"/>
                </a:lnTo>
                <a:lnTo>
                  <a:pt x="411" y="209"/>
                </a:lnTo>
                <a:lnTo>
                  <a:pt x="384" y="215"/>
                </a:lnTo>
                <a:lnTo>
                  <a:pt x="357" y="219"/>
                </a:lnTo>
                <a:lnTo>
                  <a:pt x="328" y="225"/>
                </a:lnTo>
                <a:lnTo>
                  <a:pt x="300" y="229"/>
                </a:lnTo>
                <a:lnTo>
                  <a:pt x="271" y="232"/>
                </a:lnTo>
                <a:lnTo>
                  <a:pt x="242" y="236"/>
                </a:lnTo>
                <a:lnTo>
                  <a:pt x="182" y="240"/>
                </a:lnTo>
                <a:lnTo>
                  <a:pt x="123" y="244"/>
                </a:lnTo>
                <a:lnTo>
                  <a:pt x="62" y="246"/>
                </a:lnTo>
                <a:lnTo>
                  <a:pt x="0" y="248"/>
                </a:lnTo>
                <a:lnTo>
                  <a:pt x="0" y="131"/>
                </a:lnTo>
                <a:lnTo>
                  <a:pt x="6" y="131"/>
                </a:lnTo>
                <a:lnTo>
                  <a:pt x="14" y="131"/>
                </a:lnTo>
                <a:lnTo>
                  <a:pt x="23" y="129"/>
                </a:lnTo>
                <a:lnTo>
                  <a:pt x="33" y="129"/>
                </a:lnTo>
                <a:lnTo>
                  <a:pt x="44" y="127"/>
                </a:lnTo>
                <a:lnTo>
                  <a:pt x="56" y="127"/>
                </a:lnTo>
                <a:lnTo>
                  <a:pt x="69" y="125"/>
                </a:lnTo>
                <a:lnTo>
                  <a:pt x="85" y="123"/>
                </a:lnTo>
                <a:lnTo>
                  <a:pt x="100" y="121"/>
                </a:lnTo>
                <a:lnTo>
                  <a:pt x="117" y="119"/>
                </a:lnTo>
                <a:lnTo>
                  <a:pt x="134" y="117"/>
                </a:lnTo>
                <a:lnTo>
                  <a:pt x="154" y="113"/>
                </a:lnTo>
                <a:lnTo>
                  <a:pt x="173" y="111"/>
                </a:lnTo>
                <a:lnTo>
                  <a:pt x="194" y="108"/>
                </a:lnTo>
                <a:lnTo>
                  <a:pt x="217" y="104"/>
                </a:lnTo>
                <a:lnTo>
                  <a:pt x="240" y="100"/>
                </a:lnTo>
                <a:lnTo>
                  <a:pt x="265" y="96"/>
                </a:lnTo>
                <a:lnTo>
                  <a:pt x="290" y="92"/>
                </a:lnTo>
                <a:lnTo>
                  <a:pt x="317" y="86"/>
                </a:lnTo>
                <a:lnTo>
                  <a:pt x="346" y="83"/>
                </a:lnTo>
                <a:lnTo>
                  <a:pt x="374" y="77"/>
                </a:lnTo>
                <a:lnTo>
                  <a:pt x="405" y="71"/>
                </a:lnTo>
                <a:lnTo>
                  <a:pt x="436" y="65"/>
                </a:lnTo>
                <a:lnTo>
                  <a:pt x="468" y="60"/>
                </a:lnTo>
                <a:lnTo>
                  <a:pt x="501" y="54"/>
                </a:lnTo>
                <a:lnTo>
                  <a:pt x="536" y="46"/>
                </a:lnTo>
                <a:lnTo>
                  <a:pt x="570" y="40"/>
                </a:lnTo>
                <a:lnTo>
                  <a:pt x="607" y="33"/>
                </a:lnTo>
                <a:lnTo>
                  <a:pt x="645" y="25"/>
                </a:lnTo>
                <a:lnTo>
                  <a:pt x="683" y="17"/>
                </a:lnTo>
                <a:lnTo>
                  <a:pt x="724" y="10"/>
                </a:lnTo>
                <a:lnTo>
                  <a:pt x="764" y="0"/>
                </a:lnTo>
                <a:lnTo>
                  <a:pt x="770" y="12"/>
                </a:lnTo>
                <a:lnTo>
                  <a:pt x="777" y="23"/>
                </a:lnTo>
                <a:lnTo>
                  <a:pt x="783" y="35"/>
                </a:lnTo>
                <a:lnTo>
                  <a:pt x="789" y="44"/>
                </a:lnTo>
                <a:lnTo>
                  <a:pt x="795" y="54"/>
                </a:lnTo>
                <a:lnTo>
                  <a:pt x="801" y="63"/>
                </a:lnTo>
                <a:lnTo>
                  <a:pt x="804" y="71"/>
                </a:lnTo>
                <a:lnTo>
                  <a:pt x="808" y="79"/>
                </a:lnTo>
                <a:lnTo>
                  <a:pt x="812" y="85"/>
                </a:lnTo>
                <a:lnTo>
                  <a:pt x="814" y="92"/>
                </a:lnTo>
                <a:lnTo>
                  <a:pt x="818" y="98"/>
                </a:lnTo>
                <a:lnTo>
                  <a:pt x="818" y="102"/>
                </a:lnTo>
                <a:lnTo>
                  <a:pt x="818" y="108"/>
                </a:lnTo>
                <a:lnTo>
                  <a:pt x="818" y="111"/>
                </a:lnTo>
                <a:lnTo>
                  <a:pt x="818" y="115"/>
                </a:lnTo>
                <a:lnTo>
                  <a:pt x="816" y="117"/>
                </a:lnTo>
                <a:lnTo>
                  <a:pt x="810" y="123"/>
                </a:lnTo>
                <a:lnTo>
                  <a:pt x="804" y="127"/>
                </a:lnTo>
                <a:lnTo>
                  <a:pt x="795" y="131"/>
                </a:lnTo>
                <a:lnTo>
                  <a:pt x="787" y="134"/>
                </a:lnTo>
                <a:lnTo>
                  <a:pt x="776" y="138"/>
                </a:lnTo>
                <a:lnTo>
                  <a:pt x="764" y="140"/>
                </a:lnTo>
                <a:lnTo>
                  <a:pt x="753" y="142"/>
                </a:lnTo>
                <a:lnTo>
                  <a:pt x="737" y="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21"/>
          <p:cNvSpPr/>
          <p:nvPr/>
        </p:nvSpPr>
        <p:spPr>
          <a:xfrm>
            <a:off x="6076800" y="2533680"/>
            <a:ext cx="782640" cy="471600"/>
          </a:xfrm>
          <a:custGeom>
            <a:avLst/>
            <a:gdLst/>
            <a:ahLst/>
            <a:rect l="l" t="t" r="r" b="b"/>
            <a:pathLst>
              <a:path w="986" h="595">
                <a:moveTo>
                  <a:pt x="777" y="388"/>
                </a:moveTo>
                <a:lnTo>
                  <a:pt x="769" y="400"/>
                </a:lnTo>
                <a:lnTo>
                  <a:pt x="763" y="413"/>
                </a:lnTo>
                <a:lnTo>
                  <a:pt x="758" y="426"/>
                </a:lnTo>
                <a:lnTo>
                  <a:pt x="752" y="438"/>
                </a:lnTo>
                <a:lnTo>
                  <a:pt x="748" y="451"/>
                </a:lnTo>
                <a:lnTo>
                  <a:pt x="744" y="465"/>
                </a:lnTo>
                <a:lnTo>
                  <a:pt x="737" y="492"/>
                </a:lnTo>
                <a:lnTo>
                  <a:pt x="731" y="519"/>
                </a:lnTo>
                <a:lnTo>
                  <a:pt x="727" y="545"/>
                </a:lnTo>
                <a:lnTo>
                  <a:pt x="725" y="570"/>
                </a:lnTo>
                <a:lnTo>
                  <a:pt x="725" y="595"/>
                </a:lnTo>
                <a:lnTo>
                  <a:pt x="595" y="595"/>
                </a:lnTo>
                <a:lnTo>
                  <a:pt x="600" y="570"/>
                </a:lnTo>
                <a:lnTo>
                  <a:pt x="606" y="545"/>
                </a:lnTo>
                <a:lnTo>
                  <a:pt x="614" y="519"/>
                </a:lnTo>
                <a:lnTo>
                  <a:pt x="621" y="490"/>
                </a:lnTo>
                <a:lnTo>
                  <a:pt x="629" y="461"/>
                </a:lnTo>
                <a:lnTo>
                  <a:pt x="635" y="434"/>
                </a:lnTo>
                <a:lnTo>
                  <a:pt x="643" y="403"/>
                </a:lnTo>
                <a:lnTo>
                  <a:pt x="646" y="375"/>
                </a:lnTo>
                <a:lnTo>
                  <a:pt x="648" y="361"/>
                </a:lnTo>
                <a:lnTo>
                  <a:pt x="650" y="348"/>
                </a:lnTo>
                <a:lnTo>
                  <a:pt x="652" y="334"/>
                </a:lnTo>
                <a:lnTo>
                  <a:pt x="654" y="323"/>
                </a:lnTo>
                <a:lnTo>
                  <a:pt x="656" y="311"/>
                </a:lnTo>
                <a:lnTo>
                  <a:pt x="656" y="300"/>
                </a:lnTo>
                <a:lnTo>
                  <a:pt x="656" y="290"/>
                </a:lnTo>
                <a:lnTo>
                  <a:pt x="656" y="281"/>
                </a:lnTo>
                <a:lnTo>
                  <a:pt x="656" y="271"/>
                </a:lnTo>
                <a:lnTo>
                  <a:pt x="656" y="263"/>
                </a:lnTo>
                <a:lnTo>
                  <a:pt x="656" y="256"/>
                </a:lnTo>
                <a:lnTo>
                  <a:pt x="654" y="250"/>
                </a:lnTo>
                <a:lnTo>
                  <a:pt x="652" y="244"/>
                </a:lnTo>
                <a:lnTo>
                  <a:pt x="650" y="240"/>
                </a:lnTo>
                <a:lnTo>
                  <a:pt x="648" y="236"/>
                </a:lnTo>
                <a:lnTo>
                  <a:pt x="646" y="233"/>
                </a:lnTo>
                <a:lnTo>
                  <a:pt x="643" y="229"/>
                </a:lnTo>
                <a:lnTo>
                  <a:pt x="635" y="225"/>
                </a:lnTo>
                <a:lnTo>
                  <a:pt x="629" y="223"/>
                </a:lnTo>
                <a:lnTo>
                  <a:pt x="621" y="221"/>
                </a:lnTo>
                <a:lnTo>
                  <a:pt x="614" y="221"/>
                </a:lnTo>
                <a:lnTo>
                  <a:pt x="606" y="219"/>
                </a:lnTo>
                <a:lnTo>
                  <a:pt x="600" y="219"/>
                </a:lnTo>
                <a:lnTo>
                  <a:pt x="595" y="219"/>
                </a:lnTo>
                <a:lnTo>
                  <a:pt x="591" y="219"/>
                </a:lnTo>
                <a:lnTo>
                  <a:pt x="583" y="221"/>
                </a:lnTo>
                <a:lnTo>
                  <a:pt x="575" y="221"/>
                </a:lnTo>
                <a:lnTo>
                  <a:pt x="568" y="221"/>
                </a:lnTo>
                <a:lnTo>
                  <a:pt x="558" y="223"/>
                </a:lnTo>
                <a:lnTo>
                  <a:pt x="548" y="225"/>
                </a:lnTo>
                <a:lnTo>
                  <a:pt x="537" y="227"/>
                </a:lnTo>
                <a:lnTo>
                  <a:pt x="525" y="227"/>
                </a:lnTo>
                <a:lnTo>
                  <a:pt x="512" y="229"/>
                </a:lnTo>
                <a:lnTo>
                  <a:pt x="499" y="233"/>
                </a:lnTo>
                <a:lnTo>
                  <a:pt x="483" y="235"/>
                </a:lnTo>
                <a:lnTo>
                  <a:pt x="466" y="236"/>
                </a:lnTo>
                <a:lnTo>
                  <a:pt x="449" y="238"/>
                </a:lnTo>
                <a:lnTo>
                  <a:pt x="429" y="240"/>
                </a:lnTo>
                <a:lnTo>
                  <a:pt x="408" y="244"/>
                </a:lnTo>
                <a:lnTo>
                  <a:pt x="387" y="246"/>
                </a:lnTo>
                <a:lnTo>
                  <a:pt x="343" y="256"/>
                </a:lnTo>
                <a:lnTo>
                  <a:pt x="299" y="263"/>
                </a:lnTo>
                <a:lnTo>
                  <a:pt x="251" y="269"/>
                </a:lnTo>
                <a:lnTo>
                  <a:pt x="203" y="275"/>
                </a:lnTo>
                <a:lnTo>
                  <a:pt x="155" y="279"/>
                </a:lnTo>
                <a:lnTo>
                  <a:pt x="103" y="282"/>
                </a:lnTo>
                <a:lnTo>
                  <a:pt x="51" y="284"/>
                </a:lnTo>
                <a:lnTo>
                  <a:pt x="0" y="284"/>
                </a:lnTo>
                <a:lnTo>
                  <a:pt x="0" y="181"/>
                </a:lnTo>
                <a:lnTo>
                  <a:pt x="44" y="181"/>
                </a:lnTo>
                <a:lnTo>
                  <a:pt x="90" y="179"/>
                </a:lnTo>
                <a:lnTo>
                  <a:pt x="136" y="175"/>
                </a:lnTo>
                <a:lnTo>
                  <a:pt x="186" y="169"/>
                </a:lnTo>
                <a:lnTo>
                  <a:pt x="211" y="167"/>
                </a:lnTo>
                <a:lnTo>
                  <a:pt x="236" y="163"/>
                </a:lnTo>
                <a:lnTo>
                  <a:pt x="262" y="158"/>
                </a:lnTo>
                <a:lnTo>
                  <a:pt x="289" y="154"/>
                </a:lnTo>
                <a:lnTo>
                  <a:pt x="316" y="148"/>
                </a:lnTo>
                <a:lnTo>
                  <a:pt x="343" y="142"/>
                </a:lnTo>
                <a:lnTo>
                  <a:pt x="372" y="137"/>
                </a:lnTo>
                <a:lnTo>
                  <a:pt x="401" y="129"/>
                </a:lnTo>
                <a:lnTo>
                  <a:pt x="429" y="123"/>
                </a:lnTo>
                <a:lnTo>
                  <a:pt x="456" y="119"/>
                </a:lnTo>
                <a:lnTo>
                  <a:pt x="481" y="114"/>
                </a:lnTo>
                <a:lnTo>
                  <a:pt x="506" y="110"/>
                </a:lnTo>
                <a:lnTo>
                  <a:pt x="527" y="104"/>
                </a:lnTo>
                <a:lnTo>
                  <a:pt x="548" y="98"/>
                </a:lnTo>
                <a:lnTo>
                  <a:pt x="570" y="94"/>
                </a:lnTo>
                <a:lnTo>
                  <a:pt x="587" y="89"/>
                </a:lnTo>
                <a:lnTo>
                  <a:pt x="604" y="83"/>
                </a:lnTo>
                <a:lnTo>
                  <a:pt x="619" y="77"/>
                </a:lnTo>
                <a:lnTo>
                  <a:pt x="635" y="71"/>
                </a:lnTo>
                <a:lnTo>
                  <a:pt x="646" y="66"/>
                </a:lnTo>
                <a:lnTo>
                  <a:pt x="658" y="60"/>
                </a:lnTo>
                <a:lnTo>
                  <a:pt x="669" y="52"/>
                </a:lnTo>
                <a:lnTo>
                  <a:pt x="677" y="46"/>
                </a:lnTo>
                <a:lnTo>
                  <a:pt x="687" y="39"/>
                </a:lnTo>
                <a:lnTo>
                  <a:pt x="700" y="29"/>
                </a:lnTo>
                <a:lnTo>
                  <a:pt x="714" y="21"/>
                </a:lnTo>
                <a:lnTo>
                  <a:pt x="725" y="14"/>
                </a:lnTo>
                <a:lnTo>
                  <a:pt x="738" y="10"/>
                </a:lnTo>
                <a:lnTo>
                  <a:pt x="750" y="4"/>
                </a:lnTo>
                <a:lnTo>
                  <a:pt x="762" y="2"/>
                </a:lnTo>
                <a:lnTo>
                  <a:pt x="775" y="0"/>
                </a:lnTo>
                <a:lnTo>
                  <a:pt x="790" y="0"/>
                </a:lnTo>
                <a:lnTo>
                  <a:pt x="800" y="4"/>
                </a:lnTo>
                <a:lnTo>
                  <a:pt x="811" y="12"/>
                </a:lnTo>
                <a:lnTo>
                  <a:pt x="825" y="20"/>
                </a:lnTo>
                <a:lnTo>
                  <a:pt x="840" y="29"/>
                </a:lnTo>
                <a:lnTo>
                  <a:pt x="848" y="33"/>
                </a:lnTo>
                <a:lnTo>
                  <a:pt x="857" y="39"/>
                </a:lnTo>
                <a:lnTo>
                  <a:pt x="865" y="44"/>
                </a:lnTo>
                <a:lnTo>
                  <a:pt x="875" y="50"/>
                </a:lnTo>
                <a:lnTo>
                  <a:pt x="886" y="56"/>
                </a:lnTo>
                <a:lnTo>
                  <a:pt x="896" y="64"/>
                </a:lnTo>
                <a:lnTo>
                  <a:pt x="907" y="69"/>
                </a:lnTo>
                <a:lnTo>
                  <a:pt x="919" y="77"/>
                </a:lnTo>
                <a:lnTo>
                  <a:pt x="929" y="87"/>
                </a:lnTo>
                <a:lnTo>
                  <a:pt x="936" y="96"/>
                </a:lnTo>
                <a:lnTo>
                  <a:pt x="946" y="106"/>
                </a:lnTo>
                <a:lnTo>
                  <a:pt x="953" y="114"/>
                </a:lnTo>
                <a:lnTo>
                  <a:pt x="959" y="121"/>
                </a:lnTo>
                <a:lnTo>
                  <a:pt x="965" y="129"/>
                </a:lnTo>
                <a:lnTo>
                  <a:pt x="971" y="137"/>
                </a:lnTo>
                <a:lnTo>
                  <a:pt x="975" y="144"/>
                </a:lnTo>
                <a:lnTo>
                  <a:pt x="978" y="150"/>
                </a:lnTo>
                <a:lnTo>
                  <a:pt x="982" y="156"/>
                </a:lnTo>
                <a:lnTo>
                  <a:pt x="984" y="162"/>
                </a:lnTo>
                <a:lnTo>
                  <a:pt x="986" y="167"/>
                </a:lnTo>
                <a:lnTo>
                  <a:pt x="986" y="171"/>
                </a:lnTo>
                <a:lnTo>
                  <a:pt x="986" y="175"/>
                </a:lnTo>
                <a:lnTo>
                  <a:pt x="986" y="179"/>
                </a:lnTo>
                <a:lnTo>
                  <a:pt x="984" y="181"/>
                </a:lnTo>
                <a:lnTo>
                  <a:pt x="978" y="190"/>
                </a:lnTo>
                <a:lnTo>
                  <a:pt x="973" y="200"/>
                </a:lnTo>
                <a:lnTo>
                  <a:pt x="963" y="210"/>
                </a:lnTo>
                <a:lnTo>
                  <a:pt x="955" y="219"/>
                </a:lnTo>
                <a:lnTo>
                  <a:pt x="944" y="227"/>
                </a:lnTo>
                <a:lnTo>
                  <a:pt x="932" y="235"/>
                </a:lnTo>
                <a:lnTo>
                  <a:pt x="921" y="240"/>
                </a:lnTo>
                <a:lnTo>
                  <a:pt x="905" y="246"/>
                </a:lnTo>
                <a:lnTo>
                  <a:pt x="898" y="248"/>
                </a:lnTo>
                <a:lnTo>
                  <a:pt x="890" y="252"/>
                </a:lnTo>
                <a:lnTo>
                  <a:pt x="882" y="258"/>
                </a:lnTo>
                <a:lnTo>
                  <a:pt x="875" y="263"/>
                </a:lnTo>
                <a:lnTo>
                  <a:pt x="867" y="269"/>
                </a:lnTo>
                <a:lnTo>
                  <a:pt x="857" y="277"/>
                </a:lnTo>
                <a:lnTo>
                  <a:pt x="850" y="284"/>
                </a:lnTo>
                <a:lnTo>
                  <a:pt x="840" y="292"/>
                </a:lnTo>
                <a:lnTo>
                  <a:pt x="833" y="302"/>
                </a:lnTo>
                <a:lnTo>
                  <a:pt x="825" y="313"/>
                </a:lnTo>
                <a:lnTo>
                  <a:pt x="815" y="323"/>
                </a:lnTo>
                <a:lnTo>
                  <a:pt x="808" y="334"/>
                </a:lnTo>
                <a:lnTo>
                  <a:pt x="800" y="348"/>
                </a:lnTo>
                <a:lnTo>
                  <a:pt x="792" y="359"/>
                </a:lnTo>
                <a:lnTo>
                  <a:pt x="785" y="375"/>
                </a:lnTo>
                <a:lnTo>
                  <a:pt x="777" y="3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4"/>
          <p:cNvSpPr/>
          <p:nvPr/>
        </p:nvSpPr>
        <p:spPr>
          <a:xfrm>
            <a:off x="2218680" y="2206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114880" y="20415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组合 8"/>
          <p:cNvGrpSpPr/>
          <p:nvPr/>
        </p:nvGrpSpPr>
        <p:grpSpPr>
          <a:xfrm>
            <a:off x="1400040" y="3633840"/>
            <a:ext cx="2840040" cy="1621440"/>
            <a:chOff x="1400040" y="3633840"/>
            <a:chExt cx="2840040" cy="1621440"/>
          </a:xfrm>
        </p:grpSpPr>
        <p:pic>
          <p:nvPicPr>
            <p:cNvPr id="13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33840"/>
              <a:ext cx="284004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2"/>
            <p:cNvSpPr/>
            <p:nvPr/>
          </p:nvSpPr>
          <p:spPr>
            <a:xfrm>
              <a:off x="1444680" y="424692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小偏上，“扌”窄长，“白”宜窄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3"/>
          <p:cNvSpPr/>
          <p:nvPr/>
        </p:nvSpPr>
        <p:spPr>
          <a:xfrm>
            <a:off x="2171880" y="152712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p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06"/>
          <p:cNvSpPr/>
          <p:nvPr/>
        </p:nvSpPr>
        <p:spPr>
          <a:xfrm>
            <a:off x="6969240" y="3213000"/>
            <a:ext cx="831600" cy="1273320"/>
          </a:xfrm>
          <a:custGeom>
            <a:avLst/>
            <a:gdLst/>
            <a:ahLst/>
            <a:rect l="l" t="t" r="r" b="b"/>
            <a:pathLst>
              <a:path w="1046" h="1604">
                <a:moveTo>
                  <a:pt x="942" y="470"/>
                </a:moveTo>
                <a:lnTo>
                  <a:pt x="942" y="487"/>
                </a:lnTo>
                <a:lnTo>
                  <a:pt x="942" y="508"/>
                </a:lnTo>
                <a:lnTo>
                  <a:pt x="942" y="527"/>
                </a:lnTo>
                <a:lnTo>
                  <a:pt x="942" y="551"/>
                </a:lnTo>
                <a:lnTo>
                  <a:pt x="942" y="574"/>
                </a:lnTo>
                <a:lnTo>
                  <a:pt x="942" y="597"/>
                </a:lnTo>
                <a:lnTo>
                  <a:pt x="942" y="622"/>
                </a:lnTo>
                <a:lnTo>
                  <a:pt x="942" y="648"/>
                </a:lnTo>
                <a:lnTo>
                  <a:pt x="942" y="675"/>
                </a:lnTo>
                <a:lnTo>
                  <a:pt x="942" y="702"/>
                </a:lnTo>
                <a:lnTo>
                  <a:pt x="942" y="733"/>
                </a:lnTo>
                <a:lnTo>
                  <a:pt x="942" y="764"/>
                </a:lnTo>
                <a:lnTo>
                  <a:pt x="942" y="794"/>
                </a:lnTo>
                <a:lnTo>
                  <a:pt x="942" y="829"/>
                </a:lnTo>
                <a:lnTo>
                  <a:pt x="942" y="861"/>
                </a:lnTo>
                <a:lnTo>
                  <a:pt x="942" y="898"/>
                </a:lnTo>
                <a:lnTo>
                  <a:pt x="940" y="936"/>
                </a:lnTo>
                <a:lnTo>
                  <a:pt x="940" y="975"/>
                </a:lnTo>
                <a:lnTo>
                  <a:pt x="940" y="1011"/>
                </a:lnTo>
                <a:lnTo>
                  <a:pt x="939" y="1046"/>
                </a:lnTo>
                <a:lnTo>
                  <a:pt x="937" y="1080"/>
                </a:lnTo>
                <a:lnTo>
                  <a:pt x="937" y="1113"/>
                </a:lnTo>
                <a:lnTo>
                  <a:pt x="935" y="1146"/>
                </a:lnTo>
                <a:lnTo>
                  <a:pt x="931" y="1178"/>
                </a:lnTo>
                <a:lnTo>
                  <a:pt x="929" y="1209"/>
                </a:lnTo>
                <a:lnTo>
                  <a:pt x="925" y="1238"/>
                </a:lnTo>
                <a:lnTo>
                  <a:pt x="923" y="1266"/>
                </a:lnTo>
                <a:lnTo>
                  <a:pt x="919" y="1295"/>
                </a:lnTo>
                <a:lnTo>
                  <a:pt x="916" y="1322"/>
                </a:lnTo>
                <a:lnTo>
                  <a:pt x="912" y="1347"/>
                </a:lnTo>
                <a:lnTo>
                  <a:pt x="906" y="1372"/>
                </a:lnTo>
                <a:lnTo>
                  <a:pt x="902" y="1395"/>
                </a:lnTo>
                <a:lnTo>
                  <a:pt x="898" y="1420"/>
                </a:lnTo>
                <a:lnTo>
                  <a:pt x="892" y="1445"/>
                </a:lnTo>
                <a:lnTo>
                  <a:pt x="889" y="1466"/>
                </a:lnTo>
                <a:lnTo>
                  <a:pt x="883" y="1487"/>
                </a:lnTo>
                <a:lnTo>
                  <a:pt x="879" y="1504"/>
                </a:lnTo>
                <a:lnTo>
                  <a:pt x="873" y="1522"/>
                </a:lnTo>
                <a:lnTo>
                  <a:pt x="869" y="1537"/>
                </a:lnTo>
                <a:lnTo>
                  <a:pt x="866" y="1551"/>
                </a:lnTo>
                <a:lnTo>
                  <a:pt x="860" y="1564"/>
                </a:lnTo>
                <a:lnTo>
                  <a:pt x="856" y="1574"/>
                </a:lnTo>
                <a:lnTo>
                  <a:pt x="852" y="1583"/>
                </a:lnTo>
                <a:lnTo>
                  <a:pt x="848" y="1591"/>
                </a:lnTo>
                <a:lnTo>
                  <a:pt x="846" y="1597"/>
                </a:lnTo>
                <a:lnTo>
                  <a:pt x="843" y="1600"/>
                </a:lnTo>
                <a:lnTo>
                  <a:pt x="839" y="1602"/>
                </a:lnTo>
                <a:lnTo>
                  <a:pt x="837" y="1604"/>
                </a:lnTo>
                <a:lnTo>
                  <a:pt x="835" y="1602"/>
                </a:lnTo>
                <a:lnTo>
                  <a:pt x="831" y="1602"/>
                </a:lnTo>
                <a:lnTo>
                  <a:pt x="829" y="1600"/>
                </a:lnTo>
                <a:lnTo>
                  <a:pt x="825" y="1599"/>
                </a:lnTo>
                <a:lnTo>
                  <a:pt x="821" y="1595"/>
                </a:lnTo>
                <a:lnTo>
                  <a:pt x="818" y="1591"/>
                </a:lnTo>
                <a:lnTo>
                  <a:pt x="814" y="1587"/>
                </a:lnTo>
                <a:lnTo>
                  <a:pt x="808" y="1581"/>
                </a:lnTo>
                <a:lnTo>
                  <a:pt x="804" y="1576"/>
                </a:lnTo>
                <a:lnTo>
                  <a:pt x="800" y="1568"/>
                </a:lnTo>
                <a:lnTo>
                  <a:pt x="795" y="1560"/>
                </a:lnTo>
                <a:lnTo>
                  <a:pt x="791" y="1551"/>
                </a:lnTo>
                <a:lnTo>
                  <a:pt x="787" y="1541"/>
                </a:lnTo>
                <a:lnTo>
                  <a:pt x="781" y="1531"/>
                </a:lnTo>
                <a:lnTo>
                  <a:pt x="777" y="1520"/>
                </a:lnTo>
                <a:lnTo>
                  <a:pt x="772" y="1506"/>
                </a:lnTo>
                <a:lnTo>
                  <a:pt x="764" y="1497"/>
                </a:lnTo>
                <a:lnTo>
                  <a:pt x="758" y="1487"/>
                </a:lnTo>
                <a:lnTo>
                  <a:pt x="752" y="1478"/>
                </a:lnTo>
                <a:lnTo>
                  <a:pt x="747" y="1468"/>
                </a:lnTo>
                <a:lnTo>
                  <a:pt x="743" y="1458"/>
                </a:lnTo>
                <a:lnTo>
                  <a:pt x="737" y="1451"/>
                </a:lnTo>
                <a:lnTo>
                  <a:pt x="735" y="1443"/>
                </a:lnTo>
                <a:lnTo>
                  <a:pt x="731" y="1435"/>
                </a:lnTo>
                <a:lnTo>
                  <a:pt x="727" y="1428"/>
                </a:lnTo>
                <a:lnTo>
                  <a:pt x="726" y="1422"/>
                </a:lnTo>
                <a:lnTo>
                  <a:pt x="724" y="1416"/>
                </a:lnTo>
                <a:lnTo>
                  <a:pt x="722" y="1410"/>
                </a:lnTo>
                <a:lnTo>
                  <a:pt x="722" y="1407"/>
                </a:lnTo>
                <a:lnTo>
                  <a:pt x="720" y="1403"/>
                </a:lnTo>
                <a:lnTo>
                  <a:pt x="720" y="1399"/>
                </a:lnTo>
                <a:lnTo>
                  <a:pt x="720" y="1395"/>
                </a:lnTo>
                <a:lnTo>
                  <a:pt x="720" y="1393"/>
                </a:lnTo>
                <a:lnTo>
                  <a:pt x="720" y="1387"/>
                </a:lnTo>
                <a:lnTo>
                  <a:pt x="720" y="1382"/>
                </a:lnTo>
                <a:lnTo>
                  <a:pt x="722" y="1372"/>
                </a:lnTo>
                <a:lnTo>
                  <a:pt x="724" y="1362"/>
                </a:lnTo>
                <a:lnTo>
                  <a:pt x="724" y="1351"/>
                </a:lnTo>
                <a:lnTo>
                  <a:pt x="726" y="1338"/>
                </a:lnTo>
                <a:lnTo>
                  <a:pt x="727" y="1324"/>
                </a:lnTo>
                <a:lnTo>
                  <a:pt x="729" y="1307"/>
                </a:lnTo>
                <a:lnTo>
                  <a:pt x="731" y="1290"/>
                </a:lnTo>
                <a:lnTo>
                  <a:pt x="733" y="1270"/>
                </a:lnTo>
                <a:lnTo>
                  <a:pt x="735" y="1247"/>
                </a:lnTo>
                <a:lnTo>
                  <a:pt x="739" y="1226"/>
                </a:lnTo>
                <a:lnTo>
                  <a:pt x="741" y="1201"/>
                </a:lnTo>
                <a:lnTo>
                  <a:pt x="743" y="1174"/>
                </a:lnTo>
                <a:lnTo>
                  <a:pt x="745" y="1147"/>
                </a:lnTo>
                <a:lnTo>
                  <a:pt x="750" y="1090"/>
                </a:lnTo>
                <a:lnTo>
                  <a:pt x="754" y="1030"/>
                </a:lnTo>
                <a:lnTo>
                  <a:pt x="760" y="971"/>
                </a:lnTo>
                <a:lnTo>
                  <a:pt x="764" y="909"/>
                </a:lnTo>
                <a:lnTo>
                  <a:pt x="766" y="850"/>
                </a:lnTo>
                <a:lnTo>
                  <a:pt x="770" y="787"/>
                </a:lnTo>
                <a:lnTo>
                  <a:pt x="772" y="725"/>
                </a:lnTo>
                <a:lnTo>
                  <a:pt x="772" y="664"/>
                </a:lnTo>
                <a:lnTo>
                  <a:pt x="772" y="635"/>
                </a:lnTo>
                <a:lnTo>
                  <a:pt x="772" y="608"/>
                </a:lnTo>
                <a:lnTo>
                  <a:pt x="772" y="581"/>
                </a:lnTo>
                <a:lnTo>
                  <a:pt x="772" y="554"/>
                </a:lnTo>
                <a:lnTo>
                  <a:pt x="772" y="529"/>
                </a:lnTo>
                <a:lnTo>
                  <a:pt x="772" y="504"/>
                </a:lnTo>
                <a:lnTo>
                  <a:pt x="772" y="481"/>
                </a:lnTo>
                <a:lnTo>
                  <a:pt x="772" y="458"/>
                </a:lnTo>
                <a:lnTo>
                  <a:pt x="772" y="437"/>
                </a:lnTo>
                <a:lnTo>
                  <a:pt x="772" y="416"/>
                </a:lnTo>
                <a:lnTo>
                  <a:pt x="772" y="397"/>
                </a:lnTo>
                <a:lnTo>
                  <a:pt x="772" y="380"/>
                </a:lnTo>
                <a:lnTo>
                  <a:pt x="772" y="362"/>
                </a:lnTo>
                <a:lnTo>
                  <a:pt x="772" y="345"/>
                </a:lnTo>
                <a:lnTo>
                  <a:pt x="772" y="332"/>
                </a:lnTo>
                <a:lnTo>
                  <a:pt x="772" y="318"/>
                </a:lnTo>
                <a:lnTo>
                  <a:pt x="770" y="305"/>
                </a:lnTo>
                <a:lnTo>
                  <a:pt x="766" y="293"/>
                </a:lnTo>
                <a:lnTo>
                  <a:pt x="764" y="282"/>
                </a:lnTo>
                <a:lnTo>
                  <a:pt x="762" y="270"/>
                </a:lnTo>
                <a:lnTo>
                  <a:pt x="758" y="261"/>
                </a:lnTo>
                <a:lnTo>
                  <a:pt x="756" y="251"/>
                </a:lnTo>
                <a:lnTo>
                  <a:pt x="752" y="243"/>
                </a:lnTo>
                <a:lnTo>
                  <a:pt x="750" y="234"/>
                </a:lnTo>
                <a:lnTo>
                  <a:pt x="747" y="226"/>
                </a:lnTo>
                <a:lnTo>
                  <a:pt x="745" y="220"/>
                </a:lnTo>
                <a:lnTo>
                  <a:pt x="741" y="215"/>
                </a:lnTo>
                <a:lnTo>
                  <a:pt x="737" y="209"/>
                </a:lnTo>
                <a:lnTo>
                  <a:pt x="733" y="203"/>
                </a:lnTo>
                <a:lnTo>
                  <a:pt x="729" y="199"/>
                </a:lnTo>
                <a:lnTo>
                  <a:pt x="724" y="195"/>
                </a:lnTo>
                <a:lnTo>
                  <a:pt x="720" y="193"/>
                </a:lnTo>
                <a:lnTo>
                  <a:pt x="712" y="190"/>
                </a:lnTo>
                <a:lnTo>
                  <a:pt x="702" y="188"/>
                </a:lnTo>
                <a:lnTo>
                  <a:pt x="691" y="186"/>
                </a:lnTo>
                <a:lnTo>
                  <a:pt x="679" y="186"/>
                </a:lnTo>
                <a:lnTo>
                  <a:pt x="668" y="184"/>
                </a:lnTo>
                <a:lnTo>
                  <a:pt x="653" y="184"/>
                </a:lnTo>
                <a:lnTo>
                  <a:pt x="637" y="182"/>
                </a:lnTo>
                <a:lnTo>
                  <a:pt x="622" y="182"/>
                </a:lnTo>
                <a:lnTo>
                  <a:pt x="603" y="182"/>
                </a:lnTo>
                <a:lnTo>
                  <a:pt x="583" y="184"/>
                </a:lnTo>
                <a:lnTo>
                  <a:pt x="564" y="184"/>
                </a:lnTo>
                <a:lnTo>
                  <a:pt x="543" y="186"/>
                </a:lnTo>
                <a:lnTo>
                  <a:pt x="520" y="186"/>
                </a:lnTo>
                <a:lnTo>
                  <a:pt x="497" y="188"/>
                </a:lnTo>
                <a:lnTo>
                  <a:pt x="470" y="190"/>
                </a:lnTo>
                <a:lnTo>
                  <a:pt x="445" y="193"/>
                </a:lnTo>
                <a:lnTo>
                  <a:pt x="386" y="199"/>
                </a:lnTo>
                <a:lnTo>
                  <a:pt x="330" y="205"/>
                </a:lnTo>
                <a:lnTo>
                  <a:pt x="273" y="213"/>
                </a:lnTo>
                <a:lnTo>
                  <a:pt x="217" y="220"/>
                </a:lnTo>
                <a:lnTo>
                  <a:pt x="163" y="228"/>
                </a:lnTo>
                <a:lnTo>
                  <a:pt x="107" y="236"/>
                </a:lnTo>
                <a:lnTo>
                  <a:pt x="54" y="243"/>
                </a:lnTo>
                <a:lnTo>
                  <a:pt x="0" y="249"/>
                </a:lnTo>
                <a:lnTo>
                  <a:pt x="0" y="193"/>
                </a:lnTo>
                <a:lnTo>
                  <a:pt x="0" y="138"/>
                </a:lnTo>
                <a:lnTo>
                  <a:pt x="44" y="132"/>
                </a:lnTo>
                <a:lnTo>
                  <a:pt x="86" y="128"/>
                </a:lnTo>
                <a:lnTo>
                  <a:pt x="127" y="122"/>
                </a:lnTo>
                <a:lnTo>
                  <a:pt x="165" y="117"/>
                </a:lnTo>
                <a:lnTo>
                  <a:pt x="202" y="113"/>
                </a:lnTo>
                <a:lnTo>
                  <a:pt x="236" y="107"/>
                </a:lnTo>
                <a:lnTo>
                  <a:pt x="271" y="103"/>
                </a:lnTo>
                <a:lnTo>
                  <a:pt x="303" y="98"/>
                </a:lnTo>
                <a:lnTo>
                  <a:pt x="334" y="94"/>
                </a:lnTo>
                <a:lnTo>
                  <a:pt x="361" y="90"/>
                </a:lnTo>
                <a:lnTo>
                  <a:pt x="390" y="86"/>
                </a:lnTo>
                <a:lnTo>
                  <a:pt x="415" y="82"/>
                </a:lnTo>
                <a:lnTo>
                  <a:pt x="438" y="78"/>
                </a:lnTo>
                <a:lnTo>
                  <a:pt x="459" y="74"/>
                </a:lnTo>
                <a:lnTo>
                  <a:pt x="480" y="71"/>
                </a:lnTo>
                <a:lnTo>
                  <a:pt x="497" y="69"/>
                </a:lnTo>
                <a:lnTo>
                  <a:pt x="514" y="67"/>
                </a:lnTo>
                <a:lnTo>
                  <a:pt x="530" y="63"/>
                </a:lnTo>
                <a:lnTo>
                  <a:pt x="545" y="61"/>
                </a:lnTo>
                <a:lnTo>
                  <a:pt x="559" y="59"/>
                </a:lnTo>
                <a:lnTo>
                  <a:pt x="572" y="55"/>
                </a:lnTo>
                <a:lnTo>
                  <a:pt x="583" y="53"/>
                </a:lnTo>
                <a:lnTo>
                  <a:pt x="595" y="50"/>
                </a:lnTo>
                <a:lnTo>
                  <a:pt x="607" y="48"/>
                </a:lnTo>
                <a:lnTo>
                  <a:pt x="616" y="46"/>
                </a:lnTo>
                <a:lnTo>
                  <a:pt x="626" y="42"/>
                </a:lnTo>
                <a:lnTo>
                  <a:pt x="635" y="40"/>
                </a:lnTo>
                <a:lnTo>
                  <a:pt x="643" y="38"/>
                </a:lnTo>
                <a:lnTo>
                  <a:pt x="649" y="34"/>
                </a:lnTo>
                <a:lnTo>
                  <a:pt x="656" y="32"/>
                </a:lnTo>
                <a:lnTo>
                  <a:pt x="662" y="30"/>
                </a:lnTo>
                <a:lnTo>
                  <a:pt x="668" y="27"/>
                </a:lnTo>
                <a:lnTo>
                  <a:pt x="672" y="23"/>
                </a:lnTo>
                <a:lnTo>
                  <a:pt x="679" y="17"/>
                </a:lnTo>
                <a:lnTo>
                  <a:pt x="687" y="13"/>
                </a:lnTo>
                <a:lnTo>
                  <a:pt x="695" y="7"/>
                </a:lnTo>
                <a:lnTo>
                  <a:pt x="704" y="5"/>
                </a:lnTo>
                <a:lnTo>
                  <a:pt x="712" y="2"/>
                </a:lnTo>
                <a:lnTo>
                  <a:pt x="722" y="0"/>
                </a:lnTo>
                <a:lnTo>
                  <a:pt x="733" y="0"/>
                </a:lnTo>
                <a:lnTo>
                  <a:pt x="737" y="0"/>
                </a:lnTo>
                <a:lnTo>
                  <a:pt x="745" y="2"/>
                </a:lnTo>
                <a:lnTo>
                  <a:pt x="750" y="3"/>
                </a:lnTo>
                <a:lnTo>
                  <a:pt x="760" y="5"/>
                </a:lnTo>
                <a:lnTo>
                  <a:pt x="768" y="7"/>
                </a:lnTo>
                <a:lnTo>
                  <a:pt x="777" y="11"/>
                </a:lnTo>
                <a:lnTo>
                  <a:pt x="789" y="15"/>
                </a:lnTo>
                <a:lnTo>
                  <a:pt x="800" y="21"/>
                </a:lnTo>
                <a:lnTo>
                  <a:pt x="812" y="27"/>
                </a:lnTo>
                <a:lnTo>
                  <a:pt x="825" y="32"/>
                </a:lnTo>
                <a:lnTo>
                  <a:pt x="839" y="38"/>
                </a:lnTo>
                <a:lnTo>
                  <a:pt x="852" y="46"/>
                </a:lnTo>
                <a:lnTo>
                  <a:pt x="868" y="53"/>
                </a:lnTo>
                <a:lnTo>
                  <a:pt x="883" y="63"/>
                </a:lnTo>
                <a:lnTo>
                  <a:pt x="898" y="73"/>
                </a:lnTo>
                <a:lnTo>
                  <a:pt x="916" y="82"/>
                </a:lnTo>
                <a:lnTo>
                  <a:pt x="933" y="94"/>
                </a:lnTo>
                <a:lnTo>
                  <a:pt x="948" y="103"/>
                </a:lnTo>
                <a:lnTo>
                  <a:pt x="962" y="113"/>
                </a:lnTo>
                <a:lnTo>
                  <a:pt x="975" y="122"/>
                </a:lnTo>
                <a:lnTo>
                  <a:pt x="987" y="130"/>
                </a:lnTo>
                <a:lnTo>
                  <a:pt x="996" y="138"/>
                </a:lnTo>
                <a:lnTo>
                  <a:pt x="1006" y="146"/>
                </a:lnTo>
                <a:lnTo>
                  <a:pt x="1015" y="153"/>
                </a:lnTo>
                <a:lnTo>
                  <a:pt x="1023" y="161"/>
                </a:lnTo>
                <a:lnTo>
                  <a:pt x="1029" y="167"/>
                </a:lnTo>
                <a:lnTo>
                  <a:pt x="1035" y="172"/>
                </a:lnTo>
                <a:lnTo>
                  <a:pt x="1038" y="178"/>
                </a:lnTo>
                <a:lnTo>
                  <a:pt x="1042" y="182"/>
                </a:lnTo>
                <a:lnTo>
                  <a:pt x="1044" y="186"/>
                </a:lnTo>
                <a:lnTo>
                  <a:pt x="1046" y="190"/>
                </a:lnTo>
                <a:lnTo>
                  <a:pt x="1046" y="193"/>
                </a:lnTo>
                <a:lnTo>
                  <a:pt x="1046" y="203"/>
                </a:lnTo>
                <a:lnTo>
                  <a:pt x="1044" y="215"/>
                </a:lnTo>
                <a:lnTo>
                  <a:pt x="1040" y="224"/>
                </a:lnTo>
                <a:lnTo>
                  <a:pt x="1035" y="234"/>
                </a:lnTo>
                <a:lnTo>
                  <a:pt x="1031" y="240"/>
                </a:lnTo>
                <a:lnTo>
                  <a:pt x="1027" y="245"/>
                </a:lnTo>
                <a:lnTo>
                  <a:pt x="1023" y="249"/>
                </a:lnTo>
                <a:lnTo>
                  <a:pt x="1019" y="255"/>
                </a:lnTo>
                <a:lnTo>
                  <a:pt x="1013" y="261"/>
                </a:lnTo>
                <a:lnTo>
                  <a:pt x="1008" y="266"/>
                </a:lnTo>
                <a:lnTo>
                  <a:pt x="1000" y="270"/>
                </a:lnTo>
                <a:lnTo>
                  <a:pt x="994" y="276"/>
                </a:lnTo>
                <a:lnTo>
                  <a:pt x="987" y="282"/>
                </a:lnTo>
                <a:lnTo>
                  <a:pt x="981" y="288"/>
                </a:lnTo>
                <a:lnTo>
                  <a:pt x="975" y="295"/>
                </a:lnTo>
                <a:lnTo>
                  <a:pt x="969" y="305"/>
                </a:lnTo>
                <a:lnTo>
                  <a:pt x="964" y="314"/>
                </a:lnTo>
                <a:lnTo>
                  <a:pt x="960" y="324"/>
                </a:lnTo>
                <a:lnTo>
                  <a:pt x="956" y="336"/>
                </a:lnTo>
                <a:lnTo>
                  <a:pt x="954" y="347"/>
                </a:lnTo>
                <a:lnTo>
                  <a:pt x="950" y="360"/>
                </a:lnTo>
                <a:lnTo>
                  <a:pt x="948" y="374"/>
                </a:lnTo>
                <a:lnTo>
                  <a:pt x="946" y="387"/>
                </a:lnTo>
                <a:lnTo>
                  <a:pt x="944" y="403"/>
                </a:lnTo>
                <a:lnTo>
                  <a:pt x="942" y="418"/>
                </a:lnTo>
                <a:lnTo>
                  <a:pt x="942" y="435"/>
                </a:lnTo>
                <a:lnTo>
                  <a:pt x="942" y="453"/>
                </a:lnTo>
                <a:lnTo>
                  <a:pt x="942" y="4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07"/>
          <p:cNvSpPr/>
          <p:nvPr/>
        </p:nvSpPr>
        <p:spPr>
          <a:xfrm>
            <a:off x="6969240" y="4113360"/>
            <a:ext cx="664920" cy="131760"/>
          </a:xfrm>
          <a:custGeom>
            <a:avLst/>
            <a:gdLst/>
            <a:ahLst/>
            <a:rect l="l" t="t" r="r" b="b"/>
            <a:pathLst>
              <a:path w="837" h="165">
                <a:moveTo>
                  <a:pt x="0" y="40"/>
                </a:moveTo>
                <a:lnTo>
                  <a:pt x="17" y="40"/>
                </a:lnTo>
                <a:lnTo>
                  <a:pt x="36" y="40"/>
                </a:lnTo>
                <a:lnTo>
                  <a:pt x="56" y="38"/>
                </a:lnTo>
                <a:lnTo>
                  <a:pt x="75" y="38"/>
                </a:lnTo>
                <a:lnTo>
                  <a:pt x="94" y="37"/>
                </a:lnTo>
                <a:lnTo>
                  <a:pt x="115" y="35"/>
                </a:lnTo>
                <a:lnTo>
                  <a:pt x="138" y="35"/>
                </a:lnTo>
                <a:lnTo>
                  <a:pt x="161" y="33"/>
                </a:lnTo>
                <a:lnTo>
                  <a:pt x="184" y="31"/>
                </a:lnTo>
                <a:lnTo>
                  <a:pt x="209" y="27"/>
                </a:lnTo>
                <a:lnTo>
                  <a:pt x="234" y="25"/>
                </a:lnTo>
                <a:lnTo>
                  <a:pt x="261" y="23"/>
                </a:lnTo>
                <a:lnTo>
                  <a:pt x="290" y="21"/>
                </a:lnTo>
                <a:lnTo>
                  <a:pt x="319" y="17"/>
                </a:lnTo>
                <a:lnTo>
                  <a:pt x="347" y="15"/>
                </a:lnTo>
                <a:lnTo>
                  <a:pt x="380" y="13"/>
                </a:lnTo>
                <a:lnTo>
                  <a:pt x="411" y="10"/>
                </a:lnTo>
                <a:lnTo>
                  <a:pt x="441" y="8"/>
                </a:lnTo>
                <a:lnTo>
                  <a:pt x="472" y="6"/>
                </a:lnTo>
                <a:lnTo>
                  <a:pt x="503" y="4"/>
                </a:lnTo>
                <a:lnTo>
                  <a:pt x="560" y="2"/>
                </a:lnTo>
                <a:lnTo>
                  <a:pt x="618" y="0"/>
                </a:lnTo>
                <a:lnTo>
                  <a:pt x="674" y="0"/>
                </a:lnTo>
                <a:lnTo>
                  <a:pt x="729" y="0"/>
                </a:lnTo>
                <a:lnTo>
                  <a:pt x="783" y="0"/>
                </a:lnTo>
                <a:lnTo>
                  <a:pt x="837" y="0"/>
                </a:lnTo>
                <a:lnTo>
                  <a:pt x="837" y="61"/>
                </a:lnTo>
                <a:lnTo>
                  <a:pt x="837" y="123"/>
                </a:lnTo>
                <a:lnTo>
                  <a:pt x="797" y="121"/>
                </a:lnTo>
                <a:lnTo>
                  <a:pt x="756" y="119"/>
                </a:lnTo>
                <a:lnTo>
                  <a:pt x="712" y="119"/>
                </a:lnTo>
                <a:lnTo>
                  <a:pt x="668" y="119"/>
                </a:lnTo>
                <a:lnTo>
                  <a:pt x="622" y="119"/>
                </a:lnTo>
                <a:lnTo>
                  <a:pt x="574" y="119"/>
                </a:lnTo>
                <a:lnTo>
                  <a:pt x="524" y="121"/>
                </a:lnTo>
                <a:lnTo>
                  <a:pt x="474" y="123"/>
                </a:lnTo>
                <a:lnTo>
                  <a:pt x="422" y="127"/>
                </a:lnTo>
                <a:lnTo>
                  <a:pt x="368" y="131"/>
                </a:lnTo>
                <a:lnTo>
                  <a:pt x="313" y="134"/>
                </a:lnTo>
                <a:lnTo>
                  <a:pt x="255" y="138"/>
                </a:lnTo>
                <a:lnTo>
                  <a:pt x="198" y="144"/>
                </a:lnTo>
                <a:lnTo>
                  <a:pt x="138" y="150"/>
                </a:lnTo>
                <a:lnTo>
                  <a:pt x="77" y="157"/>
                </a:lnTo>
                <a:lnTo>
                  <a:pt x="13" y="165"/>
                </a:lnTo>
                <a:lnTo>
                  <a:pt x="8" y="104"/>
                </a:lnTo>
                <a:lnTo>
                  <a:pt x="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8"/>
          <p:cNvSpPr/>
          <p:nvPr/>
        </p:nvSpPr>
        <p:spPr>
          <a:xfrm>
            <a:off x="6969240" y="3662280"/>
            <a:ext cx="460440" cy="154080"/>
          </a:xfrm>
          <a:custGeom>
            <a:avLst/>
            <a:gdLst/>
            <a:ahLst/>
            <a:rect l="l" t="t" r="r" b="b"/>
            <a:pathLst>
              <a:path w="580" h="194">
                <a:moveTo>
                  <a:pt x="549" y="138"/>
                </a:moveTo>
                <a:lnTo>
                  <a:pt x="547" y="140"/>
                </a:lnTo>
                <a:lnTo>
                  <a:pt x="545" y="142"/>
                </a:lnTo>
                <a:lnTo>
                  <a:pt x="541" y="142"/>
                </a:lnTo>
                <a:lnTo>
                  <a:pt x="537" y="144"/>
                </a:lnTo>
                <a:lnTo>
                  <a:pt x="532" y="146"/>
                </a:lnTo>
                <a:lnTo>
                  <a:pt x="524" y="148"/>
                </a:lnTo>
                <a:lnTo>
                  <a:pt x="516" y="150"/>
                </a:lnTo>
                <a:lnTo>
                  <a:pt x="509" y="152"/>
                </a:lnTo>
                <a:lnTo>
                  <a:pt x="499" y="153"/>
                </a:lnTo>
                <a:lnTo>
                  <a:pt x="487" y="155"/>
                </a:lnTo>
                <a:lnTo>
                  <a:pt x="476" y="157"/>
                </a:lnTo>
                <a:lnTo>
                  <a:pt x="463" y="159"/>
                </a:lnTo>
                <a:lnTo>
                  <a:pt x="449" y="161"/>
                </a:lnTo>
                <a:lnTo>
                  <a:pt x="434" y="163"/>
                </a:lnTo>
                <a:lnTo>
                  <a:pt x="418" y="165"/>
                </a:lnTo>
                <a:lnTo>
                  <a:pt x="403" y="167"/>
                </a:lnTo>
                <a:lnTo>
                  <a:pt x="384" y="169"/>
                </a:lnTo>
                <a:lnTo>
                  <a:pt x="367" y="171"/>
                </a:lnTo>
                <a:lnTo>
                  <a:pt x="345" y="173"/>
                </a:lnTo>
                <a:lnTo>
                  <a:pt x="326" y="175"/>
                </a:lnTo>
                <a:lnTo>
                  <a:pt x="303" y="176"/>
                </a:lnTo>
                <a:lnTo>
                  <a:pt x="282" y="178"/>
                </a:lnTo>
                <a:lnTo>
                  <a:pt x="257" y="180"/>
                </a:lnTo>
                <a:lnTo>
                  <a:pt x="234" y="180"/>
                </a:lnTo>
                <a:lnTo>
                  <a:pt x="207" y="182"/>
                </a:lnTo>
                <a:lnTo>
                  <a:pt x="180" y="184"/>
                </a:lnTo>
                <a:lnTo>
                  <a:pt x="154" y="186"/>
                </a:lnTo>
                <a:lnTo>
                  <a:pt x="125" y="188"/>
                </a:lnTo>
                <a:lnTo>
                  <a:pt x="96" y="190"/>
                </a:lnTo>
                <a:lnTo>
                  <a:pt x="65" y="192"/>
                </a:lnTo>
                <a:lnTo>
                  <a:pt x="33" y="192"/>
                </a:lnTo>
                <a:lnTo>
                  <a:pt x="0" y="194"/>
                </a:lnTo>
                <a:lnTo>
                  <a:pt x="0" y="138"/>
                </a:lnTo>
                <a:lnTo>
                  <a:pt x="0" y="84"/>
                </a:lnTo>
                <a:lnTo>
                  <a:pt x="13" y="82"/>
                </a:lnTo>
                <a:lnTo>
                  <a:pt x="27" y="82"/>
                </a:lnTo>
                <a:lnTo>
                  <a:pt x="40" y="82"/>
                </a:lnTo>
                <a:lnTo>
                  <a:pt x="54" y="80"/>
                </a:lnTo>
                <a:lnTo>
                  <a:pt x="84" y="79"/>
                </a:lnTo>
                <a:lnTo>
                  <a:pt x="115" y="73"/>
                </a:lnTo>
                <a:lnTo>
                  <a:pt x="148" y="67"/>
                </a:lnTo>
                <a:lnTo>
                  <a:pt x="180" y="59"/>
                </a:lnTo>
                <a:lnTo>
                  <a:pt x="215" y="52"/>
                </a:lnTo>
                <a:lnTo>
                  <a:pt x="249" y="42"/>
                </a:lnTo>
                <a:lnTo>
                  <a:pt x="265" y="38"/>
                </a:lnTo>
                <a:lnTo>
                  <a:pt x="282" y="36"/>
                </a:lnTo>
                <a:lnTo>
                  <a:pt x="297" y="34"/>
                </a:lnTo>
                <a:lnTo>
                  <a:pt x="313" y="31"/>
                </a:lnTo>
                <a:lnTo>
                  <a:pt x="342" y="27"/>
                </a:lnTo>
                <a:lnTo>
                  <a:pt x="370" y="21"/>
                </a:lnTo>
                <a:lnTo>
                  <a:pt x="395" y="15"/>
                </a:lnTo>
                <a:lnTo>
                  <a:pt x="422" y="11"/>
                </a:lnTo>
                <a:lnTo>
                  <a:pt x="445" y="6"/>
                </a:lnTo>
                <a:lnTo>
                  <a:pt x="470" y="0"/>
                </a:lnTo>
                <a:lnTo>
                  <a:pt x="482" y="0"/>
                </a:lnTo>
                <a:lnTo>
                  <a:pt x="493" y="2"/>
                </a:lnTo>
                <a:lnTo>
                  <a:pt x="503" y="2"/>
                </a:lnTo>
                <a:lnTo>
                  <a:pt x="512" y="4"/>
                </a:lnTo>
                <a:lnTo>
                  <a:pt x="522" y="6"/>
                </a:lnTo>
                <a:lnTo>
                  <a:pt x="530" y="8"/>
                </a:lnTo>
                <a:lnTo>
                  <a:pt x="535" y="9"/>
                </a:lnTo>
                <a:lnTo>
                  <a:pt x="543" y="13"/>
                </a:lnTo>
                <a:lnTo>
                  <a:pt x="549" y="15"/>
                </a:lnTo>
                <a:lnTo>
                  <a:pt x="555" y="19"/>
                </a:lnTo>
                <a:lnTo>
                  <a:pt x="559" y="25"/>
                </a:lnTo>
                <a:lnTo>
                  <a:pt x="562" y="29"/>
                </a:lnTo>
                <a:lnTo>
                  <a:pt x="566" y="34"/>
                </a:lnTo>
                <a:lnTo>
                  <a:pt x="570" y="42"/>
                </a:lnTo>
                <a:lnTo>
                  <a:pt x="572" y="48"/>
                </a:lnTo>
                <a:lnTo>
                  <a:pt x="576" y="56"/>
                </a:lnTo>
                <a:lnTo>
                  <a:pt x="578" y="63"/>
                </a:lnTo>
                <a:lnTo>
                  <a:pt x="580" y="71"/>
                </a:lnTo>
                <a:lnTo>
                  <a:pt x="580" y="77"/>
                </a:lnTo>
                <a:lnTo>
                  <a:pt x="580" y="84"/>
                </a:lnTo>
                <a:lnTo>
                  <a:pt x="580" y="90"/>
                </a:lnTo>
                <a:lnTo>
                  <a:pt x="580" y="96"/>
                </a:lnTo>
                <a:lnTo>
                  <a:pt x="578" y="102"/>
                </a:lnTo>
                <a:lnTo>
                  <a:pt x="578" y="107"/>
                </a:lnTo>
                <a:lnTo>
                  <a:pt x="572" y="117"/>
                </a:lnTo>
                <a:lnTo>
                  <a:pt x="566" y="127"/>
                </a:lnTo>
                <a:lnTo>
                  <a:pt x="559" y="132"/>
                </a:lnTo>
                <a:lnTo>
                  <a:pt x="549" y="1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09"/>
          <p:cNvSpPr/>
          <p:nvPr/>
        </p:nvSpPr>
        <p:spPr>
          <a:xfrm>
            <a:off x="6880320" y="3297240"/>
            <a:ext cx="152280" cy="1111320"/>
          </a:xfrm>
          <a:custGeom>
            <a:avLst/>
            <a:gdLst/>
            <a:ahLst/>
            <a:rect l="l" t="t" r="r" b="b"/>
            <a:pathLst>
              <a:path w="192" h="1401">
                <a:moveTo>
                  <a:pt x="9" y="131"/>
                </a:moveTo>
                <a:lnTo>
                  <a:pt x="7" y="117"/>
                </a:lnTo>
                <a:lnTo>
                  <a:pt x="5" y="106"/>
                </a:lnTo>
                <a:lnTo>
                  <a:pt x="4" y="94"/>
                </a:lnTo>
                <a:lnTo>
                  <a:pt x="2" y="83"/>
                </a:lnTo>
                <a:lnTo>
                  <a:pt x="2" y="73"/>
                </a:lnTo>
                <a:lnTo>
                  <a:pt x="0" y="64"/>
                </a:lnTo>
                <a:lnTo>
                  <a:pt x="0" y="54"/>
                </a:lnTo>
                <a:lnTo>
                  <a:pt x="2" y="46"/>
                </a:lnTo>
                <a:lnTo>
                  <a:pt x="2" y="39"/>
                </a:lnTo>
                <a:lnTo>
                  <a:pt x="4" y="33"/>
                </a:lnTo>
                <a:lnTo>
                  <a:pt x="5" y="27"/>
                </a:lnTo>
                <a:lnTo>
                  <a:pt x="7" y="21"/>
                </a:lnTo>
                <a:lnTo>
                  <a:pt x="9" y="16"/>
                </a:lnTo>
                <a:lnTo>
                  <a:pt x="13" y="12"/>
                </a:lnTo>
                <a:lnTo>
                  <a:pt x="17" y="8"/>
                </a:lnTo>
                <a:lnTo>
                  <a:pt x="23" y="6"/>
                </a:lnTo>
                <a:lnTo>
                  <a:pt x="27" y="2"/>
                </a:lnTo>
                <a:lnTo>
                  <a:pt x="32" y="0"/>
                </a:lnTo>
                <a:lnTo>
                  <a:pt x="40" y="0"/>
                </a:lnTo>
                <a:lnTo>
                  <a:pt x="46" y="0"/>
                </a:lnTo>
                <a:lnTo>
                  <a:pt x="53" y="0"/>
                </a:lnTo>
                <a:lnTo>
                  <a:pt x="63" y="0"/>
                </a:lnTo>
                <a:lnTo>
                  <a:pt x="73" y="2"/>
                </a:lnTo>
                <a:lnTo>
                  <a:pt x="82" y="4"/>
                </a:lnTo>
                <a:lnTo>
                  <a:pt x="94" y="6"/>
                </a:lnTo>
                <a:lnTo>
                  <a:pt x="105" y="8"/>
                </a:lnTo>
                <a:lnTo>
                  <a:pt x="117" y="12"/>
                </a:lnTo>
                <a:lnTo>
                  <a:pt x="130" y="16"/>
                </a:lnTo>
                <a:lnTo>
                  <a:pt x="144" y="19"/>
                </a:lnTo>
                <a:lnTo>
                  <a:pt x="159" y="23"/>
                </a:lnTo>
                <a:lnTo>
                  <a:pt x="174" y="27"/>
                </a:lnTo>
                <a:lnTo>
                  <a:pt x="192" y="33"/>
                </a:lnTo>
                <a:lnTo>
                  <a:pt x="192" y="115"/>
                </a:lnTo>
                <a:lnTo>
                  <a:pt x="192" y="194"/>
                </a:lnTo>
                <a:lnTo>
                  <a:pt x="192" y="271"/>
                </a:lnTo>
                <a:lnTo>
                  <a:pt x="192" y="344"/>
                </a:lnTo>
                <a:lnTo>
                  <a:pt x="192" y="417"/>
                </a:lnTo>
                <a:lnTo>
                  <a:pt x="190" y="486"/>
                </a:lnTo>
                <a:lnTo>
                  <a:pt x="190" y="551"/>
                </a:lnTo>
                <a:lnTo>
                  <a:pt x="190" y="616"/>
                </a:lnTo>
                <a:lnTo>
                  <a:pt x="188" y="678"/>
                </a:lnTo>
                <a:lnTo>
                  <a:pt x="188" y="737"/>
                </a:lnTo>
                <a:lnTo>
                  <a:pt x="188" y="793"/>
                </a:lnTo>
                <a:lnTo>
                  <a:pt x="186" y="847"/>
                </a:lnTo>
                <a:lnTo>
                  <a:pt x="186" y="899"/>
                </a:lnTo>
                <a:lnTo>
                  <a:pt x="184" y="946"/>
                </a:lnTo>
                <a:lnTo>
                  <a:pt x="184" y="993"/>
                </a:lnTo>
                <a:lnTo>
                  <a:pt x="182" y="1037"/>
                </a:lnTo>
                <a:lnTo>
                  <a:pt x="180" y="1077"/>
                </a:lnTo>
                <a:lnTo>
                  <a:pt x="180" y="1117"/>
                </a:lnTo>
                <a:lnTo>
                  <a:pt x="178" y="1152"/>
                </a:lnTo>
                <a:lnTo>
                  <a:pt x="176" y="1186"/>
                </a:lnTo>
                <a:lnTo>
                  <a:pt x="174" y="1217"/>
                </a:lnTo>
                <a:lnTo>
                  <a:pt x="172" y="1246"/>
                </a:lnTo>
                <a:lnTo>
                  <a:pt x="171" y="1271"/>
                </a:lnTo>
                <a:lnTo>
                  <a:pt x="171" y="1294"/>
                </a:lnTo>
                <a:lnTo>
                  <a:pt x="169" y="1315"/>
                </a:lnTo>
                <a:lnTo>
                  <a:pt x="167" y="1332"/>
                </a:lnTo>
                <a:lnTo>
                  <a:pt x="163" y="1350"/>
                </a:lnTo>
                <a:lnTo>
                  <a:pt x="161" y="1361"/>
                </a:lnTo>
                <a:lnTo>
                  <a:pt x="159" y="1373"/>
                </a:lnTo>
                <a:lnTo>
                  <a:pt x="157" y="1380"/>
                </a:lnTo>
                <a:lnTo>
                  <a:pt x="155" y="1384"/>
                </a:lnTo>
                <a:lnTo>
                  <a:pt x="153" y="1388"/>
                </a:lnTo>
                <a:lnTo>
                  <a:pt x="148" y="1392"/>
                </a:lnTo>
                <a:lnTo>
                  <a:pt x="142" y="1396"/>
                </a:lnTo>
                <a:lnTo>
                  <a:pt x="138" y="1399"/>
                </a:lnTo>
                <a:lnTo>
                  <a:pt x="132" y="1401"/>
                </a:lnTo>
                <a:lnTo>
                  <a:pt x="128" y="1401"/>
                </a:lnTo>
                <a:lnTo>
                  <a:pt x="123" y="1401"/>
                </a:lnTo>
                <a:lnTo>
                  <a:pt x="119" y="1399"/>
                </a:lnTo>
                <a:lnTo>
                  <a:pt x="113" y="1398"/>
                </a:lnTo>
                <a:lnTo>
                  <a:pt x="107" y="1396"/>
                </a:lnTo>
                <a:lnTo>
                  <a:pt x="103" y="1392"/>
                </a:lnTo>
                <a:lnTo>
                  <a:pt x="98" y="1386"/>
                </a:lnTo>
                <a:lnTo>
                  <a:pt x="94" y="1380"/>
                </a:lnTo>
                <a:lnTo>
                  <a:pt x="88" y="1373"/>
                </a:lnTo>
                <a:lnTo>
                  <a:pt x="84" y="1365"/>
                </a:lnTo>
                <a:lnTo>
                  <a:pt x="78" y="1355"/>
                </a:lnTo>
                <a:lnTo>
                  <a:pt x="75" y="1346"/>
                </a:lnTo>
                <a:lnTo>
                  <a:pt x="69" y="1338"/>
                </a:lnTo>
                <a:lnTo>
                  <a:pt x="65" y="1327"/>
                </a:lnTo>
                <a:lnTo>
                  <a:pt x="61" y="1315"/>
                </a:lnTo>
                <a:lnTo>
                  <a:pt x="57" y="1302"/>
                </a:lnTo>
                <a:lnTo>
                  <a:pt x="53" y="1288"/>
                </a:lnTo>
                <a:lnTo>
                  <a:pt x="52" y="1271"/>
                </a:lnTo>
                <a:lnTo>
                  <a:pt x="48" y="1254"/>
                </a:lnTo>
                <a:lnTo>
                  <a:pt x="46" y="1236"/>
                </a:lnTo>
                <a:lnTo>
                  <a:pt x="46" y="1215"/>
                </a:lnTo>
                <a:lnTo>
                  <a:pt x="44" y="1194"/>
                </a:lnTo>
                <a:lnTo>
                  <a:pt x="44" y="1171"/>
                </a:lnTo>
                <a:lnTo>
                  <a:pt x="44" y="1148"/>
                </a:lnTo>
                <a:lnTo>
                  <a:pt x="44" y="1123"/>
                </a:lnTo>
                <a:lnTo>
                  <a:pt x="44" y="1096"/>
                </a:lnTo>
                <a:lnTo>
                  <a:pt x="46" y="1069"/>
                </a:lnTo>
                <a:lnTo>
                  <a:pt x="48" y="1042"/>
                </a:lnTo>
                <a:lnTo>
                  <a:pt x="48" y="1014"/>
                </a:lnTo>
                <a:lnTo>
                  <a:pt x="48" y="983"/>
                </a:lnTo>
                <a:lnTo>
                  <a:pt x="48" y="954"/>
                </a:lnTo>
                <a:lnTo>
                  <a:pt x="48" y="923"/>
                </a:lnTo>
                <a:lnTo>
                  <a:pt x="48" y="891"/>
                </a:lnTo>
                <a:lnTo>
                  <a:pt x="48" y="860"/>
                </a:lnTo>
                <a:lnTo>
                  <a:pt x="48" y="827"/>
                </a:lnTo>
                <a:lnTo>
                  <a:pt x="48" y="795"/>
                </a:lnTo>
                <a:lnTo>
                  <a:pt x="48" y="762"/>
                </a:lnTo>
                <a:lnTo>
                  <a:pt x="48" y="728"/>
                </a:lnTo>
                <a:lnTo>
                  <a:pt x="48" y="659"/>
                </a:lnTo>
                <a:lnTo>
                  <a:pt x="48" y="588"/>
                </a:lnTo>
                <a:lnTo>
                  <a:pt x="48" y="517"/>
                </a:lnTo>
                <a:lnTo>
                  <a:pt x="48" y="482"/>
                </a:lnTo>
                <a:lnTo>
                  <a:pt x="48" y="447"/>
                </a:lnTo>
                <a:lnTo>
                  <a:pt x="46" y="415"/>
                </a:lnTo>
                <a:lnTo>
                  <a:pt x="46" y="384"/>
                </a:lnTo>
                <a:lnTo>
                  <a:pt x="44" y="355"/>
                </a:lnTo>
                <a:lnTo>
                  <a:pt x="42" y="327"/>
                </a:lnTo>
                <a:lnTo>
                  <a:pt x="40" y="302"/>
                </a:lnTo>
                <a:lnTo>
                  <a:pt x="38" y="277"/>
                </a:lnTo>
                <a:lnTo>
                  <a:pt x="36" y="254"/>
                </a:lnTo>
                <a:lnTo>
                  <a:pt x="32" y="232"/>
                </a:lnTo>
                <a:lnTo>
                  <a:pt x="29" y="211"/>
                </a:lnTo>
                <a:lnTo>
                  <a:pt x="27" y="192"/>
                </a:lnTo>
                <a:lnTo>
                  <a:pt x="23" y="175"/>
                </a:lnTo>
                <a:lnTo>
                  <a:pt x="17" y="158"/>
                </a:lnTo>
                <a:lnTo>
                  <a:pt x="13" y="144"/>
                </a:lnTo>
                <a:lnTo>
                  <a:pt x="9" y="1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0"/>
          <p:cNvSpPr/>
          <p:nvPr/>
        </p:nvSpPr>
        <p:spPr>
          <a:xfrm>
            <a:off x="7021440" y="2496960"/>
            <a:ext cx="436680" cy="858960"/>
          </a:xfrm>
          <a:custGeom>
            <a:avLst/>
            <a:gdLst/>
            <a:ahLst/>
            <a:rect l="l" t="t" r="r" b="b"/>
            <a:pathLst>
              <a:path w="549" h="1083">
                <a:moveTo>
                  <a:pt x="79" y="1083"/>
                </a:moveTo>
                <a:lnTo>
                  <a:pt x="41" y="1083"/>
                </a:lnTo>
                <a:lnTo>
                  <a:pt x="0" y="1083"/>
                </a:lnTo>
                <a:lnTo>
                  <a:pt x="16" y="1050"/>
                </a:lnTo>
                <a:lnTo>
                  <a:pt x="29" y="1018"/>
                </a:lnTo>
                <a:lnTo>
                  <a:pt x="42" y="987"/>
                </a:lnTo>
                <a:lnTo>
                  <a:pt x="56" y="956"/>
                </a:lnTo>
                <a:lnTo>
                  <a:pt x="69" y="928"/>
                </a:lnTo>
                <a:lnTo>
                  <a:pt x="81" y="897"/>
                </a:lnTo>
                <a:lnTo>
                  <a:pt x="94" y="868"/>
                </a:lnTo>
                <a:lnTo>
                  <a:pt x="106" y="841"/>
                </a:lnTo>
                <a:lnTo>
                  <a:pt x="117" y="812"/>
                </a:lnTo>
                <a:lnTo>
                  <a:pt x="129" y="786"/>
                </a:lnTo>
                <a:lnTo>
                  <a:pt x="138" y="761"/>
                </a:lnTo>
                <a:lnTo>
                  <a:pt x="150" y="734"/>
                </a:lnTo>
                <a:lnTo>
                  <a:pt x="160" y="709"/>
                </a:lnTo>
                <a:lnTo>
                  <a:pt x="169" y="684"/>
                </a:lnTo>
                <a:lnTo>
                  <a:pt x="179" y="659"/>
                </a:lnTo>
                <a:lnTo>
                  <a:pt x="188" y="636"/>
                </a:lnTo>
                <a:lnTo>
                  <a:pt x="196" y="613"/>
                </a:lnTo>
                <a:lnTo>
                  <a:pt x="206" y="590"/>
                </a:lnTo>
                <a:lnTo>
                  <a:pt x="213" y="569"/>
                </a:lnTo>
                <a:lnTo>
                  <a:pt x="221" y="548"/>
                </a:lnTo>
                <a:lnTo>
                  <a:pt x="229" y="526"/>
                </a:lnTo>
                <a:lnTo>
                  <a:pt x="236" y="507"/>
                </a:lnTo>
                <a:lnTo>
                  <a:pt x="242" y="486"/>
                </a:lnTo>
                <a:lnTo>
                  <a:pt x="248" y="469"/>
                </a:lnTo>
                <a:lnTo>
                  <a:pt x="256" y="450"/>
                </a:lnTo>
                <a:lnTo>
                  <a:pt x="261" y="432"/>
                </a:lnTo>
                <a:lnTo>
                  <a:pt x="265" y="415"/>
                </a:lnTo>
                <a:lnTo>
                  <a:pt x="271" y="398"/>
                </a:lnTo>
                <a:lnTo>
                  <a:pt x="277" y="381"/>
                </a:lnTo>
                <a:lnTo>
                  <a:pt x="280" y="365"/>
                </a:lnTo>
                <a:lnTo>
                  <a:pt x="284" y="350"/>
                </a:lnTo>
                <a:lnTo>
                  <a:pt x="288" y="336"/>
                </a:lnTo>
                <a:lnTo>
                  <a:pt x="292" y="308"/>
                </a:lnTo>
                <a:lnTo>
                  <a:pt x="296" y="283"/>
                </a:lnTo>
                <a:lnTo>
                  <a:pt x="300" y="258"/>
                </a:lnTo>
                <a:lnTo>
                  <a:pt x="303" y="235"/>
                </a:lnTo>
                <a:lnTo>
                  <a:pt x="305" y="214"/>
                </a:lnTo>
                <a:lnTo>
                  <a:pt x="307" y="192"/>
                </a:lnTo>
                <a:lnTo>
                  <a:pt x="307" y="175"/>
                </a:lnTo>
                <a:lnTo>
                  <a:pt x="307" y="158"/>
                </a:lnTo>
                <a:lnTo>
                  <a:pt x="307" y="143"/>
                </a:lnTo>
                <a:lnTo>
                  <a:pt x="307" y="129"/>
                </a:lnTo>
                <a:lnTo>
                  <a:pt x="305" y="116"/>
                </a:lnTo>
                <a:lnTo>
                  <a:pt x="303" y="104"/>
                </a:lnTo>
                <a:lnTo>
                  <a:pt x="300" y="95"/>
                </a:lnTo>
                <a:lnTo>
                  <a:pt x="296" y="87"/>
                </a:lnTo>
                <a:lnTo>
                  <a:pt x="292" y="79"/>
                </a:lnTo>
                <a:lnTo>
                  <a:pt x="288" y="73"/>
                </a:lnTo>
                <a:lnTo>
                  <a:pt x="284" y="68"/>
                </a:lnTo>
                <a:lnTo>
                  <a:pt x="280" y="62"/>
                </a:lnTo>
                <a:lnTo>
                  <a:pt x="277" y="58"/>
                </a:lnTo>
                <a:lnTo>
                  <a:pt x="275" y="52"/>
                </a:lnTo>
                <a:lnTo>
                  <a:pt x="273" y="48"/>
                </a:lnTo>
                <a:lnTo>
                  <a:pt x="271" y="43"/>
                </a:lnTo>
                <a:lnTo>
                  <a:pt x="271" y="39"/>
                </a:lnTo>
                <a:lnTo>
                  <a:pt x="271" y="33"/>
                </a:lnTo>
                <a:lnTo>
                  <a:pt x="271" y="29"/>
                </a:lnTo>
                <a:lnTo>
                  <a:pt x="273" y="25"/>
                </a:lnTo>
                <a:lnTo>
                  <a:pt x="277" y="22"/>
                </a:lnTo>
                <a:lnTo>
                  <a:pt x="279" y="18"/>
                </a:lnTo>
                <a:lnTo>
                  <a:pt x="282" y="14"/>
                </a:lnTo>
                <a:lnTo>
                  <a:pt x="288" y="10"/>
                </a:lnTo>
                <a:lnTo>
                  <a:pt x="294" y="6"/>
                </a:lnTo>
                <a:lnTo>
                  <a:pt x="302" y="4"/>
                </a:lnTo>
                <a:lnTo>
                  <a:pt x="307" y="2"/>
                </a:lnTo>
                <a:lnTo>
                  <a:pt x="313" y="0"/>
                </a:lnTo>
                <a:lnTo>
                  <a:pt x="319" y="0"/>
                </a:lnTo>
                <a:lnTo>
                  <a:pt x="327" y="0"/>
                </a:lnTo>
                <a:lnTo>
                  <a:pt x="332" y="2"/>
                </a:lnTo>
                <a:lnTo>
                  <a:pt x="342" y="4"/>
                </a:lnTo>
                <a:lnTo>
                  <a:pt x="350" y="6"/>
                </a:lnTo>
                <a:lnTo>
                  <a:pt x="359" y="10"/>
                </a:lnTo>
                <a:lnTo>
                  <a:pt x="369" y="14"/>
                </a:lnTo>
                <a:lnTo>
                  <a:pt x="378" y="20"/>
                </a:lnTo>
                <a:lnTo>
                  <a:pt x="388" y="25"/>
                </a:lnTo>
                <a:lnTo>
                  <a:pt x="399" y="31"/>
                </a:lnTo>
                <a:lnTo>
                  <a:pt x="409" y="37"/>
                </a:lnTo>
                <a:lnTo>
                  <a:pt x="421" y="45"/>
                </a:lnTo>
                <a:lnTo>
                  <a:pt x="446" y="60"/>
                </a:lnTo>
                <a:lnTo>
                  <a:pt x="457" y="68"/>
                </a:lnTo>
                <a:lnTo>
                  <a:pt x="469" y="75"/>
                </a:lnTo>
                <a:lnTo>
                  <a:pt x="478" y="83"/>
                </a:lnTo>
                <a:lnTo>
                  <a:pt x="490" y="91"/>
                </a:lnTo>
                <a:lnTo>
                  <a:pt x="497" y="98"/>
                </a:lnTo>
                <a:lnTo>
                  <a:pt x="507" y="106"/>
                </a:lnTo>
                <a:lnTo>
                  <a:pt x="515" y="114"/>
                </a:lnTo>
                <a:lnTo>
                  <a:pt x="522" y="121"/>
                </a:lnTo>
                <a:lnTo>
                  <a:pt x="528" y="129"/>
                </a:lnTo>
                <a:lnTo>
                  <a:pt x="534" y="137"/>
                </a:lnTo>
                <a:lnTo>
                  <a:pt x="538" y="144"/>
                </a:lnTo>
                <a:lnTo>
                  <a:pt x="543" y="152"/>
                </a:lnTo>
                <a:lnTo>
                  <a:pt x="545" y="160"/>
                </a:lnTo>
                <a:lnTo>
                  <a:pt x="547" y="167"/>
                </a:lnTo>
                <a:lnTo>
                  <a:pt x="549" y="175"/>
                </a:lnTo>
                <a:lnTo>
                  <a:pt x="549" y="185"/>
                </a:lnTo>
                <a:lnTo>
                  <a:pt x="549" y="192"/>
                </a:lnTo>
                <a:lnTo>
                  <a:pt x="549" y="202"/>
                </a:lnTo>
                <a:lnTo>
                  <a:pt x="547" y="212"/>
                </a:lnTo>
                <a:lnTo>
                  <a:pt x="545" y="223"/>
                </a:lnTo>
                <a:lnTo>
                  <a:pt x="542" y="235"/>
                </a:lnTo>
                <a:lnTo>
                  <a:pt x="538" y="248"/>
                </a:lnTo>
                <a:lnTo>
                  <a:pt x="534" y="263"/>
                </a:lnTo>
                <a:lnTo>
                  <a:pt x="528" y="279"/>
                </a:lnTo>
                <a:lnTo>
                  <a:pt x="522" y="296"/>
                </a:lnTo>
                <a:lnTo>
                  <a:pt x="515" y="313"/>
                </a:lnTo>
                <a:lnTo>
                  <a:pt x="507" y="333"/>
                </a:lnTo>
                <a:lnTo>
                  <a:pt x="499" y="352"/>
                </a:lnTo>
                <a:lnTo>
                  <a:pt x="490" y="375"/>
                </a:lnTo>
                <a:lnTo>
                  <a:pt x="480" y="398"/>
                </a:lnTo>
                <a:lnTo>
                  <a:pt x="470" y="421"/>
                </a:lnTo>
                <a:lnTo>
                  <a:pt x="459" y="446"/>
                </a:lnTo>
                <a:lnTo>
                  <a:pt x="446" y="473"/>
                </a:lnTo>
                <a:lnTo>
                  <a:pt x="430" y="501"/>
                </a:lnTo>
                <a:lnTo>
                  <a:pt x="415" y="532"/>
                </a:lnTo>
                <a:lnTo>
                  <a:pt x="398" y="563"/>
                </a:lnTo>
                <a:lnTo>
                  <a:pt x="378" y="596"/>
                </a:lnTo>
                <a:lnTo>
                  <a:pt x="357" y="632"/>
                </a:lnTo>
                <a:lnTo>
                  <a:pt x="336" y="668"/>
                </a:lnTo>
                <a:lnTo>
                  <a:pt x="311" y="707"/>
                </a:lnTo>
                <a:lnTo>
                  <a:pt x="288" y="747"/>
                </a:lnTo>
                <a:lnTo>
                  <a:pt x="261" y="789"/>
                </a:lnTo>
                <a:lnTo>
                  <a:pt x="234" y="834"/>
                </a:lnTo>
                <a:lnTo>
                  <a:pt x="206" y="880"/>
                </a:lnTo>
                <a:lnTo>
                  <a:pt x="190" y="903"/>
                </a:lnTo>
                <a:lnTo>
                  <a:pt x="175" y="928"/>
                </a:lnTo>
                <a:lnTo>
                  <a:pt x="160" y="953"/>
                </a:lnTo>
                <a:lnTo>
                  <a:pt x="144" y="977"/>
                </a:lnTo>
                <a:lnTo>
                  <a:pt x="129" y="1002"/>
                </a:lnTo>
                <a:lnTo>
                  <a:pt x="112" y="1029"/>
                </a:lnTo>
                <a:lnTo>
                  <a:pt x="96" y="1054"/>
                </a:lnTo>
                <a:lnTo>
                  <a:pt x="79" y="10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11"/>
          <p:cNvSpPr/>
          <p:nvPr/>
        </p:nvSpPr>
        <p:spPr>
          <a:xfrm>
            <a:off x="6242040" y="2382840"/>
            <a:ext cx="447840" cy="2279520"/>
          </a:xfrm>
          <a:custGeom>
            <a:avLst/>
            <a:gdLst/>
            <a:ahLst/>
            <a:rect l="l" t="t" r="r" b="b"/>
            <a:pathLst>
              <a:path w="565" h="2871">
                <a:moveTo>
                  <a:pt x="475" y="2677"/>
                </a:moveTo>
                <a:lnTo>
                  <a:pt x="465" y="2696"/>
                </a:lnTo>
                <a:lnTo>
                  <a:pt x="453" y="2716"/>
                </a:lnTo>
                <a:lnTo>
                  <a:pt x="444" y="2735"/>
                </a:lnTo>
                <a:lnTo>
                  <a:pt x="434" y="2750"/>
                </a:lnTo>
                <a:lnTo>
                  <a:pt x="425" y="2767"/>
                </a:lnTo>
                <a:lnTo>
                  <a:pt x="415" y="2783"/>
                </a:lnTo>
                <a:lnTo>
                  <a:pt x="396" y="2815"/>
                </a:lnTo>
                <a:lnTo>
                  <a:pt x="388" y="2823"/>
                </a:lnTo>
                <a:lnTo>
                  <a:pt x="381" y="2829"/>
                </a:lnTo>
                <a:lnTo>
                  <a:pt x="375" y="2836"/>
                </a:lnTo>
                <a:lnTo>
                  <a:pt x="369" y="2840"/>
                </a:lnTo>
                <a:lnTo>
                  <a:pt x="363" y="2846"/>
                </a:lnTo>
                <a:lnTo>
                  <a:pt x="357" y="2850"/>
                </a:lnTo>
                <a:lnTo>
                  <a:pt x="352" y="2854"/>
                </a:lnTo>
                <a:lnTo>
                  <a:pt x="346" y="2858"/>
                </a:lnTo>
                <a:lnTo>
                  <a:pt x="342" y="2861"/>
                </a:lnTo>
                <a:lnTo>
                  <a:pt x="336" y="2863"/>
                </a:lnTo>
                <a:lnTo>
                  <a:pt x="329" y="2867"/>
                </a:lnTo>
                <a:lnTo>
                  <a:pt x="323" y="2869"/>
                </a:lnTo>
                <a:lnTo>
                  <a:pt x="317" y="2871"/>
                </a:lnTo>
                <a:lnTo>
                  <a:pt x="308" y="2863"/>
                </a:lnTo>
                <a:lnTo>
                  <a:pt x="300" y="2858"/>
                </a:lnTo>
                <a:lnTo>
                  <a:pt x="292" y="2848"/>
                </a:lnTo>
                <a:lnTo>
                  <a:pt x="288" y="2842"/>
                </a:lnTo>
                <a:lnTo>
                  <a:pt x="286" y="2836"/>
                </a:lnTo>
                <a:lnTo>
                  <a:pt x="283" y="2831"/>
                </a:lnTo>
                <a:lnTo>
                  <a:pt x="281" y="2825"/>
                </a:lnTo>
                <a:lnTo>
                  <a:pt x="277" y="2817"/>
                </a:lnTo>
                <a:lnTo>
                  <a:pt x="275" y="2810"/>
                </a:lnTo>
                <a:lnTo>
                  <a:pt x="271" y="2802"/>
                </a:lnTo>
                <a:lnTo>
                  <a:pt x="269" y="2792"/>
                </a:lnTo>
                <a:lnTo>
                  <a:pt x="267" y="2783"/>
                </a:lnTo>
                <a:lnTo>
                  <a:pt x="265" y="2773"/>
                </a:lnTo>
                <a:lnTo>
                  <a:pt x="262" y="2762"/>
                </a:lnTo>
                <a:lnTo>
                  <a:pt x="258" y="2748"/>
                </a:lnTo>
                <a:lnTo>
                  <a:pt x="254" y="2735"/>
                </a:lnTo>
                <a:lnTo>
                  <a:pt x="248" y="2721"/>
                </a:lnTo>
                <a:lnTo>
                  <a:pt x="240" y="2708"/>
                </a:lnTo>
                <a:lnTo>
                  <a:pt x="233" y="2696"/>
                </a:lnTo>
                <a:lnTo>
                  <a:pt x="225" y="2683"/>
                </a:lnTo>
                <a:lnTo>
                  <a:pt x="215" y="2670"/>
                </a:lnTo>
                <a:lnTo>
                  <a:pt x="206" y="2654"/>
                </a:lnTo>
                <a:lnTo>
                  <a:pt x="194" y="2641"/>
                </a:lnTo>
                <a:lnTo>
                  <a:pt x="181" y="2627"/>
                </a:lnTo>
                <a:lnTo>
                  <a:pt x="169" y="2612"/>
                </a:lnTo>
                <a:lnTo>
                  <a:pt x="154" y="2598"/>
                </a:lnTo>
                <a:lnTo>
                  <a:pt x="141" y="2583"/>
                </a:lnTo>
                <a:lnTo>
                  <a:pt x="123" y="2568"/>
                </a:lnTo>
                <a:lnTo>
                  <a:pt x="108" y="2552"/>
                </a:lnTo>
                <a:lnTo>
                  <a:pt x="91" y="2537"/>
                </a:lnTo>
                <a:lnTo>
                  <a:pt x="77" y="2524"/>
                </a:lnTo>
                <a:lnTo>
                  <a:pt x="64" y="2510"/>
                </a:lnTo>
                <a:lnTo>
                  <a:pt x="50" y="2497"/>
                </a:lnTo>
                <a:lnTo>
                  <a:pt x="41" y="2485"/>
                </a:lnTo>
                <a:lnTo>
                  <a:pt x="31" y="2476"/>
                </a:lnTo>
                <a:lnTo>
                  <a:pt x="24" y="2466"/>
                </a:lnTo>
                <a:lnTo>
                  <a:pt x="16" y="2456"/>
                </a:lnTo>
                <a:lnTo>
                  <a:pt x="12" y="2449"/>
                </a:lnTo>
                <a:lnTo>
                  <a:pt x="6" y="2441"/>
                </a:lnTo>
                <a:lnTo>
                  <a:pt x="4" y="2435"/>
                </a:lnTo>
                <a:lnTo>
                  <a:pt x="2" y="2430"/>
                </a:lnTo>
                <a:lnTo>
                  <a:pt x="0" y="2426"/>
                </a:lnTo>
                <a:lnTo>
                  <a:pt x="0" y="2420"/>
                </a:lnTo>
                <a:lnTo>
                  <a:pt x="0" y="2418"/>
                </a:lnTo>
                <a:lnTo>
                  <a:pt x="4" y="2414"/>
                </a:lnTo>
                <a:lnTo>
                  <a:pt x="6" y="2412"/>
                </a:lnTo>
                <a:lnTo>
                  <a:pt x="10" y="2410"/>
                </a:lnTo>
                <a:lnTo>
                  <a:pt x="14" y="2408"/>
                </a:lnTo>
                <a:lnTo>
                  <a:pt x="20" y="2408"/>
                </a:lnTo>
                <a:lnTo>
                  <a:pt x="27" y="2408"/>
                </a:lnTo>
                <a:lnTo>
                  <a:pt x="35" y="2410"/>
                </a:lnTo>
                <a:lnTo>
                  <a:pt x="43" y="2410"/>
                </a:lnTo>
                <a:lnTo>
                  <a:pt x="52" y="2412"/>
                </a:lnTo>
                <a:lnTo>
                  <a:pt x="62" y="2414"/>
                </a:lnTo>
                <a:lnTo>
                  <a:pt x="73" y="2416"/>
                </a:lnTo>
                <a:lnTo>
                  <a:pt x="85" y="2420"/>
                </a:lnTo>
                <a:lnTo>
                  <a:pt x="98" y="2424"/>
                </a:lnTo>
                <a:lnTo>
                  <a:pt x="112" y="2428"/>
                </a:lnTo>
                <a:lnTo>
                  <a:pt x="127" y="2431"/>
                </a:lnTo>
                <a:lnTo>
                  <a:pt x="143" y="2437"/>
                </a:lnTo>
                <a:lnTo>
                  <a:pt x="160" y="2441"/>
                </a:lnTo>
                <a:lnTo>
                  <a:pt x="177" y="2449"/>
                </a:lnTo>
                <a:lnTo>
                  <a:pt x="192" y="2455"/>
                </a:lnTo>
                <a:lnTo>
                  <a:pt x="208" y="2460"/>
                </a:lnTo>
                <a:lnTo>
                  <a:pt x="221" y="2466"/>
                </a:lnTo>
                <a:lnTo>
                  <a:pt x="235" y="2468"/>
                </a:lnTo>
                <a:lnTo>
                  <a:pt x="246" y="2472"/>
                </a:lnTo>
                <a:lnTo>
                  <a:pt x="258" y="2472"/>
                </a:lnTo>
                <a:lnTo>
                  <a:pt x="269" y="2474"/>
                </a:lnTo>
                <a:lnTo>
                  <a:pt x="279" y="2472"/>
                </a:lnTo>
                <a:lnTo>
                  <a:pt x="288" y="2472"/>
                </a:lnTo>
                <a:lnTo>
                  <a:pt x="298" y="2468"/>
                </a:lnTo>
                <a:lnTo>
                  <a:pt x="306" y="2466"/>
                </a:lnTo>
                <a:lnTo>
                  <a:pt x="313" y="2460"/>
                </a:lnTo>
                <a:lnTo>
                  <a:pt x="319" y="2455"/>
                </a:lnTo>
                <a:lnTo>
                  <a:pt x="325" y="2449"/>
                </a:lnTo>
                <a:lnTo>
                  <a:pt x="331" y="2441"/>
                </a:lnTo>
                <a:lnTo>
                  <a:pt x="331" y="2437"/>
                </a:lnTo>
                <a:lnTo>
                  <a:pt x="333" y="2431"/>
                </a:lnTo>
                <a:lnTo>
                  <a:pt x="334" y="2428"/>
                </a:lnTo>
                <a:lnTo>
                  <a:pt x="334" y="2420"/>
                </a:lnTo>
                <a:lnTo>
                  <a:pt x="336" y="2412"/>
                </a:lnTo>
                <a:lnTo>
                  <a:pt x="336" y="2405"/>
                </a:lnTo>
                <a:lnTo>
                  <a:pt x="338" y="2397"/>
                </a:lnTo>
                <a:lnTo>
                  <a:pt x="340" y="2387"/>
                </a:lnTo>
                <a:lnTo>
                  <a:pt x="340" y="2378"/>
                </a:lnTo>
                <a:lnTo>
                  <a:pt x="342" y="2366"/>
                </a:lnTo>
                <a:lnTo>
                  <a:pt x="344" y="2355"/>
                </a:lnTo>
                <a:lnTo>
                  <a:pt x="344" y="2341"/>
                </a:lnTo>
                <a:lnTo>
                  <a:pt x="346" y="2328"/>
                </a:lnTo>
                <a:lnTo>
                  <a:pt x="348" y="2314"/>
                </a:lnTo>
                <a:lnTo>
                  <a:pt x="348" y="2299"/>
                </a:lnTo>
                <a:lnTo>
                  <a:pt x="350" y="2284"/>
                </a:lnTo>
                <a:lnTo>
                  <a:pt x="352" y="2268"/>
                </a:lnTo>
                <a:lnTo>
                  <a:pt x="352" y="2251"/>
                </a:lnTo>
                <a:lnTo>
                  <a:pt x="354" y="2234"/>
                </a:lnTo>
                <a:lnTo>
                  <a:pt x="354" y="2215"/>
                </a:lnTo>
                <a:lnTo>
                  <a:pt x="356" y="2195"/>
                </a:lnTo>
                <a:lnTo>
                  <a:pt x="357" y="2174"/>
                </a:lnTo>
                <a:lnTo>
                  <a:pt x="357" y="2155"/>
                </a:lnTo>
                <a:lnTo>
                  <a:pt x="359" y="2132"/>
                </a:lnTo>
                <a:lnTo>
                  <a:pt x="361" y="2111"/>
                </a:lnTo>
                <a:lnTo>
                  <a:pt x="361" y="2086"/>
                </a:lnTo>
                <a:lnTo>
                  <a:pt x="363" y="2063"/>
                </a:lnTo>
                <a:lnTo>
                  <a:pt x="365" y="2038"/>
                </a:lnTo>
                <a:lnTo>
                  <a:pt x="365" y="2011"/>
                </a:lnTo>
                <a:lnTo>
                  <a:pt x="367" y="1986"/>
                </a:lnTo>
                <a:lnTo>
                  <a:pt x="367" y="1957"/>
                </a:lnTo>
                <a:lnTo>
                  <a:pt x="369" y="1931"/>
                </a:lnTo>
                <a:lnTo>
                  <a:pt x="373" y="1815"/>
                </a:lnTo>
                <a:lnTo>
                  <a:pt x="377" y="1702"/>
                </a:lnTo>
                <a:lnTo>
                  <a:pt x="379" y="1589"/>
                </a:lnTo>
                <a:lnTo>
                  <a:pt x="381" y="1476"/>
                </a:lnTo>
                <a:lnTo>
                  <a:pt x="382" y="1364"/>
                </a:lnTo>
                <a:lnTo>
                  <a:pt x="382" y="1251"/>
                </a:lnTo>
                <a:lnTo>
                  <a:pt x="382" y="1142"/>
                </a:lnTo>
                <a:lnTo>
                  <a:pt x="382" y="1032"/>
                </a:lnTo>
                <a:lnTo>
                  <a:pt x="381" y="978"/>
                </a:lnTo>
                <a:lnTo>
                  <a:pt x="379" y="925"/>
                </a:lnTo>
                <a:lnTo>
                  <a:pt x="377" y="875"/>
                </a:lnTo>
                <a:lnTo>
                  <a:pt x="375" y="825"/>
                </a:lnTo>
                <a:lnTo>
                  <a:pt x="373" y="777"/>
                </a:lnTo>
                <a:lnTo>
                  <a:pt x="371" y="729"/>
                </a:lnTo>
                <a:lnTo>
                  <a:pt x="371" y="683"/>
                </a:lnTo>
                <a:lnTo>
                  <a:pt x="369" y="639"/>
                </a:lnTo>
                <a:lnTo>
                  <a:pt x="367" y="596"/>
                </a:lnTo>
                <a:lnTo>
                  <a:pt x="367" y="556"/>
                </a:lnTo>
                <a:lnTo>
                  <a:pt x="365" y="516"/>
                </a:lnTo>
                <a:lnTo>
                  <a:pt x="363" y="477"/>
                </a:lnTo>
                <a:lnTo>
                  <a:pt x="361" y="441"/>
                </a:lnTo>
                <a:lnTo>
                  <a:pt x="361" y="406"/>
                </a:lnTo>
                <a:lnTo>
                  <a:pt x="357" y="372"/>
                </a:lnTo>
                <a:lnTo>
                  <a:pt x="356" y="341"/>
                </a:lnTo>
                <a:lnTo>
                  <a:pt x="354" y="312"/>
                </a:lnTo>
                <a:lnTo>
                  <a:pt x="350" y="286"/>
                </a:lnTo>
                <a:lnTo>
                  <a:pt x="348" y="261"/>
                </a:lnTo>
                <a:lnTo>
                  <a:pt x="344" y="238"/>
                </a:lnTo>
                <a:lnTo>
                  <a:pt x="340" y="214"/>
                </a:lnTo>
                <a:lnTo>
                  <a:pt x="336" y="195"/>
                </a:lnTo>
                <a:lnTo>
                  <a:pt x="333" y="174"/>
                </a:lnTo>
                <a:lnTo>
                  <a:pt x="329" y="157"/>
                </a:lnTo>
                <a:lnTo>
                  <a:pt x="325" y="142"/>
                </a:lnTo>
                <a:lnTo>
                  <a:pt x="319" y="126"/>
                </a:lnTo>
                <a:lnTo>
                  <a:pt x="315" y="115"/>
                </a:lnTo>
                <a:lnTo>
                  <a:pt x="310" y="103"/>
                </a:lnTo>
                <a:lnTo>
                  <a:pt x="306" y="94"/>
                </a:lnTo>
                <a:lnTo>
                  <a:pt x="300" y="86"/>
                </a:lnTo>
                <a:lnTo>
                  <a:pt x="296" y="82"/>
                </a:lnTo>
                <a:lnTo>
                  <a:pt x="294" y="80"/>
                </a:lnTo>
                <a:lnTo>
                  <a:pt x="290" y="78"/>
                </a:lnTo>
                <a:lnTo>
                  <a:pt x="285" y="74"/>
                </a:lnTo>
                <a:lnTo>
                  <a:pt x="279" y="72"/>
                </a:lnTo>
                <a:lnTo>
                  <a:pt x="273" y="71"/>
                </a:lnTo>
                <a:lnTo>
                  <a:pt x="269" y="67"/>
                </a:lnTo>
                <a:lnTo>
                  <a:pt x="265" y="65"/>
                </a:lnTo>
                <a:lnTo>
                  <a:pt x="262" y="61"/>
                </a:lnTo>
                <a:lnTo>
                  <a:pt x="260" y="59"/>
                </a:lnTo>
                <a:lnTo>
                  <a:pt x="258" y="55"/>
                </a:lnTo>
                <a:lnTo>
                  <a:pt x="258" y="51"/>
                </a:lnTo>
                <a:lnTo>
                  <a:pt x="258" y="49"/>
                </a:lnTo>
                <a:lnTo>
                  <a:pt x="258" y="46"/>
                </a:lnTo>
                <a:lnTo>
                  <a:pt x="258" y="42"/>
                </a:lnTo>
                <a:lnTo>
                  <a:pt x="260" y="32"/>
                </a:lnTo>
                <a:lnTo>
                  <a:pt x="265" y="23"/>
                </a:lnTo>
                <a:lnTo>
                  <a:pt x="267" y="17"/>
                </a:lnTo>
                <a:lnTo>
                  <a:pt x="269" y="13"/>
                </a:lnTo>
                <a:lnTo>
                  <a:pt x="273" y="9"/>
                </a:lnTo>
                <a:lnTo>
                  <a:pt x="277" y="7"/>
                </a:lnTo>
                <a:lnTo>
                  <a:pt x="281" y="3"/>
                </a:lnTo>
                <a:lnTo>
                  <a:pt x="286" y="1"/>
                </a:lnTo>
                <a:lnTo>
                  <a:pt x="292" y="1"/>
                </a:lnTo>
                <a:lnTo>
                  <a:pt x="298" y="0"/>
                </a:lnTo>
                <a:lnTo>
                  <a:pt x="304" y="0"/>
                </a:lnTo>
                <a:lnTo>
                  <a:pt x="311" y="0"/>
                </a:lnTo>
                <a:lnTo>
                  <a:pt x="319" y="0"/>
                </a:lnTo>
                <a:lnTo>
                  <a:pt x="327" y="1"/>
                </a:lnTo>
                <a:lnTo>
                  <a:pt x="336" y="3"/>
                </a:lnTo>
                <a:lnTo>
                  <a:pt x="346" y="3"/>
                </a:lnTo>
                <a:lnTo>
                  <a:pt x="357" y="5"/>
                </a:lnTo>
                <a:lnTo>
                  <a:pt x="369" y="9"/>
                </a:lnTo>
                <a:lnTo>
                  <a:pt x="381" y="11"/>
                </a:lnTo>
                <a:lnTo>
                  <a:pt x="392" y="15"/>
                </a:lnTo>
                <a:lnTo>
                  <a:pt x="404" y="19"/>
                </a:lnTo>
                <a:lnTo>
                  <a:pt x="413" y="21"/>
                </a:lnTo>
                <a:lnTo>
                  <a:pt x="432" y="28"/>
                </a:lnTo>
                <a:lnTo>
                  <a:pt x="452" y="36"/>
                </a:lnTo>
                <a:lnTo>
                  <a:pt x="467" y="44"/>
                </a:lnTo>
                <a:lnTo>
                  <a:pt x="482" y="51"/>
                </a:lnTo>
                <a:lnTo>
                  <a:pt x="498" y="59"/>
                </a:lnTo>
                <a:lnTo>
                  <a:pt x="513" y="65"/>
                </a:lnTo>
                <a:lnTo>
                  <a:pt x="521" y="69"/>
                </a:lnTo>
                <a:lnTo>
                  <a:pt x="526" y="74"/>
                </a:lnTo>
                <a:lnTo>
                  <a:pt x="532" y="80"/>
                </a:lnTo>
                <a:lnTo>
                  <a:pt x="538" y="84"/>
                </a:lnTo>
                <a:lnTo>
                  <a:pt x="542" y="90"/>
                </a:lnTo>
                <a:lnTo>
                  <a:pt x="548" y="95"/>
                </a:lnTo>
                <a:lnTo>
                  <a:pt x="551" y="101"/>
                </a:lnTo>
                <a:lnTo>
                  <a:pt x="553" y="105"/>
                </a:lnTo>
                <a:lnTo>
                  <a:pt x="559" y="117"/>
                </a:lnTo>
                <a:lnTo>
                  <a:pt x="563" y="126"/>
                </a:lnTo>
                <a:lnTo>
                  <a:pt x="565" y="136"/>
                </a:lnTo>
                <a:lnTo>
                  <a:pt x="565" y="147"/>
                </a:lnTo>
                <a:lnTo>
                  <a:pt x="565" y="163"/>
                </a:lnTo>
                <a:lnTo>
                  <a:pt x="563" y="178"/>
                </a:lnTo>
                <a:lnTo>
                  <a:pt x="561" y="193"/>
                </a:lnTo>
                <a:lnTo>
                  <a:pt x="557" y="209"/>
                </a:lnTo>
                <a:lnTo>
                  <a:pt x="553" y="224"/>
                </a:lnTo>
                <a:lnTo>
                  <a:pt x="549" y="239"/>
                </a:lnTo>
                <a:lnTo>
                  <a:pt x="540" y="272"/>
                </a:lnTo>
                <a:lnTo>
                  <a:pt x="538" y="274"/>
                </a:lnTo>
                <a:lnTo>
                  <a:pt x="536" y="276"/>
                </a:lnTo>
                <a:lnTo>
                  <a:pt x="536" y="280"/>
                </a:lnTo>
                <a:lnTo>
                  <a:pt x="534" y="284"/>
                </a:lnTo>
                <a:lnTo>
                  <a:pt x="534" y="287"/>
                </a:lnTo>
                <a:lnTo>
                  <a:pt x="532" y="293"/>
                </a:lnTo>
                <a:lnTo>
                  <a:pt x="530" y="299"/>
                </a:lnTo>
                <a:lnTo>
                  <a:pt x="530" y="305"/>
                </a:lnTo>
                <a:lnTo>
                  <a:pt x="528" y="310"/>
                </a:lnTo>
                <a:lnTo>
                  <a:pt x="528" y="318"/>
                </a:lnTo>
                <a:lnTo>
                  <a:pt x="526" y="324"/>
                </a:lnTo>
                <a:lnTo>
                  <a:pt x="526" y="334"/>
                </a:lnTo>
                <a:lnTo>
                  <a:pt x="524" y="341"/>
                </a:lnTo>
                <a:lnTo>
                  <a:pt x="524" y="351"/>
                </a:lnTo>
                <a:lnTo>
                  <a:pt x="523" y="360"/>
                </a:lnTo>
                <a:lnTo>
                  <a:pt x="523" y="370"/>
                </a:lnTo>
                <a:lnTo>
                  <a:pt x="521" y="380"/>
                </a:lnTo>
                <a:lnTo>
                  <a:pt x="521" y="391"/>
                </a:lnTo>
                <a:lnTo>
                  <a:pt x="521" y="403"/>
                </a:lnTo>
                <a:lnTo>
                  <a:pt x="519" y="416"/>
                </a:lnTo>
                <a:lnTo>
                  <a:pt x="519" y="428"/>
                </a:lnTo>
                <a:lnTo>
                  <a:pt x="517" y="441"/>
                </a:lnTo>
                <a:lnTo>
                  <a:pt x="517" y="454"/>
                </a:lnTo>
                <a:lnTo>
                  <a:pt x="517" y="470"/>
                </a:lnTo>
                <a:lnTo>
                  <a:pt x="515" y="483"/>
                </a:lnTo>
                <a:lnTo>
                  <a:pt x="515" y="499"/>
                </a:lnTo>
                <a:lnTo>
                  <a:pt x="515" y="514"/>
                </a:lnTo>
                <a:lnTo>
                  <a:pt x="513" y="531"/>
                </a:lnTo>
                <a:lnTo>
                  <a:pt x="513" y="548"/>
                </a:lnTo>
                <a:lnTo>
                  <a:pt x="513" y="566"/>
                </a:lnTo>
                <a:lnTo>
                  <a:pt x="511" y="583"/>
                </a:lnTo>
                <a:lnTo>
                  <a:pt x="511" y="602"/>
                </a:lnTo>
                <a:lnTo>
                  <a:pt x="511" y="620"/>
                </a:lnTo>
                <a:lnTo>
                  <a:pt x="511" y="641"/>
                </a:lnTo>
                <a:lnTo>
                  <a:pt x="511" y="660"/>
                </a:lnTo>
                <a:lnTo>
                  <a:pt x="509" y="681"/>
                </a:lnTo>
                <a:lnTo>
                  <a:pt x="509" y="700"/>
                </a:lnTo>
                <a:lnTo>
                  <a:pt x="509" y="723"/>
                </a:lnTo>
                <a:lnTo>
                  <a:pt x="509" y="744"/>
                </a:lnTo>
                <a:lnTo>
                  <a:pt x="509" y="767"/>
                </a:lnTo>
                <a:lnTo>
                  <a:pt x="509" y="790"/>
                </a:lnTo>
                <a:lnTo>
                  <a:pt x="509" y="813"/>
                </a:lnTo>
                <a:lnTo>
                  <a:pt x="509" y="838"/>
                </a:lnTo>
                <a:lnTo>
                  <a:pt x="507" y="861"/>
                </a:lnTo>
                <a:lnTo>
                  <a:pt x="507" y="886"/>
                </a:lnTo>
                <a:lnTo>
                  <a:pt x="507" y="913"/>
                </a:lnTo>
                <a:lnTo>
                  <a:pt x="507" y="938"/>
                </a:lnTo>
                <a:lnTo>
                  <a:pt x="507" y="965"/>
                </a:lnTo>
                <a:lnTo>
                  <a:pt x="507" y="992"/>
                </a:lnTo>
                <a:lnTo>
                  <a:pt x="507" y="1021"/>
                </a:lnTo>
                <a:lnTo>
                  <a:pt x="507" y="1048"/>
                </a:lnTo>
                <a:lnTo>
                  <a:pt x="509" y="1076"/>
                </a:lnTo>
                <a:lnTo>
                  <a:pt x="509" y="1105"/>
                </a:lnTo>
                <a:lnTo>
                  <a:pt x="509" y="1136"/>
                </a:lnTo>
                <a:lnTo>
                  <a:pt x="509" y="1167"/>
                </a:lnTo>
                <a:lnTo>
                  <a:pt x="509" y="1197"/>
                </a:lnTo>
                <a:lnTo>
                  <a:pt x="509" y="1228"/>
                </a:lnTo>
                <a:lnTo>
                  <a:pt x="509" y="1259"/>
                </a:lnTo>
                <a:lnTo>
                  <a:pt x="511" y="1291"/>
                </a:lnTo>
                <a:lnTo>
                  <a:pt x="511" y="1324"/>
                </a:lnTo>
                <a:lnTo>
                  <a:pt x="511" y="1357"/>
                </a:lnTo>
                <a:lnTo>
                  <a:pt x="511" y="1391"/>
                </a:lnTo>
                <a:lnTo>
                  <a:pt x="513" y="1426"/>
                </a:lnTo>
                <a:lnTo>
                  <a:pt x="513" y="1460"/>
                </a:lnTo>
                <a:lnTo>
                  <a:pt x="513" y="1495"/>
                </a:lnTo>
                <a:lnTo>
                  <a:pt x="513" y="1529"/>
                </a:lnTo>
                <a:lnTo>
                  <a:pt x="513" y="1564"/>
                </a:lnTo>
                <a:lnTo>
                  <a:pt x="513" y="1597"/>
                </a:lnTo>
                <a:lnTo>
                  <a:pt x="513" y="1629"/>
                </a:lnTo>
                <a:lnTo>
                  <a:pt x="513" y="1662"/>
                </a:lnTo>
                <a:lnTo>
                  <a:pt x="513" y="1692"/>
                </a:lnTo>
                <a:lnTo>
                  <a:pt x="513" y="1723"/>
                </a:lnTo>
                <a:lnTo>
                  <a:pt x="513" y="1754"/>
                </a:lnTo>
                <a:lnTo>
                  <a:pt x="513" y="1785"/>
                </a:lnTo>
                <a:lnTo>
                  <a:pt x="511" y="1815"/>
                </a:lnTo>
                <a:lnTo>
                  <a:pt x="511" y="1844"/>
                </a:lnTo>
                <a:lnTo>
                  <a:pt x="511" y="1873"/>
                </a:lnTo>
                <a:lnTo>
                  <a:pt x="511" y="1902"/>
                </a:lnTo>
                <a:lnTo>
                  <a:pt x="511" y="1929"/>
                </a:lnTo>
                <a:lnTo>
                  <a:pt x="511" y="1955"/>
                </a:lnTo>
                <a:lnTo>
                  <a:pt x="511" y="1982"/>
                </a:lnTo>
                <a:lnTo>
                  <a:pt x="509" y="2009"/>
                </a:lnTo>
                <a:lnTo>
                  <a:pt x="509" y="2034"/>
                </a:lnTo>
                <a:lnTo>
                  <a:pt x="509" y="2059"/>
                </a:lnTo>
                <a:lnTo>
                  <a:pt x="509" y="2084"/>
                </a:lnTo>
                <a:lnTo>
                  <a:pt x="509" y="2109"/>
                </a:lnTo>
                <a:lnTo>
                  <a:pt x="507" y="2132"/>
                </a:lnTo>
                <a:lnTo>
                  <a:pt x="507" y="2155"/>
                </a:lnTo>
                <a:lnTo>
                  <a:pt x="507" y="2178"/>
                </a:lnTo>
                <a:lnTo>
                  <a:pt x="507" y="2199"/>
                </a:lnTo>
                <a:lnTo>
                  <a:pt x="505" y="2222"/>
                </a:lnTo>
                <a:lnTo>
                  <a:pt x="505" y="2243"/>
                </a:lnTo>
                <a:lnTo>
                  <a:pt x="505" y="2263"/>
                </a:lnTo>
                <a:lnTo>
                  <a:pt x="503" y="2284"/>
                </a:lnTo>
                <a:lnTo>
                  <a:pt x="503" y="2303"/>
                </a:lnTo>
                <a:lnTo>
                  <a:pt x="503" y="2322"/>
                </a:lnTo>
                <a:lnTo>
                  <a:pt x="501" y="2341"/>
                </a:lnTo>
                <a:lnTo>
                  <a:pt x="501" y="2359"/>
                </a:lnTo>
                <a:lnTo>
                  <a:pt x="501" y="2378"/>
                </a:lnTo>
                <a:lnTo>
                  <a:pt x="500" y="2395"/>
                </a:lnTo>
                <a:lnTo>
                  <a:pt x="500" y="2410"/>
                </a:lnTo>
                <a:lnTo>
                  <a:pt x="500" y="2428"/>
                </a:lnTo>
                <a:lnTo>
                  <a:pt x="498" y="2443"/>
                </a:lnTo>
                <a:lnTo>
                  <a:pt x="498" y="2458"/>
                </a:lnTo>
                <a:lnTo>
                  <a:pt x="498" y="2474"/>
                </a:lnTo>
                <a:lnTo>
                  <a:pt x="496" y="2487"/>
                </a:lnTo>
                <a:lnTo>
                  <a:pt x="496" y="2501"/>
                </a:lnTo>
                <a:lnTo>
                  <a:pt x="494" y="2514"/>
                </a:lnTo>
                <a:lnTo>
                  <a:pt x="494" y="2527"/>
                </a:lnTo>
                <a:lnTo>
                  <a:pt x="492" y="2539"/>
                </a:lnTo>
                <a:lnTo>
                  <a:pt x="492" y="2550"/>
                </a:lnTo>
                <a:lnTo>
                  <a:pt x="490" y="2562"/>
                </a:lnTo>
                <a:lnTo>
                  <a:pt x="490" y="2574"/>
                </a:lnTo>
                <a:lnTo>
                  <a:pt x="488" y="2583"/>
                </a:lnTo>
                <a:lnTo>
                  <a:pt x="488" y="2593"/>
                </a:lnTo>
                <a:lnTo>
                  <a:pt x="486" y="2602"/>
                </a:lnTo>
                <a:lnTo>
                  <a:pt x="486" y="2612"/>
                </a:lnTo>
                <a:lnTo>
                  <a:pt x="484" y="2620"/>
                </a:lnTo>
                <a:lnTo>
                  <a:pt x="484" y="2627"/>
                </a:lnTo>
                <a:lnTo>
                  <a:pt x="482" y="2635"/>
                </a:lnTo>
                <a:lnTo>
                  <a:pt x="482" y="2643"/>
                </a:lnTo>
                <a:lnTo>
                  <a:pt x="480" y="2648"/>
                </a:lnTo>
                <a:lnTo>
                  <a:pt x="480" y="2654"/>
                </a:lnTo>
                <a:lnTo>
                  <a:pt x="478" y="2660"/>
                </a:lnTo>
                <a:lnTo>
                  <a:pt x="476" y="2664"/>
                </a:lnTo>
                <a:lnTo>
                  <a:pt x="476" y="2670"/>
                </a:lnTo>
                <a:lnTo>
                  <a:pt x="475" y="2673"/>
                </a:lnTo>
                <a:lnTo>
                  <a:pt x="473" y="2677"/>
                </a:lnTo>
                <a:lnTo>
                  <a:pt x="475" y="26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12"/>
          <p:cNvSpPr/>
          <p:nvPr/>
        </p:nvSpPr>
        <p:spPr>
          <a:xfrm>
            <a:off x="6205680" y="3112920"/>
            <a:ext cx="650880" cy="243000"/>
          </a:xfrm>
          <a:custGeom>
            <a:avLst/>
            <a:gdLst/>
            <a:ahLst/>
            <a:rect l="l" t="t" r="r" b="b"/>
            <a:pathLst>
              <a:path w="820" h="305">
                <a:moveTo>
                  <a:pt x="534" y="207"/>
                </a:moveTo>
                <a:lnTo>
                  <a:pt x="499" y="221"/>
                </a:lnTo>
                <a:lnTo>
                  <a:pt x="467" y="232"/>
                </a:lnTo>
                <a:lnTo>
                  <a:pt x="436" y="242"/>
                </a:lnTo>
                <a:lnTo>
                  <a:pt x="405" y="253"/>
                </a:lnTo>
                <a:lnTo>
                  <a:pt x="377" y="261"/>
                </a:lnTo>
                <a:lnTo>
                  <a:pt x="350" y="269"/>
                </a:lnTo>
                <a:lnTo>
                  <a:pt x="323" y="276"/>
                </a:lnTo>
                <a:lnTo>
                  <a:pt x="298" y="282"/>
                </a:lnTo>
                <a:lnTo>
                  <a:pt x="273" y="288"/>
                </a:lnTo>
                <a:lnTo>
                  <a:pt x="252" y="292"/>
                </a:lnTo>
                <a:lnTo>
                  <a:pt x="229" y="295"/>
                </a:lnTo>
                <a:lnTo>
                  <a:pt x="210" y="299"/>
                </a:lnTo>
                <a:lnTo>
                  <a:pt x="190" y="301"/>
                </a:lnTo>
                <a:lnTo>
                  <a:pt x="173" y="303"/>
                </a:lnTo>
                <a:lnTo>
                  <a:pt x="156" y="303"/>
                </a:lnTo>
                <a:lnTo>
                  <a:pt x="141" y="305"/>
                </a:lnTo>
                <a:lnTo>
                  <a:pt x="127" y="303"/>
                </a:lnTo>
                <a:lnTo>
                  <a:pt x="114" y="303"/>
                </a:lnTo>
                <a:lnTo>
                  <a:pt x="100" y="303"/>
                </a:lnTo>
                <a:lnTo>
                  <a:pt x="89" y="301"/>
                </a:lnTo>
                <a:lnTo>
                  <a:pt x="79" y="301"/>
                </a:lnTo>
                <a:lnTo>
                  <a:pt x="68" y="299"/>
                </a:lnTo>
                <a:lnTo>
                  <a:pt x="60" y="297"/>
                </a:lnTo>
                <a:lnTo>
                  <a:pt x="50" y="295"/>
                </a:lnTo>
                <a:lnTo>
                  <a:pt x="43" y="294"/>
                </a:lnTo>
                <a:lnTo>
                  <a:pt x="37" y="292"/>
                </a:lnTo>
                <a:lnTo>
                  <a:pt x="31" y="290"/>
                </a:lnTo>
                <a:lnTo>
                  <a:pt x="25" y="288"/>
                </a:lnTo>
                <a:lnTo>
                  <a:pt x="20" y="284"/>
                </a:lnTo>
                <a:lnTo>
                  <a:pt x="16" y="282"/>
                </a:lnTo>
                <a:lnTo>
                  <a:pt x="12" y="280"/>
                </a:lnTo>
                <a:lnTo>
                  <a:pt x="10" y="276"/>
                </a:lnTo>
                <a:lnTo>
                  <a:pt x="6" y="272"/>
                </a:lnTo>
                <a:lnTo>
                  <a:pt x="2" y="267"/>
                </a:lnTo>
                <a:lnTo>
                  <a:pt x="0" y="261"/>
                </a:lnTo>
                <a:lnTo>
                  <a:pt x="0" y="255"/>
                </a:lnTo>
                <a:lnTo>
                  <a:pt x="0" y="251"/>
                </a:lnTo>
                <a:lnTo>
                  <a:pt x="2" y="246"/>
                </a:lnTo>
                <a:lnTo>
                  <a:pt x="6" y="240"/>
                </a:lnTo>
                <a:lnTo>
                  <a:pt x="10" y="236"/>
                </a:lnTo>
                <a:lnTo>
                  <a:pt x="12" y="234"/>
                </a:lnTo>
                <a:lnTo>
                  <a:pt x="14" y="232"/>
                </a:lnTo>
                <a:lnTo>
                  <a:pt x="16" y="230"/>
                </a:lnTo>
                <a:lnTo>
                  <a:pt x="20" y="228"/>
                </a:lnTo>
                <a:lnTo>
                  <a:pt x="23" y="226"/>
                </a:lnTo>
                <a:lnTo>
                  <a:pt x="29" y="224"/>
                </a:lnTo>
                <a:lnTo>
                  <a:pt x="33" y="223"/>
                </a:lnTo>
                <a:lnTo>
                  <a:pt x="39" y="221"/>
                </a:lnTo>
                <a:lnTo>
                  <a:pt x="46" y="217"/>
                </a:lnTo>
                <a:lnTo>
                  <a:pt x="52" y="215"/>
                </a:lnTo>
                <a:lnTo>
                  <a:pt x="60" y="211"/>
                </a:lnTo>
                <a:lnTo>
                  <a:pt x="68" y="209"/>
                </a:lnTo>
                <a:lnTo>
                  <a:pt x="77" y="205"/>
                </a:lnTo>
                <a:lnTo>
                  <a:pt x="87" y="201"/>
                </a:lnTo>
                <a:lnTo>
                  <a:pt x="96" y="198"/>
                </a:lnTo>
                <a:lnTo>
                  <a:pt x="106" y="194"/>
                </a:lnTo>
                <a:lnTo>
                  <a:pt x="118" y="190"/>
                </a:lnTo>
                <a:lnTo>
                  <a:pt x="129" y="186"/>
                </a:lnTo>
                <a:lnTo>
                  <a:pt x="141" y="182"/>
                </a:lnTo>
                <a:lnTo>
                  <a:pt x="154" y="176"/>
                </a:lnTo>
                <a:lnTo>
                  <a:pt x="167" y="173"/>
                </a:lnTo>
                <a:lnTo>
                  <a:pt x="181" y="169"/>
                </a:lnTo>
                <a:lnTo>
                  <a:pt x="196" y="163"/>
                </a:lnTo>
                <a:lnTo>
                  <a:pt x="210" y="157"/>
                </a:lnTo>
                <a:lnTo>
                  <a:pt x="227" y="153"/>
                </a:lnTo>
                <a:lnTo>
                  <a:pt x="242" y="148"/>
                </a:lnTo>
                <a:lnTo>
                  <a:pt x="260" y="142"/>
                </a:lnTo>
                <a:lnTo>
                  <a:pt x="275" y="136"/>
                </a:lnTo>
                <a:lnTo>
                  <a:pt x="294" y="130"/>
                </a:lnTo>
                <a:lnTo>
                  <a:pt x="311" y="123"/>
                </a:lnTo>
                <a:lnTo>
                  <a:pt x="331" y="117"/>
                </a:lnTo>
                <a:lnTo>
                  <a:pt x="350" y="111"/>
                </a:lnTo>
                <a:lnTo>
                  <a:pt x="386" y="98"/>
                </a:lnTo>
                <a:lnTo>
                  <a:pt x="419" y="86"/>
                </a:lnTo>
                <a:lnTo>
                  <a:pt x="451" y="75"/>
                </a:lnTo>
                <a:lnTo>
                  <a:pt x="482" y="63"/>
                </a:lnTo>
                <a:lnTo>
                  <a:pt x="496" y="59"/>
                </a:lnTo>
                <a:lnTo>
                  <a:pt x="511" y="54"/>
                </a:lnTo>
                <a:lnTo>
                  <a:pt x="524" y="50"/>
                </a:lnTo>
                <a:lnTo>
                  <a:pt x="536" y="44"/>
                </a:lnTo>
                <a:lnTo>
                  <a:pt x="549" y="40"/>
                </a:lnTo>
                <a:lnTo>
                  <a:pt x="561" y="36"/>
                </a:lnTo>
                <a:lnTo>
                  <a:pt x="572" y="32"/>
                </a:lnTo>
                <a:lnTo>
                  <a:pt x="584" y="29"/>
                </a:lnTo>
                <a:lnTo>
                  <a:pt x="594" y="25"/>
                </a:lnTo>
                <a:lnTo>
                  <a:pt x="603" y="23"/>
                </a:lnTo>
                <a:lnTo>
                  <a:pt x="613" y="19"/>
                </a:lnTo>
                <a:lnTo>
                  <a:pt x="622" y="17"/>
                </a:lnTo>
                <a:lnTo>
                  <a:pt x="630" y="13"/>
                </a:lnTo>
                <a:lnTo>
                  <a:pt x="640" y="11"/>
                </a:lnTo>
                <a:lnTo>
                  <a:pt x="645" y="9"/>
                </a:lnTo>
                <a:lnTo>
                  <a:pt x="653" y="8"/>
                </a:lnTo>
                <a:lnTo>
                  <a:pt x="659" y="6"/>
                </a:lnTo>
                <a:lnTo>
                  <a:pt x="665" y="4"/>
                </a:lnTo>
                <a:lnTo>
                  <a:pt x="670" y="4"/>
                </a:lnTo>
                <a:lnTo>
                  <a:pt x="676" y="2"/>
                </a:lnTo>
                <a:lnTo>
                  <a:pt x="680" y="2"/>
                </a:lnTo>
                <a:lnTo>
                  <a:pt x="684" y="2"/>
                </a:lnTo>
                <a:lnTo>
                  <a:pt x="688" y="0"/>
                </a:lnTo>
                <a:lnTo>
                  <a:pt x="689" y="0"/>
                </a:lnTo>
                <a:lnTo>
                  <a:pt x="695" y="0"/>
                </a:lnTo>
                <a:lnTo>
                  <a:pt x="701" y="0"/>
                </a:lnTo>
                <a:lnTo>
                  <a:pt x="711" y="2"/>
                </a:lnTo>
                <a:lnTo>
                  <a:pt x="718" y="2"/>
                </a:lnTo>
                <a:lnTo>
                  <a:pt x="730" y="4"/>
                </a:lnTo>
                <a:lnTo>
                  <a:pt x="741" y="6"/>
                </a:lnTo>
                <a:lnTo>
                  <a:pt x="755" y="9"/>
                </a:lnTo>
                <a:lnTo>
                  <a:pt x="768" y="13"/>
                </a:lnTo>
                <a:lnTo>
                  <a:pt x="776" y="17"/>
                </a:lnTo>
                <a:lnTo>
                  <a:pt x="782" y="19"/>
                </a:lnTo>
                <a:lnTo>
                  <a:pt x="787" y="23"/>
                </a:lnTo>
                <a:lnTo>
                  <a:pt x="793" y="27"/>
                </a:lnTo>
                <a:lnTo>
                  <a:pt x="797" y="31"/>
                </a:lnTo>
                <a:lnTo>
                  <a:pt x="803" y="34"/>
                </a:lnTo>
                <a:lnTo>
                  <a:pt x="807" y="38"/>
                </a:lnTo>
                <a:lnTo>
                  <a:pt x="808" y="42"/>
                </a:lnTo>
                <a:lnTo>
                  <a:pt x="814" y="50"/>
                </a:lnTo>
                <a:lnTo>
                  <a:pt x="818" y="57"/>
                </a:lnTo>
                <a:lnTo>
                  <a:pt x="820" y="63"/>
                </a:lnTo>
                <a:lnTo>
                  <a:pt x="820" y="69"/>
                </a:lnTo>
                <a:lnTo>
                  <a:pt x="820" y="71"/>
                </a:lnTo>
                <a:lnTo>
                  <a:pt x="820" y="73"/>
                </a:lnTo>
                <a:lnTo>
                  <a:pt x="818" y="75"/>
                </a:lnTo>
                <a:lnTo>
                  <a:pt x="816" y="77"/>
                </a:lnTo>
                <a:lnTo>
                  <a:pt x="814" y="79"/>
                </a:lnTo>
                <a:lnTo>
                  <a:pt x="810" y="80"/>
                </a:lnTo>
                <a:lnTo>
                  <a:pt x="807" y="84"/>
                </a:lnTo>
                <a:lnTo>
                  <a:pt x="803" y="86"/>
                </a:lnTo>
                <a:lnTo>
                  <a:pt x="799" y="90"/>
                </a:lnTo>
                <a:lnTo>
                  <a:pt x="793" y="94"/>
                </a:lnTo>
                <a:lnTo>
                  <a:pt x="787" y="98"/>
                </a:lnTo>
                <a:lnTo>
                  <a:pt x="782" y="100"/>
                </a:lnTo>
                <a:lnTo>
                  <a:pt x="774" y="104"/>
                </a:lnTo>
                <a:lnTo>
                  <a:pt x="766" y="109"/>
                </a:lnTo>
                <a:lnTo>
                  <a:pt x="759" y="113"/>
                </a:lnTo>
                <a:lnTo>
                  <a:pt x="751" y="117"/>
                </a:lnTo>
                <a:lnTo>
                  <a:pt x="741" y="123"/>
                </a:lnTo>
                <a:lnTo>
                  <a:pt x="732" y="127"/>
                </a:lnTo>
                <a:lnTo>
                  <a:pt x="720" y="132"/>
                </a:lnTo>
                <a:lnTo>
                  <a:pt x="711" y="136"/>
                </a:lnTo>
                <a:lnTo>
                  <a:pt x="699" y="142"/>
                </a:lnTo>
                <a:lnTo>
                  <a:pt x="686" y="148"/>
                </a:lnTo>
                <a:lnTo>
                  <a:pt x="674" y="153"/>
                </a:lnTo>
                <a:lnTo>
                  <a:pt x="661" y="159"/>
                </a:lnTo>
                <a:lnTo>
                  <a:pt x="647" y="165"/>
                </a:lnTo>
                <a:lnTo>
                  <a:pt x="632" y="171"/>
                </a:lnTo>
                <a:lnTo>
                  <a:pt x="617" y="176"/>
                </a:lnTo>
                <a:lnTo>
                  <a:pt x="601" y="182"/>
                </a:lnTo>
                <a:lnTo>
                  <a:pt x="586" y="188"/>
                </a:lnTo>
                <a:lnTo>
                  <a:pt x="569" y="194"/>
                </a:lnTo>
                <a:lnTo>
                  <a:pt x="551" y="201"/>
                </a:lnTo>
                <a:lnTo>
                  <a:pt x="534" y="2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13"/>
          <p:cNvSpPr/>
          <p:nvPr/>
        </p:nvSpPr>
        <p:spPr>
          <a:xfrm>
            <a:off x="5877000" y="3451320"/>
            <a:ext cx="947520" cy="696960"/>
          </a:xfrm>
          <a:custGeom>
            <a:avLst/>
            <a:gdLst/>
            <a:ahLst/>
            <a:rect l="l" t="t" r="r" b="b"/>
            <a:pathLst>
              <a:path w="1194" h="879">
                <a:moveTo>
                  <a:pt x="723" y="474"/>
                </a:moveTo>
                <a:lnTo>
                  <a:pt x="695" y="499"/>
                </a:lnTo>
                <a:lnTo>
                  <a:pt x="666" y="522"/>
                </a:lnTo>
                <a:lnTo>
                  <a:pt x="639" y="545"/>
                </a:lnTo>
                <a:lnTo>
                  <a:pt x="612" y="568"/>
                </a:lnTo>
                <a:lnTo>
                  <a:pt x="587" y="589"/>
                </a:lnTo>
                <a:lnTo>
                  <a:pt x="562" y="610"/>
                </a:lnTo>
                <a:lnTo>
                  <a:pt x="539" y="630"/>
                </a:lnTo>
                <a:lnTo>
                  <a:pt x="514" y="649"/>
                </a:lnTo>
                <a:lnTo>
                  <a:pt x="493" y="668"/>
                </a:lnTo>
                <a:lnTo>
                  <a:pt x="472" y="685"/>
                </a:lnTo>
                <a:lnTo>
                  <a:pt x="451" y="703"/>
                </a:lnTo>
                <a:lnTo>
                  <a:pt x="432" y="718"/>
                </a:lnTo>
                <a:lnTo>
                  <a:pt x="412" y="733"/>
                </a:lnTo>
                <a:lnTo>
                  <a:pt x="393" y="749"/>
                </a:lnTo>
                <a:lnTo>
                  <a:pt x="376" y="762"/>
                </a:lnTo>
                <a:lnTo>
                  <a:pt x="359" y="776"/>
                </a:lnTo>
                <a:lnTo>
                  <a:pt x="343" y="787"/>
                </a:lnTo>
                <a:lnTo>
                  <a:pt x="328" y="799"/>
                </a:lnTo>
                <a:lnTo>
                  <a:pt x="315" y="808"/>
                </a:lnTo>
                <a:lnTo>
                  <a:pt x="301" y="818"/>
                </a:lnTo>
                <a:lnTo>
                  <a:pt x="288" y="827"/>
                </a:lnTo>
                <a:lnTo>
                  <a:pt x="276" y="837"/>
                </a:lnTo>
                <a:lnTo>
                  <a:pt x="265" y="843"/>
                </a:lnTo>
                <a:lnTo>
                  <a:pt x="255" y="850"/>
                </a:lnTo>
                <a:lnTo>
                  <a:pt x="245" y="856"/>
                </a:lnTo>
                <a:lnTo>
                  <a:pt x="236" y="862"/>
                </a:lnTo>
                <a:lnTo>
                  <a:pt x="228" y="866"/>
                </a:lnTo>
                <a:lnTo>
                  <a:pt x="220" y="870"/>
                </a:lnTo>
                <a:lnTo>
                  <a:pt x="215" y="872"/>
                </a:lnTo>
                <a:lnTo>
                  <a:pt x="209" y="873"/>
                </a:lnTo>
                <a:lnTo>
                  <a:pt x="203" y="875"/>
                </a:lnTo>
                <a:lnTo>
                  <a:pt x="199" y="875"/>
                </a:lnTo>
                <a:lnTo>
                  <a:pt x="192" y="877"/>
                </a:lnTo>
                <a:lnTo>
                  <a:pt x="186" y="879"/>
                </a:lnTo>
                <a:lnTo>
                  <a:pt x="178" y="877"/>
                </a:lnTo>
                <a:lnTo>
                  <a:pt x="171" y="875"/>
                </a:lnTo>
                <a:lnTo>
                  <a:pt x="163" y="873"/>
                </a:lnTo>
                <a:lnTo>
                  <a:pt x="155" y="870"/>
                </a:lnTo>
                <a:lnTo>
                  <a:pt x="148" y="864"/>
                </a:lnTo>
                <a:lnTo>
                  <a:pt x="140" y="858"/>
                </a:lnTo>
                <a:lnTo>
                  <a:pt x="130" y="852"/>
                </a:lnTo>
                <a:lnTo>
                  <a:pt x="123" y="845"/>
                </a:lnTo>
                <a:lnTo>
                  <a:pt x="115" y="835"/>
                </a:lnTo>
                <a:lnTo>
                  <a:pt x="105" y="825"/>
                </a:lnTo>
                <a:lnTo>
                  <a:pt x="98" y="816"/>
                </a:lnTo>
                <a:lnTo>
                  <a:pt x="88" y="804"/>
                </a:lnTo>
                <a:lnTo>
                  <a:pt x="78" y="791"/>
                </a:lnTo>
                <a:lnTo>
                  <a:pt x="69" y="779"/>
                </a:lnTo>
                <a:lnTo>
                  <a:pt x="57" y="766"/>
                </a:lnTo>
                <a:lnTo>
                  <a:pt x="48" y="754"/>
                </a:lnTo>
                <a:lnTo>
                  <a:pt x="38" y="743"/>
                </a:lnTo>
                <a:lnTo>
                  <a:pt x="30" y="731"/>
                </a:lnTo>
                <a:lnTo>
                  <a:pt x="23" y="722"/>
                </a:lnTo>
                <a:lnTo>
                  <a:pt x="17" y="712"/>
                </a:lnTo>
                <a:lnTo>
                  <a:pt x="11" y="703"/>
                </a:lnTo>
                <a:lnTo>
                  <a:pt x="7" y="695"/>
                </a:lnTo>
                <a:lnTo>
                  <a:pt x="4" y="685"/>
                </a:lnTo>
                <a:lnTo>
                  <a:pt x="2" y="678"/>
                </a:lnTo>
                <a:lnTo>
                  <a:pt x="0" y="672"/>
                </a:lnTo>
                <a:lnTo>
                  <a:pt x="0" y="664"/>
                </a:lnTo>
                <a:lnTo>
                  <a:pt x="0" y="658"/>
                </a:lnTo>
                <a:lnTo>
                  <a:pt x="0" y="653"/>
                </a:lnTo>
                <a:lnTo>
                  <a:pt x="2" y="647"/>
                </a:lnTo>
                <a:lnTo>
                  <a:pt x="4" y="641"/>
                </a:lnTo>
                <a:lnTo>
                  <a:pt x="9" y="632"/>
                </a:lnTo>
                <a:lnTo>
                  <a:pt x="13" y="622"/>
                </a:lnTo>
                <a:lnTo>
                  <a:pt x="19" y="616"/>
                </a:lnTo>
                <a:lnTo>
                  <a:pt x="23" y="614"/>
                </a:lnTo>
                <a:lnTo>
                  <a:pt x="27" y="610"/>
                </a:lnTo>
                <a:lnTo>
                  <a:pt x="30" y="609"/>
                </a:lnTo>
                <a:lnTo>
                  <a:pt x="34" y="609"/>
                </a:lnTo>
                <a:lnTo>
                  <a:pt x="40" y="609"/>
                </a:lnTo>
                <a:lnTo>
                  <a:pt x="44" y="607"/>
                </a:lnTo>
                <a:lnTo>
                  <a:pt x="50" y="609"/>
                </a:lnTo>
                <a:lnTo>
                  <a:pt x="55" y="609"/>
                </a:lnTo>
                <a:lnTo>
                  <a:pt x="61" y="610"/>
                </a:lnTo>
                <a:lnTo>
                  <a:pt x="69" y="612"/>
                </a:lnTo>
                <a:lnTo>
                  <a:pt x="82" y="618"/>
                </a:lnTo>
                <a:lnTo>
                  <a:pt x="96" y="622"/>
                </a:lnTo>
                <a:lnTo>
                  <a:pt x="109" y="628"/>
                </a:lnTo>
                <a:lnTo>
                  <a:pt x="121" y="630"/>
                </a:lnTo>
                <a:lnTo>
                  <a:pt x="130" y="632"/>
                </a:lnTo>
                <a:lnTo>
                  <a:pt x="136" y="633"/>
                </a:lnTo>
                <a:lnTo>
                  <a:pt x="140" y="632"/>
                </a:lnTo>
                <a:lnTo>
                  <a:pt x="146" y="632"/>
                </a:lnTo>
                <a:lnTo>
                  <a:pt x="151" y="632"/>
                </a:lnTo>
                <a:lnTo>
                  <a:pt x="155" y="630"/>
                </a:lnTo>
                <a:lnTo>
                  <a:pt x="161" y="628"/>
                </a:lnTo>
                <a:lnTo>
                  <a:pt x="163" y="626"/>
                </a:lnTo>
                <a:lnTo>
                  <a:pt x="167" y="626"/>
                </a:lnTo>
                <a:lnTo>
                  <a:pt x="172" y="624"/>
                </a:lnTo>
                <a:lnTo>
                  <a:pt x="178" y="622"/>
                </a:lnTo>
                <a:lnTo>
                  <a:pt x="184" y="618"/>
                </a:lnTo>
                <a:lnTo>
                  <a:pt x="192" y="616"/>
                </a:lnTo>
                <a:lnTo>
                  <a:pt x="199" y="610"/>
                </a:lnTo>
                <a:lnTo>
                  <a:pt x="209" y="607"/>
                </a:lnTo>
                <a:lnTo>
                  <a:pt x="220" y="601"/>
                </a:lnTo>
                <a:lnTo>
                  <a:pt x="230" y="595"/>
                </a:lnTo>
                <a:lnTo>
                  <a:pt x="244" y="587"/>
                </a:lnTo>
                <a:lnTo>
                  <a:pt x="255" y="582"/>
                </a:lnTo>
                <a:lnTo>
                  <a:pt x="270" y="572"/>
                </a:lnTo>
                <a:lnTo>
                  <a:pt x="284" y="564"/>
                </a:lnTo>
                <a:lnTo>
                  <a:pt x="299" y="555"/>
                </a:lnTo>
                <a:lnTo>
                  <a:pt x="316" y="545"/>
                </a:lnTo>
                <a:lnTo>
                  <a:pt x="334" y="534"/>
                </a:lnTo>
                <a:lnTo>
                  <a:pt x="353" y="524"/>
                </a:lnTo>
                <a:lnTo>
                  <a:pt x="370" y="511"/>
                </a:lnTo>
                <a:lnTo>
                  <a:pt x="391" y="499"/>
                </a:lnTo>
                <a:lnTo>
                  <a:pt x="412" y="486"/>
                </a:lnTo>
                <a:lnTo>
                  <a:pt x="434" y="472"/>
                </a:lnTo>
                <a:lnTo>
                  <a:pt x="457" y="457"/>
                </a:lnTo>
                <a:lnTo>
                  <a:pt x="480" y="442"/>
                </a:lnTo>
                <a:lnTo>
                  <a:pt x="505" y="426"/>
                </a:lnTo>
                <a:lnTo>
                  <a:pt x="530" y="409"/>
                </a:lnTo>
                <a:lnTo>
                  <a:pt x="554" y="392"/>
                </a:lnTo>
                <a:lnTo>
                  <a:pt x="581" y="374"/>
                </a:lnTo>
                <a:lnTo>
                  <a:pt x="608" y="355"/>
                </a:lnTo>
                <a:lnTo>
                  <a:pt x="637" y="336"/>
                </a:lnTo>
                <a:lnTo>
                  <a:pt x="666" y="317"/>
                </a:lnTo>
                <a:lnTo>
                  <a:pt x="696" y="296"/>
                </a:lnTo>
                <a:lnTo>
                  <a:pt x="727" y="275"/>
                </a:lnTo>
                <a:lnTo>
                  <a:pt x="756" y="255"/>
                </a:lnTo>
                <a:lnTo>
                  <a:pt x="783" y="236"/>
                </a:lnTo>
                <a:lnTo>
                  <a:pt x="810" y="217"/>
                </a:lnTo>
                <a:lnTo>
                  <a:pt x="837" y="200"/>
                </a:lnTo>
                <a:lnTo>
                  <a:pt x="862" y="182"/>
                </a:lnTo>
                <a:lnTo>
                  <a:pt x="887" y="167"/>
                </a:lnTo>
                <a:lnTo>
                  <a:pt x="910" y="152"/>
                </a:lnTo>
                <a:lnTo>
                  <a:pt x="933" y="136"/>
                </a:lnTo>
                <a:lnTo>
                  <a:pt x="954" y="123"/>
                </a:lnTo>
                <a:lnTo>
                  <a:pt x="973" y="109"/>
                </a:lnTo>
                <a:lnTo>
                  <a:pt x="992" y="98"/>
                </a:lnTo>
                <a:lnTo>
                  <a:pt x="1011" y="86"/>
                </a:lnTo>
                <a:lnTo>
                  <a:pt x="1029" y="75"/>
                </a:lnTo>
                <a:lnTo>
                  <a:pt x="1046" y="65"/>
                </a:lnTo>
                <a:lnTo>
                  <a:pt x="1061" y="56"/>
                </a:lnTo>
                <a:lnTo>
                  <a:pt x="1077" y="46"/>
                </a:lnTo>
                <a:lnTo>
                  <a:pt x="1090" y="38"/>
                </a:lnTo>
                <a:lnTo>
                  <a:pt x="1103" y="33"/>
                </a:lnTo>
                <a:lnTo>
                  <a:pt x="1117" y="25"/>
                </a:lnTo>
                <a:lnTo>
                  <a:pt x="1126" y="19"/>
                </a:lnTo>
                <a:lnTo>
                  <a:pt x="1138" y="15"/>
                </a:lnTo>
                <a:lnTo>
                  <a:pt x="1148" y="10"/>
                </a:lnTo>
                <a:lnTo>
                  <a:pt x="1155" y="8"/>
                </a:lnTo>
                <a:lnTo>
                  <a:pt x="1163" y="4"/>
                </a:lnTo>
                <a:lnTo>
                  <a:pt x="1171" y="2"/>
                </a:lnTo>
                <a:lnTo>
                  <a:pt x="1176" y="0"/>
                </a:lnTo>
                <a:lnTo>
                  <a:pt x="1182" y="0"/>
                </a:lnTo>
                <a:lnTo>
                  <a:pt x="1186" y="0"/>
                </a:lnTo>
                <a:lnTo>
                  <a:pt x="1190" y="2"/>
                </a:lnTo>
                <a:lnTo>
                  <a:pt x="1192" y="2"/>
                </a:lnTo>
                <a:lnTo>
                  <a:pt x="1194" y="6"/>
                </a:lnTo>
                <a:lnTo>
                  <a:pt x="1194" y="10"/>
                </a:lnTo>
                <a:lnTo>
                  <a:pt x="1194" y="14"/>
                </a:lnTo>
                <a:lnTo>
                  <a:pt x="1192" y="19"/>
                </a:lnTo>
                <a:lnTo>
                  <a:pt x="1190" y="25"/>
                </a:lnTo>
                <a:lnTo>
                  <a:pt x="1186" y="33"/>
                </a:lnTo>
                <a:lnTo>
                  <a:pt x="1182" y="40"/>
                </a:lnTo>
                <a:lnTo>
                  <a:pt x="1176" y="48"/>
                </a:lnTo>
                <a:lnTo>
                  <a:pt x="1171" y="56"/>
                </a:lnTo>
                <a:lnTo>
                  <a:pt x="1163" y="65"/>
                </a:lnTo>
                <a:lnTo>
                  <a:pt x="1155" y="75"/>
                </a:lnTo>
                <a:lnTo>
                  <a:pt x="1146" y="86"/>
                </a:lnTo>
                <a:lnTo>
                  <a:pt x="1136" y="98"/>
                </a:lnTo>
                <a:lnTo>
                  <a:pt x="1125" y="109"/>
                </a:lnTo>
                <a:lnTo>
                  <a:pt x="1111" y="123"/>
                </a:lnTo>
                <a:lnTo>
                  <a:pt x="1098" y="136"/>
                </a:lnTo>
                <a:lnTo>
                  <a:pt x="1084" y="150"/>
                </a:lnTo>
                <a:lnTo>
                  <a:pt x="1069" y="165"/>
                </a:lnTo>
                <a:lnTo>
                  <a:pt x="1054" y="180"/>
                </a:lnTo>
                <a:lnTo>
                  <a:pt x="1036" y="198"/>
                </a:lnTo>
                <a:lnTo>
                  <a:pt x="1017" y="213"/>
                </a:lnTo>
                <a:lnTo>
                  <a:pt x="998" y="232"/>
                </a:lnTo>
                <a:lnTo>
                  <a:pt x="979" y="250"/>
                </a:lnTo>
                <a:lnTo>
                  <a:pt x="958" y="269"/>
                </a:lnTo>
                <a:lnTo>
                  <a:pt x="934" y="290"/>
                </a:lnTo>
                <a:lnTo>
                  <a:pt x="911" y="309"/>
                </a:lnTo>
                <a:lnTo>
                  <a:pt x="887" y="330"/>
                </a:lnTo>
                <a:lnTo>
                  <a:pt x="862" y="353"/>
                </a:lnTo>
                <a:lnTo>
                  <a:pt x="837" y="376"/>
                </a:lnTo>
                <a:lnTo>
                  <a:pt x="810" y="399"/>
                </a:lnTo>
                <a:lnTo>
                  <a:pt x="781" y="424"/>
                </a:lnTo>
                <a:lnTo>
                  <a:pt x="752" y="449"/>
                </a:lnTo>
                <a:lnTo>
                  <a:pt x="723" y="4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14"/>
          <p:cNvSpPr/>
          <p:nvPr/>
        </p:nvSpPr>
        <p:spPr>
          <a:xfrm>
            <a:off x="5610240" y="2982960"/>
            <a:ext cx="635040" cy="592200"/>
          </a:xfrm>
          <a:custGeom>
            <a:avLst/>
            <a:gdLst/>
            <a:ahLst/>
            <a:rect l="l" t="t" r="r" b="b"/>
            <a:pathLst>
              <a:path w="798" h="746">
                <a:moveTo>
                  <a:pt x="601" y="733"/>
                </a:moveTo>
                <a:lnTo>
                  <a:pt x="543" y="739"/>
                </a:lnTo>
                <a:lnTo>
                  <a:pt x="484" y="746"/>
                </a:lnTo>
                <a:lnTo>
                  <a:pt x="485" y="716"/>
                </a:lnTo>
                <a:lnTo>
                  <a:pt x="487" y="685"/>
                </a:lnTo>
                <a:lnTo>
                  <a:pt x="491" y="656"/>
                </a:lnTo>
                <a:lnTo>
                  <a:pt x="493" y="629"/>
                </a:lnTo>
                <a:lnTo>
                  <a:pt x="495" y="603"/>
                </a:lnTo>
                <a:lnTo>
                  <a:pt x="497" y="576"/>
                </a:lnTo>
                <a:lnTo>
                  <a:pt x="499" y="551"/>
                </a:lnTo>
                <a:lnTo>
                  <a:pt x="501" y="526"/>
                </a:lnTo>
                <a:lnTo>
                  <a:pt x="503" y="503"/>
                </a:lnTo>
                <a:lnTo>
                  <a:pt x="503" y="480"/>
                </a:lnTo>
                <a:lnTo>
                  <a:pt x="505" y="459"/>
                </a:lnTo>
                <a:lnTo>
                  <a:pt x="507" y="437"/>
                </a:lnTo>
                <a:lnTo>
                  <a:pt x="508" y="418"/>
                </a:lnTo>
                <a:lnTo>
                  <a:pt x="508" y="399"/>
                </a:lnTo>
                <a:lnTo>
                  <a:pt x="510" y="382"/>
                </a:lnTo>
                <a:lnTo>
                  <a:pt x="510" y="364"/>
                </a:lnTo>
                <a:lnTo>
                  <a:pt x="512" y="347"/>
                </a:lnTo>
                <a:lnTo>
                  <a:pt x="512" y="332"/>
                </a:lnTo>
                <a:lnTo>
                  <a:pt x="512" y="318"/>
                </a:lnTo>
                <a:lnTo>
                  <a:pt x="514" y="305"/>
                </a:lnTo>
                <a:lnTo>
                  <a:pt x="514" y="293"/>
                </a:lnTo>
                <a:lnTo>
                  <a:pt x="514" y="282"/>
                </a:lnTo>
                <a:lnTo>
                  <a:pt x="514" y="270"/>
                </a:lnTo>
                <a:lnTo>
                  <a:pt x="514" y="263"/>
                </a:lnTo>
                <a:lnTo>
                  <a:pt x="514" y="253"/>
                </a:lnTo>
                <a:lnTo>
                  <a:pt x="514" y="245"/>
                </a:lnTo>
                <a:lnTo>
                  <a:pt x="514" y="240"/>
                </a:lnTo>
                <a:lnTo>
                  <a:pt x="512" y="234"/>
                </a:lnTo>
                <a:lnTo>
                  <a:pt x="512" y="228"/>
                </a:lnTo>
                <a:lnTo>
                  <a:pt x="512" y="224"/>
                </a:lnTo>
                <a:lnTo>
                  <a:pt x="510" y="222"/>
                </a:lnTo>
                <a:lnTo>
                  <a:pt x="510" y="221"/>
                </a:lnTo>
                <a:lnTo>
                  <a:pt x="507" y="219"/>
                </a:lnTo>
                <a:lnTo>
                  <a:pt x="501" y="217"/>
                </a:lnTo>
                <a:lnTo>
                  <a:pt x="495" y="215"/>
                </a:lnTo>
                <a:lnTo>
                  <a:pt x="487" y="215"/>
                </a:lnTo>
                <a:lnTo>
                  <a:pt x="480" y="215"/>
                </a:lnTo>
                <a:lnTo>
                  <a:pt x="468" y="215"/>
                </a:lnTo>
                <a:lnTo>
                  <a:pt x="457" y="217"/>
                </a:lnTo>
                <a:lnTo>
                  <a:pt x="443" y="217"/>
                </a:lnTo>
                <a:lnTo>
                  <a:pt x="430" y="219"/>
                </a:lnTo>
                <a:lnTo>
                  <a:pt x="414" y="221"/>
                </a:lnTo>
                <a:lnTo>
                  <a:pt x="399" y="222"/>
                </a:lnTo>
                <a:lnTo>
                  <a:pt x="380" y="224"/>
                </a:lnTo>
                <a:lnTo>
                  <a:pt x="363" y="226"/>
                </a:lnTo>
                <a:lnTo>
                  <a:pt x="343" y="230"/>
                </a:lnTo>
                <a:lnTo>
                  <a:pt x="322" y="232"/>
                </a:lnTo>
                <a:lnTo>
                  <a:pt x="301" y="234"/>
                </a:lnTo>
                <a:lnTo>
                  <a:pt x="276" y="238"/>
                </a:lnTo>
                <a:lnTo>
                  <a:pt x="253" y="240"/>
                </a:lnTo>
                <a:lnTo>
                  <a:pt x="230" y="242"/>
                </a:lnTo>
                <a:lnTo>
                  <a:pt x="207" y="245"/>
                </a:lnTo>
                <a:lnTo>
                  <a:pt x="186" y="247"/>
                </a:lnTo>
                <a:lnTo>
                  <a:pt x="165" y="249"/>
                </a:lnTo>
                <a:lnTo>
                  <a:pt x="146" y="251"/>
                </a:lnTo>
                <a:lnTo>
                  <a:pt x="127" y="253"/>
                </a:lnTo>
                <a:lnTo>
                  <a:pt x="107" y="255"/>
                </a:lnTo>
                <a:lnTo>
                  <a:pt x="90" y="257"/>
                </a:lnTo>
                <a:lnTo>
                  <a:pt x="73" y="259"/>
                </a:lnTo>
                <a:lnTo>
                  <a:pt x="56" y="259"/>
                </a:lnTo>
                <a:lnTo>
                  <a:pt x="40" y="261"/>
                </a:lnTo>
                <a:lnTo>
                  <a:pt x="27" y="261"/>
                </a:lnTo>
                <a:lnTo>
                  <a:pt x="13" y="261"/>
                </a:lnTo>
                <a:lnTo>
                  <a:pt x="0" y="263"/>
                </a:lnTo>
                <a:lnTo>
                  <a:pt x="0" y="165"/>
                </a:lnTo>
                <a:lnTo>
                  <a:pt x="13" y="165"/>
                </a:lnTo>
                <a:lnTo>
                  <a:pt x="27" y="165"/>
                </a:lnTo>
                <a:lnTo>
                  <a:pt x="40" y="165"/>
                </a:lnTo>
                <a:lnTo>
                  <a:pt x="56" y="163"/>
                </a:lnTo>
                <a:lnTo>
                  <a:pt x="73" y="161"/>
                </a:lnTo>
                <a:lnTo>
                  <a:pt x="90" y="159"/>
                </a:lnTo>
                <a:lnTo>
                  <a:pt x="107" y="157"/>
                </a:lnTo>
                <a:lnTo>
                  <a:pt x="127" y="155"/>
                </a:lnTo>
                <a:lnTo>
                  <a:pt x="146" y="151"/>
                </a:lnTo>
                <a:lnTo>
                  <a:pt x="165" y="150"/>
                </a:lnTo>
                <a:lnTo>
                  <a:pt x="186" y="146"/>
                </a:lnTo>
                <a:lnTo>
                  <a:pt x="207" y="142"/>
                </a:lnTo>
                <a:lnTo>
                  <a:pt x="230" y="138"/>
                </a:lnTo>
                <a:lnTo>
                  <a:pt x="253" y="134"/>
                </a:lnTo>
                <a:lnTo>
                  <a:pt x="276" y="128"/>
                </a:lnTo>
                <a:lnTo>
                  <a:pt x="301" y="125"/>
                </a:lnTo>
                <a:lnTo>
                  <a:pt x="322" y="119"/>
                </a:lnTo>
                <a:lnTo>
                  <a:pt x="343" y="113"/>
                </a:lnTo>
                <a:lnTo>
                  <a:pt x="363" y="107"/>
                </a:lnTo>
                <a:lnTo>
                  <a:pt x="380" y="103"/>
                </a:lnTo>
                <a:lnTo>
                  <a:pt x="399" y="98"/>
                </a:lnTo>
                <a:lnTo>
                  <a:pt x="414" y="92"/>
                </a:lnTo>
                <a:lnTo>
                  <a:pt x="430" y="86"/>
                </a:lnTo>
                <a:lnTo>
                  <a:pt x="443" y="82"/>
                </a:lnTo>
                <a:lnTo>
                  <a:pt x="457" y="77"/>
                </a:lnTo>
                <a:lnTo>
                  <a:pt x="468" y="71"/>
                </a:lnTo>
                <a:lnTo>
                  <a:pt x="480" y="67"/>
                </a:lnTo>
                <a:lnTo>
                  <a:pt x="487" y="61"/>
                </a:lnTo>
                <a:lnTo>
                  <a:pt x="495" y="55"/>
                </a:lnTo>
                <a:lnTo>
                  <a:pt x="501" y="52"/>
                </a:lnTo>
                <a:lnTo>
                  <a:pt x="507" y="46"/>
                </a:lnTo>
                <a:lnTo>
                  <a:pt x="510" y="40"/>
                </a:lnTo>
                <a:lnTo>
                  <a:pt x="514" y="31"/>
                </a:lnTo>
                <a:lnTo>
                  <a:pt x="520" y="23"/>
                </a:lnTo>
                <a:lnTo>
                  <a:pt x="526" y="15"/>
                </a:lnTo>
                <a:lnTo>
                  <a:pt x="532" y="9"/>
                </a:lnTo>
                <a:lnTo>
                  <a:pt x="537" y="6"/>
                </a:lnTo>
                <a:lnTo>
                  <a:pt x="545" y="2"/>
                </a:lnTo>
                <a:lnTo>
                  <a:pt x="553" y="0"/>
                </a:lnTo>
                <a:lnTo>
                  <a:pt x="562" y="0"/>
                </a:lnTo>
                <a:lnTo>
                  <a:pt x="566" y="2"/>
                </a:lnTo>
                <a:lnTo>
                  <a:pt x="572" y="4"/>
                </a:lnTo>
                <a:lnTo>
                  <a:pt x="580" y="7"/>
                </a:lnTo>
                <a:lnTo>
                  <a:pt x="585" y="9"/>
                </a:lnTo>
                <a:lnTo>
                  <a:pt x="593" y="13"/>
                </a:lnTo>
                <a:lnTo>
                  <a:pt x="601" y="17"/>
                </a:lnTo>
                <a:lnTo>
                  <a:pt x="610" y="19"/>
                </a:lnTo>
                <a:lnTo>
                  <a:pt x="620" y="23"/>
                </a:lnTo>
                <a:lnTo>
                  <a:pt x="639" y="32"/>
                </a:lnTo>
                <a:lnTo>
                  <a:pt x="649" y="36"/>
                </a:lnTo>
                <a:lnTo>
                  <a:pt x="660" y="42"/>
                </a:lnTo>
                <a:lnTo>
                  <a:pt x="670" y="48"/>
                </a:lnTo>
                <a:lnTo>
                  <a:pt x="681" y="54"/>
                </a:lnTo>
                <a:lnTo>
                  <a:pt x="693" y="61"/>
                </a:lnTo>
                <a:lnTo>
                  <a:pt x="706" y="69"/>
                </a:lnTo>
                <a:lnTo>
                  <a:pt x="718" y="77"/>
                </a:lnTo>
                <a:lnTo>
                  <a:pt x="729" y="84"/>
                </a:lnTo>
                <a:lnTo>
                  <a:pt x="739" y="90"/>
                </a:lnTo>
                <a:lnTo>
                  <a:pt x="746" y="98"/>
                </a:lnTo>
                <a:lnTo>
                  <a:pt x="756" y="103"/>
                </a:lnTo>
                <a:lnTo>
                  <a:pt x="764" y="109"/>
                </a:lnTo>
                <a:lnTo>
                  <a:pt x="770" y="115"/>
                </a:lnTo>
                <a:lnTo>
                  <a:pt x="775" y="121"/>
                </a:lnTo>
                <a:lnTo>
                  <a:pt x="781" y="126"/>
                </a:lnTo>
                <a:lnTo>
                  <a:pt x="785" y="130"/>
                </a:lnTo>
                <a:lnTo>
                  <a:pt x="789" y="134"/>
                </a:lnTo>
                <a:lnTo>
                  <a:pt x="793" y="138"/>
                </a:lnTo>
                <a:lnTo>
                  <a:pt x="794" y="142"/>
                </a:lnTo>
                <a:lnTo>
                  <a:pt x="796" y="146"/>
                </a:lnTo>
                <a:lnTo>
                  <a:pt x="796" y="150"/>
                </a:lnTo>
                <a:lnTo>
                  <a:pt x="798" y="151"/>
                </a:lnTo>
                <a:lnTo>
                  <a:pt x="796" y="157"/>
                </a:lnTo>
                <a:lnTo>
                  <a:pt x="796" y="163"/>
                </a:lnTo>
                <a:lnTo>
                  <a:pt x="794" y="169"/>
                </a:lnTo>
                <a:lnTo>
                  <a:pt x="793" y="174"/>
                </a:lnTo>
                <a:lnTo>
                  <a:pt x="791" y="180"/>
                </a:lnTo>
                <a:lnTo>
                  <a:pt x="787" y="188"/>
                </a:lnTo>
                <a:lnTo>
                  <a:pt x="783" y="194"/>
                </a:lnTo>
                <a:lnTo>
                  <a:pt x="779" y="201"/>
                </a:lnTo>
                <a:lnTo>
                  <a:pt x="770" y="217"/>
                </a:lnTo>
                <a:lnTo>
                  <a:pt x="758" y="230"/>
                </a:lnTo>
                <a:lnTo>
                  <a:pt x="746" y="245"/>
                </a:lnTo>
                <a:lnTo>
                  <a:pt x="731" y="263"/>
                </a:lnTo>
                <a:lnTo>
                  <a:pt x="727" y="267"/>
                </a:lnTo>
                <a:lnTo>
                  <a:pt x="722" y="274"/>
                </a:lnTo>
                <a:lnTo>
                  <a:pt x="718" y="280"/>
                </a:lnTo>
                <a:lnTo>
                  <a:pt x="712" y="288"/>
                </a:lnTo>
                <a:lnTo>
                  <a:pt x="708" y="295"/>
                </a:lnTo>
                <a:lnTo>
                  <a:pt x="704" y="303"/>
                </a:lnTo>
                <a:lnTo>
                  <a:pt x="699" y="313"/>
                </a:lnTo>
                <a:lnTo>
                  <a:pt x="695" y="322"/>
                </a:lnTo>
                <a:lnTo>
                  <a:pt x="691" y="332"/>
                </a:lnTo>
                <a:lnTo>
                  <a:pt x="687" y="343"/>
                </a:lnTo>
                <a:lnTo>
                  <a:pt x="681" y="355"/>
                </a:lnTo>
                <a:lnTo>
                  <a:pt x="677" y="366"/>
                </a:lnTo>
                <a:lnTo>
                  <a:pt x="674" y="378"/>
                </a:lnTo>
                <a:lnTo>
                  <a:pt x="670" y="391"/>
                </a:lnTo>
                <a:lnTo>
                  <a:pt x="666" y="405"/>
                </a:lnTo>
                <a:lnTo>
                  <a:pt x="662" y="420"/>
                </a:lnTo>
                <a:lnTo>
                  <a:pt x="658" y="434"/>
                </a:lnTo>
                <a:lnTo>
                  <a:pt x="654" y="449"/>
                </a:lnTo>
                <a:lnTo>
                  <a:pt x="649" y="466"/>
                </a:lnTo>
                <a:lnTo>
                  <a:pt x="645" y="483"/>
                </a:lnTo>
                <a:lnTo>
                  <a:pt x="641" y="501"/>
                </a:lnTo>
                <a:lnTo>
                  <a:pt x="637" y="518"/>
                </a:lnTo>
                <a:lnTo>
                  <a:pt x="633" y="537"/>
                </a:lnTo>
                <a:lnTo>
                  <a:pt x="631" y="556"/>
                </a:lnTo>
                <a:lnTo>
                  <a:pt x="627" y="576"/>
                </a:lnTo>
                <a:lnTo>
                  <a:pt x="624" y="597"/>
                </a:lnTo>
                <a:lnTo>
                  <a:pt x="620" y="618"/>
                </a:lnTo>
                <a:lnTo>
                  <a:pt x="616" y="639"/>
                </a:lnTo>
                <a:lnTo>
                  <a:pt x="612" y="662"/>
                </a:lnTo>
                <a:lnTo>
                  <a:pt x="608" y="685"/>
                </a:lnTo>
                <a:lnTo>
                  <a:pt x="604" y="708"/>
                </a:lnTo>
                <a:lnTo>
                  <a:pt x="601" y="7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15"/>
          <p:cNvSpPr/>
          <p:nvPr/>
        </p:nvSpPr>
        <p:spPr>
          <a:xfrm>
            <a:off x="5694480" y="3521160"/>
            <a:ext cx="444240" cy="129960"/>
          </a:xfrm>
          <a:custGeom>
            <a:avLst/>
            <a:gdLst/>
            <a:ahLst/>
            <a:rect l="l" t="t" r="r" b="b"/>
            <a:pathLst>
              <a:path w="561" h="165">
                <a:moveTo>
                  <a:pt x="0" y="69"/>
                </a:moveTo>
                <a:lnTo>
                  <a:pt x="12" y="69"/>
                </a:lnTo>
                <a:lnTo>
                  <a:pt x="25" y="68"/>
                </a:lnTo>
                <a:lnTo>
                  <a:pt x="39" y="68"/>
                </a:lnTo>
                <a:lnTo>
                  <a:pt x="52" y="66"/>
                </a:lnTo>
                <a:lnTo>
                  <a:pt x="83" y="64"/>
                </a:lnTo>
                <a:lnTo>
                  <a:pt x="114" y="58"/>
                </a:lnTo>
                <a:lnTo>
                  <a:pt x="146" y="52"/>
                </a:lnTo>
                <a:lnTo>
                  <a:pt x="179" y="46"/>
                </a:lnTo>
                <a:lnTo>
                  <a:pt x="213" y="37"/>
                </a:lnTo>
                <a:lnTo>
                  <a:pt x="248" y="27"/>
                </a:lnTo>
                <a:lnTo>
                  <a:pt x="265" y="25"/>
                </a:lnTo>
                <a:lnTo>
                  <a:pt x="281" y="21"/>
                </a:lnTo>
                <a:lnTo>
                  <a:pt x="296" y="20"/>
                </a:lnTo>
                <a:lnTo>
                  <a:pt x="311" y="18"/>
                </a:lnTo>
                <a:lnTo>
                  <a:pt x="340" y="12"/>
                </a:lnTo>
                <a:lnTo>
                  <a:pt x="369" y="8"/>
                </a:lnTo>
                <a:lnTo>
                  <a:pt x="396" y="4"/>
                </a:lnTo>
                <a:lnTo>
                  <a:pt x="421" y="2"/>
                </a:lnTo>
                <a:lnTo>
                  <a:pt x="446" y="0"/>
                </a:lnTo>
                <a:lnTo>
                  <a:pt x="471" y="0"/>
                </a:lnTo>
                <a:lnTo>
                  <a:pt x="482" y="0"/>
                </a:lnTo>
                <a:lnTo>
                  <a:pt x="492" y="0"/>
                </a:lnTo>
                <a:lnTo>
                  <a:pt x="503" y="0"/>
                </a:lnTo>
                <a:lnTo>
                  <a:pt x="511" y="2"/>
                </a:lnTo>
                <a:lnTo>
                  <a:pt x="521" y="4"/>
                </a:lnTo>
                <a:lnTo>
                  <a:pt x="528" y="6"/>
                </a:lnTo>
                <a:lnTo>
                  <a:pt x="534" y="8"/>
                </a:lnTo>
                <a:lnTo>
                  <a:pt x="540" y="10"/>
                </a:lnTo>
                <a:lnTo>
                  <a:pt x="546" y="12"/>
                </a:lnTo>
                <a:lnTo>
                  <a:pt x="549" y="16"/>
                </a:lnTo>
                <a:lnTo>
                  <a:pt x="553" y="20"/>
                </a:lnTo>
                <a:lnTo>
                  <a:pt x="557" y="23"/>
                </a:lnTo>
                <a:lnTo>
                  <a:pt x="559" y="27"/>
                </a:lnTo>
                <a:lnTo>
                  <a:pt x="561" y="31"/>
                </a:lnTo>
                <a:lnTo>
                  <a:pt x="561" y="37"/>
                </a:lnTo>
                <a:lnTo>
                  <a:pt x="561" y="41"/>
                </a:lnTo>
                <a:lnTo>
                  <a:pt x="561" y="46"/>
                </a:lnTo>
                <a:lnTo>
                  <a:pt x="559" y="52"/>
                </a:lnTo>
                <a:lnTo>
                  <a:pt x="555" y="56"/>
                </a:lnTo>
                <a:lnTo>
                  <a:pt x="551" y="62"/>
                </a:lnTo>
                <a:lnTo>
                  <a:pt x="546" y="68"/>
                </a:lnTo>
                <a:lnTo>
                  <a:pt x="540" y="71"/>
                </a:lnTo>
                <a:lnTo>
                  <a:pt x="532" y="77"/>
                </a:lnTo>
                <a:lnTo>
                  <a:pt x="524" y="83"/>
                </a:lnTo>
                <a:lnTo>
                  <a:pt x="515" y="87"/>
                </a:lnTo>
                <a:lnTo>
                  <a:pt x="503" y="92"/>
                </a:lnTo>
                <a:lnTo>
                  <a:pt x="492" y="98"/>
                </a:lnTo>
                <a:lnTo>
                  <a:pt x="478" y="104"/>
                </a:lnTo>
                <a:lnTo>
                  <a:pt x="465" y="108"/>
                </a:lnTo>
                <a:lnTo>
                  <a:pt x="450" y="114"/>
                </a:lnTo>
                <a:lnTo>
                  <a:pt x="434" y="119"/>
                </a:lnTo>
                <a:lnTo>
                  <a:pt x="417" y="125"/>
                </a:lnTo>
                <a:lnTo>
                  <a:pt x="400" y="129"/>
                </a:lnTo>
                <a:lnTo>
                  <a:pt x="380" y="135"/>
                </a:lnTo>
                <a:lnTo>
                  <a:pt x="361" y="139"/>
                </a:lnTo>
                <a:lnTo>
                  <a:pt x="340" y="142"/>
                </a:lnTo>
                <a:lnTo>
                  <a:pt x="317" y="146"/>
                </a:lnTo>
                <a:lnTo>
                  <a:pt x="294" y="150"/>
                </a:lnTo>
                <a:lnTo>
                  <a:pt x="269" y="152"/>
                </a:lnTo>
                <a:lnTo>
                  <a:pt x="242" y="156"/>
                </a:lnTo>
                <a:lnTo>
                  <a:pt x="215" y="158"/>
                </a:lnTo>
                <a:lnTo>
                  <a:pt x="189" y="160"/>
                </a:lnTo>
                <a:lnTo>
                  <a:pt x="160" y="162"/>
                </a:lnTo>
                <a:lnTo>
                  <a:pt x="129" y="164"/>
                </a:lnTo>
                <a:lnTo>
                  <a:pt x="98" y="164"/>
                </a:lnTo>
                <a:lnTo>
                  <a:pt x="66" y="165"/>
                </a:lnTo>
                <a:lnTo>
                  <a:pt x="33" y="165"/>
                </a:lnTo>
                <a:lnTo>
                  <a:pt x="0" y="165"/>
                </a:lnTo>
                <a:lnTo>
                  <a:pt x="0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16"/>
          <p:cNvSpPr/>
          <p:nvPr/>
        </p:nvSpPr>
        <p:spPr>
          <a:xfrm>
            <a:off x="5524560" y="3095640"/>
            <a:ext cx="222120" cy="774720"/>
          </a:xfrm>
          <a:custGeom>
            <a:avLst/>
            <a:gdLst/>
            <a:ahLst/>
            <a:rect l="l" t="t" r="r" b="b"/>
            <a:pathLst>
              <a:path w="281" h="977">
                <a:moveTo>
                  <a:pt x="6" y="9"/>
                </a:moveTo>
                <a:lnTo>
                  <a:pt x="8" y="8"/>
                </a:lnTo>
                <a:lnTo>
                  <a:pt x="14" y="6"/>
                </a:lnTo>
                <a:lnTo>
                  <a:pt x="20" y="4"/>
                </a:lnTo>
                <a:lnTo>
                  <a:pt x="27" y="2"/>
                </a:lnTo>
                <a:lnTo>
                  <a:pt x="35" y="2"/>
                </a:lnTo>
                <a:lnTo>
                  <a:pt x="47" y="0"/>
                </a:lnTo>
                <a:lnTo>
                  <a:pt x="58" y="0"/>
                </a:lnTo>
                <a:lnTo>
                  <a:pt x="71" y="0"/>
                </a:lnTo>
                <a:lnTo>
                  <a:pt x="85" y="2"/>
                </a:lnTo>
                <a:lnTo>
                  <a:pt x="100" y="4"/>
                </a:lnTo>
                <a:lnTo>
                  <a:pt x="116" y="6"/>
                </a:lnTo>
                <a:lnTo>
                  <a:pt x="135" y="8"/>
                </a:lnTo>
                <a:lnTo>
                  <a:pt x="152" y="11"/>
                </a:lnTo>
                <a:lnTo>
                  <a:pt x="173" y="13"/>
                </a:lnTo>
                <a:lnTo>
                  <a:pt x="192" y="19"/>
                </a:lnTo>
                <a:lnTo>
                  <a:pt x="215" y="23"/>
                </a:lnTo>
                <a:lnTo>
                  <a:pt x="217" y="65"/>
                </a:lnTo>
                <a:lnTo>
                  <a:pt x="221" y="107"/>
                </a:lnTo>
                <a:lnTo>
                  <a:pt x="225" y="148"/>
                </a:lnTo>
                <a:lnTo>
                  <a:pt x="229" y="186"/>
                </a:lnTo>
                <a:lnTo>
                  <a:pt x="231" y="224"/>
                </a:lnTo>
                <a:lnTo>
                  <a:pt x="235" y="261"/>
                </a:lnTo>
                <a:lnTo>
                  <a:pt x="238" y="297"/>
                </a:lnTo>
                <a:lnTo>
                  <a:pt x="240" y="332"/>
                </a:lnTo>
                <a:lnTo>
                  <a:pt x="244" y="365"/>
                </a:lnTo>
                <a:lnTo>
                  <a:pt x="246" y="397"/>
                </a:lnTo>
                <a:lnTo>
                  <a:pt x="250" y="430"/>
                </a:lnTo>
                <a:lnTo>
                  <a:pt x="252" y="461"/>
                </a:lnTo>
                <a:lnTo>
                  <a:pt x="254" y="489"/>
                </a:lnTo>
                <a:lnTo>
                  <a:pt x="258" y="518"/>
                </a:lnTo>
                <a:lnTo>
                  <a:pt x="260" y="545"/>
                </a:lnTo>
                <a:lnTo>
                  <a:pt x="261" y="570"/>
                </a:lnTo>
                <a:lnTo>
                  <a:pt x="263" y="597"/>
                </a:lnTo>
                <a:lnTo>
                  <a:pt x="265" y="620"/>
                </a:lnTo>
                <a:lnTo>
                  <a:pt x="267" y="643"/>
                </a:lnTo>
                <a:lnTo>
                  <a:pt x="269" y="664"/>
                </a:lnTo>
                <a:lnTo>
                  <a:pt x="271" y="685"/>
                </a:lnTo>
                <a:lnTo>
                  <a:pt x="273" y="704"/>
                </a:lnTo>
                <a:lnTo>
                  <a:pt x="273" y="723"/>
                </a:lnTo>
                <a:lnTo>
                  <a:pt x="275" y="741"/>
                </a:lnTo>
                <a:lnTo>
                  <a:pt x="277" y="756"/>
                </a:lnTo>
                <a:lnTo>
                  <a:pt x="277" y="771"/>
                </a:lnTo>
                <a:lnTo>
                  <a:pt x="279" y="785"/>
                </a:lnTo>
                <a:lnTo>
                  <a:pt x="279" y="798"/>
                </a:lnTo>
                <a:lnTo>
                  <a:pt x="279" y="810"/>
                </a:lnTo>
                <a:lnTo>
                  <a:pt x="279" y="821"/>
                </a:lnTo>
                <a:lnTo>
                  <a:pt x="279" y="831"/>
                </a:lnTo>
                <a:lnTo>
                  <a:pt x="281" y="839"/>
                </a:lnTo>
                <a:lnTo>
                  <a:pt x="279" y="856"/>
                </a:lnTo>
                <a:lnTo>
                  <a:pt x="279" y="873"/>
                </a:lnTo>
                <a:lnTo>
                  <a:pt x="279" y="887"/>
                </a:lnTo>
                <a:lnTo>
                  <a:pt x="277" y="902"/>
                </a:lnTo>
                <a:lnTo>
                  <a:pt x="277" y="913"/>
                </a:lnTo>
                <a:lnTo>
                  <a:pt x="275" y="925"/>
                </a:lnTo>
                <a:lnTo>
                  <a:pt x="273" y="935"/>
                </a:lnTo>
                <a:lnTo>
                  <a:pt x="269" y="944"/>
                </a:lnTo>
                <a:lnTo>
                  <a:pt x="267" y="952"/>
                </a:lnTo>
                <a:lnTo>
                  <a:pt x="265" y="960"/>
                </a:lnTo>
                <a:lnTo>
                  <a:pt x="261" y="963"/>
                </a:lnTo>
                <a:lnTo>
                  <a:pt x="258" y="969"/>
                </a:lnTo>
                <a:lnTo>
                  <a:pt x="254" y="973"/>
                </a:lnTo>
                <a:lnTo>
                  <a:pt x="250" y="975"/>
                </a:lnTo>
                <a:lnTo>
                  <a:pt x="246" y="977"/>
                </a:lnTo>
                <a:lnTo>
                  <a:pt x="240" y="977"/>
                </a:lnTo>
                <a:lnTo>
                  <a:pt x="237" y="977"/>
                </a:lnTo>
                <a:lnTo>
                  <a:pt x="231" y="975"/>
                </a:lnTo>
                <a:lnTo>
                  <a:pt x="227" y="973"/>
                </a:lnTo>
                <a:lnTo>
                  <a:pt x="223" y="971"/>
                </a:lnTo>
                <a:lnTo>
                  <a:pt x="219" y="969"/>
                </a:lnTo>
                <a:lnTo>
                  <a:pt x="215" y="965"/>
                </a:lnTo>
                <a:lnTo>
                  <a:pt x="213" y="960"/>
                </a:lnTo>
                <a:lnTo>
                  <a:pt x="210" y="954"/>
                </a:lnTo>
                <a:lnTo>
                  <a:pt x="206" y="948"/>
                </a:lnTo>
                <a:lnTo>
                  <a:pt x="204" y="940"/>
                </a:lnTo>
                <a:lnTo>
                  <a:pt x="200" y="933"/>
                </a:lnTo>
                <a:lnTo>
                  <a:pt x="198" y="925"/>
                </a:lnTo>
                <a:lnTo>
                  <a:pt x="196" y="915"/>
                </a:lnTo>
                <a:lnTo>
                  <a:pt x="192" y="904"/>
                </a:lnTo>
                <a:lnTo>
                  <a:pt x="190" y="892"/>
                </a:lnTo>
                <a:lnTo>
                  <a:pt x="189" y="881"/>
                </a:lnTo>
                <a:lnTo>
                  <a:pt x="185" y="869"/>
                </a:lnTo>
                <a:lnTo>
                  <a:pt x="183" y="858"/>
                </a:lnTo>
                <a:lnTo>
                  <a:pt x="179" y="842"/>
                </a:lnTo>
                <a:lnTo>
                  <a:pt x="177" y="829"/>
                </a:lnTo>
                <a:lnTo>
                  <a:pt x="173" y="812"/>
                </a:lnTo>
                <a:lnTo>
                  <a:pt x="169" y="794"/>
                </a:lnTo>
                <a:lnTo>
                  <a:pt x="166" y="775"/>
                </a:lnTo>
                <a:lnTo>
                  <a:pt x="162" y="754"/>
                </a:lnTo>
                <a:lnTo>
                  <a:pt x="158" y="731"/>
                </a:lnTo>
                <a:lnTo>
                  <a:pt x="154" y="708"/>
                </a:lnTo>
                <a:lnTo>
                  <a:pt x="150" y="683"/>
                </a:lnTo>
                <a:lnTo>
                  <a:pt x="148" y="656"/>
                </a:lnTo>
                <a:lnTo>
                  <a:pt x="144" y="627"/>
                </a:lnTo>
                <a:lnTo>
                  <a:pt x="141" y="599"/>
                </a:lnTo>
                <a:lnTo>
                  <a:pt x="139" y="568"/>
                </a:lnTo>
                <a:lnTo>
                  <a:pt x="137" y="535"/>
                </a:lnTo>
                <a:lnTo>
                  <a:pt x="131" y="505"/>
                </a:lnTo>
                <a:lnTo>
                  <a:pt x="125" y="474"/>
                </a:lnTo>
                <a:lnTo>
                  <a:pt x="121" y="445"/>
                </a:lnTo>
                <a:lnTo>
                  <a:pt x="116" y="418"/>
                </a:lnTo>
                <a:lnTo>
                  <a:pt x="112" y="391"/>
                </a:lnTo>
                <a:lnTo>
                  <a:pt x="106" y="365"/>
                </a:lnTo>
                <a:lnTo>
                  <a:pt x="100" y="340"/>
                </a:lnTo>
                <a:lnTo>
                  <a:pt x="94" y="315"/>
                </a:lnTo>
                <a:lnTo>
                  <a:pt x="89" y="292"/>
                </a:lnTo>
                <a:lnTo>
                  <a:pt x="83" y="269"/>
                </a:lnTo>
                <a:lnTo>
                  <a:pt x="77" y="247"/>
                </a:lnTo>
                <a:lnTo>
                  <a:pt x="71" y="226"/>
                </a:lnTo>
                <a:lnTo>
                  <a:pt x="66" y="205"/>
                </a:lnTo>
                <a:lnTo>
                  <a:pt x="58" y="186"/>
                </a:lnTo>
                <a:lnTo>
                  <a:pt x="50" y="167"/>
                </a:lnTo>
                <a:lnTo>
                  <a:pt x="45" y="148"/>
                </a:lnTo>
                <a:lnTo>
                  <a:pt x="37" y="132"/>
                </a:lnTo>
                <a:lnTo>
                  <a:pt x="31" y="119"/>
                </a:lnTo>
                <a:lnTo>
                  <a:pt x="25" y="105"/>
                </a:lnTo>
                <a:lnTo>
                  <a:pt x="20" y="92"/>
                </a:lnTo>
                <a:lnTo>
                  <a:pt x="16" y="82"/>
                </a:lnTo>
                <a:lnTo>
                  <a:pt x="12" y="71"/>
                </a:lnTo>
                <a:lnTo>
                  <a:pt x="8" y="61"/>
                </a:lnTo>
                <a:lnTo>
                  <a:pt x="6" y="52"/>
                </a:lnTo>
                <a:lnTo>
                  <a:pt x="2" y="44"/>
                </a:lnTo>
                <a:lnTo>
                  <a:pt x="2" y="38"/>
                </a:lnTo>
                <a:lnTo>
                  <a:pt x="0" y="31"/>
                </a:lnTo>
                <a:lnTo>
                  <a:pt x="0" y="25"/>
                </a:lnTo>
                <a:lnTo>
                  <a:pt x="0" y="21"/>
                </a:lnTo>
                <a:lnTo>
                  <a:pt x="2" y="15"/>
                </a:lnTo>
                <a:lnTo>
                  <a:pt x="2" y="13"/>
                </a:lnTo>
                <a:lnTo>
                  <a:pt x="6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192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皎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0271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3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400040" y="3619440"/>
            <a:ext cx="2840040" cy="1571760"/>
            <a:chOff x="1400040" y="3619440"/>
            <a:chExt cx="2840040" cy="157176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1944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444680" y="423036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偏窄，右部撇捺要舒展，笔画布局均匀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1897200" y="1512720"/>
            <a:ext cx="158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24"/>
          <p:cNvSpPr/>
          <p:nvPr/>
        </p:nvSpPr>
        <p:spPr>
          <a:xfrm>
            <a:off x="6429240" y="3708360"/>
            <a:ext cx="1360800" cy="963720"/>
          </a:xfrm>
          <a:custGeom>
            <a:avLst/>
            <a:gdLst/>
            <a:ahLst/>
            <a:rect l="l" t="t" r="r" b="b"/>
            <a:pathLst>
              <a:path w="1712" h="1213">
                <a:moveTo>
                  <a:pt x="921" y="1050"/>
                </a:moveTo>
                <a:lnTo>
                  <a:pt x="904" y="1029"/>
                </a:lnTo>
                <a:lnTo>
                  <a:pt x="887" y="1010"/>
                </a:lnTo>
                <a:lnTo>
                  <a:pt x="868" y="987"/>
                </a:lnTo>
                <a:lnTo>
                  <a:pt x="848" y="966"/>
                </a:lnTo>
                <a:lnTo>
                  <a:pt x="827" y="941"/>
                </a:lnTo>
                <a:lnTo>
                  <a:pt x="806" y="918"/>
                </a:lnTo>
                <a:lnTo>
                  <a:pt x="785" y="891"/>
                </a:lnTo>
                <a:lnTo>
                  <a:pt x="760" y="864"/>
                </a:lnTo>
                <a:lnTo>
                  <a:pt x="737" y="837"/>
                </a:lnTo>
                <a:lnTo>
                  <a:pt x="712" y="806"/>
                </a:lnTo>
                <a:lnTo>
                  <a:pt x="685" y="776"/>
                </a:lnTo>
                <a:lnTo>
                  <a:pt x="660" y="745"/>
                </a:lnTo>
                <a:lnTo>
                  <a:pt x="631" y="710"/>
                </a:lnTo>
                <a:lnTo>
                  <a:pt x="603" y="676"/>
                </a:lnTo>
                <a:lnTo>
                  <a:pt x="574" y="641"/>
                </a:lnTo>
                <a:lnTo>
                  <a:pt x="545" y="603"/>
                </a:lnTo>
                <a:lnTo>
                  <a:pt x="512" y="567"/>
                </a:lnTo>
                <a:lnTo>
                  <a:pt x="482" y="530"/>
                </a:lnTo>
                <a:lnTo>
                  <a:pt x="451" y="496"/>
                </a:lnTo>
                <a:lnTo>
                  <a:pt x="420" y="463"/>
                </a:lnTo>
                <a:lnTo>
                  <a:pt x="391" y="432"/>
                </a:lnTo>
                <a:lnTo>
                  <a:pt x="365" y="401"/>
                </a:lnTo>
                <a:lnTo>
                  <a:pt x="338" y="373"/>
                </a:lnTo>
                <a:lnTo>
                  <a:pt x="311" y="346"/>
                </a:lnTo>
                <a:lnTo>
                  <a:pt x="286" y="321"/>
                </a:lnTo>
                <a:lnTo>
                  <a:pt x="263" y="298"/>
                </a:lnTo>
                <a:lnTo>
                  <a:pt x="240" y="275"/>
                </a:lnTo>
                <a:lnTo>
                  <a:pt x="217" y="254"/>
                </a:lnTo>
                <a:lnTo>
                  <a:pt x="198" y="234"/>
                </a:lnTo>
                <a:lnTo>
                  <a:pt x="178" y="217"/>
                </a:lnTo>
                <a:lnTo>
                  <a:pt x="159" y="202"/>
                </a:lnTo>
                <a:lnTo>
                  <a:pt x="142" y="187"/>
                </a:lnTo>
                <a:lnTo>
                  <a:pt x="127" y="173"/>
                </a:lnTo>
                <a:lnTo>
                  <a:pt x="111" y="160"/>
                </a:lnTo>
                <a:lnTo>
                  <a:pt x="98" y="148"/>
                </a:lnTo>
                <a:lnTo>
                  <a:pt x="84" y="137"/>
                </a:lnTo>
                <a:lnTo>
                  <a:pt x="71" y="125"/>
                </a:lnTo>
                <a:lnTo>
                  <a:pt x="59" y="114"/>
                </a:lnTo>
                <a:lnTo>
                  <a:pt x="50" y="102"/>
                </a:lnTo>
                <a:lnTo>
                  <a:pt x="40" y="92"/>
                </a:lnTo>
                <a:lnTo>
                  <a:pt x="33" y="85"/>
                </a:lnTo>
                <a:lnTo>
                  <a:pt x="25" y="75"/>
                </a:lnTo>
                <a:lnTo>
                  <a:pt x="19" y="68"/>
                </a:lnTo>
                <a:lnTo>
                  <a:pt x="13" y="62"/>
                </a:lnTo>
                <a:lnTo>
                  <a:pt x="10" y="56"/>
                </a:lnTo>
                <a:lnTo>
                  <a:pt x="6" y="50"/>
                </a:lnTo>
                <a:lnTo>
                  <a:pt x="6" y="46"/>
                </a:lnTo>
                <a:lnTo>
                  <a:pt x="4" y="43"/>
                </a:lnTo>
                <a:lnTo>
                  <a:pt x="2" y="41"/>
                </a:lnTo>
                <a:lnTo>
                  <a:pt x="0" y="37"/>
                </a:lnTo>
                <a:lnTo>
                  <a:pt x="0" y="35"/>
                </a:lnTo>
                <a:lnTo>
                  <a:pt x="0" y="33"/>
                </a:lnTo>
                <a:lnTo>
                  <a:pt x="0" y="29"/>
                </a:lnTo>
                <a:lnTo>
                  <a:pt x="0" y="27"/>
                </a:lnTo>
                <a:lnTo>
                  <a:pt x="2" y="25"/>
                </a:lnTo>
                <a:lnTo>
                  <a:pt x="4" y="21"/>
                </a:lnTo>
                <a:lnTo>
                  <a:pt x="8" y="20"/>
                </a:lnTo>
                <a:lnTo>
                  <a:pt x="10" y="16"/>
                </a:lnTo>
                <a:lnTo>
                  <a:pt x="13" y="14"/>
                </a:lnTo>
                <a:lnTo>
                  <a:pt x="19" y="12"/>
                </a:lnTo>
                <a:lnTo>
                  <a:pt x="23" y="8"/>
                </a:lnTo>
                <a:lnTo>
                  <a:pt x="29" y="6"/>
                </a:lnTo>
                <a:lnTo>
                  <a:pt x="34" y="2"/>
                </a:lnTo>
                <a:lnTo>
                  <a:pt x="42" y="0"/>
                </a:lnTo>
                <a:lnTo>
                  <a:pt x="56" y="0"/>
                </a:lnTo>
                <a:lnTo>
                  <a:pt x="71" y="2"/>
                </a:lnTo>
                <a:lnTo>
                  <a:pt x="84" y="6"/>
                </a:lnTo>
                <a:lnTo>
                  <a:pt x="100" y="8"/>
                </a:lnTo>
                <a:lnTo>
                  <a:pt x="115" y="14"/>
                </a:lnTo>
                <a:lnTo>
                  <a:pt x="132" y="18"/>
                </a:lnTo>
                <a:lnTo>
                  <a:pt x="150" y="23"/>
                </a:lnTo>
                <a:lnTo>
                  <a:pt x="167" y="29"/>
                </a:lnTo>
                <a:lnTo>
                  <a:pt x="175" y="35"/>
                </a:lnTo>
                <a:lnTo>
                  <a:pt x="184" y="43"/>
                </a:lnTo>
                <a:lnTo>
                  <a:pt x="196" y="52"/>
                </a:lnTo>
                <a:lnTo>
                  <a:pt x="209" y="64"/>
                </a:lnTo>
                <a:lnTo>
                  <a:pt x="224" y="77"/>
                </a:lnTo>
                <a:lnTo>
                  <a:pt x="242" y="92"/>
                </a:lnTo>
                <a:lnTo>
                  <a:pt x="261" y="108"/>
                </a:lnTo>
                <a:lnTo>
                  <a:pt x="280" y="127"/>
                </a:lnTo>
                <a:lnTo>
                  <a:pt x="303" y="148"/>
                </a:lnTo>
                <a:lnTo>
                  <a:pt x="315" y="158"/>
                </a:lnTo>
                <a:lnTo>
                  <a:pt x="328" y="169"/>
                </a:lnTo>
                <a:lnTo>
                  <a:pt x="340" y="181"/>
                </a:lnTo>
                <a:lnTo>
                  <a:pt x="353" y="194"/>
                </a:lnTo>
                <a:lnTo>
                  <a:pt x="367" y="208"/>
                </a:lnTo>
                <a:lnTo>
                  <a:pt x="380" y="219"/>
                </a:lnTo>
                <a:lnTo>
                  <a:pt x="395" y="234"/>
                </a:lnTo>
                <a:lnTo>
                  <a:pt x="409" y="248"/>
                </a:lnTo>
                <a:lnTo>
                  <a:pt x="424" y="263"/>
                </a:lnTo>
                <a:lnTo>
                  <a:pt x="439" y="279"/>
                </a:lnTo>
                <a:lnTo>
                  <a:pt x="457" y="294"/>
                </a:lnTo>
                <a:lnTo>
                  <a:pt x="472" y="311"/>
                </a:lnTo>
                <a:lnTo>
                  <a:pt x="489" y="327"/>
                </a:lnTo>
                <a:lnTo>
                  <a:pt x="507" y="346"/>
                </a:lnTo>
                <a:lnTo>
                  <a:pt x="541" y="380"/>
                </a:lnTo>
                <a:lnTo>
                  <a:pt x="576" y="413"/>
                </a:lnTo>
                <a:lnTo>
                  <a:pt x="610" y="444"/>
                </a:lnTo>
                <a:lnTo>
                  <a:pt x="643" y="474"/>
                </a:lnTo>
                <a:lnTo>
                  <a:pt x="676" y="505"/>
                </a:lnTo>
                <a:lnTo>
                  <a:pt x="708" y="532"/>
                </a:lnTo>
                <a:lnTo>
                  <a:pt x="741" y="559"/>
                </a:lnTo>
                <a:lnTo>
                  <a:pt x="773" y="586"/>
                </a:lnTo>
                <a:lnTo>
                  <a:pt x="804" y="611"/>
                </a:lnTo>
                <a:lnTo>
                  <a:pt x="837" y="636"/>
                </a:lnTo>
                <a:lnTo>
                  <a:pt x="868" y="659"/>
                </a:lnTo>
                <a:lnTo>
                  <a:pt x="898" y="680"/>
                </a:lnTo>
                <a:lnTo>
                  <a:pt x="929" y="701"/>
                </a:lnTo>
                <a:lnTo>
                  <a:pt x="960" y="722"/>
                </a:lnTo>
                <a:lnTo>
                  <a:pt x="990" y="743"/>
                </a:lnTo>
                <a:lnTo>
                  <a:pt x="1021" y="762"/>
                </a:lnTo>
                <a:lnTo>
                  <a:pt x="1050" y="782"/>
                </a:lnTo>
                <a:lnTo>
                  <a:pt x="1079" y="799"/>
                </a:lnTo>
                <a:lnTo>
                  <a:pt x="1106" y="816"/>
                </a:lnTo>
                <a:lnTo>
                  <a:pt x="1134" y="833"/>
                </a:lnTo>
                <a:lnTo>
                  <a:pt x="1163" y="849"/>
                </a:lnTo>
                <a:lnTo>
                  <a:pt x="1192" y="864"/>
                </a:lnTo>
                <a:lnTo>
                  <a:pt x="1221" y="879"/>
                </a:lnTo>
                <a:lnTo>
                  <a:pt x="1249" y="893"/>
                </a:lnTo>
                <a:lnTo>
                  <a:pt x="1278" y="906"/>
                </a:lnTo>
                <a:lnTo>
                  <a:pt x="1307" y="920"/>
                </a:lnTo>
                <a:lnTo>
                  <a:pt x="1367" y="945"/>
                </a:lnTo>
                <a:lnTo>
                  <a:pt x="1426" y="970"/>
                </a:lnTo>
                <a:lnTo>
                  <a:pt x="1487" y="993"/>
                </a:lnTo>
                <a:lnTo>
                  <a:pt x="1514" y="1002"/>
                </a:lnTo>
                <a:lnTo>
                  <a:pt x="1539" y="1014"/>
                </a:lnTo>
                <a:lnTo>
                  <a:pt x="1562" y="1023"/>
                </a:lnTo>
                <a:lnTo>
                  <a:pt x="1585" y="1033"/>
                </a:lnTo>
                <a:lnTo>
                  <a:pt x="1606" y="1041"/>
                </a:lnTo>
                <a:lnTo>
                  <a:pt x="1624" y="1050"/>
                </a:lnTo>
                <a:lnTo>
                  <a:pt x="1641" y="1058"/>
                </a:lnTo>
                <a:lnTo>
                  <a:pt x="1656" y="1066"/>
                </a:lnTo>
                <a:lnTo>
                  <a:pt x="1670" y="1073"/>
                </a:lnTo>
                <a:lnTo>
                  <a:pt x="1681" y="1079"/>
                </a:lnTo>
                <a:lnTo>
                  <a:pt x="1691" y="1085"/>
                </a:lnTo>
                <a:lnTo>
                  <a:pt x="1699" y="1091"/>
                </a:lnTo>
                <a:lnTo>
                  <a:pt x="1704" y="1096"/>
                </a:lnTo>
                <a:lnTo>
                  <a:pt x="1708" y="1100"/>
                </a:lnTo>
                <a:lnTo>
                  <a:pt x="1712" y="1104"/>
                </a:lnTo>
                <a:lnTo>
                  <a:pt x="1712" y="1108"/>
                </a:lnTo>
                <a:lnTo>
                  <a:pt x="1712" y="1110"/>
                </a:lnTo>
                <a:lnTo>
                  <a:pt x="1712" y="1112"/>
                </a:lnTo>
                <a:lnTo>
                  <a:pt x="1710" y="1115"/>
                </a:lnTo>
                <a:lnTo>
                  <a:pt x="1708" y="1117"/>
                </a:lnTo>
                <a:lnTo>
                  <a:pt x="1706" y="1121"/>
                </a:lnTo>
                <a:lnTo>
                  <a:pt x="1702" y="1123"/>
                </a:lnTo>
                <a:lnTo>
                  <a:pt x="1701" y="1125"/>
                </a:lnTo>
                <a:lnTo>
                  <a:pt x="1697" y="1129"/>
                </a:lnTo>
                <a:lnTo>
                  <a:pt x="1691" y="1131"/>
                </a:lnTo>
                <a:lnTo>
                  <a:pt x="1687" y="1133"/>
                </a:lnTo>
                <a:lnTo>
                  <a:pt x="1681" y="1137"/>
                </a:lnTo>
                <a:lnTo>
                  <a:pt x="1676" y="1139"/>
                </a:lnTo>
                <a:lnTo>
                  <a:pt x="1668" y="1142"/>
                </a:lnTo>
                <a:lnTo>
                  <a:pt x="1660" y="1144"/>
                </a:lnTo>
                <a:lnTo>
                  <a:pt x="1653" y="1146"/>
                </a:lnTo>
                <a:lnTo>
                  <a:pt x="1645" y="1150"/>
                </a:lnTo>
                <a:lnTo>
                  <a:pt x="1637" y="1152"/>
                </a:lnTo>
                <a:lnTo>
                  <a:pt x="1628" y="1156"/>
                </a:lnTo>
                <a:lnTo>
                  <a:pt x="1616" y="1158"/>
                </a:lnTo>
                <a:lnTo>
                  <a:pt x="1606" y="1160"/>
                </a:lnTo>
                <a:lnTo>
                  <a:pt x="1595" y="1163"/>
                </a:lnTo>
                <a:lnTo>
                  <a:pt x="1583" y="1165"/>
                </a:lnTo>
                <a:lnTo>
                  <a:pt x="1572" y="1169"/>
                </a:lnTo>
                <a:lnTo>
                  <a:pt x="1558" y="1171"/>
                </a:lnTo>
                <a:lnTo>
                  <a:pt x="1545" y="1173"/>
                </a:lnTo>
                <a:lnTo>
                  <a:pt x="1532" y="1177"/>
                </a:lnTo>
                <a:lnTo>
                  <a:pt x="1518" y="1179"/>
                </a:lnTo>
                <a:lnTo>
                  <a:pt x="1503" y="1183"/>
                </a:lnTo>
                <a:lnTo>
                  <a:pt x="1487" y="1185"/>
                </a:lnTo>
                <a:lnTo>
                  <a:pt x="1470" y="1186"/>
                </a:lnTo>
                <a:lnTo>
                  <a:pt x="1453" y="1190"/>
                </a:lnTo>
                <a:lnTo>
                  <a:pt x="1436" y="1192"/>
                </a:lnTo>
                <a:lnTo>
                  <a:pt x="1418" y="1194"/>
                </a:lnTo>
                <a:lnTo>
                  <a:pt x="1401" y="1196"/>
                </a:lnTo>
                <a:lnTo>
                  <a:pt x="1386" y="1196"/>
                </a:lnTo>
                <a:lnTo>
                  <a:pt x="1370" y="1198"/>
                </a:lnTo>
                <a:lnTo>
                  <a:pt x="1355" y="1200"/>
                </a:lnTo>
                <a:lnTo>
                  <a:pt x="1340" y="1202"/>
                </a:lnTo>
                <a:lnTo>
                  <a:pt x="1324" y="1202"/>
                </a:lnTo>
                <a:lnTo>
                  <a:pt x="1311" y="1204"/>
                </a:lnTo>
                <a:lnTo>
                  <a:pt x="1284" y="1206"/>
                </a:lnTo>
                <a:lnTo>
                  <a:pt x="1261" y="1208"/>
                </a:lnTo>
                <a:lnTo>
                  <a:pt x="1238" y="1210"/>
                </a:lnTo>
                <a:lnTo>
                  <a:pt x="1217" y="1211"/>
                </a:lnTo>
                <a:lnTo>
                  <a:pt x="1198" y="1211"/>
                </a:lnTo>
                <a:lnTo>
                  <a:pt x="1180" y="1213"/>
                </a:lnTo>
                <a:lnTo>
                  <a:pt x="1165" y="1213"/>
                </a:lnTo>
                <a:lnTo>
                  <a:pt x="1150" y="1213"/>
                </a:lnTo>
                <a:lnTo>
                  <a:pt x="1138" y="1213"/>
                </a:lnTo>
                <a:lnTo>
                  <a:pt x="1127" y="1211"/>
                </a:lnTo>
                <a:lnTo>
                  <a:pt x="1117" y="1210"/>
                </a:lnTo>
                <a:lnTo>
                  <a:pt x="1109" y="1208"/>
                </a:lnTo>
                <a:lnTo>
                  <a:pt x="1102" y="1204"/>
                </a:lnTo>
                <a:lnTo>
                  <a:pt x="1094" y="1200"/>
                </a:lnTo>
                <a:lnTo>
                  <a:pt x="1086" y="1196"/>
                </a:lnTo>
                <a:lnTo>
                  <a:pt x="1077" y="1190"/>
                </a:lnTo>
                <a:lnTo>
                  <a:pt x="1067" y="1185"/>
                </a:lnTo>
                <a:lnTo>
                  <a:pt x="1056" y="1177"/>
                </a:lnTo>
                <a:lnTo>
                  <a:pt x="1046" y="1169"/>
                </a:lnTo>
                <a:lnTo>
                  <a:pt x="1034" y="1162"/>
                </a:lnTo>
                <a:lnTo>
                  <a:pt x="1021" y="1150"/>
                </a:lnTo>
                <a:lnTo>
                  <a:pt x="1010" y="1140"/>
                </a:lnTo>
                <a:lnTo>
                  <a:pt x="996" y="1127"/>
                </a:lnTo>
                <a:lnTo>
                  <a:pt x="983" y="1115"/>
                </a:lnTo>
                <a:lnTo>
                  <a:pt x="967" y="1100"/>
                </a:lnTo>
                <a:lnTo>
                  <a:pt x="952" y="1085"/>
                </a:lnTo>
                <a:lnTo>
                  <a:pt x="937" y="1067"/>
                </a:lnTo>
                <a:lnTo>
                  <a:pt x="921" y="10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25"/>
          <p:cNvSpPr/>
          <p:nvPr/>
        </p:nvSpPr>
        <p:spPr>
          <a:xfrm>
            <a:off x="6122880" y="3503520"/>
            <a:ext cx="1028880" cy="1125720"/>
          </a:xfrm>
          <a:custGeom>
            <a:avLst/>
            <a:gdLst/>
            <a:ahLst/>
            <a:rect l="l" t="t" r="r" b="b"/>
            <a:pathLst>
              <a:path w="1298" h="1419">
                <a:moveTo>
                  <a:pt x="1071" y="58"/>
                </a:moveTo>
                <a:lnTo>
                  <a:pt x="1069" y="50"/>
                </a:lnTo>
                <a:lnTo>
                  <a:pt x="1067" y="42"/>
                </a:lnTo>
                <a:lnTo>
                  <a:pt x="1065" y="37"/>
                </a:lnTo>
                <a:lnTo>
                  <a:pt x="1064" y="31"/>
                </a:lnTo>
                <a:lnTo>
                  <a:pt x="1064" y="25"/>
                </a:lnTo>
                <a:lnTo>
                  <a:pt x="1064" y="21"/>
                </a:lnTo>
                <a:lnTo>
                  <a:pt x="1064" y="16"/>
                </a:lnTo>
                <a:lnTo>
                  <a:pt x="1064" y="14"/>
                </a:lnTo>
                <a:lnTo>
                  <a:pt x="1065" y="10"/>
                </a:lnTo>
                <a:lnTo>
                  <a:pt x="1067" y="8"/>
                </a:lnTo>
                <a:lnTo>
                  <a:pt x="1071" y="4"/>
                </a:lnTo>
                <a:lnTo>
                  <a:pt x="1073" y="4"/>
                </a:lnTo>
                <a:lnTo>
                  <a:pt x="1079" y="2"/>
                </a:lnTo>
                <a:lnTo>
                  <a:pt x="1083" y="0"/>
                </a:lnTo>
                <a:lnTo>
                  <a:pt x="1089" y="0"/>
                </a:lnTo>
                <a:lnTo>
                  <a:pt x="1096" y="0"/>
                </a:lnTo>
                <a:lnTo>
                  <a:pt x="1100" y="0"/>
                </a:lnTo>
                <a:lnTo>
                  <a:pt x="1106" y="2"/>
                </a:lnTo>
                <a:lnTo>
                  <a:pt x="1112" y="4"/>
                </a:lnTo>
                <a:lnTo>
                  <a:pt x="1117" y="6"/>
                </a:lnTo>
                <a:lnTo>
                  <a:pt x="1123" y="8"/>
                </a:lnTo>
                <a:lnTo>
                  <a:pt x="1131" y="12"/>
                </a:lnTo>
                <a:lnTo>
                  <a:pt x="1136" y="16"/>
                </a:lnTo>
                <a:lnTo>
                  <a:pt x="1144" y="19"/>
                </a:lnTo>
                <a:lnTo>
                  <a:pt x="1152" y="25"/>
                </a:lnTo>
                <a:lnTo>
                  <a:pt x="1161" y="31"/>
                </a:lnTo>
                <a:lnTo>
                  <a:pt x="1169" y="37"/>
                </a:lnTo>
                <a:lnTo>
                  <a:pt x="1179" y="42"/>
                </a:lnTo>
                <a:lnTo>
                  <a:pt x="1188" y="50"/>
                </a:lnTo>
                <a:lnTo>
                  <a:pt x="1200" y="56"/>
                </a:lnTo>
                <a:lnTo>
                  <a:pt x="1209" y="64"/>
                </a:lnTo>
                <a:lnTo>
                  <a:pt x="1221" y="73"/>
                </a:lnTo>
                <a:lnTo>
                  <a:pt x="1231" y="83"/>
                </a:lnTo>
                <a:lnTo>
                  <a:pt x="1238" y="92"/>
                </a:lnTo>
                <a:lnTo>
                  <a:pt x="1246" y="104"/>
                </a:lnTo>
                <a:lnTo>
                  <a:pt x="1254" y="113"/>
                </a:lnTo>
                <a:lnTo>
                  <a:pt x="1261" y="123"/>
                </a:lnTo>
                <a:lnTo>
                  <a:pt x="1267" y="131"/>
                </a:lnTo>
                <a:lnTo>
                  <a:pt x="1273" y="140"/>
                </a:lnTo>
                <a:lnTo>
                  <a:pt x="1279" y="148"/>
                </a:lnTo>
                <a:lnTo>
                  <a:pt x="1282" y="156"/>
                </a:lnTo>
                <a:lnTo>
                  <a:pt x="1286" y="163"/>
                </a:lnTo>
                <a:lnTo>
                  <a:pt x="1290" y="171"/>
                </a:lnTo>
                <a:lnTo>
                  <a:pt x="1292" y="177"/>
                </a:lnTo>
                <a:lnTo>
                  <a:pt x="1294" y="184"/>
                </a:lnTo>
                <a:lnTo>
                  <a:pt x="1296" y="190"/>
                </a:lnTo>
                <a:lnTo>
                  <a:pt x="1296" y="196"/>
                </a:lnTo>
                <a:lnTo>
                  <a:pt x="1298" y="202"/>
                </a:lnTo>
                <a:lnTo>
                  <a:pt x="1296" y="217"/>
                </a:lnTo>
                <a:lnTo>
                  <a:pt x="1294" y="231"/>
                </a:lnTo>
                <a:lnTo>
                  <a:pt x="1292" y="246"/>
                </a:lnTo>
                <a:lnTo>
                  <a:pt x="1288" y="259"/>
                </a:lnTo>
                <a:lnTo>
                  <a:pt x="1282" y="273"/>
                </a:lnTo>
                <a:lnTo>
                  <a:pt x="1275" y="286"/>
                </a:lnTo>
                <a:lnTo>
                  <a:pt x="1267" y="302"/>
                </a:lnTo>
                <a:lnTo>
                  <a:pt x="1259" y="317"/>
                </a:lnTo>
                <a:lnTo>
                  <a:pt x="1254" y="325"/>
                </a:lnTo>
                <a:lnTo>
                  <a:pt x="1250" y="334"/>
                </a:lnTo>
                <a:lnTo>
                  <a:pt x="1244" y="346"/>
                </a:lnTo>
                <a:lnTo>
                  <a:pt x="1238" y="357"/>
                </a:lnTo>
                <a:lnTo>
                  <a:pt x="1232" y="369"/>
                </a:lnTo>
                <a:lnTo>
                  <a:pt x="1227" y="382"/>
                </a:lnTo>
                <a:lnTo>
                  <a:pt x="1219" y="396"/>
                </a:lnTo>
                <a:lnTo>
                  <a:pt x="1213" y="411"/>
                </a:lnTo>
                <a:lnTo>
                  <a:pt x="1208" y="428"/>
                </a:lnTo>
                <a:lnTo>
                  <a:pt x="1200" y="444"/>
                </a:lnTo>
                <a:lnTo>
                  <a:pt x="1194" y="461"/>
                </a:lnTo>
                <a:lnTo>
                  <a:pt x="1186" y="480"/>
                </a:lnTo>
                <a:lnTo>
                  <a:pt x="1179" y="499"/>
                </a:lnTo>
                <a:lnTo>
                  <a:pt x="1173" y="518"/>
                </a:lnTo>
                <a:lnTo>
                  <a:pt x="1165" y="540"/>
                </a:lnTo>
                <a:lnTo>
                  <a:pt x="1160" y="561"/>
                </a:lnTo>
                <a:lnTo>
                  <a:pt x="1150" y="582"/>
                </a:lnTo>
                <a:lnTo>
                  <a:pt x="1138" y="605"/>
                </a:lnTo>
                <a:lnTo>
                  <a:pt x="1129" y="626"/>
                </a:lnTo>
                <a:lnTo>
                  <a:pt x="1117" y="647"/>
                </a:lnTo>
                <a:lnTo>
                  <a:pt x="1104" y="668"/>
                </a:lnTo>
                <a:lnTo>
                  <a:pt x="1092" y="689"/>
                </a:lnTo>
                <a:lnTo>
                  <a:pt x="1079" y="710"/>
                </a:lnTo>
                <a:lnTo>
                  <a:pt x="1065" y="731"/>
                </a:lnTo>
                <a:lnTo>
                  <a:pt x="1039" y="772"/>
                </a:lnTo>
                <a:lnTo>
                  <a:pt x="1008" y="814"/>
                </a:lnTo>
                <a:lnTo>
                  <a:pt x="977" y="852"/>
                </a:lnTo>
                <a:lnTo>
                  <a:pt x="945" y="891"/>
                </a:lnTo>
                <a:lnTo>
                  <a:pt x="929" y="914"/>
                </a:lnTo>
                <a:lnTo>
                  <a:pt x="912" y="935"/>
                </a:lnTo>
                <a:lnTo>
                  <a:pt x="893" y="954"/>
                </a:lnTo>
                <a:lnTo>
                  <a:pt x="875" y="975"/>
                </a:lnTo>
                <a:lnTo>
                  <a:pt x="856" y="994"/>
                </a:lnTo>
                <a:lnTo>
                  <a:pt x="835" y="1016"/>
                </a:lnTo>
                <a:lnTo>
                  <a:pt x="816" y="1035"/>
                </a:lnTo>
                <a:lnTo>
                  <a:pt x="795" y="1054"/>
                </a:lnTo>
                <a:lnTo>
                  <a:pt x="772" y="1071"/>
                </a:lnTo>
                <a:lnTo>
                  <a:pt x="751" y="1090"/>
                </a:lnTo>
                <a:lnTo>
                  <a:pt x="728" y="1108"/>
                </a:lnTo>
                <a:lnTo>
                  <a:pt x="705" y="1125"/>
                </a:lnTo>
                <a:lnTo>
                  <a:pt x="682" y="1142"/>
                </a:lnTo>
                <a:lnTo>
                  <a:pt x="657" y="1160"/>
                </a:lnTo>
                <a:lnTo>
                  <a:pt x="632" y="1177"/>
                </a:lnTo>
                <a:lnTo>
                  <a:pt x="607" y="1194"/>
                </a:lnTo>
                <a:lnTo>
                  <a:pt x="580" y="1211"/>
                </a:lnTo>
                <a:lnTo>
                  <a:pt x="555" y="1229"/>
                </a:lnTo>
                <a:lnTo>
                  <a:pt x="528" y="1246"/>
                </a:lnTo>
                <a:lnTo>
                  <a:pt x="503" y="1261"/>
                </a:lnTo>
                <a:lnTo>
                  <a:pt x="476" y="1277"/>
                </a:lnTo>
                <a:lnTo>
                  <a:pt x="451" y="1290"/>
                </a:lnTo>
                <a:lnTo>
                  <a:pt x="426" y="1302"/>
                </a:lnTo>
                <a:lnTo>
                  <a:pt x="401" y="1315"/>
                </a:lnTo>
                <a:lnTo>
                  <a:pt x="374" y="1325"/>
                </a:lnTo>
                <a:lnTo>
                  <a:pt x="350" y="1336"/>
                </a:lnTo>
                <a:lnTo>
                  <a:pt x="325" y="1344"/>
                </a:lnTo>
                <a:lnTo>
                  <a:pt x="300" y="1353"/>
                </a:lnTo>
                <a:lnTo>
                  <a:pt x="277" y="1361"/>
                </a:lnTo>
                <a:lnTo>
                  <a:pt x="252" y="1369"/>
                </a:lnTo>
                <a:lnTo>
                  <a:pt x="227" y="1374"/>
                </a:lnTo>
                <a:lnTo>
                  <a:pt x="204" y="1380"/>
                </a:lnTo>
                <a:lnTo>
                  <a:pt x="181" y="1388"/>
                </a:lnTo>
                <a:lnTo>
                  <a:pt x="160" y="1396"/>
                </a:lnTo>
                <a:lnTo>
                  <a:pt x="140" y="1399"/>
                </a:lnTo>
                <a:lnTo>
                  <a:pt x="121" y="1405"/>
                </a:lnTo>
                <a:lnTo>
                  <a:pt x="104" y="1409"/>
                </a:lnTo>
                <a:lnTo>
                  <a:pt x="88" y="1413"/>
                </a:lnTo>
                <a:lnTo>
                  <a:pt x="73" y="1415"/>
                </a:lnTo>
                <a:lnTo>
                  <a:pt x="62" y="1417"/>
                </a:lnTo>
                <a:lnTo>
                  <a:pt x="50" y="1417"/>
                </a:lnTo>
                <a:lnTo>
                  <a:pt x="39" y="1419"/>
                </a:lnTo>
                <a:lnTo>
                  <a:pt x="29" y="1417"/>
                </a:lnTo>
                <a:lnTo>
                  <a:pt x="21" y="1417"/>
                </a:lnTo>
                <a:lnTo>
                  <a:pt x="16" y="1415"/>
                </a:lnTo>
                <a:lnTo>
                  <a:pt x="10" y="1413"/>
                </a:lnTo>
                <a:lnTo>
                  <a:pt x="6" y="1411"/>
                </a:lnTo>
                <a:lnTo>
                  <a:pt x="2" y="1409"/>
                </a:lnTo>
                <a:lnTo>
                  <a:pt x="0" y="1405"/>
                </a:lnTo>
                <a:lnTo>
                  <a:pt x="0" y="1401"/>
                </a:lnTo>
                <a:lnTo>
                  <a:pt x="2" y="1398"/>
                </a:lnTo>
                <a:lnTo>
                  <a:pt x="6" y="1394"/>
                </a:lnTo>
                <a:lnTo>
                  <a:pt x="10" y="1388"/>
                </a:lnTo>
                <a:lnTo>
                  <a:pt x="16" y="1382"/>
                </a:lnTo>
                <a:lnTo>
                  <a:pt x="23" y="1376"/>
                </a:lnTo>
                <a:lnTo>
                  <a:pt x="31" y="1369"/>
                </a:lnTo>
                <a:lnTo>
                  <a:pt x="42" y="1363"/>
                </a:lnTo>
                <a:lnTo>
                  <a:pt x="54" y="1355"/>
                </a:lnTo>
                <a:lnTo>
                  <a:pt x="65" y="1348"/>
                </a:lnTo>
                <a:lnTo>
                  <a:pt x="81" y="1340"/>
                </a:lnTo>
                <a:lnTo>
                  <a:pt x="96" y="1332"/>
                </a:lnTo>
                <a:lnTo>
                  <a:pt x="115" y="1325"/>
                </a:lnTo>
                <a:lnTo>
                  <a:pt x="133" y="1317"/>
                </a:lnTo>
                <a:lnTo>
                  <a:pt x="154" y="1309"/>
                </a:lnTo>
                <a:lnTo>
                  <a:pt x="173" y="1300"/>
                </a:lnTo>
                <a:lnTo>
                  <a:pt x="192" y="1290"/>
                </a:lnTo>
                <a:lnTo>
                  <a:pt x="211" y="1280"/>
                </a:lnTo>
                <a:lnTo>
                  <a:pt x="232" y="1271"/>
                </a:lnTo>
                <a:lnTo>
                  <a:pt x="252" y="1259"/>
                </a:lnTo>
                <a:lnTo>
                  <a:pt x="273" y="1248"/>
                </a:lnTo>
                <a:lnTo>
                  <a:pt x="294" y="1234"/>
                </a:lnTo>
                <a:lnTo>
                  <a:pt x="315" y="1223"/>
                </a:lnTo>
                <a:lnTo>
                  <a:pt x="338" y="1209"/>
                </a:lnTo>
                <a:lnTo>
                  <a:pt x="361" y="1194"/>
                </a:lnTo>
                <a:lnTo>
                  <a:pt x="384" y="1179"/>
                </a:lnTo>
                <a:lnTo>
                  <a:pt x="407" y="1163"/>
                </a:lnTo>
                <a:lnTo>
                  <a:pt x="430" y="1146"/>
                </a:lnTo>
                <a:lnTo>
                  <a:pt x="455" y="1129"/>
                </a:lnTo>
                <a:lnTo>
                  <a:pt x="480" y="1112"/>
                </a:lnTo>
                <a:lnTo>
                  <a:pt x="505" y="1092"/>
                </a:lnTo>
                <a:lnTo>
                  <a:pt x="528" y="1073"/>
                </a:lnTo>
                <a:lnTo>
                  <a:pt x="551" y="1054"/>
                </a:lnTo>
                <a:lnTo>
                  <a:pt x="572" y="1037"/>
                </a:lnTo>
                <a:lnTo>
                  <a:pt x="595" y="1017"/>
                </a:lnTo>
                <a:lnTo>
                  <a:pt x="616" y="998"/>
                </a:lnTo>
                <a:lnTo>
                  <a:pt x="636" y="979"/>
                </a:lnTo>
                <a:lnTo>
                  <a:pt x="657" y="960"/>
                </a:lnTo>
                <a:lnTo>
                  <a:pt x="676" y="941"/>
                </a:lnTo>
                <a:lnTo>
                  <a:pt x="693" y="923"/>
                </a:lnTo>
                <a:lnTo>
                  <a:pt x="712" y="904"/>
                </a:lnTo>
                <a:lnTo>
                  <a:pt x="730" y="885"/>
                </a:lnTo>
                <a:lnTo>
                  <a:pt x="745" y="866"/>
                </a:lnTo>
                <a:lnTo>
                  <a:pt x="762" y="847"/>
                </a:lnTo>
                <a:lnTo>
                  <a:pt x="778" y="829"/>
                </a:lnTo>
                <a:lnTo>
                  <a:pt x="793" y="810"/>
                </a:lnTo>
                <a:lnTo>
                  <a:pt x="806" y="791"/>
                </a:lnTo>
                <a:lnTo>
                  <a:pt x="820" y="772"/>
                </a:lnTo>
                <a:lnTo>
                  <a:pt x="835" y="751"/>
                </a:lnTo>
                <a:lnTo>
                  <a:pt x="849" y="731"/>
                </a:lnTo>
                <a:lnTo>
                  <a:pt x="860" y="708"/>
                </a:lnTo>
                <a:lnTo>
                  <a:pt x="874" y="687"/>
                </a:lnTo>
                <a:lnTo>
                  <a:pt x="887" y="664"/>
                </a:lnTo>
                <a:lnTo>
                  <a:pt x="900" y="639"/>
                </a:lnTo>
                <a:lnTo>
                  <a:pt x="912" y="614"/>
                </a:lnTo>
                <a:lnTo>
                  <a:pt x="925" y="588"/>
                </a:lnTo>
                <a:lnTo>
                  <a:pt x="937" y="561"/>
                </a:lnTo>
                <a:lnTo>
                  <a:pt x="948" y="534"/>
                </a:lnTo>
                <a:lnTo>
                  <a:pt x="960" y="503"/>
                </a:lnTo>
                <a:lnTo>
                  <a:pt x="973" y="472"/>
                </a:lnTo>
                <a:lnTo>
                  <a:pt x="985" y="442"/>
                </a:lnTo>
                <a:lnTo>
                  <a:pt x="996" y="409"/>
                </a:lnTo>
                <a:lnTo>
                  <a:pt x="1008" y="374"/>
                </a:lnTo>
                <a:lnTo>
                  <a:pt x="1019" y="342"/>
                </a:lnTo>
                <a:lnTo>
                  <a:pt x="1029" y="313"/>
                </a:lnTo>
                <a:lnTo>
                  <a:pt x="1037" y="284"/>
                </a:lnTo>
                <a:lnTo>
                  <a:pt x="1046" y="257"/>
                </a:lnTo>
                <a:lnTo>
                  <a:pt x="1052" y="232"/>
                </a:lnTo>
                <a:lnTo>
                  <a:pt x="1058" y="209"/>
                </a:lnTo>
                <a:lnTo>
                  <a:pt x="1064" y="188"/>
                </a:lnTo>
                <a:lnTo>
                  <a:pt x="1067" y="167"/>
                </a:lnTo>
                <a:lnTo>
                  <a:pt x="1069" y="148"/>
                </a:lnTo>
                <a:lnTo>
                  <a:pt x="1073" y="131"/>
                </a:lnTo>
                <a:lnTo>
                  <a:pt x="1073" y="115"/>
                </a:lnTo>
                <a:lnTo>
                  <a:pt x="1075" y="102"/>
                </a:lnTo>
                <a:lnTo>
                  <a:pt x="1075" y="89"/>
                </a:lnTo>
                <a:lnTo>
                  <a:pt x="1073" y="77"/>
                </a:lnTo>
                <a:lnTo>
                  <a:pt x="1073" y="67"/>
                </a:lnTo>
                <a:lnTo>
                  <a:pt x="1071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26"/>
          <p:cNvSpPr/>
          <p:nvPr/>
        </p:nvSpPr>
        <p:spPr>
          <a:xfrm>
            <a:off x="7021440" y="3160800"/>
            <a:ext cx="351000" cy="307800"/>
          </a:xfrm>
          <a:custGeom>
            <a:avLst/>
            <a:gdLst/>
            <a:ahLst/>
            <a:rect l="l" t="t" r="r" b="b"/>
            <a:pathLst>
              <a:path w="441" h="390">
                <a:moveTo>
                  <a:pt x="0" y="29"/>
                </a:moveTo>
                <a:lnTo>
                  <a:pt x="2" y="27"/>
                </a:lnTo>
                <a:lnTo>
                  <a:pt x="2" y="23"/>
                </a:lnTo>
                <a:lnTo>
                  <a:pt x="5" y="21"/>
                </a:lnTo>
                <a:lnTo>
                  <a:pt x="9" y="20"/>
                </a:lnTo>
                <a:lnTo>
                  <a:pt x="15" y="16"/>
                </a:lnTo>
                <a:lnTo>
                  <a:pt x="21" y="14"/>
                </a:lnTo>
                <a:lnTo>
                  <a:pt x="28" y="12"/>
                </a:lnTo>
                <a:lnTo>
                  <a:pt x="36" y="10"/>
                </a:lnTo>
                <a:lnTo>
                  <a:pt x="46" y="8"/>
                </a:lnTo>
                <a:lnTo>
                  <a:pt x="55" y="6"/>
                </a:lnTo>
                <a:lnTo>
                  <a:pt x="67" y="4"/>
                </a:lnTo>
                <a:lnTo>
                  <a:pt x="80" y="4"/>
                </a:lnTo>
                <a:lnTo>
                  <a:pt x="94" y="2"/>
                </a:lnTo>
                <a:lnTo>
                  <a:pt x="107" y="2"/>
                </a:lnTo>
                <a:lnTo>
                  <a:pt x="123" y="0"/>
                </a:lnTo>
                <a:lnTo>
                  <a:pt x="138" y="0"/>
                </a:lnTo>
                <a:lnTo>
                  <a:pt x="155" y="0"/>
                </a:lnTo>
                <a:lnTo>
                  <a:pt x="170" y="2"/>
                </a:lnTo>
                <a:lnTo>
                  <a:pt x="186" y="4"/>
                </a:lnTo>
                <a:lnTo>
                  <a:pt x="199" y="6"/>
                </a:lnTo>
                <a:lnTo>
                  <a:pt x="215" y="8"/>
                </a:lnTo>
                <a:lnTo>
                  <a:pt x="228" y="12"/>
                </a:lnTo>
                <a:lnTo>
                  <a:pt x="242" y="16"/>
                </a:lnTo>
                <a:lnTo>
                  <a:pt x="255" y="20"/>
                </a:lnTo>
                <a:lnTo>
                  <a:pt x="268" y="25"/>
                </a:lnTo>
                <a:lnTo>
                  <a:pt x="280" y="31"/>
                </a:lnTo>
                <a:lnTo>
                  <a:pt x="305" y="43"/>
                </a:lnTo>
                <a:lnTo>
                  <a:pt x="328" y="58"/>
                </a:lnTo>
                <a:lnTo>
                  <a:pt x="353" y="73"/>
                </a:lnTo>
                <a:lnTo>
                  <a:pt x="362" y="85"/>
                </a:lnTo>
                <a:lnTo>
                  <a:pt x="374" y="94"/>
                </a:lnTo>
                <a:lnTo>
                  <a:pt x="384" y="106"/>
                </a:lnTo>
                <a:lnTo>
                  <a:pt x="391" y="119"/>
                </a:lnTo>
                <a:lnTo>
                  <a:pt x="401" y="131"/>
                </a:lnTo>
                <a:lnTo>
                  <a:pt x="407" y="142"/>
                </a:lnTo>
                <a:lnTo>
                  <a:pt x="414" y="156"/>
                </a:lnTo>
                <a:lnTo>
                  <a:pt x="420" y="169"/>
                </a:lnTo>
                <a:lnTo>
                  <a:pt x="424" y="181"/>
                </a:lnTo>
                <a:lnTo>
                  <a:pt x="430" y="194"/>
                </a:lnTo>
                <a:lnTo>
                  <a:pt x="432" y="208"/>
                </a:lnTo>
                <a:lnTo>
                  <a:pt x="435" y="221"/>
                </a:lnTo>
                <a:lnTo>
                  <a:pt x="437" y="235"/>
                </a:lnTo>
                <a:lnTo>
                  <a:pt x="439" y="248"/>
                </a:lnTo>
                <a:lnTo>
                  <a:pt x="439" y="261"/>
                </a:lnTo>
                <a:lnTo>
                  <a:pt x="441" y="275"/>
                </a:lnTo>
                <a:lnTo>
                  <a:pt x="439" y="288"/>
                </a:lnTo>
                <a:lnTo>
                  <a:pt x="439" y="300"/>
                </a:lnTo>
                <a:lnTo>
                  <a:pt x="439" y="311"/>
                </a:lnTo>
                <a:lnTo>
                  <a:pt x="437" y="323"/>
                </a:lnTo>
                <a:lnTo>
                  <a:pt x="437" y="332"/>
                </a:lnTo>
                <a:lnTo>
                  <a:pt x="435" y="342"/>
                </a:lnTo>
                <a:lnTo>
                  <a:pt x="433" y="352"/>
                </a:lnTo>
                <a:lnTo>
                  <a:pt x="432" y="359"/>
                </a:lnTo>
                <a:lnTo>
                  <a:pt x="428" y="365"/>
                </a:lnTo>
                <a:lnTo>
                  <a:pt x="426" y="371"/>
                </a:lnTo>
                <a:lnTo>
                  <a:pt x="422" y="377"/>
                </a:lnTo>
                <a:lnTo>
                  <a:pt x="418" y="380"/>
                </a:lnTo>
                <a:lnTo>
                  <a:pt x="414" y="384"/>
                </a:lnTo>
                <a:lnTo>
                  <a:pt x="410" y="386"/>
                </a:lnTo>
                <a:lnTo>
                  <a:pt x="407" y="388"/>
                </a:lnTo>
                <a:lnTo>
                  <a:pt x="403" y="390"/>
                </a:lnTo>
                <a:lnTo>
                  <a:pt x="397" y="388"/>
                </a:lnTo>
                <a:lnTo>
                  <a:pt x="391" y="386"/>
                </a:lnTo>
                <a:lnTo>
                  <a:pt x="384" y="382"/>
                </a:lnTo>
                <a:lnTo>
                  <a:pt x="374" y="378"/>
                </a:lnTo>
                <a:lnTo>
                  <a:pt x="364" y="373"/>
                </a:lnTo>
                <a:lnTo>
                  <a:pt x="353" y="365"/>
                </a:lnTo>
                <a:lnTo>
                  <a:pt x="341" y="357"/>
                </a:lnTo>
                <a:lnTo>
                  <a:pt x="328" y="346"/>
                </a:lnTo>
                <a:lnTo>
                  <a:pt x="314" y="334"/>
                </a:lnTo>
                <a:lnTo>
                  <a:pt x="299" y="323"/>
                </a:lnTo>
                <a:lnTo>
                  <a:pt x="284" y="307"/>
                </a:lnTo>
                <a:lnTo>
                  <a:pt x="266" y="292"/>
                </a:lnTo>
                <a:lnTo>
                  <a:pt x="247" y="277"/>
                </a:lnTo>
                <a:lnTo>
                  <a:pt x="228" y="258"/>
                </a:lnTo>
                <a:lnTo>
                  <a:pt x="209" y="238"/>
                </a:lnTo>
                <a:lnTo>
                  <a:pt x="190" y="217"/>
                </a:lnTo>
                <a:lnTo>
                  <a:pt x="167" y="196"/>
                </a:lnTo>
                <a:lnTo>
                  <a:pt x="146" y="175"/>
                </a:lnTo>
                <a:lnTo>
                  <a:pt x="124" y="158"/>
                </a:lnTo>
                <a:lnTo>
                  <a:pt x="107" y="140"/>
                </a:lnTo>
                <a:lnTo>
                  <a:pt x="90" y="125"/>
                </a:lnTo>
                <a:lnTo>
                  <a:pt x="75" y="110"/>
                </a:lnTo>
                <a:lnTo>
                  <a:pt x="61" y="96"/>
                </a:lnTo>
                <a:lnTo>
                  <a:pt x="48" y="85"/>
                </a:lnTo>
                <a:lnTo>
                  <a:pt x="36" y="73"/>
                </a:lnTo>
                <a:lnTo>
                  <a:pt x="27" y="64"/>
                </a:lnTo>
                <a:lnTo>
                  <a:pt x="19" y="56"/>
                </a:lnTo>
                <a:lnTo>
                  <a:pt x="13" y="48"/>
                </a:lnTo>
                <a:lnTo>
                  <a:pt x="7" y="43"/>
                </a:lnTo>
                <a:lnTo>
                  <a:pt x="3" y="37"/>
                </a:lnTo>
                <a:lnTo>
                  <a:pt x="2" y="33"/>
                </a:lnTo>
                <a:lnTo>
                  <a:pt x="0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27"/>
          <p:cNvSpPr/>
          <p:nvPr/>
        </p:nvSpPr>
        <p:spPr>
          <a:xfrm>
            <a:off x="6361200" y="3195720"/>
            <a:ext cx="420480" cy="460440"/>
          </a:xfrm>
          <a:custGeom>
            <a:avLst/>
            <a:gdLst/>
            <a:ahLst/>
            <a:rect l="l" t="t" r="r" b="b"/>
            <a:pathLst>
              <a:path w="529" h="579">
                <a:moveTo>
                  <a:pt x="103" y="416"/>
                </a:moveTo>
                <a:lnTo>
                  <a:pt x="119" y="397"/>
                </a:lnTo>
                <a:lnTo>
                  <a:pt x="134" y="380"/>
                </a:lnTo>
                <a:lnTo>
                  <a:pt x="149" y="360"/>
                </a:lnTo>
                <a:lnTo>
                  <a:pt x="163" y="343"/>
                </a:lnTo>
                <a:lnTo>
                  <a:pt x="178" y="326"/>
                </a:lnTo>
                <a:lnTo>
                  <a:pt x="191" y="309"/>
                </a:lnTo>
                <a:lnTo>
                  <a:pt x="203" y="293"/>
                </a:lnTo>
                <a:lnTo>
                  <a:pt x="216" y="278"/>
                </a:lnTo>
                <a:lnTo>
                  <a:pt x="228" y="262"/>
                </a:lnTo>
                <a:lnTo>
                  <a:pt x="238" y="247"/>
                </a:lnTo>
                <a:lnTo>
                  <a:pt x="249" y="234"/>
                </a:lnTo>
                <a:lnTo>
                  <a:pt x="259" y="220"/>
                </a:lnTo>
                <a:lnTo>
                  <a:pt x="268" y="207"/>
                </a:lnTo>
                <a:lnTo>
                  <a:pt x="276" y="195"/>
                </a:lnTo>
                <a:lnTo>
                  <a:pt x="284" y="184"/>
                </a:lnTo>
                <a:lnTo>
                  <a:pt x="291" y="172"/>
                </a:lnTo>
                <a:lnTo>
                  <a:pt x="297" y="165"/>
                </a:lnTo>
                <a:lnTo>
                  <a:pt x="303" y="155"/>
                </a:lnTo>
                <a:lnTo>
                  <a:pt x="309" y="147"/>
                </a:lnTo>
                <a:lnTo>
                  <a:pt x="312" y="140"/>
                </a:lnTo>
                <a:lnTo>
                  <a:pt x="316" y="132"/>
                </a:lnTo>
                <a:lnTo>
                  <a:pt x="318" y="122"/>
                </a:lnTo>
                <a:lnTo>
                  <a:pt x="320" y="115"/>
                </a:lnTo>
                <a:lnTo>
                  <a:pt x="322" y="107"/>
                </a:lnTo>
                <a:lnTo>
                  <a:pt x="324" y="99"/>
                </a:lnTo>
                <a:lnTo>
                  <a:pt x="324" y="92"/>
                </a:lnTo>
                <a:lnTo>
                  <a:pt x="324" y="82"/>
                </a:lnTo>
                <a:lnTo>
                  <a:pt x="322" y="74"/>
                </a:lnTo>
                <a:lnTo>
                  <a:pt x="320" y="59"/>
                </a:lnTo>
                <a:lnTo>
                  <a:pt x="316" y="42"/>
                </a:lnTo>
                <a:lnTo>
                  <a:pt x="312" y="32"/>
                </a:lnTo>
                <a:lnTo>
                  <a:pt x="310" y="23"/>
                </a:lnTo>
                <a:lnTo>
                  <a:pt x="309" y="19"/>
                </a:lnTo>
                <a:lnTo>
                  <a:pt x="309" y="17"/>
                </a:lnTo>
                <a:lnTo>
                  <a:pt x="309" y="13"/>
                </a:lnTo>
                <a:lnTo>
                  <a:pt x="310" y="9"/>
                </a:lnTo>
                <a:lnTo>
                  <a:pt x="312" y="7"/>
                </a:lnTo>
                <a:lnTo>
                  <a:pt x="314" y="5"/>
                </a:lnTo>
                <a:lnTo>
                  <a:pt x="316" y="3"/>
                </a:lnTo>
                <a:lnTo>
                  <a:pt x="320" y="1"/>
                </a:lnTo>
                <a:lnTo>
                  <a:pt x="324" y="1"/>
                </a:lnTo>
                <a:lnTo>
                  <a:pt x="330" y="0"/>
                </a:lnTo>
                <a:lnTo>
                  <a:pt x="335" y="0"/>
                </a:lnTo>
                <a:lnTo>
                  <a:pt x="341" y="0"/>
                </a:lnTo>
                <a:lnTo>
                  <a:pt x="357" y="0"/>
                </a:lnTo>
                <a:lnTo>
                  <a:pt x="370" y="1"/>
                </a:lnTo>
                <a:lnTo>
                  <a:pt x="385" y="5"/>
                </a:lnTo>
                <a:lnTo>
                  <a:pt x="393" y="9"/>
                </a:lnTo>
                <a:lnTo>
                  <a:pt x="399" y="11"/>
                </a:lnTo>
                <a:lnTo>
                  <a:pt x="406" y="15"/>
                </a:lnTo>
                <a:lnTo>
                  <a:pt x="416" y="19"/>
                </a:lnTo>
                <a:lnTo>
                  <a:pt x="424" y="24"/>
                </a:lnTo>
                <a:lnTo>
                  <a:pt x="431" y="28"/>
                </a:lnTo>
                <a:lnTo>
                  <a:pt x="441" y="36"/>
                </a:lnTo>
                <a:lnTo>
                  <a:pt x="449" y="42"/>
                </a:lnTo>
                <a:lnTo>
                  <a:pt x="458" y="49"/>
                </a:lnTo>
                <a:lnTo>
                  <a:pt x="468" y="57"/>
                </a:lnTo>
                <a:lnTo>
                  <a:pt x="481" y="72"/>
                </a:lnTo>
                <a:lnTo>
                  <a:pt x="493" y="86"/>
                </a:lnTo>
                <a:lnTo>
                  <a:pt x="502" y="99"/>
                </a:lnTo>
                <a:lnTo>
                  <a:pt x="512" y="113"/>
                </a:lnTo>
                <a:lnTo>
                  <a:pt x="520" y="124"/>
                </a:lnTo>
                <a:lnTo>
                  <a:pt x="524" y="130"/>
                </a:lnTo>
                <a:lnTo>
                  <a:pt x="525" y="136"/>
                </a:lnTo>
                <a:lnTo>
                  <a:pt x="527" y="142"/>
                </a:lnTo>
                <a:lnTo>
                  <a:pt x="529" y="147"/>
                </a:lnTo>
                <a:lnTo>
                  <a:pt x="529" y="151"/>
                </a:lnTo>
                <a:lnTo>
                  <a:pt x="529" y="157"/>
                </a:lnTo>
                <a:lnTo>
                  <a:pt x="529" y="165"/>
                </a:lnTo>
                <a:lnTo>
                  <a:pt x="527" y="174"/>
                </a:lnTo>
                <a:lnTo>
                  <a:pt x="525" y="182"/>
                </a:lnTo>
                <a:lnTo>
                  <a:pt x="524" y="190"/>
                </a:lnTo>
                <a:lnTo>
                  <a:pt x="520" y="199"/>
                </a:lnTo>
                <a:lnTo>
                  <a:pt x="514" y="207"/>
                </a:lnTo>
                <a:lnTo>
                  <a:pt x="508" y="216"/>
                </a:lnTo>
                <a:lnTo>
                  <a:pt x="502" y="226"/>
                </a:lnTo>
                <a:lnTo>
                  <a:pt x="497" y="236"/>
                </a:lnTo>
                <a:lnTo>
                  <a:pt x="489" y="245"/>
                </a:lnTo>
                <a:lnTo>
                  <a:pt x="479" y="255"/>
                </a:lnTo>
                <a:lnTo>
                  <a:pt x="472" y="266"/>
                </a:lnTo>
                <a:lnTo>
                  <a:pt x="462" y="278"/>
                </a:lnTo>
                <a:lnTo>
                  <a:pt x="453" y="289"/>
                </a:lnTo>
                <a:lnTo>
                  <a:pt x="441" y="303"/>
                </a:lnTo>
                <a:lnTo>
                  <a:pt x="430" y="316"/>
                </a:lnTo>
                <a:lnTo>
                  <a:pt x="401" y="341"/>
                </a:lnTo>
                <a:lnTo>
                  <a:pt x="370" y="366"/>
                </a:lnTo>
                <a:lnTo>
                  <a:pt x="339" y="391"/>
                </a:lnTo>
                <a:lnTo>
                  <a:pt x="307" y="414"/>
                </a:lnTo>
                <a:lnTo>
                  <a:pt x="274" y="437"/>
                </a:lnTo>
                <a:lnTo>
                  <a:pt x="238" y="458"/>
                </a:lnTo>
                <a:lnTo>
                  <a:pt x="203" y="481"/>
                </a:lnTo>
                <a:lnTo>
                  <a:pt x="167" y="502"/>
                </a:lnTo>
                <a:lnTo>
                  <a:pt x="147" y="516"/>
                </a:lnTo>
                <a:lnTo>
                  <a:pt x="130" y="527"/>
                </a:lnTo>
                <a:lnTo>
                  <a:pt x="115" y="537"/>
                </a:lnTo>
                <a:lnTo>
                  <a:pt x="99" y="547"/>
                </a:lnTo>
                <a:lnTo>
                  <a:pt x="86" y="554"/>
                </a:lnTo>
                <a:lnTo>
                  <a:pt x="72" y="560"/>
                </a:lnTo>
                <a:lnTo>
                  <a:pt x="61" y="566"/>
                </a:lnTo>
                <a:lnTo>
                  <a:pt x="51" y="571"/>
                </a:lnTo>
                <a:lnTo>
                  <a:pt x="42" y="575"/>
                </a:lnTo>
                <a:lnTo>
                  <a:pt x="34" y="577"/>
                </a:lnTo>
                <a:lnTo>
                  <a:pt x="26" y="579"/>
                </a:lnTo>
                <a:lnTo>
                  <a:pt x="19" y="579"/>
                </a:lnTo>
                <a:lnTo>
                  <a:pt x="13" y="579"/>
                </a:lnTo>
                <a:lnTo>
                  <a:pt x="9" y="577"/>
                </a:lnTo>
                <a:lnTo>
                  <a:pt x="5" y="577"/>
                </a:lnTo>
                <a:lnTo>
                  <a:pt x="3" y="573"/>
                </a:lnTo>
                <a:lnTo>
                  <a:pt x="1" y="571"/>
                </a:lnTo>
                <a:lnTo>
                  <a:pt x="0" y="568"/>
                </a:lnTo>
                <a:lnTo>
                  <a:pt x="0" y="562"/>
                </a:lnTo>
                <a:lnTo>
                  <a:pt x="1" y="558"/>
                </a:lnTo>
                <a:lnTo>
                  <a:pt x="3" y="550"/>
                </a:lnTo>
                <a:lnTo>
                  <a:pt x="5" y="545"/>
                </a:lnTo>
                <a:lnTo>
                  <a:pt x="9" y="537"/>
                </a:lnTo>
                <a:lnTo>
                  <a:pt x="15" y="527"/>
                </a:lnTo>
                <a:lnTo>
                  <a:pt x="23" y="518"/>
                </a:lnTo>
                <a:lnTo>
                  <a:pt x="30" y="506"/>
                </a:lnTo>
                <a:lnTo>
                  <a:pt x="38" y="495"/>
                </a:lnTo>
                <a:lnTo>
                  <a:pt x="49" y="481"/>
                </a:lnTo>
                <a:lnTo>
                  <a:pt x="61" y="468"/>
                </a:lnTo>
                <a:lnTo>
                  <a:pt x="72" y="451"/>
                </a:lnTo>
                <a:lnTo>
                  <a:pt x="88" y="435"/>
                </a:lnTo>
                <a:lnTo>
                  <a:pt x="103" y="4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128"/>
          <p:cNvSpPr/>
          <p:nvPr/>
        </p:nvSpPr>
        <p:spPr>
          <a:xfrm>
            <a:off x="6432480" y="2773440"/>
            <a:ext cx="987480" cy="307800"/>
          </a:xfrm>
          <a:custGeom>
            <a:avLst/>
            <a:gdLst/>
            <a:ahLst/>
            <a:rect l="l" t="t" r="r" b="b"/>
            <a:pathLst>
              <a:path w="1244" h="388">
                <a:moveTo>
                  <a:pt x="453" y="157"/>
                </a:moveTo>
                <a:lnTo>
                  <a:pt x="483" y="148"/>
                </a:lnTo>
                <a:lnTo>
                  <a:pt x="512" y="138"/>
                </a:lnTo>
                <a:lnTo>
                  <a:pt x="541" y="130"/>
                </a:lnTo>
                <a:lnTo>
                  <a:pt x="568" y="121"/>
                </a:lnTo>
                <a:lnTo>
                  <a:pt x="597" y="113"/>
                </a:lnTo>
                <a:lnTo>
                  <a:pt x="622" y="105"/>
                </a:lnTo>
                <a:lnTo>
                  <a:pt x="649" y="98"/>
                </a:lnTo>
                <a:lnTo>
                  <a:pt x="673" y="90"/>
                </a:lnTo>
                <a:lnTo>
                  <a:pt x="698" y="82"/>
                </a:lnTo>
                <a:lnTo>
                  <a:pt x="721" y="75"/>
                </a:lnTo>
                <a:lnTo>
                  <a:pt x="744" y="69"/>
                </a:lnTo>
                <a:lnTo>
                  <a:pt x="766" y="63"/>
                </a:lnTo>
                <a:lnTo>
                  <a:pt x="787" y="56"/>
                </a:lnTo>
                <a:lnTo>
                  <a:pt x="808" y="50"/>
                </a:lnTo>
                <a:lnTo>
                  <a:pt x="827" y="46"/>
                </a:lnTo>
                <a:lnTo>
                  <a:pt x="846" y="40"/>
                </a:lnTo>
                <a:lnTo>
                  <a:pt x="865" y="34"/>
                </a:lnTo>
                <a:lnTo>
                  <a:pt x="883" y="31"/>
                </a:lnTo>
                <a:lnTo>
                  <a:pt x="898" y="27"/>
                </a:lnTo>
                <a:lnTo>
                  <a:pt x="915" y="23"/>
                </a:lnTo>
                <a:lnTo>
                  <a:pt x="929" y="19"/>
                </a:lnTo>
                <a:lnTo>
                  <a:pt x="944" y="15"/>
                </a:lnTo>
                <a:lnTo>
                  <a:pt x="958" y="13"/>
                </a:lnTo>
                <a:lnTo>
                  <a:pt x="971" y="9"/>
                </a:lnTo>
                <a:lnTo>
                  <a:pt x="983" y="8"/>
                </a:lnTo>
                <a:lnTo>
                  <a:pt x="994" y="6"/>
                </a:lnTo>
                <a:lnTo>
                  <a:pt x="1004" y="4"/>
                </a:lnTo>
                <a:lnTo>
                  <a:pt x="1013" y="2"/>
                </a:lnTo>
                <a:lnTo>
                  <a:pt x="1021" y="2"/>
                </a:lnTo>
                <a:lnTo>
                  <a:pt x="1030" y="0"/>
                </a:lnTo>
                <a:lnTo>
                  <a:pt x="1036" y="0"/>
                </a:lnTo>
                <a:lnTo>
                  <a:pt x="1044" y="0"/>
                </a:lnTo>
                <a:lnTo>
                  <a:pt x="1065" y="0"/>
                </a:lnTo>
                <a:lnTo>
                  <a:pt x="1088" y="2"/>
                </a:lnTo>
                <a:lnTo>
                  <a:pt x="1109" y="6"/>
                </a:lnTo>
                <a:lnTo>
                  <a:pt x="1128" y="9"/>
                </a:lnTo>
                <a:lnTo>
                  <a:pt x="1146" y="15"/>
                </a:lnTo>
                <a:lnTo>
                  <a:pt x="1163" y="23"/>
                </a:lnTo>
                <a:lnTo>
                  <a:pt x="1178" y="32"/>
                </a:lnTo>
                <a:lnTo>
                  <a:pt x="1194" y="42"/>
                </a:lnTo>
                <a:lnTo>
                  <a:pt x="1201" y="48"/>
                </a:lnTo>
                <a:lnTo>
                  <a:pt x="1207" y="54"/>
                </a:lnTo>
                <a:lnTo>
                  <a:pt x="1213" y="57"/>
                </a:lnTo>
                <a:lnTo>
                  <a:pt x="1217" y="61"/>
                </a:lnTo>
                <a:lnTo>
                  <a:pt x="1222" y="65"/>
                </a:lnTo>
                <a:lnTo>
                  <a:pt x="1226" y="69"/>
                </a:lnTo>
                <a:lnTo>
                  <a:pt x="1232" y="77"/>
                </a:lnTo>
                <a:lnTo>
                  <a:pt x="1238" y="82"/>
                </a:lnTo>
                <a:lnTo>
                  <a:pt x="1242" y="90"/>
                </a:lnTo>
                <a:lnTo>
                  <a:pt x="1244" y="94"/>
                </a:lnTo>
                <a:lnTo>
                  <a:pt x="1244" y="100"/>
                </a:lnTo>
                <a:lnTo>
                  <a:pt x="1244" y="105"/>
                </a:lnTo>
                <a:lnTo>
                  <a:pt x="1242" y="109"/>
                </a:lnTo>
                <a:lnTo>
                  <a:pt x="1238" y="111"/>
                </a:lnTo>
                <a:lnTo>
                  <a:pt x="1232" y="115"/>
                </a:lnTo>
                <a:lnTo>
                  <a:pt x="1226" y="117"/>
                </a:lnTo>
                <a:lnTo>
                  <a:pt x="1222" y="119"/>
                </a:lnTo>
                <a:lnTo>
                  <a:pt x="1217" y="121"/>
                </a:lnTo>
                <a:lnTo>
                  <a:pt x="1213" y="123"/>
                </a:lnTo>
                <a:lnTo>
                  <a:pt x="1207" y="125"/>
                </a:lnTo>
                <a:lnTo>
                  <a:pt x="1201" y="127"/>
                </a:lnTo>
                <a:lnTo>
                  <a:pt x="1194" y="128"/>
                </a:lnTo>
                <a:lnTo>
                  <a:pt x="1190" y="130"/>
                </a:lnTo>
                <a:lnTo>
                  <a:pt x="1186" y="132"/>
                </a:lnTo>
                <a:lnTo>
                  <a:pt x="1180" y="134"/>
                </a:lnTo>
                <a:lnTo>
                  <a:pt x="1174" y="136"/>
                </a:lnTo>
                <a:lnTo>
                  <a:pt x="1167" y="138"/>
                </a:lnTo>
                <a:lnTo>
                  <a:pt x="1159" y="142"/>
                </a:lnTo>
                <a:lnTo>
                  <a:pt x="1151" y="144"/>
                </a:lnTo>
                <a:lnTo>
                  <a:pt x="1142" y="148"/>
                </a:lnTo>
                <a:lnTo>
                  <a:pt x="1132" y="150"/>
                </a:lnTo>
                <a:lnTo>
                  <a:pt x="1121" y="153"/>
                </a:lnTo>
                <a:lnTo>
                  <a:pt x="1109" y="157"/>
                </a:lnTo>
                <a:lnTo>
                  <a:pt x="1098" y="161"/>
                </a:lnTo>
                <a:lnTo>
                  <a:pt x="1084" y="165"/>
                </a:lnTo>
                <a:lnTo>
                  <a:pt x="1069" y="169"/>
                </a:lnTo>
                <a:lnTo>
                  <a:pt x="1055" y="175"/>
                </a:lnTo>
                <a:lnTo>
                  <a:pt x="1040" y="178"/>
                </a:lnTo>
                <a:lnTo>
                  <a:pt x="1023" y="184"/>
                </a:lnTo>
                <a:lnTo>
                  <a:pt x="1006" y="188"/>
                </a:lnTo>
                <a:lnTo>
                  <a:pt x="988" y="194"/>
                </a:lnTo>
                <a:lnTo>
                  <a:pt x="969" y="199"/>
                </a:lnTo>
                <a:lnTo>
                  <a:pt x="950" y="203"/>
                </a:lnTo>
                <a:lnTo>
                  <a:pt x="929" y="209"/>
                </a:lnTo>
                <a:lnTo>
                  <a:pt x="908" y="215"/>
                </a:lnTo>
                <a:lnTo>
                  <a:pt x="887" y="221"/>
                </a:lnTo>
                <a:lnTo>
                  <a:pt x="864" y="226"/>
                </a:lnTo>
                <a:lnTo>
                  <a:pt x="839" y="234"/>
                </a:lnTo>
                <a:lnTo>
                  <a:pt x="816" y="240"/>
                </a:lnTo>
                <a:lnTo>
                  <a:pt x="789" y="246"/>
                </a:lnTo>
                <a:lnTo>
                  <a:pt x="764" y="253"/>
                </a:lnTo>
                <a:lnTo>
                  <a:pt x="735" y="259"/>
                </a:lnTo>
                <a:lnTo>
                  <a:pt x="708" y="265"/>
                </a:lnTo>
                <a:lnTo>
                  <a:pt x="679" y="272"/>
                </a:lnTo>
                <a:lnTo>
                  <a:pt x="650" y="280"/>
                </a:lnTo>
                <a:lnTo>
                  <a:pt x="622" y="286"/>
                </a:lnTo>
                <a:lnTo>
                  <a:pt x="595" y="292"/>
                </a:lnTo>
                <a:lnTo>
                  <a:pt x="568" y="299"/>
                </a:lnTo>
                <a:lnTo>
                  <a:pt x="541" y="305"/>
                </a:lnTo>
                <a:lnTo>
                  <a:pt x="516" y="311"/>
                </a:lnTo>
                <a:lnTo>
                  <a:pt x="491" y="317"/>
                </a:lnTo>
                <a:lnTo>
                  <a:pt x="466" y="322"/>
                </a:lnTo>
                <a:lnTo>
                  <a:pt x="443" y="326"/>
                </a:lnTo>
                <a:lnTo>
                  <a:pt x="422" y="332"/>
                </a:lnTo>
                <a:lnTo>
                  <a:pt x="399" y="336"/>
                </a:lnTo>
                <a:lnTo>
                  <a:pt x="378" y="341"/>
                </a:lnTo>
                <a:lnTo>
                  <a:pt x="359" y="345"/>
                </a:lnTo>
                <a:lnTo>
                  <a:pt x="340" y="349"/>
                </a:lnTo>
                <a:lnTo>
                  <a:pt x="320" y="353"/>
                </a:lnTo>
                <a:lnTo>
                  <a:pt x="301" y="357"/>
                </a:lnTo>
                <a:lnTo>
                  <a:pt x="284" y="361"/>
                </a:lnTo>
                <a:lnTo>
                  <a:pt x="268" y="365"/>
                </a:lnTo>
                <a:lnTo>
                  <a:pt x="251" y="368"/>
                </a:lnTo>
                <a:lnTo>
                  <a:pt x="238" y="370"/>
                </a:lnTo>
                <a:lnTo>
                  <a:pt x="222" y="374"/>
                </a:lnTo>
                <a:lnTo>
                  <a:pt x="209" y="376"/>
                </a:lnTo>
                <a:lnTo>
                  <a:pt x="196" y="378"/>
                </a:lnTo>
                <a:lnTo>
                  <a:pt x="184" y="380"/>
                </a:lnTo>
                <a:lnTo>
                  <a:pt x="173" y="382"/>
                </a:lnTo>
                <a:lnTo>
                  <a:pt x="163" y="384"/>
                </a:lnTo>
                <a:lnTo>
                  <a:pt x="151" y="384"/>
                </a:lnTo>
                <a:lnTo>
                  <a:pt x="144" y="386"/>
                </a:lnTo>
                <a:lnTo>
                  <a:pt x="134" y="386"/>
                </a:lnTo>
                <a:lnTo>
                  <a:pt x="126" y="388"/>
                </a:lnTo>
                <a:lnTo>
                  <a:pt x="121" y="388"/>
                </a:lnTo>
                <a:lnTo>
                  <a:pt x="113" y="388"/>
                </a:lnTo>
                <a:lnTo>
                  <a:pt x="101" y="388"/>
                </a:lnTo>
                <a:lnTo>
                  <a:pt x="92" y="388"/>
                </a:lnTo>
                <a:lnTo>
                  <a:pt x="80" y="386"/>
                </a:lnTo>
                <a:lnTo>
                  <a:pt x="71" y="386"/>
                </a:lnTo>
                <a:lnTo>
                  <a:pt x="61" y="384"/>
                </a:lnTo>
                <a:lnTo>
                  <a:pt x="54" y="382"/>
                </a:lnTo>
                <a:lnTo>
                  <a:pt x="46" y="380"/>
                </a:lnTo>
                <a:lnTo>
                  <a:pt x="38" y="376"/>
                </a:lnTo>
                <a:lnTo>
                  <a:pt x="30" y="374"/>
                </a:lnTo>
                <a:lnTo>
                  <a:pt x="25" y="370"/>
                </a:lnTo>
                <a:lnTo>
                  <a:pt x="19" y="366"/>
                </a:lnTo>
                <a:lnTo>
                  <a:pt x="15" y="363"/>
                </a:lnTo>
                <a:lnTo>
                  <a:pt x="9" y="359"/>
                </a:lnTo>
                <a:lnTo>
                  <a:pt x="6" y="355"/>
                </a:lnTo>
                <a:lnTo>
                  <a:pt x="4" y="349"/>
                </a:lnTo>
                <a:lnTo>
                  <a:pt x="0" y="345"/>
                </a:lnTo>
                <a:lnTo>
                  <a:pt x="0" y="343"/>
                </a:lnTo>
                <a:lnTo>
                  <a:pt x="0" y="341"/>
                </a:lnTo>
                <a:lnTo>
                  <a:pt x="2" y="340"/>
                </a:lnTo>
                <a:lnTo>
                  <a:pt x="4" y="336"/>
                </a:lnTo>
                <a:lnTo>
                  <a:pt x="6" y="334"/>
                </a:lnTo>
                <a:lnTo>
                  <a:pt x="11" y="330"/>
                </a:lnTo>
                <a:lnTo>
                  <a:pt x="15" y="328"/>
                </a:lnTo>
                <a:lnTo>
                  <a:pt x="21" y="324"/>
                </a:lnTo>
                <a:lnTo>
                  <a:pt x="29" y="320"/>
                </a:lnTo>
                <a:lnTo>
                  <a:pt x="36" y="315"/>
                </a:lnTo>
                <a:lnTo>
                  <a:pt x="46" y="311"/>
                </a:lnTo>
                <a:lnTo>
                  <a:pt x="55" y="305"/>
                </a:lnTo>
                <a:lnTo>
                  <a:pt x="67" y="301"/>
                </a:lnTo>
                <a:lnTo>
                  <a:pt x="78" y="295"/>
                </a:lnTo>
                <a:lnTo>
                  <a:pt x="90" y="290"/>
                </a:lnTo>
                <a:lnTo>
                  <a:pt x="103" y="284"/>
                </a:lnTo>
                <a:lnTo>
                  <a:pt x="119" y="278"/>
                </a:lnTo>
                <a:lnTo>
                  <a:pt x="134" y="270"/>
                </a:lnTo>
                <a:lnTo>
                  <a:pt x="151" y="265"/>
                </a:lnTo>
                <a:lnTo>
                  <a:pt x="169" y="257"/>
                </a:lnTo>
                <a:lnTo>
                  <a:pt x="186" y="251"/>
                </a:lnTo>
                <a:lnTo>
                  <a:pt x="207" y="244"/>
                </a:lnTo>
                <a:lnTo>
                  <a:pt x="226" y="236"/>
                </a:lnTo>
                <a:lnTo>
                  <a:pt x="247" y="228"/>
                </a:lnTo>
                <a:lnTo>
                  <a:pt x="270" y="221"/>
                </a:lnTo>
                <a:lnTo>
                  <a:pt x="293" y="211"/>
                </a:lnTo>
                <a:lnTo>
                  <a:pt x="316" y="203"/>
                </a:lnTo>
                <a:lnTo>
                  <a:pt x="343" y="194"/>
                </a:lnTo>
                <a:lnTo>
                  <a:pt x="368" y="186"/>
                </a:lnTo>
                <a:lnTo>
                  <a:pt x="395" y="176"/>
                </a:lnTo>
                <a:lnTo>
                  <a:pt x="424" y="167"/>
                </a:lnTo>
                <a:lnTo>
                  <a:pt x="453" y="1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29"/>
          <p:cNvSpPr/>
          <p:nvPr/>
        </p:nvSpPr>
        <p:spPr>
          <a:xfrm>
            <a:off x="6672240" y="2397240"/>
            <a:ext cx="349200" cy="284040"/>
          </a:xfrm>
          <a:custGeom>
            <a:avLst/>
            <a:gdLst/>
            <a:ahLst/>
            <a:rect l="l" t="t" r="r" b="b"/>
            <a:pathLst>
              <a:path w="440" h="359">
                <a:moveTo>
                  <a:pt x="340" y="71"/>
                </a:moveTo>
                <a:lnTo>
                  <a:pt x="351" y="78"/>
                </a:lnTo>
                <a:lnTo>
                  <a:pt x="363" y="88"/>
                </a:lnTo>
                <a:lnTo>
                  <a:pt x="372" y="98"/>
                </a:lnTo>
                <a:lnTo>
                  <a:pt x="382" y="105"/>
                </a:lnTo>
                <a:lnTo>
                  <a:pt x="392" y="115"/>
                </a:lnTo>
                <a:lnTo>
                  <a:pt x="399" y="126"/>
                </a:lnTo>
                <a:lnTo>
                  <a:pt x="407" y="136"/>
                </a:lnTo>
                <a:lnTo>
                  <a:pt x="413" y="146"/>
                </a:lnTo>
                <a:lnTo>
                  <a:pt x="420" y="157"/>
                </a:lnTo>
                <a:lnTo>
                  <a:pt x="424" y="169"/>
                </a:lnTo>
                <a:lnTo>
                  <a:pt x="430" y="180"/>
                </a:lnTo>
                <a:lnTo>
                  <a:pt x="434" y="192"/>
                </a:lnTo>
                <a:lnTo>
                  <a:pt x="436" y="205"/>
                </a:lnTo>
                <a:lnTo>
                  <a:pt x="438" y="217"/>
                </a:lnTo>
                <a:lnTo>
                  <a:pt x="440" y="230"/>
                </a:lnTo>
                <a:lnTo>
                  <a:pt x="440" y="244"/>
                </a:lnTo>
                <a:lnTo>
                  <a:pt x="440" y="257"/>
                </a:lnTo>
                <a:lnTo>
                  <a:pt x="440" y="268"/>
                </a:lnTo>
                <a:lnTo>
                  <a:pt x="440" y="280"/>
                </a:lnTo>
                <a:lnTo>
                  <a:pt x="438" y="292"/>
                </a:lnTo>
                <a:lnTo>
                  <a:pt x="436" y="301"/>
                </a:lnTo>
                <a:lnTo>
                  <a:pt x="434" y="311"/>
                </a:lnTo>
                <a:lnTo>
                  <a:pt x="432" y="320"/>
                </a:lnTo>
                <a:lnTo>
                  <a:pt x="430" y="328"/>
                </a:lnTo>
                <a:lnTo>
                  <a:pt x="426" y="334"/>
                </a:lnTo>
                <a:lnTo>
                  <a:pt x="422" y="341"/>
                </a:lnTo>
                <a:lnTo>
                  <a:pt x="419" y="345"/>
                </a:lnTo>
                <a:lnTo>
                  <a:pt x="415" y="351"/>
                </a:lnTo>
                <a:lnTo>
                  <a:pt x="409" y="353"/>
                </a:lnTo>
                <a:lnTo>
                  <a:pt x="403" y="357"/>
                </a:lnTo>
                <a:lnTo>
                  <a:pt x="397" y="359"/>
                </a:lnTo>
                <a:lnTo>
                  <a:pt x="390" y="359"/>
                </a:lnTo>
                <a:lnTo>
                  <a:pt x="382" y="357"/>
                </a:lnTo>
                <a:lnTo>
                  <a:pt x="374" y="355"/>
                </a:lnTo>
                <a:lnTo>
                  <a:pt x="367" y="353"/>
                </a:lnTo>
                <a:lnTo>
                  <a:pt x="357" y="347"/>
                </a:lnTo>
                <a:lnTo>
                  <a:pt x="346" y="341"/>
                </a:lnTo>
                <a:lnTo>
                  <a:pt x="336" y="336"/>
                </a:lnTo>
                <a:lnTo>
                  <a:pt x="324" y="326"/>
                </a:lnTo>
                <a:lnTo>
                  <a:pt x="311" y="318"/>
                </a:lnTo>
                <a:lnTo>
                  <a:pt x="298" y="307"/>
                </a:lnTo>
                <a:lnTo>
                  <a:pt x="284" y="295"/>
                </a:lnTo>
                <a:lnTo>
                  <a:pt x="269" y="282"/>
                </a:lnTo>
                <a:lnTo>
                  <a:pt x="252" y="268"/>
                </a:lnTo>
                <a:lnTo>
                  <a:pt x="234" y="253"/>
                </a:lnTo>
                <a:lnTo>
                  <a:pt x="217" y="236"/>
                </a:lnTo>
                <a:lnTo>
                  <a:pt x="198" y="219"/>
                </a:lnTo>
                <a:lnTo>
                  <a:pt x="177" y="201"/>
                </a:lnTo>
                <a:lnTo>
                  <a:pt x="156" y="182"/>
                </a:lnTo>
                <a:lnTo>
                  <a:pt x="136" y="165"/>
                </a:lnTo>
                <a:lnTo>
                  <a:pt x="119" y="148"/>
                </a:lnTo>
                <a:lnTo>
                  <a:pt x="102" y="132"/>
                </a:lnTo>
                <a:lnTo>
                  <a:pt x="86" y="119"/>
                </a:lnTo>
                <a:lnTo>
                  <a:pt x="71" y="105"/>
                </a:lnTo>
                <a:lnTo>
                  <a:pt x="58" y="92"/>
                </a:lnTo>
                <a:lnTo>
                  <a:pt x="46" y="80"/>
                </a:lnTo>
                <a:lnTo>
                  <a:pt x="37" y="71"/>
                </a:lnTo>
                <a:lnTo>
                  <a:pt x="27" y="61"/>
                </a:lnTo>
                <a:lnTo>
                  <a:pt x="19" y="54"/>
                </a:lnTo>
                <a:lnTo>
                  <a:pt x="12" y="46"/>
                </a:lnTo>
                <a:lnTo>
                  <a:pt x="8" y="40"/>
                </a:lnTo>
                <a:lnTo>
                  <a:pt x="4" y="34"/>
                </a:lnTo>
                <a:lnTo>
                  <a:pt x="2" y="30"/>
                </a:lnTo>
                <a:lnTo>
                  <a:pt x="0" y="29"/>
                </a:lnTo>
                <a:lnTo>
                  <a:pt x="2" y="25"/>
                </a:lnTo>
                <a:lnTo>
                  <a:pt x="2" y="23"/>
                </a:lnTo>
                <a:lnTo>
                  <a:pt x="4" y="19"/>
                </a:lnTo>
                <a:lnTo>
                  <a:pt x="8" y="17"/>
                </a:lnTo>
                <a:lnTo>
                  <a:pt x="12" y="15"/>
                </a:lnTo>
                <a:lnTo>
                  <a:pt x="17" y="11"/>
                </a:lnTo>
                <a:lnTo>
                  <a:pt x="23" y="9"/>
                </a:lnTo>
                <a:lnTo>
                  <a:pt x="31" y="7"/>
                </a:lnTo>
                <a:lnTo>
                  <a:pt x="39" y="6"/>
                </a:lnTo>
                <a:lnTo>
                  <a:pt x="48" y="4"/>
                </a:lnTo>
                <a:lnTo>
                  <a:pt x="58" y="2"/>
                </a:lnTo>
                <a:lnTo>
                  <a:pt x="69" y="2"/>
                </a:lnTo>
                <a:lnTo>
                  <a:pt x="83" y="0"/>
                </a:lnTo>
                <a:lnTo>
                  <a:pt x="96" y="0"/>
                </a:lnTo>
                <a:lnTo>
                  <a:pt x="110" y="0"/>
                </a:lnTo>
                <a:lnTo>
                  <a:pt x="127" y="0"/>
                </a:lnTo>
                <a:lnTo>
                  <a:pt x="142" y="2"/>
                </a:lnTo>
                <a:lnTo>
                  <a:pt x="158" y="4"/>
                </a:lnTo>
                <a:lnTo>
                  <a:pt x="173" y="7"/>
                </a:lnTo>
                <a:lnTo>
                  <a:pt x="188" y="9"/>
                </a:lnTo>
                <a:lnTo>
                  <a:pt x="217" y="17"/>
                </a:lnTo>
                <a:lnTo>
                  <a:pt x="242" y="25"/>
                </a:lnTo>
                <a:lnTo>
                  <a:pt x="269" y="32"/>
                </a:lnTo>
                <a:lnTo>
                  <a:pt x="280" y="38"/>
                </a:lnTo>
                <a:lnTo>
                  <a:pt x="292" y="44"/>
                </a:lnTo>
                <a:lnTo>
                  <a:pt x="305" y="50"/>
                </a:lnTo>
                <a:lnTo>
                  <a:pt x="317" y="55"/>
                </a:lnTo>
                <a:lnTo>
                  <a:pt x="328" y="63"/>
                </a:lnTo>
                <a:lnTo>
                  <a:pt x="340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30"/>
          <p:cNvSpPr/>
          <p:nvPr/>
        </p:nvSpPr>
        <p:spPr>
          <a:xfrm>
            <a:off x="5616720" y="3160800"/>
            <a:ext cx="647640" cy="1244520"/>
          </a:xfrm>
          <a:custGeom>
            <a:avLst/>
            <a:gdLst/>
            <a:ahLst/>
            <a:rect l="l" t="t" r="r" b="b"/>
            <a:pathLst>
              <a:path w="816" h="1568">
                <a:moveTo>
                  <a:pt x="752" y="576"/>
                </a:moveTo>
                <a:lnTo>
                  <a:pt x="750" y="611"/>
                </a:lnTo>
                <a:lnTo>
                  <a:pt x="749" y="645"/>
                </a:lnTo>
                <a:lnTo>
                  <a:pt x="747" y="678"/>
                </a:lnTo>
                <a:lnTo>
                  <a:pt x="747" y="711"/>
                </a:lnTo>
                <a:lnTo>
                  <a:pt x="745" y="743"/>
                </a:lnTo>
                <a:lnTo>
                  <a:pt x="745" y="774"/>
                </a:lnTo>
                <a:lnTo>
                  <a:pt x="743" y="805"/>
                </a:lnTo>
                <a:lnTo>
                  <a:pt x="743" y="835"/>
                </a:lnTo>
                <a:lnTo>
                  <a:pt x="743" y="864"/>
                </a:lnTo>
                <a:lnTo>
                  <a:pt x="745" y="893"/>
                </a:lnTo>
                <a:lnTo>
                  <a:pt x="745" y="920"/>
                </a:lnTo>
                <a:lnTo>
                  <a:pt x="747" y="949"/>
                </a:lnTo>
                <a:lnTo>
                  <a:pt x="747" y="973"/>
                </a:lnTo>
                <a:lnTo>
                  <a:pt x="749" y="1000"/>
                </a:lnTo>
                <a:lnTo>
                  <a:pt x="750" y="1025"/>
                </a:lnTo>
                <a:lnTo>
                  <a:pt x="752" y="1050"/>
                </a:lnTo>
                <a:lnTo>
                  <a:pt x="752" y="1077"/>
                </a:lnTo>
                <a:lnTo>
                  <a:pt x="752" y="1102"/>
                </a:lnTo>
                <a:lnTo>
                  <a:pt x="752" y="1129"/>
                </a:lnTo>
                <a:lnTo>
                  <a:pt x="752" y="1154"/>
                </a:lnTo>
                <a:lnTo>
                  <a:pt x="752" y="1177"/>
                </a:lnTo>
                <a:lnTo>
                  <a:pt x="752" y="1200"/>
                </a:lnTo>
                <a:lnTo>
                  <a:pt x="752" y="1223"/>
                </a:lnTo>
                <a:lnTo>
                  <a:pt x="750" y="1246"/>
                </a:lnTo>
                <a:lnTo>
                  <a:pt x="750" y="1269"/>
                </a:lnTo>
                <a:lnTo>
                  <a:pt x="750" y="1290"/>
                </a:lnTo>
                <a:lnTo>
                  <a:pt x="749" y="1330"/>
                </a:lnTo>
                <a:lnTo>
                  <a:pt x="745" y="1371"/>
                </a:lnTo>
                <a:lnTo>
                  <a:pt x="741" y="1409"/>
                </a:lnTo>
                <a:lnTo>
                  <a:pt x="739" y="1428"/>
                </a:lnTo>
                <a:lnTo>
                  <a:pt x="735" y="1446"/>
                </a:lnTo>
                <a:lnTo>
                  <a:pt x="733" y="1461"/>
                </a:lnTo>
                <a:lnTo>
                  <a:pt x="731" y="1476"/>
                </a:lnTo>
                <a:lnTo>
                  <a:pt x="727" y="1492"/>
                </a:lnTo>
                <a:lnTo>
                  <a:pt x="725" y="1503"/>
                </a:lnTo>
                <a:lnTo>
                  <a:pt x="724" y="1517"/>
                </a:lnTo>
                <a:lnTo>
                  <a:pt x="720" y="1526"/>
                </a:lnTo>
                <a:lnTo>
                  <a:pt x="716" y="1536"/>
                </a:lnTo>
                <a:lnTo>
                  <a:pt x="714" y="1544"/>
                </a:lnTo>
                <a:lnTo>
                  <a:pt x="710" y="1551"/>
                </a:lnTo>
                <a:lnTo>
                  <a:pt x="706" y="1557"/>
                </a:lnTo>
                <a:lnTo>
                  <a:pt x="702" y="1561"/>
                </a:lnTo>
                <a:lnTo>
                  <a:pt x="699" y="1565"/>
                </a:lnTo>
                <a:lnTo>
                  <a:pt x="695" y="1567"/>
                </a:lnTo>
                <a:lnTo>
                  <a:pt x="691" y="1568"/>
                </a:lnTo>
                <a:lnTo>
                  <a:pt x="685" y="1567"/>
                </a:lnTo>
                <a:lnTo>
                  <a:pt x="681" y="1567"/>
                </a:lnTo>
                <a:lnTo>
                  <a:pt x="676" y="1565"/>
                </a:lnTo>
                <a:lnTo>
                  <a:pt x="672" y="1563"/>
                </a:lnTo>
                <a:lnTo>
                  <a:pt x="666" y="1559"/>
                </a:lnTo>
                <a:lnTo>
                  <a:pt x="662" y="1555"/>
                </a:lnTo>
                <a:lnTo>
                  <a:pt x="656" y="1549"/>
                </a:lnTo>
                <a:lnTo>
                  <a:pt x="653" y="1544"/>
                </a:lnTo>
                <a:lnTo>
                  <a:pt x="647" y="1538"/>
                </a:lnTo>
                <a:lnTo>
                  <a:pt x="643" y="1530"/>
                </a:lnTo>
                <a:lnTo>
                  <a:pt x="639" y="1522"/>
                </a:lnTo>
                <a:lnTo>
                  <a:pt x="633" y="1513"/>
                </a:lnTo>
                <a:lnTo>
                  <a:pt x="630" y="1503"/>
                </a:lnTo>
                <a:lnTo>
                  <a:pt x="624" y="1492"/>
                </a:lnTo>
                <a:lnTo>
                  <a:pt x="620" y="1480"/>
                </a:lnTo>
                <a:lnTo>
                  <a:pt x="614" y="1467"/>
                </a:lnTo>
                <a:lnTo>
                  <a:pt x="608" y="1455"/>
                </a:lnTo>
                <a:lnTo>
                  <a:pt x="603" y="1442"/>
                </a:lnTo>
                <a:lnTo>
                  <a:pt x="597" y="1426"/>
                </a:lnTo>
                <a:lnTo>
                  <a:pt x="593" y="1411"/>
                </a:lnTo>
                <a:lnTo>
                  <a:pt x="589" y="1392"/>
                </a:lnTo>
                <a:lnTo>
                  <a:pt x="587" y="1371"/>
                </a:lnTo>
                <a:lnTo>
                  <a:pt x="585" y="1350"/>
                </a:lnTo>
                <a:lnTo>
                  <a:pt x="583" y="1325"/>
                </a:lnTo>
                <a:lnTo>
                  <a:pt x="583" y="1300"/>
                </a:lnTo>
                <a:lnTo>
                  <a:pt x="582" y="1271"/>
                </a:lnTo>
                <a:lnTo>
                  <a:pt x="583" y="1242"/>
                </a:lnTo>
                <a:lnTo>
                  <a:pt x="583" y="1227"/>
                </a:lnTo>
                <a:lnTo>
                  <a:pt x="583" y="1210"/>
                </a:lnTo>
                <a:lnTo>
                  <a:pt x="583" y="1194"/>
                </a:lnTo>
                <a:lnTo>
                  <a:pt x="583" y="1177"/>
                </a:lnTo>
                <a:lnTo>
                  <a:pt x="585" y="1160"/>
                </a:lnTo>
                <a:lnTo>
                  <a:pt x="585" y="1142"/>
                </a:lnTo>
                <a:lnTo>
                  <a:pt x="587" y="1123"/>
                </a:lnTo>
                <a:lnTo>
                  <a:pt x="587" y="1104"/>
                </a:lnTo>
                <a:lnTo>
                  <a:pt x="589" y="1085"/>
                </a:lnTo>
                <a:lnTo>
                  <a:pt x="589" y="1066"/>
                </a:lnTo>
                <a:lnTo>
                  <a:pt x="593" y="991"/>
                </a:lnTo>
                <a:lnTo>
                  <a:pt x="597" y="916"/>
                </a:lnTo>
                <a:lnTo>
                  <a:pt x="599" y="843"/>
                </a:lnTo>
                <a:lnTo>
                  <a:pt x="601" y="772"/>
                </a:lnTo>
                <a:lnTo>
                  <a:pt x="601" y="701"/>
                </a:lnTo>
                <a:lnTo>
                  <a:pt x="603" y="630"/>
                </a:lnTo>
                <a:lnTo>
                  <a:pt x="603" y="490"/>
                </a:lnTo>
                <a:lnTo>
                  <a:pt x="603" y="459"/>
                </a:lnTo>
                <a:lnTo>
                  <a:pt x="601" y="428"/>
                </a:lnTo>
                <a:lnTo>
                  <a:pt x="601" y="400"/>
                </a:lnTo>
                <a:lnTo>
                  <a:pt x="601" y="375"/>
                </a:lnTo>
                <a:lnTo>
                  <a:pt x="599" y="350"/>
                </a:lnTo>
                <a:lnTo>
                  <a:pt x="597" y="327"/>
                </a:lnTo>
                <a:lnTo>
                  <a:pt x="597" y="306"/>
                </a:lnTo>
                <a:lnTo>
                  <a:pt x="595" y="284"/>
                </a:lnTo>
                <a:lnTo>
                  <a:pt x="593" y="267"/>
                </a:lnTo>
                <a:lnTo>
                  <a:pt x="591" y="250"/>
                </a:lnTo>
                <a:lnTo>
                  <a:pt x="589" y="236"/>
                </a:lnTo>
                <a:lnTo>
                  <a:pt x="585" y="223"/>
                </a:lnTo>
                <a:lnTo>
                  <a:pt x="583" y="211"/>
                </a:lnTo>
                <a:lnTo>
                  <a:pt x="582" y="202"/>
                </a:lnTo>
                <a:lnTo>
                  <a:pt x="580" y="194"/>
                </a:lnTo>
                <a:lnTo>
                  <a:pt x="578" y="188"/>
                </a:lnTo>
                <a:lnTo>
                  <a:pt x="572" y="185"/>
                </a:lnTo>
                <a:lnTo>
                  <a:pt x="566" y="183"/>
                </a:lnTo>
                <a:lnTo>
                  <a:pt x="559" y="181"/>
                </a:lnTo>
                <a:lnTo>
                  <a:pt x="549" y="179"/>
                </a:lnTo>
                <a:lnTo>
                  <a:pt x="539" y="179"/>
                </a:lnTo>
                <a:lnTo>
                  <a:pt x="528" y="177"/>
                </a:lnTo>
                <a:lnTo>
                  <a:pt x="514" y="177"/>
                </a:lnTo>
                <a:lnTo>
                  <a:pt x="501" y="177"/>
                </a:lnTo>
                <a:lnTo>
                  <a:pt x="486" y="177"/>
                </a:lnTo>
                <a:lnTo>
                  <a:pt x="468" y="177"/>
                </a:lnTo>
                <a:lnTo>
                  <a:pt x="449" y="179"/>
                </a:lnTo>
                <a:lnTo>
                  <a:pt x="430" y="179"/>
                </a:lnTo>
                <a:lnTo>
                  <a:pt x="409" y="181"/>
                </a:lnTo>
                <a:lnTo>
                  <a:pt x="388" y="183"/>
                </a:lnTo>
                <a:lnTo>
                  <a:pt x="363" y="185"/>
                </a:lnTo>
                <a:lnTo>
                  <a:pt x="338" y="188"/>
                </a:lnTo>
                <a:lnTo>
                  <a:pt x="313" y="194"/>
                </a:lnTo>
                <a:lnTo>
                  <a:pt x="288" y="198"/>
                </a:lnTo>
                <a:lnTo>
                  <a:pt x="263" y="204"/>
                </a:lnTo>
                <a:lnTo>
                  <a:pt x="240" y="208"/>
                </a:lnTo>
                <a:lnTo>
                  <a:pt x="217" y="211"/>
                </a:lnTo>
                <a:lnTo>
                  <a:pt x="194" y="215"/>
                </a:lnTo>
                <a:lnTo>
                  <a:pt x="171" y="217"/>
                </a:lnTo>
                <a:lnTo>
                  <a:pt x="150" y="221"/>
                </a:lnTo>
                <a:lnTo>
                  <a:pt x="129" y="223"/>
                </a:lnTo>
                <a:lnTo>
                  <a:pt x="109" y="225"/>
                </a:lnTo>
                <a:lnTo>
                  <a:pt x="88" y="227"/>
                </a:lnTo>
                <a:lnTo>
                  <a:pt x="69" y="229"/>
                </a:lnTo>
                <a:lnTo>
                  <a:pt x="52" y="231"/>
                </a:lnTo>
                <a:lnTo>
                  <a:pt x="33" y="231"/>
                </a:lnTo>
                <a:lnTo>
                  <a:pt x="15" y="231"/>
                </a:lnTo>
                <a:lnTo>
                  <a:pt x="0" y="231"/>
                </a:lnTo>
                <a:lnTo>
                  <a:pt x="0" y="116"/>
                </a:lnTo>
                <a:lnTo>
                  <a:pt x="27" y="114"/>
                </a:lnTo>
                <a:lnTo>
                  <a:pt x="54" y="110"/>
                </a:lnTo>
                <a:lnTo>
                  <a:pt x="81" y="108"/>
                </a:lnTo>
                <a:lnTo>
                  <a:pt x="106" y="106"/>
                </a:lnTo>
                <a:lnTo>
                  <a:pt x="130" y="102"/>
                </a:lnTo>
                <a:lnTo>
                  <a:pt x="154" y="100"/>
                </a:lnTo>
                <a:lnTo>
                  <a:pt x="177" y="96"/>
                </a:lnTo>
                <a:lnTo>
                  <a:pt x="198" y="94"/>
                </a:lnTo>
                <a:lnTo>
                  <a:pt x="221" y="92"/>
                </a:lnTo>
                <a:lnTo>
                  <a:pt x="240" y="89"/>
                </a:lnTo>
                <a:lnTo>
                  <a:pt x="261" y="87"/>
                </a:lnTo>
                <a:lnTo>
                  <a:pt x="280" y="83"/>
                </a:lnTo>
                <a:lnTo>
                  <a:pt x="299" y="81"/>
                </a:lnTo>
                <a:lnTo>
                  <a:pt x="317" y="79"/>
                </a:lnTo>
                <a:lnTo>
                  <a:pt x="334" y="75"/>
                </a:lnTo>
                <a:lnTo>
                  <a:pt x="351" y="73"/>
                </a:lnTo>
                <a:lnTo>
                  <a:pt x="367" y="69"/>
                </a:lnTo>
                <a:lnTo>
                  <a:pt x="382" y="68"/>
                </a:lnTo>
                <a:lnTo>
                  <a:pt x="397" y="66"/>
                </a:lnTo>
                <a:lnTo>
                  <a:pt x="411" y="62"/>
                </a:lnTo>
                <a:lnTo>
                  <a:pt x="422" y="60"/>
                </a:lnTo>
                <a:lnTo>
                  <a:pt x="434" y="56"/>
                </a:lnTo>
                <a:lnTo>
                  <a:pt x="445" y="54"/>
                </a:lnTo>
                <a:lnTo>
                  <a:pt x="455" y="52"/>
                </a:lnTo>
                <a:lnTo>
                  <a:pt x="464" y="48"/>
                </a:lnTo>
                <a:lnTo>
                  <a:pt x="472" y="46"/>
                </a:lnTo>
                <a:lnTo>
                  <a:pt x="480" y="43"/>
                </a:lnTo>
                <a:lnTo>
                  <a:pt x="486" y="41"/>
                </a:lnTo>
                <a:lnTo>
                  <a:pt x="491" y="39"/>
                </a:lnTo>
                <a:lnTo>
                  <a:pt x="495" y="35"/>
                </a:lnTo>
                <a:lnTo>
                  <a:pt x="499" y="33"/>
                </a:lnTo>
                <a:lnTo>
                  <a:pt x="501" y="29"/>
                </a:lnTo>
                <a:lnTo>
                  <a:pt x="507" y="23"/>
                </a:lnTo>
                <a:lnTo>
                  <a:pt x="512" y="20"/>
                </a:lnTo>
                <a:lnTo>
                  <a:pt x="520" y="14"/>
                </a:lnTo>
                <a:lnTo>
                  <a:pt x="530" y="10"/>
                </a:lnTo>
                <a:lnTo>
                  <a:pt x="539" y="6"/>
                </a:lnTo>
                <a:lnTo>
                  <a:pt x="551" y="4"/>
                </a:lnTo>
                <a:lnTo>
                  <a:pt x="564" y="2"/>
                </a:lnTo>
                <a:lnTo>
                  <a:pt x="578" y="0"/>
                </a:lnTo>
                <a:lnTo>
                  <a:pt x="591" y="6"/>
                </a:lnTo>
                <a:lnTo>
                  <a:pt x="608" y="12"/>
                </a:lnTo>
                <a:lnTo>
                  <a:pt x="626" y="20"/>
                </a:lnTo>
                <a:lnTo>
                  <a:pt x="643" y="25"/>
                </a:lnTo>
                <a:lnTo>
                  <a:pt x="662" y="35"/>
                </a:lnTo>
                <a:lnTo>
                  <a:pt x="674" y="41"/>
                </a:lnTo>
                <a:lnTo>
                  <a:pt x="683" y="45"/>
                </a:lnTo>
                <a:lnTo>
                  <a:pt x="695" y="52"/>
                </a:lnTo>
                <a:lnTo>
                  <a:pt x="704" y="58"/>
                </a:lnTo>
                <a:lnTo>
                  <a:pt x="716" y="66"/>
                </a:lnTo>
                <a:lnTo>
                  <a:pt x="727" y="73"/>
                </a:lnTo>
                <a:lnTo>
                  <a:pt x="739" y="81"/>
                </a:lnTo>
                <a:lnTo>
                  <a:pt x="750" y="89"/>
                </a:lnTo>
                <a:lnTo>
                  <a:pt x="760" y="96"/>
                </a:lnTo>
                <a:lnTo>
                  <a:pt x="768" y="106"/>
                </a:lnTo>
                <a:lnTo>
                  <a:pt x="775" y="114"/>
                </a:lnTo>
                <a:lnTo>
                  <a:pt x="783" y="119"/>
                </a:lnTo>
                <a:lnTo>
                  <a:pt x="789" y="127"/>
                </a:lnTo>
                <a:lnTo>
                  <a:pt x="795" y="135"/>
                </a:lnTo>
                <a:lnTo>
                  <a:pt x="800" y="140"/>
                </a:lnTo>
                <a:lnTo>
                  <a:pt x="804" y="146"/>
                </a:lnTo>
                <a:lnTo>
                  <a:pt x="808" y="152"/>
                </a:lnTo>
                <a:lnTo>
                  <a:pt x="810" y="158"/>
                </a:lnTo>
                <a:lnTo>
                  <a:pt x="814" y="164"/>
                </a:lnTo>
                <a:lnTo>
                  <a:pt x="814" y="167"/>
                </a:lnTo>
                <a:lnTo>
                  <a:pt x="816" y="171"/>
                </a:lnTo>
                <a:lnTo>
                  <a:pt x="816" y="173"/>
                </a:lnTo>
                <a:lnTo>
                  <a:pt x="816" y="194"/>
                </a:lnTo>
                <a:lnTo>
                  <a:pt x="816" y="206"/>
                </a:lnTo>
                <a:lnTo>
                  <a:pt x="814" y="215"/>
                </a:lnTo>
                <a:lnTo>
                  <a:pt x="812" y="223"/>
                </a:lnTo>
                <a:lnTo>
                  <a:pt x="810" y="233"/>
                </a:lnTo>
                <a:lnTo>
                  <a:pt x="808" y="240"/>
                </a:lnTo>
                <a:lnTo>
                  <a:pt x="804" y="246"/>
                </a:lnTo>
                <a:lnTo>
                  <a:pt x="802" y="248"/>
                </a:lnTo>
                <a:lnTo>
                  <a:pt x="800" y="252"/>
                </a:lnTo>
                <a:lnTo>
                  <a:pt x="800" y="256"/>
                </a:lnTo>
                <a:lnTo>
                  <a:pt x="798" y="259"/>
                </a:lnTo>
                <a:lnTo>
                  <a:pt x="797" y="265"/>
                </a:lnTo>
                <a:lnTo>
                  <a:pt x="795" y="271"/>
                </a:lnTo>
                <a:lnTo>
                  <a:pt x="793" y="277"/>
                </a:lnTo>
                <a:lnTo>
                  <a:pt x="793" y="283"/>
                </a:lnTo>
                <a:lnTo>
                  <a:pt x="791" y="290"/>
                </a:lnTo>
                <a:lnTo>
                  <a:pt x="789" y="298"/>
                </a:lnTo>
                <a:lnTo>
                  <a:pt x="785" y="313"/>
                </a:lnTo>
                <a:lnTo>
                  <a:pt x="781" y="332"/>
                </a:lnTo>
                <a:lnTo>
                  <a:pt x="777" y="352"/>
                </a:lnTo>
                <a:lnTo>
                  <a:pt x="775" y="373"/>
                </a:lnTo>
                <a:lnTo>
                  <a:pt x="772" y="398"/>
                </a:lnTo>
                <a:lnTo>
                  <a:pt x="768" y="423"/>
                </a:lnTo>
                <a:lnTo>
                  <a:pt x="764" y="449"/>
                </a:lnTo>
                <a:lnTo>
                  <a:pt x="762" y="478"/>
                </a:lnTo>
                <a:lnTo>
                  <a:pt x="758" y="509"/>
                </a:lnTo>
                <a:lnTo>
                  <a:pt x="756" y="542"/>
                </a:lnTo>
                <a:lnTo>
                  <a:pt x="752" y="5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131"/>
          <p:cNvSpPr/>
          <p:nvPr/>
        </p:nvSpPr>
        <p:spPr>
          <a:xfrm>
            <a:off x="5635800" y="4108320"/>
            <a:ext cx="479160" cy="136800"/>
          </a:xfrm>
          <a:custGeom>
            <a:avLst/>
            <a:gdLst/>
            <a:ahLst/>
            <a:rect l="l" t="t" r="r" b="b"/>
            <a:pathLst>
              <a:path w="603" h="173">
                <a:moveTo>
                  <a:pt x="0" y="58"/>
                </a:moveTo>
                <a:lnTo>
                  <a:pt x="8" y="54"/>
                </a:lnTo>
                <a:lnTo>
                  <a:pt x="15" y="52"/>
                </a:lnTo>
                <a:lnTo>
                  <a:pt x="23" y="50"/>
                </a:lnTo>
                <a:lnTo>
                  <a:pt x="33" y="46"/>
                </a:lnTo>
                <a:lnTo>
                  <a:pt x="52" y="41"/>
                </a:lnTo>
                <a:lnTo>
                  <a:pt x="71" y="37"/>
                </a:lnTo>
                <a:lnTo>
                  <a:pt x="94" y="31"/>
                </a:lnTo>
                <a:lnTo>
                  <a:pt x="115" y="25"/>
                </a:lnTo>
                <a:lnTo>
                  <a:pt x="140" y="19"/>
                </a:lnTo>
                <a:lnTo>
                  <a:pt x="163" y="16"/>
                </a:lnTo>
                <a:lnTo>
                  <a:pt x="169" y="14"/>
                </a:lnTo>
                <a:lnTo>
                  <a:pt x="175" y="12"/>
                </a:lnTo>
                <a:lnTo>
                  <a:pt x="182" y="12"/>
                </a:lnTo>
                <a:lnTo>
                  <a:pt x="190" y="10"/>
                </a:lnTo>
                <a:lnTo>
                  <a:pt x="198" y="8"/>
                </a:lnTo>
                <a:lnTo>
                  <a:pt x="207" y="8"/>
                </a:lnTo>
                <a:lnTo>
                  <a:pt x="217" y="6"/>
                </a:lnTo>
                <a:lnTo>
                  <a:pt x="226" y="6"/>
                </a:lnTo>
                <a:lnTo>
                  <a:pt x="236" y="6"/>
                </a:lnTo>
                <a:lnTo>
                  <a:pt x="248" y="4"/>
                </a:lnTo>
                <a:lnTo>
                  <a:pt x="257" y="4"/>
                </a:lnTo>
                <a:lnTo>
                  <a:pt x="271" y="4"/>
                </a:lnTo>
                <a:lnTo>
                  <a:pt x="282" y="2"/>
                </a:lnTo>
                <a:lnTo>
                  <a:pt x="294" y="2"/>
                </a:lnTo>
                <a:lnTo>
                  <a:pt x="307" y="2"/>
                </a:lnTo>
                <a:lnTo>
                  <a:pt x="320" y="2"/>
                </a:lnTo>
                <a:lnTo>
                  <a:pt x="349" y="2"/>
                </a:lnTo>
                <a:lnTo>
                  <a:pt x="380" y="0"/>
                </a:lnTo>
                <a:lnTo>
                  <a:pt x="413" y="0"/>
                </a:lnTo>
                <a:lnTo>
                  <a:pt x="447" y="0"/>
                </a:lnTo>
                <a:lnTo>
                  <a:pt x="484" y="0"/>
                </a:lnTo>
                <a:lnTo>
                  <a:pt x="520" y="0"/>
                </a:lnTo>
                <a:lnTo>
                  <a:pt x="560" y="0"/>
                </a:lnTo>
                <a:lnTo>
                  <a:pt x="603" y="0"/>
                </a:lnTo>
                <a:lnTo>
                  <a:pt x="603" y="65"/>
                </a:lnTo>
                <a:lnTo>
                  <a:pt x="603" y="129"/>
                </a:lnTo>
                <a:lnTo>
                  <a:pt x="451" y="140"/>
                </a:lnTo>
                <a:lnTo>
                  <a:pt x="301" y="152"/>
                </a:lnTo>
                <a:lnTo>
                  <a:pt x="150" y="161"/>
                </a:lnTo>
                <a:lnTo>
                  <a:pt x="0" y="173"/>
                </a:lnTo>
                <a:lnTo>
                  <a:pt x="0" y="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32"/>
          <p:cNvSpPr/>
          <p:nvPr/>
        </p:nvSpPr>
        <p:spPr>
          <a:xfrm>
            <a:off x="5635800" y="3618000"/>
            <a:ext cx="357120" cy="147600"/>
          </a:xfrm>
          <a:custGeom>
            <a:avLst/>
            <a:gdLst/>
            <a:ahLst/>
            <a:rect l="l" t="t" r="r" b="b"/>
            <a:pathLst>
              <a:path w="449" h="186">
                <a:moveTo>
                  <a:pt x="201" y="42"/>
                </a:moveTo>
                <a:lnTo>
                  <a:pt x="223" y="33"/>
                </a:lnTo>
                <a:lnTo>
                  <a:pt x="246" y="23"/>
                </a:lnTo>
                <a:lnTo>
                  <a:pt x="265" y="17"/>
                </a:lnTo>
                <a:lnTo>
                  <a:pt x="286" y="10"/>
                </a:lnTo>
                <a:lnTo>
                  <a:pt x="303" y="6"/>
                </a:lnTo>
                <a:lnTo>
                  <a:pt x="320" y="2"/>
                </a:lnTo>
                <a:lnTo>
                  <a:pt x="336" y="0"/>
                </a:lnTo>
                <a:lnTo>
                  <a:pt x="351" y="0"/>
                </a:lnTo>
                <a:lnTo>
                  <a:pt x="365" y="0"/>
                </a:lnTo>
                <a:lnTo>
                  <a:pt x="378" y="2"/>
                </a:lnTo>
                <a:lnTo>
                  <a:pt x="390" y="6"/>
                </a:lnTo>
                <a:lnTo>
                  <a:pt x="399" y="10"/>
                </a:lnTo>
                <a:lnTo>
                  <a:pt x="411" y="14"/>
                </a:lnTo>
                <a:lnTo>
                  <a:pt x="420" y="17"/>
                </a:lnTo>
                <a:lnTo>
                  <a:pt x="439" y="29"/>
                </a:lnTo>
                <a:lnTo>
                  <a:pt x="443" y="39"/>
                </a:lnTo>
                <a:lnTo>
                  <a:pt x="445" y="50"/>
                </a:lnTo>
                <a:lnTo>
                  <a:pt x="447" y="62"/>
                </a:lnTo>
                <a:lnTo>
                  <a:pt x="449" y="71"/>
                </a:lnTo>
                <a:lnTo>
                  <a:pt x="447" y="83"/>
                </a:lnTo>
                <a:lnTo>
                  <a:pt x="445" y="94"/>
                </a:lnTo>
                <a:lnTo>
                  <a:pt x="443" y="104"/>
                </a:lnTo>
                <a:lnTo>
                  <a:pt x="439" y="115"/>
                </a:lnTo>
                <a:lnTo>
                  <a:pt x="436" y="117"/>
                </a:lnTo>
                <a:lnTo>
                  <a:pt x="434" y="121"/>
                </a:lnTo>
                <a:lnTo>
                  <a:pt x="428" y="123"/>
                </a:lnTo>
                <a:lnTo>
                  <a:pt x="424" y="125"/>
                </a:lnTo>
                <a:lnTo>
                  <a:pt x="418" y="129"/>
                </a:lnTo>
                <a:lnTo>
                  <a:pt x="413" y="131"/>
                </a:lnTo>
                <a:lnTo>
                  <a:pt x="405" y="135"/>
                </a:lnTo>
                <a:lnTo>
                  <a:pt x="397" y="136"/>
                </a:lnTo>
                <a:lnTo>
                  <a:pt x="388" y="138"/>
                </a:lnTo>
                <a:lnTo>
                  <a:pt x="380" y="142"/>
                </a:lnTo>
                <a:lnTo>
                  <a:pt x="368" y="144"/>
                </a:lnTo>
                <a:lnTo>
                  <a:pt x="359" y="146"/>
                </a:lnTo>
                <a:lnTo>
                  <a:pt x="347" y="150"/>
                </a:lnTo>
                <a:lnTo>
                  <a:pt x="336" y="152"/>
                </a:lnTo>
                <a:lnTo>
                  <a:pt x="322" y="154"/>
                </a:lnTo>
                <a:lnTo>
                  <a:pt x="309" y="156"/>
                </a:lnTo>
                <a:lnTo>
                  <a:pt x="294" y="159"/>
                </a:lnTo>
                <a:lnTo>
                  <a:pt x="280" y="161"/>
                </a:lnTo>
                <a:lnTo>
                  <a:pt x="265" y="163"/>
                </a:lnTo>
                <a:lnTo>
                  <a:pt x="248" y="165"/>
                </a:lnTo>
                <a:lnTo>
                  <a:pt x="230" y="167"/>
                </a:lnTo>
                <a:lnTo>
                  <a:pt x="213" y="169"/>
                </a:lnTo>
                <a:lnTo>
                  <a:pt x="196" y="171"/>
                </a:lnTo>
                <a:lnTo>
                  <a:pt x="176" y="173"/>
                </a:lnTo>
                <a:lnTo>
                  <a:pt x="155" y="175"/>
                </a:lnTo>
                <a:lnTo>
                  <a:pt x="136" y="177"/>
                </a:lnTo>
                <a:lnTo>
                  <a:pt x="115" y="179"/>
                </a:lnTo>
                <a:lnTo>
                  <a:pt x="92" y="181"/>
                </a:lnTo>
                <a:lnTo>
                  <a:pt x="71" y="183"/>
                </a:lnTo>
                <a:lnTo>
                  <a:pt x="48" y="184"/>
                </a:lnTo>
                <a:lnTo>
                  <a:pt x="23" y="186"/>
                </a:lnTo>
                <a:lnTo>
                  <a:pt x="0" y="186"/>
                </a:lnTo>
                <a:lnTo>
                  <a:pt x="0" y="71"/>
                </a:lnTo>
                <a:lnTo>
                  <a:pt x="23" y="71"/>
                </a:lnTo>
                <a:lnTo>
                  <a:pt x="48" y="69"/>
                </a:lnTo>
                <a:lnTo>
                  <a:pt x="75" y="67"/>
                </a:lnTo>
                <a:lnTo>
                  <a:pt x="100" y="64"/>
                </a:lnTo>
                <a:lnTo>
                  <a:pt x="127" y="58"/>
                </a:lnTo>
                <a:lnTo>
                  <a:pt x="152" y="54"/>
                </a:lnTo>
                <a:lnTo>
                  <a:pt x="176" y="48"/>
                </a:lnTo>
                <a:lnTo>
                  <a:pt x="201" y="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33"/>
          <p:cNvSpPr/>
          <p:nvPr/>
        </p:nvSpPr>
        <p:spPr>
          <a:xfrm>
            <a:off x="5513400" y="3233880"/>
            <a:ext cx="173160" cy="1174680"/>
          </a:xfrm>
          <a:custGeom>
            <a:avLst/>
            <a:gdLst/>
            <a:ahLst/>
            <a:rect l="l" t="t" r="r" b="b"/>
            <a:pathLst>
              <a:path w="219" h="1480">
                <a:moveTo>
                  <a:pt x="18" y="125"/>
                </a:moveTo>
                <a:lnTo>
                  <a:pt x="12" y="104"/>
                </a:lnTo>
                <a:lnTo>
                  <a:pt x="8" y="85"/>
                </a:lnTo>
                <a:lnTo>
                  <a:pt x="4" y="68"/>
                </a:lnTo>
                <a:lnTo>
                  <a:pt x="2" y="58"/>
                </a:lnTo>
                <a:lnTo>
                  <a:pt x="2" y="50"/>
                </a:lnTo>
                <a:lnTo>
                  <a:pt x="0" y="45"/>
                </a:lnTo>
                <a:lnTo>
                  <a:pt x="0" y="37"/>
                </a:lnTo>
                <a:lnTo>
                  <a:pt x="0" y="31"/>
                </a:lnTo>
                <a:lnTo>
                  <a:pt x="0" y="25"/>
                </a:lnTo>
                <a:lnTo>
                  <a:pt x="0" y="22"/>
                </a:lnTo>
                <a:lnTo>
                  <a:pt x="0" y="16"/>
                </a:lnTo>
                <a:lnTo>
                  <a:pt x="2" y="12"/>
                </a:lnTo>
                <a:lnTo>
                  <a:pt x="4" y="10"/>
                </a:lnTo>
                <a:lnTo>
                  <a:pt x="6" y="6"/>
                </a:lnTo>
                <a:lnTo>
                  <a:pt x="8" y="4"/>
                </a:lnTo>
                <a:lnTo>
                  <a:pt x="12" y="2"/>
                </a:lnTo>
                <a:lnTo>
                  <a:pt x="20" y="2"/>
                </a:lnTo>
                <a:lnTo>
                  <a:pt x="27" y="0"/>
                </a:lnTo>
                <a:lnTo>
                  <a:pt x="35" y="0"/>
                </a:lnTo>
                <a:lnTo>
                  <a:pt x="47" y="0"/>
                </a:lnTo>
                <a:lnTo>
                  <a:pt x="60" y="0"/>
                </a:lnTo>
                <a:lnTo>
                  <a:pt x="73" y="0"/>
                </a:lnTo>
                <a:lnTo>
                  <a:pt x="91" y="2"/>
                </a:lnTo>
                <a:lnTo>
                  <a:pt x="108" y="4"/>
                </a:lnTo>
                <a:lnTo>
                  <a:pt x="127" y="8"/>
                </a:lnTo>
                <a:lnTo>
                  <a:pt x="148" y="10"/>
                </a:lnTo>
                <a:lnTo>
                  <a:pt x="169" y="14"/>
                </a:lnTo>
                <a:lnTo>
                  <a:pt x="192" y="20"/>
                </a:lnTo>
                <a:lnTo>
                  <a:pt x="219" y="24"/>
                </a:lnTo>
                <a:lnTo>
                  <a:pt x="219" y="37"/>
                </a:lnTo>
                <a:lnTo>
                  <a:pt x="219" y="50"/>
                </a:lnTo>
                <a:lnTo>
                  <a:pt x="219" y="64"/>
                </a:lnTo>
                <a:lnTo>
                  <a:pt x="217" y="79"/>
                </a:lnTo>
                <a:lnTo>
                  <a:pt x="217" y="95"/>
                </a:lnTo>
                <a:lnTo>
                  <a:pt x="217" y="112"/>
                </a:lnTo>
                <a:lnTo>
                  <a:pt x="217" y="129"/>
                </a:lnTo>
                <a:lnTo>
                  <a:pt x="217" y="148"/>
                </a:lnTo>
                <a:lnTo>
                  <a:pt x="217" y="167"/>
                </a:lnTo>
                <a:lnTo>
                  <a:pt x="217" y="187"/>
                </a:lnTo>
                <a:lnTo>
                  <a:pt x="217" y="208"/>
                </a:lnTo>
                <a:lnTo>
                  <a:pt x="217" y="231"/>
                </a:lnTo>
                <a:lnTo>
                  <a:pt x="217" y="254"/>
                </a:lnTo>
                <a:lnTo>
                  <a:pt x="217" y="277"/>
                </a:lnTo>
                <a:lnTo>
                  <a:pt x="217" y="300"/>
                </a:lnTo>
                <a:lnTo>
                  <a:pt x="217" y="327"/>
                </a:lnTo>
                <a:lnTo>
                  <a:pt x="215" y="352"/>
                </a:lnTo>
                <a:lnTo>
                  <a:pt x="215" y="379"/>
                </a:lnTo>
                <a:lnTo>
                  <a:pt x="215" y="407"/>
                </a:lnTo>
                <a:lnTo>
                  <a:pt x="215" y="434"/>
                </a:lnTo>
                <a:lnTo>
                  <a:pt x="215" y="465"/>
                </a:lnTo>
                <a:lnTo>
                  <a:pt x="213" y="494"/>
                </a:lnTo>
                <a:lnTo>
                  <a:pt x="213" y="526"/>
                </a:lnTo>
                <a:lnTo>
                  <a:pt x="213" y="557"/>
                </a:lnTo>
                <a:lnTo>
                  <a:pt x="212" y="590"/>
                </a:lnTo>
                <a:lnTo>
                  <a:pt x="212" y="624"/>
                </a:lnTo>
                <a:lnTo>
                  <a:pt x="210" y="659"/>
                </a:lnTo>
                <a:lnTo>
                  <a:pt x="210" y="693"/>
                </a:lnTo>
                <a:lnTo>
                  <a:pt x="208" y="730"/>
                </a:lnTo>
                <a:lnTo>
                  <a:pt x="208" y="766"/>
                </a:lnTo>
                <a:lnTo>
                  <a:pt x="206" y="805"/>
                </a:lnTo>
                <a:lnTo>
                  <a:pt x="206" y="843"/>
                </a:lnTo>
                <a:lnTo>
                  <a:pt x="204" y="881"/>
                </a:lnTo>
                <a:lnTo>
                  <a:pt x="204" y="920"/>
                </a:lnTo>
                <a:lnTo>
                  <a:pt x="202" y="954"/>
                </a:lnTo>
                <a:lnTo>
                  <a:pt x="200" y="991"/>
                </a:lnTo>
                <a:lnTo>
                  <a:pt x="200" y="1024"/>
                </a:lnTo>
                <a:lnTo>
                  <a:pt x="198" y="1056"/>
                </a:lnTo>
                <a:lnTo>
                  <a:pt x="198" y="1087"/>
                </a:lnTo>
                <a:lnTo>
                  <a:pt x="196" y="1118"/>
                </a:lnTo>
                <a:lnTo>
                  <a:pt x="194" y="1146"/>
                </a:lnTo>
                <a:lnTo>
                  <a:pt x="194" y="1175"/>
                </a:lnTo>
                <a:lnTo>
                  <a:pt x="192" y="1202"/>
                </a:lnTo>
                <a:lnTo>
                  <a:pt x="192" y="1227"/>
                </a:lnTo>
                <a:lnTo>
                  <a:pt x="190" y="1250"/>
                </a:lnTo>
                <a:lnTo>
                  <a:pt x="189" y="1273"/>
                </a:lnTo>
                <a:lnTo>
                  <a:pt x="189" y="1296"/>
                </a:lnTo>
                <a:lnTo>
                  <a:pt x="187" y="1315"/>
                </a:lnTo>
                <a:lnTo>
                  <a:pt x="185" y="1334"/>
                </a:lnTo>
                <a:lnTo>
                  <a:pt x="185" y="1354"/>
                </a:lnTo>
                <a:lnTo>
                  <a:pt x="183" y="1369"/>
                </a:lnTo>
                <a:lnTo>
                  <a:pt x="183" y="1386"/>
                </a:lnTo>
                <a:lnTo>
                  <a:pt x="181" y="1400"/>
                </a:lnTo>
                <a:lnTo>
                  <a:pt x="179" y="1413"/>
                </a:lnTo>
                <a:lnTo>
                  <a:pt x="179" y="1425"/>
                </a:lnTo>
                <a:lnTo>
                  <a:pt x="177" y="1436"/>
                </a:lnTo>
                <a:lnTo>
                  <a:pt x="177" y="1444"/>
                </a:lnTo>
                <a:lnTo>
                  <a:pt x="175" y="1453"/>
                </a:lnTo>
                <a:lnTo>
                  <a:pt x="173" y="1459"/>
                </a:lnTo>
                <a:lnTo>
                  <a:pt x="173" y="1465"/>
                </a:lnTo>
                <a:lnTo>
                  <a:pt x="171" y="1471"/>
                </a:lnTo>
                <a:lnTo>
                  <a:pt x="169" y="1473"/>
                </a:lnTo>
                <a:lnTo>
                  <a:pt x="169" y="1475"/>
                </a:lnTo>
                <a:lnTo>
                  <a:pt x="167" y="1476"/>
                </a:lnTo>
                <a:lnTo>
                  <a:pt x="164" y="1478"/>
                </a:lnTo>
                <a:lnTo>
                  <a:pt x="158" y="1478"/>
                </a:lnTo>
                <a:lnTo>
                  <a:pt x="154" y="1480"/>
                </a:lnTo>
                <a:lnTo>
                  <a:pt x="148" y="1478"/>
                </a:lnTo>
                <a:lnTo>
                  <a:pt x="144" y="1476"/>
                </a:lnTo>
                <a:lnTo>
                  <a:pt x="141" y="1475"/>
                </a:lnTo>
                <a:lnTo>
                  <a:pt x="135" y="1471"/>
                </a:lnTo>
                <a:lnTo>
                  <a:pt x="131" y="1467"/>
                </a:lnTo>
                <a:lnTo>
                  <a:pt x="125" y="1461"/>
                </a:lnTo>
                <a:lnTo>
                  <a:pt x="121" y="1455"/>
                </a:lnTo>
                <a:lnTo>
                  <a:pt x="116" y="1450"/>
                </a:lnTo>
                <a:lnTo>
                  <a:pt x="112" y="1442"/>
                </a:lnTo>
                <a:lnTo>
                  <a:pt x="106" y="1434"/>
                </a:lnTo>
                <a:lnTo>
                  <a:pt x="102" y="1425"/>
                </a:lnTo>
                <a:lnTo>
                  <a:pt x="96" y="1415"/>
                </a:lnTo>
                <a:lnTo>
                  <a:pt x="93" y="1404"/>
                </a:lnTo>
                <a:lnTo>
                  <a:pt x="83" y="1386"/>
                </a:lnTo>
                <a:lnTo>
                  <a:pt x="75" y="1369"/>
                </a:lnTo>
                <a:lnTo>
                  <a:pt x="70" y="1350"/>
                </a:lnTo>
                <a:lnTo>
                  <a:pt x="64" y="1333"/>
                </a:lnTo>
                <a:lnTo>
                  <a:pt x="60" y="1313"/>
                </a:lnTo>
                <a:lnTo>
                  <a:pt x="58" y="1294"/>
                </a:lnTo>
                <a:lnTo>
                  <a:pt x="56" y="1277"/>
                </a:lnTo>
                <a:lnTo>
                  <a:pt x="54" y="1260"/>
                </a:lnTo>
                <a:lnTo>
                  <a:pt x="52" y="1252"/>
                </a:lnTo>
                <a:lnTo>
                  <a:pt x="50" y="1242"/>
                </a:lnTo>
                <a:lnTo>
                  <a:pt x="48" y="1231"/>
                </a:lnTo>
                <a:lnTo>
                  <a:pt x="48" y="1219"/>
                </a:lnTo>
                <a:lnTo>
                  <a:pt x="47" y="1206"/>
                </a:lnTo>
                <a:lnTo>
                  <a:pt x="47" y="1192"/>
                </a:lnTo>
                <a:lnTo>
                  <a:pt x="47" y="1177"/>
                </a:lnTo>
                <a:lnTo>
                  <a:pt x="47" y="1160"/>
                </a:lnTo>
                <a:lnTo>
                  <a:pt x="47" y="1141"/>
                </a:lnTo>
                <a:lnTo>
                  <a:pt x="47" y="1121"/>
                </a:lnTo>
                <a:lnTo>
                  <a:pt x="47" y="1100"/>
                </a:lnTo>
                <a:lnTo>
                  <a:pt x="48" y="1079"/>
                </a:lnTo>
                <a:lnTo>
                  <a:pt x="48" y="1054"/>
                </a:lnTo>
                <a:lnTo>
                  <a:pt x="50" y="1029"/>
                </a:lnTo>
                <a:lnTo>
                  <a:pt x="52" y="1002"/>
                </a:lnTo>
                <a:lnTo>
                  <a:pt x="54" y="974"/>
                </a:lnTo>
                <a:lnTo>
                  <a:pt x="56" y="945"/>
                </a:lnTo>
                <a:lnTo>
                  <a:pt x="58" y="918"/>
                </a:lnTo>
                <a:lnTo>
                  <a:pt x="60" y="889"/>
                </a:lnTo>
                <a:lnTo>
                  <a:pt x="62" y="860"/>
                </a:lnTo>
                <a:lnTo>
                  <a:pt x="64" y="830"/>
                </a:lnTo>
                <a:lnTo>
                  <a:pt x="64" y="799"/>
                </a:lnTo>
                <a:lnTo>
                  <a:pt x="66" y="768"/>
                </a:lnTo>
                <a:lnTo>
                  <a:pt x="66" y="738"/>
                </a:lnTo>
                <a:lnTo>
                  <a:pt x="66" y="705"/>
                </a:lnTo>
                <a:lnTo>
                  <a:pt x="66" y="672"/>
                </a:lnTo>
                <a:lnTo>
                  <a:pt x="68" y="607"/>
                </a:lnTo>
                <a:lnTo>
                  <a:pt x="68" y="540"/>
                </a:lnTo>
                <a:lnTo>
                  <a:pt x="68" y="471"/>
                </a:lnTo>
                <a:lnTo>
                  <a:pt x="66" y="436"/>
                </a:lnTo>
                <a:lnTo>
                  <a:pt x="62" y="404"/>
                </a:lnTo>
                <a:lnTo>
                  <a:pt x="60" y="373"/>
                </a:lnTo>
                <a:lnTo>
                  <a:pt x="58" y="342"/>
                </a:lnTo>
                <a:lnTo>
                  <a:pt x="56" y="315"/>
                </a:lnTo>
                <a:lnTo>
                  <a:pt x="52" y="290"/>
                </a:lnTo>
                <a:lnTo>
                  <a:pt x="50" y="265"/>
                </a:lnTo>
                <a:lnTo>
                  <a:pt x="47" y="244"/>
                </a:lnTo>
                <a:lnTo>
                  <a:pt x="45" y="223"/>
                </a:lnTo>
                <a:lnTo>
                  <a:pt x="41" y="204"/>
                </a:lnTo>
                <a:lnTo>
                  <a:pt x="37" y="187"/>
                </a:lnTo>
                <a:lnTo>
                  <a:pt x="33" y="171"/>
                </a:lnTo>
                <a:lnTo>
                  <a:pt x="29" y="156"/>
                </a:lnTo>
                <a:lnTo>
                  <a:pt x="25" y="144"/>
                </a:lnTo>
                <a:lnTo>
                  <a:pt x="22" y="133"/>
                </a:lnTo>
                <a:lnTo>
                  <a:pt x="18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34"/>
          <p:cNvSpPr/>
          <p:nvPr/>
        </p:nvSpPr>
        <p:spPr>
          <a:xfrm>
            <a:off x="5635800" y="2517840"/>
            <a:ext cx="518760" cy="770040"/>
          </a:xfrm>
          <a:custGeom>
            <a:avLst/>
            <a:gdLst/>
            <a:ahLst/>
            <a:rect l="l" t="t" r="r" b="b"/>
            <a:pathLst>
              <a:path w="653" h="972">
                <a:moveTo>
                  <a:pt x="365" y="279"/>
                </a:moveTo>
                <a:lnTo>
                  <a:pt x="370" y="261"/>
                </a:lnTo>
                <a:lnTo>
                  <a:pt x="376" y="242"/>
                </a:lnTo>
                <a:lnTo>
                  <a:pt x="382" y="225"/>
                </a:lnTo>
                <a:lnTo>
                  <a:pt x="388" y="210"/>
                </a:lnTo>
                <a:lnTo>
                  <a:pt x="391" y="194"/>
                </a:lnTo>
                <a:lnTo>
                  <a:pt x="395" y="179"/>
                </a:lnTo>
                <a:lnTo>
                  <a:pt x="399" y="165"/>
                </a:lnTo>
                <a:lnTo>
                  <a:pt x="401" y="152"/>
                </a:lnTo>
                <a:lnTo>
                  <a:pt x="403" y="139"/>
                </a:lnTo>
                <a:lnTo>
                  <a:pt x="405" y="127"/>
                </a:lnTo>
                <a:lnTo>
                  <a:pt x="405" y="117"/>
                </a:lnTo>
                <a:lnTo>
                  <a:pt x="405" y="108"/>
                </a:lnTo>
                <a:lnTo>
                  <a:pt x="405" y="98"/>
                </a:lnTo>
                <a:lnTo>
                  <a:pt x="405" y="91"/>
                </a:lnTo>
                <a:lnTo>
                  <a:pt x="403" y="85"/>
                </a:lnTo>
                <a:lnTo>
                  <a:pt x="401" y="79"/>
                </a:lnTo>
                <a:lnTo>
                  <a:pt x="397" y="73"/>
                </a:lnTo>
                <a:lnTo>
                  <a:pt x="393" y="68"/>
                </a:lnTo>
                <a:lnTo>
                  <a:pt x="390" y="62"/>
                </a:lnTo>
                <a:lnTo>
                  <a:pt x="388" y="56"/>
                </a:lnTo>
                <a:lnTo>
                  <a:pt x="386" y="52"/>
                </a:lnTo>
                <a:lnTo>
                  <a:pt x="384" y="46"/>
                </a:lnTo>
                <a:lnTo>
                  <a:pt x="384" y="41"/>
                </a:lnTo>
                <a:lnTo>
                  <a:pt x="382" y="37"/>
                </a:lnTo>
                <a:lnTo>
                  <a:pt x="384" y="31"/>
                </a:lnTo>
                <a:lnTo>
                  <a:pt x="384" y="27"/>
                </a:lnTo>
                <a:lnTo>
                  <a:pt x="386" y="23"/>
                </a:lnTo>
                <a:lnTo>
                  <a:pt x="388" y="20"/>
                </a:lnTo>
                <a:lnTo>
                  <a:pt x="390" y="16"/>
                </a:lnTo>
                <a:lnTo>
                  <a:pt x="393" y="12"/>
                </a:lnTo>
                <a:lnTo>
                  <a:pt x="397" y="10"/>
                </a:lnTo>
                <a:lnTo>
                  <a:pt x="401" y="6"/>
                </a:lnTo>
                <a:lnTo>
                  <a:pt x="407" y="4"/>
                </a:lnTo>
                <a:lnTo>
                  <a:pt x="411" y="2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0" y="0"/>
                </a:lnTo>
                <a:lnTo>
                  <a:pt x="441" y="2"/>
                </a:lnTo>
                <a:lnTo>
                  <a:pt x="451" y="6"/>
                </a:lnTo>
                <a:lnTo>
                  <a:pt x="462" y="10"/>
                </a:lnTo>
                <a:lnTo>
                  <a:pt x="476" y="16"/>
                </a:lnTo>
                <a:lnTo>
                  <a:pt x="489" y="22"/>
                </a:lnTo>
                <a:lnTo>
                  <a:pt x="503" y="27"/>
                </a:lnTo>
                <a:lnTo>
                  <a:pt x="518" y="33"/>
                </a:lnTo>
                <a:lnTo>
                  <a:pt x="532" y="43"/>
                </a:lnTo>
                <a:lnTo>
                  <a:pt x="545" y="50"/>
                </a:lnTo>
                <a:lnTo>
                  <a:pt x="560" y="60"/>
                </a:lnTo>
                <a:lnTo>
                  <a:pt x="574" y="71"/>
                </a:lnTo>
                <a:lnTo>
                  <a:pt x="603" y="93"/>
                </a:lnTo>
                <a:lnTo>
                  <a:pt x="608" y="98"/>
                </a:lnTo>
                <a:lnTo>
                  <a:pt x="614" y="104"/>
                </a:lnTo>
                <a:lnTo>
                  <a:pt x="620" y="108"/>
                </a:lnTo>
                <a:lnTo>
                  <a:pt x="626" y="114"/>
                </a:lnTo>
                <a:lnTo>
                  <a:pt x="629" y="119"/>
                </a:lnTo>
                <a:lnTo>
                  <a:pt x="635" y="125"/>
                </a:lnTo>
                <a:lnTo>
                  <a:pt x="641" y="135"/>
                </a:lnTo>
                <a:lnTo>
                  <a:pt x="647" y="146"/>
                </a:lnTo>
                <a:lnTo>
                  <a:pt x="651" y="158"/>
                </a:lnTo>
                <a:lnTo>
                  <a:pt x="653" y="167"/>
                </a:lnTo>
                <a:lnTo>
                  <a:pt x="653" y="179"/>
                </a:lnTo>
                <a:lnTo>
                  <a:pt x="653" y="187"/>
                </a:lnTo>
                <a:lnTo>
                  <a:pt x="651" y="196"/>
                </a:lnTo>
                <a:lnTo>
                  <a:pt x="647" y="208"/>
                </a:lnTo>
                <a:lnTo>
                  <a:pt x="643" y="219"/>
                </a:lnTo>
                <a:lnTo>
                  <a:pt x="637" y="233"/>
                </a:lnTo>
                <a:lnTo>
                  <a:pt x="631" y="246"/>
                </a:lnTo>
                <a:lnTo>
                  <a:pt x="624" y="261"/>
                </a:lnTo>
                <a:lnTo>
                  <a:pt x="616" y="277"/>
                </a:lnTo>
                <a:lnTo>
                  <a:pt x="606" y="294"/>
                </a:lnTo>
                <a:lnTo>
                  <a:pt x="597" y="313"/>
                </a:lnTo>
                <a:lnTo>
                  <a:pt x="585" y="332"/>
                </a:lnTo>
                <a:lnTo>
                  <a:pt x="572" y="354"/>
                </a:lnTo>
                <a:lnTo>
                  <a:pt x="558" y="377"/>
                </a:lnTo>
                <a:lnTo>
                  <a:pt x="545" y="400"/>
                </a:lnTo>
                <a:lnTo>
                  <a:pt x="530" y="425"/>
                </a:lnTo>
                <a:lnTo>
                  <a:pt x="514" y="451"/>
                </a:lnTo>
                <a:lnTo>
                  <a:pt x="478" y="505"/>
                </a:lnTo>
                <a:lnTo>
                  <a:pt x="439" y="557"/>
                </a:lnTo>
                <a:lnTo>
                  <a:pt x="403" y="607"/>
                </a:lnTo>
                <a:lnTo>
                  <a:pt x="384" y="632"/>
                </a:lnTo>
                <a:lnTo>
                  <a:pt x="365" y="655"/>
                </a:lnTo>
                <a:lnTo>
                  <a:pt x="347" y="678"/>
                </a:lnTo>
                <a:lnTo>
                  <a:pt x="328" y="701"/>
                </a:lnTo>
                <a:lnTo>
                  <a:pt x="311" y="722"/>
                </a:lnTo>
                <a:lnTo>
                  <a:pt x="294" y="745"/>
                </a:lnTo>
                <a:lnTo>
                  <a:pt x="276" y="766"/>
                </a:lnTo>
                <a:lnTo>
                  <a:pt x="259" y="785"/>
                </a:lnTo>
                <a:lnTo>
                  <a:pt x="242" y="807"/>
                </a:lnTo>
                <a:lnTo>
                  <a:pt x="226" y="826"/>
                </a:lnTo>
                <a:lnTo>
                  <a:pt x="207" y="847"/>
                </a:lnTo>
                <a:lnTo>
                  <a:pt x="190" y="866"/>
                </a:lnTo>
                <a:lnTo>
                  <a:pt x="173" y="883"/>
                </a:lnTo>
                <a:lnTo>
                  <a:pt x="155" y="899"/>
                </a:lnTo>
                <a:lnTo>
                  <a:pt x="140" y="912"/>
                </a:lnTo>
                <a:lnTo>
                  <a:pt x="123" y="926"/>
                </a:lnTo>
                <a:lnTo>
                  <a:pt x="109" y="937"/>
                </a:lnTo>
                <a:lnTo>
                  <a:pt x="94" y="947"/>
                </a:lnTo>
                <a:lnTo>
                  <a:pt x="81" y="954"/>
                </a:lnTo>
                <a:lnTo>
                  <a:pt x="67" y="960"/>
                </a:lnTo>
                <a:lnTo>
                  <a:pt x="54" y="966"/>
                </a:lnTo>
                <a:lnTo>
                  <a:pt x="42" y="970"/>
                </a:lnTo>
                <a:lnTo>
                  <a:pt x="31" y="972"/>
                </a:lnTo>
                <a:lnTo>
                  <a:pt x="19" y="972"/>
                </a:lnTo>
                <a:lnTo>
                  <a:pt x="10" y="972"/>
                </a:lnTo>
                <a:lnTo>
                  <a:pt x="0" y="970"/>
                </a:lnTo>
                <a:lnTo>
                  <a:pt x="17" y="935"/>
                </a:lnTo>
                <a:lnTo>
                  <a:pt x="36" y="902"/>
                </a:lnTo>
                <a:lnTo>
                  <a:pt x="54" y="872"/>
                </a:lnTo>
                <a:lnTo>
                  <a:pt x="71" y="839"/>
                </a:lnTo>
                <a:lnTo>
                  <a:pt x="86" y="810"/>
                </a:lnTo>
                <a:lnTo>
                  <a:pt x="104" y="780"/>
                </a:lnTo>
                <a:lnTo>
                  <a:pt x="119" y="751"/>
                </a:lnTo>
                <a:lnTo>
                  <a:pt x="134" y="724"/>
                </a:lnTo>
                <a:lnTo>
                  <a:pt x="150" y="695"/>
                </a:lnTo>
                <a:lnTo>
                  <a:pt x="165" y="670"/>
                </a:lnTo>
                <a:lnTo>
                  <a:pt x="178" y="643"/>
                </a:lnTo>
                <a:lnTo>
                  <a:pt x="192" y="618"/>
                </a:lnTo>
                <a:lnTo>
                  <a:pt x="205" y="595"/>
                </a:lnTo>
                <a:lnTo>
                  <a:pt x="219" y="570"/>
                </a:lnTo>
                <a:lnTo>
                  <a:pt x="230" y="549"/>
                </a:lnTo>
                <a:lnTo>
                  <a:pt x="242" y="526"/>
                </a:lnTo>
                <a:lnTo>
                  <a:pt x="253" y="505"/>
                </a:lnTo>
                <a:lnTo>
                  <a:pt x="265" y="484"/>
                </a:lnTo>
                <a:lnTo>
                  <a:pt x="274" y="465"/>
                </a:lnTo>
                <a:lnTo>
                  <a:pt x="284" y="446"/>
                </a:lnTo>
                <a:lnTo>
                  <a:pt x="294" y="428"/>
                </a:lnTo>
                <a:lnTo>
                  <a:pt x="303" y="411"/>
                </a:lnTo>
                <a:lnTo>
                  <a:pt x="311" y="394"/>
                </a:lnTo>
                <a:lnTo>
                  <a:pt x="319" y="379"/>
                </a:lnTo>
                <a:lnTo>
                  <a:pt x="326" y="363"/>
                </a:lnTo>
                <a:lnTo>
                  <a:pt x="334" y="350"/>
                </a:lnTo>
                <a:lnTo>
                  <a:pt x="340" y="336"/>
                </a:lnTo>
                <a:lnTo>
                  <a:pt x="345" y="323"/>
                </a:lnTo>
                <a:lnTo>
                  <a:pt x="351" y="311"/>
                </a:lnTo>
                <a:lnTo>
                  <a:pt x="355" y="300"/>
                </a:lnTo>
                <a:lnTo>
                  <a:pt x="361" y="288"/>
                </a:lnTo>
                <a:lnTo>
                  <a:pt x="365" y="2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4"/>
          <p:cNvSpPr/>
          <p:nvPr/>
        </p:nvSpPr>
        <p:spPr>
          <a:xfrm>
            <a:off x="2218680" y="2152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乞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114880" y="19875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组合 8"/>
          <p:cNvGrpSpPr/>
          <p:nvPr/>
        </p:nvGrpSpPr>
        <p:grpSpPr>
          <a:xfrm>
            <a:off x="1400040" y="3579840"/>
            <a:ext cx="2840040" cy="1571400"/>
            <a:chOff x="1400040" y="3579840"/>
            <a:chExt cx="2840040" cy="1571400"/>
          </a:xfrm>
        </p:grpSpPr>
        <p:pic>
          <p:nvPicPr>
            <p:cNvPr id="16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579840"/>
              <a:ext cx="28400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矩形 2"/>
            <p:cNvSpPr/>
            <p:nvPr/>
          </p:nvSpPr>
          <p:spPr>
            <a:xfrm>
              <a:off x="1444680" y="41936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最后一笔起笔偏左，弯处圆转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3"/>
          <p:cNvSpPr/>
          <p:nvPr/>
        </p:nvSpPr>
        <p:spPr>
          <a:xfrm>
            <a:off x="2171880" y="147312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94200" y="3233880"/>
            <a:ext cx="2062440" cy="1349280"/>
          </a:xfrm>
          <a:custGeom>
            <a:avLst/>
            <a:gdLst/>
            <a:ahLst/>
            <a:rect l="l" t="t" r="r" b="b"/>
            <a:pathLst>
              <a:path w="2599" h="1699">
                <a:moveTo>
                  <a:pt x="1305" y="91"/>
                </a:moveTo>
                <a:lnTo>
                  <a:pt x="1319" y="100"/>
                </a:lnTo>
                <a:lnTo>
                  <a:pt x="1330" y="110"/>
                </a:lnTo>
                <a:lnTo>
                  <a:pt x="1342" y="119"/>
                </a:lnTo>
                <a:lnTo>
                  <a:pt x="1352" y="127"/>
                </a:lnTo>
                <a:lnTo>
                  <a:pt x="1361" y="137"/>
                </a:lnTo>
                <a:lnTo>
                  <a:pt x="1371" y="144"/>
                </a:lnTo>
                <a:lnTo>
                  <a:pt x="1380" y="152"/>
                </a:lnTo>
                <a:lnTo>
                  <a:pt x="1388" y="158"/>
                </a:lnTo>
                <a:lnTo>
                  <a:pt x="1394" y="165"/>
                </a:lnTo>
                <a:lnTo>
                  <a:pt x="1399" y="171"/>
                </a:lnTo>
                <a:lnTo>
                  <a:pt x="1405" y="177"/>
                </a:lnTo>
                <a:lnTo>
                  <a:pt x="1409" y="181"/>
                </a:lnTo>
                <a:lnTo>
                  <a:pt x="1413" y="187"/>
                </a:lnTo>
                <a:lnTo>
                  <a:pt x="1415" y="190"/>
                </a:lnTo>
                <a:lnTo>
                  <a:pt x="1417" y="192"/>
                </a:lnTo>
                <a:lnTo>
                  <a:pt x="1417" y="196"/>
                </a:lnTo>
                <a:lnTo>
                  <a:pt x="1417" y="200"/>
                </a:lnTo>
                <a:lnTo>
                  <a:pt x="1415" y="206"/>
                </a:lnTo>
                <a:lnTo>
                  <a:pt x="1413" y="210"/>
                </a:lnTo>
                <a:lnTo>
                  <a:pt x="1409" y="215"/>
                </a:lnTo>
                <a:lnTo>
                  <a:pt x="1405" y="219"/>
                </a:lnTo>
                <a:lnTo>
                  <a:pt x="1399" y="225"/>
                </a:lnTo>
                <a:lnTo>
                  <a:pt x="1394" y="229"/>
                </a:lnTo>
                <a:lnTo>
                  <a:pt x="1388" y="233"/>
                </a:lnTo>
                <a:lnTo>
                  <a:pt x="1380" y="236"/>
                </a:lnTo>
                <a:lnTo>
                  <a:pt x="1371" y="242"/>
                </a:lnTo>
                <a:lnTo>
                  <a:pt x="1363" y="246"/>
                </a:lnTo>
                <a:lnTo>
                  <a:pt x="1352" y="248"/>
                </a:lnTo>
                <a:lnTo>
                  <a:pt x="1342" y="252"/>
                </a:lnTo>
                <a:lnTo>
                  <a:pt x="1330" y="256"/>
                </a:lnTo>
                <a:lnTo>
                  <a:pt x="1319" y="258"/>
                </a:lnTo>
                <a:lnTo>
                  <a:pt x="1305" y="261"/>
                </a:lnTo>
                <a:lnTo>
                  <a:pt x="1290" y="267"/>
                </a:lnTo>
                <a:lnTo>
                  <a:pt x="1273" y="275"/>
                </a:lnTo>
                <a:lnTo>
                  <a:pt x="1256" y="282"/>
                </a:lnTo>
                <a:lnTo>
                  <a:pt x="1238" y="292"/>
                </a:lnTo>
                <a:lnTo>
                  <a:pt x="1219" y="304"/>
                </a:lnTo>
                <a:lnTo>
                  <a:pt x="1200" y="317"/>
                </a:lnTo>
                <a:lnTo>
                  <a:pt x="1179" y="332"/>
                </a:lnTo>
                <a:lnTo>
                  <a:pt x="1158" y="348"/>
                </a:lnTo>
                <a:lnTo>
                  <a:pt x="1137" y="365"/>
                </a:lnTo>
                <a:lnTo>
                  <a:pt x="1114" y="382"/>
                </a:lnTo>
                <a:lnTo>
                  <a:pt x="1089" y="403"/>
                </a:lnTo>
                <a:lnTo>
                  <a:pt x="1066" y="425"/>
                </a:lnTo>
                <a:lnTo>
                  <a:pt x="1039" y="448"/>
                </a:lnTo>
                <a:lnTo>
                  <a:pt x="1014" y="471"/>
                </a:lnTo>
                <a:lnTo>
                  <a:pt x="987" y="496"/>
                </a:lnTo>
                <a:lnTo>
                  <a:pt x="958" y="522"/>
                </a:lnTo>
                <a:lnTo>
                  <a:pt x="931" y="551"/>
                </a:lnTo>
                <a:lnTo>
                  <a:pt x="904" y="582"/>
                </a:lnTo>
                <a:lnTo>
                  <a:pt x="877" y="611"/>
                </a:lnTo>
                <a:lnTo>
                  <a:pt x="852" y="638"/>
                </a:lnTo>
                <a:lnTo>
                  <a:pt x="828" y="666"/>
                </a:lnTo>
                <a:lnTo>
                  <a:pt x="804" y="695"/>
                </a:lnTo>
                <a:lnTo>
                  <a:pt x="781" y="722"/>
                </a:lnTo>
                <a:lnTo>
                  <a:pt x="758" y="749"/>
                </a:lnTo>
                <a:lnTo>
                  <a:pt x="737" y="778"/>
                </a:lnTo>
                <a:lnTo>
                  <a:pt x="718" y="805"/>
                </a:lnTo>
                <a:lnTo>
                  <a:pt x="697" y="831"/>
                </a:lnTo>
                <a:lnTo>
                  <a:pt x="680" y="858"/>
                </a:lnTo>
                <a:lnTo>
                  <a:pt x="661" y="885"/>
                </a:lnTo>
                <a:lnTo>
                  <a:pt x="643" y="912"/>
                </a:lnTo>
                <a:lnTo>
                  <a:pt x="626" y="939"/>
                </a:lnTo>
                <a:lnTo>
                  <a:pt x="611" y="968"/>
                </a:lnTo>
                <a:lnTo>
                  <a:pt x="597" y="993"/>
                </a:lnTo>
                <a:lnTo>
                  <a:pt x="584" y="1020"/>
                </a:lnTo>
                <a:lnTo>
                  <a:pt x="570" y="1045"/>
                </a:lnTo>
                <a:lnTo>
                  <a:pt x="559" y="1068"/>
                </a:lnTo>
                <a:lnTo>
                  <a:pt x="549" y="1091"/>
                </a:lnTo>
                <a:lnTo>
                  <a:pt x="542" y="1112"/>
                </a:lnTo>
                <a:lnTo>
                  <a:pt x="534" y="1133"/>
                </a:lnTo>
                <a:lnTo>
                  <a:pt x="526" y="1154"/>
                </a:lnTo>
                <a:lnTo>
                  <a:pt x="520" y="1173"/>
                </a:lnTo>
                <a:lnTo>
                  <a:pt x="517" y="1190"/>
                </a:lnTo>
                <a:lnTo>
                  <a:pt x="515" y="1208"/>
                </a:lnTo>
                <a:lnTo>
                  <a:pt x="511" y="1225"/>
                </a:lnTo>
                <a:lnTo>
                  <a:pt x="511" y="1240"/>
                </a:lnTo>
                <a:lnTo>
                  <a:pt x="511" y="1254"/>
                </a:lnTo>
                <a:lnTo>
                  <a:pt x="511" y="1267"/>
                </a:lnTo>
                <a:lnTo>
                  <a:pt x="515" y="1281"/>
                </a:lnTo>
                <a:lnTo>
                  <a:pt x="517" y="1292"/>
                </a:lnTo>
                <a:lnTo>
                  <a:pt x="520" y="1306"/>
                </a:lnTo>
                <a:lnTo>
                  <a:pt x="524" y="1315"/>
                </a:lnTo>
                <a:lnTo>
                  <a:pt x="530" y="1327"/>
                </a:lnTo>
                <a:lnTo>
                  <a:pt x="536" y="1338"/>
                </a:lnTo>
                <a:lnTo>
                  <a:pt x="543" y="1348"/>
                </a:lnTo>
                <a:lnTo>
                  <a:pt x="551" y="1357"/>
                </a:lnTo>
                <a:lnTo>
                  <a:pt x="559" y="1367"/>
                </a:lnTo>
                <a:lnTo>
                  <a:pt x="568" y="1377"/>
                </a:lnTo>
                <a:lnTo>
                  <a:pt x="580" y="1384"/>
                </a:lnTo>
                <a:lnTo>
                  <a:pt x="591" y="1392"/>
                </a:lnTo>
                <a:lnTo>
                  <a:pt x="605" y="1400"/>
                </a:lnTo>
                <a:lnTo>
                  <a:pt x="618" y="1407"/>
                </a:lnTo>
                <a:lnTo>
                  <a:pt x="634" y="1413"/>
                </a:lnTo>
                <a:lnTo>
                  <a:pt x="649" y="1419"/>
                </a:lnTo>
                <a:lnTo>
                  <a:pt x="666" y="1425"/>
                </a:lnTo>
                <a:lnTo>
                  <a:pt x="685" y="1430"/>
                </a:lnTo>
                <a:lnTo>
                  <a:pt x="705" y="1434"/>
                </a:lnTo>
                <a:lnTo>
                  <a:pt x="724" y="1438"/>
                </a:lnTo>
                <a:lnTo>
                  <a:pt x="745" y="1442"/>
                </a:lnTo>
                <a:lnTo>
                  <a:pt x="766" y="1446"/>
                </a:lnTo>
                <a:lnTo>
                  <a:pt x="787" y="1450"/>
                </a:lnTo>
                <a:lnTo>
                  <a:pt x="810" y="1453"/>
                </a:lnTo>
                <a:lnTo>
                  <a:pt x="833" y="1455"/>
                </a:lnTo>
                <a:lnTo>
                  <a:pt x="856" y="1459"/>
                </a:lnTo>
                <a:lnTo>
                  <a:pt x="881" y="1461"/>
                </a:lnTo>
                <a:lnTo>
                  <a:pt x="906" y="1465"/>
                </a:lnTo>
                <a:lnTo>
                  <a:pt x="933" y="1467"/>
                </a:lnTo>
                <a:lnTo>
                  <a:pt x="958" y="1469"/>
                </a:lnTo>
                <a:lnTo>
                  <a:pt x="985" y="1473"/>
                </a:lnTo>
                <a:lnTo>
                  <a:pt x="1014" y="1474"/>
                </a:lnTo>
                <a:lnTo>
                  <a:pt x="1042" y="1476"/>
                </a:lnTo>
                <a:lnTo>
                  <a:pt x="1071" y="1478"/>
                </a:lnTo>
                <a:lnTo>
                  <a:pt x="1102" y="1482"/>
                </a:lnTo>
                <a:lnTo>
                  <a:pt x="1133" y="1482"/>
                </a:lnTo>
                <a:lnTo>
                  <a:pt x="1167" y="1484"/>
                </a:lnTo>
                <a:lnTo>
                  <a:pt x="1202" y="1486"/>
                </a:lnTo>
                <a:lnTo>
                  <a:pt x="1236" y="1486"/>
                </a:lnTo>
                <a:lnTo>
                  <a:pt x="1275" y="1486"/>
                </a:lnTo>
                <a:lnTo>
                  <a:pt x="1313" y="1486"/>
                </a:lnTo>
                <a:lnTo>
                  <a:pt x="1352" y="1484"/>
                </a:lnTo>
                <a:lnTo>
                  <a:pt x="1394" y="1484"/>
                </a:lnTo>
                <a:lnTo>
                  <a:pt x="1436" y="1482"/>
                </a:lnTo>
                <a:lnTo>
                  <a:pt x="1480" y="1478"/>
                </a:lnTo>
                <a:lnTo>
                  <a:pt x="1524" y="1476"/>
                </a:lnTo>
                <a:lnTo>
                  <a:pt x="1570" y="1473"/>
                </a:lnTo>
                <a:lnTo>
                  <a:pt x="1618" y="1469"/>
                </a:lnTo>
                <a:lnTo>
                  <a:pt x="1666" y="1465"/>
                </a:lnTo>
                <a:lnTo>
                  <a:pt x="1691" y="1461"/>
                </a:lnTo>
                <a:lnTo>
                  <a:pt x="1716" y="1459"/>
                </a:lnTo>
                <a:lnTo>
                  <a:pt x="1739" y="1455"/>
                </a:lnTo>
                <a:lnTo>
                  <a:pt x="1762" y="1453"/>
                </a:lnTo>
                <a:lnTo>
                  <a:pt x="1785" y="1451"/>
                </a:lnTo>
                <a:lnTo>
                  <a:pt x="1806" y="1448"/>
                </a:lnTo>
                <a:lnTo>
                  <a:pt x="1828" y="1446"/>
                </a:lnTo>
                <a:lnTo>
                  <a:pt x="1849" y="1442"/>
                </a:lnTo>
                <a:lnTo>
                  <a:pt x="1870" y="1438"/>
                </a:lnTo>
                <a:lnTo>
                  <a:pt x="1889" y="1436"/>
                </a:lnTo>
                <a:lnTo>
                  <a:pt x="1908" y="1432"/>
                </a:lnTo>
                <a:lnTo>
                  <a:pt x="1927" y="1430"/>
                </a:lnTo>
                <a:lnTo>
                  <a:pt x="1947" y="1426"/>
                </a:lnTo>
                <a:lnTo>
                  <a:pt x="1964" y="1423"/>
                </a:lnTo>
                <a:lnTo>
                  <a:pt x="1981" y="1421"/>
                </a:lnTo>
                <a:lnTo>
                  <a:pt x="1998" y="1417"/>
                </a:lnTo>
                <a:lnTo>
                  <a:pt x="2016" y="1413"/>
                </a:lnTo>
                <a:lnTo>
                  <a:pt x="2031" y="1409"/>
                </a:lnTo>
                <a:lnTo>
                  <a:pt x="2046" y="1405"/>
                </a:lnTo>
                <a:lnTo>
                  <a:pt x="2062" y="1403"/>
                </a:lnTo>
                <a:lnTo>
                  <a:pt x="2075" y="1400"/>
                </a:lnTo>
                <a:lnTo>
                  <a:pt x="2089" y="1396"/>
                </a:lnTo>
                <a:lnTo>
                  <a:pt x="2102" y="1392"/>
                </a:lnTo>
                <a:lnTo>
                  <a:pt x="2113" y="1388"/>
                </a:lnTo>
                <a:lnTo>
                  <a:pt x="2127" y="1384"/>
                </a:lnTo>
                <a:lnTo>
                  <a:pt x="2138" y="1382"/>
                </a:lnTo>
                <a:lnTo>
                  <a:pt x="2148" y="1378"/>
                </a:lnTo>
                <a:lnTo>
                  <a:pt x="2160" y="1375"/>
                </a:lnTo>
                <a:lnTo>
                  <a:pt x="2169" y="1371"/>
                </a:lnTo>
                <a:lnTo>
                  <a:pt x="2179" y="1367"/>
                </a:lnTo>
                <a:lnTo>
                  <a:pt x="2186" y="1363"/>
                </a:lnTo>
                <a:lnTo>
                  <a:pt x="2194" y="1359"/>
                </a:lnTo>
                <a:lnTo>
                  <a:pt x="2208" y="1352"/>
                </a:lnTo>
                <a:lnTo>
                  <a:pt x="2219" y="1340"/>
                </a:lnTo>
                <a:lnTo>
                  <a:pt x="2232" y="1329"/>
                </a:lnTo>
                <a:lnTo>
                  <a:pt x="2244" y="1315"/>
                </a:lnTo>
                <a:lnTo>
                  <a:pt x="2256" y="1300"/>
                </a:lnTo>
                <a:lnTo>
                  <a:pt x="2267" y="1283"/>
                </a:lnTo>
                <a:lnTo>
                  <a:pt x="2279" y="1263"/>
                </a:lnTo>
                <a:lnTo>
                  <a:pt x="2288" y="1242"/>
                </a:lnTo>
                <a:lnTo>
                  <a:pt x="2300" y="1219"/>
                </a:lnTo>
                <a:lnTo>
                  <a:pt x="2309" y="1194"/>
                </a:lnTo>
                <a:lnTo>
                  <a:pt x="2319" y="1167"/>
                </a:lnTo>
                <a:lnTo>
                  <a:pt x="2328" y="1139"/>
                </a:lnTo>
                <a:lnTo>
                  <a:pt x="2336" y="1108"/>
                </a:lnTo>
                <a:lnTo>
                  <a:pt x="2346" y="1075"/>
                </a:lnTo>
                <a:lnTo>
                  <a:pt x="2353" y="1043"/>
                </a:lnTo>
                <a:lnTo>
                  <a:pt x="2361" y="1006"/>
                </a:lnTo>
                <a:lnTo>
                  <a:pt x="2365" y="989"/>
                </a:lnTo>
                <a:lnTo>
                  <a:pt x="2369" y="970"/>
                </a:lnTo>
                <a:lnTo>
                  <a:pt x="2373" y="954"/>
                </a:lnTo>
                <a:lnTo>
                  <a:pt x="2376" y="937"/>
                </a:lnTo>
                <a:lnTo>
                  <a:pt x="2380" y="922"/>
                </a:lnTo>
                <a:lnTo>
                  <a:pt x="2382" y="906"/>
                </a:lnTo>
                <a:lnTo>
                  <a:pt x="2386" y="893"/>
                </a:lnTo>
                <a:lnTo>
                  <a:pt x="2390" y="878"/>
                </a:lnTo>
                <a:lnTo>
                  <a:pt x="2392" y="866"/>
                </a:lnTo>
                <a:lnTo>
                  <a:pt x="2396" y="853"/>
                </a:lnTo>
                <a:lnTo>
                  <a:pt x="2399" y="841"/>
                </a:lnTo>
                <a:lnTo>
                  <a:pt x="2401" y="830"/>
                </a:lnTo>
                <a:lnTo>
                  <a:pt x="2405" y="818"/>
                </a:lnTo>
                <a:lnTo>
                  <a:pt x="2407" y="808"/>
                </a:lnTo>
                <a:lnTo>
                  <a:pt x="2411" y="799"/>
                </a:lnTo>
                <a:lnTo>
                  <a:pt x="2413" y="789"/>
                </a:lnTo>
                <a:lnTo>
                  <a:pt x="2415" y="780"/>
                </a:lnTo>
                <a:lnTo>
                  <a:pt x="2419" y="772"/>
                </a:lnTo>
                <a:lnTo>
                  <a:pt x="2421" y="764"/>
                </a:lnTo>
                <a:lnTo>
                  <a:pt x="2423" y="759"/>
                </a:lnTo>
                <a:lnTo>
                  <a:pt x="2424" y="751"/>
                </a:lnTo>
                <a:lnTo>
                  <a:pt x="2426" y="745"/>
                </a:lnTo>
                <a:lnTo>
                  <a:pt x="2430" y="741"/>
                </a:lnTo>
                <a:lnTo>
                  <a:pt x="2432" y="735"/>
                </a:lnTo>
                <a:lnTo>
                  <a:pt x="2434" y="732"/>
                </a:lnTo>
                <a:lnTo>
                  <a:pt x="2436" y="728"/>
                </a:lnTo>
                <a:lnTo>
                  <a:pt x="2438" y="726"/>
                </a:lnTo>
                <a:lnTo>
                  <a:pt x="2438" y="724"/>
                </a:lnTo>
                <a:lnTo>
                  <a:pt x="2440" y="722"/>
                </a:lnTo>
                <a:lnTo>
                  <a:pt x="2442" y="720"/>
                </a:lnTo>
                <a:lnTo>
                  <a:pt x="2444" y="718"/>
                </a:lnTo>
                <a:lnTo>
                  <a:pt x="2446" y="718"/>
                </a:lnTo>
                <a:lnTo>
                  <a:pt x="2447" y="722"/>
                </a:lnTo>
                <a:lnTo>
                  <a:pt x="2451" y="728"/>
                </a:lnTo>
                <a:lnTo>
                  <a:pt x="2453" y="734"/>
                </a:lnTo>
                <a:lnTo>
                  <a:pt x="2457" y="743"/>
                </a:lnTo>
                <a:lnTo>
                  <a:pt x="2461" y="755"/>
                </a:lnTo>
                <a:lnTo>
                  <a:pt x="2465" y="766"/>
                </a:lnTo>
                <a:lnTo>
                  <a:pt x="2469" y="782"/>
                </a:lnTo>
                <a:lnTo>
                  <a:pt x="2472" y="797"/>
                </a:lnTo>
                <a:lnTo>
                  <a:pt x="2476" y="816"/>
                </a:lnTo>
                <a:lnTo>
                  <a:pt x="2480" y="835"/>
                </a:lnTo>
                <a:lnTo>
                  <a:pt x="2484" y="856"/>
                </a:lnTo>
                <a:lnTo>
                  <a:pt x="2488" y="881"/>
                </a:lnTo>
                <a:lnTo>
                  <a:pt x="2492" y="906"/>
                </a:lnTo>
                <a:lnTo>
                  <a:pt x="2494" y="933"/>
                </a:lnTo>
                <a:lnTo>
                  <a:pt x="2497" y="962"/>
                </a:lnTo>
                <a:lnTo>
                  <a:pt x="2501" y="993"/>
                </a:lnTo>
                <a:lnTo>
                  <a:pt x="2503" y="1027"/>
                </a:lnTo>
                <a:lnTo>
                  <a:pt x="2507" y="1058"/>
                </a:lnTo>
                <a:lnTo>
                  <a:pt x="2509" y="1089"/>
                </a:lnTo>
                <a:lnTo>
                  <a:pt x="2513" y="1117"/>
                </a:lnTo>
                <a:lnTo>
                  <a:pt x="2517" y="1146"/>
                </a:lnTo>
                <a:lnTo>
                  <a:pt x="2522" y="1171"/>
                </a:lnTo>
                <a:lnTo>
                  <a:pt x="2526" y="1196"/>
                </a:lnTo>
                <a:lnTo>
                  <a:pt x="2532" y="1219"/>
                </a:lnTo>
                <a:lnTo>
                  <a:pt x="2538" y="1240"/>
                </a:lnTo>
                <a:lnTo>
                  <a:pt x="2543" y="1259"/>
                </a:lnTo>
                <a:lnTo>
                  <a:pt x="2549" y="1279"/>
                </a:lnTo>
                <a:lnTo>
                  <a:pt x="2555" y="1294"/>
                </a:lnTo>
                <a:lnTo>
                  <a:pt x="2561" y="1309"/>
                </a:lnTo>
                <a:lnTo>
                  <a:pt x="2568" y="1323"/>
                </a:lnTo>
                <a:lnTo>
                  <a:pt x="2576" y="1336"/>
                </a:lnTo>
                <a:lnTo>
                  <a:pt x="2584" y="1346"/>
                </a:lnTo>
                <a:lnTo>
                  <a:pt x="2588" y="1352"/>
                </a:lnTo>
                <a:lnTo>
                  <a:pt x="2589" y="1355"/>
                </a:lnTo>
                <a:lnTo>
                  <a:pt x="2595" y="1365"/>
                </a:lnTo>
                <a:lnTo>
                  <a:pt x="2597" y="1375"/>
                </a:lnTo>
                <a:lnTo>
                  <a:pt x="2599" y="1386"/>
                </a:lnTo>
                <a:lnTo>
                  <a:pt x="2599" y="1396"/>
                </a:lnTo>
                <a:lnTo>
                  <a:pt x="2597" y="1405"/>
                </a:lnTo>
                <a:lnTo>
                  <a:pt x="2591" y="1415"/>
                </a:lnTo>
                <a:lnTo>
                  <a:pt x="2588" y="1425"/>
                </a:lnTo>
                <a:lnTo>
                  <a:pt x="2580" y="1434"/>
                </a:lnTo>
                <a:lnTo>
                  <a:pt x="2570" y="1444"/>
                </a:lnTo>
                <a:lnTo>
                  <a:pt x="2561" y="1453"/>
                </a:lnTo>
                <a:lnTo>
                  <a:pt x="2547" y="1463"/>
                </a:lnTo>
                <a:lnTo>
                  <a:pt x="2536" y="1473"/>
                </a:lnTo>
                <a:lnTo>
                  <a:pt x="2520" y="1482"/>
                </a:lnTo>
                <a:lnTo>
                  <a:pt x="2503" y="1494"/>
                </a:lnTo>
                <a:lnTo>
                  <a:pt x="2486" y="1503"/>
                </a:lnTo>
                <a:lnTo>
                  <a:pt x="2467" y="1515"/>
                </a:lnTo>
                <a:lnTo>
                  <a:pt x="2447" y="1526"/>
                </a:lnTo>
                <a:lnTo>
                  <a:pt x="2424" y="1538"/>
                </a:lnTo>
                <a:lnTo>
                  <a:pt x="2401" y="1547"/>
                </a:lnTo>
                <a:lnTo>
                  <a:pt x="2375" y="1557"/>
                </a:lnTo>
                <a:lnTo>
                  <a:pt x="2348" y="1567"/>
                </a:lnTo>
                <a:lnTo>
                  <a:pt x="2321" y="1576"/>
                </a:lnTo>
                <a:lnTo>
                  <a:pt x="2290" y="1584"/>
                </a:lnTo>
                <a:lnTo>
                  <a:pt x="2259" y="1593"/>
                </a:lnTo>
                <a:lnTo>
                  <a:pt x="2227" y="1601"/>
                </a:lnTo>
                <a:lnTo>
                  <a:pt x="2192" y="1609"/>
                </a:lnTo>
                <a:lnTo>
                  <a:pt x="2156" y="1617"/>
                </a:lnTo>
                <a:lnTo>
                  <a:pt x="2119" y="1624"/>
                </a:lnTo>
                <a:lnTo>
                  <a:pt x="2081" y="1632"/>
                </a:lnTo>
                <a:lnTo>
                  <a:pt x="2041" y="1640"/>
                </a:lnTo>
                <a:lnTo>
                  <a:pt x="2000" y="1647"/>
                </a:lnTo>
                <a:lnTo>
                  <a:pt x="1958" y="1653"/>
                </a:lnTo>
                <a:lnTo>
                  <a:pt x="1918" y="1661"/>
                </a:lnTo>
                <a:lnTo>
                  <a:pt x="1877" y="1666"/>
                </a:lnTo>
                <a:lnTo>
                  <a:pt x="1839" y="1672"/>
                </a:lnTo>
                <a:lnTo>
                  <a:pt x="1801" y="1676"/>
                </a:lnTo>
                <a:lnTo>
                  <a:pt x="1762" y="1682"/>
                </a:lnTo>
                <a:lnTo>
                  <a:pt x="1724" y="1684"/>
                </a:lnTo>
                <a:lnTo>
                  <a:pt x="1687" y="1688"/>
                </a:lnTo>
                <a:lnTo>
                  <a:pt x="1651" y="1691"/>
                </a:lnTo>
                <a:lnTo>
                  <a:pt x="1616" y="1693"/>
                </a:lnTo>
                <a:lnTo>
                  <a:pt x="1582" y="1695"/>
                </a:lnTo>
                <a:lnTo>
                  <a:pt x="1547" y="1697"/>
                </a:lnTo>
                <a:lnTo>
                  <a:pt x="1513" y="1697"/>
                </a:lnTo>
                <a:lnTo>
                  <a:pt x="1480" y="1699"/>
                </a:lnTo>
                <a:lnTo>
                  <a:pt x="1447" y="1699"/>
                </a:lnTo>
                <a:lnTo>
                  <a:pt x="1417" y="1699"/>
                </a:lnTo>
                <a:lnTo>
                  <a:pt x="1384" y="1699"/>
                </a:lnTo>
                <a:lnTo>
                  <a:pt x="1350" y="1699"/>
                </a:lnTo>
                <a:lnTo>
                  <a:pt x="1319" y="1697"/>
                </a:lnTo>
                <a:lnTo>
                  <a:pt x="1286" y="1697"/>
                </a:lnTo>
                <a:lnTo>
                  <a:pt x="1256" y="1695"/>
                </a:lnTo>
                <a:lnTo>
                  <a:pt x="1225" y="1695"/>
                </a:lnTo>
                <a:lnTo>
                  <a:pt x="1163" y="1691"/>
                </a:lnTo>
                <a:lnTo>
                  <a:pt x="1104" y="1688"/>
                </a:lnTo>
                <a:lnTo>
                  <a:pt x="1046" y="1682"/>
                </a:lnTo>
                <a:lnTo>
                  <a:pt x="989" y="1678"/>
                </a:lnTo>
                <a:lnTo>
                  <a:pt x="931" y="1674"/>
                </a:lnTo>
                <a:lnTo>
                  <a:pt x="902" y="1670"/>
                </a:lnTo>
                <a:lnTo>
                  <a:pt x="876" y="1668"/>
                </a:lnTo>
                <a:lnTo>
                  <a:pt x="849" y="1664"/>
                </a:lnTo>
                <a:lnTo>
                  <a:pt x="822" y="1661"/>
                </a:lnTo>
                <a:lnTo>
                  <a:pt x="797" y="1657"/>
                </a:lnTo>
                <a:lnTo>
                  <a:pt x="772" y="1653"/>
                </a:lnTo>
                <a:lnTo>
                  <a:pt x="747" y="1649"/>
                </a:lnTo>
                <a:lnTo>
                  <a:pt x="724" y="1643"/>
                </a:lnTo>
                <a:lnTo>
                  <a:pt x="701" y="1640"/>
                </a:lnTo>
                <a:lnTo>
                  <a:pt x="680" y="1634"/>
                </a:lnTo>
                <a:lnTo>
                  <a:pt x="659" y="1628"/>
                </a:lnTo>
                <a:lnTo>
                  <a:pt x="639" y="1622"/>
                </a:lnTo>
                <a:lnTo>
                  <a:pt x="620" y="1615"/>
                </a:lnTo>
                <a:lnTo>
                  <a:pt x="603" y="1609"/>
                </a:lnTo>
                <a:lnTo>
                  <a:pt x="586" y="1601"/>
                </a:lnTo>
                <a:lnTo>
                  <a:pt x="570" y="1595"/>
                </a:lnTo>
                <a:lnTo>
                  <a:pt x="551" y="1588"/>
                </a:lnTo>
                <a:lnTo>
                  <a:pt x="536" y="1580"/>
                </a:lnTo>
                <a:lnTo>
                  <a:pt x="519" y="1572"/>
                </a:lnTo>
                <a:lnTo>
                  <a:pt x="503" y="1565"/>
                </a:lnTo>
                <a:lnTo>
                  <a:pt x="490" y="1557"/>
                </a:lnTo>
                <a:lnTo>
                  <a:pt x="476" y="1549"/>
                </a:lnTo>
                <a:lnTo>
                  <a:pt x="463" y="1540"/>
                </a:lnTo>
                <a:lnTo>
                  <a:pt x="451" y="1532"/>
                </a:lnTo>
                <a:lnTo>
                  <a:pt x="440" y="1524"/>
                </a:lnTo>
                <a:lnTo>
                  <a:pt x="428" y="1515"/>
                </a:lnTo>
                <a:lnTo>
                  <a:pt x="419" y="1505"/>
                </a:lnTo>
                <a:lnTo>
                  <a:pt x="409" y="1496"/>
                </a:lnTo>
                <a:lnTo>
                  <a:pt x="400" y="1484"/>
                </a:lnTo>
                <a:lnTo>
                  <a:pt x="392" y="1474"/>
                </a:lnTo>
                <a:lnTo>
                  <a:pt x="382" y="1463"/>
                </a:lnTo>
                <a:lnTo>
                  <a:pt x="375" y="1451"/>
                </a:lnTo>
                <a:lnTo>
                  <a:pt x="361" y="1426"/>
                </a:lnTo>
                <a:lnTo>
                  <a:pt x="348" y="1402"/>
                </a:lnTo>
                <a:lnTo>
                  <a:pt x="342" y="1388"/>
                </a:lnTo>
                <a:lnTo>
                  <a:pt x="336" y="1375"/>
                </a:lnTo>
                <a:lnTo>
                  <a:pt x="330" y="1363"/>
                </a:lnTo>
                <a:lnTo>
                  <a:pt x="327" y="1350"/>
                </a:lnTo>
                <a:lnTo>
                  <a:pt x="323" y="1336"/>
                </a:lnTo>
                <a:lnTo>
                  <a:pt x="321" y="1321"/>
                </a:lnTo>
                <a:lnTo>
                  <a:pt x="319" y="1307"/>
                </a:lnTo>
                <a:lnTo>
                  <a:pt x="317" y="1292"/>
                </a:lnTo>
                <a:lnTo>
                  <a:pt x="317" y="1277"/>
                </a:lnTo>
                <a:lnTo>
                  <a:pt x="317" y="1261"/>
                </a:lnTo>
                <a:lnTo>
                  <a:pt x="317" y="1246"/>
                </a:lnTo>
                <a:lnTo>
                  <a:pt x="319" y="1229"/>
                </a:lnTo>
                <a:lnTo>
                  <a:pt x="323" y="1212"/>
                </a:lnTo>
                <a:lnTo>
                  <a:pt x="327" y="1194"/>
                </a:lnTo>
                <a:lnTo>
                  <a:pt x="330" y="1175"/>
                </a:lnTo>
                <a:lnTo>
                  <a:pt x="336" y="1158"/>
                </a:lnTo>
                <a:lnTo>
                  <a:pt x="342" y="1139"/>
                </a:lnTo>
                <a:lnTo>
                  <a:pt x="350" y="1119"/>
                </a:lnTo>
                <a:lnTo>
                  <a:pt x="357" y="1098"/>
                </a:lnTo>
                <a:lnTo>
                  <a:pt x="365" y="1079"/>
                </a:lnTo>
                <a:lnTo>
                  <a:pt x="375" y="1058"/>
                </a:lnTo>
                <a:lnTo>
                  <a:pt x="386" y="1035"/>
                </a:lnTo>
                <a:lnTo>
                  <a:pt x="398" y="1014"/>
                </a:lnTo>
                <a:lnTo>
                  <a:pt x="409" y="989"/>
                </a:lnTo>
                <a:lnTo>
                  <a:pt x="424" y="966"/>
                </a:lnTo>
                <a:lnTo>
                  <a:pt x="440" y="941"/>
                </a:lnTo>
                <a:lnTo>
                  <a:pt x="455" y="916"/>
                </a:lnTo>
                <a:lnTo>
                  <a:pt x="472" y="889"/>
                </a:lnTo>
                <a:lnTo>
                  <a:pt x="488" y="862"/>
                </a:lnTo>
                <a:lnTo>
                  <a:pt x="505" y="835"/>
                </a:lnTo>
                <a:lnTo>
                  <a:pt x="522" y="808"/>
                </a:lnTo>
                <a:lnTo>
                  <a:pt x="540" y="783"/>
                </a:lnTo>
                <a:lnTo>
                  <a:pt x="559" y="757"/>
                </a:lnTo>
                <a:lnTo>
                  <a:pt x="578" y="732"/>
                </a:lnTo>
                <a:lnTo>
                  <a:pt x="597" y="705"/>
                </a:lnTo>
                <a:lnTo>
                  <a:pt x="618" y="680"/>
                </a:lnTo>
                <a:lnTo>
                  <a:pt x="639" y="655"/>
                </a:lnTo>
                <a:lnTo>
                  <a:pt x="661" y="628"/>
                </a:lnTo>
                <a:lnTo>
                  <a:pt x="684" y="603"/>
                </a:lnTo>
                <a:lnTo>
                  <a:pt x="707" y="576"/>
                </a:lnTo>
                <a:lnTo>
                  <a:pt x="732" y="551"/>
                </a:lnTo>
                <a:lnTo>
                  <a:pt x="755" y="524"/>
                </a:lnTo>
                <a:lnTo>
                  <a:pt x="780" y="497"/>
                </a:lnTo>
                <a:lnTo>
                  <a:pt x="806" y="471"/>
                </a:lnTo>
                <a:lnTo>
                  <a:pt x="828" y="444"/>
                </a:lnTo>
                <a:lnTo>
                  <a:pt x="849" y="419"/>
                </a:lnTo>
                <a:lnTo>
                  <a:pt x="870" y="398"/>
                </a:lnTo>
                <a:lnTo>
                  <a:pt x="887" y="377"/>
                </a:lnTo>
                <a:lnTo>
                  <a:pt x="904" y="357"/>
                </a:lnTo>
                <a:lnTo>
                  <a:pt x="922" y="340"/>
                </a:lnTo>
                <a:lnTo>
                  <a:pt x="935" y="325"/>
                </a:lnTo>
                <a:lnTo>
                  <a:pt x="947" y="309"/>
                </a:lnTo>
                <a:lnTo>
                  <a:pt x="958" y="298"/>
                </a:lnTo>
                <a:lnTo>
                  <a:pt x="968" y="286"/>
                </a:lnTo>
                <a:lnTo>
                  <a:pt x="975" y="277"/>
                </a:lnTo>
                <a:lnTo>
                  <a:pt x="981" y="267"/>
                </a:lnTo>
                <a:lnTo>
                  <a:pt x="985" y="261"/>
                </a:lnTo>
                <a:lnTo>
                  <a:pt x="987" y="256"/>
                </a:lnTo>
                <a:lnTo>
                  <a:pt x="989" y="254"/>
                </a:lnTo>
                <a:lnTo>
                  <a:pt x="989" y="252"/>
                </a:lnTo>
                <a:lnTo>
                  <a:pt x="987" y="250"/>
                </a:lnTo>
                <a:lnTo>
                  <a:pt x="987" y="248"/>
                </a:lnTo>
                <a:lnTo>
                  <a:pt x="985" y="246"/>
                </a:lnTo>
                <a:lnTo>
                  <a:pt x="983" y="246"/>
                </a:lnTo>
                <a:lnTo>
                  <a:pt x="979" y="246"/>
                </a:lnTo>
                <a:lnTo>
                  <a:pt x="975" y="244"/>
                </a:lnTo>
                <a:lnTo>
                  <a:pt x="971" y="244"/>
                </a:lnTo>
                <a:lnTo>
                  <a:pt x="968" y="244"/>
                </a:lnTo>
                <a:lnTo>
                  <a:pt x="962" y="244"/>
                </a:lnTo>
                <a:lnTo>
                  <a:pt x="954" y="244"/>
                </a:lnTo>
                <a:lnTo>
                  <a:pt x="948" y="246"/>
                </a:lnTo>
                <a:lnTo>
                  <a:pt x="941" y="246"/>
                </a:lnTo>
                <a:lnTo>
                  <a:pt x="933" y="248"/>
                </a:lnTo>
                <a:lnTo>
                  <a:pt x="923" y="248"/>
                </a:lnTo>
                <a:lnTo>
                  <a:pt x="914" y="250"/>
                </a:lnTo>
                <a:lnTo>
                  <a:pt x="904" y="252"/>
                </a:lnTo>
                <a:lnTo>
                  <a:pt x="893" y="254"/>
                </a:lnTo>
                <a:lnTo>
                  <a:pt x="881" y="256"/>
                </a:lnTo>
                <a:lnTo>
                  <a:pt x="870" y="258"/>
                </a:lnTo>
                <a:lnTo>
                  <a:pt x="858" y="259"/>
                </a:lnTo>
                <a:lnTo>
                  <a:pt x="845" y="263"/>
                </a:lnTo>
                <a:lnTo>
                  <a:pt x="829" y="265"/>
                </a:lnTo>
                <a:lnTo>
                  <a:pt x="816" y="269"/>
                </a:lnTo>
                <a:lnTo>
                  <a:pt x="801" y="271"/>
                </a:lnTo>
                <a:lnTo>
                  <a:pt x="783" y="275"/>
                </a:lnTo>
                <a:lnTo>
                  <a:pt x="768" y="279"/>
                </a:lnTo>
                <a:lnTo>
                  <a:pt x="751" y="282"/>
                </a:lnTo>
                <a:lnTo>
                  <a:pt x="732" y="286"/>
                </a:lnTo>
                <a:lnTo>
                  <a:pt x="714" y="290"/>
                </a:lnTo>
                <a:lnTo>
                  <a:pt x="695" y="294"/>
                </a:lnTo>
                <a:lnTo>
                  <a:pt x="674" y="300"/>
                </a:lnTo>
                <a:lnTo>
                  <a:pt x="655" y="304"/>
                </a:lnTo>
                <a:lnTo>
                  <a:pt x="634" y="307"/>
                </a:lnTo>
                <a:lnTo>
                  <a:pt x="611" y="313"/>
                </a:lnTo>
                <a:lnTo>
                  <a:pt x="590" y="319"/>
                </a:lnTo>
                <a:lnTo>
                  <a:pt x="568" y="325"/>
                </a:lnTo>
                <a:lnTo>
                  <a:pt x="547" y="330"/>
                </a:lnTo>
                <a:lnTo>
                  <a:pt x="528" y="336"/>
                </a:lnTo>
                <a:lnTo>
                  <a:pt x="509" y="342"/>
                </a:lnTo>
                <a:lnTo>
                  <a:pt x="490" y="346"/>
                </a:lnTo>
                <a:lnTo>
                  <a:pt x="472" y="352"/>
                </a:lnTo>
                <a:lnTo>
                  <a:pt x="455" y="355"/>
                </a:lnTo>
                <a:lnTo>
                  <a:pt x="438" y="359"/>
                </a:lnTo>
                <a:lnTo>
                  <a:pt x="423" y="363"/>
                </a:lnTo>
                <a:lnTo>
                  <a:pt x="405" y="369"/>
                </a:lnTo>
                <a:lnTo>
                  <a:pt x="392" y="371"/>
                </a:lnTo>
                <a:lnTo>
                  <a:pt x="376" y="375"/>
                </a:lnTo>
                <a:lnTo>
                  <a:pt x="363" y="378"/>
                </a:lnTo>
                <a:lnTo>
                  <a:pt x="350" y="380"/>
                </a:lnTo>
                <a:lnTo>
                  <a:pt x="336" y="384"/>
                </a:lnTo>
                <a:lnTo>
                  <a:pt x="325" y="386"/>
                </a:lnTo>
                <a:lnTo>
                  <a:pt x="313" y="390"/>
                </a:lnTo>
                <a:lnTo>
                  <a:pt x="302" y="392"/>
                </a:lnTo>
                <a:lnTo>
                  <a:pt x="292" y="394"/>
                </a:lnTo>
                <a:lnTo>
                  <a:pt x="282" y="396"/>
                </a:lnTo>
                <a:lnTo>
                  <a:pt x="273" y="398"/>
                </a:lnTo>
                <a:lnTo>
                  <a:pt x="263" y="398"/>
                </a:lnTo>
                <a:lnTo>
                  <a:pt x="256" y="400"/>
                </a:lnTo>
                <a:lnTo>
                  <a:pt x="248" y="401"/>
                </a:lnTo>
                <a:lnTo>
                  <a:pt x="240" y="401"/>
                </a:lnTo>
                <a:lnTo>
                  <a:pt x="234" y="403"/>
                </a:lnTo>
                <a:lnTo>
                  <a:pt x="229" y="403"/>
                </a:lnTo>
                <a:lnTo>
                  <a:pt x="223" y="403"/>
                </a:lnTo>
                <a:lnTo>
                  <a:pt x="217" y="405"/>
                </a:lnTo>
                <a:lnTo>
                  <a:pt x="213" y="405"/>
                </a:lnTo>
                <a:lnTo>
                  <a:pt x="209" y="405"/>
                </a:lnTo>
                <a:lnTo>
                  <a:pt x="192" y="403"/>
                </a:lnTo>
                <a:lnTo>
                  <a:pt x="177" y="401"/>
                </a:lnTo>
                <a:lnTo>
                  <a:pt x="162" y="400"/>
                </a:lnTo>
                <a:lnTo>
                  <a:pt x="146" y="394"/>
                </a:lnTo>
                <a:lnTo>
                  <a:pt x="138" y="390"/>
                </a:lnTo>
                <a:lnTo>
                  <a:pt x="131" y="386"/>
                </a:lnTo>
                <a:lnTo>
                  <a:pt x="123" y="382"/>
                </a:lnTo>
                <a:lnTo>
                  <a:pt x="114" y="378"/>
                </a:lnTo>
                <a:lnTo>
                  <a:pt x="106" y="373"/>
                </a:lnTo>
                <a:lnTo>
                  <a:pt x="98" y="367"/>
                </a:lnTo>
                <a:lnTo>
                  <a:pt x="90" y="359"/>
                </a:lnTo>
                <a:lnTo>
                  <a:pt x="83" y="353"/>
                </a:lnTo>
                <a:lnTo>
                  <a:pt x="73" y="346"/>
                </a:lnTo>
                <a:lnTo>
                  <a:pt x="64" y="338"/>
                </a:lnTo>
                <a:lnTo>
                  <a:pt x="56" y="332"/>
                </a:lnTo>
                <a:lnTo>
                  <a:pt x="46" y="325"/>
                </a:lnTo>
                <a:lnTo>
                  <a:pt x="39" y="319"/>
                </a:lnTo>
                <a:lnTo>
                  <a:pt x="33" y="313"/>
                </a:lnTo>
                <a:lnTo>
                  <a:pt x="27" y="307"/>
                </a:lnTo>
                <a:lnTo>
                  <a:pt x="21" y="302"/>
                </a:lnTo>
                <a:lnTo>
                  <a:pt x="16" y="296"/>
                </a:lnTo>
                <a:lnTo>
                  <a:pt x="12" y="290"/>
                </a:lnTo>
                <a:lnTo>
                  <a:pt x="8" y="286"/>
                </a:lnTo>
                <a:lnTo>
                  <a:pt x="6" y="281"/>
                </a:lnTo>
                <a:lnTo>
                  <a:pt x="2" y="277"/>
                </a:lnTo>
                <a:lnTo>
                  <a:pt x="0" y="271"/>
                </a:lnTo>
                <a:lnTo>
                  <a:pt x="0" y="265"/>
                </a:lnTo>
                <a:lnTo>
                  <a:pt x="0" y="261"/>
                </a:lnTo>
                <a:lnTo>
                  <a:pt x="92" y="250"/>
                </a:lnTo>
                <a:lnTo>
                  <a:pt x="185" y="238"/>
                </a:lnTo>
                <a:lnTo>
                  <a:pt x="275" y="227"/>
                </a:lnTo>
                <a:lnTo>
                  <a:pt x="319" y="221"/>
                </a:lnTo>
                <a:lnTo>
                  <a:pt x="363" y="213"/>
                </a:lnTo>
                <a:lnTo>
                  <a:pt x="407" y="208"/>
                </a:lnTo>
                <a:lnTo>
                  <a:pt x="449" y="200"/>
                </a:lnTo>
                <a:lnTo>
                  <a:pt x="492" y="192"/>
                </a:lnTo>
                <a:lnTo>
                  <a:pt x="534" y="187"/>
                </a:lnTo>
                <a:lnTo>
                  <a:pt x="574" y="179"/>
                </a:lnTo>
                <a:lnTo>
                  <a:pt x="614" y="171"/>
                </a:lnTo>
                <a:lnTo>
                  <a:pt x="655" y="163"/>
                </a:lnTo>
                <a:lnTo>
                  <a:pt x="695" y="156"/>
                </a:lnTo>
                <a:lnTo>
                  <a:pt x="714" y="152"/>
                </a:lnTo>
                <a:lnTo>
                  <a:pt x="733" y="148"/>
                </a:lnTo>
                <a:lnTo>
                  <a:pt x="751" y="146"/>
                </a:lnTo>
                <a:lnTo>
                  <a:pt x="768" y="142"/>
                </a:lnTo>
                <a:lnTo>
                  <a:pt x="785" y="139"/>
                </a:lnTo>
                <a:lnTo>
                  <a:pt x="803" y="135"/>
                </a:lnTo>
                <a:lnTo>
                  <a:pt x="818" y="133"/>
                </a:lnTo>
                <a:lnTo>
                  <a:pt x="833" y="129"/>
                </a:lnTo>
                <a:lnTo>
                  <a:pt x="849" y="125"/>
                </a:lnTo>
                <a:lnTo>
                  <a:pt x="862" y="123"/>
                </a:lnTo>
                <a:lnTo>
                  <a:pt x="876" y="119"/>
                </a:lnTo>
                <a:lnTo>
                  <a:pt x="889" y="115"/>
                </a:lnTo>
                <a:lnTo>
                  <a:pt x="902" y="114"/>
                </a:lnTo>
                <a:lnTo>
                  <a:pt x="914" y="110"/>
                </a:lnTo>
                <a:lnTo>
                  <a:pt x="927" y="108"/>
                </a:lnTo>
                <a:lnTo>
                  <a:pt x="937" y="104"/>
                </a:lnTo>
                <a:lnTo>
                  <a:pt x="948" y="100"/>
                </a:lnTo>
                <a:lnTo>
                  <a:pt x="958" y="98"/>
                </a:lnTo>
                <a:lnTo>
                  <a:pt x="977" y="92"/>
                </a:lnTo>
                <a:lnTo>
                  <a:pt x="995" y="85"/>
                </a:lnTo>
                <a:lnTo>
                  <a:pt x="1012" y="79"/>
                </a:lnTo>
                <a:lnTo>
                  <a:pt x="1025" y="73"/>
                </a:lnTo>
                <a:lnTo>
                  <a:pt x="1037" y="66"/>
                </a:lnTo>
                <a:lnTo>
                  <a:pt x="1046" y="60"/>
                </a:lnTo>
                <a:lnTo>
                  <a:pt x="1056" y="52"/>
                </a:lnTo>
                <a:lnTo>
                  <a:pt x="1064" y="44"/>
                </a:lnTo>
                <a:lnTo>
                  <a:pt x="1071" y="39"/>
                </a:lnTo>
                <a:lnTo>
                  <a:pt x="1077" y="33"/>
                </a:lnTo>
                <a:lnTo>
                  <a:pt x="1085" y="27"/>
                </a:lnTo>
                <a:lnTo>
                  <a:pt x="1090" y="21"/>
                </a:lnTo>
                <a:lnTo>
                  <a:pt x="1096" y="18"/>
                </a:lnTo>
                <a:lnTo>
                  <a:pt x="1104" y="14"/>
                </a:lnTo>
                <a:lnTo>
                  <a:pt x="1110" y="10"/>
                </a:lnTo>
                <a:lnTo>
                  <a:pt x="1121" y="6"/>
                </a:lnTo>
                <a:lnTo>
                  <a:pt x="1131" y="2"/>
                </a:lnTo>
                <a:lnTo>
                  <a:pt x="1142" y="0"/>
                </a:lnTo>
                <a:lnTo>
                  <a:pt x="1154" y="0"/>
                </a:lnTo>
                <a:lnTo>
                  <a:pt x="1158" y="0"/>
                </a:lnTo>
                <a:lnTo>
                  <a:pt x="1165" y="0"/>
                </a:lnTo>
                <a:lnTo>
                  <a:pt x="1171" y="2"/>
                </a:lnTo>
                <a:lnTo>
                  <a:pt x="1179" y="4"/>
                </a:lnTo>
                <a:lnTo>
                  <a:pt x="1186" y="8"/>
                </a:lnTo>
                <a:lnTo>
                  <a:pt x="1196" y="12"/>
                </a:lnTo>
                <a:lnTo>
                  <a:pt x="1204" y="16"/>
                </a:lnTo>
                <a:lnTo>
                  <a:pt x="1213" y="20"/>
                </a:lnTo>
                <a:lnTo>
                  <a:pt x="1225" y="27"/>
                </a:lnTo>
                <a:lnTo>
                  <a:pt x="1234" y="33"/>
                </a:lnTo>
                <a:lnTo>
                  <a:pt x="1246" y="41"/>
                </a:lnTo>
                <a:lnTo>
                  <a:pt x="1257" y="48"/>
                </a:lnTo>
                <a:lnTo>
                  <a:pt x="1269" y="58"/>
                </a:lnTo>
                <a:lnTo>
                  <a:pt x="1280" y="67"/>
                </a:lnTo>
                <a:lnTo>
                  <a:pt x="1292" y="79"/>
                </a:lnTo>
                <a:lnTo>
                  <a:pt x="1305" y="9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91200" y="2712960"/>
            <a:ext cx="1209600" cy="281160"/>
          </a:xfrm>
          <a:custGeom>
            <a:avLst/>
            <a:gdLst/>
            <a:ahLst/>
            <a:rect l="l" t="t" r="r" b="b"/>
            <a:pathLst>
              <a:path w="1524" h="355">
                <a:moveTo>
                  <a:pt x="28" y="238"/>
                </a:moveTo>
                <a:lnTo>
                  <a:pt x="65" y="238"/>
                </a:lnTo>
                <a:lnTo>
                  <a:pt x="103" y="236"/>
                </a:lnTo>
                <a:lnTo>
                  <a:pt x="145" y="234"/>
                </a:lnTo>
                <a:lnTo>
                  <a:pt x="188" y="230"/>
                </a:lnTo>
                <a:lnTo>
                  <a:pt x="230" y="226"/>
                </a:lnTo>
                <a:lnTo>
                  <a:pt x="276" y="221"/>
                </a:lnTo>
                <a:lnTo>
                  <a:pt x="324" y="215"/>
                </a:lnTo>
                <a:lnTo>
                  <a:pt x="372" y="207"/>
                </a:lnTo>
                <a:lnTo>
                  <a:pt x="422" y="198"/>
                </a:lnTo>
                <a:lnTo>
                  <a:pt x="474" y="188"/>
                </a:lnTo>
                <a:lnTo>
                  <a:pt x="527" y="178"/>
                </a:lnTo>
                <a:lnTo>
                  <a:pt x="583" y="167"/>
                </a:lnTo>
                <a:lnTo>
                  <a:pt x="639" y="153"/>
                </a:lnTo>
                <a:lnTo>
                  <a:pt x="698" y="138"/>
                </a:lnTo>
                <a:lnTo>
                  <a:pt x="758" y="123"/>
                </a:lnTo>
                <a:lnTo>
                  <a:pt x="819" y="107"/>
                </a:lnTo>
                <a:lnTo>
                  <a:pt x="850" y="100"/>
                </a:lnTo>
                <a:lnTo>
                  <a:pt x="881" y="92"/>
                </a:lnTo>
                <a:lnTo>
                  <a:pt x="909" y="84"/>
                </a:lnTo>
                <a:lnTo>
                  <a:pt x="938" y="79"/>
                </a:lnTo>
                <a:lnTo>
                  <a:pt x="965" y="73"/>
                </a:lnTo>
                <a:lnTo>
                  <a:pt x="992" y="65"/>
                </a:lnTo>
                <a:lnTo>
                  <a:pt x="1019" y="59"/>
                </a:lnTo>
                <a:lnTo>
                  <a:pt x="1044" y="56"/>
                </a:lnTo>
                <a:lnTo>
                  <a:pt x="1069" y="50"/>
                </a:lnTo>
                <a:lnTo>
                  <a:pt x="1092" y="44"/>
                </a:lnTo>
                <a:lnTo>
                  <a:pt x="1115" y="40"/>
                </a:lnTo>
                <a:lnTo>
                  <a:pt x="1136" y="34"/>
                </a:lnTo>
                <a:lnTo>
                  <a:pt x="1157" y="31"/>
                </a:lnTo>
                <a:lnTo>
                  <a:pt x="1178" y="27"/>
                </a:lnTo>
                <a:lnTo>
                  <a:pt x="1197" y="23"/>
                </a:lnTo>
                <a:lnTo>
                  <a:pt x="1215" y="19"/>
                </a:lnTo>
                <a:lnTo>
                  <a:pt x="1234" y="15"/>
                </a:lnTo>
                <a:lnTo>
                  <a:pt x="1251" y="13"/>
                </a:lnTo>
                <a:lnTo>
                  <a:pt x="1266" y="9"/>
                </a:lnTo>
                <a:lnTo>
                  <a:pt x="1282" y="8"/>
                </a:lnTo>
                <a:lnTo>
                  <a:pt x="1297" y="6"/>
                </a:lnTo>
                <a:lnTo>
                  <a:pt x="1310" y="4"/>
                </a:lnTo>
                <a:lnTo>
                  <a:pt x="1324" y="2"/>
                </a:lnTo>
                <a:lnTo>
                  <a:pt x="1335" y="2"/>
                </a:lnTo>
                <a:lnTo>
                  <a:pt x="1347" y="0"/>
                </a:lnTo>
                <a:lnTo>
                  <a:pt x="1357" y="0"/>
                </a:lnTo>
                <a:lnTo>
                  <a:pt x="1366" y="0"/>
                </a:lnTo>
                <a:lnTo>
                  <a:pt x="1376" y="0"/>
                </a:lnTo>
                <a:lnTo>
                  <a:pt x="1383" y="0"/>
                </a:lnTo>
                <a:lnTo>
                  <a:pt x="1391" y="0"/>
                </a:lnTo>
                <a:lnTo>
                  <a:pt x="1397" y="0"/>
                </a:lnTo>
                <a:lnTo>
                  <a:pt x="1403" y="2"/>
                </a:lnTo>
                <a:lnTo>
                  <a:pt x="1418" y="8"/>
                </a:lnTo>
                <a:lnTo>
                  <a:pt x="1433" y="13"/>
                </a:lnTo>
                <a:lnTo>
                  <a:pt x="1449" y="21"/>
                </a:lnTo>
                <a:lnTo>
                  <a:pt x="1464" y="29"/>
                </a:lnTo>
                <a:lnTo>
                  <a:pt x="1477" y="38"/>
                </a:lnTo>
                <a:lnTo>
                  <a:pt x="1491" y="48"/>
                </a:lnTo>
                <a:lnTo>
                  <a:pt x="1502" y="57"/>
                </a:lnTo>
                <a:lnTo>
                  <a:pt x="1514" y="67"/>
                </a:lnTo>
                <a:lnTo>
                  <a:pt x="1518" y="77"/>
                </a:lnTo>
                <a:lnTo>
                  <a:pt x="1522" y="86"/>
                </a:lnTo>
                <a:lnTo>
                  <a:pt x="1524" y="96"/>
                </a:lnTo>
                <a:lnTo>
                  <a:pt x="1524" y="105"/>
                </a:lnTo>
                <a:lnTo>
                  <a:pt x="1524" y="113"/>
                </a:lnTo>
                <a:lnTo>
                  <a:pt x="1522" y="121"/>
                </a:lnTo>
                <a:lnTo>
                  <a:pt x="1518" y="127"/>
                </a:lnTo>
                <a:lnTo>
                  <a:pt x="1514" y="132"/>
                </a:lnTo>
                <a:lnTo>
                  <a:pt x="1510" y="136"/>
                </a:lnTo>
                <a:lnTo>
                  <a:pt x="1506" y="138"/>
                </a:lnTo>
                <a:lnTo>
                  <a:pt x="1502" y="140"/>
                </a:lnTo>
                <a:lnTo>
                  <a:pt x="1497" y="144"/>
                </a:lnTo>
                <a:lnTo>
                  <a:pt x="1489" y="146"/>
                </a:lnTo>
                <a:lnTo>
                  <a:pt x="1481" y="150"/>
                </a:lnTo>
                <a:lnTo>
                  <a:pt x="1472" y="151"/>
                </a:lnTo>
                <a:lnTo>
                  <a:pt x="1462" y="155"/>
                </a:lnTo>
                <a:lnTo>
                  <a:pt x="1451" y="157"/>
                </a:lnTo>
                <a:lnTo>
                  <a:pt x="1439" y="161"/>
                </a:lnTo>
                <a:lnTo>
                  <a:pt x="1428" y="165"/>
                </a:lnTo>
                <a:lnTo>
                  <a:pt x="1414" y="169"/>
                </a:lnTo>
                <a:lnTo>
                  <a:pt x="1399" y="173"/>
                </a:lnTo>
                <a:lnTo>
                  <a:pt x="1383" y="175"/>
                </a:lnTo>
                <a:lnTo>
                  <a:pt x="1366" y="178"/>
                </a:lnTo>
                <a:lnTo>
                  <a:pt x="1349" y="182"/>
                </a:lnTo>
                <a:lnTo>
                  <a:pt x="1332" y="186"/>
                </a:lnTo>
                <a:lnTo>
                  <a:pt x="1312" y="192"/>
                </a:lnTo>
                <a:lnTo>
                  <a:pt x="1291" y="196"/>
                </a:lnTo>
                <a:lnTo>
                  <a:pt x="1270" y="199"/>
                </a:lnTo>
                <a:lnTo>
                  <a:pt x="1247" y="203"/>
                </a:lnTo>
                <a:lnTo>
                  <a:pt x="1224" y="209"/>
                </a:lnTo>
                <a:lnTo>
                  <a:pt x="1201" y="213"/>
                </a:lnTo>
                <a:lnTo>
                  <a:pt x="1176" y="219"/>
                </a:lnTo>
                <a:lnTo>
                  <a:pt x="1151" y="224"/>
                </a:lnTo>
                <a:lnTo>
                  <a:pt x="1124" y="228"/>
                </a:lnTo>
                <a:lnTo>
                  <a:pt x="1096" y="234"/>
                </a:lnTo>
                <a:lnTo>
                  <a:pt x="1067" y="240"/>
                </a:lnTo>
                <a:lnTo>
                  <a:pt x="1038" y="246"/>
                </a:lnTo>
                <a:lnTo>
                  <a:pt x="1007" y="251"/>
                </a:lnTo>
                <a:lnTo>
                  <a:pt x="977" y="257"/>
                </a:lnTo>
                <a:lnTo>
                  <a:pt x="944" y="263"/>
                </a:lnTo>
                <a:lnTo>
                  <a:pt x="877" y="276"/>
                </a:lnTo>
                <a:lnTo>
                  <a:pt x="811" y="286"/>
                </a:lnTo>
                <a:lnTo>
                  <a:pt x="746" y="297"/>
                </a:lnTo>
                <a:lnTo>
                  <a:pt x="681" y="305"/>
                </a:lnTo>
                <a:lnTo>
                  <a:pt x="620" y="315"/>
                </a:lnTo>
                <a:lnTo>
                  <a:pt x="556" y="322"/>
                </a:lnTo>
                <a:lnTo>
                  <a:pt x="495" y="328"/>
                </a:lnTo>
                <a:lnTo>
                  <a:pt x="435" y="334"/>
                </a:lnTo>
                <a:lnTo>
                  <a:pt x="378" y="340"/>
                </a:lnTo>
                <a:lnTo>
                  <a:pt x="320" y="343"/>
                </a:lnTo>
                <a:lnTo>
                  <a:pt x="263" y="347"/>
                </a:lnTo>
                <a:lnTo>
                  <a:pt x="209" y="349"/>
                </a:lnTo>
                <a:lnTo>
                  <a:pt x="155" y="353"/>
                </a:lnTo>
                <a:lnTo>
                  <a:pt x="101" y="353"/>
                </a:lnTo>
                <a:lnTo>
                  <a:pt x="49" y="355"/>
                </a:lnTo>
                <a:lnTo>
                  <a:pt x="0" y="355"/>
                </a:lnTo>
                <a:lnTo>
                  <a:pt x="15" y="295"/>
                </a:lnTo>
                <a:lnTo>
                  <a:pt x="28" y="2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5605560" y="2303640"/>
            <a:ext cx="1004760" cy="984240"/>
          </a:xfrm>
          <a:custGeom>
            <a:avLst/>
            <a:gdLst/>
            <a:ahLst/>
            <a:rect l="l" t="t" r="r" b="b"/>
            <a:pathLst>
              <a:path w="1267" h="1239">
                <a:moveTo>
                  <a:pt x="265" y="988"/>
                </a:moveTo>
                <a:lnTo>
                  <a:pt x="302" y="959"/>
                </a:lnTo>
                <a:lnTo>
                  <a:pt x="336" y="930"/>
                </a:lnTo>
                <a:lnTo>
                  <a:pt x="371" y="902"/>
                </a:lnTo>
                <a:lnTo>
                  <a:pt x="403" y="873"/>
                </a:lnTo>
                <a:lnTo>
                  <a:pt x="434" y="844"/>
                </a:lnTo>
                <a:lnTo>
                  <a:pt x="467" y="815"/>
                </a:lnTo>
                <a:lnTo>
                  <a:pt x="495" y="788"/>
                </a:lnTo>
                <a:lnTo>
                  <a:pt x="524" y="762"/>
                </a:lnTo>
                <a:lnTo>
                  <a:pt x="551" y="733"/>
                </a:lnTo>
                <a:lnTo>
                  <a:pt x="578" y="706"/>
                </a:lnTo>
                <a:lnTo>
                  <a:pt x="603" y="679"/>
                </a:lnTo>
                <a:lnTo>
                  <a:pt x="628" y="652"/>
                </a:lnTo>
                <a:lnTo>
                  <a:pt x="651" y="625"/>
                </a:lnTo>
                <a:lnTo>
                  <a:pt x="672" y="598"/>
                </a:lnTo>
                <a:lnTo>
                  <a:pt x="691" y="572"/>
                </a:lnTo>
                <a:lnTo>
                  <a:pt x="710" y="545"/>
                </a:lnTo>
                <a:lnTo>
                  <a:pt x="728" y="520"/>
                </a:lnTo>
                <a:lnTo>
                  <a:pt x="745" y="497"/>
                </a:lnTo>
                <a:lnTo>
                  <a:pt x="762" y="474"/>
                </a:lnTo>
                <a:lnTo>
                  <a:pt x="780" y="451"/>
                </a:lnTo>
                <a:lnTo>
                  <a:pt x="797" y="428"/>
                </a:lnTo>
                <a:lnTo>
                  <a:pt x="812" y="406"/>
                </a:lnTo>
                <a:lnTo>
                  <a:pt x="828" y="385"/>
                </a:lnTo>
                <a:lnTo>
                  <a:pt x="843" y="366"/>
                </a:lnTo>
                <a:lnTo>
                  <a:pt x="856" y="345"/>
                </a:lnTo>
                <a:lnTo>
                  <a:pt x="870" y="326"/>
                </a:lnTo>
                <a:lnTo>
                  <a:pt x="881" y="307"/>
                </a:lnTo>
                <a:lnTo>
                  <a:pt x="895" y="289"/>
                </a:lnTo>
                <a:lnTo>
                  <a:pt x="904" y="270"/>
                </a:lnTo>
                <a:lnTo>
                  <a:pt x="916" y="253"/>
                </a:lnTo>
                <a:lnTo>
                  <a:pt x="923" y="236"/>
                </a:lnTo>
                <a:lnTo>
                  <a:pt x="933" y="218"/>
                </a:lnTo>
                <a:lnTo>
                  <a:pt x="941" y="203"/>
                </a:lnTo>
                <a:lnTo>
                  <a:pt x="947" y="190"/>
                </a:lnTo>
                <a:lnTo>
                  <a:pt x="952" y="176"/>
                </a:lnTo>
                <a:lnTo>
                  <a:pt x="958" y="163"/>
                </a:lnTo>
                <a:lnTo>
                  <a:pt x="962" y="151"/>
                </a:lnTo>
                <a:lnTo>
                  <a:pt x="966" y="142"/>
                </a:lnTo>
                <a:lnTo>
                  <a:pt x="970" y="130"/>
                </a:lnTo>
                <a:lnTo>
                  <a:pt x="971" y="120"/>
                </a:lnTo>
                <a:lnTo>
                  <a:pt x="973" y="113"/>
                </a:lnTo>
                <a:lnTo>
                  <a:pt x="975" y="103"/>
                </a:lnTo>
                <a:lnTo>
                  <a:pt x="975" y="97"/>
                </a:lnTo>
                <a:lnTo>
                  <a:pt x="973" y="90"/>
                </a:lnTo>
                <a:lnTo>
                  <a:pt x="971" y="86"/>
                </a:lnTo>
                <a:lnTo>
                  <a:pt x="970" y="80"/>
                </a:lnTo>
                <a:lnTo>
                  <a:pt x="966" y="76"/>
                </a:lnTo>
                <a:lnTo>
                  <a:pt x="960" y="74"/>
                </a:lnTo>
                <a:lnTo>
                  <a:pt x="952" y="71"/>
                </a:lnTo>
                <a:lnTo>
                  <a:pt x="947" y="69"/>
                </a:lnTo>
                <a:lnTo>
                  <a:pt x="941" y="65"/>
                </a:lnTo>
                <a:lnTo>
                  <a:pt x="937" y="61"/>
                </a:lnTo>
                <a:lnTo>
                  <a:pt x="933" y="57"/>
                </a:lnTo>
                <a:lnTo>
                  <a:pt x="931" y="53"/>
                </a:lnTo>
                <a:lnTo>
                  <a:pt x="929" y="49"/>
                </a:lnTo>
                <a:lnTo>
                  <a:pt x="927" y="46"/>
                </a:lnTo>
                <a:lnTo>
                  <a:pt x="927" y="42"/>
                </a:lnTo>
                <a:lnTo>
                  <a:pt x="927" y="36"/>
                </a:lnTo>
                <a:lnTo>
                  <a:pt x="929" y="32"/>
                </a:lnTo>
                <a:lnTo>
                  <a:pt x="931" y="28"/>
                </a:lnTo>
                <a:lnTo>
                  <a:pt x="933" y="23"/>
                </a:lnTo>
                <a:lnTo>
                  <a:pt x="937" y="19"/>
                </a:lnTo>
                <a:lnTo>
                  <a:pt x="941" y="13"/>
                </a:lnTo>
                <a:lnTo>
                  <a:pt x="947" y="9"/>
                </a:lnTo>
                <a:lnTo>
                  <a:pt x="952" y="5"/>
                </a:lnTo>
                <a:lnTo>
                  <a:pt x="958" y="3"/>
                </a:lnTo>
                <a:lnTo>
                  <a:pt x="966" y="1"/>
                </a:lnTo>
                <a:lnTo>
                  <a:pt x="973" y="1"/>
                </a:lnTo>
                <a:lnTo>
                  <a:pt x="981" y="0"/>
                </a:lnTo>
                <a:lnTo>
                  <a:pt x="989" y="0"/>
                </a:lnTo>
                <a:lnTo>
                  <a:pt x="998" y="0"/>
                </a:lnTo>
                <a:lnTo>
                  <a:pt x="1010" y="1"/>
                </a:lnTo>
                <a:lnTo>
                  <a:pt x="1019" y="3"/>
                </a:lnTo>
                <a:lnTo>
                  <a:pt x="1031" y="5"/>
                </a:lnTo>
                <a:lnTo>
                  <a:pt x="1042" y="7"/>
                </a:lnTo>
                <a:lnTo>
                  <a:pt x="1056" y="11"/>
                </a:lnTo>
                <a:lnTo>
                  <a:pt x="1069" y="15"/>
                </a:lnTo>
                <a:lnTo>
                  <a:pt x="1083" y="21"/>
                </a:lnTo>
                <a:lnTo>
                  <a:pt x="1098" y="26"/>
                </a:lnTo>
                <a:lnTo>
                  <a:pt x="1114" y="34"/>
                </a:lnTo>
                <a:lnTo>
                  <a:pt x="1129" y="42"/>
                </a:lnTo>
                <a:lnTo>
                  <a:pt x="1142" y="49"/>
                </a:lnTo>
                <a:lnTo>
                  <a:pt x="1158" y="57"/>
                </a:lnTo>
                <a:lnTo>
                  <a:pt x="1169" y="63"/>
                </a:lnTo>
                <a:lnTo>
                  <a:pt x="1183" y="71"/>
                </a:lnTo>
                <a:lnTo>
                  <a:pt x="1194" y="78"/>
                </a:lnTo>
                <a:lnTo>
                  <a:pt x="1206" y="84"/>
                </a:lnTo>
                <a:lnTo>
                  <a:pt x="1215" y="92"/>
                </a:lnTo>
                <a:lnTo>
                  <a:pt x="1225" y="97"/>
                </a:lnTo>
                <a:lnTo>
                  <a:pt x="1234" y="105"/>
                </a:lnTo>
                <a:lnTo>
                  <a:pt x="1242" y="111"/>
                </a:lnTo>
                <a:lnTo>
                  <a:pt x="1248" y="117"/>
                </a:lnTo>
                <a:lnTo>
                  <a:pt x="1254" y="122"/>
                </a:lnTo>
                <a:lnTo>
                  <a:pt x="1259" y="128"/>
                </a:lnTo>
                <a:lnTo>
                  <a:pt x="1263" y="134"/>
                </a:lnTo>
                <a:lnTo>
                  <a:pt x="1267" y="140"/>
                </a:lnTo>
                <a:lnTo>
                  <a:pt x="1267" y="143"/>
                </a:lnTo>
                <a:lnTo>
                  <a:pt x="1267" y="147"/>
                </a:lnTo>
                <a:lnTo>
                  <a:pt x="1267" y="151"/>
                </a:lnTo>
                <a:lnTo>
                  <a:pt x="1267" y="155"/>
                </a:lnTo>
                <a:lnTo>
                  <a:pt x="1267" y="161"/>
                </a:lnTo>
                <a:lnTo>
                  <a:pt x="1265" y="167"/>
                </a:lnTo>
                <a:lnTo>
                  <a:pt x="1261" y="178"/>
                </a:lnTo>
                <a:lnTo>
                  <a:pt x="1254" y="191"/>
                </a:lnTo>
                <a:lnTo>
                  <a:pt x="1246" y="207"/>
                </a:lnTo>
                <a:lnTo>
                  <a:pt x="1236" y="222"/>
                </a:lnTo>
                <a:lnTo>
                  <a:pt x="1225" y="239"/>
                </a:lnTo>
                <a:lnTo>
                  <a:pt x="1211" y="259"/>
                </a:lnTo>
                <a:lnTo>
                  <a:pt x="1196" y="280"/>
                </a:lnTo>
                <a:lnTo>
                  <a:pt x="1181" y="301"/>
                </a:lnTo>
                <a:lnTo>
                  <a:pt x="1161" y="326"/>
                </a:lnTo>
                <a:lnTo>
                  <a:pt x="1142" y="351"/>
                </a:lnTo>
                <a:lnTo>
                  <a:pt x="1119" y="380"/>
                </a:lnTo>
                <a:lnTo>
                  <a:pt x="1096" y="408"/>
                </a:lnTo>
                <a:lnTo>
                  <a:pt x="1071" y="439"/>
                </a:lnTo>
                <a:lnTo>
                  <a:pt x="1046" y="472"/>
                </a:lnTo>
                <a:lnTo>
                  <a:pt x="1019" y="502"/>
                </a:lnTo>
                <a:lnTo>
                  <a:pt x="995" y="533"/>
                </a:lnTo>
                <a:lnTo>
                  <a:pt x="968" y="562"/>
                </a:lnTo>
                <a:lnTo>
                  <a:pt x="941" y="591"/>
                </a:lnTo>
                <a:lnTo>
                  <a:pt x="914" y="620"/>
                </a:lnTo>
                <a:lnTo>
                  <a:pt x="889" y="646"/>
                </a:lnTo>
                <a:lnTo>
                  <a:pt x="862" y="673"/>
                </a:lnTo>
                <a:lnTo>
                  <a:pt x="835" y="698"/>
                </a:lnTo>
                <a:lnTo>
                  <a:pt x="808" y="723"/>
                </a:lnTo>
                <a:lnTo>
                  <a:pt x="780" y="748"/>
                </a:lnTo>
                <a:lnTo>
                  <a:pt x="753" y="771"/>
                </a:lnTo>
                <a:lnTo>
                  <a:pt x="726" y="794"/>
                </a:lnTo>
                <a:lnTo>
                  <a:pt x="697" y="817"/>
                </a:lnTo>
                <a:lnTo>
                  <a:pt x="670" y="836"/>
                </a:lnTo>
                <a:lnTo>
                  <a:pt x="641" y="858"/>
                </a:lnTo>
                <a:lnTo>
                  <a:pt x="613" y="881"/>
                </a:lnTo>
                <a:lnTo>
                  <a:pt x="584" y="902"/>
                </a:lnTo>
                <a:lnTo>
                  <a:pt x="557" y="921"/>
                </a:lnTo>
                <a:lnTo>
                  <a:pt x="530" y="942"/>
                </a:lnTo>
                <a:lnTo>
                  <a:pt x="501" y="961"/>
                </a:lnTo>
                <a:lnTo>
                  <a:pt x="474" y="980"/>
                </a:lnTo>
                <a:lnTo>
                  <a:pt x="449" y="998"/>
                </a:lnTo>
                <a:lnTo>
                  <a:pt x="423" y="1017"/>
                </a:lnTo>
                <a:lnTo>
                  <a:pt x="371" y="1051"/>
                </a:lnTo>
                <a:lnTo>
                  <a:pt x="321" y="1084"/>
                </a:lnTo>
                <a:lnTo>
                  <a:pt x="271" y="1115"/>
                </a:lnTo>
                <a:lnTo>
                  <a:pt x="225" y="1145"/>
                </a:lnTo>
                <a:lnTo>
                  <a:pt x="200" y="1159"/>
                </a:lnTo>
                <a:lnTo>
                  <a:pt x="175" y="1172"/>
                </a:lnTo>
                <a:lnTo>
                  <a:pt x="154" y="1184"/>
                </a:lnTo>
                <a:lnTo>
                  <a:pt x="133" y="1195"/>
                </a:lnTo>
                <a:lnTo>
                  <a:pt x="114" y="1205"/>
                </a:lnTo>
                <a:lnTo>
                  <a:pt x="96" y="1213"/>
                </a:lnTo>
                <a:lnTo>
                  <a:pt x="81" y="1220"/>
                </a:lnTo>
                <a:lnTo>
                  <a:pt x="66" y="1226"/>
                </a:lnTo>
                <a:lnTo>
                  <a:pt x="54" y="1232"/>
                </a:lnTo>
                <a:lnTo>
                  <a:pt x="43" y="1236"/>
                </a:lnTo>
                <a:lnTo>
                  <a:pt x="31" y="1238"/>
                </a:lnTo>
                <a:lnTo>
                  <a:pt x="23" y="1239"/>
                </a:lnTo>
                <a:lnTo>
                  <a:pt x="16" y="1239"/>
                </a:lnTo>
                <a:lnTo>
                  <a:pt x="10" y="1239"/>
                </a:lnTo>
                <a:lnTo>
                  <a:pt x="4" y="1239"/>
                </a:lnTo>
                <a:lnTo>
                  <a:pt x="2" y="1238"/>
                </a:lnTo>
                <a:lnTo>
                  <a:pt x="0" y="1236"/>
                </a:lnTo>
                <a:lnTo>
                  <a:pt x="0" y="1234"/>
                </a:lnTo>
                <a:lnTo>
                  <a:pt x="0" y="1232"/>
                </a:lnTo>
                <a:lnTo>
                  <a:pt x="2" y="1228"/>
                </a:lnTo>
                <a:lnTo>
                  <a:pt x="2" y="1226"/>
                </a:lnTo>
                <a:lnTo>
                  <a:pt x="4" y="1222"/>
                </a:lnTo>
                <a:lnTo>
                  <a:pt x="8" y="1218"/>
                </a:lnTo>
                <a:lnTo>
                  <a:pt x="10" y="1213"/>
                </a:lnTo>
                <a:lnTo>
                  <a:pt x="14" y="1209"/>
                </a:lnTo>
                <a:lnTo>
                  <a:pt x="18" y="1203"/>
                </a:lnTo>
                <a:lnTo>
                  <a:pt x="23" y="1197"/>
                </a:lnTo>
                <a:lnTo>
                  <a:pt x="29" y="1192"/>
                </a:lnTo>
                <a:lnTo>
                  <a:pt x="35" y="1184"/>
                </a:lnTo>
                <a:lnTo>
                  <a:pt x="41" y="1178"/>
                </a:lnTo>
                <a:lnTo>
                  <a:pt x="48" y="1170"/>
                </a:lnTo>
                <a:lnTo>
                  <a:pt x="56" y="1163"/>
                </a:lnTo>
                <a:lnTo>
                  <a:pt x="66" y="1155"/>
                </a:lnTo>
                <a:lnTo>
                  <a:pt x="73" y="1145"/>
                </a:lnTo>
                <a:lnTo>
                  <a:pt x="83" y="1138"/>
                </a:lnTo>
                <a:lnTo>
                  <a:pt x="94" y="1128"/>
                </a:lnTo>
                <a:lnTo>
                  <a:pt x="104" y="1119"/>
                </a:lnTo>
                <a:lnTo>
                  <a:pt x="115" y="1107"/>
                </a:lnTo>
                <a:lnTo>
                  <a:pt x="129" y="1097"/>
                </a:lnTo>
                <a:lnTo>
                  <a:pt x="140" y="1086"/>
                </a:lnTo>
                <a:lnTo>
                  <a:pt x="154" y="1076"/>
                </a:lnTo>
                <a:lnTo>
                  <a:pt x="169" y="1065"/>
                </a:lnTo>
                <a:lnTo>
                  <a:pt x="183" y="1053"/>
                </a:lnTo>
                <a:lnTo>
                  <a:pt x="198" y="1040"/>
                </a:lnTo>
                <a:lnTo>
                  <a:pt x="213" y="1028"/>
                </a:lnTo>
                <a:lnTo>
                  <a:pt x="231" y="1015"/>
                </a:lnTo>
                <a:lnTo>
                  <a:pt x="248" y="1001"/>
                </a:lnTo>
                <a:lnTo>
                  <a:pt x="265" y="9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4"/>
          <p:cNvSpPr/>
          <p:nvPr/>
        </p:nvSpPr>
        <p:spPr>
          <a:xfrm>
            <a:off x="2218680" y="2206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14880" y="204156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组合 8"/>
          <p:cNvGrpSpPr/>
          <p:nvPr/>
        </p:nvGrpSpPr>
        <p:grpSpPr>
          <a:xfrm>
            <a:off x="1400040" y="3633840"/>
            <a:ext cx="2840040" cy="1572120"/>
            <a:chOff x="1400040" y="3633840"/>
            <a:chExt cx="2840040" cy="1572120"/>
          </a:xfrm>
        </p:grpSpPr>
        <p:pic>
          <p:nvPicPr>
            <p:cNvPr id="17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633840"/>
              <a:ext cx="284004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矩形 2"/>
            <p:cNvSpPr/>
            <p:nvPr/>
          </p:nvSpPr>
          <p:spPr>
            <a:xfrm>
              <a:off x="1444680" y="424692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两部分宜紧凑；“者”撇笔向左下长伸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矩形 3"/>
          <p:cNvSpPr/>
          <p:nvPr/>
        </p:nvSpPr>
        <p:spPr>
          <a:xfrm>
            <a:off x="2171880" y="152712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06"/>
          <p:cNvSpPr/>
          <p:nvPr/>
        </p:nvSpPr>
        <p:spPr>
          <a:xfrm>
            <a:off x="6637320" y="3660840"/>
            <a:ext cx="673200" cy="998640"/>
          </a:xfrm>
          <a:custGeom>
            <a:avLst/>
            <a:gdLst/>
            <a:ahLst/>
            <a:rect l="l" t="t" r="r" b="b"/>
            <a:pathLst>
              <a:path w="848" h="1257">
                <a:moveTo>
                  <a:pt x="464" y="896"/>
                </a:moveTo>
                <a:lnTo>
                  <a:pt x="485" y="902"/>
                </a:lnTo>
                <a:lnTo>
                  <a:pt x="504" y="906"/>
                </a:lnTo>
                <a:lnTo>
                  <a:pt x="522" y="908"/>
                </a:lnTo>
                <a:lnTo>
                  <a:pt x="539" y="912"/>
                </a:lnTo>
                <a:lnTo>
                  <a:pt x="554" y="913"/>
                </a:lnTo>
                <a:lnTo>
                  <a:pt x="570" y="915"/>
                </a:lnTo>
                <a:lnTo>
                  <a:pt x="583" y="917"/>
                </a:lnTo>
                <a:lnTo>
                  <a:pt x="597" y="917"/>
                </a:lnTo>
                <a:lnTo>
                  <a:pt x="606" y="917"/>
                </a:lnTo>
                <a:lnTo>
                  <a:pt x="618" y="917"/>
                </a:lnTo>
                <a:lnTo>
                  <a:pt x="625" y="917"/>
                </a:lnTo>
                <a:lnTo>
                  <a:pt x="633" y="915"/>
                </a:lnTo>
                <a:lnTo>
                  <a:pt x="641" y="915"/>
                </a:lnTo>
                <a:lnTo>
                  <a:pt x="645" y="913"/>
                </a:lnTo>
                <a:lnTo>
                  <a:pt x="648" y="912"/>
                </a:lnTo>
                <a:lnTo>
                  <a:pt x="652" y="910"/>
                </a:lnTo>
                <a:lnTo>
                  <a:pt x="652" y="906"/>
                </a:lnTo>
                <a:lnTo>
                  <a:pt x="652" y="902"/>
                </a:lnTo>
                <a:lnTo>
                  <a:pt x="652" y="898"/>
                </a:lnTo>
                <a:lnTo>
                  <a:pt x="652" y="892"/>
                </a:lnTo>
                <a:lnTo>
                  <a:pt x="652" y="887"/>
                </a:lnTo>
                <a:lnTo>
                  <a:pt x="652" y="879"/>
                </a:lnTo>
                <a:lnTo>
                  <a:pt x="654" y="871"/>
                </a:lnTo>
                <a:lnTo>
                  <a:pt x="654" y="862"/>
                </a:lnTo>
                <a:lnTo>
                  <a:pt x="654" y="852"/>
                </a:lnTo>
                <a:lnTo>
                  <a:pt x="656" y="842"/>
                </a:lnTo>
                <a:lnTo>
                  <a:pt x="656" y="831"/>
                </a:lnTo>
                <a:lnTo>
                  <a:pt x="658" y="817"/>
                </a:lnTo>
                <a:lnTo>
                  <a:pt x="660" y="804"/>
                </a:lnTo>
                <a:lnTo>
                  <a:pt x="660" y="791"/>
                </a:lnTo>
                <a:lnTo>
                  <a:pt x="662" y="775"/>
                </a:lnTo>
                <a:lnTo>
                  <a:pt x="666" y="760"/>
                </a:lnTo>
                <a:lnTo>
                  <a:pt x="664" y="743"/>
                </a:lnTo>
                <a:lnTo>
                  <a:pt x="664" y="725"/>
                </a:lnTo>
                <a:lnTo>
                  <a:pt x="664" y="708"/>
                </a:lnTo>
                <a:lnTo>
                  <a:pt x="662" y="689"/>
                </a:lnTo>
                <a:lnTo>
                  <a:pt x="662" y="670"/>
                </a:lnTo>
                <a:lnTo>
                  <a:pt x="660" y="650"/>
                </a:lnTo>
                <a:lnTo>
                  <a:pt x="658" y="629"/>
                </a:lnTo>
                <a:lnTo>
                  <a:pt x="656" y="606"/>
                </a:lnTo>
                <a:lnTo>
                  <a:pt x="656" y="585"/>
                </a:lnTo>
                <a:lnTo>
                  <a:pt x="652" y="560"/>
                </a:lnTo>
                <a:lnTo>
                  <a:pt x="650" y="537"/>
                </a:lnTo>
                <a:lnTo>
                  <a:pt x="648" y="510"/>
                </a:lnTo>
                <a:lnTo>
                  <a:pt x="646" y="485"/>
                </a:lnTo>
                <a:lnTo>
                  <a:pt x="645" y="457"/>
                </a:lnTo>
                <a:lnTo>
                  <a:pt x="643" y="428"/>
                </a:lnTo>
                <a:lnTo>
                  <a:pt x="641" y="399"/>
                </a:lnTo>
                <a:lnTo>
                  <a:pt x="639" y="384"/>
                </a:lnTo>
                <a:lnTo>
                  <a:pt x="637" y="368"/>
                </a:lnTo>
                <a:lnTo>
                  <a:pt x="637" y="355"/>
                </a:lnTo>
                <a:lnTo>
                  <a:pt x="635" y="341"/>
                </a:lnTo>
                <a:lnTo>
                  <a:pt x="633" y="328"/>
                </a:lnTo>
                <a:lnTo>
                  <a:pt x="631" y="317"/>
                </a:lnTo>
                <a:lnTo>
                  <a:pt x="629" y="305"/>
                </a:lnTo>
                <a:lnTo>
                  <a:pt x="629" y="293"/>
                </a:lnTo>
                <a:lnTo>
                  <a:pt x="627" y="282"/>
                </a:lnTo>
                <a:lnTo>
                  <a:pt x="625" y="272"/>
                </a:lnTo>
                <a:lnTo>
                  <a:pt x="623" y="263"/>
                </a:lnTo>
                <a:lnTo>
                  <a:pt x="621" y="253"/>
                </a:lnTo>
                <a:lnTo>
                  <a:pt x="620" y="244"/>
                </a:lnTo>
                <a:lnTo>
                  <a:pt x="618" y="236"/>
                </a:lnTo>
                <a:lnTo>
                  <a:pt x="616" y="226"/>
                </a:lnTo>
                <a:lnTo>
                  <a:pt x="614" y="219"/>
                </a:lnTo>
                <a:lnTo>
                  <a:pt x="608" y="205"/>
                </a:lnTo>
                <a:lnTo>
                  <a:pt x="604" y="194"/>
                </a:lnTo>
                <a:lnTo>
                  <a:pt x="600" y="184"/>
                </a:lnTo>
                <a:lnTo>
                  <a:pt x="597" y="176"/>
                </a:lnTo>
                <a:lnTo>
                  <a:pt x="591" y="171"/>
                </a:lnTo>
                <a:lnTo>
                  <a:pt x="587" y="165"/>
                </a:lnTo>
                <a:lnTo>
                  <a:pt x="581" y="163"/>
                </a:lnTo>
                <a:lnTo>
                  <a:pt x="577" y="163"/>
                </a:lnTo>
                <a:lnTo>
                  <a:pt x="574" y="163"/>
                </a:lnTo>
                <a:lnTo>
                  <a:pt x="568" y="163"/>
                </a:lnTo>
                <a:lnTo>
                  <a:pt x="562" y="163"/>
                </a:lnTo>
                <a:lnTo>
                  <a:pt x="556" y="163"/>
                </a:lnTo>
                <a:lnTo>
                  <a:pt x="549" y="163"/>
                </a:lnTo>
                <a:lnTo>
                  <a:pt x="539" y="163"/>
                </a:lnTo>
                <a:lnTo>
                  <a:pt x="531" y="163"/>
                </a:lnTo>
                <a:lnTo>
                  <a:pt x="520" y="165"/>
                </a:lnTo>
                <a:lnTo>
                  <a:pt x="508" y="165"/>
                </a:lnTo>
                <a:lnTo>
                  <a:pt x="497" y="165"/>
                </a:lnTo>
                <a:lnTo>
                  <a:pt x="483" y="167"/>
                </a:lnTo>
                <a:lnTo>
                  <a:pt x="470" y="167"/>
                </a:lnTo>
                <a:lnTo>
                  <a:pt x="456" y="169"/>
                </a:lnTo>
                <a:lnTo>
                  <a:pt x="439" y="169"/>
                </a:lnTo>
                <a:lnTo>
                  <a:pt x="424" y="171"/>
                </a:lnTo>
                <a:lnTo>
                  <a:pt x="407" y="171"/>
                </a:lnTo>
                <a:lnTo>
                  <a:pt x="387" y="173"/>
                </a:lnTo>
                <a:lnTo>
                  <a:pt x="368" y="173"/>
                </a:lnTo>
                <a:lnTo>
                  <a:pt x="347" y="174"/>
                </a:lnTo>
                <a:lnTo>
                  <a:pt x="326" y="176"/>
                </a:lnTo>
                <a:lnTo>
                  <a:pt x="305" y="178"/>
                </a:lnTo>
                <a:lnTo>
                  <a:pt x="282" y="178"/>
                </a:lnTo>
                <a:lnTo>
                  <a:pt x="257" y="180"/>
                </a:lnTo>
                <a:lnTo>
                  <a:pt x="232" y="182"/>
                </a:lnTo>
                <a:lnTo>
                  <a:pt x="207" y="184"/>
                </a:lnTo>
                <a:lnTo>
                  <a:pt x="180" y="186"/>
                </a:lnTo>
                <a:lnTo>
                  <a:pt x="151" y="188"/>
                </a:lnTo>
                <a:lnTo>
                  <a:pt x="124" y="190"/>
                </a:lnTo>
                <a:lnTo>
                  <a:pt x="94" y="192"/>
                </a:lnTo>
                <a:lnTo>
                  <a:pt x="63" y="194"/>
                </a:lnTo>
                <a:lnTo>
                  <a:pt x="32" y="197"/>
                </a:lnTo>
                <a:lnTo>
                  <a:pt x="0" y="199"/>
                </a:lnTo>
                <a:lnTo>
                  <a:pt x="30" y="150"/>
                </a:lnTo>
                <a:lnTo>
                  <a:pt x="63" y="100"/>
                </a:lnTo>
                <a:lnTo>
                  <a:pt x="88" y="100"/>
                </a:lnTo>
                <a:lnTo>
                  <a:pt x="113" y="100"/>
                </a:lnTo>
                <a:lnTo>
                  <a:pt x="136" y="98"/>
                </a:lnTo>
                <a:lnTo>
                  <a:pt x="159" y="98"/>
                </a:lnTo>
                <a:lnTo>
                  <a:pt x="182" y="96"/>
                </a:lnTo>
                <a:lnTo>
                  <a:pt x="203" y="96"/>
                </a:lnTo>
                <a:lnTo>
                  <a:pt x="224" y="94"/>
                </a:lnTo>
                <a:lnTo>
                  <a:pt x="243" y="92"/>
                </a:lnTo>
                <a:lnTo>
                  <a:pt x="264" y="90"/>
                </a:lnTo>
                <a:lnTo>
                  <a:pt x="284" y="88"/>
                </a:lnTo>
                <a:lnTo>
                  <a:pt x="301" y="86"/>
                </a:lnTo>
                <a:lnTo>
                  <a:pt x="320" y="84"/>
                </a:lnTo>
                <a:lnTo>
                  <a:pt x="355" y="78"/>
                </a:lnTo>
                <a:lnTo>
                  <a:pt x="389" y="75"/>
                </a:lnTo>
                <a:lnTo>
                  <a:pt x="405" y="73"/>
                </a:lnTo>
                <a:lnTo>
                  <a:pt x="420" y="69"/>
                </a:lnTo>
                <a:lnTo>
                  <a:pt x="433" y="67"/>
                </a:lnTo>
                <a:lnTo>
                  <a:pt x="447" y="63"/>
                </a:lnTo>
                <a:lnTo>
                  <a:pt x="460" y="59"/>
                </a:lnTo>
                <a:lnTo>
                  <a:pt x="472" y="57"/>
                </a:lnTo>
                <a:lnTo>
                  <a:pt x="483" y="54"/>
                </a:lnTo>
                <a:lnTo>
                  <a:pt x="493" y="50"/>
                </a:lnTo>
                <a:lnTo>
                  <a:pt x="501" y="46"/>
                </a:lnTo>
                <a:lnTo>
                  <a:pt x="510" y="42"/>
                </a:lnTo>
                <a:lnTo>
                  <a:pt x="516" y="40"/>
                </a:lnTo>
                <a:lnTo>
                  <a:pt x="524" y="36"/>
                </a:lnTo>
                <a:lnTo>
                  <a:pt x="529" y="32"/>
                </a:lnTo>
                <a:lnTo>
                  <a:pt x="533" y="31"/>
                </a:lnTo>
                <a:lnTo>
                  <a:pt x="537" y="27"/>
                </a:lnTo>
                <a:lnTo>
                  <a:pt x="539" y="25"/>
                </a:lnTo>
                <a:lnTo>
                  <a:pt x="545" y="21"/>
                </a:lnTo>
                <a:lnTo>
                  <a:pt x="550" y="15"/>
                </a:lnTo>
                <a:lnTo>
                  <a:pt x="558" y="11"/>
                </a:lnTo>
                <a:lnTo>
                  <a:pt x="566" y="7"/>
                </a:lnTo>
                <a:lnTo>
                  <a:pt x="575" y="4"/>
                </a:lnTo>
                <a:lnTo>
                  <a:pt x="583" y="2"/>
                </a:lnTo>
                <a:lnTo>
                  <a:pt x="593" y="0"/>
                </a:lnTo>
                <a:lnTo>
                  <a:pt x="602" y="0"/>
                </a:lnTo>
                <a:lnTo>
                  <a:pt x="604" y="2"/>
                </a:lnTo>
                <a:lnTo>
                  <a:pt x="608" y="4"/>
                </a:lnTo>
                <a:lnTo>
                  <a:pt x="612" y="7"/>
                </a:lnTo>
                <a:lnTo>
                  <a:pt x="616" y="9"/>
                </a:lnTo>
                <a:lnTo>
                  <a:pt x="621" y="11"/>
                </a:lnTo>
                <a:lnTo>
                  <a:pt x="625" y="13"/>
                </a:lnTo>
                <a:lnTo>
                  <a:pt x="631" y="17"/>
                </a:lnTo>
                <a:lnTo>
                  <a:pt x="639" y="19"/>
                </a:lnTo>
                <a:lnTo>
                  <a:pt x="652" y="23"/>
                </a:lnTo>
                <a:lnTo>
                  <a:pt x="668" y="29"/>
                </a:lnTo>
                <a:lnTo>
                  <a:pt x="685" y="32"/>
                </a:lnTo>
                <a:lnTo>
                  <a:pt x="702" y="38"/>
                </a:lnTo>
                <a:lnTo>
                  <a:pt x="717" y="42"/>
                </a:lnTo>
                <a:lnTo>
                  <a:pt x="731" y="50"/>
                </a:lnTo>
                <a:lnTo>
                  <a:pt x="744" y="57"/>
                </a:lnTo>
                <a:lnTo>
                  <a:pt x="760" y="65"/>
                </a:lnTo>
                <a:lnTo>
                  <a:pt x="773" y="75"/>
                </a:lnTo>
                <a:lnTo>
                  <a:pt x="788" y="86"/>
                </a:lnTo>
                <a:lnTo>
                  <a:pt x="802" y="98"/>
                </a:lnTo>
                <a:lnTo>
                  <a:pt x="815" y="113"/>
                </a:lnTo>
                <a:lnTo>
                  <a:pt x="823" y="119"/>
                </a:lnTo>
                <a:lnTo>
                  <a:pt x="829" y="126"/>
                </a:lnTo>
                <a:lnTo>
                  <a:pt x="833" y="132"/>
                </a:lnTo>
                <a:lnTo>
                  <a:pt x="836" y="138"/>
                </a:lnTo>
                <a:lnTo>
                  <a:pt x="840" y="144"/>
                </a:lnTo>
                <a:lnTo>
                  <a:pt x="844" y="150"/>
                </a:lnTo>
                <a:lnTo>
                  <a:pt x="846" y="155"/>
                </a:lnTo>
                <a:lnTo>
                  <a:pt x="846" y="161"/>
                </a:lnTo>
                <a:lnTo>
                  <a:pt x="848" y="165"/>
                </a:lnTo>
                <a:lnTo>
                  <a:pt x="848" y="171"/>
                </a:lnTo>
                <a:lnTo>
                  <a:pt x="848" y="174"/>
                </a:lnTo>
                <a:lnTo>
                  <a:pt x="848" y="180"/>
                </a:lnTo>
                <a:lnTo>
                  <a:pt x="844" y="190"/>
                </a:lnTo>
                <a:lnTo>
                  <a:pt x="840" y="199"/>
                </a:lnTo>
                <a:lnTo>
                  <a:pt x="838" y="201"/>
                </a:lnTo>
                <a:lnTo>
                  <a:pt x="836" y="205"/>
                </a:lnTo>
                <a:lnTo>
                  <a:pt x="835" y="209"/>
                </a:lnTo>
                <a:lnTo>
                  <a:pt x="833" y="213"/>
                </a:lnTo>
                <a:lnTo>
                  <a:pt x="831" y="219"/>
                </a:lnTo>
                <a:lnTo>
                  <a:pt x="829" y="224"/>
                </a:lnTo>
                <a:lnTo>
                  <a:pt x="829" y="232"/>
                </a:lnTo>
                <a:lnTo>
                  <a:pt x="827" y="238"/>
                </a:lnTo>
                <a:lnTo>
                  <a:pt x="825" y="247"/>
                </a:lnTo>
                <a:lnTo>
                  <a:pt x="825" y="255"/>
                </a:lnTo>
                <a:lnTo>
                  <a:pt x="823" y="265"/>
                </a:lnTo>
                <a:lnTo>
                  <a:pt x="823" y="274"/>
                </a:lnTo>
                <a:lnTo>
                  <a:pt x="821" y="284"/>
                </a:lnTo>
                <a:lnTo>
                  <a:pt x="821" y="295"/>
                </a:lnTo>
                <a:lnTo>
                  <a:pt x="821" y="307"/>
                </a:lnTo>
                <a:lnTo>
                  <a:pt x="821" y="318"/>
                </a:lnTo>
                <a:lnTo>
                  <a:pt x="821" y="332"/>
                </a:lnTo>
                <a:lnTo>
                  <a:pt x="821" y="345"/>
                </a:lnTo>
                <a:lnTo>
                  <a:pt x="821" y="359"/>
                </a:lnTo>
                <a:lnTo>
                  <a:pt x="821" y="374"/>
                </a:lnTo>
                <a:lnTo>
                  <a:pt x="821" y="389"/>
                </a:lnTo>
                <a:lnTo>
                  <a:pt x="821" y="405"/>
                </a:lnTo>
                <a:lnTo>
                  <a:pt x="821" y="422"/>
                </a:lnTo>
                <a:lnTo>
                  <a:pt x="821" y="439"/>
                </a:lnTo>
                <a:lnTo>
                  <a:pt x="823" y="457"/>
                </a:lnTo>
                <a:lnTo>
                  <a:pt x="823" y="476"/>
                </a:lnTo>
                <a:lnTo>
                  <a:pt x="823" y="495"/>
                </a:lnTo>
                <a:lnTo>
                  <a:pt x="825" y="514"/>
                </a:lnTo>
                <a:lnTo>
                  <a:pt x="825" y="533"/>
                </a:lnTo>
                <a:lnTo>
                  <a:pt x="827" y="555"/>
                </a:lnTo>
                <a:lnTo>
                  <a:pt x="827" y="576"/>
                </a:lnTo>
                <a:lnTo>
                  <a:pt x="829" y="599"/>
                </a:lnTo>
                <a:lnTo>
                  <a:pt x="831" y="643"/>
                </a:lnTo>
                <a:lnTo>
                  <a:pt x="831" y="687"/>
                </a:lnTo>
                <a:lnTo>
                  <a:pt x="831" y="729"/>
                </a:lnTo>
                <a:lnTo>
                  <a:pt x="831" y="770"/>
                </a:lnTo>
                <a:lnTo>
                  <a:pt x="829" y="810"/>
                </a:lnTo>
                <a:lnTo>
                  <a:pt x="827" y="846"/>
                </a:lnTo>
                <a:lnTo>
                  <a:pt x="825" y="881"/>
                </a:lnTo>
                <a:lnTo>
                  <a:pt x="821" y="913"/>
                </a:lnTo>
                <a:lnTo>
                  <a:pt x="817" y="944"/>
                </a:lnTo>
                <a:lnTo>
                  <a:pt x="815" y="960"/>
                </a:lnTo>
                <a:lnTo>
                  <a:pt x="813" y="975"/>
                </a:lnTo>
                <a:lnTo>
                  <a:pt x="812" y="988"/>
                </a:lnTo>
                <a:lnTo>
                  <a:pt x="808" y="1002"/>
                </a:lnTo>
                <a:lnTo>
                  <a:pt x="806" y="1015"/>
                </a:lnTo>
                <a:lnTo>
                  <a:pt x="804" y="1027"/>
                </a:lnTo>
                <a:lnTo>
                  <a:pt x="800" y="1038"/>
                </a:lnTo>
                <a:lnTo>
                  <a:pt x="798" y="1050"/>
                </a:lnTo>
                <a:lnTo>
                  <a:pt x="794" y="1061"/>
                </a:lnTo>
                <a:lnTo>
                  <a:pt x="790" y="1071"/>
                </a:lnTo>
                <a:lnTo>
                  <a:pt x="788" y="1082"/>
                </a:lnTo>
                <a:lnTo>
                  <a:pt x="785" y="1090"/>
                </a:lnTo>
                <a:lnTo>
                  <a:pt x="781" y="1100"/>
                </a:lnTo>
                <a:lnTo>
                  <a:pt x="779" y="1109"/>
                </a:lnTo>
                <a:lnTo>
                  <a:pt x="771" y="1125"/>
                </a:lnTo>
                <a:lnTo>
                  <a:pt x="764" y="1140"/>
                </a:lnTo>
                <a:lnTo>
                  <a:pt x="758" y="1153"/>
                </a:lnTo>
                <a:lnTo>
                  <a:pt x="750" y="1167"/>
                </a:lnTo>
                <a:lnTo>
                  <a:pt x="742" y="1178"/>
                </a:lnTo>
                <a:lnTo>
                  <a:pt x="737" y="1190"/>
                </a:lnTo>
                <a:lnTo>
                  <a:pt x="729" y="1201"/>
                </a:lnTo>
                <a:lnTo>
                  <a:pt x="723" y="1211"/>
                </a:lnTo>
                <a:lnTo>
                  <a:pt x="717" y="1221"/>
                </a:lnTo>
                <a:lnTo>
                  <a:pt x="710" y="1228"/>
                </a:lnTo>
                <a:lnTo>
                  <a:pt x="704" y="1236"/>
                </a:lnTo>
                <a:lnTo>
                  <a:pt x="698" y="1242"/>
                </a:lnTo>
                <a:lnTo>
                  <a:pt x="693" y="1247"/>
                </a:lnTo>
                <a:lnTo>
                  <a:pt x="687" y="1251"/>
                </a:lnTo>
                <a:lnTo>
                  <a:pt x="683" y="1255"/>
                </a:lnTo>
                <a:lnTo>
                  <a:pt x="677" y="1257"/>
                </a:lnTo>
                <a:lnTo>
                  <a:pt x="671" y="1257"/>
                </a:lnTo>
                <a:lnTo>
                  <a:pt x="664" y="1257"/>
                </a:lnTo>
                <a:lnTo>
                  <a:pt x="660" y="1255"/>
                </a:lnTo>
                <a:lnTo>
                  <a:pt x="654" y="1253"/>
                </a:lnTo>
                <a:lnTo>
                  <a:pt x="648" y="1249"/>
                </a:lnTo>
                <a:lnTo>
                  <a:pt x="645" y="1246"/>
                </a:lnTo>
                <a:lnTo>
                  <a:pt x="641" y="1242"/>
                </a:lnTo>
                <a:lnTo>
                  <a:pt x="639" y="1238"/>
                </a:lnTo>
                <a:lnTo>
                  <a:pt x="635" y="1232"/>
                </a:lnTo>
                <a:lnTo>
                  <a:pt x="633" y="1226"/>
                </a:lnTo>
                <a:lnTo>
                  <a:pt x="631" y="1219"/>
                </a:lnTo>
                <a:lnTo>
                  <a:pt x="629" y="1211"/>
                </a:lnTo>
                <a:lnTo>
                  <a:pt x="629" y="1201"/>
                </a:lnTo>
                <a:lnTo>
                  <a:pt x="627" y="1192"/>
                </a:lnTo>
                <a:lnTo>
                  <a:pt x="627" y="1182"/>
                </a:lnTo>
                <a:lnTo>
                  <a:pt x="627" y="1171"/>
                </a:lnTo>
                <a:lnTo>
                  <a:pt x="625" y="1159"/>
                </a:lnTo>
                <a:lnTo>
                  <a:pt x="621" y="1146"/>
                </a:lnTo>
                <a:lnTo>
                  <a:pt x="616" y="1132"/>
                </a:lnTo>
                <a:lnTo>
                  <a:pt x="610" y="1119"/>
                </a:lnTo>
                <a:lnTo>
                  <a:pt x="604" y="1105"/>
                </a:lnTo>
                <a:lnTo>
                  <a:pt x="597" y="1090"/>
                </a:lnTo>
                <a:lnTo>
                  <a:pt x="587" y="1075"/>
                </a:lnTo>
                <a:lnTo>
                  <a:pt x="577" y="1057"/>
                </a:lnTo>
                <a:lnTo>
                  <a:pt x="568" y="1040"/>
                </a:lnTo>
                <a:lnTo>
                  <a:pt x="556" y="1023"/>
                </a:lnTo>
                <a:lnTo>
                  <a:pt x="543" y="1004"/>
                </a:lnTo>
                <a:lnTo>
                  <a:pt x="529" y="984"/>
                </a:lnTo>
                <a:lnTo>
                  <a:pt x="514" y="963"/>
                </a:lnTo>
                <a:lnTo>
                  <a:pt x="499" y="942"/>
                </a:lnTo>
                <a:lnTo>
                  <a:pt x="481" y="919"/>
                </a:lnTo>
                <a:lnTo>
                  <a:pt x="464" y="8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07"/>
          <p:cNvSpPr/>
          <p:nvPr/>
        </p:nvSpPr>
        <p:spPr>
          <a:xfrm>
            <a:off x="6554880" y="3726000"/>
            <a:ext cx="122040" cy="857160"/>
          </a:xfrm>
          <a:custGeom>
            <a:avLst/>
            <a:gdLst/>
            <a:ahLst/>
            <a:rect l="l" t="t" r="r" b="b"/>
            <a:pathLst>
              <a:path w="156" h="1079">
                <a:moveTo>
                  <a:pt x="92" y="1077"/>
                </a:moveTo>
                <a:lnTo>
                  <a:pt x="90" y="1079"/>
                </a:lnTo>
                <a:lnTo>
                  <a:pt x="88" y="1079"/>
                </a:lnTo>
                <a:lnTo>
                  <a:pt x="84" y="1079"/>
                </a:lnTo>
                <a:lnTo>
                  <a:pt x="81" y="1079"/>
                </a:lnTo>
                <a:lnTo>
                  <a:pt x="77" y="1077"/>
                </a:lnTo>
                <a:lnTo>
                  <a:pt x="73" y="1075"/>
                </a:lnTo>
                <a:lnTo>
                  <a:pt x="69" y="1071"/>
                </a:lnTo>
                <a:lnTo>
                  <a:pt x="65" y="1068"/>
                </a:lnTo>
                <a:lnTo>
                  <a:pt x="61" y="1064"/>
                </a:lnTo>
                <a:lnTo>
                  <a:pt x="58" y="1058"/>
                </a:lnTo>
                <a:lnTo>
                  <a:pt x="54" y="1052"/>
                </a:lnTo>
                <a:lnTo>
                  <a:pt x="48" y="1046"/>
                </a:lnTo>
                <a:lnTo>
                  <a:pt x="44" y="1039"/>
                </a:lnTo>
                <a:lnTo>
                  <a:pt x="38" y="1031"/>
                </a:lnTo>
                <a:lnTo>
                  <a:pt x="35" y="1023"/>
                </a:lnTo>
                <a:lnTo>
                  <a:pt x="31" y="1014"/>
                </a:lnTo>
                <a:lnTo>
                  <a:pt x="27" y="1008"/>
                </a:lnTo>
                <a:lnTo>
                  <a:pt x="25" y="1004"/>
                </a:lnTo>
                <a:lnTo>
                  <a:pt x="23" y="998"/>
                </a:lnTo>
                <a:lnTo>
                  <a:pt x="21" y="991"/>
                </a:lnTo>
                <a:lnTo>
                  <a:pt x="19" y="983"/>
                </a:lnTo>
                <a:lnTo>
                  <a:pt x="17" y="977"/>
                </a:lnTo>
                <a:lnTo>
                  <a:pt x="15" y="968"/>
                </a:lnTo>
                <a:lnTo>
                  <a:pt x="13" y="960"/>
                </a:lnTo>
                <a:lnTo>
                  <a:pt x="12" y="950"/>
                </a:lnTo>
                <a:lnTo>
                  <a:pt x="10" y="941"/>
                </a:lnTo>
                <a:lnTo>
                  <a:pt x="10" y="931"/>
                </a:lnTo>
                <a:lnTo>
                  <a:pt x="8" y="920"/>
                </a:lnTo>
                <a:lnTo>
                  <a:pt x="6" y="908"/>
                </a:lnTo>
                <a:lnTo>
                  <a:pt x="6" y="897"/>
                </a:lnTo>
                <a:lnTo>
                  <a:pt x="4" y="885"/>
                </a:lnTo>
                <a:lnTo>
                  <a:pt x="4" y="872"/>
                </a:lnTo>
                <a:lnTo>
                  <a:pt x="2" y="858"/>
                </a:lnTo>
                <a:lnTo>
                  <a:pt x="2" y="845"/>
                </a:lnTo>
                <a:lnTo>
                  <a:pt x="2" y="830"/>
                </a:lnTo>
                <a:lnTo>
                  <a:pt x="0" y="816"/>
                </a:lnTo>
                <a:lnTo>
                  <a:pt x="0" y="799"/>
                </a:lnTo>
                <a:lnTo>
                  <a:pt x="0" y="783"/>
                </a:lnTo>
                <a:lnTo>
                  <a:pt x="0" y="766"/>
                </a:lnTo>
                <a:lnTo>
                  <a:pt x="0" y="749"/>
                </a:lnTo>
                <a:lnTo>
                  <a:pt x="0" y="732"/>
                </a:lnTo>
                <a:lnTo>
                  <a:pt x="0" y="712"/>
                </a:lnTo>
                <a:lnTo>
                  <a:pt x="0" y="695"/>
                </a:lnTo>
                <a:lnTo>
                  <a:pt x="2" y="674"/>
                </a:lnTo>
                <a:lnTo>
                  <a:pt x="2" y="655"/>
                </a:lnTo>
                <a:lnTo>
                  <a:pt x="2" y="634"/>
                </a:lnTo>
                <a:lnTo>
                  <a:pt x="4" y="613"/>
                </a:lnTo>
                <a:lnTo>
                  <a:pt x="6" y="592"/>
                </a:lnTo>
                <a:lnTo>
                  <a:pt x="6" y="568"/>
                </a:lnTo>
                <a:lnTo>
                  <a:pt x="8" y="547"/>
                </a:lnTo>
                <a:lnTo>
                  <a:pt x="8" y="526"/>
                </a:lnTo>
                <a:lnTo>
                  <a:pt x="10" y="505"/>
                </a:lnTo>
                <a:lnTo>
                  <a:pt x="10" y="486"/>
                </a:lnTo>
                <a:lnTo>
                  <a:pt x="10" y="467"/>
                </a:lnTo>
                <a:lnTo>
                  <a:pt x="12" y="448"/>
                </a:lnTo>
                <a:lnTo>
                  <a:pt x="12" y="428"/>
                </a:lnTo>
                <a:lnTo>
                  <a:pt x="12" y="411"/>
                </a:lnTo>
                <a:lnTo>
                  <a:pt x="13" y="394"/>
                </a:lnTo>
                <a:lnTo>
                  <a:pt x="13" y="377"/>
                </a:lnTo>
                <a:lnTo>
                  <a:pt x="13" y="361"/>
                </a:lnTo>
                <a:lnTo>
                  <a:pt x="13" y="344"/>
                </a:lnTo>
                <a:lnTo>
                  <a:pt x="13" y="329"/>
                </a:lnTo>
                <a:lnTo>
                  <a:pt x="13" y="313"/>
                </a:lnTo>
                <a:lnTo>
                  <a:pt x="13" y="300"/>
                </a:lnTo>
                <a:lnTo>
                  <a:pt x="13" y="271"/>
                </a:lnTo>
                <a:lnTo>
                  <a:pt x="13" y="246"/>
                </a:lnTo>
                <a:lnTo>
                  <a:pt x="13" y="221"/>
                </a:lnTo>
                <a:lnTo>
                  <a:pt x="12" y="200"/>
                </a:lnTo>
                <a:lnTo>
                  <a:pt x="10" y="179"/>
                </a:lnTo>
                <a:lnTo>
                  <a:pt x="10" y="162"/>
                </a:lnTo>
                <a:lnTo>
                  <a:pt x="8" y="144"/>
                </a:lnTo>
                <a:lnTo>
                  <a:pt x="6" y="129"/>
                </a:lnTo>
                <a:lnTo>
                  <a:pt x="2" y="117"/>
                </a:lnTo>
                <a:lnTo>
                  <a:pt x="2" y="106"/>
                </a:lnTo>
                <a:lnTo>
                  <a:pt x="0" y="96"/>
                </a:lnTo>
                <a:lnTo>
                  <a:pt x="0" y="85"/>
                </a:lnTo>
                <a:lnTo>
                  <a:pt x="0" y="75"/>
                </a:lnTo>
                <a:lnTo>
                  <a:pt x="0" y="66"/>
                </a:lnTo>
                <a:lnTo>
                  <a:pt x="0" y="58"/>
                </a:lnTo>
                <a:lnTo>
                  <a:pt x="2" y="48"/>
                </a:lnTo>
                <a:lnTo>
                  <a:pt x="4" y="41"/>
                </a:lnTo>
                <a:lnTo>
                  <a:pt x="4" y="33"/>
                </a:lnTo>
                <a:lnTo>
                  <a:pt x="6" y="27"/>
                </a:lnTo>
                <a:lnTo>
                  <a:pt x="8" y="21"/>
                </a:lnTo>
                <a:lnTo>
                  <a:pt x="10" y="16"/>
                </a:lnTo>
                <a:lnTo>
                  <a:pt x="13" y="12"/>
                </a:lnTo>
                <a:lnTo>
                  <a:pt x="15" y="8"/>
                </a:lnTo>
                <a:lnTo>
                  <a:pt x="17" y="6"/>
                </a:lnTo>
                <a:lnTo>
                  <a:pt x="19" y="2"/>
                </a:lnTo>
                <a:lnTo>
                  <a:pt x="23" y="2"/>
                </a:lnTo>
                <a:lnTo>
                  <a:pt x="29" y="0"/>
                </a:lnTo>
                <a:lnTo>
                  <a:pt x="33" y="0"/>
                </a:lnTo>
                <a:lnTo>
                  <a:pt x="40" y="0"/>
                </a:lnTo>
                <a:lnTo>
                  <a:pt x="46" y="2"/>
                </a:lnTo>
                <a:lnTo>
                  <a:pt x="54" y="2"/>
                </a:lnTo>
                <a:lnTo>
                  <a:pt x="63" y="4"/>
                </a:lnTo>
                <a:lnTo>
                  <a:pt x="73" y="8"/>
                </a:lnTo>
                <a:lnTo>
                  <a:pt x="83" y="10"/>
                </a:lnTo>
                <a:lnTo>
                  <a:pt x="92" y="14"/>
                </a:lnTo>
                <a:lnTo>
                  <a:pt x="104" y="20"/>
                </a:lnTo>
                <a:lnTo>
                  <a:pt x="115" y="23"/>
                </a:lnTo>
                <a:lnTo>
                  <a:pt x="129" y="29"/>
                </a:lnTo>
                <a:lnTo>
                  <a:pt x="142" y="35"/>
                </a:lnTo>
                <a:lnTo>
                  <a:pt x="156" y="43"/>
                </a:lnTo>
                <a:lnTo>
                  <a:pt x="156" y="75"/>
                </a:lnTo>
                <a:lnTo>
                  <a:pt x="156" y="110"/>
                </a:lnTo>
                <a:lnTo>
                  <a:pt x="156" y="144"/>
                </a:lnTo>
                <a:lnTo>
                  <a:pt x="156" y="181"/>
                </a:lnTo>
                <a:lnTo>
                  <a:pt x="156" y="217"/>
                </a:lnTo>
                <a:lnTo>
                  <a:pt x="156" y="254"/>
                </a:lnTo>
                <a:lnTo>
                  <a:pt x="154" y="292"/>
                </a:lnTo>
                <a:lnTo>
                  <a:pt x="154" y="332"/>
                </a:lnTo>
                <a:lnTo>
                  <a:pt x="154" y="373"/>
                </a:lnTo>
                <a:lnTo>
                  <a:pt x="152" y="413"/>
                </a:lnTo>
                <a:lnTo>
                  <a:pt x="152" y="455"/>
                </a:lnTo>
                <a:lnTo>
                  <a:pt x="150" y="497"/>
                </a:lnTo>
                <a:lnTo>
                  <a:pt x="148" y="542"/>
                </a:lnTo>
                <a:lnTo>
                  <a:pt x="148" y="586"/>
                </a:lnTo>
                <a:lnTo>
                  <a:pt x="146" y="632"/>
                </a:lnTo>
                <a:lnTo>
                  <a:pt x="144" y="678"/>
                </a:lnTo>
                <a:lnTo>
                  <a:pt x="142" y="701"/>
                </a:lnTo>
                <a:lnTo>
                  <a:pt x="140" y="724"/>
                </a:lnTo>
                <a:lnTo>
                  <a:pt x="140" y="747"/>
                </a:lnTo>
                <a:lnTo>
                  <a:pt x="138" y="770"/>
                </a:lnTo>
                <a:lnTo>
                  <a:pt x="136" y="789"/>
                </a:lnTo>
                <a:lnTo>
                  <a:pt x="136" y="810"/>
                </a:lnTo>
                <a:lnTo>
                  <a:pt x="134" y="830"/>
                </a:lnTo>
                <a:lnTo>
                  <a:pt x="134" y="849"/>
                </a:lnTo>
                <a:lnTo>
                  <a:pt x="132" y="866"/>
                </a:lnTo>
                <a:lnTo>
                  <a:pt x="131" y="883"/>
                </a:lnTo>
                <a:lnTo>
                  <a:pt x="129" y="899"/>
                </a:lnTo>
                <a:lnTo>
                  <a:pt x="129" y="916"/>
                </a:lnTo>
                <a:lnTo>
                  <a:pt x="127" y="929"/>
                </a:lnTo>
                <a:lnTo>
                  <a:pt x="125" y="945"/>
                </a:lnTo>
                <a:lnTo>
                  <a:pt x="125" y="958"/>
                </a:lnTo>
                <a:lnTo>
                  <a:pt x="123" y="970"/>
                </a:lnTo>
                <a:lnTo>
                  <a:pt x="121" y="981"/>
                </a:lnTo>
                <a:lnTo>
                  <a:pt x="119" y="993"/>
                </a:lnTo>
                <a:lnTo>
                  <a:pt x="117" y="1004"/>
                </a:lnTo>
                <a:lnTo>
                  <a:pt x="117" y="1014"/>
                </a:lnTo>
                <a:lnTo>
                  <a:pt x="115" y="1021"/>
                </a:lnTo>
                <a:lnTo>
                  <a:pt x="113" y="1031"/>
                </a:lnTo>
                <a:lnTo>
                  <a:pt x="111" y="1039"/>
                </a:lnTo>
                <a:lnTo>
                  <a:pt x="109" y="1045"/>
                </a:lnTo>
                <a:lnTo>
                  <a:pt x="108" y="1052"/>
                </a:lnTo>
                <a:lnTo>
                  <a:pt x="106" y="1058"/>
                </a:lnTo>
                <a:lnTo>
                  <a:pt x="104" y="1062"/>
                </a:lnTo>
                <a:lnTo>
                  <a:pt x="102" y="1066"/>
                </a:lnTo>
                <a:lnTo>
                  <a:pt x="100" y="1069"/>
                </a:lnTo>
                <a:lnTo>
                  <a:pt x="98" y="1073"/>
                </a:lnTo>
                <a:lnTo>
                  <a:pt x="94" y="1075"/>
                </a:lnTo>
                <a:lnTo>
                  <a:pt x="92" y="10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08"/>
          <p:cNvSpPr/>
          <p:nvPr/>
        </p:nvSpPr>
        <p:spPr>
          <a:xfrm>
            <a:off x="6618240" y="4292640"/>
            <a:ext cx="507960" cy="129960"/>
          </a:xfrm>
          <a:custGeom>
            <a:avLst/>
            <a:gdLst/>
            <a:ahLst/>
            <a:rect l="l" t="t" r="r" b="b"/>
            <a:pathLst>
              <a:path w="641" h="164">
                <a:moveTo>
                  <a:pt x="0" y="164"/>
                </a:moveTo>
                <a:lnTo>
                  <a:pt x="0" y="64"/>
                </a:lnTo>
                <a:lnTo>
                  <a:pt x="42" y="62"/>
                </a:lnTo>
                <a:lnTo>
                  <a:pt x="82" y="62"/>
                </a:lnTo>
                <a:lnTo>
                  <a:pt x="121" y="58"/>
                </a:lnTo>
                <a:lnTo>
                  <a:pt x="159" y="54"/>
                </a:lnTo>
                <a:lnTo>
                  <a:pt x="195" y="48"/>
                </a:lnTo>
                <a:lnTo>
                  <a:pt x="232" y="43"/>
                </a:lnTo>
                <a:lnTo>
                  <a:pt x="266" y="35"/>
                </a:lnTo>
                <a:lnTo>
                  <a:pt x="301" y="25"/>
                </a:lnTo>
                <a:lnTo>
                  <a:pt x="316" y="23"/>
                </a:lnTo>
                <a:lnTo>
                  <a:pt x="332" y="21"/>
                </a:lnTo>
                <a:lnTo>
                  <a:pt x="347" y="20"/>
                </a:lnTo>
                <a:lnTo>
                  <a:pt x="362" y="16"/>
                </a:lnTo>
                <a:lnTo>
                  <a:pt x="376" y="14"/>
                </a:lnTo>
                <a:lnTo>
                  <a:pt x="387" y="12"/>
                </a:lnTo>
                <a:lnTo>
                  <a:pt x="401" y="10"/>
                </a:lnTo>
                <a:lnTo>
                  <a:pt x="412" y="8"/>
                </a:lnTo>
                <a:lnTo>
                  <a:pt x="422" y="6"/>
                </a:lnTo>
                <a:lnTo>
                  <a:pt x="433" y="6"/>
                </a:lnTo>
                <a:lnTo>
                  <a:pt x="443" y="4"/>
                </a:lnTo>
                <a:lnTo>
                  <a:pt x="451" y="2"/>
                </a:lnTo>
                <a:lnTo>
                  <a:pt x="458" y="2"/>
                </a:lnTo>
                <a:lnTo>
                  <a:pt x="464" y="2"/>
                </a:lnTo>
                <a:lnTo>
                  <a:pt x="472" y="0"/>
                </a:lnTo>
                <a:lnTo>
                  <a:pt x="476" y="0"/>
                </a:lnTo>
                <a:lnTo>
                  <a:pt x="479" y="2"/>
                </a:lnTo>
                <a:lnTo>
                  <a:pt x="483" y="2"/>
                </a:lnTo>
                <a:lnTo>
                  <a:pt x="489" y="6"/>
                </a:lnTo>
                <a:lnTo>
                  <a:pt x="495" y="10"/>
                </a:lnTo>
                <a:lnTo>
                  <a:pt x="503" y="16"/>
                </a:lnTo>
                <a:lnTo>
                  <a:pt x="510" y="21"/>
                </a:lnTo>
                <a:lnTo>
                  <a:pt x="520" y="27"/>
                </a:lnTo>
                <a:lnTo>
                  <a:pt x="529" y="37"/>
                </a:lnTo>
                <a:lnTo>
                  <a:pt x="541" y="46"/>
                </a:lnTo>
                <a:lnTo>
                  <a:pt x="552" y="56"/>
                </a:lnTo>
                <a:lnTo>
                  <a:pt x="566" y="68"/>
                </a:lnTo>
                <a:lnTo>
                  <a:pt x="579" y="79"/>
                </a:lnTo>
                <a:lnTo>
                  <a:pt x="593" y="93"/>
                </a:lnTo>
                <a:lnTo>
                  <a:pt x="608" y="106"/>
                </a:lnTo>
                <a:lnTo>
                  <a:pt x="623" y="121"/>
                </a:lnTo>
                <a:lnTo>
                  <a:pt x="641" y="139"/>
                </a:lnTo>
                <a:lnTo>
                  <a:pt x="633" y="139"/>
                </a:lnTo>
                <a:lnTo>
                  <a:pt x="625" y="139"/>
                </a:lnTo>
                <a:lnTo>
                  <a:pt x="618" y="139"/>
                </a:lnTo>
                <a:lnTo>
                  <a:pt x="610" y="139"/>
                </a:lnTo>
                <a:lnTo>
                  <a:pt x="599" y="139"/>
                </a:lnTo>
                <a:lnTo>
                  <a:pt x="589" y="139"/>
                </a:lnTo>
                <a:lnTo>
                  <a:pt x="577" y="140"/>
                </a:lnTo>
                <a:lnTo>
                  <a:pt x="564" y="140"/>
                </a:lnTo>
                <a:lnTo>
                  <a:pt x="551" y="140"/>
                </a:lnTo>
                <a:lnTo>
                  <a:pt x="537" y="140"/>
                </a:lnTo>
                <a:lnTo>
                  <a:pt x="522" y="142"/>
                </a:lnTo>
                <a:lnTo>
                  <a:pt x="506" y="142"/>
                </a:lnTo>
                <a:lnTo>
                  <a:pt x="489" y="142"/>
                </a:lnTo>
                <a:lnTo>
                  <a:pt x="470" y="144"/>
                </a:lnTo>
                <a:lnTo>
                  <a:pt x="453" y="144"/>
                </a:lnTo>
                <a:lnTo>
                  <a:pt x="433" y="146"/>
                </a:lnTo>
                <a:lnTo>
                  <a:pt x="412" y="146"/>
                </a:lnTo>
                <a:lnTo>
                  <a:pt x="391" y="148"/>
                </a:lnTo>
                <a:lnTo>
                  <a:pt x="368" y="148"/>
                </a:lnTo>
                <a:lnTo>
                  <a:pt x="345" y="150"/>
                </a:lnTo>
                <a:lnTo>
                  <a:pt x="322" y="150"/>
                </a:lnTo>
                <a:lnTo>
                  <a:pt x="297" y="152"/>
                </a:lnTo>
                <a:lnTo>
                  <a:pt x="270" y="152"/>
                </a:lnTo>
                <a:lnTo>
                  <a:pt x="243" y="154"/>
                </a:lnTo>
                <a:lnTo>
                  <a:pt x="217" y="154"/>
                </a:lnTo>
                <a:lnTo>
                  <a:pt x="188" y="156"/>
                </a:lnTo>
                <a:lnTo>
                  <a:pt x="159" y="158"/>
                </a:lnTo>
                <a:lnTo>
                  <a:pt x="128" y="158"/>
                </a:lnTo>
                <a:lnTo>
                  <a:pt x="98" y="160"/>
                </a:lnTo>
                <a:lnTo>
                  <a:pt x="65" y="160"/>
                </a:lnTo>
                <a:lnTo>
                  <a:pt x="32" y="162"/>
                </a:lnTo>
                <a:lnTo>
                  <a:pt x="0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09"/>
          <p:cNvSpPr/>
          <p:nvPr/>
        </p:nvSpPr>
        <p:spPr>
          <a:xfrm>
            <a:off x="6618240" y="3989520"/>
            <a:ext cx="428760" cy="126720"/>
          </a:xfrm>
          <a:custGeom>
            <a:avLst/>
            <a:gdLst/>
            <a:ahLst/>
            <a:rect l="l" t="t" r="r" b="b"/>
            <a:pathLst>
              <a:path w="539" h="160">
                <a:moveTo>
                  <a:pt x="389" y="135"/>
                </a:moveTo>
                <a:lnTo>
                  <a:pt x="370" y="137"/>
                </a:lnTo>
                <a:lnTo>
                  <a:pt x="349" y="139"/>
                </a:lnTo>
                <a:lnTo>
                  <a:pt x="330" y="141"/>
                </a:lnTo>
                <a:lnTo>
                  <a:pt x="309" y="142"/>
                </a:lnTo>
                <a:lnTo>
                  <a:pt x="286" y="146"/>
                </a:lnTo>
                <a:lnTo>
                  <a:pt x="265" y="148"/>
                </a:lnTo>
                <a:lnTo>
                  <a:pt x="241" y="150"/>
                </a:lnTo>
                <a:lnTo>
                  <a:pt x="217" y="152"/>
                </a:lnTo>
                <a:lnTo>
                  <a:pt x="194" y="152"/>
                </a:lnTo>
                <a:lnTo>
                  <a:pt x="167" y="154"/>
                </a:lnTo>
                <a:lnTo>
                  <a:pt x="142" y="156"/>
                </a:lnTo>
                <a:lnTo>
                  <a:pt x="115" y="156"/>
                </a:lnTo>
                <a:lnTo>
                  <a:pt x="88" y="158"/>
                </a:lnTo>
                <a:lnTo>
                  <a:pt x="59" y="158"/>
                </a:lnTo>
                <a:lnTo>
                  <a:pt x="28" y="158"/>
                </a:lnTo>
                <a:lnTo>
                  <a:pt x="0" y="160"/>
                </a:lnTo>
                <a:lnTo>
                  <a:pt x="0" y="116"/>
                </a:lnTo>
                <a:lnTo>
                  <a:pt x="0" y="71"/>
                </a:lnTo>
                <a:lnTo>
                  <a:pt x="32" y="68"/>
                </a:lnTo>
                <a:lnTo>
                  <a:pt x="67" y="62"/>
                </a:lnTo>
                <a:lnTo>
                  <a:pt x="101" y="56"/>
                </a:lnTo>
                <a:lnTo>
                  <a:pt x="138" y="52"/>
                </a:lnTo>
                <a:lnTo>
                  <a:pt x="172" y="45"/>
                </a:lnTo>
                <a:lnTo>
                  <a:pt x="207" y="39"/>
                </a:lnTo>
                <a:lnTo>
                  <a:pt x="241" y="31"/>
                </a:lnTo>
                <a:lnTo>
                  <a:pt x="276" y="22"/>
                </a:lnTo>
                <a:lnTo>
                  <a:pt x="291" y="18"/>
                </a:lnTo>
                <a:lnTo>
                  <a:pt x="307" y="14"/>
                </a:lnTo>
                <a:lnTo>
                  <a:pt x="322" y="10"/>
                </a:lnTo>
                <a:lnTo>
                  <a:pt x="337" y="8"/>
                </a:lnTo>
                <a:lnTo>
                  <a:pt x="351" y="4"/>
                </a:lnTo>
                <a:lnTo>
                  <a:pt x="364" y="4"/>
                </a:lnTo>
                <a:lnTo>
                  <a:pt x="389" y="0"/>
                </a:lnTo>
                <a:lnTo>
                  <a:pt x="414" y="0"/>
                </a:lnTo>
                <a:lnTo>
                  <a:pt x="435" y="2"/>
                </a:lnTo>
                <a:lnTo>
                  <a:pt x="456" y="6"/>
                </a:lnTo>
                <a:lnTo>
                  <a:pt x="476" y="10"/>
                </a:lnTo>
                <a:lnTo>
                  <a:pt x="489" y="20"/>
                </a:lnTo>
                <a:lnTo>
                  <a:pt x="503" y="27"/>
                </a:lnTo>
                <a:lnTo>
                  <a:pt x="512" y="37"/>
                </a:lnTo>
                <a:lnTo>
                  <a:pt x="522" y="45"/>
                </a:lnTo>
                <a:lnTo>
                  <a:pt x="529" y="52"/>
                </a:lnTo>
                <a:lnTo>
                  <a:pt x="531" y="56"/>
                </a:lnTo>
                <a:lnTo>
                  <a:pt x="535" y="60"/>
                </a:lnTo>
                <a:lnTo>
                  <a:pt x="537" y="64"/>
                </a:lnTo>
                <a:lnTo>
                  <a:pt x="537" y="66"/>
                </a:lnTo>
                <a:lnTo>
                  <a:pt x="539" y="69"/>
                </a:lnTo>
                <a:lnTo>
                  <a:pt x="539" y="71"/>
                </a:lnTo>
                <a:lnTo>
                  <a:pt x="539" y="73"/>
                </a:lnTo>
                <a:lnTo>
                  <a:pt x="537" y="77"/>
                </a:lnTo>
                <a:lnTo>
                  <a:pt x="533" y="79"/>
                </a:lnTo>
                <a:lnTo>
                  <a:pt x="529" y="83"/>
                </a:lnTo>
                <a:lnTo>
                  <a:pt x="524" y="87"/>
                </a:lnTo>
                <a:lnTo>
                  <a:pt x="518" y="91"/>
                </a:lnTo>
                <a:lnTo>
                  <a:pt x="510" y="94"/>
                </a:lnTo>
                <a:lnTo>
                  <a:pt x="501" y="98"/>
                </a:lnTo>
                <a:lnTo>
                  <a:pt x="491" y="102"/>
                </a:lnTo>
                <a:lnTo>
                  <a:pt x="479" y="106"/>
                </a:lnTo>
                <a:lnTo>
                  <a:pt x="468" y="110"/>
                </a:lnTo>
                <a:lnTo>
                  <a:pt x="455" y="116"/>
                </a:lnTo>
                <a:lnTo>
                  <a:pt x="439" y="119"/>
                </a:lnTo>
                <a:lnTo>
                  <a:pt x="424" y="125"/>
                </a:lnTo>
                <a:lnTo>
                  <a:pt x="407" y="129"/>
                </a:lnTo>
                <a:lnTo>
                  <a:pt x="389" y="1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10"/>
          <p:cNvSpPr/>
          <p:nvPr/>
        </p:nvSpPr>
        <p:spPr>
          <a:xfrm>
            <a:off x="5869080" y="2776680"/>
            <a:ext cx="1587240" cy="1647720"/>
          </a:xfrm>
          <a:custGeom>
            <a:avLst/>
            <a:gdLst/>
            <a:ahLst/>
            <a:rect l="l" t="t" r="r" b="b"/>
            <a:pathLst>
              <a:path w="2000" h="2075">
                <a:moveTo>
                  <a:pt x="2" y="2074"/>
                </a:moveTo>
                <a:lnTo>
                  <a:pt x="0" y="2068"/>
                </a:lnTo>
                <a:lnTo>
                  <a:pt x="0" y="2062"/>
                </a:lnTo>
                <a:lnTo>
                  <a:pt x="2" y="2056"/>
                </a:lnTo>
                <a:lnTo>
                  <a:pt x="6" y="2049"/>
                </a:lnTo>
                <a:lnTo>
                  <a:pt x="12" y="2043"/>
                </a:lnTo>
                <a:lnTo>
                  <a:pt x="19" y="2035"/>
                </a:lnTo>
                <a:lnTo>
                  <a:pt x="27" y="2026"/>
                </a:lnTo>
                <a:lnTo>
                  <a:pt x="37" y="2018"/>
                </a:lnTo>
                <a:lnTo>
                  <a:pt x="48" y="2008"/>
                </a:lnTo>
                <a:lnTo>
                  <a:pt x="62" y="1997"/>
                </a:lnTo>
                <a:lnTo>
                  <a:pt x="75" y="1987"/>
                </a:lnTo>
                <a:lnTo>
                  <a:pt x="91" y="1976"/>
                </a:lnTo>
                <a:lnTo>
                  <a:pt x="108" y="1962"/>
                </a:lnTo>
                <a:lnTo>
                  <a:pt x="125" y="1951"/>
                </a:lnTo>
                <a:lnTo>
                  <a:pt x="144" y="1937"/>
                </a:lnTo>
                <a:lnTo>
                  <a:pt x="165" y="1924"/>
                </a:lnTo>
                <a:lnTo>
                  <a:pt x="208" y="1895"/>
                </a:lnTo>
                <a:lnTo>
                  <a:pt x="252" y="1864"/>
                </a:lnTo>
                <a:lnTo>
                  <a:pt x="296" y="1834"/>
                </a:lnTo>
                <a:lnTo>
                  <a:pt x="342" y="1803"/>
                </a:lnTo>
                <a:lnTo>
                  <a:pt x="386" y="1772"/>
                </a:lnTo>
                <a:lnTo>
                  <a:pt x="430" y="1740"/>
                </a:lnTo>
                <a:lnTo>
                  <a:pt x="474" y="1707"/>
                </a:lnTo>
                <a:lnTo>
                  <a:pt x="517" y="1674"/>
                </a:lnTo>
                <a:lnTo>
                  <a:pt x="538" y="1657"/>
                </a:lnTo>
                <a:lnTo>
                  <a:pt x="561" y="1640"/>
                </a:lnTo>
                <a:lnTo>
                  <a:pt x="584" y="1622"/>
                </a:lnTo>
                <a:lnTo>
                  <a:pt x="607" y="1603"/>
                </a:lnTo>
                <a:lnTo>
                  <a:pt x="630" y="1584"/>
                </a:lnTo>
                <a:lnTo>
                  <a:pt x="655" y="1565"/>
                </a:lnTo>
                <a:lnTo>
                  <a:pt x="680" y="1544"/>
                </a:lnTo>
                <a:lnTo>
                  <a:pt x="707" y="1523"/>
                </a:lnTo>
                <a:lnTo>
                  <a:pt x="732" y="1500"/>
                </a:lnTo>
                <a:lnTo>
                  <a:pt x="758" y="1477"/>
                </a:lnTo>
                <a:lnTo>
                  <a:pt x="787" y="1452"/>
                </a:lnTo>
                <a:lnTo>
                  <a:pt x="814" y="1427"/>
                </a:lnTo>
                <a:lnTo>
                  <a:pt x="843" y="1400"/>
                </a:lnTo>
                <a:lnTo>
                  <a:pt x="872" y="1371"/>
                </a:lnTo>
                <a:lnTo>
                  <a:pt x="902" y="1342"/>
                </a:lnTo>
                <a:lnTo>
                  <a:pt x="931" y="1313"/>
                </a:lnTo>
                <a:lnTo>
                  <a:pt x="993" y="1252"/>
                </a:lnTo>
                <a:lnTo>
                  <a:pt x="1052" y="1189"/>
                </a:lnTo>
                <a:lnTo>
                  <a:pt x="1081" y="1156"/>
                </a:lnTo>
                <a:lnTo>
                  <a:pt x="1110" y="1123"/>
                </a:lnTo>
                <a:lnTo>
                  <a:pt x="1140" y="1091"/>
                </a:lnTo>
                <a:lnTo>
                  <a:pt x="1169" y="1058"/>
                </a:lnTo>
                <a:lnTo>
                  <a:pt x="1198" y="1024"/>
                </a:lnTo>
                <a:lnTo>
                  <a:pt x="1227" y="989"/>
                </a:lnTo>
                <a:lnTo>
                  <a:pt x="1256" y="954"/>
                </a:lnTo>
                <a:lnTo>
                  <a:pt x="1284" y="918"/>
                </a:lnTo>
                <a:lnTo>
                  <a:pt x="1311" y="882"/>
                </a:lnTo>
                <a:lnTo>
                  <a:pt x="1340" y="843"/>
                </a:lnTo>
                <a:lnTo>
                  <a:pt x="1369" y="805"/>
                </a:lnTo>
                <a:lnTo>
                  <a:pt x="1396" y="766"/>
                </a:lnTo>
                <a:lnTo>
                  <a:pt x="1421" y="728"/>
                </a:lnTo>
                <a:lnTo>
                  <a:pt x="1446" y="692"/>
                </a:lnTo>
                <a:lnTo>
                  <a:pt x="1471" y="657"/>
                </a:lnTo>
                <a:lnTo>
                  <a:pt x="1494" y="622"/>
                </a:lnTo>
                <a:lnTo>
                  <a:pt x="1517" y="590"/>
                </a:lnTo>
                <a:lnTo>
                  <a:pt x="1540" y="557"/>
                </a:lnTo>
                <a:lnTo>
                  <a:pt x="1561" y="525"/>
                </a:lnTo>
                <a:lnTo>
                  <a:pt x="1582" y="494"/>
                </a:lnTo>
                <a:lnTo>
                  <a:pt x="1601" y="465"/>
                </a:lnTo>
                <a:lnTo>
                  <a:pt x="1620" y="436"/>
                </a:lnTo>
                <a:lnTo>
                  <a:pt x="1638" y="407"/>
                </a:lnTo>
                <a:lnTo>
                  <a:pt x="1655" y="381"/>
                </a:lnTo>
                <a:lnTo>
                  <a:pt x="1670" y="354"/>
                </a:lnTo>
                <a:lnTo>
                  <a:pt x="1686" y="329"/>
                </a:lnTo>
                <a:lnTo>
                  <a:pt x="1699" y="304"/>
                </a:lnTo>
                <a:lnTo>
                  <a:pt x="1710" y="279"/>
                </a:lnTo>
                <a:lnTo>
                  <a:pt x="1722" y="260"/>
                </a:lnTo>
                <a:lnTo>
                  <a:pt x="1732" y="239"/>
                </a:lnTo>
                <a:lnTo>
                  <a:pt x="1739" y="219"/>
                </a:lnTo>
                <a:lnTo>
                  <a:pt x="1749" y="202"/>
                </a:lnTo>
                <a:lnTo>
                  <a:pt x="1755" y="185"/>
                </a:lnTo>
                <a:lnTo>
                  <a:pt x="1760" y="169"/>
                </a:lnTo>
                <a:lnTo>
                  <a:pt x="1766" y="154"/>
                </a:lnTo>
                <a:lnTo>
                  <a:pt x="1770" y="141"/>
                </a:lnTo>
                <a:lnTo>
                  <a:pt x="1772" y="127"/>
                </a:lnTo>
                <a:lnTo>
                  <a:pt x="1776" y="116"/>
                </a:lnTo>
                <a:lnTo>
                  <a:pt x="1776" y="106"/>
                </a:lnTo>
                <a:lnTo>
                  <a:pt x="1778" y="96"/>
                </a:lnTo>
                <a:lnTo>
                  <a:pt x="1778" y="87"/>
                </a:lnTo>
                <a:lnTo>
                  <a:pt x="1776" y="79"/>
                </a:lnTo>
                <a:lnTo>
                  <a:pt x="1776" y="73"/>
                </a:lnTo>
                <a:lnTo>
                  <a:pt x="1774" y="68"/>
                </a:lnTo>
                <a:lnTo>
                  <a:pt x="1768" y="64"/>
                </a:lnTo>
                <a:lnTo>
                  <a:pt x="1764" y="58"/>
                </a:lnTo>
                <a:lnTo>
                  <a:pt x="1762" y="54"/>
                </a:lnTo>
                <a:lnTo>
                  <a:pt x="1758" y="48"/>
                </a:lnTo>
                <a:lnTo>
                  <a:pt x="1757" y="45"/>
                </a:lnTo>
                <a:lnTo>
                  <a:pt x="1755" y="41"/>
                </a:lnTo>
                <a:lnTo>
                  <a:pt x="1755" y="37"/>
                </a:lnTo>
                <a:lnTo>
                  <a:pt x="1755" y="31"/>
                </a:lnTo>
                <a:lnTo>
                  <a:pt x="1755" y="27"/>
                </a:lnTo>
                <a:lnTo>
                  <a:pt x="1755" y="24"/>
                </a:lnTo>
                <a:lnTo>
                  <a:pt x="1757" y="20"/>
                </a:lnTo>
                <a:lnTo>
                  <a:pt x="1758" y="18"/>
                </a:lnTo>
                <a:lnTo>
                  <a:pt x="1762" y="14"/>
                </a:lnTo>
                <a:lnTo>
                  <a:pt x="1764" y="10"/>
                </a:lnTo>
                <a:lnTo>
                  <a:pt x="1768" y="8"/>
                </a:lnTo>
                <a:lnTo>
                  <a:pt x="1774" y="6"/>
                </a:lnTo>
                <a:lnTo>
                  <a:pt x="1778" y="2"/>
                </a:lnTo>
                <a:lnTo>
                  <a:pt x="1783" y="2"/>
                </a:lnTo>
                <a:lnTo>
                  <a:pt x="1789" y="0"/>
                </a:lnTo>
                <a:lnTo>
                  <a:pt x="1797" y="0"/>
                </a:lnTo>
                <a:lnTo>
                  <a:pt x="1805" y="0"/>
                </a:lnTo>
                <a:lnTo>
                  <a:pt x="1812" y="2"/>
                </a:lnTo>
                <a:lnTo>
                  <a:pt x="1820" y="2"/>
                </a:lnTo>
                <a:lnTo>
                  <a:pt x="1828" y="4"/>
                </a:lnTo>
                <a:lnTo>
                  <a:pt x="1837" y="8"/>
                </a:lnTo>
                <a:lnTo>
                  <a:pt x="1847" y="10"/>
                </a:lnTo>
                <a:lnTo>
                  <a:pt x="1856" y="14"/>
                </a:lnTo>
                <a:lnTo>
                  <a:pt x="1866" y="20"/>
                </a:lnTo>
                <a:lnTo>
                  <a:pt x="1877" y="24"/>
                </a:lnTo>
                <a:lnTo>
                  <a:pt x="1889" y="29"/>
                </a:lnTo>
                <a:lnTo>
                  <a:pt x="1901" y="35"/>
                </a:lnTo>
                <a:lnTo>
                  <a:pt x="1912" y="43"/>
                </a:lnTo>
                <a:lnTo>
                  <a:pt x="1922" y="50"/>
                </a:lnTo>
                <a:lnTo>
                  <a:pt x="1933" y="56"/>
                </a:lnTo>
                <a:lnTo>
                  <a:pt x="1943" y="64"/>
                </a:lnTo>
                <a:lnTo>
                  <a:pt x="1952" y="72"/>
                </a:lnTo>
                <a:lnTo>
                  <a:pt x="1960" y="77"/>
                </a:lnTo>
                <a:lnTo>
                  <a:pt x="1966" y="85"/>
                </a:lnTo>
                <a:lnTo>
                  <a:pt x="1973" y="93"/>
                </a:lnTo>
                <a:lnTo>
                  <a:pt x="1979" y="98"/>
                </a:lnTo>
                <a:lnTo>
                  <a:pt x="1983" y="106"/>
                </a:lnTo>
                <a:lnTo>
                  <a:pt x="1989" y="114"/>
                </a:lnTo>
                <a:lnTo>
                  <a:pt x="1991" y="120"/>
                </a:lnTo>
                <a:lnTo>
                  <a:pt x="1995" y="127"/>
                </a:lnTo>
                <a:lnTo>
                  <a:pt x="1996" y="135"/>
                </a:lnTo>
                <a:lnTo>
                  <a:pt x="1998" y="141"/>
                </a:lnTo>
                <a:lnTo>
                  <a:pt x="1998" y="148"/>
                </a:lnTo>
                <a:lnTo>
                  <a:pt x="2000" y="156"/>
                </a:lnTo>
                <a:lnTo>
                  <a:pt x="1998" y="160"/>
                </a:lnTo>
                <a:lnTo>
                  <a:pt x="1998" y="164"/>
                </a:lnTo>
                <a:lnTo>
                  <a:pt x="1996" y="169"/>
                </a:lnTo>
                <a:lnTo>
                  <a:pt x="1995" y="175"/>
                </a:lnTo>
                <a:lnTo>
                  <a:pt x="1993" y="181"/>
                </a:lnTo>
                <a:lnTo>
                  <a:pt x="1991" y="189"/>
                </a:lnTo>
                <a:lnTo>
                  <a:pt x="1987" y="196"/>
                </a:lnTo>
                <a:lnTo>
                  <a:pt x="1983" y="204"/>
                </a:lnTo>
                <a:lnTo>
                  <a:pt x="1977" y="214"/>
                </a:lnTo>
                <a:lnTo>
                  <a:pt x="1973" y="223"/>
                </a:lnTo>
                <a:lnTo>
                  <a:pt x="1968" y="233"/>
                </a:lnTo>
                <a:lnTo>
                  <a:pt x="1962" y="244"/>
                </a:lnTo>
                <a:lnTo>
                  <a:pt x="1954" y="254"/>
                </a:lnTo>
                <a:lnTo>
                  <a:pt x="1949" y="267"/>
                </a:lnTo>
                <a:lnTo>
                  <a:pt x="1941" y="279"/>
                </a:lnTo>
                <a:lnTo>
                  <a:pt x="1933" y="292"/>
                </a:lnTo>
                <a:lnTo>
                  <a:pt x="1924" y="308"/>
                </a:lnTo>
                <a:lnTo>
                  <a:pt x="1914" y="321"/>
                </a:lnTo>
                <a:lnTo>
                  <a:pt x="1904" y="336"/>
                </a:lnTo>
                <a:lnTo>
                  <a:pt x="1895" y="352"/>
                </a:lnTo>
                <a:lnTo>
                  <a:pt x="1885" y="369"/>
                </a:lnTo>
                <a:lnTo>
                  <a:pt x="1874" y="386"/>
                </a:lnTo>
                <a:lnTo>
                  <a:pt x="1862" y="404"/>
                </a:lnTo>
                <a:lnTo>
                  <a:pt x="1851" y="423"/>
                </a:lnTo>
                <a:lnTo>
                  <a:pt x="1837" y="442"/>
                </a:lnTo>
                <a:lnTo>
                  <a:pt x="1824" y="461"/>
                </a:lnTo>
                <a:lnTo>
                  <a:pt x="1810" y="480"/>
                </a:lnTo>
                <a:lnTo>
                  <a:pt x="1797" y="501"/>
                </a:lnTo>
                <a:lnTo>
                  <a:pt x="1782" y="523"/>
                </a:lnTo>
                <a:lnTo>
                  <a:pt x="1766" y="546"/>
                </a:lnTo>
                <a:lnTo>
                  <a:pt x="1751" y="567"/>
                </a:lnTo>
                <a:lnTo>
                  <a:pt x="1735" y="592"/>
                </a:lnTo>
                <a:lnTo>
                  <a:pt x="1701" y="638"/>
                </a:lnTo>
                <a:lnTo>
                  <a:pt x="1666" y="682"/>
                </a:lnTo>
                <a:lnTo>
                  <a:pt x="1634" y="726"/>
                </a:lnTo>
                <a:lnTo>
                  <a:pt x="1601" y="768"/>
                </a:lnTo>
                <a:lnTo>
                  <a:pt x="1570" y="811"/>
                </a:lnTo>
                <a:lnTo>
                  <a:pt x="1538" y="849"/>
                </a:lnTo>
                <a:lnTo>
                  <a:pt x="1509" y="889"/>
                </a:lnTo>
                <a:lnTo>
                  <a:pt x="1478" y="926"/>
                </a:lnTo>
                <a:lnTo>
                  <a:pt x="1449" y="962"/>
                </a:lnTo>
                <a:lnTo>
                  <a:pt x="1421" y="997"/>
                </a:lnTo>
                <a:lnTo>
                  <a:pt x="1392" y="1029"/>
                </a:lnTo>
                <a:lnTo>
                  <a:pt x="1365" y="1062"/>
                </a:lnTo>
                <a:lnTo>
                  <a:pt x="1336" y="1093"/>
                </a:lnTo>
                <a:lnTo>
                  <a:pt x="1309" y="1121"/>
                </a:lnTo>
                <a:lnTo>
                  <a:pt x="1284" y="1150"/>
                </a:lnTo>
                <a:lnTo>
                  <a:pt x="1258" y="1177"/>
                </a:lnTo>
                <a:lnTo>
                  <a:pt x="1233" y="1204"/>
                </a:lnTo>
                <a:lnTo>
                  <a:pt x="1206" y="1233"/>
                </a:lnTo>
                <a:lnTo>
                  <a:pt x="1179" y="1260"/>
                </a:lnTo>
                <a:lnTo>
                  <a:pt x="1150" y="1288"/>
                </a:lnTo>
                <a:lnTo>
                  <a:pt x="1121" y="1317"/>
                </a:lnTo>
                <a:lnTo>
                  <a:pt x="1092" y="1344"/>
                </a:lnTo>
                <a:lnTo>
                  <a:pt x="1064" y="1373"/>
                </a:lnTo>
                <a:lnTo>
                  <a:pt x="1033" y="1400"/>
                </a:lnTo>
                <a:lnTo>
                  <a:pt x="972" y="1455"/>
                </a:lnTo>
                <a:lnTo>
                  <a:pt x="910" y="1511"/>
                </a:lnTo>
                <a:lnTo>
                  <a:pt x="845" y="1569"/>
                </a:lnTo>
                <a:lnTo>
                  <a:pt x="781" y="1624"/>
                </a:lnTo>
                <a:lnTo>
                  <a:pt x="745" y="1653"/>
                </a:lnTo>
                <a:lnTo>
                  <a:pt x="712" y="1680"/>
                </a:lnTo>
                <a:lnTo>
                  <a:pt x="678" y="1705"/>
                </a:lnTo>
                <a:lnTo>
                  <a:pt x="643" y="1730"/>
                </a:lnTo>
                <a:lnTo>
                  <a:pt x="611" y="1755"/>
                </a:lnTo>
                <a:lnTo>
                  <a:pt x="578" y="1778"/>
                </a:lnTo>
                <a:lnTo>
                  <a:pt x="545" y="1801"/>
                </a:lnTo>
                <a:lnTo>
                  <a:pt x="515" y="1822"/>
                </a:lnTo>
                <a:lnTo>
                  <a:pt x="482" y="1843"/>
                </a:lnTo>
                <a:lnTo>
                  <a:pt x="451" y="1864"/>
                </a:lnTo>
                <a:lnTo>
                  <a:pt x="419" y="1884"/>
                </a:lnTo>
                <a:lnTo>
                  <a:pt x="388" y="1903"/>
                </a:lnTo>
                <a:lnTo>
                  <a:pt x="357" y="1922"/>
                </a:lnTo>
                <a:lnTo>
                  <a:pt x="327" y="1939"/>
                </a:lnTo>
                <a:lnTo>
                  <a:pt x="296" y="1956"/>
                </a:lnTo>
                <a:lnTo>
                  <a:pt x="265" y="1974"/>
                </a:lnTo>
                <a:lnTo>
                  <a:pt x="236" y="1989"/>
                </a:lnTo>
                <a:lnTo>
                  <a:pt x="208" y="2003"/>
                </a:lnTo>
                <a:lnTo>
                  <a:pt x="183" y="2016"/>
                </a:lnTo>
                <a:lnTo>
                  <a:pt x="158" y="2027"/>
                </a:lnTo>
                <a:lnTo>
                  <a:pt x="135" y="2039"/>
                </a:lnTo>
                <a:lnTo>
                  <a:pt x="114" y="2047"/>
                </a:lnTo>
                <a:lnTo>
                  <a:pt x="94" y="2054"/>
                </a:lnTo>
                <a:lnTo>
                  <a:pt x="77" y="2060"/>
                </a:lnTo>
                <a:lnTo>
                  <a:pt x="62" y="2066"/>
                </a:lnTo>
                <a:lnTo>
                  <a:pt x="48" y="2070"/>
                </a:lnTo>
                <a:lnTo>
                  <a:pt x="35" y="2074"/>
                </a:lnTo>
                <a:lnTo>
                  <a:pt x="25" y="2075"/>
                </a:lnTo>
                <a:lnTo>
                  <a:pt x="18" y="2075"/>
                </a:lnTo>
                <a:lnTo>
                  <a:pt x="10" y="2075"/>
                </a:lnTo>
                <a:lnTo>
                  <a:pt x="4" y="2075"/>
                </a:lnTo>
                <a:lnTo>
                  <a:pt x="2" y="207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111"/>
          <p:cNvSpPr/>
          <p:nvPr/>
        </p:nvSpPr>
        <p:spPr>
          <a:xfrm>
            <a:off x="6672240" y="2381400"/>
            <a:ext cx="231840" cy="1071360"/>
          </a:xfrm>
          <a:custGeom>
            <a:avLst/>
            <a:gdLst/>
            <a:ahLst/>
            <a:rect l="l" t="t" r="r" b="b"/>
            <a:pathLst>
              <a:path w="291" h="1352">
                <a:moveTo>
                  <a:pt x="19" y="81"/>
                </a:moveTo>
                <a:lnTo>
                  <a:pt x="13" y="73"/>
                </a:lnTo>
                <a:lnTo>
                  <a:pt x="9" y="68"/>
                </a:lnTo>
                <a:lnTo>
                  <a:pt x="7" y="62"/>
                </a:lnTo>
                <a:lnTo>
                  <a:pt x="4" y="56"/>
                </a:lnTo>
                <a:lnTo>
                  <a:pt x="2" y="50"/>
                </a:lnTo>
                <a:lnTo>
                  <a:pt x="0" y="45"/>
                </a:lnTo>
                <a:lnTo>
                  <a:pt x="0" y="39"/>
                </a:lnTo>
                <a:lnTo>
                  <a:pt x="0" y="35"/>
                </a:lnTo>
                <a:lnTo>
                  <a:pt x="0" y="29"/>
                </a:lnTo>
                <a:lnTo>
                  <a:pt x="0" y="25"/>
                </a:lnTo>
                <a:lnTo>
                  <a:pt x="2" y="22"/>
                </a:lnTo>
                <a:lnTo>
                  <a:pt x="4" y="18"/>
                </a:lnTo>
                <a:lnTo>
                  <a:pt x="7" y="14"/>
                </a:lnTo>
                <a:lnTo>
                  <a:pt x="9" y="12"/>
                </a:lnTo>
                <a:lnTo>
                  <a:pt x="13" y="8"/>
                </a:lnTo>
                <a:lnTo>
                  <a:pt x="19" y="6"/>
                </a:lnTo>
                <a:lnTo>
                  <a:pt x="23" y="4"/>
                </a:lnTo>
                <a:lnTo>
                  <a:pt x="29" y="2"/>
                </a:lnTo>
                <a:lnTo>
                  <a:pt x="34" y="2"/>
                </a:lnTo>
                <a:lnTo>
                  <a:pt x="42" y="0"/>
                </a:lnTo>
                <a:lnTo>
                  <a:pt x="48" y="0"/>
                </a:lnTo>
                <a:lnTo>
                  <a:pt x="55" y="2"/>
                </a:lnTo>
                <a:lnTo>
                  <a:pt x="65" y="2"/>
                </a:lnTo>
                <a:lnTo>
                  <a:pt x="73" y="4"/>
                </a:lnTo>
                <a:lnTo>
                  <a:pt x="92" y="8"/>
                </a:lnTo>
                <a:lnTo>
                  <a:pt x="111" y="14"/>
                </a:lnTo>
                <a:lnTo>
                  <a:pt x="134" y="22"/>
                </a:lnTo>
                <a:lnTo>
                  <a:pt x="157" y="31"/>
                </a:lnTo>
                <a:lnTo>
                  <a:pt x="178" y="45"/>
                </a:lnTo>
                <a:lnTo>
                  <a:pt x="201" y="58"/>
                </a:lnTo>
                <a:lnTo>
                  <a:pt x="211" y="64"/>
                </a:lnTo>
                <a:lnTo>
                  <a:pt x="220" y="68"/>
                </a:lnTo>
                <a:lnTo>
                  <a:pt x="230" y="73"/>
                </a:lnTo>
                <a:lnTo>
                  <a:pt x="238" y="77"/>
                </a:lnTo>
                <a:lnTo>
                  <a:pt x="245" y="83"/>
                </a:lnTo>
                <a:lnTo>
                  <a:pt x="253" y="87"/>
                </a:lnTo>
                <a:lnTo>
                  <a:pt x="259" y="91"/>
                </a:lnTo>
                <a:lnTo>
                  <a:pt x="267" y="94"/>
                </a:lnTo>
                <a:lnTo>
                  <a:pt x="270" y="98"/>
                </a:lnTo>
                <a:lnTo>
                  <a:pt x="276" y="100"/>
                </a:lnTo>
                <a:lnTo>
                  <a:pt x="280" y="104"/>
                </a:lnTo>
                <a:lnTo>
                  <a:pt x="282" y="106"/>
                </a:lnTo>
                <a:lnTo>
                  <a:pt x="286" y="116"/>
                </a:lnTo>
                <a:lnTo>
                  <a:pt x="290" y="125"/>
                </a:lnTo>
                <a:lnTo>
                  <a:pt x="290" y="135"/>
                </a:lnTo>
                <a:lnTo>
                  <a:pt x="291" y="144"/>
                </a:lnTo>
                <a:lnTo>
                  <a:pt x="290" y="156"/>
                </a:lnTo>
                <a:lnTo>
                  <a:pt x="290" y="167"/>
                </a:lnTo>
                <a:lnTo>
                  <a:pt x="286" y="181"/>
                </a:lnTo>
                <a:lnTo>
                  <a:pt x="282" y="194"/>
                </a:lnTo>
                <a:lnTo>
                  <a:pt x="282" y="196"/>
                </a:lnTo>
                <a:lnTo>
                  <a:pt x="280" y="198"/>
                </a:lnTo>
                <a:lnTo>
                  <a:pt x="280" y="200"/>
                </a:lnTo>
                <a:lnTo>
                  <a:pt x="280" y="204"/>
                </a:lnTo>
                <a:lnTo>
                  <a:pt x="278" y="208"/>
                </a:lnTo>
                <a:lnTo>
                  <a:pt x="278" y="213"/>
                </a:lnTo>
                <a:lnTo>
                  <a:pt x="278" y="217"/>
                </a:lnTo>
                <a:lnTo>
                  <a:pt x="278" y="223"/>
                </a:lnTo>
                <a:lnTo>
                  <a:pt x="276" y="231"/>
                </a:lnTo>
                <a:lnTo>
                  <a:pt x="276" y="237"/>
                </a:lnTo>
                <a:lnTo>
                  <a:pt x="276" y="244"/>
                </a:lnTo>
                <a:lnTo>
                  <a:pt x="274" y="252"/>
                </a:lnTo>
                <a:lnTo>
                  <a:pt x="274" y="260"/>
                </a:lnTo>
                <a:lnTo>
                  <a:pt x="274" y="267"/>
                </a:lnTo>
                <a:lnTo>
                  <a:pt x="272" y="277"/>
                </a:lnTo>
                <a:lnTo>
                  <a:pt x="272" y="286"/>
                </a:lnTo>
                <a:lnTo>
                  <a:pt x="272" y="296"/>
                </a:lnTo>
                <a:lnTo>
                  <a:pt x="270" y="308"/>
                </a:lnTo>
                <a:lnTo>
                  <a:pt x="270" y="319"/>
                </a:lnTo>
                <a:lnTo>
                  <a:pt x="270" y="331"/>
                </a:lnTo>
                <a:lnTo>
                  <a:pt x="270" y="342"/>
                </a:lnTo>
                <a:lnTo>
                  <a:pt x="268" y="356"/>
                </a:lnTo>
                <a:lnTo>
                  <a:pt x="268" y="369"/>
                </a:lnTo>
                <a:lnTo>
                  <a:pt x="268" y="382"/>
                </a:lnTo>
                <a:lnTo>
                  <a:pt x="267" y="396"/>
                </a:lnTo>
                <a:lnTo>
                  <a:pt x="267" y="411"/>
                </a:lnTo>
                <a:lnTo>
                  <a:pt x="267" y="427"/>
                </a:lnTo>
                <a:lnTo>
                  <a:pt x="265" y="442"/>
                </a:lnTo>
                <a:lnTo>
                  <a:pt x="265" y="459"/>
                </a:lnTo>
                <a:lnTo>
                  <a:pt x="265" y="476"/>
                </a:lnTo>
                <a:lnTo>
                  <a:pt x="263" y="494"/>
                </a:lnTo>
                <a:lnTo>
                  <a:pt x="263" y="511"/>
                </a:lnTo>
                <a:lnTo>
                  <a:pt x="263" y="528"/>
                </a:lnTo>
                <a:lnTo>
                  <a:pt x="263" y="547"/>
                </a:lnTo>
                <a:lnTo>
                  <a:pt x="261" y="567"/>
                </a:lnTo>
                <a:lnTo>
                  <a:pt x="261" y="588"/>
                </a:lnTo>
                <a:lnTo>
                  <a:pt x="261" y="607"/>
                </a:lnTo>
                <a:lnTo>
                  <a:pt x="259" y="628"/>
                </a:lnTo>
                <a:lnTo>
                  <a:pt x="259" y="649"/>
                </a:lnTo>
                <a:lnTo>
                  <a:pt x="259" y="672"/>
                </a:lnTo>
                <a:lnTo>
                  <a:pt x="257" y="695"/>
                </a:lnTo>
                <a:lnTo>
                  <a:pt x="257" y="716"/>
                </a:lnTo>
                <a:lnTo>
                  <a:pt x="257" y="741"/>
                </a:lnTo>
                <a:lnTo>
                  <a:pt x="255" y="764"/>
                </a:lnTo>
                <a:lnTo>
                  <a:pt x="255" y="789"/>
                </a:lnTo>
                <a:lnTo>
                  <a:pt x="255" y="814"/>
                </a:lnTo>
                <a:lnTo>
                  <a:pt x="253" y="839"/>
                </a:lnTo>
                <a:lnTo>
                  <a:pt x="253" y="866"/>
                </a:lnTo>
                <a:lnTo>
                  <a:pt x="253" y="893"/>
                </a:lnTo>
                <a:lnTo>
                  <a:pt x="253" y="920"/>
                </a:lnTo>
                <a:lnTo>
                  <a:pt x="251" y="947"/>
                </a:lnTo>
                <a:lnTo>
                  <a:pt x="251" y="976"/>
                </a:lnTo>
                <a:lnTo>
                  <a:pt x="251" y="1004"/>
                </a:lnTo>
                <a:lnTo>
                  <a:pt x="249" y="1033"/>
                </a:lnTo>
                <a:lnTo>
                  <a:pt x="249" y="1062"/>
                </a:lnTo>
                <a:lnTo>
                  <a:pt x="249" y="1093"/>
                </a:lnTo>
                <a:lnTo>
                  <a:pt x="247" y="1123"/>
                </a:lnTo>
                <a:lnTo>
                  <a:pt x="247" y="1154"/>
                </a:lnTo>
                <a:lnTo>
                  <a:pt x="247" y="1185"/>
                </a:lnTo>
                <a:lnTo>
                  <a:pt x="245" y="1217"/>
                </a:lnTo>
                <a:lnTo>
                  <a:pt x="245" y="1250"/>
                </a:lnTo>
                <a:lnTo>
                  <a:pt x="245" y="1283"/>
                </a:lnTo>
                <a:lnTo>
                  <a:pt x="245" y="1317"/>
                </a:lnTo>
                <a:lnTo>
                  <a:pt x="244" y="1352"/>
                </a:lnTo>
                <a:lnTo>
                  <a:pt x="105" y="1352"/>
                </a:lnTo>
                <a:lnTo>
                  <a:pt x="107" y="1311"/>
                </a:lnTo>
                <a:lnTo>
                  <a:pt x="107" y="1273"/>
                </a:lnTo>
                <a:lnTo>
                  <a:pt x="109" y="1235"/>
                </a:lnTo>
                <a:lnTo>
                  <a:pt x="109" y="1198"/>
                </a:lnTo>
                <a:lnTo>
                  <a:pt x="109" y="1162"/>
                </a:lnTo>
                <a:lnTo>
                  <a:pt x="111" y="1125"/>
                </a:lnTo>
                <a:lnTo>
                  <a:pt x="111" y="1089"/>
                </a:lnTo>
                <a:lnTo>
                  <a:pt x="111" y="1054"/>
                </a:lnTo>
                <a:lnTo>
                  <a:pt x="111" y="1022"/>
                </a:lnTo>
                <a:lnTo>
                  <a:pt x="111" y="987"/>
                </a:lnTo>
                <a:lnTo>
                  <a:pt x="111" y="954"/>
                </a:lnTo>
                <a:lnTo>
                  <a:pt x="111" y="922"/>
                </a:lnTo>
                <a:lnTo>
                  <a:pt x="111" y="891"/>
                </a:lnTo>
                <a:lnTo>
                  <a:pt x="109" y="860"/>
                </a:lnTo>
                <a:lnTo>
                  <a:pt x="109" y="830"/>
                </a:lnTo>
                <a:lnTo>
                  <a:pt x="109" y="801"/>
                </a:lnTo>
                <a:lnTo>
                  <a:pt x="109" y="772"/>
                </a:lnTo>
                <a:lnTo>
                  <a:pt x="107" y="743"/>
                </a:lnTo>
                <a:lnTo>
                  <a:pt x="107" y="716"/>
                </a:lnTo>
                <a:lnTo>
                  <a:pt x="105" y="690"/>
                </a:lnTo>
                <a:lnTo>
                  <a:pt x="105" y="663"/>
                </a:lnTo>
                <a:lnTo>
                  <a:pt x="103" y="638"/>
                </a:lnTo>
                <a:lnTo>
                  <a:pt x="103" y="613"/>
                </a:lnTo>
                <a:lnTo>
                  <a:pt x="101" y="588"/>
                </a:lnTo>
                <a:lnTo>
                  <a:pt x="101" y="565"/>
                </a:lnTo>
                <a:lnTo>
                  <a:pt x="100" y="542"/>
                </a:lnTo>
                <a:lnTo>
                  <a:pt x="100" y="519"/>
                </a:lnTo>
                <a:lnTo>
                  <a:pt x="98" y="498"/>
                </a:lnTo>
                <a:lnTo>
                  <a:pt x="98" y="476"/>
                </a:lnTo>
                <a:lnTo>
                  <a:pt x="96" y="455"/>
                </a:lnTo>
                <a:lnTo>
                  <a:pt x="94" y="436"/>
                </a:lnTo>
                <a:lnTo>
                  <a:pt x="94" y="417"/>
                </a:lnTo>
                <a:lnTo>
                  <a:pt x="92" y="400"/>
                </a:lnTo>
                <a:lnTo>
                  <a:pt x="90" y="380"/>
                </a:lnTo>
                <a:lnTo>
                  <a:pt x="90" y="363"/>
                </a:lnTo>
                <a:lnTo>
                  <a:pt x="88" y="346"/>
                </a:lnTo>
                <a:lnTo>
                  <a:pt x="86" y="331"/>
                </a:lnTo>
                <a:lnTo>
                  <a:pt x="84" y="315"/>
                </a:lnTo>
                <a:lnTo>
                  <a:pt x="84" y="300"/>
                </a:lnTo>
                <a:lnTo>
                  <a:pt x="82" y="285"/>
                </a:lnTo>
                <a:lnTo>
                  <a:pt x="80" y="271"/>
                </a:lnTo>
                <a:lnTo>
                  <a:pt x="78" y="256"/>
                </a:lnTo>
                <a:lnTo>
                  <a:pt x="77" y="242"/>
                </a:lnTo>
                <a:lnTo>
                  <a:pt x="75" y="231"/>
                </a:lnTo>
                <a:lnTo>
                  <a:pt x="73" y="217"/>
                </a:lnTo>
                <a:lnTo>
                  <a:pt x="69" y="206"/>
                </a:lnTo>
                <a:lnTo>
                  <a:pt x="67" y="194"/>
                </a:lnTo>
                <a:lnTo>
                  <a:pt x="65" y="185"/>
                </a:lnTo>
                <a:lnTo>
                  <a:pt x="63" y="173"/>
                </a:lnTo>
                <a:lnTo>
                  <a:pt x="59" y="164"/>
                </a:lnTo>
                <a:lnTo>
                  <a:pt x="57" y="154"/>
                </a:lnTo>
                <a:lnTo>
                  <a:pt x="55" y="146"/>
                </a:lnTo>
                <a:lnTo>
                  <a:pt x="52" y="139"/>
                </a:lnTo>
                <a:lnTo>
                  <a:pt x="50" y="131"/>
                </a:lnTo>
                <a:lnTo>
                  <a:pt x="46" y="123"/>
                </a:lnTo>
                <a:lnTo>
                  <a:pt x="44" y="116"/>
                </a:lnTo>
                <a:lnTo>
                  <a:pt x="40" y="110"/>
                </a:lnTo>
                <a:lnTo>
                  <a:pt x="38" y="104"/>
                </a:lnTo>
                <a:lnTo>
                  <a:pt x="34" y="100"/>
                </a:lnTo>
                <a:lnTo>
                  <a:pt x="32" y="94"/>
                </a:lnTo>
                <a:lnTo>
                  <a:pt x="29" y="91"/>
                </a:lnTo>
                <a:lnTo>
                  <a:pt x="25" y="87"/>
                </a:lnTo>
                <a:lnTo>
                  <a:pt x="21" y="83"/>
                </a:lnTo>
                <a:lnTo>
                  <a:pt x="19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12"/>
          <p:cNvSpPr/>
          <p:nvPr/>
        </p:nvSpPr>
        <p:spPr>
          <a:xfrm>
            <a:off x="6218280" y="3286080"/>
            <a:ext cx="1546200" cy="285840"/>
          </a:xfrm>
          <a:custGeom>
            <a:avLst/>
            <a:gdLst/>
            <a:ahLst/>
            <a:rect l="l" t="t" r="r" b="b"/>
            <a:pathLst>
              <a:path w="1946" h="360">
                <a:moveTo>
                  <a:pt x="63" y="336"/>
                </a:moveTo>
                <a:lnTo>
                  <a:pt x="50" y="326"/>
                </a:lnTo>
                <a:lnTo>
                  <a:pt x="36" y="316"/>
                </a:lnTo>
                <a:lnTo>
                  <a:pt x="27" y="307"/>
                </a:lnTo>
                <a:lnTo>
                  <a:pt x="17" y="297"/>
                </a:lnTo>
                <a:lnTo>
                  <a:pt x="9" y="288"/>
                </a:lnTo>
                <a:lnTo>
                  <a:pt x="7" y="284"/>
                </a:lnTo>
                <a:lnTo>
                  <a:pt x="4" y="278"/>
                </a:lnTo>
                <a:lnTo>
                  <a:pt x="2" y="274"/>
                </a:lnTo>
                <a:lnTo>
                  <a:pt x="2" y="270"/>
                </a:lnTo>
                <a:lnTo>
                  <a:pt x="0" y="264"/>
                </a:lnTo>
                <a:lnTo>
                  <a:pt x="0" y="261"/>
                </a:lnTo>
                <a:lnTo>
                  <a:pt x="96" y="243"/>
                </a:lnTo>
                <a:lnTo>
                  <a:pt x="190" y="228"/>
                </a:lnTo>
                <a:lnTo>
                  <a:pt x="280" y="213"/>
                </a:lnTo>
                <a:lnTo>
                  <a:pt x="368" y="197"/>
                </a:lnTo>
                <a:lnTo>
                  <a:pt x="453" y="184"/>
                </a:lnTo>
                <a:lnTo>
                  <a:pt x="535" y="170"/>
                </a:lnTo>
                <a:lnTo>
                  <a:pt x="614" y="157"/>
                </a:lnTo>
                <a:lnTo>
                  <a:pt x="691" y="144"/>
                </a:lnTo>
                <a:lnTo>
                  <a:pt x="766" y="132"/>
                </a:lnTo>
                <a:lnTo>
                  <a:pt x="837" y="121"/>
                </a:lnTo>
                <a:lnTo>
                  <a:pt x="904" y="109"/>
                </a:lnTo>
                <a:lnTo>
                  <a:pt x="969" y="99"/>
                </a:lnTo>
                <a:lnTo>
                  <a:pt x="1032" y="90"/>
                </a:lnTo>
                <a:lnTo>
                  <a:pt x="1092" y="80"/>
                </a:lnTo>
                <a:lnTo>
                  <a:pt x="1148" y="71"/>
                </a:lnTo>
                <a:lnTo>
                  <a:pt x="1201" y="63"/>
                </a:lnTo>
                <a:lnTo>
                  <a:pt x="1253" y="55"/>
                </a:lnTo>
                <a:lnTo>
                  <a:pt x="1301" y="48"/>
                </a:lnTo>
                <a:lnTo>
                  <a:pt x="1347" y="40"/>
                </a:lnTo>
                <a:lnTo>
                  <a:pt x="1389" y="34"/>
                </a:lnTo>
                <a:lnTo>
                  <a:pt x="1428" y="28"/>
                </a:lnTo>
                <a:lnTo>
                  <a:pt x="1464" y="23"/>
                </a:lnTo>
                <a:lnTo>
                  <a:pt x="1499" y="19"/>
                </a:lnTo>
                <a:lnTo>
                  <a:pt x="1530" y="15"/>
                </a:lnTo>
                <a:lnTo>
                  <a:pt x="1556" y="11"/>
                </a:lnTo>
                <a:lnTo>
                  <a:pt x="1581" y="7"/>
                </a:lnTo>
                <a:lnTo>
                  <a:pt x="1604" y="5"/>
                </a:lnTo>
                <a:lnTo>
                  <a:pt x="1624" y="3"/>
                </a:lnTo>
                <a:lnTo>
                  <a:pt x="1639" y="2"/>
                </a:lnTo>
                <a:lnTo>
                  <a:pt x="1652" y="0"/>
                </a:lnTo>
                <a:lnTo>
                  <a:pt x="1662" y="0"/>
                </a:lnTo>
                <a:lnTo>
                  <a:pt x="1670" y="0"/>
                </a:lnTo>
                <a:lnTo>
                  <a:pt x="1695" y="0"/>
                </a:lnTo>
                <a:lnTo>
                  <a:pt x="1718" y="2"/>
                </a:lnTo>
                <a:lnTo>
                  <a:pt x="1741" y="5"/>
                </a:lnTo>
                <a:lnTo>
                  <a:pt x="1764" y="9"/>
                </a:lnTo>
                <a:lnTo>
                  <a:pt x="1777" y="13"/>
                </a:lnTo>
                <a:lnTo>
                  <a:pt x="1789" y="17"/>
                </a:lnTo>
                <a:lnTo>
                  <a:pt x="1800" y="21"/>
                </a:lnTo>
                <a:lnTo>
                  <a:pt x="1812" y="25"/>
                </a:lnTo>
                <a:lnTo>
                  <a:pt x="1823" y="30"/>
                </a:lnTo>
                <a:lnTo>
                  <a:pt x="1835" y="36"/>
                </a:lnTo>
                <a:lnTo>
                  <a:pt x="1846" y="42"/>
                </a:lnTo>
                <a:lnTo>
                  <a:pt x="1860" y="50"/>
                </a:lnTo>
                <a:lnTo>
                  <a:pt x="1869" y="55"/>
                </a:lnTo>
                <a:lnTo>
                  <a:pt x="1881" y="63"/>
                </a:lnTo>
                <a:lnTo>
                  <a:pt x="1890" y="69"/>
                </a:lnTo>
                <a:lnTo>
                  <a:pt x="1898" y="76"/>
                </a:lnTo>
                <a:lnTo>
                  <a:pt x="1908" y="84"/>
                </a:lnTo>
                <a:lnTo>
                  <a:pt x="1913" y="90"/>
                </a:lnTo>
                <a:lnTo>
                  <a:pt x="1921" y="96"/>
                </a:lnTo>
                <a:lnTo>
                  <a:pt x="1927" y="101"/>
                </a:lnTo>
                <a:lnTo>
                  <a:pt x="1931" y="107"/>
                </a:lnTo>
                <a:lnTo>
                  <a:pt x="1935" y="113"/>
                </a:lnTo>
                <a:lnTo>
                  <a:pt x="1938" y="117"/>
                </a:lnTo>
                <a:lnTo>
                  <a:pt x="1942" y="122"/>
                </a:lnTo>
                <a:lnTo>
                  <a:pt x="1944" y="126"/>
                </a:lnTo>
                <a:lnTo>
                  <a:pt x="1946" y="130"/>
                </a:lnTo>
                <a:lnTo>
                  <a:pt x="1946" y="132"/>
                </a:lnTo>
                <a:lnTo>
                  <a:pt x="1946" y="136"/>
                </a:lnTo>
                <a:lnTo>
                  <a:pt x="1946" y="138"/>
                </a:lnTo>
                <a:lnTo>
                  <a:pt x="1944" y="140"/>
                </a:lnTo>
                <a:lnTo>
                  <a:pt x="1942" y="140"/>
                </a:lnTo>
                <a:lnTo>
                  <a:pt x="1938" y="142"/>
                </a:lnTo>
                <a:lnTo>
                  <a:pt x="1936" y="142"/>
                </a:lnTo>
                <a:lnTo>
                  <a:pt x="1933" y="144"/>
                </a:lnTo>
                <a:lnTo>
                  <a:pt x="1929" y="145"/>
                </a:lnTo>
                <a:lnTo>
                  <a:pt x="1923" y="145"/>
                </a:lnTo>
                <a:lnTo>
                  <a:pt x="1917" y="147"/>
                </a:lnTo>
                <a:lnTo>
                  <a:pt x="1911" y="147"/>
                </a:lnTo>
                <a:lnTo>
                  <a:pt x="1906" y="149"/>
                </a:lnTo>
                <a:lnTo>
                  <a:pt x="1898" y="149"/>
                </a:lnTo>
                <a:lnTo>
                  <a:pt x="1890" y="151"/>
                </a:lnTo>
                <a:lnTo>
                  <a:pt x="1881" y="151"/>
                </a:lnTo>
                <a:lnTo>
                  <a:pt x="1873" y="153"/>
                </a:lnTo>
                <a:lnTo>
                  <a:pt x="1864" y="153"/>
                </a:lnTo>
                <a:lnTo>
                  <a:pt x="1854" y="155"/>
                </a:lnTo>
                <a:lnTo>
                  <a:pt x="1842" y="155"/>
                </a:lnTo>
                <a:lnTo>
                  <a:pt x="1833" y="155"/>
                </a:lnTo>
                <a:lnTo>
                  <a:pt x="1821" y="157"/>
                </a:lnTo>
                <a:lnTo>
                  <a:pt x="1808" y="157"/>
                </a:lnTo>
                <a:lnTo>
                  <a:pt x="1796" y="157"/>
                </a:lnTo>
                <a:lnTo>
                  <a:pt x="1783" y="159"/>
                </a:lnTo>
                <a:lnTo>
                  <a:pt x="1769" y="159"/>
                </a:lnTo>
                <a:lnTo>
                  <a:pt x="1754" y="159"/>
                </a:lnTo>
                <a:lnTo>
                  <a:pt x="1739" y="159"/>
                </a:lnTo>
                <a:lnTo>
                  <a:pt x="1723" y="159"/>
                </a:lnTo>
                <a:lnTo>
                  <a:pt x="1708" y="161"/>
                </a:lnTo>
                <a:lnTo>
                  <a:pt x="1693" y="161"/>
                </a:lnTo>
                <a:lnTo>
                  <a:pt x="1675" y="161"/>
                </a:lnTo>
                <a:lnTo>
                  <a:pt x="1658" y="161"/>
                </a:lnTo>
                <a:lnTo>
                  <a:pt x="1639" y="161"/>
                </a:lnTo>
                <a:lnTo>
                  <a:pt x="1622" y="161"/>
                </a:lnTo>
                <a:lnTo>
                  <a:pt x="1602" y="161"/>
                </a:lnTo>
                <a:lnTo>
                  <a:pt x="1581" y="163"/>
                </a:lnTo>
                <a:lnTo>
                  <a:pt x="1562" y="163"/>
                </a:lnTo>
                <a:lnTo>
                  <a:pt x="1541" y="165"/>
                </a:lnTo>
                <a:lnTo>
                  <a:pt x="1520" y="165"/>
                </a:lnTo>
                <a:lnTo>
                  <a:pt x="1497" y="167"/>
                </a:lnTo>
                <a:lnTo>
                  <a:pt x="1474" y="169"/>
                </a:lnTo>
                <a:lnTo>
                  <a:pt x="1451" y="170"/>
                </a:lnTo>
                <a:lnTo>
                  <a:pt x="1428" y="172"/>
                </a:lnTo>
                <a:lnTo>
                  <a:pt x="1403" y="176"/>
                </a:lnTo>
                <a:lnTo>
                  <a:pt x="1378" y="178"/>
                </a:lnTo>
                <a:lnTo>
                  <a:pt x="1353" y="180"/>
                </a:lnTo>
                <a:lnTo>
                  <a:pt x="1326" y="184"/>
                </a:lnTo>
                <a:lnTo>
                  <a:pt x="1299" y="186"/>
                </a:lnTo>
                <a:lnTo>
                  <a:pt x="1272" y="190"/>
                </a:lnTo>
                <a:lnTo>
                  <a:pt x="1244" y="193"/>
                </a:lnTo>
                <a:lnTo>
                  <a:pt x="1217" y="197"/>
                </a:lnTo>
                <a:lnTo>
                  <a:pt x="1186" y="201"/>
                </a:lnTo>
                <a:lnTo>
                  <a:pt x="1157" y="205"/>
                </a:lnTo>
                <a:lnTo>
                  <a:pt x="1126" y="209"/>
                </a:lnTo>
                <a:lnTo>
                  <a:pt x="1096" y="213"/>
                </a:lnTo>
                <a:lnTo>
                  <a:pt x="1065" y="218"/>
                </a:lnTo>
                <a:lnTo>
                  <a:pt x="1032" y="222"/>
                </a:lnTo>
                <a:lnTo>
                  <a:pt x="1000" y="228"/>
                </a:lnTo>
                <a:lnTo>
                  <a:pt x="965" y="232"/>
                </a:lnTo>
                <a:lnTo>
                  <a:pt x="933" y="238"/>
                </a:lnTo>
                <a:lnTo>
                  <a:pt x="898" y="243"/>
                </a:lnTo>
                <a:lnTo>
                  <a:pt x="863" y="249"/>
                </a:lnTo>
                <a:lnTo>
                  <a:pt x="827" y="255"/>
                </a:lnTo>
                <a:lnTo>
                  <a:pt x="791" y="261"/>
                </a:lnTo>
                <a:lnTo>
                  <a:pt x="756" y="266"/>
                </a:lnTo>
                <a:lnTo>
                  <a:pt x="720" y="272"/>
                </a:lnTo>
                <a:lnTo>
                  <a:pt x="687" y="278"/>
                </a:lnTo>
                <a:lnTo>
                  <a:pt x="654" y="282"/>
                </a:lnTo>
                <a:lnTo>
                  <a:pt x="622" y="288"/>
                </a:lnTo>
                <a:lnTo>
                  <a:pt x="591" y="293"/>
                </a:lnTo>
                <a:lnTo>
                  <a:pt x="560" y="297"/>
                </a:lnTo>
                <a:lnTo>
                  <a:pt x="533" y="303"/>
                </a:lnTo>
                <a:lnTo>
                  <a:pt x="505" y="307"/>
                </a:lnTo>
                <a:lnTo>
                  <a:pt x="478" y="311"/>
                </a:lnTo>
                <a:lnTo>
                  <a:pt x="453" y="316"/>
                </a:lnTo>
                <a:lnTo>
                  <a:pt x="428" y="320"/>
                </a:lnTo>
                <a:lnTo>
                  <a:pt x="405" y="324"/>
                </a:lnTo>
                <a:lnTo>
                  <a:pt x="384" y="328"/>
                </a:lnTo>
                <a:lnTo>
                  <a:pt x="363" y="330"/>
                </a:lnTo>
                <a:lnTo>
                  <a:pt x="341" y="334"/>
                </a:lnTo>
                <a:lnTo>
                  <a:pt x="322" y="337"/>
                </a:lnTo>
                <a:lnTo>
                  <a:pt x="305" y="339"/>
                </a:lnTo>
                <a:lnTo>
                  <a:pt x="290" y="343"/>
                </a:lnTo>
                <a:lnTo>
                  <a:pt x="272" y="345"/>
                </a:lnTo>
                <a:lnTo>
                  <a:pt x="259" y="347"/>
                </a:lnTo>
                <a:lnTo>
                  <a:pt x="245" y="349"/>
                </a:lnTo>
                <a:lnTo>
                  <a:pt x="234" y="351"/>
                </a:lnTo>
                <a:lnTo>
                  <a:pt x="222" y="353"/>
                </a:lnTo>
                <a:lnTo>
                  <a:pt x="213" y="355"/>
                </a:lnTo>
                <a:lnTo>
                  <a:pt x="203" y="357"/>
                </a:lnTo>
                <a:lnTo>
                  <a:pt x="196" y="357"/>
                </a:lnTo>
                <a:lnTo>
                  <a:pt x="190" y="359"/>
                </a:lnTo>
                <a:lnTo>
                  <a:pt x="184" y="359"/>
                </a:lnTo>
                <a:lnTo>
                  <a:pt x="180" y="360"/>
                </a:lnTo>
                <a:lnTo>
                  <a:pt x="176" y="360"/>
                </a:lnTo>
                <a:lnTo>
                  <a:pt x="165" y="359"/>
                </a:lnTo>
                <a:lnTo>
                  <a:pt x="155" y="359"/>
                </a:lnTo>
                <a:lnTo>
                  <a:pt x="142" y="355"/>
                </a:lnTo>
                <a:lnTo>
                  <a:pt x="128" y="353"/>
                </a:lnTo>
                <a:lnTo>
                  <a:pt x="113" y="349"/>
                </a:lnTo>
                <a:lnTo>
                  <a:pt x="98" y="345"/>
                </a:lnTo>
                <a:lnTo>
                  <a:pt x="80" y="339"/>
                </a:lnTo>
                <a:lnTo>
                  <a:pt x="63" y="3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13"/>
          <p:cNvSpPr/>
          <p:nvPr/>
        </p:nvSpPr>
        <p:spPr>
          <a:xfrm>
            <a:off x="6478560" y="2949480"/>
            <a:ext cx="638280" cy="206640"/>
          </a:xfrm>
          <a:custGeom>
            <a:avLst/>
            <a:gdLst/>
            <a:ahLst/>
            <a:rect l="l" t="t" r="r" b="b"/>
            <a:pathLst>
              <a:path w="804" h="261">
                <a:moveTo>
                  <a:pt x="365" y="75"/>
                </a:moveTo>
                <a:lnTo>
                  <a:pt x="382" y="70"/>
                </a:lnTo>
                <a:lnTo>
                  <a:pt x="399" y="66"/>
                </a:lnTo>
                <a:lnTo>
                  <a:pt x="415" y="62"/>
                </a:lnTo>
                <a:lnTo>
                  <a:pt x="430" y="58"/>
                </a:lnTo>
                <a:lnTo>
                  <a:pt x="445" y="52"/>
                </a:lnTo>
                <a:lnTo>
                  <a:pt x="461" y="48"/>
                </a:lnTo>
                <a:lnTo>
                  <a:pt x="476" y="46"/>
                </a:lnTo>
                <a:lnTo>
                  <a:pt x="490" y="43"/>
                </a:lnTo>
                <a:lnTo>
                  <a:pt x="503" y="39"/>
                </a:lnTo>
                <a:lnTo>
                  <a:pt x="516" y="35"/>
                </a:lnTo>
                <a:lnTo>
                  <a:pt x="528" y="33"/>
                </a:lnTo>
                <a:lnTo>
                  <a:pt x="539" y="29"/>
                </a:lnTo>
                <a:lnTo>
                  <a:pt x="551" y="27"/>
                </a:lnTo>
                <a:lnTo>
                  <a:pt x="562" y="23"/>
                </a:lnTo>
                <a:lnTo>
                  <a:pt x="572" y="22"/>
                </a:lnTo>
                <a:lnTo>
                  <a:pt x="582" y="20"/>
                </a:lnTo>
                <a:lnTo>
                  <a:pt x="601" y="14"/>
                </a:lnTo>
                <a:lnTo>
                  <a:pt x="618" y="10"/>
                </a:lnTo>
                <a:lnTo>
                  <a:pt x="632" y="8"/>
                </a:lnTo>
                <a:lnTo>
                  <a:pt x="645" y="4"/>
                </a:lnTo>
                <a:lnTo>
                  <a:pt x="656" y="2"/>
                </a:lnTo>
                <a:lnTo>
                  <a:pt x="666" y="2"/>
                </a:lnTo>
                <a:lnTo>
                  <a:pt x="674" y="0"/>
                </a:lnTo>
                <a:lnTo>
                  <a:pt x="680" y="0"/>
                </a:lnTo>
                <a:lnTo>
                  <a:pt x="683" y="0"/>
                </a:lnTo>
                <a:lnTo>
                  <a:pt x="691" y="0"/>
                </a:lnTo>
                <a:lnTo>
                  <a:pt x="699" y="0"/>
                </a:lnTo>
                <a:lnTo>
                  <a:pt x="706" y="2"/>
                </a:lnTo>
                <a:lnTo>
                  <a:pt x="716" y="2"/>
                </a:lnTo>
                <a:lnTo>
                  <a:pt x="728" y="6"/>
                </a:lnTo>
                <a:lnTo>
                  <a:pt x="741" y="8"/>
                </a:lnTo>
                <a:lnTo>
                  <a:pt x="754" y="14"/>
                </a:lnTo>
                <a:lnTo>
                  <a:pt x="760" y="16"/>
                </a:lnTo>
                <a:lnTo>
                  <a:pt x="766" y="18"/>
                </a:lnTo>
                <a:lnTo>
                  <a:pt x="772" y="22"/>
                </a:lnTo>
                <a:lnTo>
                  <a:pt x="777" y="23"/>
                </a:lnTo>
                <a:lnTo>
                  <a:pt x="781" y="27"/>
                </a:lnTo>
                <a:lnTo>
                  <a:pt x="787" y="31"/>
                </a:lnTo>
                <a:lnTo>
                  <a:pt x="793" y="37"/>
                </a:lnTo>
                <a:lnTo>
                  <a:pt x="799" y="45"/>
                </a:lnTo>
                <a:lnTo>
                  <a:pt x="802" y="50"/>
                </a:lnTo>
                <a:lnTo>
                  <a:pt x="804" y="58"/>
                </a:lnTo>
                <a:lnTo>
                  <a:pt x="804" y="62"/>
                </a:lnTo>
                <a:lnTo>
                  <a:pt x="804" y="66"/>
                </a:lnTo>
                <a:lnTo>
                  <a:pt x="802" y="68"/>
                </a:lnTo>
                <a:lnTo>
                  <a:pt x="802" y="70"/>
                </a:lnTo>
                <a:lnTo>
                  <a:pt x="800" y="71"/>
                </a:lnTo>
                <a:lnTo>
                  <a:pt x="797" y="75"/>
                </a:lnTo>
                <a:lnTo>
                  <a:pt x="793" y="77"/>
                </a:lnTo>
                <a:lnTo>
                  <a:pt x="789" y="81"/>
                </a:lnTo>
                <a:lnTo>
                  <a:pt x="785" y="83"/>
                </a:lnTo>
                <a:lnTo>
                  <a:pt x="781" y="87"/>
                </a:lnTo>
                <a:lnTo>
                  <a:pt x="776" y="89"/>
                </a:lnTo>
                <a:lnTo>
                  <a:pt x="768" y="93"/>
                </a:lnTo>
                <a:lnTo>
                  <a:pt x="762" y="96"/>
                </a:lnTo>
                <a:lnTo>
                  <a:pt x="754" y="98"/>
                </a:lnTo>
                <a:lnTo>
                  <a:pt x="747" y="102"/>
                </a:lnTo>
                <a:lnTo>
                  <a:pt x="737" y="106"/>
                </a:lnTo>
                <a:lnTo>
                  <a:pt x="729" y="108"/>
                </a:lnTo>
                <a:lnTo>
                  <a:pt x="720" y="112"/>
                </a:lnTo>
                <a:lnTo>
                  <a:pt x="708" y="116"/>
                </a:lnTo>
                <a:lnTo>
                  <a:pt x="699" y="119"/>
                </a:lnTo>
                <a:lnTo>
                  <a:pt x="687" y="123"/>
                </a:lnTo>
                <a:lnTo>
                  <a:pt x="674" y="127"/>
                </a:lnTo>
                <a:lnTo>
                  <a:pt x="662" y="131"/>
                </a:lnTo>
                <a:lnTo>
                  <a:pt x="649" y="135"/>
                </a:lnTo>
                <a:lnTo>
                  <a:pt x="635" y="139"/>
                </a:lnTo>
                <a:lnTo>
                  <a:pt x="620" y="142"/>
                </a:lnTo>
                <a:lnTo>
                  <a:pt x="605" y="148"/>
                </a:lnTo>
                <a:lnTo>
                  <a:pt x="589" y="152"/>
                </a:lnTo>
                <a:lnTo>
                  <a:pt x="574" y="156"/>
                </a:lnTo>
                <a:lnTo>
                  <a:pt x="557" y="162"/>
                </a:lnTo>
                <a:lnTo>
                  <a:pt x="539" y="165"/>
                </a:lnTo>
                <a:lnTo>
                  <a:pt x="520" y="169"/>
                </a:lnTo>
                <a:lnTo>
                  <a:pt x="503" y="175"/>
                </a:lnTo>
                <a:lnTo>
                  <a:pt x="484" y="181"/>
                </a:lnTo>
                <a:lnTo>
                  <a:pt x="466" y="187"/>
                </a:lnTo>
                <a:lnTo>
                  <a:pt x="449" y="192"/>
                </a:lnTo>
                <a:lnTo>
                  <a:pt x="432" y="196"/>
                </a:lnTo>
                <a:lnTo>
                  <a:pt x="415" y="202"/>
                </a:lnTo>
                <a:lnTo>
                  <a:pt x="399" y="206"/>
                </a:lnTo>
                <a:lnTo>
                  <a:pt x="384" y="212"/>
                </a:lnTo>
                <a:lnTo>
                  <a:pt x="369" y="215"/>
                </a:lnTo>
                <a:lnTo>
                  <a:pt x="353" y="219"/>
                </a:lnTo>
                <a:lnTo>
                  <a:pt x="340" y="223"/>
                </a:lnTo>
                <a:lnTo>
                  <a:pt x="326" y="227"/>
                </a:lnTo>
                <a:lnTo>
                  <a:pt x="313" y="231"/>
                </a:lnTo>
                <a:lnTo>
                  <a:pt x="301" y="233"/>
                </a:lnTo>
                <a:lnTo>
                  <a:pt x="290" y="236"/>
                </a:lnTo>
                <a:lnTo>
                  <a:pt x="278" y="238"/>
                </a:lnTo>
                <a:lnTo>
                  <a:pt x="267" y="242"/>
                </a:lnTo>
                <a:lnTo>
                  <a:pt x="257" y="244"/>
                </a:lnTo>
                <a:lnTo>
                  <a:pt x="248" y="246"/>
                </a:lnTo>
                <a:lnTo>
                  <a:pt x="238" y="250"/>
                </a:lnTo>
                <a:lnTo>
                  <a:pt x="228" y="252"/>
                </a:lnTo>
                <a:lnTo>
                  <a:pt x="221" y="254"/>
                </a:lnTo>
                <a:lnTo>
                  <a:pt x="213" y="254"/>
                </a:lnTo>
                <a:lnTo>
                  <a:pt x="205" y="256"/>
                </a:lnTo>
                <a:lnTo>
                  <a:pt x="200" y="258"/>
                </a:lnTo>
                <a:lnTo>
                  <a:pt x="192" y="258"/>
                </a:lnTo>
                <a:lnTo>
                  <a:pt x="186" y="260"/>
                </a:lnTo>
                <a:lnTo>
                  <a:pt x="182" y="260"/>
                </a:lnTo>
                <a:lnTo>
                  <a:pt x="177" y="261"/>
                </a:lnTo>
                <a:lnTo>
                  <a:pt x="173" y="261"/>
                </a:lnTo>
                <a:lnTo>
                  <a:pt x="169" y="261"/>
                </a:lnTo>
                <a:lnTo>
                  <a:pt x="167" y="261"/>
                </a:lnTo>
                <a:lnTo>
                  <a:pt x="163" y="261"/>
                </a:lnTo>
                <a:lnTo>
                  <a:pt x="150" y="261"/>
                </a:lnTo>
                <a:lnTo>
                  <a:pt x="136" y="260"/>
                </a:lnTo>
                <a:lnTo>
                  <a:pt x="125" y="258"/>
                </a:lnTo>
                <a:lnTo>
                  <a:pt x="113" y="252"/>
                </a:lnTo>
                <a:lnTo>
                  <a:pt x="102" y="248"/>
                </a:lnTo>
                <a:lnTo>
                  <a:pt x="88" y="240"/>
                </a:lnTo>
                <a:lnTo>
                  <a:pt x="77" y="233"/>
                </a:lnTo>
                <a:lnTo>
                  <a:pt x="63" y="225"/>
                </a:lnTo>
                <a:lnTo>
                  <a:pt x="56" y="221"/>
                </a:lnTo>
                <a:lnTo>
                  <a:pt x="50" y="219"/>
                </a:lnTo>
                <a:lnTo>
                  <a:pt x="44" y="215"/>
                </a:lnTo>
                <a:lnTo>
                  <a:pt x="38" y="213"/>
                </a:lnTo>
                <a:lnTo>
                  <a:pt x="31" y="206"/>
                </a:lnTo>
                <a:lnTo>
                  <a:pt x="23" y="198"/>
                </a:lnTo>
                <a:lnTo>
                  <a:pt x="15" y="189"/>
                </a:lnTo>
                <a:lnTo>
                  <a:pt x="10" y="181"/>
                </a:lnTo>
                <a:lnTo>
                  <a:pt x="4" y="171"/>
                </a:lnTo>
                <a:lnTo>
                  <a:pt x="0" y="162"/>
                </a:lnTo>
                <a:lnTo>
                  <a:pt x="12" y="160"/>
                </a:lnTo>
                <a:lnTo>
                  <a:pt x="27" y="158"/>
                </a:lnTo>
                <a:lnTo>
                  <a:pt x="40" y="154"/>
                </a:lnTo>
                <a:lnTo>
                  <a:pt x="58" y="150"/>
                </a:lnTo>
                <a:lnTo>
                  <a:pt x="75" y="146"/>
                </a:lnTo>
                <a:lnTo>
                  <a:pt x="94" y="142"/>
                </a:lnTo>
                <a:lnTo>
                  <a:pt x="113" y="139"/>
                </a:lnTo>
                <a:lnTo>
                  <a:pt x="134" y="133"/>
                </a:lnTo>
                <a:lnTo>
                  <a:pt x="157" y="127"/>
                </a:lnTo>
                <a:lnTo>
                  <a:pt x="182" y="121"/>
                </a:lnTo>
                <a:lnTo>
                  <a:pt x="209" y="116"/>
                </a:lnTo>
                <a:lnTo>
                  <a:pt x="236" y="108"/>
                </a:lnTo>
                <a:lnTo>
                  <a:pt x="267" y="100"/>
                </a:lnTo>
                <a:lnTo>
                  <a:pt x="298" y="93"/>
                </a:lnTo>
                <a:lnTo>
                  <a:pt x="330" y="85"/>
                </a:lnTo>
                <a:lnTo>
                  <a:pt x="365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14"/>
          <p:cNvSpPr/>
          <p:nvPr/>
        </p:nvSpPr>
        <p:spPr>
          <a:xfrm>
            <a:off x="5489640" y="3905280"/>
            <a:ext cx="779400" cy="360360"/>
          </a:xfrm>
          <a:custGeom>
            <a:avLst/>
            <a:gdLst/>
            <a:ahLst/>
            <a:rect l="l" t="t" r="r" b="b"/>
            <a:pathLst>
              <a:path w="983" h="453">
                <a:moveTo>
                  <a:pt x="52" y="401"/>
                </a:moveTo>
                <a:lnTo>
                  <a:pt x="46" y="393"/>
                </a:lnTo>
                <a:lnTo>
                  <a:pt x="41" y="386"/>
                </a:lnTo>
                <a:lnTo>
                  <a:pt x="35" y="380"/>
                </a:lnTo>
                <a:lnTo>
                  <a:pt x="29" y="372"/>
                </a:lnTo>
                <a:lnTo>
                  <a:pt x="25" y="366"/>
                </a:lnTo>
                <a:lnTo>
                  <a:pt x="21" y="359"/>
                </a:lnTo>
                <a:lnTo>
                  <a:pt x="14" y="345"/>
                </a:lnTo>
                <a:lnTo>
                  <a:pt x="8" y="330"/>
                </a:lnTo>
                <a:lnTo>
                  <a:pt x="6" y="317"/>
                </a:lnTo>
                <a:lnTo>
                  <a:pt x="4" y="303"/>
                </a:lnTo>
                <a:lnTo>
                  <a:pt x="2" y="290"/>
                </a:lnTo>
                <a:lnTo>
                  <a:pt x="0" y="282"/>
                </a:lnTo>
                <a:lnTo>
                  <a:pt x="0" y="276"/>
                </a:lnTo>
                <a:lnTo>
                  <a:pt x="0" y="270"/>
                </a:lnTo>
                <a:lnTo>
                  <a:pt x="0" y="265"/>
                </a:lnTo>
                <a:lnTo>
                  <a:pt x="0" y="261"/>
                </a:lnTo>
                <a:lnTo>
                  <a:pt x="2" y="257"/>
                </a:lnTo>
                <a:lnTo>
                  <a:pt x="6" y="253"/>
                </a:lnTo>
                <a:lnTo>
                  <a:pt x="10" y="251"/>
                </a:lnTo>
                <a:lnTo>
                  <a:pt x="12" y="249"/>
                </a:lnTo>
                <a:lnTo>
                  <a:pt x="18" y="247"/>
                </a:lnTo>
                <a:lnTo>
                  <a:pt x="21" y="247"/>
                </a:lnTo>
                <a:lnTo>
                  <a:pt x="27" y="247"/>
                </a:lnTo>
                <a:lnTo>
                  <a:pt x="33" y="247"/>
                </a:lnTo>
                <a:lnTo>
                  <a:pt x="39" y="247"/>
                </a:lnTo>
                <a:lnTo>
                  <a:pt x="46" y="249"/>
                </a:lnTo>
                <a:lnTo>
                  <a:pt x="52" y="251"/>
                </a:lnTo>
                <a:lnTo>
                  <a:pt x="66" y="255"/>
                </a:lnTo>
                <a:lnTo>
                  <a:pt x="79" y="261"/>
                </a:lnTo>
                <a:lnTo>
                  <a:pt x="91" y="265"/>
                </a:lnTo>
                <a:lnTo>
                  <a:pt x="102" y="267"/>
                </a:lnTo>
                <a:lnTo>
                  <a:pt x="112" y="269"/>
                </a:lnTo>
                <a:lnTo>
                  <a:pt x="121" y="269"/>
                </a:lnTo>
                <a:lnTo>
                  <a:pt x="127" y="269"/>
                </a:lnTo>
                <a:lnTo>
                  <a:pt x="131" y="267"/>
                </a:lnTo>
                <a:lnTo>
                  <a:pt x="137" y="267"/>
                </a:lnTo>
                <a:lnTo>
                  <a:pt x="140" y="265"/>
                </a:lnTo>
                <a:lnTo>
                  <a:pt x="144" y="263"/>
                </a:lnTo>
                <a:lnTo>
                  <a:pt x="146" y="263"/>
                </a:lnTo>
                <a:lnTo>
                  <a:pt x="152" y="263"/>
                </a:lnTo>
                <a:lnTo>
                  <a:pt x="156" y="261"/>
                </a:lnTo>
                <a:lnTo>
                  <a:pt x="162" y="261"/>
                </a:lnTo>
                <a:lnTo>
                  <a:pt x="167" y="259"/>
                </a:lnTo>
                <a:lnTo>
                  <a:pt x="175" y="257"/>
                </a:lnTo>
                <a:lnTo>
                  <a:pt x="183" y="255"/>
                </a:lnTo>
                <a:lnTo>
                  <a:pt x="192" y="253"/>
                </a:lnTo>
                <a:lnTo>
                  <a:pt x="200" y="249"/>
                </a:lnTo>
                <a:lnTo>
                  <a:pt x="211" y="247"/>
                </a:lnTo>
                <a:lnTo>
                  <a:pt x="221" y="244"/>
                </a:lnTo>
                <a:lnTo>
                  <a:pt x="233" y="240"/>
                </a:lnTo>
                <a:lnTo>
                  <a:pt x="244" y="236"/>
                </a:lnTo>
                <a:lnTo>
                  <a:pt x="258" y="232"/>
                </a:lnTo>
                <a:lnTo>
                  <a:pt x="271" y="226"/>
                </a:lnTo>
                <a:lnTo>
                  <a:pt x="286" y="222"/>
                </a:lnTo>
                <a:lnTo>
                  <a:pt x="300" y="217"/>
                </a:lnTo>
                <a:lnTo>
                  <a:pt x="315" y="213"/>
                </a:lnTo>
                <a:lnTo>
                  <a:pt x="332" y="207"/>
                </a:lnTo>
                <a:lnTo>
                  <a:pt x="350" y="199"/>
                </a:lnTo>
                <a:lnTo>
                  <a:pt x="367" y="194"/>
                </a:lnTo>
                <a:lnTo>
                  <a:pt x="386" y="188"/>
                </a:lnTo>
                <a:lnTo>
                  <a:pt x="403" y="180"/>
                </a:lnTo>
                <a:lnTo>
                  <a:pt x="425" y="173"/>
                </a:lnTo>
                <a:lnTo>
                  <a:pt x="444" y="167"/>
                </a:lnTo>
                <a:lnTo>
                  <a:pt x="465" y="157"/>
                </a:lnTo>
                <a:lnTo>
                  <a:pt x="488" y="150"/>
                </a:lnTo>
                <a:lnTo>
                  <a:pt x="509" y="142"/>
                </a:lnTo>
                <a:lnTo>
                  <a:pt x="532" y="132"/>
                </a:lnTo>
                <a:lnTo>
                  <a:pt x="557" y="125"/>
                </a:lnTo>
                <a:lnTo>
                  <a:pt x="580" y="115"/>
                </a:lnTo>
                <a:lnTo>
                  <a:pt x="605" y="107"/>
                </a:lnTo>
                <a:lnTo>
                  <a:pt x="628" y="98"/>
                </a:lnTo>
                <a:lnTo>
                  <a:pt x="651" y="90"/>
                </a:lnTo>
                <a:lnTo>
                  <a:pt x="672" y="84"/>
                </a:lnTo>
                <a:lnTo>
                  <a:pt x="693" y="77"/>
                </a:lnTo>
                <a:lnTo>
                  <a:pt x="714" y="71"/>
                </a:lnTo>
                <a:lnTo>
                  <a:pt x="734" y="63"/>
                </a:lnTo>
                <a:lnTo>
                  <a:pt x="753" y="57"/>
                </a:lnTo>
                <a:lnTo>
                  <a:pt x="770" y="52"/>
                </a:lnTo>
                <a:lnTo>
                  <a:pt x="787" y="46"/>
                </a:lnTo>
                <a:lnTo>
                  <a:pt x="805" y="42"/>
                </a:lnTo>
                <a:lnTo>
                  <a:pt x="820" y="36"/>
                </a:lnTo>
                <a:lnTo>
                  <a:pt x="835" y="32"/>
                </a:lnTo>
                <a:lnTo>
                  <a:pt x="849" y="29"/>
                </a:lnTo>
                <a:lnTo>
                  <a:pt x="862" y="25"/>
                </a:lnTo>
                <a:lnTo>
                  <a:pt x="876" y="21"/>
                </a:lnTo>
                <a:lnTo>
                  <a:pt x="887" y="17"/>
                </a:lnTo>
                <a:lnTo>
                  <a:pt x="899" y="13"/>
                </a:lnTo>
                <a:lnTo>
                  <a:pt x="910" y="11"/>
                </a:lnTo>
                <a:lnTo>
                  <a:pt x="920" y="9"/>
                </a:lnTo>
                <a:lnTo>
                  <a:pt x="927" y="8"/>
                </a:lnTo>
                <a:lnTo>
                  <a:pt x="937" y="6"/>
                </a:lnTo>
                <a:lnTo>
                  <a:pt x="945" y="4"/>
                </a:lnTo>
                <a:lnTo>
                  <a:pt x="950" y="2"/>
                </a:lnTo>
                <a:lnTo>
                  <a:pt x="958" y="2"/>
                </a:lnTo>
                <a:lnTo>
                  <a:pt x="964" y="0"/>
                </a:lnTo>
                <a:lnTo>
                  <a:pt x="968" y="0"/>
                </a:lnTo>
                <a:lnTo>
                  <a:pt x="972" y="0"/>
                </a:lnTo>
                <a:lnTo>
                  <a:pt x="975" y="0"/>
                </a:lnTo>
                <a:lnTo>
                  <a:pt x="979" y="0"/>
                </a:lnTo>
                <a:lnTo>
                  <a:pt x="981" y="2"/>
                </a:lnTo>
                <a:lnTo>
                  <a:pt x="983" y="2"/>
                </a:lnTo>
                <a:lnTo>
                  <a:pt x="981" y="6"/>
                </a:lnTo>
                <a:lnTo>
                  <a:pt x="981" y="8"/>
                </a:lnTo>
                <a:lnTo>
                  <a:pt x="979" y="11"/>
                </a:lnTo>
                <a:lnTo>
                  <a:pt x="975" y="15"/>
                </a:lnTo>
                <a:lnTo>
                  <a:pt x="974" y="19"/>
                </a:lnTo>
                <a:lnTo>
                  <a:pt x="970" y="23"/>
                </a:lnTo>
                <a:lnTo>
                  <a:pt x="964" y="27"/>
                </a:lnTo>
                <a:lnTo>
                  <a:pt x="958" y="32"/>
                </a:lnTo>
                <a:lnTo>
                  <a:pt x="952" y="38"/>
                </a:lnTo>
                <a:lnTo>
                  <a:pt x="945" y="44"/>
                </a:lnTo>
                <a:lnTo>
                  <a:pt x="937" y="50"/>
                </a:lnTo>
                <a:lnTo>
                  <a:pt x="927" y="55"/>
                </a:lnTo>
                <a:lnTo>
                  <a:pt x="920" y="61"/>
                </a:lnTo>
                <a:lnTo>
                  <a:pt x="908" y="69"/>
                </a:lnTo>
                <a:lnTo>
                  <a:pt x="899" y="77"/>
                </a:lnTo>
                <a:lnTo>
                  <a:pt x="885" y="84"/>
                </a:lnTo>
                <a:lnTo>
                  <a:pt x="874" y="92"/>
                </a:lnTo>
                <a:lnTo>
                  <a:pt x="860" y="100"/>
                </a:lnTo>
                <a:lnTo>
                  <a:pt x="847" y="109"/>
                </a:lnTo>
                <a:lnTo>
                  <a:pt x="831" y="119"/>
                </a:lnTo>
                <a:lnTo>
                  <a:pt x="816" y="127"/>
                </a:lnTo>
                <a:lnTo>
                  <a:pt x="799" y="136"/>
                </a:lnTo>
                <a:lnTo>
                  <a:pt x="782" y="148"/>
                </a:lnTo>
                <a:lnTo>
                  <a:pt x="764" y="157"/>
                </a:lnTo>
                <a:lnTo>
                  <a:pt x="745" y="169"/>
                </a:lnTo>
                <a:lnTo>
                  <a:pt x="726" y="178"/>
                </a:lnTo>
                <a:lnTo>
                  <a:pt x="707" y="190"/>
                </a:lnTo>
                <a:lnTo>
                  <a:pt x="686" y="201"/>
                </a:lnTo>
                <a:lnTo>
                  <a:pt x="663" y="213"/>
                </a:lnTo>
                <a:lnTo>
                  <a:pt x="641" y="226"/>
                </a:lnTo>
                <a:lnTo>
                  <a:pt x="616" y="238"/>
                </a:lnTo>
                <a:lnTo>
                  <a:pt x="593" y="251"/>
                </a:lnTo>
                <a:lnTo>
                  <a:pt x="569" y="265"/>
                </a:lnTo>
                <a:lnTo>
                  <a:pt x="545" y="276"/>
                </a:lnTo>
                <a:lnTo>
                  <a:pt x="522" y="288"/>
                </a:lnTo>
                <a:lnTo>
                  <a:pt x="499" y="301"/>
                </a:lnTo>
                <a:lnTo>
                  <a:pt x="478" y="311"/>
                </a:lnTo>
                <a:lnTo>
                  <a:pt x="457" y="322"/>
                </a:lnTo>
                <a:lnTo>
                  <a:pt x="436" y="334"/>
                </a:lnTo>
                <a:lnTo>
                  <a:pt x="417" y="343"/>
                </a:lnTo>
                <a:lnTo>
                  <a:pt x="398" y="353"/>
                </a:lnTo>
                <a:lnTo>
                  <a:pt x="380" y="363"/>
                </a:lnTo>
                <a:lnTo>
                  <a:pt x="361" y="370"/>
                </a:lnTo>
                <a:lnTo>
                  <a:pt x="346" y="378"/>
                </a:lnTo>
                <a:lnTo>
                  <a:pt x="329" y="388"/>
                </a:lnTo>
                <a:lnTo>
                  <a:pt x="313" y="395"/>
                </a:lnTo>
                <a:lnTo>
                  <a:pt x="298" y="401"/>
                </a:lnTo>
                <a:lnTo>
                  <a:pt x="284" y="409"/>
                </a:lnTo>
                <a:lnTo>
                  <a:pt x="271" y="414"/>
                </a:lnTo>
                <a:lnTo>
                  <a:pt x="258" y="420"/>
                </a:lnTo>
                <a:lnTo>
                  <a:pt x="246" y="426"/>
                </a:lnTo>
                <a:lnTo>
                  <a:pt x="235" y="430"/>
                </a:lnTo>
                <a:lnTo>
                  <a:pt x="223" y="434"/>
                </a:lnTo>
                <a:lnTo>
                  <a:pt x="213" y="437"/>
                </a:lnTo>
                <a:lnTo>
                  <a:pt x="204" y="441"/>
                </a:lnTo>
                <a:lnTo>
                  <a:pt x="196" y="445"/>
                </a:lnTo>
                <a:lnTo>
                  <a:pt x="188" y="447"/>
                </a:lnTo>
                <a:lnTo>
                  <a:pt x="181" y="449"/>
                </a:lnTo>
                <a:lnTo>
                  <a:pt x="175" y="451"/>
                </a:lnTo>
                <a:lnTo>
                  <a:pt x="169" y="451"/>
                </a:lnTo>
                <a:lnTo>
                  <a:pt x="164" y="451"/>
                </a:lnTo>
                <a:lnTo>
                  <a:pt x="160" y="453"/>
                </a:lnTo>
                <a:lnTo>
                  <a:pt x="156" y="451"/>
                </a:lnTo>
                <a:lnTo>
                  <a:pt x="154" y="451"/>
                </a:lnTo>
                <a:lnTo>
                  <a:pt x="140" y="449"/>
                </a:lnTo>
                <a:lnTo>
                  <a:pt x="127" y="447"/>
                </a:lnTo>
                <a:lnTo>
                  <a:pt x="116" y="445"/>
                </a:lnTo>
                <a:lnTo>
                  <a:pt x="102" y="439"/>
                </a:lnTo>
                <a:lnTo>
                  <a:pt x="96" y="437"/>
                </a:lnTo>
                <a:lnTo>
                  <a:pt x="91" y="434"/>
                </a:lnTo>
                <a:lnTo>
                  <a:pt x="85" y="430"/>
                </a:lnTo>
                <a:lnTo>
                  <a:pt x="79" y="424"/>
                </a:lnTo>
                <a:lnTo>
                  <a:pt x="73" y="420"/>
                </a:lnTo>
                <a:lnTo>
                  <a:pt x="66" y="414"/>
                </a:lnTo>
                <a:lnTo>
                  <a:pt x="60" y="407"/>
                </a:lnTo>
                <a:lnTo>
                  <a:pt x="52" y="4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15"/>
          <p:cNvSpPr/>
          <p:nvPr/>
        </p:nvSpPr>
        <p:spPr>
          <a:xfrm>
            <a:off x="5580000" y="2981160"/>
            <a:ext cx="738360" cy="885960"/>
          </a:xfrm>
          <a:custGeom>
            <a:avLst/>
            <a:gdLst/>
            <a:ahLst/>
            <a:rect l="l" t="t" r="r" b="b"/>
            <a:pathLst>
              <a:path w="929" h="1117">
                <a:moveTo>
                  <a:pt x="740" y="9"/>
                </a:moveTo>
                <a:lnTo>
                  <a:pt x="744" y="7"/>
                </a:lnTo>
                <a:lnTo>
                  <a:pt x="746" y="5"/>
                </a:lnTo>
                <a:lnTo>
                  <a:pt x="750" y="4"/>
                </a:lnTo>
                <a:lnTo>
                  <a:pt x="754" y="2"/>
                </a:lnTo>
                <a:lnTo>
                  <a:pt x="763" y="0"/>
                </a:lnTo>
                <a:lnTo>
                  <a:pt x="775" y="0"/>
                </a:lnTo>
                <a:lnTo>
                  <a:pt x="788" y="0"/>
                </a:lnTo>
                <a:lnTo>
                  <a:pt x="802" y="2"/>
                </a:lnTo>
                <a:lnTo>
                  <a:pt x="815" y="5"/>
                </a:lnTo>
                <a:lnTo>
                  <a:pt x="829" y="9"/>
                </a:lnTo>
                <a:lnTo>
                  <a:pt x="842" y="19"/>
                </a:lnTo>
                <a:lnTo>
                  <a:pt x="856" y="29"/>
                </a:lnTo>
                <a:lnTo>
                  <a:pt x="869" y="38"/>
                </a:lnTo>
                <a:lnTo>
                  <a:pt x="882" y="46"/>
                </a:lnTo>
                <a:lnTo>
                  <a:pt x="894" y="55"/>
                </a:lnTo>
                <a:lnTo>
                  <a:pt x="904" y="65"/>
                </a:lnTo>
                <a:lnTo>
                  <a:pt x="907" y="69"/>
                </a:lnTo>
                <a:lnTo>
                  <a:pt x="911" y="75"/>
                </a:lnTo>
                <a:lnTo>
                  <a:pt x="913" y="78"/>
                </a:lnTo>
                <a:lnTo>
                  <a:pt x="917" y="84"/>
                </a:lnTo>
                <a:lnTo>
                  <a:pt x="921" y="94"/>
                </a:lnTo>
                <a:lnTo>
                  <a:pt x="925" y="103"/>
                </a:lnTo>
                <a:lnTo>
                  <a:pt x="927" y="113"/>
                </a:lnTo>
                <a:lnTo>
                  <a:pt x="927" y="123"/>
                </a:lnTo>
                <a:lnTo>
                  <a:pt x="929" y="134"/>
                </a:lnTo>
                <a:lnTo>
                  <a:pt x="929" y="146"/>
                </a:lnTo>
                <a:lnTo>
                  <a:pt x="929" y="157"/>
                </a:lnTo>
                <a:lnTo>
                  <a:pt x="929" y="171"/>
                </a:lnTo>
                <a:lnTo>
                  <a:pt x="929" y="174"/>
                </a:lnTo>
                <a:lnTo>
                  <a:pt x="929" y="178"/>
                </a:lnTo>
                <a:lnTo>
                  <a:pt x="927" y="184"/>
                </a:lnTo>
                <a:lnTo>
                  <a:pt x="925" y="188"/>
                </a:lnTo>
                <a:lnTo>
                  <a:pt x="921" y="194"/>
                </a:lnTo>
                <a:lnTo>
                  <a:pt x="919" y="199"/>
                </a:lnTo>
                <a:lnTo>
                  <a:pt x="915" y="207"/>
                </a:lnTo>
                <a:lnTo>
                  <a:pt x="909" y="213"/>
                </a:lnTo>
                <a:lnTo>
                  <a:pt x="905" y="220"/>
                </a:lnTo>
                <a:lnTo>
                  <a:pt x="900" y="228"/>
                </a:lnTo>
                <a:lnTo>
                  <a:pt x="894" y="236"/>
                </a:lnTo>
                <a:lnTo>
                  <a:pt x="886" y="245"/>
                </a:lnTo>
                <a:lnTo>
                  <a:pt x="879" y="253"/>
                </a:lnTo>
                <a:lnTo>
                  <a:pt x="871" y="263"/>
                </a:lnTo>
                <a:lnTo>
                  <a:pt x="861" y="274"/>
                </a:lnTo>
                <a:lnTo>
                  <a:pt x="854" y="284"/>
                </a:lnTo>
                <a:lnTo>
                  <a:pt x="844" y="295"/>
                </a:lnTo>
                <a:lnTo>
                  <a:pt x="833" y="307"/>
                </a:lnTo>
                <a:lnTo>
                  <a:pt x="823" y="318"/>
                </a:lnTo>
                <a:lnTo>
                  <a:pt x="811" y="330"/>
                </a:lnTo>
                <a:lnTo>
                  <a:pt x="798" y="343"/>
                </a:lnTo>
                <a:lnTo>
                  <a:pt x="786" y="357"/>
                </a:lnTo>
                <a:lnTo>
                  <a:pt x="773" y="370"/>
                </a:lnTo>
                <a:lnTo>
                  <a:pt x="760" y="386"/>
                </a:lnTo>
                <a:lnTo>
                  <a:pt x="744" y="401"/>
                </a:lnTo>
                <a:lnTo>
                  <a:pt x="729" y="416"/>
                </a:lnTo>
                <a:lnTo>
                  <a:pt x="714" y="432"/>
                </a:lnTo>
                <a:lnTo>
                  <a:pt x="698" y="449"/>
                </a:lnTo>
                <a:lnTo>
                  <a:pt x="681" y="466"/>
                </a:lnTo>
                <a:lnTo>
                  <a:pt x="664" y="483"/>
                </a:lnTo>
                <a:lnTo>
                  <a:pt x="646" y="501"/>
                </a:lnTo>
                <a:lnTo>
                  <a:pt x="627" y="520"/>
                </a:lnTo>
                <a:lnTo>
                  <a:pt x="610" y="537"/>
                </a:lnTo>
                <a:lnTo>
                  <a:pt x="591" y="556"/>
                </a:lnTo>
                <a:lnTo>
                  <a:pt x="575" y="574"/>
                </a:lnTo>
                <a:lnTo>
                  <a:pt x="558" y="591"/>
                </a:lnTo>
                <a:lnTo>
                  <a:pt x="543" y="606"/>
                </a:lnTo>
                <a:lnTo>
                  <a:pt x="527" y="622"/>
                </a:lnTo>
                <a:lnTo>
                  <a:pt x="512" y="637"/>
                </a:lnTo>
                <a:lnTo>
                  <a:pt x="499" y="652"/>
                </a:lnTo>
                <a:lnTo>
                  <a:pt x="485" y="666"/>
                </a:lnTo>
                <a:lnTo>
                  <a:pt x="474" y="679"/>
                </a:lnTo>
                <a:lnTo>
                  <a:pt x="460" y="691"/>
                </a:lnTo>
                <a:lnTo>
                  <a:pt x="449" y="704"/>
                </a:lnTo>
                <a:lnTo>
                  <a:pt x="439" y="716"/>
                </a:lnTo>
                <a:lnTo>
                  <a:pt x="429" y="725"/>
                </a:lnTo>
                <a:lnTo>
                  <a:pt x="420" y="737"/>
                </a:lnTo>
                <a:lnTo>
                  <a:pt x="410" y="746"/>
                </a:lnTo>
                <a:lnTo>
                  <a:pt x="403" y="756"/>
                </a:lnTo>
                <a:lnTo>
                  <a:pt x="395" y="764"/>
                </a:lnTo>
                <a:lnTo>
                  <a:pt x="387" y="773"/>
                </a:lnTo>
                <a:lnTo>
                  <a:pt x="381" y="781"/>
                </a:lnTo>
                <a:lnTo>
                  <a:pt x="376" y="787"/>
                </a:lnTo>
                <a:lnTo>
                  <a:pt x="370" y="794"/>
                </a:lnTo>
                <a:lnTo>
                  <a:pt x="366" y="800"/>
                </a:lnTo>
                <a:lnTo>
                  <a:pt x="360" y="806"/>
                </a:lnTo>
                <a:lnTo>
                  <a:pt x="358" y="810"/>
                </a:lnTo>
                <a:lnTo>
                  <a:pt x="355" y="815"/>
                </a:lnTo>
                <a:lnTo>
                  <a:pt x="353" y="819"/>
                </a:lnTo>
                <a:lnTo>
                  <a:pt x="351" y="821"/>
                </a:lnTo>
                <a:lnTo>
                  <a:pt x="351" y="825"/>
                </a:lnTo>
                <a:lnTo>
                  <a:pt x="351" y="827"/>
                </a:lnTo>
                <a:lnTo>
                  <a:pt x="351" y="829"/>
                </a:lnTo>
                <a:lnTo>
                  <a:pt x="351" y="831"/>
                </a:lnTo>
                <a:lnTo>
                  <a:pt x="355" y="833"/>
                </a:lnTo>
                <a:lnTo>
                  <a:pt x="358" y="835"/>
                </a:lnTo>
                <a:lnTo>
                  <a:pt x="364" y="835"/>
                </a:lnTo>
                <a:lnTo>
                  <a:pt x="370" y="837"/>
                </a:lnTo>
                <a:lnTo>
                  <a:pt x="378" y="837"/>
                </a:lnTo>
                <a:lnTo>
                  <a:pt x="387" y="835"/>
                </a:lnTo>
                <a:lnTo>
                  <a:pt x="399" y="835"/>
                </a:lnTo>
                <a:lnTo>
                  <a:pt x="410" y="833"/>
                </a:lnTo>
                <a:lnTo>
                  <a:pt x="424" y="831"/>
                </a:lnTo>
                <a:lnTo>
                  <a:pt x="439" y="829"/>
                </a:lnTo>
                <a:lnTo>
                  <a:pt x="456" y="825"/>
                </a:lnTo>
                <a:lnTo>
                  <a:pt x="476" y="823"/>
                </a:lnTo>
                <a:lnTo>
                  <a:pt x="495" y="819"/>
                </a:lnTo>
                <a:lnTo>
                  <a:pt x="516" y="815"/>
                </a:lnTo>
                <a:lnTo>
                  <a:pt x="539" y="810"/>
                </a:lnTo>
                <a:lnTo>
                  <a:pt x="566" y="806"/>
                </a:lnTo>
                <a:lnTo>
                  <a:pt x="591" y="804"/>
                </a:lnTo>
                <a:lnTo>
                  <a:pt x="614" y="802"/>
                </a:lnTo>
                <a:lnTo>
                  <a:pt x="635" y="798"/>
                </a:lnTo>
                <a:lnTo>
                  <a:pt x="654" y="796"/>
                </a:lnTo>
                <a:lnTo>
                  <a:pt x="673" y="794"/>
                </a:lnTo>
                <a:lnTo>
                  <a:pt x="689" y="792"/>
                </a:lnTo>
                <a:lnTo>
                  <a:pt x="704" y="792"/>
                </a:lnTo>
                <a:lnTo>
                  <a:pt x="717" y="791"/>
                </a:lnTo>
                <a:lnTo>
                  <a:pt x="729" y="789"/>
                </a:lnTo>
                <a:lnTo>
                  <a:pt x="738" y="789"/>
                </a:lnTo>
                <a:lnTo>
                  <a:pt x="746" y="789"/>
                </a:lnTo>
                <a:lnTo>
                  <a:pt x="754" y="789"/>
                </a:lnTo>
                <a:lnTo>
                  <a:pt x="760" y="789"/>
                </a:lnTo>
                <a:lnTo>
                  <a:pt x="763" y="791"/>
                </a:lnTo>
                <a:lnTo>
                  <a:pt x="765" y="791"/>
                </a:lnTo>
                <a:lnTo>
                  <a:pt x="765" y="794"/>
                </a:lnTo>
                <a:lnTo>
                  <a:pt x="765" y="796"/>
                </a:lnTo>
                <a:lnTo>
                  <a:pt x="763" y="798"/>
                </a:lnTo>
                <a:lnTo>
                  <a:pt x="762" y="800"/>
                </a:lnTo>
                <a:lnTo>
                  <a:pt x="760" y="802"/>
                </a:lnTo>
                <a:lnTo>
                  <a:pt x="756" y="804"/>
                </a:lnTo>
                <a:lnTo>
                  <a:pt x="754" y="806"/>
                </a:lnTo>
                <a:lnTo>
                  <a:pt x="750" y="810"/>
                </a:lnTo>
                <a:lnTo>
                  <a:pt x="744" y="812"/>
                </a:lnTo>
                <a:lnTo>
                  <a:pt x="740" y="815"/>
                </a:lnTo>
                <a:lnTo>
                  <a:pt x="735" y="819"/>
                </a:lnTo>
                <a:lnTo>
                  <a:pt x="729" y="823"/>
                </a:lnTo>
                <a:lnTo>
                  <a:pt x="723" y="825"/>
                </a:lnTo>
                <a:lnTo>
                  <a:pt x="715" y="829"/>
                </a:lnTo>
                <a:lnTo>
                  <a:pt x="708" y="835"/>
                </a:lnTo>
                <a:lnTo>
                  <a:pt x="700" y="839"/>
                </a:lnTo>
                <a:lnTo>
                  <a:pt x="691" y="842"/>
                </a:lnTo>
                <a:lnTo>
                  <a:pt x="683" y="848"/>
                </a:lnTo>
                <a:lnTo>
                  <a:pt x="673" y="852"/>
                </a:lnTo>
                <a:lnTo>
                  <a:pt x="662" y="858"/>
                </a:lnTo>
                <a:lnTo>
                  <a:pt x="652" y="862"/>
                </a:lnTo>
                <a:lnTo>
                  <a:pt x="641" y="867"/>
                </a:lnTo>
                <a:lnTo>
                  <a:pt x="629" y="873"/>
                </a:lnTo>
                <a:lnTo>
                  <a:pt x="618" y="879"/>
                </a:lnTo>
                <a:lnTo>
                  <a:pt x="604" y="885"/>
                </a:lnTo>
                <a:lnTo>
                  <a:pt x="591" y="890"/>
                </a:lnTo>
                <a:lnTo>
                  <a:pt x="577" y="896"/>
                </a:lnTo>
                <a:lnTo>
                  <a:pt x="564" y="904"/>
                </a:lnTo>
                <a:lnTo>
                  <a:pt x="548" y="910"/>
                </a:lnTo>
                <a:lnTo>
                  <a:pt x="533" y="917"/>
                </a:lnTo>
                <a:lnTo>
                  <a:pt x="518" y="923"/>
                </a:lnTo>
                <a:lnTo>
                  <a:pt x="502" y="931"/>
                </a:lnTo>
                <a:lnTo>
                  <a:pt x="485" y="938"/>
                </a:lnTo>
                <a:lnTo>
                  <a:pt x="468" y="944"/>
                </a:lnTo>
                <a:lnTo>
                  <a:pt x="451" y="952"/>
                </a:lnTo>
                <a:lnTo>
                  <a:pt x="435" y="958"/>
                </a:lnTo>
                <a:lnTo>
                  <a:pt x="420" y="965"/>
                </a:lnTo>
                <a:lnTo>
                  <a:pt x="406" y="971"/>
                </a:lnTo>
                <a:lnTo>
                  <a:pt x="391" y="977"/>
                </a:lnTo>
                <a:lnTo>
                  <a:pt x="378" y="982"/>
                </a:lnTo>
                <a:lnTo>
                  <a:pt x="364" y="988"/>
                </a:lnTo>
                <a:lnTo>
                  <a:pt x="351" y="994"/>
                </a:lnTo>
                <a:lnTo>
                  <a:pt x="339" y="1000"/>
                </a:lnTo>
                <a:lnTo>
                  <a:pt x="328" y="1006"/>
                </a:lnTo>
                <a:lnTo>
                  <a:pt x="316" y="1009"/>
                </a:lnTo>
                <a:lnTo>
                  <a:pt x="305" y="1015"/>
                </a:lnTo>
                <a:lnTo>
                  <a:pt x="295" y="1019"/>
                </a:lnTo>
                <a:lnTo>
                  <a:pt x="286" y="1025"/>
                </a:lnTo>
                <a:lnTo>
                  <a:pt x="276" y="1029"/>
                </a:lnTo>
                <a:lnTo>
                  <a:pt x="268" y="1034"/>
                </a:lnTo>
                <a:lnTo>
                  <a:pt x="261" y="1038"/>
                </a:lnTo>
                <a:lnTo>
                  <a:pt x="253" y="1042"/>
                </a:lnTo>
                <a:lnTo>
                  <a:pt x="245" y="1046"/>
                </a:lnTo>
                <a:lnTo>
                  <a:pt x="238" y="1050"/>
                </a:lnTo>
                <a:lnTo>
                  <a:pt x="232" y="1053"/>
                </a:lnTo>
                <a:lnTo>
                  <a:pt x="226" y="1057"/>
                </a:lnTo>
                <a:lnTo>
                  <a:pt x="222" y="1059"/>
                </a:lnTo>
                <a:lnTo>
                  <a:pt x="216" y="1063"/>
                </a:lnTo>
                <a:lnTo>
                  <a:pt x="213" y="1067"/>
                </a:lnTo>
                <a:lnTo>
                  <a:pt x="209" y="1069"/>
                </a:lnTo>
                <a:lnTo>
                  <a:pt x="207" y="1073"/>
                </a:lnTo>
                <a:lnTo>
                  <a:pt x="205" y="1075"/>
                </a:lnTo>
                <a:lnTo>
                  <a:pt x="203" y="1078"/>
                </a:lnTo>
                <a:lnTo>
                  <a:pt x="201" y="1080"/>
                </a:lnTo>
                <a:lnTo>
                  <a:pt x="191" y="1088"/>
                </a:lnTo>
                <a:lnTo>
                  <a:pt x="182" y="1096"/>
                </a:lnTo>
                <a:lnTo>
                  <a:pt x="172" y="1103"/>
                </a:lnTo>
                <a:lnTo>
                  <a:pt x="163" y="1107"/>
                </a:lnTo>
                <a:lnTo>
                  <a:pt x="153" y="1113"/>
                </a:lnTo>
                <a:lnTo>
                  <a:pt x="143" y="1115"/>
                </a:lnTo>
                <a:lnTo>
                  <a:pt x="134" y="1117"/>
                </a:lnTo>
                <a:lnTo>
                  <a:pt x="126" y="1117"/>
                </a:lnTo>
                <a:lnTo>
                  <a:pt x="117" y="1117"/>
                </a:lnTo>
                <a:lnTo>
                  <a:pt x="107" y="1115"/>
                </a:lnTo>
                <a:lnTo>
                  <a:pt x="97" y="1111"/>
                </a:lnTo>
                <a:lnTo>
                  <a:pt x="88" y="1107"/>
                </a:lnTo>
                <a:lnTo>
                  <a:pt x="82" y="1103"/>
                </a:lnTo>
                <a:lnTo>
                  <a:pt x="78" y="1100"/>
                </a:lnTo>
                <a:lnTo>
                  <a:pt x="74" y="1096"/>
                </a:lnTo>
                <a:lnTo>
                  <a:pt x="69" y="1092"/>
                </a:lnTo>
                <a:lnTo>
                  <a:pt x="65" y="1086"/>
                </a:lnTo>
                <a:lnTo>
                  <a:pt x="59" y="1080"/>
                </a:lnTo>
                <a:lnTo>
                  <a:pt x="55" y="1075"/>
                </a:lnTo>
                <a:lnTo>
                  <a:pt x="49" y="1067"/>
                </a:lnTo>
                <a:lnTo>
                  <a:pt x="44" y="1061"/>
                </a:lnTo>
                <a:lnTo>
                  <a:pt x="38" y="1053"/>
                </a:lnTo>
                <a:lnTo>
                  <a:pt x="32" y="1048"/>
                </a:lnTo>
                <a:lnTo>
                  <a:pt x="26" y="1042"/>
                </a:lnTo>
                <a:lnTo>
                  <a:pt x="23" y="1036"/>
                </a:lnTo>
                <a:lnTo>
                  <a:pt x="17" y="1030"/>
                </a:lnTo>
                <a:lnTo>
                  <a:pt x="11" y="1019"/>
                </a:lnTo>
                <a:lnTo>
                  <a:pt x="5" y="1009"/>
                </a:lnTo>
                <a:lnTo>
                  <a:pt x="1" y="1000"/>
                </a:lnTo>
                <a:lnTo>
                  <a:pt x="0" y="990"/>
                </a:lnTo>
                <a:lnTo>
                  <a:pt x="0" y="981"/>
                </a:lnTo>
                <a:lnTo>
                  <a:pt x="0" y="979"/>
                </a:lnTo>
                <a:lnTo>
                  <a:pt x="1" y="975"/>
                </a:lnTo>
                <a:lnTo>
                  <a:pt x="1" y="973"/>
                </a:lnTo>
                <a:lnTo>
                  <a:pt x="3" y="969"/>
                </a:lnTo>
                <a:lnTo>
                  <a:pt x="7" y="965"/>
                </a:lnTo>
                <a:lnTo>
                  <a:pt x="11" y="961"/>
                </a:lnTo>
                <a:lnTo>
                  <a:pt x="15" y="958"/>
                </a:lnTo>
                <a:lnTo>
                  <a:pt x="19" y="954"/>
                </a:lnTo>
                <a:lnTo>
                  <a:pt x="24" y="950"/>
                </a:lnTo>
                <a:lnTo>
                  <a:pt x="28" y="946"/>
                </a:lnTo>
                <a:lnTo>
                  <a:pt x="36" y="942"/>
                </a:lnTo>
                <a:lnTo>
                  <a:pt x="42" y="936"/>
                </a:lnTo>
                <a:lnTo>
                  <a:pt x="49" y="933"/>
                </a:lnTo>
                <a:lnTo>
                  <a:pt x="57" y="927"/>
                </a:lnTo>
                <a:lnTo>
                  <a:pt x="67" y="923"/>
                </a:lnTo>
                <a:lnTo>
                  <a:pt x="74" y="919"/>
                </a:lnTo>
                <a:lnTo>
                  <a:pt x="82" y="913"/>
                </a:lnTo>
                <a:lnTo>
                  <a:pt x="90" y="908"/>
                </a:lnTo>
                <a:lnTo>
                  <a:pt x="99" y="902"/>
                </a:lnTo>
                <a:lnTo>
                  <a:pt x="107" y="894"/>
                </a:lnTo>
                <a:lnTo>
                  <a:pt x="117" y="887"/>
                </a:lnTo>
                <a:lnTo>
                  <a:pt x="128" y="879"/>
                </a:lnTo>
                <a:lnTo>
                  <a:pt x="138" y="871"/>
                </a:lnTo>
                <a:lnTo>
                  <a:pt x="149" y="862"/>
                </a:lnTo>
                <a:lnTo>
                  <a:pt x="161" y="850"/>
                </a:lnTo>
                <a:lnTo>
                  <a:pt x="172" y="840"/>
                </a:lnTo>
                <a:lnTo>
                  <a:pt x="184" y="827"/>
                </a:lnTo>
                <a:lnTo>
                  <a:pt x="197" y="815"/>
                </a:lnTo>
                <a:lnTo>
                  <a:pt x="211" y="802"/>
                </a:lnTo>
                <a:lnTo>
                  <a:pt x="224" y="787"/>
                </a:lnTo>
                <a:lnTo>
                  <a:pt x="238" y="773"/>
                </a:lnTo>
                <a:lnTo>
                  <a:pt x="251" y="756"/>
                </a:lnTo>
                <a:lnTo>
                  <a:pt x="264" y="743"/>
                </a:lnTo>
                <a:lnTo>
                  <a:pt x="280" y="725"/>
                </a:lnTo>
                <a:lnTo>
                  <a:pt x="295" y="708"/>
                </a:lnTo>
                <a:lnTo>
                  <a:pt x="312" y="691"/>
                </a:lnTo>
                <a:lnTo>
                  <a:pt x="330" y="672"/>
                </a:lnTo>
                <a:lnTo>
                  <a:pt x="347" y="650"/>
                </a:lnTo>
                <a:lnTo>
                  <a:pt x="366" y="629"/>
                </a:lnTo>
                <a:lnTo>
                  <a:pt x="385" y="606"/>
                </a:lnTo>
                <a:lnTo>
                  <a:pt x="405" y="583"/>
                </a:lnTo>
                <a:lnTo>
                  <a:pt x="426" y="558"/>
                </a:lnTo>
                <a:lnTo>
                  <a:pt x="447" y="531"/>
                </a:lnTo>
                <a:lnTo>
                  <a:pt x="468" y="505"/>
                </a:lnTo>
                <a:lnTo>
                  <a:pt x="491" y="476"/>
                </a:lnTo>
                <a:lnTo>
                  <a:pt x="516" y="447"/>
                </a:lnTo>
                <a:lnTo>
                  <a:pt x="539" y="414"/>
                </a:lnTo>
                <a:lnTo>
                  <a:pt x="566" y="384"/>
                </a:lnTo>
                <a:lnTo>
                  <a:pt x="589" y="351"/>
                </a:lnTo>
                <a:lnTo>
                  <a:pt x="612" y="320"/>
                </a:lnTo>
                <a:lnTo>
                  <a:pt x="635" y="291"/>
                </a:lnTo>
                <a:lnTo>
                  <a:pt x="654" y="265"/>
                </a:lnTo>
                <a:lnTo>
                  <a:pt x="671" y="240"/>
                </a:lnTo>
                <a:lnTo>
                  <a:pt x="689" y="217"/>
                </a:lnTo>
                <a:lnTo>
                  <a:pt x="702" y="195"/>
                </a:lnTo>
                <a:lnTo>
                  <a:pt x="715" y="174"/>
                </a:lnTo>
                <a:lnTo>
                  <a:pt x="727" y="157"/>
                </a:lnTo>
                <a:lnTo>
                  <a:pt x="735" y="140"/>
                </a:lnTo>
                <a:lnTo>
                  <a:pt x="742" y="124"/>
                </a:lnTo>
                <a:lnTo>
                  <a:pt x="748" y="111"/>
                </a:lnTo>
                <a:lnTo>
                  <a:pt x="752" y="100"/>
                </a:lnTo>
                <a:lnTo>
                  <a:pt x="754" y="88"/>
                </a:lnTo>
                <a:lnTo>
                  <a:pt x="756" y="78"/>
                </a:lnTo>
                <a:lnTo>
                  <a:pt x="754" y="71"/>
                </a:lnTo>
                <a:lnTo>
                  <a:pt x="748" y="61"/>
                </a:lnTo>
                <a:lnTo>
                  <a:pt x="744" y="53"/>
                </a:lnTo>
                <a:lnTo>
                  <a:pt x="740" y="44"/>
                </a:lnTo>
                <a:lnTo>
                  <a:pt x="738" y="36"/>
                </a:lnTo>
                <a:lnTo>
                  <a:pt x="737" y="29"/>
                </a:lnTo>
                <a:lnTo>
                  <a:pt x="737" y="21"/>
                </a:lnTo>
                <a:lnTo>
                  <a:pt x="737" y="17"/>
                </a:lnTo>
                <a:lnTo>
                  <a:pt x="737" y="15"/>
                </a:lnTo>
                <a:lnTo>
                  <a:pt x="738" y="11"/>
                </a:lnTo>
                <a:lnTo>
                  <a:pt x="740" y="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16"/>
          <p:cNvSpPr/>
          <p:nvPr/>
        </p:nvSpPr>
        <p:spPr>
          <a:xfrm>
            <a:off x="5551560" y="2560680"/>
            <a:ext cx="608040" cy="866880"/>
          </a:xfrm>
          <a:custGeom>
            <a:avLst/>
            <a:gdLst/>
            <a:ahLst/>
            <a:rect l="l" t="t" r="r" b="b"/>
            <a:pathLst>
              <a:path w="766" h="1092">
                <a:moveTo>
                  <a:pt x="415" y="328"/>
                </a:moveTo>
                <a:lnTo>
                  <a:pt x="424" y="301"/>
                </a:lnTo>
                <a:lnTo>
                  <a:pt x="434" y="278"/>
                </a:lnTo>
                <a:lnTo>
                  <a:pt x="443" y="255"/>
                </a:lnTo>
                <a:lnTo>
                  <a:pt x="451" y="234"/>
                </a:lnTo>
                <a:lnTo>
                  <a:pt x="459" y="213"/>
                </a:lnTo>
                <a:lnTo>
                  <a:pt x="465" y="194"/>
                </a:lnTo>
                <a:lnTo>
                  <a:pt x="468" y="175"/>
                </a:lnTo>
                <a:lnTo>
                  <a:pt x="472" y="157"/>
                </a:lnTo>
                <a:lnTo>
                  <a:pt x="476" y="142"/>
                </a:lnTo>
                <a:lnTo>
                  <a:pt x="478" y="127"/>
                </a:lnTo>
                <a:lnTo>
                  <a:pt x="480" y="111"/>
                </a:lnTo>
                <a:lnTo>
                  <a:pt x="480" y="98"/>
                </a:lnTo>
                <a:lnTo>
                  <a:pt x="480" y="84"/>
                </a:lnTo>
                <a:lnTo>
                  <a:pt x="480" y="73"/>
                </a:lnTo>
                <a:lnTo>
                  <a:pt x="478" y="63"/>
                </a:lnTo>
                <a:lnTo>
                  <a:pt x="476" y="54"/>
                </a:lnTo>
                <a:lnTo>
                  <a:pt x="474" y="46"/>
                </a:lnTo>
                <a:lnTo>
                  <a:pt x="472" y="40"/>
                </a:lnTo>
                <a:lnTo>
                  <a:pt x="472" y="34"/>
                </a:lnTo>
                <a:lnTo>
                  <a:pt x="472" y="29"/>
                </a:lnTo>
                <a:lnTo>
                  <a:pt x="472" y="23"/>
                </a:lnTo>
                <a:lnTo>
                  <a:pt x="472" y="17"/>
                </a:lnTo>
                <a:lnTo>
                  <a:pt x="474" y="13"/>
                </a:lnTo>
                <a:lnTo>
                  <a:pt x="476" y="10"/>
                </a:lnTo>
                <a:lnTo>
                  <a:pt x="480" y="6"/>
                </a:lnTo>
                <a:lnTo>
                  <a:pt x="482" y="4"/>
                </a:lnTo>
                <a:lnTo>
                  <a:pt x="486" y="2"/>
                </a:lnTo>
                <a:lnTo>
                  <a:pt x="491" y="0"/>
                </a:lnTo>
                <a:lnTo>
                  <a:pt x="495" y="0"/>
                </a:lnTo>
                <a:lnTo>
                  <a:pt x="501" y="0"/>
                </a:lnTo>
                <a:lnTo>
                  <a:pt x="507" y="2"/>
                </a:lnTo>
                <a:lnTo>
                  <a:pt x="514" y="4"/>
                </a:lnTo>
                <a:lnTo>
                  <a:pt x="528" y="10"/>
                </a:lnTo>
                <a:lnTo>
                  <a:pt x="543" y="15"/>
                </a:lnTo>
                <a:lnTo>
                  <a:pt x="561" y="23"/>
                </a:lnTo>
                <a:lnTo>
                  <a:pt x="578" y="33"/>
                </a:lnTo>
                <a:lnTo>
                  <a:pt x="593" y="42"/>
                </a:lnTo>
                <a:lnTo>
                  <a:pt x="610" y="52"/>
                </a:lnTo>
                <a:lnTo>
                  <a:pt x="626" y="65"/>
                </a:lnTo>
                <a:lnTo>
                  <a:pt x="639" y="79"/>
                </a:lnTo>
                <a:lnTo>
                  <a:pt x="653" y="96"/>
                </a:lnTo>
                <a:lnTo>
                  <a:pt x="666" y="113"/>
                </a:lnTo>
                <a:lnTo>
                  <a:pt x="676" y="129"/>
                </a:lnTo>
                <a:lnTo>
                  <a:pt x="685" y="144"/>
                </a:lnTo>
                <a:lnTo>
                  <a:pt x="693" y="157"/>
                </a:lnTo>
                <a:lnTo>
                  <a:pt x="695" y="163"/>
                </a:lnTo>
                <a:lnTo>
                  <a:pt x="699" y="169"/>
                </a:lnTo>
                <a:lnTo>
                  <a:pt x="701" y="175"/>
                </a:lnTo>
                <a:lnTo>
                  <a:pt x="701" y="180"/>
                </a:lnTo>
                <a:lnTo>
                  <a:pt x="703" y="186"/>
                </a:lnTo>
                <a:lnTo>
                  <a:pt x="703" y="190"/>
                </a:lnTo>
                <a:lnTo>
                  <a:pt x="703" y="196"/>
                </a:lnTo>
                <a:lnTo>
                  <a:pt x="701" y="201"/>
                </a:lnTo>
                <a:lnTo>
                  <a:pt x="697" y="209"/>
                </a:lnTo>
                <a:lnTo>
                  <a:pt x="693" y="219"/>
                </a:lnTo>
                <a:lnTo>
                  <a:pt x="687" y="228"/>
                </a:lnTo>
                <a:lnTo>
                  <a:pt x="681" y="240"/>
                </a:lnTo>
                <a:lnTo>
                  <a:pt x="674" y="251"/>
                </a:lnTo>
                <a:lnTo>
                  <a:pt x="666" y="265"/>
                </a:lnTo>
                <a:lnTo>
                  <a:pt x="656" y="280"/>
                </a:lnTo>
                <a:lnTo>
                  <a:pt x="647" y="296"/>
                </a:lnTo>
                <a:lnTo>
                  <a:pt x="635" y="313"/>
                </a:lnTo>
                <a:lnTo>
                  <a:pt x="622" y="330"/>
                </a:lnTo>
                <a:lnTo>
                  <a:pt x="609" y="349"/>
                </a:lnTo>
                <a:lnTo>
                  <a:pt x="595" y="370"/>
                </a:lnTo>
                <a:lnTo>
                  <a:pt x="580" y="392"/>
                </a:lnTo>
                <a:lnTo>
                  <a:pt x="564" y="415"/>
                </a:lnTo>
                <a:lnTo>
                  <a:pt x="549" y="439"/>
                </a:lnTo>
                <a:lnTo>
                  <a:pt x="532" y="464"/>
                </a:lnTo>
                <a:lnTo>
                  <a:pt x="514" y="487"/>
                </a:lnTo>
                <a:lnTo>
                  <a:pt x="499" y="511"/>
                </a:lnTo>
                <a:lnTo>
                  <a:pt x="482" y="534"/>
                </a:lnTo>
                <a:lnTo>
                  <a:pt x="466" y="555"/>
                </a:lnTo>
                <a:lnTo>
                  <a:pt x="449" y="576"/>
                </a:lnTo>
                <a:lnTo>
                  <a:pt x="434" y="595"/>
                </a:lnTo>
                <a:lnTo>
                  <a:pt x="418" y="614"/>
                </a:lnTo>
                <a:lnTo>
                  <a:pt x="403" y="633"/>
                </a:lnTo>
                <a:lnTo>
                  <a:pt x="386" y="653"/>
                </a:lnTo>
                <a:lnTo>
                  <a:pt x="370" y="670"/>
                </a:lnTo>
                <a:lnTo>
                  <a:pt x="342" y="704"/>
                </a:lnTo>
                <a:lnTo>
                  <a:pt x="313" y="739"/>
                </a:lnTo>
                <a:lnTo>
                  <a:pt x="299" y="754"/>
                </a:lnTo>
                <a:lnTo>
                  <a:pt x="288" y="770"/>
                </a:lnTo>
                <a:lnTo>
                  <a:pt x="276" y="783"/>
                </a:lnTo>
                <a:lnTo>
                  <a:pt x="267" y="797"/>
                </a:lnTo>
                <a:lnTo>
                  <a:pt x="257" y="810"/>
                </a:lnTo>
                <a:lnTo>
                  <a:pt x="250" y="821"/>
                </a:lnTo>
                <a:lnTo>
                  <a:pt x="242" y="831"/>
                </a:lnTo>
                <a:lnTo>
                  <a:pt x="236" y="841"/>
                </a:lnTo>
                <a:lnTo>
                  <a:pt x="232" y="850"/>
                </a:lnTo>
                <a:lnTo>
                  <a:pt x="228" y="858"/>
                </a:lnTo>
                <a:lnTo>
                  <a:pt x="225" y="866"/>
                </a:lnTo>
                <a:lnTo>
                  <a:pt x="223" y="871"/>
                </a:lnTo>
                <a:lnTo>
                  <a:pt x="223" y="877"/>
                </a:lnTo>
                <a:lnTo>
                  <a:pt x="223" y="881"/>
                </a:lnTo>
                <a:lnTo>
                  <a:pt x="223" y="885"/>
                </a:lnTo>
                <a:lnTo>
                  <a:pt x="225" y="889"/>
                </a:lnTo>
                <a:lnTo>
                  <a:pt x="228" y="891"/>
                </a:lnTo>
                <a:lnTo>
                  <a:pt x="232" y="892"/>
                </a:lnTo>
                <a:lnTo>
                  <a:pt x="238" y="892"/>
                </a:lnTo>
                <a:lnTo>
                  <a:pt x="246" y="894"/>
                </a:lnTo>
                <a:lnTo>
                  <a:pt x="255" y="896"/>
                </a:lnTo>
                <a:lnTo>
                  <a:pt x="265" y="896"/>
                </a:lnTo>
                <a:lnTo>
                  <a:pt x="278" y="896"/>
                </a:lnTo>
                <a:lnTo>
                  <a:pt x="292" y="896"/>
                </a:lnTo>
                <a:lnTo>
                  <a:pt x="305" y="894"/>
                </a:lnTo>
                <a:lnTo>
                  <a:pt x="323" y="894"/>
                </a:lnTo>
                <a:lnTo>
                  <a:pt x="340" y="892"/>
                </a:lnTo>
                <a:lnTo>
                  <a:pt x="359" y="891"/>
                </a:lnTo>
                <a:lnTo>
                  <a:pt x="380" y="887"/>
                </a:lnTo>
                <a:lnTo>
                  <a:pt x="403" y="883"/>
                </a:lnTo>
                <a:lnTo>
                  <a:pt x="426" y="879"/>
                </a:lnTo>
                <a:lnTo>
                  <a:pt x="451" y="875"/>
                </a:lnTo>
                <a:lnTo>
                  <a:pt x="476" y="871"/>
                </a:lnTo>
                <a:lnTo>
                  <a:pt x="501" y="866"/>
                </a:lnTo>
                <a:lnTo>
                  <a:pt x="526" y="862"/>
                </a:lnTo>
                <a:lnTo>
                  <a:pt x="549" y="858"/>
                </a:lnTo>
                <a:lnTo>
                  <a:pt x="572" y="856"/>
                </a:lnTo>
                <a:lnTo>
                  <a:pt x="595" y="852"/>
                </a:lnTo>
                <a:lnTo>
                  <a:pt x="616" y="850"/>
                </a:lnTo>
                <a:lnTo>
                  <a:pt x="637" y="846"/>
                </a:lnTo>
                <a:lnTo>
                  <a:pt x="656" y="845"/>
                </a:lnTo>
                <a:lnTo>
                  <a:pt x="674" y="843"/>
                </a:lnTo>
                <a:lnTo>
                  <a:pt x="693" y="841"/>
                </a:lnTo>
                <a:lnTo>
                  <a:pt x="708" y="841"/>
                </a:lnTo>
                <a:lnTo>
                  <a:pt x="726" y="839"/>
                </a:lnTo>
                <a:lnTo>
                  <a:pt x="739" y="839"/>
                </a:lnTo>
                <a:lnTo>
                  <a:pt x="752" y="839"/>
                </a:lnTo>
                <a:lnTo>
                  <a:pt x="766" y="839"/>
                </a:lnTo>
                <a:lnTo>
                  <a:pt x="752" y="852"/>
                </a:lnTo>
                <a:lnTo>
                  <a:pt x="739" y="866"/>
                </a:lnTo>
                <a:lnTo>
                  <a:pt x="726" y="877"/>
                </a:lnTo>
                <a:lnTo>
                  <a:pt x="712" y="889"/>
                </a:lnTo>
                <a:lnTo>
                  <a:pt x="697" y="900"/>
                </a:lnTo>
                <a:lnTo>
                  <a:pt x="680" y="912"/>
                </a:lnTo>
                <a:lnTo>
                  <a:pt x="664" y="921"/>
                </a:lnTo>
                <a:lnTo>
                  <a:pt x="647" y="929"/>
                </a:lnTo>
                <a:lnTo>
                  <a:pt x="628" y="939"/>
                </a:lnTo>
                <a:lnTo>
                  <a:pt x="610" y="946"/>
                </a:lnTo>
                <a:lnTo>
                  <a:pt x="591" y="952"/>
                </a:lnTo>
                <a:lnTo>
                  <a:pt x="570" y="960"/>
                </a:lnTo>
                <a:lnTo>
                  <a:pt x="551" y="964"/>
                </a:lnTo>
                <a:lnTo>
                  <a:pt x="530" y="969"/>
                </a:lnTo>
                <a:lnTo>
                  <a:pt x="511" y="973"/>
                </a:lnTo>
                <a:lnTo>
                  <a:pt x="490" y="975"/>
                </a:lnTo>
                <a:lnTo>
                  <a:pt x="466" y="979"/>
                </a:lnTo>
                <a:lnTo>
                  <a:pt x="443" y="985"/>
                </a:lnTo>
                <a:lnTo>
                  <a:pt x="422" y="988"/>
                </a:lnTo>
                <a:lnTo>
                  <a:pt x="401" y="994"/>
                </a:lnTo>
                <a:lnTo>
                  <a:pt x="382" y="998"/>
                </a:lnTo>
                <a:lnTo>
                  <a:pt x="363" y="1004"/>
                </a:lnTo>
                <a:lnTo>
                  <a:pt x="344" y="1008"/>
                </a:lnTo>
                <a:lnTo>
                  <a:pt x="326" y="1011"/>
                </a:lnTo>
                <a:lnTo>
                  <a:pt x="311" y="1017"/>
                </a:lnTo>
                <a:lnTo>
                  <a:pt x="294" y="1021"/>
                </a:lnTo>
                <a:lnTo>
                  <a:pt x="278" y="1027"/>
                </a:lnTo>
                <a:lnTo>
                  <a:pt x="265" y="1031"/>
                </a:lnTo>
                <a:lnTo>
                  <a:pt x="251" y="1036"/>
                </a:lnTo>
                <a:lnTo>
                  <a:pt x="238" y="1040"/>
                </a:lnTo>
                <a:lnTo>
                  <a:pt x="225" y="1044"/>
                </a:lnTo>
                <a:lnTo>
                  <a:pt x="213" y="1050"/>
                </a:lnTo>
                <a:lnTo>
                  <a:pt x="202" y="1056"/>
                </a:lnTo>
                <a:lnTo>
                  <a:pt x="190" y="1063"/>
                </a:lnTo>
                <a:lnTo>
                  <a:pt x="179" y="1067"/>
                </a:lnTo>
                <a:lnTo>
                  <a:pt x="169" y="1073"/>
                </a:lnTo>
                <a:lnTo>
                  <a:pt x="157" y="1077"/>
                </a:lnTo>
                <a:lnTo>
                  <a:pt x="148" y="1081"/>
                </a:lnTo>
                <a:lnTo>
                  <a:pt x="140" y="1084"/>
                </a:lnTo>
                <a:lnTo>
                  <a:pt x="131" y="1086"/>
                </a:lnTo>
                <a:lnTo>
                  <a:pt x="123" y="1090"/>
                </a:lnTo>
                <a:lnTo>
                  <a:pt x="115" y="1090"/>
                </a:lnTo>
                <a:lnTo>
                  <a:pt x="109" y="1092"/>
                </a:lnTo>
                <a:lnTo>
                  <a:pt x="104" y="1092"/>
                </a:lnTo>
                <a:lnTo>
                  <a:pt x="98" y="1092"/>
                </a:lnTo>
                <a:lnTo>
                  <a:pt x="94" y="1090"/>
                </a:lnTo>
                <a:lnTo>
                  <a:pt x="90" y="1088"/>
                </a:lnTo>
                <a:lnTo>
                  <a:pt x="86" y="1086"/>
                </a:lnTo>
                <a:lnTo>
                  <a:pt x="85" y="1086"/>
                </a:lnTo>
                <a:lnTo>
                  <a:pt x="83" y="1086"/>
                </a:lnTo>
                <a:lnTo>
                  <a:pt x="79" y="1084"/>
                </a:lnTo>
                <a:lnTo>
                  <a:pt x="75" y="1083"/>
                </a:lnTo>
                <a:lnTo>
                  <a:pt x="73" y="1081"/>
                </a:lnTo>
                <a:lnTo>
                  <a:pt x="69" y="1077"/>
                </a:lnTo>
                <a:lnTo>
                  <a:pt x="61" y="1069"/>
                </a:lnTo>
                <a:lnTo>
                  <a:pt x="54" y="1061"/>
                </a:lnTo>
                <a:lnTo>
                  <a:pt x="48" y="1050"/>
                </a:lnTo>
                <a:lnTo>
                  <a:pt x="42" y="1038"/>
                </a:lnTo>
                <a:lnTo>
                  <a:pt x="37" y="1025"/>
                </a:lnTo>
                <a:lnTo>
                  <a:pt x="29" y="1011"/>
                </a:lnTo>
                <a:lnTo>
                  <a:pt x="21" y="998"/>
                </a:lnTo>
                <a:lnTo>
                  <a:pt x="13" y="987"/>
                </a:lnTo>
                <a:lnTo>
                  <a:pt x="8" y="977"/>
                </a:lnTo>
                <a:lnTo>
                  <a:pt x="4" y="965"/>
                </a:lnTo>
                <a:lnTo>
                  <a:pt x="2" y="956"/>
                </a:lnTo>
                <a:lnTo>
                  <a:pt x="0" y="946"/>
                </a:lnTo>
                <a:lnTo>
                  <a:pt x="0" y="939"/>
                </a:lnTo>
                <a:lnTo>
                  <a:pt x="0" y="933"/>
                </a:lnTo>
                <a:lnTo>
                  <a:pt x="2" y="927"/>
                </a:lnTo>
                <a:lnTo>
                  <a:pt x="6" y="919"/>
                </a:lnTo>
                <a:lnTo>
                  <a:pt x="10" y="914"/>
                </a:lnTo>
                <a:lnTo>
                  <a:pt x="17" y="906"/>
                </a:lnTo>
                <a:lnTo>
                  <a:pt x="21" y="902"/>
                </a:lnTo>
                <a:lnTo>
                  <a:pt x="25" y="900"/>
                </a:lnTo>
                <a:lnTo>
                  <a:pt x="31" y="896"/>
                </a:lnTo>
                <a:lnTo>
                  <a:pt x="37" y="892"/>
                </a:lnTo>
                <a:lnTo>
                  <a:pt x="42" y="891"/>
                </a:lnTo>
                <a:lnTo>
                  <a:pt x="50" y="889"/>
                </a:lnTo>
                <a:lnTo>
                  <a:pt x="56" y="885"/>
                </a:lnTo>
                <a:lnTo>
                  <a:pt x="63" y="881"/>
                </a:lnTo>
                <a:lnTo>
                  <a:pt x="71" y="875"/>
                </a:lnTo>
                <a:lnTo>
                  <a:pt x="81" y="868"/>
                </a:lnTo>
                <a:lnTo>
                  <a:pt x="88" y="858"/>
                </a:lnTo>
                <a:lnTo>
                  <a:pt x="98" y="848"/>
                </a:lnTo>
                <a:lnTo>
                  <a:pt x="108" y="839"/>
                </a:lnTo>
                <a:lnTo>
                  <a:pt x="119" y="825"/>
                </a:lnTo>
                <a:lnTo>
                  <a:pt x="131" y="812"/>
                </a:lnTo>
                <a:lnTo>
                  <a:pt x="142" y="798"/>
                </a:lnTo>
                <a:lnTo>
                  <a:pt x="154" y="783"/>
                </a:lnTo>
                <a:lnTo>
                  <a:pt x="167" y="766"/>
                </a:lnTo>
                <a:lnTo>
                  <a:pt x="180" y="749"/>
                </a:lnTo>
                <a:lnTo>
                  <a:pt x="194" y="729"/>
                </a:lnTo>
                <a:lnTo>
                  <a:pt x="209" y="710"/>
                </a:lnTo>
                <a:lnTo>
                  <a:pt x="225" y="689"/>
                </a:lnTo>
                <a:lnTo>
                  <a:pt x="253" y="645"/>
                </a:lnTo>
                <a:lnTo>
                  <a:pt x="278" y="603"/>
                </a:lnTo>
                <a:lnTo>
                  <a:pt x="305" y="559"/>
                </a:lnTo>
                <a:lnTo>
                  <a:pt x="328" y="512"/>
                </a:lnTo>
                <a:lnTo>
                  <a:pt x="351" y="466"/>
                </a:lnTo>
                <a:lnTo>
                  <a:pt x="374" y="420"/>
                </a:lnTo>
                <a:lnTo>
                  <a:pt x="394" y="374"/>
                </a:lnTo>
                <a:lnTo>
                  <a:pt x="415" y="3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1:54:50Z</dcterms:modified>
  <cp:revision>4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