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5.png" ContentType="image/png"/>
  <Override PartName="/ppt/media/image12.gif" ContentType="image/gi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4F135-43D5-45FD-8E5E-861D51D289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91114-8284-49FF-BA6D-2200FF88F0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E97C1-4550-4067-A3B6-CA9D9E41EE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C6ABA-A44B-44E4-BE12-1C2A47F614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4FC14-75B4-4DBE-9A8F-FEFB6C3BBE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676E4-6C77-4050-A019-F577489600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6A84F-72F3-426D-A561-BFF1C4612D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14472-900E-45F6-B787-8C1915D2D4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C45D1-B334-494E-A538-CDB4041557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34589-88B4-42CF-BC44-3716606FF7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FA33A-9419-4BD2-A80B-9C3BF658BD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6ADAA-C4F5-402E-B04B-D02D2F91D4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9A4C8-3E98-47BB-B6A5-F0C6C4A774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4DBC4-B908-4D4C-861F-A044864298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15B-3F71-4939-81E7-E848950A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F86-9BF6-4D21-BCFA-B5B289E5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70E-34AF-4F67-AD71-222BC02D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D63-7AB7-45E4-828B-11A092F7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147-88B9-473B-81C6-FC350694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DB2-4EB0-4327-AF15-CCBC9591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A7C-C5AC-492E-80A9-3DE2F84B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E5B-241C-40A4-975B-CCAC11AE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0E5-2CA7-4529-8633-F574BC69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27E-E3D2-4882-9E49-31D1D410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486-6687-4A56-B482-B8FC02F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A1A-5FB5-4B4D-B9A3-7D988F25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ACCC1-44AA-4225-B64F-0C2FE26AE00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084400" y="2328840"/>
            <a:ext cx="5187960" cy="30718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730600" y="905040"/>
            <a:ext cx="4819680" cy="1180800"/>
            <a:chOff x="2730600" y="905040"/>
            <a:chExt cx="4819680" cy="1180800"/>
          </a:xfrm>
        </p:grpSpPr>
        <p:sp>
          <p:nvSpPr>
            <p:cNvPr id="65" name="Text Box 2"/>
            <p:cNvSpPr/>
            <p:nvPr/>
          </p:nvSpPr>
          <p:spPr>
            <a:xfrm>
              <a:off x="398952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野菊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730600" y="905040"/>
              <a:ext cx="1180800" cy="1180800"/>
              <a:chOff x="273060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73060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787120" y="984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4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2218680" y="2154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噢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114880" y="198900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9" name="组合 8"/>
          <p:cNvGrpSpPr/>
          <p:nvPr/>
        </p:nvGrpSpPr>
        <p:grpSpPr>
          <a:xfrm>
            <a:off x="1400040" y="3581280"/>
            <a:ext cx="2840040" cy="1571760"/>
            <a:chOff x="1400040" y="3581280"/>
            <a:chExt cx="2840040" cy="1571760"/>
          </a:xfrm>
        </p:grpSpPr>
        <p:pic>
          <p:nvPicPr>
            <p:cNvPr id="19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58128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矩形 2"/>
            <p:cNvSpPr/>
            <p:nvPr/>
          </p:nvSpPr>
          <p:spPr>
            <a:xfrm>
              <a:off x="1444680" y="419292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口”小偏上，右下部捺画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矩形 3"/>
          <p:cNvSpPr/>
          <p:nvPr/>
        </p:nvSpPr>
        <p:spPr>
          <a:xfrm>
            <a:off x="2171880" y="147492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79"/>
          <p:cNvSpPr/>
          <p:nvPr/>
        </p:nvSpPr>
        <p:spPr>
          <a:xfrm>
            <a:off x="6707160" y="3811680"/>
            <a:ext cx="1077840" cy="738000"/>
          </a:xfrm>
          <a:custGeom>
            <a:avLst/>
            <a:gdLst/>
            <a:ahLst/>
            <a:rect l="l" t="t" r="r" b="b"/>
            <a:pathLst>
              <a:path w="1359" h="929">
                <a:moveTo>
                  <a:pt x="1102" y="745"/>
                </a:moveTo>
                <a:lnTo>
                  <a:pt x="1117" y="751"/>
                </a:lnTo>
                <a:lnTo>
                  <a:pt x="1132" y="756"/>
                </a:lnTo>
                <a:lnTo>
                  <a:pt x="1146" y="760"/>
                </a:lnTo>
                <a:lnTo>
                  <a:pt x="1161" y="766"/>
                </a:lnTo>
                <a:lnTo>
                  <a:pt x="1175" y="772"/>
                </a:lnTo>
                <a:lnTo>
                  <a:pt x="1188" y="777"/>
                </a:lnTo>
                <a:lnTo>
                  <a:pt x="1202" y="781"/>
                </a:lnTo>
                <a:lnTo>
                  <a:pt x="1213" y="787"/>
                </a:lnTo>
                <a:lnTo>
                  <a:pt x="1225" y="791"/>
                </a:lnTo>
                <a:lnTo>
                  <a:pt x="1236" y="795"/>
                </a:lnTo>
                <a:lnTo>
                  <a:pt x="1248" y="800"/>
                </a:lnTo>
                <a:lnTo>
                  <a:pt x="1257" y="804"/>
                </a:lnTo>
                <a:lnTo>
                  <a:pt x="1267" y="808"/>
                </a:lnTo>
                <a:lnTo>
                  <a:pt x="1276" y="812"/>
                </a:lnTo>
                <a:lnTo>
                  <a:pt x="1286" y="816"/>
                </a:lnTo>
                <a:lnTo>
                  <a:pt x="1294" y="820"/>
                </a:lnTo>
                <a:lnTo>
                  <a:pt x="1301" y="823"/>
                </a:lnTo>
                <a:lnTo>
                  <a:pt x="1309" y="827"/>
                </a:lnTo>
                <a:lnTo>
                  <a:pt x="1315" y="831"/>
                </a:lnTo>
                <a:lnTo>
                  <a:pt x="1322" y="835"/>
                </a:lnTo>
                <a:lnTo>
                  <a:pt x="1328" y="837"/>
                </a:lnTo>
                <a:lnTo>
                  <a:pt x="1332" y="841"/>
                </a:lnTo>
                <a:lnTo>
                  <a:pt x="1338" y="845"/>
                </a:lnTo>
                <a:lnTo>
                  <a:pt x="1342" y="847"/>
                </a:lnTo>
                <a:lnTo>
                  <a:pt x="1346" y="850"/>
                </a:lnTo>
                <a:lnTo>
                  <a:pt x="1349" y="852"/>
                </a:lnTo>
                <a:lnTo>
                  <a:pt x="1351" y="856"/>
                </a:lnTo>
                <a:lnTo>
                  <a:pt x="1353" y="858"/>
                </a:lnTo>
                <a:lnTo>
                  <a:pt x="1355" y="860"/>
                </a:lnTo>
                <a:lnTo>
                  <a:pt x="1357" y="864"/>
                </a:lnTo>
                <a:lnTo>
                  <a:pt x="1357" y="866"/>
                </a:lnTo>
                <a:lnTo>
                  <a:pt x="1359" y="868"/>
                </a:lnTo>
                <a:lnTo>
                  <a:pt x="1357" y="870"/>
                </a:lnTo>
                <a:lnTo>
                  <a:pt x="1355" y="871"/>
                </a:lnTo>
                <a:lnTo>
                  <a:pt x="1351" y="875"/>
                </a:lnTo>
                <a:lnTo>
                  <a:pt x="1344" y="877"/>
                </a:lnTo>
                <a:lnTo>
                  <a:pt x="1338" y="879"/>
                </a:lnTo>
                <a:lnTo>
                  <a:pt x="1328" y="881"/>
                </a:lnTo>
                <a:lnTo>
                  <a:pt x="1317" y="883"/>
                </a:lnTo>
                <a:lnTo>
                  <a:pt x="1305" y="887"/>
                </a:lnTo>
                <a:lnTo>
                  <a:pt x="1290" y="889"/>
                </a:lnTo>
                <a:lnTo>
                  <a:pt x="1275" y="891"/>
                </a:lnTo>
                <a:lnTo>
                  <a:pt x="1257" y="893"/>
                </a:lnTo>
                <a:lnTo>
                  <a:pt x="1240" y="896"/>
                </a:lnTo>
                <a:lnTo>
                  <a:pt x="1219" y="898"/>
                </a:lnTo>
                <a:lnTo>
                  <a:pt x="1198" y="900"/>
                </a:lnTo>
                <a:lnTo>
                  <a:pt x="1175" y="902"/>
                </a:lnTo>
                <a:lnTo>
                  <a:pt x="1150" y="906"/>
                </a:lnTo>
                <a:lnTo>
                  <a:pt x="1123" y="908"/>
                </a:lnTo>
                <a:lnTo>
                  <a:pt x="1098" y="910"/>
                </a:lnTo>
                <a:lnTo>
                  <a:pt x="1073" y="912"/>
                </a:lnTo>
                <a:lnTo>
                  <a:pt x="1048" y="912"/>
                </a:lnTo>
                <a:lnTo>
                  <a:pt x="1027" y="914"/>
                </a:lnTo>
                <a:lnTo>
                  <a:pt x="1006" y="916"/>
                </a:lnTo>
                <a:lnTo>
                  <a:pt x="985" y="916"/>
                </a:lnTo>
                <a:lnTo>
                  <a:pt x="965" y="918"/>
                </a:lnTo>
                <a:lnTo>
                  <a:pt x="948" y="918"/>
                </a:lnTo>
                <a:lnTo>
                  <a:pt x="931" y="919"/>
                </a:lnTo>
                <a:lnTo>
                  <a:pt x="916" y="921"/>
                </a:lnTo>
                <a:lnTo>
                  <a:pt x="902" y="921"/>
                </a:lnTo>
                <a:lnTo>
                  <a:pt x="889" y="923"/>
                </a:lnTo>
                <a:lnTo>
                  <a:pt x="877" y="925"/>
                </a:lnTo>
                <a:lnTo>
                  <a:pt x="866" y="927"/>
                </a:lnTo>
                <a:lnTo>
                  <a:pt x="856" y="929"/>
                </a:lnTo>
                <a:lnTo>
                  <a:pt x="845" y="929"/>
                </a:lnTo>
                <a:lnTo>
                  <a:pt x="833" y="927"/>
                </a:lnTo>
                <a:lnTo>
                  <a:pt x="822" y="925"/>
                </a:lnTo>
                <a:lnTo>
                  <a:pt x="810" y="923"/>
                </a:lnTo>
                <a:lnTo>
                  <a:pt x="798" y="919"/>
                </a:lnTo>
                <a:lnTo>
                  <a:pt x="787" y="916"/>
                </a:lnTo>
                <a:lnTo>
                  <a:pt x="775" y="910"/>
                </a:lnTo>
                <a:lnTo>
                  <a:pt x="764" y="904"/>
                </a:lnTo>
                <a:lnTo>
                  <a:pt x="752" y="896"/>
                </a:lnTo>
                <a:lnTo>
                  <a:pt x="741" y="889"/>
                </a:lnTo>
                <a:lnTo>
                  <a:pt x="729" y="881"/>
                </a:lnTo>
                <a:lnTo>
                  <a:pt x="718" y="873"/>
                </a:lnTo>
                <a:lnTo>
                  <a:pt x="706" y="864"/>
                </a:lnTo>
                <a:lnTo>
                  <a:pt x="695" y="852"/>
                </a:lnTo>
                <a:lnTo>
                  <a:pt x="683" y="843"/>
                </a:lnTo>
                <a:lnTo>
                  <a:pt x="672" y="831"/>
                </a:lnTo>
                <a:lnTo>
                  <a:pt x="666" y="823"/>
                </a:lnTo>
                <a:lnTo>
                  <a:pt x="658" y="816"/>
                </a:lnTo>
                <a:lnTo>
                  <a:pt x="651" y="808"/>
                </a:lnTo>
                <a:lnTo>
                  <a:pt x="641" y="799"/>
                </a:lnTo>
                <a:lnTo>
                  <a:pt x="632" y="787"/>
                </a:lnTo>
                <a:lnTo>
                  <a:pt x="620" y="775"/>
                </a:lnTo>
                <a:lnTo>
                  <a:pt x="608" y="762"/>
                </a:lnTo>
                <a:lnTo>
                  <a:pt x="595" y="747"/>
                </a:lnTo>
                <a:lnTo>
                  <a:pt x="580" y="731"/>
                </a:lnTo>
                <a:lnTo>
                  <a:pt x="564" y="716"/>
                </a:lnTo>
                <a:lnTo>
                  <a:pt x="549" y="697"/>
                </a:lnTo>
                <a:lnTo>
                  <a:pt x="532" y="678"/>
                </a:lnTo>
                <a:lnTo>
                  <a:pt x="514" y="658"/>
                </a:lnTo>
                <a:lnTo>
                  <a:pt x="495" y="637"/>
                </a:lnTo>
                <a:lnTo>
                  <a:pt x="474" y="614"/>
                </a:lnTo>
                <a:lnTo>
                  <a:pt x="453" y="591"/>
                </a:lnTo>
                <a:lnTo>
                  <a:pt x="432" y="566"/>
                </a:lnTo>
                <a:lnTo>
                  <a:pt x="409" y="541"/>
                </a:lnTo>
                <a:lnTo>
                  <a:pt x="386" y="514"/>
                </a:lnTo>
                <a:lnTo>
                  <a:pt x="361" y="486"/>
                </a:lnTo>
                <a:lnTo>
                  <a:pt x="336" y="457"/>
                </a:lnTo>
                <a:lnTo>
                  <a:pt x="309" y="426"/>
                </a:lnTo>
                <a:lnTo>
                  <a:pt x="282" y="395"/>
                </a:lnTo>
                <a:lnTo>
                  <a:pt x="253" y="363"/>
                </a:lnTo>
                <a:lnTo>
                  <a:pt x="225" y="330"/>
                </a:lnTo>
                <a:lnTo>
                  <a:pt x="196" y="296"/>
                </a:lnTo>
                <a:lnTo>
                  <a:pt x="165" y="259"/>
                </a:lnTo>
                <a:lnTo>
                  <a:pt x="132" y="221"/>
                </a:lnTo>
                <a:lnTo>
                  <a:pt x="102" y="184"/>
                </a:lnTo>
                <a:lnTo>
                  <a:pt x="67" y="144"/>
                </a:lnTo>
                <a:lnTo>
                  <a:pt x="35" y="104"/>
                </a:lnTo>
                <a:lnTo>
                  <a:pt x="0" y="61"/>
                </a:lnTo>
                <a:lnTo>
                  <a:pt x="17" y="31"/>
                </a:lnTo>
                <a:lnTo>
                  <a:pt x="36" y="0"/>
                </a:lnTo>
                <a:lnTo>
                  <a:pt x="86" y="46"/>
                </a:lnTo>
                <a:lnTo>
                  <a:pt x="136" y="90"/>
                </a:lnTo>
                <a:lnTo>
                  <a:pt x="186" y="132"/>
                </a:lnTo>
                <a:lnTo>
                  <a:pt x="232" y="173"/>
                </a:lnTo>
                <a:lnTo>
                  <a:pt x="276" y="211"/>
                </a:lnTo>
                <a:lnTo>
                  <a:pt x="321" y="248"/>
                </a:lnTo>
                <a:lnTo>
                  <a:pt x="363" y="282"/>
                </a:lnTo>
                <a:lnTo>
                  <a:pt x="403" y="315"/>
                </a:lnTo>
                <a:lnTo>
                  <a:pt x="441" y="346"/>
                </a:lnTo>
                <a:lnTo>
                  <a:pt x="478" y="374"/>
                </a:lnTo>
                <a:lnTo>
                  <a:pt x="513" y="401"/>
                </a:lnTo>
                <a:lnTo>
                  <a:pt x="545" y="426"/>
                </a:lnTo>
                <a:lnTo>
                  <a:pt x="578" y="449"/>
                </a:lnTo>
                <a:lnTo>
                  <a:pt x="607" y="472"/>
                </a:lnTo>
                <a:lnTo>
                  <a:pt x="633" y="491"/>
                </a:lnTo>
                <a:lnTo>
                  <a:pt x="660" y="509"/>
                </a:lnTo>
                <a:lnTo>
                  <a:pt x="712" y="541"/>
                </a:lnTo>
                <a:lnTo>
                  <a:pt x="764" y="574"/>
                </a:lnTo>
                <a:lnTo>
                  <a:pt x="816" y="605"/>
                </a:lnTo>
                <a:lnTo>
                  <a:pt x="871" y="635"/>
                </a:lnTo>
                <a:lnTo>
                  <a:pt x="927" y="664"/>
                </a:lnTo>
                <a:lnTo>
                  <a:pt x="985" y="693"/>
                </a:lnTo>
                <a:lnTo>
                  <a:pt x="1042" y="720"/>
                </a:lnTo>
                <a:lnTo>
                  <a:pt x="1071" y="731"/>
                </a:lnTo>
                <a:lnTo>
                  <a:pt x="1102" y="7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80"/>
          <p:cNvSpPr/>
          <p:nvPr/>
        </p:nvSpPr>
        <p:spPr>
          <a:xfrm>
            <a:off x="5938920" y="3646440"/>
            <a:ext cx="876240" cy="890640"/>
          </a:xfrm>
          <a:custGeom>
            <a:avLst/>
            <a:gdLst/>
            <a:ahLst/>
            <a:rect l="l" t="t" r="r" b="b"/>
            <a:pathLst>
              <a:path w="1103" h="1121">
                <a:moveTo>
                  <a:pt x="122" y="1113"/>
                </a:moveTo>
                <a:lnTo>
                  <a:pt x="105" y="1115"/>
                </a:lnTo>
                <a:lnTo>
                  <a:pt x="92" y="1117"/>
                </a:lnTo>
                <a:lnTo>
                  <a:pt x="78" y="1117"/>
                </a:lnTo>
                <a:lnTo>
                  <a:pt x="67" y="1119"/>
                </a:lnTo>
                <a:lnTo>
                  <a:pt x="55" y="1121"/>
                </a:lnTo>
                <a:lnTo>
                  <a:pt x="46" y="1121"/>
                </a:lnTo>
                <a:lnTo>
                  <a:pt x="36" y="1121"/>
                </a:lnTo>
                <a:lnTo>
                  <a:pt x="28" y="1121"/>
                </a:lnTo>
                <a:lnTo>
                  <a:pt x="21" y="1119"/>
                </a:lnTo>
                <a:lnTo>
                  <a:pt x="15" y="1119"/>
                </a:lnTo>
                <a:lnTo>
                  <a:pt x="9" y="1117"/>
                </a:lnTo>
                <a:lnTo>
                  <a:pt x="5" y="1113"/>
                </a:lnTo>
                <a:lnTo>
                  <a:pt x="3" y="1111"/>
                </a:lnTo>
                <a:lnTo>
                  <a:pt x="0" y="1107"/>
                </a:lnTo>
                <a:lnTo>
                  <a:pt x="0" y="1103"/>
                </a:lnTo>
                <a:lnTo>
                  <a:pt x="0" y="1100"/>
                </a:lnTo>
                <a:lnTo>
                  <a:pt x="0" y="1096"/>
                </a:lnTo>
                <a:lnTo>
                  <a:pt x="2" y="1090"/>
                </a:lnTo>
                <a:lnTo>
                  <a:pt x="5" y="1084"/>
                </a:lnTo>
                <a:lnTo>
                  <a:pt x="11" y="1078"/>
                </a:lnTo>
                <a:lnTo>
                  <a:pt x="17" y="1073"/>
                </a:lnTo>
                <a:lnTo>
                  <a:pt x="25" y="1067"/>
                </a:lnTo>
                <a:lnTo>
                  <a:pt x="34" y="1059"/>
                </a:lnTo>
                <a:lnTo>
                  <a:pt x="46" y="1054"/>
                </a:lnTo>
                <a:lnTo>
                  <a:pt x="57" y="1046"/>
                </a:lnTo>
                <a:lnTo>
                  <a:pt x="71" y="1038"/>
                </a:lnTo>
                <a:lnTo>
                  <a:pt x="86" y="1030"/>
                </a:lnTo>
                <a:lnTo>
                  <a:pt x="103" y="1023"/>
                </a:lnTo>
                <a:lnTo>
                  <a:pt x="121" y="1015"/>
                </a:lnTo>
                <a:lnTo>
                  <a:pt x="140" y="1006"/>
                </a:lnTo>
                <a:lnTo>
                  <a:pt x="161" y="998"/>
                </a:lnTo>
                <a:lnTo>
                  <a:pt x="182" y="988"/>
                </a:lnTo>
                <a:lnTo>
                  <a:pt x="205" y="979"/>
                </a:lnTo>
                <a:lnTo>
                  <a:pt x="228" y="967"/>
                </a:lnTo>
                <a:lnTo>
                  <a:pt x="251" y="958"/>
                </a:lnTo>
                <a:lnTo>
                  <a:pt x="274" y="946"/>
                </a:lnTo>
                <a:lnTo>
                  <a:pt x="297" y="935"/>
                </a:lnTo>
                <a:lnTo>
                  <a:pt x="320" y="921"/>
                </a:lnTo>
                <a:lnTo>
                  <a:pt x="343" y="908"/>
                </a:lnTo>
                <a:lnTo>
                  <a:pt x="366" y="894"/>
                </a:lnTo>
                <a:lnTo>
                  <a:pt x="389" y="879"/>
                </a:lnTo>
                <a:lnTo>
                  <a:pt x="412" y="863"/>
                </a:lnTo>
                <a:lnTo>
                  <a:pt x="435" y="846"/>
                </a:lnTo>
                <a:lnTo>
                  <a:pt x="458" y="829"/>
                </a:lnTo>
                <a:lnTo>
                  <a:pt x="481" y="812"/>
                </a:lnTo>
                <a:lnTo>
                  <a:pt x="504" y="792"/>
                </a:lnTo>
                <a:lnTo>
                  <a:pt x="527" y="773"/>
                </a:lnTo>
                <a:lnTo>
                  <a:pt x="551" y="752"/>
                </a:lnTo>
                <a:lnTo>
                  <a:pt x="572" y="733"/>
                </a:lnTo>
                <a:lnTo>
                  <a:pt x="593" y="714"/>
                </a:lnTo>
                <a:lnTo>
                  <a:pt x="614" y="696"/>
                </a:lnTo>
                <a:lnTo>
                  <a:pt x="635" y="677"/>
                </a:lnTo>
                <a:lnTo>
                  <a:pt x="654" y="658"/>
                </a:lnTo>
                <a:lnTo>
                  <a:pt x="671" y="639"/>
                </a:lnTo>
                <a:lnTo>
                  <a:pt x="689" y="622"/>
                </a:lnTo>
                <a:lnTo>
                  <a:pt x="706" y="602"/>
                </a:lnTo>
                <a:lnTo>
                  <a:pt x="721" y="583"/>
                </a:lnTo>
                <a:lnTo>
                  <a:pt x="737" y="564"/>
                </a:lnTo>
                <a:lnTo>
                  <a:pt x="750" y="543"/>
                </a:lnTo>
                <a:lnTo>
                  <a:pt x="764" y="524"/>
                </a:lnTo>
                <a:lnTo>
                  <a:pt x="775" y="505"/>
                </a:lnTo>
                <a:lnTo>
                  <a:pt x="787" y="483"/>
                </a:lnTo>
                <a:lnTo>
                  <a:pt x="798" y="462"/>
                </a:lnTo>
                <a:lnTo>
                  <a:pt x="808" y="443"/>
                </a:lnTo>
                <a:lnTo>
                  <a:pt x="815" y="424"/>
                </a:lnTo>
                <a:lnTo>
                  <a:pt x="823" y="407"/>
                </a:lnTo>
                <a:lnTo>
                  <a:pt x="831" y="389"/>
                </a:lnTo>
                <a:lnTo>
                  <a:pt x="838" y="372"/>
                </a:lnTo>
                <a:lnTo>
                  <a:pt x="846" y="357"/>
                </a:lnTo>
                <a:lnTo>
                  <a:pt x="852" y="341"/>
                </a:lnTo>
                <a:lnTo>
                  <a:pt x="863" y="311"/>
                </a:lnTo>
                <a:lnTo>
                  <a:pt x="873" y="282"/>
                </a:lnTo>
                <a:lnTo>
                  <a:pt x="881" y="255"/>
                </a:lnTo>
                <a:lnTo>
                  <a:pt x="888" y="230"/>
                </a:lnTo>
                <a:lnTo>
                  <a:pt x="892" y="207"/>
                </a:lnTo>
                <a:lnTo>
                  <a:pt x="894" y="196"/>
                </a:lnTo>
                <a:lnTo>
                  <a:pt x="896" y="184"/>
                </a:lnTo>
                <a:lnTo>
                  <a:pt x="898" y="174"/>
                </a:lnTo>
                <a:lnTo>
                  <a:pt x="898" y="165"/>
                </a:lnTo>
                <a:lnTo>
                  <a:pt x="898" y="146"/>
                </a:lnTo>
                <a:lnTo>
                  <a:pt x="896" y="128"/>
                </a:lnTo>
                <a:lnTo>
                  <a:pt x="892" y="113"/>
                </a:lnTo>
                <a:lnTo>
                  <a:pt x="888" y="100"/>
                </a:lnTo>
                <a:lnTo>
                  <a:pt x="884" y="84"/>
                </a:lnTo>
                <a:lnTo>
                  <a:pt x="881" y="71"/>
                </a:lnTo>
                <a:lnTo>
                  <a:pt x="877" y="65"/>
                </a:lnTo>
                <a:lnTo>
                  <a:pt x="873" y="61"/>
                </a:lnTo>
                <a:lnTo>
                  <a:pt x="869" y="57"/>
                </a:lnTo>
                <a:lnTo>
                  <a:pt x="867" y="52"/>
                </a:lnTo>
                <a:lnTo>
                  <a:pt x="865" y="48"/>
                </a:lnTo>
                <a:lnTo>
                  <a:pt x="863" y="44"/>
                </a:lnTo>
                <a:lnTo>
                  <a:pt x="861" y="34"/>
                </a:lnTo>
                <a:lnTo>
                  <a:pt x="860" y="27"/>
                </a:lnTo>
                <a:lnTo>
                  <a:pt x="861" y="19"/>
                </a:lnTo>
                <a:lnTo>
                  <a:pt x="863" y="13"/>
                </a:lnTo>
                <a:lnTo>
                  <a:pt x="869" y="9"/>
                </a:lnTo>
                <a:lnTo>
                  <a:pt x="871" y="5"/>
                </a:lnTo>
                <a:lnTo>
                  <a:pt x="875" y="4"/>
                </a:lnTo>
                <a:lnTo>
                  <a:pt x="879" y="4"/>
                </a:lnTo>
                <a:lnTo>
                  <a:pt x="884" y="2"/>
                </a:lnTo>
                <a:lnTo>
                  <a:pt x="890" y="0"/>
                </a:lnTo>
                <a:lnTo>
                  <a:pt x="896" y="0"/>
                </a:lnTo>
                <a:lnTo>
                  <a:pt x="904" y="0"/>
                </a:lnTo>
                <a:lnTo>
                  <a:pt x="911" y="0"/>
                </a:lnTo>
                <a:lnTo>
                  <a:pt x="919" y="2"/>
                </a:lnTo>
                <a:lnTo>
                  <a:pt x="929" y="2"/>
                </a:lnTo>
                <a:lnTo>
                  <a:pt x="938" y="4"/>
                </a:lnTo>
                <a:lnTo>
                  <a:pt x="948" y="7"/>
                </a:lnTo>
                <a:lnTo>
                  <a:pt x="957" y="9"/>
                </a:lnTo>
                <a:lnTo>
                  <a:pt x="969" y="13"/>
                </a:lnTo>
                <a:lnTo>
                  <a:pt x="979" y="17"/>
                </a:lnTo>
                <a:lnTo>
                  <a:pt x="990" y="21"/>
                </a:lnTo>
                <a:lnTo>
                  <a:pt x="1002" y="25"/>
                </a:lnTo>
                <a:lnTo>
                  <a:pt x="1013" y="30"/>
                </a:lnTo>
                <a:lnTo>
                  <a:pt x="1023" y="34"/>
                </a:lnTo>
                <a:lnTo>
                  <a:pt x="1032" y="40"/>
                </a:lnTo>
                <a:lnTo>
                  <a:pt x="1040" y="44"/>
                </a:lnTo>
                <a:lnTo>
                  <a:pt x="1050" y="50"/>
                </a:lnTo>
                <a:lnTo>
                  <a:pt x="1057" y="55"/>
                </a:lnTo>
                <a:lnTo>
                  <a:pt x="1065" y="59"/>
                </a:lnTo>
                <a:lnTo>
                  <a:pt x="1071" y="65"/>
                </a:lnTo>
                <a:lnTo>
                  <a:pt x="1076" y="71"/>
                </a:lnTo>
                <a:lnTo>
                  <a:pt x="1082" y="76"/>
                </a:lnTo>
                <a:lnTo>
                  <a:pt x="1088" y="82"/>
                </a:lnTo>
                <a:lnTo>
                  <a:pt x="1092" y="88"/>
                </a:lnTo>
                <a:lnTo>
                  <a:pt x="1096" y="94"/>
                </a:lnTo>
                <a:lnTo>
                  <a:pt x="1098" y="101"/>
                </a:lnTo>
                <a:lnTo>
                  <a:pt x="1101" y="107"/>
                </a:lnTo>
                <a:lnTo>
                  <a:pt x="1103" y="115"/>
                </a:lnTo>
                <a:lnTo>
                  <a:pt x="1103" y="124"/>
                </a:lnTo>
                <a:lnTo>
                  <a:pt x="1103" y="136"/>
                </a:lnTo>
                <a:lnTo>
                  <a:pt x="1101" y="148"/>
                </a:lnTo>
                <a:lnTo>
                  <a:pt x="1098" y="161"/>
                </a:lnTo>
                <a:lnTo>
                  <a:pt x="1094" y="176"/>
                </a:lnTo>
                <a:lnTo>
                  <a:pt x="1090" y="194"/>
                </a:lnTo>
                <a:lnTo>
                  <a:pt x="1084" y="211"/>
                </a:lnTo>
                <a:lnTo>
                  <a:pt x="1076" y="232"/>
                </a:lnTo>
                <a:lnTo>
                  <a:pt x="1069" y="253"/>
                </a:lnTo>
                <a:lnTo>
                  <a:pt x="1059" y="276"/>
                </a:lnTo>
                <a:lnTo>
                  <a:pt x="1050" y="301"/>
                </a:lnTo>
                <a:lnTo>
                  <a:pt x="1040" y="328"/>
                </a:lnTo>
                <a:lnTo>
                  <a:pt x="1028" y="357"/>
                </a:lnTo>
                <a:lnTo>
                  <a:pt x="1015" y="386"/>
                </a:lnTo>
                <a:lnTo>
                  <a:pt x="1003" y="418"/>
                </a:lnTo>
                <a:lnTo>
                  <a:pt x="988" y="449"/>
                </a:lnTo>
                <a:lnTo>
                  <a:pt x="975" y="482"/>
                </a:lnTo>
                <a:lnTo>
                  <a:pt x="961" y="510"/>
                </a:lnTo>
                <a:lnTo>
                  <a:pt x="946" y="539"/>
                </a:lnTo>
                <a:lnTo>
                  <a:pt x="931" y="566"/>
                </a:lnTo>
                <a:lnTo>
                  <a:pt x="915" y="593"/>
                </a:lnTo>
                <a:lnTo>
                  <a:pt x="898" y="618"/>
                </a:lnTo>
                <a:lnTo>
                  <a:pt x="883" y="643"/>
                </a:lnTo>
                <a:lnTo>
                  <a:pt x="865" y="666"/>
                </a:lnTo>
                <a:lnTo>
                  <a:pt x="848" y="687"/>
                </a:lnTo>
                <a:lnTo>
                  <a:pt x="831" y="710"/>
                </a:lnTo>
                <a:lnTo>
                  <a:pt x="812" y="729"/>
                </a:lnTo>
                <a:lnTo>
                  <a:pt x="792" y="748"/>
                </a:lnTo>
                <a:lnTo>
                  <a:pt x="773" y="768"/>
                </a:lnTo>
                <a:lnTo>
                  <a:pt x="754" y="785"/>
                </a:lnTo>
                <a:lnTo>
                  <a:pt x="733" y="802"/>
                </a:lnTo>
                <a:lnTo>
                  <a:pt x="714" y="821"/>
                </a:lnTo>
                <a:lnTo>
                  <a:pt x="693" y="839"/>
                </a:lnTo>
                <a:lnTo>
                  <a:pt x="673" y="854"/>
                </a:lnTo>
                <a:lnTo>
                  <a:pt x="652" y="871"/>
                </a:lnTo>
                <a:lnTo>
                  <a:pt x="633" y="885"/>
                </a:lnTo>
                <a:lnTo>
                  <a:pt x="614" y="900"/>
                </a:lnTo>
                <a:lnTo>
                  <a:pt x="595" y="913"/>
                </a:lnTo>
                <a:lnTo>
                  <a:pt x="575" y="927"/>
                </a:lnTo>
                <a:lnTo>
                  <a:pt x="554" y="938"/>
                </a:lnTo>
                <a:lnTo>
                  <a:pt x="535" y="950"/>
                </a:lnTo>
                <a:lnTo>
                  <a:pt x="516" y="961"/>
                </a:lnTo>
                <a:lnTo>
                  <a:pt x="497" y="973"/>
                </a:lnTo>
                <a:lnTo>
                  <a:pt x="456" y="994"/>
                </a:lnTo>
                <a:lnTo>
                  <a:pt x="416" y="1013"/>
                </a:lnTo>
                <a:lnTo>
                  <a:pt x="374" y="1027"/>
                </a:lnTo>
                <a:lnTo>
                  <a:pt x="336" y="1040"/>
                </a:lnTo>
                <a:lnTo>
                  <a:pt x="297" y="1054"/>
                </a:lnTo>
                <a:lnTo>
                  <a:pt x="259" y="1067"/>
                </a:lnTo>
                <a:lnTo>
                  <a:pt x="222" y="1080"/>
                </a:lnTo>
                <a:lnTo>
                  <a:pt x="188" y="1092"/>
                </a:lnTo>
                <a:lnTo>
                  <a:pt x="155" y="1101"/>
                </a:lnTo>
                <a:lnTo>
                  <a:pt x="122" y="11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81"/>
          <p:cNvSpPr/>
          <p:nvPr/>
        </p:nvSpPr>
        <p:spPr>
          <a:xfrm>
            <a:off x="5870520" y="3654360"/>
            <a:ext cx="1844640" cy="333360"/>
          </a:xfrm>
          <a:custGeom>
            <a:avLst/>
            <a:gdLst/>
            <a:ahLst/>
            <a:rect l="l" t="t" r="r" b="b"/>
            <a:pathLst>
              <a:path w="2325" h="421">
                <a:moveTo>
                  <a:pt x="1261" y="123"/>
                </a:moveTo>
                <a:lnTo>
                  <a:pt x="1309" y="115"/>
                </a:lnTo>
                <a:lnTo>
                  <a:pt x="1357" y="108"/>
                </a:lnTo>
                <a:lnTo>
                  <a:pt x="1403" y="100"/>
                </a:lnTo>
                <a:lnTo>
                  <a:pt x="1447" y="92"/>
                </a:lnTo>
                <a:lnTo>
                  <a:pt x="1492" y="85"/>
                </a:lnTo>
                <a:lnTo>
                  <a:pt x="1532" y="79"/>
                </a:lnTo>
                <a:lnTo>
                  <a:pt x="1572" y="73"/>
                </a:lnTo>
                <a:lnTo>
                  <a:pt x="1613" y="67"/>
                </a:lnTo>
                <a:lnTo>
                  <a:pt x="1651" y="62"/>
                </a:lnTo>
                <a:lnTo>
                  <a:pt x="1687" y="56"/>
                </a:lnTo>
                <a:lnTo>
                  <a:pt x="1722" y="50"/>
                </a:lnTo>
                <a:lnTo>
                  <a:pt x="1755" y="44"/>
                </a:lnTo>
                <a:lnTo>
                  <a:pt x="1787" y="41"/>
                </a:lnTo>
                <a:lnTo>
                  <a:pt x="1818" y="37"/>
                </a:lnTo>
                <a:lnTo>
                  <a:pt x="1849" y="33"/>
                </a:lnTo>
                <a:lnTo>
                  <a:pt x="1876" y="29"/>
                </a:lnTo>
                <a:lnTo>
                  <a:pt x="1902" y="25"/>
                </a:lnTo>
                <a:lnTo>
                  <a:pt x="1929" y="21"/>
                </a:lnTo>
                <a:lnTo>
                  <a:pt x="1952" y="18"/>
                </a:lnTo>
                <a:lnTo>
                  <a:pt x="1975" y="16"/>
                </a:lnTo>
                <a:lnTo>
                  <a:pt x="1996" y="12"/>
                </a:lnTo>
                <a:lnTo>
                  <a:pt x="2018" y="10"/>
                </a:lnTo>
                <a:lnTo>
                  <a:pt x="2037" y="8"/>
                </a:lnTo>
                <a:lnTo>
                  <a:pt x="2054" y="6"/>
                </a:lnTo>
                <a:lnTo>
                  <a:pt x="2069" y="4"/>
                </a:lnTo>
                <a:lnTo>
                  <a:pt x="2083" y="4"/>
                </a:lnTo>
                <a:lnTo>
                  <a:pt x="2096" y="2"/>
                </a:lnTo>
                <a:lnTo>
                  <a:pt x="2110" y="0"/>
                </a:lnTo>
                <a:lnTo>
                  <a:pt x="2119" y="0"/>
                </a:lnTo>
                <a:lnTo>
                  <a:pt x="2129" y="0"/>
                </a:lnTo>
                <a:lnTo>
                  <a:pt x="2137" y="0"/>
                </a:lnTo>
                <a:lnTo>
                  <a:pt x="2142" y="0"/>
                </a:lnTo>
                <a:lnTo>
                  <a:pt x="2152" y="0"/>
                </a:lnTo>
                <a:lnTo>
                  <a:pt x="2162" y="0"/>
                </a:lnTo>
                <a:lnTo>
                  <a:pt x="2171" y="2"/>
                </a:lnTo>
                <a:lnTo>
                  <a:pt x="2179" y="4"/>
                </a:lnTo>
                <a:lnTo>
                  <a:pt x="2188" y="6"/>
                </a:lnTo>
                <a:lnTo>
                  <a:pt x="2198" y="10"/>
                </a:lnTo>
                <a:lnTo>
                  <a:pt x="2208" y="14"/>
                </a:lnTo>
                <a:lnTo>
                  <a:pt x="2217" y="18"/>
                </a:lnTo>
                <a:lnTo>
                  <a:pt x="2225" y="23"/>
                </a:lnTo>
                <a:lnTo>
                  <a:pt x="2234" y="29"/>
                </a:lnTo>
                <a:lnTo>
                  <a:pt x="2244" y="35"/>
                </a:lnTo>
                <a:lnTo>
                  <a:pt x="2254" y="41"/>
                </a:lnTo>
                <a:lnTo>
                  <a:pt x="2263" y="48"/>
                </a:lnTo>
                <a:lnTo>
                  <a:pt x="2271" y="56"/>
                </a:lnTo>
                <a:lnTo>
                  <a:pt x="2281" y="66"/>
                </a:lnTo>
                <a:lnTo>
                  <a:pt x="2290" y="73"/>
                </a:lnTo>
                <a:lnTo>
                  <a:pt x="2296" y="85"/>
                </a:lnTo>
                <a:lnTo>
                  <a:pt x="2302" y="96"/>
                </a:lnTo>
                <a:lnTo>
                  <a:pt x="2307" y="106"/>
                </a:lnTo>
                <a:lnTo>
                  <a:pt x="2311" y="114"/>
                </a:lnTo>
                <a:lnTo>
                  <a:pt x="2315" y="121"/>
                </a:lnTo>
                <a:lnTo>
                  <a:pt x="2319" y="129"/>
                </a:lnTo>
                <a:lnTo>
                  <a:pt x="2321" y="137"/>
                </a:lnTo>
                <a:lnTo>
                  <a:pt x="2323" y="142"/>
                </a:lnTo>
                <a:lnTo>
                  <a:pt x="2325" y="148"/>
                </a:lnTo>
                <a:lnTo>
                  <a:pt x="2323" y="152"/>
                </a:lnTo>
                <a:lnTo>
                  <a:pt x="2323" y="158"/>
                </a:lnTo>
                <a:lnTo>
                  <a:pt x="2321" y="162"/>
                </a:lnTo>
                <a:lnTo>
                  <a:pt x="2317" y="165"/>
                </a:lnTo>
                <a:lnTo>
                  <a:pt x="2313" y="167"/>
                </a:lnTo>
                <a:lnTo>
                  <a:pt x="2307" y="171"/>
                </a:lnTo>
                <a:lnTo>
                  <a:pt x="2302" y="173"/>
                </a:lnTo>
                <a:lnTo>
                  <a:pt x="2294" y="175"/>
                </a:lnTo>
                <a:lnTo>
                  <a:pt x="2286" y="177"/>
                </a:lnTo>
                <a:lnTo>
                  <a:pt x="2277" y="181"/>
                </a:lnTo>
                <a:lnTo>
                  <a:pt x="2265" y="183"/>
                </a:lnTo>
                <a:lnTo>
                  <a:pt x="2254" y="185"/>
                </a:lnTo>
                <a:lnTo>
                  <a:pt x="2240" y="187"/>
                </a:lnTo>
                <a:lnTo>
                  <a:pt x="2225" y="188"/>
                </a:lnTo>
                <a:lnTo>
                  <a:pt x="2210" y="190"/>
                </a:lnTo>
                <a:lnTo>
                  <a:pt x="2194" y="192"/>
                </a:lnTo>
                <a:lnTo>
                  <a:pt x="2175" y="192"/>
                </a:lnTo>
                <a:lnTo>
                  <a:pt x="2156" y="194"/>
                </a:lnTo>
                <a:lnTo>
                  <a:pt x="2137" y="196"/>
                </a:lnTo>
                <a:lnTo>
                  <a:pt x="2115" y="196"/>
                </a:lnTo>
                <a:lnTo>
                  <a:pt x="2092" y="196"/>
                </a:lnTo>
                <a:lnTo>
                  <a:pt x="2069" y="198"/>
                </a:lnTo>
                <a:lnTo>
                  <a:pt x="2044" y="198"/>
                </a:lnTo>
                <a:lnTo>
                  <a:pt x="2016" y="198"/>
                </a:lnTo>
                <a:lnTo>
                  <a:pt x="1987" y="198"/>
                </a:lnTo>
                <a:lnTo>
                  <a:pt x="1956" y="198"/>
                </a:lnTo>
                <a:lnTo>
                  <a:pt x="1925" y="198"/>
                </a:lnTo>
                <a:lnTo>
                  <a:pt x="1893" y="198"/>
                </a:lnTo>
                <a:lnTo>
                  <a:pt x="1860" y="198"/>
                </a:lnTo>
                <a:lnTo>
                  <a:pt x="1824" y="198"/>
                </a:lnTo>
                <a:lnTo>
                  <a:pt x="1789" y="200"/>
                </a:lnTo>
                <a:lnTo>
                  <a:pt x="1753" y="200"/>
                </a:lnTo>
                <a:lnTo>
                  <a:pt x="1714" y="200"/>
                </a:lnTo>
                <a:lnTo>
                  <a:pt x="1676" y="202"/>
                </a:lnTo>
                <a:lnTo>
                  <a:pt x="1638" y="204"/>
                </a:lnTo>
                <a:lnTo>
                  <a:pt x="1595" y="204"/>
                </a:lnTo>
                <a:lnTo>
                  <a:pt x="1555" y="206"/>
                </a:lnTo>
                <a:lnTo>
                  <a:pt x="1513" y="208"/>
                </a:lnTo>
                <a:lnTo>
                  <a:pt x="1469" y="210"/>
                </a:lnTo>
                <a:lnTo>
                  <a:pt x="1424" y="213"/>
                </a:lnTo>
                <a:lnTo>
                  <a:pt x="1380" y="215"/>
                </a:lnTo>
                <a:lnTo>
                  <a:pt x="1334" y="219"/>
                </a:lnTo>
                <a:lnTo>
                  <a:pt x="1288" y="225"/>
                </a:lnTo>
                <a:lnTo>
                  <a:pt x="1240" y="229"/>
                </a:lnTo>
                <a:lnTo>
                  <a:pt x="1192" y="234"/>
                </a:lnTo>
                <a:lnTo>
                  <a:pt x="1144" y="240"/>
                </a:lnTo>
                <a:lnTo>
                  <a:pt x="1094" y="248"/>
                </a:lnTo>
                <a:lnTo>
                  <a:pt x="1044" y="254"/>
                </a:lnTo>
                <a:lnTo>
                  <a:pt x="993" y="261"/>
                </a:lnTo>
                <a:lnTo>
                  <a:pt x="941" y="271"/>
                </a:lnTo>
                <a:lnTo>
                  <a:pt x="889" y="279"/>
                </a:lnTo>
                <a:lnTo>
                  <a:pt x="835" y="288"/>
                </a:lnTo>
                <a:lnTo>
                  <a:pt x="783" y="300"/>
                </a:lnTo>
                <a:lnTo>
                  <a:pt x="728" y="311"/>
                </a:lnTo>
                <a:lnTo>
                  <a:pt x="674" y="323"/>
                </a:lnTo>
                <a:lnTo>
                  <a:pt x="647" y="329"/>
                </a:lnTo>
                <a:lnTo>
                  <a:pt x="620" y="332"/>
                </a:lnTo>
                <a:lnTo>
                  <a:pt x="595" y="338"/>
                </a:lnTo>
                <a:lnTo>
                  <a:pt x="570" y="344"/>
                </a:lnTo>
                <a:lnTo>
                  <a:pt x="545" y="350"/>
                </a:lnTo>
                <a:lnTo>
                  <a:pt x="522" y="353"/>
                </a:lnTo>
                <a:lnTo>
                  <a:pt x="499" y="359"/>
                </a:lnTo>
                <a:lnTo>
                  <a:pt x="478" y="363"/>
                </a:lnTo>
                <a:lnTo>
                  <a:pt x="457" y="369"/>
                </a:lnTo>
                <a:lnTo>
                  <a:pt x="438" y="373"/>
                </a:lnTo>
                <a:lnTo>
                  <a:pt x="419" y="377"/>
                </a:lnTo>
                <a:lnTo>
                  <a:pt x="399" y="380"/>
                </a:lnTo>
                <a:lnTo>
                  <a:pt x="382" y="384"/>
                </a:lnTo>
                <a:lnTo>
                  <a:pt x="365" y="388"/>
                </a:lnTo>
                <a:lnTo>
                  <a:pt x="348" y="392"/>
                </a:lnTo>
                <a:lnTo>
                  <a:pt x="332" y="396"/>
                </a:lnTo>
                <a:lnTo>
                  <a:pt x="317" y="398"/>
                </a:lnTo>
                <a:lnTo>
                  <a:pt x="304" y="401"/>
                </a:lnTo>
                <a:lnTo>
                  <a:pt x="290" y="403"/>
                </a:lnTo>
                <a:lnTo>
                  <a:pt x="277" y="407"/>
                </a:lnTo>
                <a:lnTo>
                  <a:pt x="265" y="409"/>
                </a:lnTo>
                <a:lnTo>
                  <a:pt x="256" y="411"/>
                </a:lnTo>
                <a:lnTo>
                  <a:pt x="244" y="413"/>
                </a:lnTo>
                <a:lnTo>
                  <a:pt x="234" y="415"/>
                </a:lnTo>
                <a:lnTo>
                  <a:pt x="225" y="417"/>
                </a:lnTo>
                <a:lnTo>
                  <a:pt x="217" y="417"/>
                </a:lnTo>
                <a:lnTo>
                  <a:pt x="209" y="419"/>
                </a:lnTo>
                <a:lnTo>
                  <a:pt x="204" y="419"/>
                </a:lnTo>
                <a:lnTo>
                  <a:pt x="198" y="421"/>
                </a:lnTo>
                <a:lnTo>
                  <a:pt x="192" y="421"/>
                </a:lnTo>
                <a:lnTo>
                  <a:pt x="188" y="421"/>
                </a:lnTo>
                <a:lnTo>
                  <a:pt x="185" y="421"/>
                </a:lnTo>
                <a:lnTo>
                  <a:pt x="171" y="421"/>
                </a:lnTo>
                <a:lnTo>
                  <a:pt x="156" y="419"/>
                </a:lnTo>
                <a:lnTo>
                  <a:pt x="142" y="415"/>
                </a:lnTo>
                <a:lnTo>
                  <a:pt x="129" y="411"/>
                </a:lnTo>
                <a:lnTo>
                  <a:pt x="115" y="403"/>
                </a:lnTo>
                <a:lnTo>
                  <a:pt x="108" y="400"/>
                </a:lnTo>
                <a:lnTo>
                  <a:pt x="102" y="396"/>
                </a:lnTo>
                <a:lnTo>
                  <a:pt x="94" y="390"/>
                </a:lnTo>
                <a:lnTo>
                  <a:pt x="87" y="384"/>
                </a:lnTo>
                <a:lnTo>
                  <a:pt x="81" y="378"/>
                </a:lnTo>
                <a:lnTo>
                  <a:pt x="73" y="371"/>
                </a:lnTo>
                <a:lnTo>
                  <a:pt x="66" y="367"/>
                </a:lnTo>
                <a:lnTo>
                  <a:pt x="56" y="361"/>
                </a:lnTo>
                <a:lnTo>
                  <a:pt x="48" y="357"/>
                </a:lnTo>
                <a:lnTo>
                  <a:pt x="42" y="353"/>
                </a:lnTo>
                <a:lnTo>
                  <a:pt x="35" y="348"/>
                </a:lnTo>
                <a:lnTo>
                  <a:pt x="29" y="344"/>
                </a:lnTo>
                <a:lnTo>
                  <a:pt x="23" y="340"/>
                </a:lnTo>
                <a:lnTo>
                  <a:pt x="19" y="336"/>
                </a:lnTo>
                <a:lnTo>
                  <a:pt x="14" y="332"/>
                </a:lnTo>
                <a:lnTo>
                  <a:pt x="10" y="329"/>
                </a:lnTo>
                <a:lnTo>
                  <a:pt x="8" y="325"/>
                </a:lnTo>
                <a:lnTo>
                  <a:pt x="4" y="321"/>
                </a:lnTo>
                <a:lnTo>
                  <a:pt x="2" y="317"/>
                </a:lnTo>
                <a:lnTo>
                  <a:pt x="2" y="315"/>
                </a:lnTo>
                <a:lnTo>
                  <a:pt x="0" y="311"/>
                </a:lnTo>
                <a:lnTo>
                  <a:pt x="0" y="309"/>
                </a:lnTo>
                <a:lnTo>
                  <a:pt x="0" y="307"/>
                </a:lnTo>
                <a:lnTo>
                  <a:pt x="2" y="306"/>
                </a:lnTo>
                <a:lnTo>
                  <a:pt x="6" y="302"/>
                </a:lnTo>
                <a:lnTo>
                  <a:pt x="10" y="300"/>
                </a:lnTo>
                <a:lnTo>
                  <a:pt x="14" y="298"/>
                </a:lnTo>
                <a:lnTo>
                  <a:pt x="21" y="296"/>
                </a:lnTo>
                <a:lnTo>
                  <a:pt x="29" y="294"/>
                </a:lnTo>
                <a:lnTo>
                  <a:pt x="37" y="290"/>
                </a:lnTo>
                <a:lnTo>
                  <a:pt x="46" y="288"/>
                </a:lnTo>
                <a:lnTo>
                  <a:pt x="58" y="286"/>
                </a:lnTo>
                <a:lnTo>
                  <a:pt x="69" y="284"/>
                </a:lnTo>
                <a:lnTo>
                  <a:pt x="83" y="282"/>
                </a:lnTo>
                <a:lnTo>
                  <a:pt x="98" y="279"/>
                </a:lnTo>
                <a:lnTo>
                  <a:pt x="114" y="277"/>
                </a:lnTo>
                <a:lnTo>
                  <a:pt x="129" y="275"/>
                </a:lnTo>
                <a:lnTo>
                  <a:pt x="148" y="273"/>
                </a:lnTo>
                <a:lnTo>
                  <a:pt x="183" y="267"/>
                </a:lnTo>
                <a:lnTo>
                  <a:pt x="217" y="265"/>
                </a:lnTo>
                <a:lnTo>
                  <a:pt x="252" y="261"/>
                </a:lnTo>
                <a:lnTo>
                  <a:pt x="282" y="259"/>
                </a:lnTo>
                <a:lnTo>
                  <a:pt x="313" y="258"/>
                </a:lnTo>
                <a:lnTo>
                  <a:pt x="328" y="256"/>
                </a:lnTo>
                <a:lnTo>
                  <a:pt x="342" y="256"/>
                </a:lnTo>
                <a:lnTo>
                  <a:pt x="355" y="254"/>
                </a:lnTo>
                <a:lnTo>
                  <a:pt x="369" y="252"/>
                </a:lnTo>
                <a:lnTo>
                  <a:pt x="380" y="250"/>
                </a:lnTo>
                <a:lnTo>
                  <a:pt x="392" y="248"/>
                </a:lnTo>
                <a:lnTo>
                  <a:pt x="398" y="246"/>
                </a:lnTo>
                <a:lnTo>
                  <a:pt x="405" y="244"/>
                </a:lnTo>
                <a:lnTo>
                  <a:pt x="415" y="244"/>
                </a:lnTo>
                <a:lnTo>
                  <a:pt x="424" y="242"/>
                </a:lnTo>
                <a:lnTo>
                  <a:pt x="436" y="240"/>
                </a:lnTo>
                <a:lnTo>
                  <a:pt x="449" y="238"/>
                </a:lnTo>
                <a:lnTo>
                  <a:pt x="465" y="236"/>
                </a:lnTo>
                <a:lnTo>
                  <a:pt x="480" y="233"/>
                </a:lnTo>
                <a:lnTo>
                  <a:pt x="497" y="231"/>
                </a:lnTo>
                <a:lnTo>
                  <a:pt x="515" y="229"/>
                </a:lnTo>
                <a:lnTo>
                  <a:pt x="534" y="225"/>
                </a:lnTo>
                <a:lnTo>
                  <a:pt x="555" y="223"/>
                </a:lnTo>
                <a:lnTo>
                  <a:pt x="578" y="219"/>
                </a:lnTo>
                <a:lnTo>
                  <a:pt x="601" y="215"/>
                </a:lnTo>
                <a:lnTo>
                  <a:pt x="626" y="213"/>
                </a:lnTo>
                <a:lnTo>
                  <a:pt x="653" y="210"/>
                </a:lnTo>
                <a:lnTo>
                  <a:pt x="680" y="206"/>
                </a:lnTo>
                <a:lnTo>
                  <a:pt x="709" y="202"/>
                </a:lnTo>
                <a:lnTo>
                  <a:pt x="739" y="196"/>
                </a:lnTo>
                <a:lnTo>
                  <a:pt x="772" y="192"/>
                </a:lnTo>
                <a:lnTo>
                  <a:pt x="804" y="188"/>
                </a:lnTo>
                <a:lnTo>
                  <a:pt x="839" y="183"/>
                </a:lnTo>
                <a:lnTo>
                  <a:pt x="876" y="179"/>
                </a:lnTo>
                <a:lnTo>
                  <a:pt x="912" y="173"/>
                </a:lnTo>
                <a:lnTo>
                  <a:pt x="950" y="167"/>
                </a:lnTo>
                <a:lnTo>
                  <a:pt x="991" y="162"/>
                </a:lnTo>
                <a:lnTo>
                  <a:pt x="1033" y="156"/>
                </a:lnTo>
                <a:lnTo>
                  <a:pt x="1075" y="150"/>
                </a:lnTo>
                <a:lnTo>
                  <a:pt x="1119" y="144"/>
                </a:lnTo>
                <a:lnTo>
                  <a:pt x="1165" y="137"/>
                </a:lnTo>
                <a:lnTo>
                  <a:pt x="1213" y="131"/>
                </a:lnTo>
                <a:lnTo>
                  <a:pt x="1261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82"/>
          <p:cNvSpPr/>
          <p:nvPr/>
        </p:nvSpPr>
        <p:spPr>
          <a:xfrm>
            <a:off x="6707160" y="2846520"/>
            <a:ext cx="141480" cy="780840"/>
          </a:xfrm>
          <a:custGeom>
            <a:avLst/>
            <a:gdLst/>
            <a:ahLst/>
            <a:rect l="l" t="t" r="r" b="b"/>
            <a:pathLst>
              <a:path w="179" h="983">
                <a:moveTo>
                  <a:pt x="60" y="904"/>
                </a:moveTo>
                <a:lnTo>
                  <a:pt x="58" y="894"/>
                </a:lnTo>
                <a:lnTo>
                  <a:pt x="56" y="885"/>
                </a:lnTo>
                <a:lnTo>
                  <a:pt x="54" y="873"/>
                </a:lnTo>
                <a:lnTo>
                  <a:pt x="54" y="864"/>
                </a:lnTo>
                <a:lnTo>
                  <a:pt x="52" y="850"/>
                </a:lnTo>
                <a:lnTo>
                  <a:pt x="52" y="839"/>
                </a:lnTo>
                <a:lnTo>
                  <a:pt x="52" y="825"/>
                </a:lnTo>
                <a:lnTo>
                  <a:pt x="52" y="812"/>
                </a:lnTo>
                <a:lnTo>
                  <a:pt x="52" y="797"/>
                </a:lnTo>
                <a:lnTo>
                  <a:pt x="52" y="783"/>
                </a:lnTo>
                <a:lnTo>
                  <a:pt x="52" y="768"/>
                </a:lnTo>
                <a:lnTo>
                  <a:pt x="54" y="751"/>
                </a:lnTo>
                <a:lnTo>
                  <a:pt x="54" y="735"/>
                </a:lnTo>
                <a:lnTo>
                  <a:pt x="56" y="718"/>
                </a:lnTo>
                <a:lnTo>
                  <a:pt x="58" y="701"/>
                </a:lnTo>
                <a:lnTo>
                  <a:pt x="60" y="681"/>
                </a:lnTo>
                <a:lnTo>
                  <a:pt x="61" y="662"/>
                </a:lnTo>
                <a:lnTo>
                  <a:pt x="63" y="643"/>
                </a:lnTo>
                <a:lnTo>
                  <a:pt x="65" y="624"/>
                </a:lnTo>
                <a:lnTo>
                  <a:pt x="67" y="603"/>
                </a:lnTo>
                <a:lnTo>
                  <a:pt x="67" y="582"/>
                </a:lnTo>
                <a:lnTo>
                  <a:pt x="69" y="560"/>
                </a:lnTo>
                <a:lnTo>
                  <a:pt x="69" y="516"/>
                </a:lnTo>
                <a:lnTo>
                  <a:pt x="69" y="470"/>
                </a:lnTo>
                <a:lnTo>
                  <a:pt x="67" y="422"/>
                </a:lnTo>
                <a:lnTo>
                  <a:pt x="63" y="372"/>
                </a:lnTo>
                <a:lnTo>
                  <a:pt x="60" y="322"/>
                </a:lnTo>
                <a:lnTo>
                  <a:pt x="58" y="298"/>
                </a:lnTo>
                <a:lnTo>
                  <a:pt x="56" y="273"/>
                </a:lnTo>
                <a:lnTo>
                  <a:pt x="54" y="251"/>
                </a:lnTo>
                <a:lnTo>
                  <a:pt x="52" y="228"/>
                </a:lnTo>
                <a:lnTo>
                  <a:pt x="48" y="209"/>
                </a:lnTo>
                <a:lnTo>
                  <a:pt x="46" y="190"/>
                </a:lnTo>
                <a:lnTo>
                  <a:pt x="44" y="173"/>
                </a:lnTo>
                <a:lnTo>
                  <a:pt x="42" y="155"/>
                </a:lnTo>
                <a:lnTo>
                  <a:pt x="40" y="142"/>
                </a:lnTo>
                <a:lnTo>
                  <a:pt x="36" y="127"/>
                </a:lnTo>
                <a:lnTo>
                  <a:pt x="35" y="115"/>
                </a:lnTo>
                <a:lnTo>
                  <a:pt x="33" y="104"/>
                </a:lnTo>
                <a:lnTo>
                  <a:pt x="31" y="94"/>
                </a:lnTo>
                <a:lnTo>
                  <a:pt x="29" y="86"/>
                </a:lnTo>
                <a:lnTo>
                  <a:pt x="25" y="79"/>
                </a:lnTo>
                <a:lnTo>
                  <a:pt x="23" y="75"/>
                </a:lnTo>
                <a:lnTo>
                  <a:pt x="19" y="69"/>
                </a:lnTo>
                <a:lnTo>
                  <a:pt x="15" y="63"/>
                </a:lnTo>
                <a:lnTo>
                  <a:pt x="10" y="56"/>
                </a:lnTo>
                <a:lnTo>
                  <a:pt x="8" y="50"/>
                </a:lnTo>
                <a:lnTo>
                  <a:pt x="4" y="42"/>
                </a:lnTo>
                <a:lnTo>
                  <a:pt x="2" y="36"/>
                </a:lnTo>
                <a:lnTo>
                  <a:pt x="0" y="29"/>
                </a:lnTo>
                <a:lnTo>
                  <a:pt x="0" y="25"/>
                </a:lnTo>
                <a:lnTo>
                  <a:pt x="0" y="19"/>
                </a:lnTo>
                <a:lnTo>
                  <a:pt x="2" y="15"/>
                </a:lnTo>
                <a:lnTo>
                  <a:pt x="4" y="12"/>
                </a:lnTo>
                <a:lnTo>
                  <a:pt x="8" y="8"/>
                </a:lnTo>
                <a:lnTo>
                  <a:pt x="13" y="4"/>
                </a:lnTo>
                <a:lnTo>
                  <a:pt x="19" y="2"/>
                </a:lnTo>
                <a:lnTo>
                  <a:pt x="27" y="0"/>
                </a:lnTo>
                <a:lnTo>
                  <a:pt x="36" y="0"/>
                </a:lnTo>
                <a:lnTo>
                  <a:pt x="40" y="0"/>
                </a:lnTo>
                <a:lnTo>
                  <a:pt x="48" y="2"/>
                </a:lnTo>
                <a:lnTo>
                  <a:pt x="54" y="4"/>
                </a:lnTo>
                <a:lnTo>
                  <a:pt x="63" y="8"/>
                </a:lnTo>
                <a:lnTo>
                  <a:pt x="73" y="12"/>
                </a:lnTo>
                <a:lnTo>
                  <a:pt x="84" y="15"/>
                </a:lnTo>
                <a:lnTo>
                  <a:pt x="96" y="19"/>
                </a:lnTo>
                <a:lnTo>
                  <a:pt x="109" y="25"/>
                </a:lnTo>
                <a:lnTo>
                  <a:pt x="115" y="29"/>
                </a:lnTo>
                <a:lnTo>
                  <a:pt x="123" y="35"/>
                </a:lnTo>
                <a:lnTo>
                  <a:pt x="127" y="38"/>
                </a:lnTo>
                <a:lnTo>
                  <a:pt x="132" y="42"/>
                </a:lnTo>
                <a:lnTo>
                  <a:pt x="142" y="52"/>
                </a:lnTo>
                <a:lnTo>
                  <a:pt x="150" y="60"/>
                </a:lnTo>
                <a:lnTo>
                  <a:pt x="155" y="67"/>
                </a:lnTo>
                <a:lnTo>
                  <a:pt x="161" y="75"/>
                </a:lnTo>
                <a:lnTo>
                  <a:pt x="165" y="81"/>
                </a:lnTo>
                <a:lnTo>
                  <a:pt x="171" y="86"/>
                </a:lnTo>
                <a:lnTo>
                  <a:pt x="175" y="96"/>
                </a:lnTo>
                <a:lnTo>
                  <a:pt x="177" y="106"/>
                </a:lnTo>
                <a:lnTo>
                  <a:pt x="179" y="113"/>
                </a:lnTo>
                <a:lnTo>
                  <a:pt x="179" y="123"/>
                </a:lnTo>
                <a:lnTo>
                  <a:pt x="179" y="131"/>
                </a:lnTo>
                <a:lnTo>
                  <a:pt x="177" y="136"/>
                </a:lnTo>
                <a:lnTo>
                  <a:pt x="175" y="144"/>
                </a:lnTo>
                <a:lnTo>
                  <a:pt x="171" y="148"/>
                </a:lnTo>
                <a:lnTo>
                  <a:pt x="169" y="150"/>
                </a:lnTo>
                <a:lnTo>
                  <a:pt x="169" y="152"/>
                </a:lnTo>
                <a:lnTo>
                  <a:pt x="167" y="155"/>
                </a:lnTo>
                <a:lnTo>
                  <a:pt x="167" y="157"/>
                </a:lnTo>
                <a:lnTo>
                  <a:pt x="165" y="163"/>
                </a:lnTo>
                <a:lnTo>
                  <a:pt x="165" y="167"/>
                </a:lnTo>
                <a:lnTo>
                  <a:pt x="165" y="173"/>
                </a:lnTo>
                <a:lnTo>
                  <a:pt x="163" y="179"/>
                </a:lnTo>
                <a:lnTo>
                  <a:pt x="163" y="184"/>
                </a:lnTo>
                <a:lnTo>
                  <a:pt x="163" y="192"/>
                </a:lnTo>
                <a:lnTo>
                  <a:pt x="161" y="200"/>
                </a:lnTo>
                <a:lnTo>
                  <a:pt x="161" y="207"/>
                </a:lnTo>
                <a:lnTo>
                  <a:pt x="161" y="217"/>
                </a:lnTo>
                <a:lnTo>
                  <a:pt x="161" y="226"/>
                </a:lnTo>
                <a:lnTo>
                  <a:pt x="159" y="236"/>
                </a:lnTo>
                <a:lnTo>
                  <a:pt x="159" y="248"/>
                </a:lnTo>
                <a:lnTo>
                  <a:pt x="159" y="259"/>
                </a:lnTo>
                <a:lnTo>
                  <a:pt x="159" y="271"/>
                </a:lnTo>
                <a:lnTo>
                  <a:pt x="159" y="284"/>
                </a:lnTo>
                <a:lnTo>
                  <a:pt x="159" y="296"/>
                </a:lnTo>
                <a:lnTo>
                  <a:pt x="159" y="309"/>
                </a:lnTo>
                <a:lnTo>
                  <a:pt x="159" y="324"/>
                </a:lnTo>
                <a:lnTo>
                  <a:pt x="159" y="340"/>
                </a:lnTo>
                <a:lnTo>
                  <a:pt x="159" y="353"/>
                </a:lnTo>
                <a:lnTo>
                  <a:pt x="159" y="370"/>
                </a:lnTo>
                <a:lnTo>
                  <a:pt x="159" y="386"/>
                </a:lnTo>
                <a:lnTo>
                  <a:pt x="159" y="403"/>
                </a:lnTo>
                <a:lnTo>
                  <a:pt x="159" y="420"/>
                </a:lnTo>
                <a:lnTo>
                  <a:pt x="159" y="440"/>
                </a:lnTo>
                <a:lnTo>
                  <a:pt x="159" y="457"/>
                </a:lnTo>
                <a:lnTo>
                  <a:pt x="159" y="476"/>
                </a:lnTo>
                <a:lnTo>
                  <a:pt x="159" y="495"/>
                </a:lnTo>
                <a:lnTo>
                  <a:pt x="159" y="516"/>
                </a:lnTo>
                <a:lnTo>
                  <a:pt x="159" y="537"/>
                </a:lnTo>
                <a:lnTo>
                  <a:pt x="159" y="557"/>
                </a:lnTo>
                <a:lnTo>
                  <a:pt x="157" y="576"/>
                </a:lnTo>
                <a:lnTo>
                  <a:pt x="157" y="593"/>
                </a:lnTo>
                <a:lnTo>
                  <a:pt x="157" y="612"/>
                </a:lnTo>
                <a:lnTo>
                  <a:pt x="157" y="630"/>
                </a:lnTo>
                <a:lnTo>
                  <a:pt x="157" y="647"/>
                </a:lnTo>
                <a:lnTo>
                  <a:pt x="157" y="664"/>
                </a:lnTo>
                <a:lnTo>
                  <a:pt x="157" y="679"/>
                </a:lnTo>
                <a:lnTo>
                  <a:pt x="157" y="695"/>
                </a:lnTo>
                <a:lnTo>
                  <a:pt x="157" y="710"/>
                </a:lnTo>
                <a:lnTo>
                  <a:pt x="157" y="726"/>
                </a:lnTo>
                <a:lnTo>
                  <a:pt x="157" y="739"/>
                </a:lnTo>
                <a:lnTo>
                  <a:pt x="157" y="752"/>
                </a:lnTo>
                <a:lnTo>
                  <a:pt x="157" y="766"/>
                </a:lnTo>
                <a:lnTo>
                  <a:pt x="155" y="777"/>
                </a:lnTo>
                <a:lnTo>
                  <a:pt x="155" y="789"/>
                </a:lnTo>
                <a:lnTo>
                  <a:pt x="155" y="800"/>
                </a:lnTo>
                <a:lnTo>
                  <a:pt x="155" y="812"/>
                </a:lnTo>
                <a:lnTo>
                  <a:pt x="155" y="823"/>
                </a:lnTo>
                <a:lnTo>
                  <a:pt x="154" y="833"/>
                </a:lnTo>
                <a:lnTo>
                  <a:pt x="154" y="843"/>
                </a:lnTo>
                <a:lnTo>
                  <a:pt x="154" y="850"/>
                </a:lnTo>
                <a:lnTo>
                  <a:pt x="152" y="860"/>
                </a:lnTo>
                <a:lnTo>
                  <a:pt x="152" y="868"/>
                </a:lnTo>
                <a:lnTo>
                  <a:pt x="152" y="875"/>
                </a:lnTo>
                <a:lnTo>
                  <a:pt x="150" y="881"/>
                </a:lnTo>
                <a:lnTo>
                  <a:pt x="150" y="889"/>
                </a:lnTo>
                <a:lnTo>
                  <a:pt x="148" y="894"/>
                </a:lnTo>
                <a:lnTo>
                  <a:pt x="148" y="900"/>
                </a:lnTo>
                <a:lnTo>
                  <a:pt x="146" y="904"/>
                </a:lnTo>
                <a:lnTo>
                  <a:pt x="144" y="916"/>
                </a:lnTo>
                <a:lnTo>
                  <a:pt x="142" y="927"/>
                </a:lnTo>
                <a:lnTo>
                  <a:pt x="140" y="935"/>
                </a:lnTo>
                <a:lnTo>
                  <a:pt x="138" y="944"/>
                </a:lnTo>
                <a:lnTo>
                  <a:pt x="138" y="952"/>
                </a:lnTo>
                <a:lnTo>
                  <a:pt x="136" y="960"/>
                </a:lnTo>
                <a:lnTo>
                  <a:pt x="134" y="965"/>
                </a:lnTo>
                <a:lnTo>
                  <a:pt x="134" y="969"/>
                </a:lnTo>
                <a:lnTo>
                  <a:pt x="132" y="975"/>
                </a:lnTo>
                <a:lnTo>
                  <a:pt x="131" y="977"/>
                </a:lnTo>
                <a:lnTo>
                  <a:pt x="131" y="981"/>
                </a:lnTo>
                <a:lnTo>
                  <a:pt x="129" y="981"/>
                </a:lnTo>
                <a:lnTo>
                  <a:pt x="127" y="983"/>
                </a:lnTo>
                <a:lnTo>
                  <a:pt x="125" y="983"/>
                </a:lnTo>
                <a:lnTo>
                  <a:pt x="123" y="981"/>
                </a:lnTo>
                <a:lnTo>
                  <a:pt x="121" y="979"/>
                </a:lnTo>
                <a:lnTo>
                  <a:pt x="119" y="979"/>
                </a:lnTo>
                <a:lnTo>
                  <a:pt x="117" y="977"/>
                </a:lnTo>
                <a:lnTo>
                  <a:pt x="113" y="977"/>
                </a:lnTo>
                <a:lnTo>
                  <a:pt x="109" y="975"/>
                </a:lnTo>
                <a:lnTo>
                  <a:pt x="108" y="971"/>
                </a:lnTo>
                <a:lnTo>
                  <a:pt x="104" y="969"/>
                </a:lnTo>
                <a:lnTo>
                  <a:pt x="100" y="965"/>
                </a:lnTo>
                <a:lnTo>
                  <a:pt x="96" y="960"/>
                </a:lnTo>
                <a:lnTo>
                  <a:pt x="92" y="956"/>
                </a:lnTo>
                <a:lnTo>
                  <a:pt x="86" y="950"/>
                </a:lnTo>
                <a:lnTo>
                  <a:pt x="83" y="944"/>
                </a:lnTo>
                <a:lnTo>
                  <a:pt x="79" y="937"/>
                </a:lnTo>
                <a:lnTo>
                  <a:pt x="73" y="931"/>
                </a:lnTo>
                <a:lnTo>
                  <a:pt x="69" y="921"/>
                </a:lnTo>
                <a:lnTo>
                  <a:pt x="65" y="914"/>
                </a:lnTo>
                <a:lnTo>
                  <a:pt x="60" y="9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83"/>
          <p:cNvSpPr/>
          <p:nvPr/>
        </p:nvSpPr>
        <p:spPr>
          <a:xfrm>
            <a:off x="6473880" y="3132000"/>
            <a:ext cx="650880" cy="168480"/>
          </a:xfrm>
          <a:custGeom>
            <a:avLst/>
            <a:gdLst/>
            <a:ahLst/>
            <a:rect l="l" t="t" r="r" b="b"/>
            <a:pathLst>
              <a:path w="820" h="211">
                <a:moveTo>
                  <a:pt x="121" y="211"/>
                </a:moveTo>
                <a:lnTo>
                  <a:pt x="112" y="211"/>
                </a:lnTo>
                <a:lnTo>
                  <a:pt x="104" y="209"/>
                </a:lnTo>
                <a:lnTo>
                  <a:pt x="94" y="205"/>
                </a:lnTo>
                <a:lnTo>
                  <a:pt x="85" y="201"/>
                </a:lnTo>
                <a:lnTo>
                  <a:pt x="75" y="196"/>
                </a:lnTo>
                <a:lnTo>
                  <a:pt x="66" y="190"/>
                </a:lnTo>
                <a:lnTo>
                  <a:pt x="58" y="182"/>
                </a:lnTo>
                <a:lnTo>
                  <a:pt x="48" y="175"/>
                </a:lnTo>
                <a:lnTo>
                  <a:pt x="43" y="171"/>
                </a:lnTo>
                <a:lnTo>
                  <a:pt x="35" y="169"/>
                </a:lnTo>
                <a:lnTo>
                  <a:pt x="31" y="165"/>
                </a:lnTo>
                <a:lnTo>
                  <a:pt x="25" y="163"/>
                </a:lnTo>
                <a:lnTo>
                  <a:pt x="21" y="159"/>
                </a:lnTo>
                <a:lnTo>
                  <a:pt x="16" y="155"/>
                </a:lnTo>
                <a:lnTo>
                  <a:pt x="10" y="150"/>
                </a:lnTo>
                <a:lnTo>
                  <a:pt x="6" y="142"/>
                </a:lnTo>
                <a:lnTo>
                  <a:pt x="2" y="136"/>
                </a:lnTo>
                <a:lnTo>
                  <a:pt x="0" y="129"/>
                </a:lnTo>
                <a:lnTo>
                  <a:pt x="0" y="125"/>
                </a:lnTo>
                <a:lnTo>
                  <a:pt x="0" y="123"/>
                </a:lnTo>
                <a:lnTo>
                  <a:pt x="0" y="121"/>
                </a:lnTo>
                <a:lnTo>
                  <a:pt x="2" y="119"/>
                </a:lnTo>
                <a:lnTo>
                  <a:pt x="4" y="117"/>
                </a:lnTo>
                <a:lnTo>
                  <a:pt x="6" y="115"/>
                </a:lnTo>
                <a:lnTo>
                  <a:pt x="10" y="115"/>
                </a:lnTo>
                <a:lnTo>
                  <a:pt x="14" y="113"/>
                </a:lnTo>
                <a:lnTo>
                  <a:pt x="18" y="113"/>
                </a:lnTo>
                <a:lnTo>
                  <a:pt x="23" y="113"/>
                </a:lnTo>
                <a:lnTo>
                  <a:pt x="27" y="113"/>
                </a:lnTo>
                <a:lnTo>
                  <a:pt x="35" y="111"/>
                </a:lnTo>
                <a:lnTo>
                  <a:pt x="41" y="111"/>
                </a:lnTo>
                <a:lnTo>
                  <a:pt x="48" y="111"/>
                </a:lnTo>
                <a:lnTo>
                  <a:pt x="56" y="111"/>
                </a:lnTo>
                <a:lnTo>
                  <a:pt x="64" y="111"/>
                </a:lnTo>
                <a:lnTo>
                  <a:pt x="73" y="111"/>
                </a:lnTo>
                <a:lnTo>
                  <a:pt x="81" y="111"/>
                </a:lnTo>
                <a:lnTo>
                  <a:pt x="91" y="111"/>
                </a:lnTo>
                <a:lnTo>
                  <a:pt x="100" y="109"/>
                </a:lnTo>
                <a:lnTo>
                  <a:pt x="114" y="107"/>
                </a:lnTo>
                <a:lnTo>
                  <a:pt x="129" y="106"/>
                </a:lnTo>
                <a:lnTo>
                  <a:pt x="144" y="102"/>
                </a:lnTo>
                <a:lnTo>
                  <a:pt x="162" y="100"/>
                </a:lnTo>
                <a:lnTo>
                  <a:pt x="181" y="96"/>
                </a:lnTo>
                <a:lnTo>
                  <a:pt x="202" y="90"/>
                </a:lnTo>
                <a:lnTo>
                  <a:pt x="225" y="86"/>
                </a:lnTo>
                <a:lnTo>
                  <a:pt x="248" y="81"/>
                </a:lnTo>
                <a:lnTo>
                  <a:pt x="275" y="75"/>
                </a:lnTo>
                <a:lnTo>
                  <a:pt x="302" y="69"/>
                </a:lnTo>
                <a:lnTo>
                  <a:pt x="330" y="63"/>
                </a:lnTo>
                <a:lnTo>
                  <a:pt x="359" y="58"/>
                </a:lnTo>
                <a:lnTo>
                  <a:pt x="392" y="50"/>
                </a:lnTo>
                <a:lnTo>
                  <a:pt x="423" y="42"/>
                </a:lnTo>
                <a:lnTo>
                  <a:pt x="451" y="36"/>
                </a:lnTo>
                <a:lnTo>
                  <a:pt x="480" y="31"/>
                </a:lnTo>
                <a:lnTo>
                  <a:pt x="505" y="27"/>
                </a:lnTo>
                <a:lnTo>
                  <a:pt x="530" y="21"/>
                </a:lnTo>
                <a:lnTo>
                  <a:pt x="553" y="17"/>
                </a:lnTo>
                <a:lnTo>
                  <a:pt x="574" y="13"/>
                </a:lnTo>
                <a:lnTo>
                  <a:pt x="593" y="11"/>
                </a:lnTo>
                <a:lnTo>
                  <a:pt x="611" y="8"/>
                </a:lnTo>
                <a:lnTo>
                  <a:pt x="626" y="6"/>
                </a:lnTo>
                <a:lnTo>
                  <a:pt x="640" y="4"/>
                </a:lnTo>
                <a:lnTo>
                  <a:pt x="653" y="2"/>
                </a:lnTo>
                <a:lnTo>
                  <a:pt x="663" y="2"/>
                </a:lnTo>
                <a:lnTo>
                  <a:pt x="672" y="0"/>
                </a:lnTo>
                <a:lnTo>
                  <a:pt x="680" y="0"/>
                </a:lnTo>
                <a:lnTo>
                  <a:pt x="686" y="0"/>
                </a:lnTo>
                <a:lnTo>
                  <a:pt x="703" y="0"/>
                </a:lnTo>
                <a:lnTo>
                  <a:pt x="712" y="0"/>
                </a:lnTo>
                <a:lnTo>
                  <a:pt x="722" y="2"/>
                </a:lnTo>
                <a:lnTo>
                  <a:pt x="734" y="4"/>
                </a:lnTo>
                <a:lnTo>
                  <a:pt x="745" y="6"/>
                </a:lnTo>
                <a:lnTo>
                  <a:pt x="757" y="8"/>
                </a:lnTo>
                <a:lnTo>
                  <a:pt x="770" y="13"/>
                </a:lnTo>
                <a:lnTo>
                  <a:pt x="778" y="15"/>
                </a:lnTo>
                <a:lnTo>
                  <a:pt x="783" y="17"/>
                </a:lnTo>
                <a:lnTo>
                  <a:pt x="789" y="21"/>
                </a:lnTo>
                <a:lnTo>
                  <a:pt x="793" y="25"/>
                </a:lnTo>
                <a:lnTo>
                  <a:pt x="799" y="27"/>
                </a:lnTo>
                <a:lnTo>
                  <a:pt x="803" y="31"/>
                </a:lnTo>
                <a:lnTo>
                  <a:pt x="808" y="38"/>
                </a:lnTo>
                <a:lnTo>
                  <a:pt x="814" y="44"/>
                </a:lnTo>
                <a:lnTo>
                  <a:pt x="816" y="52"/>
                </a:lnTo>
                <a:lnTo>
                  <a:pt x="818" y="58"/>
                </a:lnTo>
                <a:lnTo>
                  <a:pt x="820" y="63"/>
                </a:lnTo>
                <a:lnTo>
                  <a:pt x="818" y="65"/>
                </a:lnTo>
                <a:lnTo>
                  <a:pt x="816" y="65"/>
                </a:lnTo>
                <a:lnTo>
                  <a:pt x="814" y="67"/>
                </a:lnTo>
                <a:lnTo>
                  <a:pt x="812" y="69"/>
                </a:lnTo>
                <a:lnTo>
                  <a:pt x="808" y="71"/>
                </a:lnTo>
                <a:lnTo>
                  <a:pt x="805" y="73"/>
                </a:lnTo>
                <a:lnTo>
                  <a:pt x="799" y="73"/>
                </a:lnTo>
                <a:lnTo>
                  <a:pt x="793" y="75"/>
                </a:lnTo>
                <a:lnTo>
                  <a:pt x="787" y="77"/>
                </a:lnTo>
                <a:lnTo>
                  <a:pt x="780" y="79"/>
                </a:lnTo>
                <a:lnTo>
                  <a:pt x="774" y="81"/>
                </a:lnTo>
                <a:lnTo>
                  <a:pt x="764" y="82"/>
                </a:lnTo>
                <a:lnTo>
                  <a:pt x="757" y="84"/>
                </a:lnTo>
                <a:lnTo>
                  <a:pt x="747" y="88"/>
                </a:lnTo>
                <a:lnTo>
                  <a:pt x="737" y="90"/>
                </a:lnTo>
                <a:lnTo>
                  <a:pt x="726" y="92"/>
                </a:lnTo>
                <a:lnTo>
                  <a:pt x="714" y="94"/>
                </a:lnTo>
                <a:lnTo>
                  <a:pt x="703" y="98"/>
                </a:lnTo>
                <a:lnTo>
                  <a:pt x="689" y="100"/>
                </a:lnTo>
                <a:lnTo>
                  <a:pt x="678" y="102"/>
                </a:lnTo>
                <a:lnTo>
                  <a:pt x="663" y="106"/>
                </a:lnTo>
                <a:lnTo>
                  <a:pt x="649" y="107"/>
                </a:lnTo>
                <a:lnTo>
                  <a:pt x="634" y="111"/>
                </a:lnTo>
                <a:lnTo>
                  <a:pt x="618" y="113"/>
                </a:lnTo>
                <a:lnTo>
                  <a:pt x="601" y="117"/>
                </a:lnTo>
                <a:lnTo>
                  <a:pt x="584" y="121"/>
                </a:lnTo>
                <a:lnTo>
                  <a:pt x="567" y="123"/>
                </a:lnTo>
                <a:lnTo>
                  <a:pt x="547" y="127"/>
                </a:lnTo>
                <a:lnTo>
                  <a:pt x="528" y="130"/>
                </a:lnTo>
                <a:lnTo>
                  <a:pt x="509" y="132"/>
                </a:lnTo>
                <a:lnTo>
                  <a:pt x="490" y="136"/>
                </a:lnTo>
                <a:lnTo>
                  <a:pt x="469" y="140"/>
                </a:lnTo>
                <a:lnTo>
                  <a:pt x="449" y="144"/>
                </a:lnTo>
                <a:lnTo>
                  <a:pt x="430" y="148"/>
                </a:lnTo>
                <a:lnTo>
                  <a:pt x="411" y="150"/>
                </a:lnTo>
                <a:lnTo>
                  <a:pt x="392" y="153"/>
                </a:lnTo>
                <a:lnTo>
                  <a:pt x="375" y="157"/>
                </a:lnTo>
                <a:lnTo>
                  <a:pt x="359" y="159"/>
                </a:lnTo>
                <a:lnTo>
                  <a:pt x="342" y="163"/>
                </a:lnTo>
                <a:lnTo>
                  <a:pt x="327" y="165"/>
                </a:lnTo>
                <a:lnTo>
                  <a:pt x="311" y="169"/>
                </a:lnTo>
                <a:lnTo>
                  <a:pt x="296" y="171"/>
                </a:lnTo>
                <a:lnTo>
                  <a:pt x="283" y="173"/>
                </a:lnTo>
                <a:lnTo>
                  <a:pt x="269" y="177"/>
                </a:lnTo>
                <a:lnTo>
                  <a:pt x="256" y="178"/>
                </a:lnTo>
                <a:lnTo>
                  <a:pt x="244" y="180"/>
                </a:lnTo>
                <a:lnTo>
                  <a:pt x="233" y="184"/>
                </a:lnTo>
                <a:lnTo>
                  <a:pt x="221" y="186"/>
                </a:lnTo>
                <a:lnTo>
                  <a:pt x="210" y="188"/>
                </a:lnTo>
                <a:lnTo>
                  <a:pt x="200" y="190"/>
                </a:lnTo>
                <a:lnTo>
                  <a:pt x="190" y="192"/>
                </a:lnTo>
                <a:lnTo>
                  <a:pt x="181" y="194"/>
                </a:lnTo>
                <a:lnTo>
                  <a:pt x="173" y="196"/>
                </a:lnTo>
                <a:lnTo>
                  <a:pt x="165" y="198"/>
                </a:lnTo>
                <a:lnTo>
                  <a:pt x="158" y="200"/>
                </a:lnTo>
                <a:lnTo>
                  <a:pt x="152" y="201"/>
                </a:lnTo>
                <a:lnTo>
                  <a:pt x="146" y="203"/>
                </a:lnTo>
                <a:lnTo>
                  <a:pt x="140" y="203"/>
                </a:lnTo>
                <a:lnTo>
                  <a:pt x="135" y="205"/>
                </a:lnTo>
                <a:lnTo>
                  <a:pt x="131" y="207"/>
                </a:lnTo>
                <a:lnTo>
                  <a:pt x="127" y="209"/>
                </a:lnTo>
                <a:lnTo>
                  <a:pt x="125" y="209"/>
                </a:lnTo>
                <a:lnTo>
                  <a:pt x="121" y="2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84"/>
          <p:cNvSpPr/>
          <p:nvPr/>
        </p:nvSpPr>
        <p:spPr>
          <a:xfrm>
            <a:off x="6862680" y="3338640"/>
            <a:ext cx="201600" cy="188640"/>
          </a:xfrm>
          <a:custGeom>
            <a:avLst/>
            <a:gdLst/>
            <a:ahLst/>
            <a:rect l="l" t="t" r="r" b="b"/>
            <a:pathLst>
              <a:path w="253" h="236">
                <a:moveTo>
                  <a:pt x="48" y="0"/>
                </a:moveTo>
                <a:lnTo>
                  <a:pt x="61" y="0"/>
                </a:lnTo>
                <a:lnTo>
                  <a:pt x="77" y="2"/>
                </a:lnTo>
                <a:lnTo>
                  <a:pt x="90" y="4"/>
                </a:lnTo>
                <a:lnTo>
                  <a:pt x="105" y="8"/>
                </a:lnTo>
                <a:lnTo>
                  <a:pt x="119" y="12"/>
                </a:lnTo>
                <a:lnTo>
                  <a:pt x="136" y="15"/>
                </a:lnTo>
                <a:lnTo>
                  <a:pt x="151" y="19"/>
                </a:lnTo>
                <a:lnTo>
                  <a:pt x="171" y="25"/>
                </a:lnTo>
                <a:lnTo>
                  <a:pt x="184" y="35"/>
                </a:lnTo>
                <a:lnTo>
                  <a:pt x="196" y="46"/>
                </a:lnTo>
                <a:lnTo>
                  <a:pt x="207" y="58"/>
                </a:lnTo>
                <a:lnTo>
                  <a:pt x="217" y="69"/>
                </a:lnTo>
                <a:lnTo>
                  <a:pt x="224" y="83"/>
                </a:lnTo>
                <a:lnTo>
                  <a:pt x="232" y="96"/>
                </a:lnTo>
                <a:lnTo>
                  <a:pt x="238" y="109"/>
                </a:lnTo>
                <a:lnTo>
                  <a:pt x="244" y="123"/>
                </a:lnTo>
                <a:lnTo>
                  <a:pt x="245" y="132"/>
                </a:lnTo>
                <a:lnTo>
                  <a:pt x="247" y="140"/>
                </a:lnTo>
                <a:lnTo>
                  <a:pt x="249" y="150"/>
                </a:lnTo>
                <a:lnTo>
                  <a:pt x="251" y="155"/>
                </a:lnTo>
                <a:lnTo>
                  <a:pt x="251" y="163"/>
                </a:lnTo>
                <a:lnTo>
                  <a:pt x="251" y="169"/>
                </a:lnTo>
                <a:lnTo>
                  <a:pt x="253" y="180"/>
                </a:lnTo>
                <a:lnTo>
                  <a:pt x="253" y="190"/>
                </a:lnTo>
                <a:lnTo>
                  <a:pt x="251" y="198"/>
                </a:lnTo>
                <a:lnTo>
                  <a:pt x="247" y="205"/>
                </a:lnTo>
                <a:lnTo>
                  <a:pt x="244" y="211"/>
                </a:lnTo>
                <a:lnTo>
                  <a:pt x="240" y="215"/>
                </a:lnTo>
                <a:lnTo>
                  <a:pt x="236" y="219"/>
                </a:lnTo>
                <a:lnTo>
                  <a:pt x="234" y="223"/>
                </a:lnTo>
                <a:lnTo>
                  <a:pt x="232" y="226"/>
                </a:lnTo>
                <a:lnTo>
                  <a:pt x="230" y="230"/>
                </a:lnTo>
                <a:lnTo>
                  <a:pt x="226" y="232"/>
                </a:lnTo>
                <a:lnTo>
                  <a:pt x="222" y="234"/>
                </a:lnTo>
                <a:lnTo>
                  <a:pt x="219" y="236"/>
                </a:lnTo>
                <a:lnTo>
                  <a:pt x="217" y="234"/>
                </a:lnTo>
                <a:lnTo>
                  <a:pt x="213" y="234"/>
                </a:lnTo>
                <a:lnTo>
                  <a:pt x="209" y="232"/>
                </a:lnTo>
                <a:lnTo>
                  <a:pt x="203" y="228"/>
                </a:lnTo>
                <a:lnTo>
                  <a:pt x="197" y="225"/>
                </a:lnTo>
                <a:lnTo>
                  <a:pt x="192" y="221"/>
                </a:lnTo>
                <a:lnTo>
                  <a:pt x="184" y="215"/>
                </a:lnTo>
                <a:lnTo>
                  <a:pt x="176" y="209"/>
                </a:lnTo>
                <a:lnTo>
                  <a:pt x="169" y="202"/>
                </a:lnTo>
                <a:lnTo>
                  <a:pt x="159" y="196"/>
                </a:lnTo>
                <a:lnTo>
                  <a:pt x="150" y="186"/>
                </a:lnTo>
                <a:lnTo>
                  <a:pt x="140" y="178"/>
                </a:lnTo>
                <a:lnTo>
                  <a:pt x="130" y="169"/>
                </a:lnTo>
                <a:lnTo>
                  <a:pt x="119" y="157"/>
                </a:lnTo>
                <a:lnTo>
                  <a:pt x="107" y="148"/>
                </a:lnTo>
                <a:lnTo>
                  <a:pt x="98" y="136"/>
                </a:lnTo>
                <a:lnTo>
                  <a:pt x="86" y="125"/>
                </a:lnTo>
                <a:lnTo>
                  <a:pt x="75" y="113"/>
                </a:lnTo>
                <a:lnTo>
                  <a:pt x="65" y="102"/>
                </a:lnTo>
                <a:lnTo>
                  <a:pt x="55" y="92"/>
                </a:lnTo>
                <a:lnTo>
                  <a:pt x="48" y="83"/>
                </a:lnTo>
                <a:lnTo>
                  <a:pt x="40" y="73"/>
                </a:lnTo>
                <a:lnTo>
                  <a:pt x="32" y="63"/>
                </a:lnTo>
                <a:lnTo>
                  <a:pt x="25" y="56"/>
                </a:lnTo>
                <a:lnTo>
                  <a:pt x="19" y="48"/>
                </a:lnTo>
                <a:lnTo>
                  <a:pt x="13" y="40"/>
                </a:lnTo>
                <a:lnTo>
                  <a:pt x="9" y="35"/>
                </a:lnTo>
                <a:lnTo>
                  <a:pt x="6" y="29"/>
                </a:lnTo>
                <a:lnTo>
                  <a:pt x="4" y="23"/>
                </a:lnTo>
                <a:lnTo>
                  <a:pt x="0" y="19"/>
                </a:lnTo>
                <a:lnTo>
                  <a:pt x="0" y="15"/>
                </a:lnTo>
                <a:lnTo>
                  <a:pt x="0" y="12"/>
                </a:lnTo>
                <a:lnTo>
                  <a:pt x="0" y="8"/>
                </a:lnTo>
                <a:lnTo>
                  <a:pt x="2" y="6"/>
                </a:lnTo>
                <a:lnTo>
                  <a:pt x="6" y="2"/>
                </a:lnTo>
                <a:lnTo>
                  <a:pt x="9" y="2"/>
                </a:lnTo>
                <a:lnTo>
                  <a:pt x="17" y="0"/>
                </a:lnTo>
                <a:lnTo>
                  <a:pt x="21" y="0"/>
                </a:lnTo>
                <a:lnTo>
                  <a:pt x="25" y="0"/>
                </a:lnTo>
                <a:lnTo>
                  <a:pt x="31" y="0"/>
                </a:lnTo>
                <a:lnTo>
                  <a:pt x="34" y="0"/>
                </a:lnTo>
                <a:lnTo>
                  <a:pt x="42" y="0"/>
                </a:lnTo>
                <a:lnTo>
                  <a:pt x="48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85"/>
          <p:cNvSpPr/>
          <p:nvPr/>
        </p:nvSpPr>
        <p:spPr>
          <a:xfrm>
            <a:off x="6413400" y="3211560"/>
            <a:ext cx="389160" cy="376200"/>
          </a:xfrm>
          <a:custGeom>
            <a:avLst/>
            <a:gdLst/>
            <a:ahLst/>
            <a:rect l="l" t="t" r="r" b="b"/>
            <a:pathLst>
              <a:path w="491" h="474">
                <a:moveTo>
                  <a:pt x="491" y="111"/>
                </a:moveTo>
                <a:lnTo>
                  <a:pt x="462" y="144"/>
                </a:lnTo>
                <a:lnTo>
                  <a:pt x="435" y="173"/>
                </a:lnTo>
                <a:lnTo>
                  <a:pt x="408" y="201"/>
                </a:lnTo>
                <a:lnTo>
                  <a:pt x="382" y="228"/>
                </a:lnTo>
                <a:lnTo>
                  <a:pt x="357" y="253"/>
                </a:lnTo>
                <a:lnTo>
                  <a:pt x="332" y="276"/>
                </a:lnTo>
                <a:lnTo>
                  <a:pt x="309" y="297"/>
                </a:lnTo>
                <a:lnTo>
                  <a:pt x="287" y="318"/>
                </a:lnTo>
                <a:lnTo>
                  <a:pt x="266" y="336"/>
                </a:lnTo>
                <a:lnTo>
                  <a:pt x="245" y="353"/>
                </a:lnTo>
                <a:lnTo>
                  <a:pt x="224" y="368"/>
                </a:lnTo>
                <a:lnTo>
                  <a:pt x="205" y="382"/>
                </a:lnTo>
                <a:lnTo>
                  <a:pt x="188" y="393"/>
                </a:lnTo>
                <a:lnTo>
                  <a:pt x="170" y="405"/>
                </a:lnTo>
                <a:lnTo>
                  <a:pt x="153" y="412"/>
                </a:lnTo>
                <a:lnTo>
                  <a:pt x="136" y="422"/>
                </a:lnTo>
                <a:lnTo>
                  <a:pt x="120" y="428"/>
                </a:lnTo>
                <a:lnTo>
                  <a:pt x="107" y="435"/>
                </a:lnTo>
                <a:lnTo>
                  <a:pt x="94" y="441"/>
                </a:lnTo>
                <a:lnTo>
                  <a:pt x="80" y="447"/>
                </a:lnTo>
                <a:lnTo>
                  <a:pt x="71" y="453"/>
                </a:lnTo>
                <a:lnTo>
                  <a:pt x="59" y="457"/>
                </a:lnTo>
                <a:lnTo>
                  <a:pt x="49" y="460"/>
                </a:lnTo>
                <a:lnTo>
                  <a:pt x="42" y="464"/>
                </a:lnTo>
                <a:lnTo>
                  <a:pt x="34" y="468"/>
                </a:lnTo>
                <a:lnTo>
                  <a:pt x="26" y="470"/>
                </a:lnTo>
                <a:lnTo>
                  <a:pt x="21" y="472"/>
                </a:lnTo>
                <a:lnTo>
                  <a:pt x="17" y="474"/>
                </a:lnTo>
                <a:lnTo>
                  <a:pt x="11" y="474"/>
                </a:lnTo>
                <a:lnTo>
                  <a:pt x="7" y="474"/>
                </a:lnTo>
                <a:lnTo>
                  <a:pt x="5" y="472"/>
                </a:lnTo>
                <a:lnTo>
                  <a:pt x="1" y="470"/>
                </a:lnTo>
                <a:lnTo>
                  <a:pt x="0" y="468"/>
                </a:lnTo>
                <a:lnTo>
                  <a:pt x="0" y="464"/>
                </a:lnTo>
                <a:lnTo>
                  <a:pt x="0" y="460"/>
                </a:lnTo>
                <a:lnTo>
                  <a:pt x="0" y="457"/>
                </a:lnTo>
                <a:lnTo>
                  <a:pt x="1" y="451"/>
                </a:lnTo>
                <a:lnTo>
                  <a:pt x="5" y="447"/>
                </a:lnTo>
                <a:lnTo>
                  <a:pt x="9" y="439"/>
                </a:lnTo>
                <a:lnTo>
                  <a:pt x="15" y="434"/>
                </a:lnTo>
                <a:lnTo>
                  <a:pt x="21" y="426"/>
                </a:lnTo>
                <a:lnTo>
                  <a:pt x="28" y="418"/>
                </a:lnTo>
                <a:lnTo>
                  <a:pt x="36" y="411"/>
                </a:lnTo>
                <a:lnTo>
                  <a:pt x="48" y="401"/>
                </a:lnTo>
                <a:lnTo>
                  <a:pt x="57" y="391"/>
                </a:lnTo>
                <a:lnTo>
                  <a:pt x="71" y="382"/>
                </a:lnTo>
                <a:lnTo>
                  <a:pt x="84" y="370"/>
                </a:lnTo>
                <a:lnTo>
                  <a:pt x="99" y="359"/>
                </a:lnTo>
                <a:lnTo>
                  <a:pt x="117" y="347"/>
                </a:lnTo>
                <a:lnTo>
                  <a:pt x="134" y="332"/>
                </a:lnTo>
                <a:lnTo>
                  <a:pt x="151" y="316"/>
                </a:lnTo>
                <a:lnTo>
                  <a:pt x="168" y="301"/>
                </a:lnTo>
                <a:lnTo>
                  <a:pt x="188" y="284"/>
                </a:lnTo>
                <a:lnTo>
                  <a:pt x="209" y="265"/>
                </a:lnTo>
                <a:lnTo>
                  <a:pt x="228" y="244"/>
                </a:lnTo>
                <a:lnTo>
                  <a:pt x="251" y="220"/>
                </a:lnTo>
                <a:lnTo>
                  <a:pt x="272" y="197"/>
                </a:lnTo>
                <a:lnTo>
                  <a:pt x="295" y="174"/>
                </a:lnTo>
                <a:lnTo>
                  <a:pt x="320" y="148"/>
                </a:lnTo>
                <a:lnTo>
                  <a:pt x="345" y="121"/>
                </a:lnTo>
                <a:lnTo>
                  <a:pt x="370" y="92"/>
                </a:lnTo>
                <a:lnTo>
                  <a:pt x="399" y="63"/>
                </a:lnTo>
                <a:lnTo>
                  <a:pt x="426" y="32"/>
                </a:lnTo>
                <a:lnTo>
                  <a:pt x="454" y="0"/>
                </a:lnTo>
                <a:lnTo>
                  <a:pt x="474" y="55"/>
                </a:lnTo>
                <a:lnTo>
                  <a:pt x="491" y="1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86"/>
          <p:cNvSpPr/>
          <p:nvPr/>
        </p:nvSpPr>
        <p:spPr>
          <a:xfrm>
            <a:off x="6886440" y="2867040"/>
            <a:ext cx="198720" cy="209520"/>
          </a:xfrm>
          <a:custGeom>
            <a:avLst/>
            <a:gdLst/>
            <a:ahLst/>
            <a:rect l="l" t="t" r="r" b="b"/>
            <a:pathLst>
              <a:path w="249" h="265">
                <a:moveTo>
                  <a:pt x="103" y="98"/>
                </a:moveTo>
                <a:lnTo>
                  <a:pt x="107" y="88"/>
                </a:lnTo>
                <a:lnTo>
                  <a:pt x="111" y="81"/>
                </a:lnTo>
                <a:lnTo>
                  <a:pt x="115" y="71"/>
                </a:lnTo>
                <a:lnTo>
                  <a:pt x="119" y="61"/>
                </a:lnTo>
                <a:lnTo>
                  <a:pt x="119" y="52"/>
                </a:lnTo>
                <a:lnTo>
                  <a:pt x="120" y="42"/>
                </a:lnTo>
                <a:lnTo>
                  <a:pt x="119" y="38"/>
                </a:lnTo>
                <a:lnTo>
                  <a:pt x="119" y="33"/>
                </a:lnTo>
                <a:lnTo>
                  <a:pt x="117" y="29"/>
                </a:lnTo>
                <a:lnTo>
                  <a:pt x="115" y="25"/>
                </a:lnTo>
                <a:lnTo>
                  <a:pt x="111" y="19"/>
                </a:lnTo>
                <a:lnTo>
                  <a:pt x="109" y="15"/>
                </a:lnTo>
                <a:lnTo>
                  <a:pt x="107" y="11"/>
                </a:lnTo>
                <a:lnTo>
                  <a:pt x="107" y="8"/>
                </a:lnTo>
                <a:lnTo>
                  <a:pt x="109" y="4"/>
                </a:lnTo>
                <a:lnTo>
                  <a:pt x="111" y="2"/>
                </a:lnTo>
                <a:lnTo>
                  <a:pt x="113" y="2"/>
                </a:lnTo>
                <a:lnTo>
                  <a:pt x="117" y="0"/>
                </a:lnTo>
                <a:lnTo>
                  <a:pt x="119" y="0"/>
                </a:lnTo>
                <a:lnTo>
                  <a:pt x="122" y="0"/>
                </a:lnTo>
                <a:lnTo>
                  <a:pt x="128" y="0"/>
                </a:lnTo>
                <a:lnTo>
                  <a:pt x="145" y="10"/>
                </a:lnTo>
                <a:lnTo>
                  <a:pt x="155" y="13"/>
                </a:lnTo>
                <a:lnTo>
                  <a:pt x="165" y="19"/>
                </a:lnTo>
                <a:lnTo>
                  <a:pt x="176" y="25"/>
                </a:lnTo>
                <a:lnTo>
                  <a:pt x="188" y="33"/>
                </a:lnTo>
                <a:lnTo>
                  <a:pt x="199" y="40"/>
                </a:lnTo>
                <a:lnTo>
                  <a:pt x="213" y="50"/>
                </a:lnTo>
                <a:lnTo>
                  <a:pt x="222" y="58"/>
                </a:lnTo>
                <a:lnTo>
                  <a:pt x="228" y="67"/>
                </a:lnTo>
                <a:lnTo>
                  <a:pt x="236" y="77"/>
                </a:lnTo>
                <a:lnTo>
                  <a:pt x="239" y="86"/>
                </a:lnTo>
                <a:lnTo>
                  <a:pt x="245" y="96"/>
                </a:lnTo>
                <a:lnTo>
                  <a:pt x="247" y="106"/>
                </a:lnTo>
                <a:lnTo>
                  <a:pt x="249" y="113"/>
                </a:lnTo>
                <a:lnTo>
                  <a:pt x="249" y="123"/>
                </a:lnTo>
                <a:lnTo>
                  <a:pt x="247" y="129"/>
                </a:lnTo>
                <a:lnTo>
                  <a:pt x="243" y="132"/>
                </a:lnTo>
                <a:lnTo>
                  <a:pt x="239" y="138"/>
                </a:lnTo>
                <a:lnTo>
                  <a:pt x="236" y="144"/>
                </a:lnTo>
                <a:lnTo>
                  <a:pt x="230" y="150"/>
                </a:lnTo>
                <a:lnTo>
                  <a:pt x="224" y="155"/>
                </a:lnTo>
                <a:lnTo>
                  <a:pt x="218" y="161"/>
                </a:lnTo>
                <a:lnTo>
                  <a:pt x="211" y="169"/>
                </a:lnTo>
                <a:lnTo>
                  <a:pt x="203" y="175"/>
                </a:lnTo>
                <a:lnTo>
                  <a:pt x="195" y="180"/>
                </a:lnTo>
                <a:lnTo>
                  <a:pt x="186" y="188"/>
                </a:lnTo>
                <a:lnTo>
                  <a:pt x="176" y="194"/>
                </a:lnTo>
                <a:lnTo>
                  <a:pt x="165" y="201"/>
                </a:lnTo>
                <a:lnTo>
                  <a:pt x="153" y="209"/>
                </a:lnTo>
                <a:lnTo>
                  <a:pt x="140" y="215"/>
                </a:lnTo>
                <a:lnTo>
                  <a:pt x="128" y="223"/>
                </a:lnTo>
                <a:lnTo>
                  <a:pt x="115" y="230"/>
                </a:lnTo>
                <a:lnTo>
                  <a:pt x="101" y="236"/>
                </a:lnTo>
                <a:lnTo>
                  <a:pt x="90" y="242"/>
                </a:lnTo>
                <a:lnTo>
                  <a:pt x="78" y="246"/>
                </a:lnTo>
                <a:lnTo>
                  <a:pt x="69" y="251"/>
                </a:lnTo>
                <a:lnTo>
                  <a:pt x="59" y="255"/>
                </a:lnTo>
                <a:lnTo>
                  <a:pt x="51" y="257"/>
                </a:lnTo>
                <a:lnTo>
                  <a:pt x="44" y="259"/>
                </a:lnTo>
                <a:lnTo>
                  <a:pt x="36" y="263"/>
                </a:lnTo>
                <a:lnTo>
                  <a:pt x="30" y="263"/>
                </a:lnTo>
                <a:lnTo>
                  <a:pt x="24" y="265"/>
                </a:lnTo>
                <a:lnTo>
                  <a:pt x="19" y="265"/>
                </a:lnTo>
                <a:lnTo>
                  <a:pt x="15" y="265"/>
                </a:lnTo>
                <a:lnTo>
                  <a:pt x="11" y="263"/>
                </a:lnTo>
                <a:lnTo>
                  <a:pt x="7" y="261"/>
                </a:lnTo>
                <a:lnTo>
                  <a:pt x="5" y="259"/>
                </a:lnTo>
                <a:lnTo>
                  <a:pt x="3" y="257"/>
                </a:lnTo>
                <a:lnTo>
                  <a:pt x="1" y="255"/>
                </a:lnTo>
                <a:lnTo>
                  <a:pt x="0" y="251"/>
                </a:lnTo>
                <a:lnTo>
                  <a:pt x="0" y="248"/>
                </a:lnTo>
                <a:lnTo>
                  <a:pt x="0" y="244"/>
                </a:lnTo>
                <a:lnTo>
                  <a:pt x="1" y="240"/>
                </a:lnTo>
                <a:lnTo>
                  <a:pt x="3" y="236"/>
                </a:lnTo>
                <a:lnTo>
                  <a:pt x="5" y="232"/>
                </a:lnTo>
                <a:lnTo>
                  <a:pt x="7" y="226"/>
                </a:lnTo>
                <a:lnTo>
                  <a:pt x="11" y="223"/>
                </a:lnTo>
                <a:lnTo>
                  <a:pt x="15" y="217"/>
                </a:lnTo>
                <a:lnTo>
                  <a:pt x="19" y="211"/>
                </a:lnTo>
                <a:lnTo>
                  <a:pt x="23" y="205"/>
                </a:lnTo>
                <a:lnTo>
                  <a:pt x="28" y="200"/>
                </a:lnTo>
                <a:lnTo>
                  <a:pt x="34" y="192"/>
                </a:lnTo>
                <a:lnTo>
                  <a:pt x="42" y="186"/>
                </a:lnTo>
                <a:lnTo>
                  <a:pt x="51" y="173"/>
                </a:lnTo>
                <a:lnTo>
                  <a:pt x="59" y="159"/>
                </a:lnTo>
                <a:lnTo>
                  <a:pt x="69" y="148"/>
                </a:lnTo>
                <a:lnTo>
                  <a:pt x="76" y="136"/>
                </a:lnTo>
                <a:lnTo>
                  <a:pt x="84" y="127"/>
                </a:lnTo>
                <a:lnTo>
                  <a:pt x="92" y="117"/>
                </a:lnTo>
                <a:lnTo>
                  <a:pt x="97" y="107"/>
                </a:lnTo>
                <a:lnTo>
                  <a:pt x="103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87"/>
          <p:cNvSpPr/>
          <p:nvPr/>
        </p:nvSpPr>
        <p:spPr>
          <a:xfrm>
            <a:off x="6521400" y="2975040"/>
            <a:ext cx="152280" cy="196920"/>
          </a:xfrm>
          <a:custGeom>
            <a:avLst/>
            <a:gdLst/>
            <a:ahLst/>
            <a:rect l="l" t="t" r="r" b="b"/>
            <a:pathLst>
              <a:path w="192" h="248">
                <a:moveTo>
                  <a:pt x="159" y="75"/>
                </a:moveTo>
                <a:lnTo>
                  <a:pt x="167" y="81"/>
                </a:lnTo>
                <a:lnTo>
                  <a:pt x="173" y="89"/>
                </a:lnTo>
                <a:lnTo>
                  <a:pt x="176" y="94"/>
                </a:lnTo>
                <a:lnTo>
                  <a:pt x="180" y="102"/>
                </a:lnTo>
                <a:lnTo>
                  <a:pt x="184" y="110"/>
                </a:lnTo>
                <a:lnTo>
                  <a:pt x="186" y="115"/>
                </a:lnTo>
                <a:lnTo>
                  <a:pt x="188" y="123"/>
                </a:lnTo>
                <a:lnTo>
                  <a:pt x="190" y="131"/>
                </a:lnTo>
                <a:lnTo>
                  <a:pt x="192" y="137"/>
                </a:lnTo>
                <a:lnTo>
                  <a:pt x="192" y="144"/>
                </a:lnTo>
                <a:lnTo>
                  <a:pt x="192" y="152"/>
                </a:lnTo>
                <a:lnTo>
                  <a:pt x="190" y="158"/>
                </a:lnTo>
                <a:lnTo>
                  <a:pt x="188" y="171"/>
                </a:lnTo>
                <a:lnTo>
                  <a:pt x="184" y="186"/>
                </a:lnTo>
                <a:lnTo>
                  <a:pt x="178" y="200"/>
                </a:lnTo>
                <a:lnTo>
                  <a:pt x="173" y="211"/>
                </a:lnTo>
                <a:lnTo>
                  <a:pt x="167" y="221"/>
                </a:lnTo>
                <a:lnTo>
                  <a:pt x="159" y="231"/>
                </a:lnTo>
                <a:lnTo>
                  <a:pt x="153" y="238"/>
                </a:lnTo>
                <a:lnTo>
                  <a:pt x="150" y="240"/>
                </a:lnTo>
                <a:lnTo>
                  <a:pt x="146" y="244"/>
                </a:lnTo>
                <a:lnTo>
                  <a:pt x="144" y="246"/>
                </a:lnTo>
                <a:lnTo>
                  <a:pt x="140" y="246"/>
                </a:lnTo>
                <a:lnTo>
                  <a:pt x="138" y="248"/>
                </a:lnTo>
                <a:lnTo>
                  <a:pt x="136" y="248"/>
                </a:lnTo>
                <a:lnTo>
                  <a:pt x="130" y="248"/>
                </a:lnTo>
                <a:lnTo>
                  <a:pt x="127" y="246"/>
                </a:lnTo>
                <a:lnTo>
                  <a:pt x="121" y="244"/>
                </a:lnTo>
                <a:lnTo>
                  <a:pt x="117" y="240"/>
                </a:lnTo>
                <a:lnTo>
                  <a:pt x="111" y="236"/>
                </a:lnTo>
                <a:lnTo>
                  <a:pt x="107" y="232"/>
                </a:lnTo>
                <a:lnTo>
                  <a:pt x="102" y="227"/>
                </a:lnTo>
                <a:lnTo>
                  <a:pt x="96" y="221"/>
                </a:lnTo>
                <a:lnTo>
                  <a:pt x="92" y="213"/>
                </a:lnTo>
                <a:lnTo>
                  <a:pt x="86" y="204"/>
                </a:lnTo>
                <a:lnTo>
                  <a:pt x="80" y="196"/>
                </a:lnTo>
                <a:lnTo>
                  <a:pt x="75" y="185"/>
                </a:lnTo>
                <a:lnTo>
                  <a:pt x="69" y="175"/>
                </a:lnTo>
                <a:lnTo>
                  <a:pt x="63" y="161"/>
                </a:lnTo>
                <a:lnTo>
                  <a:pt x="56" y="150"/>
                </a:lnTo>
                <a:lnTo>
                  <a:pt x="50" y="137"/>
                </a:lnTo>
                <a:lnTo>
                  <a:pt x="42" y="125"/>
                </a:lnTo>
                <a:lnTo>
                  <a:pt x="36" y="113"/>
                </a:lnTo>
                <a:lnTo>
                  <a:pt x="31" y="102"/>
                </a:lnTo>
                <a:lnTo>
                  <a:pt x="27" y="92"/>
                </a:lnTo>
                <a:lnTo>
                  <a:pt x="23" y="83"/>
                </a:lnTo>
                <a:lnTo>
                  <a:pt x="17" y="73"/>
                </a:lnTo>
                <a:lnTo>
                  <a:pt x="15" y="64"/>
                </a:lnTo>
                <a:lnTo>
                  <a:pt x="11" y="56"/>
                </a:lnTo>
                <a:lnTo>
                  <a:pt x="9" y="48"/>
                </a:lnTo>
                <a:lnTo>
                  <a:pt x="6" y="41"/>
                </a:lnTo>
                <a:lnTo>
                  <a:pt x="4" y="35"/>
                </a:lnTo>
                <a:lnTo>
                  <a:pt x="4" y="29"/>
                </a:lnTo>
                <a:lnTo>
                  <a:pt x="2" y="23"/>
                </a:lnTo>
                <a:lnTo>
                  <a:pt x="2" y="19"/>
                </a:lnTo>
                <a:lnTo>
                  <a:pt x="0" y="16"/>
                </a:lnTo>
                <a:lnTo>
                  <a:pt x="0" y="12"/>
                </a:lnTo>
                <a:lnTo>
                  <a:pt x="0" y="10"/>
                </a:lnTo>
                <a:lnTo>
                  <a:pt x="2" y="8"/>
                </a:lnTo>
                <a:lnTo>
                  <a:pt x="4" y="6"/>
                </a:lnTo>
                <a:lnTo>
                  <a:pt x="6" y="6"/>
                </a:lnTo>
                <a:lnTo>
                  <a:pt x="8" y="4"/>
                </a:lnTo>
                <a:lnTo>
                  <a:pt x="9" y="2"/>
                </a:lnTo>
                <a:lnTo>
                  <a:pt x="17" y="2"/>
                </a:lnTo>
                <a:lnTo>
                  <a:pt x="27" y="0"/>
                </a:lnTo>
                <a:lnTo>
                  <a:pt x="36" y="0"/>
                </a:lnTo>
                <a:lnTo>
                  <a:pt x="48" y="0"/>
                </a:lnTo>
                <a:lnTo>
                  <a:pt x="61" y="0"/>
                </a:lnTo>
                <a:lnTo>
                  <a:pt x="69" y="0"/>
                </a:lnTo>
                <a:lnTo>
                  <a:pt x="75" y="0"/>
                </a:lnTo>
                <a:lnTo>
                  <a:pt x="82" y="2"/>
                </a:lnTo>
                <a:lnTo>
                  <a:pt x="88" y="4"/>
                </a:lnTo>
                <a:lnTo>
                  <a:pt x="96" y="8"/>
                </a:lnTo>
                <a:lnTo>
                  <a:pt x="102" y="10"/>
                </a:lnTo>
                <a:lnTo>
                  <a:pt x="109" y="14"/>
                </a:lnTo>
                <a:lnTo>
                  <a:pt x="115" y="18"/>
                </a:lnTo>
                <a:lnTo>
                  <a:pt x="121" y="23"/>
                </a:lnTo>
                <a:lnTo>
                  <a:pt x="128" y="29"/>
                </a:lnTo>
                <a:lnTo>
                  <a:pt x="134" y="35"/>
                </a:lnTo>
                <a:lnTo>
                  <a:pt x="140" y="41"/>
                </a:lnTo>
                <a:lnTo>
                  <a:pt x="146" y="48"/>
                </a:lnTo>
                <a:lnTo>
                  <a:pt x="150" y="56"/>
                </a:lnTo>
                <a:lnTo>
                  <a:pt x="155" y="65"/>
                </a:lnTo>
                <a:lnTo>
                  <a:pt x="159" y="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188"/>
          <p:cNvSpPr/>
          <p:nvPr/>
        </p:nvSpPr>
        <p:spPr>
          <a:xfrm>
            <a:off x="6365880" y="2611440"/>
            <a:ext cx="1030320" cy="963720"/>
          </a:xfrm>
          <a:custGeom>
            <a:avLst/>
            <a:gdLst/>
            <a:ahLst/>
            <a:rect l="l" t="t" r="r" b="b"/>
            <a:pathLst>
              <a:path w="1298" h="1216">
                <a:moveTo>
                  <a:pt x="1188" y="757"/>
                </a:moveTo>
                <a:lnTo>
                  <a:pt x="1186" y="786"/>
                </a:lnTo>
                <a:lnTo>
                  <a:pt x="1186" y="812"/>
                </a:lnTo>
                <a:lnTo>
                  <a:pt x="1184" y="839"/>
                </a:lnTo>
                <a:lnTo>
                  <a:pt x="1182" y="866"/>
                </a:lnTo>
                <a:lnTo>
                  <a:pt x="1182" y="891"/>
                </a:lnTo>
                <a:lnTo>
                  <a:pt x="1181" y="914"/>
                </a:lnTo>
                <a:lnTo>
                  <a:pt x="1179" y="939"/>
                </a:lnTo>
                <a:lnTo>
                  <a:pt x="1177" y="960"/>
                </a:lnTo>
                <a:lnTo>
                  <a:pt x="1175" y="981"/>
                </a:lnTo>
                <a:lnTo>
                  <a:pt x="1173" y="1002"/>
                </a:lnTo>
                <a:lnTo>
                  <a:pt x="1171" y="1022"/>
                </a:lnTo>
                <a:lnTo>
                  <a:pt x="1169" y="1041"/>
                </a:lnTo>
                <a:lnTo>
                  <a:pt x="1167" y="1058"/>
                </a:lnTo>
                <a:lnTo>
                  <a:pt x="1165" y="1075"/>
                </a:lnTo>
                <a:lnTo>
                  <a:pt x="1163" y="1093"/>
                </a:lnTo>
                <a:lnTo>
                  <a:pt x="1161" y="1106"/>
                </a:lnTo>
                <a:lnTo>
                  <a:pt x="1157" y="1121"/>
                </a:lnTo>
                <a:lnTo>
                  <a:pt x="1156" y="1135"/>
                </a:lnTo>
                <a:lnTo>
                  <a:pt x="1154" y="1146"/>
                </a:lnTo>
                <a:lnTo>
                  <a:pt x="1152" y="1158"/>
                </a:lnTo>
                <a:lnTo>
                  <a:pt x="1148" y="1168"/>
                </a:lnTo>
                <a:lnTo>
                  <a:pt x="1146" y="1177"/>
                </a:lnTo>
                <a:lnTo>
                  <a:pt x="1142" y="1185"/>
                </a:lnTo>
                <a:lnTo>
                  <a:pt x="1140" y="1192"/>
                </a:lnTo>
                <a:lnTo>
                  <a:pt x="1136" y="1198"/>
                </a:lnTo>
                <a:lnTo>
                  <a:pt x="1134" y="1204"/>
                </a:lnTo>
                <a:lnTo>
                  <a:pt x="1131" y="1208"/>
                </a:lnTo>
                <a:lnTo>
                  <a:pt x="1129" y="1212"/>
                </a:lnTo>
                <a:lnTo>
                  <a:pt x="1125" y="1214"/>
                </a:lnTo>
                <a:lnTo>
                  <a:pt x="1121" y="1216"/>
                </a:lnTo>
                <a:lnTo>
                  <a:pt x="1119" y="1216"/>
                </a:lnTo>
                <a:lnTo>
                  <a:pt x="1115" y="1216"/>
                </a:lnTo>
                <a:lnTo>
                  <a:pt x="1108" y="1216"/>
                </a:lnTo>
                <a:lnTo>
                  <a:pt x="1102" y="1214"/>
                </a:lnTo>
                <a:lnTo>
                  <a:pt x="1096" y="1212"/>
                </a:lnTo>
                <a:lnTo>
                  <a:pt x="1090" y="1210"/>
                </a:lnTo>
                <a:lnTo>
                  <a:pt x="1085" y="1208"/>
                </a:lnTo>
                <a:lnTo>
                  <a:pt x="1079" y="1206"/>
                </a:lnTo>
                <a:lnTo>
                  <a:pt x="1069" y="1198"/>
                </a:lnTo>
                <a:lnTo>
                  <a:pt x="1060" y="1189"/>
                </a:lnTo>
                <a:lnTo>
                  <a:pt x="1052" y="1179"/>
                </a:lnTo>
                <a:lnTo>
                  <a:pt x="1046" y="1168"/>
                </a:lnTo>
                <a:lnTo>
                  <a:pt x="1040" y="1154"/>
                </a:lnTo>
                <a:lnTo>
                  <a:pt x="1038" y="1150"/>
                </a:lnTo>
                <a:lnTo>
                  <a:pt x="1037" y="1144"/>
                </a:lnTo>
                <a:lnTo>
                  <a:pt x="1035" y="1141"/>
                </a:lnTo>
                <a:lnTo>
                  <a:pt x="1033" y="1135"/>
                </a:lnTo>
                <a:lnTo>
                  <a:pt x="1031" y="1129"/>
                </a:lnTo>
                <a:lnTo>
                  <a:pt x="1031" y="1121"/>
                </a:lnTo>
                <a:lnTo>
                  <a:pt x="1029" y="1114"/>
                </a:lnTo>
                <a:lnTo>
                  <a:pt x="1027" y="1106"/>
                </a:lnTo>
                <a:lnTo>
                  <a:pt x="1027" y="1098"/>
                </a:lnTo>
                <a:lnTo>
                  <a:pt x="1025" y="1089"/>
                </a:lnTo>
                <a:lnTo>
                  <a:pt x="1025" y="1079"/>
                </a:lnTo>
                <a:lnTo>
                  <a:pt x="1023" y="1070"/>
                </a:lnTo>
                <a:lnTo>
                  <a:pt x="1023" y="1058"/>
                </a:lnTo>
                <a:lnTo>
                  <a:pt x="1023" y="1047"/>
                </a:lnTo>
                <a:lnTo>
                  <a:pt x="1023" y="1035"/>
                </a:lnTo>
                <a:lnTo>
                  <a:pt x="1023" y="1024"/>
                </a:lnTo>
                <a:lnTo>
                  <a:pt x="1023" y="1010"/>
                </a:lnTo>
                <a:lnTo>
                  <a:pt x="1023" y="997"/>
                </a:lnTo>
                <a:lnTo>
                  <a:pt x="1023" y="981"/>
                </a:lnTo>
                <a:lnTo>
                  <a:pt x="1023" y="968"/>
                </a:lnTo>
                <a:lnTo>
                  <a:pt x="1025" y="953"/>
                </a:lnTo>
                <a:lnTo>
                  <a:pt x="1025" y="935"/>
                </a:lnTo>
                <a:lnTo>
                  <a:pt x="1027" y="920"/>
                </a:lnTo>
                <a:lnTo>
                  <a:pt x="1027" y="903"/>
                </a:lnTo>
                <a:lnTo>
                  <a:pt x="1029" y="883"/>
                </a:lnTo>
                <a:lnTo>
                  <a:pt x="1031" y="866"/>
                </a:lnTo>
                <a:lnTo>
                  <a:pt x="1031" y="847"/>
                </a:lnTo>
                <a:lnTo>
                  <a:pt x="1033" y="828"/>
                </a:lnTo>
                <a:lnTo>
                  <a:pt x="1035" y="807"/>
                </a:lnTo>
                <a:lnTo>
                  <a:pt x="1037" y="787"/>
                </a:lnTo>
                <a:lnTo>
                  <a:pt x="1038" y="766"/>
                </a:lnTo>
                <a:lnTo>
                  <a:pt x="1040" y="743"/>
                </a:lnTo>
                <a:lnTo>
                  <a:pt x="1042" y="722"/>
                </a:lnTo>
                <a:lnTo>
                  <a:pt x="1042" y="701"/>
                </a:lnTo>
                <a:lnTo>
                  <a:pt x="1044" y="680"/>
                </a:lnTo>
                <a:lnTo>
                  <a:pt x="1046" y="661"/>
                </a:lnTo>
                <a:lnTo>
                  <a:pt x="1046" y="640"/>
                </a:lnTo>
                <a:lnTo>
                  <a:pt x="1048" y="622"/>
                </a:lnTo>
                <a:lnTo>
                  <a:pt x="1048" y="603"/>
                </a:lnTo>
                <a:lnTo>
                  <a:pt x="1050" y="586"/>
                </a:lnTo>
                <a:lnTo>
                  <a:pt x="1050" y="569"/>
                </a:lnTo>
                <a:lnTo>
                  <a:pt x="1052" y="551"/>
                </a:lnTo>
                <a:lnTo>
                  <a:pt x="1052" y="536"/>
                </a:lnTo>
                <a:lnTo>
                  <a:pt x="1054" y="519"/>
                </a:lnTo>
                <a:lnTo>
                  <a:pt x="1054" y="503"/>
                </a:lnTo>
                <a:lnTo>
                  <a:pt x="1056" y="490"/>
                </a:lnTo>
                <a:lnTo>
                  <a:pt x="1056" y="475"/>
                </a:lnTo>
                <a:lnTo>
                  <a:pt x="1056" y="461"/>
                </a:lnTo>
                <a:lnTo>
                  <a:pt x="1058" y="450"/>
                </a:lnTo>
                <a:lnTo>
                  <a:pt x="1058" y="436"/>
                </a:lnTo>
                <a:lnTo>
                  <a:pt x="1058" y="425"/>
                </a:lnTo>
                <a:lnTo>
                  <a:pt x="1058" y="413"/>
                </a:lnTo>
                <a:lnTo>
                  <a:pt x="1058" y="402"/>
                </a:lnTo>
                <a:lnTo>
                  <a:pt x="1058" y="390"/>
                </a:lnTo>
                <a:lnTo>
                  <a:pt x="1058" y="381"/>
                </a:lnTo>
                <a:lnTo>
                  <a:pt x="1058" y="371"/>
                </a:lnTo>
                <a:lnTo>
                  <a:pt x="1058" y="354"/>
                </a:lnTo>
                <a:lnTo>
                  <a:pt x="1058" y="336"/>
                </a:lnTo>
                <a:lnTo>
                  <a:pt x="1056" y="323"/>
                </a:lnTo>
                <a:lnTo>
                  <a:pt x="1054" y="310"/>
                </a:lnTo>
                <a:lnTo>
                  <a:pt x="1048" y="292"/>
                </a:lnTo>
                <a:lnTo>
                  <a:pt x="1044" y="275"/>
                </a:lnTo>
                <a:lnTo>
                  <a:pt x="1038" y="260"/>
                </a:lnTo>
                <a:lnTo>
                  <a:pt x="1033" y="246"/>
                </a:lnTo>
                <a:lnTo>
                  <a:pt x="1027" y="235"/>
                </a:lnTo>
                <a:lnTo>
                  <a:pt x="1025" y="229"/>
                </a:lnTo>
                <a:lnTo>
                  <a:pt x="1021" y="225"/>
                </a:lnTo>
                <a:lnTo>
                  <a:pt x="1017" y="219"/>
                </a:lnTo>
                <a:lnTo>
                  <a:pt x="1014" y="217"/>
                </a:lnTo>
                <a:lnTo>
                  <a:pt x="1010" y="214"/>
                </a:lnTo>
                <a:lnTo>
                  <a:pt x="1004" y="212"/>
                </a:lnTo>
                <a:lnTo>
                  <a:pt x="990" y="206"/>
                </a:lnTo>
                <a:lnTo>
                  <a:pt x="979" y="202"/>
                </a:lnTo>
                <a:lnTo>
                  <a:pt x="967" y="198"/>
                </a:lnTo>
                <a:lnTo>
                  <a:pt x="956" y="194"/>
                </a:lnTo>
                <a:lnTo>
                  <a:pt x="944" y="191"/>
                </a:lnTo>
                <a:lnTo>
                  <a:pt x="933" y="189"/>
                </a:lnTo>
                <a:lnTo>
                  <a:pt x="919" y="187"/>
                </a:lnTo>
                <a:lnTo>
                  <a:pt x="906" y="187"/>
                </a:lnTo>
                <a:lnTo>
                  <a:pt x="902" y="187"/>
                </a:lnTo>
                <a:lnTo>
                  <a:pt x="896" y="187"/>
                </a:lnTo>
                <a:lnTo>
                  <a:pt x="889" y="187"/>
                </a:lnTo>
                <a:lnTo>
                  <a:pt x="881" y="189"/>
                </a:lnTo>
                <a:lnTo>
                  <a:pt x="870" y="189"/>
                </a:lnTo>
                <a:lnTo>
                  <a:pt x="858" y="191"/>
                </a:lnTo>
                <a:lnTo>
                  <a:pt x="845" y="192"/>
                </a:lnTo>
                <a:lnTo>
                  <a:pt x="831" y="194"/>
                </a:lnTo>
                <a:lnTo>
                  <a:pt x="814" y="198"/>
                </a:lnTo>
                <a:lnTo>
                  <a:pt x="797" y="200"/>
                </a:lnTo>
                <a:lnTo>
                  <a:pt x="776" y="202"/>
                </a:lnTo>
                <a:lnTo>
                  <a:pt x="754" y="206"/>
                </a:lnTo>
                <a:lnTo>
                  <a:pt x="733" y="210"/>
                </a:lnTo>
                <a:lnTo>
                  <a:pt x="708" y="214"/>
                </a:lnTo>
                <a:lnTo>
                  <a:pt x="683" y="217"/>
                </a:lnTo>
                <a:lnTo>
                  <a:pt x="655" y="223"/>
                </a:lnTo>
                <a:lnTo>
                  <a:pt x="626" y="227"/>
                </a:lnTo>
                <a:lnTo>
                  <a:pt x="595" y="233"/>
                </a:lnTo>
                <a:lnTo>
                  <a:pt x="564" y="238"/>
                </a:lnTo>
                <a:lnTo>
                  <a:pt x="530" y="242"/>
                </a:lnTo>
                <a:lnTo>
                  <a:pt x="495" y="250"/>
                </a:lnTo>
                <a:lnTo>
                  <a:pt x="459" y="256"/>
                </a:lnTo>
                <a:lnTo>
                  <a:pt x="420" y="262"/>
                </a:lnTo>
                <a:lnTo>
                  <a:pt x="380" y="269"/>
                </a:lnTo>
                <a:lnTo>
                  <a:pt x="338" y="277"/>
                </a:lnTo>
                <a:lnTo>
                  <a:pt x="294" y="285"/>
                </a:lnTo>
                <a:lnTo>
                  <a:pt x="250" y="292"/>
                </a:lnTo>
                <a:lnTo>
                  <a:pt x="204" y="300"/>
                </a:lnTo>
                <a:lnTo>
                  <a:pt x="156" y="308"/>
                </a:lnTo>
                <a:lnTo>
                  <a:pt x="106" y="317"/>
                </a:lnTo>
                <a:lnTo>
                  <a:pt x="54" y="325"/>
                </a:lnTo>
                <a:lnTo>
                  <a:pt x="0" y="334"/>
                </a:lnTo>
                <a:lnTo>
                  <a:pt x="0" y="198"/>
                </a:lnTo>
                <a:lnTo>
                  <a:pt x="37" y="196"/>
                </a:lnTo>
                <a:lnTo>
                  <a:pt x="71" y="194"/>
                </a:lnTo>
                <a:lnTo>
                  <a:pt x="106" y="191"/>
                </a:lnTo>
                <a:lnTo>
                  <a:pt x="138" y="189"/>
                </a:lnTo>
                <a:lnTo>
                  <a:pt x="171" y="187"/>
                </a:lnTo>
                <a:lnTo>
                  <a:pt x="202" y="185"/>
                </a:lnTo>
                <a:lnTo>
                  <a:pt x="230" y="181"/>
                </a:lnTo>
                <a:lnTo>
                  <a:pt x="259" y="179"/>
                </a:lnTo>
                <a:lnTo>
                  <a:pt x="286" y="175"/>
                </a:lnTo>
                <a:lnTo>
                  <a:pt x="313" y="173"/>
                </a:lnTo>
                <a:lnTo>
                  <a:pt x="340" y="169"/>
                </a:lnTo>
                <a:lnTo>
                  <a:pt x="365" y="166"/>
                </a:lnTo>
                <a:lnTo>
                  <a:pt x="388" y="162"/>
                </a:lnTo>
                <a:lnTo>
                  <a:pt x="411" y="158"/>
                </a:lnTo>
                <a:lnTo>
                  <a:pt x="432" y="154"/>
                </a:lnTo>
                <a:lnTo>
                  <a:pt x="453" y="148"/>
                </a:lnTo>
                <a:lnTo>
                  <a:pt x="491" y="139"/>
                </a:lnTo>
                <a:lnTo>
                  <a:pt x="530" y="129"/>
                </a:lnTo>
                <a:lnTo>
                  <a:pt x="568" y="121"/>
                </a:lnTo>
                <a:lnTo>
                  <a:pt x="609" y="112"/>
                </a:lnTo>
                <a:lnTo>
                  <a:pt x="649" y="102"/>
                </a:lnTo>
                <a:lnTo>
                  <a:pt x="689" y="93"/>
                </a:lnTo>
                <a:lnTo>
                  <a:pt x="772" y="75"/>
                </a:lnTo>
                <a:lnTo>
                  <a:pt x="793" y="71"/>
                </a:lnTo>
                <a:lnTo>
                  <a:pt x="810" y="70"/>
                </a:lnTo>
                <a:lnTo>
                  <a:pt x="829" y="66"/>
                </a:lnTo>
                <a:lnTo>
                  <a:pt x="845" y="64"/>
                </a:lnTo>
                <a:lnTo>
                  <a:pt x="860" y="60"/>
                </a:lnTo>
                <a:lnTo>
                  <a:pt x="875" y="56"/>
                </a:lnTo>
                <a:lnTo>
                  <a:pt x="889" y="52"/>
                </a:lnTo>
                <a:lnTo>
                  <a:pt x="900" y="50"/>
                </a:lnTo>
                <a:lnTo>
                  <a:pt x="912" y="47"/>
                </a:lnTo>
                <a:lnTo>
                  <a:pt x="921" y="43"/>
                </a:lnTo>
                <a:lnTo>
                  <a:pt x="929" y="39"/>
                </a:lnTo>
                <a:lnTo>
                  <a:pt x="937" y="37"/>
                </a:lnTo>
                <a:lnTo>
                  <a:pt x="944" y="33"/>
                </a:lnTo>
                <a:lnTo>
                  <a:pt x="948" y="29"/>
                </a:lnTo>
                <a:lnTo>
                  <a:pt x="952" y="27"/>
                </a:lnTo>
                <a:lnTo>
                  <a:pt x="956" y="25"/>
                </a:lnTo>
                <a:lnTo>
                  <a:pt x="960" y="20"/>
                </a:lnTo>
                <a:lnTo>
                  <a:pt x="966" y="16"/>
                </a:lnTo>
                <a:lnTo>
                  <a:pt x="973" y="12"/>
                </a:lnTo>
                <a:lnTo>
                  <a:pt x="979" y="8"/>
                </a:lnTo>
                <a:lnTo>
                  <a:pt x="987" y="4"/>
                </a:lnTo>
                <a:lnTo>
                  <a:pt x="992" y="2"/>
                </a:lnTo>
                <a:lnTo>
                  <a:pt x="1000" y="0"/>
                </a:lnTo>
                <a:lnTo>
                  <a:pt x="1004" y="0"/>
                </a:lnTo>
                <a:lnTo>
                  <a:pt x="1008" y="0"/>
                </a:lnTo>
                <a:lnTo>
                  <a:pt x="1012" y="0"/>
                </a:lnTo>
                <a:lnTo>
                  <a:pt x="1015" y="2"/>
                </a:lnTo>
                <a:lnTo>
                  <a:pt x="1023" y="4"/>
                </a:lnTo>
                <a:lnTo>
                  <a:pt x="1029" y="6"/>
                </a:lnTo>
                <a:lnTo>
                  <a:pt x="1038" y="10"/>
                </a:lnTo>
                <a:lnTo>
                  <a:pt x="1046" y="14"/>
                </a:lnTo>
                <a:lnTo>
                  <a:pt x="1056" y="16"/>
                </a:lnTo>
                <a:lnTo>
                  <a:pt x="1067" y="22"/>
                </a:lnTo>
                <a:lnTo>
                  <a:pt x="1079" y="25"/>
                </a:lnTo>
                <a:lnTo>
                  <a:pt x="1092" y="31"/>
                </a:lnTo>
                <a:lnTo>
                  <a:pt x="1104" y="37"/>
                </a:lnTo>
                <a:lnTo>
                  <a:pt x="1119" y="43"/>
                </a:lnTo>
                <a:lnTo>
                  <a:pt x="1133" y="48"/>
                </a:lnTo>
                <a:lnTo>
                  <a:pt x="1148" y="54"/>
                </a:lnTo>
                <a:lnTo>
                  <a:pt x="1163" y="62"/>
                </a:lnTo>
                <a:lnTo>
                  <a:pt x="1179" y="71"/>
                </a:lnTo>
                <a:lnTo>
                  <a:pt x="1194" y="81"/>
                </a:lnTo>
                <a:lnTo>
                  <a:pt x="1207" y="89"/>
                </a:lnTo>
                <a:lnTo>
                  <a:pt x="1219" y="96"/>
                </a:lnTo>
                <a:lnTo>
                  <a:pt x="1230" y="106"/>
                </a:lnTo>
                <a:lnTo>
                  <a:pt x="1240" y="114"/>
                </a:lnTo>
                <a:lnTo>
                  <a:pt x="1250" y="119"/>
                </a:lnTo>
                <a:lnTo>
                  <a:pt x="1259" y="127"/>
                </a:lnTo>
                <a:lnTo>
                  <a:pt x="1265" y="135"/>
                </a:lnTo>
                <a:lnTo>
                  <a:pt x="1273" y="141"/>
                </a:lnTo>
                <a:lnTo>
                  <a:pt x="1278" y="146"/>
                </a:lnTo>
                <a:lnTo>
                  <a:pt x="1284" y="152"/>
                </a:lnTo>
                <a:lnTo>
                  <a:pt x="1288" y="158"/>
                </a:lnTo>
                <a:lnTo>
                  <a:pt x="1292" y="164"/>
                </a:lnTo>
                <a:lnTo>
                  <a:pt x="1296" y="169"/>
                </a:lnTo>
                <a:lnTo>
                  <a:pt x="1298" y="173"/>
                </a:lnTo>
                <a:lnTo>
                  <a:pt x="1298" y="183"/>
                </a:lnTo>
                <a:lnTo>
                  <a:pt x="1296" y="192"/>
                </a:lnTo>
                <a:lnTo>
                  <a:pt x="1294" y="200"/>
                </a:lnTo>
                <a:lnTo>
                  <a:pt x="1290" y="210"/>
                </a:lnTo>
                <a:lnTo>
                  <a:pt x="1284" y="217"/>
                </a:lnTo>
                <a:lnTo>
                  <a:pt x="1278" y="225"/>
                </a:lnTo>
                <a:lnTo>
                  <a:pt x="1271" y="231"/>
                </a:lnTo>
                <a:lnTo>
                  <a:pt x="1261" y="237"/>
                </a:lnTo>
                <a:lnTo>
                  <a:pt x="1259" y="238"/>
                </a:lnTo>
                <a:lnTo>
                  <a:pt x="1257" y="242"/>
                </a:lnTo>
                <a:lnTo>
                  <a:pt x="1255" y="246"/>
                </a:lnTo>
                <a:lnTo>
                  <a:pt x="1252" y="252"/>
                </a:lnTo>
                <a:lnTo>
                  <a:pt x="1250" y="258"/>
                </a:lnTo>
                <a:lnTo>
                  <a:pt x="1248" y="265"/>
                </a:lnTo>
                <a:lnTo>
                  <a:pt x="1246" y="273"/>
                </a:lnTo>
                <a:lnTo>
                  <a:pt x="1244" y="283"/>
                </a:lnTo>
                <a:lnTo>
                  <a:pt x="1240" y="292"/>
                </a:lnTo>
                <a:lnTo>
                  <a:pt x="1238" y="302"/>
                </a:lnTo>
                <a:lnTo>
                  <a:pt x="1236" y="313"/>
                </a:lnTo>
                <a:lnTo>
                  <a:pt x="1234" y="327"/>
                </a:lnTo>
                <a:lnTo>
                  <a:pt x="1232" y="340"/>
                </a:lnTo>
                <a:lnTo>
                  <a:pt x="1228" y="354"/>
                </a:lnTo>
                <a:lnTo>
                  <a:pt x="1227" y="369"/>
                </a:lnTo>
                <a:lnTo>
                  <a:pt x="1225" y="384"/>
                </a:lnTo>
                <a:lnTo>
                  <a:pt x="1223" y="402"/>
                </a:lnTo>
                <a:lnTo>
                  <a:pt x="1221" y="419"/>
                </a:lnTo>
                <a:lnTo>
                  <a:pt x="1217" y="436"/>
                </a:lnTo>
                <a:lnTo>
                  <a:pt x="1215" y="457"/>
                </a:lnTo>
                <a:lnTo>
                  <a:pt x="1213" y="477"/>
                </a:lnTo>
                <a:lnTo>
                  <a:pt x="1211" y="498"/>
                </a:lnTo>
                <a:lnTo>
                  <a:pt x="1209" y="519"/>
                </a:lnTo>
                <a:lnTo>
                  <a:pt x="1205" y="542"/>
                </a:lnTo>
                <a:lnTo>
                  <a:pt x="1204" y="567"/>
                </a:lnTo>
                <a:lnTo>
                  <a:pt x="1202" y="590"/>
                </a:lnTo>
                <a:lnTo>
                  <a:pt x="1200" y="617"/>
                </a:lnTo>
                <a:lnTo>
                  <a:pt x="1198" y="642"/>
                </a:lnTo>
                <a:lnTo>
                  <a:pt x="1196" y="670"/>
                </a:lnTo>
                <a:lnTo>
                  <a:pt x="1192" y="697"/>
                </a:lnTo>
                <a:lnTo>
                  <a:pt x="1190" y="726"/>
                </a:lnTo>
                <a:lnTo>
                  <a:pt x="1188" y="7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89"/>
          <p:cNvSpPr/>
          <p:nvPr/>
        </p:nvSpPr>
        <p:spPr>
          <a:xfrm>
            <a:off x="6264360" y="2738520"/>
            <a:ext cx="160200" cy="938160"/>
          </a:xfrm>
          <a:custGeom>
            <a:avLst/>
            <a:gdLst/>
            <a:ahLst/>
            <a:rect l="l" t="t" r="r" b="b"/>
            <a:pathLst>
              <a:path w="204" h="1180">
                <a:moveTo>
                  <a:pt x="20" y="100"/>
                </a:moveTo>
                <a:lnTo>
                  <a:pt x="16" y="88"/>
                </a:lnTo>
                <a:lnTo>
                  <a:pt x="12" y="76"/>
                </a:lnTo>
                <a:lnTo>
                  <a:pt x="8" y="67"/>
                </a:lnTo>
                <a:lnTo>
                  <a:pt x="6" y="59"/>
                </a:lnTo>
                <a:lnTo>
                  <a:pt x="4" y="50"/>
                </a:lnTo>
                <a:lnTo>
                  <a:pt x="2" y="44"/>
                </a:lnTo>
                <a:lnTo>
                  <a:pt x="2" y="36"/>
                </a:lnTo>
                <a:lnTo>
                  <a:pt x="0" y="30"/>
                </a:lnTo>
                <a:lnTo>
                  <a:pt x="2" y="25"/>
                </a:lnTo>
                <a:lnTo>
                  <a:pt x="2" y="19"/>
                </a:lnTo>
                <a:lnTo>
                  <a:pt x="4" y="15"/>
                </a:lnTo>
                <a:lnTo>
                  <a:pt x="6" y="11"/>
                </a:lnTo>
                <a:lnTo>
                  <a:pt x="8" y="7"/>
                </a:lnTo>
                <a:lnTo>
                  <a:pt x="12" y="5"/>
                </a:lnTo>
                <a:lnTo>
                  <a:pt x="16" y="2"/>
                </a:lnTo>
                <a:lnTo>
                  <a:pt x="20" y="0"/>
                </a:lnTo>
                <a:lnTo>
                  <a:pt x="24" y="0"/>
                </a:lnTo>
                <a:lnTo>
                  <a:pt x="29" y="0"/>
                </a:lnTo>
                <a:lnTo>
                  <a:pt x="37" y="0"/>
                </a:lnTo>
                <a:lnTo>
                  <a:pt x="45" y="2"/>
                </a:lnTo>
                <a:lnTo>
                  <a:pt x="52" y="4"/>
                </a:lnTo>
                <a:lnTo>
                  <a:pt x="62" y="4"/>
                </a:lnTo>
                <a:lnTo>
                  <a:pt x="73" y="5"/>
                </a:lnTo>
                <a:lnTo>
                  <a:pt x="83" y="9"/>
                </a:lnTo>
                <a:lnTo>
                  <a:pt x="96" y="11"/>
                </a:lnTo>
                <a:lnTo>
                  <a:pt x="108" y="13"/>
                </a:lnTo>
                <a:lnTo>
                  <a:pt x="121" y="17"/>
                </a:lnTo>
                <a:lnTo>
                  <a:pt x="137" y="21"/>
                </a:lnTo>
                <a:lnTo>
                  <a:pt x="152" y="23"/>
                </a:lnTo>
                <a:lnTo>
                  <a:pt x="167" y="27"/>
                </a:lnTo>
                <a:lnTo>
                  <a:pt x="185" y="32"/>
                </a:lnTo>
                <a:lnTo>
                  <a:pt x="204" y="36"/>
                </a:lnTo>
                <a:lnTo>
                  <a:pt x="204" y="71"/>
                </a:lnTo>
                <a:lnTo>
                  <a:pt x="204" y="105"/>
                </a:lnTo>
                <a:lnTo>
                  <a:pt x="204" y="138"/>
                </a:lnTo>
                <a:lnTo>
                  <a:pt x="204" y="172"/>
                </a:lnTo>
                <a:lnTo>
                  <a:pt x="202" y="205"/>
                </a:lnTo>
                <a:lnTo>
                  <a:pt x="202" y="236"/>
                </a:lnTo>
                <a:lnTo>
                  <a:pt x="202" y="268"/>
                </a:lnTo>
                <a:lnTo>
                  <a:pt x="202" y="299"/>
                </a:lnTo>
                <a:lnTo>
                  <a:pt x="202" y="330"/>
                </a:lnTo>
                <a:lnTo>
                  <a:pt x="202" y="359"/>
                </a:lnTo>
                <a:lnTo>
                  <a:pt x="202" y="389"/>
                </a:lnTo>
                <a:lnTo>
                  <a:pt x="202" y="418"/>
                </a:lnTo>
                <a:lnTo>
                  <a:pt x="202" y="445"/>
                </a:lnTo>
                <a:lnTo>
                  <a:pt x="202" y="474"/>
                </a:lnTo>
                <a:lnTo>
                  <a:pt x="202" y="501"/>
                </a:lnTo>
                <a:lnTo>
                  <a:pt x="202" y="528"/>
                </a:lnTo>
                <a:lnTo>
                  <a:pt x="202" y="554"/>
                </a:lnTo>
                <a:lnTo>
                  <a:pt x="200" y="579"/>
                </a:lnTo>
                <a:lnTo>
                  <a:pt x="200" y="604"/>
                </a:lnTo>
                <a:lnTo>
                  <a:pt x="200" y="629"/>
                </a:lnTo>
                <a:lnTo>
                  <a:pt x="200" y="652"/>
                </a:lnTo>
                <a:lnTo>
                  <a:pt x="198" y="677"/>
                </a:lnTo>
                <a:lnTo>
                  <a:pt x="198" y="698"/>
                </a:lnTo>
                <a:lnTo>
                  <a:pt x="198" y="721"/>
                </a:lnTo>
                <a:lnTo>
                  <a:pt x="198" y="743"/>
                </a:lnTo>
                <a:lnTo>
                  <a:pt x="196" y="764"/>
                </a:lnTo>
                <a:lnTo>
                  <a:pt x="196" y="785"/>
                </a:lnTo>
                <a:lnTo>
                  <a:pt x="194" y="806"/>
                </a:lnTo>
                <a:lnTo>
                  <a:pt x="194" y="825"/>
                </a:lnTo>
                <a:lnTo>
                  <a:pt x="192" y="844"/>
                </a:lnTo>
                <a:lnTo>
                  <a:pt x="192" y="862"/>
                </a:lnTo>
                <a:lnTo>
                  <a:pt x="190" y="879"/>
                </a:lnTo>
                <a:lnTo>
                  <a:pt x="190" y="896"/>
                </a:lnTo>
                <a:lnTo>
                  <a:pt x="189" y="913"/>
                </a:lnTo>
                <a:lnTo>
                  <a:pt x="187" y="929"/>
                </a:lnTo>
                <a:lnTo>
                  <a:pt x="187" y="946"/>
                </a:lnTo>
                <a:lnTo>
                  <a:pt x="185" y="959"/>
                </a:lnTo>
                <a:lnTo>
                  <a:pt x="183" y="975"/>
                </a:lnTo>
                <a:lnTo>
                  <a:pt x="181" y="988"/>
                </a:lnTo>
                <a:lnTo>
                  <a:pt x="181" y="1004"/>
                </a:lnTo>
                <a:lnTo>
                  <a:pt x="179" y="1015"/>
                </a:lnTo>
                <a:lnTo>
                  <a:pt x="177" y="1029"/>
                </a:lnTo>
                <a:lnTo>
                  <a:pt x="175" y="1040"/>
                </a:lnTo>
                <a:lnTo>
                  <a:pt x="173" y="1052"/>
                </a:lnTo>
                <a:lnTo>
                  <a:pt x="171" y="1063"/>
                </a:lnTo>
                <a:lnTo>
                  <a:pt x="169" y="1075"/>
                </a:lnTo>
                <a:lnTo>
                  <a:pt x="167" y="1084"/>
                </a:lnTo>
                <a:lnTo>
                  <a:pt x="166" y="1094"/>
                </a:lnTo>
                <a:lnTo>
                  <a:pt x="166" y="1103"/>
                </a:lnTo>
                <a:lnTo>
                  <a:pt x="164" y="1111"/>
                </a:lnTo>
                <a:lnTo>
                  <a:pt x="162" y="1119"/>
                </a:lnTo>
                <a:lnTo>
                  <a:pt x="160" y="1126"/>
                </a:lnTo>
                <a:lnTo>
                  <a:pt x="158" y="1134"/>
                </a:lnTo>
                <a:lnTo>
                  <a:pt x="156" y="1140"/>
                </a:lnTo>
                <a:lnTo>
                  <a:pt x="154" y="1146"/>
                </a:lnTo>
                <a:lnTo>
                  <a:pt x="152" y="1151"/>
                </a:lnTo>
                <a:lnTo>
                  <a:pt x="152" y="1157"/>
                </a:lnTo>
                <a:lnTo>
                  <a:pt x="150" y="1161"/>
                </a:lnTo>
                <a:lnTo>
                  <a:pt x="148" y="1165"/>
                </a:lnTo>
                <a:lnTo>
                  <a:pt x="146" y="1169"/>
                </a:lnTo>
                <a:lnTo>
                  <a:pt x="146" y="1171"/>
                </a:lnTo>
                <a:lnTo>
                  <a:pt x="144" y="1174"/>
                </a:lnTo>
                <a:lnTo>
                  <a:pt x="143" y="1176"/>
                </a:lnTo>
                <a:lnTo>
                  <a:pt x="143" y="1178"/>
                </a:lnTo>
                <a:lnTo>
                  <a:pt x="137" y="1180"/>
                </a:lnTo>
                <a:lnTo>
                  <a:pt x="133" y="1180"/>
                </a:lnTo>
                <a:lnTo>
                  <a:pt x="127" y="1180"/>
                </a:lnTo>
                <a:lnTo>
                  <a:pt x="123" y="1180"/>
                </a:lnTo>
                <a:lnTo>
                  <a:pt x="119" y="1178"/>
                </a:lnTo>
                <a:lnTo>
                  <a:pt x="114" y="1176"/>
                </a:lnTo>
                <a:lnTo>
                  <a:pt x="110" y="1173"/>
                </a:lnTo>
                <a:lnTo>
                  <a:pt x="104" y="1169"/>
                </a:lnTo>
                <a:lnTo>
                  <a:pt x="100" y="1165"/>
                </a:lnTo>
                <a:lnTo>
                  <a:pt x="96" y="1159"/>
                </a:lnTo>
                <a:lnTo>
                  <a:pt x="91" y="1153"/>
                </a:lnTo>
                <a:lnTo>
                  <a:pt x="87" y="1148"/>
                </a:lnTo>
                <a:lnTo>
                  <a:pt x="81" y="1140"/>
                </a:lnTo>
                <a:lnTo>
                  <a:pt x="77" y="1132"/>
                </a:lnTo>
                <a:lnTo>
                  <a:pt x="73" y="1125"/>
                </a:lnTo>
                <a:lnTo>
                  <a:pt x="68" y="1115"/>
                </a:lnTo>
                <a:lnTo>
                  <a:pt x="62" y="1105"/>
                </a:lnTo>
                <a:lnTo>
                  <a:pt x="56" y="1098"/>
                </a:lnTo>
                <a:lnTo>
                  <a:pt x="50" y="1088"/>
                </a:lnTo>
                <a:lnTo>
                  <a:pt x="45" y="1080"/>
                </a:lnTo>
                <a:lnTo>
                  <a:pt x="41" y="1073"/>
                </a:lnTo>
                <a:lnTo>
                  <a:pt x="37" y="1065"/>
                </a:lnTo>
                <a:lnTo>
                  <a:pt x="29" y="1052"/>
                </a:lnTo>
                <a:lnTo>
                  <a:pt x="25" y="1040"/>
                </a:lnTo>
                <a:lnTo>
                  <a:pt x="24" y="1034"/>
                </a:lnTo>
                <a:lnTo>
                  <a:pt x="22" y="1030"/>
                </a:lnTo>
                <a:lnTo>
                  <a:pt x="22" y="1025"/>
                </a:lnTo>
                <a:lnTo>
                  <a:pt x="20" y="1023"/>
                </a:lnTo>
                <a:lnTo>
                  <a:pt x="20" y="1019"/>
                </a:lnTo>
                <a:lnTo>
                  <a:pt x="20" y="1017"/>
                </a:lnTo>
                <a:lnTo>
                  <a:pt x="20" y="1013"/>
                </a:lnTo>
                <a:lnTo>
                  <a:pt x="20" y="1009"/>
                </a:lnTo>
                <a:lnTo>
                  <a:pt x="20" y="1006"/>
                </a:lnTo>
                <a:lnTo>
                  <a:pt x="22" y="1002"/>
                </a:lnTo>
                <a:lnTo>
                  <a:pt x="22" y="996"/>
                </a:lnTo>
                <a:lnTo>
                  <a:pt x="24" y="990"/>
                </a:lnTo>
                <a:lnTo>
                  <a:pt x="25" y="984"/>
                </a:lnTo>
                <a:lnTo>
                  <a:pt x="27" y="977"/>
                </a:lnTo>
                <a:lnTo>
                  <a:pt x="29" y="969"/>
                </a:lnTo>
                <a:lnTo>
                  <a:pt x="31" y="961"/>
                </a:lnTo>
                <a:lnTo>
                  <a:pt x="33" y="952"/>
                </a:lnTo>
                <a:lnTo>
                  <a:pt x="35" y="940"/>
                </a:lnTo>
                <a:lnTo>
                  <a:pt x="37" y="931"/>
                </a:lnTo>
                <a:lnTo>
                  <a:pt x="39" y="917"/>
                </a:lnTo>
                <a:lnTo>
                  <a:pt x="41" y="906"/>
                </a:lnTo>
                <a:lnTo>
                  <a:pt x="45" y="892"/>
                </a:lnTo>
                <a:lnTo>
                  <a:pt x="47" y="879"/>
                </a:lnTo>
                <a:lnTo>
                  <a:pt x="48" y="865"/>
                </a:lnTo>
                <a:lnTo>
                  <a:pt x="48" y="850"/>
                </a:lnTo>
                <a:lnTo>
                  <a:pt x="50" y="831"/>
                </a:lnTo>
                <a:lnTo>
                  <a:pt x="52" y="812"/>
                </a:lnTo>
                <a:lnTo>
                  <a:pt x="52" y="791"/>
                </a:lnTo>
                <a:lnTo>
                  <a:pt x="54" y="768"/>
                </a:lnTo>
                <a:lnTo>
                  <a:pt x="54" y="743"/>
                </a:lnTo>
                <a:lnTo>
                  <a:pt x="54" y="718"/>
                </a:lnTo>
                <a:lnTo>
                  <a:pt x="56" y="689"/>
                </a:lnTo>
                <a:lnTo>
                  <a:pt x="56" y="658"/>
                </a:lnTo>
                <a:lnTo>
                  <a:pt x="56" y="627"/>
                </a:lnTo>
                <a:lnTo>
                  <a:pt x="56" y="593"/>
                </a:lnTo>
                <a:lnTo>
                  <a:pt x="56" y="558"/>
                </a:lnTo>
                <a:lnTo>
                  <a:pt x="56" y="522"/>
                </a:lnTo>
                <a:lnTo>
                  <a:pt x="56" y="483"/>
                </a:lnTo>
                <a:lnTo>
                  <a:pt x="56" y="464"/>
                </a:lnTo>
                <a:lnTo>
                  <a:pt x="56" y="445"/>
                </a:lnTo>
                <a:lnTo>
                  <a:pt x="56" y="426"/>
                </a:lnTo>
                <a:lnTo>
                  <a:pt x="56" y="409"/>
                </a:lnTo>
                <a:lnTo>
                  <a:pt x="56" y="391"/>
                </a:lnTo>
                <a:lnTo>
                  <a:pt x="54" y="374"/>
                </a:lnTo>
                <a:lnTo>
                  <a:pt x="54" y="357"/>
                </a:lnTo>
                <a:lnTo>
                  <a:pt x="54" y="341"/>
                </a:lnTo>
                <a:lnTo>
                  <a:pt x="52" y="326"/>
                </a:lnTo>
                <a:lnTo>
                  <a:pt x="52" y="311"/>
                </a:lnTo>
                <a:lnTo>
                  <a:pt x="52" y="295"/>
                </a:lnTo>
                <a:lnTo>
                  <a:pt x="50" y="282"/>
                </a:lnTo>
                <a:lnTo>
                  <a:pt x="50" y="268"/>
                </a:lnTo>
                <a:lnTo>
                  <a:pt x="48" y="255"/>
                </a:lnTo>
                <a:lnTo>
                  <a:pt x="47" y="230"/>
                </a:lnTo>
                <a:lnTo>
                  <a:pt x="45" y="207"/>
                </a:lnTo>
                <a:lnTo>
                  <a:pt x="41" y="186"/>
                </a:lnTo>
                <a:lnTo>
                  <a:pt x="39" y="167"/>
                </a:lnTo>
                <a:lnTo>
                  <a:pt x="35" y="149"/>
                </a:lnTo>
                <a:lnTo>
                  <a:pt x="31" y="134"/>
                </a:lnTo>
                <a:lnTo>
                  <a:pt x="27" y="121"/>
                </a:lnTo>
                <a:lnTo>
                  <a:pt x="24" y="109"/>
                </a:lnTo>
                <a:lnTo>
                  <a:pt x="20" y="1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90"/>
          <p:cNvSpPr/>
          <p:nvPr/>
        </p:nvSpPr>
        <p:spPr>
          <a:xfrm>
            <a:off x="6462720" y="2271600"/>
            <a:ext cx="434880" cy="536760"/>
          </a:xfrm>
          <a:custGeom>
            <a:avLst/>
            <a:gdLst/>
            <a:ahLst/>
            <a:rect l="l" t="t" r="r" b="b"/>
            <a:pathLst>
              <a:path w="547" h="676">
                <a:moveTo>
                  <a:pt x="539" y="217"/>
                </a:moveTo>
                <a:lnTo>
                  <a:pt x="537" y="219"/>
                </a:lnTo>
                <a:lnTo>
                  <a:pt x="535" y="223"/>
                </a:lnTo>
                <a:lnTo>
                  <a:pt x="532" y="227"/>
                </a:lnTo>
                <a:lnTo>
                  <a:pt x="528" y="233"/>
                </a:lnTo>
                <a:lnTo>
                  <a:pt x="524" y="238"/>
                </a:lnTo>
                <a:lnTo>
                  <a:pt x="518" y="244"/>
                </a:lnTo>
                <a:lnTo>
                  <a:pt x="510" y="252"/>
                </a:lnTo>
                <a:lnTo>
                  <a:pt x="505" y="260"/>
                </a:lnTo>
                <a:lnTo>
                  <a:pt x="495" y="267"/>
                </a:lnTo>
                <a:lnTo>
                  <a:pt x="487" y="277"/>
                </a:lnTo>
                <a:lnTo>
                  <a:pt x="478" y="286"/>
                </a:lnTo>
                <a:lnTo>
                  <a:pt x="466" y="298"/>
                </a:lnTo>
                <a:lnTo>
                  <a:pt x="455" y="309"/>
                </a:lnTo>
                <a:lnTo>
                  <a:pt x="443" y="321"/>
                </a:lnTo>
                <a:lnTo>
                  <a:pt x="430" y="334"/>
                </a:lnTo>
                <a:lnTo>
                  <a:pt x="416" y="348"/>
                </a:lnTo>
                <a:lnTo>
                  <a:pt x="403" y="363"/>
                </a:lnTo>
                <a:lnTo>
                  <a:pt x="388" y="379"/>
                </a:lnTo>
                <a:lnTo>
                  <a:pt x="370" y="394"/>
                </a:lnTo>
                <a:lnTo>
                  <a:pt x="353" y="411"/>
                </a:lnTo>
                <a:lnTo>
                  <a:pt x="336" y="428"/>
                </a:lnTo>
                <a:lnTo>
                  <a:pt x="317" y="448"/>
                </a:lnTo>
                <a:lnTo>
                  <a:pt x="297" y="467"/>
                </a:lnTo>
                <a:lnTo>
                  <a:pt x="278" y="486"/>
                </a:lnTo>
                <a:lnTo>
                  <a:pt x="257" y="507"/>
                </a:lnTo>
                <a:lnTo>
                  <a:pt x="234" y="528"/>
                </a:lnTo>
                <a:lnTo>
                  <a:pt x="211" y="551"/>
                </a:lnTo>
                <a:lnTo>
                  <a:pt x="188" y="574"/>
                </a:lnTo>
                <a:lnTo>
                  <a:pt x="163" y="599"/>
                </a:lnTo>
                <a:lnTo>
                  <a:pt x="138" y="624"/>
                </a:lnTo>
                <a:lnTo>
                  <a:pt x="113" y="649"/>
                </a:lnTo>
                <a:lnTo>
                  <a:pt x="86" y="676"/>
                </a:lnTo>
                <a:lnTo>
                  <a:pt x="42" y="665"/>
                </a:lnTo>
                <a:lnTo>
                  <a:pt x="0" y="651"/>
                </a:lnTo>
                <a:lnTo>
                  <a:pt x="29" y="611"/>
                </a:lnTo>
                <a:lnTo>
                  <a:pt x="56" y="571"/>
                </a:lnTo>
                <a:lnTo>
                  <a:pt x="82" y="532"/>
                </a:lnTo>
                <a:lnTo>
                  <a:pt x="107" y="498"/>
                </a:lnTo>
                <a:lnTo>
                  <a:pt x="130" y="463"/>
                </a:lnTo>
                <a:lnTo>
                  <a:pt x="152" y="430"/>
                </a:lnTo>
                <a:lnTo>
                  <a:pt x="173" y="400"/>
                </a:lnTo>
                <a:lnTo>
                  <a:pt x="192" y="371"/>
                </a:lnTo>
                <a:lnTo>
                  <a:pt x="209" y="344"/>
                </a:lnTo>
                <a:lnTo>
                  <a:pt x="226" y="319"/>
                </a:lnTo>
                <a:lnTo>
                  <a:pt x="242" y="296"/>
                </a:lnTo>
                <a:lnTo>
                  <a:pt x="255" y="275"/>
                </a:lnTo>
                <a:lnTo>
                  <a:pt x="267" y="254"/>
                </a:lnTo>
                <a:lnTo>
                  <a:pt x="276" y="237"/>
                </a:lnTo>
                <a:lnTo>
                  <a:pt x="286" y="219"/>
                </a:lnTo>
                <a:lnTo>
                  <a:pt x="294" y="206"/>
                </a:lnTo>
                <a:lnTo>
                  <a:pt x="299" y="194"/>
                </a:lnTo>
                <a:lnTo>
                  <a:pt x="305" y="183"/>
                </a:lnTo>
                <a:lnTo>
                  <a:pt x="311" y="171"/>
                </a:lnTo>
                <a:lnTo>
                  <a:pt x="315" y="160"/>
                </a:lnTo>
                <a:lnTo>
                  <a:pt x="319" y="150"/>
                </a:lnTo>
                <a:lnTo>
                  <a:pt x="320" y="141"/>
                </a:lnTo>
                <a:lnTo>
                  <a:pt x="322" y="131"/>
                </a:lnTo>
                <a:lnTo>
                  <a:pt x="324" y="121"/>
                </a:lnTo>
                <a:lnTo>
                  <a:pt x="324" y="112"/>
                </a:lnTo>
                <a:lnTo>
                  <a:pt x="324" y="102"/>
                </a:lnTo>
                <a:lnTo>
                  <a:pt x="324" y="94"/>
                </a:lnTo>
                <a:lnTo>
                  <a:pt x="324" y="87"/>
                </a:lnTo>
                <a:lnTo>
                  <a:pt x="322" y="71"/>
                </a:lnTo>
                <a:lnTo>
                  <a:pt x="319" y="56"/>
                </a:lnTo>
                <a:lnTo>
                  <a:pt x="315" y="47"/>
                </a:lnTo>
                <a:lnTo>
                  <a:pt x="311" y="39"/>
                </a:lnTo>
                <a:lnTo>
                  <a:pt x="309" y="33"/>
                </a:lnTo>
                <a:lnTo>
                  <a:pt x="309" y="27"/>
                </a:lnTo>
                <a:lnTo>
                  <a:pt x="309" y="22"/>
                </a:lnTo>
                <a:lnTo>
                  <a:pt x="311" y="16"/>
                </a:lnTo>
                <a:lnTo>
                  <a:pt x="315" y="10"/>
                </a:lnTo>
                <a:lnTo>
                  <a:pt x="319" y="6"/>
                </a:lnTo>
                <a:lnTo>
                  <a:pt x="320" y="4"/>
                </a:lnTo>
                <a:lnTo>
                  <a:pt x="324" y="2"/>
                </a:lnTo>
                <a:lnTo>
                  <a:pt x="328" y="2"/>
                </a:lnTo>
                <a:lnTo>
                  <a:pt x="332" y="0"/>
                </a:lnTo>
                <a:lnTo>
                  <a:pt x="336" y="0"/>
                </a:lnTo>
                <a:lnTo>
                  <a:pt x="342" y="2"/>
                </a:lnTo>
                <a:lnTo>
                  <a:pt x="353" y="2"/>
                </a:lnTo>
                <a:lnTo>
                  <a:pt x="367" y="6"/>
                </a:lnTo>
                <a:lnTo>
                  <a:pt x="382" y="10"/>
                </a:lnTo>
                <a:lnTo>
                  <a:pt x="399" y="14"/>
                </a:lnTo>
                <a:lnTo>
                  <a:pt x="416" y="20"/>
                </a:lnTo>
                <a:lnTo>
                  <a:pt x="443" y="37"/>
                </a:lnTo>
                <a:lnTo>
                  <a:pt x="457" y="47"/>
                </a:lnTo>
                <a:lnTo>
                  <a:pt x="472" y="58"/>
                </a:lnTo>
                <a:lnTo>
                  <a:pt x="486" y="68"/>
                </a:lnTo>
                <a:lnTo>
                  <a:pt x="499" y="79"/>
                </a:lnTo>
                <a:lnTo>
                  <a:pt x="512" y="93"/>
                </a:lnTo>
                <a:lnTo>
                  <a:pt x="526" y="106"/>
                </a:lnTo>
                <a:lnTo>
                  <a:pt x="530" y="112"/>
                </a:lnTo>
                <a:lnTo>
                  <a:pt x="534" y="119"/>
                </a:lnTo>
                <a:lnTo>
                  <a:pt x="537" y="127"/>
                </a:lnTo>
                <a:lnTo>
                  <a:pt x="539" y="133"/>
                </a:lnTo>
                <a:lnTo>
                  <a:pt x="543" y="141"/>
                </a:lnTo>
                <a:lnTo>
                  <a:pt x="543" y="148"/>
                </a:lnTo>
                <a:lnTo>
                  <a:pt x="547" y="162"/>
                </a:lnTo>
                <a:lnTo>
                  <a:pt x="547" y="175"/>
                </a:lnTo>
                <a:lnTo>
                  <a:pt x="545" y="189"/>
                </a:lnTo>
                <a:lnTo>
                  <a:pt x="543" y="204"/>
                </a:lnTo>
                <a:lnTo>
                  <a:pt x="539" y="2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191"/>
          <p:cNvSpPr/>
          <p:nvPr/>
        </p:nvSpPr>
        <p:spPr>
          <a:xfrm>
            <a:off x="5667480" y="3398760"/>
            <a:ext cx="409320" cy="157320"/>
          </a:xfrm>
          <a:custGeom>
            <a:avLst/>
            <a:gdLst/>
            <a:ahLst/>
            <a:rect l="l" t="t" r="r" b="b"/>
            <a:pathLst>
              <a:path w="516" h="198">
                <a:moveTo>
                  <a:pt x="269" y="36"/>
                </a:moveTo>
                <a:lnTo>
                  <a:pt x="284" y="32"/>
                </a:lnTo>
                <a:lnTo>
                  <a:pt x="299" y="27"/>
                </a:lnTo>
                <a:lnTo>
                  <a:pt x="313" y="23"/>
                </a:lnTo>
                <a:lnTo>
                  <a:pt x="326" y="19"/>
                </a:lnTo>
                <a:lnTo>
                  <a:pt x="340" y="17"/>
                </a:lnTo>
                <a:lnTo>
                  <a:pt x="351" y="13"/>
                </a:lnTo>
                <a:lnTo>
                  <a:pt x="363" y="11"/>
                </a:lnTo>
                <a:lnTo>
                  <a:pt x="374" y="8"/>
                </a:lnTo>
                <a:lnTo>
                  <a:pt x="384" y="6"/>
                </a:lnTo>
                <a:lnTo>
                  <a:pt x="394" y="4"/>
                </a:lnTo>
                <a:lnTo>
                  <a:pt x="401" y="2"/>
                </a:lnTo>
                <a:lnTo>
                  <a:pt x="411" y="2"/>
                </a:lnTo>
                <a:lnTo>
                  <a:pt x="426" y="0"/>
                </a:lnTo>
                <a:lnTo>
                  <a:pt x="442" y="0"/>
                </a:lnTo>
                <a:lnTo>
                  <a:pt x="455" y="0"/>
                </a:lnTo>
                <a:lnTo>
                  <a:pt x="466" y="2"/>
                </a:lnTo>
                <a:lnTo>
                  <a:pt x="478" y="6"/>
                </a:lnTo>
                <a:lnTo>
                  <a:pt x="488" y="9"/>
                </a:lnTo>
                <a:lnTo>
                  <a:pt x="495" y="17"/>
                </a:lnTo>
                <a:lnTo>
                  <a:pt x="499" y="21"/>
                </a:lnTo>
                <a:lnTo>
                  <a:pt x="503" y="25"/>
                </a:lnTo>
                <a:lnTo>
                  <a:pt x="507" y="31"/>
                </a:lnTo>
                <a:lnTo>
                  <a:pt x="509" y="36"/>
                </a:lnTo>
                <a:lnTo>
                  <a:pt x="513" y="42"/>
                </a:lnTo>
                <a:lnTo>
                  <a:pt x="514" y="48"/>
                </a:lnTo>
                <a:lnTo>
                  <a:pt x="514" y="52"/>
                </a:lnTo>
                <a:lnTo>
                  <a:pt x="516" y="56"/>
                </a:lnTo>
                <a:lnTo>
                  <a:pt x="516" y="59"/>
                </a:lnTo>
                <a:lnTo>
                  <a:pt x="514" y="61"/>
                </a:lnTo>
                <a:lnTo>
                  <a:pt x="514" y="65"/>
                </a:lnTo>
                <a:lnTo>
                  <a:pt x="513" y="69"/>
                </a:lnTo>
                <a:lnTo>
                  <a:pt x="509" y="75"/>
                </a:lnTo>
                <a:lnTo>
                  <a:pt x="501" y="80"/>
                </a:lnTo>
                <a:lnTo>
                  <a:pt x="493" y="86"/>
                </a:lnTo>
                <a:lnTo>
                  <a:pt x="484" y="92"/>
                </a:lnTo>
                <a:lnTo>
                  <a:pt x="472" y="98"/>
                </a:lnTo>
                <a:lnTo>
                  <a:pt x="459" y="103"/>
                </a:lnTo>
                <a:lnTo>
                  <a:pt x="443" y="109"/>
                </a:lnTo>
                <a:lnTo>
                  <a:pt x="426" y="115"/>
                </a:lnTo>
                <a:lnTo>
                  <a:pt x="407" y="121"/>
                </a:lnTo>
                <a:lnTo>
                  <a:pt x="388" y="128"/>
                </a:lnTo>
                <a:lnTo>
                  <a:pt x="367" y="134"/>
                </a:lnTo>
                <a:lnTo>
                  <a:pt x="344" y="140"/>
                </a:lnTo>
                <a:lnTo>
                  <a:pt x="319" y="148"/>
                </a:lnTo>
                <a:lnTo>
                  <a:pt x="292" y="155"/>
                </a:lnTo>
                <a:lnTo>
                  <a:pt x="265" y="161"/>
                </a:lnTo>
                <a:lnTo>
                  <a:pt x="240" y="167"/>
                </a:lnTo>
                <a:lnTo>
                  <a:pt x="215" y="171"/>
                </a:lnTo>
                <a:lnTo>
                  <a:pt x="192" y="176"/>
                </a:lnTo>
                <a:lnTo>
                  <a:pt x="169" y="180"/>
                </a:lnTo>
                <a:lnTo>
                  <a:pt x="148" y="184"/>
                </a:lnTo>
                <a:lnTo>
                  <a:pt x="127" y="186"/>
                </a:lnTo>
                <a:lnTo>
                  <a:pt x="108" y="190"/>
                </a:lnTo>
                <a:lnTo>
                  <a:pt x="88" y="192"/>
                </a:lnTo>
                <a:lnTo>
                  <a:pt x="71" y="194"/>
                </a:lnTo>
                <a:lnTo>
                  <a:pt x="56" y="196"/>
                </a:lnTo>
                <a:lnTo>
                  <a:pt x="40" y="196"/>
                </a:lnTo>
                <a:lnTo>
                  <a:pt x="25" y="198"/>
                </a:lnTo>
                <a:lnTo>
                  <a:pt x="12" y="198"/>
                </a:lnTo>
                <a:lnTo>
                  <a:pt x="0" y="198"/>
                </a:lnTo>
                <a:lnTo>
                  <a:pt x="0" y="142"/>
                </a:lnTo>
                <a:lnTo>
                  <a:pt x="0" y="86"/>
                </a:lnTo>
                <a:lnTo>
                  <a:pt x="21" y="84"/>
                </a:lnTo>
                <a:lnTo>
                  <a:pt x="40" y="80"/>
                </a:lnTo>
                <a:lnTo>
                  <a:pt x="60" y="79"/>
                </a:lnTo>
                <a:lnTo>
                  <a:pt x="79" y="77"/>
                </a:lnTo>
                <a:lnTo>
                  <a:pt x="96" y="75"/>
                </a:lnTo>
                <a:lnTo>
                  <a:pt x="115" y="71"/>
                </a:lnTo>
                <a:lnTo>
                  <a:pt x="148" y="65"/>
                </a:lnTo>
                <a:lnTo>
                  <a:pt x="180" y="59"/>
                </a:lnTo>
                <a:lnTo>
                  <a:pt x="211" y="54"/>
                </a:lnTo>
                <a:lnTo>
                  <a:pt x="242" y="46"/>
                </a:lnTo>
                <a:lnTo>
                  <a:pt x="269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92"/>
          <p:cNvSpPr/>
          <p:nvPr/>
        </p:nvSpPr>
        <p:spPr>
          <a:xfrm>
            <a:off x="5589720" y="2886120"/>
            <a:ext cx="571320" cy="561960"/>
          </a:xfrm>
          <a:custGeom>
            <a:avLst/>
            <a:gdLst/>
            <a:ahLst/>
            <a:rect l="l" t="t" r="r" b="b"/>
            <a:pathLst>
              <a:path w="722" h="706">
                <a:moveTo>
                  <a:pt x="405" y="36"/>
                </a:moveTo>
                <a:lnTo>
                  <a:pt x="409" y="27"/>
                </a:lnTo>
                <a:lnTo>
                  <a:pt x="415" y="19"/>
                </a:lnTo>
                <a:lnTo>
                  <a:pt x="422" y="13"/>
                </a:lnTo>
                <a:lnTo>
                  <a:pt x="432" y="8"/>
                </a:lnTo>
                <a:lnTo>
                  <a:pt x="442" y="4"/>
                </a:lnTo>
                <a:lnTo>
                  <a:pt x="453" y="2"/>
                </a:lnTo>
                <a:lnTo>
                  <a:pt x="465" y="0"/>
                </a:lnTo>
                <a:lnTo>
                  <a:pt x="478" y="0"/>
                </a:lnTo>
                <a:lnTo>
                  <a:pt x="482" y="0"/>
                </a:lnTo>
                <a:lnTo>
                  <a:pt x="488" y="0"/>
                </a:lnTo>
                <a:lnTo>
                  <a:pt x="493" y="2"/>
                </a:lnTo>
                <a:lnTo>
                  <a:pt x="501" y="4"/>
                </a:lnTo>
                <a:lnTo>
                  <a:pt x="509" y="6"/>
                </a:lnTo>
                <a:lnTo>
                  <a:pt x="516" y="10"/>
                </a:lnTo>
                <a:lnTo>
                  <a:pt x="524" y="13"/>
                </a:lnTo>
                <a:lnTo>
                  <a:pt x="534" y="17"/>
                </a:lnTo>
                <a:lnTo>
                  <a:pt x="541" y="23"/>
                </a:lnTo>
                <a:lnTo>
                  <a:pt x="553" y="29"/>
                </a:lnTo>
                <a:lnTo>
                  <a:pt x="563" y="34"/>
                </a:lnTo>
                <a:lnTo>
                  <a:pt x="574" y="40"/>
                </a:lnTo>
                <a:lnTo>
                  <a:pt x="586" y="48"/>
                </a:lnTo>
                <a:lnTo>
                  <a:pt x="599" y="56"/>
                </a:lnTo>
                <a:lnTo>
                  <a:pt x="611" y="65"/>
                </a:lnTo>
                <a:lnTo>
                  <a:pt x="624" y="73"/>
                </a:lnTo>
                <a:lnTo>
                  <a:pt x="635" y="82"/>
                </a:lnTo>
                <a:lnTo>
                  <a:pt x="647" y="92"/>
                </a:lnTo>
                <a:lnTo>
                  <a:pt x="657" y="100"/>
                </a:lnTo>
                <a:lnTo>
                  <a:pt x="666" y="109"/>
                </a:lnTo>
                <a:lnTo>
                  <a:pt x="674" y="117"/>
                </a:lnTo>
                <a:lnTo>
                  <a:pt x="682" y="123"/>
                </a:lnTo>
                <a:lnTo>
                  <a:pt x="689" y="130"/>
                </a:lnTo>
                <a:lnTo>
                  <a:pt x="697" y="138"/>
                </a:lnTo>
                <a:lnTo>
                  <a:pt x="703" y="144"/>
                </a:lnTo>
                <a:lnTo>
                  <a:pt x="708" y="150"/>
                </a:lnTo>
                <a:lnTo>
                  <a:pt x="712" y="153"/>
                </a:lnTo>
                <a:lnTo>
                  <a:pt x="716" y="159"/>
                </a:lnTo>
                <a:lnTo>
                  <a:pt x="718" y="163"/>
                </a:lnTo>
                <a:lnTo>
                  <a:pt x="720" y="167"/>
                </a:lnTo>
                <a:lnTo>
                  <a:pt x="722" y="171"/>
                </a:lnTo>
                <a:lnTo>
                  <a:pt x="722" y="173"/>
                </a:lnTo>
                <a:lnTo>
                  <a:pt x="722" y="178"/>
                </a:lnTo>
                <a:lnTo>
                  <a:pt x="720" y="184"/>
                </a:lnTo>
                <a:lnTo>
                  <a:pt x="718" y="190"/>
                </a:lnTo>
                <a:lnTo>
                  <a:pt x="714" y="198"/>
                </a:lnTo>
                <a:lnTo>
                  <a:pt x="708" y="203"/>
                </a:lnTo>
                <a:lnTo>
                  <a:pt x="703" y="211"/>
                </a:lnTo>
                <a:lnTo>
                  <a:pt x="695" y="217"/>
                </a:lnTo>
                <a:lnTo>
                  <a:pt x="685" y="223"/>
                </a:lnTo>
                <a:lnTo>
                  <a:pt x="682" y="224"/>
                </a:lnTo>
                <a:lnTo>
                  <a:pt x="676" y="230"/>
                </a:lnTo>
                <a:lnTo>
                  <a:pt x="672" y="236"/>
                </a:lnTo>
                <a:lnTo>
                  <a:pt x="668" y="244"/>
                </a:lnTo>
                <a:lnTo>
                  <a:pt x="662" y="251"/>
                </a:lnTo>
                <a:lnTo>
                  <a:pt x="657" y="261"/>
                </a:lnTo>
                <a:lnTo>
                  <a:pt x="653" y="272"/>
                </a:lnTo>
                <a:lnTo>
                  <a:pt x="647" y="284"/>
                </a:lnTo>
                <a:lnTo>
                  <a:pt x="641" y="297"/>
                </a:lnTo>
                <a:lnTo>
                  <a:pt x="637" y="313"/>
                </a:lnTo>
                <a:lnTo>
                  <a:pt x="632" y="328"/>
                </a:lnTo>
                <a:lnTo>
                  <a:pt x="626" y="343"/>
                </a:lnTo>
                <a:lnTo>
                  <a:pt x="620" y="363"/>
                </a:lnTo>
                <a:lnTo>
                  <a:pt x="612" y="380"/>
                </a:lnTo>
                <a:lnTo>
                  <a:pt x="607" y="401"/>
                </a:lnTo>
                <a:lnTo>
                  <a:pt x="601" y="420"/>
                </a:lnTo>
                <a:lnTo>
                  <a:pt x="593" y="443"/>
                </a:lnTo>
                <a:lnTo>
                  <a:pt x="588" y="466"/>
                </a:lnTo>
                <a:lnTo>
                  <a:pt x="582" y="487"/>
                </a:lnTo>
                <a:lnTo>
                  <a:pt x="578" y="509"/>
                </a:lnTo>
                <a:lnTo>
                  <a:pt x="572" y="530"/>
                </a:lnTo>
                <a:lnTo>
                  <a:pt x="568" y="549"/>
                </a:lnTo>
                <a:lnTo>
                  <a:pt x="564" y="568"/>
                </a:lnTo>
                <a:lnTo>
                  <a:pt x="563" y="587"/>
                </a:lnTo>
                <a:lnTo>
                  <a:pt x="559" y="605"/>
                </a:lnTo>
                <a:lnTo>
                  <a:pt x="557" y="622"/>
                </a:lnTo>
                <a:lnTo>
                  <a:pt x="555" y="637"/>
                </a:lnTo>
                <a:lnTo>
                  <a:pt x="553" y="653"/>
                </a:lnTo>
                <a:lnTo>
                  <a:pt x="553" y="668"/>
                </a:lnTo>
                <a:lnTo>
                  <a:pt x="551" y="681"/>
                </a:lnTo>
                <a:lnTo>
                  <a:pt x="551" y="693"/>
                </a:lnTo>
                <a:lnTo>
                  <a:pt x="551" y="706"/>
                </a:lnTo>
                <a:lnTo>
                  <a:pt x="495" y="706"/>
                </a:lnTo>
                <a:lnTo>
                  <a:pt x="442" y="706"/>
                </a:lnTo>
                <a:lnTo>
                  <a:pt x="442" y="693"/>
                </a:lnTo>
                <a:lnTo>
                  <a:pt x="442" y="681"/>
                </a:lnTo>
                <a:lnTo>
                  <a:pt x="442" y="668"/>
                </a:lnTo>
                <a:lnTo>
                  <a:pt x="444" y="653"/>
                </a:lnTo>
                <a:lnTo>
                  <a:pt x="444" y="637"/>
                </a:lnTo>
                <a:lnTo>
                  <a:pt x="445" y="622"/>
                </a:lnTo>
                <a:lnTo>
                  <a:pt x="447" y="605"/>
                </a:lnTo>
                <a:lnTo>
                  <a:pt x="449" y="587"/>
                </a:lnTo>
                <a:lnTo>
                  <a:pt x="449" y="568"/>
                </a:lnTo>
                <a:lnTo>
                  <a:pt x="451" y="549"/>
                </a:lnTo>
                <a:lnTo>
                  <a:pt x="455" y="530"/>
                </a:lnTo>
                <a:lnTo>
                  <a:pt x="457" y="509"/>
                </a:lnTo>
                <a:lnTo>
                  <a:pt x="459" y="487"/>
                </a:lnTo>
                <a:lnTo>
                  <a:pt x="461" y="466"/>
                </a:lnTo>
                <a:lnTo>
                  <a:pt x="463" y="443"/>
                </a:lnTo>
                <a:lnTo>
                  <a:pt x="465" y="420"/>
                </a:lnTo>
                <a:lnTo>
                  <a:pt x="467" y="401"/>
                </a:lnTo>
                <a:lnTo>
                  <a:pt x="469" y="380"/>
                </a:lnTo>
                <a:lnTo>
                  <a:pt x="470" y="363"/>
                </a:lnTo>
                <a:lnTo>
                  <a:pt x="470" y="343"/>
                </a:lnTo>
                <a:lnTo>
                  <a:pt x="470" y="328"/>
                </a:lnTo>
                <a:lnTo>
                  <a:pt x="470" y="311"/>
                </a:lnTo>
                <a:lnTo>
                  <a:pt x="469" y="297"/>
                </a:lnTo>
                <a:lnTo>
                  <a:pt x="469" y="282"/>
                </a:lnTo>
                <a:lnTo>
                  <a:pt x="467" y="271"/>
                </a:lnTo>
                <a:lnTo>
                  <a:pt x="465" y="259"/>
                </a:lnTo>
                <a:lnTo>
                  <a:pt x="463" y="248"/>
                </a:lnTo>
                <a:lnTo>
                  <a:pt x="463" y="238"/>
                </a:lnTo>
                <a:lnTo>
                  <a:pt x="459" y="228"/>
                </a:lnTo>
                <a:lnTo>
                  <a:pt x="457" y="223"/>
                </a:lnTo>
                <a:lnTo>
                  <a:pt x="455" y="215"/>
                </a:lnTo>
                <a:lnTo>
                  <a:pt x="453" y="211"/>
                </a:lnTo>
                <a:lnTo>
                  <a:pt x="451" y="205"/>
                </a:lnTo>
                <a:lnTo>
                  <a:pt x="447" y="201"/>
                </a:lnTo>
                <a:lnTo>
                  <a:pt x="442" y="198"/>
                </a:lnTo>
                <a:lnTo>
                  <a:pt x="438" y="194"/>
                </a:lnTo>
                <a:lnTo>
                  <a:pt x="432" y="190"/>
                </a:lnTo>
                <a:lnTo>
                  <a:pt x="424" y="188"/>
                </a:lnTo>
                <a:lnTo>
                  <a:pt x="417" y="186"/>
                </a:lnTo>
                <a:lnTo>
                  <a:pt x="409" y="184"/>
                </a:lnTo>
                <a:lnTo>
                  <a:pt x="399" y="182"/>
                </a:lnTo>
                <a:lnTo>
                  <a:pt x="390" y="180"/>
                </a:lnTo>
                <a:lnTo>
                  <a:pt x="380" y="180"/>
                </a:lnTo>
                <a:lnTo>
                  <a:pt x="369" y="180"/>
                </a:lnTo>
                <a:lnTo>
                  <a:pt x="357" y="180"/>
                </a:lnTo>
                <a:lnTo>
                  <a:pt x="346" y="182"/>
                </a:lnTo>
                <a:lnTo>
                  <a:pt x="332" y="182"/>
                </a:lnTo>
                <a:lnTo>
                  <a:pt x="319" y="186"/>
                </a:lnTo>
                <a:lnTo>
                  <a:pt x="286" y="190"/>
                </a:lnTo>
                <a:lnTo>
                  <a:pt x="252" y="196"/>
                </a:lnTo>
                <a:lnTo>
                  <a:pt x="234" y="200"/>
                </a:lnTo>
                <a:lnTo>
                  <a:pt x="215" y="203"/>
                </a:lnTo>
                <a:lnTo>
                  <a:pt x="198" y="207"/>
                </a:lnTo>
                <a:lnTo>
                  <a:pt x="179" y="209"/>
                </a:lnTo>
                <a:lnTo>
                  <a:pt x="158" y="213"/>
                </a:lnTo>
                <a:lnTo>
                  <a:pt x="138" y="217"/>
                </a:lnTo>
                <a:lnTo>
                  <a:pt x="117" y="221"/>
                </a:lnTo>
                <a:lnTo>
                  <a:pt x="94" y="223"/>
                </a:lnTo>
                <a:lnTo>
                  <a:pt x="73" y="226"/>
                </a:lnTo>
                <a:lnTo>
                  <a:pt x="48" y="230"/>
                </a:lnTo>
                <a:lnTo>
                  <a:pt x="25" y="232"/>
                </a:lnTo>
                <a:lnTo>
                  <a:pt x="0" y="234"/>
                </a:lnTo>
                <a:lnTo>
                  <a:pt x="0" y="186"/>
                </a:lnTo>
                <a:lnTo>
                  <a:pt x="0" y="136"/>
                </a:lnTo>
                <a:lnTo>
                  <a:pt x="40" y="130"/>
                </a:lnTo>
                <a:lnTo>
                  <a:pt x="81" y="127"/>
                </a:lnTo>
                <a:lnTo>
                  <a:pt x="119" y="121"/>
                </a:lnTo>
                <a:lnTo>
                  <a:pt x="156" y="115"/>
                </a:lnTo>
                <a:lnTo>
                  <a:pt x="190" y="109"/>
                </a:lnTo>
                <a:lnTo>
                  <a:pt x="206" y="105"/>
                </a:lnTo>
                <a:lnTo>
                  <a:pt x="223" y="102"/>
                </a:lnTo>
                <a:lnTo>
                  <a:pt x="238" y="100"/>
                </a:lnTo>
                <a:lnTo>
                  <a:pt x="254" y="94"/>
                </a:lnTo>
                <a:lnTo>
                  <a:pt x="267" y="90"/>
                </a:lnTo>
                <a:lnTo>
                  <a:pt x="282" y="86"/>
                </a:lnTo>
                <a:lnTo>
                  <a:pt x="303" y="81"/>
                </a:lnTo>
                <a:lnTo>
                  <a:pt x="325" y="75"/>
                </a:lnTo>
                <a:lnTo>
                  <a:pt x="334" y="71"/>
                </a:lnTo>
                <a:lnTo>
                  <a:pt x="344" y="67"/>
                </a:lnTo>
                <a:lnTo>
                  <a:pt x="353" y="65"/>
                </a:lnTo>
                <a:lnTo>
                  <a:pt x="361" y="61"/>
                </a:lnTo>
                <a:lnTo>
                  <a:pt x="369" y="57"/>
                </a:lnTo>
                <a:lnTo>
                  <a:pt x="376" y="54"/>
                </a:lnTo>
                <a:lnTo>
                  <a:pt x="382" y="52"/>
                </a:lnTo>
                <a:lnTo>
                  <a:pt x="388" y="48"/>
                </a:lnTo>
                <a:lnTo>
                  <a:pt x="394" y="44"/>
                </a:lnTo>
                <a:lnTo>
                  <a:pt x="397" y="42"/>
                </a:lnTo>
                <a:lnTo>
                  <a:pt x="401" y="38"/>
                </a:lnTo>
                <a:lnTo>
                  <a:pt x="405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193"/>
          <p:cNvSpPr/>
          <p:nvPr/>
        </p:nvSpPr>
        <p:spPr>
          <a:xfrm>
            <a:off x="5510160" y="2979720"/>
            <a:ext cx="204840" cy="723960"/>
          </a:xfrm>
          <a:custGeom>
            <a:avLst/>
            <a:gdLst/>
            <a:ahLst/>
            <a:rect l="l" t="t" r="r" b="b"/>
            <a:pathLst>
              <a:path w="259" h="912">
                <a:moveTo>
                  <a:pt x="27" y="106"/>
                </a:moveTo>
                <a:lnTo>
                  <a:pt x="21" y="92"/>
                </a:lnTo>
                <a:lnTo>
                  <a:pt x="18" y="79"/>
                </a:lnTo>
                <a:lnTo>
                  <a:pt x="14" y="67"/>
                </a:lnTo>
                <a:lnTo>
                  <a:pt x="10" y="58"/>
                </a:lnTo>
                <a:lnTo>
                  <a:pt x="6" y="48"/>
                </a:lnTo>
                <a:lnTo>
                  <a:pt x="4" y="36"/>
                </a:lnTo>
                <a:lnTo>
                  <a:pt x="2" y="29"/>
                </a:lnTo>
                <a:lnTo>
                  <a:pt x="2" y="19"/>
                </a:lnTo>
                <a:lnTo>
                  <a:pt x="2" y="17"/>
                </a:lnTo>
                <a:lnTo>
                  <a:pt x="0" y="13"/>
                </a:lnTo>
                <a:lnTo>
                  <a:pt x="0" y="12"/>
                </a:lnTo>
                <a:lnTo>
                  <a:pt x="2" y="10"/>
                </a:lnTo>
                <a:lnTo>
                  <a:pt x="4" y="8"/>
                </a:lnTo>
                <a:lnTo>
                  <a:pt x="8" y="4"/>
                </a:lnTo>
                <a:lnTo>
                  <a:pt x="16" y="2"/>
                </a:lnTo>
                <a:lnTo>
                  <a:pt x="23" y="2"/>
                </a:lnTo>
                <a:lnTo>
                  <a:pt x="33" y="0"/>
                </a:lnTo>
                <a:lnTo>
                  <a:pt x="45" y="0"/>
                </a:lnTo>
                <a:lnTo>
                  <a:pt x="58" y="0"/>
                </a:lnTo>
                <a:lnTo>
                  <a:pt x="73" y="2"/>
                </a:lnTo>
                <a:lnTo>
                  <a:pt x="91" y="2"/>
                </a:lnTo>
                <a:lnTo>
                  <a:pt x="110" y="4"/>
                </a:lnTo>
                <a:lnTo>
                  <a:pt x="129" y="8"/>
                </a:lnTo>
                <a:lnTo>
                  <a:pt x="150" y="10"/>
                </a:lnTo>
                <a:lnTo>
                  <a:pt x="173" y="13"/>
                </a:lnTo>
                <a:lnTo>
                  <a:pt x="198" y="19"/>
                </a:lnTo>
                <a:lnTo>
                  <a:pt x="198" y="29"/>
                </a:lnTo>
                <a:lnTo>
                  <a:pt x="198" y="40"/>
                </a:lnTo>
                <a:lnTo>
                  <a:pt x="200" y="54"/>
                </a:lnTo>
                <a:lnTo>
                  <a:pt x="200" y="69"/>
                </a:lnTo>
                <a:lnTo>
                  <a:pt x="202" y="86"/>
                </a:lnTo>
                <a:lnTo>
                  <a:pt x="204" y="106"/>
                </a:lnTo>
                <a:lnTo>
                  <a:pt x="206" y="127"/>
                </a:lnTo>
                <a:lnTo>
                  <a:pt x="208" y="148"/>
                </a:lnTo>
                <a:lnTo>
                  <a:pt x="210" y="173"/>
                </a:lnTo>
                <a:lnTo>
                  <a:pt x="213" y="200"/>
                </a:lnTo>
                <a:lnTo>
                  <a:pt x="215" y="226"/>
                </a:lnTo>
                <a:lnTo>
                  <a:pt x="219" y="255"/>
                </a:lnTo>
                <a:lnTo>
                  <a:pt x="223" y="286"/>
                </a:lnTo>
                <a:lnTo>
                  <a:pt x="227" y="321"/>
                </a:lnTo>
                <a:lnTo>
                  <a:pt x="231" y="355"/>
                </a:lnTo>
                <a:lnTo>
                  <a:pt x="235" y="392"/>
                </a:lnTo>
                <a:lnTo>
                  <a:pt x="236" y="426"/>
                </a:lnTo>
                <a:lnTo>
                  <a:pt x="240" y="461"/>
                </a:lnTo>
                <a:lnTo>
                  <a:pt x="242" y="493"/>
                </a:lnTo>
                <a:lnTo>
                  <a:pt x="244" y="526"/>
                </a:lnTo>
                <a:lnTo>
                  <a:pt x="246" y="555"/>
                </a:lnTo>
                <a:lnTo>
                  <a:pt x="248" y="582"/>
                </a:lnTo>
                <a:lnTo>
                  <a:pt x="250" y="607"/>
                </a:lnTo>
                <a:lnTo>
                  <a:pt x="252" y="631"/>
                </a:lnTo>
                <a:lnTo>
                  <a:pt x="254" y="653"/>
                </a:lnTo>
                <a:lnTo>
                  <a:pt x="254" y="662"/>
                </a:lnTo>
                <a:lnTo>
                  <a:pt x="256" y="672"/>
                </a:lnTo>
                <a:lnTo>
                  <a:pt x="256" y="681"/>
                </a:lnTo>
                <a:lnTo>
                  <a:pt x="256" y="691"/>
                </a:lnTo>
                <a:lnTo>
                  <a:pt x="258" y="699"/>
                </a:lnTo>
                <a:lnTo>
                  <a:pt x="258" y="706"/>
                </a:lnTo>
                <a:lnTo>
                  <a:pt x="258" y="714"/>
                </a:lnTo>
                <a:lnTo>
                  <a:pt x="258" y="720"/>
                </a:lnTo>
                <a:lnTo>
                  <a:pt x="259" y="726"/>
                </a:lnTo>
                <a:lnTo>
                  <a:pt x="259" y="731"/>
                </a:lnTo>
                <a:lnTo>
                  <a:pt x="259" y="737"/>
                </a:lnTo>
                <a:lnTo>
                  <a:pt x="259" y="743"/>
                </a:lnTo>
                <a:lnTo>
                  <a:pt x="259" y="747"/>
                </a:lnTo>
                <a:lnTo>
                  <a:pt x="259" y="751"/>
                </a:lnTo>
                <a:lnTo>
                  <a:pt x="259" y="777"/>
                </a:lnTo>
                <a:lnTo>
                  <a:pt x="259" y="793"/>
                </a:lnTo>
                <a:lnTo>
                  <a:pt x="258" y="806"/>
                </a:lnTo>
                <a:lnTo>
                  <a:pt x="256" y="820"/>
                </a:lnTo>
                <a:lnTo>
                  <a:pt x="254" y="833"/>
                </a:lnTo>
                <a:lnTo>
                  <a:pt x="252" y="848"/>
                </a:lnTo>
                <a:lnTo>
                  <a:pt x="248" y="862"/>
                </a:lnTo>
                <a:lnTo>
                  <a:pt x="244" y="868"/>
                </a:lnTo>
                <a:lnTo>
                  <a:pt x="242" y="875"/>
                </a:lnTo>
                <a:lnTo>
                  <a:pt x="240" y="881"/>
                </a:lnTo>
                <a:lnTo>
                  <a:pt x="238" y="885"/>
                </a:lnTo>
                <a:lnTo>
                  <a:pt x="235" y="891"/>
                </a:lnTo>
                <a:lnTo>
                  <a:pt x="233" y="894"/>
                </a:lnTo>
                <a:lnTo>
                  <a:pt x="227" y="900"/>
                </a:lnTo>
                <a:lnTo>
                  <a:pt x="221" y="906"/>
                </a:lnTo>
                <a:lnTo>
                  <a:pt x="215" y="908"/>
                </a:lnTo>
                <a:lnTo>
                  <a:pt x="208" y="910"/>
                </a:lnTo>
                <a:lnTo>
                  <a:pt x="198" y="912"/>
                </a:lnTo>
                <a:lnTo>
                  <a:pt x="194" y="910"/>
                </a:lnTo>
                <a:lnTo>
                  <a:pt x="188" y="908"/>
                </a:lnTo>
                <a:lnTo>
                  <a:pt x="185" y="904"/>
                </a:lnTo>
                <a:lnTo>
                  <a:pt x="179" y="898"/>
                </a:lnTo>
                <a:lnTo>
                  <a:pt x="175" y="891"/>
                </a:lnTo>
                <a:lnTo>
                  <a:pt x="171" y="881"/>
                </a:lnTo>
                <a:lnTo>
                  <a:pt x="165" y="870"/>
                </a:lnTo>
                <a:lnTo>
                  <a:pt x="162" y="858"/>
                </a:lnTo>
                <a:lnTo>
                  <a:pt x="156" y="843"/>
                </a:lnTo>
                <a:lnTo>
                  <a:pt x="152" y="827"/>
                </a:lnTo>
                <a:lnTo>
                  <a:pt x="148" y="810"/>
                </a:lnTo>
                <a:lnTo>
                  <a:pt x="142" y="791"/>
                </a:lnTo>
                <a:lnTo>
                  <a:pt x="139" y="772"/>
                </a:lnTo>
                <a:lnTo>
                  <a:pt x="133" y="749"/>
                </a:lnTo>
                <a:lnTo>
                  <a:pt x="129" y="726"/>
                </a:lnTo>
                <a:lnTo>
                  <a:pt x="125" y="701"/>
                </a:lnTo>
                <a:lnTo>
                  <a:pt x="116" y="649"/>
                </a:lnTo>
                <a:lnTo>
                  <a:pt x="108" y="599"/>
                </a:lnTo>
                <a:lnTo>
                  <a:pt x="102" y="549"/>
                </a:lnTo>
                <a:lnTo>
                  <a:pt x="96" y="499"/>
                </a:lnTo>
                <a:lnTo>
                  <a:pt x="91" y="451"/>
                </a:lnTo>
                <a:lnTo>
                  <a:pt x="85" y="405"/>
                </a:lnTo>
                <a:lnTo>
                  <a:pt x="83" y="382"/>
                </a:lnTo>
                <a:lnTo>
                  <a:pt x="81" y="359"/>
                </a:lnTo>
                <a:lnTo>
                  <a:pt x="77" y="338"/>
                </a:lnTo>
                <a:lnTo>
                  <a:pt x="75" y="317"/>
                </a:lnTo>
                <a:lnTo>
                  <a:pt x="73" y="296"/>
                </a:lnTo>
                <a:lnTo>
                  <a:pt x="71" y="276"/>
                </a:lnTo>
                <a:lnTo>
                  <a:pt x="68" y="259"/>
                </a:lnTo>
                <a:lnTo>
                  <a:pt x="66" y="242"/>
                </a:lnTo>
                <a:lnTo>
                  <a:pt x="62" y="225"/>
                </a:lnTo>
                <a:lnTo>
                  <a:pt x="58" y="211"/>
                </a:lnTo>
                <a:lnTo>
                  <a:pt x="54" y="196"/>
                </a:lnTo>
                <a:lnTo>
                  <a:pt x="52" y="182"/>
                </a:lnTo>
                <a:lnTo>
                  <a:pt x="48" y="171"/>
                </a:lnTo>
                <a:lnTo>
                  <a:pt x="45" y="159"/>
                </a:lnTo>
                <a:lnTo>
                  <a:pt x="41" y="148"/>
                </a:lnTo>
                <a:lnTo>
                  <a:pt x="39" y="138"/>
                </a:lnTo>
                <a:lnTo>
                  <a:pt x="35" y="129"/>
                </a:lnTo>
                <a:lnTo>
                  <a:pt x="31" y="121"/>
                </a:lnTo>
                <a:lnTo>
                  <a:pt x="29" y="113"/>
                </a:lnTo>
                <a:lnTo>
                  <a:pt x="27" y="1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4"/>
          <p:cNvSpPr/>
          <p:nvPr/>
        </p:nvSpPr>
        <p:spPr>
          <a:xfrm>
            <a:off x="2218680" y="2122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捶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114880" y="195732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0" name="组合 8"/>
          <p:cNvGrpSpPr/>
          <p:nvPr/>
        </p:nvGrpSpPr>
        <p:grpSpPr>
          <a:xfrm>
            <a:off x="1400040" y="3549600"/>
            <a:ext cx="2840040" cy="1571760"/>
            <a:chOff x="1400040" y="3549600"/>
            <a:chExt cx="2840040" cy="1571760"/>
          </a:xfrm>
        </p:grpSpPr>
        <p:pic>
          <p:nvPicPr>
            <p:cNvPr id="21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54960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矩形 2"/>
            <p:cNvSpPr/>
            <p:nvPr/>
          </p:nvSpPr>
          <p:spPr>
            <a:xfrm>
              <a:off x="1444680" y="416376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垂”横画间隔均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矩形 3"/>
          <p:cNvSpPr/>
          <p:nvPr/>
        </p:nvSpPr>
        <p:spPr>
          <a:xfrm>
            <a:off x="1876320" y="1442880"/>
            <a:ext cx="14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u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104"/>
          <p:cNvSpPr/>
          <p:nvPr/>
        </p:nvSpPr>
        <p:spPr>
          <a:xfrm>
            <a:off x="6372360" y="4265640"/>
            <a:ext cx="1057320" cy="231840"/>
          </a:xfrm>
          <a:custGeom>
            <a:avLst/>
            <a:gdLst/>
            <a:ahLst/>
            <a:rect l="l" t="t" r="r" b="b"/>
            <a:pathLst>
              <a:path w="1332" h="294">
                <a:moveTo>
                  <a:pt x="1325" y="121"/>
                </a:moveTo>
                <a:lnTo>
                  <a:pt x="1327" y="131"/>
                </a:lnTo>
                <a:lnTo>
                  <a:pt x="1330" y="138"/>
                </a:lnTo>
                <a:lnTo>
                  <a:pt x="1332" y="146"/>
                </a:lnTo>
                <a:lnTo>
                  <a:pt x="1332" y="152"/>
                </a:lnTo>
                <a:lnTo>
                  <a:pt x="1332" y="158"/>
                </a:lnTo>
                <a:lnTo>
                  <a:pt x="1330" y="163"/>
                </a:lnTo>
                <a:lnTo>
                  <a:pt x="1327" y="169"/>
                </a:lnTo>
                <a:lnTo>
                  <a:pt x="1325" y="175"/>
                </a:lnTo>
                <a:lnTo>
                  <a:pt x="1323" y="175"/>
                </a:lnTo>
                <a:lnTo>
                  <a:pt x="1321" y="177"/>
                </a:lnTo>
                <a:lnTo>
                  <a:pt x="1319" y="177"/>
                </a:lnTo>
                <a:lnTo>
                  <a:pt x="1315" y="179"/>
                </a:lnTo>
                <a:lnTo>
                  <a:pt x="1311" y="181"/>
                </a:lnTo>
                <a:lnTo>
                  <a:pt x="1307" y="181"/>
                </a:lnTo>
                <a:lnTo>
                  <a:pt x="1304" y="183"/>
                </a:lnTo>
                <a:lnTo>
                  <a:pt x="1298" y="185"/>
                </a:lnTo>
                <a:lnTo>
                  <a:pt x="1292" y="185"/>
                </a:lnTo>
                <a:lnTo>
                  <a:pt x="1286" y="186"/>
                </a:lnTo>
                <a:lnTo>
                  <a:pt x="1279" y="186"/>
                </a:lnTo>
                <a:lnTo>
                  <a:pt x="1271" y="188"/>
                </a:lnTo>
                <a:lnTo>
                  <a:pt x="1263" y="190"/>
                </a:lnTo>
                <a:lnTo>
                  <a:pt x="1256" y="190"/>
                </a:lnTo>
                <a:lnTo>
                  <a:pt x="1246" y="192"/>
                </a:lnTo>
                <a:lnTo>
                  <a:pt x="1236" y="192"/>
                </a:lnTo>
                <a:lnTo>
                  <a:pt x="1227" y="194"/>
                </a:lnTo>
                <a:lnTo>
                  <a:pt x="1215" y="194"/>
                </a:lnTo>
                <a:lnTo>
                  <a:pt x="1206" y="196"/>
                </a:lnTo>
                <a:lnTo>
                  <a:pt x="1192" y="196"/>
                </a:lnTo>
                <a:lnTo>
                  <a:pt x="1181" y="196"/>
                </a:lnTo>
                <a:lnTo>
                  <a:pt x="1167" y="198"/>
                </a:lnTo>
                <a:lnTo>
                  <a:pt x="1156" y="198"/>
                </a:lnTo>
                <a:lnTo>
                  <a:pt x="1140" y="198"/>
                </a:lnTo>
                <a:lnTo>
                  <a:pt x="1127" y="200"/>
                </a:lnTo>
                <a:lnTo>
                  <a:pt x="1112" y="200"/>
                </a:lnTo>
                <a:lnTo>
                  <a:pt x="1096" y="200"/>
                </a:lnTo>
                <a:lnTo>
                  <a:pt x="1081" y="200"/>
                </a:lnTo>
                <a:lnTo>
                  <a:pt x="1064" y="200"/>
                </a:lnTo>
                <a:lnTo>
                  <a:pt x="1046" y="200"/>
                </a:lnTo>
                <a:lnTo>
                  <a:pt x="1029" y="202"/>
                </a:lnTo>
                <a:lnTo>
                  <a:pt x="1010" y="202"/>
                </a:lnTo>
                <a:lnTo>
                  <a:pt x="937" y="202"/>
                </a:lnTo>
                <a:lnTo>
                  <a:pt x="862" y="204"/>
                </a:lnTo>
                <a:lnTo>
                  <a:pt x="789" y="206"/>
                </a:lnTo>
                <a:lnTo>
                  <a:pt x="718" y="211"/>
                </a:lnTo>
                <a:lnTo>
                  <a:pt x="647" y="217"/>
                </a:lnTo>
                <a:lnTo>
                  <a:pt x="576" y="223"/>
                </a:lnTo>
                <a:lnTo>
                  <a:pt x="509" y="233"/>
                </a:lnTo>
                <a:lnTo>
                  <a:pt x="474" y="236"/>
                </a:lnTo>
                <a:lnTo>
                  <a:pt x="442" y="242"/>
                </a:lnTo>
                <a:lnTo>
                  <a:pt x="409" y="248"/>
                </a:lnTo>
                <a:lnTo>
                  <a:pt x="380" y="256"/>
                </a:lnTo>
                <a:lnTo>
                  <a:pt x="351" y="261"/>
                </a:lnTo>
                <a:lnTo>
                  <a:pt x="325" y="267"/>
                </a:lnTo>
                <a:lnTo>
                  <a:pt x="300" y="271"/>
                </a:lnTo>
                <a:lnTo>
                  <a:pt x="277" y="277"/>
                </a:lnTo>
                <a:lnTo>
                  <a:pt x="254" y="281"/>
                </a:lnTo>
                <a:lnTo>
                  <a:pt x="234" y="282"/>
                </a:lnTo>
                <a:lnTo>
                  <a:pt x="217" y="286"/>
                </a:lnTo>
                <a:lnTo>
                  <a:pt x="200" y="288"/>
                </a:lnTo>
                <a:lnTo>
                  <a:pt x="184" y="290"/>
                </a:lnTo>
                <a:lnTo>
                  <a:pt x="173" y="292"/>
                </a:lnTo>
                <a:lnTo>
                  <a:pt x="161" y="294"/>
                </a:lnTo>
                <a:lnTo>
                  <a:pt x="152" y="294"/>
                </a:lnTo>
                <a:lnTo>
                  <a:pt x="146" y="294"/>
                </a:lnTo>
                <a:lnTo>
                  <a:pt x="140" y="294"/>
                </a:lnTo>
                <a:lnTo>
                  <a:pt x="127" y="294"/>
                </a:lnTo>
                <a:lnTo>
                  <a:pt x="115" y="292"/>
                </a:lnTo>
                <a:lnTo>
                  <a:pt x="104" y="288"/>
                </a:lnTo>
                <a:lnTo>
                  <a:pt x="94" y="282"/>
                </a:lnTo>
                <a:lnTo>
                  <a:pt x="88" y="281"/>
                </a:lnTo>
                <a:lnTo>
                  <a:pt x="83" y="277"/>
                </a:lnTo>
                <a:lnTo>
                  <a:pt x="77" y="271"/>
                </a:lnTo>
                <a:lnTo>
                  <a:pt x="71" y="267"/>
                </a:lnTo>
                <a:lnTo>
                  <a:pt x="65" y="261"/>
                </a:lnTo>
                <a:lnTo>
                  <a:pt x="60" y="256"/>
                </a:lnTo>
                <a:lnTo>
                  <a:pt x="54" y="248"/>
                </a:lnTo>
                <a:lnTo>
                  <a:pt x="48" y="242"/>
                </a:lnTo>
                <a:lnTo>
                  <a:pt x="40" y="236"/>
                </a:lnTo>
                <a:lnTo>
                  <a:pt x="35" y="231"/>
                </a:lnTo>
                <a:lnTo>
                  <a:pt x="31" y="227"/>
                </a:lnTo>
                <a:lnTo>
                  <a:pt x="25" y="221"/>
                </a:lnTo>
                <a:lnTo>
                  <a:pt x="17" y="211"/>
                </a:lnTo>
                <a:lnTo>
                  <a:pt x="12" y="202"/>
                </a:lnTo>
                <a:lnTo>
                  <a:pt x="6" y="194"/>
                </a:lnTo>
                <a:lnTo>
                  <a:pt x="4" y="186"/>
                </a:lnTo>
                <a:lnTo>
                  <a:pt x="2" y="179"/>
                </a:lnTo>
                <a:lnTo>
                  <a:pt x="0" y="175"/>
                </a:lnTo>
                <a:lnTo>
                  <a:pt x="2" y="169"/>
                </a:lnTo>
                <a:lnTo>
                  <a:pt x="2" y="165"/>
                </a:lnTo>
                <a:lnTo>
                  <a:pt x="6" y="163"/>
                </a:lnTo>
                <a:lnTo>
                  <a:pt x="12" y="161"/>
                </a:lnTo>
                <a:lnTo>
                  <a:pt x="17" y="161"/>
                </a:lnTo>
                <a:lnTo>
                  <a:pt x="21" y="161"/>
                </a:lnTo>
                <a:lnTo>
                  <a:pt x="25" y="161"/>
                </a:lnTo>
                <a:lnTo>
                  <a:pt x="31" y="161"/>
                </a:lnTo>
                <a:lnTo>
                  <a:pt x="35" y="161"/>
                </a:lnTo>
                <a:lnTo>
                  <a:pt x="40" y="161"/>
                </a:lnTo>
                <a:lnTo>
                  <a:pt x="48" y="161"/>
                </a:lnTo>
                <a:lnTo>
                  <a:pt x="54" y="160"/>
                </a:lnTo>
                <a:lnTo>
                  <a:pt x="64" y="160"/>
                </a:lnTo>
                <a:lnTo>
                  <a:pt x="73" y="160"/>
                </a:lnTo>
                <a:lnTo>
                  <a:pt x="85" y="158"/>
                </a:lnTo>
                <a:lnTo>
                  <a:pt x="98" y="158"/>
                </a:lnTo>
                <a:lnTo>
                  <a:pt x="112" y="156"/>
                </a:lnTo>
                <a:lnTo>
                  <a:pt x="129" y="154"/>
                </a:lnTo>
                <a:lnTo>
                  <a:pt x="146" y="150"/>
                </a:lnTo>
                <a:lnTo>
                  <a:pt x="165" y="148"/>
                </a:lnTo>
                <a:lnTo>
                  <a:pt x="186" y="146"/>
                </a:lnTo>
                <a:lnTo>
                  <a:pt x="209" y="142"/>
                </a:lnTo>
                <a:lnTo>
                  <a:pt x="232" y="138"/>
                </a:lnTo>
                <a:lnTo>
                  <a:pt x="259" y="135"/>
                </a:lnTo>
                <a:lnTo>
                  <a:pt x="288" y="131"/>
                </a:lnTo>
                <a:lnTo>
                  <a:pt x="317" y="125"/>
                </a:lnTo>
                <a:lnTo>
                  <a:pt x="350" y="121"/>
                </a:lnTo>
                <a:lnTo>
                  <a:pt x="409" y="115"/>
                </a:lnTo>
                <a:lnTo>
                  <a:pt x="470" y="108"/>
                </a:lnTo>
                <a:lnTo>
                  <a:pt x="532" y="100"/>
                </a:lnTo>
                <a:lnTo>
                  <a:pt x="591" y="90"/>
                </a:lnTo>
                <a:lnTo>
                  <a:pt x="651" y="81"/>
                </a:lnTo>
                <a:lnTo>
                  <a:pt x="710" y="67"/>
                </a:lnTo>
                <a:lnTo>
                  <a:pt x="768" y="56"/>
                </a:lnTo>
                <a:lnTo>
                  <a:pt x="826" y="41"/>
                </a:lnTo>
                <a:lnTo>
                  <a:pt x="852" y="35"/>
                </a:lnTo>
                <a:lnTo>
                  <a:pt x="879" y="31"/>
                </a:lnTo>
                <a:lnTo>
                  <a:pt x="904" y="27"/>
                </a:lnTo>
                <a:lnTo>
                  <a:pt x="929" y="23"/>
                </a:lnTo>
                <a:lnTo>
                  <a:pt x="952" y="19"/>
                </a:lnTo>
                <a:lnTo>
                  <a:pt x="973" y="16"/>
                </a:lnTo>
                <a:lnTo>
                  <a:pt x="994" y="14"/>
                </a:lnTo>
                <a:lnTo>
                  <a:pt x="1014" y="10"/>
                </a:lnTo>
                <a:lnTo>
                  <a:pt x="1033" y="8"/>
                </a:lnTo>
                <a:lnTo>
                  <a:pt x="1050" y="6"/>
                </a:lnTo>
                <a:lnTo>
                  <a:pt x="1065" y="4"/>
                </a:lnTo>
                <a:lnTo>
                  <a:pt x="1081" y="2"/>
                </a:lnTo>
                <a:lnTo>
                  <a:pt x="1094" y="2"/>
                </a:lnTo>
                <a:lnTo>
                  <a:pt x="1106" y="0"/>
                </a:lnTo>
                <a:lnTo>
                  <a:pt x="1117" y="0"/>
                </a:lnTo>
                <a:lnTo>
                  <a:pt x="1127" y="0"/>
                </a:lnTo>
                <a:lnTo>
                  <a:pt x="1144" y="0"/>
                </a:lnTo>
                <a:lnTo>
                  <a:pt x="1161" y="2"/>
                </a:lnTo>
                <a:lnTo>
                  <a:pt x="1179" y="6"/>
                </a:lnTo>
                <a:lnTo>
                  <a:pt x="1196" y="10"/>
                </a:lnTo>
                <a:lnTo>
                  <a:pt x="1213" y="16"/>
                </a:lnTo>
                <a:lnTo>
                  <a:pt x="1231" y="23"/>
                </a:lnTo>
                <a:lnTo>
                  <a:pt x="1248" y="31"/>
                </a:lnTo>
                <a:lnTo>
                  <a:pt x="1265" y="41"/>
                </a:lnTo>
                <a:lnTo>
                  <a:pt x="1279" y="50"/>
                </a:lnTo>
                <a:lnTo>
                  <a:pt x="1290" y="60"/>
                </a:lnTo>
                <a:lnTo>
                  <a:pt x="1300" y="71"/>
                </a:lnTo>
                <a:lnTo>
                  <a:pt x="1307" y="81"/>
                </a:lnTo>
                <a:lnTo>
                  <a:pt x="1315" y="90"/>
                </a:lnTo>
                <a:lnTo>
                  <a:pt x="1319" y="100"/>
                </a:lnTo>
                <a:lnTo>
                  <a:pt x="1321" y="106"/>
                </a:lnTo>
                <a:lnTo>
                  <a:pt x="1323" y="112"/>
                </a:lnTo>
                <a:lnTo>
                  <a:pt x="1323" y="115"/>
                </a:lnTo>
                <a:lnTo>
                  <a:pt x="1325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105"/>
          <p:cNvSpPr/>
          <p:nvPr/>
        </p:nvSpPr>
        <p:spPr>
          <a:xfrm>
            <a:off x="6757920" y="2673360"/>
            <a:ext cx="169920" cy="1698480"/>
          </a:xfrm>
          <a:custGeom>
            <a:avLst/>
            <a:gdLst/>
            <a:ahLst/>
            <a:rect l="l" t="t" r="r" b="b"/>
            <a:pathLst>
              <a:path w="213" h="2141">
                <a:moveTo>
                  <a:pt x="186" y="267"/>
                </a:moveTo>
                <a:lnTo>
                  <a:pt x="184" y="277"/>
                </a:lnTo>
                <a:lnTo>
                  <a:pt x="182" y="288"/>
                </a:lnTo>
                <a:lnTo>
                  <a:pt x="180" y="304"/>
                </a:lnTo>
                <a:lnTo>
                  <a:pt x="178" y="323"/>
                </a:lnTo>
                <a:lnTo>
                  <a:pt x="176" y="346"/>
                </a:lnTo>
                <a:lnTo>
                  <a:pt x="174" y="371"/>
                </a:lnTo>
                <a:lnTo>
                  <a:pt x="172" y="398"/>
                </a:lnTo>
                <a:lnTo>
                  <a:pt x="171" y="430"/>
                </a:lnTo>
                <a:lnTo>
                  <a:pt x="169" y="465"/>
                </a:lnTo>
                <a:lnTo>
                  <a:pt x="167" y="503"/>
                </a:lnTo>
                <a:lnTo>
                  <a:pt x="167" y="544"/>
                </a:lnTo>
                <a:lnTo>
                  <a:pt x="165" y="588"/>
                </a:lnTo>
                <a:lnTo>
                  <a:pt x="163" y="636"/>
                </a:lnTo>
                <a:lnTo>
                  <a:pt x="163" y="688"/>
                </a:lnTo>
                <a:lnTo>
                  <a:pt x="161" y="741"/>
                </a:lnTo>
                <a:lnTo>
                  <a:pt x="159" y="797"/>
                </a:lnTo>
                <a:lnTo>
                  <a:pt x="159" y="858"/>
                </a:lnTo>
                <a:lnTo>
                  <a:pt x="157" y="922"/>
                </a:lnTo>
                <a:lnTo>
                  <a:pt x="157" y="987"/>
                </a:lnTo>
                <a:lnTo>
                  <a:pt x="155" y="1058"/>
                </a:lnTo>
                <a:lnTo>
                  <a:pt x="155" y="1131"/>
                </a:lnTo>
                <a:lnTo>
                  <a:pt x="155" y="1206"/>
                </a:lnTo>
                <a:lnTo>
                  <a:pt x="153" y="1286"/>
                </a:lnTo>
                <a:lnTo>
                  <a:pt x="153" y="1367"/>
                </a:lnTo>
                <a:lnTo>
                  <a:pt x="153" y="1453"/>
                </a:lnTo>
                <a:lnTo>
                  <a:pt x="151" y="1542"/>
                </a:lnTo>
                <a:lnTo>
                  <a:pt x="151" y="1634"/>
                </a:lnTo>
                <a:lnTo>
                  <a:pt x="151" y="1730"/>
                </a:lnTo>
                <a:lnTo>
                  <a:pt x="151" y="1828"/>
                </a:lnTo>
                <a:lnTo>
                  <a:pt x="151" y="1928"/>
                </a:lnTo>
                <a:lnTo>
                  <a:pt x="151" y="2033"/>
                </a:lnTo>
                <a:lnTo>
                  <a:pt x="151" y="2141"/>
                </a:lnTo>
                <a:lnTo>
                  <a:pt x="94" y="2141"/>
                </a:lnTo>
                <a:lnTo>
                  <a:pt x="34" y="2141"/>
                </a:lnTo>
                <a:lnTo>
                  <a:pt x="34" y="2035"/>
                </a:lnTo>
                <a:lnTo>
                  <a:pt x="34" y="1931"/>
                </a:lnTo>
                <a:lnTo>
                  <a:pt x="34" y="1832"/>
                </a:lnTo>
                <a:lnTo>
                  <a:pt x="34" y="1734"/>
                </a:lnTo>
                <a:lnTo>
                  <a:pt x="34" y="1638"/>
                </a:lnTo>
                <a:lnTo>
                  <a:pt x="34" y="1544"/>
                </a:lnTo>
                <a:lnTo>
                  <a:pt x="32" y="1453"/>
                </a:lnTo>
                <a:lnTo>
                  <a:pt x="32" y="1365"/>
                </a:lnTo>
                <a:lnTo>
                  <a:pt x="32" y="1279"/>
                </a:lnTo>
                <a:lnTo>
                  <a:pt x="30" y="1196"/>
                </a:lnTo>
                <a:lnTo>
                  <a:pt x="30" y="1116"/>
                </a:lnTo>
                <a:lnTo>
                  <a:pt x="30" y="1037"/>
                </a:lnTo>
                <a:lnTo>
                  <a:pt x="29" y="962"/>
                </a:lnTo>
                <a:lnTo>
                  <a:pt x="29" y="887"/>
                </a:lnTo>
                <a:lnTo>
                  <a:pt x="27" y="818"/>
                </a:lnTo>
                <a:lnTo>
                  <a:pt x="27" y="749"/>
                </a:lnTo>
                <a:lnTo>
                  <a:pt x="25" y="684"/>
                </a:lnTo>
                <a:lnTo>
                  <a:pt x="23" y="620"/>
                </a:lnTo>
                <a:lnTo>
                  <a:pt x="23" y="559"/>
                </a:lnTo>
                <a:lnTo>
                  <a:pt x="21" y="501"/>
                </a:lnTo>
                <a:lnTo>
                  <a:pt x="19" y="446"/>
                </a:lnTo>
                <a:lnTo>
                  <a:pt x="19" y="392"/>
                </a:lnTo>
                <a:lnTo>
                  <a:pt x="17" y="340"/>
                </a:lnTo>
                <a:lnTo>
                  <a:pt x="15" y="292"/>
                </a:lnTo>
                <a:lnTo>
                  <a:pt x="13" y="248"/>
                </a:lnTo>
                <a:lnTo>
                  <a:pt x="11" y="204"/>
                </a:lnTo>
                <a:lnTo>
                  <a:pt x="9" y="164"/>
                </a:lnTo>
                <a:lnTo>
                  <a:pt x="7" y="125"/>
                </a:lnTo>
                <a:lnTo>
                  <a:pt x="5" y="91"/>
                </a:lnTo>
                <a:lnTo>
                  <a:pt x="4" y="58"/>
                </a:lnTo>
                <a:lnTo>
                  <a:pt x="2" y="27"/>
                </a:lnTo>
                <a:lnTo>
                  <a:pt x="0" y="0"/>
                </a:lnTo>
                <a:lnTo>
                  <a:pt x="23" y="10"/>
                </a:lnTo>
                <a:lnTo>
                  <a:pt x="46" y="20"/>
                </a:lnTo>
                <a:lnTo>
                  <a:pt x="65" y="29"/>
                </a:lnTo>
                <a:lnTo>
                  <a:pt x="84" y="37"/>
                </a:lnTo>
                <a:lnTo>
                  <a:pt x="103" y="46"/>
                </a:lnTo>
                <a:lnTo>
                  <a:pt x="119" y="54"/>
                </a:lnTo>
                <a:lnTo>
                  <a:pt x="134" y="62"/>
                </a:lnTo>
                <a:lnTo>
                  <a:pt x="148" y="70"/>
                </a:lnTo>
                <a:lnTo>
                  <a:pt x="161" y="75"/>
                </a:lnTo>
                <a:lnTo>
                  <a:pt x="171" y="81"/>
                </a:lnTo>
                <a:lnTo>
                  <a:pt x="180" y="87"/>
                </a:lnTo>
                <a:lnTo>
                  <a:pt x="190" y="93"/>
                </a:lnTo>
                <a:lnTo>
                  <a:pt x="196" y="96"/>
                </a:lnTo>
                <a:lnTo>
                  <a:pt x="201" y="100"/>
                </a:lnTo>
                <a:lnTo>
                  <a:pt x="207" y="104"/>
                </a:lnTo>
                <a:lnTo>
                  <a:pt x="209" y="108"/>
                </a:lnTo>
                <a:lnTo>
                  <a:pt x="211" y="110"/>
                </a:lnTo>
                <a:lnTo>
                  <a:pt x="213" y="114"/>
                </a:lnTo>
                <a:lnTo>
                  <a:pt x="213" y="119"/>
                </a:lnTo>
                <a:lnTo>
                  <a:pt x="213" y="125"/>
                </a:lnTo>
                <a:lnTo>
                  <a:pt x="213" y="131"/>
                </a:lnTo>
                <a:lnTo>
                  <a:pt x="213" y="139"/>
                </a:lnTo>
                <a:lnTo>
                  <a:pt x="211" y="148"/>
                </a:lnTo>
                <a:lnTo>
                  <a:pt x="211" y="158"/>
                </a:lnTo>
                <a:lnTo>
                  <a:pt x="209" y="167"/>
                </a:lnTo>
                <a:lnTo>
                  <a:pt x="207" y="179"/>
                </a:lnTo>
                <a:lnTo>
                  <a:pt x="203" y="190"/>
                </a:lnTo>
                <a:lnTo>
                  <a:pt x="201" y="204"/>
                </a:lnTo>
                <a:lnTo>
                  <a:pt x="197" y="219"/>
                </a:lnTo>
                <a:lnTo>
                  <a:pt x="194" y="235"/>
                </a:lnTo>
                <a:lnTo>
                  <a:pt x="190" y="250"/>
                </a:lnTo>
                <a:lnTo>
                  <a:pt x="186" y="2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06"/>
          <p:cNvSpPr/>
          <p:nvPr/>
        </p:nvSpPr>
        <p:spPr>
          <a:xfrm>
            <a:off x="6261120" y="3797280"/>
            <a:ext cx="1263600" cy="270000"/>
          </a:xfrm>
          <a:custGeom>
            <a:avLst/>
            <a:gdLst/>
            <a:ahLst/>
            <a:rect l="l" t="t" r="r" b="b"/>
            <a:pathLst>
              <a:path w="1591" h="340">
                <a:moveTo>
                  <a:pt x="1589" y="134"/>
                </a:moveTo>
                <a:lnTo>
                  <a:pt x="1589" y="140"/>
                </a:lnTo>
                <a:lnTo>
                  <a:pt x="1585" y="144"/>
                </a:lnTo>
                <a:lnTo>
                  <a:pt x="1582" y="148"/>
                </a:lnTo>
                <a:lnTo>
                  <a:pt x="1576" y="152"/>
                </a:lnTo>
                <a:lnTo>
                  <a:pt x="1568" y="155"/>
                </a:lnTo>
                <a:lnTo>
                  <a:pt x="1559" y="159"/>
                </a:lnTo>
                <a:lnTo>
                  <a:pt x="1549" y="161"/>
                </a:lnTo>
                <a:lnTo>
                  <a:pt x="1536" y="165"/>
                </a:lnTo>
                <a:lnTo>
                  <a:pt x="1520" y="167"/>
                </a:lnTo>
                <a:lnTo>
                  <a:pt x="1505" y="169"/>
                </a:lnTo>
                <a:lnTo>
                  <a:pt x="1488" y="171"/>
                </a:lnTo>
                <a:lnTo>
                  <a:pt x="1466" y="173"/>
                </a:lnTo>
                <a:lnTo>
                  <a:pt x="1445" y="173"/>
                </a:lnTo>
                <a:lnTo>
                  <a:pt x="1422" y="175"/>
                </a:lnTo>
                <a:lnTo>
                  <a:pt x="1395" y="175"/>
                </a:lnTo>
                <a:lnTo>
                  <a:pt x="1369" y="175"/>
                </a:lnTo>
                <a:lnTo>
                  <a:pt x="1340" y="175"/>
                </a:lnTo>
                <a:lnTo>
                  <a:pt x="1313" y="175"/>
                </a:lnTo>
                <a:lnTo>
                  <a:pt x="1259" y="175"/>
                </a:lnTo>
                <a:lnTo>
                  <a:pt x="1207" y="175"/>
                </a:lnTo>
                <a:lnTo>
                  <a:pt x="1157" y="177"/>
                </a:lnTo>
                <a:lnTo>
                  <a:pt x="1108" y="178"/>
                </a:lnTo>
                <a:lnTo>
                  <a:pt x="1060" y="180"/>
                </a:lnTo>
                <a:lnTo>
                  <a:pt x="1010" y="184"/>
                </a:lnTo>
                <a:lnTo>
                  <a:pt x="964" y="188"/>
                </a:lnTo>
                <a:lnTo>
                  <a:pt x="939" y="190"/>
                </a:lnTo>
                <a:lnTo>
                  <a:pt x="914" y="194"/>
                </a:lnTo>
                <a:lnTo>
                  <a:pt x="887" y="198"/>
                </a:lnTo>
                <a:lnTo>
                  <a:pt x="860" y="203"/>
                </a:lnTo>
                <a:lnTo>
                  <a:pt x="833" y="207"/>
                </a:lnTo>
                <a:lnTo>
                  <a:pt x="804" y="213"/>
                </a:lnTo>
                <a:lnTo>
                  <a:pt x="775" y="219"/>
                </a:lnTo>
                <a:lnTo>
                  <a:pt x="745" y="225"/>
                </a:lnTo>
                <a:lnTo>
                  <a:pt x="714" y="230"/>
                </a:lnTo>
                <a:lnTo>
                  <a:pt x="683" y="238"/>
                </a:lnTo>
                <a:lnTo>
                  <a:pt x="651" y="244"/>
                </a:lnTo>
                <a:lnTo>
                  <a:pt x="616" y="251"/>
                </a:lnTo>
                <a:lnTo>
                  <a:pt x="582" y="259"/>
                </a:lnTo>
                <a:lnTo>
                  <a:pt x="547" y="267"/>
                </a:lnTo>
                <a:lnTo>
                  <a:pt x="512" y="274"/>
                </a:lnTo>
                <a:lnTo>
                  <a:pt x="476" y="282"/>
                </a:lnTo>
                <a:lnTo>
                  <a:pt x="438" y="292"/>
                </a:lnTo>
                <a:lnTo>
                  <a:pt x="401" y="299"/>
                </a:lnTo>
                <a:lnTo>
                  <a:pt x="384" y="303"/>
                </a:lnTo>
                <a:lnTo>
                  <a:pt x="367" y="307"/>
                </a:lnTo>
                <a:lnTo>
                  <a:pt x="349" y="311"/>
                </a:lnTo>
                <a:lnTo>
                  <a:pt x="334" y="315"/>
                </a:lnTo>
                <a:lnTo>
                  <a:pt x="319" y="319"/>
                </a:lnTo>
                <a:lnTo>
                  <a:pt x="303" y="321"/>
                </a:lnTo>
                <a:lnTo>
                  <a:pt x="290" y="324"/>
                </a:lnTo>
                <a:lnTo>
                  <a:pt x="274" y="326"/>
                </a:lnTo>
                <a:lnTo>
                  <a:pt x="261" y="328"/>
                </a:lnTo>
                <a:lnTo>
                  <a:pt x="250" y="330"/>
                </a:lnTo>
                <a:lnTo>
                  <a:pt x="236" y="332"/>
                </a:lnTo>
                <a:lnTo>
                  <a:pt x="225" y="334"/>
                </a:lnTo>
                <a:lnTo>
                  <a:pt x="213" y="336"/>
                </a:lnTo>
                <a:lnTo>
                  <a:pt x="202" y="336"/>
                </a:lnTo>
                <a:lnTo>
                  <a:pt x="192" y="338"/>
                </a:lnTo>
                <a:lnTo>
                  <a:pt x="182" y="338"/>
                </a:lnTo>
                <a:lnTo>
                  <a:pt x="173" y="340"/>
                </a:lnTo>
                <a:lnTo>
                  <a:pt x="163" y="340"/>
                </a:lnTo>
                <a:lnTo>
                  <a:pt x="155" y="340"/>
                </a:lnTo>
                <a:lnTo>
                  <a:pt x="148" y="340"/>
                </a:lnTo>
                <a:lnTo>
                  <a:pt x="140" y="340"/>
                </a:lnTo>
                <a:lnTo>
                  <a:pt x="132" y="340"/>
                </a:lnTo>
                <a:lnTo>
                  <a:pt x="127" y="340"/>
                </a:lnTo>
                <a:lnTo>
                  <a:pt x="121" y="340"/>
                </a:lnTo>
                <a:lnTo>
                  <a:pt x="117" y="338"/>
                </a:lnTo>
                <a:lnTo>
                  <a:pt x="111" y="338"/>
                </a:lnTo>
                <a:lnTo>
                  <a:pt x="107" y="336"/>
                </a:lnTo>
                <a:lnTo>
                  <a:pt x="104" y="336"/>
                </a:lnTo>
                <a:lnTo>
                  <a:pt x="86" y="330"/>
                </a:lnTo>
                <a:lnTo>
                  <a:pt x="71" y="324"/>
                </a:lnTo>
                <a:lnTo>
                  <a:pt x="58" y="319"/>
                </a:lnTo>
                <a:lnTo>
                  <a:pt x="44" y="313"/>
                </a:lnTo>
                <a:lnTo>
                  <a:pt x="33" y="307"/>
                </a:lnTo>
                <a:lnTo>
                  <a:pt x="29" y="303"/>
                </a:lnTo>
                <a:lnTo>
                  <a:pt x="23" y="299"/>
                </a:lnTo>
                <a:lnTo>
                  <a:pt x="19" y="296"/>
                </a:lnTo>
                <a:lnTo>
                  <a:pt x="17" y="292"/>
                </a:lnTo>
                <a:lnTo>
                  <a:pt x="13" y="286"/>
                </a:lnTo>
                <a:lnTo>
                  <a:pt x="12" y="282"/>
                </a:lnTo>
                <a:lnTo>
                  <a:pt x="8" y="278"/>
                </a:lnTo>
                <a:lnTo>
                  <a:pt x="4" y="276"/>
                </a:lnTo>
                <a:lnTo>
                  <a:pt x="2" y="273"/>
                </a:lnTo>
                <a:lnTo>
                  <a:pt x="0" y="269"/>
                </a:lnTo>
                <a:lnTo>
                  <a:pt x="0" y="267"/>
                </a:lnTo>
                <a:lnTo>
                  <a:pt x="0" y="263"/>
                </a:lnTo>
                <a:lnTo>
                  <a:pt x="0" y="259"/>
                </a:lnTo>
                <a:lnTo>
                  <a:pt x="2" y="255"/>
                </a:lnTo>
                <a:lnTo>
                  <a:pt x="6" y="251"/>
                </a:lnTo>
                <a:lnTo>
                  <a:pt x="8" y="248"/>
                </a:lnTo>
                <a:lnTo>
                  <a:pt x="13" y="244"/>
                </a:lnTo>
                <a:lnTo>
                  <a:pt x="17" y="240"/>
                </a:lnTo>
                <a:lnTo>
                  <a:pt x="23" y="236"/>
                </a:lnTo>
                <a:lnTo>
                  <a:pt x="31" y="234"/>
                </a:lnTo>
                <a:lnTo>
                  <a:pt x="38" y="230"/>
                </a:lnTo>
                <a:lnTo>
                  <a:pt x="46" y="228"/>
                </a:lnTo>
                <a:lnTo>
                  <a:pt x="50" y="226"/>
                </a:lnTo>
                <a:lnTo>
                  <a:pt x="54" y="225"/>
                </a:lnTo>
                <a:lnTo>
                  <a:pt x="59" y="223"/>
                </a:lnTo>
                <a:lnTo>
                  <a:pt x="67" y="223"/>
                </a:lnTo>
                <a:lnTo>
                  <a:pt x="75" y="221"/>
                </a:lnTo>
                <a:lnTo>
                  <a:pt x="83" y="217"/>
                </a:lnTo>
                <a:lnTo>
                  <a:pt x="92" y="215"/>
                </a:lnTo>
                <a:lnTo>
                  <a:pt x="102" y="213"/>
                </a:lnTo>
                <a:lnTo>
                  <a:pt x="113" y="211"/>
                </a:lnTo>
                <a:lnTo>
                  <a:pt x="127" y="207"/>
                </a:lnTo>
                <a:lnTo>
                  <a:pt x="138" y="205"/>
                </a:lnTo>
                <a:lnTo>
                  <a:pt x="154" y="202"/>
                </a:lnTo>
                <a:lnTo>
                  <a:pt x="169" y="200"/>
                </a:lnTo>
                <a:lnTo>
                  <a:pt x="184" y="196"/>
                </a:lnTo>
                <a:lnTo>
                  <a:pt x="202" y="192"/>
                </a:lnTo>
                <a:lnTo>
                  <a:pt x="219" y="188"/>
                </a:lnTo>
                <a:lnTo>
                  <a:pt x="238" y="184"/>
                </a:lnTo>
                <a:lnTo>
                  <a:pt x="257" y="180"/>
                </a:lnTo>
                <a:lnTo>
                  <a:pt x="278" y="177"/>
                </a:lnTo>
                <a:lnTo>
                  <a:pt x="299" y="173"/>
                </a:lnTo>
                <a:lnTo>
                  <a:pt x="321" y="167"/>
                </a:lnTo>
                <a:lnTo>
                  <a:pt x="344" y="163"/>
                </a:lnTo>
                <a:lnTo>
                  <a:pt x="369" y="159"/>
                </a:lnTo>
                <a:lnTo>
                  <a:pt x="393" y="154"/>
                </a:lnTo>
                <a:lnTo>
                  <a:pt x="420" y="148"/>
                </a:lnTo>
                <a:lnTo>
                  <a:pt x="447" y="142"/>
                </a:lnTo>
                <a:lnTo>
                  <a:pt x="474" y="138"/>
                </a:lnTo>
                <a:lnTo>
                  <a:pt x="503" y="132"/>
                </a:lnTo>
                <a:lnTo>
                  <a:pt x="532" y="127"/>
                </a:lnTo>
                <a:lnTo>
                  <a:pt x="562" y="121"/>
                </a:lnTo>
                <a:lnTo>
                  <a:pt x="595" y="113"/>
                </a:lnTo>
                <a:lnTo>
                  <a:pt x="626" y="107"/>
                </a:lnTo>
                <a:lnTo>
                  <a:pt x="658" y="102"/>
                </a:lnTo>
                <a:lnTo>
                  <a:pt x="691" y="96"/>
                </a:lnTo>
                <a:lnTo>
                  <a:pt x="722" y="88"/>
                </a:lnTo>
                <a:lnTo>
                  <a:pt x="750" y="83"/>
                </a:lnTo>
                <a:lnTo>
                  <a:pt x="781" y="79"/>
                </a:lnTo>
                <a:lnTo>
                  <a:pt x="810" y="73"/>
                </a:lnTo>
                <a:lnTo>
                  <a:pt x="837" y="67"/>
                </a:lnTo>
                <a:lnTo>
                  <a:pt x="866" y="61"/>
                </a:lnTo>
                <a:lnTo>
                  <a:pt x="893" y="58"/>
                </a:lnTo>
                <a:lnTo>
                  <a:pt x="917" y="52"/>
                </a:lnTo>
                <a:lnTo>
                  <a:pt x="944" y="48"/>
                </a:lnTo>
                <a:lnTo>
                  <a:pt x="967" y="44"/>
                </a:lnTo>
                <a:lnTo>
                  <a:pt x="992" y="40"/>
                </a:lnTo>
                <a:lnTo>
                  <a:pt x="1015" y="36"/>
                </a:lnTo>
                <a:lnTo>
                  <a:pt x="1038" y="33"/>
                </a:lnTo>
                <a:lnTo>
                  <a:pt x="1060" y="29"/>
                </a:lnTo>
                <a:lnTo>
                  <a:pt x="1081" y="25"/>
                </a:lnTo>
                <a:lnTo>
                  <a:pt x="1102" y="21"/>
                </a:lnTo>
                <a:lnTo>
                  <a:pt x="1121" y="19"/>
                </a:lnTo>
                <a:lnTo>
                  <a:pt x="1140" y="17"/>
                </a:lnTo>
                <a:lnTo>
                  <a:pt x="1157" y="13"/>
                </a:lnTo>
                <a:lnTo>
                  <a:pt x="1177" y="11"/>
                </a:lnTo>
                <a:lnTo>
                  <a:pt x="1192" y="10"/>
                </a:lnTo>
                <a:lnTo>
                  <a:pt x="1209" y="8"/>
                </a:lnTo>
                <a:lnTo>
                  <a:pt x="1225" y="6"/>
                </a:lnTo>
                <a:lnTo>
                  <a:pt x="1238" y="4"/>
                </a:lnTo>
                <a:lnTo>
                  <a:pt x="1251" y="4"/>
                </a:lnTo>
                <a:lnTo>
                  <a:pt x="1265" y="2"/>
                </a:lnTo>
                <a:lnTo>
                  <a:pt x="1278" y="2"/>
                </a:lnTo>
                <a:lnTo>
                  <a:pt x="1290" y="2"/>
                </a:lnTo>
                <a:lnTo>
                  <a:pt x="1299" y="0"/>
                </a:lnTo>
                <a:lnTo>
                  <a:pt x="1311" y="0"/>
                </a:lnTo>
                <a:lnTo>
                  <a:pt x="1330" y="0"/>
                </a:lnTo>
                <a:lnTo>
                  <a:pt x="1347" y="2"/>
                </a:lnTo>
                <a:lnTo>
                  <a:pt x="1367" y="2"/>
                </a:lnTo>
                <a:lnTo>
                  <a:pt x="1382" y="4"/>
                </a:lnTo>
                <a:lnTo>
                  <a:pt x="1399" y="4"/>
                </a:lnTo>
                <a:lnTo>
                  <a:pt x="1415" y="6"/>
                </a:lnTo>
                <a:lnTo>
                  <a:pt x="1428" y="8"/>
                </a:lnTo>
                <a:lnTo>
                  <a:pt x="1443" y="11"/>
                </a:lnTo>
                <a:lnTo>
                  <a:pt x="1457" y="13"/>
                </a:lnTo>
                <a:lnTo>
                  <a:pt x="1468" y="15"/>
                </a:lnTo>
                <a:lnTo>
                  <a:pt x="1480" y="19"/>
                </a:lnTo>
                <a:lnTo>
                  <a:pt x="1491" y="23"/>
                </a:lnTo>
                <a:lnTo>
                  <a:pt x="1503" y="27"/>
                </a:lnTo>
                <a:lnTo>
                  <a:pt x="1513" y="31"/>
                </a:lnTo>
                <a:lnTo>
                  <a:pt x="1522" y="36"/>
                </a:lnTo>
                <a:lnTo>
                  <a:pt x="1532" y="40"/>
                </a:lnTo>
                <a:lnTo>
                  <a:pt x="1539" y="48"/>
                </a:lnTo>
                <a:lnTo>
                  <a:pt x="1547" y="56"/>
                </a:lnTo>
                <a:lnTo>
                  <a:pt x="1555" y="61"/>
                </a:lnTo>
                <a:lnTo>
                  <a:pt x="1561" y="69"/>
                </a:lnTo>
                <a:lnTo>
                  <a:pt x="1568" y="75"/>
                </a:lnTo>
                <a:lnTo>
                  <a:pt x="1572" y="81"/>
                </a:lnTo>
                <a:lnTo>
                  <a:pt x="1578" y="86"/>
                </a:lnTo>
                <a:lnTo>
                  <a:pt x="1582" y="92"/>
                </a:lnTo>
                <a:lnTo>
                  <a:pt x="1585" y="98"/>
                </a:lnTo>
                <a:lnTo>
                  <a:pt x="1587" y="104"/>
                </a:lnTo>
                <a:lnTo>
                  <a:pt x="1589" y="109"/>
                </a:lnTo>
                <a:lnTo>
                  <a:pt x="1591" y="113"/>
                </a:lnTo>
                <a:lnTo>
                  <a:pt x="1591" y="119"/>
                </a:lnTo>
                <a:lnTo>
                  <a:pt x="1591" y="125"/>
                </a:lnTo>
                <a:lnTo>
                  <a:pt x="1591" y="129"/>
                </a:lnTo>
                <a:lnTo>
                  <a:pt x="1589" y="1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07"/>
          <p:cNvSpPr/>
          <p:nvPr/>
        </p:nvSpPr>
        <p:spPr>
          <a:xfrm>
            <a:off x="6197760" y="3321000"/>
            <a:ext cx="1498320" cy="317520"/>
          </a:xfrm>
          <a:custGeom>
            <a:avLst/>
            <a:gdLst/>
            <a:ahLst/>
            <a:rect l="l" t="t" r="r" b="b"/>
            <a:pathLst>
              <a:path w="1887" h="401">
                <a:moveTo>
                  <a:pt x="626" y="321"/>
                </a:moveTo>
                <a:lnTo>
                  <a:pt x="595" y="326"/>
                </a:lnTo>
                <a:lnTo>
                  <a:pt x="565" y="330"/>
                </a:lnTo>
                <a:lnTo>
                  <a:pt x="536" y="336"/>
                </a:lnTo>
                <a:lnTo>
                  <a:pt x="507" y="340"/>
                </a:lnTo>
                <a:lnTo>
                  <a:pt x="480" y="344"/>
                </a:lnTo>
                <a:lnTo>
                  <a:pt x="455" y="348"/>
                </a:lnTo>
                <a:lnTo>
                  <a:pt x="430" y="353"/>
                </a:lnTo>
                <a:lnTo>
                  <a:pt x="405" y="357"/>
                </a:lnTo>
                <a:lnTo>
                  <a:pt x="382" y="359"/>
                </a:lnTo>
                <a:lnTo>
                  <a:pt x="361" y="363"/>
                </a:lnTo>
                <a:lnTo>
                  <a:pt x="340" y="367"/>
                </a:lnTo>
                <a:lnTo>
                  <a:pt x="319" y="371"/>
                </a:lnTo>
                <a:lnTo>
                  <a:pt x="300" y="373"/>
                </a:lnTo>
                <a:lnTo>
                  <a:pt x="283" y="376"/>
                </a:lnTo>
                <a:lnTo>
                  <a:pt x="265" y="378"/>
                </a:lnTo>
                <a:lnTo>
                  <a:pt x="250" y="382"/>
                </a:lnTo>
                <a:lnTo>
                  <a:pt x="235" y="384"/>
                </a:lnTo>
                <a:lnTo>
                  <a:pt x="219" y="386"/>
                </a:lnTo>
                <a:lnTo>
                  <a:pt x="206" y="388"/>
                </a:lnTo>
                <a:lnTo>
                  <a:pt x="194" y="390"/>
                </a:lnTo>
                <a:lnTo>
                  <a:pt x="183" y="392"/>
                </a:lnTo>
                <a:lnTo>
                  <a:pt x="171" y="394"/>
                </a:lnTo>
                <a:lnTo>
                  <a:pt x="162" y="396"/>
                </a:lnTo>
                <a:lnTo>
                  <a:pt x="152" y="396"/>
                </a:lnTo>
                <a:lnTo>
                  <a:pt x="144" y="398"/>
                </a:lnTo>
                <a:lnTo>
                  <a:pt x="139" y="398"/>
                </a:lnTo>
                <a:lnTo>
                  <a:pt x="133" y="399"/>
                </a:lnTo>
                <a:lnTo>
                  <a:pt x="127" y="399"/>
                </a:lnTo>
                <a:lnTo>
                  <a:pt x="123" y="399"/>
                </a:lnTo>
                <a:lnTo>
                  <a:pt x="119" y="401"/>
                </a:lnTo>
                <a:lnTo>
                  <a:pt x="117" y="401"/>
                </a:lnTo>
                <a:lnTo>
                  <a:pt x="116" y="401"/>
                </a:lnTo>
                <a:lnTo>
                  <a:pt x="110" y="399"/>
                </a:lnTo>
                <a:lnTo>
                  <a:pt x="104" y="399"/>
                </a:lnTo>
                <a:lnTo>
                  <a:pt x="98" y="396"/>
                </a:lnTo>
                <a:lnTo>
                  <a:pt x="89" y="394"/>
                </a:lnTo>
                <a:lnTo>
                  <a:pt x="79" y="388"/>
                </a:lnTo>
                <a:lnTo>
                  <a:pt x="69" y="384"/>
                </a:lnTo>
                <a:lnTo>
                  <a:pt x="58" y="380"/>
                </a:lnTo>
                <a:lnTo>
                  <a:pt x="46" y="374"/>
                </a:lnTo>
                <a:lnTo>
                  <a:pt x="39" y="373"/>
                </a:lnTo>
                <a:lnTo>
                  <a:pt x="33" y="369"/>
                </a:lnTo>
                <a:lnTo>
                  <a:pt x="29" y="365"/>
                </a:lnTo>
                <a:lnTo>
                  <a:pt x="23" y="361"/>
                </a:lnTo>
                <a:lnTo>
                  <a:pt x="16" y="353"/>
                </a:lnTo>
                <a:lnTo>
                  <a:pt x="10" y="346"/>
                </a:lnTo>
                <a:lnTo>
                  <a:pt x="4" y="336"/>
                </a:lnTo>
                <a:lnTo>
                  <a:pt x="2" y="326"/>
                </a:lnTo>
                <a:lnTo>
                  <a:pt x="0" y="317"/>
                </a:lnTo>
                <a:lnTo>
                  <a:pt x="0" y="307"/>
                </a:lnTo>
                <a:lnTo>
                  <a:pt x="0" y="305"/>
                </a:lnTo>
                <a:lnTo>
                  <a:pt x="2" y="302"/>
                </a:lnTo>
                <a:lnTo>
                  <a:pt x="4" y="298"/>
                </a:lnTo>
                <a:lnTo>
                  <a:pt x="8" y="296"/>
                </a:lnTo>
                <a:lnTo>
                  <a:pt x="14" y="292"/>
                </a:lnTo>
                <a:lnTo>
                  <a:pt x="20" y="288"/>
                </a:lnTo>
                <a:lnTo>
                  <a:pt x="25" y="284"/>
                </a:lnTo>
                <a:lnTo>
                  <a:pt x="35" y="280"/>
                </a:lnTo>
                <a:lnTo>
                  <a:pt x="43" y="277"/>
                </a:lnTo>
                <a:lnTo>
                  <a:pt x="54" y="273"/>
                </a:lnTo>
                <a:lnTo>
                  <a:pt x="66" y="269"/>
                </a:lnTo>
                <a:lnTo>
                  <a:pt x="77" y="267"/>
                </a:lnTo>
                <a:lnTo>
                  <a:pt x="91" y="263"/>
                </a:lnTo>
                <a:lnTo>
                  <a:pt x="106" y="259"/>
                </a:lnTo>
                <a:lnTo>
                  <a:pt x="121" y="257"/>
                </a:lnTo>
                <a:lnTo>
                  <a:pt x="139" y="254"/>
                </a:lnTo>
                <a:lnTo>
                  <a:pt x="173" y="250"/>
                </a:lnTo>
                <a:lnTo>
                  <a:pt x="208" y="246"/>
                </a:lnTo>
                <a:lnTo>
                  <a:pt x="242" y="244"/>
                </a:lnTo>
                <a:lnTo>
                  <a:pt x="277" y="240"/>
                </a:lnTo>
                <a:lnTo>
                  <a:pt x="309" y="238"/>
                </a:lnTo>
                <a:lnTo>
                  <a:pt x="342" y="234"/>
                </a:lnTo>
                <a:lnTo>
                  <a:pt x="375" y="232"/>
                </a:lnTo>
                <a:lnTo>
                  <a:pt x="405" y="227"/>
                </a:lnTo>
                <a:lnTo>
                  <a:pt x="413" y="227"/>
                </a:lnTo>
                <a:lnTo>
                  <a:pt x="423" y="225"/>
                </a:lnTo>
                <a:lnTo>
                  <a:pt x="432" y="223"/>
                </a:lnTo>
                <a:lnTo>
                  <a:pt x="442" y="221"/>
                </a:lnTo>
                <a:lnTo>
                  <a:pt x="453" y="219"/>
                </a:lnTo>
                <a:lnTo>
                  <a:pt x="465" y="217"/>
                </a:lnTo>
                <a:lnTo>
                  <a:pt x="476" y="215"/>
                </a:lnTo>
                <a:lnTo>
                  <a:pt x="490" y="213"/>
                </a:lnTo>
                <a:lnTo>
                  <a:pt x="505" y="209"/>
                </a:lnTo>
                <a:lnTo>
                  <a:pt x="521" y="207"/>
                </a:lnTo>
                <a:lnTo>
                  <a:pt x="536" y="204"/>
                </a:lnTo>
                <a:lnTo>
                  <a:pt x="551" y="202"/>
                </a:lnTo>
                <a:lnTo>
                  <a:pt x="569" y="198"/>
                </a:lnTo>
                <a:lnTo>
                  <a:pt x="588" y="194"/>
                </a:lnTo>
                <a:lnTo>
                  <a:pt x="607" y="190"/>
                </a:lnTo>
                <a:lnTo>
                  <a:pt x="626" y="188"/>
                </a:lnTo>
                <a:lnTo>
                  <a:pt x="647" y="184"/>
                </a:lnTo>
                <a:lnTo>
                  <a:pt x="668" y="181"/>
                </a:lnTo>
                <a:lnTo>
                  <a:pt x="689" y="175"/>
                </a:lnTo>
                <a:lnTo>
                  <a:pt x="712" y="171"/>
                </a:lnTo>
                <a:lnTo>
                  <a:pt x="737" y="167"/>
                </a:lnTo>
                <a:lnTo>
                  <a:pt x="762" y="161"/>
                </a:lnTo>
                <a:lnTo>
                  <a:pt x="787" y="158"/>
                </a:lnTo>
                <a:lnTo>
                  <a:pt x="814" y="152"/>
                </a:lnTo>
                <a:lnTo>
                  <a:pt x="841" y="148"/>
                </a:lnTo>
                <a:lnTo>
                  <a:pt x="868" y="142"/>
                </a:lnTo>
                <a:lnTo>
                  <a:pt x="897" y="136"/>
                </a:lnTo>
                <a:lnTo>
                  <a:pt x="927" y="131"/>
                </a:lnTo>
                <a:lnTo>
                  <a:pt x="958" y="125"/>
                </a:lnTo>
                <a:lnTo>
                  <a:pt x="989" y="119"/>
                </a:lnTo>
                <a:lnTo>
                  <a:pt x="1022" y="113"/>
                </a:lnTo>
                <a:lnTo>
                  <a:pt x="1056" y="108"/>
                </a:lnTo>
                <a:lnTo>
                  <a:pt x="1087" y="100"/>
                </a:lnTo>
                <a:lnTo>
                  <a:pt x="1119" y="94"/>
                </a:lnTo>
                <a:lnTo>
                  <a:pt x="1148" y="88"/>
                </a:lnTo>
                <a:lnTo>
                  <a:pt x="1179" y="83"/>
                </a:lnTo>
                <a:lnTo>
                  <a:pt x="1206" y="77"/>
                </a:lnTo>
                <a:lnTo>
                  <a:pt x="1235" y="71"/>
                </a:lnTo>
                <a:lnTo>
                  <a:pt x="1260" y="65"/>
                </a:lnTo>
                <a:lnTo>
                  <a:pt x="1286" y="62"/>
                </a:lnTo>
                <a:lnTo>
                  <a:pt x="1311" y="56"/>
                </a:lnTo>
                <a:lnTo>
                  <a:pt x="1334" y="52"/>
                </a:lnTo>
                <a:lnTo>
                  <a:pt x="1357" y="48"/>
                </a:lnTo>
                <a:lnTo>
                  <a:pt x="1379" y="42"/>
                </a:lnTo>
                <a:lnTo>
                  <a:pt x="1400" y="39"/>
                </a:lnTo>
                <a:lnTo>
                  <a:pt x="1419" y="35"/>
                </a:lnTo>
                <a:lnTo>
                  <a:pt x="1438" y="31"/>
                </a:lnTo>
                <a:lnTo>
                  <a:pt x="1457" y="27"/>
                </a:lnTo>
                <a:lnTo>
                  <a:pt x="1475" y="25"/>
                </a:lnTo>
                <a:lnTo>
                  <a:pt x="1490" y="21"/>
                </a:lnTo>
                <a:lnTo>
                  <a:pt x="1505" y="17"/>
                </a:lnTo>
                <a:lnTo>
                  <a:pt x="1521" y="16"/>
                </a:lnTo>
                <a:lnTo>
                  <a:pt x="1534" y="14"/>
                </a:lnTo>
                <a:lnTo>
                  <a:pt x="1546" y="12"/>
                </a:lnTo>
                <a:lnTo>
                  <a:pt x="1559" y="8"/>
                </a:lnTo>
                <a:lnTo>
                  <a:pt x="1569" y="6"/>
                </a:lnTo>
                <a:lnTo>
                  <a:pt x="1578" y="6"/>
                </a:lnTo>
                <a:lnTo>
                  <a:pt x="1588" y="4"/>
                </a:lnTo>
                <a:lnTo>
                  <a:pt x="1595" y="2"/>
                </a:lnTo>
                <a:lnTo>
                  <a:pt x="1603" y="2"/>
                </a:lnTo>
                <a:lnTo>
                  <a:pt x="1611" y="0"/>
                </a:lnTo>
                <a:lnTo>
                  <a:pt x="1615" y="0"/>
                </a:lnTo>
                <a:lnTo>
                  <a:pt x="1620" y="0"/>
                </a:lnTo>
                <a:lnTo>
                  <a:pt x="1624" y="0"/>
                </a:lnTo>
                <a:lnTo>
                  <a:pt x="1638" y="0"/>
                </a:lnTo>
                <a:lnTo>
                  <a:pt x="1651" y="2"/>
                </a:lnTo>
                <a:lnTo>
                  <a:pt x="1668" y="4"/>
                </a:lnTo>
                <a:lnTo>
                  <a:pt x="1684" y="8"/>
                </a:lnTo>
                <a:lnTo>
                  <a:pt x="1703" y="12"/>
                </a:lnTo>
                <a:lnTo>
                  <a:pt x="1722" y="17"/>
                </a:lnTo>
                <a:lnTo>
                  <a:pt x="1741" y="21"/>
                </a:lnTo>
                <a:lnTo>
                  <a:pt x="1762" y="27"/>
                </a:lnTo>
                <a:lnTo>
                  <a:pt x="1784" y="37"/>
                </a:lnTo>
                <a:lnTo>
                  <a:pt x="1805" y="46"/>
                </a:lnTo>
                <a:lnTo>
                  <a:pt x="1822" y="58"/>
                </a:lnTo>
                <a:lnTo>
                  <a:pt x="1832" y="62"/>
                </a:lnTo>
                <a:lnTo>
                  <a:pt x="1839" y="67"/>
                </a:lnTo>
                <a:lnTo>
                  <a:pt x="1845" y="71"/>
                </a:lnTo>
                <a:lnTo>
                  <a:pt x="1853" y="77"/>
                </a:lnTo>
                <a:lnTo>
                  <a:pt x="1858" y="83"/>
                </a:lnTo>
                <a:lnTo>
                  <a:pt x="1864" y="87"/>
                </a:lnTo>
                <a:lnTo>
                  <a:pt x="1870" y="92"/>
                </a:lnTo>
                <a:lnTo>
                  <a:pt x="1874" y="96"/>
                </a:lnTo>
                <a:lnTo>
                  <a:pt x="1876" y="102"/>
                </a:lnTo>
                <a:lnTo>
                  <a:pt x="1880" y="108"/>
                </a:lnTo>
                <a:lnTo>
                  <a:pt x="1881" y="113"/>
                </a:lnTo>
                <a:lnTo>
                  <a:pt x="1883" y="121"/>
                </a:lnTo>
                <a:lnTo>
                  <a:pt x="1885" y="127"/>
                </a:lnTo>
                <a:lnTo>
                  <a:pt x="1885" y="133"/>
                </a:lnTo>
                <a:lnTo>
                  <a:pt x="1887" y="142"/>
                </a:lnTo>
                <a:lnTo>
                  <a:pt x="1887" y="150"/>
                </a:lnTo>
                <a:lnTo>
                  <a:pt x="1887" y="158"/>
                </a:lnTo>
                <a:lnTo>
                  <a:pt x="1885" y="163"/>
                </a:lnTo>
                <a:lnTo>
                  <a:pt x="1883" y="169"/>
                </a:lnTo>
                <a:lnTo>
                  <a:pt x="1880" y="173"/>
                </a:lnTo>
                <a:lnTo>
                  <a:pt x="1876" y="177"/>
                </a:lnTo>
                <a:lnTo>
                  <a:pt x="1872" y="179"/>
                </a:lnTo>
                <a:lnTo>
                  <a:pt x="1866" y="181"/>
                </a:lnTo>
                <a:lnTo>
                  <a:pt x="1858" y="181"/>
                </a:lnTo>
                <a:lnTo>
                  <a:pt x="1849" y="183"/>
                </a:lnTo>
                <a:lnTo>
                  <a:pt x="1837" y="184"/>
                </a:lnTo>
                <a:lnTo>
                  <a:pt x="1824" y="184"/>
                </a:lnTo>
                <a:lnTo>
                  <a:pt x="1810" y="184"/>
                </a:lnTo>
                <a:lnTo>
                  <a:pt x="1795" y="186"/>
                </a:lnTo>
                <a:lnTo>
                  <a:pt x="1778" y="186"/>
                </a:lnTo>
                <a:lnTo>
                  <a:pt x="1761" y="186"/>
                </a:lnTo>
                <a:lnTo>
                  <a:pt x="1739" y="186"/>
                </a:lnTo>
                <a:lnTo>
                  <a:pt x="1718" y="186"/>
                </a:lnTo>
                <a:lnTo>
                  <a:pt x="1697" y="186"/>
                </a:lnTo>
                <a:lnTo>
                  <a:pt x="1672" y="186"/>
                </a:lnTo>
                <a:lnTo>
                  <a:pt x="1647" y="186"/>
                </a:lnTo>
                <a:lnTo>
                  <a:pt x="1618" y="186"/>
                </a:lnTo>
                <a:lnTo>
                  <a:pt x="1592" y="186"/>
                </a:lnTo>
                <a:lnTo>
                  <a:pt x="1565" y="186"/>
                </a:lnTo>
                <a:lnTo>
                  <a:pt x="1540" y="186"/>
                </a:lnTo>
                <a:lnTo>
                  <a:pt x="1515" y="186"/>
                </a:lnTo>
                <a:lnTo>
                  <a:pt x="1492" y="188"/>
                </a:lnTo>
                <a:lnTo>
                  <a:pt x="1469" y="188"/>
                </a:lnTo>
                <a:lnTo>
                  <a:pt x="1446" y="188"/>
                </a:lnTo>
                <a:lnTo>
                  <a:pt x="1423" y="190"/>
                </a:lnTo>
                <a:lnTo>
                  <a:pt x="1402" y="190"/>
                </a:lnTo>
                <a:lnTo>
                  <a:pt x="1382" y="192"/>
                </a:lnTo>
                <a:lnTo>
                  <a:pt x="1361" y="192"/>
                </a:lnTo>
                <a:lnTo>
                  <a:pt x="1342" y="194"/>
                </a:lnTo>
                <a:lnTo>
                  <a:pt x="1323" y="196"/>
                </a:lnTo>
                <a:lnTo>
                  <a:pt x="1306" y="198"/>
                </a:lnTo>
                <a:lnTo>
                  <a:pt x="1288" y="200"/>
                </a:lnTo>
                <a:lnTo>
                  <a:pt x="1277" y="202"/>
                </a:lnTo>
                <a:lnTo>
                  <a:pt x="1267" y="204"/>
                </a:lnTo>
                <a:lnTo>
                  <a:pt x="1256" y="206"/>
                </a:lnTo>
                <a:lnTo>
                  <a:pt x="1242" y="207"/>
                </a:lnTo>
                <a:lnTo>
                  <a:pt x="1231" y="209"/>
                </a:lnTo>
                <a:lnTo>
                  <a:pt x="1215" y="211"/>
                </a:lnTo>
                <a:lnTo>
                  <a:pt x="1202" y="213"/>
                </a:lnTo>
                <a:lnTo>
                  <a:pt x="1187" y="215"/>
                </a:lnTo>
                <a:lnTo>
                  <a:pt x="1171" y="217"/>
                </a:lnTo>
                <a:lnTo>
                  <a:pt x="1156" y="221"/>
                </a:lnTo>
                <a:lnTo>
                  <a:pt x="1139" y="223"/>
                </a:lnTo>
                <a:lnTo>
                  <a:pt x="1121" y="227"/>
                </a:lnTo>
                <a:lnTo>
                  <a:pt x="1102" y="231"/>
                </a:lnTo>
                <a:lnTo>
                  <a:pt x="1083" y="232"/>
                </a:lnTo>
                <a:lnTo>
                  <a:pt x="1064" y="236"/>
                </a:lnTo>
                <a:lnTo>
                  <a:pt x="1043" y="240"/>
                </a:lnTo>
                <a:lnTo>
                  <a:pt x="1022" y="244"/>
                </a:lnTo>
                <a:lnTo>
                  <a:pt x="1000" y="248"/>
                </a:lnTo>
                <a:lnTo>
                  <a:pt x="979" y="252"/>
                </a:lnTo>
                <a:lnTo>
                  <a:pt x="954" y="255"/>
                </a:lnTo>
                <a:lnTo>
                  <a:pt x="931" y="261"/>
                </a:lnTo>
                <a:lnTo>
                  <a:pt x="906" y="265"/>
                </a:lnTo>
                <a:lnTo>
                  <a:pt x="881" y="271"/>
                </a:lnTo>
                <a:lnTo>
                  <a:pt x="856" y="275"/>
                </a:lnTo>
                <a:lnTo>
                  <a:pt x="830" y="280"/>
                </a:lnTo>
                <a:lnTo>
                  <a:pt x="803" y="286"/>
                </a:lnTo>
                <a:lnTo>
                  <a:pt x="776" y="292"/>
                </a:lnTo>
                <a:lnTo>
                  <a:pt x="747" y="296"/>
                </a:lnTo>
                <a:lnTo>
                  <a:pt x="716" y="302"/>
                </a:lnTo>
                <a:lnTo>
                  <a:pt x="688" y="309"/>
                </a:lnTo>
                <a:lnTo>
                  <a:pt x="657" y="315"/>
                </a:lnTo>
                <a:lnTo>
                  <a:pt x="626" y="3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08"/>
          <p:cNvSpPr/>
          <p:nvPr/>
        </p:nvSpPr>
        <p:spPr>
          <a:xfrm>
            <a:off x="7054920" y="3087720"/>
            <a:ext cx="266760" cy="720720"/>
          </a:xfrm>
          <a:custGeom>
            <a:avLst/>
            <a:gdLst/>
            <a:ahLst/>
            <a:rect l="l" t="t" r="r" b="b"/>
            <a:pathLst>
              <a:path w="336" h="907">
                <a:moveTo>
                  <a:pt x="127" y="320"/>
                </a:moveTo>
                <a:lnTo>
                  <a:pt x="129" y="297"/>
                </a:lnTo>
                <a:lnTo>
                  <a:pt x="131" y="276"/>
                </a:lnTo>
                <a:lnTo>
                  <a:pt x="133" y="257"/>
                </a:lnTo>
                <a:lnTo>
                  <a:pt x="133" y="238"/>
                </a:lnTo>
                <a:lnTo>
                  <a:pt x="134" y="218"/>
                </a:lnTo>
                <a:lnTo>
                  <a:pt x="134" y="201"/>
                </a:lnTo>
                <a:lnTo>
                  <a:pt x="134" y="184"/>
                </a:lnTo>
                <a:lnTo>
                  <a:pt x="134" y="168"/>
                </a:lnTo>
                <a:lnTo>
                  <a:pt x="133" y="155"/>
                </a:lnTo>
                <a:lnTo>
                  <a:pt x="133" y="142"/>
                </a:lnTo>
                <a:lnTo>
                  <a:pt x="131" y="128"/>
                </a:lnTo>
                <a:lnTo>
                  <a:pt x="129" y="117"/>
                </a:lnTo>
                <a:lnTo>
                  <a:pt x="127" y="105"/>
                </a:lnTo>
                <a:lnTo>
                  <a:pt x="123" y="95"/>
                </a:lnTo>
                <a:lnTo>
                  <a:pt x="119" y="86"/>
                </a:lnTo>
                <a:lnTo>
                  <a:pt x="115" y="78"/>
                </a:lnTo>
                <a:lnTo>
                  <a:pt x="110" y="71"/>
                </a:lnTo>
                <a:lnTo>
                  <a:pt x="104" y="65"/>
                </a:lnTo>
                <a:lnTo>
                  <a:pt x="100" y="57"/>
                </a:lnTo>
                <a:lnTo>
                  <a:pt x="98" y="51"/>
                </a:lnTo>
                <a:lnTo>
                  <a:pt x="96" y="46"/>
                </a:lnTo>
                <a:lnTo>
                  <a:pt x="94" y="40"/>
                </a:lnTo>
                <a:lnTo>
                  <a:pt x="94" y="34"/>
                </a:lnTo>
                <a:lnTo>
                  <a:pt x="96" y="28"/>
                </a:lnTo>
                <a:lnTo>
                  <a:pt x="96" y="24"/>
                </a:lnTo>
                <a:lnTo>
                  <a:pt x="100" y="19"/>
                </a:lnTo>
                <a:lnTo>
                  <a:pt x="102" y="15"/>
                </a:lnTo>
                <a:lnTo>
                  <a:pt x="106" y="11"/>
                </a:lnTo>
                <a:lnTo>
                  <a:pt x="110" y="7"/>
                </a:lnTo>
                <a:lnTo>
                  <a:pt x="115" y="3"/>
                </a:lnTo>
                <a:lnTo>
                  <a:pt x="121" y="1"/>
                </a:lnTo>
                <a:lnTo>
                  <a:pt x="127" y="0"/>
                </a:lnTo>
                <a:lnTo>
                  <a:pt x="140" y="0"/>
                </a:lnTo>
                <a:lnTo>
                  <a:pt x="154" y="1"/>
                </a:lnTo>
                <a:lnTo>
                  <a:pt x="167" y="3"/>
                </a:lnTo>
                <a:lnTo>
                  <a:pt x="182" y="9"/>
                </a:lnTo>
                <a:lnTo>
                  <a:pt x="198" y="15"/>
                </a:lnTo>
                <a:lnTo>
                  <a:pt x="215" y="21"/>
                </a:lnTo>
                <a:lnTo>
                  <a:pt x="234" y="28"/>
                </a:lnTo>
                <a:lnTo>
                  <a:pt x="244" y="34"/>
                </a:lnTo>
                <a:lnTo>
                  <a:pt x="255" y="38"/>
                </a:lnTo>
                <a:lnTo>
                  <a:pt x="265" y="46"/>
                </a:lnTo>
                <a:lnTo>
                  <a:pt x="275" y="53"/>
                </a:lnTo>
                <a:lnTo>
                  <a:pt x="284" y="61"/>
                </a:lnTo>
                <a:lnTo>
                  <a:pt x="292" y="67"/>
                </a:lnTo>
                <a:lnTo>
                  <a:pt x="300" y="72"/>
                </a:lnTo>
                <a:lnTo>
                  <a:pt x="305" y="80"/>
                </a:lnTo>
                <a:lnTo>
                  <a:pt x="311" y="86"/>
                </a:lnTo>
                <a:lnTo>
                  <a:pt x="317" y="92"/>
                </a:lnTo>
                <a:lnTo>
                  <a:pt x="323" y="99"/>
                </a:lnTo>
                <a:lnTo>
                  <a:pt x="326" y="105"/>
                </a:lnTo>
                <a:lnTo>
                  <a:pt x="328" y="111"/>
                </a:lnTo>
                <a:lnTo>
                  <a:pt x="332" y="119"/>
                </a:lnTo>
                <a:lnTo>
                  <a:pt x="334" y="124"/>
                </a:lnTo>
                <a:lnTo>
                  <a:pt x="334" y="132"/>
                </a:lnTo>
                <a:lnTo>
                  <a:pt x="336" y="138"/>
                </a:lnTo>
                <a:lnTo>
                  <a:pt x="336" y="145"/>
                </a:lnTo>
                <a:lnTo>
                  <a:pt x="336" y="149"/>
                </a:lnTo>
                <a:lnTo>
                  <a:pt x="336" y="155"/>
                </a:lnTo>
                <a:lnTo>
                  <a:pt x="334" y="159"/>
                </a:lnTo>
                <a:lnTo>
                  <a:pt x="334" y="165"/>
                </a:lnTo>
                <a:lnTo>
                  <a:pt x="332" y="172"/>
                </a:lnTo>
                <a:lnTo>
                  <a:pt x="330" y="178"/>
                </a:lnTo>
                <a:lnTo>
                  <a:pt x="330" y="186"/>
                </a:lnTo>
                <a:lnTo>
                  <a:pt x="326" y="193"/>
                </a:lnTo>
                <a:lnTo>
                  <a:pt x="325" y="201"/>
                </a:lnTo>
                <a:lnTo>
                  <a:pt x="323" y="211"/>
                </a:lnTo>
                <a:lnTo>
                  <a:pt x="321" y="220"/>
                </a:lnTo>
                <a:lnTo>
                  <a:pt x="317" y="230"/>
                </a:lnTo>
                <a:lnTo>
                  <a:pt x="313" y="241"/>
                </a:lnTo>
                <a:lnTo>
                  <a:pt x="309" y="253"/>
                </a:lnTo>
                <a:lnTo>
                  <a:pt x="305" y="264"/>
                </a:lnTo>
                <a:lnTo>
                  <a:pt x="301" y="276"/>
                </a:lnTo>
                <a:lnTo>
                  <a:pt x="298" y="289"/>
                </a:lnTo>
                <a:lnTo>
                  <a:pt x="294" y="303"/>
                </a:lnTo>
                <a:lnTo>
                  <a:pt x="288" y="316"/>
                </a:lnTo>
                <a:lnTo>
                  <a:pt x="284" y="330"/>
                </a:lnTo>
                <a:lnTo>
                  <a:pt x="278" y="345"/>
                </a:lnTo>
                <a:lnTo>
                  <a:pt x="273" y="360"/>
                </a:lnTo>
                <a:lnTo>
                  <a:pt x="267" y="378"/>
                </a:lnTo>
                <a:lnTo>
                  <a:pt x="261" y="393"/>
                </a:lnTo>
                <a:lnTo>
                  <a:pt x="255" y="410"/>
                </a:lnTo>
                <a:lnTo>
                  <a:pt x="250" y="429"/>
                </a:lnTo>
                <a:lnTo>
                  <a:pt x="244" y="447"/>
                </a:lnTo>
                <a:lnTo>
                  <a:pt x="236" y="466"/>
                </a:lnTo>
                <a:lnTo>
                  <a:pt x="230" y="485"/>
                </a:lnTo>
                <a:lnTo>
                  <a:pt x="223" y="506"/>
                </a:lnTo>
                <a:lnTo>
                  <a:pt x="215" y="525"/>
                </a:lnTo>
                <a:lnTo>
                  <a:pt x="209" y="547"/>
                </a:lnTo>
                <a:lnTo>
                  <a:pt x="202" y="570"/>
                </a:lnTo>
                <a:lnTo>
                  <a:pt x="194" y="591"/>
                </a:lnTo>
                <a:lnTo>
                  <a:pt x="186" y="612"/>
                </a:lnTo>
                <a:lnTo>
                  <a:pt x="179" y="631"/>
                </a:lnTo>
                <a:lnTo>
                  <a:pt x="171" y="650"/>
                </a:lnTo>
                <a:lnTo>
                  <a:pt x="165" y="669"/>
                </a:lnTo>
                <a:lnTo>
                  <a:pt x="158" y="689"/>
                </a:lnTo>
                <a:lnTo>
                  <a:pt x="150" y="706"/>
                </a:lnTo>
                <a:lnTo>
                  <a:pt x="144" y="721"/>
                </a:lnTo>
                <a:lnTo>
                  <a:pt x="136" y="737"/>
                </a:lnTo>
                <a:lnTo>
                  <a:pt x="129" y="752"/>
                </a:lnTo>
                <a:lnTo>
                  <a:pt x="123" y="767"/>
                </a:lnTo>
                <a:lnTo>
                  <a:pt x="115" y="781"/>
                </a:lnTo>
                <a:lnTo>
                  <a:pt x="110" y="794"/>
                </a:lnTo>
                <a:lnTo>
                  <a:pt x="102" y="806"/>
                </a:lnTo>
                <a:lnTo>
                  <a:pt x="96" y="817"/>
                </a:lnTo>
                <a:lnTo>
                  <a:pt x="88" y="829"/>
                </a:lnTo>
                <a:lnTo>
                  <a:pt x="83" y="838"/>
                </a:lnTo>
                <a:lnTo>
                  <a:pt x="77" y="848"/>
                </a:lnTo>
                <a:lnTo>
                  <a:pt x="69" y="858"/>
                </a:lnTo>
                <a:lnTo>
                  <a:pt x="63" y="865"/>
                </a:lnTo>
                <a:lnTo>
                  <a:pt x="58" y="873"/>
                </a:lnTo>
                <a:lnTo>
                  <a:pt x="52" y="879"/>
                </a:lnTo>
                <a:lnTo>
                  <a:pt x="46" y="886"/>
                </a:lnTo>
                <a:lnTo>
                  <a:pt x="38" y="890"/>
                </a:lnTo>
                <a:lnTo>
                  <a:pt x="33" y="896"/>
                </a:lnTo>
                <a:lnTo>
                  <a:pt x="27" y="900"/>
                </a:lnTo>
                <a:lnTo>
                  <a:pt x="21" y="902"/>
                </a:lnTo>
                <a:lnTo>
                  <a:pt x="15" y="905"/>
                </a:lnTo>
                <a:lnTo>
                  <a:pt x="10" y="907"/>
                </a:lnTo>
                <a:lnTo>
                  <a:pt x="6" y="907"/>
                </a:lnTo>
                <a:lnTo>
                  <a:pt x="0" y="907"/>
                </a:lnTo>
                <a:lnTo>
                  <a:pt x="12" y="856"/>
                </a:lnTo>
                <a:lnTo>
                  <a:pt x="17" y="831"/>
                </a:lnTo>
                <a:lnTo>
                  <a:pt x="25" y="806"/>
                </a:lnTo>
                <a:lnTo>
                  <a:pt x="31" y="783"/>
                </a:lnTo>
                <a:lnTo>
                  <a:pt x="37" y="758"/>
                </a:lnTo>
                <a:lnTo>
                  <a:pt x="40" y="735"/>
                </a:lnTo>
                <a:lnTo>
                  <a:pt x="46" y="712"/>
                </a:lnTo>
                <a:lnTo>
                  <a:pt x="52" y="691"/>
                </a:lnTo>
                <a:lnTo>
                  <a:pt x="58" y="667"/>
                </a:lnTo>
                <a:lnTo>
                  <a:pt x="62" y="646"/>
                </a:lnTo>
                <a:lnTo>
                  <a:pt x="67" y="627"/>
                </a:lnTo>
                <a:lnTo>
                  <a:pt x="71" y="606"/>
                </a:lnTo>
                <a:lnTo>
                  <a:pt x="77" y="587"/>
                </a:lnTo>
                <a:lnTo>
                  <a:pt x="81" y="568"/>
                </a:lnTo>
                <a:lnTo>
                  <a:pt x="85" y="548"/>
                </a:lnTo>
                <a:lnTo>
                  <a:pt x="88" y="529"/>
                </a:lnTo>
                <a:lnTo>
                  <a:pt x="92" y="512"/>
                </a:lnTo>
                <a:lnTo>
                  <a:pt x="96" y="495"/>
                </a:lnTo>
                <a:lnTo>
                  <a:pt x="100" y="479"/>
                </a:lnTo>
                <a:lnTo>
                  <a:pt x="104" y="462"/>
                </a:lnTo>
                <a:lnTo>
                  <a:pt x="106" y="447"/>
                </a:lnTo>
                <a:lnTo>
                  <a:pt x="110" y="431"/>
                </a:lnTo>
                <a:lnTo>
                  <a:pt x="111" y="418"/>
                </a:lnTo>
                <a:lnTo>
                  <a:pt x="115" y="403"/>
                </a:lnTo>
                <a:lnTo>
                  <a:pt x="117" y="389"/>
                </a:lnTo>
                <a:lnTo>
                  <a:pt x="119" y="376"/>
                </a:lnTo>
                <a:lnTo>
                  <a:pt x="121" y="364"/>
                </a:lnTo>
                <a:lnTo>
                  <a:pt x="123" y="353"/>
                </a:lnTo>
                <a:lnTo>
                  <a:pt x="125" y="341"/>
                </a:lnTo>
                <a:lnTo>
                  <a:pt x="125" y="330"/>
                </a:lnTo>
                <a:lnTo>
                  <a:pt x="127" y="3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109"/>
          <p:cNvSpPr/>
          <p:nvPr/>
        </p:nvSpPr>
        <p:spPr>
          <a:xfrm>
            <a:off x="6388200" y="3259080"/>
            <a:ext cx="204840" cy="608040"/>
          </a:xfrm>
          <a:custGeom>
            <a:avLst/>
            <a:gdLst/>
            <a:ahLst/>
            <a:rect l="l" t="t" r="r" b="b"/>
            <a:pathLst>
              <a:path w="258" h="766">
                <a:moveTo>
                  <a:pt x="246" y="117"/>
                </a:moveTo>
                <a:lnTo>
                  <a:pt x="248" y="125"/>
                </a:lnTo>
                <a:lnTo>
                  <a:pt x="250" y="135"/>
                </a:lnTo>
                <a:lnTo>
                  <a:pt x="252" y="146"/>
                </a:lnTo>
                <a:lnTo>
                  <a:pt x="254" y="160"/>
                </a:lnTo>
                <a:lnTo>
                  <a:pt x="254" y="173"/>
                </a:lnTo>
                <a:lnTo>
                  <a:pt x="256" y="190"/>
                </a:lnTo>
                <a:lnTo>
                  <a:pt x="256" y="208"/>
                </a:lnTo>
                <a:lnTo>
                  <a:pt x="258" y="227"/>
                </a:lnTo>
                <a:lnTo>
                  <a:pt x="258" y="248"/>
                </a:lnTo>
                <a:lnTo>
                  <a:pt x="258" y="271"/>
                </a:lnTo>
                <a:lnTo>
                  <a:pt x="258" y="294"/>
                </a:lnTo>
                <a:lnTo>
                  <a:pt x="258" y="321"/>
                </a:lnTo>
                <a:lnTo>
                  <a:pt x="258" y="348"/>
                </a:lnTo>
                <a:lnTo>
                  <a:pt x="258" y="377"/>
                </a:lnTo>
                <a:lnTo>
                  <a:pt x="258" y="405"/>
                </a:lnTo>
                <a:lnTo>
                  <a:pt x="258" y="438"/>
                </a:lnTo>
                <a:lnTo>
                  <a:pt x="256" y="473"/>
                </a:lnTo>
                <a:lnTo>
                  <a:pt x="254" y="505"/>
                </a:lnTo>
                <a:lnTo>
                  <a:pt x="252" y="534"/>
                </a:lnTo>
                <a:lnTo>
                  <a:pt x="250" y="563"/>
                </a:lnTo>
                <a:lnTo>
                  <a:pt x="248" y="590"/>
                </a:lnTo>
                <a:lnTo>
                  <a:pt x="246" y="615"/>
                </a:lnTo>
                <a:lnTo>
                  <a:pt x="242" y="638"/>
                </a:lnTo>
                <a:lnTo>
                  <a:pt x="240" y="659"/>
                </a:lnTo>
                <a:lnTo>
                  <a:pt x="238" y="678"/>
                </a:lnTo>
                <a:lnTo>
                  <a:pt x="236" y="695"/>
                </a:lnTo>
                <a:lnTo>
                  <a:pt x="234" y="711"/>
                </a:lnTo>
                <a:lnTo>
                  <a:pt x="233" y="724"/>
                </a:lnTo>
                <a:lnTo>
                  <a:pt x="231" y="736"/>
                </a:lnTo>
                <a:lnTo>
                  <a:pt x="229" y="745"/>
                </a:lnTo>
                <a:lnTo>
                  <a:pt x="225" y="753"/>
                </a:lnTo>
                <a:lnTo>
                  <a:pt x="223" y="759"/>
                </a:lnTo>
                <a:lnTo>
                  <a:pt x="219" y="762"/>
                </a:lnTo>
                <a:lnTo>
                  <a:pt x="215" y="766"/>
                </a:lnTo>
                <a:lnTo>
                  <a:pt x="210" y="766"/>
                </a:lnTo>
                <a:lnTo>
                  <a:pt x="206" y="764"/>
                </a:lnTo>
                <a:lnTo>
                  <a:pt x="202" y="761"/>
                </a:lnTo>
                <a:lnTo>
                  <a:pt x="198" y="755"/>
                </a:lnTo>
                <a:lnTo>
                  <a:pt x="192" y="749"/>
                </a:lnTo>
                <a:lnTo>
                  <a:pt x="188" y="739"/>
                </a:lnTo>
                <a:lnTo>
                  <a:pt x="185" y="728"/>
                </a:lnTo>
                <a:lnTo>
                  <a:pt x="179" y="714"/>
                </a:lnTo>
                <a:lnTo>
                  <a:pt x="175" y="701"/>
                </a:lnTo>
                <a:lnTo>
                  <a:pt x="171" y="684"/>
                </a:lnTo>
                <a:lnTo>
                  <a:pt x="167" y="665"/>
                </a:lnTo>
                <a:lnTo>
                  <a:pt x="162" y="645"/>
                </a:lnTo>
                <a:lnTo>
                  <a:pt x="158" y="622"/>
                </a:lnTo>
                <a:lnTo>
                  <a:pt x="154" y="599"/>
                </a:lnTo>
                <a:lnTo>
                  <a:pt x="150" y="574"/>
                </a:lnTo>
                <a:lnTo>
                  <a:pt x="146" y="549"/>
                </a:lnTo>
                <a:lnTo>
                  <a:pt x="140" y="526"/>
                </a:lnTo>
                <a:lnTo>
                  <a:pt x="137" y="503"/>
                </a:lnTo>
                <a:lnTo>
                  <a:pt x="133" y="480"/>
                </a:lnTo>
                <a:lnTo>
                  <a:pt x="129" y="459"/>
                </a:lnTo>
                <a:lnTo>
                  <a:pt x="125" y="436"/>
                </a:lnTo>
                <a:lnTo>
                  <a:pt x="121" y="417"/>
                </a:lnTo>
                <a:lnTo>
                  <a:pt x="114" y="375"/>
                </a:lnTo>
                <a:lnTo>
                  <a:pt x="106" y="336"/>
                </a:lnTo>
                <a:lnTo>
                  <a:pt x="100" y="300"/>
                </a:lnTo>
                <a:lnTo>
                  <a:pt x="96" y="263"/>
                </a:lnTo>
                <a:lnTo>
                  <a:pt x="94" y="250"/>
                </a:lnTo>
                <a:lnTo>
                  <a:pt x="91" y="235"/>
                </a:lnTo>
                <a:lnTo>
                  <a:pt x="89" y="221"/>
                </a:lnTo>
                <a:lnTo>
                  <a:pt x="85" y="208"/>
                </a:lnTo>
                <a:lnTo>
                  <a:pt x="81" y="196"/>
                </a:lnTo>
                <a:lnTo>
                  <a:pt x="77" y="185"/>
                </a:lnTo>
                <a:lnTo>
                  <a:pt x="73" y="173"/>
                </a:lnTo>
                <a:lnTo>
                  <a:pt x="69" y="162"/>
                </a:lnTo>
                <a:lnTo>
                  <a:pt x="60" y="142"/>
                </a:lnTo>
                <a:lnTo>
                  <a:pt x="50" y="123"/>
                </a:lnTo>
                <a:lnTo>
                  <a:pt x="39" y="106"/>
                </a:lnTo>
                <a:lnTo>
                  <a:pt x="27" y="91"/>
                </a:lnTo>
                <a:lnTo>
                  <a:pt x="19" y="83"/>
                </a:lnTo>
                <a:lnTo>
                  <a:pt x="16" y="75"/>
                </a:lnTo>
                <a:lnTo>
                  <a:pt x="10" y="70"/>
                </a:lnTo>
                <a:lnTo>
                  <a:pt x="6" y="62"/>
                </a:lnTo>
                <a:lnTo>
                  <a:pt x="4" y="56"/>
                </a:lnTo>
                <a:lnTo>
                  <a:pt x="2" y="50"/>
                </a:lnTo>
                <a:lnTo>
                  <a:pt x="0" y="45"/>
                </a:lnTo>
                <a:lnTo>
                  <a:pt x="0" y="41"/>
                </a:lnTo>
                <a:lnTo>
                  <a:pt x="0" y="35"/>
                </a:lnTo>
                <a:lnTo>
                  <a:pt x="2" y="31"/>
                </a:lnTo>
                <a:lnTo>
                  <a:pt x="4" y="27"/>
                </a:lnTo>
                <a:lnTo>
                  <a:pt x="6" y="23"/>
                </a:lnTo>
                <a:lnTo>
                  <a:pt x="10" y="20"/>
                </a:lnTo>
                <a:lnTo>
                  <a:pt x="16" y="16"/>
                </a:lnTo>
                <a:lnTo>
                  <a:pt x="19" y="12"/>
                </a:lnTo>
                <a:lnTo>
                  <a:pt x="27" y="10"/>
                </a:lnTo>
                <a:lnTo>
                  <a:pt x="31" y="8"/>
                </a:lnTo>
                <a:lnTo>
                  <a:pt x="37" y="6"/>
                </a:lnTo>
                <a:lnTo>
                  <a:pt x="43" y="4"/>
                </a:lnTo>
                <a:lnTo>
                  <a:pt x="48" y="2"/>
                </a:lnTo>
                <a:lnTo>
                  <a:pt x="54" y="2"/>
                </a:lnTo>
                <a:lnTo>
                  <a:pt x="62" y="0"/>
                </a:lnTo>
                <a:lnTo>
                  <a:pt x="69" y="0"/>
                </a:lnTo>
                <a:lnTo>
                  <a:pt x="77" y="0"/>
                </a:lnTo>
                <a:lnTo>
                  <a:pt x="85" y="2"/>
                </a:lnTo>
                <a:lnTo>
                  <a:pt x="94" y="4"/>
                </a:lnTo>
                <a:lnTo>
                  <a:pt x="104" y="6"/>
                </a:lnTo>
                <a:lnTo>
                  <a:pt x="114" y="8"/>
                </a:lnTo>
                <a:lnTo>
                  <a:pt x="123" y="10"/>
                </a:lnTo>
                <a:lnTo>
                  <a:pt x="133" y="14"/>
                </a:lnTo>
                <a:lnTo>
                  <a:pt x="142" y="20"/>
                </a:lnTo>
                <a:lnTo>
                  <a:pt x="154" y="23"/>
                </a:lnTo>
                <a:lnTo>
                  <a:pt x="163" y="29"/>
                </a:lnTo>
                <a:lnTo>
                  <a:pt x="173" y="33"/>
                </a:lnTo>
                <a:lnTo>
                  <a:pt x="183" y="39"/>
                </a:lnTo>
                <a:lnTo>
                  <a:pt x="190" y="45"/>
                </a:lnTo>
                <a:lnTo>
                  <a:pt x="198" y="48"/>
                </a:lnTo>
                <a:lnTo>
                  <a:pt x="206" y="54"/>
                </a:lnTo>
                <a:lnTo>
                  <a:pt x="211" y="60"/>
                </a:lnTo>
                <a:lnTo>
                  <a:pt x="217" y="66"/>
                </a:lnTo>
                <a:lnTo>
                  <a:pt x="223" y="71"/>
                </a:lnTo>
                <a:lnTo>
                  <a:pt x="227" y="77"/>
                </a:lnTo>
                <a:lnTo>
                  <a:pt x="233" y="83"/>
                </a:lnTo>
                <a:lnTo>
                  <a:pt x="236" y="89"/>
                </a:lnTo>
                <a:lnTo>
                  <a:pt x="242" y="102"/>
                </a:lnTo>
                <a:lnTo>
                  <a:pt x="246" y="1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10"/>
          <p:cNvSpPr/>
          <p:nvPr/>
        </p:nvSpPr>
        <p:spPr>
          <a:xfrm>
            <a:off x="6429240" y="2879640"/>
            <a:ext cx="900360" cy="238320"/>
          </a:xfrm>
          <a:custGeom>
            <a:avLst/>
            <a:gdLst/>
            <a:ahLst/>
            <a:rect l="l" t="t" r="r" b="b"/>
            <a:pathLst>
              <a:path w="1135" h="300">
                <a:moveTo>
                  <a:pt x="520" y="248"/>
                </a:moveTo>
                <a:lnTo>
                  <a:pt x="488" y="254"/>
                </a:lnTo>
                <a:lnTo>
                  <a:pt x="457" y="262"/>
                </a:lnTo>
                <a:lnTo>
                  <a:pt x="428" y="267"/>
                </a:lnTo>
                <a:lnTo>
                  <a:pt x="399" y="273"/>
                </a:lnTo>
                <a:lnTo>
                  <a:pt x="373" y="277"/>
                </a:lnTo>
                <a:lnTo>
                  <a:pt x="348" y="283"/>
                </a:lnTo>
                <a:lnTo>
                  <a:pt x="323" y="286"/>
                </a:lnTo>
                <a:lnTo>
                  <a:pt x="300" y="288"/>
                </a:lnTo>
                <a:lnTo>
                  <a:pt x="277" y="292"/>
                </a:lnTo>
                <a:lnTo>
                  <a:pt x="255" y="294"/>
                </a:lnTo>
                <a:lnTo>
                  <a:pt x="236" y="296"/>
                </a:lnTo>
                <a:lnTo>
                  <a:pt x="217" y="298"/>
                </a:lnTo>
                <a:lnTo>
                  <a:pt x="198" y="300"/>
                </a:lnTo>
                <a:lnTo>
                  <a:pt x="181" y="300"/>
                </a:lnTo>
                <a:lnTo>
                  <a:pt x="163" y="300"/>
                </a:lnTo>
                <a:lnTo>
                  <a:pt x="148" y="300"/>
                </a:lnTo>
                <a:lnTo>
                  <a:pt x="134" y="300"/>
                </a:lnTo>
                <a:lnTo>
                  <a:pt x="119" y="300"/>
                </a:lnTo>
                <a:lnTo>
                  <a:pt x="106" y="300"/>
                </a:lnTo>
                <a:lnTo>
                  <a:pt x="94" y="298"/>
                </a:lnTo>
                <a:lnTo>
                  <a:pt x="83" y="296"/>
                </a:lnTo>
                <a:lnTo>
                  <a:pt x="71" y="294"/>
                </a:lnTo>
                <a:lnTo>
                  <a:pt x="62" y="292"/>
                </a:lnTo>
                <a:lnTo>
                  <a:pt x="52" y="290"/>
                </a:lnTo>
                <a:lnTo>
                  <a:pt x="44" y="288"/>
                </a:lnTo>
                <a:lnTo>
                  <a:pt x="37" y="285"/>
                </a:lnTo>
                <a:lnTo>
                  <a:pt x="29" y="283"/>
                </a:lnTo>
                <a:lnTo>
                  <a:pt x="23" y="279"/>
                </a:lnTo>
                <a:lnTo>
                  <a:pt x="19" y="275"/>
                </a:lnTo>
                <a:lnTo>
                  <a:pt x="15" y="269"/>
                </a:lnTo>
                <a:lnTo>
                  <a:pt x="12" y="265"/>
                </a:lnTo>
                <a:lnTo>
                  <a:pt x="10" y="262"/>
                </a:lnTo>
                <a:lnTo>
                  <a:pt x="6" y="256"/>
                </a:lnTo>
                <a:lnTo>
                  <a:pt x="2" y="250"/>
                </a:lnTo>
                <a:lnTo>
                  <a:pt x="0" y="246"/>
                </a:lnTo>
                <a:lnTo>
                  <a:pt x="0" y="240"/>
                </a:lnTo>
                <a:lnTo>
                  <a:pt x="0" y="235"/>
                </a:lnTo>
                <a:lnTo>
                  <a:pt x="2" y="231"/>
                </a:lnTo>
                <a:lnTo>
                  <a:pt x="6" y="225"/>
                </a:lnTo>
                <a:lnTo>
                  <a:pt x="10" y="221"/>
                </a:lnTo>
                <a:lnTo>
                  <a:pt x="12" y="219"/>
                </a:lnTo>
                <a:lnTo>
                  <a:pt x="15" y="219"/>
                </a:lnTo>
                <a:lnTo>
                  <a:pt x="21" y="219"/>
                </a:lnTo>
                <a:lnTo>
                  <a:pt x="29" y="217"/>
                </a:lnTo>
                <a:lnTo>
                  <a:pt x="37" y="217"/>
                </a:lnTo>
                <a:lnTo>
                  <a:pt x="46" y="215"/>
                </a:lnTo>
                <a:lnTo>
                  <a:pt x="56" y="214"/>
                </a:lnTo>
                <a:lnTo>
                  <a:pt x="67" y="210"/>
                </a:lnTo>
                <a:lnTo>
                  <a:pt x="79" y="208"/>
                </a:lnTo>
                <a:lnTo>
                  <a:pt x="92" y="204"/>
                </a:lnTo>
                <a:lnTo>
                  <a:pt x="108" y="202"/>
                </a:lnTo>
                <a:lnTo>
                  <a:pt x="123" y="198"/>
                </a:lnTo>
                <a:lnTo>
                  <a:pt x="140" y="194"/>
                </a:lnTo>
                <a:lnTo>
                  <a:pt x="158" y="190"/>
                </a:lnTo>
                <a:lnTo>
                  <a:pt x="175" y="185"/>
                </a:lnTo>
                <a:lnTo>
                  <a:pt x="194" y="181"/>
                </a:lnTo>
                <a:lnTo>
                  <a:pt x="215" y="177"/>
                </a:lnTo>
                <a:lnTo>
                  <a:pt x="236" y="173"/>
                </a:lnTo>
                <a:lnTo>
                  <a:pt x="259" y="169"/>
                </a:lnTo>
                <a:lnTo>
                  <a:pt x="284" y="166"/>
                </a:lnTo>
                <a:lnTo>
                  <a:pt x="309" y="160"/>
                </a:lnTo>
                <a:lnTo>
                  <a:pt x="336" y="154"/>
                </a:lnTo>
                <a:lnTo>
                  <a:pt x="363" y="148"/>
                </a:lnTo>
                <a:lnTo>
                  <a:pt x="392" y="141"/>
                </a:lnTo>
                <a:lnTo>
                  <a:pt x="422" y="133"/>
                </a:lnTo>
                <a:lnTo>
                  <a:pt x="453" y="125"/>
                </a:lnTo>
                <a:lnTo>
                  <a:pt x="486" y="116"/>
                </a:lnTo>
                <a:lnTo>
                  <a:pt x="518" y="106"/>
                </a:lnTo>
                <a:lnTo>
                  <a:pt x="551" y="95"/>
                </a:lnTo>
                <a:lnTo>
                  <a:pt x="586" y="85"/>
                </a:lnTo>
                <a:lnTo>
                  <a:pt x="622" y="71"/>
                </a:lnTo>
                <a:lnTo>
                  <a:pt x="659" y="60"/>
                </a:lnTo>
                <a:lnTo>
                  <a:pt x="695" y="50"/>
                </a:lnTo>
                <a:lnTo>
                  <a:pt x="730" y="41"/>
                </a:lnTo>
                <a:lnTo>
                  <a:pt x="762" y="33"/>
                </a:lnTo>
                <a:lnTo>
                  <a:pt x="793" y="27"/>
                </a:lnTo>
                <a:lnTo>
                  <a:pt x="824" y="20"/>
                </a:lnTo>
                <a:lnTo>
                  <a:pt x="850" y="16"/>
                </a:lnTo>
                <a:lnTo>
                  <a:pt x="877" y="12"/>
                </a:lnTo>
                <a:lnTo>
                  <a:pt x="902" y="8"/>
                </a:lnTo>
                <a:lnTo>
                  <a:pt x="925" y="4"/>
                </a:lnTo>
                <a:lnTo>
                  <a:pt x="946" y="2"/>
                </a:lnTo>
                <a:lnTo>
                  <a:pt x="968" y="2"/>
                </a:lnTo>
                <a:lnTo>
                  <a:pt x="985" y="0"/>
                </a:lnTo>
                <a:lnTo>
                  <a:pt x="1002" y="2"/>
                </a:lnTo>
                <a:lnTo>
                  <a:pt x="1017" y="2"/>
                </a:lnTo>
                <a:lnTo>
                  <a:pt x="1029" y="4"/>
                </a:lnTo>
                <a:lnTo>
                  <a:pt x="1042" y="6"/>
                </a:lnTo>
                <a:lnTo>
                  <a:pt x="1052" y="12"/>
                </a:lnTo>
                <a:lnTo>
                  <a:pt x="1062" y="16"/>
                </a:lnTo>
                <a:lnTo>
                  <a:pt x="1071" y="22"/>
                </a:lnTo>
                <a:lnTo>
                  <a:pt x="1081" y="27"/>
                </a:lnTo>
                <a:lnTo>
                  <a:pt x="1088" y="31"/>
                </a:lnTo>
                <a:lnTo>
                  <a:pt x="1096" y="37"/>
                </a:lnTo>
                <a:lnTo>
                  <a:pt x="1104" y="41"/>
                </a:lnTo>
                <a:lnTo>
                  <a:pt x="1110" y="45"/>
                </a:lnTo>
                <a:lnTo>
                  <a:pt x="1115" y="48"/>
                </a:lnTo>
                <a:lnTo>
                  <a:pt x="1121" y="54"/>
                </a:lnTo>
                <a:lnTo>
                  <a:pt x="1125" y="58"/>
                </a:lnTo>
                <a:lnTo>
                  <a:pt x="1129" y="62"/>
                </a:lnTo>
                <a:lnTo>
                  <a:pt x="1131" y="64"/>
                </a:lnTo>
                <a:lnTo>
                  <a:pt x="1133" y="68"/>
                </a:lnTo>
                <a:lnTo>
                  <a:pt x="1135" y="71"/>
                </a:lnTo>
                <a:lnTo>
                  <a:pt x="1135" y="73"/>
                </a:lnTo>
                <a:lnTo>
                  <a:pt x="1133" y="75"/>
                </a:lnTo>
                <a:lnTo>
                  <a:pt x="1129" y="79"/>
                </a:lnTo>
                <a:lnTo>
                  <a:pt x="1123" y="83"/>
                </a:lnTo>
                <a:lnTo>
                  <a:pt x="1117" y="85"/>
                </a:lnTo>
                <a:lnTo>
                  <a:pt x="1110" y="89"/>
                </a:lnTo>
                <a:lnTo>
                  <a:pt x="1102" y="93"/>
                </a:lnTo>
                <a:lnTo>
                  <a:pt x="1092" y="96"/>
                </a:lnTo>
                <a:lnTo>
                  <a:pt x="1083" y="102"/>
                </a:lnTo>
                <a:lnTo>
                  <a:pt x="1071" y="106"/>
                </a:lnTo>
                <a:lnTo>
                  <a:pt x="1058" y="110"/>
                </a:lnTo>
                <a:lnTo>
                  <a:pt x="1044" y="116"/>
                </a:lnTo>
                <a:lnTo>
                  <a:pt x="1029" y="119"/>
                </a:lnTo>
                <a:lnTo>
                  <a:pt x="1014" y="125"/>
                </a:lnTo>
                <a:lnTo>
                  <a:pt x="996" y="129"/>
                </a:lnTo>
                <a:lnTo>
                  <a:pt x="979" y="135"/>
                </a:lnTo>
                <a:lnTo>
                  <a:pt x="960" y="141"/>
                </a:lnTo>
                <a:lnTo>
                  <a:pt x="939" y="148"/>
                </a:lnTo>
                <a:lnTo>
                  <a:pt x="916" y="154"/>
                </a:lnTo>
                <a:lnTo>
                  <a:pt x="891" y="162"/>
                </a:lnTo>
                <a:lnTo>
                  <a:pt x="868" y="167"/>
                </a:lnTo>
                <a:lnTo>
                  <a:pt x="843" y="175"/>
                </a:lnTo>
                <a:lnTo>
                  <a:pt x="816" y="181"/>
                </a:lnTo>
                <a:lnTo>
                  <a:pt x="789" y="187"/>
                </a:lnTo>
                <a:lnTo>
                  <a:pt x="762" y="194"/>
                </a:lnTo>
                <a:lnTo>
                  <a:pt x="733" y="200"/>
                </a:lnTo>
                <a:lnTo>
                  <a:pt x="705" y="206"/>
                </a:lnTo>
                <a:lnTo>
                  <a:pt x="676" y="212"/>
                </a:lnTo>
                <a:lnTo>
                  <a:pt x="645" y="219"/>
                </a:lnTo>
                <a:lnTo>
                  <a:pt x="614" y="225"/>
                </a:lnTo>
                <a:lnTo>
                  <a:pt x="584" y="233"/>
                </a:lnTo>
                <a:lnTo>
                  <a:pt x="551" y="240"/>
                </a:lnTo>
                <a:lnTo>
                  <a:pt x="520" y="2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111"/>
          <p:cNvSpPr/>
          <p:nvPr/>
        </p:nvSpPr>
        <p:spPr>
          <a:xfrm>
            <a:off x="6446880" y="2417760"/>
            <a:ext cx="763560" cy="355680"/>
          </a:xfrm>
          <a:custGeom>
            <a:avLst/>
            <a:gdLst/>
            <a:ahLst/>
            <a:rect l="l" t="t" r="r" b="b"/>
            <a:pathLst>
              <a:path w="964" h="447">
                <a:moveTo>
                  <a:pt x="709" y="52"/>
                </a:moveTo>
                <a:lnTo>
                  <a:pt x="709" y="46"/>
                </a:lnTo>
                <a:lnTo>
                  <a:pt x="709" y="38"/>
                </a:lnTo>
                <a:lnTo>
                  <a:pt x="709" y="32"/>
                </a:lnTo>
                <a:lnTo>
                  <a:pt x="710" y="27"/>
                </a:lnTo>
                <a:lnTo>
                  <a:pt x="710" y="23"/>
                </a:lnTo>
                <a:lnTo>
                  <a:pt x="712" y="17"/>
                </a:lnTo>
                <a:lnTo>
                  <a:pt x="714" y="13"/>
                </a:lnTo>
                <a:lnTo>
                  <a:pt x="716" y="11"/>
                </a:lnTo>
                <a:lnTo>
                  <a:pt x="722" y="6"/>
                </a:lnTo>
                <a:lnTo>
                  <a:pt x="728" y="2"/>
                </a:lnTo>
                <a:lnTo>
                  <a:pt x="733" y="0"/>
                </a:lnTo>
                <a:lnTo>
                  <a:pt x="743" y="0"/>
                </a:lnTo>
                <a:lnTo>
                  <a:pt x="747" y="0"/>
                </a:lnTo>
                <a:lnTo>
                  <a:pt x="753" y="0"/>
                </a:lnTo>
                <a:lnTo>
                  <a:pt x="758" y="2"/>
                </a:lnTo>
                <a:lnTo>
                  <a:pt x="764" y="4"/>
                </a:lnTo>
                <a:lnTo>
                  <a:pt x="770" y="6"/>
                </a:lnTo>
                <a:lnTo>
                  <a:pt x="778" y="9"/>
                </a:lnTo>
                <a:lnTo>
                  <a:pt x="785" y="13"/>
                </a:lnTo>
                <a:lnTo>
                  <a:pt x="793" y="17"/>
                </a:lnTo>
                <a:lnTo>
                  <a:pt x="810" y="27"/>
                </a:lnTo>
                <a:lnTo>
                  <a:pt x="829" y="38"/>
                </a:lnTo>
                <a:lnTo>
                  <a:pt x="849" y="52"/>
                </a:lnTo>
                <a:lnTo>
                  <a:pt x="870" y="65"/>
                </a:lnTo>
                <a:lnTo>
                  <a:pt x="881" y="75"/>
                </a:lnTo>
                <a:lnTo>
                  <a:pt x="891" y="84"/>
                </a:lnTo>
                <a:lnTo>
                  <a:pt x="900" y="94"/>
                </a:lnTo>
                <a:lnTo>
                  <a:pt x="908" y="104"/>
                </a:lnTo>
                <a:lnTo>
                  <a:pt x="918" y="111"/>
                </a:lnTo>
                <a:lnTo>
                  <a:pt x="925" y="119"/>
                </a:lnTo>
                <a:lnTo>
                  <a:pt x="931" y="127"/>
                </a:lnTo>
                <a:lnTo>
                  <a:pt x="939" y="134"/>
                </a:lnTo>
                <a:lnTo>
                  <a:pt x="943" y="142"/>
                </a:lnTo>
                <a:lnTo>
                  <a:pt x="948" y="148"/>
                </a:lnTo>
                <a:lnTo>
                  <a:pt x="952" y="153"/>
                </a:lnTo>
                <a:lnTo>
                  <a:pt x="956" y="157"/>
                </a:lnTo>
                <a:lnTo>
                  <a:pt x="960" y="163"/>
                </a:lnTo>
                <a:lnTo>
                  <a:pt x="962" y="167"/>
                </a:lnTo>
                <a:lnTo>
                  <a:pt x="962" y="171"/>
                </a:lnTo>
                <a:lnTo>
                  <a:pt x="964" y="173"/>
                </a:lnTo>
                <a:lnTo>
                  <a:pt x="962" y="178"/>
                </a:lnTo>
                <a:lnTo>
                  <a:pt x="960" y="184"/>
                </a:lnTo>
                <a:lnTo>
                  <a:pt x="956" y="190"/>
                </a:lnTo>
                <a:lnTo>
                  <a:pt x="950" y="196"/>
                </a:lnTo>
                <a:lnTo>
                  <a:pt x="943" y="201"/>
                </a:lnTo>
                <a:lnTo>
                  <a:pt x="933" y="209"/>
                </a:lnTo>
                <a:lnTo>
                  <a:pt x="922" y="215"/>
                </a:lnTo>
                <a:lnTo>
                  <a:pt x="908" y="223"/>
                </a:lnTo>
                <a:lnTo>
                  <a:pt x="895" y="230"/>
                </a:lnTo>
                <a:lnTo>
                  <a:pt x="877" y="238"/>
                </a:lnTo>
                <a:lnTo>
                  <a:pt x="860" y="247"/>
                </a:lnTo>
                <a:lnTo>
                  <a:pt x="841" y="255"/>
                </a:lnTo>
                <a:lnTo>
                  <a:pt x="818" y="265"/>
                </a:lnTo>
                <a:lnTo>
                  <a:pt x="795" y="274"/>
                </a:lnTo>
                <a:lnTo>
                  <a:pt x="770" y="284"/>
                </a:lnTo>
                <a:lnTo>
                  <a:pt x="743" y="294"/>
                </a:lnTo>
                <a:lnTo>
                  <a:pt x="714" y="305"/>
                </a:lnTo>
                <a:lnTo>
                  <a:pt x="685" y="317"/>
                </a:lnTo>
                <a:lnTo>
                  <a:pt x="657" y="328"/>
                </a:lnTo>
                <a:lnTo>
                  <a:pt x="628" y="340"/>
                </a:lnTo>
                <a:lnTo>
                  <a:pt x="597" y="349"/>
                </a:lnTo>
                <a:lnTo>
                  <a:pt x="568" y="359"/>
                </a:lnTo>
                <a:lnTo>
                  <a:pt x="538" y="366"/>
                </a:lnTo>
                <a:lnTo>
                  <a:pt x="507" y="376"/>
                </a:lnTo>
                <a:lnTo>
                  <a:pt x="446" y="391"/>
                </a:lnTo>
                <a:lnTo>
                  <a:pt x="384" y="405"/>
                </a:lnTo>
                <a:lnTo>
                  <a:pt x="319" y="416"/>
                </a:lnTo>
                <a:lnTo>
                  <a:pt x="256" y="428"/>
                </a:lnTo>
                <a:lnTo>
                  <a:pt x="238" y="430"/>
                </a:lnTo>
                <a:lnTo>
                  <a:pt x="223" y="432"/>
                </a:lnTo>
                <a:lnTo>
                  <a:pt x="209" y="434"/>
                </a:lnTo>
                <a:lnTo>
                  <a:pt x="194" y="436"/>
                </a:lnTo>
                <a:lnTo>
                  <a:pt x="181" y="437"/>
                </a:lnTo>
                <a:lnTo>
                  <a:pt x="167" y="439"/>
                </a:lnTo>
                <a:lnTo>
                  <a:pt x="154" y="441"/>
                </a:lnTo>
                <a:lnTo>
                  <a:pt x="142" y="441"/>
                </a:lnTo>
                <a:lnTo>
                  <a:pt x="131" y="443"/>
                </a:lnTo>
                <a:lnTo>
                  <a:pt x="119" y="445"/>
                </a:lnTo>
                <a:lnTo>
                  <a:pt x="108" y="445"/>
                </a:lnTo>
                <a:lnTo>
                  <a:pt x="98" y="445"/>
                </a:lnTo>
                <a:lnTo>
                  <a:pt x="89" y="447"/>
                </a:lnTo>
                <a:lnTo>
                  <a:pt x="79" y="447"/>
                </a:lnTo>
                <a:lnTo>
                  <a:pt x="69" y="447"/>
                </a:lnTo>
                <a:lnTo>
                  <a:pt x="62" y="447"/>
                </a:lnTo>
                <a:lnTo>
                  <a:pt x="54" y="447"/>
                </a:lnTo>
                <a:lnTo>
                  <a:pt x="48" y="447"/>
                </a:lnTo>
                <a:lnTo>
                  <a:pt x="41" y="447"/>
                </a:lnTo>
                <a:lnTo>
                  <a:pt x="35" y="445"/>
                </a:lnTo>
                <a:lnTo>
                  <a:pt x="29" y="445"/>
                </a:lnTo>
                <a:lnTo>
                  <a:pt x="23" y="443"/>
                </a:lnTo>
                <a:lnTo>
                  <a:pt x="19" y="443"/>
                </a:lnTo>
                <a:lnTo>
                  <a:pt x="16" y="441"/>
                </a:lnTo>
                <a:lnTo>
                  <a:pt x="12" y="441"/>
                </a:lnTo>
                <a:lnTo>
                  <a:pt x="8" y="439"/>
                </a:lnTo>
                <a:lnTo>
                  <a:pt x="6" y="437"/>
                </a:lnTo>
                <a:lnTo>
                  <a:pt x="4" y="436"/>
                </a:lnTo>
                <a:lnTo>
                  <a:pt x="2" y="434"/>
                </a:lnTo>
                <a:lnTo>
                  <a:pt x="0" y="432"/>
                </a:lnTo>
                <a:lnTo>
                  <a:pt x="0" y="428"/>
                </a:lnTo>
                <a:lnTo>
                  <a:pt x="0" y="424"/>
                </a:lnTo>
                <a:lnTo>
                  <a:pt x="2" y="420"/>
                </a:lnTo>
                <a:lnTo>
                  <a:pt x="8" y="416"/>
                </a:lnTo>
                <a:lnTo>
                  <a:pt x="14" y="413"/>
                </a:lnTo>
                <a:lnTo>
                  <a:pt x="21" y="407"/>
                </a:lnTo>
                <a:lnTo>
                  <a:pt x="29" y="403"/>
                </a:lnTo>
                <a:lnTo>
                  <a:pt x="41" y="397"/>
                </a:lnTo>
                <a:lnTo>
                  <a:pt x="54" y="390"/>
                </a:lnTo>
                <a:lnTo>
                  <a:pt x="67" y="384"/>
                </a:lnTo>
                <a:lnTo>
                  <a:pt x="85" y="378"/>
                </a:lnTo>
                <a:lnTo>
                  <a:pt x="102" y="370"/>
                </a:lnTo>
                <a:lnTo>
                  <a:pt x="121" y="363"/>
                </a:lnTo>
                <a:lnTo>
                  <a:pt x="144" y="357"/>
                </a:lnTo>
                <a:lnTo>
                  <a:pt x="167" y="349"/>
                </a:lnTo>
                <a:lnTo>
                  <a:pt x="192" y="342"/>
                </a:lnTo>
                <a:lnTo>
                  <a:pt x="221" y="334"/>
                </a:lnTo>
                <a:lnTo>
                  <a:pt x="248" y="326"/>
                </a:lnTo>
                <a:lnTo>
                  <a:pt x="275" y="317"/>
                </a:lnTo>
                <a:lnTo>
                  <a:pt x="302" y="309"/>
                </a:lnTo>
                <a:lnTo>
                  <a:pt x="327" y="301"/>
                </a:lnTo>
                <a:lnTo>
                  <a:pt x="352" y="292"/>
                </a:lnTo>
                <a:lnTo>
                  <a:pt x="376" y="282"/>
                </a:lnTo>
                <a:lnTo>
                  <a:pt x="399" y="274"/>
                </a:lnTo>
                <a:lnTo>
                  <a:pt x="423" y="265"/>
                </a:lnTo>
                <a:lnTo>
                  <a:pt x="444" y="255"/>
                </a:lnTo>
                <a:lnTo>
                  <a:pt x="465" y="246"/>
                </a:lnTo>
                <a:lnTo>
                  <a:pt x="486" y="236"/>
                </a:lnTo>
                <a:lnTo>
                  <a:pt x="505" y="226"/>
                </a:lnTo>
                <a:lnTo>
                  <a:pt x="526" y="217"/>
                </a:lnTo>
                <a:lnTo>
                  <a:pt x="543" y="207"/>
                </a:lnTo>
                <a:lnTo>
                  <a:pt x="563" y="196"/>
                </a:lnTo>
                <a:lnTo>
                  <a:pt x="580" y="186"/>
                </a:lnTo>
                <a:lnTo>
                  <a:pt x="597" y="176"/>
                </a:lnTo>
                <a:lnTo>
                  <a:pt x="613" y="167"/>
                </a:lnTo>
                <a:lnTo>
                  <a:pt x="626" y="157"/>
                </a:lnTo>
                <a:lnTo>
                  <a:pt x="639" y="148"/>
                </a:lnTo>
                <a:lnTo>
                  <a:pt x="653" y="140"/>
                </a:lnTo>
                <a:lnTo>
                  <a:pt x="664" y="130"/>
                </a:lnTo>
                <a:lnTo>
                  <a:pt x="674" y="123"/>
                </a:lnTo>
                <a:lnTo>
                  <a:pt x="682" y="113"/>
                </a:lnTo>
                <a:lnTo>
                  <a:pt x="689" y="105"/>
                </a:lnTo>
                <a:lnTo>
                  <a:pt x="697" y="98"/>
                </a:lnTo>
                <a:lnTo>
                  <a:pt x="701" y="90"/>
                </a:lnTo>
                <a:lnTo>
                  <a:pt x="705" y="82"/>
                </a:lnTo>
                <a:lnTo>
                  <a:pt x="709" y="75"/>
                </a:lnTo>
                <a:lnTo>
                  <a:pt x="709" y="67"/>
                </a:lnTo>
                <a:lnTo>
                  <a:pt x="709" y="59"/>
                </a:lnTo>
                <a:lnTo>
                  <a:pt x="709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112"/>
          <p:cNvSpPr/>
          <p:nvPr/>
        </p:nvSpPr>
        <p:spPr>
          <a:xfrm>
            <a:off x="5580000" y="3013200"/>
            <a:ext cx="709560" cy="236520"/>
          </a:xfrm>
          <a:custGeom>
            <a:avLst/>
            <a:gdLst/>
            <a:ahLst/>
            <a:rect l="l" t="t" r="r" b="b"/>
            <a:pathLst>
              <a:path w="893" h="300">
                <a:moveTo>
                  <a:pt x="347" y="108"/>
                </a:moveTo>
                <a:lnTo>
                  <a:pt x="369" y="100"/>
                </a:lnTo>
                <a:lnTo>
                  <a:pt x="392" y="95"/>
                </a:lnTo>
                <a:lnTo>
                  <a:pt x="413" y="89"/>
                </a:lnTo>
                <a:lnTo>
                  <a:pt x="434" y="83"/>
                </a:lnTo>
                <a:lnTo>
                  <a:pt x="453" y="77"/>
                </a:lnTo>
                <a:lnTo>
                  <a:pt x="472" y="71"/>
                </a:lnTo>
                <a:lnTo>
                  <a:pt x="489" y="66"/>
                </a:lnTo>
                <a:lnTo>
                  <a:pt x="509" y="62"/>
                </a:lnTo>
                <a:lnTo>
                  <a:pt x="526" y="56"/>
                </a:lnTo>
                <a:lnTo>
                  <a:pt x="541" y="52"/>
                </a:lnTo>
                <a:lnTo>
                  <a:pt x="559" y="48"/>
                </a:lnTo>
                <a:lnTo>
                  <a:pt x="574" y="43"/>
                </a:lnTo>
                <a:lnTo>
                  <a:pt x="587" y="39"/>
                </a:lnTo>
                <a:lnTo>
                  <a:pt x="603" y="35"/>
                </a:lnTo>
                <a:lnTo>
                  <a:pt x="616" y="31"/>
                </a:lnTo>
                <a:lnTo>
                  <a:pt x="628" y="27"/>
                </a:lnTo>
                <a:lnTo>
                  <a:pt x="641" y="25"/>
                </a:lnTo>
                <a:lnTo>
                  <a:pt x="653" y="22"/>
                </a:lnTo>
                <a:lnTo>
                  <a:pt x="662" y="18"/>
                </a:lnTo>
                <a:lnTo>
                  <a:pt x="674" y="16"/>
                </a:lnTo>
                <a:lnTo>
                  <a:pt x="683" y="14"/>
                </a:lnTo>
                <a:lnTo>
                  <a:pt x="693" y="12"/>
                </a:lnTo>
                <a:lnTo>
                  <a:pt x="701" y="8"/>
                </a:lnTo>
                <a:lnTo>
                  <a:pt x="708" y="6"/>
                </a:lnTo>
                <a:lnTo>
                  <a:pt x="716" y="6"/>
                </a:lnTo>
                <a:lnTo>
                  <a:pt x="724" y="4"/>
                </a:lnTo>
                <a:lnTo>
                  <a:pt x="729" y="2"/>
                </a:lnTo>
                <a:lnTo>
                  <a:pt x="735" y="2"/>
                </a:lnTo>
                <a:lnTo>
                  <a:pt x="741" y="0"/>
                </a:lnTo>
                <a:lnTo>
                  <a:pt x="745" y="0"/>
                </a:lnTo>
                <a:lnTo>
                  <a:pt x="749" y="0"/>
                </a:lnTo>
                <a:lnTo>
                  <a:pt x="752" y="0"/>
                </a:lnTo>
                <a:lnTo>
                  <a:pt x="766" y="0"/>
                </a:lnTo>
                <a:lnTo>
                  <a:pt x="777" y="0"/>
                </a:lnTo>
                <a:lnTo>
                  <a:pt x="789" y="0"/>
                </a:lnTo>
                <a:lnTo>
                  <a:pt x="800" y="2"/>
                </a:lnTo>
                <a:lnTo>
                  <a:pt x="810" y="2"/>
                </a:lnTo>
                <a:lnTo>
                  <a:pt x="822" y="6"/>
                </a:lnTo>
                <a:lnTo>
                  <a:pt x="833" y="8"/>
                </a:lnTo>
                <a:lnTo>
                  <a:pt x="846" y="14"/>
                </a:lnTo>
                <a:lnTo>
                  <a:pt x="852" y="16"/>
                </a:lnTo>
                <a:lnTo>
                  <a:pt x="858" y="20"/>
                </a:lnTo>
                <a:lnTo>
                  <a:pt x="864" y="22"/>
                </a:lnTo>
                <a:lnTo>
                  <a:pt x="868" y="25"/>
                </a:lnTo>
                <a:lnTo>
                  <a:pt x="875" y="33"/>
                </a:lnTo>
                <a:lnTo>
                  <a:pt x="883" y="41"/>
                </a:lnTo>
                <a:lnTo>
                  <a:pt x="887" y="48"/>
                </a:lnTo>
                <a:lnTo>
                  <a:pt x="891" y="54"/>
                </a:lnTo>
                <a:lnTo>
                  <a:pt x="893" y="62"/>
                </a:lnTo>
                <a:lnTo>
                  <a:pt x="893" y="68"/>
                </a:lnTo>
                <a:lnTo>
                  <a:pt x="893" y="71"/>
                </a:lnTo>
                <a:lnTo>
                  <a:pt x="891" y="77"/>
                </a:lnTo>
                <a:lnTo>
                  <a:pt x="891" y="81"/>
                </a:lnTo>
                <a:lnTo>
                  <a:pt x="889" y="87"/>
                </a:lnTo>
                <a:lnTo>
                  <a:pt x="885" y="91"/>
                </a:lnTo>
                <a:lnTo>
                  <a:pt x="883" y="96"/>
                </a:lnTo>
                <a:lnTo>
                  <a:pt x="879" y="100"/>
                </a:lnTo>
                <a:lnTo>
                  <a:pt x="875" y="106"/>
                </a:lnTo>
                <a:lnTo>
                  <a:pt x="870" y="110"/>
                </a:lnTo>
                <a:lnTo>
                  <a:pt x="866" y="114"/>
                </a:lnTo>
                <a:lnTo>
                  <a:pt x="860" y="118"/>
                </a:lnTo>
                <a:lnTo>
                  <a:pt x="852" y="121"/>
                </a:lnTo>
                <a:lnTo>
                  <a:pt x="846" y="125"/>
                </a:lnTo>
                <a:lnTo>
                  <a:pt x="839" y="127"/>
                </a:lnTo>
                <a:lnTo>
                  <a:pt x="831" y="131"/>
                </a:lnTo>
                <a:lnTo>
                  <a:pt x="823" y="133"/>
                </a:lnTo>
                <a:lnTo>
                  <a:pt x="812" y="139"/>
                </a:lnTo>
                <a:lnTo>
                  <a:pt x="798" y="144"/>
                </a:lnTo>
                <a:lnTo>
                  <a:pt x="783" y="150"/>
                </a:lnTo>
                <a:lnTo>
                  <a:pt x="768" y="156"/>
                </a:lnTo>
                <a:lnTo>
                  <a:pt x="750" y="162"/>
                </a:lnTo>
                <a:lnTo>
                  <a:pt x="731" y="169"/>
                </a:lnTo>
                <a:lnTo>
                  <a:pt x="712" y="175"/>
                </a:lnTo>
                <a:lnTo>
                  <a:pt x="689" y="183"/>
                </a:lnTo>
                <a:lnTo>
                  <a:pt x="666" y="189"/>
                </a:lnTo>
                <a:lnTo>
                  <a:pt x="641" y="196"/>
                </a:lnTo>
                <a:lnTo>
                  <a:pt x="612" y="204"/>
                </a:lnTo>
                <a:lnTo>
                  <a:pt x="584" y="210"/>
                </a:lnTo>
                <a:lnTo>
                  <a:pt x="555" y="217"/>
                </a:lnTo>
                <a:lnTo>
                  <a:pt x="522" y="225"/>
                </a:lnTo>
                <a:lnTo>
                  <a:pt x="488" y="233"/>
                </a:lnTo>
                <a:lnTo>
                  <a:pt x="451" y="240"/>
                </a:lnTo>
                <a:lnTo>
                  <a:pt x="415" y="250"/>
                </a:lnTo>
                <a:lnTo>
                  <a:pt x="380" y="260"/>
                </a:lnTo>
                <a:lnTo>
                  <a:pt x="347" y="267"/>
                </a:lnTo>
                <a:lnTo>
                  <a:pt x="317" y="275"/>
                </a:lnTo>
                <a:lnTo>
                  <a:pt x="288" y="281"/>
                </a:lnTo>
                <a:lnTo>
                  <a:pt x="259" y="285"/>
                </a:lnTo>
                <a:lnTo>
                  <a:pt x="234" y="290"/>
                </a:lnTo>
                <a:lnTo>
                  <a:pt x="209" y="292"/>
                </a:lnTo>
                <a:lnTo>
                  <a:pt x="186" y="296"/>
                </a:lnTo>
                <a:lnTo>
                  <a:pt x="167" y="298"/>
                </a:lnTo>
                <a:lnTo>
                  <a:pt x="148" y="298"/>
                </a:lnTo>
                <a:lnTo>
                  <a:pt x="131" y="300"/>
                </a:lnTo>
                <a:lnTo>
                  <a:pt x="115" y="298"/>
                </a:lnTo>
                <a:lnTo>
                  <a:pt x="102" y="298"/>
                </a:lnTo>
                <a:lnTo>
                  <a:pt x="90" y="296"/>
                </a:lnTo>
                <a:lnTo>
                  <a:pt x="81" y="294"/>
                </a:lnTo>
                <a:lnTo>
                  <a:pt x="69" y="292"/>
                </a:lnTo>
                <a:lnTo>
                  <a:pt x="59" y="288"/>
                </a:lnTo>
                <a:lnTo>
                  <a:pt x="52" y="286"/>
                </a:lnTo>
                <a:lnTo>
                  <a:pt x="42" y="285"/>
                </a:lnTo>
                <a:lnTo>
                  <a:pt x="36" y="281"/>
                </a:lnTo>
                <a:lnTo>
                  <a:pt x="29" y="279"/>
                </a:lnTo>
                <a:lnTo>
                  <a:pt x="23" y="275"/>
                </a:lnTo>
                <a:lnTo>
                  <a:pt x="17" y="273"/>
                </a:lnTo>
                <a:lnTo>
                  <a:pt x="13" y="269"/>
                </a:lnTo>
                <a:lnTo>
                  <a:pt x="10" y="265"/>
                </a:lnTo>
                <a:lnTo>
                  <a:pt x="6" y="262"/>
                </a:lnTo>
                <a:lnTo>
                  <a:pt x="4" y="258"/>
                </a:lnTo>
                <a:lnTo>
                  <a:pt x="2" y="254"/>
                </a:lnTo>
                <a:lnTo>
                  <a:pt x="0" y="250"/>
                </a:lnTo>
                <a:lnTo>
                  <a:pt x="0" y="246"/>
                </a:lnTo>
                <a:lnTo>
                  <a:pt x="0" y="240"/>
                </a:lnTo>
                <a:lnTo>
                  <a:pt x="0" y="238"/>
                </a:lnTo>
                <a:lnTo>
                  <a:pt x="2" y="237"/>
                </a:lnTo>
                <a:lnTo>
                  <a:pt x="4" y="235"/>
                </a:lnTo>
                <a:lnTo>
                  <a:pt x="8" y="233"/>
                </a:lnTo>
                <a:lnTo>
                  <a:pt x="11" y="229"/>
                </a:lnTo>
                <a:lnTo>
                  <a:pt x="15" y="227"/>
                </a:lnTo>
                <a:lnTo>
                  <a:pt x="21" y="223"/>
                </a:lnTo>
                <a:lnTo>
                  <a:pt x="27" y="221"/>
                </a:lnTo>
                <a:lnTo>
                  <a:pt x="33" y="217"/>
                </a:lnTo>
                <a:lnTo>
                  <a:pt x="40" y="214"/>
                </a:lnTo>
                <a:lnTo>
                  <a:pt x="48" y="210"/>
                </a:lnTo>
                <a:lnTo>
                  <a:pt x="56" y="208"/>
                </a:lnTo>
                <a:lnTo>
                  <a:pt x="65" y="202"/>
                </a:lnTo>
                <a:lnTo>
                  <a:pt x="75" y="198"/>
                </a:lnTo>
                <a:lnTo>
                  <a:pt x="86" y="194"/>
                </a:lnTo>
                <a:lnTo>
                  <a:pt x="98" y="190"/>
                </a:lnTo>
                <a:lnTo>
                  <a:pt x="109" y="185"/>
                </a:lnTo>
                <a:lnTo>
                  <a:pt x="121" y="181"/>
                </a:lnTo>
                <a:lnTo>
                  <a:pt x="134" y="175"/>
                </a:lnTo>
                <a:lnTo>
                  <a:pt x="150" y="171"/>
                </a:lnTo>
                <a:lnTo>
                  <a:pt x="163" y="166"/>
                </a:lnTo>
                <a:lnTo>
                  <a:pt x="178" y="160"/>
                </a:lnTo>
                <a:lnTo>
                  <a:pt x="196" y="154"/>
                </a:lnTo>
                <a:lnTo>
                  <a:pt x="211" y="150"/>
                </a:lnTo>
                <a:lnTo>
                  <a:pt x="228" y="144"/>
                </a:lnTo>
                <a:lnTo>
                  <a:pt x="248" y="139"/>
                </a:lnTo>
                <a:lnTo>
                  <a:pt x="265" y="131"/>
                </a:lnTo>
                <a:lnTo>
                  <a:pt x="284" y="125"/>
                </a:lnTo>
                <a:lnTo>
                  <a:pt x="305" y="119"/>
                </a:lnTo>
                <a:lnTo>
                  <a:pt x="326" y="114"/>
                </a:lnTo>
                <a:lnTo>
                  <a:pt x="347" y="1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113"/>
          <p:cNvSpPr/>
          <p:nvPr/>
        </p:nvSpPr>
        <p:spPr>
          <a:xfrm>
            <a:off x="5421240" y="3382920"/>
            <a:ext cx="824040" cy="662040"/>
          </a:xfrm>
          <a:custGeom>
            <a:avLst/>
            <a:gdLst/>
            <a:ahLst/>
            <a:rect l="l" t="t" r="r" b="b"/>
            <a:pathLst>
              <a:path w="1039" h="835">
                <a:moveTo>
                  <a:pt x="619" y="269"/>
                </a:moveTo>
                <a:lnTo>
                  <a:pt x="643" y="251"/>
                </a:lnTo>
                <a:lnTo>
                  <a:pt x="666" y="234"/>
                </a:lnTo>
                <a:lnTo>
                  <a:pt x="690" y="219"/>
                </a:lnTo>
                <a:lnTo>
                  <a:pt x="713" y="201"/>
                </a:lnTo>
                <a:lnTo>
                  <a:pt x="734" y="186"/>
                </a:lnTo>
                <a:lnTo>
                  <a:pt x="755" y="173"/>
                </a:lnTo>
                <a:lnTo>
                  <a:pt x="774" y="157"/>
                </a:lnTo>
                <a:lnTo>
                  <a:pt x="795" y="144"/>
                </a:lnTo>
                <a:lnTo>
                  <a:pt x="812" y="132"/>
                </a:lnTo>
                <a:lnTo>
                  <a:pt x="832" y="119"/>
                </a:lnTo>
                <a:lnTo>
                  <a:pt x="849" y="107"/>
                </a:lnTo>
                <a:lnTo>
                  <a:pt x="864" y="98"/>
                </a:lnTo>
                <a:lnTo>
                  <a:pt x="880" y="86"/>
                </a:lnTo>
                <a:lnTo>
                  <a:pt x="895" y="77"/>
                </a:lnTo>
                <a:lnTo>
                  <a:pt x="908" y="67"/>
                </a:lnTo>
                <a:lnTo>
                  <a:pt x="922" y="59"/>
                </a:lnTo>
                <a:lnTo>
                  <a:pt x="935" y="50"/>
                </a:lnTo>
                <a:lnTo>
                  <a:pt x="947" y="42"/>
                </a:lnTo>
                <a:lnTo>
                  <a:pt x="958" y="36"/>
                </a:lnTo>
                <a:lnTo>
                  <a:pt x="970" y="29"/>
                </a:lnTo>
                <a:lnTo>
                  <a:pt x="979" y="23"/>
                </a:lnTo>
                <a:lnTo>
                  <a:pt x="987" y="19"/>
                </a:lnTo>
                <a:lnTo>
                  <a:pt x="997" y="13"/>
                </a:lnTo>
                <a:lnTo>
                  <a:pt x="1004" y="9"/>
                </a:lnTo>
                <a:lnTo>
                  <a:pt x="1010" y="8"/>
                </a:lnTo>
                <a:lnTo>
                  <a:pt x="1016" y="4"/>
                </a:lnTo>
                <a:lnTo>
                  <a:pt x="1022" y="2"/>
                </a:lnTo>
                <a:lnTo>
                  <a:pt x="1025" y="0"/>
                </a:lnTo>
                <a:lnTo>
                  <a:pt x="1029" y="0"/>
                </a:lnTo>
                <a:lnTo>
                  <a:pt x="1033" y="0"/>
                </a:lnTo>
                <a:lnTo>
                  <a:pt x="1035" y="0"/>
                </a:lnTo>
                <a:lnTo>
                  <a:pt x="1037" y="2"/>
                </a:lnTo>
                <a:lnTo>
                  <a:pt x="1039" y="4"/>
                </a:lnTo>
                <a:lnTo>
                  <a:pt x="1039" y="8"/>
                </a:lnTo>
                <a:lnTo>
                  <a:pt x="1039" y="13"/>
                </a:lnTo>
                <a:lnTo>
                  <a:pt x="1037" y="17"/>
                </a:lnTo>
                <a:lnTo>
                  <a:pt x="1033" y="25"/>
                </a:lnTo>
                <a:lnTo>
                  <a:pt x="1029" y="31"/>
                </a:lnTo>
                <a:lnTo>
                  <a:pt x="1025" y="38"/>
                </a:lnTo>
                <a:lnTo>
                  <a:pt x="1020" y="48"/>
                </a:lnTo>
                <a:lnTo>
                  <a:pt x="1014" y="57"/>
                </a:lnTo>
                <a:lnTo>
                  <a:pt x="1006" y="67"/>
                </a:lnTo>
                <a:lnTo>
                  <a:pt x="999" y="77"/>
                </a:lnTo>
                <a:lnTo>
                  <a:pt x="989" y="86"/>
                </a:lnTo>
                <a:lnTo>
                  <a:pt x="979" y="98"/>
                </a:lnTo>
                <a:lnTo>
                  <a:pt x="968" y="109"/>
                </a:lnTo>
                <a:lnTo>
                  <a:pt x="956" y="123"/>
                </a:lnTo>
                <a:lnTo>
                  <a:pt x="943" y="134"/>
                </a:lnTo>
                <a:lnTo>
                  <a:pt x="929" y="148"/>
                </a:lnTo>
                <a:lnTo>
                  <a:pt x="914" y="163"/>
                </a:lnTo>
                <a:lnTo>
                  <a:pt x="897" y="180"/>
                </a:lnTo>
                <a:lnTo>
                  <a:pt x="878" y="198"/>
                </a:lnTo>
                <a:lnTo>
                  <a:pt x="858" y="217"/>
                </a:lnTo>
                <a:lnTo>
                  <a:pt x="835" y="238"/>
                </a:lnTo>
                <a:lnTo>
                  <a:pt x="812" y="261"/>
                </a:lnTo>
                <a:lnTo>
                  <a:pt x="787" y="284"/>
                </a:lnTo>
                <a:lnTo>
                  <a:pt x="762" y="311"/>
                </a:lnTo>
                <a:lnTo>
                  <a:pt x="734" y="338"/>
                </a:lnTo>
                <a:lnTo>
                  <a:pt x="705" y="367"/>
                </a:lnTo>
                <a:lnTo>
                  <a:pt x="674" y="397"/>
                </a:lnTo>
                <a:lnTo>
                  <a:pt x="642" y="430"/>
                </a:lnTo>
                <a:lnTo>
                  <a:pt x="609" y="462"/>
                </a:lnTo>
                <a:lnTo>
                  <a:pt x="574" y="499"/>
                </a:lnTo>
                <a:lnTo>
                  <a:pt x="538" y="535"/>
                </a:lnTo>
                <a:lnTo>
                  <a:pt x="519" y="555"/>
                </a:lnTo>
                <a:lnTo>
                  <a:pt x="501" y="572"/>
                </a:lnTo>
                <a:lnTo>
                  <a:pt x="484" y="589"/>
                </a:lnTo>
                <a:lnTo>
                  <a:pt x="469" y="606"/>
                </a:lnTo>
                <a:lnTo>
                  <a:pt x="452" y="624"/>
                </a:lnTo>
                <a:lnTo>
                  <a:pt x="436" y="639"/>
                </a:lnTo>
                <a:lnTo>
                  <a:pt x="421" y="653"/>
                </a:lnTo>
                <a:lnTo>
                  <a:pt x="405" y="668"/>
                </a:lnTo>
                <a:lnTo>
                  <a:pt x="392" y="681"/>
                </a:lnTo>
                <a:lnTo>
                  <a:pt x="377" y="695"/>
                </a:lnTo>
                <a:lnTo>
                  <a:pt x="363" y="706"/>
                </a:lnTo>
                <a:lnTo>
                  <a:pt x="350" y="718"/>
                </a:lnTo>
                <a:lnTo>
                  <a:pt x="338" y="729"/>
                </a:lnTo>
                <a:lnTo>
                  <a:pt x="327" y="741"/>
                </a:lnTo>
                <a:lnTo>
                  <a:pt x="315" y="750"/>
                </a:lnTo>
                <a:lnTo>
                  <a:pt x="304" y="760"/>
                </a:lnTo>
                <a:lnTo>
                  <a:pt x="292" y="768"/>
                </a:lnTo>
                <a:lnTo>
                  <a:pt x="283" y="775"/>
                </a:lnTo>
                <a:lnTo>
                  <a:pt x="273" y="783"/>
                </a:lnTo>
                <a:lnTo>
                  <a:pt x="263" y="791"/>
                </a:lnTo>
                <a:lnTo>
                  <a:pt x="254" y="796"/>
                </a:lnTo>
                <a:lnTo>
                  <a:pt x="246" y="802"/>
                </a:lnTo>
                <a:lnTo>
                  <a:pt x="238" y="808"/>
                </a:lnTo>
                <a:lnTo>
                  <a:pt x="231" y="814"/>
                </a:lnTo>
                <a:lnTo>
                  <a:pt x="223" y="818"/>
                </a:lnTo>
                <a:lnTo>
                  <a:pt x="217" y="821"/>
                </a:lnTo>
                <a:lnTo>
                  <a:pt x="212" y="823"/>
                </a:lnTo>
                <a:lnTo>
                  <a:pt x="206" y="827"/>
                </a:lnTo>
                <a:lnTo>
                  <a:pt x="202" y="829"/>
                </a:lnTo>
                <a:lnTo>
                  <a:pt x="196" y="829"/>
                </a:lnTo>
                <a:lnTo>
                  <a:pt x="192" y="831"/>
                </a:lnTo>
                <a:lnTo>
                  <a:pt x="189" y="831"/>
                </a:lnTo>
                <a:lnTo>
                  <a:pt x="183" y="833"/>
                </a:lnTo>
                <a:lnTo>
                  <a:pt x="175" y="833"/>
                </a:lnTo>
                <a:lnTo>
                  <a:pt x="169" y="835"/>
                </a:lnTo>
                <a:lnTo>
                  <a:pt x="164" y="833"/>
                </a:lnTo>
                <a:lnTo>
                  <a:pt x="156" y="831"/>
                </a:lnTo>
                <a:lnTo>
                  <a:pt x="150" y="829"/>
                </a:lnTo>
                <a:lnTo>
                  <a:pt x="142" y="827"/>
                </a:lnTo>
                <a:lnTo>
                  <a:pt x="135" y="821"/>
                </a:lnTo>
                <a:lnTo>
                  <a:pt x="129" y="818"/>
                </a:lnTo>
                <a:lnTo>
                  <a:pt x="121" y="812"/>
                </a:lnTo>
                <a:lnTo>
                  <a:pt x="114" y="806"/>
                </a:lnTo>
                <a:lnTo>
                  <a:pt x="106" y="798"/>
                </a:lnTo>
                <a:lnTo>
                  <a:pt x="98" y="791"/>
                </a:lnTo>
                <a:lnTo>
                  <a:pt x="91" y="783"/>
                </a:lnTo>
                <a:lnTo>
                  <a:pt x="81" y="773"/>
                </a:lnTo>
                <a:lnTo>
                  <a:pt x="73" y="764"/>
                </a:lnTo>
                <a:lnTo>
                  <a:pt x="64" y="756"/>
                </a:lnTo>
                <a:lnTo>
                  <a:pt x="54" y="748"/>
                </a:lnTo>
                <a:lnTo>
                  <a:pt x="45" y="741"/>
                </a:lnTo>
                <a:lnTo>
                  <a:pt x="37" y="733"/>
                </a:lnTo>
                <a:lnTo>
                  <a:pt x="29" y="725"/>
                </a:lnTo>
                <a:lnTo>
                  <a:pt x="23" y="718"/>
                </a:lnTo>
                <a:lnTo>
                  <a:pt x="18" y="710"/>
                </a:lnTo>
                <a:lnTo>
                  <a:pt x="12" y="702"/>
                </a:lnTo>
                <a:lnTo>
                  <a:pt x="8" y="695"/>
                </a:lnTo>
                <a:lnTo>
                  <a:pt x="6" y="689"/>
                </a:lnTo>
                <a:lnTo>
                  <a:pt x="2" y="681"/>
                </a:lnTo>
                <a:lnTo>
                  <a:pt x="2" y="674"/>
                </a:lnTo>
                <a:lnTo>
                  <a:pt x="0" y="666"/>
                </a:lnTo>
                <a:lnTo>
                  <a:pt x="0" y="658"/>
                </a:lnTo>
                <a:lnTo>
                  <a:pt x="2" y="651"/>
                </a:lnTo>
                <a:lnTo>
                  <a:pt x="4" y="643"/>
                </a:lnTo>
                <a:lnTo>
                  <a:pt x="4" y="635"/>
                </a:lnTo>
                <a:lnTo>
                  <a:pt x="4" y="629"/>
                </a:lnTo>
                <a:lnTo>
                  <a:pt x="6" y="624"/>
                </a:lnTo>
                <a:lnTo>
                  <a:pt x="8" y="618"/>
                </a:lnTo>
                <a:lnTo>
                  <a:pt x="10" y="612"/>
                </a:lnTo>
                <a:lnTo>
                  <a:pt x="14" y="608"/>
                </a:lnTo>
                <a:lnTo>
                  <a:pt x="18" y="605"/>
                </a:lnTo>
                <a:lnTo>
                  <a:pt x="22" y="601"/>
                </a:lnTo>
                <a:lnTo>
                  <a:pt x="25" y="599"/>
                </a:lnTo>
                <a:lnTo>
                  <a:pt x="31" y="597"/>
                </a:lnTo>
                <a:lnTo>
                  <a:pt x="37" y="595"/>
                </a:lnTo>
                <a:lnTo>
                  <a:pt x="43" y="593"/>
                </a:lnTo>
                <a:lnTo>
                  <a:pt x="50" y="591"/>
                </a:lnTo>
                <a:lnTo>
                  <a:pt x="58" y="591"/>
                </a:lnTo>
                <a:lnTo>
                  <a:pt x="66" y="589"/>
                </a:lnTo>
                <a:lnTo>
                  <a:pt x="73" y="589"/>
                </a:lnTo>
                <a:lnTo>
                  <a:pt x="91" y="589"/>
                </a:lnTo>
                <a:lnTo>
                  <a:pt x="106" y="587"/>
                </a:lnTo>
                <a:lnTo>
                  <a:pt x="121" y="585"/>
                </a:lnTo>
                <a:lnTo>
                  <a:pt x="135" y="581"/>
                </a:lnTo>
                <a:lnTo>
                  <a:pt x="150" y="578"/>
                </a:lnTo>
                <a:lnTo>
                  <a:pt x="164" y="572"/>
                </a:lnTo>
                <a:lnTo>
                  <a:pt x="189" y="562"/>
                </a:lnTo>
                <a:lnTo>
                  <a:pt x="192" y="560"/>
                </a:lnTo>
                <a:lnTo>
                  <a:pt x="196" y="558"/>
                </a:lnTo>
                <a:lnTo>
                  <a:pt x="202" y="557"/>
                </a:lnTo>
                <a:lnTo>
                  <a:pt x="208" y="555"/>
                </a:lnTo>
                <a:lnTo>
                  <a:pt x="213" y="551"/>
                </a:lnTo>
                <a:lnTo>
                  <a:pt x="219" y="547"/>
                </a:lnTo>
                <a:lnTo>
                  <a:pt x="227" y="543"/>
                </a:lnTo>
                <a:lnTo>
                  <a:pt x="235" y="537"/>
                </a:lnTo>
                <a:lnTo>
                  <a:pt x="244" y="533"/>
                </a:lnTo>
                <a:lnTo>
                  <a:pt x="254" y="528"/>
                </a:lnTo>
                <a:lnTo>
                  <a:pt x="263" y="520"/>
                </a:lnTo>
                <a:lnTo>
                  <a:pt x="273" y="514"/>
                </a:lnTo>
                <a:lnTo>
                  <a:pt x="285" y="507"/>
                </a:lnTo>
                <a:lnTo>
                  <a:pt x="296" y="499"/>
                </a:lnTo>
                <a:lnTo>
                  <a:pt x="309" y="491"/>
                </a:lnTo>
                <a:lnTo>
                  <a:pt x="321" y="482"/>
                </a:lnTo>
                <a:lnTo>
                  <a:pt x="336" y="472"/>
                </a:lnTo>
                <a:lnTo>
                  <a:pt x="350" y="462"/>
                </a:lnTo>
                <a:lnTo>
                  <a:pt x="365" y="453"/>
                </a:lnTo>
                <a:lnTo>
                  <a:pt x="380" y="441"/>
                </a:lnTo>
                <a:lnTo>
                  <a:pt x="398" y="430"/>
                </a:lnTo>
                <a:lnTo>
                  <a:pt x="413" y="418"/>
                </a:lnTo>
                <a:lnTo>
                  <a:pt x="430" y="405"/>
                </a:lnTo>
                <a:lnTo>
                  <a:pt x="450" y="393"/>
                </a:lnTo>
                <a:lnTo>
                  <a:pt x="469" y="380"/>
                </a:lnTo>
                <a:lnTo>
                  <a:pt x="488" y="365"/>
                </a:lnTo>
                <a:lnTo>
                  <a:pt x="507" y="351"/>
                </a:lnTo>
                <a:lnTo>
                  <a:pt x="528" y="336"/>
                </a:lnTo>
                <a:lnTo>
                  <a:pt x="549" y="319"/>
                </a:lnTo>
                <a:lnTo>
                  <a:pt x="572" y="303"/>
                </a:lnTo>
                <a:lnTo>
                  <a:pt x="595" y="286"/>
                </a:lnTo>
                <a:lnTo>
                  <a:pt x="619" y="2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114"/>
          <p:cNvSpPr/>
          <p:nvPr/>
        </p:nvSpPr>
        <p:spPr>
          <a:xfrm>
            <a:off x="5707080" y="2370240"/>
            <a:ext cx="392040" cy="2278080"/>
          </a:xfrm>
          <a:custGeom>
            <a:avLst/>
            <a:gdLst/>
            <a:ahLst/>
            <a:rect l="l" t="t" r="r" b="b"/>
            <a:pathLst>
              <a:path w="494" h="2870">
                <a:moveTo>
                  <a:pt x="108" y="2576"/>
                </a:moveTo>
                <a:lnTo>
                  <a:pt x="92" y="2563"/>
                </a:lnTo>
                <a:lnTo>
                  <a:pt x="79" y="2551"/>
                </a:lnTo>
                <a:lnTo>
                  <a:pt x="66" y="2540"/>
                </a:lnTo>
                <a:lnTo>
                  <a:pt x="54" y="2528"/>
                </a:lnTo>
                <a:lnTo>
                  <a:pt x="44" y="2517"/>
                </a:lnTo>
                <a:lnTo>
                  <a:pt x="35" y="2507"/>
                </a:lnTo>
                <a:lnTo>
                  <a:pt x="27" y="2498"/>
                </a:lnTo>
                <a:lnTo>
                  <a:pt x="19" y="2488"/>
                </a:lnTo>
                <a:lnTo>
                  <a:pt x="14" y="2480"/>
                </a:lnTo>
                <a:lnTo>
                  <a:pt x="10" y="2473"/>
                </a:lnTo>
                <a:lnTo>
                  <a:pt x="6" y="2465"/>
                </a:lnTo>
                <a:lnTo>
                  <a:pt x="2" y="2459"/>
                </a:lnTo>
                <a:lnTo>
                  <a:pt x="0" y="2454"/>
                </a:lnTo>
                <a:lnTo>
                  <a:pt x="0" y="2448"/>
                </a:lnTo>
                <a:lnTo>
                  <a:pt x="0" y="2444"/>
                </a:lnTo>
                <a:lnTo>
                  <a:pt x="2" y="2442"/>
                </a:lnTo>
                <a:lnTo>
                  <a:pt x="4" y="2440"/>
                </a:lnTo>
                <a:lnTo>
                  <a:pt x="8" y="2438"/>
                </a:lnTo>
                <a:lnTo>
                  <a:pt x="12" y="2436"/>
                </a:lnTo>
                <a:lnTo>
                  <a:pt x="16" y="2436"/>
                </a:lnTo>
                <a:lnTo>
                  <a:pt x="19" y="2436"/>
                </a:lnTo>
                <a:lnTo>
                  <a:pt x="25" y="2436"/>
                </a:lnTo>
                <a:lnTo>
                  <a:pt x="31" y="2436"/>
                </a:lnTo>
                <a:lnTo>
                  <a:pt x="39" y="2438"/>
                </a:lnTo>
                <a:lnTo>
                  <a:pt x="46" y="2440"/>
                </a:lnTo>
                <a:lnTo>
                  <a:pt x="54" y="2442"/>
                </a:lnTo>
                <a:lnTo>
                  <a:pt x="64" y="2444"/>
                </a:lnTo>
                <a:lnTo>
                  <a:pt x="73" y="2446"/>
                </a:lnTo>
                <a:lnTo>
                  <a:pt x="83" y="2448"/>
                </a:lnTo>
                <a:lnTo>
                  <a:pt x="94" y="2450"/>
                </a:lnTo>
                <a:lnTo>
                  <a:pt x="106" y="2452"/>
                </a:lnTo>
                <a:lnTo>
                  <a:pt x="119" y="2455"/>
                </a:lnTo>
                <a:lnTo>
                  <a:pt x="144" y="2459"/>
                </a:lnTo>
                <a:lnTo>
                  <a:pt x="167" y="2463"/>
                </a:lnTo>
                <a:lnTo>
                  <a:pt x="190" y="2465"/>
                </a:lnTo>
                <a:lnTo>
                  <a:pt x="213" y="2465"/>
                </a:lnTo>
                <a:lnTo>
                  <a:pt x="233" y="2465"/>
                </a:lnTo>
                <a:lnTo>
                  <a:pt x="250" y="2463"/>
                </a:lnTo>
                <a:lnTo>
                  <a:pt x="259" y="2461"/>
                </a:lnTo>
                <a:lnTo>
                  <a:pt x="267" y="2459"/>
                </a:lnTo>
                <a:lnTo>
                  <a:pt x="275" y="2457"/>
                </a:lnTo>
                <a:lnTo>
                  <a:pt x="281" y="2455"/>
                </a:lnTo>
                <a:lnTo>
                  <a:pt x="284" y="2454"/>
                </a:lnTo>
                <a:lnTo>
                  <a:pt x="288" y="2450"/>
                </a:lnTo>
                <a:lnTo>
                  <a:pt x="290" y="2446"/>
                </a:lnTo>
                <a:lnTo>
                  <a:pt x="292" y="2442"/>
                </a:lnTo>
                <a:lnTo>
                  <a:pt x="296" y="2436"/>
                </a:lnTo>
                <a:lnTo>
                  <a:pt x="298" y="2429"/>
                </a:lnTo>
                <a:lnTo>
                  <a:pt x="302" y="2421"/>
                </a:lnTo>
                <a:lnTo>
                  <a:pt x="304" y="2411"/>
                </a:lnTo>
                <a:lnTo>
                  <a:pt x="305" y="2402"/>
                </a:lnTo>
                <a:lnTo>
                  <a:pt x="307" y="2390"/>
                </a:lnTo>
                <a:lnTo>
                  <a:pt x="309" y="2379"/>
                </a:lnTo>
                <a:lnTo>
                  <a:pt x="311" y="2365"/>
                </a:lnTo>
                <a:lnTo>
                  <a:pt x="313" y="2352"/>
                </a:lnTo>
                <a:lnTo>
                  <a:pt x="315" y="2336"/>
                </a:lnTo>
                <a:lnTo>
                  <a:pt x="317" y="2321"/>
                </a:lnTo>
                <a:lnTo>
                  <a:pt x="319" y="2304"/>
                </a:lnTo>
                <a:lnTo>
                  <a:pt x="321" y="2285"/>
                </a:lnTo>
                <a:lnTo>
                  <a:pt x="321" y="2265"/>
                </a:lnTo>
                <a:lnTo>
                  <a:pt x="323" y="2244"/>
                </a:lnTo>
                <a:lnTo>
                  <a:pt x="325" y="2223"/>
                </a:lnTo>
                <a:lnTo>
                  <a:pt x="327" y="2200"/>
                </a:lnTo>
                <a:lnTo>
                  <a:pt x="327" y="2177"/>
                </a:lnTo>
                <a:lnTo>
                  <a:pt x="329" y="2152"/>
                </a:lnTo>
                <a:lnTo>
                  <a:pt x="330" y="2125"/>
                </a:lnTo>
                <a:lnTo>
                  <a:pt x="330" y="2098"/>
                </a:lnTo>
                <a:lnTo>
                  <a:pt x="332" y="2072"/>
                </a:lnTo>
                <a:lnTo>
                  <a:pt x="332" y="2043"/>
                </a:lnTo>
                <a:lnTo>
                  <a:pt x="334" y="2012"/>
                </a:lnTo>
                <a:lnTo>
                  <a:pt x="336" y="1981"/>
                </a:lnTo>
                <a:lnTo>
                  <a:pt x="336" y="1949"/>
                </a:lnTo>
                <a:lnTo>
                  <a:pt x="338" y="1914"/>
                </a:lnTo>
                <a:lnTo>
                  <a:pt x="338" y="1880"/>
                </a:lnTo>
                <a:lnTo>
                  <a:pt x="340" y="1812"/>
                </a:lnTo>
                <a:lnTo>
                  <a:pt x="342" y="1745"/>
                </a:lnTo>
                <a:lnTo>
                  <a:pt x="344" y="1611"/>
                </a:lnTo>
                <a:lnTo>
                  <a:pt x="344" y="1478"/>
                </a:lnTo>
                <a:lnTo>
                  <a:pt x="342" y="1348"/>
                </a:lnTo>
                <a:lnTo>
                  <a:pt x="338" y="1219"/>
                </a:lnTo>
                <a:lnTo>
                  <a:pt x="336" y="1091"/>
                </a:lnTo>
                <a:lnTo>
                  <a:pt x="330" y="962"/>
                </a:lnTo>
                <a:lnTo>
                  <a:pt x="327" y="837"/>
                </a:lnTo>
                <a:lnTo>
                  <a:pt x="327" y="805"/>
                </a:lnTo>
                <a:lnTo>
                  <a:pt x="325" y="776"/>
                </a:lnTo>
                <a:lnTo>
                  <a:pt x="325" y="747"/>
                </a:lnTo>
                <a:lnTo>
                  <a:pt x="323" y="718"/>
                </a:lnTo>
                <a:lnTo>
                  <a:pt x="321" y="690"/>
                </a:lnTo>
                <a:lnTo>
                  <a:pt x="321" y="665"/>
                </a:lnTo>
                <a:lnTo>
                  <a:pt x="319" y="638"/>
                </a:lnTo>
                <a:lnTo>
                  <a:pt x="319" y="613"/>
                </a:lnTo>
                <a:lnTo>
                  <a:pt x="317" y="590"/>
                </a:lnTo>
                <a:lnTo>
                  <a:pt x="317" y="565"/>
                </a:lnTo>
                <a:lnTo>
                  <a:pt x="315" y="544"/>
                </a:lnTo>
                <a:lnTo>
                  <a:pt x="313" y="521"/>
                </a:lnTo>
                <a:lnTo>
                  <a:pt x="313" y="499"/>
                </a:lnTo>
                <a:lnTo>
                  <a:pt x="311" y="480"/>
                </a:lnTo>
                <a:lnTo>
                  <a:pt x="311" y="461"/>
                </a:lnTo>
                <a:lnTo>
                  <a:pt x="309" y="442"/>
                </a:lnTo>
                <a:lnTo>
                  <a:pt x="309" y="425"/>
                </a:lnTo>
                <a:lnTo>
                  <a:pt x="307" y="407"/>
                </a:lnTo>
                <a:lnTo>
                  <a:pt x="305" y="390"/>
                </a:lnTo>
                <a:lnTo>
                  <a:pt x="305" y="375"/>
                </a:lnTo>
                <a:lnTo>
                  <a:pt x="304" y="361"/>
                </a:lnTo>
                <a:lnTo>
                  <a:pt x="304" y="346"/>
                </a:lnTo>
                <a:lnTo>
                  <a:pt x="302" y="334"/>
                </a:lnTo>
                <a:lnTo>
                  <a:pt x="302" y="321"/>
                </a:lnTo>
                <a:lnTo>
                  <a:pt x="300" y="309"/>
                </a:lnTo>
                <a:lnTo>
                  <a:pt x="300" y="298"/>
                </a:lnTo>
                <a:lnTo>
                  <a:pt x="298" y="288"/>
                </a:lnTo>
                <a:lnTo>
                  <a:pt x="296" y="279"/>
                </a:lnTo>
                <a:lnTo>
                  <a:pt x="296" y="269"/>
                </a:lnTo>
                <a:lnTo>
                  <a:pt x="294" y="261"/>
                </a:lnTo>
                <a:lnTo>
                  <a:pt x="294" y="254"/>
                </a:lnTo>
                <a:lnTo>
                  <a:pt x="292" y="248"/>
                </a:lnTo>
                <a:lnTo>
                  <a:pt x="288" y="229"/>
                </a:lnTo>
                <a:lnTo>
                  <a:pt x="284" y="210"/>
                </a:lnTo>
                <a:lnTo>
                  <a:pt x="279" y="192"/>
                </a:lnTo>
                <a:lnTo>
                  <a:pt x="273" y="177"/>
                </a:lnTo>
                <a:lnTo>
                  <a:pt x="265" y="160"/>
                </a:lnTo>
                <a:lnTo>
                  <a:pt x="256" y="144"/>
                </a:lnTo>
                <a:lnTo>
                  <a:pt x="246" y="129"/>
                </a:lnTo>
                <a:lnTo>
                  <a:pt x="240" y="121"/>
                </a:lnTo>
                <a:lnTo>
                  <a:pt x="234" y="114"/>
                </a:lnTo>
                <a:lnTo>
                  <a:pt x="229" y="106"/>
                </a:lnTo>
                <a:lnTo>
                  <a:pt x="223" y="100"/>
                </a:lnTo>
                <a:lnTo>
                  <a:pt x="219" y="93"/>
                </a:lnTo>
                <a:lnTo>
                  <a:pt x="215" y="87"/>
                </a:lnTo>
                <a:lnTo>
                  <a:pt x="211" y="79"/>
                </a:lnTo>
                <a:lnTo>
                  <a:pt x="210" y="73"/>
                </a:lnTo>
                <a:lnTo>
                  <a:pt x="208" y="68"/>
                </a:lnTo>
                <a:lnTo>
                  <a:pt x="206" y="62"/>
                </a:lnTo>
                <a:lnTo>
                  <a:pt x="206" y="56"/>
                </a:lnTo>
                <a:lnTo>
                  <a:pt x="204" y="52"/>
                </a:lnTo>
                <a:lnTo>
                  <a:pt x="206" y="41"/>
                </a:lnTo>
                <a:lnTo>
                  <a:pt x="208" y="31"/>
                </a:lnTo>
                <a:lnTo>
                  <a:pt x="211" y="22"/>
                </a:lnTo>
                <a:lnTo>
                  <a:pt x="213" y="16"/>
                </a:lnTo>
                <a:lnTo>
                  <a:pt x="217" y="12"/>
                </a:lnTo>
                <a:lnTo>
                  <a:pt x="221" y="8"/>
                </a:lnTo>
                <a:lnTo>
                  <a:pt x="227" y="6"/>
                </a:lnTo>
                <a:lnTo>
                  <a:pt x="233" y="2"/>
                </a:lnTo>
                <a:lnTo>
                  <a:pt x="238" y="2"/>
                </a:lnTo>
                <a:lnTo>
                  <a:pt x="246" y="0"/>
                </a:lnTo>
                <a:lnTo>
                  <a:pt x="256" y="0"/>
                </a:lnTo>
                <a:lnTo>
                  <a:pt x="263" y="0"/>
                </a:lnTo>
                <a:lnTo>
                  <a:pt x="275" y="2"/>
                </a:lnTo>
                <a:lnTo>
                  <a:pt x="284" y="2"/>
                </a:lnTo>
                <a:lnTo>
                  <a:pt x="296" y="6"/>
                </a:lnTo>
                <a:lnTo>
                  <a:pt x="309" y="8"/>
                </a:lnTo>
                <a:lnTo>
                  <a:pt x="323" y="12"/>
                </a:lnTo>
                <a:lnTo>
                  <a:pt x="336" y="16"/>
                </a:lnTo>
                <a:lnTo>
                  <a:pt x="352" y="22"/>
                </a:lnTo>
                <a:lnTo>
                  <a:pt x="365" y="27"/>
                </a:lnTo>
                <a:lnTo>
                  <a:pt x="378" y="35"/>
                </a:lnTo>
                <a:lnTo>
                  <a:pt x="392" y="43"/>
                </a:lnTo>
                <a:lnTo>
                  <a:pt x="405" y="48"/>
                </a:lnTo>
                <a:lnTo>
                  <a:pt x="417" y="54"/>
                </a:lnTo>
                <a:lnTo>
                  <a:pt x="426" y="60"/>
                </a:lnTo>
                <a:lnTo>
                  <a:pt x="438" y="66"/>
                </a:lnTo>
                <a:lnTo>
                  <a:pt x="446" y="71"/>
                </a:lnTo>
                <a:lnTo>
                  <a:pt x="455" y="75"/>
                </a:lnTo>
                <a:lnTo>
                  <a:pt x="463" y="81"/>
                </a:lnTo>
                <a:lnTo>
                  <a:pt x="469" y="85"/>
                </a:lnTo>
                <a:lnTo>
                  <a:pt x="474" y="89"/>
                </a:lnTo>
                <a:lnTo>
                  <a:pt x="480" y="93"/>
                </a:lnTo>
                <a:lnTo>
                  <a:pt x="484" y="94"/>
                </a:lnTo>
                <a:lnTo>
                  <a:pt x="488" y="98"/>
                </a:lnTo>
                <a:lnTo>
                  <a:pt x="490" y="100"/>
                </a:lnTo>
                <a:lnTo>
                  <a:pt x="492" y="104"/>
                </a:lnTo>
                <a:lnTo>
                  <a:pt x="494" y="110"/>
                </a:lnTo>
                <a:lnTo>
                  <a:pt x="494" y="116"/>
                </a:lnTo>
                <a:lnTo>
                  <a:pt x="494" y="123"/>
                </a:lnTo>
                <a:lnTo>
                  <a:pt x="494" y="133"/>
                </a:lnTo>
                <a:lnTo>
                  <a:pt x="494" y="144"/>
                </a:lnTo>
                <a:lnTo>
                  <a:pt x="494" y="156"/>
                </a:lnTo>
                <a:lnTo>
                  <a:pt x="492" y="169"/>
                </a:lnTo>
                <a:lnTo>
                  <a:pt x="492" y="185"/>
                </a:lnTo>
                <a:lnTo>
                  <a:pt x="490" y="202"/>
                </a:lnTo>
                <a:lnTo>
                  <a:pt x="488" y="219"/>
                </a:lnTo>
                <a:lnTo>
                  <a:pt x="486" y="238"/>
                </a:lnTo>
                <a:lnTo>
                  <a:pt x="484" y="260"/>
                </a:lnTo>
                <a:lnTo>
                  <a:pt x="482" y="281"/>
                </a:lnTo>
                <a:lnTo>
                  <a:pt x="480" y="304"/>
                </a:lnTo>
                <a:lnTo>
                  <a:pt x="478" y="329"/>
                </a:lnTo>
                <a:lnTo>
                  <a:pt x="476" y="354"/>
                </a:lnTo>
                <a:lnTo>
                  <a:pt x="474" y="380"/>
                </a:lnTo>
                <a:lnTo>
                  <a:pt x="472" y="407"/>
                </a:lnTo>
                <a:lnTo>
                  <a:pt x="471" y="436"/>
                </a:lnTo>
                <a:lnTo>
                  <a:pt x="469" y="465"/>
                </a:lnTo>
                <a:lnTo>
                  <a:pt x="467" y="496"/>
                </a:lnTo>
                <a:lnTo>
                  <a:pt x="465" y="528"/>
                </a:lnTo>
                <a:lnTo>
                  <a:pt x="463" y="561"/>
                </a:lnTo>
                <a:lnTo>
                  <a:pt x="463" y="594"/>
                </a:lnTo>
                <a:lnTo>
                  <a:pt x="463" y="630"/>
                </a:lnTo>
                <a:lnTo>
                  <a:pt x="461" y="665"/>
                </a:lnTo>
                <a:lnTo>
                  <a:pt x="461" y="703"/>
                </a:lnTo>
                <a:lnTo>
                  <a:pt x="463" y="741"/>
                </a:lnTo>
                <a:lnTo>
                  <a:pt x="463" y="780"/>
                </a:lnTo>
                <a:lnTo>
                  <a:pt x="465" y="822"/>
                </a:lnTo>
                <a:lnTo>
                  <a:pt x="467" y="864"/>
                </a:lnTo>
                <a:lnTo>
                  <a:pt x="467" y="885"/>
                </a:lnTo>
                <a:lnTo>
                  <a:pt x="467" y="906"/>
                </a:lnTo>
                <a:lnTo>
                  <a:pt x="467" y="929"/>
                </a:lnTo>
                <a:lnTo>
                  <a:pt x="467" y="954"/>
                </a:lnTo>
                <a:lnTo>
                  <a:pt x="467" y="977"/>
                </a:lnTo>
                <a:lnTo>
                  <a:pt x="467" y="1002"/>
                </a:lnTo>
                <a:lnTo>
                  <a:pt x="467" y="1027"/>
                </a:lnTo>
                <a:lnTo>
                  <a:pt x="467" y="1054"/>
                </a:lnTo>
                <a:lnTo>
                  <a:pt x="467" y="1081"/>
                </a:lnTo>
                <a:lnTo>
                  <a:pt x="467" y="1108"/>
                </a:lnTo>
                <a:lnTo>
                  <a:pt x="467" y="1137"/>
                </a:lnTo>
                <a:lnTo>
                  <a:pt x="467" y="1166"/>
                </a:lnTo>
                <a:lnTo>
                  <a:pt x="467" y="1194"/>
                </a:lnTo>
                <a:lnTo>
                  <a:pt x="467" y="1225"/>
                </a:lnTo>
                <a:lnTo>
                  <a:pt x="469" y="1256"/>
                </a:lnTo>
                <a:lnTo>
                  <a:pt x="469" y="1286"/>
                </a:lnTo>
                <a:lnTo>
                  <a:pt x="469" y="1319"/>
                </a:lnTo>
                <a:lnTo>
                  <a:pt x="469" y="1352"/>
                </a:lnTo>
                <a:lnTo>
                  <a:pt x="469" y="1384"/>
                </a:lnTo>
                <a:lnTo>
                  <a:pt x="469" y="1419"/>
                </a:lnTo>
                <a:lnTo>
                  <a:pt x="471" y="1453"/>
                </a:lnTo>
                <a:lnTo>
                  <a:pt x="471" y="1488"/>
                </a:lnTo>
                <a:lnTo>
                  <a:pt x="471" y="1524"/>
                </a:lnTo>
                <a:lnTo>
                  <a:pt x="472" y="1561"/>
                </a:lnTo>
                <a:lnTo>
                  <a:pt x="472" y="1599"/>
                </a:lnTo>
                <a:lnTo>
                  <a:pt x="472" y="1638"/>
                </a:lnTo>
                <a:lnTo>
                  <a:pt x="474" y="1676"/>
                </a:lnTo>
                <a:lnTo>
                  <a:pt x="474" y="1715"/>
                </a:lnTo>
                <a:lnTo>
                  <a:pt x="474" y="1755"/>
                </a:lnTo>
                <a:lnTo>
                  <a:pt x="476" y="1797"/>
                </a:lnTo>
                <a:lnTo>
                  <a:pt x="476" y="1837"/>
                </a:lnTo>
                <a:lnTo>
                  <a:pt x="478" y="1880"/>
                </a:lnTo>
                <a:lnTo>
                  <a:pt x="478" y="1922"/>
                </a:lnTo>
                <a:lnTo>
                  <a:pt x="478" y="1964"/>
                </a:lnTo>
                <a:lnTo>
                  <a:pt x="478" y="2002"/>
                </a:lnTo>
                <a:lnTo>
                  <a:pt x="476" y="2043"/>
                </a:lnTo>
                <a:lnTo>
                  <a:pt x="476" y="2081"/>
                </a:lnTo>
                <a:lnTo>
                  <a:pt x="476" y="2118"/>
                </a:lnTo>
                <a:lnTo>
                  <a:pt x="474" y="2154"/>
                </a:lnTo>
                <a:lnTo>
                  <a:pt x="474" y="2189"/>
                </a:lnTo>
                <a:lnTo>
                  <a:pt x="472" y="2223"/>
                </a:lnTo>
                <a:lnTo>
                  <a:pt x="471" y="2256"/>
                </a:lnTo>
                <a:lnTo>
                  <a:pt x="471" y="2287"/>
                </a:lnTo>
                <a:lnTo>
                  <a:pt x="469" y="2317"/>
                </a:lnTo>
                <a:lnTo>
                  <a:pt x="467" y="2348"/>
                </a:lnTo>
                <a:lnTo>
                  <a:pt x="465" y="2377"/>
                </a:lnTo>
                <a:lnTo>
                  <a:pt x="463" y="2406"/>
                </a:lnTo>
                <a:lnTo>
                  <a:pt x="461" y="2432"/>
                </a:lnTo>
                <a:lnTo>
                  <a:pt x="459" y="2457"/>
                </a:lnTo>
                <a:lnTo>
                  <a:pt x="455" y="2482"/>
                </a:lnTo>
                <a:lnTo>
                  <a:pt x="453" y="2505"/>
                </a:lnTo>
                <a:lnTo>
                  <a:pt x="451" y="2528"/>
                </a:lnTo>
                <a:lnTo>
                  <a:pt x="448" y="2551"/>
                </a:lnTo>
                <a:lnTo>
                  <a:pt x="446" y="2571"/>
                </a:lnTo>
                <a:lnTo>
                  <a:pt x="442" y="2592"/>
                </a:lnTo>
                <a:lnTo>
                  <a:pt x="438" y="2609"/>
                </a:lnTo>
                <a:lnTo>
                  <a:pt x="436" y="2628"/>
                </a:lnTo>
                <a:lnTo>
                  <a:pt x="432" y="2644"/>
                </a:lnTo>
                <a:lnTo>
                  <a:pt x="428" y="2659"/>
                </a:lnTo>
                <a:lnTo>
                  <a:pt x="425" y="2674"/>
                </a:lnTo>
                <a:lnTo>
                  <a:pt x="421" y="2688"/>
                </a:lnTo>
                <a:lnTo>
                  <a:pt x="417" y="2701"/>
                </a:lnTo>
                <a:lnTo>
                  <a:pt x="413" y="2713"/>
                </a:lnTo>
                <a:lnTo>
                  <a:pt x="409" y="2722"/>
                </a:lnTo>
                <a:lnTo>
                  <a:pt x="400" y="2740"/>
                </a:lnTo>
                <a:lnTo>
                  <a:pt x="392" y="2757"/>
                </a:lnTo>
                <a:lnTo>
                  <a:pt x="384" y="2772"/>
                </a:lnTo>
                <a:lnTo>
                  <a:pt x="377" y="2786"/>
                </a:lnTo>
                <a:lnTo>
                  <a:pt x="369" y="2799"/>
                </a:lnTo>
                <a:lnTo>
                  <a:pt x="361" y="2811"/>
                </a:lnTo>
                <a:lnTo>
                  <a:pt x="355" y="2822"/>
                </a:lnTo>
                <a:lnTo>
                  <a:pt x="348" y="2832"/>
                </a:lnTo>
                <a:lnTo>
                  <a:pt x="342" y="2839"/>
                </a:lnTo>
                <a:lnTo>
                  <a:pt x="334" y="2847"/>
                </a:lnTo>
                <a:lnTo>
                  <a:pt x="329" y="2855"/>
                </a:lnTo>
                <a:lnTo>
                  <a:pt x="323" y="2860"/>
                </a:lnTo>
                <a:lnTo>
                  <a:pt x="319" y="2864"/>
                </a:lnTo>
                <a:lnTo>
                  <a:pt x="313" y="2866"/>
                </a:lnTo>
                <a:lnTo>
                  <a:pt x="309" y="2868"/>
                </a:lnTo>
                <a:lnTo>
                  <a:pt x="304" y="2870"/>
                </a:lnTo>
                <a:lnTo>
                  <a:pt x="300" y="2870"/>
                </a:lnTo>
                <a:lnTo>
                  <a:pt x="296" y="2868"/>
                </a:lnTo>
                <a:lnTo>
                  <a:pt x="292" y="2866"/>
                </a:lnTo>
                <a:lnTo>
                  <a:pt x="288" y="2864"/>
                </a:lnTo>
                <a:lnTo>
                  <a:pt x="286" y="2862"/>
                </a:lnTo>
                <a:lnTo>
                  <a:pt x="282" y="2859"/>
                </a:lnTo>
                <a:lnTo>
                  <a:pt x="279" y="2853"/>
                </a:lnTo>
                <a:lnTo>
                  <a:pt x="277" y="2849"/>
                </a:lnTo>
                <a:lnTo>
                  <a:pt x="273" y="2841"/>
                </a:lnTo>
                <a:lnTo>
                  <a:pt x="271" y="2835"/>
                </a:lnTo>
                <a:lnTo>
                  <a:pt x="269" y="2828"/>
                </a:lnTo>
                <a:lnTo>
                  <a:pt x="267" y="2818"/>
                </a:lnTo>
                <a:lnTo>
                  <a:pt x="263" y="2811"/>
                </a:lnTo>
                <a:lnTo>
                  <a:pt x="261" y="2799"/>
                </a:lnTo>
                <a:lnTo>
                  <a:pt x="259" y="2788"/>
                </a:lnTo>
                <a:lnTo>
                  <a:pt x="258" y="2776"/>
                </a:lnTo>
                <a:lnTo>
                  <a:pt x="256" y="2764"/>
                </a:lnTo>
                <a:lnTo>
                  <a:pt x="252" y="2751"/>
                </a:lnTo>
                <a:lnTo>
                  <a:pt x="246" y="2738"/>
                </a:lnTo>
                <a:lnTo>
                  <a:pt x="240" y="2726"/>
                </a:lnTo>
                <a:lnTo>
                  <a:pt x="234" y="2713"/>
                </a:lnTo>
                <a:lnTo>
                  <a:pt x="227" y="2701"/>
                </a:lnTo>
                <a:lnTo>
                  <a:pt x="217" y="2688"/>
                </a:lnTo>
                <a:lnTo>
                  <a:pt x="208" y="2676"/>
                </a:lnTo>
                <a:lnTo>
                  <a:pt x="198" y="2663"/>
                </a:lnTo>
                <a:lnTo>
                  <a:pt x="186" y="2651"/>
                </a:lnTo>
                <a:lnTo>
                  <a:pt x="175" y="2638"/>
                </a:lnTo>
                <a:lnTo>
                  <a:pt x="163" y="2626"/>
                </a:lnTo>
                <a:lnTo>
                  <a:pt x="150" y="2613"/>
                </a:lnTo>
                <a:lnTo>
                  <a:pt x="137" y="2601"/>
                </a:lnTo>
                <a:lnTo>
                  <a:pt x="121" y="2588"/>
                </a:lnTo>
                <a:lnTo>
                  <a:pt x="108" y="25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4"/>
          <p:cNvSpPr/>
          <p:nvPr/>
        </p:nvSpPr>
        <p:spPr>
          <a:xfrm>
            <a:off x="2218680" y="2154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114880" y="198900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7" name="组合 8"/>
          <p:cNvGrpSpPr/>
          <p:nvPr/>
        </p:nvGrpSpPr>
        <p:grpSpPr>
          <a:xfrm>
            <a:off x="1400040" y="3581280"/>
            <a:ext cx="2840040" cy="1569960"/>
            <a:chOff x="1400040" y="3581280"/>
            <a:chExt cx="2840040" cy="1569960"/>
          </a:xfrm>
        </p:grpSpPr>
        <p:pic>
          <p:nvPicPr>
            <p:cNvPr id="22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581280"/>
              <a:ext cx="284004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矩形 2"/>
            <p:cNvSpPr/>
            <p:nvPr/>
          </p:nvSpPr>
          <p:spPr>
            <a:xfrm>
              <a:off x="1444680" y="4192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半部分，先写里面的“白”字，再写外面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矩形 3"/>
          <p:cNvSpPr/>
          <p:nvPr/>
        </p:nvSpPr>
        <p:spPr>
          <a:xfrm>
            <a:off x="1967040" y="1474920"/>
            <a:ext cx="126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ō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114"/>
          <p:cNvSpPr/>
          <p:nvPr/>
        </p:nvSpPr>
        <p:spPr>
          <a:xfrm>
            <a:off x="6683400" y="3681360"/>
            <a:ext cx="1087560" cy="919080"/>
          </a:xfrm>
          <a:custGeom>
            <a:avLst/>
            <a:gdLst/>
            <a:ahLst/>
            <a:rect l="l" t="t" r="r" b="b"/>
            <a:pathLst>
              <a:path w="1371" h="1157">
                <a:moveTo>
                  <a:pt x="950" y="912"/>
                </a:moveTo>
                <a:lnTo>
                  <a:pt x="972" y="904"/>
                </a:lnTo>
                <a:lnTo>
                  <a:pt x="991" y="894"/>
                </a:lnTo>
                <a:lnTo>
                  <a:pt x="1010" y="883"/>
                </a:lnTo>
                <a:lnTo>
                  <a:pt x="1025" y="869"/>
                </a:lnTo>
                <a:lnTo>
                  <a:pt x="1043" y="854"/>
                </a:lnTo>
                <a:lnTo>
                  <a:pt x="1058" y="839"/>
                </a:lnTo>
                <a:lnTo>
                  <a:pt x="1071" y="820"/>
                </a:lnTo>
                <a:lnTo>
                  <a:pt x="1085" y="800"/>
                </a:lnTo>
                <a:lnTo>
                  <a:pt x="1096" y="779"/>
                </a:lnTo>
                <a:lnTo>
                  <a:pt x="1106" y="758"/>
                </a:lnTo>
                <a:lnTo>
                  <a:pt x="1115" y="733"/>
                </a:lnTo>
                <a:lnTo>
                  <a:pt x="1125" y="708"/>
                </a:lnTo>
                <a:lnTo>
                  <a:pt x="1133" y="681"/>
                </a:lnTo>
                <a:lnTo>
                  <a:pt x="1140" y="654"/>
                </a:lnTo>
                <a:lnTo>
                  <a:pt x="1146" y="626"/>
                </a:lnTo>
                <a:lnTo>
                  <a:pt x="1152" y="595"/>
                </a:lnTo>
                <a:lnTo>
                  <a:pt x="1156" y="564"/>
                </a:lnTo>
                <a:lnTo>
                  <a:pt x="1160" y="537"/>
                </a:lnTo>
                <a:lnTo>
                  <a:pt x="1165" y="511"/>
                </a:lnTo>
                <a:lnTo>
                  <a:pt x="1169" y="486"/>
                </a:lnTo>
                <a:lnTo>
                  <a:pt x="1175" y="463"/>
                </a:lnTo>
                <a:lnTo>
                  <a:pt x="1179" y="443"/>
                </a:lnTo>
                <a:lnTo>
                  <a:pt x="1183" y="424"/>
                </a:lnTo>
                <a:lnTo>
                  <a:pt x="1187" y="415"/>
                </a:lnTo>
                <a:lnTo>
                  <a:pt x="1188" y="407"/>
                </a:lnTo>
                <a:lnTo>
                  <a:pt x="1190" y="399"/>
                </a:lnTo>
                <a:lnTo>
                  <a:pt x="1192" y="391"/>
                </a:lnTo>
                <a:lnTo>
                  <a:pt x="1196" y="384"/>
                </a:lnTo>
                <a:lnTo>
                  <a:pt x="1198" y="378"/>
                </a:lnTo>
                <a:lnTo>
                  <a:pt x="1200" y="372"/>
                </a:lnTo>
                <a:lnTo>
                  <a:pt x="1202" y="367"/>
                </a:lnTo>
                <a:lnTo>
                  <a:pt x="1206" y="363"/>
                </a:lnTo>
                <a:lnTo>
                  <a:pt x="1208" y="359"/>
                </a:lnTo>
                <a:lnTo>
                  <a:pt x="1210" y="355"/>
                </a:lnTo>
                <a:lnTo>
                  <a:pt x="1211" y="351"/>
                </a:lnTo>
                <a:lnTo>
                  <a:pt x="1213" y="347"/>
                </a:lnTo>
                <a:lnTo>
                  <a:pt x="1217" y="345"/>
                </a:lnTo>
                <a:lnTo>
                  <a:pt x="1219" y="344"/>
                </a:lnTo>
                <a:lnTo>
                  <a:pt x="1221" y="344"/>
                </a:lnTo>
                <a:lnTo>
                  <a:pt x="1223" y="342"/>
                </a:lnTo>
                <a:lnTo>
                  <a:pt x="1227" y="342"/>
                </a:lnTo>
                <a:lnTo>
                  <a:pt x="1229" y="342"/>
                </a:lnTo>
                <a:lnTo>
                  <a:pt x="1231" y="345"/>
                </a:lnTo>
                <a:lnTo>
                  <a:pt x="1234" y="349"/>
                </a:lnTo>
                <a:lnTo>
                  <a:pt x="1236" y="353"/>
                </a:lnTo>
                <a:lnTo>
                  <a:pt x="1240" y="361"/>
                </a:lnTo>
                <a:lnTo>
                  <a:pt x="1244" y="368"/>
                </a:lnTo>
                <a:lnTo>
                  <a:pt x="1248" y="378"/>
                </a:lnTo>
                <a:lnTo>
                  <a:pt x="1252" y="390"/>
                </a:lnTo>
                <a:lnTo>
                  <a:pt x="1254" y="401"/>
                </a:lnTo>
                <a:lnTo>
                  <a:pt x="1258" y="416"/>
                </a:lnTo>
                <a:lnTo>
                  <a:pt x="1261" y="432"/>
                </a:lnTo>
                <a:lnTo>
                  <a:pt x="1265" y="449"/>
                </a:lnTo>
                <a:lnTo>
                  <a:pt x="1267" y="466"/>
                </a:lnTo>
                <a:lnTo>
                  <a:pt x="1271" y="487"/>
                </a:lnTo>
                <a:lnTo>
                  <a:pt x="1273" y="509"/>
                </a:lnTo>
                <a:lnTo>
                  <a:pt x="1277" y="532"/>
                </a:lnTo>
                <a:lnTo>
                  <a:pt x="1279" y="557"/>
                </a:lnTo>
                <a:lnTo>
                  <a:pt x="1281" y="582"/>
                </a:lnTo>
                <a:lnTo>
                  <a:pt x="1284" y="606"/>
                </a:lnTo>
                <a:lnTo>
                  <a:pt x="1288" y="630"/>
                </a:lnTo>
                <a:lnTo>
                  <a:pt x="1292" y="651"/>
                </a:lnTo>
                <a:lnTo>
                  <a:pt x="1296" y="672"/>
                </a:lnTo>
                <a:lnTo>
                  <a:pt x="1300" y="693"/>
                </a:lnTo>
                <a:lnTo>
                  <a:pt x="1304" y="712"/>
                </a:lnTo>
                <a:lnTo>
                  <a:pt x="1309" y="731"/>
                </a:lnTo>
                <a:lnTo>
                  <a:pt x="1315" y="749"/>
                </a:lnTo>
                <a:lnTo>
                  <a:pt x="1319" y="766"/>
                </a:lnTo>
                <a:lnTo>
                  <a:pt x="1325" y="781"/>
                </a:lnTo>
                <a:lnTo>
                  <a:pt x="1332" y="797"/>
                </a:lnTo>
                <a:lnTo>
                  <a:pt x="1338" y="810"/>
                </a:lnTo>
                <a:lnTo>
                  <a:pt x="1344" y="823"/>
                </a:lnTo>
                <a:lnTo>
                  <a:pt x="1352" y="837"/>
                </a:lnTo>
                <a:lnTo>
                  <a:pt x="1357" y="848"/>
                </a:lnTo>
                <a:lnTo>
                  <a:pt x="1363" y="860"/>
                </a:lnTo>
                <a:lnTo>
                  <a:pt x="1367" y="871"/>
                </a:lnTo>
                <a:lnTo>
                  <a:pt x="1369" y="883"/>
                </a:lnTo>
                <a:lnTo>
                  <a:pt x="1371" y="894"/>
                </a:lnTo>
                <a:lnTo>
                  <a:pt x="1371" y="906"/>
                </a:lnTo>
                <a:lnTo>
                  <a:pt x="1371" y="917"/>
                </a:lnTo>
                <a:lnTo>
                  <a:pt x="1369" y="927"/>
                </a:lnTo>
                <a:lnTo>
                  <a:pt x="1365" y="939"/>
                </a:lnTo>
                <a:lnTo>
                  <a:pt x="1359" y="948"/>
                </a:lnTo>
                <a:lnTo>
                  <a:pt x="1353" y="958"/>
                </a:lnTo>
                <a:lnTo>
                  <a:pt x="1346" y="967"/>
                </a:lnTo>
                <a:lnTo>
                  <a:pt x="1336" y="977"/>
                </a:lnTo>
                <a:lnTo>
                  <a:pt x="1327" y="985"/>
                </a:lnTo>
                <a:lnTo>
                  <a:pt x="1315" y="994"/>
                </a:lnTo>
                <a:lnTo>
                  <a:pt x="1302" y="1002"/>
                </a:lnTo>
                <a:lnTo>
                  <a:pt x="1273" y="1019"/>
                </a:lnTo>
                <a:lnTo>
                  <a:pt x="1244" y="1036"/>
                </a:lnTo>
                <a:lnTo>
                  <a:pt x="1215" y="1052"/>
                </a:lnTo>
                <a:lnTo>
                  <a:pt x="1187" y="1067"/>
                </a:lnTo>
                <a:lnTo>
                  <a:pt x="1158" y="1081"/>
                </a:lnTo>
                <a:lnTo>
                  <a:pt x="1127" y="1094"/>
                </a:lnTo>
                <a:lnTo>
                  <a:pt x="1096" y="1104"/>
                </a:lnTo>
                <a:lnTo>
                  <a:pt x="1064" y="1115"/>
                </a:lnTo>
                <a:lnTo>
                  <a:pt x="1029" y="1119"/>
                </a:lnTo>
                <a:lnTo>
                  <a:pt x="995" y="1125"/>
                </a:lnTo>
                <a:lnTo>
                  <a:pt x="977" y="1127"/>
                </a:lnTo>
                <a:lnTo>
                  <a:pt x="958" y="1129"/>
                </a:lnTo>
                <a:lnTo>
                  <a:pt x="939" y="1130"/>
                </a:lnTo>
                <a:lnTo>
                  <a:pt x="920" y="1134"/>
                </a:lnTo>
                <a:lnTo>
                  <a:pt x="899" y="1136"/>
                </a:lnTo>
                <a:lnTo>
                  <a:pt x="877" y="1138"/>
                </a:lnTo>
                <a:lnTo>
                  <a:pt x="856" y="1140"/>
                </a:lnTo>
                <a:lnTo>
                  <a:pt x="835" y="1144"/>
                </a:lnTo>
                <a:lnTo>
                  <a:pt x="812" y="1146"/>
                </a:lnTo>
                <a:lnTo>
                  <a:pt x="787" y="1148"/>
                </a:lnTo>
                <a:lnTo>
                  <a:pt x="764" y="1150"/>
                </a:lnTo>
                <a:lnTo>
                  <a:pt x="739" y="1154"/>
                </a:lnTo>
                <a:lnTo>
                  <a:pt x="712" y="1155"/>
                </a:lnTo>
                <a:lnTo>
                  <a:pt x="687" y="1155"/>
                </a:lnTo>
                <a:lnTo>
                  <a:pt x="663" y="1157"/>
                </a:lnTo>
                <a:lnTo>
                  <a:pt x="638" y="1157"/>
                </a:lnTo>
                <a:lnTo>
                  <a:pt x="613" y="1157"/>
                </a:lnTo>
                <a:lnTo>
                  <a:pt x="590" y="1157"/>
                </a:lnTo>
                <a:lnTo>
                  <a:pt x="565" y="1155"/>
                </a:lnTo>
                <a:lnTo>
                  <a:pt x="542" y="1155"/>
                </a:lnTo>
                <a:lnTo>
                  <a:pt x="496" y="1150"/>
                </a:lnTo>
                <a:lnTo>
                  <a:pt x="449" y="1144"/>
                </a:lnTo>
                <a:lnTo>
                  <a:pt x="405" y="1136"/>
                </a:lnTo>
                <a:lnTo>
                  <a:pt x="363" y="1129"/>
                </a:lnTo>
                <a:lnTo>
                  <a:pt x="340" y="1121"/>
                </a:lnTo>
                <a:lnTo>
                  <a:pt x="319" y="1113"/>
                </a:lnTo>
                <a:lnTo>
                  <a:pt x="298" y="1104"/>
                </a:lnTo>
                <a:lnTo>
                  <a:pt x="277" y="1096"/>
                </a:lnTo>
                <a:lnTo>
                  <a:pt x="258" y="1088"/>
                </a:lnTo>
                <a:lnTo>
                  <a:pt x="238" y="1079"/>
                </a:lnTo>
                <a:lnTo>
                  <a:pt x="221" y="1069"/>
                </a:lnTo>
                <a:lnTo>
                  <a:pt x="206" y="1059"/>
                </a:lnTo>
                <a:lnTo>
                  <a:pt x="190" y="1048"/>
                </a:lnTo>
                <a:lnTo>
                  <a:pt x="175" y="1038"/>
                </a:lnTo>
                <a:lnTo>
                  <a:pt x="162" y="1027"/>
                </a:lnTo>
                <a:lnTo>
                  <a:pt x="150" y="1015"/>
                </a:lnTo>
                <a:lnTo>
                  <a:pt x="139" y="1002"/>
                </a:lnTo>
                <a:lnTo>
                  <a:pt x="129" y="990"/>
                </a:lnTo>
                <a:lnTo>
                  <a:pt x="121" y="977"/>
                </a:lnTo>
                <a:lnTo>
                  <a:pt x="114" y="964"/>
                </a:lnTo>
                <a:lnTo>
                  <a:pt x="106" y="948"/>
                </a:lnTo>
                <a:lnTo>
                  <a:pt x="100" y="931"/>
                </a:lnTo>
                <a:lnTo>
                  <a:pt x="94" y="914"/>
                </a:lnTo>
                <a:lnTo>
                  <a:pt x="89" y="896"/>
                </a:lnTo>
                <a:lnTo>
                  <a:pt x="83" y="875"/>
                </a:lnTo>
                <a:lnTo>
                  <a:pt x="77" y="854"/>
                </a:lnTo>
                <a:lnTo>
                  <a:pt x="71" y="833"/>
                </a:lnTo>
                <a:lnTo>
                  <a:pt x="67" y="808"/>
                </a:lnTo>
                <a:lnTo>
                  <a:pt x="64" y="783"/>
                </a:lnTo>
                <a:lnTo>
                  <a:pt x="60" y="758"/>
                </a:lnTo>
                <a:lnTo>
                  <a:pt x="58" y="729"/>
                </a:lnTo>
                <a:lnTo>
                  <a:pt x="54" y="701"/>
                </a:lnTo>
                <a:lnTo>
                  <a:pt x="52" y="670"/>
                </a:lnTo>
                <a:lnTo>
                  <a:pt x="52" y="639"/>
                </a:lnTo>
                <a:lnTo>
                  <a:pt x="50" y="605"/>
                </a:lnTo>
                <a:lnTo>
                  <a:pt x="50" y="570"/>
                </a:lnTo>
                <a:lnTo>
                  <a:pt x="50" y="537"/>
                </a:lnTo>
                <a:lnTo>
                  <a:pt x="50" y="507"/>
                </a:lnTo>
                <a:lnTo>
                  <a:pt x="50" y="476"/>
                </a:lnTo>
                <a:lnTo>
                  <a:pt x="50" y="449"/>
                </a:lnTo>
                <a:lnTo>
                  <a:pt x="50" y="422"/>
                </a:lnTo>
                <a:lnTo>
                  <a:pt x="50" y="397"/>
                </a:lnTo>
                <a:lnTo>
                  <a:pt x="50" y="372"/>
                </a:lnTo>
                <a:lnTo>
                  <a:pt x="50" y="349"/>
                </a:lnTo>
                <a:lnTo>
                  <a:pt x="50" y="328"/>
                </a:lnTo>
                <a:lnTo>
                  <a:pt x="50" y="309"/>
                </a:lnTo>
                <a:lnTo>
                  <a:pt x="50" y="290"/>
                </a:lnTo>
                <a:lnTo>
                  <a:pt x="50" y="272"/>
                </a:lnTo>
                <a:lnTo>
                  <a:pt x="50" y="255"/>
                </a:lnTo>
                <a:lnTo>
                  <a:pt x="50" y="242"/>
                </a:lnTo>
                <a:lnTo>
                  <a:pt x="50" y="228"/>
                </a:lnTo>
                <a:lnTo>
                  <a:pt x="50" y="215"/>
                </a:lnTo>
                <a:lnTo>
                  <a:pt x="50" y="203"/>
                </a:lnTo>
                <a:lnTo>
                  <a:pt x="50" y="192"/>
                </a:lnTo>
                <a:lnTo>
                  <a:pt x="48" y="182"/>
                </a:lnTo>
                <a:lnTo>
                  <a:pt x="48" y="173"/>
                </a:lnTo>
                <a:lnTo>
                  <a:pt x="46" y="163"/>
                </a:lnTo>
                <a:lnTo>
                  <a:pt x="46" y="153"/>
                </a:lnTo>
                <a:lnTo>
                  <a:pt x="44" y="146"/>
                </a:lnTo>
                <a:lnTo>
                  <a:pt x="43" y="138"/>
                </a:lnTo>
                <a:lnTo>
                  <a:pt x="39" y="123"/>
                </a:lnTo>
                <a:lnTo>
                  <a:pt x="35" y="109"/>
                </a:lnTo>
                <a:lnTo>
                  <a:pt x="29" y="98"/>
                </a:lnTo>
                <a:lnTo>
                  <a:pt x="25" y="88"/>
                </a:lnTo>
                <a:lnTo>
                  <a:pt x="21" y="82"/>
                </a:lnTo>
                <a:lnTo>
                  <a:pt x="16" y="77"/>
                </a:lnTo>
                <a:lnTo>
                  <a:pt x="12" y="69"/>
                </a:lnTo>
                <a:lnTo>
                  <a:pt x="8" y="61"/>
                </a:lnTo>
                <a:lnTo>
                  <a:pt x="4" y="54"/>
                </a:lnTo>
                <a:lnTo>
                  <a:pt x="2" y="44"/>
                </a:lnTo>
                <a:lnTo>
                  <a:pt x="0" y="34"/>
                </a:lnTo>
                <a:lnTo>
                  <a:pt x="0" y="25"/>
                </a:lnTo>
                <a:lnTo>
                  <a:pt x="0" y="21"/>
                </a:lnTo>
                <a:lnTo>
                  <a:pt x="2" y="15"/>
                </a:lnTo>
                <a:lnTo>
                  <a:pt x="6" y="11"/>
                </a:lnTo>
                <a:lnTo>
                  <a:pt x="12" y="8"/>
                </a:lnTo>
                <a:lnTo>
                  <a:pt x="18" y="4"/>
                </a:lnTo>
                <a:lnTo>
                  <a:pt x="21" y="4"/>
                </a:lnTo>
                <a:lnTo>
                  <a:pt x="27" y="2"/>
                </a:lnTo>
                <a:lnTo>
                  <a:pt x="31" y="0"/>
                </a:lnTo>
                <a:lnTo>
                  <a:pt x="37" y="0"/>
                </a:lnTo>
                <a:lnTo>
                  <a:pt x="44" y="0"/>
                </a:lnTo>
                <a:lnTo>
                  <a:pt x="50" y="0"/>
                </a:lnTo>
                <a:lnTo>
                  <a:pt x="64" y="0"/>
                </a:lnTo>
                <a:lnTo>
                  <a:pt x="79" y="2"/>
                </a:lnTo>
                <a:lnTo>
                  <a:pt x="92" y="6"/>
                </a:lnTo>
                <a:lnTo>
                  <a:pt x="108" y="11"/>
                </a:lnTo>
                <a:lnTo>
                  <a:pt x="115" y="13"/>
                </a:lnTo>
                <a:lnTo>
                  <a:pt x="123" y="17"/>
                </a:lnTo>
                <a:lnTo>
                  <a:pt x="133" y="21"/>
                </a:lnTo>
                <a:lnTo>
                  <a:pt x="140" y="27"/>
                </a:lnTo>
                <a:lnTo>
                  <a:pt x="148" y="31"/>
                </a:lnTo>
                <a:lnTo>
                  <a:pt x="158" y="36"/>
                </a:lnTo>
                <a:lnTo>
                  <a:pt x="165" y="44"/>
                </a:lnTo>
                <a:lnTo>
                  <a:pt x="175" y="50"/>
                </a:lnTo>
                <a:lnTo>
                  <a:pt x="188" y="63"/>
                </a:lnTo>
                <a:lnTo>
                  <a:pt x="200" y="77"/>
                </a:lnTo>
                <a:lnTo>
                  <a:pt x="211" y="88"/>
                </a:lnTo>
                <a:lnTo>
                  <a:pt x="221" y="98"/>
                </a:lnTo>
                <a:lnTo>
                  <a:pt x="229" y="107"/>
                </a:lnTo>
                <a:lnTo>
                  <a:pt x="231" y="111"/>
                </a:lnTo>
                <a:lnTo>
                  <a:pt x="233" y="115"/>
                </a:lnTo>
                <a:lnTo>
                  <a:pt x="234" y="117"/>
                </a:lnTo>
                <a:lnTo>
                  <a:pt x="236" y="121"/>
                </a:lnTo>
                <a:lnTo>
                  <a:pt x="238" y="123"/>
                </a:lnTo>
                <a:lnTo>
                  <a:pt x="238" y="127"/>
                </a:lnTo>
                <a:lnTo>
                  <a:pt x="236" y="129"/>
                </a:lnTo>
                <a:lnTo>
                  <a:pt x="233" y="134"/>
                </a:lnTo>
                <a:lnTo>
                  <a:pt x="231" y="140"/>
                </a:lnTo>
                <a:lnTo>
                  <a:pt x="229" y="148"/>
                </a:lnTo>
                <a:lnTo>
                  <a:pt x="227" y="157"/>
                </a:lnTo>
                <a:lnTo>
                  <a:pt x="223" y="167"/>
                </a:lnTo>
                <a:lnTo>
                  <a:pt x="221" y="178"/>
                </a:lnTo>
                <a:lnTo>
                  <a:pt x="219" y="194"/>
                </a:lnTo>
                <a:lnTo>
                  <a:pt x="217" y="207"/>
                </a:lnTo>
                <a:lnTo>
                  <a:pt x="215" y="225"/>
                </a:lnTo>
                <a:lnTo>
                  <a:pt x="211" y="242"/>
                </a:lnTo>
                <a:lnTo>
                  <a:pt x="210" y="261"/>
                </a:lnTo>
                <a:lnTo>
                  <a:pt x="208" y="282"/>
                </a:lnTo>
                <a:lnTo>
                  <a:pt x="206" y="305"/>
                </a:lnTo>
                <a:lnTo>
                  <a:pt x="202" y="330"/>
                </a:lnTo>
                <a:lnTo>
                  <a:pt x="200" y="355"/>
                </a:lnTo>
                <a:lnTo>
                  <a:pt x="196" y="380"/>
                </a:lnTo>
                <a:lnTo>
                  <a:pt x="192" y="405"/>
                </a:lnTo>
                <a:lnTo>
                  <a:pt x="188" y="430"/>
                </a:lnTo>
                <a:lnTo>
                  <a:pt x="186" y="455"/>
                </a:lnTo>
                <a:lnTo>
                  <a:pt x="185" y="478"/>
                </a:lnTo>
                <a:lnTo>
                  <a:pt x="183" y="501"/>
                </a:lnTo>
                <a:lnTo>
                  <a:pt x="181" y="522"/>
                </a:lnTo>
                <a:lnTo>
                  <a:pt x="181" y="545"/>
                </a:lnTo>
                <a:lnTo>
                  <a:pt x="181" y="566"/>
                </a:lnTo>
                <a:lnTo>
                  <a:pt x="181" y="585"/>
                </a:lnTo>
                <a:lnTo>
                  <a:pt x="181" y="606"/>
                </a:lnTo>
                <a:lnTo>
                  <a:pt x="181" y="626"/>
                </a:lnTo>
                <a:lnTo>
                  <a:pt x="183" y="645"/>
                </a:lnTo>
                <a:lnTo>
                  <a:pt x="185" y="662"/>
                </a:lnTo>
                <a:lnTo>
                  <a:pt x="186" y="679"/>
                </a:lnTo>
                <a:lnTo>
                  <a:pt x="188" y="697"/>
                </a:lnTo>
                <a:lnTo>
                  <a:pt x="190" y="714"/>
                </a:lnTo>
                <a:lnTo>
                  <a:pt x="194" y="729"/>
                </a:lnTo>
                <a:lnTo>
                  <a:pt x="198" y="745"/>
                </a:lnTo>
                <a:lnTo>
                  <a:pt x="202" y="758"/>
                </a:lnTo>
                <a:lnTo>
                  <a:pt x="208" y="772"/>
                </a:lnTo>
                <a:lnTo>
                  <a:pt x="213" y="785"/>
                </a:lnTo>
                <a:lnTo>
                  <a:pt x="219" y="798"/>
                </a:lnTo>
                <a:lnTo>
                  <a:pt x="225" y="810"/>
                </a:lnTo>
                <a:lnTo>
                  <a:pt x="233" y="821"/>
                </a:lnTo>
                <a:lnTo>
                  <a:pt x="240" y="833"/>
                </a:lnTo>
                <a:lnTo>
                  <a:pt x="250" y="843"/>
                </a:lnTo>
                <a:lnTo>
                  <a:pt x="259" y="854"/>
                </a:lnTo>
                <a:lnTo>
                  <a:pt x="269" y="862"/>
                </a:lnTo>
                <a:lnTo>
                  <a:pt x="279" y="871"/>
                </a:lnTo>
                <a:lnTo>
                  <a:pt x="290" y="879"/>
                </a:lnTo>
                <a:lnTo>
                  <a:pt x="302" y="887"/>
                </a:lnTo>
                <a:lnTo>
                  <a:pt x="313" y="894"/>
                </a:lnTo>
                <a:lnTo>
                  <a:pt x="327" y="900"/>
                </a:lnTo>
                <a:lnTo>
                  <a:pt x="340" y="906"/>
                </a:lnTo>
                <a:lnTo>
                  <a:pt x="353" y="914"/>
                </a:lnTo>
                <a:lnTo>
                  <a:pt x="371" y="919"/>
                </a:lnTo>
                <a:lnTo>
                  <a:pt x="386" y="923"/>
                </a:lnTo>
                <a:lnTo>
                  <a:pt x="403" y="929"/>
                </a:lnTo>
                <a:lnTo>
                  <a:pt x="423" y="933"/>
                </a:lnTo>
                <a:lnTo>
                  <a:pt x="442" y="937"/>
                </a:lnTo>
                <a:lnTo>
                  <a:pt x="461" y="940"/>
                </a:lnTo>
                <a:lnTo>
                  <a:pt x="482" y="942"/>
                </a:lnTo>
                <a:lnTo>
                  <a:pt x="505" y="946"/>
                </a:lnTo>
                <a:lnTo>
                  <a:pt x="526" y="948"/>
                </a:lnTo>
                <a:lnTo>
                  <a:pt x="551" y="948"/>
                </a:lnTo>
                <a:lnTo>
                  <a:pt x="576" y="950"/>
                </a:lnTo>
                <a:lnTo>
                  <a:pt x="601" y="950"/>
                </a:lnTo>
                <a:lnTo>
                  <a:pt x="626" y="952"/>
                </a:lnTo>
                <a:lnTo>
                  <a:pt x="651" y="954"/>
                </a:lnTo>
                <a:lnTo>
                  <a:pt x="676" y="954"/>
                </a:lnTo>
                <a:lnTo>
                  <a:pt x="699" y="956"/>
                </a:lnTo>
                <a:lnTo>
                  <a:pt x="722" y="954"/>
                </a:lnTo>
                <a:lnTo>
                  <a:pt x="745" y="954"/>
                </a:lnTo>
                <a:lnTo>
                  <a:pt x="768" y="952"/>
                </a:lnTo>
                <a:lnTo>
                  <a:pt x="789" y="950"/>
                </a:lnTo>
                <a:lnTo>
                  <a:pt x="812" y="948"/>
                </a:lnTo>
                <a:lnTo>
                  <a:pt x="833" y="944"/>
                </a:lnTo>
                <a:lnTo>
                  <a:pt x="853" y="940"/>
                </a:lnTo>
                <a:lnTo>
                  <a:pt x="874" y="937"/>
                </a:lnTo>
                <a:lnTo>
                  <a:pt x="893" y="931"/>
                </a:lnTo>
                <a:lnTo>
                  <a:pt x="912" y="925"/>
                </a:lnTo>
                <a:lnTo>
                  <a:pt x="931" y="919"/>
                </a:lnTo>
                <a:lnTo>
                  <a:pt x="950" y="9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115"/>
          <p:cNvSpPr/>
          <p:nvPr/>
        </p:nvSpPr>
        <p:spPr>
          <a:xfrm>
            <a:off x="5510160" y="3687840"/>
            <a:ext cx="993960" cy="892080"/>
          </a:xfrm>
          <a:custGeom>
            <a:avLst/>
            <a:gdLst/>
            <a:ahLst/>
            <a:rect l="l" t="t" r="r" b="b"/>
            <a:pathLst>
              <a:path w="1254" h="1124">
                <a:moveTo>
                  <a:pt x="202" y="1005"/>
                </a:moveTo>
                <a:lnTo>
                  <a:pt x="229" y="994"/>
                </a:lnTo>
                <a:lnTo>
                  <a:pt x="254" y="980"/>
                </a:lnTo>
                <a:lnTo>
                  <a:pt x="281" y="965"/>
                </a:lnTo>
                <a:lnTo>
                  <a:pt x="307" y="950"/>
                </a:lnTo>
                <a:lnTo>
                  <a:pt x="334" y="934"/>
                </a:lnTo>
                <a:lnTo>
                  <a:pt x="361" y="919"/>
                </a:lnTo>
                <a:lnTo>
                  <a:pt x="390" y="900"/>
                </a:lnTo>
                <a:lnTo>
                  <a:pt x="417" y="883"/>
                </a:lnTo>
                <a:lnTo>
                  <a:pt x="446" y="863"/>
                </a:lnTo>
                <a:lnTo>
                  <a:pt x="473" y="842"/>
                </a:lnTo>
                <a:lnTo>
                  <a:pt x="501" y="821"/>
                </a:lnTo>
                <a:lnTo>
                  <a:pt x="528" y="800"/>
                </a:lnTo>
                <a:lnTo>
                  <a:pt x="557" y="777"/>
                </a:lnTo>
                <a:lnTo>
                  <a:pt x="584" y="752"/>
                </a:lnTo>
                <a:lnTo>
                  <a:pt x="613" y="727"/>
                </a:lnTo>
                <a:lnTo>
                  <a:pt x="641" y="702"/>
                </a:lnTo>
                <a:lnTo>
                  <a:pt x="666" y="675"/>
                </a:lnTo>
                <a:lnTo>
                  <a:pt x="691" y="648"/>
                </a:lnTo>
                <a:lnTo>
                  <a:pt x="714" y="623"/>
                </a:lnTo>
                <a:lnTo>
                  <a:pt x="737" y="598"/>
                </a:lnTo>
                <a:lnTo>
                  <a:pt x="760" y="574"/>
                </a:lnTo>
                <a:lnTo>
                  <a:pt x="783" y="549"/>
                </a:lnTo>
                <a:lnTo>
                  <a:pt x="805" y="524"/>
                </a:lnTo>
                <a:lnTo>
                  <a:pt x="826" y="501"/>
                </a:lnTo>
                <a:lnTo>
                  <a:pt x="845" y="476"/>
                </a:lnTo>
                <a:lnTo>
                  <a:pt x="862" y="453"/>
                </a:lnTo>
                <a:lnTo>
                  <a:pt x="881" y="428"/>
                </a:lnTo>
                <a:lnTo>
                  <a:pt x="897" y="405"/>
                </a:lnTo>
                <a:lnTo>
                  <a:pt x="912" y="380"/>
                </a:lnTo>
                <a:lnTo>
                  <a:pt x="927" y="357"/>
                </a:lnTo>
                <a:lnTo>
                  <a:pt x="941" y="332"/>
                </a:lnTo>
                <a:lnTo>
                  <a:pt x="952" y="309"/>
                </a:lnTo>
                <a:lnTo>
                  <a:pt x="964" y="288"/>
                </a:lnTo>
                <a:lnTo>
                  <a:pt x="974" y="268"/>
                </a:lnTo>
                <a:lnTo>
                  <a:pt x="983" y="249"/>
                </a:lnTo>
                <a:lnTo>
                  <a:pt x="991" y="230"/>
                </a:lnTo>
                <a:lnTo>
                  <a:pt x="997" y="213"/>
                </a:lnTo>
                <a:lnTo>
                  <a:pt x="1002" y="195"/>
                </a:lnTo>
                <a:lnTo>
                  <a:pt x="1008" y="180"/>
                </a:lnTo>
                <a:lnTo>
                  <a:pt x="1012" y="167"/>
                </a:lnTo>
                <a:lnTo>
                  <a:pt x="1016" y="151"/>
                </a:lnTo>
                <a:lnTo>
                  <a:pt x="1018" y="140"/>
                </a:lnTo>
                <a:lnTo>
                  <a:pt x="1020" y="126"/>
                </a:lnTo>
                <a:lnTo>
                  <a:pt x="1020" y="117"/>
                </a:lnTo>
                <a:lnTo>
                  <a:pt x="1020" y="105"/>
                </a:lnTo>
                <a:lnTo>
                  <a:pt x="1020" y="96"/>
                </a:lnTo>
                <a:lnTo>
                  <a:pt x="1018" y="88"/>
                </a:lnTo>
                <a:lnTo>
                  <a:pt x="1016" y="80"/>
                </a:lnTo>
                <a:lnTo>
                  <a:pt x="1012" y="67"/>
                </a:lnTo>
                <a:lnTo>
                  <a:pt x="1008" y="53"/>
                </a:lnTo>
                <a:lnTo>
                  <a:pt x="1008" y="44"/>
                </a:lnTo>
                <a:lnTo>
                  <a:pt x="1008" y="32"/>
                </a:lnTo>
                <a:lnTo>
                  <a:pt x="1010" y="25"/>
                </a:lnTo>
                <a:lnTo>
                  <a:pt x="1012" y="21"/>
                </a:lnTo>
                <a:lnTo>
                  <a:pt x="1014" y="17"/>
                </a:lnTo>
                <a:lnTo>
                  <a:pt x="1018" y="13"/>
                </a:lnTo>
                <a:lnTo>
                  <a:pt x="1020" y="9"/>
                </a:lnTo>
                <a:lnTo>
                  <a:pt x="1023" y="7"/>
                </a:lnTo>
                <a:lnTo>
                  <a:pt x="1029" y="5"/>
                </a:lnTo>
                <a:lnTo>
                  <a:pt x="1031" y="2"/>
                </a:lnTo>
                <a:lnTo>
                  <a:pt x="1033" y="2"/>
                </a:lnTo>
                <a:lnTo>
                  <a:pt x="1037" y="0"/>
                </a:lnTo>
                <a:lnTo>
                  <a:pt x="1041" y="0"/>
                </a:lnTo>
                <a:lnTo>
                  <a:pt x="1048" y="0"/>
                </a:lnTo>
                <a:lnTo>
                  <a:pt x="1056" y="2"/>
                </a:lnTo>
                <a:lnTo>
                  <a:pt x="1066" y="3"/>
                </a:lnTo>
                <a:lnTo>
                  <a:pt x="1077" y="7"/>
                </a:lnTo>
                <a:lnTo>
                  <a:pt x="1091" y="13"/>
                </a:lnTo>
                <a:lnTo>
                  <a:pt x="1104" y="17"/>
                </a:lnTo>
                <a:lnTo>
                  <a:pt x="1117" y="26"/>
                </a:lnTo>
                <a:lnTo>
                  <a:pt x="1129" y="36"/>
                </a:lnTo>
                <a:lnTo>
                  <a:pt x="1140" y="46"/>
                </a:lnTo>
                <a:lnTo>
                  <a:pt x="1154" y="57"/>
                </a:lnTo>
                <a:lnTo>
                  <a:pt x="1165" y="67"/>
                </a:lnTo>
                <a:lnTo>
                  <a:pt x="1177" y="80"/>
                </a:lnTo>
                <a:lnTo>
                  <a:pt x="1190" y="92"/>
                </a:lnTo>
                <a:lnTo>
                  <a:pt x="1204" y="105"/>
                </a:lnTo>
                <a:lnTo>
                  <a:pt x="1210" y="113"/>
                </a:lnTo>
                <a:lnTo>
                  <a:pt x="1215" y="119"/>
                </a:lnTo>
                <a:lnTo>
                  <a:pt x="1221" y="126"/>
                </a:lnTo>
                <a:lnTo>
                  <a:pt x="1227" y="132"/>
                </a:lnTo>
                <a:lnTo>
                  <a:pt x="1231" y="138"/>
                </a:lnTo>
                <a:lnTo>
                  <a:pt x="1235" y="144"/>
                </a:lnTo>
                <a:lnTo>
                  <a:pt x="1242" y="155"/>
                </a:lnTo>
                <a:lnTo>
                  <a:pt x="1248" y="165"/>
                </a:lnTo>
                <a:lnTo>
                  <a:pt x="1250" y="176"/>
                </a:lnTo>
                <a:lnTo>
                  <a:pt x="1252" y="186"/>
                </a:lnTo>
                <a:lnTo>
                  <a:pt x="1254" y="195"/>
                </a:lnTo>
                <a:lnTo>
                  <a:pt x="1250" y="203"/>
                </a:lnTo>
                <a:lnTo>
                  <a:pt x="1246" y="211"/>
                </a:lnTo>
                <a:lnTo>
                  <a:pt x="1240" y="220"/>
                </a:lnTo>
                <a:lnTo>
                  <a:pt x="1235" y="232"/>
                </a:lnTo>
                <a:lnTo>
                  <a:pt x="1227" y="245"/>
                </a:lnTo>
                <a:lnTo>
                  <a:pt x="1217" y="259"/>
                </a:lnTo>
                <a:lnTo>
                  <a:pt x="1208" y="274"/>
                </a:lnTo>
                <a:lnTo>
                  <a:pt x="1196" y="291"/>
                </a:lnTo>
                <a:lnTo>
                  <a:pt x="1185" y="309"/>
                </a:lnTo>
                <a:lnTo>
                  <a:pt x="1171" y="328"/>
                </a:lnTo>
                <a:lnTo>
                  <a:pt x="1156" y="349"/>
                </a:lnTo>
                <a:lnTo>
                  <a:pt x="1140" y="370"/>
                </a:lnTo>
                <a:lnTo>
                  <a:pt x="1123" y="393"/>
                </a:lnTo>
                <a:lnTo>
                  <a:pt x="1106" y="418"/>
                </a:lnTo>
                <a:lnTo>
                  <a:pt x="1087" y="445"/>
                </a:lnTo>
                <a:lnTo>
                  <a:pt x="1066" y="474"/>
                </a:lnTo>
                <a:lnTo>
                  <a:pt x="1045" y="503"/>
                </a:lnTo>
                <a:lnTo>
                  <a:pt x="1023" y="529"/>
                </a:lnTo>
                <a:lnTo>
                  <a:pt x="1002" y="556"/>
                </a:lnTo>
                <a:lnTo>
                  <a:pt x="979" y="583"/>
                </a:lnTo>
                <a:lnTo>
                  <a:pt x="956" y="608"/>
                </a:lnTo>
                <a:lnTo>
                  <a:pt x="933" y="633"/>
                </a:lnTo>
                <a:lnTo>
                  <a:pt x="910" y="658"/>
                </a:lnTo>
                <a:lnTo>
                  <a:pt x="887" y="683"/>
                </a:lnTo>
                <a:lnTo>
                  <a:pt x="864" y="706"/>
                </a:lnTo>
                <a:lnTo>
                  <a:pt x="839" y="729"/>
                </a:lnTo>
                <a:lnTo>
                  <a:pt x="816" y="750"/>
                </a:lnTo>
                <a:lnTo>
                  <a:pt x="791" y="771"/>
                </a:lnTo>
                <a:lnTo>
                  <a:pt x="766" y="792"/>
                </a:lnTo>
                <a:lnTo>
                  <a:pt x="741" y="813"/>
                </a:lnTo>
                <a:lnTo>
                  <a:pt x="716" y="835"/>
                </a:lnTo>
                <a:lnTo>
                  <a:pt x="691" y="854"/>
                </a:lnTo>
                <a:lnTo>
                  <a:pt x="664" y="873"/>
                </a:lnTo>
                <a:lnTo>
                  <a:pt x="638" y="890"/>
                </a:lnTo>
                <a:lnTo>
                  <a:pt x="613" y="908"/>
                </a:lnTo>
                <a:lnTo>
                  <a:pt x="586" y="925"/>
                </a:lnTo>
                <a:lnTo>
                  <a:pt x="559" y="942"/>
                </a:lnTo>
                <a:lnTo>
                  <a:pt x="532" y="957"/>
                </a:lnTo>
                <a:lnTo>
                  <a:pt x="503" y="973"/>
                </a:lnTo>
                <a:lnTo>
                  <a:pt x="476" y="986"/>
                </a:lnTo>
                <a:lnTo>
                  <a:pt x="449" y="1000"/>
                </a:lnTo>
                <a:lnTo>
                  <a:pt x="421" y="1013"/>
                </a:lnTo>
                <a:lnTo>
                  <a:pt x="394" y="1027"/>
                </a:lnTo>
                <a:lnTo>
                  <a:pt x="365" y="1038"/>
                </a:lnTo>
                <a:lnTo>
                  <a:pt x="336" y="1050"/>
                </a:lnTo>
                <a:lnTo>
                  <a:pt x="309" y="1061"/>
                </a:lnTo>
                <a:lnTo>
                  <a:pt x="281" y="1071"/>
                </a:lnTo>
                <a:lnTo>
                  <a:pt x="254" y="1082"/>
                </a:lnTo>
                <a:lnTo>
                  <a:pt x="238" y="1084"/>
                </a:lnTo>
                <a:lnTo>
                  <a:pt x="223" y="1088"/>
                </a:lnTo>
                <a:lnTo>
                  <a:pt x="210" y="1092"/>
                </a:lnTo>
                <a:lnTo>
                  <a:pt x="196" y="1094"/>
                </a:lnTo>
                <a:lnTo>
                  <a:pt x="183" y="1098"/>
                </a:lnTo>
                <a:lnTo>
                  <a:pt x="171" y="1099"/>
                </a:lnTo>
                <a:lnTo>
                  <a:pt x="158" y="1103"/>
                </a:lnTo>
                <a:lnTo>
                  <a:pt x="146" y="1105"/>
                </a:lnTo>
                <a:lnTo>
                  <a:pt x="125" y="1109"/>
                </a:lnTo>
                <a:lnTo>
                  <a:pt x="106" y="1113"/>
                </a:lnTo>
                <a:lnTo>
                  <a:pt x="87" y="1117"/>
                </a:lnTo>
                <a:lnTo>
                  <a:pt x="71" y="1121"/>
                </a:lnTo>
                <a:lnTo>
                  <a:pt x="56" y="1122"/>
                </a:lnTo>
                <a:lnTo>
                  <a:pt x="45" y="1122"/>
                </a:lnTo>
                <a:lnTo>
                  <a:pt x="33" y="1124"/>
                </a:lnTo>
                <a:lnTo>
                  <a:pt x="23" y="1124"/>
                </a:lnTo>
                <a:lnTo>
                  <a:pt x="16" y="1124"/>
                </a:lnTo>
                <a:lnTo>
                  <a:pt x="10" y="1122"/>
                </a:lnTo>
                <a:lnTo>
                  <a:pt x="6" y="1122"/>
                </a:lnTo>
                <a:lnTo>
                  <a:pt x="2" y="1121"/>
                </a:lnTo>
                <a:lnTo>
                  <a:pt x="2" y="1119"/>
                </a:lnTo>
                <a:lnTo>
                  <a:pt x="0" y="1117"/>
                </a:lnTo>
                <a:lnTo>
                  <a:pt x="0" y="1115"/>
                </a:lnTo>
                <a:lnTo>
                  <a:pt x="2" y="1113"/>
                </a:lnTo>
                <a:lnTo>
                  <a:pt x="2" y="1111"/>
                </a:lnTo>
                <a:lnTo>
                  <a:pt x="4" y="1109"/>
                </a:lnTo>
                <a:lnTo>
                  <a:pt x="6" y="1107"/>
                </a:lnTo>
                <a:lnTo>
                  <a:pt x="10" y="1105"/>
                </a:lnTo>
                <a:lnTo>
                  <a:pt x="16" y="1099"/>
                </a:lnTo>
                <a:lnTo>
                  <a:pt x="23" y="1096"/>
                </a:lnTo>
                <a:lnTo>
                  <a:pt x="35" y="1088"/>
                </a:lnTo>
                <a:lnTo>
                  <a:pt x="46" y="1082"/>
                </a:lnTo>
                <a:lnTo>
                  <a:pt x="60" y="1075"/>
                </a:lnTo>
                <a:lnTo>
                  <a:pt x="75" y="1067"/>
                </a:lnTo>
                <a:lnTo>
                  <a:pt x="92" y="1057"/>
                </a:lnTo>
                <a:lnTo>
                  <a:pt x="112" y="1050"/>
                </a:lnTo>
                <a:lnTo>
                  <a:pt x="133" y="1038"/>
                </a:lnTo>
                <a:lnTo>
                  <a:pt x="154" y="1028"/>
                </a:lnTo>
                <a:lnTo>
                  <a:pt x="177" y="1017"/>
                </a:lnTo>
                <a:lnTo>
                  <a:pt x="202" y="10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6"/>
          <p:cNvSpPr/>
          <p:nvPr/>
        </p:nvSpPr>
        <p:spPr>
          <a:xfrm>
            <a:off x="6981840" y="2735280"/>
            <a:ext cx="525600" cy="725400"/>
          </a:xfrm>
          <a:custGeom>
            <a:avLst/>
            <a:gdLst/>
            <a:ahLst/>
            <a:rect l="l" t="t" r="r" b="b"/>
            <a:pathLst>
              <a:path w="662" h="914">
                <a:moveTo>
                  <a:pt x="362" y="38"/>
                </a:moveTo>
                <a:lnTo>
                  <a:pt x="370" y="29"/>
                </a:lnTo>
                <a:lnTo>
                  <a:pt x="380" y="21"/>
                </a:lnTo>
                <a:lnTo>
                  <a:pt x="389" y="15"/>
                </a:lnTo>
                <a:lnTo>
                  <a:pt x="399" y="10"/>
                </a:lnTo>
                <a:lnTo>
                  <a:pt x="408" y="6"/>
                </a:lnTo>
                <a:lnTo>
                  <a:pt x="418" y="2"/>
                </a:lnTo>
                <a:lnTo>
                  <a:pt x="428" y="2"/>
                </a:lnTo>
                <a:lnTo>
                  <a:pt x="437" y="0"/>
                </a:lnTo>
                <a:lnTo>
                  <a:pt x="439" y="4"/>
                </a:lnTo>
                <a:lnTo>
                  <a:pt x="443" y="6"/>
                </a:lnTo>
                <a:lnTo>
                  <a:pt x="447" y="8"/>
                </a:lnTo>
                <a:lnTo>
                  <a:pt x="452" y="10"/>
                </a:lnTo>
                <a:lnTo>
                  <a:pt x="458" y="13"/>
                </a:lnTo>
                <a:lnTo>
                  <a:pt x="464" y="15"/>
                </a:lnTo>
                <a:lnTo>
                  <a:pt x="472" y="19"/>
                </a:lnTo>
                <a:lnTo>
                  <a:pt x="479" y="23"/>
                </a:lnTo>
                <a:lnTo>
                  <a:pt x="489" y="27"/>
                </a:lnTo>
                <a:lnTo>
                  <a:pt x="499" y="31"/>
                </a:lnTo>
                <a:lnTo>
                  <a:pt x="508" y="34"/>
                </a:lnTo>
                <a:lnTo>
                  <a:pt x="518" y="40"/>
                </a:lnTo>
                <a:lnTo>
                  <a:pt x="527" y="44"/>
                </a:lnTo>
                <a:lnTo>
                  <a:pt x="539" y="50"/>
                </a:lnTo>
                <a:lnTo>
                  <a:pt x="550" y="58"/>
                </a:lnTo>
                <a:lnTo>
                  <a:pt x="562" y="63"/>
                </a:lnTo>
                <a:lnTo>
                  <a:pt x="573" y="71"/>
                </a:lnTo>
                <a:lnTo>
                  <a:pt x="583" y="79"/>
                </a:lnTo>
                <a:lnTo>
                  <a:pt x="593" y="86"/>
                </a:lnTo>
                <a:lnTo>
                  <a:pt x="602" y="92"/>
                </a:lnTo>
                <a:lnTo>
                  <a:pt x="610" y="100"/>
                </a:lnTo>
                <a:lnTo>
                  <a:pt x="618" y="106"/>
                </a:lnTo>
                <a:lnTo>
                  <a:pt x="623" y="113"/>
                </a:lnTo>
                <a:lnTo>
                  <a:pt x="631" y="119"/>
                </a:lnTo>
                <a:lnTo>
                  <a:pt x="635" y="127"/>
                </a:lnTo>
                <a:lnTo>
                  <a:pt x="641" y="132"/>
                </a:lnTo>
                <a:lnTo>
                  <a:pt x="644" y="138"/>
                </a:lnTo>
                <a:lnTo>
                  <a:pt x="650" y="144"/>
                </a:lnTo>
                <a:lnTo>
                  <a:pt x="656" y="155"/>
                </a:lnTo>
                <a:lnTo>
                  <a:pt x="662" y="165"/>
                </a:lnTo>
                <a:lnTo>
                  <a:pt x="662" y="171"/>
                </a:lnTo>
                <a:lnTo>
                  <a:pt x="660" y="175"/>
                </a:lnTo>
                <a:lnTo>
                  <a:pt x="658" y="178"/>
                </a:lnTo>
                <a:lnTo>
                  <a:pt x="656" y="184"/>
                </a:lnTo>
                <a:lnTo>
                  <a:pt x="654" y="188"/>
                </a:lnTo>
                <a:lnTo>
                  <a:pt x="652" y="194"/>
                </a:lnTo>
                <a:lnTo>
                  <a:pt x="644" y="203"/>
                </a:lnTo>
                <a:lnTo>
                  <a:pt x="635" y="213"/>
                </a:lnTo>
                <a:lnTo>
                  <a:pt x="625" y="223"/>
                </a:lnTo>
                <a:lnTo>
                  <a:pt x="612" y="232"/>
                </a:lnTo>
                <a:lnTo>
                  <a:pt x="598" y="242"/>
                </a:lnTo>
                <a:lnTo>
                  <a:pt x="593" y="246"/>
                </a:lnTo>
                <a:lnTo>
                  <a:pt x="585" y="253"/>
                </a:lnTo>
                <a:lnTo>
                  <a:pt x="577" y="259"/>
                </a:lnTo>
                <a:lnTo>
                  <a:pt x="572" y="267"/>
                </a:lnTo>
                <a:lnTo>
                  <a:pt x="564" y="276"/>
                </a:lnTo>
                <a:lnTo>
                  <a:pt x="556" y="286"/>
                </a:lnTo>
                <a:lnTo>
                  <a:pt x="548" y="297"/>
                </a:lnTo>
                <a:lnTo>
                  <a:pt x="543" y="309"/>
                </a:lnTo>
                <a:lnTo>
                  <a:pt x="535" y="322"/>
                </a:lnTo>
                <a:lnTo>
                  <a:pt x="527" y="336"/>
                </a:lnTo>
                <a:lnTo>
                  <a:pt x="522" y="351"/>
                </a:lnTo>
                <a:lnTo>
                  <a:pt x="514" y="368"/>
                </a:lnTo>
                <a:lnTo>
                  <a:pt x="506" y="386"/>
                </a:lnTo>
                <a:lnTo>
                  <a:pt x="500" y="403"/>
                </a:lnTo>
                <a:lnTo>
                  <a:pt x="493" y="422"/>
                </a:lnTo>
                <a:lnTo>
                  <a:pt x="487" y="443"/>
                </a:lnTo>
                <a:lnTo>
                  <a:pt x="479" y="466"/>
                </a:lnTo>
                <a:lnTo>
                  <a:pt x="472" y="489"/>
                </a:lnTo>
                <a:lnTo>
                  <a:pt x="464" y="512"/>
                </a:lnTo>
                <a:lnTo>
                  <a:pt x="456" y="537"/>
                </a:lnTo>
                <a:lnTo>
                  <a:pt x="449" y="562"/>
                </a:lnTo>
                <a:lnTo>
                  <a:pt x="441" y="589"/>
                </a:lnTo>
                <a:lnTo>
                  <a:pt x="431" y="616"/>
                </a:lnTo>
                <a:lnTo>
                  <a:pt x="424" y="645"/>
                </a:lnTo>
                <a:lnTo>
                  <a:pt x="416" y="676"/>
                </a:lnTo>
                <a:lnTo>
                  <a:pt x="408" y="706"/>
                </a:lnTo>
                <a:lnTo>
                  <a:pt x="399" y="737"/>
                </a:lnTo>
                <a:lnTo>
                  <a:pt x="391" y="770"/>
                </a:lnTo>
                <a:lnTo>
                  <a:pt x="383" y="804"/>
                </a:lnTo>
                <a:lnTo>
                  <a:pt x="376" y="839"/>
                </a:lnTo>
                <a:lnTo>
                  <a:pt x="368" y="875"/>
                </a:lnTo>
                <a:lnTo>
                  <a:pt x="362" y="914"/>
                </a:lnTo>
                <a:lnTo>
                  <a:pt x="293" y="914"/>
                </a:lnTo>
                <a:lnTo>
                  <a:pt x="224" y="914"/>
                </a:lnTo>
                <a:lnTo>
                  <a:pt x="232" y="871"/>
                </a:lnTo>
                <a:lnTo>
                  <a:pt x="239" y="831"/>
                </a:lnTo>
                <a:lnTo>
                  <a:pt x="247" y="793"/>
                </a:lnTo>
                <a:lnTo>
                  <a:pt x="253" y="756"/>
                </a:lnTo>
                <a:lnTo>
                  <a:pt x="261" y="720"/>
                </a:lnTo>
                <a:lnTo>
                  <a:pt x="266" y="685"/>
                </a:lnTo>
                <a:lnTo>
                  <a:pt x="272" y="651"/>
                </a:lnTo>
                <a:lnTo>
                  <a:pt x="278" y="618"/>
                </a:lnTo>
                <a:lnTo>
                  <a:pt x="282" y="587"/>
                </a:lnTo>
                <a:lnTo>
                  <a:pt x="287" y="557"/>
                </a:lnTo>
                <a:lnTo>
                  <a:pt x="291" y="528"/>
                </a:lnTo>
                <a:lnTo>
                  <a:pt x="297" y="499"/>
                </a:lnTo>
                <a:lnTo>
                  <a:pt x="301" y="474"/>
                </a:lnTo>
                <a:lnTo>
                  <a:pt x="305" y="447"/>
                </a:lnTo>
                <a:lnTo>
                  <a:pt x="307" y="424"/>
                </a:lnTo>
                <a:lnTo>
                  <a:pt x="310" y="401"/>
                </a:lnTo>
                <a:lnTo>
                  <a:pt x="312" y="380"/>
                </a:lnTo>
                <a:lnTo>
                  <a:pt x="316" y="359"/>
                </a:lnTo>
                <a:lnTo>
                  <a:pt x="318" y="340"/>
                </a:lnTo>
                <a:lnTo>
                  <a:pt x="320" y="322"/>
                </a:lnTo>
                <a:lnTo>
                  <a:pt x="322" y="305"/>
                </a:lnTo>
                <a:lnTo>
                  <a:pt x="324" y="290"/>
                </a:lnTo>
                <a:lnTo>
                  <a:pt x="324" y="276"/>
                </a:lnTo>
                <a:lnTo>
                  <a:pt x="326" y="263"/>
                </a:lnTo>
                <a:lnTo>
                  <a:pt x="326" y="251"/>
                </a:lnTo>
                <a:lnTo>
                  <a:pt x="326" y="240"/>
                </a:lnTo>
                <a:lnTo>
                  <a:pt x="326" y="230"/>
                </a:lnTo>
                <a:lnTo>
                  <a:pt x="326" y="223"/>
                </a:lnTo>
                <a:lnTo>
                  <a:pt x="326" y="217"/>
                </a:lnTo>
                <a:lnTo>
                  <a:pt x="326" y="211"/>
                </a:lnTo>
                <a:lnTo>
                  <a:pt x="326" y="207"/>
                </a:lnTo>
                <a:lnTo>
                  <a:pt x="324" y="203"/>
                </a:lnTo>
                <a:lnTo>
                  <a:pt x="314" y="194"/>
                </a:lnTo>
                <a:lnTo>
                  <a:pt x="303" y="186"/>
                </a:lnTo>
                <a:lnTo>
                  <a:pt x="291" y="180"/>
                </a:lnTo>
                <a:lnTo>
                  <a:pt x="278" y="177"/>
                </a:lnTo>
                <a:lnTo>
                  <a:pt x="270" y="175"/>
                </a:lnTo>
                <a:lnTo>
                  <a:pt x="262" y="173"/>
                </a:lnTo>
                <a:lnTo>
                  <a:pt x="255" y="173"/>
                </a:lnTo>
                <a:lnTo>
                  <a:pt x="247" y="173"/>
                </a:lnTo>
                <a:lnTo>
                  <a:pt x="238" y="173"/>
                </a:lnTo>
                <a:lnTo>
                  <a:pt x="230" y="175"/>
                </a:lnTo>
                <a:lnTo>
                  <a:pt x="220" y="177"/>
                </a:lnTo>
                <a:lnTo>
                  <a:pt x="211" y="178"/>
                </a:lnTo>
                <a:lnTo>
                  <a:pt x="193" y="182"/>
                </a:lnTo>
                <a:lnTo>
                  <a:pt x="176" y="188"/>
                </a:lnTo>
                <a:lnTo>
                  <a:pt x="159" y="192"/>
                </a:lnTo>
                <a:lnTo>
                  <a:pt x="143" y="196"/>
                </a:lnTo>
                <a:lnTo>
                  <a:pt x="128" y="200"/>
                </a:lnTo>
                <a:lnTo>
                  <a:pt x="115" y="201"/>
                </a:lnTo>
                <a:lnTo>
                  <a:pt x="99" y="203"/>
                </a:lnTo>
                <a:lnTo>
                  <a:pt x="86" y="203"/>
                </a:lnTo>
                <a:lnTo>
                  <a:pt x="80" y="203"/>
                </a:lnTo>
                <a:lnTo>
                  <a:pt x="72" y="203"/>
                </a:lnTo>
                <a:lnTo>
                  <a:pt x="67" y="201"/>
                </a:lnTo>
                <a:lnTo>
                  <a:pt x="63" y="201"/>
                </a:lnTo>
                <a:lnTo>
                  <a:pt x="53" y="200"/>
                </a:lnTo>
                <a:lnTo>
                  <a:pt x="46" y="196"/>
                </a:lnTo>
                <a:lnTo>
                  <a:pt x="40" y="192"/>
                </a:lnTo>
                <a:lnTo>
                  <a:pt x="34" y="188"/>
                </a:lnTo>
                <a:lnTo>
                  <a:pt x="28" y="182"/>
                </a:lnTo>
                <a:lnTo>
                  <a:pt x="24" y="178"/>
                </a:lnTo>
                <a:lnTo>
                  <a:pt x="19" y="175"/>
                </a:lnTo>
                <a:lnTo>
                  <a:pt x="15" y="171"/>
                </a:lnTo>
                <a:lnTo>
                  <a:pt x="11" y="167"/>
                </a:lnTo>
                <a:lnTo>
                  <a:pt x="7" y="165"/>
                </a:lnTo>
                <a:lnTo>
                  <a:pt x="3" y="163"/>
                </a:lnTo>
                <a:lnTo>
                  <a:pt x="1" y="159"/>
                </a:lnTo>
                <a:lnTo>
                  <a:pt x="0" y="157"/>
                </a:lnTo>
                <a:lnTo>
                  <a:pt x="0" y="153"/>
                </a:lnTo>
                <a:lnTo>
                  <a:pt x="0" y="150"/>
                </a:lnTo>
                <a:lnTo>
                  <a:pt x="1" y="148"/>
                </a:lnTo>
                <a:lnTo>
                  <a:pt x="3" y="146"/>
                </a:lnTo>
                <a:lnTo>
                  <a:pt x="9" y="144"/>
                </a:lnTo>
                <a:lnTo>
                  <a:pt x="13" y="140"/>
                </a:lnTo>
                <a:lnTo>
                  <a:pt x="21" y="138"/>
                </a:lnTo>
                <a:lnTo>
                  <a:pt x="28" y="134"/>
                </a:lnTo>
                <a:lnTo>
                  <a:pt x="38" y="132"/>
                </a:lnTo>
                <a:lnTo>
                  <a:pt x="47" y="129"/>
                </a:lnTo>
                <a:lnTo>
                  <a:pt x="61" y="127"/>
                </a:lnTo>
                <a:lnTo>
                  <a:pt x="74" y="123"/>
                </a:lnTo>
                <a:lnTo>
                  <a:pt x="88" y="119"/>
                </a:lnTo>
                <a:lnTo>
                  <a:pt x="105" y="115"/>
                </a:lnTo>
                <a:lnTo>
                  <a:pt x="122" y="111"/>
                </a:lnTo>
                <a:lnTo>
                  <a:pt x="142" y="106"/>
                </a:lnTo>
                <a:lnTo>
                  <a:pt x="161" y="102"/>
                </a:lnTo>
                <a:lnTo>
                  <a:pt x="182" y="98"/>
                </a:lnTo>
                <a:lnTo>
                  <a:pt x="201" y="92"/>
                </a:lnTo>
                <a:lnTo>
                  <a:pt x="220" y="88"/>
                </a:lnTo>
                <a:lnTo>
                  <a:pt x="236" y="82"/>
                </a:lnTo>
                <a:lnTo>
                  <a:pt x="253" y="79"/>
                </a:lnTo>
                <a:lnTo>
                  <a:pt x="268" y="75"/>
                </a:lnTo>
                <a:lnTo>
                  <a:pt x="282" y="69"/>
                </a:lnTo>
                <a:lnTo>
                  <a:pt x="293" y="65"/>
                </a:lnTo>
                <a:lnTo>
                  <a:pt x="307" y="61"/>
                </a:lnTo>
                <a:lnTo>
                  <a:pt x="316" y="58"/>
                </a:lnTo>
                <a:lnTo>
                  <a:pt x="326" y="54"/>
                </a:lnTo>
                <a:lnTo>
                  <a:pt x="335" y="50"/>
                </a:lnTo>
                <a:lnTo>
                  <a:pt x="343" y="46"/>
                </a:lnTo>
                <a:lnTo>
                  <a:pt x="351" y="44"/>
                </a:lnTo>
                <a:lnTo>
                  <a:pt x="357" y="40"/>
                </a:lnTo>
                <a:lnTo>
                  <a:pt x="362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7"/>
          <p:cNvSpPr/>
          <p:nvPr/>
        </p:nvSpPr>
        <p:spPr>
          <a:xfrm>
            <a:off x="6907320" y="3430440"/>
            <a:ext cx="422280" cy="119160"/>
          </a:xfrm>
          <a:custGeom>
            <a:avLst/>
            <a:gdLst/>
            <a:ahLst/>
            <a:rect l="l" t="t" r="r" b="b"/>
            <a:pathLst>
              <a:path w="532" h="152">
                <a:moveTo>
                  <a:pt x="106" y="152"/>
                </a:moveTo>
                <a:lnTo>
                  <a:pt x="96" y="152"/>
                </a:lnTo>
                <a:lnTo>
                  <a:pt x="87" y="150"/>
                </a:lnTo>
                <a:lnTo>
                  <a:pt x="77" y="146"/>
                </a:lnTo>
                <a:lnTo>
                  <a:pt x="68" y="140"/>
                </a:lnTo>
                <a:lnTo>
                  <a:pt x="64" y="138"/>
                </a:lnTo>
                <a:lnTo>
                  <a:pt x="60" y="135"/>
                </a:lnTo>
                <a:lnTo>
                  <a:pt x="54" y="131"/>
                </a:lnTo>
                <a:lnTo>
                  <a:pt x="50" y="125"/>
                </a:lnTo>
                <a:lnTo>
                  <a:pt x="45" y="119"/>
                </a:lnTo>
                <a:lnTo>
                  <a:pt x="41" y="113"/>
                </a:lnTo>
                <a:lnTo>
                  <a:pt x="35" y="108"/>
                </a:lnTo>
                <a:lnTo>
                  <a:pt x="31" y="102"/>
                </a:lnTo>
                <a:lnTo>
                  <a:pt x="27" y="94"/>
                </a:lnTo>
                <a:lnTo>
                  <a:pt x="22" y="89"/>
                </a:lnTo>
                <a:lnTo>
                  <a:pt x="18" y="83"/>
                </a:lnTo>
                <a:lnTo>
                  <a:pt x="16" y="77"/>
                </a:lnTo>
                <a:lnTo>
                  <a:pt x="8" y="67"/>
                </a:lnTo>
                <a:lnTo>
                  <a:pt x="4" y="60"/>
                </a:lnTo>
                <a:lnTo>
                  <a:pt x="2" y="54"/>
                </a:lnTo>
                <a:lnTo>
                  <a:pt x="2" y="50"/>
                </a:lnTo>
                <a:lnTo>
                  <a:pt x="0" y="48"/>
                </a:lnTo>
                <a:lnTo>
                  <a:pt x="2" y="44"/>
                </a:lnTo>
                <a:lnTo>
                  <a:pt x="2" y="42"/>
                </a:lnTo>
                <a:lnTo>
                  <a:pt x="4" y="41"/>
                </a:lnTo>
                <a:lnTo>
                  <a:pt x="6" y="39"/>
                </a:lnTo>
                <a:lnTo>
                  <a:pt x="8" y="39"/>
                </a:lnTo>
                <a:lnTo>
                  <a:pt x="8" y="37"/>
                </a:lnTo>
                <a:lnTo>
                  <a:pt x="10" y="37"/>
                </a:lnTo>
                <a:lnTo>
                  <a:pt x="14" y="37"/>
                </a:lnTo>
                <a:lnTo>
                  <a:pt x="16" y="37"/>
                </a:lnTo>
                <a:lnTo>
                  <a:pt x="23" y="37"/>
                </a:lnTo>
                <a:lnTo>
                  <a:pt x="33" y="35"/>
                </a:lnTo>
                <a:lnTo>
                  <a:pt x="43" y="33"/>
                </a:lnTo>
                <a:lnTo>
                  <a:pt x="56" y="29"/>
                </a:lnTo>
                <a:lnTo>
                  <a:pt x="70" y="25"/>
                </a:lnTo>
                <a:lnTo>
                  <a:pt x="75" y="23"/>
                </a:lnTo>
                <a:lnTo>
                  <a:pt x="85" y="21"/>
                </a:lnTo>
                <a:lnTo>
                  <a:pt x="95" y="19"/>
                </a:lnTo>
                <a:lnTo>
                  <a:pt x="106" y="17"/>
                </a:lnTo>
                <a:lnTo>
                  <a:pt x="118" y="16"/>
                </a:lnTo>
                <a:lnTo>
                  <a:pt x="133" y="16"/>
                </a:lnTo>
                <a:lnTo>
                  <a:pt x="146" y="14"/>
                </a:lnTo>
                <a:lnTo>
                  <a:pt x="162" y="12"/>
                </a:lnTo>
                <a:lnTo>
                  <a:pt x="179" y="12"/>
                </a:lnTo>
                <a:lnTo>
                  <a:pt x="198" y="10"/>
                </a:lnTo>
                <a:lnTo>
                  <a:pt x="217" y="8"/>
                </a:lnTo>
                <a:lnTo>
                  <a:pt x="237" y="8"/>
                </a:lnTo>
                <a:lnTo>
                  <a:pt x="260" y="6"/>
                </a:lnTo>
                <a:lnTo>
                  <a:pt x="283" y="4"/>
                </a:lnTo>
                <a:lnTo>
                  <a:pt x="306" y="2"/>
                </a:lnTo>
                <a:lnTo>
                  <a:pt x="331" y="0"/>
                </a:lnTo>
                <a:lnTo>
                  <a:pt x="356" y="0"/>
                </a:lnTo>
                <a:lnTo>
                  <a:pt x="379" y="0"/>
                </a:lnTo>
                <a:lnTo>
                  <a:pt x="402" y="0"/>
                </a:lnTo>
                <a:lnTo>
                  <a:pt x="421" y="2"/>
                </a:lnTo>
                <a:lnTo>
                  <a:pt x="438" y="4"/>
                </a:lnTo>
                <a:lnTo>
                  <a:pt x="455" y="6"/>
                </a:lnTo>
                <a:lnTo>
                  <a:pt x="469" y="8"/>
                </a:lnTo>
                <a:lnTo>
                  <a:pt x="482" y="10"/>
                </a:lnTo>
                <a:lnTo>
                  <a:pt x="494" y="12"/>
                </a:lnTo>
                <a:lnTo>
                  <a:pt x="503" y="16"/>
                </a:lnTo>
                <a:lnTo>
                  <a:pt x="513" y="17"/>
                </a:lnTo>
                <a:lnTo>
                  <a:pt x="519" y="21"/>
                </a:lnTo>
                <a:lnTo>
                  <a:pt x="524" y="25"/>
                </a:lnTo>
                <a:lnTo>
                  <a:pt x="528" y="29"/>
                </a:lnTo>
                <a:lnTo>
                  <a:pt x="530" y="33"/>
                </a:lnTo>
                <a:lnTo>
                  <a:pt x="532" y="39"/>
                </a:lnTo>
                <a:lnTo>
                  <a:pt x="530" y="44"/>
                </a:lnTo>
                <a:lnTo>
                  <a:pt x="528" y="52"/>
                </a:lnTo>
                <a:lnTo>
                  <a:pt x="524" y="58"/>
                </a:lnTo>
                <a:lnTo>
                  <a:pt x="519" y="64"/>
                </a:lnTo>
                <a:lnTo>
                  <a:pt x="513" y="69"/>
                </a:lnTo>
                <a:lnTo>
                  <a:pt x="505" y="75"/>
                </a:lnTo>
                <a:lnTo>
                  <a:pt x="496" y="81"/>
                </a:lnTo>
                <a:lnTo>
                  <a:pt x="484" y="85"/>
                </a:lnTo>
                <a:lnTo>
                  <a:pt x="473" y="90"/>
                </a:lnTo>
                <a:lnTo>
                  <a:pt x="457" y="94"/>
                </a:lnTo>
                <a:lnTo>
                  <a:pt x="442" y="98"/>
                </a:lnTo>
                <a:lnTo>
                  <a:pt x="427" y="102"/>
                </a:lnTo>
                <a:lnTo>
                  <a:pt x="407" y="106"/>
                </a:lnTo>
                <a:lnTo>
                  <a:pt x="388" y="108"/>
                </a:lnTo>
                <a:lnTo>
                  <a:pt x="367" y="112"/>
                </a:lnTo>
                <a:lnTo>
                  <a:pt x="344" y="113"/>
                </a:lnTo>
                <a:lnTo>
                  <a:pt x="319" y="119"/>
                </a:lnTo>
                <a:lnTo>
                  <a:pt x="294" y="123"/>
                </a:lnTo>
                <a:lnTo>
                  <a:pt x="273" y="127"/>
                </a:lnTo>
                <a:lnTo>
                  <a:pt x="252" y="131"/>
                </a:lnTo>
                <a:lnTo>
                  <a:pt x="233" y="135"/>
                </a:lnTo>
                <a:lnTo>
                  <a:pt x="215" y="136"/>
                </a:lnTo>
                <a:lnTo>
                  <a:pt x="198" y="140"/>
                </a:lnTo>
                <a:lnTo>
                  <a:pt x="183" y="142"/>
                </a:lnTo>
                <a:lnTo>
                  <a:pt x="169" y="144"/>
                </a:lnTo>
                <a:lnTo>
                  <a:pt x="156" y="146"/>
                </a:lnTo>
                <a:lnTo>
                  <a:pt x="144" y="148"/>
                </a:lnTo>
                <a:lnTo>
                  <a:pt x="135" y="150"/>
                </a:lnTo>
                <a:lnTo>
                  <a:pt x="125" y="150"/>
                </a:lnTo>
                <a:lnTo>
                  <a:pt x="118" y="152"/>
                </a:lnTo>
                <a:lnTo>
                  <a:pt x="112" y="152"/>
                </a:lnTo>
                <a:lnTo>
                  <a:pt x="106" y="1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118"/>
          <p:cNvSpPr/>
          <p:nvPr/>
        </p:nvSpPr>
        <p:spPr>
          <a:xfrm>
            <a:off x="6365880" y="2714760"/>
            <a:ext cx="549360" cy="904680"/>
          </a:xfrm>
          <a:custGeom>
            <a:avLst/>
            <a:gdLst/>
            <a:ahLst/>
            <a:rect l="l" t="t" r="r" b="b"/>
            <a:pathLst>
              <a:path w="693" h="1138">
                <a:moveTo>
                  <a:pt x="413" y="25"/>
                </a:moveTo>
                <a:lnTo>
                  <a:pt x="417" y="21"/>
                </a:lnTo>
                <a:lnTo>
                  <a:pt x="424" y="15"/>
                </a:lnTo>
                <a:lnTo>
                  <a:pt x="430" y="11"/>
                </a:lnTo>
                <a:lnTo>
                  <a:pt x="438" y="8"/>
                </a:lnTo>
                <a:lnTo>
                  <a:pt x="447" y="4"/>
                </a:lnTo>
                <a:lnTo>
                  <a:pt x="455" y="2"/>
                </a:lnTo>
                <a:lnTo>
                  <a:pt x="465" y="0"/>
                </a:lnTo>
                <a:lnTo>
                  <a:pt x="474" y="0"/>
                </a:lnTo>
                <a:lnTo>
                  <a:pt x="476" y="0"/>
                </a:lnTo>
                <a:lnTo>
                  <a:pt x="480" y="0"/>
                </a:lnTo>
                <a:lnTo>
                  <a:pt x="484" y="2"/>
                </a:lnTo>
                <a:lnTo>
                  <a:pt x="488" y="2"/>
                </a:lnTo>
                <a:lnTo>
                  <a:pt x="493" y="4"/>
                </a:lnTo>
                <a:lnTo>
                  <a:pt x="499" y="6"/>
                </a:lnTo>
                <a:lnTo>
                  <a:pt x="505" y="8"/>
                </a:lnTo>
                <a:lnTo>
                  <a:pt x="513" y="10"/>
                </a:lnTo>
                <a:lnTo>
                  <a:pt x="518" y="11"/>
                </a:lnTo>
                <a:lnTo>
                  <a:pt x="528" y="15"/>
                </a:lnTo>
                <a:lnTo>
                  <a:pt x="536" y="17"/>
                </a:lnTo>
                <a:lnTo>
                  <a:pt x="545" y="21"/>
                </a:lnTo>
                <a:lnTo>
                  <a:pt x="555" y="25"/>
                </a:lnTo>
                <a:lnTo>
                  <a:pt x="564" y="29"/>
                </a:lnTo>
                <a:lnTo>
                  <a:pt x="576" y="35"/>
                </a:lnTo>
                <a:lnTo>
                  <a:pt x="587" y="38"/>
                </a:lnTo>
                <a:lnTo>
                  <a:pt x="599" y="46"/>
                </a:lnTo>
                <a:lnTo>
                  <a:pt x="609" y="52"/>
                </a:lnTo>
                <a:lnTo>
                  <a:pt x="618" y="59"/>
                </a:lnTo>
                <a:lnTo>
                  <a:pt x="628" y="65"/>
                </a:lnTo>
                <a:lnTo>
                  <a:pt x="635" y="71"/>
                </a:lnTo>
                <a:lnTo>
                  <a:pt x="643" y="77"/>
                </a:lnTo>
                <a:lnTo>
                  <a:pt x="649" y="81"/>
                </a:lnTo>
                <a:lnTo>
                  <a:pt x="657" y="86"/>
                </a:lnTo>
                <a:lnTo>
                  <a:pt x="662" y="90"/>
                </a:lnTo>
                <a:lnTo>
                  <a:pt x="666" y="94"/>
                </a:lnTo>
                <a:lnTo>
                  <a:pt x="672" y="98"/>
                </a:lnTo>
                <a:lnTo>
                  <a:pt x="676" y="102"/>
                </a:lnTo>
                <a:lnTo>
                  <a:pt x="681" y="109"/>
                </a:lnTo>
                <a:lnTo>
                  <a:pt x="687" y="115"/>
                </a:lnTo>
                <a:lnTo>
                  <a:pt x="689" y="119"/>
                </a:lnTo>
                <a:lnTo>
                  <a:pt x="691" y="123"/>
                </a:lnTo>
                <a:lnTo>
                  <a:pt x="691" y="129"/>
                </a:lnTo>
                <a:lnTo>
                  <a:pt x="693" y="132"/>
                </a:lnTo>
                <a:lnTo>
                  <a:pt x="691" y="142"/>
                </a:lnTo>
                <a:lnTo>
                  <a:pt x="689" y="150"/>
                </a:lnTo>
                <a:lnTo>
                  <a:pt x="687" y="159"/>
                </a:lnTo>
                <a:lnTo>
                  <a:pt x="683" y="165"/>
                </a:lnTo>
                <a:lnTo>
                  <a:pt x="680" y="173"/>
                </a:lnTo>
                <a:lnTo>
                  <a:pt x="674" y="178"/>
                </a:lnTo>
                <a:lnTo>
                  <a:pt x="670" y="182"/>
                </a:lnTo>
                <a:lnTo>
                  <a:pt x="666" y="188"/>
                </a:lnTo>
                <a:lnTo>
                  <a:pt x="662" y="196"/>
                </a:lnTo>
                <a:lnTo>
                  <a:pt x="658" y="203"/>
                </a:lnTo>
                <a:lnTo>
                  <a:pt x="655" y="213"/>
                </a:lnTo>
                <a:lnTo>
                  <a:pt x="651" y="223"/>
                </a:lnTo>
                <a:lnTo>
                  <a:pt x="649" y="234"/>
                </a:lnTo>
                <a:lnTo>
                  <a:pt x="645" y="246"/>
                </a:lnTo>
                <a:lnTo>
                  <a:pt x="641" y="259"/>
                </a:lnTo>
                <a:lnTo>
                  <a:pt x="639" y="273"/>
                </a:lnTo>
                <a:lnTo>
                  <a:pt x="637" y="288"/>
                </a:lnTo>
                <a:lnTo>
                  <a:pt x="633" y="305"/>
                </a:lnTo>
                <a:lnTo>
                  <a:pt x="632" y="322"/>
                </a:lnTo>
                <a:lnTo>
                  <a:pt x="630" y="340"/>
                </a:lnTo>
                <a:lnTo>
                  <a:pt x="626" y="359"/>
                </a:lnTo>
                <a:lnTo>
                  <a:pt x="624" y="380"/>
                </a:lnTo>
                <a:lnTo>
                  <a:pt x="622" y="401"/>
                </a:lnTo>
                <a:lnTo>
                  <a:pt x="620" y="422"/>
                </a:lnTo>
                <a:lnTo>
                  <a:pt x="618" y="441"/>
                </a:lnTo>
                <a:lnTo>
                  <a:pt x="616" y="461"/>
                </a:lnTo>
                <a:lnTo>
                  <a:pt x="610" y="499"/>
                </a:lnTo>
                <a:lnTo>
                  <a:pt x="607" y="536"/>
                </a:lnTo>
                <a:lnTo>
                  <a:pt x="605" y="570"/>
                </a:lnTo>
                <a:lnTo>
                  <a:pt x="601" y="605"/>
                </a:lnTo>
                <a:lnTo>
                  <a:pt x="601" y="639"/>
                </a:lnTo>
                <a:lnTo>
                  <a:pt x="599" y="672"/>
                </a:lnTo>
                <a:lnTo>
                  <a:pt x="599" y="706"/>
                </a:lnTo>
                <a:lnTo>
                  <a:pt x="597" y="741"/>
                </a:lnTo>
                <a:lnTo>
                  <a:pt x="595" y="775"/>
                </a:lnTo>
                <a:lnTo>
                  <a:pt x="591" y="812"/>
                </a:lnTo>
                <a:lnTo>
                  <a:pt x="587" y="850"/>
                </a:lnTo>
                <a:lnTo>
                  <a:pt x="584" y="887"/>
                </a:lnTo>
                <a:lnTo>
                  <a:pt x="574" y="964"/>
                </a:lnTo>
                <a:lnTo>
                  <a:pt x="572" y="981"/>
                </a:lnTo>
                <a:lnTo>
                  <a:pt x="570" y="998"/>
                </a:lnTo>
                <a:lnTo>
                  <a:pt x="566" y="1015"/>
                </a:lnTo>
                <a:lnTo>
                  <a:pt x="562" y="1031"/>
                </a:lnTo>
                <a:lnTo>
                  <a:pt x="559" y="1044"/>
                </a:lnTo>
                <a:lnTo>
                  <a:pt x="557" y="1056"/>
                </a:lnTo>
                <a:lnTo>
                  <a:pt x="553" y="1069"/>
                </a:lnTo>
                <a:lnTo>
                  <a:pt x="547" y="1079"/>
                </a:lnTo>
                <a:lnTo>
                  <a:pt x="543" y="1088"/>
                </a:lnTo>
                <a:lnTo>
                  <a:pt x="539" y="1098"/>
                </a:lnTo>
                <a:lnTo>
                  <a:pt x="536" y="1106"/>
                </a:lnTo>
                <a:lnTo>
                  <a:pt x="530" y="1111"/>
                </a:lnTo>
                <a:lnTo>
                  <a:pt x="526" y="1117"/>
                </a:lnTo>
                <a:lnTo>
                  <a:pt x="522" y="1121"/>
                </a:lnTo>
                <a:lnTo>
                  <a:pt x="516" y="1125"/>
                </a:lnTo>
                <a:lnTo>
                  <a:pt x="513" y="1129"/>
                </a:lnTo>
                <a:lnTo>
                  <a:pt x="505" y="1131"/>
                </a:lnTo>
                <a:lnTo>
                  <a:pt x="499" y="1132"/>
                </a:lnTo>
                <a:lnTo>
                  <a:pt x="493" y="1134"/>
                </a:lnTo>
                <a:lnTo>
                  <a:pt x="488" y="1134"/>
                </a:lnTo>
                <a:lnTo>
                  <a:pt x="480" y="1136"/>
                </a:lnTo>
                <a:lnTo>
                  <a:pt x="472" y="1138"/>
                </a:lnTo>
                <a:lnTo>
                  <a:pt x="465" y="1136"/>
                </a:lnTo>
                <a:lnTo>
                  <a:pt x="459" y="1134"/>
                </a:lnTo>
                <a:lnTo>
                  <a:pt x="453" y="1132"/>
                </a:lnTo>
                <a:lnTo>
                  <a:pt x="449" y="1129"/>
                </a:lnTo>
                <a:lnTo>
                  <a:pt x="447" y="1127"/>
                </a:lnTo>
                <a:lnTo>
                  <a:pt x="447" y="1125"/>
                </a:lnTo>
                <a:lnTo>
                  <a:pt x="445" y="1123"/>
                </a:lnTo>
                <a:lnTo>
                  <a:pt x="445" y="1119"/>
                </a:lnTo>
                <a:lnTo>
                  <a:pt x="445" y="1115"/>
                </a:lnTo>
                <a:lnTo>
                  <a:pt x="443" y="1111"/>
                </a:lnTo>
                <a:lnTo>
                  <a:pt x="443" y="1108"/>
                </a:lnTo>
                <a:lnTo>
                  <a:pt x="443" y="1102"/>
                </a:lnTo>
                <a:lnTo>
                  <a:pt x="442" y="1096"/>
                </a:lnTo>
                <a:lnTo>
                  <a:pt x="442" y="1090"/>
                </a:lnTo>
                <a:lnTo>
                  <a:pt x="442" y="1083"/>
                </a:lnTo>
                <a:lnTo>
                  <a:pt x="442" y="1077"/>
                </a:lnTo>
                <a:lnTo>
                  <a:pt x="440" y="1069"/>
                </a:lnTo>
                <a:lnTo>
                  <a:pt x="440" y="1060"/>
                </a:lnTo>
                <a:lnTo>
                  <a:pt x="440" y="1052"/>
                </a:lnTo>
                <a:lnTo>
                  <a:pt x="440" y="1042"/>
                </a:lnTo>
                <a:lnTo>
                  <a:pt x="440" y="1033"/>
                </a:lnTo>
                <a:lnTo>
                  <a:pt x="440" y="1023"/>
                </a:lnTo>
                <a:lnTo>
                  <a:pt x="440" y="1012"/>
                </a:lnTo>
                <a:lnTo>
                  <a:pt x="442" y="1000"/>
                </a:lnTo>
                <a:lnTo>
                  <a:pt x="442" y="989"/>
                </a:lnTo>
                <a:lnTo>
                  <a:pt x="442" y="977"/>
                </a:lnTo>
                <a:lnTo>
                  <a:pt x="442" y="964"/>
                </a:lnTo>
                <a:lnTo>
                  <a:pt x="443" y="950"/>
                </a:lnTo>
                <a:lnTo>
                  <a:pt x="443" y="937"/>
                </a:lnTo>
                <a:lnTo>
                  <a:pt x="443" y="921"/>
                </a:lnTo>
                <a:lnTo>
                  <a:pt x="445" y="906"/>
                </a:lnTo>
                <a:lnTo>
                  <a:pt x="445" y="891"/>
                </a:lnTo>
                <a:lnTo>
                  <a:pt x="445" y="875"/>
                </a:lnTo>
                <a:lnTo>
                  <a:pt x="447" y="858"/>
                </a:lnTo>
                <a:lnTo>
                  <a:pt x="447" y="841"/>
                </a:lnTo>
                <a:lnTo>
                  <a:pt x="449" y="823"/>
                </a:lnTo>
                <a:lnTo>
                  <a:pt x="451" y="789"/>
                </a:lnTo>
                <a:lnTo>
                  <a:pt x="453" y="754"/>
                </a:lnTo>
                <a:lnTo>
                  <a:pt x="455" y="722"/>
                </a:lnTo>
                <a:lnTo>
                  <a:pt x="457" y="689"/>
                </a:lnTo>
                <a:lnTo>
                  <a:pt x="457" y="656"/>
                </a:lnTo>
                <a:lnTo>
                  <a:pt x="459" y="626"/>
                </a:lnTo>
                <a:lnTo>
                  <a:pt x="459" y="595"/>
                </a:lnTo>
                <a:lnTo>
                  <a:pt x="461" y="566"/>
                </a:lnTo>
                <a:lnTo>
                  <a:pt x="461" y="537"/>
                </a:lnTo>
                <a:lnTo>
                  <a:pt x="461" y="509"/>
                </a:lnTo>
                <a:lnTo>
                  <a:pt x="461" y="482"/>
                </a:lnTo>
                <a:lnTo>
                  <a:pt x="461" y="455"/>
                </a:lnTo>
                <a:lnTo>
                  <a:pt x="461" y="430"/>
                </a:lnTo>
                <a:lnTo>
                  <a:pt x="463" y="403"/>
                </a:lnTo>
                <a:lnTo>
                  <a:pt x="463" y="380"/>
                </a:lnTo>
                <a:lnTo>
                  <a:pt x="463" y="355"/>
                </a:lnTo>
                <a:lnTo>
                  <a:pt x="463" y="334"/>
                </a:lnTo>
                <a:lnTo>
                  <a:pt x="463" y="315"/>
                </a:lnTo>
                <a:lnTo>
                  <a:pt x="461" y="296"/>
                </a:lnTo>
                <a:lnTo>
                  <a:pt x="461" y="276"/>
                </a:lnTo>
                <a:lnTo>
                  <a:pt x="461" y="259"/>
                </a:lnTo>
                <a:lnTo>
                  <a:pt x="461" y="244"/>
                </a:lnTo>
                <a:lnTo>
                  <a:pt x="461" y="228"/>
                </a:lnTo>
                <a:lnTo>
                  <a:pt x="461" y="215"/>
                </a:lnTo>
                <a:lnTo>
                  <a:pt x="459" y="203"/>
                </a:lnTo>
                <a:lnTo>
                  <a:pt x="459" y="192"/>
                </a:lnTo>
                <a:lnTo>
                  <a:pt x="457" y="182"/>
                </a:lnTo>
                <a:lnTo>
                  <a:pt x="457" y="173"/>
                </a:lnTo>
                <a:lnTo>
                  <a:pt x="455" y="165"/>
                </a:lnTo>
                <a:lnTo>
                  <a:pt x="453" y="159"/>
                </a:lnTo>
                <a:lnTo>
                  <a:pt x="451" y="155"/>
                </a:lnTo>
                <a:lnTo>
                  <a:pt x="449" y="152"/>
                </a:lnTo>
                <a:lnTo>
                  <a:pt x="447" y="150"/>
                </a:lnTo>
                <a:lnTo>
                  <a:pt x="443" y="148"/>
                </a:lnTo>
                <a:lnTo>
                  <a:pt x="440" y="148"/>
                </a:lnTo>
                <a:lnTo>
                  <a:pt x="436" y="148"/>
                </a:lnTo>
                <a:lnTo>
                  <a:pt x="430" y="148"/>
                </a:lnTo>
                <a:lnTo>
                  <a:pt x="424" y="148"/>
                </a:lnTo>
                <a:lnTo>
                  <a:pt x="417" y="148"/>
                </a:lnTo>
                <a:lnTo>
                  <a:pt x="409" y="150"/>
                </a:lnTo>
                <a:lnTo>
                  <a:pt x="399" y="150"/>
                </a:lnTo>
                <a:lnTo>
                  <a:pt x="390" y="152"/>
                </a:lnTo>
                <a:lnTo>
                  <a:pt x="380" y="154"/>
                </a:lnTo>
                <a:lnTo>
                  <a:pt x="369" y="155"/>
                </a:lnTo>
                <a:lnTo>
                  <a:pt x="355" y="157"/>
                </a:lnTo>
                <a:lnTo>
                  <a:pt x="342" y="161"/>
                </a:lnTo>
                <a:lnTo>
                  <a:pt x="328" y="163"/>
                </a:lnTo>
                <a:lnTo>
                  <a:pt x="313" y="165"/>
                </a:lnTo>
                <a:lnTo>
                  <a:pt x="296" y="167"/>
                </a:lnTo>
                <a:lnTo>
                  <a:pt x="278" y="169"/>
                </a:lnTo>
                <a:lnTo>
                  <a:pt x="261" y="173"/>
                </a:lnTo>
                <a:lnTo>
                  <a:pt x="242" y="175"/>
                </a:lnTo>
                <a:lnTo>
                  <a:pt x="204" y="178"/>
                </a:lnTo>
                <a:lnTo>
                  <a:pt x="165" y="182"/>
                </a:lnTo>
                <a:lnTo>
                  <a:pt x="125" y="186"/>
                </a:lnTo>
                <a:lnTo>
                  <a:pt x="83" y="188"/>
                </a:lnTo>
                <a:lnTo>
                  <a:pt x="42" y="190"/>
                </a:lnTo>
                <a:lnTo>
                  <a:pt x="0" y="190"/>
                </a:lnTo>
                <a:lnTo>
                  <a:pt x="0" y="146"/>
                </a:lnTo>
                <a:lnTo>
                  <a:pt x="0" y="102"/>
                </a:lnTo>
                <a:lnTo>
                  <a:pt x="19" y="102"/>
                </a:lnTo>
                <a:lnTo>
                  <a:pt x="40" y="102"/>
                </a:lnTo>
                <a:lnTo>
                  <a:pt x="60" y="100"/>
                </a:lnTo>
                <a:lnTo>
                  <a:pt x="79" y="100"/>
                </a:lnTo>
                <a:lnTo>
                  <a:pt x="98" y="98"/>
                </a:lnTo>
                <a:lnTo>
                  <a:pt x="115" y="98"/>
                </a:lnTo>
                <a:lnTo>
                  <a:pt x="134" y="96"/>
                </a:lnTo>
                <a:lnTo>
                  <a:pt x="152" y="94"/>
                </a:lnTo>
                <a:lnTo>
                  <a:pt x="184" y="90"/>
                </a:lnTo>
                <a:lnTo>
                  <a:pt x="215" y="86"/>
                </a:lnTo>
                <a:lnTo>
                  <a:pt x="246" y="81"/>
                </a:lnTo>
                <a:lnTo>
                  <a:pt x="275" y="77"/>
                </a:lnTo>
                <a:lnTo>
                  <a:pt x="288" y="73"/>
                </a:lnTo>
                <a:lnTo>
                  <a:pt x="301" y="71"/>
                </a:lnTo>
                <a:lnTo>
                  <a:pt x="313" y="67"/>
                </a:lnTo>
                <a:lnTo>
                  <a:pt x="326" y="65"/>
                </a:lnTo>
                <a:lnTo>
                  <a:pt x="336" y="61"/>
                </a:lnTo>
                <a:lnTo>
                  <a:pt x="347" y="58"/>
                </a:lnTo>
                <a:lnTo>
                  <a:pt x="357" y="54"/>
                </a:lnTo>
                <a:lnTo>
                  <a:pt x="367" y="52"/>
                </a:lnTo>
                <a:lnTo>
                  <a:pt x="374" y="48"/>
                </a:lnTo>
                <a:lnTo>
                  <a:pt x="382" y="44"/>
                </a:lnTo>
                <a:lnTo>
                  <a:pt x="390" y="40"/>
                </a:lnTo>
                <a:lnTo>
                  <a:pt x="395" y="36"/>
                </a:lnTo>
                <a:lnTo>
                  <a:pt x="401" y="35"/>
                </a:lnTo>
                <a:lnTo>
                  <a:pt x="405" y="31"/>
                </a:lnTo>
                <a:lnTo>
                  <a:pt x="409" y="29"/>
                </a:lnTo>
                <a:lnTo>
                  <a:pt x="413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119"/>
          <p:cNvSpPr/>
          <p:nvPr/>
        </p:nvSpPr>
        <p:spPr>
          <a:xfrm>
            <a:off x="6394320" y="3449520"/>
            <a:ext cx="368280" cy="120600"/>
          </a:xfrm>
          <a:custGeom>
            <a:avLst/>
            <a:gdLst/>
            <a:ahLst/>
            <a:rect l="l" t="t" r="r" b="b"/>
            <a:pathLst>
              <a:path w="462" h="152">
                <a:moveTo>
                  <a:pt x="0" y="152"/>
                </a:moveTo>
                <a:lnTo>
                  <a:pt x="0" y="108"/>
                </a:lnTo>
                <a:lnTo>
                  <a:pt x="0" y="64"/>
                </a:lnTo>
                <a:lnTo>
                  <a:pt x="61" y="50"/>
                </a:lnTo>
                <a:lnTo>
                  <a:pt x="119" y="37"/>
                </a:lnTo>
                <a:lnTo>
                  <a:pt x="178" y="27"/>
                </a:lnTo>
                <a:lnTo>
                  <a:pt x="236" y="17"/>
                </a:lnTo>
                <a:lnTo>
                  <a:pt x="264" y="14"/>
                </a:lnTo>
                <a:lnTo>
                  <a:pt x="293" y="10"/>
                </a:lnTo>
                <a:lnTo>
                  <a:pt x="322" y="8"/>
                </a:lnTo>
                <a:lnTo>
                  <a:pt x="349" y="4"/>
                </a:lnTo>
                <a:lnTo>
                  <a:pt x="378" y="2"/>
                </a:lnTo>
                <a:lnTo>
                  <a:pt x="406" y="2"/>
                </a:lnTo>
                <a:lnTo>
                  <a:pt x="435" y="0"/>
                </a:lnTo>
                <a:lnTo>
                  <a:pt x="462" y="0"/>
                </a:lnTo>
                <a:lnTo>
                  <a:pt x="462" y="44"/>
                </a:lnTo>
                <a:lnTo>
                  <a:pt x="462" y="88"/>
                </a:lnTo>
                <a:lnTo>
                  <a:pt x="347" y="106"/>
                </a:lnTo>
                <a:lnTo>
                  <a:pt x="232" y="121"/>
                </a:lnTo>
                <a:lnTo>
                  <a:pt x="115" y="136"/>
                </a:lnTo>
                <a:lnTo>
                  <a:pt x="0" y="1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120"/>
          <p:cNvSpPr/>
          <p:nvPr/>
        </p:nvSpPr>
        <p:spPr>
          <a:xfrm>
            <a:off x="6365880" y="3094200"/>
            <a:ext cx="287280" cy="123840"/>
          </a:xfrm>
          <a:custGeom>
            <a:avLst/>
            <a:gdLst/>
            <a:ahLst/>
            <a:rect l="l" t="t" r="r" b="b"/>
            <a:pathLst>
              <a:path w="363" h="155">
                <a:moveTo>
                  <a:pt x="0" y="81"/>
                </a:moveTo>
                <a:lnTo>
                  <a:pt x="31" y="67"/>
                </a:lnTo>
                <a:lnTo>
                  <a:pt x="61" y="58"/>
                </a:lnTo>
                <a:lnTo>
                  <a:pt x="90" y="48"/>
                </a:lnTo>
                <a:lnTo>
                  <a:pt x="117" y="38"/>
                </a:lnTo>
                <a:lnTo>
                  <a:pt x="142" y="31"/>
                </a:lnTo>
                <a:lnTo>
                  <a:pt x="165" y="25"/>
                </a:lnTo>
                <a:lnTo>
                  <a:pt x="186" y="17"/>
                </a:lnTo>
                <a:lnTo>
                  <a:pt x="207" y="13"/>
                </a:lnTo>
                <a:lnTo>
                  <a:pt x="227" y="8"/>
                </a:lnTo>
                <a:lnTo>
                  <a:pt x="242" y="6"/>
                </a:lnTo>
                <a:lnTo>
                  <a:pt x="257" y="2"/>
                </a:lnTo>
                <a:lnTo>
                  <a:pt x="273" y="2"/>
                </a:lnTo>
                <a:lnTo>
                  <a:pt x="284" y="0"/>
                </a:lnTo>
                <a:lnTo>
                  <a:pt x="296" y="0"/>
                </a:lnTo>
                <a:lnTo>
                  <a:pt x="303" y="2"/>
                </a:lnTo>
                <a:lnTo>
                  <a:pt x="313" y="4"/>
                </a:lnTo>
                <a:lnTo>
                  <a:pt x="319" y="6"/>
                </a:lnTo>
                <a:lnTo>
                  <a:pt x="324" y="10"/>
                </a:lnTo>
                <a:lnTo>
                  <a:pt x="330" y="11"/>
                </a:lnTo>
                <a:lnTo>
                  <a:pt x="336" y="15"/>
                </a:lnTo>
                <a:lnTo>
                  <a:pt x="340" y="19"/>
                </a:lnTo>
                <a:lnTo>
                  <a:pt x="344" y="23"/>
                </a:lnTo>
                <a:lnTo>
                  <a:pt x="351" y="29"/>
                </a:lnTo>
                <a:lnTo>
                  <a:pt x="355" y="36"/>
                </a:lnTo>
                <a:lnTo>
                  <a:pt x="359" y="42"/>
                </a:lnTo>
                <a:lnTo>
                  <a:pt x="361" y="50"/>
                </a:lnTo>
                <a:lnTo>
                  <a:pt x="363" y="54"/>
                </a:lnTo>
                <a:lnTo>
                  <a:pt x="361" y="59"/>
                </a:lnTo>
                <a:lnTo>
                  <a:pt x="361" y="63"/>
                </a:lnTo>
                <a:lnTo>
                  <a:pt x="357" y="69"/>
                </a:lnTo>
                <a:lnTo>
                  <a:pt x="355" y="73"/>
                </a:lnTo>
                <a:lnTo>
                  <a:pt x="351" y="77"/>
                </a:lnTo>
                <a:lnTo>
                  <a:pt x="346" y="82"/>
                </a:lnTo>
                <a:lnTo>
                  <a:pt x="340" y="86"/>
                </a:lnTo>
                <a:lnTo>
                  <a:pt x="334" y="90"/>
                </a:lnTo>
                <a:lnTo>
                  <a:pt x="326" y="94"/>
                </a:lnTo>
                <a:lnTo>
                  <a:pt x="319" y="98"/>
                </a:lnTo>
                <a:lnTo>
                  <a:pt x="309" y="102"/>
                </a:lnTo>
                <a:lnTo>
                  <a:pt x="299" y="106"/>
                </a:lnTo>
                <a:lnTo>
                  <a:pt x="288" y="109"/>
                </a:lnTo>
                <a:lnTo>
                  <a:pt x="276" y="113"/>
                </a:lnTo>
                <a:lnTo>
                  <a:pt x="263" y="115"/>
                </a:lnTo>
                <a:lnTo>
                  <a:pt x="250" y="117"/>
                </a:lnTo>
                <a:lnTo>
                  <a:pt x="221" y="127"/>
                </a:lnTo>
                <a:lnTo>
                  <a:pt x="190" y="134"/>
                </a:lnTo>
                <a:lnTo>
                  <a:pt x="159" y="142"/>
                </a:lnTo>
                <a:lnTo>
                  <a:pt x="129" y="146"/>
                </a:lnTo>
                <a:lnTo>
                  <a:pt x="96" y="152"/>
                </a:lnTo>
                <a:lnTo>
                  <a:pt x="65" y="153"/>
                </a:lnTo>
                <a:lnTo>
                  <a:pt x="33" y="155"/>
                </a:lnTo>
                <a:lnTo>
                  <a:pt x="0" y="155"/>
                </a:lnTo>
                <a:lnTo>
                  <a:pt x="0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121"/>
          <p:cNvSpPr/>
          <p:nvPr/>
        </p:nvSpPr>
        <p:spPr>
          <a:xfrm>
            <a:off x="6265800" y="2786040"/>
            <a:ext cx="168480" cy="814320"/>
          </a:xfrm>
          <a:custGeom>
            <a:avLst/>
            <a:gdLst/>
            <a:ahLst/>
            <a:rect l="l" t="t" r="r" b="b"/>
            <a:pathLst>
              <a:path w="213" h="1027">
                <a:moveTo>
                  <a:pt x="164" y="1027"/>
                </a:moveTo>
                <a:lnTo>
                  <a:pt x="160" y="1027"/>
                </a:lnTo>
                <a:lnTo>
                  <a:pt x="154" y="1025"/>
                </a:lnTo>
                <a:lnTo>
                  <a:pt x="150" y="1023"/>
                </a:lnTo>
                <a:lnTo>
                  <a:pt x="146" y="1020"/>
                </a:lnTo>
                <a:lnTo>
                  <a:pt x="142" y="1016"/>
                </a:lnTo>
                <a:lnTo>
                  <a:pt x="141" y="1010"/>
                </a:lnTo>
                <a:lnTo>
                  <a:pt x="137" y="1004"/>
                </a:lnTo>
                <a:lnTo>
                  <a:pt x="133" y="996"/>
                </a:lnTo>
                <a:lnTo>
                  <a:pt x="131" y="989"/>
                </a:lnTo>
                <a:lnTo>
                  <a:pt x="129" y="979"/>
                </a:lnTo>
                <a:lnTo>
                  <a:pt x="125" y="970"/>
                </a:lnTo>
                <a:lnTo>
                  <a:pt x="123" y="958"/>
                </a:lnTo>
                <a:lnTo>
                  <a:pt x="121" y="945"/>
                </a:lnTo>
                <a:lnTo>
                  <a:pt x="117" y="931"/>
                </a:lnTo>
                <a:lnTo>
                  <a:pt x="116" y="916"/>
                </a:lnTo>
                <a:lnTo>
                  <a:pt x="114" y="901"/>
                </a:lnTo>
                <a:lnTo>
                  <a:pt x="104" y="843"/>
                </a:lnTo>
                <a:lnTo>
                  <a:pt x="100" y="816"/>
                </a:lnTo>
                <a:lnTo>
                  <a:pt x="96" y="787"/>
                </a:lnTo>
                <a:lnTo>
                  <a:pt x="93" y="760"/>
                </a:lnTo>
                <a:lnTo>
                  <a:pt x="91" y="735"/>
                </a:lnTo>
                <a:lnTo>
                  <a:pt x="89" y="709"/>
                </a:lnTo>
                <a:lnTo>
                  <a:pt x="89" y="686"/>
                </a:lnTo>
                <a:lnTo>
                  <a:pt x="89" y="672"/>
                </a:lnTo>
                <a:lnTo>
                  <a:pt x="89" y="659"/>
                </a:lnTo>
                <a:lnTo>
                  <a:pt x="89" y="645"/>
                </a:lnTo>
                <a:lnTo>
                  <a:pt x="89" y="630"/>
                </a:lnTo>
                <a:lnTo>
                  <a:pt x="89" y="615"/>
                </a:lnTo>
                <a:lnTo>
                  <a:pt x="89" y="597"/>
                </a:lnTo>
                <a:lnTo>
                  <a:pt x="87" y="580"/>
                </a:lnTo>
                <a:lnTo>
                  <a:pt x="87" y="561"/>
                </a:lnTo>
                <a:lnTo>
                  <a:pt x="87" y="542"/>
                </a:lnTo>
                <a:lnTo>
                  <a:pt x="85" y="522"/>
                </a:lnTo>
                <a:lnTo>
                  <a:pt x="85" y="501"/>
                </a:lnTo>
                <a:lnTo>
                  <a:pt x="83" y="478"/>
                </a:lnTo>
                <a:lnTo>
                  <a:pt x="81" y="455"/>
                </a:lnTo>
                <a:lnTo>
                  <a:pt x="81" y="432"/>
                </a:lnTo>
                <a:lnTo>
                  <a:pt x="79" y="407"/>
                </a:lnTo>
                <a:lnTo>
                  <a:pt x="77" y="380"/>
                </a:lnTo>
                <a:lnTo>
                  <a:pt x="73" y="355"/>
                </a:lnTo>
                <a:lnTo>
                  <a:pt x="71" y="332"/>
                </a:lnTo>
                <a:lnTo>
                  <a:pt x="68" y="309"/>
                </a:lnTo>
                <a:lnTo>
                  <a:pt x="66" y="288"/>
                </a:lnTo>
                <a:lnTo>
                  <a:pt x="62" y="269"/>
                </a:lnTo>
                <a:lnTo>
                  <a:pt x="58" y="250"/>
                </a:lnTo>
                <a:lnTo>
                  <a:pt x="54" y="233"/>
                </a:lnTo>
                <a:lnTo>
                  <a:pt x="50" y="217"/>
                </a:lnTo>
                <a:lnTo>
                  <a:pt x="48" y="202"/>
                </a:lnTo>
                <a:lnTo>
                  <a:pt x="45" y="188"/>
                </a:lnTo>
                <a:lnTo>
                  <a:pt x="41" y="175"/>
                </a:lnTo>
                <a:lnTo>
                  <a:pt x="37" y="163"/>
                </a:lnTo>
                <a:lnTo>
                  <a:pt x="35" y="154"/>
                </a:lnTo>
                <a:lnTo>
                  <a:pt x="31" y="144"/>
                </a:lnTo>
                <a:lnTo>
                  <a:pt x="29" y="135"/>
                </a:lnTo>
                <a:lnTo>
                  <a:pt x="25" y="127"/>
                </a:lnTo>
                <a:lnTo>
                  <a:pt x="18" y="108"/>
                </a:lnTo>
                <a:lnTo>
                  <a:pt x="12" y="98"/>
                </a:lnTo>
                <a:lnTo>
                  <a:pt x="8" y="90"/>
                </a:lnTo>
                <a:lnTo>
                  <a:pt x="6" y="81"/>
                </a:lnTo>
                <a:lnTo>
                  <a:pt x="2" y="71"/>
                </a:lnTo>
                <a:lnTo>
                  <a:pt x="2" y="62"/>
                </a:lnTo>
                <a:lnTo>
                  <a:pt x="0" y="52"/>
                </a:lnTo>
                <a:lnTo>
                  <a:pt x="2" y="43"/>
                </a:lnTo>
                <a:lnTo>
                  <a:pt x="4" y="35"/>
                </a:lnTo>
                <a:lnTo>
                  <a:pt x="6" y="27"/>
                </a:lnTo>
                <a:lnTo>
                  <a:pt x="10" y="21"/>
                </a:lnTo>
                <a:lnTo>
                  <a:pt x="16" y="16"/>
                </a:lnTo>
                <a:lnTo>
                  <a:pt x="22" y="10"/>
                </a:lnTo>
                <a:lnTo>
                  <a:pt x="29" y="6"/>
                </a:lnTo>
                <a:lnTo>
                  <a:pt x="39" y="0"/>
                </a:lnTo>
                <a:lnTo>
                  <a:pt x="41" y="0"/>
                </a:lnTo>
                <a:lnTo>
                  <a:pt x="45" y="0"/>
                </a:lnTo>
                <a:lnTo>
                  <a:pt x="50" y="0"/>
                </a:lnTo>
                <a:lnTo>
                  <a:pt x="54" y="0"/>
                </a:lnTo>
                <a:lnTo>
                  <a:pt x="62" y="0"/>
                </a:lnTo>
                <a:lnTo>
                  <a:pt x="68" y="2"/>
                </a:lnTo>
                <a:lnTo>
                  <a:pt x="75" y="2"/>
                </a:lnTo>
                <a:lnTo>
                  <a:pt x="85" y="2"/>
                </a:lnTo>
                <a:lnTo>
                  <a:pt x="93" y="2"/>
                </a:lnTo>
                <a:lnTo>
                  <a:pt x="102" y="4"/>
                </a:lnTo>
                <a:lnTo>
                  <a:pt x="114" y="4"/>
                </a:lnTo>
                <a:lnTo>
                  <a:pt x="125" y="6"/>
                </a:lnTo>
                <a:lnTo>
                  <a:pt x="137" y="8"/>
                </a:lnTo>
                <a:lnTo>
                  <a:pt x="150" y="10"/>
                </a:lnTo>
                <a:lnTo>
                  <a:pt x="162" y="12"/>
                </a:lnTo>
                <a:lnTo>
                  <a:pt x="177" y="14"/>
                </a:lnTo>
                <a:lnTo>
                  <a:pt x="179" y="69"/>
                </a:lnTo>
                <a:lnTo>
                  <a:pt x="181" y="125"/>
                </a:lnTo>
                <a:lnTo>
                  <a:pt x="183" y="177"/>
                </a:lnTo>
                <a:lnTo>
                  <a:pt x="185" y="229"/>
                </a:lnTo>
                <a:lnTo>
                  <a:pt x="187" y="277"/>
                </a:lnTo>
                <a:lnTo>
                  <a:pt x="188" y="325"/>
                </a:lnTo>
                <a:lnTo>
                  <a:pt x="190" y="371"/>
                </a:lnTo>
                <a:lnTo>
                  <a:pt x="192" y="415"/>
                </a:lnTo>
                <a:lnTo>
                  <a:pt x="194" y="457"/>
                </a:lnTo>
                <a:lnTo>
                  <a:pt x="196" y="499"/>
                </a:lnTo>
                <a:lnTo>
                  <a:pt x="198" y="538"/>
                </a:lnTo>
                <a:lnTo>
                  <a:pt x="198" y="576"/>
                </a:lnTo>
                <a:lnTo>
                  <a:pt x="200" y="611"/>
                </a:lnTo>
                <a:lnTo>
                  <a:pt x="202" y="645"/>
                </a:lnTo>
                <a:lnTo>
                  <a:pt x="202" y="678"/>
                </a:lnTo>
                <a:lnTo>
                  <a:pt x="204" y="709"/>
                </a:lnTo>
                <a:lnTo>
                  <a:pt x="206" y="737"/>
                </a:lnTo>
                <a:lnTo>
                  <a:pt x="206" y="766"/>
                </a:lnTo>
                <a:lnTo>
                  <a:pt x="208" y="791"/>
                </a:lnTo>
                <a:lnTo>
                  <a:pt x="208" y="816"/>
                </a:lnTo>
                <a:lnTo>
                  <a:pt x="210" y="837"/>
                </a:lnTo>
                <a:lnTo>
                  <a:pt x="210" y="858"/>
                </a:lnTo>
                <a:lnTo>
                  <a:pt x="210" y="877"/>
                </a:lnTo>
                <a:lnTo>
                  <a:pt x="212" y="895"/>
                </a:lnTo>
                <a:lnTo>
                  <a:pt x="212" y="912"/>
                </a:lnTo>
                <a:lnTo>
                  <a:pt x="212" y="925"/>
                </a:lnTo>
                <a:lnTo>
                  <a:pt x="213" y="939"/>
                </a:lnTo>
                <a:lnTo>
                  <a:pt x="213" y="948"/>
                </a:lnTo>
                <a:lnTo>
                  <a:pt x="213" y="958"/>
                </a:lnTo>
                <a:lnTo>
                  <a:pt x="213" y="966"/>
                </a:lnTo>
                <a:lnTo>
                  <a:pt x="213" y="972"/>
                </a:lnTo>
                <a:lnTo>
                  <a:pt x="213" y="977"/>
                </a:lnTo>
                <a:lnTo>
                  <a:pt x="213" y="983"/>
                </a:lnTo>
                <a:lnTo>
                  <a:pt x="213" y="989"/>
                </a:lnTo>
                <a:lnTo>
                  <a:pt x="212" y="995"/>
                </a:lnTo>
                <a:lnTo>
                  <a:pt x="212" y="1000"/>
                </a:lnTo>
                <a:lnTo>
                  <a:pt x="210" y="1006"/>
                </a:lnTo>
                <a:lnTo>
                  <a:pt x="208" y="1010"/>
                </a:lnTo>
                <a:lnTo>
                  <a:pt x="206" y="1014"/>
                </a:lnTo>
                <a:lnTo>
                  <a:pt x="202" y="1016"/>
                </a:lnTo>
                <a:lnTo>
                  <a:pt x="196" y="1021"/>
                </a:lnTo>
                <a:lnTo>
                  <a:pt x="192" y="1023"/>
                </a:lnTo>
                <a:lnTo>
                  <a:pt x="187" y="1025"/>
                </a:lnTo>
                <a:lnTo>
                  <a:pt x="183" y="1025"/>
                </a:lnTo>
                <a:lnTo>
                  <a:pt x="177" y="1027"/>
                </a:lnTo>
                <a:lnTo>
                  <a:pt x="171" y="1027"/>
                </a:lnTo>
                <a:lnTo>
                  <a:pt x="164" y="10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122"/>
          <p:cNvSpPr/>
          <p:nvPr/>
        </p:nvSpPr>
        <p:spPr>
          <a:xfrm>
            <a:off x="6415200" y="2330280"/>
            <a:ext cx="330120" cy="487440"/>
          </a:xfrm>
          <a:custGeom>
            <a:avLst/>
            <a:gdLst/>
            <a:ahLst/>
            <a:rect l="l" t="t" r="r" b="b"/>
            <a:pathLst>
              <a:path w="417" h="615">
                <a:moveTo>
                  <a:pt x="0" y="613"/>
                </a:moveTo>
                <a:lnTo>
                  <a:pt x="16" y="580"/>
                </a:lnTo>
                <a:lnTo>
                  <a:pt x="31" y="549"/>
                </a:lnTo>
                <a:lnTo>
                  <a:pt x="47" y="519"/>
                </a:lnTo>
                <a:lnTo>
                  <a:pt x="60" y="490"/>
                </a:lnTo>
                <a:lnTo>
                  <a:pt x="73" y="461"/>
                </a:lnTo>
                <a:lnTo>
                  <a:pt x="87" y="434"/>
                </a:lnTo>
                <a:lnTo>
                  <a:pt x="98" y="409"/>
                </a:lnTo>
                <a:lnTo>
                  <a:pt x="110" y="384"/>
                </a:lnTo>
                <a:lnTo>
                  <a:pt x="119" y="361"/>
                </a:lnTo>
                <a:lnTo>
                  <a:pt x="129" y="340"/>
                </a:lnTo>
                <a:lnTo>
                  <a:pt x="137" y="319"/>
                </a:lnTo>
                <a:lnTo>
                  <a:pt x="144" y="300"/>
                </a:lnTo>
                <a:lnTo>
                  <a:pt x="150" y="281"/>
                </a:lnTo>
                <a:lnTo>
                  <a:pt x="156" y="263"/>
                </a:lnTo>
                <a:lnTo>
                  <a:pt x="160" y="248"/>
                </a:lnTo>
                <a:lnTo>
                  <a:pt x="164" y="233"/>
                </a:lnTo>
                <a:lnTo>
                  <a:pt x="167" y="210"/>
                </a:lnTo>
                <a:lnTo>
                  <a:pt x="169" y="185"/>
                </a:lnTo>
                <a:lnTo>
                  <a:pt x="171" y="164"/>
                </a:lnTo>
                <a:lnTo>
                  <a:pt x="173" y="140"/>
                </a:lnTo>
                <a:lnTo>
                  <a:pt x="171" y="119"/>
                </a:lnTo>
                <a:lnTo>
                  <a:pt x="169" y="100"/>
                </a:lnTo>
                <a:lnTo>
                  <a:pt x="169" y="92"/>
                </a:lnTo>
                <a:lnTo>
                  <a:pt x="167" y="83"/>
                </a:lnTo>
                <a:lnTo>
                  <a:pt x="166" y="75"/>
                </a:lnTo>
                <a:lnTo>
                  <a:pt x="164" y="68"/>
                </a:lnTo>
                <a:lnTo>
                  <a:pt x="160" y="62"/>
                </a:lnTo>
                <a:lnTo>
                  <a:pt x="156" y="54"/>
                </a:lnTo>
                <a:lnTo>
                  <a:pt x="152" y="48"/>
                </a:lnTo>
                <a:lnTo>
                  <a:pt x="150" y="45"/>
                </a:lnTo>
                <a:lnTo>
                  <a:pt x="148" y="39"/>
                </a:lnTo>
                <a:lnTo>
                  <a:pt x="146" y="35"/>
                </a:lnTo>
                <a:lnTo>
                  <a:pt x="146" y="31"/>
                </a:lnTo>
                <a:lnTo>
                  <a:pt x="146" y="27"/>
                </a:lnTo>
                <a:lnTo>
                  <a:pt x="146" y="23"/>
                </a:lnTo>
                <a:lnTo>
                  <a:pt x="148" y="20"/>
                </a:lnTo>
                <a:lnTo>
                  <a:pt x="152" y="18"/>
                </a:lnTo>
                <a:lnTo>
                  <a:pt x="154" y="14"/>
                </a:lnTo>
                <a:lnTo>
                  <a:pt x="158" y="12"/>
                </a:lnTo>
                <a:lnTo>
                  <a:pt x="164" y="10"/>
                </a:lnTo>
                <a:lnTo>
                  <a:pt x="169" y="8"/>
                </a:lnTo>
                <a:lnTo>
                  <a:pt x="175" y="4"/>
                </a:lnTo>
                <a:lnTo>
                  <a:pt x="181" y="2"/>
                </a:lnTo>
                <a:lnTo>
                  <a:pt x="187" y="0"/>
                </a:lnTo>
                <a:lnTo>
                  <a:pt x="192" y="0"/>
                </a:lnTo>
                <a:lnTo>
                  <a:pt x="198" y="0"/>
                </a:lnTo>
                <a:lnTo>
                  <a:pt x="206" y="0"/>
                </a:lnTo>
                <a:lnTo>
                  <a:pt x="214" y="0"/>
                </a:lnTo>
                <a:lnTo>
                  <a:pt x="221" y="0"/>
                </a:lnTo>
                <a:lnTo>
                  <a:pt x="231" y="2"/>
                </a:lnTo>
                <a:lnTo>
                  <a:pt x="248" y="8"/>
                </a:lnTo>
                <a:lnTo>
                  <a:pt x="269" y="14"/>
                </a:lnTo>
                <a:lnTo>
                  <a:pt x="290" y="21"/>
                </a:lnTo>
                <a:lnTo>
                  <a:pt x="313" y="31"/>
                </a:lnTo>
                <a:lnTo>
                  <a:pt x="325" y="35"/>
                </a:lnTo>
                <a:lnTo>
                  <a:pt x="334" y="39"/>
                </a:lnTo>
                <a:lnTo>
                  <a:pt x="344" y="45"/>
                </a:lnTo>
                <a:lnTo>
                  <a:pt x="354" y="48"/>
                </a:lnTo>
                <a:lnTo>
                  <a:pt x="361" y="54"/>
                </a:lnTo>
                <a:lnTo>
                  <a:pt x="369" y="58"/>
                </a:lnTo>
                <a:lnTo>
                  <a:pt x="377" y="64"/>
                </a:lnTo>
                <a:lnTo>
                  <a:pt x="382" y="68"/>
                </a:lnTo>
                <a:lnTo>
                  <a:pt x="388" y="73"/>
                </a:lnTo>
                <a:lnTo>
                  <a:pt x="392" y="77"/>
                </a:lnTo>
                <a:lnTo>
                  <a:pt x="398" y="83"/>
                </a:lnTo>
                <a:lnTo>
                  <a:pt x="402" y="87"/>
                </a:lnTo>
                <a:lnTo>
                  <a:pt x="407" y="96"/>
                </a:lnTo>
                <a:lnTo>
                  <a:pt x="413" y="106"/>
                </a:lnTo>
                <a:lnTo>
                  <a:pt x="415" y="114"/>
                </a:lnTo>
                <a:lnTo>
                  <a:pt x="417" y="119"/>
                </a:lnTo>
                <a:lnTo>
                  <a:pt x="417" y="127"/>
                </a:lnTo>
                <a:lnTo>
                  <a:pt x="417" y="135"/>
                </a:lnTo>
                <a:lnTo>
                  <a:pt x="417" y="142"/>
                </a:lnTo>
                <a:lnTo>
                  <a:pt x="417" y="150"/>
                </a:lnTo>
                <a:lnTo>
                  <a:pt x="415" y="158"/>
                </a:lnTo>
                <a:lnTo>
                  <a:pt x="413" y="164"/>
                </a:lnTo>
                <a:lnTo>
                  <a:pt x="411" y="173"/>
                </a:lnTo>
                <a:lnTo>
                  <a:pt x="407" y="181"/>
                </a:lnTo>
                <a:lnTo>
                  <a:pt x="404" y="188"/>
                </a:lnTo>
                <a:lnTo>
                  <a:pt x="400" y="196"/>
                </a:lnTo>
                <a:lnTo>
                  <a:pt x="394" y="206"/>
                </a:lnTo>
                <a:lnTo>
                  <a:pt x="388" y="213"/>
                </a:lnTo>
                <a:lnTo>
                  <a:pt x="382" y="223"/>
                </a:lnTo>
                <a:lnTo>
                  <a:pt x="377" y="233"/>
                </a:lnTo>
                <a:lnTo>
                  <a:pt x="369" y="242"/>
                </a:lnTo>
                <a:lnTo>
                  <a:pt x="361" y="254"/>
                </a:lnTo>
                <a:lnTo>
                  <a:pt x="354" y="263"/>
                </a:lnTo>
                <a:lnTo>
                  <a:pt x="346" y="277"/>
                </a:lnTo>
                <a:lnTo>
                  <a:pt x="336" y="288"/>
                </a:lnTo>
                <a:lnTo>
                  <a:pt x="327" y="302"/>
                </a:lnTo>
                <a:lnTo>
                  <a:pt x="319" y="315"/>
                </a:lnTo>
                <a:lnTo>
                  <a:pt x="308" y="329"/>
                </a:lnTo>
                <a:lnTo>
                  <a:pt x="298" y="344"/>
                </a:lnTo>
                <a:lnTo>
                  <a:pt x="288" y="361"/>
                </a:lnTo>
                <a:lnTo>
                  <a:pt x="277" y="377"/>
                </a:lnTo>
                <a:lnTo>
                  <a:pt x="265" y="394"/>
                </a:lnTo>
                <a:lnTo>
                  <a:pt x="252" y="413"/>
                </a:lnTo>
                <a:lnTo>
                  <a:pt x="240" y="432"/>
                </a:lnTo>
                <a:lnTo>
                  <a:pt x="227" y="453"/>
                </a:lnTo>
                <a:lnTo>
                  <a:pt x="214" y="474"/>
                </a:lnTo>
                <a:lnTo>
                  <a:pt x="196" y="494"/>
                </a:lnTo>
                <a:lnTo>
                  <a:pt x="181" y="513"/>
                </a:lnTo>
                <a:lnTo>
                  <a:pt x="167" y="530"/>
                </a:lnTo>
                <a:lnTo>
                  <a:pt x="152" y="545"/>
                </a:lnTo>
                <a:lnTo>
                  <a:pt x="139" y="559"/>
                </a:lnTo>
                <a:lnTo>
                  <a:pt x="125" y="570"/>
                </a:lnTo>
                <a:lnTo>
                  <a:pt x="112" y="582"/>
                </a:lnTo>
                <a:lnTo>
                  <a:pt x="98" y="592"/>
                </a:lnTo>
                <a:lnTo>
                  <a:pt x="85" y="599"/>
                </a:lnTo>
                <a:lnTo>
                  <a:pt x="73" y="605"/>
                </a:lnTo>
                <a:lnTo>
                  <a:pt x="60" y="609"/>
                </a:lnTo>
                <a:lnTo>
                  <a:pt x="48" y="613"/>
                </a:lnTo>
                <a:lnTo>
                  <a:pt x="37" y="615"/>
                </a:lnTo>
                <a:lnTo>
                  <a:pt x="24" y="615"/>
                </a:lnTo>
                <a:lnTo>
                  <a:pt x="12" y="615"/>
                </a:lnTo>
                <a:lnTo>
                  <a:pt x="0" y="6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123"/>
          <p:cNvSpPr/>
          <p:nvPr/>
        </p:nvSpPr>
        <p:spPr>
          <a:xfrm>
            <a:off x="5780160" y="2946240"/>
            <a:ext cx="487440" cy="795600"/>
          </a:xfrm>
          <a:custGeom>
            <a:avLst/>
            <a:gdLst/>
            <a:ahLst/>
            <a:rect l="l" t="t" r="r" b="b"/>
            <a:pathLst>
              <a:path w="614" h="1002">
                <a:moveTo>
                  <a:pt x="63" y="88"/>
                </a:moveTo>
                <a:lnTo>
                  <a:pt x="54" y="69"/>
                </a:lnTo>
                <a:lnTo>
                  <a:pt x="50" y="59"/>
                </a:lnTo>
                <a:lnTo>
                  <a:pt x="46" y="50"/>
                </a:lnTo>
                <a:lnTo>
                  <a:pt x="42" y="40"/>
                </a:lnTo>
                <a:lnTo>
                  <a:pt x="40" y="30"/>
                </a:lnTo>
                <a:lnTo>
                  <a:pt x="38" y="21"/>
                </a:lnTo>
                <a:lnTo>
                  <a:pt x="38" y="13"/>
                </a:lnTo>
                <a:lnTo>
                  <a:pt x="38" y="7"/>
                </a:lnTo>
                <a:lnTo>
                  <a:pt x="40" y="4"/>
                </a:lnTo>
                <a:lnTo>
                  <a:pt x="46" y="2"/>
                </a:lnTo>
                <a:lnTo>
                  <a:pt x="52" y="0"/>
                </a:lnTo>
                <a:lnTo>
                  <a:pt x="60" y="0"/>
                </a:lnTo>
                <a:lnTo>
                  <a:pt x="69" y="0"/>
                </a:lnTo>
                <a:lnTo>
                  <a:pt x="79" y="0"/>
                </a:lnTo>
                <a:lnTo>
                  <a:pt x="92" y="2"/>
                </a:lnTo>
                <a:lnTo>
                  <a:pt x="108" y="4"/>
                </a:lnTo>
                <a:lnTo>
                  <a:pt x="123" y="6"/>
                </a:lnTo>
                <a:lnTo>
                  <a:pt x="140" y="9"/>
                </a:lnTo>
                <a:lnTo>
                  <a:pt x="159" y="13"/>
                </a:lnTo>
                <a:lnTo>
                  <a:pt x="179" y="19"/>
                </a:lnTo>
                <a:lnTo>
                  <a:pt x="202" y="25"/>
                </a:lnTo>
                <a:lnTo>
                  <a:pt x="225" y="30"/>
                </a:lnTo>
                <a:lnTo>
                  <a:pt x="250" y="38"/>
                </a:lnTo>
                <a:lnTo>
                  <a:pt x="255" y="90"/>
                </a:lnTo>
                <a:lnTo>
                  <a:pt x="259" y="140"/>
                </a:lnTo>
                <a:lnTo>
                  <a:pt x="263" y="190"/>
                </a:lnTo>
                <a:lnTo>
                  <a:pt x="265" y="238"/>
                </a:lnTo>
                <a:lnTo>
                  <a:pt x="267" y="288"/>
                </a:lnTo>
                <a:lnTo>
                  <a:pt x="269" y="336"/>
                </a:lnTo>
                <a:lnTo>
                  <a:pt x="267" y="359"/>
                </a:lnTo>
                <a:lnTo>
                  <a:pt x="267" y="384"/>
                </a:lnTo>
                <a:lnTo>
                  <a:pt x="265" y="407"/>
                </a:lnTo>
                <a:lnTo>
                  <a:pt x="263" y="432"/>
                </a:lnTo>
                <a:lnTo>
                  <a:pt x="261" y="457"/>
                </a:lnTo>
                <a:lnTo>
                  <a:pt x="259" y="480"/>
                </a:lnTo>
                <a:lnTo>
                  <a:pt x="257" y="503"/>
                </a:lnTo>
                <a:lnTo>
                  <a:pt x="255" y="524"/>
                </a:lnTo>
                <a:lnTo>
                  <a:pt x="255" y="543"/>
                </a:lnTo>
                <a:lnTo>
                  <a:pt x="253" y="562"/>
                </a:lnTo>
                <a:lnTo>
                  <a:pt x="253" y="578"/>
                </a:lnTo>
                <a:lnTo>
                  <a:pt x="253" y="593"/>
                </a:lnTo>
                <a:lnTo>
                  <a:pt x="253" y="608"/>
                </a:lnTo>
                <a:lnTo>
                  <a:pt x="253" y="620"/>
                </a:lnTo>
                <a:lnTo>
                  <a:pt x="255" y="631"/>
                </a:lnTo>
                <a:lnTo>
                  <a:pt x="255" y="643"/>
                </a:lnTo>
                <a:lnTo>
                  <a:pt x="257" y="652"/>
                </a:lnTo>
                <a:lnTo>
                  <a:pt x="259" y="660"/>
                </a:lnTo>
                <a:lnTo>
                  <a:pt x="261" y="666"/>
                </a:lnTo>
                <a:lnTo>
                  <a:pt x="263" y="672"/>
                </a:lnTo>
                <a:lnTo>
                  <a:pt x="265" y="677"/>
                </a:lnTo>
                <a:lnTo>
                  <a:pt x="269" y="683"/>
                </a:lnTo>
                <a:lnTo>
                  <a:pt x="275" y="687"/>
                </a:lnTo>
                <a:lnTo>
                  <a:pt x="280" y="691"/>
                </a:lnTo>
                <a:lnTo>
                  <a:pt x="286" y="693"/>
                </a:lnTo>
                <a:lnTo>
                  <a:pt x="294" y="693"/>
                </a:lnTo>
                <a:lnTo>
                  <a:pt x="303" y="693"/>
                </a:lnTo>
                <a:lnTo>
                  <a:pt x="313" y="693"/>
                </a:lnTo>
                <a:lnTo>
                  <a:pt x="324" y="691"/>
                </a:lnTo>
                <a:lnTo>
                  <a:pt x="336" y="687"/>
                </a:lnTo>
                <a:lnTo>
                  <a:pt x="349" y="683"/>
                </a:lnTo>
                <a:lnTo>
                  <a:pt x="365" y="677"/>
                </a:lnTo>
                <a:lnTo>
                  <a:pt x="382" y="670"/>
                </a:lnTo>
                <a:lnTo>
                  <a:pt x="399" y="664"/>
                </a:lnTo>
                <a:lnTo>
                  <a:pt x="417" y="654"/>
                </a:lnTo>
                <a:lnTo>
                  <a:pt x="438" y="647"/>
                </a:lnTo>
                <a:lnTo>
                  <a:pt x="457" y="639"/>
                </a:lnTo>
                <a:lnTo>
                  <a:pt x="474" y="631"/>
                </a:lnTo>
                <a:lnTo>
                  <a:pt x="490" y="625"/>
                </a:lnTo>
                <a:lnTo>
                  <a:pt x="505" y="620"/>
                </a:lnTo>
                <a:lnTo>
                  <a:pt x="520" y="614"/>
                </a:lnTo>
                <a:lnTo>
                  <a:pt x="534" y="610"/>
                </a:lnTo>
                <a:lnTo>
                  <a:pt x="547" y="604"/>
                </a:lnTo>
                <a:lnTo>
                  <a:pt x="559" y="601"/>
                </a:lnTo>
                <a:lnTo>
                  <a:pt x="568" y="599"/>
                </a:lnTo>
                <a:lnTo>
                  <a:pt x="578" y="595"/>
                </a:lnTo>
                <a:lnTo>
                  <a:pt x="587" y="593"/>
                </a:lnTo>
                <a:lnTo>
                  <a:pt x="595" y="593"/>
                </a:lnTo>
                <a:lnTo>
                  <a:pt x="601" y="591"/>
                </a:lnTo>
                <a:lnTo>
                  <a:pt x="607" y="593"/>
                </a:lnTo>
                <a:lnTo>
                  <a:pt x="610" y="593"/>
                </a:lnTo>
                <a:lnTo>
                  <a:pt x="612" y="595"/>
                </a:lnTo>
                <a:lnTo>
                  <a:pt x="614" y="599"/>
                </a:lnTo>
                <a:lnTo>
                  <a:pt x="614" y="602"/>
                </a:lnTo>
                <a:lnTo>
                  <a:pt x="612" y="606"/>
                </a:lnTo>
                <a:lnTo>
                  <a:pt x="609" y="612"/>
                </a:lnTo>
                <a:lnTo>
                  <a:pt x="603" y="618"/>
                </a:lnTo>
                <a:lnTo>
                  <a:pt x="597" y="625"/>
                </a:lnTo>
                <a:lnTo>
                  <a:pt x="587" y="633"/>
                </a:lnTo>
                <a:lnTo>
                  <a:pt x="578" y="641"/>
                </a:lnTo>
                <a:lnTo>
                  <a:pt x="566" y="650"/>
                </a:lnTo>
                <a:lnTo>
                  <a:pt x="555" y="660"/>
                </a:lnTo>
                <a:lnTo>
                  <a:pt x="539" y="672"/>
                </a:lnTo>
                <a:lnTo>
                  <a:pt x="524" y="683"/>
                </a:lnTo>
                <a:lnTo>
                  <a:pt x="509" y="695"/>
                </a:lnTo>
                <a:lnTo>
                  <a:pt x="490" y="706"/>
                </a:lnTo>
                <a:lnTo>
                  <a:pt x="470" y="720"/>
                </a:lnTo>
                <a:lnTo>
                  <a:pt x="451" y="735"/>
                </a:lnTo>
                <a:lnTo>
                  <a:pt x="430" y="750"/>
                </a:lnTo>
                <a:lnTo>
                  <a:pt x="411" y="768"/>
                </a:lnTo>
                <a:lnTo>
                  <a:pt x="390" y="783"/>
                </a:lnTo>
                <a:lnTo>
                  <a:pt x="372" y="796"/>
                </a:lnTo>
                <a:lnTo>
                  <a:pt x="353" y="810"/>
                </a:lnTo>
                <a:lnTo>
                  <a:pt x="336" y="823"/>
                </a:lnTo>
                <a:lnTo>
                  <a:pt x="319" y="837"/>
                </a:lnTo>
                <a:lnTo>
                  <a:pt x="303" y="848"/>
                </a:lnTo>
                <a:lnTo>
                  <a:pt x="288" y="860"/>
                </a:lnTo>
                <a:lnTo>
                  <a:pt x="275" y="871"/>
                </a:lnTo>
                <a:lnTo>
                  <a:pt x="261" y="881"/>
                </a:lnTo>
                <a:lnTo>
                  <a:pt x="250" y="890"/>
                </a:lnTo>
                <a:lnTo>
                  <a:pt x="238" y="900"/>
                </a:lnTo>
                <a:lnTo>
                  <a:pt x="229" y="910"/>
                </a:lnTo>
                <a:lnTo>
                  <a:pt x="221" y="917"/>
                </a:lnTo>
                <a:lnTo>
                  <a:pt x="213" y="925"/>
                </a:lnTo>
                <a:lnTo>
                  <a:pt x="205" y="935"/>
                </a:lnTo>
                <a:lnTo>
                  <a:pt x="200" y="942"/>
                </a:lnTo>
                <a:lnTo>
                  <a:pt x="192" y="950"/>
                </a:lnTo>
                <a:lnTo>
                  <a:pt x="184" y="958"/>
                </a:lnTo>
                <a:lnTo>
                  <a:pt x="179" y="965"/>
                </a:lnTo>
                <a:lnTo>
                  <a:pt x="173" y="971"/>
                </a:lnTo>
                <a:lnTo>
                  <a:pt x="165" y="977"/>
                </a:lnTo>
                <a:lnTo>
                  <a:pt x="159" y="983"/>
                </a:lnTo>
                <a:lnTo>
                  <a:pt x="154" y="986"/>
                </a:lnTo>
                <a:lnTo>
                  <a:pt x="148" y="990"/>
                </a:lnTo>
                <a:lnTo>
                  <a:pt x="144" y="994"/>
                </a:lnTo>
                <a:lnTo>
                  <a:pt x="138" y="996"/>
                </a:lnTo>
                <a:lnTo>
                  <a:pt x="134" y="998"/>
                </a:lnTo>
                <a:lnTo>
                  <a:pt x="131" y="1000"/>
                </a:lnTo>
                <a:lnTo>
                  <a:pt x="129" y="1000"/>
                </a:lnTo>
                <a:lnTo>
                  <a:pt x="125" y="1002"/>
                </a:lnTo>
                <a:lnTo>
                  <a:pt x="121" y="1000"/>
                </a:lnTo>
                <a:lnTo>
                  <a:pt x="113" y="998"/>
                </a:lnTo>
                <a:lnTo>
                  <a:pt x="106" y="994"/>
                </a:lnTo>
                <a:lnTo>
                  <a:pt x="98" y="990"/>
                </a:lnTo>
                <a:lnTo>
                  <a:pt x="92" y="986"/>
                </a:lnTo>
                <a:lnTo>
                  <a:pt x="86" y="983"/>
                </a:lnTo>
                <a:lnTo>
                  <a:pt x="81" y="979"/>
                </a:lnTo>
                <a:lnTo>
                  <a:pt x="75" y="975"/>
                </a:lnTo>
                <a:lnTo>
                  <a:pt x="69" y="969"/>
                </a:lnTo>
                <a:lnTo>
                  <a:pt x="63" y="963"/>
                </a:lnTo>
                <a:lnTo>
                  <a:pt x="58" y="958"/>
                </a:lnTo>
                <a:lnTo>
                  <a:pt x="50" y="950"/>
                </a:lnTo>
                <a:lnTo>
                  <a:pt x="44" y="942"/>
                </a:lnTo>
                <a:lnTo>
                  <a:pt x="37" y="936"/>
                </a:lnTo>
                <a:lnTo>
                  <a:pt x="31" y="931"/>
                </a:lnTo>
                <a:lnTo>
                  <a:pt x="27" y="923"/>
                </a:lnTo>
                <a:lnTo>
                  <a:pt x="21" y="917"/>
                </a:lnTo>
                <a:lnTo>
                  <a:pt x="17" y="911"/>
                </a:lnTo>
                <a:lnTo>
                  <a:pt x="12" y="902"/>
                </a:lnTo>
                <a:lnTo>
                  <a:pt x="6" y="894"/>
                </a:lnTo>
                <a:lnTo>
                  <a:pt x="2" y="887"/>
                </a:lnTo>
                <a:lnTo>
                  <a:pt x="0" y="879"/>
                </a:lnTo>
                <a:lnTo>
                  <a:pt x="0" y="875"/>
                </a:lnTo>
                <a:lnTo>
                  <a:pt x="0" y="871"/>
                </a:lnTo>
                <a:lnTo>
                  <a:pt x="2" y="867"/>
                </a:lnTo>
                <a:lnTo>
                  <a:pt x="2" y="864"/>
                </a:lnTo>
                <a:lnTo>
                  <a:pt x="4" y="860"/>
                </a:lnTo>
                <a:lnTo>
                  <a:pt x="8" y="856"/>
                </a:lnTo>
                <a:lnTo>
                  <a:pt x="10" y="850"/>
                </a:lnTo>
                <a:lnTo>
                  <a:pt x="17" y="839"/>
                </a:lnTo>
                <a:lnTo>
                  <a:pt x="27" y="827"/>
                </a:lnTo>
                <a:lnTo>
                  <a:pt x="37" y="814"/>
                </a:lnTo>
                <a:lnTo>
                  <a:pt x="50" y="800"/>
                </a:lnTo>
                <a:lnTo>
                  <a:pt x="63" y="785"/>
                </a:lnTo>
                <a:lnTo>
                  <a:pt x="69" y="777"/>
                </a:lnTo>
                <a:lnTo>
                  <a:pt x="75" y="768"/>
                </a:lnTo>
                <a:lnTo>
                  <a:pt x="81" y="756"/>
                </a:lnTo>
                <a:lnTo>
                  <a:pt x="86" y="743"/>
                </a:lnTo>
                <a:lnTo>
                  <a:pt x="90" y="727"/>
                </a:lnTo>
                <a:lnTo>
                  <a:pt x="94" y="710"/>
                </a:lnTo>
                <a:lnTo>
                  <a:pt x="98" y="691"/>
                </a:lnTo>
                <a:lnTo>
                  <a:pt x="100" y="681"/>
                </a:lnTo>
                <a:lnTo>
                  <a:pt x="102" y="670"/>
                </a:lnTo>
                <a:lnTo>
                  <a:pt x="104" y="658"/>
                </a:lnTo>
                <a:lnTo>
                  <a:pt x="104" y="647"/>
                </a:lnTo>
                <a:lnTo>
                  <a:pt x="106" y="635"/>
                </a:lnTo>
                <a:lnTo>
                  <a:pt x="108" y="622"/>
                </a:lnTo>
                <a:lnTo>
                  <a:pt x="108" y="608"/>
                </a:lnTo>
                <a:lnTo>
                  <a:pt x="109" y="595"/>
                </a:lnTo>
                <a:lnTo>
                  <a:pt x="109" y="581"/>
                </a:lnTo>
                <a:lnTo>
                  <a:pt x="109" y="566"/>
                </a:lnTo>
                <a:lnTo>
                  <a:pt x="111" y="551"/>
                </a:lnTo>
                <a:lnTo>
                  <a:pt x="111" y="535"/>
                </a:lnTo>
                <a:lnTo>
                  <a:pt x="111" y="520"/>
                </a:lnTo>
                <a:lnTo>
                  <a:pt x="111" y="503"/>
                </a:lnTo>
                <a:lnTo>
                  <a:pt x="113" y="485"/>
                </a:lnTo>
                <a:lnTo>
                  <a:pt x="113" y="468"/>
                </a:lnTo>
                <a:lnTo>
                  <a:pt x="113" y="449"/>
                </a:lnTo>
                <a:lnTo>
                  <a:pt x="113" y="432"/>
                </a:lnTo>
                <a:lnTo>
                  <a:pt x="111" y="412"/>
                </a:lnTo>
                <a:lnTo>
                  <a:pt x="111" y="393"/>
                </a:lnTo>
                <a:lnTo>
                  <a:pt x="109" y="376"/>
                </a:lnTo>
                <a:lnTo>
                  <a:pt x="108" y="359"/>
                </a:lnTo>
                <a:lnTo>
                  <a:pt x="108" y="341"/>
                </a:lnTo>
                <a:lnTo>
                  <a:pt x="106" y="326"/>
                </a:lnTo>
                <a:lnTo>
                  <a:pt x="104" y="311"/>
                </a:lnTo>
                <a:lnTo>
                  <a:pt x="104" y="295"/>
                </a:lnTo>
                <a:lnTo>
                  <a:pt x="102" y="280"/>
                </a:lnTo>
                <a:lnTo>
                  <a:pt x="100" y="267"/>
                </a:lnTo>
                <a:lnTo>
                  <a:pt x="100" y="253"/>
                </a:lnTo>
                <a:lnTo>
                  <a:pt x="98" y="240"/>
                </a:lnTo>
                <a:lnTo>
                  <a:pt x="96" y="228"/>
                </a:lnTo>
                <a:lnTo>
                  <a:pt x="96" y="215"/>
                </a:lnTo>
                <a:lnTo>
                  <a:pt x="94" y="203"/>
                </a:lnTo>
                <a:lnTo>
                  <a:pt x="92" y="194"/>
                </a:lnTo>
                <a:lnTo>
                  <a:pt x="90" y="182"/>
                </a:lnTo>
                <a:lnTo>
                  <a:pt x="90" y="172"/>
                </a:lnTo>
                <a:lnTo>
                  <a:pt x="88" y="163"/>
                </a:lnTo>
                <a:lnTo>
                  <a:pt x="86" y="155"/>
                </a:lnTo>
                <a:lnTo>
                  <a:pt x="85" y="146"/>
                </a:lnTo>
                <a:lnTo>
                  <a:pt x="83" y="138"/>
                </a:lnTo>
                <a:lnTo>
                  <a:pt x="81" y="130"/>
                </a:lnTo>
                <a:lnTo>
                  <a:pt x="79" y="125"/>
                </a:lnTo>
                <a:lnTo>
                  <a:pt x="77" y="119"/>
                </a:lnTo>
                <a:lnTo>
                  <a:pt x="75" y="113"/>
                </a:lnTo>
                <a:lnTo>
                  <a:pt x="73" y="107"/>
                </a:lnTo>
                <a:lnTo>
                  <a:pt x="71" y="101"/>
                </a:lnTo>
                <a:lnTo>
                  <a:pt x="69" y="98"/>
                </a:lnTo>
                <a:lnTo>
                  <a:pt x="67" y="94"/>
                </a:lnTo>
                <a:lnTo>
                  <a:pt x="65" y="92"/>
                </a:lnTo>
                <a:lnTo>
                  <a:pt x="63" y="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124"/>
          <p:cNvSpPr/>
          <p:nvPr/>
        </p:nvSpPr>
        <p:spPr>
          <a:xfrm>
            <a:off x="5918040" y="2735280"/>
            <a:ext cx="287640" cy="301680"/>
          </a:xfrm>
          <a:custGeom>
            <a:avLst/>
            <a:gdLst/>
            <a:ahLst/>
            <a:rect l="l" t="t" r="r" b="b"/>
            <a:pathLst>
              <a:path w="363" h="380">
                <a:moveTo>
                  <a:pt x="0" y="317"/>
                </a:moveTo>
                <a:lnTo>
                  <a:pt x="17" y="301"/>
                </a:lnTo>
                <a:lnTo>
                  <a:pt x="32" y="284"/>
                </a:lnTo>
                <a:lnTo>
                  <a:pt x="46" y="271"/>
                </a:lnTo>
                <a:lnTo>
                  <a:pt x="61" y="255"/>
                </a:lnTo>
                <a:lnTo>
                  <a:pt x="75" y="242"/>
                </a:lnTo>
                <a:lnTo>
                  <a:pt x="88" y="228"/>
                </a:lnTo>
                <a:lnTo>
                  <a:pt x="100" y="217"/>
                </a:lnTo>
                <a:lnTo>
                  <a:pt x="111" y="205"/>
                </a:lnTo>
                <a:lnTo>
                  <a:pt x="123" y="194"/>
                </a:lnTo>
                <a:lnTo>
                  <a:pt x="132" y="184"/>
                </a:lnTo>
                <a:lnTo>
                  <a:pt x="142" y="175"/>
                </a:lnTo>
                <a:lnTo>
                  <a:pt x="149" y="165"/>
                </a:lnTo>
                <a:lnTo>
                  <a:pt x="157" y="157"/>
                </a:lnTo>
                <a:lnTo>
                  <a:pt x="165" y="152"/>
                </a:lnTo>
                <a:lnTo>
                  <a:pt x="171" y="146"/>
                </a:lnTo>
                <a:lnTo>
                  <a:pt x="176" y="140"/>
                </a:lnTo>
                <a:lnTo>
                  <a:pt x="180" y="130"/>
                </a:lnTo>
                <a:lnTo>
                  <a:pt x="184" y="121"/>
                </a:lnTo>
                <a:lnTo>
                  <a:pt x="188" y="111"/>
                </a:lnTo>
                <a:lnTo>
                  <a:pt x="192" y="100"/>
                </a:lnTo>
                <a:lnTo>
                  <a:pt x="194" y="90"/>
                </a:lnTo>
                <a:lnTo>
                  <a:pt x="194" y="77"/>
                </a:lnTo>
                <a:lnTo>
                  <a:pt x="192" y="71"/>
                </a:lnTo>
                <a:lnTo>
                  <a:pt x="192" y="65"/>
                </a:lnTo>
                <a:lnTo>
                  <a:pt x="190" y="58"/>
                </a:lnTo>
                <a:lnTo>
                  <a:pt x="188" y="52"/>
                </a:lnTo>
                <a:lnTo>
                  <a:pt x="186" y="44"/>
                </a:lnTo>
                <a:lnTo>
                  <a:pt x="184" y="38"/>
                </a:lnTo>
                <a:lnTo>
                  <a:pt x="182" y="33"/>
                </a:lnTo>
                <a:lnTo>
                  <a:pt x="180" y="27"/>
                </a:lnTo>
                <a:lnTo>
                  <a:pt x="180" y="23"/>
                </a:lnTo>
                <a:lnTo>
                  <a:pt x="180" y="19"/>
                </a:lnTo>
                <a:lnTo>
                  <a:pt x="180" y="15"/>
                </a:lnTo>
                <a:lnTo>
                  <a:pt x="180" y="11"/>
                </a:lnTo>
                <a:lnTo>
                  <a:pt x="182" y="6"/>
                </a:lnTo>
                <a:lnTo>
                  <a:pt x="184" y="4"/>
                </a:lnTo>
                <a:lnTo>
                  <a:pt x="186" y="4"/>
                </a:lnTo>
                <a:lnTo>
                  <a:pt x="190" y="2"/>
                </a:lnTo>
                <a:lnTo>
                  <a:pt x="192" y="2"/>
                </a:lnTo>
                <a:lnTo>
                  <a:pt x="196" y="0"/>
                </a:lnTo>
                <a:lnTo>
                  <a:pt x="201" y="0"/>
                </a:lnTo>
                <a:lnTo>
                  <a:pt x="211" y="2"/>
                </a:lnTo>
                <a:lnTo>
                  <a:pt x="220" y="4"/>
                </a:lnTo>
                <a:lnTo>
                  <a:pt x="234" y="6"/>
                </a:lnTo>
                <a:lnTo>
                  <a:pt x="245" y="11"/>
                </a:lnTo>
                <a:lnTo>
                  <a:pt x="253" y="15"/>
                </a:lnTo>
                <a:lnTo>
                  <a:pt x="259" y="19"/>
                </a:lnTo>
                <a:lnTo>
                  <a:pt x="267" y="23"/>
                </a:lnTo>
                <a:lnTo>
                  <a:pt x="272" y="27"/>
                </a:lnTo>
                <a:lnTo>
                  <a:pt x="280" y="33"/>
                </a:lnTo>
                <a:lnTo>
                  <a:pt x="286" y="38"/>
                </a:lnTo>
                <a:lnTo>
                  <a:pt x="293" y="44"/>
                </a:lnTo>
                <a:lnTo>
                  <a:pt x="301" y="52"/>
                </a:lnTo>
                <a:lnTo>
                  <a:pt x="315" y="65"/>
                </a:lnTo>
                <a:lnTo>
                  <a:pt x="326" y="79"/>
                </a:lnTo>
                <a:lnTo>
                  <a:pt x="338" y="90"/>
                </a:lnTo>
                <a:lnTo>
                  <a:pt x="345" y="102"/>
                </a:lnTo>
                <a:lnTo>
                  <a:pt x="353" y="113"/>
                </a:lnTo>
                <a:lnTo>
                  <a:pt x="357" y="121"/>
                </a:lnTo>
                <a:lnTo>
                  <a:pt x="359" y="127"/>
                </a:lnTo>
                <a:lnTo>
                  <a:pt x="361" y="132"/>
                </a:lnTo>
                <a:lnTo>
                  <a:pt x="363" y="138"/>
                </a:lnTo>
                <a:lnTo>
                  <a:pt x="363" y="146"/>
                </a:lnTo>
                <a:lnTo>
                  <a:pt x="363" y="153"/>
                </a:lnTo>
                <a:lnTo>
                  <a:pt x="363" y="155"/>
                </a:lnTo>
                <a:lnTo>
                  <a:pt x="363" y="159"/>
                </a:lnTo>
                <a:lnTo>
                  <a:pt x="361" y="165"/>
                </a:lnTo>
                <a:lnTo>
                  <a:pt x="357" y="169"/>
                </a:lnTo>
                <a:lnTo>
                  <a:pt x="355" y="173"/>
                </a:lnTo>
                <a:lnTo>
                  <a:pt x="351" y="178"/>
                </a:lnTo>
                <a:lnTo>
                  <a:pt x="347" y="182"/>
                </a:lnTo>
                <a:lnTo>
                  <a:pt x="341" y="188"/>
                </a:lnTo>
                <a:lnTo>
                  <a:pt x="336" y="194"/>
                </a:lnTo>
                <a:lnTo>
                  <a:pt x="330" y="200"/>
                </a:lnTo>
                <a:lnTo>
                  <a:pt x="322" y="205"/>
                </a:lnTo>
                <a:lnTo>
                  <a:pt x="315" y="211"/>
                </a:lnTo>
                <a:lnTo>
                  <a:pt x="307" y="217"/>
                </a:lnTo>
                <a:lnTo>
                  <a:pt x="297" y="225"/>
                </a:lnTo>
                <a:lnTo>
                  <a:pt x="288" y="230"/>
                </a:lnTo>
                <a:lnTo>
                  <a:pt x="278" y="238"/>
                </a:lnTo>
                <a:lnTo>
                  <a:pt x="267" y="244"/>
                </a:lnTo>
                <a:lnTo>
                  <a:pt x="255" y="251"/>
                </a:lnTo>
                <a:lnTo>
                  <a:pt x="244" y="259"/>
                </a:lnTo>
                <a:lnTo>
                  <a:pt x="230" y="267"/>
                </a:lnTo>
                <a:lnTo>
                  <a:pt x="217" y="276"/>
                </a:lnTo>
                <a:lnTo>
                  <a:pt x="203" y="284"/>
                </a:lnTo>
                <a:lnTo>
                  <a:pt x="188" y="292"/>
                </a:lnTo>
                <a:lnTo>
                  <a:pt x="173" y="301"/>
                </a:lnTo>
                <a:lnTo>
                  <a:pt x="157" y="311"/>
                </a:lnTo>
                <a:lnTo>
                  <a:pt x="140" y="320"/>
                </a:lnTo>
                <a:lnTo>
                  <a:pt x="123" y="330"/>
                </a:lnTo>
                <a:lnTo>
                  <a:pt x="103" y="340"/>
                </a:lnTo>
                <a:lnTo>
                  <a:pt x="86" y="349"/>
                </a:lnTo>
                <a:lnTo>
                  <a:pt x="65" y="359"/>
                </a:lnTo>
                <a:lnTo>
                  <a:pt x="46" y="370"/>
                </a:lnTo>
                <a:lnTo>
                  <a:pt x="25" y="380"/>
                </a:lnTo>
                <a:lnTo>
                  <a:pt x="13" y="349"/>
                </a:lnTo>
                <a:lnTo>
                  <a:pt x="0" y="3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4"/>
          <p:cNvSpPr/>
          <p:nvPr/>
        </p:nvSpPr>
        <p:spPr>
          <a:xfrm>
            <a:off x="2218680" y="2279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114880" y="2114640"/>
          <a:ext cx="3041640" cy="303984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4" name="组合 8"/>
          <p:cNvGrpSpPr/>
          <p:nvPr/>
        </p:nvGrpSpPr>
        <p:grpSpPr>
          <a:xfrm>
            <a:off x="1400040" y="3706920"/>
            <a:ext cx="2840040" cy="1571400"/>
            <a:chOff x="1400040" y="3706920"/>
            <a:chExt cx="2840040" cy="1571400"/>
          </a:xfrm>
        </p:grpSpPr>
        <p:pic>
          <p:nvPicPr>
            <p:cNvPr id="24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706920"/>
              <a:ext cx="284004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矩形 2"/>
            <p:cNvSpPr/>
            <p:nvPr/>
          </p:nvSpPr>
          <p:spPr>
            <a:xfrm>
              <a:off x="1444680" y="43196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半部分，左竖稍短，右竖稍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矩形 3"/>
          <p:cNvSpPr/>
          <p:nvPr/>
        </p:nvSpPr>
        <p:spPr>
          <a:xfrm>
            <a:off x="2046240" y="1600200"/>
            <a:ext cx="16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115"/>
          <p:cNvSpPr/>
          <p:nvPr/>
        </p:nvSpPr>
        <p:spPr>
          <a:xfrm>
            <a:off x="6342120" y="3979800"/>
            <a:ext cx="395280" cy="262080"/>
          </a:xfrm>
          <a:custGeom>
            <a:avLst/>
            <a:gdLst/>
            <a:ahLst/>
            <a:rect l="l" t="t" r="r" b="b"/>
            <a:pathLst>
              <a:path w="497" h="330">
                <a:moveTo>
                  <a:pt x="116" y="167"/>
                </a:moveTo>
                <a:lnTo>
                  <a:pt x="102" y="155"/>
                </a:lnTo>
                <a:lnTo>
                  <a:pt x="91" y="142"/>
                </a:lnTo>
                <a:lnTo>
                  <a:pt x="79" y="130"/>
                </a:lnTo>
                <a:lnTo>
                  <a:pt x="68" y="119"/>
                </a:lnTo>
                <a:lnTo>
                  <a:pt x="58" y="107"/>
                </a:lnTo>
                <a:lnTo>
                  <a:pt x="48" y="96"/>
                </a:lnTo>
                <a:lnTo>
                  <a:pt x="39" y="84"/>
                </a:lnTo>
                <a:lnTo>
                  <a:pt x="31" y="73"/>
                </a:lnTo>
                <a:lnTo>
                  <a:pt x="25" y="63"/>
                </a:lnTo>
                <a:lnTo>
                  <a:pt x="18" y="52"/>
                </a:lnTo>
                <a:lnTo>
                  <a:pt x="14" y="42"/>
                </a:lnTo>
                <a:lnTo>
                  <a:pt x="8" y="32"/>
                </a:lnTo>
                <a:lnTo>
                  <a:pt x="6" y="23"/>
                </a:lnTo>
                <a:lnTo>
                  <a:pt x="2" y="15"/>
                </a:lnTo>
                <a:lnTo>
                  <a:pt x="2" y="7"/>
                </a:lnTo>
                <a:lnTo>
                  <a:pt x="0" y="0"/>
                </a:lnTo>
                <a:lnTo>
                  <a:pt x="35" y="4"/>
                </a:lnTo>
                <a:lnTo>
                  <a:pt x="68" y="9"/>
                </a:lnTo>
                <a:lnTo>
                  <a:pt x="98" y="13"/>
                </a:lnTo>
                <a:lnTo>
                  <a:pt x="127" y="19"/>
                </a:lnTo>
                <a:lnTo>
                  <a:pt x="156" y="25"/>
                </a:lnTo>
                <a:lnTo>
                  <a:pt x="181" y="28"/>
                </a:lnTo>
                <a:lnTo>
                  <a:pt x="206" y="34"/>
                </a:lnTo>
                <a:lnTo>
                  <a:pt x="231" y="40"/>
                </a:lnTo>
                <a:lnTo>
                  <a:pt x="252" y="46"/>
                </a:lnTo>
                <a:lnTo>
                  <a:pt x="273" y="52"/>
                </a:lnTo>
                <a:lnTo>
                  <a:pt x="292" y="57"/>
                </a:lnTo>
                <a:lnTo>
                  <a:pt x="311" y="63"/>
                </a:lnTo>
                <a:lnTo>
                  <a:pt x="329" y="69"/>
                </a:lnTo>
                <a:lnTo>
                  <a:pt x="344" y="75"/>
                </a:lnTo>
                <a:lnTo>
                  <a:pt x="359" y="82"/>
                </a:lnTo>
                <a:lnTo>
                  <a:pt x="373" y="90"/>
                </a:lnTo>
                <a:lnTo>
                  <a:pt x="394" y="103"/>
                </a:lnTo>
                <a:lnTo>
                  <a:pt x="413" y="119"/>
                </a:lnTo>
                <a:lnTo>
                  <a:pt x="430" y="134"/>
                </a:lnTo>
                <a:lnTo>
                  <a:pt x="438" y="142"/>
                </a:lnTo>
                <a:lnTo>
                  <a:pt x="446" y="149"/>
                </a:lnTo>
                <a:lnTo>
                  <a:pt x="453" y="157"/>
                </a:lnTo>
                <a:lnTo>
                  <a:pt x="459" y="165"/>
                </a:lnTo>
                <a:lnTo>
                  <a:pt x="467" y="174"/>
                </a:lnTo>
                <a:lnTo>
                  <a:pt x="471" y="182"/>
                </a:lnTo>
                <a:lnTo>
                  <a:pt x="476" y="192"/>
                </a:lnTo>
                <a:lnTo>
                  <a:pt x="480" y="199"/>
                </a:lnTo>
                <a:lnTo>
                  <a:pt x="484" y="209"/>
                </a:lnTo>
                <a:lnTo>
                  <a:pt x="488" y="219"/>
                </a:lnTo>
                <a:lnTo>
                  <a:pt x="490" y="230"/>
                </a:lnTo>
                <a:lnTo>
                  <a:pt x="492" y="242"/>
                </a:lnTo>
                <a:lnTo>
                  <a:pt x="494" y="251"/>
                </a:lnTo>
                <a:lnTo>
                  <a:pt x="496" y="261"/>
                </a:lnTo>
                <a:lnTo>
                  <a:pt x="496" y="268"/>
                </a:lnTo>
                <a:lnTo>
                  <a:pt x="497" y="276"/>
                </a:lnTo>
                <a:lnTo>
                  <a:pt x="497" y="284"/>
                </a:lnTo>
                <a:lnTo>
                  <a:pt x="497" y="290"/>
                </a:lnTo>
                <a:lnTo>
                  <a:pt x="497" y="295"/>
                </a:lnTo>
                <a:lnTo>
                  <a:pt x="497" y="301"/>
                </a:lnTo>
                <a:lnTo>
                  <a:pt x="496" y="305"/>
                </a:lnTo>
                <a:lnTo>
                  <a:pt x="496" y="309"/>
                </a:lnTo>
                <a:lnTo>
                  <a:pt x="492" y="316"/>
                </a:lnTo>
                <a:lnTo>
                  <a:pt x="488" y="322"/>
                </a:lnTo>
                <a:lnTo>
                  <a:pt x="484" y="324"/>
                </a:lnTo>
                <a:lnTo>
                  <a:pt x="480" y="326"/>
                </a:lnTo>
                <a:lnTo>
                  <a:pt x="474" y="328"/>
                </a:lnTo>
                <a:lnTo>
                  <a:pt x="469" y="328"/>
                </a:lnTo>
                <a:lnTo>
                  <a:pt x="463" y="330"/>
                </a:lnTo>
                <a:lnTo>
                  <a:pt x="455" y="330"/>
                </a:lnTo>
                <a:lnTo>
                  <a:pt x="446" y="330"/>
                </a:lnTo>
                <a:lnTo>
                  <a:pt x="438" y="330"/>
                </a:lnTo>
                <a:lnTo>
                  <a:pt x="426" y="330"/>
                </a:lnTo>
                <a:lnTo>
                  <a:pt x="417" y="328"/>
                </a:lnTo>
                <a:lnTo>
                  <a:pt x="405" y="326"/>
                </a:lnTo>
                <a:lnTo>
                  <a:pt x="394" y="324"/>
                </a:lnTo>
                <a:lnTo>
                  <a:pt x="382" y="320"/>
                </a:lnTo>
                <a:lnTo>
                  <a:pt x="371" y="318"/>
                </a:lnTo>
                <a:lnTo>
                  <a:pt x="357" y="313"/>
                </a:lnTo>
                <a:lnTo>
                  <a:pt x="344" y="309"/>
                </a:lnTo>
                <a:lnTo>
                  <a:pt x="330" y="303"/>
                </a:lnTo>
                <a:lnTo>
                  <a:pt x="317" y="297"/>
                </a:lnTo>
                <a:lnTo>
                  <a:pt x="302" y="291"/>
                </a:lnTo>
                <a:lnTo>
                  <a:pt x="288" y="284"/>
                </a:lnTo>
                <a:lnTo>
                  <a:pt x="273" y="278"/>
                </a:lnTo>
                <a:lnTo>
                  <a:pt x="259" y="270"/>
                </a:lnTo>
                <a:lnTo>
                  <a:pt x="244" y="261"/>
                </a:lnTo>
                <a:lnTo>
                  <a:pt x="229" y="253"/>
                </a:lnTo>
                <a:lnTo>
                  <a:pt x="200" y="234"/>
                </a:lnTo>
                <a:lnTo>
                  <a:pt x="171" y="213"/>
                </a:lnTo>
                <a:lnTo>
                  <a:pt x="142" y="190"/>
                </a:lnTo>
                <a:lnTo>
                  <a:pt x="116" y="1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16"/>
          <p:cNvSpPr/>
          <p:nvPr/>
        </p:nvSpPr>
        <p:spPr>
          <a:xfrm>
            <a:off x="7126200" y="3986280"/>
            <a:ext cx="601920" cy="371520"/>
          </a:xfrm>
          <a:custGeom>
            <a:avLst/>
            <a:gdLst/>
            <a:ahLst/>
            <a:rect l="l" t="t" r="r" b="b"/>
            <a:pathLst>
              <a:path w="756" h="469">
                <a:moveTo>
                  <a:pt x="700" y="225"/>
                </a:moveTo>
                <a:lnTo>
                  <a:pt x="708" y="235"/>
                </a:lnTo>
                <a:lnTo>
                  <a:pt x="714" y="244"/>
                </a:lnTo>
                <a:lnTo>
                  <a:pt x="721" y="254"/>
                </a:lnTo>
                <a:lnTo>
                  <a:pt x="727" y="263"/>
                </a:lnTo>
                <a:lnTo>
                  <a:pt x="731" y="273"/>
                </a:lnTo>
                <a:lnTo>
                  <a:pt x="737" y="283"/>
                </a:lnTo>
                <a:lnTo>
                  <a:pt x="741" y="292"/>
                </a:lnTo>
                <a:lnTo>
                  <a:pt x="745" y="300"/>
                </a:lnTo>
                <a:lnTo>
                  <a:pt x="746" y="309"/>
                </a:lnTo>
                <a:lnTo>
                  <a:pt x="750" y="319"/>
                </a:lnTo>
                <a:lnTo>
                  <a:pt x="754" y="334"/>
                </a:lnTo>
                <a:lnTo>
                  <a:pt x="756" y="352"/>
                </a:lnTo>
                <a:lnTo>
                  <a:pt x="756" y="367"/>
                </a:lnTo>
                <a:lnTo>
                  <a:pt x="756" y="375"/>
                </a:lnTo>
                <a:lnTo>
                  <a:pt x="756" y="384"/>
                </a:lnTo>
                <a:lnTo>
                  <a:pt x="756" y="392"/>
                </a:lnTo>
                <a:lnTo>
                  <a:pt x="756" y="400"/>
                </a:lnTo>
                <a:lnTo>
                  <a:pt x="756" y="407"/>
                </a:lnTo>
                <a:lnTo>
                  <a:pt x="756" y="413"/>
                </a:lnTo>
                <a:lnTo>
                  <a:pt x="756" y="421"/>
                </a:lnTo>
                <a:lnTo>
                  <a:pt x="754" y="426"/>
                </a:lnTo>
                <a:lnTo>
                  <a:pt x="754" y="436"/>
                </a:lnTo>
                <a:lnTo>
                  <a:pt x="750" y="444"/>
                </a:lnTo>
                <a:lnTo>
                  <a:pt x="746" y="451"/>
                </a:lnTo>
                <a:lnTo>
                  <a:pt x="743" y="457"/>
                </a:lnTo>
                <a:lnTo>
                  <a:pt x="737" y="461"/>
                </a:lnTo>
                <a:lnTo>
                  <a:pt x="731" y="463"/>
                </a:lnTo>
                <a:lnTo>
                  <a:pt x="725" y="467"/>
                </a:lnTo>
                <a:lnTo>
                  <a:pt x="720" y="467"/>
                </a:lnTo>
                <a:lnTo>
                  <a:pt x="712" y="469"/>
                </a:lnTo>
                <a:lnTo>
                  <a:pt x="704" y="469"/>
                </a:lnTo>
                <a:lnTo>
                  <a:pt x="695" y="469"/>
                </a:lnTo>
                <a:lnTo>
                  <a:pt x="685" y="469"/>
                </a:lnTo>
                <a:lnTo>
                  <a:pt x="681" y="469"/>
                </a:lnTo>
                <a:lnTo>
                  <a:pt x="677" y="467"/>
                </a:lnTo>
                <a:lnTo>
                  <a:pt x="672" y="465"/>
                </a:lnTo>
                <a:lnTo>
                  <a:pt x="666" y="463"/>
                </a:lnTo>
                <a:lnTo>
                  <a:pt x="656" y="459"/>
                </a:lnTo>
                <a:lnTo>
                  <a:pt x="649" y="455"/>
                </a:lnTo>
                <a:lnTo>
                  <a:pt x="637" y="450"/>
                </a:lnTo>
                <a:lnTo>
                  <a:pt x="626" y="444"/>
                </a:lnTo>
                <a:lnTo>
                  <a:pt x="614" y="436"/>
                </a:lnTo>
                <a:lnTo>
                  <a:pt x="599" y="428"/>
                </a:lnTo>
                <a:lnTo>
                  <a:pt x="583" y="419"/>
                </a:lnTo>
                <a:lnTo>
                  <a:pt x="568" y="409"/>
                </a:lnTo>
                <a:lnTo>
                  <a:pt x="551" y="400"/>
                </a:lnTo>
                <a:lnTo>
                  <a:pt x="531" y="388"/>
                </a:lnTo>
                <a:lnTo>
                  <a:pt x="512" y="377"/>
                </a:lnTo>
                <a:lnTo>
                  <a:pt x="491" y="363"/>
                </a:lnTo>
                <a:lnTo>
                  <a:pt x="468" y="350"/>
                </a:lnTo>
                <a:lnTo>
                  <a:pt x="445" y="334"/>
                </a:lnTo>
                <a:lnTo>
                  <a:pt x="422" y="319"/>
                </a:lnTo>
                <a:lnTo>
                  <a:pt x="395" y="302"/>
                </a:lnTo>
                <a:lnTo>
                  <a:pt x="368" y="284"/>
                </a:lnTo>
                <a:lnTo>
                  <a:pt x="341" y="265"/>
                </a:lnTo>
                <a:lnTo>
                  <a:pt x="313" y="246"/>
                </a:lnTo>
                <a:lnTo>
                  <a:pt x="282" y="227"/>
                </a:lnTo>
                <a:lnTo>
                  <a:pt x="251" y="206"/>
                </a:lnTo>
                <a:lnTo>
                  <a:pt x="219" y="183"/>
                </a:lnTo>
                <a:lnTo>
                  <a:pt x="184" y="160"/>
                </a:lnTo>
                <a:lnTo>
                  <a:pt x="150" y="137"/>
                </a:lnTo>
                <a:lnTo>
                  <a:pt x="113" y="112"/>
                </a:lnTo>
                <a:lnTo>
                  <a:pt x="77" y="85"/>
                </a:lnTo>
                <a:lnTo>
                  <a:pt x="38" y="58"/>
                </a:lnTo>
                <a:lnTo>
                  <a:pt x="0" y="31"/>
                </a:lnTo>
                <a:lnTo>
                  <a:pt x="4" y="25"/>
                </a:lnTo>
                <a:lnTo>
                  <a:pt x="11" y="21"/>
                </a:lnTo>
                <a:lnTo>
                  <a:pt x="17" y="18"/>
                </a:lnTo>
                <a:lnTo>
                  <a:pt x="25" y="14"/>
                </a:lnTo>
                <a:lnTo>
                  <a:pt x="34" y="10"/>
                </a:lnTo>
                <a:lnTo>
                  <a:pt x="44" y="8"/>
                </a:lnTo>
                <a:lnTo>
                  <a:pt x="54" y="6"/>
                </a:lnTo>
                <a:lnTo>
                  <a:pt x="63" y="2"/>
                </a:lnTo>
                <a:lnTo>
                  <a:pt x="75" y="2"/>
                </a:lnTo>
                <a:lnTo>
                  <a:pt x="86" y="0"/>
                </a:lnTo>
                <a:lnTo>
                  <a:pt x="98" y="0"/>
                </a:lnTo>
                <a:lnTo>
                  <a:pt x="111" y="0"/>
                </a:lnTo>
                <a:lnTo>
                  <a:pt x="125" y="0"/>
                </a:lnTo>
                <a:lnTo>
                  <a:pt x="140" y="2"/>
                </a:lnTo>
                <a:lnTo>
                  <a:pt x="155" y="2"/>
                </a:lnTo>
                <a:lnTo>
                  <a:pt x="171" y="6"/>
                </a:lnTo>
                <a:lnTo>
                  <a:pt x="203" y="10"/>
                </a:lnTo>
                <a:lnTo>
                  <a:pt x="238" y="18"/>
                </a:lnTo>
                <a:lnTo>
                  <a:pt x="274" y="25"/>
                </a:lnTo>
                <a:lnTo>
                  <a:pt x="292" y="29"/>
                </a:lnTo>
                <a:lnTo>
                  <a:pt x="311" y="33"/>
                </a:lnTo>
                <a:lnTo>
                  <a:pt x="332" y="39"/>
                </a:lnTo>
                <a:lnTo>
                  <a:pt x="351" y="45"/>
                </a:lnTo>
                <a:lnTo>
                  <a:pt x="372" y="50"/>
                </a:lnTo>
                <a:lnTo>
                  <a:pt x="393" y="56"/>
                </a:lnTo>
                <a:lnTo>
                  <a:pt x="416" y="62"/>
                </a:lnTo>
                <a:lnTo>
                  <a:pt x="437" y="68"/>
                </a:lnTo>
                <a:lnTo>
                  <a:pt x="460" y="75"/>
                </a:lnTo>
                <a:lnTo>
                  <a:pt x="485" y="83"/>
                </a:lnTo>
                <a:lnTo>
                  <a:pt x="507" y="91"/>
                </a:lnTo>
                <a:lnTo>
                  <a:pt x="526" y="98"/>
                </a:lnTo>
                <a:lnTo>
                  <a:pt x="545" y="106"/>
                </a:lnTo>
                <a:lnTo>
                  <a:pt x="562" y="114"/>
                </a:lnTo>
                <a:lnTo>
                  <a:pt x="579" y="123"/>
                </a:lnTo>
                <a:lnTo>
                  <a:pt x="595" y="131"/>
                </a:lnTo>
                <a:lnTo>
                  <a:pt x="610" y="141"/>
                </a:lnTo>
                <a:lnTo>
                  <a:pt x="624" y="148"/>
                </a:lnTo>
                <a:lnTo>
                  <a:pt x="637" y="158"/>
                </a:lnTo>
                <a:lnTo>
                  <a:pt x="649" y="167"/>
                </a:lnTo>
                <a:lnTo>
                  <a:pt x="660" y="177"/>
                </a:lnTo>
                <a:lnTo>
                  <a:pt x="670" y="187"/>
                </a:lnTo>
                <a:lnTo>
                  <a:pt x="679" y="196"/>
                </a:lnTo>
                <a:lnTo>
                  <a:pt x="687" y="206"/>
                </a:lnTo>
                <a:lnTo>
                  <a:pt x="693" y="215"/>
                </a:lnTo>
                <a:lnTo>
                  <a:pt x="700" y="2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117"/>
          <p:cNvSpPr/>
          <p:nvPr/>
        </p:nvSpPr>
        <p:spPr>
          <a:xfrm>
            <a:off x="5942160" y="4051440"/>
            <a:ext cx="1490400" cy="711000"/>
          </a:xfrm>
          <a:custGeom>
            <a:avLst/>
            <a:gdLst/>
            <a:ahLst/>
            <a:rect l="l" t="t" r="r" b="b"/>
            <a:pathLst>
              <a:path w="1879" h="894">
                <a:moveTo>
                  <a:pt x="1792" y="631"/>
                </a:moveTo>
                <a:lnTo>
                  <a:pt x="1802" y="633"/>
                </a:lnTo>
                <a:lnTo>
                  <a:pt x="1811" y="637"/>
                </a:lnTo>
                <a:lnTo>
                  <a:pt x="1821" y="639"/>
                </a:lnTo>
                <a:lnTo>
                  <a:pt x="1831" y="643"/>
                </a:lnTo>
                <a:lnTo>
                  <a:pt x="1838" y="647"/>
                </a:lnTo>
                <a:lnTo>
                  <a:pt x="1844" y="651"/>
                </a:lnTo>
                <a:lnTo>
                  <a:pt x="1852" y="654"/>
                </a:lnTo>
                <a:lnTo>
                  <a:pt x="1857" y="658"/>
                </a:lnTo>
                <a:lnTo>
                  <a:pt x="1861" y="664"/>
                </a:lnTo>
                <a:lnTo>
                  <a:pt x="1865" y="668"/>
                </a:lnTo>
                <a:lnTo>
                  <a:pt x="1869" y="672"/>
                </a:lnTo>
                <a:lnTo>
                  <a:pt x="1873" y="677"/>
                </a:lnTo>
                <a:lnTo>
                  <a:pt x="1875" y="681"/>
                </a:lnTo>
                <a:lnTo>
                  <a:pt x="1877" y="687"/>
                </a:lnTo>
                <a:lnTo>
                  <a:pt x="1879" y="691"/>
                </a:lnTo>
                <a:lnTo>
                  <a:pt x="1879" y="697"/>
                </a:lnTo>
                <a:lnTo>
                  <a:pt x="1879" y="701"/>
                </a:lnTo>
                <a:lnTo>
                  <a:pt x="1877" y="706"/>
                </a:lnTo>
                <a:lnTo>
                  <a:pt x="1873" y="710"/>
                </a:lnTo>
                <a:lnTo>
                  <a:pt x="1871" y="716"/>
                </a:lnTo>
                <a:lnTo>
                  <a:pt x="1865" y="720"/>
                </a:lnTo>
                <a:lnTo>
                  <a:pt x="1861" y="725"/>
                </a:lnTo>
                <a:lnTo>
                  <a:pt x="1854" y="731"/>
                </a:lnTo>
                <a:lnTo>
                  <a:pt x="1848" y="735"/>
                </a:lnTo>
                <a:lnTo>
                  <a:pt x="1840" y="741"/>
                </a:lnTo>
                <a:lnTo>
                  <a:pt x="1831" y="747"/>
                </a:lnTo>
                <a:lnTo>
                  <a:pt x="1821" y="752"/>
                </a:lnTo>
                <a:lnTo>
                  <a:pt x="1811" y="760"/>
                </a:lnTo>
                <a:lnTo>
                  <a:pt x="1800" y="766"/>
                </a:lnTo>
                <a:lnTo>
                  <a:pt x="1788" y="772"/>
                </a:lnTo>
                <a:lnTo>
                  <a:pt x="1777" y="779"/>
                </a:lnTo>
                <a:lnTo>
                  <a:pt x="1763" y="787"/>
                </a:lnTo>
                <a:lnTo>
                  <a:pt x="1750" y="793"/>
                </a:lnTo>
                <a:lnTo>
                  <a:pt x="1735" y="800"/>
                </a:lnTo>
                <a:lnTo>
                  <a:pt x="1721" y="806"/>
                </a:lnTo>
                <a:lnTo>
                  <a:pt x="1706" y="814"/>
                </a:lnTo>
                <a:lnTo>
                  <a:pt x="1689" y="820"/>
                </a:lnTo>
                <a:lnTo>
                  <a:pt x="1673" y="825"/>
                </a:lnTo>
                <a:lnTo>
                  <a:pt x="1639" y="837"/>
                </a:lnTo>
                <a:lnTo>
                  <a:pt x="1602" y="846"/>
                </a:lnTo>
                <a:lnTo>
                  <a:pt x="1566" y="856"/>
                </a:lnTo>
                <a:lnTo>
                  <a:pt x="1529" y="867"/>
                </a:lnTo>
                <a:lnTo>
                  <a:pt x="1493" y="877"/>
                </a:lnTo>
                <a:lnTo>
                  <a:pt x="1449" y="881"/>
                </a:lnTo>
                <a:lnTo>
                  <a:pt x="1403" y="887"/>
                </a:lnTo>
                <a:lnTo>
                  <a:pt x="1357" y="891"/>
                </a:lnTo>
                <a:lnTo>
                  <a:pt x="1332" y="891"/>
                </a:lnTo>
                <a:lnTo>
                  <a:pt x="1307" y="892"/>
                </a:lnTo>
                <a:lnTo>
                  <a:pt x="1282" y="894"/>
                </a:lnTo>
                <a:lnTo>
                  <a:pt x="1257" y="894"/>
                </a:lnTo>
                <a:lnTo>
                  <a:pt x="1230" y="894"/>
                </a:lnTo>
                <a:lnTo>
                  <a:pt x="1205" y="894"/>
                </a:lnTo>
                <a:lnTo>
                  <a:pt x="1176" y="894"/>
                </a:lnTo>
                <a:lnTo>
                  <a:pt x="1149" y="892"/>
                </a:lnTo>
                <a:lnTo>
                  <a:pt x="1120" y="891"/>
                </a:lnTo>
                <a:lnTo>
                  <a:pt x="1092" y="889"/>
                </a:lnTo>
                <a:lnTo>
                  <a:pt x="1063" y="887"/>
                </a:lnTo>
                <a:lnTo>
                  <a:pt x="1034" y="885"/>
                </a:lnTo>
                <a:lnTo>
                  <a:pt x="1005" y="881"/>
                </a:lnTo>
                <a:lnTo>
                  <a:pt x="978" y="879"/>
                </a:lnTo>
                <a:lnTo>
                  <a:pt x="952" y="877"/>
                </a:lnTo>
                <a:lnTo>
                  <a:pt x="927" y="873"/>
                </a:lnTo>
                <a:lnTo>
                  <a:pt x="902" y="869"/>
                </a:lnTo>
                <a:lnTo>
                  <a:pt x="877" y="867"/>
                </a:lnTo>
                <a:lnTo>
                  <a:pt x="852" y="864"/>
                </a:lnTo>
                <a:lnTo>
                  <a:pt x="829" y="860"/>
                </a:lnTo>
                <a:lnTo>
                  <a:pt x="808" y="854"/>
                </a:lnTo>
                <a:lnTo>
                  <a:pt x="785" y="850"/>
                </a:lnTo>
                <a:lnTo>
                  <a:pt x="763" y="844"/>
                </a:lnTo>
                <a:lnTo>
                  <a:pt x="744" y="839"/>
                </a:lnTo>
                <a:lnTo>
                  <a:pt x="723" y="831"/>
                </a:lnTo>
                <a:lnTo>
                  <a:pt x="706" y="825"/>
                </a:lnTo>
                <a:lnTo>
                  <a:pt x="667" y="810"/>
                </a:lnTo>
                <a:lnTo>
                  <a:pt x="631" y="795"/>
                </a:lnTo>
                <a:lnTo>
                  <a:pt x="593" y="779"/>
                </a:lnTo>
                <a:lnTo>
                  <a:pt x="556" y="764"/>
                </a:lnTo>
                <a:lnTo>
                  <a:pt x="522" y="747"/>
                </a:lnTo>
                <a:lnTo>
                  <a:pt x="502" y="737"/>
                </a:lnTo>
                <a:lnTo>
                  <a:pt x="485" y="727"/>
                </a:lnTo>
                <a:lnTo>
                  <a:pt x="468" y="718"/>
                </a:lnTo>
                <a:lnTo>
                  <a:pt x="453" y="706"/>
                </a:lnTo>
                <a:lnTo>
                  <a:pt x="435" y="695"/>
                </a:lnTo>
                <a:lnTo>
                  <a:pt x="420" y="683"/>
                </a:lnTo>
                <a:lnTo>
                  <a:pt x="401" y="670"/>
                </a:lnTo>
                <a:lnTo>
                  <a:pt x="383" y="658"/>
                </a:lnTo>
                <a:lnTo>
                  <a:pt x="366" y="647"/>
                </a:lnTo>
                <a:lnTo>
                  <a:pt x="349" y="633"/>
                </a:lnTo>
                <a:lnTo>
                  <a:pt x="316" y="608"/>
                </a:lnTo>
                <a:lnTo>
                  <a:pt x="287" y="583"/>
                </a:lnTo>
                <a:lnTo>
                  <a:pt x="259" y="557"/>
                </a:lnTo>
                <a:lnTo>
                  <a:pt x="243" y="541"/>
                </a:lnTo>
                <a:lnTo>
                  <a:pt x="230" y="528"/>
                </a:lnTo>
                <a:lnTo>
                  <a:pt x="216" y="512"/>
                </a:lnTo>
                <a:lnTo>
                  <a:pt x="203" y="497"/>
                </a:lnTo>
                <a:lnTo>
                  <a:pt x="190" y="480"/>
                </a:lnTo>
                <a:lnTo>
                  <a:pt x="176" y="464"/>
                </a:lnTo>
                <a:lnTo>
                  <a:pt x="163" y="447"/>
                </a:lnTo>
                <a:lnTo>
                  <a:pt x="151" y="430"/>
                </a:lnTo>
                <a:lnTo>
                  <a:pt x="140" y="413"/>
                </a:lnTo>
                <a:lnTo>
                  <a:pt x="128" y="395"/>
                </a:lnTo>
                <a:lnTo>
                  <a:pt x="117" y="378"/>
                </a:lnTo>
                <a:lnTo>
                  <a:pt x="107" y="361"/>
                </a:lnTo>
                <a:lnTo>
                  <a:pt x="97" y="343"/>
                </a:lnTo>
                <a:lnTo>
                  <a:pt x="88" y="324"/>
                </a:lnTo>
                <a:lnTo>
                  <a:pt x="80" y="307"/>
                </a:lnTo>
                <a:lnTo>
                  <a:pt x="72" y="288"/>
                </a:lnTo>
                <a:lnTo>
                  <a:pt x="57" y="249"/>
                </a:lnTo>
                <a:lnTo>
                  <a:pt x="51" y="230"/>
                </a:lnTo>
                <a:lnTo>
                  <a:pt x="44" y="209"/>
                </a:lnTo>
                <a:lnTo>
                  <a:pt x="38" y="188"/>
                </a:lnTo>
                <a:lnTo>
                  <a:pt x="34" y="167"/>
                </a:lnTo>
                <a:lnTo>
                  <a:pt x="26" y="148"/>
                </a:lnTo>
                <a:lnTo>
                  <a:pt x="19" y="130"/>
                </a:lnTo>
                <a:lnTo>
                  <a:pt x="13" y="115"/>
                </a:lnTo>
                <a:lnTo>
                  <a:pt x="9" y="100"/>
                </a:lnTo>
                <a:lnTo>
                  <a:pt x="5" y="84"/>
                </a:lnTo>
                <a:lnTo>
                  <a:pt x="3" y="73"/>
                </a:lnTo>
                <a:lnTo>
                  <a:pt x="0" y="59"/>
                </a:lnTo>
                <a:lnTo>
                  <a:pt x="0" y="50"/>
                </a:lnTo>
                <a:lnTo>
                  <a:pt x="0" y="40"/>
                </a:lnTo>
                <a:lnTo>
                  <a:pt x="0" y="31"/>
                </a:lnTo>
                <a:lnTo>
                  <a:pt x="1" y="23"/>
                </a:lnTo>
                <a:lnTo>
                  <a:pt x="3" y="17"/>
                </a:lnTo>
                <a:lnTo>
                  <a:pt x="5" y="11"/>
                </a:lnTo>
                <a:lnTo>
                  <a:pt x="9" y="6"/>
                </a:lnTo>
                <a:lnTo>
                  <a:pt x="13" y="2"/>
                </a:lnTo>
                <a:lnTo>
                  <a:pt x="19" y="0"/>
                </a:lnTo>
                <a:lnTo>
                  <a:pt x="23" y="0"/>
                </a:lnTo>
                <a:lnTo>
                  <a:pt x="26" y="2"/>
                </a:lnTo>
                <a:lnTo>
                  <a:pt x="30" y="4"/>
                </a:lnTo>
                <a:lnTo>
                  <a:pt x="34" y="8"/>
                </a:lnTo>
                <a:lnTo>
                  <a:pt x="40" y="11"/>
                </a:lnTo>
                <a:lnTo>
                  <a:pt x="46" y="17"/>
                </a:lnTo>
                <a:lnTo>
                  <a:pt x="51" y="23"/>
                </a:lnTo>
                <a:lnTo>
                  <a:pt x="59" y="31"/>
                </a:lnTo>
                <a:lnTo>
                  <a:pt x="65" y="38"/>
                </a:lnTo>
                <a:lnTo>
                  <a:pt x="72" y="48"/>
                </a:lnTo>
                <a:lnTo>
                  <a:pt x="80" y="58"/>
                </a:lnTo>
                <a:lnTo>
                  <a:pt x="88" y="71"/>
                </a:lnTo>
                <a:lnTo>
                  <a:pt x="96" y="82"/>
                </a:lnTo>
                <a:lnTo>
                  <a:pt x="103" y="98"/>
                </a:lnTo>
                <a:lnTo>
                  <a:pt x="111" y="111"/>
                </a:lnTo>
                <a:lnTo>
                  <a:pt x="119" y="129"/>
                </a:lnTo>
                <a:lnTo>
                  <a:pt x="136" y="161"/>
                </a:lnTo>
                <a:lnTo>
                  <a:pt x="153" y="194"/>
                </a:lnTo>
                <a:lnTo>
                  <a:pt x="174" y="224"/>
                </a:lnTo>
                <a:lnTo>
                  <a:pt x="184" y="240"/>
                </a:lnTo>
                <a:lnTo>
                  <a:pt x="195" y="255"/>
                </a:lnTo>
                <a:lnTo>
                  <a:pt x="207" y="271"/>
                </a:lnTo>
                <a:lnTo>
                  <a:pt x="220" y="286"/>
                </a:lnTo>
                <a:lnTo>
                  <a:pt x="232" y="299"/>
                </a:lnTo>
                <a:lnTo>
                  <a:pt x="245" y="315"/>
                </a:lnTo>
                <a:lnTo>
                  <a:pt x="261" y="330"/>
                </a:lnTo>
                <a:lnTo>
                  <a:pt x="274" y="343"/>
                </a:lnTo>
                <a:lnTo>
                  <a:pt x="289" y="359"/>
                </a:lnTo>
                <a:lnTo>
                  <a:pt x="305" y="374"/>
                </a:lnTo>
                <a:lnTo>
                  <a:pt x="318" y="390"/>
                </a:lnTo>
                <a:lnTo>
                  <a:pt x="334" y="407"/>
                </a:lnTo>
                <a:lnTo>
                  <a:pt x="349" y="422"/>
                </a:lnTo>
                <a:lnTo>
                  <a:pt x="366" y="438"/>
                </a:lnTo>
                <a:lnTo>
                  <a:pt x="383" y="451"/>
                </a:lnTo>
                <a:lnTo>
                  <a:pt x="401" y="466"/>
                </a:lnTo>
                <a:lnTo>
                  <a:pt x="420" y="480"/>
                </a:lnTo>
                <a:lnTo>
                  <a:pt x="441" y="493"/>
                </a:lnTo>
                <a:lnTo>
                  <a:pt x="460" y="507"/>
                </a:lnTo>
                <a:lnTo>
                  <a:pt x="481" y="518"/>
                </a:lnTo>
                <a:lnTo>
                  <a:pt x="504" y="532"/>
                </a:lnTo>
                <a:lnTo>
                  <a:pt x="525" y="543"/>
                </a:lnTo>
                <a:lnTo>
                  <a:pt x="548" y="557"/>
                </a:lnTo>
                <a:lnTo>
                  <a:pt x="572" y="568"/>
                </a:lnTo>
                <a:lnTo>
                  <a:pt x="620" y="593"/>
                </a:lnTo>
                <a:lnTo>
                  <a:pt x="644" y="605"/>
                </a:lnTo>
                <a:lnTo>
                  <a:pt x="669" y="616"/>
                </a:lnTo>
                <a:lnTo>
                  <a:pt x="694" y="626"/>
                </a:lnTo>
                <a:lnTo>
                  <a:pt x="721" y="635"/>
                </a:lnTo>
                <a:lnTo>
                  <a:pt x="748" y="643"/>
                </a:lnTo>
                <a:lnTo>
                  <a:pt x="775" y="651"/>
                </a:lnTo>
                <a:lnTo>
                  <a:pt x="802" y="656"/>
                </a:lnTo>
                <a:lnTo>
                  <a:pt x="831" y="662"/>
                </a:lnTo>
                <a:lnTo>
                  <a:pt x="859" y="668"/>
                </a:lnTo>
                <a:lnTo>
                  <a:pt x="886" y="672"/>
                </a:lnTo>
                <a:lnTo>
                  <a:pt x="917" y="676"/>
                </a:lnTo>
                <a:lnTo>
                  <a:pt x="946" y="677"/>
                </a:lnTo>
                <a:lnTo>
                  <a:pt x="975" y="679"/>
                </a:lnTo>
                <a:lnTo>
                  <a:pt x="1003" y="681"/>
                </a:lnTo>
                <a:lnTo>
                  <a:pt x="1034" y="683"/>
                </a:lnTo>
                <a:lnTo>
                  <a:pt x="1063" y="683"/>
                </a:lnTo>
                <a:lnTo>
                  <a:pt x="1092" y="685"/>
                </a:lnTo>
                <a:lnTo>
                  <a:pt x="1120" y="687"/>
                </a:lnTo>
                <a:lnTo>
                  <a:pt x="1147" y="687"/>
                </a:lnTo>
                <a:lnTo>
                  <a:pt x="1172" y="689"/>
                </a:lnTo>
                <a:lnTo>
                  <a:pt x="1197" y="689"/>
                </a:lnTo>
                <a:lnTo>
                  <a:pt x="1220" y="687"/>
                </a:lnTo>
                <a:lnTo>
                  <a:pt x="1243" y="687"/>
                </a:lnTo>
                <a:lnTo>
                  <a:pt x="1264" y="685"/>
                </a:lnTo>
                <a:lnTo>
                  <a:pt x="1286" y="683"/>
                </a:lnTo>
                <a:lnTo>
                  <a:pt x="1305" y="679"/>
                </a:lnTo>
                <a:lnTo>
                  <a:pt x="1322" y="677"/>
                </a:lnTo>
                <a:lnTo>
                  <a:pt x="1337" y="674"/>
                </a:lnTo>
                <a:lnTo>
                  <a:pt x="1353" y="670"/>
                </a:lnTo>
                <a:lnTo>
                  <a:pt x="1368" y="666"/>
                </a:lnTo>
                <a:lnTo>
                  <a:pt x="1380" y="662"/>
                </a:lnTo>
                <a:lnTo>
                  <a:pt x="1391" y="658"/>
                </a:lnTo>
                <a:lnTo>
                  <a:pt x="1399" y="654"/>
                </a:lnTo>
                <a:lnTo>
                  <a:pt x="1406" y="649"/>
                </a:lnTo>
                <a:lnTo>
                  <a:pt x="1412" y="643"/>
                </a:lnTo>
                <a:lnTo>
                  <a:pt x="1418" y="635"/>
                </a:lnTo>
                <a:lnTo>
                  <a:pt x="1424" y="626"/>
                </a:lnTo>
                <a:lnTo>
                  <a:pt x="1428" y="616"/>
                </a:lnTo>
                <a:lnTo>
                  <a:pt x="1431" y="605"/>
                </a:lnTo>
                <a:lnTo>
                  <a:pt x="1435" y="591"/>
                </a:lnTo>
                <a:lnTo>
                  <a:pt x="1437" y="576"/>
                </a:lnTo>
                <a:lnTo>
                  <a:pt x="1439" y="560"/>
                </a:lnTo>
                <a:lnTo>
                  <a:pt x="1439" y="543"/>
                </a:lnTo>
                <a:lnTo>
                  <a:pt x="1439" y="526"/>
                </a:lnTo>
                <a:lnTo>
                  <a:pt x="1439" y="505"/>
                </a:lnTo>
                <a:lnTo>
                  <a:pt x="1439" y="484"/>
                </a:lnTo>
                <a:lnTo>
                  <a:pt x="1437" y="463"/>
                </a:lnTo>
                <a:lnTo>
                  <a:pt x="1435" y="438"/>
                </a:lnTo>
                <a:lnTo>
                  <a:pt x="1429" y="416"/>
                </a:lnTo>
                <a:lnTo>
                  <a:pt x="1426" y="397"/>
                </a:lnTo>
                <a:lnTo>
                  <a:pt x="1422" y="378"/>
                </a:lnTo>
                <a:lnTo>
                  <a:pt x="1418" y="361"/>
                </a:lnTo>
                <a:lnTo>
                  <a:pt x="1416" y="345"/>
                </a:lnTo>
                <a:lnTo>
                  <a:pt x="1414" y="330"/>
                </a:lnTo>
                <a:lnTo>
                  <a:pt x="1412" y="317"/>
                </a:lnTo>
                <a:lnTo>
                  <a:pt x="1412" y="303"/>
                </a:lnTo>
                <a:lnTo>
                  <a:pt x="1410" y="294"/>
                </a:lnTo>
                <a:lnTo>
                  <a:pt x="1410" y="284"/>
                </a:lnTo>
                <a:lnTo>
                  <a:pt x="1412" y="276"/>
                </a:lnTo>
                <a:lnTo>
                  <a:pt x="1412" y="269"/>
                </a:lnTo>
                <a:lnTo>
                  <a:pt x="1414" y="265"/>
                </a:lnTo>
                <a:lnTo>
                  <a:pt x="1416" y="261"/>
                </a:lnTo>
                <a:lnTo>
                  <a:pt x="1418" y="257"/>
                </a:lnTo>
                <a:lnTo>
                  <a:pt x="1420" y="257"/>
                </a:lnTo>
                <a:lnTo>
                  <a:pt x="1424" y="257"/>
                </a:lnTo>
                <a:lnTo>
                  <a:pt x="1428" y="259"/>
                </a:lnTo>
                <a:lnTo>
                  <a:pt x="1433" y="263"/>
                </a:lnTo>
                <a:lnTo>
                  <a:pt x="1439" y="267"/>
                </a:lnTo>
                <a:lnTo>
                  <a:pt x="1447" y="272"/>
                </a:lnTo>
                <a:lnTo>
                  <a:pt x="1454" y="280"/>
                </a:lnTo>
                <a:lnTo>
                  <a:pt x="1464" y="288"/>
                </a:lnTo>
                <a:lnTo>
                  <a:pt x="1474" y="297"/>
                </a:lnTo>
                <a:lnTo>
                  <a:pt x="1485" y="309"/>
                </a:lnTo>
                <a:lnTo>
                  <a:pt x="1499" y="320"/>
                </a:lnTo>
                <a:lnTo>
                  <a:pt x="1510" y="334"/>
                </a:lnTo>
                <a:lnTo>
                  <a:pt x="1525" y="349"/>
                </a:lnTo>
                <a:lnTo>
                  <a:pt x="1541" y="367"/>
                </a:lnTo>
                <a:lnTo>
                  <a:pt x="1556" y="384"/>
                </a:lnTo>
                <a:lnTo>
                  <a:pt x="1573" y="403"/>
                </a:lnTo>
                <a:lnTo>
                  <a:pt x="1593" y="426"/>
                </a:lnTo>
                <a:lnTo>
                  <a:pt x="1608" y="447"/>
                </a:lnTo>
                <a:lnTo>
                  <a:pt x="1623" y="466"/>
                </a:lnTo>
                <a:lnTo>
                  <a:pt x="1639" y="486"/>
                </a:lnTo>
                <a:lnTo>
                  <a:pt x="1652" y="503"/>
                </a:lnTo>
                <a:lnTo>
                  <a:pt x="1667" y="520"/>
                </a:lnTo>
                <a:lnTo>
                  <a:pt x="1681" y="535"/>
                </a:lnTo>
                <a:lnTo>
                  <a:pt x="1694" y="549"/>
                </a:lnTo>
                <a:lnTo>
                  <a:pt x="1708" y="562"/>
                </a:lnTo>
                <a:lnTo>
                  <a:pt x="1721" y="574"/>
                </a:lnTo>
                <a:lnTo>
                  <a:pt x="1733" y="585"/>
                </a:lnTo>
                <a:lnTo>
                  <a:pt x="1744" y="595"/>
                </a:lnTo>
                <a:lnTo>
                  <a:pt x="1756" y="605"/>
                </a:lnTo>
                <a:lnTo>
                  <a:pt x="1765" y="612"/>
                </a:lnTo>
                <a:lnTo>
                  <a:pt x="1775" y="620"/>
                </a:lnTo>
                <a:lnTo>
                  <a:pt x="1785" y="626"/>
                </a:lnTo>
                <a:lnTo>
                  <a:pt x="1792" y="6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118"/>
          <p:cNvSpPr/>
          <p:nvPr/>
        </p:nvSpPr>
        <p:spPr>
          <a:xfrm>
            <a:off x="5452920" y="4092480"/>
            <a:ext cx="287640" cy="542880"/>
          </a:xfrm>
          <a:custGeom>
            <a:avLst/>
            <a:gdLst/>
            <a:ahLst/>
            <a:rect l="l" t="t" r="r" b="b"/>
            <a:pathLst>
              <a:path w="363" h="683">
                <a:moveTo>
                  <a:pt x="250" y="0"/>
                </a:moveTo>
                <a:lnTo>
                  <a:pt x="263" y="11"/>
                </a:lnTo>
                <a:lnTo>
                  <a:pt x="275" y="25"/>
                </a:lnTo>
                <a:lnTo>
                  <a:pt x="286" y="36"/>
                </a:lnTo>
                <a:lnTo>
                  <a:pt x="298" y="50"/>
                </a:lnTo>
                <a:lnTo>
                  <a:pt x="308" y="63"/>
                </a:lnTo>
                <a:lnTo>
                  <a:pt x="317" y="77"/>
                </a:lnTo>
                <a:lnTo>
                  <a:pt x="325" y="90"/>
                </a:lnTo>
                <a:lnTo>
                  <a:pt x="332" y="101"/>
                </a:lnTo>
                <a:lnTo>
                  <a:pt x="340" y="115"/>
                </a:lnTo>
                <a:lnTo>
                  <a:pt x="346" y="128"/>
                </a:lnTo>
                <a:lnTo>
                  <a:pt x="352" y="142"/>
                </a:lnTo>
                <a:lnTo>
                  <a:pt x="356" y="155"/>
                </a:lnTo>
                <a:lnTo>
                  <a:pt x="359" y="169"/>
                </a:lnTo>
                <a:lnTo>
                  <a:pt x="361" y="180"/>
                </a:lnTo>
                <a:lnTo>
                  <a:pt x="363" y="194"/>
                </a:lnTo>
                <a:lnTo>
                  <a:pt x="363" y="205"/>
                </a:lnTo>
                <a:lnTo>
                  <a:pt x="363" y="230"/>
                </a:lnTo>
                <a:lnTo>
                  <a:pt x="361" y="255"/>
                </a:lnTo>
                <a:lnTo>
                  <a:pt x="357" y="282"/>
                </a:lnTo>
                <a:lnTo>
                  <a:pt x="354" y="311"/>
                </a:lnTo>
                <a:lnTo>
                  <a:pt x="348" y="338"/>
                </a:lnTo>
                <a:lnTo>
                  <a:pt x="340" y="366"/>
                </a:lnTo>
                <a:lnTo>
                  <a:pt x="331" y="395"/>
                </a:lnTo>
                <a:lnTo>
                  <a:pt x="321" y="424"/>
                </a:lnTo>
                <a:lnTo>
                  <a:pt x="309" y="453"/>
                </a:lnTo>
                <a:lnTo>
                  <a:pt x="298" y="480"/>
                </a:lnTo>
                <a:lnTo>
                  <a:pt x="285" y="505"/>
                </a:lnTo>
                <a:lnTo>
                  <a:pt x="269" y="530"/>
                </a:lnTo>
                <a:lnTo>
                  <a:pt x="261" y="541"/>
                </a:lnTo>
                <a:lnTo>
                  <a:pt x="254" y="551"/>
                </a:lnTo>
                <a:lnTo>
                  <a:pt x="246" y="562"/>
                </a:lnTo>
                <a:lnTo>
                  <a:pt x="238" y="572"/>
                </a:lnTo>
                <a:lnTo>
                  <a:pt x="231" y="581"/>
                </a:lnTo>
                <a:lnTo>
                  <a:pt x="223" y="589"/>
                </a:lnTo>
                <a:lnTo>
                  <a:pt x="215" y="599"/>
                </a:lnTo>
                <a:lnTo>
                  <a:pt x="208" y="606"/>
                </a:lnTo>
                <a:lnTo>
                  <a:pt x="196" y="614"/>
                </a:lnTo>
                <a:lnTo>
                  <a:pt x="187" y="624"/>
                </a:lnTo>
                <a:lnTo>
                  <a:pt x="177" y="631"/>
                </a:lnTo>
                <a:lnTo>
                  <a:pt x="167" y="639"/>
                </a:lnTo>
                <a:lnTo>
                  <a:pt x="158" y="647"/>
                </a:lnTo>
                <a:lnTo>
                  <a:pt x="150" y="652"/>
                </a:lnTo>
                <a:lnTo>
                  <a:pt x="141" y="658"/>
                </a:lnTo>
                <a:lnTo>
                  <a:pt x="133" y="664"/>
                </a:lnTo>
                <a:lnTo>
                  <a:pt x="127" y="668"/>
                </a:lnTo>
                <a:lnTo>
                  <a:pt x="119" y="672"/>
                </a:lnTo>
                <a:lnTo>
                  <a:pt x="114" y="675"/>
                </a:lnTo>
                <a:lnTo>
                  <a:pt x="108" y="677"/>
                </a:lnTo>
                <a:lnTo>
                  <a:pt x="104" y="679"/>
                </a:lnTo>
                <a:lnTo>
                  <a:pt x="98" y="681"/>
                </a:lnTo>
                <a:lnTo>
                  <a:pt x="94" y="683"/>
                </a:lnTo>
                <a:lnTo>
                  <a:pt x="93" y="683"/>
                </a:lnTo>
                <a:lnTo>
                  <a:pt x="89" y="683"/>
                </a:lnTo>
                <a:lnTo>
                  <a:pt x="87" y="681"/>
                </a:lnTo>
                <a:lnTo>
                  <a:pt x="83" y="679"/>
                </a:lnTo>
                <a:lnTo>
                  <a:pt x="79" y="677"/>
                </a:lnTo>
                <a:lnTo>
                  <a:pt x="75" y="675"/>
                </a:lnTo>
                <a:lnTo>
                  <a:pt x="71" y="672"/>
                </a:lnTo>
                <a:lnTo>
                  <a:pt x="68" y="668"/>
                </a:lnTo>
                <a:lnTo>
                  <a:pt x="64" y="664"/>
                </a:lnTo>
                <a:lnTo>
                  <a:pt x="60" y="658"/>
                </a:lnTo>
                <a:lnTo>
                  <a:pt x="56" y="652"/>
                </a:lnTo>
                <a:lnTo>
                  <a:pt x="52" y="647"/>
                </a:lnTo>
                <a:lnTo>
                  <a:pt x="48" y="639"/>
                </a:lnTo>
                <a:lnTo>
                  <a:pt x="45" y="631"/>
                </a:lnTo>
                <a:lnTo>
                  <a:pt x="41" y="624"/>
                </a:lnTo>
                <a:lnTo>
                  <a:pt x="37" y="614"/>
                </a:lnTo>
                <a:lnTo>
                  <a:pt x="35" y="606"/>
                </a:lnTo>
                <a:lnTo>
                  <a:pt x="25" y="591"/>
                </a:lnTo>
                <a:lnTo>
                  <a:pt x="16" y="576"/>
                </a:lnTo>
                <a:lnTo>
                  <a:pt x="10" y="562"/>
                </a:lnTo>
                <a:lnTo>
                  <a:pt x="6" y="556"/>
                </a:lnTo>
                <a:lnTo>
                  <a:pt x="4" y="549"/>
                </a:lnTo>
                <a:lnTo>
                  <a:pt x="2" y="543"/>
                </a:lnTo>
                <a:lnTo>
                  <a:pt x="2" y="535"/>
                </a:lnTo>
                <a:lnTo>
                  <a:pt x="0" y="530"/>
                </a:lnTo>
                <a:lnTo>
                  <a:pt x="0" y="524"/>
                </a:lnTo>
                <a:lnTo>
                  <a:pt x="0" y="518"/>
                </a:lnTo>
                <a:lnTo>
                  <a:pt x="2" y="512"/>
                </a:lnTo>
                <a:lnTo>
                  <a:pt x="4" y="506"/>
                </a:lnTo>
                <a:lnTo>
                  <a:pt x="6" y="503"/>
                </a:lnTo>
                <a:lnTo>
                  <a:pt x="6" y="497"/>
                </a:lnTo>
                <a:lnTo>
                  <a:pt x="8" y="491"/>
                </a:lnTo>
                <a:lnTo>
                  <a:pt x="10" y="485"/>
                </a:lnTo>
                <a:lnTo>
                  <a:pt x="12" y="480"/>
                </a:lnTo>
                <a:lnTo>
                  <a:pt x="14" y="474"/>
                </a:lnTo>
                <a:lnTo>
                  <a:pt x="18" y="466"/>
                </a:lnTo>
                <a:lnTo>
                  <a:pt x="23" y="460"/>
                </a:lnTo>
                <a:lnTo>
                  <a:pt x="27" y="453"/>
                </a:lnTo>
                <a:lnTo>
                  <a:pt x="33" y="445"/>
                </a:lnTo>
                <a:lnTo>
                  <a:pt x="41" y="435"/>
                </a:lnTo>
                <a:lnTo>
                  <a:pt x="47" y="426"/>
                </a:lnTo>
                <a:lnTo>
                  <a:pt x="54" y="416"/>
                </a:lnTo>
                <a:lnTo>
                  <a:pt x="64" y="407"/>
                </a:lnTo>
                <a:lnTo>
                  <a:pt x="71" y="397"/>
                </a:lnTo>
                <a:lnTo>
                  <a:pt x="81" y="386"/>
                </a:lnTo>
                <a:lnTo>
                  <a:pt x="93" y="374"/>
                </a:lnTo>
                <a:lnTo>
                  <a:pt x="100" y="363"/>
                </a:lnTo>
                <a:lnTo>
                  <a:pt x="108" y="349"/>
                </a:lnTo>
                <a:lnTo>
                  <a:pt x="118" y="336"/>
                </a:lnTo>
                <a:lnTo>
                  <a:pt x="127" y="320"/>
                </a:lnTo>
                <a:lnTo>
                  <a:pt x="137" y="303"/>
                </a:lnTo>
                <a:lnTo>
                  <a:pt x="146" y="282"/>
                </a:lnTo>
                <a:lnTo>
                  <a:pt x="156" y="263"/>
                </a:lnTo>
                <a:lnTo>
                  <a:pt x="166" y="240"/>
                </a:lnTo>
                <a:lnTo>
                  <a:pt x="175" y="215"/>
                </a:lnTo>
                <a:lnTo>
                  <a:pt x="187" y="188"/>
                </a:lnTo>
                <a:lnTo>
                  <a:pt x="196" y="161"/>
                </a:lnTo>
                <a:lnTo>
                  <a:pt x="208" y="132"/>
                </a:lnTo>
                <a:lnTo>
                  <a:pt x="217" y="101"/>
                </a:lnTo>
                <a:lnTo>
                  <a:pt x="229" y="69"/>
                </a:lnTo>
                <a:lnTo>
                  <a:pt x="238" y="34"/>
                </a:lnTo>
                <a:lnTo>
                  <a:pt x="25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119"/>
          <p:cNvSpPr/>
          <p:nvPr/>
        </p:nvSpPr>
        <p:spPr>
          <a:xfrm>
            <a:off x="6615000" y="2946240"/>
            <a:ext cx="216000" cy="900360"/>
          </a:xfrm>
          <a:custGeom>
            <a:avLst/>
            <a:gdLst/>
            <a:ahLst/>
            <a:rect l="l" t="t" r="r" b="b"/>
            <a:pathLst>
              <a:path w="272" h="1135">
                <a:moveTo>
                  <a:pt x="244" y="118"/>
                </a:moveTo>
                <a:lnTo>
                  <a:pt x="244" y="119"/>
                </a:lnTo>
                <a:lnTo>
                  <a:pt x="246" y="123"/>
                </a:lnTo>
                <a:lnTo>
                  <a:pt x="248" y="127"/>
                </a:lnTo>
                <a:lnTo>
                  <a:pt x="248" y="131"/>
                </a:lnTo>
                <a:lnTo>
                  <a:pt x="249" y="137"/>
                </a:lnTo>
                <a:lnTo>
                  <a:pt x="251" y="142"/>
                </a:lnTo>
                <a:lnTo>
                  <a:pt x="253" y="150"/>
                </a:lnTo>
                <a:lnTo>
                  <a:pt x="253" y="158"/>
                </a:lnTo>
                <a:lnTo>
                  <a:pt x="255" y="165"/>
                </a:lnTo>
                <a:lnTo>
                  <a:pt x="255" y="175"/>
                </a:lnTo>
                <a:lnTo>
                  <a:pt x="257" y="185"/>
                </a:lnTo>
                <a:lnTo>
                  <a:pt x="259" y="194"/>
                </a:lnTo>
                <a:lnTo>
                  <a:pt x="259" y="206"/>
                </a:lnTo>
                <a:lnTo>
                  <a:pt x="261" y="217"/>
                </a:lnTo>
                <a:lnTo>
                  <a:pt x="261" y="229"/>
                </a:lnTo>
                <a:lnTo>
                  <a:pt x="263" y="242"/>
                </a:lnTo>
                <a:lnTo>
                  <a:pt x="265" y="256"/>
                </a:lnTo>
                <a:lnTo>
                  <a:pt x="265" y="271"/>
                </a:lnTo>
                <a:lnTo>
                  <a:pt x="265" y="284"/>
                </a:lnTo>
                <a:lnTo>
                  <a:pt x="267" y="302"/>
                </a:lnTo>
                <a:lnTo>
                  <a:pt x="267" y="317"/>
                </a:lnTo>
                <a:lnTo>
                  <a:pt x="269" y="334"/>
                </a:lnTo>
                <a:lnTo>
                  <a:pt x="269" y="352"/>
                </a:lnTo>
                <a:lnTo>
                  <a:pt x="269" y="371"/>
                </a:lnTo>
                <a:lnTo>
                  <a:pt x="271" y="390"/>
                </a:lnTo>
                <a:lnTo>
                  <a:pt x="271" y="409"/>
                </a:lnTo>
                <a:lnTo>
                  <a:pt x="271" y="430"/>
                </a:lnTo>
                <a:lnTo>
                  <a:pt x="271" y="451"/>
                </a:lnTo>
                <a:lnTo>
                  <a:pt x="272" y="473"/>
                </a:lnTo>
                <a:lnTo>
                  <a:pt x="272" y="496"/>
                </a:lnTo>
                <a:lnTo>
                  <a:pt x="272" y="519"/>
                </a:lnTo>
                <a:lnTo>
                  <a:pt x="272" y="542"/>
                </a:lnTo>
                <a:lnTo>
                  <a:pt x="272" y="567"/>
                </a:lnTo>
                <a:lnTo>
                  <a:pt x="272" y="590"/>
                </a:lnTo>
                <a:lnTo>
                  <a:pt x="272" y="613"/>
                </a:lnTo>
                <a:lnTo>
                  <a:pt x="271" y="634"/>
                </a:lnTo>
                <a:lnTo>
                  <a:pt x="271" y="657"/>
                </a:lnTo>
                <a:lnTo>
                  <a:pt x="271" y="678"/>
                </a:lnTo>
                <a:lnTo>
                  <a:pt x="271" y="699"/>
                </a:lnTo>
                <a:lnTo>
                  <a:pt x="269" y="718"/>
                </a:lnTo>
                <a:lnTo>
                  <a:pt x="269" y="737"/>
                </a:lnTo>
                <a:lnTo>
                  <a:pt x="269" y="757"/>
                </a:lnTo>
                <a:lnTo>
                  <a:pt x="267" y="776"/>
                </a:lnTo>
                <a:lnTo>
                  <a:pt x="267" y="793"/>
                </a:lnTo>
                <a:lnTo>
                  <a:pt x="265" y="810"/>
                </a:lnTo>
                <a:lnTo>
                  <a:pt x="263" y="828"/>
                </a:lnTo>
                <a:lnTo>
                  <a:pt x="263" y="843"/>
                </a:lnTo>
                <a:lnTo>
                  <a:pt x="261" y="860"/>
                </a:lnTo>
                <a:lnTo>
                  <a:pt x="259" y="874"/>
                </a:lnTo>
                <a:lnTo>
                  <a:pt x="259" y="889"/>
                </a:lnTo>
                <a:lnTo>
                  <a:pt x="257" y="903"/>
                </a:lnTo>
                <a:lnTo>
                  <a:pt x="255" y="916"/>
                </a:lnTo>
                <a:lnTo>
                  <a:pt x="253" y="929"/>
                </a:lnTo>
                <a:lnTo>
                  <a:pt x="251" y="941"/>
                </a:lnTo>
                <a:lnTo>
                  <a:pt x="249" y="952"/>
                </a:lnTo>
                <a:lnTo>
                  <a:pt x="248" y="964"/>
                </a:lnTo>
                <a:lnTo>
                  <a:pt x="246" y="975"/>
                </a:lnTo>
                <a:lnTo>
                  <a:pt x="244" y="985"/>
                </a:lnTo>
                <a:lnTo>
                  <a:pt x="242" y="995"/>
                </a:lnTo>
                <a:lnTo>
                  <a:pt x="238" y="1002"/>
                </a:lnTo>
                <a:lnTo>
                  <a:pt x="236" y="1012"/>
                </a:lnTo>
                <a:lnTo>
                  <a:pt x="234" y="1020"/>
                </a:lnTo>
                <a:lnTo>
                  <a:pt x="232" y="1025"/>
                </a:lnTo>
                <a:lnTo>
                  <a:pt x="228" y="1033"/>
                </a:lnTo>
                <a:lnTo>
                  <a:pt x="224" y="1045"/>
                </a:lnTo>
                <a:lnTo>
                  <a:pt x="219" y="1056"/>
                </a:lnTo>
                <a:lnTo>
                  <a:pt x="215" y="1066"/>
                </a:lnTo>
                <a:lnTo>
                  <a:pt x="211" y="1075"/>
                </a:lnTo>
                <a:lnTo>
                  <a:pt x="205" y="1085"/>
                </a:lnTo>
                <a:lnTo>
                  <a:pt x="201" y="1093"/>
                </a:lnTo>
                <a:lnTo>
                  <a:pt x="200" y="1100"/>
                </a:lnTo>
                <a:lnTo>
                  <a:pt x="196" y="1108"/>
                </a:lnTo>
                <a:lnTo>
                  <a:pt x="192" y="1114"/>
                </a:lnTo>
                <a:lnTo>
                  <a:pt x="188" y="1119"/>
                </a:lnTo>
                <a:lnTo>
                  <a:pt x="186" y="1125"/>
                </a:lnTo>
                <a:lnTo>
                  <a:pt x="182" y="1129"/>
                </a:lnTo>
                <a:lnTo>
                  <a:pt x="180" y="1131"/>
                </a:lnTo>
                <a:lnTo>
                  <a:pt x="176" y="1133"/>
                </a:lnTo>
                <a:lnTo>
                  <a:pt x="175" y="1135"/>
                </a:lnTo>
                <a:lnTo>
                  <a:pt x="173" y="1135"/>
                </a:lnTo>
                <a:lnTo>
                  <a:pt x="169" y="1135"/>
                </a:lnTo>
                <a:lnTo>
                  <a:pt x="167" y="1135"/>
                </a:lnTo>
                <a:lnTo>
                  <a:pt x="163" y="1133"/>
                </a:lnTo>
                <a:lnTo>
                  <a:pt x="161" y="1131"/>
                </a:lnTo>
                <a:lnTo>
                  <a:pt x="157" y="1127"/>
                </a:lnTo>
                <a:lnTo>
                  <a:pt x="155" y="1123"/>
                </a:lnTo>
                <a:lnTo>
                  <a:pt x="152" y="1119"/>
                </a:lnTo>
                <a:lnTo>
                  <a:pt x="148" y="1114"/>
                </a:lnTo>
                <a:lnTo>
                  <a:pt x="146" y="1108"/>
                </a:lnTo>
                <a:lnTo>
                  <a:pt x="142" y="1102"/>
                </a:lnTo>
                <a:lnTo>
                  <a:pt x="138" y="1094"/>
                </a:lnTo>
                <a:lnTo>
                  <a:pt x="134" y="1087"/>
                </a:lnTo>
                <a:lnTo>
                  <a:pt x="129" y="1077"/>
                </a:lnTo>
                <a:lnTo>
                  <a:pt x="125" y="1068"/>
                </a:lnTo>
                <a:lnTo>
                  <a:pt x="119" y="1056"/>
                </a:lnTo>
                <a:lnTo>
                  <a:pt x="115" y="1045"/>
                </a:lnTo>
                <a:lnTo>
                  <a:pt x="109" y="1035"/>
                </a:lnTo>
                <a:lnTo>
                  <a:pt x="105" y="1025"/>
                </a:lnTo>
                <a:lnTo>
                  <a:pt x="102" y="1014"/>
                </a:lnTo>
                <a:lnTo>
                  <a:pt x="98" y="1002"/>
                </a:lnTo>
                <a:lnTo>
                  <a:pt x="96" y="989"/>
                </a:lnTo>
                <a:lnTo>
                  <a:pt x="94" y="977"/>
                </a:lnTo>
                <a:lnTo>
                  <a:pt x="92" y="964"/>
                </a:lnTo>
                <a:lnTo>
                  <a:pt x="92" y="951"/>
                </a:lnTo>
                <a:lnTo>
                  <a:pt x="92" y="935"/>
                </a:lnTo>
                <a:lnTo>
                  <a:pt x="92" y="922"/>
                </a:lnTo>
                <a:lnTo>
                  <a:pt x="92" y="891"/>
                </a:lnTo>
                <a:lnTo>
                  <a:pt x="96" y="858"/>
                </a:lnTo>
                <a:lnTo>
                  <a:pt x="100" y="826"/>
                </a:lnTo>
                <a:lnTo>
                  <a:pt x="104" y="808"/>
                </a:lnTo>
                <a:lnTo>
                  <a:pt x="105" y="789"/>
                </a:lnTo>
                <a:lnTo>
                  <a:pt x="107" y="772"/>
                </a:lnTo>
                <a:lnTo>
                  <a:pt x="109" y="751"/>
                </a:lnTo>
                <a:lnTo>
                  <a:pt x="109" y="730"/>
                </a:lnTo>
                <a:lnTo>
                  <a:pt x="111" y="709"/>
                </a:lnTo>
                <a:lnTo>
                  <a:pt x="111" y="688"/>
                </a:lnTo>
                <a:lnTo>
                  <a:pt x="113" y="665"/>
                </a:lnTo>
                <a:lnTo>
                  <a:pt x="113" y="642"/>
                </a:lnTo>
                <a:lnTo>
                  <a:pt x="113" y="618"/>
                </a:lnTo>
                <a:lnTo>
                  <a:pt x="113" y="594"/>
                </a:lnTo>
                <a:lnTo>
                  <a:pt x="115" y="569"/>
                </a:lnTo>
                <a:lnTo>
                  <a:pt x="115" y="517"/>
                </a:lnTo>
                <a:lnTo>
                  <a:pt x="115" y="465"/>
                </a:lnTo>
                <a:lnTo>
                  <a:pt x="115" y="438"/>
                </a:lnTo>
                <a:lnTo>
                  <a:pt x="113" y="411"/>
                </a:lnTo>
                <a:lnTo>
                  <a:pt x="109" y="384"/>
                </a:lnTo>
                <a:lnTo>
                  <a:pt x="107" y="356"/>
                </a:lnTo>
                <a:lnTo>
                  <a:pt x="102" y="329"/>
                </a:lnTo>
                <a:lnTo>
                  <a:pt x="98" y="300"/>
                </a:lnTo>
                <a:lnTo>
                  <a:pt x="90" y="271"/>
                </a:lnTo>
                <a:lnTo>
                  <a:pt x="84" y="242"/>
                </a:lnTo>
                <a:lnTo>
                  <a:pt x="77" y="213"/>
                </a:lnTo>
                <a:lnTo>
                  <a:pt x="67" y="185"/>
                </a:lnTo>
                <a:lnTo>
                  <a:pt x="57" y="154"/>
                </a:lnTo>
                <a:lnTo>
                  <a:pt x="48" y="123"/>
                </a:lnTo>
                <a:lnTo>
                  <a:pt x="36" y="94"/>
                </a:lnTo>
                <a:lnTo>
                  <a:pt x="25" y="64"/>
                </a:lnTo>
                <a:lnTo>
                  <a:pt x="13" y="31"/>
                </a:lnTo>
                <a:lnTo>
                  <a:pt x="0" y="0"/>
                </a:lnTo>
                <a:lnTo>
                  <a:pt x="15" y="4"/>
                </a:lnTo>
                <a:lnTo>
                  <a:pt x="29" y="8"/>
                </a:lnTo>
                <a:lnTo>
                  <a:pt x="42" y="12"/>
                </a:lnTo>
                <a:lnTo>
                  <a:pt x="56" y="16"/>
                </a:lnTo>
                <a:lnTo>
                  <a:pt x="67" y="20"/>
                </a:lnTo>
                <a:lnTo>
                  <a:pt x="81" y="22"/>
                </a:lnTo>
                <a:lnTo>
                  <a:pt x="102" y="29"/>
                </a:lnTo>
                <a:lnTo>
                  <a:pt x="123" y="37"/>
                </a:lnTo>
                <a:lnTo>
                  <a:pt x="142" y="45"/>
                </a:lnTo>
                <a:lnTo>
                  <a:pt x="159" y="52"/>
                </a:lnTo>
                <a:lnTo>
                  <a:pt x="175" y="58"/>
                </a:lnTo>
                <a:lnTo>
                  <a:pt x="190" y="66"/>
                </a:lnTo>
                <a:lnTo>
                  <a:pt x="201" y="73"/>
                </a:lnTo>
                <a:lnTo>
                  <a:pt x="213" y="81"/>
                </a:lnTo>
                <a:lnTo>
                  <a:pt x="221" y="87"/>
                </a:lnTo>
                <a:lnTo>
                  <a:pt x="228" y="94"/>
                </a:lnTo>
                <a:lnTo>
                  <a:pt x="236" y="102"/>
                </a:lnTo>
                <a:lnTo>
                  <a:pt x="240" y="110"/>
                </a:lnTo>
                <a:lnTo>
                  <a:pt x="244" y="1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20"/>
          <p:cNvSpPr/>
          <p:nvPr/>
        </p:nvSpPr>
        <p:spPr>
          <a:xfrm>
            <a:off x="5581800" y="3273480"/>
            <a:ext cx="284040" cy="522360"/>
          </a:xfrm>
          <a:custGeom>
            <a:avLst/>
            <a:gdLst/>
            <a:ahLst/>
            <a:rect l="l" t="t" r="r" b="b"/>
            <a:pathLst>
              <a:path w="357" h="658">
                <a:moveTo>
                  <a:pt x="257" y="516"/>
                </a:moveTo>
                <a:lnTo>
                  <a:pt x="243" y="532"/>
                </a:lnTo>
                <a:lnTo>
                  <a:pt x="232" y="549"/>
                </a:lnTo>
                <a:lnTo>
                  <a:pt x="220" y="562"/>
                </a:lnTo>
                <a:lnTo>
                  <a:pt x="209" y="576"/>
                </a:lnTo>
                <a:lnTo>
                  <a:pt x="197" y="589"/>
                </a:lnTo>
                <a:lnTo>
                  <a:pt x="188" y="601"/>
                </a:lnTo>
                <a:lnTo>
                  <a:pt x="178" y="612"/>
                </a:lnTo>
                <a:lnTo>
                  <a:pt x="168" y="622"/>
                </a:lnTo>
                <a:lnTo>
                  <a:pt x="159" y="630"/>
                </a:lnTo>
                <a:lnTo>
                  <a:pt x="149" y="637"/>
                </a:lnTo>
                <a:lnTo>
                  <a:pt x="142" y="643"/>
                </a:lnTo>
                <a:lnTo>
                  <a:pt x="132" y="649"/>
                </a:lnTo>
                <a:lnTo>
                  <a:pt x="124" y="653"/>
                </a:lnTo>
                <a:lnTo>
                  <a:pt x="117" y="657"/>
                </a:lnTo>
                <a:lnTo>
                  <a:pt x="107" y="657"/>
                </a:lnTo>
                <a:lnTo>
                  <a:pt x="99" y="658"/>
                </a:lnTo>
                <a:lnTo>
                  <a:pt x="92" y="658"/>
                </a:lnTo>
                <a:lnTo>
                  <a:pt x="86" y="657"/>
                </a:lnTo>
                <a:lnTo>
                  <a:pt x="78" y="655"/>
                </a:lnTo>
                <a:lnTo>
                  <a:pt x="73" y="653"/>
                </a:lnTo>
                <a:lnTo>
                  <a:pt x="67" y="651"/>
                </a:lnTo>
                <a:lnTo>
                  <a:pt x="63" y="647"/>
                </a:lnTo>
                <a:lnTo>
                  <a:pt x="57" y="641"/>
                </a:lnTo>
                <a:lnTo>
                  <a:pt x="53" y="637"/>
                </a:lnTo>
                <a:lnTo>
                  <a:pt x="49" y="632"/>
                </a:lnTo>
                <a:lnTo>
                  <a:pt x="46" y="624"/>
                </a:lnTo>
                <a:lnTo>
                  <a:pt x="42" y="618"/>
                </a:lnTo>
                <a:lnTo>
                  <a:pt x="40" y="609"/>
                </a:lnTo>
                <a:lnTo>
                  <a:pt x="36" y="601"/>
                </a:lnTo>
                <a:lnTo>
                  <a:pt x="34" y="589"/>
                </a:lnTo>
                <a:lnTo>
                  <a:pt x="30" y="580"/>
                </a:lnTo>
                <a:lnTo>
                  <a:pt x="28" y="568"/>
                </a:lnTo>
                <a:lnTo>
                  <a:pt x="26" y="557"/>
                </a:lnTo>
                <a:lnTo>
                  <a:pt x="23" y="545"/>
                </a:lnTo>
                <a:lnTo>
                  <a:pt x="21" y="534"/>
                </a:lnTo>
                <a:lnTo>
                  <a:pt x="19" y="524"/>
                </a:lnTo>
                <a:lnTo>
                  <a:pt x="15" y="515"/>
                </a:lnTo>
                <a:lnTo>
                  <a:pt x="13" y="507"/>
                </a:lnTo>
                <a:lnTo>
                  <a:pt x="11" y="497"/>
                </a:lnTo>
                <a:lnTo>
                  <a:pt x="9" y="490"/>
                </a:lnTo>
                <a:lnTo>
                  <a:pt x="7" y="484"/>
                </a:lnTo>
                <a:lnTo>
                  <a:pt x="5" y="476"/>
                </a:lnTo>
                <a:lnTo>
                  <a:pt x="3" y="470"/>
                </a:lnTo>
                <a:lnTo>
                  <a:pt x="2" y="467"/>
                </a:lnTo>
                <a:lnTo>
                  <a:pt x="2" y="461"/>
                </a:lnTo>
                <a:lnTo>
                  <a:pt x="0" y="457"/>
                </a:lnTo>
                <a:lnTo>
                  <a:pt x="0" y="455"/>
                </a:lnTo>
                <a:lnTo>
                  <a:pt x="0" y="451"/>
                </a:lnTo>
                <a:lnTo>
                  <a:pt x="0" y="449"/>
                </a:lnTo>
                <a:lnTo>
                  <a:pt x="2" y="445"/>
                </a:lnTo>
                <a:lnTo>
                  <a:pt x="3" y="442"/>
                </a:lnTo>
                <a:lnTo>
                  <a:pt x="5" y="438"/>
                </a:lnTo>
                <a:lnTo>
                  <a:pt x="7" y="432"/>
                </a:lnTo>
                <a:lnTo>
                  <a:pt x="11" y="426"/>
                </a:lnTo>
                <a:lnTo>
                  <a:pt x="17" y="420"/>
                </a:lnTo>
                <a:lnTo>
                  <a:pt x="21" y="415"/>
                </a:lnTo>
                <a:lnTo>
                  <a:pt x="26" y="407"/>
                </a:lnTo>
                <a:lnTo>
                  <a:pt x="34" y="401"/>
                </a:lnTo>
                <a:lnTo>
                  <a:pt x="40" y="394"/>
                </a:lnTo>
                <a:lnTo>
                  <a:pt x="48" y="384"/>
                </a:lnTo>
                <a:lnTo>
                  <a:pt x="57" y="376"/>
                </a:lnTo>
                <a:lnTo>
                  <a:pt x="65" y="367"/>
                </a:lnTo>
                <a:lnTo>
                  <a:pt x="74" y="357"/>
                </a:lnTo>
                <a:lnTo>
                  <a:pt x="86" y="349"/>
                </a:lnTo>
                <a:lnTo>
                  <a:pt x="94" y="338"/>
                </a:lnTo>
                <a:lnTo>
                  <a:pt x="103" y="326"/>
                </a:lnTo>
                <a:lnTo>
                  <a:pt x="113" y="313"/>
                </a:lnTo>
                <a:lnTo>
                  <a:pt x="122" y="298"/>
                </a:lnTo>
                <a:lnTo>
                  <a:pt x="134" y="280"/>
                </a:lnTo>
                <a:lnTo>
                  <a:pt x="144" y="263"/>
                </a:lnTo>
                <a:lnTo>
                  <a:pt x="155" y="244"/>
                </a:lnTo>
                <a:lnTo>
                  <a:pt x="168" y="223"/>
                </a:lnTo>
                <a:lnTo>
                  <a:pt x="180" y="200"/>
                </a:lnTo>
                <a:lnTo>
                  <a:pt x="193" y="177"/>
                </a:lnTo>
                <a:lnTo>
                  <a:pt x="205" y="150"/>
                </a:lnTo>
                <a:lnTo>
                  <a:pt x="218" y="123"/>
                </a:lnTo>
                <a:lnTo>
                  <a:pt x="232" y="94"/>
                </a:lnTo>
                <a:lnTo>
                  <a:pt x="245" y="65"/>
                </a:lnTo>
                <a:lnTo>
                  <a:pt x="259" y="33"/>
                </a:lnTo>
                <a:lnTo>
                  <a:pt x="272" y="0"/>
                </a:lnTo>
                <a:lnTo>
                  <a:pt x="282" y="12"/>
                </a:lnTo>
                <a:lnTo>
                  <a:pt x="291" y="25"/>
                </a:lnTo>
                <a:lnTo>
                  <a:pt x="301" y="38"/>
                </a:lnTo>
                <a:lnTo>
                  <a:pt x="309" y="52"/>
                </a:lnTo>
                <a:lnTo>
                  <a:pt x="316" y="65"/>
                </a:lnTo>
                <a:lnTo>
                  <a:pt x="324" y="79"/>
                </a:lnTo>
                <a:lnTo>
                  <a:pt x="330" y="92"/>
                </a:lnTo>
                <a:lnTo>
                  <a:pt x="335" y="108"/>
                </a:lnTo>
                <a:lnTo>
                  <a:pt x="341" y="121"/>
                </a:lnTo>
                <a:lnTo>
                  <a:pt x="345" y="136"/>
                </a:lnTo>
                <a:lnTo>
                  <a:pt x="349" y="152"/>
                </a:lnTo>
                <a:lnTo>
                  <a:pt x="351" y="167"/>
                </a:lnTo>
                <a:lnTo>
                  <a:pt x="355" y="182"/>
                </a:lnTo>
                <a:lnTo>
                  <a:pt x="357" y="200"/>
                </a:lnTo>
                <a:lnTo>
                  <a:pt x="357" y="215"/>
                </a:lnTo>
                <a:lnTo>
                  <a:pt x="357" y="232"/>
                </a:lnTo>
                <a:lnTo>
                  <a:pt x="357" y="250"/>
                </a:lnTo>
                <a:lnTo>
                  <a:pt x="357" y="267"/>
                </a:lnTo>
                <a:lnTo>
                  <a:pt x="355" y="284"/>
                </a:lnTo>
                <a:lnTo>
                  <a:pt x="351" y="301"/>
                </a:lnTo>
                <a:lnTo>
                  <a:pt x="349" y="321"/>
                </a:lnTo>
                <a:lnTo>
                  <a:pt x="345" y="338"/>
                </a:lnTo>
                <a:lnTo>
                  <a:pt x="339" y="355"/>
                </a:lnTo>
                <a:lnTo>
                  <a:pt x="334" y="374"/>
                </a:lnTo>
                <a:lnTo>
                  <a:pt x="328" y="392"/>
                </a:lnTo>
                <a:lnTo>
                  <a:pt x="320" y="411"/>
                </a:lnTo>
                <a:lnTo>
                  <a:pt x="312" y="428"/>
                </a:lnTo>
                <a:lnTo>
                  <a:pt x="303" y="445"/>
                </a:lnTo>
                <a:lnTo>
                  <a:pt x="293" y="465"/>
                </a:lnTo>
                <a:lnTo>
                  <a:pt x="282" y="482"/>
                </a:lnTo>
                <a:lnTo>
                  <a:pt x="270" y="499"/>
                </a:lnTo>
                <a:lnTo>
                  <a:pt x="257" y="51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21"/>
          <p:cNvSpPr/>
          <p:nvPr/>
        </p:nvSpPr>
        <p:spPr>
          <a:xfrm>
            <a:off x="6978600" y="3273480"/>
            <a:ext cx="541440" cy="326880"/>
          </a:xfrm>
          <a:custGeom>
            <a:avLst/>
            <a:gdLst/>
            <a:ahLst/>
            <a:rect l="l" t="t" r="r" b="b"/>
            <a:pathLst>
              <a:path w="681" h="413">
                <a:moveTo>
                  <a:pt x="314" y="38"/>
                </a:moveTo>
                <a:lnTo>
                  <a:pt x="332" y="42"/>
                </a:lnTo>
                <a:lnTo>
                  <a:pt x="349" y="44"/>
                </a:lnTo>
                <a:lnTo>
                  <a:pt x="366" y="48"/>
                </a:lnTo>
                <a:lnTo>
                  <a:pt x="384" y="52"/>
                </a:lnTo>
                <a:lnTo>
                  <a:pt x="401" y="54"/>
                </a:lnTo>
                <a:lnTo>
                  <a:pt x="416" y="60"/>
                </a:lnTo>
                <a:lnTo>
                  <a:pt x="447" y="67"/>
                </a:lnTo>
                <a:lnTo>
                  <a:pt x="476" y="79"/>
                </a:lnTo>
                <a:lnTo>
                  <a:pt x="503" y="90"/>
                </a:lnTo>
                <a:lnTo>
                  <a:pt x="529" y="102"/>
                </a:lnTo>
                <a:lnTo>
                  <a:pt x="556" y="117"/>
                </a:lnTo>
                <a:lnTo>
                  <a:pt x="577" y="131"/>
                </a:lnTo>
                <a:lnTo>
                  <a:pt x="597" y="148"/>
                </a:lnTo>
                <a:lnTo>
                  <a:pt x="614" y="165"/>
                </a:lnTo>
                <a:lnTo>
                  <a:pt x="622" y="175"/>
                </a:lnTo>
                <a:lnTo>
                  <a:pt x="629" y="184"/>
                </a:lnTo>
                <a:lnTo>
                  <a:pt x="637" y="194"/>
                </a:lnTo>
                <a:lnTo>
                  <a:pt x="645" y="204"/>
                </a:lnTo>
                <a:lnTo>
                  <a:pt x="650" y="215"/>
                </a:lnTo>
                <a:lnTo>
                  <a:pt x="656" y="225"/>
                </a:lnTo>
                <a:lnTo>
                  <a:pt x="660" y="236"/>
                </a:lnTo>
                <a:lnTo>
                  <a:pt x="664" y="248"/>
                </a:lnTo>
                <a:lnTo>
                  <a:pt x="668" y="259"/>
                </a:lnTo>
                <a:lnTo>
                  <a:pt x="671" y="271"/>
                </a:lnTo>
                <a:lnTo>
                  <a:pt x="673" y="282"/>
                </a:lnTo>
                <a:lnTo>
                  <a:pt x="675" y="294"/>
                </a:lnTo>
                <a:lnTo>
                  <a:pt x="677" y="305"/>
                </a:lnTo>
                <a:lnTo>
                  <a:pt x="679" y="315"/>
                </a:lnTo>
                <a:lnTo>
                  <a:pt x="679" y="324"/>
                </a:lnTo>
                <a:lnTo>
                  <a:pt x="681" y="332"/>
                </a:lnTo>
                <a:lnTo>
                  <a:pt x="681" y="340"/>
                </a:lnTo>
                <a:lnTo>
                  <a:pt x="681" y="348"/>
                </a:lnTo>
                <a:lnTo>
                  <a:pt x="681" y="355"/>
                </a:lnTo>
                <a:lnTo>
                  <a:pt x="681" y="361"/>
                </a:lnTo>
                <a:lnTo>
                  <a:pt x="681" y="367"/>
                </a:lnTo>
                <a:lnTo>
                  <a:pt x="679" y="372"/>
                </a:lnTo>
                <a:lnTo>
                  <a:pt x="677" y="376"/>
                </a:lnTo>
                <a:lnTo>
                  <a:pt x="675" y="380"/>
                </a:lnTo>
                <a:lnTo>
                  <a:pt x="673" y="384"/>
                </a:lnTo>
                <a:lnTo>
                  <a:pt x="671" y="388"/>
                </a:lnTo>
                <a:lnTo>
                  <a:pt x="666" y="392"/>
                </a:lnTo>
                <a:lnTo>
                  <a:pt x="658" y="397"/>
                </a:lnTo>
                <a:lnTo>
                  <a:pt x="648" y="401"/>
                </a:lnTo>
                <a:lnTo>
                  <a:pt x="639" y="405"/>
                </a:lnTo>
                <a:lnTo>
                  <a:pt x="627" y="409"/>
                </a:lnTo>
                <a:lnTo>
                  <a:pt x="614" y="411"/>
                </a:lnTo>
                <a:lnTo>
                  <a:pt x="600" y="413"/>
                </a:lnTo>
                <a:lnTo>
                  <a:pt x="585" y="413"/>
                </a:lnTo>
                <a:lnTo>
                  <a:pt x="575" y="413"/>
                </a:lnTo>
                <a:lnTo>
                  <a:pt x="566" y="409"/>
                </a:lnTo>
                <a:lnTo>
                  <a:pt x="554" y="407"/>
                </a:lnTo>
                <a:lnTo>
                  <a:pt x="543" y="401"/>
                </a:lnTo>
                <a:lnTo>
                  <a:pt x="527" y="394"/>
                </a:lnTo>
                <a:lnTo>
                  <a:pt x="512" y="386"/>
                </a:lnTo>
                <a:lnTo>
                  <a:pt x="495" y="376"/>
                </a:lnTo>
                <a:lnTo>
                  <a:pt x="476" y="365"/>
                </a:lnTo>
                <a:lnTo>
                  <a:pt x="456" y="351"/>
                </a:lnTo>
                <a:lnTo>
                  <a:pt x="433" y="338"/>
                </a:lnTo>
                <a:lnTo>
                  <a:pt x="410" y="323"/>
                </a:lnTo>
                <a:lnTo>
                  <a:pt x="385" y="305"/>
                </a:lnTo>
                <a:lnTo>
                  <a:pt x="359" y="286"/>
                </a:lnTo>
                <a:lnTo>
                  <a:pt x="332" y="265"/>
                </a:lnTo>
                <a:lnTo>
                  <a:pt x="301" y="244"/>
                </a:lnTo>
                <a:lnTo>
                  <a:pt x="270" y="219"/>
                </a:lnTo>
                <a:lnTo>
                  <a:pt x="253" y="209"/>
                </a:lnTo>
                <a:lnTo>
                  <a:pt x="238" y="198"/>
                </a:lnTo>
                <a:lnTo>
                  <a:pt x="220" y="188"/>
                </a:lnTo>
                <a:lnTo>
                  <a:pt x="205" y="177"/>
                </a:lnTo>
                <a:lnTo>
                  <a:pt x="192" y="167"/>
                </a:lnTo>
                <a:lnTo>
                  <a:pt x="176" y="157"/>
                </a:lnTo>
                <a:lnTo>
                  <a:pt x="163" y="148"/>
                </a:lnTo>
                <a:lnTo>
                  <a:pt x="149" y="138"/>
                </a:lnTo>
                <a:lnTo>
                  <a:pt x="138" y="131"/>
                </a:lnTo>
                <a:lnTo>
                  <a:pt x="126" y="121"/>
                </a:lnTo>
                <a:lnTo>
                  <a:pt x="115" y="113"/>
                </a:lnTo>
                <a:lnTo>
                  <a:pt x="103" y="106"/>
                </a:lnTo>
                <a:lnTo>
                  <a:pt x="94" y="98"/>
                </a:lnTo>
                <a:lnTo>
                  <a:pt x="84" y="90"/>
                </a:lnTo>
                <a:lnTo>
                  <a:pt x="74" y="83"/>
                </a:lnTo>
                <a:lnTo>
                  <a:pt x="65" y="75"/>
                </a:lnTo>
                <a:lnTo>
                  <a:pt x="57" y="69"/>
                </a:lnTo>
                <a:lnTo>
                  <a:pt x="50" y="62"/>
                </a:lnTo>
                <a:lnTo>
                  <a:pt x="42" y="56"/>
                </a:lnTo>
                <a:lnTo>
                  <a:pt x="36" y="50"/>
                </a:lnTo>
                <a:lnTo>
                  <a:pt x="30" y="44"/>
                </a:lnTo>
                <a:lnTo>
                  <a:pt x="25" y="38"/>
                </a:lnTo>
                <a:lnTo>
                  <a:pt x="19" y="33"/>
                </a:lnTo>
                <a:lnTo>
                  <a:pt x="15" y="29"/>
                </a:lnTo>
                <a:lnTo>
                  <a:pt x="11" y="25"/>
                </a:lnTo>
                <a:lnTo>
                  <a:pt x="7" y="19"/>
                </a:lnTo>
                <a:lnTo>
                  <a:pt x="5" y="15"/>
                </a:lnTo>
                <a:lnTo>
                  <a:pt x="3" y="12"/>
                </a:lnTo>
                <a:lnTo>
                  <a:pt x="2" y="8"/>
                </a:lnTo>
                <a:lnTo>
                  <a:pt x="0" y="6"/>
                </a:lnTo>
                <a:lnTo>
                  <a:pt x="0" y="2"/>
                </a:lnTo>
                <a:lnTo>
                  <a:pt x="0" y="0"/>
                </a:lnTo>
                <a:lnTo>
                  <a:pt x="23" y="0"/>
                </a:lnTo>
                <a:lnTo>
                  <a:pt x="46" y="0"/>
                </a:lnTo>
                <a:lnTo>
                  <a:pt x="69" y="2"/>
                </a:lnTo>
                <a:lnTo>
                  <a:pt x="90" y="2"/>
                </a:lnTo>
                <a:lnTo>
                  <a:pt x="111" y="4"/>
                </a:lnTo>
                <a:lnTo>
                  <a:pt x="132" y="6"/>
                </a:lnTo>
                <a:lnTo>
                  <a:pt x="153" y="8"/>
                </a:lnTo>
                <a:lnTo>
                  <a:pt x="172" y="10"/>
                </a:lnTo>
                <a:lnTo>
                  <a:pt x="192" y="12"/>
                </a:lnTo>
                <a:lnTo>
                  <a:pt x="211" y="15"/>
                </a:lnTo>
                <a:lnTo>
                  <a:pt x="245" y="21"/>
                </a:lnTo>
                <a:lnTo>
                  <a:pt x="280" y="29"/>
                </a:lnTo>
                <a:lnTo>
                  <a:pt x="314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122"/>
          <p:cNvSpPr/>
          <p:nvPr/>
        </p:nvSpPr>
        <p:spPr>
          <a:xfrm>
            <a:off x="6183360" y="2997360"/>
            <a:ext cx="171360" cy="811080"/>
          </a:xfrm>
          <a:custGeom>
            <a:avLst/>
            <a:gdLst/>
            <a:ahLst/>
            <a:rect l="l" t="t" r="r" b="b"/>
            <a:pathLst>
              <a:path w="215" h="1021">
                <a:moveTo>
                  <a:pt x="0" y="812"/>
                </a:moveTo>
                <a:lnTo>
                  <a:pt x="0" y="806"/>
                </a:lnTo>
                <a:lnTo>
                  <a:pt x="0" y="800"/>
                </a:lnTo>
                <a:lnTo>
                  <a:pt x="2" y="794"/>
                </a:lnTo>
                <a:lnTo>
                  <a:pt x="2" y="787"/>
                </a:lnTo>
                <a:lnTo>
                  <a:pt x="4" y="779"/>
                </a:lnTo>
                <a:lnTo>
                  <a:pt x="5" y="771"/>
                </a:lnTo>
                <a:lnTo>
                  <a:pt x="7" y="764"/>
                </a:lnTo>
                <a:lnTo>
                  <a:pt x="9" y="754"/>
                </a:lnTo>
                <a:lnTo>
                  <a:pt x="11" y="744"/>
                </a:lnTo>
                <a:lnTo>
                  <a:pt x="13" y="733"/>
                </a:lnTo>
                <a:lnTo>
                  <a:pt x="15" y="721"/>
                </a:lnTo>
                <a:lnTo>
                  <a:pt x="17" y="710"/>
                </a:lnTo>
                <a:lnTo>
                  <a:pt x="21" y="698"/>
                </a:lnTo>
                <a:lnTo>
                  <a:pt x="23" y="685"/>
                </a:lnTo>
                <a:lnTo>
                  <a:pt x="25" y="671"/>
                </a:lnTo>
                <a:lnTo>
                  <a:pt x="29" y="656"/>
                </a:lnTo>
                <a:lnTo>
                  <a:pt x="30" y="645"/>
                </a:lnTo>
                <a:lnTo>
                  <a:pt x="34" y="631"/>
                </a:lnTo>
                <a:lnTo>
                  <a:pt x="36" y="618"/>
                </a:lnTo>
                <a:lnTo>
                  <a:pt x="38" y="604"/>
                </a:lnTo>
                <a:lnTo>
                  <a:pt x="42" y="589"/>
                </a:lnTo>
                <a:lnTo>
                  <a:pt x="44" y="574"/>
                </a:lnTo>
                <a:lnTo>
                  <a:pt x="46" y="558"/>
                </a:lnTo>
                <a:lnTo>
                  <a:pt x="48" y="541"/>
                </a:lnTo>
                <a:lnTo>
                  <a:pt x="50" y="524"/>
                </a:lnTo>
                <a:lnTo>
                  <a:pt x="52" y="506"/>
                </a:lnTo>
                <a:lnTo>
                  <a:pt x="53" y="487"/>
                </a:lnTo>
                <a:lnTo>
                  <a:pt x="53" y="468"/>
                </a:lnTo>
                <a:lnTo>
                  <a:pt x="55" y="449"/>
                </a:lnTo>
                <a:lnTo>
                  <a:pt x="55" y="428"/>
                </a:lnTo>
                <a:lnTo>
                  <a:pt x="57" y="407"/>
                </a:lnTo>
                <a:lnTo>
                  <a:pt x="57" y="385"/>
                </a:lnTo>
                <a:lnTo>
                  <a:pt x="52" y="341"/>
                </a:lnTo>
                <a:lnTo>
                  <a:pt x="46" y="297"/>
                </a:lnTo>
                <a:lnTo>
                  <a:pt x="40" y="249"/>
                </a:lnTo>
                <a:lnTo>
                  <a:pt x="34" y="201"/>
                </a:lnTo>
                <a:lnTo>
                  <a:pt x="27" y="153"/>
                </a:lnTo>
                <a:lnTo>
                  <a:pt x="19" y="103"/>
                </a:lnTo>
                <a:lnTo>
                  <a:pt x="9" y="52"/>
                </a:lnTo>
                <a:lnTo>
                  <a:pt x="0" y="0"/>
                </a:lnTo>
                <a:lnTo>
                  <a:pt x="23" y="11"/>
                </a:lnTo>
                <a:lnTo>
                  <a:pt x="46" y="23"/>
                </a:lnTo>
                <a:lnTo>
                  <a:pt x="65" y="34"/>
                </a:lnTo>
                <a:lnTo>
                  <a:pt x="86" y="46"/>
                </a:lnTo>
                <a:lnTo>
                  <a:pt x="103" y="55"/>
                </a:lnTo>
                <a:lnTo>
                  <a:pt x="121" y="65"/>
                </a:lnTo>
                <a:lnTo>
                  <a:pt x="136" y="75"/>
                </a:lnTo>
                <a:lnTo>
                  <a:pt x="149" y="84"/>
                </a:lnTo>
                <a:lnTo>
                  <a:pt x="163" y="94"/>
                </a:lnTo>
                <a:lnTo>
                  <a:pt x="174" y="101"/>
                </a:lnTo>
                <a:lnTo>
                  <a:pt x="184" y="109"/>
                </a:lnTo>
                <a:lnTo>
                  <a:pt x="194" y="117"/>
                </a:lnTo>
                <a:lnTo>
                  <a:pt x="199" y="124"/>
                </a:lnTo>
                <a:lnTo>
                  <a:pt x="207" y="130"/>
                </a:lnTo>
                <a:lnTo>
                  <a:pt x="211" y="136"/>
                </a:lnTo>
                <a:lnTo>
                  <a:pt x="215" y="142"/>
                </a:lnTo>
                <a:lnTo>
                  <a:pt x="215" y="149"/>
                </a:lnTo>
                <a:lnTo>
                  <a:pt x="215" y="159"/>
                </a:lnTo>
                <a:lnTo>
                  <a:pt x="215" y="171"/>
                </a:lnTo>
                <a:lnTo>
                  <a:pt x="215" y="184"/>
                </a:lnTo>
                <a:lnTo>
                  <a:pt x="215" y="201"/>
                </a:lnTo>
                <a:lnTo>
                  <a:pt x="215" y="209"/>
                </a:lnTo>
                <a:lnTo>
                  <a:pt x="215" y="218"/>
                </a:lnTo>
                <a:lnTo>
                  <a:pt x="215" y="228"/>
                </a:lnTo>
                <a:lnTo>
                  <a:pt x="215" y="238"/>
                </a:lnTo>
                <a:lnTo>
                  <a:pt x="215" y="247"/>
                </a:lnTo>
                <a:lnTo>
                  <a:pt x="215" y="259"/>
                </a:lnTo>
                <a:lnTo>
                  <a:pt x="215" y="270"/>
                </a:lnTo>
                <a:lnTo>
                  <a:pt x="215" y="282"/>
                </a:lnTo>
                <a:lnTo>
                  <a:pt x="215" y="295"/>
                </a:lnTo>
                <a:lnTo>
                  <a:pt x="215" y="307"/>
                </a:lnTo>
                <a:lnTo>
                  <a:pt x="215" y="320"/>
                </a:lnTo>
                <a:lnTo>
                  <a:pt x="215" y="336"/>
                </a:lnTo>
                <a:lnTo>
                  <a:pt x="215" y="349"/>
                </a:lnTo>
                <a:lnTo>
                  <a:pt x="215" y="364"/>
                </a:lnTo>
                <a:lnTo>
                  <a:pt x="215" y="380"/>
                </a:lnTo>
                <a:lnTo>
                  <a:pt x="215" y="395"/>
                </a:lnTo>
                <a:lnTo>
                  <a:pt x="215" y="412"/>
                </a:lnTo>
                <a:lnTo>
                  <a:pt x="215" y="430"/>
                </a:lnTo>
                <a:lnTo>
                  <a:pt x="215" y="447"/>
                </a:lnTo>
                <a:lnTo>
                  <a:pt x="215" y="464"/>
                </a:lnTo>
                <a:lnTo>
                  <a:pt x="215" y="483"/>
                </a:lnTo>
                <a:lnTo>
                  <a:pt x="215" y="503"/>
                </a:lnTo>
                <a:lnTo>
                  <a:pt x="211" y="543"/>
                </a:lnTo>
                <a:lnTo>
                  <a:pt x="209" y="581"/>
                </a:lnTo>
                <a:lnTo>
                  <a:pt x="207" y="618"/>
                </a:lnTo>
                <a:lnTo>
                  <a:pt x="203" y="652"/>
                </a:lnTo>
                <a:lnTo>
                  <a:pt x="201" y="685"/>
                </a:lnTo>
                <a:lnTo>
                  <a:pt x="197" y="716"/>
                </a:lnTo>
                <a:lnTo>
                  <a:pt x="196" y="746"/>
                </a:lnTo>
                <a:lnTo>
                  <a:pt x="194" y="773"/>
                </a:lnTo>
                <a:lnTo>
                  <a:pt x="190" y="798"/>
                </a:lnTo>
                <a:lnTo>
                  <a:pt x="188" y="823"/>
                </a:lnTo>
                <a:lnTo>
                  <a:pt x="184" y="844"/>
                </a:lnTo>
                <a:lnTo>
                  <a:pt x="182" y="865"/>
                </a:lnTo>
                <a:lnTo>
                  <a:pt x="180" y="883"/>
                </a:lnTo>
                <a:lnTo>
                  <a:pt x="176" y="900"/>
                </a:lnTo>
                <a:lnTo>
                  <a:pt x="174" y="915"/>
                </a:lnTo>
                <a:lnTo>
                  <a:pt x="171" y="929"/>
                </a:lnTo>
                <a:lnTo>
                  <a:pt x="167" y="940"/>
                </a:lnTo>
                <a:lnTo>
                  <a:pt x="161" y="950"/>
                </a:lnTo>
                <a:lnTo>
                  <a:pt x="155" y="961"/>
                </a:lnTo>
                <a:lnTo>
                  <a:pt x="149" y="971"/>
                </a:lnTo>
                <a:lnTo>
                  <a:pt x="144" y="981"/>
                </a:lnTo>
                <a:lnTo>
                  <a:pt x="140" y="988"/>
                </a:lnTo>
                <a:lnTo>
                  <a:pt x="134" y="996"/>
                </a:lnTo>
                <a:lnTo>
                  <a:pt x="128" y="1002"/>
                </a:lnTo>
                <a:lnTo>
                  <a:pt x="123" y="1007"/>
                </a:lnTo>
                <a:lnTo>
                  <a:pt x="119" y="1011"/>
                </a:lnTo>
                <a:lnTo>
                  <a:pt x="113" y="1015"/>
                </a:lnTo>
                <a:lnTo>
                  <a:pt x="107" y="1019"/>
                </a:lnTo>
                <a:lnTo>
                  <a:pt x="101" y="1021"/>
                </a:lnTo>
                <a:lnTo>
                  <a:pt x="96" y="1021"/>
                </a:lnTo>
                <a:lnTo>
                  <a:pt x="92" y="1019"/>
                </a:lnTo>
                <a:lnTo>
                  <a:pt x="86" y="1019"/>
                </a:lnTo>
                <a:lnTo>
                  <a:pt x="80" y="1017"/>
                </a:lnTo>
                <a:lnTo>
                  <a:pt x="75" y="1017"/>
                </a:lnTo>
                <a:lnTo>
                  <a:pt x="71" y="1015"/>
                </a:lnTo>
                <a:lnTo>
                  <a:pt x="67" y="1013"/>
                </a:lnTo>
                <a:lnTo>
                  <a:pt x="63" y="1009"/>
                </a:lnTo>
                <a:lnTo>
                  <a:pt x="59" y="1005"/>
                </a:lnTo>
                <a:lnTo>
                  <a:pt x="55" y="1002"/>
                </a:lnTo>
                <a:lnTo>
                  <a:pt x="52" y="998"/>
                </a:lnTo>
                <a:lnTo>
                  <a:pt x="48" y="992"/>
                </a:lnTo>
                <a:lnTo>
                  <a:pt x="46" y="984"/>
                </a:lnTo>
                <a:lnTo>
                  <a:pt x="42" y="977"/>
                </a:lnTo>
                <a:lnTo>
                  <a:pt x="40" y="969"/>
                </a:lnTo>
                <a:lnTo>
                  <a:pt x="36" y="959"/>
                </a:lnTo>
                <a:lnTo>
                  <a:pt x="34" y="950"/>
                </a:lnTo>
                <a:lnTo>
                  <a:pt x="30" y="940"/>
                </a:lnTo>
                <a:lnTo>
                  <a:pt x="29" y="929"/>
                </a:lnTo>
                <a:lnTo>
                  <a:pt x="23" y="909"/>
                </a:lnTo>
                <a:lnTo>
                  <a:pt x="17" y="892"/>
                </a:lnTo>
                <a:lnTo>
                  <a:pt x="13" y="875"/>
                </a:lnTo>
                <a:lnTo>
                  <a:pt x="9" y="860"/>
                </a:lnTo>
                <a:lnTo>
                  <a:pt x="5" y="846"/>
                </a:lnTo>
                <a:lnTo>
                  <a:pt x="2" y="833"/>
                </a:lnTo>
                <a:lnTo>
                  <a:pt x="0" y="821"/>
                </a:lnTo>
                <a:lnTo>
                  <a:pt x="0" y="8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123"/>
          <p:cNvSpPr/>
          <p:nvPr/>
        </p:nvSpPr>
        <p:spPr>
          <a:xfrm>
            <a:off x="5616720" y="2782800"/>
            <a:ext cx="1815840" cy="317520"/>
          </a:xfrm>
          <a:custGeom>
            <a:avLst/>
            <a:gdLst/>
            <a:ahLst/>
            <a:rect l="l" t="t" r="r" b="b"/>
            <a:pathLst>
              <a:path w="2288" h="399">
                <a:moveTo>
                  <a:pt x="1700" y="219"/>
                </a:moveTo>
                <a:lnTo>
                  <a:pt x="1631" y="225"/>
                </a:lnTo>
                <a:lnTo>
                  <a:pt x="1564" y="230"/>
                </a:lnTo>
                <a:lnTo>
                  <a:pt x="1495" y="238"/>
                </a:lnTo>
                <a:lnTo>
                  <a:pt x="1430" y="246"/>
                </a:lnTo>
                <a:lnTo>
                  <a:pt x="1362" y="253"/>
                </a:lnTo>
                <a:lnTo>
                  <a:pt x="1293" y="263"/>
                </a:lnTo>
                <a:lnTo>
                  <a:pt x="1226" y="273"/>
                </a:lnTo>
                <a:lnTo>
                  <a:pt x="1157" y="282"/>
                </a:lnTo>
                <a:lnTo>
                  <a:pt x="1086" y="292"/>
                </a:lnTo>
                <a:lnTo>
                  <a:pt x="1015" y="301"/>
                </a:lnTo>
                <a:lnTo>
                  <a:pt x="942" y="313"/>
                </a:lnTo>
                <a:lnTo>
                  <a:pt x="869" y="323"/>
                </a:lnTo>
                <a:lnTo>
                  <a:pt x="794" y="332"/>
                </a:lnTo>
                <a:lnTo>
                  <a:pt x="721" y="342"/>
                </a:lnTo>
                <a:lnTo>
                  <a:pt x="572" y="361"/>
                </a:lnTo>
                <a:lnTo>
                  <a:pt x="553" y="363"/>
                </a:lnTo>
                <a:lnTo>
                  <a:pt x="533" y="365"/>
                </a:lnTo>
                <a:lnTo>
                  <a:pt x="516" y="367"/>
                </a:lnTo>
                <a:lnTo>
                  <a:pt x="501" y="370"/>
                </a:lnTo>
                <a:lnTo>
                  <a:pt x="483" y="372"/>
                </a:lnTo>
                <a:lnTo>
                  <a:pt x="468" y="374"/>
                </a:lnTo>
                <a:lnTo>
                  <a:pt x="451" y="376"/>
                </a:lnTo>
                <a:lnTo>
                  <a:pt x="437" y="378"/>
                </a:lnTo>
                <a:lnTo>
                  <a:pt x="422" y="380"/>
                </a:lnTo>
                <a:lnTo>
                  <a:pt x="409" y="380"/>
                </a:lnTo>
                <a:lnTo>
                  <a:pt x="395" y="382"/>
                </a:lnTo>
                <a:lnTo>
                  <a:pt x="382" y="384"/>
                </a:lnTo>
                <a:lnTo>
                  <a:pt x="370" y="386"/>
                </a:lnTo>
                <a:lnTo>
                  <a:pt x="357" y="388"/>
                </a:lnTo>
                <a:lnTo>
                  <a:pt x="345" y="388"/>
                </a:lnTo>
                <a:lnTo>
                  <a:pt x="336" y="390"/>
                </a:lnTo>
                <a:lnTo>
                  <a:pt x="324" y="390"/>
                </a:lnTo>
                <a:lnTo>
                  <a:pt x="315" y="392"/>
                </a:lnTo>
                <a:lnTo>
                  <a:pt x="305" y="394"/>
                </a:lnTo>
                <a:lnTo>
                  <a:pt x="295" y="394"/>
                </a:lnTo>
                <a:lnTo>
                  <a:pt x="288" y="394"/>
                </a:lnTo>
                <a:lnTo>
                  <a:pt x="280" y="395"/>
                </a:lnTo>
                <a:lnTo>
                  <a:pt x="272" y="395"/>
                </a:lnTo>
                <a:lnTo>
                  <a:pt x="265" y="397"/>
                </a:lnTo>
                <a:lnTo>
                  <a:pt x="259" y="397"/>
                </a:lnTo>
                <a:lnTo>
                  <a:pt x="253" y="397"/>
                </a:lnTo>
                <a:lnTo>
                  <a:pt x="247" y="397"/>
                </a:lnTo>
                <a:lnTo>
                  <a:pt x="242" y="397"/>
                </a:lnTo>
                <a:lnTo>
                  <a:pt x="238" y="399"/>
                </a:lnTo>
                <a:lnTo>
                  <a:pt x="234" y="399"/>
                </a:lnTo>
                <a:lnTo>
                  <a:pt x="230" y="399"/>
                </a:lnTo>
                <a:lnTo>
                  <a:pt x="228" y="399"/>
                </a:lnTo>
                <a:lnTo>
                  <a:pt x="211" y="397"/>
                </a:lnTo>
                <a:lnTo>
                  <a:pt x="196" y="395"/>
                </a:lnTo>
                <a:lnTo>
                  <a:pt x="178" y="394"/>
                </a:lnTo>
                <a:lnTo>
                  <a:pt x="161" y="388"/>
                </a:lnTo>
                <a:lnTo>
                  <a:pt x="151" y="384"/>
                </a:lnTo>
                <a:lnTo>
                  <a:pt x="144" y="380"/>
                </a:lnTo>
                <a:lnTo>
                  <a:pt x="134" y="376"/>
                </a:lnTo>
                <a:lnTo>
                  <a:pt x="124" y="372"/>
                </a:lnTo>
                <a:lnTo>
                  <a:pt x="115" y="367"/>
                </a:lnTo>
                <a:lnTo>
                  <a:pt x="105" y="361"/>
                </a:lnTo>
                <a:lnTo>
                  <a:pt x="96" y="355"/>
                </a:lnTo>
                <a:lnTo>
                  <a:pt x="84" y="347"/>
                </a:lnTo>
                <a:lnTo>
                  <a:pt x="75" y="342"/>
                </a:lnTo>
                <a:lnTo>
                  <a:pt x="65" y="338"/>
                </a:lnTo>
                <a:lnTo>
                  <a:pt x="55" y="332"/>
                </a:lnTo>
                <a:lnTo>
                  <a:pt x="48" y="328"/>
                </a:lnTo>
                <a:lnTo>
                  <a:pt x="40" y="323"/>
                </a:lnTo>
                <a:lnTo>
                  <a:pt x="32" y="319"/>
                </a:lnTo>
                <a:lnTo>
                  <a:pt x="27" y="313"/>
                </a:lnTo>
                <a:lnTo>
                  <a:pt x="21" y="309"/>
                </a:lnTo>
                <a:lnTo>
                  <a:pt x="15" y="303"/>
                </a:lnTo>
                <a:lnTo>
                  <a:pt x="11" y="299"/>
                </a:lnTo>
                <a:lnTo>
                  <a:pt x="7" y="294"/>
                </a:lnTo>
                <a:lnTo>
                  <a:pt x="4" y="290"/>
                </a:lnTo>
                <a:lnTo>
                  <a:pt x="2" y="284"/>
                </a:lnTo>
                <a:lnTo>
                  <a:pt x="0" y="280"/>
                </a:lnTo>
                <a:lnTo>
                  <a:pt x="0" y="275"/>
                </a:lnTo>
                <a:lnTo>
                  <a:pt x="0" y="271"/>
                </a:lnTo>
                <a:lnTo>
                  <a:pt x="7" y="271"/>
                </a:lnTo>
                <a:lnTo>
                  <a:pt x="17" y="271"/>
                </a:lnTo>
                <a:lnTo>
                  <a:pt x="29" y="269"/>
                </a:lnTo>
                <a:lnTo>
                  <a:pt x="42" y="269"/>
                </a:lnTo>
                <a:lnTo>
                  <a:pt x="55" y="269"/>
                </a:lnTo>
                <a:lnTo>
                  <a:pt x="71" y="269"/>
                </a:lnTo>
                <a:lnTo>
                  <a:pt x="86" y="269"/>
                </a:lnTo>
                <a:lnTo>
                  <a:pt x="103" y="269"/>
                </a:lnTo>
                <a:lnTo>
                  <a:pt x="123" y="267"/>
                </a:lnTo>
                <a:lnTo>
                  <a:pt x="144" y="267"/>
                </a:lnTo>
                <a:lnTo>
                  <a:pt x="163" y="265"/>
                </a:lnTo>
                <a:lnTo>
                  <a:pt x="186" y="265"/>
                </a:lnTo>
                <a:lnTo>
                  <a:pt x="209" y="263"/>
                </a:lnTo>
                <a:lnTo>
                  <a:pt x="234" y="261"/>
                </a:lnTo>
                <a:lnTo>
                  <a:pt x="259" y="259"/>
                </a:lnTo>
                <a:lnTo>
                  <a:pt x="286" y="257"/>
                </a:lnTo>
                <a:lnTo>
                  <a:pt x="313" y="255"/>
                </a:lnTo>
                <a:lnTo>
                  <a:pt x="341" y="251"/>
                </a:lnTo>
                <a:lnTo>
                  <a:pt x="370" y="250"/>
                </a:lnTo>
                <a:lnTo>
                  <a:pt x="401" y="248"/>
                </a:lnTo>
                <a:lnTo>
                  <a:pt x="432" y="244"/>
                </a:lnTo>
                <a:lnTo>
                  <a:pt x="464" y="242"/>
                </a:lnTo>
                <a:lnTo>
                  <a:pt x="499" y="238"/>
                </a:lnTo>
                <a:lnTo>
                  <a:pt x="533" y="234"/>
                </a:lnTo>
                <a:lnTo>
                  <a:pt x="570" y="230"/>
                </a:lnTo>
                <a:lnTo>
                  <a:pt x="606" y="227"/>
                </a:lnTo>
                <a:lnTo>
                  <a:pt x="645" y="223"/>
                </a:lnTo>
                <a:lnTo>
                  <a:pt x="685" y="217"/>
                </a:lnTo>
                <a:lnTo>
                  <a:pt x="725" y="211"/>
                </a:lnTo>
                <a:lnTo>
                  <a:pt x="767" y="205"/>
                </a:lnTo>
                <a:lnTo>
                  <a:pt x="812" y="200"/>
                </a:lnTo>
                <a:lnTo>
                  <a:pt x="858" y="192"/>
                </a:lnTo>
                <a:lnTo>
                  <a:pt x="948" y="179"/>
                </a:lnTo>
                <a:lnTo>
                  <a:pt x="1036" y="163"/>
                </a:lnTo>
                <a:lnTo>
                  <a:pt x="1124" y="148"/>
                </a:lnTo>
                <a:lnTo>
                  <a:pt x="1213" y="132"/>
                </a:lnTo>
                <a:lnTo>
                  <a:pt x="1299" y="117"/>
                </a:lnTo>
                <a:lnTo>
                  <a:pt x="1386" y="100"/>
                </a:lnTo>
                <a:lnTo>
                  <a:pt x="1472" y="83"/>
                </a:lnTo>
                <a:lnTo>
                  <a:pt x="1558" y="63"/>
                </a:lnTo>
                <a:lnTo>
                  <a:pt x="1579" y="60"/>
                </a:lnTo>
                <a:lnTo>
                  <a:pt x="1599" y="56"/>
                </a:lnTo>
                <a:lnTo>
                  <a:pt x="1620" y="52"/>
                </a:lnTo>
                <a:lnTo>
                  <a:pt x="1639" y="50"/>
                </a:lnTo>
                <a:lnTo>
                  <a:pt x="1658" y="46"/>
                </a:lnTo>
                <a:lnTo>
                  <a:pt x="1677" y="42"/>
                </a:lnTo>
                <a:lnTo>
                  <a:pt x="1695" y="40"/>
                </a:lnTo>
                <a:lnTo>
                  <a:pt x="1714" y="37"/>
                </a:lnTo>
                <a:lnTo>
                  <a:pt x="1731" y="35"/>
                </a:lnTo>
                <a:lnTo>
                  <a:pt x="1746" y="31"/>
                </a:lnTo>
                <a:lnTo>
                  <a:pt x="1764" y="29"/>
                </a:lnTo>
                <a:lnTo>
                  <a:pt x="1779" y="25"/>
                </a:lnTo>
                <a:lnTo>
                  <a:pt x="1794" y="23"/>
                </a:lnTo>
                <a:lnTo>
                  <a:pt x="1808" y="21"/>
                </a:lnTo>
                <a:lnTo>
                  <a:pt x="1823" y="19"/>
                </a:lnTo>
                <a:lnTo>
                  <a:pt x="1837" y="17"/>
                </a:lnTo>
                <a:lnTo>
                  <a:pt x="1850" y="15"/>
                </a:lnTo>
                <a:lnTo>
                  <a:pt x="1862" y="13"/>
                </a:lnTo>
                <a:lnTo>
                  <a:pt x="1875" y="12"/>
                </a:lnTo>
                <a:lnTo>
                  <a:pt x="1886" y="10"/>
                </a:lnTo>
                <a:lnTo>
                  <a:pt x="1898" y="8"/>
                </a:lnTo>
                <a:lnTo>
                  <a:pt x="1908" y="6"/>
                </a:lnTo>
                <a:lnTo>
                  <a:pt x="1917" y="4"/>
                </a:lnTo>
                <a:lnTo>
                  <a:pt x="1927" y="4"/>
                </a:lnTo>
                <a:lnTo>
                  <a:pt x="1936" y="2"/>
                </a:lnTo>
                <a:lnTo>
                  <a:pt x="1946" y="2"/>
                </a:lnTo>
                <a:lnTo>
                  <a:pt x="1954" y="0"/>
                </a:lnTo>
                <a:lnTo>
                  <a:pt x="1961" y="0"/>
                </a:lnTo>
                <a:lnTo>
                  <a:pt x="1969" y="0"/>
                </a:lnTo>
                <a:lnTo>
                  <a:pt x="1975" y="0"/>
                </a:lnTo>
                <a:lnTo>
                  <a:pt x="1981" y="0"/>
                </a:lnTo>
                <a:lnTo>
                  <a:pt x="1986" y="0"/>
                </a:lnTo>
                <a:lnTo>
                  <a:pt x="1996" y="0"/>
                </a:lnTo>
                <a:lnTo>
                  <a:pt x="2004" y="0"/>
                </a:lnTo>
                <a:lnTo>
                  <a:pt x="2013" y="0"/>
                </a:lnTo>
                <a:lnTo>
                  <a:pt x="2025" y="2"/>
                </a:lnTo>
                <a:lnTo>
                  <a:pt x="2034" y="4"/>
                </a:lnTo>
                <a:lnTo>
                  <a:pt x="2046" y="6"/>
                </a:lnTo>
                <a:lnTo>
                  <a:pt x="2069" y="10"/>
                </a:lnTo>
                <a:lnTo>
                  <a:pt x="2080" y="13"/>
                </a:lnTo>
                <a:lnTo>
                  <a:pt x="2094" y="17"/>
                </a:lnTo>
                <a:lnTo>
                  <a:pt x="2107" y="21"/>
                </a:lnTo>
                <a:lnTo>
                  <a:pt x="2119" y="27"/>
                </a:lnTo>
                <a:lnTo>
                  <a:pt x="2132" y="31"/>
                </a:lnTo>
                <a:lnTo>
                  <a:pt x="2146" y="37"/>
                </a:lnTo>
                <a:lnTo>
                  <a:pt x="2159" y="44"/>
                </a:lnTo>
                <a:lnTo>
                  <a:pt x="2172" y="50"/>
                </a:lnTo>
                <a:lnTo>
                  <a:pt x="2186" y="58"/>
                </a:lnTo>
                <a:lnTo>
                  <a:pt x="2197" y="63"/>
                </a:lnTo>
                <a:lnTo>
                  <a:pt x="2209" y="69"/>
                </a:lnTo>
                <a:lnTo>
                  <a:pt x="2220" y="75"/>
                </a:lnTo>
                <a:lnTo>
                  <a:pt x="2230" y="81"/>
                </a:lnTo>
                <a:lnTo>
                  <a:pt x="2240" y="84"/>
                </a:lnTo>
                <a:lnTo>
                  <a:pt x="2249" y="88"/>
                </a:lnTo>
                <a:lnTo>
                  <a:pt x="2257" y="92"/>
                </a:lnTo>
                <a:lnTo>
                  <a:pt x="2263" y="96"/>
                </a:lnTo>
                <a:lnTo>
                  <a:pt x="2270" y="100"/>
                </a:lnTo>
                <a:lnTo>
                  <a:pt x="2274" y="102"/>
                </a:lnTo>
                <a:lnTo>
                  <a:pt x="2280" y="106"/>
                </a:lnTo>
                <a:lnTo>
                  <a:pt x="2282" y="108"/>
                </a:lnTo>
                <a:lnTo>
                  <a:pt x="2286" y="109"/>
                </a:lnTo>
                <a:lnTo>
                  <a:pt x="2288" y="113"/>
                </a:lnTo>
                <a:lnTo>
                  <a:pt x="2288" y="115"/>
                </a:lnTo>
                <a:lnTo>
                  <a:pt x="2288" y="125"/>
                </a:lnTo>
                <a:lnTo>
                  <a:pt x="2286" y="131"/>
                </a:lnTo>
                <a:lnTo>
                  <a:pt x="2286" y="134"/>
                </a:lnTo>
                <a:lnTo>
                  <a:pt x="2284" y="140"/>
                </a:lnTo>
                <a:lnTo>
                  <a:pt x="2282" y="144"/>
                </a:lnTo>
                <a:lnTo>
                  <a:pt x="2278" y="150"/>
                </a:lnTo>
                <a:lnTo>
                  <a:pt x="2272" y="154"/>
                </a:lnTo>
                <a:lnTo>
                  <a:pt x="2270" y="156"/>
                </a:lnTo>
                <a:lnTo>
                  <a:pt x="2265" y="157"/>
                </a:lnTo>
                <a:lnTo>
                  <a:pt x="2261" y="159"/>
                </a:lnTo>
                <a:lnTo>
                  <a:pt x="2255" y="161"/>
                </a:lnTo>
                <a:lnTo>
                  <a:pt x="2247" y="163"/>
                </a:lnTo>
                <a:lnTo>
                  <a:pt x="2240" y="163"/>
                </a:lnTo>
                <a:lnTo>
                  <a:pt x="2230" y="165"/>
                </a:lnTo>
                <a:lnTo>
                  <a:pt x="2220" y="165"/>
                </a:lnTo>
                <a:lnTo>
                  <a:pt x="2211" y="165"/>
                </a:lnTo>
                <a:lnTo>
                  <a:pt x="2199" y="165"/>
                </a:lnTo>
                <a:lnTo>
                  <a:pt x="2188" y="167"/>
                </a:lnTo>
                <a:lnTo>
                  <a:pt x="2174" y="167"/>
                </a:lnTo>
                <a:lnTo>
                  <a:pt x="2161" y="167"/>
                </a:lnTo>
                <a:lnTo>
                  <a:pt x="2146" y="167"/>
                </a:lnTo>
                <a:lnTo>
                  <a:pt x="2130" y="167"/>
                </a:lnTo>
                <a:lnTo>
                  <a:pt x="2115" y="167"/>
                </a:lnTo>
                <a:lnTo>
                  <a:pt x="2096" y="169"/>
                </a:lnTo>
                <a:lnTo>
                  <a:pt x="2076" y="171"/>
                </a:lnTo>
                <a:lnTo>
                  <a:pt x="2055" y="175"/>
                </a:lnTo>
                <a:lnTo>
                  <a:pt x="2034" y="177"/>
                </a:lnTo>
                <a:lnTo>
                  <a:pt x="2011" y="179"/>
                </a:lnTo>
                <a:lnTo>
                  <a:pt x="1988" y="182"/>
                </a:lnTo>
                <a:lnTo>
                  <a:pt x="1965" y="184"/>
                </a:lnTo>
                <a:lnTo>
                  <a:pt x="1940" y="188"/>
                </a:lnTo>
                <a:lnTo>
                  <a:pt x="1913" y="190"/>
                </a:lnTo>
                <a:lnTo>
                  <a:pt x="1886" y="194"/>
                </a:lnTo>
                <a:lnTo>
                  <a:pt x="1860" y="198"/>
                </a:lnTo>
                <a:lnTo>
                  <a:pt x="1829" y="202"/>
                </a:lnTo>
                <a:lnTo>
                  <a:pt x="1800" y="205"/>
                </a:lnTo>
                <a:lnTo>
                  <a:pt x="1767" y="209"/>
                </a:lnTo>
                <a:lnTo>
                  <a:pt x="1735" y="213"/>
                </a:lnTo>
                <a:lnTo>
                  <a:pt x="1700" y="2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124"/>
          <p:cNvSpPr/>
          <p:nvPr/>
        </p:nvSpPr>
        <p:spPr>
          <a:xfrm>
            <a:off x="6253200" y="2486160"/>
            <a:ext cx="404640" cy="274680"/>
          </a:xfrm>
          <a:custGeom>
            <a:avLst/>
            <a:gdLst/>
            <a:ahLst/>
            <a:rect l="l" t="t" r="r" b="b"/>
            <a:pathLst>
              <a:path w="511" h="345">
                <a:moveTo>
                  <a:pt x="129" y="194"/>
                </a:moveTo>
                <a:lnTo>
                  <a:pt x="108" y="169"/>
                </a:lnTo>
                <a:lnTo>
                  <a:pt x="88" y="144"/>
                </a:lnTo>
                <a:lnTo>
                  <a:pt x="69" y="121"/>
                </a:lnTo>
                <a:lnTo>
                  <a:pt x="54" y="96"/>
                </a:lnTo>
                <a:lnTo>
                  <a:pt x="38" y="71"/>
                </a:lnTo>
                <a:lnTo>
                  <a:pt x="23" y="48"/>
                </a:lnTo>
                <a:lnTo>
                  <a:pt x="12" y="23"/>
                </a:lnTo>
                <a:lnTo>
                  <a:pt x="0" y="0"/>
                </a:lnTo>
                <a:lnTo>
                  <a:pt x="33" y="0"/>
                </a:lnTo>
                <a:lnTo>
                  <a:pt x="67" y="2"/>
                </a:lnTo>
                <a:lnTo>
                  <a:pt x="102" y="6"/>
                </a:lnTo>
                <a:lnTo>
                  <a:pt x="138" y="9"/>
                </a:lnTo>
                <a:lnTo>
                  <a:pt x="157" y="13"/>
                </a:lnTo>
                <a:lnTo>
                  <a:pt x="177" y="17"/>
                </a:lnTo>
                <a:lnTo>
                  <a:pt x="198" y="21"/>
                </a:lnTo>
                <a:lnTo>
                  <a:pt x="217" y="27"/>
                </a:lnTo>
                <a:lnTo>
                  <a:pt x="238" y="30"/>
                </a:lnTo>
                <a:lnTo>
                  <a:pt x="257" y="36"/>
                </a:lnTo>
                <a:lnTo>
                  <a:pt x="278" y="44"/>
                </a:lnTo>
                <a:lnTo>
                  <a:pt x="300" y="52"/>
                </a:lnTo>
                <a:lnTo>
                  <a:pt x="319" y="57"/>
                </a:lnTo>
                <a:lnTo>
                  <a:pt x="336" y="65"/>
                </a:lnTo>
                <a:lnTo>
                  <a:pt x="353" y="73"/>
                </a:lnTo>
                <a:lnTo>
                  <a:pt x="369" y="80"/>
                </a:lnTo>
                <a:lnTo>
                  <a:pt x="386" y="88"/>
                </a:lnTo>
                <a:lnTo>
                  <a:pt x="399" y="94"/>
                </a:lnTo>
                <a:lnTo>
                  <a:pt x="415" y="101"/>
                </a:lnTo>
                <a:lnTo>
                  <a:pt x="426" y="109"/>
                </a:lnTo>
                <a:lnTo>
                  <a:pt x="440" y="117"/>
                </a:lnTo>
                <a:lnTo>
                  <a:pt x="451" y="123"/>
                </a:lnTo>
                <a:lnTo>
                  <a:pt x="461" y="130"/>
                </a:lnTo>
                <a:lnTo>
                  <a:pt x="470" y="138"/>
                </a:lnTo>
                <a:lnTo>
                  <a:pt x="480" y="146"/>
                </a:lnTo>
                <a:lnTo>
                  <a:pt x="488" y="151"/>
                </a:lnTo>
                <a:lnTo>
                  <a:pt x="493" y="159"/>
                </a:lnTo>
                <a:lnTo>
                  <a:pt x="501" y="167"/>
                </a:lnTo>
                <a:lnTo>
                  <a:pt x="505" y="186"/>
                </a:lnTo>
                <a:lnTo>
                  <a:pt x="509" y="205"/>
                </a:lnTo>
                <a:lnTo>
                  <a:pt x="511" y="224"/>
                </a:lnTo>
                <a:lnTo>
                  <a:pt x="511" y="244"/>
                </a:lnTo>
                <a:lnTo>
                  <a:pt x="511" y="261"/>
                </a:lnTo>
                <a:lnTo>
                  <a:pt x="509" y="278"/>
                </a:lnTo>
                <a:lnTo>
                  <a:pt x="505" y="293"/>
                </a:lnTo>
                <a:lnTo>
                  <a:pt x="501" y="309"/>
                </a:lnTo>
                <a:lnTo>
                  <a:pt x="495" y="315"/>
                </a:lnTo>
                <a:lnTo>
                  <a:pt x="488" y="322"/>
                </a:lnTo>
                <a:lnTo>
                  <a:pt x="482" y="328"/>
                </a:lnTo>
                <a:lnTo>
                  <a:pt x="474" y="332"/>
                </a:lnTo>
                <a:lnTo>
                  <a:pt x="465" y="338"/>
                </a:lnTo>
                <a:lnTo>
                  <a:pt x="457" y="339"/>
                </a:lnTo>
                <a:lnTo>
                  <a:pt x="447" y="343"/>
                </a:lnTo>
                <a:lnTo>
                  <a:pt x="438" y="345"/>
                </a:lnTo>
                <a:lnTo>
                  <a:pt x="426" y="345"/>
                </a:lnTo>
                <a:lnTo>
                  <a:pt x="417" y="345"/>
                </a:lnTo>
                <a:lnTo>
                  <a:pt x="405" y="343"/>
                </a:lnTo>
                <a:lnTo>
                  <a:pt x="394" y="341"/>
                </a:lnTo>
                <a:lnTo>
                  <a:pt x="382" y="338"/>
                </a:lnTo>
                <a:lnTo>
                  <a:pt x="369" y="334"/>
                </a:lnTo>
                <a:lnTo>
                  <a:pt x="355" y="328"/>
                </a:lnTo>
                <a:lnTo>
                  <a:pt x="344" y="322"/>
                </a:lnTo>
                <a:lnTo>
                  <a:pt x="311" y="307"/>
                </a:lnTo>
                <a:lnTo>
                  <a:pt x="280" y="292"/>
                </a:lnTo>
                <a:lnTo>
                  <a:pt x="252" y="276"/>
                </a:lnTo>
                <a:lnTo>
                  <a:pt x="225" y="261"/>
                </a:lnTo>
                <a:lnTo>
                  <a:pt x="198" y="245"/>
                </a:lnTo>
                <a:lnTo>
                  <a:pt x="173" y="228"/>
                </a:lnTo>
                <a:lnTo>
                  <a:pt x="150" y="211"/>
                </a:lnTo>
                <a:lnTo>
                  <a:pt x="129" y="1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4"/>
          <p:cNvSpPr/>
          <p:nvPr/>
        </p:nvSpPr>
        <p:spPr>
          <a:xfrm>
            <a:off x="2218680" y="22017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谊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114880" y="2036880"/>
          <a:ext cx="3041640" cy="303984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0" name="组合 8"/>
          <p:cNvGrpSpPr/>
          <p:nvPr/>
        </p:nvGrpSpPr>
        <p:grpSpPr>
          <a:xfrm>
            <a:off x="1400040" y="3629160"/>
            <a:ext cx="2840040" cy="1569960"/>
            <a:chOff x="1400040" y="3629160"/>
            <a:chExt cx="2840040" cy="1569960"/>
          </a:xfrm>
        </p:grpSpPr>
        <p:pic>
          <p:nvPicPr>
            <p:cNvPr id="26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629160"/>
              <a:ext cx="284004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矩形 2"/>
            <p:cNvSpPr/>
            <p:nvPr/>
          </p:nvSpPr>
          <p:spPr>
            <a:xfrm>
              <a:off x="1444680" y="42426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讠”点偏上，右部的“宀”稍宽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3" name="矩形 3"/>
          <p:cNvSpPr/>
          <p:nvPr/>
        </p:nvSpPr>
        <p:spPr>
          <a:xfrm>
            <a:off x="2171880" y="152244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145"/>
          <p:cNvSpPr/>
          <p:nvPr/>
        </p:nvSpPr>
        <p:spPr>
          <a:xfrm>
            <a:off x="6637320" y="3263760"/>
            <a:ext cx="660240" cy="1227240"/>
          </a:xfrm>
          <a:custGeom>
            <a:avLst/>
            <a:gdLst/>
            <a:ahLst/>
            <a:rect l="l" t="t" r="r" b="b"/>
            <a:pathLst>
              <a:path w="831" h="1545">
                <a:moveTo>
                  <a:pt x="484" y="42"/>
                </a:moveTo>
                <a:lnTo>
                  <a:pt x="494" y="33"/>
                </a:lnTo>
                <a:lnTo>
                  <a:pt x="501" y="23"/>
                </a:lnTo>
                <a:lnTo>
                  <a:pt x="511" y="17"/>
                </a:lnTo>
                <a:lnTo>
                  <a:pt x="520" y="12"/>
                </a:lnTo>
                <a:lnTo>
                  <a:pt x="530" y="6"/>
                </a:lnTo>
                <a:lnTo>
                  <a:pt x="540" y="2"/>
                </a:lnTo>
                <a:lnTo>
                  <a:pt x="549" y="0"/>
                </a:lnTo>
                <a:lnTo>
                  <a:pt x="559" y="0"/>
                </a:lnTo>
                <a:lnTo>
                  <a:pt x="563" y="4"/>
                </a:lnTo>
                <a:lnTo>
                  <a:pt x="568" y="6"/>
                </a:lnTo>
                <a:lnTo>
                  <a:pt x="574" y="10"/>
                </a:lnTo>
                <a:lnTo>
                  <a:pt x="582" y="14"/>
                </a:lnTo>
                <a:lnTo>
                  <a:pt x="590" y="17"/>
                </a:lnTo>
                <a:lnTo>
                  <a:pt x="597" y="21"/>
                </a:lnTo>
                <a:lnTo>
                  <a:pt x="605" y="27"/>
                </a:lnTo>
                <a:lnTo>
                  <a:pt x="614" y="33"/>
                </a:lnTo>
                <a:lnTo>
                  <a:pt x="626" y="39"/>
                </a:lnTo>
                <a:lnTo>
                  <a:pt x="638" y="44"/>
                </a:lnTo>
                <a:lnTo>
                  <a:pt x="649" y="50"/>
                </a:lnTo>
                <a:lnTo>
                  <a:pt x="661" y="56"/>
                </a:lnTo>
                <a:lnTo>
                  <a:pt x="674" y="63"/>
                </a:lnTo>
                <a:lnTo>
                  <a:pt x="689" y="71"/>
                </a:lnTo>
                <a:lnTo>
                  <a:pt x="703" y="79"/>
                </a:lnTo>
                <a:lnTo>
                  <a:pt x="720" y="86"/>
                </a:lnTo>
                <a:lnTo>
                  <a:pt x="733" y="96"/>
                </a:lnTo>
                <a:lnTo>
                  <a:pt x="745" y="108"/>
                </a:lnTo>
                <a:lnTo>
                  <a:pt x="757" y="117"/>
                </a:lnTo>
                <a:lnTo>
                  <a:pt x="768" y="127"/>
                </a:lnTo>
                <a:lnTo>
                  <a:pt x="778" y="134"/>
                </a:lnTo>
                <a:lnTo>
                  <a:pt x="787" y="144"/>
                </a:lnTo>
                <a:lnTo>
                  <a:pt x="795" y="152"/>
                </a:lnTo>
                <a:lnTo>
                  <a:pt x="803" y="159"/>
                </a:lnTo>
                <a:lnTo>
                  <a:pt x="808" y="167"/>
                </a:lnTo>
                <a:lnTo>
                  <a:pt x="814" y="173"/>
                </a:lnTo>
                <a:lnTo>
                  <a:pt x="820" y="179"/>
                </a:lnTo>
                <a:lnTo>
                  <a:pt x="824" y="184"/>
                </a:lnTo>
                <a:lnTo>
                  <a:pt x="826" y="190"/>
                </a:lnTo>
                <a:lnTo>
                  <a:pt x="829" y="194"/>
                </a:lnTo>
                <a:lnTo>
                  <a:pt x="829" y="198"/>
                </a:lnTo>
                <a:lnTo>
                  <a:pt x="831" y="200"/>
                </a:lnTo>
                <a:lnTo>
                  <a:pt x="829" y="205"/>
                </a:lnTo>
                <a:lnTo>
                  <a:pt x="828" y="213"/>
                </a:lnTo>
                <a:lnTo>
                  <a:pt x="826" y="223"/>
                </a:lnTo>
                <a:lnTo>
                  <a:pt x="822" y="232"/>
                </a:lnTo>
                <a:lnTo>
                  <a:pt x="820" y="244"/>
                </a:lnTo>
                <a:lnTo>
                  <a:pt x="814" y="257"/>
                </a:lnTo>
                <a:lnTo>
                  <a:pt x="810" y="271"/>
                </a:lnTo>
                <a:lnTo>
                  <a:pt x="806" y="286"/>
                </a:lnTo>
                <a:lnTo>
                  <a:pt x="804" y="290"/>
                </a:lnTo>
                <a:lnTo>
                  <a:pt x="801" y="296"/>
                </a:lnTo>
                <a:lnTo>
                  <a:pt x="799" y="301"/>
                </a:lnTo>
                <a:lnTo>
                  <a:pt x="797" y="307"/>
                </a:lnTo>
                <a:lnTo>
                  <a:pt x="795" y="315"/>
                </a:lnTo>
                <a:lnTo>
                  <a:pt x="793" y="323"/>
                </a:lnTo>
                <a:lnTo>
                  <a:pt x="791" y="330"/>
                </a:lnTo>
                <a:lnTo>
                  <a:pt x="789" y="340"/>
                </a:lnTo>
                <a:lnTo>
                  <a:pt x="787" y="349"/>
                </a:lnTo>
                <a:lnTo>
                  <a:pt x="785" y="359"/>
                </a:lnTo>
                <a:lnTo>
                  <a:pt x="785" y="371"/>
                </a:lnTo>
                <a:lnTo>
                  <a:pt x="783" y="382"/>
                </a:lnTo>
                <a:lnTo>
                  <a:pt x="781" y="394"/>
                </a:lnTo>
                <a:lnTo>
                  <a:pt x="780" y="405"/>
                </a:lnTo>
                <a:lnTo>
                  <a:pt x="778" y="419"/>
                </a:lnTo>
                <a:lnTo>
                  <a:pt x="776" y="432"/>
                </a:lnTo>
                <a:lnTo>
                  <a:pt x="776" y="447"/>
                </a:lnTo>
                <a:lnTo>
                  <a:pt x="774" y="463"/>
                </a:lnTo>
                <a:lnTo>
                  <a:pt x="772" y="478"/>
                </a:lnTo>
                <a:lnTo>
                  <a:pt x="770" y="493"/>
                </a:lnTo>
                <a:lnTo>
                  <a:pt x="770" y="511"/>
                </a:lnTo>
                <a:lnTo>
                  <a:pt x="768" y="528"/>
                </a:lnTo>
                <a:lnTo>
                  <a:pt x="766" y="545"/>
                </a:lnTo>
                <a:lnTo>
                  <a:pt x="766" y="564"/>
                </a:lnTo>
                <a:lnTo>
                  <a:pt x="764" y="582"/>
                </a:lnTo>
                <a:lnTo>
                  <a:pt x="762" y="603"/>
                </a:lnTo>
                <a:lnTo>
                  <a:pt x="762" y="622"/>
                </a:lnTo>
                <a:lnTo>
                  <a:pt x="760" y="643"/>
                </a:lnTo>
                <a:lnTo>
                  <a:pt x="760" y="664"/>
                </a:lnTo>
                <a:lnTo>
                  <a:pt x="758" y="685"/>
                </a:lnTo>
                <a:lnTo>
                  <a:pt x="757" y="706"/>
                </a:lnTo>
                <a:lnTo>
                  <a:pt x="757" y="729"/>
                </a:lnTo>
                <a:lnTo>
                  <a:pt x="753" y="827"/>
                </a:lnTo>
                <a:lnTo>
                  <a:pt x="749" y="925"/>
                </a:lnTo>
                <a:lnTo>
                  <a:pt x="747" y="1025"/>
                </a:lnTo>
                <a:lnTo>
                  <a:pt x="745" y="1127"/>
                </a:lnTo>
                <a:lnTo>
                  <a:pt x="745" y="1229"/>
                </a:lnTo>
                <a:lnTo>
                  <a:pt x="743" y="1332"/>
                </a:lnTo>
                <a:lnTo>
                  <a:pt x="743" y="1438"/>
                </a:lnTo>
                <a:lnTo>
                  <a:pt x="743" y="1545"/>
                </a:lnTo>
                <a:lnTo>
                  <a:pt x="670" y="1545"/>
                </a:lnTo>
                <a:lnTo>
                  <a:pt x="595" y="1545"/>
                </a:lnTo>
                <a:lnTo>
                  <a:pt x="595" y="1465"/>
                </a:lnTo>
                <a:lnTo>
                  <a:pt x="595" y="1386"/>
                </a:lnTo>
                <a:lnTo>
                  <a:pt x="595" y="1311"/>
                </a:lnTo>
                <a:lnTo>
                  <a:pt x="593" y="1238"/>
                </a:lnTo>
                <a:lnTo>
                  <a:pt x="593" y="1167"/>
                </a:lnTo>
                <a:lnTo>
                  <a:pt x="593" y="1100"/>
                </a:lnTo>
                <a:lnTo>
                  <a:pt x="593" y="1035"/>
                </a:lnTo>
                <a:lnTo>
                  <a:pt x="593" y="971"/>
                </a:lnTo>
                <a:lnTo>
                  <a:pt x="591" y="910"/>
                </a:lnTo>
                <a:lnTo>
                  <a:pt x="591" y="852"/>
                </a:lnTo>
                <a:lnTo>
                  <a:pt x="591" y="797"/>
                </a:lnTo>
                <a:lnTo>
                  <a:pt x="590" y="743"/>
                </a:lnTo>
                <a:lnTo>
                  <a:pt x="590" y="693"/>
                </a:lnTo>
                <a:lnTo>
                  <a:pt x="590" y="645"/>
                </a:lnTo>
                <a:lnTo>
                  <a:pt x="588" y="599"/>
                </a:lnTo>
                <a:lnTo>
                  <a:pt x="588" y="557"/>
                </a:lnTo>
                <a:lnTo>
                  <a:pt x="586" y="516"/>
                </a:lnTo>
                <a:lnTo>
                  <a:pt x="586" y="478"/>
                </a:lnTo>
                <a:lnTo>
                  <a:pt x="584" y="442"/>
                </a:lnTo>
                <a:lnTo>
                  <a:pt x="584" y="409"/>
                </a:lnTo>
                <a:lnTo>
                  <a:pt x="582" y="378"/>
                </a:lnTo>
                <a:lnTo>
                  <a:pt x="582" y="349"/>
                </a:lnTo>
                <a:lnTo>
                  <a:pt x="580" y="323"/>
                </a:lnTo>
                <a:lnTo>
                  <a:pt x="580" y="300"/>
                </a:lnTo>
                <a:lnTo>
                  <a:pt x="578" y="278"/>
                </a:lnTo>
                <a:lnTo>
                  <a:pt x="578" y="261"/>
                </a:lnTo>
                <a:lnTo>
                  <a:pt x="576" y="244"/>
                </a:lnTo>
                <a:lnTo>
                  <a:pt x="574" y="230"/>
                </a:lnTo>
                <a:lnTo>
                  <a:pt x="574" y="219"/>
                </a:lnTo>
                <a:lnTo>
                  <a:pt x="572" y="211"/>
                </a:lnTo>
                <a:lnTo>
                  <a:pt x="572" y="204"/>
                </a:lnTo>
                <a:lnTo>
                  <a:pt x="570" y="200"/>
                </a:lnTo>
                <a:lnTo>
                  <a:pt x="568" y="200"/>
                </a:lnTo>
                <a:lnTo>
                  <a:pt x="565" y="198"/>
                </a:lnTo>
                <a:lnTo>
                  <a:pt x="559" y="198"/>
                </a:lnTo>
                <a:lnTo>
                  <a:pt x="553" y="196"/>
                </a:lnTo>
                <a:lnTo>
                  <a:pt x="547" y="196"/>
                </a:lnTo>
                <a:lnTo>
                  <a:pt x="540" y="196"/>
                </a:lnTo>
                <a:lnTo>
                  <a:pt x="530" y="196"/>
                </a:lnTo>
                <a:lnTo>
                  <a:pt x="520" y="198"/>
                </a:lnTo>
                <a:lnTo>
                  <a:pt x="511" y="198"/>
                </a:lnTo>
                <a:lnTo>
                  <a:pt x="499" y="200"/>
                </a:lnTo>
                <a:lnTo>
                  <a:pt x="488" y="200"/>
                </a:lnTo>
                <a:lnTo>
                  <a:pt x="474" y="202"/>
                </a:lnTo>
                <a:lnTo>
                  <a:pt x="459" y="204"/>
                </a:lnTo>
                <a:lnTo>
                  <a:pt x="444" y="205"/>
                </a:lnTo>
                <a:lnTo>
                  <a:pt x="428" y="207"/>
                </a:lnTo>
                <a:lnTo>
                  <a:pt x="411" y="211"/>
                </a:lnTo>
                <a:lnTo>
                  <a:pt x="392" y="213"/>
                </a:lnTo>
                <a:lnTo>
                  <a:pt x="373" y="217"/>
                </a:lnTo>
                <a:lnTo>
                  <a:pt x="353" y="219"/>
                </a:lnTo>
                <a:lnTo>
                  <a:pt x="332" y="223"/>
                </a:lnTo>
                <a:lnTo>
                  <a:pt x="309" y="227"/>
                </a:lnTo>
                <a:lnTo>
                  <a:pt x="286" y="230"/>
                </a:lnTo>
                <a:lnTo>
                  <a:pt x="261" y="236"/>
                </a:lnTo>
                <a:lnTo>
                  <a:pt x="236" y="240"/>
                </a:lnTo>
                <a:lnTo>
                  <a:pt x="211" y="244"/>
                </a:lnTo>
                <a:lnTo>
                  <a:pt x="185" y="250"/>
                </a:lnTo>
                <a:lnTo>
                  <a:pt x="156" y="255"/>
                </a:lnTo>
                <a:lnTo>
                  <a:pt x="127" y="261"/>
                </a:lnTo>
                <a:lnTo>
                  <a:pt x="96" y="267"/>
                </a:lnTo>
                <a:lnTo>
                  <a:pt x="66" y="273"/>
                </a:lnTo>
                <a:lnTo>
                  <a:pt x="33" y="280"/>
                </a:lnTo>
                <a:lnTo>
                  <a:pt x="0" y="286"/>
                </a:lnTo>
                <a:lnTo>
                  <a:pt x="0" y="229"/>
                </a:lnTo>
                <a:lnTo>
                  <a:pt x="0" y="171"/>
                </a:lnTo>
                <a:lnTo>
                  <a:pt x="12" y="171"/>
                </a:lnTo>
                <a:lnTo>
                  <a:pt x="25" y="171"/>
                </a:lnTo>
                <a:lnTo>
                  <a:pt x="39" y="171"/>
                </a:lnTo>
                <a:lnTo>
                  <a:pt x="54" y="169"/>
                </a:lnTo>
                <a:lnTo>
                  <a:pt x="69" y="167"/>
                </a:lnTo>
                <a:lnTo>
                  <a:pt x="85" y="165"/>
                </a:lnTo>
                <a:lnTo>
                  <a:pt x="102" y="163"/>
                </a:lnTo>
                <a:lnTo>
                  <a:pt x="119" y="161"/>
                </a:lnTo>
                <a:lnTo>
                  <a:pt x="138" y="158"/>
                </a:lnTo>
                <a:lnTo>
                  <a:pt x="156" y="156"/>
                </a:lnTo>
                <a:lnTo>
                  <a:pt x="177" y="152"/>
                </a:lnTo>
                <a:lnTo>
                  <a:pt x="196" y="148"/>
                </a:lnTo>
                <a:lnTo>
                  <a:pt x="217" y="144"/>
                </a:lnTo>
                <a:lnTo>
                  <a:pt x="240" y="138"/>
                </a:lnTo>
                <a:lnTo>
                  <a:pt x="261" y="134"/>
                </a:lnTo>
                <a:lnTo>
                  <a:pt x="284" y="129"/>
                </a:lnTo>
                <a:lnTo>
                  <a:pt x="305" y="123"/>
                </a:lnTo>
                <a:lnTo>
                  <a:pt x="325" y="117"/>
                </a:lnTo>
                <a:lnTo>
                  <a:pt x="344" y="113"/>
                </a:lnTo>
                <a:lnTo>
                  <a:pt x="361" y="108"/>
                </a:lnTo>
                <a:lnTo>
                  <a:pt x="378" y="102"/>
                </a:lnTo>
                <a:lnTo>
                  <a:pt x="394" y="96"/>
                </a:lnTo>
                <a:lnTo>
                  <a:pt x="407" y="90"/>
                </a:lnTo>
                <a:lnTo>
                  <a:pt x="421" y="86"/>
                </a:lnTo>
                <a:lnTo>
                  <a:pt x="434" y="81"/>
                </a:lnTo>
                <a:lnTo>
                  <a:pt x="446" y="75"/>
                </a:lnTo>
                <a:lnTo>
                  <a:pt x="455" y="69"/>
                </a:lnTo>
                <a:lnTo>
                  <a:pt x="463" y="63"/>
                </a:lnTo>
                <a:lnTo>
                  <a:pt x="471" y="60"/>
                </a:lnTo>
                <a:lnTo>
                  <a:pt x="476" y="54"/>
                </a:lnTo>
                <a:lnTo>
                  <a:pt x="480" y="48"/>
                </a:lnTo>
                <a:lnTo>
                  <a:pt x="484" y="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146"/>
          <p:cNvSpPr/>
          <p:nvPr/>
        </p:nvSpPr>
        <p:spPr>
          <a:xfrm>
            <a:off x="6145200" y="4398840"/>
            <a:ext cx="1544760" cy="284400"/>
          </a:xfrm>
          <a:custGeom>
            <a:avLst/>
            <a:gdLst/>
            <a:ahLst/>
            <a:rect l="l" t="t" r="r" b="b"/>
            <a:pathLst>
              <a:path w="1947" h="357">
                <a:moveTo>
                  <a:pt x="1240" y="186"/>
                </a:moveTo>
                <a:lnTo>
                  <a:pt x="1225" y="186"/>
                </a:lnTo>
                <a:lnTo>
                  <a:pt x="1210" y="186"/>
                </a:lnTo>
                <a:lnTo>
                  <a:pt x="1194" y="188"/>
                </a:lnTo>
                <a:lnTo>
                  <a:pt x="1177" y="188"/>
                </a:lnTo>
                <a:lnTo>
                  <a:pt x="1160" y="190"/>
                </a:lnTo>
                <a:lnTo>
                  <a:pt x="1140" y="192"/>
                </a:lnTo>
                <a:lnTo>
                  <a:pt x="1119" y="194"/>
                </a:lnTo>
                <a:lnTo>
                  <a:pt x="1098" y="196"/>
                </a:lnTo>
                <a:lnTo>
                  <a:pt x="1077" y="198"/>
                </a:lnTo>
                <a:lnTo>
                  <a:pt x="1054" y="200"/>
                </a:lnTo>
                <a:lnTo>
                  <a:pt x="1029" y="202"/>
                </a:lnTo>
                <a:lnTo>
                  <a:pt x="1004" y="203"/>
                </a:lnTo>
                <a:lnTo>
                  <a:pt x="977" y="207"/>
                </a:lnTo>
                <a:lnTo>
                  <a:pt x="950" y="209"/>
                </a:lnTo>
                <a:lnTo>
                  <a:pt x="922" y="211"/>
                </a:lnTo>
                <a:lnTo>
                  <a:pt x="893" y="215"/>
                </a:lnTo>
                <a:lnTo>
                  <a:pt x="833" y="221"/>
                </a:lnTo>
                <a:lnTo>
                  <a:pt x="774" y="228"/>
                </a:lnTo>
                <a:lnTo>
                  <a:pt x="716" y="236"/>
                </a:lnTo>
                <a:lnTo>
                  <a:pt x="661" y="248"/>
                </a:lnTo>
                <a:lnTo>
                  <a:pt x="605" y="257"/>
                </a:lnTo>
                <a:lnTo>
                  <a:pt x="551" y="271"/>
                </a:lnTo>
                <a:lnTo>
                  <a:pt x="497" y="284"/>
                </a:lnTo>
                <a:lnTo>
                  <a:pt x="446" y="301"/>
                </a:lnTo>
                <a:lnTo>
                  <a:pt x="419" y="305"/>
                </a:lnTo>
                <a:lnTo>
                  <a:pt x="394" y="311"/>
                </a:lnTo>
                <a:lnTo>
                  <a:pt x="369" y="315"/>
                </a:lnTo>
                <a:lnTo>
                  <a:pt x="346" y="321"/>
                </a:lnTo>
                <a:lnTo>
                  <a:pt x="325" y="324"/>
                </a:lnTo>
                <a:lnTo>
                  <a:pt x="305" y="328"/>
                </a:lnTo>
                <a:lnTo>
                  <a:pt x="288" y="332"/>
                </a:lnTo>
                <a:lnTo>
                  <a:pt x="271" y="334"/>
                </a:lnTo>
                <a:lnTo>
                  <a:pt x="256" y="338"/>
                </a:lnTo>
                <a:lnTo>
                  <a:pt x="242" y="342"/>
                </a:lnTo>
                <a:lnTo>
                  <a:pt x="231" y="344"/>
                </a:lnTo>
                <a:lnTo>
                  <a:pt x="221" y="347"/>
                </a:lnTo>
                <a:lnTo>
                  <a:pt x="213" y="349"/>
                </a:lnTo>
                <a:lnTo>
                  <a:pt x="206" y="351"/>
                </a:lnTo>
                <a:lnTo>
                  <a:pt x="202" y="355"/>
                </a:lnTo>
                <a:lnTo>
                  <a:pt x="198" y="357"/>
                </a:lnTo>
                <a:lnTo>
                  <a:pt x="188" y="357"/>
                </a:lnTo>
                <a:lnTo>
                  <a:pt x="177" y="355"/>
                </a:lnTo>
                <a:lnTo>
                  <a:pt x="165" y="351"/>
                </a:lnTo>
                <a:lnTo>
                  <a:pt x="154" y="347"/>
                </a:lnTo>
                <a:lnTo>
                  <a:pt x="140" y="342"/>
                </a:lnTo>
                <a:lnTo>
                  <a:pt x="127" y="334"/>
                </a:lnTo>
                <a:lnTo>
                  <a:pt x="114" y="324"/>
                </a:lnTo>
                <a:lnTo>
                  <a:pt x="100" y="315"/>
                </a:lnTo>
                <a:lnTo>
                  <a:pt x="85" y="303"/>
                </a:lnTo>
                <a:lnTo>
                  <a:pt x="71" y="290"/>
                </a:lnTo>
                <a:lnTo>
                  <a:pt x="58" y="276"/>
                </a:lnTo>
                <a:lnTo>
                  <a:pt x="44" y="261"/>
                </a:lnTo>
                <a:lnTo>
                  <a:pt x="33" y="244"/>
                </a:lnTo>
                <a:lnTo>
                  <a:pt x="21" y="227"/>
                </a:lnTo>
                <a:lnTo>
                  <a:pt x="10" y="207"/>
                </a:lnTo>
                <a:lnTo>
                  <a:pt x="0" y="186"/>
                </a:lnTo>
                <a:lnTo>
                  <a:pt x="8" y="186"/>
                </a:lnTo>
                <a:lnTo>
                  <a:pt x="18" y="186"/>
                </a:lnTo>
                <a:lnTo>
                  <a:pt x="29" y="186"/>
                </a:lnTo>
                <a:lnTo>
                  <a:pt x="41" y="184"/>
                </a:lnTo>
                <a:lnTo>
                  <a:pt x="54" y="184"/>
                </a:lnTo>
                <a:lnTo>
                  <a:pt x="67" y="182"/>
                </a:lnTo>
                <a:lnTo>
                  <a:pt x="81" y="182"/>
                </a:lnTo>
                <a:lnTo>
                  <a:pt x="98" y="180"/>
                </a:lnTo>
                <a:lnTo>
                  <a:pt x="114" y="179"/>
                </a:lnTo>
                <a:lnTo>
                  <a:pt x="133" y="179"/>
                </a:lnTo>
                <a:lnTo>
                  <a:pt x="150" y="177"/>
                </a:lnTo>
                <a:lnTo>
                  <a:pt x="171" y="175"/>
                </a:lnTo>
                <a:lnTo>
                  <a:pt x="190" y="171"/>
                </a:lnTo>
                <a:lnTo>
                  <a:pt x="213" y="169"/>
                </a:lnTo>
                <a:lnTo>
                  <a:pt x="234" y="167"/>
                </a:lnTo>
                <a:lnTo>
                  <a:pt x="259" y="163"/>
                </a:lnTo>
                <a:lnTo>
                  <a:pt x="284" y="161"/>
                </a:lnTo>
                <a:lnTo>
                  <a:pt x="309" y="157"/>
                </a:lnTo>
                <a:lnTo>
                  <a:pt x="336" y="154"/>
                </a:lnTo>
                <a:lnTo>
                  <a:pt x="363" y="150"/>
                </a:lnTo>
                <a:lnTo>
                  <a:pt x="392" y="146"/>
                </a:lnTo>
                <a:lnTo>
                  <a:pt x="421" y="142"/>
                </a:lnTo>
                <a:lnTo>
                  <a:pt x="451" y="136"/>
                </a:lnTo>
                <a:lnTo>
                  <a:pt x="482" y="132"/>
                </a:lnTo>
                <a:lnTo>
                  <a:pt x="515" y="127"/>
                </a:lnTo>
                <a:lnTo>
                  <a:pt x="549" y="123"/>
                </a:lnTo>
                <a:lnTo>
                  <a:pt x="584" y="117"/>
                </a:lnTo>
                <a:lnTo>
                  <a:pt x="618" y="111"/>
                </a:lnTo>
                <a:lnTo>
                  <a:pt x="655" y="106"/>
                </a:lnTo>
                <a:lnTo>
                  <a:pt x="691" y="100"/>
                </a:lnTo>
                <a:lnTo>
                  <a:pt x="730" y="92"/>
                </a:lnTo>
                <a:lnTo>
                  <a:pt x="768" y="86"/>
                </a:lnTo>
                <a:lnTo>
                  <a:pt x="806" y="81"/>
                </a:lnTo>
                <a:lnTo>
                  <a:pt x="843" y="75"/>
                </a:lnTo>
                <a:lnTo>
                  <a:pt x="879" y="71"/>
                </a:lnTo>
                <a:lnTo>
                  <a:pt x="916" y="65"/>
                </a:lnTo>
                <a:lnTo>
                  <a:pt x="950" y="61"/>
                </a:lnTo>
                <a:lnTo>
                  <a:pt x="985" y="56"/>
                </a:lnTo>
                <a:lnTo>
                  <a:pt x="1019" y="52"/>
                </a:lnTo>
                <a:lnTo>
                  <a:pt x="1052" y="48"/>
                </a:lnTo>
                <a:lnTo>
                  <a:pt x="1085" y="44"/>
                </a:lnTo>
                <a:lnTo>
                  <a:pt x="1115" y="40"/>
                </a:lnTo>
                <a:lnTo>
                  <a:pt x="1146" y="37"/>
                </a:lnTo>
                <a:lnTo>
                  <a:pt x="1177" y="33"/>
                </a:lnTo>
                <a:lnTo>
                  <a:pt x="1206" y="31"/>
                </a:lnTo>
                <a:lnTo>
                  <a:pt x="1234" y="27"/>
                </a:lnTo>
                <a:lnTo>
                  <a:pt x="1261" y="23"/>
                </a:lnTo>
                <a:lnTo>
                  <a:pt x="1290" y="21"/>
                </a:lnTo>
                <a:lnTo>
                  <a:pt x="1315" y="19"/>
                </a:lnTo>
                <a:lnTo>
                  <a:pt x="1342" y="15"/>
                </a:lnTo>
                <a:lnTo>
                  <a:pt x="1367" y="13"/>
                </a:lnTo>
                <a:lnTo>
                  <a:pt x="1390" y="12"/>
                </a:lnTo>
                <a:lnTo>
                  <a:pt x="1413" y="10"/>
                </a:lnTo>
                <a:lnTo>
                  <a:pt x="1436" y="8"/>
                </a:lnTo>
                <a:lnTo>
                  <a:pt x="1459" y="6"/>
                </a:lnTo>
                <a:lnTo>
                  <a:pt x="1480" y="6"/>
                </a:lnTo>
                <a:lnTo>
                  <a:pt x="1501" y="4"/>
                </a:lnTo>
                <a:lnTo>
                  <a:pt x="1520" y="4"/>
                </a:lnTo>
                <a:lnTo>
                  <a:pt x="1540" y="2"/>
                </a:lnTo>
                <a:lnTo>
                  <a:pt x="1557" y="2"/>
                </a:lnTo>
                <a:lnTo>
                  <a:pt x="1576" y="0"/>
                </a:lnTo>
                <a:lnTo>
                  <a:pt x="1593" y="0"/>
                </a:lnTo>
                <a:lnTo>
                  <a:pt x="1609" y="0"/>
                </a:lnTo>
                <a:lnTo>
                  <a:pt x="1624" y="0"/>
                </a:lnTo>
                <a:lnTo>
                  <a:pt x="1651" y="0"/>
                </a:lnTo>
                <a:lnTo>
                  <a:pt x="1678" y="2"/>
                </a:lnTo>
                <a:lnTo>
                  <a:pt x="1701" y="4"/>
                </a:lnTo>
                <a:lnTo>
                  <a:pt x="1724" y="6"/>
                </a:lnTo>
                <a:lnTo>
                  <a:pt x="1745" y="8"/>
                </a:lnTo>
                <a:lnTo>
                  <a:pt x="1766" y="12"/>
                </a:lnTo>
                <a:lnTo>
                  <a:pt x="1785" y="17"/>
                </a:lnTo>
                <a:lnTo>
                  <a:pt x="1803" y="21"/>
                </a:lnTo>
                <a:lnTo>
                  <a:pt x="1818" y="27"/>
                </a:lnTo>
                <a:lnTo>
                  <a:pt x="1833" y="33"/>
                </a:lnTo>
                <a:lnTo>
                  <a:pt x="1847" y="40"/>
                </a:lnTo>
                <a:lnTo>
                  <a:pt x="1860" y="48"/>
                </a:lnTo>
                <a:lnTo>
                  <a:pt x="1872" y="58"/>
                </a:lnTo>
                <a:lnTo>
                  <a:pt x="1881" y="65"/>
                </a:lnTo>
                <a:lnTo>
                  <a:pt x="1889" y="75"/>
                </a:lnTo>
                <a:lnTo>
                  <a:pt x="1897" y="86"/>
                </a:lnTo>
                <a:lnTo>
                  <a:pt x="1904" y="96"/>
                </a:lnTo>
                <a:lnTo>
                  <a:pt x="1910" y="108"/>
                </a:lnTo>
                <a:lnTo>
                  <a:pt x="1916" y="117"/>
                </a:lnTo>
                <a:lnTo>
                  <a:pt x="1920" y="127"/>
                </a:lnTo>
                <a:lnTo>
                  <a:pt x="1925" y="136"/>
                </a:lnTo>
                <a:lnTo>
                  <a:pt x="1929" y="144"/>
                </a:lnTo>
                <a:lnTo>
                  <a:pt x="1935" y="161"/>
                </a:lnTo>
                <a:lnTo>
                  <a:pt x="1941" y="177"/>
                </a:lnTo>
                <a:lnTo>
                  <a:pt x="1945" y="190"/>
                </a:lnTo>
                <a:lnTo>
                  <a:pt x="1947" y="203"/>
                </a:lnTo>
                <a:lnTo>
                  <a:pt x="1947" y="215"/>
                </a:lnTo>
                <a:lnTo>
                  <a:pt x="1947" y="219"/>
                </a:lnTo>
                <a:lnTo>
                  <a:pt x="1945" y="223"/>
                </a:lnTo>
                <a:lnTo>
                  <a:pt x="1945" y="227"/>
                </a:lnTo>
                <a:lnTo>
                  <a:pt x="1943" y="228"/>
                </a:lnTo>
                <a:lnTo>
                  <a:pt x="1939" y="232"/>
                </a:lnTo>
                <a:lnTo>
                  <a:pt x="1937" y="234"/>
                </a:lnTo>
                <a:lnTo>
                  <a:pt x="1933" y="236"/>
                </a:lnTo>
                <a:lnTo>
                  <a:pt x="1927" y="240"/>
                </a:lnTo>
                <a:lnTo>
                  <a:pt x="1924" y="242"/>
                </a:lnTo>
                <a:lnTo>
                  <a:pt x="1918" y="244"/>
                </a:lnTo>
                <a:lnTo>
                  <a:pt x="1912" y="244"/>
                </a:lnTo>
                <a:lnTo>
                  <a:pt x="1904" y="246"/>
                </a:lnTo>
                <a:lnTo>
                  <a:pt x="1897" y="248"/>
                </a:lnTo>
                <a:lnTo>
                  <a:pt x="1889" y="248"/>
                </a:lnTo>
                <a:lnTo>
                  <a:pt x="1881" y="248"/>
                </a:lnTo>
                <a:lnTo>
                  <a:pt x="1872" y="250"/>
                </a:lnTo>
                <a:lnTo>
                  <a:pt x="1862" y="250"/>
                </a:lnTo>
                <a:lnTo>
                  <a:pt x="1853" y="250"/>
                </a:lnTo>
                <a:lnTo>
                  <a:pt x="1841" y="250"/>
                </a:lnTo>
                <a:lnTo>
                  <a:pt x="1829" y="250"/>
                </a:lnTo>
                <a:lnTo>
                  <a:pt x="1818" y="248"/>
                </a:lnTo>
                <a:lnTo>
                  <a:pt x="1806" y="248"/>
                </a:lnTo>
                <a:lnTo>
                  <a:pt x="1793" y="246"/>
                </a:lnTo>
                <a:lnTo>
                  <a:pt x="1780" y="246"/>
                </a:lnTo>
                <a:lnTo>
                  <a:pt x="1764" y="244"/>
                </a:lnTo>
                <a:lnTo>
                  <a:pt x="1751" y="242"/>
                </a:lnTo>
                <a:lnTo>
                  <a:pt x="1735" y="240"/>
                </a:lnTo>
                <a:lnTo>
                  <a:pt x="1718" y="238"/>
                </a:lnTo>
                <a:lnTo>
                  <a:pt x="1703" y="236"/>
                </a:lnTo>
                <a:lnTo>
                  <a:pt x="1686" y="234"/>
                </a:lnTo>
                <a:lnTo>
                  <a:pt x="1668" y="232"/>
                </a:lnTo>
                <a:lnTo>
                  <a:pt x="1649" y="228"/>
                </a:lnTo>
                <a:lnTo>
                  <a:pt x="1613" y="225"/>
                </a:lnTo>
                <a:lnTo>
                  <a:pt x="1578" y="219"/>
                </a:lnTo>
                <a:lnTo>
                  <a:pt x="1544" y="215"/>
                </a:lnTo>
                <a:lnTo>
                  <a:pt x="1511" y="209"/>
                </a:lnTo>
                <a:lnTo>
                  <a:pt x="1482" y="205"/>
                </a:lnTo>
                <a:lnTo>
                  <a:pt x="1451" y="203"/>
                </a:lnTo>
                <a:lnTo>
                  <a:pt x="1424" y="200"/>
                </a:lnTo>
                <a:lnTo>
                  <a:pt x="1398" y="196"/>
                </a:lnTo>
                <a:lnTo>
                  <a:pt x="1373" y="194"/>
                </a:lnTo>
                <a:lnTo>
                  <a:pt x="1350" y="192"/>
                </a:lnTo>
                <a:lnTo>
                  <a:pt x="1329" y="190"/>
                </a:lnTo>
                <a:lnTo>
                  <a:pt x="1307" y="188"/>
                </a:lnTo>
                <a:lnTo>
                  <a:pt x="1288" y="188"/>
                </a:lnTo>
                <a:lnTo>
                  <a:pt x="1271" y="186"/>
                </a:lnTo>
                <a:lnTo>
                  <a:pt x="1254" y="186"/>
                </a:lnTo>
                <a:lnTo>
                  <a:pt x="1240" y="1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147"/>
          <p:cNvSpPr/>
          <p:nvPr/>
        </p:nvSpPr>
        <p:spPr>
          <a:xfrm>
            <a:off x="6665760" y="4059360"/>
            <a:ext cx="344520" cy="125280"/>
          </a:xfrm>
          <a:custGeom>
            <a:avLst/>
            <a:gdLst/>
            <a:ahLst/>
            <a:rect l="l" t="t" r="r" b="b"/>
            <a:pathLst>
              <a:path w="434" h="157">
                <a:moveTo>
                  <a:pt x="0" y="157"/>
                </a:moveTo>
                <a:lnTo>
                  <a:pt x="0" y="100"/>
                </a:lnTo>
                <a:lnTo>
                  <a:pt x="0" y="42"/>
                </a:lnTo>
                <a:lnTo>
                  <a:pt x="15" y="38"/>
                </a:lnTo>
                <a:lnTo>
                  <a:pt x="30" y="36"/>
                </a:lnTo>
                <a:lnTo>
                  <a:pt x="46" y="35"/>
                </a:lnTo>
                <a:lnTo>
                  <a:pt x="61" y="33"/>
                </a:lnTo>
                <a:lnTo>
                  <a:pt x="75" y="33"/>
                </a:lnTo>
                <a:lnTo>
                  <a:pt x="88" y="31"/>
                </a:lnTo>
                <a:lnTo>
                  <a:pt x="100" y="29"/>
                </a:lnTo>
                <a:lnTo>
                  <a:pt x="111" y="27"/>
                </a:lnTo>
                <a:lnTo>
                  <a:pt x="123" y="27"/>
                </a:lnTo>
                <a:lnTo>
                  <a:pt x="134" y="25"/>
                </a:lnTo>
                <a:lnTo>
                  <a:pt x="144" y="23"/>
                </a:lnTo>
                <a:lnTo>
                  <a:pt x="153" y="21"/>
                </a:lnTo>
                <a:lnTo>
                  <a:pt x="163" y="21"/>
                </a:lnTo>
                <a:lnTo>
                  <a:pt x="171" y="19"/>
                </a:lnTo>
                <a:lnTo>
                  <a:pt x="178" y="15"/>
                </a:lnTo>
                <a:lnTo>
                  <a:pt x="186" y="13"/>
                </a:lnTo>
                <a:lnTo>
                  <a:pt x="199" y="10"/>
                </a:lnTo>
                <a:lnTo>
                  <a:pt x="211" y="6"/>
                </a:lnTo>
                <a:lnTo>
                  <a:pt x="224" y="2"/>
                </a:lnTo>
                <a:lnTo>
                  <a:pt x="236" y="0"/>
                </a:lnTo>
                <a:lnTo>
                  <a:pt x="247" y="0"/>
                </a:lnTo>
                <a:lnTo>
                  <a:pt x="259" y="0"/>
                </a:lnTo>
                <a:lnTo>
                  <a:pt x="272" y="0"/>
                </a:lnTo>
                <a:lnTo>
                  <a:pt x="286" y="0"/>
                </a:lnTo>
                <a:lnTo>
                  <a:pt x="299" y="0"/>
                </a:lnTo>
                <a:lnTo>
                  <a:pt x="311" y="2"/>
                </a:lnTo>
                <a:lnTo>
                  <a:pt x="322" y="4"/>
                </a:lnTo>
                <a:lnTo>
                  <a:pt x="336" y="8"/>
                </a:lnTo>
                <a:lnTo>
                  <a:pt x="347" y="12"/>
                </a:lnTo>
                <a:lnTo>
                  <a:pt x="359" y="17"/>
                </a:lnTo>
                <a:lnTo>
                  <a:pt x="370" y="23"/>
                </a:lnTo>
                <a:lnTo>
                  <a:pt x="386" y="29"/>
                </a:lnTo>
                <a:lnTo>
                  <a:pt x="391" y="31"/>
                </a:lnTo>
                <a:lnTo>
                  <a:pt x="397" y="35"/>
                </a:lnTo>
                <a:lnTo>
                  <a:pt x="403" y="36"/>
                </a:lnTo>
                <a:lnTo>
                  <a:pt x="409" y="40"/>
                </a:lnTo>
                <a:lnTo>
                  <a:pt x="412" y="44"/>
                </a:lnTo>
                <a:lnTo>
                  <a:pt x="416" y="48"/>
                </a:lnTo>
                <a:lnTo>
                  <a:pt x="424" y="56"/>
                </a:lnTo>
                <a:lnTo>
                  <a:pt x="428" y="65"/>
                </a:lnTo>
                <a:lnTo>
                  <a:pt x="432" y="73"/>
                </a:lnTo>
                <a:lnTo>
                  <a:pt x="434" y="79"/>
                </a:lnTo>
                <a:lnTo>
                  <a:pt x="434" y="84"/>
                </a:lnTo>
                <a:lnTo>
                  <a:pt x="434" y="88"/>
                </a:lnTo>
                <a:lnTo>
                  <a:pt x="432" y="90"/>
                </a:lnTo>
                <a:lnTo>
                  <a:pt x="430" y="92"/>
                </a:lnTo>
                <a:lnTo>
                  <a:pt x="428" y="96"/>
                </a:lnTo>
                <a:lnTo>
                  <a:pt x="424" y="98"/>
                </a:lnTo>
                <a:lnTo>
                  <a:pt x="418" y="102"/>
                </a:lnTo>
                <a:lnTo>
                  <a:pt x="412" y="104"/>
                </a:lnTo>
                <a:lnTo>
                  <a:pt x="407" y="106"/>
                </a:lnTo>
                <a:lnTo>
                  <a:pt x="399" y="109"/>
                </a:lnTo>
                <a:lnTo>
                  <a:pt x="391" y="111"/>
                </a:lnTo>
                <a:lnTo>
                  <a:pt x="382" y="113"/>
                </a:lnTo>
                <a:lnTo>
                  <a:pt x="372" y="117"/>
                </a:lnTo>
                <a:lnTo>
                  <a:pt x="361" y="119"/>
                </a:lnTo>
                <a:lnTo>
                  <a:pt x="349" y="121"/>
                </a:lnTo>
                <a:lnTo>
                  <a:pt x="338" y="123"/>
                </a:lnTo>
                <a:lnTo>
                  <a:pt x="324" y="127"/>
                </a:lnTo>
                <a:lnTo>
                  <a:pt x="311" y="129"/>
                </a:lnTo>
                <a:lnTo>
                  <a:pt x="295" y="131"/>
                </a:lnTo>
                <a:lnTo>
                  <a:pt x="280" y="132"/>
                </a:lnTo>
                <a:lnTo>
                  <a:pt x="263" y="134"/>
                </a:lnTo>
                <a:lnTo>
                  <a:pt x="245" y="138"/>
                </a:lnTo>
                <a:lnTo>
                  <a:pt x="226" y="140"/>
                </a:lnTo>
                <a:lnTo>
                  <a:pt x="207" y="142"/>
                </a:lnTo>
                <a:lnTo>
                  <a:pt x="188" y="144"/>
                </a:lnTo>
                <a:lnTo>
                  <a:pt x="167" y="146"/>
                </a:lnTo>
                <a:lnTo>
                  <a:pt x="146" y="148"/>
                </a:lnTo>
                <a:lnTo>
                  <a:pt x="124" y="150"/>
                </a:lnTo>
                <a:lnTo>
                  <a:pt x="100" y="150"/>
                </a:lnTo>
                <a:lnTo>
                  <a:pt x="77" y="152"/>
                </a:lnTo>
                <a:lnTo>
                  <a:pt x="52" y="154"/>
                </a:lnTo>
                <a:lnTo>
                  <a:pt x="27" y="155"/>
                </a:lnTo>
                <a:lnTo>
                  <a:pt x="0" y="1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reeform 148"/>
          <p:cNvSpPr/>
          <p:nvPr/>
        </p:nvSpPr>
        <p:spPr>
          <a:xfrm>
            <a:off x="6665760" y="3695760"/>
            <a:ext cx="344520" cy="123840"/>
          </a:xfrm>
          <a:custGeom>
            <a:avLst/>
            <a:gdLst/>
            <a:ahLst/>
            <a:rect l="l" t="t" r="r" b="b"/>
            <a:pathLst>
              <a:path w="434" h="158">
                <a:moveTo>
                  <a:pt x="347" y="129"/>
                </a:moveTo>
                <a:lnTo>
                  <a:pt x="336" y="133"/>
                </a:lnTo>
                <a:lnTo>
                  <a:pt x="322" y="135"/>
                </a:lnTo>
                <a:lnTo>
                  <a:pt x="307" y="137"/>
                </a:lnTo>
                <a:lnTo>
                  <a:pt x="291" y="140"/>
                </a:lnTo>
                <a:lnTo>
                  <a:pt x="274" y="142"/>
                </a:lnTo>
                <a:lnTo>
                  <a:pt x="255" y="144"/>
                </a:lnTo>
                <a:lnTo>
                  <a:pt x="236" y="146"/>
                </a:lnTo>
                <a:lnTo>
                  <a:pt x="215" y="148"/>
                </a:lnTo>
                <a:lnTo>
                  <a:pt x="194" y="150"/>
                </a:lnTo>
                <a:lnTo>
                  <a:pt x="171" y="152"/>
                </a:lnTo>
                <a:lnTo>
                  <a:pt x="146" y="154"/>
                </a:lnTo>
                <a:lnTo>
                  <a:pt x="119" y="156"/>
                </a:lnTo>
                <a:lnTo>
                  <a:pt x="92" y="156"/>
                </a:lnTo>
                <a:lnTo>
                  <a:pt x="61" y="158"/>
                </a:lnTo>
                <a:lnTo>
                  <a:pt x="32" y="158"/>
                </a:lnTo>
                <a:lnTo>
                  <a:pt x="0" y="158"/>
                </a:lnTo>
                <a:lnTo>
                  <a:pt x="0" y="100"/>
                </a:lnTo>
                <a:lnTo>
                  <a:pt x="0" y="44"/>
                </a:lnTo>
                <a:lnTo>
                  <a:pt x="23" y="43"/>
                </a:lnTo>
                <a:lnTo>
                  <a:pt x="44" y="41"/>
                </a:lnTo>
                <a:lnTo>
                  <a:pt x="65" y="39"/>
                </a:lnTo>
                <a:lnTo>
                  <a:pt x="84" y="35"/>
                </a:lnTo>
                <a:lnTo>
                  <a:pt x="101" y="31"/>
                </a:lnTo>
                <a:lnTo>
                  <a:pt x="119" y="25"/>
                </a:lnTo>
                <a:lnTo>
                  <a:pt x="134" y="19"/>
                </a:lnTo>
                <a:lnTo>
                  <a:pt x="149" y="16"/>
                </a:lnTo>
                <a:lnTo>
                  <a:pt x="163" y="10"/>
                </a:lnTo>
                <a:lnTo>
                  <a:pt x="176" y="6"/>
                </a:lnTo>
                <a:lnTo>
                  <a:pt x="192" y="4"/>
                </a:lnTo>
                <a:lnTo>
                  <a:pt x="207" y="2"/>
                </a:lnTo>
                <a:lnTo>
                  <a:pt x="222" y="0"/>
                </a:lnTo>
                <a:lnTo>
                  <a:pt x="238" y="0"/>
                </a:lnTo>
                <a:lnTo>
                  <a:pt x="255" y="0"/>
                </a:lnTo>
                <a:lnTo>
                  <a:pt x="272" y="0"/>
                </a:lnTo>
                <a:lnTo>
                  <a:pt x="301" y="0"/>
                </a:lnTo>
                <a:lnTo>
                  <a:pt x="315" y="0"/>
                </a:lnTo>
                <a:lnTo>
                  <a:pt x="328" y="2"/>
                </a:lnTo>
                <a:lnTo>
                  <a:pt x="343" y="4"/>
                </a:lnTo>
                <a:lnTo>
                  <a:pt x="357" y="6"/>
                </a:lnTo>
                <a:lnTo>
                  <a:pt x="370" y="10"/>
                </a:lnTo>
                <a:lnTo>
                  <a:pt x="386" y="16"/>
                </a:lnTo>
                <a:lnTo>
                  <a:pt x="391" y="18"/>
                </a:lnTo>
                <a:lnTo>
                  <a:pt x="397" y="21"/>
                </a:lnTo>
                <a:lnTo>
                  <a:pt x="403" y="23"/>
                </a:lnTo>
                <a:lnTo>
                  <a:pt x="409" y="27"/>
                </a:lnTo>
                <a:lnTo>
                  <a:pt x="412" y="31"/>
                </a:lnTo>
                <a:lnTo>
                  <a:pt x="416" y="35"/>
                </a:lnTo>
                <a:lnTo>
                  <a:pt x="424" y="43"/>
                </a:lnTo>
                <a:lnTo>
                  <a:pt x="428" y="52"/>
                </a:lnTo>
                <a:lnTo>
                  <a:pt x="432" y="60"/>
                </a:lnTo>
                <a:lnTo>
                  <a:pt x="434" y="66"/>
                </a:lnTo>
                <a:lnTo>
                  <a:pt x="434" y="71"/>
                </a:lnTo>
                <a:lnTo>
                  <a:pt x="434" y="75"/>
                </a:lnTo>
                <a:lnTo>
                  <a:pt x="434" y="77"/>
                </a:lnTo>
                <a:lnTo>
                  <a:pt x="432" y="81"/>
                </a:lnTo>
                <a:lnTo>
                  <a:pt x="430" y="85"/>
                </a:lnTo>
                <a:lnTo>
                  <a:pt x="426" y="89"/>
                </a:lnTo>
                <a:lnTo>
                  <a:pt x="422" y="92"/>
                </a:lnTo>
                <a:lnTo>
                  <a:pt x="418" y="96"/>
                </a:lnTo>
                <a:lnTo>
                  <a:pt x="414" y="100"/>
                </a:lnTo>
                <a:lnTo>
                  <a:pt x="409" y="104"/>
                </a:lnTo>
                <a:lnTo>
                  <a:pt x="403" y="108"/>
                </a:lnTo>
                <a:lnTo>
                  <a:pt x="395" y="112"/>
                </a:lnTo>
                <a:lnTo>
                  <a:pt x="387" y="115"/>
                </a:lnTo>
                <a:lnTo>
                  <a:pt x="378" y="119"/>
                </a:lnTo>
                <a:lnTo>
                  <a:pt x="368" y="123"/>
                </a:lnTo>
                <a:lnTo>
                  <a:pt x="359" y="127"/>
                </a:lnTo>
                <a:lnTo>
                  <a:pt x="347" y="1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reeform 149"/>
          <p:cNvSpPr/>
          <p:nvPr/>
        </p:nvSpPr>
        <p:spPr>
          <a:xfrm>
            <a:off x="6551640" y="3381480"/>
            <a:ext cx="165240" cy="1164960"/>
          </a:xfrm>
          <a:custGeom>
            <a:avLst/>
            <a:gdLst/>
            <a:ahLst/>
            <a:rect l="l" t="t" r="r" b="b"/>
            <a:pathLst>
              <a:path w="207" h="1468">
                <a:moveTo>
                  <a:pt x="207" y="23"/>
                </a:moveTo>
                <a:lnTo>
                  <a:pt x="197" y="201"/>
                </a:lnTo>
                <a:lnTo>
                  <a:pt x="190" y="380"/>
                </a:lnTo>
                <a:lnTo>
                  <a:pt x="178" y="741"/>
                </a:lnTo>
                <a:lnTo>
                  <a:pt x="171" y="1104"/>
                </a:lnTo>
                <a:lnTo>
                  <a:pt x="169" y="1468"/>
                </a:lnTo>
                <a:lnTo>
                  <a:pt x="46" y="1468"/>
                </a:lnTo>
                <a:lnTo>
                  <a:pt x="46" y="1388"/>
                </a:lnTo>
                <a:lnTo>
                  <a:pt x="44" y="1309"/>
                </a:lnTo>
                <a:lnTo>
                  <a:pt x="44" y="1234"/>
                </a:lnTo>
                <a:lnTo>
                  <a:pt x="44" y="1161"/>
                </a:lnTo>
                <a:lnTo>
                  <a:pt x="44" y="1090"/>
                </a:lnTo>
                <a:lnTo>
                  <a:pt x="44" y="1021"/>
                </a:lnTo>
                <a:lnTo>
                  <a:pt x="44" y="956"/>
                </a:lnTo>
                <a:lnTo>
                  <a:pt x="42" y="892"/>
                </a:lnTo>
                <a:lnTo>
                  <a:pt x="42" y="831"/>
                </a:lnTo>
                <a:lnTo>
                  <a:pt x="42" y="771"/>
                </a:lnTo>
                <a:lnTo>
                  <a:pt x="40" y="716"/>
                </a:lnTo>
                <a:lnTo>
                  <a:pt x="40" y="662"/>
                </a:lnTo>
                <a:lnTo>
                  <a:pt x="40" y="610"/>
                </a:lnTo>
                <a:lnTo>
                  <a:pt x="38" y="562"/>
                </a:lnTo>
                <a:lnTo>
                  <a:pt x="38" y="514"/>
                </a:lnTo>
                <a:lnTo>
                  <a:pt x="36" y="470"/>
                </a:lnTo>
                <a:lnTo>
                  <a:pt x="36" y="430"/>
                </a:lnTo>
                <a:lnTo>
                  <a:pt x="34" y="390"/>
                </a:lnTo>
                <a:lnTo>
                  <a:pt x="34" y="353"/>
                </a:lnTo>
                <a:lnTo>
                  <a:pt x="32" y="319"/>
                </a:lnTo>
                <a:lnTo>
                  <a:pt x="32" y="286"/>
                </a:lnTo>
                <a:lnTo>
                  <a:pt x="30" y="257"/>
                </a:lnTo>
                <a:lnTo>
                  <a:pt x="30" y="230"/>
                </a:lnTo>
                <a:lnTo>
                  <a:pt x="29" y="205"/>
                </a:lnTo>
                <a:lnTo>
                  <a:pt x="29" y="182"/>
                </a:lnTo>
                <a:lnTo>
                  <a:pt x="27" y="163"/>
                </a:lnTo>
                <a:lnTo>
                  <a:pt x="25" y="146"/>
                </a:lnTo>
                <a:lnTo>
                  <a:pt x="25" y="130"/>
                </a:lnTo>
                <a:lnTo>
                  <a:pt x="23" y="119"/>
                </a:lnTo>
                <a:lnTo>
                  <a:pt x="23" y="107"/>
                </a:lnTo>
                <a:lnTo>
                  <a:pt x="21" y="100"/>
                </a:lnTo>
                <a:lnTo>
                  <a:pt x="21" y="96"/>
                </a:lnTo>
                <a:lnTo>
                  <a:pt x="15" y="86"/>
                </a:lnTo>
                <a:lnTo>
                  <a:pt x="11" y="81"/>
                </a:lnTo>
                <a:lnTo>
                  <a:pt x="9" y="73"/>
                </a:lnTo>
                <a:lnTo>
                  <a:pt x="6" y="65"/>
                </a:lnTo>
                <a:lnTo>
                  <a:pt x="4" y="59"/>
                </a:lnTo>
                <a:lnTo>
                  <a:pt x="2" y="54"/>
                </a:lnTo>
                <a:lnTo>
                  <a:pt x="0" y="42"/>
                </a:lnTo>
                <a:lnTo>
                  <a:pt x="0" y="33"/>
                </a:lnTo>
                <a:lnTo>
                  <a:pt x="2" y="23"/>
                </a:lnTo>
                <a:lnTo>
                  <a:pt x="4" y="15"/>
                </a:lnTo>
                <a:lnTo>
                  <a:pt x="7" y="10"/>
                </a:lnTo>
                <a:lnTo>
                  <a:pt x="11" y="8"/>
                </a:lnTo>
                <a:lnTo>
                  <a:pt x="15" y="4"/>
                </a:lnTo>
                <a:lnTo>
                  <a:pt x="19" y="4"/>
                </a:lnTo>
                <a:lnTo>
                  <a:pt x="27" y="2"/>
                </a:lnTo>
                <a:lnTo>
                  <a:pt x="34" y="0"/>
                </a:lnTo>
                <a:lnTo>
                  <a:pt x="44" y="0"/>
                </a:lnTo>
                <a:lnTo>
                  <a:pt x="54" y="0"/>
                </a:lnTo>
                <a:lnTo>
                  <a:pt x="65" y="0"/>
                </a:lnTo>
                <a:lnTo>
                  <a:pt x="78" y="2"/>
                </a:lnTo>
                <a:lnTo>
                  <a:pt x="92" y="2"/>
                </a:lnTo>
                <a:lnTo>
                  <a:pt x="107" y="4"/>
                </a:lnTo>
                <a:lnTo>
                  <a:pt x="125" y="8"/>
                </a:lnTo>
                <a:lnTo>
                  <a:pt x="144" y="10"/>
                </a:lnTo>
                <a:lnTo>
                  <a:pt x="163" y="13"/>
                </a:lnTo>
                <a:lnTo>
                  <a:pt x="184" y="19"/>
                </a:lnTo>
                <a:lnTo>
                  <a:pt x="207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50"/>
          <p:cNvSpPr/>
          <p:nvPr/>
        </p:nvSpPr>
        <p:spPr>
          <a:xfrm>
            <a:off x="6461280" y="2763720"/>
            <a:ext cx="1250640" cy="395280"/>
          </a:xfrm>
          <a:custGeom>
            <a:avLst/>
            <a:gdLst/>
            <a:ahLst/>
            <a:rect l="l" t="t" r="r" b="b"/>
            <a:pathLst>
              <a:path w="1575" h="497">
                <a:moveTo>
                  <a:pt x="445" y="301"/>
                </a:moveTo>
                <a:lnTo>
                  <a:pt x="385" y="311"/>
                </a:lnTo>
                <a:lnTo>
                  <a:pt x="326" y="320"/>
                </a:lnTo>
                <a:lnTo>
                  <a:pt x="268" y="328"/>
                </a:lnTo>
                <a:lnTo>
                  <a:pt x="213" y="334"/>
                </a:lnTo>
                <a:lnTo>
                  <a:pt x="157" y="341"/>
                </a:lnTo>
                <a:lnTo>
                  <a:pt x="103" y="347"/>
                </a:lnTo>
                <a:lnTo>
                  <a:pt x="50" y="351"/>
                </a:lnTo>
                <a:lnTo>
                  <a:pt x="0" y="357"/>
                </a:lnTo>
                <a:lnTo>
                  <a:pt x="0" y="301"/>
                </a:lnTo>
                <a:lnTo>
                  <a:pt x="0" y="243"/>
                </a:lnTo>
                <a:lnTo>
                  <a:pt x="63" y="232"/>
                </a:lnTo>
                <a:lnTo>
                  <a:pt x="126" y="220"/>
                </a:lnTo>
                <a:lnTo>
                  <a:pt x="190" y="211"/>
                </a:lnTo>
                <a:lnTo>
                  <a:pt x="251" y="199"/>
                </a:lnTo>
                <a:lnTo>
                  <a:pt x="312" y="190"/>
                </a:lnTo>
                <a:lnTo>
                  <a:pt x="374" y="178"/>
                </a:lnTo>
                <a:lnTo>
                  <a:pt x="495" y="157"/>
                </a:lnTo>
                <a:lnTo>
                  <a:pt x="554" y="145"/>
                </a:lnTo>
                <a:lnTo>
                  <a:pt x="614" y="136"/>
                </a:lnTo>
                <a:lnTo>
                  <a:pt x="671" y="124"/>
                </a:lnTo>
                <a:lnTo>
                  <a:pt x="727" y="115"/>
                </a:lnTo>
                <a:lnTo>
                  <a:pt x="783" y="103"/>
                </a:lnTo>
                <a:lnTo>
                  <a:pt x="836" y="94"/>
                </a:lnTo>
                <a:lnTo>
                  <a:pt x="890" y="82"/>
                </a:lnTo>
                <a:lnTo>
                  <a:pt x="942" y="71"/>
                </a:lnTo>
                <a:lnTo>
                  <a:pt x="965" y="69"/>
                </a:lnTo>
                <a:lnTo>
                  <a:pt x="990" y="65"/>
                </a:lnTo>
                <a:lnTo>
                  <a:pt x="1011" y="61"/>
                </a:lnTo>
                <a:lnTo>
                  <a:pt x="1032" y="59"/>
                </a:lnTo>
                <a:lnTo>
                  <a:pt x="1051" y="55"/>
                </a:lnTo>
                <a:lnTo>
                  <a:pt x="1069" y="51"/>
                </a:lnTo>
                <a:lnTo>
                  <a:pt x="1084" y="46"/>
                </a:lnTo>
                <a:lnTo>
                  <a:pt x="1099" y="42"/>
                </a:lnTo>
                <a:lnTo>
                  <a:pt x="1113" y="38"/>
                </a:lnTo>
                <a:lnTo>
                  <a:pt x="1124" y="34"/>
                </a:lnTo>
                <a:lnTo>
                  <a:pt x="1134" y="30"/>
                </a:lnTo>
                <a:lnTo>
                  <a:pt x="1144" y="26"/>
                </a:lnTo>
                <a:lnTo>
                  <a:pt x="1151" y="23"/>
                </a:lnTo>
                <a:lnTo>
                  <a:pt x="1157" y="21"/>
                </a:lnTo>
                <a:lnTo>
                  <a:pt x="1161" y="17"/>
                </a:lnTo>
                <a:lnTo>
                  <a:pt x="1165" y="15"/>
                </a:lnTo>
                <a:lnTo>
                  <a:pt x="1169" y="9"/>
                </a:lnTo>
                <a:lnTo>
                  <a:pt x="1176" y="5"/>
                </a:lnTo>
                <a:lnTo>
                  <a:pt x="1184" y="3"/>
                </a:lnTo>
                <a:lnTo>
                  <a:pt x="1192" y="1"/>
                </a:lnTo>
                <a:lnTo>
                  <a:pt x="1201" y="0"/>
                </a:lnTo>
                <a:lnTo>
                  <a:pt x="1213" y="0"/>
                </a:lnTo>
                <a:lnTo>
                  <a:pt x="1226" y="0"/>
                </a:lnTo>
                <a:lnTo>
                  <a:pt x="1240" y="0"/>
                </a:lnTo>
                <a:lnTo>
                  <a:pt x="1245" y="0"/>
                </a:lnTo>
                <a:lnTo>
                  <a:pt x="1253" y="1"/>
                </a:lnTo>
                <a:lnTo>
                  <a:pt x="1263" y="3"/>
                </a:lnTo>
                <a:lnTo>
                  <a:pt x="1272" y="7"/>
                </a:lnTo>
                <a:lnTo>
                  <a:pt x="1282" y="11"/>
                </a:lnTo>
                <a:lnTo>
                  <a:pt x="1291" y="17"/>
                </a:lnTo>
                <a:lnTo>
                  <a:pt x="1303" y="23"/>
                </a:lnTo>
                <a:lnTo>
                  <a:pt x="1314" y="30"/>
                </a:lnTo>
                <a:lnTo>
                  <a:pt x="1328" y="38"/>
                </a:lnTo>
                <a:lnTo>
                  <a:pt x="1341" y="46"/>
                </a:lnTo>
                <a:lnTo>
                  <a:pt x="1355" y="55"/>
                </a:lnTo>
                <a:lnTo>
                  <a:pt x="1370" y="67"/>
                </a:lnTo>
                <a:lnTo>
                  <a:pt x="1385" y="76"/>
                </a:lnTo>
                <a:lnTo>
                  <a:pt x="1401" y="88"/>
                </a:lnTo>
                <a:lnTo>
                  <a:pt x="1418" y="101"/>
                </a:lnTo>
                <a:lnTo>
                  <a:pt x="1437" y="115"/>
                </a:lnTo>
                <a:lnTo>
                  <a:pt x="1455" y="128"/>
                </a:lnTo>
                <a:lnTo>
                  <a:pt x="1472" y="142"/>
                </a:lnTo>
                <a:lnTo>
                  <a:pt x="1487" y="153"/>
                </a:lnTo>
                <a:lnTo>
                  <a:pt x="1503" y="165"/>
                </a:lnTo>
                <a:lnTo>
                  <a:pt x="1514" y="176"/>
                </a:lnTo>
                <a:lnTo>
                  <a:pt x="1527" y="188"/>
                </a:lnTo>
                <a:lnTo>
                  <a:pt x="1537" y="197"/>
                </a:lnTo>
                <a:lnTo>
                  <a:pt x="1547" y="207"/>
                </a:lnTo>
                <a:lnTo>
                  <a:pt x="1554" y="216"/>
                </a:lnTo>
                <a:lnTo>
                  <a:pt x="1562" y="224"/>
                </a:lnTo>
                <a:lnTo>
                  <a:pt x="1568" y="232"/>
                </a:lnTo>
                <a:lnTo>
                  <a:pt x="1572" y="239"/>
                </a:lnTo>
                <a:lnTo>
                  <a:pt x="1574" y="245"/>
                </a:lnTo>
                <a:lnTo>
                  <a:pt x="1575" y="249"/>
                </a:lnTo>
                <a:lnTo>
                  <a:pt x="1575" y="255"/>
                </a:lnTo>
                <a:lnTo>
                  <a:pt x="1574" y="257"/>
                </a:lnTo>
                <a:lnTo>
                  <a:pt x="1572" y="263"/>
                </a:lnTo>
                <a:lnTo>
                  <a:pt x="1568" y="268"/>
                </a:lnTo>
                <a:lnTo>
                  <a:pt x="1564" y="272"/>
                </a:lnTo>
                <a:lnTo>
                  <a:pt x="1560" y="276"/>
                </a:lnTo>
                <a:lnTo>
                  <a:pt x="1554" y="280"/>
                </a:lnTo>
                <a:lnTo>
                  <a:pt x="1550" y="284"/>
                </a:lnTo>
                <a:lnTo>
                  <a:pt x="1537" y="289"/>
                </a:lnTo>
                <a:lnTo>
                  <a:pt x="1524" y="293"/>
                </a:lnTo>
                <a:lnTo>
                  <a:pt x="1508" y="297"/>
                </a:lnTo>
                <a:lnTo>
                  <a:pt x="1493" y="299"/>
                </a:lnTo>
                <a:lnTo>
                  <a:pt x="1474" y="301"/>
                </a:lnTo>
                <a:lnTo>
                  <a:pt x="1462" y="301"/>
                </a:lnTo>
                <a:lnTo>
                  <a:pt x="1451" y="303"/>
                </a:lnTo>
                <a:lnTo>
                  <a:pt x="1437" y="305"/>
                </a:lnTo>
                <a:lnTo>
                  <a:pt x="1426" y="309"/>
                </a:lnTo>
                <a:lnTo>
                  <a:pt x="1412" y="312"/>
                </a:lnTo>
                <a:lnTo>
                  <a:pt x="1397" y="316"/>
                </a:lnTo>
                <a:lnTo>
                  <a:pt x="1384" y="324"/>
                </a:lnTo>
                <a:lnTo>
                  <a:pt x="1368" y="330"/>
                </a:lnTo>
                <a:lnTo>
                  <a:pt x="1353" y="337"/>
                </a:lnTo>
                <a:lnTo>
                  <a:pt x="1337" y="347"/>
                </a:lnTo>
                <a:lnTo>
                  <a:pt x="1320" y="357"/>
                </a:lnTo>
                <a:lnTo>
                  <a:pt x="1303" y="366"/>
                </a:lnTo>
                <a:lnTo>
                  <a:pt x="1286" y="378"/>
                </a:lnTo>
                <a:lnTo>
                  <a:pt x="1266" y="389"/>
                </a:lnTo>
                <a:lnTo>
                  <a:pt x="1247" y="401"/>
                </a:lnTo>
                <a:lnTo>
                  <a:pt x="1226" y="414"/>
                </a:lnTo>
                <a:lnTo>
                  <a:pt x="1205" y="428"/>
                </a:lnTo>
                <a:lnTo>
                  <a:pt x="1188" y="439"/>
                </a:lnTo>
                <a:lnTo>
                  <a:pt x="1169" y="451"/>
                </a:lnTo>
                <a:lnTo>
                  <a:pt x="1153" y="460"/>
                </a:lnTo>
                <a:lnTo>
                  <a:pt x="1136" y="470"/>
                </a:lnTo>
                <a:lnTo>
                  <a:pt x="1122" y="477"/>
                </a:lnTo>
                <a:lnTo>
                  <a:pt x="1109" y="483"/>
                </a:lnTo>
                <a:lnTo>
                  <a:pt x="1098" y="489"/>
                </a:lnTo>
                <a:lnTo>
                  <a:pt x="1088" y="493"/>
                </a:lnTo>
                <a:lnTo>
                  <a:pt x="1078" y="495"/>
                </a:lnTo>
                <a:lnTo>
                  <a:pt x="1071" y="497"/>
                </a:lnTo>
                <a:lnTo>
                  <a:pt x="1065" y="497"/>
                </a:lnTo>
                <a:lnTo>
                  <a:pt x="1059" y="497"/>
                </a:lnTo>
                <a:lnTo>
                  <a:pt x="1055" y="495"/>
                </a:lnTo>
                <a:lnTo>
                  <a:pt x="1053" y="491"/>
                </a:lnTo>
                <a:lnTo>
                  <a:pt x="1053" y="487"/>
                </a:lnTo>
                <a:lnTo>
                  <a:pt x="1053" y="483"/>
                </a:lnTo>
                <a:lnTo>
                  <a:pt x="1053" y="479"/>
                </a:lnTo>
                <a:lnTo>
                  <a:pt x="1055" y="474"/>
                </a:lnTo>
                <a:lnTo>
                  <a:pt x="1057" y="468"/>
                </a:lnTo>
                <a:lnTo>
                  <a:pt x="1059" y="460"/>
                </a:lnTo>
                <a:lnTo>
                  <a:pt x="1063" y="454"/>
                </a:lnTo>
                <a:lnTo>
                  <a:pt x="1067" y="445"/>
                </a:lnTo>
                <a:lnTo>
                  <a:pt x="1071" y="437"/>
                </a:lnTo>
                <a:lnTo>
                  <a:pt x="1076" y="426"/>
                </a:lnTo>
                <a:lnTo>
                  <a:pt x="1082" y="416"/>
                </a:lnTo>
                <a:lnTo>
                  <a:pt x="1088" y="405"/>
                </a:lnTo>
                <a:lnTo>
                  <a:pt x="1094" y="393"/>
                </a:lnTo>
                <a:lnTo>
                  <a:pt x="1101" y="382"/>
                </a:lnTo>
                <a:lnTo>
                  <a:pt x="1109" y="370"/>
                </a:lnTo>
                <a:lnTo>
                  <a:pt x="1119" y="357"/>
                </a:lnTo>
                <a:lnTo>
                  <a:pt x="1126" y="343"/>
                </a:lnTo>
                <a:lnTo>
                  <a:pt x="1140" y="316"/>
                </a:lnTo>
                <a:lnTo>
                  <a:pt x="1146" y="305"/>
                </a:lnTo>
                <a:lnTo>
                  <a:pt x="1151" y="293"/>
                </a:lnTo>
                <a:lnTo>
                  <a:pt x="1157" y="282"/>
                </a:lnTo>
                <a:lnTo>
                  <a:pt x="1163" y="270"/>
                </a:lnTo>
                <a:lnTo>
                  <a:pt x="1167" y="261"/>
                </a:lnTo>
                <a:lnTo>
                  <a:pt x="1170" y="251"/>
                </a:lnTo>
                <a:lnTo>
                  <a:pt x="1174" y="241"/>
                </a:lnTo>
                <a:lnTo>
                  <a:pt x="1176" y="234"/>
                </a:lnTo>
                <a:lnTo>
                  <a:pt x="1178" y="226"/>
                </a:lnTo>
                <a:lnTo>
                  <a:pt x="1180" y="218"/>
                </a:lnTo>
                <a:lnTo>
                  <a:pt x="1180" y="213"/>
                </a:lnTo>
                <a:lnTo>
                  <a:pt x="1180" y="207"/>
                </a:lnTo>
                <a:lnTo>
                  <a:pt x="1178" y="203"/>
                </a:lnTo>
                <a:lnTo>
                  <a:pt x="1176" y="201"/>
                </a:lnTo>
                <a:lnTo>
                  <a:pt x="1174" y="197"/>
                </a:lnTo>
                <a:lnTo>
                  <a:pt x="1170" y="195"/>
                </a:lnTo>
                <a:lnTo>
                  <a:pt x="1167" y="193"/>
                </a:lnTo>
                <a:lnTo>
                  <a:pt x="1163" y="192"/>
                </a:lnTo>
                <a:lnTo>
                  <a:pt x="1159" y="190"/>
                </a:lnTo>
                <a:lnTo>
                  <a:pt x="1153" y="190"/>
                </a:lnTo>
                <a:lnTo>
                  <a:pt x="1142" y="188"/>
                </a:lnTo>
                <a:lnTo>
                  <a:pt x="1126" y="186"/>
                </a:lnTo>
                <a:lnTo>
                  <a:pt x="1113" y="186"/>
                </a:lnTo>
                <a:lnTo>
                  <a:pt x="1096" y="186"/>
                </a:lnTo>
                <a:lnTo>
                  <a:pt x="1078" y="186"/>
                </a:lnTo>
                <a:lnTo>
                  <a:pt x="1053" y="192"/>
                </a:lnTo>
                <a:lnTo>
                  <a:pt x="1028" y="197"/>
                </a:lnTo>
                <a:lnTo>
                  <a:pt x="1002" y="201"/>
                </a:lnTo>
                <a:lnTo>
                  <a:pt x="973" y="207"/>
                </a:lnTo>
                <a:lnTo>
                  <a:pt x="944" y="213"/>
                </a:lnTo>
                <a:lnTo>
                  <a:pt x="929" y="215"/>
                </a:lnTo>
                <a:lnTo>
                  <a:pt x="911" y="218"/>
                </a:lnTo>
                <a:lnTo>
                  <a:pt x="896" y="220"/>
                </a:lnTo>
                <a:lnTo>
                  <a:pt x="879" y="222"/>
                </a:lnTo>
                <a:lnTo>
                  <a:pt x="860" y="226"/>
                </a:lnTo>
                <a:lnTo>
                  <a:pt x="842" y="228"/>
                </a:lnTo>
                <a:lnTo>
                  <a:pt x="823" y="232"/>
                </a:lnTo>
                <a:lnTo>
                  <a:pt x="802" y="234"/>
                </a:lnTo>
                <a:lnTo>
                  <a:pt x="783" y="238"/>
                </a:lnTo>
                <a:lnTo>
                  <a:pt x="760" y="241"/>
                </a:lnTo>
                <a:lnTo>
                  <a:pt x="739" y="245"/>
                </a:lnTo>
                <a:lnTo>
                  <a:pt x="716" y="249"/>
                </a:lnTo>
                <a:lnTo>
                  <a:pt x="691" y="255"/>
                </a:lnTo>
                <a:lnTo>
                  <a:pt x="666" y="259"/>
                </a:lnTo>
                <a:lnTo>
                  <a:pt x="641" y="263"/>
                </a:lnTo>
                <a:lnTo>
                  <a:pt x="616" y="268"/>
                </a:lnTo>
                <a:lnTo>
                  <a:pt x="589" y="274"/>
                </a:lnTo>
                <a:lnTo>
                  <a:pt x="560" y="278"/>
                </a:lnTo>
                <a:lnTo>
                  <a:pt x="533" y="284"/>
                </a:lnTo>
                <a:lnTo>
                  <a:pt x="504" y="289"/>
                </a:lnTo>
                <a:lnTo>
                  <a:pt x="476" y="295"/>
                </a:lnTo>
                <a:lnTo>
                  <a:pt x="445" y="3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151"/>
          <p:cNvSpPr/>
          <p:nvPr/>
        </p:nvSpPr>
        <p:spPr>
          <a:xfrm>
            <a:off x="6292800" y="2898720"/>
            <a:ext cx="214200" cy="523800"/>
          </a:xfrm>
          <a:custGeom>
            <a:avLst/>
            <a:gdLst/>
            <a:ahLst/>
            <a:rect l="l" t="t" r="r" b="b"/>
            <a:pathLst>
              <a:path w="269" h="661">
                <a:moveTo>
                  <a:pt x="260" y="319"/>
                </a:moveTo>
                <a:lnTo>
                  <a:pt x="256" y="346"/>
                </a:lnTo>
                <a:lnTo>
                  <a:pt x="248" y="375"/>
                </a:lnTo>
                <a:lnTo>
                  <a:pt x="240" y="404"/>
                </a:lnTo>
                <a:lnTo>
                  <a:pt x="233" y="432"/>
                </a:lnTo>
                <a:lnTo>
                  <a:pt x="221" y="461"/>
                </a:lnTo>
                <a:lnTo>
                  <a:pt x="212" y="492"/>
                </a:lnTo>
                <a:lnTo>
                  <a:pt x="198" y="519"/>
                </a:lnTo>
                <a:lnTo>
                  <a:pt x="187" y="547"/>
                </a:lnTo>
                <a:lnTo>
                  <a:pt x="179" y="561"/>
                </a:lnTo>
                <a:lnTo>
                  <a:pt x="171" y="572"/>
                </a:lnTo>
                <a:lnTo>
                  <a:pt x="166" y="584"/>
                </a:lnTo>
                <a:lnTo>
                  <a:pt x="158" y="595"/>
                </a:lnTo>
                <a:lnTo>
                  <a:pt x="152" y="605"/>
                </a:lnTo>
                <a:lnTo>
                  <a:pt x="146" y="615"/>
                </a:lnTo>
                <a:lnTo>
                  <a:pt x="139" y="622"/>
                </a:lnTo>
                <a:lnTo>
                  <a:pt x="133" y="630"/>
                </a:lnTo>
                <a:lnTo>
                  <a:pt x="127" y="638"/>
                </a:lnTo>
                <a:lnTo>
                  <a:pt x="121" y="643"/>
                </a:lnTo>
                <a:lnTo>
                  <a:pt x="118" y="649"/>
                </a:lnTo>
                <a:lnTo>
                  <a:pt x="112" y="653"/>
                </a:lnTo>
                <a:lnTo>
                  <a:pt x="108" y="657"/>
                </a:lnTo>
                <a:lnTo>
                  <a:pt x="104" y="659"/>
                </a:lnTo>
                <a:lnTo>
                  <a:pt x="102" y="661"/>
                </a:lnTo>
                <a:lnTo>
                  <a:pt x="98" y="661"/>
                </a:lnTo>
                <a:lnTo>
                  <a:pt x="96" y="661"/>
                </a:lnTo>
                <a:lnTo>
                  <a:pt x="95" y="661"/>
                </a:lnTo>
                <a:lnTo>
                  <a:pt x="91" y="659"/>
                </a:lnTo>
                <a:lnTo>
                  <a:pt x="87" y="655"/>
                </a:lnTo>
                <a:lnTo>
                  <a:pt x="83" y="653"/>
                </a:lnTo>
                <a:lnTo>
                  <a:pt x="81" y="649"/>
                </a:lnTo>
                <a:lnTo>
                  <a:pt x="77" y="645"/>
                </a:lnTo>
                <a:lnTo>
                  <a:pt x="71" y="640"/>
                </a:lnTo>
                <a:lnTo>
                  <a:pt x="68" y="634"/>
                </a:lnTo>
                <a:lnTo>
                  <a:pt x="64" y="628"/>
                </a:lnTo>
                <a:lnTo>
                  <a:pt x="60" y="620"/>
                </a:lnTo>
                <a:lnTo>
                  <a:pt x="56" y="613"/>
                </a:lnTo>
                <a:lnTo>
                  <a:pt x="50" y="605"/>
                </a:lnTo>
                <a:lnTo>
                  <a:pt x="47" y="595"/>
                </a:lnTo>
                <a:lnTo>
                  <a:pt x="41" y="586"/>
                </a:lnTo>
                <a:lnTo>
                  <a:pt x="37" y="576"/>
                </a:lnTo>
                <a:lnTo>
                  <a:pt x="29" y="555"/>
                </a:lnTo>
                <a:lnTo>
                  <a:pt x="22" y="536"/>
                </a:lnTo>
                <a:lnTo>
                  <a:pt x="14" y="519"/>
                </a:lnTo>
                <a:lnTo>
                  <a:pt x="12" y="509"/>
                </a:lnTo>
                <a:lnTo>
                  <a:pt x="10" y="501"/>
                </a:lnTo>
                <a:lnTo>
                  <a:pt x="6" y="496"/>
                </a:lnTo>
                <a:lnTo>
                  <a:pt x="4" y="488"/>
                </a:lnTo>
                <a:lnTo>
                  <a:pt x="4" y="482"/>
                </a:lnTo>
                <a:lnTo>
                  <a:pt x="2" y="476"/>
                </a:lnTo>
                <a:lnTo>
                  <a:pt x="0" y="473"/>
                </a:lnTo>
                <a:lnTo>
                  <a:pt x="0" y="467"/>
                </a:lnTo>
                <a:lnTo>
                  <a:pt x="0" y="465"/>
                </a:lnTo>
                <a:lnTo>
                  <a:pt x="0" y="461"/>
                </a:lnTo>
                <a:lnTo>
                  <a:pt x="0" y="457"/>
                </a:lnTo>
                <a:lnTo>
                  <a:pt x="0" y="455"/>
                </a:lnTo>
                <a:lnTo>
                  <a:pt x="0" y="450"/>
                </a:lnTo>
                <a:lnTo>
                  <a:pt x="2" y="446"/>
                </a:lnTo>
                <a:lnTo>
                  <a:pt x="4" y="440"/>
                </a:lnTo>
                <a:lnTo>
                  <a:pt x="6" y="434"/>
                </a:lnTo>
                <a:lnTo>
                  <a:pt x="10" y="423"/>
                </a:lnTo>
                <a:lnTo>
                  <a:pt x="18" y="407"/>
                </a:lnTo>
                <a:lnTo>
                  <a:pt x="22" y="400"/>
                </a:lnTo>
                <a:lnTo>
                  <a:pt x="25" y="392"/>
                </a:lnTo>
                <a:lnTo>
                  <a:pt x="31" y="384"/>
                </a:lnTo>
                <a:lnTo>
                  <a:pt x="37" y="377"/>
                </a:lnTo>
                <a:lnTo>
                  <a:pt x="43" y="369"/>
                </a:lnTo>
                <a:lnTo>
                  <a:pt x="50" y="361"/>
                </a:lnTo>
                <a:lnTo>
                  <a:pt x="56" y="352"/>
                </a:lnTo>
                <a:lnTo>
                  <a:pt x="62" y="342"/>
                </a:lnTo>
                <a:lnTo>
                  <a:pt x="70" y="333"/>
                </a:lnTo>
                <a:lnTo>
                  <a:pt x="75" y="321"/>
                </a:lnTo>
                <a:lnTo>
                  <a:pt x="81" y="309"/>
                </a:lnTo>
                <a:lnTo>
                  <a:pt x="87" y="296"/>
                </a:lnTo>
                <a:lnTo>
                  <a:pt x="93" y="283"/>
                </a:lnTo>
                <a:lnTo>
                  <a:pt x="98" y="267"/>
                </a:lnTo>
                <a:lnTo>
                  <a:pt x="102" y="252"/>
                </a:lnTo>
                <a:lnTo>
                  <a:pt x="108" y="237"/>
                </a:lnTo>
                <a:lnTo>
                  <a:pt x="114" y="221"/>
                </a:lnTo>
                <a:lnTo>
                  <a:pt x="118" y="204"/>
                </a:lnTo>
                <a:lnTo>
                  <a:pt x="123" y="187"/>
                </a:lnTo>
                <a:lnTo>
                  <a:pt x="127" y="169"/>
                </a:lnTo>
                <a:lnTo>
                  <a:pt x="137" y="133"/>
                </a:lnTo>
                <a:lnTo>
                  <a:pt x="141" y="114"/>
                </a:lnTo>
                <a:lnTo>
                  <a:pt x="146" y="96"/>
                </a:lnTo>
                <a:lnTo>
                  <a:pt x="150" y="81"/>
                </a:lnTo>
                <a:lnTo>
                  <a:pt x="154" y="68"/>
                </a:lnTo>
                <a:lnTo>
                  <a:pt x="160" y="54"/>
                </a:lnTo>
                <a:lnTo>
                  <a:pt x="164" y="43"/>
                </a:lnTo>
                <a:lnTo>
                  <a:pt x="169" y="33"/>
                </a:lnTo>
                <a:lnTo>
                  <a:pt x="173" y="25"/>
                </a:lnTo>
                <a:lnTo>
                  <a:pt x="177" y="18"/>
                </a:lnTo>
                <a:lnTo>
                  <a:pt x="183" y="12"/>
                </a:lnTo>
                <a:lnTo>
                  <a:pt x="187" y="6"/>
                </a:lnTo>
                <a:lnTo>
                  <a:pt x="192" y="2"/>
                </a:lnTo>
                <a:lnTo>
                  <a:pt x="196" y="0"/>
                </a:lnTo>
                <a:lnTo>
                  <a:pt x="202" y="0"/>
                </a:lnTo>
                <a:lnTo>
                  <a:pt x="206" y="0"/>
                </a:lnTo>
                <a:lnTo>
                  <a:pt x="212" y="4"/>
                </a:lnTo>
                <a:lnTo>
                  <a:pt x="214" y="6"/>
                </a:lnTo>
                <a:lnTo>
                  <a:pt x="215" y="10"/>
                </a:lnTo>
                <a:lnTo>
                  <a:pt x="219" y="14"/>
                </a:lnTo>
                <a:lnTo>
                  <a:pt x="221" y="20"/>
                </a:lnTo>
                <a:lnTo>
                  <a:pt x="225" y="24"/>
                </a:lnTo>
                <a:lnTo>
                  <a:pt x="229" y="29"/>
                </a:lnTo>
                <a:lnTo>
                  <a:pt x="235" y="43"/>
                </a:lnTo>
                <a:lnTo>
                  <a:pt x="242" y="56"/>
                </a:lnTo>
                <a:lnTo>
                  <a:pt x="248" y="71"/>
                </a:lnTo>
                <a:lnTo>
                  <a:pt x="256" y="87"/>
                </a:lnTo>
                <a:lnTo>
                  <a:pt x="260" y="104"/>
                </a:lnTo>
                <a:lnTo>
                  <a:pt x="263" y="125"/>
                </a:lnTo>
                <a:lnTo>
                  <a:pt x="267" y="148"/>
                </a:lnTo>
                <a:lnTo>
                  <a:pt x="269" y="173"/>
                </a:lnTo>
                <a:lnTo>
                  <a:pt x="269" y="200"/>
                </a:lnTo>
                <a:lnTo>
                  <a:pt x="269" y="227"/>
                </a:lnTo>
                <a:lnTo>
                  <a:pt x="267" y="256"/>
                </a:lnTo>
                <a:lnTo>
                  <a:pt x="263" y="286"/>
                </a:lnTo>
                <a:lnTo>
                  <a:pt x="260" y="3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reeform 152"/>
          <p:cNvSpPr/>
          <p:nvPr/>
        </p:nvSpPr>
        <p:spPr>
          <a:xfrm>
            <a:off x="5437080" y="3218040"/>
            <a:ext cx="895320" cy="1385640"/>
          </a:xfrm>
          <a:custGeom>
            <a:avLst/>
            <a:gdLst/>
            <a:ahLst/>
            <a:rect l="l" t="t" r="r" b="b"/>
            <a:pathLst>
              <a:path w="1128" h="1744">
                <a:moveTo>
                  <a:pt x="879" y="1287"/>
                </a:moveTo>
                <a:lnTo>
                  <a:pt x="850" y="1322"/>
                </a:lnTo>
                <a:lnTo>
                  <a:pt x="823" y="1355"/>
                </a:lnTo>
                <a:lnTo>
                  <a:pt x="796" y="1385"/>
                </a:lnTo>
                <a:lnTo>
                  <a:pt x="771" y="1414"/>
                </a:lnTo>
                <a:lnTo>
                  <a:pt x="748" y="1441"/>
                </a:lnTo>
                <a:lnTo>
                  <a:pt x="725" y="1468"/>
                </a:lnTo>
                <a:lnTo>
                  <a:pt x="706" y="1493"/>
                </a:lnTo>
                <a:lnTo>
                  <a:pt x="687" y="1514"/>
                </a:lnTo>
                <a:lnTo>
                  <a:pt x="670" y="1535"/>
                </a:lnTo>
                <a:lnTo>
                  <a:pt x="652" y="1556"/>
                </a:lnTo>
                <a:lnTo>
                  <a:pt x="639" y="1573"/>
                </a:lnTo>
                <a:lnTo>
                  <a:pt x="627" y="1591"/>
                </a:lnTo>
                <a:lnTo>
                  <a:pt x="616" y="1606"/>
                </a:lnTo>
                <a:lnTo>
                  <a:pt x="606" y="1619"/>
                </a:lnTo>
                <a:lnTo>
                  <a:pt x="601" y="1633"/>
                </a:lnTo>
                <a:lnTo>
                  <a:pt x="595" y="1644"/>
                </a:lnTo>
                <a:lnTo>
                  <a:pt x="589" y="1658"/>
                </a:lnTo>
                <a:lnTo>
                  <a:pt x="585" y="1669"/>
                </a:lnTo>
                <a:lnTo>
                  <a:pt x="581" y="1681"/>
                </a:lnTo>
                <a:lnTo>
                  <a:pt x="576" y="1690"/>
                </a:lnTo>
                <a:lnTo>
                  <a:pt x="572" y="1700"/>
                </a:lnTo>
                <a:lnTo>
                  <a:pt x="568" y="1708"/>
                </a:lnTo>
                <a:lnTo>
                  <a:pt x="562" y="1715"/>
                </a:lnTo>
                <a:lnTo>
                  <a:pt x="558" y="1721"/>
                </a:lnTo>
                <a:lnTo>
                  <a:pt x="554" y="1727"/>
                </a:lnTo>
                <a:lnTo>
                  <a:pt x="551" y="1733"/>
                </a:lnTo>
                <a:lnTo>
                  <a:pt x="547" y="1737"/>
                </a:lnTo>
                <a:lnTo>
                  <a:pt x="543" y="1738"/>
                </a:lnTo>
                <a:lnTo>
                  <a:pt x="541" y="1742"/>
                </a:lnTo>
                <a:lnTo>
                  <a:pt x="537" y="1744"/>
                </a:lnTo>
                <a:lnTo>
                  <a:pt x="535" y="1744"/>
                </a:lnTo>
                <a:lnTo>
                  <a:pt x="533" y="1744"/>
                </a:lnTo>
                <a:lnTo>
                  <a:pt x="528" y="1744"/>
                </a:lnTo>
                <a:lnTo>
                  <a:pt x="524" y="1742"/>
                </a:lnTo>
                <a:lnTo>
                  <a:pt x="518" y="1740"/>
                </a:lnTo>
                <a:lnTo>
                  <a:pt x="514" y="1737"/>
                </a:lnTo>
                <a:lnTo>
                  <a:pt x="510" y="1733"/>
                </a:lnTo>
                <a:lnTo>
                  <a:pt x="505" y="1727"/>
                </a:lnTo>
                <a:lnTo>
                  <a:pt x="501" y="1721"/>
                </a:lnTo>
                <a:lnTo>
                  <a:pt x="497" y="1714"/>
                </a:lnTo>
                <a:lnTo>
                  <a:pt x="493" y="1706"/>
                </a:lnTo>
                <a:lnTo>
                  <a:pt x="489" y="1698"/>
                </a:lnTo>
                <a:lnTo>
                  <a:pt x="485" y="1689"/>
                </a:lnTo>
                <a:lnTo>
                  <a:pt x="482" y="1679"/>
                </a:lnTo>
                <a:lnTo>
                  <a:pt x="478" y="1667"/>
                </a:lnTo>
                <a:lnTo>
                  <a:pt x="476" y="1656"/>
                </a:lnTo>
                <a:lnTo>
                  <a:pt x="472" y="1643"/>
                </a:lnTo>
                <a:lnTo>
                  <a:pt x="470" y="1631"/>
                </a:lnTo>
                <a:lnTo>
                  <a:pt x="462" y="1604"/>
                </a:lnTo>
                <a:lnTo>
                  <a:pt x="455" y="1579"/>
                </a:lnTo>
                <a:lnTo>
                  <a:pt x="447" y="1556"/>
                </a:lnTo>
                <a:lnTo>
                  <a:pt x="445" y="1547"/>
                </a:lnTo>
                <a:lnTo>
                  <a:pt x="443" y="1535"/>
                </a:lnTo>
                <a:lnTo>
                  <a:pt x="441" y="1525"/>
                </a:lnTo>
                <a:lnTo>
                  <a:pt x="439" y="1516"/>
                </a:lnTo>
                <a:lnTo>
                  <a:pt x="437" y="1508"/>
                </a:lnTo>
                <a:lnTo>
                  <a:pt x="435" y="1500"/>
                </a:lnTo>
                <a:lnTo>
                  <a:pt x="434" y="1493"/>
                </a:lnTo>
                <a:lnTo>
                  <a:pt x="434" y="1485"/>
                </a:lnTo>
                <a:lnTo>
                  <a:pt x="434" y="1479"/>
                </a:lnTo>
                <a:lnTo>
                  <a:pt x="434" y="1474"/>
                </a:lnTo>
                <a:lnTo>
                  <a:pt x="434" y="1468"/>
                </a:lnTo>
                <a:lnTo>
                  <a:pt x="435" y="1460"/>
                </a:lnTo>
                <a:lnTo>
                  <a:pt x="437" y="1451"/>
                </a:lnTo>
                <a:lnTo>
                  <a:pt x="443" y="1441"/>
                </a:lnTo>
                <a:lnTo>
                  <a:pt x="447" y="1429"/>
                </a:lnTo>
                <a:lnTo>
                  <a:pt x="455" y="1416"/>
                </a:lnTo>
                <a:lnTo>
                  <a:pt x="462" y="1403"/>
                </a:lnTo>
                <a:lnTo>
                  <a:pt x="470" y="1387"/>
                </a:lnTo>
                <a:lnTo>
                  <a:pt x="472" y="1383"/>
                </a:lnTo>
                <a:lnTo>
                  <a:pt x="472" y="1381"/>
                </a:lnTo>
                <a:lnTo>
                  <a:pt x="474" y="1376"/>
                </a:lnTo>
                <a:lnTo>
                  <a:pt x="476" y="1372"/>
                </a:lnTo>
                <a:lnTo>
                  <a:pt x="478" y="1366"/>
                </a:lnTo>
                <a:lnTo>
                  <a:pt x="478" y="1360"/>
                </a:lnTo>
                <a:lnTo>
                  <a:pt x="480" y="1355"/>
                </a:lnTo>
                <a:lnTo>
                  <a:pt x="482" y="1347"/>
                </a:lnTo>
                <a:lnTo>
                  <a:pt x="483" y="1339"/>
                </a:lnTo>
                <a:lnTo>
                  <a:pt x="485" y="1332"/>
                </a:lnTo>
                <a:lnTo>
                  <a:pt x="487" y="1322"/>
                </a:lnTo>
                <a:lnTo>
                  <a:pt x="489" y="1314"/>
                </a:lnTo>
                <a:lnTo>
                  <a:pt x="491" y="1303"/>
                </a:lnTo>
                <a:lnTo>
                  <a:pt x="493" y="1293"/>
                </a:lnTo>
                <a:lnTo>
                  <a:pt x="495" y="1282"/>
                </a:lnTo>
                <a:lnTo>
                  <a:pt x="497" y="1270"/>
                </a:lnTo>
                <a:lnTo>
                  <a:pt x="499" y="1259"/>
                </a:lnTo>
                <a:lnTo>
                  <a:pt x="501" y="1247"/>
                </a:lnTo>
                <a:lnTo>
                  <a:pt x="503" y="1234"/>
                </a:lnTo>
                <a:lnTo>
                  <a:pt x="505" y="1220"/>
                </a:lnTo>
                <a:lnTo>
                  <a:pt x="506" y="1205"/>
                </a:lnTo>
                <a:lnTo>
                  <a:pt x="510" y="1191"/>
                </a:lnTo>
                <a:lnTo>
                  <a:pt x="512" y="1176"/>
                </a:lnTo>
                <a:lnTo>
                  <a:pt x="514" y="1161"/>
                </a:lnTo>
                <a:lnTo>
                  <a:pt x="516" y="1143"/>
                </a:lnTo>
                <a:lnTo>
                  <a:pt x="518" y="1126"/>
                </a:lnTo>
                <a:lnTo>
                  <a:pt x="522" y="1109"/>
                </a:lnTo>
                <a:lnTo>
                  <a:pt x="524" y="1092"/>
                </a:lnTo>
                <a:lnTo>
                  <a:pt x="526" y="1074"/>
                </a:lnTo>
                <a:lnTo>
                  <a:pt x="528" y="1055"/>
                </a:lnTo>
                <a:lnTo>
                  <a:pt x="530" y="1036"/>
                </a:lnTo>
                <a:lnTo>
                  <a:pt x="533" y="1015"/>
                </a:lnTo>
                <a:lnTo>
                  <a:pt x="537" y="976"/>
                </a:lnTo>
                <a:lnTo>
                  <a:pt x="541" y="936"/>
                </a:lnTo>
                <a:lnTo>
                  <a:pt x="547" y="900"/>
                </a:lnTo>
                <a:lnTo>
                  <a:pt x="551" y="863"/>
                </a:lnTo>
                <a:lnTo>
                  <a:pt x="554" y="827"/>
                </a:lnTo>
                <a:lnTo>
                  <a:pt x="560" y="792"/>
                </a:lnTo>
                <a:lnTo>
                  <a:pt x="564" y="758"/>
                </a:lnTo>
                <a:lnTo>
                  <a:pt x="568" y="725"/>
                </a:lnTo>
                <a:lnTo>
                  <a:pt x="572" y="694"/>
                </a:lnTo>
                <a:lnTo>
                  <a:pt x="576" y="664"/>
                </a:lnTo>
                <a:lnTo>
                  <a:pt x="579" y="633"/>
                </a:lnTo>
                <a:lnTo>
                  <a:pt x="583" y="604"/>
                </a:lnTo>
                <a:lnTo>
                  <a:pt x="585" y="577"/>
                </a:lnTo>
                <a:lnTo>
                  <a:pt x="589" y="550"/>
                </a:lnTo>
                <a:lnTo>
                  <a:pt x="591" y="525"/>
                </a:lnTo>
                <a:lnTo>
                  <a:pt x="595" y="500"/>
                </a:lnTo>
                <a:lnTo>
                  <a:pt x="597" y="477"/>
                </a:lnTo>
                <a:lnTo>
                  <a:pt x="599" y="454"/>
                </a:lnTo>
                <a:lnTo>
                  <a:pt x="599" y="433"/>
                </a:lnTo>
                <a:lnTo>
                  <a:pt x="599" y="414"/>
                </a:lnTo>
                <a:lnTo>
                  <a:pt x="599" y="397"/>
                </a:lnTo>
                <a:lnTo>
                  <a:pt x="599" y="380"/>
                </a:lnTo>
                <a:lnTo>
                  <a:pt x="599" y="364"/>
                </a:lnTo>
                <a:lnTo>
                  <a:pt x="597" y="351"/>
                </a:lnTo>
                <a:lnTo>
                  <a:pt x="597" y="337"/>
                </a:lnTo>
                <a:lnTo>
                  <a:pt x="595" y="326"/>
                </a:lnTo>
                <a:lnTo>
                  <a:pt x="593" y="316"/>
                </a:lnTo>
                <a:lnTo>
                  <a:pt x="591" y="307"/>
                </a:lnTo>
                <a:lnTo>
                  <a:pt x="589" y="301"/>
                </a:lnTo>
                <a:lnTo>
                  <a:pt x="587" y="293"/>
                </a:lnTo>
                <a:lnTo>
                  <a:pt x="583" y="289"/>
                </a:lnTo>
                <a:lnTo>
                  <a:pt x="581" y="286"/>
                </a:lnTo>
                <a:lnTo>
                  <a:pt x="579" y="284"/>
                </a:lnTo>
                <a:lnTo>
                  <a:pt x="576" y="282"/>
                </a:lnTo>
                <a:lnTo>
                  <a:pt x="570" y="282"/>
                </a:lnTo>
                <a:lnTo>
                  <a:pt x="564" y="280"/>
                </a:lnTo>
                <a:lnTo>
                  <a:pt x="556" y="282"/>
                </a:lnTo>
                <a:lnTo>
                  <a:pt x="547" y="284"/>
                </a:lnTo>
                <a:lnTo>
                  <a:pt x="537" y="286"/>
                </a:lnTo>
                <a:lnTo>
                  <a:pt x="526" y="289"/>
                </a:lnTo>
                <a:lnTo>
                  <a:pt x="514" y="293"/>
                </a:lnTo>
                <a:lnTo>
                  <a:pt x="501" y="299"/>
                </a:lnTo>
                <a:lnTo>
                  <a:pt x="485" y="305"/>
                </a:lnTo>
                <a:lnTo>
                  <a:pt x="470" y="314"/>
                </a:lnTo>
                <a:lnTo>
                  <a:pt x="453" y="322"/>
                </a:lnTo>
                <a:lnTo>
                  <a:pt x="435" y="334"/>
                </a:lnTo>
                <a:lnTo>
                  <a:pt x="416" y="345"/>
                </a:lnTo>
                <a:lnTo>
                  <a:pt x="395" y="358"/>
                </a:lnTo>
                <a:lnTo>
                  <a:pt x="376" y="370"/>
                </a:lnTo>
                <a:lnTo>
                  <a:pt x="357" y="383"/>
                </a:lnTo>
                <a:lnTo>
                  <a:pt x="338" y="393"/>
                </a:lnTo>
                <a:lnTo>
                  <a:pt x="322" y="405"/>
                </a:lnTo>
                <a:lnTo>
                  <a:pt x="305" y="412"/>
                </a:lnTo>
                <a:lnTo>
                  <a:pt x="290" y="422"/>
                </a:lnTo>
                <a:lnTo>
                  <a:pt x="276" y="428"/>
                </a:lnTo>
                <a:lnTo>
                  <a:pt x="263" y="435"/>
                </a:lnTo>
                <a:lnTo>
                  <a:pt x="251" y="441"/>
                </a:lnTo>
                <a:lnTo>
                  <a:pt x="240" y="445"/>
                </a:lnTo>
                <a:lnTo>
                  <a:pt x="228" y="449"/>
                </a:lnTo>
                <a:lnTo>
                  <a:pt x="219" y="453"/>
                </a:lnTo>
                <a:lnTo>
                  <a:pt x="209" y="454"/>
                </a:lnTo>
                <a:lnTo>
                  <a:pt x="199" y="456"/>
                </a:lnTo>
                <a:lnTo>
                  <a:pt x="192" y="456"/>
                </a:lnTo>
                <a:lnTo>
                  <a:pt x="186" y="458"/>
                </a:lnTo>
                <a:lnTo>
                  <a:pt x="171" y="456"/>
                </a:lnTo>
                <a:lnTo>
                  <a:pt x="157" y="454"/>
                </a:lnTo>
                <a:lnTo>
                  <a:pt x="144" y="451"/>
                </a:lnTo>
                <a:lnTo>
                  <a:pt x="136" y="449"/>
                </a:lnTo>
                <a:lnTo>
                  <a:pt x="128" y="445"/>
                </a:lnTo>
                <a:lnTo>
                  <a:pt x="123" y="441"/>
                </a:lnTo>
                <a:lnTo>
                  <a:pt x="115" y="437"/>
                </a:lnTo>
                <a:lnTo>
                  <a:pt x="107" y="433"/>
                </a:lnTo>
                <a:lnTo>
                  <a:pt x="101" y="428"/>
                </a:lnTo>
                <a:lnTo>
                  <a:pt x="94" y="422"/>
                </a:lnTo>
                <a:lnTo>
                  <a:pt x="88" y="416"/>
                </a:lnTo>
                <a:lnTo>
                  <a:pt x="80" y="408"/>
                </a:lnTo>
                <a:lnTo>
                  <a:pt x="73" y="401"/>
                </a:lnTo>
                <a:lnTo>
                  <a:pt x="65" y="393"/>
                </a:lnTo>
                <a:lnTo>
                  <a:pt x="55" y="385"/>
                </a:lnTo>
                <a:lnTo>
                  <a:pt x="48" y="378"/>
                </a:lnTo>
                <a:lnTo>
                  <a:pt x="40" y="370"/>
                </a:lnTo>
                <a:lnTo>
                  <a:pt x="34" y="364"/>
                </a:lnTo>
                <a:lnTo>
                  <a:pt x="29" y="358"/>
                </a:lnTo>
                <a:lnTo>
                  <a:pt x="23" y="353"/>
                </a:lnTo>
                <a:lnTo>
                  <a:pt x="17" y="347"/>
                </a:lnTo>
                <a:lnTo>
                  <a:pt x="13" y="341"/>
                </a:lnTo>
                <a:lnTo>
                  <a:pt x="9" y="337"/>
                </a:lnTo>
                <a:lnTo>
                  <a:pt x="6" y="332"/>
                </a:lnTo>
                <a:lnTo>
                  <a:pt x="4" y="328"/>
                </a:lnTo>
                <a:lnTo>
                  <a:pt x="2" y="324"/>
                </a:lnTo>
                <a:lnTo>
                  <a:pt x="0" y="320"/>
                </a:lnTo>
                <a:lnTo>
                  <a:pt x="0" y="318"/>
                </a:lnTo>
                <a:lnTo>
                  <a:pt x="0" y="314"/>
                </a:lnTo>
                <a:lnTo>
                  <a:pt x="0" y="312"/>
                </a:lnTo>
                <a:lnTo>
                  <a:pt x="0" y="310"/>
                </a:lnTo>
                <a:lnTo>
                  <a:pt x="2" y="309"/>
                </a:lnTo>
                <a:lnTo>
                  <a:pt x="4" y="307"/>
                </a:lnTo>
                <a:lnTo>
                  <a:pt x="6" y="305"/>
                </a:lnTo>
                <a:lnTo>
                  <a:pt x="9" y="303"/>
                </a:lnTo>
                <a:lnTo>
                  <a:pt x="13" y="301"/>
                </a:lnTo>
                <a:lnTo>
                  <a:pt x="17" y="301"/>
                </a:lnTo>
                <a:lnTo>
                  <a:pt x="23" y="299"/>
                </a:lnTo>
                <a:lnTo>
                  <a:pt x="29" y="297"/>
                </a:lnTo>
                <a:lnTo>
                  <a:pt x="34" y="297"/>
                </a:lnTo>
                <a:lnTo>
                  <a:pt x="40" y="295"/>
                </a:lnTo>
                <a:lnTo>
                  <a:pt x="48" y="293"/>
                </a:lnTo>
                <a:lnTo>
                  <a:pt x="55" y="291"/>
                </a:lnTo>
                <a:lnTo>
                  <a:pt x="65" y="289"/>
                </a:lnTo>
                <a:lnTo>
                  <a:pt x="73" y="286"/>
                </a:lnTo>
                <a:lnTo>
                  <a:pt x="82" y="284"/>
                </a:lnTo>
                <a:lnTo>
                  <a:pt x="94" y="280"/>
                </a:lnTo>
                <a:lnTo>
                  <a:pt x="105" y="276"/>
                </a:lnTo>
                <a:lnTo>
                  <a:pt x="117" y="272"/>
                </a:lnTo>
                <a:lnTo>
                  <a:pt x="130" y="268"/>
                </a:lnTo>
                <a:lnTo>
                  <a:pt x="146" y="264"/>
                </a:lnTo>
                <a:lnTo>
                  <a:pt x="159" y="259"/>
                </a:lnTo>
                <a:lnTo>
                  <a:pt x="176" y="255"/>
                </a:lnTo>
                <a:lnTo>
                  <a:pt x="192" y="249"/>
                </a:lnTo>
                <a:lnTo>
                  <a:pt x="211" y="243"/>
                </a:lnTo>
                <a:lnTo>
                  <a:pt x="228" y="236"/>
                </a:lnTo>
                <a:lnTo>
                  <a:pt x="247" y="230"/>
                </a:lnTo>
                <a:lnTo>
                  <a:pt x="268" y="222"/>
                </a:lnTo>
                <a:lnTo>
                  <a:pt x="290" y="216"/>
                </a:lnTo>
                <a:lnTo>
                  <a:pt x="311" y="209"/>
                </a:lnTo>
                <a:lnTo>
                  <a:pt x="334" y="201"/>
                </a:lnTo>
                <a:lnTo>
                  <a:pt x="357" y="191"/>
                </a:lnTo>
                <a:lnTo>
                  <a:pt x="378" y="184"/>
                </a:lnTo>
                <a:lnTo>
                  <a:pt x="399" y="176"/>
                </a:lnTo>
                <a:lnTo>
                  <a:pt x="420" y="168"/>
                </a:lnTo>
                <a:lnTo>
                  <a:pt x="439" y="159"/>
                </a:lnTo>
                <a:lnTo>
                  <a:pt x="457" y="151"/>
                </a:lnTo>
                <a:lnTo>
                  <a:pt x="474" y="143"/>
                </a:lnTo>
                <a:lnTo>
                  <a:pt x="491" y="136"/>
                </a:lnTo>
                <a:lnTo>
                  <a:pt x="506" y="128"/>
                </a:lnTo>
                <a:lnTo>
                  <a:pt x="520" y="120"/>
                </a:lnTo>
                <a:lnTo>
                  <a:pt x="533" y="111"/>
                </a:lnTo>
                <a:lnTo>
                  <a:pt x="545" y="103"/>
                </a:lnTo>
                <a:lnTo>
                  <a:pt x="556" y="96"/>
                </a:lnTo>
                <a:lnTo>
                  <a:pt x="566" y="88"/>
                </a:lnTo>
                <a:lnTo>
                  <a:pt x="574" y="80"/>
                </a:lnTo>
                <a:lnTo>
                  <a:pt x="581" y="71"/>
                </a:lnTo>
                <a:lnTo>
                  <a:pt x="595" y="55"/>
                </a:lnTo>
                <a:lnTo>
                  <a:pt x="608" y="42"/>
                </a:lnTo>
                <a:lnTo>
                  <a:pt x="618" y="30"/>
                </a:lnTo>
                <a:lnTo>
                  <a:pt x="624" y="24"/>
                </a:lnTo>
                <a:lnTo>
                  <a:pt x="627" y="19"/>
                </a:lnTo>
                <a:lnTo>
                  <a:pt x="633" y="15"/>
                </a:lnTo>
                <a:lnTo>
                  <a:pt x="637" y="11"/>
                </a:lnTo>
                <a:lnTo>
                  <a:pt x="641" y="7"/>
                </a:lnTo>
                <a:lnTo>
                  <a:pt x="645" y="5"/>
                </a:lnTo>
                <a:lnTo>
                  <a:pt x="649" y="3"/>
                </a:lnTo>
                <a:lnTo>
                  <a:pt x="650" y="1"/>
                </a:lnTo>
                <a:lnTo>
                  <a:pt x="654" y="0"/>
                </a:lnTo>
                <a:lnTo>
                  <a:pt x="656" y="0"/>
                </a:lnTo>
                <a:lnTo>
                  <a:pt x="658" y="0"/>
                </a:lnTo>
                <a:lnTo>
                  <a:pt x="662" y="0"/>
                </a:lnTo>
                <a:lnTo>
                  <a:pt x="668" y="1"/>
                </a:lnTo>
                <a:lnTo>
                  <a:pt x="672" y="1"/>
                </a:lnTo>
                <a:lnTo>
                  <a:pt x="679" y="3"/>
                </a:lnTo>
                <a:lnTo>
                  <a:pt x="685" y="5"/>
                </a:lnTo>
                <a:lnTo>
                  <a:pt x="693" y="7"/>
                </a:lnTo>
                <a:lnTo>
                  <a:pt x="702" y="11"/>
                </a:lnTo>
                <a:lnTo>
                  <a:pt x="710" y="13"/>
                </a:lnTo>
                <a:lnTo>
                  <a:pt x="720" y="17"/>
                </a:lnTo>
                <a:lnTo>
                  <a:pt x="731" y="21"/>
                </a:lnTo>
                <a:lnTo>
                  <a:pt x="743" y="24"/>
                </a:lnTo>
                <a:lnTo>
                  <a:pt x="754" y="28"/>
                </a:lnTo>
                <a:lnTo>
                  <a:pt x="766" y="32"/>
                </a:lnTo>
                <a:lnTo>
                  <a:pt x="779" y="38"/>
                </a:lnTo>
                <a:lnTo>
                  <a:pt x="792" y="44"/>
                </a:lnTo>
                <a:lnTo>
                  <a:pt x="804" y="51"/>
                </a:lnTo>
                <a:lnTo>
                  <a:pt x="816" y="59"/>
                </a:lnTo>
                <a:lnTo>
                  <a:pt x="825" y="65"/>
                </a:lnTo>
                <a:lnTo>
                  <a:pt x="835" y="72"/>
                </a:lnTo>
                <a:lnTo>
                  <a:pt x="842" y="78"/>
                </a:lnTo>
                <a:lnTo>
                  <a:pt x="852" y="86"/>
                </a:lnTo>
                <a:lnTo>
                  <a:pt x="858" y="92"/>
                </a:lnTo>
                <a:lnTo>
                  <a:pt x="865" y="97"/>
                </a:lnTo>
                <a:lnTo>
                  <a:pt x="871" y="101"/>
                </a:lnTo>
                <a:lnTo>
                  <a:pt x="877" y="107"/>
                </a:lnTo>
                <a:lnTo>
                  <a:pt x="881" y="111"/>
                </a:lnTo>
                <a:lnTo>
                  <a:pt x="885" y="115"/>
                </a:lnTo>
                <a:lnTo>
                  <a:pt x="888" y="119"/>
                </a:lnTo>
                <a:lnTo>
                  <a:pt x="890" y="122"/>
                </a:lnTo>
                <a:lnTo>
                  <a:pt x="892" y="126"/>
                </a:lnTo>
                <a:lnTo>
                  <a:pt x="892" y="128"/>
                </a:lnTo>
                <a:lnTo>
                  <a:pt x="890" y="140"/>
                </a:lnTo>
                <a:lnTo>
                  <a:pt x="888" y="149"/>
                </a:lnTo>
                <a:lnTo>
                  <a:pt x="887" y="161"/>
                </a:lnTo>
                <a:lnTo>
                  <a:pt x="881" y="172"/>
                </a:lnTo>
                <a:lnTo>
                  <a:pt x="875" y="186"/>
                </a:lnTo>
                <a:lnTo>
                  <a:pt x="869" y="191"/>
                </a:lnTo>
                <a:lnTo>
                  <a:pt x="865" y="199"/>
                </a:lnTo>
                <a:lnTo>
                  <a:pt x="860" y="205"/>
                </a:lnTo>
                <a:lnTo>
                  <a:pt x="856" y="213"/>
                </a:lnTo>
                <a:lnTo>
                  <a:pt x="848" y="220"/>
                </a:lnTo>
                <a:lnTo>
                  <a:pt x="842" y="228"/>
                </a:lnTo>
                <a:lnTo>
                  <a:pt x="835" y="238"/>
                </a:lnTo>
                <a:lnTo>
                  <a:pt x="829" y="247"/>
                </a:lnTo>
                <a:lnTo>
                  <a:pt x="821" y="261"/>
                </a:lnTo>
                <a:lnTo>
                  <a:pt x="816" y="274"/>
                </a:lnTo>
                <a:lnTo>
                  <a:pt x="808" y="289"/>
                </a:lnTo>
                <a:lnTo>
                  <a:pt x="800" y="307"/>
                </a:lnTo>
                <a:lnTo>
                  <a:pt x="794" y="324"/>
                </a:lnTo>
                <a:lnTo>
                  <a:pt x="789" y="343"/>
                </a:lnTo>
                <a:lnTo>
                  <a:pt x="781" y="364"/>
                </a:lnTo>
                <a:lnTo>
                  <a:pt x="775" y="385"/>
                </a:lnTo>
                <a:lnTo>
                  <a:pt x="769" y="408"/>
                </a:lnTo>
                <a:lnTo>
                  <a:pt x="764" y="433"/>
                </a:lnTo>
                <a:lnTo>
                  <a:pt x="758" y="460"/>
                </a:lnTo>
                <a:lnTo>
                  <a:pt x="752" y="487"/>
                </a:lnTo>
                <a:lnTo>
                  <a:pt x="748" y="514"/>
                </a:lnTo>
                <a:lnTo>
                  <a:pt x="743" y="543"/>
                </a:lnTo>
                <a:lnTo>
                  <a:pt x="737" y="575"/>
                </a:lnTo>
                <a:lnTo>
                  <a:pt x="731" y="606"/>
                </a:lnTo>
                <a:lnTo>
                  <a:pt x="720" y="669"/>
                </a:lnTo>
                <a:lnTo>
                  <a:pt x="710" y="731"/>
                </a:lnTo>
                <a:lnTo>
                  <a:pt x="702" y="792"/>
                </a:lnTo>
                <a:lnTo>
                  <a:pt x="697" y="852"/>
                </a:lnTo>
                <a:lnTo>
                  <a:pt x="691" y="911"/>
                </a:lnTo>
                <a:lnTo>
                  <a:pt x="685" y="971"/>
                </a:lnTo>
                <a:lnTo>
                  <a:pt x="681" y="1030"/>
                </a:lnTo>
                <a:lnTo>
                  <a:pt x="679" y="1044"/>
                </a:lnTo>
                <a:lnTo>
                  <a:pt x="679" y="1057"/>
                </a:lnTo>
                <a:lnTo>
                  <a:pt x="677" y="1071"/>
                </a:lnTo>
                <a:lnTo>
                  <a:pt x="677" y="1084"/>
                </a:lnTo>
                <a:lnTo>
                  <a:pt x="675" y="1097"/>
                </a:lnTo>
                <a:lnTo>
                  <a:pt x="675" y="1109"/>
                </a:lnTo>
                <a:lnTo>
                  <a:pt x="673" y="1132"/>
                </a:lnTo>
                <a:lnTo>
                  <a:pt x="673" y="1153"/>
                </a:lnTo>
                <a:lnTo>
                  <a:pt x="672" y="1172"/>
                </a:lnTo>
                <a:lnTo>
                  <a:pt x="672" y="1190"/>
                </a:lnTo>
                <a:lnTo>
                  <a:pt x="672" y="1205"/>
                </a:lnTo>
                <a:lnTo>
                  <a:pt x="672" y="1218"/>
                </a:lnTo>
                <a:lnTo>
                  <a:pt x="672" y="1230"/>
                </a:lnTo>
                <a:lnTo>
                  <a:pt x="673" y="1241"/>
                </a:lnTo>
                <a:lnTo>
                  <a:pt x="673" y="1251"/>
                </a:lnTo>
                <a:lnTo>
                  <a:pt x="675" y="1259"/>
                </a:lnTo>
                <a:lnTo>
                  <a:pt x="677" y="1264"/>
                </a:lnTo>
                <a:lnTo>
                  <a:pt x="679" y="1270"/>
                </a:lnTo>
                <a:lnTo>
                  <a:pt x="681" y="1272"/>
                </a:lnTo>
                <a:lnTo>
                  <a:pt x="683" y="1276"/>
                </a:lnTo>
                <a:lnTo>
                  <a:pt x="685" y="1276"/>
                </a:lnTo>
                <a:lnTo>
                  <a:pt x="689" y="1278"/>
                </a:lnTo>
                <a:lnTo>
                  <a:pt x="691" y="1278"/>
                </a:lnTo>
                <a:lnTo>
                  <a:pt x="693" y="1278"/>
                </a:lnTo>
                <a:lnTo>
                  <a:pt x="697" y="1278"/>
                </a:lnTo>
                <a:lnTo>
                  <a:pt x="698" y="1276"/>
                </a:lnTo>
                <a:lnTo>
                  <a:pt x="700" y="1274"/>
                </a:lnTo>
                <a:lnTo>
                  <a:pt x="704" y="1272"/>
                </a:lnTo>
                <a:lnTo>
                  <a:pt x="708" y="1270"/>
                </a:lnTo>
                <a:lnTo>
                  <a:pt x="714" y="1262"/>
                </a:lnTo>
                <a:lnTo>
                  <a:pt x="721" y="1255"/>
                </a:lnTo>
                <a:lnTo>
                  <a:pt x="731" y="1245"/>
                </a:lnTo>
                <a:lnTo>
                  <a:pt x="735" y="1241"/>
                </a:lnTo>
                <a:lnTo>
                  <a:pt x="743" y="1236"/>
                </a:lnTo>
                <a:lnTo>
                  <a:pt x="750" y="1230"/>
                </a:lnTo>
                <a:lnTo>
                  <a:pt x="758" y="1224"/>
                </a:lnTo>
                <a:lnTo>
                  <a:pt x="768" y="1214"/>
                </a:lnTo>
                <a:lnTo>
                  <a:pt x="779" y="1205"/>
                </a:lnTo>
                <a:lnTo>
                  <a:pt x="792" y="1195"/>
                </a:lnTo>
                <a:lnTo>
                  <a:pt x="806" y="1184"/>
                </a:lnTo>
                <a:lnTo>
                  <a:pt x="819" y="1170"/>
                </a:lnTo>
                <a:lnTo>
                  <a:pt x="835" y="1157"/>
                </a:lnTo>
                <a:lnTo>
                  <a:pt x="852" y="1143"/>
                </a:lnTo>
                <a:lnTo>
                  <a:pt x="871" y="1128"/>
                </a:lnTo>
                <a:lnTo>
                  <a:pt x="890" y="1111"/>
                </a:lnTo>
                <a:lnTo>
                  <a:pt x="910" y="1095"/>
                </a:lnTo>
                <a:lnTo>
                  <a:pt x="931" y="1076"/>
                </a:lnTo>
                <a:lnTo>
                  <a:pt x="954" y="1059"/>
                </a:lnTo>
                <a:lnTo>
                  <a:pt x="975" y="1040"/>
                </a:lnTo>
                <a:lnTo>
                  <a:pt x="992" y="1024"/>
                </a:lnTo>
                <a:lnTo>
                  <a:pt x="1011" y="1009"/>
                </a:lnTo>
                <a:lnTo>
                  <a:pt x="1029" y="996"/>
                </a:lnTo>
                <a:lnTo>
                  <a:pt x="1044" y="984"/>
                </a:lnTo>
                <a:lnTo>
                  <a:pt x="1057" y="975"/>
                </a:lnTo>
                <a:lnTo>
                  <a:pt x="1071" y="967"/>
                </a:lnTo>
                <a:lnTo>
                  <a:pt x="1082" y="959"/>
                </a:lnTo>
                <a:lnTo>
                  <a:pt x="1092" y="953"/>
                </a:lnTo>
                <a:lnTo>
                  <a:pt x="1102" y="950"/>
                </a:lnTo>
                <a:lnTo>
                  <a:pt x="1109" y="948"/>
                </a:lnTo>
                <a:lnTo>
                  <a:pt x="1117" y="948"/>
                </a:lnTo>
                <a:lnTo>
                  <a:pt x="1121" y="948"/>
                </a:lnTo>
                <a:lnTo>
                  <a:pt x="1125" y="950"/>
                </a:lnTo>
                <a:lnTo>
                  <a:pt x="1126" y="953"/>
                </a:lnTo>
                <a:lnTo>
                  <a:pt x="1128" y="957"/>
                </a:lnTo>
                <a:lnTo>
                  <a:pt x="1126" y="961"/>
                </a:lnTo>
                <a:lnTo>
                  <a:pt x="1126" y="967"/>
                </a:lnTo>
                <a:lnTo>
                  <a:pt x="1125" y="971"/>
                </a:lnTo>
                <a:lnTo>
                  <a:pt x="1123" y="976"/>
                </a:lnTo>
                <a:lnTo>
                  <a:pt x="1121" y="982"/>
                </a:lnTo>
                <a:lnTo>
                  <a:pt x="1119" y="988"/>
                </a:lnTo>
                <a:lnTo>
                  <a:pt x="1115" y="994"/>
                </a:lnTo>
                <a:lnTo>
                  <a:pt x="1111" y="1001"/>
                </a:lnTo>
                <a:lnTo>
                  <a:pt x="1107" y="1007"/>
                </a:lnTo>
                <a:lnTo>
                  <a:pt x="1102" y="1015"/>
                </a:lnTo>
                <a:lnTo>
                  <a:pt x="1098" y="1023"/>
                </a:lnTo>
                <a:lnTo>
                  <a:pt x="1092" y="1032"/>
                </a:lnTo>
                <a:lnTo>
                  <a:pt x="1084" y="1040"/>
                </a:lnTo>
                <a:lnTo>
                  <a:pt x="1078" y="1049"/>
                </a:lnTo>
                <a:lnTo>
                  <a:pt x="1063" y="1069"/>
                </a:lnTo>
                <a:lnTo>
                  <a:pt x="1046" y="1090"/>
                </a:lnTo>
                <a:lnTo>
                  <a:pt x="1029" y="1111"/>
                </a:lnTo>
                <a:lnTo>
                  <a:pt x="1007" y="1136"/>
                </a:lnTo>
                <a:lnTo>
                  <a:pt x="984" y="1163"/>
                </a:lnTo>
                <a:lnTo>
                  <a:pt x="973" y="1176"/>
                </a:lnTo>
                <a:lnTo>
                  <a:pt x="961" y="1191"/>
                </a:lnTo>
                <a:lnTo>
                  <a:pt x="948" y="1205"/>
                </a:lnTo>
                <a:lnTo>
                  <a:pt x="936" y="1220"/>
                </a:lnTo>
                <a:lnTo>
                  <a:pt x="923" y="1236"/>
                </a:lnTo>
                <a:lnTo>
                  <a:pt x="908" y="1253"/>
                </a:lnTo>
                <a:lnTo>
                  <a:pt x="894" y="1270"/>
                </a:lnTo>
                <a:lnTo>
                  <a:pt x="879" y="12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reeform 153"/>
          <p:cNvSpPr/>
          <p:nvPr/>
        </p:nvSpPr>
        <p:spPr>
          <a:xfrm>
            <a:off x="6745320" y="2401920"/>
            <a:ext cx="330120" cy="352440"/>
          </a:xfrm>
          <a:custGeom>
            <a:avLst/>
            <a:gdLst/>
            <a:ahLst/>
            <a:rect l="l" t="t" r="r" b="b"/>
            <a:pathLst>
              <a:path w="414" h="443">
                <a:moveTo>
                  <a:pt x="322" y="443"/>
                </a:moveTo>
                <a:lnTo>
                  <a:pt x="318" y="441"/>
                </a:lnTo>
                <a:lnTo>
                  <a:pt x="314" y="439"/>
                </a:lnTo>
                <a:lnTo>
                  <a:pt x="310" y="435"/>
                </a:lnTo>
                <a:lnTo>
                  <a:pt x="305" y="432"/>
                </a:lnTo>
                <a:lnTo>
                  <a:pt x="299" y="426"/>
                </a:lnTo>
                <a:lnTo>
                  <a:pt x="291" y="418"/>
                </a:lnTo>
                <a:lnTo>
                  <a:pt x="282" y="409"/>
                </a:lnTo>
                <a:lnTo>
                  <a:pt x="272" y="397"/>
                </a:lnTo>
                <a:lnTo>
                  <a:pt x="262" y="386"/>
                </a:lnTo>
                <a:lnTo>
                  <a:pt x="251" y="372"/>
                </a:lnTo>
                <a:lnTo>
                  <a:pt x="239" y="357"/>
                </a:lnTo>
                <a:lnTo>
                  <a:pt x="224" y="339"/>
                </a:lnTo>
                <a:lnTo>
                  <a:pt x="211" y="322"/>
                </a:lnTo>
                <a:lnTo>
                  <a:pt x="195" y="301"/>
                </a:lnTo>
                <a:lnTo>
                  <a:pt x="178" y="280"/>
                </a:lnTo>
                <a:lnTo>
                  <a:pt x="161" y="257"/>
                </a:lnTo>
                <a:lnTo>
                  <a:pt x="140" y="232"/>
                </a:lnTo>
                <a:lnTo>
                  <a:pt x="122" y="211"/>
                </a:lnTo>
                <a:lnTo>
                  <a:pt x="105" y="190"/>
                </a:lnTo>
                <a:lnTo>
                  <a:pt x="88" y="171"/>
                </a:lnTo>
                <a:lnTo>
                  <a:pt x="74" y="151"/>
                </a:lnTo>
                <a:lnTo>
                  <a:pt x="61" y="134"/>
                </a:lnTo>
                <a:lnTo>
                  <a:pt x="49" y="119"/>
                </a:lnTo>
                <a:lnTo>
                  <a:pt x="38" y="103"/>
                </a:lnTo>
                <a:lnTo>
                  <a:pt x="28" y="90"/>
                </a:lnTo>
                <a:lnTo>
                  <a:pt x="21" y="78"/>
                </a:lnTo>
                <a:lnTo>
                  <a:pt x="15" y="67"/>
                </a:lnTo>
                <a:lnTo>
                  <a:pt x="9" y="57"/>
                </a:lnTo>
                <a:lnTo>
                  <a:pt x="5" y="48"/>
                </a:lnTo>
                <a:lnTo>
                  <a:pt x="1" y="40"/>
                </a:lnTo>
                <a:lnTo>
                  <a:pt x="0" y="34"/>
                </a:lnTo>
                <a:lnTo>
                  <a:pt x="0" y="29"/>
                </a:lnTo>
                <a:lnTo>
                  <a:pt x="0" y="25"/>
                </a:lnTo>
                <a:lnTo>
                  <a:pt x="0" y="23"/>
                </a:lnTo>
                <a:lnTo>
                  <a:pt x="1" y="19"/>
                </a:lnTo>
                <a:lnTo>
                  <a:pt x="3" y="17"/>
                </a:lnTo>
                <a:lnTo>
                  <a:pt x="7" y="15"/>
                </a:lnTo>
                <a:lnTo>
                  <a:pt x="11" y="11"/>
                </a:lnTo>
                <a:lnTo>
                  <a:pt x="15" y="9"/>
                </a:lnTo>
                <a:lnTo>
                  <a:pt x="19" y="7"/>
                </a:lnTo>
                <a:lnTo>
                  <a:pt x="24" y="6"/>
                </a:lnTo>
                <a:lnTo>
                  <a:pt x="32" y="4"/>
                </a:lnTo>
                <a:lnTo>
                  <a:pt x="38" y="2"/>
                </a:lnTo>
                <a:lnTo>
                  <a:pt x="46" y="2"/>
                </a:lnTo>
                <a:lnTo>
                  <a:pt x="55" y="0"/>
                </a:lnTo>
                <a:lnTo>
                  <a:pt x="65" y="0"/>
                </a:lnTo>
                <a:lnTo>
                  <a:pt x="74" y="0"/>
                </a:lnTo>
                <a:lnTo>
                  <a:pt x="86" y="0"/>
                </a:lnTo>
                <a:lnTo>
                  <a:pt x="109" y="0"/>
                </a:lnTo>
                <a:lnTo>
                  <a:pt x="132" y="2"/>
                </a:lnTo>
                <a:lnTo>
                  <a:pt x="155" y="6"/>
                </a:lnTo>
                <a:lnTo>
                  <a:pt x="167" y="7"/>
                </a:lnTo>
                <a:lnTo>
                  <a:pt x="180" y="11"/>
                </a:lnTo>
                <a:lnTo>
                  <a:pt x="191" y="15"/>
                </a:lnTo>
                <a:lnTo>
                  <a:pt x="203" y="19"/>
                </a:lnTo>
                <a:lnTo>
                  <a:pt x="215" y="23"/>
                </a:lnTo>
                <a:lnTo>
                  <a:pt x="226" y="29"/>
                </a:lnTo>
                <a:lnTo>
                  <a:pt x="238" y="34"/>
                </a:lnTo>
                <a:lnTo>
                  <a:pt x="249" y="42"/>
                </a:lnTo>
                <a:lnTo>
                  <a:pt x="261" y="48"/>
                </a:lnTo>
                <a:lnTo>
                  <a:pt x="272" y="57"/>
                </a:lnTo>
                <a:lnTo>
                  <a:pt x="284" y="65"/>
                </a:lnTo>
                <a:lnTo>
                  <a:pt x="293" y="73"/>
                </a:lnTo>
                <a:lnTo>
                  <a:pt x="305" y="80"/>
                </a:lnTo>
                <a:lnTo>
                  <a:pt x="314" y="88"/>
                </a:lnTo>
                <a:lnTo>
                  <a:pt x="324" y="98"/>
                </a:lnTo>
                <a:lnTo>
                  <a:pt x="332" y="105"/>
                </a:lnTo>
                <a:lnTo>
                  <a:pt x="347" y="123"/>
                </a:lnTo>
                <a:lnTo>
                  <a:pt x="362" y="140"/>
                </a:lnTo>
                <a:lnTo>
                  <a:pt x="376" y="159"/>
                </a:lnTo>
                <a:lnTo>
                  <a:pt x="385" y="178"/>
                </a:lnTo>
                <a:lnTo>
                  <a:pt x="397" y="199"/>
                </a:lnTo>
                <a:lnTo>
                  <a:pt x="401" y="213"/>
                </a:lnTo>
                <a:lnTo>
                  <a:pt x="405" y="226"/>
                </a:lnTo>
                <a:lnTo>
                  <a:pt x="406" y="238"/>
                </a:lnTo>
                <a:lnTo>
                  <a:pt x="410" y="251"/>
                </a:lnTo>
                <a:lnTo>
                  <a:pt x="412" y="263"/>
                </a:lnTo>
                <a:lnTo>
                  <a:pt x="412" y="274"/>
                </a:lnTo>
                <a:lnTo>
                  <a:pt x="414" y="286"/>
                </a:lnTo>
                <a:lnTo>
                  <a:pt x="414" y="295"/>
                </a:lnTo>
                <a:lnTo>
                  <a:pt x="414" y="307"/>
                </a:lnTo>
                <a:lnTo>
                  <a:pt x="412" y="316"/>
                </a:lnTo>
                <a:lnTo>
                  <a:pt x="412" y="326"/>
                </a:lnTo>
                <a:lnTo>
                  <a:pt x="410" y="336"/>
                </a:lnTo>
                <a:lnTo>
                  <a:pt x="406" y="345"/>
                </a:lnTo>
                <a:lnTo>
                  <a:pt x="405" y="355"/>
                </a:lnTo>
                <a:lnTo>
                  <a:pt x="401" y="363"/>
                </a:lnTo>
                <a:lnTo>
                  <a:pt x="397" y="370"/>
                </a:lnTo>
                <a:lnTo>
                  <a:pt x="383" y="386"/>
                </a:lnTo>
                <a:lnTo>
                  <a:pt x="370" y="401"/>
                </a:lnTo>
                <a:lnTo>
                  <a:pt x="360" y="412"/>
                </a:lnTo>
                <a:lnTo>
                  <a:pt x="355" y="418"/>
                </a:lnTo>
                <a:lnTo>
                  <a:pt x="349" y="422"/>
                </a:lnTo>
                <a:lnTo>
                  <a:pt x="345" y="428"/>
                </a:lnTo>
                <a:lnTo>
                  <a:pt x="341" y="432"/>
                </a:lnTo>
                <a:lnTo>
                  <a:pt x="337" y="434"/>
                </a:lnTo>
                <a:lnTo>
                  <a:pt x="334" y="437"/>
                </a:lnTo>
                <a:lnTo>
                  <a:pt x="330" y="439"/>
                </a:lnTo>
                <a:lnTo>
                  <a:pt x="328" y="441"/>
                </a:lnTo>
                <a:lnTo>
                  <a:pt x="324" y="441"/>
                </a:lnTo>
                <a:lnTo>
                  <a:pt x="322" y="4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154"/>
          <p:cNvSpPr/>
          <p:nvPr/>
        </p:nvSpPr>
        <p:spPr>
          <a:xfrm>
            <a:off x="5821200" y="2583000"/>
            <a:ext cx="381240" cy="306360"/>
          </a:xfrm>
          <a:custGeom>
            <a:avLst/>
            <a:gdLst/>
            <a:ahLst/>
            <a:rect l="l" t="t" r="r" b="b"/>
            <a:pathLst>
              <a:path w="480" h="386">
                <a:moveTo>
                  <a:pt x="0" y="29"/>
                </a:moveTo>
                <a:lnTo>
                  <a:pt x="2" y="25"/>
                </a:lnTo>
                <a:lnTo>
                  <a:pt x="6" y="23"/>
                </a:lnTo>
                <a:lnTo>
                  <a:pt x="10" y="21"/>
                </a:lnTo>
                <a:lnTo>
                  <a:pt x="16" y="17"/>
                </a:lnTo>
                <a:lnTo>
                  <a:pt x="22" y="16"/>
                </a:lnTo>
                <a:lnTo>
                  <a:pt x="29" y="14"/>
                </a:lnTo>
                <a:lnTo>
                  <a:pt x="37" y="12"/>
                </a:lnTo>
                <a:lnTo>
                  <a:pt x="47" y="8"/>
                </a:lnTo>
                <a:lnTo>
                  <a:pt x="56" y="6"/>
                </a:lnTo>
                <a:lnTo>
                  <a:pt x="66" y="6"/>
                </a:lnTo>
                <a:lnTo>
                  <a:pt x="77" y="4"/>
                </a:lnTo>
                <a:lnTo>
                  <a:pt x="91" y="2"/>
                </a:lnTo>
                <a:lnTo>
                  <a:pt x="104" y="2"/>
                </a:lnTo>
                <a:lnTo>
                  <a:pt x="118" y="0"/>
                </a:lnTo>
                <a:lnTo>
                  <a:pt x="133" y="0"/>
                </a:lnTo>
                <a:lnTo>
                  <a:pt x="148" y="0"/>
                </a:lnTo>
                <a:lnTo>
                  <a:pt x="164" y="0"/>
                </a:lnTo>
                <a:lnTo>
                  <a:pt x="179" y="0"/>
                </a:lnTo>
                <a:lnTo>
                  <a:pt x="194" y="2"/>
                </a:lnTo>
                <a:lnTo>
                  <a:pt x="210" y="2"/>
                </a:lnTo>
                <a:lnTo>
                  <a:pt x="237" y="6"/>
                </a:lnTo>
                <a:lnTo>
                  <a:pt x="250" y="10"/>
                </a:lnTo>
                <a:lnTo>
                  <a:pt x="263" y="12"/>
                </a:lnTo>
                <a:lnTo>
                  <a:pt x="277" y="16"/>
                </a:lnTo>
                <a:lnTo>
                  <a:pt x="288" y="19"/>
                </a:lnTo>
                <a:lnTo>
                  <a:pt x="300" y="25"/>
                </a:lnTo>
                <a:lnTo>
                  <a:pt x="313" y="29"/>
                </a:lnTo>
                <a:lnTo>
                  <a:pt x="325" y="37"/>
                </a:lnTo>
                <a:lnTo>
                  <a:pt x="336" y="42"/>
                </a:lnTo>
                <a:lnTo>
                  <a:pt x="348" y="50"/>
                </a:lnTo>
                <a:lnTo>
                  <a:pt x="359" y="58"/>
                </a:lnTo>
                <a:lnTo>
                  <a:pt x="371" y="65"/>
                </a:lnTo>
                <a:lnTo>
                  <a:pt x="380" y="73"/>
                </a:lnTo>
                <a:lnTo>
                  <a:pt x="392" y="81"/>
                </a:lnTo>
                <a:lnTo>
                  <a:pt x="402" y="90"/>
                </a:lnTo>
                <a:lnTo>
                  <a:pt x="409" y="98"/>
                </a:lnTo>
                <a:lnTo>
                  <a:pt x="419" y="106"/>
                </a:lnTo>
                <a:lnTo>
                  <a:pt x="427" y="113"/>
                </a:lnTo>
                <a:lnTo>
                  <a:pt x="434" y="121"/>
                </a:lnTo>
                <a:lnTo>
                  <a:pt x="440" y="129"/>
                </a:lnTo>
                <a:lnTo>
                  <a:pt x="446" y="138"/>
                </a:lnTo>
                <a:lnTo>
                  <a:pt x="452" y="146"/>
                </a:lnTo>
                <a:lnTo>
                  <a:pt x="457" y="154"/>
                </a:lnTo>
                <a:lnTo>
                  <a:pt x="461" y="161"/>
                </a:lnTo>
                <a:lnTo>
                  <a:pt x="465" y="169"/>
                </a:lnTo>
                <a:lnTo>
                  <a:pt x="469" y="179"/>
                </a:lnTo>
                <a:lnTo>
                  <a:pt x="471" y="186"/>
                </a:lnTo>
                <a:lnTo>
                  <a:pt x="475" y="207"/>
                </a:lnTo>
                <a:lnTo>
                  <a:pt x="478" y="227"/>
                </a:lnTo>
                <a:lnTo>
                  <a:pt x="478" y="244"/>
                </a:lnTo>
                <a:lnTo>
                  <a:pt x="480" y="263"/>
                </a:lnTo>
                <a:lnTo>
                  <a:pt x="478" y="280"/>
                </a:lnTo>
                <a:lnTo>
                  <a:pt x="478" y="296"/>
                </a:lnTo>
                <a:lnTo>
                  <a:pt x="475" y="313"/>
                </a:lnTo>
                <a:lnTo>
                  <a:pt x="471" y="328"/>
                </a:lnTo>
                <a:lnTo>
                  <a:pt x="469" y="336"/>
                </a:lnTo>
                <a:lnTo>
                  <a:pt x="465" y="344"/>
                </a:lnTo>
                <a:lnTo>
                  <a:pt x="463" y="349"/>
                </a:lnTo>
                <a:lnTo>
                  <a:pt x="459" y="355"/>
                </a:lnTo>
                <a:lnTo>
                  <a:pt x="455" y="361"/>
                </a:lnTo>
                <a:lnTo>
                  <a:pt x="452" y="365"/>
                </a:lnTo>
                <a:lnTo>
                  <a:pt x="450" y="371"/>
                </a:lnTo>
                <a:lnTo>
                  <a:pt x="444" y="373"/>
                </a:lnTo>
                <a:lnTo>
                  <a:pt x="440" y="376"/>
                </a:lnTo>
                <a:lnTo>
                  <a:pt x="436" y="378"/>
                </a:lnTo>
                <a:lnTo>
                  <a:pt x="427" y="384"/>
                </a:lnTo>
                <a:lnTo>
                  <a:pt x="419" y="386"/>
                </a:lnTo>
                <a:lnTo>
                  <a:pt x="409" y="386"/>
                </a:lnTo>
                <a:lnTo>
                  <a:pt x="404" y="386"/>
                </a:lnTo>
                <a:lnTo>
                  <a:pt x="398" y="384"/>
                </a:lnTo>
                <a:lnTo>
                  <a:pt x="392" y="382"/>
                </a:lnTo>
                <a:lnTo>
                  <a:pt x="384" y="380"/>
                </a:lnTo>
                <a:lnTo>
                  <a:pt x="379" y="378"/>
                </a:lnTo>
                <a:lnTo>
                  <a:pt x="369" y="373"/>
                </a:lnTo>
                <a:lnTo>
                  <a:pt x="361" y="369"/>
                </a:lnTo>
                <a:lnTo>
                  <a:pt x="352" y="363"/>
                </a:lnTo>
                <a:lnTo>
                  <a:pt x="340" y="357"/>
                </a:lnTo>
                <a:lnTo>
                  <a:pt x="331" y="349"/>
                </a:lnTo>
                <a:lnTo>
                  <a:pt x="317" y="342"/>
                </a:lnTo>
                <a:lnTo>
                  <a:pt x="306" y="332"/>
                </a:lnTo>
                <a:lnTo>
                  <a:pt x="292" y="323"/>
                </a:lnTo>
                <a:lnTo>
                  <a:pt x="279" y="311"/>
                </a:lnTo>
                <a:lnTo>
                  <a:pt x="263" y="300"/>
                </a:lnTo>
                <a:lnTo>
                  <a:pt x="248" y="286"/>
                </a:lnTo>
                <a:lnTo>
                  <a:pt x="233" y="273"/>
                </a:lnTo>
                <a:lnTo>
                  <a:pt x="217" y="259"/>
                </a:lnTo>
                <a:lnTo>
                  <a:pt x="202" y="248"/>
                </a:lnTo>
                <a:lnTo>
                  <a:pt x="187" y="234"/>
                </a:lnTo>
                <a:lnTo>
                  <a:pt x="173" y="223"/>
                </a:lnTo>
                <a:lnTo>
                  <a:pt x="160" y="211"/>
                </a:lnTo>
                <a:lnTo>
                  <a:pt x="148" y="200"/>
                </a:lnTo>
                <a:lnTo>
                  <a:pt x="137" y="190"/>
                </a:lnTo>
                <a:lnTo>
                  <a:pt x="125" y="179"/>
                </a:lnTo>
                <a:lnTo>
                  <a:pt x="114" y="169"/>
                </a:lnTo>
                <a:lnTo>
                  <a:pt x="104" y="159"/>
                </a:lnTo>
                <a:lnTo>
                  <a:pt x="95" y="150"/>
                </a:lnTo>
                <a:lnTo>
                  <a:pt x="85" y="140"/>
                </a:lnTo>
                <a:lnTo>
                  <a:pt x="77" y="131"/>
                </a:lnTo>
                <a:lnTo>
                  <a:pt x="70" y="123"/>
                </a:lnTo>
                <a:lnTo>
                  <a:pt x="62" y="115"/>
                </a:lnTo>
                <a:lnTo>
                  <a:pt x="48" y="98"/>
                </a:lnTo>
                <a:lnTo>
                  <a:pt x="37" y="85"/>
                </a:lnTo>
                <a:lnTo>
                  <a:pt x="25" y="71"/>
                </a:lnTo>
                <a:lnTo>
                  <a:pt x="18" y="62"/>
                </a:lnTo>
                <a:lnTo>
                  <a:pt x="10" y="50"/>
                </a:lnTo>
                <a:lnTo>
                  <a:pt x="6" y="46"/>
                </a:lnTo>
                <a:lnTo>
                  <a:pt x="4" y="42"/>
                </a:lnTo>
                <a:lnTo>
                  <a:pt x="2" y="39"/>
                </a:lnTo>
                <a:lnTo>
                  <a:pt x="0" y="35"/>
                </a:lnTo>
                <a:lnTo>
                  <a:pt x="0" y="31"/>
                </a:lnTo>
                <a:lnTo>
                  <a:pt x="0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4"/>
          <p:cNvSpPr/>
          <p:nvPr/>
        </p:nvSpPr>
        <p:spPr>
          <a:xfrm>
            <a:off x="2218680" y="2154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114880" y="198900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6" name="组合 8"/>
          <p:cNvGrpSpPr/>
          <p:nvPr/>
        </p:nvGrpSpPr>
        <p:grpSpPr>
          <a:xfrm>
            <a:off x="1400040" y="3581280"/>
            <a:ext cx="2840040" cy="1620000"/>
            <a:chOff x="1400040" y="3581280"/>
            <a:chExt cx="2840040" cy="1620000"/>
          </a:xfrm>
        </p:grpSpPr>
        <p:pic>
          <p:nvPicPr>
            <p:cNvPr id="27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58128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矩形 2"/>
            <p:cNvSpPr/>
            <p:nvPr/>
          </p:nvSpPr>
          <p:spPr>
            <a:xfrm>
              <a:off x="1444680" y="419292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疒”包住内部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9" name="矩形 3"/>
          <p:cNvSpPr/>
          <p:nvPr/>
        </p:nvSpPr>
        <p:spPr>
          <a:xfrm>
            <a:off x="1954080" y="1474920"/>
            <a:ext cx="119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205"/>
          <p:cNvSpPr/>
          <p:nvPr/>
        </p:nvSpPr>
        <p:spPr>
          <a:xfrm>
            <a:off x="6888240" y="4091040"/>
            <a:ext cx="352440" cy="230040"/>
          </a:xfrm>
          <a:custGeom>
            <a:avLst/>
            <a:gdLst/>
            <a:ahLst/>
            <a:rect l="l" t="t" r="r" b="b"/>
            <a:pathLst>
              <a:path w="443" h="292">
                <a:moveTo>
                  <a:pt x="441" y="232"/>
                </a:moveTo>
                <a:lnTo>
                  <a:pt x="439" y="244"/>
                </a:lnTo>
                <a:lnTo>
                  <a:pt x="437" y="255"/>
                </a:lnTo>
                <a:lnTo>
                  <a:pt x="436" y="267"/>
                </a:lnTo>
                <a:lnTo>
                  <a:pt x="432" y="275"/>
                </a:lnTo>
                <a:lnTo>
                  <a:pt x="428" y="282"/>
                </a:lnTo>
                <a:lnTo>
                  <a:pt x="426" y="286"/>
                </a:lnTo>
                <a:lnTo>
                  <a:pt x="424" y="288"/>
                </a:lnTo>
                <a:lnTo>
                  <a:pt x="420" y="290"/>
                </a:lnTo>
                <a:lnTo>
                  <a:pt x="418" y="290"/>
                </a:lnTo>
                <a:lnTo>
                  <a:pt x="416" y="292"/>
                </a:lnTo>
                <a:lnTo>
                  <a:pt x="413" y="292"/>
                </a:lnTo>
                <a:lnTo>
                  <a:pt x="411" y="292"/>
                </a:lnTo>
                <a:lnTo>
                  <a:pt x="407" y="290"/>
                </a:lnTo>
                <a:lnTo>
                  <a:pt x="403" y="290"/>
                </a:lnTo>
                <a:lnTo>
                  <a:pt x="397" y="288"/>
                </a:lnTo>
                <a:lnTo>
                  <a:pt x="391" y="284"/>
                </a:lnTo>
                <a:lnTo>
                  <a:pt x="386" y="282"/>
                </a:lnTo>
                <a:lnTo>
                  <a:pt x="380" y="278"/>
                </a:lnTo>
                <a:lnTo>
                  <a:pt x="372" y="275"/>
                </a:lnTo>
                <a:lnTo>
                  <a:pt x="363" y="269"/>
                </a:lnTo>
                <a:lnTo>
                  <a:pt x="355" y="263"/>
                </a:lnTo>
                <a:lnTo>
                  <a:pt x="345" y="257"/>
                </a:lnTo>
                <a:lnTo>
                  <a:pt x="336" y="252"/>
                </a:lnTo>
                <a:lnTo>
                  <a:pt x="324" y="244"/>
                </a:lnTo>
                <a:lnTo>
                  <a:pt x="313" y="236"/>
                </a:lnTo>
                <a:lnTo>
                  <a:pt x="301" y="229"/>
                </a:lnTo>
                <a:lnTo>
                  <a:pt x="288" y="221"/>
                </a:lnTo>
                <a:lnTo>
                  <a:pt x="276" y="211"/>
                </a:lnTo>
                <a:lnTo>
                  <a:pt x="261" y="202"/>
                </a:lnTo>
                <a:lnTo>
                  <a:pt x="247" y="190"/>
                </a:lnTo>
                <a:lnTo>
                  <a:pt x="232" y="179"/>
                </a:lnTo>
                <a:lnTo>
                  <a:pt x="217" y="167"/>
                </a:lnTo>
                <a:lnTo>
                  <a:pt x="199" y="156"/>
                </a:lnTo>
                <a:lnTo>
                  <a:pt x="182" y="142"/>
                </a:lnTo>
                <a:lnTo>
                  <a:pt x="165" y="129"/>
                </a:lnTo>
                <a:lnTo>
                  <a:pt x="146" y="115"/>
                </a:lnTo>
                <a:lnTo>
                  <a:pt x="127" y="100"/>
                </a:lnTo>
                <a:lnTo>
                  <a:pt x="107" y="85"/>
                </a:lnTo>
                <a:lnTo>
                  <a:pt x="88" y="69"/>
                </a:lnTo>
                <a:lnTo>
                  <a:pt x="67" y="54"/>
                </a:lnTo>
                <a:lnTo>
                  <a:pt x="46" y="37"/>
                </a:lnTo>
                <a:lnTo>
                  <a:pt x="23" y="19"/>
                </a:lnTo>
                <a:lnTo>
                  <a:pt x="0" y="0"/>
                </a:lnTo>
                <a:lnTo>
                  <a:pt x="19" y="0"/>
                </a:lnTo>
                <a:lnTo>
                  <a:pt x="36" y="2"/>
                </a:lnTo>
                <a:lnTo>
                  <a:pt x="55" y="4"/>
                </a:lnTo>
                <a:lnTo>
                  <a:pt x="75" y="6"/>
                </a:lnTo>
                <a:lnTo>
                  <a:pt x="94" y="8"/>
                </a:lnTo>
                <a:lnTo>
                  <a:pt x="113" y="12"/>
                </a:lnTo>
                <a:lnTo>
                  <a:pt x="132" y="14"/>
                </a:lnTo>
                <a:lnTo>
                  <a:pt x="151" y="19"/>
                </a:lnTo>
                <a:lnTo>
                  <a:pt x="171" y="23"/>
                </a:lnTo>
                <a:lnTo>
                  <a:pt x="190" y="29"/>
                </a:lnTo>
                <a:lnTo>
                  <a:pt x="209" y="35"/>
                </a:lnTo>
                <a:lnTo>
                  <a:pt x="228" y="40"/>
                </a:lnTo>
                <a:lnTo>
                  <a:pt x="247" y="48"/>
                </a:lnTo>
                <a:lnTo>
                  <a:pt x="267" y="56"/>
                </a:lnTo>
                <a:lnTo>
                  <a:pt x="286" y="65"/>
                </a:lnTo>
                <a:lnTo>
                  <a:pt x="303" y="73"/>
                </a:lnTo>
                <a:lnTo>
                  <a:pt x="320" y="85"/>
                </a:lnTo>
                <a:lnTo>
                  <a:pt x="338" y="96"/>
                </a:lnTo>
                <a:lnTo>
                  <a:pt x="353" y="108"/>
                </a:lnTo>
                <a:lnTo>
                  <a:pt x="366" y="117"/>
                </a:lnTo>
                <a:lnTo>
                  <a:pt x="380" y="129"/>
                </a:lnTo>
                <a:lnTo>
                  <a:pt x="391" y="138"/>
                </a:lnTo>
                <a:lnTo>
                  <a:pt x="403" y="148"/>
                </a:lnTo>
                <a:lnTo>
                  <a:pt x="413" y="157"/>
                </a:lnTo>
                <a:lnTo>
                  <a:pt x="422" y="167"/>
                </a:lnTo>
                <a:lnTo>
                  <a:pt x="428" y="177"/>
                </a:lnTo>
                <a:lnTo>
                  <a:pt x="434" y="186"/>
                </a:lnTo>
                <a:lnTo>
                  <a:pt x="437" y="196"/>
                </a:lnTo>
                <a:lnTo>
                  <a:pt x="441" y="204"/>
                </a:lnTo>
                <a:lnTo>
                  <a:pt x="443" y="213"/>
                </a:lnTo>
                <a:lnTo>
                  <a:pt x="441" y="223"/>
                </a:lnTo>
                <a:lnTo>
                  <a:pt x="441" y="2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206"/>
          <p:cNvSpPr/>
          <p:nvPr/>
        </p:nvSpPr>
        <p:spPr>
          <a:xfrm>
            <a:off x="6548400" y="3933720"/>
            <a:ext cx="460440" cy="409680"/>
          </a:xfrm>
          <a:custGeom>
            <a:avLst/>
            <a:gdLst/>
            <a:ahLst/>
            <a:rect l="l" t="t" r="r" b="b"/>
            <a:pathLst>
              <a:path w="579" h="517">
                <a:moveTo>
                  <a:pt x="2" y="515"/>
                </a:moveTo>
                <a:lnTo>
                  <a:pt x="0" y="511"/>
                </a:lnTo>
                <a:lnTo>
                  <a:pt x="0" y="509"/>
                </a:lnTo>
                <a:lnTo>
                  <a:pt x="2" y="503"/>
                </a:lnTo>
                <a:lnTo>
                  <a:pt x="4" y="499"/>
                </a:lnTo>
                <a:lnTo>
                  <a:pt x="9" y="492"/>
                </a:lnTo>
                <a:lnTo>
                  <a:pt x="15" y="486"/>
                </a:lnTo>
                <a:lnTo>
                  <a:pt x="21" y="478"/>
                </a:lnTo>
                <a:lnTo>
                  <a:pt x="31" y="469"/>
                </a:lnTo>
                <a:lnTo>
                  <a:pt x="40" y="459"/>
                </a:lnTo>
                <a:lnTo>
                  <a:pt x="50" y="450"/>
                </a:lnTo>
                <a:lnTo>
                  <a:pt x="63" y="438"/>
                </a:lnTo>
                <a:lnTo>
                  <a:pt x="77" y="427"/>
                </a:lnTo>
                <a:lnTo>
                  <a:pt x="90" y="413"/>
                </a:lnTo>
                <a:lnTo>
                  <a:pt x="105" y="400"/>
                </a:lnTo>
                <a:lnTo>
                  <a:pt x="123" y="384"/>
                </a:lnTo>
                <a:lnTo>
                  <a:pt x="140" y="369"/>
                </a:lnTo>
                <a:lnTo>
                  <a:pt x="174" y="342"/>
                </a:lnTo>
                <a:lnTo>
                  <a:pt x="209" y="313"/>
                </a:lnTo>
                <a:lnTo>
                  <a:pt x="224" y="300"/>
                </a:lnTo>
                <a:lnTo>
                  <a:pt x="240" y="286"/>
                </a:lnTo>
                <a:lnTo>
                  <a:pt x="255" y="275"/>
                </a:lnTo>
                <a:lnTo>
                  <a:pt x="270" y="261"/>
                </a:lnTo>
                <a:lnTo>
                  <a:pt x="284" y="248"/>
                </a:lnTo>
                <a:lnTo>
                  <a:pt x="297" y="235"/>
                </a:lnTo>
                <a:lnTo>
                  <a:pt x="311" y="223"/>
                </a:lnTo>
                <a:lnTo>
                  <a:pt x="322" y="210"/>
                </a:lnTo>
                <a:lnTo>
                  <a:pt x="332" y="198"/>
                </a:lnTo>
                <a:lnTo>
                  <a:pt x="343" y="187"/>
                </a:lnTo>
                <a:lnTo>
                  <a:pt x="351" y="175"/>
                </a:lnTo>
                <a:lnTo>
                  <a:pt x="361" y="164"/>
                </a:lnTo>
                <a:lnTo>
                  <a:pt x="366" y="152"/>
                </a:lnTo>
                <a:lnTo>
                  <a:pt x="374" y="140"/>
                </a:lnTo>
                <a:lnTo>
                  <a:pt x="382" y="131"/>
                </a:lnTo>
                <a:lnTo>
                  <a:pt x="388" y="121"/>
                </a:lnTo>
                <a:lnTo>
                  <a:pt x="393" y="112"/>
                </a:lnTo>
                <a:lnTo>
                  <a:pt x="399" y="104"/>
                </a:lnTo>
                <a:lnTo>
                  <a:pt x="403" y="96"/>
                </a:lnTo>
                <a:lnTo>
                  <a:pt x="407" y="89"/>
                </a:lnTo>
                <a:lnTo>
                  <a:pt x="411" y="81"/>
                </a:lnTo>
                <a:lnTo>
                  <a:pt x="414" y="73"/>
                </a:lnTo>
                <a:lnTo>
                  <a:pt x="416" y="68"/>
                </a:lnTo>
                <a:lnTo>
                  <a:pt x="418" y="62"/>
                </a:lnTo>
                <a:lnTo>
                  <a:pt x="418" y="56"/>
                </a:lnTo>
                <a:lnTo>
                  <a:pt x="418" y="50"/>
                </a:lnTo>
                <a:lnTo>
                  <a:pt x="416" y="46"/>
                </a:lnTo>
                <a:lnTo>
                  <a:pt x="414" y="41"/>
                </a:lnTo>
                <a:lnTo>
                  <a:pt x="411" y="37"/>
                </a:lnTo>
                <a:lnTo>
                  <a:pt x="407" y="31"/>
                </a:lnTo>
                <a:lnTo>
                  <a:pt x="405" y="27"/>
                </a:lnTo>
                <a:lnTo>
                  <a:pt x="407" y="23"/>
                </a:lnTo>
                <a:lnTo>
                  <a:pt x="407" y="20"/>
                </a:lnTo>
                <a:lnTo>
                  <a:pt x="409" y="18"/>
                </a:lnTo>
                <a:lnTo>
                  <a:pt x="411" y="16"/>
                </a:lnTo>
                <a:lnTo>
                  <a:pt x="412" y="14"/>
                </a:lnTo>
                <a:lnTo>
                  <a:pt x="416" y="12"/>
                </a:lnTo>
                <a:lnTo>
                  <a:pt x="420" y="10"/>
                </a:lnTo>
                <a:lnTo>
                  <a:pt x="424" y="6"/>
                </a:lnTo>
                <a:lnTo>
                  <a:pt x="428" y="4"/>
                </a:lnTo>
                <a:lnTo>
                  <a:pt x="434" y="2"/>
                </a:lnTo>
                <a:lnTo>
                  <a:pt x="439" y="0"/>
                </a:lnTo>
                <a:lnTo>
                  <a:pt x="443" y="0"/>
                </a:lnTo>
                <a:lnTo>
                  <a:pt x="449" y="0"/>
                </a:lnTo>
                <a:lnTo>
                  <a:pt x="455" y="0"/>
                </a:lnTo>
                <a:lnTo>
                  <a:pt x="460" y="0"/>
                </a:lnTo>
                <a:lnTo>
                  <a:pt x="466" y="2"/>
                </a:lnTo>
                <a:lnTo>
                  <a:pt x="472" y="4"/>
                </a:lnTo>
                <a:lnTo>
                  <a:pt x="478" y="6"/>
                </a:lnTo>
                <a:lnTo>
                  <a:pt x="483" y="10"/>
                </a:lnTo>
                <a:lnTo>
                  <a:pt x="489" y="14"/>
                </a:lnTo>
                <a:lnTo>
                  <a:pt x="497" y="18"/>
                </a:lnTo>
                <a:lnTo>
                  <a:pt x="503" y="23"/>
                </a:lnTo>
                <a:lnTo>
                  <a:pt x="510" y="29"/>
                </a:lnTo>
                <a:lnTo>
                  <a:pt x="518" y="35"/>
                </a:lnTo>
                <a:lnTo>
                  <a:pt x="526" y="41"/>
                </a:lnTo>
                <a:lnTo>
                  <a:pt x="531" y="48"/>
                </a:lnTo>
                <a:lnTo>
                  <a:pt x="539" y="54"/>
                </a:lnTo>
                <a:lnTo>
                  <a:pt x="545" y="60"/>
                </a:lnTo>
                <a:lnTo>
                  <a:pt x="551" y="66"/>
                </a:lnTo>
                <a:lnTo>
                  <a:pt x="556" y="71"/>
                </a:lnTo>
                <a:lnTo>
                  <a:pt x="560" y="77"/>
                </a:lnTo>
                <a:lnTo>
                  <a:pt x="564" y="81"/>
                </a:lnTo>
                <a:lnTo>
                  <a:pt x="568" y="87"/>
                </a:lnTo>
                <a:lnTo>
                  <a:pt x="574" y="94"/>
                </a:lnTo>
                <a:lnTo>
                  <a:pt x="578" y="102"/>
                </a:lnTo>
                <a:lnTo>
                  <a:pt x="579" y="108"/>
                </a:lnTo>
                <a:lnTo>
                  <a:pt x="579" y="114"/>
                </a:lnTo>
                <a:lnTo>
                  <a:pt x="579" y="116"/>
                </a:lnTo>
                <a:lnTo>
                  <a:pt x="578" y="119"/>
                </a:lnTo>
                <a:lnTo>
                  <a:pt x="576" y="125"/>
                </a:lnTo>
                <a:lnTo>
                  <a:pt x="574" y="129"/>
                </a:lnTo>
                <a:lnTo>
                  <a:pt x="572" y="135"/>
                </a:lnTo>
                <a:lnTo>
                  <a:pt x="568" y="140"/>
                </a:lnTo>
                <a:lnTo>
                  <a:pt x="562" y="148"/>
                </a:lnTo>
                <a:lnTo>
                  <a:pt x="556" y="156"/>
                </a:lnTo>
                <a:lnTo>
                  <a:pt x="551" y="164"/>
                </a:lnTo>
                <a:lnTo>
                  <a:pt x="543" y="173"/>
                </a:lnTo>
                <a:lnTo>
                  <a:pt x="535" y="183"/>
                </a:lnTo>
                <a:lnTo>
                  <a:pt x="528" y="192"/>
                </a:lnTo>
                <a:lnTo>
                  <a:pt x="518" y="202"/>
                </a:lnTo>
                <a:lnTo>
                  <a:pt x="507" y="213"/>
                </a:lnTo>
                <a:lnTo>
                  <a:pt x="495" y="223"/>
                </a:lnTo>
                <a:lnTo>
                  <a:pt x="483" y="235"/>
                </a:lnTo>
                <a:lnTo>
                  <a:pt x="457" y="263"/>
                </a:lnTo>
                <a:lnTo>
                  <a:pt x="443" y="277"/>
                </a:lnTo>
                <a:lnTo>
                  <a:pt x="430" y="290"/>
                </a:lnTo>
                <a:lnTo>
                  <a:pt x="414" y="304"/>
                </a:lnTo>
                <a:lnTo>
                  <a:pt x="399" y="317"/>
                </a:lnTo>
                <a:lnTo>
                  <a:pt x="384" y="331"/>
                </a:lnTo>
                <a:lnTo>
                  <a:pt x="366" y="342"/>
                </a:lnTo>
                <a:lnTo>
                  <a:pt x="349" y="355"/>
                </a:lnTo>
                <a:lnTo>
                  <a:pt x="332" y="369"/>
                </a:lnTo>
                <a:lnTo>
                  <a:pt x="313" y="380"/>
                </a:lnTo>
                <a:lnTo>
                  <a:pt x="293" y="394"/>
                </a:lnTo>
                <a:lnTo>
                  <a:pt x="274" y="405"/>
                </a:lnTo>
                <a:lnTo>
                  <a:pt x="253" y="419"/>
                </a:lnTo>
                <a:lnTo>
                  <a:pt x="230" y="430"/>
                </a:lnTo>
                <a:lnTo>
                  <a:pt x="209" y="442"/>
                </a:lnTo>
                <a:lnTo>
                  <a:pt x="186" y="453"/>
                </a:lnTo>
                <a:lnTo>
                  <a:pt x="165" y="463"/>
                </a:lnTo>
                <a:lnTo>
                  <a:pt x="144" y="473"/>
                </a:lnTo>
                <a:lnTo>
                  <a:pt x="126" y="480"/>
                </a:lnTo>
                <a:lnTo>
                  <a:pt x="109" y="488"/>
                </a:lnTo>
                <a:lnTo>
                  <a:pt x="92" y="496"/>
                </a:lnTo>
                <a:lnTo>
                  <a:pt x="77" y="501"/>
                </a:lnTo>
                <a:lnTo>
                  <a:pt x="63" y="505"/>
                </a:lnTo>
                <a:lnTo>
                  <a:pt x="52" y="509"/>
                </a:lnTo>
                <a:lnTo>
                  <a:pt x="40" y="513"/>
                </a:lnTo>
                <a:lnTo>
                  <a:pt x="31" y="515"/>
                </a:lnTo>
                <a:lnTo>
                  <a:pt x="23" y="517"/>
                </a:lnTo>
                <a:lnTo>
                  <a:pt x="15" y="517"/>
                </a:lnTo>
                <a:lnTo>
                  <a:pt x="9" y="517"/>
                </a:lnTo>
                <a:lnTo>
                  <a:pt x="6" y="517"/>
                </a:lnTo>
                <a:lnTo>
                  <a:pt x="2" y="5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207"/>
          <p:cNvSpPr/>
          <p:nvPr/>
        </p:nvSpPr>
        <p:spPr>
          <a:xfrm>
            <a:off x="6942240" y="3782880"/>
            <a:ext cx="350640" cy="241560"/>
          </a:xfrm>
          <a:custGeom>
            <a:avLst/>
            <a:gdLst/>
            <a:ahLst/>
            <a:rect l="l" t="t" r="r" b="b"/>
            <a:pathLst>
              <a:path w="441" h="306">
                <a:moveTo>
                  <a:pt x="330" y="98"/>
                </a:moveTo>
                <a:lnTo>
                  <a:pt x="344" y="104"/>
                </a:lnTo>
                <a:lnTo>
                  <a:pt x="355" y="112"/>
                </a:lnTo>
                <a:lnTo>
                  <a:pt x="367" y="119"/>
                </a:lnTo>
                <a:lnTo>
                  <a:pt x="376" y="127"/>
                </a:lnTo>
                <a:lnTo>
                  <a:pt x="386" y="135"/>
                </a:lnTo>
                <a:lnTo>
                  <a:pt x="395" y="142"/>
                </a:lnTo>
                <a:lnTo>
                  <a:pt x="403" y="150"/>
                </a:lnTo>
                <a:lnTo>
                  <a:pt x="411" y="158"/>
                </a:lnTo>
                <a:lnTo>
                  <a:pt x="418" y="165"/>
                </a:lnTo>
                <a:lnTo>
                  <a:pt x="424" y="173"/>
                </a:lnTo>
                <a:lnTo>
                  <a:pt x="428" y="183"/>
                </a:lnTo>
                <a:lnTo>
                  <a:pt x="434" y="190"/>
                </a:lnTo>
                <a:lnTo>
                  <a:pt x="436" y="198"/>
                </a:lnTo>
                <a:lnTo>
                  <a:pt x="439" y="204"/>
                </a:lnTo>
                <a:lnTo>
                  <a:pt x="439" y="211"/>
                </a:lnTo>
                <a:lnTo>
                  <a:pt x="441" y="219"/>
                </a:lnTo>
                <a:lnTo>
                  <a:pt x="441" y="227"/>
                </a:lnTo>
                <a:lnTo>
                  <a:pt x="441" y="236"/>
                </a:lnTo>
                <a:lnTo>
                  <a:pt x="439" y="244"/>
                </a:lnTo>
                <a:lnTo>
                  <a:pt x="439" y="250"/>
                </a:lnTo>
                <a:lnTo>
                  <a:pt x="439" y="258"/>
                </a:lnTo>
                <a:lnTo>
                  <a:pt x="439" y="263"/>
                </a:lnTo>
                <a:lnTo>
                  <a:pt x="439" y="275"/>
                </a:lnTo>
                <a:lnTo>
                  <a:pt x="438" y="284"/>
                </a:lnTo>
                <a:lnTo>
                  <a:pt x="434" y="292"/>
                </a:lnTo>
                <a:lnTo>
                  <a:pt x="432" y="298"/>
                </a:lnTo>
                <a:lnTo>
                  <a:pt x="426" y="304"/>
                </a:lnTo>
                <a:lnTo>
                  <a:pt x="424" y="304"/>
                </a:lnTo>
                <a:lnTo>
                  <a:pt x="422" y="306"/>
                </a:lnTo>
                <a:lnTo>
                  <a:pt x="418" y="304"/>
                </a:lnTo>
                <a:lnTo>
                  <a:pt x="415" y="304"/>
                </a:lnTo>
                <a:lnTo>
                  <a:pt x="411" y="302"/>
                </a:lnTo>
                <a:lnTo>
                  <a:pt x="405" y="300"/>
                </a:lnTo>
                <a:lnTo>
                  <a:pt x="397" y="296"/>
                </a:lnTo>
                <a:lnTo>
                  <a:pt x="391" y="292"/>
                </a:lnTo>
                <a:lnTo>
                  <a:pt x="382" y="288"/>
                </a:lnTo>
                <a:lnTo>
                  <a:pt x="374" y="283"/>
                </a:lnTo>
                <a:lnTo>
                  <a:pt x="365" y="279"/>
                </a:lnTo>
                <a:lnTo>
                  <a:pt x="353" y="271"/>
                </a:lnTo>
                <a:lnTo>
                  <a:pt x="344" y="265"/>
                </a:lnTo>
                <a:lnTo>
                  <a:pt x="332" y="258"/>
                </a:lnTo>
                <a:lnTo>
                  <a:pt x="319" y="248"/>
                </a:lnTo>
                <a:lnTo>
                  <a:pt x="305" y="240"/>
                </a:lnTo>
                <a:lnTo>
                  <a:pt x="292" y="231"/>
                </a:lnTo>
                <a:lnTo>
                  <a:pt x="276" y="219"/>
                </a:lnTo>
                <a:lnTo>
                  <a:pt x="261" y="208"/>
                </a:lnTo>
                <a:lnTo>
                  <a:pt x="246" y="196"/>
                </a:lnTo>
                <a:lnTo>
                  <a:pt x="228" y="185"/>
                </a:lnTo>
                <a:lnTo>
                  <a:pt x="211" y="171"/>
                </a:lnTo>
                <a:lnTo>
                  <a:pt x="194" y="158"/>
                </a:lnTo>
                <a:lnTo>
                  <a:pt x="175" y="142"/>
                </a:lnTo>
                <a:lnTo>
                  <a:pt x="155" y="127"/>
                </a:lnTo>
                <a:lnTo>
                  <a:pt x="134" y="112"/>
                </a:lnTo>
                <a:lnTo>
                  <a:pt x="113" y="94"/>
                </a:lnTo>
                <a:lnTo>
                  <a:pt x="92" y="77"/>
                </a:lnTo>
                <a:lnTo>
                  <a:pt x="71" y="60"/>
                </a:lnTo>
                <a:lnTo>
                  <a:pt x="48" y="41"/>
                </a:lnTo>
                <a:lnTo>
                  <a:pt x="25" y="21"/>
                </a:lnTo>
                <a:lnTo>
                  <a:pt x="0" y="0"/>
                </a:lnTo>
                <a:lnTo>
                  <a:pt x="29" y="2"/>
                </a:lnTo>
                <a:lnTo>
                  <a:pt x="56" y="6"/>
                </a:lnTo>
                <a:lnTo>
                  <a:pt x="81" y="10"/>
                </a:lnTo>
                <a:lnTo>
                  <a:pt x="106" y="14"/>
                </a:lnTo>
                <a:lnTo>
                  <a:pt x="130" y="18"/>
                </a:lnTo>
                <a:lnTo>
                  <a:pt x="153" y="23"/>
                </a:lnTo>
                <a:lnTo>
                  <a:pt x="175" y="29"/>
                </a:lnTo>
                <a:lnTo>
                  <a:pt x="196" y="35"/>
                </a:lnTo>
                <a:lnTo>
                  <a:pt x="217" y="41"/>
                </a:lnTo>
                <a:lnTo>
                  <a:pt x="236" y="48"/>
                </a:lnTo>
                <a:lnTo>
                  <a:pt x="253" y="56"/>
                </a:lnTo>
                <a:lnTo>
                  <a:pt x="271" y="64"/>
                </a:lnTo>
                <a:lnTo>
                  <a:pt x="288" y="71"/>
                </a:lnTo>
                <a:lnTo>
                  <a:pt x="303" y="79"/>
                </a:lnTo>
                <a:lnTo>
                  <a:pt x="317" y="89"/>
                </a:lnTo>
                <a:lnTo>
                  <a:pt x="330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208"/>
          <p:cNvSpPr/>
          <p:nvPr/>
        </p:nvSpPr>
        <p:spPr>
          <a:xfrm>
            <a:off x="6568920" y="3475080"/>
            <a:ext cx="474840" cy="550800"/>
          </a:xfrm>
          <a:custGeom>
            <a:avLst/>
            <a:gdLst/>
            <a:ahLst/>
            <a:rect l="l" t="t" r="r" b="b"/>
            <a:pathLst>
              <a:path w="597" h="694">
                <a:moveTo>
                  <a:pt x="416" y="435"/>
                </a:moveTo>
                <a:lnTo>
                  <a:pt x="405" y="449"/>
                </a:lnTo>
                <a:lnTo>
                  <a:pt x="393" y="462"/>
                </a:lnTo>
                <a:lnTo>
                  <a:pt x="382" y="476"/>
                </a:lnTo>
                <a:lnTo>
                  <a:pt x="368" y="489"/>
                </a:lnTo>
                <a:lnTo>
                  <a:pt x="355" y="501"/>
                </a:lnTo>
                <a:lnTo>
                  <a:pt x="341" y="514"/>
                </a:lnTo>
                <a:lnTo>
                  <a:pt x="328" y="526"/>
                </a:lnTo>
                <a:lnTo>
                  <a:pt x="313" y="537"/>
                </a:lnTo>
                <a:lnTo>
                  <a:pt x="295" y="549"/>
                </a:lnTo>
                <a:lnTo>
                  <a:pt x="280" y="560"/>
                </a:lnTo>
                <a:lnTo>
                  <a:pt x="263" y="572"/>
                </a:lnTo>
                <a:lnTo>
                  <a:pt x="245" y="583"/>
                </a:lnTo>
                <a:lnTo>
                  <a:pt x="226" y="595"/>
                </a:lnTo>
                <a:lnTo>
                  <a:pt x="207" y="606"/>
                </a:lnTo>
                <a:lnTo>
                  <a:pt x="188" y="618"/>
                </a:lnTo>
                <a:lnTo>
                  <a:pt x="169" y="631"/>
                </a:lnTo>
                <a:lnTo>
                  <a:pt x="147" y="641"/>
                </a:lnTo>
                <a:lnTo>
                  <a:pt x="128" y="650"/>
                </a:lnTo>
                <a:lnTo>
                  <a:pt x="111" y="660"/>
                </a:lnTo>
                <a:lnTo>
                  <a:pt x="96" y="668"/>
                </a:lnTo>
                <a:lnTo>
                  <a:pt x="80" y="673"/>
                </a:lnTo>
                <a:lnTo>
                  <a:pt x="67" y="679"/>
                </a:lnTo>
                <a:lnTo>
                  <a:pt x="55" y="685"/>
                </a:lnTo>
                <a:lnTo>
                  <a:pt x="44" y="689"/>
                </a:lnTo>
                <a:lnTo>
                  <a:pt x="34" y="691"/>
                </a:lnTo>
                <a:lnTo>
                  <a:pt x="27" y="693"/>
                </a:lnTo>
                <a:lnTo>
                  <a:pt x="19" y="694"/>
                </a:lnTo>
                <a:lnTo>
                  <a:pt x="13" y="694"/>
                </a:lnTo>
                <a:lnTo>
                  <a:pt x="9" y="694"/>
                </a:lnTo>
                <a:lnTo>
                  <a:pt x="5" y="694"/>
                </a:lnTo>
                <a:lnTo>
                  <a:pt x="4" y="693"/>
                </a:lnTo>
                <a:lnTo>
                  <a:pt x="4" y="691"/>
                </a:lnTo>
                <a:lnTo>
                  <a:pt x="2" y="689"/>
                </a:lnTo>
                <a:lnTo>
                  <a:pt x="0" y="685"/>
                </a:lnTo>
                <a:lnTo>
                  <a:pt x="2" y="681"/>
                </a:lnTo>
                <a:lnTo>
                  <a:pt x="5" y="677"/>
                </a:lnTo>
                <a:lnTo>
                  <a:pt x="9" y="671"/>
                </a:lnTo>
                <a:lnTo>
                  <a:pt x="15" y="666"/>
                </a:lnTo>
                <a:lnTo>
                  <a:pt x="23" y="660"/>
                </a:lnTo>
                <a:lnTo>
                  <a:pt x="30" y="652"/>
                </a:lnTo>
                <a:lnTo>
                  <a:pt x="40" y="645"/>
                </a:lnTo>
                <a:lnTo>
                  <a:pt x="52" y="637"/>
                </a:lnTo>
                <a:lnTo>
                  <a:pt x="63" y="627"/>
                </a:lnTo>
                <a:lnTo>
                  <a:pt x="76" y="618"/>
                </a:lnTo>
                <a:lnTo>
                  <a:pt x="90" y="606"/>
                </a:lnTo>
                <a:lnTo>
                  <a:pt x="105" y="595"/>
                </a:lnTo>
                <a:lnTo>
                  <a:pt x="123" y="583"/>
                </a:lnTo>
                <a:lnTo>
                  <a:pt x="140" y="570"/>
                </a:lnTo>
                <a:lnTo>
                  <a:pt x="157" y="554"/>
                </a:lnTo>
                <a:lnTo>
                  <a:pt x="174" y="541"/>
                </a:lnTo>
                <a:lnTo>
                  <a:pt x="192" y="526"/>
                </a:lnTo>
                <a:lnTo>
                  <a:pt x="207" y="510"/>
                </a:lnTo>
                <a:lnTo>
                  <a:pt x="222" y="493"/>
                </a:lnTo>
                <a:lnTo>
                  <a:pt x="238" y="478"/>
                </a:lnTo>
                <a:lnTo>
                  <a:pt x="251" y="460"/>
                </a:lnTo>
                <a:lnTo>
                  <a:pt x="265" y="441"/>
                </a:lnTo>
                <a:lnTo>
                  <a:pt x="278" y="424"/>
                </a:lnTo>
                <a:lnTo>
                  <a:pt x="291" y="405"/>
                </a:lnTo>
                <a:lnTo>
                  <a:pt x="305" y="385"/>
                </a:lnTo>
                <a:lnTo>
                  <a:pt x="316" y="364"/>
                </a:lnTo>
                <a:lnTo>
                  <a:pt x="328" y="343"/>
                </a:lnTo>
                <a:lnTo>
                  <a:pt x="339" y="322"/>
                </a:lnTo>
                <a:lnTo>
                  <a:pt x="349" y="301"/>
                </a:lnTo>
                <a:lnTo>
                  <a:pt x="361" y="278"/>
                </a:lnTo>
                <a:lnTo>
                  <a:pt x="368" y="255"/>
                </a:lnTo>
                <a:lnTo>
                  <a:pt x="374" y="234"/>
                </a:lnTo>
                <a:lnTo>
                  <a:pt x="382" y="215"/>
                </a:lnTo>
                <a:lnTo>
                  <a:pt x="387" y="195"/>
                </a:lnTo>
                <a:lnTo>
                  <a:pt x="393" y="178"/>
                </a:lnTo>
                <a:lnTo>
                  <a:pt x="399" y="161"/>
                </a:lnTo>
                <a:lnTo>
                  <a:pt x="403" y="145"/>
                </a:lnTo>
                <a:lnTo>
                  <a:pt x="409" y="130"/>
                </a:lnTo>
                <a:lnTo>
                  <a:pt x="412" y="117"/>
                </a:lnTo>
                <a:lnTo>
                  <a:pt x="414" y="105"/>
                </a:lnTo>
                <a:lnTo>
                  <a:pt x="416" y="94"/>
                </a:lnTo>
                <a:lnTo>
                  <a:pt x="418" y="82"/>
                </a:lnTo>
                <a:lnTo>
                  <a:pt x="418" y="73"/>
                </a:lnTo>
                <a:lnTo>
                  <a:pt x="418" y="63"/>
                </a:lnTo>
                <a:lnTo>
                  <a:pt x="418" y="55"/>
                </a:lnTo>
                <a:lnTo>
                  <a:pt x="416" y="48"/>
                </a:lnTo>
                <a:lnTo>
                  <a:pt x="412" y="42"/>
                </a:lnTo>
                <a:lnTo>
                  <a:pt x="410" y="34"/>
                </a:lnTo>
                <a:lnTo>
                  <a:pt x="409" y="30"/>
                </a:lnTo>
                <a:lnTo>
                  <a:pt x="409" y="25"/>
                </a:lnTo>
                <a:lnTo>
                  <a:pt x="407" y="21"/>
                </a:lnTo>
                <a:lnTo>
                  <a:pt x="407" y="15"/>
                </a:lnTo>
                <a:lnTo>
                  <a:pt x="407" y="13"/>
                </a:lnTo>
                <a:lnTo>
                  <a:pt x="407" y="9"/>
                </a:lnTo>
                <a:lnTo>
                  <a:pt x="407" y="7"/>
                </a:lnTo>
                <a:lnTo>
                  <a:pt x="409" y="5"/>
                </a:lnTo>
                <a:lnTo>
                  <a:pt x="410" y="3"/>
                </a:lnTo>
                <a:lnTo>
                  <a:pt x="412" y="2"/>
                </a:lnTo>
                <a:lnTo>
                  <a:pt x="416" y="0"/>
                </a:lnTo>
                <a:lnTo>
                  <a:pt x="420" y="0"/>
                </a:lnTo>
                <a:lnTo>
                  <a:pt x="424" y="0"/>
                </a:lnTo>
                <a:lnTo>
                  <a:pt x="430" y="0"/>
                </a:lnTo>
                <a:lnTo>
                  <a:pt x="439" y="0"/>
                </a:lnTo>
                <a:lnTo>
                  <a:pt x="453" y="2"/>
                </a:lnTo>
                <a:lnTo>
                  <a:pt x="464" y="3"/>
                </a:lnTo>
                <a:lnTo>
                  <a:pt x="480" y="5"/>
                </a:lnTo>
                <a:lnTo>
                  <a:pt x="493" y="9"/>
                </a:lnTo>
                <a:lnTo>
                  <a:pt x="508" y="15"/>
                </a:lnTo>
                <a:lnTo>
                  <a:pt x="539" y="23"/>
                </a:lnTo>
                <a:lnTo>
                  <a:pt x="554" y="32"/>
                </a:lnTo>
                <a:lnTo>
                  <a:pt x="566" y="42"/>
                </a:lnTo>
                <a:lnTo>
                  <a:pt x="572" y="46"/>
                </a:lnTo>
                <a:lnTo>
                  <a:pt x="577" y="51"/>
                </a:lnTo>
                <a:lnTo>
                  <a:pt x="583" y="55"/>
                </a:lnTo>
                <a:lnTo>
                  <a:pt x="587" y="61"/>
                </a:lnTo>
                <a:lnTo>
                  <a:pt x="591" y="67"/>
                </a:lnTo>
                <a:lnTo>
                  <a:pt x="593" y="73"/>
                </a:lnTo>
                <a:lnTo>
                  <a:pt x="595" y="76"/>
                </a:lnTo>
                <a:lnTo>
                  <a:pt x="597" y="82"/>
                </a:lnTo>
                <a:lnTo>
                  <a:pt x="597" y="88"/>
                </a:lnTo>
                <a:lnTo>
                  <a:pt x="597" y="96"/>
                </a:lnTo>
                <a:lnTo>
                  <a:pt x="597" y="101"/>
                </a:lnTo>
                <a:lnTo>
                  <a:pt x="595" y="109"/>
                </a:lnTo>
                <a:lnTo>
                  <a:pt x="583" y="136"/>
                </a:lnTo>
                <a:lnTo>
                  <a:pt x="577" y="149"/>
                </a:lnTo>
                <a:lnTo>
                  <a:pt x="574" y="165"/>
                </a:lnTo>
                <a:lnTo>
                  <a:pt x="568" y="180"/>
                </a:lnTo>
                <a:lnTo>
                  <a:pt x="562" y="195"/>
                </a:lnTo>
                <a:lnTo>
                  <a:pt x="558" y="213"/>
                </a:lnTo>
                <a:lnTo>
                  <a:pt x="552" y="230"/>
                </a:lnTo>
                <a:lnTo>
                  <a:pt x="541" y="253"/>
                </a:lnTo>
                <a:lnTo>
                  <a:pt x="529" y="276"/>
                </a:lnTo>
                <a:lnTo>
                  <a:pt x="516" y="299"/>
                </a:lnTo>
                <a:lnTo>
                  <a:pt x="499" y="324"/>
                </a:lnTo>
                <a:lnTo>
                  <a:pt x="491" y="336"/>
                </a:lnTo>
                <a:lnTo>
                  <a:pt x="481" y="349"/>
                </a:lnTo>
                <a:lnTo>
                  <a:pt x="472" y="362"/>
                </a:lnTo>
                <a:lnTo>
                  <a:pt x="462" y="376"/>
                </a:lnTo>
                <a:lnTo>
                  <a:pt x="451" y="391"/>
                </a:lnTo>
                <a:lnTo>
                  <a:pt x="439" y="405"/>
                </a:lnTo>
                <a:lnTo>
                  <a:pt x="428" y="420"/>
                </a:lnTo>
                <a:lnTo>
                  <a:pt x="416" y="4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209"/>
          <p:cNvSpPr/>
          <p:nvPr/>
        </p:nvSpPr>
        <p:spPr>
          <a:xfrm>
            <a:off x="6324480" y="3681360"/>
            <a:ext cx="181080" cy="843120"/>
          </a:xfrm>
          <a:custGeom>
            <a:avLst/>
            <a:gdLst/>
            <a:ahLst/>
            <a:rect l="l" t="t" r="r" b="b"/>
            <a:pathLst>
              <a:path w="228" h="1061">
                <a:moveTo>
                  <a:pt x="9" y="769"/>
                </a:moveTo>
                <a:lnTo>
                  <a:pt x="13" y="758"/>
                </a:lnTo>
                <a:lnTo>
                  <a:pt x="19" y="744"/>
                </a:lnTo>
                <a:lnTo>
                  <a:pt x="25" y="731"/>
                </a:lnTo>
                <a:lnTo>
                  <a:pt x="28" y="716"/>
                </a:lnTo>
                <a:lnTo>
                  <a:pt x="34" y="700"/>
                </a:lnTo>
                <a:lnTo>
                  <a:pt x="38" y="683"/>
                </a:lnTo>
                <a:lnTo>
                  <a:pt x="44" y="664"/>
                </a:lnTo>
                <a:lnTo>
                  <a:pt x="48" y="645"/>
                </a:lnTo>
                <a:lnTo>
                  <a:pt x="53" y="625"/>
                </a:lnTo>
                <a:lnTo>
                  <a:pt x="57" y="604"/>
                </a:lnTo>
                <a:lnTo>
                  <a:pt x="61" y="583"/>
                </a:lnTo>
                <a:lnTo>
                  <a:pt x="65" y="562"/>
                </a:lnTo>
                <a:lnTo>
                  <a:pt x="69" y="539"/>
                </a:lnTo>
                <a:lnTo>
                  <a:pt x="73" y="516"/>
                </a:lnTo>
                <a:lnTo>
                  <a:pt x="75" y="491"/>
                </a:lnTo>
                <a:lnTo>
                  <a:pt x="78" y="466"/>
                </a:lnTo>
                <a:lnTo>
                  <a:pt x="80" y="441"/>
                </a:lnTo>
                <a:lnTo>
                  <a:pt x="82" y="418"/>
                </a:lnTo>
                <a:lnTo>
                  <a:pt x="82" y="393"/>
                </a:lnTo>
                <a:lnTo>
                  <a:pt x="82" y="370"/>
                </a:lnTo>
                <a:lnTo>
                  <a:pt x="82" y="349"/>
                </a:lnTo>
                <a:lnTo>
                  <a:pt x="82" y="326"/>
                </a:lnTo>
                <a:lnTo>
                  <a:pt x="82" y="305"/>
                </a:lnTo>
                <a:lnTo>
                  <a:pt x="80" y="284"/>
                </a:lnTo>
                <a:lnTo>
                  <a:pt x="78" y="265"/>
                </a:lnTo>
                <a:lnTo>
                  <a:pt x="78" y="243"/>
                </a:lnTo>
                <a:lnTo>
                  <a:pt x="76" y="224"/>
                </a:lnTo>
                <a:lnTo>
                  <a:pt x="73" y="207"/>
                </a:lnTo>
                <a:lnTo>
                  <a:pt x="71" y="190"/>
                </a:lnTo>
                <a:lnTo>
                  <a:pt x="69" y="170"/>
                </a:lnTo>
                <a:lnTo>
                  <a:pt x="67" y="155"/>
                </a:lnTo>
                <a:lnTo>
                  <a:pt x="63" y="138"/>
                </a:lnTo>
                <a:lnTo>
                  <a:pt x="61" y="124"/>
                </a:lnTo>
                <a:lnTo>
                  <a:pt x="59" y="113"/>
                </a:lnTo>
                <a:lnTo>
                  <a:pt x="57" y="99"/>
                </a:lnTo>
                <a:lnTo>
                  <a:pt x="55" y="88"/>
                </a:lnTo>
                <a:lnTo>
                  <a:pt x="55" y="78"/>
                </a:lnTo>
                <a:lnTo>
                  <a:pt x="53" y="67"/>
                </a:lnTo>
                <a:lnTo>
                  <a:pt x="53" y="57"/>
                </a:lnTo>
                <a:lnTo>
                  <a:pt x="53" y="50"/>
                </a:lnTo>
                <a:lnTo>
                  <a:pt x="53" y="40"/>
                </a:lnTo>
                <a:lnTo>
                  <a:pt x="53" y="32"/>
                </a:lnTo>
                <a:lnTo>
                  <a:pt x="55" y="27"/>
                </a:lnTo>
                <a:lnTo>
                  <a:pt x="55" y="21"/>
                </a:lnTo>
                <a:lnTo>
                  <a:pt x="57" y="15"/>
                </a:lnTo>
                <a:lnTo>
                  <a:pt x="59" y="11"/>
                </a:lnTo>
                <a:lnTo>
                  <a:pt x="61" y="7"/>
                </a:lnTo>
                <a:lnTo>
                  <a:pt x="63" y="5"/>
                </a:lnTo>
                <a:lnTo>
                  <a:pt x="67" y="4"/>
                </a:lnTo>
                <a:lnTo>
                  <a:pt x="71" y="2"/>
                </a:lnTo>
                <a:lnTo>
                  <a:pt x="76" y="0"/>
                </a:lnTo>
                <a:lnTo>
                  <a:pt x="82" y="0"/>
                </a:lnTo>
                <a:lnTo>
                  <a:pt x="88" y="0"/>
                </a:lnTo>
                <a:lnTo>
                  <a:pt x="96" y="2"/>
                </a:lnTo>
                <a:lnTo>
                  <a:pt x="105" y="2"/>
                </a:lnTo>
                <a:lnTo>
                  <a:pt x="115" y="4"/>
                </a:lnTo>
                <a:lnTo>
                  <a:pt x="126" y="5"/>
                </a:lnTo>
                <a:lnTo>
                  <a:pt x="138" y="7"/>
                </a:lnTo>
                <a:lnTo>
                  <a:pt x="151" y="9"/>
                </a:lnTo>
                <a:lnTo>
                  <a:pt x="165" y="13"/>
                </a:lnTo>
                <a:lnTo>
                  <a:pt x="178" y="17"/>
                </a:lnTo>
                <a:lnTo>
                  <a:pt x="195" y="21"/>
                </a:lnTo>
                <a:lnTo>
                  <a:pt x="211" y="25"/>
                </a:lnTo>
                <a:lnTo>
                  <a:pt x="228" y="28"/>
                </a:lnTo>
                <a:lnTo>
                  <a:pt x="228" y="130"/>
                </a:lnTo>
                <a:lnTo>
                  <a:pt x="228" y="180"/>
                </a:lnTo>
                <a:lnTo>
                  <a:pt x="226" y="232"/>
                </a:lnTo>
                <a:lnTo>
                  <a:pt x="226" y="282"/>
                </a:lnTo>
                <a:lnTo>
                  <a:pt x="222" y="336"/>
                </a:lnTo>
                <a:lnTo>
                  <a:pt x="220" y="387"/>
                </a:lnTo>
                <a:lnTo>
                  <a:pt x="215" y="443"/>
                </a:lnTo>
                <a:lnTo>
                  <a:pt x="209" y="497"/>
                </a:lnTo>
                <a:lnTo>
                  <a:pt x="203" y="549"/>
                </a:lnTo>
                <a:lnTo>
                  <a:pt x="195" y="600"/>
                </a:lnTo>
                <a:lnTo>
                  <a:pt x="186" y="652"/>
                </a:lnTo>
                <a:lnTo>
                  <a:pt x="176" y="704"/>
                </a:lnTo>
                <a:lnTo>
                  <a:pt x="167" y="754"/>
                </a:lnTo>
                <a:lnTo>
                  <a:pt x="146" y="856"/>
                </a:lnTo>
                <a:lnTo>
                  <a:pt x="144" y="869"/>
                </a:lnTo>
                <a:lnTo>
                  <a:pt x="142" y="881"/>
                </a:lnTo>
                <a:lnTo>
                  <a:pt x="138" y="894"/>
                </a:lnTo>
                <a:lnTo>
                  <a:pt x="136" y="906"/>
                </a:lnTo>
                <a:lnTo>
                  <a:pt x="134" y="917"/>
                </a:lnTo>
                <a:lnTo>
                  <a:pt x="130" y="929"/>
                </a:lnTo>
                <a:lnTo>
                  <a:pt x="126" y="948"/>
                </a:lnTo>
                <a:lnTo>
                  <a:pt x="121" y="967"/>
                </a:lnTo>
                <a:lnTo>
                  <a:pt x="117" y="984"/>
                </a:lnTo>
                <a:lnTo>
                  <a:pt x="111" y="1000"/>
                </a:lnTo>
                <a:lnTo>
                  <a:pt x="107" y="1013"/>
                </a:lnTo>
                <a:lnTo>
                  <a:pt x="103" y="1025"/>
                </a:lnTo>
                <a:lnTo>
                  <a:pt x="98" y="1034"/>
                </a:lnTo>
                <a:lnTo>
                  <a:pt x="94" y="1042"/>
                </a:lnTo>
                <a:lnTo>
                  <a:pt x="90" y="1050"/>
                </a:lnTo>
                <a:lnTo>
                  <a:pt x="86" y="1055"/>
                </a:lnTo>
                <a:lnTo>
                  <a:pt x="84" y="1059"/>
                </a:lnTo>
                <a:lnTo>
                  <a:pt x="80" y="1061"/>
                </a:lnTo>
                <a:lnTo>
                  <a:pt x="78" y="1061"/>
                </a:lnTo>
                <a:lnTo>
                  <a:pt x="75" y="1061"/>
                </a:lnTo>
                <a:lnTo>
                  <a:pt x="73" y="1059"/>
                </a:lnTo>
                <a:lnTo>
                  <a:pt x="69" y="1057"/>
                </a:lnTo>
                <a:lnTo>
                  <a:pt x="65" y="1055"/>
                </a:lnTo>
                <a:lnTo>
                  <a:pt x="61" y="1052"/>
                </a:lnTo>
                <a:lnTo>
                  <a:pt x="57" y="1046"/>
                </a:lnTo>
                <a:lnTo>
                  <a:pt x="53" y="1042"/>
                </a:lnTo>
                <a:lnTo>
                  <a:pt x="50" y="1036"/>
                </a:lnTo>
                <a:lnTo>
                  <a:pt x="46" y="1029"/>
                </a:lnTo>
                <a:lnTo>
                  <a:pt x="42" y="1021"/>
                </a:lnTo>
                <a:lnTo>
                  <a:pt x="38" y="1013"/>
                </a:lnTo>
                <a:lnTo>
                  <a:pt x="34" y="1005"/>
                </a:lnTo>
                <a:lnTo>
                  <a:pt x="30" y="996"/>
                </a:lnTo>
                <a:lnTo>
                  <a:pt x="28" y="986"/>
                </a:lnTo>
                <a:lnTo>
                  <a:pt x="25" y="975"/>
                </a:lnTo>
                <a:lnTo>
                  <a:pt x="23" y="963"/>
                </a:lnTo>
                <a:lnTo>
                  <a:pt x="17" y="952"/>
                </a:lnTo>
                <a:lnTo>
                  <a:pt x="13" y="940"/>
                </a:lnTo>
                <a:lnTo>
                  <a:pt x="9" y="929"/>
                </a:lnTo>
                <a:lnTo>
                  <a:pt x="7" y="917"/>
                </a:lnTo>
                <a:lnTo>
                  <a:pt x="5" y="904"/>
                </a:lnTo>
                <a:lnTo>
                  <a:pt x="3" y="892"/>
                </a:lnTo>
                <a:lnTo>
                  <a:pt x="2" y="879"/>
                </a:lnTo>
                <a:lnTo>
                  <a:pt x="0" y="867"/>
                </a:lnTo>
                <a:lnTo>
                  <a:pt x="0" y="842"/>
                </a:lnTo>
                <a:lnTo>
                  <a:pt x="2" y="817"/>
                </a:lnTo>
                <a:lnTo>
                  <a:pt x="3" y="792"/>
                </a:lnTo>
                <a:lnTo>
                  <a:pt x="9" y="7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210"/>
          <p:cNvSpPr/>
          <p:nvPr/>
        </p:nvSpPr>
        <p:spPr>
          <a:xfrm>
            <a:off x="6451560" y="3579840"/>
            <a:ext cx="1235160" cy="1079640"/>
          </a:xfrm>
          <a:custGeom>
            <a:avLst/>
            <a:gdLst/>
            <a:ahLst/>
            <a:rect l="l" t="t" r="r" b="b"/>
            <a:pathLst>
              <a:path w="1555" h="1361">
                <a:moveTo>
                  <a:pt x="1182" y="25"/>
                </a:moveTo>
                <a:lnTo>
                  <a:pt x="1188" y="19"/>
                </a:lnTo>
                <a:lnTo>
                  <a:pt x="1196" y="15"/>
                </a:lnTo>
                <a:lnTo>
                  <a:pt x="1203" y="12"/>
                </a:lnTo>
                <a:lnTo>
                  <a:pt x="1211" y="8"/>
                </a:lnTo>
                <a:lnTo>
                  <a:pt x="1221" y="6"/>
                </a:lnTo>
                <a:lnTo>
                  <a:pt x="1230" y="2"/>
                </a:lnTo>
                <a:lnTo>
                  <a:pt x="1240" y="2"/>
                </a:lnTo>
                <a:lnTo>
                  <a:pt x="1251" y="0"/>
                </a:lnTo>
                <a:lnTo>
                  <a:pt x="1253" y="0"/>
                </a:lnTo>
                <a:lnTo>
                  <a:pt x="1257" y="2"/>
                </a:lnTo>
                <a:lnTo>
                  <a:pt x="1263" y="4"/>
                </a:lnTo>
                <a:lnTo>
                  <a:pt x="1269" y="4"/>
                </a:lnTo>
                <a:lnTo>
                  <a:pt x="1276" y="8"/>
                </a:lnTo>
                <a:lnTo>
                  <a:pt x="1284" y="10"/>
                </a:lnTo>
                <a:lnTo>
                  <a:pt x="1294" y="13"/>
                </a:lnTo>
                <a:lnTo>
                  <a:pt x="1303" y="17"/>
                </a:lnTo>
                <a:lnTo>
                  <a:pt x="1313" y="21"/>
                </a:lnTo>
                <a:lnTo>
                  <a:pt x="1324" y="25"/>
                </a:lnTo>
                <a:lnTo>
                  <a:pt x="1338" y="31"/>
                </a:lnTo>
                <a:lnTo>
                  <a:pt x="1351" y="37"/>
                </a:lnTo>
                <a:lnTo>
                  <a:pt x="1367" y="42"/>
                </a:lnTo>
                <a:lnTo>
                  <a:pt x="1382" y="48"/>
                </a:lnTo>
                <a:lnTo>
                  <a:pt x="1399" y="54"/>
                </a:lnTo>
                <a:lnTo>
                  <a:pt x="1416" y="61"/>
                </a:lnTo>
                <a:lnTo>
                  <a:pt x="1432" y="71"/>
                </a:lnTo>
                <a:lnTo>
                  <a:pt x="1445" y="79"/>
                </a:lnTo>
                <a:lnTo>
                  <a:pt x="1459" y="86"/>
                </a:lnTo>
                <a:lnTo>
                  <a:pt x="1470" y="96"/>
                </a:lnTo>
                <a:lnTo>
                  <a:pt x="1482" y="104"/>
                </a:lnTo>
                <a:lnTo>
                  <a:pt x="1491" y="109"/>
                </a:lnTo>
                <a:lnTo>
                  <a:pt x="1501" y="117"/>
                </a:lnTo>
                <a:lnTo>
                  <a:pt x="1510" y="123"/>
                </a:lnTo>
                <a:lnTo>
                  <a:pt x="1518" y="129"/>
                </a:lnTo>
                <a:lnTo>
                  <a:pt x="1526" y="134"/>
                </a:lnTo>
                <a:lnTo>
                  <a:pt x="1532" y="140"/>
                </a:lnTo>
                <a:lnTo>
                  <a:pt x="1537" y="144"/>
                </a:lnTo>
                <a:lnTo>
                  <a:pt x="1543" y="148"/>
                </a:lnTo>
                <a:lnTo>
                  <a:pt x="1547" y="152"/>
                </a:lnTo>
                <a:lnTo>
                  <a:pt x="1551" y="156"/>
                </a:lnTo>
                <a:lnTo>
                  <a:pt x="1555" y="157"/>
                </a:lnTo>
                <a:lnTo>
                  <a:pt x="1553" y="167"/>
                </a:lnTo>
                <a:lnTo>
                  <a:pt x="1551" y="177"/>
                </a:lnTo>
                <a:lnTo>
                  <a:pt x="1547" y="184"/>
                </a:lnTo>
                <a:lnTo>
                  <a:pt x="1543" y="192"/>
                </a:lnTo>
                <a:lnTo>
                  <a:pt x="1537" y="200"/>
                </a:lnTo>
                <a:lnTo>
                  <a:pt x="1530" y="207"/>
                </a:lnTo>
                <a:lnTo>
                  <a:pt x="1522" y="213"/>
                </a:lnTo>
                <a:lnTo>
                  <a:pt x="1512" y="219"/>
                </a:lnTo>
                <a:lnTo>
                  <a:pt x="1510" y="221"/>
                </a:lnTo>
                <a:lnTo>
                  <a:pt x="1507" y="223"/>
                </a:lnTo>
                <a:lnTo>
                  <a:pt x="1505" y="227"/>
                </a:lnTo>
                <a:lnTo>
                  <a:pt x="1503" y="228"/>
                </a:lnTo>
                <a:lnTo>
                  <a:pt x="1501" y="234"/>
                </a:lnTo>
                <a:lnTo>
                  <a:pt x="1499" y="238"/>
                </a:lnTo>
                <a:lnTo>
                  <a:pt x="1497" y="244"/>
                </a:lnTo>
                <a:lnTo>
                  <a:pt x="1495" y="252"/>
                </a:lnTo>
                <a:lnTo>
                  <a:pt x="1493" y="257"/>
                </a:lnTo>
                <a:lnTo>
                  <a:pt x="1491" y="265"/>
                </a:lnTo>
                <a:lnTo>
                  <a:pt x="1489" y="275"/>
                </a:lnTo>
                <a:lnTo>
                  <a:pt x="1487" y="284"/>
                </a:lnTo>
                <a:lnTo>
                  <a:pt x="1487" y="294"/>
                </a:lnTo>
                <a:lnTo>
                  <a:pt x="1486" y="303"/>
                </a:lnTo>
                <a:lnTo>
                  <a:pt x="1484" y="315"/>
                </a:lnTo>
                <a:lnTo>
                  <a:pt x="1484" y="326"/>
                </a:lnTo>
                <a:lnTo>
                  <a:pt x="1482" y="340"/>
                </a:lnTo>
                <a:lnTo>
                  <a:pt x="1482" y="353"/>
                </a:lnTo>
                <a:lnTo>
                  <a:pt x="1482" y="367"/>
                </a:lnTo>
                <a:lnTo>
                  <a:pt x="1480" y="382"/>
                </a:lnTo>
                <a:lnTo>
                  <a:pt x="1480" y="397"/>
                </a:lnTo>
                <a:lnTo>
                  <a:pt x="1480" y="413"/>
                </a:lnTo>
                <a:lnTo>
                  <a:pt x="1480" y="428"/>
                </a:lnTo>
                <a:lnTo>
                  <a:pt x="1480" y="445"/>
                </a:lnTo>
                <a:lnTo>
                  <a:pt x="1480" y="465"/>
                </a:lnTo>
                <a:lnTo>
                  <a:pt x="1480" y="482"/>
                </a:lnTo>
                <a:lnTo>
                  <a:pt x="1480" y="501"/>
                </a:lnTo>
                <a:lnTo>
                  <a:pt x="1482" y="522"/>
                </a:lnTo>
                <a:lnTo>
                  <a:pt x="1482" y="541"/>
                </a:lnTo>
                <a:lnTo>
                  <a:pt x="1484" y="562"/>
                </a:lnTo>
                <a:lnTo>
                  <a:pt x="1484" y="585"/>
                </a:lnTo>
                <a:lnTo>
                  <a:pt x="1486" y="609"/>
                </a:lnTo>
                <a:lnTo>
                  <a:pt x="1487" y="653"/>
                </a:lnTo>
                <a:lnTo>
                  <a:pt x="1489" y="695"/>
                </a:lnTo>
                <a:lnTo>
                  <a:pt x="1489" y="737"/>
                </a:lnTo>
                <a:lnTo>
                  <a:pt x="1489" y="776"/>
                </a:lnTo>
                <a:lnTo>
                  <a:pt x="1489" y="814"/>
                </a:lnTo>
                <a:lnTo>
                  <a:pt x="1489" y="848"/>
                </a:lnTo>
                <a:lnTo>
                  <a:pt x="1487" y="883"/>
                </a:lnTo>
                <a:lnTo>
                  <a:pt x="1486" y="916"/>
                </a:lnTo>
                <a:lnTo>
                  <a:pt x="1484" y="946"/>
                </a:lnTo>
                <a:lnTo>
                  <a:pt x="1482" y="973"/>
                </a:lnTo>
                <a:lnTo>
                  <a:pt x="1478" y="1000"/>
                </a:lnTo>
                <a:lnTo>
                  <a:pt x="1476" y="1025"/>
                </a:lnTo>
                <a:lnTo>
                  <a:pt x="1474" y="1037"/>
                </a:lnTo>
                <a:lnTo>
                  <a:pt x="1472" y="1048"/>
                </a:lnTo>
                <a:lnTo>
                  <a:pt x="1468" y="1060"/>
                </a:lnTo>
                <a:lnTo>
                  <a:pt x="1466" y="1069"/>
                </a:lnTo>
                <a:lnTo>
                  <a:pt x="1464" y="1079"/>
                </a:lnTo>
                <a:lnTo>
                  <a:pt x="1462" y="1088"/>
                </a:lnTo>
                <a:lnTo>
                  <a:pt x="1461" y="1096"/>
                </a:lnTo>
                <a:lnTo>
                  <a:pt x="1457" y="1106"/>
                </a:lnTo>
                <a:lnTo>
                  <a:pt x="1447" y="1136"/>
                </a:lnTo>
                <a:lnTo>
                  <a:pt x="1438" y="1167"/>
                </a:lnTo>
                <a:lnTo>
                  <a:pt x="1432" y="1181"/>
                </a:lnTo>
                <a:lnTo>
                  <a:pt x="1426" y="1194"/>
                </a:lnTo>
                <a:lnTo>
                  <a:pt x="1422" y="1207"/>
                </a:lnTo>
                <a:lnTo>
                  <a:pt x="1416" y="1221"/>
                </a:lnTo>
                <a:lnTo>
                  <a:pt x="1411" y="1232"/>
                </a:lnTo>
                <a:lnTo>
                  <a:pt x="1405" y="1244"/>
                </a:lnTo>
                <a:lnTo>
                  <a:pt x="1401" y="1255"/>
                </a:lnTo>
                <a:lnTo>
                  <a:pt x="1395" y="1265"/>
                </a:lnTo>
                <a:lnTo>
                  <a:pt x="1390" y="1275"/>
                </a:lnTo>
                <a:lnTo>
                  <a:pt x="1386" y="1284"/>
                </a:lnTo>
                <a:lnTo>
                  <a:pt x="1380" y="1292"/>
                </a:lnTo>
                <a:lnTo>
                  <a:pt x="1374" y="1300"/>
                </a:lnTo>
                <a:lnTo>
                  <a:pt x="1361" y="1313"/>
                </a:lnTo>
                <a:lnTo>
                  <a:pt x="1345" y="1324"/>
                </a:lnTo>
                <a:lnTo>
                  <a:pt x="1334" y="1334"/>
                </a:lnTo>
                <a:lnTo>
                  <a:pt x="1322" y="1344"/>
                </a:lnTo>
                <a:lnTo>
                  <a:pt x="1311" y="1351"/>
                </a:lnTo>
                <a:lnTo>
                  <a:pt x="1305" y="1353"/>
                </a:lnTo>
                <a:lnTo>
                  <a:pt x="1299" y="1355"/>
                </a:lnTo>
                <a:lnTo>
                  <a:pt x="1294" y="1357"/>
                </a:lnTo>
                <a:lnTo>
                  <a:pt x="1290" y="1359"/>
                </a:lnTo>
                <a:lnTo>
                  <a:pt x="1284" y="1359"/>
                </a:lnTo>
                <a:lnTo>
                  <a:pt x="1278" y="1361"/>
                </a:lnTo>
                <a:lnTo>
                  <a:pt x="1271" y="1359"/>
                </a:lnTo>
                <a:lnTo>
                  <a:pt x="1265" y="1359"/>
                </a:lnTo>
                <a:lnTo>
                  <a:pt x="1259" y="1357"/>
                </a:lnTo>
                <a:lnTo>
                  <a:pt x="1253" y="1355"/>
                </a:lnTo>
                <a:lnTo>
                  <a:pt x="1248" y="1353"/>
                </a:lnTo>
                <a:lnTo>
                  <a:pt x="1244" y="1349"/>
                </a:lnTo>
                <a:lnTo>
                  <a:pt x="1240" y="1346"/>
                </a:lnTo>
                <a:lnTo>
                  <a:pt x="1236" y="1340"/>
                </a:lnTo>
                <a:lnTo>
                  <a:pt x="1232" y="1334"/>
                </a:lnTo>
                <a:lnTo>
                  <a:pt x="1230" y="1328"/>
                </a:lnTo>
                <a:lnTo>
                  <a:pt x="1228" y="1321"/>
                </a:lnTo>
                <a:lnTo>
                  <a:pt x="1226" y="1313"/>
                </a:lnTo>
                <a:lnTo>
                  <a:pt x="1224" y="1305"/>
                </a:lnTo>
                <a:lnTo>
                  <a:pt x="1224" y="1296"/>
                </a:lnTo>
                <a:lnTo>
                  <a:pt x="1224" y="1286"/>
                </a:lnTo>
                <a:lnTo>
                  <a:pt x="1224" y="1275"/>
                </a:lnTo>
                <a:lnTo>
                  <a:pt x="1223" y="1263"/>
                </a:lnTo>
                <a:lnTo>
                  <a:pt x="1223" y="1252"/>
                </a:lnTo>
                <a:lnTo>
                  <a:pt x="1219" y="1240"/>
                </a:lnTo>
                <a:lnTo>
                  <a:pt x="1217" y="1230"/>
                </a:lnTo>
                <a:lnTo>
                  <a:pt x="1211" y="1219"/>
                </a:lnTo>
                <a:lnTo>
                  <a:pt x="1207" y="1207"/>
                </a:lnTo>
                <a:lnTo>
                  <a:pt x="1201" y="1196"/>
                </a:lnTo>
                <a:lnTo>
                  <a:pt x="1194" y="1186"/>
                </a:lnTo>
                <a:lnTo>
                  <a:pt x="1186" y="1175"/>
                </a:lnTo>
                <a:lnTo>
                  <a:pt x="1178" y="1165"/>
                </a:lnTo>
                <a:lnTo>
                  <a:pt x="1169" y="1154"/>
                </a:lnTo>
                <a:lnTo>
                  <a:pt x="1159" y="1144"/>
                </a:lnTo>
                <a:lnTo>
                  <a:pt x="1150" y="1134"/>
                </a:lnTo>
                <a:lnTo>
                  <a:pt x="1138" y="1125"/>
                </a:lnTo>
                <a:lnTo>
                  <a:pt x="1127" y="1115"/>
                </a:lnTo>
                <a:lnTo>
                  <a:pt x="1113" y="1106"/>
                </a:lnTo>
                <a:lnTo>
                  <a:pt x="1098" y="1096"/>
                </a:lnTo>
                <a:lnTo>
                  <a:pt x="1084" y="1086"/>
                </a:lnTo>
                <a:lnTo>
                  <a:pt x="1071" y="1079"/>
                </a:lnTo>
                <a:lnTo>
                  <a:pt x="1059" y="1071"/>
                </a:lnTo>
                <a:lnTo>
                  <a:pt x="1048" y="1063"/>
                </a:lnTo>
                <a:lnTo>
                  <a:pt x="1038" y="1056"/>
                </a:lnTo>
                <a:lnTo>
                  <a:pt x="1031" y="1050"/>
                </a:lnTo>
                <a:lnTo>
                  <a:pt x="1023" y="1042"/>
                </a:lnTo>
                <a:lnTo>
                  <a:pt x="1015" y="1037"/>
                </a:lnTo>
                <a:lnTo>
                  <a:pt x="1011" y="1031"/>
                </a:lnTo>
                <a:lnTo>
                  <a:pt x="1006" y="1025"/>
                </a:lnTo>
                <a:lnTo>
                  <a:pt x="1004" y="1021"/>
                </a:lnTo>
                <a:lnTo>
                  <a:pt x="1002" y="1017"/>
                </a:lnTo>
                <a:lnTo>
                  <a:pt x="1000" y="1014"/>
                </a:lnTo>
                <a:lnTo>
                  <a:pt x="1002" y="1010"/>
                </a:lnTo>
                <a:lnTo>
                  <a:pt x="1004" y="1008"/>
                </a:lnTo>
                <a:lnTo>
                  <a:pt x="1009" y="1004"/>
                </a:lnTo>
                <a:lnTo>
                  <a:pt x="1017" y="1002"/>
                </a:lnTo>
                <a:lnTo>
                  <a:pt x="1025" y="1000"/>
                </a:lnTo>
                <a:lnTo>
                  <a:pt x="1031" y="998"/>
                </a:lnTo>
                <a:lnTo>
                  <a:pt x="1036" y="998"/>
                </a:lnTo>
                <a:lnTo>
                  <a:pt x="1042" y="998"/>
                </a:lnTo>
                <a:lnTo>
                  <a:pt x="1048" y="1000"/>
                </a:lnTo>
                <a:lnTo>
                  <a:pt x="1056" y="1000"/>
                </a:lnTo>
                <a:lnTo>
                  <a:pt x="1063" y="1002"/>
                </a:lnTo>
                <a:lnTo>
                  <a:pt x="1071" y="1002"/>
                </a:lnTo>
                <a:lnTo>
                  <a:pt x="1081" y="1004"/>
                </a:lnTo>
                <a:lnTo>
                  <a:pt x="1090" y="1006"/>
                </a:lnTo>
                <a:lnTo>
                  <a:pt x="1100" y="1008"/>
                </a:lnTo>
                <a:lnTo>
                  <a:pt x="1115" y="1012"/>
                </a:lnTo>
                <a:lnTo>
                  <a:pt x="1130" y="1017"/>
                </a:lnTo>
                <a:lnTo>
                  <a:pt x="1146" y="1021"/>
                </a:lnTo>
                <a:lnTo>
                  <a:pt x="1161" y="1023"/>
                </a:lnTo>
                <a:lnTo>
                  <a:pt x="1176" y="1025"/>
                </a:lnTo>
                <a:lnTo>
                  <a:pt x="1192" y="1025"/>
                </a:lnTo>
                <a:lnTo>
                  <a:pt x="1200" y="1025"/>
                </a:lnTo>
                <a:lnTo>
                  <a:pt x="1207" y="1023"/>
                </a:lnTo>
                <a:lnTo>
                  <a:pt x="1215" y="1023"/>
                </a:lnTo>
                <a:lnTo>
                  <a:pt x="1224" y="1021"/>
                </a:lnTo>
                <a:lnTo>
                  <a:pt x="1226" y="1019"/>
                </a:lnTo>
                <a:lnTo>
                  <a:pt x="1230" y="1017"/>
                </a:lnTo>
                <a:lnTo>
                  <a:pt x="1234" y="1014"/>
                </a:lnTo>
                <a:lnTo>
                  <a:pt x="1238" y="1010"/>
                </a:lnTo>
                <a:lnTo>
                  <a:pt x="1242" y="1006"/>
                </a:lnTo>
                <a:lnTo>
                  <a:pt x="1244" y="1000"/>
                </a:lnTo>
                <a:lnTo>
                  <a:pt x="1248" y="994"/>
                </a:lnTo>
                <a:lnTo>
                  <a:pt x="1249" y="989"/>
                </a:lnTo>
                <a:lnTo>
                  <a:pt x="1251" y="981"/>
                </a:lnTo>
                <a:lnTo>
                  <a:pt x="1255" y="973"/>
                </a:lnTo>
                <a:lnTo>
                  <a:pt x="1257" y="964"/>
                </a:lnTo>
                <a:lnTo>
                  <a:pt x="1259" y="956"/>
                </a:lnTo>
                <a:lnTo>
                  <a:pt x="1261" y="944"/>
                </a:lnTo>
                <a:lnTo>
                  <a:pt x="1263" y="935"/>
                </a:lnTo>
                <a:lnTo>
                  <a:pt x="1265" y="923"/>
                </a:lnTo>
                <a:lnTo>
                  <a:pt x="1267" y="910"/>
                </a:lnTo>
                <a:lnTo>
                  <a:pt x="1269" y="898"/>
                </a:lnTo>
                <a:lnTo>
                  <a:pt x="1271" y="885"/>
                </a:lnTo>
                <a:lnTo>
                  <a:pt x="1271" y="870"/>
                </a:lnTo>
                <a:lnTo>
                  <a:pt x="1272" y="854"/>
                </a:lnTo>
                <a:lnTo>
                  <a:pt x="1272" y="839"/>
                </a:lnTo>
                <a:lnTo>
                  <a:pt x="1274" y="824"/>
                </a:lnTo>
                <a:lnTo>
                  <a:pt x="1274" y="806"/>
                </a:lnTo>
                <a:lnTo>
                  <a:pt x="1276" y="787"/>
                </a:lnTo>
                <a:lnTo>
                  <a:pt x="1276" y="770"/>
                </a:lnTo>
                <a:lnTo>
                  <a:pt x="1276" y="751"/>
                </a:lnTo>
                <a:lnTo>
                  <a:pt x="1278" y="729"/>
                </a:lnTo>
                <a:lnTo>
                  <a:pt x="1278" y="710"/>
                </a:lnTo>
                <a:lnTo>
                  <a:pt x="1278" y="687"/>
                </a:lnTo>
                <a:lnTo>
                  <a:pt x="1278" y="666"/>
                </a:lnTo>
                <a:lnTo>
                  <a:pt x="1278" y="643"/>
                </a:lnTo>
                <a:lnTo>
                  <a:pt x="1278" y="620"/>
                </a:lnTo>
                <a:lnTo>
                  <a:pt x="1278" y="595"/>
                </a:lnTo>
                <a:lnTo>
                  <a:pt x="1278" y="574"/>
                </a:lnTo>
                <a:lnTo>
                  <a:pt x="1278" y="551"/>
                </a:lnTo>
                <a:lnTo>
                  <a:pt x="1278" y="530"/>
                </a:lnTo>
                <a:lnTo>
                  <a:pt x="1278" y="509"/>
                </a:lnTo>
                <a:lnTo>
                  <a:pt x="1278" y="488"/>
                </a:lnTo>
                <a:lnTo>
                  <a:pt x="1276" y="468"/>
                </a:lnTo>
                <a:lnTo>
                  <a:pt x="1276" y="449"/>
                </a:lnTo>
                <a:lnTo>
                  <a:pt x="1276" y="430"/>
                </a:lnTo>
                <a:lnTo>
                  <a:pt x="1274" y="413"/>
                </a:lnTo>
                <a:lnTo>
                  <a:pt x="1274" y="395"/>
                </a:lnTo>
                <a:lnTo>
                  <a:pt x="1274" y="378"/>
                </a:lnTo>
                <a:lnTo>
                  <a:pt x="1272" y="363"/>
                </a:lnTo>
                <a:lnTo>
                  <a:pt x="1272" y="347"/>
                </a:lnTo>
                <a:lnTo>
                  <a:pt x="1271" y="334"/>
                </a:lnTo>
                <a:lnTo>
                  <a:pt x="1271" y="319"/>
                </a:lnTo>
                <a:lnTo>
                  <a:pt x="1269" y="305"/>
                </a:lnTo>
                <a:lnTo>
                  <a:pt x="1269" y="294"/>
                </a:lnTo>
                <a:lnTo>
                  <a:pt x="1267" y="280"/>
                </a:lnTo>
                <a:lnTo>
                  <a:pt x="1265" y="269"/>
                </a:lnTo>
                <a:lnTo>
                  <a:pt x="1265" y="259"/>
                </a:lnTo>
                <a:lnTo>
                  <a:pt x="1263" y="250"/>
                </a:lnTo>
                <a:lnTo>
                  <a:pt x="1263" y="240"/>
                </a:lnTo>
                <a:lnTo>
                  <a:pt x="1261" y="230"/>
                </a:lnTo>
                <a:lnTo>
                  <a:pt x="1259" y="223"/>
                </a:lnTo>
                <a:lnTo>
                  <a:pt x="1259" y="215"/>
                </a:lnTo>
                <a:lnTo>
                  <a:pt x="1257" y="207"/>
                </a:lnTo>
                <a:lnTo>
                  <a:pt x="1255" y="202"/>
                </a:lnTo>
                <a:lnTo>
                  <a:pt x="1255" y="196"/>
                </a:lnTo>
                <a:lnTo>
                  <a:pt x="1253" y="190"/>
                </a:lnTo>
                <a:lnTo>
                  <a:pt x="1251" y="186"/>
                </a:lnTo>
                <a:lnTo>
                  <a:pt x="1251" y="182"/>
                </a:lnTo>
                <a:lnTo>
                  <a:pt x="1240" y="175"/>
                </a:lnTo>
                <a:lnTo>
                  <a:pt x="1228" y="167"/>
                </a:lnTo>
                <a:lnTo>
                  <a:pt x="1215" y="159"/>
                </a:lnTo>
                <a:lnTo>
                  <a:pt x="1201" y="156"/>
                </a:lnTo>
                <a:lnTo>
                  <a:pt x="1186" y="152"/>
                </a:lnTo>
                <a:lnTo>
                  <a:pt x="1173" y="148"/>
                </a:lnTo>
                <a:lnTo>
                  <a:pt x="1157" y="146"/>
                </a:lnTo>
                <a:lnTo>
                  <a:pt x="1142" y="146"/>
                </a:lnTo>
                <a:lnTo>
                  <a:pt x="1136" y="146"/>
                </a:lnTo>
                <a:lnTo>
                  <a:pt x="1129" y="146"/>
                </a:lnTo>
                <a:lnTo>
                  <a:pt x="1123" y="146"/>
                </a:lnTo>
                <a:lnTo>
                  <a:pt x="1115" y="146"/>
                </a:lnTo>
                <a:lnTo>
                  <a:pt x="1105" y="146"/>
                </a:lnTo>
                <a:lnTo>
                  <a:pt x="1098" y="148"/>
                </a:lnTo>
                <a:lnTo>
                  <a:pt x="1086" y="148"/>
                </a:lnTo>
                <a:lnTo>
                  <a:pt x="1077" y="148"/>
                </a:lnTo>
                <a:lnTo>
                  <a:pt x="1065" y="150"/>
                </a:lnTo>
                <a:lnTo>
                  <a:pt x="1052" y="150"/>
                </a:lnTo>
                <a:lnTo>
                  <a:pt x="1040" y="150"/>
                </a:lnTo>
                <a:lnTo>
                  <a:pt x="1027" y="152"/>
                </a:lnTo>
                <a:lnTo>
                  <a:pt x="1011" y="152"/>
                </a:lnTo>
                <a:lnTo>
                  <a:pt x="996" y="154"/>
                </a:lnTo>
                <a:lnTo>
                  <a:pt x="981" y="156"/>
                </a:lnTo>
                <a:lnTo>
                  <a:pt x="963" y="156"/>
                </a:lnTo>
                <a:lnTo>
                  <a:pt x="946" y="157"/>
                </a:lnTo>
                <a:lnTo>
                  <a:pt x="929" y="159"/>
                </a:lnTo>
                <a:lnTo>
                  <a:pt x="910" y="161"/>
                </a:lnTo>
                <a:lnTo>
                  <a:pt x="889" y="163"/>
                </a:lnTo>
                <a:lnTo>
                  <a:pt x="869" y="165"/>
                </a:lnTo>
                <a:lnTo>
                  <a:pt x="846" y="167"/>
                </a:lnTo>
                <a:lnTo>
                  <a:pt x="825" y="169"/>
                </a:lnTo>
                <a:lnTo>
                  <a:pt x="802" y="171"/>
                </a:lnTo>
                <a:lnTo>
                  <a:pt x="779" y="173"/>
                </a:lnTo>
                <a:lnTo>
                  <a:pt x="754" y="177"/>
                </a:lnTo>
                <a:lnTo>
                  <a:pt x="729" y="179"/>
                </a:lnTo>
                <a:lnTo>
                  <a:pt x="702" y="182"/>
                </a:lnTo>
                <a:lnTo>
                  <a:pt x="676" y="184"/>
                </a:lnTo>
                <a:lnTo>
                  <a:pt x="649" y="188"/>
                </a:lnTo>
                <a:lnTo>
                  <a:pt x="620" y="192"/>
                </a:lnTo>
                <a:lnTo>
                  <a:pt x="591" y="194"/>
                </a:lnTo>
                <a:lnTo>
                  <a:pt x="560" y="198"/>
                </a:lnTo>
                <a:lnTo>
                  <a:pt x="533" y="202"/>
                </a:lnTo>
                <a:lnTo>
                  <a:pt x="505" y="205"/>
                </a:lnTo>
                <a:lnTo>
                  <a:pt x="478" y="207"/>
                </a:lnTo>
                <a:lnTo>
                  <a:pt x="451" y="211"/>
                </a:lnTo>
                <a:lnTo>
                  <a:pt x="424" y="213"/>
                </a:lnTo>
                <a:lnTo>
                  <a:pt x="399" y="217"/>
                </a:lnTo>
                <a:lnTo>
                  <a:pt x="374" y="219"/>
                </a:lnTo>
                <a:lnTo>
                  <a:pt x="351" y="223"/>
                </a:lnTo>
                <a:lnTo>
                  <a:pt x="326" y="225"/>
                </a:lnTo>
                <a:lnTo>
                  <a:pt x="305" y="227"/>
                </a:lnTo>
                <a:lnTo>
                  <a:pt x="282" y="230"/>
                </a:lnTo>
                <a:lnTo>
                  <a:pt x="261" y="232"/>
                </a:lnTo>
                <a:lnTo>
                  <a:pt x="242" y="234"/>
                </a:lnTo>
                <a:lnTo>
                  <a:pt x="221" y="236"/>
                </a:lnTo>
                <a:lnTo>
                  <a:pt x="201" y="238"/>
                </a:lnTo>
                <a:lnTo>
                  <a:pt x="184" y="240"/>
                </a:lnTo>
                <a:lnTo>
                  <a:pt x="167" y="240"/>
                </a:lnTo>
                <a:lnTo>
                  <a:pt x="150" y="242"/>
                </a:lnTo>
                <a:lnTo>
                  <a:pt x="132" y="244"/>
                </a:lnTo>
                <a:lnTo>
                  <a:pt x="117" y="244"/>
                </a:lnTo>
                <a:lnTo>
                  <a:pt x="104" y="246"/>
                </a:lnTo>
                <a:lnTo>
                  <a:pt x="88" y="246"/>
                </a:lnTo>
                <a:lnTo>
                  <a:pt x="77" y="246"/>
                </a:lnTo>
                <a:lnTo>
                  <a:pt x="63" y="246"/>
                </a:lnTo>
                <a:lnTo>
                  <a:pt x="52" y="246"/>
                </a:lnTo>
                <a:lnTo>
                  <a:pt x="40" y="246"/>
                </a:lnTo>
                <a:lnTo>
                  <a:pt x="31" y="246"/>
                </a:lnTo>
                <a:lnTo>
                  <a:pt x="21" y="246"/>
                </a:lnTo>
                <a:lnTo>
                  <a:pt x="13" y="246"/>
                </a:lnTo>
                <a:lnTo>
                  <a:pt x="6" y="244"/>
                </a:lnTo>
                <a:lnTo>
                  <a:pt x="0" y="244"/>
                </a:lnTo>
                <a:lnTo>
                  <a:pt x="0" y="202"/>
                </a:lnTo>
                <a:lnTo>
                  <a:pt x="0" y="157"/>
                </a:lnTo>
                <a:lnTo>
                  <a:pt x="33" y="157"/>
                </a:lnTo>
                <a:lnTo>
                  <a:pt x="69" y="157"/>
                </a:lnTo>
                <a:lnTo>
                  <a:pt x="105" y="156"/>
                </a:lnTo>
                <a:lnTo>
                  <a:pt x="144" y="154"/>
                </a:lnTo>
                <a:lnTo>
                  <a:pt x="184" y="152"/>
                </a:lnTo>
                <a:lnTo>
                  <a:pt x="224" y="148"/>
                </a:lnTo>
                <a:lnTo>
                  <a:pt x="267" y="146"/>
                </a:lnTo>
                <a:lnTo>
                  <a:pt x="311" y="142"/>
                </a:lnTo>
                <a:lnTo>
                  <a:pt x="355" y="138"/>
                </a:lnTo>
                <a:lnTo>
                  <a:pt x="403" y="133"/>
                </a:lnTo>
                <a:lnTo>
                  <a:pt x="451" y="129"/>
                </a:lnTo>
                <a:lnTo>
                  <a:pt x="501" y="123"/>
                </a:lnTo>
                <a:lnTo>
                  <a:pt x="551" y="117"/>
                </a:lnTo>
                <a:lnTo>
                  <a:pt x="604" y="111"/>
                </a:lnTo>
                <a:lnTo>
                  <a:pt x="658" y="104"/>
                </a:lnTo>
                <a:lnTo>
                  <a:pt x="714" y="98"/>
                </a:lnTo>
                <a:lnTo>
                  <a:pt x="741" y="94"/>
                </a:lnTo>
                <a:lnTo>
                  <a:pt x="768" y="90"/>
                </a:lnTo>
                <a:lnTo>
                  <a:pt x="793" y="88"/>
                </a:lnTo>
                <a:lnTo>
                  <a:pt x="818" y="85"/>
                </a:lnTo>
                <a:lnTo>
                  <a:pt x="841" y="81"/>
                </a:lnTo>
                <a:lnTo>
                  <a:pt x="864" y="79"/>
                </a:lnTo>
                <a:lnTo>
                  <a:pt x="887" y="75"/>
                </a:lnTo>
                <a:lnTo>
                  <a:pt x="908" y="73"/>
                </a:lnTo>
                <a:lnTo>
                  <a:pt x="929" y="69"/>
                </a:lnTo>
                <a:lnTo>
                  <a:pt x="948" y="67"/>
                </a:lnTo>
                <a:lnTo>
                  <a:pt x="967" y="63"/>
                </a:lnTo>
                <a:lnTo>
                  <a:pt x="986" y="61"/>
                </a:lnTo>
                <a:lnTo>
                  <a:pt x="1004" y="60"/>
                </a:lnTo>
                <a:lnTo>
                  <a:pt x="1021" y="56"/>
                </a:lnTo>
                <a:lnTo>
                  <a:pt x="1036" y="54"/>
                </a:lnTo>
                <a:lnTo>
                  <a:pt x="1052" y="52"/>
                </a:lnTo>
                <a:lnTo>
                  <a:pt x="1065" y="50"/>
                </a:lnTo>
                <a:lnTo>
                  <a:pt x="1079" y="48"/>
                </a:lnTo>
                <a:lnTo>
                  <a:pt x="1092" y="46"/>
                </a:lnTo>
                <a:lnTo>
                  <a:pt x="1104" y="44"/>
                </a:lnTo>
                <a:lnTo>
                  <a:pt x="1115" y="42"/>
                </a:lnTo>
                <a:lnTo>
                  <a:pt x="1127" y="40"/>
                </a:lnTo>
                <a:lnTo>
                  <a:pt x="1136" y="38"/>
                </a:lnTo>
                <a:lnTo>
                  <a:pt x="1144" y="37"/>
                </a:lnTo>
                <a:lnTo>
                  <a:pt x="1152" y="35"/>
                </a:lnTo>
                <a:lnTo>
                  <a:pt x="1159" y="33"/>
                </a:lnTo>
                <a:lnTo>
                  <a:pt x="1165" y="31"/>
                </a:lnTo>
                <a:lnTo>
                  <a:pt x="1171" y="29"/>
                </a:lnTo>
                <a:lnTo>
                  <a:pt x="1175" y="29"/>
                </a:lnTo>
                <a:lnTo>
                  <a:pt x="1178" y="27"/>
                </a:lnTo>
                <a:lnTo>
                  <a:pt x="1180" y="25"/>
                </a:lnTo>
                <a:lnTo>
                  <a:pt x="1182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211"/>
          <p:cNvSpPr/>
          <p:nvPr/>
        </p:nvSpPr>
        <p:spPr>
          <a:xfrm>
            <a:off x="7085160" y="2982960"/>
            <a:ext cx="612720" cy="338040"/>
          </a:xfrm>
          <a:custGeom>
            <a:avLst/>
            <a:gdLst/>
            <a:ahLst/>
            <a:rect l="l" t="t" r="r" b="b"/>
            <a:pathLst>
              <a:path w="772" h="426">
                <a:moveTo>
                  <a:pt x="524" y="426"/>
                </a:moveTo>
                <a:lnTo>
                  <a:pt x="482" y="426"/>
                </a:lnTo>
                <a:lnTo>
                  <a:pt x="442" y="426"/>
                </a:lnTo>
                <a:lnTo>
                  <a:pt x="444" y="408"/>
                </a:lnTo>
                <a:lnTo>
                  <a:pt x="446" y="391"/>
                </a:lnTo>
                <a:lnTo>
                  <a:pt x="450" y="376"/>
                </a:lnTo>
                <a:lnTo>
                  <a:pt x="452" y="360"/>
                </a:lnTo>
                <a:lnTo>
                  <a:pt x="453" y="345"/>
                </a:lnTo>
                <a:lnTo>
                  <a:pt x="455" y="332"/>
                </a:lnTo>
                <a:lnTo>
                  <a:pt x="457" y="318"/>
                </a:lnTo>
                <a:lnTo>
                  <a:pt x="459" y="305"/>
                </a:lnTo>
                <a:lnTo>
                  <a:pt x="461" y="291"/>
                </a:lnTo>
                <a:lnTo>
                  <a:pt x="463" y="278"/>
                </a:lnTo>
                <a:lnTo>
                  <a:pt x="465" y="266"/>
                </a:lnTo>
                <a:lnTo>
                  <a:pt x="465" y="255"/>
                </a:lnTo>
                <a:lnTo>
                  <a:pt x="467" y="245"/>
                </a:lnTo>
                <a:lnTo>
                  <a:pt x="469" y="234"/>
                </a:lnTo>
                <a:lnTo>
                  <a:pt x="469" y="224"/>
                </a:lnTo>
                <a:lnTo>
                  <a:pt x="471" y="215"/>
                </a:lnTo>
                <a:lnTo>
                  <a:pt x="471" y="207"/>
                </a:lnTo>
                <a:lnTo>
                  <a:pt x="473" y="197"/>
                </a:lnTo>
                <a:lnTo>
                  <a:pt x="473" y="190"/>
                </a:lnTo>
                <a:lnTo>
                  <a:pt x="473" y="182"/>
                </a:lnTo>
                <a:lnTo>
                  <a:pt x="473" y="176"/>
                </a:lnTo>
                <a:lnTo>
                  <a:pt x="475" y="170"/>
                </a:lnTo>
                <a:lnTo>
                  <a:pt x="475" y="163"/>
                </a:lnTo>
                <a:lnTo>
                  <a:pt x="475" y="159"/>
                </a:lnTo>
                <a:lnTo>
                  <a:pt x="475" y="153"/>
                </a:lnTo>
                <a:lnTo>
                  <a:pt x="475" y="149"/>
                </a:lnTo>
                <a:lnTo>
                  <a:pt x="473" y="146"/>
                </a:lnTo>
                <a:lnTo>
                  <a:pt x="473" y="142"/>
                </a:lnTo>
                <a:lnTo>
                  <a:pt x="473" y="140"/>
                </a:lnTo>
                <a:lnTo>
                  <a:pt x="471" y="136"/>
                </a:lnTo>
                <a:lnTo>
                  <a:pt x="471" y="134"/>
                </a:lnTo>
                <a:lnTo>
                  <a:pt x="469" y="134"/>
                </a:lnTo>
                <a:lnTo>
                  <a:pt x="467" y="132"/>
                </a:lnTo>
                <a:lnTo>
                  <a:pt x="465" y="132"/>
                </a:lnTo>
                <a:lnTo>
                  <a:pt x="461" y="130"/>
                </a:lnTo>
                <a:lnTo>
                  <a:pt x="457" y="130"/>
                </a:lnTo>
                <a:lnTo>
                  <a:pt x="452" y="130"/>
                </a:lnTo>
                <a:lnTo>
                  <a:pt x="446" y="130"/>
                </a:lnTo>
                <a:lnTo>
                  <a:pt x="440" y="130"/>
                </a:lnTo>
                <a:lnTo>
                  <a:pt x="432" y="130"/>
                </a:lnTo>
                <a:lnTo>
                  <a:pt x="425" y="130"/>
                </a:lnTo>
                <a:lnTo>
                  <a:pt x="415" y="132"/>
                </a:lnTo>
                <a:lnTo>
                  <a:pt x="405" y="132"/>
                </a:lnTo>
                <a:lnTo>
                  <a:pt x="396" y="134"/>
                </a:lnTo>
                <a:lnTo>
                  <a:pt x="384" y="134"/>
                </a:lnTo>
                <a:lnTo>
                  <a:pt x="373" y="136"/>
                </a:lnTo>
                <a:lnTo>
                  <a:pt x="359" y="138"/>
                </a:lnTo>
                <a:lnTo>
                  <a:pt x="346" y="140"/>
                </a:lnTo>
                <a:lnTo>
                  <a:pt x="333" y="142"/>
                </a:lnTo>
                <a:lnTo>
                  <a:pt x="317" y="144"/>
                </a:lnTo>
                <a:lnTo>
                  <a:pt x="302" y="146"/>
                </a:lnTo>
                <a:lnTo>
                  <a:pt x="285" y="147"/>
                </a:lnTo>
                <a:lnTo>
                  <a:pt x="267" y="149"/>
                </a:lnTo>
                <a:lnTo>
                  <a:pt x="250" y="151"/>
                </a:lnTo>
                <a:lnTo>
                  <a:pt x="231" y="155"/>
                </a:lnTo>
                <a:lnTo>
                  <a:pt x="212" y="157"/>
                </a:lnTo>
                <a:lnTo>
                  <a:pt x="190" y="159"/>
                </a:lnTo>
                <a:lnTo>
                  <a:pt x="169" y="163"/>
                </a:lnTo>
                <a:lnTo>
                  <a:pt x="148" y="165"/>
                </a:lnTo>
                <a:lnTo>
                  <a:pt x="125" y="169"/>
                </a:lnTo>
                <a:lnTo>
                  <a:pt x="102" y="172"/>
                </a:lnTo>
                <a:lnTo>
                  <a:pt x="79" y="174"/>
                </a:lnTo>
                <a:lnTo>
                  <a:pt x="54" y="178"/>
                </a:lnTo>
                <a:lnTo>
                  <a:pt x="29" y="182"/>
                </a:lnTo>
                <a:lnTo>
                  <a:pt x="14" y="128"/>
                </a:lnTo>
                <a:lnTo>
                  <a:pt x="0" y="73"/>
                </a:lnTo>
                <a:lnTo>
                  <a:pt x="29" y="73"/>
                </a:lnTo>
                <a:lnTo>
                  <a:pt x="56" y="73"/>
                </a:lnTo>
                <a:lnTo>
                  <a:pt x="81" y="71"/>
                </a:lnTo>
                <a:lnTo>
                  <a:pt x="108" y="71"/>
                </a:lnTo>
                <a:lnTo>
                  <a:pt x="131" y="69"/>
                </a:lnTo>
                <a:lnTo>
                  <a:pt x="156" y="67"/>
                </a:lnTo>
                <a:lnTo>
                  <a:pt x="179" y="65"/>
                </a:lnTo>
                <a:lnTo>
                  <a:pt x="200" y="63"/>
                </a:lnTo>
                <a:lnTo>
                  <a:pt x="221" y="61"/>
                </a:lnTo>
                <a:lnTo>
                  <a:pt x="242" y="59"/>
                </a:lnTo>
                <a:lnTo>
                  <a:pt x="263" y="55"/>
                </a:lnTo>
                <a:lnTo>
                  <a:pt x="283" y="51"/>
                </a:lnTo>
                <a:lnTo>
                  <a:pt x="304" y="50"/>
                </a:lnTo>
                <a:lnTo>
                  <a:pt x="321" y="46"/>
                </a:lnTo>
                <a:lnTo>
                  <a:pt x="359" y="36"/>
                </a:lnTo>
                <a:lnTo>
                  <a:pt x="373" y="32"/>
                </a:lnTo>
                <a:lnTo>
                  <a:pt x="388" y="27"/>
                </a:lnTo>
                <a:lnTo>
                  <a:pt x="402" y="23"/>
                </a:lnTo>
                <a:lnTo>
                  <a:pt x="415" y="21"/>
                </a:lnTo>
                <a:lnTo>
                  <a:pt x="427" y="17"/>
                </a:lnTo>
                <a:lnTo>
                  <a:pt x="440" y="13"/>
                </a:lnTo>
                <a:lnTo>
                  <a:pt x="450" y="11"/>
                </a:lnTo>
                <a:lnTo>
                  <a:pt x="459" y="9"/>
                </a:lnTo>
                <a:lnTo>
                  <a:pt x="469" y="7"/>
                </a:lnTo>
                <a:lnTo>
                  <a:pt x="478" y="5"/>
                </a:lnTo>
                <a:lnTo>
                  <a:pt x="486" y="3"/>
                </a:lnTo>
                <a:lnTo>
                  <a:pt x="492" y="2"/>
                </a:lnTo>
                <a:lnTo>
                  <a:pt x="498" y="2"/>
                </a:lnTo>
                <a:lnTo>
                  <a:pt x="503" y="0"/>
                </a:lnTo>
                <a:lnTo>
                  <a:pt x="507" y="0"/>
                </a:lnTo>
                <a:lnTo>
                  <a:pt x="511" y="0"/>
                </a:lnTo>
                <a:lnTo>
                  <a:pt x="513" y="0"/>
                </a:lnTo>
                <a:lnTo>
                  <a:pt x="517" y="2"/>
                </a:lnTo>
                <a:lnTo>
                  <a:pt x="523" y="2"/>
                </a:lnTo>
                <a:lnTo>
                  <a:pt x="528" y="3"/>
                </a:lnTo>
                <a:lnTo>
                  <a:pt x="534" y="7"/>
                </a:lnTo>
                <a:lnTo>
                  <a:pt x="542" y="9"/>
                </a:lnTo>
                <a:lnTo>
                  <a:pt x="549" y="13"/>
                </a:lnTo>
                <a:lnTo>
                  <a:pt x="559" y="17"/>
                </a:lnTo>
                <a:lnTo>
                  <a:pt x="569" y="21"/>
                </a:lnTo>
                <a:lnTo>
                  <a:pt x="578" y="25"/>
                </a:lnTo>
                <a:lnTo>
                  <a:pt x="588" y="30"/>
                </a:lnTo>
                <a:lnTo>
                  <a:pt x="599" y="36"/>
                </a:lnTo>
                <a:lnTo>
                  <a:pt x="622" y="48"/>
                </a:lnTo>
                <a:lnTo>
                  <a:pt x="647" y="61"/>
                </a:lnTo>
                <a:lnTo>
                  <a:pt x="661" y="67"/>
                </a:lnTo>
                <a:lnTo>
                  <a:pt x="672" y="74"/>
                </a:lnTo>
                <a:lnTo>
                  <a:pt x="684" y="80"/>
                </a:lnTo>
                <a:lnTo>
                  <a:pt x="693" y="88"/>
                </a:lnTo>
                <a:lnTo>
                  <a:pt x="705" y="94"/>
                </a:lnTo>
                <a:lnTo>
                  <a:pt x="713" y="101"/>
                </a:lnTo>
                <a:lnTo>
                  <a:pt x="722" y="107"/>
                </a:lnTo>
                <a:lnTo>
                  <a:pt x="730" y="113"/>
                </a:lnTo>
                <a:lnTo>
                  <a:pt x="737" y="119"/>
                </a:lnTo>
                <a:lnTo>
                  <a:pt x="745" y="122"/>
                </a:lnTo>
                <a:lnTo>
                  <a:pt x="751" y="128"/>
                </a:lnTo>
                <a:lnTo>
                  <a:pt x="757" y="132"/>
                </a:lnTo>
                <a:lnTo>
                  <a:pt x="761" y="136"/>
                </a:lnTo>
                <a:lnTo>
                  <a:pt x="764" y="140"/>
                </a:lnTo>
                <a:lnTo>
                  <a:pt x="768" y="144"/>
                </a:lnTo>
                <a:lnTo>
                  <a:pt x="772" y="146"/>
                </a:lnTo>
                <a:lnTo>
                  <a:pt x="772" y="149"/>
                </a:lnTo>
                <a:lnTo>
                  <a:pt x="770" y="153"/>
                </a:lnTo>
                <a:lnTo>
                  <a:pt x="768" y="157"/>
                </a:lnTo>
                <a:lnTo>
                  <a:pt x="766" y="161"/>
                </a:lnTo>
                <a:lnTo>
                  <a:pt x="764" y="165"/>
                </a:lnTo>
                <a:lnTo>
                  <a:pt x="761" y="169"/>
                </a:lnTo>
                <a:lnTo>
                  <a:pt x="757" y="170"/>
                </a:lnTo>
                <a:lnTo>
                  <a:pt x="753" y="172"/>
                </a:lnTo>
                <a:lnTo>
                  <a:pt x="747" y="174"/>
                </a:lnTo>
                <a:lnTo>
                  <a:pt x="743" y="176"/>
                </a:lnTo>
                <a:lnTo>
                  <a:pt x="730" y="180"/>
                </a:lnTo>
                <a:lnTo>
                  <a:pt x="716" y="182"/>
                </a:lnTo>
                <a:lnTo>
                  <a:pt x="703" y="182"/>
                </a:lnTo>
                <a:lnTo>
                  <a:pt x="695" y="186"/>
                </a:lnTo>
                <a:lnTo>
                  <a:pt x="686" y="190"/>
                </a:lnTo>
                <a:lnTo>
                  <a:pt x="676" y="195"/>
                </a:lnTo>
                <a:lnTo>
                  <a:pt x="666" y="203"/>
                </a:lnTo>
                <a:lnTo>
                  <a:pt x="657" y="213"/>
                </a:lnTo>
                <a:lnTo>
                  <a:pt x="645" y="222"/>
                </a:lnTo>
                <a:lnTo>
                  <a:pt x="634" y="234"/>
                </a:lnTo>
                <a:lnTo>
                  <a:pt x="622" y="249"/>
                </a:lnTo>
                <a:lnTo>
                  <a:pt x="611" y="265"/>
                </a:lnTo>
                <a:lnTo>
                  <a:pt x="599" y="282"/>
                </a:lnTo>
                <a:lnTo>
                  <a:pt x="588" y="301"/>
                </a:lnTo>
                <a:lnTo>
                  <a:pt x="574" y="322"/>
                </a:lnTo>
                <a:lnTo>
                  <a:pt x="563" y="345"/>
                </a:lnTo>
                <a:lnTo>
                  <a:pt x="555" y="357"/>
                </a:lnTo>
                <a:lnTo>
                  <a:pt x="549" y="370"/>
                </a:lnTo>
                <a:lnTo>
                  <a:pt x="544" y="382"/>
                </a:lnTo>
                <a:lnTo>
                  <a:pt x="536" y="397"/>
                </a:lnTo>
                <a:lnTo>
                  <a:pt x="530" y="410"/>
                </a:lnTo>
                <a:lnTo>
                  <a:pt x="524" y="4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212"/>
          <p:cNvSpPr/>
          <p:nvPr/>
        </p:nvSpPr>
        <p:spPr>
          <a:xfrm>
            <a:off x="7149960" y="3278160"/>
            <a:ext cx="436680" cy="128520"/>
          </a:xfrm>
          <a:custGeom>
            <a:avLst/>
            <a:gdLst/>
            <a:ahLst/>
            <a:rect l="l" t="t" r="r" b="b"/>
            <a:pathLst>
              <a:path w="551" h="161">
                <a:moveTo>
                  <a:pt x="248" y="40"/>
                </a:moveTo>
                <a:lnTo>
                  <a:pt x="330" y="23"/>
                </a:lnTo>
                <a:lnTo>
                  <a:pt x="413" y="4"/>
                </a:lnTo>
                <a:lnTo>
                  <a:pt x="424" y="2"/>
                </a:lnTo>
                <a:lnTo>
                  <a:pt x="434" y="0"/>
                </a:lnTo>
                <a:lnTo>
                  <a:pt x="443" y="0"/>
                </a:lnTo>
                <a:lnTo>
                  <a:pt x="451" y="0"/>
                </a:lnTo>
                <a:lnTo>
                  <a:pt x="461" y="0"/>
                </a:lnTo>
                <a:lnTo>
                  <a:pt x="468" y="0"/>
                </a:lnTo>
                <a:lnTo>
                  <a:pt x="476" y="0"/>
                </a:lnTo>
                <a:lnTo>
                  <a:pt x="484" y="2"/>
                </a:lnTo>
                <a:lnTo>
                  <a:pt x="491" y="4"/>
                </a:lnTo>
                <a:lnTo>
                  <a:pt x="497" y="6"/>
                </a:lnTo>
                <a:lnTo>
                  <a:pt x="503" y="10"/>
                </a:lnTo>
                <a:lnTo>
                  <a:pt x="509" y="13"/>
                </a:lnTo>
                <a:lnTo>
                  <a:pt x="512" y="15"/>
                </a:lnTo>
                <a:lnTo>
                  <a:pt x="516" y="19"/>
                </a:lnTo>
                <a:lnTo>
                  <a:pt x="520" y="23"/>
                </a:lnTo>
                <a:lnTo>
                  <a:pt x="524" y="29"/>
                </a:lnTo>
                <a:lnTo>
                  <a:pt x="528" y="36"/>
                </a:lnTo>
                <a:lnTo>
                  <a:pt x="534" y="44"/>
                </a:lnTo>
                <a:lnTo>
                  <a:pt x="537" y="52"/>
                </a:lnTo>
                <a:lnTo>
                  <a:pt x="543" y="58"/>
                </a:lnTo>
                <a:lnTo>
                  <a:pt x="545" y="63"/>
                </a:lnTo>
                <a:lnTo>
                  <a:pt x="549" y="67"/>
                </a:lnTo>
                <a:lnTo>
                  <a:pt x="551" y="73"/>
                </a:lnTo>
                <a:lnTo>
                  <a:pt x="551" y="77"/>
                </a:lnTo>
                <a:lnTo>
                  <a:pt x="551" y="79"/>
                </a:lnTo>
                <a:lnTo>
                  <a:pt x="549" y="79"/>
                </a:lnTo>
                <a:lnTo>
                  <a:pt x="547" y="81"/>
                </a:lnTo>
                <a:lnTo>
                  <a:pt x="543" y="83"/>
                </a:lnTo>
                <a:lnTo>
                  <a:pt x="537" y="84"/>
                </a:lnTo>
                <a:lnTo>
                  <a:pt x="532" y="86"/>
                </a:lnTo>
                <a:lnTo>
                  <a:pt x="526" y="88"/>
                </a:lnTo>
                <a:lnTo>
                  <a:pt x="516" y="90"/>
                </a:lnTo>
                <a:lnTo>
                  <a:pt x="509" y="92"/>
                </a:lnTo>
                <a:lnTo>
                  <a:pt x="497" y="94"/>
                </a:lnTo>
                <a:lnTo>
                  <a:pt x="488" y="96"/>
                </a:lnTo>
                <a:lnTo>
                  <a:pt x="474" y="100"/>
                </a:lnTo>
                <a:lnTo>
                  <a:pt x="461" y="102"/>
                </a:lnTo>
                <a:lnTo>
                  <a:pt x="447" y="104"/>
                </a:lnTo>
                <a:lnTo>
                  <a:pt x="432" y="107"/>
                </a:lnTo>
                <a:lnTo>
                  <a:pt x="415" y="109"/>
                </a:lnTo>
                <a:lnTo>
                  <a:pt x="397" y="113"/>
                </a:lnTo>
                <a:lnTo>
                  <a:pt x="378" y="115"/>
                </a:lnTo>
                <a:lnTo>
                  <a:pt x="359" y="119"/>
                </a:lnTo>
                <a:lnTo>
                  <a:pt x="338" y="121"/>
                </a:lnTo>
                <a:lnTo>
                  <a:pt x="317" y="125"/>
                </a:lnTo>
                <a:lnTo>
                  <a:pt x="294" y="129"/>
                </a:lnTo>
                <a:lnTo>
                  <a:pt x="269" y="131"/>
                </a:lnTo>
                <a:lnTo>
                  <a:pt x="244" y="134"/>
                </a:lnTo>
                <a:lnTo>
                  <a:pt x="217" y="138"/>
                </a:lnTo>
                <a:lnTo>
                  <a:pt x="190" y="142"/>
                </a:lnTo>
                <a:lnTo>
                  <a:pt x="161" y="144"/>
                </a:lnTo>
                <a:lnTo>
                  <a:pt x="130" y="148"/>
                </a:lnTo>
                <a:lnTo>
                  <a:pt x="100" y="152"/>
                </a:lnTo>
                <a:lnTo>
                  <a:pt x="67" y="155"/>
                </a:lnTo>
                <a:lnTo>
                  <a:pt x="35" y="157"/>
                </a:lnTo>
                <a:lnTo>
                  <a:pt x="0" y="161"/>
                </a:lnTo>
                <a:lnTo>
                  <a:pt x="0" y="113"/>
                </a:lnTo>
                <a:lnTo>
                  <a:pt x="0" y="65"/>
                </a:lnTo>
                <a:lnTo>
                  <a:pt x="21" y="63"/>
                </a:lnTo>
                <a:lnTo>
                  <a:pt x="40" y="61"/>
                </a:lnTo>
                <a:lnTo>
                  <a:pt x="59" y="60"/>
                </a:lnTo>
                <a:lnTo>
                  <a:pt x="79" y="58"/>
                </a:lnTo>
                <a:lnTo>
                  <a:pt x="96" y="56"/>
                </a:lnTo>
                <a:lnTo>
                  <a:pt x="113" y="56"/>
                </a:lnTo>
                <a:lnTo>
                  <a:pt x="129" y="54"/>
                </a:lnTo>
                <a:lnTo>
                  <a:pt x="146" y="52"/>
                </a:lnTo>
                <a:lnTo>
                  <a:pt x="159" y="52"/>
                </a:lnTo>
                <a:lnTo>
                  <a:pt x="175" y="50"/>
                </a:lnTo>
                <a:lnTo>
                  <a:pt x="188" y="50"/>
                </a:lnTo>
                <a:lnTo>
                  <a:pt x="202" y="48"/>
                </a:lnTo>
                <a:lnTo>
                  <a:pt x="215" y="46"/>
                </a:lnTo>
                <a:lnTo>
                  <a:pt x="226" y="44"/>
                </a:lnTo>
                <a:lnTo>
                  <a:pt x="238" y="42"/>
                </a:lnTo>
                <a:lnTo>
                  <a:pt x="248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213"/>
          <p:cNvSpPr/>
          <p:nvPr/>
        </p:nvSpPr>
        <p:spPr>
          <a:xfrm>
            <a:off x="7031160" y="3027240"/>
            <a:ext cx="141120" cy="427320"/>
          </a:xfrm>
          <a:custGeom>
            <a:avLst/>
            <a:gdLst/>
            <a:ahLst/>
            <a:rect l="l" t="t" r="r" b="b"/>
            <a:pathLst>
              <a:path w="179" h="540">
                <a:moveTo>
                  <a:pt x="27" y="127"/>
                </a:moveTo>
                <a:lnTo>
                  <a:pt x="21" y="123"/>
                </a:lnTo>
                <a:lnTo>
                  <a:pt x="18" y="117"/>
                </a:lnTo>
                <a:lnTo>
                  <a:pt x="12" y="112"/>
                </a:lnTo>
                <a:lnTo>
                  <a:pt x="8" y="106"/>
                </a:lnTo>
                <a:lnTo>
                  <a:pt x="4" y="98"/>
                </a:lnTo>
                <a:lnTo>
                  <a:pt x="2" y="89"/>
                </a:lnTo>
                <a:lnTo>
                  <a:pt x="0" y="85"/>
                </a:lnTo>
                <a:lnTo>
                  <a:pt x="0" y="79"/>
                </a:lnTo>
                <a:lnTo>
                  <a:pt x="0" y="73"/>
                </a:lnTo>
                <a:lnTo>
                  <a:pt x="0" y="66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2" y="43"/>
                </a:lnTo>
                <a:lnTo>
                  <a:pt x="4" y="35"/>
                </a:lnTo>
                <a:lnTo>
                  <a:pt x="8" y="27"/>
                </a:lnTo>
                <a:lnTo>
                  <a:pt x="12" y="19"/>
                </a:lnTo>
                <a:lnTo>
                  <a:pt x="18" y="16"/>
                </a:lnTo>
                <a:lnTo>
                  <a:pt x="21" y="10"/>
                </a:lnTo>
                <a:lnTo>
                  <a:pt x="27" y="6"/>
                </a:lnTo>
                <a:lnTo>
                  <a:pt x="29" y="4"/>
                </a:lnTo>
                <a:lnTo>
                  <a:pt x="33" y="2"/>
                </a:lnTo>
                <a:lnTo>
                  <a:pt x="37" y="0"/>
                </a:lnTo>
                <a:lnTo>
                  <a:pt x="42" y="0"/>
                </a:lnTo>
                <a:lnTo>
                  <a:pt x="48" y="0"/>
                </a:lnTo>
                <a:lnTo>
                  <a:pt x="56" y="0"/>
                </a:lnTo>
                <a:lnTo>
                  <a:pt x="64" y="2"/>
                </a:lnTo>
                <a:lnTo>
                  <a:pt x="71" y="2"/>
                </a:lnTo>
                <a:lnTo>
                  <a:pt x="81" y="4"/>
                </a:lnTo>
                <a:lnTo>
                  <a:pt x="90" y="4"/>
                </a:lnTo>
                <a:lnTo>
                  <a:pt x="104" y="6"/>
                </a:lnTo>
                <a:lnTo>
                  <a:pt x="115" y="8"/>
                </a:lnTo>
                <a:lnTo>
                  <a:pt x="129" y="10"/>
                </a:lnTo>
                <a:lnTo>
                  <a:pt x="144" y="14"/>
                </a:lnTo>
                <a:lnTo>
                  <a:pt x="160" y="16"/>
                </a:lnTo>
                <a:lnTo>
                  <a:pt x="179" y="18"/>
                </a:lnTo>
                <a:lnTo>
                  <a:pt x="179" y="50"/>
                </a:lnTo>
                <a:lnTo>
                  <a:pt x="177" y="81"/>
                </a:lnTo>
                <a:lnTo>
                  <a:pt x="177" y="112"/>
                </a:lnTo>
                <a:lnTo>
                  <a:pt x="177" y="140"/>
                </a:lnTo>
                <a:lnTo>
                  <a:pt x="177" y="169"/>
                </a:lnTo>
                <a:lnTo>
                  <a:pt x="177" y="196"/>
                </a:lnTo>
                <a:lnTo>
                  <a:pt x="177" y="223"/>
                </a:lnTo>
                <a:lnTo>
                  <a:pt x="175" y="248"/>
                </a:lnTo>
                <a:lnTo>
                  <a:pt x="175" y="271"/>
                </a:lnTo>
                <a:lnTo>
                  <a:pt x="173" y="294"/>
                </a:lnTo>
                <a:lnTo>
                  <a:pt x="173" y="317"/>
                </a:lnTo>
                <a:lnTo>
                  <a:pt x="173" y="338"/>
                </a:lnTo>
                <a:lnTo>
                  <a:pt x="171" y="357"/>
                </a:lnTo>
                <a:lnTo>
                  <a:pt x="169" y="377"/>
                </a:lnTo>
                <a:lnTo>
                  <a:pt x="169" y="394"/>
                </a:lnTo>
                <a:lnTo>
                  <a:pt x="167" y="411"/>
                </a:lnTo>
                <a:lnTo>
                  <a:pt x="167" y="426"/>
                </a:lnTo>
                <a:lnTo>
                  <a:pt x="165" y="442"/>
                </a:lnTo>
                <a:lnTo>
                  <a:pt x="163" y="455"/>
                </a:lnTo>
                <a:lnTo>
                  <a:pt x="161" y="467"/>
                </a:lnTo>
                <a:lnTo>
                  <a:pt x="160" y="478"/>
                </a:lnTo>
                <a:lnTo>
                  <a:pt x="158" y="490"/>
                </a:lnTo>
                <a:lnTo>
                  <a:pt x="156" y="499"/>
                </a:lnTo>
                <a:lnTo>
                  <a:pt x="154" y="507"/>
                </a:lnTo>
                <a:lnTo>
                  <a:pt x="152" y="515"/>
                </a:lnTo>
                <a:lnTo>
                  <a:pt x="150" y="522"/>
                </a:lnTo>
                <a:lnTo>
                  <a:pt x="148" y="528"/>
                </a:lnTo>
                <a:lnTo>
                  <a:pt x="146" y="532"/>
                </a:lnTo>
                <a:lnTo>
                  <a:pt x="144" y="536"/>
                </a:lnTo>
                <a:lnTo>
                  <a:pt x="142" y="538"/>
                </a:lnTo>
                <a:lnTo>
                  <a:pt x="138" y="540"/>
                </a:lnTo>
                <a:lnTo>
                  <a:pt x="137" y="540"/>
                </a:lnTo>
                <a:lnTo>
                  <a:pt x="131" y="540"/>
                </a:lnTo>
                <a:lnTo>
                  <a:pt x="127" y="538"/>
                </a:lnTo>
                <a:lnTo>
                  <a:pt x="123" y="538"/>
                </a:lnTo>
                <a:lnTo>
                  <a:pt x="119" y="536"/>
                </a:lnTo>
                <a:lnTo>
                  <a:pt x="115" y="532"/>
                </a:lnTo>
                <a:lnTo>
                  <a:pt x="112" y="530"/>
                </a:lnTo>
                <a:lnTo>
                  <a:pt x="108" y="526"/>
                </a:lnTo>
                <a:lnTo>
                  <a:pt x="106" y="520"/>
                </a:lnTo>
                <a:lnTo>
                  <a:pt x="104" y="517"/>
                </a:lnTo>
                <a:lnTo>
                  <a:pt x="102" y="511"/>
                </a:lnTo>
                <a:lnTo>
                  <a:pt x="100" y="505"/>
                </a:lnTo>
                <a:lnTo>
                  <a:pt x="98" y="499"/>
                </a:lnTo>
                <a:lnTo>
                  <a:pt x="96" y="492"/>
                </a:lnTo>
                <a:lnTo>
                  <a:pt x="96" y="484"/>
                </a:lnTo>
                <a:lnTo>
                  <a:pt x="96" y="476"/>
                </a:lnTo>
                <a:lnTo>
                  <a:pt x="96" y="467"/>
                </a:lnTo>
                <a:lnTo>
                  <a:pt x="92" y="459"/>
                </a:lnTo>
                <a:lnTo>
                  <a:pt x="90" y="451"/>
                </a:lnTo>
                <a:lnTo>
                  <a:pt x="89" y="442"/>
                </a:lnTo>
                <a:lnTo>
                  <a:pt x="87" y="432"/>
                </a:lnTo>
                <a:lnTo>
                  <a:pt x="87" y="423"/>
                </a:lnTo>
                <a:lnTo>
                  <a:pt x="85" y="411"/>
                </a:lnTo>
                <a:lnTo>
                  <a:pt x="83" y="400"/>
                </a:lnTo>
                <a:lnTo>
                  <a:pt x="81" y="386"/>
                </a:lnTo>
                <a:lnTo>
                  <a:pt x="81" y="373"/>
                </a:lnTo>
                <a:lnTo>
                  <a:pt x="79" y="359"/>
                </a:lnTo>
                <a:lnTo>
                  <a:pt x="77" y="344"/>
                </a:lnTo>
                <a:lnTo>
                  <a:pt x="75" y="329"/>
                </a:lnTo>
                <a:lnTo>
                  <a:pt x="75" y="313"/>
                </a:lnTo>
                <a:lnTo>
                  <a:pt x="73" y="296"/>
                </a:lnTo>
                <a:lnTo>
                  <a:pt x="71" y="279"/>
                </a:lnTo>
                <a:lnTo>
                  <a:pt x="67" y="261"/>
                </a:lnTo>
                <a:lnTo>
                  <a:pt x="66" y="244"/>
                </a:lnTo>
                <a:lnTo>
                  <a:pt x="64" y="231"/>
                </a:lnTo>
                <a:lnTo>
                  <a:pt x="60" y="217"/>
                </a:lnTo>
                <a:lnTo>
                  <a:pt x="58" y="204"/>
                </a:lnTo>
                <a:lnTo>
                  <a:pt x="56" y="192"/>
                </a:lnTo>
                <a:lnTo>
                  <a:pt x="52" y="181"/>
                </a:lnTo>
                <a:lnTo>
                  <a:pt x="50" y="171"/>
                </a:lnTo>
                <a:lnTo>
                  <a:pt x="48" y="162"/>
                </a:lnTo>
                <a:lnTo>
                  <a:pt x="44" y="154"/>
                </a:lnTo>
                <a:lnTo>
                  <a:pt x="42" y="146"/>
                </a:lnTo>
                <a:lnTo>
                  <a:pt x="41" y="140"/>
                </a:lnTo>
                <a:lnTo>
                  <a:pt x="37" y="137"/>
                </a:lnTo>
                <a:lnTo>
                  <a:pt x="35" y="133"/>
                </a:lnTo>
                <a:lnTo>
                  <a:pt x="31" y="129"/>
                </a:lnTo>
                <a:lnTo>
                  <a:pt x="29" y="127"/>
                </a:lnTo>
                <a:lnTo>
                  <a:pt x="27" y="1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14"/>
          <p:cNvSpPr/>
          <p:nvPr/>
        </p:nvSpPr>
        <p:spPr>
          <a:xfrm>
            <a:off x="6208560" y="2863800"/>
            <a:ext cx="506520" cy="822240"/>
          </a:xfrm>
          <a:custGeom>
            <a:avLst/>
            <a:gdLst/>
            <a:ahLst/>
            <a:rect l="l" t="t" r="r" b="b"/>
            <a:pathLst>
              <a:path w="637" h="1036">
                <a:moveTo>
                  <a:pt x="443" y="599"/>
                </a:moveTo>
                <a:lnTo>
                  <a:pt x="434" y="620"/>
                </a:lnTo>
                <a:lnTo>
                  <a:pt x="422" y="639"/>
                </a:lnTo>
                <a:lnTo>
                  <a:pt x="411" y="660"/>
                </a:lnTo>
                <a:lnTo>
                  <a:pt x="397" y="681"/>
                </a:lnTo>
                <a:lnTo>
                  <a:pt x="384" y="701"/>
                </a:lnTo>
                <a:lnTo>
                  <a:pt x="370" y="720"/>
                </a:lnTo>
                <a:lnTo>
                  <a:pt x="355" y="741"/>
                </a:lnTo>
                <a:lnTo>
                  <a:pt x="340" y="760"/>
                </a:lnTo>
                <a:lnTo>
                  <a:pt x="324" y="779"/>
                </a:lnTo>
                <a:lnTo>
                  <a:pt x="309" y="798"/>
                </a:lnTo>
                <a:lnTo>
                  <a:pt x="292" y="816"/>
                </a:lnTo>
                <a:lnTo>
                  <a:pt x="272" y="835"/>
                </a:lnTo>
                <a:lnTo>
                  <a:pt x="255" y="852"/>
                </a:lnTo>
                <a:lnTo>
                  <a:pt x="236" y="869"/>
                </a:lnTo>
                <a:lnTo>
                  <a:pt x="217" y="887"/>
                </a:lnTo>
                <a:lnTo>
                  <a:pt x="196" y="902"/>
                </a:lnTo>
                <a:lnTo>
                  <a:pt x="176" y="917"/>
                </a:lnTo>
                <a:lnTo>
                  <a:pt x="157" y="933"/>
                </a:lnTo>
                <a:lnTo>
                  <a:pt x="138" y="946"/>
                </a:lnTo>
                <a:lnTo>
                  <a:pt x="123" y="960"/>
                </a:lnTo>
                <a:lnTo>
                  <a:pt x="105" y="971"/>
                </a:lnTo>
                <a:lnTo>
                  <a:pt x="90" y="983"/>
                </a:lnTo>
                <a:lnTo>
                  <a:pt x="77" y="992"/>
                </a:lnTo>
                <a:lnTo>
                  <a:pt x="63" y="1002"/>
                </a:lnTo>
                <a:lnTo>
                  <a:pt x="52" y="1010"/>
                </a:lnTo>
                <a:lnTo>
                  <a:pt x="42" y="1017"/>
                </a:lnTo>
                <a:lnTo>
                  <a:pt x="32" y="1023"/>
                </a:lnTo>
                <a:lnTo>
                  <a:pt x="25" y="1027"/>
                </a:lnTo>
                <a:lnTo>
                  <a:pt x="17" y="1031"/>
                </a:lnTo>
                <a:lnTo>
                  <a:pt x="11" y="1035"/>
                </a:lnTo>
                <a:lnTo>
                  <a:pt x="6" y="1035"/>
                </a:lnTo>
                <a:lnTo>
                  <a:pt x="4" y="1036"/>
                </a:lnTo>
                <a:lnTo>
                  <a:pt x="2" y="1035"/>
                </a:lnTo>
                <a:lnTo>
                  <a:pt x="0" y="1035"/>
                </a:lnTo>
                <a:lnTo>
                  <a:pt x="0" y="1031"/>
                </a:lnTo>
                <a:lnTo>
                  <a:pt x="2" y="1027"/>
                </a:lnTo>
                <a:lnTo>
                  <a:pt x="4" y="1021"/>
                </a:lnTo>
                <a:lnTo>
                  <a:pt x="6" y="1015"/>
                </a:lnTo>
                <a:lnTo>
                  <a:pt x="11" y="1008"/>
                </a:lnTo>
                <a:lnTo>
                  <a:pt x="15" y="1000"/>
                </a:lnTo>
                <a:lnTo>
                  <a:pt x="23" y="990"/>
                </a:lnTo>
                <a:lnTo>
                  <a:pt x="30" y="979"/>
                </a:lnTo>
                <a:lnTo>
                  <a:pt x="38" y="967"/>
                </a:lnTo>
                <a:lnTo>
                  <a:pt x="48" y="954"/>
                </a:lnTo>
                <a:lnTo>
                  <a:pt x="59" y="940"/>
                </a:lnTo>
                <a:lnTo>
                  <a:pt x="71" y="925"/>
                </a:lnTo>
                <a:lnTo>
                  <a:pt x="84" y="908"/>
                </a:lnTo>
                <a:lnTo>
                  <a:pt x="100" y="891"/>
                </a:lnTo>
                <a:lnTo>
                  <a:pt x="115" y="873"/>
                </a:lnTo>
                <a:lnTo>
                  <a:pt x="130" y="856"/>
                </a:lnTo>
                <a:lnTo>
                  <a:pt x="144" y="839"/>
                </a:lnTo>
                <a:lnTo>
                  <a:pt x="159" y="820"/>
                </a:lnTo>
                <a:lnTo>
                  <a:pt x="173" y="800"/>
                </a:lnTo>
                <a:lnTo>
                  <a:pt x="188" y="781"/>
                </a:lnTo>
                <a:lnTo>
                  <a:pt x="201" y="760"/>
                </a:lnTo>
                <a:lnTo>
                  <a:pt x="215" y="739"/>
                </a:lnTo>
                <a:lnTo>
                  <a:pt x="228" y="716"/>
                </a:lnTo>
                <a:lnTo>
                  <a:pt x="242" y="695"/>
                </a:lnTo>
                <a:lnTo>
                  <a:pt x="255" y="672"/>
                </a:lnTo>
                <a:lnTo>
                  <a:pt x="268" y="649"/>
                </a:lnTo>
                <a:lnTo>
                  <a:pt x="293" y="601"/>
                </a:lnTo>
                <a:lnTo>
                  <a:pt x="320" y="551"/>
                </a:lnTo>
                <a:lnTo>
                  <a:pt x="332" y="526"/>
                </a:lnTo>
                <a:lnTo>
                  <a:pt x="343" y="501"/>
                </a:lnTo>
                <a:lnTo>
                  <a:pt x="355" y="478"/>
                </a:lnTo>
                <a:lnTo>
                  <a:pt x="364" y="455"/>
                </a:lnTo>
                <a:lnTo>
                  <a:pt x="372" y="432"/>
                </a:lnTo>
                <a:lnTo>
                  <a:pt x="382" y="411"/>
                </a:lnTo>
                <a:lnTo>
                  <a:pt x="387" y="390"/>
                </a:lnTo>
                <a:lnTo>
                  <a:pt x="395" y="368"/>
                </a:lnTo>
                <a:lnTo>
                  <a:pt x="401" y="347"/>
                </a:lnTo>
                <a:lnTo>
                  <a:pt x="407" y="328"/>
                </a:lnTo>
                <a:lnTo>
                  <a:pt x="412" y="309"/>
                </a:lnTo>
                <a:lnTo>
                  <a:pt x="416" y="292"/>
                </a:lnTo>
                <a:lnTo>
                  <a:pt x="420" y="272"/>
                </a:lnTo>
                <a:lnTo>
                  <a:pt x="424" y="255"/>
                </a:lnTo>
                <a:lnTo>
                  <a:pt x="428" y="238"/>
                </a:lnTo>
                <a:lnTo>
                  <a:pt x="430" y="223"/>
                </a:lnTo>
                <a:lnTo>
                  <a:pt x="432" y="207"/>
                </a:lnTo>
                <a:lnTo>
                  <a:pt x="434" y="192"/>
                </a:lnTo>
                <a:lnTo>
                  <a:pt x="435" y="178"/>
                </a:lnTo>
                <a:lnTo>
                  <a:pt x="435" y="165"/>
                </a:lnTo>
                <a:lnTo>
                  <a:pt x="435" y="153"/>
                </a:lnTo>
                <a:lnTo>
                  <a:pt x="435" y="142"/>
                </a:lnTo>
                <a:lnTo>
                  <a:pt x="434" y="130"/>
                </a:lnTo>
                <a:lnTo>
                  <a:pt x="434" y="121"/>
                </a:lnTo>
                <a:lnTo>
                  <a:pt x="432" y="111"/>
                </a:lnTo>
                <a:lnTo>
                  <a:pt x="430" y="104"/>
                </a:lnTo>
                <a:lnTo>
                  <a:pt x="428" y="96"/>
                </a:lnTo>
                <a:lnTo>
                  <a:pt x="426" y="88"/>
                </a:lnTo>
                <a:lnTo>
                  <a:pt x="424" y="81"/>
                </a:lnTo>
                <a:lnTo>
                  <a:pt x="420" y="75"/>
                </a:lnTo>
                <a:lnTo>
                  <a:pt x="418" y="69"/>
                </a:lnTo>
                <a:lnTo>
                  <a:pt x="416" y="65"/>
                </a:lnTo>
                <a:lnTo>
                  <a:pt x="411" y="56"/>
                </a:lnTo>
                <a:lnTo>
                  <a:pt x="409" y="46"/>
                </a:lnTo>
                <a:lnTo>
                  <a:pt x="407" y="38"/>
                </a:lnTo>
                <a:lnTo>
                  <a:pt x="407" y="31"/>
                </a:lnTo>
                <a:lnTo>
                  <a:pt x="409" y="27"/>
                </a:lnTo>
                <a:lnTo>
                  <a:pt x="411" y="23"/>
                </a:lnTo>
                <a:lnTo>
                  <a:pt x="412" y="19"/>
                </a:lnTo>
                <a:lnTo>
                  <a:pt x="414" y="15"/>
                </a:lnTo>
                <a:lnTo>
                  <a:pt x="416" y="11"/>
                </a:lnTo>
                <a:lnTo>
                  <a:pt x="420" y="10"/>
                </a:lnTo>
                <a:lnTo>
                  <a:pt x="426" y="8"/>
                </a:lnTo>
                <a:lnTo>
                  <a:pt x="430" y="4"/>
                </a:lnTo>
                <a:lnTo>
                  <a:pt x="434" y="2"/>
                </a:lnTo>
                <a:lnTo>
                  <a:pt x="435" y="0"/>
                </a:lnTo>
                <a:lnTo>
                  <a:pt x="441" y="0"/>
                </a:lnTo>
                <a:lnTo>
                  <a:pt x="445" y="0"/>
                </a:lnTo>
                <a:lnTo>
                  <a:pt x="451" y="0"/>
                </a:lnTo>
                <a:lnTo>
                  <a:pt x="457" y="0"/>
                </a:lnTo>
                <a:lnTo>
                  <a:pt x="464" y="2"/>
                </a:lnTo>
                <a:lnTo>
                  <a:pt x="472" y="2"/>
                </a:lnTo>
                <a:lnTo>
                  <a:pt x="480" y="4"/>
                </a:lnTo>
                <a:lnTo>
                  <a:pt x="487" y="6"/>
                </a:lnTo>
                <a:lnTo>
                  <a:pt x="497" y="10"/>
                </a:lnTo>
                <a:lnTo>
                  <a:pt x="507" y="13"/>
                </a:lnTo>
                <a:lnTo>
                  <a:pt x="518" y="15"/>
                </a:lnTo>
                <a:lnTo>
                  <a:pt x="530" y="19"/>
                </a:lnTo>
                <a:lnTo>
                  <a:pt x="541" y="23"/>
                </a:lnTo>
                <a:lnTo>
                  <a:pt x="554" y="29"/>
                </a:lnTo>
                <a:lnTo>
                  <a:pt x="564" y="33"/>
                </a:lnTo>
                <a:lnTo>
                  <a:pt x="574" y="38"/>
                </a:lnTo>
                <a:lnTo>
                  <a:pt x="581" y="42"/>
                </a:lnTo>
                <a:lnTo>
                  <a:pt x="589" y="46"/>
                </a:lnTo>
                <a:lnTo>
                  <a:pt x="597" y="52"/>
                </a:lnTo>
                <a:lnTo>
                  <a:pt x="604" y="56"/>
                </a:lnTo>
                <a:lnTo>
                  <a:pt x="610" y="59"/>
                </a:lnTo>
                <a:lnTo>
                  <a:pt x="616" y="63"/>
                </a:lnTo>
                <a:lnTo>
                  <a:pt x="620" y="67"/>
                </a:lnTo>
                <a:lnTo>
                  <a:pt x="624" y="71"/>
                </a:lnTo>
                <a:lnTo>
                  <a:pt x="627" y="75"/>
                </a:lnTo>
                <a:lnTo>
                  <a:pt x="631" y="79"/>
                </a:lnTo>
                <a:lnTo>
                  <a:pt x="633" y="81"/>
                </a:lnTo>
                <a:lnTo>
                  <a:pt x="635" y="84"/>
                </a:lnTo>
                <a:lnTo>
                  <a:pt x="635" y="86"/>
                </a:lnTo>
                <a:lnTo>
                  <a:pt x="637" y="90"/>
                </a:lnTo>
                <a:lnTo>
                  <a:pt x="635" y="107"/>
                </a:lnTo>
                <a:lnTo>
                  <a:pt x="635" y="115"/>
                </a:lnTo>
                <a:lnTo>
                  <a:pt x="635" y="125"/>
                </a:lnTo>
                <a:lnTo>
                  <a:pt x="633" y="132"/>
                </a:lnTo>
                <a:lnTo>
                  <a:pt x="631" y="138"/>
                </a:lnTo>
                <a:lnTo>
                  <a:pt x="627" y="144"/>
                </a:lnTo>
                <a:lnTo>
                  <a:pt x="624" y="150"/>
                </a:lnTo>
                <a:lnTo>
                  <a:pt x="620" y="155"/>
                </a:lnTo>
                <a:lnTo>
                  <a:pt x="618" y="159"/>
                </a:lnTo>
                <a:lnTo>
                  <a:pt x="614" y="167"/>
                </a:lnTo>
                <a:lnTo>
                  <a:pt x="612" y="173"/>
                </a:lnTo>
                <a:lnTo>
                  <a:pt x="610" y="180"/>
                </a:lnTo>
                <a:lnTo>
                  <a:pt x="606" y="188"/>
                </a:lnTo>
                <a:lnTo>
                  <a:pt x="604" y="196"/>
                </a:lnTo>
                <a:lnTo>
                  <a:pt x="602" y="205"/>
                </a:lnTo>
                <a:lnTo>
                  <a:pt x="599" y="213"/>
                </a:lnTo>
                <a:lnTo>
                  <a:pt x="597" y="224"/>
                </a:lnTo>
                <a:lnTo>
                  <a:pt x="595" y="234"/>
                </a:lnTo>
                <a:lnTo>
                  <a:pt x="591" y="246"/>
                </a:lnTo>
                <a:lnTo>
                  <a:pt x="589" y="257"/>
                </a:lnTo>
                <a:lnTo>
                  <a:pt x="587" y="269"/>
                </a:lnTo>
                <a:lnTo>
                  <a:pt x="583" y="282"/>
                </a:lnTo>
                <a:lnTo>
                  <a:pt x="581" y="296"/>
                </a:lnTo>
                <a:lnTo>
                  <a:pt x="570" y="328"/>
                </a:lnTo>
                <a:lnTo>
                  <a:pt x="558" y="361"/>
                </a:lnTo>
                <a:lnTo>
                  <a:pt x="543" y="397"/>
                </a:lnTo>
                <a:lnTo>
                  <a:pt x="528" y="434"/>
                </a:lnTo>
                <a:lnTo>
                  <a:pt x="518" y="453"/>
                </a:lnTo>
                <a:lnTo>
                  <a:pt x="510" y="472"/>
                </a:lnTo>
                <a:lnTo>
                  <a:pt x="501" y="491"/>
                </a:lnTo>
                <a:lnTo>
                  <a:pt x="489" y="512"/>
                </a:lnTo>
                <a:lnTo>
                  <a:pt x="480" y="534"/>
                </a:lnTo>
                <a:lnTo>
                  <a:pt x="468" y="555"/>
                </a:lnTo>
                <a:lnTo>
                  <a:pt x="457" y="576"/>
                </a:lnTo>
                <a:lnTo>
                  <a:pt x="443" y="5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5"/>
          <p:cNvSpPr/>
          <p:nvPr/>
        </p:nvSpPr>
        <p:spPr>
          <a:xfrm>
            <a:off x="6243480" y="3040200"/>
            <a:ext cx="743040" cy="568080"/>
          </a:xfrm>
          <a:custGeom>
            <a:avLst/>
            <a:gdLst/>
            <a:ahLst/>
            <a:rect l="l" t="t" r="r" b="b"/>
            <a:pathLst>
              <a:path w="937" h="716">
                <a:moveTo>
                  <a:pt x="894" y="182"/>
                </a:moveTo>
                <a:lnTo>
                  <a:pt x="892" y="184"/>
                </a:lnTo>
                <a:lnTo>
                  <a:pt x="889" y="188"/>
                </a:lnTo>
                <a:lnTo>
                  <a:pt x="887" y="193"/>
                </a:lnTo>
                <a:lnTo>
                  <a:pt x="883" y="199"/>
                </a:lnTo>
                <a:lnTo>
                  <a:pt x="879" y="207"/>
                </a:lnTo>
                <a:lnTo>
                  <a:pt x="875" y="216"/>
                </a:lnTo>
                <a:lnTo>
                  <a:pt x="869" y="226"/>
                </a:lnTo>
                <a:lnTo>
                  <a:pt x="866" y="236"/>
                </a:lnTo>
                <a:lnTo>
                  <a:pt x="862" y="249"/>
                </a:lnTo>
                <a:lnTo>
                  <a:pt x="856" y="261"/>
                </a:lnTo>
                <a:lnTo>
                  <a:pt x="852" y="276"/>
                </a:lnTo>
                <a:lnTo>
                  <a:pt x="846" y="291"/>
                </a:lnTo>
                <a:lnTo>
                  <a:pt x="841" y="307"/>
                </a:lnTo>
                <a:lnTo>
                  <a:pt x="837" y="326"/>
                </a:lnTo>
                <a:lnTo>
                  <a:pt x="831" y="343"/>
                </a:lnTo>
                <a:lnTo>
                  <a:pt x="827" y="364"/>
                </a:lnTo>
                <a:lnTo>
                  <a:pt x="821" y="385"/>
                </a:lnTo>
                <a:lnTo>
                  <a:pt x="816" y="408"/>
                </a:lnTo>
                <a:lnTo>
                  <a:pt x="810" y="428"/>
                </a:lnTo>
                <a:lnTo>
                  <a:pt x="802" y="449"/>
                </a:lnTo>
                <a:lnTo>
                  <a:pt x="796" y="468"/>
                </a:lnTo>
                <a:lnTo>
                  <a:pt x="789" y="485"/>
                </a:lnTo>
                <a:lnTo>
                  <a:pt x="781" y="502"/>
                </a:lnTo>
                <a:lnTo>
                  <a:pt x="773" y="520"/>
                </a:lnTo>
                <a:lnTo>
                  <a:pt x="764" y="535"/>
                </a:lnTo>
                <a:lnTo>
                  <a:pt x="754" y="552"/>
                </a:lnTo>
                <a:lnTo>
                  <a:pt x="745" y="566"/>
                </a:lnTo>
                <a:lnTo>
                  <a:pt x="735" y="581"/>
                </a:lnTo>
                <a:lnTo>
                  <a:pt x="724" y="595"/>
                </a:lnTo>
                <a:lnTo>
                  <a:pt x="712" y="606"/>
                </a:lnTo>
                <a:lnTo>
                  <a:pt x="701" y="620"/>
                </a:lnTo>
                <a:lnTo>
                  <a:pt x="689" y="631"/>
                </a:lnTo>
                <a:lnTo>
                  <a:pt x="676" y="643"/>
                </a:lnTo>
                <a:lnTo>
                  <a:pt x="664" y="652"/>
                </a:lnTo>
                <a:lnTo>
                  <a:pt x="653" y="662"/>
                </a:lnTo>
                <a:lnTo>
                  <a:pt x="643" y="669"/>
                </a:lnTo>
                <a:lnTo>
                  <a:pt x="631" y="677"/>
                </a:lnTo>
                <a:lnTo>
                  <a:pt x="622" y="685"/>
                </a:lnTo>
                <a:lnTo>
                  <a:pt x="614" y="691"/>
                </a:lnTo>
                <a:lnTo>
                  <a:pt x="605" y="696"/>
                </a:lnTo>
                <a:lnTo>
                  <a:pt x="597" y="702"/>
                </a:lnTo>
                <a:lnTo>
                  <a:pt x="589" y="706"/>
                </a:lnTo>
                <a:lnTo>
                  <a:pt x="582" y="708"/>
                </a:lnTo>
                <a:lnTo>
                  <a:pt x="574" y="712"/>
                </a:lnTo>
                <a:lnTo>
                  <a:pt x="568" y="714"/>
                </a:lnTo>
                <a:lnTo>
                  <a:pt x="562" y="716"/>
                </a:lnTo>
                <a:lnTo>
                  <a:pt x="557" y="716"/>
                </a:lnTo>
                <a:lnTo>
                  <a:pt x="551" y="716"/>
                </a:lnTo>
                <a:lnTo>
                  <a:pt x="543" y="716"/>
                </a:lnTo>
                <a:lnTo>
                  <a:pt x="537" y="716"/>
                </a:lnTo>
                <a:lnTo>
                  <a:pt x="530" y="716"/>
                </a:lnTo>
                <a:lnTo>
                  <a:pt x="526" y="714"/>
                </a:lnTo>
                <a:lnTo>
                  <a:pt x="520" y="712"/>
                </a:lnTo>
                <a:lnTo>
                  <a:pt x="516" y="710"/>
                </a:lnTo>
                <a:lnTo>
                  <a:pt x="512" y="708"/>
                </a:lnTo>
                <a:lnTo>
                  <a:pt x="510" y="706"/>
                </a:lnTo>
                <a:lnTo>
                  <a:pt x="507" y="702"/>
                </a:lnTo>
                <a:lnTo>
                  <a:pt x="507" y="698"/>
                </a:lnTo>
                <a:lnTo>
                  <a:pt x="505" y="694"/>
                </a:lnTo>
                <a:lnTo>
                  <a:pt x="505" y="691"/>
                </a:lnTo>
                <a:lnTo>
                  <a:pt x="505" y="685"/>
                </a:lnTo>
                <a:lnTo>
                  <a:pt x="507" y="679"/>
                </a:lnTo>
                <a:lnTo>
                  <a:pt x="507" y="673"/>
                </a:lnTo>
                <a:lnTo>
                  <a:pt x="510" y="668"/>
                </a:lnTo>
                <a:lnTo>
                  <a:pt x="509" y="660"/>
                </a:lnTo>
                <a:lnTo>
                  <a:pt x="509" y="654"/>
                </a:lnTo>
                <a:lnTo>
                  <a:pt x="507" y="646"/>
                </a:lnTo>
                <a:lnTo>
                  <a:pt x="505" y="641"/>
                </a:lnTo>
                <a:lnTo>
                  <a:pt x="503" y="633"/>
                </a:lnTo>
                <a:lnTo>
                  <a:pt x="499" y="625"/>
                </a:lnTo>
                <a:lnTo>
                  <a:pt x="495" y="620"/>
                </a:lnTo>
                <a:lnTo>
                  <a:pt x="491" y="612"/>
                </a:lnTo>
                <a:lnTo>
                  <a:pt x="480" y="598"/>
                </a:lnTo>
                <a:lnTo>
                  <a:pt x="468" y="585"/>
                </a:lnTo>
                <a:lnTo>
                  <a:pt x="455" y="572"/>
                </a:lnTo>
                <a:lnTo>
                  <a:pt x="441" y="558"/>
                </a:lnTo>
                <a:lnTo>
                  <a:pt x="426" y="545"/>
                </a:lnTo>
                <a:lnTo>
                  <a:pt x="413" y="533"/>
                </a:lnTo>
                <a:lnTo>
                  <a:pt x="407" y="527"/>
                </a:lnTo>
                <a:lnTo>
                  <a:pt x="401" y="522"/>
                </a:lnTo>
                <a:lnTo>
                  <a:pt x="397" y="518"/>
                </a:lnTo>
                <a:lnTo>
                  <a:pt x="393" y="512"/>
                </a:lnTo>
                <a:lnTo>
                  <a:pt x="390" y="508"/>
                </a:lnTo>
                <a:lnTo>
                  <a:pt x="386" y="504"/>
                </a:lnTo>
                <a:lnTo>
                  <a:pt x="384" y="501"/>
                </a:lnTo>
                <a:lnTo>
                  <a:pt x="384" y="497"/>
                </a:lnTo>
                <a:lnTo>
                  <a:pt x="382" y="493"/>
                </a:lnTo>
                <a:lnTo>
                  <a:pt x="382" y="491"/>
                </a:lnTo>
                <a:lnTo>
                  <a:pt x="384" y="487"/>
                </a:lnTo>
                <a:lnTo>
                  <a:pt x="386" y="485"/>
                </a:lnTo>
                <a:lnTo>
                  <a:pt x="386" y="483"/>
                </a:lnTo>
                <a:lnTo>
                  <a:pt x="388" y="481"/>
                </a:lnTo>
                <a:lnTo>
                  <a:pt x="390" y="481"/>
                </a:lnTo>
                <a:lnTo>
                  <a:pt x="391" y="479"/>
                </a:lnTo>
                <a:lnTo>
                  <a:pt x="393" y="479"/>
                </a:lnTo>
                <a:lnTo>
                  <a:pt x="397" y="481"/>
                </a:lnTo>
                <a:lnTo>
                  <a:pt x="401" y="481"/>
                </a:lnTo>
                <a:lnTo>
                  <a:pt x="405" y="481"/>
                </a:lnTo>
                <a:lnTo>
                  <a:pt x="409" y="483"/>
                </a:lnTo>
                <a:lnTo>
                  <a:pt x="415" y="485"/>
                </a:lnTo>
                <a:lnTo>
                  <a:pt x="426" y="489"/>
                </a:lnTo>
                <a:lnTo>
                  <a:pt x="439" y="493"/>
                </a:lnTo>
                <a:lnTo>
                  <a:pt x="455" y="497"/>
                </a:lnTo>
                <a:lnTo>
                  <a:pt x="470" y="502"/>
                </a:lnTo>
                <a:lnTo>
                  <a:pt x="486" y="506"/>
                </a:lnTo>
                <a:lnTo>
                  <a:pt x="501" y="510"/>
                </a:lnTo>
                <a:lnTo>
                  <a:pt x="514" y="512"/>
                </a:lnTo>
                <a:lnTo>
                  <a:pt x="528" y="514"/>
                </a:lnTo>
                <a:lnTo>
                  <a:pt x="541" y="514"/>
                </a:lnTo>
                <a:lnTo>
                  <a:pt x="549" y="514"/>
                </a:lnTo>
                <a:lnTo>
                  <a:pt x="555" y="512"/>
                </a:lnTo>
                <a:lnTo>
                  <a:pt x="560" y="512"/>
                </a:lnTo>
                <a:lnTo>
                  <a:pt x="564" y="510"/>
                </a:lnTo>
                <a:lnTo>
                  <a:pt x="568" y="508"/>
                </a:lnTo>
                <a:lnTo>
                  <a:pt x="570" y="508"/>
                </a:lnTo>
                <a:lnTo>
                  <a:pt x="574" y="506"/>
                </a:lnTo>
                <a:lnTo>
                  <a:pt x="578" y="504"/>
                </a:lnTo>
                <a:lnTo>
                  <a:pt x="582" y="502"/>
                </a:lnTo>
                <a:lnTo>
                  <a:pt x="585" y="499"/>
                </a:lnTo>
                <a:lnTo>
                  <a:pt x="591" y="495"/>
                </a:lnTo>
                <a:lnTo>
                  <a:pt x="597" y="491"/>
                </a:lnTo>
                <a:lnTo>
                  <a:pt x="601" y="487"/>
                </a:lnTo>
                <a:lnTo>
                  <a:pt x="606" y="481"/>
                </a:lnTo>
                <a:lnTo>
                  <a:pt x="612" y="476"/>
                </a:lnTo>
                <a:lnTo>
                  <a:pt x="620" y="468"/>
                </a:lnTo>
                <a:lnTo>
                  <a:pt x="626" y="462"/>
                </a:lnTo>
                <a:lnTo>
                  <a:pt x="633" y="454"/>
                </a:lnTo>
                <a:lnTo>
                  <a:pt x="639" y="445"/>
                </a:lnTo>
                <a:lnTo>
                  <a:pt x="647" y="437"/>
                </a:lnTo>
                <a:lnTo>
                  <a:pt x="656" y="418"/>
                </a:lnTo>
                <a:lnTo>
                  <a:pt x="666" y="399"/>
                </a:lnTo>
                <a:lnTo>
                  <a:pt x="674" y="378"/>
                </a:lnTo>
                <a:lnTo>
                  <a:pt x="679" y="355"/>
                </a:lnTo>
                <a:lnTo>
                  <a:pt x="685" y="332"/>
                </a:lnTo>
                <a:lnTo>
                  <a:pt x="691" y="307"/>
                </a:lnTo>
                <a:lnTo>
                  <a:pt x="697" y="282"/>
                </a:lnTo>
                <a:lnTo>
                  <a:pt x="702" y="255"/>
                </a:lnTo>
                <a:lnTo>
                  <a:pt x="704" y="243"/>
                </a:lnTo>
                <a:lnTo>
                  <a:pt x="706" y="234"/>
                </a:lnTo>
                <a:lnTo>
                  <a:pt x="708" y="222"/>
                </a:lnTo>
                <a:lnTo>
                  <a:pt x="708" y="213"/>
                </a:lnTo>
                <a:lnTo>
                  <a:pt x="708" y="205"/>
                </a:lnTo>
                <a:lnTo>
                  <a:pt x="708" y="197"/>
                </a:lnTo>
                <a:lnTo>
                  <a:pt x="706" y="190"/>
                </a:lnTo>
                <a:lnTo>
                  <a:pt x="706" y="182"/>
                </a:lnTo>
                <a:lnTo>
                  <a:pt x="704" y="176"/>
                </a:lnTo>
                <a:lnTo>
                  <a:pt x="702" y="168"/>
                </a:lnTo>
                <a:lnTo>
                  <a:pt x="701" y="165"/>
                </a:lnTo>
                <a:lnTo>
                  <a:pt x="699" y="159"/>
                </a:lnTo>
                <a:lnTo>
                  <a:pt x="697" y="155"/>
                </a:lnTo>
                <a:lnTo>
                  <a:pt x="693" y="151"/>
                </a:lnTo>
                <a:lnTo>
                  <a:pt x="691" y="147"/>
                </a:lnTo>
                <a:lnTo>
                  <a:pt x="689" y="145"/>
                </a:lnTo>
                <a:lnTo>
                  <a:pt x="687" y="144"/>
                </a:lnTo>
                <a:lnTo>
                  <a:pt x="685" y="144"/>
                </a:lnTo>
                <a:lnTo>
                  <a:pt x="681" y="144"/>
                </a:lnTo>
                <a:lnTo>
                  <a:pt x="679" y="142"/>
                </a:lnTo>
                <a:lnTo>
                  <a:pt x="676" y="142"/>
                </a:lnTo>
                <a:lnTo>
                  <a:pt x="672" y="142"/>
                </a:lnTo>
                <a:lnTo>
                  <a:pt x="666" y="142"/>
                </a:lnTo>
                <a:lnTo>
                  <a:pt x="660" y="142"/>
                </a:lnTo>
                <a:lnTo>
                  <a:pt x="654" y="142"/>
                </a:lnTo>
                <a:lnTo>
                  <a:pt x="647" y="142"/>
                </a:lnTo>
                <a:lnTo>
                  <a:pt x="641" y="142"/>
                </a:lnTo>
                <a:lnTo>
                  <a:pt x="633" y="142"/>
                </a:lnTo>
                <a:lnTo>
                  <a:pt x="624" y="142"/>
                </a:lnTo>
                <a:lnTo>
                  <a:pt x="616" y="144"/>
                </a:lnTo>
                <a:lnTo>
                  <a:pt x="606" y="144"/>
                </a:lnTo>
                <a:lnTo>
                  <a:pt x="595" y="145"/>
                </a:lnTo>
                <a:lnTo>
                  <a:pt x="585" y="145"/>
                </a:lnTo>
                <a:lnTo>
                  <a:pt x="574" y="147"/>
                </a:lnTo>
                <a:lnTo>
                  <a:pt x="562" y="149"/>
                </a:lnTo>
                <a:lnTo>
                  <a:pt x="551" y="151"/>
                </a:lnTo>
                <a:lnTo>
                  <a:pt x="537" y="153"/>
                </a:lnTo>
                <a:lnTo>
                  <a:pt x="524" y="155"/>
                </a:lnTo>
                <a:lnTo>
                  <a:pt x="510" y="157"/>
                </a:lnTo>
                <a:lnTo>
                  <a:pt x="495" y="159"/>
                </a:lnTo>
                <a:lnTo>
                  <a:pt x="480" y="161"/>
                </a:lnTo>
                <a:lnTo>
                  <a:pt x="464" y="163"/>
                </a:lnTo>
                <a:lnTo>
                  <a:pt x="447" y="167"/>
                </a:lnTo>
                <a:lnTo>
                  <a:pt x="432" y="168"/>
                </a:lnTo>
                <a:lnTo>
                  <a:pt x="415" y="172"/>
                </a:lnTo>
                <a:lnTo>
                  <a:pt x="395" y="174"/>
                </a:lnTo>
                <a:lnTo>
                  <a:pt x="378" y="178"/>
                </a:lnTo>
                <a:lnTo>
                  <a:pt x="359" y="182"/>
                </a:lnTo>
                <a:lnTo>
                  <a:pt x="340" y="186"/>
                </a:lnTo>
                <a:lnTo>
                  <a:pt x="320" y="188"/>
                </a:lnTo>
                <a:lnTo>
                  <a:pt x="303" y="192"/>
                </a:lnTo>
                <a:lnTo>
                  <a:pt x="286" y="193"/>
                </a:lnTo>
                <a:lnTo>
                  <a:pt x="269" y="197"/>
                </a:lnTo>
                <a:lnTo>
                  <a:pt x="253" y="199"/>
                </a:lnTo>
                <a:lnTo>
                  <a:pt x="236" y="201"/>
                </a:lnTo>
                <a:lnTo>
                  <a:pt x="223" y="203"/>
                </a:lnTo>
                <a:lnTo>
                  <a:pt x="207" y="205"/>
                </a:lnTo>
                <a:lnTo>
                  <a:pt x="194" y="207"/>
                </a:lnTo>
                <a:lnTo>
                  <a:pt x="180" y="207"/>
                </a:lnTo>
                <a:lnTo>
                  <a:pt x="167" y="209"/>
                </a:lnTo>
                <a:lnTo>
                  <a:pt x="155" y="211"/>
                </a:lnTo>
                <a:lnTo>
                  <a:pt x="142" y="211"/>
                </a:lnTo>
                <a:lnTo>
                  <a:pt x="132" y="213"/>
                </a:lnTo>
                <a:lnTo>
                  <a:pt x="121" y="213"/>
                </a:lnTo>
                <a:lnTo>
                  <a:pt x="111" y="213"/>
                </a:lnTo>
                <a:lnTo>
                  <a:pt x="102" y="213"/>
                </a:lnTo>
                <a:lnTo>
                  <a:pt x="92" y="213"/>
                </a:lnTo>
                <a:lnTo>
                  <a:pt x="84" y="213"/>
                </a:lnTo>
                <a:lnTo>
                  <a:pt x="77" y="213"/>
                </a:lnTo>
                <a:lnTo>
                  <a:pt x="69" y="213"/>
                </a:lnTo>
                <a:lnTo>
                  <a:pt x="63" y="213"/>
                </a:lnTo>
                <a:lnTo>
                  <a:pt x="56" y="213"/>
                </a:lnTo>
                <a:lnTo>
                  <a:pt x="52" y="213"/>
                </a:lnTo>
                <a:lnTo>
                  <a:pt x="46" y="211"/>
                </a:lnTo>
                <a:lnTo>
                  <a:pt x="42" y="211"/>
                </a:lnTo>
                <a:lnTo>
                  <a:pt x="38" y="211"/>
                </a:lnTo>
                <a:lnTo>
                  <a:pt x="34" y="209"/>
                </a:lnTo>
                <a:lnTo>
                  <a:pt x="33" y="209"/>
                </a:lnTo>
                <a:lnTo>
                  <a:pt x="31" y="207"/>
                </a:lnTo>
                <a:lnTo>
                  <a:pt x="29" y="207"/>
                </a:lnTo>
                <a:lnTo>
                  <a:pt x="17" y="197"/>
                </a:lnTo>
                <a:lnTo>
                  <a:pt x="13" y="192"/>
                </a:lnTo>
                <a:lnTo>
                  <a:pt x="10" y="186"/>
                </a:lnTo>
                <a:lnTo>
                  <a:pt x="6" y="180"/>
                </a:lnTo>
                <a:lnTo>
                  <a:pt x="4" y="174"/>
                </a:lnTo>
                <a:lnTo>
                  <a:pt x="2" y="167"/>
                </a:lnTo>
                <a:lnTo>
                  <a:pt x="0" y="157"/>
                </a:lnTo>
                <a:lnTo>
                  <a:pt x="40" y="151"/>
                </a:lnTo>
                <a:lnTo>
                  <a:pt x="79" y="145"/>
                </a:lnTo>
                <a:lnTo>
                  <a:pt x="115" y="140"/>
                </a:lnTo>
                <a:lnTo>
                  <a:pt x="152" y="136"/>
                </a:lnTo>
                <a:lnTo>
                  <a:pt x="186" y="130"/>
                </a:lnTo>
                <a:lnTo>
                  <a:pt x="219" y="124"/>
                </a:lnTo>
                <a:lnTo>
                  <a:pt x="251" y="119"/>
                </a:lnTo>
                <a:lnTo>
                  <a:pt x="282" y="115"/>
                </a:lnTo>
                <a:lnTo>
                  <a:pt x="311" y="109"/>
                </a:lnTo>
                <a:lnTo>
                  <a:pt x="340" y="103"/>
                </a:lnTo>
                <a:lnTo>
                  <a:pt x="368" y="99"/>
                </a:lnTo>
                <a:lnTo>
                  <a:pt x="393" y="94"/>
                </a:lnTo>
                <a:lnTo>
                  <a:pt x="418" y="90"/>
                </a:lnTo>
                <a:lnTo>
                  <a:pt x="443" y="86"/>
                </a:lnTo>
                <a:lnTo>
                  <a:pt x="466" y="80"/>
                </a:lnTo>
                <a:lnTo>
                  <a:pt x="487" y="76"/>
                </a:lnTo>
                <a:lnTo>
                  <a:pt x="509" y="73"/>
                </a:lnTo>
                <a:lnTo>
                  <a:pt x="528" y="69"/>
                </a:lnTo>
                <a:lnTo>
                  <a:pt x="545" y="65"/>
                </a:lnTo>
                <a:lnTo>
                  <a:pt x="562" y="61"/>
                </a:lnTo>
                <a:lnTo>
                  <a:pt x="578" y="57"/>
                </a:lnTo>
                <a:lnTo>
                  <a:pt x="593" y="53"/>
                </a:lnTo>
                <a:lnTo>
                  <a:pt x="605" y="49"/>
                </a:lnTo>
                <a:lnTo>
                  <a:pt x="618" y="46"/>
                </a:lnTo>
                <a:lnTo>
                  <a:pt x="629" y="44"/>
                </a:lnTo>
                <a:lnTo>
                  <a:pt x="639" y="40"/>
                </a:lnTo>
                <a:lnTo>
                  <a:pt x="647" y="38"/>
                </a:lnTo>
                <a:lnTo>
                  <a:pt x="654" y="34"/>
                </a:lnTo>
                <a:lnTo>
                  <a:pt x="662" y="32"/>
                </a:lnTo>
                <a:lnTo>
                  <a:pt x="668" y="28"/>
                </a:lnTo>
                <a:lnTo>
                  <a:pt x="672" y="26"/>
                </a:lnTo>
                <a:lnTo>
                  <a:pt x="676" y="25"/>
                </a:lnTo>
                <a:lnTo>
                  <a:pt x="695" y="15"/>
                </a:lnTo>
                <a:lnTo>
                  <a:pt x="704" y="11"/>
                </a:lnTo>
                <a:lnTo>
                  <a:pt x="714" y="7"/>
                </a:lnTo>
                <a:lnTo>
                  <a:pt x="724" y="3"/>
                </a:lnTo>
                <a:lnTo>
                  <a:pt x="731" y="1"/>
                </a:lnTo>
                <a:lnTo>
                  <a:pt x="737" y="0"/>
                </a:lnTo>
                <a:lnTo>
                  <a:pt x="745" y="0"/>
                </a:lnTo>
                <a:lnTo>
                  <a:pt x="750" y="0"/>
                </a:lnTo>
                <a:lnTo>
                  <a:pt x="756" y="1"/>
                </a:lnTo>
                <a:lnTo>
                  <a:pt x="766" y="5"/>
                </a:lnTo>
                <a:lnTo>
                  <a:pt x="772" y="7"/>
                </a:lnTo>
                <a:lnTo>
                  <a:pt x="775" y="9"/>
                </a:lnTo>
                <a:lnTo>
                  <a:pt x="783" y="13"/>
                </a:lnTo>
                <a:lnTo>
                  <a:pt x="789" y="17"/>
                </a:lnTo>
                <a:lnTo>
                  <a:pt x="796" y="21"/>
                </a:lnTo>
                <a:lnTo>
                  <a:pt x="804" y="25"/>
                </a:lnTo>
                <a:lnTo>
                  <a:pt x="812" y="30"/>
                </a:lnTo>
                <a:lnTo>
                  <a:pt x="820" y="36"/>
                </a:lnTo>
                <a:lnTo>
                  <a:pt x="829" y="42"/>
                </a:lnTo>
                <a:lnTo>
                  <a:pt x="841" y="48"/>
                </a:lnTo>
                <a:lnTo>
                  <a:pt x="850" y="55"/>
                </a:lnTo>
                <a:lnTo>
                  <a:pt x="860" y="61"/>
                </a:lnTo>
                <a:lnTo>
                  <a:pt x="867" y="69"/>
                </a:lnTo>
                <a:lnTo>
                  <a:pt x="875" y="74"/>
                </a:lnTo>
                <a:lnTo>
                  <a:pt x="883" y="82"/>
                </a:lnTo>
                <a:lnTo>
                  <a:pt x="891" y="88"/>
                </a:lnTo>
                <a:lnTo>
                  <a:pt x="898" y="94"/>
                </a:lnTo>
                <a:lnTo>
                  <a:pt x="904" y="99"/>
                </a:lnTo>
                <a:lnTo>
                  <a:pt x="910" y="105"/>
                </a:lnTo>
                <a:lnTo>
                  <a:pt x="914" y="111"/>
                </a:lnTo>
                <a:lnTo>
                  <a:pt x="923" y="120"/>
                </a:lnTo>
                <a:lnTo>
                  <a:pt x="927" y="124"/>
                </a:lnTo>
                <a:lnTo>
                  <a:pt x="931" y="128"/>
                </a:lnTo>
                <a:lnTo>
                  <a:pt x="933" y="130"/>
                </a:lnTo>
                <a:lnTo>
                  <a:pt x="937" y="134"/>
                </a:lnTo>
                <a:lnTo>
                  <a:pt x="935" y="138"/>
                </a:lnTo>
                <a:lnTo>
                  <a:pt x="933" y="144"/>
                </a:lnTo>
                <a:lnTo>
                  <a:pt x="931" y="151"/>
                </a:lnTo>
                <a:lnTo>
                  <a:pt x="925" y="157"/>
                </a:lnTo>
                <a:lnTo>
                  <a:pt x="919" y="165"/>
                </a:lnTo>
                <a:lnTo>
                  <a:pt x="914" y="170"/>
                </a:lnTo>
                <a:lnTo>
                  <a:pt x="904" y="176"/>
                </a:lnTo>
                <a:lnTo>
                  <a:pt x="894" y="1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216"/>
          <p:cNvSpPr/>
          <p:nvPr/>
        </p:nvSpPr>
        <p:spPr>
          <a:xfrm>
            <a:off x="5421240" y="3463920"/>
            <a:ext cx="669960" cy="376200"/>
          </a:xfrm>
          <a:custGeom>
            <a:avLst/>
            <a:gdLst/>
            <a:ahLst/>
            <a:rect l="l" t="t" r="r" b="b"/>
            <a:pathLst>
              <a:path w="845" h="474">
                <a:moveTo>
                  <a:pt x="845" y="73"/>
                </a:moveTo>
                <a:lnTo>
                  <a:pt x="807" y="100"/>
                </a:lnTo>
                <a:lnTo>
                  <a:pt x="770" y="125"/>
                </a:lnTo>
                <a:lnTo>
                  <a:pt x="734" y="150"/>
                </a:lnTo>
                <a:lnTo>
                  <a:pt x="699" y="173"/>
                </a:lnTo>
                <a:lnTo>
                  <a:pt x="666" y="196"/>
                </a:lnTo>
                <a:lnTo>
                  <a:pt x="634" y="217"/>
                </a:lnTo>
                <a:lnTo>
                  <a:pt x="603" y="238"/>
                </a:lnTo>
                <a:lnTo>
                  <a:pt x="572" y="257"/>
                </a:lnTo>
                <a:lnTo>
                  <a:pt x="544" y="277"/>
                </a:lnTo>
                <a:lnTo>
                  <a:pt x="515" y="294"/>
                </a:lnTo>
                <a:lnTo>
                  <a:pt x="488" y="311"/>
                </a:lnTo>
                <a:lnTo>
                  <a:pt x="463" y="328"/>
                </a:lnTo>
                <a:lnTo>
                  <a:pt x="438" y="344"/>
                </a:lnTo>
                <a:lnTo>
                  <a:pt x="415" y="357"/>
                </a:lnTo>
                <a:lnTo>
                  <a:pt x="392" y="373"/>
                </a:lnTo>
                <a:lnTo>
                  <a:pt x="371" y="384"/>
                </a:lnTo>
                <a:lnTo>
                  <a:pt x="352" y="398"/>
                </a:lnTo>
                <a:lnTo>
                  <a:pt x="332" y="407"/>
                </a:lnTo>
                <a:lnTo>
                  <a:pt x="313" y="419"/>
                </a:lnTo>
                <a:lnTo>
                  <a:pt x="298" y="428"/>
                </a:lnTo>
                <a:lnTo>
                  <a:pt x="283" y="436"/>
                </a:lnTo>
                <a:lnTo>
                  <a:pt x="267" y="444"/>
                </a:lnTo>
                <a:lnTo>
                  <a:pt x="254" y="451"/>
                </a:lnTo>
                <a:lnTo>
                  <a:pt x="242" y="457"/>
                </a:lnTo>
                <a:lnTo>
                  <a:pt x="231" y="461"/>
                </a:lnTo>
                <a:lnTo>
                  <a:pt x="221" y="467"/>
                </a:lnTo>
                <a:lnTo>
                  <a:pt x="212" y="470"/>
                </a:lnTo>
                <a:lnTo>
                  <a:pt x="204" y="472"/>
                </a:lnTo>
                <a:lnTo>
                  <a:pt x="198" y="474"/>
                </a:lnTo>
                <a:lnTo>
                  <a:pt x="192" y="474"/>
                </a:lnTo>
                <a:lnTo>
                  <a:pt x="189" y="474"/>
                </a:lnTo>
                <a:lnTo>
                  <a:pt x="185" y="474"/>
                </a:lnTo>
                <a:lnTo>
                  <a:pt x="179" y="474"/>
                </a:lnTo>
                <a:lnTo>
                  <a:pt x="173" y="472"/>
                </a:lnTo>
                <a:lnTo>
                  <a:pt x="167" y="472"/>
                </a:lnTo>
                <a:lnTo>
                  <a:pt x="162" y="470"/>
                </a:lnTo>
                <a:lnTo>
                  <a:pt x="154" y="467"/>
                </a:lnTo>
                <a:lnTo>
                  <a:pt x="148" y="463"/>
                </a:lnTo>
                <a:lnTo>
                  <a:pt x="141" y="459"/>
                </a:lnTo>
                <a:lnTo>
                  <a:pt x="133" y="455"/>
                </a:lnTo>
                <a:lnTo>
                  <a:pt x="125" y="449"/>
                </a:lnTo>
                <a:lnTo>
                  <a:pt x="118" y="444"/>
                </a:lnTo>
                <a:lnTo>
                  <a:pt x="108" y="436"/>
                </a:lnTo>
                <a:lnTo>
                  <a:pt x="98" y="428"/>
                </a:lnTo>
                <a:lnTo>
                  <a:pt x="91" y="421"/>
                </a:lnTo>
                <a:lnTo>
                  <a:pt x="81" y="411"/>
                </a:lnTo>
                <a:lnTo>
                  <a:pt x="71" y="399"/>
                </a:lnTo>
                <a:lnTo>
                  <a:pt x="62" y="390"/>
                </a:lnTo>
                <a:lnTo>
                  <a:pt x="50" y="378"/>
                </a:lnTo>
                <a:lnTo>
                  <a:pt x="43" y="367"/>
                </a:lnTo>
                <a:lnTo>
                  <a:pt x="35" y="357"/>
                </a:lnTo>
                <a:lnTo>
                  <a:pt x="27" y="348"/>
                </a:lnTo>
                <a:lnTo>
                  <a:pt x="22" y="340"/>
                </a:lnTo>
                <a:lnTo>
                  <a:pt x="16" y="330"/>
                </a:lnTo>
                <a:lnTo>
                  <a:pt x="12" y="323"/>
                </a:lnTo>
                <a:lnTo>
                  <a:pt x="8" y="317"/>
                </a:lnTo>
                <a:lnTo>
                  <a:pt x="4" y="309"/>
                </a:lnTo>
                <a:lnTo>
                  <a:pt x="2" y="303"/>
                </a:lnTo>
                <a:lnTo>
                  <a:pt x="2" y="298"/>
                </a:lnTo>
                <a:lnTo>
                  <a:pt x="0" y="294"/>
                </a:lnTo>
                <a:lnTo>
                  <a:pt x="0" y="290"/>
                </a:lnTo>
                <a:lnTo>
                  <a:pt x="2" y="286"/>
                </a:lnTo>
                <a:lnTo>
                  <a:pt x="4" y="282"/>
                </a:lnTo>
                <a:lnTo>
                  <a:pt x="6" y="280"/>
                </a:lnTo>
                <a:lnTo>
                  <a:pt x="12" y="275"/>
                </a:lnTo>
                <a:lnTo>
                  <a:pt x="20" y="271"/>
                </a:lnTo>
                <a:lnTo>
                  <a:pt x="27" y="267"/>
                </a:lnTo>
                <a:lnTo>
                  <a:pt x="37" y="265"/>
                </a:lnTo>
                <a:lnTo>
                  <a:pt x="48" y="263"/>
                </a:lnTo>
                <a:lnTo>
                  <a:pt x="60" y="263"/>
                </a:lnTo>
                <a:lnTo>
                  <a:pt x="66" y="263"/>
                </a:lnTo>
                <a:lnTo>
                  <a:pt x="73" y="265"/>
                </a:lnTo>
                <a:lnTo>
                  <a:pt x="81" y="265"/>
                </a:lnTo>
                <a:lnTo>
                  <a:pt x="89" y="269"/>
                </a:lnTo>
                <a:lnTo>
                  <a:pt x="104" y="273"/>
                </a:lnTo>
                <a:lnTo>
                  <a:pt x="118" y="275"/>
                </a:lnTo>
                <a:lnTo>
                  <a:pt x="129" y="277"/>
                </a:lnTo>
                <a:lnTo>
                  <a:pt x="142" y="277"/>
                </a:lnTo>
                <a:lnTo>
                  <a:pt x="154" y="277"/>
                </a:lnTo>
                <a:lnTo>
                  <a:pt x="164" y="275"/>
                </a:lnTo>
                <a:lnTo>
                  <a:pt x="175" y="273"/>
                </a:lnTo>
                <a:lnTo>
                  <a:pt x="185" y="269"/>
                </a:lnTo>
                <a:lnTo>
                  <a:pt x="190" y="267"/>
                </a:lnTo>
                <a:lnTo>
                  <a:pt x="198" y="267"/>
                </a:lnTo>
                <a:lnTo>
                  <a:pt x="206" y="265"/>
                </a:lnTo>
                <a:lnTo>
                  <a:pt x="215" y="261"/>
                </a:lnTo>
                <a:lnTo>
                  <a:pt x="227" y="257"/>
                </a:lnTo>
                <a:lnTo>
                  <a:pt x="240" y="254"/>
                </a:lnTo>
                <a:lnTo>
                  <a:pt x="254" y="248"/>
                </a:lnTo>
                <a:lnTo>
                  <a:pt x="269" y="242"/>
                </a:lnTo>
                <a:lnTo>
                  <a:pt x="286" y="236"/>
                </a:lnTo>
                <a:lnTo>
                  <a:pt x="304" y="229"/>
                </a:lnTo>
                <a:lnTo>
                  <a:pt x="325" y="221"/>
                </a:lnTo>
                <a:lnTo>
                  <a:pt x="346" y="211"/>
                </a:lnTo>
                <a:lnTo>
                  <a:pt x="369" y="202"/>
                </a:lnTo>
                <a:lnTo>
                  <a:pt x="392" y="192"/>
                </a:lnTo>
                <a:lnTo>
                  <a:pt x="419" y="183"/>
                </a:lnTo>
                <a:lnTo>
                  <a:pt x="446" y="171"/>
                </a:lnTo>
                <a:lnTo>
                  <a:pt x="475" y="159"/>
                </a:lnTo>
                <a:lnTo>
                  <a:pt x="501" y="148"/>
                </a:lnTo>
                <a:lnTo>
                  <a:pt x="528" y="136"/>
                </a:lnTo>
                <a:lnTo>
                  <a:pt x="555" y="127"/>
                </a:lnTo>
                <a:lnTo>
                  <a:pt x="580" y="115"/>
                </a:lnTo>
                <a:lnTo>
                  <a:pt x="605" y="106"/>
                </a:lnTo>
                <a:lnTo>
                  <a:pt x="630" y="96"/>
                </a:lnTo>
                <a:lnTo>
                  <a:pt x="655" y="87"/>
                </a:lnTo>
                <a:lnTo>
                  <a:pt x="678" y="75"/>
                </a:lnTo>
                <a:lnTo>
                  <a:pt x="701" y="65"/>
                </a:lnTo>
                <a:lnTo>
                  <a:pt x="745" y="44"/>
                </a:lnTo>
                <a:lnTo>
                  <a:pt x="789" y="23"/>
                </a:lnTo>
                <a:lnTo>
                  <a:pt x="832" y="0"/>
                </a:lnTo>
                <a:lnTo>
                  <a:pt x="837" y="37"/>
                </a:lnTo>
                <a:lnTo>
                  <a:pt x="845" y="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217"/>
          <p:cNvSpPr/>
          <p:nvPr/>
        </p:nvSpPr>
        <p:spPr>
          <a:xfrm>
            <a:off x="5632560" y="2997360"/>
            <a:ext cx="230040" cy="379080"/>
          </a:xfrm>
          <a:custGeom>
            <a:avLst/>
            <a:gdLst/>
            <a:ahLst/>
            <a:rect l="l" t="t" r="r" b="b"/>
            <a:pathLst>
              <a:path w="290" h="478">
                <a:moveTo>
                  <a:pt x="0" y="42"/>
                </a:moveTo>
                <a:lnTo>
                  <a:pt x="0" y="34"/>
                </a:lnTo>
                <a:lnTo>
                  <a:pt x="0" y="29"/>
                </a:lnTo>
                <a:lnTo>
                  <a:pt x="2" y="23"/>
                </a:lnTo>
                <a:lnTo>
                  <a:pt x="2" y="19"/>
                </a:lnTo>
                <a:lnTo>
                  <a:pt x="4" y="15"/>
                </a:lnTo>
                <a:lnTo>
                  <a:pt x="6" y="11"/>
                </a:lnTo>
                <a:lnTo>
                  <a:pt x="10" y="8"/>
                </a:lnTo>
                <a:lnTo>
                  <a:pt x="12" y="6"/>
                </a:lnTo>
                <a:lnTo>
                  <a:pt x="16" y="4"/>
                </a:lnTo>
                <a:lnTo>
                  <a:pt x="19" y="2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41" y="2"/>
                </a:lnTo>
                <a:lnTo>
                  <a:pt x="48" y="4"/>
                </a:lnTo>
                <a:lnTo>
                  <a:pt x="56" y="6"/>
                </a:lnTo>
                <a:lnTo>
                  <a:pt x="64" y="8"/>
                </a:lnTo>
                <a:lnTo>
                  <a:pt x="71" y="11"/>
                </a:lnTo>
                <a:lnTo>
                  <a:pt x="87" y="19"/>
                </a:lnTo>
                <a:lnTo>
                  <a:pt x="102" y="29"/>
                </a:lnTo>
                <a:lnTo>
                  <a:pt x="119" y="38"/>
                </a:lnTo>
                <a:lnTo>
                  <a:pt x="137" y="50"/>
                </a:lnTo>
                <a:lnTo>
                  <a:pt x="154" y="63"/>
                </a:lnTo>
                <a:lnTo>
                  <a:pt x="173" y="77"/>
                </a:lnTo>
                <a:lnTo>
                  <a:pt x="192" y="90"/>
                </a:lnTo>
                <a:lnTo>
                  <a:pt x="208" y="105"/>
                </a:lnTo>
                <a:lnTo>
                  <a:pt x="221" y="121"/>
                </a:lnTo>
                <a:lnTo>
                  <a:pt x="232" y="136"/>
                </a:lnTo>
                <a:lnTo>
                  <a:pt x="244" y="153"/>
                </a:lnTo>
                <a:lnTo>
                  <a:pt x="254" y="173"/>
                </a:lnTo>
                <a:lnTo>
                  <a:pt x="263" y="192"/>
                </a:lnTo>
                <a:lnTo>
                  <a:pt x="269" y="213"/>
                </a:lnTo>
                <a:lnTo>
                  <a:pt x="275" y="236"/>
                </a:lnTo>
                <a:lnTo>
                  <a:pt x="279" y="247"/>
                </a:lnTo>
                <a:lnTo>
                  <a:pt x="280" y="257"/>
                </a:lnTo>
                <a:lnTo>
                  <a:pt x="282" y="267"/>
                </a:lnTo>
                <a:lnTo>
                  <a:pt x="282" y="276"/>
                </a:lnTo>
                <a:lnTo>
                  <a:pt x="284" y="286"/>
                </a:lnTo>
                <a:lnTo>
                  <a:pt x="286" y="294"/>
                </a:lnTo>
                <a:lnTo>
                  <a:pt x="286" y="301"/>
                </a:lnTo>
                <a:lnTo>
                  <a:pt x="288" y="309"/>
                </a:lnTo>
                <a:lnTo>
                  <a:pt x="288" y="315"/>
                </a:lnTo>
                <a:lnTo>
                  <a:pt x="288" y="320"/>
                </a:lnTo>
                <a:lnTo>
                  <a:pt x="288" y="326"/>
                </a:lnTo>
                <a:lnTo>
                  <a:pt x="288" y="332"/>
                </a:lnTo>
                <a:lnTo>
                  <a:pt x="288" y="336"/>
                </a:lnTo>
                <a:lnTo>
                  <a:pt x="288" y="340"/>
                </a:lnTo>
                <a:lnTo>
                  <a:pt x="290" y="341"/>
                </a:lnTo>
                <a:lnTo>
                  <a:pt x="290" y="345"/>
                </a:lnTo>
                <a:lnTo>
                  <a:pt x="288" y="363"/>
                </a:lnTo>
                <a:lnTo>
                  <a:pt x="288" y="372"/>
                </a:lnTo>
                <a:lnTo>
                  <a:pt x="288" y="384"/>
                </a:lnTo>
                <a:lnTo>
                  <a:pt x="286" y="393"/>
                </a:lnTo>
                <a:lnTo>
                  <a:pt x="282" y="405"/>
                </a:lnTo>
                <a:lnTo>
                  <a:pt x="280" y="416"/>
                </a:lnTo>
                <a:lnTo>
                  <a:pt x="275" y="430"/>
                </a:lnTo>
                <a:lnTo>
                  <a:pt x="273" y="436"/>
                </a:lnTo>
                <a:lnTo>
                  <a:pt x="271" y="443"/>
                </a:lnTo>
                <a:lnTo>
                  <a:pt x="267" y="447"/>
                </a:lnTo>
                <a:lnTo>
                  <a:pt x="265" y="453"/>
                </a:lnTo>
                <a:lnTo>
                  <a:pt x="261" y="457"/>
                </a:lnTo>
                <a:lnTo>
                  <a:pt x="259" y="460"/>
                </a:lnTo>
                <a:lnTo>
                  <a:pt x="254" y="468"/>
                </a:lnTo>
                <a:lnTo>
                  <a:pt x="246" y="472"/>
                </a:lnTo>
                <a:lnTo>
                  <a:pt x="238" y="476"/>
                </a:lnTo>
                <a:lnTo>
                  <a:pt x="231" y="478"/>
                </a:lnTo>
                <a:lnTo>
                  <a:pt x="221" y="478"/>
                </a:lnTo>
                <a:lnTo>
                  <a:pt x="215" y="478"/>
                </a:lnTo>
                <a:lnTo>
                  <a:pt x="209" y="476"/>
                </a:lnTo>
                <a:lnTo>
                  <a:pt x="204" y="472"/>
                </a:lnTo>
                <a:lnTo>
                  <a:pt x="198" y="466"/>
                </a:lnTo>
                <a:lnTo>
                  <a:pt x="190" y="460"/>
                </a:lnTo>
                <a:lnTo>
                  <a:pt x="183" y="453"/>
                </a:lnTo>
                <a:lnTo>
                  <a:pt x="177" y="443"/>
                </a:lnTo>
                <a:lnTo>
                  <a:pt x="169" y="432"/>
                </a:lnTo>
                <a:lnTo>
                  <a:pt x="160" y="418"/>
                </a:lnTo>
                <a:lnTo>
                  <a:pt x="152" y="405"/>
                </a:lnTo>
                <a:lnTo>
                  <a:pt x="144" y="389"/>
                </a:lnTo>
                <a:lnTo>
                  <a:pt x="135" y="370"/>
                </a:lnTo>
                <a:lnTo>
                  <a:pt x="125" y="351"/>
                </a:lnTo>
                <a:lnTo>
                  <a:pt x="115" y="332"/>
                </a:lnTo>
                <a:lnTo>
                  <a:pt x="106" y="309"/>
                </a:lnTo>
                <a:lnTo>
                  <a:pt x="96" y="284"/>
                </a:lnTo>
                <a:lnTo>
                  <a:pt x="85" y="261"/>
                </a:lnTo>
                <a:lnTo>
                  <a:pt x="73" y="238"/>
                </a:lnTo>
                <a:lnTo>
                  <a:pt x="62" y="215"/>
                </a:lnTo>
                <a:lnTo>
                  <a:pt x="52" y="196"/>
                </a:lnTo>
                <a:lnTo>
                  <a:pt x="44" y="176"/>
                </a:lnTo>
                <a:lnTo>
                  <a:pt x="37" y="157"/>
                </a:lnTo>
                <a:lnTo>
                  <a:pt x="29" y="142"/>
                </a:lnTo>
                <a:lnTo>
                  <a:pt x="23" y="127"/>
                </a:lnTo>
                <a:lnTo>
                  <a:pt x="18" y="113"/>
                </a:lnTo>
                <a:lnTo>
                  <a:pt x="14" y="100"/>
                </a:lnTo>
                <a:lnTo>
                  <a:pt x="10" y="86"/>
                </a:lnTo>
                <a:lnTo>
                  <a:pt x="6" y="77"/>
                </a:lnTo>
                <a:lnTo>
                  <a:pt x="4" y="67"/>
                </a:lnTo>
                <a:lnTo>
                  <a:pt x="2" y="57"/>
                </a:lnTo>
                <a:lnTo>
                  <a:pt x="0" y="50"/>
                </a:lnTo>
                <a:lnTo>
                  <a:pt x="0" y="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218"/>
          <p:cNvSpPr/>
          <p:nvPr/>
        </p:nvSpPr>
        <p:spPr>
          <a:xfrm>
            <a:off x="5478480" y="2741760"/>
            <a:ext cx="733320" cy="1860480"/>
          </a:xfrm>
          <a:custGeom>
            <a:avLst/>
            <a:gdLst/>
            <a:ahLst/>
            <a:rect l="l" t="t" r="r" b="b"/>
            <a:pathLst>
              <a:path w="924" h="2344">
                <a:moveTo>
                  <a:pt x="2" y="2344"/>
                </a:moveTo>
                <a:lnTo>
                  <a:pt x="0" y="2340"/>
                </a:lnTo>
                <a:lnTo>
                  <a:pt x="0" y="2334"/>
                </a:lnTo>
                <a:lnTo>
                  <a:pt x="0" y="2329"/>
                </a:lnTo>
                <a:lnTo>
                  <a:pt x="4" y="2321"/>
                </a:lnTo>
                <a:lnTo>
                  <a:pt x="10" y="2311"/>
                </a:lnTo>
                <a:lnTo>
                  <a:pt x="16" y="2300"/>
                </a:lnTo>
                <a:lnTo>
                  <a:pt x="23" y="2286"/>
                </a:lnTo>
                <a:lnTo>
                  <a:pt x="33" y="2273"/>
                </a:lnTo>
                <a:lnTo>
                  <a:pt x="45" y="2256"/>
                </a:lnTo>
                <a:lnTo>
                  <a:pt x="58" y="2238"/>
                </a:lnTo>
                <a:lnTo>
                  <a:pt x="71" y="2219"/>
                </a:lnTo>
                <a:lnTo>
                  <a:pt x="87" y="2198"/>
                </a:lnTo>
                <a:lnTo>
                  <a:pt x="104" y="2177"/>
                </a:lnTo>
                <a:lnTo>
                  <a:pt x="123" y="2152"/>
                </a:lnTo>
                <a:lnTo>
                  <a:pt x="144" y="2127"/>
                </a:lnTo>
                <a:lnTo>
                  <a:pt x="167" y="2100"/>
                </a:lnTo>
                <a:lnTo>
                  <a:pt x="190" y="2073"/>
                </a:lnTo>
                <a:lnTo>
                  <a:pt x="212" y="2045"/>
                </a:lnTo>
                <a:lnTo>
                  <a:pt x="233" y="2016"/>
                </a:lnTo>
                <a:lnTo>
                  <a:pt x="254" y="1989"/>
                </a:lnTo>
                <a:lnTo>
                  <a:pt x="296" y="1929"/>
                </a:lnTo>
                <a:lnTo>
                  <a:pt x="334" y="1872"/>
                </a:lnTo>
                <a:lnTo>
                  <a:pt x="373" y="1810"/>
                </a:lnTo>
                <a:lnTo>
                  <a:pt x="392" y="1778"/>
                </a:lnTo>
                <a:lnTo>
                  <a:pt x="411" y="1747"/>
                </a:lnTo>
                <a:lnTo>
                  <a:pt x="428" y="1714"/>
                </a:lnTo>
                <a:lnTo>
                  <a:pt x="448" y="1682"/>
                </a:lnTo>
                <a:lnTo>
                  <a:pt x="465" y="1649"/>
                </a:lnTo>
                <a:lnTo>
                  <a:pt x="484" y="1615"/>
                </a:lnTo>
                <a:lnTo>
                  <a:pt x="501" y="1580"/>
                </a:lnTo>
                <a:lnTo>
                  <a:pt x="517" y="1546"/>
                </a:lnTo>
                <a:lnTo>
                  <a:pt x="534" y="1511"/>
                </a:lnTo>
                <a:lnTo>
                  <a:pt x="549" y="1475"/>
                </a:lnTo>
                <a:lnTo>
                  <a:pt x="565" y="1440"/>
                </a:lnTo>
                <a:lnTo>
                  <a:pt x="580" y="1403"/>
                </a:lnTo>
                <a:lnTo>
                  <a:pt x="593" y="1367"/>
                </a:lnTo>
                <a:lnTo>
                  <a:pt x="607" y="1331"/>
                </a:lnTo>
                <a:lnTo>
                  <a:pt x="618" y="1294"/>
                </a:lnTo>
                <a:lnTo>
                  <a:pt x="632" y="1256"/>
                </a:lnTo>
                <a:lnTo>
                  <a:pt x="643" y="1217"/>
                </a:lnTo>
                <a:lnTo>
                  <a:pt x="653" y="1179"/>
                </a:lnTo>
                <a:lnTo>
                  <a:pt x="664" y="1141"/>
                </a:lnTo>
                <a:lnTo>
                  <a:pt x="672" y="1100"/>
                </a:lnTo>
                <a:lnTo>
                  <a:pt x="682" y="1060"/>
                </a:lnTo>
                <a:lnTo>
                  <a:pt x="689" y="1020"/>
                </a:lnTo>
                <a:lnTo>
                  <a:pt x="697" y="979"/>
                </a:lnTo>
                <a:lnTo>
                  <a:pt x="705" y="939"/>
                </a:lnTo>
                <a:lnTo>
                  <a:pt x="711" y="901"/>
                </a:lnTo>
                <a:lnTo>
                  <a:pt x="716" y="862"/>
                </a:lnTo>
                <a:lnTo>
                  <a:pt x="724" y="826"/>
                </a:lnTo>
                <a:lnTo>
                  <a:pt x="730" y="789"/>
                </a:lnTo>
                <a:lnTo>
                  <a:pt x="734" y="753"/>
                </a:lnTo>
                <a:lnTo>
                  <a:pt x="739" y="718"/>
                </a:lnTo>
                <a:lnTo>
                  <a:pt x="743" y="684"/>
                </a:lnTo>
                <a:lnTo>
                  <a:pt x="747" y="649"/>
                </a:lnTo>
                <a:lnTo>
                  <a:pt x="751" y="617"/>
                </a:lnTo>
                <a:lnTo>
                  <a:pt x="753" y="584"/>
                </a:lnTo>
                <a:lnTo>
                  <a:pt x="755" y="553"/>
                </a:lnTo>
                <a:lnTo>
                  <a:pt x="757" y="522"/>
                </a:lnTo>
                <a:lnTo>
                  <a:pt x="759" y="492"/>
                </a:lnTo>
                <a:lnTo>
                  <a:pt x="759" y="461"/>
                </a:lnTo>
                <a:lnTo>
                  <a:pt x="755" y="434"/>
                </a:lnTo>
                <a:lnTo>
                  <a:pt x="753" y="409"/>
                </a:lnTo>
                <a:lnTo>
                  <a:pt x="751" y="384"/>
                </a:lnTo>
                <a:lnTo>
                  <a:pt x="747" y="359"/>
                </a:lnTo>
                <a:lnTo>
                  <a:pt x="745" y="334"/>
                </a:lnTo>
                <a:lnTo>
                  <a:pt x="743" y="313"/>
                </a:lnTo>
                <a:lnTo>
                  <a:pt x="739" y="290"/>
                </a:lnTo>
                <a:lnTo>
                  <a:pt x="737" y="269"/>
                </a:lnTo>
                <a:lnTo>
                  <a:pt x="736" y="248"/>
                </a:lnTo>
                <a:lnTo>
                  <a:pt x="732" y="229"/>
                </a:lnTo>
                <a:lnTo>
                  <a:pt x="730" y="210"/>
                </a:lnTo>
                <a:lnTo>
                  <a:pt x="728" y="190"/>
                </a:lnTo>
                <a:lnTo>
                  <a:pt x="724" y="173"/>
                </a:lnTo>
                <a:lnTo>
                  <a:pt x="722" y="154"/>
                </a:lnTo>
                <a:lnTo>
                  <a:pt x="720" y="139"/>
                </a:lnTo>
                <a:lnTo>
                  <a:pt x="716" y="121"/>
                </a:lnTo>
                <a:lnTo>
                  <a:pt x="712" y="108"/>
                </a:lnTo>
                <a:lnTo>
                  <a:pt x="709" y="96"/>
                </a:lnTo>
                <a:lnTo>
                  <a:pt x="705" y="85"/>
                </a:lnTo>
                <a:lnTo>
                  <a:pt x="701" y="73"/>
                </a:lnTo>
                <a:lnTo>
                  <a:pt x="699" y="64"/>
                </a:lnTo>
                <a:lnTo>
                  <a:pt x="699" y="54"/>
                </a:lnTo>
                <a:lnTo>
                  <a:pt x="697" y="46"/>
                </a:lnTo>
                <a:lnTo>
                  <a:pt x="699" y="39"/>
                </a:lnTo>
                <a:lnTo>
                  <a:pt x="699" y="31"/>
                </a:lnTo>
                <a:lnTo>
                  <a:pt x="701" y="25"/>
                </a:lnTo>
                <a:lnTo>
                  <a:pt x="703" y="20"/>
                </a:lnTo>
                <a:lnTo>
                  <a:pt x="707" y="14"/>
                </a:lnTo>
                <a:lnTo>
                  <a:pt x="712" y="10"/>
                </a:lnTo>
                <a:lnTo>
                  <a:pt x="716" y="6"/>
                </a:lnTo>
                <a:lnTo>
                  <a:pt x="724" y="2"/>
                </a:lnTo>
                <a:lnTo>
                  <a:pt x="732" y="0"/>
                </a:lnTo>
                <a:lnTo>
                  <a:pt x="747" y="0"/>
                </a:lnTo>
                <a:lnTo>
                  <a:pt x="755" y="2"/>
                </a:lnTo>
                <a:lnTo>
                  <a:pt x="764" y="2"/>
                </a:lnTo>
                <a:lnTo>
                  <a:pt x="774" y="4"/>
                </a:lnTo>
                <a:lnTo>
                  <a:pt x="785" y="6"/>
                </a:lnTo>
                <a:lnTo>
                  <a:pt x="795" y="8"/>
                </a:lnTo>
                <a:lnTo>
                  <a:pt x="807" y="10"/>
                </a:lnTo>
                <a:lnTo>
                  <a:pt x="818" y="14"/>
                </a:lnTo>
                <a:lnTo>
                  <a:pt x="831" y="18"/>
                </a:lnTo>
                <a:lnTo>
                  <a:pt x="845" y="21"/>
                </a:lnTo>
                <a:lnTo>
                  <a:pt x="858" y="25"/>
                </a:lnTo>
                <a:lnTo>
                  <a:pt x="874" y="31"/>
                </a:lnTo>
                <a:lnTo>
                  <a:pt x="889" y="37"/>
                </a:lnTo>
                <a:lnTo>
                  <a:pt x="906" y="43"/>
                </a:lnTo>
                <a:lnTo>
                  <a:pt x="924" y="48"/>
                </a:lnTo>
                <a:lnTo>
                  <a:pt x="924" y="83"/>
                </a:lnTo>
                <a:lnTo>
                  <a:pt x="924" y="116"/>
                </a:lnTo>
                <a:lnTo>
                  <a:pt x="924" y="148"/>
                </a:lnTo>
                <a:lnTo>
                  <a:pt x="924" y="181"/>
                </a:lnTo>
                <a:lnTo>
                  <a:pt x="924" y="213"/>
                </a:lnTo>
                <a:lnTo>
                  <a:pt x="924" y="244"/>
                </a:lnTo>
                <a:lnTo>
                  <a:pt x="924" y="306"/>
                </a:lnTo>
                <a:lnTo>
                  <a:pt x="924" y="365"/>
                </a:lnTo>
                <a:lnTo>
                  <a:pt x="924" y="423"/>
                </a:lnTo>
                <a:lnTo>
                  <a:pt x="924" y="478"/>
                </a:lnTo>
                <a:lnTo>
                  <a:pt x="924" y="534"/>
                </a:lnTo>
                <a:lnTo>
                  <a:pt x="918" y="593"/>
                </a:lnTo>
                <a:lnTo>
                  <a:pt x="912" y="655"/>
                </a:lnTo>
                <a:lnTo>
                  <a:pt x="906" y="718"/>
                </a:lnTo>
                <a:lnTo>
                  <a:pt x="899" y="782"/>
                </a:lnTo>
                <a:lnTo>
                  <a:pt x="891" y="847"/>
                </a:lnTo>
                <a:lnTo>
                  <a:pt x="885" y="881"/>
                </a:lnTo>
                <a:lnTo>
                  <a:pt x="879" y="916"/>
                </a:lnTo>
                <a:lnTo>
                  <a:pt x="876" y="950"/>
                </a:lnTo>
                <a:lnTo>
                  <a:pt x="868" y="985"/>
                </a:lnTo>
                <a:lnTo>
                  <a:pt x="862" y="1020"/>
                </a:lnTo>
                <a:lnTo>
                  <a:pt x="855" y="1056"/>
                </a:lnTo>
                <a:lnTo>
                  <a:pt x="847" y="1094"/>
                </a:lnTo>
                <a:lnTo>
                  <a:pt x="837" y="1133"/>
                </a:lnTo>
                <a:lnTo>
                  <a:pt x="828" y="1171"/>
                </a:lnTo>
                <a:lnTo>
                  <a:pt x="818" y="1210"/>
                </a:lnTo>
                <a:lnTo>
                  <a:pt x="807" y="1248"/>
                </a:lnTo>
                <a:lnTo>
                  <a:pt x="795" y="1284"/>
                </a:lnTo>
                <a:lnTo>
                  <a:pt x="783" y="1323"/>
                </a:lnTo>
                <a:lnTo>
                  <a:pt x="770" y="1359"/>
                </a:lnTo>
                <a:lnTo>
                  <a:pt x="757" y="1398"/>
                </a:lnTo>
                <a:lnTo>
                  <a:pt x="741" y="1434"/>
                </a:lnTo>
                <a:lnTo>
                  <a:pt x="726" y="1473"/>
                </a:lnTo>
                <a:lnTo>
                  <a:pt x="709" y="1511"/>
                </a:lnTo>
                <a:lnTo>
                  <a:pt x="691" y="1547"/>
                </a:lnTo>
                <a:lnTo>
                  <a:pt x="674" y="1586"/>
                </a:lnTo>
                <a:lnTo>
                  <a:pt x="655" y="1624"/>
                </a:lnTo>
                <a:lnTo>
                  <a:pt x="634" y="1665"/>
                </a:lnTo>
                <a:lnTo>
                  <a:pt x="615" y="1703"/>
                </a:lnTo>
                <a:lnTo>
                  <a:pt x="593" y="1739"/>
                </a:lnTo>
                <a:lnTo>
                  <a:pt x="572" y="1776"/>
                </a:lnTo>
                <a:lnTo>
                  <a:pt x="549" y="1812"/>
                </a:lnTo>
                <a:lnTo>
                  <a:pt x="528" y="1847"/>
                </a:lnTo>
                <a:lnTo>
                  <a:pt x="505" y="1880"/>
                </a:lnTo>
                <a:lnTo>
                  <a:pt x="482" y="1914"/>
                </a:lnTo>
                <a:lnTo>
                  <a:pt x="457" y="1945"/>
                </a:lnTo>
                <a:lnTo>
                  <a:pt x="434" y="1977"/>
                </a:lnTo>
                <a:lnTo>
                  <a:pt x="409" y="2008"/>
                </a:lnTo>
                <a:lnTo>
                  <a:pt x="382" y="2037"/>
                </a:lnTo>
                <a:lnTo>
                  <a:pt x="357" y="2066"/>
                </a:lnTo>
                <a:lnTo>
                  <a:pt x="331" y="2094"/>
                </a:lnTo>
                <a:lnTo>
                  <a:pt x="304" y="2121"/>
                </a:lnTo>
                <a:lnTo>
                  <a:pt x="277" y="2148"/>
                </a:lnTo>
                <a:lnTo>
                  <a:pt x="250" y="2173"/>
                </a:lnTo>
                <a:lnTo>
                  <a:pt x="221" y="2196"/>
                </a:lnTo>
                <a:lnTo>
                  <a:pt x="196" y="2215"/>
                </a:lnTo>
                <a:lnTo>
                  <a:pt x="171" y="2237"/>
                </a:lnTo>
                <a:lnTo>
                  <a:pt x="148" y="2254"/>
                </a:lnTo>
                <a:lnTo>
                  <a:pt x="127" y="2269"/>
                </a:lnTo>
                <a:lnTo>
                  <a:pt x="108" y="2285"/>
                </a:lnTo>
                <a:lnTo>
                  <a:pt x="91" y="2298"/>
                </a:lnTo>
                <a:lnTo>
                  <a:pt x="73" y="2309"/>
                </a:lnTo>
                <a:lnTo>
                  <a:pt x="60" y="2319"/>
                </a:lnTo>
                <a:lnTo>
                  <a:pt x="46" y="2327"/>
                </a:lnTo>
                <a:lnTo>
                  <a:pt x="35" y="2334"/>
                </a:lnTo>
                <a:lnTo>
                  <a:pt x="25" y="2338"/>
                </a:lnTo>
                <a:lnTo>
                  <a:pt x="16" y="2342"/>
                </a:lnTo>
                <a:lnTo>
                  <a:pt x="10" y="2344"/>
                </a:lnTo>
                <a:lnTo>
                  <a:pt x="4" y="2344"/>
                </a:lnTo>
                <a:lnTo>
                  <a:pt x="2" y="23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219"/>
          <p:cNvSpPr/>
          <p:nvPr/>
        </p:nvSpPr>
        <p:spPr>
          <a:xfrm>
            <a:off x="6124680" y="2625840"/>
            <a:ext cx="1430280" cy="231840"/>
          </a:xfrm>
          <a:custGeom>
            <a:avLst/>
            <a:gdLst/>
            <a:ahLst/>
            <a:rect l="l" t="t" r="r" b="b"/>
            <a:pathLst>
              <a:path w="1803" h="292">
                <a:moveTo>
                  <a:pt x="879" y="98"/>
                </a:moveTo>
                <a:lnTo>
                  <a:pt x="914" y="93"/>
                </a:lnTo>
                <a:lnTo>
                  <a:pt x="948" y="87"/>
                </a:lnTo>
                <a:lnTo>
                  <a:pt x="981" y="81"/>
                </a:lnTo>
                <a:lnTo>
                  <a:pt x="1012" y="75"/>
                </a:lnTo>
                <a:lnTo>
                  <a:pt x="1042" y="71"/>
                </a:lnTo>
                <a:lnTo>
                  <a:pt x="1073" y="66"/>
                </a:lnTo>
                <a:lnTo>
                  <a:pt x="1102" y="62"/>
                </a:lnTo>
                <a:lnTo>
                  <a:pt x="1131" y="56"/>
                </a:lnTo>
                <a:lnTo>
                  <a:pt x="1158" y="52"/>
                </a:lnTo>
                <a:lnTo>
                  <a:pt x="1184" y="48"/>
                </a:lnTo>
                <a:lnTo>
                  <a:pt x="1209" y="45"/>
                </a:lnTo>
                <a:lnTo>
                  <a:pt x="1234" y="41"/>
                </a:lnTo>
                <a:lnTo>
                  <a:pt x="1257" y="37"/>
                </a:lnTo>
                <a:lnTo>
                  <a:pt x="1280" y="33"/>
                </a:lnTo>
                <a:lnTo>
                  <a:pt x="1302" y="29"/>
                </a:lnTo>
                <a:lnTo>
                  <a:pt x="1323" y="25"/>
                </a:lnTo>
                <a:lnTo>
                  <a:pt x="1344" y="24"/>
                </a:lnTo>
                <a:lnTo>
                  <a:pt x="1363" y="20"/>
                </a:lnTo>
                <a:lnTo>
                  <a:pt x="1382" y="18"/>
                </a:lnTo>
                <a:lnTo>
                  <a:pt x="1399" y="16"/>
                </a:lnTo>
                <a:lnTo>
                  <a:pt x="1415" y="12"/>
                </a:lnTo>
                <a:lnTo>
                  <a:pt x="1432" y="10"/>
                </a:lnTo>
                <a:lnTo>
                  <a:pt x="1446" y="8"/>
                </a:lnTo>
                <a:lnTo>
                  <a:pt x="1461" y="6"/>
                </a:lnTo>
                <a:lnTo>
                  <a:pt x="1472" y="6"/>
                </a:lnTo>
                <a:lnTo>
                  <a:pt x="1486" y="4"/>
                </a:lnTo>
                <a:lnTo>
                  <a:pt x="1497" y="2"/>
                </a:lnTo>
                <a:lnTo>
                  <a:pt x="1507" y="2"/>
                </a:lnTo>
                <a:lnTo>
                  <a:pt x="1517" y="2"/>
                </a:lnTo>
                <a:lnTo>
                  <a:pt x="1526" y="0"/>
                </a:lnTo>
                <a:lnTo>
                  <a:pt x="1534" y="0"/>
                </a:lnTo>
                <a:lnTo>
                  <a:pt x="1540" y="0"/>
                </a:lnTo>
                <a:lnTo>
                  <a:pt x="1566" y="0"/>
                </a:lnTo>
                <a:lnTo>
                  <a:pt x="1591" y="2"/>
                </a:lnTo>
                <a:lnTo>
                  <a:pt x="1616" y="4"/>
                </a:lnTo>
                <a:lnTo>
                  <a:pt x="1641" y="8"/>
                </a:lnTo>
                <a:lnTo>
                  <a:pt x="1666" y="12"/>
                </a:lnTo>
                <a:lnTo>
                  <a:pt x="1689" y="16"/>
                </a:lnTo>
                <a:lnTo>
                  <a:pt x="1712" y="20"/>
                </a:lnTo>
                <a:lnTo>
                  <a:pt x="1733" y="25"/>
                </a:lnTo>
                <a:lnTo>
                  <a:pt x="1747" y="33"/>
                </a:lnTo>
                <a:lnTo>
                  <a:pt x="1760" y="41"/>
                </a:lnTo>
                <a:lnTo>
                  <a:pt x="1772" y="48"/>
                </a:lnTo>
                <a:lnTo>
                  <a:pt x="1783" y="54"/>
                </a:lnTo>
                <a:lnTo>
                  <a:pt x="1787" y="56"/>
                </a:lnTo>
                <a:lnTo>
                  <a:pt x="1791" y="60"/>
                </a:lnTo>
                <a:lnTo>
                  <a:pt x="1795" y="62"/>
                </a:lnTo>
                <a:lnTo>
                  <a:pt x="1797" y="64"/>
                </a:lnTo>
                <a:lnTo>
                  <a:pt x="1799" y="66"/>
                </a:lnTo>
                <a:lnTo>
                  <a:pt x="1801" y="70"/>
                </a:lnTo>
                <a:lnTo>
                  <a:pt x="1801" y="71"/>
                </a:lnTo>
                <a:lnTo>
                  <a:pt x="1803" y="73"/>
                </a:lnTo>
                <a:lnTo>
                  <a:pt x="1801" y="77"/>
                </a:lnTo>
                <a:lnTo>
                  <a:pt x="1799" y="83"/>
                </a:lnTo>
                <a:lnTo>
                  <a:pt x="1795" y="87"/>
                </a:lnTo>
                <a:lnTo>
                  <a:pt x="1793" y="89"/>
                </a:lnTo>
                <a:lnTo>
                  <a:pt x="1789" y="91"/>
                </a:lnTo>
                <a:lnTo>
                  <a:pt x="1785" y="95"/>
                </a:lnTo>
                <a:lnTo>
                  <a:pt x="1781" y="96"/>
                </a:lnTo>
                <a:lnTo>
                  <a:pt x="1778" y="98"/>
                </a:lnTo>
                <a:lnTo>
                  <a:pt x="1772" y="100"/>
                </a:lnTo>
                <a:lnTo>
                  <a:pt x="1766" y="102"/>
                </a:lnTo>
                <a:lnTo>
                  <a:pt x="1760" y="106"/>
                </a:lnTo>
                <a:lnTo>
                  <a:pt x="1755" y="108"/>
                </a:lnTo>
                <a:lnTo>
                  <a:pt x="1747" y="110"/>
                </a:lnTo>
                <a:lnTo>
                  <a:pt x="1741" y="112"/>
                </a:lnTo>
                <a:lnTo>
                  <a:pt x="1735" y="112"/>
                </a:lnTo>
                <a:lnTo>
                  <a:pt x="1730" y="114"/>
                </a:lnTo>
                <a:lnTo>
                  <a:pt x="1720" y="116"/>
                </a:lnTo>
                <a:lnTo>
                  <a:pt x="1710" y="118"/>
                </a:lnTo>
                <a:lnTo>
                  <a:pt x="1699" y="119"/>
                </a:lnTo>
                <a:lnTo>
                  <a:pt x="1685" y="121"/>
                </a:lnTo>
                <a:lnTo>
                  <a:pt x="1672" y="123"/>
                </a:lnTo>
                <a:lnTo>
                  <a:pt x="1657" y="125"/>
                </a:lnTo>
                <a:lnTo>
                  <a:pt x="1639" y="127"/>
                </a:lnTo>
                <a:lnTo>
                  <a:pt x="1620" y="131"/>
                </a:lnTo>
                <a:lnTo>
                  <a:pt x="1601" y="133"/>
                </a:lnTo>
                <a:lnTo>
                  <a:pt x="1580" y="135"/>
                </a:lnTo>
                <a:lnTo>
                  <a:pt x="1557" y="139"/>
                </a:lnTo>
                <a:lnTo>
                  <a:pt x="1534" y="141"/>
                </a:lnTo>
                <a:lnTo>
                  <a:pt x="1507" y="144"/>
                </a:lnTo>
                <a:lnTo>
                  <a:pt x="1480" y="148"/>
                </a:lnTo>
                <a:lnTo>
                  <a:pt x="1453" y="150"/>
                </a:lnTo>
                <a:lnTo>
                  <a:pt x="1422" y="154"/>
                </a:lnTo>
                <a:lnTo>
                  <a:pt x="1392" y="158"/>
                </a:lnTo>
                <a:lnTo>
                  <a:pt x="1359" y="162"/>
                </a:lnTo>
                <a:lnTo>
                  <a:pt x="1325" y="166"/>
                </a:lnTo>
                <a:lnTo>
                  <a:pt x="1290" y="169"/>
                </a:lnTo>
                <a:lnTo>
                  <a:pt x="1254" y="173"/>
                </a:lnTo>
                <a:lnTo>
                  <a:pt x="1215" y="177"/>
                </a:lnTo>
                <a:lnTo>
                  <a:pt x="1175" y="181"/>
                </a:lnTo>
                <a:lnTo>
                  <a:pt x="1135" y="185"/>
                </a:lnTo>
                <a:lnTo>
                  <a:pt x="1092" y="189"/>
                </a:lnTo>
                <a:lnTo>
                  <a:pt x="1048" y="192"/>
                </a:lnTo>
                <a:lnTo>
                  <a:pt x="1002" y="198"/>
                </a:lnTo>
                <a:lnTo>
                  <a:pt x="956" y="202"/>
                </a:lnTo>
                <a:lnTo>
                  <a:pt x="908" y="208"/>
                </a:lnTo>
                <a:lnTo>
                  <a:pt x="858" y="212"/>
                </a:lnTo>
                <a:lnTo>
                  <a:pt x="810" y="217"/>
                </a:lnTo>
                <a:lnTo>
                  <a:pt x="762" y="223"/>
                </a:lnTo>
                <a:lnTo>
                  <a:pt x="716" y="229"/>
                </a:lnTo>
                <a:lnTo>
                  <a:pt x="672" y="233"/>
                </a:lnTo>
                <a:lnTo>
                  <a:pt x="630" y="238"/>
                </a:lnTo>
                <a:lnTo>
                  <a:pt x="589" y="242"/>
                </a:lnTo>
                <a:lnTo>
                  <a:pt x="549" y="246"/>
                </a:lnTo>
                <a:lnTo>
                  <a:pt x="511" y="250"/>
                </a:lnTo>
                <a:lnTo>
                  <a:pt x="472" y="254"/>
                </a:lnTo>
                <a:lnTo>
                  <a:pt x="436" y="258"/>
                </a:lnTo>
                <a:lnTo>
                  <a:pt x="401" y="262"/>
                </a:lnTo>
                <a:lnTo>
                  <a:pt x="369" y="263"/>
                </a:lnTo>
                <a:lnTo>
                  <a:pt x="338" y="267"/>
                </a:lnTo>
                <a:lnTo>
                  <a:pt x="307" y="269"/>
                </a:lnTo>
                <a:lnTo>
                  <a:pt x="279" y="273"/>
                </a:lnTo>
                <a:lnTo>
                  <a:pt x="250" y="275"/>
                </a:lnTo>
                <a:lnTo>
                  <a:pt x="223" y="277"/>
                </a:lnTo>
                <a:lnTo>
                  <a:pt x="198" y="279"/>
                </a:lnTo>
                <a:lnTo>
                  <a:pt x="175" y="281"/>
                </a:lnTo>
                <a:lnTo>
                  <a:pt x="154" y="283"/>
                </a:lnTo>
                <a:lnTo>
                  <a:pt x="133" y="285"/>
                </a:lnTo>
                <a:lnTo>
                  <a:pt x="113" y="286"/>
                </a:lnTo>
                <a:lnTo>
                  <a:pt x="94" y="286"/>
                </a:lnTo>
                <a:lnTo>
                  <a:pt x="77" y="288"/>
                </a:lnTo>
                <a:lnTo>
                  <a:pt x="62" y="288"/>
                </a:lnTo>
                <a:lnTo>
                  <a:pt x="48" y="290"/>
                </a:lnTo>
                <a:lnTo>
                  <a:pt x="37" y="290"/>
                </a:lnTo>
                <a:lnTo>
                  <a:pt x="25" y="290"/>
                </a:lnTo>
                <a:lnTo>
                  <a:pt x="16" y="292"/>
                </a:lnTo>
                <a:lnTo>
                  <a:pt x="6" y="292"/>
                </a:lnTo>
                <a:lnTo>
                  <a:pt x="0" y="292"/>
                </a:lnTo>
                <a:lnTo>
                  <a:pt x="0" y="244"/>
                </a:lnTo>
                <a:lnTo>
                  <a:pt x="0" y="194"/>
                </a:lnTo>
                <a:lnTo>
                  <a:pt x="41" y="194"/>
                </a:lnTo>
                <a:lnTo>
                  <a:pt x="85" y="192"/>
                </a:lnTo>
                <a:lnTo>
                  <a:pt x="131" y="190"/>
                </a:lnTo>
                <a:lnTo>
                  <a:pt x="177" y="189"/>
                </a:lnTo>
                <a:lnTo>
                  <a:pt x="227" y="185"/>
                </a:lnTo>
                <a:lnTo>
                  <a:pt x="277" y="181"/>
                </a:lnTo>
                <a:lnTo>
                  <a:pt x="328" y="175"/>
                </a:lnTo>
                <a:lnTo>
                  <a:pt x="382" y="169"/>
                </a:lnTo>
                <a:lnTo>
                  <a:pt x="438" y="164"/>
                </a:lnTo>
                <a:lnTo>
                  <a:pt x="495" y="156"/>
                </a:lnTo>
                <a:lnTo>
                  <a:pt x="555" y="148"/>
                </a:lnTo>
                <a:lnTo>
                  <a:pt x="616" y="139"/>
                </a:lnTo>
                <a:lnTo>
                  <a:pt x="680" y="129"/>
                </a:lnTo>
                <a:lnTo>
                  <a:pt x="745" y="119"/>
                </a:lnTo>
                <a:lnTo>
                  <a:pt x="810" y="110"/>
                </a:lnTo>
                <a:lnTo>
                  <a:pt x="845" y="104"/>
                </a:lnTo>
                <a:lnTo>
                  <a:pt x="879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220"/>
          <p:cNvSpPr/>
          <p:nvPr/>
        </p:nvSpPr>
        <p:spPr>
          <a:xfrm>
            <a:off x="6626160" y="2381400"/>
            <a:ext cx="405000" cy="226800"/>
          </a:xfrm>
          <a:custGeom>
            <a:avLst/>
            <a:gdLst/>
            <a:ahLst/>
            <a:rect l="l" t="t" r="r" b="b"/>
            <a:pathLst>
              <a:path w="510" h="286">
                <a:moveTo>
                  <a:pt x="428" y="79"/>
                </a:moveTo>
                <a:lnTo>
                  <a:pt x="437" y="87"/>
                </a:lnTo>
                <a:lnTo>
                  <a:pt x="447" y="93"/>
                </a:lnTo>
                <a:lnTo>
                  <a:pt x="455" y="100"/>
                </a:lnTo>
                <a:lnTo>
                  <a:pt x="462" y="108"/>
                </a:lnTo>
                <a:lnTo>
                  <a:pt x="470" y="116"/>
                </a:lnTo>
                <a:lnTo>
                  <a:pt x="478" y="125"/>
                </a:lnTo>
                <a:lnTo>
                  <a:pt x="483" y="133"/>
                </a:lnTo>
                <a:lnTo>
                  <a:pt x="489" y="141"/>
                </a:lnTo>
                <a:lnTo>
                  <a:pt x="493" y="150"/>
                </a:lnTo>
                <a:lnTo>
                  <a:pt x="497" y="158"/>
                </a:lnTo>
                <a:lnTo>
                  <a:pt x="501" y="167"/>
                </a:lnTo>
                <a:lnTo>
                  <a:pt x="505" y="177"/>
                </a:lnTo>
                <a:lnTo>
                  <a:pt x="506" y="185"/>
                </a:lnTo>
                <a:lnTo>
                  <a:pt x="508" y="194"/>
                </a:lnTo>
                <a:lnTo>
                  <a:pt x="508" y="204"/>
                </a:lnTo>
                <a:lnTo>
                  <a:pt x="510" y="213"/>
                </a:lnTo>
                <a:lnTo>
                  <a:pt x="508" y="221"/>
                </a:lnTo>
                <a:lnTo>
                  <a:pt x="508" y="229"/>
                </a:lnTo>
                <a:lnTo>
                  <a:pt x="506" y="237"/>
                </a:lnTo>
                <a:lnTo>
                  <a:pt x="505" y="244"/>
                </a:lnTo>
                <a:lnTo>
                  <a:pt x="503" y="252"/>
                </a:lnTo>
                <a:lnTo>
                  <a:pt x="499" y="258"/>
                </a:lnTo>
                <a:lnTo>
                  <a:pt x="495" y="261"/>
                </a:lnTo>
                <a:lnTo>
                  <a:pt x="491" y="267"/>
                </a:lnTo>
                <a:lnTo>
                  <a:pt x="485" y="271"/>
                </a:lnTo>
                <a:lnTo>
                  <a:pt x="480" y="275"/>
                </a:lnTo>
                <a:lnTo>
                  <a:pt x="474" y="279"/>
                </a:lnTo>
                <a:lnTo>
                  <a:pt x="468" y="281"/>
                </a:lnTo>
                <a:lnTo>
                  <a:pt x="462" y="283"/>
                </a:lnTo>
                <a:lnTo>
                  <a:pt x="455" y="285"/>
                </a:lnTo>
                <a:lnTo>
                  <a:pt x="447" y="285"/>
                </a:lnTo>
                <a:lnTo>
                  <a:pt x="441" y="286"/>
                </a:lnTo>
                <a:lnTo>
                  <a:pt x="435" y="285"/>
                </a:lnTo>
                <a:lnTo>
                  <a:pt x="432" y="285"/>
                </a:lnTo>
                <a:lnTo>
                  <a:pt x="426" y="283"/>
                </a:lnTo>
                <a:lnTo>
                  <a:pt x="420" y="281"/>
                </a:lnTo>
                <a:lnTo>
                  <a:pt x="412" y="279"/>
                </a:lnTo>
                <a:lnTo>
                  <a:pt x="405" y="277"/>
                </a:lnTo>
                <a:lnTo>
                  <a:pt x="397" y="273"/>
                </a:lnTo>
                <a:lnTo>
                  <a:pt x="389" y="269"/>
                </a:lnTo>
                <a:lnTo>
                  <a:pt x="380" y="265"/>
                </a:lnTo>
                <a:lnTo>
                  <a:pt x="370" y="261"/>
                </a:lnTo>
                <a:lnTo>
                  <a:pt x="359" y="256"/>
                </a:lnTo>
                <a:lnTo>
                  <a:pt x="347" y="250"/>
                </a:lnTo>
                <a:lnTo>
                  <a:pt x="336" y="244"/>
                </a:lnTo>
                <a:lnTo>
                  <a:pt x="324" y="237"/>
                </a:lnTo>
                <a:lnTo>
                  <a:pt x="311" y="231"/>
                </a:lnTo>
                <a:lnTo>
                  <a:pt x="297" y="223"/>
                </a:lnTo>
                <a:lnTo>
                  <a:pt x="284" y="213"/>
                </a:lnTo>
                <a:lnTo>
                  <a:pt x="268" y="206"/>
                </a:lnTo>
                <a:lnTo>
                  <a:pt x="253" y="196"/>
                </a:lnTo>
                <a:lnTo>
                  <a:pt x="236" y="187"/>
                </a:lnTo>
                <a:lnTo>
                  <a:pt x="220" y="177"/>
                </a:lnTo>
                <a:lnTo>
                  <a:pt x="203" y="166"/>
                </a:lnTo>
                <a:lnTo>
                  <a:pt x="186" y="154"/>
                </a:lnTo>
                <a:lnTo>
                  <a:pt x="167" y="142"/>
                </a:lnTo>
                <a:lnTo>
                  <a:pt x="147" y="131"/>
                </a:lnTo>
                <a:lnTo>
                  <a:pt x="128" y="118"/>
                </a:lnTo>
                <a:lnTo>
                  <a:pt x="109" y="104"/>
                </a:lnTo>
                <a:lnTo>
                  <a:pt x="88" y="91"/>
                </a:lnTo>
                <a:lnTo>
                  <a:pt x="67" y="77"/>
                </a:lnTo>
                <a:lnTo>
                  <a:pt x="46" y="62"/>
                </a:lnTo>
                <a:lnTo>
                  <a:pt x="23" y="47"/>
                </a:lnTo>
                <a:lnTo>
                  <a:pt x="0" y="31"/>
                </a:lnTo>
                <a:lnTo>
                  <a:pt x="27" y="22"/>
                </a:lnTo>
                <a:lnTo>
                  <a:pt x="53" y="14"/>
                </a:lnTo>
                <a:lnTo>
                  <a:pt x="82" y="8"/>
                </a:lnTo>
                <a:lnTo>
                  <a:pt x="111" y="4"/>
                </a:lnTo>
                <a:lnTo>
                  <a:pt x="142" y="2"/>
                </a:lnTo>
                <a:lnTo>
                  <a:pt x="157" y="0"/>
                </a:lnTo>
                <a:lnTo>
                  <a:pt x="172" y="0"/>
                </a:lnTo>
                <a:lnTo>
                  <a:pt x="188" y="2"/>
                </a:lnTo>
                <a:lnTo>
                  <a:pt x="203" y="2"/>
                </a:lnTo>
                <a:lnTo>
                  <a:pt x="219" y="4"/>
                </a:lnTo>
                <a:lnTo>
                  <a:pt x="234" y="6"/>
                </a:lnTo>
                <a:lnTo>
                  <a:pt x="265" y="12"/>
                </a:lnTo>
                <a:lnTo>
                  <a:pt x="293" y="18"/>
                </a:lnTo>
                <a:lnTo>
                  <a:pt x="320" y="25"/>
                </a:lnTo>
                <a:lnTo>
                  <a:pt x="334" y="29"/>
                </a:lnTo>
                <a:lnTo>
                  <a:pt x="345" y="33"/>
                </a:lnTo>
                <a:lnTo>
                  <a:pt x="359" y="39"/>
                </a:lnTo>
                <a:lnTo>
                  <a:pt x="370" y="43"/>
                </a:lnTo>
                <a:lnTo>
                  <a:pt x="380" y="48"/>
                </a:lnTo>
                <a:lnTo>
                  <a:pt x="391" y="54"/>
                </a:lnTo>
                <a:lnTo>
                  <a:pt x="401" y="60"/>
                </a:lnTo>
                <a:lnTo>
                  <a:pt x="410" y="66"/>
                </a:lnTo>
                <a:lnTo>
                  <a:pt x="418" y="71"/>
                </a:lnTo>
                <a:lnTo>
                  <a:pt x="428" y="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" name="组合 3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9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末”第一横比第二横长一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矩形 2"/>
          <p:cNvSpPr/>
          <p:nvPr/>
        </p:nvSpPr>
        <p:spPr>
          <a:xfrm>
            <a:off x="2192400" y="1825560"/>
            <a:ext cx="103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ǒ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68"/>
          <p:cNvSpPr/>
          <p:nvPr/>
        </p:nvSpPr>
        <p:spPr>
          <a:xfrm>
            <a:off x="5683320" y="3457440"/>
            <a:ext cx="722160" cy="239760"/>
          </a:xfrm>
          <a:custGeom>
            <a:avLst/>
            <a:gdLst/>
            <a:ahLst/>
            <a:rect l="l" t="t" r="r" b="b"/>
            <a:pathLst>
              <a:path w="1365" h="455">
                <a:moveTo>
                  <a:pt x="0" y="335"/>
                </a:moveTo>
                <a:lnTo>
                  <a:pt x="75" y="312"/>
                </a:lnTo>
                <a:lnTo>
                  <a:pt x="147" y="289"/>
                </a:lnTo>
                <a:lnTo>
                  <a:pt x="217" y="268"/>
                </a:lnTo>
                <a:lnTo>
                  <a:pt x="287" y="246"/>
                </a:lnTo>
                <a:lnTo>
                  <a:pt x="351" y="226"/>
                </a:lnTo>
                <a:lnTo>
                  <a:pt x="416" y="207"/>
                </a:lnTo>
                <a:lnTo>
                  <a:pt x="478" y="189"/>
                </a:lnTo>
                <a:lnTo>
                  <a:pt x="537" y="171"/>
                </a:lnTo>
                <a:lnTo>
                  <a:pt x="595" y="154"/>
                </a:lnTo>
                <a:lnTo>
                  <a:pt x="651" y="138"/>
                </a:lnTo>
                <a:lnTo>
                  <a:pt x="704" y="124"/>
                </a:lnTo>
                <a:lnTo>
                  <a:pt x="754" y="109"/>
                </a:lnTo>
                <a:lnTo>
                  <a:pt x="803" y="97"/>
                </a:lnTo>
                <a:lnTo>
                  <a:pt x="851" y="84"/>
                </a:lnTo>
                <a:lnTo>
                  <a:pt x="895" y="72"/>
                </a:lnTo>
                <a:lnTo>
                  <a:pt x="937" y="62"/>
                </a:lnTo>
                <a:lnTo>
                  <a:pt x="978" y="52"/>
                </a:lnTo>
                <a:lnTo>
                  <a:pt x="1015" y="43"/>
                </a:lnTo>
                <a:lnTo>
                  <a:pt x="1051" y="35"/>
                </a:lnTo>
                <a:lnTo>
                  <a:pt x="1084" y="27"/>
                </a:lnTo>
                <a:lnTo>
                  <a:pt x="1116" y="22"/>
                </a:lnTo>
                <a:lnTo>
                  <a:pt x="1145" y="16"/>
                </a:lnTo>
                <a:lnTo>
                  <a:pt x="1170" y="10"/>
                </a:lnTo>
                <a:lnTo>
                  <a:pt x="1195" y="7"/>
                </a:lnTo>
                <a:lnTo>
                  <a:pt x="1217" y="4"/>
                </a:lnTo>
                <a:lnTo>
                  <a:pt x="1237" y="1"/>
                </a:lnTo>
                <a:lnTo>
                  <a:pt x="1254" y="0"/>
                </a:lnTo>
                <a:lnTo>
                  <a:pt x="1270" y="0"/>
                </a:lnTo>
                <a:lnTo>
                  <a:pt x="1283" y="1"/>
                </a:lnTo>
                <a:lnTo>
                  <a:pt x="1293" y="3"/>
                </a:lnTo>
                <a:lnTo>
                  <a:pt x="1301" y="4"/>
                </a:lnTo>
                <a:lnTo>
                  <a:pt x="1307" y="9"/>
                </a:lnTo>
                <a:lnTo>
                  <a:pt x="1316" y="19"/>
                </a:lnTo>
                <a:lnTo>
                  <a:pt x="1324" y="29"/>
                </a:lnTo>
                <a:lnTo>
                  <a:pt x="1333" y="39"/>
                </a:lnTo>
                <a:lnTo>
                  <a:pt x="1339" y="48"/>
                </a:lnTo>
                <a:lnTo>
                  <a:pt x="1345" y="58"/>
                </a:lnTo>
                <a:lnTo>
                  <a:pt x="1350" y="65"/>
                </a:lnTo>
                <a:lnTo>
                  <a:pt x="1355" y="73"/>
                </a:lnTo>
                <a:lnTo>
                  <a:pt x="1359" y="81"/>
                </a:lnTo>
                <a:lnTo>
                  <a:pt x="1362" y="88"/>
                </a:lnTo>
                <a:lnTo>
                  <a:pt x="1363" y="94"/>
                </a:lnTo>
                <a:lnTo>
                  <a:pt x="1365" y="101"/>
                </a:lnTo>
                <a:lnTo>
                  <a:pt x="1365" y="107"/>
                </a:lnTo>
                <a:lnTo>
                  <a:pt x="1365" y="111"/>
                </a:lnTo>
                <a:lnTo>
                  <a:pt x="1363" y="115"/>
                </a:lnTo>
                <a:lnTo>
                  <a:pt x="1360" y="120"/>
                </a:lnTo>
                <a:lnTo>
                  <a:pt x="1359" y="124"/>
                </a:lnTo>
                <a:lnTo>
                  <a:pt x="1356" y="128"/>
                </a:lnTo>
                <a:lnTo>
                  <a:pt x="1353" y="131"/>
                </a:lnTo>
                <a:lnTo>
                  <a:pt x="1349" y="135"/>
                </a:lnTo>
                <a:lnTo>
                  <a:pt x="1345" y="140"/>
                </a:lnTo>
                <a:lnTo>
                  <a:pt x="1339" y="144"/>
                </a:lnTo>
                <a:lnTo>
                  <a:pt x="1332" y="148"/>
                </a:lnTo>
                <a:lnTo>
                  <a:pt x="1324" y="153"/>
                </a:lnTo>
                <a:lnTo>
                  <a:pt x="1316" y="157"/>
                </a:lnTo>
                <a:lnTo>
                  <a:pt x="1307" y="161"/>
                </a:lnTo>
                <a:lnTo>
                  <a:pt x="1296" y="166"/>
                </a:lnTo>
                <a:lnTo>
                  <a:pt x="1284" y="171"/>
                </a:lnTo>
                <a:lnTo>
                  <a:pt x="1273" y="176"/>
                </a:lnTo>
                <a:lnTo>
                  <a:pt x="1258" y="181"/>
                </a:lnTo>
                <a:lnTo>
                  <a:pt x="1244" y="187"/>
                </a:lnTo>
                <a:lnTo>
                  <a:pt x="1229" y="192"/>
                </a:lnTo>
                <a:lnTo>
                  <a:pt x="1212" y="197"/>
                </a:lnTo>
                <a:lnTo>
                  <a:pt x="1195" y="204"/>
                </a:lnTo>
                <a:lnTo>
                  <a:pt x="1176" y="210"/>
                </a:lnTo>
                <a:lnTo>
                  <a:pt x="1157" y="216"/>
                </a:lnTo>
                <a:lnTo>
                  <a:pt x="1136" y="223"/>
                </a:lnTo>
                <a:lnTo>
                  <a:pt x="1114" y="229"/>
                </a:lnTo>
                <a:lnTo>
                  <a:pt x="1093" y="236"/>
                </a:lnTo>
                <a:lnTo>
                  <a:pt x="1068" y="243"/>
                </a:lnTo>
                <a:lnTo>
                  <a:pt x="1044" y="251"/>
                </a:lnTo>
                <a:lnTo>
                  <a:pt x="1018" y="258"/>
                </a:lnTo>
                <a:lnTo>
                  <a:pt x="992" y="266"/>
                </a:lnTo>
                <a:lnTo>
                  <a:pt x="963" y="274"/>
                </a:lnTo>
                <a:lnTo>
                  <a:pt x="934" y="282"/>
                </a:lnTo>
                <a:lnTo>
                  <a:pt x="906" y="291"/>
                </a:lnTo>
                <a:lnTo>
                  <a:pt x="874" y="299"/>
                </a:lnTo>
                <a:lnTo>
                  <a:pt x="842" y="308"/>
                </a:lnTo>
                <a:lnTo>
                  <a:pt x="809" y="317"/>
                </a:lnTo>
                <a:lnTo>
                  <a:pt x="775" y="325"/>
                </a:lnTo>
                <a:lnTo>
                  <a:pt x="743" y="334"/>
                </a:lnTo>
                <a:lnTo>
                  <a:pt x="711" y="343"/>
                </a:lnTo>
                <a:lnTo>
                  <a:pt x="681" y="351"/>
                </a:lnTo>
                <a:lnTo>
                  <a:pt x="652" y="360"/>
                </a:lnTo>
                <a:lnTo>
                  <a:pt x="623" y="367"/>
                </a:lnTo>
                <a:lnTo>
                  <a:pt x="596" y="374"/>
                </a:lnTo>
                <a:lnTo>
                  <a:pt x="570" y="382"/>
                </a:lnTo>
                <a:lnTo>
                  <a:pt x="544" y="389"/>
                </a:lnTo>
                <a:lnTo>
                  <a:pt x="520" y="396"/>
                </a:lnTo>
                <a:lnTo>
                  <a:pt x="495" y="402"/>
                </a:lnTo>
                <a:lnTo>
                  <a:pt x="474" y="407"/>
                </a:lnTo>
                <a:lnTo>
                  <a:pt x="451" y="413"/>
                </a:lnTo>
                <a:lnTo>
                  <a:pt x="430" y="419"/>
                </a:lnTo>
                <a:lnTo>
                  <a:pt x="410" y="423"/>
                </a:lnTo>
                <a:lnTo>
                  <a:pt x="392" y="428"/>
                </a:lnTo>
                <a:lnTo>
                  <a:pt x="373" y="432"/>
                </a:lnTo>
                <a:lnTo>
                  <a:pt x="356" y="436"/>
                </a:lnTo>
                <a:lnTo>
                  <a:pt x="340" y="441"/>
                </a:lnTo>
                <a:lnTo>
                  <a:pt x="324" y="443"/>
                </a:lnTo>
                <a:lnTo>
                  <a:pt x="310" y="446"/>
                </a:lnTo>
                <a:lnTo>
                  <a:pt x="297" y="449"/>
                </a:lnTo>
                <a:lnTo>
                  <a:pt x="284" y="451"/>
                </a:lnTo>
                <a:lnTo>
                  <a:pt x="272" y="452"/>
                </a:lnTo>
                <a:lnTo>
                  <a:pt x="261" y="454"/>
                </a:lnTo>
                <a:lnTo>
                  <a:pt x="251" y="455"/>
                </a:lnTo>
                <a:lnTo>
                  <a:pt x="240" y="455"/>
                </a:lnTo>
                <a:lnTo>
                  <a:pt x="232" y="455"/>
                </a:lnTo>
                <a:lnTo>
                  <a:pt x="225" y="455"/>
                </a:lnTo>
                <a:lnTo>
                  <a:pt x="217" y="454"/>
                </a:lnTo>
                <a:lnTo>
                  <a:pt x="212" y="454"/>
                </a:lnTo>
                <a:lnTo>
                  <a:pt x="207" y="452"/>
                </a:lnTo>
                <a:lnTo>
                  <a:pt x="197" y="451"/>
                </a:lnTo>
                <a:lnTo>
                  <a:pt x="186" y="449"/>
                </a:lnTo>
                <a:lnTo>
                  <a:pt x="176" y="448"/>
                </a:lnTo>
                <a:lnTo>
                  <a:pt x="164" y="445"/>
                </a:lnTo>
                <a:lnTo>
                  <a:pt x="153" y="441"/>
                </a:lnTo>
                <a:lnTo>
                  <a:pt x="141" y="435"/>
                </a:lnTo>
                <a:lnTo>
                  <a:pt x="128" y="429"/>
                </a:lnTo>
                <a:lnTo>
                  <a:pt x="115" y="423"/>
                </a:lnTo>
                <a:lnTo>
                  <a:pt x="102" y="415"/>
                </a:lnTo>
                <a:lnTo>
                  <a:pt x="89" y="406"/>
                </a:lnTo>
                <a:lnTo>
                  <a:pt x="75" y="397"/>
                </a:lnTo>
                <a:lnTo>
                  <a:pt x="61" y="387"/>
                </a:lnTo>
                <a:lnTo>
                  <a:pt x="46" y="376"/>
                </a:lnTo>
                <a:lnTo>
                  <a:pt x="32" y="363"/>
                </a:lnTo>
                <a:lnTo>
                  <a:pt x="16" y="350"/>
                </a:lnTo>
                <a:lnTo>
                  <a:pt x="0" y="3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69"/>
          <p:cNvSpPr/>
          <p:nvPr/>
        </p:nvSpPr>
        <p:spPr>
          <a:xfrm>
            <a:off x="5827680" y="2862360"/>
            <a:ext cx="387360" cy="2108160"/>
          </a:xfrm>
          <a:custGeom>
            <a:avLst/>
            <a:gdLst/>
            <a:ahLst/>
            <a:rect l="l" t="t" r="r" b="b"/>
            <a:pathLst>
              <a:path w="733" h="3982">
                <a:moveTo>
                  <a:pt x="674" y="785"/>
                </a:moveTo>
                <a:lnTo>
                  <a:pt x="672" y="811"/>
                </a:lnTo>
                <a:lnTo>
                  <a:pt x="671" y="838"/>
                </a:lnTo>
                <a:lnTo>
                  <a:pt x="670" y="868"/>
                </a:lnTo>
                <a:lnTo>
                  <a:pt x="668" y="898"/>
                </a:lnTo>
                <a:lnTo>
                  <a:pt x="667" y="932"/>
                </a:lnTo>
                <a:lnTo>
                  <a:pt x="667" y="965"/>
                </a:lnTo>
                <a:lnTo>
                  <a:pt x="665" y="1001"/>
                </a:lnTo>
                <a:lnTo>
                  <a:pt x="665" y="1038"/>
                </a:lnTo>
                <a:lnTo>
                  <a:pt x="664" y="1077"/>
                </a:lnTo>
                <a:lnTo>
                  <a:pt x="664" y="1117"/>
                </a:lnTo>
                <a:lnTo>
                  <a:pt x="662" y="1159"/>
                </a:lnTo>
                <a:lnTo>
                  <a:pt x="662" y="1202"/>
                </a:lnTo>
                <a:lnTo>
                  <a:pt x="662" y="1247"/>
                </a:lnTo>
                <a:lnTo>
                  <a:pt x="662" y="1294"/>
                </a:lnTo>
                <a:lnTo>
                  <a:pt x="661" y="1342"/>
                </a:lnTo>
                <a:lnTo>
                  <a:pt x="661" y="1392"/>
                </a:lnTo>
                <a:lnTo>
                  <a:pt x="661" y="1443"/>
                </a:lnTo>
                <a:lnTo>
                  <a:pt x="662" y="1496"/>
                </a:lnTo>
                <a:lnTo>
                  <a:pt x="662" y="1551"/>
                </a:lnTo>
                <a:lnTo>
                  <a:pt x="662" y="1607"/>
                </a:lnTo>
                <a:lnTo>
                  <a:pt x="662" y="1664"/>
                </a:lnTo>
                <a:lnTo>
                  <a:pt x="664" y="1723"/>
                </a:lnTo>
                <a:lnTo>
                  <a:pt x="664" y="1784"/>
                </a:lnTo>
                <a:lnTo>
                  <a:pt x="665" y="1847"/>
                </a:lnTo>
                <a:lnTo>
                  <a:pt x="665" y="1911"/>
                </a:lnTo>
                <a:lnTo>
                  <a:pt x="667" y="1977"/>
                </a:lnTo>
                <a:lnTo>
                  <a:pt x="667" y="2043"/>
                </a:lnTo>
                <a:lnTo>
                  <a:pt x="668" y="2112"/>
                </a:lnTo>
                <a:lnTo>
                  <a:pt x="670" y="2183"/>
                </a:lnTo>
                <a:lnTo>
                  <a:pt x="671" y="2255"/>
                </a:lnTo>
                <a:lnTo>
                  <a:pt x="672" y="2328"/>
                </a:lnTo>
                <a:lnTo>
                  <a:pt x="674" y="2403"/>
                </a:lnTo>
                <a:lnTo>
                  <a:pt x="675" y="2478"/>
                </a:lnTo>
                <a:lnTo>
                  <a:pt x="677" y="2551"/>
                </a:lnTo>
                <a:lnTo>
                  <a:pt x="677" y="2622"/>
                </a:lnTo>
                <a:lnTo>
                  <a:pt x="678" y="2689"/>
                </a:lnTo>
                <a:lnTo>
                  <a:pt x="678" y="2757"/>
                </a:lnTo>
                <a:lnTo>
                  <a:pt x="678" y="2822"/>
                </a:lnTo>
                <a:lnTo>
                  <a:pt x="678" y="2884"/>
                </a:lnTo>
                <a:lnTo>
                  <a:pt x="677" y="2944"/>
                </a:lnTo>
                <a:lnTo>
                  <a:pt x="677" y="3003"/>
                </a:lnTo>
                <a:lnTo>
                  <a:pt x="675" y="3059"/>
                </a:lnTo>
                <a:lnTo>
                  <a:pt x="674" y="3114"/>
                </a:lnTo>
                <a:lnTo>
                  <a:pt x="672" y="3166"/>
                </a:lnTo>
                <a:lnTo>
                  <a:pt x="670" y="3216"/>
                </a:lnTo>
                <a:lnTo>
                  <a:pt x="668" y="3265"/>
                </a:lnTo>
                <a:lnTo>
                  <a:pt x="665" y="3311"/>
                </a:lnTo>
                <a:lnTo>
                  <a:pt x="662" y="3356"/>
                </a:lnTo>
                <a:lnTo>
                  <a:pt x="659" y="3398"/>
                </a:lnTo>
                <a:lnTo>
                  <a:pt x="657" y="3438"/>
                </a:lnTo>
                <a:lnTo>
                  <a:pt x="654" y="3477"/>
                </a:lnTo>
                <a:lnTo>
                  <a:pt x="649" y="3513"/>
                </a:lnTo>
                <a:lnTo>
                  <a:pt x="645" y="3547"/>
                </a:lnTo>
                <a:lnTo>
                  <a:pt x="641" y="3579"/>
                </a:lnTo>
                <a:lnTo>
                  <a:pt x="636" y="3609"/>
                </a:lnTo>
                <a:lnTo>
                  <a:pt x="632" y="3638"/>
                </a:lnTo>
                <a:lnTo>
                  <a:pt x="628" y="3664"/>
                </a:lnTo>
                <a:lnTo>
                  <a:pt x="622" y="3687"/>
                </a:lnTo>
                <a:lnTo>
                  <a:pt x="618" y="3710"/>
                </a:lnTo>
                <a:lnTo>
                  <a:pt x="612" y="3730"/>
                </a:lnTo>
                <a:lnTo>
                  <a:pt x="606" y="3747"/>
                </a:lnTo>
                <a:lnTo>
                  <a:pt x="600" y="3763"/>
                </a:lnTo>
                <a:lnTo>
                  <a:pt x="595" y="3778"/>
                </a:lnTo>
                <a:lnTo>
                  <a:pt x="589" y="3789"/>
                </a:lnTo>
                <a:lnTo>
                  <a:pt x="582" y="3802"/>
                </a:lnTo>
                <a:lnTo>
                  <a:pt x="576" y="3814"/>
                </a:lnTo>
                <a:lnTo>
                  <a:pt x="569" y="3825"/>
                </a:lnTo>
                <a:lnTo>
                  <a:pt x="563" y="3837"/>
                </a:lnTo>
                <a:lnTo>
                  <a:pt x="557" y="3847"/>
                </a:lnTo>
                <a:lnTo>
                  <a:pt x="552" y="3857"/>
                </a:lnTo>
                <a:lnTo>
                  <a:pt x="546" y="3867"/>
                </a:lnTo>
                <a:lnTo>
                  <a:pt x="540" y="3877"/>
                </a:lnTo>
                <a:lnTo>
                  <a:pt x="534" y="3886"/>
                </a:lnTo>
                <a:lnTo>
                  <a:pt x="528" y="3894"/>
                </a:lnTo>
                <a:lnTo>
                  <a:pt x="523" y="3901"/>
                </a:lnTo>
                <a:lnTo>
                  <a:pt x="518" y="3910"/>
                </a:lnTo>
                <a:lnTo>
                  <a:pt x="513" y="3917"/>
                </a:lnTo>
                <a:lnTo>
                  <a:pt x="508" y="3925"/>
                </a:lnTo>
                <a:lnTo>
                  <a:pt x="503" y="3930"/>
                </a:lnTo>
                <a:lnTo>
                  <a:pt x="498" y="3936"/>
                </a:lnTo>
                <a:lnTo>
                  <a:pt x="492" y="3942"/>
                </a:lnTo>
                <a:lnTo>
                  <a:pt x="488" y="3948"/>
                </a:lnTo>
                <a:lnTo>
                  <a:pt x="484" y="3952"/>
                </a:lnTo>
                <a:lnTo>
                  <a:pt x="480" y="3956"/>
                </a:lnTo>
                <a:lnTo>
                  <a:pt x="475" y="3961"/>
                </a:lnTo>
                <a:lnTo>
                  <a:pt x="471" y="3965"/>
                </a:lnTo>
                <a:lnTo>
                  <a:pt x="467" y="3968"/>
                </a:lnTo>
                <a:lnTo>
                  <a:pt x="462" y="3971"/>
                </a:lnTo>
                <a:lnTo>
                  <a:pt x="458" y="3973"/>
                </a:lnTo>
                <a:lnTo>
                  <a:pt x="454" y="3976"/>
                </a:lnTo>
                <a:lnTo>
                  <a:pt x="446" y="3979"/>
                </a:lnTo>
                <a:lnTo>
                  <a:pt x="439" y="3982"/>
                </a:lnTo>
                <a:lnTo>
                  <a:pt x="433" y="3982"/>
                </a:lnTo>
                <a:lnTo>
                  <a:pt x="423" y="3982"/>
                </a:lnTo>
                <a:lnTo>
                  <a:pt x="415" y="3981"/>
                </a:lnTo>
                <a:lnTo>
                  <a:pt x="408" y="3978"/>
                </a:lnTo>
                <a:lnTo>
                  <a:pt x="400" y="3975"/>
                </a:lnTo>
                <a:lnTo>
                  <a:pt x="395" y="3971"/>
                </a:lnTo>
                <a:lnTo>
                  <a:pt x="389" y="3965"/>
                </a:lnTo>
                <a:lnTo>
                  <a:pt x="383" y="3958"/>
                </a:lnTo>
                <a:lnTo>
                  <a:pt x="379" y="3950"/>
                </a:lnTo>
                <a:lnTo>
                  <a:pt x="376" y="3942"/>
                </a:lnTo>
                <a:lnTo>
                  <a:pt x="373" y="3932"/>
                </a:lnTo>
                <a:lnTo>
                  <a:pt x="370" y="3922"/>
                </a:lnTo>
                <a:lnTo>
                  <a:pt x="367" y="3909"/>
                </a:lnTo>
                <a:lnTo>
                  <a:pt x="366" y="3896"/>
                </a:lnTo>
                <a:lnTo>
                  <a:pt x="366" y="3881"/>
                </a:lnTo>
                <a:lnTo>
                  <a:pt x="364" y="3865"/>
                </a:lnTo>
                <a:lnTo>
                  <a:pt x="364" y="3848"/>
                </a:lnTo>
                <a:lnTo>
                  <a:pt x="361" y="3830"/>
                </a:lnTo>
                <a:lnTo>
                  <a:pt x="356" y="3812"/>
                </a:lnTo>
                <a:lnTo>
                  <a:pt x="351" y="3795"/>
                </a:lnTo>
                <a:lnTo>
                  <a:pt x="344" y="3778"/>
                </a:lnTo>
                <a:lnTo>
                  <a:pt x="337" y="3762"/>
                </a:lnTo>
                <a:lnTo>
                  <a:pt x="328" y="3746"/>
                </a:lnTo>
                <a:lnTo>
                  <a:pt x="320" y="3729"/>
                </a:lnTo>
                <a:lnTo>
                  <a:pt x="308" y="3713"/>
                </a:lnTo>
                <a:lnTo>
                  <a:pt x="297" y="3697"/>
                </a:lnTo>
                <a:lnTo>
                  <a:pt x="284" y="3680"/>
                </a:lnTo>
                <a:lnTo>
                  <a:pt x="268" y="3664"/>
                </a:lnTo>
                <a:lnTo>
                  <a:pt x="252" y="3647"/>
                </a:lnTo>
                <a:lnTo>
                  <a:pt x="235" y="3631"/>
                </a:lnTo>
                <a:lnTo>
                  <a:pt x="226" y="3622"/>
                </a:lnTo>
                <a:lnTo>
                  <a:pt x="218" y="3614"/>
                </a:lnTo>
                <a:lnTo>
                  <a:pt x="207" y="3605"/>
                </a:lnTo>
                <a:lnTo>
                  <a:pt x="197" y="3596"/>
                </a:lnTo>
                <a:lnTo>
                  <a:pt x="186" y="3586"/>
                </a:lnTo>
                <a:lnTo>
                  <a:pt x="176" y="3578"/>
                </a:lnTo>
                <a:lnTo>
                  <a:pt x="153" y="3560"/>
                </a:lnTo>
                <a:lnTo>
                  <a:pt x="133" y="3543"/>
                </a:lnTo>
                <a:lnTo>
                  <a:pt x="114" y="3527"/>
                </a:lnTo>
                <a:lnTo>
                  <a:pt x="95" y="3513"/>
                </a:lnTo>
                <a:lnTo>
                  <a:pt x="79" y="3498"/>
                </a:lnTo>
                <a:lnTo>
                  <a:pt x="71" y="3491"/>
                </a:lnTo>
                <a:lnTo>
                  <a:pt x="63" y="3485"/>
                </a:lnTo>
                <a:lnTo>
                  <a:pt x="56" y="3478"/>
                </a:lnTo>
                <a:lnTo>
                  <a:pt x="51" y="3472"/>
                </a:lnTo>
                <a:lnTo>
                  <a:pt x="43" y="3467"/>
                </a:lnTo>
                <a:lnTo>
                  <a:pt x="38" y="3462"/>
                </a:lnTo>
                <a:lnTo>
                  <a:pt x="33" y="3457"/>
                </a:lnTo>
                <a:lnTo>
                  <a:pt x="27" y="3451"/>
                </a:lnTo>
                <a:lnTo>
                  <a:pt x="23" y="3447"/>
                </a:lnTo>
                <a:lnTo>
                  <a:pt x="19" y="3442"/>
                </a:lnTo>
                <a:lnTo>
                  <a:pt x="15" y="3438"/>
                </a:lnTo>
                <a:lnTo>
                  <a:pt x="12" y="3434"/>
                </a:lnTo>
                <a:lnTo>
                  <a:pt x="9" y="3429"/>
                </a:lnTo>
                <a:lnTo>
                  <a:pt x="6" y="3426"/>
                </a:lnTo>
                <a:lnTo>
                  <a:pt x="4" y="3422"/>
                </a:lnTo>
                <a:lnTo>
                  <a:pt x="3" y="3419"/>
                </a:lnTo>
                <a:lnTo>
                  <a:pt x="2" y="3416"/>
                </a:lnTo>
                <a:lnTo>
                  <a:pt x="0" y="3413"/>
                </a:lnTo>
                <a:lnTo>
                  <a:pt x="0" y="3411"/>
                </a:lnTo>
                <a:lnTo>
                  <a:pt x="2" y="3408"/>
                </a:lnTo>
                <a:lnTo>
                  <a:pt x="2" y="3406"/>
                </a:lnTo>
                <a:lnTo>
                  <a:pt x="3" y="3405"/>
                </a:lnTo>
                <a:lnTo>
                  <a:pt x="3" y="3402"/>
                </a:lnTo>
                <a:lnTo>
                  <a:pt x="4" y="3401"/>
                </a:lnTo>
                <a:lnTo>
                  <a:pt x="4" y="3399"/>
                </a:lnTo>
                <a:lnTo>
                  <a:pt x="6" y="3398"/>
                </a:lnTo>
                <a:lnTo>
                  <a:pt x="9" y="3396"/>
                </a:lnTo>
                <a:lnTo>
                  <a:pt x="10" y="3395"/>
                </a:lnTo>
                <a:lnTo>
                  <a:pt x="13" y="3395"/>
                </a:lnTo>
                <a:lnTo>
                  <a:pt x="16" y="3393"/>
                </a:lnTo>
                <a:lnTo>
                  <a:pt x="19" y="3392"/>
                </a:lnTo>
                <a:lnTo>
                  <a:pt x="23" y="3392"/>
                </a:lnTo>
                <a:lnTo>
                  <a:pt x="27" y="3390"/>
                </a:lnTo>
                <a:lnTo>
                  <a:pt x="32" y="3390"/>
                </a:lnTo>
                <a:lnTo>
                  <a:pt x="38" y="3390"/>
                </a:lnTo>
                <a:lnTo>
                  <a:pt x="43" y="3390"/>
                </a:lnTo>
                <a:lnTo>
                  <a:pt x="49" y="3389"/>
                </a:lnTo>
                <a:lnTo>
                  <a:pt x="55" y="3389"/>
                </a:lnTo>
                <a:lnTo>
                  <a:pt x="62" y="3389"/>
                </a:lnTo>
                <a:lnTo>
                  <a:pt x="68" y="3390"/>
                </a:lnTo>
                <a:lnTo>
                  <a:pt x="76" y="3390"/>
                </a:lnTo>
                <a:lnTo>
                  <a:pt x="84" y="3390"/>
                </a:lnTo>
                <a:lnTo>
                  <a:pt x="92" y="3390"/>
                </a:lnTo>
                <a:lnTo>
                  <a:pt x="101" y="3392"/>
                </a:lnTo>
                <a:lnTo>
                  <a:pt x="110" y="3392"/>
                </a:lnTo>
                <a:lnTo>
                  <a:pt x="120" y="3393"/>
                </a:lnTo>
                <a:lnTo>
                  <a:pt x="130" y="3395"/>
                </a:lnTo>
                <a:lnTo>
                  <a:pt x="140" y="3395"/>
                </a:lnTo>
                <a:lnTo>
                  <a:pt x="150" y="3396"/>
                </a:lnTo>
                <a:lnTo>
                  <a:pt x="161" y="3398"/>
                </a:lnTo>
                <a:lnTo>
                  <a:pt x="173" y="3399"/>
                </a:lnTo>
                <a:lnTo>
                  <a:pt x="184" y="3401"/>
                </a:lnTo>
                <a:lnTo>
                  <a:pt x="197" y="3402"/>
                </a:lnTo>
                <a:lnTo>
                  <a:pt x="210" y="3405"/>
                </a:lnTo>
                <a:lnTo>
                  <a:pt x="232" y="3408"/>
                </a:lnTo>
                <a:lnTo>
                  <a:pt x="254" y="3411"/>
                </a:lnTo>
                <a:lnTo>
                  <a:pt x="274" y="3413"/>
                </a:lnTo>
                <a:lnTo>
                  <a:pt x="292" y="3415"/>
                </a:lnTo>
                <a:lnTo>
                  <a:pt x="311" y="3416"/>
                </a:lnTo>
                <a:lnTo>
                  <a:pt x="328" y="3416"/>
                </a:lnTo>
                <a:lnTo>
                  <a:pt x="346" y="3416"/>
                </a:lnTo>
                <a:lnTo>
                  <a:pt x="360" y="3416"/>
                </a:lnTo>
                <a:lnTo>
                  <a:pt x="374" y="3415"/>
                </a:lnTo>
                <a:lnTo>
                  <a:pt x="386" y="3413"/>
                </a:lnTo>
                <a:lnTo>
                  <a:pt x="397" y="3411"/>
                </a:lnTo>
                <a:lnTo>
                  <a:pt x="408" y="3406"/>
                </a:lnTo>
                <a:lnTo>
                  <a:pt x="412" y="3405"/>
                </a:lnTo>
                <a:lnTo>
                  <a:pt x="416" y="3402"/>
                </a:lnTo>
                <a:lnTo>
                  <a:pt x="421" y="3401"/>
                </a:lnTo>
                <a:lnTo>
                  <a:pt x="423" y="3398"/>
                </a:lnTo>
                <a:lnTo>
                  <a:pt x="426" y="3395"/>
                </a:lnTo>
                <a:lnTo>
                  <a:pt x="429" y="3392"/>
                </a:lnTo>
                <a:lnTo>
                  <a:pt x="431" y="3388"/>
                </a:lnTo>
                <a:lnTo>
                  <a:pt x="433" y="3385"/>
                </a:lnTo>
                <a:lnTo>
                  <a:pt x="435" y="3382"/>
                </a:lnTo>
                <a:lnTo>
                  <a:pt x="436" y="3379"/>
                </a:lnTo>
                <a:lnTo>
                  <a:pt x="438" y="3373"/>
                </a:lnTo>
                <a:lnTo>
                  <a:pt x="441" y="3366"/>
                </a:lnTo>
                <a:lnTo>
                  <a:pt x="442" y="3359"/>
                </a:lnTo>
                <a:lnTo>
                  <a:pt x="444" y="3350"/>
                </a:lnTo>
                <a:lnTo>
                  <a:pt x="446" y="3339"/>
                </a:lnTo>
                <a:lnTo>
                  <a:pt x="448" y="3327"/>
                </a:lnTo>
                <a:lnTo>
                  <a:pt x="451" y="3314"/>
                </a:lnTo>
                <a:lnTo>
                  <a:pt x="454" y="3298"/>
                </a:lnTo>
                <a:lnTo>
                  <a:pt x="455" y="3282"/>
                </a:lnTo>
                <a:lnTo>
                  <a:pt x="458" y="3265"/>
                </a:lnTo>
                <a:lnTo>
                  <a:pt x="461" y="3246"/>
                </a:lnTo>
                <a:lnTo>
                  <a:pt x="462" y="3226"/>
                </a:lnTo>
                <a:lnTo>
                  <a:pt x="465" y="3205"/>
                </a:lnTo>
                <a:lnTo>
                  <a:pt x="468" y="3183"/>
                </a:lnTo>
                <a:lnTo>
                  <a:pt x="469" y="3159"/>
                </a:lnTo>
                <a:lnTo>
                  <a:pt x="472" y="3133"/>
                </a:lnTo>
                <a:lnTo>
                  <a:pt x="475" y="3107"/>
                </a:lnTo>
                <a:lnTo>
                  <a:pt x="477" y="3078"/>
                </a:lnTo>
                <a:lnTo>
                  <a:pt x="480" y="3048"/>
                </a:lnTo>
                <a:lnTo>
                  <a:pt x="482" y="3018"/>
                </a:lnTo>
                <a:lnTo>
                  <a:pt x="484" y="2986"/>
                </a:lnTo>
                <a:lnTo>
                  <a:pt x="487" y="2951"/>
                </a:lnTo>
                <a:lnTo>
                  <a:pt x="488" y="2917"/>
                </a:lnTo>
                <a:lnTo>
                  <a:pt x="491" y="2881"/>
                </a:lnTo>
                <a:lnTo>
                  <a:pt x="492" y="2843"/>
                </a:lnTo>
                <a:lnTo>
                  <a:pt x="495" y="2803"/>
                </a:lnTo>
                <a:lnTo>
                  <a:pt x="497" y="2763"/>
                </a:lnTo>
                <a:lnTo>
                  <a:pt x="498" y="2721"/>
                </a:lnTo>
                <a:lnTo>
                  <a:pt x="500" y="2678"/>
                </a:lnTo>
                <a:lnTo>
                  <a:pt x="503" y="2635"/>
                </a:lnTo>
                <a:lnTo>
                  <a:pt x="505" y="2542"/>
                </a:lnTo>
                <a:lnTo>
                  <a:pt x="507" y="2452"/>
                </a:lnTo>
                <a:lnTo>
                  <a:pt x="510" y="2358"/>
                </a:lnTo>
                <a:lnTo>
                  <a:pt x="511" y="2265"/>
                </a:lnTo>
                <a:lnTo>
                  <a:pt x="513" y="2170"/>
                </a:lnTo>
                <a:lnTo>
                  <a:pt x="514" y="2073"/>
                </a:lnTo>
                <a:lnTo>
                  <a:pt x="514" y="1977"/>
                </a:lnTo>
                <a:lnTo>
                  <a:pt x="514" y="1877"/>
                </a:lnTo>
                <a:lnTo>
                  <a:pt x="514" y="1778"/>
                </a:lnTo>
                <a:lnTo>
                  <a:pt x="514" y="1676"/>
                </a:lnTo>
                <a:lnTo>
                  <a:pt x="513" y="1574"/>
                </a:lnTo>
                <a:lnTo>
                  <a:pt x="511" y="1469"/>
                </a:lnTo>
                <a:lnTo>
                  <a:pt x="510" y="1363"/>
                </a:lnTo>
                <a:lnTo>
                  <a:pt x="507" y="1255"/>
                </a:lnTo>
                <a:lnTo>
                  <a:pt x="505" y="1146"/>
                </a:lnTo>
                <a:lnTo>
                  <a:pt x="503" y="1035"/>
                </a:lnTo>
                <a:lnTo>
                  <a:pt x="501" y="1008"/>
                </a:lnTo>
                <a:lnTo>
                  <a:pt x="500" y="982"/>
                </a:lnTo>
                <a:lnTo>
                  <a:pt x="500" y="956"/>
                </a:lnTo>
                <a:lnTo>
                  <a:pt x="498" y="930"/>
                </a:lnTo>
                <a:lnTo>
                  <a:pt x="498" y="904"/>
                </a:lnTo>
                <a:lnTo>
                  <a:pt x="497" y="880"/>
                </a:lnTo>
                <a:lnTo>
                  <a:pt x="495" y="855"/>
                </a:lnTo>
                <a:lnTo>
                  <a:pt x="495" y="831"/>
                </a:lnTo>
                <a:lnTo>
                  <a:pt x="494" y="808"/>
                </a:lnTo>
                <a:lnTo>
                  <a:pt x="492" y="785"/>
                </a:lnTo>
                <a:lnTo>
                  <a:pt x="491" y="762"/>
                </a:lnTo>
                <a:lnTo>
                  <a:pt x="491" y="739"/>
                </a:lnTo>
                <a:lnTo>
                  <a:pt x="490" y="717"/>
                </a:lnTo>
                <a:lnTo>
                  <a:pt x="488" y="694"/>
                </a:lnTo>
                <a:lnTo>
                  <a:pt x="487" y="674"/>
                </a:lnTo>
                <a:lnTo>
                  <a:pt x="485" y="652"/>
                </a:lnTo>
                <a:lnTo>
                  <a:pt x="485" y="632"/>
                </a:lnTo>
                <a:lnTo>
                  <a:pt x="484" y="612"/>
                </a:lnTo>
                <a:lnTo>
                  <a:pt x="482" y="592"/>
                </a:lnTo>
                <a:lnTo>
                  <a:pt x="481" y="573"/>
                </a:lnTo>
                <a:lnTo>
                  <a:pt x="480" y="553"/>
                </a:lnTo>
                <a:lnTo>
                  <a:pt x="478" y="534"/>
                </a:lnTo>
                <a:lnTo>
                  <a:pt x="477" y="517"/>
                </a:lnTo>
                <a:lnTo>
                  <a:pt x="475" y="498"/>
                </a:lnTo>
                <a:lnTo>
                  <a:pt x="474" y="481"/>
                </a:lnTo>
                <a:lnTo>
                  <a:pt x="472" y="464"/>
                </a:lnTo>
                <a:lnTo>
                  <a:pt x="471" y="448"/>
                </a:lnTo>
                <a:lnTo>
                  <a:pt x="469" y="432"/>
                </a:lnTo>
                <a:lnTo>
                  <a:pt x="468" y="416"/>
                </a:lnTo>
                <a:lnTo>
                  <a:pt x="467" y="400"/>
                </a:lnTo>
                <a:lnTo>
                  <a:pt x="465" y="385"/>
                </a:lnTo>
                <a:lnTo>
                  <a:pt x="464" y="370"/>
                </a:lnTo>
                <a:lnTo>
                  <a:pt x="462" y="356"/>
                </a:lnTo>
                <a:lnTo>
                  <a:pt x="459" y="343"/>
                </a:lnTo>
                <a:lnTo>
                  <a:pt x="458" y="328"/>
                </a:lnTo>
                <a:lnTo>
                  <a:pt x="456" y="315"/>
                </a:lnTo>
                <a:lnTo>
                  <a:pt x="455" y="304"/>
                </a:lnTo>
                <a:lnTo>
                  <a:pt x="454" y="291"/>
                </a:lnTo>
                <a:lnTo>
                  <a:pt x="451" y="279"/>
                </a:lnTo>
                <a:lnTo>
                  <a:pt x="449" y="268"/>
                </a:lnTo>
                <a:lnTo>
                  <a:pt x="448" y="256"/>
                </a:lnTo>
                <a:lnTo>
                  <a:pt x="446" y="246"/>
                </a:lnTo>
                <a:lnTo>
                  <a:pt x="444" y="235"/>
                </a:lnTo>
                <a:lnTo>
                  <a:pt x="442" y="226"/>
                </a:lnTo>
                <a:lnTo>
                  <a:pt x="441" y="216"/>
                </a:lnTo>
                <a:lnTo>
                  <a:pt x="438" y="207"/>
                </a:lnTo>
                <a:lnTo>
                  <a:pt x="436" y="199"/>
                </a:lnTo>
                <a:lnTo>
                  <a:pt x="435" y="190"/>
                </a:lnTo>
                <a:lnTo>
                  <a:pt x="432" y="182"/>
                </a:lnTo>
                <a:lnTo>
                  <a:pt x="431" y="174"/>
                </a:lnTo>
                <a:lnTo>
                  <a:pt x="428" y="167"/>
                </a:lnTo>
                <a:lnTo>
                  <a:pt x="426" y="160"/>
                </a:lnTo>
                <a:lnTo>
                  <a:pt x="423" y="154"/>
                </a:lnTo>
                <a:lnTo>
                  <a:pt x="422" y="148"/>
                </a:lnTo>
                <a:lnTo>
                  <a:pt x="419" y="143"/>
                </a:lnTo>
                <a:lnTo>
                  <a:pt x="418" y="137"/>
                </a:lnTo>
                <a:lnTo>
                  <a:pt x="415" y="133"/>
                </a:lnTo>
                <a:lnTo>
                  <a:pt x="413" y="128"/>
                </a:lnTo>
                <a:lnTo>
                  <a:pt x="410" y="124"/>
                </a:lnTo>
                <a:lnTo>
                  <a:pt x="409" y="121"/>
                </a:lnTo>
                <a:lnTo>
                  <a:pt x="406" y="117"/>
                </a:lnTo>
                <a:lnTo>
                  <a:pt x="403" y="114"/>
                </a:lnTo>
                <a:lnTo>
                  <a:pt x="402" y="112"/>
                </a:lnTo>
                <a:lnTo>
                  <a:pt x="399" y="110"/>
                </a:lnTo>
                <a:lnTo>
                  <a:pt x="390" y="102"/>
                </a:lnTo>
                <a:lnTo>
                  <a:pt x="382" y="95"/>
                </a:lnTo>
                <a:lnTo>
                  <a:pt x="376" y="89"/>
                </a:lnTo>
                <a:lnTo>
                  <a:pt x="370" y="82"/>
                </a:lnTo>
                <a:lnTo>
                  <a:pt x="366" y="75"/>
                </a:lnTo>
                <a:lnTo>
                  <a:pt x="363" y="68"/>
                </a:lnTo>
                <a:lnTo>
                  <a:pt x="361" y="62"/>
                </a:lnTo>
                <a:lnTo>
                  <a:pt x="360" y="55"/>
                </a:lnTo>
                <a:lnTo>
                  <a:pt x="361" y="49"/>
                </a:lnTo>
                <a:lnTo>
                  <a:pt x="363" y="43"/>
                </a:lnTo>
                <a:lnTo>
                  <a:pt x="366" y="38"/>
                </a:lnTo>
                <a:lnTo>
                  <a:pt x="370" y="32"/>
                </a:lnTo>
                <a:lnTo>
                  <a:pt x="376" y="28"/>
                </a:lnTo>
                <a:lnTo>
                  <a:pt x="382" y="23"/>
                </a:lnTo>
                <a:lnTo>
                  <a:pt x="390" y="19"/>
                </a:lnTo>
                <a:lnTo>
                  <a:pt x="399" y="15"/>
                </a:lnTo>
                <a:lnTo>
                  <a:pt x="406" y="12"/>
                </a:lnTo>
                <a:lnTo>
                  <a:pt x="412" y="7"/>
                </a:lnTo>
                <a:lnTo>
                  <a:pt x="421" y="6"/>
                </a:lnTo>
                <a:lnTo>
                  <a:pt x="428" y="3"/>
                </a:lnTo>
                <a:lnTo>
                  <a:pt x="436" y="2"/>
                </a:lnTo>
                <a:lnTo>
                  <a:pt x="445" y="0"/>
                </a:lnTo>
                <a:lnTo>
                  <a:pt x="455" y="0"/>
                </a:lnTo>
                <a:lnTo>
                  <a:pt x="465" y="0"/>
                </a:lnTo>
                <a:lnTo>
                  <a:pt x="477" y="0"/>
                </a:lnTo>
                <a:lnTo>
                  <a:pt x="488" y="0"/>
                </a:lnTo>
                <a:lnTo>
                  <a:pt x="500" y="2"/>
                </a:lnTo>
                <a:lnTo>
                  <a:pt x="513" y="3"/>
                </a:lnTo>
                <a:lnTo>
                  <a:pt x="526" y="6"/>
                </a:lnTo>
                <a:lnTo>
                  <a:pt x="540" y="7"/>
                </a:lnTo>
                <a:lnTo>
                  <a:pt x="556" y="12"/>
                </a:lnTo>
                <a:lnTo>
                  <a:pt x="572" y="15"/>
                </a:lnTo>
                <a:lnTo>
                  <a:pt x="583" y="22"/>
                </a:lnTo>
                <a:lnTo>
                  <a:pt x="596" y="29"/>
                </a:lnTo>
                <a:lnTo>
                  <a:pt x="608" y="36"/>
                </a:lnTo>
                <a:lnTo>
                  <a:pt x="619" y="43"/>
                </a:lnTo>
                <a:lnTo>
                  <a:pt x="629" y="51"/>
                </a:lnTo>
                <a:lnTo>
                  <a:pt x="639" y="58"/>
                </a:lnTo>
                <a:lnTo>
                  <a:pt x="649" y="65"/>
                </a:lnTo>
                <a:lnTo>
                  <a:pt x="659" y="72"/>
                </a:lnTo>
                <a:lnTo>
                  <a:pt x="668" y="79"/>
                </a:lnTo>
                <a:lnTo>
                  <a:pt x="675" y="87"/>
                </a:lnTo>
                <a:lnTo>
                  <a:pt x="683" y="94"/>
                </a:lnTo>
                <a:lnTo>
                  <a:pt x="690" y="101"/>
                </a:lnTo>
                <a:lnTo>
                  <a:pt x="695" y="108"/>
                </a:lnTo>
                <a:lnTo>
                  <a:pt x="700" y="115"/>
                </a:lnTo>
                <a:lnTo>
                  <a:pt x="704" y="123"/>
                </a:lnTo>
                <a:lnTo>
                  <a:pt x="708" y="130"/>
                </a:lnTo>
                <a:lnTo>
                  <a:pt x="711" y="140"/>
                </a:lnTo>
                <a:lnTo>
                  <a:pt x="714" y="151"/>
                </a:lnTo>
                <a:lnTo>
                  <a:pt x="720" y="170"/>
                </a:lnTo>
                <a:lnTo>
                  <a:pt x="726" y="189"/>
                </a:lnTo>
                <a:lnTo>
                  <a:pt x="727" y="197"/>
                </a:lnTo>
                <a:lnTo>
                  <a:pt x="730" y="207"/>
                </a:lnTo>
                <a:lnTo>
                  <a:pt x="731" y="216"/>
                </a:lnTo>
                <a:lnTo>
                  <a:pt x="731" y="225"/>
                </a:lnTo>
                <a:lnTo>
                  <a:pt x="733" y="235"/>
                </a:lnTo>
                <a:lnTo>
                  <a:pt x="733" y="243"/>
                </a:lnTo>
                <a:lnTo>
                  <a:pt x="731" y="254"/>
                </a:lnTo>
                <a:lnTo>
                  <a:pt x="730" y="264"/>
                </a:lnTo>
                <a:lnTo>
                  <a:pt x="729" y="274"/>
                </a:lnTo>
                <a:lnTo>
                  <a:pt x="726" y="284"/>
                </a:lnTo>
                <a:lnTo>
                  <a:pt x="724" y="290"/>
                </a:lnTo>
                <a:lnTo>
                  <a:pt x="723" y="297"/>
                </a:lnTo>
                <a:lnTo>
                  <a:pt x="721" y="302"/>
                </a:lnTo>
                <a:lnTo>
                  <a:pt x="720" y="311"/>
                </a:lnTo>
                <a:lnTo>
                  <a:pt x="717" y="320"/>
                </a:lnTo>
                <a:lnTo>
                  <a:pt x="716" y="328"/>
                </a:lnTo>
                <a:lnTo>
                  <a:pt x="714" y="338"/>
                </a:lnTo>
                <a:lnTo>
                  <a:pt x="713" y="349"/>
                </a:lnTo>
                <a:lnTo>
                  <a:pt x="711" y="360"/>
                </a:lnTo>
                <a:lnTo>
                  <a:pt x="710" y="372"/>
                </a:lnTo>
                <a:lnTo>
                  <a:pt x="708" y="383"/>
                </a:lnTo>
                <a:lnTo>
                  <a:pt x="706" y="396"/>
                </a:lnTo>
                <a:lnTo>
                  <a:pt x="704" y="410"/>
                </a:lnTo>
                <a:lnTo>
                  <a:pt x="703" y="425"/>
                </a:lnTo>
                <a:lnTo>
                  <a:pt x="701" y="439"/>
                </a:lnTo>
                <a:lnTo>
                  <a:pt x="700" y="455"/>
                </a:lnTo>
                <a:lnTo>
                  <a:pt x="698" y="471"/>
                </a:lnTo>
                <a:lnTo>
                  <a:pt x="697" y="488"/>
                </a:lnTo>
                <a:lnTo>
                  <a:pt x="694" y="505"/>
                </a:lnTo>
                <a:lnTo>
                  <a:pt x="693" y="523"/>
                </a:lnTo>
                <a:lnTo>
                  <a:pt x="691" y="541"/>
                </a:lnTo>
                <a:lnTo>
                  <a:pt x="690" y="560"/>
                </a:lnTo>
                <a:lnTo>
                  <a:pt x="688" y="580"/>
                </a:lnTo>
                <a:lnTo>
                  <a:pt x="687" y="600"/>
                </a:lnTo>
                <a:lnTo>
                  <a:pt x="685" y="622"/>
                </a:lnTo>
                <a:lnTo>
                  <a:pt x="684" y="644"/>
                </a:lnTo>
                <a:lnTo>
                  <a:pt x="681" y="665"/>
                </a:lnTo>
                <a:lnTo>
                  <a:pt x="680" y="688"/>
                </a:lnTo>
                <a:lnTo>
                  <a:pt x="678" y="711"/>
                </a:lnTo>
                <a:lnTo>
                  <a:pt x="677" y="736"/>
                </a:lnTo>
                <a:lnTo>
                  <a:pt x="675" y="760"/>
                </a:lnTo>
                <a:lnTo>
                  <a:pt x="674" y="7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70"/>
          <p:cNvSpPr/>
          <p:nvPr/>
        </p:nvSpPr>
        <p:spPr>
          <a:xfrm>
            <a:off x="5562720" y="3786120"/>
            <a:ext cx="839520" cy="717480"/>
          </a:xfrm>
          <a:custGeom>
            <a:avLst/>
            <a:gdLst/>
            <a:ahLst/>
            <a:rect l="l" t="t" r="r" b="b"/>
            <a:pathLst>
              <a:path w="1586" h="1356">
                <a:moveTo>
                  <a:pt x="279" y="1353"/>
                </a:moveTo>
                <a:lnTo>
                  <a:pt x="276" y="1354"/>
                </a:lnTo>
                <a:lnTo>
                  <a:pt x="272" y="1354"/>
                </a:lnTo>
                <a:lnTo>
                  <a:pt x="269" y="1356"/>
                </a:lnTo>
                <a:lnTo>
                  <a:pt x="264" y="1356"/>
                </a:lnTo>
                <a:lnTo>
                  <a:pt x="262" y="1356"/>
                </a:lnTo>
                <a:lnTo>
                  <a:pt x="257" y="1356"/>
                </a:lnTo>
                <a:lnTo>
                  <a:pt x="253" y="1354"/>
                </a:lnTo>
                <a:lnTo>
                  <a:pt x="250" y="1353"/>
                </a:lnTo>
                <a:lnTo>
                  <a:pt x="246" y="1351"/>
                </a:lnTo>
                <a:lnTo>
                  <a:pt x="241" y="1348"/>
                </a:lnTo>
                <a:lnTo>
                  <a:pt x="236" y="1347"/>
                </a:lnTo>
                <a:lnTo>
                  <a:pt x="231" y="1344"/>
                </a:lnTo>
                <a:lnTo>
                  <a:pt x="227" y="1340"/>
                </a:lnTo>
                <a:lnTo>
                  <a:pt x="223" y="1337"/>
                </a:lnTo>
                <a:lnTo>
                  <a:pt x="211" y="1328"/>
                </a:lnTo>
                <a:lnTo>
                  <a:pt x="201" y="1318"/>
                </a:lnTo>
                <a:lnTo>
                  <a:pt x="190" y="1308"/>
                </a:lnTo>
                <a:lnTo>
                  <a:pt x="178" y="1295"/>
                </a:lnTo>
                <a:lnTo>
                  <a:pt x="165" y="1282"/>
                </a:lnTo>
                <a:lnTo>
                  <a:pt x="151" y="1268"/>
                </a:lnTo>
                <a:lnTo>
                  <a:pt x="138" y="1252"/>
                </a:lnTo>
                <a:lnTo>
                  <a:pt x="122" y="1235"/>
                </a:lnTo>
                <a:lnTo>
                  <a:pt x="108" y="1217"/>
                </a:lnTo>
                <a:lnTo>
                  <a:pt x="92" y="1200"/>
                </a:lnTo>
                <a:lnTo>
                  <a:pt x="77" y="1183"/>
                </a:lnTo>
                <a:lnTo>
                  <a:pt x="64" y="1167"/>
                </a:lnTo>
                <a:lnTo>
                  <a:pt x="53" y="1151"/>
                </a:lnTo>
                <a:lnTo>
                  <a:pt x="41" y="1137"/>
                </a:lnTo>
                <a:lnTo>
                  <a:pt x="33" y="1124"/>
                </a:lnTo>
                <a:lnTo>
                  <a:pt x="24" y="1111"/>
                </a:lnTo>
                <a:lnTo>
                  <a:pt x="17" y="1099"/>
                </a:lnTo>
                <a:lnTo>
                  <a:pt x="11" y="1088"/>
                </a:lnTo>
                <a:lnTo>
                  <a:pt x="7" y="1076"/>
                </a:lnTo>
                <a:lnTo>
                  <a:pt x="2" y="1066"/>
                </a:lnTo>
                <a:lnTo>
                  <a:pt x="1" y="1058"/>
                </a:lnTo>
                <a:lnTo>
                  <a:pt x="0" y="1049"/>
                </a:lnTo>
                <a:lnTo>
                  <a:pt x="0" y="1040"/>
                </a:lnTo>
                <a:lnTo>
                  <a:pt x="1" y="1032"/>
                </a:lnTo>
                <a:lnTo>
                  <a:pt x="4" y="1025"/>
                </a:lnTo>
                <a:lnTo>
                  <a:pt x="7" y="1020"/>
                </a:lnTo>
                <a:lnTo>
                  <a:pt x="11" y="1017"/>
                </a:lnTo>
                <a:lnTo>
                  <a:pt x="15" y="1014"/>
                </a:lnTo>
                <a:lnTo>
                  <a:pt x="20" y="1010"/>
                </a:lnTo>
                <a:lnTo>
                  <a:pt x="24" y="1007"/>
                </a:lnTo>
                <a:lnTo>
                  <a:pt x="30" y="1004"/>
                </a:lnTo>
                <a:lnTo>
                  <a:pt x="36" y="1001"/>
                </a:lnTo>
                <a:lnTo>
                  <a:pt x="43" y="999"/>
                </a:lnTo>
                <a:lnTo>
                  <a:pt x="49" y="996"/>
                </a:lnTo>
                <a:lnTo>
                  <a:pt x="56" y="993"/>
                </a:lnTo>
                <a:lnTo>
                  <a:pt x="63" y="991"/>
                </a:lnTo>
                <a:lnTo>
                  <a:pt x="72" y="990"/>
                </a:lnTo>
                <a:lnTo>
                  <a:pt x="80" y="989"/>
                </a:lnTo>
                <a:lnTo>
                  <a:pt x="89" y="987"/>
                </a:lnTo>
                <a:lnTo>
                  <a:pt x="97" y="987"/>
                </a:lnTo>
                <a:lnTo>
                  <a:pt x="108" y="987"/>
                </a:lnTo>
                <a:lnTo>
                  <a:pt x="116" y="990"/>
                </a:lnTo>
                <a:lnTo>
                  <a:pt x="126" y="993"/>
                </a:lnTo>
                <a:lnTo>
                  <a:pt x="135" y="996"/>
                </a:lnTo>
                <a:lnTo>
                  <a:pt x="145" y="997"/>
                </a:lnTo>
                <a:lnTo>
                  <a:pt x="155" y="999"/>
                </a:lnTo>
                <a:lnTo>
                  <a:pt x="164" y="1000"/>
                </a:lnTo>
                <a:lnTo>
                  <a:pt x="172" y="1000"/>
                </a:lnTo>
                <a:lnTo>
                  <a:pt x="182" y="1001"/>
                </a:lnTo>
                <a:lnTo>
                  <a:pt x="191" y="1000"/>
                </a:lnTo>
                <a:lnTo>
                  <a:pt x="200" y="1000"/>
                </a:lnTo>
                <a:lnTo>
                  <a:pt x="207" y="999"/>
                </a:lnTo>
                <a:lnTo>
                  <a:pt x="216" y="997"/>
                </a:lnTo>
                <a:lnTo>
                  <a:pt x="223" y="996"/>
                </a:lnTo>
                <a:lnTo>
                  <a:pt x="230" y="993"/>
                </a:lnTo>
                <a:lnTo>
                  <a:pt x="237" y="990"/>
                </a:lnTo>
                <a:lnTo>
                  <a:pt x="244" y="987"/>
                </a:lnTo>
                <a:lnTo>
                  <a:pt x="246" y="984"/>
                </a:lnTo>
                <a:lnTo>
                  <a:pt x="249" y="981"/>
                </a:lnTo>
                <a:lnTo>
                  <a:pt x="253" y="978"/>
                </a:lnTo>
                <a:lnTo>
                  <a:pt x="257" y="974"/>
                </a:lnTo>
                <a:lnTo>
                  <a:pt x="263" y="970"/>
                </a:lnTo>
                <a:lnTo>
                  <a:pt x="269" y="965"/>
                </a:lnTo>
                <a:lnTo>
                  <a:pt x="275" y="960"/>
                </a:lnTo>
                <a:lnTo>
                  <a:pt x="283" y="954"/>
                </a:lnTo>
                <a:lnTo>
                  <a:pt x="292" y="948"/>
                </a:lnTo>
                <a:lnTo>
                  <a:pt x="300" y="941"/>
                </a:lnTo>
                <a:lnTo>
                  <a:pt x="311" y="932"/>
                </a:lnTo>
                <a:lnTo>
                  <a:pt x="321" y="925"/>
                </a:lnTo>
                <a:lnTo>
                  <a:pt x="332" y="917"/>
                </a:lnTo>
                <a:lnTo>
                  <a:pt x="345" y="906"/>
                </a:lnTo>
                <a:lnTo>
                  <a:pt x="358" y="896"/>
                </a:lnTo>
                <a:lnTo>
                  <a:pt x="372" y="886"/>
                </a:lnTo>
                <a:lnTo>
                  <a:pt x="387" y="875"/>
                </a:lnTo>
                <a:lnTo>
                  <a:pt x="401" y="863"/>
                </a:lnTo>
                <a:lnTo>
                  <a:pt x="417" y="852"/>
                </a:lnTo>
                <a:lnTo>
                  <a:pt x="434" y="839"/>
                </a:lnTo>
                <a:lnTo>
                  <a:pt x="452" y="824"/>
                </a:lnTo>
                <a:lnTo>
                  <a:pt x="470" y="811"/>
                </a:lnTo>
                <a:lnTo>
                  <a:pt x="489" y="797"/>
                </a:lnTo>
                <a:lnTo>
                  <a:pt x="509" y="781"/>
                </a:lnTo>
                <a:lnTo>
                  <a:pt x="529" y="765"/>
                </a:lnTo>
                <a:lnTo>
                  <a:pt x="550" y="750"/>
                </a:lnTo>
                <a:lnTo>
                  <a:pt x="573" y="732"/>
                </a:lnTo>
                <a:lnTo>
                  <a:pt x="594" y="715"/>
                </a:lnTo>
                <a:lnTo>
                  <a:pt x="617" y="698"/>
                </a:lnTo>
                <a:lnTo>
                  <a:pt x="642" y="679"/>
                </a:lnTo>
                <a:lnTo>
                  <a:pt x="666" y="659"/>
                </a:lnTo>
                <a:lnTo>
                  <a:pt x="692" y="640"/>
                </a:lnTo>
                <a:lnTo>
                  <a:pt x="717" y="620"/>
                </a:lnTo>
                <a:lnTo>
                  <a:pt x="742" y="600"/>
                </a:lnTo>
                <a:lnTo>
                  <a:pt x="767" y="581"/>
                </a:lnTo>
                <a:lnTo>
                  <a:pt x="791" y="562"/>
                </a:lnTo>
                <a:lnTo>
                  <a:pt x="814" y="544"/>
                </a:lnTo>
                <a:lnTo>
                  <a:pt x="839" y="525"/>
                </a:lnTo>
                <a:lnTo>
                  <a:pt x="862" y="508"/>
                </a:lnTo>
                <a:lnTo>
                  <a:pt x="885" y="490"/>
                </a:lnTo>
                <a:lnTo>
                  <a:pt x="930" y="456"/>
                </a:lnTo>
                <a:lnTo>
                  <a:pt x="973" y="423"/>
                </a:lnTo>
                <a:lnTo>
                  <a:pt x="1015" y="391"/>
                </a:lnTo>
                <a:lnTo>
                  <a:pt x="1055" y="359"/>
                </a:lnTo>
                <a:lnTo>
                  <a:pt x="1094" y="329"/>
                </a:lnTo>
                <a:lnTo>
                  <a:pt x="1131" y="300"/>
                </a:lnTo>
                <a:lnTo>
                  <a:pt x="1167" y="272"/>
                </a:lnTo>
                <a:lnTo>
                  <a:pt x="1202" y="244"/>
                </a:lnTo>
                <a:lnTo>
                  <a:pt x="1235" y="217"/>
                </a:lnTo>
                <a:lnTo>
                  <a:pt x="1268" y="191"/>
                </a:lnTo>
                <a:lnTo>
                  <a:pt x="1298" y="164"/>
                </a:lnTo>
                <a:lnTo>
                  <a:pt x="1328" y="139"/>
                </a:lnTo>
                <a:lnTo>
                  <a:pt x="1341" y="128"/>
                </a:lnTo>
                <a:lnTo>
                  <a:pt x="1356" y="118"/>
                </a:lnTo>
                <a:lnTo>
                  <a:pt x="1369" y="107"/>
                </a:lnTo>
                <a:lnTo>
                  <a:pt x="1382" y="99"/>
                </a:lnTo>
                <a:lnTo>
                  <a:pt x="1395" y="90"/>
                </a:lnTo>
                <a:lnTo>
                  <a:pt x="1408" y="82"/>
                </a:lnTo>
                <a:lnTo>
                  <a:pt x="1419" y="73"/>
                </a:lnTo>
                <a:lnTo>
                  <a:pt x="1431" y="66"/>
                </a:lnTo>
                <a:lnTo>
                  <a:pt x="1441" y="59"/>
                </a:lnTo>
                <a:lnTo>
                  <a:pt x="1452" y="51"/>
                </a:lnTo>
                <a:lnTo>
                  <a:pt x="1462" y="46"/>
                </a:lnTo>
                <a:lnTo>
                  <a:pt x="1472" y="40"/>
                </a:lnTo>
                <a:lnTo>
                  <a:pt x="1482" y="34"/>
                </a:lnTo>
                <a:lnTo>
                  <a:pt x="1491" y="28"/>
                </a:lnTo>
                <a:lnTo>
                  <a:pt x="1500" y="24"/>
                </a:lnTo>
                <a:lnTo>
                  <a:pt x="1508" y="20"/>
                </a:lnTo>
                <a:lnTo>
                  <a:pt x="1515" y="17"/>
                </a:lnTo>
                <a:lnTo>
                  <a:pt x="1523" y="12"/>
                </a:lnTo>
                <a:lnTo>
                  <a:pt x="1530" y="10"/>
                </a:lnTo>
                <a:lnTo>
                  <a:pt x="1537" y="7"/>
                </a:lnTo>
                <a:lnTo>
                  <a:pt x="1543" y="5"/>
                </a:lnTo>
                <a:lnTo>
                  <a:pt x="1549" y="2"/>
                </a:lnTo>
                <a:lnTo>
                  <a:pt x="1554" y="1"/>
                </a:lnTo>
                <a:lnTo>
                  <a:pt x="1560" y="1"/>
                </a:lnTo>
                <a:lnTo>
                  <a:pt x="1564" y="0"/>
                </a:lnTo>
                <a:lnTo>
                  <a:pt x="1569" y="0"/>
                </a:lnTo>
                <a:lnTo>
                  <a:pt x="1573" y="0"/>
                </a:lnTo>
                <a:lnTo>
                  <a:pt x="1576" y="0"/>
                </a:lnTo>
                <a:lnTo>
                  <a:pt x="1579" y="0"/>
                </a:lnTo>
                <a:lnTo>
                  <a:pt x="1582" y="1"/>
                </a:lnTo>
                <a:lnTo>
                  <a:pt x="1583" y="2"/>
                </a:lnTo>
                <a:lnTo>
                  <a:pt x="1586" y="4"/>
                </a:lnTo>
                <a:lnTo>
                  <a:pt x="1586" y="7"/>
                </a:lnTo>
                <a:lnTo>
                  <a:pt x="1586" y="10"/>
                </a:lnTo>
                <a:lnTo>
                  <a:pt x="1585" y="15"/>
                </a:lnTo>
                <a:lnTo>
                  <a:pt x="1582" y="21"/>
                </a:lnTo>
                <a:lnTo>
                  <a:pt x="1577" y="28"/>
                </a:lnTo>
                <a:lnTo>
                  <a:pt x="1572" y="37"/>
                </a:lnTo>
                <a:lnTo>
                  <a:pt x="1564" y="47"/>
                </a:lnTo>
                <a:lnTo>
                  <a:pt x="1556" y="57"/>
                </a:lnTo>
                <a:lnTo>
                  <a:pt x="1547" y="69"/>
                </a:lnTo>
                <a:lnTo>
                  <a:pt x="1536" y="83"/>
                </a:lnTo>
                <a:lnTo>
                  <a:pt x="1524" y="97"/>
                </a:lnTo>
                <a:lnTo>
                  <a:pt x="1510" y="113"/>
                </a:lnTo>
                <a:lnTo>
                  <a:pt x="1495" y="129"/>
                </a:lnTo>
                <a:lnTo>
                  <a:pt x="1480" y="148"/>
                </a:lnTo>
                <a:lnTo>
                  <a:pt x="1462" y="167"/>
                </a:lnTo>
                <a:lnTo>
                  <a:pt x="1445" y="188"/>
                </a:lnTo>
                <a:lnTo>
                  <a:pt x="1425" y="210"/>
                </a:lnTo>
                <a:lnTo>
                  <a:pt x="1403" y="233"/>
                </a:lnTo>
                <a:lnTo>
                  <a:pt x="1382" y="256"/>
                </a:lnTo>
                <a:lnTo>
                  <a:pt x="1359" y="282"/>
                </a:lnTo>
                <a:lnTo>
                  <a:pt x="1334" y="308"/>
                </a:lnTo>
                <a:lnTo>
                  <a:pt x="1308" y="336"/>
                </a:lnTo>
                <a:lnTo>
                  <a:pt x="1281" y="365"/>
                </a:lnTo>
                <a:lnTo>
                  <a:pt x="1252" y="394"/>
                </a:lnTo>
                <a:lnTo>
                  <a:pt x="1223" y="426"/>
                </a:lnTo>
                <a:lnTo>
                  <a:pt x="1193" y="459"/>
                </a:lnTo>
                <a:lnTo>
                  <a:pt x="1160" y="492"/>
                </a:lnTo>
                <a:lnTo>
                  <a:pt x="1128" y="526"/>
                </a:lnTo>
                <a:lnTo>
                  <a:pt x="1094" y="562"/>
                </a:lnTo>
                <a:lnTo>
                  <a:pt x="1058" y="600"/>
                </a:lnTo>
                <a:lnTo>
                  <a:pt x="1022" y="639"/>
                </a:lnTo>
                <a:lnTo>
                  <a:pt x="984" y="678"/>
                </a:lnTo>
                <a:lnTo>
                  <a:pt x="944" y="719"/>
                </a:lnTo>
                <a:lnTo>
                  <a:pt x="907" y="758"/>
                </a:lnTo>
                <a:lnTo>
                  <a:pt x="869" y="797"/>
                </a:lnTo>
                <a:lnTo>
                  <a:pt x="833" y="834"/>
                </a:lnTo>
                <a:lnTo>
                  <a:pt x="799" y="870"/>
                </a:lnTo>
                <a:lnTo>
                  <a:pt x="765" y="905"/>
                </a:lnTo>
                <a:lnTo>
                  <a:pt x="732" y="938"/>
                </a:lnTo>
                <a:lnTo>
                  <a:pt x="701" y="970"/>
                </a:lnTo>
                <a:lnTo>
                  <a:pt x="670" y="1000"/>
                </a:lnTo>
                <a:lnTo>
                  <a:pt x="642" y="1029"/>
                </a:lnTo>
                <a:lnTo>
                  <a:pt x="614" y="1056"/>
                </a:lnTo>
                <a:lnTo>
                  <a:pt x="587" y="1082"/>
                </a:lnTo>
                <a:lnTo>
                  <a:pt x="561" y="1108"/>
                </a:lnTo>
                <a:lnTo>
                  <a:pt x="537" y="1131"/>
                </a:lnTo>
                <a:lnTo>
                  <a:pt x="514" y="1154"/>
                </a:lnTo>
                <a:lnTo>
                  <a:pt x="490" y="1176"/>
                </a:lnTo>
                <a:lnTo>
                  <a:pt x="469" y="1196"/>
                </a:lnTo>
                <a:lnTo>
                  <a:pt x="449" y="1215"/>
                </a:lnTo>
                <a:lnTo>
                  <a:pt x="430" y="1232"/>
                </a:lnTo>
                <a:lnTo>
                  <a:pt x="413" y="1248"/>
                </a:lnTo>
                <a:lnTo>
                  <a:pt x="395" y="1263"/>
                </a:lnTo>
                <a:lnTo>
                  <a:pt x="380" y="1278"/>
                </a:lnTo>
                <a:lnTo>
                  <a:pt x="364" y="1289"/>
                </a:lnTo>
                <a:lnTo>
                  <a:pt x="351" y="1301"/>
                </a:lnTo>
                <a:lnTo>
                  <a:pt x="338" y="1312"/>
                </a:lnTo>
                <a:lnTo>
                  <a:pt x="326" y="1321"/>
                </a:lnTo>
                <a:lnTo>
                  <a:pt x="316" y="1328"/>
                </a:lnTo>
                <a:lnTo>
                  <a:pt x="306" y="1335"/>
                </a:lnTo>
                <a:lnTo>
                  <a:pt x="298" y="1341"/>
                </a:lnTo>
                <a:lnTo>
                  <a:pt x="290" y="1346"/>
                </a:lnTo>
                <a:lnTo>
                  <a:pt x="285" y="1350"/>
                </a:lnTo>
                <a:lnTo>
                  <a:pt x="279" y="13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71"/>
          <p:cNvSpPr/>
          <p:nvPr/>
        </p:nvSpPr>
        <p:spPr>
          <a:xfrm>
            <a:off x="6483240" y="3227400"/>
            <a:ext cx="974880" cy="298440"/>
          </a:xfrm>
          <a:custGeom>
            <a:avLst/>
            <a:gdLst/>
            <a:ahLst/>
            <a:rect l="l" t="t" r="r" b="b"/>
            <a:pathLst>
              <a:path w="1841" h="565">
                <a:moveTo>
                  <a:pt x="0" y="444"/>
                </a:moveTo>
                <a:lnTo>
                  <a:pt x="91" y="416"/>
                </a:lnTo>
                <a:lnTo>
                  <a:pt x="179" y="389"/>
                </a:lnTo>
                <a:lnTo>
                  <a:pt x="264" y="365"/>
                </a:lnTo>
                <a:lnTo>
                  <a:pt x="344" y="340"/>
                </a:lnTo>
                <a:lnTo>
                  <a:pt x="423" y="316"/>
                </a:lnTo>
                <a:lnTo>
                  <a:pt x="501" y="293"/>
                </a:lnTo>
                <a:lnTo>
                  <a:pt x="574" y="271"/>
                </a:lnTo>
                <a:lnTo>
                  <a:pt x="645" y="249"/>
                </a:lnTo>
                <a:lnTo>
                  <a:pt x="713" y="229"/>
                </a:lnTo>
                <a:lnTo>
                  <a:pt x="779" y="210"/>
                </a:lnTo>
                <a:lnTo>
                  <a:pt x="841" y="192"/>
                </a:lnTo>
                <a:lnTo>
                  <a:pt x="901" y="174"/>
                </a:lnTo>
                <a:lnTo>
                  <a:pt x="959" y="157"/>
                </a:lnTo>
                <a:lnTo>
                  <a:pt x="1012" y="141"/>
                </a:lnTo>
                <a:lnTo>
                  <a:pt x="1064" y="126"/>
                </a:lnTo>
                <a:lnTo>
                  <a:pt x="1113" y="111"/>
                </a:lnTo>
                <a:lnTo>
                  <a:pt x="1159" y="98"/>
                </a:lnTo>
                <a:lnTo>
                  <a:pt x="1204" y="85"/>
                </a:lnTo>
                <a:lnTo>
                  <a:pt x="1244" y="74"/>
                </a:lnTo>
                <a:lnTo>
                  <a:pt x="1281" y="64"/>
                </a:lnTo>
                <a:lnTo>
                  <a:pt x="1317" y="54"/>
                </a:lnTo>
                <a:lnTo>
                  <a:pt x="1350" y="43"/>
                </a:lnTo>
                <a:lnTo>
                  <a:pt x="1381" y="36"/>
                </a:lnTo>
                <a:lnTo>
                  <a:pt x="1408" y="28"/>
                </a:lnTo>
                <a:lnTo>
                  <a:pt x="1432" y="22"/>
                </a:lnTo>
                <a:lnTo>
                  <a:pt x="1454" y="16"/>
                </a:lnTo>
                <a:lnTo>
                  <a:pt x="1474" y="12"/>
                </a:lnTo>
                <a:lnTo>
                  <a:pt x="1490" y="7"/>
                </a:lnTo>
                <a:lnTo>
                  <a:pt x="1504" y="5"/>
                </a:lnTo>
                <a:lnTo>
                  <a:pt x="1516" y="2"/>
                </a:lnTo>
                <a:lnTo>
                  <a:pt x="1525" y="0"/>
                </a:lnTo>
                <a:lnTo>
                  <a:pt x="1532" y="0"/>
                </a:lnTo>
                <a:lnTo>
                  <a:pt x="1540" y="0"/>
                </a:lnTo>
                <a:lnTo>
                  <a:pt x="1551" y="2"/>
                </a:lnTo>
                <a:lnTo>
                  <a:pt x="1561" y="2"/>
                </a:lnTo>
                <a:lnTo>
                  <a:pt x="1571" y="3"/>
                </a:lnTo>
                <a:lnTo>
                  <a:pt x="1581" y="6"/>
                </a:lnTo>
                <a:lnTo>
                  <a:pt x="1591" y="9"/>
                </a:lnTo>
                <a:lnTo>
                  <a:pt x="1602" y="12"/>
                </a:lnTo>
                <a:lnTo>
                  <a:pt x="1612" y="15"/>
                </a:lnTo>
                <a:lnTo>
                  <a:pt x="1624" y="19"/>
                </a:lnTo>
                <a:lnTo>
                  <a:pt x="1637" y="22"/>
                </a:lnTo>
                <a:lnTo>
                  <a:pt x="1648" y="28"/>
                </a:lnTo>
                <a:lnTo>
                  <a:pt x="1661" y="32"/>
                </a:lnTo>
                <a:lnTo>
                  <a:pt x="1676" y="38"/>
                </a:lnTo>
                <a:lnTo>
                  <a:pt x="1690" y="45"/>
                </a:lnTo>
                <a:lnTo>
                  <a:pt x="1705" y="51"/>
                </a:lnTo>
                <a:lnTo>
                  <a:pt x="1720" y="58"/>
                </a:lnTo>
                <a:lnTo>
                  <a:pt x="1736" y="65"/>
                </a:lnTo>
                <a:lnTo>
                  <a:pt x="1751" y="72"/>
                </a:lnTo>
                <a:lnTo>
                  <a:pt x="1764" y="79"/>
                </a:lnTo>
                <a:lnTo>
                  <a:pt x="1775" y="87"/>
                </a:lnTo>
                <a:lnTo>
                  <a:pt x="1787" y="94"/>
                </a:lnTo>
                <a:lnTo>
                  <a:pt x="1797" y="101"/>
                </a:lnTo>
                <a:lnTo>
                  <a:pt x="1805" y="108"/>
                </a:lnTo>
                <a:lnTo>
                  <a:pt x="1813" y="115"/>
                </a:lnTo>
                <a:lnTo>
                  <a:pt x="1820" y="123"/>
                </a:lnTo>
                <a:lnTo>
                  <a:pt x="1825" y="130"/>
                </a:lnTo>
                <a:lnTo>
                  <a:pt x="1830" y="137"/>
                </a:lnTo>
                <a:lnTo>
                  <a:pt x="1834" y="144"/>
                </a:lnTo>
                <a:lnTo>
                  <a:pt x="1837" y="151"/>
                </a:lnTo>
                <a:lnTo>
                  <a:pt x="1838" y="159"/>
                </a:lnTo>
                <a:lnTo>
                  <a:pt x="1840" y="166"/>
                </a:lnTo>
                <a:lnTo>
                  <a:pt x="1841" y="174"/>
                </a:lnTo>
                <a:lnTo>
                  <a:pt x="1840" y="180"/>
                </a:lnTo>
                <a:lnTo>
                  <a:pt x="1838" y="187"/>
                </a:lnTo>
                <a:lnTo>
                  <a:pt x="1836" y="193"/>
                </a:lnTo>
                <a:lnTo>
                  <a:pt x="1831" y="199"/>
                </a:lnTo>
                <a:lnTo>
                  <a:pt x="1825" y="205"/>
                </a:lnTo>
                <a:lnTo>
                  <a:pt x="1820" y="210"/>
                </a:lnTo>
                <a:lnTo>
                  <a:pt x="1813" y="215"/>
                </a:lnTo>
                <a:lnTo>
                  <a:pt x="1804" y="219"/>
                </a:lnTo>
                <a:lnTo>
                  <a:pt x="1795" y="223"/>
                </a:lnTo>
                <a:lnTo>
                  <a:pt x="1784" y="228"/>
                </a:lnTo>
                <a:lnTo>
                  <a:pt x="1774" y="232"/>
                </a:lnTo>
                <a:lnTo>
                  <a:pt x="1761" y="236"/>
                </a:lnTo>
                <a:lnTo>
                  <a:pt x="1748" y="239"/>
                </a:lnTo>
                <a:lnTo>
                  <a:pt x="1733" y="244"/>
                </a:lnTo>
                <a:lnTo>
                  <a:pt x="1719" y="246"/>
                </a:lnTo>
                <a:lnTo>
                  <a:pt x="1703" y="251"/>
                </a:lnTo>
                <a:lnTo>
                  <a:pt x="1683" y="255"/>
                </a:lnTo>
                <a:lnTo>
                  <a:pt x="1663" y="258"/>
                </a:lnTo>
                <a:lnTo>
                  <a:pt x="1641" y="262"/>
                </a:lnTo>
                <a:lnTo>
                  <a:pt x="1620" y="265"/>
                </a:lnTo>
                <a:lnTo>
                  <a:pt x="1595" y="269"/>
                </a:lnTo>
                <a:lnTo>
                  <a:pt x="1572" y="274"/>
                </a:lnTo>
                <a:lnTo>
                  <a:pt x="1546" y="278"/>
                </a:lnTo>
                <a:lnTo>
                  <a:pt x="1520" y="282"/>
                </a:lnTo>
                <a:lnTo>
                  <a:pt x="1493" y="287"/>
                </a:lnTo>
                <a:lnTo>
                  <a:pt x="1466" y="291"/>
                </a:lnTo>
                <a:lnTo>
                  <a:pt x="1435" y="297"/>
                </a:lnTo>
                <a:lnTo>
                  <a:pt x="1405" y="301"/>
                </a:lnTo>
                <a:lnTo>
                  <a:pt x="1373" y="308"/>
                </a:lnTo>
                <a:lnTo>
                  <a:pt x="1342" y="314"/>
                </a:lnTo>
                <a:lnTo>
                  <a:pt x="1307" y="321"/>
                </a:lnTo>
                <a:lnTo>
                  <a:pt x="1273" y="329"/>
                </a:lnTo>
                <a:lnTo>
                  <a:pt x="1237" y="336"/>
                </a:lnTo>
                <a:lnTo>
                  <a:pt x="1201" y="343"/>
                </a:lnTo>
                <a:lnTo>
                  <a:pt x="1165" y="352"/>
                </a:lnTo>
                <a:lnTo>
                  <a:pt x="1127" y="360"/>
                </a:lnTo>
                <a:lnTo>
                  <a:pt x="1091" y="369"/>
                </a:lnTo>
                <a:lnTo>
                  <a:pt x="1052" y="379"/>
                </a:lnTo>
                <a:lnTo>
                  <a:pt x="1015" y="388"/>
                </a:lnTo>
                <a:lnTo>
                  <a:pt x="976" y="398"/>
                </a:lnTo>
                <a:lnTo>
                  <a:pt x="937" y="408"/>
                </a:lnTo>
                <a:lnTo>
                  <a:pt x="898" y="418"/>
                </a:lnTo>
                <a:lnTo>
                  <a:pt x="858" y="428"/>
                </a:lnTo>
                <a:lnTo>
                  <a:pt x="818" y="438"/>
                </a:lnTo>
                <a:lnTo>
                  <a:pt x="777" y="449"/>
                </a:lnTo>
                <a:lnTo>
                  <a:pt x="737" y="460"/>
                </a:lnTo>
                <a:lnTo>
                  <a:pt x="695" y="471"/>
                </a:lnTo>
                <a:lnTo>
                  <a:pt x="654" y="483"/>
                </a:lnTo>
                <a:lnTo>
                  <a:pt x="634" y="487"/>
                </a:lnTo>
                <a:lnTo>
                  <a:pt x="613" y="493"/>
                </a:lnTo>
                <a:lnTo>
                  <a:pt x="593" y="498"/>
                </a:lnTo>
                <a:lnTo>
                  <a:pt x="573" y="503"/>
                </a:lnTo>
                <a:lnTo>
                  <a:pt x="554" y="508"/>
                </a:lnTo>
                <a:lnTo>
                  <a:pt x="536" y="513"/>
                </a:lnTo>
                <a:lnTo>
                  <a:pt x="517" y="517"/>
                </a:lnTo>
                <a:lnTo>
                  <a:pt x="500" y="521"/>
                </a:lnTo>
                <a:lnTo>
                  <a:pt x="482" y="526"/>
                </a:lnTo>
                <a:lnTo>
                  <a:pt x="465" y="530"/>
                </a:lnTo>
                <a:lnTo>
                  <a:pt x="449" y="533"/>
                </a:lnTo>
                <a:lnTo>
                  <a:pt x="432" y="537"/>
                </a:lnTo>
                <a:lnTo>
                  <a:pt x="416" y="540"/>
                </a:lnTo>
                <a:lnTo>
                  <a:pt x="402" y="544"/>
                </a:lnTo>
                <a:lnTo>
                  <a:pt x="387" y="547"/>
                </a:lnTo>
                <a:lnTo>
                  <a:pt x="373" y="550"/>
                </a:lnTo>
                <a:lnTo>
                  <a:pt x="359" y="552"/>
                </a:lnTo>
                <a:lnTo>
                  <a:pt x="346" y="555"/>
                </a:lnTo>
                <a:lnTo>
                  <a:pt x="333" y="557"/>
                </a:lnTo>
                <a:lnTo>
                  <a:pt x="320" y="559"/>
                </a:lnTo>
                <a:lnTo>
                  <a:pt x="308" y="560"/>
                </a:lnTo>
                <a:lnTo>
                  <a:pt x="297" y="562"/>
                </a:lnTo>
                <a:lnTo>
                  <a:pt x="285" y="563"/>
                </a:lnTo>
                <a:lnTo>
                  <a:pt x="274" y="563"/>
                </a:lnTo>
                <a:lnTo>
                  <a:pt x="264" y="563"/>
                </a:lnTo>
                <a:lnTo>
                  <a:pt x="255" y="565"/>
                </a:lnTo>
                <a:lnTo>
                  <a:pt x="245" y="565"/>
                </a:lnTo>
                <a:lnTo>
                  <a:pt x="236" y="563"/>
                </a:lnTo>
                <a:lnTo>
                  <a:pt x="229" y="563"/>
                </a:lnTo>
                <a:lnTo>
                  <a:pt x="220" y="562"/>
                </a:lnTo>
                <a:lnTo>
                  <a:pt x="213" y="560"/>
                </a:lnTo>
                <a:lnTo>
                  <a:pt x="207" y="559"/>
                </a:lnTo>
                <a:lnTo>
                  <a:pt x="194" y="559"/>
                </a:lnTo>
                <a:lnTo>
                  <a:pt x="181" y="557"/>
                </a:lnTo>
                <a:lnTo>
                  <a:pt x="169" y="555"/>
                </a:lnTo>
                <a:lnTo>
                  <a:pt x="156" y="552"/>
                </a:lnTo>
                <a:lnTo>
                  <a:pt x="143" y="547"/>
                </a:lnTo>
                <a:lnTo>
                  <a:pt x="130" y="543"/>
                </a:lnTo>
                <a:lnTo>
                  <a:pt x="117" y="537"/>
                </a:lnTo>
                <a:lnTo>
                  <a:pt x="104" y="530"/>
                </a:lnTo>
                <a:lnTo>
                  <a:pt x="91" y="523"/>
                </a:lnTo>
                <a:lnTo>
                  <a:pt x="78" y="514"/>
                </a:lnTo>
                <a:lnTo>
                  <a:pt x="65" y="504"/>
                </a:lnTo>
                <a:lnTo>
                  <a:pt x="52" y="494"/>
                </a:lnTo>
                <a:lnTo>
                  <a:pt x="39" y="483"/>
                </a:lnTo>
                <a:lnTo>
                  <a:pt x="26" y="471"/>
                </a:lnTo>
                <a:lnTo>
                  <a:pt x="13" y="457"/>
                </a:lnTo>
                <a:lnTo>
                  <a:pt x="0" y="4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72"/>
          <p:cNvSpPr/>
          <p:nvPr/>
        </p:nvSpPr>
        <p:spPr>
          <a:xfrm>
            <a:off x="6805440" y="2790720"/>
            <a:ext cx="209880" cy="2281320"/>
          </a:xfrm>
          <a:custGeom>
            <a:avLst/>
            <a:gdLst/>
            <a:ahLst/>
            <a:rect l="l" t="t" r="r" b="b"/>
            <a:pathLst>
              <a:path w="396" h="4310">
                <a:moveTo>
                  <a:pt x="321" y="1690"/>
                </a:moveTo>
                <a:lnTo>
                  <a:pt x="321" y="1760"/>
                </a:lnTo>
                <a:lnTo>
                  <a:pt x="321" y="1828"/>
                </a:lnTo>
                <a:lnTo>
                  <a:pt x="321" y="1897"/>
                </a:lnTo>
                <a:lnTo>
                  <a:pt x="321" y="1963"/>
                </a:lnTo>
                <a:lnTo>
                  <a:pt x="321" y="2030"/>
                </a:lnTo>
                <a:lnTo>
                  <a:pt x="321" y="2094"/>
                </a:lnTo>
                <a:lnTo>
                  <a:pt x="321" y="2158"/>
                </a:lnTo>
                <a:lnTo>
                  <a:pt x="321" y="2221"/>
                </a:lnTo>
                <a:lnTo>
                  <a:pt x="321" y="2283"/>
                </a:lnTo>
                <a:lnTo>
                  <a:pt x="321" y="2344"/>
                </a:lnTo>
                <a:lnTo>
                  <a:pt x="321" y="2403"/>
                </a:lnTo>
                <a:lnTo>
                  <a:pt x="321" y="2462"/>
                </a:lnTo>
                <a:lnTo>
                  <a:pt x="321" y="2519"/>
                </a:lnTo>
                <a:lnTo>
                  <a:pt x="321" y="2575"/>
                </a:lnTo>
                <a:lnTo>
                  <a:pt x="322" y="2630"/>
                </a:lnTo>
                <a:lnTo>
                  <a:pt x="322" y="2685"/>
                </a:lnTo>
                <a:lnTo>
                  <a:pt x="322" y="2738"/>
                </a:lnTo>
                <a:lnTo>
                  <a:pt x="324" y="2790"/>
                </a:lnTo>
                <a:lnTo>
                  <a:pt x="324" y="2842"/>
                </a:lnTo>
                <a:lnTo>
                  <a:pt x="324" y="2891"/>
                </a:lnTo>
                <a:lnTo>
                  <a:pt x="325" y="2940"/>
                </a:lnTo>
                <a:lnTo>
                  <a:pt x="325" y="2987"/>
                </a:lnTo>
                <a:lnTo>
                  <a:pt x="327" y="3035"/>
                </a:lnTo>
                <a:lnTo>
                  <a:pt x="327" y="3079"/>
                </a:lnTo>
                <a:lnTo>
                  <a:pt x="328" y="3124"/>
                </a:lnTo>
                <a:lnTo>
                  <a:pt x="330" y="3168"/>
                </a:lnTo>
                <a:lnTo>
                  <a:pt x="330" y="3210"/>
                </a:lnTo>
                <a:lnTo>
                  <a:pt x="331" y="3250"/>
                </a:lnTo>
                <a:lnTo>
                  <a:pt x="333" y="3291"/>
                </a:lnTo>
                <a:lnTo>
                  <a:pt x="334" y="3330"/>
                </a:lnTo>
                <a:lnTo>
                  <a:pt x="335" y="3369"/>
                </a:lnTo>
                <a:lnTo>
                  <a:pt x="337" y="3404"/>
                </a:lnTo>
                <a:lnTo>
                  <a:pt x="338" y="3442"/>
                </a:lnTo>
                <a:lnTo>
                  <a:pt x="340" y="3478"/>
                </a:lnTo>
                <a:lnTo>
                  <a:pt x="341" y="3514"/>
                </a:lnTo>
                <a:lnTo>
                  <a:pt x="341" y="3548"/>
                </a:lnTo>
                <a:lnTo>
                  <a:pt x="343" y="3583"/>
                </a:lnTo>
                <a:lnTo>
                  <a:pt x="343" y="3616"/>
                </a:lnTo>
                <a:lnTo>
                  <a:pt x="344" y="3648"/>
                </a:lnTo>
                <a:lnTo>
                  <a:pt x="344" y="3679"/>
                </a:lnTo>
                <a:lnTo>
                  <a:pt x="344" y="3710"/>
                </a:lnTo>
                <a:lnTo>
                  <a:pt x="344" y="3738"/>
                </a:lnTo>
                <a:lnTo>
                  <a:pt x="344" y="3767"/>
                </a:lnTo>
                <a:lnTo>
                  <a:pt x="344" y="3795"/>
                </a:lnTo>
                <a:lnTo>
                  <a:pt x="343" y="3821"/>
                </a:lnTo>
                <a:lnTo>
                  <a:pt x="343" y="3846"/>
                </a:lnTo>
                <a:lnTo>
                  <a:pt x="343" y="3872"/>
                </a:lnTo>
                <a:lnTo>
                  <a:pt x="341" y="3895"/>
                </a:lnTo>
                <a:lnTo>
                  <a:pt x="340" y="3918"/>
                </a:lnTo>
                <a:lnTo>
                  <a:pt x="340" y="3941"/>
                </a:lnTo>
                <a:lnTo>
                  <a:pt x="338" y="3962"/>
                </a:lnTo>
                <a:lnTo>
                  <a:pt x="337" y="3982"/>
                </a:lnTo>
                <a:lnTo>
                  <a:pt x="337" y="4002"/>
                </a:lnTo>
                <a:lnTo>
                  <a:pt x="335" y="4021"/>
                </a:lnTo>
                <a:lnTo>
                  <a:pt x="334" y="4038"/>
                </a:lnTo>
                <a:lnTo>
                  <a:pt x="333" y="4054"/>
                </a:lnTo>
                <a:lnTo>
                  <a:pt x="331" y="4070"/>
                </a:lnTo>
                <a:lnTo>
                  <a:pt x="330" y="4085"/>
                </a:lnTo>
                <a:lnTo>
                  <a:pt x="328" y="4098"/>
                </a:lnTo>
                <a:lnTo>
                  <a:pt x="327" y="4113"/>
                </a:lnTo>
                <a:lnTo>
                  <a:pt x="325" y="4124"/>
                </a:lnTo>
                <a:lnTo>
                  <a:pt x="324" y="4136"/>
                </a:lnTo>
                <a:lnTo>
                  <a:pt x="322" y="4146"/>
                </a:lnTo>
                <a:lnTo>
                  <a:pt x="321" y="4156"/>
                </a:lnTo>
                <a:lnTo>
                  <a:pt x="314" y="4173"/>
                </a:lnTo>
                <a:lnTo>
                  <a:pt x="308" y="4189"/>
                </a:lnTo>
                <a:lnTo>
                  <a:pt x="302" y="4205"/>
                </a:lnTo>
                <a:lnTo>
                  <a:pt x="298" y="4221"/>
                </a:lnTo>
                <a:lnTo>
                  <a:pt x="292" y="4234"/>
                </a:lnTo>
                <a:lnTo>
                  <a:pt x="288" y="4247"/>
                </a:lnTo>
                <a:lnTo>
                  <a:pt x="284" y="4258"/>
                </a:lnTo>
                <a:lnTo>
                  <a:pt x="279" y="4268"/>
                </a:lnTo>
                <a:lnTo>
                  <a:pt x="275" y="4278"/>
                </a:lnTo>
                <a:lnTo>
                  <a:pt x="272" y="4286"/>
                </a:lnTo>
                <a:lnTo>
                  <a:pt x="268" y="4293"/>
                </a:lnTo>
                <a:lnTo>
                  <a:pt x="265" y="4298"/>
                </a:lnTo>
                <a:lnTo>
                  <a:pt x="261" y="4303"/>
                </a:lnTo>
                <a:lnTo>
                  <a:pt x="258" y="4307"/>
                </a:lnTo>
                <a:lnTo>
                  <a:pt x="255" y="4309"/>
                </a:lnTo>
                <a:lnTo>
                  <a:pt x="252" y="4310"/>
                </a:lnTo>
                <a:lnTo>
                  <a:pt x="248" y="4309"/>
                </a:lnTo>
                <a:lnTo>
                  <a:pt x="243" y="4307"/>
                </a:lnTo>
                <a:lnTo>
                  <a:pt x="239" y="4303"/>
                </a:lnTo>
                <a:lnTo>
                  <a:pt x="238" y="4301"/>
                </a:lnTo>
                <a:lnTo>
                  <a:pt x="235" y="4298"/>
                </a:lnTo>
                <a:lnTo>
                  <a:pt x="232" y="4296"/>
                </a:lnTo>
                <a:lnTo>
                  <a:pt x="230" y="4291"/>
                </a:lnTo>
                <a:lnTo>
                  <a:pt x="227" y="4288"/>
                </a:lnTo>
                <a:lnTo>
                  <a:pt x="225" y="4284"/>
                </a:lnTo>
                <a:lnTo>
                  <a:pt x="222" y="4280"/>
                </a:lnTo>
                <a:lnTo>
                  <a:pt x="219" y="4275"/>
                </a:lnTo>
                <a:lnTo>
                  <a:pt x="216" y="4270"/>
                </a:lnTo>
                <a:lnTo>
                  <a:pt x="212" y="4264"/>
                </a:lnTo>
                <a:lnTo>
                  <a:pt x="209" y="4258"/>
                </a:lnTo>
                <a:lnTo>
                  <a:pt x="206" y="4251"/>
                </a:lnTo>
                <a:lnTo>
                  <a:pt x="202" y="4245"/>
                </a:lnTo>
                <a:lnTo>
                  <a:pt x="199" y="4238"/>
                </a:lnTo>
                <a:lnTo>
                  <a:pt x="194" y="4229"/>
                </a:lnTo>
                <a:lnTo>
                  <a:pt x="191" y="4222"/>
                </a:lnTo>
                <a:lnTo>
                  <a:pt x="187" y="4214"/>
                </a:lnTo>
                <a:lnTo>
                  <a:pt x="183" y="4205"/>
                </a:lnTo>
                <a:lnTo>
                  <a:pt x="179" y="4195"/>
                </a:lnTo>
                <a:lnTo>
                  <a:pt x="176" y="4185"/>
                </a:lnTo>
                <a:lnTo>
                  <a:pt x="171" y="4175"/>
                </a:lnTo>
                <a:lnTo>
                  <a:pt x="167" y="4165"/>
                </a:lnTo>
                <a:lnTo>
                  <a:pt x="163" y="4153"/>
                </a:lnTo>
                <a:lnTo>
                  <a:pt x="157" y="4142"/>
                </a:lnTo>
                <a:lnTo>
                  <a:pt x="153" y="4130"/>
                </a:lnTo>
                <a:lnTo>
                  <a:pt x="148" y="4117"/>
                </a:lnTo>
                <a:lnTo>
                  <a:pt x="140" y="4091"/>
                </a:lnTo>
                <a:lnTo>
                  <a:pt x="131" y="4065"/>
                </a:lnTo>
                <a:lnTo>
                  <a:pt x="125" y="4039"/>
                </a:lnTo>
                <a:lnTo>
                  <a:pt x="120" y="4012"/>
                </a:lnTo>
                <a:lnTo>
                  <a:pt x="114" y="3986"/>
                </a:lnTo>
                <a:lnTo>
                  <a:pt x="111" y="3959"/>
                </a:lnTo>
                <a:lnTo>
                  <a:pt x="108" y="3930"/>
                </a:lnTo>
                <a:lnTo>
                  <a:pt x="105" y="3903"/>
                </a:lnTo>
                <a:lnTo>
                  <a:pt x="105" y="3875"/>
                </a:lnTo>
                <a:lnTo>
                  <a:pt x="104" y="3846"/>
                </a:lnTo>
                <a:lnTo>
                  <a:pt x="104" y="3818"/>
                </a:lnTo>
                <a:lnTo>
                  <a:pt x="105" y="3789"/>
                </a:lnTo>
                <a:lnTo>
                  <a:pt x="107" y="3760"/>
                </a:lnTo>
                <a:lnTo>
                  <a:pt x="108" y="3731"/>
                </a:lnTo>
                <a:lnTo>
                  <a:pt x="111" y="3702"/>
                </a:lnTo>
                <a:lnTo>
                  <a:pt x="114" y="3674"/>
                </a:lnTo>
                <a:lnTo>
                  <a:pt x="115" y="3659"/>
                </a:lnTo>
                <a:lnTo>
                  <a:pt x="117" y="3643"/>
                </a:lnTo>
                <a:lnTo>
                  <a:pt x="118" y="3626"/>
                </a:lnTo>
                <a:lnTo>
                  <a:pt x="120" y="3605"/>
                </a:lnTo>
                <a:lnTo>
                  <a:pt x="121" y="3583"/>
                </a:lnTo>
                <a:lnTo>
                  <a:pt x="124" y="3557"/>
                </a:lnTo>
                <a:lnTo>
                  <a:pt x="125" y="3530"/>
                </a:lnTo>
                <a:lnTo>
                  <a:pt x="127" y="3501"/>
                </a:lnTo>
                <a:lnTo>
                  <a:pt x="128" y="3469"/>
                </a:lnTo>
                <a:lnTo>
                  <a:pt x="130" y="3435"/>
                </a:lnTo>
                <a:lnTo>
                  <a:pt x="131" y="3399"/>
                </a:lnTo>
                <a:lnTo>
                  <a:pt x="132" y="3360"/>
                </a:lnTo>
                <a:lnTo>
                  <a:pt x="134" y="3320"/>
                </a:lnTo>
                <a:lnTo>
                  <a:pt x="135" y="3276"/>
                </a:lnTo>
                <a:lnTo>
                  <a:pt x="135" y="3230"/>
                </a:lnTo>
                <a:lnTo>
                  <a:pt x="137" y="3183"/>
                </a:lnTo>
                <a:lnTo>
                  <a:pt x="138" y="3132"/>
                </a:lnTo>
                <a:lnTo>
                  <a:pt x="140" y="3081"/>
                </a:lnTo>
                <a:lnTo>
                  <a:pt x="141" y="3026"/>
                </a:lnTo>
                <a:lnTo>
                  <a:pt x="141" y="2970"/>
                </a:lnTo>
                <a:lnTo>
                  <a:pt x="143" y="2911"/>
                </a:lnTo>
                <a:lnTo>
                  <a:pt x="144" y="2850"/>
                </a:lnTo>
                <a:lnTo>
                  <a:pt x="144" y="2787"/>
                </a:lnTo>
                <a:lnTo>
                  <a:pt x="145" y="2721"/>
                </a:lnTo>
                <a:lnTo>
                  <a:pt x="145" y="2653"/>
                </a:lnTo>
                <a:lnTo>
                  <a:pt x="147" y="2582"/>
                </a:lnTo>
                <a:lnTo>
                  <a:pt x="147" y="2511"/>
                </a:lnTo>
                <a:lnTo>
                  <a:pt x="147" y="2436"/>
                </a:lnTo>
                <a:lnTo>
                  <a:pt x="148" y="2358"/>
                </a:lnTo>
                <a:lnTo>
                  <a:pt x="148" y="2279"/>
                </a:lnTo>
                <a:lnTo>
                  <a:pt x="148" y="2198"/>
                </a:lnTo>
                <a:lnTo>
                  <a:pt x="148" y="2115"/>
                </a:lnTo>
                <a:lnTo>
                  <a:pt x="148" y="2033"/>
                </a:lnTo>
                <a:lnTo>
                  <a:pt x="148" y="1952"/>
                </a:lnTo>
                <a:lnTo>
                  <a:pt x="148" y="1874"/>
                </a:lnTo>
                <a:lnTo>
                  <a:pt x="148" y="1798"/>
                </a:lnTo>
                <a:lnTo>
                  <a:pt x="148" y="1724"/>
                </a:lnTo>
                <a:lnTo>
                  <a:pt x="148" y="1653"/>
                </a:lnTo>
                <a:lnTo>
                  <a:pt x="148" y="1582"/>
                </a:lnTo>
                <a:lnTo>
                  <a:pt x="148" y="1514"/>
                </a:lnTo>
                <a:lnTo>
                  <a:pt x="148" y="1448"/>
                </a:lnTo>
                <a:lnTo>
                  <a:pt x="148" y="1385"/>
                </a:lnTo>
                <a:lnTo>
                  <a:pt x="147" y="1323"/>
                </a:lnTo>
                <a:lnTo>
                  <a:pt x="147" y="1262"/>
                </a:lnTo>
                <a:lnTo>
                  <a:pt x="147" y="1205"/>
                </a:lnTo>
                <a:lnTo>
                  <a:pt x="147" y="1149"/>
                </a:lnTo>
                <a:lnTo>
                  <a:pt x="147" y="1094"/>
                </a:lnTo>
                <a:lnTo>
                  <a:pt x="145" y="1042"/>
                </a:lnTo>
                <a:lnTo>
                  <a:pt x="145" y="993"/>
                </a:lnTo>
                <a:lnTo>
                  <a:pt x="145" y="944"/>
                </a:lnTo>
                <a:lnTo>
                  <a:pt x="144" y="898"/>
                </a:lnTo>
                <a:lnTo>
                  <a:pt x="144" y="854"/>
                </a:lnTo>
                <a:lnTo>
                  <a:pt x="143" y="812"/>
                </a:lnTo>
                <a:lnTo>
                  <a:pt x="143" y="771"/>
                </a:lnTo>
                <a:lnTo>
                  <a:pt x="141" y="734"/>
                </a:lnTo>
                <a:lnTo>
                  <a:pt x="141" y="697"/>
                </a:lnTo>
                <a:lnTo>
                  <a:pt x="140" y="663"/>
                </a:lnTo>
                <a:lnTo>
                  <a:pt x="138" y="630"/>
                </a:lnTo>
                <a:lnTo>
                  <a:pt x="138" y="600"/>
                </a:lnTo>
                <a:lnTo>
                  <a:pt x="137" y="571"/>
                </a:lnTo>
                <a:lnTo>
                  <a:pt x="135" y="545"/>
                </a:lnTo>
                <a:lnTo>
                  <a:pt x="134" y="520"/>
                </a:lnTo>
                <a:lnTo>
                  <a:pt x="132" y="498"/>
                </a:lnTo>
                <a:lnTo>
                  <a:pt x="131" y="476"/>
                </a:lnTo>
                <a:lnTo>
                  <a:pt x="130" y="459"/>
                </a:lnTo>
                <a:lnTo>
                  <a:pt x="128" y="442"/>
                </a:lnTo>
                <a:lnTo>
                  <a:pt x="127" y="425"/>
                </a:lnTo>
                <a:lnTo>
                  <a:pt x="124" y="407"/>
                </a:lnTo>
                <a:lnTo>
                  <a:pt x="122" y="391"/>
                </a:lnTo>
                <a:lnTo>
                  <a:pt x="121" y="377"/>
                </a:lnTo>
                <a:lnTo>
                  <a:pt x="120" y="361"/>
                </a:lnTo>
                <a:lnTo>
                  <a:pt x="118" y="347"/>
                </a:lnTo>
                <a:lnTo>
                  <a:pt x="115" y="332"/>
                </a:lnTo>
                <a:lnTo>
                  <a:pt x="114" y="319"/>
                </a:lnTo>
                <a:lnTo>
                  <a:pt x="112" y="305"/>
                </a:lnTo>
                <a:lnTo>
                  <a:pt x="109" y="292"/>
                </a:lnTo>
                <a:lnTo>
                  <a:pt x="108" y="281"/>
                </a:lnTo>
                <a:lnTo>
                  <a:pt x="105" y="268"/>
                </a:lnTo>
                <a:lnTo>
                  <a:pt x="102" y="258"/>
                </a:lnTo>
                <a:lnTo>
                  <a:pt x="101" y="246"/>
                </a:lnTo>
                <a:lnTo>
                  <a:pt x="98" y="234"/>
                </a:lnTo>
                <a:lnTo>
                  <a:pt x="95" y="224"/>
                </a:lnTo>
                <a:lnTo>
                  <a:pt x="92" y="216"/>
                </a:lnTo>
                <a:lnTo>
                  <a:pt x="89" y="206"/>
                </a:lnTo>
                <a:lnTo>
                  <a:pt x="86" y="197"/>
                </a:lnTo>
                <a:lnTo>
                  <a:pt x="84" y="188"/>
                </a:lnTo>
                <a:lnTo>
                  <a:pt x="81" y="181"/>
                </a:lnTo>
                <a:lnTo>
                  <a:pt x="78" y="174"/>
                </a:lnTo>
                <a:lnTo>
                  <a:pt x="73" y="167"/>
                </a:lnTo>
                <a:lnTo>
                  <a:pt x="71" y="160"/>
                </a:lnTo>
                <a:lnTo>
                  <a:pt x="66" y="154"/>
                </a:lnTo>
                <a:lnTo>
                  <a:pt x="62" y="148"/>
                </a:lnTo>
                <a:lnTo>
                  <a:pt x="58" y="144"/>
                </a:lnTo>
                <a:lnTo>
                  <a:pt x="53" y="138"/>
                </a:lnTo>
                <a:lnTo>
                  <a:pt x="49" y="134"/>
                </a:lnTo>
                <a:lnTo>
                  <a:pt x="45" y="131"/>
                </a:lnTo>
                <a:lnTo>
                  <a:pt x="36" y="122"/>
                </a:lnTo>
                <a:lnTo>
                  <a:pt x="27" y="115"/>
                </a:lnTo>
                <a:lnTo>
                  <a:pt x="22" y="108"/>
                </a:lnTo>
                <a:lnTo>
                  <a:pt x="16" y="101"/>
                </a:lnTo>
                <a:lnTo>
                  <a:pt x="10" y="93"/>
                </a:lnTo>
                <a:lnTo>
                  <a:pt x="7" y="86"/>
                </a:lnTo>
                <a:lnTo>
                  <a:pt x="4" y="79"/>
                </a:lnTo>
                <a:lnTo>
                  <a:pt x="1" y="72"/>
                </a:lnTo>
                <a:lnTo>
                  <a:pt x="1" y="65"/>
                </a:lnTo>
                <a:lnTo>
                  <a:pt x="0" y="57"/>
                </a:lnTo>
                <a:lnTo>
                  <a:pt x="1" y="50"/>
                </a:lnTo>
                <a:lnTo>
                  <a:pt x="1" y="43"/>
                </a:lnTo>
                <a:lnTo>
                  <a:pt x="3" y="36"/>
                </a:lnTo>
                <a:lnTo>
                  <a:pt x="6" y="29"/>
                </a:lnTo>
                <a:lnTo>
                  <a:pt x="7" y="21"/>
                </a:lnTo>
                <a:lnTo>
                  <a:pt x="12" y="14"/>
                </a:lnTo>
                <a:lnTo>
                  <a:pt x="14" y="11"/>
                </a:lnTo>
                <a:lnTo>
                  <a:pt x="19" y="8"/>
                </a:lnTo>
                <a:lnTo>
                  <a:pt x="25" y="6"/>
                </a:lnTo>
                <a:lnTo>
                  <a:pt x="30" y="3"/>
                </a:lnTo>
                <a:lnTo>
                  <a:pt x="36" y="1"/>
                </a:lnTo>
                <a:lnTo>
                  <a:pt x="45" y="1"/>
                </a:lnTo>
                <a:lnTo>
                  <a:pt x="53" y="0"/>
                </a:lnTo>
                <a:lnTo>
                  <a:pt x="62" y="0"/>
                </a:lnTo>
                <a:lnTo>
                  <a:pt x="72" y="0"/>
                </a:lnTo>
                <a:lnTo>
                  <a:pt x="84" y="1"/>
                </a:lnTo>
                <a:lnTo>
                  <a:pt x="95" y="1"/>
                </a:lnTo>
                <a:lnTo>
                  <a:pt x="108" y="3"/>
                </a:lnTo>
                <a:lnTo>
                  <a:pt x="121" y="6"/>
                </a:lnTo>
                <a:lnTo>
                  <a:pt x="135" y="8"/>
                </a:lnTo>
                <a:lnTo>
                  <a:pt x="150" y="11"/>
                </a:lnTo>
                <a:lnTo>
                  <a:pt x="166" y="14"/>
                </a:lnTo>
                <a:lnTo>
                  <a:pt x="179" y="19"/>
                </a:lnTo>
                <a:lnTo>
                  <a:pt x="190" y="23"/>
                </a:lnTo>
                <a:lnTo>
                  <a:pt x="203" y="27"/>
                </a:lnTo>
                <a:lnTo>
                  <a:pt x="213" y="32"/>
                </a:lnTo>
                <a:lnTo>
                  <a:pt x="225" y="37"/>
                </a:lnTo>
                <a:lnTo>
                  <a:pt x="236" y="42"/>
                </a:lnTo>
                <a:lnTo>
                  <a:pt x="246" y="47"/>
                </a:lnTo>
                <a:lnTo>
                  <a:pt x="256" y="53"/>
                </a:lnTo>
                <a:lnTo>
                  <a:pt x="265" y="59"/>
                </a:lnTo>
                <a:lnTo>
                  <a:pt x="274" y="63"/>
                </a:lnTo>
                <a:lnTo>
                  <a:pt x="284" y="69"/>
                </a:lnTo>
                <a:lnTo>
                  <a:pt x="291" y="73"/>
                </a:lnTo>
                <a:lnTo>
                  <a:pt x="299" y="79"/>
                </a:lnTo>
                <a:lnTo>
                  <a:pt x="307" y="83"/>
                </a:lnTo>
                <a:lnTo>
                  <a:pt x="314" y="88"/>
                </a:lnTo>
                <a:lnTo>
                  <a:pt x="321" y="92"/>
                </a:lnTo>
                <a:lnTo>
                  <a:pt x="327" y="95"/>
                </a:lnTo>
                <a:lnTo>
                  <a:pt x="333" y="99"/>
                </a:lnTo>
                <a:lnTo>
                  <a:pt x="338" y="103"/>
                </a:lnTo>
                <a:lnTo>
                  <a:pt x="343" y="109"/>
                </a:lnTo>
                <a:lnTo>
                  <a:pt x="353" y="121"/>
                </a:lnTo>
                <a:lnTo>
                  <a:pt x="361" y="132"/>
                </a:lnTo>
                <a:lnTo>
                  <a:pt x="369" y="145"/>
                </a:lnTo>
                <a:lnTo>
                  <a:pt x="376" y="160"/>
                </a:lnTo>
                <a:lnTo>
                  <a:pt x="383" y="173"/>
                </a:lnTo>
                <a:lnTo>
                  <a:pt x="389" y="188"/>
                </a:lnTo>
                <a:lnTo>
                  <a:pt x="392" y="196"/>
                </a:lnTo>
                <a:lnTo>
                  <a:pt x="393" y="203"/>
                </a:lnTo>
                <a:lnTo>
                  <a:pt x="394" y="211"/>
                </a:lnTo>
                <a:lnTo>
                  <a:pt x="396" y="220"/>
                </a:lnTo>
                <a:lnTo>
                  <a:pt x="396" y="230"/>
                </a:lnTo>
                <a:lnTo>
                  <a:pt x="396" y="240"/>
                </a:lnTo>
                <a:lnTo>
                  <a:pt x="394" y="252"/>
                </a:lnTo>
                <a:lnTo>
                  <a:pt x="393" y="263"/>
                </a:lnTo>
                <a:lnTo>
                  <a:pt x="392" y="275"/>
                </a:lnTo>
                <a:lnTo>
                  <a:pt x="389" y="288"/>
                </a:lnTo>
                <a:lnTo>
                  <a:pt x="387" y="301"/>
                </a:lnTo>
                <a:lnTo>
                  <a:pt x="384" y="315"/>
                </a:lnTo>
                <a:lnTo>
                  <a:pt x="382" y="331"/>
                </a:lnTo>
                <a:lnTo>
                  <a:pt x="377" y="347"/>
                </a:lnTo>
                <a:lnTo>
                  <a:pt x="374" y="363"/>
                </a:lnTo>
                <a:lnTo>
                  <a:pt x="371" y="381"/>
                </a:lnTo>
                <a:lnTo>
                  <a:pt x="370" y="390"/>
                </a:lnTo>
                <a:lnTo>
                  <a:pt x="369" y="403"/>
                </a:lnTo>
                <a:lnTo>
                  <a:pt x="367" y="417"/>
                </a:lnTo>
                <a:lnTo>
                  <a:pt x="366" y="433"/>
                </a:lnTo>
                <a:lnTo>
                  <a:pt x="364" y="450"/>
                </a:lnTo>
                <a:lnTo>
                  <a:pt x="361" y="471"/>
                </a:lnTo>
                <a:lnTo>
                  <a:pt x="360" y="494"/>
                </a:lnTo>
                <a:lnTo>
                  <a:pt x="358" y="517"/>
                </a:lnTo>
                <a:lnTo>
                  <a:pt x="357" y="544"/>
                </a:lnTo>
                <a:lnTo>
                  <a:pt x="356" y="571"/>
                </a:lnTo>
                <a:lnTo>
                  <a:pt x="354" y="602"/>
                </a:lnTo>
                <a:lnTo>
                  <a:pt x="353" y="633"/>
                </a:lnTo>
                <a:lnTo>
                  <a:pt x="351" y="668"/>
                </a:lnTo>
                <a:lnTo>
                  <a:pt x="350" y="704"/>
                </a:lnTo>
                <a:lnTo>
                  <a:pt x="347" y="743"/>
                </a:lnTo>
                <a:lnTo>
                  <a:pt x="346" y="783"/>
                </a:lnTo>
                <a:lnTo>
                  <a:pt x="344" y="825"/>
                </a:lnTo>
                <a:lnTo>
                  <a:pt x="343" y="868"/>
                </a:lnTo>
                <a:lnTo>
                  <a:pt x="341" y="914"/>
                </a:lnTo>
                <a:lnTo>
                  <a:pt x="340" y="963"/>
                </a:lnTo>
                <a:lnTo>
                  <a:pt x="338" y="1012"/>
                </a:lnTo>
                <a:lnTo>
                  <a:pt x="337" y="1064"/>
                </a:lnTo>
                <a:lnTo>
                  <a:pt x="334" y="1118"/>
                </a:lnTo>
                <a:lnTo>
                  <a:pt x="333" y="1175"/>
                </a:lnTo>
                <a:lnTo>
                  <a:pt x="331" y="1232"/>
                </a:lnTo>
                <a:lnTo>
                  <a:pt x="330" y="1291"/>
                </a:lnTo>
                <a:lnTo>
                  <a:pt x="328" y="1353"/>
                </a:lnTo>
                <a:lnTo>
                  <a:pt x="327" y="1416"/>
                </a:lnTo>
                <a:lnTo>
                  <a:pt x="325" y="1483"/>
                </a:lnTo>
                <a:lnTo>
                  <a:pt x="324" y="1549"/>
                </a:lnTo>
                <a:lnTo>
                  <a:pt x="322" y="1619"/>
                </a:lnTo>
                <a:lnTo>
                  <a:pt x="321" y="16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73"/>
          <p:cNvSpPr/>
          <p:nvPr/>
        </p:nvSpPr>
        <p:spPr>
          <a:xfrm>
            <a:off x="6529320" y="3665520"/>
            <a:ext cx="828720" cy="264960"/>
          </a:xfrm>
          <a:custGeom>
            <a:avLst/>
            <a:gdLst/>
            <a:ahLst/>
            <a:rect l="l" t="t" r="r" b="b"/>
            <a:pathLst>
              <a:path w="1565" h="501">
                <a:moveTo>
                  <a:pt x="998" y="78"/>
                </a:moveTo>
                <a:lnTo>
                  <a:pt x="1018" y="71"/>
                </a:lnTo>
                <a:lnTo>
                  <a:pt x="1038" y="63"/>
                </a:lnTo>
                <a:lnTo>
                  <a:pt x="1059" y="58"/>
                </a:lnTo>
                <a:lnTo>
                  <a:pt x="1077" y="52"/>
                </a:lnTo>
                <a:lnTo>
                  <a:pt x="1096" y="46"/>
                </a:lnTo>
                <a:lnTo>
                  <a:pt x="1115" y="40"/>
                </a:lnTo>
                <a:lnTo>
                  <a:pt x="1133" y="35"/>
                </a:lnTo>
                <a:lnTo>
                  <a:pt x="1151" y="30"/>
                </a:lnTo>
                <a:lnTo>
                  <a:pt x="1167" y="26"/>
                </a:lnTo>
                <a:lnTo>
                  <a:pt x="1184" y="22"/>
                </a:lnTo>
                <a:lnTo>
                  <a:pt x="1200" y="17"/>
                </a:lnTo>
                <a:lnTo>
                  <a:pt x="1215" y="14"/>
                </a:lnTo>
                <a:lnTo>
                  <a:pt x="1230" y="12"/>
                </a:lnTo>
                <a:lnTo>
                  <a:pt x="1244" y="9"/>
                </a:lnTo>
                <a:lnTo>
                  <a:pt x="1259" y="7"/>
                </a:lnTo>
                <a:lnTo>
                  <a:pt x="1273" y="4"/>
                </a:lnTo>
                <a:lnTo>
                  <a:pt x="1286" y="3"/>
                </a:lnTo>
                <a:lnTo>
                  <a:pt x="1300" y="2"/>
                </a:lnTo>
                <a:lnTo>
                  <a:pt x="1312" y="2"/>
                </a:lnTo>
                <a:lnTo>
                  <a:pt x="1325" y="0"/>
                </a:lnTo>
                <a:lnTo>
                  <a:pt x="1336" y="0"/>
                </a:lnTo>
                <a:lnTo>
                  <a:pt x="1348" y="0"/>
                </a:lnTo>
                <a:lnTo>
                  <a:pt x="1359" y="0"/>
                </a:lnTo>
                <a:lnTo>
                  <a:pt x="1371" y="2"/>
                </a:lnTo>
                <a:lnTo>
                  <a:pt x="1391" y="4"/>
                </a:lnTo>
                <a:lnTo>
                  <a:pt x="1410" y="7"/>
                </a:lnTo>
                <a:lnTo>
                  <a:pt x="1429" y="13"/>
                </a:lnTo>
                <a:lnTo>
                  <a:pt x="1446" y="20"/>
                </a:lnTo>
                <a:lnTo>
                  <a:pt x="1460" y="27"/>
                </a:lnTo>
                <a:lnTo>
                  <a:pt x="1475" y="35"/>
                </a:lnTo>
                <a:lnTo>
                  <a:pt x="1488" y="42"/>
                </a:lnTo>
                <a:lnTo>
                  <a:pt x="1501" y="49"/>
                </a:lnTo>
                <a:lnTo>
                  <a:pt x="1511" y="56"/>
                </a:lnTo>
                <a:lnTo>
                  <a:pt x="1521" y="62"/>
                </a:lnTo>
                <a:lnTo>
                  <a:pt x="1529" y="69"/>
                </a:lnTo>
                <a:lnTo>
                  <a:pt x="1538" y="75"/>
                </a:lnTo>
                <a:lnTo>
                  <a:pt x="1544" y="82"/>
                </a:lnTo>
                <a:lnTo>
                  <a:pt x="1549" y="88"/>
                </a:lnTo>
                <a:lnTo>
                  <a:pt x="1555" y="94"/>
                </a:lnTo>
                <a:lnTo>
                  <a:pt x="1558" y="98"/>
                </a:lnTo>
                <a:lnTo>
                  <a:pt x="1561" y="104"/>
                </a:lnTo>
                <a:lnTo>
                  <a:pt x="1564" y="108"/>
                </a:lnTo>
                <a:lnTo>
                  <a:pt x="1565" y="112"/>
                </a:lnTo>
                <a:lnTo>
                  <a:pt x="1565" y="117"/>
                </a:lnTo>
                <a:lnTo>
                  <a:pt x="1565" y="118"/>
                </a:lnTo>
                <a:lnTo>
                  <a:pt x="1562" y="121"/>
                </a:lnTo>
                <a:lnTo>
                  <a:pt x="1560" y="122"/>
                </a:lnTo>
                <a:lnTo>
                  <a:pt x="1555" y="125"/>
                </a:lnTo>
                <a:lnTo>
                  <a:pt x="1549" y="130"/>
                </a:lnTo>
                <a:lnTo>
                  <a:pt x="1542" y="133"/>
                </a:lnTo>
                <a:lnTo>
                  <a:pt x="1534" y="137"/>
                </a:lnTo>
                <a:lnTo>
                  <a:pt x="1524" y="141"/>
                </a:lnTo>
                <a:lnTo>
                  <a:pt x="1512" y="145"/>
                </a:lnTo>
                <a:lnTo>
                  <a:pt x="1499" y="150"/>
                </a:lnTo>
                <a:lnTo>
                  <a:pt x="1485" y="156"/>
                </a:lnTo>
                <a:lnTo>
                  <a:pt x="1470" y="161"/>
                </a:lnTo>
                <a:lnTo>
                  <a:pt x="1453" y="166"/>
                </a:lnTo>
                <a:lnTo>
                  <a:pt x="1436" y="173"/>
                </a:lnTo>
                <a:lnTo>
                  <a:pt x="1416" y="179"/>
                </a:lnTo>
                <a:lnTo>
                  <a:pt x="1395" y="186"/>
                </a:lnTo>
                <a:lnTo>
                  <a:pt x="1374" y="192"/>
                </a:lnTo>
                <a:lnTo>
                  <a:pt x="1349" y="199"/>
                </a:lnTo>
                <a:lnTo>
                  <a:pt x="1325" y="207"/>
                </a:lnTo>
                <a:lnTo>
                  <a:pt x="1299" y="215"/>
                </a:lnTo>
                <a:lnTo>
                  <a:pt x="1272" y="222"/>
                </a:lnTo>
                <a:lnTo>
                  <a:pt x="1243" y="230"/>
                </a:lnTo>
                <a:lnTo>
                  <a:pt x="1213" y="239"/>
                </a:lnTo>
                <a:lnTo>
                  <a:pt x="1181" y="248"/>
                </a:lnTo>
                <a:lnTo>
                  <a:pt x="1148" y="258"/>
                </a:lnTo>
                <a:lnTo>
                  <a:pt x="1113" y="266"/>
                </a:lnTo>
                <a:lnTo>
                  <a:pt x="1077" y="276"/>
                </a:lnTo>
                <a:lnTo>
                  <a:pt x="1040" y="287"/>
                </a:lnTo>
                <a:lnTo>
                  <a:pt x="1001" y="297"/>
                </a:lnTo>
                <a:lnTo>
                  <a:pt x="962" y="307"/>
                </a:lnTo>
                <a:lnTo>
                  <a:pt x="920" y="317"/>
                </a:lnTo>
                <a:lnTo>
                  <a:pt x="877" y="328"/>
                </a:lnTo>
                <a:lnTo>
                  <a:pt x="834" y="340"/>
                </a:lnTo>
                <a:lnTo>
                  <a:pt x="794" y="350"/>
                </a:lnTo>
                <a:lnTo>
                  <a:pt x="753" y="360"/>
                </a:lnTo>
                <a:lnTo>
                  <a:pt x="714" y="370"/>
                </a:lnTo>
                <a:lnTo>
                  <a:pt x="677" y="379"/>
                </a:lnTo>
                <a:lnTo>
                  <a:pt x="641" y="387"/>
                </a:lnTo>
                <a:lnTo>
                  <a:pt x="607" y="396"/>
                </a:lnTo>
                <a:lnTo>
                  <a:pt x="573" y="405"/>
                </a:lnTo>
                <a:lnTo>
                  <a:pt x="542" y="413"/>
                </a:lnTo>
                <a:lnTo>
                  <a:pt x="512" y="420"/>
                </a:lnTo>
                <a:lnTo>
                  <a:pt x="483" y="428"/>
                </a:lnTo>
                <a:lnTo>
                  <a:pt x="455" y="435"/>
                </a:lnTo>
                <a:lnTo>
                  <a:pt x="428" y="441"/>
                </a:lnTo>
                <a:lnTo>
                  <a:pt x="404" y="448"/>
                </a:lnTo>
                <a:lnTo>
                  <a:pt x="381" y="454"/>
                </a:lnTo>
                <a:lnTo>
                  <a:pt x="357" y="459"/>
                </a:lnTo>
                <a:lnTo>
                  <a:pt x="336" y="464"/>
                </a:lnTo>
                <a:lnTo>
                  <a:pt x="317" y="469"/>
                </a:lnTo>
                <a:lnTo>
                  <a:pt x="298" y="474"/>
                </a:lnTo>
                <a:lnTo>
                  <a:pt x="281" y="478"/>
                </a:lnTo>
                <a:lnTo>
                  <a:pt x="265" y="481"/>
                </a:lnTo>
                <a:lnTo>
                  <a:pt x="251" y="485"/>
                </a:lnTo>
                <a:lnTo>
                  <a:pt x="237" y="488"/>
                </a:lnTo>
                <a:lnTo>
                  <a:pt x="225" y="491"/>
                </a:lnTo>
                <a:lnTo>
                  <a:pt x="214" y="492"/>
                </a:lnTo>
                <a:lnTo>
                  <a:pt x="205" y="495"/>
                </a:lnTo>
                <a:lnTo>
                  <a:pt x="196" y="497"/>
                </a:lnTo>
                <a:lnTo>
                  <a:pt x="189" y="498"/>
                </a:lnTo>
                <a:lnTo>
                  <a:pt x="183" y="500"/>
                </a:lnTo>
                <a:lnTo>
                  <a:pt x="178" y="501"/>
                </a:lnTo>
                <a:lnTo>
                  <a:pt x="175" y="501"/>
                </a:lnTo>
                <a:lnTo>
                  <a:pt x="173" y="501"/>
                </a:lnTo>
                <a:lnTo>
                  <a:pt x="169" y="501"/>
                </a:lnTo>
                <a:lnTo>
                  <a:pt x="165" y="500"/>
                </a:lnTo>
                <a:lnTo>
                  <a:pt x="162" y="500"/>
                </a:lnTo>
                <a:lnTo>
                  <a:pt x="156" y="498"/>
                </a:lnTo>
                <a:lnTo>
                  <a:pt x="152" y="495"/>
                </a:lnTo>
                <a:lnTo>
                  <a:pt x="146" y="492"/>
                </a:lnTo>
                <a:lnTo>
                  <a:pt x="140" y="490"/>
                </a:lnTo>
                <a:lnTo>
                  <a:pt x="134" y="487"/>
                </a:lnTo>
                <a:lnTo>
                  <a:pt x="127" y="484"/>
                </a:lnTo>
                <a:lnTo>
                  <a:pt x="120" y="479"/>
                </a:lnTo>
                <a:lnTo>
                  <a:pt x="113" y="474"/>
                </a:lnTo>
                <a:lnTo>
                  <a:pt x="104" y="469"/>
                </a:lnTo>
                <a:lnTo>
                  <a:pt x="97" y="464"/>
                </a:lnTo>
                <a:lnTo>
                  <a:pt x="87" y="456"/>
                </a:lnTo>
                <a:lnTo>
                  <a:pt x="78" y="451"/>
                </a:lnTo>
                <a:lnTo>
                  <a:pt x="70" y="443"/>
                </a:lnTo>
                <a:lnTo>
                  <a:pt x="59" y="439"/>
                </a:lnTo>
                <a:lnTo>
                  <a:pt x="51" y="435"/>
                </a:lnTo>
                <a:lnTo>
                  <a:pt x="44" y="431"/>
                </a:lnTo>
                <a:lnTo>
                  <a:pt x="36" y="426"/>
                </a:lnTo>
                <a:lnTo>
                  <a:pt x="31" y="420"/>
                </a:lnTo>
                <a:lnTo>
                  <a:pt x="25" y="416"/>
                </a:lnTo>
                <a:lnTo>
                  <a:pt x="19" y="410"/>
                </a:lnTo>
                <a:lnTo>
                  <a:pt x="15" y="405"/>
                </a:lnTo>
                <a:lnTo>
                  <a:pt x="12" y="400"/>
                </a:lnTo>
                <a:lnTo>
                  <a:pt x="9" y="395"/>
                </a:lnTo>
                <a:lnTo>
                  <a:pt x="6" y="389"/>
                </a:lnTo>
                <a:lnTo>
                  <a:pt x="3" y="384"/>
                </a:lnTo>
                <a:lnTo>
                  <a:pt x="2" y="379"/>
                </a:lnTo>
                <a:lnTo>
                  <a:pt x="2" y="374"/>
                </a:lnTo>
                <a:lnTo>
                  <a:pt x="0" y="370"/>
                </a:lnTo>
                <a:lnTo>
                  <a:pt x="0" y="367"/>
                </a:lnTo>
                <a:lnTo>
                  <a:pt x="0" y="364"/>
                </a:lnTo>
                <a:lnTo>
                  <a:pt x="2" y="363"/>
                </a:lnTo>
                <a:lnTo>
                  <a:pt x="3" y="360"/>
                </a:lnTo>
                <a:lnTo>
                  <a:pt x="6" y="359"/>
                </a:lnTo>
                <a:lnTo>
                  <a:pt x="9" y="356"/>
                </a:lnTo>
                <a:lnTo>
                  <a:pt x="13" y="354"/>
                </a:lnTo>
                <a:lnTo>
                  <a:pt x="18" y="351"/>
                </a:lnTo>
                <a:lnTo>
                  <a:pt x="23" y="348"/>
                </a:lnTo>
                <a:lnTo>
                  <a:pt x="29" y="346"/>
                </a:lnTo>
                <a:lnTo>
                  <a:pt x="35" y="343"/>
                </a:lnTo>
                <a:lnTo>
                  <a:pt x="42" y="340"/>
                </a:lnTo>
                <a:lnTo>
                  <a:pt x="51" y="337"/>
                </a:lnTo>
                <a:lnTo>
                  <a:pt x="59" y="334"/>
                </a:lnTo>
                <a:lnTo>
                  <a:pt x="68" y="330"/>
                </a:lnTo>
                <a:lnTo>
                  <a:pt x="78" y="327"/>
                </a:lnTo>
                <a:lnTo>
                  <a:pt x="88" y="324"/>
                </a:lnTo>
                <a:lnTo>
                  <a:pt x="100" y="320"/>
                </a:lnTo>
                <a:lnTo>
                  <a:pt x="111" y="317"/>
                </a:lnTo>
                <a:lnTo>
                  <a:pt x="124" y="312"/>
                </a:lnTo>
                <a:lnTo>
                  <a:pt x="137" y="308"/>
                </a:lnTo>
                <a:lnTo>
                  <a:pt x="152" y="304"/>
                </a:lnTo>
                <a:lnTo>
                  <a:pt x="166" y="299"/>
                </a:lnTo>
                <a:lnTo>
                  <a:pt x="180" y="295"/>
                </a:lnTo>
                <a:lnTo>
                  <a:pt x="196" y="291"/>
                </a:lnTo>
                <a:lnTo>
                  <a:pt x="214" y="287"/>
                </a:lnTo>
                <a:lnTo>
                  <a:pt x="229" y="282"/>
                </a:lnTo>
                <a:lnTo>
                  <a:pt x="248" y="276"/>
                </a:lnTo>
                <a:lnTo>
                  <a:pt x="265" y="272"/>
                </a:lnTo>
                <a:lnTo>
                  <a:pt x="284" y="268"/>
                </a:lnTo>
                <a:lnTo>
                  <a:pt x="304" y="262"/>
                </a:lnTo>
                <a:lnTo>
                  <a:pt x="324" y="256"/>
                </a:lnTo>
                <a:lnTo>
                  <a:pt x="345" y="252"/>
                </a:lnTo>
                <a:lnTo>
                  <a:pt x="512" y="207"/>
                </a:lnTo>
                <a:lnTo>
                  <a:pt x="595" y="186"/>
                </a:lnTo>
                <a:lnTo>
                  <a:pt x="677" y="164"/>
                </a:lnTo>
                <a:lnTo>
                  <a:pt x="759" y="143"/>
                </a:lnTo>
                <a:lnTo>
                  <a:pt x="840" y="121"/>
                </a:lnTo>
                <a:lnTo>
                  <a:pt x="920" y="99"/>
                </a:lnTo>
                <a:lnTo>
                  <a:pt x="959" y="89"/>
                </a:lnTo>
                <a:lnTo>
                  <a:pt x="998" y="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74"/>
          <p:cNvSpPr/>
          <p:nvPr/>
        </p:nvSpPr>
        <p:spPr>
          <a:xfrm>
            <a:off x="6283440" y="3798720"/>
            <a:ext cx="637920" cy="920880"/>
          </a:xfrm>
          <a:custGeom>
            <a:avLst/>
            <a:gdLst/>
            <a:ahLst/>
            <a:rect l="l" t="t" r="r" b="b"/>
            <a:pathLst>
              <a:path w="1206" h="1742">
                <a:moveTo>
                  <a:pt x="811" y="1001"/>
                </a:moveTo>
                <a:lnTo>
                  <a:pt x="787" y="1034"/>
                </a:lnTo>
                <a:lnTo>
                  <a:pt x="764" y="1065"/>
                </a:lnTo>
                <a:lnTo>
                  <a:pt x="740" y="1098"/>
                </a:lnTo>
                <a:lnTo>
                  <a:pt x="714" y="1130"/>
                </a:lnTo>
                <a:lnTo>
                  <a:pt x="687" y="1163"/>
                </a:lnTo>
                <a:lnTo>
                  <a:pt x="659" y="1195"/>
                </a:lnTo>
                <a:lnTo>
                  <a:pt x="632" y="1228"/>
                </a:lnTo>
                <a:lnTo>
                  <a:pt x="602" y="1260"/>
                </a:lnTo>
                <a:lnTo>
                  <a:pt x="572" y="1293"/>
                </a:lnTo>
                <a:lnTo>
                  <a:pt x="540" y="1324"/>
                </a:lnTo>
                <a:lnTo>
                  <a:pt x="507" y="1358"/>
                </a:lnTo>
                <a:lnTo>
                  <a:pt x="474" y="1391"/>
                </a:lnTo>
                <a:lnTo>
                  <a:pt x="439" y="1422"/>
                </a:lnTo>
                <a:lnTo>
                  <a:pt x="403" y="1455"/>
                </a:lnTo>
                <a:lnTo>
                  <a:pt x="367" y="1489"/>
                </a:lnTo>
                <a:lnTo>
                  <a:pt x="330" y="1522"/>
                </a:lnTo>
                <a:lnTo>
                  <a:pt x="310" y="1537"/>
                </a:lnTo>
                <a:lnTo>
                  <a:pt x="292" y="1552"/>
                </a:lnTo>
                <a:lnTo>
                  <a:pt x="274" y="1568"/>
                </a:lnTo>
                <a:lnTo>
                  <a:pt x="256" y="1582"/>
                </a:lnTo>
                <a:lnTo>
                  <a:pt x="240" y="1595"/>
                </a:lnTo>
                <a:lnTo>
                  <a:pt x="225" y="1609"/>
                </a:lnTo>
                <a:lnTo>
                  <a:pt x="209" y="1621"/>
                </a:lnTo>
                <a:lnTo>
                  <a:pt x="194" y="1634"/>
                </a:lnTo>
                <a:lnTo>
                  <a:pt x="180" y="1644"/>
                </a:lnTo>
                <a:lnTo>
                  <a:pt x="166" y="1656"/>
                </a:lnTo>
                <a:lnTo>
                  <a:pt x="153" y="1666"/>
                </a:lnTo>
                <a:lnTo>
                  <a:pt x="140" y="1676"/>
                </a:lnTo>
                <a:lnTo>
                  <a:pt x="128" y="1684"/>
                </a:lnTo>
                <a:lnTo>
                  <a:pt x="117" y="1692"/>
                </a:lnTo>
                <a:lnTo>
                  <a:pt x="105" y="1700"/>
                </a:lnTo>
                <a:lnTo>
                  <a:pt x="95" y="1707"/>
                </a:lnTo>
                <a:lnTo>
                  <a:pt x="85" y="1713"/>
                </a:lnTo>
                <a:lnTo>
                  <a:pt x="76" y="1719"/>
                </a:lnTo>
                <a:lnTo>
                  <a:pt x="68" y="1725"/>
                </a:lnTo>
                <a:lnTo>
                  <a:pt x="59" y="1729"/>
                </a:lnTo>
                <a:lnTo>
                  <a:pt x="52" y="1733"/>
                </a:lnTo>
                <a:lnTo>
                  <a:pt x="45" y="1736"/>
                </a:lnTo>
                <a:lnTo>
                  <a:pt x="37" y="1739"/>
                </a:lnTo>
                <a:lnTo>
                  <a:pt x="32" y="1740"/>
                </a:lnTo>
                <a:lnTo>
                  <a:pt x="26" y="1742"/>
                </a:lnTo>
                <a:lnTo>
                  <a:pt x="22" y="1742"/>
                </a:lnTo>
                <a:lnTo>
                  <a:pt x="16" y="1742"/>
                </a:lnTo>
                <a:lnTo>
                  <a:pt x="13" y="1742"/>
                </a:lnTo>
                <a:lnTo>
                  <a:pt x="9" y="1740"/>
                </a:lnTo>
                <a:lnTo>
                  <a:pt x="6" y="1739"/>
                </a:lnTo>
                <a:lnTo>
                  <a:pt x="4" y="1736"/>
                </a:lnTo>
                <a:lnTo>
                  <a:pt x="3" y="1733"/>
                </a:lnTo>
                <a:lnTo>
                  <a:pt x="1" y="1730"/>
                </a:lnTo>
                <a:lnTo>
                  <a:pt x="0" y="1728"/>
                </a:lnTo>
                <a:lnTo>
                  <a:pt x="0" y="1725"/>
                </a:lnTo>
                <a:lnTo>
                  <a:pt x="0" y="1720"/>
                </a:lnTo>
                <a:lnTo>
                  <a:pt x="1" y="1715"/>
                </a:lnTo>
                <a:lnTo>
                  <a:pt x="3" y="1710"/>
                </a:lnTo>
                <a:lnTo>
                  <a:pt x="6" y="1704"/>
                </a:lnTo>
                <a:lnTo>
                  <a:pt x="9" y="1697"/>
                </a:lnTo>
                <a:lnTo>
                  <a:pt x="13" y="1690"/>
                </a:lnTo>
                <a:lnTo>
                  <a:pt x="17" y="1681"/>
                </a:lnTo>
                <a:lnTo>
                  <a:pt x="22" y="1674"/>
                </a:lnTo>
                <a:lnTo>
                  <a:pt x="27" y="1664"/>
                </a:lnTo>
                <a:lnTo>
                  <a:pt x="33" y="1656"/>
                </a:lnTo>
                <a:lnTo>
                  <a:pt x="39" y="1644"/>
                </a:lnTo>
                <a:lnTo>
                  <a:pt x="46" y="1634"/>
                </a:lnTo>
                <a:lnTo>
                  <a:pt x="55" y="1622"/>
                </a:lnTo>
                <a:lnTo>
                  <a:pt x="63" y="1611"/>
                </a:lnTo>
                <a:lnTo>
                  <a:pt x="72" y="1598"/>
                </a:lnTo>
                <a:lnTo>
                  <a:pt x="82" y="1585"/>
                </a:lnTo>
                <a:lnTo>
                  <a:pt x="92" y="1571"/>
                </a:lnTo>
                <a:lnTo>
                  <a:pt x="102" y="1558"/>
                </a:lnTo>
                <a:lnTo>
                  <a:pt x="114" y="1542"/>
                </a:lnTo>
                <a:lnTo>
                  <a:pt x="125" y="1527"/>
                </a:lnTo>
                <a:lnTo>
                  <a:pt x="138" y="1512"/>
                </a:lnTo>
                <a:lnTo>
                  <a:pt x="151" y="1494"/>
                </a:lnTo>
                <a:lnTo>
                  <a:pt x="166" y="1478"/>
                </a:lnTo>
                <a:lnTo>
                  <a:pt x="180" y="1461"/>
                </a:lnTo>
                <a:lnTo>
                  <a:pt x="194" y="1442"/>
                </a:lnTo>
                <a:lnTo>
                  <a:pt x="210" y="1425"/>
                </a:lnTo>
                <a:lnTo>
                  <a:pt x="226" y="1406"/>
                </a:lnTo>
                <a:lnTo>
                  <a:pt x="243" y="1386"/>
                </a:lnTo>
                <a:lnTo>
                  <a:pt x="261" y="1368"/>
                </a:lnTo>
                <a:lnTo>
                  <a:pt x="278" y="1346"/>
                </a:lnTo>
                <a:lnTo>
                  <a:pt x="297" y="1324"/>
                </a:lnTo>
                <a:lnTo>
                  <a:pt x="315" y="1301"/>
                </a:lnTo>
                <a:lnTo>
                  <a:pt x="335" y="1275"/>
                </a:lnTo>
                <a:lnTo>
                  <a:pt x="356" y="1250"/>
                </a:lnTo>
                <a:lnTo>
                  <a:pt x="377" y="1222"/>
                </a:lnTo>
                <a:lnTo>
                  <a:pt x="399" y="1193"/>
                </a:lnTo>
                <a:lnTo>
                  <a:pt x="420" y="1163"/>
                </a:lnTo>
                <a:lnTo>
                  <a:pt x="443" y="1132"/>
                </a:lnTo>
                <a:lnTo>
                  <a:pt x="468" y="1098"/>
                </a:lnTo>
                <a:lnTo>
                  <a:pt x="491" y="1065"/>
                </a:lnTo>
                <a:lnTo>
                  <a:pt x="515" y="1029"/>
                </a:lnTo>
                <a:lnTo>
                  <a:pt x="541" y="992"/>
                </a:lnTo>
                <a:lnTo>
                  <a:pt x="567" y="953"/>
                </a:lnTo>
                <a:lnTo>
                  <a:pt x="593" y="913"/>
                </a:lnTo>
                <a:lnTo>
                  <a:pt x="620" y="871"/>
                </a:lnTo>
                <a:lnTo>
                  <a:pt x="648" y="828"/>
                </a:lnTo>
                <a:lnTo>
                  <a:pt x="675" y="783"/>
                </a:lnTo>
                <a:lnTo>
                  <a:pt x="704" y="737"/>
                </a:lnTo>
                <a:lnTo>
                  <a:pt x="733" y="690"/>
                </a:lnTo>
                <a:lnTo>
                  <a:pt x="763" y="641"/>
                </a:lnTo>
                <a:lnTo>
                  <a:pt x="793" y="590"/>
                </a:lnTo>
                <a:lnTo>
                  <a:pt x="823" y="538"/>
                </a:lnTo>
                <a:lnTo>
                  <a:pt x="855" y="485"/>
                </a:lnTo>
                <a:lnTo>
                  <a:pt x="887" y="429"/>
                </a:lnTo>
                <a:lnTo>
                  <a:pt x="918" y="373"/>
                </a:lnTo>
                <a:lnTo>
                  <a:pt x="950" y="315"/>
                </a:lnTo>
                <a:lnTo>
                  <a:pt x="983" y="255"/>
                </a:lnTo>
                <a:lnTo>
                  <a:pt x="1018" y="193"/>
                </a:lnTo>
                <a:lnTo>
                  <a:pt x="1051" y="130"/>
                </a:lnTo>
                <a:lnTo>
                  <a:pt x="1085" y="66"/>
                </a:lnTo>
                <a:lnTo>
                  <a:pt x="1120" y="0"/>
                </a:lnTo>
                <a:lnTo>
                  <a:pt x="1142" y="62"/>
                </a:lnTo>
                <a:lnTo>
                  <a:pt x="1163" y="124"/>
                </a:lnTo>
                <a:lnTo>
                  <a:pt x="1185" y="187"/>
                </a:lnTo>
                <a:lnTo>
                  <a:pt x="1206" y="249"/>
                </a:lnTo>
                <a:lnTo>
                  <a:pt x="1193" y="279"/>
                </a:lnTo>
                <a:lnTo>
                  <a:pt x="1180" y="310"/>
                </a:lnTo>
                <a:lnTo>
                  <a:pt x="1168" y="340"/>
                </a:lnTo>
                <a:lnTo>
                  <a:pt x="1155" y="369"/>
                </a:lnTo>
                <a:lnTo>
                  <a:pt x="1142" y="397"/>
                </a:lnTo>
                <a:lnTo>
                  <a:pt x="1129" y="426"/>
                </a:lnTo>
                <a:lnTo>
                  <a:pt x="1116" y="453"/>
                </a:lnTo>
                <a:lnTo>
                  <a:pt x="1104" y="481"/>
                </a:lnTo>
                <a:lnTo>
                  <a:pt x="1091" y="508"/>
                </a:lnTo>
                <a:lnTo>
                  <a:pt x="1078" y="534"/>
                </a:lnTo>
                <a:lnTo>
                  <a:pt x="1065" y="560"/>
                </a:lnTo>
                <a:lnTo>
                  <a:pt x="1052" y="586"/>
                </a:lnTo>
                <a:lnTo>
                  <a:pt x="1039" y="610"/>
                </a:lnTo>
                <a:lnTo>
                  <a:pt x="1026" y="635"/>
                </a:lnTo>
                <a:lnTo>
                  <a:pt x="1015" y="659"/>
                </a:lnTo>
                <a:lnTo>
                  <a:pt x="1002" y="682"/>
                </a:lnTo>
                <a:lnTo>
                  <a:pt x="989" y="705"/>
                </a:lnTo>
                <a:lnTo>
                  <a:pt x="978" y="728"/>
                </a:lnTo>
                <a:lnTo>
                  <a:pt x="965" y="751"/>
                </a:lnTo>
                <a:lnTo>
                  <a:pt x="952" y="773"/>
                </a:lnTo>
                <a:lnTo>
                  <a:pt x="940" y="795"/>
                </a:lnTo>
                <a:lnTo>
                  <a:pt x="927" y="815"/>
                </a:lnTo>
                <a:lnTo>
                  <a:pt x="916" y="836"/>
                </a:lnTo>
                <a:lnTo>
                  <a:pt x="903" y="857"/>
                </a:lnTo>
                <a:lnTo>
                  <a:pt x="891" y="875"/>
                </a:lnTo>
                <a:lnTo>
                  <a:pt x="880" y="894"/>
                </a:lnTo>
                <a:lnTo>
                  <a:pt x="868" y="914"/>
                </a:lnTo>
                <a:lnTo>
                  <a:pt x="857" y="931"/>
                </a:lnTo>
                <a:lnTo>
                  <a:pt x="845" y="950"/>
                </a:lnTo>
                <a:lnTo>
                  <a:pt x="834" y="967"/>
                </a:lnTo>
                <a:lnTo>
                  <a:pt x="822" y="985"/>
                </a:lnTo>
                <a:lnTo>
                  <a:pt x="811" y="10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75"/>
          <p:cNvSpPr/>
          <p:nvPr/>
        </p:nvSpPr>
        <p:spPr>
          <a:xfrm>
            <a:off x="6931080" y="3859200"/>
            <a:ext cx="909720" cy="717480"/>
          </a:xfrm>
          <a:custGeom>
            <a:avLst/>
            <a:gdLst/>
            <a:ahLst/>
            <a:rect l="l" t="t" r="r" b="b"/>
            <a:pathLst>
              <a:path w="1719" h="1355">
                <a:moveTo>
                  <a:pt x="1530" y="1097"/>
                </a:moveTo>
                <a:lnTo>
                  <a:pt x="1552" y="1109"/>
                </a:lnTo>
                <a:lnTo>
                  <a:pt x="1572" y="1119"/>
                </a:lnTo>
                <a:lnTo>
                  <a:pt x="1592" y="1129"/>
                </a:lnTo>
                <a:lnTo>
                  <a:pt x="1611" y="1137"/>
                </a:lnTo>
                <a:lnTo>
                  <a:pt x="1626" y="1146"/>
                </a:lnTo>
                <a:lnTo>
                  <a:pt x="1642" y="1155"/>
                </a:lnTo>
                <a:lnTo>
                  <a:pt x="1657" y="1162"/>
                </a:lnTo>
                <a:lnTo>
                  <a:pt x="1670" y="1171"/>
                </a:lnTo>
                <a:lnTo>
                  <a:pt x="1681" y="1176"/>
                </a:lnTo>
                <a:lnTo>
                  <a:pt x="1685" y="1181"/>
                </a:lnTo>
                <a:lnTo>
                  <a:pt x="1690" y="1184"/>
                </a:lnTo>
                <a:lnTo>
                  <a:pt x="1696" y="1186"/>
                </a:lnTo>
                <a:lnTo>
                  <a:pt x="1698" y="1189"/>
                </a:lnTo>
                <a:lnTo>
                  <a:pt x="1703" y="1192"/>
                </a:lnTo>
                <a:lnTo>
                  <a:pt x="1706" y="1195"/>
                </a:lnTo>
                <a:lnTo>
                  <a:pt x="1708" y="1198"/>
                </a:lnTo>
                <a:lnTo>
                  <a:pt x="1711" y="1201"/>
                </a:lnTo>
                <a:lnTo>
                  <a:pt x="1714" y="1202"/>
                </a:lnTo>
                <a:lnTo>
                  <a:pt x="1716" y="1205"/>
                </a:lnTo>
                <a:lnTo>
                  <a:pt x="1717" y="1207"/>
                </a:lnTo>
                <a:lnTo>
                  <a:pt x="1717" y="1209"/>
                </a:lnTo>
                <a:lnTo>
                  <a:pt x="1719" y="1211"/>
                </a:lnTo>
                <a:lnTo>
                  <a:pt x="1719" y="1214"/>
                </a:lnTo>
                <a:lnTo>
                  <a:pt x="1719" y="1217"/>
                </a:lnTo>
                <a:lnTo>
                  <a:pt x="1717" y="1221"/>
                </a:lnTo>
                <a:lnTo>
                  <a:pt x="1716" y="1224"/>
                </a:lnTo>
                <a:lnTo>
                  <a:pt x="1714" y="1228"/>
                </a:lnTo>
                <a:lnTo>
                  <a:pt x="1713" y="1231"/>
                </a:lnTo>
                <a:lnTo>
                  <a:pt x="1710" y="1235"/>
                </a:lnTo>
                <a:lnTo>
                  <a:pt x="1706" y="1238"/>
                </a:lnTo>
                <a:lnTo>
                  <a:pt x="1703" y="1241"/>
                </a:lnTo>
                <a:lnTo>
                  <a:pt x="1698" y="1245"/>
                </a:lnTo>
                <a:lnTo>
                  <a:pt x="1694" y="1248"/>
                </a:lnTo>
                <a:lnTo>
                  <a:pt x="1688" y="1253"/>
                </a:lnTo>
                <a:lnTo>
                  <a:pt x="1683" y="1255"/>
                </a:lnTo>
                <a:lnTo>
                  <a:pt x="1677" y="1258"/>
                </a:lnTo>
                <a:lnTo>
                  <a:pt x="1670" y="1261"/>
                </a:lnTo>
                <a:lnTo>
                  <a:pt x="1662" y="1266"/>
                </a:lnTo>
                <a:lnTo>
                  <a:pt x="1654" y="1268"/>
                </a:lnTo>
                <a:lnTo>
                  <a:pt x="1647" y="1271"/>
                </a:lnTo>
                <a:lnTo>
                  <a:pt x="1637" y="1274"/>
                </a:lnTo>
                <a:lnTo>
                  <a:pt x="1628" y="1277"/>
                </a:lnTo>
                <a:lnTo>
                  <a:pt x="1618" y="1280"/>
                </a:lnTo>
                <a:lnTo>
                  <a:pt x="1608" y="1283"/>
                </a:lnTo>
                <a:lnTo>
                  <a:pt x="1596" y="1286"/>
                </a:lnTo>
                <a:lnTo>
                  <a:pt x="1586" y="1289"/>
                </a:lnTo>
                <a:lnTo>
                  <a:pt x="1573" y="1291"/>
                </a:lnTo>
                <a:lnTo>
                  <a:pt x="1562" y="1294"/>
                </a:lnTo>
                <a:lnTo>
                  <a:pt x="1549" y="1296"/>
                </a:lnTo>
                <a:lnTo>
                  <a:pt x="1536" y="1299"/>
                </a:lnTo>
                <a:lnTo>
                  <a:pt x="1521" y="1302"/>
                </a:lnTo>
                <a:lnTo>
                  <a:pt x="1507" y="1303"/>
                </a:lnTo>
                <a:lnTo>
                  <a:pt x="1493" y="1306"/>
                </a:lnTo>
                <a:lnTo>
                  <a:pt x="1477" y="1307"/>
                </a:lnTo>
                <a:lnTo>
                  <a:pt x="1461" y="1310"/>
                </a:lnTo>
                <a:lnTo>
                  <a:pt x="1444" y="1313"/>
                </a:lnTo>
                <a:lnTo>
                  <a:pt x="1426" y="1316"/>
                </a:lnTo>
                <a:lnTo>
                  <a:pt x="1409" y="1320"/>
                </a:lnTo>
                <a:lnTo>
                  <a:pt x="1393" y="1323"/>
                </a:lnTo>
                <a:lnTo>
                  <a:pt x="1377" y="1326"/>
                </a:lnTo>
                <a:lnTo>
                  <a:pt x="1362" y="1329"/>
                </a:lnTo>
                <a:lnTo>
                  <a:pt x="1347" y="1332"/>
                </a:lnTo>
                <a:lnTo>
                  <a:pt x="1331" y="1335"/>
                </a:lnTo>
                <a:lnTo>
                  <a:pt x="1317" y="1338"/>
                </a:lnTo>
                <a:lnTo>
                  <a:pt x="1304" y="1339"/>
                </a:lnTo>
                <a:lnTo>
                  <a:pt x="1290" y="1342"/>
                </a:lnTo>
                <a:lnTo>
                  <a:pt x="1277" y="1343"/>
                </a:lnTo>
                <a:lnTo>
                  <a:pt x="1264" y="1346"/>
                </a:lnTo>
                <a:lnTo>
                  <a:pt x="1252" y="1348"/>
                </a:lnTo>
                <a:lnTo>
                  <a:pt x="1241" y="1349"/>
                </a:lnTo>
                <a:lnTo>
                  <a:pt x="1229" y="1351"/>
                </a:lnTo>
                <a:lnTo>
                  <a:pt x="1218" y="1352"/>
                </a:lnTo>
                <a:lnTo>
                  <a:pt x="1208" y="1353"/>
                </a:lnTo>
                <a:lnTo>
                  <a:pt x="1196" y="1353"/>
                </a:lnTo>
                <a:lnTo>
                  <a:pt x="1187" y="1355"/>
                </a:lnTo>
                <a:lnTo>
                  <a:pt x="1177" y="1355"/>
                </a:lnTo>
                <a:lnTo>
                  <a:pt x="1169" y="1355"/>
                </a:lnTo>
                <a:lnTo>
                  <a:pt x="1160" y="1355"/>
                </a:lnTo>
                <a:lnTo>
                  <a:pt x="1151" y="1355"/>
                </a:lnTo>
                <a:lnTo>
                  <a:pt x="1143" y="1355"/>
                </a:lnTo>
                <a:lnTo>
                  <a:pt x="1136" y="1355"/>
                </a:lnTo>
                <a:lnTo>
                  <a:pt x="1128" y="1353"/>
                </a:lnTo>
                <a:lnTo>
                  <a:pt x="1123" y="1353"/>
                </a:lnTo>
                <a:lnTo>
                  <a:pt x="1115" y="1352"/>
                </a:lnTo>
                <a:lnTo>
                  <a:pt x="1110" y="1351"/>
                </a:lnTo>
                <a:lnTo>
                  <a:pt x="1105" y="1349"/>
                </a:lnTo>
                <a:lnTo>
                  <a:pt x="1100" y="1348"/>
                </a:lnTo>
                <a:lnTo>
                  <a:pt x="1087" y="1343"/>
                </a:lnTo>
                <a:lnTo>
                  <a:pt x="1074" y="1338"/>
                </a:lnTo>
                <a:lnTo>
                  <a:pt x="1059" y="1330"/>
                </a:lnTo>
                <a:lnTo>
                  <a:pt x="1045" y="1323"/>
                </a:lnTo>
                <a:lnTo>
                  <a:pt x="1030" y="1313"/>
                </a:lnTo>
                <a:lnTo>
                  <a:pt x="1015" y="1302"/>
                </a:lnTo>
                <a:lnTo>
                  <a:pt x="999" y="1290"/>
                </a:lnTo>
                <a:lnTo>
                  <a:pt x="983" y="1276"/>
                </a:lnTo>
                <a:lnTo>
                  <a:pt x="967" y="1261"/>
                </a:lnTo>
                <a:lnTo>
                  <a:pt x="950" y="1244"/>
                </a:lnTo>
                <a:lnTo>
                  <a:pt x="933" y="1227"/>
                </a:lnTo>
                <a:lnTo>
                  <a:pt x="915" y="1208"/>
                </a:lnTo>
                <a:lnTo>
                  <a:pt x="898" y="1186"/>
                </a:lnTo>
                <a:lnTo>
                  <a:pt x="879" y="1165"/>
                </a:lnTo>
                <a:lnTo>
                  <a:pt x="861" y="1142"/>
                </a:lnTo>
                <a:lnTo>
                  <a:pt x="842" y="1117"/>
                </a:lnTo>
                <a:lnTo>
                  <a:pt x="832" y="1103"/>
                </a:lnTo>
                <a:lnTo>
                  <a:pt x="820" y="1089"/>
                </a:lnTo>
                <a:lnTo>
                  <a:pt x="809" y="1074"/>
                </a:lnTo>
                <a:lnTo>
                  <a:pt x="796" y="1057"/>
                </a:lnTo>
                <a:lnTo>
                  <a:pt x="781" y="1040"/>
                </a:lnTo>
                <a:lnTo>
                  <a:pt x="766" y="1021"/>
                </a:lnTo>
                <a:lnTo>
                  <a:pt x="750" y="1001"/>
                </a:lnTo>
                <a:lnTo>
                  <a:pt x="731" y="981"/>
                </a:lnTo>
                <a:lnTo>
                  <a:pt x="714" y="959"/>
                </a:lnTo>
                <a:lnTo>
                  <a:pt x="694" y="936"/>
                </a:lnTo>
                <a:lnTo>
                  <a:pt x="673" y="911"/>
                </a:lnTo>
                <a:lnTo>
                  <a:pt x="652" y="887"/>
                </a:lnTo>
                <a:lnTo>
                  <a:pt x="629" y="861"/>
                </a:lnTo>
                <a:lnTo>
                  <a:pt x="604" y="834"/>
                </a:lnTo>
                <a:lnTo>
                  <a:pt x="580" y="805"/>
                </a:lnTo>
                <a:lnTo>
                  <a:pt x="554" y="776"/>
                </a:lnTo>
                <a:lnTo>
                  <a:pt x="528" y="746"/>
                </a:lnTo>
                <a:lnTo>
                  <a:pt x="499" y="714"/>
                </a:lnTo>
                <a:lnTo>
                  <a:pt x="470" y="683"/>
                </a:lnTo>
                <a:lnTo>
                  <a:pt x="440" y="649"/>
                </a:lnTo>
                <a:lnTo>
                  <a:pt x="410" y="615"/>
                </a:lnTo>
                <a:lnTo>
                  <a:pt x="377" y="580"/>
                </a:lnTo>
                <a:lnTo>
                  <a:pt x="344" y="543"/>
                </a:lnTo>
                <a:lnTo>
                  <a:pt x="311" y="507"/>
                </a:lnTo>
                <a:lnTo>
                  <a:pt x="275" y="468"/>
                </a:lnTo>
                <a:lnTo>
                  <a:pt x="239" y="429"/>
                </a:lnTo>
                <a:lnTo>
                  <a:pt x="201" y="389"/>
                </a:lnTo>
                <a:lnTo>
                  <a:pt x="162" y="347"/>
                </a:lnTo>
                <a:lnTo>
                  <a:pt x="123" y="305"/>
                </a:lnTo>
                <a:lnTo>
                  <a:pt x="83" y="262"/>
                </a:lnTo>
                <a:lnTo>
                  <a:pt x="41" y="218"/>
                </a:lnTo>
                <a:lnTo>
                  <a:pt x="0" y="173"/>
                </a:lnTo>
                <a:lnTo>
                  <a:pt x="8" y="87"/>
                </a:lnTo>
                <a:lnTo>
                  <a:pt x="17" y="0"/>
                </a:lnTo>
                <a:lnTo>
                  <a:pt x="59" y="43"/>
                </a:lnTo>
                <a:lnTo>
                  <a:pt x="102" y="85"/>
                </a:lnTo>
                <a:lnTo>
                  <a:pt x="142" y="125"/>
                </a:lnTo>
                <a:lnTo>
                  <a:pt x="184" y="166"/>
                </a:lnTo>
                <a:lnTo>
                  <a:pt x="224" y="205"/>
                </a:lnTo>
                <a:lnTo>
                  <a:pt x="263" y="243"/>
                </a:lnTo>
                <a:lnTo>
                  <a:pt x="302" y="279"/>
                </a:lnTo>
                <a:lnTo>
                  <a:pt x="339" y="315"/>
                </a:lnTo>
                <a:lnTo>
                  <a:pt x="377" y="350"/>
                </a:lnTo>
                <a:lnTo>
                  <a:pt x="414" y="383"/>
                </a:lnTo>
                <a:lnTo>
                  <a:pt x="450" y="416"/>
                </a:lnTo>
                <a:lnTo>
                  <a:pt x="485" y="448"/>
                </a:lnTo>
                <a:lnTo>
                  <a:pt x="519" y="478"/>
                </a:lnTo>
                <a:lnTo>
                  <a:pt x="554" y="507"/>
                </a:lnTo>
                <a:lnTo>
                  <a:pt x="587" y="534"/>
                </a:lnTo>
                <a:lnTo>
                  <a:pt x="619" y="562"/>
                </a:lnTo>
                <a:lnTo>
                  <a:pt x="650" y="588"/>
                </a:lnTo>
                <a:lnTo>
                  <a:pt x="682" y="613"/>
                </a:lnTo>
                <a:lnTo>
                  <a:pt x="711" y="636"/>
                </a:lnTo>
                <a:lnTo>
                  <a:pt x="741" y="659"/>
                </a:lnTo>
                <a:lnTo>
                  <a:pt x="770" y="681"/>
                </a:lnTo>
                <a:lnTo>
                  <a:pt x="797" y="701"/>
                </a:lnTo>
                <a:lnTo>
                  <a:pt x="825" y="721"/>
                </a:lnTo>
                <a:lnTo>
                  <a:pt x="850" y="739"/>
                </a:lnTo>
                <a:lnTo>
                  <a:pt x="876" y="756"/>
                </a:lnTo>
                <a:lnTo>
                  <a:pt x="901" y="773"/>
                </a:lnTo>
                <a:lnTo>
                  <a:pt x="924" y="788"/>
                </a:lnTo>
                <a:lnTo>
                  <a:pt x="947" y="802"/>
                </a:lnTo>
                <a:lnTo>
                  <a:pt x="970" y="815"/>
                </a:lnTo>
                <a:lnTo>
                  <a:pt x="992" y="826"/>
                </a:lnTo>
                <a:lnTo>
                  <a:pt x="1012" y="838"/>
                </a:lnTo>
                <a:lnTo>
                  <a:pt x="1032" y="848"/>
                </a:lnTo>
                <a:lnTo>
                  <a:pt x="1069" y="868"/>
                </a:lnTo>
                <a:lnTo>
                  <a:pt x="1107" y="890"/>
                </a:lnTo>
                <a:lnTo>
                  <a:pt x="1143" y="909"/>
                </a:lnTo>
                <a:lnTo>
                  <a:pt x="1179" y="927"/>
                </a:lnTo>
                <a:lnTo>
                  <a:pt x="1213" y="946"/>
                </a:lnTo>
                <a:lnTo>
                  <a:pt x="1248" y="963"/>
                </a:lnTo>
                <a:lnTo>
                  <a:pt x="1281" y="979"/>
                </a:lnTo>
                <a:lnTo>
                  <a:pt x="1313" y="995"/>
                </a:lnTo>
                <a:lnTo>
                  <a:pt x="1343" y="1009"/>
                </a:lnTo>
                <a:lnTo>
                  <a:pt x="1373" y="1024"/>
                </a:lnTo>
                <a:lnTo>
                  <a:pt x="1402" y="1037"/>
                </a:lnTo>
                <a:lnTo>
                  <a:pt x="1431" y="1050"/>
                </a:lnTo>
                <a:lnTo>
                  <a:pt x="1457" y="1063"/>
                </a:lnTo>
                <a:lnTo>
                  <a:pt x="1482" y="1074"/>
                </a:lnTo>
                <a:lnTo>
                  <a:pt x="1507" y="1086"/>
                </a:lnTo>
                <a:lnTo>
                  <a:pt x="1530" y="10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帕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3"/>
          <p:cNvGrpSpPr/>
          <p:nvPr/>
        </p:nvGrpSpPr>
        <p:grpSpPr>
          <a:xfrm>
            <a:off x="1258920" y="3975120"/>
            <a:ext cx="3122640" cy="1573200"/>
            <a:chOff x="1258920" y="3975120"/>
            <a:chExt cx="3122640" cy="1573200"/>
          </a:xfrm>
        </p:grpSpPr>
        <p:pic>
          <p:nvPicPr>
            <p:cNvPr id="313" name="图示 4" descr=""/>
            <p:cNvPicPr/>
            <p:nvPr/>
          </p:nvPicPr>
          <p:blipFill>
            <a:blip r:embed="rId1"/>
            <a:stretch/>
          </p:blipFill>
          <p:spPr>
            <a:xfrm>
              <a:off x="1258920" y="3975120"/>
              <a:ext cx="312264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矩形 2"/>
            <p:cNvSpPr/>
            <p:nvPr/>
          </p:nvSpPr>
          <p:spPr>
            <a:xfrm>
              <a:off x="1311120" y="4603680"/>
              <a:ext cx="30420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右宽窄相当。右边“白”两边内收，撇较陡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矩形 2"/>
          <p:cNvSpPr/>
          <p:nvPr/>
        </p:nvSpPr>
        <p:spPr>
          <a:xfrm>
            <a:off x="2192400" y="1825560"/>
            <a:ext cx="145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80"/>
          <p:cNvSpPr/>
          <p:nvPr/>
        </p:nvSpPr>
        <p:spPr>
          <a:xfrm>
            <a:off x="5589720" y="3505320"/>
            <a:ext cx="168120" cy="844560"/>
          </a:xfrm>
          <a:custGeom>
            <a:avLst/>
            <a:gdLst/>
            <a:ahLst/>
            <a:rect l="l" t="t" r="r" b="b"/>
            <a:pathLst>
              <a:path w="317" h="1595">
                <a:moveTo>
                  <a:pt x="14" y="190"/>
                </a:moveTo>
                <a:lnTo>
                  <a:pt x="10" y="171"/>
                </a:lnTo>
                <a:lnTo>
                  <a:pt x="7" y="153"/>
                </a:lnTo>
                <a:lnTo>
                  <a:pt x="4" y="137"/>
                </a:lnTo>
                <a:lnTo>
                  <a:pt x="3" y="121"/>
                </a:lnTo>
                <a:lnTo>
                  <a:pt x="1" y="105"/>
                </a:lnTo>
                <a:lnTo>
                  <a:pt x="0" y="92"/>
                </a:lnTo>
                <a:lnTo>
                  <a:pt x="0" y="79"/>
                </a:lnTo>
                <a:lnTo>
                  <a:pt x="1" y="68"/>
                </a:lnTo>
                <a:lnTo>
                  <a:pt x="1" y="56"/>
                </a:lnTo>
                <a:lnTo>
                  <a:pt x="4" y="46"/>
                </a:lnTo>
                <a:lnTo>
                  <a:pt x="7" y="37"/>
                </a:lnTo>
                <a:lnTo>
                  <a:pt x="11" y="29"/>
                </a:lnTo>
                <a:lnTo>
                  <a:pt x="16" y="22"/>
                </a:lnTo>
                <a:lnTo>
                  <a:pt x="21" y="16"/>
                </a:lnTo>
                <a:lnTo>
                  <a:pt x="27" y="10"/>
                </a:lnTo>
                <a:lnTo>
                  <a:pt x="36" y="6"/>
                </a:lnTo>
                <a:lnTo>
                  <a:pt x="37" y="4"/>
                </a:lnTo>
                <a:lnTo>
                  <a:pt x="40" y="3"/>
                </a:lnTo>
                <a:lnTo>
                  <a:pt x="43" y="1"/>
                </a:lnTo>
                <a:lnTo>
                  <a:pt x="47" y="1"/>
                </a:lnTo>
                <a:lnTo>
                  <a:pt x="52" y="0"/>
                </a:lnTo>
                <a:lnTo>
                  <a:pt x="56" y="0"/>
                </a:lnTo>
                <a:lnTo>
                  <a:pt x="62" y="1"/>
                </a:lnTo>
                <a:lnTo>
                  <a:pt x="67" y="1"/>
                </a:lnTo>
                <a:lnTo>
                  <a:pt x="73" y="3"/>
                </a:lnTo>
                <a:lnTo>
                  <a:pt x="79" y="4"/>
                </a:lnTo>
                <a:lnTo>
                  <a:pt x="86" y="6"/>
                </a:lnTo>
                <a:lnTo>
                  <a:pt x="93" y="7"/>
                </a:lnTo>
                <a:lnTo>
                  <a:pt x="102" y="10"/>
                </a:lnTo>
                <a:lnTo>
                  <a:pt x="109" y="13"/>
                </a:lnTo>
                <a:lnTo>
                  <a:pt x="118" y="16"/>
                </a:lnTo>
                <a:lnTo>
                  <a:pt x="127" y="19"/>
                </a:lnTo>
                <a:lnTo>
                  <a:pt x="137" y="22"/>
                </a:lnTo>
                <a:lnTo>
                  <a:pt x="147" y="26"/>
                </a:lnTo>
                <a:lnTo>
                  <a:pt x="157" y="30"/>
                </a:lnTo>
                <a:lnTo>
                  <a:pt x="167" y="35"/>
                </a:lnTo>
                <a:lnTo>
                  <a:pt x="188" y="43"/>
                </a:lnTo>
                <a:lnTo>
                  <a:pt x="211" y="55"/>
                </a:lnTo>
                <a:lnTo>
                  <a:pt x="236" y="66"/>
                </a:lnTo>
                <a:lnTo>
                  <a:pt x="262" y="79"/>
                </a:lnTo>
                <a:lnTo>
                  <a:pt x="288" y="94"/>
                </a:lnTo>
                <a:lnTo>
                  <a:pt x="317" y="108"/>
                </a:lnTo>
                <a:lnTo>
                  <a:pt x="317" y="180"/>
                </a:lnTo>
                <a:lnTo>
                  <a:pt x="317" y="250"/>
                </a:lnTo>
                <a:lnTo>
                  <a:pt x="317" y="390"/>
                </a:lnTo>
                <a:lnTo>
                  <a:pt x="317" y="525"/>
                </a:lnTo>
                <a:lnTo>
                  <a:pt x="317" y="656"/>
                </a:lnTo>
                <a:lnTo>
                  <a:pt x="317" y="785"/>
                </a:lnTo>
                <a:lnTo>
                  <a:pt x="317" y="908"/>
                </a:lnTo>
                <a:lnTo>
                  <a:pt x="317" y="1029"/>
                </a:lnTo>
                <a:lnTo>
                  <a:pt x="317" y="1146"/>
                </a:lnTo>
                <a:lnTo>
                  <a:pt x="314" y="1173"/>
                </a:lnTo>
                <a:lnTo>
                  <a:pt x="312" y="1201"/>
                </a:lnTo>
                <a:lnTo>
                  <a:pt x="309" y="1228"/>
                </a:lnTo>
                <a:lnTo>
                  <a:pt x="308" y="1252"/>
                </a:lnTo>
                <a:lnTo>
                  <a:pt x="305" y="1278"/>
                </a:lnTo>
                <a:lnTo>
                  <a:pt x="304" y="1301"/>
                </a:lnTo>
                <a:lnTo>
                  <a:pt x="302" y="1324"/>
                </a:lnTo>
                <a:lnTo>
                  <a:pt x="299" y="1347"/>
                </a:lnTo>
                <a:lnTo>
                  <a:pt x="298" y="1368"/>
                </a:lnTo>
                <a:lnTo>
                  <a:pt x="295" y="1389"/>
                </a:lnTo>
                <a:lnTo>
                  <a:pt x="292" y="1408"/>
                </a:lnTo>
                <a:lnTo>
                  <a:pt x="291" y="1427"/>
                </a:lnTo>
                <a:lnTo>
                  <a:pt x="288" y="1444"/>
                </a:lnTo>
                <a:lnTo>
                  <a:pt x="286" y="1461"/>
                </a:lnTo>
                <a:lnTo>
                  <a:pt x="283" y="1477"/>
                </a:lnTo>
                <a:lnTo>
                  <a:pt x="281" y="1491"/>
                </a:lnTo>
                <a:lnTo>
                  <a:pt x="278" y="1506"/>
                </a:lnTo>
                <a:lnTo>
                  <a:pt x="276" y="1519"/>
                </a:lnTo>
                <a:lnTo>
                  <a:pt x="273" y="1530"/>
                </a:lnTo>
                <a:lnTo>
                  <a:pt x="270" y="1540"/>
                </a:lnTo>
                <a:lnTo>
                  <a:pt x="268" y="1550"/>
                </a:lnTo>
                <a:lnTo>
                  <a:pt x="265" y="1561"/>
                </a:lnTo>
                <a:lnTo>
                  <a:pt x="262" y="1568"/>
                </a:lnTo>
                <a:lnTo>
                  <a:pt x="258" y="1575"/>
                </a:lnTo>
                <a:lnTo>
                  <a:pt x="255" y="1581"/>
                </a:lnTo>
                <a:lnTo>
                  <a:pt x="252" y="1585"/>
                </a:lnTo>
                <a:lnTo>
                  <a:pt x="249" y="1589"/>
                </a:lnTo>
                <a:lnTo>
                  <a:pt x="245" y="1592"/>
                </a:lnTo>
                <a:lnTo>
                  <a:pt x="242" y="1594"/>
                </a:lnTo>
                <a:lnTo>
                  <a:pt x="237" y="1595"/>
                </a:lnTo>
                <a:lnTo>
                  <a:pt x="233" y="1595"/>
                </a:lnTo>
                <a:lnTo>
                  <a:pt x="230" y="1594"/>
                </a:lnTo>
                <a:lnTo>
                  <a:pt x="222" y="1592"/>
                </a:lnTo>
                <a:lnTo>
                  <a:pt x="213" y="1591"/>
                </a:lnTo>
                <a:lnTo>
                  <a:pt x="206" y="1586"/>
                </a:lnTo>
                <a:lnTo>
                  <a:pt x="197" y="1582"/>
                </a:lnTo>
                <a:lnTo>
                  <a:pt x="188" y="1575"/>
                </a:lnTo>
                <a:lnTo>
                  <a:pt x="181" y="1568"/>
                </a:lnTo>
                <a:lnTo>
                  <a:pt x="173" y="1558"/>
                </a:lnTo>
                <a:lnTo>
                  <a:pt x="164" y="1548"/>
                </a:lnTo>
                <a:lnTo>
                  <a:pt x="157" y="1535"/>
                </a:lnTo>
                <a:lnTo>
                  <a:pt x="148" y="1522"/>
                </a:lnTo>
                <a:lnTo>
                  <a:pt x="144" y="1514"/>
                </a:lnTo>
                <a:lnTo>
                  <a:pt x="139" y="1507"/>
                </a:lnTo>
                <a:lnTo>
                  <a:pt x="137" y="1499"/>
                </a:lnTo>
                <a:lnTo>
                  <a:pt x="132" y="1490"/>
                </a:lnTo>
                <a:lnTo>
                  <a:pt x="128" y="1481"/>
                </a:lnTo>
                <a:lnTo>
                  <a:pt x="124" y="1473"/>
                </a:lnTo>
                <a:lnTo>
                  <a:pt x="119" y="1463"/>
                </a:lnTo>
                <a:lnTo>
                  <a:pt x="116" y="1453"/>
                </a:lnTo>
                <a:lnTo>
                  <a:pt x="112" y="1442"/>
                </a:lnTo>
                <a:lnTo>
                  <a:pt x="108" y="1432"/>
                </a:lnTo>
                <a:lnTo>
                  <a:pt x="103" y="1421"/>
                </a:lnTo>
                <a:lnTo>
                  <a:pt x="101" y="1411"/>
                </a:lnTo>
                <a:lnTo>
                  <a:pt x="92" y="1391"/>
                </a:lnTo>
                <a:lnTo>
                  <a:pt x="85" y="1373"/>
                </a:lnTo>
                <a:lnTo>
                  <a:pt x="78" y="1355"/>
                </a:lnTo>
                <a:lnTo>
                  <a:pt x="72" y="1337"/>
                </a:lnTo>
                <a:lnTo>
                  <a:pt x="66" y="1322"/>
                </a:lnTo>
                <a:lnTo>
                  <a:pt x="60" y="1306"/>
                </a:lnTo>
                <a:lnTo>
                  <a:pt x="56" y="1290"/>
                </a:lnTo>
                <a:lnTo>
                  <a:pt x="52" y="1275"/>
                </a:lnTo>
                <a:lnTo>
                  <a:pt x="47" y="1261"/>
                </a:lnTo>
                <a:lnTo>
                  <a:pt x="44" y="1248"/>
                </a:lnTo>
                <a:lnTo>
                  <a:pt x="42" y="1235"/>
                </a:lnTo>
                <a:lnTo>
                  <a:pt x="39" y="1224"/>
                </a:lnTo>
                <a:lnTo>
                  <a:pt x="37" y="1214"/>
                </a:lnTo>
                <a:lnTo>
                  <a:pt x="36" y="1204"/>
                </a:lnTo>
                <a:lnTo>
                  <a:pt x="36" y="1195"/>
                </a:lnTo>
                <a:lnTo>
                  <a:pt x="36" y="1186"/>
                </a:lnTo>
                <a:lnTo>
                  <a:pt x="36" y="1178"/>
                </a:lnTo>
                <a:lnTo>
                  <a:pt x="36" y="1169"/>
                </a:lnTo>
                <a:lnTo>
                  <a:pt x="37" y="1159"/>
                </a:lnTo>
                <a:lnTo>
                  <a:pt x="39" y="1149"/>
                </a:lnTo>
                <a:lnTo>
                  <a:pt x="42" y="1137"/>
                </a:lnTo>
                <a:lnTo>
                  <a:pt x="43" y="1124"/>
                </a:lnTo>
                <a:lnTo>
                  <a:pt x="46" y="1111"/>
                </a:lnTo>
                <a:lnTo>
                  <a:pt x="49" y="1097"/>
                </a:lnTo>
                <a:lnTo>
                  <a:pt x="52" y="1083"/>
                </a:lnTo>
                <a:lnTo>
                  <a:pt x="56" y="1067"/>
                </a:lnTo>
                <a:lnTo>
                  <a:pt x="59" y="1051"/>
                </a:lnTo>
                <a:lnTo>
                  <a:pt x="63" y="1035"/>
                </a:lnTo>
                <a:lnTo>
                  <a:pt x="66" y="1018"/>
                </a:lnTo>
                <a:lnTo>
                  <a:pt x="70" y="999"/>
                </a:lnTo>
                <a:lnTo>
                  <a:pt x="75" y="982"/>
                </a:lnTo>
                <a:lnTo>
                  <a:pt x="79" y="963"/>
                </a:lnTo>
                <a:lnTo>
                  <a:pt x="82" y="943"/>
                </a:lnTo>
                <a:lnTo>
                  <a:pt x="85" y="923"/>
                </a:lnTo>
                <a:lnTo>
                  <a:pt x="88" y="901"/>
                </a:lnTo>
                <a:lnTo>
                  <a:pt x="91" y="878"/>
                </a:lnTo>
                <a:lnTo>
                  <a:pt x="93" y="855"/>
                </a:lnTo>
                <a:lnTo>
                  <a:pt x="95" y="832"/>
                </a:lnTo>
                <a:lnTo>
                  <a:pt x="96" y="808"/>
                </a:lnTo>
                <a:lnTo>
                  <a:pt x="98" y="782"/>
                </a:lnTo>
                <a:lnTo>
                  <a:pt x="98" y="756"/>
                </a:lnTo>
                <a:lnTo>
                  <a:pt x="99" y="728"/>
                </a:lnTo>
                <a:lnTo>
                  <a:pt x="99" y="701"/>
                </a:lnTo>
                <a:lnTo>
                  <a:pt x="99" y="674"/>
                </a:lnTo>
                <a:lnTo>
                  <a:pt x="99" y="645"/>
                </a:lnTo>
                <a:lnTo>
                  <a:pt x="99" y="615"/>
                </a:lnTo>
                <a:lnTo>
                  <a:pt x="101" y="586"/>
                </a:lnTo>
                <a:lnTo>
                  <a:pt x="101" y="556"/>
                </a:lnTo>
                <a:lnTo>
                  <a:pt x="96" y="525"/>
                </a:lnTo>
                <a:lnTo>
                  <a:pt x="92" y="495"/>
                </a:lnTo>
                <a:lnTo>
                  <a:pt x="88" y="468"/>
                </a:lnTo>
                <a:lnTo>
                  <a:pt x="83" y="441"/>
                </a:lnTo>
                <a:lnTo>
                  <a:pt x="79" y="415"/>
                </a:lnTo>
                <a:lnTo>
                  <a:pt x="75" y="389"/>
                </a:lnTo>
                <a:lnTo>
                  <a:pt x="70" y="366"/>
                </a:lnTo>
                <a:lnTo>
                  <a:pt x="65" y="341"/>
                </a:lnTo>
                <a:lnTo>
                  <a:pt x="59" y="320"/>
                </a:lnTo>
                <a:lnTo>
                  <a:pt x="55" y="298"/>
                </a:lnTo>
                <a:lnTo>
                  <a:pt x="49" y="278"/>
                </a:lnTo>
                <a:lnTo>
                  <a:pt x="42" y="258"/>
                </a:lnTo>
                <a:lnTo>
                  <a:pt x="36" y="239"/>
                </a:lnTo>
                <a:lnTo>
                  <a:pt x="29" y="222"/>
                </a:lnTo>
                <a:lnTo>
                  <a:pt x="21" y="204"/>
                </a:lnTo>
                <a:lnTo>
                  <a:pt x="14" y="1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81"/>
          <p:cNvSpPr/>
          <p:nvPr/>
        </p:nvSpPr>
        <p:spPr>
          <a:xfrm>
            <a:off x="5689440" y="3411360"/>
            <a:ext cx="900360" cy="808200"/>
          </a:xfrm>
          <a:custGeom>
            <a:avLst/>
            <a:gdLst/>
            <a:ahLst/>
            <a:rect l="l" t="t" r="r" b="b"/>
            <a:pathLst>
              <a:path w="1703" h="1526">
                <a:moveTo>
                  <a:pt x="1165" y="40"/>
                </a:moveTo>
                <a:lnTo>
                  <a:pt x="1167" y="36"/>
                </a:lnTo>
                <a:lnTo>
                  <a:pt x="1173" y="33"/>
                </a:lnTo>
                <a:lnTo>
                  <a:pt x="1178" y="29"/>
                </a:lnTo>
                <a:lnTo>
                  <a:pt x="1183" y="26"/>
                </a:lnTo>
                <a:lnTo>
                  <a:pt x="1195" y="19"/>
                </a:lnTo>
                <a:lnTo>
                  <a:pt x="1206" y="13"/>
                </a:lnTo>
                <a:lnTo>
                  <a:pt x="1218" y="7"/>
                </a:lnTo>
                <a:lnTo>
                  <a:pt x="1229" y="3"/>
                </a:lnTo>
                <a:lnTo>
                  <a:pt x="1235" y="1"/>
                </a:lnTo>
                <a:lnTo>
                  <a:pt x="1241" y="1"/>
                </a:lnTo>
                <a:lnTo>
                  <a:pt x="1245" y="0"/>
                </a:lnTo>
                <a:lnTo>
                  <a:pt x="1249" y="0"/>
                </a:lnTo>
                <a:lnTo>
                  <a:pt x="1252" y="0"/>
                </a:lnTo>
                <a:lnTo>
                  <a:pt x="1254" y="0"/>
                </a:lnTo>
                <a:lnTo>
                  <a:pt x="1257" y="1"/>
                </a:lnTo>
                <a:lnTo>
                  <a:pt x="1261" y="1"/>
                </a:lnTo>
                <a:lnTo>
                  <a:pt x="1264" y="3"/>
                </a:lnTo>
                <a:lnTo>
                  <a:pt x="1268" y="4"/>
                </a:lnTo>
                <a:lnTo>
                  <a:pt x="1273" y="6"/>
                </a:lnTo>
                <a:lnTo>
                  <a:pt x="1278" y="7"/>
                </a:lnTo>
                <a:lnTo>
                  <a:pt x="1283" y="9"/>
                </a:lnTo>
                <a:lnTo>
                  <a:pt x="1288" y="11"/>
                </a:lnTo>
                <a:lnTo>
                  <a:pt x="1296" y="13"/>
                </a:lnTo>
                <a:lnTo>
                  <a:pt x="1301" y="16"/>
                </a:lnTo>
                <a:lnTo>
                  <a:pt x="1309" y="19"/>
                </a:lnTo>
                <a:lnTo>
                  <a:pt x="1316" y="22"/>
                </a:lnTo>
                <a:lnTo>
                  <a:pt x="1323" y="24"/>
                </a:lnTo>
                <a:lnTo>
                  <a:pt x="1330" y="27"/>
                </a:lnTo>
                <a:lnTo>
                  <a:pt x="1339" y="32"/>
                </a:lnTo>
                <a:lnTo>
                  <a:pt x="1347" y="34"/>
                </a:lnTo>
                <a:lnTo>
                  <a:pt x="1357" y="39"/>
                </a:lnTo>
                <a:lnTo>
                  <a:pt x="1366" y="42"/>
                </a:lnTo>
                <a:lnTo>
                  <a:pt x="1376" y="46"/>
                </a:lnTo>
                <a:lnTo>
                  <a:pt x="1386" y="50"/>
                </a:lnTo>
                <a:lnTo>
                  <a:pt x="1396" y="55"/>
                </a:lnTo>
                <a:lnTo>
                  <a:pt x="1408" y="59"/>
                </a:lnTo>
                <a:lnTo>
                  <a:pt x="1419" y="65"/>
                </a:lnTo>
                <a:lnTo>
                  <a:pt x="1431" y="69"/>
                </a:lnTo>
                <a:lnTo>
                  <a:pt x="1442" y="75"/>
                </a:lnTo>
                <a:lnTo>
                  <a:pt x="1455" y="79"/>
                </a:lnTo>
                <a:lnTo>
                  <a:pt x="1468" y="85"/>
                </a:lnTo>
                <a:lnTo>
                  <a:pt x="1481" y="91"/>
                </a:lnTo>
                <a:lnTo>
                  <a:pt x="1494" y="96"/>
                </a:lnTo>
                <a:lnTo>
                  <a:pt x="1509" y="102"/>
                </a:lnTo>
                <a:lnTo>
                  <a:pt x="1520" y="108"/>
                </a:lnTo>
                <a:lnTo>
                  <a:pt x="1532" y="114"/>
                </a:lnTo>
                <a:lnTo>
                  <a:pt x="1543" y="119"/>
                </a:lnTo>
                <a:lnTo>
                  <a:pt x="1553" y="125"/>
                </a:lnTo>
                <a:lnTo>
                  <a:pt x="1565" y="131"/>
                </a:lnTo>
                <a:lnTo>
                  <a:pt x="1575" y="135"/>
                </a:lnTo>
                <a:lnTo>
                  <a:pt x="1583" y="141"/>
                </a:lnTo>
                <a:lnTo>
                  <a:pt x="1594" y="147"/>
                </a:lnTo>
                <a:lnTo>
                  <a:pt x="1602" y="153"/>
                </a:lnTo>
                <a:lnTo>
                  <a:pt x="1611" y="158"/>
                </a:lnTo>
                <a:lnTo>
                  <a:pt x="1619" y="163"/>
                </a:lnTo>
                <a:lnTo>
                  <a:pt x="1627" y="168"/>
                </a:lnTo>
                <a:lnTo>
                  <a:pt x="1634" y="174"/>
                </a:lnTo>
                <a:lnTo>
                  <a:pt x="1641" y="178"/>
                </a:lnTo>
                <a:lnTo>
                  <a:pt x="1647" y="184"/>
                </a:lnTo>
                <a:lnTo>
                  <a:pt x="1654" y="189"/>
                </a:lnTo>
                <a:lnTo>
                  <a:pt x="1660" y="193"/>
                </a:lnTo>
                <a:lnTo>
                  <a:pt x="1666" y="197"/>
                </a:lnTo>
                <a:lnTo>
                  <a:pt x="1670" y="201"/>
                </a:lnTo>
                <a:lnTo>
                  <a:pt x="1676" y="206"/>
                </a:lnTo>
                <a:lnTo>
                  <a:pt x="1680" y="210"/>
                </a:lnTo>
                <a:lnTo>
                  <a:pt x="1683" y="214"/>
                </a:lnTo>
                <a:lnTo>
                  <a:pt x="1687" y="219"/>
                </a:lnTo>
                <a:lnTo>
                  <a:pt x="1690" y="222"/>
                </a:lnTo>
                <a:lnTo>
                  <a:pt x="1693" y="226"/>
                </a:lnTo>
                <a:lnTo>
                  <a:pt x="1696" y="229"/>
                </a:lnTo>
                <a:lnTo>
                  <a:pt x="1697" y="232"/>
                </a:lnTo>
                <a:lnTo>
                  <a:pt x="1699" y="235"/>
                </a:lnTo>
                <a:lnTo>
                  <a:pt x="1700" y="237"/>
                </a:lnTo>
                <a:lnTo>
                  <a:pt x="1701" y="240"/>
                </a:lnTo>
                <a:lnTo>
                  <a:pt x="1701" y="242"/>
                </a:lnTo>
                <a:lnTo>
                  <a:pt x="1703" y="245"/>
                </a:lnTo>
                <a:lnTo>
                  <a:pt x="1701" y="252"/>
                </a:lnTo>
                <a:lnTo>
                  <a:pt x="1701" y="259"/>
                </a:lnTo>
                <a:lnTo>
                  <a:pt x="1700" y="266"/>
                </a:lnTo>
                <a:lnTo>
                  <a:pt x="1699" y="275"/>
                </a:lnTo>
                <a:lnTo>
                  <a:pt x="1696" y="282"/>
                </a:lnTo>
                <a:lnTo>
                  <a:pt x="1693" y="289"/>
                </a:lnTo>
                <a:lnTo>
                  <a:pt x="1690" y="296"/>
                </a:lnTo>
                <a:lnTo>
                  <a:pt x="1686" y="302"/>
                </a:lnTo>
                <a:lnTo>
                  <a:pt x="1681" y="309"/>
                </a:lnTo>
                <a:lnTo>
                  <a:pt x="1677" y="315"/>
                </a:lnTo>
                <a:lnTo>
                  <a:pt x="1671" y="321"/>
                </a:lnTo>
                <a:lnTo>
                  <a:pt x="1666" y="327"/>
                </a:lnTo>
                <a:lnTo>
                  <a:pt x="1660" y="332"/>
                </a:lnTo>
                <a:lnTo>
                  <a:pt x="1653" y="337"/>
                </a:lnTo>
                <a:lnTo>
                  <a:pt x="1645" y="341"/>
                </a:lnTo>
                <a:lnTo>
                  <a:pt x="1638" y="345"/>
                </a:lnTo>
                <a:lnTo>
                  <a:pt x="1631" y="350"/>
                </a:lnTo>
                <a:lnTo>
                  <a:pt x="1622" y="356"/>
                </a:lnTo>
                <a:lnTo>
                  <a:pt x="1617" y="364"/>
                </a:lnTo>
                <a:lnTo>
                  <a:pt x="1609" y="373"/>
                </a:lnTo>
                <a:lnTo>
                  <a:pt x="1604" y="381"/>
                </a:lnTo>
                <a:lnTo>
                  <a:pt x="1599" y="393"/>
                </a:lnTo>
                <a:lnTo>
                  <a:pt x="1594" y="406"/>
                </a:lnTo>
                <a:lnTo>
                  <a:pt x="1589" y="420"/>
                </a:lnTo>
                <a:lnTo>
                  <a:pt x="1586" y="435"/>
                </a:lnTo>
                <a:lnTo>
                  <a:pt x="1582" y="451"/>
                </a:lnTo>
                <a:lnTo>
                  <a:pt x="1579" y="468"/>
                </a:lnTo>
                <a:lnTo>
                  <a:pt x="1578" y="487"/>
                </a:lnTo>
                <a:lnTo>
                  <a:pt x="1576" y="505"/>
                </a:lnTo>
                <a:lnTo>
                  <a:pt x="1575" y="525"/>
                </a:lnTo>
                <a:lnTo>
                  <a:pt x="1573" y="547"/>
                </a:lnTo>
                <a:lnTo>
                  <a:pt x="1573" y="570"/>
                </a:lnTo>
                <a:lnTo>
                  <a:pt x="1573" y="596"/>
                </a:lnTo>
                <a:lnTo>
                  <a:pt x="1573" y="622"/>
                </a:lnTo>
                <a:lnTo>
                  <a:pt x="1573" y="648"/>
                </a:lnTo>
                <a:lnTo>
                  <a:pt x="1573" y="672"/>
                </a:lnTo>
                <a:lnTo>
                  <a:pt x="1573" y="723"/>
                </a:lnTo>
                <a:lnTo>
                  <a:pt x="1573" y="770"/>
                </a:lnTo>
                <a:lnTo>
                  <a:pt x="1573" y="818"/>
                </a:lnTo>
                <a:lnTo>
                  <a:pt x="1573" y="864"/>
                </a:lnTo>
                <a:lnTo>
                  <a:pt x="1573" y="910"/>
                </a:lnTo>
                <a:lnTo>
                  <a:pt x="1573" y="956"/>
                </a:lnTo>
                <a:lnTo>
                  <a:pt x="1569" y="979"/>
                </a:lnTo>
                <a:lnTo>
                  <a:pt x="1565" y="1002"/>
                </a:lnTo>
                <a:lnTo>
                  <a:pt x="1559" y="1025"/>
                </a:lnTo>
                <a:lnTo>
                  <a:pt x="1553" y="1048"/>
                </a:lnTo>
                <a:lnTo>
                  <a:pt x="1546" y="1071"/>
                </a:lnTo>
                <a:lnTo>
                  <a:pt x="1540" y="1093"/>
                </a:lnTo>
                <a:lnTo>
                  <a:pt x="1532" y="1116"/>
                </a:lnTo>
                <a:lnTo>
                  <a:pt x="1524" y="1139"/>
                </a:lnTo>
                <a:lnTo>
                  <a:pt x="1516" y="1162"/>
                </a:lnTo>
                <a:lnTo>
                  <a:pt x="1507" y="1185"/>
                </a:lnTo>
                <a:lnTo>
                  <a:pt x="1497" y="1208"/>
                </a:lnTo>
                <a:lnTo>
                  <a:pt x="1488" y="1231"/>
                </a:lnTo>
                <a:lnTo>
                  <a:pt x="1477" y="1254"/>
                </a:lnTo>
                <a:lnTo>
                  <a:pt x="1467" y="1277"/>
                </a:lnTo>
                <a:lnTo>
                  <a:pt x="1455" y="1300"/>
                </a:lnTo>
                <a:lnTo>
                  <a:pt x="1444" y="1323"/>
                </a:lnTo>
                <a:lnTo>
                  <a:pt x="1438" y="1336"/>
                </a:lnTo>
                <a:lnTo>
                  <a:pt x="1432" y="1349"/>
                </a:lnTo>
                <a:lnTo>
                  <a:pt x="1427" y="1360"/>
                </a:lnTo>
                <a:lnTo>
                  <a:pt x="1419" y="1372"/>
                </a:lnTo>
                <a:lnTo>
                  <a:pt x="1414" y="1383"/>
                </a:lnTo>
                <a:lnTo>
                  <a:pt x="1408" y="1395"/>
                </a:lnTo>
                <a:lnTo>
                  <a:pt x="1402" y="1405"/>
                </a:lnTo>
                <a:lnTo>
                  <a:pt x="1396" y="1415"/>
                </a:lnTo>
                <a:lnTo>
                  <a:pt x="1391" y="1424"/>
                </a:lnTo>
                <a:lnTo>
                  <a:pt x="1385" y="1432"/>
                </a:lnTo>
                <a:lnTo>
                  <a:pt x="1379" y="1441"/>
                </a:lnTo>
                <a:lnTo>
                  <a:pt x="1373" y="1450"/>
                </a:lnTo>
                <a:lnTo>
                  <a:pt x="1368" y="1457"/>
                </a:lnTo>
                <a:lnTo>
                  <a:pt x="1362" y="1464"/>
                </a:lnTo>
                <a:lnTo>
                  <a:pt x="1356" y="1471"/>
                </a:lnTo>
                <a:lnTo>
                  <a:pt x="1350" y="1478"/>
                </a:lnTo>
                <a:lnTo>
                  <a:pt x="1344" y="1484"/>
                </a:lnTo>
                <a:lnTo>
                  <a:pt x="1339" y="1490"/>
                </a:lnTo>
                <a:lnTo>
                  <a:pt x="1333" y="1494"/>
                </a:lnTo>
                <a:lnTo>
                  <a:pt x="1329" y="1499"/>
                </a:lnTo>
                <a:lnTo>
                  <a:pt x="1323" y="1504"/>
                </a:lnTo>
                <a:lnTo>
                  <a:pt x="1317" y="1507"/>
                </a:lnTo>
                <a:lnTo>
                  <a:pt x="1313" y="1512"/>
                </a:lnTo>
                <a:lnTo>
                  <a:pt x="1307" y="1514"/>
                </a:lnTo>
                <a:lnTo>
                  <a:pt x="1303" y="1517"/>
                </a:lnTo>
                <a:lnTo>
                  <a:pt x="1297" y="1519"/>
                </a:lnTo>
                <a:lnTo>
                  <a:pt x="1293" y="1522"/>
                </a:lnTo>
                <a:lnTo>
                  <a:pt x="1288" y="1523"/>
                </a:lnTo>
                <a:lnTo>
                  <a:pt x="1284" y="1524"/>
                </a:lnTo>
                <a:lnTo>
                  <a:pt x="1280" y="1526"/>
                </a:lnTo>
                <a:lnTo>
                  <a:pt x="1275" y="1526"/>
                </a:lnTo>
                <a:lnTo>
                  <a:pt x="1271" y="1526"/>
                </a:lnTo>
                <a:lnTo>
                  <a:pt x="1264" y="1526"/>
                </a:lnTo>
                <a:lnTo>
                  <a:pt x="1255" y="1524"/>
                </a:lnTo>
                <a:lnTo>
                  <a:pt x="1249" y="1522"/>
                </a:lnTo>
                <a:lnTo>
                  <a:pt x="1242" y="1519"/>
                </a:lnTo>
                <a:lnTo>
                  <a:pt x="1237" y="1514"/>
                </a:lnTo>
                <a:lnTo>
                  <a:pt x="1231" y="1509"/>
                </a:lnTo>
                <a:lnTo>
                  <a:pt x="1225" y="1503"/>
                </a:lnTo>
                <a:lnTo>
                  <a:pt x="1219" y="1496"/>
                </a:lnTo>
                <a:lnTo>
                  <a:pt x="1215" y="1487"/>
                </a:lnTo>
                <a:lnTo>
                  <a:pt x="1211" y="1478"/>
                </a:lnTo>
                <a:lnTo>
                  <a:pt x="1206" y="1468"/>
                </a:lnTo>
                <a:lnTo>
                  <a:pt x="1202" y="1457"/>
                </a:lnTo>
                <a:lnTo>
                  <a:pt x="1198" y="1445"/>
                </a:lnTo>
                <a:lnTo>
                  <a:pt x="1193" y="1432"/>
                </a:lnTo>
                <a:lnTo>
                  <a:pt x="1189" y="1418"/>
                </a:lnTo>
                <a:lnTo>
                  <a:pt x="1186" y="1404"/>
                </a:lnTo>
                <a:lnTo>
                  <a:pt x="1180" y="1392"/>
                </a:lnTo>
                <a:lnTo>
                  <a:pt x="1175" y="1379"/>
                </a:lnTo>
                <a:lnTo>
                  <a:pt x="1169" y="1368"/>
                </a:lnTo>
                <a:lnTo>
                  <a:pt x="1162" y="1355"/>
                </a:lnTo>
                <a:lnTo>
                  <a:pt x="1153" y="1342"/>
                </a:lnTo>
                <a:lnTo>
                  <a:pt x="1144" y="1327"/>
                </a:lnTo>
                <a:lnTo>
                  <a:pt x="1134" y="1314"/>
                </a:lnTo>
                <a:lnTo>
                  <a:pt x="1123" y="1300"/>
                </a:lnTo>
                <a:lnTo>
                  <a:pt x="1111" y="1286"/>
                </a:lnTo>
                <a:lnTo>
                  <a:pt x="1100" y="1271"/>
                </a:lnTo>
                <a:lnTo>
                  <a:pt x="1087" y="1257"/>
                </a:lnTo>
                <a:lnTo>
                  <a:pt x="1072" y="1241"/>
                </a:lnTo>
                <a:lnTo>
                  <a:pt x="1058" y="1226"/>
                </a:lnTo>
                <a:lnTo>
                  <a:pt x="1044" y="1211"/>
                </a:lnTo>
                <a:lnTo>
                  <a:pt x="1029" y="1195"/>
                </a:lnTo>
                <a:lnTo>
                  <a:pt x="1013" y="1180"/>
                </a:lnTo>
                <a:lnTo>
                  <a:pt x="1003" y="1173"/>
                </a:lnTo>
                <a:lnTo>
                  <a:pt x="993" y="1167"/>
                </a:lnTo>
                <a:lnTo>
                  <a:pt x="985" y="1162"/>
                </a:lnTo>
                <a:lnTo>
                  <a:pt x="976" y="1157"/>
                </a:lnTo>
                <a:lnTo>
                  <a:pt x="969" y="1152"/>
                </a:lnTo>
                <a:lnTo>
                  <a:pt x="962" y="1146"/>
                </a:lnTo>
                <a:lnTo>
                  <a:pt x="954" y="1140"/>
                </a:lnTo>
                <a:lnTo>
                  <a:pt x="947" y="1134"/>
                </a:lnTo>
                <a:lnTo>
                  <a:pt x="941" y="1129"/>
                </a:lnTo>
                <a:lnTo>
                  <a:pt x="936" y="1123"/>
                </a:lnTo>
                <a:lnTo>
                  <a:pt x="930" y="1119"/>
                </a:lnTo>
                <a:lnTo>
                  <a:pt x="926" y="1113"/>
                </a:lnTo>
                <a:lnTo>
                  <a:pt x="921" y="1108"/>
                </a:lnTo>
                <a:lnTo>
                  <a:pt x="917" y="1103"/>
                </a:lnTo>
                <a:lnTo>
                  <a:pt x="914" y="1098"/>
                </a:lnTo>
                <a:lnTo>
                  <a:pt x="910" y="1093"/>
                </a:lnTo>
                <a:lnTo>
                  <a:pt x="907" y="1088"/>
                </a:lnTo>
                <a:lnTo>
                  <a:pt x="905" y="1084"/>
                </a:lnTo>
                <a:lnTo>
                  <a:pt x="903" y="1080"/>
                </a:lnTo>
                <a:lnTo>
                  <a:pt x="901" y="1075"/>
                </a:lnTo>
                <a:lnTo>
                  <a:pt x="898" y="1067"/>
                </a:lnTo>
                <a:lnTo>
                  <a:pt x="897" y="1059"/>
                </a:lnTo>
                <a:lnTo>
                  <a:pt x="897" y="1052"/>
                </a:lnTo>
                <a:lnTo>
                  <a:pt x="898" y="1047"/>
                </a:lnTo>
                <a:lnTo>
                  <a:pt x="901" y="1042"/>
                </a:lnTo>
                <a:lnTo>
                  <a:pt x="905" y="1038"/>
                </a:lnTo>
                <a:lnTo>
                  <a:pt x="910" y="1034"/>
                </a:lnTo>
                <a:lnTo>
                  <a:pt x="914" y="1032"/>
                </a:lnTo>
                <a:lnTo>
                  <a:pt x="920" y="1029"/>
                </a:lnTo>
                <a:lnTo>
                  <a:pt x="926" y="1029"/>
                </a:lnTo>
                <a:lnTo>
                  <a:pt x="931" y="1029"/>
                </a:lnTo>
                <a:lnTo>
                  <a:pt x="940" y="1029"/>
                </a:lnTo>
                <a:lnTo>
                  <a:pt x="947" y="1031"/>
                </a:lnTo>
                <a:lnTo>
                  <a:pt x="956" y="1032"/>
                </a:lnTo>
                <a:lnTo>
                  <a:pt x="966" y="1035"/>
                </a:lnTo>
                <a:lnTo>
                  <a:pt x="976" y="1036"/>
                </a:lnTo>
                <a:lnTo>
                  <a:pt x="987" y="1039"/>
                </a:lnTo>
                <a:lnTo>
                  <a:pt x="999" y="1044"/>
                </a:lnTo>
                <a:lnTo>
                  <a:pt x="1012" y="1047"/>
                </a:lnTo>
                <a:lnTo>
                  <a:pt x="1025" y="1051"/>
                </a:lnTo>
                <a:lnTo>
                  <a:pt x="1041" y="1054"/>
                </a:lnTo>
                <a:lnTo>
                  <a:pt x="1057" y="1058"/>
                </a:lnTo>
                <a:lnTo>
                  <a:pt x="1072" y="1061"/>
                </a:lnTo>
                <a:lnTo>
                  <a:pt x="1087" y="1065"/>
                </a:lnTo>
                <a:lnTo>
                  <a:pt x="1101" y="1067"/>
                </a:lnTo>
                <a:lnTo>
                  <a:pt x="1116" y="1070"/>
                </a:lnTo>
                <a:lnTo>
                  <a:pt x="1130" y="1071"/>
                </a:lnTo>
                <a:lnTo>
                  <a:pt x="1143" y="1072"/>
                </a:lnTo>
                <a:lnTo>
                  <a:pt x="1154" y="1072"/>
                </a:lnTo>
                <a:lnTo>
                  <a:pt x="1166" y="1074"/>
                </a:lnTo>
                <a:lnTo>
                  <a:pt x="1178" y="1072"/>
                </a:lnTo>
                <a:lnTo>
                  <a:pt x="1188" y="1072"/>
                </a:lnTo>
                <a:lnTo>
                  <a:pt x="1196" y="1071"/>
                </a:lnTo>
                <a:lnTo>
                  <a:pt x="1205" y="1070"/>
                </a:lnTo>
                <a:lnTo>
                  <a:pt x="1212" y="1067"/>
                </a:lnTo>
                <a:lnTo>
                  <a:pt x="1218" y="1065"/>
                </a:lnTo>
                <a:lnTo>
                  <a:pt x="1224" y="1061"/>
                </a:lnTo>
                <a:lnTo>
                  <a:pt x="1228" y="1058"/>
                </a:lnTo>
                <a:lnTo>
                  <a:pt x="1232" y="1054"/>
                </a:lnTo>
                <a:lnTo>
                  <a:pt x="1237" y="1048"/>
                </a:lnTo>
                <a:lnTo>
                  <a:pt x="1241" y="1039"/>
                </a:lnTo>
                <a:lnTo>
                  <a:pt x="1244" y="1031"/>
                </a:lnTo>
                <a:lnTo>
                  <a:pt x="1248" y="1021"/>
                </a:lnTo>
                <a:lnTo>
                  <a:pt x="1252" y="1009"/>
                </a:lnTo>
                <a:lnTo>
                  <a:pt x="1257" y="996"/>
                </a:lnTo>
                <a:lnTo>
                  <a:pt x="1261" y="982"/>
                </a:lnTo>
                <a:lnTo>
                  <a:pt x="1265" y="966"/>
                </a:lnTo>
                <a:lnTo>
                  <a:pt x="1268" y="947"/>
                </a:lnTo>
                <a:lnTo>
                  <a:pt x="1273" y="928"/>
                </a:lnTo>
                <a:lnTo>
                  <a:pt x="1277" y="908"/>
                </a:lnTo>
                <a:lnTo>
                  <a:pt x="1281" y="887"/>
                </a:lnTo>
                <a:lnTo>
                  <a:pt x="1285" y="864"/>
                </a:lnTo>
                <a:lnTo>
                  <a:pt x="1288" y="839"/>
                </a:lnTo>
                <a:lnTo>
                  <a:pt x="1293" y="813"/>
                </a:lnTo>
                <a:lnTo>
                  <a:pt x="1297" y="787"/>
                </a:lnTo>
                <a:lnTo>
                  <a:pt x="1300" y="761"/>
                </a:lnTo>
                <a:lnTo>
                  <a:pt x="1303" y="737"/>
                </a:lnTo>
                <a:lnTo>
                  <a:pt x="1306" y="714"/>
                </a:lnTo>
                <a:lnTo>
                  <a:pt x="1307" y="691"/>
                </a:lnTo>
                <a:lnTo>
                  <a:pt x="1309" y="668"/>
                </a:lnTo>
                <a:lnTo>
                  <a:pt x="1310" y="646"/>
                </a:lnTo>
                <a:lnTo>
                  <a:pt x="1311" y="626"/>
                </a:lnTo>
                <a:lnTo>
                  <a:pt x="1313" y="605"/>
                </a:lnTo>
                <a:lnTo>
                  <a:pt x="1313" y="584"/>
                </a:lnTo>
                <a:lnTo>
                  <a:pt x="1314" y="544"/>
                </a:lnTo>
                <a:lnTo>
                  <a:pt x="1314" y="507"/>
                </a:lnTo>
                <a:lnTo>
                  <a:pt x="1314" y="468"/>
                </a:lnTo>
                <a:lnTo>
                  <a:pt x="1310" y="449"/>
                </a:lnTo>
                <a:lnTo>
                  <a:pt x="1307" y="432"/>
                </a:lnTo>
                <a:lnTo>
                  <a:pt x="1303" y="415"/>
                </a:lnTo>
                <a:lnTo>
                  <a:pt x="1298" y="399"/>
                </a:lnTo>
                <a:lnTo>
                  <a:pt x="1294" y="383"/>
                </a:lnTo>
                <a:lnTo>
                  <a:pt x="1290" y="370"/>
                </a:lnTo>
                <a:lnTo>
                  <a:pt x="1287" y="356"/>
                </a:lnTo>
                <a:lnTo>
                  <a:pt x="1283" y="343"/>
                </a:lnTo>
                <a:lnTo>
                  <a:pt x="1278" y="331"/>
                </a:lnTo>
                <a:lnTo>
                  <a:pt x="1274" y="320"/>
                </a:lnTo>
                <a:lnTo>
                  <a:pt x="1270" y="309"/>
                </a:lnTo>
                <a:lnTo>
                  <a:pt x="1265" y="299"/>
                </a:lnTo>
                <a:lnTo>
                  <a:pt x="1262" y="289"/>
                </a:lnTo>
                <a:lnTo>
                  <a:pt x="1258" y="281"/>
                </a:lnTo>
                <a:lnTo>
                  <a:pt x="1254" y="272"/>
                </a:lnTo>
                <a:lnTo>
                  <a:pt x="1249" y="265"/>
                </a:lnTo>
                <a:lnTo>
                  <a:pt x="1247" y="262"/>
                </a:lnTo>
                <a:lnTo>
                  <a:pt x="1241" y="262"/>
                </a:lnTo>
                <a:lnTo>
                  <a:pt x="1232" y="261"/>
                </a:lnTo>
                <a:lnTo>
                  <a:pt x="1222" y="261"/>
                </a:lnTo>
                <a:lnTo>
                  <a:pt x="1209" y="261"/>
                </a:lnTo>
                <a:lnTo>
                  <a:pt x="1195" y="261"/>
                </a:lnTo>
                <a:lnTo>
                  <a:pt x="1178" y="262"/>
                </a:lnTo>
                <a:lnTo>
                  <a:pt x="1157" y="263"/>
                </a:lnTo>
                <a:lnTo>
                  <a:pt x="1136" y="266"/>
                </a:lnTo>
                <a:lnTo>
                  <a:pt x="1111" y="269"/>
                </a:lnTo>
                <a:lnTo>
                  <a:pt x="1084" y="272"/>
                </a:lnTo>
                <a:lnTo>
                  <a:pt x="1055" y="275"/>
                </a:lnTo>
                <a:lnTo>
                  <a:pt x="1023" y="279"/>
                </a:lnTo>
                <a:lnTo>
                  <a:pt x="990" y="284"/>
                </a:lnTo>
                <a:lnTo>
                  <a:pt x="954" y="288"/>
                </a:lnTo>
                <a:lnTo>
                  <a:pt x="916" y="294"/>
                </a:lnTo>
                <a:lnTo>
                  <a:pt x="875" y="299"/>
                </a:lnTo>
                <a:lnTo>
                  <a:pt x="832" y="307"/>
                </a:lnTo>
                <a:lnTo>
                  <a:pt x="787" y="312"/>
                </a:lnTo>
                <a:lnTo>
                  <a:pt x="740" y="321"/>
                </a:lnTo>
                <a:lnTo>
                  <a:pt x="691" y="328"/>
                </a:lnTo>
                <a:lnTo>
                  <a:pt x="639" y="337"/>
                </a:lnTo>
                <a:lnTo>
                  <a:pt x="584" y="345"/>
                </a:lnTo>
                <a:lnTo>
                  <a:pt x="528" y="356"/>
                </a:lnTo>
                <a:lnTo>
                  <a:pt x="469" y="364"/>
                </a:lnTo>
                <a:lnTo>
                  <a:pt x="409" y="376"/>
                </a:lnTo>
                <a:lnTo>
                  <a:pt x="345" y="386"/>
                </a:lnTo>
                <a:lnTo>
                  <a:pt x="281" y="397"/>
                </a:lnTo>
                <a:lnTo>
                  <a:pt x="214" y="409"/>
                </a:lnTo>
                <a:lnTo>
                  <a:pt x="144" y="422"/>
                </a:lnTo>
                <a:lnTo>
                  <a:pt x="73" y="435"/>
                </a:lnTo>
                <a:lnTo>
                  <a:pt x="0" y="448"/>
                </a:lnTo>
                <a:lnTo>
                  <a:pt x="0" y="366"/>
                </a:lnTo>
                <a:lnTo>
                  <a:pt x="0" y="285"/>
                </a:lnTo>
                <a:lnTo>
                  <a:pt x="10" y="285"/>
                </a:lnTo>
                <a:lnTo>
                  <a:pt x="22" y="285"/>
                </a:lnTo>
                <a:lnTo>
                  <a:pt x="33" y="284"/>
                </a:lnTo>
                <a:lnTo>
                  <a:pt x="46" y="284"/>
                </a:lnTo>
                <a:lnTo>
                  <a:pt x="59" y="282"/>
                </a:lnTo>
                <a:lnTo>
                  <a:pt x="73" y="281"/>
                </a:lnTo>
                <a:lnTo>
                  <a:pt x="88" y="279"/>
                </a:lnTo>
                <a:lnTo>
                  <a:pt x="104" y="278"/>
                </a:lnTo>
                <a:lnTo>
                  <a:pt x="119" y="276"/>
                </a:lnTo>
                <a:lnTo>
                  <a:pt x="137" y="273"/>
                </a:lnTo>
                <a:lnTo>
                  <a:pt x="155" y="272"/>
                </a:lnTo>
                <a:lnTo>
                  <a:pt x="173" y="269"/>
                </a:lnTo>
                <a:lnTo>
                  <a:pt x="191" y="266"/>
                </a:lnTo>
                <a:lnTo>
                  <a:pt x="212" y="263"/>
                </a:lnTo>
                <a:lnTo>
                  <a:pt x="232" y="261"/>
                </a:lnTo>
                <a:lnTo>
                  <a:pt x="253" y="258"/>
                </a:lnTo>
                <a:lnTo>
                  <a:pt x="275" y="253"/>
                </a:lnTo>
                <a:lnTo>
                  <a:pt x="297" y="250"/>
                </a:lnTo>
                <a:lnTo>
                  <a:pt x="320" y="246"/>
                </a:lnTo>
                <a:lnTo>
                  <a:pt x="343" y="243"/>
                </a:lnTo>
                <a:lnTo>
                  <a:pt x="367" y="239"/>
                </a:lnTo>
                <a:lnTo>
                  <a:pt x="392" y="235"/>
                </a:lnTo>
                <a:lnTo>
                  <a:pt x="416" y="230"/>
                </a:lnTo>
                <a:lnTo>
                  <a:pt x="442" y="225"/>
                </a:lnTo>
                <a:lnTo>
                  <a:pt x="469" y="220"/>
                </a:lnTo>
                <a:lnTo>
                  <a:pt x="495" y="216"/>
                </a:lnTo>
                <a:lnTo>
                  <a:pt x="523" y="210"/>
                </a:lnTo>
                <a:lnTo>
                  <a:pt x="551" y="206"/>
                </a:lnTo>
                <a:lnTo>
                  <a:pt x="579" y="200"/>
                </a:lnTo>
                <a:lnTo>
                  <a:pt x="609" y="194"/>
                </a:lnTo>
                <a:lnTo>
                  <a:pt x="638" y="189"/>
                </a:lnTo>
                <a:lnTo>
                  <a:pt x="668" y="183"/>
                </a:lnTo>
                <a:lnTo>
                  <a:pt x="698" y="177"/>
                </a:lnTo>
                <a:lnTo>
                  <a:pt x="727" y="171"/>
                </a:lnTo>
                <a:lnTo>
                  <a:pt x="754" y="165"/>
                </a:lnTo>
                <a:lnTo>
                  <a:pt x="782" y="160"/>
                </a:lnTo>
                <a:lnTo>
                  <a:pt x="808" y="154"/>
                </a:lnTo>
                <a:lnTo>
                  <a:pt x="832" y="148"/>
                </a:lnTo>
                <a:lnTo>
                  <a:pt x="856" y="142"/>
                </a:lnTo>
                <a:lnTo>
                  <a:pt x="878" y="137"/>
                </a:lnTo>
                <a:lnTo>
                  <a:pt x="901" y="132"/>
                </a:lnTo>
                <a:lnTo>
                  <a:pt x="921" y="127"/>
                </a:lnTo>
                <a:lnTo>
                  <a:pt x="941" y="121"/>
                </a:lnTo>
                <a:lnTo>
                  <a:pt x="962" y="117"/>
                </a:lnTo>
                <a:lnTo>
                  <a:pt x="979" y="111"/>
                </a:lnTo>
                <a:lnTo>
                  <a:pt x="998" y="106"/>
                </a:lnTo>
                <a:lnTo>
                  <a:pt x="1013" y="101"/>
                </a:lnTo>
                <a:lnTo>
                  <a:pt x="1029" y="96"/>
                </a:lnTo>
                <a:lnTo>
                  <a:pt x="1044" y="92"/>
                </a:lnTo>
                <a:lnTo>
                  <a:pt x="1058" y="86"/>
                </a:lnTo>
                <a:lnTo>
                  <a:pt x="1071" y="82"/>
                </a:lnTo>
                <a:lnTo>
                  <a:pt x="1082" y="78"/>
                </a:lnTo>
                <a:lnTo>
                  <a:pt x="1094" y="75"/>
                </a:lnTo>
                <a:lnTo>
                  <a:pt x="1104" y="70"/>
                </a:lnTo>
                <a:lnTo>
                  <a:pt x="1114" y="66"/>
                </a:lnTo>
                <a:lnTo>
                  <a:pt x="1123" y="63"/>
                </a:lnTo>
                <a:lnTo>
                  <a:pt x="1130" y="59"/>
                </a:lnTo>
                <a:lnTo>
                  <a:pt x="1137" y="56"/>
                </a:lnTo>
                <a:lnTo>
                  <a:pt x="1144" y="53"/>
                </a:lnTo>
                <a:lnTo>
                  <a:pt x="1150" y="50"/>
                </a:lnTo>
                <a:lnTo>
                  <a:pt x="1154" y="47"/>
                </a:lnTo>
                <a:lnTo>
                  <a:pt x="1159" y="45"/>
                </a:lnTo>
                <a:lnTo>
                  <a:pt x="1162" y="42"/>
                </a:lnTo>
                <a:lnTo>
                  <a:pt x="1165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82"/>
          <p:cNvSpPr/>
          <p:nvPr/>
        </p:nvSpPr>
        <p:spPr>
          <a:xfrm>
            <a:off x="5902200" y="2833560"/>
            <a:ext cx="265320" cy="2279880"/>
          </a:xfrm>
          <a:custGeom>
            <a:avLst/>
            <a:gdLst/>
            <a:ahLst/>
            <a:rect l="l" t="t" r="r" b="b"/>
            <a:pathLst>
              <a:path w="503" h="4306">
                <a:moveTo>
                  <a:pt x="460" y="378"/>
                </a:moveTo>
                <a:lnTo>
                  <a:pt x="457" y="384"/>
                </a:lnTo>
                <a:lnTo>
                  <a:pt x="456" y="391"/>
                </a:lnTo>
                <a:lnTo>
                  <a:pt x="453" y="398"/>
                </a:lnTo>
                <a:lnTo>
                  <a:pt x="452" y="406"/>
                </a:lnTo>
                <a:lnTo>
                  <a:pt x="450" y="413"/>
                </a:lnTo>
                <a:lnTo>
                  <a:pt x="447" y="422"/>
                </a:lnTo>
                <a:lnTo>
                  <a:pt x="446" y="432"/>
                </a:lnTo>
                <a:lnTo>
                  <a:pt x="443" y="440"/>
                </a:lnTo>
                <a:lnTo>
                  <a:pt x="442" y="450"/>
                </a:lnTo>
                <a:lnTo>
                  <a:pt x="440" y="462"/>
                </a:lnTo>
                <a:lnTo>
                  <a:pt x="437" y="472"/>
                </a:lnTo>
                <a:lnTo>
                  <a:pt x="436" y="483"/>
                </a:lnTo>
                <a:lnTo>
                  <a:pt x="433" y="496"/>
                </a:lnTo>
                <a:lnTo>
                  <a:pt x="431" y="509"/>
                </a:lnTo>
                <a:lnTo>
                  <a:pt x="430" y="522"/>
                </a:lnTo>
                <a:lnTo>
                  <a:pt x="427" y="537"/>
                </a:lnTo>
                <a:lnTo>
                  <a:pt x="426" y="551"/>
                </a:lnTo>
                <a:lnTo>
                  <a:pt x="423" y="567"/>
                </a:lnTo>
                <a:lnTo>
                  <a:pt x="421" y="583"/>
                </a:lnTo>
                <a:lnTo>
                  <a:pt x="420" y="599"/>
                </a:lnTo>
                <a:lnTo>
                  <a:pt x="417" y="616"/>
                </a:lnTo>
                <a:lnTo>
                  <a:pt x="416" y="633"/>
                </a:lnTo>
                <a:lnTo>
                  <a:pt x="413" y="652"/>
                </a:lnTo>
                <a:lnTo>
                  <a:pt x="411" y="671"/>
                </a:lnTo>
                <a:lnTo>
                  <a:pt x="408" y="691"/>
                </a:lnTo>
                <a:lnTo>
                  <a:pt x="407" y="711"/>
                </a:lnTo>
                <a:lnTo>
                  <a:pt x="406" y="731"/>
                </a:lnTo>
                <a:lnTo>
                  <a:pt x="403" y="753"/>
                </a:lnTo>
                <a:lnTo>
                  <a:pt x="401" y="776"/>
                </a:lnTo>
                <a:lnTo>
                  <a:pt x="398" y="799"/>
                </a:lnTo>
                <a:lnTo>
                  <a:pt x="397" y="823"/>
                </a:lnTo>
                <a:lnTo>
                  <a:pt x="395" y="848"/>
                </a:lnTo>
                <a:lnTo>
                  <a:pt x="391" y="897"/>
                </a:lnTo>
                <a:lnTo>
                  <a:pt x="388" y="944"/>
                </a:lnTo>
                <a:lnTo>
                  <a:pt x="385" y="992"/>
                </a:lnTo>
                <a:lnTo>
                  <a:pt x="383" y="1038"/>
                </a:lnTo>
                <a:lnTo>
                  <a:pt x="381" y="1082"/>
                </a:lnTo>
                <a:lnTo>
                  <a:pt x="378" y="1127"/>
                </a:lnTo>
                <a:lnTo>
                  <a:pt x="377" y="1170"/>
                </a:lnTo>
                <a:lnTo>
                  <a:pt x="377" y="1213"/>
                </a:lnTo>
                <a:lnTo>
                  <a:pt x="375" y="1255"/>
                </a:lnTo>
                <a:lnTo>
                  <a:pt x="374" y="1295"/>
                </a:lnTo>
                <a:lnTo>
                  <a:pt x="374" y="1334"/>
                </a:lnTo>
                <a:lnTo>
                  <a:pt x="374" y="1373"/>
                </a:lnTo>
                <a:lnTo>
                  <a:pt x="374" y="1411"/>
                </a:lnTo>
                <a:lnTo>
                  <a:pt x="374" y="1448"/>
                </a:lnTo>
                <a:lnTo>
                  <a:pt x="374" y="1483"/>
                </a:lnTo>
                <a:lnTo>
                  <a:pt x="374" y="1518"/>
                </a:lnTo>
                <a:lnTo>
                  <a:pt x="371" y="1536"/>
                </a:lnTo>
                <a:lnTo>
                  <a:pt x="370" y="1556"/>
                </a:lnTo>
                <a:lnTo>
                  <a:pt x="368" y="1578"/>
                </a:lnTo>
                <a:lnTo>
                  <a:pt x="367" y="1601"/>
                </a:lnTo>
                <a:lnTo>
                  <a:pt x="365" y="1626"/>
                </a:lnTo>
                <a:lnTo>
                  <a:pt x="364" y="1652"/>
                </a:lnTo>
                <a:lnTo>
                  <a:pt x="362" y="1681"/>
                </a:lnTo>
                <a:lnTo>
                  <a:pt x="361" y="1711"/>
                </a:lnTo>
                <a:lnTo>
                  <a:pt x="359" y="1745"/>
                </a:lnTo>
                <a:lnTo>
                  <a:pt x="359" y="1778"/>
                </a:lnTo>
                <a:lnTo>
                  <a:pt x="358" y="1814"/>
                </a:lnTo>
                <a:lnTo>
                  <a:pt x="357" y="1851"/>
                </a:lnTo>
                <a:lnTo>
                  <a:pt x="357" y="1890"/>
                </a:lnTo>
                <a:lnTo>
                  <a:pt x="355" y="1930"/>
                </a:lnTo>
                <a:lnTo>
                  <a:pt x="355" y="1972"/>
                </a:lnTo>
                <a:lnTo>
                  <a:pt x="355" y="2017"/>
                </a:lnTo>
                <a:lnTo>
                  <a:pt x="354" y="2063"/>
                </a:lnTo>
                <a:lnTo>
                  <a:pt x="354" y="2110"/>
                </a:lnTo>
                <a:lnTo>
                  <a:pt x="354" y="2159"/>
                </a:lnTo>
                <a:lnTo>
                  <a:pt x="352" y="2210"/>
                </a:lnTo>
                <a:lnTo>
                  <a:pt x="352" y="2261"/>
                </a:lnTo>
                <a:lnTo>
                  <a:pt x="352" y="2315"/>
                </a:lnTo>
                <a:lnTo>
                  <a:pt x="352" y="2371"/>
                </a:lnTo>
                <a:lnTo>
                  <a:pt x="352" y="2428"/>
                </a:lnTo>
                <a:lnTo>
                  <a:pt x="352" y="2487"/>
                </a:lnTo>
                <a:lnTo>
                  <a:pt x="352" y="2546"/>
                </a:lnTo>
                <a:lnTo>
                  <a:pt x="352" y="2608"/>
                </a:lnTo>
                <a:lnTo>
                  <a:pt x="352" y="2673"/>
                </a:lnTo>
                <a:lnTo>
                  <a:pt x="352" y="2738"/>
                </a:lnTo>
                <a:lnTo>
                  <a:pt x="352" y="2804"/>
                </a:lnTo>
                <a:lnTo>
                  <a:pt x="352" y="2873"/>
                </a:lnTo>
                <a:lnTo>
                  <a:pt x="352" y="2942"/>
                </a:lnTo>
                <a:lnTo>
                  <a:pt x="351" y="3011"/>
                </a:lnTo>
                <a:lnTo>
                  <a:pt x="351" y="3079"/>
                </a:lnTo>
                <a:lnTo>
                  <a:pt x="351" y="3145"/>
                </a:lnTo>
                <a:lnTo>
                  <a:pt x="351" y="3210"/>
                </a:lnTo>
                <a:lnTo>
                  <a:pt x="349" y="3272"/>
                </a:lnTo>
                <a:lnTo>
                  <a:pt x="349" y="3331"/>
                </a:lnTo>
                <a:lnTo>
                  <a:pt x="348" y="3390"/>
                </a:lnTo>
                <a:lnTo>
                  <a:pt x="348" y="3446"/>
                </a:lnTo>
                <a:lnTo>
                  <a:pt x="347" y="3499"/>
                </a:lnTo>
                <a:lnTo>
                  <a:pt x="345" y="3553"/>
                </a:lnTo>
                <a:lnTo>
                  <a:pt x="344" y="3603"/>
                </a:lnTo>
                <a:lnTo>
                  <a:pt x="342" y="3651"/>
                </a:lnTo>
                <a:lnTo>
                  <a:pt x="341" y="3697"/>
                </a:lnTo>
                <a:lnTo>
                  <a:pt x="339" y="3741"/>
                </a:lnTo>
                <a:lnTo>
                  <a:pt x="338" y="3784"/>
                </a:lnTo>
                <a:lnTo>
                  <a:pt x="335" y="3825"/>
                </a:lnTo>
                <a:lnTo>
                  <a:pt x="334" y="3864"/>
                </a:lnTo>
                <a:lnTo>
                  <a:pt x="331" y="3900"/>
                </a:lnTo>
                <a:lnTo>
                  <a:pt x="329" y="3934"/>
                </a:lnTo>
                <a:lnTo>
                  <a:pt x="326" y="3967"/>
                </a:lnTo>
                <a:lnTo>
                  <a:pt x="323" y="3997"/>
                </a:lnTo>
                <a:lnTo>
                  <a:pt x="321" y="4026"/>
                </a:lnTo>
                <a:lnTo>
                  <a:pt x="318" y="4054"/>
                </a:lnTo>
                <a:lnTo>
                  <a:pt x="315" y="4078"/>
                </a:lnTo>
                <a:lnTo>
                  <a:pt x="312" y="4101"/>
                </a:lnTo>
                <a:lnTo>
                  <a:pt x="309" y="4121"/>
                </a:lnTo>
                <a:lnTo>
                  <a:pt x="306" y="4140"/>
                </a:lnTo>
                <a:lnTo>
                  <a:pt x="302" y="4157"/>
                </a:lnTo>
                <a:lnTo>
                  <a:pt x="299" y="4172"/>
                </a:lnTo>
                <a:lnTo>
                  <a:pt x="295" y="4185"/>
                </a:lnTo>
                <a:lnTo>
                  <a:pt x="292" y="4195"/>
                </a:lnTo>
                <a:lnTo>
                  <a:pt x="288" y="4205"/>
                </a:lnTo>
                <a:lnTo>
                  <a:pt x="276" y="4215"/>
                </a:lnTo>
                <a:lnTo>
                  <a:pt x="266" y="4226"/>
                </a:lnTo>
                <a:lnTo>
                  <a:pt x="256" y="4236"/>
                </a:lnTo>
                <a:lnTo>
                  <a:pt x="247" y="4245"/>
                </a:lnTo>
                <a:lnTo>
                  <a:pt x="239" y="4255"/>
                </a:lnTo>
                <a:lnTo>
                  <a:pt x="231" y="4264"/>
                </a:lnTo>
                <a:lnTo>
                  <a:pt x="224" y="4271"/>
                </a:lnTo>
                <a:lnTo>
                  <a:pt x="217" y="4278"/>
                </a:lnTo>
                <a:lnTo>
                  <a:pt x="211" y="4284"/>
                </a:lnTo>
                <a:lnTo>
                  <a:pt x="207" y="4290"/>
                </a:lnTo>
                <a:lnTo>
                  <a:pt x="201" y="4294"/>
                </a:lnTo>
                <a:lnTo>
                  <a:pt x="197" y="4298"/>
                </a:lnTo>
                <a:lnTo>
                  <a:pt x="192" y="4301"/>
                </a:lnTo>
                <a:lnTo>
                  <a:pt x="188" y="4304"/>
                </a:lnTo>
                <a:lnTo>
                  <a:pt x="184" y="4306"/>
                </a:lnTo>
                <a:lnTo>
                  <a:pt x="180" y="4306"/>
                </a:lnTo>
                <a:lnTo>
                  <a:pt x="175" y="4306"/>
                </a:lnTo>
                <a:lnTo>
                  <a:pt x="171" y="4304"/>
                </a:lnTo>
                <a:lnTo>
                  <a:pt x="165" y="4301"/>
                </a:lnTo>
                <a:lnTo>
                  <a:pt x="159" y="4298"/>
                </a:lnTo>
                <a:lnTo>
                  <a:pt x="154" y="4293"/>
                </a:lnTo>
                <a:lnTo>
                  <a:pt x="148" y="4287"/>
                </a:lnTo>
                <a:lnTo>
                  <a:pt x="142" y="4281"/>
                </a:lnTo>
                <a:lnTo>
                  <a:pt x="136" y="4272"/>
                </a:lnTo>
                <a:lnTo>
                  <a:pt x="131" y="4264"/>
                </a:lnTo>
                <a:lnTo>
                  <a:pt x="123" y="4254"/>
                </a:lnTo>
                <a:lnTo>
                  <a:pt x="118" y="4241"/>
                </a:lnTo>
                <a:lnTo>
                  <a:pt x="112" y="4228"/>
                </a:lnTo>
                <a:lnTo>
                  <a:pt x="108" y="4215"/>
                </a:lnTo>
                <a:lnTo>
                  <a:pt x="102" y="4199"/>
                </a:lnTo>
                <a:lnTo>
                  <a:pt x="97" y="4182"/>
                </a:lnTo>
                <a:lnTo>
                  <a:pt x="95" y="4173"/>
                </a:lnTo>
                <a:lnTo>
                  <a:pt x="93" y="4163"/>
                </a:lnTo>
                <a:lnTo>
                  <a:pt x="86" y="4144"/>
                </a:lnTo>
                <a:lnTo>
                  <a:pt x="79" y="4126"/>
                </a:lnTo>
                <a:lnTo>
                  <a:pt x="72" y="4108"/>
                </a:lnTo>
                <a:lnTo>
                  <a:pt x="66" y="4091"/>
                </a:lnTo>
                <a:lnTo>
                  <a:pt x="60" y="4074"/>
                </a:lnTo>
                <a:lnTo>
                  <a:pt x="54" y="4057"/>
                </a:lnTo>
                <a:lnTo>
                  <a:pt x="49" y="4041"/>
                </a:lnTo>
                <a:lnTo>
                  <a:pt x="44" y="4026"/>
                </a:lnTo>
                <a:lnTo>
                  <a:pt x="41" y="4010"/>
                </a:lnTo>
                <a:lnTo>
                  <a:pt x="37" y="3996"/>
                </a:lnTo>
                <a:lnTo>
                  <a:pt x="36" y="3982"/>
                </a:lnTo>
                <a:lnTo>
                  <a:pt x="33" y="3969"/>
                </a:lnTo>
                <a:lnTo>
                  <a:pt x="31" y="3956"/>
                </a:lnTo>
                <a:lnTo>
                  <a:pt x="30" y="3943"/>
                </a:lnTo>
                <a:lnTo>
                  <a:pt x="28" y="3931"/>
                </a:lnTo>
                <a:lnTo>
                  <a:pt x="28" y="3920"/>
                </a:lnTo>
                <a:lnTo>
                  <a:pt x="28" y="3913"/>
                </a:lnTo>
                <a:lnTo>
                  <a:pt x="28" y="3907"/>
                </a:lnTo>
                <a:lnTo>
                  <a:pt x="28" y="3900"/>
                </a:lnTo>
                <a:lnTo>
                  <a:pt x="30" y="3892"/>
                </a:lnTo>
                <a:lnTo>
                  <a:pt x="30" y="3884"/>
                </a:lnTo>
                <a:lnTo>
                  <a:pt x="31" y="3877"/>
                </a:lnTo>
                <a:lnTo>
                  <a:pt x="31" y="3868"/>
                </a:lnTo>
                <a:lnTo>
                  <a:pt x="33" y="3858"/>
                </a:lnTo>
                <a:lnTo>
                  <a:pt x="34" y="3848"/>
                </a:lnTo>
                <a:lnTo>
                  <a:pt x="36" y="3838"/>
                </a:lnTo>
                <a:lnTo>
                  <a:pt x="36" y="3828"/>
                </a:lnTo>
                <a:lnTo>
                  <a:pt x="37" y="3816"/>
                </a:lnTo>
                <a:lnTo>
                  <a:pt x="40" y="3805"/>
                </a:lnTo>
                <a:lnTo>
                  <a:pt x="41" y="3792"/>
                </a:lnTo>
                <a:lnTo>
                  <a:pt x="43" y="3780"/>
                </a:lnTo>
                <a:lnTo>
                  <a:pt x="44" y="3766"/>
                </a:lnTo>
                <a:lnTo>
                  <a:pt x="47" y="3753"/>
                </a:lnTo>
                <a:lnTo>
                  <a:pt x="49" y="3738"/>
                </a:lnTo>
                <a:lnTo>
                  <a:pt x="51" y="3724"/>
                </a:lnTo>
                <a:lnTo>
                  <a:pt x="54" y="3710"/>
                </a:lnTo>
                <a:lnTo>
                  <a:pt x="57" y="3694"/>
                </a:lnTo>
                <a:lnTo>
                  <a:pt x="60" y="3678"/>
                </a:lnTo>
                <a:lnTo>
                  <a:pt x="61" y="3661"/>
                </a:lnTo>
                <a:lnTo>
                  <a:pt x="66" y="3645"/>
                </a:lnTo>
                <a:lnTo>
                  <a:pt x="69" y="3626"/>
                </a:lnTo>
                <a:lnTo>
                  <a:pt x="72" y="3609"/>
                </a:lnTo>
                <a:lnTo>
                  <a:pt x="74" y="3590"/>
                </a:lnTo>
                <a:lnTo>
                  <a:pt x="79" y="3571"/>
                </a:lnTo>
                <a:lnTo>
                  <a:pt x="82" y="3553"/>
                </a:lnTo>
                <a:lnTo>
                  <a:pt x="86" y="3533"/>
                </a:lnTo>
                <a:lnTo>
                  <a:pt x="89" y="3512"/>
                </a:lnTo>
                <a:lnTo>
                  <a:pt x="93" y="3492"/>
                </a:lnTo>
                <a:lnTo>
                  <a:pt x="95" y="3469"/>
                </a:lnTo>
                <a:lnTo>
                  <a:pt x="97" y="3445"/>
                </a:lnTo>
                <a:lnTo>
                  <a:pt x="99" y="3419"/>
                </a:lnTo>
                <a:lnTo>
                  <a:pt x="102" y="3390"/>
                </a:lnTo>
                <a:lnTo>
                  <a:pt x="103" y="3358"/>
                </a:lnTo>
                <a:lnTo>
                  <a:pt x="105" y="3325"/>
                </a:lnTo>
                <a:lnTo>
                  <a:pt x="108" y="3289"/>
                </a:lnTo>
                <a:lnTo>
                  <a:pt x="109" y="3252"/>
                </a:lnTo>
                <a:lnTo>
                  <a:pt x="110" y="3211"/>
                </a:lnTo>
                <a:lnTo>
                  <a:pt x="113" y="3170"/>
                </a:lnTo>
                <a:lnTo>
                  <a:pt x="115" y="3125"/>
                </a:lnTo>
                <a:lnTo>
                  <a:pt x="118" y="3078"/>
                </a:lnTo>
                <a:lnTo>
                  <a:pt x="119" y="3029"/>
                </a:lnTo>
                <a:lnTo>
                  <a:pt x="122" y="2977"/>
                </a:lnTo>
                <a:lnTo>
                  <a:pt x="123" y="2924"/>
                </a:lnTo>
                <a:lnTo>
                  <a:pt x="125" y="2869"/>
                </a:lnTo>
                <a:lnTo>
                  <a:pt x="128" y="2811"/>
                </a:lnTo>
                <a:lnTo>
                  <a:pt x="129" y="2751"/>
                </a:lnTo>
                <a:lnTo>
                  <a:pt x="132" y="2689"/>
                </a:lnTo>
                <a:lnTo>
                  <a:pt x="133" y="2624"/>
                </a:lnTo>
                <a:lnTo>
                  <a:pt x="135" y="2558"/>
                </a:lnTo>
                <a:lnTo>
                  <a:pt x="138" y="2489"/>
                </a:lnTo>
                <a:lnTo>
                  <a:pt x="139" y="2417"/>
                </a:lnTo>
                <a:lnTo>
                  <a:pt x="142" y="2345"/>
                </a:lnTo>
                <a:lnTo>
                  <a:pt x="144" y="2269"/>
                </a:lnTo>
                <a:lnTo>
                  <a:pt x="146" y="2192"/>
                </a:lnTo>
                <a:lnTo>
                  <a:pt x="148" y="2112"/>
                </a:lnTo>
                <a:lnTo>
                  <a:pt x="149" y="2030"/>
                </a:lnTo>
                <a:lnTo>
                  <a:pt x="152" y="1946"/>
                </a:lnTo>
                <a:lnTo>
                  <a:pt x="154" y="1860"/>
                </a:lnTo>
                <a:lnTo>
                  <a:pt x="157" y="1772"/>
                </a:lnTo>
                <a:lnTo>
                  <a:pt x="158" y="1681"/>
                </a:lnTo>
                <a:lnTo>
                  <a:pt x="158" y="1593"/>
                </a:lnTo>
                <a:lnTo>
                  <a:pt x="158" y="1507"/>
                </a:lnTo>
                <a:lnTo>
                  <a:pt x="158" y="1423"/>
                </a:lnTo>
                <a:lnTo>
                  <a:pt x="157" y="1343"/>
                </a:lnTo>
                <a:lnTo>
                  <a:pt x="157" y="1265"/>
                </a:lnTo>
                <a:lnTo>
                  <a:pt x="155" y="1190"/>
                </a:lnTo>
                <a:lnTo>
                  <a:pt x="155" y="1118"/>
                </a:lnTo>
                <a:lnTo>
                  <a:pt x="154" y="1048"/>
                </a:lnTo>
                <a:lnTo>
                  <a:pt x="152" y="980"/>
                </a:lnTo>
                <a:lnTo>
                  <a:pt x="151" y="915"/>
                </a:lnTo>
                <a:lnTo>
                  <a:pt x="149" y="853"/>
                </a:lnTo>
                <a:lnTo>
                  <a:pt x="148" y="794"/>
                </a:lnTo>
                <a:lnTo>
                  <a:pt x="145" y="737"/>
                </a:lnTo>
                <a:lnTo>
                  <a:pt x="144" y="684"/>
                </a:lnTo>
                <a:lnTo>
                  <a:pt x="141" y="632"/>
                </a:lnTo>
                <a:lnTo>
                  <a:pt x="139" y="583"/>
                </a:lnTo>
                <a:lnTo>
                  <a:pt x="136" y="537"/>
                </a:lnTo>
                <a:lnTo>
                  <a:pt x="133" y="492"/>
                </a:lnTo>
                <a:lnTo>
                  <a:pt x="131" y="452"/>
                </a:lnTo>
                <a:lnTo>
                  <a:pt x="128" y="413"/>
                </a:lnTo>
                <a:lnTo>
                  <a:pt x="123" y="377"/>
                </a:lnTo>
                <a:lnTo>
                  <a:pt x="121" y="344"/>
                </a:lnTo>
                <a:lnTo>
                  <a:pt x="116" y="314"/>
                </a:lnTo>
                <a:lnTo>
                  <a:pt x="112" y="285"/>
                </a:lnTo>
                <a:lnTo>
                  <a:pt x="108" y="259"/>
                </a:lnTo>
                <a:lnTo>
                  <a:pt x="103" y="237"/>
                </a:lnTo>
                <a:lnTo>
                  <a:pt x="99" y="217"/>
                </a:lnTo>
                <a:lnTo>
                  <a:pt x="93" y="200"/>
                </a:lnTo>
                <a:lnTo>
                  <a:pt x="89" y="184"/>
                </a:lnTo>
                <a:lnTo>
                  <a:pt x="83" y="172"/>
                </a:lnTo>
                <a:lnTo>
                  <a:pt x="77" y="162"/>
                </a:lnTo>
                <a:lnTo>
                  <a:pt x="72" y="155"/>
                </a:lnTo>
                <a:lnTo>
                  <a:pt x="60" y="144"/>
                </a:lnTo>
                <a:lnTo>
                  <a:pt x="50" y="134"/>
                </a:lnTo>
                <a:lnTo>
                  <a:pt x="40" y="122"/>
                </a:lnTo>
                <a:lnTo>
                  <a:pt x="31" y="112"/>
                </a:lnTo>
                <a:lnTo>
                  <a:pt x="24" y="103"/>
                </a:lnTo>
                <a:lnTo>
                  <a:pt x="17" y="93"/>
                </a:lnTo>
                <a:lnTo>
                  <a:pt x="13" y="85"/>
                </a:lnTo>
                <a:lnTo>
                  <a:pt x="7" y="76"/>
                </a:lnTo>
                <a:lnTo>
                  <a:pt x="4" y="67"/>
                </a:lnTo>
                <a:lnTo>
                  <a:pt x="1" y="59"/>
                </a:lnTo>
                <a:lnTo>
                  <a:pt x="0" y="52"/>
                </a:lnTo>
                <a:lnTo>
                  <a:pt x="0" y="43"/>
                </a:lnTo>
                <a:lnTo>
                  <a:pt x="0" y="36"/>
                </a:lnTo>
                <a:lnTo>
                  <a:pt x="1" y="29"/>
                </a:lnTo>
                <a:lnTo>
                  <a:pt x="4" y="20"/>
                </a:lnTo>
                <a:lnTo>
                  <a:pt x="7" y="13"/>
                </a:lnTo>
                <a:lnTo>
                  <a:pt x="10" y="11"/>
                </a:lnTo>
                <a:lnTo>
                  <a:pt x="13" y="8"/>
                </a:lnTo>
                <a:lnTo>
                  <a:pt x="15" y="7"/>
                </a:lnTo>
                <a:lnTo>
                  <a:pt x="18" y="5"/>
                </a:lnTo>
                <a:lnTo>
                  <a:pt x="23" y="4"/>
                </a:lnTo>
                <a:lnTo>
                  <a:pt x="28" y="4"/>
                </a:lnTo>
                <a:lnTo>
                  <a:pt x="33" y="3"/>
                </a:lnTo>
                <a:lnTo>
                  <a:pt x="38" y="1"/>
                </a:lnTo>
                <a:lnTo>
                  <a:pt x="44" y="1"/>
                </a:lnTo>
                <a:lnTo>
                  <a:pt x="51" y="0"/>
                </a:lnTo>
                <a:lnTo>
                  <a:pt x="59" y="0"/>
                </a:lnTo>
                <a:lnTo>
                  <a:pt x="66" y="0"/>
                </a:lnTo>
                <a:lnTo>
                  <a:pt x="73" y="0"/>
                </a:lnTo>
                <a:lnTo>
                  <a:pt x="82" y="0"/>
                </a:lnTo>
                <a:lnTo>
                  <a:pt x="90" y="1"/>
                </a:lnTo>
                <a:lnTo>
                  <a:pt x="99" y="1"/>
                </a:lnTo>
                <a:lnTo>
                  <a:pt x="108" y="3"/>
                </a:lnTo>
                <a:lnTo>
                  <a:pt x="118" y="4"/>
                </a:lnTo>
                <a:lnTo>
                  <a:pt x="128" y="5"/>
                </a:lnTo>
                <a:lnTo>
                  <a:pt x="138" y="7"/>
                </a:lnTo>
                <a:lnTo>
                  <a:pt x="159" y="13"/>
                </a:lnTo>
                <a:lnTo>
                  <a:pt x="182" y="17"/>
                </a:lnTo>
                <a:lnTo>
                  <a:pt x="207" y="24"/>
                </a:lnTo>
                <a:lnTo>
                  <a:pt x="233" y="33"/>
                </a:lnTo>
                <a:lnTo>
                  <a:pt x="260" y="41"/>
                </a:lnTo>
                <a:lnTo>
                  <a:pt x="273" y="47"/>
                </a:lnTo>
                <a:lnTo>
                  <a:pt x="288" y="53"/>
                </a:lnTo>
                <a:lnTo>
                  <a:pt x="302" y="59"/>
                </a:lnTo>
                <a:lnTo>
                  <a:pt x="315" y="64"/>
                </a:lnTo>
                <a:lnTo>
                  <a:pt x="328" y="70"/>
                </a:lnTo>
                <a:lnTo>
                  <a:pt x="339" y="76"/>
                </a:lnTo>
                <a:lnTo>
                  <a:pt x="352" y="82"/>
                </a:lnTo>
                <a:lnTo>
                  <a:pt x="364" y="88"/>
                </a:lnTo>
                <a:lnTo>
                  <a:pt x="374" y="93"/>
                </a:lnTo>
                <a:lnTo>
                  <a:pt x="384" y="99"/>
                </a:lnTo>
                <a:lnTo>
                  <a:pt x="394" y="105"/>
                </a:lnTo>
                <a:lnTo>
                  <a:pt x="404" y="111"/>
                </a:lnTo>
                <a:lnTo>
                  <a:pt x="413" y="116"/>
                </a:lnTo>
                <a:lnTo>
                  <a:pt x="421" y="122"/>
                </a:lnTo>
                <a:lnTo>
                  <a:pt x="430" y="126"/>
                </a:lnTo>
                <a:lnTo>
                  <a:pt x="437" y="132"/>
                </a:lnTo>
                <a:lnTo>
                  <a:pt x="444" y="138"/>
                </a:lnTo>
                <a:lnTo>
                  <a:pt x="452" y="142"/>
                </a:lnTo>
                <a:lnTo>
                  <a:pt x="457" y="148"/>
                </a:lnTo>
                <a:lnTo>
                  <a:pt x="463" y="152"/>
                </a:lnTo>
                <a:lnTo>
                  <a:pt x="469" y="158"/>
                </a:lnTo>
                <a:lnTo>
                  <a:pt x="475" y="162"/>
                </a:lnTo>
                <a:lnTo>
                  <a:pt x="479" y="168"/>
                </a:lnTo>
                <a:lnTo>
                  <a:pt x="483" y="172"/>
                </a:lnTo>
                <a:lnTo>
                  <a:pt x="488" y="177"/>
                </a:lnTo>
                <a:lnTo>
                  <a:pt x="490" y="183"/>
                </a:lnTo>
                <a:lnTo>
                  <a:pt x="493" y="187"/>
                </a:lnTo>
                <a:lnTo>
                  <a:pt x="496" y="191"/>
                </a:lnTo>
                <a:lnTo>
                  <a:pt x="498" y="196"/>
                </a:lnTo>
                <a:lnTo>
                  <a:pt x="499" y="200"/>
                </a:lnTo>
                <a:lnTo>
                  <a:pt x="501" y="204"/>
                </a:lnTo>
                <a:lnTo>
                  <a:pt x="502" y="208"/>
                </a:lnTo>
                <a:lnTo>
                  <a:pt x="502" y="211"/>
                </a:lnTo>
                <a:lnTo>
                  <a:pt x="503" y="216"/>
                </a:lnTo>
                <a:lnTo>
                  <a:pt x="502" y="227"/>
                </a:lnTo>
                <a:lnTo>
                  <a:pt x="502" y="237"/>
                </a:lnTo>
                <a:lnTo>
                  <a:pt x="501" y="249"/>
                </a:lnTo>
                <a:lnTo>
                  <a:pt x="499" y="259"/>
                </a:lnTo>
                <a:lnTo>
                  <a:pt x="498" y="269"/>
                </a:lnTo>
                <a:lnTo>
                  <a:pt x="495" y="278"/>
                </a:lnTo>
                <a:lnTo>
                  <a:pt x="489" y="298"/>
                </a:lnTo>
                <a:lnTo>
                  <a:pt x="483" y="316"/>
                </a:lnTo>
                <a:lnTo>
                  <a:pt x="476" y="335"/>
                </a:lnTo>
                <a:lnTo>
                  <a:pt x="472" y="345"/>
                </a:lnTo>
                <a:lnTo>
                  <a:pt x="467" y="357"/>
                </a:lnTo>
                <a:lnTo>
                  <a:pt x="463" y="367"/>
                </a:lnTo>
                <a:lnTo>
                  <a:pt x="460" y="3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83"/>
          <p:cNvSpPr/>
          <p:nvPr/>
        </p:nvSpPr>
        <p:spPr>
          <a:xfrm>
            <a:off x="6908760" y="2836800"/>
            <a:ext cx="536760" cy="779400"/>
          </a:xfrm>
          <a:custGeom>
            <a:avLst/>
            <a:gdLst/>
            <a:ahLst/>
            <a:rect l="l" t="t" r="r" b="b"/>
            <a:pathLst>
              <a:path w="1014" h="1474">
                <a:moveTo>
                  <a:pt x="540" y="396"/>
                </a:moveTo>
                <a:lnTo>
                  <a:pt x="546" y="382"/>
                </a:lnTo>
                <a:lnTo>
                  <a:pt x="550" y="369"/>
                </a:lnTo>
                <a:lnTo>
                  <a:pt x="560" y="344"/>
                </a:lnTo>
                <a:lnTo>
                  <a:pt x="569" y="320"/>
                </a:lnTo>
                <a:lnTo>
                  <a:pt x="576" y="297"/>
                </a:lnTo>
                <a:lnTo>
                  <a:pt x="580" y="274"/>
                </a:lnTo>
                <a:lnTo>
                  <a:pt x="585" y="253"/>
                </a:lnTo>
                <a:lnTo>
                  <a:pt x="587" y="233"/>
                </a:lnTo>
                <a:lnTo>
                  <a:pt x="590" y="215"/>
                </a:lnTo>
                <a:lnTo>
                  <a:pt x="590" y="197"/>
                </a:lnTo>
                <a:lnTo>
                  <a:pt x="589" y="180"/>
                </a:lnTo>
                <a:lnTo>
                  <a:pt x="587" y="166"/>
                </a:lnTo>
                <a:lnTo>
                  <a:pt x="585" y="151"/>
                </a:lnTo>
                <a:lnTo>
                  <a:pt x="580" y="140"/>
                </a:lnTo>
                <a:lnTo>
                  <a:pt x="574" y="128"/>
                </a:lnTo>
                <a:lnTo>
                  <a:pt x="569" y="118"/>
                </a:lnTo>
                <a:lnTo>
                  <a:pt x="562" y="111"/>
                </a:lnTo>
                <a:lnTo>
                  <a:pt x="554" y="107"/>
                </a:lnTo>
                <a:lnTo>
                  <a:pt x="550" y="102"/>
                </a:lnTo>
                <a:lnTo>
                  <a:pt x="544" y="99"/>
                </a:lnTo>
                <a:lnTo>
                  <a:pt x="540" y="95"/>
                </a:lnTo>
                <a:lnTo>
                  <a:pt x="531" y="88"/>
                </a:lnTo>
                <a:lnTo>
                  <a:pt x="524" y="79"/>
                </a:lnTo>
                <a:lnTo>
                  <a:pt x="518" y="72"/>
                </a:lnTo>
                <a:lnTo>
                  <a:pt x="514" y="65"/>
                </a:lnTo>
                <a:lnTo>
                  <a:pt x="511" y="59"/>
                </a:lnTo>
                <a:lnTo>
                  <a:pt x="510" y="52"/>
                </a:lnTo>
                <a:lnTo>
                  <a:pt x="510" y="45"/>
                </a:lnTo>
                <a:lnTo>
                  <a:pt x="510" y="39"/>
                </a:lnTo>
                <a:lnTo>
                  <a:pt x="513" y="33"/>
                </a:lnTo>
                <a:lnTo>
                  <a:pt x="515" y="27"/>
                </a:lnTo>
                <a:lnTo>
                  <a:pt x="520" y="22"/>
                </a:lnTo>
                <a:lnTo>
                  <a:pt x="526" y="17"/>
                </a:lnTo>
                <a:lnTo>
                  <a:pt x="531" y="13"/>
                </a:lnTo>
                <a:lnTo>
                  <a:pt x="540" y="9"/>
                </a:lnTo>
                <a:lnTo>
                  <a:pt x="541" y="7"/>
                </a:lnTo>
                <a:lnTo>
                  <a:pt x="544" y="6"/>
                </a:lnTo>
                <a:lnTo>
                  <a:pt x="547" y="4"/>
                </a:lnTo>
                <a:lnTo>
                  <a:pt x="550" y="3"/>
                </a:lnTo>
                <a:lnTo>
                  <a:pt x="554" y="1"/>
                </a:lnTo>
                <a:lnTo>
                  <a:pt x="559" y="1"/>
                </a:lnTo>
                <a:lnTo>
                  <a:pt x="563" y="1"/>
                </a:lnTo>
                <a:lnTo>
                  <a:pt x="567" y="0"/>
                </a:lnTo>
                <a:lnTo>
                  <a:pt x="573" y="0"/>
                </a:lnTo>
                <a:lnTo>
                  <a:pt x="579" y="1"/>
                </a:lnTo>
                <a:lnTo>
                  <a:pt x="585" y="1"/>
                </a:lnTo>
                <a:lnTo>
                  <a:pt x="590" y="3"/>
                </a:lnTo>
                <a:lnTo>
                  <a:pt x="597" y="3"/>
                </a:lnTo>
                <a:lnTo>
                  <a:pt x="605" y="4"/>
                </a:lnTo>
                <a:lnTo>
                  <a:pt x="612" y="6"/>
                </a:lnTo>
                <a:lnTo>
                  <a:pt x="621" y="7"/>
                </a:lnTo>
                <a:lnTo>
                  <a:pt x="628" y="10"/>
                </a:lnTo>
                <a:lnTo>
                  <a:pt x="636" y="12"/>
                </a:lnTo>
                <a:lnTo>
                  <a:pt x="646" y="14"/>
                </a:lnTo>
                <a:lnTo>
                  <a:pt x="655" y="17"/>
                </a:lnTo>
                <a:lnTo>
                  <a:pt x="665" y="20"/>
                </a:lnTo>
                <a:lnTo>
                  <a:pt x="675" y="23"/>
                </a:lnTo>
                <a:lnTo>
                  <a:pt x="685" y="27"/>
                </a:lnTo>
                <a:lnTo>
                  <a:pt x="697" y="30"/>
                </a:lnTo>
                <a:lnTo>
                  <a:pt x="708" y="35"/>
                </a:lnTo>
                <a:lnTo>
                  <a:pt x="720" y="39"/>
                </a:lnTo>
                <a:lnTo>
                  <a:pt x="731" y="43"/>
                </a:lnTo>
                <a:lnTo>
                  <a:pt x="744" y="48"/>
                </a:lnTo>
                <a:lnTo>
                  <a:pt x="757" y="53"/>
                </a:lnTo>
                <a:lnTo>
                  <a:pt x="770" y="58"/>
                </a:lnTo>
                <a:lnTo>
                  <a:pt x="783" y="63"/>
                </a:lnTo>
                <a:lnTo>
                  <a:pt x="798" y="69"/>
                </a:lnTo>
                <a:lnTo>
                  <a:pt x="812" y="76"/>
                </a:lnTo>
                <a:lnTo>
                  <a:pt x="825" y="85"/>
                </a:lnTo>
                <a:lnTo>
                  <a:pt x="838" y="92"/>
                </a:lnTo>
                <a:lnTo>
                  <a:pt x="849" y="99"/>
                </a:lnTo>
                <a:lnTo>
                  <a:pt x="862" y="107"/>
                </a:lnTo>
                <a:lnTo>
                  <a:pt x="874" y="114"/>
                </a:lnTo>
                <a:lnTo>
                  <a:pt x="884" y="120"/>
                </a:lnTo>
                <a:lnTo>
                  <a:pt x="895" y="127"/>
                </a:lnTo>
                <a:lnTo>
                  <a:pt x="904" y="134"/>
                </a:lnTo>
                <a:lnTo>
                  <a:pt x="914" y="140"/>
                </a:lnTo>
                <a:lnTo>
                  <a:pt x="923" y="147"/>
                </a:lnTo>
                <a:lnTo>
                  <a:pt x="931" y="153"/>
                </a:lnTo>
                <a:lnTo>
                  <a:pt x="940" y="158"/>
                </a:lnTo>
                <a:lnTo>
                  <a:pt x="947" y="166"/>
                </a:lnTo>
                <a:lnTo>
                  <a:pt x="954" y="171"/>
                </a:lnTo>
                <a:lnTo>
                  <a:pt x="962" y="177"/>
                </a:lnTo>
                <a:lnTo>
                  <a:pt x="969" y="183"/>
                </a:lnTo>
                <a:lnTo>
                  <a:pt x="975" y="187"/>
                </a:lnTo>
                <a:lnTo>
                  <a:pt x="980" y="193"/>
                </a:lnTo>
                <a:lnTo>
                  <a:pt x="985" y="199"/>
                </a:lnTo>
                <a:lnTo>
                  <a:pt x="989" y="203"/>
                </a:lnTo>
                <a:lnTo>
                  <a:pt x="993" y="209"/>
                </a:lnTo>
                <a:lnTo>
                  <a:pt x="998" y="213"/>
                </a:lnTo>
                <a:lnTo>
                  <a:pt x="1001" y="219"/>
                </a:lnTo>
                <a:lnTo>
                  <a:pt x="1003" y="223"/>
                </a:lnTo>
                <a:lnTo>
                  <a:pt x="1006" y="227"/>
                </a:lnTo>
                <a:lnTo>
                  <a:pt x="1009" y="232"/>
                </a:lnTo>
                <a:lnTo>
                  <a:pt x="1011" y="236"/>
                </a:lnTo>
                <a:lnTo>
                  <a:pt x="1012" y="240"/>
                </a:lnTo>
                <a:lnTo>
                  <a:pt x="1012" y="245"/>
                </a:lnTo>
                <a:lnTo>
                  <a:pt x="1014" y="249"/>
                </a:lnTo>
                <a:lnTo>
                  <a:pt x="1014" y="253"/>
                </a:lnTo>
                <a:lnTo>
                  <a:pt x="1009" y="261"/>
                </a:lnTo>
                <a:lnTo>
                  <a:pt x="1005" y="271"/>
                </a:lnTo>
                <a:lnTo>
                  <a:pt x="999" y="281"/>
                </a:lnTo>
                <a:lnTo>
                  <a:pt x="993" y="291"/>
                </a:lnTo>
                <a:lnTo>
                  <a:pt x="988" y="304"/>
                </a:lnTo>
                <a:lnTo>
                  <a:pt x="980" y="317"/>
                </a:lnTo>
                <a:lnTo>
                  <a:pt x="973" y="331"/>
                </a:lnTo>
                <a:lnTo>
                  <a:pt x="965" y="347"/>
                </a:lnTo>
                <a:lnTo>
                  <a:pt x="956" y="363"/>
                </a:lnTo>
                <a:lnTo>
                  <a:pt x="947" y="382"/>
                </a:lnTo>
                <a:lnTo>
                  <a:pt x="939" y="400"/>
                </a:lnTo>
                <a:lnTo>
                  <a:pt x="929" y="422"/>
                </a:lnTo>
                <a:lnTo>
                  <a:pt x="919" y="443"/>
                </a:lnTo>
                <a:lnTo>
                  <a:pt x="907" y="466"/>
                </a:lnTo>
                <a:lnTo>
                  <a:pt x="895" y="491"/>
                </a:lnTo>
                <a:lnTo>
                  <a:pt x="890" y="504"/>
                </a:lnTo>
                <a:lnTo>
                  <a:pt x="884" y="517"/>
                </a:lnTo>
                <a:lnTo>
                  <a:pt x="875" y="531"/>
                </a:lnTo>
                <a:lnTo>
                  <a:pt x="867" y="546"/>
                </a:lnTo>
                <a:lnTo>
                  <a:pt x="855" y="561"/>
                </a:lnTo>
                <a:lnTo>
                  <a:pt x="844" y="579"/>
                </a:lnTo>
                <a:lnTo>
                  <a:pt x="831" y="596"/>
                </a:lnTo>
                <a:lnTo>
                  <a:pt x="818" y="615"/>
                </a:lnTo>
                <a:lnTo>
                  <a:pt x="803" y="633"/>
                </a:lnTo>
                <a:lnTo>
                  <a:pt x="788" y="655"/>
                </a:lnTo>
                <a:lnTo>
                  <a:pt x="770" y="677"/>
                </a:lnTo>
                <a:lnTo>
                  <a:pt x="753" y="700"/>
                </a:lnTo>
                <a:lnTo>
                  <a:pt x="734" y="723"/>
                </a:lnTo>
                <a:lnTo>
                  <a:pt x="714" y="747"/>
                </a:lnTo>
                <a:lnTo>
                  <a:pt x="694" y="773"/>
                </a:lnTo>
                <a:lnTo>
                  <a:pt x="672" y="800"/>
                </a:lnTo>
                <a:lnTo>
                  <a:pt x="651" y="828"/>
                </a:lnTo>
                <a:lnTo>
                  <a:pt x="626" y="857"/>
                </a:lnTo>
                <a:lnTo>
                  <a:pt x="602" y="887"/>
                </a:lnTo>
                <a:lnTo>
                  <a:pt x="577" y="919"/>
                </a:lnTo>
                <a:lnTo>
                  <a:pt x="551" y="950"/>
                </a:lnTo>
                <a:lnTo>
                  <a:pt x="524" y="983"/>
                </a:lnTo>
                <a:lnTo>
                  <a:pt x="495" y="1018"/>
                </a:lnTo>
                <a:lnTo>
                  <a:pt x="466" y="1054"/>
                </a:lnTo>
                <a:lnTo>
                  <a:pt x="436" y="1090"/>
                </a:lnTo>
                <a:lnTo>
                  <a:pt x="406" y="1127"/>
                </a:lnTo>
                <a:lnTo>
                  <a:pt x="374" y="1168"/>
                </a:lnTo>
                <a:lnTo>
                  <a:pt x="343" y="1208"/>
                </a:lnTo>
                <a:lnTo>
                  <a:pt x="310" y="1248"/>
                </a:lnTo>
                <a:lnTo>
                  <a:pt x="275" y="1291"/>
                </a:lnTo>
                <a:lnTo>
                  <a:pt x="239" y="1335"/>
                </a:lnTo>
                <a:lnTo>
                  <a:pt x="205" y="1379"/>
                </a:lnTo>
                <a:lnTo>
                  <a:pt x="167" y="1427"/>
                </a:lnTo>
                <a:lnTo>
                  <a:pt x="130" y="1474"/>
                </a:lnTo>
                <a:lnTo>
                  <a:pt x="0" y="1474"/>
                </a:lnTo>
                <a:lnTo>
                  <a:pt x="29" y="1421"/>
                </a:lnTo>
                <a:lnTo>
                  <a:pt x="58" y="1369"/>
                </a:lnTo>
                <a:lnTo>
                  <a:pt x="86" y="1319"/>
                </a:lnTo>
                <a:lnTo>
                  <a:pt x="112" y="1268"/>
                </a:lnTo>
                <a:lnTo>
                  <a:pt x="140" y="1221"/>
                </a:lnTo>
                <a:lnTo>
                  <a:pt x="164" y="1173"/>
                </a:lnTo>
                <a:lnTo>
                  <a:pt x="189" y="1129"/>
                </a:lnTo>
                <a:lnTo>
                  <a:pt x="213" y="1084"/>
                </a:lnTo>
                <a:lnTo>
                  <a:pt x="236" y="1041"/>
                </a:lnTo>
                <a:lnTo>
                  <a:pt x="258" y="999"/>
                </a:lnTo>
                <a:lnTo>
                  <a:pt x="279" y="957"/>
                </a:lnTo>
                <a:lnTo>
                  <a:pt x="300" y="919"/>
                </a:lnTo>
                <a:lnTo>
                  <a:pt x="320" y="880"/>
                </a:lnTo>
                <a:lnTo>
                  <a:pt x="338" y="844"/>
                </a:lnTo>
                <a:lnTo>
                  <a:pt x="356" y="808"/>
                </a:lnTo>
                <a:lnTo>
                  <a:pt x="373" y="773"/>
                </a:lnTo>
                <a:lnTo>
                  <a:pt x="390" y="740"/>
                </a:lnTo>
                <a:lnTo>
                  <a:pt x="405" y="708"/>
                </a:lnTo>
                <a:lnTo>
                  <a:pt x="420" y="678"/>
                </a:lnTo>
                <a:lnTo>
                  <a:pt x="433" y="648"/>
                </a:lnTo>
                <a:lnTo>
                  <a:pt x="448" y="621"/>
                </a:lnTo>
                <a:lnTo>
                  <a:pt x="459" y="593"/>
                </a:lnTo>
                <a:lnTo>
                  <a:pt x="471" y="567"/>
                </a:lnTo>
                <a:lnTo>
                  <a:pt x="482" y="543"/>
                </a:lnTo>
                <a:lnTo>
                  <a:pt x="492" y="520"/>
                </a:lnTo>
                <a:lnTo>
                  <a:pt x="501" y="498"/>
                </a:lnTo>
                <a:lnTo>
                  <a:pt x="510" y="478"/>
                </a:lnTo>
                <a:lnTo>
                  <a:pt x="517" y="459"/>
                </a:lnTo>
                <a:lnTo>
                  <a:pt x="524" y="441"/>
                </a:lnTo>
                <a:lnTo>
                  <a:pt x="530" y="425"/>
                </a:lnTo>
                <a:lnTo>
                  <a:pt x="534" y="409"/>
                </a:lnTo>
                <a:lnTo>
                  <a:pt x="540" y="3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84"/>
          <p:cNvSpPr/>
          <p:nvPr/>
        </p:nvSpPr>
        <p:spPr>
          <a:xfrm>
            <a:off x="6710400" y="3538440"/>
            <a:ext cx="198360" cy="1230480"/>
          </a:xfrm>
          <a:custGeom>
            <a:avLst/>
            <a:gdLst/>
            <a:ahLst/>
            <a:rect l="l" t="t" r="r" b="b"/>
            <a:pathLst>
              <a:path w="377" h="2325">
                <a:moveTo>
                  <a:pt x="33" y="168"/>
                </a:moveTo>
                <a:lnTo>
                  <a:pt x="24" y="153"/>
                </a:lnTo>
                <a:lnTo>
                  <a:pt x="19" y="138"/>
                </a:lnTo>
                <a:lnTo>
                  <a:pt x="13" y="124"/>
                </a:lnTo>
                <a:lnTo>
                  <a:pt x="9" y="111"/>
                </a:lnTo>
                <a:lnTo>
                  <a:pt x="4" y="98"/>
                </a:lnTo>
                <a:lnTo>
                  <a:pt x="3" y="86"/>
                </a:lnTo>
                <a:lnTo>
                  <a:pt x="1" y="75"/>
                </a:lnTo>
                <a:lnTo>
                  <a:pt x="0" y="63"/>
                </a:lnTo>
                <a:lnTo>
                  <a:pt x="1" y="53"/>
                </a:lnTo>
                <a:lnTo>
                  <a:pt x="3" y="45"/>
                </a:lnTo>
                <a:lnTo>
                  <a:pt x="4" y="36"/>
                </a:lnTo>
                <a:lnTo>
                  <a:pt x="9" y="27"/>
                </a:lnTo>
                <a:lnTo>
                  <a:pt x="13" y="20"/>
                </a:lnTo>
                <a:lnTo>
                  <a:pt x="19" y="14"/>
                </a:lnTo>
                <a:lnTo>
                  <a:pt x="24" y="10"/>
                </a:lnTo>
                <a:lnTo>
                  <a:pt x="33" y="6"/>
                </a:lnTo>
                <a:lnTo>
                  <a:pt x="34" y="3"/>
                </a:lnTo>
                <a:lnTo>
                  <a:pt x="37" y="1"/>
                </a:lnTo>
                <a:lnTo>
                  <a:pt x="42" y="1"/>
                </a:lnTo>
                <a:lnTo>
                  <a:pt x="45" y="0"/>
                </a:lnTo>
                <a:lnTo>
                  <a:pt x="50" y="0"/>
                </a:lnTo>
                <a:lnTo>
                  <a:pt x="55" y="0"/>
                </a:lnTo>
                <a:lnTo>
                  <a:pt x="62" y="0"/>
                </a:lnTo>
                <a:lnTo>
                  <a:pt x="68" y="0"/>
                </a:lnTo>
                <a:lnTo>
                  <a:pt x="75" y="1"/>
                </a:lnTo>
                <a:lnTo>
                  <a:pt x="82" y="3"/>
                </a:lnTo>
                <a:lnTo>
                  <a:pt x="91" y="4"/>
                </a:lnTo>
                <a:lnTo>
                  <a:pt x="99" y="6"/>
                </a:lnTo>
                <a:lnTo>
                  <a:pt x="109" y="9"/>
                </a:lnTo>
                <a:lnTo>
                  <a:pt x="119" y="11"/>
                </a:lnTo>
                <a:lnTo>
                  <a:pt x="129" y="14"/>
                </a:lnTo>
                <a:lnTo>
                  <a:pt x="140" y="17"/>
                </a:lnTo>
                <a:lnTo>
                  <a:pt x="151" y="20"/>
                </a:lnTo>
                <a:lnTo>
                  <a:pt x="163" y="24"/>
                </a:lnTo>
                <a:lnTo>
                  <a:pt x="176" y="29"/>
                </a:lnTo>
                <a:lnTo>
                  <a:pt x="189" y="33"/>
                </a:lnTo>
                <a:lnTo>
                  <a:pt x="201" y="37"/>
                </a:lnTo>
                <a:lnTo>
                  <a:pt x="216" y="42"/>
                </a:lnTo>
                <a:lnTo>
                  <a:pt x="230" y="47"/>
                </a:lnTo>
                <a:lnTo>
                  <a:pt x="245" y="53"/>
                </a:lnTo>
                <a:lnTo>
                  <a:pt x="259" y="59"/>
                </a:lnTo>
                <a:lnTo>
                  <a:pt x="275" y="65"/>
                </a:lnTo>
                <a:lnTo>
                  <a:pt x="291" y="70"/>
                </a:lnTo>
                <a:lnTo>
                  <a:pt x="308" y="78"/>
                </a:lnTo>
                <a:lnTo>
                  <a:pt x="324" y="85"/>
                </a:lnTo>
                <a:lnTo>
                  <a:pt x="341" y="92"/>
                </a:lnTo>
                <a:lnTo>
                  <a:pt x="360" y="99"/>
                </a:lnTo>
                <a:lnTo>
                  <a:pt x="377" y="106"/>
                </a:lnTo>
                <a:lnTo>
                  <a:pt x="377" y="232"/>
                </a:lnTo>
                <a:lnTo>
                  <a:pt x="377" y="354"/>
                </a:lnTo>
                <a:lnTo>
                  <a:pt x="377" y="472"/>
                </a:lnTo>
                <a:lnTo>
                  <a:pt x="377" y="587"/>
                </a:lnTo>
                <a:lnTo>
                  <a:pt x="377" y="698"/>
                </a:lnTo>
                <a:lnTo>
                  <a:pt x="377" y="805"/>
                </a:lnTo>
                <a:lnTo>
                  <a:pt x="377" y="908"/>
                </a:lnTo>
                <a:lnTo>
                  <a:pt x="377" y="1006"/>
                </a:lnTo>
                <a:lnTo>
                  <a:pt x="377" y="1103"/>
                </a:lnTo>
                <a:lnTo>
                  <a:pt x="377" y="1193"/>
                </a:lnTo>
                <a:lnTo>
                  <a:pt x="376" y="1281"/>
                </a:lnTo>
                <a:lnTo>
                  <a:pt x="376" y="1366"/>
                </a:lnTo>
                <a:lnTo>
                  <a:pt x="376" y="1445"/>
                </a:lnTo>
                <a:lnTo>
                  <a:pt x="376" y="1522"/>
                </a:lnTo>
                <a:lnTo>
                  <a:pt x="374" y="1595"/>
                </a:lnTo>
                <a:lnTo>
                  <a:pt x="374" y="1663"/>
                </a:lnTo>
                <a:lnTo>
                  <a:pt x="374" y="1727"/>
                </a:lnTo>
                <a:lnTo>
                  <a:pt x="373" y="1789"/>
                </a:lnTo>
                <a:lnTo>
                  <a:pt x="373" y="1845"/>
                </a:lnTo>
                <a:lnTo>
                  <a:pt x="371" y="1899"/>
                </a:lnTo>
                <a:lnTo>
                  <a:pt x="371" y="1949"/>
                </a:lnTo>
                <a:lnTo>
                  <a:pt x="370" y="1995"/>
                </a:lnTo>
                <a:lnTo>
                  <a:pt x="368" y="2037"/>
                </a:lnTo>
                <a:lnTo>
                  <a:pt x="368" y="2074"/>
                </a:lnTo>
                <a:lnTo>
                  <a:pt x="367" y="2109"/>
                </a:lnTo>
                <a:lnTo>
                  <a:pt x="366" y="2139"/>
                </a:lnTo>
                <a:lnTo>
                  <a:pt x="364" y="2167"/>
                </a:lnTo>
                <a:lnTo>
                  <a:pt x="363" y="2190"/>
                </a:lnTo>
                <a:lnTo>
                  <a:pt x="361" y="2208"/>
                </a:lnTo>
                <a:lnTo>
                  <a:pt x="360" y="2224"/>
                </a:lnTo>
                <a:lnTo>
                  <a:pt x="357" y="2236"/>
                </a:lnTo>
                <a:lnTo>
                  <a:pt x="355" y="2243"/>
                </a:lnTo>
                <a:lnTo>
                  <a:pt x="351" y="2254"/>
                </a:lnTo>
                <a:lnTo>
                  <a:pt x="348" y="2264"/>
                </a:lnTo>
                <a:lnTo>
                  <a:pt x="344" y="2273"/>
                </a:lnTo>
                <a:lnTo>
                  <a:pt x="340" y="2282"/>
                </a:lnTo>
                <a:lnTo>
                  <a:pt x="335" y="2289"/>
                </a:lnTo>
                <a:lnTo>
                  <a:pt x="331" y="2296"/>
                </a:lnTo>
                <a:lnTo>
                  <a:pt x="328" y="2302"/>
                </a:lnTo>
                <a:lnTo>
                  <a:pt x="324" y="2306"/>
                </a:lnTo>
                <a:lnTo>
                  <a:pt x="320" y="2310"/>
                </a:lnTo>
                <a:lnTo>
                  <a:pt x="315" y="2315"/>
                </a:lnTo>
                <a:lnTo>
                  <a:pt x="311" y="2318"/>
                </a:lnTo>
                <a:lnTo>
                  <a:pt x="307" y="2321"/>
                </a:lnTo>
                <a:lnTo>
                  <a:pt x="304" y="2322"/>
                </a:lnTo>
                <a:lnTo>
                  <a:pt x="299" y="2323"/>
                </a:lnTo>
                <a:lnTo>
                  <a:pt x="295" y="2323"/>
                </a:lnTo>
                <a:lnTo>
                  <a:pt x="291" y="2325"/>
                </a:lnTo>
                <a:lnTo>
                  <a:pt x="286" y="2323"/>
                </a:lnTo>
                <a:lnTo>
                  <a:pt x="282" y="2322"/>
                </a:lnTo>
                <a:lnTo>
                  <a:pt x="276" y="2321"/>
                </a:lnTo>
                <a:lnTo>
                  <a:pt x="271" y="2316"/>
                </a:lnTo>
                <a:lnTo>
                  <a:pt x="263" y="2312"/>
                </a:lnTo>
                <a:lnTo>
                  <a:pt x="258" y="2306"/>
                </a:lnTo>
                <a:lnTo>
                  <a:pt x="250" y="2299"/>
                </a:lnTo>
                <a:lnTo>
                  <a:pt x="242" y="2292"/>
                </a:lnTo>
                <a:lnTo>
                  <a:pt x="233" y="2283"/>
                </a:lnTo>
                <a:lnTo>
                  <a:pt x="225" y="2272"/>
                </a:lnTo>
                <a:lnTo>
                  <a:pt x="216" y="2260"/>
                </a:lnTo>
                <a:lnTo>
                  <a:pt x="206" y="2247"/>
                </a:lnTo>
                <a:lnTo>
                  <a:pt x="196" y="2233"/>
                </a:lnTo>
                <a:lnTo>
                  <a:pt x="184" y="2218"/>
                </a:lnTo>
                <a:lnTo>
                  <a:pt x="174" y="2201"/>
                </a:lnTo>
                <a:lnTo>
                  <a:pt x="168" y="2192"/>
                </a:lnTo>
                <a:lnTo>
                  <a:pt x="163" y="2182"/>
                </a:lnTo>
                <a:lnTo>
                  <a:pt x="155" y="2175"/>
                </a:lnTo>
                <a:lnTo>
                  <a:pt x="151" y="2167"/>
                </a:lnTo>
                <a:lnTo>
                  <a:pt x="141" y="2149"/>
                </a:lnTo>
                <a:lnTo>
                  <a:pt x="132" y="2131"/>
                </a:lnTo>
                <a:lnTo>
                  <a:pt x="125" y="2110"/>
                </a:lnTo>
                <a:lnTo>
                  <a:pt x="119" y="2089"/>
                </a:lnTo>
                <a:lnTo>
                  <a:pt x="115" y="2066"/>
                </a:lnTo>
                <a:lnTo>
                  <a:pt x="111" y="2041"/>
                </a:lnTo>
                <a:lnTo>
                  <a:pt x="108" y="2017"/>
                </a:lnTo>
                <a:lnTo>
                  <a:pt x="106" y="1991"/>
                </a:lnTo>
                <a:lnTo>
                  <a:pt x="106" y="1964"/>
                </a:lnTo>
                <a:lnTo>
                  <a:pt x="106" y="1935"/>
                </a:lnTo>
                <a:lnTo>
                  <a:pt x="108" y="1905"/>
                </a:lnTo>
                <a:lnTo>
                  <a:pt x="109" y="1874"/>
                </a:lnTo>
                <a:lnTo>
                  <a:pt x="112" y="1841"/>
                </a:lnTo>
                <a:lnTo>
                  <a:pt x="115" y="1809"/>
                </a:lnTo>
                <a:lnTo>
                  <a:pt x="119" y="1775"/>
                </a:lnTo>
                <a:lnTo>
                  <a:pt x="121" y="1758"/>
                </a:lnTo>
                <a:lnTo>
                  <a:pt x="122" y="1739"/>
                </a:lnTo>
                <a:lnTo>
                  <a:pt x="124" y="1720"/>
                </a:lnTo>
                <a:lnTo>
                  <a:pt x="125" y="1702"/>
                </a:lnTo>
                <a:lnTo>
                  <a:pt x="127" y="1681"/>
                </a:lnTo>
                <a:lnTo>
                  <a:pt x="128" y="1661"/>
                </a:lnTo>
                <a:lnTo>
                  <a:pt x="129" y="1640"/>
                </a:lnTo>
                <a:lnTo>
                  <a:pt x="131" y="1618"/>
                </a:lnTo>
                <a:lnTo>
                  <a:pt x="131" y="1595"/>
                </a:lnTo>
                <a:lnTo>
                  <a:pt x="132" y="1572"/>
                </a:lnTo>
                <a:lnTo>
                  <a:pt x="132" y="1549"/>
                </a:lnTo>
                <a:lnTo>
                  <a:pt x="134" y="1524"/>
                </a:lnTo>
                <a:lnTo>
                  <a:pt x="134" y="1499"/>
                </a:lnTo>
                <a:lnTo>
                  <a:pt x="134" y="1473"/>
                </a:lnTo>
                <a:lnTo>
                  <a:pt x="134" y="1447"/>
                </a:lnTo>
                <a:lnTo>
                  <a:pt x="134" y="1419"/>
                </a:lnTo>
                <a:lnTo>
                  <a:pt x="134" y="1391"/>
                </a:lnTo>
                <a:lnTo>
                  <a:pt x="134" y="1362"/>
                </a:lnTo>
                <a:lnTo>
                  <a:pt x="134" y="1333"/>
                </a:lnTo>
                <a:lnTo>
                  <a:pt x="134" y="1303"/>
                </a:lnTo>
                <a:lnTo>
                  <a:pt x="132" y="1271"/>
                </a:lnTo>
                <a:lnTo>
                  <a:pt x="132" y="1239"/>
                </a:lnTo>
                <a:lnTo>
                  <a:pt x="131" y="1208"/>
                </a:lnTo>
                <a:lnTo>
                  <a:pt x="131" y="1175"/>
                </a:lnTo>
                <a:lnTo>
                  <a:pt x="129" y="1140"/>
                </a:lnTo>
                <a:lnTo>
                  <a:pt x="128" y="1106"/>
                </a:lnTo>
                <a:lnTo>
                  <a:pt x="127" y="1070"/>
                </a:lnTo>
                <a:lnTo>
                  <a:pt x="125" y="1034"/>
                </a:lnTo>
                <a:lnTo>
                  <a:pt x="124" y="996"/>
                </a:lnTo>
                <a:lnTo>
                  <a:pt x="122" y="959"/>
                </a:lnTo>
                <a:lnTo>
                  <a:pt x="121" y="920"/>
                </a:lnTo>
                <a:lnTo>
                  <a:pt x="119" y="881"/>
                </a:lnTo>
                <a:lnTo>
                  <a:pt x="117" y="842"/>
                </a:lnTo>
                <a:lnTo>
                  <a:pt x="115" y="806"/>
                </a:lnTo>
                <a:lnTo>
                  <a:pt x="112" y="770"/>
                </a:lnTo>
                <a:lnTo>
                  <a:pt x="111" y="736"/>
                </a:lnTo>
                <a:lnTo>
                  <a:pt x="108" y="701"/>
                </a:lnTo>
                <a:lnTo>
                  <a:pt x="106" y="668"/>
                </a:lnTo>
                <a:lnTo>
                  <a:pt x="104" y="636"/>
                </a:lnTo>
                <a:lnTo>
                  <a:pt x="102" y="606"/>
                </a:lnTo>
                <a:lnTo>
                  <a:pt x="99" y="576"/>
                </a:lnTo>
                <a:lnTo>
                  <a:pt x="98" y="547"/>
                </a:lnTo>
                <a:lnTo>
                  <a:pt x="95" y="520"/>
                </a:lnTo>
                <a:lnTo>
                  <a:pt x="94" y="492"/>
                </a:lnTo>
                <a:lnTo>
                  <a:pt x="91" y="466"/>
                </a:lnTo>
                <a:lnTo>
                  <a:pt x="88" y="442"/>
                </a:lnTo>
                <a:lnTo>
                  <a:pt x="86" y="417"/>
                </a:lnTo>
                <a:lnTo>
                  <a:pt x="83" y="394"/>
                </a:lnTo>
                <a:lnTo>
                  <a:pt x="81" y="373"/>
                </a:lnTo>
                <a:lnTo>
                  <a:pt x="78" y="351"/>
                </a:lnTo>
                <a:lnTo>
                  <a:pt x="75" y="332"/>
                </a:lnTo>
                <a:lnTo>
                  <a:pt x="73" y="312"/>
                </a:lnTo>
                <a:lnTo>
                  <a:pt x="70" y="295"/>
                </a:lnTo>
                <a:lnTo>
                  <a:pt x="66" y="278"/>
                </a:lnTo>
                <a:lnTo>
                  <a:pt x="63" y="262"/>
                </a:lnTo>
                <a:lnTo>
                  <a:pt x="60" y="248"/>
                </a:lnTo>
                <a:lnTo>
                  <a:pt x="58" y="235"/>
                </a:lnTo>
                <a:lnTo>
                  <a:pt x="55" y="222"/>
                </a:lnTo>
                <a:lnTo>
                  <a:pt x="50" y="210"/>
                </a:lnTo>
                <a:lnTo>
                  <a:pt x="47" y="200"/>
                </a:lnTo>
                <a:lnTo>
                  <a:pt x="43" y="190"/>
                </a:lnTo>
                <a:lnTo>
                  <a:pt x="40" y="181"/>
                </a:lnTo>
                <a:lnTo>
                  <a:pt x="36" y="174"/>
                </a:lnTo>
                <a:lnTo>
                  <a:pt x="33" y="1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85"/>
          <p:cNvSpPr/>
          <p:nvPr/>
        </p:nvSpPr>
        <p:spPr>
          <a:xfrm>
            <a:off x="6875640" y="3432240"/>
            <a:ext cx="992160" cy="1476360"/>
          </a:xfrm>
          <a:custGeom>
            <a:avLst/>
            <a:gdLst/>
            <a:ahLst/>
            <a:rect l="l" t="t" r="r" b="b"/>
            <a:pathLst>
              <a:path w="1876" h="2789">
                <a:moveTo>
                  <a:pt x="1424" y="1669"/>
                </a:moveTo>
                <a:lnTo>
                  <a:pt x="1427" y="1626"/>
                </a:lnTo>
                <a:lnTo>
                  <a:pt x="1430" y="1582"/>
                </a:lnTo>
                <a:lnTo>
                  <a:pt x="1433" y="1536"/>
                </a:lnTo>
                <a:lnTo>
                  <a:pt x="1436" y="1490"/>
                </a:lnTo>
                <a:lnTo>
                  <a:pt x="1437" y="1443"/>
                </a:lnTo>
                <a:lnTo>
                  <a:pt x="1438" y="1394"/>
                </a:lnTo>
                <a:lnTo>
                  <a:pt x="1440" y="1343"/>
                </a:lnTo>
                <a:lnTo>
                  <a:pt x="1440" y="1293"/>
                </a:lnTo>
                <a:lnTo>
                  <a:pt x="1440" y="1241"/>
                </a:lnTo>
                <a:lnTo>
                  <a:pt x="1438" y="1188"/>
                </a:lnTo>
                <a:lnTo>
                  <a:pt x="1437" y="1135"/>
                </a:lnTo>
                <a:lnTo>
                  <a:pt x="1436" y="1080"/>
                </a:lnTo>
                <a:lnTo>
                  <a:pt x="1433" y="1025"/>
                </a:lnTo>
                <a:lnTo>
                  <a:pt x="1430" y="969"/>
                </a:lnTo>
                <a:lnTo>
                  <a:pt x="1427" y="913"/>
                </a:lnTo>
                <a:lnTo>
                  <a:pt x="1424" y="855"/>
                </a:lnTo>
                <a:lnTo>
                  <a:pt x="1421" y="827"/>
                </a:lnTo>
                <a:lnTo>
                  <a:pt x="1420" y="799"/>
                </a:lnTo>
                <a:lnTo>
                  <a:pt x="1417" y="773"/>
                </a:lnTo>
                <a:lnTo>
                  <a:pt x="1414" y="747"/>
                </a:lnTo>
                <a:lnTo>
                  <a:pt x="1412" y="723"/>
                </a:lnTo>
                <a:lnTo>
                  <a:pt x="1410" y="698"/>
                </a:lnTo>
                <a:lnTo>
                  <a:pt x="1407" y="675"/>
                </a:lnTo>
                <a:lnTo>
                  <a:pt x="1404" y="652"/>
                </a:lnTo>
                <a:lnTo>
                  <a:pt x="1401" y="631"/>
                </a:lnTo>
                <a:lnTo>
                  <a:pt x="1398" y="611"/>
                </a:lnTo>
                <a:lnTo>
                  <a:pt x="1395" y="590"/>
                </a:lnTo>
                <a:lnTo>
                  <a:pt x="1392" y="572"/>
                </a:lnTo>
                <a:lnTo>
                  <a:pt x="1389" y="553"/>
                </a:lnTo>
                <a:lnTo>
                  <a:pt x="1387" y="534"/>
                </a:lnTo>
                <a:lnTo>
                  <a:pt x="1384" y="519"/>
                </a:lnTo>
                <a:lnTo>
                  <a:pt x="1381" y="501"/>
                </a:lnTo>
                <a:lnTo>
                  <a:pt x="1378" y="487"/>
                </a:lnTo>
                <a:lnTo>
                  <a:pt x="1374" y="472"/>
                </a:lnTo>
                <a:lnTo>
                  <a:pt x="1371" y="458"/>
                </a:lnTo>
                <a:lnTo>
                  <a:pt x="1368" y="445"/>
                </a:lnTo>
                <a:lnTo>
                  <a:pt x="1365" y="432"/>
                </a:lnTo>
                <a:lnTo>
                  <a:pt x="1362" y="421"/>
                </a:lnTo>
                <a:lnTo>
                  <a:pt x="1359" y="411"/>
                </a:lnTo>
                <a:lnTo>
                  <a:pt x="1356" y="400"/>
                </a:lnTo>
                <a:lnTo>
                  <a:pt x="1353" y="392"/>
                </a:lnTo>
                <a:lnTo>
                  <a:pt x="1351" y="383"/>
                </a:lnTo>
                <a:lnTo>
                  <a:pt x="1349" y="375"/>
                </a:lnTo>
                <a:lnTo>
                  <a:pt x="1346" y="367"/>
                </a:lnTo>
                <a:lnTo>
                  <a:pt x="1343" y="362"/>
                </a:lnTo>
                <a:lnTo>
                  <a:pt x="1342" y="356"/>
                </a:lnTo>
                <a:lnTo>
                  <a:pt x="1339" y="350"/>
                </a:lnTo>
                <a:lnTo>
                  <a:pt x="1338" y="347"/>
                </a:lnTo>
                <a:lnTo>
                  <a:pt x="1329" y="339"/>
                </a:lnTo>
                <a:lnTo>
                  <a:pt x="1320" y="333"/>
                </a:lnTo>
                <a:lnTo>
                  <a:pt x="1310" y="326"/>
                </a:lnTo>
                <a:lnTo>
                  <a:pt x="1302" y="320"/>
                </a:lnTo>
                <a:lnTo>
                  <a:pt x="1292" y="314"/>
                </a:lnTo>
                <a:lnTo>
                  <a:pt x="1281" y="310"/>
                </a:lnTo>
                <a:lnTo>
                  <a:pt x="1270" y="304"/>
                </a:lnTo>
                <a:lnTo>
                  <a:pt x="1260" y="301"/>
                </a:lnTo>
                <a:lnTo>
                  <a:pt x="1248" y="297"/>
                </a:lnTo>
                <a:lnTo>
                  <a:pt x="1237" y="294"/>
                </a:lnTo>
                <a:lnTo>
                  <a:pt x="1225" y="291"/>
                </a:lnTo>
                <a:lnTo>
                  <a:pt x="1214" y="290"/>
                </a:lnTo>
                <a:lnTo>
                  <a:pt x="1201" y="288"/>
                </a:lnTo>
                <a:lnTo>
                  <a:pt x="1189" y="287"/>
                </a:lnTo>
                <a:lnTo>
                  <a:pt x="1176" y="285"/>
                </a:lnTo>
                <a:lnTo>
                  <a:pt x="1165" y="285"/>
                </a:lnTo>
                <a:lnTo>
                  <a:pt x="1156" y="285"/>
                </a:lnTo>
                <a:lnTo>
                  <a:pt x="1145" y="285"/>
                </a:lnTo>
                <a:lnTo>
                  <a:pt x="1133" y="287"/>
                </a:lnTo>
                <a:lnTo>
                  <a:pt x="1119" y="288"/>
                </a:lnTo>
                <a:lnTo>
                  <a:pt x="1103" y="290"/>
                </a:lnTo>
                <a:lnTo>
                  <a:pt x="1084" y="291"/>
                </a:lnTo>
                <a:lnTo>
                  <a:pt x="1066" y="294"/>
                </a:lnTo>
                <a:lnTo>
                  <a:pt x="1044" y="297"/>
                </a:lnTo>
                <a:lnTo>
                  <a:pt x="1021" y="300"/>
                </a:lnTo>
                <a:lnTo>
                  <a:pt x="995" y="303"/>
                </a:lnTo>
                <a:lnTo>
                  <a:pt x="969" y="305"/>
                </a:lnTo>
                <a:lnTo>
                  <a:pt x="940" y="310"/>
                </a:lnTo>
                <a:lnTo>
                  <a:pt x="910" y="314"/>
                </a:lnTo>
                <a:lnTo>
                  <a:pt x="878" y="318"/>
                </a:lnTo>
                <a:lnTo>
                  <a:pt x="844" y="323"/>
                </a:lnTo>
                <a:lnTo>
                  <a:pt x="809" y="328"/>
                </a:lnTo>
                <a:lnTo>
                  <a:pt x="772" y="333"/>
                </a:lnTo>
                <a:lnTo>
                  <a:pt x="733" y="339"/>
                </a:lnTo>
                <a:lnTo>
                  <a:pt x="691" y="344"/>
                </a:lnTo>
                <a:lnTo>
                  <a:pt x="650" y="352"/>
                </a:lnTo>
                <a:lnTo>
                  <a:pt x="605" y="357"/>
                </a:lnTo>
                <a:lnTo>
                  <a:pt x="559" y="364"/>
                </a:lnTo>
                <a:lnTo>
                  <a:pt x="511" y="372"/>
                </a:lnTo>
                <a:lnTo>
                  <a:pt x="461" y="379"/>
                </a:lnTo>
                <a:lnTo>
                  <a:pt x="409" y="386"/>
                </a:lnTo>
                <a:lnTo>
                  <a:pt x="356" y="395"/>
                </a:lnTo>
                <a:lnTo>
                  <a:pt x="301" y="403"/>
                </a:lnTo>
                <a:lnTo>
                  <a:pt x="245" y="411"/>
                </a:lnTo>
                <a:lnTo>
                  <a:pt x="186" y="421"/>
                </a:lnTo>
                <a:lnTo>
                  <a:pt x="126" y="429"/>
                </a:lnTo>
                <a:lnTo>
                  <a:pt x="64" y="438"/>
                </a:lnTo>
                <a:lnTo>
                  <a:pt x="0" y="448"/>
                </a:lnTo>
                <a:lnTo>
                  <a:pt x="0" y="367"/>
                </a:lnTo>
                <a:lnTo>
                  <a:pt x="0" y="285"/>
                </a:lnTo>
                <a:lnTo>
                  <a:pt x="15" y="285"/>
                </a:lnTo>
                <a:lnTo>
                  <a:pt x="29" y="285"/>
                </a:lnTo>
                <a:lnTo>
                  <a:pt x="45" y="284"/>
                </a:lnTo>
                <a:lnTo>
                  <a:pt x="61" y="284"/>
                </a:lnTo>
                <a:lnTo>
                  <a:pt x="78" y="282"/>
                </a:lnTo>
                <a:lnTo>
                  <a:pt x="94" y="281"/>
                </a:lnTo>
                <a:lnTo>
                  <a:pt x="113" y="280"/>
                </a:lnTo>
                <a:lnTo>
                  <a:pt x="130" y="278"/>
                </a:lnTo>
                <a:lnTo>
                  <a:pt x="149" y="277"/>
                </a:lnTo>
                <a:lnTo>
                  <a:pt x="167" y="274"/>
                </a:lnTo>
                <a:lnTo>
                  <a:pt x="187" y="272"/>
                </a:lnTo>
                <a:lnTo>
                  <a:pt x="206" y="269"/>
                </a:lnTo>
                <a:lnTo>
                  <a:pt x="228" y="267"/>
                </a:lnTo>
                <a:lnTo>
                  <a:pt x="248" y="264"/>
                </a:lnTo>
                <a:lnTo>
                  <a:pt x="270" y="261"/>
                </a:lnTo>
                <a:lnTo>
                  <a:pt x="291" y="258"/>
                </a:lnTo>
                <a:lnTo>
                  <a:pt x="314" y="255"/>
                </a:lnTo>
                <a:lnTo>
                  <a:pt x="337" y="251"/>
                </a:lnTo>
                <a:lnTo>
                  <a:pt x="360" y="246"/>
                </a:lnTo>
                <a:lnTo>
                  <a:pt x="385" y="244"/>
                </a:lnTo>
                <a:lnTo>
                  <a:pt x="409" y="239"/>
                </a:lnTo>
                <a:lnTo>
                  <a:pt x="434" y="235"/>
                </a:lnTo>
                <a:lnTo>
                  <a:pt x="460" y="231"/>
                </a:lnTo>
                <a:lnTo>
                  <a:pt x="485" y="226"/>
                </a:lnTo>
                <a:lnTo>
                  <a:pt x="513" y="221"/>
                </a:lnTo>
                <a:lnTo>
                  <a:pt x="540" y="216"/>
                </a:lnTo>
                <a:lnTo>
                  <a:pt x="567" y="210"/>
                </a:lnTo>
                <a:lnTo>
                  <a:pt x="595" y="206"/>
                </a:lnTo>
                <a:lnTo>
                  <a:pt x="624" y="200"/>
                </a:lnTo>
                <a:lnTo>
                  <a:pt x="652" y="195"/>
                </a:lnTo>
                <a:lnTo>
                  <a:pt x="683" y="190"/>
                </a:lnTo>
                <a:lnTo>
                  <a:pt x="713" y="185"/>
                </a:lnTo>
                <a:lnTo>
                  <a:pt x="740" y="177"/>
                </a:lnTo>
                <a:lnTo>
                  <a:pt x="768" y="173"/>
                </a:lnTo>
                <a:lnTo>
                  <a:pt x="793" y="167"/>
                </a:lnTo>
                <a:lnTo>
                  <a:pt x="819" y="161"/>
                </a:lnTo>
                <a:lnTo>
                  <a:pt x="844" y="156"/>
                </a:lnTo>
                <a:lnTo>
                  <a:pt x="868" y="151"/>
                </a:lnTo>
                <a:lnTo>
                  <a:pt x="891" y="146"/>
                </a:lnTo>
                <a:lnTo>
                  <a:pt x="914" y="141"/>
                </a:lnTo>
                <a:lnTo>
                  <a:pt x="936" y="136"/>
                </a:lnTo>
                <a:lnTo>
                  <a:pt x="958" y="131"/>
                </a:lnTo>
                <a:lnTo>
                  <a:pt x="978" y="127"/>
                </a:lnTo>
                <a:lnTo>
                  <a:pt x="996" y="123"/>
                </a:lnTo>
                <a:lnTo>
                  <a:pt x="1017" y="117"/>
                </a:lnTo>
                <a:lnTo>
                  <a:pt x="1034" y="113"/>
                </a:lnTo>
                <a:lnTo>
                  <a:pt x="1051" y="108"/>
                </a:lnTo>
                <a:lnTo>
                  <a:pt x="1068" y="104"/>
                </a:lnTo>
                <a:lnTo>
                  <a:pt x="1084" y="100"/>
                </a:lnTo>
                <a:lnTo>
                  <a:pt x="1099" y="97"/>
                </a:lnTo>
                <a:lnTo>
                  <a:pt x="1113" y="92"/>
                </a:lnTo>
                <a:lnTo>
                  <a:pt x="1126" y="88"/>
                </a:lnTo>
                <a:lnTo>
                  <a:pt x="1139" y="84"/>
                </a:lnTo>
                <a:lnTo>
                  <a:pt x="1152" y="79"/>
                </a:lnTo>
                <a:lnTo>
                  <a:pt x="1162" y="77"/>
                </a:lnTo>
                <a:lnTo>
                  <a:pt x="1174" y="72"/>
                </a:lnTo>
                <a:lnTo>
                  <a:pt x="1182" y="68"/>
                </a:lnTo>
                <a:lnTo>
                  <a:pt x="1192" y="65"/>
                </a:lnTo>
                <a:lnTo>
                  <a:pt x="1199" y="61"/>
                </a:lnTo>
                <a:lnTo>
                  <a:pt x="1208" y="56"/>
                </a:lnTo>
                <a:lnTo>
                  <a:pt x="1214" y="54"/>
                </a:lnTo>
                <a:lnTo>
                  <a:pt x="1220" y="49"/>
                </a:lnTo>
                <a:lnTo>
                  <a:pt x="1225" y="45"/>
                </a:lnTo>
                <a:lnTo>
                  <a:pt x="1230" y="42"/>
                </a:lnTo>
                <a:lnTo>
                  <a:pt x="1246" y="33"/>
                </a:lnTo>
                <a:lnTo>
                  <a:pt x="1261" y="26"/>
                </a:lnTo>
                <a:lnTo>
                  <a:pt x="1277" y="19"/>
                </a:lnTo>
                <a:lnTo>
                  <a:pt x="1294" y="13"/>
                </a:lnTo>
                <a:lnTo>
                  <a:pt x="1310" y="7"/>
                </a:lnTo>
                <a:lnTo>
                  <a:pt x="1326" y="3"/>
                </a:lnTo>
                <a:lnTo>
                  <a:pt x="1335" y="2"/>
                </a:lnTo>
                <a:lnTo>
                  <a:pt x="1342" y="2"/>
                </a:lnTo>
                <a:lnTo>
                  <a:pt x="1351" y="0"/>
                </a:lnTo>
                <a:lnTo>
                  <a:pt x="1359" y="0"/>
                </a:lnTo>
                <a:lnTo>
                  <a:pt x="1362" y="2"/>
                </a:lnTo>
                <a:lnTo>
                  <a:pt x="1368" y="5"/>
                </a:lnTo>
                <a:lnTo>
                  <a:pt x="1372" y="6"/>
                </a:lnTo>
                <a:lnTo>
                  <a:pt x="1378" y="9"/>
                </a:lnTo>
                <a:lnTo>
                  <a:pt x="1384" y="12"/>
                </a:lnTo>
                <a:lnTo>
                  <a:pt x="1389" y="15"/>
                </a:lnTo>
                <a:lnTo>
                  <a:pt x="1402" y="20"/>
                </a:lnTo>
                <a:lnTo>
                  <a:pt x="1417" y="26"/>
                </a:lnTo>
                <a:lnTo>
                  <a:pt x="1434" y="33"/>
                </a:lnTo>
                <a:lnTo>
                  <a:pt x="1451" y="41"/>
                </a:lnTo>
                <a:lnTo>
                  <a:pt x="1470" y="48"/>
                </a:lnTo>
                <a:lnTo>
                  <a:pt x="1489" y="58"/>
                </a:lnTo>
                <a:lnTo>
                  <a:pt x="1510" y="66"/>
                </a:lnTo>
                <a:lnTo>
                  <a:pt x="1533" y="78"/>
                </a:lnTo>
                <a:lnTo>
                  <a:pt x="1556" y="88"/>
                </a:lnTo>
                <a:lnTo>
                  <a:pt x="1581" y="101"/>
                </a:lnTo>
                <a:lnTo>
                  <a:pt x="1607" y="114"/>
                </a:lnTo>
                <a:lnTo>
                  <a:pt x="1633" y="128"/>
                </a:lnTo>
                <a:lnTo>
                  <a:pt x="1662" y="143"/>
                </a:lnTo>
                <a:lnTo>
                  <a:pt x="1674" y="153"/>
                </a:lnTo>
                <a:lnTo>
                  <a:pt x="1687" y="161"/>
                </a:lnTo>
                <a:lnTo>
                  <a:pt x="1700" y="170"/>
                </a:lnTo>
                <a:lnTo>
                  <a:pt x="1713" y="180"/>
                </a:lnTo>
                <a:lnTo>
                  <a:pt x="1725" y="189"/>
                </a:lnTo>
                <a:lnTo>
                  <a:pt x="1736" y="196"/>
                </a:lnTo>
                <a:lnTo>
                  <a:pt x="1748" y="205"/>
                </a:lnTo>
                <a:lnTo>
                  <a:pt x="1758" y="212"/>
                </a:lnTo>
                <a:lnTo>
                  <a:pt x="1768" y="221"/>
                </a:lnTo>
                <a:lnTo>
                  <a:pt x="1777" y="228"/>
                </a:lnTo>
                <a:lnTo>
                  <a:pt x="1787" y="233"/>
                </a:lnTo>
                <a:lnTo>
                  <a:pt x="1795" y="241"/>
                </a:lnTo>
                <a:lnTo>
                  <a:pt x="1803" y="248"/>
                </a:lnTo>
                <a:lnTo>
                  <a:pt x="1811" y="254"/>
                </a:lnTo>
                <a:lnTo>
                  <a:pt x="1818" y="259"/>
                </a:lnTo>
                <a:lnTo>
                  <a:pt x="1824" y="265"/>
                </a:lnTo>
                <a:lnTo>
                  <a:pt x="1831" y="271"/>
                </a:lnTo>
                <a:lnTo>
                  <a:pt x="1837" y="277"/>
                </a:lnTo>
                <a:lnTo>
                  <a:pt x="1843" y="281"/>
                </a:lnTo>
                <a:lnTo>
                  <a:pt x="1847" y="287"/>
                </a:lnTo>
                <a:lnTo>
                  <a:pt x="1852" y="291"/>
                </a:lnTo>
                <a:lnTo>
                  <a:pt x="1856" y="295"/>
                </a:lnTo>
                <a:lnTo>
                  <a:pt x="1860" y="300"/>
                </a:lnTo>
                <a:lnTo>
                  <a:pt x="1863" y="304"/>
                </a:lnTo>
                <a:lnTo>
                  <a:pt x="1866" y="307"/>
                </a:lnTo>
                <a:lnTo>
                  <a:pt x="1869" y="311"/>
                </a:lnTo>
                <a:lnTo>
                  <a:pt x="1872" y="314"/>
                </a:lnTo>
                <a:lnTo>
                  <a:pt x="1873" y="317"/>
                </a:lnTo>
                <a:lnTo>
                  <a:pt x="1875" y="320"/>
                </a:lnTo>
                <a:lnTo>
                  <a:pt x="1875" y="321"/>
                </a:lnTo>
                <a:lnTo>
                  <a:pt x="1876" y="324"/>
                </a:lnTo>
                <a:lnTo>
                  <a:pt x="1876" y="327"/>
                </a:lnTo>
                <a:lnTo>
                  <a:pt x="1876" y="334"/>
                </a:lnTo>
                <a:lnTo>
                  <a:pt x="1875" y="341"/>
                </a:lnTo>
                <a:lnTo>
                  <a:pt x="1873" y="349"/>
                </a:lnTo>
                <a:lnTo>
                  <a:pt x="1872" y="356"/>
                </a:lnTo>
                <a:lnTo>
                  <a:pt x="1870" y="363"/>
                </a:lnTo>
                <a:lnTo>
                  <a:pt x="1867" y="370"/>
                </a:lnTo>
                <a:lnTo>
                  <a:pt x="1863" y="377"/>
                </a:lnTo>
                <a:lnTo>
                  <a:pt x="1860" y="385"/>
                </a:lnTo>
                <a:lnTo>
                  <a:pt x="1856" y="390"/>
                </a:lnTo>
                <a:lnTo>
                  <a:pt x="1850" y="398"/>
                </a:lnTo>
                <a:lnTo>
                  <a:pt x="1846" y="403"/>
                </a:lnTo>
                <a:lnTo>
                  <a:pt x="1840" y="409"/>
                </a:lnTo>
                <a:lnTo>
                  <a:pt x="1833" y="415"/>
                </a:lnTo>
                <a:lnTo>
                  <a:pt x="1827" y="419"/>
                </a:lnTo>
                <a:lnTo>
                  <a:pt x="1818" y="423"/>
                </a:lnTo>
                <a:lnTo>
                  <a:pt x="1811" y="428"/>
                </a:lnTo>
                <a:lnTo>
                  <a:pt x="1805" y="431"/>
                </a:lnTo>
                <a:lnTo>
                  <a:pt x="1800" y="434"/>
                </a:lnTo>
                <a:lnTo>
                  <a:pt x="1794" y="439"/>
                </a:lnTo>
                <a:lnTo>
                  <a:pt x="1790" y="445"/>
                </a:lnTo>
                <a:lnTo>
                  <a:pt x="1784" y="452"/>
                </a:lnTo>
                <a:lnTo>
                  <a:pt x="1780" y="461"/>
                </a:lnTo>
                <a:lnTo>
                  <a:pt x="1775" y="470"/>
                </a:lnTo>
                <a:lnTo>
                  <a:pt x="1771" y="481"/>
                </a:lnTo>
                <a:lnTo>
                  <a:pt x="1767" y="493"/>
                </a:lnTo>
                <a:lnTo>
                  <a:pt x="1764" y="506"/>
                </a:lnTo>
                <a:lnTo>
                  <a:pt x="1761" y="520"/>
                </a:lnTo>
                <a:lnTo>
                  <a:pt x="1757" y="534"/>
                </a:lnTo>
                <a:lnTo>
                  <a:pt x="1754" y="550"/>
                </a:lnTo>
                <a:lnTo>
                  <a:pt x="1752" y="567"/>
                </a:lnTo>
                <a:lnTo>
                  <a:pt x="1749" y="586"/>
                </a:lnTo>
                <a:lnTo>
                  <a:pt x="1746" y="606"/>
                </a:lnTo>
                <a:lnTo>
                  <a:pt x="1745" y="626"/>
                </a:lnTo>
                <a:lnTo>
                  <a:pt x="1744" y="648"/>
                </a:lnTo>
                <a:lnTo>
                  <a:pt x="1742" y="671"/>
                </a:lnTo>
                <a:lnTo>
                  <a:pt x="1741" y="694"/>
                </a:lnTo>
                <a:lnTo>
                  <a:pt x="1741" y="719"/>
                </a:lnTo>
                <a:lnTo>
                  <a:pt x="1739" y="745"/>
                </a:lnTo>
                <a:lnTo>
                  <a:pt x="1739" y="772"/>
                </a:lnTo>
                <a:lnTo>
                  <a:pt x="1739" y="799"/>
                </a:lnTo>
                <a:lnTo>
                  <a:pt x="1739" y="828"/>
                </a:lnTo>
                <a:lnTo>
                  <a:pt x="1739" y="858"/>
                </a:lnTo>
                <a:lnTo>
                  <a:pt x="1741" y="890"/>
                </a:lnTo>
                <a:lnTo>
                  <a:pt x="1741" y="922"/>
                </a:lnTo>
                <a:lnTo>
                  <a:pt x="1742" y="955"/>
                </a:lnTo>
                <a:lnTo>
                  <a:pt x="1744" y="988"/>
                </a:lnTo>
                <a:lnTo>
                  <a:pt x="1745" y="1022"/>
                </a:lnTo>
                <a:lnTo>
                  <a:pt x="1748" y="1058"/>
                </a:lnTo>
                <a:lnTo>
                  <a:pt x="1749" y="1096"/>
                </a:lnTo>
                <a:lnTo>
                  <a:pt x="1751" y="1133"/>
                </a:lnTo>
                <a:lnTo>
                  <a:pt x="1752" y="1171"/>
                </a:lnTo>
                <a:lnTo>
                  <a:pt x="1754" y="1207"/>
                </a:lnTo>
                <a:lnTo>
                  <a:pt x="1755" y="1241"/>
                </a:lnTo>
                <a:lnTo>
                  <a:pt x="1757" y="1277"/>
                </a:lnTo>
                <a:lnTo>
                  <a:pt x="1758" y="1312"/>
                </a:lnTo>
                <a:lnTo>
                  <a:pt x="1759" y="1345"/>
                </a:lnTo>
                <a:lnTo>
                  <a:pt x="1759" y="1378"/>
                </a:lnTo>
                <a:lnTo>
                  <a:pt x="1761" y="1411"/>
                </a:lnTo>
                <a:lnTo>
                  <a:pt x="1761" y="1443"/>
                </a:lnTo>
                <a:lnTo>
                  <a:pt x="1762" y="1473"/>
                </a:lnTo>
                <a:lnTo>
                  <a:pt x="1762" y="1505"/>
                </a:lnTo>
                <a:lnTo>
                  <a:pt x="1762" y="1535"/>
                </a:lnTo>
                <a:lnTo>
                  <a:pt x="1762" y="1564"/>
                </a:lnTo>
                <a:lnTo>
                  <a:pt x="1762" y="1592"/>
                </a:lnTo>
                <a:lnTo>
                  <a:pt x="1762" y="1621"/>
                </a:lnTo>
                <a:lnTo>
                  <a:pt x="1762" y="1649"/>
                </a:lnTo>
                <a:lnTo>
                  <a:pt x="1762" y="1676"/>
                </a:lnTo>
                <a:lnTo>
                  <a:pt x="1762" y="1702"/>
                </a:lnTo>
                <a:lnTo>
                  <a:pt x="1761" y="1728"/>
                </a:lnTo>
                <a:lnTo>
                  <a:pt x="1761" y="1754"/>
                </a:lnTo>
                <a:lnTo>
                  <a:pt x="1759" y="1778"/>
                </a:lnTo>
                <a:lnTo>
                  <a:pt x="1759" y="1803"/>
                </a:lnTo>
                <a:lnTo>
                  <a:pt x="1758" y="1826"/>
                </a:lnTo>
                <a:lnTo>
                  <a:pt x="1757" y="1849"/>
                </a:lnTo>
                <a:lnTo>
                  <a:pt x="1755" y="1872"/>
                </a:lnTo>
                <a:lnTo>
                  <a:pt x="1754" y="1893"/>
                </a:lnTo>
                <a:lnTo>
                  <a:pt x="1752" y="1913"/>
                </a:lnTo>
                <a:lnTo>
                  <a:pt x="1751" y="1935"/>
                </a:lnTo>
                <a:lnTo>
                  <a:pt x="1749" y="1955"/>
                </a:lnTo>
                <a:lnTo>
                  <a:pt x="1748" y="1974"/>
                </a:lnTo>
                <a:lnTo>
                  <a:pt x="1744" y="2016"/>
                </a:lnTo>
                <a:lnTo>
                  <a:pt x="1738" y="2056"/>
                </a:lnTo>
                <a:lnTo>
                  <a:pt x="1732" y="2096"/>
                </a:lnTo>
                <a:lnTo>
                  <a:pt x="1726" y="2135"/>
                </a:lnTo>
                <a:lnTo>
                  <a:pt x="1721" y="2173"/>
                </a:lnTo>
                <a:lnTo>
                  <a:pt x="1713" y="2210"/>
                </a:lnTo>
                <a:lnTo>
                  <a:pt x="1706" y="2246"/>
                </a:lnTo>
                <a:lnTo>
                  <a:pt x="1698" y="2282"/>
                </a:lnTo>
                <a:lnTo>
                  <a:pt x="1690" y="2317"/>
                </a:lnTo>
                <a:lnTo>
                  <a:pt x="1680" y="2351"/>
                </a:lnTo>
                <a:lnTo>
                  <a:pt x="1672" y="2384"/>
                </a:lnTo>
                <a:lnTo>
                  <a:pt x="1662" y="2417"/>
                </a:lnTo>
                <a:lnTo>
                  <a:pt x="1651" y="2450"/>
                </a:lnTo>
                <a:lnTo>
                  <a:pt x="1640" y="2482"/>
                </a:lnTo>
                <a:lnTo>
                  <a:pt x="1630" y="2514"/>
                </a:lnTo>
                <a:lnTo>
                  <a:pt x="1618" y="2544"/>
                </a:lnTo>
                <a:lnTo>
                  <a:pt x="1611" y="2558"/>
                </a:lnTo>
                <a:lnTo>
                  <a:pt x="1605" y="2574"/>
                </a:lnTo>
                <a:lnTo>
                  <a:pt x="1600" y="2587"/>
                </a:lnTo>
                <a:lnTo>
                  <a:pt x="1594" y="2602"/>
                </a:lnTo>
                <a:lnTo>
                  <a:pt x="1588" y="2615"/>
                </a:lnTo>
                <a:lnTo>
                  <a:pt x="1582" y="2628"/>
                </a:lnTo>
                <a:lnTo>
                  <a:pt x="1575" y="2639"/>
                </a:lnTo>
                <a:lnTo>
                  <a:pt x="1569" y="2651"/>
                </a:lnTo>
                <a:lnTo>
                  <a:pt x="1564" y="2662"/>
                </a:lnTo>
                <a:lnTo>
                  <a:pt x="1558" y="2672"/>
                </a:lnTo>
                <a:lnTo>
                  <a:pt x="1552" y="2684"/>
                </a:lnTo>
                <a:lnTo>
                  <a:pt x="1545" y="2692"/>
                </a:lnTo>
                <a:lnTo>
                  <a:pt x="1539" y="2702"/>
                </a:lnTo>
                <a:lnTo>
                  <a:pt x="1533" y="2711"/>
                </a:lnTo>
                <a:lnTo>
                  <a:pt x="1528" y="2720"/>
                </a:lnTo>
                <a:lnTo>
                  <a:pt x="1520" y="2727"/>
                </a:lnTo>
                <a:lnTo>
                  <a:pt x="1515" y="2734"/>
                </a:lnTo>
                <a:lnTo>
                  <a:pt x="1509" y="2741"/>
                </a:lnTo>
                <a:lnTo>
                  <a:pt x="1503" y="2748"/>
                </a:lnTo>
                <a:lnTo>
                  <a:pt x="1496" y="2754"/>
                </a:lnTo>
                <a:lnTo>
                  <a:pt x="1490" y="2759"/>
                </a:lnTo>
                <a:lnTo>
                  <a:pt x="1484" y="2764"/>
                </a:lnTo>
                <a:lnTo>
                  <a:pt x="1479" y="2769"/>
                </a:lnTo>
                <a:lnTo>
                  <a:pt x="1472" y="2773"/>
                </a:lnTo>
                <a:lnTo>
                  <a:pt x="1466" y="2776"/>
                </a:lnTo>
                <a:lnTo>
                  <a:pt x="1460" y="2780"/>
                </a:lnTo>
                <a:lnTo>
                  <a:pt x="1454" y="2782"/>
                </a:lnTo>
                <a:lnTo>
                  <a:pt x="1447" y="2784"/>
                </a:lnTo>
                <a:lnTo>
                  <a:pt x="1441" y="2786"/>
                </a:lnTo>
                <a:lnTo>
                  <a:pt x="1436" y="2787"/>
                </a:lnTo>
                <a:lnTo>
                  <a:pt x="1430" y="2787"/>
                </a:lnTo>
                <a:lnTo>
                  <a:pt x="1424" y="2789"/>
                </a:lnTo>
                <a:lnTo>
                  <a:pt x="1411" y="2787"/>
                </a:lnTo>
                <a:lnTo>
                  <a:pt x="1400" y="2786"/>
                </a:lnTo>
                <a:lnTo>
                  <a:pt x="1389" y="2782"/>
                </a:lnTo>
                <a:lnTo>
                  <a:pt x="1379" y="2777"/>
                </a:lnTo>
                <a:lnTo>
                  <a:pt x="1371" y="2771"/>
                </a:lnTo>
                <a:lnTo>
                  <a:pt x="1362" y="2763"/>
                </a:lnTo>
                <a:lnTo>
                  <a:pt x="1355" y="2754"/>
                </a:lnTo>
                <a:lnTo>
                  <a:pt x="1348" y="2744"/>
                </a:lnTo>
                <a:lnTo>
                  <a:pt x="1342" y="2734"/>
                </a:lnTo>
                <a:lnTo>
                  <a:pt x="1338" y="2721"/>
                </a:lnTo>
                <a:lnTo>
                  <a:pt x="1335" y="2708"/>
                </a:lnTo>
                <a:lnTo>
                  <a:pt x="1332" y="2694"/>
                </a:lnTo>
                <a:lnTo>
                  <a:pt x="1332" y="2678"/>
                </a:lnTo>
                <a:lnTo>
                  <a:pt x="1332" y="2662"/>
                </a:lnTo>
                <a:lnTo>
                  <a:pt x="1333" y="2643"/>
                </a:lnTo>
                <a:lnTo>
                  <a:pt x="1335" y="2635"/>
                </a:lnTo>
                <a:lnTo>
                  <a:pt x="1338" y="2626"/>
                </a:lnTo>
                <a:lnTo>
                  <a:pt x="1339" y="2616"/>
                </a:lnTo>
                <a:lnTo>
                  <a:pt x="1339" y="2606"/>
                </a:lnTo>
                <a:lnTo>
                  <a:pt x="1341" y="2594"/>
                </a:lnTo>
                <a:lnTo>
                  <a:pt x="1341" y="2583"/>
                </a:lnTo>
                <a:lnTo>
                  <a:pt x="1339" y="2571"/>
                </a:lnTo>
                <a:lnTo>
                  <a:pt x="1338" y="2560"/>
                </a:lnTo>
                <a:lnTo>
                  <a:pt x="1336" y="2547"/>
                </a:lnTo>
                <a:lnTo>
                  <a:pt x="1333" y="2534"/>
                </a:lnTo>
                <a:lnTo>
                  <a:pt x="1329" y="2520"/>
                </a:lnTo>
                <a:lnTo>
                  <a:pt x="1326" y="2507"/>
                </a:lnTo>
                <a:lnTo>
                  <a:pt x="1322" y="2492"/>
                </a:lnTo>
                <a:lnTo>
                  <a:pt x="1316" y="2476"/>
                </a:lnTo>
                <a:lnTo>
                  <a:pt x="1310" y="2462"/>
                </a:lnTo>
                <a:lnTo>
                  <a:pt x="1305" y="2445"/>
                </a:lnTo>
                <a:lnTo>
                  <a:pt x="1297" y="2429"/>
                </a:lnTo>
                <a:lnTo>
                  <a:pt x="1290" y="2412"/>
                </a:lnTo>
                <a:lnTo>
                  <a:pt x="1283" y="2394"/>
                </a:lnTo>
                <a:lnTo>
                  <a:pt x="1274" y="2377"/>
                </a:lnTo>
                <a:lnTo>
                  <a:pt x="1266" y="2358"/>
                </a:lnTo>
                <a:lnTo>
                  <a:pt x="1256" y="2340"/>
                </a:lnTo>
                <a:lnTo>
                  <a:pt x="1246" y="2321"/>
                </a:lnTo>
                <a:lnTo>
                  <a:pt x="1234" y="2301"/>
                </a:lnTo>
                <a:lnTo>
                  <a:pt x="1224" y="2281"/>
                </a:lnTo>
                <a:lnTo>
                  <a:pt x="1212" y="2259"/>
                </a:lnTo>
                <a:lnTo>
                  <a:pt x="1199" y="2239"/>
                </a:lnTo>
                <a:lnTo>
                  <a:pt x="1186" y="2217"/>
                </a:lnTo>
                <a:lnTo>
                  <a:pt x="1174" y="2194"/>
                </a:lnTo>
                <a:lnTo>
                  <a:pt x="1161" y="2171"/>
                </a:lnTo>
                <a:lnTo>
                  <a:pt x="1146" y="2148"/>
                </a:lnTo>
                <a:lnTo>
                  <a:pt x="1130" y="2125"/>
                </a:lnTo>
                <a:lnTo>
                  <a:pt x="1116" y="2101"/>
                </a:lnTo>
                <a:lnTo>
                  <a:pt x="1100" y="2076"/>
                </a:lnTo>
                <a:lnTo>
                  <a:pt x="1116" y="2078"/>
                </a:lnTo>
                <a:lnTo>
                  <a:pt x="1132" y="2079"/>
                </a:lnTo>
                <a:lnTo>
                  <a:pt x="1146" y="2080"/>
                </a:lnTo>
                <a:lnTo>
                  <a:pt x="1162" y="2082"/>
                </a:lnTo>
                <a:lnTo>
                  <a:pt x="1176" y="2083"/>
                </a:lnTo>
                <a:lnTo>
                  <a:pt x="1189" y="2083"/>
                </a:lnTo>
                <a:lnTo>
                  <a:pt x="1204" y="2083"/>
                </a:lnTo>
                <a:lnTo>
                  <a:pt x="1217" y="2083"/>
                </a:lnTo>
                <a:lnTo>
                  <a:pt x="1230" y="2083"/>
                </a:lnTo>
                <a:lnTo>
                  <a:pt x="1243" y="2083"/>
                </a:lnTo>
                <a:lnTo>
                  <a:pt x="1254" y="2083"/>
                </a:lnTo>
                <a:lnTo>
                  <a:pt x="1266" y="2083"/>
                </a:lnTo>
                <a:lnTo>
                  <a:pt x="1277" y="2082"/>
                </a:lnTo>
                <a:lnTo>
                  <a:pt x="1287" y="2080"/>
                </a:lnTo>
                <a:lnTo>
                  <a:pt x="1297" y="2080"/>
                </a:lnTo>
                <a:lnTo>
                  <a:pt x="1307" y="2079"/>
                </a:lnTo>
                <a:lnTo>
                  <a:pt x="1317" y="2078"/>
                </a:lnTo>
                <a:lnTo>
                  <a:pt x="1326" y="2075"/>
                </a:lnTo>
                <a:lnTo>
                  <a:pt x="1335" y="2073"/>
                </a:lnTo>
                <a:lnTo>
                  <a:pt x="1342" y="2072"/>
                </a:lnTo>
                <a:lnTo>
                  <a:pt x="1351" y="2069"/>
                </a:lnTo>
                <a:lnTo>
                  <a:pt x="1358" y="2068"/>
                </a:lnTo>
                <a:lnTo>
                  <a:pt x="1364" y="2065"/>
                </a:lnTo>
                <a:lnTo>
                  <a:pt x="1369" y="2062"/>
                </a:lnTo>
                <a:lnTo>
                  <a:pt x="1375" y="2059"/>
                </a:lnTo>
                <a:lnTo>
                  <a:pt x="1381" y="2056"/>
                </a:lnTo>
                <a:lnTo>
                  <a:pt x="1385" y="2053"/>
                </a:lnTo>
                <a:lnTo>
                  <a:pt x="1389" y="2050"/>
                </a:lnTo>
                <a:lnTo>
                  <a:pt x="1394" y="2046"/>
                </a:lnTo>
                <a:lnTo>
                  <a:pt x="1397" y="2043"/>
                </a:lnTo>
                <a:lnTo>
                  <a:pt x="1400" y="2039"/>
                </a:lnTo>
                <a:lnTo>
                  <a:pt x="1402" y="2036"/>
                </a:lnTo>
                <a:lnTo>
                  <a:pt x="1404" y="2033"/>
                </a:lnTo>
                <a:lnTo>
                  <a:pt x="1405" y="2030"/>
                </a:lnTo>
                <a:lnTo>
                  <a:pt x="1407" y="2027"/>
                </a:lnTo>
                <a:lnTo>
                  <a:pt x="1408" y="2023"/>
                </a:lnTo>
                <a:lnTo>
                  <a:pt x="1411" y="2019"/>
                </a:lnTo>
                <a:lnTo>
                  <a:pt x="1411" y="2013"/>
                </a:lnTo>
                <a:lnTo>
                  <a:pt x="1412" y="2007"/>
                </a:lnTo>
                <a:lnTo>
                  <a:pt x="1414" y="2001"/>
                </a:lnTo>
                <a:lnTo>
                  <a:pt x="1415" y="1994"/>
                </a:lnTo>
                <a:lnTo>
                  <a:pt x="1417" y="1987"/>
                </a:lnTo>
                <a:lnTo>
                  <a:pt x="1417" y="1978"/>
                </a:lnTo>
                <a:lnTo>
                  <a:pt x="1418" y="1970"/>
                </a:lnTo>
                <a:lnTo>
                  <a:pt x="1418" y="1960"/>
                </a:lnTo>
                <a:lnTo>
                  <a:pt x="1420" y="1949"/>
                </a:lnTo>
                <a:lnTo>
                  <a:pt x="1420" y="1939"/>
                </a:lnTo>
                <a:lnTo>
                  <a:pt x="1421" y="1928"/>
                </a:lnTo>
                <a:lnTo>
                  <a:pt x="1421" y="1916"/>
                </a:lnTo>
                <a:lnTo>
                  <a:pt x="1421" y="1905"/>
                </a:lnTo>
                <a:lnTo>
                  <a:pt x="1423" y="1892"/>
                </a:lnTo>
                <a:lnTo>
                  <a:pt x="1423" y="1877"/>
                </a:lnTo>
                <a:lnTo>
                  <a:pt x="1423" y="1863"/>
                </a:lnTo>
                <a:lnTo>
                  <a:pt x="1423" y="1849"/>
                </a:lnTo>
                <a:lnTo>
                  <a:pt x="1423" y="1833"/>
                </a:lnTo>
                <a:lnTo>
                  <a:pt x="1423" y="1817"/>
                </a:lnTo>
                <a:lnTo>
                  <a:pt x="1423" y="1801"/>
                </a:lnTo>
                <a:lnTo>
                  <a:pt x="1423" y="1784"/>
                </a:lnTo>
                <a:lnTo>
                  <a:pt x="1423" y="1767"/>
                </a:lnTo>
                <a:lnTo>
                  <a:pt x="1423" y="1748"/>
                </a:lnTo>
                <a:lnTo>
                  <a:pt x="1424" y="1729"/>
                </a:lnTo>
                <a:lnTo>
                  <a:pt x="1424" y="1709"/>
                </a:lnTo>
                <a:lnTo>
                  <a:pt x="1424" y="1689"/>
                </a:lnTo>
                <a:lnTo>
                  <a:pt x="1424" y="16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86"/>
          <p:cNvSpPr/>
          <p:nvPr/>
        </p:nvSpPr>
        <p:spPr>
          <a:xfrm>
            <a:off x="6851520" y="3929040"/>
            <a:ext cx="604800" cy="155520"/>
          </a:xfrm>
          <a:custGeom>
            <a:avLst/>
            <a:gdLst/>
            <a:ahLst/>
            <a:rect l="l" t="t" r="r" b="b"/>
            <a:pathLst>
              <a:path w="1143" h="296">
                <a:moveTo>
                  <a:pt x="777" y="264"/>
                </a:moveTo>
                <a:lnTo>
                  <a:pt x="731" y="271"/>
                </a:lnTo>
                <a:lnTo>
                  <a:pt x="687" y="278"/>
                </a:lnTo>
                <a:lnTo>
                  <a:pt x="641" y="283"/>
                </a:lnTo>
                <a:lnTo>
                  <a:pt x="595" y="287"/>
                </a:lnTo>
                <a:lnTo>
                  <a:pt x="549" y="291"/>
                </a:lnTo>
                <a:lnTo>
                  <a:pt x="501" y="293"/>
                </a:lnTo>
                <a:lnTo>
                  <a:pt x="454" y="294"/>
                </a:lnTo>
                <a:lnTo>
                  <a:pt x="405" y="296"/>
                </a:lnTo>
                <a:lnTo>
                  <a:pt x="356" y="294"/>
                </a:lnTo>
                <a:lnTo>
                  <a:pt x="307" y="293"/>
                </a:lnTo>
                <a:lnTo>
                  <a:pt x="256" y="291"/>
                </a:lnTo>
                <a:lnTo>
                  <a:pt x="206" y="287"/>
                </a:lnTo>
                <a:lnTo>
                  <a:pt x="156" y="283"/>
                </a:lnTo>
                <a:lnTo>
                  <a:pt x="104" y="278"/>
                </a:lnTo>
                <a:lnTo>
                  <a:pt x="52" y="271"/>
                </a:lnTo>
                <a:lnTo>
                  <a:pt x="0" y="264"/>
                </a:lnTo>
                <a:lnTo>
                  <a:pt x="0" y="121"/>
                </a:lnTo>
                <a:lnTo>
                  <a:pt x="10" y="121"/>
                </a:lnTo>
                <a:lnTo>
                  <a:pt x="22" y="121"/>
                </a:lnTo>
                <a:lnTo>
                  <a:pt x="32" y="121"/>
                </a:lnTo>
                <a:lnTo>
                  <a:pt x="43" y="120"/>
                </a:lnTo>
                <a:lnTo>
                  <a:pt x="68" y="120"/>
                </a:lnTo>
                <a:lnTo>
                  <a:pt x="92" y="117"/>
                </a:lnTo>
                <a:lnTo>
                  <a:pt x="120" y="116"/>
                </a:lnTo>
                <a:lnTo>
                  <a:pt x="147" y="113"/>
                </a:lnTo>
                <a:lnTo>
                  <a:pt x="176" y="110"/>
                </a:lnTo>
                <a:lnTo>
                  <a:pt x="205" y="107"/>
                </a:lnTo>
                <a:lnTo>
                  <a:pt x="236" y="103"/>
                </a:lnTo>
                <a:lnTo>
                  <a:pt x="268" y="98"/>
                </a:lnTo>
                <a:lnTo>
                  <a:pt x="301" y="93"/>
                </a:lnTo>
                <a:lnTo>
                  <a:pt x="334" y="87"/>
                </a:lnTo>
                <a:lnTo>
                  <a:pt x="369" y="81"/>
                </a:lnTo>
                <a:lnTo>
                  <a:pt x="403" y="75"/>
                </a:lnTo>
                <a:lnTo>
                  <a:pt x="438" y="68"/>
                </a:lnTo>
                <a:lnTo>
                  <a:pt x="475" y="61"/>
                </a:lnTo>
                <a:lnTo>
                  <a:pt x="492" y="57"/>
                </a:lnTo>
                <a:lnTo>
                  <a:pt x="510" y="52"/>
                </a:lnTo>
                <a:lnTo>
                  <a:pt x="527" y="49"/>
                </a:lnTo>
                <a:lnTo>
                  <a:pt x="543" y="46"/>
                </a:lnTo>
                <a:lnTo>
                  <a:pt x="560" y="42"/>
                </a:lnTo>
                <a:lnTo>
                  <a:pt x="574" y="39"/>
                </a:lnTo>
                <a:lnTo>
                  <a:pt x="590" y="36"/>
                </a:lnTo>
                <a:lnTo>
                  <a:pt x="605" y="34"/>
                </a:lnTo>
                <a:lnTo>
                  <a:pt x="619" y="31"/>
                </a:lnTo>
                <a:lnTo>
                  <a:pt x="632" y="28"/>
                </a:lnTo>
                <a:lnTo>
                  <a:pt x="646" y="25"/>
                </a:lnTo>
                <a:lnTo>
                  <a:pt x="659" y="23"/>
                </a:lnTo>
                <a:lnTo>
                  <a:pt x="671" y="21"/>
                </a:lnTo>
                <a:lnTo>
                  <a:pt x="684" y="19"/>
                </a:lnTo>
                <a:lnTo>
                  <a:pt x="695" y="16"/>
                </a:lnTo>
                <a:lnTo>
                  <a:pt x="707" y="15"/>
                </a:lnTo>
                <a:lnTo>
                  <a:pt x="717" y="13"/>
                </a:lnTo>
                <a:lnTo>
                  <a:pt x="729" y="11"/>
                </a:lnTo>
                <a:lnTo>
                  <a:pt x="739" y="9"/>
                </a:lnTo>
                <a:lnTo>
                  <a:pt x="749" y="8"/>
                </a:lnTo>
                <a:lnTo>
                  <a:pt x="767" y="6"/>
                </a:lnTo>
                <a:lnTo>
                  <a:pt x="785" y="3"/>
                </a:lnTo>
                <a:lnTo>
                  <a:pt x="801" y="2"/>
                </a:lnTo>
                <a:lnTo>
                  <a:pt x="815" y="0"/>
                </a:lnTo>
                <a:lnTo>
                  <a:pt x="829" y="0"/>
                </a:lnTo>
                <a:lnTo>
                  <a:pt x="842" y="0"/>
                </a:lnTo>
                <a:lnTo>
                  <a:pt x="854" y="0"/>
                </a:lnTo>
                <a:lnTo>
                  <a:pt x="865" y="0"/>
                </a:lnTo>
                <a:lnTo>
                  <a:pt x="878" y="2"/>
                </a:lnTo>
                <a:lnTo>
                  <a:pt x="890" y="3"/>
                </a:lnTo>
                <a:lnTo>
                  <a:pt x="914" y="8"/>
                </a:lnTo>
                <a:lnTo>
                  <a:pt x="939" y="12"/>
                </a:lnTo>
                <a:lnTo>
                  <a:pt x="962" y="18"/>
                </a:lnTo>
                <a:lnTo>
                  <a:pt x="986" y="25"/>
                </a:lnTo>
                <a:lnTo>
                  <a:pt x="1011" y="32"/>
                </a:lnTo>
                <a:lnTo>
                  <a:pt x="1035" y="41"/>
                </a:lnTo>
                <a:lnTo>
                  <a:pt x="1047" y="48"/>
                </a:lnTo>
                <a:lnTo>
                  <a:pt x="1058" y="55"/>
                </a:lnTo>
                <a:lnTo>
                  <a:pt x="1070" y="64"/>
                </a:lnTo>
                <a:lnTo>
                  <a:pt x="1080" y="71"/>
                </a:lnTo>
                <a:lnTo>
                  <a:pt x="1088" y="78"/>
                </a:lnTo>
                <a:lnTo>
                  <a:pt x="1098" y="85"/>
                </a:lnTo>
                <a:lnTo>
                  <a:pt x="1106" y="93"/>
                </a:lnTo>
                <a:lnTo>
                  <a:pt x="1113" y="98"/>
                </a:lnTo>
                <a:lnTo>
                  <a:pt x="1120" y="106"/>
                </a:lnTo>
                <a:lnTo>
                  <a:pt x="1126" y="111"/>
                </a:lnTo>
                <a:lnTo>
                  <a:pt x="1132" y="117"/>
                </a:lnTo>
                <a:lnTo>
                  <a:pt x="1136" y="123"/>
                </a:lnTo>
                <a:lnTo>
                  <a:pt x="1139" y="129"/>
                </a:lnTo>
                <a:lnTo>
                  <a:pt x="1142" y="133"/>
                </a:lnTo>
                <a:lnTo>
                  <a:pt x="1143" y="139"/>
                </a:lnTo>
                <a:lnTo>
                  <a:pt x="1143" y="143"/>
                </a:lnTo>
                <a:lnTo>
                  <a:pt x="1143" y="144"/>
                </a:lnTo>
                <a:lnTo>
                  <a:pt x="1142" y="146"/>
                </a:lnTo>
                <a:lnTo>
                  <a:pt x="1140" y="149"/>
                </a:lnTo>
                <a:lnTo>
                  <a:pt x="1137" y="150"/>
                </a:lnTo>
                <a:lnTo>
                  <a:pt x="1133" y="153"/>
                </a:lnTo>
                <a:lnTo>
                  <a:pt x="1130" y="156"/>
                </a:lnTo>
                <a:lnTo>
                  <a:pt x="1124" y="159"/>
                </a:lnTo>
                <a:lnTo>
                  <a:pt x="1119" y="162"/>
                </a:lnTo>
                <a:lnTo>
                  <a:pt x="1113" y="165"/>
                </a:lnTo>
                <a:lnTo>
                  <a:pt x="1106" y="167"/>
                </a:lnTo>
                <a:lnTo>
                  <a:pt x="1098" y="170"/>
                </a:lnTo>
                <a:lnTo>
                  <a:pt x="1090" y="173"/>
                </a:lnTo>
                <a:lnTo>
                  <a:pt x="1080" y="176"/>
                </a:lnTo>
                <a:lnTo>
                  <a:pt x="1071" y="180"/>
                </a:lnTo>
                <a:lnTo>
                  <a:pt x="1060" y="183"/>
                </a:lnTo>
                <a:lnTo>
                  <a:pt x="1048" y="188"/>
                </a:lnTo>
                <a:lnTo>
                  <a:pt x="1037" y="192"/>
                </a:lnTo>
                <a:lnTo>
                  <a:pt x="1024" y="195"/>
                </a:lnTo>
                <a:lnTo>
                  <a:pt x="1011" y="199"/>
                </a:lnTo>
                <a:lnTo>
                  <a:pt x="996" y="203"/>
                </a:lnTo>
                <a:lnTo>
                  <a:pt x="982" y="208"/>
                </a:lnTo>
                <a:lnTo>
                  <a:pt x="966" y="212"/>
                </a:lnTo>
                <a:lnTo>
                  <a:pt x="950" y="216"/>
                </a:lnTo>
                <a:lnTo>
                  <a:pt x="934" y="222"/>
                </a:lnTo>
                <a:lnTo>
                  <a:pt x="917" y="226"/>
                </a:lnTo>
                <a:lnTo>
                  <a:pt x="898" y="231"/>
                </a:lnTo>
                <a:lnTo>
                  <a:pt x="880" y="237"/>
                </a:lnTo>
                <a:lnTo>
                  <a:pt x="861" y="242"/>
                </a:lnTo>
                <a:lnTo>
                  <a:pt x="841" y="247"/>
                </a:lnTo>
                <a:lnTo>
                  <a:pt x="819" y="252"/>
                </a:lnTo>
                <a:lnTo>
                  <a:pt x="799" y="258"/>
                </a:lnTo>
                <a:lnTo>
                  <a:pt x="777" y="2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87"/>
          <p:cNvSpPr/>
          <p:nvPr/>
        </p:nvSpPr>
        <p:spPr>
          <a:xfrm>
            <a:off x="6851520" y="4424400"/>
            <a:ext cx="731880" cy="171360"/>
          </a:xfrm>
          <a:custGeom>
            <a:avLst/>
            <a:gdLst/>
            <a:ahLst/>
            <a:rect l="l" t="t" r="r" b="b"/>
            <a:pathLst>
              <a:path w="1381" h="326">
                <a:moveTo>
                  <a:pt x="1381" y="223"/>
                </a:moveTo>
                <a:lnTo>
                  <a:pt x="1358" y="223"/>
                </a:lnTo>
                <a:lnTo>
                  <a:pt x="1333" y="223"/>
                </a:lnTo>
                <a:lnTo>
                  <a:pt x="1307" y="225"/>
                </a:lnTo>
                <a:lnTo>
                  <a:pt x="1281" y="225"/>
                </a:lnTo>
                <a:lnTo>
                  <a:pt x="1253" y="226"/>
                </a:lnTo>
                <a:lnTo>
                  <a:pt x="1224" y="228"/>
                </a:lnTo>
                <a:lnTo>
                  <a:pt x="1193" y="229"/>
                </a:lnTo>
                <a:lnTo>
                  <a:pt x="1162" y="231"/>
                </a:lnTo>
                <a:lnTo>
                  <a:pt x="1129" y="232"/>
                </a:lnTo>
                <a:lnTo>
                  <a:pt x="1094" y="235"/>
                </a:lnTo>
                <a:lnTo>
                  <a:pt x="1058" y="236"/>
                </a:lnTo>
                <a:lnTo>
                  <a:pt x="1021" y="239"/>
                </a:lnTo>
                <a:lnTo>
                  <a:pt x="983" y="242"/>
                </a:lnTo>
                <a:lnTo>
                  <a:pt x="943" y="245"/>
                </a:lnTo>
                <a:lnTo>
                  <a:pt x="903" y="248"/>
                </a:lnTo>
                <a:lnTo>
                  <a:pt x="860" y="251"/>
                </a:lnTo>
                <a:lnTo>
                  <a:pt x="816" y="255"/>
                </a:lnTo>
                <a:lnTo>
                  <a:pt x="772" y="258"/>
                </a:lnTo>
                <a:lnTo>
                  <a:pt x="726" y="262"/>
                </a:lnTo>
                <a:lnTo>
                  <a:pt x="678" y="265"/>
                </a:lnTo>
                <a:lnTo>
                  <a:pt x="629" y="269"/>
                </a:lnTo>
                <a:lnTo>
                  <a:pt x="579" y="274"/>
                </a:lnTo>
                <a:lnTo>
                  <a:pt x="527" y="278"/>
                </a:lnTo>
                <a:lnTo>
                  <a:pt x="474" y="282"/>
                </a:lnTo>
                <a:lnTo>
                  <a:pt x="419" y="288"/>
                </a:lnTo>
                <a:lnTo>
                  <a:pt x="363" y="292"/>
                </a:lnTo>
                <a:lnTo>
                  <a:pt x="307" y="298"/>
                </a:lnTo>
                <a:lnTo>
                  <a:pt x="248" y="302"/>
                </a:lnTo>
                <a:lnTo>
                  <a:pt x="189" y="308"/>
                </a:lnTo>
                <a:lnTo>
                  <a:pt x="127" y="314"/>
                </a:lnTo>
                <a:lnTo>
                  <a:pt x="63" y="320"/>
                </a:lnTo>
                <a:lnTo>
                  <a:pt x="0" y="326"/>
                </a:lnTo>
                <a:lnTo>
                  <a:pt x="0" y="243"/>
                </a:lnTo>
                <a:lnTo>
                  <a:pt x="0" y="163"/>
                </a:lnTo>
                <a:lnTo>
                  <a:pt x="61" y="153"/>
                </a:lnTo>
                <a:lnTo>
                  <a:pt x="118" y="143"/>
                </a:lnTo>
                <a:lnTo>
                  <a:pt x="174" y="134"/>
                </a:lnTo>
                <a:lnTo>
                  <a:pt x="229" y="125"/>
                </a:lnTo>
                <a:lnTo>
                  <a:pt x="281" y="117"/>
                </a:lnTo>
                <a:lnTo>
                  <a:pt x="333" y="108"/>
                </a:lnTo>
                <a:lnTo>
                  <a:pt x="382" y="101"/>
                </a:lnTo>
                <a:lnTo>
                  <a:pt x="429" y="92"/>
                </a:lnTo>
                <a:lnTo>
                  <a:pt x="475" y="85"/>
                </a:lnTo>
                <a:lnTo>
                  <a:pt x="518" y="78"/>
                </a:lnTo>
                <a:lnTo>
                  <a:pt x="562" y="72"/>
                </a:lnTo>
                <a:lnTo>
                  <a:pt x="602" y="65"/>
                </a:lnTo>
                <a:lnTo>
                  <a:pt x="641" y="59"/>
                </a:lnTo>
                <a:lnTo>
                  <a:pt x="678" y="53"/>
                </a:lnTo>
                <a:lnTo>
                  <a:pt x="713" y="48"/>
                </a:lnTo>
                <a:lnTo>
                  <a:pt x="747" y="42"/>
                </a:lnTo>
                <a:lnTo>
                  <a:pt x="779" y="38"/>
                </a:lnTo>
                <a:lnTo>
                  <a:pt x="809" y="32"/>
                </a:lnTo>
                <a:lnTo>
                  <a:pt x="838" y="28"/>
                </a:lnTo>
                <a:lnTo>
                  <a:pt x="865" y="23"/>
                </a:lnTo>
                <a:lnTo>
                  <a:pt x="890" y="20"/>
                </a:lnTo>
                <a:lnTo>
                  <a:pt x="913" y="16"/>
                </a:lnTo>
                <a:lnTo>
                  <a:pt x="936" y="13"/>
                </a:lnTo>
                <a:lnTo>
                  <a:pt x="956" y="10"/>
                </a:lnTo>
                <a:lnTo>
                  <a:pt x="973" y="7"/>
                </a:lnTo>
                <a:lnTo>
                  <a:pt x="991" y="6"/>
                </a:lnTo>
                <a:lnTo>
                  <a:pt x="1006" y="3"/>
                </a:lnTo>
                <a:lnTo>
                  <a:pt x="1019" y="2"/>
                </a:lnTo>
                <a:lnTo>
                  <a:pt x="1031" y="2"/>
                </a:lnTo>
                <a:lnTo>
                  <a:pt x="1041" y="0"/>
                </a:lnTo>
                <a:lnTo>
                  <a:pt x="1050" y="0"/>
                </a:lnTo>
                <a:lnTo>
                  <a:pt x="1057" y="0"/>
                </a:lnTo>
                <a:lnTo>
                  <a:pt x="1070" y="4"/>
                </a:lnTo>
                <a:lnTo>
                  <a:pt x="1083" y="9"/>
                </a:lnTo>
                <a:lnTo>
                  <a:pt x="1098" y="16"/>
                </a:lnTo>
                <a:lnTo>
                  <a:pt x="1114" y="23"/>
                </a:lnTo>
                <a:lnTo>
                  <a:pt x="1130" y="32"/>
                </a:lnTo>
                <a:lnTo>
                  <a:pt x="1149" y="42"/>
                </a:lnTo>
                <a:lnTo>
                  <a:pt x="1168" y="52"/>
                </a:lnTo>
                <a:lnTo>
                  <a:pt x="1176" y="59"/>
                </a:lnTo>
                <a:lnTo>
                  <a:pt x="1186" y="65"/>
                </a:lnTo>
                <a:lnTo>
                  <a:pt x="1196" y="72"/>
                </a:lnTo>
                <a:lnTo>
                  <a:pt x="1208" y="79"/>
                </a:lnTo>
                <a:lnTo>
                  <a:pt x="1218" y="87"/>
                </a:lnTo>
                <a:lnTo>
                  <a:pt x="1229" y="95"/>
                </a:lnTo>
                <a:lnTo>
                  <a:pt x="1241" y="102"/>
                </a:lnTo>
                <a:lnTo>
                  <a:pt x="1253" y="112"/>
                </a:lnTo>
                <a:lnTo>
                  <a:pt x="1264" y="121"/>
                </a:lnTo>
                <a:lnTo>
                  <a:pt x="1276" y="131"/>
                </a:lnTo>
                <a:lnTo>
                  <a:pt x="1289" y="141"/>
                </a:lnTo>
                <a:lnTo>
                  <a:pt x="1300" y="151"/>
                </a:lnTo>
                <a:lnTo>
                  <a:pt x="1313" y="161"/>
                </a:lnTo>
                <a:lnTo>
                  <a:pt x="1326" y="173"/>
                </a:lnTo>
                <a:lnTo>
                  <a:pt x="1339" y="184"/>
                </a:lnTo>
                <a:lnTo>
                  <a:pt x="1352" y="197"/>
                </a:lnTo>
                <a:lnTo>
                  <a:pt x="1366" y="210"/>
                </a:lnTo>
                <a:lnTo>
                  <a:pt x="1381" y="2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颊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" name="组合 3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32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右同宽。左边两横长短相当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矩形 2"/>
          <p:cNvSpPr/>
          <p:nvPr/>
        </p:nvSpPr>
        <p:spPr>
          <a:xfrm>
            <a:off x="2192400" y="1825560"/>
            <a:ext cx="145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35"/>
          <p:cNvSpPr/>
          <p:nvPr/>
        </p:nvSpPr>
        <p:spPr>
          <a:xfrm>
            <a:off x="5864400" y="3284640"/>
            <a:ext cx="846000" cy="230040"/>
          </a:xfrm>
          <a:custGeom>
            <a:avLst/>
            <a:gdLst/>
            <a:ahLst/>
            <a:rect l="l" t="t" r="r" b="b"/>
            <a:pathLst>
              <a:path w="1598" h="434">
                <a:moveTo>
                  <a:pt x="32" y="369"/>
                </a:moveTo>
                <a:lnTo>
                  <a:pt x="24" y="362"/>
                </a:lnTo>
                <a:lnTo>
                  <a:pt x="19" y="354"/>
                </a:lnTo>
                <a:lnTo>
                  <a:pt x="14" y="349"/>
                </a:lnTo>
                <a:lnTo>
                  <a:pt x="10" y="343"/>
                </a:lnTo>
                <a:lnTo>
                  <a:pt x="7" y="337"/>
                </a:lnTo>
                <a:lnTo>
                  <a:pt x="4" y="333"/>
                </a:lnTo>
                <a:lnTo>
                  <a:pt x="1" y="328"/>
                </a:lnTo>
                <a:lnTo>
                  <a:pt x="0" y="324"/>
                </a:lnTo>
                <a:lnTo>
                  <a:pt x="0" y="321"/>
                </a:lnTo>
                <a:lnTo>
                  <a:pt x="0" y="318"/>
                </a:lnTo>
                <a:lnTo>
                  <a:pt x="1" y="315"/>
                </a:lnTo>
                <a:lnTo>
                  <a:pt x="1" y="313"/>
                </a:lnTo>
                <a:lnTo>
                  <a:pt x="4" y="311"/>
                </a:lnTo>
                <a:lnTo>
                  <a:pt x="6" y="311"/>
                </a:lnTo>
                <a:lnTo>
                  <a:pt x="9" y="310"/>
                </a:lnTo>
                <a:lnTo>
                  <a:pt x="13" y="310"/>
                </a:lnTo>
                <a:lnTo>
                  <a:pt x="14" y="310"/>
                </a:lnTo>
                <a:lnTo>
                  <a:pt x="19" y="310"/>
                </a:lnTo>
                <a:lnTo>
                  <a:pt x="23" y="308"/>
                </a:lnTo>
                <a:lnTo>
                  <a:pt x="29" y="307"/>
                </a:lnTo>
                <a:lnTo>
                  <a:pt x="34" y="305"/>
                </a:lnTo>
                <a:lnTo>
                  <a:pt x="43" y="304"/>
                </a:lnTo>
                <a:lnTo>
                  <a:pt x="52" y="303"/>
                </a:lnTo>
                <a:lnTo>
                  <a:pt x="62" y="300"/>
                </a:lnTo>
                <a:lnTo>
                  <a:pt x="73" y="297"/>
                </a:lnTo>
                <a:lnTo>
                  <a:pt x="85" y="294"/>
                </a:lnTo>
                <a:lnTo>
                  <a:pt x="98" y="291"/>
                </a:lnTo>
                <a:lnTo>
                  <a:pt x="112" y="287"/>
                </a:lnTo>
                <a:lnTo>
                  <a:pt x="128" y="282"/>
                </a:lnTo>
                <a:lnTo>
                  <a:pt x="144" y="278"/>
                </a:lnTo>
                <a:lnTo>
                  <a:pt x="161" y="274"/>
                </a:lnTo>
                <a:lnTo>
                  <a:pt x="180" y="269"/>
                </a:lnTo>
                <a:lnTo>
                  <a:pt x="199" y="264"/>
                </a:lnTo>
                <a:lnTo>
                  <a:pt x="219" y="259"/>
                </a:lnTo>
                <a:lnTo>
                  <a:pt x="240" y="254"/>
                </a:lnTo>
                <a:lnTo>
                  <a:pt x="263" y="248"/>
                </a:lnTo>
                <a:lnTo>
                  <a:pt x="286" y="241"/>
                </a:lnTo>
                <a:lnTo>
                  <a:pt x="309" y="235"/>
                </a:lnTo>
                <a:lnTo>
                  <a:pt x="335" y="228"/>
                </a:lnTo>
                <a:lnTo>
                  <a:pt x="361" y="220"/>
                </a:lnTo>
                <a:lnTo>
                  <a:pt x="389" y="213"/>
                </a:lnTo>
                <a:lnTo>
                  <a:pt x="416" y="206"/>
                </a:lnTo>
                <a:lnTo>
                  <a:pt x="445" y="197"/>
                </a:lnTo>
                <a:lnTo>
                  <a:pt x="475" y="190"/>
                </a:lnTo>
                <a:lnTo>
                  <a:pt x="507" y="182"/>
                </a:lnTo>
                <a:lnTo>
                  <a:pt x="538" y="173"/>
                </a:lnTo>
                <a:lnTo>
                  <a:pt x="570" y="164"/>
                </a:lnTo>
                <a:lnTo>
                  <a:pt x="605" y="156"/>
                </a:lnTo>
                <a:lnTo>
                  <a:pt x="638" y="146"/>
                </a:lnTo>
                <a:lnTo>
                  <a:pt x="671" y="137"/>
                </a:lnTo>
                <a:lnTo>
                  <a:pt x="702" y="128"/>
                </a:lnTo>
                <a:lnTo>
                  <a:pt x="734" y="120"/>
                </a:lnTo>
                <a:lnTo>
                  <a:pt x="764" y="112"/>
                </a:lnTo>
                <a:lnTo>
                  <a:pt x="795" y="104"/>
                </a:lnTo>
                <a:lnTo>
                  <a:pt x="823" y="97"/>
                </a:lnTo>
                <a:lnTo>
                  <a:pt x="851" y="89"/>
                </a:lnTo>
                <a:lnTo>
                  <a:pt x="878" y="82"/>
                </a:lnTo>
                <a:lnTo>
                  <a:pt x="905" y="75"/>
                </a:lnTo>
                <a:lnTo>
                  <a:pt x="931" y="69"/>
                </a:lnTo>
                <a:lnTo>
                  <a:pt x="956" y="62"/>
                </a:lnTo>
                <a:lnTo>
                  <a:pt x="980" y="56"/>
                </a:lnTo>
                <a:lnTo>
                  <a:pt x="1003" y="51"/>
                </a:lnTo>
                <a:lnTo>
                  <a:pt x="1026" y="46"/>
                </a:lnTo>
                <a:lnTo>
                  <a:pt x="1048" y="41"/>
                </a:lnTo>
                <a:lnTo>
                  <a:pt x="1070" y="36"/>
                </a:lnTo>
                <a:lnTo>
                  <a:pt x="1090" y="32"/>
                </a:lnTo>
                <a:lnTo>
                  <a:pt x="1108" y="28"/>
                </a:lnTo>
                <a:lnTo>
                  <a:pt x="1127" y="23"/>
                </a:lnTo>
                <a:lnTo>
                  <a:pt x="1146" y="19"/>
                </a:lnTo>
                <a:lnTo>
                  <a:pt x="1163" y="16"/>
                </a:lnTo>
                <a:lnTo>
                  <a:pt x="1179" y="13"/>
                </a:lnTo>
                <a:lnTo>
                  <a:pt x="1195" y="10"/>
                </a:lnTo>
                <a:lnTo>
                  <a:pt x="1209" y="9"/>
                </a:lnTo>
                <a:lnTo>
                  <a:pt x="1224" y="6"/>
                </a:lnTo>
                <a:lnTo>
                  <a:pt x="1237" y="5"/>
                </a:lnTo>
                <a:lnTo>
                  <a:pt x="1249" y="3"/>
                </a:lnTo>
                <a:lnTo>
                  <a:pt x="1261" y="2"/>
                </a:lnTo>
                <a:lnTo>
                  <a:pt x="1272" y="0"/>
                </a:lnTo>
                <a:lnTo>
                  <a:pt x="1283" y="0"/>
                </a:lnTo>
                <a:lnTo>
                  <a:pt x="1291" y="0"/>
                </a:lnTo>
                <a:lnTo>
                  <a:pt x="1308" y="0"/>
                </a:lnTo>
                <a:lnTo>
                  <a:pt x="1326" y="0"/>
                </a:lnTo>
                <a:lnTo>
                  <a:pt x="1343" y="0"/>
                </a:lnTo>
                <a:lnTo>
                  <a:pt x="1359" y="0"/>
                </a:lnTo>
                <a:lnTo>
                  <a:pt x="1375" y="0"/>
                </a:lnTo>
                <a:lnTo>
                  <a:pt x="1391" y="2"/>
                </a:lnTo>
                <a:lnTo>
                  <a:pt x="1406" y="2"/>
                </a:lnTo>
                <a:lnTo>
                  <a:pt x="1421" y="3"/>
                </a:lnTo>
                <a:lnTo>
                  <a:pt x="1435" y="3"/>
                </a:lnTo>
                <a:lnTo>
                  <a:pt x="1448" y="5"/>
                </a:lnTo>
                <a:lnTo>
                  <a:pt x="1461" y="6"/>
                </a:lnTo>
                <a:lnTo>
                  <a:pt x="1474" y="9"/>
                </a:lnTo>
                <a:lnTo>
                  <a:pt x="1487" y="10"/>
                </a:lnTo>
                <a:lnTo>
                  <a:pt x="1499" y="13"/>
                </a:lnTo>
                <a:lnTo>
                  <a:pt x="1510" y="16"/>
                </a:lnTo>
                <a:lnTo>
                  <a:pt x="1522" y="20"/>
                </a:lnTo>
                <a:lnTo>
                  <a:pt x="1532" y="23"/>
                </a:lnTo>
                <a:lnTo>
                  <a:pt x="1540" y="28"/>
                </a:lnTo>
                <a:lnTo>
                  <a:pt x="1549" y="32"/>
                </a:lnTo>
                <a:lnTo>
                  <a:pt x="1556" y="38"/>
                </a:lnTo>
                <a:lnTo>
                  <a:pt x="1563" y="42"/>
                </a:lnTo>
                <a:lnTo>
                  <a:pt x="1570" y="48"/>
                </a:lnTo>
                <a:lnTo>
                  <a:pt x="1575" y="53"/>
                </a:lnTo>
                <a:lnTo>
                  <a:pt x="1581" y="58"/>
                </a:lnTo>
                <a:lnTo>
                  <a:pt x="1585" y="64"/>
                </a:lnTo>
                <a:lnTo>
                  <a:pt x="1588" y="69"/>
                </a:lnTo>
                <a:lnTo>
                  <a:pt x="1591" y="74"/>
                </a:lnTo>
                <a:lnTo>
                  <a:pt x="1594" y="79"/>
                </a:lnTo>
                <a:lnTo>
                  <a:pt x="1595" y="84"/>
                </a:lnTo>
                <a:lnTo>
                  <a:pt x="1596" y="88"/>
                </a:lnTo>
                <a:lnTo>
                  <a:pt x="1596" y="92"/>
                </a:lnTo>
                <a:lnTo>
                  <a:pt x="1598" y="97"/>
                </a:lnTo>
                <a:lnTo>
                  <a:pt x="1594" y="104"/>
                </a:lnTo>
                <a:lnTo>
                  <a:pt x="1588" y="111"/>
                </a:lnTo>
                <a:lnTo>
                  <a:pt x="1581" y="118"/>
                </a:lnTo>
                <a:lnTo>
                  <a:pt x="1572" y="125"/>
                </a:lnTo>
                <a:lnTo>
                  <a:pt x="1562" y="133"/>
                </a:lnTo>
                <a:lnTo>
                  <a:pt x="1552" y="140"/>
                </a:lnTo>
                <a:lnTo>
                  <a:pt x="1539" y="146"/>
                </a:lnTo>
                <a:lnTo>
                  <a:pt x="1526" y="153"/>
                </a:lnTo>
                <a:lnTo>
                  <a:pt x="1510" y="159"/>
                </a:lnTo>
                <a:lnTo>
                  <a:pt x="1494" y="164"/>
                </a:lnTo>
                <a:lnTo>
                  <a:pt x="1477" y="170"/>
                </a:lnTo>
                <a:lnTo>
                  <a:pt x="1457" y="176"/>
                </a:lnTo>
                <a:lnTo>
                  <a:pt x="1437" y="180"/>
                </a:lnTo>
                <a:lnTo>
                  <a:pt x="1415" y="186"/>
                </a:lnTo>
                <a:lnTo>
                  <a:pt x="1392" y="190"/>
                </a:lnTo>
                <a:lnTo>
                  <a:pt x="1368" y="195"/>
                </a:lnTo>
                <a:lnTo>
                  <a:pt x="1339" y="197"/>
                </a:lnTo>
                <a:lnTo>
                  <a:pt x="1311" y="202"/>
                </a:lnTo>
                <a:lnTo>
                  <a:pt x="1284" y="206"/>
                </a:lnTo>
                <a:lnTo>
                  <a:pt x="1257" y="212"/>
                </a:lnTo>
                <a:lnTo>
                  <a:pt x="1229" y="216"/>
                </a:lnTo>
                <a:lnTo>
                  <a:pt x="1203" y="222"/>
                </a:lnTo>
                <a:lnTo>
                  <a:pt x="1177" y="228"/>
                </a:lnTo>
                <a:lnTo>
                  <a:pt x="1153" y="232"/>
                </a:lnTo>
                <a:lnTo>
                  <a:pt x="1129" y="238"/>
                </a:lnTo>
                <a:lnTo>
                  <a:pt x="1104" y="243"/>
                </a:lnTo>
                <a:lnTo>
                  <a:pt x="1080" y="248"/>
                </a:lnTo>
                <a:lnTo>
                  <a:pt x="1057" y="254"/>
                </a:lnTo>
                <a:lnTo>
                  <a:pt x="1034" y="258"/>
                </a:lnTo>
                <a:lnTo>
                  <a:pt x="1010" y="262"/>
                </a:lnTo>
                <a:lnTo>
                  <a:pt x="989" y="267"/>
                </a:lnTo>
                <a:lnTo>
                  <a:pt x="967" y="271"/>
                </a:lnTo>
                <a:lnTo>
                  <a:pt x="944" y="278"/>
                </a:lnTo>
                <a:lnTo>
                  <a:pt x="923" y="285"/>
                </a:lnTo>
                <a:lnTo>
                  <a:pt x="898" y="292"/>
                </a:lnTo>
                <a:lnTo>
                  <a:pt x="874" y="300"/>
                </a:lnTo>
                <a:lnTo>
                  <a:pt x="848" y="307"/>
                </a:lnTo>
                <a:lnTo>
                  <a:pt x="822" y="314"/>
                </a:lnTo>
                <a:lnTo>
                  <a:pt x="795" y="321"/>
                </a:lnTo>
                <a:lnTo>
                  <a:pt x="767" y="328"/>
                </a:lnTo>
                <a:lnTo>
                  <a:pt x="737" y="336"/>
                </a:lnTo>
                <a:lnTo>
                  <a:pt x="708" y="343"/>
                </a:lnTo>
                <a:lnTo>
                  <a:pt x="677" y="350"/>
                </a:lnTo>
                <a:lnTo>
                  <a:pt x="645" y="357"/>
                </a:lnTo>
                <a:lnTo>
                  <a:pt x="612" y="364"/>
                </a:lnTo>
                <a:lnTo>
                  <a:pt x="579" y="372"/>
                </a:lnTo>
                <a:lnTo>
                  <a:pt x="544" y="379"/>
                </a:lnTo>
                <a:lnTo>
                  <a:pt x="510" y="387"/>
                </a:lnTo>
                <a:lnTo>
                  <a:pt x="491" y="390"/>
                </a:lnTo>
                <a:lnTo>
                  <a:pt x="474" y="395"/>
                </a:lnTo>
                <a:lnTo>
                  <a:pt x="458" y="398"/>
                </a:lnTo>
                <a:lnTo>
                  <a:pt x="440" y="400"/>
                </a:lnTo>
                <a:lnTo>
                  <a:pt x="425" y="403"/>
                </a:lnTo>
                <a:lnTo>
                  <a:pt x="410" y="406"/>
                </a:lnTo>
                <a:lnTo>
                  <a:pt x="394" y="409"/>
                </a:lnTo>
                <a:lnTo>
                  <a:pt x="380" y="412"/>
                </a:lnTo>
                <a:lnTo>
                  <a:pt x="366" y="415"/>
                </a:lnTo>
                <a:lnTo>
                  <a:pt x="353" y="418"/>
                </a:lnTo>
                <a:lnTo>
                  <a:pt x="340" y="419"/>
                </a:lnTo>
                <a:lnTo>
                  <a:pt x="327" y="422"/>
                </a:lnTo>
                <a:lnTo>
                  <a:pt x="314" y="423"/>
                </a:lnTo>
                <a:lnTo>
                  <a:pt x="302" y="425"/>
                </a:lnTo>
                <a:lnTo>
                  <a:pt x="291" y="428"/>
                </a:lnTo>
                <a:lnTo>
                  <a:pt x="279" y="429"/>
                </a:lnTo>
                <a:lnTo>
                  <a:pt x="269" y="429"/>
                </a:lnTo>
                <a:lnTo>
                  <a:pt x="259" y="431"/>
                </a:lnTo>
                <a:lnTo>
                  <a:pt x="249" y="432"/>
                </a:lnTo>
                <a:lnTo>
                  <a:pt x="240" y="432"/>
                </a:lnTo>
                <a:lnTo>
                  <a:pt x="232" y="434"/>
                </a:lnTo>
                <a:lnTo>
                  <a:pt x="223" y="434"/>
                </a:lnTo>
                <a:lnTo>
                  <a:pt x="216" y="434"/>
                </a:lnTo>
                <a:lnTo>
                  <a:pt x="207" y="434"/>
                </a:lnTo>
                <a:lnTo>
                  <a:pt x="201" y="434"/>
                </a:lnTo>
                <a:lnTo>
                  <a:pt x="194" y="434"/>
                </a:lnTo>
                <a:lnTo>
                  <a:pt x="189" y="432"/>
                </a:lnTo>
                <a:lnTo>
                  <a:pt x="183" y="432"/>
                </a:lnTo>
                <a:lnTo>
                  <a:pt x="177" y="431"/>
                </a:lnTo>
                <a:lnTo>
                  <a:pt x="173" y="429"/>
                </a:lnTo>
                <a:lnTo>
                  <a:pt x="168" y="428"/>
                </a:lnTo>
                <a:lnTo>
                  <a:pt x="165" y="426"/>
                </a:lnTo>
                <a:lnTo>
                  <a:pt x="154" y="425"/>
                </a:lnTo>
                <a:lnTo>
                  <a:pt x="144" y="425"/>
                </a:lnTo>
                <a:lnTo>
                  <a:pt x="135" y="423"/>
                </a:lnTo>
                <a:lnTo>
                  <a:pt x="125" y="422"/>
                </a:lnTo>
                <a:lnTo>
                  <a:pt x="117" y="421"/>
                </a:lnTo>
                <a:lnTo>
                  <a:pt x="108" y="418"/>
                </a:lnTo>
                <a:lnTo>
                  <a:pt x="99" y="415"/>
                </a:lnTo>
                <a:lnTo>
                  <a:pt x="91" y="412"/>
                </a:lnTo>
                <a:lnTo>
                  <a:pt x="83" y="408"/>
                </a:lnTo>
                <a:lnTo>
                  <a:pt x="75" y="403"/>
                </a:lnTo>
                <a:lnTo>
                  <a:pt x="68" y="399"/>
                </a:lnTo>
                <a:lnTo>
                  <a:pt x="60" y="393"/>
                </a:lnTo>
                <a:lnTo>
                  <a:pt x="53" y="387"/>
                </a:lnTo>
                <a:lnTo>
                  <a:pt x="46" y="382"/>
                </a:lnTo>
                <a:lnTo>
                  <a:pt x="39" y="374"/>
                </a:lnTo>
                <a:lnTo>
                  <a:pt x="32" y="3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36"/>
          <p:cNvSpPr/>
          <p:nvPr/>
        </p:nvSpPr>
        <p:spPr>
          <a:xfrm>
            <a:off x="5840280" y="3639960"/>
            <a:ext cx="222480" cy="263880"/>
          </a:xfrm>
          <a:custGeom>
            <a:avLst/>
            <a:gdLst/>
            <a:ahLst/>
            <a:rect l="l" t="t" r="r" b="b"/>
            <a:pathLst>
              <a:path w="421" h="498">
                <a:moveTo>
                  <a:pt x="0" y="8"/>
                </a:moveTo>
                <a:lnTo>
                  <a:pt x="5" y="4"/>
                </a:lnTo>
                <a:lnTo>
                  <a:pt x="9" y="2"/>
                </a:lnTo>
                <a:lnTo>
                  <a:pt x="13" y="0"/>
                </a:lnTo>
                <a:lnTo>
                  <a:pt x="19" y="0"/>
                </a:lnTo>
                <a:lnTo>
                  <a:pt x="25" y="0"/>
                </a:lnTo>
                <a:lnTo>
                  <a:pt x="32" y="0"/>
                </a:lnTo>
                <a:lnTo>
                  <a:pt x="39" y="1"/>
                </a:lnTo>
                <a:lnTo>
                  <a:pt x="48" y="2"/>
                </a:lnTo>
                <a:lnTo>
                  <a:pt x="56" y="4"/>
                </a:lnTo>
                <a:lnTo>
                  <a:pt x="68" y="7"/>
                </a:lnTo>
                <a:lnTo>
                  <a:pt x="79" y="10"/>
                </a:lnTo>
                <a:lnTo>
                  <a:pt x="91" y="13"/>
                </a:lnTo>
                <a:lnTo>
                  <a:pt x="105" y="15"/>
                </a:lnTo>
                <a:lnTo>
                  <a:pt x="120" y="20"/>
                </a:lnTo>
                <a:lnTo>
                  <a:pt x="136" y="23"/>
                </a:lnTo>
                <a:lnTo>
                  <a:pt x="153" y="27"/>
                </a:lnTo>
                <a:lnTo>
                  <a:pt x="167" y="34"/>
                </a:lnTo>
                <a:lnTo>
                  <a:pt x="180" y="41"/>
                </a:lnTo>
                <a:lnTo>
                  <a:pt x="206" y="56"/>
                </a:lnTo>
                <a:lnTo>
                  <a:pt x="232" y="72"/>
                </a:lnTo>
                <a:lnTo>
                  <a:pt x="255" y="87"/>
                </a:lnTo>
                <a:lnTo>
                  <a:pt x="278" y="103"/>
                </a:lnTo>
                <a:lnTo>
                  <a:pt x="290" y="112"/>
                </a:lnTo>
                <a:lnTo>
                  <a:pt x="301" y="122"/>
                </a:lnTo>
                <a:lnTo>
                  <a:pt x="311" y="131"/>
                </a:lnTo>
                <a:lnTo>
                  <a:pt x="323" y="141"/>
                </a:lnTo>
                <a:lnTo>
                  <a:pt x="333" y="152"/>
                </a:lnTo>
                <a:lnTo>
                  <a:pt x="344" y="162"/>
                </a:lnTo>
                <a:lnTo>
                  <a:pt x="354" y="174"/>
                </a:lnTo>
                <a:lnTo>
                  <a:pt x="363" y="184"/>
                </a:lnTo>
                <a:lnTo>
                  <a:pt x="372" y="195"/>
                </a:lnTo>
                <a:lnTo>
                  <a:pt x="379" y="207"/>
                </a:lnTo>
                <a:lnTo>
                  <a:pt x="386" y="217"/>
                </a:lnTo>
                <a:lnTo>
                  <a:pt x="393" y="229"/>
                </a:lnTo>
                <a:lnTo>
                  <a:pt x="398" y="240"/>
                </a:lnTo>
                <a:lnTo>
                  <a:pt x="403" y="252"/>
                </a:lnTo>
                <a:lnTo>
                  <a:pt x="408" y="263"/>
                </a:lnTo>
                <a:lnTo>
                  <a:pt x="411" y="276"/>
                </a:lnTo>
                <a:lnTo>
                  <a:pt x="413" y="288"/>
                </a:lnTo>
                <a:lnTo>
                  <a:pt x="416" y="300"/>
                </a:lnTo>
                <a:lnTo>
                  <a:pt x="418" y="313"/>
                </a:lnTo>
                <a:lnTo>
                  <a:pt x="419" y="328"/>
                </a:lnTo>
                <a:lnTo>
                  <a:pt x="419" y="341"/>
                </a:lnTo>
                <a:lnTo>
                  <a:pt x="421" y="355"/>
                </a:lnTo>
                <a:lnTo>
                  <a:pt x="419" y="370"/>
                </a:lnTo>
                <a:lnTo>
                  <a:pt x="419" y="383"/>
                </a:lnTo>
                <a:lnTo>
                  <a:pt x="418" y="395"/>
                </a:lnTo>
                <a:lnTo>
                  <a:pt x="416" y="407"/>
                </a:lnTo>
                <a:lnTo>
                  <a:pt x="413" y="417"/>
                </a:lnTo>
                <a:lnTo>
                  <a:pt x="411" y="427"/>
                </a:lnTo>
                <a:lnTo>
                  <a:pt x="408" y="436"/>
                </a:lnTo>
                <a:lnTo>
                  <a:pt x="403" y="444"/>
                </a:lnTo>
                <a:lnTo>
                  <a:pt x="398" y="453"/>
                </a:lnTo>
                <a:lnTo>
                  <a:pt x="393" y="460"/>
                </a:lnTo>
                <a:lnTo>
                  <a:pt x="386" y="466"/>
                </a:lnTo>
                <a:lnTo>
                  <a:pt x="379" y="472"/>
                </a:lnTo>
                <a:lnTo>
                  <a:pt x="372" y="478"/>
                </a:lnTo>
                <a:lnTo>
                  <a:pt x="363" y="483"/>
                </a:lnTo>
                <a:lnTo>
                  <a:pt x="354" y="488"/>
                </a:lnTo>
                <a:lnTo>
                  <a:pt x="344" y="492"/>
                </a:lnTo>
                <a:lnTo>
                  <a:pt x="333" y="495"/>
                </a:lnTo>
                <a:lnTo>
                  <a:pt x="323" y="496"/>
                </a:lnTo>
                <a:lnTo>
                  <a:pt x="311" y="498"/>
                </a:lnTo>
                <a:lnTo>
                  <a:pt x="301" y="498"/>
                </a:lnTo>
                <a:lnTo>
                  <a:pt x="290" y="496"/>
                </a:lnTo>
                <a:lnTo>
                  <a:pt x="280" y="495"/>
                </a:lnTo>
                <a:lnTo>
                  <a:pt x="268" y="491"/>
                </a:lnTo>
                <a:lnTo>
                  <a:pt x="258" y="486"/>
                </a:lnTo>
                <a:lnTo>
                  <a:pt x="246" y="480"/>
                </a:lnTo>
                <a:lnTo>
                  <a:pt x="242" y="476"/>
                </a:lnTo>
                <a:lnTo>
                  <a:pt x="236" y="473"/>
                </a:lnTo>
                <a:lnTo>
                  <a:pt x="231" y="469"/>
                </a:lnTo>
                <a:lnTo>
                  <a:pt x="225" y="463"/>
                </a:lnTo>
                <a:lnTo>
                  <a:pt x="221" y="459"/>
                </a:lnTo>
                <a:lnTo>
                  <a:pt x="215" y="453"/>
                </a:lnTo>
                <a:lnTo>
                  <a:pt x="209" y="447"/>
                </a:lnTo>
                <a:lnTo>
                  <a:pt x="203" y="440"/>
                </a:lnTo>
                <a:lnTo>
                  <a:pt x="199" y="434"/>
                </a:lnTo>
                <a:lnTo>
                  <a:pt x="193" y="427"/>
                </a:lnTo>
                <a:lnTo>
                  <a:pt x="187" y="420"/>
                </a:lnTo>
                <a:lnTo>
                  <a:pt x="182" y="411"/>
                </a:lnTo>
                <a:lnTo>
                  <a:pt x="177" y="403"/>
                </a:lnTo>
                <a:lnTo>
                  <a:pt x="172" y="394"/>
                </a:lnTo>
                <a:lnTo>
                  <a:pt x="162" y="377"/>
                </a:lnTo>
                <a:lnTo>
                  <a:pt x="150" y="358"/>
                </a:lnTo>
                <a:lnTo>
                  <a:pt x="140" y="341"/>
                </a:lnTo>
                <a:lnTo>
                  <a:pt x="130" y="325"/>
                </a:lnTo>
                <a:lnTo>
                  <a:pt x="110" y="292"/>
                </a:lnTo>
                <a:lnTo>
                  <a:pt x="100" y="276"/>
                </a:lnTo>
                <a:lnTo>
                  <a:pt x="91" y="262"/>
                </a:lnTo>
                <a:lnTo>
                  <a:pt x="82" y="246"/>
                </a:lnTo>
                <a:lnTo>
                  <a:pt x="74" y="230"/>
                </a:lnTo>
                <a:lnTo>
                  <a:pt x="67" y="216"/>
                </a:lnTo>
                <a:lnTo>
                  <a:pt x="59" y="201"/>
                </a:lnTo>
                <a:lnTo>
                  <a:pt x="54" y="187"/>
                </a:lnTo>
                <a:lnTo>
                  <a:pt x="48" y="172"/>
                </a:lnTo>
                <a:lnTo>
                  <a:pt x="42" y="158"/>
                </a:lnTo>
                <a:lnTo>
                  <a:pt x="39" y="144"/>
                </a:lnTo>
                <a:lnTo>
                  <a:pt x="35" y="129"/>
                </a:lnTo>
                <a:lnTo>
                  <a:pt x="32" y="116"/>
                </a:lnTo>
                <a:lnTo>
                  <a:pt x="28" y="103"/>
                </a:lnTo>
                <a:lnTo>
                  <a:pt x="25" y="92"/>
                </a:lnTo>
                <a:lnTo>
                  <a:pt x="22" y="80"/>
                </a:lnTo>
                <a:lnTo>
                  <a:pt x="18" y="70"/>
                </a:lnTo>
                <a:lnTo>
                  <a:pt x="15" y="62"/>
                </a:lnTo>
                <a:lnTo>
                  <a:pt x="12" y="53"/>
                </a:lnTo>
                <a:lnTo>
                  <a:pt x="10" y="46"/>
                </a:lnTo>
                <a:lnTo>
                  <a:pt x="7" y="38"/>
                </a:lnTo>
                <a:lnTo>
                  <a:pt x="6" y="31"/>
                </a:lnTo>
                <a:lnTo>
                  <a:pt x="3" y="26"/>
                </a:lnTo>
                <a:lnTo>
                  <a:pt x="2" y="20"/>
                </a:lnTo>
                <a:lnTo>
                  <a:pt x="2" y="15"/>
                </a:lnTo>
                <a:lnTo>
                  <a:pt x="0" y="11"/>
                </a:lnTo>
                <a:lnTo>
                  <a:pt x="0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37"/>
          <p:cNvSpPr/>
          <p:nvPr/>
        </p:nvSpPr>
        <p:spPr>
          <a:xfrm>
            <a:off x="6432480" y="3537000"/>
            <a:ext cx="268200" cy="323640"/>
          </a:xfrm>
          <a:custGeom>
            <a:avLst/>
            <a:gdLst/>
            <a:ahLst/>
            <a:rect l="l" t="t" r="r" b="b"/>
            <a:pathLst>
              <a:path w="506" h="612">
                <a:moveTo>
                  <a:pt x="274" y="415"/>
                </a:moveTo>
                <a:lnTo>
                  <a:pt x="259" y="428"/>
                </a:lnTo>
                <a:lnTo>
                  <a:pt x="246" y="439"/>
                </a:lnTo>
                <a:lnTo>
                  <a:pt x="232" y="452"/>
                </a:lnTo>
                <a:lnTo>
                  <a:pt x="219" y="464"/>
                </a:lnTo>
                <a:lnTo>
                  <a:pt x="208" y="475"/>
                </a:lnTo>
                <a:lnTo>
                  <a:pt x="195" y="485"/>
                </a:lnTo>
                <a:lnTo>
                  <a:pt x="183" y="495"/>
                </a:lnTo>
                <a:lnTo>
                  <a:pt x="172" y="506"/>
                </a:lnTo>
                <a:lnTo>
                  <a:pt x="160" y="516"/>
                </a:lnTo>
                <a:lnTo>
                  <a:pt x="149" y="524"/>
                </a:lnTo>
                <a:lnTo>
                  <a:pt x="138" y="533"/>
                </a:lnTo>
                <a:lnTo>
                  <a:pt x="128" y="542"/>
                </a:lnTo>
                <a:lnTo>
                  <a:pt x="118" y="550"/>
                </a:lnTo>
                <a:lnTo>
                  <a:pt x="108" y="557"/>
                </a:lnTo>
                <a:lnTo>
                  <a:pt x="100" y="565"/>
                </a:lnTo>
                <a:lnTo>
                  <a:pt x="91" y="570"/>
                </a:lnTo>
                <a:lnTo>
                  <a:pt x="82" y="576"/>
                </a:lnTo>
                <a:lnTo>
                  <a:pt x="74" y="582"/>
                </a:lnTo>
                <a:lnTo>
                  <a:pt x="66" y="588"/>
                </a:lnTo>
                <a:lnTo>
                  <a:pt x="59" y="592"/>
                </a:lnTo>
                <a:lnTo>
                  <a:pt x="54" y="596"/>
                </a:lnTo>
                <a:lnTo>
                  <a:pt x="46" y="601"/>
                </a:lnTo>
                <a:lnTo>
                  <a:pt x="41" y="603"/>
                </a:lnTo>
                <a:lnTo>
                  <a:pt x="35" y="606"/>
                </a:lnTo>
                <a:lnTo>
                  <a:pt x="31" y="608"/>
                </a:lnTo>
                <a:lnTo>
                  <a:pt x="25" y="609"/>
                </a:lnTo>
                <a:lnTo>
                  <a:pt x="22" y="611"/>
                </a:lnTo>
                <a:lnTo>
                  <a:pt x="18" y="612"/>
                </a:lnTo>
                <a:lnTo>
                  <a:pt x="15" y="612"/>
                </a:lnTo>
                <a:lnTo>
                  <a:pt x="12" y="611"/>
                </a:lnTo>
                <a:lnTo>
                  <a:pt x="9" y="611"/>
                </a:lnTo>
                <a:lnTo>
                  <a:pt x="7" y="609"/>
                </a:lnTo>
                <a:lnTo>
                  <a:pt x="5" y="608"/>
                </a:lnTo>
                <a:lnTo>
                  <a:pt x="3" y="608"/>
                </a:lnTo>
                <a:lnTo>
                  <a:pt x="2" y="606"/>
                </a:lnTo>
                <a:lnTo>
                  <a:pt x="2" y="605"/>
                </a:lnTo>
                <a:lnTo>
                  <a:pt x="0" y="603"/>
                </a:lnTo>
                <a:lnTo>
                  <a:pt x="0" y="601"/>
                </a:lnTo>
                <a:lnTo>
                  <a:pt x="0" y="598"/>
                </a:lnTo>
                <a:lnTo>
                  <a:pt x="0" y="595"/>
                </a:lnTo>
                <a:lnTo>
                  <a:pt x="0" y="590"/>
                </a:lnTo>
                <a:lnTo>
                  <a:pt x="2" y="586"/>
                </a:lnTo>
                <a:lnTo>
                  <a:pt x="2" y="582"/>
                </a:lnTo>
                <a:lnTo>
                  <a:pt x="3" y="576"/>
                </a:lnTo>
                <a:lnTo>
                  <a:pt x="5" y="570"/>
                </a:lnTo>
                <a:lnTo>
                  <a:pt x="7" y="565"/>
                </a:lnTo>
                <a:lnTo>
                  <a:pt x="9" y="557"/>
                </a:lnTo>
                <a:lnTo>
                  <a:pt x="12" y="552"/>
                </a:lnTo>
                <a:lnTo>
                  <a:pt x="15" y="543"/>
                </a:lnTo>
                <a:lnTo>
                  <a:pt x="18" y="536"/>
                </a:lnTo>
                <a:lnTo>
                  <a:pt x="22" y="527"/>
                </a:lnTo>
                <a:lnTo>
                  <a:pt x="25" y="519"/>
                </a:lnTo>
                <a:lnTo>
                  <a:pt x="29" y="508"/>
                </a:lnTo>
                <a:lnTo>
                  <a:pt x="33" y="500"/>
                </a:lnTo>
                <a:lnTo>
                  <a:pt x="39" y="490"/>
                </a:lnTo>
                <a:lnTo>
                  <a:pt x="45" y="478"/>
                </a:lnTo>
                <a:lnTo>
                  <a:pt x="51" y="468"/>
                </a:lnTo>
                <a:lnTo>
                  <a:pt x="56" y="455"/>
                </a:lnTo>
                <a:lnTo>
                  <a:pt x="62" y="444"/>
                </a:lnTo>
                <a:lnTo>
                  <a:pt x="69" y="431"/>
                </a:lnTo>
                <a:lnTo>
                  <a:pt x="77" y="418"/>
                </a:lnTo>
                <a:lnTo>
                  <a:pt x="85" y="405"/>
                </a:lnTo>
                <a:lnTo>
                  <a:pt x="94" y="390"/>
                </a:lnTo>
                <a:lnTo>
                  <a:pt x="102" y="377"/>
                </a:lnTo>
                <a:lnTo>
                  <a:pt x="115" y="352"/>
                </a:lnTo>
                <a:lnTo>
                  <a:pt x="127" y="327"/>
                </a:lnTo>
                <a:lnTo>
                  <a:pt x="138" y="304"/>
                </a:lnTo>
                <a:lnTo>
                  <a:pt x="149" y="282"/>
                </a:lnTo>
                <a:lnTo>
                  <a:pt x="157" y="261"/>
                </a:lnTo>
                <a:lnTo>
                  <a:pt x="164" y="241"/>
                </a:lnTo>
                <a:lnTo>
                  <a:pt x="170" y="222"/>
                </a:lnTo>
                <a:lnTo>
                  <a:pt x="176" y="205"/>
                </a:lnTo>
                <a:lnTo>
                  <a:pt x="179" y="187"/>
                </a:lnTo>
                <a:lnTo>
                  <a:pt x="182" y="172"/>
                </a:lnTo>
                <a:lnTo>
                  <a:pt x="185" y="159"/>
                </a:lnTo>
                <a:lnTo>
                  <a:pt x="185" y="146"/>
                </a:lnTo>
                <a:lnTo>
                  <a:pt x="185" y="133"/>
                </a:lnTo>
                <a:lnTo>
                  <a:pt x="183" y="123"/>
                </a:lnTo>
                <a:lnTo>
                  <a:pt x="182" y="114"/>
                </a:lnTo>
                <a:lnTo>
                  <a:pt x="179" y="105"/>
                </a:lnTo>
                <a:lnTo>
                  <a:pt x="172" y="98"/>
                </a:lnTo>
                <a:lnTo>
                  <a:pt x="166" y="91"/>
                </a:lnTo>
                <a:lnTo>
                  <a:pt x="162" y="84"/>
                </a:lnTo>
                <a:lnTo>
                  <a:pt x="157" y="77"/>
                </a:lnTo>
                <a:lnTo>
                  <a:pt x="154" y="69"/>
                </a:lnTo>
                <a:lnTo>
                  <a:pt x="151" y="64"/>
                </a:lnTo>
                <a:lnTo>
                  <a:pt x="150" y="56"/>
                </a:lnTo>
                <a:lnTo>
                  <a:pt x="150" y="49"/>
                </a:lnTo>
                <a:lnTo>
                  <a:pt x="150" y="43"/>
                </a:lnTo>
                <a:lnTo>
                  <a:pt x="151" y="38"/>
                </a:lnTo>
                <a:lnTo>
                  <a:pt x="154" y="32"/>
                </a:lnTo>
                <a:lnTo>
                  <a:pt x="157" y="26"/>
                </a:lnTo>
                <a:lnTo>
                  <a:pt x="160" y="22"/>
                </a:lnTo>
                <a:lnTo>
                  <a:pt x="166" y="18"/>
                </a:lnTo>
                <a:lnTo>
                  <a:pt x="172" y="13"/>
                </a:lnTo>
                <a:lnTo>
                  <a:pt x="179" y="9"/>
                </a:lnTo>
                <a:lnTo>
                  <a:pt x="182" y="6"/>
                </a:lnTo>
                <a:lnTo>
                  <a:pt x="187" y="3"/>
                </a:lnTo>
                <a:lnTo>
                  <a:pt x="193" y="2"/>
                </a:lnTo>
                <a:lnTo>
                  <a:pt x="199" y="0"/>
                </a:lnTo>
                <a:lnTo>
                  <a:pt x="208" y="0"/>
                </a:lnTo>
                <a:lnTo>
                  <a:pt x="216" y="2"/>
                </a:lnTo>
                <a:lnTo>
                  <a:pt x="225" y="2"/>
                </a:lnTo>
                <a:lnTo>
                  <a:pt x="235" y="3"/>
                </a:lnTo>
                <a:lnTo>
                  <a:pt x="246" y="6"/>
                </a:lnTo>
                <a:lnTo>
                  <a:pt x="258" y="9"/>
                </a:lnTo>
                <a:lnTo>
                  <a:pt x="271" y="10"/>
                </a:lnTo>
                <a:lnTo>
                  <a:pt x="285" y="15"/>
                </a:lnTo>
                <a:lnTo>
                  <a:pt x="300" y="18"/>
                </a:lnTo>
                <a:lnTo>
                  <a:pt x="316" y="20"/>
                </a:lnTo>
                <a:lnTo>
                  <a:pt x="333" y="25"/>
                </a:lnTo>
                <a:lnTo>
                  <a:pt x="350" y="29"/>
                </a:lnTo>
                <a:lnTo>
                  <a:pt x="367" y="32"/>
                </a:lnTo>
                <a:lnTo>
                  <a:pt x="383" y="36"/>
                </a:lnTo>
                <a:lnTo>
                  <a:pt x="398" y="41"/>
                </a:lnTo>
                <a:lnTo>
                  <a:pt x="412" y="46"/>
                </a:lnTo>
                <a:lnTo>
                  <a:pt x="424" y="52"/>
                </a:lnTo>
                <a:lnTo>
                  <a:pt x="435" y="58"/>
                </a:lnTo>
                <a:lnTo>
                  <a:pt x="445" y="64"/>
                </a:lnTo>
                <a:lnTo>
                  <a:pt x="455" y="69"/>
                </a:lnTo>
                <a:lnTo>
                  <a:pt x="464" y="75"/>
                </a:lnTo>
                <a:lnTo>
                  <a:pt x="471" y="82"/>
                </a:lnTo>
                <a:lnTo>
                  <a:pt x="478" y="90"/>
                </a:lnTo>
                <a:lnTo>
                  <a:pt x="484" y="97"/>
                </a:lnTo>
                <a:lnTo>
                  <a:pt x="490" y="102"/>
                </a:lnTo>
                <a:lnTo>
                  <a:pt x="494" y="110"/>
                </a:lnTo>
                <a:lnTo>
                  <a:pt x="498" y="117"/>
                </a:lnTo>
                <a:lnTo>
                  <a:pt x="503" y="126"/>
                </a:lnTo>
                <a:lnTo>
                  <a:pt x="504" y="130"/>
                </a:lnTo>
                <a:lnTo>
                  <a:pt x="506" y="136"/>
                </a:lnTo>
                <a:lnTo>
                  <a:pt x="506" y="143"/>
                </a:lnTo>
                <a:lnTo>
                  <a:pt x="506" y="149"/>
                </a:lnTo>
                <a:lnTo>
                  <a:pt x="504" y="154"/>
                </a:lnTo>
                <a:lnTo>
                  <a:pt x="503" y="161"/>
                </a:lnTo>
                <a:lnTo>
                  <a:pt x="501" y="169"/>
                </a:lnTo>
                <a:lnTo>
                  <a:pt x="498" y="176"/>
                </a:lnTo>
                <a:lnTo>
                  <a:pt x="495" y="183"/>
                </a:lnTo>
                <a:lnTo>
                  <a:pt x="493" y="190"/>
                </a:lnTo>
                <a:lnTo>
                  <a:pt x="488" y="197"/>
                </a:lnTo>
                <a:lnTo>
                  <a:pt x="484" y="206"/>
                </a:lnTo>
                <a:lnTo>
                  <a:pt x="478" y="215"/>
                </a:lnTo>
                <a:lnTo>
                  <a:pt x="472" y="223"/>
                </a:lnTo>
                <a:lnTo>
                  <a:pt x="467" y="232"/>
                </a:lnTo>
                <a:lnTo>
                  <a:pt x="460" y="241"/>
                </a:lnTo>
                <a:lnTo>
                  <a:pt x="452" y="249"/>
                </a:lnTo>
                <a:lnTo>
                  <a:pt x="444" y="259"/>
                </a:lnTo>
                <a:lnTo>
                  <a:pt x="435" y="268"/>
                </a:lnTo>
                <a:lnTo>
                  <a:pt x="426" y="278"/>
                </a:lnTo>
                <a:lnTo>
                  <a:pt x="416" y="288"/>
                </a:lnTo>
                <a:lnTo>
                  <a:pt x="406" y="298"/>
                </a:lnTo>
                <a:lnTo>
                  <a:pt x="396" y="310"/>
                </a:lnTo>
                <a:lnTo>
                  <a:pt x="385" y="320"/>
                </a:lnTo>
                <a:lnTo>
                  <a:pt x="372" y="331"/>
                </a:lnTo>
                <a:lnTo>
                  <a:pt x="360" y="343"/>
                </a:lnTo>
                <a:lnTo>
                  <a:pt x="347" y="354"/>
                </a:lnTo>
                <a:lnTo>
                  <a:pt x="333" y="366"/>
                </a:lnTo>
                <a:lnTo>
                  <a:pt x="320" y="377"/>
                </a:lnTo>
                <a:lnTo>
                  <a:pt x="304" y="390"/>
                </a:lnTo>
                <a:lnTo>
                  <a:pt x="290" y="402"/>
                </a:lnTo>
                <a:lnTo>
                  <a:pt x="274" y="4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38"/>
          <p:cNvSpPr/>
          <p:nvPr/>
        </p:nvSpPr>
        <p:spPr>
          <a:xfrm>
            <a:off x="5676840" y="2819520"/>
            <a:ext cx="709560" cy="2136600"/>
          </a:xfrm>
          <a:custGeom>
            <a:avLst/>
            <a:gdLst/>
            <a:ahLst/>
            <a:rect l="l" t="t" r="r" b="b"/>
            <a:pathLst>
              <a:path w="1339" h="4036">
                <a:moveTo>
                  <a:pt x="1034" y="686"/>
                </a:moveTo>
                <a:lnTo>
                  <a:pt x="1032" y="657"/>
                </a:lnTo>
                <a:lnTo>
                  <a:pt x="1031" y="629"/>
                </a:lnTo>
                <a:lnTo>
                  <a:pt x="1028" y="603"/>
                </a:lnTo>
                <a:lnTo>
                  <a:pt x="1027" y="575"/>
                </a:lnTo>
                <a:lnTo>
                  <a:pt x="1025" y="551"/>
                </a:lnTo>
                <a:lnTo>
                  <a:pt x="1022" y="525"/>
                </a:lnTo>
                <a:lnTo>
                  <a:pt x="1021" y="502"/>
                </a:lnTo>
                <a:lnTo>
                  <a:pt x="1019" y="479"/>
                </a:lnTo>
                <a:lnTo>
                  <a:pt x="1017" y="456"/>
                </a:lnTo>
                <a:lnTo>
                  <a:pt x="1015" y="434"/>
                </a:lnTo>
                <a:lnTo>
                  <a:pt x="1012" y="414"/>
                </a:lnTo>
                <a:lnTo>
                  <a:pt x="1011" y="394"/>
                </a:lnTo>
                <a:lnTo>
                  <a:pt x="1008" y="374"/>
                </a:lnTo>
                <a:lnTo>
                  <a:pt x="1005" y="355"/>
                </a:lnTo>
                <a:lnTo>
                  <a:pt x="1004" y="338"/>
                </a:lnTo>
                <a:lnTo>
                  <a:pt x="1001" y="321"/>
                </a:lnTo>
                <a:lnTo>
                  <a:pt x="998" y="305"/>
                </a:lnTo>
                <a:lnTo>
                  <a:pt x="995" y="289"/>
                </a:lnTo>
                <a:lnTo>
                  <a:pt x="992" y="273"/>
                </a:lnTo>
                <a:lnTo>
                  <a:pt x="988" y="259"/>
                </a:lnTo>
                <a:lnTo>
                  <a:pt x="985" y="246"/>
                </a:lnTo>
                <a:lnTo>
                  <a:pt x="982" y="233"/>
                </a:lnTo>
                <a:lnTo>
                  <a:pt x="978" y="221"/>
                </a:lnTo>
                <a:lnTo>
                  <a:pt x="975" y="210"/>
                </a:lnTo>
                <a:lnTo>
                  <a:pt x="970" y="198"/>
                </a:lnTo>
                <a:lnTo>
                  <a:pt x="966" y="190"/>
                </a:lnTo>
                <a:lnTo>
                  <a:pt x="962" y="180"/>
                </a:lnTo>
                <a:lnTo>
                  <a:pt x="958" y="171"/>
                </a:lnTo>
                <a:lnTo>
                  <a:pt x="953" y="164"/>
                </a:lnTo>
                <a:lnTo>
                  <a:pt x="949" y="157"/>
                </a:lnTo>
                <a:lnTo>
                  <a:pt x="943" y="149"/>
                </a:lnTo>
                <a:lnTo>
                  <a:pt x="939" y="144"/>
                </a:lnTo>
                <a:lnTo>
                  <a:pt x="927" y="136"/>
                </a:lnTo>
                <a:lnTo>
                  <a:pt x="919" y="129"/>
                </a:lnTo>
                <a:lnTo>
                  <a:pt x="910" y="122"/>
                </a:lnTo>
                <a:lnTo>
                  <a:pt x="903" y="115"/>
                </a:lnTo>
                <a:lnTo>
                  <a:pt x="896" y="108"/>
                </a:lnTo>
                <a:lnTo>
                  <a:pt x="890" y="100"/>
                </a:lnTo>
                <a:lnTo>
                  <a:pt x="886" y="93"/>
                </a:lnTo>
                <a:lnTo>
                  <a:pt x="881" y="86"/>
                </a:lnTo>
                <a:lnTo>
                  <a:pt x="878" y="79"/>
                </a:lnTo>
                <a:lnTo>
                  <a:pt x="875" y="72"/>
                </a:lnTo>
                <a:lnTo>
                  <a:pt x="874" y="64"/>
                </a:lnTo>
                <a:lnTo>
                  <a:pt x="874" y="57"/>
                </a:lnTo>
                <a:lnTo>
                  <a:pt x="874" y="50"/>
                </a:lnTo>
                <a:lnTo>
                  <a:pt x="875" y="43"/>
                </a:lnTo>
                <a:lnTo>
                  <a:pt x="877" y="36"/>
                </a:lnTo>
                <a:lnTo>
                  <a:pt x="881" y="28"/>
                </a:lnTo>
                <a:lnTo>
                  <a:pt x="884" y="24"/>
                </a:lnTo>
                <a:lnTo>
                  <a:pt x="888" y="21"/>
                </a:lnTo>
                <a:lnTo>
                  <a:pt x="894" y="17"/>
                </a:lnTo>
                <a:lnTo>
                  <a:pt x="900" y="14"/>
                </a:lnTo>
                <a:lnTo>
                  <a:pt x="906" y="11"/>
                </a:lnTo>
                <a:lnTo>
                  <a:pt x="913" y="8"/>
                </a:lnTo>
                <a:lnTo>
                  <a:pt x="920" y="5"/>
                </a:lnTo>
                <a:lnTo>
                  <a:pt x="929" y="4"/>
                </a:lnTo>
                <a:lnTo>
                  <a:pt x="937" y="2"/>
                </a:lnTo>
                <a:lnTo>
                  <a:pt x="949" y="1"/>
                </a:lnTo>
                <a:lnTo>
                  <a:pt x="960" y="0"/>
                </a:lnTo>
                <a:lnTo>
                  <a:pt x="972" y="1"/>
                </a:lnTo>
                <a:lnTo>
                  <a:pt x="986" y="1"/>
                </a:lnTo>
                <a:lnTo>
                  <a:pt x="1001" y="2"/>
                </a:lnTo>
                <a:lnTo>
                  <a:pt x="1017" y="5"/>
                </a:lnTo>
                <a:lnTo>
                  <a:pt x="1034" y="8"/>
                </a:lnTo>
                <a:lnTo>
                  <a:pt x="1051" y="13"/>
                </a:lnTo>
                <a:lnTo>
                  <a:pt x="1068" y="17"/>
                </a:lnTo>
                <a:lnTo>
                  <a:pt x="1086" y="21"/>
                </a:lnTo>
                <a:lnTo>
                  <a:pt x="1101" y="26"/>
                </a:lnTo>
                <a:lnTo>
                  <a:pt x="1117" y="31"/>
                </a:lnTo>
                <a:lnTo>
                  <a:pt x="1133" y="37"/>
                </a:lnTo>
                <a:lnTo>
                  <a:pt x="1148" y="41"/>
                </a:lnTo>
                <a:lnTo>
                  <a:pt x="1162" y="47"/>
                </a:lnTo>
                <a:lnTo>
                  <a:pt x="1176" y="53"/>
                </a:lnTo>
                <a:lnTo>
                  <a:pt x="1191" y="57"/>
                </a:lnTo>
                <a:lnTo>
                  <a:pt x="1204" y="63"/>
                </a:lnTo>
                <a:lnTo>
                  <a:pt x="1217" y="69"/>
                </a:lnTo>
                <a:lnTo>
                  <a:pt x="1228" y="73"/>
                </a:lnTo>
                <a:lnTo>
                  <a:pt x="1240" y="77"/>
                </a:lnTo>
                <a:lnTo>
                  <a:pt x="1251" y="82"/>
                </a:lnTo>
                <a:lnTo>
                  <a:pt x="1263" y="86"/>
                </a:lnTo>
                <a:lnTo>
                  <a:pt x="1273" y="93"/>
                </a:lnTo>
                <a:lnTo>
                  <a:pt x="1283" y="100"/>
                </a:lnTo>
                <a:lnTo>
                  <a:pt x="1292" y="108"/>
                </a:lnTo>
                <a:lnTo>
                  <a:pt x="1299" y="115"/>
                </a:lnTo>
                <a:lnTo>
                  <a:pt x="1306" y="122"/>
                </a:lnTo>
                <a:lnTo>
                  <a:pt x="1312" y="129"/>
                </a:lnTo>
                <a:lnTo>
                  <a:pt x="1317" y="136"/>
                </a:lnTo>
                <a:lnTo>
                  <a:pt x="1322" y="144"/>
                </a:lnTo>
                <a:lnTo>
                  <a:pt x="1326" y="151"/>
                </a:lnTo>
                <a:lnTo>
                  <a:pt x="1330" y="158"/>
                </a:lnTo>
                <a:lnTo>
                  <a:pt x="1333" y="165"/>
                </a:lnTo>
                <a:lnTo>
                  <a:pt x="1335" y="172"/>
                </a:lnTo>
                <a:lnTo>
                  <a:pt x="1338" y="180"/>
                </a:lnTo>
                <a:lnTo>
                  <a:pt x="1338" y="187"/>
                </a:lnTo>
                <a:lnTo>
                  <a:pt x="1339" y="194"/>
                </a:lnTo>
                <a:lnTo>
                  <a:pt x="1339" y="203"/>
                </a:lnTo>
                <a:lnTo>
                  <a:pt x="1339" y="210"/>
                </a:lnTo>
                <a:lnTo>
                  <a:pt x="1339" y="218"/>
                </a:lnTo>
                <a:lnTo>
                  <a:pt x="1339" y="228"/>
                </a:lnTo>
                <a:lnTo>
                  <a:pt x="1339" y="239"/>
                </a:lnTo>
                <a:lnTo>
                  <a:pt x="1339" y="250"/>
                </a:lnTo>
                <a:lnTo>
                  <a:pt x="1339" y="262"/>
                </a:lnTo>
                <a:lnTo>
                  <a:pt x="1339" y="275"/>
                </a:lnTo>
                <a:lnTo>
                  <a:pt x="1339" y="289"/>
                </a:lnTo>
                <a:lnTo>
                  <a:pt x="1339" y="303"/>
                </a:lnTo>
                <a:lnTo>
                  <a:pt x="1339" y="319"/>
                </a:lnTo>
                <a:lnTo>
                  <a:pt x="1339" y="336"/>
                </a:lnTo>
                <a:lnTo>
                  <a:pt x="1339" y="354"/>
                </a:lnTo>
                <a:lnTo>
                  <a:pt x="1339" y="372"/>
                </a:lnTo>
                <a:lnTo>
                  <a:pt x="1339" y="393"/>
                </a:lnTo>
                <a:lnTo>
                  <a:pt x="1339" y="413"/>
                </a:lnTo>
                <a:lnTo>
                  <a:pt x="1339" y="434"/>
                </a:lnTo>
                <a:lnTo>
                  <a:pt x="1338" y="446"/>
                </a:lnTo>
                <a:lnTo>
                  <a:pt x="1336" y="459"/>
                </a:lnTo>
                <a:lnTo>
                  <a:pt x="1335" y="473"/>
                </a:lnTo>
                <a:lnTo>
                  <a:pt x="1333" y="489"/>
                </a:lnTo>
                <a:lnTo>
                  <a:pt x="1332" y="506"/>
                </a:lnTo>
                <a:lnTo>
                  <a:pt x="1330" y="524"/>
                </a:lnTo>
                <a:lnTo>
                  <a:pt x="1329" y="544"/>
                </a:lnTo>
                <a:lnTo>
                  <a:pt x="1328" y="565"/>
                </a:lnTo>
                <a:lnTo>
                  <a:pt x="1326" y="588"/>
                </a:lnTo>
                <a:lnTo>
                  <a:pt x="1326" y="611"/>
                </a:lnTo>
                <a:lnTo>
                  <a:pt x="1325" y="637"/>
                </a:lnTo>
                <a:lnTo>
                  <a:pt x="1323" y="663"/>
                </a:lnTo>
                <a:lnTo>
                  <a:pt x="1323" y="692"/>
                </a:lnTo>
                <a:lnTo>
                  <a:pt x="1322" y="722"/>
                </a:lnTo>
                <a:lnTo>
                  <a:pt x="1320" y="753"/>
                </a:lnTo>
                <a:lnTo>
                  <a:pt x="1320" y="786"/>
                </a:lnTo>
                <a:lnTo>
                  <a:pt x="1319" y="819"/>
                </a:lnTo>
                <a:lnTo>
                  <a:pt x="1317" y="853"/>
                </a:lnTo>
                <a:lnTo>
                  <a:pt x="1317" y="891"/>
                </a:lnTo>
                <a:lnTo>
                  <a:pt x="1316" y="928"/>
                </a:lnTo>
                <a:lnTo>
                  <a:pt x="1316" y="968"/>
                </a:lnTo>
                <a:lnTo>
                  <a:pt x="1315" y="1009"/>
                </a:lnTo>
                <a:lnTo>
                  <a:pt x="1313" y="1052"/>
                </a:lnTo>
                <a:lnTo>
                  <a:pt x="1312" y="1095"/>
                </a:lnTo>
                <a:lnTo>
                  <a:pt x="1312" y="1141"/>
                </a:lnTo>
                <a:lnTo>
                  <a:pt x="1310" y="1187"/>
                </a:lnTo>
                <a:lnTo>
                  <a:pt x="1309" y="1236"/>
                </a:lnTo>
                <a:lnTo>
                  <a:pt x="1307" y="1285"/>
                </a:lnTo>
                <a:lnTo>
                  <a:pt x="1306" y="1336"/>
                </a:lnTo>
                <a:lnTo>
                  <a:pt x="1304" y="1389"/>
                </a:lnTo>
                <a:lnTo>
                  <a:pt x="1303" y="1442"/>
                </a:lnTo>
                <a:lnTo>
                  <a:pt x="1302" y="1498"/>
                </a:lnTo>
                <a:lnTo>
                  <a:pt x="1296" y="1609"/>
                </a:lnTo>
                <a:lnTo>
                  <a:pt x="1290" y="1717"/>
                </a:lnTo>
                <a:lnTo>
                  <a:pt x="1281" y="1822"/>
                </a:lnTo>
                <a:lnTo>
                  <a:pt x="1271" y="1923"/>
                </a:lnTo>
                <a:lnTo>
                  <a:pt x="1260" y="2022"/>
                </a:lnTo>
                <a:lnTo>
                  <a:pt x="1247" y="2117"/>
                </a:lnTo>
                <a:lnTo>
                  <a:pt x="1231" y="2211"/>
                </a:lnTo>
                <a:lnTo>
                  <a:pt x="1214" y="2300"/>
                </a:lnTo>
                <a:lnTo>
                  <a:pt x="1195" y="2388"/>
                </a:lnTo>
                <a:lnTo>
                  <a:pt x="1175" y="2473"/>
                </a:lnTo>
                <a:lnTo>
                  <a:pt x="1152" y="2555"/>
                </a:lnTo>
                <a:lnTo>
                  <a:pt x="1127" y="2636"/>
                </a:lnTo>
                <a:lnTo>
                  <a:pt x="1101" y="2712"/>
                </a:lnTo>
                <a:lnTo>
                  <a:pt x="1074" y="2787"/>
                </a:lnTo>
                <a:lnTo>
                  <a:pt x="1045" y="2860"/>
                </a:lnTo>
                <a:lnTo>
                  <a:pt x="1015" y="2931"/>
                </a:lnTo>
                <a:lnTo>
                  <a:pt x="998" y="2964"/>
                </a:lnTo>
                <a:lnTo>
                  <a:pt x="982" y="2998"/>
                </a:lnTo>
                <a:lnTo>
                  <a:pt x="966" y="3031"/>
                </a:lnTo>
                <a:lnTo>
                  <a:pt x="949" y="3065"/>
                </a:lnTo>
                <a:lnTo>
                  <a:pt x="932" y="3096"/>
                </a:lnTo>
                <a:lnTo>
                  <a:pt x="914" y="3129"/>
                </a:lnTo>
                <a:lnTo>
                  <a:pt x="897" y="3160"/>
                </a:lnTo>
                <a:lnTo>
                  <a:pt x="880" y="3191"/>
                </a:lnTo>
                <a:lnTo>
                  <a:pt x="861" y="3221"/>
                </a:lnTo>
                <a:lnTo>
                  <a:pt x="842" y="3252"/>
                </a:lnTo>
                <a:lnTo>
                  <a:pt x="825" y="3280"/>
                </a:lnTo>
                <a:lnTo>
                  <a:pt x="806" y="3309"/>
                </a:lnTo>
                <a:lnTo>
                  <a:pt x="786" y="3338"/>
                </a:lnTo>
                <a:lnTo>
                  <a:pt x="768" y="3367"/>
                </a:lnTo>
                <a:lnTo>
                  <a:pt x="749" y="3394"/>
                </a:lnTo>
                <a:lnTo>
                  <a:pt x="729" y="3420"/>
                </a:lnTo>
                <a:lnTo>
                  <a:pt x="708" y="3447"/>
                </a:lnTo>
                <a:lnTo>
                  <a:pt x="688" y="3473"/>
                </a:lnTo>
                <a:lnTo>
                  <a:pt x="668" y="3498"/>
                </a:lnTo>
                <a:lnTo>
                  <a:pt x="648" y="3524"/>
                </a:lnTo>
                <a:lnTo>
                  <a:pt x="626" y="3547"/>
                </a:lnTo>
                <a:lnTo>
                  <a:pt x="606" y="3571"/>
                </a:lnTo>
                <a:lnTo>
                  <a:pt x="585" y="3594"/>
                </a:lnTo>
                <a:lnTo>
                  <a:pt x="563" y="3617"/>
                </a:lnTo>
                <a:lnTo>
                  <a:pt x="542" y="3640"/>
                </a:lnTo>
                <a:lnTo>
                  <a:pt x="520" y="3662"/>
                </a:lnTo>
                <a:lnTo>
                  <a:pt x="498" y="3684"/>
                </a:lnTo>
                <a:lnTo>
                  <a:pt x="475" y="3704"/>
                </a:lnTo>
                <a:lnTo>
                  <a:pt x="454" y="3724"/>
                </a:lnTo>
                <a:lnTo>
                  <a:pt x="431" y="3744"/>
                </a:lnTo>
                <a:lnTo>
                  <a:pt x="408" y="3763"/>
                </a:lnTo>
                <a:lnTo>
                  <a:pt x="385" y="3781"/>
                </a:lnTo>
                <a:lnTo>
                  <a:pt x="362" y="3800"/>
                </a:lnTo>
                <a:lnTo>
                  <a:pt x="340" y="3817"/>
                </a:lnTo>
                <a:lnTo>
                  <a:pt x="318" y="3833"/>
                </a:lnTo>
                <a:lnTo>
                  <a:pt x="298" y="3849"/>
                </a:lnTo>
                <a:lnTo>
                  <a:pt x="278" y="3865"/>
                </a:lnTo>
                <a:lnTo>
                  <a:pt x="259" y="3879"/>
                </a:lnTo>
                <a:lnTo>
                  <a:pt x="241" y="3892"/>
                </a:lnTo>
                <a:lnTo>
                  <a:pt x="223" y="3907"/>
                </a:lnTo>
                <a:lnTo>
                  <a:pt x="208" y="3918"/>
                </a:lnTo>
                <a:lnTo>
                  <a:pt x="190" y="3930"/>
                </a:lnTo>
                <a:lnTo>
                  <a:pt x="176" y="3941"/>
                </a:lnTo>
                <a:lnTo>
                  <a:pt x="160" y="3953"/>
                </a:lnTo>
                <a:lnTo>
                  <a:pt x="147" y="3961"/>
                </a:lnTo>
                <a:lnTo>
                  <a:pt x="133" y="3971"/>
                </a:lnTo>
                <a:lnTo>
                  <a:pt x="121" y="3980"/>
                </a:lnTo>
                <a:lnTo>
                  <a:pt x="108" y="3987"/>
                </a:lnTo>
                <a:lnTo>
                  <a:pt x="97" y="3994"/>
                </a:lnTo>
                <a:lnTo>
                  <a:pt x="87" y="4002"/>
                </a:lnTo>
                <a:lnTo>
                  <a:pt x="77" y="4007"/>
                </a:lnTo>
                <a:lnTo>
                  <a:pt x="66" y="4013"/>
                </a:lnTo>
                <a:lnTo>
                  <a:pt x="58" y="4018"/>
                </a:lnTo>
                <a:lnTo>
                  <a:pt x="51" y="4022"/>
                </a:lnTo>
                <a:lnTo>
                  <a:pt x="42" y="4026"/>
                </a:lnTo>
                <a:lnTo>
                  <a:pt x="36" y="4029"/>
                </a:lnTo>
                <a:lnTo>
                  <a:pt x="29" y="4032"/>
                </a:lnTo>
                <a:lnTo>
                  <a:pt x="23" y="4033"/>
                </a:lnTo>
                <a:lnTo>
                  <a:pt x="19" y="4035"/>
                </a:lnTo>
                <a:lnTo>
                  <a:pt x="15" y="4035"/>
                </a:lnTo>
                <a:lnTo>
                  <a:pt x="10" y="4036"/>
                </a:lnTo>
                <a:lnTo>
                  <a:pt x="7" y="4035"/>
                </a:lnTo>
                <a:lnTo>
                  <a:pt x="5" y="4035"/>
                </a:lnTo>
                <a:lnTo>
                  <a:pt x="3" y="4033"/>
                </a:lnTo>
                <a:lnTo>
                  <a:pt x="2" y="4029"/>
                </a:lnTo>
                <a:lnTo>
                  <a:pt x="0" y="4025"/>
                </a:lnTo>
                <a:lnTo>
                  <a:pt x="0" y="4020"/>
                </a:lnTo>
                <a:lnTo>
                  <a:pt x="0" y="4015"/>
                </a:lnTo>
                <a:lnTo>
                  <a:pt x="2" y="4009"/>
                </a:lnTo>
                <a:lnTo>
                  <a:pt x="5" y="4003"/>
                </a:lnTo>
                <a:lnTo>
                  <a:pt x="7" y="3996"/>
                </a:lnTo>
                <a:lnTo>
                  <a:pt x="10" y="3989"/>
                </a:lnTo>
                <a:lnTo>
                  <a:pt x="15" y="3982"/>
                </a:lnTo>
                <a:lnTo>
                  <a:pt x="19" y="3973"/>
                </a:lnTo>
                <a:lnTo>
                  <a:pt x="25" y="3964"/>
                </a:lnTo>
                <a:lnTo>
                  <a:pt x="30" y="3956"/>
                </a:lnTo>
                <a:lnTo>
                  <a:pt x="36" y="3947"/>
                </a:lnTo>
                <a:lnTo>
                  <a:pt x="43" y="3937"/>
                </a:lnTo>
                <a:lnTo>
                  <a:pt x="52" y="3925"/>
                </a:lnTo>
                <a:lnTo>
                  <a:pt x="61" y="3915"/>
                </a:lnTo>
                <a:lnTo>
                  <a:pt x="69" y="3904"/>
                </a:lnTo>
                <a:lnTo>
                  <a:pt x="79" y="3891"/>
                </a:lnTo>
                <a:lnTo>
                  <a:pt x="91" y="3879"/>
                </a:lnTo>
                <a:lnTo>
                  <a:pt x="102" y="3865"/>
                </a:lnTo>
                <a:lnTo>
                  <a:pt x="114" y="3852"/>
                </a:lnTo>
                <a:lnTo>
                  <a:pt x="127" y="3838"/>
                </a:lnTo>
                <a:lnTo>
                  <a:pt x="140" y="3823"/>
                </a:lnTo>
                <a:lnTo>
                  <a:pt x="154" y="3807"/>
                </a:lnTo>
                <a:lnTo>
                  <a:pt x="169" y="3792"/>
                </a:lnTo>
                <a:lnTo>
                  <a:pt x="183" y="3776"/>
                </a:lnTo>
                <a:lnTo>
                  <a:pt x="199" y="3758"/>
                </a:lnTo>
                <a:lnTo>
                  <a:pt x="216" y="3741"/>
                </a:lnTo>
                <a:lnTo>
                  <a:pt x="233" y="3722"/>
                </a:lnTo>
                <a:lnTo>
                  <a:pt x="251" y="3704"/>
                </a:lnTo>
                <a:lnTo>
                  <a:pt x="269" y="3685"/>
                </a:lnTo>
                <a:lnTo>
                  <a:pt x="290" y="3665"/>
                </a:lnTo>
                <a:lnTo>
                  <a:pt x="308" y="3646"/>
                </a:lnTo>
                <a:lnTo>
                  <a:pt x="327" y="3627"/>
                </a:lnTo>
                <a:lnTo>
                  <a:pt x="347" y="3609"/>
                </a:lnTo>
                <a:lnTo>
                  <a:pt x="366" y="3589"/>
                </a:lnTo>
                <a:lnTo>
                  <a:pt x="385" y="3568"/>
                </a:lnTo>
                <a:lnTo>
                  <a:pt x="402" y="3547"/>
                </a:lnTo>
                <a:lnTo>
                  <a:pt x="421" y="3527"/>
                </a:lnTo>
                <a:lnTo>
                  <a:pt x="439" y="3505"/>
                </a:lnTo>
                <a:lnTo>
                  <a:pt x="457" y="3482"/>
                </a:lnTo>
                <a:lnTo>
                  <a:pt x="474" y="3459"/>
                </a:lnTo>
                <a:lnTo>
                  <a:pt x="491" y="3436"/>
                </a:lnTo>
                <a:lnTo>
                  <a:pt x="508" y="3413"/>
                </a:lnTo>
                <a:lnTo>
                  <a:pt x="526" y="3388"/>
                </a:lnTo>
                <a:lnTo>
                  <a:pt x="543" y="3364"/>
                </a:lnTo>
                <a:lnTo>
                  <a:pt x="559" y="3339"/>
                </a:lnTo>
                <a:lnTo>
                  <a:pt x="576" y="3314"/>
                </a:lnTo>
                <a:lnTo>
                  <a:pt x="592" y="3288"/>
                </a:lnTo>
                <a:lnTo>
                  <a:pt x="608" y="3262"/>
                </a:lnTo>
                <a:lnTo>
                  <a:pt x="624" y="3234"/>
                </a:lnTo>
                <a:lnTo>
                  <a:pt x="638" y="3207"/>
                </a:lnTo>
                <a:lnTo>
                  <a:pt x="654" y="3178"/>
                </a:lnTo>
                <a:lnTo>
                  <a:pt x="668" y="3149"/>
                </a:lnTo>
                <a:lnTo>
                  <a:pt x="683" y="3121"/>
                </a:lnTo>
                <a:lnTo>
                  <a:pt x="698" y="3090"/>
                </a:lnTo>
                <a:lnTo>
                  <a:pt x="711" y="3060"/>
                </a:lnTo>
                <a:lnTo>
                  <a:pt x="726" y="3030"/>
                </a:lnTo>
                <a:lnTo>
                  <a:pt x="740" y="2998"/>
                </a:lnTo>
                <a:lnTo>
                  <a:pt x="753" y="2967"/>
                </a:lnTo>
                <a:lnTo>
                  <a:pt x="766" y="2935"/>
                </a:lnTo>
                <a:lnTo>
                  <a:pt x="779" y="2902"/>
                </a:lnTo>
                <a:lnTo>
                  <a:pt x="792" y="2867"/>
                </a:lnTo>
                <a:lnTo>
                  <a:pt x="805" y="2834"/>
                </a:lnTo>
                <a:lnTo>
                  <a:pt x="852" y="2702"/>
                </a:lnTo>
                <a:lnTo>
                  <a:pt x="874" y="2636"/>
                </a:lnTo>
                <a:lnTo>
                  <a:pt x="896" y="2568"/>
                </a:lnTo>
                <a:lnTo>
                  <a:pt x="916" y="2500"/>
                </a:lnTo>
                <a:lnTo>
                  <a:pt x="936" y="2433"/>
                </a:lnTo>
                <a:lnTo>
                  <a:pt x="953" y="2363"/>
                </a:lnTo>
                <a:lnTo>
                  <a:pt x="970" y="2294"/>
                </a:lnTo>
                <a:lnTo>
                  <a:pt x="986" y="2224"/>
                </a:lnTo>
                <a:lnTo>
                  <a:pt x="1001" y="2153"/>
                </a:lnTo>
                <a:lnTo>
                  <a:pt x="1014" y="2081"/>
                </a:lnTo>
                <a:lnTo>
                  <a:pt x="1024" y="2009"/>
                </a:lnTo>
                <a:lnTo>
                  <a:pt x="1034" y="1936"/>
                </a:lnTo>
                <a:lnTo>
                  <a:pt x="1042" y="1862"/>
                </a:lnTo>
                <a:lnTo>
                  <a:pt x="1048" y="1788"/>
                </a:lnTo>
                <a:lnTo>
                  <a:pt x="1053" y="1711"/>
                </a:lnTo>
                <a:lnTo>
                  <a:pt x="1055" y="1639"/>
                </a:lnTo>
                <a:lnTo>
                  <a:pt x="1058" y="1567"/>
                </a:lnTo>
                <a:lnTo>
                  <a:pt x="1060" y="1498"/>
                </a:lnTo>
                <a:lnTo>
                  <a:pt x="1060" y="1429"/>
                </a:lnTo>
                <a:lnTo>
                  <a:pt x="1060" y="1360"/>
                </a:lnTo>
                <a:lnTo>
                  <a:pt x="1060" y="1292"/>
                </a:lnTo>
                <a:lnTo>
                  <a:pt x="1058" y="1228"/>
                </a:lnTo>
                <a:lnTo>
                  <a:pt x="1057" y="1161"/>
                </a:lnTo>
                <a:lnTo>
                  <a:pt x="1055" y="1098"/>
                </a:lnTo>
                <a:lnTo>
                  <a:pt x="1053" y="1036"/>
                </a:lnTo>
                <a:lnTo>
                  <a:pt x="1050" y="974"/>
                </a:lnTo>
                <a:lnTo>
                  <a:pt x="1047" y="914"/>
                </a:lnTo>
                <a:lnTo>
                  <a:pt x="1044" y="855"/>
                </a:lnTo>
                <a:lnTo>
                  <a:pt x="1041" y="797"/>
                </a:lnTo>
                <a:lnTo>
                  <a:pt x="1037" y="741"/>
                </a:lnTo>
                <a:lnTo>
                  <a:pt x="1034" y="6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39"/>
          <p:cNvSpPr/>
          <p:nvPr/>
        </p:nvSpPr>
        <p:spPr>
          <a:xfrm>
            <a:off x="6334200" y="4240080"/>
            <a:ext cx="323640" cy="376200"/>
          </a:xfrm>
          <a:custGeom>
            <a:avLst/>
            <a:gdLst/>
            <a:ahLst/>
            <a:rect l="l" t="t" r="r" b="b"/>
            <a:pathLst>
              <a:path w="613" h="711">
                <a:moveTo>
                  <a:pt x="232" y="383"/>
                </a:moveTo>
                <a:lnTo>
                  <a:pt x="216" y="363"/>
                </a:lnTo>
                <a:lnTo>
                  <a:pt x="202" y="343"/>
                </a:lnTo>
                <a:lnTo>
                  <a:pt x="187" y="324"/>
                </a:lnTo>
                <a:lnTo>
                  <a:pt x="173" y="305"/>
                </a:lnTo>
                <a:lnTo>
                  <a:pt x="158" y="288"/>
                </a:lnTo>
                <a:lnTo>
                  <a:pt x="146" y="271"/>
                </a:lnTo>
                <a:lnTo>
                  <a:pt x="134" y="253"/>
                </a:lnTo>
                <a:lnTo>
                  <a:pt x="121" y="238"/>
                </a:lnTo>
                <a:lnTo>
                  <a:pt x="111" y="222"/>
                </a:lnTo>
                <a:lnTo>
                  <a:pt x="99" y="206"/>
                </a:lnTo>
                <a:lnTo>
                  <a:pt x="89" y="191"/>
                </a:lnTo>
                <a:lnTo>
                  <a:pt x="79" y="177"/>
                </a:lnTo>
                <a:lnTo>
                  <a:pt x="71" y="163"/>
                </a:lnTo>
                <a:lnTo>
                  <a:pt x="62" y="150"/>
                </a:lnTo>
                <a:lnTo>
                  <a:pt x="53" y="137"/>
                </a:lnTo>
                <a:lnTo>
                  <a:pt x="46" y="125"/>
                </a:lnTo>
                <a:lnTo>
                  <a:pt x="39" y="114"/>
                </a:lnTo>
                <a:lnTo>
                  <a:pt x="33" y="104"/>
                </a:lnTo>
                <a:lnTo>
                  <a:pt x="27" y="92"/>
                </a:lnTo>
                <a:lnTo>
                  <a:pt x="22" y="84"/>
                </a:lnTo>
                <a:lnTo>
                  <a:pt x="17" y="73"/>
                </a:lnTo>
                <a:lnTo>
                  <a:pt x="13" y="65"/>
                </a:lnTo>
                <a:lnTo>
                  <a:pt x="9" y="58"/>
                </a:lnTo>
                <a:lnTo>
                  <a:pt x="6" y="50"/>
                </a:lnTo>
                <a:lnTo>
                  <a:pt x="4" y="43"/>
                </a:lnTo>
                <a:lnTo>
                  <a:pt x="2" y="37"/>
                </a:lnTo>
                <a:lnTo>
                  <a:pt x="0" y="32"/>
                </a:lnTo>
                <a:lnTo>
                  <a:pt x="0" y="27"/>
                </a:lnTo>
                <a:lnTo>
                  <a:pt x="0" y="23"/>
                </a:lnTo>
                <a:lnTo>
                  <a:pt x="0" y="20"/>
                </a:lnTo>
                <a:lnTo>
                  <a:pt x="0" y="17"/>
                </a:lnTo>
                <a:lnTo>
                  <a:pt x="3" y="14"/>
                </a:lnTo>
                <a:lnTo>
                  <a:pt x="6" y="12"/>
                </a:lnTo>
                <a:lnTo>
                  <a:pt x="10" y="9"/>
                </a:lnTo>
                <a:lnTo>
                  <a:pt x="16" y="6"/>
                </a:lnTo>
                <a:lnTo>
                  <a:pt x="22" y="3"/>
                </a:lnTo>
                <a:lnTo>
                  <a:pt x="27" y="1"/>
                </a:lnTo>
                <a:lnTo>
                  <a:pt x="35" y="1"/>
                </a:lnTo>
                <a:lnTo>
                  <a:pt x="42" y="0"/>
                </a:lnTo>
                <a:lnTo>
                  <a:pt x="51" y="0"/>
                </a:lnTo>
                <a:lnTo>
                  <a:pt x="59" y="0"/>
                </a:lnTo>
                <a:lnTo>
                  <a:pt x="71" y="1"/>
                </a:lnTo>
                <a:lnTo>
                  <a:pt x="82" y="1"/>
                </a:lnTo>
                <a:lnTo>
                  <a:pt x="94" y="3"/>
                </a:lnTo>
                <a:lnTo>
                  <a:pt x="108" y="6"/>
                </a:lnTo>
                <a:lnTo>
                  <a:pt x="122" y="9"/>
                </a:lnTo>
                <a:lnTo>
                  <a:pt x="138" y="12"/>
                </a:lnTo>
                <a:lnTo>
                  <a:pt x="156" y="14"/>
                </a:lnTo>
                <a:lnTo>
                  <a:pt x="173" y="19"/>
                </a:lnTo>
                <a:lnTo>
                  <a:pt x="192" y="23"/>
                </a:lnTo>
                <a:lnTo>
                  <a:pt x="209" y="30"/>
                </a:lnTo>
                <a:lnTo>
                  <a:pt x="228" y="36"/>
                </a:lnTo>
                <a:lnTo>
                  <a:pt x="246" y="45"/>
                </a:lnTo>
                <a:lnTo>
                  <a:pt x="264" y="53"/>
                </a:lnTo>
                <a:lnTo>
                  <a:pt x="282" y="62"/>
                </a:lnTo>
                <a:lnTo>
                  <a:pt x="301" y="72"/>
                </a:lnTo>
                <a:lnTo>
                  <a:pt x="320" y="84"/>
                </a:lnTo>
                <a:lnTo>
                  <a:pt x="340" y="96"/>
                </a:lnTo>
                <a:lnTo>
                  <a:pt x="359" y="109"/>
                </a:lnTo>
                <a:lnTo>
                  <a:pt x="379" y="122"/>
                </a:lnTo>
                <a:lnTo>
                  <a:pt x="399" y="138"/>
                </a:lnTo>
                <a:lnTo>
                  <a:pt x="419" y="154"/>
                </a:lnTo>
                <a:lnTo>
                  <a:pt x="439" y="171"/>
                </a:lnTo>
                <a:lnTo>
                  <a:pt x="461" y="189"/>
                </a:lnTo>
                <a:lnTo>
                  <a:pt x="478" y="207"/>
                </a:lnTo>
                <a:lnTo>
                  <a:pt x="494" y="226"/>
                </a:lnTo>
                <a:lnTo>
                  <a:pt x="510" y="243"/>
                </a:lnTo>
                <a:lnTo>
                  <a:pt x="524" y="262"/>
                </a:lnTo>
                <a:lnTo>
                  <a:pt x="539" y="281"/>
                </a:lnTo>
                <a:lnTo>
                  <a:pt x="550" y="299"/>
                </a:lnTo>
                <a:lnTo>
                  <a:pt x="562" y="320"/>
                </a:lnTo>
                <a:lnTo>
                  <a:pt x="573" y="340"/>
                </a:lnTo>
                <a:lnTo>
                  <a:pt x="582" y="360"/>
                </a:lnTo>
                <a:lnTo>
                  <a:pt x="590" y="380"/>
                </a:lnTo>
                <a:lnTo>
                  <a:pt x="598" y="402"/>
                </a:lnTo>
                <a:lnTo>
                  <a:pt x="603" y="423"/>
                </a:lnTo>
                <a:lnTo>
                  <a:pt x="608" y="445"/>
                </a:lnTo>
                <a:lnTo>
                  <a:pt x="611" y="469"/>
                </a:lnTo>
                <a:lnTo>
                  <a:pt x="613" y="492"/>
                </a:lnTo>
                <a:lnTo>
                  <a:pt x="613" y="518"/>
                </a:lnTo>
                <a:lnTo>
                  <a:pt x="613" y="530"/>
                </a:lnTo>
                <a:lnTo>
                  <a:pt x="613" y="543"/>
                </a:lnTo>
                <a:lnTo>
                  <a:pt x="613" y="554"/>
                </a:lnTo>
                <a:lnTo>
                  <a:pt x="612" y="564"/>
                </a:lnTo>
                <a:lnTo>
                  <a:pt x="612" y="576"/>
                </a:lnTo>
                <a:lnTo>
                  <a:pt x="612" y="586"/>
                </a:lnTo>
                <a:lnTo>
                  <a:pt x="611" y="596"/>
                </a:lnTo>
                <a:lnTo>
                  <a:pt x="611" y="605"/>
                </a:lnTo>
                <a:lnTo>
                  <a:pt x="609" y="613"/>
                </a:lnTo>
                <a:lnTo>
                  <a:pt x="608" y="622"/>
                </a:lnTo>
                <a:lnTo>
                  <a:pt x="606" y="631"/>
                </a:lnTo>
                <a:lnTo>
                  <a:pt x="605" y="638"/>
                </a:lnTo>
                <a:lnTo>
                  <a:pt x="605" y="645"/>
                </a:lnTo>
                <a:lnTo>
                  <a:pt x="602" y="652"/>
                </a:lnTo>
                <a:lnTo>
                  <a:pt x="600" y="659"/>
                </a:lnTo>
                <a:lnTo>
                  <a:pt x="599" y="665"/>
                </a:lnTo>
                <a:lnTo>
                  <a:pt x="598" y="671"/>
                </a:lnTo>
                <a:lnTo>
                  <a:pt x="596" y="677"/>
                </a:lnTo>
                <a:lnTo>
                  <a:pt x="593" y="681"/>
                </a:lnTo>
                <a:lnTo>
                  <a:pt x="592" y="685"/>
                </a:lnTo>
                <a:lnTo>
                  <a:pt x="589" y="690"/>
                </a:lnTo>
                <a:lnTo>
                  <a:pt x="586" y="694"/>
                </a:lnTo>
                <a:lnTo>
                  <a:pt x="585" y="697"/>
                </a:lnTo>
                <a:lnTo>
                  <a:pt x="582" y="700"/>
                </a:lnTo>
                <a:lnTo>
                  <a:pt x="579" y="703"/>
                </a:lnTo>
                <a:lnTo>
                  <a:pt x="576" y="705"/>
                </a:lnTo>
                <a:lnTo>
                  <a:pt x="573" y="707"/>
                </a:lnTo>
                <a:lnTo>
                  <a:pt x="569" y="708"/>
                </a:lnTo>
                <a:lnTo>
                  <a:pt x="563" y="711"/>
                </a:lnTo>
                <a:lnTo>
                  <a:pt x="556" y="711"/>
                </a:lnTo>
                <a:lnTo>
                  <a:pt x="550" y="711"/>
                </a:lnTo>
                <a:lnTo>
                  <a:pt x="544" y="710"/>
                </a:lnTo>
                <a:lnTo>
                  <a:pt x="539" y="708"/>
                </a:lnTo>
                <a:lnTo>
                  <a:pt x="533" y="705"/>
                </a:lnTo>
                <a:lnTo>
                  <a:pt x="526" y="703"/>
                </a:lnTo>
                <a:lnTo>
                  <a:pt x="520" y="700"/>
                </a:lnTo>
                <a:lnTo>
                  <a:pt x="513" y="695"/>
                </a:lnTo>
                <a:lnTo>
                  <a:pt x="505" y="690"/>
                </a:lnTo>
                <a:lnTo>
                  <a:pt x="497" y="684"/>
                </a:lnTo>
                <a:lnTo>
                  <a:pt x="490" y="678"/>
                </a:lnTo>
                <a:lnTo>
                  <a:pt x="481" y="671"/>
                </a:lnTo>
                <a:lnTo>
                  <a:pt x="472" y="664"/>
                </a:lnTo>
                <a:lnTo>
                  <a:pt x="464" y="655"/>
                </a:lnTo>
                <a:lnTo>
                  <a:pt x="455" y="646"/>
                </a:lnTo>
                <a:lnTo>
                  <a:pt x="446" y="638"/>
                </a:lnTo>
                <a:lnTo>
                  <a:pt x="436" y="628"/>
                </a:lnTo>
                <a:lnTo>
                  <a:pt x="426" y="616"/>
                </a:lnTo>
                <a:lnTo>
                  <a:pt x="416" y="605"/>
                </a:lnTo>
                <a:lnTo>
                  <a:pt x="405" y="593"/>
                </a:lnTo>
                <a:lnTo>
                  <a:pt x="393" y="580"/>
                </a:lnTo>
                <a:lnTo>
                  <a:pt x="382" y="567"/>
                </a:lnTo>
                <a:lnTo>
                  <a:pt x="370" y="554"/>
                </a:lnTo>
                <a:lnTo>
                  <a:pt x="359" y="540"/>
                </a:lnTo>
                <a:lnTo>
                  <a:pt x="346" y="524"/>
                </a:lnTo>
                <a:lnTo>
                  <a:pt x="333" y="508"/>
                </a:lnTo>
                <a:lnTo>
                  <a:pt x="320" y="492"/>
                </a:lnTo>
                <a:lnTo>
                  <a:pt x="307" y="475"/>
                </a:lnTo>
                <a:lnTo>
                  <a:pt x="292" y="458"/>
                </a:lnTo>
                <a:lnTo>
                  <a:pt x="278" y="441"/>
                </a:lnTo>
                <a:lnTo>
                  <a:pt x="262" y="422"/>
                </a:lnTo>
                <a:lnTo>
                  <a:pt x="248" y="402"/>
                </a:lnTo>
                <a:lnTo>
                  <a:pt x="232" y="3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40"/>
          <p:cNvSpPr/>
          <p:nvPr/>
        </p:nvSpPr>
        <p:spPr>
          <a:xfrm>
            <a:off x="5527800" y="3876840"/>
            <a:ext cx="1261800" cy="339480"/>
          </a:xfrm>
          <a:custGeom>
            <a:avLst/>
            <a:gdLst/>
            <a:ahLst/>
            <a:rect l="l" t="t" r="r" b="b"/>
            <a:pathLst>
              <a:path w="2386" h="642">
                <a:moveTo>
                  <a:pt x="1336" y="178"/>
                </a:moveTo>
                <a:lnTo>
                  <a:pt x="1384" y="165"/>
                </a:lnTo>
                <a:lnTo>
                  <a:pt x="1433" y="152"/>
                </a:lnTo>
                <a:lnTo>
                  <a:pt x="1480" y="141"/>
                </a:lnTo>
                <a:lnTo>
                  <a:pt x="1526" y="129"/>
                </a:lnTo>
                <a:lnTo>
                  <a:pt x="1569" y="119"/>
                </a:lnTo>
                <a:lnTo>
                  <a:pt x="1612" y="109"/>
                </a:lnTo>
                <a:lnTo>
                  <a:pt x="1654" y="99"/>
                </a:lnTo>
                <a:lnTo>
                  <a:pt x="1694" y="89"/>
                </a:lnTo>
                <a:lnTo>
                  <a:pt x="1733" y="80"/>
                </a:lnTo>
                <a:lnTo>
                  <a:pt x="1770" y="72"/>
                </a:lnTo>
                <a:lnTo>
                  <a:pt x="1806" y="65"/>
                </a:lnTo>
                <a:lnTo>
                  <a:pt x="1841" y="56"/>
                </a:lnTo>
                <a:lnTo>
                  <a:pt x="1875" y="49"/>
                </a:lnTo>
                <a:lnTo>
                  <a:pt x="1907" y="43"/>
                </a:lnTo>
                <a:lnTo>
                  <a:pt x="1939" y="37"/>
                </a:lnTo>
                <a:lnTo>
                  <a:pt x="1968" y="31"/>
                </a:lnTo>
                <a:lnTo>
                  <a:pt x="1996" y="26"/>
                </a:lnTo>
                <a:lnTo>
                  <a:pt x="2024" y="21"/>
                </a:lnTo>
                <a:lnTo>
                  <a:pt x="2050" y="17"/>
                </a:lnTo>
                <a:lnTo>
                  <a:pt x="2074" y="13"/>
                </a:lnTo>
                <a:lnTo>
                  <a:pt x="2097" y="10"/>
                </a:lnTo>
                <a:lnTo>
                  <a:pt x="2120" y="7"/>
                </a:lnTo>
                <a:lnTo>
                  <a:pt x="2140" y="4"/>
                </a:lnTo>
                <a:lnTo>
                  <a:pt x="2160" y="3"/>
                </a:lnTo>
                <a:lnTo>
                  <a:pt x="2178" y="1"/>
                </a:lnTo>
                <a:lnTo>
                  <a:pt x="2195" y="0"/>
                </a:lnTo>
                <a:lnTo>
                  <a:pt x="2211" y="0"/>
                </a:lnTo>
                <a:lnTo>
                  <a:pt x="2225" y="0"/>
                </a:lnTo>
                <a:lnTo>
                  <a:pt x="2238" y="0"/>
                </a:lnTo>
                <a:lnTo>
                  <a:pt x="2251" y="1"/>
                </a:lnTo>
                <a:lnTo>
                  <a:pt x="2261" y="1"/>
                </a:lnTo>
                <a:lnTo>
                  <a:pt x="2271" y="4"/>
                </a:lnTo>
                <a:lnTo>
                  <a:pt x="2286" y="10"/>
                </a:lnTo>
                <a:lnTo>
                  <a:pt x="2299" y="17"/>
                </a:lnTo>
                <a:lnTo>
                  <a:pt x="2310" y="23"/>
                </a:lnTo>
                <a:lnTo>
                  <a:pt x="2322" y="29"/>
                </a:lnTo>
                <a:lnTo>
                  <a:pt x="2332" y="34"/>
                </a:lnTo>
                <a:lnTo>
                  <a:pt x="2340" y="40"/>
                </a:lnTo>
                <a:lnTo>
                  <a:pt x="2349" y="44"/>
                </a:lnTo>
                <a:lnTo>
                  <a:pt x="2356" y="49"/>
                </a:lnTo>
                <a:lnTo>
                  <a:pt x="2363" y="53"/>
                </a:lnTo>
                <a:lnTo>
                  <a:pt x="2369" y="57"/>
                </a:lnTo>
                <a:lnTo>
                  <a:pt x="2375" y="62"/>
                </a:lnTo>
                <a:lnTo>
                  <a:pt x="2378" y="66"/>
                </a:lnTo>
                <a:lnTo>
                  <a:pt x="2382" y="69"/>
                </a:lnTo>
                <a:lnTo>
                  <a:pt x="2384" y="73"/>
                </a:lnTo>
                <a:lnTo>
                  <a:pt x="2385" y="76"/>
                </a:lnTo>
                <a:lnTo>
                  <a:pt x="2386" y="80"/>
                </a:lnTo>
                <a:lnTo>
                  <a:pt x="2385" y="82"/>
                </a:lnTo>
                <a:lnTo>
                  <a:pt x="2384" y="85"/>
                </a:lnTo>
                <a:lnTo>
                  <a:pt x="2381" y="86"/>
                </a:lnTo>
                <a:lnTo>
                  <a:pt x="2378" y="89"/>
                </a:lnTo>
                <a:lnTo>
                  <a:pt x="2373" y="92"/>
                </a:lnTo>
                <a:lnTo>
                  <a:pt x="2368" y="95"/>
                </a:lnTo>
                <a:lnTo>
                  <a:pt x="2362" y="98"/>
                </a:lnTo>
                <a:lnTo>
                  <a:pt x="2353" y="102"/>
                </a:lnTo>
                <a:lnTo>
                  <a:pt x="2345" y="105"/>
                </a:lnTo>
                <a:lnTo>
                  <a:pt x="2336" y="109"/>
                </a:lnTo>
                <a:lnTo>
                  <a:pt x="2326" y="112"/>
                </a:lnTo>
                <a:lnTo>
                  <a:pt x="2314" y="116"/>
                </a:lnTo>
                <a:lnTo>
                  <a:pt x="2302" y="121"/>
                </a:lnTo>
                <a:lnTo>
                  <a:pt x="2289" y="125"/>
                </a:lnTo>
                <a:lnTo>
                  <a:pt x="2274" y="129"/>
                </a:lnTo>
                <a:lnTo>
                  <a:pt x="2260" y="134"/>
                </a:lnTo>
                <a:lnTo>
                  <a:pt x="2242" y="138"/>
                </a:lnTo>
                <a:lnTo>
                  <a:pt x="2225" y="142"/>
                </a:lnTo>
                <a:lnTo>
                  <a:pt x="2208" y="147"/>
                </a:lnTo>
                <a:lnTo>
                  <a:pt x="2189" y="152"/>
                </a:lnTo>
                <a:lnTo>
                  <a:pt x="2169" y="157"/>
                </a:lnTo>
                <a:lnTo>
                  <a:pt x="2147" y="162"/>
                </a:lnTo>
                <a:lnTo>
                  <a:pt x="2126" y="167"/>
                </a:lnTo>
                <a:lnTo>
                  <a:pt x="2104" y="173"/>
                </a:lnTo>
                <a:lnTo>
                  <a:pt x="2080" y="178"/>
                </a:lnTo>
                <a:lnTo>
                  <a:pt x="2055" y="183"/>
                </a:lnTo>
                <a:lnTo>
                  <a:pt x="2029" y="188"/>
                </a:lnTo>
                <a:lnTo>
                  <a:pt x="2004" y="194"/>
                </a:lnTo>
                <a:lnTo>
                  <a:pt x="1976" y="200"/>
                </a:lnTo>
                <a:lnTo>
                  <a:pt x="1949" y="204"/>
                </a:lnTo>
                <a:lnTo>
                  <a:pt x="1919" y="210"/>
                </a:lnTo>
                <a:lnTo>
                  <a:pt x="1890" y="216"/>
                </a:lnTo>
                <a:lnTo>
                  <a:pt x="1760" y="246"/>
                </a:lnTo>
                <a:lnTo>
                  <a:pt x="1632" y="278"/>
                </a:lnTo>
                <a:lnTo>
                  <a:pt x="1504" y="311"/>
                </a:lnTo>
                <a:lnTo>
                  <a:pt x="1376" y="344"/>
                </a:lnTo>
                <a:lnTo>
                  <a:pt x="1249" y="378"/>
                </a:lnTo>
                <a:lnTo>
                  <a:pt x="1124" y="414"/>
                </a:lnTo>
                <a:lnTo>
                  <a:pt x="1000" y="450"/>
                </a:lnTo>
                <a:lnTo>
                  <a:pt x="878" y="488"/>
                </a:lnTo>
                <a:lnTo>
                  <a:pt x="846" y="496"/>
                </a:lnTo>
                <a:lnTo>
                  <a:pt x="816" y="505"/>
                </a:lnTo>
                <a:lnTo>
                  <a:pt x="786" y="514"/>
                </a:lnTo>
                <a:lnTo>
                  <a:pt x="757" y="522"/>
                </a:lnTo>
                <a:lnTo>
                  <a:pt x="728" y="530"/>
                </a:lnTo>
                <a:lnTo>
                  <a:pt x="701" y="538"/>
                </a:lnTo>
                <a:lnTo>
                  <a:pt x="675" y="545"/>
                </a:lnTo>
                <a:lnTo>
                  <a:pt x="649" y="553"/>
                </a:lnTo>
                <a:lnTo>
                  <a:pt x="624" y="560"/>
                </a:lnTo>
                <a:lnTo>
                  <a:pt x="600" y="567"/>
                </a:lnTo>
                <a:lnTo>
                  <a:pt x="577" y="573"/>
                </a:lnTo>
                <a:lnTo>
                  <a:pt x="555" y="580"/>
                </a:lnTo>
                <a:lnTo>
                  <a:pt x="534" y="586"/>
                </a:lnTo>
                <a:lnTo>
                  <a:pt x="514" y="591"/>
                </a:lnTo>
                <a:lnTo>
                  <a:pt x="493" y="596"/>
                </a:lnTo>
                <a:lnTo>
                  <a:pt x="475" y="602"/>
                </a:lnTo>
                <a:lnTo>
                  <a:pt x="456" y="606"/>
                </a:lnTo>
                <a:lnTo>
                  <a:pt x="439" y="610"/>
                </a:lnTo>
                <a:lnTo>
                  <a:pt x="423" y="614"/>
                </a:lnTo>
                <a:lnTo>
                  <a:pt x="407" y="619"/>
                </a:lnTo>
                <a:lnTo>
                  <a:pt x="393" y="623"/>
                </a:lnTo>
                <a:lnTo>
                  <a:pt x="380" y="626"/>
                </a:lnTo>
                <a:lnTo>
                  <a:pt x="367" y="629"/>
                </a:lnTo>
                <a:lnTo>
                  <a:pt x="354" y="632"/>
                </a:lnTo>
                <a:lnTo>
                  <a:pt x="342" y="635"/>
                </a:lnTo>
                <a:lnTo>
                  <a:pt x="332" y="636"/>
                </a:lnTo>
                <a:lnTo>
                  <a:pt x="322" y="638"/>
                </a:lnTo>
                <a:lnTo>
                  <a:pt x="313" y="639"/>
                </a:lnTo>
                <a:lnTo>
                  <a:pt x="305" y="640"/>
                </a:lnTo>
                <a:lnTo>
                  <a:pt x="298" y="642"/>
                </a:lnTo>
                <a:lnTo>
                  <a:pt x="292" y="642"/>
                </a:lnTo>
                <a:lnTo>
                  <a:pt x="286" y="642"/>
                </a:lnTo>
                <a:lnTo>
                  <a:pt x="275" y="642"/>
                </a:lnTo>
                <a:lnTo>
                  <a:pt x="265" y="640"/>
                </a:lnTo>
                <a:lnTo>
                  <a:pt x="253" y="640"/>
                </a:lnTo>
                <a:lnTo>
                  <a:pt x="243" y="638"/>
                </a:lnTo>
                <a:lnTo>
                  <a:pt x="231" y="636"/>
                </a:lnTo>
                <a:lnTo>
                  <a:pt x="221" y="633"/>
                </a:lnTo>
                <a:lnTo>
                  <a:pt x="210" y="629"/>
                </a:lnTo>
                <a:lnTo>
                  <a:pt x="200" y="625"/>
                </a:lnTo>
                <a:lnTo>
                  <a:pt x="188" y="620"/>
                </a:lnTo>
                <a:lnTo>
                  <a:pt x="178" y="614"/>
                </a:lnTo>
                <a:lnTo>
                  <a:pt x="167" y="609"/>
                </a:lnTo>
                <a:lnTo>
                  <a:pt x="157" y="602"/>
                </a:lnTo>
                <a:lnTo>
                  <a:pt x="146" y="593"/>
                </a:lnTo>
                <a:lnTo>
                  <a:pt x="135" y="584"/>
                </a:lnTo>
                <a:lnTo>
                  <a:pt x="125" y="574"/>
                </a:lnTo>
                <a:lnTo>
                  <a:pt x="115" y="564"/>
                </a:lnTo>
                <a:lnTo>
                  <a:pt x="100" y="554"/>
                </a:lnTo>
                <a:lnTo>
                  <a:pt x="87" y="542"/>
                </a:lnTo>
                <a:lnTo>
                  <a:pt x="74" y="534"/>
                </a:lnTo>
                <a:lnTo>
                  <a:pt x="64" y="524"/>
                </a:lnTo>
                <a:lnTo>
                  <a:pt x="53" y="515"/>
                </a:lnTo>
                <a:lnTo>
                  <a:pt x="44" y="507"/>
                </a:lnTo>
                <a:lnTo>
                  <a:pt x="36" y="498"/>
                </a:lnTo>
                <a:lnTo>
                  <a:pt x="28" y="489"/>
                </a:lnTo>
                <a:lnTo>
                  <a:pt x="21" y="481"/>
                </a:lnTo>
                <a:lnTo>
                  <a:pt x="15" y="473"/>
                </a:lnTo>
                <a:lnTo>
                  <a:pt x="10" y="466"/>
                </a:lnTo>
                <a:lnTo>
                  <a:pt x="7" y="458"/>
                </a:lnTo>
                <a:lnTo>
                  <a:pt x="3" y="450"/>
                </a:lnTo>
                <a:lnTo>
                  <a:pt x="1" y="443"/>
                </a:lnTo>
                <a:lnTo>
                  <a:pt x="0" y="436"/>
                </a:lnTo>
                <a:lnTo>
                  <a:pt x="0" y="429"/>
                </a:lnTo>
                <a:lnTo>
                  <a:pt x="10" y="429"/>
                </a:lnTo>
                <a:lnTo>
                  <a:pt x="23" y="427"/>
                </a:lnTo>
                <a:lnTo>
                  <a:pt x="37" y="427"/>
                </a:lnTo>
                <a:lnTo>
                  <a:pt x="53" y="426"/>
                </a:lnTo>
                <a:lnTo>
                  <a:pt x="69" y="424"/>
                </a:lnTo>
                <a:lnTo>
                  <a:pt x="86" y="422"/>
                </a:lnTo>
                <a:lnTo>
                  <a:pt x="106" y="420"/>
                </a:lnTo>
                <a:lnTo>
                  <a:pt x="126" y="417"/>
                </a:lnTo>
                <a:lnTo>
                  <a:pt x="146" y="414"/>
                </a:lnTo>
                <a:lnTo>
                  <a:pt x="170" y="411"/>
                </a:lnTo>
                <a:lnTo>
                  <a:pt x="193" y="407"/>
                </a:lnTo>
                <a:lnTo>
                  <a:pt x="217" y="404"/>
                </a:lnTo>
                <a:lnTo>
                  <a:pt x="241" y="401"/>
                </a:lnTo>
                <a:lnTo>
                  <a:pt x="269" y="397"/>
                </a:lnTo>
                <a:lnTo>
                  <a:pt x="295" y="394"/>
                </a:lnTo>
                <a:lnTo>
                  <a:pt x="324" y="390"/>
                </a:lnTo>
                <a:lnTo>
                  <a:pt x="338" y="388"/>
                </a:lnTo>
                <a:lnTo>
                  <a:pt x="354" y="386"/>
                </a:lnTo>
                <a:lnTo>
                  <a:pt x="371" y="384"/>
                </a:lnTo>
                <a:lnTo>
                  <a:pt x="390" y="381"/>
                </a:lnTo>
                <a:lnTo>
                  <a:pt x="408" y="378"/>
                </a:lnTo>
                <a:lnTo>
                  <a:pt x="430" y="376"/>
                </a:lnTo>
                <a:lnTo>
                  <a:pt x="452" y="371"/>
                </a:lnTo>
                <a:lnTo>
                  <a:pt x="473" y="368"/>
                </a:lnTo>
                <a:lnTo>
                  <a:pt x="498" y="364"/>
                </a:lnTo>
                <a:lnTo>
                  <a:pt x="522" y="360"/>
                </a:lnTo>
                <a:lnTo>
                  <a:pt x="548" y="355"/>
                </a:lnTo>
                <a:lnTo>
                  <a:pt x="575" y="351"/>
                </a:lnTo>
                <a:lnTo>
                  <a:pt x="603" y="345"/>
                </a:lnTo>
                <a:lnTo>
                  <a:pt x="633" y="340"/>
                </a:lnTo>
                <a:lnTo>
                  <a:pt x="662" y="334"/>
                </a:lnTo>
                <a:lnTo>
                  <a:pt x="694" y="328"/>
                </a:lnTo>
                <a:lnTo>
                  <a:pt x="727" y="322"/>
                </a:lnTo>
                <a:lnTo>
                  <a:pt x="760" y="315"/>
                </a:lnTo>
                <a:lnTo>
                  <a:pt x="794" y="308"/>
                </a:lnTo>
                <a:lnTo>
                  <a:pt x="829" y="301"/>
                </a:lnTo>
                <a:lnTo>
                  <a:pt x="866" y="292"/>
                </a:lnTo>
                <a:lnTo>
                  <a:pt x="904" y="283"/>
                </a:lnTo>
                <a:lnTo>
                  <a:pt x="943" y="275"/>
                </a:lnTo>
                <a:lnTo>
                  <a:pt x="981" y="266"/>
                </a:lnTo>
                <a:lnTo>
                  <a:pt x="1023" y="256"/>
                </a:lnTo>
                <a:lnTo>
                  <a:pt x="1063" y="246"/>
                </a:lnTo>
                <a:lnTo>
                  <a:pt x="1107" y="236"/>
                </a:lnTo>
                <a:lnTo>
                  <a:pt x="1151" y="226"/>
                </a:lnTo>
                <a:lnTo>
                  <a:pt x="1196" y="214"/>
                </a:lnTo>
                <a:lnTo>
                  <a:pt x="1241" y="203"/>
                </a:lnTo>
                <a:lnTo>
                  <a:pt x="1288" y="190"/>
                </a:lnTo>
                <a:lnTo>
                  <a:pt x="1336" y="1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41"/>
          <p:cNvSpPr/>
          <p:nvPr/>
        </p:nvSpPr>
        <p:spPr>
          <a:xfrm>
            <a:off x="6837480" y="3040200"/>
            <a:ext cx="960480" cy="214200"/>
          </a:xfrm>
          <a:custGeom>
            <a:avLst/>
            <a:gdLst/>
            <a:ahLst/>
            <a:rect l="l" t="t" r="r" b="b"/>
            <a:pathLst>
              <a:path w="1816" h="406">
                <a:moveTo>
                  <a:pt x="694" y="135"/>
                </a:moveTo>
                <a:lnTo>
                  <a:pt x="734" y="125"/>
                </a:lnTo>
                <a:lnTo>
                  <a:pt x="775" y="116"/>
                </a:lnTo>
                <a:lnTo>
                  <a:pt x="814" y="108"/>
                </a:lnTo>
                <a:lnTo>
                  <a:pt x="851" y="100"/>
                </a:lnTo>
                <a:lnTo>
                  <a:pt x="888" y="92"/>
                </a:lnTo>
                <a:lnTo>
                  <a:pt x="924" y="85"/>
                </a:lnTo>
                <a:lnTo>
                  <a:pt x="960" y="79"/>
                </a:lnTo>
                <a:lnTo>
                  <a:pt x="995" y="72"/>
                </a:lnTo>
                <a:lnTo>
                  <a:pt x="1028" y="66"/>
                </a:lnTo>
                <a:lnTo>
                  <a:pt x="1061" y="59"/>
                </a:lnTo>
                <a:lnTo>
                  <a:pt x="1093" y="53"/>
                </a:lnTo>
                <a:lnTo>
                  <a:pt x="1123" y="49"/>
                </a:lnTo>
                <a:lnTo>
                  <a:pt x="1153" y="43"/>
                </a:lnTo>
                <a:lnTo>
                  <a:pt x="1182" y="39"/>
                </a:lnTo>
                <a:lnTo>
                  <a:pt x="1211" y="34"/>
                </a:lnTo>
                <a:lnTo>
                  <a:pt x="1238" y="30"/>
                </a:lnTo>
                <a:lnTo>
                  <a:pt x="1264" y="26"/>
                </a:lnTo>
                <a:lnTo>
                  <a:pt x="1290" y="23"/>
                </a:lnTo>
                <a:lnTo>
                  <a:pt x="1315" y="18"/>
                </a:lnTo>
                <a:lnTo>
                  <a:pt x="1339" y="15"/>
                </a:lnTo>
                <a:lnTo>
                  <a:pt x="1362" y="13"/>
                </a:lnTo>
                <a:lnTo>
                  <a:pt x="1384" y="11"/>
                </a:lnTo>
                <a:lnTo>
                  <a:pt x="1404" y="8"/>
                </a:lnTo>
                <a:lnTo>
                  <a:pt x="1424" y="7"/>
                </a:lnTo>
                <a:lnTo>
                  <a:pt x="1444" y="4"/>
                </a:lnTo>
                <a:lnTo>
                  <a:pt x="1463" y="3"/>
                </a:lnTo>
                <a:lnTo>
                  <a:pt x="1480" y="1"/>
                </a:lnTo>
                <a:lnTo>
                  <a:pt x="1496" y="1"/>
                </a:lnTo>
                <a:lnTo>
                  <a:pt x="1512" y="0"/>
                </a:lnTo>
                <a:lnTo>
                  <a:pt x="1526" y="0"/>
                </a:lnTo>
                <a:lnTo>
                  <a:pt x="1541" y="0"/>
                </a:lnTo>
                <a:lnTo>
                  <a:pt x="1554" y="0"/>
                </a:lnTo>
                <a:lnTo>
                  <a:pt x="1578" y="0"/>
                </a:lnTo>
                <a:lnTo>
                  <a:pt x="1601" y="0"/>
                </a:lnTo>
                <a:lnTo>
                  <a:pt x="1623" y="1"/>
                </a:lnTo>
                <a:lnTo>
                  <a:pt x="1643" y="3"/>
                </a:lnTo>
                <a:lnTo>
                  <a:pt x="1663" y="5"/>
                </a:lnTo>
                <a:lnTo>
                  <a:pt x="1680" y="8"/>
                </a:lnTo>
                <a:lnTo>
                  <a:pt x="1697" y="11"/>
                </a:lnTo>
                <a:lnTo>
                  <a:pt x="1713" y="15"/>
                </a:lnTo>
                <a:lnTo>
                  <a:pt x="1728" y="20"/>
                </a:lnTo>
                <a:lnTo>
                  <a:pt x="1742" y="26"/>
                </a:lnTo>
                <a:lnTo>
                  <a:pt x="1755" y="33"/>
                </a:lnTo>
                <a:lnTo>
                  <a:pt x="1765" y="40"/>
                </a:lnTo>
                <a:lnTo>
                  <a:pt x="1777" y="47"/>
                </a:lnTo>
                <a:lnTo>
                  <a:pt x="1785" y="56"/>
                </a:lnTo>
                <a:lnTo>
                  <a:pt x="1794" y="66"/>
                </a:lnTo>
                <a:lnTo>
                  <a:pt x="1803" y="76"/>
                </a:lnTo>
                <a:lnTo>
                  <a:pt x="1805" y="82"/>
                </a:lnTo>
                <a:lnTo>
                  <a:pt x="1808" y="86"/>
                </a:lnTo>
                <a:lnTo>
                  <a:pt x="1810" y="92"/>
                </a:lnTo>
                <a:lnTo>
                  <a:pt x="1813" y="98"/>
                </a:lnTo>
                <a:lnTo>
                  <a:pt x="1814" y="102"/>
                </a:lnTo>
                <a:lnTo>
                  <a:pt x="1816" y="106"/>
                </a:lnTo>
                <a:lnTo>
                  <a:pt x="1816" y="112"/>
                </a:lnTo>
                <a:lnTo>
                  <a:pt x="1816" y="116"/>
                </a:lnTo>
                <a:lnTo>
                  <a:pt x="1816" y="121"/>
                </a:lnTo>
                <a:lnTo>
                  <a:pt x="1816" y="125"/>
                </a:lnTo>
                <a:lnTo>
                  <a:pt x="1814" y="129"/>
                </a:lnTo>
                <a:lnTo>
                  <a:pt x="1813" y="134"/>
                </a:lnTo>
                <a:lnTo>
                  <a:pt x="1810" y="138"/>
                </a:lnTo>
                <a:lnTo>
                  <a:pt x="1808" y="141"/>
                </a:lnTo>
                <a:lnTo>
                  <a:pt x="1805" y="145"/>
                </a:lnTo>
                <a:lnTo>
                  <a:pt x="1801" y="148"/>
                </a:lnTo>
                <a:lnTo>
                  <a:pt x="1798" y="152"/>
                </a:lnTo>
                <a:lnTo>
                  <a:pt x="1794" y="155"/>
                </a:lnTo>
                <a:lnTo>
                  <a:pt x="1790" y="159"/>
                </a:lnTo>
                <a:lnTo>
                  <a:pt x="1784" y="162"/>
                </a:lnTo>
                <a:lnTo>
                  <a:pt x="1778" y="165"/>
                </a:lnTo>
                <a:lnTo>
                  <a:pt x="1772" y="168"/>
                </a:lnTo>
                <a:lnTo>
                  <a:pt x="1765" y="171"/>
                </a:lnTo>
                <a:lnTo>
                  <a:pt x="1759" y="174"/>
                </a:lnTo>
                <a:lnTo>
                  <a:pt x="1752" y="177"/>
                </a:lnTo>
                <a:lnTo>
                  <a:pt x="1744" y="180"/>
                </a:lnTo>
                <a:lnTo>
                  <a:pt x="1735" y="182"/>
                </a:lnTo>
                <a:lnTo>
                  <a:pt x="1726" y="184"/>
                </a:lnTo>
                <a:lnTo>
                  <a:pt x="1718" y="187"/>
                </a:lnTo>
                <a:lnTo>
                  <a:pt x="1708" y="188"/>
                </a:lnTo>
                <a:lnTo>
                  <a:pt x="1697" y="191"/>
                </a:lnTo>
                <a:lnTo>
                  <a:pt x="1687" y="193"/>
                </a:lnTo>
                <a:lnTo>
                  <a:pt x="1663" y="200"/>
                </a:lnTo>
                <a:lnTo>
                  <a:pt x="1637" y="207"/>
                </a:lnTo>
                <a:lnTo>
                  <a:pt x="1613" y="213"/>
                </a:lnTo>
                <a:lnTo>
                  <a:pt x="1587" y="218"/>
                </a:lnTo>
                <a:lnTo>
                  <a:pt x="1536" y="229"/>
                </a:lnTo>
                <a:lnTo>
                  <a:pt x="1484" y="239"/>
                </a:lnTo>
                <a:lnTo>
                  <a:pt x="1431" y="247"/>
                </a:lnTo>
                <a:lnTo>
                  <a:pt x="1378" y="254"/>
                </a:lnTo>
                <a:lnTo>
                  <a:pt x="1351" y="259"/>
                </a:lnTo>
                <a:lnTo>
                  <a:pt x="1323" y="262"/>
                </a:lnTo>
                <a:lnTo>
                  <a:pt x="1296" y="266"/>
                </a:lnTo>
                <a:lnTo>
                  <a:pt x="1267" y="270"/>
                </a:lnTo>
                <a:lnTo>
                  <a:pt x="1238" y="273"/>
                </a:lnTo>
                <a:lnTo>
                  <a:pt x="1207" y="277"/>
                </a:lnTo>
                <a:lnTo>
                  <a:pt x="1175" y="283"/>
                </a:lnTo>
                <a:lnTo>
                  <a:pt x="1142" y="288"/>
                </a:lnTo>
                <a:lnTo>
                  <a:pt x="1107" y="292"/>
                </a:lnTo>
                <a:lnTo>
                  <a:pt x="1073" y="298"/>
                </a:lnTo>
                <a:lnTo>
                  <a:pt x="1035" y="303"/>
                </a:lnTo>
                <a:lnTo>
                  <a:pt x="998" y="309"/>
                </a:lnTo>
                <a:lnTo>
                  <a:pt x="959" y="313"/>
                </a:lnTo>
                <a:lnTo>
                  <a:pt x="919" y="319"/>
                </a:lnTo>
                <a:lnTo>
                  <a:pt x="877" y="325"/>
                </a:lnTo>
                <a:lnTo>
                  <a:pt x="835" y="329"/>
                </a:lnTo>
                <a:lnTo>
                  <a:pt x="792" y="335"/>
                </a:lnTo>
                <a:lnTo>
                  <a:pt x="747" y="339"/>
                </a:lnTo>
                <a:lnTo>
                  <a:pt x="703" y="344"/>
                </a:lnTo>
                <a:lnTo>
                  <a:pt x="657" y="348"/>
                </a:lnTo>
                <a:lnTo>
                  <a:pt x="634" y="351"/>
                </a:lnTo>
                <a:lnTo>
                  <a:pt x="611" y="354"/>
                </a:lnTo>
                <a:lnTo>
                  <a:pt x="589" y="358"/>
                </a:lnTo>
                <a:lnTo>
                  <a:pt x="567" y="361"/>
                </a:lnTo>
                <a:lnTo>
                  <a:pt x="547" y="364"/>
                </a:lnTo>
                <a:lnTo>
                  <a:pt x="527" y="367"/>
                </a:lnTo>
                <a:lnTo>
                  <a:pt x="507" y="370"/>
                </a:lnTo>
                <a:lnTo>
                  <a:pt x="488" y="372"/>
                </a:lnTo>
                <a:lnTo>
                  <a:pt x="471" y="375"/>
                </a:lnTo>
                <a:lnTo>
                  <a:pt x="452" y="378"/>
                </a:lnTo>
                <a:lnTo>
                  <a:pt x="436" y="380"/>
                </a:lnTo>
                <a:lnTo>
                  <a:pt x="419" y="383"/>
                </a:lnTo>
                <a:lnTo>
                  <a:pt x="403" y="385"/>
                </a:lnTo>
                <a:lnTo>
                  <a:pt x="389" y="387"/>
                </a:lnTo>
                <a:lnTo>
                  <a:pt x="375" y="388"/>
                </a:lnTo>
                <a:lnTo>
                  <a:pt x="360" y="391"/>
                </a:lnTo>
                <a:lnTo>
                  <a:pt x="347" y="393"/>
                </a:lnTo>
                <a:lnTo>
                  <a:pt x="334" y="394"/>
                </a:lnTo>
                <a:lnTo>
                  <a:pt x="323" y="396"/>
                </a:lnTo>
                <a:lnTo>
                  <a:pt x="313" y="397"/>
                </a:lnTo>
                <a:lnTo>
                  <a:pt x="301" y="398"/>
                </a:lnTo>
                <a:lnTo>
                  <a:pt x="292" y="400"/>
                </a:lnTo>
                <a:lnTo>
                  <a:pt x="284" y="400"/>
                </a:lnTo>
                <a:lnTo>
                  <a:pt x="275" y="401"/>
                </a:lnTo>
                <a:lnTo>
                  <a:pt x="268" y="403"/>
                </a:lnTo>
                <a:lnTo>
                  <a:pt x="261" y="403"/>
                </a:lnTo>
                <a:lnTo>
                  <a:pt x="255" y="404"/>
                </a:lnTo>
                <a:lnTo>
                  <a:pt x="249" y="404"/>
                </a:lnTo>
                <a:lnTo>
                  <a:pt x="245" y="404"/>
                </a:lnTo>
                <a:lnTo>
                  <a:pt x="242" y="404"/>
                </a:lnTo>
                <a:lnTo>
                  <a:pt x="239" y="404"/>
                </a:lnTo>
                <a:lnTo>
                  <a:pt x="236" y="406"/>
                </a:lnTo>
                <a:lnTo>
                  <a:pt x="229" y="404"/>
                </a:lnTo>
                <a:lnTo>
                  <a:pt x="221" y="404"/>
                </a:lnTo>
                <a:lnTo>
                  <a:pt x="213" y="403"/>
                </a:lnTo>
                <a:lnTo>
                  <a:pt x="205" y="401"/>
                </a:lnTo>
                <a:lnTo>
                  <a:pt x="196" y="400"/>
                </a:lnTo>
                <a:lnTo>
                  <a:pt x="186" y="397"/>
                </a:lnTo>
                <a:lnTo>
                  <a:pt x="177" y="394"/>
                </a:lnTo>
                <a:lnTo>
                  <a:pt x="167" y="391"/>
                </a:lnTo>
                <a:lnTo>
                  <a:pt x="157" y="387"/>
                </a:lnTo>
                <a:lnTo>
                  <a:pt x="147" y="383"/>
                </a:lnTo>
                <a:lnTo>
                  <a:pt x="137" y="378"/>
                </a:lnTo>
                <a:lnTo>
                  <a:pt x="127" y="372"/>
                </a:lnTo>
                <a:lnTo>
                  <a:pt x="115" y="367"/>
                </a:lnTo>
                <a:lnTo>
                  <a:pt x="105" y="361"/>
                </a:lnTo>
                <a:lnTo>
                  <a:pt x="94" y="354"/>
                </a:lnTo>
                <a:lnTo>
                  <a:pt x="84" y="348"/>
                </a:lnTo>
                <a:lnTo>
                  <a:pt x="71" y="341"/>
                </a:lnTo>
                <a:lnTo>
                  <a:pt x="58" y="334"/>
                </a:lnTo>
                <a:lnTo>
                  <a:pt x="46" y="326"/>
                </a:lnTo>
                <a:lnTo>
                  <a:pt x="36" y="321"/>
                </a:lnTo>
                <a:lnTo>
                  <a:pt x="29" y="316"/>
                </a:lnTo>
                <a:lnTo>
                  <a:pt x="20" y="311"/>
                </a:lnTo>
                <a:lnTo>
                  <a:pt x="15" y="305"/>
                </a:lnTo>
                <a:lnTo>
                  <a:pt x="10" y="301"/>
                </a:lnTo>
                <a:lnTo>
                  <a:pt x="6" y="296"/>
                </a:lnTo>
                <a:lnTo>
                  <a:pt x="3" y="292"/>
                </a:lnTo>
                <a:lnTo>
                  <a:pt x="0" y="288"/>
                </a:lnTo>
                <a:lnTo>
                  <a:pt x="0" y="285"/>
                </a:lnTo>
                <a:lnTo>
                  <a:pt x="0" y="280"/>
                </a:lnTo>
                <a:lnTo>
                  <a:pt x="2" y="277"/>
                </a:lnTo>
                <a:lnTo>
                  <a:pt x="3" y="273"/>
                </a:lnTo>
                <a:lnTo>
                  <a:pt x="7" y="270"/>
                </a:lnTo>
                <a:lnTo>
                  <a:pt x="9" y="269"/>
                </a:lnTo>
                <a:lnTo>
                  <a:pt x="13" y="269"/>
                </a:lnTo>
                <a:lnTo>
                  <a:pt x="18" y="269"/>
                </a:lnTo>
                <a:lnTo>
                  <a:pt x="23" y="267"/>
                </a:lnTo>
                <a:lnTo>
                  <a:pt x="32" y="267"/>
                </a:lnTo>
                <a:lnTo>
                  <a:pt x="41" y="266"/>
                </a:lnTo>
                <a:lnTo>
                  <a:pt x="49" y="265"/>
                </a:lnTo>
                <a:lnTo>
                  <a:pt x="61" y="262"/>
                </a:lnTo>
                <a:lnTo>
                  <a:pt x="74" y="260"/>
                </a:lnTo>
                <a:lnTo>
                  <a:pt x="87" y="259"/>
                </a:lnTo>
                <a:lnTo>
                  <a:pt x="101" y="256"/>
                </a:lnTo>
                <a:lnTo>
                  <a:pt x="117" y="253"/>
                </a:lnTo>
                <a:lnTo>
                  <a:pt x="134" y="250"/>
                </a:lnTo>
                <a:lnTo>
                  <a:pt x="153" y="246"/>
                </a:lnTo>
                <a:lnTo>
                  <a:pt x="173" y="243"/>
                </a:lnTo>
                <a:lnTo>
                  <a:pt x="193" y="239"/>
                </a:lnTo>
                <a:lnTo>
                  <a:pt x="216" y="234"/>
                </a:lnTo>
                <a:lnTo>
                  <a:pt x="239" y="230"/>
                </a:lnTo>
                <a:lnTo>
                  <a:pt x="264" y="226"/>
                </a:lnTo>
                <a:lnTo>
                  <a:pt x="290" y="220"/>
                </a:lnTo>
                <a:lnTo>
                  <a:pt x="316" y="216"/>
                </a:lnTo>
                <a:lnTo>
                  <a:pt x="344" y="210"/>
                </a:lnTo>
                <a:lnTo>
                  <a:pt x="375" y="204"/>
                </a:lnTo>
                <a:lnTo>
                  <a:pt x="405" y="197"/>
                </a:lnTo>
                <a:lnTo>
                  <a:pt x="436" y="190"/>
                </a:lnTo>
                <a:lnTo>
                  <a:pt x="470" y="184"/>
                </a:lnTo>
                <a:lnTo>
                  <a:pt x="504" y="177"/>
                </a:lnTo>
                <a:lnTo>
                  <a:pt x="540" y="168"/>
                </a:lnTo>
                <a:lnTo>
                  <a:pt x="576" y="161"/>
                </a:lnTo>
                <a:lnTo>
                  <a:pt x="615" y="152"/>
                </a:lnTo>
                <a:lnTo>
                  <a:pt x="654" y="144"/>
                </a:lnTo>
                <a:lnTo>
                  <a:pt x="694" y="1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42"/>
          <p:cNvSpPr/>
          <p:nvPr/>
        </p:nvSpPr>
        <p:spPr>
          <a:xfrm>
            <a:off x="6981840" y="3179880"/>
            <a:ext cx="263520" cy="453960"/>
          </a:xfrm>
          <a:custGeom>
            <a:avLst/>
            <a:gdLst/>
            <a:ahLst/>
            <a:rect l="l" t="t" r="r" b="b"/>
            <a:pathLst>
              <a:path w="498" h="856">
                <a:moveTo>
                  <a:pt x="0" y="856"/>
                </a:moveTo>
                <a:lnTo>
                  <a:pt x="13" y="819"/>
                </a:lnTo>
                <a:lnTo>
                  <a:pt x="26" y="781"/>
                </a:lnTo>
                <a:lnTo>
                  <a:pt x="39" y="747"/>
                </a:lnTo>
                <a:lnTo>
                  <a:pt x="52" y="712"/>
                </a:lnTo>
                <a:lnTo>
                  <a:pt x="64" y="678"/>
                </a:lnTo>
                <a:lnTo>
                  <a:pt x="74" y="646"/>
                </a:lnTo>
                <a:lnTo>
                  <a:pt x="85" y="614"/>
                </a:lnTo>
                <a:lnTo>
                  <a:pt x="95" y="583"/>
                </a:lnTo>
                <a:lnTo>
                  <a:pt x="105" y="554"/>
                </a:lnTo>
                <a:lnTo>
                  <a:pt x="114" y="525"/>
                </a:lnTo>
                <a:lnTo>
                  <a:pt x="123" y="498"/>
                </a:lnTo>
                <a:lnTo>
                  <a:pt x="131" y="470"/>
                </a:lnTo>
                <a:lnTo>
                  <a:pt x="138" y="446"/>
                </a:lnTo>
                <a:lnTo>
                  <a:pt x="146" y="421"/>
                </a:lnTo>
                <a:lnTo>
                  <a:pt x="151" y="397"/>
                </a:lnTo>
                <a:lnTo>
                  <a:pt x="159" y="374"/>
                </a:lnTo>
                <a:lnTo>
                  <a:pt x="164" y="352"/>
                </a:lnTo>
                <a:lnTo>
                  <a:pt x="169" y="332"/>
                </a:lnTo>
                <a:lnTo>
                  <a:pt x="173" y="312"/>
                </a:lnTo>
                <a:lnTo>
                  <a:pt x="177" y="293"/>
                </a:lnTo>
                <a:lnTo>
                  <a:pt x="182" y="276"/>
                </a:lnTo>
                <a:lnTo>
                  <a:pt x="184" y="259"/>
                </a:lnTo>
                <a:lnTo>
                  <a:pt x="187" y="243"/>
                </a:lnTo>
                <a:lnTo>
                  <a:pt x="189" y="227"/>
                </a:lnTo>
                <a:lnTo>
                  <a:pt x="192" y="213"/>
                </a:lnTo>
                <a:lnTo>
                  <a:pt x="193" y="200"/>
                </a:lnTo>
                <a:lnTo>
                  <a:pt x="193" y="188"/>
                </a:lnTo>
                <a:lnTo>
                  <a:pt x="193" y="177"/>
                </a:lnTo>
                <a:lnTo>
                  <a:pt x="193" y="167"/>
                </a:lnTo>
                <a:lnTo>
                  <a:pt x="193" y="156"/>
                </a:lnTo>
                <a:lnTo>
                  <a:pt x="192" y="148"/>
                </a:lnTo>
                <a:lnTo>
                  <a:pt x="190" y="141"/>
                </a:lnTo>
                <a:lnTo>
                  <a:pt x="183" y="129"/>
                </a:lnTo>
                <a:lnTo>
                  <a:pt x="177" y="118"/>
                </a:lnTo>
                <a:lnTo>
                  <a:pt x="173" y="107"/>
                </a:lnTo>
                <a:lnTo>
                  <a:pt x="169" y="97"/>
                </a:lnTo>
                <a:lnTo>
                  <a:pt x="166" y="86"/>
                </a:lnTo>
                <a:lnTo>
                  <a:pt x="163" y="77"/>
                </a:lnTo>
                <a:lnTo>
                  <a:pt x="161" y="67"/>
                </a:lnTo>
                <a:lnTo>
                  <a:pt x="160" y="57"/>
                </a:lnTo>
                <a:lnTo>
                  <a:pt x="159" y="48"/>
                </a:lnTo>
                <a:lnTo>
                  <a:pt x="159" y="41"/>
                </a:lnTo>
                <a:lnTo>
                  <a:pt x="160" y="33"/>
                </a:lnTo>
                <a:lnTo>
                  <a:pt x="160" y="25"/>
                </a:lnTo>
                <a:lnTo>
                  <a:pt x="163" y="20"/>
                </a:lnTo>
                <a:lnTo>
                  <a:pt x="164" y="14"/>
                </a:lnTo>
                <a:lnTo>
                  <a:pt x="167" y="8"/>
                </a:lnTo>
                <a:lnTo>
                  <a:pt x="172" y="5"/>
                </a:lnTo>
                <a:lnTo>
                  <a:pt x="176" y="1"/>
                </a:lnTo>
                <a:lnTo>
                  <a:pt x="180" y="0"/>
                </a:lnTo>
                <a:lnTo>
                  <a:pt x="187" y="0"/>
                </a:lnTo>
                <a:lnTo>
                  <a:pt x="196" y="1"/>
                </a:lnTo>
                <a:lnTo>
                  <a:pt x="205" y="2"/>
                </a:lnTo>
                <a:lnTo>
                  <a:pt x="215" y="7"/>
                </a:lnTo>
                <a:lnTo>
                  <a:pt x="226" y="11"/>
                </a:lnTo>
                <a:lnTo>
                  <a:pt x="238" y="17"/>
                </a:lnTo>
                <a:lnTo>
                  <a:pt x="251" y="23"/>
                </a:lnTo>
                <a:lnTo>
                  <a:pt x="265" y="31"/>
                </a:lnTo>
                <a:lnTo>
                  <a:pt x="279" y="40"/>
                </a:lnTo>
                <a:lnTo>
                  <a:pt x="295" y="50"/>
                </a:lnTo>
                <a:lnTo>
                  <a:pt x="311" y="61"/>
                </a:lnTo>
                <a:lnTo>
                  <a:pt x="327" y="74"/>
                </a:lnTo>
                <a:lnTo>
                  <a:pt x="344" y="87"/>
                </a:lnTo>
                <a:lnTo>
                  <a:pt x="363" y="102"/>
                </a:lnTo>
                <a:lnTo>
                  <a:pt x="379" y="119"/>
                </a:lnTo>
                <a:lnTo>
                  <a:pt x="396" y="136"/>
                </a:lnTo>
                <a:lnTo>
                  <a:pt x="410" y="152"/>
                </a:lnTo>
                <a:lnTo>
                  <a:pt x="425" y="168"/>
                </a:lnTo>
                <a:lnTo>
                  <a:pt x="439" y="182"/>
                </a:lnTo>
                <a:lnTo>
                  <a:pt x="451" y="197"/>
                </a:lnTo>
                <a:lnTo>
                  <a:pt x="462" y="210"/>
                </a:lnTo>
                <a:lnTo>
                  <a:pt x="471" y="223"/>
                </a:lnTo>
                <a:lnTo>
                  <a:pt x="480" y="234"/>
                </a:lnTo>
                <a:lnTo>
                  <a:pt x="482" y="241"/>
                </a:lnTo>
                <a:lnTo>
                  <a:pt x="487" y="247"/>
                </a:lnTo>
                <a:lnTo>
                  <a:pt x="490" y="253"/>
                </a:lnTo>
                <a:lnTo>
                  <a:pt x="493" y="259"/>
                </a:lnTo>
                <a:lnTo>
                  <a:pt x="494" y="264"/>
                </a:lnTo>
                <a:lnTo>
                  <a:pt x="495" y="270"/>
                </a:lnTo>
                <a:lnTo>
                  <a:pt x="497" y="276"/>
                </a:lnTo>
                <a:lnTo>
                  <a:pt x="498" y="282"/>
                </a:lnTo>
                <a:lnTo>
                  <a:pt x="498" y="286"/>
                </a:lnTo>
                <a:lnTo>
                  <a:pt x="498" y="292"/>
                </a:lnTo>
                <a:lnTo>
                  <a:pt x="498" y="298"/>
                </a:lnTo>
                <a:lnTo>
                  <a:pt x="498" y="303"/>
                </a:lnTo>
                <a:lnTo>
                  <a:pt x="497" y="309"/>
                </a:lnTo>
                <a:lnTo>
                  <a:pt x="495" y="315"/>
                </a:lnTo>
                <a:lnTo>
                  <a:pt x="494" y="321"/>
                </a:lnTo>
                <a:lnTo>
                  <a:pt x="491" y="326"/>
                </a:lnTo>
                <a:lnTo>
                  <a:pt x="488" y="334"/>
                </a:lnTo>
                <a:lnTo>
                  <a:pt x="484" y="341"/>
                </a:lnTo>
                <a:lnTo>
                  <a:pt x="480" y="349"/>
                </a:lnTo>
                <a:lnTo>
                  <a:pt x="475" y="359"/>
                </a:lnTo>
                <a:lnTo>
                  <a:pt x="470" y="370"/>
                </a:lnTo>
                <a:lnTo>
                  <a:pt x="464" y="380"/>
                </a:lnTo>
                <a:lnTo>
                  <a:pt x="457" y="391"/>
                </a:lnTo>
                <a:lnTo>
                  <a:pt x="449" y="403"/>
                </a:lnTo>
                <a:lnTo>
                  <a:pt x="442" y="416"/>
                </a:lnTo>
                <a:lnTo>
                  <a:pt x="434" y="429"/>
                </a:lnTo>
                <a:lnTo>
                  <a:pt x="425" y="443"/>
                </a:lnTo>
                <a:lnTo>
                  <a:pt x="415" y="459"/>
                </a:lnTo>
                <a:lnTo>
                  <a:pt x="405" y="473"/>
                </a:lnTo>
                <a:lnTo>
                  <a:pt x="395" y="490"/>
                </a:lnTo>
                <a:lnTo>
                  <a:pt x="383" y="508"/>
                </a:lnTo>
                <a:lnTo>
                  <a:pt x="372" y="525"/>
                </a:lnTo>
                <a:lnTo>
                  <a:pt x="360" y="544"/>
                </a:lnTo>
                <a:lnTo>
                  <a:pt x="347" y="562"/>
                </a:lnTo>
                <a:lnTo>
                  <a:pt x="334" y="583"/>
                </a:lnTo>
                <a:lnTo>
                  <a:pt x="320" y="604"/>
                </a:lnTo>
                <a:lnTo>
                  <a:pt x="305" y="626"/>
                </a:lnTo>
                <a:lnTo>
                  <a:pt x="291" y="649"/>
                </a:lnTo>
                <a:lnTo>
                  <a:pt x="275" y="672"/>
                </a:lnTo>
                <a:lnTo>
                  <a:pt x="259" y="695"/>
                </a:lnTo>
                <a:lnTo>
                  <a:pt x="242" y="721"/>
                </a:lnTo>
                <a:lnTo>
                  <a:pt x="226" y="745"/>
                </a:lnTo>
                <a:lnTo>
                  <a:pt x="208" y="773"/>
                </a:lnTo>
                <a:lnTo>
                  <a:pt x="190" y="800"/>
                </a:lnTo>
                <a:lnTo>
                  <a:pt x="172" y="827"/>
                </a:lnTo>
                <a:lnTo>
                  <a:pt x="153" y="856"/>
                </a:lnTo>
                <a:lnTo>
                  <a:pt x="77" y="856"/>
                </a:lnTo>
                <a:lnTo>
                  <a:pt x="0" y="8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43"/>
          <p:cNvSpPr/>
          <p:nvPr/>
        </p:nvSpPr>
        <p:spPr>
          <a:xfrm>
            <a:off x="6832440" y="3598920"/>
            <a:ext cx="127080" cy="914400"/>
          </a:xfrm>
          <a:custGeom>
            <a:avLst/>
            <a:gdLst/>
            <a:ahLst/>
            <a:rect l="l" t="t" r="r" b="b"/>
            <a:pathLst>
              <a:path w="238" h="1730">
                <a:moveTo>
                  <a:pt x="14" y="1498"/>
                </a:moveTo>
                <a:lnTo>
                  <a:pt x="14" y="1487"/>
                </a:lnTo>
                <a:lnTo>
                  <a:pt x="14" y="1475"/>
                </a:lnTo>
                <a:lnTo>
                  <a:pt x="16" y="1463"/>
                </a:lnTo>
                <a:lnTo>
                  <a:pt x="17" y="1450"/>
                </a:lnTo>
                <a:lnTo>
                  <a:pt x="19" y="1437"/>
                </a:lnTo>
                <a:lnTo>
                  <a:pt x="22" y="1422"/>
                </a:lnTo>
                <a:lnTo>
                  <a:pt x="23" y="1408"/>
                </a:lnTo>
                <a:lnTo>
                  <a:pt x="26" y="1392"/>
                </a:lnTo>
                <a:lnTo>
                  <a:pt x="29" y="1375"/>
                </a:lnTo>
                <a:lnTo>
                  <a:pt x="32" y="1357"/>
                </a:lnTo>
                <a:lnTo>
                  <a:pt x="35" y="1337"/>
                </a:lnTo>
                <a:lnTo>
                  <a:pt x="39" y="1319"/>
                </a:lnTo>
                <a:lnTo>
                  <a:pt x="42" y="1297"/>
                </a:lnTo>
                <a:lnTo>
                  <a:pt x="45" y="1275"/>
                </a:lnTo>
                <a:lnTo>
                  <a:pt x="49" y="1251"/>
                </a:lnTo>
                <a:lnTo>
                  <a:pt x="53" y="1226"/>
                </a:lnTo>
                <a:lnTo>
                  <a:pt x="56" y="1200"/>
                </a:lnTo>
                <a:lnTo>
                  <a:pt x="59" y="1175"/>
                </a:lnTo>
                <a:lnTo>
                  <a:pt x="62" y="1146"/>
                </a:lnTo>
                <a:lnTo>
                  <a:pt x="63" y="1117"/>
                </a:lnTo>
                <a:lnTo>
                  <a:pt x="65" y="1088"/>
                </a:lnTo>
                <a:lnTo>
                  <a:pt x="66" y="1058"/>
                </a:lnTo>
                <a:lnTo>
                  <a:pt x="68" y="1026"/>
                </a:lnTo>
                <a:lnTo>
                  <a:pt x="69" y="995"/>
                </a:lnTo>
                <a:lnTo>
                  <a:pt x="69" y="962"/>
                </a:lnTo>
                <a:lnTo>
                  <a:pt x="71" y="927"/>
                </a:lnTo>
                <a:lnTo>
                  <a:pt x="71" y="892"/>
                </a:lnTo>
                <a:lnTo>
                  <a:pt x="71" y="856"/>
                </a:lnTo>
                <a:lnTo>
                  <a:pt x="71" y="820"/>
                </a:lnTo>
                <a:lnTo>
                  <a:pt x="71" y="783"/>
                </a:lnTo>
                <a:lnTo>
                  <a:pt x="72" y="744"/>
                </a:lnTo>
                <a:lnTo>
                  <a:pt x="72" y="705"/>
                </a:lnTo>
                <a:lnTo>
                  <a:pt x="68" y="665"/>
                </a:lnTo>
                <a:lnTo>
                  <a:pt x="65" y="628"/>
                </a:lnTo>
                <a:lnTo>
                  <a:pt x="61" y="590"/>
                </a:lnTo>
                <a:lnTo>
                  <a:pt x="58" y="556"/>
                </a:lnTo>
                <a:lnTo>
                  <a:pt x="53" y="521"/>
                </a:lnTo>
                <a:lnTo>
                  <a:pt x="50" y="488"/>
                </a:lnTo>
                <a:lnTo>
                  <a:pt x="46" y="455"/>
                </a:lnTo>
                <a:lnTo>
                  <a:pt x="43" y="425"/>
                </a:lnTo>
                <a:lnTo>
                  <a:pt x="39" y="393"/>
                </a:lnTo>
                <a:lnTo>
                  <a:pt x="35" y="364"/>
                </a:lnTo>
                <a:lnTo>
                  <a:pt x="32" y="335"/>
                </a:lnTo>
                <a:lnTo>
                  <a:pt x="27" y="307"/>
                </a:lnTo>
                <a:lnTo>
                  <a:pt x="25" y="279"/>
                </a:lnTo>
                <a:lnTo>
                  <a:pt x="20" y="253"/>
                </a:lnTo>
                <a:lnTo>
                  <a:pt x="17" y="227"/>
                </a:lnTo>
                <a:lnTo>
                  <a:pt x="14" y="201"/>
                </a:lnTo>
                <a:lnTo>
                  <a:pt x="10" y="180"/>
                </a:lnTo>
                <a:lnTo>
                  <a:pt x="7" y="161"/>
                </a:lnTo>
                <a:lnTo>
                  <a:pt x="6" y="142"/>
                </a:lnTo>
                <a:lnTo>
                  <a:pt x="3" y="125"/>
                </a:lnTo>
                <a:lnTo>
                  <a:pt x="1" y="109"/>
                </a:lnTo>
                <a:lnTo>
                  <a:pt x="0" y="95"/>
                </a:lnTo>
                <a:lnTo>
                  <a:pt x="0" y="80"/>
                </a:lnTo>
                <a:lnTo>
                  <a:pt x="0" y="69"/>
                </a:lnTo>
                <a:lnTo>
                  <a:pt x="0" y="57"/>
                </a:lnTo>
                <a:lnTo>
                  <a:pt x="0" y="47"/>
                </a:lnTo>
                <a:lnTo>
                  <a:pt x="1" y="37"/>
                </a:lnTo>
                <a:lnTo>
                  <a:pt x="3" y="30"/>
                </a:lnTo>
                <a:lnTo>
                  <a:pt x="6" y="23"/>
                </a:lnTo>
                <a:lnTo>
                  <a:pt x="7" y="17"/>
                </a:lnTo>
                <a:lnTo>
                  <a:pt x="10" y="11"/>
                </a:lnTo>
                <a:lnTo>
                  <a:pt x="14" y="9"/>
                </a:lnTo>
                <a:lnTo>
                  <a:pt x="19" y="4"/>
                </a:lnTo>
                <a:lnTo>
                  <a:pt x="23" y="3"/>
                </a:lnTo>
                <a:lnTo>
                  <a:pt x="30" y="1"/>
                </a:lnTo>
                <a:lnTo>
                  <a:pt x="39" y="0"/>
                </a:lnTo>
                <a:lnTo>
                  <a:pt x="48" y="0"/>
                </a:lnTo>
                <a:lnTo>
                  <a:pt x="59" y="0"/>
                </a:lnTo>
                <a:lnTo>
                  <a:pt x="71" y="1"/>
                </a:lnTo>
                <a:lnTo>
                  <a:pt x="84" y="3"/>
                </a:lnTo>
                <a:lnTo>
                  <a:pt x="97" y="6"/>
                </a:lnTo>
                <a:lnTo>
                  <a:pt x="112" y="7"/>
                </a:lnTo>
                <a:lnTo>
                  <a:pt x="128" y="10"/>
                </a:lnTo>
                <a:lnTo>
                  <a:pt x="145" y="13"/>
                </a:lnTo>
                <a:lnTo>
                  <a:pt x="164" y="17"/>
                </a:lnTo>
                <a:lnTo>
                  <a:pt x="183" y="20"/>
                </a:lnTo>
                <a:lnTo>
                  <a:pt x="203" y="23"/>
                </a:lnTo>
                <a:lnTo>
                  <a:pt x="225" y="27"/>
                </a:lnTo>
                <a:lnTo>
                  <a:pt x="226" y="114"/>
                </a:lnTo>
                <a:lnTo>
                  <a:pt x="228" y="197"/>
                </a:lnTo>
                <a:lnTo>
                  <a:pt x="229" y="278"/>
                </a:lnTo>
                <a:lnTo>
                  <a:pt x="230" y="357"/>
                </a:lnTo>
                <a:lnTo>
                  <a:pt x="232" y="433"/>
                </a:lnTo>
                <a:lnTo>
                  <a:pt x="232" y="507"/>
                </a:lnTo>
                <a:lnTo>
                  <a:pt x="233" y="579"/>
                </a:lnTo>
                <a:lnTo>
                  <a:pt x="235" y="648"/>
                </a:lnTo>
                <a:lnTo>
                  <a:pt x="235" y="714"/>
                </a:lnTo>
                <a:lnTo>
                  <a:pt x="236" y="779"/>
                </a:lnTo>
                <a:lnTo>
                  <a:pt x="236" y="841"/>
                </a:lnTo>
                <a:lnTo>
                  <a:pt x="238" y="900"/>
                </a:lnTo>
                <a:lnTo>
                  <a:pt x="238" y="957"/>
                </a:lnTo>
                <a:lnTo>
                  <a:pt x="238" y="1010"/>
                </a:lnTo>
                <a:lnTo>
                  <a:pt x="238" y="1064"/>
                </a:lnTo>
                <a:lnTo>
                  <a:pt x="238" y="1113"/>
                </a:lnTo>
                <a:lnTo>
                  <a:pt x="238" y="1160"/>
                </a:lnTo>
                <a:lnTo>
                  <a:pt x="238" y="1205"/>
                </a:lnTo>
                <a:lnTo>
                  <a:pt x="238" y="1248"/>
                </a:lnTo>
                <a:lnTo>
                  <a:pt x="238" y="1288"/>
                </a:lnTo>
                <a:lnTo>
                  <a:pt x="236" y="1326"/>
                </a:lnTo>
                <a:lnTo>
                  <a:pt x="236" y="1360"/>
                </a:lnTo>
                <a:lnTo>
                  <a:pt x="235" y="1393"/>
                </a:lnTo>
                <a:lnTo>
                  <a:pt x="235" y="1422"/>
                </a:lnTo>
                <a:lnTo>
                  <a:pt x="233" y="1451"/>
                </a:lnTo>
                <a:lnTo>
                  <a:pt x="232" y="1475"/>
                </a:lnTo>
                <a:lnTo>
                  <a:pt x="232" y="1498"/>
                </a:lnTo>
                <a:lnTo>
                  <a:pt x="230" y="1519"/>
                </a:lnTo>
                <a:lnTo>
                  <a:pt x="229" y="1536"/>
                </a:lnTo>
                <a:lnTo>
                  <a:pt x="228" y="1552"/>
                </a:lnTo>
                <a:lnTo>
                  <a:pt x="226" y="1565"/>
                </a:lnTo>
                <a:lnTo>
                  <a:pt x="225" y="1575"/>
                </a:lnTo>
                <a:lnTo>
                  <a:pt x="220" y="1592"/>
                </a:lnTo>
                <a:lnTo>
                  <a:pt x="217" y="1609"/>
                </a:lnTo>
                <a:lnTo>
                  <a:pt x="213" y="1625"/>
                </a:lnTo>
                <a:lnTo>
                  <a:pt x="210" y="1640"/>
                </a:lnTo>
                <a:lnTo>
                  <a:pt x="206" y="1654"/>
                </a:lnTo>
                <a:lnTo>
                  <a:pt x="203" y="1667"/>
                </a:lnTo>
                <a:lnTo>
                  <a:pt x="199" y="1678"/>
                </a:lnTo>
                <a:lnTo>
                  <a:pt x="196" y="1689"/>
                </a:lnTo>
                <a:lnTo>
                  <a:pt x="192" y="1699"/>
                </a:lnTo>
                <a:lnTo>
                  <a:pt x="189" y="1706"/>
                </a:lnTo>
                <a:lnTo>
                  <a:pt x="184" y="1713"/>
                </a:lnTo>
                <a:lnTo>
                  <a:pt x="181" y="1719"/>
                </a:lnTo>
                <a:lnTo>
                  <a:pt x="177" y="1723"/>
                </a:lnTo>
                <a:lnTo>
                  <a:pt x="174" y="1727"/>
                </a:lnTo>
                <a:lnTo>
                  <a:pt x="170" y="1729"/>
                </a:lnTo>
                <a:lnTo>
                  <a:pt x="167" y="1730"/>
                </a:lnTo>
                <a:lnTo>
                  <a:pt x="163" y="1729"/>
                </a:lnTo>
                <a:lnTo>
                  <a:pt x="158" y="1729"/>
                </a:lnTo>
                <a:lnTo>
                  <a:pt x="154" y="1727"/>
                </a:lnTo>
                <a:lnTo>
                  <a:pt x="150" y="1726"/>
                </a:lnTo>
                <a:lnTo>
                  <a:pt x="144" y="1723"/>
                </a:lnTo>
                <a:lnTo>
                  <a:pt x="140" y="1720"/>
                </a:lnTo>
                <a:lnTo>
                  <a:pt x="134" y="1717"/>
                </a:lnTo>
                <a:lnTo>
                  <a:pt x="128" y="1713"/>
                </a:lnTo>
                <a:lnTo>
                  <a:pt x="124" y="1709"/>
                </a:lnTo>
                <a:lnTo>
                  <a:pt x="118" y="1703"/>
                </a:lnTo>
                <a:lnTo>
                  <a:pt x="112" y="1696"/>
                </a:lnTo>
                <a:lnTo>
                  <a:pt x="108" y="1689"/>
                </a:lnTo>
                <a:lnTo>
                  <a:pt x="104" y="1681"/>
                </a:lnTo>
                <a:lnTo>
                  <a:pt x="98" y="1673"/>
                </a:lnTo>
                <a:lnTo>
                  <a:pt x="95" y="1663"/>
                </a:lnTo>
                <a:lnTo>
                  <a:pt x="91" y="1653"/>
                </a:lnTo>
                <a:lnTo>
                  <a:pt x="84" y="1642"/>
                </a:lnTo>
                <a:lnTo>
                  <a:pt x="78" y="1631"/>
                </a:lnTo>
                <a:lnTo>
                  <a:pt x="71" y="1622"/>
                </a:lnTo>
                <a:lnTo>
                  <a:pt x="65" y="1612"/>
                </a:lnTo>
                <a:lnTo>
                  <a:pt x="55" y="1594"/>
                </a:lnTo>
                <a:lnTo>
                  <a:pt x="45" y="1575"/>
                </a:lnTo>
                <a:lnTo>
                  <a:pt x="36" y="1558"/>
                </a:lnTo>
                <a:lnTo>
                  <a:pt x="29" y="1539"/>
                </a:lnTo>
                <a:lnTo>
                  <a:pt x="22" y="1519"/>
                </a:lnTo>
                <a:lnTo>
                  <a:pt x="17" y="1509"/>
                </a:lnTo>
                <a:lnTo>
                  <a:pt x="14" y="14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44"/>
          <p:cNvSpPr/>
          <p:nvPr/>
        </p:nvSpPr>
        <p:spPr>
          <a:xfrm>
            <a:off x="6535800" y="3797280"/>
            <a:ext cx="792000" cy="1292400"/>
          </a:xfrm>
          <a:custGeom>
            <a:avLst/>
            <a:gdLst/>
            <a:ahLst/>
            <a:rect l="l" t="t" r="r" b="b"/>
            <a:pathLst>
              <a:path w="1497" h="2441">
                <a:moveTo>
                  <a:pt x="2" y="2437"/>
                </a:moveTo>
                <a:lnTo>
                  <a:pt x="1" y="2433"/>
                </a:lnTo>
                <a:lnTo>
                  <a:pt x="0" y="2430"/>
                </a:lnTo>
                <a:lnTo>
                  <a:pt x="0" y="2425"/>
                </a:lnTo>
                <a:lnTo>
                  <a:pt x="0" y="2421"/>
                </a:lnTo>
                <a:lnTo>
                  <a:pt x="0" y="2418"/>
                </a:lnTo>
                <a:lnTo>
                  <a:pt x="0" y="2414"/>
                </a:lnTo>
                <a:lnTo>
                  <a:pt x="1" y="2410"/>
                </a:lnTo>
                <a:lnTo>
                  <a:pt x="2" y="2405"/>
                </a:lnTo>
                <a:lnTo>
                  <a:pt x="5" y="2401"/>
                </a:lnTo>
                <a:lnTo>
                  <a:pt x="7" y="2397"/>
                </a:lnTo>
                <a:lnTo>
                  <a:pt x="10" y="2391"/>
                </a:lnTo>
                <a:lnTo>
                  <a:pt x="14" y="2386"/>
                </a:lnTo>
                <a:lnTo>
                  <a:pt x="17" y="2382"/>
                </a:lnTo>
                <a:lnTo>
                  <a:pt x="21" y="2378"/>
                </a:lnTo>
                <a:lnTo>
                  <a:pt x="26" y="2372"/>
                </a:lnTo>
                <a:lnTo>
                  <a:pt x="31" y="2368"/>
                </a:lnTo>
                <a:lnTo>
                  <a:pt x="37" y="2362"/>
                </a:lnTo>
                <a:lnTo>
                  <a:pt x="43" y="2358"/>
                </a:lnTo>
                <a:lnTo>
                  <a:pt x="49" y="2352"/>
                </a:lnTo>
                <a:lnTo>
                  <a:pt x="56" y="2348"/>
                </a:lnTo>
                <a:lnTo>
                  <a:pt x="63" y="2342"/>
                </a:lnTo>
                <a:lnTo>
                  <a:pt x="72" y="2336"/>
                </a:lnTo>
                <a:lnTo>
                  <a:pt x="80" y="2332"/>
                </a:lnTo>
                <a:lnTo>
                  <a:pt x="89" y="2326"/>
                </a:lnTo>
                <a:lnTo>
                  <a:pt x="98" y="2320"/>
                </a:lnTo>
                <a:lnTo>
                  <a:pt x="108" y="2314"/>
                </a:lnTo>
                <a:lnTo>
                  <a:pt x="118" y="2310"/>
                </a:lnTo>
                <a:lnTo>
                  <a:pt x="128" y="2304"/>
                </a:lnTo>
                <a:lnTo>
                  <a:pt x="138" y="2299"/>
                </a:lnTo>
                <a:lnTo>
                  <a:pt x="149" y="2293"/>
                </a:lnTo>
                <a:lnTo>
                  <a:pt x="162" y="2287"/>
                </a:lnTo>
                <a:lnTo>
                  <a:pt x="174" y="2283"/>
                </a:lnTo>
                <a:lnTo>
                  <a:pt x="195" y="2270"/>
                </a:lnTo>
                <a:lnTo>
                  <a:pt x="218" y="2258"/>
                </a:lnTo>
                <a:lnTo>
                  <a:pt x="243" y="2244"/>
                </a:lnTo>
                <a:lnTo>
                  <a:pt x="267" y="2228"/>
                </a:lnTo>
                <a:lnTo>
                  <a:pt x="293" y="2211"/>
                </a:lnTo>
                <a:lnTo>
                  <a:pt x="319" y="2192"/>
                </a:lnTo>
                <a:lnTo>
                  <a:pt x="347" y="2173"/>
                </a:lnTo>
                <a:lnTo>
                  <a:pt x="375" y="2152"/>
                </a:lnTo>
                <a:lnTo>
                  <a:pt x="404" y="2130"/>
                </a:lnTo>
                <a:lnTo>
                  <a:pt x="434" y="2106"/>
                </a:lnTo>
                <a:lnTo>
                  <a:pt x="465" y="2081"/>
                </a:lnTo>
                <a:lnTo>
                  <a:pt x="496" y="2055"/>
                </a:lnTo>
                <a:lnTo>
                  <a:pt x="529" y="2027"/>
                </a:lnTo>
                <a:lnTo>
                  <a:pt x="562" y="1998"/>
                </a:lnTo>
                <a:lnTo>
                  <a:pt x="580" y="1982"/>
                </a:lnTo>
                <a:lnTo>
                  <a:pt x="597" y="1966"/>
                </a:lnTo>
                <a:lnTo>
                  <a:pt x="614" y="1950"/>
                </a:lnTo>
                <a:lnTo>
                  <a:pt x="633" y="1934"/>
                </a:lnTo>
                <a:lnTo>
                  <a:pt x="665" y="1904"/>
                </a:lnTo>
                <a:lnTo>
                  <a:pt x="695" y="1873"/>
                </a:lnTo>
                <a:lnTo>
                  <a:pt x="727" y="1841"/>
                </a:lnTo>
                <a:lnTo>
                  <a:pt x="757" y="1806"/>
                </a:lnTo>
                <a:lnTo>
                  <a:pt x="787" y="1772"/>
                </a:lnTo>
                <a:lnTo>
                  <a:pt x="816" y="1736"/>
                </a:lnTo>
                <a:lnTo>
                  <a:pt x="843" y="1698"/>
                </a:lnTo>
                <a:lnTo>
                  <a:pt x="871" y="1661"/>
                </a:lnTo>
                <a:lnTo>
                  <a:pt x="898" y="1621"/>
                </a:lnTo>
                <a:lnTo>
                  <a:pt x="924" y="1580"/>
                </a:lnTo>
                <a:lnTo>
                  <a:pt x="948" y="1539"/>
                </a:lnTo>
                <a:lnTo>
                  <a:pt x="971" y="1497"/>
                </a:lnTo>
                <a:lnTo>
                  <a:pt x="993" y="1452"/>
                </a:lnTo>
                <a:lnTo>
                  <a:pt x="1015" y="1408"/>
                </a:lnTo>
                <a:lnTo>
                  <a:pt x="1035" y="1361"/>
                </a:lnTo>
                <a:lnTo>
                  <a:pt x="1053" y="1315"/>
                </a:lnTo>
                <a:lnTo>
                  <a:pt x="1069" y="1268"/>
                </a:lnTo>
                <a:lnTo>
                  <a:pt x="1086" y="1220"/>
                </a:lnTo>
                <a:lnTo>
                  <a:pt x="1101" y="1171"/>
                </a:lnTo>
                <a:lnTo>
                  <a:pt x="1117" y="1124"/>
                </a:lnTo>
                <a:lnTo>
                  <a:pt x="1130" y="1075"/>
                </a:lnTo>
                <a:lnTo>
                  <a:pt x="1143" y="1026"/>
                </a:lnTo>
                <a:lnTo>
                  <a:pt x="1154" y="977"/>
                </a:lnTo>
                <a:lnTo>
                  <a:pt x="1164" y="928"/>
                </a:lnTo>
                <a:lnTo>
                  <a:pt x="1173" y="879"/>
                </a:lnTo>
                <a:lnTo>
                  <a:pt x="1182" y="830"/>
                </a:lnTo>
                <a:lnTo>
                  <a:pt x="1189" y="781"/>
                </a:lnTo>
                <a:lnTo>
                  <a:pt x="1194" y="732"/>
                </a:lnTo>
                <a:lnTo>
                  <a:pt x="1199" y="685"/>
                </a:lnTo>
                <a:lnTo>
                  <a:pt x="1203" y="636"/>
                </a:lnTo>
                <a:lnTo>
                  <a:pt x="1205" y="588"/>
                </a:lnTo>
                <a:lnTo>
                  <a:pt x="1206" y="541"/>
                </a:lnTo>
                <a:lnTo>
                  <a:pt x="1205" y="518"/>
                </a:lnTo>
                <a:lnTo>
                  <a:pt x="1205" y="495"/>
                </a:lnTo>
                <a:lnTo>
                  <a:pt x="1205" y="473"/>
                </a:lnTo>
                <a:lnTo>
                  <a:pt x="1205" y="452"/>
                </a:lnTo>
                <a:lnTo>
                  <a:pt x="1205" y="431"/>
                </a:lnTo>
                <a:lnTo>
                  <a:pt x="1203" y="411"/>
                </a:lnTo>
                <a:lnTo>
                  <a:pt x="1203" y="393"/>
                </a:lnTo>
                <a:lnTo>
                  <a:pt x="1202" y="374"/>
                </a:lnTo>
                <a:lnTo>
                  <a:pt x="1200" y="357"/>
                </a:lnTo>
                <a:lnTo>
                  <a:pt x="1200" y="339"/>
                </a:lnTo>
                <a:lnTo>
                  <a:pt x="1199" y="324"/>
                </a:lnTo>
                <a:lnTo>
                  <a:pt x="1197" y="308"/>
                </a:lnTo>
                <a:lnTo>
                  <a:pt x="1196" y="292"/>
                </a:lnTo>
                <a:lnTo>
                  <a:pt x="1194" y="277"/>
                </a:lnTo>
                <a:lnTo>
                  <a:pt x="1193" y="264"/>
                </a:lnTo>
                <a:lnTo>
                  <a:pt x="1190" y="252"/>
                </a:lnTo>
                <a:lnTo>
                  <a:pt x="1189" y="239"/>
                </a:lnTo>
                <a:lnTo>
                  <a:pt x="1187" y="227"/>
                </a:lnTo>
                <a:lnTo>
                  <a:pt x="1184" y="216"/>
                </a:lnTo>
                <a:lnTo>
                  <a:pt x="1183" y="205"/>
                </a:lnTo>
                <a:lnTo>
                  <a:pt x="1180" y="195"/>
                </a:lnTo>
                <a:lnTo>
                  <a:pt x="1179" y="187"/>
                </a:lnTo>
                <a:lnTo>
                  <a:pt x="1176" y="180"/>
                </a:lnTo>
                <a:lnTo>
                  <a:pt x="1173" y="171"/>
                </a:lnTo>
                <a:lnTo>
                  <a:pt x="1170" y="164"/>
                </a:lnTo>
                <a:lnTo>
                  <a:pt x="1167" y="158"/>
                </a:lnTo>
                <a:lnTo>
                  <a:pt x="1164" y="152"/>
                </a:lnTo>
                <a:lnTo>
                  <a:pt x="1161" y="148"/>
                </a:lnTo>
                <a:lnTo>
                  <a:pt x="1158" y="144"/>
                </a:lnTo>
                <a:lnTo>
                  <a:pt x="1154" y="139"/>
                </a:lnTo>
                <a:lnTo>
                  <a:pt x="1151" y="138"/>
                </a:lnTo>
                <a:lnTo>
                  <a:pt x="1148" y="135"/>
                </a:lnTo>
                <a:lnTo>
                  <a:pt x="1141" y="131"/>
                </a:lnTo>
                <a:lnTo>
                  <a:pt x="1134" y="128"/>
                </a:lnTo>
                <a:lnTo>
                  <a:pt x="1128" y="123"/>
                </a:lnTo>
                <a:lnTo>
                  <a:pt x="1122" y="121"/>
                </a:lnTo>
                <a:lnTo>
                  <a:pt x="1118" y="116"/>
                </a:lnTo>
                <a:lnTo>
                  <a:pt x="1114" y="112"/>
                </a:lnTo>
                <a:lnTo>
                  <a:pt x="1111" y="108"/>
                </a:lnTo>
                <a:lnTo>
                  <a:pt x="1107" y="103"/>
                </a:lnTo>
                <a:lnTo>
                  <a:pt x="1105" y="99"/>
                </a:lnTo>
                <a:lnTo>
                  <a:pt x="1104" y="93"/>
                </a:lnTo>
                <a:lnTo>
                  <a:pt x="1102" y="89"/>
                </a:lnTo>
                <a:lnTo>
                  <a:pt x="1102" y="83"/>
                </a:lnTo>
                <a:lnTo>
                  <a:pt x="1102" y="77"/>
                </a:lnTo>
                <a:lnTo>
                  <a:pt x="1104" y="72"/>
                </a:lnTo>
                <a:lnTo>
                  <a:pt x="1107" y="64"/>
                </a:lnTo>
                <a:lnTo>
                  <a:pt x="1110" y="57"/>
                </a:lnTo>
                <a:lnTo>
                  <a:pt x="1110" y="50"/>
                </a:lnTo>
                <a:lnTo>
                  <a:pt x="1111" y="44"/>
                </a:lnTo>
                <a:lnTo>
                  <a:pt x="1112" y="37"/>
                </a:lnTo>
                <a:lnTo>
                  <a:pt x="1114" y="33"/>
                </a:lnTo>
                <a:lnTo>
                  <a:pt x="1115" y="27"/>
                </a:lnTo>
                <a:lnTo>
                  <a:pt x="1118" y="23"/>
                </a:lnTo>
                <a:lnTo>
                  <a:pt x="1122" y="18"/>
                </a:lnTo>
                <a:lnTo>
                  <a:pt x="1127" y="14"/>
                </a:lnTo>
                <a:lnTo>
                  <a:pt x="1131" y="11"/>
                </a:lnTo>
                <a:lnTo>
                  <a:pt x="1137" y="8"/>
                </a:lnTo>
                <a:lnTo>
                  <a:pt x="1143" y="5"/>
                </a:lnTo>
                <a:lnTo>
                  <a:pt x="1150" y="4"/>
                </a:lnTo>
                <a:lnTo>
                  <a:pt x="1157" y="1"/>
                </a:lnTo>
                <a:lnTo>
                  <a:pt x="1166" y="1"/>
                </a:lnTo>
                <a:lnTo>
                  <a:pt x="1176" y="0"/>
                </a:lnTo>
                <a:lnTo>
                  <a:pt x="1186" y="0"/>
                </a:lnTo>
                <a:lnTo>
                  <a:pt x="1197" y="0"/>
                </a:lnTo>
                <a:lnTo>
                  <a:pt x="1207" y="1"/>
                </a:lnTo>
                <a:lnTo>
                  <a:pt x="1219" y="1"/>
                </a:lnTo>
                <a:lnTo>
                  <a:pt x="1229" y="2"/>
                </a:lnTo>
                <a:lnTo>
                  <a:pt x="1252" y="7"/>
                </a:lnTo>
                <a:lnTo>
                  <a:pt x="1265" y="8"/>
                </a:lnTo>
                <a:lnTo>
                  <a:pt x="1277" y="11"/>
                </a:lnTo>
                <a:lnTo>
                  <a:pt x="1289" y="14"/>
                </a:lnTo>
                <a:lnTo>
                  <a:pt x="1302" y="17"/>
                </a:lnTo>
                <a:lnTo>
                  <a:pt x="1317" y="20"/>
                </a:lnTo>
                <a:lnTo>
                  <a:pt x="1331" y="24"/>
                </a:lnTo>
                <a:lnTo>
                  <a:pt x="1346" y="27"/>
                </a:lnTo>
                <a:lnTo>
                  <a:pt x="1361" y="31"/>
                </a:lnTo>
                <a:lnTo>
                  <a:pt x="1379" y="34"/>
                </a:lnTo>
                <a:lnTo>
                  <a:pt x="1396" y="38"/>
                </a:lnTo>
                <a:lnTo>
                  <a:pt x="1410" y="46"/>
                </a:lnTo>
                <a:lnTo>
                  <a:pt x="1423" y="54"/>
                </a:lnTo>
                <a:lnTo>
                  <a:pt x="1435" y="64"/>
                </a:lnTo>
                <a:lnTo>
                  <a:pt x="1446" y="74"/>
                </a:lnTo>
                <a:lnTo>
                  <a:pt x="1456" y="86"/>
                </a:lnTo>
                <a:lnTo>
                  <a:pt x="1465" y="99"/>
                </a:lnTo>
                <a:lnTo>
                  <a:pt x="1472" y="113"/>
                </a:lnTo>
                <a:lnTo>
                  <a:pt x="1479" y="128"/>
                </a:lnTo>
                <a:lnTo>
                  <a:pt x="1485" y="144"/>
                </a:lnTo>
                <a:lnTo>
                  <a:pt x="1490" y="161"/>
                </a:lnTo>
                <a:lnTo>
                  <a:pt x="1494" y="180"/>
                </a:lnTo>
                <a:lnTo>
                  <a:pt x="1495" y="198"/>
                </a:lnTo>
                <a:lnTo>
                  <a:pt x="1497" y="220"/>
                </a:lnTo>
                <a:lnTo>
                  <a:pt x="1497" y="241"/>
                </a:lnTo>
                <a:lnTo>
                  <a:pt x="1494" y="264"/>
                </a:lnTo>
                <a:lnTo>
                  <a:pt x="1492" y="290"/>
                </a:lnTo>
                <a:lnTo>
                  <a:pt x="1488" y="316"/>
                </a:lnTo>
                <a:lnTo>
                  <a:pt x="1485" y="344"/>
                </a:lnTo>
                <a:lnTo>
                  <a:pt x="1481" y="372"/>
                </a:lnTo>
                <a:lnTo>
                  <a:pt x="1478" y="403"/>
                </a:lnTo>
                <a:lnTo>
                  <a:pt x="1474" y="433"/>
                </a:lnTo>
                <a:lnTo>
                  <a:pt x="1471" y="466"/>
                </a:lnTo>
                <a:lnTo>
                  <a:pt x="1467" y="501"/>
                </a:lnTo>
                <a:lnTo>
                  <a:pt x="1464" y="537"/>
                </a:lnTo>
                <a:lnTo>
                  <a:pt x="1459" y="574"/>
                </a:lnTo>
                <a:lnTo>
                  <a:pt x="1455" y="611"/>
                </a:lnTo>
                <a:lnTo>
                  <a:pt x="1452" y="652"/>
                </a:lnTo>
                <a:lnTo>
                  <a:pt x="1448" y="692"/>
                </a:lnTo>
                <a:lnTo>
                  <a:pt x="1445" y="735"/>
                </a:lnTo>
                <a:lnTo>
                  <a:pt x="1441" y="778"/>
                </a:lnTo>
                <a:lnTo>
                  <a:pt x="1438" y="823"/>
                </a:lnTo>
                <a:lnTo>
                  <a:pt x="1435" y="871"/>
                </a:lnTo>
                <a:lnTo>
                  <a:pt x="1432" y="895"/>
                </a:lnTo>
                <a:lnTo>
                  <a:pt x="1429" y="921"/>
                </a:lnTo>
                <a:lnTo>
                  <a:pt x="1426" y="945"/>
                </a:lnTo>
                <a:lnTo>
                  <a:pt x="1423" y="971"/>
                </a:lnTo>
                <a:lnTo>
                  <a:pt x="1419" y="997"/>
                </a:lnTo>
                <a:lnTo>
                  <a:pt x="1415" y="1022"/>
                </a:lnTo>
                <a:lnTo>
                  <a:pt x="1410" y="1048"/>
                </a:lnTo>
                <a:lnTo>
                  <a:pt x="1406" y="1072"/>
                </a:lnTo>
                <a:lnTo>
                  <a:pt x="1400" y="1098"/>
                </a:lnTo>
                <a:lnTo>
                  <a:pt x="1393" y="1122"/>
                </a:lnTo>
                <a:lnTo>
                  <a:pt x="1387" y="1148"/>
                </a:lnTo>
                <a:lnTo>
                  <a:pt x="1380" y="1173"/>
                </a:lnTo>
                <a:lnTo>
                  <a:pt x="1373" y="1199"/>
                </a:lnTo>
                <a:lnTo>
                  <a:pt x="1364" y="1223"/>
                </a:lnTo>
                <a:lnTo>
                  <a:pt x="1356" y="1249"/>
                </a:lnTo>
                <a:lnTo>
                  <a:pt x="1347" y="1274"/>
                </a:lnTo>
                <a:lnTo>
                  <a:pt x="1338" y="1298"/>
                </a:lnTo>
                <a:lnTo>
                  <a:pt x="1328" y="1323"/>
                </a:lnTo>
                <a:lnTo>
                  <a:pt x="1318" y="1349"/>
                </a:lnTo>
                <a:lnTo>
                  <a:pt x="1308" y="1373"/>
                </a:lnTo>
                <a:lnTo>
                  <a:pt x="1297" y="1397"/>
                </a:lnTo>
                <a:lnTo>
                  <a:pt x="1285" y="1422"/>
                </a:lnTo>
                <a:lnTo>
                  <a:pt x="1274" y="1446"/>
                </a:lnTo>
                <a:lnTo>
                  <a:pt x="1262" y="1471"/>
                </a:lnTo>
                <a:lnTo>
                  <a:pt x="1249" y="1495"/>
                </a:lnTo>
                <a:lnTo>
                  <a:pt x="1236" y="1520"/>
                </a:lnTo>
                <a:lnTo>
                  <a:pt x="1222" y="1543"/>
                </a:lnTo>
                <a:lnTo>
                  <a:pt x="1207" y="1567"/>
                </a:lnTo>
                <a:lnTo>
                  <a:pt x="1193" y="1592"/>
                </a:lnTo>
                <a:lnTo>
                  <a:pt x="1179" y="1615"/>
                </a:lnTo>
                <a:lnTo>
                  <a:pt x="1163" y="1639"/>
                </a:lnTo>
                <a:lnTo>
                  <a:pt x="1148" y="1664"/>
                </a:lnTo>
                <a:lnTo>
                  <a:pt x="1131" y="1687"/>
                </a:lnTo>
                <a:lnTo>
                  <a:pt x="1115" y="1710"/>
                </a:lnTo>
                <a:lnTo>
                  <a:pt x="1098" y="1733"/>
                </a:lnTo>
                <a:lnTo>
                  <a:pt x="1081" y="1756"/>
                </a:lnTo>
                <a:lnTo>
                  <a:pt x="1063" y="1779"/>
                </a:lnTo>
                <a:lnTo>
                  <a:pt x="1046" y="1801"/>
                </a:lnTo>
                <a:lnTo>
                  <a:pt x="1027" y="1822"/>
                </a:lnTo>
                <a:lnTo>
                  <a:pt x="1009" y="1844"/>
                </a:lnTo>
                <a:lnTo>
                  <a:pt x="971" y="1887"/>
                </a:lnTo>
                <a:lnTo>
                  <a:pt x="931" y="1927"/>
                </a:lnTo>
                <a:lnTo>
                  <a:pt x="891" y="1968"/>
                </a:lnTo>
                <a:lnTo>
                  <a:pt x="848" y="2006"/>
                </a:lnTo>
                <a:lnTo>
                  <a:pt x="804" y="2044"/>
                </a:lnTo>
                <a:lnTo>
                  <a:pt x="758" y="2080"/>
                </a:lnTo>
                <a:lnTo>
                  <a:pt x="735" y="2097"/>
                </a:lnTo>
                <a:lnTo>
                  <a:pt x="712" y="2114"/>
                </a:lnTo>
                <a:lnTo>
                  <a:pt x="689" y="2130"/>
                </a:lnTo>
                <a:lnTo>
                  <a:pt x="665" y="2147"/>
                </a:lnTo>
                <a:lnTo>
                  <a:pt x="640" y="2163"/>
                </a:lnTo>
                <a:lnTo>
                  <a:pt x="616" y="2178"/>
                </a:lnTo>
                <a:lnTo>
                  <a:pt x="590" y="2194"/>
                </a:lnTo>
                <a:lnTo>
                  <a:pt x="565" y="2208"/>
                </a:lnTo>
                <a:lnTo>
                  <a:pt x="539" y="2222"/>
                </a:lnTo>
                <a:lnTo>
                  <a:pt x="514" y="2237"/>
                </a:lnTo>
                <a:lnTo>
                  <a:pt x="488" y="2250"/>
                </a:lnTo>
                <a:lnTo>
                  <a:pt x="460" y="2264"/>
                </a:lnTo>
                <a:lnTo>
                  <a:pt x="434" y="2276"/>
                </a:lnTo>
                <a:lnTo>
                  <a:pt x="408" y="2289"/>
                </a:lnTo>
                <a:lnTo>
                  <a:pt x="384" y="2300"/>
                </a:lnTo>
                <a:lnTo>
                  <a:pt x="360" y="2312"/>
                </a:lnTo>
                <a:lnTo>
                  <a:pt x="336" y="2322"/>
                </a:lnTo>
                <a:lnTo>
                  <a:pt x="313" y="2332"/>
                </a:lnTo>
                <a:lnTo>
                  <a:pt x="292" y="2342"/>
                </a:lnTo>
                <a:lnTo>
                  <a:pt x="272" y="2352"/>
                </a:lnTo>
                <a:lnTo>
                  <a:pt x="252" y="2361"/>
                </a:lnTo>
                <a:lnTo>
                  <a:pt x="231" y="2369"/>
                </a:lnTo>
                <a:lnTo>
                  <a:pt x="213" y="2376"/>
                </a:lnTo>
                <a:lnTo>
                  <a:pt x="195" y="2384"/>
                </a:lnTo>
                <a:lnTo>
                  <a:pt x="178" y="2391"/>
                </a:lnTo>
                <a:lnTo>
                  <a:pt x="162" y="2398"/>
                </a:lnTo>
                <a:lnTo>
                  <a:pt x="146" y="2404"/>
                </a:lnTo>
                <a:lnTo>
                  <a:pt x="132" y="2410"/>
                </a:lnTo>
                <a:lnTo>
                  <a:pt x="118" y="2414"/>
                </a:lnTo>
                <a:lnTo>
                  <a:pt x="105" y="2420"/>
                </a:lnTo>
                <a:lnTo>
                  <a:pt x="92" y="2424"/>
                </a:lnTo>
                <a:lnTo>
                  <a:pt x="80" y="2427"/>
                </a:lnTo>
                <a:lnTo>
                  <a:pt x="70" y="2431"/>
                </a:lnTo>
                <a:lnTo>
                  <a:pt x="60" y="2434"/>
                </a:lnTo>
                <a:lnTo>
                  <a:pt x="50" y="2435"/>
                </a:lnTo>
                <a:lnTo>
                  <a:pt x="41" y="2438"/>
                </a:lnTo>
                <a:lnTo>
                  <a:pt x="34" y="2440"/>
                </a:lnTo>
                <a:lnTo>
                  <a:pt x="27" y="2440"/>
                </a:lnTo>
                <a:lnTo>
                  <a:pt x="21" y="2441"/>
                </a:lnTo>
                <a:lnTo>
                  <a:pt x="15" y="2441"/>
                </a:lnTo>
                <a:lnTo>
                  <a:pt x="11" y="2441"/>
                </a:lnTo>
                <a:lnTo>
                  <a:pt x="8" y="2440"/>
                </a:lnTo>
                <a:lnTo>
                  <a:pt x="5" y="2438"/>
                </a:lnTo>
                <a:lnTo>
                  <a:pt x="2" y="24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45"/>
          <p:cNvSpPr/>
          <p:nvPr/>
        </p:nvSpPr>
        <p:spPr>
          <a:xfrm>
            <a:off x="7305840" y="4602240"/>
            <a:ext cx="485640" cy="484200"/>
          </a:xfrm>
          <a:custGeom>
            <a:avLst/>
            <a:gdLst/>
            <a:ahLst/>
            <a:rect l="l" t="t" r="r" b="b"/>
            <a:pathLst>
              <a:path w="917" h="917">
                <a:moveTo>
                  <a:pt x="649" y="298"/>
                </a:moveTo>
                <a:lnTo>
                  <a:pt x="663" y="311"/>
                </a:lnTo>
                <a:lnTo>
                  <a:pt x="679" y="324"/>
                </a:lnTo>
                <a:lnTo>
                  <a:pt x="693" y="337"/>
                </a:lnTo>
                <a:lnTo>
                  <a:pt x="709" y="350"/>
                </a:lnTo>
                <a:lnTo>
                  <a:pt x="722" y="363"/>
                </a:lnTo>
                <a:lnTo>
                  <a:pt x="737" y="376"/>
                </a:lnTo>
                <a:lnTo>
                  <a:pt x="750" y="389"/>
                </a:lnTo>
                <a:lnTo>
                  <a:pt x="763" y="400"/>
                </a:lnTo>
                <a:lnTo>
                  <a:pt x="774" y="413"/>
                </a:lnTo>
                <a:lnTo>
                  <a:pt x="786" y="426"/>
                </a:lnTo>
                <a:lnTo>
                  <a:pt x="797" y="439"/>
                </a:lnTo>
                <a:lnTo>
                  <a:pt x="807" y="452"/>
                </a:lnTo>
                <a:lnTo>
                  <a:pt x="819" y="465"/>
                </a:lnTo>
                <a:lnTo>
                  <a:pt x="827" y="478"/>
                </a:lnTo>
                <a:lnTo>
                  <a:pt x="837" y="491"/>
                </a:lnTo>
                <a:lnTo>
                  <a:pt x="846" y="505"/>
                </a:lnTo>
                <a:lnTo>
                  <a:pt x="855" y="518"/>
                </a:lnTo>
                <a:lnTo>
                  <a:pt x="862" y="531"/>
                </a:lnTo>
                <a:lnTo>
                  <a:pt x="869" y="544"/>
                </a:lnTo>
                <a:lnTo>
                  <a:pt x="876" y="557"/>
                </a:lnTo>
                <a:lnTo>
                  <a:pt x="882" y="571"/>
                </a:lnTo>
                <a:lnTo>
                  <a:pt x="888" y="584"/>
                </a:lnTo>
                <a:lnTo>
                  <a:pt x="894" y="597"/>
                </a:lnTo>
                <a:lnTo>
                  <a:pt x="898" y="612"/>
                </a:lnTo>
                <a:lnTo>
                  <a:pt x="902" y="625"/>
                </a:lnTo>
                <a:lnTo>
                  <a:pt x="907" y="639"/>
                </a:lnTo>
                <a:lnTo>
                  <a:pt x="909" y="653"/>
                </a:lnTo>
                <a:lnTo>
                  <a:pt x="911" y="666"/>
                </a:lnTo>
                <a:lnTo>
                  <a:pt x="914" y="681"/>
                </a:lnTo>
                <a:lnTo>
                  <a:pt x="915" y="695"/>
                </a:lnTo>
                <a:lnTo>
                  <a:pt x="915" y="710"/>
                </a:lnTo>
                <a:lnTo>
                  <a:pt x="917" y="724"/>
                </a:lnTo>
                <a:lnTo>
                  <a:pt x="915" y="737"/>
                </a:lnTo>
                <a:lnTo>
                  <a:pt x="915" y="748"/>
                </a:lnTo>
                <a:lnTo>
                  <a:pt x="915" y="760"/>
                </a:lnTo>
                <a:lnTo>
                  <a:pt x="915" y="771"/>
                </a:lnTo>
                <a:lnTo>
                  <a:pt x="915" y="782"/>
                </a:lnTo>
                <a:lnTo>
                  <a:pt x="914" y="792"/>
                </a:lnTo>
                <a:lnTo>
                  <a:pt x="914" y="802"/>
                </a:lnTo>
                <a:lnTo>
                  <a:pt x="912" y="812"/>
                </a:lnTo>
                <a:lnTo>
                  <a:pt x="911" y="820"/>
                </a:lnTo>
                <a:lnTo>
                  <a:pt x="911" y="829"/>
                </a:lnTo>
                <a:lnTo>
                  <a:pt x="909" y="836"/>
                </a:lnTo>
                <a:lnTo>
                  <a:pt x="908" y="845"/>
                </a:lnTo>
                <a:lnTo>
                  <a:pt x="907" y="852"/>
                </a:lnTo>
                <a:lnTo>
                  <a:pt x="905" y="859"/>
                </a:lnTo>
                <a:lnTo>
                  <a:pt x="904" y="865"/>
                </a:lnTo>
                <a:lnTo>
                  <a:pt x="901" y="871"/>
                </a:lnTo>
                <a:lnTo>
                  <a:pt x="899" y="877"/>
                </a:lnTo>
                <a:lnTo>
                  <a:pt x="898" y="882"/>
                </a:lnTo>
                <a:lnTo>
                  <a:pt x="895" y="887"/>
                </a:lnTo>
                <a:lnTo>
                  <a:pt x="894" y="891"/>
                </a:lnTo>
                <a:lnTo>
                  <a:pt x="891" y="895"/>
                </a:lnTo>
                <a:lnTo>
                  <a:pt x="889" y="900"/>
                </a:lnTo>
                <a:lnTo>
                  <a:pt x="886" y="902"/>
                </a:lnTo>
                <a:lnTo>
                  <a:pt x="883" y="905"/>
                </a:lnTo>
                <a:lnTo>
                  <a:pt x="881" y="908"/>
                </a:lnTo>
                <a:lnTo>
                  <a:pt x="878" y="911"/>
                </a:lnTo>
                <a:lnTo>
                  <a:pt x="872" y="914"/>
                </a:lnTo>
                <a:lnTo>
                  <a:pt x="865" y="917"/>
                </a:lnTo>
                <a:lnTo>
                  <a:pt x="859" y="917"/>
                </a:lnTo>
                <a:lnTo>
                  <a:pt x="853" y="917"/>
                </a:lnTo>
                <a:lnTo>
                  <a:pt x="846" y="915"/>
                </a:lnTo>
                <a:lnTo>
                  <a:pt x="840" y="914"/>
                </a:lnTo>
                <a:lnTo>
                  <a:pt x="832" y="911"/>
                </a:lnTo>
                <a:lnTo>
                  <a:pt x="824" y="907"/>
                </a:lnTo>
                <a:lnTo>
                  <a:pt x="816" y="902"/>
                </a:lnTo>
                <a:lnTo>
                  <a:pt x="807" y="897"/>
                </a:lnTo>
                <a:lnTo>
                  <a:pt x="797" y="891"/>
                </a:lnTo>
                <a:lnTo>
                  <a:pt x="787" y="884"/>
                </a:lnTo>
                <a:lnTo>
                  <a:pt x="777" y="877"/>
                </a:lnTo>
                <a:lnTo>
                  <a:pt x="765" y="868"/>
                </a:lnTo>
                <a:lnTo>
                  <a:pt x="752" y="858"/>
                </a:lnTo>
                <a:lnTo>
                  <a:pt x="741" y="848"/>
                </a:lnTo>
                <a:lnTo>
                  <a:pt x="728" y="836"/>
                </a:lnTo>
                <a:lnTo>
                  <a:pt x="714" y="825"/>
                </a:lnTo>
                <a:lnTo>
                  <a:pt x="699" y="812"/>
                </a:lnTo>
                <a:lnTo>
                  <a:pt x="685" y="797"/>
                </a:lnTo>
                <a:lnTo>
                  <a:pt x="670" y="783"/>
                </a:lnTo>
                <a:lnTo>
                  <a:pt x="655" y="767"/>
                </a:lnTo>
                <a:lnTo>
                  <a:pt x="637" y="750"/>
                </a:lnTo>
                <a:lnTo>
                  <a:pt x="621" y="733"/>
                </a:lnTo>
                <a:lnTo>
                  <a:pt x="604" y="714"/>
                </a:lnTo>
                <a:lnTo>
                  <a:pt x="585" y="694"/>
                </a:lnTo>
                <a:lnTo>
                  <a:pt x="567" y="674"/>
                </a:lnTo>
                <a:lnTo>
                  <a:pt x="548" y="652"/>
                </a:lnTo>
                <a:lnTo>
                  <a:pt x="529" y="629"/>
                </a:lnTo>
                <a:lnTo>
                  <a:pt x="509" y="606"/>
                </a:lnTo>
                <a:lnTo>
                  <a:pt x="488" y="581"/>
                </a:lnTo>
                <a:lnTo>
                  <a:pt x="467" y="556"/>
                </a:lnTo>
                <a:lnTo>
                  <a:pt x="446" y="528"/>
                </a:lnTo>
                <a:lnTo>
                  <a:pt x="423" y="501"/>
                </a:lnTo>
                <a:lnTo>
                  <a:pt x="401" y="472"/>
                </a:lnTo>
                <a:lnTo>
                  <a:pt x="377" y="445"/>
                </a:lnTo>
                <a:lnTo>
                  <a:pt x="352" y="419"/>
                </a:lnTo>
                <a:lnTo>
                  <a:pt x="329" y="393"/>
                </a:lnTo>
                <a:lnTo>
                  <a:pt x="308" y="368"/>
                </a:lnTo>
                <a:lnTo>
                  <a:pt x="286" y="345"/>
                </a:lnTo>
                <a:lnTo>
                  <a:pt x="264" y="322"/>
                </a:lnTo>
                <a:lnTo>
                  <a:pt x="246" y="299"/>
                </a:lnTo>
                <a:lnTo>
                  <a:pt x="226" y="279"/>
                </a:lnTo>
                <a:lnTo>
                  <a:pt x="208" y="258"/>
                </a:lnTo>
                <a:lnTo>
                  <a:pt x="190" y="239"/>
                </a:lnTo>
                <a:lnTo>
                  <a:pt x="174" y="220"/>
                </a:lnTo>
                <a:lnTo>
                  <a:pt x="158" y="201"/>
                </a:lnTo>
                <a:lnTo>
                  <a:pt x="142" y="184"/>
                </a:lnTo>
                <a:lnTo>
                  <a:pt x="128" y="168"/>
                </a:lnTo>
                <a:lnTo>
                  <a:pt x="113" y="152"/>
                </a:lnTo>
                <a:lnTo>
                  <a:pt x="100" y="138"/>
                </a:lnTo>
                <a:lnTo>
                  <a:pt x="89" y="124"/>
                </a:lnTo>
                <a:lnTo>
                  <a:pt x="77" y="111"/>
                </a:lnTo>
                <a:lnTo>
                  <a:pt x="66" y="98"/>
                </a:lnTo>
                <a:lnTo>
                  <a:pt x="57" y="86"/>
                </a:lnTo>
                <a:lnTo>
                  <a:pt x="47" y="75"/>
                </a:lnTo>
                <a:lnTo>
                  <a:pt x="40" y="65"/>
                </a:lnTo>
                <a:lnTo>
                  <a:pt x="31" y="56"/>
                </a:lnTo>
                <a:lnTo>
                  <a:pt x="25" y="47"/>
                </a:lnTo>
                <a:lnTo>
                  <a:pt x="20" y="40"/>
                </a:lnTo>
                <a:lnTo>
                  <a:pt x="14" y="33"/>
                </a:lnTo>
                <a:lnTo>
                  <a:pt x="10" y="27"/>
                </a:lnTo>
                <a:lnTo>
                  <a:pt x="5" y="21"/>
                </a:lnTo>
                <a:lnTo>
                  <a:pt x="4" y="17"/>
                </a:lnTo>
                <a:lnTo>
                  <a:pt x="1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2" y="3"/>
                </a:lnTo>
                <a:lnTo>
                  <a:pt x="5" y="1"/>
                </a:lnTo>
                <a:lnTo>
                  <a:pt x="8" y="0"/>
                </a:ln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21" y="0"/>
                </a:lnTo>
                <a:lnTo>
                  <a:pt x="24" y="0"/>
                </a:lnTo>
                <a:lnTo>
                  <a:pt x="30" y="1"/>
                </a:lnTo>
                <a:lnTo>
                  <a:pt x="34" y="1"/>
                </a:lnTo>
                <a:lnTo>
                  <a:pt x="40" y="3"/>
                </a:lnTo>
                <a:lnTo>
                  <a:pt x="44" y="3"/>
                </a:lnTo>
                <a:lnTo>
                  <a:pt x="51" y="4"/>
                </a:lnTo>
                <a:lnTo>
                  <a:pt x="57" y="6"/>
                </a:lnTo>
                <a:lnTo>
                  <a:pt x="64" y="6"/>
                </a:lnTo>
                <a:lnTo>
                  <a:pt x="72" y="7"/>
                </a:lnTo>
                <a:lnTo>
                  <a:pt x="79" y="8"/>
                </a:lnTo>
                <a:lnTo>
                  <a:pt x="87" y="10"/>
                </a:lnTo>
                <a:lnTo>
                  <a:pt x="95" y="11"/>
                </a:lnTo>
                <a:lnTo>
                  <a:pt x="105" y="13"/>
                </a:lnTo>
                <a:lnTo>
                  <a:pt x="113" y="14"/>
                </a:lnTo>
                <a:lnTo>
                  <a:pt x="123" y="17"/>
                </a:lnTo>
                <a:lnTo>
                  <a:pt x="133" y="19"/>
                </a:lnTo>
                <a:lnTo>
                  <a:pt x="144" y="20"/>
                </a:lnTo>
                <a:lnTo>
                  <a:pt x="155" y="21"/>
                </a:lnTo>
                <a:lnTo>
                  <a:pt x="167" y="23"/>
                </a:lnTo>
                <a:lnTo>
                  <a:pt x="178" y="26"/>
                </a:lnTo>
                <a:lnTo>
                  <a:pt x="191" y="27"/>
                </a:lnTo>
                <a:lnTo>
                  <a:pt x="216" y="36"/>
                </a:lnTo>
                <a:lnTo>
                  <a:pt x="241" y="44"/>
                </a:lnTo>
                <a:lnTo>
                  <a:pt x="267" y="55"/>
                </a:lnTo>
                <a:lnTo>
                  <a:pt x="295" y="67"/>
                </a:lnTo>
                <a:lnTo>
                  <a:pt x="321" y="80"/>
                </a:lnTo>
                <a:lnTo>
                  <a:pt x="349" y="95"/>
                </a:lnTo>
                <a:lnTo>
                  <a:pt x="377" y="109"/>
                </a:lnTo>
                <a:lnTo>
                  <a:pt x="406" y="127"/>
                </a:lnTo>
                <a:lnTo>
                  <a:pt x="434" y="144"/>
                </a:lnTo>
                <a:lnTo>
                  <a:pt x="463" y="163"/>
                </a:lnTo>
                <a:lnTo>
                  <a:pt x="493" y="183"/>
                </a:lnTo>
                <a:lnTo>
                  <a:pt x="524" y="203"/>
                </a:lnTo>
                <a:lnTo>
                  <a:pt x="554" y="226"/>
                </a:lnTo>
                <a:lnTo>
                  <a:pt x="585" y="249"/>
                </a:lnTo>
                <a:lnTo>
                  <a:pt x="616" y="273"/>
                </a:lnTo>
                <a:lnTo>
                  <a:pt x="649" y="2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6902280" y="3500280"/>
            <a:ext cx="817560" cy="1013040"/>
          </a:xfrm>
          <a:custGeom>
            <a:avLst/>
            <a:gdLst/>
            <a:ahLst/>
            <a:rect l="l" t="t" r="r" b="b"/>
            <a:pathLst>
              <a:path w="1546" h="1916">
                <a:moveTo>
                  <a:pt x="0" y="213"/>
                </a:moveTo>
                <a:lnTo>
                  <a:pt x="31" y="213"/>
                </a:lnTo>
                <a:lnTo>
                  <a:pt x="64" y="212"/>
                </a:lnTo>
                <a:lnTo>
                  <a:pt x="98" y="212"/>
                </a:lnTo>
                <a:lnTo>
                  <a:pt x="132" y="209"/>
                </a:lnTo>
                <a:lnTo>
                  <a:pt x="167" y="207"/>
                </a:lnTo>
                <a:lnTo>
                  <a:pt x="201" y="205"/>
                </a:lnTo>
                <a:lnTo>
                  <a:pt x="237" y="200"/>
                </a:lnTo>
                <a:lnTo>
                  <a:pt x="273" y="197"/>
                </a:lnTo>
                <a:lnTo>
                  <a:pt x="311" y="192"/>
                </a:lnTo>
                <a:lnTo>
                  <a:pt x="348" y="186"/>
                </a:lnTo>
                <a:lnTo>
                  <a:pt x="387" y="180"/>
                </a:lnTo>
                <a:lnTo>
                  <a:pt x="426" y="173"/>
                </a:lnTo>
                <a:lnTo>
                  <a:pt x="466" y="164"/>
                </a:lnTo>
                <a:lnTo>
                  <a:pt x="506" y="156"/>
                </a:lnTo>
                <a:lnTo>
                  <a:pt x="548" y="146"/>
                </a:lnTo>
                <a:lnTo>
                  <a:pt x="591" y="135"/>
                </a:lnTo>
                <a:lnTo>
                  <a:pt x="611" y="131"/>
                </a:lnTo>
                <a:lnTo>
                  <a:pt x="633" y="128"/>
                </a:lnTo>
                <a:lnTo>
                  <a:pt x="652" y="124"/>
                </a:lnTo>
                <a:lnTo>
                  <a:pt x="672" y="121"/>
                </a:lnTo>
                <a:lnTo>
                  <a:pt x="691" y="117"/>
                </a:lnTo>
                <a:lnTo>
                  <a:pt x="709" y="114"/>
                </a:lnTo>
                <a:lnTo>
                  <a:pt x="727" y="111"/>
                </a:lnTo>
                <a:lnTo>
                  <a:pt x="744" y="107"/>
                </a:lnTo>
                <a:lnTo>
                  <a:pt x="761" y="104"/>
                </a:lnTo>
                <a:lnTo>
                  <a:pt x="777" y="99"/>
                </a:lnTo>
                <a:lnTo>
                  <a:pt x="793" y="97"/>
                </a:lnTo>
                <a:lnTo>
                  <a:pt x="807" y="94"/>
                </a:lnTo>
                <a:lnTo>
                  <a:pt x="822" y="89"/>
                </a:lnTo>
                <a:lnTo>
                  <a:pt x="835" y="87"/>
                </a:lnTo>
                <a:lnTo>
                  <a:pt x="848" y="84"/>
                </a:lnTo>
                <a:lnTo>
                  <a:pt x="860" y="79"/>
                </a:lnTo>
                <a:lnTo>
                  <a:pt x="872" y="76"/>
                </a:lnTo>
                <a:lnTo>
                  <a:pt x="884" y="74"/>
                </a:lnTo>
                <a:lnTo>
                  <a:pt x="894" y="71"/>
                </a:lnTo>
                <a:lnTo>
                  <a:pt x="904" y="68"/>
                </a:lnTo>
                <a:lnTo>
                  <a:pt x="912" y="65"/>
                </a:lnTo>
                <a:lnTo>
                  <a:pt x="921" y="62"/>
                </a:lnTo>
                <a:lnTo>
                  <a:pt x="930" y="59"/>
                </a:lnTo>
                <a:lnTo>
                  <a:pt x="937" y="56"/>
                </a:lnTo>
                <a:lnTo>
                  <a:pt x="944" y="55"/>
                </a:lnTo>
                <a:lnTo>
                  <a:pt x="950" y="52"/>
                </a:lnTo>
                <a:lnTo>
                  <a:pt x="955" y="49"/>
                </a:lnTo>
                <a:lnTo>
                  <a:pt x="960" y="48"/>
                </a:lnTo>
                <a:lnTo>
                  <a:pt x="964" y="45"/>
                </a:lnTo>
                <a:lnTo>
                  <a:pt x="967" y="43"/>
                </a:lnTo>
                <a:lnTo>
                  <a:pt x="970" y="40"/>
                </a:lnTo>
                <a:lnTo>
                  <a:pt x="973" y="39"/>
                </a:lnTo>
                <a:lnTo>
                  <a:pt x="976" y="35"/>
                </a:lnTo>
                <a:lnTo>
                  <a:pt x="980" y="32"/>
                </a:lnTo>
                <a:lnTo>
                  <a:pt x="984" y="29"/>
                </a:lnTo>
                <a:lnTo>
                  <a:pt x="990" y="25"/>
                </a:lnTo>
                <a:lnTo>
                  <a:pt x="1002" y="19"/>
                </a:lnTo>
                <a:lnTo>
                  <a:pt x="1013" y="12"/>
                </a:lnTo>
                <a:lnTo>
                  <a:pt x="1026" y="7"/>
                </a:lnTo>
                <a:lnTo>
                  <a:pt x="1039" y="3"/>
                </a:lnTo>
                <a:lnTo>
                  <a:pt x="1046" y="2"/>
                </a:lnTo>
                <a:lnTo>
                  <a:pt x="1053" y="2"/>
                </a:lnTo>
                <a:lnTo>
                  <a:pt x="1061" y="0"/>
                </a:lnTo>
                <a:lnTo>
                  <a:pt x="1068" y="0"/>
                </a:lnTo>
                <a:lnTo>
                  <a:pt x="1075" y="0"/>
                </a:lnTo>
                <a:lnTo>
                  <a:pt x="1085" y="2"/>
                </a:lnTo>
                <a:lnTo>
                  <a:pt x="1095" y="4"/>
                </a:lnTo>
                <a:lnTo>
                  <a:pt x="1107" y="7"/>
                </a:lnTo>
                <a:lnTo>
                  <a:pt x="1120" y="10"/>
                </a:lnTo>
                <a:lnTo>
                  <a:pt x="1134" y="16"/>
                </a:lnTo>
                <a:lnTo>
                  <a:pt x="1150" y="20"/>
                </a:lnTo>
                <a:lnTo>
                  <a:pt x="1166" y="26"/>
                </a:lnTo>
                <a:lnTo>
                  <a:pt x="1183" y="33"/>
                </a:lnTo>
                <a:lnTo>
                  <a:pt x="1202" y="40"/>
                </a:lnTo>
                <a:lnTo>
                  <a:pt x="1222" y="49"/>
                </a:lnTo>
                <a:lnTo>
                  <a:pt x="1242" y="58"/>
                </a:lnTo>
                <a:lnTo>
                  <a:pt x="1264" y="66"/>
                </a:lnTo>
                <a:lnTo>
                  <a:pt x="1287" y="76"/>
                </a:lnTo>
                <a:lnTo>
                  <a:pt x="1310" y="87"/>
                </a:lnTo>
                <a:lnTo>
                  <a:pt x="1336" y="98"/>
                </a:lnTo>
                <a:lnTo>
                  <a:pt x="1347" y="105"/>
                </a:lnTo>
                <a:lnTo>
                  <a:pt x="1359" y="112"/>
                </a:lnTo>
                <a:lnTo>
                  <a:pt x="1370" y="118"/>
                </a:lnTo>
                <a:lnTo>
                  <a:pt x="1382" y="125"/>
                </a:lnTo>
                <a:lnTo>
                  <a:pt x="1392" y="133"/>
                </a:lnTo>
                <a:lnTo>
                  <a:pt x="1402" y="140"/>
                </a:lnTo>
                <a:lnTo>
                  <a:pt x="1412" y="146"/>
                </a:lnTo>
                <a:lnTo>
                  <a:pt x="1422" y="151"/>
                </a:lnTo>
                <a:lnTo>
                  <a:pt x="1431" y="159"/>
                </a:lnTo>
                <a:lnTo>
                  <a:pt x="1439" y="164"/>
                </a:lnTo>
                <a:lnTo>
                  <a:pt x="1446" y="170"/>
                </a:lnTo>
                <a:lnTo>
                  <a:pt x="1455" y="176"/>
                </a:lnTo>
                <a:lnTo>
                  <a:pt x="1462" y="182"/>
                </a:lnTo>
                <a:lnTo>
                  <a:pt x="1469" y="187"/>
                </a:lnTo>
                <a:lnTo>
                  <a:pt x="1482" y="197"/>
                </a:lnTo>
                <a:lnTo>
                  <a:pt x="1495" y="206"/>
                </a:lnTo>
                <a:lnTo>
                  <a:pt x="1505" y="215"/>
                </a:lnTo>
                <a:lnTo>
                  <a:pt x="1515" y="223"/>
                </a:lnTo>
                <a:lnTo>
                  <a:pt x="1523" y="230"/>
                </a:lnTo>
                <a:lnTo>
                  <a:pt x="1530" y="238"/>
                </a:lnTo>
                <a:lnTo>
                  <a:pt x="1536" y="243"/>
                </a:lnTo>
                <a:lnTo>
                  <a:pt x="1541" y="248"/>
                </a:lnTo>
                <a:lnTo>
                  <a:pt x="1546" y="252"/>
                </a:lnTo>
                <a:lnTo>
                  <a:pt x="1544" y="259"/>
                </a:lnTo>
                <a:lnTo>
                  <a:pt x="1544" y="266"/>
                </a:lnTo>
                <a:lnTo>
                  <a:pt x="1543" y="274"/>
                </a:lnTo>
                <a:lnTo>
                  <a:pt x="1541" y="281"/>
                </a:lnTo>
                <a:lnTo>
                  <a:pt x="1540" y="288"/>
                </a:lnTo>
                <a:lnTo>
                  <a:pt x="1537" y="294"/>
                </a:lnTo>
                <a:lnTo>
                  <a:pt x="1534" y="301"/>
                </a:lnTo>
                <a:lnTo>
                  <a:pt x="1530" y="307"/>
                </a:lnTo>
                <a:lnTo>
                  <a:pt x="1527" y="314"/>
                </a:lnTo>
                <a:lnTo>
                  <a:pt x="1523" y="320"/>
                </a:lnTo>
                <a:lnTo>
                  <a:pt x="1518" y="326"/>
                </a:lnTo>
                <a:lnTo>
                  <a:pt x="1513" y="331"/>
                </a:lnTo>
                <a:lnTo>
                  <a:pt x="1507" y="336"/>
                </a:lnTo>
                <a:lnTo>
                  <a:pt x="1501" y="340"/>
                </a:lnTo>
                <a:lnTo>
                  <a:pt x="1494" y="344"/>
                </a:lnTo>
                <a:lnTo>
                  <a:pt x="1488" y="349"/>
                </a:lnTo>
                <a:lnTo>
                  <a:pt x="1482" y="353"/>
                </a:lnTo>
                <a:lnTo>
                  <a:pt x="1477" y="359"/>
                </a:lnTo>
                <a:lnTo>
                  <a:pt x="1472" y="364"/>
                </a:lnTo>
                <a:lnTo>
                  <a:pt x="1468" y="373"/>
                </a:lnTo>
                <a:lnTo>
                  <a:pt x="1464" y="382"/>
                </a:lnTo>
                <a:lnTo>
                  <a:pt x="1459" y="392"/>
                </a:lnTo>
                <a:lnTo>
                  <a:pt x="1455" y="402"/>
                </a:lnTo>
                <a:lnTo>
                  <a:pt x="1452" y="415"/>
                </a:lnTo>
                <a:lnTo>
                  <a:pt x="1448" y="428"/>
                </a:lnTo>
                <a:lnTo>
                  <a:pt x="1445" y="442"/>
                </a:lnTo>
                <a:lnTo>
                  <a:pt x="1442" y="458"/>
                </a:lnTo>
                <a:lnTo>
                  <a:pt x="1439" y="474"/>
                </a:lnTo>
                <a:lnTo>
                  <a:pt x="1436" y="493"/>
                </a:lnTo>
                <a:lnTo>
                  <a:pt x="1435" y="511"/>
                </a:lnTo>
                <a:lnTo>
                  <a:pt x="1432" y="531"/>
                </a:lnTo>
                <a:lnTo>
                  <a:pt x="1431" y="552"/>
                </a:lnTo>
                <a:lnTo>
                  <a:pt x="1429" y="575"/>
                </a:lnTo>
                <a:lnTo>
                  <a:pt x="1428" y="598"/>
                </a:lnTo>
                <a:lnTo>
                  <a:pt x="1426" y="622"/>
                </a:lnTo>
                <a:lnTo>
                  <a:pt x="1425" y="648"/>
                </a:lnTo>
                <a:lnTo>
                  <a:pt x="1425" y="675"/>
                </a:lnTo>
                <a:lnTo>
                  <a:pt x="1423" y="703"/>
                </a:lnTo>
                <a:lnTo>
                  <a:pt x="1423" y="731"/>
                </a:lnTo>
                <a:lnTo>
                  <a:pt x="1423" y="762"/>
                </a:lnTo>
                <a:lnTo>
                  <a:pt x="1423" y="793"/>
                </a:lnTo>
                <a:lnTo>
                  <a:pt x="1423" y="826"/>
                </a:lnTo>
                <a:lnTo>
                  <a:pt x="1425" y="860"/>
                </a:lnTo>
                <a:lnTo>
                  <a:pt x="1425" y="894"/>
                </a:lnTo>
                <a:lnTo>
                  <a:pt x="1426" y="930"/>
                </a:lnTo>
                <a:lnTo>
                  <a:pt x="1428" y="968"/>
                </a:lnTo>
                <a:lnTo>
                  <a:pt x="1429" y="1006"/>
                </a:lnTo>
                <a:lnTo>
                  <a:pt x="1431" y="1045"/>
                </a:lnTo>
                <a:lnTo>
                  <a:pt x="1431" y="1087"/>
                </a:lnTo>
                <a:lnTo>
                  <a:pt x="1431" y="1126"/>
                </a:lnTo>
                <a:lnTo>
                  <a:pt x="1431" y="1165"/>
                </a:lnTo>
                <a:lnTo>
                  <a:pt x="1429" y="1204"/>
                </a:lnTo>
                <a:lnTo>
                  <a:pt x="1429" y="1240"/>
                </a:lnTo>
                <a:lnTo>
                  <a:pt x="1429" y="1276"/>
                </a:lnTo>
                <a:lnTo>
                  <a:pt x="1428" y="1309"/>
                </a:lnTo>
                <a:lnTo>
                  <a:pt x="1426" y="1343"/>
                </a:lnTo>
                <a:lnTo>
                  <a:pt x="1426" y="1375"/>
                </a:lnTo>
                <a:lnTo>
                  <a:pt x="1425" y="1405"/>
                </a:lnTo>
                <a:lnTo>
                  <a:pt x="1423" y="1435"/>
                </a:lnTo>
                <a:lnTo>
                  <a:pt x="1422" y="1464"/>
                </a:lnTo>
                <a:lnTo>
                  <a:pt x="1420" y="1492"/>
                </a:lnTo>
                <a:lnTo>
                  <a:pt x="1419" y="1518"/>
                </a:lnTo>
                <a:lnTo>
                  <a:pt x="1418" y="1543"/>
                </a:lnTo>
                <a:lnTo>
                  <a:pt x="1416" y="1568"/>
                </a:lnTo>
                <a:lnTo>
                  <a:pt x="1415" y="1591"/>
                </a:lnTo>
                <a:lnTo>
                  <a:pt x="1412" y="1613"/>
                </a:lnTo>
                <a:lnTo>
                  <a:pt x="1410" y="1633"/>
                </a:lnTo>
                <a:lnTo>
                  <a:pt x="1408" y="1653"/>
                </a:lnTo>
                <a:lnTo>
                  <a:pt x="1406" y="1672"/>
                </a:lnTo>
                <a:lnTo>
                  <a:pt x="1403" y="1689"/>
                </a:lnTo>
                <a:lnTo>
                  <a:pt x="1400" y="1705"/>
                </a:lnTo>
                <a:lnTo>
                  <a:pt x="1397" y="1720"/>
                </a:lnTo>
                <a:lnTo>
                  <a:pt x="1396" y="1733"/>
                </a:lnTo>
                <a:lnTo>
                  <a:pt x="1393" y="1746"/>
                </a:lnTo>
                <a:lnTo>
                  <a:pt x="1389" y="1758"/>
                </a:lnTo>
                <a:lnTo>
                  <a:pt x="1386" y="1769"/>
                </a:lnTo>
                <a:lnTo>
                  <a:pt x="1383" y="1778"/>
                </a:lnTo>
                <a:lnTo>
                  <a:pt x="1380" y="1787"/>
                </a:lnTo>
                <a:lnTo>
                  <a:pt x="1376" y="1794"/>
                </a:lnTo>
                <a:lnTo>
                  <a:pt x="1373" y="1800"/>
                </a:lnTo>
                <a:lnTo>
                  <a:pt x="1366" y="1814"/>
                </a:lnTo>
                <a:lnTo>
                  <a:pt x="1359" y="1827"/>
                </a:lnTo>
                <a:lnTo>
                  <a:pt x="1351" y="1840"/>
                </a:lnTo>
                <a:lnTo>
                  <a:pt x="1346" y="1850"/>
                </a:lnTo>
                <a:lnTo>
                  <a:pt x="1338" y="1862"/>
                </a:lnTo>
                <a:lnTo>
                  <a:pt x="1331" y="1870"/>
                </a:lnTo>
                <a:lnTo>
                  <a:pt x="1325" y="1879"/>
                </a:lnTo>
                <a:lnTo>
                  <a:pt x="1318" y="1887"/>
                </a:lnTo>
                <a:lnTo>
                  <a:pt x="1312" y="1893"/>
                </a:lnTo>
                <a:lnTo>
                  <a:pt x="1307" y="1899"/>
                </a:lnTo>
                <a:lnTo>
                  <a:pt x="1301" y="1905"/>
                </a:lnTo>
                <a:lnTo>
                  <a:pt x="1295" y="1909"/>
                </a:lnTo>
                <a:lnTo>
                  <a:pt x="1291" y="1912"/>
                </a:lnTo>
                <a:lnTo>
                  <a:pt x="1287" y="1913"/>
                </a:lnTo>
                <a:lnTo>
                  <a:pt x="1282" y="1915"/>
                </a:lnTo>
                <a:lnTo>
                  <a:pt x="1278" y="1916"/>
                </a:lnTo>
                <a:lnTo>
                  <a:pt x="1271" y="1915"/>
                </a:lnTo>
                <a:lnTo>
                  <a:pt x="1265" y="1915"/>
                </a:lnTo>
                <a:lnTo>
                  <a:pt x="1258" y="1913"/>
                </a:lnTo>
                <a:lnTo>
                  <a:pt x="1252" y="1912"/>
                </a:lnTo>
                <a:lnTo>
                  <a:pt x="1248" y="1909"/>
                </a:lnTo>
                <a:lnTo>
                  <a:pt x="1242" y="1906"/>
                </a:lnTo>
                <a:lnTo>
                  <a:pt x="1238" y="1903"/>
                </a:lnTo>
                <a:lnTo>
                  <a:pt x="1232" y="1899"/>
                </a:lnTo>
                <a:lnTo>
                  <a:pt x="1228" y="1895"/>
                </a:lnTo>
                <a:lnTo>
                  <a:pt x="1225" y="1889"/>
                </a:lnTo>
                <a:lnTo>
                  <a:pt x="1220" y="1882"/>
                </a:lnTo>
                <a:lnTo>
                  <a:pt x="1216" y="1875"/>
                </a:lnTo>
                <a:lnTo>
                  <a:pt x="1212" y="1867"/>
                </a:lnTo>
                <a:lnTo>
                  <a:pt x="1209" y="1859"/>
                </a:lnTo>
                <a:lnTo>
                  <a:pt x="1205" y="1849"/>
                </a:lnTo>
                <a:lnTo>
                  <a:pt x="1202" y="1839"/>
                </a:lnTo>
                <a:lnTo>
                  <a:pt x="1200" y="1833"/>
                </a:lnTo>
                <a:lnTo>
                  <a:pt x="1199" y="1826"/>
                </a:lnTo>
                <a:lnTo>
                  <a:pt x="1196" y="1817"/>
                </a:lnTo>
                <a:lnTo>
                  <a:pt x="1194" y="1807"/>
                </a:lnTo>
                <a:lnTo>
                  <a:pt x="1193" y="1797"/>
                </a:lnTo>
                <a:lnTo>
                  <a:pt x="1192" y="1785"/>
                </a:lnTo>
                <a:lnTo>
                  <a:pt x="1190" y="1772"/>
                </a:lnTo>
                <a:lnTo>
                  <a:pt x="1187" y="1758"/>
                </a:lnTo>
                <a:lnTo>
                  <a:pt x="1186" y="1742"/>
                </a:lnTo>
                <a:lnTo>
                  <a:pt x="1184" y="1726"/>
                </a:lnTo>
                <a:lnTo>
                  <a:pt x="1183" y="1709"/>
                </a:lnTo>
                <a:lnTo>
                  <a:pt x="1181" y="1689"/>
                </a:lnTo>
                <a:lnTo>
                  <a:pt x="1180" y="1669"/>
                </a:lnTo>
                <a:lnTo>
                  <a:pt x="1179" y="1649"/>
                </a:lnTo>
                <a:lnTo>
                  <a:pt x="1177" y="1625"/>
                </a:lnTo>
                <a:lnTo>
                  <a:pt x="1176" y="1601"/>
                </a:lnTo>
                <a:lnTo>
                  <a:pt x="1174" y="1577"/>
                </a:lnTo>
                <a:lnTo>
                  <a:pt x="1173" y="1551"/>
                </a:lnTo>
                <a:lnTo>
                  <a:pt x="1171" y="1522"/>
                </a:lnTo>
                <a:lnTo>
                  <a:pt x="1170" y="1493"/>
                </a:lnTo>
                <a:lnTo>
                  <a:pt x="1170" y="1463"/>
                </a:lnTo>
                <a:lnTo>
                  <a:pt x="1169" y="1433"/>
                </a:lnTo>
                <a:lnTo>
                  <a:pt x="1167" y="1399"/>
                </a:lnTo>
                <a:lnTo>
                  <a:pt x="1167" y="1365"/>
                </a:lnTo>
                <a:lnTo>
                  <a:pt x="1166" y="1330"/>
                </a:lnTo>
                <a:lnTo>
                  <a:pt x="1166" y="1293"/>
                </a:lnTo>
                <a:lnTo>
                  <a:pt x="1164" y="1255"/>
                </a:lnTo>
                <a:lnTo>
                  <a:pt x="1164" y="1217"/>
                </a:lnTo>
                <a:lnTo>
                  <a:pt x="1164" y="1175"/>
                </a:lnTo>
                <a:lnTo>
                  <a:pt x="1164" y="1133"/>
                </a:lnTo>
                <a:lnTo>
                  <a:pt x="1164" y="1090"/>
                </a:lnTo>
                <a:lnTo>
                  <a:pt x="1164" y="1045"/>
                </a:lnTo>
                <a:lnTo>
                  <a:pt x="1163" y="1002"/>
                </a:lnTo>
                <a:lnTo>
                  <a:pt x="1163" y="960"/>
                </a:lnTo>
                <a:lnTo>
                  <a:pt x="1163" y="920"/>
                </a:lnTo>
                <a:lnTo>
                  <a:pt x="1163" y="881"/>
                </a:lnTo>
                <a:lnTo>
                  <a:pt x="1163" y="844"/>
                </a:lnTo>
                <a:lnTo>
                  <a:pt x="1161" y="806"/>
                </a:lnTo>
                <a:lnTo>
                  <a:pt x="1161" y="772"/>
                </a:lnTo>
                <a:lnTo>
                  <a:pt x="1160" y="737"/>
                </a:lnTo>
                <a:lnTo>
                  <a:pt x="1160" y="704"/>
                </a:lnTo>
                <a:lnTo>
                  <a:pt x="1158" y="672"/>
                </a:lnTo>
                <a:lnTo>
                  <a:pt x="1157" y="642"/>
                </a:lnTo>
                <a:lnTo>
                  <a:pt x="1157" y="612"/>
                </a:lnTo>
                <a:lnTo>
                  <a:pt x="1156" y="585"/>
                </a:lnTo>
                <a:lnTo>
                  <a:pt x="1154" y="557"/>
                </a:lnTo>
                <a:lnTo>
                  <a:pt x="1153" y="533"/>
                </a:lnTo>
                <a:lnTo>
                  <a:pt x="1151" y="508"/>
                </a:lnTo>
                <a:lnTo>
                  <a:pt x="1150" y="485"/>
                </a:lnTo>
                <a:lnTo>
                  <a:pt x="1148" y="464"/>
                </a:lnTo>
                <a:lnTo>
                  <a:pt x="1147" y="444"/>
                </a:lnTo>
                <a:lnTo>
                  <a:pt x="1146" y="423"/>
                </a:lnTo>
                <a:lnTo>
                  <a:pt x="1144" y="406"/>
                </a:lnTo>
                <a:lnTo>
                  <a:pt x="1143" y="389"/>
                </a:lnTo>
                <a:lnTo>
                  <a:pt x="1141" y="373"/>
                </a:lnTo>
                <a:lnTo>
                  <a:pt x="1140" y="360"/>
                </a:lnTo>
                <a:lnTo>
                  <a:pt x="1137" y="346"/>
                </a:lnTo>
                <a:lnTo>
                  <a:pt x="1135" y="334"/>
                </a:lnTo>
                <a:lnTo>
                  <a:pt x="1134" y="324"/>
                </a:lnTo>
                <a:lnTo>
                  <a:pt x="1133" y="315"/>
                </a:lnTo>
                <a:lnTo>
                  <a:pt x="1131" y="307"/>
                </a:lnTo>
                <a:lnTo>
                  <a:pt x="1128" y="300"/>
                </a:lnTo>
                <a:lnTo>
                  <a:pt x="1127" y="294"/>
                </a:lnTo>
                <a:lnTo>
                  <a:pt x="1125" y="291"/>
                </a:lnTo>
                <a:lnTo>
                  <a:pt x="1118" y="287"/>
                </a:lnTo>
                <a:lnTo>
                  <a:pt x="1110" y="284"/>
                </a:lnTo>
                <a:lnTo>
                  <a:pt x="1102" y="279"/>
                </a:lnTo>
                <a:lnTo>
                  <a:pt x="1094" y="277"/>
                </a:lnTo>
                <a:lnTo>
                  <a:pt x="1075" y="269"/>
                </a:lnTo>
                <a:lnTo>
                  <a:pt x="1056" y="264"/>
                </a:lnTo>
                <a:lnTo>
                  <a:pt x="1036" y="259"/>
                </a:lnTo>
                <a:lnTo>
                  <a:pt x="1015" y="255"/>
                </a:lnTo>
                <a:lnTo>
                  <a:pt x="1004" y="254"/>
                </a:lnTo>
                <a:lnTo>
                  <a:pt x="993" y="254"/>
                </a:lnTo>
                <a:lnTo>
                  <a:pt x="983" y="252"/>
                </a:lnTo>
                <a:lnTo>
                  <a:pt x="973" y="252"/>
                </a:lnTo>
                <a:lnTo>
                  <a:pt x="964" y="252"/>
                </a:lnTo>
                <a:lnTo>
                  <a:pt x="957" y="252"/>
                </a:lnTo>
                <a:lnTo>
                  <a:pt x="948" y="252"/>
                </a:lnTo>
                <a:lnTo>
                  <a:pt x="940" y="254"/>
                </a:lnTo>
                <a:lnTo>
                  <a:pt x="931" y="254"/>
                </a:lnTo>
                <a:lnTo>
                  <a:pt x="921" y="254"/>
                </a:lnTo>
                <a:lnTo>
                  <a:pt x="911" y="255"/>
                </a:lnTo>
                <a:lnTo>
                  <a:pt x="901" y="255"/>
                </a:lnTo>
                <a:lnTo>
                  <a:pt x="891" y="256"/>
                </a:lnTo>
                <a:lnTo>
                  <a:pt x="879" y="256"/>
                </a:lnTo>
                <a:lnTo>
                  <a:pt x="868" y="258"/>
                </a:lnTo>
                <a:lnTo>
                  <a:pt x="855" y="259"/>
                </a:lnTo>
                <a:lnTo>
                  <a:pt x="843" y="261"/>
                </a:lnTo>
                <a:lnTo>
                  <a:pt x="830" y="261"/>
                </a:lnTo>
                <a:lnTo>
                  <a:pt x="816" y="262"/>
                </a:lnTo>
                <a:lnTo>
                  <a:pt x="803" y="264"/>
                </a:lnTo>
                <a:lnTo>
                  <a:pt x="788" y="265"/>
                </a:lnTo>
                <a:lnTo>
                  <a:pt x="774" y="266"/>
                </a:lnTo>
                <a:lnTo>
                  <a:pt x="760" y="268"/>
                </a:lnTo>
                <a:lnTo>
                  <a:pt x="744" y="269"/>
                </a:lnTo>
                <a:lnTo>
                  <a:pt x="728" y="271"/>
                </a:lnTo>
                <a:lnTo>
                  <a:pt x="712" y="272"/>
                </a:lnTo>
                <a:lnTo>
                  <a:pt x="696" y="275"/>
                </a:lnTo>
                <a:lnTo>
                  <a:pt x="679" y="277"/>
                </a:lnTo>
                <a:lnTo>
                  <a:pt x="662" y="278"/>
                </a:lnTo>
                <a:lnTo>
                  <a:pt x="645" y="279"/>
                </a:lnTo>
                <a:lnTo>
                  <a:pt x="609" y="284"/>
                </a:lnTo>
                <a:lnTo>
                  <a:pt x="571" y="287"/>
                </a:lnTo>
                <a:lnTo>
                  <a:pt x="534" y="291"/>
                </a:lnTo>
                <a:lnTo>
                  <a:pt x="493" y="298"/>
                </a:lnTo>
                <a:lnTo>
                  <a:pt x="456" y="305"/>
                </a:lnTo>
                <a:lnTo>
                  <a:pt x="417" y="313"/>
                </a:lnTo>
                <a:lnTo>
                  <a:pt x="380" y="320"/>
                </a:lnTo>
                <a:lnTo>
                  <a:pt x="344" y="327"/>
                </a:lnTo>
                <a:lnTo>
                  <a:pt x="308" y="333"/>
                </a:lnTo>
                <a:lnTo>
                  <a:pt x="272" y="340"/>
                </a:lnTo>
                <a:lnTo>
                  <a:pt x="237" y="346"/>
                </a:lnTo>
                <a:lnTo>
                  <a:pt x="204" y="353"/>
                </a:lnTo>
                <a:lnTo>
                  <a:pt x="171" y="359"/>
                </a:lnTo>
                <a:lnTo>
                  <a:pt x="139" y="364"/>
                </a:lnTo>
                <a:lnTo>
                  <a:pt x="109" y="369"/>
                </a:lnTo>
                <a:lnTo>
                  <a:pt x="80" y="374"/>
                </a:lnTo>
                <a:lnTo>
                  <a:pt x="51" y="379"/>
                </a:lnTo>
                <a:lnTo>
                  <a:pt x="24" y="383"/>
                </a:lnTo>
                <a:lnTo>
                  <a:pt x="0" y="387"/>
                </a:lnTo>
                <a:lnTo>
                  <a:pt x="0" y="301"/>
                </a:lnTo>
                <a:lnTo>
                  <a:pt x="0" y="2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任意多边形 8"/>
          <p:cNvSpPr/>
          <p:nvPr/>
        </p:nvSpPr>
        <p:spPr>
          <a:xfrm>
            <a:off x="1706400" y="2921040"/>
            <a:ext cx="6337440" cy="158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36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蒸      唠     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3"/>
          <p:cNvSpPr/>
          <p:nvPr/>
        </p:nvSpPr>
        <p:spPr>
          <a:xfrm>
            <a:off x="1407240" y="262260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ē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6"/>
          <p:cNvSpPr/>
          <p:nvPr/>
        </p:nvSpPr>
        <p:spPr>
          <a:xfrm>
            <a:off x="4390560" y="2670120"/>
            <a:ext cx="9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á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12"/>
          <p:cNvSpPr/>
          <p:nvPr/>
        </p:nvSpPr>
        <p:spPr>
          <a:xfrm>
            <a:off x="6787440" y="268776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piǎ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347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0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66880" y="2365200"/>
            <a:ext cx="74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认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认的生字，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写的生字，理解“唠叨、恋恋不舍、鹤发童颜、馨香、焦渴”等词语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1644480" y="2833560"/>
            <a:ext cx="578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叨　       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澄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清碧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瞟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眼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    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2"/>
          <p:cNvSpPr/>
          <p:nvPr/>
        </p:nvSpPr>
        <p:spPr>
          <a:xfrm>
            <a:off x="1502280" y="360504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iǎ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4"/>
          <p:cNvSpPr/>
          <p:nvPr/>
        </p:nvSpPr>
        <p:spPr>
          <a:xfrm>
            <a:off x="4541760" y="23716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é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355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矩形 9"/>
          <p:cNvSpPr/>
          <p:nvPr/>
        </p:nvSpPr>
        <p:spPr>
          <a:xfrm>
            <a:off x="1586160" y="241920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á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10"/>
          <p:cNvSpPr/>
          <p:nvPr/>
        </p:nvSpPr>
        <p:spPr>
          <a:xfrm>
            <a:off x="4599720" y="358920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2044800" y="3267000"/>
            <a:ext cx="5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组合 4"/>
          <p:cNvGrpSpPr/>
          <p:nvPr/>
        </p:nvGrpSpPr>
        <p:grpSpPr>
          <a:xfrm>
            <a:off x="2633760" y="2697120"/>
            <a:ext cx="4103640" cy="1556280"/>
            <a:chOff x="2633760" y="2697120"/>
            <a:chExt cx="4103640" cy="1556280"/>
          </a:xfrm>
        </p:grpSpPr>
        <p:sp>
          <p:nvSpPr>
            <p:cNvPr id="362" name="左大括号 2"/>
            <p:cNvSpPr/>
            <p:nvPr/>
          </p:nvSpPr>
          <p:spPr>
            <a:xfrm>
              <a:off x="2633760" y="3079800"/>
              <a:ext cx="237600" cy="928800"/>
            </a:xfrm>
            <a:custGeom>
              <a:avLst/>
              <a:gdLst>
                <a:gd name="textAreaLeft" fmla="*/ 151920 w 237600"/>
                <a:gd name="textAreaRight" fmla="*/ 237960 w 23760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TextBox 3"/>
            <p:cNvSpPr/>
            <p:nvPr/>
          </p:nvSpPr>
          <p:spPr>
            <a:xfrm>
              <a:off x="2849400" y="2697120"/>
              <a:ext cx="3888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ūn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头晕　晕倒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ùn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晕车　日晕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365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矩形 1"/>
          <p:cNvSpPr/>
          <p:nvPr/>
        </p:nvSpPr>
        <p:spPr>
          <a:xfrm>
            <a:off x="1274760" y="182412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唠叨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澄清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委屈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70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矩形 1"/>
          <p:cNvSpPr/>
          <p:nvPr/>
        </p:nvSpPr>
        <p:spPr>
          <a:xfrm>
            <a:off x="2085840" y="1830240"/>
            <a:ext cx="64897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说起来没完没了；絮叨。文中指妈妈说话没完没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妈妈天天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唠叨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个没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清亮。文中指菊花茶水特别清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绿树的影子倒映在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澄清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湖水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受到不应该有的指责或待遇，心里难过。②使人受到委屈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没来由地受到埋怨，感到很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委屈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           “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对不起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委屈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你了。”他说道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1"/>
          <p:cNvSpPr/>
          <p:nvPr/>
        </p:nvSpPr>
        <p:spPr>
          <a:xfrm>
            <a:off x="1258920" y="1808280"/>
            <a:ext cx="74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馨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秋老虎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晕眼花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恋恋不舍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76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矩形 1"/>
          <p:cNvSpPr/>
          <p:nvPr/>
        </p:nvSpPr>
        <p:spPr>
          <a:xfrm>
            <a:off x="2070000" y="1830240"/>
            <a:ext cx="629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芳香。文中指菊花茶中花香的气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月季花散发出沁人心脾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馨香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指立秋以后仍然十分炎热的天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头脑晕乱，眼睛昏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非常留恋，舍不得离开。也指极其爱慕，舍不得放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恋恋不舍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地离开了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矩形 1"/>
          <p:cNvSpPr/>
          <p:nvPr/>
        </p:nvSpPr>
        <p:spPr>
          <a:xfrm>
            <a:off x="3233880" y="180972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突然　猛然　忽然　骤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2241720" y="2427120"/>
            <a:ext cx="6381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个词语都有“来得迅速而出乎意料”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侧重点不同。“突然”侧重表示出乎意料；“猛然”着重表示来势迅速凶猛，强而有力；“忽然”着重表示情况发生得迅速而又出乎意料；“骤然”着重表示急剧、迅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83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4"/>
          <p:cNvGrpSpPr/>
          <p:nvPr/>
        </p:nvGrpSpPr>
        <p:grpSpPr>
          <a:xfrm>
            <a:off x="760320" y="2492280"/>
            <a:ext cx="1812960" cy="459720"/>
            <a:chOff x="760320" y="2492280"/>
            <a:chExt cx="1812960" cy="459720"/>
          </a:xfrm>
        </p:grpSpPr>
        <p:pic>
          <p:nvPicPr>
            <p:cNvPr id="387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760320" y="2546640"/>
              <a:ext cx="39744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Box 3"/>
            <p:cNvSpPr/>
            <p:nvPr/>
          </p:nvSpPr>
          <p:spPr>
            <a:xfrm>
              <a:off x="1132560" y="2492280"/>
              <a:ext cx="144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组合 20"/>
          <p:cNvGrpSpPr/>
          <p:nvPr/>
        </p:nvGrpSpPr>
        <p:grpSpPr>
          <a:xfrm>
            <a:off x="760320" y="3122640"/>
            <a:ext cx="1812960" cy="459720"/>
            <a:chOff x="760320" y="3122640"/>
            <a:chExt cx="1812960" cy="459720"/>
          </a:xfrm>
        </p:grpSpPr>
        <p:pic>
          <p:nvPicPr>
            <p:cNvPr id="390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760320" y="3177000"/>
              <a:ext cx="39744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Box 22"/>
            <p:cNvSpPr/>
            <p:nvPr/>
          </p:nvSpPr>
          <p:spPr>
            <a:xfrm>
              <a:off x="1132560" y="3122640"/>
              <a:ext cx="144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"/>
          <p:cNvSpPr/>
          <p:nvPr/>
        </p:nvSpPr>
        <p:spPr>
          <a:xfrm>
            <a:off x="2602080" y="2046240"/>
            <a:ext cx="35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突然　猛然　忽然　骤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2"/>
          <p:cNvSpPr/>
          <p:nvPr/>
        </p:nvSpPr>
        <p:spPr>
          <a:xfrm>
            <a:off x="1989000" y="2475000"/>
            <a:ext cx="67932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正在睡觉，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突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电闪雷鸣，狂风四起，把我从睡梦中惊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猛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起该去打篮球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忽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阵风吹来，把风筝吹得无影无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北京的天气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骤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凉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95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8" name="组合 23"/>
          <p:cNvGrpSpPr/>
          <p:nvPr/>
        </p:nvGrpSpPr>
        <p:grpSpPr>
          <a:xfrm>
            <a:off x="476280" y="2557440"/>
            <a:ext cx="1812960" cy="459720"/>
            <a:chOff x="476280" y="2557440"/>
            <a:chExt cx="1812960" cy="459720"/>
          </a:xfrm>
        </p:grpSpPr>
        <p:pic>
          <p:nvPicPr>
            <p:cNvPr id="399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476280" y="2611800"/>
              <a:ext cx="39744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TextBox 25"/>
            <p:cNvSpPr/>
            <p:nvPr/>
          </p:nvSpPr>
          <p:spPr>
            <a:xfrm>
              <a:off x="848520" y="2557440"/>
              <a:ext cx="144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1"/>
          <p:cNvSpPr/>
          <p:nvPr/>
        </p:nvSpPr>
        <p:spPr>
          <a:xfrm>
            <a:off x="887400" y="2011320"/>
            <a:ext cx="74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焦渴难忍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“秋老虎”把“我”折磨得很狼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热情相待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“我”与农村小姑娘野菊相遇，得到热情招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7"/>
          <p:cNvSpPr/>
          <p:nvPr/>
        </p:nvSpPr>
        <p:spPr>
          <a:xfrm>
            <a:off x="1449360" y="2720880"/>
            <a:ext cx="6745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故事发生在立秋后，天气炎热异常，火辣辣的太阳晒红了高粱，蒸黄了枫叶，烤焦了盘山公路。写天气的炎热为故事情节的发展做了铺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5"/>
          <p:cNvSpPr/>
          <p:nvPr/>
        </p:nvSpPr>
        <p:spPr>
          <a:xfrm>
            <a:off x="882720" y="1282680"/>
            <a:ext cx="731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故事发生在什么季节，当时天气怎样，写天气起到什么作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406" name="矩形 11"/>
          <p:cNvSpPr/>
          <p:nvPr/>
        </p:nvSpPr>
        <p:spPr>
          <a:xfrm>
            <a:off x="1017720" y="2417760"/>
            <a:ext cx="73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描写了“我”在赶山路焦渴难忍之际，与山村小姑娘在她的茶亭相遇，小姑娘的名字叫野菊，她无私地帮助“我”，为“我”捶腿解乏，还帮“我”缝好裤子，最后还追着“我”找多给的茶钱，“我”很感动。赞扬了小姑娘淳朴善良、乐于助人的好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08" name="矩形 13"/>
          <p:cNvSpPr/>
          <p:nvPr/>
        </p:nvSpPr>
        <p:spPr>
          <a:xfrm>
            <a:off x="1195560" y="2238480"/>
            <a:ext cx="73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面的多音字注音并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（　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（　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12"/>
          <p:cNvSpPr/>
          <p:nvPr/>
        </p:nvSpPr>
        <p:spPr>
          <a:xfrm>
            <a:off x="4934520" y="30718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13"/>
          <p:cNvSpPr/>
          <p:nvPr/>
        </p:nvSpPr>
        <p:spPr>
          <a:xfrm>
            <a:off x="1360440" y="318132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左大括号 16"/>
          <p:cNvSpPr/>
          <p:nvPr/>
        </p:nvSpPr>
        <p:spPr>
          <a:xfrm>
            <a:off x="1763640" y="3067200"/>
            <a:ext cx="142920" cy="649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649080"/>
              <a:gd name="textAreaBottom" fmla="*/ 64548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8"/>
                  <a:pt x="10800" y="396"/>
                </a:cubicBezTo>
                <a:lnTo>
                  <a:pt x="10800" y="10404"/>
                </a:lnTo>
                <a:cubicBezTo>
                  <a:pt x="10800" y="10602"/>
                  <a:pt x="5400" y="10800"/>
                  <a:pt x="0" y="10800"/>
                </a:cubicBezTo>
                <a:cubicBezTo>
                  <a:pt x="5400" y="10800"/>
                  <a:pt x="10800" y="10998"/>
                  <a:pt x="10800" y="11196"/>
                </a:cubicBezTo>
                <a:lnTo>
                  <a:pt x="10800" y="21204"/>
                </a:lnTo>
                <a:cubicBezTo>
                  <a:pt x="10800" y="2140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左大括号 17"/>
          <p:cNvSpPr/>
          <p:nvPr/>
        </p:nvSpPr>
        <p:spPr>
          <a:xfrm>
            <a:off x="5364000" y="3105000"/>
            <a:ext cx="142920" cy="64944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649440"/>
              <a:gd name="textAreaBottom" fmla="*/ 64584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8"/>
                  <a:pt x="10800" y="396"/>
                </a:cubicBezTo>
                <a:lnTo>
                  <a:pt x="10800" y="10404"/>
                </a:lnTo>
                <a:cubicBezTo>
                  <a:pt x="10800" y="10602"/>
                  <a:pt x="5400" y="10800"/>
                  <a:pt x="0" y="10800"/>
                </a:cubicBezTo>
                <a:cubicBezTo>
                  <a:pt x="5400" y="10800"/>
                  <a:pt x="10800" y="10998"/>
                  <a:pt x="10800" y="11196"/>
                </a:cubicBezTo>
                <a:lnTo>
                  <a:pt x="10800" y="21204"/>
                </a:lnTo>
                <a:cubicBezTo>
                  <a:pt x="10800" y="2140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21"/>
          <p:cNvSpPr/>
          <p:nvPr/>
        </p:nvSpPr>
        <p:spPr>
          <a:xfrm>
            <a:off x="6988320" y="3503520"/>
            <a:ext cx="8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转圈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22"/>
          <p:cNvSpPr/>
          <p:nvPr/>
        </p:nvSpPr>
        <p:spPr>
          <a:xfrm>
            <a:off x="2043720" y="287496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_GBK"/>
              </a:rPr>
              <a:t>chō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矩形 23"/>
          <p:cNvSpPr/>
          <p:nvPr/>
        </p:nvSpPr>
        <p:spPr>
          <a:xfrm>
            <a:off x="3752640" y="291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冲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矩形 24"/>
          <p:cNvSpPr/>
          <p:nvPr/>
        </p:nvSpPr>
        <p:spPr>
          <a:xfrm>
            <a:off x="2075400" y="346716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_GBK"/>
              </a:rPr>
              <a:t>chò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3752640" y="3468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冲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矩形 26"/>
          <p:cNvSpPr/>
          <p:nvPr/>
        </p:nvSpPr>
        <p:spPr>
          <a:xfrm>
            <a:off x="5576040" y="2855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_GBK"/>
              </a:rPr>
              <a:t>zhuǎ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矩形 27"/>
          <p:cNvSpPr/>
          <p:nvPr/>
        </p:nvSpPr>
        <p:spPr>
          <a:xfrm>
            <a:off x="7148160" y="2941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转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矩形 28"/>
          <p:cNvSpPr/>
          <p:nvPr/>
        </p:nvSpPr>
        <p:spPr>
          <a:xfrm>
            <a:off x="5609160" y="3414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_GBK"/>
              </a:rPr>
              <a:t>zhu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4"/>
          <p:cNvSpPr/>
          <p:nvPr/>
        </p:nvSpPr>
        <p:spPr>
          <a:xfrm>
            <a:off x="890640" y="279576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名野菊花，为菊科多年生草本植物，菊科菊属植物。野菊花头状花序的外形与菊花相似，野生于山坡草地、田边、路旁等地带。野菊花性微寒，可疏散风热、消肿解毒，有极高的药用价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4" name="圆角矩形 6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矩形 1"/>
          <p:cNvSpPr/>
          <p:nvPr/>
        </p:nvSpPr>
        <p:spPr>
          <a:xfrm>
            <a:off x="4146120" y="199872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野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矩形 21"/>
          <p:cNvSpPr/>
          <p:nvPr/>
        </p:nvSpPr>
        <p:spPr>
          <a:xfrm>
            <a:off x="1270080" y="990720"/>
            <a:ext cx="7273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b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y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lǎ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lɑ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g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dō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tó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jù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xi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chu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tu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qíng</a:t>
            </a:r>
            <a:r>
              <a:rPr b="1" lang="en-US" sz="2400" spc="-1" strike="noStrike">
                <a:solidFill>
                  <a:srgbClr val="000000"/>
                </a:solidFill>
                <a:latin typeface="Shrut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y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qu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tu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hu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dō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d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li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li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b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_GBK"/>
              </a:rPr>
              <a:t>sh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3564000" y="191772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3564000" y="29988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317600" y="19177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1317600" y="29988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矩形 29"/>
          <p:cNvSpPr/>
          <p:nvPr/>
        </p:nvSpPr>
        <p:spPr>
          <a:xfrm>
            <a:off x="1535400" y="1960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 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矩形 30"/>
          <p:cNvSpPr/>
          <p:nvPr/>
        </p:nvSpPr>
        <p:spPr>
          <a:xfrm>
            <a:off x="1535400" y="3041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额 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矩形 31"/>
          <p:cNvSpPr/>
          <p:nvPr/>
        </p:nvSpPr>
        <p:spPr>
          <a:xfrm>
            <a:off x="3780360" y="1967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姥 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矩形 32"/>
          <p:cNvSpPr/>
          <p:nvPr/>
        </p:nvSpPr>
        <p:spPr>
          <a:xfrm>
            <a:off x="3789720" y="3025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俊 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5796000" y="19303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矩形 34"/>
          <p:cNvSpPr/>
          <p:nvPr/>
        </p:nvSpPr>
        <p:spPr>
          <a:xfrm>
            <a:off x="6021720" y="1957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咕 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5796000" y="30114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矩形 36"/>
          <p:cNvSpPr/>
          <p:nvPr/>
        </p:nvSpPr>
        <p:spPr>
          <a:xfrm>
            <a:off x="6021720" y="3038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捶 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316160" y="411480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矩形 38"/>
          <p:cNvSpPr/>
          <p:nvPr/>
        </p:nvSpPr>
        <p:spPr>
          <a:xfrm>
            <a:off x="1541880" y="4141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 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564000" y="409572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矩形 40"/>
          <p:cNvSpPr/>
          <p:nvPr/>
        </p:nvSpPr>
        <p:spPr>
          <a:xfrm>
            <a:off x="3789720" y="4122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瘸 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5811840" y="4078440"/>
          <a:ext cx="2203560" cy="73152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480"/>
                <a:gridCol w="366840"/>
                <a:gridCol w="368280"/>
                <a:gridCol w="366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矩形 42"/>
          <p:cNvSpPr/>
          <p:nvPr/>
        </p:nvSpPr>
        <p:spPr>
          <a:xfrm>
            <a:off x="6136560" y="4122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花 兜 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43"/>
          <p:cNvSpPr/>
          <p:nvPr/>
        </p:nvSpPr>
        <p:spPr>
          <a:xfrm>
            <a:off x="1506240" y="5207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恋 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270080" y="5219640"/>
          <a:ext cx="2938320" cy="731880"/>
        </p:xfrm>
        <a:graphic>
          <a:graphicData uri="http://schemas.openxmlformats.org/drawingml/2006/table">
            <a:tbl>
              <a:tblPr/>
              <a:tblGrid>
                <a:gridCol w="366480"/>
                <a:gridCol w="368280"/>
                <a:gridCol w="366840"/>
                <a:gridCol w="368280"/>
                <a:gridCol w="366840"/>
                <a:gridCol w="366480"/>
                <a:gridCol w="368640"/>
                <a:gridCol w="366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矩形 45"/>
          <p:cNvSpPr/>
          <p:nvPr/>
        </p:nvSpPr>
        <p:spPr>
          <a:xfrm>
            <a:off x="2981160" y="5245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 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9"/>
          <p:cNvSpPr/>
          <p:nvPr/>
        </p:nvSpPr>
        <p:spPr>
          <a:xfrm>
            <a:off x="971640" y="132084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加点字选择正确的解释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填序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花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供观赏的植物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虚伪的、用来迷惑人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模糊不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盘山路还没走完，我就感到头晕眼花，四肢无力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菊花丛里飘来她那甜甜的童音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要相信他的花言巧语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4"/>
          <p:cNvSpPr/>
          <p:nvPr/>
        </p:nvSpPr>
        <p:spPr>
          <a:xfrm>
            <a:off x="2895480" y="4740120"/>
            <a:ext cx="12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1383480" y="4203720"/>
            <a:ext cx="12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16"/>
          <p:cNvSpPr/>
          <p:nvPr/>
        </p:nvSpPr>
        <p:spPr>
          <a:xfrm>
            <a:off x="5648400" y="3108240"/>
            <a:ext cx="12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7"/>
          <p:cNvSpPr/>
          <p:nvPr/>
        </p:nvSpPr>
        <p:spPr>
          <a:xfrm>
            <a:off x="4865760" y="4616280"/>
            <a:ext cx="12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8"/>
          <p:cNvSpPr/>
          <p:nvPr/>
        </p:nvSpPr>
        <p:spPr>
          <a:xfrm>
            <a:off x="1928160" y="36259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19"/>
          <p:cNvSpPr/>
          <p:nvPr/>
        </p:nvSpPr>
        <p:spPr>
          <a:xfrm>
            <a:off x="6247440" y="41781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矩形 8"/>
          <p:cNvSpPr/>
          <p:nvPr/>
        </p:nvSpPr>
        <p:spPr>
          <a:xfrm>
            <a:off x="755640" y="146052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判断下面句子是不是比喻句，是的打“√”，不是的打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秋老虎”果然厉害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声甜脆的童音传来，仿佛来自天宫瑶池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她哭了，把一把零钱甩进我的怀里，小嘴撅起一朵石榴花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9"/>
          <p:cNvSpPr/>
          <p:nvPr/>
        </p:nvSpPr>
        <p:spPr>
          <a:xfrm>
            <a:off x="2182320" y="4197240"/>
            <a:ext cx="14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矩形 10"/>
          <p:cNvSpPr/>
          <p:nvPr/>
        </p:nvSpPr>
        <p:spPr>
          <a:xfrm>
            <a:off x="4791240" y="266868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矩形 11"/>
          <p:cNvSpPr/>
          <p:nvPr/>
        </p:nvSpPr>
        <p:spPr>
          <a:xfrm>
            <a:off x="7594200" y="323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9"/>
          <p:cNvSpPr/>
          <p:nvPr/>
        </p:nvSpPr>
        <p:spPr>
          <a:xfrm>
            <a:off x="755640" y="1082520"/>
            <a:ext cx="748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改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姑娘对我说：“别羞，大姐姐，我也是女孩儿！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成第三人称转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口渴得很，嗓子眼儿热辣辣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为夸张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木偶奇遇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国少年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我最喜欢读的报纸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修改病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10"/>
          <p:cNvSpPr/>
          <p:nvPr/>
        </p:nvSpPr>
        <p:spPr>
          <a:xfrm>
            <a:off x="1258920" y="5484960"/>
            <a:ext cx="59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国少年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我最喜欢读的报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矩形 11"/>
          <p:cNvSpPr/>
          <p:nvPr/>
        </p:nvSpPr>
        <p:spPr>
          <a:xfrm>
            <a:off x="1309680" y="2749680"/>
            <a:ext cx="66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姑娘对我说，别羞，大姐姐，她也是女孩儿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矩形 12"/>
          <p:cNvSpPr/>
          <p:nvPr/>
        </p:nvSpPr>
        <p:spPr>
          <a:xfrm>
            <a:off x="1309680" y="3835440"/>
            <a:ext cx="55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口渴得很，嗓子眼儿直冒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2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86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口”小偏上，右部捺画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32"/>
          <p:cNvSpPr/>
          <p:nvPr/>
        </p:nvSpPr>
        <p:spPr>
          <a:xfrm>
            <a:off x="6905520" y="3687840"/>
            <a:ext cx="362160" cy="1332000"/>
          </a:xfrm>
          <a:custGeom>
            <a:avLst/>
            <a:gdLst/>
            <a:ahLst/>
            <a:rect l="l" t="t" r="r" b="b"/>
            <a:pathLst>
              <a:path w="457" h="1678">
                <a:moveTo>
                  <a:pt x="117" y="1455"/>
                </a:moveTo>
                <a:lnTo>
                  <a:pt x="102" y="1444"/>
                </a:lnTo>
                <a:lnTo>
                  <a:pt x="89" y="1434"/>
                </a:lnTo>
                <a:lnTo>
                  <a:pt x="77" y="1425"/>
                </a:lnTo>
                <a:lnTo>
                  <a:pt x="66" y="1415"/>
                </a:lnTo>
                <a:lnTo>
                  <a:pt x="54" y="1407"/>
                </a:lnTo>
                <a:lnTo>
                  <a:pt x="44" y="1400"/>
                </a:lnTo>
                <a:lnTo>
                  <a:pt x="37" y="1392"/>
                </a:lnTo>
                <a:lnTo>
                  <a:pt x="29" y="1384"/>
                </a:lnTo>
                <a:lnTo>
                  <a:pt x="21" y="1379"/>
                </a:lnTo>
                <a:lnTo>
                  <a:pt x="16" y="1373"/>
                </a:lnTo>
                <a:lnTo>
                  <a:pt x="12" y="1367"/>
                </a:lnTo>
                <a:lnTo>
                  <a:pt x="8" y="1363"/>
                </a:lnTo>
                <a:lnTo>
                  <a:pt x="4" y="1359"/>
                </a:lnTo>
                <a:lnTo>
                  <a:pt x="2" y="1356"/>
                </a:lnTo>
                <a:lnTo>
                  <a:pt x="0" y="1352"/>
                </a:lnTo>
                <a:lnTo>
                  <a:pt x="0" y="1350"/>
                </a:lnTo>
                <a:lnTo>
                  <a:pt x="0" y="1348"/>
                </a:lnTo>
                <a:lnTo>
                  <a:pt x="2" y="1346"/>
                </a:lnTo>
                <a:lnTo>
                  <a:pt x="4" y="1344"/>
                </a:lnTo>
                <a:lnTo>
                  <a:pt x="8" y="1344"/>
                </a:lnTo>
                <a:lnTo>
                  <a:pt x="12" y="1342"/>
                </a:lnTo>
                <a:lnTo>
                  <a:pt x="16" y="1342"/>
                </a:lnTo>
                <a:lnTo>
                  <a:pt x="21" y="1342"/>
                </a:lnTo>
                <a:lnTo>
                  <a:pt x="29" y="1340"/>
                </a:lnTo>
                <a:lnTo>
                  <a:pt x="37" y="1340"/>
                </a:lnTo>
                <a:lnTo>
                  <a:pt x="44" y="1342"/>
                </a:lnTo>
                <a:lnTo>
                  <a:pt x="54" y="1342"/>
                </a:lnTo>
                <a:lnTo>
                  <a:pt x="64" y="1344"/>
                </a:lnTo>
                <a:lnTo>
                  <a:pt x="75" y="1344"/>
                </a:lnTo>
                <a:lnTo>
                  <a:pt x="89" y="1346"/>
                </a:lnTo>
                <a:lnTo>
                  <a:pt x="102" y="1348"/>
                </a:lnTo>
                <a:lnTo>
                  <a:pt x="117" y="1350"/>
                </a:lnTo>
                <a:lnTo>
                  <a:pt x="129" y="1352"/>
                </a:lnTo>
                <a:lnTo>
                  <a:pt x="142" y="1354"/>
                </a:lnTo>
                <a:lnTo>
                  <a:pt x="154" y="1356"/>
                </a:lnTo>
                <a:lnTo>
                  <a:pt x="165" y="1359"/>
                </a:lnTo>
                <a:lnTo>
                  <a:pt x="175" y="1359"/>
                </a:lnTo>
                <a:lnTo>
                  <a:pt x="185" y="1361"/>
                </a:lnTo>
                <a:lnTo>
                  <a:pt x="194" y="1363"/>
                </a:lnTo>
                <a:lnTo>
                  <a:pt x="204" y="1365"/>
                </a:lnTo>
                <a:lnTo>
                  <a:pt x="213" y="1365"/>
                </a:lnTo>
                <a:lnTo>
                  <a:pt x="221" y="1367"/>
                </a:lnTo>
                <a:lnTo>
                  <a:pt x="227" y="1367"/>
                </a:lnTo>
                <a:lnTo>
                  <a:pt x="234" y="1367"/>
                </a:lnTo>
                <a:lnTo>
                  <a:pt x="240" y="1367"/>
                </a:lnTo>
                <a:lnTo>
                  <a:pt x="246" y="1365"/>
                </a:lnTo>
                <a:lnTo>
                  <a:pt x="252" y="1363"/>
                </a:lnTo>
                <a:lnTo>
                  <a:pt x="256" y="1361"/>
                </a:lnTo>
                <a:lnTo>
                  <a:pt x="259" y="1359"/>
                </a:lnTo>
                <a:lnTo>
                  <a:pt x="265" y="1356"/>
                </a:lnTo>
                <a:lnTo>
                  <a:pt x="267" y="1350"/>
                </a:lnTo>
                <a:lnTo>
                  <a:pt x="271" y="1344"/>
                </a:lnTo>
                <a:lnTo>
                  <a:pt x="275" y="1338"/>
                </a:lnTo>
                <a:lnTo>
                  <a:pt x="277" y="1331"/>
                </a:lnTo>
                <a:lnTo>
                  <a:pt x="281" y="1321"/>
                </a:lnTo>
                <a:lnTo>
                  <a:pt x="282" y="1311"/>
                </a:lnTo>
                <a:lnTo>
                  <a:pt x="284" y="1302"/>
                </a:lnTo>
                <a:lnTo>
                  <a:pt x="286" y="1290"/>
                </a:lnTo>
                <a:lnTo>
                  <a:pt x="288" y="1279"/>
                </a:lnTo>
                <a:lnTo>
                  <a:pt x="288" y="1265"/>
                </a:lnTo>
                <a:lnTo>
                  <a:pt x="290" y="1254"/>
                </a:lnTo>
                <a:lnTo>
                  <a:pt x="290" y="1238"/>
                </a:lnTo>
                <a:lnTo>
                  <a:pt x="290" y="1225"/>
                </a:lnTo>
                <a:lnTo>
                  <a:pt x="292" y="1210"/>
                </a:lnTo>
                <a:lnTo>
                  <a:pt x="292" y="1194"/>
                </a:lnTo>
                <a:lnTo>
                  <a:pt x="292" y="1177"/>
                </a:lnTo>
                <a:lnTo>
                  <a:pt x="292" y="1162"/>
                </a:lnTo>
                <a:lnTo>
                  <a:pt x="292" y="1144"/>
                </a:lnTo>
                <a:lnTo>
                  <a:pt x="292" y="1108"/>
                </a:lnTo>
                <a:lnTo>
                  <a:pt x="292" y="1071"/>
                </a:lnTo>
                <a:lnTo>
                  <a:pt x="292" y="1031"/>
                </a:lnTo>
                <a:lnTo>
                  <a:pt x="292" y="991"/>
                </a:lnTo>
                <a:lnTo>
                  <a:pt x="292" y="949"/>
                </a:lnTo>
                <a:lnTo>
                  <a:pt x="292" y="906"/>
                </a:lnTo>
                <a:lnTo>
                  <a:pt x="292" y="885"/>
                </a:lnTo>
                <a:lnTo>
                  <a:pt x="290" y="864"/>
                </a:lnTo>
                <a:lnTo>
                  <a:pt x="290" y="841"/>
                </a:lnTo>
                <a:lnTo>
                  <a:pt x="290" y="816"/>
                </a:lnTo>
                <a:lnTo>
                  <a:pt x="290" y="791"/>
                </a:lnTo>
                <a:lnTo>
                  <a:pt x="290" y="764"/>
                </a:lnTo>
                <a:lnTo>
                  <a:pt x="290" y="736"/>
                </a:lnTo>
                <a:lnTo>
                  <a:pt x="290" y="707"/>
                </a:lnTo>
                <a:lnTo>
                  <a:pt x="288" y="676"/>
                </a:lnTo>
                <a:lnTo>
                  <a:pt x="288" y="645"/>
                </a:lnTo>
                <a:lnTo>
                  <a:pt x="286" y="613"/>
                </a:lnTo>
                <a:lnTo>
                  <a:pt x="286" y="580"/>
                </a:lnTo>
                <a:lnTo>
                  <a:pt x="284" y="546"/>
                </a:lnTo>
                <a:lnTo>
                  <a:pt x="282" y="511"/>
                </a:lnTo>
                <a:lnTo>
                  <a:pt x="282" y="475"/>
                </a:lnTo>
                <a:lnTo>
                  <a:pt x="281" y="438"/>
                </a:lnTo>
                <a:lnTo>
                  <a:pt x="277" y="402"/>
                </a:lnTo>
                <a:lnTo>
                  <a:pt x="275" y="367"/>
                </a:lnTo>
                <a:lnTo>
                  <a:pt x="273" y="332"/>
                </a:lnTo>
                <a:lnTo>
                  <a:pt x="271" y="302"/>
                </a:lnTo>
                <a:lnTo>
                  <a:pt x="269" y="273"/>
                </a:lnTo>
                <a:lnTo>
                  <a:pt x="265" y="244"/>
                </a:lnTo>
                <a:lnTo>
                  <a:pt x="263" y="219"/>
                </a:lnTo>
                <a:lnTo>
                  <a:pt x="261" y="194"/>
                </a:lnTo>
                <a:lnTo>
                  <a:pt x="259" y="185"/>
                </a:lnTo>
                <a:lnTo>
                  <a:pt x="257" y="173"/>
                </a:lnTo>
                <a:lnTo>
                  <a:pt x="256" y="164"/>
                </a:lnTo>
                <a:lnTo>
                  <a:pt x="256" y="152"/>
                </a:lnTo>
                <a:lnTo>
                  <a:pt x="254" y="144"/>
                </a:lnTo>
                <a:lnTo>
                  <a:pt x="252" y="135"/>
                </a:lnTo>
                <a:lnTo>
                  <a:pt x="250" y="127"/>
                </a:lnTo>
                <a:lnTo>
                  <a:pt x="248" y="119"/>
                </a:lnTo>
                <a:lnTo>
                  <a:pt x="246" y="112"/>
                </a:lnTo>
                <a:lnTo>
                  <a:pt x="244" y="104"/>
                </a:lnTo>
                <a:lnTo>
                  <a:pt x="242" y="98"/>
                </a:lnTo>
                <a:lnTo>
                  <a:pt x="242" y="93"/>
                </a:lnTo>
                <a:lnTo>
                  <a:pt x="238" y="87"/>
                </a:lnTo>
                <a:lnTo>
                  <a:pt x="236" y="83"/>
                </a:lnTo>
                <a:lnTo>
                  <a:pt x="234" y="79"/>
                </a:lnTo>
                <a:lnTo>
                  <a:pt x="233" y="75"/>
                </a:lnTo>
                <a:lnTo>
                  <a:pt x="229" y="68"/>
                </a:lnTo>
                <a:lnTo>
                  <a:pt x="225" y="62"/>
                </a:lnTo>
                <a:lnTo>
                  <a:pt x="223" y="56"/>
                </a:lnTo>
                <a:lnTo>
                  <a:pt x="219" y="50"/>
                </a:lnTo>
                <a:lnTo>
                  <a:pt x="217" y="41"/>
                </a:lnTo>
                <a:lnTo>
                  <a:pt x="215" y="31"/>
                </a:lnTo>
                <a:lnTo>
                  <a:pt x="213" y="23"/>
                </a:lnTo>
                <a:lnTo>
                  <a:pt x="215" y="16"/>
                </a:lnTo>
                <a:lnTo>
                  <a:pt x="217" y="10"/>
                </a:lnTo>
                <a:lnTo>
                  <a:pt x="221" y="4"/>
                </a:lnTo>
                <a:lnTo>
                  <a:pt x="225" y="2"/>
                </a:lnTo>
                <a:lnTo>
                  <a:pt x="227" y="0"/>
                </a:lnTo>
                <a:lnTo>
                  <a:pt x="231" y="0"/>
                </a:lnTo>
                <a:lnTo>
                  <a:pt x="236" y="0"/>
                </a:lnTo>
                <a:lnTo>
                  <a:pt x="242" y="0"/>
                </a:lnTo>
                <a:lnTo>
                  <a:pt x="248" y="0"/>
                </a:lnTo>
                <a:lnTo>
                  <a:pt x="256" y="2"/>
                </a:lnTo>
                <a:lnTo>
                  <a:pt x="261" y="2"/>
                </a:lnTo>
                <a:lnTo>
                  <a:pt x="271" y="4"/>
                </a:lnTo>
                <a:lnTo>
                  <a:pt x="279" y="8"/>
                </a:lnTo>
                <a:lnTo>
                  <a:pt x="296" y="12"/>
                </a:lnTo>
                <a:lnTo>
                  <a:pt x="317" y="20"/>
                </a:lnTo>
                <a:lnTo>
                  <a:pt x="338" y="29"/>
                </a:lnTo>
                <a:lnTo>
                  <a:pt x="359" y="41"/>
                </a:lnTo>
                <a:lnTo>
                  <a:pt x="378" y="52"/>
                </a:lnTo>
                <a:lnTo>
                  <a:pt x="398" y="64"/>
                </a:lnTo>
                <a:lnTo>
                  <a:pt x="405" y="69"/>
                </a:lnTo>
                <a:lnTo>
                  <a:pt x="413" y="73"/>
                </a:lnTo>
                <a:lnTo>
                  <a:pt x="421" y="79"/>
                </a:lnTo>
                <a:lnTo>
                  <a:pt x="426" y="83"/>
                </a:lnTo>
                <a:lnTo>
                  <a:pt x="434" y="89"/>
                </a:lnTo>
                <a:lnTo>
                  <a:pt x="438" y="93"/>
                </a:lnTo>
                <a:lnTo>
                  <a:pt x="444" y="96"/>
                </a:lnTo>
                <a:lnTo>
                  <a:pt x="448" y="102"/>
                </a:lnTo>
                <a:lnTo>
                  <a:pt x="451" y="106"/>
                </a:lnTo>
                <a:lnTo>
                  <a:pt x="453" y="110"/>
                </a:lnTo>
                <a:lnTo>
                  <a:pt x="455" y="114"/>
                </a:lnTo>
                <a:lnTo>
                  <a:pt x="457" y="119"/>
                </a:lnTo>
                <a:lnTo>
                  <a:pt x="457" y="127"/>
                </a:lnTo>
                <a:lnTo>
                  <a:pt x="457" y="137"/>
                </a:lnTo>
                <a:lnTo>
                  <a:pt x="457" y="144"/>
                </a:lnTo>
                <a:lnTo>
                  <a:pt x="453" y="154"/>
                </a:lnTo>
                <a:lnTo>
                  <a:pt x="449" y="164"/>
                </a:lnTo>
                <a:lnTo>
                  <a:pt x="446" y="171"/>
                </a:lnTo>
                <a:lnTo>
                  <a:pt x="442" y="181"/>
                </a:lnTo>
                <a:lnTo>
                  <a:pt x="438" y="194"/>
                </a:lnTo>
                <a:lnTo>
                  <a:pt x="434" y="210"/>
                </a:lnTo>
                <a:lnTo>
                  <a:pt x="430" y="225"/>
                </a:lnTo>
                <a:lnTo>
                  <a:pt x="426" y="242"/>
                </a:lnTo>
                <a:lnTo>
                  <a:pt x="423" y="260"/>
                </a:lnTo>
                <a:lnTo>
                  <a:pt x="421" y="279"/>
                </a:lnTo>
                <a:lnTo>
                  <a:pt x="419" y="300"/>
                </a:lnTo>
                <a:lnTo>
                  <a:pt x="419" y="321"/>
                </a:lnTo>
                <a:lnTo>
                  <a:pt x="419" y="327"/>
                </a:lnTo>
                <a:lnTo>
                  <a:pt x="419" y="334"/>
                </a:lnTo>
                <a:lnTo>
                  <a:pt x="419" y="342"/>
                </a:lnTo>
                <a:lnTo>
                  <a:pt x="419" y="352"/>
                </a:lnTo>
                <a:lnTo>
                  <a:pt x="419" y="361"/>
                </a:lnTo>
                <a:lnTo>
                  <a:pt x="419" y="371"/>
                </a:lnTo>
                <a:lnTo>
                  <a:pt x="419" y="380"/>
                </a:lnTo>
                <a:lnTo>
                  <a:pt x="419" y="390"/>
                </a:lnTo>
                <a:lnTo>
                  <a:pt x="419" y="402"/>
                </a:lnTo>
                <a:lnTo>
                  <a:pt x="419" y="413"/>
                </a:lnTo>
                <a:lnTo>
                  <a:pt x="419" y="427"/>
                </a:lnTo>
                <a:lnTo>
                  <a:pt x="419" y="438"/>
                </a:lnTo>
                <a:lnTo>
                  <a:pt x="419" y="451"/>
                </a:lnTo>
                <a:lnTo>
                  <a:pt x="421" y="465"/>
                </a:lnTo>
                <a:lnTo>
                  <a:pt x="421" y="480"/>
                </a:lnTo>
                <a:lnTo>
                  <a:pt x="421" y="496"/>
                </a:lnTo>
                <a:lnTo>
                  <a:pt x="421" y="511"/>
                </a:lnTo>
                <a:lnTo>
                  <a:pt x="421" y="526"/>
                </a:lnTo>
                <a:lnTo>
                  <a:pt x="421" y="542"/>
                </a:lnTo>
                <a:lnTo>
                  <a:pt x="421" y="559"/>
                </a:lnTo>
                <a:lnTo>
                  <a:pt x="423" y="576"/>
                </a:lnTo>
                <a:lnTo>
                  <a:pt x="423" y="594"/>
                </a:lnTo>
                <a:lnTo>
                  <a:pt x="423" y="613"/>
                </a:lnTo>
                <a:lnTo>
                  <a:pt x="424" y="632"/>
                </a:lnTo>
                <a:lnTo>
                  <a:pt x="424" y="651"/>
                </a:lnTo>
                <a:lnTo>
                  <a:pt x="424" y="670"/>
                </a:lnTo>
                <a:lnTo>
                  <a:pt x="426" y="691"/>
                </a:lnTo>
                <a:lnTo>
                  <a:pt x="426" y="713"/>
                </a:lnTo>
                <a:lnTo>
                  <a:pt x="426" y="734"/>
                </a:lnTo>
                <a:lnTo>
                  <a:pt x="428" y="755"/>
                </a:lnTo>
                <a:lnTo>
                  <a:pt x="428" y="778"/>
                </a:lnTo>
                <a:lnTo>
                  <a:pt x="430" y="801"/>
                </a:lnTo>
                <a:lnTo>
                  <a:pt x="432" y="845"/>
                </a:lnTo>
                <a:lnTo>
                  <a:pt x="434" y="889"/>
                </a:lnTo>
                <a:lnTo>
                  <a:pt x="436" y="931"/>
                </a:lnTo>
                <a:lnTo>
                  <a:pt x="436" y="974"/>
                </a:lnTo>
                <a:lnTo>
                  <a:pt x="438" y="1012"/>
                </a:lnTo>
                <a:lnTo>
                  <a:pt x="440" y="1050"/>
                </a:lnTo>
                <a:lnTo>
                  <a:pt x="440" y="1087"/>
                </a:lnTo>
                <a:lnTo>
                  <a:pt x="440" y="1121"/>
                </a:lnTo>
                <a:lnTo>
                  <a:pt x="442" y="1156"/>
                </a:lnTo>
                <a:lnTo>
                  <a:pt x="442" y="1187"/>
                </a:lnTo>
                <a:lnTo>
                  <a:pt x="442" y="1217"/>
                </a:lnTo>
                <a:lnTo>
                  <a:pt x="442" y="1244"/>
                </a:lnTo>
                <a:lnTo>
                  <a:pt x="442" y="1271"/>
                </a:lnTo>
                <a:lnTo>
                  <a:pt x="442" y="1296"/>
                </a:lnTo>
                <a:lnTo>
                  <a:pt x="442" y="1317"/>
                </a:lnTo>
                <a:lnTo>
                  <a:pt x="442" y="1329"/>
                </a:lnTo>
                <a:lnTo>
                  <a:pt x="442" y="1338"/>
                </a:lnTo>
                <a:lnTo>
                  <a:pt x="438" y="1377"/>
                </a:lnTo>
                <a:lnTo>
                  <a:pt x="432" y="1415"/>
                </a:lnTo>
                <a:lnTo>
                  <a:pt x="428" y="1450"/>
                </a:lnTo>
                <a:lnTo>
                  <a:pt x="424" y="1467"/>
                </a:lnTo>
                <a:lnTo>
                  <a:pt x="421" y="1484"/>
                </a:lnTo>
                <a:lnTo>
                  <a:pt x="419" y="1501"/>
                </a:lnTo>
                <a:lnTo>
                  <a:pt x="415" y="1517"/>
                </a:lnTo>
                <a:lnTo>
                  <a:pt x="411" y="1530"/>
                </a:lnTo>
                <a:lnTo>
                  <a:pt x="405" y="1546"/>
                </a:lnTo>
                <a:lnTo>
                  <a:pt x="401" y="1559"/>
                </a:lnTo>
                <a:lnTo>
                  <a:pt x="396" y="1572"/>
                </a:lnTo>
                <a:lnTo>
                  <a:pt x="390" y="1584"/>
                </a:lnTo>
                <a:lnTo>
                  <a:pt x="384" y="1596"/>
                </a:lnTo>
                <a:lnTo>
                  <a:pt x="378" y="1607"/>
                </a:lnTo>
                <a:lnTo>
                  <a:pt x="371" y="1617"/>
                </a:lnTo>
                <a:lnTo>
                  <a:pt x="365" y="1624"/>
                </a:lnTo>
                <a:lnTo>
                  <a:pt x="359" y="1634"/>
                </a:lnTo>
                <a:lnTo>
                  <a:pt x="355" y="1642"/>
                </a:lnTo>
                <a:lnTo>
                  <a:pt x="350" y="1647"/>
                </a:lnTo>
                <a:lnTo>
                  <a:pt x="344" y="1653"/>
                </a:lnTo>
                <a:lnTo>
                  <a:pt x="338" y="1659"/>
                </a:lnTo>
                <a:lnTo>
                  <a:pt x="334" y="1663"/>
                </a:lnTo>
                <a:lnTo>
                  <a:pt x="329" y="1667"/>
                </a:lnTo>
                <a:lnTo>
                  <a:pt x="325" y="1670"/>
                </a:lnTo>
                <a:lnTo>
                  <a:pt x="321" y="1672"/>
                </a:lnTo>
                <a:lnTo>
                  <a:pt x="315" y="1674"/>
                </a:lnTo>
                <a:lnTo>
                  <a:pt x="311" y="1676"/>
                </a:lnTo>
                <a:lnTo>
                  <a:pt x="307" y="1678"/>
                </a:lnTo>
                <a:lnTo>
                  <a:pt x="304" y="1678"/>
                </a:lnTo>
                <a:lnTo>
                  <a:pt x="296" y="1678"/>
                </a:lnTo>
                <a:lnTo>
                  <a:pt x="290" y="1676"/>
                </a:lnTo>
                <a:lnTo>
                  <a:pt x="286" y="1674"/>
                </a:lnTo>
                <a:lnTo>
                  <a:pt x="281" y="1672"/>
                </a:lnTo>
                <a:lnTo>
                  <a:pt x="277" y="1670"/>
                </a:lnTo>
                <a:lnTo>
                  <a:pt x="273" y="1668"/>
                </a:lnTo>
                <a:lnTo>
                  <a:pt x="269" y="1665"/>
                </a:lnTo>
                <a:lnTo>
                  <a:pt x="267" y="1661"/>
                </a:lnTo>
                <a:lnTo>
                  <a:pt x="263" y="1655"/>
                </a:lnTo>
                <a:lnTo>
                  <a:pt x="261" y="1649"/>
                </a:lnTo>
                <a:lnTo>
                  <a:pt x="259" y="1643"/>
                </a:lnTo>
                <a:lnTo>
                  <a:pt x="257" y="1638"/>
                </a:lnTo>
                <a:lnTo>
                  <a:pt x="257" y="1632"/>
                </a:lnTo>
                <a:lnTo>
                  <a:pt x="257" y="1624"/>
                </a:lnTo>
                <a:lnTo>
                  <a:pt x="256" y="1617"/>
                </a:lnTo>
                <a:lnTo>
                  <a:pt x="256" y="1607"/>
                </a:lnTo>
                <a:lnTo>
                  <a:pt x="254" y="1597"/>
                </a:lnTo>
                <a:lnTo>
                  <a:pt x="250" y="1586"/>
                </a:lnTo>
                <a:lnTo>
                  <a:pt x="246" y="1576"/>
                </a:lnTo>
                <a:lnTo>
                  <a:pt x="240" y="1567"/>
                </a:lnTo>
                <a:lnTo>
                  <a:pt x="234" y="1555"/>
                </a:lnTo>
                <a:lnTo>
                  <a:pt x="229" y="1546"/>
                </a:lnTo>
                <a:lnTo>
                  <a:pt x="221" y="1536"/>
                </a:lnTo>
                <a:lnTo>
                  <a:pt x="213" y="1526"/>
                </a:lnTo>
                <a:lnTo>
                  <a:pt x="204" y="1519"/>
                </a:lnTo>
                <a:lnTo>
                  <a:pt x="194" y="1509"/>
                </a:lnTo>
                <a:lnTo>
                  <a:pt x="183" y="1500"/>
                </a:lnTo>
                <a:lnTo>
                  <a:pt x="171" y="1492"/>
                </a:lnTo>
                <a:lnTo>
                  <a:pt x="160" y="1482"/>
                </a:lnTo>
                <a:lnTo>
                  <a:pt x="146" y="1473"/>
                </a:lnTo>
                <a:lnTo>
                  <a:pt x="131" y="1465"/>
                </a:lnTo>
                <a:lnTo>
                  <a:pt x="117" y="14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33"/>
          <p:cNvSpPr/>
          <p:nvPr/>
        </p:nvSpPr>
        <p:spPr>
          <a:xfrm>
            <a:off x="6780240" y="3857760"/>
            <a:ext cx="128520" cy="641160"/>
          </a:xfrm>
          <a:custGeom>
            <a:avLst/>
            <a:gdLst/>
            <a:ahLst/>
            <a:rect l="l" t="t" r="r" b="b"/>
            <a:pathLst>
              <a:path w="161" h="808">
                <a:moveTo>
                  <a:pt x="31" y="761"/>
                </a:moveTo>
                <a:lnTo>
                  <a:pt x="29" y="753"/>
                </a:lnTo>
                <a:lnTo>
                  <a:pt x="27" y="745"/>
                </a:lnTo>
                <a:lnTo>
                  <a:pt x="25" y="736"/>
                </a:lnTo>
                <a:lnTo>
                  <a:pt x="23" y="724"/>
                </a:lnTo>
                <a:lnTo>
                  <a:pt x="21" y="711"/>
                </a:lnTo>
                <a:lnTo>
                  <a:pt x="19" y="697"/>
                </a:lnTo>
                <a:lnTo>
                  <a:pt x="17" y="684"/>
                </a:lnTo>
                <a:lnTo>
                  <a:pt x="15" y="666"/>
                </a:lnTo>
                <a:lnTo>
                  <a:pt x="15" y="649"/>
                </a:lnTo>
                <a:lnTo>
                  <a:pt x="15" y="632"/>
                </a:lnTo>
                <a:lnTo>
                  <a:pt x="13" y="613"/>
                </a:lnTo>
                <a:lnTo>
                  <a:pt x="13" y="594"/>
                </a:lnTo>
                <a:lnTo>
                  <a:pt x="15" y="572"/>
                </a:lnTo>
                <a:lnTo>
                  <a:pt x="15" y="549"/>
                </a:lnTo>
                <a:lnTo>
                  <a:pt x="17" y="526"/>
                </a:lnTo>
                <a:lnTo>
                  <a:pt x="19" y="503"/>
                </a:lnTo>
                <a:lnTo>
                  <a:pt x="21" y="480"/>
                </a:lnTo>
                <a:lnTo>
                  <a:pt x="21" y="455"/>
                </a:lnTo>
                <a:lnTo>
                  <a:pt x="23" y="409"/>
                </a:lnTo>
                <a:lnTo>
                  <a:pt x="23" y="363"/>
                </a:lnTo>
                <a:lnTo>
                  <a:pt x="21" y="319"/>
                </a:lnTo>
                <a:lnTo>
                  <a:pt x="19" y="275"/>
                </a:lnTo>
                <a:lnTo>
                  <a:pt x="15" y="235"/>
                </a:lnTo>
                <a:lnTo>
                  <a:pt x="11" y="192"/>
                </a:lnTo>
                <a:lnTo>
                  <a:pt x="8" y="152"/>
                </a:lnTo>
                <a:lnTo>
                  <a:pt x="6" y="133"/>
                </a:lnTo>
                <a:lnTo>
                  <a:pt x="4" y="116"/>
                </a:lnTo>
                <a:lnTo>
                  <a:pt x="2" y="100"/>
                </a:lnTo>
                <a:lnTo>
                  <a:pt x="0" y="85"/>
                </a:lnTo>
                <a:lnTo>
                  <a:pt x="0" y="71"/>
                </a:lnTo>
                <a:lnTo>
                  <a:pt x="0" y="58"/>
                </a:lnTo>
                <a:lnTo>
                  <a:pt x="0" y="46"/>
                </a:lnTo>
                <a:lnTo>
                  <a:pt x="0" y="37"/>
                </a:lnTo>
                <a:lnTo>
                  <a:pt x="0" y="27"/>
                </a:lnTo>
                <a:lnTo>
                  <a:pt x="2" y="21"/>
                </a:lnTo>
                <a:lnTo>
                  <a:pt x="4" y="14"/>
                </a:lnTo>
                <a:lnTo>
                  <a:pt x="6" y="10"/>
                </a:lnTo>
                <a:lnTo>
                  <a:pt x="8" y="6"/>
                </a:lnTo>
                <a:lnTo>
                  <a:pt x="11" y="2"/>
                </a:lnTo>
                <a:lnTo>
                  <a:pt x="15" y="0"/>
                </a:lnTo>
                <a:lnTo>
                  <a:pt x="19" y="0"/>
                </a:lnTo>
                <a:lnTo>
                  <a:pt x="21" y="0"/>
                </a:lnTo>
                <a:lnTo>
                  <a:pt x="25" y="0"/>
                </a:lnTo>
                <a:lnTo>
                  <a:pt x="27" y="2"/>
                </a:lnTo>
                <a:lnTo>
                  <a:pt x="33" y="2"/>
                </a:lnTo>
                <a:lnTo>
                  <a:pt x="36" y="4"/>
                </a:lnTo>
                <a:lnTo>
                  <a:pt x="40" y="6"/>
                </a:lnTo>
                <a:lnTo>
                  <a:pt x="52" y="10"/>
                </a:lnTo>
                <a:lnTo>
                  <a:pt x="65" y="16"/>
                </a:lnTo>
                <a:lnTo>
                  <a:pt x="73" y="20"/>
                </a:lnTo>
                <a:lnTo>
                  <a:pt x="79" y="25"/>
                </a:lnTo>
                <a:lnTo>
                  <a:pt x="86" y="29"/>
                </a:lnTo>
                <a:lnTo>
                  <a:pt x="96" y="35"/>
                </a:lnTo>
                <a:lnTo>
                  <a:pt x="104" y="41"/>
                </a:lnTo>
                <a:lnTo>
                  <a:pt x="111" y="46"/>
                </a:lnTo>
                <a:lnTo>
                  <a:pt x="125" y="60"/>
                </a:lnTo>
                <a:lnTo>
                  <a:pt x="134" y="71"/>
                </a:lnTo>
                <a:lnTo>
                  <a:pt x="144" y="83"/>
                </a:lnTo>
                <a:lnTo>
                  <a:pt x="148" y="89"/>
                </a:lnTo>
                <a:lnTo>
                  <a:pt x="152" y="94"/>
                </a:lnTo>
                <a:lnTo>
                  <a:pt x="155" y="100"/>
                </a:lnTo>
                <a:lnTo>
                  <a:pt x="157" y="104"/>
                </a:lnTo>
                <a:lnTo>
                  <a:pt x="159" y="110"/>
                </a:lnTo>
                <a:lnTo>
                  <a:pt x="161" y="116"/>
                </a:lnTo>
                <a:lnTo>
                  <a:pt x="161" y="121"/>
                </a:lnTo>
                <a:lnTo>
                  <a:pt x="161" y="127"/>
                </a:lnTo>
                <a:lnTo>
                  <a:pt x="159" y="135"/>
                </a:lnTo>
                <a:lnTo>
                  <a:pt x="157" y="140"/>
                </a:lnTo>
                <a:lnTo>
                  <a:pt x="155" y="148"/>
                </a:lnTo>
                <a:lnTo>
                  <a:pt x="153" y="156"/>
                </a:lnTo>
                <a:lnTo>
                  <a:pt x="152" y="167"/>
                </a:lnTo>
                <a:lnTo>
                  <a:pt x="150" y="179"/>
                </a:lnTo>
                <a:lnTo>
                  <a:pt x="148" y="190"/>
                </a:lnTo>
                <a:lnTo>
                  <a:pt x="146" y="206"/>
                </a:lnTo>
                <a:lnTo>
                  <a:pt x="144" y="221"/>
                </a:lnTo>
                <a:lnTo>
                  <a:pt x="142" y="238"/>
                </a:lnTo>
                <a:lnTo>
                  <a:pt x="140" y="258"/>
                </a:lnTo>
                <a:lnTo>
                  <a:pt x="138" y="279"/>
                </a:lnTo>
                <a:lnTo>
                  <a:pt x="138" y="300"/>
                </a:lnTo>
                <a:lnTo>
                  <a:pt x="136" y="323"/>
                </a:lnTo>
                <a:lnTo>
                  <a:pt x="136" y="348"/>
                </a:lnTo>
                <a:lnTo>
                  <a:pt x="136" y="375"/>
                </a:lnTo>
                <a:lnTo>
                  <a:pt x="134" y="403"/>
                </a:lnTo>
                <a:lnTo>
                  <a:pt x="134" y="434"/>
                </a:lnTo>
                <a:lnTo>
                  <a:pt x="134" y="465"/>
                </a:lnTo>
                <a:lnTo>
                  <a:pt x="134" y="496"/>
                </a:lnTo>
                <a:lnTo>
                  <a:pt x="134" y="524"/>
                </a:lnTo>
                <a:lnTo>
                  <a:pt x="134" y="551"/>
                </a:lnTo>
                <a:lnTo>
                  <a:pt x="134" y="576"/>
                </a:lnTo>
                <a:lnTo>
                  <a:pt x="134" y="601"/>
                </a:lnTo>
                <a:lnTo>
                  <a:pt x="134" y="622"/>
                </a:lnTo>
                <a:lnTo>
                  <a:pt x="132" y="643"/>
                </a:lnTo>
                <a:lnTo>
                  <a:pt x="132" y="663"/>
                </a:lnTo>
                <a:lnTo>
                  <a:pt x="132" y="680"/>
                </a:lnTo>
                <a:lnTo>
                  <a:pt x="130" y="695"/>
                </a:lnTo>
                <a:lnTo>
                  <a:pt x="130" y="709"/>
                </a:lnTo>
                <a:lnTo>
                  <a:pt x="128" y="722"/>
                </a:lnTo>
                <a:lnTo>
                  <a:pt x="127" y="732"/>
                </a:lnTo>
                <a:lnTo>
                  <a:pt x="125" y="741"/>
                </a:lnTo>
                <a:lnTo>
                  <a:pt x="123" y="749"/>
                </a:lnTo>
                <a:lnTo>
                  <a:pt x="119" y="762"/>
                </a:lnTo>
                <a:lnTo>
                  <a:pt x="115" y="772"/>
                </a:lnTo>
                <a:lnTo>
                  <a:pt x="109" y="784"/>
                </a:lnTo>
                <a:lnTo>
                  <a:pt x="105" y="791"/>
                </a:lnTo>
                <a:lnTo>
                  <a:pt x="102" y="799"/>
                </a:lnTo>
                <a:lnTo>
                  <a:pt x="100" y="801"/>
                </a:lnTo>
                <a:lnTo>
                  <a:pt x="98" y="803"/>
                </a:lnTo>
                <a:lnTo>
                  <a:pt x="94" y="805"/>
                </a:lnTo>
                <a:lnTo>
                  <a:pt x="92" y="807"/>
                </a:lnTo>
                <a:lnTo>
                  <a:pt x="90" y="807"/>
                </a:lnTo>
                <a:lnTo>
                  <a:pt x="88" y="808"/>
                </a:lnTo>
                <a:lnTo>
                  <a:pt x="82" y="807"/>
                </a:lnTo>
                <a:lnTo>
                  <a:pt x="77" y="805"/>
                </a:lnTo>
                <a:lnTo>
                  <a:pt x="71" y="803"/>
                </a:lnTo>
                <a:lnTo>
                  <a:pt x="63" y="797"/>
                </a:lnTo>
                <a:lnTo>
                  <a:pt x="56" y="791"/>
                </a:lnTo>
                <a:lnTo>
                  <a:pt x="52" y="787"/>
                </a:lnTo>
                <a:lnTo>
                  <a:pt x="48" y="784"/>
                </a:lnTo>
                <a:lnTo>
                  <a:pt x="44" y="778"/>
                </a:lnTo>
                <a:lnTo>
                  <a:pt x="38" y="772"/>
                </a:lnTo>
                <a:lnTo>
                  <a:pt x="34" y="766"/>
                </a:lnTo>
                <a:lnTo>
                  <a:pt x="31" y="7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34"/>
          <p:cNvSpPr/>
          <p:nvPr/>
        </p:nvSpPr>
        <p:spPr>
          <a:xfrm>
            <a:off x="6232680" y="3821040"/>
            <a:ext cx="426960" cy="1150920"/>
          </a:xfrm>
          <a:custGeom>
            <a:avLst/>
            <a:gdLst/>
            <a:ahLst/>
            <a:rect l="l" t="t" r="r" b="b"/>
            <a:pathLst>
              <a:path w="537" h="1450">
                <a:moveTo>
                  <a:pt x="232" y="1252"/>
                </a:moveTo>
                <a:lnTo>
                  <a:pt x="222" y="1240"/>
                </a:lnTo>
                <a:lnTo>
                  <a:pt x="213" y="1231"/>
                </a:lnTo>
                <a:lnTo>
                  <a:pt x="205" y="1221"/>
                </a:lnTo>
                <a:lnTo>
                  <a:pt x="198" y="1213"/>
                </a:lnTo>
                <a:lnTo>
                  <a:pt x="192" y="1206"/>
                </a:lnTo>
                <a:lnTo>
                  <a:pt x="186" y="1198"/>
                </a:lnTo>
                <a:lnTo>
                  <a:pt x="180" y="1192"/>
                </a:lnTo>
                <a:lnTo>
                  <a:pt x="176" y="1187"/>
                </a:lnTo>
                <a:lnTo>
                  <a:pt x="174" y="1181"/>
                </a:lnTo>
                <a:lnTo>
                  <a:pt x="173" y="1177"/>
                </a:lnTo>
                <a:lnTo>
                  <a:pt x="171" y="1173"/>
                </a:lnTo>
                <a:lnTo>
                  <a:pt x="171" y="1169"/>
                </a:lnTo>
                <a:lnTo>
                  <a:pt x="171" y="1165"/>
                </a:lnTo>
                <a:lnTo>
                  <a:pt x="171" y="1164"/>
                </a:lnTo>
                <a:lnTo>
                  <a:pt x="173" y="1160"/>
                </a:lnTo>
                <a:lnTo>
                  <a:pt x="174" y="1158"/>
                </a:lnTo>
                <a:lnTo>
                  <a:pt x="176" y="1156"/>
                </a:lnTo>
                <a:lnTo>
                  <a:pt x="178" y="1154"/>
                </a:lnTo>
                <a:lnTo>
                  <a:pt x="182" y="1154"/>
                </a:lnTo>
                <a:lnTo>
                  <a:pt x="186" y="1152"/>
                </a:lnTo>
                <a:lnTo>
                  <a:pt x="194" y="1154"/>
                </a:lnTo>
                <a:lnTo>
                  <a:pt x="198" y="1154"/>
                </a:lnTo>
                <a:lnTo>
                  <a:pt x="203" y="1154"/>
                </a:lnTo>
                <a:lnTo>
                  <a:pt x="209" y="1156"/>
                </a:lnTo>
                <a:lnTo>
                  <a:pt x="215" y="1158"/>
                </a:lnTo>
                <a:lnTo>
                  <a:pt x="222" y="1160"/>
                </a:lnTo>
                <a:lnTo>
                  <a:pt x="230" y="1162"/>
                </a:lnTo>
                <a:lnTo>
                  <a:pt x="238" y="1164"/>
                </a:lnTo>
                <a:lnTo>
                  <a:pt x="247" y="1165"/>
                </a:lnTo>
                <a:lnTo>
                  <a:pt x="257" y="1167"/>
                </a:lnTo>
                <a:lnTo>
                  <a:pt x="267" y="1169"/>
                </a:lnTo>
                <a:lnTo>
                  <a:pt x="284" y="1173"/>
                </a:lnTo>
                <a:lnTo>
                  <a:pt x="299" y="1177"/>
                </a:lnTo>
                <a:lnTo>
                  <a:pt x="313" y="1177"/>
                </a:lnTo>
                <a:lnTo>
                  <a:pt x="326" y="1179"/>
                </a:lnTo>
                <a:lnTo>
                  <a:pt x="338" y="1177"/>
                </a:lnTo>
                <a:lnTo>
                  <a:pt x="341" y="1177"/>
                </a:lnTo>
                <a:lnTo>
                  <a:pt x="347" y="1177"/>
                </a:lnTo>
                <a:lnTo>
                  <a:pt x="351" y="1175"/>
                </a:lnTo>
                <a:lnTo>
                  <a:pt x="355" y="1173"/>
                </a:lnTo>
                <a:lnTo>
                  <a:pt x="357" y="1171"/>
                </a:lnTo>
                <a:lnTo>
                  <a:pt x="361" y="1169"/>
                </a:lnTo>
                <a:lnTo>
                  <a:pt x="361" y="1167"/>
                </a:lnTo>
                <a:lnTo>
                  <a:pt x="363" y="1164"/>
                </a:lnTo>
                <a:lnTo>
                  <a:pt x="363" y="1158"/>
                </a:lnTo>
                <a:lnTo>
                  <a:pt x="364" y="1154"/>
                </a:lnTo>
                <a:lnTo>
                  <a:pt x="364" y="1148"/>
                </a:lnTo>
                <a:lnTo>
                  <a:pt x="364" y="1140"/>
                </a:lnTo>
                <a:lnTo>
                  <a:pt x="366" y="1133"/>
                </a:lnTo>
                <a:lnTo>
                  <a:pt x="366" y="1123"/>
                </a:lnTo>
                <a:lnTo>
                  <a:pt x="366" y="1114"/>
                </a:lnTo>
                <a:lnTo>
                  <a:pt x="368" y="1104"/>
                </a:lnTo>
                <a:lnTo>
                  <a:pt x="368" y="1093"/>
                </a:lnTo>
                <a:lnTo>
                  <a:pt x="368" y="1079"/>
                </a:lnTo>
                <a:lnTo>
                  <a:pt x="368" y="1066"/>
                </a:lnTo>
                <a:lnTo>
                  <a:pt x="368" y="1052"/>
                </a:lnTo>
                <a:lnTo>
                  <a:pt x="370" y="1037"/>
                </a:lnTo>
                <a:lnTo>
                  <a:pt x="370" y="1021"/>
                </a:lnTo>
                <a:lnTo>
                  <a:pt x="370" y="1004"/>
                </a:lnTo>
                <a:lnTo>
                  <a:pt x="370" y="987"/>
                </a:lnTo>
                <a:lnTo>
                  <a:pt x="370" y="970"/>
                </a:lnTo>
                <a:lnTo>
                  <a:pt x="370" y="950"/>
                </a:lnTo>
                <a:lnTo>
                  <a:pt x="370" y="929"/>
                </a:lnTo>
                <a:lnTo>
                  <a:pt x="370" y="910"/>
                </a:lnTo>
                <a:lnTo>
                  <a:pt x="370" y="887"/>
                </a:lnTo>
                <a:lnTo>
                  <a:pt x="370" y="864"/>
                </a:lnTo>
                <a:lnTo>
                  <a:pt x="370" y="841"/>
                </a:lnTo>
                <a:lnTo>
                  <a:pt x="370" y="818"/>
                </a:lnTo>
                <a:lnTo>
                  <a:pt x="370" y="793"/>
                </a:lnTo>
                <a:lnTo>
                  <a:pt x="372" y="766"/>
                </a:lnTo>
                <a:lnTo>
                  <a:pt x="372" y="739"/>
                </a:lnTo>
                <a:lnTo>
                  <a:pt x="372" y="712"/>
                </a:lnTo>
                <a:lnTo>
                  <a:pt x="372" y="684"/>
                </a:lnTo>
                <a:lnTo>
                  <a:pt x="372" y="655"/>
                </a:lnTo>
                <a:lnTo>
                  <a:pt x="372" y="626"/>
                </a:lnTo>
                <a:lnTo>
                  <a:pt x="372" y="597"/>
                </a:lnTo>
                <a:lnTo>
                  <a:pt x="372" y="570"/>
                </a:lnTo>
                <a:lnTo>
                  <a:pt x="372" y="544"/>
                </a:lnTo>
                <a:lnTo>
                  <a:pt x="370" y="517"/>
                </a:lnTo>
                <a:lnTo>
                  <a:pt x="370" y="494"/>
                </a:lnTo>
                <a:lnTo>
                  <a:pt x="370" y="469"/>
                </a:lnTo>
                <a:lnTo>
                  <a:pt x="370" y="446"/>
                </a:lnTo>
                <a:lnTo>
                  <a:pt x="370" y="425"/>
                </a:lnTo>
                <a:lnTo>
                  <a:pt x="370" y="403"/>
                </a:lnTo>
                <a:lnTo>
                  <a:pt x="370" y="382"/>
                </a:lnTo>
                <a:lnTo>
                  <a:pt x="370" y="363"/>
                </a:lnTo>
                <a:lnTo>
                  <a:pt x="370" y="344"/>
                </a:lnTo>
                <a:lnTo>
                  <a:pt x="370" y="327"/>
                </a:lnTo>
                <a:lnTo>
                  <a:pt x="370" y="309"/>
                </a:lnTo>
                <a:lnTo>
                  <a:pt x="370" y="294"/>
                </a:lnTo>
                <a:lnTo>
                  <a:pt x="370" y="279"/>
                </a:lnTo>
                <a:lnTo>
                  <a:pt x="368" y="263"/>
                </a:lnTo>
                <a:lnTo>
                  <a:pt x="368" y="250"/>
                </a:lnTo>
                <a:lnTo>
                  <a:pt x="368" y="238"/>
                </a:lnTo>
                <a:lnTo>
                  <a:pt x="368" y="227"/>
                </a:lnTo>
                <a:lnTo>
                  <a:pt x="368" y="215"/>
                </a:lnTo>
                <a:lnTo>
                  <a:pt x="366" y="206"/>
                </a:lnTo>
                <a:lnTo>
                  <a:pt x="366" y="196"/>
                </a:lnTo>
                <a:lnTo>
                  <a:pt x="366" y="186"/>
                </a:lnTo>
                <a:lnTo>
                  <a:pt x="364" y="179"/>
                </a:lnTo>
                <a:lnTo>
                  <a:pt x="364" y="173"/>
                </a:lnTo>
                <a:lnTo>
                  <a:pt x="364" y="167"/>
                </a:lnTo>
                <a:lnTo>
                  <a:pt x="363" y="162"/>
                </a:lnTo>
                <a:lnTo>
                  <a:pt x="363" y="158"/>
                </a:lnTo>
                <a:lnTo>
                  <a:pt x="361" y="154"/>
                </a:lnTo>
                <a:lnTo>
                  <a:pt x="361" y="152"/>
                </a:lnTo>
                <a:lnTo>
                  <a:pt x="355" y="148"/>
                </a:lnTo>
                <a:lnTo>
                  <a:pt x="349" y="142"/>
                </a:lnTo>
                <a:lnTo>
                  <a:pt x="343" y="139"/>
                </a:lnTo>
                <a:lnTo>
                  <a:pt x="336" y="135"/>
                </a:lnTo>
                <a:lnTo>
                  <a:pt x="330" y="133"/>
                </a:lnTo>
                <a:lnTo>
                  <a:pt x="324" y="131"/>
                </a:lnTo>
                <a:lnTo>
                  <a:pt x="318" y="129"/>
                </a:lnTo>
                <a:lnTo>
                  <a:pt x="313" y="129"/>
                </a:lnTo>
                <a:lnTo>
                  <a:pt x="309" y="129"/>
                </a:lnTo>
                <a:lnTo>
                  <a:pt x="301" y="129"/>
                </a:lnTo>
                <a:lnTo>
                  <a:pt x="292" y="129"/>
                </a:lnTo>
                <a:lnTo>
                  <a:pt x="280" y="131"/>
                </a:lnTo>
                <a:lnTo>
                  <a:pt x="269" y="131"/>
                </a:lnTo>
                <a:lnTo>
                  <a:pt x="253" y="133"/>
                </a:lnTo>
                <a:lnTo>
                  <a:pt x="236" y="133"/>
                </a:lnTo>
                <a:lnTo>
                  <a:pt x="217" y="135"/>
                </a:lnTo>
                <a:lnTo>
                  <a:pt x="198" y="137"/>
                </a:lnTo>
                <a:lnTo>
                  <a:pt x="174" y="139"/>
                </a:lnTo>
                <a:lnTo>
                  <a:pt x="150" y="140"/>
                </a:lnTo>
                <a:lnTo>
                  <a:pt x="125" y="142"/>
                </a:lnTo>
                <a:lnTo>
                  <a:pt x="96" y="144"/>
                </a:lnTo>
                <a:lnTo>
                  <a:pt x="65" y="146"/>
                </a:lnTo>
                <a:lnTo>
                  <a:pt x="34" y="150"/>
                </a:lnTo>
                <a:lnTo>
                  <a:pt x="0" y="152"/>
                </a:lnTo>
                <a:lnTo>
                  <a:pt x="0" y="117"/>
                </a:lnTo>
                <a:lnTo>
                  <a:pt x="0" y="81"/>
                </a:lnTo>
                <a:lnTo>
                  <a:pt x="7" y="81"/>
                </a:lnTo>
                <a:lnTo>
                  <a:pt x="13" y="81"/>
                </a:lnTo>
                <a:lnTo>
                  <a:pt x="23" y="81"/>
                </a:lnTo>
                <a:lnTo>
                  <a:pt x="31" y="79"/>
                </a:lnTo>
                <a:lnTo>
                  <a:pt x="40" y="79"/>
                </a:lnTo>
                <a:lnTo>
                  <a:pt x="50" y="77"/>
                </a:lnTo>
                <a:lnTo>
                  <a:pt x="59" y="75"/>
                </a:lnTo>
                <a:lnTo>
                  <a:pt x="69" y="73"/>
                </a:lnTo>
                <a:lnTo>
                  <a:pt x="80" y="73"/>
                </a:lnTo>
                <a:lnTo>
                  <a:pt x="92" y="71"/>
                </a:lnTo>
                <a:lnTo>
                  <a:pt x="105" y="69"/>
                </a:lnTo>
                <a:lnTo>
                  <a:pt x="117" y="67"/>
                </a:lnTo>
                <a:lnTo>
                  <a:pt x="130" y="64"/>
                </a:lnTo>
                <a:lnTo>
                  <a:pt x="144" y="62"/>
                </a:lnTo>
                <a:lnTo>
                  <a:pt x="159" y="60"/>
                </a:lnTo>
                <a:lnTo>
                  <a:pt x="174" y="58"/>
                </a:lnTo>
                <a:lnTo>
                  <a:pt x="188" y="56"/>
                </a:lnTo>
                <a:lnTo>
                  <a:pt x="203" y="52"/>
                </a:lnTo>
                <a:lnTo>
                  <a:pt x="217" y="50"/>
                </a:lnTo>
                <a:lnTo>
                  <a:pt x="228" y="46"/>
                </a:lnTo>
                <a:lnTo>
                  <a:pt x="240" y="44"/>
                </a:lnTo>
                <a:lnTo>
                  <a:pt x="251" y="41"/>
                </a:lnTo>
                <a:lnTo>
                  <a:pt x="261" y="37"/>
                </a:lnTo>
                <a:lnTo>
                  <a:pt x="270" y="35"/>
                </a:lnTo>
                <a:lnTo>
                  <a:pt x="278" y="31"/>
                </a:lnTo>
                <a:lnTo>
                  <a:pt x="286" y="27"/>
                </a:lnTo>
                <a:lnTo>
                  <a:pt x="292" y="25"/>
                </a:lnTo>
                <a:lnTo>
                  <a:pt x="297" y="21"/>
                </a:lnTo>
                <a:lnTo>
                  <a:pt x="303" y="19"/>
                </a:lnTo>
                <a:lnTo>
                  <a:pt x="307" y="16"/>
                </a:lnTo>
                <a:lnTo>
                  <a:pt x="311" y="14"/>
                </a:lnTo>
                <a:lnTo>
                  <a:pt x="313" y="12"/>
                </a:lnTo>
                <a:lnTo>
                  <a:pt x="318" y="8"/>
                </a:lnTo>
                <a:lnTo>
                  <a:pt x="322" y="4"/>
                </a:lnTo>
                <a:lnTo>
                  <a:pt x="326" y="2"/>
                </a:lnTo>
                <a:lnTo>
                  <a:pt x="332" y="0"/>
                </a:lnTo>
                <a:lnTo>
                  <a:pt x="338" y="0"/>
                </a:lnTo>
                <a:lnTo>
                  <a:pt x="343" y="0"/>
                </a:lnTo>
                <a:lnTo>
                  <a:pt x="351" y="0"/>
                </a:lnTo>
                <a:lnTo>
                  <a:pt x="361" y="0"/>
                </a:lnTo>
                <a:lnTo>
                  <a:pt x="363" y="0"/>
                </a:lnTo>
                <a:lnTo>
                  <a:pt x="364" y="0"/>
                </a:lnTo>
                <a:lnTo>
                  <a:pt x="368" y="0"/>
                </a:lnTo>
                <a:lnTo>
                  <a:pt x="372" y="2"/>
                </a:lnTo>
                <a:lnTo>
                  <a:pt x="382" y="4"/>
                </a:lnTo>
                <a:lnTo>
                  <a:pt x="393" y="8"/>
                </a:lnTo>
                <a:lnTo>
                  <a:pt x="407" y="14"/>
                </a:lnTo>
                <a:lnTo>
                  <a:pt x="420" y="19"/>
                </a:lnTo>
                <a:lnTo>
                  <a:pt x="436" y="27"/>
                </a:lnTo>
                <a:lnTo>
                  <a:pt x="453" y="35"/>
                </a:lnTo>
                <a:lnTo>
                  <a:pt x="460" y="41"/>
                </a:lnTo>
                <a:lnTo>
                  <a:pt x="468" y="48"/>
                </a:lnTo>
                <a:lnTo>
                  <a:pt x="476" y="54"/>
                </a:lnTo>
                <a:lnTo>
                  <a:pt x="484" y="60"/>
                </a:lnTo>
                <a:lnTo>
                  <a:pt x="495" y="69"/>
                </a:lnTo>
                <a:lnTo>
                  <a:pt x="507" y="79"/>
                </a:lnTo>
                <a:lnTo>
                  <a:pt x="514" y="87"/>
                </a:lnTo>
                <a:lnTo>
                  <a:pt x="522" y="94"/>
                </a:lnTo>
                <a:lnTo>
                  <a:pt x="528" y="100"/>
                </a:lnTo>
                <a:lnTo>
                  <a:pt x="533" y="106"/>
                </a:lnTo>
                <a:lnTo>
                  <a:pt x="535" y="110"/>
                </a:lnTo>
                <a:lnTo>
                  <a:pt x="537" y="114"/>
                </a:lnTo>
                <a:lnTo>
                  <a:pt x="537" y="123"/>
                </a:lnTo>
                <a:lnTo>
                  <a:pt x="537" y="131"/>
                </a:lnTo>
                <a:lnTo>
                  <a:pt x="537" y="139"/>
                </a:lnTo>
                <a:lnTo>
                  <a:pt x="533" y="146"/>
                </a:lnTo>
                <a:lnTo>
                  <a:pt x="530" y="152"/>
                </a:lnTo>
                <a:lnTo>
                  <a:pt x="526" y="158"/>
                </a:lnTo>
                <a:lnTo>
                  <a:pt x="522" y="163"/>
                </a:lnTo>
                <a:lnTo>
                  <a:pt x="520" y="165"/>
                </a:lnTo>
                <a:lnTo>
                  <a:pt x="518" y="167"/>
                </a:lnTo>
                <a:lnTo>
                  <a:pt x="516" y="169"/>
                </a:lnTo>
                <a:lnTo>
                  <a:pt x="514" y="173"/>
                </a:lnTo>
                <a:lnTo>
                  <a:pt x="512" y="177"/>
                </a:lnTo>
                <a:lnTo>
                  <a:pt x="510" y="183"/>
                </a:lnTo>
                <a:lnTo>
                  <a:pt x="508" y="188"/>
                </a:lnTo>
                <a:lnTo>
                  <a:pt x="507" y="194"/>
                </a:lnTo>
                <a:lnTo>
                  <a:pt x="505" y="200"/>
                </a:lnTo>
                <a:lnTo>
                  <a:pt x="505" y="208"/>
                </a:lnTo>
                <a:lnTo>
                  <a:pt x="503" y="215"/>
                </a:lnTo>
                <a:lnTo>
                  <a:pt x="501" y="225"/>
                </a:lnTo>
                <a:lnTo>
                  <a:pt x="501" y="234"/>
                </a:lnTo>
                <a:lnTo>
                  <a:pt x="499" y="244"/>
                </a:lnTo>
                <a:lnTo>
                  <a:pt x="499" y="254"/>
                </a:lnTo>
                <a:lnTo>
                  <a:pt x="497" y="265"/>
                </a:lnTo>
                <a:lnTo>
                  <a:pt x="497" y="277"/>
                </a:lnTo>
                <a:lnTo>
                  <a:pt x="497" y="290"/>
                </a:lnTo>
                <a:lnTo>
                  <a:pt x="495" y="304"/>
                </a:lnTo>
                <a:lnTo>
                  <a:pt x="495" y="317"/>
                </a:lnTo>
                <a:lnTo>
                  <a:pt x="495" y="330"/>
                </a:lnTo>
                <a:lnTo>
                  <a:pt x="495" y="346"/>
                </a:lnTo>
                <a:lnTo>
                  <a:pt x="495" y="361"/>
                </a:lnTo>
                <a:lnTo>
                  <a:pt x="495" y="377"/>
                </a:lnTo>
                <a:lnTo>
                  <a:pt x="495" y="394"/>
                </a:lnTo>
                <a:lnTo>
                  <a:pt x="495" y="411"/>
                </a:lnTo>
                <a:lnTo>
                  <a:pt x="495" y="428"/>
                </a:lnTo>
                <a:lnTo>
                  <a:pt x="495" y="448"/>
                </a:lnTo>
                <a:lnTo>
                  <a:pt x="497" y="467"/>
                </a:lnTo>
                <a:lnTo>
                  <a:pt x="497" y="486"/>
                </a:lnTo>
                <a:lnTo>
                  <a:pt x="497" y="505"/>
                </a:lnTo>
                <a:lnTo>
                  <a:pt x="499" y="526"/>
                </a:lnTo>
                <a:lnTo>
                  <a:pt x="499" y="567"/>
                </a:lnTo>
                <a:lnTo>
                  <a:pt x="499" y="607"/>
                </a:lnTo>
                <a:lnTo>
                  <a:pt x="499" y="645"/>
                </a:lnTo>
                <a:lnTo>
                  <a:pt x="499" y="684"/>
                </a:lnTo>
                <a:lnTo>
                  <a:pt x="499" y="720"/>
                </a:lnTo>
                <a:lnTo>
                  <a:pt x="499" y="757"/>
                </a:lnTo>
                <a:lnTo>
                  <a:pt x="499" y="791"/>
                </a:lnTo>
                <a:lnTo>
                  <a:pt x="499" y="824"/>
                </a:lnTo>
                <a:lnTo>
                  <a:pt x="499" y="856"/>
                </a:lnTo>
                <a:lnTo>
                  <a:pt x="499" y="887"/>
                </a:lnTo>
                <a:lnTo>
                  <a:pt x="499" y="918"/>
                </a:lnTo>
                <a:lnTo>
                  <a:pt x="499" y="947"/>
                </a:lnTo>
                <a:lnTo>
                  <a:pt x="499" y="975"/>
                </a:lnTo>
                <a:lnTo>
                  <a:pt x="499" y="1002"/>
                </a:lnTo>
                <a:lnTo>
                  <a:pt x="499" y="1027"/>
                </a:lnTo>
                <a:lnTo>
                  <a:pt x="499" y="1052"/>
                </a:lnTo>
                <a:lnTo>
                  <a:pt x="499" y="1075"/>
                </a:lnTo>
                <a:lnTo>
                  <a:pt x="497" y="1098"/>
                </a:lnTo>
                <a:lnTo>
                  <a:pt x="497" y="1121"/>
                </a:lnTo>
                <a:lnTo>
                  <a:pt x="495" y="1142"/>
                </a:lnTo>
                <a:lnTo>
                  <a:pt x="493" y="1164"/>
                </a:lnTo>
                <a:lnTo>
                  <a:pt x="489" y="1183"/>
                </a:lnTo>
                <a:lnTo>
                  <a:pt x="485" y="1202"/>
                </a:lnTo>
                <a:lnTo>
                  <a:pt x="484" y="1221"/>
                </a:lnTo>
                <a:lnTo>
                  <a:pt x="478" y="1238"/>
                </a:lnTo>
                <a:lnTo>
                  <a:pt x="474" y="1256"/>
                </a:lnTo>
                <a:lnTo>
                  <a:pt x="470" y="1271"/>
                </a:lnTo>
                <a:lnTo>
                  <a:pt x="464" y="1288"/>
                </a:lnTo>
                <a:lnTo>
                  <a:pt x="459" y="1304"/>
                </a:lnTo>
                <a:lnTo>
                  <a:pt x="453" y="1317"/>
                </a:lnTo>
                <a:lnTo>
                  <a:pt x="447" y="1331"/>
                </a:lnTo>
                <a:lnTo>
                  <a:pt x="441" y="1346"/>
                </a:lnTo>
                <a:lnTo>
                  <a:pt x="434" y="1357"/>
                </a:lnTo>
                <a:lnTo>
                  <a:pt x="428" y="1369"/>
                </a:lnTo>
                <a:lnTo>
                  <a:pt x="422" y="1380"/>
                </a:lnTo>
                <a:lnTo>
                  <a:pt x="414" y="1390"/>
                </a:lnTo>
                <a:lnTo>
                  <a:pt x="409" y="1400"/>
                </a:lnTo>
                <a:lnTo>
                  <a:pt x="403" y="1409"/>
                </a:lnTo>
                <a:lnTo>
                  <a:pt x="397" y="1417"/>
                </a:lnTo>
                <a:lnTo>
                  <a:pt x="389" y="1425"/>
                </a:lnTo>
                <a:lnTo>
                  <a:pt x="384" y="1430"/>
                </a:lnTo>
                <a:lnTo>
                  <a:pt x="378" y="1436"/>
                </a:lnTo>
                <a:lnTo>
                  <a:pt x="372" y="1440"/>
                </a:lnTo>
                <a:lnTo>
                  <a:pt x="368" y="1444"/>
                </a:lnTo>
                <a:lnTo>
                  <a:pt x="363" y="1446"/>
                </a:lnTo>
                <a:lnTo>
                  <a:pt x="357" y="1448"/>
                </a:lnTo>
                <a:lnTo>
                  <a:pt x="353" y="1450"/>
                </a:lnTo>
                <a:lnTo>
                  <a:pt x="347" y="1450"/>
                </a:lnTo>
                <a:lnTo>
                  <a:pt x="343" y="1450"/>
                </a:lnTo>
                <a:lnTo>
                  <a:pt x="340" y="1450"/>
                </a:lnTo>
                <a:lnTo>
                  <a:pt x="336" y="1448"/>
                </a:lnTo>
                <a:lnTo>
                  <a:pt x="332" y="1446"/>
                </a:lnTo>
                <a:lnTo>
                  <a:pt x="330" y="1444"/>
                </a:lnTo>
                <a:lnTo>
                  <a:pt x="326" y="1440"/>
                </a:lnTo>
                <a:lnTo>
                  <a:pt x="322" y="1434"/>
                </a:lnTo>
                <a:lnTo>
                  <a:pt x="318" y="1425"/>
                </a:lnTo>
                <a:lnTo>
                  <a:pt x="315" y="1415"/>
                </a:lnTo>
                <a:lnTo>
                  <a:pt x="315" y="1403"/>
                </a:lnTo>
                <a:lnTo>
                  <a:pt x="313" y="1392"/>
                </a:lnTo>
                <a:lnTo>
                  <a:pt x="313" y="1382"/>
                </a:lnTo>
                <a:lnTo>
                  <a:pt x="313" y="1375"/>
                </a:lnTo>
                <a:lnTo>
                  <a:pt x="311" y="1365"/>
                </a:lnTo>
                <a:lnTo>
                  <a:pt x="309" y="1357"/>
                </a:lnTo>
                <a:lnTo>
                  <a:pt x="307" y="1348"/>
                </a:lnTo>
                <a:lnTo>
                  <a:pt x="303" y="1338"/>
                </a:lnTo>
                <a:lnTo>
                  <a:pt x="299" y="1331"/>
                </a:lnTo>
                <a:lnTo>
                  <a:pt x="293" y="1321"/>
                </a:lnTo>
                <a:lnTo>
                  <a:pt x="290" y="1313"/>
                </a:lnTo>
                <a:lnTo>
                  <a:pt x="284" y="1304"/>
                </a:lnTo>
                <a:lnTo>
                  <a:pt x="276" y="1296"/>
                </a:lnTo>
                <a:lnTo>
                  <a:pt x="269" y="1286"/>
                </a:lnTo>
                <a:lnTo>
                  <a:pt x="261" y="1279"/>
                </a:lnTo>
                <a:lnTo>
                  <a:pt x="251" y="1269"/>
                </a:lnTo>
                <a:lnTo>
                  <a:pt x="242" y="1260"/>
                </a:lnTo>
                <a:lnTo>
                  <a:pt x="232" y="12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35"/>
          <p:cNvSpPr/>
          <p:nvPr/>
        </p:nvSpPr>
        <p:spPr>
          <a:xfrm>
            <a:off x="6118200" y="3867120"/>
            <a:ext cx="160200" cy="957240"/>
          </a:xfrm>
          <a:custGeom>
            <a:avLst/>
            <a:gdLst/>
            <a:ahLst/>
            <a:rect l="l" t="t" r="r" b="b"/>
            <a:pathLst>
              <a:path w="201" h="1205">
                <a:moveTo>
                  <a:pt x="201" y="23"/>
                </a:moveTo>
                <a:lnTo>
                  <a:pt x="201" y="56"/>
                </a:lnTo>
                <a:lnTo>
                  <a:pt x="199" y="88"/>
                </a:lnTo>
                <a:lnTo>
                  <a:pt x="199" y="119"/>
                </a:lnTo>
                <a:lnTo>
                  <a:pt x="198" y="150"/>
                </a:lnTo>
                <a:lnTo>
                  <a:pt x="196" y="180"/>
                </a:lnTo>
                <a:lnTo>
                  <a:pt x="196" y="209"/>
                </a:lnTo>
                <a:lnTo>
                  <a:pt x="194" y="238"/>
                </a:lnTo>
                <a:lnTo>
                  <a:pt x="194" y="267"/>
                </a:lnTo>
                <a:lnTo>
                  <a:pt x="192" y="294"/>
                </a:lnTo>
                <a:lnTo>
                  <a:pt x="192" y="320"/>
                </a:lnTo>
                <a:lnTo>
                  <a:pt x="190" y="347"/>
                </a:lnTo>
                <a:lnTo>
                  <a:pt x="188" y="372"/>
                </a:lnTo>
                <a:lnTo>
                  <a:pt x="188" y="397"/>
                </a:lnTo>
                <a:lnTo>
                  <a:pt x="186" y="422"/>
                </a:lnTo>
                <a:lnTo>
                  <a:pt x="186" y="447"/>
                </a:lnTo>
                <a:lnTo>
                  <a:pt x="184" y="470"/>
                </a:lnTo>
                <a:lnTo>
                  <a:pt x="184" y="491"/>
                </a:lnTo>
                <a:lnTo>
                  <a:pt x="182" y="514"/>
                </a:lnTo>
                <a:lnTo>
                  <a:pt x="180" y="535"/>
                </a:lnTo>
                <a:lnTo>
                  <a:pt x="180" y="555"/>
                </a:lnTo>
                <a:lnTo>
                  <a:pt x="178" y="576"/>
                </a:lnTo>
                <a:lnTo>
                  <a:pt x="178" y="595"/>
                </a:lnTo>
                <a:lnTo>
                  <a:pt x="176" y="612"/>
                </a:lnTo>
                <a:lnTo>
                  <a:pt x="176" y="629"/>
                </a:lnTo>
                <a:lnTo>
                  <a:pt x="175" y="647"/>
                </a:lnTo>
                <a:lnTo>
                  <a:pt x="173" y="664"/>
                </a:lnTo>
                <a:lnTo>
                  <a:pt x="173" y="679"/>
                </a:lnTo>
                <a:lnTo>
                  <a:pt x="171" y="695"/>
                </a:lnTo>
                <a:lnTo>
                  <a:pt x="171" y="710"/>
                </a:lnTo>
                <a:lnTo>
                  <a:pt x="169" y="724"/>
                </a:lnTo>
                <a:lnTo>
                  <a:pt x="169" y="737"/>
                </a:lnTo>
                <a:lnTo>
                  <a:pt x="167" y="749"/>
                </a:lnTo>
                <a:lnTo>
                  <a:pt x="165" y="775"/>
                </a:lnTo>
                <a:lnTo>
                  <a:pt x="163" y="800"/>
                </a:lnTo>
                <a:lnTo>
                  <a:pt x="159" y="823"/>
                </a:lnTo>
                <a:lnTo>
                  <a:pt x="157" y="848"/>
                </a:lnTo>
                <a:lnTo>
                  <a:pt x="153" y="871"/>
                </a:lnTo>
                <a:lnTo>
                  <a:pt x="150" y="892"/>
                </a:lnTo>
                <a:lnTo>
                  <a:pt x="148" y="915"/>
                </a:lnTo>
                <a:lnTo>
                  <a:pt x="144" y="937"/>
                </a:lnTo>
                <a:lnTo>
                  <a:pt x="140" y="956"/>
                </a:lnTo>
                <a:lnTo>
                  <a:pt x="138" y="977"/>
                </a:lnTo>
                <a:lnTo>
                  <a:pt x="134" y="996"/>
                </a:lnTo>
                <a:lnTo>
                  <a:pt x="130" y="1015"/>
                </a:lnTo>
                <a:lnTo>
                  <a:pt x="125" y="1052"/>
                </a:lnTo>
                <a:lnTo>
                  <a:pt x="121" y="1088"/>
                </a:lnTo>
                <a:lnTo>
                  <a:pt x="119" y="1104"/>
                </a:lnTo>
                <a:lnTo>
                  <a:pt x="117" y="1117"/>
                </a:lnTo>
                <a:lnTo>
                  <a:pt x="113" y="1129"/>
                </a:lnTo>
                <a:lnTo>
                  <a:pt x="111" y="1140"/>
                </a:lnTo>
                <a:lnTo>
                  <a:pt x="107" y="1152"/>
                </a:lnTo>
                <a:lnTo>
                  <a:pt x="103" y="1161"/>
                </a:lnTo>
                <a:lnTo>
                  <a:pt x="102" y="1169"/>
                </a:lnTo>
                <a:lnTo>
                  <a:pt x="98" y="1177"/>
                </a:lnTo>
                <a:lnTo>
                  <a:pt x="94" y="1184"/>
                </a:lnTo>
                <a:lnTo>
                  <a:pt x="90" y="1190"/>
                </a:lnTo>
                <a:lnTo>
                  <a:pt x="88" y="1194"/>
                </a:lnTo>
                <a:lnTo>
                  <a:pt x="84" y="1198"/>
                </a:lnTo>
                <a:lnTo>
                  <a:pt x="82" y="1202"/>
                </a:lnTo>
                <a:lnTo>
                  <a:pt x="79" y="1203"/>
                </a:lnTo>
                <a:lnTo>
                  <a:pt x="77" y="1205"/>
                </a:lnTo>
                <a:lnTo>
                  <a:pt x="75" y="1205"/>
                </a:lnTo>
                <a:lnTo>
                  <a:pt x="73" y="1205"/>
                </a:lnTo>
                <a:lnTo>
                  <a:pt x="69" y="1203"/>
                </a:lnTo>
                <a:lnTo>
                  <a:pt x="67" y="1202"/>
                </a:lnTo>
                <a:lnTo>
                  <a:pt x="63" y="1198"/>
                </a:lnTo>
                <a:lnTo>
                  <a:pt x="61" y="1196"/>
                </a:lnTo>
                <a:lnTo>
                  <a:pt x="57" y="1190"/>
                </a:lnTo>
                <a:lnTo>
                  <a:pt x="54" y="1186"/>
                </a:lnTo>
                <a:lnTo>
                  <a:pt x="52" y="1180"/>
                </a:lnTo>
                <a:lnTo>
                  <a:pt x="48" y="1175"/>
                </a:lnTo>
                <a:lnTo>
                  <a:pt x="44" y="1167"/>
                </a:lnTo>
                <a:lnTo>
                  <a:pt x="42" y="1159"/>
                </a:lnTo>
                <a:lnTo>
                  <a:pt x="38" y="1152"/>
                </a:lnTo>
                <a:lnTo>
                  <a:pt x="34" y="1142"/>
                </a:lnTo>
                <a:lnTo>
                  <a:pt x="32" y="1132"/>
                </a:lnTo>
                <a:lnTo>
                  <a:pt x="31" y="1123"/>
                </a:lnTo>
                <a:lnTo>
                  <a:pt x="29" y="1111"/>
                </a:lnTo>
                <a:lnTo>
                  <a:pt x="19" y="1090"/>
                </a:lnTo>
                <a:lnTo>
                  <a:pt x="13" y="1069"/>
                </a:lnTo>
                <a:lnTo>
                  <a:pt x="8" y="1052"/>
                </a:lnTo>
                <a:lnTo>
                  <a:pt x="4" y="1035"/>
                </a:lnTo>
                <a:lnTo>
                  <a:pt x="2" y="1019"/>
                </a:lnTo>
                <a:lnTo>
                  <a:pt x="0" y="1004"/>
                </a:lnTo>
                <a:lnTo>
                  <a:pt x="0" y="998"/>
                </a:lnTo>
                <a:lnTo>
                  <a:pt x="2" y="992"/>
                </a:lnTo>
                <a:lnTo>
                  <a:pt x="4" y="987"/>
                </a:lnTo>
                <a:lnTo>
                  <a:pt x="6" y="983"/>
                </a:lnTo>
                <a:lnTo>
                  <a:pt x="6" y="979"/>
                </a:lnTo>
                <a:lnTo>
                  <a:pt x="6" y="975"/>
                </a:lnTo>
                <a:lnTo>
                  <a:pt x="6" y="969"/>
                </a:lnTo>
                <a:lnTo>
                  <a:pt x="8" y="962"/>
                </a:lnTo>
                <a:lnTo>
                  <a:pt x="8" y="952"/>
                </a:lnTo>
                <a:lnTo>
                  <a:pt x="9" y="940"/>
                </a:lnTo>
                <a:lnTo>
                  <a:pt x="11" y="929"/>
                </a:lnTo>
                <a:lnTo>
                  <a:pt x="13" y="915"/>
                </a:lnTo>
                <a:lnTo>
                  <a:pt x="15" y="900"/>
                </a:lnTo>
                <a:lnTo>
                  <a:pt x="19" y="885"/>
                </a:lnTo>
                <a:lnTo>
                  <a:pt x="21" y="868"/>
                </a:lnTo>
                <a:lnTo>
                  <a:pt x="25" y="848"/>
                </a:lnTo>
                <a:lnTo>
                  <a:pt x="29" y="827"/>
                </a:lnTo>
                <a:lnTo>
                  <a:pt x="32" y="806"/>
                </a:lnTo>
                <a:lnTo>
                  <a:pt x="36" y="785"/>
                </a:lnTo>
                <a:lnTo>
                  <a:pt x="40" y="760"/>
                </a:lnTo>
                <a:lnTo>
                  <a:pt x="48" y="712"/>
                </a:lnTo>
                <a:lnTo>
                  <a:pt x="56" y="662"/>
                </a:lnTo>
                <a:lnTo>
                  <a:pt x="61" y="610"/>
                </a:lnTo>
                <a:lnTo>
                  <a:pt x="67" y="558"/>
                </a:lnTo>
                <a:lnTo>
                  <a:pt x="73" y="505"/>
                </a:lnTo>
                <a:lnTo>
                  <a:pt x="77" y="451"/>
                </a:lnTo>
                <a:lnTo>
                  <a:pt x="82" y="395"/>
                </a:lnTo>
                <a:lnTo>
                  <a:pt x="86" y="340"/>
                </a:lnTo>
                <a:lnTo>
                  <a:pt x="86" y="311"/>
                </a:lnTo>
                <a:lnTo>
                  <a:pt x="86" y="284"/>
                </a:lnTo>
                <a:lnTo>
                  <a:pt x="86" y="259"/>
                </a:lnTo>
                <a:lnTo>
                  <a:pt x="86" y="234"/>
                </a:lnTo>
                <a:lnTo>
                  <a:pt x="86" y="209"/>
                </a:lnTo>
                <a:lnTo>
                  <a:pt x="84" y="186"/>
                </a:lnTo>
                <a:lnTo>
                  <a:pt x="84" y="165"/>
                </a:lnTo>
                <a:lnTo>
                  <a:pt x="84" y="144"/>
                </a:lnTo>
                <a:lnTo>
                  <a:pt x="84" y="123"/>
                </a:lnTo>
                <a:lnTo>
                  <a:pt x="82" y="104"/>
                </a:lnTo>
                <a:lnTo>
                  <a:pt x="82" y="84"/>
                </a:lnTo>
                <a:lnTo>
                  <a:pt x="80" y="67"/>
                </a:lnTo>
                <a:lnTo>
                  <a:pt x="80" y="48"/>
                </a:lnTo>
                <a:lnTo>
                  <a:pt x="79" y="33"/>
                </a:lnTo>
                <a:lnTo>
                  <a:pt x="77" y="15"/>
                </a:lnTo>
                <a:lnTo>
                  <a:pt x="75" y="0"/>
                </a:lnTo>
                <a:lnTo>
                  <a:pt x="138" y="11"/>
                </a:lnTo>
                <a:lnTo>
                  <a:pt x="201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36"/>
          <p:cNvSpPr/>
          <p:nvPr/>
        </p:nvSpPr>
        <p:spPr>
          <a:xfrm>
            <a:off x="6232680" y="4349880"/>
            <a:ext cx="222120" cy="101520"/>
          </a:xfrm>
          <a:custGeom>
            <a:avLst/>
            <a:gdLst/>
            <a:ahLst/>
            <a:rect l="l" t="t" r="r" b="b"/>
            <a:pathLst>
              <a:path w="278" h="129">
                <a:moveTo>
                  <a:pt x="278" y="60"/>
                </a:moveTo>
                <a:lnTo>
                  <a:pt x="278" y="64"/>
                </a:lnTo>
                <a:lnTo>
                  <a:pt x="276" y="68"/>
                </a:lnTo>
                <a:lnTo>
                  <a:pt x="276" y="71"/>
                </a:lnTo>
                <a:lnTo>
                  <a:pt x="274" y="73"/>
                </a:lnTo>
                <a:lnTo>
                  <a:pt x="270" y="77"/>
                </a:lnTo>
                <a:lnTo>
                  <a:pt x="269" y="81"/>
                </a:lnTo>
                <a:lnTo>
                  <a:pt x="265" y="83"/>
                </a:lnTo>
                <a:lnTo>
                  <a:pt x="261" y="87"/>
                </a:lnTo>
                <a:lnTo>
                  <a:pt x="257" y="89"/>
                </a:lnTo>
                <a:lnTo>
                  <a:pt x="251" y="93"/>
                </a:lnTo>
                <a:lnTo>
                  <a:pt x="245" y="94"/>
                </a:lnTo>
                <a:lnTo>
                  <a:pt x="240" y="96"/>
                </a:lnTo>
                <a:lnTo>
                  <a:pt x="232" y="98"/>
                </a:lnTo>
                <a:lnTo>
                  <a:pt x="224" y="100"/>
                </a:lnTo>
                <a:lnTo>
                  <a:pt x="217" y="104"/>
                </a:lnTo>
                <a:lnTo>
                  <a:pt x="209" y="106"/>
                </a:lnTo>
                <a:lnTo>
                  <a:pt x="186" y="110"/>
                </a:lnTo>
                <a:lnTo>
                  <a:pt x="163" y="114"/>
                </a:lnTo>
                <a:lnTo>
                  <a:pt x="138" y="117"/>
                </a:lnTo>
                <a:lnTo>
                  <a:pt x="113" y="121"/>
                </a:lnTo>
                <a:lnTo>
                  <a:pt x="86" y="125"/>
                </a:lnTo>
                <a:lnTo>
                  <a:pt x="59" y="127"/>
                </a:lnTo>
                <a:lnTo>
                  <a:pt x="31" y="129"/>
                </a:lnTo>
                <a:lnTo>
                  <a:pt x="0" y="129"/>
                </a:lnTo>
                <a:lnTo>
                  <a:pt x="0" y="35"/>
                </a:lnTo>
                <a:lnTo>
                  <a:pt x="21" y="35"/>
                </a:lnTo>
                <a:lnTo>
                  <a:pt x="42" y="33"/>
                </a:lnTo>
                <a:lnTo>
                  <a:pt x="61" y="31"/>
                </a:lnTo>
                <a:lnTo>
                  <a:pt x="78" y="27"/>
                </a:lnTo>
                <a:lnTo>
                  <a:pt x="96" y="25"/>
                </a:lnTo>
                <a:lnTo>
                  <a:pt x="111" y="21"/>
                </a:lnTo>
                <a:lnTo>
                  <a:pt x="125" y="16"/>
                </a:lnTo>
                <a:lnTo>
                  <a:pt x="140" y="12"/>
                </a:lnTo>
                <a:lnTo>
                  <a:pt x="151" y="8"/>
                </a:lnTo>
                <a:lnTo>
                  <a:pt x="163" y="4"/>
                </a:lnTo>
                <a:lnTo>
                  <a:pt x="174" y="2"/>
                </a:lnTo>
                <a:lnTo>
                  <a:pt x="186" y="2"/>
                </a:lnTo>
                <a:lnTo>
                  <a:pt x="196" y="0"/>
                </a:lnTo>
                <a:lnTo>
                  <a:pt x="207" y="0"/>
                </a:lnTo>
                <a:lnTo>
                  <a:pt x="219" y="0"/>
                </a:lnTo>
                <a:lnTo>
                  <a:pt x="232" y="0"/>
                </a:lnTo>
                <a:lnTo>
                  <a:pt x="238" y="2"/>
                </a:lnTo>
                <a:lnTo>
                  <a:pt x="244" y="4"/>
                </a:lnTo>
                <a:lnTo>
                  <a:pt x="249" y="8"/>
                </a:lnTo>
                <a:lnTo>
                  <a:pt x="253" y="10"/>
                </a:lnTo>
                <a:lnTo>
                  <a:pt x="263" y="16"/>
                </a:lnTo>
                <a:lnTo>
                  <a:pt x="269" y="21"/>
                </a:lnTo>
                <a:lnTo>
                  <a:pt x="272" y="27"/>
                </a:lnTo>
                <a:lnTo>
                  <a:pt x="276" y="37"/>
                </a:lnTo>
                <a:lnTo>
                  <a:pt x="276" y="41"/>
                </a:lnTo>
                <a:lnTo>
                  <a:pt x="278" y="46"/>
                </a:lnTo>
                <a:lnTo>
                  <a:pt x="278" y="52"/>
                </a:lnTo>
                <a:lnTo>
                  <a:pt x="278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37"/>
          <p:cNvSpPr/>
          <p:nvPr/>
        </p:nvSpPr>
        <p:spPr>
          <a:xfrm>
            <a:off x="6232680" y="4095720"/>
            <a:ext cx="209520" cy="87480"/>
          </a:xfrm>
          <a:custGeom>
            <a:avLst/>
            <a:gdLst/>
            <a:ahLst/>
            <a:rect l="l" t="t" r="r" b="b"/>
            <a:pathLst>
              <a:path w="263" h="109">
                <a:moveTo>
                  <a:pt x="232" y="29"/>
                </a:moveTo>
                <a:lnTo>
                  <a:pt x="238" y="31"/>
                </a:lnTo>
                <a:lnTo>
                  <a:pt x="244" y="32"/>
                </a:lnTo>
                <a:lnTo>
                  <a:pt x="247" y="36"/>
                </a:lnTo>
                <a:lnTo>
                  <a:pt x="251" y="38"/>
                </a:lnTo>
                <a:lnTo>
                  <a:pt x="255" y="42"/>
                </a:lnTo>
                <a:lnTo>
                  <a:pt x="257" y="44"/>
                </a:lnTo>
                <a:lnTo>
                  <a:pt x="259" y="48"/>
                </a:lnTo>
                <a:lnTo>
                  <a:pt x="261" y="52"/>
                </a:lnTo>
                <a:lnTo>
                  <a:pt x="261" y="54"/>
                </a:lnTo>
                <a:lnTo>
                  <a:pt x="263" y="57"/>
                </a:lnTo>
                <a:lnTo>
                  <a:pt x="261" y="63"/>
                </a:lnTo>
                <a:lnTo>
                  <a:pt x="259" y="69"/>
                </a:lnTo>
                <a:lnTo>
                  <a:pt x="255" y="75"/>
                </a:lnTo>
                <a:lnTo>
                  <a:pt x="249" y="79"/>
                </a:lnTo>
                <a:lnTo>
                  <a:pt x="244" y="82"/>
                </a:lnTo>
                <a:lnTo>
                  <a:pt x="236" y="86"/>
                </a:lnTo>
                <a:lnTo>
                  <a:pt x="226" y="90"/>
                </a:lnTo>
                <a:lnTo>
                  <a:pt x="217" y="94"/>
                </a:lnTo>
                <a:lnTo>
                  <a:pt x="203" y="96"/>
                </a:lnTo>
                <a:lnTo>
                  <a:pt x="190" y="100"/>
                </a:lnTo>
                <a:lnTo>
                  <a:pt x="174" y="102"/>
                </a:lnTo>
                <a:lnTo>
                  <a:pt x="159" y="103"/>
                </a:lnTo>
                <a:lnTo>
                  <a:pt x="140" y="105"/>
                </a:lnTo>
                <a:lnTo>
                  <a:pt x="121" y="107"/>
                </a:lnTo>
                <a:lnTo>
                  <a:pt x="100" y="107"/>
                </a:lnTo>
                <a:lnTo>
                  <a:pt x="77" y="109"/>
                </a:lnTo>
                <a:lnTo>
                  <a:pt x="54" y="109"/>
                </a:lnTo>
                <a:lnTo>
                  <a:pt x="27" y="109"/>
                </a:lnTo>
                <a:lnTo>
                  <a:pt x="0" y="109"/>
                </a:lnTo>
                <a:lnTo>
                  <a:pt x="0" y="29"/>
                </a:lnTo>
                <a:lnTo>
                  <a:pt x="21" y="27"/>
                </a:lnTo>
                <a:lnTo>
                  <a:pt x="42" y="27"/>
                </a:lnTo>
                <a:lnTo>
                  <a:pt x="61" y="23"/>
                </a:lnTo>
                <a:lnTo>
                  <a:pt x="78" y="21"/>
                </a:lnTo>
                <a:lnTo>
                  <a:pt x="96" y="17"/>
                </a:lnTo>
                <a:lnTo>
                  <a:pt x="111" y="13"/>
                </a:lnTo>
                <a:lnTo>
                  <a:pt x="125" y="9"/>
                </a:lnTo>
                <a:lnTo>
                  <a:pt x="140" y="6"/>
                </a:lnTo>
                <a:lnTo>
                  <a:pt x="146" y="2"/>
                </a:lnTo>
                <a:lnTo>
                  <a:pt x="151" y="2"/>
                </a:lnTo>
                <a:lnTo>
                  <a:pt x="157" y="0"/>
                </a:lnTo>
                <a:lnTo>
                  <a:pt x="163" y="0"/>
                </a:lnTo>
                <a:lnTo>
                  <a:pt x="169" y="0"/>
                </a:lnTo>
                <a:lnTo>
                  <a:pt x="174" y="0"/>
                </a:lnTo>
                <a:lnTo>
                  <a:pt x="186" y="4"/>
                </a:lnTo>
                <a:lnTo>
                  <a:pt x="198" y="7"/>
                </a:lnTo>
                <a:lnTo>
                  <a:pt x="207" y="13"/>
                </a:lnTo>
                <a:lnTo>
                  <a:pt x="221" y="19"/>
                </a:lnTo>
                <a:lnTo>
                  <a:pt x="232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38"/>
          <p:cNvSpPr/>
          <p:nvPr/>
        </p:nvSpPr>
        <p:spPr>
          <a:xfrm>
            <a:off x="6499080" y="3459240"/>
            <a:ext cx="444600" cy="185760"/>
          </a:xfrm>
          <a:custGeom>
            <a:avLst/>
            <a:gdLst/>
            <a:ahLst/>
            <a:rect l="l" t="t" r="r" b="b"/>
            <a:pathLst>
              <a:path w="558" h="235">
                <a:moveTo>
                  <a:pt x="0" y="152"/>
                </a:moveTo>
                <a:lnTo>
                  <a:pt x="2" y="150"/>
                </a:lnTo>
                <a:lnTo>
                  <a:pt x="4" y="146"/>
                </a:lnTo>
                <a:lnTo>
                  <a:pt x="7" y="144"/>
                </a:lnTo>
                <a:lnTo>
                  <a:pt x="13" y="139"/>
                </a:lnTo>
                <a:lnTo>
                  <a:pt x="21" y="135"/>
                </a:lnTo>
                <a:lnTo>
                  <a:pt x="30" y="131"/>
                </a:lnTo>
                <a:lnTo>
                  <a:pt x="40" y="125"/>
                </a:lnTo>
                <a:lnTo>
                  <a:pt x="53" y="119"/>
                </a:lnTo>
                <a:lnTo>
                  <a:pt x="67" y="114"/>
                </a:lnTo>
                <a:lnTo>
                  <a:pt x="82" y="106"/>
                </a:lnTo>
                <a:lnTo>
                  <a:pt x="100" y="100"/>
                </a:lnTo>
                <a:lnTo>
                  <a:pt x="119" y="93"/>
                </a:lnTo>
                <a:lnTo>
                  <a:pt x="138" y="85"/>
                </a:lnTo>
                <a:lnTo>
                  <a:pt x="161" y="75"/>
                </a:lnTo>
                <a:lnTo>
                  <a:pt x="184" y="68"/>
                </a:lnTo>
                <a:lnTo>
                  <a:pt x="209" y="60"/>
                </a:lnTo>
                <a:lnTo>
                  <a:pt x="232" y="52"/>
                </a:lnTo>
                <a:lnTo>
                  <a:pt x="255" y="47"/>
                </a:lnTo>
                <a:lnTo>
                  <a:pt x="276" y="41"/>
                </a:lnTo>
                <a:lnTo>
                  <a:pt x="295" y="35"/>
                </a:lnTo>
                <a:lnTo>
                  <a:pt x="314" y="29"/>
                </a:lnTo>
                <a:lnTo>
                  <a:pt x="332" y="25"/>
                </a:lnTo>
                <a:lnTo>
                  <a:pt x="349" y="20"/>
                </a:lnTo>
                <a:lnTo>
                  <a:pt x="364" y="16"/>
                </a:lnTo>
                <a:lnTo>
                  <a:pt x="378" y="12"/>
                </a:lnTo>
                <a:lnTo>
                  <a:pt x="391" y="10"/>
                </a:lnTo>
                <a:lnTo>
                  <a:pt x="403" y="6"/>
                </a:lnTo>
                <a:lnTo>
                  <a:pt x="412" y="4"/>
                </a:lnTo>
                <a:lnTo>
                  <a:pt x="422" y="2"/>
                </a:lnTo>
                <a:lnTo>
                  <a:pt x="430" y="2"/>
                </a:lnTo>
                <a:lnTo>
                  <a:pt x="435" y="0"/>
                </a:lnTo>
                <a:lnTo>
                  <a:pt x="441" y="0"/>
                </a:lnTo>
                <a:lnTo>
                  <a:pt x="447" y="0"/>
                </a:lnTo>
                <a:lnTo>
                  <a:pt x="453" y="2"/>
                </a:lnTo>
                <a:lnTo>
                  <a:pt x="458" y="4"/>
                </a:lnTo>
                <a:lnTo>
                  <a:pt x="468" y="8"/>
                </a:lnTo>
                <a:lnTo>
                  <a:pt x="476" y="12"/>
                </a:lnTo>
                <a:lnTo>
                  <a:pt x="487" y="16"/>
                </a:lnTo>
                <a:lnTo>
                  <a:pt x="499" y="20"/>
                </a:lnTo>
                <a:lnTo>
                  <a:pt x="510" y="23"/>
                </a:lnTo>
                <a:lnTo>
                  <a:pt x="518" y="25"/>
                </a:lnTo>
                <a:lnTo>
                  <a:pt x="524" y="29"/>
                </a:lnTo>
                <a:lnTo>
                  <a:pt x="528" y="31"/>
                </a:lnTo>
                <a:lnTo>
                  <a:pt x="533" y="35"/>
                </a:lnTo>
                <a:lnTo>
                  <a:pt x="537" y="37"/>
                </a:lnTo>
                <a:lnTo>
                  <a:pt x="541" y="41"/>
                </a:lnTo>
                <a:lnTo>
                  <a:pt x="547" y="47"/>
                </a:lnTo>
                <a:lnTo>
                  <a:pt x="553" y="54"/>
                </a:lnTo>
                <a:lnTo>
                  <a:pt x="554" y="60"/>
                </a:lnTo>
                <a:lnTo>
                  <a:pt x="556" y="66"/>
                </a:lnTo>
                <a:lnTo>
                  <a:pt x="558" y="71"/>
                </a:lnTo>
                <a:lnTo>
                  <a:pt x="556" y="75"/>
                </a:lnTo>
                <a:lnTo>
                  <a:pt x="554" y="79"/>
                </a:lnTo>
                <a:lnTo>
                  <a:pt x="551" y="85"/>
                </a:lnTo>
                <a:lnTo>
                  <a:pt x="545" y="91"/>
                </a:lnTo>
                <a:lnTo>
                  <a:pt x="537" y="96"/>
                </a:lnTo>
                <a:lnTo>
                  <a:pt x="528" y="100"/>
                </a:lnTo>
                <a:lnTo>
                  <a:pt x="518" y="106"/>
                </a:lnTo>
                <a:lnTo>
                  <a:pt x="506" y="114"/>
                </a:lnTo>
                <a:lnTo>
                  <a:pt x="493" y="119"/>
                </a:lnTo>
                <a:lnTo>
                  <a:pt x="478" y="125"/>
                </a:lnTo>
                <a:lnTo>
                  <a:pt x="462" y="131"/>
                </a:lnTo>
                <a:lnTo>
                  <a:pt x="445" y="139"/>
                </a:lnTo>
                <a:lnTo>
                  <a:pt x="426" y="144"/>
                </a:lnTo>
                <a:lnTo>
                  <a:pt x="405" y="150"/>
                </a:lnTo>
                <a:lnTo>
                  <a:pt x="384" y="158"/>
                </a:lnTo>
                <a:lnTo>
                  <a:pt x="361" y="164"/>
                </a:lnTo>
                <a:lnTo>
                  <a:pt x="336" y="173"/>
                </a:lnTo>
                <a:lnTo>
                  <a:pt x="311" y="181"/>
                </a:lnTo>
                <a:lnTo>
                  <a:pt x="290" y="189"/>
                </a:lnTo>
                <a:lnTo>
                  <a:pt x="268" y="194"/>
                </a:lnTo>
                <a:lnTo>
                  <a:pt x="249" y="202"/>
                </a:lnTo>
                <a:lnTo>
                  <a:pt x="232" y="208"/>
                </a:lnTo>
                <a:lnTo>
                  <a:pt x="217" y="212"/>
                </a:lnTo>
                <a:lnTo>
                  <a:pt x="201" y="217"/>
                </a:lnTo>
                <a:lnTo>
                  <a:pt x="190" y="221"/>
                </a:lnTo>
                <a:lnTo>
                  <a:pt x="178" y="225"/>
                </a:lnTo>
                <a:lnTo>
                  <a:pt x="169" y="227"/>
                </a:lnTo>
                <a:lnTo>
                  <a:pt x="159" y="231"/>
                </a:lnTo>
                <a:lnTo>
                  <a:pt x="153" y="233"/>
                </a:lnTo>
                <a:lnTo>
                  <a:pt x="148" y="233"/>
                </a:lnTo>
                <a:lnTo>
                  <a:pt x="144" y="235"/>
                </a:lnTo>
                <a:lnTo>
                  <a:pt x="140" y="235"/>
                </a:lnTo>
                <a:lnTo>
                  <a:pt x="138" y="235"/>
                </a:lnTo>
                <a:lnTo>
                  <a:pt x="134" y="233"/>
                </a:lnTo>
                <a:lnTo>
                  <a:pt x="126" y="233"/>
                </a:lnTo>
                <a:lnTo>
                  <a:pt x="119" y="229"/>
                </a:lnTo>
                <a:lnTo>
                  <a:pt x="107" y="225"/>
                </a:lnTo>
                <a:lnTo>
                  <a:pt x="96" y="221"/>
                </a:lnTo>
                <a:lnTo>
                  <a:pt x="84" y="215"/>
                </a:lnTo>
                <a:lnTo>
                  <a:pt x="71" y="208"/>
                </a:lnTo>
                <a:lnTo>
                  <a:pt x="59" y="200"/>
                </a:lnTo>
                <a:lnTo>
                  <a:pt x="46" y="190"/>
                </a:lnTo>
                <a:lnTo>
                  <a:pt x="34" y="183"/>
                </a:lnTo>
                <a:lnTo>
                  <a:pt x="25" y="177"/>
                </a:lnTo>
                <a:lnTo>
                  <a:pt x="17" y="171"/>
                </a:lnTo>
                <a:lnTo>
                  <a:pt x="9" y="166"/>
                </a:lnTo>
                <a:lnTo>
                  <a:pt x="4" y="162"/>
                </a:lnTo>
                <a:lnTo>
                  <a:pt x="4" y="160"/>
                </a:lnTo>
                <a:lnTo>
                  <a:pt x="2" y="158"/>
                </a:lnTo>
                <a:lnTo>
                  <a:pt x="0" y="154"/>
                </a:lnTo>
                <a:lnTo>
                  <a:pt x="0" y="1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39"/>
          <p:cNvSpPr/>
          <p:nvPr/>
        </p:nvSpPr>
        <p:spPr>
          <a:xfrm>
            <a:off x="6656400" y="2921040"/>
            <a:ext cx="1162080" cy="866880"/>
          </a:xfrm>
          <a:custGeom>
            <a:avLst/>
            <a:gdLst/>
            <a:ahLst/>
            <a:rect l="l" t="t" r="r" b="b"/>
            <a:pathLst>
              <a:path w="1463" h="1092">
                <a:moveTo>
                  <a:pt x="534" y="643"/>
                </a:moveTo>
                <a:lnTo>
                  <a:pt x="469" y="576"/>
                </a:lnTo>
                <a:lnTo>
                  <a:pt x="403" y="507"/>
                </a:lnTo>
                <a:lnTo>
                  <a:pt x="338" y="436"/>
                </a:lnTo>
                <a:lnTo>
                  <a:pt x="271" y="363"/>
                </a:lnTo>
                <a:lnTo>
                  <a:pt x="204" y="290"/>
                </a:lnTo>
                <a:lnTo>
                  <a:pt x="137" y="213"/>
                </a:lnTo>
                <a:lnTo>
                  <a:pt x="70" y="136"/>
                </a:lnTo>
                <a:lnTo>
                  <a:pt x="0" y="57"/>
                </a:lnTo>
                <a:lnTo>
                  <a:pt x="29" y="29"/>
                </a:lnTo>
                <a:lnTo>
                  <a:pt x="58" y="0"/>
                </a:lnTo>
                <a:lnTo>
                  <a:pt x="87" y="27"/>
                </a:lnTo>
                <a:lnTo>
                  <a:pt x="116" y="54"/>
                </a:lnTo>
                <a:lnTo>
                  <a:pt x="142" y="79"/>
                </a:lnTo>
                <a:lnTo>
                  <a:pt x="171" y="105"/>
                </a:lnTo>
                <a:lnTo>
                  <a:pt x="196" y="130"/>
                </a:lnTo>
                <a:lnTo>
                  <a:pt x="223" y="155"/>
                </a:lnTo>
                <a:lnTo>
                  <a:pt x="248" y="178"/>
                </a:lnTo>
                <a:lnTo>
                  <a:pt x="273" y="201"/>
                </a:lnTo>
                <a:lnTo>
                  <a:pt x="298" y="224"/>
                </a:lnTo>
                <a:lnTo>
                  <a:pt x="321" y="246"/>
                </a:lnTo>
                <a:lnTo>
                  <a:pt x="344" y="269"/>
                </a:lnTo>
                <a:lnTo>
                  <a:pt x="367" y="290"/>
                </a:lnTo>
                <a:lnTo>
                  <a:pt x="390" y="309"/>
                </a:lnTo>
                <a:lnTo>
                  <a:pt x="411" y="328"/>
                </a:lnTo>
                <a:lnTo>
                  <a:pt x="432" y="347"/>
                </a:lnTo>
                <a:lnTo>
                  <a:pt x="451" y="366"/>
                </a:lnTo>
                <a:lnTo>
                  <a:pt x="473" y="384"/>
                </a:lnTo>
                <a:lnTo>
                  <a:pt x="492" y="403"/>
                </a:lnTo>
                <a:lnTo>
                  <a:pt x="511" y="418"/>
                </a:lnTo>
                <a:lnTo>
                  <a:pt x="528" y="436"/>
                </a:lnTo>
                <a:lnTo>
                  <a:pt x="547" y="451"/>
                </a:lnTo>
                <a:lnTo>
                  <a:pt x="565" y="466"/>
                </a:lnTo>
                <a:lnTo>
                  <a:pt x="580" y="480"/>
                </a:lnTo>
                <a:lnTo>
                  <a:pt x="597" y="493"/>
                </a:lnTo>
                <a:lnTo>
                  <a:pt x="613" y="507"/>
                </a:lnTo>
                <a:lnTo>
                  <a:pt x="628" y="520"/>
                </a:lnTo>
                <a:lnTo>
                  <a:pt x="643" y="532"/>
                </a:lnTo>
                <a:lnTo>
                  <a:pt x="657" y="543"/>
                </a:lnTo>
                <a:lnTo>
                  <a:pt x="670" y="555"/>
                </a:lnTo>
                <a:lnTo>
                  <a:pt x="684" y="564"/>
                </a:lnTo>
                <a:lnTo>
                  <a:pt x="695" y="574"/>
                </a:lnTo>
                <a:lnTo>
                  <a:pt x="709" y="583"/>
                </a:lnTo>
                <a:lnTo>
                  <a:pt x="732" y="605"/>
                </a:lnTo>
                <a:lnTo>
                  <a:pt x="757" y="624"/>
                </a:lnTo>
                <a:lnTo>
                  <a:pt x="782" y="643"/>
                </a:lnTo>
                <a:lnTo>
                  <a:pt x="809" y="660"/>
                </a:lnTo>
                <a:lnTo>
                  <a:pt x="835" y="679"/>
                </a:lnTo>
                <a:lnTo>
                  <a:pt x="862" y="697"/>
                </a:lnTo>
                <a:lnTo>
                  <a:pt x="891" y="716"/>
                </a:lnTo>
                <a:lnTo>
                  <a:pt x="920" y="733"/>
                </a:lnTo>
                <a:lnTo>
                  <a:pt x="951" y="750"/>
                </a:lnTo>
                <a:lnTo>
                  <a:pt x="981" y="768"/>
                </a:lnTo>
                <a:lnTo>
                  <a:pt x="1012" y="785"/>
                </a:lnTo>
                <a:lnTo>
                  <a:pt x="1045" y="800"/>
                </a:lnTo>
                <a:lnTo>
                  <a:pt x="1077" y="818"/>
                </a:lnTo>
                <a:lnTo>
                  <a:pt x="1112" y="833"/>
                </a:lnTo>
                <a:lnTo>
                  <a:pt x="1148" y="848"/>
                </a:lnTo>
                <a:lnTo>
                  <a:pt x="1185" y="866"/>
                </a:lnTo>
                <a:lnTo>
                  <a:pt x="1202" y="873"/>
                </a:lnTo>
                <a:lnTo>
                  <a:pt x="1217" y="879"/>
                </a:lnTo>
                <a:lnTo>
                  <a:pt x="1235" y="887"/>
                </a:lnTo>
                <a:lnTo>
                  <a:pt x="1250" y="894"/>
                </a:lnTo>
                <a:lnTo>
                  <a:pt x="1263" y="902"/>
                </a:lnTo>
                <a:lnTo>
                  <a:pt x="1279" y="908"/>
                </a:lnTo>
                <a:lnTo>
                  <a:pt x="1292" y="915"/>
                </a:lnTo>
                <a:lnTo>
                  <a:pt x="1306" y="921"/>
                </a:lnTo>
                <a:lnTo>
                  <a:pt x="1319" y="929"/>
                </a:lnTo>
                <a:lnTo>
                  <a:pt x="1331" y="935"/>
                </a:lnTo>
                <a:lnTo>
                  <a:pt x="1342" y="940"/>
                </a:lnTo>
                <a:lnTo>
                  <a:pt x="1354" y="946"/>
                </a:lnTo>
                <a:lnTo>
                  <a:pt x="1363" y="952"/>
                </a:lnTo>
                <a:lnTo>
                  <a:pt x="1375" y="958"/>
                </a:lnTo>
                <a:lnTo>
                  <a:pt x="1384" y="962"/>
                </a:lnTo>
                <a:lnTo>
                  <a:pt x="1392" y="967"/>
                </a:lnTo>
                <a:lnTo>
                  <a:pt x="1402" y="973"/>
                </a:lnTo>
                <a:lnTo>
                  <a:pt x="1409" y="977"/>
                </a:lnTo>
                <a:lnTo>
                  <a:pt x="1417" y="981"/>
                </a:lnTo>
                <a:lnTo>
                  <a:pt x="1423" y="985"/>
                </a:lnTo>
                <a:lnTo>
                  <a:pt x="1430" y="988"/>
                </a:lnTo>
                <a:lnTo>
                  <a:pt x="1436" y="992"/>
                </a:lnTo>
                <a:lnTo>
                  <a:pt x="1440" y="996"/>
                </a:lnTo>
                <a:lnTo>
                  <a:pt x="1446" y="1000"/>
                </a:lnTo>
                <a:lnTo>
                  <a:pt x="1450" y="1002"/>
                </a:lnTo>
                <a:lnTo>
                  <a:pt x="1453" y="1006"/>
                </a:lnTo>
                <a:lnTo>
                  <a:pt x="1455" y="1008"/>
                </a:lnTo>
                <a:lnTo>
                  <a:pt x="1457" y="1010"/>
                </a:lnTo>
                <a:lnTo>
                  <a:pt x="1459" y="1011"/>
                </a:lnTo>
                <a:lnTo>
                  <a:pt x="1461" y="1013"/>
                </a:lnTo>
                <a:lnTo>
                  <a:pt x="1463" y="1015"/>
                </a:lnTo>
                <a:lnTo>
                  <a:pt x="1463" y="1017"/>
                </a:lnTo>
                <a:lnTo>
                  <a:pt x="1459" y="1019"/>
                </a:lnTo>
                <a:lnTo>
                  <a:pt x="1455" y="1021"/>
                </a:lnTo>
                <a:lnTo>
                  <a:pt x="1452" y="1025"/>
                </a:lnTo>
                <a:lnTo>
                  <a:pt x="1446" y="1027"/>
                </a:lnTo>
                <a:lnTo>
                  <a:pt x="1438" y="1031"/>
                </a:lnTo>
                <a:lnTo>
                  <a:pt x="1430" y="1033"/>
                </a:lnTo>
                <a:lnTo>
                  <a:pt x="1421" y="1036"/>
                </a:lnTo>
                <a:lnTo>
                  <a:pt x="1411" y="1040"/>
                </a:lnTo>
                <a:lnTo>
                  <a:pt x="1400" y="1042"/>
                </a:lnTo>
                <a:lnTo>
                  <a:pt x="1386" y="1046"/>
                </a:lnTo>
                <a:lnTo>
                  <a:pt x="1373" y="1050"/>
                </a:lnTo>
                <a:lnTo>
                  <a:pt x="1357" y="1052"/>
                </a:lnTo>
                <a:lnTo>
                  <a:pt x="1342" y="1056"/>
                </a:lnTo>
                <a:lnTo>
                  <a:pt x="1325" y="1058"/>
                </a:lnTo>
                <a:lnTo>
                  <a:pt x="1308" y="1061"/>
                </a:lnTo>
                <a:lnTo>
                  <a:pt x="1288" y="1063"/>
                </a:lnTo>
                <a:lnTo>
                  <a:pt x="1267" y="1067"/>
                </a:lnTo>
                <a:lnTo>
                  <a:pt x="1246" y="1071"/>
                </a:lnTo>
                <a:lnTo>
                  <a:pt x="1227" y="1075"/>
                </a:lnTo>
                <a:lnTo>
                  <a:pt x="1208" y="1079"/>
                </a:lnTo>
                <a:lnTo>
                  <a:pt x="1190" y="1082"/>
                </a:lnTo>
                <a:lnTo>
                  <a:pt x="1171" y="1084"/>
                </a:lnTo>
                <a:lnTo>
                  <a:pt x="1156" y="1086"/>
                </a:lnTo>
                <a:lnTo>
                  <a:pt x="1139" y="1088"/>
                </a:lnTo>
                <a:lnTo>
                  <a:pt x="1123" y="1090"/>
                </a:lnTo>
                <a:lnTo>
                  <a:pt x="1110" y="1090"/>
                </a:lnTo>
                <a:lnTo>
                  <a:pt x="1095" y="1092"/>
                </a:lnTo>
                <a:lnTo>
                  <a:pt x="1081" y="1092"/>
                </a:lnTo>
                <a:lnTo>
                  <a:pt x="1068" y="1092"/>
                </a:lnTo>
                <a:lnTo>
                  <a:pt x="1056" y="1090"/>
                </a:lnTo>
                <a:lnTo>
                  <a:pt x="1045" y="1088"/>
                </a:lnTo>
                <a:lnTo>
                  <a:pt x="1033" y="1086"/>
                </a:lnTo>
                <a:lnTo>
                  <a:pt x="1022" y="1086"/>
                </a:lnTo>
                <a:lnTo>
                  <a:pt x="1012" y="1084"/>
                </a:lnTo>
                <a:lnTo>
                  <a:pt x="1002" y="1082"/>
                </a:lnTo>
                <a:lnTo>
                  <a:pt x="991" y="1081"/>
                </a:lnTo>
                <a:lnTo>
                  <a:pt x="981" y="1077"/>
                </a:lnTo>
                <a:lnTo>
                  <a:pt x="972" y="1073"/>
                </a:lnTo>
                <a:lnTo>
                  <a:pt x="962" y="1067"/>
                </a:lnTo>
                <a:lnTo>
                  <a:pt x="952" y="1061"/>
                </a:lnTo>
                <a:lnTo>
                  <a:pt x="943" y="1056"/>
                </a:lnTo>
                <a:lnTo>
                  <a:pt x="933" y="1048"/>
                </a:lnTo>
                <a:lnTo>
                  <a:pt x="922" y="1040"/>
                </a:lnTo>
                <a:lnTo>
                  <a:pt x="912" y="1033"/>
                </a:lnTo>
                <a:lnTo>
                  <a:pt x="903" y="1023"/>
                </a:lnTo>
                <a:lnTo>
                  <a:pt x="893" y="1013"/>
                </a:lnTo>
                <a:lnTo>
                  <a:pt x="881" y="1004"/>
                </a:lnTo>
                <a:lnTo>
                  <a:pt x="872" y="994"/>
                </a:lnTo>
                <a:lnTo>
                  <a:pt x="860" y="981"/>
                </a:lnTo>
                <a:lnTo>
                  <a:pt x="847" y="969"/>
                </a:lnTo>
                <a:lnTo>
                  <a:pt x="833" y="954"/>
                </a:lnTo>
                <a:lnTo>
                  <a:pt x="818" y="939"/>
                </a:lnTo>
                <a:lnTo>
                  <a:pt x="803" y="921"/>
                </a:lnTo>
                <a:lnTo>
                  <a:pt x="785" y="904"/>
                </a:lnTo>
                <a:lnTo>
                  <a:pt x="766" y="883"/>
                </a:lnTo>
                <a:lnTo>
                  <a:pt x="745" y="862"/>
                </a:lnTo>
                <a:lnTo>
                  <a:pt x="724" y="839"/>
                </a:lnTo>
                <a:lnTo>
                  <a:pt x="701" y="816"/>
                </a:lnTo>
                <a:lnTo>
                  <a:pt x="678" y="791"/>
                </a:lnTo>
                <a:lnTo>
                  <a:pt x="651" y="764"/>
                </a:lnTo>
                <a:lnTo>
                  <a:pt x="624" y="735"/>
                </a:lnTo>
                <a:lnTo>
                  <a:pt x="595" y="706"/>
                </a:lnTo>
                <a:lnTo>
                  <a:pt x="567" y="676"/>
                </a:lnTo>
                <a:lnTo>
                  <a:pt x="534" y="6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0"/>
          <p:cNvSpPr/>
          <p:nvPr/>
        </p:nvSpPr>
        <p:spPr>
          <a:xfrm>
            <a:off x="5899320" y="2739960"/>
            <a:ext cx="904680" cy="1352520"/>
          </a:xfrm>
          <a:custGeom>
            <a:avLst/>
            <a:gdLst/>
            <a:ahLst/>
            <a:rect l="l" t="t" r="r" b="b"/>
            <a:pathLst>
              <a:path w="1141" h="1705">
                <a:moveTo>
                  <a:pt x="908" y="229"/>
                </a:moveTo>
                <a:lnTo>
                  <a:pt x="912" y="214"/>
                </a:lnTo>
                <a:lnTo>
                  <a:pt x="916" y="198"/>
                </a:lnTo>
                <a:lnTo>
                  <a:pt x="918" y="185"/>
                </a:lnTo>
                <a:lnTo>
                  <a:pt x="922" y="173"/>
                </a:lnTo>
                <a:lnTo>
                  <a:pt x="924" y="160"/>
                </a:lnTo>
                <a:lnTo>
                  <a:pt x="926" y="150"/>
                </a:lnTo>
                <a:lnTo>
                  <a:pt x="926" y="139"/>
                </a:lnTo>
                <a:lnTo>
                  <a:pt x="928" y="129"/>
                </a:lnTo>
                <a:lnTo>
                  <a:pt x="928" y="119"/>
                </a:lnTo>
                <a:lnTo>
                  <a:pt x="928" y="110"/>
                </a:lnTo>
                <a:lnTo>
                  <a:pt x="928" y="102"/>
                </a:lnTo>
                <a:lnTo>
                  <a:pt x="926" y="93"/>
                </a:lnTo>
                <a:lnTo>
                  <a:pt x="924" y="77"/>
                </a:lnTo>
                <a:lnTo>
                  <a:pt x="920" y="64"/>
                </a:lnTo>
                <a:lnTo>
                  <a:pt x="916" y="60"/>
                </a:lnTo>
                <a:lnTo>
                  <a:pt x="912" y="56"/>
                </a:lnTo>
                <a:lnTo>
                  <a:pt x="910" y="50"/>
                </a:lnTo>
                <a:lnTo>
                  <a:pt x="906" y="47"/>
                </a:lnTo>
                <a:lnTo>
                  <a:pt x="905" y="43"/>
                </a:lnTo>
                <a:lnTo>
                  <a:pt x="905" y="39"/>
                </a:lnTo>
                <a:lnTo>
                  <a:pt x="903" y="35"/>
                </a:lnTo>
                <a:lnTo>
                  <a:pt x="903" y="31"/>
                </a:lnTo>
                <a:lnTo>
                  <a:pt x="903" y="27"/>
                </a:lnTo>
                <a:lnTo>
                  <a:pt x="905" y="23"/>
                </a:lnTo>
                <a:lnTo>
                  <a:pt x="905" y="20"/>
                </a:lnTo>
                <a:lnTo>
                  <a:pt x="906" y="16"/>
                </a:lnTo>
                <a:lnTo>
                  <a:pt x="910" y="14"/>
                </a:lnTo>
                <a:lnTo>
                  <a:pt x="912" y="10"/>
                </a:lnTo>
                <a:lnTo>
                  <a:pt x="916" y="8"/>
                </a:lnTo>
                <a:lnTo>
                  <a:pt x="920" y="6"/>
                </a:lnTo>
                <a:lnTo>
                  <a:pt x="924" y="4"/>
                </a:lnTo>
                <a:lnTo>
                  <a:pt x="929" y="2"/>
                </a:lnTo>
                <a:lnTo>
                  <a:pt x="935" y="2"/>
                </a:lnTo>
                <a:lnTo>
                  <a:pt x="941" y="0"/>
                </a:lnTo>
                <a:lnTo>
                  <a:pt x="949" y="2"/>
                </a:lnTo>
                <a:lnTo>
                  <a:pt x="954" y="2"/>
                </a:lnTo>
                <a:lnTo>
                  <a:pt x="962" y="4"/>
                </a:lnTo>
                <a:lnTo>
                  <a:pt x="972" y="6"/>
                </a:lnTo>
                <a:lnTo>
                  <a:pt x="979" y="8"/>
                </a:lnTo>
                <a:lnTo>
                  <a:pt x="987" y="10"/>
                </a:lnTo>
                <a:lnTo>
                  <a:pt x="997" y="14"/>
                </a:lnTo>
                <a:lnTo>
                  <a:pt x="1006" y="18"/>
                </a:lnTo>
                <a:lnTo>
                  <a:pt x="1016" y="23"/>
                </a:lnTo>
                <a:lnTo>
                  <a:pt x="1027" y="29"/>
                </a:lnTo>
                <a:lnTo>
                  <a:pt x="1037" y="35"/>
                </a:lnTo>
                <a:lnTo>
                  <a:pt x="1048" y="41"/>
                </a:lnTo>
                <a:lnTo>
                  <a:pt x="1058" y="47"/>
                </a:lnTo>
                <a:lnTo>
                  <a:pt x="1068" y="54"/>
                </a:lnTo>
                <a:lnTo>
                  <a:pt x="1077" y="60"/>
                </a:lnTo>
                <a:lnTo>
                  <a:pt x="1085" y="66"/>
                </a:lnTo>
                <a:lnTo>
                  <a:pt x="1093" y="71"/>
                </a:lnTo>
                <a:lnTo>
                  <a:pt x="1098" y="77"/>
                </a:lnTo>
                <a:lnTo>
                  <a:pt x="1106" y="83"/>
                </a:lnTo>
                <a:lnTo>
                  <a:pt x="1112" y="87"/>
                </a:lnTo>
                <a:lnTo>
                  <a:pt x="1116" y="93"/>
                </a:lnTo>
                <a:lnTo>
                  <a:pt x="1121" y="98"/>
                </a:lnTo>
                <a:lnTo>
                  <a:pt x="1125" y="104"/>
                </a:lnTo>
                <a:lnTo>
                  <a:pt x="1129" y="110"/>
                </a:lnTo>
                <a:lnTo>
                  <a:pt x="1135" y="121"/>
                </a:lnTo>
                <a:lnTo>
                  <a:pt x="1141" y="135"/>
                </a:lnTo>
                <a:lnTo>
                  <a:pt x="1141" y="139"/>
                </a:lnTo>
                <a:lnTo>
                  <a:pt x="1141" y="142"/>
                </a:lnTo>
                <a:lnTo>
                  <a:pt x="1141" y="148"/>
                </a:lnTo>
                <a:lnTo>
                  <a:pt x="1141" y="154"/>
                </a:lnTo>
                <a:lnTo>
                  <a:pt x="1139" y="160"/>
                </a:lnTo>
                <a:lnTo>
                  <a:pt x="1137" y="167"/>
                </a:lnTo>
                <a:lnTo>
                  <a:pt x="1135" y="175"/>
                </a:lnTo>
                <a:lnTo>
                  <a:pt x="1131" y="185"/>
                </a:lnTo>
                <a:lnTo>
                  <a:pt x="1127" y="194"/>
                </a:lnTo>
                <a:lnTo>
                  <a:pt x="1123" y="204"/>
                </a:lnTo>
                <a:lnTo>
                  <a:pt x="1119" y="215"/>
                </a:lnTo>
                <a:lnTo>
                  <a:pt x="1114" y="227"/>
                </a:lnTo>
                <a:lnTo>
                  <a:pt x="1108" y="240"/>
                </a:lnTo>
                <a:lnTo>
                  <a:pt x="1102" y="254"/>
                </a:lnTo>
                <a:lnTo>
                  <a:pt x="1096" y="267"/>
                </a:lnTo>
                <a:lnTo>
                  <a:pt x="1089" y="283"/>
                </a:lnTo>
                <a:lnTo>
                  <a:pt x="1081" y="298"/>
                </a:lnTo>
                <a:lnTo>
                  <a:pt x="1073" y="315"/>
                </a:lnTo>
                <a:lnTo>
                  <a:pt x="1064" y="333"/>
                </a:lnTo>
                <a:lnTo>
                  <a:pt x="1054" y="350"/>
                </a:lnTo>
                <a:lnTo>
                  <a:pt x="1045" y="369"/>
                </a:lnTo>
                <a:lnTo>
                  <a:pt x="1035" y="388"/>
                </a:lnTo>
                <a:lnTo>
                  <a:pt x="1025" y="409"/>
                </a:lnTo>
                <a:lnTo>
                  <a:pt x="1014" y="430"/>
                </a:lnTo>
                <a:lnTo>
                  <a:pt x="1002" y="452"/>
                </a:lnTo>
                <a:lnTo>
                  <a:pt x="991" y="475"/>
                </a:lnTo>
                <a:lnTo>
                  <a:pt x="977" y="498"/>
                </a:lnTo>
                <a:lnTo>
                  <a:pt x="964" y="523"/>
                </a:lnTo>
                <a:lnTo>
                  <a:pt x="951" y="546"/>
                </a:lnTo>
                <a:lnTo>
                  <a:pt x="937" y="572"/>
                </a:lnTo>
                <a:lnTo>
                  <a:pt x="924" y="599"/>
                </a:lnTo>
                <a:lnTo>
                  <a:pt x="908" y="626"/>
                </a:lnTo>
                <a:lnTo>
                  <a:pt x="878" y="680"/>
                </a:lnTo>
                <a:lnTo>
                  <a:pt x="849" y="732"/>
                </a:lnTo>
                <a:lnTo>
                  <a:pt x="820" y="784"/>
                </a:lnTo>
                <a:lnTo>
                  <a:pt x="791" y="832"/>
                </a:lnTo>
                <a:lnTo>
                  <a:pt x="762" y="880"/>
                </a:lnTo>
                <a:lnTo>
                  <a:pt x="736" y="926"/>
                </a:lnTo>
                <a:lnTo>
                  <a:pt x="709" y="970"/>
                </a:lnTo>
                <a:lnTo>
                  <a:pt x="680" y="1012"/>
                </a:lnTo>
                <a:lnTo>
                  <a:pt x="655" y="1052"/>
                </a:lnTo>
                <a:lnTo>
                  <a:pt x="628" y="1091"/>
                </a:lnTo>
                <a:lnTo>
                  <a:pt x="601" y="1129"/>
                </a:lnTo>
                <a:lnTo>
                  <a:pt x="576" y="1166"/>
                </a:lnTo>
                <a:lnTo>
                  <a:pt x="551" y="1198"/>
                </a:lnTo>
                <a:lnTo>
                  <a:pt x="526" y="1231"/>
                </a:lnTo>
                <a:lnTo>
                  <a:pt x="503" y="1263"/>
                </a:lnTo>
                <a:lnTo>
                  <a:pt x="478" y="1292"/>
                </a:lnTo>
                <a:lnTo>
                  <a:pt x="455" y="1321"/>
                </a:lnTo>
                <a:lnTo>
                  <a:pt x="432" y="1348"/>
                </a:lnTo>
                <a:lnTo>
                  <a:pt x="409" y="1375"/>
                </a:lnTo>
                <a:lnTo>
                  <a:pt x="386" y="1400"/>
                </a:lnTo>
                <a:lnTo>
                  <a:pt x="363" y="1425"/>
                </a:lnTo>
                <a:lnTo>
                  <a:pt x="342" y="1448"/>
                </a:lnTo>
                <a:lnTo>
                  <a:pt x="321" y="1471"/>
                </a:lnTo>
                <a:lnTo>
                  <a:pt x="300" y="1492"/>
                </a:lnTo>
                <a:lnTo>
                  <a:pt x="279" y="1511"/>
                </a:lnTo>
                <a:lnTo>
                  <a:pt x="260" y="1530"/>
                </a:lnTo>
                <a:lnTo>
                  <a:pt x="240" y="1549"/>
                </a:lnTo>
                <a:lnTo>
                  <a:pt x="221" y="1565"/>
                </a:lnTo>
                <a:lnTo>
                  <a:pt x="204" y="1580"/>
                </a:lnTo>
                <a:lnTo>
                  <a:pt x="187" y="1596"/>
                </a:lnTo>
                <a:lnTo>
                  <a:pt x="169" y="1609"/>
                </a:lnTo>
                <a:lnTo>
                  <a:pt x="154" y="1621"/>
                </a:lnTo>
                <a:lnTo>
                  <a:pt x="139" y="1632"/>
                </a:lnTo>
                <a:lnTo>
                  <a:pt x="125" y="1644"/>
                </a:lnTo>
                <a:lnTo>
                  <a:pt x="112" y="1655"/>
                </a:lnTo>
                <a:lnTo>
                  <a:pt x="98" y="1665"/>
                </a:lnTo>
                <a:lnTo>
                  <a:pt x="85" y="1672"/>
                </a:lnTo>
                <a:lnTo>
                  <a:pt x="73" y="1680"/>
                </a:lnTo>
                <a:lnTo>
                  <a:pt x="64" y="1686"/>
                </a:lnTo>
                <a:lnTo>
                  <a:pt x="52" y="1692"/>
                </a:lnTo>
                <a:lnTo>
                  <a:pt x="43" y="1697"/>
                </a:lnTo>
                <a:lnTo>
                  <a:pt x="35" y="1699"/>
                </a:lnTo>
                <a:lnTo>
                  <a:pt x="27" y="1703"/>
                </a:lnTo>
                <a:lnTo>
                  <a:pt x="20" y="1703"/>
                </a:lnTo>
                <a:lnTo>
                  <a:pt x="14" y="1705"/>
                </a:lnTo>
                <a:lnTo>
                  <a:pt x="10" y="1705"/>
                </a:lnTo>
                <a:lnTo>
                  <a:pt x="6" y="1703"/>
                </a:lnTo>
                <a:lnTo>
                  <a:pt x="4" y="1701"/>
                </a:lnTo>
                <a:lnTo>
                  <a:pt x="2" y="1699"/>
                </a:lnTo>
                <a:lnTo>
                  <a:pt x="0" y="1695"/>
                </a:lnTo>
                <a:lnTo>
                  <a:pt x="2" y="1692"/>
                </a:lnTo>
                <a:lnTo>
                  <a:pt x="4" y="1686"/>
                </a:lnTo>
                <a:lnTo>
                  <a:pt x="6" y="1680"/>
                </a:lnTo>
                <a:lnTo>
                  <a:pt x="10" y="1674"/>
                </a:lnTo>
                <a:lnTo>
                  <a:pt x="16" y="1665"/>
                </a:lnTo>
                <a:lnTo>
                  <a:pt x="22" y="1657"/>
                </a:lnTo>
                <a:lnTo>
                  <a:pt x="29" y="1647"/>
                </a:lnTo>
                <a:lnTo>
                  <a:pt x="39" y="1636"/>
                </a:lnTo>
                <a:lnTo>
                  <a:pt x="48" y="1624"/>
                </a:lnTo>
                <a:lnTo>
                  <a:pt x="60" y="1611"/>
                </a:lnTo>
                <a:lnTo>
                  <a:pt x="73" y="1597"/>
                </a:lnTo>
                <a:lnTo>
                  <a:pt x="87" y="1582"/>
                </a:lnTo>
                <a:lnTo>
                  <a:pt x="102" y="1567"/>
                </a:lnTo>
                <a:lnTo>
                  <a:pt x="119" y="1549"/>
                </a:lnTo>
                <a:lnTo>
                  <a:pt x="137" y="1532"/>
                </a:lnTo>
                <a:lnTo>
                  <a:pt x="154" y="1513"/>
                </a:lnTo>
                <a:lnTo>
                  <a:pt x="173" y="1494"/>
                </a:lnTo>
                <a:lnTo>
                  <a:pt x="190" y="1473"/>
                </a:lnTo>
                <a:lnTo>
                  <a:pt x="210" y="1452"/>
                </a:lnTo>
                <a:lnTo>
                  <a:pt x="229" y="1430"/>
                </a:lnTo>
                <a:lnTo>
                  <a:pt x="248" y="1407"/>
                </a:lnTo>
                <a:lnTo>
                  <a:pt x="267" y="1384"/>
                </a:lnTo>
                <a:lnTo>
                  <a:pt x="286" y="1361"/>
                </a:lnTo>
                <a:lnTo>
                  <a:pt x="308" y="1336"/>
                </a:lnTo>
                <a:lnTo>
                  <a:pt x="327" y="1311"/>
                </a:lnTo>
                <a:lnTo>
                  <a:pt x="348" y="1285"/>
                </a:lnTo>
                <a:lnTo>
                  <a:pt x="369" y="1260"/>
                </a:lnTo>
                <a:lnTo>
                  <a:pt x="390" y="1231"/>
                </a:lnTo>
                <a:lnTo>
                  <a:pt x="411" y="1204"/>
                </a:lnTo>
                <a:lnTo>
                  <a:pt x="432" y="1175"/>
                </a:lnTo>
                <a:lnTo>
                  <a:pt x="452" y="1146"/>
                </a:lnTo>
                <a:lnTo>
                  <a:pt x="471" y="1116"/>
                </a:lnTo>
                <a:lnTo>
                  <a:pt x="490" y="1085"/>
                </a:lnTo>
                <a:lnTo>
                  <a:pt x="511" y="1054"/>
                </a:lnTo>
                <a:lnTo>
                  <a:pt x="530" y="1024"/>
                </a:lnTo>
                <a:lnTo>
                  <a:pt x="549" y="991"/>
                </a:lnTo>
                <a:lnTo>
                  <a:pt x="569" y="958"/>
                </a:lnTo>
                <a:lnTo>
                  <a:pt x="588" y="924"/>
                </a:lnTo>
                <a:lnTo>
                  <a:pt x="607" y="889"/>
                </a:lnTo>
                <a:lnTo>
                  <a:pt x="626" y="855"/>
                </a:lnTo>
                <a:lnTo>
                  <a:pt x="645" y="820"/>
                </a:lnTo>
                <a:lnTo>
                  <a:pt x="663" y="784"/>
                </a:lnTo>
                <a:lnTo>
                  <a:pt x="699" y="711"/>
                </a:lnTo>
                <a:lnTo>
                  <a:pt x="734" y="638"/>
                </a:lnTo>
                <a:lnTo>
                  <a:pt x="751" y="601"/>
                </a:lnTo>
                <a:lnTo>
                  <a:pt x="766" y="567"/>
                </a:lnTo>
                <a:lnTo>
                  <a:pt x="782" y="532"/>
                </a:lnTo>
                <a:lnTo>
                  <a:pt x="797" y="501"/>
                </a:lnTo>
                <a:lnTo>
                  <a:pt x="810" y="471"/>
                </a:lnTo>
                <a:lnTo>
                  <a:pt x="824" y="442"/>
                </a:lnTo>
                <a:lnTo>
                  <a:pt x="835" y="415"/>
                </a:lnTo>
                <a:lnTo>
                  <a:pt x="847" y="388"/>
                </a:lnTo>
                <a:lnTo>
                  <a:pt x="857" y="363"/>
                </a:lnTo>
                <a:lnTo>
                  <a:pt x="868" y="340"/>
                </a:lnTo>
                <a:lnTo>
                  <a:pt x="876" y="319"/>
                </a:lnTo>
                <a:lnTo>
                  <a:pt x="883" y="298"/>
                </a:lnTo>
                <a:lnTo>
                  <a:pt x="891" y="279"/>
                </a:lnTo>
                <a:lnTo>
                  <a:pt x="899" y="261"/>
                </a:lnTo>
                <a:lnTo>
                  <a:pt x="905" y="244"/>
                </a:lnTo>
                <a:lnTo>
                  <a:pt x="908" y="2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41"/>
          <p:cNvSpPr/>
          <p:nvPr/>
        </p:nvSpPr>
        <p:spPr>
          <a:xfrm>
            <a:off x="5661000" y="3716280"/>
            <a:ext cx="415800" cy="123840"/>
          </a:xfrm>
          <a:custGeom>
            <a:avLst/>
            <a:gdLst/>
            <a:ahLst/>
            <a:rect l="l" t="t" r="r" b="b"/>
            <a:pathLst>
              <a:path w="522" h="155">
                <a:moveTo>
                  <a:pt x="384" y="121"/>
                </a:moveTo>
                <a:lnTo>
                  <a:pt x="367" y="123"/>
                </a:lnTo>
                <a:lnTo>
                  <a:pt x="347" y="125"/>
                </a:lnTo>
                <a:lnTo>
                  <a:pt x="328" y="127"/>
                </a:lnTo>
                <a:lnTo>
                  <a:pt x="307" y="128"/>
                </a:lnTo>
                <a:lnTo>
                  <a:pt x="286" y="130"/>
                </a:lnTo>
                <a:lnTo>
                  <a:pt x="265" y="132"/>
                </a:lnTo>
                <a:lnTo>
                  <a:pt x="242" y="136"/>
                </a:lnTo>
                <a:lnTo>
                  <a:pt x="219" y="138"/>
                </a:lnTo>
                <a:lnTo>
                  <a:pt x="194" y="140"/>
                </a:lnTo>
                <a:lnTo>
                  <a:pt x="169" y="142"/>
                </a:lnTo>
                <a:lnTo>
                  <a:pt x="142" y="144"/>
                </a:lnTo>
                <a:lnTo>
                  <a:pt x="115" y="146"/>
                </a:lnTo>
                <a:lnTo>
                  <a:pt x="88" y="148"/>
                </a:lnTo>
                <a:lnTo>
                  <a:pt x="59" y="150"/>
                </a:lnTo>
                <a:lnTo>
                  <a:pt x="31" y="153"/>
                </a:lnTo>
                <a:lnTo>
                  <a:pt x="0" y="155"/>
                </a:lnTo>
                <a:lnTo>
                  <a:pt x="0" y="73"/>
                </a:lnTo>
                <a:lnTo>
                  <a:pt x="23" y="67"/>
                </a:lnTo>
                <a:lnTo>
                  <a:pt x="44" y="61"/>
                </a:lnTo>
                <a:lnTo>
                  <a:pt x="67" y="57"/>
                </a:lnTo>
                <a:lnTo>
                  <a:pt x="88" y="52"/>
                </a:lnTo>
                <a:lnTo>
                  <a:pt x="107" y="48"/>
                </a:lnTo>
                <a:lnTo>
                  <a:pt x="129" y="44"/>
                </a:lnTo>
                <a:lnTo>
                  <a:pt x="148" y="38"/>
                </a:lnTo>
                <a:lnTo>
                  <a:pt x="165" y="34"/>
                </a:lnTo>
                <a:lnTo>
                  <a:pt x="184" y="31"/>
                </a:lnTo>
                <a:lnTo>
                  <a:pt x="202" y="29"/>
                </a:lnTo>
                <a:lnTo>
                  <a:pt x="219" y="25"/>
                </a:lnTo>
                <a:lnTo>
                  <a:pt x="236" y="21"/>
                </a:lnTo>
                <a:lnTo>
                  <a:pt x="251" y="19"/>
                </a:lnTo>
                <a:lnTo>
                  <a:pt x="267" y="15"/>
                </a:lnTo>
                <a:lnTo>
                  <a:pt x="282" y="13"/>
                </a:lnTo>
                <a:lnTo>
                  <a:pt x="296" y="11"/>
                </a:lnTo>
                <a:lnTo>
                  <a:pt x="311" y="9"/>
                </a:lnTo>
                <a:lnTo>
                  <a:pt x="324" y="8"/>
                </a:lnTo>
                <a:lnTo>
                  <a:pt x="336" y="6"/>
                </a:lnTo>
                <a:lnTo>
                  <a:pt x="349" y="4"/>
                </a:lnTo>
                <a:lnTo>
                  <a:pt x="361" y="4"/>
                </a:lnTo>
                <a:lnTo>
                  <a:pt x="370" y="2"/>
                </a:lnTo>
                <a:lnTo>
                  <a:pt x="382" y="2"/>
                </a:lnTo>
                <a:lnTo>
                  <a:pt x="392" y="0"/>
                </a:lnTo>
                <a:lnTo>
                  <a:pt x="401" y="0"/>
                </a:lnTo>
                <a:lnTo>
                  <a:pt x="411" y="0"/>
                </a:lnTo>
                <a:lnTo>
                  <a:pt x="418" y="0"/>
                </a:lnTo>
                <a:lnTo>
                  <a:pt x="426" y="0"/>
                </a:lnTo>
                <a:lnTo>
                  <a:pt x="434" y="0"/>
                </a:lnTo>
                <a:lnTo>
                  <a:pt x="441" y="2"/>
                </a:lnTo>
                <a:lnTo>
                  <a:pt x="447" y="2"/>
                </a:lnTo>
                <a:lnTo>
                  <a:pt x="453" y="4"/>
                </a:lnTo>
                <a:lnTo>
                  <a:pt x="461" y="6"/>
                </a:lnTo>
                <a:lnTo>
                  <a:pt x="470" y="8"/>
                </a:lnTo>
                <a:lnTo>
                  <a:pt x="476" y="11"/>
                </a:lnTo>
                <a:lnTo>
                  <a:pt x="484" y="13"/>
                </a:lnTo>
                <a:lnTo>
                  <a:pt x="489" y="17"/>
                </a:lnTo>
                <a:lnTo>
                  <a:pt x="495" y="21"/>
                </a:lnTo>
                <a:lnTo>
                  <a:pt x="501" y="25"/>
                </a:lnTo>
                <a:lnTo>
                  <a:pt x="505" y="29"/>
                </a:lnTo>
                <a:lnTo>
                  <a:pt x="509" y="32"/>
                </a:lnTo>
                <a:lnTo>
                  <a:pt x="512" y="36"/>
                </a:lnTo>
                <a:lnTo>
                  <a:pt x="516" y="40"/>
                </a:lnTo>
                <a:lnTo>
                  <a:pt x="518" y="44"/>
                </a:lnTo>
                <a:lnTo>
                  <a:pt x="520" y="48"/>
                </a:lnTo>
                <a:lnTo>
                  <a:pt x="522" y="52"/>
                </a:lnTo>
                <a:lnTo>
                  <a:pt x="522" y="57"/>
                </a:lnTo>
                <a:lnTo>
                  <a:pt x="522" y="61"/>
                </a:lnTo>
                <a:lnTo>
                  <a:pt x="522" y="65"/>
                </a:lnTo>
                <a:lnTo>
                  <a:pt x="520" y="71"/>
                </a:lnTo>
                <a:lnTo>
                  <a:pt x="518" y="75"/>
                </a:lnTo>
                <a:lnTo>
                  <a:pt x="514" y="79"/>
                </a:lnTo>
                <a:lnTo>
                  <a:pt x="509" y="82"/>
                </a:lnTo>
                <a:lnTo>
                  <a:pt x="503" y="86"/>
                </a:lnTo>
                <a:lnTo>
                  <a:pt x="495" y="90"/>
                </a:lnTo>
                <a:lnTo>
                  <a:pt x="488" y="96"/>
                </a:lnTo>
                <a:lnTo>
                  <a:pt x="478" y="98"/>
                </a:lnTo>
                <a:lnTo>
                  <a:pt x="468" y="102"/>
                </a:lnTo>
                <a:lnTo>
                  <a:pt x="457" y="105"/>
                </a:lnTo>
                <a:lnTo>
                  <a:pt x="443" y="109"/>
                </a:lnTo>
                <a:lnTo>
                  <a:pt x="430" y="111"/>
                </a:lnTo>
                <a:lnTo>
                  <a:pt x="417" y="115"/>
                </a:lnTo>
                <a:lnTo>
                  <a:pt x="401" y="117"/>
                </a:lnTo>
                <a:lnTo>
                  <a:pt x="384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42"/>
          <p:cNvSpPr/>
          <p:nvPr/>
        </p:nvSpPr>
        <p:spPr>
          <a:xfrm>
            <a:off x="5616720" y="3300480"/>
            <a:ext cx="552240" cy="455400"/>
          </a:xfrm>
          <a:custGeom>
            <a:avLst/>
            <a:gdLst/>
            <a:ahLst/>
            <a:rect l="l" t="t" r="r" b="b"/>
            <a:pathLst>
              <a:path w="697" h="574">
                <a:moveTo>
                  <a:pt x="430" y="574"/>
                </a:moveTo>
                <a:lnTo>
                  <a:pt x="432" y="551"/>
                </a:lnTo>
                <a:lnTo>
                  <a:pt x="434" y="530"/>
                </a:lnTo>
                <a:lnTo>
                  <a:pt x="436" y="507"/>
                </a:lnTo>
                <a:lnTo>
                  <a:pt x="438" y="487"/>
                </a:lnTo>
                <a:lnTo>
                  <a:pt x="438" y="466"/>
                </a:lnTo>
                <a:lnTo>
                  <a:pt x="440" y="447"/>
                </a:lnTo>
                <a:lnTo>
                  <a:pt x="442" y="428"/>
                </a:lnTo>
                <a:lnTo>
                  <a:pt x="444" y="409"/>
                </a:lnTo>
                <a:lnTo>
                  <a:pt x="444" y="391"/>
                </a:lnTo>
                <a:lnTo>
                  <a:pt x="446" y="374"/>
                </a:lnTo>
                <a:lnTo>
                  <a:pt x="446" y="359"/>
                </a:lnTo>
                <a:lnTo>
                  <a:pt x="446" y="343"/>
                </a:lnTo>
                <a:lnTo>
                  <a:pt x="448" y="328"/>
                </a:lnTo>
                <a:lnTo>
                  <a:pt x="448" y="313"/>
                </a:lnTo>
                <a:lnTo>
                  <a:pt x="448" y="299"/>
                </a:lnTo>
                <a:lnTo>
                  <a:pt x="448" y="286"/>
                </a:lnTo>
                <a:lnTo>
                  <a:pt x="450" y="272"/>
                </a:lnTo>
                <a:lnTo>
                  <a:pt x="450" y="261"/>
                </a:lnTo>
                <a:lnTo>
                  <a:pt x="450" y="249"/>
                </a:lnTo>
                <a:lnTo>
                  <a:pt x="450" y="240"/>
                </a:lnTo>
                <a:lnTo>
                  <a:pt x="450" y="230"/>
                </a:lnTo>
                <a:lnTo>
                  <a:pt x="448" y="221"/>
                </a:lnTo>
                <a:lnTo>
                  <a:pt x="448" y="211"/>
                </a:lnTo>
                <a:lnTo>
                  <a:pt x="448" y="203"/>
                </a:lnTo>
                <a:lnTo>
                  <a:pt x="448" y="196"/>
                </a:lnTo>
                <a:lnTo>
                  <a:pt x="446" y="190"/>
                </a:lnTo>
                <a:lnTo>
                  <a:pt x="446" y="184"/>
                </a:lnTo>
                <a:lnTo>
                  <a:pt x="446" y="178"/>
                </a:lnTo>
                <a:lnTo>
                  <a:pt x="444" y="174"/>
                </a:lnTo>
                <a:lnTo>
                  <a:pt x="444" y="171"/>
                </a:lnTo>
                <a:lnTo>
                  <a:pt x="442" y="167"/>
                </a:lnTo>
                <a:lnTo>
                  <a:pt x="442" y="165"/>
                </a:lnTo>
                <a:lnTo>
                  <a:pt x="432" y="159"/>
                </a:lnTo>
                <a:lnTo>
                  <a:pt x="423" y="155"/>
                </a:lnTo>
                <a:lnTo>
                  <a:pt x="409" y="151"/>
                </a:lnTo>
                <a:lnTo>
                  <a:pt x="396" y="150"/>
                </a:lnTo>
                <a:lnTo>
                  <a:pt x="382" y="148"/>
                </a:lnTo>
                <a:lnTo>
                  <a:pt x="365" y="148"/>
                </a:lnTo>
                <a:lnTo>
                  <a:pt x="356" y="148"/>
                </a:lnTo>
                <a:lnTo>
                  <a:pt x="346" y="150"/>
                </a:lnTo>
                <a:lnTo>
                  <a:pt x="336" y="150"/>
                </a:lnTo>
                <a:lnTo>
                  <a:pt x="325" y="153"/>
                </a:lnTo>
                <a:lnTo>
                  <a:pt x="313" y="155"/>
                </a:lnTo>
                <a:lnTo>
                  <a:pt x="302" y="157"/>
                </a:lnTo>
                <a:lnTo>
                  <a:pt x="288" y="159"/>
                </a:lnTo>
                <a:lnTo>
                  <a:pt x="273" y="161"/>
                </a:lnTo>
                <a:lnTo>
                  <a:pt x="258" y="163"/>
                </a:lnTo>
                <a:lnTo>
                  <a:pt x="240" y="165"/>
                </a:lnTo>
                <a:lnTo>
                  <a:pt x="221" y="169"/>
                </a:lnTo>
                <a:lnTo>
                  <a:pt x="202" y="171"/>
                </a:lnTo>
                <a:lnTo>
                  <a:pt x="181" y="173"/>
                </a:lnTo>
                <a:lnTo>
                  <a:pt x="160" y="174"/>
                </a:lnTo>
                <a:lnTo>
                  <a:pt x="137" y="176"/>
                </a:lnTo>
                <a:lnTo>
                  <a:pt x="112" y="178"/>
                </a:lnTo>
                <a:lnTo>
                  <a:pt x="87" y="180"/>
                </a:lnTo>
                <a:lnTo>
                  <a:pt x="58" y="182"/>
                </a:lnTo>
                <a:lnTo>
                  <a:pt x="31" y="186"/>
                </a:lnTo>
                <a:lnTo>
                  <a:pt x="0" y="188"/>
                </a:lnTo>
                <a:lnTo>
                  <a:pt x="0" y="148"/>
                </a:lnTo>
                <a:lnTo>
                  <a:pt x="0" y="105"/>
                </a:lnTo>
                <a:lnTo>
                  <a:pt x="23" y="103"/>
                </a:lnTo>
                <a:lnTo>
                  <a:pt x="45" y="100"/>
                </a:lnTo>
                <a:lnTo>
                  <a:pt x="66" y="96"/>
                </a:lnTo>
                <a:lnTo>
                  <a:pt x="87" y="92"/>
                </a:lnTo>
                <a:lnTo>
                  <a:pt x="108" y="90"/>
                </a:lnTo>
                <a:lnTo>
                  <a:pt x="127" y="86"/>
                </a:lnTo>
                <a:lnTo>
                  <a:pt x="144" y="82"/>
                </a:lnTo>
                <a:lnTo>
                  <a:pt x="164" y="80"/>
                </a:lnTo>
                <a:lnTo>
                  <a:pt x="181" y="77"/>
                </a:lnTo>
                <a:lnTo>
                  <a:pt x="198" y="73"/>
                </a:lnTo>
                <a:lnTo>
                  <a:pt x="213" y="71"/>
                </a:lnTo>
                <a:lnTo>
                  <a:pt x="231" y="67"/>
                </a:lnTo>
                <a:lnTo>
                  <a:pt x="244" y="65"/>
                </a:lnTo>
                <a:lnTo>
                  <a:pt x="260" y="61"/>
                </a:lnTo>
                <a:lnTo>
                  <a:pt x="273" y="59"/>
                </a:lnTo>
                <a:lnTo>
                  <a:pt x="286" y="55"/>
                </a:lnTo>
                <a:lnTo>
                  <a:pt x="298" y="54"/>
                </a:lnTo>
                <a:lnTo>
                  <a:pt x="311" y="50"/>
                </a:lnTo>
                <a:lnTo>
                  <a:pt x="321" y="48"/>
                </a:lnTo>
                <a:lnTo>
                  <a:pt x="332" y="46"/>
                </a:lnTo>
                <a:lnTo>
                  <a:pt x="342" y="44"/>
                </a:lnTo>
                <a:lnTo>
                  <a:pt x="352" y="40"/>
                </a:lnTo>
                <a:lnTo>
                  <a:pt x="359" y="38"/>
                </a:lnTo>
                <a:lnTo>
                  <a:pt x="367" y="36"/>
                </a:lnTo>
                <a:lnTo>
                  <a:pt x="375" y="34"/>
                </a:lnTo>
                <a:lnTo>
                  <a:pt x="380" y="32"/>
                </a:lnTo>
                <a:lnTo>
                  <a:pt x="386" y="31"/>
                </a:lnTo>
                <a:lnTo>
                  <a:pt x="392" y="29"/>
                </a:lnTo>
                <a:lnTo>
                  <a:pt x="398" y="29"/>
                </a:lnTo>
                <a:lnTo>
                  <a:pt x="402" y="27"/>
                </a:lnTo>
                <a:lnTo>
                  <a:pt x="403" y="25"/>
                </a:lnTo>
                <a:lnTo>
                  <a:pt x="407" y="25"/>
                </a:lnTo>
                <a:lnTo>
                  <a:pt x="425" y="15"/>
                </a:lnTo>
                <a:lnTo>
                  <a:pt x="432" y="11"/>
                </a:lnTo>
                <a:lnTo>
                  <a:pt x="442" y="8"/>
                </a:lnTo>
                <a:lnTo>
                  <a:pt x="450" y="4"/>
                </a:lnTo>
                <a:lnTo>
                  <a:pt x="459" y="2"/>
                </a:lnTo>
                <a:lnTo>
                  <a:pt x="467" y="2"/>
                </a:lnTo>
                <a:lnTo>
                  <a:pt x="476" y="0"/>
                </a:lnTo>
                <a:lnTo>
                  <a:pt x="480" y="0"/>
                </a:lnTo>
                <a:lnTo>
                  <a:pt x="486" y="2"/>
                </a:lnTo>
                <a:lnTo>
                  <a:pt x="492" y="2"/>
                </a:lnTo>
                <a:lnTo>
                  <a:pt x="498" y="2"/>
                </a:lnTo>
                <a:lnTo>
                  <a:pt x="511" y="6"/>
                </a:lnTo>
                <a:lnTo>
                  <a:pt x="526" y="11"/>
                </a:lnTo>
                <a:lnTo>
                  <a:pt x="544" y="17"/>
                </a:lnTo>
                <a:lnTo>
                  <a:pt x="553" y="21"/>
                </a:lnTo>
                <a:lnTo>
                  <a:pt x="563" y="25"/>
                </a:lnTo>
                <a:lnTo>
                  <a:pt x="572" y="31"/>
                </a:lnTo>
                <a:lnTo>
                  <a:pt x="582" y="34"/>
                </a:lnTo>
                <a:lnTo>
                  <a:pt x="594" y="40"/>
                </a:lnTo>
                <a:lnTo>
                  <a:pt x="603" y="48"/>
                </a:lnTo>
                <a:lnTo>
                  <a:pt x="615" y="54"/>
                </a:lnTo>
                <a:lnTo>
                  <a:pt x="624" y="61"/>
                </a:lnTo>
                <a:lnTo>
                  <a:pt x="634" y="67"/>
                </a:lnTo>
                <a:lnTo>
                  <a:pt x="643" y="73"/>
                </a:lnTo>
                <a:lnTo>
                  <a:pt x="651" y="80"/>
                </a:lnTo>
                <a:lnTo>
                  <a:pt x="659" y="86"/>
                </a:lnTo>
                <a:lnTo>
                  <a:pt x="666" y="92"/>
                </a:lnTo>
                <a:lnTo>
                  <a:pt x="672" y="98"/>
                </a:lnTo>
                <a:lnTo>
                  <a:pt x="678" y="102"/>
                </a:lnTo>
                <a:lnTo>
                  <a:pt x="682" y="107"/>
                </a:lnTo>
                <a:lnTo>
                  <a:pt x="688" y="111"/>
                </a:lnTo>
                <a:lnTo>
                  <a:pt x="690" y="117"/>
                </a:lnTo>
                <a:lnTo>
                  <a:pt x="693" y="121"/>
                </a:lnTo>
                <a:lnTo>
                  <a:pt x="695" y="123"/>
                </a:lnTo>
                <a:lnTo>
                  <a:pt x="697" y="127"/>
                </a:lnTo>
                <a:lnTo>
                  <a:pt x="697" y="128"/>
                </a:lnTo>
                <a:lnTo>
                  <a:pt x="695" y="138"/>
                </a:lnTo>
                <a:lnTo>
                  <a:pt x="695" y="146"/>
                </a:lnTo>
                <a:lnTo>
                  <a:pt x="691" y="155"/>
                </a:lnTo>
                <a:lnTo>
                  <a:pt x="686" y="163"/>
                </a:lnTo>
                <a:lnTo>
                  <a:pt x="680" y="171"/>
                </a:lnTo>
                <a:lnTo>
                  <a:pt x="672" y="176"/>
                </a:lnTo>
                <a:lnTo>
                  <a:pt x="666" y="180"/>
                </a:lnTo>
                <a:lnTo>
                  <a:pt x="663" y="182"/>
                </a:lnTo>
                <a:lnTo>
                  <a:pt x="657" y="186"/>
                </a:lnTo>
                <a:lnTo>
                  <a:pt x="651" y="188"/>
                </a:lnTo>
                <a:lnTo>
                  <a:pt x="647" y="190"/>
                </a:lnTo>
                <a:lnTo>
                  <a:pt x="643" y="194"/>
                </a:lnTo>
                <a:lnTo>
                  <a:pt x="640" y="198"/>
                </a:lnTo>
                <a:lnTo>
                  <a:pt x="638" y="201"/>
                </a:lnTo>
                <a:lnTo>
                  <a:pt x="634" y="207"/>
                </a:lnTo>
                <a:lnTo>
                  <a:pt x="630" y="213"/>
                </a:lnTo>
                <a:lnTo>
                  <a:pt x="628" y="219"/>
                </a:lnTo>
                <a:lnTo>
                  <a:pt x="624" y="224"/>
                </a:lnTo>
                <a:lnTo>
                  <a:pt x="620" y="232"/>
                </a:lnTo>
                <a:lnTo>
                  <a:pt x="617" y="240"/>
                </a:lnTo>
                <a:lnTo>
                  <a:pt x="615" y="249"/>
                </a:lnTo>
                <a:lnTo>
                  <a:pt x="611" y="259"/>
                </a:lnTo>
                <a:lnTo>
                  <a:pt x="607" y="269"/>
                </a:lnTo>
                <a:lnTo>
                  <a:pt x="603" y="278"/>
                </a:lnTo>
                <a:lnTo>
                  <a:pt x="599" y="290"/>
                </a:lnTo>
                <a:lnTo>
                  <a:pt x="595" y="301"/>
                </a:lnTo>
                <a:lnTo>
                  <a:pt x="594" y="315"/>
                </a:lnTo>
                <a:lnTo>
                  <a:pt x="590" y="328"/>
                </a:lnTo>
                <a:lnTo>
                  <a:pt x="586" y="341"/>
                </a:lnTo>
                <a:lnTo>
                  <a:pt x="582" y="355"/>
                </a:lnTo>
                <a:lnTo>
                  <a:pt x="578" y="370"/>
                </a:lnTo>
                <a:lnTo>
                  <a:pt x="574" y="386"/>
                </a:lnTo>
                <a:lnTo>
                  <a:pt x="570" y="401"/>
                </a:lnTo>
                <a:lnTo>
                  <a:pt x="567" y="418"/>
                </a:lnTo>
                <a:lnTo>
                  <a:pt x="563" y="436"/>
                </a:lnTo>
                <a:lnTo>
                  <a:pt x="559" y="453"/>
                </a:lnTo>
                <a:lnTo>
                  <a:pt x="555" y="472"/>
                </a:lnTo>
                <a:lnTo>
                  <a:pt x="551" y="491"/>
                </a:lnTo>
                <a:lnTo>
                  <a:pt x="547" y="510"/>
                </a:lnTo>
                <a:lnTo>
                  <a:pt x="542" y="532"/>
                </a:lnTo>
                <a:lnTo>
                  <a:pt x="538" y="553"/>
                </a:lnTo>
                <a:lnTo>
                  <a:pt x="534" y="574"/>
                </a:lnTo>
                <a:lnTo>
                  <a:pt x="482" y="574"/>
                </a:lnTo>
                <a:lnTo>
                  <a:pt x="430" y="5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43"/>
          <p:cNvSpPr/>
          <p:nvPr/>
        </p:nvSpPr>
        <p:spPr>
          <a:xfrm>
            <a:off x="5538960" y="3354480"/>
            <a:ext cx="188640" cy="633240"/>
          </a:xfrm>
          <a:custGeom>
            <a:avLst/>
            <a:gdLst/>
            <a:ahLst/>
            <a:rect l="l" t="t" r="r" b="b"/>
            <a:pathLst>
              <a:path w="238" h="799">
                <a:moveTo>
                  <a:pt x="203" y="27"/>
                </a:moveTo>
                <a:lnTo>
                  <a:pt x="205" y="75"/>
                </a:lnTo>
                <a:lnTo>
                  <a:pt x="209" y="121"/>
                </a:lnTo>
                <a:lnTo>
                  <a:pt x="211" y="165"/>
                </a:lnTo>
                <a:lnTo>
                  <a:pt x="214" y="207"/>
                </a:lnTo>
                <a:lnTo>
                  <a:pt x="216" y="250"/>
                </a:lnTo>
                <a:lnTo>
                  <a:pt x="218" y="290"/>
                </a:lnTo>
                <a:lnTo>
                  <a:pt x="220" y="328"/>
                </a:lnTo>
                <a:lnTo>
                  <a:pt x="224" y="365"/>
                </a:lnTo>
                <a:lnTo>
                  <a:pt x="226" y="401"/>
                </a:lnTo>
                <a:lnTo>
                  <a:pt x="228" y="434"/>
                </a:lnTo>
                <a:lnTo>
                  <a:pt x="228" y="466"/>
                </a:lnTo>
                <a:lnTo>
                  <a:pt x="230" y="497"/>
                </a:lnTo>
                <a:lnTo>
                  <a:pt x="232" y="526"/>
                </a:lnTo>
                <a:lnTo>
                  <a:pt x="234" y="555"/>
                </a:lnTo>
                <a:lnTo>
                  <a:pt x="234" y="582"/>
                </a:lnTo>
                <a:lnTo>
                  <a:pt x="236" y="607"/>
                </a:lnTo>
                <a:lnTo>
                  <a:pt x="236" y="630"/>
                </a:lnTo>
                <a:lnTo>
                  <a:pt x="236" y="651"/>
                </a:lnTo>
                <a:lnTo>
                  <a:pt x="238" y="672"/>
                </a:lnTo>
                <a:lnTo>
                  <a:pt x="238" y="691"/>
                </a:lnTo>
                <a:lnTo>
                  <a:pt x="238" y="708"/>
                </a:lnTo>
                <a:lnTo>
                  <a:pt x="238" y="724"/>
                </a:lnTo>
                <a:lnTo>
                  <a:pt x="236" y="737"/>
                </a:lnTo>
                <a:lnTo>
                  <a:pt x="236" y="751"/>
                </a:lnTo>
                <a:lnTo>
                  <a:pt x="236" y="762"/>
                </a:lnTo>
                <a:lnTo>
                  <a:pt x="234" y="772"/>
                </a:lnTo>
                <a:lnTo>
                  <a:pt x="234" y="779"/>
                </a:lnTo>
                <a:lnTo>
                  <a:pt x="232" y="787"/>
                </a:lnTo>
                <a:lnTo>
                  <a:pt x="230" y="793"/>
                </a:lnTo>
                <a:lnTo>
                  <a:pt x="230" y="797"/>
                </a:lnTo>
                <a:lnTo>
                  <a:pt x="228" y="799"/>
                </a:lnTo>
                <a:lnTo>
                  <a:pt x="226" y="799"/>
                </a:lnTo>
                <a:lnTo>
                  <a:pt x="216" y="799"/>
                </a:lnTo>
                <a:lnTo>
                  <a:pt x="207" y="797"/>
                </a:lnTo>
                <a:lnTo>
                  <a:pt x="199" y="793"/>
                </a:lnTo>
                <a:lnTo>
                  <a:pt x="190" y="789"/>
                </a:lnTo>
                <a:lnTo>
                  <a:pt x="182" y="783"/>
                </a:lnTo>
                <a:lnTo>
                  <a:pt x="178" y="779"/>
                </a:lnTo>
                <a:lnTo>
                  <a:pt x="172" y="775"/>
                </a:lnTo>
                <a:lnTo>
                  <a:pt x="168" y="770"/>
                </a:lnTo>
                <a:lnTo>
                  <a:pt x="165" y="764"/>
                </a:lnTo>
                <a:lnTo>
                  <a:pt x="161" y="758"/>
                </a:lnTo>
                <a:lnTo>
                  <a:pt x="155" y="752"/>
                </a:lnTo>
                <a:lnTo>
                  <a:pt x="147" y="739"/>
                </a:lnTo>
                <a:lnTo>
                  <a:pt x="140" y="724"/>
                </a:lnTo>
                <a:lnTo>
                  <a:pt x="134" y="706"/>
                </a:lnTo>
                <a:lnTo>
                  <a:pt x="130" y="697"/>
                </a:lnTo>
                <a:lnTo>
                  <a:pt x="128" y="687"/>
                </a:lnTo>
                <a:lnTo>
                  <a:pt x="124" y="678"/>
                </a:lnTo>
                <a:lnTo>
                  <a:pt x="122" y="666"/>
                </a:lnTo>
                <a:lnTo>
                  <a:pt x="120" y="656"/>
                </a:lnTo>
                <a:lnTo>
                  <a:pt x="119" y="643"/>
                </a:lnTo>
                <a:lnTo>
                  <a:pt x="115" y="632"/>
                </a:lnTo>
                <a:lnTo>
                  <a:pt x="113" y="618"/>
                </a:lnTo>
                <a:lnTo>
                  <a:pt x="111" y="603"/>
                </a:lnTo>
                <a:lnTo>
                  <a:pt x="109" y="589"/>
                </a:lnTo>
                <a:lnTo>
                  <a:pt x="107" y="576"/>
                </a:lnTo>
                <a:lnTo>
                  <a:pt x="105" y="561"/>
                </a:lnTo>
                <a:lnTo>
                  <a:pt x="103" y="547"/>
                </a:lnTo>
                <a:lnTo>
                  <a:pt x="101" y="532"/>
                </a:lnTo>
                <a:lnTo>
                  <a:pt x="101" y="516"/>
                </a:lnTo>
                <a:lnTo>
                  <a:pt x="99" y="499"/>
                </a:lnTo>
                <a:lnTo>
                  <a:pt x="99" y="484"/>
                </a:lnTo>
                <a:lnTo>
                  <a:pt x="97" y="466"/>
                </a:lnTo>
                <a:lnTo>
                  <a:pt x="95" y="447"/>
                </a:lnTo>
                <a:lnTo>
                  <a:pt x="95" y="430"/>
                </a:lnTo>
                <a:lnTo>
                  <a:pt x="94" y="411"/>
                </a:lnTo>
                <a:lnTo>
                  <a:pt x="94" y="392"/>
                </a:lnTo>
                <a:lnTo>
                  <a:pt x="92" y="370"/>
                </a:lnTo>
                <a:lnTo>
                  <a:pt x="90" y="351"/>
                </a:lnTo>
                <a:lnTo>
                  <a:pt x="88" y="330"/>
                </a:lnTo>
                <a:lnTo>
                  <a:pt x="86" y="307"/>
                </a:lnTo>
                <a:lnTo>
                  <a:pt x="84" y="288"/>
                </a:lnTo>
                <a:lnTo>
                  <a:pt x="82" y="269"/>
                </a:lnTo>
                <a:lnTo>
                  <a:pt x="80" y="251"/>
                </a:lnTo>
                <a:lnTo>
                  <a:pt x="76" y="234"/>
                </a:lnTo>
                <a:lnTo>
                  <a:pt x="74" y="217"/>
                </a:lnTo>
                <a:lnTo>
                  <a:pt x="72" y="200"/>
                </a:lnTo>
                <a:lnTo>
                  <a:pt x="69" y="184"/>
                </a:lnTo>
                <a:lnTo>
                  <a:pt x="65" y="169"/>
                </a:lnTo>
                <a:lnTo>
                  <a:pt x="63" y="155"/>
                </a:lnTo>
                <a:lnTo>
                  <a:pt x="59" y="140"/>
                </a:lnTo>
                <a:lnTo>
                  <a:pt x="55" y="129"/>
                </a:lnTo>
                <a:lnTo>
                  <a:pt x="49" y="115"/>
                </a:lnTo>
                <a:lnTo>
                  <a:pt x="46" y="104"/>
                </a:lnTo>
                <a:lnTo>
                  <a:pt x="40" y="94"/>
                </a:lnTo>
                <a:lnTo>
                  <a:pt x="34" y="83"/>
                </a:lnTo>
                <a:lnTo>
                  <a:pt x="28" y="75"/>
                </a:lnTo>
                <a:lnTo>
                  <a:pt x="23" y="67"/>
                </a:lnTo>
                <a:lnTo>
                  <a:pt x="17" y="61"/>
                </a:lnTo>
                <a:lnTo>
                  <a:pt x="13" y="56"/>
                </a:lnTo>
                <a:lnTo>
                  <a:pt x="9" y="50"/>
                </a:lnTo>
                <a:lnTo>
                  <a:pt x="5" y="44"/>
                </a:lnTo>
                <a:lnTo>
                  <a:pt x="3" y="38"/>
                </a:lnTo>
                <a:lnTo>
                  <a:pt x="1" y="35"/>
                </a:lnTo>
                <a:lnTo>
                  <a:pt x="1" y="31"/>
                </a:lnTo>
                <a:lnTo>
                  <a:pt x="0" y="25"/>
                </a:lnTo>
                <a:lnTo>
                  <a:pt x="1" y="21"/>
                </a:lnTo>
                <a:lnTo>
                  <a:pt x="1" y="17"/>
                </a:lnTo>
                <a:lnTo>
                  <a:pt x="3" y="15"/>
                </a:lnTo>
                <a:lnTo>
                  <a:pt x="5" y="12"/>
                </a:lnTo>
                <a:lnTo>
                  <a:pt x="9" y="10"/>
                </a:lnTo>
                <a:lnTo>
                  <a:pt x="13" y="6"/>
                </a:lnTo>
                <a:lnTo>
                  <a:pt x="17" y="4"/>
                </a:lnTo>
                <a:lnTo>
                  <a:pt x="21" y="2"/>
                </a:lnTo>
                <a:lnTo>
                  <a:pt x="26" y="0"/>
                </a:lnTo>
                <a:lnTo>
                  <a:pt x="32" y="0"/>
                </a:lnTo>
                <a:lnTo>
                  <a:pt x="40" y="0"/>
                </a:lnTo>
                <a:lnTo>
                  <a:pt x="49" y="0"/>
                </a:lnTo>
                <a:lnTo>
                  <a:pt x="57" y="0"/>
                </a:lnTo>
                <a:lnTo>
                  <a:pt x="69" y="0"/>
                </a:lnTo>
                <a:lnTo>
                  <a:pt x="78" y="2"/>
                </a:lnTo>
                <a:lnTo>
                  <a:pt x="90" y="4"/>
                </a:lnTo>
                <a:lnTo>
                  <a:pt x="103" y="6"/>
                </a:lnTo>
                <a:lnTo>
                  <a:pt x="117" y="10"/>
                </a:lnTo>
                <a:lnTo>
                  <a:pt x="132" y="12"/>
                </a:lnTo>
                <a:lnTo>
                  <a:pt x="147" y="15"/>
                </a:lnTo>
                <a:lnTo>
                  <a:pt x="165" y="19"/>
                </a:lnTo>
                <a:lnTo>
                  <a:pt x="184" y="23"/>
                </a:lnTo>
                <a:lnTo>
                  <a:pt x="203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4"/>
          <p:cNvSpPr/>
          <p:nvPr/>
        </p:nvSpPr>
        <p:spPr>
          <a:xfrm>
            <a:off x="2218680" y="2154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姥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114880" y="198900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3" name="组合 8"/>
          <p:cNvGrpSpPr/>
          <p:nvPr/>
        </p:nvGrpSpPr>
        <p:grpSpPr>
          <a:xfrm>
            <a:off x="1400040" y="3581280"/>
            <a:ext cx="2840040" cy="1571760"/>
            <a:chOff x="1400040" y="3581280"/>
            <a:chExt cx="2840040" cy="1571760"/>
          </a:xfrm>
        </p:grpSpPr>
        <p:pic>
          <p:nvPicPr>
            <p:cNvPr id="10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58128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矩形 2"/>
            <p:cNvSpPr/>
            <p:nvPr/>
          </p:nvSpPr>
          <p:spPr>
            <a:xfrm>
              <a:off x="1444680" y="419292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部“老”第二横宜长，撇长而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1986120" y="1474920"/>
            <a:ext cx="132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83"/>
          <p:cNvSpPr/>
          <p:nvPr/>
        </p:nvSpPr>
        <p:spPr>
          <a:xfrm>
            <a:off x="6637320" y="3763800"/>
            <a:ext cx="819000" cy="914400"/>
          </a:xfrm>
          <a:custGeom>
            <a:avLst/>
            <a:gdLst/>
            <a:ahLst/>
            <a:rect l="l" t="t" r="r" b="b"/>
            <a:pathLst>
              <a:path w="1032" h="1152">
                <a:moveTo>
                  <a:pt x="6" y="23"/>
                </a:moveTo>
                <a:lnTo>
                  <a:pt x="7" y="18"/>
                </a:lnTo>
                <a:lnTo>
                  <a:pt x="9" y="14"/>
                </a:lnTo>
                <a:lnTo>
                  <a:pt x="13" y="10"/>
                </a:lnTo>
                <a:lnTo>
                  <a:pt x="17" y="8"/>
                </a:lnTo>
                <a:lnTo>
                  <a:pt x="19" y="4"/>
                </a:lnTo>
                <a:lnTo>
                  <a:pt x="23" y="2"/>
                </a:lnTo>
                <a:lnTo>
                  <a:pt x="29" y="2"/>
                </a:lnTo>
                <a:lnTo>
                  <a:pt x="32" y="0"/>
                </a:lnTo>
                <a:lnTo>
                  <a:pt x="38" y="0"/>
                </a:lnTo>
                <a:lnTo>
                  <a:pt x="44" y="0"/>
                </a:lnTo>
                <a:lnTo>
                  <a:pt x="55" y="2"/>
                </a:lnTo>
                <a:lnTo>
                  <a:pt x="63" y="4"/>
                </a:lnTo>
                <a:lnTo>
                  <a:pt x="71" y="4"/>
                </a:lnTo>
                <a:lnTo>
                  <a:pt x="79" y="6"/>
                </a:lnTo>
                <a:lnTo>
                  <a:pt x="86" y="10"/>
                </a:lnTo>
                <a:lnTo>
                  <a:pt x="103" y="16"/>
                </a:lnTo>
                <a:lnTo>
                  <a:pt x="119" y="21"/>
                </a:lnTo>
                <a:lnTo>
                  <a:pt x="132" y="29"/>
                </a:lnTo>
                <a:lnTo>
                  <a:pt x="146" y="37"/>
                </a:lnTo>
                <a:lnTo>
                  <a:pt x="157" y="45"/>
                </a:lnTo>
                <a:lnTo>
                  <a:pt x="161" y="48"/>
                </a:lnTo>
                <a:lnTo>
                  <a:pt x="167" y="52"/>
                </a:lnTo>
                <a:lnTo>
                  <a:pt x="171" y="56"/>
                </a:lnTo>
                <a:lnTo>
                  <a:pt x="174" y="60"/>
                </a:lnTo>
                <a:lnTo>
                  <a:pt x="176" y="62"/>
                </a:lnTo>
                <a:lnTo>
                  <a:pt x="180" y="66"/>
                </a:lnTo>
                <a:lnTo>
                  <a:pt x="180" y="68"/>
                </a:lnTo>
                <a:lnTo>
                  <a:pt x="182" y="71"/>
                </a:lnTo>
                <a:lnTo>
                  <a:pt x="184" y="77"/>
                </a:lnTo>
                <a:lnTo>
                  <a:pt x="184" y="83"/>
                </a:lnTo>
                <a:lnTo>
                  <a:pt x="184" y="89"/>
                </a:lnTo>
                <a:lnTo>
                  <a:pt x="184" y="96"/>
                </a:lnTo>
                <a:lnTo>
                  <a:pt x="182" y="104"/>
                </a:lnTo>
                <a:lnTo>
                  <a:pt x="182" y="114"/>
                </a:lnTo>
                <a:lnTo>
                  <a:pt x="180" y="121"/>
                </a:lnTo>
                <a:lnTo>
                  <a:pt x="178" y="133"/>
                </a:lnTo>
                <a:lnTo>
                  <a:pt x="178" y="142"/>
                </a:lnTo>
                <a:lnTo>
                  <a:pt x="176" y="154"/>
                </a:lnTo>
                <a:lnTo>
                  <a:pt x="174" y="165"/>
                </a:lnTo>
                <a:lnTo>
                  <a:pt x="171" y="177"/>
                </a:lnTo>
                <a:lnTo>
                  <a:pt x="167" y="202"/>
                </a:lnTo>
                <a:lnTo>
                  <a:pt x="163" y="233"/>
                </a:lnTo>
                <a:lnTo>
                  <a:pt x="159" y="267"/>
                </a:lnTo>
                <a:lnTo>
                  <a:pt x="155" y="300"/>
                </a:lnTo>
                <a:lnTo>
                  <a:pt x="151" y="336"/>
                </a:lnTo>
                <a:lnTo>
                  <a:pt x="150" y="373"/>
                </a:lnTo>
                <a:lnTo>
                  <a:pt x="146" y="411"/>
                </a:lnTo>
                <a:lnTo>
                  <a:pt x="146" y="450"/>
                </a:lnTo>
                <a:lnTo>
                  <a:pt x="144" y="492"/>
                </a:lnTo>
                <a:lnTo>
                  <a:pt x="144" y="511"/>
                </a:lnTo>
                <a:lnTo>
                  <a:pt x="146" y="530"/>
                </a:lnTo>
                <a:lnTo>
                  <a:pt x="146" y="549"/>
                </a:lnTo>
                <a:lnTo>
                  <a:pt x="146" y="569"/>
                </a:lnTo>
                <a:lnTo>
                  <a:pt x="148" y="586"/>
                </a:lnTo>
                <a:lnTo>
                  <a:pt x="150" y="603"/>
                </a:lnTo>
                <a:lnTo>
                  <a:pt x="150" y="620"/>
                </a:lnTo>
                <a:lnTo>
                  <a:pt x="151" y="636"/>
                </a:lnTo>
                <a:lnTo>
                  <a:pt x="153" y="651"/>
                </a:lnTo>
                <a:lnTo>
                  <a:pt x="155" y="665"/>
                </a:lnTo>
                <a:lnTo>
                  <a:pt x="157" y="680"/>
                </a:lnTo>
                <a:lnTo>
                  <a:pt x="159" y="691"/>
                </a:lnTo>
                <a:lnTo>
                  <a:pt x="161" y="705"/>
                </a:lnTo>
                <a:lnTo>
                  <a:pt x="163" y="716"/>
                </a:lnTo>
                <a:lnTo>
                  <a:pt x="165" y="728"/>
                </a:lnTo>
                <a:lnTo>
                  <a:pt x="167" y="739"/>
                </a:lnTo>
                <a:lnTo>
                  <a:pt x="169" y="751"/>
                </a:lnTo>
                <a:lnTo>
                  <a:pt x="173" y="762"/>
                </a:lnTo>
                <a:lnTo>
                  <a:pt x="174" y="774"/>
                </a:lnTo>
                <a:lnTo>
                  <a:pt x="176" y="785"/>
                </a:lnTo>
                <a:lnTo>
                  <a:pt x="178" y="795"/>
                </a:lnTo>
                <a:lnTo>
                  <a:pt x="182" y="805"/>
                </a:lnTo>
                <a:lnTo>
                  <a:pt x="184" y="814"/>
                </a:lnTo>
                <a:lnTo>
                  <a:pt x="188" y="822"/>
                </a:lnTo>
                <a:lnTo>
                  <a:pt x="192" y="831"/>
                </a:lnTo>
                <a:lnTo>
                  <a:pt x="196" y="839"/>
                </a:lnTo>
                <a:lnTo>
                  <a:pt x="203" y="853"/>
                </a:lnTo>
                <a:lnTo>
                  <a:pt x="213" y="866"/>
                </a:lnTo>
                <a:lnTo>
                  <a:pt x="219" y="870"/>
                </a:lnTo>
                <a:lnTo>
                  <a:pt x="226" y="876"/>
                </a:lnTo>
                <a:lnTo>
                  <a:pt x="230" y="883"/>
                </a:lnTo>
                <a:lnTo>
                  <a:pt x="234" y="891"/>
                </a:lnTo>
                <a:lnTo>
                  <a:pt x="240" y="897"/>
                </a:lnTo>
                <a:lnTo>
                  <a:pt x="245" y="903"/>
                </a:lnTo>
                <a:lnTo>
                  <a:pt x="251" y="908"/>
                </a:lnTo>
                <a:lnTo>
                  <a:pt x="257" y="912"/>
                </a:lnTo>
                <a:lnTo>
                  <a:pt x="269" y="922"/>
                </a:lnTo>
                <a:lnTo>
                  <a:pt x="282" y="927"/>
                </a:lnTo>
                <a:lnTo>
                  <a:pt x="297" y="935"/>
                </a:lnTo>
                <a:lnTo>
                  <a:pt x="313" y="939"/>
                </a:lnTo>
                <a:lnTo>
                  <a:pt x="330" y="945"/>
                </a:lnTo>
                <a:lnTo>
                  <a:pt x="347" y="951"/>
                </a:lnTo>
                <a:lnTo>
                  <a:pt x="366" y="952"/>
                </a:lnTo>
                <a:lnTo>
                  <a:pt x="388" y="956"/>
                </a:lnTo>
                <a:lnTo>
                  <a:pt x="409" y="956"/>
                </a:lnTo>
                <a:lnTo>
                  <a:pt x="432" y="958"/>
                </a:lnTo>
                <a:lnTo>
                  <a:pt x="455" y="958"/>
                </a:lnTo>
                <a:lnTo>
                  <a:pt x="478" y="958"/>
                </a:lnTo>
                <a:lnTo>
                  <a:pt x="505" y="958"/>
                </a:lnTo>
                <a:lnTo>
                  <a:pt x="530" y="958"/>
                </a:lnTo>
                <a:lnTo>
                  <a:pt x="556" y="956"/>
                </a:lnTo>
                <a:lnTo>
                  <a:pt x="583" y="952"/>
                </a:lnTo>
                <a:lnTo>
                  <a:pt x="608" y="949"/>
                </a:lnTo>
                <a:lnTo>
                  <a:pt x="635" y="943"/>
                </a:lnTo>
                <a:lnTo>
                  <a:pt x="660" y="935"/>
                </a:lnTo>
                <a:lnTo>
                  <a:pt x="687" y="927"/>
                </a:lnTo>
                <a:lnTo>
                  <a:pt x="714" y="918"/>
                </a:lnTo>
                <a:lnTo>
                  <a:pt x="725" y="912"/>
                </a:lnTo>
                <a:lnTo>
                  <a:pt x="739" y="904"/>
                </a:lnTo>
                <a:lnTo>
                  <a:pt x="750" y="897"/>
                </a:lnTo>
                <a:lnTo>
                  <a:pt x="760" y="885"/>
                </a:lnTo>
                <a:lnTo>
                  <a:pt x="771" y="876"/>
                </a:lnTo>
                <a:lnTo>
                  <a:pt x="781" y="862"/>
                </a:lnTo>
                <a:lnTo>
                  <a:pt x="791" y="849"/>
                </a:lnTo>
                <a:lnTo>
                  <a:pt x="800" y="833"/>
                </a:lnTo>
                <a:lnTo>
                  <a:pt x="808" y="816"/>
                </a:lnTo>
                <a:lnTo>
                  <a:pt x="816" y="799"/>
                </a:lnTo>
                <a:lnTo>
                  <a:pt x="823" y="778"/>
                </a:lnTo>
                <a:lnTo>
                  <a:pt x="831" y="757"/>
                </a:lnTo>
                <a:lnTo>
                  <a:pt x="837" y="734"/>
                </a:lnTo>
                <a:lnTo>
                  <a:pt x="842" y="709"/>
                </a:lnTo>
                <a:lnTo>
                  <a:pt x="848" y="684"/>
                </a:lnTo>
                <a:lnTo>
                  <a:pt x="852" y="657"/>
                </a:lnTo>
                <a:lnTo>
                  <a:pt x="854" y="641"/>
                </a:lnTo>
                <a:lnTo>
                  <a:pt x="856" y="628"/>
                </a:lnTo>
                <a:lnTo>
                  <a:pt x="860" y="603"/>
                </a:lnTo>
                <a:lnTo>
                  <a:pt x="865" y="580"/>
                </a:lnTo>
                <a:lnTo>
                  <a:pt x="869" y="557"/>
                </a:lnTo>
                <a:lnTo>
                  <a:pt x="873" y="538"/>
                </a:lnTo>
                <a:lnTo>
                  <a:pt x="877" y="519"/>
                </a:lnTo>
                <a:lnTo>
                  <a:pt x="881" y="503"/>
                </a:lnTo>
                <a:lnTo>
                  <a:pt x="885" y="488"/>
                </a:lnTo>
                <a:lnTo>
                  <a:pt x="889" y="474"/>
                </a:lnTo>
                <a:lnTo>
                  <a:pt x="892" y="463"/>
                </a:lnTo>
                <a:lnTo>
                  <a:pt x="896" y="451"/>
                </a:lnTo>
                <a:lnTo>
                  <a:pt x="900" y="444"/>
                </a:lnTo>
                <a:lnTo>
                  <a:pt x="902" y="436"/>
                </a:lnTo>
                <a:lnTo>
                  <a:pt x="906" y="430"/>
                </a:lnTo>
                <a:lnTo>
                  <a:pt x="908" y="425"/>
                </a:lnTo>
                <a:lnTo>
                  <a:pt x="910" y="423"/>
                </a:lnTo>
                <a:lnTo>
                  <a:pt x="912" y="423"/>
                </a:lnTo>
                <a:lnTo>
                  <a:pt x="915" y="425"/>
                </a:lnTo>
                <a:lnTo>
                  <a:pt x="917" y="428"/>
                </a:lnTo>
                <a:lnTo>
                  <a:pt x="921" y="434"/>
                </a:lnTo>
                <a:lnTo>
                  <a:pt x="923" y="442"/>
                </a:lnTo>
                <a:lnTo>
                  <a:pt x="927" y="450"/>
                </a:lnTo>
                <a:lnTo>
                  <a:pt x="931" y="461"/>
                </a:lnTo>
                <a:lnTo>
                  <a:pt x="933" y="473"/>
                </a:lnTo>
                <a:lnTo>
                  <a:pt x="937" y="484"/>
                </a:lnTo>
                <a:lnTo>
                  <a:pt x="940" y="499"/>
                </a:lnTo>
                <a:lnTo>
                  <a:pt x="942" y="515"/>
                </a:lnTo>
                <a:lnTo>
                  <a:pt x="946" y="532"/>
                </a:lnTo>
                <a:lnTo>
                  <a:pt x="950" y="551"/>
                </a:lnTo>
                <a:lnTo>
                  <a:pt x="952" y="570"/>
                </a:lnTo>
                <a:lnTo>
                  <a:pt x="954" y="592"/>
                </a:lnTo>
                <a:lnTo>
                  <a:pt x="958" y="615"/>
                </a:lnTo>
                <a:lnTo>
                  <a:pt x="960" y="640"/>
                </a:lnTo>
                <a:lnTo>
                  <a:pt x="961" y="665"/>
                </a:lnTo>
                <a:lnTo>
                  <a:pt x="963" y="688"/>
                </a:lnTo>
                <a:lnTo>
                  <a:pt x="967" y="711"/>
                </a:lnTo>
                <a:lnTo>
                  <a:pt x="971" y="732"/>
                </a:lnTo>
                <a:lnTo>
                  <a:pt x="975" y="753"/>
                </a:lnTo>
                <a:lnTo>
                  <a:pt x="979" y="772"/>
                </a:lnTo>
                <a:lnTo>
                  <a:pt x="983" y="791"/>
                </a:lnTo>
                <a:lnTo>
                  <a:pt x="986" y="810"/>
                </a:lnTo>
                <a:lnTo>
                  <a:pt x="992" y="828"/>
                </a:lnTo>
                <a:lnTo>
                  <a:pt x="998" y="845"/>
                </a:lnTo>
                <a:lnTo>
                  <a:pt x="1002" y="860"/>
                </a:lnTo>
                <a:lnTo>
                  <a:pt x="1008" y="876"/>
                </a:lnTo>
                <a:lnTo>
                  <a:pt x="1013" y="891"/>
                </a:lnTo>
                <a:lnTo>
                  <a:pt x="1019" y="904"/>
                </a:lnTo>
                <a:lnTo>
                  <a:pt x="1027" y="918"/>
                </a:lnTo>
                <a:lnTo>
                  <a:pt x="1031" y="929"/>
                </a:lnTo>
                <a:lnTo>
                  <a:pt x="1032" y="943"/>
                </a:lnTo>
                <a:lnTo>
                  <a:pt x="1032" y="954"/>
                </a:lnTo>
                <a:lnTo>
                  <a:pt x="1031" y="966"/>
                </a:lnTo>
                <a:lnTo>
                  <a:pt x="1027" y="977"/>
                </a:lnTo>
                <a:lnTo>
                  <a:pt x="1023" y="989"/>
                </a:lnTo>
                <a:lnTo>
                  <a:pt x="1017" y="1000"/>
                </a:lnTo>
                <a:lnTo>
                  <a:pt x="1009" y="1010"/>
                </a:lnTo>
                <a:lnTo>
                  <a:pt x="1002" y="1020"/>
                </a:lnTo>
                <a:lnTo>
                  <a:pt x="990" y="1029"/>
                </a:lnTo>
                <a:lnTo>
                  <a:pt x="979" y="1039"/>
                </a:lnTo>
                <a:lnTo>
                  <a:pt x="965" y="1048"/>
                </a:lnTo>
                <a:lnTo>
                  <a:pt x="952" y="1058"/>
                </a:lnTo>
                <a:lnTo>
                  <a:pt x="935" y="1066"/>
                </a:lnTo>
                <a:lnTo>
                  <a:pt x="917" y="1075"/>
                </a:lnTo>
                <a:lnTo>
                  <a:pt x="898" y="1083"/>
                </a:lnTo>
                <a:lnTo>
                  <a:pt x="856" y="1098"/>
                </a:lnTo>
                <a:lnTo>
                  <a:pt x="812" y="1112"/>
                </a:lnTo>
                <a:lnTo>
                  <a:pt x="768" y="1123"/>
                </a:lnTo>
                <a:lnTo>
                  <a:pt x="745" y="1129"/>
                </a:lnTo>
                <a:lnTo>
                  <a:pt x="723" y="1133"/>
                </a:lnTo>
                <a:lnTo>
                  <a:pt x="700" y="1137"/>
                </a:lnTo>
                <a:lnTo>
                  <a:pt x="677" y="1141"/>
                </a:lnTo>
                <a:lnTo>
                  <a:pt x="656" y="1144"/>
                </a:lnTo>
                <a:lnTo>
                  <a:pt x="633" y="1146"/>
                </a:lnTo>
                <a:lnTo>
                  <a:pt x="610" y="1148"/>
                </a:lnTo>
                <a:lnTo>
                  <a:pt x="585" y="1150"/>
                </a:lnTo>
                <a:lnTo>
                  <a:pt x="562" y="1152"/>
                </a:lnTo>
                <a:lnTo>
                  <a:pt x="539" y="1152"/>
                </a:lnTo>
                <a:lnTo>
                  <a:pt x="516" y="1152"/>
                </a:lnTo>
                <a:lnTo>
                  <a:pt x="493" y="1150"/>
                </a:lnTo>
                <a:lnTo>
                  <a:pt x="470" y="1150"/>
                </a:lnTo>
                <a:lnTo>
                  <a:pt x="449" y="1150"/>
                </a:lnTo>
                <a:lnTo>
                  <a:pt x="430" y="1148"/>
                </a:lnTo>
                <a:lnTo>
                  <a:pt x="411" y="1146"/>
                </a:lnTo>
                <a:lnTo>
                  <a:pt x="391" y="1144"/>
                </a:lnTo>
                <a:lnTo>
                  <a:pt x="374" y="1142"/>
                </a:lnTo>
                <a:lnTo>
                  <a:pt x="357" y="1141"/>
                </a:lnTo>
                <a:lnTo>
                  <a:pt x="340" y="1139"/>
                </a:lnTo>
                <a:lnTo>
                  <a:pt x="324" y="1137"/>
                </a:lnTo>
                <a:lnTo>
                  <a:pt x="311" y="1135"/>
                </a:lnTo>
                <a:lnTo>
                  <a:pt x="297" y="1131"/>
                </a:lnTo>
                <a:lnTo>
                  <a:pt x="284" y="1129"/>
                </a:lnTo>
                <a:lnTo>
                  <a:pt x="272" y="1127"/>
                </a:lnTo>
                <a:lnTo>
                  <a:pt x="261" y="1123"/>
                </a:lnTo>
                <a:lnTo>
                  <a:pt x="249" y="1121"/>
                </a:lnTo>
                <a:lnTo>
                  <a:pt x="238" y="1117"/>
                </a:lnTo>
                <a:lnTo>
                  <a:pt x="228" y="1114"/>
                </a:lnTo>
                <a:lnTo>
                  <a:pt x="217" y="1108"/>
                </a:lnTo>
                <a:lnTo>
                  <a:pt x="207" y="1102"/>
                </a:lnTo>
                <a:lnTo>
                  <a:pt x="196" y="1096"/>
                </a:lnTo>
                <a:lnTo>
                  <a:pt x="184" y="1089"/>
                </a:lnTo>
                <a:lnTo>
                  <a:pt x="174" y="1081"/>
                </a:lnTo>
                <a:lnTo>
                  <a:pt x="165" y="1071"/>
                </a:lnTo>
                <a:lnTo>
                  <a:pt x="153" y="1062"/>
                </a:lnTo>
                <a:lnTo>
                  <a:pt x="144" y="1052"/>
                </a:lnTo>
                <a:lnTo>
                  <a:pt x="134" y="1041"/>
                </a:lnTo>
                <a:lnTo>
                  <a:pt x="125" y="1029"/>
                </a:lnTo>
                <a:lnTo>
                  <a:pt x="115" y="1016"/>
                </a:lnTo>
                <a:lnTo>
                  <a:pt x="107" y="1002"/>
                </a:lnTo>
                <a:lnTo>
                  <a:pt x="98" y="987"/>
                </a:lnTo>
                <a:lnTo>
                  <a:pt x="94" y="979"/>
                </a:lnTo>
                <a:lnTo>
                  <a:pt x="90" y="972"/>
                </a:lnTo>
                <a:lnTo>
                  <a:pt x="86" y="964"/>
                </a:lnTo>
                <a:lnTo>
                  <a:pt x="82" y="956"/>
                </a:lnTo>
                <a:lnTo>
                  <a:pt x="79" y="949"/>
                </a:lnTo>
                <a:lnTo>
                  <a:pt x="75" y="939"/>
                </a:lnTo>
                <a:lnTo>
                  <a:pt x="71" y="929"/>
                </a:lnTo>
                <a:lnTo>
                  <a:pt x="67" y="918"/>
                </a:lnTo>
                <a:lnTo>
                  <a:pt x="65" y="908"/>
                </a:lnTo>
                <a:lnTo>
                  <a:pt x="61" y="897"/>
                </a:lnTo>
                <a:lnTo>
                  <a:pt x="59" y="885"/>
                </a:lnTo>
                <a:lnTo>
                  <a:pt x="55" y="872"/>
                </a:lnTo>
                <a:lnTo>
                  <a:pt x="54" y="860"/>
                </a:lnTo>
                <a:lnTo>
                  <a:pt x="52" y="847"/>
                </a:lnTo>
                <a:lnTo>
                  <a:pt x="50" y="831"/>
                </a:lnTo>
                <a:lnTo>
                  <a:pt x="48" y="818"/>
                </a:lnTo>
                <a:lnTo>
                  <a:pt x="46" y="803"/>
                </a:lnTo>
                <a:lnTo>
                  <a:pt x="44" y="787"/>
                </a:lnTo>
                <a:lnTo>
                  <a:pt x="42" y="770"/>
                </a:lnTo>
                <a:lnTo>
                  <a:pt x="42" y="755"/>
                </a:lnTo>
                <a:lnTo>
                  <a:pt x="40" y="736"/>
                </a:lnTo>
                <a:lnTo>
                  <a:pt x="38" y="718"/>
                </a:lnTo>
                <a:lnTo>
                  <a:pt x="38" y="699"/>
                </a:lnTo>
                <a:lnTo>
                  <a:pt x="38" y="680"/>
                </a:lnTo>
                <a:lnTo>
                  <a:pt x="38" y="661"/>
                </a:lnTo>
                <a:lnTo>
                  <a:pt x="36" y="640"/>
                </a:lnTo>
                <a:lnTo>
                  <a:pt x="36" y="618"/>
                </a:lnTo>
                <a:lnTo>
                  <a:pt x="36" y="597"/>
                </a:lnTo>
                <a:lnTo>
                  <a:pt x="38" y="576"/>
                </a:lnTo>
                <a:lnTo>
                  <a:pt x="38" y="553"/>
                </a:lnTo>
                <a:lnTo>
                  <a:pt x="38" y="528"/>
                </a:lnTo>
                <a:lnTo>
                  <a:pt x="40" y="505"/>
                </a:lnTo>
                <a:lnTo>
                  <a:pt x="40" y="482"/>
                </a:lnTo>
                <a:lnTo>
                  <a:pt x="40" y="459"/>
                </a:lnTo>
                <a:lnTo>
                  <a:pt x="40" y="438"/>
                </a:lnTo>
                <a:lnTo>
                  <a:pt x="40" y="417"/>
                </a:lnTo>
                <a:lnTo>
                  <a:pt x="38" y="396"/>
                </a:lnTo>
                <a:lnTo>
                  <a:pt x="38" y="377"/>
                </a:lnTo>
                <a:lnTo>
                  <a:pt x="38" y="357"/>
                </a:lnTo>
                <a:lnTo>
                  <a:pt x="38" y="340"/>
                </a:lnTo>
                <a:lnTo>
                  <a:pt x="36" y="323"/>
                </a:lnTo>
                <a:lnTo>
                  <a:pt x="36" y="306"/>
                </a:lnTo>
                <a:lnTo>
                  <a:pt x="36" y="288"/>
                </a:lnTo>
                <a:lnTo>
                  <a:pt x="36" y="273"/>
                </a:lnTo>
                <a:lnTo>
                  <a:pt x="34" y="258"/>
                </a:lnTo>
                <a:lnTo>
                  <a:pt x="34" y="242"/>
                </a:lnTo>
                <a:lnTo>
                  <a:pt x="32" y="229"/>
                </a:lnTo>
                <a:lnTo>
                  <a:pt x="32" y="215"/>
                </a:lnTo>
                <a:lnTo>
                  <a:pt x="32" y="204"/>
                </a:lnTo>
                <a:lnTo>
                  <a:pt x="31" y="190"/>
                </a:lnTo>
                <a:lnTo>
                  <a:pt x="31" y="181"/>
                </a:lnTo>
                <a:lnTo>
                  <a:pt x="29" y="169"/>
                </a:lnTo>
                <a:lnTo>
                  <a:pt x="29" y="160"/>
                </a:lnTo>
                <a:lnTo>
                  <a:pt x="27" y="150"/>
                </a:lnTo>
                <a:lnTo>
                  <a:pt x="27" y="140"/>
                </a:lnTo>
                <a:lnTo>
                  <a:pt x="25" y="133"/>
                </a:lnTo>
                <a:lnTo>
                  <a:pt x="25" y="125"/>
                </a:lnTo>
                <a:lnTo>
                  <a:pt x="23" y="119"/>
                </a:lnTo>
                <a:lnTo>
                  <a:pt x="23" y="114"/>
                </a:lnTo>
                <a:lnTo>
                  <a:pt x="21" y="108"/>
                </a:lnTo>
                <a:lnTo>
                  <a:pt x="19" y="102"/>
                </a:lnTo>
                <a:lnTo>
                  <a:pt x="19" y="98"/>
                </a:lnTo>
                <a:lnTo>
                  <a:pt x="17" y="94"/>
                </a:lnTo>
                <a:lnTo>
                  <a:pt x="17" y="92"/>
                </a:lnTo>
                <a:lnTo>
                  <a:pt x="13" y="81"/>
                </a:lnTo>
                <a:lnTo>
                  <a:pt x="7" y="71"/>
                </a:lnTo>
                <a:lnTo>
                  <a:pt x="6" y="62"/>
                </a:lnTo>
                <a:lnTo>
                  <a:pt x="2" y="52"/>
                </a:lnTo>
                <a:lnTo>
                  <a:pt x="0" y="45"/>
                </a:lnTo>
                <a:lnTo>
                  <a:pt x="0" y="37"/>
                </a:lnTo>
                <a:lnTo>
                  <a:pt x="2" y="29"/>
                </a:lnTo>
                <a:lnTo>
                  <a:pt x="4" y="25"/>
                </a:lnTo>
                <a:lnTo>
                  <a:pt x="6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84"/>
          <p:cNvSpPr/>
          <p:nvPr/>
        </p:nvSpPr>
        <p:spPr>
          <a:xfrm>
            <a:off x="6724800" y="3792600"/>
            <a:ext cx="552240" cy="428400"/>
          </a:xfrm>
          <a:custGeom>
            <a:avLst/>
            <a:gdLst/>
            <a:ahLst/>
            <a:rect l="l" t="t" r="r" b="b"/>
            <a:pathLst>
              <a:path w="697" h="542">
                <a:moveTo>
                  <a:pt x="534" y="308"/>
                </a:moveTo>
                <a:lnTo>
                  <a:pt x="515" y="321"/>
                </a:lnTo>
                <a:lnTo>
                  <a:pt x="492" y="334"/>
                </a:lnTo>
                <a:lnTo>
                  <a:pt x="469" y="346"/>
                </a:lnTo>
                <a:lnTo>
                  <a:pt x="444" y="359"/>
                </a:lnTo>
                <a:lnTo>
                  <a:pt x="417" y="373"/>
                </a:lnTo>
                <a:lnTo>
                  <a:pt x="388" y="386"/>
                </a:lnTo>
                <a:lnTo>
                  <a:pt x="357" y="400"/>
                </a:lnTo>
                <a:lnTo>
                  <a:pt x="325" y="413"/>
                </a:lnTo>
                <a:lnTo>
                  <a:pt x="292" y="428"/>
                </a:lnTo>
                <a:lnTo>
                  <a:pt x="257" y="442"/>
                </a:lnTo>
                <a:lnTo>
                  <a:pt x="221" y="457"/>
                </a:lnTo>
                <a:lnTo>
                  <a:pt x="183" y="473"/>
                </a:lnTo>
                <a:lnTo>
                  <a:pt x="142" y="490"/>
                </a:lnTo>
                <a:lnTo>
                  <a:pt x="100" y="505"/>
                </a:lnTo>
                <a:lnTo>
                  <a:pt x="58" y="523"/>
                </a:lnTo>
                <a:lnTo>
                  <a:pt x="12" y="542"/>
                </a:lnTo>
                <a:lnTo>
                  <a:pt x="6" y="513"/>
                </a:lnTo>
                <a:lnTo>
                  <a:pt x="0" y="486"/>
                </a:lnTo>
                <a:lnTo>
                  <a:pt x="41" y="461"/>
                </a:lnTo>
                <a:lnTo>
                  <a:pt x="79" y="436"/>
                </a:lnTo>
                <a:lnTo>
                  <a:pt x="115" y="413"/>
                </a:lnTo>
                <a:lnTo>
                  <a:pt x="150" y="390"/>
                </a:lnTo>
                <a:lnTo>
                  <a:pt x="183" y="369"/>
                </a:lnTo>
                <a:lnTo>
                  <a:pt x="213" y="348"/>
                </a:lnTo>
                <a:lnTo>
                  <a:pt x="242" y="329"/>
                </a:lnTo>
                <a:lnTo>
                  <a:pt x="271" y="309"/>
                </a:lnTo>
                <a:lnTo>
                  <a:pt x="296" y="292"/>
                </a:lnTo>
                <a:lnTo>
                  <a:pt x="319" y="277"/>
                </a:lnTo>
                <a:lnTo>
                  <a:pt x="340" y="261"/>
                </a:lnTo>
                <a:lnTo>
                  <a:pt x="350" y="254"/>
                </a:lnTo>
                <a:lnTo>
                  <a:pt x="359" y="246"/>
                </a:lnTo>
                <a:lnTo>
                  <a:pt x="369" y="238"/>
                </a:lnTo>
                <a:lnTo>
                  <a:pt x="376" y="233"/>
                </a:lnTo>
                <a:lnTo>
                  <a:pt x="386" y="227"/>
                </a:lnTo>
                <a:lnTo>
                  <a:pt x="392" y="219"/>
                </a:lnTo>
                <a:lnTo>
                  <a:pt x="399" y="213"/>
                </a:lnTo>
                <a:lnTo>
                  <a:pt x="407" y="208"/>
                </a:lnTo>
                <a:lnTo>
                  <a:pt x="413" y="202"/>
                </a:lnTo>
                <a:lnTo>
                  <a:pt x="419" y="198"/>
                </a:lnTo>
                <a:lnTo>
                  <a:pt x="428" y="187"/>
                </a:lnTo>
                <a:lnTo>
                  <a:pt x="438" y="177"/>
                </a:lnTo>
                <a:lnTo>
                  <a:pt x="447" y="167"/>
                </a:lnTo>
                <a:lnTo>
                  <a:pt x="457" y="158"/>
                </a:lnTo>
                <a:lnTo>
                  <a:pt x="465" y="148"/>
                </a:lnTo>
                <a:lnTo>
                  <a:pt x="472" y="141"/>
                </a:lnTo>
                <a:lnTo>
                  <a:pt x="478" y="131"/>
                </a:lnTo>
                <a:lnTo>
                  <a:pt x="484" y="123"/>
                </a:lnTo>
                <a:lnTo>
                  <a:pt x="490" y="116"/>
                </a:lnTo>
                <a:lnTo>
                  <a:pt x="494" y="106"/>
                </a:lnTo>
                <a:lnTo>
                  <a:pt x="497" y="98"/>
                </a:lnTo>
                <a:lnTo>
                  <a:pt x="499" y="91"/>
                </a:lnTo>
                <a:lnTo>
                  <a:pt x="501" y="83"/>
                </a:lnTo>
                <a:lnTo>
                  <a:pt x="501" y="75"/>
                </a:lnTo>
                <a:lnTo>
                  <a:pt x="501" y="68"/>
                </a:lnTo>
                <a:lnTo>
                  <a:pt x="499" y="60"/>
                </a:lnTo>
                <a:lnTo>
                  <a:pt x="495" y="50"/>
                </a:lnTo>
                <a:lnTo>
                  <a:pt x="494" y="41"/>
                </a:lnTo>
                <a:lnTo>
                  <a:pt x="492" y="33"/>
                </a:lnTo>
                <a:lnTo>
                  <a:pt x="492" y="27"/>
                </a:lnTo>
                <a:lnTo>
                  <a:pt x="494" y="22"/>
                </a:lnTo>
                <a:lnTo>
                  <a:pt x="497" y="16"/>
                </a:lnTo>
                <a:lnTo>
                  <a:pt x="501" y="12"/>
                </a:lnTo>
                <a:lnTo>
                  <a:pt x="503" y="10"/>
                </a:lnTo>
                <a:lnTo>
                  <a:pt x="507" y="8"/>
                </a:lnTo>
                <a:lnTo>
                  <a:pt x="511" y="4"/>
                </a:lnTo>
                <a:lnTo>
                  <a:pt x="513" y="2"/>
                </a:lnTo>
                <a:lnTo>
                  <a:pt x="517" y="0"/>
                </a:lnTo>
                <a:lnTo>
                  <a:pt x="520" y="0"/>
                </a:lnTo>
                <a:lnTo>
                  <a:pt x="524" y="0"/>
                </a:lnTo>
                <a:lnTo>
                  <a:pt x="528" y="0"/>
                </a:lnTo>
                <a:lnTo>
                  <a:pt x="534" y="0"/>
                </a:lnTo>
                <a:lnTo>
                  <a:pt x="540" y="2"/>
                </a:lnTo>
                <a:lnTo>
                  <a:pt x="545" y="4"/>
                </a:lnTo>
                <a:lnTo>
                  <a:pt x="553" y="8"/>
                </a:lnTo>
                <a:lnTo>
                  <a:pt x="561" y="10"/>
                </a:lnTo>
                <a:lnTo>
                  <a:pt x="568" y="16"/>
                </a:lnTo>
                <a:lnTo>
                  <a:pt x="576" y="20"/>
                </a:lnTo>
                <a:lnTo>
                  <a:pt x="586" y="25"/>
                </a:lnTo>
                <a:lnTo>
                  <a:pt x="595" y="31"/>
                </a:lnTo>
                <a:lnTo>
                  <a:pt x="605" y="39"/>
                </a:lnTo>
                <a:lnTo>
                  <a:pt x="616" y="46"/>
                </a:lnTo>
                <a:lnTo>
                  <a:pt x="626" y="54"/>
                </a:lnTo>
                <a:lnTo>
                  <a:pt x="636" y="62"/>
                </a:lnTo>
                <a:lnTo>
                  <a:pt x="645" y="68"/>
                </a:lnTo>
                <a:lnTo>
                  <a:pt x="653" y="75"/>
                </a:lnTo>
                <a:lnTo>
                  <a:pt x="661" y="81"/>
                </a:lnTo>
                <a:lnTo>
                  <a:pt x="666" y="87"/>
                </a:lnTo>
                <a:lnTo>
                  <a:pt x="672" y="94"/>
                </a:lnTo>
                <a:lnTo>
                  <a:pt x="678" y="100"/>
                </a:lnTo>
                <a:lnTo>
                  <a:pt x="682" y="106"/>
                </a:lnTo>
                <a:lnTo>
                  <a:pt x="685" y="110"/>
                </a:lnTo>
                <a:lnTo>
                  <a:pt x="689" y="116"/>
                </a:lnTo>
                <a:lnTo>
                  <a:pt x="691" y="121"/>
                </a:lnTo>
                <a:lnTo>
                  <a:pt x="693" y="127"/>
                </a:lnTo>
                <a:lnTo>
                  <a:pt x="695" y="133"/>
                </a:lnTo>
                <a:lnTo>
                  <a:pt x="697" y="137"/>
                </a:lnTo>
                <a:lnTo>
                  <a:pt x="697" y="142"/>
                </a:lnTo>
                <a:lnTo>
                  <a:pt x="695" y="150"/>
                </a:lnTo>
                <a:lnTo>
                  <a:pt x="693" y="158"/>
                </a:lnTo>
                <a:lnTo>
                  <a:pt x="691" y="167"/>
                </a:lnTo>
                <a:lnTo>
                  <a:pt x="685" y="175"/>
                </a:lnTo>
                <a:lnTo>
                  <a:pt x="680" y="185"/>
                </a:lnTo>
                <a:lnTo>
                  <a:pt x="672" y="194"/>
                </a:lnTo>
                <a:lnTo>
                  <a:pt x="664" y="204"/>
                </a:lnTo>
                <a:lnTo>
                  <a:pt x="655" y="213"/>
                </a:lnTo>
                <a:lnTo>
                  <a:pt x="643" y="225"/>
                </a:lnTo>
                <a:lnTo>
                  <a:pt x="632" y="235"/>
                </a:lnTo>
                <a:lnTo>
                  <a:pt x="618" y="246"/>
                </a:lnTo>
                <a:lnTo>
                  <a:pt x="603" y="258"/>
                </a:lnTo>
                <a:lnTo>
                  <a:pt x="588" y="269"/>
                </a:lnTo>
                <a:lnTo>
                  <a:pt x="570" y="283"/>
                </a:lnTo>
                <a:lnTo>
                  <a:pt x="553" y="294"/>
                </a:lnTo>
                <a:lnTo>
                  <a:pt x="534" y="3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85"/>
          <p:cNvSpPr/>
          <p:nvPr/>
        </p:nvSpPr>
        <p:spPr>
          <a:xfrm>
            <a:off x="6253200" y="2720880"/>
            <a:ext cx="1119240" cy="1646280"/>
          </a:xfrm>
          <a:custGeom>
            <a:avLst/>
            <a:gdLst/>
            <a:ahLst/>
            <a:rect l="l" t="t" r="r" b="b"/>
            <a:pathLst>
              <a:path w="1411" h="2073">
                <a:moveTo>
                  <a:pt x="1209" y="88"/>
                </a:moveTo>
                <a:lnTo>
                  <a:pt x="1206" y="73"/>
                </a:lnTo>
                <a:lnTo>
                  <a:pt x="1202" y="60"/>
                </a:lnTo>
                <a:lnTo>
                  <a:pt x="1200" y="48"/>
                </a:lnTo>
                <a:lnTo>
                  <a:pt x="1200" y="37"/>
                </a:lnTo>
                <a:lnTo>
                  <a:pt x="1200" y="27"/>
                </a:lnTo>
                <a:lnTo>
                  <a:pt x="1202" y="19"/>
                </a:lnTo>
                <a:lnTo>
                  <a:pt x="1206" y="12"/>
                </a:lnTo>
                <a:lnTo>
                  <a:pt x="1209" y="6"/>
                </a:lnTo>
                <a:lnTo>
                  <a:pt x="1211" y="4"/>
                </a:lnTo>
                <a:lnTo>
                  <a:pt x="1213" y="2"/>
                </a:lnTo>
                <a:lnTo>
                  <a:pt x="1217" y="0"/>
                </a:lnTo>
                <a:lnTo>
                  <a:pt x="1221" y="0"/>
                </a:lnTo>
                <a:lnTo>
                  <a:pt x="1225" y="0"/>
                </a:lnTo>
                <a:lnTo>
                  <a:pt x="1230" y="0"/>
                </a:lnTo>
                <a:lnTo>
                  <a:pt x="1240" y="2"/>
                </a:lnTo>
                <a:lnTo>
                  <a:pt x="1252" y="6"/>
                </a:lnTo>
                <a:lnTo>
                  <a:pt x="1263" y="10"/>
                </a:lnTo>
                <a:lnTo>
                  <a:pt x="1277" y="13"/>
                </a:lnTo>
                <a:lnTo>
                  <a:pt x="1290" y="19"/>
                </a:lnTo>
                <a:lnTo>
                  <a:pt x="1315" y="40"/>
                </a:lnTo>
                <a:lnTo>
                  <a:pt x="1328" y="52"/>
                </a:lnTo>
                <a:lnTo>
                  <a:pt x="1340" y="61"/>
                </a:lnTo>
                <a:lnTo>
                  <a:pt x="1351" y="75"/>
                </a:lnTo>
                <a:lnTo>
                  <a:pt x="1363" y="86"/>
                </a:lnTo>
                <a:lnTo>
                  <a:pt x="1373" y="100"/>
                </a:lnTo>
                <a:lnTo>
                  <a:pt x="1382" y="115"/>
                </a:lnTo>
                <a:lnTo>
                  <a:pt x="1390" y="131"/>
                </a:lnTo>
                <a:lnTo>
                  <a:pt x="1397" y="144"/>
                </a:lnTo>
                <a:lnTo>
                  <a:pt x="1403" y="157"/>
                </a:lnTo>
                <a:lnTo>
                  <a:pt x="1407" y="171"/>
                </a:lnTo>
                <a:lnTo>
                  <a:pt x="1409" y="184"/>
                </a:lnTo>
                <a:lnTo>
                  <a:pt x="1411" y="198"/>
                </a:lnTo>
                <a:lnTo>
                  <a:pt x="1409" y="204"/>
                </a:lnTo>
                <a:lnTo>
                  <a:pt x="1409" y="211"/>
                </a:lnTo>
                <a:lnTo>
                  <a:pt x="1407" y="219"/>
                </a:lnTo>
                <a:lnTo>
                  <a:pt x="1405" y="227"/>
                </a:lnTo>
                <a:lnTo>
                  <a:pt x="1405" y="230"/>
                </a:lnTo>
                <a:lnTo>
                  <a:pt x="1403" y="234"/>
                </a:lnTo>
                <a:lnTo>
                  <a:pt x="1401" y="240"/>
                </a:lnTo>
                <a:lnTo>
                  <a:pt x="1399" y="246"/>
                </a:lnTo>
                <a:lnTo>
                  <a:pt x="1396" y="251"/>
                </a:lnTo>
                <a:lnTo>
                  <a:pt x="1394" y="259"/>
                </a:lnTo>
                <a:lnTo>
                  <a:pt x="1390" y="267"/>
                </a:lnTo>
                <a:lnTo>
                  <a:pt x="1386" y="275"/>
                </a:lnTo>
                <a:lnTo>
                  <a:pt x="1382" y="284"/>
                </a:lnTo>
                <a:lnTo>
                  <a:pt x="1376" y="294"/>
                </a:lnTo>
                <a:lnTo>
                  <a:pt x="1373" y="303"/>
                </a:lnTo>
                <a:lnTo>
                  <a:pt x="1367" y="313"/>
                </a:lnTo>
                <a:lnTo>
                  <a:pt x="1361" y="324"/>
                </a:lnTo>
                <a:lnTo>
                  <a:pt x="1355" y="338"/>
                </a:lnTo>
                <a:lnTo>
                  <a:pt x="1349" y="349"/>
                </a:lnTo>
                <a:lnTo>
                  <a:pt x="1342" y="363"/>
                </a:lnTo>
                <a:lnTo>
                  <a:pt x="1336" y="376"/>
                </a:lnTo>
                <a:lnTo>
                  <a:pt x="1328" y="392"/>
                </a:lnTo>
                <a:lnTo>
                  <a:pt x="1321" y="407"/>
                </a:lnTo>
                <a:lnTo>
                  <a:pt x="1313" y="422"/>
                </a:lnTo>
                <a:lnTo>
                  <a:pt x="1303" y="438"/>
                </a:lnTo>
                <a:lnTo>
                  <a:pt x="1294" y="455"/>
                </a:lnTo>
                <a:lnTo>
                  <a:pt x="1286" y="474"/>
                </a:lnTo>
                <a:lnTo>
                  <a:pt x="1277" y="491"/>
                </a:lnTo>
                <a:lnTo>
                  <a:pt x="1265" y="511"/>
                </a:lnTo>
                <a:lnTo>
                  <a:pt x="1255" y="532"/>
                </a:lnTo>
                <a:lnTo>
                  <a:pt x="1244" y="551"/>
                </a:lnTo>
                <a:lnTo>
                  <a:pt x="1234" y="574"/>
                </a:lnTo>
                <a:lnTo>
                  <a:pt x="1223" y="595"/>
                </a:lnTo>
                <a:lnTo>
                  <a:pt x="1209" y="618"/>
                </a:lnTo>
                <a:lnTo>
                  <a:pt x="1198" y="641"/>
                </a:lnTo>
                <a:lnTo>
                  <a:pt x="1186" y="666"/>
                </a:lnTo>
                <a:lnTo>
                  <a:pt x="1158" y="714"/>
                </a:lnTo>
                <a:lnTo>
                  <a:pt x="1131" y="760"/>
                </a:lnTo>
                <a:lnTo>
                  <a:pt x="1106" y="806"/>
                </a:lnTo>
                <a:lnTo>
                  <a:pt x="1079" y="850"/>
                </a:lnTo>
                <a:lnTo>
                  <a:pt x="1054" y="893"/>
                </a:lnTo>
                <a:lnTo>
                  <a:pt x="1031" y="933"/>
                </a:lnTo>
                <a:lnTo>
                  <a:pt x="1006" y="971"/>
                </a:lnTo>
                <a:lnTo>
                  <a:pt x="985" y="1010"/>
                </a:lnTo>
                <a:lnTo>
                  <a:pt x="962" y="1046"/>
                </a:lnTo>
                <a:lnTo>
                  <a:pt x="941" y="1083"/>
                </a:lnTo>
                <a:lnTo>
                  <a:pt x="920" y="1117"/>
                </a:lnTo>
                <a:lnTo>
                  <a:pt x="900" y="1150"/>
                </a:lnTo>
                <a:lnTo>
                  <a:pt x="879" y="1181"/>
                </a:lnTo>
                <a:lnTo>
                  <a:pt x="862" y="1213"/>
                </a:lnTo>
                <a:lnTo>
                  <a:pt x="843" y="1242"/>
                </a:lnTo>
                <a:lnTo>
                  <a:pt x="825" y="1271"/>
                </a:lnTo>
                <a:lnTo>
                  <a:pt x="806" y="1300"/>
                </a:lnTo>
                <a:lnTo>
                  <a:pt x="787" y="1326"/>
                </a:lnTo>
                <a:lnTo>
                  <a:pt x="768" y="1353"/>
                </a:lnTo>
                <a:lnTo>
                  <a:pt x="751" y="1380"/>
                </a:lnTo>
                <a:lnTo>
                  <a:pt x="731" y="1405"/>
                </a:lnTo>
                <a:lnTo>
                  <a:pt x="712" y="1430"/>
                </a:lnTo>
                <a:lnTo>
                  <a:pt x="695" y="1455"/>
                </a:lnTo>
                <a:lnTo>
                  <a:pt x="676" y="1480"/>
                </a:lnTo>
                <a:lnTo>
                  <a:pt x="641" y="1526"/>
                </a:lnTo>
                <a:lnTo>
                  <a:pt x="605" y="1570"/>
                </a:lnTo>
                <a:lnTo>
                  <a:pt x="570" y="1614"/>
                </a:lnTo>
                <a:lnTo>
                  <a:pt x="536" y="1657"/>
                </a:lnTo>
                <a:lnTo>
                  <a:pt x="516" y="1680"/>
                </a:lnTo>
                <a:lnTo>
                  <a:pt x="497" y="1703"/>
                </a:lnTo>
                <a:lnTo>
                  <a:pt x="478" y="1724"/>
                </a:lnTo>
                <a:lnTo>
                  <a:pt x="457" y="1745"/>
                </a:lnTo>
                <a:lnTo>
                  <a:pt x="438" y="1766"/>
                </a:lnTo>
                <a:lnTo>
                  <a:pt x="417" y="1785"/>
                </a:lnTo>
                <a:lnTo>
                  <a:pt x="397" y="1804"/>
                </a:lnTo>
                <a:lnTo>
                  <a:pt x="376" y="1824"/>
                </a:lnTo>
                <a:lnTo>
                  <a:pt x="355" y="1841"/>
                </a:lnTo>
                <a:lnTo>
                  <a:pt x="334" y="1860"/>
                </a:lnTo>
                <a:lnTo>
                  <a:pt x="290" y="1895"/>
                </a:lnTo>
                <a:lnTo>
                  <a:pt x="246" y="1927"/>
                </a:lnTo>
                <a:lnTo>
                  <a:pt x="223" y="1943"/>
                </a:lnTo>
                <a:lnTo>
                  <a:pt x="200" y="1960"/>
                </a:lnTo>
                <a:lnTo>
                  <a:pt x="175" y="1977"/>
                </a:lnTo>
                <a:lnTo>
                  <a:pt x="154" y="1992"/>
                </a:lnTo>
                <a:lnTo>
                  <a:pt x="134" y="2006"/>
                </a:lnTo>
                <a:lnTo>
                  <a:pt x="115" y="2019"/>
                </a:lnTo>
                <a:lnTo>
                  <a:pt x="96" y="2031"/>
                </a:lnTo>
                <a:lnTo>
                  <a:pt x="81" y="2040"/>
                </a:lnTo>
                <a:lnTo>
                  <a:pt x="65" y="2048"/>
                </a:lnTo>
                <a:lnTo>
                  <a:pt x="52" y="2056"/>
                </a:lnTo>
                <a:lnTo>
                  <a:pt x="40" y="2062"/>
                </a:lnTo>
                <a:lnTo>
                  <a:pt x="31" y="2065"/>
                </a:lnTo>
                <a:lnTo>
                  <a:pt x="21" y="2069"/>
                </a:lnTo>
                <a:lnTo>
                  <a:pt x="15" y="2071"/>
                </a:lnTo>
                <a:lnTo>
                  <a:pt x="10" y="2073"/>
                </a:lnTo>
                <a:lnTo>
                  <a:pt x="4" y="2073"/>
                </a:lnTo>
                <a:lnTo>
                  <a:pt x="2" y="2071"/>
                </a:lnTo>
                <a:lnTo>
                  <a:pt x="2" y="2069"/>
                </a:lnTo>
                <a:lnTo>
                  <a:pt x="0" y="2065"/>
                </a:lnTo>
                <a:lnTo>
                  <a:pt x="0" y="2062"/>
                </a:lnTo>
                <a:lnTo>
                  <a:pt x="2" y="2058"/>
                </a:lnTo>
                <a:lnTo>
                  <a:pt x="4" y="2052"/>
                </a:lnTo>
                <a:lnTo>
                  <a:pt x="8" y="2044"/>
                </a:lnTo>
                <a:lnTo>
                  <a:pt x="14" y="2039"/>
                </a:lnTo>
                <a:lnTo>
                  <a:pt x="19" y="2031"/>
                </a:lnTo>
                <a:lnTo>
                  <a:pt x="27" y="2021"/>
                </a:lnTo>
                <a:lnTo>
                  <a:pt x="35" y="2012"/>
                </a:lnTo>
                <a:lnTo>
                  <a:pt x="46" y="2002"/>
                </a:lnTo>
                <a:lnTo>
                  <a:pt x="56" y="1992"/>
                </a:lnTo>
                <a:lnTo>
                  <a:pt x="69" y="1981"/>
                </a:lnTo>
                <a:lnTo>
                  <a:pt x="83" y="1969"/>
                </a:lnTo>
                <a:lnTo>
                  <a:pt x="96" y="1956"/>
                </a:lnTo>
                <a:lnTo>
                  <a:pt x="113" y="1944"/>
                </a:lnTo>
                <a:lnTo>
                  <a:pt x="129" y="1931"/>
                </a:lnTo>
                <a:lnTo>
                  <a:pt x="144" y="1918"/>
                </a:lnTo>
                <a:lnTo>
                  <a:pt x="161" y="1902"/>
                </a:lnTo>
                <a:lnTo>
                  <a:pt x="179" y="1885"/>
                </a:lnTo>
                <a:lnTo>
                  <a:pt x="196" y="1868"/>
                </a:lnTo>
                <a:lnTo>
                  <a:pt x="215" y="1848"/>
                </a:lnTo>
                <a:lnTo>
                  <a:pt x="234" y="1827"/>
                </a:lnTo>
                <a:lnTo>
                  <a:pt x="255" y="1804"/>
                </a:lnTo>
                <a:lnTo>
                  <a:pt x="277" y="1781"/>
                </a:lnTo>
                <a:lnTo>
                  <a:pt x="298" y="1756"/>
                </a:lnTo>
                <a:lnTo>
                  <a:pt x="321" y="1729"/>
                </a:lnTo>
                <a:lnTo>
                  <a:pt x="344" y="1701"/>
                </a:lnTo>
                <a:lnTo>
                  <a:pt x="367" y="1672"/>
                </a:lnTo>
                <a:lnTo>
                  <a:pt x="392" y="1643"/>
                </a:lnTo>
                <a:lnTo>
                  <a:pt x="415" y="1612"/>
                </a:lnTo>
                <a:lnTo>
                  <a:pt x="440" y="1580"/>
                </a:lnTo>
                <a:lnTo>
                  <a:pt x="467" y="1547"/>
                </a:lnTo>
                <a:lnTo>
                  <a:pt x="491" y="1513"/>
                </a:lnTo>
                <a:lnTo>
                  <a:pt x="518" y="1476"/>
                </a:lnTo>
                <a:lnTo>
                  <a:pt x="543" y="1442"/>
                </a:lnTo>
                <a:lnTo>
                  <a:pt x="570" y="1405"/>
                </a:lnTo>
                <a:lnTo>
                  <a:pt x="595" y="1367"/>
                </a:lnTo>
                <a:lnTo>
                  <a:pt x="622" y="1328"/>
                </a:lnTo>
                <a:lnTo>
                  <a:pt x="649" y="1288"/>
                </a:lnTo>
                <a:lnTo>
                  <a:pt x="676" y="1250"/>
                </a:lnTo>
                <a:lnTo>
                  <a:pt x="701" y="1207"/>
                </a:lnTo>
                <a:lnTo>
                  <a:pt x="728" y="1167"/>
                </a:lnTo>
                <a:lnTo>
                  <a:pt x="754" y="1123"/>
                </a:lnTo>
                <a:lnTo>
                  <a:pt x="779" y="1081"/>
                </a:lnTo>
                <a:lnTo>
                  <a:pt x="806" y="1037"/>
                </a:lnTo>
                <a:lnTo>
                  <a:pt x="831" y="992"/>
                </a:lnTo>
                <a:lnTo>
                  <a:pt x="858" y="946"/>
                </a:lnTo>
                <a:lnTo>
                  <a:pt x="883" y="900"/>
                </a:lnTo>
                <a:lnTo>
                  <a:pt x="906" y="856"/>
                </a:lnTo>
                <a:lnTo>
                  <a:pt x="929" y="814"/>
                </a:lnTo>
                <a:lnTo>
                  <a:pt x="950" y="772"/>
                </a:lnTo>
                <a:lnTo>
                  <a:pt x="971" y="731"/>
                </a:lnTo>
                <a:lnTo>
                  <a:pt x="992" y="693"/>
                </a:lnTo>
                <a:lnTo>
                  <a:pt x="1012" y="655"/>
                </a:lnTo>
                <a:lnTo>
                  <a:pt x="1031" y="618"/>
                </a:lnTo>
                <a:lnTo>
                  <a:pt x="1048" y="582"/>
                </a:lnTo>
                <a:lnTo>
                  <a:pt x="1065" y="547"/>
                </a:lnTo>
                <a:lnTo>
                  <a:pt x="1083" y="513"/>
                </a:lnTo>
                <a:lnTo>
                  <a:pt x="1098" y="480"/>
                </a:lnTo>
                <a:lnTo>
                  <a:pt x="1111" y="449"/>
                </a:lnTo>
                <a:lnTo>
                  <a:pt x="1127" y="418"/>
                </a:lnTo>
                <a:lnTo>
                  <a:pt x="1138" y="390"/>
                </a:lnTo>
                <a:lnTo>
                  <a:pt x="1152" y="363"/>
                </a:lnTo>
                <a:lnTo>
                  <a:pt x="1161" y="336"/>
                </a:lnTo>
                <a:lnTo>
                  <a:pt x="1171" y="311"/>
                </a:lnTo>
                <a:lnTo>
                  <a:pt x="1177" y="286"/>
                </a:lnTo>
                <a:lnTo>
                  <a:pt x="1184" y="263"/>
                </a:lnTo>
                <a:lnTo>
                  <a:pt x="1190" y="242"/>
                </a:lnTo>
                <a:lnTo>
                  <a:pt x="1196" y="223"/>
                </a:lnTo>
                <a:lnTo>
                  <a:pt x="1200" y="204"/>
                </a:lnTo>
                <a:lnTo>
                  <a:pt x="1204" y="186"/>
                </a:lnTo>
                <a:lnTo>
                  <a:pt x="1207" y="171"/>
                </a:lnTo>
                <a:lnTo>
                  <a:pt x="1209" y="156"/>
                </a:lnTo>
                <a:lnTo>
                  <a:pt x="1211" y="142"/>
                </a:lnTo>
                <a:lnTo>
                  <a:pt x="1211" y="131"/>
                </a:lnTo>
                <a:lnTo>
                  <a:pt x="1213" y="119"/>
                </a:lnTo>
                <a:lnTo>
                  <a:pt x="1213" y="109"/>
                </a:lnTo>
                <a:lnTo>
                  <a:pt x="1211" y="102"/>
                </a:lnTo>
                <a:lnTo>
                  <a:pt x="1209" y="94"/>
                </a:lnTo>
                <a:lnTo>
                  <a:pt x="1209" y="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86"/>
          <p:cNvSpPr/>
          <p:nvPr/>
        </p:nvSpPr>
        <p:spPr>
          <a:xfrm>
            <a:off x="6245280" y="3294000"/>
            <a:ext cx="1428840" cy="327240"/>
          </a:xfrm>
          <a:custGeom>
            <a:avLst/>
            <a:gdLst/>
            <a:ahLst/>
            <a:rect l="l" t="t" r="r" b="b"/>
            <a:pathLst>
              <a:path w="1798" h="412">
                <a:moveTo>
                  <a:pt x="1207" y="82"/>
                </a:moveTo>
                <a:lnTo>
                  <a:pt x="1239" y="71"/>
                </a:lnTo>
                <a:lnTo>
                  <a:pt x="1272" y="61"/>
                </a:lnTo>
                <a:lnTo>
                  <a:pt x="1305" y="54"/>
                </a:lnTo>
                <a:lnTo>
                  <a:pt x="1334" y="44"/>
                </a:lnTo>
                <a:lnTo>
                  <a:pt x="1362" y="38"/>
                </a:lnTo>
                <a:lnTo>
                  <a:pt x="1389" y="30"/>
                </a:lnTo>
                <a:lnTo>
                  <a:pt x="1416" y="25"/>
                </a:lnTo>
                <a:lnTo>
                  <a:pt x="1439" y="19"/>
                </a:lnTo>
                <a:lnTo>
                  <a:pt x="1462" y="15"/>
                </a:lnTo>
                <a:lnTo>
                  <a:pt x="1483" y="9"/>
                </a:lnTo>
                <a:lnTo>
                  <a:pt x="1502" y="7"/>
                </a:lnTo>
                <a:lnTo>
                  <a:pt x="1522" y="4"/>
                </a:lnTo>
                <a:lnTo>
                  <a:pt x="1537" y="2"/>
                </a:lnTo>
                <a:lnTo>
                  <a:pt x="1552" y="0"/>
                </a:lnTo>
                <a:lnTo>
                  <a:pt x="1566" y="0"/>
                </a:lnTo>
                <a:lnTo>
                  <a:pt x="1577" y="0"/>
                </a:lnTo>
                <a:lnTo>
                  <a:pt x="1598" y="0"/>
                </a:lnTo>
                <a:lnTo>
                  <a:pt x="1621" y="2"/>
                </a:lnTo>
                <a:lnTo>
                  <a:pt x="1643" y="6"/>
                </a:lnTo>
                <a:lnTo>
                  <a:pt x="1652" y="7"/>
                </a:lnTo>
                <a:lnTo>
                  <a:pt x="1664" y="11"/>
                </a:lnTo>
                <a:lnTo>
                  <a:pt x="1673" y="15"/>
                </a:lnTo>
                <a:lnTo>
                  <a:pt x="1683" y="19"/>
                </a:lnTo>
                <a:lnTo>
                  <a:pt x="1692" y="23"/>
                </a:lnTo>
                <a:lnTo>
                  <a:pt x="1702" y="29"/>
                </a:lnTo>
                <a:lnTo>
                  <a:pt x="1712" y="34"/>
                </a:lnTo>
                <a:lnTo>
                  <a:pt x="1721" y="40"/>
                </a:lnTo>
                <a:lnTo>
                  <a:pt x="1731" y="46"/>
                </a:lnTo>
                <a:lnTo>
                  <a:pt x="1740" y="54"/>
                </a:lnTo>
                <a:lnTo>
                  <a:pt x="1746" y="61"/>
                </a:lnTo>
                <a:lnTo>
                  <a:pt x="1752" y="69"/>
                </a:lnTo>
                <a:lnTo>
                  <a:pt x="1758" y="75"/>
                </a:lnTo>
                <a:lnTo>
                  <a:pt x="1763" y="80"/>
                </a:lnTo>
                <a:lnTo>
                  <a:pt x="1769" y="86"/>
                </a:lnTo>
                <a:lnTo>
                  <a:pt x="1773" y="90"/>
                </a:lnTo>
                <a:lnTo>
                  <a:pt x="1781" y="98"/>
                </a:lnTo>
                <a:lnTo>
                  <a:pt x="1788" y="105"/>
                </a:lnTo>
                <a:lnTo>
                  <a:pt x="1794" y="111"/>
                </a:lnTo>
                <a:lnTo>
                  <a:pt x="1796" y="115"/>
                </a:lnTo>
                <a:lnTo>
                  <a:pt x="1796" y="117"/>
                </a:lnTo>
                <a:lnTo>
                  <a:pt x="1798" y="121"/>
                </a:lnTo>
                <a:lnTo>
                  <a:pt x="1798" y="123"/>
                </a:lnTo>
                <a:lnTo>
                  <a:pt x="1798" y="132"/>
                </a:lnTo>
                <a:lnTo>
                  <a:pt x="1796" y="138"/>
                </a:lnTo>
                <a:lnTo>
                  <a:pt x="1796" y="144"/>
                </a:lnTo>
                <a:lnTo>
                  <a:pt x="1794" y="148"/>
                </a:lnTo>
                <a:lnTo>
                  <a:pt x="1792" y="153"/>
                </a:lnTo>
                <a:lnTo>
                  <a:pt x="1790" y="159"/>
                </a:lnTo>
                <a:lnTo>
                  <a:pt x="1787" y="165"/>
                </a:lnTo>
                <a:lnTo>
                  <a:pt x="1783" y="167"/>
                </a:lnTo>
                <a:lnTo>
                  <a:pt x="1779" y="169"/>
                </a:lnTo>
                <a:lnTo>
                  <a:pt x="1775" y="171"/>
                </a:lnTo>
                <a:lnTo>
                  <a:pt x="1769" y="173"/>
                </a:lnTo>
                <a:lnTo>
                  <a:pt x="1762" y="173"/>
                </a:lnTo>
                <a:lnTo>
                  <a:pt x="1754" y="174"/>
                </a:lnTo>
                <a:lnTo>
                  <a:pt x="1744" y="174"/>
                </a:lnTo>
                <a:lnTo>
                  <a:pt x="1735" y="176"/>
                </a:lnTo>
                <a:lnTo>
                  <a:pt x="1723" y="176"/>
                </a:lnTo>
                <a:lnTo>
                  <a:pt x="1710" y="176"/>
                </a:lnTo>
                <a:lnTo>
                  <a:pt x="1696" y="178"/>
                </a:lnTo>
                <a:lnTo>
                  <a:pt x="1681" y="178"/>
                </a:lnTo>
                <a:lnTo>
                  <a:pt x="1666" y="178"/>
                </a:lnTo>
                <a:lnTo>
                  <a:pt x="1648" y="178"/>
                </a:lnTo>
                <a:lnTo>
                  <a:pt x="1631" y="178"/>
                </a:lnTo>
                <a:lnTo>
                  <a:pt x="1612" y="178"/>
                </a:lnTo>
                <a:lnTo>
                  <a:pt x="1533" y="178"/>
                </a:lnTo>
                <a:lnTo>
                  <a:pt x="1495" y="178"/>
                </a:lnTo>
                <a:lnTo>
                  <a:pt x="1454" y="180"/>
                </a:lnTo>
                <a:lnTo>
                  <a:pt x="1416" y="180"/>
                </a:lnTo>
                <a:lnTo>
                  <a:pt x="1378" y="184"/>
                </a:lnTo>
                <a:lnTo>
                  <a:pt x="1337" y="186"/>
                </a:lnTo>
                <a:lnTo>
                  <a:pt x="1299" y="192"/>
                </a:lnTo>
                <a:lnTo>
                  <a:pt x="1259" y="197"/>
                </a:lnTo>
                <a:lnTo>
                  <a:pt x="1220" y="203"/>
                </a:lnTo>
                <a:lnTo>
                  <a:pt x="1180" y="211"/>
                </a:lnTo>
                <a:lnTo>
                  <a:pt x="1140" y="219"/>
                </a:lnTo>
                <a:lnTo>
                  <a:pt x="1097" y="226"/>
                </a:lnTo>
                <a:lnTo>
                  <a:pt x="1053" y="234"/>
                </a:lnTo>
                <a:lnTo>
                  <a:pt x="1009" y="242"/>
                </a:lnTo>
                <a:lnTo>
                  <a:pt x="986" y="244"/>
                </a:lnTo>
                <a:lnTo>
                  <a:pt x="963" y="247"/>
                </a:lnTo>
                <a:lnTo>
                  <a:pt x="938" y="251"/>
                </a:lnTo>
                <a:lnTo>
                  <a:pt x="913" y="257"/>
                </a:lnTo>
                <a:lnTo>
                  <a:pt x="888" y="263"/>
                </a:lnTo>
                <a:lnTo>
                  <a:pt x="861" y="270"/>
                </a:lnTo>
                <a:lnTo>
                  <a:pt x="834" y="276"/>
                </a:lnTo>
                <a:lnTo>
                  <a:pt x="808" y="282"/>
                </a:lnTo>
                <a:lnTo>
                  <a:pt x="781" y="290"/>
                </a:lnTo>
                <a:lnTo>
                  <a:pt x="752" y="297"/>
                </a:lnTo>
                <a:lnTo>
                  <a:pt x="723" y="303"/>
                </a:lnTo>
                <a:lnTo>
                  <a:pt x="692" y="311"/>
                </a:lnTo>
                <a:lnTo>
                  <a:pt x="662" y="318"/>
                </a:lnTo>
                <a:lnTo>
                  <a:pt x="631" y="326"/>
                </a:lnTo>
                <a:lnTo>
                  <a:pt x="598" y="334"/>
                </a:lnTo>
                <a:lnTo>
                  <a:pt x="566" y="341"/>
                </a:lnTo>
                <a:lnTo>
                  <a:pt x="533" y="349"/>
                </a:lnTo>
                <a:lnTo>
                  <a:pt x="499" y="357"/>
                </a:lnTo>
                <a:lnTo>
                  <a:pt x="464" y="366"/>
                </a:lnTo>
                <a:lnTo>
                  <a:pt x="429" y="376"/>
                </a:lnTo>
                <a:lnTo>
                  <a:pt x="397" y="384"/>
                </a:lnTo>
                <a:lnTo>
                  <a:pt x="362" y="391"/>
                </a:lnTo>
                <a:lnTo>
                  <a:pt x="332" y="397"/>
                </a:lnTo>
                <a:lnTo>
                  <a:pt x="299" y="401"/>
                </a:lnTo>
                <a:lnTo>
                  <a:pt x="266" y="405"/>
                </a:lnTo>
                <a:lnTo>
                  <a:pt x="236" y="409"/>
                </a:lnTo>
                <a:lnTo>
                  <a:pt x="205" y="411"/>
                </a:lnTo>
                <a:lnTo>
                  <a:pt x="174" y="412"/>
                </a:lnTo>
                <a:lnTo>
                  <a:pt x="143" y="412"/>
                </a:lnTo>
                <a:lnTo>
                  <a:pt x="115" y="411"/>
                </a:lnTo>
                <a:lnTo>
                  <a:pt x="86" y="409"/>
                </a:lnTo>
                <a:lnTo>
                  <a:pt x="57" y="407"/>
                </a:lnTo>
                <a:lnTo>
                  <a:pt x="28" y="403"/>
                </a:lnTo>
                <a:lnTo>
                  <a:pt x="0" y="399"/>
                </a:lnTo>
                <a:lnTo>
                  <a:pt x="0" y="343"/>
                </a:lnTo>
                <a:lnTo>
                  <a:pt x="0" y="288"/>
                </a:lnTo>
                <a:lnTo>
                  <a:pt x="24" y="288"/>
                </a:lnTo>
                <a:lnTo>
                  <a:pt x="49" y="286"/>
                </a:lnTo>
                <a:lnTo>
                  <a:pt x="76" y="286"/>
                </a:lnTo>
                <a:lnTo>
                  <a:pt x="105" y="284"/>
                </a:lnTo>
                <a:lnTo>
                  <a:pt x="136" y="280"/>
                </a:lnTo>
                <a:lnTo>
                  <a:pt x="166" y="278"/>
                </a:lnTo>
                <a:lnTo>
                  <a:pt x="199" y="274"/>
                </a:lnTo>
                <a:lnTo>
                  <a:pt x="234" y="268"/>
                </a:lnTo>
                <a:lnTo>
                  <a:pt x="270" y="265"/>
                </a:lnTo>
                <a:lnTo>
                  <a:pt x="307" y="259"/>
                </a:lnTo>
                <a:lnTo>
                  <a:pt x="345" y="253"/>
                </a:lnTo>
                <a:lnTo>
                  <a:pt x="383" y="247"/>
                </a:lnTo>
                <a:lnTo>
                  <a:pt x="426" y="242"/>
                </a:lnTo>
                <a:lnTo>
                  <a:pt x="468" y="234"/>
                </a:lnTo>
                <a:lnTo>
                  <a:pt x="512" y="226"/>
                </a:lnTo>
                <a:lnTo>
                  <a:pt x="556" y="219"/>
                </a:lnTo>
                <a:lnTo>
                  <a:pt x="602" y="211"/>
                </a:lnTo>
                <a:lnTo>
                  <a:pt x="646" y="203"/>
                </a:lnTo>
                <a:lnTo>
                  <a:pt x="691" y="194"/>
                </a:lnTo>
                <a:lnTo>
                  <a:pt x="735" y="186"/>
                </a:lnTo>
                <a:lnTo>
                  <a:pt x="777" y="176"/>
                </a:lnTo>
                <a:lnTo>
                  <a:pt x="819" y="169"/>
                </a:lnTo>
                <a:lnTo>
                  <a:pt x="861" y="159"/>
                </a:lnTo>
                <a:lnTo>
                  <a:pt x="904" y="149"/>
                </a:lnTo>
                <a:lnTo>
                  <a:pt x="944" y="142"/>
                </a:lnTo>
                <a:lnTo>
                  <a:pt x="982" y="132"/>
                </a:lnTo>
                <a:lnTo>
                  <a:pt x="1023" y="123"/>
                </a:lnTo>
                <a:lnTo>
                  <a:pt x="1061" y="115"/>
                </a:lnTo>
                <a:lnTo>
                  <a:pt x="1097" y="105"/>
                </a:lnTo>
                <a:lnTo>
                  <a:pt x="1134" y="98"/>
                </a:lnTo>
                <a:lnTo>
                  <a:pt x="1170" y="90"/>
                </a:lnTo>
                <a:lnTo>
                  <a:pt x="1207" y="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87"/>
          <p:cNvSpPr/>
          <p:nvPr/>
        </p:nvSpPr>
        <p:spPr>
          <a:xfrm>
            <a:off x="6494400" y="2919240"/>
            <a:ext cx="615960" cy="236880"/>
          </a:xfrm>
          <a:custGeom>
            <a:avLst/>
            <a:gdLst/>
            <a:ahLst/>
            <a:rect l="l" t="t" r="r" b="b"/>
            <a:pathLst>
              <a:path w="778" h="297">
                <a:moveTo>
                  <a:pt x="476" y="73"/>
                </a:moveTo>
                <a:lnTo>
                  <a:pt x="498" y="61"/>
                </a:lnTo>
                <a:lnTo>
                  <a:pt x="519" y="53"/>
                </a:lnTo>
                <a:lnTo>
                  <a:pt x="538" y="44"/>
                </a:lnTo>
                <a:lnTo>
                  <a:pt x="557" y="36"/>
                </a:lnTo>
                <a:lnTo>
                  <a:pt x="574" y="28"/>
                </a:lnTo>
                <a:lnTo>
                  <a:pt x="592" y="23"/>
                </a:lnTo>
                <a:lnTo>
                  <a:pt x="609" y="17"/>
                </a:lnTo>
                <a:lnTo>
                  <a:pt x="624" y="11"/>
                </a:lnTo>
                <a:lnTo>
                  <a:pt x="640" y="7"/>
                </a:lnTo>
                <a:lnTo>
                  <a:pt x="653" y="3"/>
                </a:lnTo>
                <a:lnTo>
                  <a:pt x="666" y="1"/>
                </a:lnTo>
                <a:lnTo>
                  <a:pt x="678" y="0"/>
                </a:lnTo>
                <a:lnTo>
                  <a:pt x="689" y="0"/>
                </a:lnTo>
                <a:lnTo>
                  <a:pt x="701" y="0"/>
                </a:lnTo>
                <a:lnTo>
                  <a:pt x="711" y="1"/>
                </a:lnTo>
                <a:lnTo>
                  <a:pt x="720" y="3"/>
                </a:lnTo>
                <a:lnTo>
                  <a:pt x="732" y="9"/>
                </a:lnTo>
                <a:lnTo>
                  <a:pt x="743" y="17"/>
                </a:lnTo>
                <a:lnTo>
                  <a:pt x="753" y="25"/>
                </a:lnTo>
                <a:lnTo>
                  <a:pt x="762" y="34"/>
                </a:lnTo>
                <a:lnTo>
                  <a:pt x="768" y="46"/>
                </a:lnTo>
                <a:lnTo>
                  <a:pt x="774" y="57"/>
                </a:lnTo>
                <a:lnTo>
                  <a:pt x="776" y="63"/>
                </a:lnTo>
                <a:lnTo>
                  <a:pt x="776" y="71"/>
                </a:lnTo>
                <a:lnTo>
                  <a:pt x="778" y="78"/>
                </a:lnTo>
                <a:lnTo>
                  <a:pt x="778" y="86"/>
                </a:lnTo>
                <a:lnTo>
                  <a:pt x="778" y="94"/>
                </a:lnTo>
                <a:lnTo>
                  <a:pt x="776" y="99"/>
                </a:lnTo>
                <a:lnTo>
                  <a:pt x="774" y="107"/>
                </a:lnTo>
                <a:lnTo>
                  <a:pt x="772" y="115"/>
                </a:lnTo>
                <a:lnTo>
                  <a:pt x="768" y="121"/>
                </a:lnTo>
                <a:lnTo>
                  <a:pt x="762" y="126"/>
                </a:lnTo>
                <a:lnTo>
                  <a:pt x="759" y="132"/>
                </a:lnTo>
                <a:lnTo>
                  <a:pt x="751" y="138"/>
                </a:lnTo>
                <a:lnTo>
                  <a:pt x="745" y="142"/>
                </a:lnTo>
                <a:lnTo>
                  <a:pt x="737" y="147"/>
                </a:lnTo>
                <a:lnTo>
                  <a:pt x="728" y="151"/>
                </a:lnTo>
                <a:lnTo>
                  <a:pt x="718" y="155"/>
                </a:lnTo>
                <a:lnTo>
                  <a:pt x="709" y="159"/>
                </a:lnTo>
                <a:lnTo>
                  <a:pt x="697" y="163"/>
                </a:lnTo>
                <a:lnTo>
                  <a:pt x="686" y="165"/>
                </a:lnTo>
                <a:lnTo>
                  <a:pt x="674" y="168"/>
                </a:lnTo>
                <a:lnTo>
                  <a:pt x="659" y="174"/>
                </a:lnTo>
                <a:lnTo>
                  <a:pt x="641" y="178"/>
                </a:lnTo>
                <a:lnTo>
                  <a:pt x="626" y="184"/>
                </a:lnTo>
                <a:lnTo>
                  <a:pt x="609" y="190"/>
                </a:lnTo>
                <a:lnTo>
                  <a:pt x="592" y="195"/>
                </a:lnTo>
                <a:lnTo>
                  <a:pt x="572" y="199"/>
                </a:lnTo>
                <a:lnTo>
                  <a:pt x="553" y="205"/>
                </a:lnTo>
                <a:lnTo>
                  <a:pt x="534" y="211"/>
                </a:lnTo>
                <a:lnTo>
                  <a:pt x="515" y="216"/>
                </a:lnTo>
                <a:lnTo>
                  <a:pt x="494" y="222"/>
                </a:lnTo>
                <a:lnTo>
                  <a:pt x="473" y="230"/>
                </a:lnTo>
                <a:lnTo>
                  <a:pt x="451" y="236"/>
                </a:lnTo>
                <a:lnTo>
                  <a:pt x="430" y="241"/>
                </a:lnTo>
                <a:lnTo>
                  <a:pt x="407" y="249"/>
                </a:lnTo>
                <a:lnTo>
                  <a:pt x="384" y="257"/>
                </a:lnTo>
                <a:lnTo>
                  <a:pt x="361" y="264"/>
                </a:lnTo>
                <a:lnTo>
                  <a:pt x="334" y="272"/>
                </a:lnTo>
                <a:lnTo>
                  <a:pt x="309" y="278"/>
                </a:lnTo>
                <a:lnTo>
                  <a:pt x="286" y="284"/>
                </a:lnTo>
                <a:lnTo>
                  <a:pt x="265" y="287"/>
                </a:lnTo>
                <a:lnTo>
                  <a:pt x="244" y="291"/>
                </a:lnTo>
                <a:lnTo>
                  <a:pt x="223" y="295"/>
                </a:lnTo>
                <a:lnTo>
                  <a:pt x="204" y="297"/>
                </a:lnTo>
                <a:lnTo>
                  <a:pt x="187" y="297"/>
                </a:lnTo>
                <a:lnTo>
                  <a:pt x="169" y="297"/>
                </a:lnTo>
                <a:lnTo>
                  <a:pt x="154" y="297"/>
                </a:lnTo>
                <a:lnTo>
                  <a:pt x="139" y="295"/>
                </a:lnTo>
                <a:lnTo>
                  <a:pt x="125" y="293"/>
                </a:lnTo>
                <a:lnTo>
                  <a:pt x="112" y="291"/>
                </a:lnTo>
                <a:lnTo>
                  <a:pt x="102" y="287"/>
                </a:lnTo>
                <a:lnTo>
                  <a:pt x="91" y="284"/>
                </a:lnTo>
                <a:lnTo>
                  <a:pt x="81" y="278"/>
                </a:lnTo>
                <a:lnTo>
                  <a:pt x="71" y="276"/>
                </a:lnTo>
                <a:lnTo>
                  <a:pt x="62" y="272"/>
                </a:lnTo>
                <a:lnTo>
                  <a:pt x="52" y="270"/>
                </a:lnTo>
                <a:lnTo>
                  <a:pt x="45" y="266"/>
                </a:lnTo>
                <a:lnTo>
                  <a:pt x="37" y="263"/>
                </a:lnTo>
                <a:lnTo>
                  <a:pt x="31" y="259"/>
                </a:lnTo>
                <a:lnTo>
                  <a:pt x="25" y="255"/>
                </a:lnTo>
                <a:lnTo>
                  <a:pt x="20" y="251"/>
                </a:lnTo>
                <a:lnTo>
                  <a:pt x="16" y="247"/>
                </a:lnTo>
                <a:lnTo>
                  <a:pt x="10" y="243"/>
                </a:lnTo>
                <a:lnTo>
                  <a:pt x="8" y="240"/>
                </a:lnTo>
                <a:lnTo>
                  <a:pt x="4" y="236"/>
                </a:lnTo>
                <a:lnTo>
                  <a:pt x="2" y="232"/>
                </a:lnTo>
                <a:lnTo>
                  <a:pt x="2" y="230"/>
                </a:lnTo>
                <a:lnTo>
                  <a:pt x="0" y="226"/>
                </a:lnTo>
                <a:lnTo>
                  <a:pt x="0" y="224"/>
                </a:lnTo>
                <a:lnTo>
                  <a:pt x="0" y="220"/>
                </a:lnTo>
                <a:lnTo>
                  <a:pt x="2" y="218"/>
                </a:lnTo>
                <a:lnTo>
                  <a:pt x="6" y="215"/>
                </a:lnTo>
                <a:lnTo>
                  <a:pt x="12" y="213"/>
                </a:lnTo>
                <a:lnTo>
                  <a:pt x="18" y="211"/>
                </a:lnTo>
                <a:lnTo>
                  <a:pt x="23" y="207"/>
                </a:lnTo>
                <a:lnTo>
                  <a:pt x="33" y="205"/>
                </a:lnTo>
                <a:lnTo>
                  <a:pt x="43" y="201"/>
                </a:lnTo>
                <a:lnTo>
                  <a:pt x="54" y="197"/>
                </a:lnTo>
                <a:lnTo>
                  <a:pt x="66" y="193"/>
                </a:lnTo>
                <a:lnTo>
                  <a:pt x="79" y="192"/>
                </a:lnTo>
                <a:lnTo>
                  <a:pt x="94" y="186"/>
                </a:lnTo>
                <a:lnTo>
                  <a:pt x="110" y="182"/>
                </a:lnTo>
                <a:lnTo>
                  <a:pt x="125" y="178"/>
                </a:lnTo>
                <a:lnTo>
                  <a:pt x="144" y="172"/>
                </a:lnTo>
                <a:lnTo>
                  <a:pt x="164" y="168"/>
                </a:lnTo>
                <a:lnTo>
                  <a:pt x="183" y="165"/>
                </a:lnTo>
                <a:lnTo>
                  <a:pt x="202" y="161"/>
                </a:lnTo>
                <a:lnTo>
                  <a:pt x="221" y="157"/>
                </a:lnTo>
                <a:lnTo>
                  <a:pt x="240" y="153"/>
                </a:lnTo>
                <a:lnTo>
                  <a:pt x="281" y="142"/>
                </a:lnTo>
                <a:lnTo>
                  <a:pt x="319" y="130"/>
                </a:lnTo>
                <a:lnTo>
                  <a:pt x="359" y="117"/>
                </a:lnTo>
                <a:lnTo>
                  <a:pt x="398" y="103"/>
                </a:lnTo>
                <a:lnTo>
                  <a:pt x="436" y="88"/>
                </a:lnTo>
                <a:lnTo>
                  <a:pt x="476" y="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88"/>
          <p:cNvSpPr/>
          <p:nvPr/>
        </p:nvSpPr>
        <p:spPr>
          <a:xfrm>
            <a:off x="6702480" y="2389320"/>
            <a:ext cx="204840" cy="1101600"/>
          </a:xfrm>
          <a:custGeom>
            <a:avLst/>
            <a:gdLst/>
            <a:ahLst/>
            <a:rect l="l" t="t" r="r" b="b"/>
            <a:pathLst>
              <a:path w="258" h="1387">
                <a:moveTo>
                  <a:pt x="190" y="645"/>
                </a:moveTo>
                <a:lnTo>
                  <a:pt x="187" y="733"/>
                </a:lnTo>
                <a:lnTo>
                  <a:pt x="181" y="821"/>
                </a:lnTo>
                <a:lnTo>
                  <a:pt x="177" y="913"/>
                </a:lnTo>
                <a:lnTo>
                  <a:pt x="175" y="1005"/>
                </a:lnTo>
                <a:lnTo>
                  <a:pt x="171" y="1098"/>
                </a:lnTo>
                <a:lnTo>
                  <a:pt x="169" y="1194"/>
                </a:lnTo>
                <a:lnTo>
                  <a:pt x="167" y="1289"/>
                </a:lnTo>
                <a:lnTo>
                  <a:pt x="167" y="1387"/>
                </a:lnTo>
                <a:lnTo>
                  <a:pt x="102" y="1387"/>
                </a:lnTo>
                <a:lnTo>
                  <a:pt x="39" y="1387"/>
                </a:lnTo>
                <a:lnTo>
                  <a:pt x="39" y="1385"/>
                </a:lnTo>
                <a:lnTo>
                  <a:pt x="39" y="1382"/>
                </a:lnTo>
                <a:lnTo>
                  <a:pt x="39" y="1380"/>
                </a:lnTo>
                <a:lnTo>
                  <a:pt x="41" y="1376"/>
                </a:lnTo>
                <a:lnTo>
                  <a:pt x="41" y="1370"/>
                </a:lnTo>
                <a:lnTo>
                  <a:pt x="41" y="1366"/>
                </a:lnTo>
                <a:lnTo>
                  <a:pt x="41" y="1361"/>
                </a:lnTo>
                <a:lnTo>
                  <a:pt x="41" y="1353"/>
                </a:lnTo>
                <a:lnTo>
                  <a:pt x="43" y="1345"/>
                </a:lnTo>
                <a:lnTo>
                  <a:pt x="43" y="1337"/>
                </a:lnTo>
                <a:lnTo>
                  <a:pt x="43" y="1330"/>
                </a:lnTo>
                <a:lnTo>
                  <a:pt x="43" y="1320"/>
                </a:lnTo>
                <a:lnTo>
                  <a:pt x="44" y="1309"/>
                </a:lnTo>
                <a:lnTo>
                  <a:pt x="44" y="1299"/>
                </a:lnTo>
                <a:lnTo>
                  <a:pt x="46" y="1288"/>
                </a:lnTo>
                <a:lnTo>
                  <a:pt x="46" y="1274"/>
                </a:lnTo>
                <a:lnTo>
                  <a:pt x="46" y="1263"/>
                </a:lnTo>
                <a:lnTo>
                  <a:pt x="48" y="1249"/>
                </a:lnTo>
                <a:lnTo>
                  <a:pt x="48" y="1234"/>
                </a:lnTo>
                <a:lnTo>
                  <a:pt x="50" y="1218"/>
                </a:lnTo>
                <a:lnTo>
                  <a:pt x="50" y="1203"/>
                </a:lnTo>
                <a:lnTo>
                  <a:pt x="52" y="1188"/>
                </a:lnTo>
                <a:lnTo>
                  <a:pt x="52" y="1170"/>
                </a:lnTo>
                <a:lnTo>
                  <a:pt x="54" y="1153"/>
                </a:lnTo>
                <a:lnTo>
                  <a:pt x="54" y="1134"/>
                </a:lnTo>
                <a:lnTo>
                  <a:pt x="56" y="1115"/>
                </a:lnTo>
                <a:lnTo>
                  <a:pt x="56" y="1096"/>
                </a:lnTo>
                <a:lnTo>
                  <a:pt x="58" y="1075"/>
                </a:lnTo>
                <a:lnTo>
                  <a:pt x="60" y="1055"/>
                </a:lnTo>
                <a:lnTo>
                  <a:pt x="60" y="1032"/>
                </a:lnTo>
                <a:lnTo>
                  <a:pt x="62" y="1011"/>
                </a:lnTo>
                <a:lnTo>
                  <a:pt x="62" y="988"/>
                </a:lnTo>
                <a:lnTo>
                  <a:pt x="64" y="942"/>
                </a:lnTo>
                <a:lnTo>
                  <a:pt x="66" y="896"/>
                </a:lnTo>
                <a:lnTo>
                  <a:pt x="68" y="852"/>
                </a:lnTo>
                <a:lnTo>
                  <a:pt x="69" y="810"/>
                </a:lnTo>
                <a:lnTo>
                  <a:pt x="69" y="767"/>
                </a:lnTo>
                <a:lnTo>
                  <a:pt x="69" y="727"/>
                </a:lnTo>
                <a:lnTo>
                  <a:pt x="71" y="687"/>
                </a:lnTo>
                <a:lnTo>
                  <a:pt x="71" y="646"/>
                </a:lnTo>
                <a:lnTo>
                  <a:pt x="71" y="608"/>
                </a:lnTo>
                <a:lnTo>
                  <a:pt x="69" y="572"/>
                </a:lnTo>
                <a:lnTo>
                  <a:pt x="69" y="535"/>
                </a:lnTo>
                <a:lnTo>
                  <a:pt x="69" y="501"/>
                </a:lnTo>
                <a:lnTo>
                  <a:pt x="68" y="466"/>
                </a:lnTo>
                <a:lnTo>
                  <a:pt x="66" y="433"/>
                </a:lnTo>
                <a:lnTo>
                  <a:pt x="64" y="401"/>
                </a:lnTo>
                <a:lnTo>
                  <a:pt x="62" y="368"/>
                </a:lnTo>
                <a:lnTo>
                  <a:pt x="60" y="339"/>
                </a:lnTo>
                <a:lnTo>
                  <a:pt x="58" y="311"/>
                </a:lnTo>
                <a:lnTo>
                  <a:pt x="56" y="284"/>
                </a:lnTo>
                <a:lnTo>
                  <a:pt x="54" y="257"/>
                </a:lnTo>
                <a:lnTo>
                  <a:pt x="52" y="234"/>
                </a:lnTo>
                <a:lnTo>
                  <a:pt x="48" y="211"/>
                </a:lnTo>
                <a:lnTo>
                  <a:pt x="46" y="192"/>
                </a:lnTo>
                <a:lnTo>
                  <a:pt x="44" y="172"/>
                </a:lnTo>
                <a:lnTo>
                  <a:pt x="43" y="155"/>
                </a:lnTo>
                <a:lnTo>
                  <a:pt x="41" y="140"/>
                </a:lnTo>
                <a:lnTo>
                  <a:pt x="39" y="126"/>
                </a:lnTo>
                <a:lnTo>
                  <a:pt x="37" y="113"/>
                </a:lnTo>
                <a:lnTo>
                  <a:pt x="35" y="101"/>
                </a:lnTo>
                <a:lnTo>
                  <a:pt x="31" y="94"/>
                </a:lnTo>
                <a:lnTo>
                  <a:pt x="29" y="86"/>
                </a:lnTo>
                <a:lnTo>
                  <a:pt x="27" y="80"/>
                </a:lnTo>
                <a:lnTo>
                  <a:pt x="20" y="73"/>
                </a:lnTo>
                <a:lnTo>
                  <a:pt x="12" y="67"/>
                </a:lnTo>
                <a:lnTo>
                  <a:pt x="6" y="59"/>
                </a:lnTo>
                <a:lnTo>
                  <a:pt x="2" y="50"/>
                </a:lnTo>
                <a:lnTo>
                  <a:pt x="0" y="42"/>
                </a:lnTo>
                <a:lnTo>
                  <a:pt x="0" y="30"/>
                </a:lnTo>
                <a:lnTo>
                  <a:pt x="0" y="26"/>
                </a:lnTo>
                <a:lnTo>
                  <a:pt x="0" y="21"/>
                </a:lnTo>
                <a:lnTo>
                  <a:pt x="2" y="15"/>
                </a:lnTo>
                <a:lnTo>
                  <a:pt x="4" y="11"/>
                </a:lnTo>
                <a:lnTo>
                  <a:pt x="6" y="7"/>
                </a:lnTo>
                <a:lnTo>
                  <a:pt x="10" y="5"/>
                </a:lnTo>
                <a:lnTo>
                  <a:pt x="14" y="3"/>
                </a:lnTo>
                <a:lnTo>
                  <a:pt x="18" y="3"/>
                </a:lnTo>
                <a:lnTo>
                  <a:pt x="23" y="2"/>
                </a:lnTo>
                <a:lnTo>
                  <a:pt x="29" y="2"/>
                </a:lnTo>
                <a:lnTo>
                  <a:pt x="35" y="0"/>
                </a:lnTo>
                <a:lnTo>
                  <a:pt x="43" y="0"/>
                </a:lnTo>
                <a:lnTo>
                  <a:pt x="50" y="0"/>
                </a:lnTo>
                <a:lnTo>
                  <a:pt x="58" y="2"/>
                </a:lnTo>
                <a:lnTo>
                  <a:pt x="69" y="2"/>
                </a:lnTo>
                <a:lnTo>
                  <a:pt x="79" y="3"/>
                </a:lnTo>
                <a:lnTo>
                  <a:pt x="91" y="3"/>
                </a:lnTo>
                <a:lnTo>
                  <a:pt x="104" y="5"/>
                </a:lnTo>
                <a:lnTo>
                  <a:pt x="117" y="7"/>
                </a:lnTo>
                <a:lnTo>
                  <a:pt x="133" y="11"/>
                </a:lnTo>
                <a:lnTo>
                  <a:pt x="144" y="15"/>
                </a:lnTo>
                <a:lnTo>
                  <a:pt x="156" y="21"/>
                </a:lnTo>
                <a:lnTo>
                  <a:pt x="167" y="26"/>
                </a:lnTo>
                <a:lnTo>
                  <a:pt x="177" y="30"/>
                </a:lnTo>
                <a:lnTo>
                  <a:pt x="187" y="36"/>
                </a:lnTo>
                <a:lnTo>
                  <a:pt x="196" y="42"/>
                </a:lnTo>
                <a:lnTo>
                  <a:pt x="204" y="46"/>
                </a:lnTo>
                <a:lnTo>
                  <a:pt x="211" y="50"/>
                </a:lnTo>
                <a:lnTo>
                  <a:pt x="219" y="55"/>
                </a:lnTo>
                <a:lnTo>
                  <a:pt x="225" y="59"/>
                </a:lnTo>
                <a:lnTo>
                  <a:pt x="231" y="63"/>
                </a:lnTo>
                <a:lnTo>
                  <a:pt x="235" y="67"/>
                </a:lnTo>
                <a:lnTo>
                  <a:pt x="238" y="71"/>
                </a:lnTo>
                <a:lnTo>
                  <a:pt x="242" y="74"/>
                </a:lnTo>
                <a:lnTo>
                  <a:pt x="246" y="76"/>
                </a:lnTo>
                <a:lnTo>
                  <a:pt x="248" y="80"/>
                </a:lnTo>
                <a:lnTo>
                  <a:pt x="250" y="82"/>
                </a:lnTo>
                <a:lnTo>
                  <a:pt x="252" y="86"/>
                </a:lnTo>
                <a:lnTo>
                  <a:pt x="254" y="90"/>
                </a:lnTo>
                <a:lnTo>
                  <a:pt x="254" y="96"/>
                </a:lnTo>
                <a:lnTo>
                  <a:pt x="256" y="99"/>
                </a:lnTo>
                <a:lnTo>
                  <a:pt x="256" y="105"/>
                </a:lnTo>
                <a:lnTo>
                  <a:pt x="256" y="113"/>
                </a:lnTo>
                <a:lnTo>
                  <a:pt x="258" y="119"/>
                </a:lnTo>
                <a:lnTo>
                  <a:pt x="256" y="126"/>
                </a:lnTo>
                <a:lnTo>
                  <a:pt x="256" y="134"/>
                </a:lnTo>
                <a:lnTo>
                  <a:pt x="254" y="151"/>
                </a:lnTo>
                <a:lnTo>
                  <a:pt x="252" y="170"/>
                </a:lnTo>
                <a:lnTo>
                  <a:pt x="248" y="190"/>
                </a:lnTo>
                <a:lnTo>
                  <a:pt x="246" y="195"/>
                </a:lnTo>
                <a:lnTo>
                  <a:pt x="246" y="203"/>
                </a:lnTo>
                <a:lnTo>
                  <a:pt x="244" y="211"/>
                </a:lnTo>
                <a:lnTo>
                  <a:pt x="242" y="218"/>
                </a:lnTo>
                <a:lnTo>
                  <a:pt x="242" y="228"/>
                </a:lnTo>
                <a:lnTo>
                  <a:pt x="240" y="238"/>
                </a:lnTo>
                <a:lnTo>
                  <a:pt x="238" y="247"/>
                </a:lnTo>
                <a:lnTo>
                  <a:pt x="236" y="257"/>
                </a:lnTo>
                <a:lnTo>
                  <a:pt x="236" y="266"/>
                </a:lnTo>
                <a:lnTo>
                  <a:pt x="235" y="278"/>
                </a:lnTo>
                <a:lnTo>
                  <a:pt x="233" y="289"/>
                </a:lnTo>
                <a:lnTo>
                  <a:pt x="231" y="301"/>
                </a:lnTo>
                <a:lnTo>
                  <a:pt x="229" y="314"/>
                </a:lnTo>
                <a:lnTo>
                  <a:pt x="227" y="328"/>
                </a:lnTo>
                <a:lnTo>
                  <a:pt x="225" y="341"/>
                </a:lnTo>
                <a:lnTo>
                  <a:pt x="223" y="355"/>
                </a:lnTo>
                <a:lnTo>
                  <a:pt x="221" y="368"/>
                </a:lnTo>
                <a:lnTo>
                  <a:pt x="219" y="383"/>
                </a:lnTo>
                <a:lnTo>
                  <a:pt x="217" y="399"/>
                </a:lnTo>
                <a:lnTo>
                  <a:pt x="215" y="416"/>
                </a:lnTo>
                <a:lnTo>
                  <a:pt x="213" y="431"/>
                </a:lnTo>
                <a:lnTo>
                  <a:pt x="211" y="449"/>
                </a:lnTo>
                <a:lnTo>
                  <a:pt x="210" y="466"/>
                </a:lnTo>
                <a:lnTo>
                  <a:pt x="208" y="483"/>
                </a:lnTo>
                <a:lnTo>
                  <a:pt x="206" y="502"/>
                </a:lnTo>
                <a:lnTo>
                  <a:pt x="202" y="520"/>
                </a:lnTo>
                <a:lnTo>
                  <a:pt x="200" y="539"/>
                </a:lnTo>
                <a:lnTo>
                  <a:pt x="198" y="560"/>
                </a:lnTo>
                <a:lnTo>
                  <a:pt x="196" y="579"/>
                </a:lnTo>
                <a:lnTo>
                  <a:pt x="194" y="600"/>
                </a:lnTo>
                <a:lnTo>
                  <a:pt x="192" y="622"/>
                </a:lnTo>
                <a:lnTo>
                  <a:pt x="190" y="6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89"/>
          <p:cNvSpPr/>
          <p:nvPr/>
        </p:nvSpPr>
        <p:spPr>
          <a:xfrm>
            <a:off x="5562720" y="3151080"/>
            <a:ext cx="812520" cy="1478160"/>
          </a:xfrm>
          <a:custGeom>
            <a:avLst/>
            <a:gdLst/>
            <a:ahLst/>
            <a:rect l="l" t="t" r="r" b="b"/>
            <a:pathLst>
              <a:path w="1023" h="1862">
                <a:moveTo>
                  <a:pt x="220" y="1749"/>
                </a:moveTo>
                <a:lnTo>
                  <a:pt x="193" y="1766"/>
                </a:lnTo>
                <a:lnTo>
                  <a:pt x="168" y="1782"/>
                </a:lnTo>
                <a:lnTo>
                  <a:pt x="145" y="1797"/>
                </a:lnTo>
                <a:lnTo>
                  <a:pt x="122" y="1808"/>
                </a:lnTo>
                <a:lnTo>
                  <a:pt x="103" y="1820"/>
                </a:lnTo>
                <a:lnTo>
                  <a:pt x="86" y="1830"/>
                </a:lnTo>
                <a:lnTo>
                  <a:pt x="69" y="1837"/>
                </a:lnTo>
                <a:lnTo>
                  <a:pt x="55" y="1845"/>
                </a:lnTo>
                <a:lnTo>
                  <a:pt x="42" y="1851"/>
                </a:lnTo>
                <a:lnTo>
                  <a:pt x="30" y="1855"/>
                </a:lnTo>
                <a:lnTo>
                  <a:pt x="21" y="1858"/>
                </a:lnTo>
                <a:lnTo>
                  <a:pt x="13" y="1860"/>
                </a:lnTo>
                <a:lnTo>
                  <a:pt x="7" y="1862"/>
                </a:lnTo>
                <a:lnTo>
                  <a:pt x="3" y="1862"/>
                </a:lnTo>
                <a:lnTo>
                  <a:pt x="1" y="1860"/>
                </a:lnTo>
                <a:lnTo>
                  <a:pt x="1" y="1858"/>
                </a:lnTo>
                <a:lnTo>
                  <a:pt x="0" y="1855"/>
                </a:lnTo>
                <a:lnTo>
                  <a:pt x="0" y="1853"/>
                </a:lnTo>
                <a:lnTo>
                  <a:pt x="0" y="1847"/>
                </a:lnTo>
                <a:lnTo>
                  <a:pt x="3" y="1843"/>
                </a:lnTo>
                <a:lnTo>
                  <a:pt x="5" y="1837"/>
                </a:lnTo>
                <a:lnTo>
                  <a:pt x="11" y="1832"/>
                </a:lnTo>
                <a:lnTo>
                  <a:pt x="17" y="1824"/>
                </a:lnTo>
                <a:lnTo>
                  <a:pt x="25" y="1818"/>
                </a:lnTo>
                <a:lnTo>
                  <a:pt x="32" y="1808"/>
                </a:lnTo>
                <a:lnTo>
                  <a:pt x="42" y="1801"/>
                </a:lnTo>
                <a:lnTo>
                  <a:pt x="51" y="1791"/>
                </a:lnTo>
                <a:lnTo>
                  <a:pt x="63" y="1782"/>
                </a:lnTo>
                <a:lnTo>
                  <a:pt x="74" y="1770"/>
                </a:lnTo>
                <a:lnTo>
                  <a:pt x="88" y="1759"/>
                </a:lnTo>
                <a:lnTo>
                  <a:pt x="101" y="1747"/>
                </a:lnTo>
                <a:lnTo>
                  <a:pt x="117" y="1736"/>
                </a:lnTo>
                <a:lnTo>
                  <a:pt x="132" y="1720"/>
                </a:lnTo>
                <a:lnTo>
                  <a:pt x="147" y="1707"/>
                </a:lnTo>
                <a:lnTo>
                  <a:pt x="165" y="1689"/>
                </a:lnTo>
                <a:lnTo>
                  <a:pt x="182" y="1672"/>
                </a:lnTo>
                <a:lnTo>
                  <a:pt x="201" y="1653"/>
                </a:lnTo>
                <a:lnTo>
                  <a:pt x="218" y="1634"/>
                </a:lnTo>
                <a:lnTo>
                  <a:pt x="240" y="1613"/>
                </a:lnTo>
                <a:lnTo>
                  <a:pt x="259" y="1590"/>
                </a:lnTo>
                <a:lnTo>
                  <a:pt x="280" y="1565"/>
                </a:lnTo>
                <a:lnTo>
                  <a:pt x="303" y="1538"/>
                </a:lnTo>
                <a:lnTo>
                  <a:pt x="326" y="1511"/>
                </a:lnTo>
                <a:lnTo>
                  <a:pt x="349" y="1482"/>
                </a:lnTo>
                <a:lnTo>
                  <a:pt x="374" y="1451"/>
                </a:lnTo>
                <a:lnTo>
                  <a:pt x="399" y="1419"/>
                </a:lnTo>
                <a:lnTo>
                  <a:pt x="426" y="1384"/>
                </a:lnTo>
                <a:lnTo>
                  <a:pt x="453" y="1350"/>
                </a:lnTo>
                <a:lnTo>
                  <a:pt x="479" y="1315"/>
                </a:lnTo>
                <a:lnTo>
                  <a:pt x="506" y="1281"/>
                </a:lnTo>
                <a:lnTo>
                  <a:pt x="531" y="1244"/>
                </a:lnTo>
                <a:lnTo>
                  <a:pt x="554" y="1208"/>
                </a:lnTo>
                <a:lnTo>
                  <a:pt x="577" y="1169"/>
                </a:lnTo>
                <a:lnTo>
                  <a:pt x="598" y="1131"/>
                </a:lnTo>
                <a:lnTo>
                  <a:pt x="620" y="1093"/>
                </a:lnTo>
                <a:lnTo>
                  <a:pt x="639" y="1052"/>
                </a:lnTo>
                <a:lnTo>
                  <a:pt x="656" y="1012"/>
                </a:lnTo>
                <a:lnTo>
                  <a:pt x="673" y="972"/>
                </a:lnTo>
                <a:lnTo>
                  <a:pt x="689" y="931"/>
                </a:lnTo>
                <a:lnTo>
                  <a:pt x="704" y="889"/>
                </a:lnTo>
                <a:lnTo>
                  <a:pt x="719" y="847"/>
                </a:lnTo>
                <a:lnTo>
                  <a:pt x="731" y="803"/>
                </a:lnTo>
                <a:lnTo>
                  <a:pt x="744" y="760"/>
                </a:lnTo>
                <a:lnTo>
                  <a:pt x="756" y="716"/>
                </a:lnTo>
                <a:lnTo>
                  <a:pt x="760" y="695"/>
                </a:lnTo>
                <a:lnTo>
                  <a:pt x="764" y="674"/>
                </a:lnTo>
                <a:lnTo>
                  <a:pt x="767" y="653"/>
                </a:lnTo>
                <a:lnTo>
                  <a:pt x="771" y="634"/>
                </a:lnTo>
                <a:lnTo>
                  <a:pt x="775" y="615"/>
                </a:lnTo>
                <a:lnTo>
                  <a:pt x="779" y="595"/>
                </a:lnTo>
                <a:lnTo>
                  <a:pt x="781" y="576"/>
                </a:lnTo>
                <a:lnTo>
                  <a:pt x="785" y="559"/>
                </a:lnTo>
                <a:lnTo>
                  <a:pt x="788" y="542"/>
                </a:lnTo>
                <a:lnTo>
                  <a:pt x="792" y="524"/>
                </a:lnTo>
                <a:lnTo>
                  <a:pt x="794" y="509"/>
                </a:lnTo>
                <a:lnTo>
                  <a:pt x="798" y="492"/>
                </a:lnTo>
                <a:lnTo>
                  <a:pt x="800" y="476"/>
                </a:lnTo>
                <a:lnTo>
                  <a:pt x="804" y="463"/>
                </a:lnTo>
                <a:lnTo>
                  <a:pt x="806" y="448"/>
                </a:lnTo>
                <a:lnTo>
                  <a:pt x="808" y="434"/>
                </a:lnTo>
                <a:lnTo>
                  <a:pt x="810" y="421"/>
                </a:lnTo>
                <a:lnTo>
                  <a:pt x="813" y="409"/>
                </a:lnTo>
                <a:lnTo>
                  <a:pt x="817" y="384"/>
                </a:lnTo>
                <a:lnTo>
                  <a:pt x="821" y="361"/>
                </a:lnTo>
                <a:lnTo>
                  <a:pt x="825" y="342"/>
                </a:lnTo>
                <a:lnTo>
                  <a:pt x="829" y="323"/>
                </a:lnTo>
                <a:lnTo>
                  <a:pt x="831" y="306"/>
                </a:lnTo>
                <a:lnTo>
                  <a:pt x="835" y="290"/>
                </a:lnTo>
                <a:lnTo>
                  <a:pt x="836" y="277"/>
                </a:lnTo>
                <a:lnTo>
                  <a:pt x="836" y="252"/>
                </a:lnTo>
                <a:lnTo>
                  <a:pt x="836" y="227"/>
                </a:lnTo>
                <a:lnTo>
                  <a:pt x="835" y="204"/>
                </a:lnTo>
                <a:lnTo>
                  <a:pt x="835" y="181"/>
                </a:lnTo>
                <a:lnTo>
                  <a:pt x="833" y="160"/>
                </a:lnTo>
                <a:lnTo>
                  <a:pt x="831" y="139"/>
                </a:lnTo>
                <a:lnTo>
                  <a:pt x="829" y="117"/>
                </a:lnTo>
                <a:lnTo>
                  <a:pt x="825" y="98"/>
                </a:lnTo>
                <a:lnTo>
                  <a:pt x="823" y="87"/>
                </a:lnTo>
                <a:lnTo>
                  <a:pt x="821" y="77"/>
                </a:lnTo>
                <a:lnTo>
                  <a:pt x="819" y="69"/>
                </a:lnTo>
                <a:lnTo>
                  <a:pt x="819" y="62"/>
                </a:lnTo>
                <a:lnTo>
                  <a:pt x="817" y="54"/>
                </a:lnTo>
                <a:lnTo>
                  <a:pt x="817" y="46"/>
                </a:lnTo>
                <a:lnTo>
                  <a:pt x="817" y="41"/>
                </a:lnTo>
                <a:lnTo>
                  <a:pt x="819" y="33"/>
                </a:lnTo>
                <a:lnTo>
                  <a:pt x="819" y="29"/>
                </a:lnTo>
                <a:lnTo>
                  <a:pt x="821" y="23"/>
                </a:lnTo>
                <a:lnTo>
                  <a:pt x="825" y="18"/>
                </a:lnTo>
                <a:lnTo>
                  <a:pt x="827" y="14"/>
                </a:lnTo>
                <a:lnTo>
                  <a:pt x="831" y="10"/>
                </a:lnTo>
                <a:lnTo>
                  <a:pt x="836" y="6"/>
                </a:lnTo>
                <a:lnTo>
                  <a:pt x="842" y="4"/>
                </a:lnTo>
                <a:lnTo>
                  <a:pt x="848" y="0"/>
                </a:lnTo>
                <a:lnTo>
                  <a:pt x="858" y="2"/>
                </a:lnTo>
                <a:lnTo>
                  <a:pt x="867" y="2"/>
                </a:lnTo>
                <a:lnTo>
                  <a:pt x="879" y="6"/>
                </a:lnTo>
                <a:lnTo>
                  <a:pt x="890" y="10"/>
                </a:lnTo>
                <a:lnTo>
                  <a:pt x="906" y="14"/>
                </a:lnTo>
                <a:lnTo>
                  <a:pt x="919" y="18"/>
                </a:lnTo>
                <a:lnTo>
                  <a:pt x="934" y="23"/>
                </a:lnTo>
                <a:lnTo>
                  <a:pt x="952" y="29"/>
                </a:lnTo>
                <a:lnTo>
                  <a:pt x="965" y="39"/>
                </a:lnTo>
                <a:lnTo>
                  <a:pt x="977" y="50"/>
                </a:lnTo>
                <a:lnTo>
                  <a:pt x="986" y="60"/>
                </a:lnTo>
                <a:lnTo>
                  <a:pt x="996" y="71"/>
                </a:lnTo>
                <a:lnTo>
                  <a:pt x="1003" y="83"/>
                </a:lnTo>
                <a:lnTo>
                  <a:pt x="1011" y="96"/>
                </a:lnTo>
                <a:lnTo>
                  <a:pt x="1017" y="110"/>
                </a:lnTo>
                <a:lnTo>
                  <a:pt x="1023" y="125"/>
                </a:lnTo>
                <a:lnTo>
                  <a:pt x="1021" y="133"/>
                </a:lnTo>
                <a:lnTo>
                  <a:pt x="1021" y="142"/>
                </a:lnTo>
                <a:lnTo>
                  <a:pt x="1021" y="150"/>
                </a:lnTo>
                <a:lnTo>
                  <a:pt x="1019" y="162"/>
                </a:lnTo>
                <a:lnTo>
                  <a:pt x="1019" y="171"/>
                </a:lnTo>
                <a:lnTo>
                  <a:pt x="1017" y="183"/>
                </a:lnTo>
                <a:lnTo>
                  <a:pt x="1015" y="194"/>
                </a:lnTo>
                <a:lnTo>
                  <a:pt x="1013" y="208"/>
                </a:lnTo>
                <a:lnTo>
                  <a:pt x="1011" y="221"/>
                </a:lnTo>
                <a:lnTo>
                  <a:pt x="1007" y="235"/>
                </a:lnTo>
                <a:lnTo>
                  <a:pt x="1005" y="250"/>
                </a:lnTo>
                <a:lnTo>
                  <a:pt x="1002" y="263"/>
                </a:lnTo>
                <a:lnTo>
                  <a:pt x="998" y="281"/>
                </a:lnTo>
                <a:lnTo>
                  <a:pt x="996" y="296"/>
                </a:lnTo>
                <a:lnTo>
                  <a:pt x="990" y="313"/>
                </a:lnTo>
                <a:lnTo>
                  <a:pt x="986" y="330"/>
                </a:lnTo>
                <a:lnTo>
                  <a:pt x="982" y="352"/>
                </a:lnTo>
                <a:lnTo>
                  <a:pt x="979" y="375"/>
                </a:lnTo>
                <a:lnTo>
                  <a:pt x="973" y="398"/>
                </a:lnTo>
                <a:lnTo>
                  <a:pt x="967" y="421"/>
                </a:lnTo>
                <a:lnTo>
                  <a:pt x="961" y="446"/>
                </a:lnTo>
                <a:lnTo>
                  <a:pt x="955" y="473"/>
                </a:lnTo>
                <a:lnTo>
                  <a:pt x="950" y="499"/>
                </a:lnTo>
                <a:lnTo>
                  <a:pt x="944" y="528"/>
                </a:lnTo>
                <a:lnTo>
                  <a:pt x="936" y="557"/>
                </a:lnTo>
                <a:lnTo>
                  <a:pt x="929" y="586"/>
                </a:lnTo>
                <a:lnTo>
                  <a:pt x="923" y="616"/>
                </a:lnTo>
                <a:lnTo>
                  <a:pt x="915" y="649"/>
                </a:lnTo>
                <a:lnTo>
                  <a:pt x="907" y="682"/>
                </a:lnTo>
                <a:lnTo>
                  <a:pt x="900" y="714"/>
                </a:lnTo>
                <a:lnTo>
                  <a:pt x="890" y="749"/>
                </a:lnTo>
                <a:lnTo>
                  <a:pt x="883" y="785"/>
                </a:lnTo>
                <a:lnTo>
                  <a:pt x="873" y="824"/>
                </a:lnTo>
                <a:lnTo>
                  <a:pt x="863" y="862"/>
                </a:lnTo>
                <a:lnTo>
                  <a:pt x="854" y="899"/>
                </a:lnTo>
                <a:lnTo>
                  <a:pt x="842" y="935"/>
                </a:lnTo>
                <a:lnTo>
                  <a:pt x="829" y="972"/>
                </a:lnTo>
                <a:lnTo>
                  <a:pt x="815" y="1006"/>
                </a:lnTo>
                <a:lnTo>
                  <a:pt x="802" y="1041"/>
                </a:lnTo>
                <a:lnTo>
                  <a:pt x="787" y="1075"/>
                </a:lnTo>
                <a:lnTo>
                  <a:pt x="771" y="1110"/>
                </a:lnTo>
                <a:lnTo>
                  <a:pt x="754" y="1142"/>
                </a:lnTo>
                <a:lnTo>
                  <a:pt x="737" y="1175"/>
                </a:lnTo>
                <a:lnTo>
                  <a:pt x="719" y="1208"/>
                </a:lnTo>
                <a:lnTo>
                  <a:pt x="700" y="1240"/>
                </a:lnTo>
                <a:lnTo>
                  <a:pt x="681" y="1273"/>
                </a:lnTo>
                <a:lnTo>
                  <a:pt x="660" y="1304"/>
                </a:lnTo>
                <a:lnTo>
                  <a:pt x="639" y="1336"/>
                </a:lnTo>
                <a:lnTo>
                  <a:pt x="616" y="1369"/>
                </a:lnTo>
                <a:lnTo>
                  <a:pt x="591" y="1402"/>
                </a:lnTo>
                <a:lnTo>
                  <a:pt x="566" y="1432"/>
                </a:lnTo>
                <a:lnTo>
                  <a:pt x="541" y="1463"/>
                </a:lnTo>
                <a:lnTo>
                  <a:pt x="516" y="1492"/>
                </a:lnTo>
                <a:lnTo>
                  <a:pt x="491" y="1519"/>
                </a:lnTo>
                <a:lnTo>
                  <a:pt x="464" y="1547"/>
                </a:lnTo>
                <a:lnTo>
                  <a:pt x="439" y="1572"/>
                </a:lnTo>
                <a:lnTo>
                  <a:pt x="412" y="1597"/>
                </a:lnTo>
                <a:lnTo>
                  <a:pt x="385" y="1622"/>
                </a:lnTo>
                <a:lnTo>
                  <a:pt x="359" y="1645"/>
                </a:lnTo>
                <a:lnTo>
                  <a:pt x="332" y="1668"/>
                </a:lnTo>
                <a:lnTo>
                  <a:pt x="305" y="1689"/>
                </a:lnTo>
                <a:lnTo>
                  <a:pt x="276" y="1711"/>
                </a:lnTo>
                <a:lnTo>
                  <a:pt x="249" y="1730"/>
                </a:lnTo>
                <a:lnTo>
                  <a:pt x="220" y="17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90"/>
          <p:cNvSpPr/>
          <p:nvPr/>
        </p:nvSpPr>
        <p:spPr>
          <a:xfrm>
            <a:off x="5840280" y="2523960"/>
            <a:ext cx="462240" cy="1938600"/>
          </a:xfrm>
          <a:custGeom>
            <a:avLst/>
            <a:gdLst/>
            <a:ahLst/>
            <a:rect l="l" t="t" r="r" b="b"/>
            <a:pathLst>
              <a:path w="582" h="2442">
                <a:moveTo>
                  <a:pt x="359" y="336"/>
                </a:moveTo>
                <a:lnTo>
                  <a:pt x="357" y="354"/>
                </a:lnTo>
                <a:lnTo>
                  <a:pt x="355" y="375"/>
                </a:lnTo>
                <a:lnTo>
                  <a:pt x="351" y="394"/>
                </a:lnTo>
                <a:lnTo>
                  <a:pt x="349" y="415"/>
                </a:lnTo>
                <a:lnTo>
                  <a:pt x="345" y="438"/>
                </a:lnTo>
                <a:lnTo>
                  <a:pt x="342" y="461"/>
                </a:lnTo>
                <a:lnTo>
                  <a:pt x="338" y="486"/>
                </a:lnTo>
                <a:lnTo>
                  <a:pt x="334" y="511"/>
                </a:lnTo>
                <a:lnTo>
                  <a:pt x="328" y="538"/>
                </a:lnTo>
                <a:lnTo>
                  <a:pt x="324" y="565"/>
                </a:lnTo>
                <a:lnTo>
                  <a:pt x="319" y="594"/>
                </a:lnTo>
                <a:lnTo>
                  <a:pt x="313" y="622"/>
                </a:lnTo>
                <a:lnTo>
                  <a:pt x="307" y="653"/>
                </a:lnTo>
                <a:lnTo>
                  <a:pt x="301" y="684"/>
                </a:lnTo>
                <a:lnTo>
                  <a:pt x="296" y="716"/>
                </a:lnTo>
                <a:lnTo>
                  <a:pt x="290" y="749"/>
                </a:lnTo>
                <a:lnTo>
                  <a:pt x="286" y="766"/>
                </a:lnTo>
                <a:lnTo>
                  <a:pt x="282" y="784"/>
                </a:lnTo>
                <a:lnTo>
                  <a:pt x="280" y="803"/>
                </a:lnTo>
                <a:lnTo>
                  <a:pt x="274" y="822"/>
                </a:lnTo>
                <a:lnTo>
                  <a:pt x="271" y="841"/>
                </a:lnTo>
                <a:lnTo>
                  <a:pt x="267" y="862"/>
                </a:lnTo>
                <a:lnTo>
                  <a:pt x="263" y="883"/>
                </a:lnTo>
                <a:lnTo>
                  <a:pt x="257" y="906"/>
                </a:lnTo>
                <a:lnTo>
                  <a:pt x="253" y="929"/>
                </a:lnTo>
                <a:lnTo>
                  <a:pt x="248" y="952"/>
                </a:lnTo>
                <a:lnTo>
                  <a:pt x="242" y="977"/>
                </a:lnTo>
                <a:lnTo>
                  <a:pt x="238" y="1002"/>
                </a:lnTo>
                <a:lnTo>
                  <a:pt x="232" y="1029"/>
                </a:lnTo>
                <a:lnTo>
                  <a:pt x="226" y="1056"/>
                </a:lnTo>
                <a:lnTo>
                  <a:pt x="221" y="1083"/>
                </a:lnTo>
                <a:lnTo>
                  <a:pt x="215" y="1112"/>
                </a:lnTo>
                <a:lnTo>
                  <a:pt x="207" y="1141"/>
                </a:lnTo>
                <a:lnTo>
                  <a:pt x="201" y="1169"/>
                </a:lnTo>
                <a:lnTo>
                  <a:pt x="196" y="1200"/>
                </a:lnTo>
                <a:lnTo>
                  <a:pt x="188" y="1233"/>
                </a:lnTo>
                <a:lnTo>
                  <a:pt x="182" y="1265"/>
                </a:lnTo>
                <a:lnTo>
                  <a:pt x="177" y="1298"/>
                </a:lnTo>
                <a:lnTo>
                  <a:pt x="169" y="1331"/>
                </a:lnTo>
                <a:lnTo>
                  <a:pt x="161" y="1365"/>
                </a:lnTo>
                <a:lnTo>
                  <a:pt x="155" y="1402"/>
                </a:lnTo>
                <a:lnTo>
                  <a:pt x="148" y="1436"/>
                </a:lnTo>
                <a:lnTo>
                  <a:pt x="140" y="1475"/>
                </a:lnTo>
                <a:lnTo>
                  <a:pt x="134" y="1511"/>
                </a:lnTo>
                <a:lnTo>
                  <a:pt x="127" y="1549"/>
                </a:lnTo>
                <a:lnTo>
                  <a:pt x="119" y="1590"/>
                </a:lnTo>
                <a:lnTo>
                  <a:pt x="111" y="1630"/>
                </a:lnTo>
                <a:lnTo>
                  <a:pt x="104" y="1670"/>
                </a:lnTo>
                <a:lnTo>
                  <a:pt x="123" y="1691"/>
                </a:lnTo>
                <a:lnTo>
                  <a:pt x="142" y="1711"/>
                </a:lnTo>
                <a:lnTo>
                  <a:pt x="161" y="1730"/>
                </a:lnTo>
                <a:lnTo>
                  <a:pt x="178" y="1749"/>
                </a:lnTo>
                <a:lnTo>
                  <a:pt x="196" y="1768"/>
                </a:lnTo>
                <a:lnTo>
                  <a:pt x="213" y="1786"/>
                </a:lnTo>
                <a:lnTo>
                  <a:pt x="230" y="1805"/>
                </a:lnTo>
                <a:lnTo>
                  <a:pt x="246" y="1822"/>
                </a:lnTo>
                <a:lnTo>
                  <a:pt x="278" y="1855"/>
                </a:lnTo>
                <a:lnTo>
                  <a:pt x="309" y="1885"/>
                </a:lnTo>
                <a:lnTo>
                  <a:pt x="336" y="1914"/>
                </a:lnTo>
                <a:lnTo>
                  <a:pt x="363" y="1941"/>
                </a:lnTo>
                <a:lnTo>
                  <a:pt x="388" y="1966"/>
                </a:lnTo>
                <a:lnTo>
                  <a:pt x="411" y="1991"/>
                </a:lnTo>
                <a:lnTo>
                  <a:pt x="432" y="2012"/>
                </a:lnTo>
                <a:lnTo>
                  <a:pt x="451" y="2033"/>
                </a:lnTo>
                <a:lnTo>
                  <a:pt x="468" y="2050"/>
                </a:lnTo>
                <a:lnTo>
                  <a:pt x="478" y="2060"/>
                </a:lnTo>
                <a:lnTo>
                  <a:pt x="486" y="2068"/>
                </a:lnTo>
                <a:lnTo>
                  <a:pt x="491" y="2075"/>
                </a:lnTo>
                <a:lnTo>
                  <a:pt x="499" y="2083"/>
                </a:lnTo>
                <a:lnTo>
                  <a:pt x="505" y="2091"/>
                </a:lnTo>
                <a:lnTo>
                  <a:pt x="511" y="2096"/>
                </a:lnTo>
                <a:lnTo>
                  <a:pt x="520" y="2110"/>
                </a:lnTo>
                <a:lnTo>
                  <a:pt x="530" y="2123"/>
                </a:lnTo>
                <a:lnTo>
                  <a:pt x="539" y="2137"/>
                </a:lnTo>
                <a:lnTo>
                  <a:pt x="547" y="2150"/>
                </a:lnTo>
                <a:lnTo>
                  <a:pt x="555" y="2166"/>
                </a:lnTo>
                <a:lnTo>
                  <a:pt x="560" y="2179"/>
                </a:lnTo>
                <a:lnTo>
                  <a:pt x="566" y="2192"/>
                </a:lnTo>
                <a:lnTo>
                  <a:pt x="570" y="2208"/>
                </a:lnTo>
                <a:lnTo>
                  <a:pt x="574" y="2221"/>
                </a:lnTo>
                <a:lnTo>
                  <a:pt x="578" y="2235"/>
                </a:lnTo>
                <a:lnTo>
                  <a:pt x="580" y="2250"/>
                </a:lnTo>
                <a:lnTo>
                  <a:pt x="582" y="2263"/>
                </a:lnTo>
                <a:lnTo>
                  <a:pt x="582" y="2277"/>
                </a:lnTo>
                <a:lnTo>
                  <a:pt x="582" y="2290"/>
                </a:lnTo>
                <a:lnTo>
                  <a:pt x="582" y="2304"/>
                </a:lnTo>
                <a:lnTo>
                  <a:pt x="580" y="2317"/>
                </a:lnTo>
                <a:lnTo>
                  <a:pt x="578" y="2333"/>
                </a:lnTo>
                <a:lnTo>
                  <a:pt x="576" y="2346"/>
                </a:lnTo>
                <a:lnTo>
                  <a:pt x="574" y="2359"/>
                </a:lnTo>
                <a:lnTo>
                  <a:pt x="570" y="2371"/>
                </a:lnTo>
                <a:lnTo>
                  <a:pt x="568" y="2382"/>
                </a:lnTo>
                <a:lnTo>
                  <a:pt x="566" y="2392"/>
                </a:lnTo>
                <a:lnTo>
                  <a:pt x="562" y="2402"/>
                </a:lnTo>
                <a:lnTo>
                  <a:pt x="560" y="2409"/>
                </a:lnTo>
                <a:lnTo>
                  <a:pt x="557" y="2417"/>
                </a:lnTo>
                <a:lnTo>
                  <a:pt x="553" y="2423"/>
                </a:lnTo>
                <a:lnTo>
                  <a:pt x="549" y="2429"/>
                </a:lnTo>
                <a:lnTo>
                  <a:pt x="543" y="2432"/>
                </a:lnTo>
                <a:lnTo>
                  <a:pt x="539" y="2436"/>
                </a:lnTo>
                <a:lnTo>
                  <a:pt x="534" y="2440"/>
                </a:lnTo>
                <a:lnTo>
                  <a:pt x="528" y="2440"/>
                </a:lnTo>
                <a:lnTo>
                  <a:pt x="522" y="2442"/>
                </a:lnTo>
                <a:lnTo>
                  <a:pt x="518" y="2440"/>
                </a:lnTo>
                <a:lnTo>
                  <a:pt x="514" y="2440"/>
                </a:lnTo>
                <a:lnTo>
                  <a:pt x="511" y="2438"/>
                </a:lnTo>
                <a:lnTo>
                  <a:pt x="507" y="2438"/>
                </a:lnTo>
                <a:lnTo>
                  <a:pt x="503" y="2434"/>
                </a:lnTo>
                <a:lnTo>
                  <a:pt x="499" y="2432"/>
                </a:lnTo>
                <a:lnTo>
                  <a:pt x="495" y="2429"/>
                </a:lnTo>
                <a:lnTo>
                  <a:pt x="491" y="2425"/>
                </a:lnTo>
                <a:lnTo>
                  <a:pt x="486" y="2421"/>
                </a:lnTo>
                <a:lnTo>
                  <a:pt x="482" y="2417"/>
                </a:lnTo>
                <a:lnTo>
                  <a:pt x="476" y="2411"/>
                </a:lnTo>
                <a:lnTo>
                  <a:pt x="472" y="2406"/>
                </a:lnTo>
                <a:lnTo>
                  <a:pt x="466" y="2400"/>
                </a:lnTo>
                <a:lnTo>
                  <a:pt x="461" y="2392"/>
                </a:lnTo>
                <a:lnTo>
                  <a:pt x="457" y="2386"/>
                </a:lnTo>
                <a:lnTo>
                  <a:pt x="451" y="2377"/>
                </a:lnTo>
                <a:lnTo>
                  <a:pt x="445" y="2369"/>
                </a:lnTo>
                <a:lnTo>
                  <a:pt x="438" y="2361"/>
                </a:lnTo>
                <a:lnTo>
                  <a:pt x="432" y="2352"/>
                </a:lnTo>
                <a:lnTo>
                  <a:pt x="426" y="2340"/>
                </a:lnTo>
                <a:lnTo>
                  <a:pt x="418" y="2331"/>
                </a:lnTo>
                <a:lnTo>
                  <a:pt x="413" y="2319"/>
                </a:lnTo>
                <a:lnTo>
                  <a:pt x="405" y="2308"/>
                </a:lnTo>
                <a:lnTo>
                  <a:pt x="399" y="2296"/>
                </a:lnTo>
                <a:lnTo>
                  <a:pt x="391" y="2283"/>
                </a:lnTo>
                <a:lnTo>
                  <a:pt x="384" y="2271"/>
                </a:lnTo>
                <a:lnTo>
                  <a:pt x="376" y="2256"/>
                </a:lnTo>
                <a:lnTo>
                  <a:pt x="368" y="2242"/>
                </a:lnTo>
                <a:lnTo>
                  <a:pt x="361" y="2227"/>
                </a:lnTo>
                <a:lnTo>
                  <a:pt x="353" y="2212"/>
                </a:lnTo>
                <a:lnTo>
                  <a:pt x="344" y="2196"/>
                </a:lnTo>
                <a:lnTo>
                  <a:pt x="336" y="2179"/>
                </a:lnTo>
                <a:lnTo>
                  <a:pt x="317" y="2148"/>
                </a:lnTo>
                <a:lnTo>
                  <a:pt x="297" y="2120"/>
                </a:lnTo>
                <a:lnTo>
                  <a:pt x="280" y="2091"/>
                </a:lnTo>
                <a:lnTo>
                  <a:pt x="263" y="2064"/>
                </a:lnTo>
                <a:lnTo>
                  <a:pt x="246" y="2037"/>
                </a:lnTo>
                <a:lnTo>
                  <a:pt x="228" y="2012"/>
                </a:lnTo>
                <a:lnTo>
                  <a:pt x="213" y="1987"/>
                </a:lnTo>
                <a:lnTo>
                  <a:pt x="198" y="1964"/>
                </a:lnTo>
                <a:lnTo>
                  <a:pt x="182" y="1943"/>
                </a:lnTo>
                <a:lnTo>
                  <a:pt x="167" y="1922"/>
                </a:lnTo>
                <a:lnTo>
                  <a:pt x="153" y="1903"/>
                </a:lnTo>
                <a:lnTo>
                  <a:pt x="140" y="1883"/>
                </a:lnTo>
                <a:lnTo>
                  <a:pt x="127" y="1866"/>
                </a:lnTo>
                <a:lnTo>
                  <a:pt x="115" y="1851"/>
                </a:lnTo>
                <a:lnTo>
                  <a:pt x="104" y="1835"/>
                </a:lnTo>
                <a:lnTo>
                  <a:pt x="92" y="1822"/>
                </a:lnTo>
                <a:lnTo>
                  <a:pt x="82" y="1809"/>
                </a:lnTo>
                <a:lnTo>
                  <a:pt x="73" y="1797"/>
                </a:lnTo>
                <a:lnTo>
                  <a:pt x="63" y="1786"/>
                </a:lnTo>
                <a:lnTo>
                  <a:pt x="54" y="1776"/>
                </a:lnTo>
                <a:lnTo>
                  <a:pt x="46" y="1764"/>
                </a:lnTo>
                <a:lnTo>
                  <a:pt x="38" y="1757"/>
                </a:lnTo>
                <a:lnTo>
                  <a:pt x="31" y="1747"/>
                </a:lnTo>
                <a:lnTo>
                  <a:pt x="25" y="1739"/>
                </a:lnTo>
                <a:lnTo>
                  <a:pt x="19" y="1732"/>
                </a:lnTo>
                <a:lnTo>
                  <a:pt x="13" y="1724"/>
                </a:lnTo>
                <a:lnTo>
                  <a:pt x="10" y="1718"/>
                </a:lnTo>
                <a:lnTo>
                  <a:pt x="6" y="1713"/>
                </a:lnTo>
                <a:lnTo>
                  <a:pt x="4" y="1709"/>
                </a:lnTo>
                <a:lnTo>
                  <a:pt x="2" y="1705"/>
                </a:lnTo>
                <a:lnTo>
                  <a:pt x="0" y="1701"/>
                </a:lnTo>
                <a:lnTo>
                  <a:pt x="0" y="1699"/>
                </a:lnTo>
                <a:lnTo>
                  <a:pt x="0" y="1697"/>
                </a:lnTo>
                <a:lnTo>
                  <a:pt x="0" y="1693"/>
                </a:lnTo>
                <a:lnTo>
                  <a:pt x="0" y="1690"/>
                </a:lnTo>
                <a:lnTo>
                  <a:pt x="0" y="1686"/>
                </a:lnTo>
                <a:lnTo>
                  <a:pt x="2" y="1680"/>
                </a:lnTo>
                <a:lnTo>
                  <a:pt x="2" y="1674"/>
                </a:lnTo>
                <a:lnTo>
                  <a:pt x="4" y="1667"/>
                </a:lnTo>
                <a:lnTo>
                  <a:pt x="4" y="1659"/>
                </a:lnTo>
                <a:lnTo>
                  <a:pt x="6" y="1651"/>
                </a:lnTo>
                <a:lnTo>
                  <a:pt x="8" y="1642"/>
                </a:lnTo>
                <a:lnTo>
                  <a:pt x="8" y="1630"/>
                </a:lnTo>
                <a:lnTo>
                  <a:pt x="10" y="1619"/>
                </a:lnTo>
                <a:lnTo>
                  <a:pt x="11" y="1607"/>
                </a:lnTo>
                <a:lnTo>
                  <a:pt x="13" y="1594"/>
                </a:lnTo>
                <a:lnTo>
                  <a:pt x="17" y="1578"/>
                </a:lnTo>
                <a:lnTo>
                  <a:pt x="19" y="1565"/>
                </a:lnTo>
                <a:lnTo>
                  <a:pt x="21" y="1548"/>
                </a:lnTo>
                <a:lnTo>
                  <a:pt x="25" y="1530"/>
                </a:lnTo>
                <a:lnTo>
                  <a:pt x="27" y="1513"/>
                </a:lnTo>
                <a:lnTo>
                  <a:pt x="31" y="1496"/>
                </a:lnTo>
                <a:lnTo>
                  <a:pt x="33" y="1475"/>
                </a:lnTo>
                <a:lnTo>
                  <a:pt x="36" y="1455"/>
                </a:lnTo>
                <a:lnTo>
                  <a:pt x="40" y="1434"/>
                </a:lnTo>
                <a:lnTo>
                  <a:pt x="44" y="1411"/>
                </a:lnTo>
                <a:lnTo>
                  <a:pt x="48" y="1388"/>
                </a:lnTo>
                <a:lnTo>
                  <a:pt x="52" y="1365"/>
                </a:lnTo>
                <a:lnTo>
                  <a:pt x="58" y="1340"/>
                </a:lnTo>
                <a:lnTo>
                  <a:pt x="61" y="1313"/>
                </a:lnTo>
                <a:lnTo>
                  <a:pt x="65" y="1288"/>
                </a:lnTo>
                <a:lnTo>
                  <a:pt x="71" y="1260"/>
                </a:lnTo>
                <a:lnTo>
                  <a:pt x="77" y="1233"/>
                </a:lnTo>
                <a:lnTo>
                  <a:pt x="81" y="1202"/>
                </a:lnTo>
                <a:lnTo>
                  <a:pt x="90" y="1144"/>
                </a:lnTo>
                <a:lnTo>
                  <a:pt x="98" y="1087"/>
                </a:lnTo>
                <a:lnTo>
                  <a:pt x="105" y="1031"/>
                </a:lnTo>
                <a:lnTo>
                  <a:pt x="113" y="977"/>
                </a:lnTo>
                <a:lnTo>
                  <a:pt x="121" y="926"/>
                </a:lnTo>
                <a:lnTo>
                  <a:pt x="127" y="874"/>
                </a:lnTo>
                <a:lnTo>
                  <a:pt x="134" y="824"/>
                </a:lnTo>
                <a:lnTo>
                  <a:pt x="140" y="776"/>
                </a:lnTo>
                <a:lnTo>
                  <a:pt x="146" y="730"/>
                </a:lnTo>
                <a:lnTo>
                  <a:pt x="152" y="684"/>
                </a:lnTo>
                <a:lnTo>
                  <a:pt x="155" y="640"/>
                </a:lnTo>
                <a:lnTo>
                  <a:pt x="161" y="595"/>
                </a:lnTo>
                <a:lnTo>
                  <a:pt x="165" y="553"/>
                </a:lnTo>
                <a:lnTo>
                  <a:pt x="169" y="511"/>
                </a:lnTo>
                <a:lnTo>
                  <a:pt x="171" y="471"/>
                </a:lnTo>
                <a:lnTo>
                  <a:pt x="175" y="432"/>
                </a:lnTo>
                <a:lnTo>
                  <a:pt x="175" y="413"/>
                </a:lnTo>
                <a:lnTo>
                  <a:pt x="177" y="394"/>
                </a:lnTo>
                <a:lnTo>
                  <a:pt x="177" y="377"/>
                </a:lnTo>
                <a:lnTo>
                  <a:pt x="177" y="359"/>
                </a:lnTo>
                <a:lnTo>
                  <a:pt x="178" y="342"/>
                </a:lnTo>
                <a:lnTo>
                  <a:pt x="178" y="327"/>
                </a:lnTo>
                <a:lnTo>
                  <a:pt x="178" y="311"/>
                </a:lnTo>
                <a:lnTo>
                  <a:pt x="178" y="296"/>
                </a:lnTo>
                <a:lnTo>
                  <a:pt x="178" y="281"/>
                </a:lnTo>
                <a:lnTo>
                  <a:pt x="178" y="267"/>
                </a:lnTo>
                <a:lnTo>
                  <a:pt x="178" y="254"/>
                </a:lnTo>
                <a:lnTo>
                  <a:pt x="178" y="240"/>
                </a:lnTo>
                <a:lnTo>
                  <a:pt x="178" y="227"/>
                </a:lnTo>
                <a:lnTo>
                  <a:pt x="178" y="215"/>
                </a:lnTo>
                <a:lnTo>
                  <a:pt x="177" y="204"/>
                </a:lnTo>
                <a:lnTo>
                  <a:pt x="177" y="194"/>
                </a:lnTo>
                <a:lnTo>
                  <a:pt x="177" y="183"/>
                </a:lnTo>
                <a:lnTo>
                  <a:pt x="175" y="173"/>
                </a:lnTo>
                <a:lnTo>
                  <a:pt x="175" y="164"/>
                </a:lnTo>
                <a:lnTo>
                  <a:pt x="175" y="156"/>
                </a:lnTo>
                <a:lnTo>
                  <a:pt x="173" y="146"/>
                </a:lnTo>
                <a:lnTo>
                  <a:pt x="173" y="139"/>
                </a:lnTo>
                <a:lnTo>
                  <a:pt x="171" y="131"/>
                </a:lnTo>
                <a:lnTo>
                  <a:pt x="171" y="125"/>
                </a:lnTo>
                <a:lnTo>
                  <a:pt x="169" y="119"/>
                </a:lnTo>
                <a:lnTo>
                  <a:pt x="169" y="112"/>
                </a:lnTo>
                <a:lnTo>
                  <a:pt x="167" y="108"/>
                </a:lnTo>
                <a:lnTo>
                  <a:pt x="167" y="102"/>
                </a:lnTo>
                <a:lnTo>
                  <a:pt x="165" y="98"/>
                </a:lnTo>
                <a:lnTo>
                  <a:pt x="165" y="94"/>
                </a:lnTo>
                <a:lnTo>
                  <a:pt x="163" y="91"/>
                </a:lnTo>
                <a:lnTo>
                  <a:pt x="163" y="89"/>
                </a:lnTo>
                <a:lnTo>
                  <a:pt x="157" y="85"/>
                </a:lnTo>
                <a:lnTo>
                  <a:pt x="155" y="83"/>
                </a:lnTo>
                <a:lnTo>
                  <a:pt x="152" y="79"/>
                </a:lnTo>
                <a:lnTo>
                  <a:pt x="150" y="75"/>
                </a:lnTo>
                <a:lnTo>
                  <a:pt x="146" y="68"/>
                </a:lnTo>
                <a:lnTo>
                  <a:pt x="144" y="60"/>
                </a:lnTo>
                <a:lnTo>
                  <a:pt x="144" y="50"/>
                </a:lnTo>
                <a:lnTo>
                  <a:pt x="144" y="41"/>
                </a:lnTo>
                <a:lnTo>
                  <a:pt x="148" y="29"/>
                </a:lnTo>
                <a:lnTo>
                  <a:pt x="152" y="20"/>
                </a:lnTo>
                <a:lnTo>
                  <a:pt x="153" y="14"/>
                </a:lnTo>
                <a:lnTo>
                  <a:pt x="155" y="10"/>
                </a:lnTo>
                <a:lnTo>
                  <a:pt x="159" y="6"/>
                </a:lnTo>
                <a:lnTo>
                  <a:pt x="163" y="4"/>
                </a:lnTo>
                <a:lnTo>
                  <a:pt x="169" y="2"/>
                </a:lnTo>
                <a:lnTo>
                  <a:pt x="175" y="0"/>
                </a:lnTo>
                <a:lnTo>
                  <a:pt x="180" y="0"/>
                </a:lnTo>
                <a:lnTo>
                  <a:pt x="188" y="0"/>
                </a:lnTo>
                <a:lnTo>
                  <a:pt x="196" y="2"/>
                </a:lnTo>
                <a:lnTo>
                  <a:pt x="205" y="2"/>
                </a:lnTo>
                <a:lnTo>
                  <a:pt x="215" y="6"/>
                </a:lnTo>
                <a:lnTo>
                  <a:pt x="226" y="10"/>
                </a:lnTo>
                <a:lnTo>
                  <a:pt x="238" y="14"/>
                </a:lnTo>
                <a:lnTo>
                  <a:pt x="249" y="20"/>
                </a:lnTo>
                <a:lnTo>
                  <a:pt x="263" y="25"/>
                </a:lnTo>
                <a:lnTo>
                  <a:pt x="278" y="33"/>
                </a:lnTo>
                <a:lnTo>
                  <a:pt x="292" y="41"/>
                </a:lnTo>
                <a:lnTo>
                  <a:pt x="303" y="48"/>
                </a:lnTo>
                <a:lnTo>
                  <a:pt x="313" y="56"/>
                </a:lnTo>
                <a:lnTo>
                  <a:pt x="324" y="64"/>
                </a:lnTo>
                <a:lnTo>
                  <a:pt x="334" y="71"/>
                </a:lnTo>
                <a:lnTo>
                  <a:pt x="342" y="79"/>
                </a:lnTo>
                <a:lnTo>
                  <a:pt x="349" y="87"/>
                </a:lnTo>
                <a:lnTo>
                  <a:pt x="357" y="94"/>
                </a:lnTo>
                <a:lnTo>
                  <a:pt x="363" y="100"/>
                </a:lnTo>
                <a:lnTo>
                  <a:pt x="368" y="108"/>
                </a:lnTo>
                <a:lnTo>
                  <a:pt x="372" y="114"/>
                </a:lnTo>
                <a:lnTo>
                  <a:pt x="376" y="121"/>
                </a:lnTo>
                <a:lnTo>
                  <a:pt x="378" y="127"/>
                </a:lnTo>
                <a:lnTo>
                  <a:pt x="380" y="133"/>
                </a:lnTo>
                <a:lnTo>
                  <a:pt x="382" y="139"/>
                </a:lnTo>
                <a:lnTo>
                  <a:pt x="382" y="144"/>
                </a:lnTo>
                <a:lnTo>
                  <a:pt x="382" y="148"/>
                </a:lnTo>
                <a:lnTo>
                  <a:pt x="382" y="156"/>
                </a:lnTo>
                <a:lnTo>
                  <a:pt x="382" y="164"/>
                </a:lnTo>
                <a:lnTo>
                  <a:pt x="380" y="171"/>
                </a:lnTo>
                <a:lnTo>
                  <a:pt x="380" y="181"/>
                </a:lnTo>
                <a:lnTo>
                  <a:pt x="378" y="190"/>
                </a:lnTo>
                <a:lnTo>
                  <a:pt x="376" y="202"/>
                </a:lnTo>
                <a:lnTo>
                  <a:pt x="376" y="213"/>
                </a:lnTo>
                <a:lnTo>
                  <a:pt x="374" y="227"/>
                </a:lnTo>
                <a:lnTo>
                  <a:pt x="372" y="240"/>
                </a:lnTo>
                <a:lnTo>
                  <a:pt x="370" y="254"/>
                </a:lnTo>
                <a:lnTo>
                  <a:pt x="368" y="269"/>
                </a:lnTo>
                <a:lnTo>
                  <a:pt x="367" y="285"/>
                </a:lnTo>
                <a:lnTo>
                  <a:pt x="365" y="302"/>
                </a:lnTo>
                <a:lnTo>
                  <a:pt x="361" y="319"/>
                </a:lnTo>
                <a:lnTo>
                  <a:pt x="359" y="3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91"/>
          <p:cNvSpPr/>
          <p:nvPr/>
        </p:nvSpPr>
        <p:spPr>
          <a:xfrm>
            <a:off x="5389560" y="3381480"/>
            <a:ext cx="884160" cy="361800"/>
          </a:xfrm>
          <a:custGeom>
            <a:avLst/>
            <a:gdLst/>
            <a:ahLst/>
            <a:rect l="l" t="t" r="r" b="b"/>
            <a:pathLst>
              <a:path w="1113" h="457">
                <a:moveTo>
                  <a:pt x="579" y="138"/>
                </a:moveTo>
                <a:lnTo>
                  <a:pt x="627" y="119"/>
                </a:lnTo>
                <a:lnTo>
                  <a:pt x="652" y="112"/>
                </a:lnTo>
                <a:lnTo>
                  <a:pt x="675" y="104"/>
                </a:lnTo>
                <a:lnTo>
                  <a:pt x="698" y="96"/>
                </a:lnTo>
                <a:lnTo>
                  <a:pt x="720" y="88"/>
                </a:lnTo>
                <a:lnTo>
                  <a:pt x="743" y="81"/>
                </a:lnTo>
                <a:lnTo>
                  <a:pt x="764" y="75"/>
                </a:lnTo>
                <a:lnTo>
                  <a:pt x="785" y="67"/>
                </a:lnTo>
                <a:lnTo>
                  <a:pt x="804" y="62"/>
                </a:lnTo>
                <a:lnTo>
                  <a:pt x="825" y="56"/>
                </a:lnTo>
                <a:lnTo>
                  <a:pt x="844" y="50"/>
                </a:lnTo>
                <a:lnTo>
                  <a:pt x="862" y="46"/>
                </a:lnTo>
                <a:lnTo>
                  <a:pt x="881" y="40"/>
                </a:lnTo>
                <a:lnTo>
                  <a:pt x="898" y="37"/>
                </a:lnTo>
                <a:lnTo>
                  <a:pt x="915" y="33"/>
                </a:lnTo>
                <a:lnTo>
                  <a:pt x="933" y="27"/>
                </a:lnTo>
                <a:lnTo>
                  <a:pt x="948" y="23"/>
                </a:lnTo>
                <a:lnTo>
                  <a:pt x="963" y="21"/>
                </a:lnTo>
                <a:lnTo>
                  <a:pt x="979" y="17"/>
                </a:lnTo>
                <a:lnTo>
                  <a:pt x="992" y="16"/>
                </a:lnTo>
                <a:lnTo>
                  <a:pt x="1007" y="12"/>
                </a:lnTo>
                <a:lnTo>
                  <a:pt x="1021" y="10"/>
                </a:lnTo>
                <a:lnTo>
                  <a:pt x="1032" y="8"/>
                </a:lnTo>
                <a:lnTo>
                  <a:pt x="1044" y="6"/>
                </a:lnTo>
                <a:lnTo>
                  <a:pt x="1055" y="4"/>
                </a:lnTo>
                <a:lnTo>
                  <a:pt x="1067" y="2"/>
                </a:lnTo>
                <a:lnTo>
                  <a:pt x="1079" y="2"/>
                </a:lnTo>
                <a:lnTo>
                  <a:pt x="1088" y="0"/>
                </a:lnTo>
                <a:lnTo>
                  <a:pt x="1096" y="0"/>
                </a:lnTo>
                <a:lnTo>
                  <a:pt x="1105" y="0"/>
                </a:lnTo>
                <a:lnTo>
                  <a:pt x="1113" y="0"/>
                </a:lnTo>
                <a:lnTo>
                  <a:pt x="1113" y="40"/>
                </a:lnTo>
                <a:lnTo>
                  <a:pt x="1113" y="83"/>
                </a:lnTo>
                <a:lnTo>
                  <a:pt x="1107" y="83"/>
                </a:lnTo>
                <a:lnTo>
                  <a:pt x="1102" y="83"/>
                </a:lnTo>
                <a:lnTo>
                  <a:pt x="1088" y="85"/>
                </a:lnTo>
                <a:lnTo>
                  <a:pt x="1073" y="87"/>
                </a:lnTo>
                <a:lnTo>
                  <a:pt x="1054" y="90"/>
                </a:lnTo>
                <a:lnTo>
                  <a:pt x="1034" y="94"/>
                </a:lnTo>
                <a:lnTo>
                  <a:pt x="1013" y="100"/>
                </a:lnTo>
                <a:lnTo>
                  <a:pt x="990" y="106"/>
                </a:lnTo>
                <a:lnTo>
                  <a:pt x="965" y="113"/>
                </a:lnTo>
                <a:lnTo>
                  <a:pt x="940" y="121"/>
                </a:lnTo>
                <a:lnTo>
                  <a:pt x="912" y="131"/>
                </a:lnTo>
                <a:lnTo>
                  <a:pt x="881" y="140"/>
                </a:lnTo>
                <a:lnTo>
                  <a:pt x="850" y="152"/>
                </a:lnTo>
                <a:lnTo>
                  <a:pt x="817" y="163"/>
                </a:lnTo>
                <a:lnTo>
                  <a:pt x="781" y="177"/>
                </a:lnTo>
                <a:lnTo>
                  <a:pt x="745" y="192"/>
                </a:lnTo>
                <a:lnTo>
                  <a:pt x="706" y="207"/>
                </a:lnTo>
                <a:lnTo>
                  <a:pt x="687" y="215"/>
                </a:lnTo>
                <a:lnTo>
                  <a:pt x="666" y="225"/>
                </a:lnTo>
                <a:lnTo>
                  <a:pt x="647" y="232"/>
                </a:lnTo>
                <a:lnTo>
                  <a:pt x="629" y="242"/>
                </a:lnTo>
                <a:lnTo>
                  <a:pt x="610" y="250"/>
                </a:lnTo>
                <a:lnTo>
                  <a:pt x="593" y="257"/>
                </a:lnTo>
                <a:lnTo>
                  <a:pt x="576" y="265"/>
                </a:lnTo>
                <a:lnTo>
                  <a:pt x="558" y="273"/>
                </a:lnTo>
                <a:lnTo>
                  <a:pt x="543" y="278"/>
                </a:lnTo>
                <a:lnTo>
                  <a:pt x="528" y="286"/>
                </a:lnTo>
                <a:lnTo>
                  <a:pt x="512" y="294"/>
                </a:lnTo>
                <a:lnTo>
                  <a:pt x="497" y="300"/>
                </a:lnTo>
                <a:lnTo>
                  <a:pt x="483" y="305"/>
                </a:lnTo>
                <a:lnTo>
                  <a:pt x="468" y="311"/>
                </a:lnTo>
                <a:lnTo>
                  <a:pt x="455" y="319"/>
                </a:lnTo>
                <a:lnTo>
                  <a:pt x="443" y="325"/>
                </a:lnTo>
                <a:lnTo>
                  <a:pt x="418" y="334"/>
                </a:lnTo>
                <a:lnTo>
                  <a:pt x="397" y="346"/>
                </a:lnTo>
                <a:lnTo>
                  <a:pt x="376" y="355"/>
                </a:lnTo>
                <a:lnTo>
                  <a:pt x="357" y="365"/>
                </a:lnTo>
                <a:lnTo>
                  <a:pt x="341" y="374"/>
                </a:lnTo>
                <a:lnTo>
                  <a:pt x="326" y="382"/>
                </a:lnTo>
                <a:lnTo>
                  <a:pt x="313" y="392"/>
                </a:lnTo>
                <a:lnTo>
                  <a:pt x="301" y="399"/>
                </a:lnTo>
                <a:lnTo>
                  <a:pt x="290" y="407"/>
                </a:lnTo>
                <a:lnTo>
                  <a:pt x="280" y="413"/>
                </a:lnTo>
                <a:lnTo>
                  <a:pt x="270" y="421"/>
                </a:lnTo>
                <a:lnTo>
                  <a:pt x="261" y="424"/>
                </a:lnTo>
                <a:lnTo>
                  <a:pt x="253" y="430"/>
                </a:lnTo>
                <a:lnTo>
                  <a:pt x="245" y="434"/>
                </a:lnTo>
                <a:lnTo>
                  <a:pt x="238" y="438"/>
                </a:lnTo>
                <a:lnTo>
                  <a:pt x="230" y="442"/>
                </a:lnTo>
                <a:lnTo>
                  <a:pt x="222" y="445"/>
                </a:lnTo>
                <a:lnTo>
                  <a:pt x="217" y="447"/>
                </a:lnTo>
                <a:lnTo>
                  <a:pt x="205" y="451"/>
                </a:lnTo>
                <a:lnTo>
                  <a:pt x="194" y="453"/>
                </a:lnTo>
                <a:lnTo>
                  <a:pt x="184" y="455"/>
                </a:lnTo>
                <a:lnTo>
                  <a:pt x="178" y="457"/>
                </a:lnTo>
                <a:lnTo>
                  <a:pt x="171" y="457"/>
                </a:lnTo>
                <a:lnTo>
                  <a:pt x="165" y="457"/>
                </a:lnTo>
                <a:lnTo>
                  <a:pt x="159" y="457"/>
                </a:lnTo>
                <a:lnTo>
                  <a:pt x="151" y="455"/>
                </a:lnTo>
                <a:lnTo>
                  <a:pt x="146" y="453"/>
                </a:lnTo>
                <a:lnTo>
                  <a:pt x="138" y="449"/>
                </a:lnTo>
                <a:lnTo>
                  <a:pt x="130" y="445"/>
                </a:lnTo>
                <a:lnTo>
                  <a:pt x="125" y="442"/>
                </a:lnTo>
                <a:lnTo>
                  <a:pt x="117" y="436"/>
                </a:lnTo>
                <a:lnTo>
                  <a:pt x="109" y="428"/>
                </a:lnTo>
                <a:lnTo>
                  <a:pt x="101" y="421"/>
                </a:lnTo>
                <a:lnTo>
                  <a:pt x="94" y="413"/>
                </a:lnTo>
                <a:lnTo>
                  <a:pt x="86" y="405"/>
                </a:lnTo>
                <a:lnTo>
                  <a:pt x="77" y="396"/>
                </a:lnTo>
                <a:lnTo>
                  <a:pt x="69" y="386"/>
                </a:lnTo>
                <a:lnTo>
                  <a:pt x="61" y="374"/>
                </a:lnTo>
                <a:lnTo>
                  <a:pt x="54" y="365"/>
                </a:lnTo>
                <a:lnTo>
                  <a:pt x="46" y="355"/>
                </a:lnTo>
                <a:lnTo>
                  <a:pt x="38" y="346"/>
                </a:lnTo>
                <a:lnTo>
                  <a:pt x="32" y="338"/>
                </a:lnTo>
                <a:lnTo>
                  <a:pt x="27" y="330"/>
                </a:lnTo>
                <a:lnTo>
                  <a:pt x="21" y="323"/>
                </a:lnTo>
                <a:lnTo>
                  <a:pt x="17" y="315"/>
                </a:lnTo>
                <a:lnTo>
                  <a:pt x="13" y="307"/>
                </a:lnTo>
                <a:lnTo>
                  <a:pt x="9" y="302"/>
                </a:lnTo>
                <a:lnTo>
                  <a:pt x="6" y="296"/>
                </a:lnTo>
                <a:lnTo>
                  <a:pt x="4" y="290"/>
                </a:lnTo>
                <a:lnTo>
                  <a:pt x="2" y="286"/>
                </a:lnTo>
                <a:lnTo>
                  <a:pt x="0" y="282"/>
                </a:lnTo>
                <a:lnTo>
                  <a:pt x="0" y="278"/>
                </a:lnTo>
                <a:lnTo>
                  <a:pt x="0" y="275"/>
                </a:lnTo>
                <a:lnTo>
                  <a:pt x="0" y="273"/>
                </a:lnTo>
                <a:lnTo>
                  <a:pt x="0" y="271"/>
                </a:lnTo>
                <a:lnTo>
                  <a:pt x="2" y="267"/>
                </a:lnTo>
                <a:lnTo>
                  <a:pt x="6" y="265"/>
                </a:lnTo>
                <a:lnTo>
                  <a:pt x="9" y="263"/>
                </a:lnTo>
                <a:lnTo>
                  <a:pt x="13" y="261"/>
                </a:lnTo>
                <a:lnTo>
                  <a:pt x="17" y="257"/>
                </a:lnTo>
                <a:lnTo>
                  <a:pt x="23" y="255"/>
                </a:lnTo>
                <a:lnTo>
                  <a:pt x="30" y="254"/>
                </a:lnTo>
                <a:lnTo>
                  <a:pt x="36" y="254"/>
                </a:lnTo>
                <a:lnTo>
                  <a:pt x="44" y="252"/>
                </a:lnTo>
                <a:lnTo>
                  <a:pt x="54" y="250"/>
                </a:lnTo>
                <a:lnTo>
                  <a:pt x="61" y="250"/>
                </a:lnTo>
                <a:lnTo>
                  <a:pt x="71" y="248"/>
                </a:lnTo>
                <a:lnTo>
                  <a:pt x="80" y="248"/>
                </a:lnTo>
                <a:lnTo>
                  <a:pt x="92" y="248"/>
                </a:lnTo>
                <a:lnTo>
                  <a:pt x="98" y="250"/>
                </a:lnTo>
                <a:lnTo>
                  <a:pt x="103" y="250"/>
                </a:lnTo>
                <a:lnTo>
                  <a:pt x="111" y="250"/>
                </a:lnTo>
                <a:lnTo>
                  <a:pt x="119" y="250"/>
                </a:lnTo>
                <a:lnTo>
                  <a:pt x="126" y="250"/>
                </a:lnTo>
                <a:lnTo>
                  <a:pt x="136" y="250"/>
                </a:lnTo>
                <a:lnTo>
                  <a:pt x="146" y="250"/>
                </a:lnTo>
                <a:lnTo>
                  <a:pt x="155" y="248"/>
                </a:lnTo>
                <a:lnTo>
                  <a:pt x="165" y="248"/>
                </a:lnTo>
                <a:lnTo>
                  <a:pt x="176" y="246"/>
                </a:lnTo>
                <a:lnTo>
                  <a:pt x="190" y="244"/>
                </a:lnTo>
                <a:lnTo>
                  <a:pt x="201" y="242"/>
                </a:lnTo>
                <a:lnTo>
                  <a:pt x="215" y="238"/>
                </a:lnTo>
                <a:lnTo>
                  <a:pt x="228" y="236"/>
                </a:lnTo>
                <a:lnTo>
                  <a:pt x="242" y="232"/>
                </a:lnTo>
                <a:lnTo>
                  <a:pt x="257" y="229"/>
                </a:lnTo>
                <a:lnTo>
                  <a:pt x="272" y="225"/>
                </a:lnTo>
                <a:lnTo>
                  <a:pt x="290" y="221"/>
                </a:lnTo>
                <a:lnTo>
                  <a:pt x="305" y="217"/>
                </a:lnTo>
                <a:lnTo>
                  <a:pt x="322" y="213"/>
                </a:lnTo>
                <a:lnTo>
                  <a:pt x="341" y="207"/>
                </a:lnTo>
                <a:lnTo>
                  <a:pt x="361" y="204"/>
                </a:lnTo>
                <a:lnTo>
                  <a:pt x="380" y="198"/>
                </a:lnTo>
                <a:lnTo>
                  <a:pt x="399" y="192"/>
                </a:lnTo>
                <a:lnTo>
                  <a:pt x="418" y="186"/>
                </a:lnTo>
                <a:lnTo>
                  <a:pt x="439" y="181"/>
                </a:lnTo>
                <a:lnTo>
                  <a:pt x="462" y="173"/>
                </a:lnTo>
                <a:lnTo>
                  <a:pt x="483" y="167"/>
                </a:lnTo>
                <a:lnTo>
                  <a:pt x="506" y="159"/>
                </a:lnTo>
                <a:lnTo>
                  <a:pt x="530" y="152"/>
                </a:lnTo>
                <a:lnTo>
                  <a:pt x="554" y="146"/>
                </a:lnTo>
                <a:lnTo>
                  <a:pt x="579" y="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4"/>
          <p:cNvSpPr/>
          <p:nvPr/>
        </p:nvSpPr>
        <p:spPr>
          <a:xfrm>
            <a:off x="2218680" y="2170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114880" y="2004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8" name="组合 8"/>
          <p:cNvGrpSpPr/>
          <p:nvPr/>
        </p:nvGrpSpPr>
        <p:grpSpPr>
          <a:xfrm>
            <a:off x="1400040" y="3597120"/>
            <a:ext cx="2840040" cy="1572480"/>
            <a:chOff x="1400040" y="3597120"/>
            <a:chExt cx="2840040" cy="1572480"/>
          </a:xfrm>
        </p:grpSpPr>
        <p:pic>
          <p:nvPicPr>
            <p:cNvPr id="11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597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矩形 2"/>
            <p:cNvSpPr/>
            <p:nvPr/>
          </p:nvSpPr>
          <p:spPr>
            <a:xfrm>
              <a:off x="1444680" y="4210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小右大。右部横撇与捺平衡，两点上下对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3"/>
          <p:cNvSpPr/>
          <p:nvPr/>
        </p:nvSpPr>
        <p:spPr>
          <a:xfrm>
            <a:off x="1876320" y="1490760"/>
            <a:ext cx="148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ō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77"/>
          <p:cNvSpPr/>
          <p:nvPr/>
        </p:nvSpPr>
        <p:spPr>
          <a:xfrm>
            <a:off x="6491160" y="4309920"/>
            <a:ext cx="484200" cy="417600"/>
          </a:xfrm>
          <a:custGeom>
            <a:avLst/>
            <a:gdLst/>
            <a:ahLst/>
            <a:rect l="l" t="t" r="r" b="b"/>
            <a:pathLst>
              <a:path w="611" h="528">
                <a:moveTo>
                  <a:pt x="561" y="528"/>
                </a:moveTo>
                <a:lnTo>
                  <a:pt x="555" y="526"/>
                </a:lnTo>
                <a:lnTo>
                  <a:pt x="549" y="524"/>
                </a:lnTo>
                <a:lnTo>
                  <a:pt x="542" y="522"/>
                </a:lnTo>
                <a:lnTo>
                  <a:pt x="536" y="518"/>
                </a:lnTo>
                <a:lnTo>
                  <a:pt x="530" y="516"/>
                </a:lnTo>
                <a:lnTo>
                  <a:pt x="525" y="513"/>
                </a:lnTo>
                <a:lnTo>
                  <a:pt x="519" y="511"/>
                </a:lnTo>
                <a:lnTo>
                  <a:pt x="511" y="505"/>
                </a:lnTo>
                <a:lnTo>
                  <a:pt x="505" y="501"/>
                </a:lnTo>
                <a:lnTo>
                  <a:pt x="496" y="497"/>
                </a:lnTo>
                <a:lnTo>
                  <a:pt x="488" y="491"/>
                </a:lnTo>
                <a:lnTo>
                  <a:pt x="477" y="484"/>
                </a:lnTo>
                <a:lnTo>
                  <a:pt x="467" y="478"/>
                </a:lnTo>
                <a:lnTo>
                  <a:pt x="455" y="470"/>
                </a:lnTo>
                <a:lnTo>
                  <a:pt x="446" y="463"/>
                </a:lnTo>
                <a:lnTo>
                  <a:pt x="434" y="455"/>
                </a:lnTo>
                <a:lnTo>
                  <a:pt x="423" y="445"/>
                </a:lnTo>
                <a:lnTo>
                  <a:pt x="400" y="426"/>
                </a:lnTo>
                <a:lnTo>
                  <a:pt x="377" y="407"/>
                </a:lnTo>
                <a:lnTo>
                  <a:pt x="352" y="384"/>
                </a:lnTo>
                <a:lnTo>
                  <a:pt x="325" y="359"/>
                </a:lnTo>
                <a:lnTo>
                  <a:pt x="298" y="334"/>
                </a:lnTo>
                <a:lnTo>
                  <a:pt x="285" y="321"/>
                </a:lnTo>
                <a:lnTo>
                  <a:pt x="269" y="307"/>
                </a:lnTo>
                <a:lnTo>
                  <a:pt x="254" y="290"/>
                </a:lnTo>
                <a:lnTo>
                  <a:pt x="239" y="275"/>
                </a:lnTo>
                <a:lnTo>
                  <a:pt x="225" y="261"/>
                </a:lnTo>
                <a:lnTo>
                  <a:pt x="210" y="246"/>
                </a:lnTo>
                <a:lnTo>
                  <a:pt x="196" y="232"/>
                </a:lnTo>
                <a:lnTo>
                  <a:pt x="183" y="219"/>
                </a:lnTo>
                <a:lnTo>
                  <a:pt x="169" y="207"/>
                </a:lnTo>
                <a:lnTo>
                  <a:pt x="156" y="194"/>
                </a:lnTo>
                <a:lnTo>
                  <a:pt x="133" y="171"/>
                </a:lnTo>
                <a:lnTo>
                  <a:pt x="121" y="161"/>
                </a:lnTo>
                <a:lnTo>
                  <a:pt x="110" y="150"/>
                </a:lnTo>
                <a:lnTo>
                  <a:pt x="98" y="140"/>
                </a:lnTo>
                <a:lnTo>
                  <a:pt x="89" y="129"/>
                </a:lnTo>
                <a:lnTo>
                  <a:pt x="79" y="119"/>
                </a:lnTo>
                <a:lnTo>
                  <a:pt x="72" y="111"/>
                </a:lnTo>
                <a:lnTo>
                  <a:pt x="62" y="104"/>
                </a:lnTo>
                <a:lnTo>
                  <a:pt x="54" y="96"/>
                </a:lnTo>
                <a:lnTo>
                  <a:pt x="47" y="90"/>
                </a:lnTo>
                <a:lnTo>
                  <a:pt x="41" y="83"/>
                </a:lnTo>
                <a:lnTo>
                  <a:pt x="33" y="77"/>
                </a:lnTo>
                <a:lnTo>
                  <a:pt x="29" y="71"/>
                </a:lnTo>
                <a:lnTo>
                  <a:pt x="24" y="63"/>
                </a:lnTo>
                <a:lnTo>
                  <a:pt x="18" y="58"/>
                </a:lnTo>
                <a:lnTo>
                  <a:pt x="14" y="52"/>
                </a:lnTo>
                <a:lnTo>
                  <a:pt x="10" y="48"/>
                </a:lnTo>
                <a:lnTo>
                  <a:pt x="8" y="42"/>
                </a:lnTo>
                <a:lnTo>
                  <a:pt x="6" y="39"/>
                </a:lnTo>
                <a:lnTo>
                  <a:pt x="4" y="35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lnTo>
                  <a:pt x="0" y="23"/>
                </a:lnTo>
                <a:lnTo>
                  <a:pt x="2" y="21"/>
                </a:lnTo>
                <a:lnTo>
                  <a:pt x="4" y="17"/>
                </a:lnTo>
                <a:lnTo>
                  <a:pt x="6" y="15"/>
                </a:lnTo>
                <a:lnTo>
                  <a:pt x="8" y="14"/>
                </a:lnTo>
                <a:lnTo>
                  <a:pt x="10" y="12"/>
                </a:lnTo>
                <a:lnTo>
                  <a:pt x="14" y="10"/>
                </a:lnTo>
                <a:lnTo>
                  <a:pt x="18" y="8"/>
                </a:lnTo>
                <a:lnTo>
                  <a:pt x="24" y="6"/>
                </a:lnTo>
                <a:lnTo>
                  <a:pt x="27" y="6"/>
                </a:lnTo>
                <a:lnTo>
                  <a:pt x="33" y="4"/>
                </a:lnTo>
                <a:lnTo>
                  <a:pt x="41" y="2"/>
                </a:lnTo>
                <a:lnTo>
                  <a:pt x="47" y="2"/>
                </a:lnTo>
                <a:lnTo>
                  <a:pt x="54" y="2"/>
                </a:lnTo>
                <a:lnTo>
                  <a:pt x="62" y="0"/>
                </a:lnTo>
                <a:lnTo>
                  <a:pt x="72" y="0"/>
                </a:lnTo>
                <a:lnTo>
                  <a:pt x="77" y="0"/>
                </a:lnTo>
                <a:lnTo>
                  <a:pt x="87" y="2"/>
                </a:lnTo>
                <a:lnTo>
                  <a:pt x="96" y="4"/>
                </a:lnTo>
                <a:lnTo>
                  <a:pt x="108" y="8"/>
                </a:lnTo>
                <a:lnTo>
                  <a:pt x="119" y="12"/>
                </a:lnTo>
                <a:lnTo>
                  <a:pt x="133" y="15"/>
                </a:lnTo>
                <a:lnTo>
                  <a:pt x="148" y="21"/>
                </a:lnTo>
                <a:lnTo>
                  <a:pt x="164" y="27"/>
                </a:lnTo>
                <a:lnTo>
                  <a:pt x="181" y="33"/>
                </a:lnTo>
                <a:lnTo>
                  <a:pt x="198" y="40"/>
                </a:lnTo>
                <a:lnTo>
                  <a:pt x="217" y="48"/>
                </a:lnTo>
                <a:lnTo>
                  <a:pt x="239" y="58"/>
                </a:lnTo>
                <a:lnTo>
                  <a:pt x="260" y="65"/>
                </a:lnTo>
                <a:lnTo>
                  <a:pt x="281" y="77"/>
                </a:lnTo>
                <a:lnTo>
                  <a:pt x="304" y="87"/>
                </a:lnTo>
                <a:lnTo>
                  <a:pt x="327" y="98"/>
                </a:lnTo>
                <a:lnTo>
                  <a:pt x="350" y="110"/>
                </a:lnTo>
                <a:lnTo>
                  <a:pt x="373" y="121"/>
                </a:lnTo>
                <a:lnTo>
                  <a:pt x="394" y="133"/>
                </a:lnTo>
                <a:lnTo>
                  <a:pt x="415" y="144"/>
                </a:lnTo>
                <a:lnTo>
                  <a:pt x="434" y="156"/>
                </a:lnTo>
                <a:lnTo>
                  <a:pt x="452" y="167"/>
                </a:lnTo>
                <a:lnTo>
                  <a:pt x="469" y="179"/>
                </a:lnTo>
                <a:lnTo>
                  <a:pt x="484" y="190"/>
                </a:lnTo>
                <a:lnTo>
                  <a:pt x="500" y="202"/>
                </a:lnTo>
                <a:lnTo>
                  <a:pt x="513" y="213"/>
                </a:lnTo>
                <a:lnTo>
                  <a:pt x="526" y="225"/>
                </a:lnTo>
                <a:lnTo>
                  <a:pt x="536" y="236"/>
                </a:lnTo>
                <a:lnTo>
                  <a:pt x="548" y="248"/>
                </a:lnTo>
                <a:lnTo>
                  <a:pt x="557" y="259"/>
                </a:lnTo>
                <a:lnTo>
                  <a:pt x="565" y="271"/>
                </a:lnTo>
                <a:lnTo>
                  <a:pt x="573" y="282"/>
                </a:lnTo>
                <a:lnTo>
                  <a:pt x="578" y="292"/>
                </a:lnTo>
                <a:lnTo>
                  <a:pt x="584" y="301"/>
                </a:lnTo>
                <a:lnTo>
                  <a:pt x="588" y="309"/>
                </a:lnTo>
                <a:lnTo>
                  <a:pt x="594" y="319"/>
                </a:lnTo>
                <a:lnTo>
                  <a:pt x="597" y="328"/>
                </a:lnTo>
                <a:lnTo>
                  <a:pt x="601" y="338"/>
                </a:lnTo>
                <a:lnTo>
                  <a:pt x="603" y="348"/>
                </a:lnTo>
                <a:lnTo>
                  <a:pt x="607" y="357"/>
                </a:lnTo>
                <a:lnTo>
                  <a:pt x="609" y="367"/>
                </a:lnTo>
                <a:lnTo>
                  <a:pt x="609" y="376"/>
                </a:lnTo>
                <a:lnTo>
                  <a:pt x="611" y="388"/>
                </a:lnTo>
                <a:lnTo>
                  <a:pt x="611" y="397"/>
                </a:lnTo>
                <a:lnTo>
                  <a:pt x="611" y="409"/>
                </a:lnTo>
                <a:lnTo>
                  <a:pt x="609" y="419"/>
                </a:lnTo>
                <a:lnTo>
                  <a:pt x="609" y="430"/>
                </a:lnTo>
                <a:lnTo>
                  <a:pt x="607" y="442"/>
                </a:lnTo>
                <a:lnTo>
                  <a:pt x="605" y="453"/>
                </a:lnTo>
                <a:lnTo>
                  <a:pt x="601" y="463"/>
                </a:lnTo>
                <a:lnTo>
                  <a:pt x="599" y="472"/>
                </a:lnTo>
                <a:lnTo>
                  <a:pt x="596" y="480"/>
                </a:lnTo>
                <a:lnTo>
                  <a:pt x="594" y="488"/>
                </a:lnTo>
                <a:lnTo>
                  <a:pt x="590" y="495"/>
                </a:lnTo>
                <a:lnTo>
                  <a:pt x="586" y="501"/>
                </a:lnTo>
                <a:lnTo>
                  <a:pt x="584" y="507"/>
                </a:lnTo>
                <a:lnTo>
                  <a:pt x="580" y="513"/>
                </a:lnTo>
                <a:lnTo>
                  <a:pt x="576" y="516"/>
                </a:lnTo>
                <a:lnTo>
                  <a:pt x="574" y="520"/>
                </a:lnTo>
                <a:lnTo>
                  <a:pt x="571" y="522"/>
                </a:lnTo>
                <a:lnTo>
                  <a:pt x="567" y="524"/>
                </a:lnTo>
                <a:lnTo>
                  <a:pt x="565" y="526"/>
                </a:lnTo>
                <a:lnTo>
                  <a:pt x="563" y="526"/>
                </a:lnTo>
                <a:lnTo>
                  <a:pt x="561" y="5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78"/>
          <p:cNvSpPr/>
          <p:nvPr/>
        </p:nvSpPr>
        <p:spPr>
          <a:xfrm>
            <a:off x="6529320" y="3862440"/>
            <a:ext cx="352440" cy="312840"/>
          </a:xfrm>
          <a:custGeom>
            <a:avLst/>
            <a:gdLst/>
            <a:ahLst/>
            <a:rect l="l" t="t" r="r" b="b"/>
            <a:pathLst>
              <a:path w="444" h="393">
                <a:moveTo>
                  <a:pt x="0" y="25"/>
                </a:moveTo>
                <a:lnTo>
                  <a:pt x="2" y="21"/>
                </a:lnTo>
                <a:lnTo>
                  <a:pt x="4" y="19"/>
                </a:lnTo>
                <a:lnTo>
                  <a:pt x="8" y="17"/>
                </a:lnTo>
                <a:lnTo>
                  <a:pt x="12" y="15"/>
                </a:lnTo>
                <a:lnTo>
                  <a:pt x="18" y="13"/>
                </a:lnTo>
                <a:lnTo>
                  <a:pt x="22" y="11"/>
                </a:lnTo>
                <a:lnTo>
                  <a:pt x="27" y="9"/>
                </a:lnTo>
                <a:lnTo>
                  <a:pt x="35" y="7"/>
                </a:lnTo>
                <a:lnTo>
                  <a:pt x="41" y="5"/>
                </a:lnTo>
                <a:lnTo>
                  <a:pt x="48" y="4"/>
                </a:lnTo>
                <a:lnTo>
                  <a:pt x="56" y="2"/>
                </a:lnTo>
                <a:lnTo>
                  <a:pt x="66" y="2"/>
                </a:lnTo>
                <a:lnTo>
                  <a:pt x="73" y="0"/>
                </a:lnTo>
                <a:lnTo>
                  <a:pt x="83" y="0"/>
                </a:lnTo>
                <a:lnTo>
                  <a:pt x="93" y="0"/>
                </a:lnTo>
                <a:lnTo>
                  <a:pt x="104" y="0"/>
                </a:lnTo>
                <a:lnTo>
                  <a:pt x="116" y="0"/>
                </a:lnTo>
                <a:lnTo>
                  <a:pt x="127" y="0"/>
                </a:lnTo>
                <a:lnTo>
                  <a:pt x="139" y="2"/>
                </a:lnTo>
                <a:lnTo>
                  <a:pt x="152" y="4"/>
                </a:lnTo>
                <a:lnTo>
                  <a:pt x="166" y="7"/>
                </a:lnTo>
                <a:lnTo>
                  <a:pt x="179" y="9"/>
                </a:lnTo>
                <a:lnTo>
                  <a:pt x="192" y="15"/>
                </a:lnTo>
                <a:lnTo>
                  <a:pt x="206" y="19"/>
                </a:lnTo>
                <a:lnTo>
                  <a:pt x="221" y="25"/>
                </a:lnTo>
                <a:lnTo>
                  <a:pt x="235" y="30"/>
                </a:lnTo>
                <a:lnTo>
                  <a:pt x="250" y="38"/>
                </a:lnTo>
                <a:lnTo>
                  <a:pt x="265" y="46"/>
                </a:lnTo>
                <a:lnTo>
                  <a:pt x="281" y="53"/>
                </a:lnTo>
                <a:lnTo>
                  <a:pt x="296" y="63"/>
                </a:lnTo>
                <a:lnTo>
                  <a:pt x="311" y="75"/>
                </a:lnTo>
                <a:lnTo>
                  <a:pt x="327" y="86"/>
                </a:lnTo>
                <a:lnTo>
                  <a:pt x="340" y="98"/>
                </a:lnTo>
                <a:lnTo>
                  <a:pt x="354" y="109"/>
                </a:lnTo>
                <a:lnTo>
                  <a:pt x="367" y="121"/>
                </a:lnTo>
                <a:lnTo>
                  <a:pt x="381" y="134"/>
                </a:lnTo>
                <a:lnTo>
                  <a:pt x="390" y="146"/>
                </a:lnTo>
                <a:lnTo>
                  <a:pt x="402" y="159"/>
                </a:lnTo>
                <a:lnTo>
                  <a:pt x="411" y="171"/>
                </a:lnTo>
                <a:lnTo>
                  <a:pt x="419" y="184"/>
                </a:lnTo>
                <a:lnTo>
                  <a:pt x="425" y="196"/>
                </a:lnTo>
                <a:lnTo>
                  <a:pt x="432" y="209"/>
                </a:lnTo>
                <a:lnTo>
                  <a:pt x="436" y="220"/>
                </a:lnTo>
                <a:lnTo>
                  <a:pt x="440" y="234"/>
                </a:lnTo>
                <a:lnTo>
                  <a:pt x="442" y="245"/>
                </a:lnTo>
                <a:lnTo>
                  <a:pt x="444" y="257"/>
                </a:lnTo>
                <a:lnTo>
                  <a:pt x="444" y="268"/>
                </a:lnTo>
                <a:lnTo>
                  <a:pt x="442" y="282"/>
                </a:lnTo>
                <a:lnTo>
                  <a:pt x="440" y="293"/>
                </a:lnTo>
                <a:lnTo>
                  <a:pt x="438" y="307"/>
                </a:lnTo>
                <a:lnTo>
                  <a:pt x="434" y="318"/>
                </a:lnTo>
                <a:lnTo>
                  <a:pt x="432" y="330"/>
                </a:lnTo>
                <a:lnTo>
                  <a:pt x="429" y="339"/>
                </a:lnTo>
                <a:lnTo>
                  <a:pt x="425" y="349"/>
                </a:lnTo>
                <a:lnTo>
                  <a:pt x="423" y="357"/>
                </a:lnTo>
                <a:lnTo>
                  <a:pt x="419" y="364"/>
                </a:lnTo>
                <a:lnTo>
                  <a:pt x="415" y="370"/>
                </a:lnTo>
                <a:lnTo>
                  <a:pt x="413" y="376"/>
                </a:lnTo>
                <a:lnTo>
                  <a:pt x="409" y="380"/>
                </a:lnTo>
                <a:lnTo>
                  <a:pt x="405" y="384"/>
                </a:lnTo>
                <a:lnTo>
                  <a:pt x="404" y="387"/>
                </a:lnTo>
                <a:lnTo>
                  <a:pt x="400" y="389"/>
                </a:lnTo>
                <a:lnTo>
                  <a:pt x="398" y="391"/>
                </a:lnTo>
                <a:lnTo>
                  <a:pt x="396" y="391"/>
                </a:lnTo>
                <a:lnTo>
                  <a:pt x="392" y="393"/>
                </a:lnTo>
                <a:lnTo>
                  <a:pt x="390" y="393"/>
                </a:lnTo>
                <a:lnTo>
                  <a:pt x="384" y="393"/>
                </a:lnTo>
                <a:lnTo>
                  <a:pt x="381" y="391"/>
                </a:lnTo>
                <a:lnTo>
                  <a:pt x="375" y="389"/>
                </a:lnTo>
                <a:lnTo>
                  <a:pt x="367" y="386"/>
                </a:lnTo>
                <a:lnTo>
                  <a:pt x="359" y="380"/>
                </a:lnTo>
                <a:lnTo>
                  <a:pt x="352" y="374"/>
                </a:lnTo>
                <a:lnTo>
                  <a:pt x="342" y="368"/>
                </a:lnTo>
                <a:lnTo>
                  <a:pt x="333" y="361"/>
                </a:lnTo>
                <a:lnTo>
                  <a:pt x="321" y="351"/>
                </a:lnTo>
                <a:lnTo>
                  <a:pt x="310" y="341"/>
                </a:lnTo>
                <a:lnTo>
                  <a:pt x="298" y="330"/>
                </a:lnTo>
                <a:lnTo>
                  <a:pt x="285" y="318"/>
                </a:lnTo>
                <a:lnTo>
                  <a:pt x="271" y="307"/>
                </a:lnTo>
                <a:lnTo>
                  <a:pt x="256" y="293"/>
                </a:lnTo>
                <a:lnTo>
                  <a:pt x="225" y="270"/>
                </a:lnTo>
                <a:lnTo>
                  <a:pt x="198" y="247"/>
                </a:lnTo>
                <a:lnTo>
                  <a:pt x="169" y="224"/>
                </a:lnTo>
                <a:lnTo>
                  <a:pt x="158" y="213"/>
                </a:lnTo>
                <a:lnTo>
                  <a:pt x="144" y="203"/>
                </a:lnTo>
                <a:lnTo>
                  <a:pt x="133" y="192"/>
                </a:lnTo>
                <a:lnTo>
                  <a:pt x="121" y="182"/>
                </a:lnTo>
                <a:lnTo>
                  <a:pt x="112" y="171"/>
                </a:lnTo>
                <a:lnTo>
                  <a:pt x="102" y="161"/>
                </a:lnTo>
                <a:lnTo>
                  <a:pt x="93" y="151"/>
                </a:lnTo>
                <a:lnTo>
                  <a:pt x="83" y="140"/>
                </a:lnTo>
                <a:lnTo>
                  <a:pt x="75" y="130"/>
                </a:lnTo>
                <a:lnTo>
                  <a:pt x="70" y="123"/>
                </a:lnTo>
                <a:lnTo>
                  <a:pt x="60" y="113"/>
                </a:lnTo>
                <a:lnTo>
                  <a:pt x="52" y="103"/>
                </a:lnTo>
                <a:lnTo>
                  <a:pt x="47" y="96"/>
                </a:lnTo>
                <a:lnTo>
                  <a:pt x="39" y="88"/>
                </a:lnTo>
                <a:lnTo>
                  <a:pt x="33" y="80"/>
                </a:lnTo>
                <a:lnTo>
                  <a:pt x="27" y="73"/>
                </a:lnTo>
                <a:lnTo>
                  <a:pt x="22" y="65"/>
                </a:lnTo>
                <a:lnTo>
                  <a:pt x="18" y="59"/>
                </a:lnTo>
                <a:lnTo>
                  <a:pt x="14" y="53"/>
                </a:lnTo>
                <a:lnTo>
                  <a:pt x="10" y="48"/>
                </a:lnTo>
                <a:lnTo>
                  <a:pt x="6" y="42"/>
                </a:lnTo>
                <a:lnTo>
                  <a:pt x="4" y="38"/>
                </a:lnTo>
                <a:lnTo>
                  <a:pt x="2" y="32"/>
                </a:lnTo>
                <a:lnTo>
                  <a:pt x="0" y="30"/>
                </a:lnTo>
                <a:lnTo>
                  <a:pt x="0" y="27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79"/>
          <p:cNvSpPr/>
          <p:nvPr/>
        </p:nvSpPr>
        <p:spPr>
          <a:xfrm>
            <a:off x="6362640" y="3143160"/>
            <a:ext cx="1406520" cy="839880"/>
          </a:xfrm>
          <a:custGeom>
            <a:avLst/>
            <a:gdLst/>
            <a:ahLst/>
            <a:rect l="l" t="t" r="r" b="b"/>
            <a:pathLst>
              <a:path w="1772" h="1057">
                <a:moveTo>
                  <a:pt x="1772" y="967"/>
                </a:moveTo>
                <a:lnTo>
                  <a:pt x="1770" y="969"/>
                </a:lnTo>
                <a:lnTo>
                  <a:pt x="1768" y="971"/>
                </a:lnTo>
                <a:lnTo>
                  <a:pt x="1762" y="975"/>
                </a:lnTo>
                <a:lnTo>
                  <a:pt x="1757" y="979"/>
                </a:lnTo>
                <a:lnTo>
                  <a:pt x="1747" y="981"/>
                </a:lnTo>
                <a:lnTo>
                  <a:pt x="1737" y="984"/>
                </a:lnTo>
                <a:lnTo>
                  <a:pt x="1724" y="988"/>
                </a:lnTo>
                <a:lnTo>
                  <a:pt x="1711" y="992"/>
                </a:lnTo>
                <a:lnTo>
                  <a:pt x="1693" y="996"/>
                </a:lnTo>
                <a:lnTo>
                  <a:pt x="1676" y="1000"/>
                </a:lnTo>
                <a:lnTo>
                  <a:pt x="1657" y="1006"/>
                </a:lnTo>
                <a:lnTo>
                  <a:pt x="1634" y="1009"/>
                </a:lnTo>
                <a:lnTo>
                  <a:pt x="1611" y="1013"/>
                </a:lnTo>
                <a:lnTo>
                  <a:pt x="1584" y="1019"/>
                </a:lnTo>
                <a:lnTo>
                  <a:pt x="1557" y="1023"/>
                </a:lnTo>
                <a:lnTo>
                  <a:pt x="1526" y="1029"/>
                </a:lnTo>
                <a:lnTo>
                  <a:pt x="1498" y="1032"/>
                </a:lnTo>
                <a:lnTo>
                  <a:pt x="1469" y="1036"/>
                </a:lnTo>
                <a:lnTo>
                  <a:pt x="1442" y="1040"/>
                </a:lnTo>
                <a:lnTo>
                  <a:pt x="1415" y="1044"/>
                </a:lnTo>
                <a:lnTo>
                  <a:pt x="1392" y="1048"/>
                </a:lnTo>
                <a:lnTo>
                  <a:pt x="1369" y="1050"/>
                </a:lnTo>
                <a:lnTo>
                  <a:pt x="1348" y="1052"/>
                </a:lnTo>
                <a:lnTo>
                  <a:pt x="1327" y="1054"/>
                </a:lnTo>
                <a:lnTo>
                  <a:pt x="1309" y="1055"/>
                </a:lnTo>
                <a:lnTo>
                  <a:pt x="1292" y="1057"/>
                </a:lnTo>
                <a:lnTo>
                  <a:pt x="1277" y="1057"/>
                </a:lnTo>
                <a:lnTo>
                  <a:pt x="1263" y="1057"/>
                </a:lnTo>
                <a:lnTo>
                  <a:pt x="1252" y="1057"/>
                </a:lnTo>
                <a:lnTo>
                  <a:pt x="1240" y="1055"/>
                </a:lnTo>
                <a:lnTo>
                  <a:pt x="1231" y="1054"/>
                </a:lnTo>
                <a:lnTo>
                  <a:pt x="1225" y="1052"/>
                </a:lnTo>
                <a:lnTo>
                  <a:pt x="1215" y="1052"/>
                </a:lnTo>
                <a:lnTo>
                  <a:pt x="1204" y="1048"/>
                </a:lnTo>
                <a:lnTo>
                  <a:pt x="1192" y="1044"/>
                </a:lnTo>
                <a:lnTo>
                  <a:pt x="1179" y="1038"/>
                </a:lnTo>
                <a:lnTo>
                  <a:pt x="1164" y="1030"/>
                </a:lnTo>
                <a:lnTo>
                  <a:pt x="1148" y="1021"/>
                </a:lnTo>
                <a:lnTo>
                  <a:pt x="1129" y="1009"/>
                </a:lnTo>
                <a:lnTo>
                  <a:pt x="1112" y="996"/>
                </a:lnTo>
                <a:lnTo>
                  <a:pt x="1091" y="981"/>
                </a:lnTo>
                <a:lnTo>
                  <a:pt x="1081" y="973"/>
                </a:lnTo>
                <a:lnTo>
                  <a:pt x="1071" y="963"/>
                </a:lnTo>
                <a:lnTo>
                  <a:pt x="1060" y="954"/>
                </a:lnTo>
                <a:lnTo>
                  <a:pt x="1048" y="944"/>
                </a:lnTo>
                <a:lnTo>
                  <a:pt x="1037" y="935"/>
                </a:lnTo>
                <a:lnTo>
                  <a:pt x="1025" y="923"/>
                </a:lnTo>
                <a:lnTo>
                  <a:pt x="1014" y="913"/>
                </a:lnTo>
                <a:lnTo>
                  <a:pt x="1000" y="900"/>
                </a:lnTo>
                <a:lnTo>
                  <a:pt x="989" y="888"/>
                </a:lnTo>
                <a:lnTo>
                  <a:pt x="975" y="875"/>
                </a:lnTo>
                <a:lnTo>
                  <a:pt x="962" y="864"/>
                </a:lnTo>
                <a:lnTo>
                  <a:pt x="949" y="848"/>
                </a:lnTo>
                <a:lnTo>
                  <a:pt x="935" y="835"/>
                </a:lnTo>
                <a:lnTo>
                  <a:pt x="922" y="819"/>
                </a:lnTo>
                <a:lnTo>
                  <a:pt x="906" y="806"/>
                </a:lnTo>
                <a:lnTo>
                  <a:pt x="891" y="791"/>
                </a:lnTo>
                <a:lnTo>
                  <a:pt x="874" y="775"/>
                </a:lnTo>
                <a:lnTo>
                  <a:pt x="856" y="758"/>
                </a:lnTo>
                <a:lnTo>
                  <a:pt x="839" y="743"/>
                </a:lnTo>
                <a:lnTo>
                  <a:pt x="820" y="723"/>
                </a:lnTo>
                <a:lnTo>
                  <a:pt x="799" y="706"/>
                </a:lnTo>
                <a:lnTo>
                  <a:pt x="778" y="687"/>
                </a:lnTo>
                <a:lnTo>
                  <a:pt x="755" y="666"/>
                </a:lnTo>
                <a:lnTo>
                  <a:pt x="732" y="647"/>
                </a:lnTo>
                <a:lnTo>
                  <a:pt x="709" y="626"/>
                </a:lnTo>
                <a:lnTo>
                  <a:pt x="682" y="602"/>
                </a:lnTo>
                <a:lnTo>
                  <a:pt x="657" y="579"/>
                </a:lnTo>
                <a:lnTo>
                  <a:pt x="630" y="556"/>
                </a:lnTo>
                <a:lnTo>
                  <a:pt x="603" y="531"/>
                </a:lnTo>
                <a:lnTo>
                  <a:pt x="574" y="506"/>
                </a:lnTo>
                <a:lnTo>
                  <a:pt x="544" y="482"/>
                </a:lnTo>
                <a:lnTo>
                  <a:pt x="513" y="455"/>
                </a:lnTo>
                <a:lnTo>
                  <a:pt x="482" y="428"/>
                </a:lnTo>
                <a:lnTo>
                  <a:pt x="449" y="399"/>
                </a:lnTo>
                <a:lnTo>
                  <a:pt x="417" y="370"/>
                </a:lnTo>
                <a:lnTo>
                  <a:pt x="384" y="341"/>
                </a:lnTo>
                <a:lnTo>
                  <a:pt x="350" y="311"/>
                </a:lnTo>
                <a:lnTo>
                  <a:pt x="313" y="280"/>
                </a:lnTo>
                <a:lnTo>
                  <a:pt x="277" y="247"/>
                </a:lnTo>
                <a:lnTo>
                  <a:pt x="240" y="215"/>
                </a:lnTo>
                <a:lnTo>
                  <a:pt x="202" y="180"/>
                </a:lnTo>
                <a:lnTo>
                  <a:pt x="163" y="146"/>
                </a:lnTo>
                <a:lnTo>
                  <a:pt x="123" y="111"/>
                </a:lnTo>
                <a:lnTo>
                  <a:pt x="83" y="75"/>
                </a:lnTo>
                <a:lnTo>
                  <a:pt x="43" y="38"/>
                </a:lnTo>
                <a:lnTo>
                  <a:pt x="0" y="0"/>
                </a:lnTo>
                <a:lnTo>
                  <a:pt x="20" y="0"/>
                </a:lnTo>
                <a:lnTo>
                  <a:pt x="39" y="0"/>
                </a:lnTo>
                <a:lnTo>
                  <a:pt x="56" y="2"/>
                </a:lnTo>
                <a:lnTo>
                  <a:pt x="73" y="4"/>
                </a:lnTo>
                <a:lnTo>
                  <a:pt x="91" y="6"/>
                </a:lnTo>
                <a:lnTo>
                  <a:pt x="106" y="9"/>
                </a:lnTo>
                <a:lnTo>
                  <a:pt x="121" y="11"/>
                </a:lnTo>
                <a:lnTo>
                  <a:pt x="135" y="15"/>
                </a:lnTo>
                <a:lnTo>
                  <a:pt x="148" y="21"/>
                </a:lnTo>
                <a:lnTo>
                  <a:pt x="162" y="25"/>
                </a:lnTo>
                <a:lnTo>
                  <a:pt x="175" y="30"/>
                </a:lnTo>
                <a:lnTo>
                  <a:pt x="188" y="36"/>
                </a:lnTo>
                <a:lnTo>
                  <a:pt x="211" y="48"/>
                </a:lnTo>
                <a:lnTo>
                  <a:pt x="235" y="61"/>
                </a:lnTo>
                <a:lnTo>
                  <a:pt x="244" y="71"/>
                </a:lnTo>
                <a:lnTo>
                  <a:pt x="258" y="80"/>
                </a:lnTo>
                <a:lnTo>
                  <a:pt x="271" y="92"/>
                </a:lnTo>
                <a:lnTo>
                  <a:pt x="284" y="103"/>
                </a:lnTo>
                <a:lnTo>
                  <a:pt x="300" y="117"/>
                </a:lnTo>
                <a:lnTo>
                  <a:pt x="315" y="130"/>
                </a:lnTo>
                <a:lnTo>
                  <a:pt x="332" y="146"/>
                </a:lnTo>
                <a:lnTo>
                  <a:pt x="350" y="159"/>
                </a:lnTo>
                <a:lnTo>
                  <a:pt x="369" y="176"/>
                </a:lnTo>
                <a:lnTo>
                  <a:pt x="390" y="192"/>
                </a:lnTo>
                <a:lnTo>
                  <a:pt x="411" y="209"/>
                </a:lnTo>
                <a:lnTo>
                  <a:pt x="434" y="226"/>
                </a:lnTo>
                <a:lnTo>
                  <a:pt x="457" y="245"/>
                </a:lnTo>
                <a:lnTo>
                  <a:pt x="482" y="265"/>
                </a:lnTo>
                <a:lnTo>
                  <a:pt x="509" y="286"/>
                </a:lnTo>
                <a:lnTo>
                  <a:pt x="538" y="305"/>
                </a:lnTo>
                <a:lnTo>
                  <a:pt x="565" y="328"/>
                </a:lnTo>
                <a:lnTo>
                  <a:pt x="593" y="351"/>
                </a:lnTo>
                <a:lnTo>
                  <a:pt x="622" y="372"/>
                </a:lnTo>
                <a:lnTo>
                  <a:pt x="651" y="393"/>
                </a:lnTo>
                <a:lnTo>
                  <a:pt x="678" y="414"/>
                </a:lnTo>
                <a:lnTo>
                  <a:pt x="707" y="434"/>
                </a:lnTo>
                <a:lnTo>
                  <a:pt x="736" y="453"/>
                </a:lnTo>
                <a:lnTo>
                  <a:pt x="764" y="472"/>
                </a:lnTo>
                <a:lnTo>
                  <a:pt x="824" y="508"/>
                </a:lnTo>
                <a:lnTo>
                  <a:pt x="883" y="545"/>
                </a:lnTo>
                <a:lnTo>
                  <a:pt x="943" y="579"/>
                </a:lnTo>
                <a:lnTo>
                  <a:pt x="1002" y="612"/>
                </a:lnTo>
                <a:lnTo>
                  <a:pt x="1064" y="643"/>
                </a:lnTo>
                <a:lnTo>
                  <a:pt x="1127" y="673"/>
                </a:lnTo>
                <a:lnTo>
                  <a:pt x="1190" y="702"/>
                </a:lnTo>
                <a:lnTo>
                  <a:pt x="1254" y="731"/>
                </a:lnTo>
                <a:lnTo>
                  <a:pt x="1319" y="758"/>
                </a:lnTo>
                <a:lnTo>
                  <a:pt x="1384" y="783"/>
                </a:lnTo>
                <a:lnTo>
                  <a:pt x="1450" y="808"/>
                </a:lnTo>
                <a:lnTo>
                  <a:pt x="1515" y="833"/>
                </a:lnTo>
                <a:lnTo>
                  <a:pt x="1532" y="839"/>
                </a:lnTo>
                <a:lnTo>
                  <a:pt x="1547" y="844"/>
                </a:lnTo>
                <a:lnTo>
                  <a:pt x="1563" y="848"/>
                </a:lnTo>
                <a:lnTo>
                  <a:pt x="1576" y="854"/>
                </a:lnTo>
                <a:lnTo>
                  <a:pt x="1590" y="860"/>
                </a:lnTo>
                <a:lnTo>
                  <a:pt x="1603" y="865"/>
                </a:lnTo>
                <a:lnTo>
                  <a:pt x="1617" y="871"/>
                </a:lnTo>
                <a:lnTo>
                  <a:pt x="1628" y="875"/>
                </a:lnTo>
                <a:lnTo>
                  <a:pt x="1642" y="881"/>
                </a:lnTo>
                <a:lnTo>
                  <a:pt x="1651" y="887"/>
                </a:lnTo>
                <a:lnTo>
                  <a:pt x="1663" y="890"/>
                </a:lnTo>
                <a:lnTo>
                  <a:pt x="1672" y="896"/>
                </a:lnTo>
                <a:lnTo>
                  <a:pt x="1682" y="900"/>
                </a:lnTo>
                <a:lnTo>
                  <a:pt x="1691" y="904"/>
                </a:lnTo>
                <a:lnTo>
                  <a:pt x="1701" y="910"/>
                </a:lnTo>
                <a:lnTo>
                  <a:pt x="1709" y="913"/>
                </a:lnTo>
                <a:lnTo>
                  <a:pt x="1716" y="917"/>
                </a:lnTo>
                <a:lnTo>
                  <a:pt x="1724" y="921"/>
                </a:lnTo>
                <a:lnTo>
                  <a:pt x="1730" y="925"/>
                </a:lnTo>
                <a:lnTo>
                  <a:pt x="1736" y="931"/>
                </a:lnTo>
                <a:lnTo>
                  <a:pt x="1741" y="933"/>
                </a:lnTo>
                <a:lnTo>
                  <a:pt x="1747" y="936"/>
                </a:lnTo>
                <a:lnTo>
                  <a:pt x="1753" y="940"/>
                </a:lnTo>
                <a:lnTo>
                  <a:pt x="1757" y="944"/>
                </a:lnTo>
                <a:lnTo>
                  <a:pt x="1761" y="948"/>
                </a:lnTo>
                <a:lnTo>
                  <a:pt x="1762" y="950"/>
                </a:lnTo>
                <a:lnTo>
                  <a:pt x="1766" y="954"/>
                </a:lnTo>
                <a:lnTo>
                  <a:pt x="1768" y="956"/>
                </a:lnTo>
                <a:lnTo>
                  <a:pt x="1770" y="959"/>
                </a:lnTo>
                <a:lnTo>
                  <a:pt x="1770" y="961"/>
                </a:lnTo>
                <a:lnTo>
                  <a:pt x="1772" y="965"/>
                </a:lnTo>
                <a:lnTo>
                  <a:pt x="1772" y="9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80"/>
          <p:cNvSpPr/>
          <p:nvPr/>
        </p:nvSpPr>
        <p:spPr>
          <a:xfrm>
            <a:off x="5788080" y="2755800"/>
            <a:ext cx="1387440" cy="1374840"/>
          </a:xfrm>
          <a:custGeom>
            <a:avLst/>
            <a:gdLst/>
            <a:ahLst/>
            <a:rect l="l" t="t" r="r" b="b"/>
            <a:pathLst>
              <a:path w="1748" h="1734">
                <a:moveTo>
                  <a:pt x="457" y="1396"/>
                </a:moveTo>
                <a:lnTo>
                  <a:pt x="512" y="1354"/>
                </a:lnTo>
                <a:lnTo>
                  <a:pt x="570" y="1309"/>
                </a:lnTo>
                <a:lnTo>
                  <a:pt x="599" y="1288"/>
                </a:lnTo>
                <a:lnTo>
                  <a:pt x="625" y="1265"/>
                </a:lnTo>
                <a:lnTo>
                  <a:pt x="654" y="1242"/>
                </a:lnTo>
                <a:lnTo>
                  <a:pt x="683" y="1217"/>
                </a:lnTo>
                <a:lnTo>
                  <a:pt x="712" y="1194"/>
                </a:lnTo>
                <a:lnTo>
                  <a:pt x="741" y="1169"/>
                </a:lnTo>
                <a:lnTo>
                  <a:pt x="769" y="1144"/>
                </a:lnTo>
                <a:lnTo>
                  <a:pt x="796" y="1117"/>
                </a:lnTo>
                <a:lnTo>
                  <a:pt x="825" y="1091"/>
                </a:lnTo>
                <a:lnTo>
                  <a:pt x="854" y="1062"/>
                </a:lnTo>
                <a:lnTo>
                  <a:pt x="883" y="1033"/>
                </a:lnTo>
                <a:lnTo>
                  <a:pt x="910" y="1004"/>
                </a:lnTo>
                <a:lnTo>
                  <a:pt x="938" y="973"/>
                </a:lnTo>
                <a:lnTo>
                  <a:pt x="965" y="943"/>
                </a:lnTo>
                <a:lnTo>
                  <a:pt x="992" y="914"/>
                </a:lnTo>
                <a:lnTo>
                  <a:pt x="1019" y="883"/>
                </a:lnTo>
                <a:lnTo>
                  <a:pt x="1044" y="854"/>
                </a:lnTo>
                <a:lnTo>
                  <a:pt x="1069" y="824"/>
                </a:lnTo>
                <a:lnTo>
                  <a:pt x="1094" y="793"/>
                </a:lnTo>
                <a:lnTo>
                  <a:pt x="1119" y="762"/>
                </a:lnTo>
                <a:lnTo>
                  <a:pt x="1142" y="734"/>
                </a:lnTo>
                <a:lnTo>
                  <a:pt x="1165" y="703"/>
                </a:lnTo>
                <a:lnTo>
                  <a:pt x="1186" y="672"/>
                </a:lnTo>
                <a:lnTo>
                  <a:pt x="1207" y="639"/>
                </a:lnTo>
                <a:lnTo>
                  <a:pt x="1228" y="609"/>
                </a:lnTo>
                <a:lnTo>
                  <a:pt x="1247" y="578"/>
                </a:lnTo>
                <a:lnTo>
                  <a:pt x="1265" y="545"/>
                </a:lnTo>
                <a:lnTo>
                  <a:pt x="1284" y="515"/>
                </a:lnTo>
                <a:lnTo>
                  <a:pt x="1290" y="497"/>
                </a:lnTo>
                <a:lnTo>
                  <a:pt x="1297" y="482"/>
                </a:lnTo>
                <a:lnTo>
                  <a:pt x="1305" y="469"/>
                </a:lnTo>
                <a:lnTo>
                  <a:pt x="1311" y="453"/>
                </a:lnTo>
                <a:lnTo>
                  <a:pt x="1318" y="440"/>
                </a:lnTo>
                <a:lnTo>
                  <a:pt x="1324" y="426"/>
                </a:lnTo>
                <a:lnTo>
                  <a:pt x="1330" y="413"/>
                </a:lnTo>
                <a:lnTo>
                  <a:pt x="1336" y="401"/>
                </a:lnTo>
                <a:lnTo>
                  <a:pt x="1341" y="390"/>
                </a:lnTo>
                <a:lnTo>
                  <a:pt x="1347" y="378"/>
                </a:lnTo>
                <a:lnTo>
                  <a:pt x="1353" y="367"/>
                </a:lnTo>
                <a:lnTo>
                  <a:pt x="1359" y="357"/>
                </a:lnTo>
                <a:lnTo>
                  <a:pt x="1368" y="336"/>
                </a:lnTo>
                <a:lnTo>
                  <a:pt x="1376" y="319"/>
                </a:lnTo>
                <a:lnTo>
                  <a:pt x="1384" y="304"/>
                </a:lnTo>
                <a:lnTo>
                  <a:pt x="1389" y="290"/>
                </a:lnTo>
                <a:lnTo>
                  <a:pt x="1393" y="279"/>
                </a:lnTo>
                <a:lnTo>
                  <a:pt x="1397" y="267"/>
                </a:lnTo>
                <a:lnTo>
                  <a:pt x="1399" y="259"/>
                </a:lnTo>
                <a:lnTo>
                  <a:pt x="1401" y="252"/>
                </a:lnTo>
                <a:lnTo>
                  <a:pt x="1401" y="248"/>
                </a:lnTo>
                <a:lnTo>
                  <a:pt x="1399" y="244"/>
                </a:lnTo>
                <a:lnTo>
                  <a:pt x="1397" y="242"/>
                </a:lnTo>
                <a:lnTo>
                  <a:pt x="1393" y="240"/>
                </a:lnTo>
                <a:lnTo>
                  <a:pt x="1387" y="240"/>
                </a:lnTo>
                <a:lnTo>
                  <a:pt x="1382" y="240"/>
                </a:lnTo>
                <a:lnTo>
                  <a:pt x="1376" y="240"/>
                </a:lnTo>
                <a:lnTo>
                  <a:pt x="1368" y="240"/>
                </a:lnTo>
                <a:lnTo>
                  <a:pt x="1359" y="240"/>
                </a:lnTo>
                <a:lnTo>
                  <a:pt x="1349" y="242"/>
                </a:lnTo>
                <a:lnTo>
                  <a:pt x="1338" y="242"/>
                </a:lnTo>
                <a:lnTo>
                  <a:pt x="1326" y="244"/>
                </a:lnTo>
                <a:lnTo>
                  <a:pt x="1313" y="246"/>
                </a:lnTo>
                <a:lnTo>
                  <a:pt x="1299" y="248"/>
                </a:lnTo>
                <a:lnTo>
                  <a:pt x="1286" y="250"/>
                </a:lnTo>
                <a:lnTo>
                  <a:pt x="1270" y="252"/>
                </a:lnTo>
                <a:lnTo>
                  <a:pt x="1253" y="256"/>
                </a:lnTo>
                <a:lnTo>
                  <a:pt x="1236" y="258"/>
                </a:lnTo>
                <a:lnTo>
                  <a:pt x="1201" y="265"/>
                </a:lnTo>
                <a:lnTo>
                  <a:pt x="1165" y="273"/>
                </a:lnTo>
                <a:lnTo>
                  <a:pt x="1126" y="279"/>
                </a:lnTo>
                <a:lnTo>
                  <a:pt x="1086" y="284"/>
                </a:lnTo>
                <a:lnTo>
                  <a:pt x="1046" y="288"/>
                </a:lnTo>
                <a:lnTo>
                  <a:pt x="1002" y="292"/>
                </a:lnTo>
                <a:lnTo>
                  <a:pt x="981" y="292"/>
                </a:lnTo>
                <a:lnTo>
                  <a:pt x="958" y="292"/>
                </a:lnTo>
                <a:lnTo>
                  <a:pt x="934" y="294"/>
                </a:lnTo>
                <a:lnTo>
                  <a:pt x="910" y="294"/>
                </a:lnTo>
                <a:lnTo>
                  <a:pt x="910" y="196"/>
                </a:lnTo>
                <a:lnTo>
                  <a:pt x="931" y="196"/>
                </a:lnTo>
                <a:lnTo>
                  <a:pt x="950" y="194"/>
                </a:lnTo>
                <a:lnTo>
                  <a:pt x="969" y="192"/>
                </a:lnTo>
                <a:lnTo>
                  <a:pt x="988" y="192"/>
                </a:lnTo>
                <a:lnTo>
                  <a:pt x="1009" y="188"/>
                </a:lnTo>
                <a:lnTo>
                  <a:pt x="1029" y="187"/>
                </a:lnTo>
                <a:lnTo>
                  <a:pt x="1069" y="179"/>
                </a:lnTo>
                <a:lnTo>
                  <a:pt x="1109" y="169"/>
                </a:lnTo>
                <a:lnTo>
                  <a:pt x="1151" y="160"/>
                </a:lnTo>
                <a:lnTo>
                  <a:pt x="1194" y="148"/>
                </a:lnTo>
                <a:lnTo>
                  <a:pt x="1236" y="135"/>
                </a:lnTo>
                <a:lnTo>
                  <a:pt x="1257" y="127"/>
                </a:lnTo>
                <a:lnTo>
                  <a:pt x="1278" y="121"/>
                </a:lnTo>
                <a:lnTo>
                  <a:pt x="1297" y="114"/>
                </a:lnTo>
                <a:lnTo>
                  <a:pt x="1315" y="108"/>
                </a:lnTo>
                <a:lnTo>
                  <a:pt x="1332" y="102"/>
                </a:lnTo>
                <a:lnTo>
                  <a:pt x="1347" y="96"/>
                </a:lnTo>
                <a:lnTo>
                  <a:pt x="1363" y="91"/>
                </a:lnTo>
                <a:lnTo>
                  <a:pt x="1376" y="85"/>
                </a:lnTo>
                <a:lnTo>
                  <a:pt x="1389" y="79"/>
                </a:lnTo>
                <a:lnTo>
                  <a:pt x="1401" y="73"/>
                </a:lnTo>
                <a:lnTo>
                  <a:pt x="1411" y="67"/>
                </a:lnTo>
                <a:lnTo>
                  <a:pt x="1420" y="62"/>
                </a:lnTo>
                <a:lnTo>
                  <a:pt x="1428" y="56"/>
                </a:lnTo>
                <a:lnTo>
                  <a:pt x="1435" y="50"/>
                </a:lnTo>
                <a:lnTo>
                  <a:pt x="1441" y="43"/>
                </a:lnTo>
                <a:lnTo>
                  <a:pt x="1447" y="37"/>
                </a:lnTo>
                <a:lnTo>
                  <a:pt x="1451" y="27"/>
                </a:lnTo>
                <a:lnTo>
                  <a:pt x="1457" y="20"/>
                </a:lnTo>
                <a:lnTo>
                  <a:pt x="1464" y="14"/>
                </a:lnTo>
                <a:lnTo>
                  <a:pt x="1472" y="8"/>
                </a:lnTo>
                <a:lnTo>
                  <a:pt x="1482" y="4"/>
                </a:lnTo>
                <a:lnTo>
                  <a:pt x="1491" y="2"/>
                </a:lnTo>
                <a:lnTo>
                  <a:pt x="1503" y="0"/>
                </a:lnTo>
                <a:lnTo>
                  <a:pt x="1516" y="0"/>
                </a:lnTo>
                <a:lnTo>
                  <a:pt x="1520" y="0"/>
                </a:lnTo>
                <a:lnTo>
                  <a:pt x="1526" y="0"/>
                </a:lnTo>
                <a:lnTo>
                  <a:pt x="1531" y="2"/>
                </a:lnTo>
                <a:lnTo>
                  <a:pt x="1537" y="4"/>
                </a:lnTo>
                <a:lnTo>
                  <a:pt x="1545" y="6"/>
                </a:lnTo>
                <a:lnTo>
                  <a:pt x="1553" y="10"/>
                </a:lnTo>
                <a:lnTo>
                  <a:pt x="1560" y="14"/>
                </a:lnTo>
                <a:lnTo>
                  <a:pt x="1568" y="18"/>
                </a:lnTo>
                <a:lnTo>
                  <a:pt x="1578" y="23"/>
                </a:lnTo>
                <a:lnTo>
                  <a:pt x="1587" y="27"/>
                </a:lnTo>
                <a:lnTo>
                  <a:pt x="1597" y="35"/>
                </a:lnTo>
                <a:lnTo>
                  <a:pt x="1608" y="41"/>
                </a:lnTo>
                <a:lnTo>
                  <a:pt x="1620" y="48"/>
                </a:lnTo>
                <a:lnTo>
                  <a:pt x="1631" y="56"/>
                </a:lnTo>
                <a:lnTo>
                  <a:pt x="1643" y="64"/>
                </a:lnTo>
                <a:lnTo>
                  <a:pt x="1656" y="73"/>
                </a:lnTo>
                <a:lnTo>
                  <a:pt x="1666" y="83"/>
                </a:lnTo>
                <a:lnTo>
                  <a:pt x="1675" y="91"/>
                </a:lnTo>
                <a:lnTo>
                  <a:pt x="1685" y="100"/>
                </a:lnTo>
                <a:lnTo>
                  <a:pt x="1695" y="108"/>
                </a:lnTo>
                <a:lnTo>
                  <a:pt x="1702" y="115"/>
                </a:lnTo>
                <a:lnTo>
                  <a:pt x="1710" y="123"/>
                </a:lnTo>
                <a:lnTo>
                  <a:pt x="1718" y="131"/>
                </a:lnTo>
                <a:lnTo>
                  <a:pt x="1723" y="139"/>
                </a:lnTo>
                <a:lnTo>
                  <a:pt x="1729" y="144"/>
                </a:lnTo>
                <a:lnTo>
                  <a:pt x="1735" y="150"/>
                </a:lnTo>
                <a:lnTo>
                  <a:pt x="1739" y="158"/>
                </a:lnTo>
                <a:lnTo>
                  <a:pt x="1743" y="163"/>
                </a:lnTo>
                <a:lnTo>
                  <a:pt x="1745" y="167"/>
                </a:lnTo>
                <a:lnTo>
                  <a:pt x="1746" y="173"/>
                </a:lnTo>
                <a:lnTo>
                  <a:pt x="1748" y="179"/>
                </a:lnTo>
                <a:lnTo>
                  <a:pt x="1748" y="183"/>
                </a:lnTo>
                <a:lnTo>
                  <a:pt x="1748" y="192"/>
                </a:lnTo>
                <a:lnTo>
                  <a:pt x="1746" y="200"/>
                </a:lnTo>
                <a:lnTo>
                  <a:pt x="1743" y="206"/>
                </a:lnTo>
                <a:lnTo>
                  <a:pt x="1739" y="213"/>
                </a:lnTo>
                <a:lnTo>
                  <a:pt x="1733" y="217"/>
                </a:lnTo>
                <a:lnTo>
                  <a:pt x="1729" y="221"/>
                </a:lnTo>
                <a:lnTo>
                  <a:pt x="1725" y="223"/>
                </a:lnTo>
                <a:lnTo>
                  <a:pt x="1720" y="225"/>
                </a:lnTo>
                <a:lnTo>
                  <a:pt x="1714" y="229"/>
                </a:lnTo>
                <a:lnTo>
                  <a:pt x="1708" y="231"/>
                </a:lnTo>
                <a:lnTo>
                  <a:pt x="1702" y="233"/>
                </a:lnTo>
                <a:lnTo>
                  <a:pt x="1698" y="234"/>
                </a:lnTo>
                <a:lnTo>
                  <a:pt x="1695" y="236"/>
                </a:lnTo>
                <a:lnTo>
                  <a:pt x="1691" y="238"/>
                </a:lnTo>
                <a:lnTo>
                  <a:pt x="1687" y="242"/>
                </a:lnTo>
                <a:lnTo>
                  <a:pt x="1681" y="246"/>
                </a:lnTo>
                <a:lnTo>
                  <a:pt x="1677" y="252"/>
                </a:lnTo>
                <a:lnTo>
                  <a:pt x="1672" y="256"/>
                </a:lnTo>
                <a:lnTo>
                  <a:pt x="1666" y="261"/>
                </a:lnTo>
                <a:lnTo>
                  <a:pt x="1658" y="269"/>
                </a:lnTo>
                <a:lnTo>
                  <a:pt x="1652" y="277"/>
                </a:lnTo>
                <a:lnTo>
                  <a:pt x="1645" y="284"/>
                </a:lnTo>
                <a:lnTo>
                  <a:pt x="1639" y="292"/>
                </a:lnTo>
                <a:lnTo>
                  <a:pt x="1631" y="302"/>
                </a:lnTo>
                <a:lnTo>
                  <a:pt x="1624" y="311"/>
                </a:lnTo>
                <a:lnTo>
                  <a:pt x="1616" y="321"/>
                </a:lnTo>
                <a:lnTo>
                  <a:pt x="1606" y="332"/>
                </a:lnTo>
                <a:lnTo>
                  <a:pt x="1599" y="344"/>
                </a:lnTo>
                <a:lnTo>
                  <a:pt x="1589" y="355"/>
                </a:lnTo>
                <a:lnTo>
                  <a:pt x="1579" y="367"/>
                </a:lnTo>
                <a:lnTo>
                  <a:pt x="1570" y="380"/>
                </a:lnTo>
                <a:lnTo>
                  <a:pt x="1560" y="396"/>
                </a:lnTo>
                <a:lnTo>
                  <a:pt x="1551" y="409"/>
                </a:lnTo>
                <a:lnTo>
                  <a:pt x="1541" y="425"/>
                </a:lnTo>
                <a:lnTo>
                  <a:pt x="1530" y="440"/>
                </a:lnTo>
                <a:lnTo>
                  <a:pt x="1518" y="457"/>
                </a:lnTo>
                <a:lnTo>
                  <a:pt x="1506" y="472"/>
                </a:lnTo>
                <a:lnTo>
                  <a:pt x="1495" y="492"/>
                </a:lnTo>
                <a:lnTo>
                  <a:pt x="1483" y="509"/>
                </a:lnTo>
                <a:lnTo>
                  <a:pt x="1472" y="528"/>
                </a:lnTo>
                <a:lnTo>
                  <a:pt x="1460" y="547"/>
                </a:lnTo>
                <a:lnTo>
                  <a:pt x="1447" y="567"/>
                </a:lnTo>
                <a:lnTo>
                  <a:pt x="1435" y="588"/>
                </a:lnTo>
                <a:lnTo>
                  <a:pt x="1409" y="630"/>
                </a:lnTo>
                <a:lnTo>
                  <a:pt x="1382" y="674"/>
                </a:lnTo>
                <a:lnTo>
                  <a:pt x="1355" y="714"/>
                </a:lnTo>
                <a:lnTo>
                  <a:pt x="1326" y="755"/>
                </a:lnTo>
                <a:lnTo>
                  <a:pt x="1297" y="795"/>
                </a:lnTo>
                <a:lnTo>
                  <a:pt x="1267" y="833"/>
                </a:lnTo>
                <a:lnTo>
                  <a:pt x="1238" y="872"/>
                </a:lnTo>
                <a:lnTo>
                  <a:pt x="1205" y="910"/>
                </a:lnTo>
                <a:lnTo>
                  <a:pt x="1174" y="947"/>
                </a:lnTo>
                <a:lnTo>
                  <a:pt x="1142" y="983"/>
                </a:lnTo>
                <a:lnTo>
                  <a:pt x="1109" y="1018"/>
                </a:lnTo>
                <a:lnTo>
                  <a:pt x="1075" y="1054"/>
                </a:lnTo>
                <a:lnTo>
                  <a:pt x="1040" y="1087"/>
                </a:lnTo>
                <a:lnTo>
                  <a:pt x="1005" y="1121"/>
                </a:lnTo>
                <a:lnTo>
                  <a:pt x="971" y="1154"/>
                </a:lnTo>
                <a:lnTo>
                  <a:pt x="934" y="1187"/>
                </a:lnTo>
                <a:lnTo>
                  <a:pt x="896" y="1219"/>
                </a:lnTo>
                <a:lnTo>
                  <a:pt x="860" y="1250"/>
                </a:lnTo>
                <a:lnTo>
                  <a:pt x="821" y="1281"/>
                </a:lnTo>
                <a:lnTo>
                  <a:pt x="783" y="1309"/>
                </a:lnTo>
                <a:lnTo>
                  <a:pt x="746" y="1338"/>
                </a:lnTo>
                <a:lnTo>
                  <a:pt x="708" y="1365"/>
                </a:lnTo>
                <a:lnTo>
                  <a:pt x="670" y="1392"/>
                </a:lnTo>
                <a:lnTo>
                  <a:pt x="631" y="1419"/>
                </a:lnTo>
                <a:lnTo>
                  <a:pt x="593" y="1444"/>
                </a:lnTo>
                <a:lnTo>
                  <a:pt x="554" y="1469"/>
                </a:lnTo>
                <a:lnTo>
                  <a:pt x="516" y="1492"/>
                </a:lnTo>
                <a:lnTo>
                  <a:pt x="478" y="1517"/>
                </a:lnTo>
                <a:lnTo>
                  <a:pt x="439" y="1538"/>
                </a:lnTo>
                <a:lnTo>
                  <a:pt x="403" y="1561"/>
                </a:lnTo>
                <a:lnTo>
                  <a:pt x="364" y="1582"/>
                </a:lnTo>
                <a:lnTo>
                  <a:pt x="328" y="1603"/>
                </a:lnTo>
                <a:lnTo>
                  <a:pt x="309" y="1615"/>
                </a:lnTo>
                <a:lnTo>
                  <a:pt x="290" y="1624"/>
                </a:lnTo>
                <a:lnTo>
                  <a:pt x="272" y="1634"/>
                </a:lnTo>
                <a:lnTo>
                  <a:pt x="253" y="1641"/>
                </a:lnTo>
                <a:lnTo>
                  <a:pt x="238" y="1651"/>
                </a:lnTo>
                <a:lnTo>
                  <a:pt x="220" y="1659"/>
                </a:lnTo>
                <a:lnTo>
                  <a:pt x="205" y="1666"/>
                </a:lnTo>
                <a:lnTo>
                  <a:pt x="190" y="1674"/>
                </a:lnTo>
                <a:lnTo>
                  <a:pt x="176" y="1680"/>
                </a:lnTo>
                <a:lnTo>
                  <a:pt x="161" y="1686"/>
                </a:lnTo>
                <a:lnTo>
                  <a:pt x="147" y="1693"/>
                </a:lnTo>
                <a:lnTo>
                  <a:pt x="136" y="1697"/>
                </a:lnTo>
                <a:lnTo>
                  <a:pt x="123" y="1703"/>
                </a:lnTo>
                <a:lnTo>
                  <a:pt x="111" y="1709"/>
                </a:lnTo>
                <a:lnTo>
                  <a:pt x="101" y="1712"/>
                </a:lnTo>
                <a:lnTo>
                  <a:pt x="90" y="1716"/>
                </a:lnTo>
                <a:lnTo>
                  <a:pt x="80" y="1720"/>
                </a:lnTo>
                <a:lnTo>
                  <a:pt x="71" y="1722"/>
                </a:lnTo>
                <a:lnTo>
                  <a:pt x="63" y="1726"/>
                </a:lnTo>
                <a:lnTo>
                  <a:pt x="55" y="1728"/>
                </a:lnTo>
                <a:lnTo>
                  <a:pt x="48" y="1730"/>
                </a:lnTo>
                <a:lnTo>
                  <a:pt x="40" y="1732"/>
                </a:lnTo>
                <a:lnTo>
                  <a:pt x="34" y="1732"/>
                </a:lnTo>
                <a:lnTo>
                  <a:pt x="28" y="1734"/>
                </a:lnTo>
                <a:lnTo>
                  <a:pt x="23" y="1734"/>
                </a:lnTo>
                <a:lnTo>
                  <a:pt x="19" y="1734"/>
                </a:lnTo>
                <a:lnTo>
                  <a:pt x="13" y="1734"/>
                </a:lnTo>
                <a:lnTo>
                  <a:pt x="11" y="1732"/>
                </a:lnTo>
                <a:lnTo>
                  <a:pt x="7" y="1732"/>
                </a:lnTo>
                <a:lnTo>
                  <a:pt x="5" y="1730"/>
                </a:lnTo>
                <a:lnTo>
                  <a:pt x="4" y="1728"/>
                </a:lnTo>
                <a:lnTo>
                  <a:pt x="2" y="1726"/>
                </a:lnTo>
                <a:lnTo>
                  <a:pt x="0" y="1724"/>
                </a:lnTo>
                <a:lnTo>
                  <a:pt x="0" y="1720"/>
                </a:lnTo>
                <a:lnTo>
                  <a:pt x="0" y="1716"/>
                </a:lnTo>
                <a:lnTo>
                  <a:pt x="2" y="1712"/>
                </a:lnTo>
                <a:lnTo>
                  <a:pt x="4" y="1707"/>
                </a:lnTo>
                <a:lnTo>
                  <a:pt x="7" y="1703"/>
                </a:lnTo>
                <a:lnTo>
                  <a:pt x="13" y="1697"/>
                </a:lnTo>
                <a:lnTo>
                  <a:pt x="19" y="1691"/>
                </a:lnTo>
                <a:lnTo>
                  <a:pt x="27" y="1684"/>
                </a:lnTo>
                <a:lnTo>
                  <a:pt x="34" y="1678"/>
                </a:lnTo>
                <a:lnTo>
                  <a:pt x="44" y="1670"/>
                </a:lnTo>
                <a:lnTo>
                  <a:pt x="53" y="1663"/>
                </a:lnTo>
                <a:lnTo>
                  <a:pt x="65" y="1655"/>
                </a:lnTo>
                <a:lnTo>
                  <a:pt x="78" y="1645"/>
                </a:lnTo>
                <a:lnTo>
                  <a:pt x="92" y="1638"/>
                </a:lnTo>
                <a:lnTo>
                  <a:pt x="107" y="1628"/>
                </a:lnTo>
                <a:lnTo>
                  <a:pt x="123" y="1618"/>
                </a:lnTo>
                <a:lnTo>
                  <a:pt x="138" y="1609"/>
                </a:lnTo>
                <a:lnTo>
                  <a:pt x="155" y="1597"/>
                </a:lnTo>
                <a:lnTo>
                  <a:pt x="174" y="1586"/>
                </a:lnTo>
                <a:lnTo>
                  <a:pt x="194" y="1574"/>
                </a:lnTo>
                <a:lnTo>
                  <a:pt x="213" y="1563"/>
                </a:lnTo>
                <a:lnTo>
                  <a:pt x="234" y="1549"/>
                </a:lnTo>
                <a:lnTo>
                  <a:pt x="255" y="1534"/>
                </a:lnTo>
                <a:lnTo>
                  <a:pt x="278" y="1520"/>
                </a:lnTo>
                <a:lnTo>
                  <a:pt x="301" y="1505"/>
                </a:lnTo>
                <a:lnTo>
                  <a:pt x="324" y="1488"/>
                </a:lnTo>
                <a:lnTo>
                  <a:pt x="349" y="1473"/>
                </a:lnTo>
                <a:lnTo>
                  <a:pt x="374" y="1453"/>
                </a:lnTo>
                <a:lnTo>
                  <a:pt x="401" y="1436"/>
                </a:lnTo>
                <a:lnTo>
                  <a:pt x="428" y="1415"/>
                </a:lnTo>
                <a:lnTo>
                  <a:pt x="457" y="13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81"/>
          <p:cNvSpPr/>
          <p:nvPr/>
        </p:nvSpPr>
        <p:spPr>
          <a:xfrm>
            <a:off x="6140520" y="2444760"/>
            <a:ext cx="666720" cy="914400"/>
          </a:xfrm>
          <a:custGeom>
            <a:avLst/>
            <a:gdLst/>
            <a:ahLst/>
            <a:rect l="l" t="t" r="r" b="b"/>
            <a:pathLst>
              <a:path w="841" h="1151">
                <a:moveTo>
                  <a:pt x="526" y="660"/>
                </a:moveTo>
                <a:lnTo>
                  <a:pt x="509" y="685"/>
                </a:lnTo>
                <a:lnTo>
                  <a:pt x="490" y="710"/>
                </a:lnTo>
                <a:lnTo>
                  <a:pt x="472" y="733"/>
                </a:lnTo>
                <a:lnTo>
                  <a:pt x="453" y="758"/>
                </a:lnTo>
                <a:lnTo>
                  <a:pt x="415" y="802"/>
                </a:lnTo>
                <a:lnTo>
                  <a:pt x="376" y="846"/>
                </a:lnTo>
                <a:lnTo>
                  <a:pt x="334" y="890"/>
                </a:lnTo>
                <a:lnTo>
                  <a:pt x="292" y="933"/>
                </a:lnTo>
                <a:lnTo>
                  <a:pt x="246" y="973"/>
                </a:lnTo>
                <a:lnTo>
                  <a:pt x="200" y="1015"/>
                </a:lnTo>
                <a:lnTo>
                  <a:pt x="177" y="1034"/>
                </a:lnTo>
                <a:lnTo>
                  <a:pt x="156" y="1054"/>
                </a:lnTo>
                <a:lnTo>
                  <a:pt x="134" y="1071"/>
                </a:lnTo>
                <a:lnTo>
                  <a:pt x="117" y="1084"/>
                </a:lnTo>
                <a:lnTo>
                  <a:pt x="100" y="1098"/>
                </a:lnTo>
                <a:lnTo>
                  <a:pt x="85" y="1109"/>
                </a:lnTo>
                <a:lnTo>
                  <a:pt x="69" y="1121"/>
                </a:lnTo>
                <a:lnTo>
                  <a:pt x="58" y="1128"/>
                </a:lnTo>
                <a:lnTo>
                  <a:pt x="46" y="1136"/>
                </a:lnTo>
                <a:lnTo>
                  <a:pt x="35" y="1142"/>
                </a:lnTo>
                <a:lnTo>
                  <a:pt x="27" y="1146"/>
                </a:lnTo>
                <a:lnTo>
                  <a:pt x="19" y="1149"/>
                </a:lnTo>
                <a:lnTo>
                  <a:pt x="14" y="1151"/>
                </a:lnTo>
                <a:lnTo>
                  <a:pt x="8" y="1151"/>
                </a:lnTo>
                <a:lnTo>
                  <a:pt x="4" y="1151"/>
                </a:lnTo>
                <a:lnTo>
                  <a:pt x="2" y="1149"/>
                </a:lnTo>
                <a:lnTo>
                  <a:pt x="0" y="1148"/>
                </a:lnTo>
                <a:lnTo>
                  <a:pt x="0" y="1142"/>
                </a:lnTo>
                <a:lnTo>
                  <a:pt x="2" y="1136"/>
                </a:lnTo>
                <a:lnTo>
                  <a:pt x="6" y="1128"/>
                </a:lnTo>
                <a:lnTo>
                  <a:pt x="10" y="1119"/>
                </a:lnTo>
                <a:lnTo>
                  <a:pt x="17" y="1107"/>
                </a:lnTo>
                <a:lnTo>
                  <a:pt x="25" y="1094"/>
                </a:lnTo>
                <a:lnTo>
                  <a:pt x="35" y="1080"/>
                </a:lnTo>
                <a:lnTo>
                  <a:pt x="44" y="1065"/>
                </a:lnTo>
                <a:lnTo>
                  <a:pt x="56" y="1048"/>
                </a:lnTo>
                <a:lnTo>
                  <a:pt x="69" y="1029"/>
                </a:lnTo>
                <a:lnTo>
                  <a:pt x="85" y="1009"/>
                </a:lnTo>
                <a:lnTo>
                  <a:pt x="100" y="988"/>
                </a:lnTo>
                <a:lnTo>
                  <a:pt x="115" y="965"/>
                </a:lnTo>
                <a:lnTo>
                  <a:pt x="134" y="942"/>
                </a:lnTo>
                <a:lnTo>
                  <a:pt x="154" y="917"/>
                </a:lnTo>
                <a:lnTo>
                  <a:pt x="192" y="867"/>
                </a:lnTo>
                <a:lnTo>
                  <a:pt x="228" y="817"/>
                </a:lnTo>
                <a:lnTo>
                  <a:pt x="265" y="769"/>
                </a:lnTo>
                <a:lnTo>
                  <a:pt x="300" y="723"/>
                </a:lnTo>
                <a:lnTo>
                  <a:pt x="332" y="675"/>
                </a:lnTo>
                <a:lnTo>
                  <a:pt x="349" y="652"/>
                </a:lnTo>
                <a:lnTo>
                  <a:pt x="365" y="629"/>
                </a:lnTo>
                <a:lnTo>
                  <a:pt x="378" y="606"/>
                </a:lnTo>
                <a:lnTo>
                  <a:pt x="394" y="583"/>
                </a:lnTo>
                <a:lnTo>
                  <a:pt x="407" y="560"/>
                </a:lnTo>
                <a:lnTo>
                  <a:pt x="420" y="537"/>
                </a:lnTo>
                <a:lnTo>
                  <a:pt x="442" y="493"/>
                </a:lnTo>
                <a:lnTo>
                  <a:pt x="463" y="449"/>
                </a:lnTo>
                <a:lnTo>
                  <a:pt x="484" y="407"/>
                </a:lnTo>
                <a:lnTo>
                  <a:pt x="505" y="364"/>
                </a:lnTo>
                <a:lnTo>
                  <a:pt x="524" y="326"/>
                </a:lnTo>
                <a:lnTo>
                  <a:pt x="534" y="307"/>
                </a:lnTo>
                <a:lnTo>
                  <a:pt x="541" y="288"/>
                </a:lnTo>
                <a:lnTo>
                  <a:pt x="551" y="270"/>
                </a:lnTo>
                <a:lnTo>
                  <a:pt x="559" y="253"/>
                </a:lnTo>
                <a:lnTo>
                  <a:pt x="564" y="236"/>
                </a:lnTo>
                <a:lnTo>
                  <a:pt x="572" y="220"/>
                </a:lnTo>
                <a:lnTo>
                  <a:pt x="578" y="203"/>
                </a:lnTo>
                <a:lnTo>
                  <a:pt x="584" y="188"/>
                </a:lnTo>
                <a:lnTo>
                  <a:pt x="589" y="174"/>
                </a:lnTo>
                <a:lnTo>
                  <a:pt x="593" y="159"/>
                </a:lnTo>
                <a:lnTo>
                  <a:pt x="597" y="148"/>
                </a:lnTo>
                <a:lnTo>
                  <a:pt x="601" y="134"/>
                </a:lnTo>
                <a:lnTo>
                  <a:pt x="605" y="123"/>
                </a:lnTo>
                <a:lnTo>
                  <a:pt x="607" y="111"/>
                </a:lnTo>
                <a:lnTo>
                  <a:pt x="609" y="100"/>
                </a:lnTo>
                <a:lnTo>
                  <a:pt x="610" y="90"/>
                </a:lnTo>
                <a:lnTo>
                  <a:pt x="610" y="82"/>
                </a:lnTo>
                <a:lnTo>
                  <a:pt x="610" y="73"/>
                </a:lnTo>
                <a:lnTo>
                  <a:pt x="610" y="65"/>
                </a:lnTo>
                <a:lnTo>
                  <a:pt x="610" y="59"/>
                </a:lnTo>
                <a:lnTo>
                  <a:pt x="609" y="54"/>
                </a:lnTo>
                <a:lnTo>
                  <a:pt x="607" y="48"/>
                </a:lnTo>
                <a:lnTo>
                  <a:pt x="603" y="44"/>
                </a:lnTo>
                <a:lnTo>
                  <a:pt x="599" y="40"/>
                </a:lnTo>
                <a:lnTo>
                  <a:pt x="597" y="34"/>
                </a:lnTo>
                <a:lnTo>
                  <a:pt x="593" y="32"/>
                </a:lnTo>
                <a:lnTo>
                  <a:pt x="593" y="29"/>
                </a:lnTo>
                <a:lnTo>
                  <a:pt x="591" y="25"/>
                </a:lnTo>
                <a:lnTo>
                  <a:pt x="591" y="21"/>
                </a:lnTo>
                <a:lnTo>
                  <a:pt x="591" y="19"/>
                </a:lnTo>
                <a:lnTo>
                  <a:pt x="591" y="15"/>
                </a:lnTo>
                <a:lnTo>
                  <a:pt x="593" y="13"/>
                </a:lnTo>
                <a:lnTo>
                  <a:pt x="595" y="11"/>
                </a:lnTo>
                <a:lnTo>
                  <a:pt x="599" y="7"/>
                </a:lnTo>
                <a:lnTo>
                  <a:pt x="603" y="6"/>
                </a:lnTo>
                <a:lnTo>
                  <a:pt x="607" y="4"/>
                </a:lnTo>
                <a:lnTo>
                  <a:pt x="612" y="2"/>
                </a:lnTo>
                <a:lnTo>
                  <a:pt x="618" y="0"/>
                </a:lnTo>
                <a:lnTo>
                  <a:pt x="624" y="0"/>
                </a:lnTo>
                <a:lnTo>
                  <a:pt x="628" y="0"/>
                </a:lnTo>
                <a:lnTo>
                  <a:pt x="634" y="2"/>
                </a:lnTo>
                <a:lnTo>
                  <a:pt x="641" y="4"/>
                </a:lnTo>
                <a:lnTo>
                  <a:pt x="647" y="6"/>
                </a:lnTo>
                <a:lnTo>
                  <a:pt x="655" y="9"/>
                </a:lnTo>
                <a:lnTo>
                  <a:pt x="670" y="15"/>
                </a:lnTo>
                <a:lnTo>
                  <a:pt x="687" y="25"/>
                </a:lnTo>
                <a:lnTo>
                  <a:pt x="706" y="34"/>
                </a:lnTo>
                <a:lnTo>
                  <a:pt x="726" y="48"/>
                </a:lnTo>
                <a:lnTo>
                  <a:pt x="747" y="61"/>
                </a:lnTo>
                <a:lnTo>
                  <a:pt x="758" y="67"/>
                </a:lnTo>
                <a:lnTo>
                  <a:pt x="768" y="75"/>
                </a:lnTo>
                <a:lnTo>
                  <a:pt x="777" y="80"/>
                </a:lnTo>
                <a:lnTo>
                  <a:pt x="785" y="88"/>
                </a:lnTo>
                <a:lnTo>
                  <a:pt x="795" y="96"/>
                </a:lnTo>
                <a:lnTo>
                  <a:pt x="802" y="101"/>
                </a:lnTo>
                <a:lnTo>
                  <a:pt x="808" y="109"/>
                </a:lnTo>
                <a:lnTo>
                  <a:pt x="816" y="115"/>
                </a:lnTo>
                <a:lnTo>
                  <a:pt x="822" y="123"/>
                </a:lnTo>
                <a:lnTo>
                  <a:pt x="825" y="130"/>
                </a:lnTo>
                <a:lnTo>
                  <a:pt x="829" y="136"/>
                </a:lnTo>
                <a:lnTo>
                  <a:pt x="833" y="144"/>
                </a:lnTo>
                <a:lnTo>
                  <a:pt x="837" y="149"/>
                </a:lnTo>
                <a:lnTo>
                  <a:pt x="839" y="157"/>
                </a:lnTo>
                <a:lnTo>
                  <a:pt x="839" y="163"/>
                </a:lnTo>
                <a:lnTo>
                  <a:pt x="841" y="171"/>
                </a:lnTo>
                <a:lnTo>
                  <a:pt x="839" y="178"/>
                </a:lnTo>
                <a:lnTo>
                  <a:pt x="839" y="184"/>
                </a:lnTo>
                <a:lnTo>
                  <a:pt x="837" y="192"/>
                </a:lnTo>
                <a:lnTo>
                  <a:pt x="835" y="201"/>
                </a:lnTo>
                <a:lnTo>
                  <a:pt x="833" y="209"/>
                </a:lnTo>
                <a:lnTo>
                  <a:pt x="829" y="217"/>
                </a:lnTo>
                <a:lnTo>
                  <a:pt x="825" y="226"/>
                </a:lnTo>
                <a:lnTo>
                  <a:pt x="822" y="236"/>
                </a:lnTo>
                <a:lnTo>
                  <a:pt x="816" y="245"/>
                </a:lnTo>
                <a:lnTo>
                  <a:pt x="810" y="257"/>
                </a:lnTo>
                <a:lnTo>
                  <a:pt x="802" y="267"/>
                </a:lnTo>
                <a:lnTo>
                  <a:pt x="795" y="278"/>
                </a:lnTo>
                <a:lnTo>
                  <a:pt x="787" y="290"/>
                </a:lnTo>
                <a:lnTo>
                  <a:pt x="777" y="303"/>
                </a:lnTo>
                <a:lnTo>
                  <a:pt x="768" y="316"/>
                </a:lnTo>
                <a:lnTo>
                  <a:pt x="758" y="330"/>
                </a:lnTo>
                <a:lnTo>
                  <a:pt x="747" y="345"/>
                </a:lnTo>
                <a:lnTo>
                  <a:pt x="735" y="363"/>
                </a:lnTo>
                <a:lnTo>
                  <a:pt x="724" y="380"/>
                </a:lnTo>
                <a:lnTo>
                  <a:pt x="712" y="399"/>
                </a:lnTo>
                <a:lnTo>
                  <a:pt x="701" y="416"/>
                </a:lnTo>
                <a:lnTo>
                  <a:pt x="687" y="435"/>
                </a:lnTo>
                <a:lnTo>
                  <a:pt x="674" y="457"/>
                </a:lnTo>
                <a:lnTo>
                  <a:pt x="658" y="476"/>
                </a:lnTo>
                <a:lnTo>
                  <a:pt x="645" y="497"/>
                </a:lnTo>
                <a:lnTo>
                  <a:pt x="630" y="518"/>
                </a:lnTo>
                <a:lnTo>
                  <a:pt x="614" y="541"/>
                </a:lnTo>
                <a:lnTo>
                  <a:pt x="597" y="564"/>
                </a:lnTo>
                <a:lnTo>
                  <a:pt x="580" y="587"/>
                </a:lnTo>
                <a:lnTo>
                  <a:pt x="562" y="610"/>
                </a:lnTo>
                <a:lnTo>
                  <a:pt x="545" y="635"/>
                </a:lnTo>
                <a:lnTo>
                  <a:pt x="526" y="6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82"/>
          <p:cNvSpPr/>
          <p:nvPr/>
        </p:nvSpPr>
        <p:spPr>
          <a:xfrm>
            <a:off x="5649840" y="3494160"/>
            <a:ext cx="444600" cy="155520"/>
          </a:xfrm>
          <a:custGeom>
            <a:avLst/>
            <a:gdLst/>
            <a:ahLst/>
            <a:rect l="l" t="t" r="r" b="b"/>
            <a:pathLst>
              <a:path w="558" h="196">
                <a:moveTo>
                  <a:pt x="0" y="98"/>
                </a:moveTo>
                <a:lnTo>
                  <a:pt x="25" y="92"/>
                </a:lnTo>
                <a:lnTo>
                  <a:pt x="48" y="87"/>
                </a:lnTo>
                <a:lnTo>
                  <a:pt x="71" y="81"/>
                </a:lnTo>
                <a:lnTo>
                  <a:pt x="94" y="75"/>
                </a:lnTo>
                <a:lnTo>
                  <a:pt x="117" y="69"/>
                </a:lnTo>
                <a:lnTo>
                  <a:pt x="138" y="65"/>
                </a:lnTo>
                <a:lnTo>
                  <a:pt x="159" y="60"/>
                </a:lnTo>
                <a:lnTo>
                  <a:pt x="178" y="56"/>
                </a:lnTo>
                <a:lnTo>
                  <a:pt x="198" y="52"/>
                </a:lnTo>
                <a:lnTo>
                  <a:pt x="217" y="46"/>
                </a:lnTo>
                <a:lnTo>
                  <a:pt x="234" y="42"/>
                </a:lnTo>
                <a:lnTo>
                  <a:pt x="251" y="39"/>
                </a:lnTo>
                <a:lnTo>
                  <a:pt x="267" y="35"/>
                </a:lnTo>
                <a:lnTo>
                  <a:pt x="284" y="31"/>
                </a:lnTo>
                <a:lnTo>
                  <a:pt x="297" y="29"/>
                </a:lnTo>
                <a:lnTo>
                  <a:pt x="313" y="25"/>
                </a:lnTo>
                <a:lnTo>
                  <a:pt x="326" y="21"/>
                </a:lnTo>
                <a:lnTo>
                  <a:pt x="340" y="19"/>
                </a:lnTo>
                <a:lnTo>
                  <a:pt x="351" y="16"/>
                </a:lnTo>
                <a:lnTo>
                  <a:pt x="363" y="14"/>
                </a:lnTo>
                <a:lnTo>
                  <a:pt x="372" y="12"/>
                </a:lnTo>
                <a:lnTo>
                  <a:pt x="384" y="10"/>
                </a:lnTo>
                <a:lnTo>
                  <a:pt x="391" y="8"/>
                </a:lnTo>
                <a:lnTo>
                  <a:pt x="401" y="6"/>
                </a:lnTo>
                <a:lnTo>
                  <a:pt x="409" y="4"/>
                </a:lnTo>
                <a:lnTo>
                  <a:pt x="416" y="2"/>
                </a:lnTo>
                <a:lnTo>
                  <a:pt x="422" y="2"/>
                </a:lnTo>
                <a:lnTo>
                  <a:pt x="428" y="0"/>
                </a:lnTo>
                <a:lnTo>
                  <a:pt x="432" y="0"/>
                </a:lnTo>
                <a:lnTo>
                  <a:pt x="436" y="0"/>
                </a:lnTo>
                <a:lnTo>
                  <a:pt x="439" y="0"/>
                </a:lnTo>
                <a:lnTo>
                  <a:pt x="443" y="0"/>
                </a:lnTo>
                <a:lnTo>
                  <a:pt x="447" y="0"/>
                </a:lnTo>
                <a:lnTo>
                  <a:pt x="453" y="2"/>
                </a:lnTo>
                <a:lnTo>
                  <a:pt x="461" y="4"/>
                </a:lnTo>
                <a:lnTo>
                  <a:pt x="468" y="6"/>
                </a:lnTo>
                <a:lnTo>
                  <a:pt x="478" y="10"/>
                </a:lnTo>
                <a:lnTo>
                  <a:pt x="487" y="16"/>
                </a:lnTo>
                <a:lnTo>
                  <a:pt x="499" y="19"/>
                </a:lnTo>
                <a:lnTo>
                  <a:pt x="512" y="23"/>
                </a:lnTo>
                <a:lnTo>
                  <a:pt x="518" y="27"/>
                </a:lnTo>
                <a:lnTo>
                  <a:pt x="524" y="29"/>
                </a:lnTo>
                <a:lnTo>
                  <a:pt x="530" y="31"/>
                </a:lnTo>
                <a:lnTo>
                  <a:pt x="534" y="35"/>
                </a:lnTo>
                <a:lnTo>
                  <a:pt x="543" y="41"/>
                </a:lnTo>
                <a:lnTo>
                  <a:pt x="549" y="48"/>
                </a:lnTo>
                <a:lnTo>
                  <a:pt x="553" y="56"/>
                </a:lnTo>
                <a:lnTo>
                  <a:pt x="557" y="62"/>
                </a:lnTo>
                <a:lnTo>
                  <a:pt x="558" y="67"/>
                </a:lnTo>
                <a:lnTo>
                  <a:pt x="558" y="73"/>
                </a:lnTo>
                <a:lnTo>
                  <a:pt x="558" y="77"/>
                </a:lnTo>
                <a:lnTo>
                  <a:pt x="558" y="83"/>
                </a:lnTo>
                <a:lnTo>
                  <a:pt x="557" y="87"/>
                </a:lnTo>
                <a:lnTo>
                  <a:pt x="555" y="90"/>
                </a:lnTo>
                <a:lnTo>
                  <a:pt x="553" y="94"/>
                </a:lnTo>
                <a:lnTo>
                  <a:pt x="549" y="100"/>
                </a:lnTo>
                <a:lnTo>
                  <a:pt x="545" y="104"/>
                </a:lnTo>
                <a:lnTo>
                  <a:pt x="541" y="108"/>
                </a:lnTo>
                <a:lnTo>
                  <a:pt x="537" y="112"/>
                </a:lnTo>
                <a:lnTo>
                  <a:pt x="532" y="115"/>
                </a:lnTo>
                <a:lnTo>
                  <a:pt x="526" y="119"/>
                </a:lnTo>
                <a:lnTo>
                  <a:pt x="520" y="123"/>
                </a:lnTo>
                <a:lnTo>
                  <a:pt x="512" y="125"/>
                </a:lnTo>
                <a:lnTo>
                  <a:pt x="505" y="129"/>
                </a:lnTo>
                <a:lnTo>
                  <a:pt x="497" y="131"/>
                </a:lnTo>
                <a:lnTo>
                  <a:pt x="489" y="135"/>
                </a:lnTo>
                <a:lnTo>
                  <a:pt x="484" y="137"/>
                </a:lnTo>
                <a:lnTo>
                  <a:pt x="476" y="138"/>
                </a:lnTo>
                <a:lnTo>
                  <a:pt x="470" y="140"/>
                </a:lnTo>
                <a:lnTo>
                  <a:pt x="463" y="142"/>
                </a:lnTo>
                <a:lnTo>
                  <a:pt x="455" y="146"/>
                </a:lnTo>
                <a:lnTo>
                  <a:pt x="445" y="148"/>
                </a:lnTo>
                <a:lnTo>
                  <a:pt x="436" y="150"/>
                </a:lnTo>
                <a:lnTo>
                  <a:pt x="426" y="152"/>
                </a:lnTo>
                <a:lnTo>
                  <a:pt x="415" y="154"/>
                </a:lnTo>
                <a:lnTo>
                  <a:pt x="403" y="156"/>
                </a:lnTo>
                <a:lnTo>
                  <a:pt x="391" y="160"/>
                </a:lnTo>
                <a:lnTo>
                  <a:pt x="380" y="161"/>
                </a:lnTo>
                <a:lnTo>
                  <a:pt x="367" y="163"/>
                </a:lnTo>
                <a:lnTo>
                  <a:pt x="353" y="165"/>
                </a:lnTo>
                <a:lnTo>
                  <a:pt x="338" y="167"/>
                </a:lnTo>
                <a:lnTo>
                  <a:pt x="322" y="169"/>
                </a:lnTo>
                <a:lnTo>
                  <a:pt x="307" y="171"/>
                </a:lnTo>
                <a:lnTo>
                  <a:pt x="292" y="173"/>
                </a:lnTo>
                <a:lnTo>
                  <a:pt x="274" y="175"/>
                </a:lnTo>
                <a:lnTo>
                  <a:pt x="257" y="177"/>
                </a:lnTo>
                <a:lnTo>
                  <a:pt x="238" y="179"/>
                </a:lnTo>
                <a:lnTo>
                  <a:pt x="221" y="181"/>
                </a:lnTo>
                <a:lnTo>
                  <a:pt x="201" y="183"/>
                </a:lnTo>
                <a:lnTo>
                  <a:pt x="180" y="185"/>
                </a:lnTo>
                <a:lnTo>
                  <a:pt x="161" y="185"/>
                </a:lnTo>
                <a:lnTo>
                  <a:pt x="140" y="186"/>
                </a:lnTo>
                <a:lnTo>
                  <a:pt x="117" y="188"/>
                </a:lnTo>
                <a:lnTo>
                  <a:pt x="96" y="190"/>
                </a:lnTo>
                <a:lnTo>
                  <a:pt x="73" y="192"/>
                </a:lnTo>
                <a:lnTo>
                  <a:pt x="48" y="192"/>
                </a:lnTo>
                <a:lnTo>
                  <a:pt x="25" y="194"/>
                </a:lnTo>
                <a:lnTo>
                  <a:pt x="0" y="196"/>
                </a:lnTo>
                <a:lnTo>
                  <a:pt x="0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83"/>
          <p:cNvSpPr/>
          <p:nvPr/>
        </p:nvSpPr>
        <p:spPr>
          <a:xfrm>
            <a:off x="5605560" y="2925720"/>
            <a:ext cx="590400" cy="635040"/>
          </a:xfrm>
          <a:custGeom>
            <a:avLst/>
            <a:gdLst/>
            <a:ahLst/>
            <a:rect l="l" t="t" r="r" b="b"/>
            <a:pathLst>
              <a:path w="745" h="801">
                <a:moveTo>
                  <a:pt x="664" y="104"/>
                </a:moveTo>
                <a:lnTo>
                  <a:pt x="674" y="110"/>
                </a:lnTo>
                <a:lnTo>
                  <a:pt x="684" y="117"/>
                </a:lnTo>
                <a:lnTo>
                  <a:pt x="693" y="123"/>
                </a:lnTo>
                <a:lnTo>
                  <a:pt x="701" y="131"/>
                </a:lnTo>
                <a:lnTo>
                  <a:pt x="709" y="137"/>
                </a:lnTo>
                <a:lnTo>
                  <a:pt x="714" y="144"/>
                </a:lnTo>
                <a:lnTo>
                  <a:pt x="720" y="150"/>
                </a:lnTo>
                <a:lnTo>
                  <a:pt x="726" y="156"/>
                </a:lnTo>
                <a:lnTo>
                  <a:pt x="732" y="162"/>
                </a:lnTo>
                <a:lnTo>
                  <a:pt x="735" y="165"/>
                </a:lnTo>
                <a:lnTo>
                  <a:pt x="737" y="171"/>
                </a:lnTo>
                <a:lnTo>
                  <a:pt x="741" y="175"/>
                </a:lnTo>
                <a:lnTo>
                  <a:pt x="743" y="179"/>
                </a:lnTo>
                <a:lnTo>
                  <a:pt x="743" y="183"/>
                </a:lnTo>
                <a:lnTo>
                  <a:pt x="745" y="186"/>
                </a:lnTo>
                <a:lnTo>
                  <a:pt x="745" y="188"/>
                </a:lnTo>
                <a:lnTo>
                  <a:pt x="745" y="198"/>
                </a:lnTo>
                <a:lnTo>
                  <a:pt x="743" y="208"/>
                </a:lnTo>
                <a:lnTo>
                  <a:pt x="739" y="217"/>
                </a:lnTo>
                <a:lnTo>
                  <a:pt x="735" y="225"/>
                </a:lnTo>
                <a:lnTo>
                  <a:pt x="728" y="234"/>
                </a:lnTo>
                <a:lnTo>
                  <a:pt x="720" y="244"/>
                </a:lnTo>
                <a:lnTo>
                  <a:pt x="716" y="248"/>
                </a:lnTo>
                <a:lnTo>
                  <a:pt x="711" y="254"/>
                </a:lnTo>
                <a:lnTo>
                  <a:pt x="705" y="257"/>
                </a:lnTo>
                <a:lnTo>
                  <a:pt x="699" y="263"/>
                </a:lnTo>
                <a:lnTo>
                  <a:pt x="691" y="267"/>
                </a:lnTo>
                <a:lnTo>
                  <a:pt x="686" y="275"/>
                </a:lnTo>
                <a:lnTo>
                  <a:pt x="678" y="282"/>
                </a:lnTo>
                <a:lnTo>
                  <a:pt x="672" y="290"/>
                </a:lnTo>
                <a:lnTo>
                  <a:pt x="666" y="300"/>
                </a:lnTo>
                <a:lnTo>
                  <a:pt x="659" y="311"/>
                </a:lnTo>
                <a:lnTo>
                  <a:pt x="653" y="325"/>
                </a:lnTo>
                <a:lnTo>
                  <a:pt x="645" y="338"/>
                </a:lnTo>
                <a:lnTo>
                  <a:pt x="640" y="352"/>
                </a:lnTo>
                <a:lnTo>
                  <a:pt x="632" y="369"/>
                </a:lnTo>
                <a:lnTo>
                  <a:pt x="626" y="386"/>
                </a:lnTo>
                <a:lnTo>
                  <a:pt x="620" y="405"/>
                </a:lnTo>
                <a:lnTo>
                  <a:pt x="613" y="424"/>
                </a:lnTo>
                <a:lnTo>
                  <a:pt x="607" y="448"/>
                </a:lnTo>
                <a:lnTo>
                  <a:pt x="599" y="471"/>
                </a:lnTo>
                <a:lnTo>
                  <a:pt x="593" y="496"/>
                </a:lnTo>
                <a:lnTo>
                  <a:pt x="588" y="520"/>
                </a:lnTo>
                <a:lnTo>
                  <a:pt x="582" y="543"/>
                </a:lnTo>
                <a:lnTo>
                  <a:pt x="576" y="567"/>
                </a:lnTo>
                <a:lnTo>
                  <a:pt x="570" y="590"/>
                </a:lnTo>
                <a:lnTo>
                  <a:pt x="565" y="611"/>
                </a:lnTo>
                <a:lnTo>
                  <a:pt x="559" y="632"/>
                </a:lnTo>
                <a:lnTo>
                  <a:pt x="555" y="651"/>
                </a:lnTo>
                <a:lnTo>
                  <a:pt x="549" y="670"/>
                </a:lnTo>
                <a:lnTo>
                  <a:pt x="545" y="689"/>
                </a:lnTo>
                <a:lnTo>
                  <a:pt x="542" y="707"/>
                </a:lnTo>
                <a:lnTo>
                  <a:pt x="538" y="724"/>
                </a:lnTo>
                <a:lnTo>
                  <a:pt x="534" y="741"/>
                </a:lnTo>
                <a:lnTo>
                  <a:pt x="532" y="757"/>
                </a:lnTo>
                <a:lnTo>
                  <a:pt x="528" y="772"/>
                </a:lnTo>
                <a:lnTo>
                  <a:pt x="526" y="787"/>
                </a:lnTo>
                <a:lnTo>
                  <a:pt x="524" y="801"/>
                </a:lnTo>
                <a:lnTo>
                  <a:pt x="465" y="801"/>
                </a:lnTo>
                <a:lnTo>
                  <a:pt x="407" y="801"/>
                </a:lnTo>
                <a:lnTo>
                  <a:pt x="409" y="764"/>
                </a:lnTo>
                <a:lnTo>
                  <a:pt x="413" y="730"/>
                </a:lnTo>
                <a:lnTo>
                  <a:pt x="415" y="695"/>
                </a:lnTo>
                <a:lnTo>
                  <a:pt x="417" y="662"/>
                </a:lnTo>
                <a:lnTo>
                  <a:pt x="421" y="632"/>
                </a:lnTo>
                <a:lnTo>
                  <a:pt x="425" y="601"/>
                </a:lnTo>
                <a:lnTo>
                  <a:pt x="426" y="572"/>
                </a:lnTo>
                <a:lnTo>
                  <a:pt x="430" y="543"/>
                </a:lnTo>
                <a:lnTo>
                  <a:pt x="434" y="517"/>
                </a:lnTo>
                <a:lnTo>
                  <a:pt x="438" y="492"/>
                </a:lnTo>
                <a:lnTo>
                  <a:pt x="440" y="467"/>
                </a:lnTo>
                <a:lnTo>
                  <a:pt x="444" y="444"/>
                </a:lnTo>
                <a:lnTo>
                  <a:pt x="446" y="421"/>
                </a:lnTo>
                <a:lnTo>
                  <a:pt x="449" y="400"/>
                </a:lnTo>
                <a:lnTo>
                  <a:pt x="451" y="378"/>
                </a:lnTo>
                <a:lnTo>
                  <a:pt x="453" y="361"/>
                </a:lnTo>
                <a:lnTo>
                  <a:pt x="455" y="342"/>
                </a:lnTo>
                <a:lnTo>
                  <a:pt x="457" y="325"/>
                </a:lnTo>
                <a:lnTo>
                  <a:pt x="459" y="309"/>
                </a:lnTo>
                <a:lnTo>
                  <a:pt x="461" y="294"/>
                </a:lnTo>
                <a:lnTo>
                  <a:pt x="461" y="279"/>
                </a:lnTo>
                <a:lnTo>
                  <a:pt x="461" y="267"/>
                </a:lnTo>
                <a:lnTo>
                  <a:pt x="463" y="254"/>
                </a:lnTo>
                <a:lnTo>
                  <a:pt x="463" y="242"/>
                </a:lnTo>
                <a:lnTo>
                  <a:pt x="463" y="233"/>
                </a:lnTo>
                <a:lnTo>
                  <a:pt x="461" y="223"/>
                </a:lnTo>
                <a:lnTo>
                  <a:pt x="461" y="213"/>
                </a:lnTo>
                <a:lnTo>
                  <a:pt x="461" y="208"/>
                </a:lnTo>
                <a:lnTo>
                  <a:pt x="459" y="200"/>
                </a:lnTo>
                <a:lnTo>
                  <a:pt x="457" y="196"/>
                </a:lnTo>
                <a:lnTo>
                  <a:pt x="455" y="192"/>
                </a:lnTo>
                <a:lnTo>
                  <a:pt x="453" y="188"/>
                </a:lnTo>
                <a:lnTo>
                  <a:pt x="451" y="186"/>
                </a:lnTo>
                <a:lnTo>
                  <a:pt x="448" y="185"/>
                </a:lnTo>
                <a:lnTo>
                  <a:pt x="444" y="185"/>
                </a:lnTo>
                <a:lnTo>
                  <a:pt x="438" y="185"/>
                </a:lnTo>
                <a:lnTo>
                  <a:pt x="432" y="185"/>
                </a:lnTo>
                <a:lnTo>
                  <a:pt x="426" y="185"/>
                </a:lnTo>
                <a:lnTo>
                  <a:pt x="419" y="185"/>
                </a:lnTo>
                <a:lnTo>
                  <a:pt x="411" y="186"/>
                </a:lnTo>
                <a:lnTo>
                  <a:pt x="403" y="186"/>
                </a:lnTo>
                <a:lnTo>
                  <a:pt x="394" y="188"/>
                </a:lnTo>
                <a:lnTo>
                  <a:pt x="384" y="190"/>
                </a:lnTo>
                <a:lnTo>
                  <a:pt x="373" y="192"/>
                </a:lnTo>
                <a:lnTo>
                  <a:pt x="363" y="194"/>
                </a:lnTo>
                <a:lnTo>
                  <a:pt x="352" y="196"/>
                </a:lnTo>
                <a:lnTo>
                  <a:pt x="338" y="198"/>
                </a:lnTo>
                <a:lnTo>
                  <a:pt x="327" y="202"/>
                </a:lnTo>
                <a:lnTo>
                  <a:pt x="311" y="206"/>
                </a:lnTo>
                <a:lnTo>
                  <a:pt x="298" y="210"/>
                </a:lnTo>
                <a:lnTo>
                  <a:pt x="282" y="215"/>
                </a:lnTo>
                <a:lnTo>
                  <a:pt x="267" y="219"/>
                </a:lnTo>
                <a:lnTo>
                  <a:pt x="250" y="223"/>
                </a:lnTo>
                <a:lnTo>
                  <a:pt x="233" y="229"/>
                </a:lnTo>
                <a:lnTo>
                  <a:pt x="213" y="233"/>
                </a:lnTo>
                <a:lnTo>
                  <a:pt x="192" y="236"/>
                </a:lnTo>
                <a:lnTo>
                  <a:pt x="173" y="240"/>
                </a:lnTo>
                <a:lnTo>
                  <a:pt x="150" y="244"/>
                </a:lnTo>
                <a:lnTo>
                  <a:pt x="129" y="248"/>
                </a:lnTo>
                <a:lnTo>
                  <a:pt x="104" y="252"/>
                </a:lnTo>
                <a:lnTo>
                  <a:pt x="79" y="254"/>
                </a:lnTo>
                <a:lnTo>
                  <a:pt x="54" y="257"/>
                </a:lnTo>
                <a:lnTo>
                  <a:pt x="27" y="259"/>
                </a:lnTo>
                <a:lnTo>
                  <a:pt x="0" y="263"/>
                </a:lnTo>
                <a:lnTo>
                  <a:pt x="0" y="140"/>
                </a:lnTo>
                <a:lnTo>
                  <a:pt x="23" y="138"/>
                </a:lnTo>
                <a:lnTo>
                  <a:pt x="46" y="135"/>
                </a:lnTo>
                <a:lnTo>
                  <a:pt x="68" y="133"/>
                </a:lnTo>
                <a:lnTo>
                  <a:pt x="89" y="131"/>
                </a:lnTo>
                <a:lnTo>
                  <a:pt x="110" y="129"/>
                </a:lnTo>
                <a:lnTo>
                  <a:pt x="129" y="125"/>
                </a:lnTo>
                <a:lnTo>
                  <a:pt x="148" y="123"/>
                </a:lnTo>
                <a:lnTo>
                  <a:pt x="167" y="119"/>
                </a:lnTo>
                <a:lnTo>
                  <a:pt x="185" y="117"/>
                </a:lnTo>
                <a:lnTo>
                  <a:pt x="202" y="114"/>
                </a:lnTo>
                <a:lnTo>
                  <a:pt x="217" y="112"/>
                </a:lnTo>
                <a:lnTo>
                  <a:pt x="235" y="108"/>
                </a:lnTo>
                <a:lnTo>
                  <a:pt x="250" y="104"/>
                </a:lnTo>
                <a:lnTo>
                  <a:pt x="263" y="100"/>
                </a:lnTo>
                <a:lnTo>
                  <a:pt x="277" y="96"/>
                </a:lnTo>
                <a:lnTo>
                  <a:pt x="290" y="91"/>
                </a:lnTo>
                <a:lnTo>
                  <a:pt x="304" y="89"/>
                </a:lnTo>
                <a:lnTo>
                  <a:pt x="315" y="87"/>
                </a:lnTo>
                <a:lnTo>
                  <a:pt x="329" y="83"/>
                </a:lnTo>
                <a:lnTo>
                  <a:pt x="338" y="79"/>
                </a:lnTo>
                <a:lnTo>
                  <a:pt x="350" y="77"/>
                </a:lnTo>
                <a:lnTo>
                  <a:pt x="359" y="73"/>
                </a:lnTo>
                <a:lnTo>
                  <a:pt x="369" y="69"/>
                </a:lnTo>
                <a:lnTo>
                  <a:pt x="378" y="66"/>
                </a:lnTo>
                <a:lnTo>
                  <a:pt x="386" y="62"/>
                </a:lnTo>
                <a:lnTo>
                  <a:pt x="394" y="56"/>
                </a:lnTo>
                <a:lnTo>
                  <a:pt x="402" y="52"/>
                </a:lnTo>
                <a:lnTo>
                  <a:pt x="409" y="48"/>
                </a:lnTo>
                <a:lnTo>
                  <a:pt x="415" y="43"/>
                </a:lnTo>
                <a:lnTo>
                  <a:pt x="421" y="39"/>
                </a:lnTo>
                <a:lnTo>
                  <a:pt x="426" y="35"/>
                </a:lnTo>
                <a:lnTo>
                  <a:pt x="430" y="29"/>
                </a:lnTo>
                <a:lnTo>
                  <a:pt x="440" y="21"/>
                </a:lnTo>
                <a:lnTo>
                  <a:pt x="449" y="14"/>
                </a:lnTo>
                <a:lnTo>
                  <a:pt x="461" y="8"/>
                </a:lnTo>
                <a:lnTo>
                  <a:pt x="474" y="4"/>
                </a:lnTo>
                <a:lnTo>
                  <a:pt x="488" y="0"/>
                </a:lnTo>
                <a:lnTo>
                  <a:pt x="496" y="0"/>
                </a:lnTo>
                <a:lnTo>
                  <a:pt x="503" y="0"/>
                </a:lnTo>
                <a:lnTo>
                  <a:pt x="511" y="0"/>
                </a:lnTo>
                <a:lnTo>
                  <a:pt x="519" y="2"/>
                </a:lnTo>
                <a:lnTo>
                  <a:pt x="526" y="2"/>
                </a:lnTo>
                <a:lnTo>
                  <a:pt x="536" y="6"/>
                </a:lnTo>
                <a:lnTo>
                  <a:pt x="542" y="8"/>
                </a:lnTo>
                <a:lnTo>
                  <a:pt x="549" y="12"/>
                </a:lnTo>
                <a:lnTo>
                  <a:pt x="557" y="14"/>
                </a:lnTo>
                <a:lnTo>
                  <a:pt x="563" y="19"/>
                </a:lnTo>
                <a:lnTo>
                  <a:pt x="570" y="23"/>
                </a:lnTo>
                <a:lnTo>
                  <a:pt x="578" y="29"/>
                </a:lnTo>
                <a:lnTo>
                  <a:pt x="595" y="41"/>
                </a:lnTo>
                <a:lnTo>
                  <a:pt x="613" y="54"/>
                </a:lnTo>
                <a:lnTo>
                  <a:pt x="628" y="69"/>
                </a:lnTo>
                <a:lnTo>
                  <a:pt x="647" y="85"/>
                </a:lnTo>
                <a:lnTo>
                  <a:pt x="664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84"/>
          <p:cNvSpPr/>
          <p:nvPr/>
        </p:nvSpPr>
        <p:spPr>
          <a:xfrm>
            <a:off x="5484960" y="3008160"/>
            <a:ext cx="215640" cy="863640"/>
          </a:xfrm>
          <a:custGeom>
            <a:avLst/>
            <a:gdLst/>
            <a:ahLst/>
            <a:rect l="l" t="t" r="r" b="b"/>
            <a:pathLst>
              <a:path w="272" h="1088">
                <a:moveTo>
                  <a:pt x="46" y="146"/>
                </a:moveTo>
                <a:lnTo>
                  <a:pt x="40" y="134"/>
                </a:lnTo>
                <a:lnTo>
                  <a:pt x="34" y="123"/>
                </a:lnTo>
                <a:lnTo>
                  <a:pt x="28" y="113"/>
                </a:lnTo>
                <a:lnTo>
                  <a:pt x="25" y="102"/>
                </a:lnTo>
                <a:lnTo>
                  <a:pt x="19" y="92"/>
                </a:lnTo>
                <a:lnTo>
                  <a:pt x="15" y="84"/>
                </a:lnTo>
                <a:lnTo>
                  <a:pt x="13" y="75"/>
                </a:lnTo>
                <a:lnTo>
                  <a:pt x="9" y="67"/>
                </a:lnTo>
                <a:lnTo>
                  <a:pt x="7" y="59"/>
                </a:lnTo>
                <a:lnTo>
                  <a:pt x="5" y="52"/>
                </a:lnTo>
                <a:lnTo>
                  <a:pt x="4" y="44"/>
                </a:lnTo>
                <a:lnTo>
                  <a:pt x="2" y="38"/>
                </a:lnTo>
                <a:lnTo>
                  <a:pt x="0" y="34"/>
                </a:lnTo>
                <a:lnTo>
                  <a:pt x="0" y="31"/>
                </a:lnTo>
                <a:lnTo>
                  <a:pt x="0" y="27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2" y="17"/>
                </a:lnTo>
                <a:lnTo>
                  <a:pt x="4" y="15"/>
                </a:lnTo>
                <a:lnTo>
                  <a:pt x="5" y="13"/>
                </a:lnTo>
                <a:lnTo>
                  <a:pt x="9" y="10"/>
                </a:lnTo>
                <a:lnTo>
                  <a:pt x="13" y="8"/>
                </a:lnTo>
                <a:lnTo>
                  <a:pt x="17" y="8"/>
                </a:lnTo>
                <a:lnTo>
                  <a:pt x="21" y="6"/>
                </a:lnTo>
                <a:lnTo>
                  <a:pt x="27" y="4"/>
                </a:lnTo>
                <a:lnTo>
                  <a:pt x="32" y="2"/>
                </a:lnTo>
                <a:lnTo>
                  <a:pt x="38" y="2"/>
                </a:lnTo>
                <a:lnTo>
                  <a:pt x="46" y="0"/>
                </a:lnTo>
                <a:lnTo>
                  <a:pt x="52" y="0"/>
                </a:lnTo>
                <a:lnTo>
                  <a:pt x="61" y="0"/>
                </a:lnTo>
                <a:lnTo>
                  <a:pt x="69" y="0"/>
                </a:lnTo>
                <a:lnTo>
                  <a:pt x="76" y="2"/>
                </a:lnTo>
                <a:lnTo>
                  <a:pt x="82" y="4"/>
                </a:lnTo>
                <a:lnTo>
                  <a:pt x="92" y="6"/>
                </a:lnTo>
                <a:lnTo>
                  <a:pt x="99" y="8"/>
                </a:lnTo>
                <a:lnTo>
                  <a:pt x="109" y="11"/>
                </a:lnTo>
                <a:lnTo>
                  <a:pt x="119" y="13"/>
                </a:lnTo>
                <a:lnTo>
                  <a:pt x="128" y="15"/>
                </a:lnTo>
                <a:lnTo>
                  <a:pt x="138" y="17"/>
                </a:lnTo>
                <a:lnTo>
                  <a:pt x="149" y="19"/>
                </a:lnTo>
                <a:lnTo>
                  <a:pt x="161" y="23"/>
                </a:lnTo>
                <a:lnTo>
                  <a:pt x="174" y="25"/>
                </a:lnTo>
                <a:lnTo>
                  <a:pt x="186" y="27"/>
                </a:lnTo>
                <a:lnTo>
                  <a:pt x="199" y="29"/>
                </a:lnTo>
                <a:lnTo>
                  <a:pt x="215" y="31"/>
                </a:lnTo>
                <a:lnTo>
                  <a:pt x="228" y="34"/>
                </a:lnTo>
                <a:lnTo>
                  <a:pt x="243" y="36"/>
                </a:lnTo>
                <a:lnTo>
                  <a:pt x="245" y="67"/>
                </a:lnTo>
                <a:lnTo>
                  <a:pt x="245" y="98"/>
                </a:lnTo>
                <a:lnTo>
                  <a:pt x="247" y="129"/>
                </a:lnTo>
                <a:lnTo>
                  <a:pt x="247" y="159"/>
                </a:lnTo>
                <a:lnTo>
                  <a:pt x="249" y="188"/>
                </a:lnTo>
                <a:lnTo>
                  <a:pt x="249" y="217"/>
                </a:lnTo>
                <a:lnTo>
                  <a:pt x="251" y="246"/>
                </a:lnTo>
                <a:lnTo>
                  <a:pt x="251" y="273"/>
                </a:lnTo>
                <a:lnTo>
                  <a:pt x="253" y="301"/>
                </a:lnTo>
                <a:lnTo>
                  <a:pt x="253" y="328"/>
                </a:lnTo>
                <a:lnTo>
                  <a:pt x="255" y="353"/>
                </a:lnTo>
                <a:lnTo>
                  <a:pt x="255" y="380"/>
                </a:lnTo>
                <a:lnTo>
                  <a:pt x="257" y="405"/>
                </a:lnTo>
                <a:lnTo>
                  <a:pt x="257" y="430"/>
                </a:lnTo>
                <a:lnTo>
                  <a:pt x="257" y="455"/>
                </a:lnTo>
                <a:lnTo>
                  <a:pt x="259" y="480"/>
                </a:lnTo>
                <a:lnTo>
                  <a:pt x="259" y="503"/>
                </a:lnTo>
                <a:lnTo>
                  <a:pt x="261" y="526"/>
                </a:lnTo>
                <a:lnTo>
                  <a:pt x="261" y="549"/>
                </a:lnTo>
                <a:lnTo>
                  <a:pt x="261" y="570"/>
                </a:lnTo>
                <a:lnTo>
                  <a:pt x="263" y="591"/>
                </a:lnTo>
                <a:lnTo>
                  <a:pt x="263" y="612"/>
                </a:lnTo>
                <a:lnTo>
                  <a:pt x="263" y="633"/>
                </a:lnTo>
                <a:lnTo>
                  <a:pt x="265" y="654"/>
                </a:lnTo>
                <a:lnTo>
                  <a:pt x="265" y="674"/>
                </a:lnTo>
                <a:lnTo>
                  <a:pt x="265" y="693"/>
                </a:lnTo>
                <a:lnTo>
                  <a:pt x="266" y="712"/>
                </a:lnTo>
                <a:lnTo>
                  <a:pt x="266" y="729"/>
                </a:lnTo>
                <a:lnTo>
                  <a:pt x="266" y="747"/>
                </a:lnTo>
                <a:lnTo>
                  <a:pt x="266" y="764"/>
                </a:lnTo>
                <a:lnTo>
                  <a:pt x="268" y="781"/>
                </a:lnTo>
                <a:lnTo>
                  <a:pt x="268" y="798"/>
                </a:lnTo>
                <a:lnTo>
                  <a:pt x="268" y="814"/>
                </a:lnTo>
                <a:lnTo>
                  <a:pt x="268" y="829"/>
                </a:lnTo>
                <a:lnTo>
                  <a:pt x="268" y="844"/>
                </a:lnTo>
                <a:lnTo>
                  <a:pt x="270" y="858"/>
                </a:lnTo>
                <a:lnTo>
                  <a:pt x="270" y="871"/>
                </a:lnTo>
                <a:lnTo>
                  <a:pt x="270" y="885"/>
                </a:lnTo>
                <a:lnTo>
                  <a:pt x="270" y="898"/>
                </a:lnTo>
                <a:lnTo>
                  <a:pt x="270" y="912"/>
                </a:lnTo>
                <a:lnTo>
                  <a:pt x="270" y="923"/>
                </a:lnTo>
                <a:lnTo>
                  <a:pt x="270" y="935"/>
                </a:lnTo>
                <a:lnTo>
                  <a:pt x="270" y="946"/>
                </a:lnTo>
                <a:lnTo>
                  <a:pt x="270" y="956"/>
                </a:lnTo>
                <a:lnTo>
                  <a:pt x="270" y="965"/>
                </a:lnTo>
                <a:lnTo>
                  <a:pt x="272" y="975"/>
                </a:lnTo>
                <a:lnTo>
                  <a:pt x="272" y="985"/>
                </a:lnTo>
                <a:lnTo>
                  <a:pt x="272" y="992"/>
                </a:lnTo>
                <a:lnTo>
                  <a:pt x="270" y="1002"/>
                </a:lnTo>
                <a:lnTo>
                  <a:pt x="270" y="1010"/>
                </a:lnTo>
                <a:lnTo>
                  <a:pt x="270" y="1015"/>
                </a:lnTo>
                <a:lnTo>
                  <a:pt x="270" y="1023"/>
                </a:lnTo>
                <a:lnTo>
                  <a:pt x="270" y="1029"/>
                </a:lnTo>
                <a:lnTo>
                  <a:pt x="270" y="1035"/>
                </a:lnTo>
                <a:lnTo>
                  <a:pt x="270" y="1040"/>
                </a:lnTo>
                <a:lnTo>
                  <a:pt x="270" y="1044"/>
                </a:lnTo>
                <a:lnTo>
                  <a:pt x="270" y="1048"/>
                </a:lnTo>
                <a:lnTo>
                  <a:pt x="270" y="1052"/>
                </a:lnTo>
                <a:lnTo>
                  <a:pt x="268" y="1056"/>
                </a:lnTo>
                <a:lnTo>
                  <a:pt x="268" y="1058"/>
                </a:lnTo>
                <a:lnTo>
                  <a:pt x="268" y="1059"/>
                </a:lnTo>
                <a:lnTo>
                  <a:pt x="268" y="1061"/>
                </a:lnTo>
                <a:lnTo>
                  <a:pt x="266" y="1063"/>
                </a:lnTo>
                <a:lnTo>
                  <a:pt x="263" y="1069"/>
                </a:lnTo>
                <a:lnTo>
                  <a:pt x="257" y="1073"/>
                </a:lnTo>
                <a:lnTo>
                  <a:pt x="251" y="1077"/>
                </a:lnTo>
                <a:lnTo>
                  <a:pt x="243" y="1081"/>
                </a:lnTo>
                <a:lnTo>
                  <a:pt x="238" y="1084"/>
                </a:lnTo>
                <a:lnTo>
                  <a:pt x="230" y="1086"/>
                </a:lnTo>
                <a:lnTo>
                  <a:pt x="226" y="1088"/>
                </a:lnTo>
                <a:lnTo>
                  <a:pt x="220" y="1088"/>
                </a:lnTo>
                <a:lnTo>
                  <a:pt x="217" y="1088"/>
                </a:lnTo>
                <a:lnTo>
                  <a:pt x="211" y="1086"/>
                </a:lnTo>
                <a:lnTo>
                  <a:pt x="207" y="1082"/>
                </a:lnTo>
                <a:lnTo>
                  <a:pt x="203" y="1079"/>
                </a:lnTo>
                <a:lnTo>
                  <a:pt x="199" y="1071"/>
                </a:lnTo>
                <a:lnTo>
                  <a:pt x="195" y="1067"/>
                </a:lnTo>
                <a:lnTo>
                  <a:pt x="194" y="1063"/>
                </a:lnTo>
                <a:lnTo>
                  <a:pt x="192" y="1058"/>
                </a:lnTo>
                <a:lnTo>
                  <a:pt x="190" y="1052"/>
                </a:lnTo>
                <a:lnTo>
                  <a:pt x="188" y="1046"/>
                </a:lnTo>
                <a:lnTo>
                  <a:pt x="186" y="1040"/>
                </a:lnTo>
                <a:lnTo>
                  <a:pt x="184" y="1036"/>
                </a:lnTo>
                <a:lnTo>
                  <a:pt x="184" y="1033"/>
                </a:lnTo>
                <a:lnTo>
                  <a:pt x="182" y="1027"/>
                </a:lnTo>
                <a:lnTo>
                  <a:pt x="180" y="1021"/>
                </a:lnTo>
                <a:lnTo>
                  <a:pt x="180" y="1015"/>
                </a:lnTo>
                <a:lnTo>
                  <a:pt x="178" y="1010"/>
                </a:lnTo>
                <a:lnTo>
                  <a:pt x="178" y="1002"/>
                </a:lnTo>
                <a:lnTo>
                  <a:pt x="176" y="994"/>
                </a:lnTo>
                <a:lnTo>
                  <a:pt x="174" y="985"/>
                </a:lnTo>
                <a:lnTo>
                  <a:pt x="174" y="975"/>
                </a:lnTo>
                <a:lnTo>
                  <a:pt x="172" y="965"/>
                </a:lnTo>
                <a:lnTo>
                  <a:pt x="172" y="956"/>
                </a:lnTo>
                <a:lnTo>
                  <a:pt x="171" y="944"/>
                </a:lnTo>
                <a:lnTo>
                  <a:pt x="169" y="933"/>
                </a:lnTo>
                <a:lnTo>
                  <a:pt x="169" y="921"/>
                </a:lnTo>
                <a:lnTo>
                  <a:pt x="167" y="908"/>
                </a:lnTo>
                <a:lnTo>
                  <a:pt x="165" y="894"/>
                </a:lnTo>
                <a:lnTo>
                  <a:pt x="163" y="881"/>
                </a:lnTo>
                <a:lnTo>
                  <a:pt x="163" y="866"/>
                </a:lnTo>
                <a:lnTo>
                  <a:pt x="161" y="850"/>
                </a:lnTo>
                <a:lnTo>
                  <a:pt x="159" y="835"/>
                </a:lnTo>
                <a:lnTo>
                  <a:pt x="157" y="818"/>
                </a:lnTo>
                <a:lnTo>
                  <a:pt x="155" y="800"/>
                </a:lnTo>
                <a:lnTo>
                  <a:pt x="153" y="781"/>
                </a:lnTo>
                <a:lnTo>
                  <a:pt x="153" y="762"/>
                </a:lnTo>
                <a:lnTo>
                  <a:pt x="151" y="743"/>
                </a:lnTo>
                <a:lnTo>
                  <a:pt x="149" y="724"/>
                </a:lnTo>
                <a:lnTo>
                  <a:pt x="147" y="702"/>
                </a:lnTo>
                <a:lnTo>
                  <a:pt x="146" y="681"/>
                </a:lnTo>
                <a:lnTo>
                  <a:pt x="144" y="658"/>
                </a:lnTo>
                <a:lnTo>
                  <a:pt x="142" y="635"/>
                </a:lnTo>
                <a:lnTo>
                  <a:pt x="140" y="612"/>
                </a:lnTo>
                <a:lnTo>
                  <a:pt x="136" y="587"/>
                </a:lnTo>
                <a:lnTo>
                  <a:pt x="132" y="564"/>
                </a:lnTo>
                <a:lnTo>
                  <a:pt x="130" y="541"/>
                </a:lnTo>
                <a:lnTo>
                  <a:pt x="126" y="520"/>
                </a:lnTo>
                <a:lnTo>
                  <a:pt x="123" y="499"/>
                </a:lnTo>
                <a:lnTo>
                  <a:pt x="121" y="478"/>
                </a:lnTo>
                <a:lnTo>
                  <a:pt x="117" y="459"/>
                </a:lnTo>
                <a:lnTo>
                  <a:pt x="115" y="439"/>
                </a:lnTo>
                <a:lnTo>
                  <a:pt x="111" y="420"/>
                </a:lnTo>
                <a:lnTo>
                  <a:pt x="109" y="401"/>
                </a:lnTo>
                <a:lnTo>
                  <a:pt x="105" y="384"/>
                </a:lnTo>
                <a:lnTo>
                  <a:pt x="103" y="367"/>
                </a:lnTo>
                <a:lnTo>
                  <a:pt x="99" y="351"/>
                </a:lnTo>
                <a:lnTo>
                  <a:pt x="98" y="336"/>
                </a:lnTo>
                <a:lnTo>
                  <a:pt x="96" y="320"/>
                </a:lnTo>
                <a:lnTo>
                  <a:pt x="92" y="305"/>
                </a:lnTo>
                <a:lnTo>
                  <a:pt x="90" y="292"/>
                </a:lnTo>
                <a:lnTo>
                  <a:pt x="86" y="278"/>
                </a:lnTo>
                <a:lnTo>
                  <a:pt x="84" y="265"/>
                </a:lnTo>
                <a:lnTo>
                  <a:pt x="80" y="251"/>
                </a:lnTo>
                <a:lnTo>
                  <a:pt x="78" y="240"/>
                </a:lnTo>
                <a:lnTo>
                  <a:pt x="76" y="228"/>
                </a:lnTo>
                <a:lnTo>
                  <a:pt x="73" y="219"/>
                </a:lnTo>
                <a:lnTo>
                  <a:pt x="71" y="209"/>
                </a:lnTo>
                <a:lnTo>
                  <a:pt x="67" y="200"/>
                </a:lnTo>
                <a:lnTo>
                  <a:pt x="65" y="190"/>
                </a:lnTo>
                <a:lnTo>
                  <a:pt x="61" y="180"/>
                </a:lnTo>
                <a:lnTo>
                  <a:pt x="57" y="173"/>
                </a:lnTo>
                <a:lnTo>
                  <a:pt x="55" y="165"/>
                </a:lnTo>
                <a:lnTo>
                  <a:pt x="52" y="159"/>
                </a:lnTo>
                <a:lnTo>
                  <a:pt x="50" y="152"/>
                </a:lnTo>
                <a:lnTo>
                  <a:pt x="46" y="1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"/>
          <p:cNvSpPr/>
          <p:nvPr/>
        </p:nvSpPr>
        <p:spPr>
          <a:xfrm>
            <a:off x="2218680" y="2122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澄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114880" y="195732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2" name="组合 8"/>
          <p:cNvGrpSpPr/>
          <p:nvPr/>
        </p:nvGrpSpPr>
        <p:grpSpPr>
          <a:xfrm>
            <a:off x="1400040" y="3549600"/>
            <a:ext cx="2840040" cy="1571400"/>
            <a:chOff x="1400040" y="3549600"/>
            <a:chExt cx="2840040" cy="1571400"/>
          </a:xfrm>
        </p:grpSpPr>
        <p:pic>
          <p:nvPicPr>
            <p:cNvPr id="13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549600"/>
              <a:ext cx="284004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矩形 2"/>
            <p:cNvSpPr/>
            <p:nvPr/>
          </p:nvSpPr>
          <p:spPr>
            <a:xfrm>
              <a:off x="1444680" y="41634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边横撇和捺要有力，“豆”底横略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矩形 3"/>
          <p:cNvSpPr/>
          <p:nvPr/>
        </p:nvSpPr>
        <p:spPr>
          <a:xfrm>
            <a:off x="1671480" y="1442880"/>
            <a:ext cx="17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é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79"/>
          <p:cNvSpPr/>
          <p:nvPr/>
        </p:nvSpPr>
        <p:spPr>
          <a:xfrm>
            <a:off x="6735600" y="3992400"/>
            <a:ext cx="300240" cy="439920"/>
          </a:xfrm>
          <a:custGeom>
            <a:avLst/>
            <a:gdLst/>
            <a:ahLst/>
            <a:rect l="l" t="t" r="r" b="b"/>
            <a:pathLst>
              <a:path w="376" h="554">
                <a:moveTo>
                  <a:pt x="372" y="153"/>
                </a:moveTo>
                <a:lnTo>
                  <a:pt x="374" y="157"/>
                </a:lnTo>
                <a:lnTo>
                  <a:pt x="376" y="163"/>
                </a:lnTo>
                <a:lnTo>
                  <a:pt x="376" y="169"/>
                </a:lnTo>
                <a:lnTo>
                  <a:pt x="376" y="172"/>
                </a:lnTo>
                <a:lnTo>
                  <a:pt x="376" y="178"/>
                </a:lnTo>
                <a:lnTo>
                  <a:pt x="376" y="184"/>
                </a:lnTo>
                <a:lnTo>
                  <a:pt x="374" y="190"/>
                </a:lnTo>
                <a:lnTo>
                  <a:pt x="372" y="195"/>
                </a:lnTo>
                <a:lnTo>
                  <a:pt x="370" y="201"/>
                </a:lnTo>
                <a:lnTo>
                  <a:pt x="367" y="207"/>
                </a:lnTo>
                <a:lnTo>
                  <a:pt x="363" y="215"/>
                </a:lnTo>
                <a:lnTo>
                  <a:pt x="359" y="220"/>
                </a:lnTo>
                <a:lnTo>
                  <a:pt x="353" y="228"/>
                </a:lnTo>
                <a:lnTo>
                  <a:pt x="349" y="234"/>
                </a:lnTo>
                <a:lnTo>
                  <a:pt x="344" y="241"/>
                </a:lnTo>
                <a:lnTo>
                  <a:pt x="336" y="249"/>
                </a:lnTo>
                <a:lnTo>
                  <a:pt x="328" y="259"/>
                </a:lnTo>
                <a:lnTo>
                  <a:pt x="320" y="268"/>
                </a:lnTo>
                <a:lnTo>
                  <a:pt x="311" y="280"/>
                </a:lnTo>
                <a:lnTo>
                  <a:pt x="299" y="293"/>
                </a:lnTo>
                <a:lnTo>
                  <a:pt x="288" y="307"/>
                </a:lnTo>
                <a:lnTo>
                  <a:pt x="274" y="324"/>
                </a:lnTo>
                <a:lnTo>
                  <a:pt x="261" y="341"/>
                </a:lnTo>
                <a:lnTo>
                  <a:pt x="244" y="359"/>
                </a:lnTo>
                <a:lnTo>
                  <a:pt x="228" y="380"/>
                </a:lnTo>
                <a:lnTo>
                  <a:pt x="209" y="401"/>
                </a:lnTo>
                <a:lnTo>
                  <a:pt x="190" y="424"/>
                </a:lnTo>
                <a:lnTo>
                  <a:pt x="169" y="447"/>
                </a:lnTo>
                <a:lnTo>
                  <a:pt x="146" y="472"/>
                </a:lnTo>
                <a:lnTo>
                  <a:pt x="123" y="499"/>
                </a:lnTo>
                <a:lnTo>
                  <a:pt x="98" y="526"/>
                </a:lnTo>
                <a:lnTo>
                  <a:pt x="73" y="554"/>
                </a:lnTo>
                <a:lnTo>
                  <a:pt x="0" y="554"/>
                </a:lnTo>
                <a:lnTo>
                  <a:pt x="15" y="520"/>
                </a:lnTo>
                <a:lnTo>
                  <a:pt x="31" y="489"/>
                </a:lnTo>
                <a:lnTo>
                  <a:pt x="44" y="458"/>
                </a:lnTo>
                <a:lnTo>
                  <a:pt x="56" y="431"/>
                </a:lnTo>
                <a:lnTo>
                  <a:pt x="69" y="405"/>
                </a:lnTo>
                <a:lnTo>
                  <a:pt x="81" y="378"/>
                </a:lnTo>
                <a:lnTo>
                  <a:pt x="90" y="355"/>
                </a:lnTo>
                <a:lnTo>
                  <a:pt x="100" y="332"/>
                </a:lnTo>
                <a:lnTo>
                  <a:pt x="109" y="311"/>
                </a:lnTo>
                <a:lnTo>
                  <a:pt x="119" y="291"/>
                </a:lnTo>
                <a:lnTo>
                  <a:pt x="127" y="272"/>
                </a:lnTo>
                <a:lnTo>
                  <a:pt x="134" y="253"/>
                </a:lnTo>
                <a:lnTo>
                  <a:pt x="140" y="238"/>
                </a:lnTo>
                <a:lnTo>
                  <a:pt x="146" y="222"/>
                </a:lnTo>
                <a:lnTo>
                  <a:pt x="152" y="207"/>
                </a:lnTo>
                <a:lnTo>
                  <a:pt x="157" y="193"/>
                </a:lnTo>
                <a:lnTo>
                  <a:pt x="159" y="174"/>
                </a:lnTo>
                <a:lnTo>
                  <a:pt x="163" y="155"/>
                </a:lnTo>
                <a:lnTo>
                  <a:pt x="163" y="138"/>
                </a:lnTo>
                <a:lnTo>
                  <a:pt x="163" y="121"/>
                </a:lnTo>
                <a:lnTo>
                  <a:pt x="161" y="107"/>
                </a:lnTo>
                <a:lnTo>
                  <a:pt x="159" y="99"/>
                </a:lnTo>
                <a:lnTo>
                  <a:pt x="157" y="92"/>
                </a:lnTo>
                <a:lnTo>
                  <a:pt x="155" y="86"/>
                </a:lnTo>
                <a:lnTo>
                  <a:pt x="152" y="80"/>
                </a:lnTo>
                <a:lnTo>
                  <a:pt x="148" y="74"/>
                </a:lnTo>
                <a:lnTo>
                  <a:pt x="144" y="69"/>
                </a:lnTo>
                <a:lnTo>
                  <a:pt x="136" y="63"/>
                </a:lnTo>
                <a:lnTo>
                  <a:pt x="129" y="57"/>
                </a:lnTo>
                <a:lnTo>
                  <a:pt x="123" y="50"/>
                </a:lnTo>
                <a:lnTo>
                  <a:pt x="119" y="42"/>
                </a:lnTo>
                <a:lnTo>
                  <a:pt x="117" y="34"/>
                </a:lnTo>
                <a:lnTo>
                  <a:pt x="115" y="30"/>
                </a:lnTo>
                <a:lnTo>
                  <a:pt x="115" y="26"/>
                </a:lnTo>
                <a:lnTo>
                  <a:pt x="117" y="23"/>
                </a:lnTo>
                <a:lnTo>
                  <a:pt x="117" y="21"/>
                </a:lnTo>
                <a:lnTo>
                  <a:pt x="119" y="17"/>
                </a:lnTo>
                <a:lnTo>
                  <a:pt x="121" y="15"/>
                </a:lnTo>
                <a:lnTo>
                  <a:pt x="125" y="9"/>
                </a:lnTo>
                <a:lnTo>
                  <a:pt x="130" y="5"/>
                </a:lnTo>
                <a:lnTo>
                  <a:pt x="134" y="3"/>
                </a:lnTo>
                <a:lnTo>
                  <a:pt x="140" y="2"/>
                </a:lnTo>
                <a:lnTo>
                  <a:pt x="146" y="2"/>
                </a:lnTo>
                <a:lnTo>
                  <a:pt x="152" y="0"/>
                </a:lnTo>
                <a:lnTo>
                  <a:pt x="159" y="0"/>
                </a:lnTo>
                <a:lnTo>
                  <a:pt x="169" y="0"/>
                </a:lnTo>
                <a:lnTo>
                  <a:pt x="178" y="2"/>
                </a:lnTo>
                <a:lnTo>
                  <a:pt x="188" y="3"/>
                </a:lnTo>
                <a:lnTo>
                  <a:pt x="201" y="5"/>
                </a:lnTo>
                <a:lnTo>
                  <a:pt x="215" y="11"/>
                </a:lnTo>
                <a:lnTo>
                  <a:pt x="230" y="17"/>
                </a:lnTo>
                <a:lnTo>
                  <a:pt x="238" y="19"/>
                </a:lnTo>
                <a:lnTo>
                  <a:pt x="248" y="23"/>
                </a:lnTo>
                <a:lnTo>
                  <a:pt x="257" y="28"/>
                </a:lnTo>
                <a:lnTo>
                  <a:pt x="267" y="32"/>
                </a:lnTo>
                <a:lnTo>
                  <a:pt x="278" y="36"/>
                </a:lnTo>
                <a:lnTo>
                  <a:pt x="288" y="42"/>
                </a:lnTo>
                <a:lnTo>
                  <a:pt x="299" y="50"/>
                </a:lnTo>
                <a:lnTo>
                  <a:pt x="309" y="57"/>
                </a:lnTo>
                <a:lnTo>
                  <a:pt x="319" y="65"/>
                </a:lnTo>
                <a:lnTo>
                  <a:pt x="326" y="71"/>
                </a:lnTo>
                <a:lnTo>
                  <a:pt x="334" y="78"/>
                </a:lnTo>
                <a:lnTo>
                  <a:pt x="342" y="84"/>
                </a:lnTo>
                <a:lnTo>
                  <a:pt x="347" y="90"/>
                </a:lnTo>
                <a:lnTo>
                  <a:pt x="353" y="97"/>
                </a:lnTo>
                <a:lnTo>
                  <a:pt x="357" y="103"/>
                </a:lnTo>
                <a:lnTo>
                  <a:pt x="361" y="111"/>
                </a:lnTo>
                <a:lnTo>
                  <a:pt x="365" y="117"/>
                </a:lnTo>
                <a:lnTo>
                  <a:pt x="368" y="124"/>
                </a:lnTo>
                <a:lnTo>
                  <a:pt x="370" y="130"/>
                </a:lnTo>
                <a:lnTo>
                  <a:pt x="370" y="138"/>
                </a:lnTo>
                <a:lnTo>
                  <a:pt x="372" y="145"/>
                </a:lnTo>
                <a:lnTo>
                  <a:pt x="372" y="1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80"/>
          <p:cNvSpPr/>
          <p:nvPr/>
        </p:nvSpPr>
        <p:spPr>
          <a:xfrm>
            <a:off x="5981760" y="4344840"/>
            <a:ext cx="1457280" cy="263520"/>
          </a:xfrm>
          <a:custGeom>
            <a:avLst/>
            <a:gdLst/>
            <a:ahLst/>
            <a:rect l="l" t="t" r="r" b="b"/>
            <a:pathLst>
              <a:path w="1835" h="330">
                <a:moveTo>
                  <a:pt x="388" y="301"/>
                </a:moveTo>
                <a:lnTo>
                  <a:pt x="363" y="305"/>
                </a:lnTo>
                <a:lnTo>
                  <a:pt x="340" y="307"/>
                </a:lnTo>
                <a:lnTo>
                  <a:pt x="318" y="309"/>
                </a:lnTo>
                <a:lnTo>
                  <a:pt x="299" y="313"/>
                </a:lnTo>
                <a:lnTo>
                  <a:pt x="280" y="315"/>
                </a:lnTo>
                <a:lnTo>
                  <a:pt x="263" y="317"/>
                </a:lnTo>
                <a:lnTo>
                  <a:pt x="247" y="319"/>
                </a:lnTo>
                <a:lnTo>
                  <a:pt x="232" y="320"/>
                </a:lnTo>
                <a:lnTo>
                  <a:pt x="219" y="322"/>
                </a:lnTo>
                <a:lnTo>
                  <a:pt x="207" y="324"/>
                </a:lnTo>
                <a:lnTo>
                  <a:pt x="196" y="326"/>
                </a:lnTo>
                <a:lnTo>
                  <a:pt x="186" y="326"/>
                </a:lnTo>
                <a:lnTo>
                  <a:pt x="178" y="328"/>
                </a:lnTo>
                <a:lnTo>
                  <a:pt x="171" y="328"/>
                </a:lnTo>
                <a:lnTo>
                  <a:pt x="165" y="328"/>
                </a:lnTo>
                <a:lnTo>
                  <a:pt x="159" y="330"/>
                </a:lnTo>
                <a:lnTo>
                  <a:pt x="150" y="324"/>
                </a:lnTo>
                <a:lnTo>
                  <a:pt x="140" y="319"/>
                </a:lnTo>
                <a:lnTo>
                  <a:pt x="128" y="313"/>
                </a:lnTo>
                <a:lnTo>
                  <a:pt x="115" y="307"/>
                </a:lnTo>
                <a:lnTo>
                  <a:pt x="103" y="299"/>
                </a:lnTo>
                <a:lnTo>
                  <a:pt x="90" y="292"/>
                </a:lnTo>
                <a:lnTo>
                  <a:pt x="77" y="284"/>
                </a:lnTo>
                <a:lnTo>
                  <a:pt x="63" y="274"/>
                </a:lnTo>
                <a:lnTo>
                  <a:pt x="55" y="267"/>
                </a:lnTo>
                <a:lnTo>
                  <a:pt x="46" y="259"/>
                </a:lnTo>
                <a:lnTo>
                  <a:pt x="38" y="251"/>
                </a:lnTo>
                <a:lnTo>
                  <a:pt x="32" y="246"/>
                </a:lnTo>
                <a:lnTo>
                  <a:pt x="27" y="240"/>
                </a:lnTo>
                <a:lnTo>
                  <a:pt x="21" y="232"/>
                </a:lnTo>
                <a:lnTo>
                  <a:pt x="15" y="226"/>
                </a:lnTo>
                <a:lnTo>
                  <a:pt x="11" y="223"/>
                </a:lnTo>
                <a:lnTo>
                  <a:pt x="7" y="217"/>
                </a:lnTo>
                <a:lnTo>
                  <a:pt x="6" y="213"/>
                </a:lnTo>
                <a:lnTo>
                  <a:pt x="2" y="207"/>
                </a:lnTo>
                <a:lnTo>
                  <a:pt x="2" y="203"/>
                </a:lnTo>
                <a:lnTo>
                  <a:pt x="0" y="200"/>
                </a:lnTo>
                <a:lnTo>
                  <a:pt x="2" y="198"/>
                </a:lnTo>
                <a:lnTo>
                  <a:pt x="2" y="194"/>
                </a:lnTo>
                <a:lnTo>
                  <a:pt x="4" y="192"/>
                </a:lnTo>
                <a:lnTo>
                  <a:pt x="4" y="188"/>
                </a:lnTo>
                <a:lnTo>
                  <a:pt x="6" y="186"/>
                </a:lnTo>
                <a:lnTo>
                  <a:pt x="6" y="184"/>
                </a:lnTo>
                <a:lnTo>
                  <a:pt x="7" y="182"/>
                </a:lnTo>
                <a:lnTo>
                  <a:pt x="11" y="182"/>
                </a:lnTo>
                <a:lnTo>
                  <a:pt x="15" y="180"/>
                </a:lnTo>
                <a:lnTo>
                  <a:pt x="19" y="180"/>
                </a:lnTo>
                <a:lnTo>
                  <a:pt x="23" y="178"/>
                </a:lnTo>
                <a:lnTo>
                  <a:pt x="29" y="178"/>
                </a:lnTo>
                <a:lnTo>
                  <a:pt x="34" y="178"/>
                </a:lnTo>
                <a:lnTo>
                  <a:pt x="42" y="178"/>
                </a:lnTo>
                <a:lnTo>
                  <a:pt x="50" y="178"/>
                </a:lnTo>
                <a:lnTo>
                  <a:pt x="57" y="178"/>
                </a:lnTo>
                <a:lnTo>
                  <a:pt x="67" y="178"/>
                </a:lnTo>
                <a:lnTo>
                  <a:pt x="77" y="178"/>
                </a:lnTo>
                <a:lnTo>
                  <a:pt x="88" y="178"/>
                </a:lnTo>
                <a:lnTo>
                  <a:pt x="98" y="176"/>
                </a:lnTo>
                <a:lnTo>
                  <a:pt x="107" y="176"/>
                </a:lnTo>
                <a:lnTo>
                  <a:pt x="121" y="176"/>
                </a:lnTo>
                <a:lnTo>
                  <a:pt x="134" y="175"/>
                </a:lnTo>
                <a:lnTo>
                  <a:pt x="150" y="175"/>
                </a:lnTo>
                <a:lnTo>
                  <a:pt x="165" y="173"/>
                </a:lnTo>
                <a:lnTo>
                  <a:pt x="184" y="171"/>
                </a:lnTo>
                <a:lnTo>
                  <a:pt x="203" y="169"/>
                </a:lnTo>
                <a:lnTo>
                  <a:pt x="222" y="167"/>
                </a:lnTo>
                <a:lnTo>
                  <a:pt x="244" y="165"/>
                </a:lnTo>
                <a:lnTo>
                  <a:pt x="267" y="163"/>
                </a:lnTo>
                <a:lnTo>
                  <a:pt x="292" y="159"/>
                </a:lnTo>
                <a:lnTo>
                  <a:pt x="317" y="157"/>
                </a:lnTo>
                <a:lnTo>
                  <a:pt x="343" y="155"/>
                </a:lnTo>
                <a:lnTo>
                  <a:pt x="370" y="152"/>
                </a:lnTo>
                <a:lnTo>
                  <a:pt x="399" y="150"/>
                </a:lnTo>
                <a:lnTo>
                  <a:pt x="428" y="148"/>
                </a:lnTo>
                <a:lnTo>
                  <a:pt x="459" y="144"/>
                </a:lnTo>
                <a:lnTo>
                  <a:pt x="491" y="140"/>
                </a:lnTo>
                <a:lnTo>
                  <a:pt x="522" y="136"/>
                </a:lnTo>
                <a:lnTo>
                  <a:pt x="556" y="132"/>
                </a:lnTo>
                <a:lnTo>
                  <a:pt x="589" y="129"/>
                </a:lnTo>
                <a:lnTo>
                  <a:pt x="624" y="125"/>
                </a:lnTo>
                <a:lnTo>
                  <a:pt x="660" y="121"/>
                </a:lnTo>
                <a:lnTo>
                  <a:pt x="697" y="115"/>
                </a:lnTo>
                <a:lnTo>
                  <a:pt x="733" y="111"/>
                </a:lnTo>
                <a:lnTo>
                  <a:pt x="771" y="105"/>
                </a:lnTo>
                <a:lnTo>
                  <a:pt x="810" y="102"/>
                </a:lnTo>
                <a:lnTo>
                  <a:pt x="850" y="96"/>
                </a:lnTo>
                <a:lnTo>
                  <a:pt x="890" y="92"/>
                </a:lnTo>
                <a:lnTo>
                  <a:pt x="933" y="86"/>
                </a:lnTo>
                <a:lnTo>
                  <a:pt x="975" y="81"/>
                </a:lnTo>
                <a:lnTo>
                  <a:pt x="996" y="79"/>
                </a:lnTo>
                <a:lnTo>
                  <a:pt x="1017" y="75"/>
                </a:lnTo>
                <a:lnTo>
                  <a:pt x="1036" y="73"/>
                </a:lnTo>
                <a:lnTo>
                  <a:pt x="1056" y="71"/>
                </a:lnTo>
                <a:lnTo>
                  <a:pt x="1094" y="65"/>
                </a:lnTo>
                <a:lnTo>
                  <a:pt x="1130" y="59"/>
                </a:lnTo>
                <a:lnTo>
                  <a:pt x="1165" y="56"/>
                </a:lnTo>
                <a:lnTo>
                  <a:pt x="1198" y="50"/>
                </a:lnTo>
                <a:lnTo>
                  <a:pt x="1228" y="46"/>
                </a:lnTo>
                <a:lnTo>
                  <a:pt x="1257" y="40"/>
                </a:lnTo>
                <a:lnTo>
                  <a:pt x="1284" y="36"/>
                </a:lnTo>
                <a:lnTo>
                  <a:pt x="1309" y="33"/>
                </a:lnTo>
                <a:lnTo>
                  <a:pt x="1334" y="29"/>
                </a:lnTo>
                <a:lnTo>
                  <a:pt x="1355" y="25"/>
                </a:lnTo>
                <a:lnTo>
                  <a:pt x="1376" y="21"/>
                </a:lnTo>
                <a:lnTo>
                  <a:pt x="1395" y="17"/>
                </a:lnTo>
                <a:lnTo>
                  <a:pt x="1413" y="13"/>
                </a:lnTo>
                <a:lnTo>
                  <a:pt x="1430" y="11"/>
                </a:lnTo>
                <a:lnTo>
                  <a:pt x="1457" y="8"/>
                </a:lnTo>
                <a:lnTo>
                  <a:pt x="1482" y="4"/>
                </a:lnTo>
                <a:lnTo>
                  <a:pt x="1505" y="2"/>
                </a:lnTo>
                <a:lnTo>
                  <a:pt x="1528" y="0"/>
                </a:lnTo>
                <a:lnTo>
                  <a:pt x="1549" y="2"/>
                </a:lnTo>
                <a:lnTo>
                  <a:pt x="1558" y="2"/>
                </a:lnTo>
                <a:lnTo>
                  <a:pt x="1566" y="4"/>
                </a:lnTo>
                <a:lnTo>
                  <a:pt x="1576" y="6"/>
                </a:lnTo>
                <a:lnTo>
                  <a:pt x="1583" y="8"/>
                </a:lnTo>
                <a:lnTo>
                  <a:pt x="1591" y="10"/>
                </a:lnTo>
                <a:lnTo>
                  <a:pt x="1599" y="11"/>
                </a:lnTo>
                <a:lnTo>
                  <a:pt x="1612" y="17"/>
                </a:lnTo>
                <a:lnTo>
                  <a:pt x="1628" y="23"/>
                </a:lnTo>
                <a:lnTo>
                  <a:pt x="1643" y="27"/>
                </a:lnTo>
                <a:lnTo>
                  <a:pt x="1660" y="34"/>
                </a:lnTo>
                <a:lnTo>
                  <a:pt x="1677" y="40"/>
                </a:lnTo>
                <a:lnTo>
                  <a:pt x="1695" y="48"/>
                </a:lnTo>
                <a:lnTo>
                  <a:pt x="1712" y="57"/>
                </a:lnTo>
                <a:lnTo>
                  <a:pt x="1729" y="67"/>
                </a:lnTo>
                <a:lnTo>
                  <a:pt x="1743" y="82"/>
                </a:lnTo>
                <a:lnTo>
                  <a:pt x="1756" y="96"/>
                </a:lnTo>
                <a:lnTo>
                  <a:pt x="1770" y="109"/>
                </a:lnTo>
                <a:lnTo>
                  <a:pt x="1783" y="123"/>
                </a:lnTo>
                <a:lnTo>
                  <a:pt x="1795" y="134"/>
                </a:lnTo>
                <a:lnTo>
                  <a:pt x="1806" y="148"/>
                </a:lnTo>
                <a:lnTo>
                  <a:pt x="1816" y="163"/>
                </a:lnTo>
                <a:lnTo>
                  <a:pt x="1825" y="178"/>
                </a:lnTo>
                <a:lnTo>
                  <a:pt x="1829" y="192"/>
                </a:lnTo>
                <a:lnTo>
                  <a:pt x="1833" y="205"/>
                </a:lnTo>
                <a:lnTo>
                  <a:pt x="1835" y="219"/>
                </a:lnTo>
                <a:lnTo>
                  <a:pt x="1835" y="228"/>
                </a:lnTo>
                <a:lnTo>
                  <a:pt x="1835" y="238"/>
                </a:lnTo>
                <a:lnTo>
                  <a:pt x="1833" y="248"/>
                </a:lnTo>
                <a:lnTo>
                  <a:pt x="1829" y="253"/>
                </a:lnTo>
                <a:lnTo>
                  <a:pt x="1825" y="261"/>
                </a:lnTo>
                <a:lnTo>
                  <a:pt x="1821" y="261"/>
                </a:lnTo>
                <a:lnTo>
                  <a:pt x="1814" y="261"/>
                </a:lnTo>
                <a:lnTo>
                  <a:pt x="1806" y="259"/>
                </a:lnTo>
                <a:lnTo>
                  <a:pt x="1796" y="259"/>
                </a:lnTo>
                <a:lnTo>
                  <a:pt x="1785" y="259"/>
                </a:lnTo>
                <a:lnTo>
                  <a:pt x="1773" y="259"/>
                </a:lnTo>
                <a:lnTo>
                  <a:pt x="1758" y="259"/>
                </a:lnTo>
                <a:lnTo>
                  <a:pt x="1743" y="259"/>
                </a:lnTo>
                <a:lnTo>
                  <a:pt x="1725" y="257"/>
                </a:lnTo>
                <a:lnTo>
                  <a:pt x="1708" y="257"/>
                </a:lnTo>
                <a:lnTo>
                  <a:pt x="1687" y="255"/>
                </a:lnTo>
                <a:lnTo>
                  <a:pt x="1666" y="255"/>
                </a:lnTo>
                <a:lnTo>
                  <a:pt x="1643" y="253"/>
                </a:lnTo>
                <a:lnTo>
                  <a:pt x="1616" y="251"/>
                </a:lnTo>
                <a:lnTo>
                  <a:pt x="1591" y="249"/>
                </a:lnTo>
                <a:lnTo>
                  <a:pt x="1562" y="248"/>
                </a:lnTo>
                <a:lnTo>
                  <a:pt x="1533" y="242"/>
                </a:lnTo>
                <a:lnTo>
                  <a:pt x="1505" y="238"/>
                </a:lnTo>
                <a:lnTo>
                  <a:pt x="1476" y="234"/>
                </a:lnTo>
                <a:lnTo>
                  <a:pt x="1447" y="230"/>
                </a:lnTo>
                <a:lnTo>
                  <a:pt x="1420" y="228"/>
                </a:lnTo>
                <a:lnTo>
                  <a:pt x="1391" y="224"/>
                </a:lnTo>
                <a:lnTo>
                  <a:pt x="1338" y="223"/>
                </a:lnTo>
                <a:lnTo>
                  <a:pt x="1284" y="221"/>
                </a:lnTo>
                <a:lnTo>
                  <a:pt x="1232" y="219"/>
                </a:lnTo>
                <a:lnTo>
                  <a:pt x="1180" y="219"/>
                </a:lnTo>
                <a:lnTo>
                  <a:pt x="1130" y="219"/>
                </a:lnTo>
                <a:lnTo>
                  <a:pt x="1082" y="219"/>
                </a:lnTo>
                <a:lnTo>
                  <a:pt x="1034" y="219"/>
                </a:lnTo>
                <a:lnTo>
                  <a:pt x="986" y="221"/>
                </a:lnTo>
                <a:lnTo>
                  <a:pt x="940" y="223"/>
                </a:lnTo>
                <a:lnTo>
                  <a:pt x="894" y="224"/>
                </a:lnTo>
                <a:lnTo>
                  <a:pt x="871" y="228"/>
                </a:lnTo>
                <a:lnTo>
                  <a:pt x="848" y="230"/>
                </a:lnTo>
                <a:lnTo>
                  <a:pt x="825" y="234"/>
                </a:lnTo>
                <a:lnTo>
                  <a:pt x="804" y="238"/>
                </a:lnTo>
                <a:lnTo>
                  <a:pt x="781" y="242"/>
                </a:lnTo>
                <a:lnTo>
                  <a:pt x="758" y="248"/>
                </a:lnTo>
                <a:lnTo>
                  <a:pt x="668" y="257"/>
                </a:lnTo>
                <a:lnTo>
                  <a:pt x="624" y="263"/>
                </a:lnTo>
                <a:lnTo>
                  <a:pt x="578" y="269"/>
                </a:lnTo>
                <a:lnTo>
                  <a:pt x="531" y="276"/>
                </a:lnTo>
                <a:lnTo>
                  <a:pt x="484" y="284"/>
                </a:lnTo>
                <a:lnTo>
                  <a:pt x="436" y="292"/>
                </a:lnTo>
                <a:lnTo>
                  <a:pt x="388" y="3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81"/>
          <p:cNvSpPr/>
          <p:nvPr/>
        </p:nvSpPr>
        <p:spPr>
          <a:xfrm>
            <a:off x="6357960" y="4105440"/>
            <a:ext cx="182520" cy="284040"/>
          </a:xfrm>
          <a:custGeom>
            <a:avLst/>
            <a:gdLst/>
            <a:ahLst/>
            <a:rect l="l" t="t" r="r" b="b"/>
            <a:pathLst>
              <a:path w="228" h="359">
                <a:moveTo>
                  <a:pt x="10" y="11"/>
                </a:moveTo>
                <a:lnTo>
                  <a:pt x="11" y="7"/>
                </a:lnTo>
                <a:lnTo>
                  <a:pt x="15" y="5"/>
                </a:lnTo>
                <a:lnTo>
                  <a:pt x="19" y="3"/>
                </a:lnTo>
                <a:lnTo>
                  <a:pt x="23" y="2"/>
                </a:lnTo>
                <a:lnTo>
                  <a:pt x="31" y="0"/>
                </a:lnTo>
                <a:lnTo>
                  <a:pt x="42" y="0"/>
                </a:lnTo>
                <a:lnTo>
                  <a:pt x="54" y="0"/>
                </a:lnTo>
                <a:lnTo>
                  <a:pt x="67" y="2"/>
                </a:lnTo>
                <a:lnTo>
                  <a:pt x="81" y="5"/>
                </a:lnTo>
                <a:lnTo>
                  <a:pt x="94" y="11"/>
                </a:lnTo>
                <a:lnTo>
                  <a:pt x="105" y="17"/>
                </a:lnTo>
                <a:lnTo>
                  <a:pt x="119" y="23"/>
                </a:lnTo>
                <a:lnTo>
                  <a:pt x="130" y="32"/>
                </a:lnTo>
                <a:lnTo>
                  <a:pt x="142" y="42"/>
                </a:lnTo>
                <a:lnTo>
                  <a:pt x="153" y="51"/>
                </a:lnTo>
                <a:lnTo>
                  <a:pt x="165" y="65"/>
                </a:lnTo>
                <a:lnTo>
                  <a:pt x="176" y="78"/>
                </a:lnTo>
                <a:lnTo>
                  <a:pt x="190" y="94"/>
                </a:lnTo>
                <a:lnTo>
                  <a:pt x="196" y="101"/>
                </a:lnTo>
                <a:lnTo>
                  <a:pt x="201" y="109"/>
                </a:lnTo>
                <a:lnTo>
                  <a:pt x="207" y="117"/>
                </a:lnTo>
                <a:lnTo>
                  <a:pt x="211" y="124"/>
                </a:lnTo>
                <a:lnTo>
                  <a:pt x="215" y="134"/>
                </a:lnTo>
                <a:lnTo>
                  <a:pt x="219" y="142"/>
                </a:lnTo>
                <a:lnTo>
                  <a:pt x="223" y="149"/>
                </a:lnTo>
                <a:lnTo>
                  <a:pt x="224" y="159"/>
                </a:lnTo>
                <a:lnTo>
                  <a:pt x="226" y="169"/>
                </a:lnTo>
                <a:lnTo>
                  <a:pt x="228" y="178"/>
                </a:lnTo>
                <a:lnTo>
                  <a:pt x="228" y="188"/>
                </a:lnTo>
                <a:lnTo>
                  <a:pt x="228" y="199"/>
                </a:lnTo>
                <a:lnTo>
                  <a:pt x="228" y="209"/>
                </a:lnTo>
                <a:lnTo>
                  <a:pt x="228" y="220"/>
                </a:lnTo>
                <a:lnTo>
                  <a:pt x="226" y="232"/>
                </a:lnTo>
                <a:lnTo>
                  <a:pt x="224" y="245"/>
                </a:lnTo>
                <a:lnTo>
                  <a:pt x="223" y="259"/>
                </a:lnTo>
                <a:lnTo>
                  <a:pt x="221" y="270"/>
                </a:lnTo>
                <a:lnTo>
                  <a:pt x="217" y="282"/>
                </a:lnTo>
                <a:lnTo>
                  <a:pt x="215" y="291"/>
                </a:lnTo>
                <a:lnTo>
                  <a:pt x="211" y="301"/>
                </a:lnTo>
                <a:lnTo>
                  <a:pt x="207" y="311"/>
                </a:lnTo>
                <a:lnTo>
                  <a:pt x="205" y="318"/>
                </a:lnTo>
                <a:lnTo>
                  <a:pt x="201" y="326"/>
                </a:lnTo>
                <a:lnTo>
                  <a:pt x="198" y="334"/>
                </a:lnTo>
                <a:lnTo>
                  <a:pt x="194" y="339"/>
                </a:lnTo>
                <a:lnTo>
                  <a:pt x="192" y="343"/>
                </a:lnTo>
                <a:lnTo>
                  <a:pt x="188" y="349"/>
                </a:lnTo>
                <a:lnTo>
                  <a:pt x="184" y="351"/>
                </a:lnTo>
                <a:lnTo>
                  <a:pt x="182" y="355"/>
                </a:lnTo>
                <a:lnTo>
                  <a:pt x="180" y="355"/>
                </a:lnTo>
                <a:lnTo>
                  <a:pt x="176" y="357"/>
                </a:lnTo>
                <a:lnTo>
                  <a:pt x="175" y="359"/>
                </a:lnTo>
                <a:lnTo>
                  <a:pt x="171" y="359"/>
                </a:lnTo>
                <a:lnTo>
                  <a:pt x="167" y="359"/>
                </a:lnTo>
                <a:lnTo>
                  <a:pt x="163" y="359"/>
                </a:lnTo>
                <a:lnTo>
                  <a:pt x="159" y="357"/>
                </a:lnTo>
                <a:lnTo>
                  <a:pt x="155" y="355"/>
                </a:lnTo>
                <a:lnTo>
                  <a:pt x="150" y="351"/>
                </a:lnTo>
                <a:lnTo>
                  <a:pt x="144" y="345"/>
                </a:lnTo>
                <a:lnTo>
                  <a:pt x="138" y="339"/>
                </a:lnTo>
                <a:lnTo>
                  <a:pt x="132" y="334"/>
                </a:lnTo>
                <a:lnTo>
                  <a:pt x="127" y="326"/>
                </a:lnTo>
                <a:lnTo>
                  <a:pt x="119" y="316"/>
                </a:lnTo>
                <a:lnTo>
                  <a:pt x="113" y="307"/>
                </a:lnTo>
                <a:lnTo>
                  <a:pt x="105" y="297"/>
                </a:lnTo>
                <a:lnTo>
                  <a:pt x="100" y="286"/>
                </a:lnTo>
                <a:lnTo>
                  <a:pt x="94" y="272"/>
                </a:lnTo>
                <a:lnTo>
                  <a:pt x="84" y="261"/>
                </a:lnTo>
                <a:lnTo>
                  <a:pt x="77" y="247"/>
                </a:lnTo>
                <a:lnTo>
                  <a:pt x="69" y="236"/>
                </a:lnTo>
                <a:lnTo>
                  <a:pt x="61" y="222"/>
                </a:lnTo>
                <a:lnTo>
                  <a:pt x="48" y="199"/>
                </a:lnTo>
                <a:lnTo>
                  <a:pt x="38" y="178"/>
                </a:lnTo>
                <a:lnTo>
                  <a:pt x="29" y="155"/>
                </a:lnTo>
                <a:lnTo>
                  <a:pt x="21" y="134"/>
                </a:lnTo>
                <a:lnTo>
                  <a:pt x="13" y="115"/>
                </a:lnTo>
                <a:lnTo>
                  <a:pt x="10" y="94"/>
                </a:lnTo>
                <a:lnTo>
                  <a:pt x="6" y="78"/>
                </a:lnTo>
                <a:lnTo>
                  <a:pt x="2" y="65"/>
                </a:lnTo>
                <a:lnTo>
                  <a:pt x="0" y="51"/>
                </a:lnTo>
                <a:lnTo>
                  <a:pt x="0" y="42"/>
                </a:lnTo>
                <a:lnTo>
                  <a:pt x="0" y="32"/>
                </a:lnTo>
                <a:lnTo>
                  <a:pt x="2" y="23"/>
                </a:lnTo>
                <a:lnTo>
                  <a:pt x="6" y="17"/>
                </a:lnTo>
                <a:lnTo>
                  <a:pt x="10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82"/>
          <p:cNvSpPr/>
          <p:nvPr/>
        </p:nvSpPr>
        <p:spPr>
          <a:xfrm>
            <a:off x="6264360" y="3543480"/>
            <a:ext cx="201600" cy="502920"/>
          </a:xfrm>
          <a:custGeom>
            <a:avLst/>
            <a:gdLst/>
            <a:ahLst/>
            <a:rect l="l" t="t" r="r" b="b"/>
            <a:pathLst>
              <a:path w="253" h="636">
                <a:moveTo>
                  <a:pt x="21" y="125"/>
                </a:moveTo>
                <a:lnTo>
                  <a:pt x="15" y="117"/>
                </a:lnTo>
                <a:lnTo>
                  <a:pt x="11" y="110"/>
                </a:lnTo>
                <a:lnTo>
                  <a:pt x="9" y="102"/>
                </a:lnTo>
                <a:lnTo>
                  <a:pt x="6" y="96"/>
                </a:lnTo>
                <a:lnTo>
                  <a:pt x="4" y="83"/>
                </a:lnTo>
                <a:lnTo>
                  <a:pt x="0" y="69"/>
                </a:lnTo>
                <a:lnTo>
                  <a:pt x="0" y="56"/>
                </a:lnTo>
                <a:lnTo>
                  <a:pt x="2" y="43"/>
                </a:lnTo>
                <a:lnTo>
                  <a:pt x="4" y="29"/>
                </a:lnTo>
                <a:lnTo>
                  <a:pt x="8" y="14"/>
                </a:lnTo>
                <a:lnTo>
                  <a:pt x="11" y="10"/>
                </a:lnTo>
                <a:lnTo>
                  <a:pt x="15" y="6"/>
                </a:lnTo>
                <a:lnTo>
                  <a:pt x="21" y="2"/>
                </a:lnTo>
                <a:lnTo>
                  <a:pt x="29" y="0"/>
                </a:lnTo>
                <a:lnTo>
                  <a:pt x="36" y="0"/>
                </a:lnTo>
                <a:lnTo>
                  <a:pt x="46" y="0"/>
                </a:lnTo>
                <a:lnTo>
                  <a:pt x="56" y="2"/>
                </a:lnTo>
                <a:lnTo>
                  <a:pt x="69" y="4"/>
                </a:lnTo>
                <a:lnTo>
                  <a:pt x="81" y="6"/>
                </a:lnTo>
                <a:lnTo>
                  <a:pt x="96" y="10"/>
                </a:lnTo>
                <a:lnTo>
                  <a:pt x="111" y="16"/>
                </a:lnTo>
                <a:lnTo>
                  <a:pt x="127" y="21"/>
                </a:lnTo>
                <a:lnTo>
                  <a:pt x="144" y="29"/>
                </a:lnTo>
                <a:lnTo>
                  <a:pt x="161" y="37"/>
                </a:lnTo>
                <a:lnTo>
                  <a:pt x="180" y="46"/>
                </a:lnTo>
                <a:lnTo>
                  <a:pt x="200" y="56"/>
                </a:lnTo>
                <a:lnTo>
                  <a:pt x="200" y="64"/>
                </a:lnTo>
                <a:lnTo>
                  <a:pt x="201" y="75"/>
                </a:lnTo>
                <a:lnTo>
                  <a:pt x="201" y="87"/>
                </a:lnTo>
                <a:lnTo>
                  <a:pt x="201" y="100"/>
                </a:lnTo>
                <a:lnTo>
                  <a:pt x="203" y="114"/>
                </a:lnTo>
                <a:lnTo>
                  <a:pt x="205" y="131"/>
                </a:lnTo>
                <a:lnTo>
                  <a:pt x="207" y="148"/>
                </a:lnTo>
                <a:lnTo>
                  <a:pt x="209" y="165"/>
                </a:lnTo>
                <a:lnTo>
                  <a:pt x="211" y="187"/>
                </a:lnTo>
                <a:lnTo>
                  <a:pt x="215" y="208"/>
                </a:lnTo>
                <a:lnTo>
                  <a:pt x="217" y="231"/>
                </a:lnTo>
                <a:lnTo>
                  <a:pt x="221" y="254"/>
                </a:lnTo>
                <a:lnTo>
                  <a:pt x="224" y="279"/>
                </a:lnTo>
                <a:lnTo>
                  <a:pt x="228" y="306"/>
                </a:lnTo>
                <a:lnTo>
                  <a:pt x="232" y="332"/>
                </a:lnTo>
                <a:lnTo>
                  <a:pt x="236" y="359"/>
                </a:lnTo>
                <a:lnTo>
                  <a:pt x="238" y="375"/>
                </a:lnTo>
                <a:lnTo>
                  <a:pt x="238" y="390"/>
                </a:lnTo>
                <a:lnTo>
                  <a:pt x="240" y="403"/>
                </a:lnTo>
                <a:lnTo>
                  <a:pt x="240" y="419"/>
                </a:lnTo>
                <a:lnTo>
                  <a:pt x="242" y="444"/>
                </a:lnTo>
                <a:lnTo>
                  <a:pt x="244" y="469"/>
                </a:lnTo>
                <a:lnTo>
                  <a:pt x="246" y="492"/>
                </a:lnTo>
                <a:lnTo>
                  <a:pt x="248" y="513"/>
                </a:lnTo>
                <a:lnTo>
                  <a:pt x="249" y="530"/>
                </a:lnTo>
                <a:lnTo>
                  <a:pt x="251" y="547"/>
                </a:lnTo>
                <a:lnTo>
                  <a:pt x="251" y="563"/>
                </a:lnTo>
                <a:lnTo>
                  <a:pt x="253" y="576"/>
                </a:lnTo>
                <a:lnTo>
                  <a:pt x="253" y="590"/>
                </a:lnTo>
                <a:lnTo>
                  <a:pt x="253" y="599"/>
                </a:lnTo>
                <a:lnTo>
                  <a:pt x="251" y="607"/>
                </a:lnTo>
                <a:lnTo>
                  <a:pt x="251" y="615"/>
                </a:lnTo>
                <a:lnTo>
                  <a:pt x="249" y="618"/>
                </a:lnTo>
                <a:lnTo>
                  <a:pt x="248" y="622"/>
                </a:lnTo>
                <a:lnTo>
                  <a:pt x="244" y="626"/>
                </a:lnTo>
                <a:lnTo>
                  <a:pt x="238" y="630"/>
                </a:lnTo>
                <a:lnTo>
                  <a:pt x="230" y="634"/>
                </a:lnTo>
                <a:lnTo>
                  <a:pt x="224" y="634"/>
                </a:lnTo>
                <a:lnTo>
                  <a:pt x="217" y="636"/>
                </a:lnTo>
                <a:lnTo>
                  <a:pt x="211" y="636"/>
                </a:lnTo>
                <a:lnTo>
                  <a:pt x="205" y="636"/>
                </a:lnTo>
                <a:lnTo>
                  <a:pt x="200" y="636"/>
                </a:lnTo>
                <a:lnTo>
                  <a:pt x="198" y="636"/>
                </a:lnTo>
                <a:lnTo>
                  <a:pt x="196" y="636"/>
                </a:lnTo>
                <a:lnTo>
                  <a:pt x="192" y="632"/>
                </a:lnTo>
                <a:lnTo>
                  <a:pt x="186" y="628"/>
                </a:lnTo>
                <a:lnTo>
                  <a:pt x="182" y="620"/>
                </a:lnTo>
                <a:lnTo>
                  <a:pt x="176" y="613"/>
                </a:lnTo>
                <a:lnTo>
                  <a:pt x="173" y="601"/>
                </a:lnTo>
                <a:lnTo>
                  <a:pt x="167" y="590"/>
                </a:lnTo>
                <a:lnTo>
                  <a:pt x="163" y="576"/>
                </a:lnTo>
                <a:lnTo>
                  <a:pt x="157" y="561"/>
                </a:lnTo>
                <a:lnTo>
                  <a:pt x="152" y="542"/>
                </a:lnTo>
                <a:lnTo>
                  <a:pt x="146" y="522"/>
                </a:lnTo>
                <a:lnTo>
                  <a:pt x="140" y="501"/>
                </a:lnTo>
                <a:lnTo>
                  <a:pt x="134" y="480"/>
                </a:lnTo>
                <a:lnTo>
                  <a:pt x="129" y="455"/>
                </a:lnTo>
                <a:lnTo>
                  <a:pt x="123" y="428"/>
                </a:lnTo>
                <a:lnTo>
                  <a:pt x="117" y="402"/>
                </a:lnTo>
                <a:lnTo>
                  <a:pt x="109" y="373"/>
                </a:lnTo>
                <a:lnTo>
                  <a:pt x="104" y="348"/>
                </a:lnTo>
                <a:lnTo>
                  <a:pt x="98" y="323"/>
                </a:lnTo>
                <a:lnTo>
                  <a:pt x="92" y="300"/>
                </a:lnTo>
                <a:lnTo>
                  <a:pt x="84" y="279"/>
                </a:lnTo>
                <a:lnTo>
                  <a:pt x="79" y="258"/>
                </a:lnTo>
                <a:lnTo>
                  <a:pt x="73" y="238"/>
                </a:lnTo>
                <a:lnTo>
                  <a:pt x="69" y="221"/>
                </a:lnTo>
                <a:lnTo>
                  <a:pt x="63" y="206"/>
                </a:lnTo>
                <a:lnTo>
                  <a:pt x="57" y="190"/>
                </a:lnTo>
                <a:lnTo>
                  <a:pt x="52" y="177"/>
                </a:lnTo>
                <a:lnTo>
                  <a:pt x="46" y="164"/>
                </a:lnTo>
                <a:lnTo>
                  <a:pt x="38" y="152"/>
                </a:lnTo>
                <a:lnTo>
                  <a:pt x="33" y="142"/>
                </a:lnTo>
                <a:lnTo>
                  <a:pt x="27" y="133"/>
                </a:lnTo>
                <a:lnTo>
                  <a:pt x="21" y="1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83"/>
          <p:cNvSpPr/>
          <p:nvPr/>
        </p:nvSpPr>
        <p:spPr>
          <a:xfrm>
            <a:off x="6432480" y="3840120"/>
            <a:ext cx="561960" cy="141480"/>
          </a:xfrm>
          <a:custGeom>
            <a:avLst/>
            <a:gdLst/>
            <a:ahLst/>
            <a:rect l="l" t="t" r="r" b="b"/>
            <a:pathLst>
              <a:path w="706" h="178">
                <a:moveTo>
                  <a:pt x="0" y="69"/>
                </a:moveTo>
                <a:lnTo>
                  <a:pt x="29" y="63"/>
                </a:lnTo>
                <a:lnTo>
                  <a:pt x="58" y="59"/>
                </a:lnTo>
                <a:lnTo>
                  <a:pt x="86" y="57"/>
                </a:lnTo>
                <a:lnTo>
                  <a:pt x="115" y="53"/>
                </a:lnTo>
                <a:lnTo>
                  <a:pt x="142" y="50"/>
                </a:lnTo>
                <a:lnTo>
                  <a:pt x="169" y="46"/>
                </a:lnTo>
                <a:lnTo>
                  <a:pt x="194" y="42"/>
                </a:lnTo>
                <a:lnTo>
                  <a:pt x="219" y="40"/>
                </a:lnTo>
                <a:lnTo>
                  <a:pt x="244" y="36"/>
                </a:lnTo>
                <a:lnTo>
                  <a:pt x="267" y="32"/>
                </a:lnTo>
                <a:lnTo>
                  <a:pt x="290" y="30"/>
                </a:lnTo>
                <a:lnTo>
                  <a:pt x="311" y="27"/>
                </a:lnTo>
                <a:lnTo>
                  <a:pt x="334" y="25"/>
                </a:lnTo>
                <a:lnTo>
                  <a:pt x="353" y="23"/>
                </a:lnTo>
                <a:lnTo>
                  <a:pt x="374" y="19"/>
                </a:lnTo>
                <a:lnTo>
                  <a:pt x="393" y="17"/>
                </a:lnTo>
                <a:lnTo>
                  <a:pt x="411" y="15"/>
                </a:lnTo>
                <a:lnTo>
                  <a:pt x="430" y="13"/>
                </a:lnTo>
                <a:lnTo>
                  <a:pt x="445" y="11"/>
                </a:lnTo>
                <a:lnTo>
                  <a:pt x="463" y="9"/>
                </a:lnTo>
                <a:lnTo>
                  <a:pt x="478" y="7"/>
                </a:lnTo>
                <a:lnTo>
                  <a:pt x="493" y="5"/>
                </a:lnTo>
                <a:lnTo>
                  <a:pt x="507" y="5"/>
                </a:lnTo>
                <a:lnTo>
                  <a:pt x="520" y="3"/>
                </a:lnTo>
                <a:lnTo>
                  <a:pt x="532" y="2"/>
                </a:lnTo>
                <a:lnTo>
                  <a:pt x="543" y="2"/>
                </a:lnTo>
                <a:lnTo>
                  <a:pt x="555" y="2"/>
                </a:lnTo>
                <a:lnTo>
                  <a:pt x="564" y="0"/>
                </a:lnTo>
                <a:lnTo>
                  <a:pt x="574" y="0"/>
                </a:lnTo>
                <a:lnTo>
                  <a:pt x="583" y="0"/>
                </a:lnTo>
                <a:lnTo>
                  <a:pt x="591" y="0"/>
                </a:lnTo>
                <a:lnTo>
                  <a:pt x="599" y="0"/>
                </a:lnTo>
                <a:lnTo>
                  <a:pt x="612" y="0"/>
                </a:lnTo>
                <a:lnTo>
                  <a:pt x="624" y="0"/>
                </a:lnTo>
                <a:lnTo>
                  <a:pt x="635" y="0"/>
                </a:lnTo>
                <a:lnTo>
                  <a:pt x="645" y="2"/>
                </a:lnTo>
                <a:lnTo>
                  <a:pt x="654" y="2"/>
                </a:lnTo>
                <a:lnTo>
                  <a:pt x="664" y="3"/>
                </a:lnTo>
                <a:lnTo>
                  <a:pt x="672" y="5"/>
                </a:lnTo>
                <a:lnTo>
                  <a:pt x="679" y="7"/>
                </a:lnTo>
                <a:lnTo>
                  <a:pt x="685" y="9"/>
                </a:lnTo>
                <a:lnTo>
                  <a:pt x="691" y="11"/>
                </a:lnTo>
                <a:lnTo>
                  <a:pt x="697" y="13"/>
                </a:lnTo>
                <a:lnTo>
                  <a:pt x="701" y="17"/>
                </a:lnTo>
                <a:lnTo>
                  <a:pt x="702" y="19"/>
                </a:lnTo>
                <a:lnTo>
                  <a:pt x="704" y="21"/>
                </a:lnTo>
                <a:lnTo>
                  <a:pt x="706" y="23"/>
                </a:lnTo>
                <a:lnTo>
                  <a:pt x="706" y="27"/>
                </a:lnTo>
                <a:lnTo>
                  <a:pt x="706" y="36"/>
                </a:lnTo>
                <a:lnTo>
                  <a:pt x="704" y="44"/>
                </a:lnTo>
                <a:lnTo>
                  <a:pt x="702" y="51"/>
                </a:lnTo>
                <a:lnTo>
                  <a:pt x="699" y="59"/>
                </a:lnTo>
                <a:lnTo>
                  <a:pt x="695" y="65"/>
                </a:lnTo>
                <a:lnTo>
                  <a:pt x="691" y="71"/>
                </a:lnTo>
                <a:lnTo>
                  <a:pt x="683" y="82"/>
                </a:lnTo>
                <a:lnTo>
                  <a:pt x="674" y="86"/>
                </a:lnTo>
                <a:lnTo>
                  <a:pt x="662" y="92"/>
                </a:lnTo>
                <a:lnTo>
                  <a:pt x="651" y="96"/>
                </a:lnTo>
                <a:lnTo>
                  <a:pt x="637" y="101"/>
                </a:lnTo>
                <a:lnTo>
                  <a:pt x="624" y="103"/>
                </a:lnTo>
                <a:lnTo>
                  <a:pt x="608" y="107"/>
                </a:lnTo>
                <a:lnTo>
                  <a:pt x="591" y="109"/>
                </a:lnTo>
                <a:lnTo>
                  <a:pt x="574" y="109"/>
                </a:lnTo>
                <a:lnTo>
                  <a:pt x="568" y="109"/>
                </a:lnTo>
                <a:lnTo>
                  <a:pt x="562" y="109"/>
                </a:lnTo>
                <a:lnTo>
                  <a:pt x="555" y="109"/>
                </a:lnTo>
                <a:lnTo>
                  <a:pt x="547" y="111"/>
                </a:lnTo>
                <a:lnTo>
                  <a:pt x="537" y="111"/>
                </a:lnTo>
                <a:lnTo>
                  <a:pt x="528" y="111"/>
                </a:lnTo>
                <a:lnTo>
                  <a:pt x="518" y="113"/>
                </a:lnTo>
                <a:lnTo>
                  <a:pt x="507" y="115"/>
                </a:lnTo>
                <a:lnTo>
                  <a:pt x="495" y="115"/>
                </a:lnTo>
                <a:lnTo>
                  <a:pt x="482" y="117"/>
                </a:lnTo>
                <a:lnTo>
                  <a:pt x="468" y="119"/>
                </a:lnTo>
                <a:lnTo>
                  <a:pt x="455" y="121"/>
                </a:lnTo>
                <a:lnTo>
                  <a:pt x="440" y="123"/>
                </a:lnTo>
                <a:lnTo>
                  <a:pt x="424" y="124"/>
                </a:lnTo>
                <a:lnTo>
                  <a:pt x="409" y="126"/>
                </a:lnTo>
                <a:lnTo>
                  <a:pt x="392" y="128"/>
                </a:lnTo>
                <a:lnTo>
                  <a:pt x="374" y="130"/>
                </a:lnTo>
                <a:lnTo>
                  <a:pt x="355" y="132"/>
                </a:lnTo>
                <a:lnTo>
                  <a:pt x="336" y="136"/>
                </a:lnTo>
                <a:lnTo>
                  <a:pt x="315" y="138"/>
                </a:lnTo>
                <a:lnTo>
                  <a:pt x="296" y="140"/>
                </a:lnTo>
                <a:lnTo>
                  <a:pt x="273" y="144"/>
                </a:lnTo>
                <a:lnTo>
                  <a:pt x="249" y="146"/>
                </a:lnTo>
                <a:lnTo>
                  <a:pt x="226" y="149"/>
                </a:lnTo>
                <a:lnTo>
                  <a:pt x="203" y="153"/>
                </a:lnTo>
                <a:lnTo>
                  <a:pt x="178" y="157"/>
                </a:lnTo>
                <a:lnTo>
                  <a:pt x="152" y="159"/>
                </a:lnTo>
                <a:lnTo>
                  <a:pt x="125" y="163"/>
                </a:lnTo>
                <a:lnTo>
                  <a:pt x="98" y="167"/>
                </a:lnTo>
                <a:lnTo>
                  <a:pt x="69" y="170"/>
                </a:lnTo>
                <a:lnTo>
                  <a:pt x="40" y="174"/>
                </a:lnTo>
                <a:lnTo>
                  <a:pt x="11" y="178"/>
                </a:lnTo>
                <a:lnTo>
                  <a:pt x="6" y="123"/>
                </a:lnTo>
                <a:lnTo>
                  <a:pt x="0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84"/>
          <p:cNvSpPr/>
          <p:nvPr/>
        </p:nvSpPr>
        <p:spPr>
          <a:xfrm>
            <a:off x="6384960" y="3433680"/>
            <a:ext cx="770040" cy="438120"/>
          </a:xfrm>
          <a:custGeom>
            <a:avLst/>
            <a:gdLst/>
            <a:ahLst/>
            <a:rect l="l" t="t" r="r" b="b"/>
            <a:pathLst>
              <a:path w="971" h="553">
                <a:moveTo>
                  <a:pt x="635" y="42"/>
                </a:moveTo>
                <a:lnTo>
                  <a:pt x="648" y="31"/>
                </a:lnTo>
                <a:lnTo>
                  <a:pt x="662" y="23"/>
                </a:lnTo>
                <a:lnTo>
                  <a:pt x="675" y="16"/>
                </a:lnTo>
                <a:lnTo>
                  <a:pt x="687" y="10"/>
                </a:lnTo>
                <a:lnTo>
                  <a:pt x="696" y="6"/>
                </a:lnTo>
                <a:lnTo>
                  <a:pt x="706" y="2"/>
                </a:lnTo>
                <a:lnTo>
                  <a:pt x="710" y="2"/>
                </a:lnTo>
                <a:lnTo>
                  <a:pt x="714" y="0"/>
                </a:lnTo>
                <a:lnTo>
                  <a:pt x="717" y="0"/>
                </a:lnTo>
                <a:lnTo>
                  <a:pt x="719" y="0"/>
                </a:lnTo>
                <a:lnTo>
                  <a:pt x="721" y="0"/>
                </a:lnTo>
                <a:lnTo>
                  <a:pt x="725" y="2"/>
                </a:lnTo>
                <a:lnTo>
                  <a:pt x="731" y="4"/>
                </a:lnTo>
                <a:lnTo>
                  <a:pt x="735" y="6"/>
                </a:lnTo>
                <a:lnTo>
                  <a:pt x="740" y="8"/>
                </a:lnTo>
                <a:lnTo>
                  <a:pt x="748" y="12"/>
                </a:lnTo>
                <a:lnTo>
                  <a:pt x="756" y="16"/>
                </a:lnTo>
                <a:lnTo>
                  <a:pt x="765" y="21"/>
                </a:lnTo>
                <a:lnTo>
                  <a:pt x="773" y="27"/>
                </a:lnTo>
                <a:lnTo>
                  <a:pt x="785" y="33"/>
                </a:lnTo>
                <a:lnTo>
                  <a:pt x="796" y="39"/>
                </a:lnTo>
                <a:lnTo>
                  <a:pt x="808" y="46"/>
                </a:lnTo>
                <a:lnTo>
                  <a:pt x="819" y="54"/>
                </a:lnTo>
                <a:lnTo>
                  <a:pt x="835" y="64"/>
                </a:lnTo>
                <a:lnTo>
                  <a:pt x="848" y="73"/>
                </a:lnTo>
                <a:lnTo>
                  <a:pt x="863" y="83"/>
                </a:lnTo>
                <a:lnTo>
                  <a:pt x="877" y="96"/>
                </a:lnTo>
                <a:lnTo>
                  <a:pt x="888" y="108"/>
                </a:lnTo>
                <a:lnTo>
                  <a:pt x="900" y="119"/>
                </a:lnTo>
                <a:lnTo>
                  <a:pt x="909" y="131"/>
                </a:lnTo>
                <a:lnTo>
                  <a:pt x="919" y="140"/>
                </a:lnTo>
                <a:lnTo>
                  <a:pt x="929" y="150"/>
                </a:lnTo>
                <a:lnTo>
                  <a:pt x="936" y="158"/>
                </a:lnTo>
                <a:lnTo>
                  <a:pt x="944" y="167"/>
                </a:lnTo>
                <a:lnTo>
                  <a:pt x="950" y="173"/>
                </a:lnTo>
                <a:lnTo>
                  <a:pt x="955" y="181"/>
                </a:lnTo>
                <a:lnTo>
                  <a:pt x="959" y="186"/>
                </a:lnTo>
                <a:lnTo>
                  <a:pt x="963" y="192"/>
                </a:lnTo>
                <a:lnTo>
                  <a:pt x="967" y="196"/>
                </a:lnTo>
                <a:lnTo>
                  <a:pt x="969" y="202"/>
                </a:lnTo>
                <a:lnTo>
                  <a:pt x="971" y="204"/>
                </a:lnTo>
                <a:lnTo>
                  <a:pt x="971" y="207"/>
                </a:lnTo>
                <a:lnTo>
                  <a:pt x="971" y="213"/>
                </a:lnTo>
                <a:lnTo>
                  <a:pt x="969" y="217"/>
                </a:lnTo>
                <a:lnTo>
                  <a:pt x="969" y="221"/>
                </a:lnTo>
                <a:lnTo>
                  <a:pt x="967" y="227"/>
                </a:lnTo>
                <a:lnTo>
                  <a:pt x="965" y="231"/>
                </a:lnTo>
                <a:lnTo>
                  <a:pt x="961" y="234"/>
                </a:lnTo>
                <a:lnTo>
                  <a:pt x="954" y="240"/>
                </a:lnTo>
                <a:lnTo>
                  <a:pt x="946" y="246"/>
                </a:lnTo>
                <a:lnTo>
                  <a:pt x="936" y="252"/>
                </a:lnTo>
                <a:lnTo>
                  <a:pt x="923" y="257"/>
                </a:lnTo>
                <a:lnTo>
                  <a:pt x="911" y="263"/>
                </a:lnTo>
                <a:lnTo>
                  <a:pt x="902" y="265"/>
                </a:lnTo>
                <a:lnTo>
                  <a:pt x="892" y="271"/>
                </a:lnTo>
                <a:lnTo>
                  <a:pt x="884" y="275"/>
                </a:lnTo>
                <a:lnTo>
                  <a:pt x="875" y="280"/>
                </a:lnTo>
                <a:lnTo>
                  <a:pt x="867" y="288"/>
                </a:lnTo>
                <a:lnTo>
                  <a:pt x="858" y="296"/>
                </a:lnTo>
                <a:lnTo>
                  <a:pt x="850" y="303"/>
                </a:lnTo>
                <a:lnTo>
                  <a:pt x="840" y="313"/>
                </a:lnTo>
                <a:lnTo>
                  <a:pt x="833" y="323"/>
                </a:lnTo>
                <a:lnTo>
                  <a:pt x="823" y="334"/>
                </a:lnTo>
                <a:lnTo>
                  <a:pt x="815" y="346"/>
                </a:lnTo>
                <a:lnTo>
                  <a:pt x="808" y="357"/>
                </a:lnTo>
                <a:lnTo>
                  <a:pt x="800" y="371"/>
                </a:lnTo>
                <a:lnTo>
                  <a:pt x="792" y="386"/>
                </a:lnTo>
                <a:lnTo>
                  <a:pt x="787" y="399"/>
                </a:lnTo>
                <a:lnTo>
                  <a:pt x="779" y="415"/>
                </a:lnTo>
                <a:lnTo>
                  <a:pt x="771" y="432"/>
                </a:lnTo>
                <a:lnTo>
                  <a:pt x="762" y="449"/>
                </a:lnTo>
                <a:lnTo>
                  <a:pt x="752" y="465"/>
                </a:lnTo>
                <a:lnTo>
                  <a:pt x="740" y="478"/>
                </a:lnTo>
                <a:lnTo>
                  <a:pt x="731" y="490"/>
                </a:lnTo>
                <a:lnTo>
                  <a:pt x="719" y="501"/>
                </a:lnTo>
                <a:lnTo>
                  <a:pt x="708" y="511"/>
                </a:lnTo>
                <a:lnTo>
                  <a:pt x="696" y="520"/>
                </a:lnTo>
                <a:lnTo>
                  <a:pt x="685" y="528"/>
                </a:lnTo>
                <a:lnTo>
                  <a:pt x="673" y="536"/>
                </a:lnTo>
                <a:lnTo>
                  <a:pt x="660" y="541"/>
                </a:lnTo>
                <a:lnTo>
                  <a:pt x="646" y="545"/>
                </a:lnTo>
                <a:lnTo>
                  <a:pt x="633" y="549"/>
                </a:lnTo>
                <a:lnTo>
                  <a:pt x="618" y="551"/>
                </a:lnTo>
                <a:lnTo>
                  <a:pt x="602" y="553"/>
                </a:lnTo>
                <a:lnTo>
                  <a:pt x="587" y="553"/>
                </a:lnTo>
                <a:lnTo>
                  <a:pt x="595" y="526"/>
                </a:lnTo>
                <a:lnTo>
                  <a:pt x="600" y="499"/>
                </a:lnTo>
                <a:lnTo>
                  <a:pt x="606" y="474"/>
                </a:lnTo>
                <a:lnTo>
                  <a:pt x="612" y="451"/>
                </a:lnTo>
                <a:lnTo>
                  <a:pt x="618" y="430"/>
                </a:lnTo>
                <a:lnTo>
                  <a:pt x="621" y="409"/>
                </a:lnTo>
                <a:lnTo>
                  <a:pt x="627" y="392"/>
                </a:lnTo>
                <a:lnTo>
                  <a:pt x="631" y="373"/>
                </a:lnTo>
                <a:lnTo>
                  <a:pt x="635" y="357"/>
                </a:lnTo>
                <a:lnTo>
                  <a:pt x="637" y="342"/>
                </a:lnTo>
                <a:lnTo>
                  <a:pt x="641" y="328"/>
                </a:lnTo>
                <a:lnTo>
                  <a:pt x="643" y="317"/>
                </a:lnTo>
                <a:lnTo>
                  <a:pt x="644" y="305"/>
                </a:lnTo>
                <a:lnTo>
                  <a:pt x="646" y="294"/>
                </a:lnTo>
                <a:lnTo>
                  <a:pt x="646" y="284"/>
                </a:lnTo>
                <a:lnTo>
                  <a:pt x="648" y="277"/>
                </a:lnTo>
                <a:lnTo>
                  <a:pt x="648" y="261"/>
                </a:lnTo>
                <a:lnTo>
                  <a:pt x="646" y="248"/>
                </a:lnTo>
                <a:lnTo>
                  <a:pt x="646" y="236"/>
                </a:lnTo>
                <a:lnTo>
                  <a:pt x="646" y="225"/>
                </a:lnTo>
                <a:lnTo>
                  <a:pt x="644" y="215"/>
                </a:lnTo>
                <a:lnTo>
                  <a:pt x="643" y="207"/>
                </a:lnTo>
                <a:lnTo>
                  <a:pt x="639" y="200"/>
                </a:lnTo>
                <a:lnTo>
                  <a:pt x="635" y="194"/>
                </a:lnTo>
                <a:lnTo>
                  <a:pt x="633" y="192"/>
                </a:lnTo>
                <a:lnTo>
                  <a:pt x="631" y="192"/>
                </a:lnTo>
                <a:lnTo>
                  <a:pt x="627" y="190"/>
                </a:lnTo>
                <a:lnTo>
                  <a:pt x="621" y="190"/>
                </a:lnTo>
                <a:lnTo>
                  <a:pt x="616" y="190"/>
                </a:lnTo>
                <a:lnTo>
                  <a:pt x="608" y="192"/>
                </a:lnTo>
                <a:lnTo>
                  <a:pt x="598" y="192"/>
                </a:lnTo>
                <a:lnTo>
                  <a:pt x="589" y="194"/>
                </a:lnTo>
                <a:lnTo>
                  <a:pt x="577" y="194"/>
                </a:lnTo>
                <a:lnTo>
                  <a:pt x="564" y="196"/>
                </a:lnTo>
                <a:lnTo>
                  <a:pt x="550" y="198"/>
                </a:lnTo>
                <a:lnTo>
                  <a:pt x="537" y="200"/>
                </a:lnTo>
                <a:lnTo>
                  <a:pt x="520" y="204"/>
                </a:lnTo>
                <a:lnTo>
                  <a:pt x="504" y="206"/>
                </a:lnTo>
                <a:lnTo>
                  <a:pt x="485" y="209"/>
                </a:lnTo>
                <a:lnTo>
                  <a:pt x="466" y="211"/>
                </a:lnTo>
                <a:lnTo>
                  <a:pt x="445" y="215"/>
                </a:lnTo>
                <a:lnTo>
                  <a:pt x="424" y="219"/>
                </a:lnTo>
                <a:lnTo>
                  <a:pt x="401" y="225"/>
                </a:lnTo>
                <a:lnTo>
                  <a:pt x="378" y="229"/>
                </a:lnTo>
                <a:lnTo>
                  <a:pt x="353" y="234"/>
                </a:lnTo>
                <a:lnTo>
                  <a:pt x="326" y="238"/>
                </a:lnTo>
                <a:lnTo>
                  <a:pt x="299" y="244"/>
                </a:lnTo>
                <a:lnTo>
                  <a:pt x="270" y="250"/>
                </a:lnTo>
                <a:lnTo>
                  <a:pt x="239" y="255"/>
                </a:lnTo>
                <a:lnTo>
                  <a:pt x="209" y="261"/>
                </a:lnTo>
                <a:lnTo>
                  <a:pt x="176" y="269"/>
                </a:lnTo>
                <a:lnTo>
                  <a:pt x="143" y="275"/>
                </a:lnTo>
                <a:lnTo>
                  <a:pt x="109" y="282"/>
                </a:lnTo>
                <a:lnTo>
                  <a:pt x="74" y="290"/>
                </a:lnTo>
                <a:lnTo>
                  <a:pt x="38" y="296"/>
                </a:lnTo>
                <a:lnTo>
                  <a:pt x="0" y="305"/>
                </a:lnTo>
                <a:lnTo>
                  <a:pt x="0" y="242"/>
                </a:lnTo>
                <a:lnTo>
                  <a:pt x="0" y="181"/>
                </a:lnTo>
                <a:lnTo>
                  <a:pt x="36" y="179"/>
                </a:lnTo>
                <a:lnTo>
                  <a:pt x="55" y="179"/>
                </a:lnTo>
                <a:lnTo>
                  <a:pt x="74" y="179"/>
                </a:lnTo>
                <a:lnTo>
                  <a:pt x="94" y="177"/>
                </a:lnTo>
                <a:lnTo>
                  <a:pt x="113" y="175"/>
                </a:lnTo>
                <a:lnTo>
                  <a:pt x="134" y="171"/>
                </a:lnTo>
                <a:lnTo>
                  <a:pt x="157" y="167"/>
                </a:lnTo>
                <a:lnTo>
                  <a:pt x="165" y="163"/>
                </a:lnTo>
                <a:lnTo>
                  <a:pt x="176" y="161"/>
                </a:lnTo>
                <a:lnTo>
                  <a:pt x="186" y="158"/>
                </a:lnTo>
                <a:lnTo>
                  <a:pt x="199" y="156"/>
                </a:lnTo>
                <a:lnTo>
                  <a:pt x="211" y="152"/>
                </a:lnTo>
                <a:lnTo>
                  <a:pt x="224" y="150"/>
                </a:lnTo>
                <a:lnTo>
                  <a:pt x="239" y="146"/>
                </a:lnTo>
                <a:lnTo>
                  <a:pt x="255" y="144"/>
                </a:lnTo>
                <a:lnTo>
                  <a:pt x="270" y="140"/>
                </a:lnTo>
                <a:lnTo>
                  <a:pt x="287" y="136"/>
                </a:lnTo>
                <a:lnTo>
                  <a:pt x="307" y="133"/>
                </a:lnTo>
                <a:lnTo>
                  <a:pt x="324" y="129"/>
                </a:lnTo>
                <a:lnTo>
                  <a:pt x="343" y="125"/>
                </a:lnTo>
                <a:lnTo>
                  <a:pt x="364" y="121"/>
                </a:lnTo>
                <a:lnTo>
                  <a:pt x="385" y="115"/>
                </a:lnTo>
                <a:lnTo>
                  <a:pt x="408" y="112"/>
                </a:lnTo>
                <a:lnTo>
                  <a:pt x="428" y="106"/>
                </a:lnTo>
                <a:lnTo>
                  <a:pt x="447" y="100"/>
                </a:lnTo>
                <a:lnTo>
                  <a:pt x="466" y="96"/>
                </a:lnTo>
                <a:lnTo>
                  <a:pt x="483" y="90"/>
                </a:lnTo>
                <a:lnTo>
                  <a:pt x="501" y="85"/>
                </a:lnTo>
                <a:lnTo>
                  <a:pt x="518" y="81"/>
                </a:lnTo>
                <a:lnTo>
                  <a:pt x="533" y="75"/>
                </a:lnTo>
                <a:lnTo>
                  <a:pt x="549" y="71"/>
                </a:lnTo>
                <a:lnTo>
                  <a:pt x="562" y="67"/>
                </a:lnTo>
                <a:lnTo>
                  <a:pt x="575" y="62"/>
                </a:lnTo>
                <a:lnTo>
                  <a:pt x="589" y="58"/>
                </a:lnTo>
                <a:lnTo>
                  <a:pt x="600" y="54"/>
                </a:lnTo>
                <a:lnTo>
                  <a:pt x="610" y="50"/>
                </a:lnTo>
                <a:lnTo>
                  <a:pt x="620" y="48"/>
                </a:lnTo>
                <a:lnTo>
                  <a:pt x="627" y="44"/>
                </a:lnTo>
                <a:lnTo>
                  <a:pt x="635" y="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85"/>
          <p:cNvSpPr/>
          <p:nvPr/>
        </p:nvSpPr>
        <p:spPr>
          <a:xfrm>
            <a:off x="6461280" y="3137040"/>
            <a:ext cx="485640" cy="201600"/>
          </a:xfrm>
          <a:custGeom>
            <a:avLst/>
            <a:gdLst/>
            <a:ahLst/>
            <a:rect l="l" t="t" r="r" b="b"/>
            <a:pathLst>
              <a:path w="612" h="253">
                <a:moveTo>
                  <a:pt x="36" y="221"/>
                </a:moveTo>
                <a:lnTo>
                  <a:pt x="28" y="211"/>
                </a:lnTo>
                <a:lnTo>
                  <a:pt x="21" y="201"/>
                </a:lnTo>
                <a:lnTo>
                  <a:pt x="15" y="194"/>
                </a:lnTo>
                <a:lnTo>
                  <a:pt x="9" y="188"/>
                </a:lnTo>
                <a:lnTo>
                  <a:pt x="5" y="180"/>
                </a:lnTo>
                <a:lnTo>
                  <a:pt x="1" y="176"/>
                </a:lnTo>
                <a:lnTo>
                  <a:pt x="1" y="171"/>
                </a:lnTo>
                <a:lnTo>
                  <a:pt x="0" y="165"/>
                </a:lnTo>
                <a:lnTo>
                  <a:pt x="1" y="163"/>
                </a:lnTo>
                <a:lnTo>
                  <a:pt x="3" y="159"/>
                </a:lnTo>
                <a:lnTo>
                  <a:pt x="7" y="155"/>
                </a:lnTo>
                <a:lnTo>
                  <a:pt x="13" y="151"/>
                </a:lnTo>
                <a:lnTo>
                  <a:pt x="21" y="148"/>
                </a:lnTo>
                <a:lnTo>
                  <a:pt x="30" y="144"/>
                </a:lnTo>
                <a:lnTo>
                  <a:pt x="40" y="138"/>
                </a:lnTo>
                <a:lnTo>
                  <a:pt x="53" y="132"/>
                </a:lnTo>
                <a:lnTo>
                  <a:pt x="67" y="126"/>
                </a:lnTo>
                <a:lnTo>
                  <a:pt x="82" y="119"/>
                </a:lnTo>
                <a:lnTo>
                  <a:pt x="97" y="113"/>
                </a:lnTo>
                <a:lnTo>
                  <a:pt x="117" y="105"/>
                </a:lnTo>
                <a:lnTo>
                  <a:pt x="136" y="96"/>
                </a:lnTo>
                <a:lnTo>
                  <a:pt x="157" y="88"/>
                </a:lnTo>
                <a:lnTo>
                  <a:pt x="180" y="79"/>
                </a:lnTo>
                <a:lnTo>
                  <a:pt x="203" y="69"/>
                </a:lnTo>
                <a:lnTo>
                  <a:pt x="228" y="59"/>
                </a:lnTo>
                <a:lnTo>
                  <a:pt x="251" y="54"/>
                </a:lnTo>
                <a:lnTo>
                  <a:pt x="272" y="46"/>
                </a:lnTo>
                <a:lnTo>
                  <a:pt x="293" y="40"/>
                </a:lnTo>
                <a:lnTo>
                  <a:pt x="312" y="32"/>
                </a:lnTo>
                <a:lnTo>
                  <a:pt x="332" y="27"/>
                </a:lnTo>
                <a:lnTo>
                  <a:pt x="349" y="23"/>
                </a:lnTo>
                <a:lnTo>
                  <a:pt x="366" y="17"/>
                </a:lnTo>
                <a:lnTo>
                  <a:pt x="381" y="13"/>
                </a:lnTo>
                <a:lnTo>
                  <a:pt x="395" y="9"/>
                </a:lnTo>
                <a:lnTo>
                  <a:pt x="408" y="6"/>
                </a:lnTo>
                <a:lnTo>
                  <a:pt x="420" y="4"/>
                </a:lnTo>
                <a:lnTo>
                  <a:pt x="429" y="2"/>
                </a:lnTo>
                <a:lnTo>
                  <a:pt x="439" y="0"/>
                </a:lnTo>
                <a:lnTo>
                  <a:pt x="449" y="0"/>
                </a:lnTo>
                <a:lnTo>
                  <a:pt x="456" y="0"/>
                </a:lnTo>
                <a:lnTo>
                  <a:pt x="470" y="0"/>
                </a:lnTo>
                <a:lnTo>
                  <a:pt x="483" y="2"/>
                </a:lnTo>
                <a:lnTo>
                  <a:pt x="497" y="4"/>
                </a:lnTo>
                <a:lnTo>
                  <a:pt x="510" y="7"/>
                </a:lnTo>
                <a:lnTo>
                  <a:pt x="524" y="11"/>
                </a:lnTo>
                <a:lnTo>
                  <a:pt x="537" y="17"/>
                </a:lnTo>
                <a:lnTo>
                  <a:pt x="564" y="27"/>
                </a:lnTo>
                <a:lnTo>
                  <a:pt x="570" y="29"/>
                </a:lnTo>
                <a:lnTo>
                  <a:pt x="575" y="32"/>
                </a:lnTo>
                <a:lnTo>
                  <a:pt x="581" y="36"/>
                </a:lnTo>
                <a:lnTo>
                  <a:pt x="587" y="40"/>
                </a:lnTo>
                <a:lnTo>
                  <a:pt x="591" y="42"/>
                </a:lnTo>
                <a:lnTo>
                  <a:pt x="595" y="46"/>
                </a:lnTo>
                <a:lnTo>
                  <a:pt x="600" y="54"/>
                </a:lnTo>
                <a:lnTo>
                  <a:pt x="606" y="61"/>
                </a:lnTo>
                <a:lnTo>
                  <a:pt x="610" y="69"/>
                </a:lnTo>
                <a:lnTo>
                  <a:pt x="610" y="77"/>
                </a:lnTo>
                <a:lnTo>
                  <a:pt x="612" y="82"/>
                </a:lnTo>
                <a:lnTo>
                  <a:pt x="610" y="86"/>
                </a:lnTo>
                <a:lnTo>
                  <a:pt x="610" y="92"/>
                </a:lnTo>
                <a:lnTo>
                  <a:pt x="606" y="98"/>
                </a:lnTo>
                <a:lnTo>
                  <a:pt x="602" y="103"/>
                </a:lnTo>
                <a:lnTo>
                  <a:pt x="596" y="107"/>
                </a:lnTo>
                <a:lnTo>
                  <a:pt x="591" y="113"/>
                </a:lnTo>
                <a:lnTo>
                  <a:pt x="583" y="119"/>
                </a:lnTo>
                <a:lnTo>
                  <a:pt x="573" y="125"/>
                </a:lnTo>
                <a:lnTo>
                  <a:pt x="564" y="130"/>
                </a:lnTo>
                <a:lnTo>
                  <a:pt x="552" y="136"/>
                </a:lnTo>
                <a:lnTo>
                  <a:pt x="539" y="144"/>
                </a:lnTo>
                <a:lnTo>
                  <a:pt x="525" y="150"/>
                </a:lnTo>
                <a:lnTo>
                  <a:pt x="510" y="157"/>
                </a:lnTo>
                <a:lnTo>
                  <a:pt x="493" y="163"/>
                </a:lnTo>
                <a:lnTo>
                  <a:pt x="476" y="171"/>
                </a:lnTo>
                <a:lnTo>
                  <a:pt x="456" y="178"/>
                </a:lnTo>
                <a:lnTo>
                  <a:pt x="435" y="186"/>
                </a:lnTo>
                <a:lnTo>
                  <a:pt x="416" y="194"/>
                </a:lnTo>
                <a:lnTo>
                  <a:pt x="397" y="199"/>
                </a:lnTo>
                <a:lnTo>
                  <a:pt x="380" y="205"/>
                </a:lnTo>
                <a:lnTo>
                  <a:pt x="360" y="211"/>
                </a:lnTo>
                <a:lnTo>
                  <a:pt x="343" y="215"/>
                </a:lnTo>
                <a:lnTo>
                  <a:pt x="310" y="224"/>
                </a:lnTo>
                <a:lnTo>
                  <a:pt x="278" y="230"/>
                </a:lnTo>
                <a:lnTo>
                  <a:pt x="247" y="238"/>
                </a:lnTo>
                <a:lnTo>
                  <a:pt x="218" y="242"/>
                </a:lnTo>
                <a:lnTo>
                  <a:pt x="191" y="247"/>
                </a:lnTo>
                <a:lnTo>
                  <a:pt x="176" y="249"/>
                </a:lnTo>
                <a:lnTo>
                  <a:pt x="163" y="251"/>
                </a:lnTo>
                <a:lnTo>
                  <a:pt x="147" y="253"/>
                </a:lnTo>
                <a:lnTo>
                  <a:pt x="136" y="253"/>
                </a:lnTo>
                <a:lnTo>
                  <a:pt x="122" y="253"/>
                </a:lnTo>
                <a:lnTo>
                  <a:pt x="113" y="253"/>
                </a:lnTo>
                <a:lnTo>
                  <a:pt x="101" y="251"/>
                </a:lnTo>
                <a:lnTo>
                  <a:pt x="92" y="249"/>
                </a:lnTo>
                <a:lnTo>
                  <a:pt x="82" y="247"/>
                </a:lnTo>
                <a:lnTo>
                  <a:pt x="74" y="245"/>
                </a:lnTo>
                <a:lnTo>
                  <a:pt x="65" y="242"/>
                </a:lnTo>
                <a:lnTo>
                  <a:pt x="59" y="238"/>
                </a:lnTo>
                <a:lnTo>
                  <a:pt x="51" y="234"/>
                </a:lnTo>
                <a:lnTo>
                  <a:pt x="46" y="230"/>
                </a:lnTo>
                <a:lnTo>
                  <a:pt x="40" y="224"/>
                </a:lnTo>
                <a:lnTo>
                  <a:pt x="36" y="2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86"/>
          <p:cNvSpPr/>
          <p:nvPr/>
        </p:nvSpPr>
        <p:spPr>
          <a:xfrm>
            <a:off x="6994440" y="2589120"/>
            <a:ext cx="360360" cy="304920"/>
          </a:xfrm>
          <a:custGeom>
            <a:avLst/>
            <a:gdLst/>
            <a:ahLst/>
            <a:rect l="l" t="t" r="r" b="b"/>
            <a:pathLst>
              <a:path w="455" h="384">
                <a:moveTo>
                  <a:pt x="252" y="303"/>
                </a:moveTo>
                <a:lnTo>
                  <a:pt x="229" y="317"/>
                </a:lnTo>
                <a:lnTo>
                  <a:pt x="206" y="328"/>
                </a:lnTo>
                <a:lnTo>
                  <a:pt x="183" y="338"/>
                </a:lnTo>
                <a:lnTo>
                  <a:pt x="162" y="347"/>
                </a:lnTo>
                <a:lnTo>
                  <a:pt x="142" y="355"/>
                </a:lnTo>
                <a:lnTo>
                  <a:pt x="123" y="363"/>
                </a:lnTo>
                <a:lnTo>
                  <a:pt x="106" y="370"/>
                </a:lnTo>
                <a:lnTo>
                  <a:pt x="91" y="374"/>
                </a:lnTo>
                <a:lnTo>
                  <a:pt x="75" y="378"/>
                </a:lnTo>
                <a:lnTo>
                  <a:pt x="62" y="382"/>
                </a:lnTo>
                <a:lnTo>
                  <a:pt x="48" y="382"/>
                </a:lnTo>
                <a:lnTo>
                  <a:pt x="37" y="384"/>
                </a:lnTo>
                <a:lnTo>
                  <a:pt x="25" y="382"/>
                </a:lnTo>
                <a:lnTo>
                  <a:pt x="16" y="380"/>
                </a:lnTo>
                <a:lnTo>
                  <a:pt x="8" y="376"/>
                </a:lnTo>
                <a:lnTo>
                  <a:pt x="0" y="372"/>
                </a:lnTo>
                <a:lnTo>
                  <a:pt x="20" y="349"/>
                </a:lnTo>
                <a:lnTo>
                  <a:pt x="39" y="328"/>
                </a:lnTo>
                <a:lnTo>
                  <a:pt x="56" y="307"/>
                </a:lnTo>
                <a:lnTo>
                  <a:pt x="73" y="288"/>
                </a:lnTo>
                <a:lnTo>
                  <a:pt x="91" y="270"/>
                </a:lnTo>
                <a:lnTo>
                  <a:pt x="106" y="255"/>
                </a:lnTo>
                <a:lnTo>
                  <a:pt x="121" y="240"/>
                </a:lnTo>
                <a:lnTo>
                  <a:pt x="135" y="224"/>
                </a:lnTo>
                <a:lnTo>
                  <a:pt x="148" y="213"/>
                </a:lnTo>
                <a:lnTo>
                  <a:pt x="160" y="199"/>
                </a:lnTo>
                <a:lnTo>
                  <a:pt x="171" y="190"/>
                </a:lnTo>
                <a:lnTo>
                  <a:pt x="183" y="180"/>
                </a:lnTo>
                <a:lnTo>
                  <a:pt x="192" y="171"/>
                </a:lnTo>
                <a:lnTo>
                  <a:pt x="200" y="163"/>
                </a:lnTo>
                <a:lnTo>
                  <a:pt x="210" y="157"/>
                </a:lnTo>
                <a:lnTo>
                  <a:pt x="215" y="151"/>
                </a:lnTo>
                <a:lnTo>
                  <a:pt x="225" y="140"/>
                </a:lnTo>
                <a:lnTo>
                  <a:pt x="231" y="130"/>
                </a:lnTo>
                <a:lnTo>
                  <a:pt x="236" y="119"/>
                </a:lnTo>
                <a:lnTo>
                  <a:pt x="242" y="107"/>
                </a:lnTo>
                <a:lnTo>
                  <a:pt x="244" y="96"/>
                </a:lnTo>
                <a:lnTo>
                  <a:pt x="244" y="90"/>
                </a:lnTo>
                <a:lnTo>
                  <a:pt x="244" y="82"/>
                </a:lnTo>
                <a:lnTo>
                  <a:pt x="244" y="77"/>
                </a:lnTo>
                <a:lnTo>
                  <a:pt x="244" y="69"/>
                </a:lnTo>
                <a:lnTo>
                  <a:pt x="242" y="61"/>
                </a:lnTo>
                <a:lnTo>
                  <a:pt x="240" y="54"/>
                </a:lnTo>
                <a:lnTo>
                  <a:pt x="238" y="46"/>
                </a:lnTo>
                <a:lnTo>
                  <a:pt x="236" y="40"/>
                </a:lnTo>
                <a:lnTo>
                  <a:pt x="236" y="34"/>
                </a:lnTo>
                <a:lnTo>
                  <a:pt x="236" y="29"/>
                </a:lnTo>
                <a:lnTo>
                  <a:pt x="236" y="23"/>
                </a:lnTo>
                <a:lnTo>
                  <a:pt x="236" y="19"/>
                </a:lnTo>
                <a:lnTo>
                  <a:pt x="238" y="15"/>
                </a:lnTo>
                <a:lnTo>
                  <a:pt x="240" y="11"/>
                </a:lnTo>
                <a:lnTo>
                  <a:pt x="242" y="7"/>
                </a:lnTo>
                <a:lnTo>
                  <a:pt x="246" y="6"/>
                </a:lnTo>
                <a:lnTo>
                  <a:pt x="250" y="4"/>
                </a:lnTo>
                <a:lnTo>
                  <a:pt x="254" y="2"/>
                </a:lnTo>
                <a:lnTo>
                  <a:pt x="258" y="0"/>
                </a:lnTo>
                <a:lnTo>
                  <a:pt x="263" y="0"/>
                </a:lnTo>
                <a:lnTo>
                  <a:pt x="269" y="0"/>
                </a:lnTo>
                <a:lnTo>
                  <a:pt x="277" y="0"/>
                </a:lnTo>
                <a:lnTo>
                  <a:pt x="290" y="0"/>
                </a:lnTo>
                <a:lnTo>
                  <a:pt x="304" y="2"/>
                </a:lnTo>
                <a:lnTo>
                  <a:pt x="317" y="6"/>
                </a:lnTo>
                <a:lnTo>
                  <a:pt x="325" y="7"/>
                </a:lnTo>
                <a:lnTo>
                  <a:pt x="332" y="11"/>
                </a:lnTo>
                <a:lnTo>
                  <a:pt x="338" y="15"/>
                </a:lnTo>
                <a:lnTo>
                  <a:pt x="346" y="19"/>
                </a:lnTo>
                <a:lnTo>
                  <a:pt x="354" y="23"/>
                </a:lnTo>
                <a:lnTo>
                  <a:pt x="361" y="29"/>
                </a:lnTo>
                <a:lnTo>
                  <a:pt x="371" y="34"/>
                </a:lnTo>
                <a:lnTo>
                  <a:pt x="378" y="40"/>
                </a:lnTo>
                <a:lnTo>
                  <a:pt x="386" y="46"/>
                </a:lnTo>
                <a:lnTo>
                  <a:pt x="396" y="54"/>
                </a:lnTo>
                <a:lnTo>
                  <a:pt x="409" y="69"/>
                </a:lnTo>
                <a:lnTo>
                  <a:pt x="421" y="82"/>
                </a:lnTo>
                <a:lnTo>
                  <a:pt x="430" y="96"/>
                </a:lnTo>
                <a:lnTo>
                  <a:pt x="440" y="107"/>
                </a:lnTo>
                <a:lnTo>
                  <a:pt x="446" y="119"/>
                </a:lnTo>
                <a:lnTo>
                  <a:pt x="449" y="125"/>
                </a:lnTo>
                <a:lnTo>
                  <a:pt x="451" y="130"/>
                </a:lnTo>
                <a:lnTo>
                  <a:pt x="453" y="136"/>
                </a:lnTo>
                <a:lnTo>
                  <a:pt x="455" y="140"/>
                </a:lnTo>
                <a:lnTo>
                  <a:pt x="455" y="146"/>
                </a:lnTo>
                <a:lnTo>
                  <a:pt x="455" y="151"/>
                </a:lnTo>
                <a:lnTo>
                  <a:pt x="455" y="157"/>
                </a:lnTo>
                <a:lnTo>
                  <a:pt x="453" y="163"/>
                </a:lnTo>
                <a:lnTo>
                  <a:pt x="448" y="169"/>
                </a:lnTo>
                <a:lnTo>
                  <a:pt x="442" y="176"/>
                </a:lnTo>
                <a:lnTo>
                  <a:pt x="434" y="184"/>
                </a:lnTo>
                <a:lnTo>
                  <a:pt x="426" y="192"/>
                </a:lnTo>
                <a:lnTo>
                  <a:pt x="415" y="201"/>
                </a:lnTo>
                <a:lnTo>
                  <a:pt x="403" y="211"/>
                </a:lnTo>
                <a:lnTo>
                  <a:pt x="390" y="221"/>
                </a:lnTo>
                <a:lnTo>
                  <a:pt x="375" y="232"/>
                </a:lnTo>
                <a:lnTo>
                  <a:pt x="357" y="242"/>
                </a:lnTo>
                <a:lnTo>
                  <a:pt x="340" y="253"/>
                </a:lnTo>
                <a:lnTo>
                  <a:pt x="319" y="265"/>
                </a:lnTo>
                <a:lnTo>
                  <a:pt x="298" y="278"/>
                </a:lnTo>
                <a:lnTo>
                  <a:pt x="277" y="290"/>
                </a:lnTo>
                <a:lnTo>
                  <a:pt x="252" y="3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87"/>
          <p:cNvSpPr/>
          <p:nvPr/>
        </p:nvSpPr>
        <p:spPr>
          <a:xfrm>
            <a:off x="6794640" y="2325600"/>
            <a:ext cx="284040" cy="354240"/>
          </a:xfrm>
          <a:custGeom>
            <a:avLst/>
            <a:gdLst/>
            <a:ahLst/>
            <a:rect l="l" t="t" r="r" b="b"/>
            <a:pathLst>
              <a:path w="359" h="445">
                <a:moveTo>
                  <a:pt x="0" y="441"/>
                </a:moveTo>
                <a:lnTo>
                  <a:pt x="17" y="414"/>
                </a:lnTo>
                <a:lnTo>
                  <a:pt x="33" y="387"/>
                </a:lnTo>
                <a:lnTo>
                  <a:pt x="50" y="363"/>
                </a:lnTo>
                <a:lnTo>
                  <a:pt x="63" y="339"/>
                </a:lnTo>
                <a:lnTo>
                  <a:pt x="79" y="318"/>
                </a:lnTo>
                <a:lnTo>
                  <a:pt x="90" y="297"/>
                </a:lnTo>
                <a:lnTo>
                  <a:pt x="104" y="278"/>
                </a:lnTo>
                <a:lnTo>
                  <a:pt x="115" y="261"/>
                </a:lnTo>
                <a:lnTo>
                  <a:pt x="125" y="245"/>
                </a:lnTo>
                <a:lnTo>
                  <a:pt x="134" y="230"/>
                </a:lnTo>
                <a:lnTo>
                  <a:pt x="142" y="217"/>
                </a:lnTo>
                <a:lnTo>
                  <a:pt x="150" y="205"/>
                </a:lnTo>
                <a:lnTo>
                  <a:pt x="155" y="194"/>
                </a:lnTo>
                <a:lnTo>
                  <a:pt x="161" y="182"/>
                </a:lnTo>
                <a:lnTo>
                  <a:pt x="165" y="173"/>
                </a:lnTo>
                <a:lnTo>
                  <a:pt x="167" y="165"/>
                </a:lnTo>
                <a:lnTo>
                  <a:pt x="171" y="149"/>
                </a:lnTo>
                <a:lnTo>
                  <a:pt x="175" y="136"/>
                </a:lnTo>
                <a:lnTo>
                  <a:pt x="175" y="123"/>
                </a:lnTo>
                <a:lnTo>
                  <a:pt x="176" y="109"/>
                </a:lnTo>
                <a:lnTo>
                  <a:pt x="175" y="96"/>
                </a:lnTo>
                <a:lnTo>
                  <a:pt x="175" y="84"/>
                </a:lnTo>
                <a:lnTo>
                  <a:pt x="171" y="69"/>
                </a:lnTo>
                <a:lnTo>
                  <a:pt x="167" y="55"/>
                </a:lnTo>
                <a:lnTo>
                  <a:pt x="163" y="44"/>
                </a:lnTo>
                <a:lnTo>
                  <a:pt x="161" y="36"/>
                </a:lnTo>
                <a:lnTo>
                  <a:pt x="159" y="29"/>
                </a:lnTo>
                <a:lnTo>
                  <a:pt x="159" y="21"/>
                </a:lnTo>
                <a:lnTo>
                  <a:pt x="161" y="15"/>
                </a:lnTo>
                <a:lnTo>
                  <a:pt x="163" y="13"/>
                </a:lnTo>
                <a:lnTo>
                  <a:pt x="165" y="9"/>
                </a:lnTo>
                <a:lnTo>
                  <a:pt x="169" y="7"/>
                </a:lnTo>
                <a:lnTo>
                  <a:pt x="171" y="4"/>
                </a:lnTo>
                <a:lnTo>
                  <a:pt x="175" y="2"/>
                </a:lnTo>
                <a:lnTo>
                  <a:pt x="180" y="0"/>
                </a:lnTo>
                <a:lnTo>
                  <a:pt x="190" y="0"/>
                </a:lnTo>
                <a:lnTo>
                  <a:pt x="199" y="2"/>
                </a:lnTo>
                <a:lnTo>
                  <a:pt x="211" y="6"/>
                </a:lnTo>
                <a:lnTo>
                  <a:pt x="219" y="7"/>
                </a:lnTo>
                <a:lnTo>
                  <a:pt x="224" y="11"/>
                </a:lnTo>
                <a:lnTo>
                  <a:pt x="232" y="15"/>
                </a:lnTo>
                <a:lnTo>
                  <a:pt x="238" y="19"/>
                </a:lnTo>
                <a:lnTo>
                  <a:pt x="246" y="23"/>
                </a:lnTo>
                <a:lnTo>
                  <a:pt x="253" y="29"/>
                </a:lnTo>
                <a:lnTo>
                  <a:pt x="261" y="34"/>
                </a:lnTo>
                <a:lnTo>
                  <a:pt x="271" y="40"/>
                </a:lnTo>
                <a:lnTo>
                  <a:pt x="278" y="48"/>
                </a:lnTo>
                <a:lnTo>
                  <a:pt x="288" y="55"/>
                </a:lnTo>
                <a:lnTo>
                  <a:pt x="295" y="63"/>
                </a:lnTo>
                <a:lnTo>
                  <a:pt x="303" y="69"/>
                </a:lnTo>
                <a:lnTo>
                  <a:pt x="311" y="77"/>
                </a:lnTo>
                <a:lnTo>
                  <a:pt x="319" y="84"/>
                </a:lnTo>
                <a:lnTo>
                  <a:pt x="324" y="90"/>
                </a:lnTo>
                <a:lnTo>
                  <a:pt x="332" y="96"/>
                </a:lnTo>
                <a:lnTo>
                  <a:pt x="336" y="101"/>
                </a:lnTo>
                <a:lnTo>
                  <a:pt x="342" y="107"/>
                </a:lnTo>
                <a:lnTo>
                  <a:pt x="345" y="113"/>
                </a:lnTo>
                <a:lnTo>
                  <a:pt x="349" y="119"/>
                </a:lnTo>
                <a:lnTo>
                  <a:pt x="353" y="125"/>
                </a:lnTo>
                <a:lnTo>
                  <a:pt x="355" y="130"/>
                </a:lnTo>
                <a:lnTo>
                  <a:pt x="357" y="136"/>
                </a:lnTo>
                <a:lnTo>
                  <a:pt x="359" y="140"/>
                </a:lnTo>
                <a:lnTo>
                  <a:pt x="359" y="146"/>
                </a:lnTo>
                <a:lnTo>
                  <a:pt x="359" y="151"/>
                </a:lnTo>
                <a:lnTo>
                  <a:pt x="359" y="159"/>
                </a:lnTo>
                <a:lnTo>
                  <a:pt x="357" y="167"/>
                </a:lnTo>
                <a:lnTo>
                  <a:pt x="355" y="176"/>
                </a:lnTo>
                <a:lnTo>
                  <a:pt x="349" y="184"/>
                </a:lnTo>
                <a:lnTo>
                  <a:pt x="345" y="194"/>
                </a:lnTo>
                <a:lnTo>
                  <a:pt x="338" y="203"/>
                </a:lnTo>
                <a:lnTo>
                  <a:pt x="330" y="215"/>
                </a:lnTo>
                <a:lnTo>
                  <a:pt x="322" y="224"/>
                </a:lnTo>
                <a:lnTo>
                  <a:pt x="311" y="236"/>
                </a:lnTo>
                <a:lnTo>
                  <a:pt x="299" y="247"/>
                </a:lnTo>
                <a:lnTo>
                  <a:pt x="288" y="261"/>
                </a:lnTo>
                <a:lnTo>
                  <a:pt x="272" y="272"/>
                </a:lnTo>
                <a:lnTo>
                  <a:pt x="257" y="286"/>
                </a:lnTo>
                <a:lnTo>
                  <a:pt x="242" y="301"/>
                </a:lnTo>
                <a:lnTo>
                  <a:pt x="223" y="315"/>
                </a:lnTo>
                <a:lnTo>
                  <a:pt x="203" y="332"/>
                </a:lnTo>
                <a:lnTo>
                  <a:pt x="184" y="349"/>
                </a:lnTo>
                <a:lnTo>
                  <a:pt x="165" y="364"/>
                </a:lnTo>
                <a:lnTo>
                  <a:pt x="148" y="378"/>
                </a:lnTo>
                <a:lnTo>
                  <a:pt x="132" y="391"/>
                </a:lnTo>
                <a:lnTo>
                  <a:pt x="115" y="403"/>
                </a:lnTo>
                <a:lnTo>
                  <a:pt x="102" y="412"/>
                </a:lnTo>
                <a:lnTo>
                  <a:pt x="88" y="422"/>
                </a:lnTo>
                <a:lnTo>
                  <a:pt x="75" y="428"/>
                </a:lnTo>
                <a:lnTo>
                  <a:pt x="63" y="434"/>
                </a:lnTo>
                <a:lnTo>
                  <a:pt x="52" y="439"/>
                </a:lnTo>
                <a:lnTo>
                  <a:pt x="40" y="441"/>
                </a:lnTo>
                <a:lnTo>
                  <a:pt x="31" y="443"/>
                </a:lnTo>
                <a:lnTo>
                  <a:pt x="23" y="445"/>
                </a:lnTo>
                <a:lnTo>
                  <a:pt x="13" y="445"/>
                </a:lnTo>
                <a:lnTo>
                  <a:pt x="6" y="443"/>
                </a:lnTo>
                <a:lnTo>
                  <a:pt x="0" y="4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88"/>
          <p:cNvSpPr/>
          <p:nvPr/>
        </p:nvSpPr>
        <p:spPr>
          <a:xfrm>
            <a:off x="6718320" y="2610000"/>
            <a:ext cx="1076400" cy="833400"/>
          </a:xfrm>
          <a:custGeom>
            <a:avLst/>
            <a:gdLst/>
            <a:ahLst/>
            <a:rect l="l" t="t" r="r" b="b"/>
            <a:pathLst>
              <a:path w="1355" h="1050">
                <a:moveTo>
                  <a:pt x="1211" y="885"/>
                </a:moveTo>
                <a:lnTo>
                  <a:pt x="1228" y="890"/>
                </a:lnTo>
                <a:lnTo>
                  <a:pt x="1244" y="894"/>
                </a:lnTo>
                <a:lnTo>
                  <a:pt x="1259" y="900"/>
                </a:lnTo>
                <a:lnTo>
                  <a:pt x="1273" y="906"/>
                </a:lnTo>
                <a:lnTo>
                  <a:pt x="1286" y="909"/>
                </a:lnTo>
                <a:lnTo>
                  <a:pt x="1297" y="915"/>
                </a:lnTo>
                <a:lnTo>
                  <a:pt x="1309" y="919"/>
                </a:lnTo>
                <a:lnTo>
                  <a:pt x="1319" y="925"/>
                </a:lnTo>
                <a:lnTo>
                  <a:pt x="1326" y="929"/>
                </a:lnTo>
                <a:lnTo>
                  <a:pt x="1334" y="933"/>
                </a:lnTo>
                <a:lnTo>
                  <a:pt x="1340" y="936"/>
                </a:lnTo>
                <a:lnTo>
                  <a:pt x="1345" y="940"/>
                </a:lnTo>
                <a:lnTo>
                  <a:pt x="1349" y="944"/>
                </a:lnTo>
                <a:lnTo>
                  <a:pt x="1351" y="948"/>
                </a:lnTo>
                <a:lnTo>
                  <a:pt x="1353" y="950"/>
                </a:lnTo>
                <a:lnTo>
                  <a:pt x="1355" y="954"/>
                </a:lnTo>
                <a:lnTo>
                  <a:pt x="1353" y="957"/>
                </a:lnTo>
                <a:lnTo>
                  <a:pt x="1353" y="963"/>
                </a:lnTo>
                <a:lnTo>
                  <a:pt x="1351" y="969"/>
                </a:lnTo>
                <a:lnTo>
                  <a:pt x="1347" y="973"/>
                </a:lnTo>
                <a:lnTo>
                  <a:pt x="1344" y="979"/>
                </a:lnTo>
                <a:lnTo>
                  <a:pt x="1340" y="984"/>
                </a:lnTo>
                <a:lnTo>
                  <a:pt x="1334" y="988"/>
                </a:lnTo>
                <a:lnTo>
                  <a:pt x="1326" y="992"/>
                </a:lnTo>
                <a:lnTo>
                  <a:pt x="1320" y="998"/>
                </a:lnTo>
                <a:lnTo>
                  <a:pt x="1313" y="1002"/>
                </a:lnTo>
                <a:lnTo>
                  <a:pt x="1303" y="1005"/>
                </a:lnTo>
                <a:lnTo>
                  <a:pt x="1294" y="1009"/>
                </a:lnTo>
                <a:lnTo>
                  <a:pt x="1282" y="1013"/>
                </a:lnTo>
                <a:lnTo>
                  <a:pt x="1271" y="1017"/>
                </a:lnTo>
                <a:lnTo>
                  <a:pt x="1259" y="1019"/>
                </a:lnTo>
                <a:lnTo>
                  <a:pt x="1246" y="1023"/>
                </a:lnTo>
                <a:lnTo>
                  <a:pt x="1215" y="1028"/>
                </a:lnTo>
                <a:lnTo>
                  <a:pt x="1186" y="1032"/>
                </a:lnTo>
                <a:lnTo>
                  <a:pt x="1157" y="1038"/>
                </a:lnTo>
                <a:lnTo>
                  <a:pt x="1130" y="1042"/>
                </a:lnTo>
                <a:lnTo>
                  <a:pt x="1104" y="1046"/>
                </a:lnTo>
                <a:lnTo>
                  <a:pt x="1079" y="1048"/>
                </a:lnTo>
                <a:lnTo>
                  <a:pt x="1054" y="1050"/>
                </a:lnTo>
                <a:lnTo>
                  <a:pt x="1031" y="1050"/>
                </a:lnTo>
                <a:lnTo>
                  <a:pt x="1008" y="1050"/>
                </a:lnTo>
                <a:lnTo>
                  <a:pt x="987" y="1050"/>
                </a:lnTo>
                <a:lnTo>
                  <a:pt x="965" y="1050"/>
                </a:lnTo>
                <a:lnTo>
                  <a:pt x="944" y="1048"/>
                </a:lnTo>
                <a:lnTo>
                  <a:pt x="923" y="1048"/>
                </a:lnTo>
                <a:lnTo>
                  <a:pt x="906" y="1044"/>
                </a:lnTo>
                <a:lnTo>
                  <a:pt x="898" y="1042"/>
                </a:lnTo>
                <a:lnTo>
                  <a:pt x="889" y="1040"/>
                </a:lnTo>
                <a:lnTo>
                  <a:pt x="881" y="1038"/>
                </a:lnTo>
                <a:lnTo>
                  <a:pt x="875" y="1036"/>
                </a:lnTo>
                <a:lnTo>
                  <a:pt x="869" y="1036"/>
                </a:lnTo>
                <a:lnTo>
                  <a:pt x="866" y="1034"/>
                </a:lnTo>
                <a:lnTo>
                  <a:pt x="860" y="1034"/>
                </a:lnTo>
                <a:lnTo>
                  <a:pt x="854" y="1032"/>
                </a:lnTo>
                <a:lnTo>
                  <a:pt x="848" y="1028"/>
                </a:lnTo>
                <a:lnTo>
                  <a:pt x="843" y="1027"/>
                </a:lnTo>
                <a:lnTo>
                  <a:pt x="837" y="1023"/>
                </a:lnTo>
                <a:lnTo>
                  <a:pt x="829" y="1019"/>
                </a:lnTo>
                <a:lnTo>
                  <a:pt x="823" y="1013"/>
                </a:lnTo>
                <a:lnTo>
                  <a:pt x="816" y="1009"/>
                </a:lnTo>
                <a:lnTo>
                  <a:pt x="808" y="1004"/>
                </a:lnTo>
                <a:lnTo>
                  <a:pt x="800" y="996"/>
                </a:lnTo>
                <a:lnTo>
                  <a:pt x="793" y="990"/>
                </a:lnTo>
                <a:lnTo>
                  <a:pt x="783" y="982"/>
                </a:lnTo>
                <a:lnTo>
                  <a:pt x="775" y="975"/>
                </a:lnTo>
                <a:lnTo>
                  <a:pt x="766" y="965"/>
                </a:lnTo>
                <a:lnTo>
                  <a:pt x="756" y="957"/>
                </a:lnTo>
                <a:lnTo>
                  <a:pt x="747" y="948"/>
                </a:lnTo>
                <a:lnTo>
                  <a:pt x="737" y="938"/>
                </a:lnTo>
                <a:lnTo>
                  <a:pt x="727" y="927"/>
                </a:lnTo>
                <a:lnTo>
                  <a:pt x="718" y="915"/>
                </a:lnTo>
                <a:lnTo>
                  <a:pt x="706" y="904"/>
                </a:lnTo>
                <a:lnTo>
                  <a:pt x="697" y="892"/>
                </a:lnTo>
                <a:lnTo>
                  <a:pt x="685" y="879"/>
                </a:lnTo>
                <a:lnTo>
                  <a:pt x="674" y="865"/>
                </a:lnTo>
                <a:lnTo>
                  <a:pt x="662" y="852"/>
                </a:lnTo>
                <a:lnTo>
                  <a:pt x="651" y="838"/>
                </a:lnTo>
                <a:lnTo>
                  <a:pt x="637" y="823"/>
                </a:lnTo>
                <a:lnTo>
                  <a:pt x="626" y="808"/>
                </a:lnTo>
                <a:lnTo>
                  <a:pt x="612" y="792"/>
                </a:lnTo>
                <a:lnTo>
                  <a:pt x="601" y="777"/>
                </a:lnTo>
                <a:lnTo>
                  <a:pt x="587" y="760"/>
                </a:lnTo>
                <a:lnTo>
                  <a:pt x="558" y="725"/>
                </a:lnTo>
                <a:lnTo>
                  <a:pt x="532" y="693"/>
                </a:lnTo>
                <a:lnTo>
                  <a:pt x="505" y="662"/>
                </a:lnTo>
                <a:lnTo>
                  <a:pt x="480" y="629"/>
                </a:lnTo>
                <a:lnTo>
                  <a:pt x="455" y="599"/>
                </a:lnTo>
                <a:lnTo>
                  <a:pt x="432" y="570"/>
                </a:lnTo>
                <a:lnTo>
                  <a:pt x="409" y="541"/>
                </a:lnTo>
                <a:lnTo>
                  <a:pt x="386" y="512"/>
                </a:lnTo>
                <a:lnTo>
                  <a:pt x="365" y="485"/>
                </a:lnTo>
                <a:lnTo>
                  <a:pt x="345" y="458"/>
                </a:lnTo>
                <a:lnTo>
                  <a:pt x="326" y="433"/>
                </a:lnTo>
                <a:lnTo>
                  <a:pt x="307" y="409"/>
                </a:lnTo>
                <a:lnTo>
                  <a:pt x="290" y="384"/>
                </a:lnTo>
                <a:lnTo>
                  <a:pt x="272" y="361"/>
                </a:lnTo>
                <a:lnTo>
                  <a:pt x="255" y="339"/>
                </a:lnTo>
                <a:lnTo>
                  <a:pt x="240" y="318"/>
                </a:lnTo>
                <a:lnTo>
                  <a:pt x="209" y="276"/>
                </a:lnTo>
                <a:lnTo>
                  <a:pt x="178" y="238"/>
                </a:lnTo>
                <a:lnTo>
                  <a:pt x="150" y="199"/>
                </a:lnTo>
                <a:lnTo>
                  <a:pt x="134" y="182"/>
                </a:lnTo>
                <a:lnTo>
                  <a:pt x="119" y="163"/>
                </a:lnTo>
                <a:lnTo>
                  <a:pt x="105" y="147"/>
                </a:lnTo>
                <a:lnTo>
                  <a:pt x="90" y="130"/>
                </a:lnTo>
                <a:lnTo>
                  <a:pt x="75" y="113"/>
                </a:lnTo>
                <a:lnTo>
                  <a:pt x="61" y="98"/>
                </a:lnTo>
                <a:lnTo>
                  <a:pt x="46" y="82"/>
                </a:lnTo>
                <a:lnTo>
                  <a:pt x="31" y="69"/>
                </a:lnTo>
                <a:lnTo>
                  <a:pt x="15" y="55"/>
                </a:lnTo>
                <a:lnTo>
                  <a:pt x="0" y="42"/>
                </a:lnTo>
                <a:lnTo>
                  <a:pt x="4" y="30"/>
                </a:lnTo>
                <a:lnTo>
                  <a:pt x="9" y="23"/>
                </a:lnTo>
                <a:lnTo>
                  <a:pt x="13" y="15"/>
                </a:lnTo>
                <a:lnTo>
                  <a:pt x="21" y="9"/>
                </a:lnTo>
                <a:lnTo>
                  <a:pt x="29" y="5"/>
                </a:lnTo>
                <a:lnTo>
                  <a:pt x="36" y="2"/>
                </a:lnTo>
                <a:lnTo>
                  <a:pt x="42" y="2"/>
                </a:lnTo>
                <a:lnTo>
                  <a:pt x="48" y="0"/>
                </a:lnTo>
                <a:lnTo>
                  <a:pt x="54" y="0"/>
                </a:lnTo>
                <a:lnTo>
                  <a:pt x="59" y="0"/>
                </a:lnTo>
                <a:lnTo>
                  <a:pt x="73" y="0"/>
                </a:lnTo>
                <a:lnTo>
                  <a:pt x="84" y="2"/>
                </a:lnTo>
                <a:lnTo>
                  <a:pt x="96" y="4"/>
                </a:lnTo>
                <a:lnTo>
                  <a:pt x="105" y="7"/>
                </a:lnTo>
                <a:lnTo>
                  <a:pt x="115" y="11"/>
                </a:lnTo>
                <a:lnTo>
                  <a:pt x="125" y="17"/>
                </a:lnTo>
                <a:lnTo>
                  <a:pt x="144" y="27"/>
                </a:lnTo>
                <a:lnTo>
                  <a:pt x="146" y="32"/>
                </a:lnTo>
                <a:lnTo>
                  <a:pt x="152" y="40"/>
                </a:lnTo>
                <a:lnTo>
                  <a:pt x="157" y="50"/>
                </a:lnTo>
                <a:lnTo>
                  <a:pt x="165" y="61"/>
                </a:lnTo>
                <a:lnTo>
                  <a:pt x="176" y="73"/>
                </a:lnTo>
                <a:lnTo>
                  <a:pt x="186" y="86"/>
                </a:lnTo>
                <a:lnTo>
                  <a:pt x="200" y="101"/>
                </a:lnTo>
                <a:lnTo>
                  <a:pt x="215" y="119"/>
                </a:lnTo>
                <a:lnTo>
                  <a:pt x="230" y="136"/>
                </a:lnTo>
                <a:lnTo>
                  <a:pt x="248" y="155"/>
                </a:lnTo>
                <a:lnTo>
                  <a:pt x="267" y="176"/>
                </a:lnTo>
                <a:lnTo>
                  <a:pt x="288" y="199"/>
                </a:lnTo>
                <a:lnTo>
                  <a:pt x="309" y="224"/>
                </a:lnTo>
                <a:lnTo>
                  <a:pt x="332" y="249"/>
                </a:lnTo>
                <a:lnTo>
                  <a:pt x="357" y="276"/>
                </a:lnTo>
                <a:lnTo>
                  <a:pt x="384" y="303"/>
                </a:lnTo>
                <a:lnTo>
                  <a:pt x="411" y="334"/>
                </a:lnTo>
                <a:lnTo>
                  <a:pt x="438" y="364"/>
                </a:lnTo>
                <a:lnTo>
                  <a:pt x="464" y="393"/>
                </a:lnTo>
                <a:lnTo>
                  <a:pt x="493" y="420"/>
                </a:lnTo>
                <a:lnTo>
                  <a:pt x="520" y="447"/>
                </a:lnTo>
                <a:lnTo>
                  <a:pt x="549" y="474"/>
                </a:lnTo>
                <a:lnTo>
                  <a:pt x="578" y="499"/>
                </a:lnTo>
                <a:lnTo>
                  <a:pt x="606" y="524"/>
                </a:lnTo>
                <a:lnTo>
                  <a:pt x="635" y="547"/>
                </a:lnTo>
                <a:lnTo>
                  <a:pt x="664" y="570"/>
                </a:lnTo>
                <a:lnTo>
                  <a:pt x="693" y="591"/>
                </a:lnTo>
                <a:lnTo>
                  <a:pt x="722" y="612"/>
                </a:lnTo>
                <a:lnTo>
                  <a:pt x="750" y="633"/>
                </a:lnTo>
                <a:lnTo>
                  <a:pt x="781" y="652"/>
                </a:lnTo>
                <a:lnTo>
                  <a:pt x="810" y="671"/>
                </a:lnTo>
                <a:lnTo>
                  <a:pt x="839" y="691"/>
                </a:lnTo>
                <a:lnTo>
                  <a:pt x="868" y="708"/>
                </a:lnTo>
                <a:lnTo>
                  <a:pt x="896" y="725"/>
                </a:lnTo>
                <a:lnTo>
                  <a:pt x="923" y="743"/>
                </a:lnTo>
                <a:lnTo>
                  <a:pt x="950" y="758"/>
                </a:lnTo>
                <a:lnTo>
                  <a:pt x="977" y="773"/>
                </a:lnTo>
                <a:lnTo>
                  <a:pt x="1002" y="787"/>
                </a:lnTo>
                <a:lnTo>
                  <a:pt x="1027" y="800"/>
                </a:lnTo>
                <a:lnTo>
                  <a:pt x="1052" y="814"/>
                </a:lnTo>
                <a:lnTo>
                  <a:pt x="1075" y="825"/>
                </a:lnTo>
                <a:lnTo>
                  <a:pt x="1096" y="837"/>
                </a:lnTo>
                <a:lnTo>
                  <a:pt x="1119" y="846"/>
                </a:lnTo>
                <a:lnTo>
                  <a:pt x="1138" y="856"/>
                </a:lnTo>
                <a:lnTo>
                  <a:pt x="1157" y="863"/>
                </a:lnTo>
                <a:lnTo>
                  <a:pt x="1177" y="871"/>
                </a:lnTo>
                <a:lnTo>
                  <a:pt x="1194" y="879"/>
                </a:lnTo>
                <a:lnTo>
                  <a:pt x="1211" y="8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89"/>
          <p:cNvSpPr/>
          <p:nvPr/>
        </p:nvSpPr>
        <p:spPr>
          <a:xfrm>
            <a:off x="5900760" y="2475000"/>
            <a:ext cx="741240" cy="1133280"/>
          </a:xfrm>
          <a:custGeom>
            <a:avLst/>
            <a:gdLst/>
            <a:ahLst/>
            <a:rect l="l" t="t" r="r" b="b"/>
            <a:pathLst>
              <a:path w="935" h="1428">
                <a:moveTo>
                  <a:pt x="743" y="530"/>
                </a:moveTo>
                <a:lnTo>
                  <a:pt x="731" y="560"/>
                </a:lnTo>
                <a:lnTo>
                  <a:pt x="718" y="591"/>
                </a:lnTo>
                <a:lnTo>
                  <a:pt x="705" y="624"/>
                </a:lnTo>
                <a:lnTo>
                  <a:pt x="689" y="654"/>
                </a:lnTo>
                <a:lnTo>
                  <a:pt x="674" y="685"/>
                </a:lnTo>
                <a:lnTo>
                  <a:pt x="657" y="716"/>
                </a:lnTo>
                <a:lnTo>
                  <a:pt x="639" y="747"/>
                </a:lnTo>
                <a:lnTo>
                  <a:pt x="620" y="779"/>
                </a:lnTo>
                <a:lnTo>
                  <a:pt x="601" y="810"/>
                </a:lnTo>
                <a:lnTo>
                  <a:pt x="580" y="841"/>
                </a:lnTo>
                <a:lnTo>
                  <a:pt x="559" y="871"/>
                </a:lnTo>
                <a:lnTo>
                  <a:pt x="538" y="902"/>
                </a:lnTo>
                <a:lnTo>
                  <a:pt x="515" y="935"/>
                </a:lnTo>
                <a:lnTo>
                  <a:pt x="492" y="965"/>
                </a:lnTo>
                <a:lnTo>
                  <a:pt x="467" y="996"/>
                </a:lnTo>
                <a:lnTo>
                  <a:pt x="444" y="1029"/>
                </a:lnTo>
                <a:lnTo>
                  <a:pt x="419" y="1059"/>
                </a:lnTo>
                <a:lnTo>
                  <a:pt x="394" y="1088"/>
                </a:lnTo>
                <a:lnTo>
                  <a:pt x="367" y="1119"/>
                </a:lnTo>
                <a:lnTo>
                  <a:pt x="340" y="1148"/>
                </a:lnTo>
                <a:lnTo>
                  <a:pt x="313" y="1175"/>
                </a:lnTo>
                <a:lnTo>
                  <a:pt x="286" y="1201"/>
                </a:lnTo>
                <a:lnTo>
                  <a:pt x="259" y="1228"/>
                </a:lnTo>
                <a:lnTo>
                  <a:pt x="230" y="1253"/>
                </a:lnTo>
                <a:lnTo>
                  <a:pt x="202" y="1278"/>
                </a:lnTo>
                <a:lnTo>
                  <a:pt x="173" y="1303"/>
                </a:lnTo>
                <a:lnTo>
                  <a:pt x="144" y="1326"/>
                </a:lnTo>
                <a:lnTo>
                  <a:pt x="115" y="1347"/>
                </a:lnTo>
                <a:lnTo>
                  <a:pt x="87" y="1368"/>
                </a:lnTo>
                <a:lnTo>
                  <a:pt x="58" y="1390"/>
                </a:lnTo>
                <a:lnTo>
                  <a:pt x="29" y="1409"/>
                </a:lnTo>
                <a:lnTo>
                  <a:pt x="0" y="1428"/>
                </a:lnTo>
                <a:lnTo>
                  <a:pt x="0" y="1422"/>
                </a:lnTo>
                <a:lnTo>
                  <a:pt x="2" y="1416"/>
                </a:lnTo>
                <a:lnTo>
                  <a:pt x="4" y="1409"/>
                </a:lnTo>
                <a:lnTo>
                  <a:pt x="10" y="1399"/>
                </a:lnTo>
                <a:lnTo>
                  <a:pt x="14" y="1391"/>
                </a:lnTo>
                <a:lnTo>
                  <a:pt x="21" y="1380"/>
                </a:lnTo>
                <a:lnTo>
                  <a:pt x="29" y="1368"/>
                </a:lnTo>
                <a:lnTo>
                  <a:pt x="37" y="1357"/>
                </a:lnTo>
                <a:lnTo>
                  <a:pt x="48" y="1343"/>
                </a:lnTo>
                <a:lnTo>
                  <a:pt x="60" y="1328"/>
                </a:lnTo>
                <a:lnTo>
                  <a:pt x="71" y="1313"/>
                </a:lnTo>
                <a:lnTo>
                  <a:pt x="87" y="1297"/>
                </a:lnTo>
                <a:lnTo>
                  <a:pt x="102" y="1280"/>
                </a:lnTo>
                <a:lnTo>
                  <a:pt x="117" y="1261"/>
                </a:lnTo>
                <a:lnTo>
                  <a:pt x="136" y="1242"/>
                </a:lnTo>
                <a:lnTo>
                  <a:pt x="156" y="1221"/>
                </a:lnTo>
                <a:lnTo>
                  <a:pt x="190" y="1178"/>
                </a:lnTo>
                <a:lnTo>
                  <a:pt x="227" y="1136"/>
                </a:lnTo>
                <a:lnTo>
                  <a:pt x="263" y="1090"/>
                </a:lnTo>
                <a:lnTo>
                  <a:pt x="298" y="1044"/>
                </a:lnTo>
                <a:lnTo>
                  <a:pt x="332" y="998"/>
                </a:lnTo>
                <a:lnTo>
                  <a:pt x="367" y="950"/>
                </a:lnTo>
                <a:lnTo>
                  <a:pt x="399" y="900"/>
                </a:lnTo>
                <a:lnTo>
                  <a:pt x="432" y="848"/>
                </a:lnTo>
                <a:lnTo>
                  <a:pt x="447" y="823"/>
                </a:lnTo>
                <a:lnTo>
                  <a:pt x="461" y="800"/>
                </a:lnTo>
                <a:lnTo>
                  <a:pt x="490" y="752"/>
                </a:lnTo>
                <a:lnTo>
                  <a:pt x="516" y="702"/>
                </a:lnTo>
                <a:lnTo>
                  <a:pt x="541" y="652"/>
                </a:lnTo>
                <a:lnTo>
                  <a:pt x="564" y="603"/>
                </a:lnTo>
                <a:lnTo>
                  <a:pt x="586" y="551"/>
                </a:lnTo>
                <a:lnTo>
                  <a:pt x="605" y="499"/>
                </a:lnTo>
                <a:lnTo>
                  <a:pt x="624" y="447"/>
                </a:lnTo>
                <a:lnTo>
                  <a:pt x="630" y="424"/>
                </a:lnTo>
                <a:lnTo>
                  <a:pt x="635" y="403"/>
                </a:lnTo>
                <a:lnTo>
                  <a:pt x="641" y="382"/>
                </a:lnTo>
                <a:lnTo>
                  <a:pt x="647" y="363"/>
                </a:lnTo>
                <a:lnTo>
                  <a:pt x="653" y="343"/>
                </a:lnTo>
                <a:lnTo>
                  <a:pt x="657" y="326"/>
                </a:lnTo>
                <a:lnTo>
                  <a:pt x="660" y="309"/>
                </a:lnTo>
                <a:lnTo>
                  <a:pt x="664" y="295"/>
                </a:lnTo>
                <a:lnTo>
                  <a:pt x="668" y="282"/>
                </a:lnTo>
                <a:lnTo>
                  <a:pt x="670" y="269"/>
                </a:lnTo>
                <a:lnTo>
                  <a:pt x="672" y="259"/>
                </a:lnTo>
                <a:lnTo>
                  <a:pt x="674" y="249"/>
                </a:lnTo>
                <a:lnTo>
                  <a:pt x="674" y="242"/>
                </a:lnTo>
                <a:lnTo>
                  <a:pt x="674" y="234"/>
                </a:lnTo>
                <a:lnTo>
                  <a:pt x="672" y="230"/>
                </a:lnTo>
                <a:lnTo>
                  <a:pt x="672" y="226"/>
                </a:lnTo>
                <a:lnTo>
                  <a:pt x="666" y="221"/>
                </a:lnTo>
                <a:lnTo>
                  <a:pt x="662" y="219"/>
                </a:lnTo>
                <a:lnTo>
                  <a:pt x="657" y="215"/>
                </a:lnTo>
                <a:lnTo>
                  <a:pt x="653" y="213"/>
                </a:lnTo>
                <a:lnTo>
                  <a:pt x="649" y="213"/>
                </a:lnTo>
                <a:lnTo>
                  <a:pt x="643" y="213"/>
                </a:lnTo>
                <a:lnTo>
                  <a:pt x="635" y="213"/>
                </a:lnTo>
                <a:lnTo>
                  <a:pt x="630" y="213"/>
                </a:lnTo>
                <a:lnTo>
                  <a:pt x="624" y="213"/>
                </a:lnTo>
                <a:lnTo>
                  <a:pt x="616" y="213"/>
                </a:lnTo>
                <a:lnTo>
                  <a:pt x="609" y="213"/>
                </a:lnTo>
                <a:lnTo>
                  <a:pt x="601" y="215"/>
                </a:lnTo>
                <a:lnTo>
                  <a:pt x="593" y="217"/>
                </a:lnTo>
                <a:lnTo>
                  <a:pt x="584" y="221"/>
                </a:lnTo>
                <a:lnTo>
                  <a:pt x="576" y="226"/>
                </a:lnTo>
                <a:lnTo>
                  <a:pt x="568" y="228"/>
                </a:lnTo>
                <a:lnTo>
                  <a:pt x="563" y="230"/>
                </a:lnTo>
                <a:lnTo>
                  <a:pt x="557" y="234"/>
                </a:lnTo>
                <a:lnTo>
                  <a:pt x="553" y="236"/>
                </a:lnTo>
                <a:lnTo>
                  <a:pt x="543" y="240"/>
                </a:lnTo>
                <a:lnTo>
                  <a:pt x="536" y="246"/>
                </a:lnTo>
                <a:lnTo>
                  <a:pt x="530" y="247"/>
                </a:lnTo>
                <a:lnTo>
                  <a:pt x="524" y="251"/>
                </a:lnTo>
                <a:lnTo>
                  <a:pt x="520" y="253"/>
                </a:lnTo>
                <a:lnTo>
                  <a:pt x="515" y="253"/>
                </a:lnTo>
                <a:lnTo>
                  <a:pt x="513" y="253"/>
                </a:lnTo>
                <a:lnTo>
                  <a:pt x="509" y="253"/>
                </a:lnTo>
                <a:lnTo>
                  <a:pt x="507" y="251"/>
                </a:lnTo>
                <a:lnTo>
                  <a:pt x="501" y="251"/>
                </a:lnTo>
                <a:lnTo>
                  <a:pt x="493" y="247"/>
                </a:lnTo>
                <a:lnTo>
                  <a:pt x="482" y="246"/>
                </a:lnTo>
                <a:lnTo>
                  <a:pt x="470" y="240"/>
                </a:lnTo>
                <a:lnTo>
                  <a:pt x="457" y="236"/>
                </a:lnTo>
                <a:lnTo>
                  <a:pt x="445" y="230"/>
                </a:lnTo>
                <a:lnTo>
                  <a:pt x="432" y="226"/>
                </a:lnTo>
                <a:lnTo>
                  <a:pt x="422" y="223"/>
                </a:lnTo>
                <a:lnTo>
                  <a:pt x="415" y="221"/>
                </a:lnTo>
                <a:lnTo>
                  <a:pt x="407" y="219"/>
                </a:lnTo>
                <a:lnTo>
                  <a:pt x="399" y="215"/>
                </a:lnTo>
                <a:lnTo>
                  <a:pt x="394" y="213"/>
                </a:lnTo>
                <a:lnTo>
                  <a:pt x="388" y="211"/>
                </a:lnTo>
                <a:lnTo>
                  <a:pt x="382" y="207"/>
                </a:lnTo>
                <a:lnTo>
                  <a:pt x="376" y="205"/>
                </a:lnTo>
                <a:lnTo>
                  <a:pt x="373" y="201"/>
                </a:lnTo>
                <a:lnTo>
                  <a:pt x="369" y="199"/>
                </a:lnTo>
                <a:lnTo>
                  <a:pt x="367" y="198"/>
                </a:lnTo>
                <a:lnTo>
                  <a:pt x="363" y="194"/>
                </a:lnTo>
                <a:lnTo>
                  <a:pt x="361" y="192"/>
                </a:lnTo>
                <a:lnTo>
                  <a:pt x="361" y="190"/>
                </a:lnTo>
                <a:lnTo>
                  <a:pt x="359" y="186"/>
                </a:lnTo>
                <a:lnTo>
                  <a:pt x="359" y="184"/>
                </a:lnTo>
                <a:lnTo>
                  <a:pt x="359" y="182"/>
                </a:lnTo>
                <a:lnTo>
                  <a:pt x="361" y="178"/>
                </a:lnTo>
                <a:lnTo>
                  <a:pt x="365" y="176"/>
                </a:lnTo>
                <a:lnTo>
                  <a:pt x="369" y="175"/>
                </a:lnTo>
                <a:lnTo>
                  <a:pt x="373" y="171"/>
                </a:lnTo>
                <a:lnTo>
                  <a:pt x="380" y="169"/>
                </a:lnTo>
                <a:lnTo>
                  <a:pt x="386" y="165"/>
                </a:lnTo>
                <a:lnTo>
                  <a:pt x="396" y="161"/>
                </a:lnTo>
                <a:lnTo>
                  <a:pt x="405" y="159"/>
                </a:lnTo>
                <a:lnTo>
                  <a:pt x="415" y="155"/>
                </a:lnTo>
                <a:lnTo>
                  <a:pt x="426" y="151"/>
                </a:lnTo>
                <a:lnTo>
                  <a:pt x="440" y="148"/>
                </a:lnTo>
                <a:lnTo>
                  <a:pt x="455" y="144"/>
                </a:lnTo>
                <a:lnTo>
                  <a:pt x="468" y="138"/>
                </a:lnTo>
                <a:lnTo>
                  <a:pt x="486" y="134"/>
                </a:lnTo>
                <a:lnTo>
                  <a:pt x="503" y="128"/>
                </a:lnTo>
                <a:lnTo>
                  <a:pt x="518" y="125"/>
                </a:lnTo>
                <a:lnTo>
                  <a:pt x="534" y="119"/>
                </a:lnTo>
                <a:lnTo>
                  <a:pt x="547" y="113"/>
                </a:lnTo>
                <a:lnTo>
                  <a:pt x="561" y="107"/>
                </a:lnTo>
                <a:lnTo>
                  <a:pt x="574" y="102"/>
                </a:lnTo>
                <a:lnTo>
                  <a:pt x="588" y="98"/>
                </a:lnTo>
                <a:lnTo>
                  <a:pt x="599" y="92"/>
                </a:lnTo>
                <a:lnTo>
                  <a:pt x="609" y="86"/>
                </a:lnTo>
                <a:lnTo>
                  <a:pt x="620" y="80"/>
                </a:lnTo>
                <a:lnTo>
                  <a:pt x="630" y="73"/>
                </a:lnTo>
                <a:lnTo>
                  <a:pt x="637" y="67"/>
                </a:lnTo>
                <a:lnTo>
                  <a:pt x="647" y="61"/>
                </a:lnTo>
                <a:lnTo>
                  <a:pt x="655" y="54"/>
                </a:lnTo>
                <a:lnTo>
                  <a:pt x="660" y="48"/>
                </a:lnTo>
                <a:lnTo>
                  <a:pt x="666" y="40"/>
                </a:lnTo>
                <a:lnTo>
                  <a:pt x="672" y="32"/>
                </a:lnTo>
                <a:lnTo>
                  <a:pt x="680" y="23"/>
                </a:lnTo>
                <a:lnTo>
                  <a:pt x="689" y="13"/>
                </a:lnTo>
                <a:lnTo>
                  <a:pt x="699" y="8"/>
                </a:lnTo>
                <a:lnTo>
                  <a:pt x="703" y="6"/>
                </a:lnTo>
                <a:lnTo>
                  <a:pt x="708" y="2"/>
                </a:lnTo>
                <a:lnTo>
                  <a:pt x="714" y="2"/>
                </a:lnTo>
                <a:lnTo>
                  <a:pt x="718" y="0"/>
                </a:lnTo>
                <a:lnTo>
                  <a:pt x="724" y="0"/>
                </a:lnTo>
                <a:lnTo>
                  <a:pt x="730" y="0"/>
                </a:lnTo>
                <a:lnTo>
                  <a:pt x="735" y="0"/>
                </a:lnTo>
                <a:lnTo>
                  <a:pt x="743" y="0"/>
                </a:lnTo>
                <a:lnTo>
                  <a:pt x="749" y="2"/>
                </a:lnTo>
                <a:lnTo>
                  <a:pt x="754" y="6"/>
                </a:lnTo>
                <a:lnTo>
                  <a:pt x="768" y="9"/>
                </a:lnTo>
                <a:lnTo>
                  <a:pt x="781" y="15"/>
                </a:lnTo>
                <a:lnTo>
                  <a:pt x="797" y="21"/>
                </a:lnTo>
                <a:lnTo>
                  <a:pt x="810" y="29"/>
                </a:lnTo>
                <a:lnTo>
                  <a:pt x="826" y="36"/>
                </a:lnTo>
                <a:lnTo>
                  <a:pt x="833" y="42"/>
                </a:lnTo>
                <a:lnTo>
                  <a:pt x="841" y="48"/>
                </a:lnTo>
                <a:lnTo>
                  <a:pt x="849" y="54"/>
                </a:lnTo>
                <a:lnTo>
                  <a:pt x="856" y="59"/>
                </a:lnTo>
                <a:lnTo>
                  <a:pt x="866" y="67"/>
                </a:lnTo>
                <a:lnTo>
                  <a:pt x="875" y="75"/>
                </a:lnTo>
                <a:lnTo>
                  <a:pt x="887" y="90"/>
                </a:lnTo>
                <a:lnTo>
                  <a:pt x="898" y="105"/>
                </a:lnTo>
                <a:lnTo>
                  <a:pt x="910" y="119"/>
                </a:lnTo>
                <a:lnTo>
                  <a:pt x="918" y="132"/>
                </a:lnTo>
                <a:lnTo>
                  <a:pt x="925" y="146"/>
                </a:lnTo>
                <a:lnTo>
                  <a:pt x="927" y="150"/>
                </a:lnTo>
                <a:lnTo>
                  <a:pt x="931" y="155"/>
                </a:lnTo>
                <a:lnTo>
                  <a:pt x="931" y="159"/>
                </a:lnTo>
                <a:lnTo>
                  <a:pt x="933" y="163"/>
                </a:lnTo>
                <a:lnTo>
                  <a:pt x="935" y="167"/>
                </a:lnTo>
                <a:lnTo>
                  <a:pt x="935" y="171"/>
                </a:lnTo>
                <a:lnTo>
                  <a:pt x="929" y="176"/>
                </a:lnTo>
                <a:lnTo>
                  <a:pt x="925" y="182"/>
                </a:lnTo>
                <a:lnTo>
                  <a:pt x="921" y="190"/>
                </a:lnTo>
                <a:lnTo>
                  <a:pt x="916" y="198"/>
                </a:lnTo>
                <a:lnTo>
                  <a:pt x="910" y="205"/>
                </a:lnTo>
                <a:lnTo>
                  <a:pt x="902" y="213"/>
                </a:lnTo>
                <a:lnTo>
                  <a:pt x="895" y="221"/>
                </a:lnTo>
                <a:lnTo>
                  <a:pt x="887" y="226"/>
                </a:lnTo>
                <a:lnTo>
                  <a:pt x="881" y="232"/>
                </a:lnTo>
                <a:lnTo>
                  <a:pt x="877" y="240"/>
                </a:lnTo>
                <a:lnTo>
                  <a:pt x="870" y="249"/>
                </a:lnTo>
                <a:lnTo>
                  <a:pt x="864" y="259"/>
                </a:lnTo>
                <a:lnTo>
                  <a:pt x="856" y="272"/>
                </a:lnTo>
                <a:lnTo>
                  <a:pt x="849" y="286"/>
                </a:lnTo>
                <a:lnTo>
                  <a:pt x="841" y="303"/>
                </a:lnTo>
                <a:lnTo>
                  <a:pt x="833" y="320"/>
                </a:lnTo>
                <a:lnTo>
                  <a:pt x="824" y="340"/>
                </a:lnTo>
                <a:lnTo>
                  <a:pt x="814" y="363"/>
                </a:lnTo>
                <a:lnTo>
                  <a:pt x="802" y="386"/>
                </a:lnTo>
                <a:lnTo>
                  <a:pt x="791" y="411"/>
                </a:lnTo>
                <a:lnTo>
                  <a:pt x="781" y="437"/>
                </a:lnTo>
                <a:lnTo>
                  <a:pt x="774" y="451"/>
                </a:lnTo>
                <a:lnTo>
                  <a:pt x="768" y="466"/>
                </a:lnTo>
                <a:lnTo>
                  <a:pt x="762" y="482"/>
                </a:lnTo>
                <a:lnTo>
                  <a:pt x="756" y="497"/>
                </a:lnTo>
                <a:lnTo>
                  <a:pt x="749" y="512"/>
                </a:lnTo>
                <a:lnTo>
                  <a:pt x="743" y="5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90"/>
          <p:cNvSpPr/>
          <p:nvPr/>
        </p:nvSpPr>
        <p:spPr>
          <a:xfrm>
            <a:off x="6118200" y="2906640"/>
            <a:ext cx="200160" cy="230400"/>
          </a:xfrm>
          <a:custGeom>
            <a:avLst/>
            <a:gdLst/>
            <a:ahLst/>
            <a:rect l="l" t="t" r="r" b="b"/>
            <a:pathLst>
              <a:path w="253" h="292">
                <a:moveTo>
                  <a:pt x="0" y="29"/>
                </a:moveTo>
                <a:lnTo>
                  <a:pt x="5" y="23"/>
                </a:lnTo>
                <a:lnTo>
                  <a:pt x="11" y="17"/>
                </a:lnTo>
                <a:lnTo>
                  <a:pt x="19" y="13"/>
                </a:lnTo>
                <a:lnTo>
                  <a:pt x="28" y="10"/>
                </a:lnTo>
                <a:lnTo>
                  <a:pt x="40" y="6"/>
                </a:lnTo>
                <a:lnTo>
                  <a:pt x="46" y="4"/>
                </a:lnTo>
                <a:lnTo>
                  <a:pt x="53" y="4"/>
                </a:lnTo>
                <a:lnTo>
                  <a:pt x="59" y="2"/>
                </a:lnTo>
                <a:lnTo>
                  <a:pt x="67" y="2"/>
                </a:lnTo>
                <a:lnTo>
                  <a:pt x="74" y="0"/>
                </a:lnTo>
                <a:lnTo>
                  <a:pt x="84" y="0"/>
                </a:lnTo>
                <a:lnTo>
                  <a:pt x="98" y="2"/>
                </a:lnTo>
                <a:lnTo>
                  <a:pt x="113" y="4"/>
                </a:lnTo>
                <a:lnTo>
                  <a:pt x="128" y="8"/>
                </a:lnTo>
                <a:lnTo>
                  <a:pt x="138" y="10"/>
                </a:lnTo>
                <a:lnTo>
                  <a:pt x="146" y="12"/>
                </a:lnTo>
                <a:lnTo>
                  <a:pt x="155" y="15"/>
                </a:lnTo>
                <a:lnTo>
                  <a:pt x="163" y="19"/>
                </a:lnTo>
                <a:lnTo>
                  <a:pt x="172" y="25"/>
                </a:lnTo>
                <a:lnTo>
                  <a:pt x="180" y="29"/>
                </a:lnTo>
                <a:lnTo>
                  <a:pt x="190" y="35"/>
                </a:lnTo>
                <a:lnTo>
                  <a:pt x="197" y="42"/>
                </a:lnTo>
                <a:lnTo>
                  <a:pt x="207" y="48"/>
                </a:lnTo>
                <a:lnTo>
                  <a:pt x="217" y="56"/>
                </a:lnTo>
                <a:lnTo>
                  <a:pt x="222" y="63"/>
                </a:lnTo>
                <a:lnTo>
                  <a:pt x="228" y="73"/>
                </a:lnTo>
                <a:lnTo>
                  <a:pt x="234" y="83"/>
                </a:lnTo>
                <a:lnTo>
                  <a:pt x="238" y="92"/>
                </a:lnTo>
                <a:lnTo>
                  <a:pt x="241" y="104"/>
                </a:lnTo>
                <a:lnTo>
                  <a:pt x="245" y="115"/>
                </a:lnTo>
                <a:lnTo>
                  <a:pt x="247" y="129"/>
                </a:lnTo>
                <a:lnTo>
                  <a:pt x="251" y="142"/>
                </a:lnTo>
                <a:lnTo>
                  <a:pt x="251" y="157"/>
                </a:lnTo>
                <a:lnTo>
                  <a:pt x="253" y="173"/>
                </a:lnTo>
                <a:lnTo>
                  <a:pt x="253" y="190"/>
                </a:lnTo>
                <a:lnTo>
                  <a:pt x="251" y="207"/>
                </a:lnTo>
                <a:lnTo>
                  <a:pt x="249" y="227"/>
                </a:lnTo>
                <a:lnTo>
                  <a:pt x="247" y="248"/>
                </a:lnTo>
                <a:lnTo>
                  <a:pt x="243" y="269"/>
                </a:lnTo>
                <a:lnTo>
                  <a:pt x="240" y="292"/>
                </a:lnTo>
                <a:lnTo>
                  <a:pt x="217" y="273"/>
                </a:lnTo>
                <a:lnTo>
                  <a:pt x="193" y="255"/>
                </a:lnTo>
                <a:lnTo>
                  <a:pt x="172" y="240"/>
                </a:lnTo>
                <a:lnTo>
                  <a:pt x="153" y="225"/>
                </a:lnTo>
                <a:lnTo>
                  <a:pt x="134" y="211"/>
                </a:lnTo>
                <a:lnTo>
                  <a:pt x="117" y="198"/>
                </a:lnTo>
                <a:lnTo>
                  <a:pt x="101" y="184"/>
                </a:lnTo>
                <a:lnTo>
                  <a:pt x="88" y="173"/>
                </a:lnTo>
                <a:lnTo>
                  <a:pt x="74" y="161"/>
                </a:lnTo>
                <a:lnTo>
                  <a:pt x="63" y="152"/>
                </a:lnTo>
                <a:lnTo>
                  <a:pt x="53" y="140"/>
                </a:lnTo>
                <a:lnTo>
                  <a:pt x="44" y="131"/>
                </a:lnTo>
                <a:lnTo>
                  <a:pt x="38" y="123"/>
                </a:lnTo>
                <a:lnTo>
                  <a:pt x="32" y="113"/>
                </a:lnTo>
                <a:lnTo>
                  <a:pt x="27" y="106"/>
                </a:lnTo>
                <a:lnTo>
                  <a:pt x="25" y="98"/>
                </a:lnTo>
                <a:lnTo>
                  <a:pt x="23" y="90"/>
                </a:lnTo>
                <a:lnTo>
                  <a:pt x="21" y="83"/>
                </a:lnTo>
                <a:lnTo>
                  <a:pt x="17" y="77"/>
                </a:lnTo>
                <a:lnTo>
                  <a:pt x="15" y="71"/>
                </a:lnTo>
                <a:lnTo>
                  <a:pt x="13" y="65"/>
                </a:lnTo>
                <a:lnTo>
                  <a:pt x="11" y="61"/>
                </a:lnTo>
                <a:lnTo>
                  <a:pt x="7" y="52"/>
                </a:lnTo>
                <a:lnTo>
                  <a:pt x="5" y="46"/>
                </a:lnTo>
                <a:lnTo>
                  <a:pt x="2" y="38"/>
                </a:lnTo>
                <a:lnTo>
                  <a:pt x="2" y="35"/>
                </a:lnTo>
                <a:lnTo>
                  <a:pt x="0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91"/>
          <p:cNvSpPr/>
          <p:nvPr/>
        </p:nvSpPr>
        <p:spPr>
          <a:xfrm>
            <a:off x="5516640" y="3576600"/>
            <a:ext cx="412560" cy="911160"/>
          </a:xfrm>
          <a:custGeom>
            <a:avLst/>
            <a:gdLst/>
            <a:ahLst/>
            <a:rect l="l" t="t" r="r" b="b"/>
            <a:pathLst>
              <a:path w="521" h="1147">
                <a:moveTo>
                  <a:pt x="521" y="13"/>
                </a:moveTo>
                <a:lnTo>
                  <a:pt x="517" y="23"/>
                </a:lnTo>
                <a:lnTo>
                  <a:pt x="513" y="34"/>
                </a:lnTo>
                <a:lnTo>
                  <a:pt x="509" y="48"/>
                </a:lnTo>
                <a:lnTo>
                  <a:pt x="505" y="59"/>
                </a:lnTo>
                <a:lnTo>
                  <a:pt x="501" y="73"/>
                </a:lnTo>
                <a:lnTo>
                  <a:pt x="498" y="86"/>
                </a:lnTo>
                <a:lnTo>
                  <a:pt x="494" y="101"/>
                </a:lnTo>
                <a:lnTo>
                  <a:pt x="488" y="117"/>
                </a:lnTo>
                <a:lnTo>
                  <a:pt x="484" y="132"/>
                </a:lnTo>
                <a:lnTo>
                  <a:pt x="478" y="147"/>
                </a:lnTo>
                <a:lnTo>
                  <a:pt x="475" y="165"/>
                </a:lnTo>
                <a:lnTo>
                  <a:pt x="469" y="184"/>
                </a:lnTo>
                <a:lnTo>
                  <a:pt x="465" y="201"/>
                </a:lnTo>
                <a:lnTo>
                  <a:pt x="459" y="220"/>
                </a:lnTo>
                <a:lnTo>
                  <a:pt x="453" y="240"/>
                </a:lnTo>
                <a:lnTo>
                  <a:pt x="450" y="261"/>
                </a:lnTo>
                <a:lnTo>
                  <a:pt x="444" y="280"/>
                </a:lnTo>
                <a:lnTo>
                  <a:pt x="438" y="301"/>
                </a:lnTo>
                <a:lnTo>
                  <a:pt x="432" y="324"/>
                </a:lnTo>
                <a:lnTo>
                  <a:pt x="427" y="347"/>
                </a:lnTo>
                <a:lnTo>
                  <a:pt x="421" y="370"/>
                </a:lnTo>
                <a:lnTo>
                  <a:pt x="415" y="393"/>
                </a:lnTo>
                <a:lnTo>
                  <a:pt x="409" y="418"/>
                </a:lnTo>
                <a:lnTo>
                  <a:pt x="404" y="443"/>
                </a:lnTo>
                <a:lnTo>
                  <a:pt x="396" y="468"/>
                </a:lnTo>
                <a:lnTo>
                  <a:pt x="390" y="493"/>
                </a:lnTo>
                <a:lnTo>
                  <a:pt x="384" y="520"/>
                </a:lnTo>
                <a:lnTo>
                  <a:pt x="379" y="549"/>
                </a:lnTo>
                <a:lnTo>
                  <a:pt x="371" y="575"/>
                </a:lnTo>
                <a:lnTo>
                  <a:pt x="365" y="604"/>
                </a:lnTo>
                <a:lnTo>
                  <a:pt x="357" y="633"/>
                </a:lnTo>
                <a:lnTo>
                  <a:pt x="352" y="662"/>
                </a:lnTo>
                <a:lnTo>
                  <a:pt x="346" y="693"/>
                </a:lnTo>
                <a:lnTo>
                  <a:pt x="338" y="719"/>
                </a:lnTo>
                <a:lnTo>
                  <a:pt x="333" y="748"/>
                </a:lnTo>
                <a:lnTo>
                  <a:pt x="327" y="775"/>
                </a:lnTo>
                <a:lnTo>
                  <a:pt x="321" y="800"/>
                </a:lnTo>
                <a:lnTo>
                  <a:pt x="313" y="825"/>
                </a:lnTo>
                <a:lnTo>
                  <a:pt x="308" y="850"/>
                </a:lnTo>
                <a:lnTo>
                  <a:pt x="302" y="873"/>
                </a:lnTo>
                <a:lnTo>
                  <a:pt x="298" y="894"/>
                </a:lnTo>
                <a:lnTo>
                  <a:pt x="292" y="915"/>
                </a:lnTo>
                <a:lnTo>
                  <a:pt x="286" y="936"/>
                </a:lnTo>
                <a:lnTo>
                  <a:pt x="281" y="955"/>
                </a:lnTo>
                <a:lnTo>
                  <a:pt x="275" y="975"/>
                </a:lnTo>
                <a:lnTo>
                  <a:pt x="271" y="992"/>
                </a:lnTo>
                <a:lnTo>
                  <a:pt x="265" y="1007"/>
                </a:lnTo>
                <a:lnTo>
                  <a:pt x="261" y="1025"/>
                </a:lnTo>
                <a:lnTo>
                  <a:pt x="256" y="1038"/>
                </a:lnTo>
                <a:lnTo>
                  <a:pt x="252" y="1053"/>
                </a:lnTo>
                <a:lnTo>
                  <a:pt x="246" y="1065"/>
                </a:lnTo>
                <a:lnTo>
                  <a:pt x="242" y="1076"/>
                </a:lnTo>
                <a:lnTo>
                  <a:pt x="238" y="1088"/>
                </a:lnTo>
                <a:lnTo>
                  <a:pt x="235" y="1098"/>
                </a:lnTo>
                <a:lnTo>
                  <a:pt x="229" y="1107"/>
                </a:lnTo>
                <a:lnTo>
                  <a:pt x="225" y="1115"/>
                </a:lnTo>
                <a:lnTo>
                  <a:pt x="221" y="1122"/>
                </a:lnTo>
                <a:lnTo>
                  <a:pt x="217" y="1128"/>
                </a:lnTo>
                <a:lnTo>
                  <a:pt x="213" y="1134"/>
                </a:lnTo>
                <a:lnTo>
                  <a:pt x="210" y="1138"/>
                </a:lnTo>
                <a:lnTo>
                  <a:pt x="206" y="1142"/>
                </a:lnTo>
                <a:lnTo>
                  <a:pt x="202" y="1145"/>
                </a:lnTo>
                <a:lnTo>
                  <a:pt x="200" y="1145"/>
                </a:lnTo>
                <a:lnTo>
                  <a:pt x="196" y="1147"/>
                </a:lnTo>
                <a:lnTo>
                  <a:pt x="189" y="1145"/>
                </a:lnTo>
                <a:lnTo>
                  <a:pt x="183" y="1144"/>
                </a:lnTo>
                <a:lnTo>
                  <a:pt x="175" y="1142"/>
                </a:lnTo>
                <a:lnTo>
                  <a:pt x="169" y="1136"/>
                </a:lnTo>
                <a:lnTo>
                  <a:pt x="162" y="1130"/>
                </a:lnTo>
                <a:lnTo>
                  <a:pt x="154" y="1124"/>
                </a:lnTo>
                <a:lnTo>
                  <a:pt x="148" y="1117"/>
                </a:lnTo>
                <a:lnTo>
                  <a:pt x="141" y="1107"/>
                </a:lnTo>
                <a:lnTo>
                  <a:pt x="133" y="1096"/>
                </a:lnTo>
                <a:lnTo>
                  <a:pt x="125" y="1086"/>
                </a:lnTo>
                <a:lnTo>
                  <a:pt x="118" y="1073"/>
                </a:lnTo>
                <a:lnTo>
                  <a:pt x="110" y="1059"/>
                </a:lnTo>
                <a:lnTo>
                  <a:pt x="102" y="1044"/>
                </a:lnTo>
                <a:lnTo>
                  <a:pt x="93" y="1028"/>
                </a:lnTo>
                <a:lnTo>
                  <a:pt x="85" y="1011"/>
                </a:lnTo>
                <a:lnTo>
                  <a:pt x="75" y="994"/>
                </a:lnTo>
                <a:lnTo>
                  <a:pt x="66" y="977"/>
                </a:lnTo>
                <a:lnTo>
                  <a:pt x="56" y="959"/>
                </a:lnTo>
                <a:lnTo>
                  <a:pt x="47" y="944"/>
                </a:lnTo>
                <a:lnTo>
                  <a:pt x="39" y="929"/>
                </a:lnTo>
                <a:lnTo>
                  <a:pt x="31" y="915"/>
                </a:lnTo>
                <a:lnTo>
                  <a:pt x="23" y="902"/>
                </a:lnTo>
                <a:lnTo>
                  <a:pt x="18" y="890"/>
                </a:lnTo>
                <a:lnTo>
                  <a:pt x="14" y="879"/>
                </a:lnTo>
                <a:lnTo>
                  <a:pt x="10" y="867"/>
                </a:lnTo>
                <a:lnTo>
                  <a:pt x="6" y="858"/>
                </a:lnTo>
                <a:lnTo>
                  <a:pt x="4" y="848"/>
                </a:lnTo>
                <a:lnTo>
                  <a:pt x="2" y="840"/>
                </a:lnTo>
                <a:lnTo>
                  <a:pt x="0" y="833"/>
                </a:lnTo>
                <a:lnTo>
                  <a:pt x="0" y="827"/>
                </a:lnTo>
                <a:lnTo>
                  <a:pt x="2" y="819"/>
                </a:lnTo>
                <a:lnTo>
                  <a:pt x="4" y="815"/>
                </a:lnTo>
                <a:lnTo>
                  <a:pt x="4" y="812"/>
                </a:lnTo>
                <a:lnTo>
                  <a:pt x="4" y="810"/>
                </a:lnTo>
                <a:lnTo>
                  <a:pt x="6" y="806"/>
                </a:lnTo>
                <a:lnTo>
                  <a:pt x="8" y="802"/>
                </a:lnTo>
                <a:lnTo>
                  <a:pt x="10" y="798"/>
                </a:lnTo>
                <a:lnTo>
                  <a:pt x="14" y="794"/>
                </a:lnTo>
                <a:lnTo>
                  <a:pt x="20" y="787"/>
                </a:lnTo>
                <a:lnTo>
                  <a:pt x="29" y="779"/>
                </a:lnTo>
                <a:lnTo>
                  <a:pt x="39" y="771"/>
                </a:lnTo>
                <a:lnTo>
                  <a:pt x="50" y="765"/>
                </a:lnTo>
                <a:lnTo>
                  <a:pt x="64" y="760"/>
                </a:lnTo>
                <a:lnTo>
                  <a:pt x="77" y="754"/>
                </a:lnTo>
                <a:lnTo>
                  <a:pt x="89" y="746"/>
                </a:lnTo>
                <a:lnTo>
                  <a:pt x="100" y="739"/>
                </a:lnTo>
                <a:lnTo>
                  <a:pt x="110" y="731"/>
                </a:lnTo>
                <a:lnTo>
                  <a:pt x="118" y="723"/>
                </a:lnTo>
                <a:lnTo>
                  <a:pt x="125" y="717"/>
                </a:lnTo>
                <a:lnTo>
                  <a:pt x="131" y="710"/>
                </a:lnTo>
                <a:lnTo>
                  <a:pt x="137" y="704"/>
                </a:lnTo>
                <a:lnTo>
                  <a:pt x="137" y="702"/>
                </a:lnTo>
                <a:lnTo>
                  <a:pt x="139" y="698"/>
                </a:lnTo>
                <a:lnTo>
                  <a:pt x="142" y="694"/>
                </a:lnTo>
                <a:lnTo>
                  <a:pt x="144" y="689"/>
                </a:lnTo>
                <a:lnTo>
                  <a:pt x="148" y="681"/>
                </a:lnTo>
                <a:lnTo>
                  <a:pt x="152" y="673"/>
                </a:lnTo>
                <a:lnTo>
                  <a:pt x="158" y="664"/>
                </a:lnTo>
                <a:lnTo>
                  <a:pt x="164" y="652"/>
                </a:lnTo>
                <a:lnTo>
                  <a:pt x="169" y="641"/>
                </a:lnTo>
                <a:lnTo>
                  <a:pt x="175" y="627"/>
                </a:lnTo>
                <a:lnTo>
                  <a:pt x="183" y="612"/>
                </a:lnTo>
                <a:lnTo>
                  <a:pt x="190" y="595"/>
                </a:lnTo>
                <a:lnTo>
                  <a:pt x="198" y="577"/>
                </a:lnTo>
                <a:lnTo>
                  <a:pt x="208" y="560"/>
                </a:lnTo>
                <a:lnTo>
                  <a:pt x="217" y="539"/>
                </a:lnTo>
                <a:lnTo>
                  <a:pt x="227" y="518"/>
                </a:lnTo>
                <a:lnTo>
                  <a:pt x="238" y="495"/>
                </a:lnTo>
                <a:lnTo>
                  <a:pt x="248" y="472"/>
                </a:lnTo>
                <a:lnTo>
                  <a:pt x="260" y="447"/>
                </a:lnTo>
                <a:lnTo>
                  <a:pt x="273" y="420"/>
                </a:lnTo>
                <a:lnTo>
                  <a:pt x="285" y="391"/>
                </a:lnTo>
                <a:lnTo>
                  <a:pt x="298" y="362"/>
                </a:lnTo>
                <a:lnTo>
                  <a:pt x="311" y="332"/>
                </a:lnTo>
                <a:lnTo>
                  <a:pt x="327" y="301"/>
                </a:lnTo>
                <a:lnTo>
                  <a:pt x="340" y="266"/>
                </a:lnTo>
                <a:lnTo>
                  <a:pt x="356" y="232"/>
                </a:lnTo>
                <a:lnTo>
                  <a:pt x="373" y="197"/>
                </a:lnTo>
                <a:lnTo>
                  <a:pt x="388" y="159"/>
                </a:lnTo>
                <a:lnTo>
                  <a:pt x="405" y="122"/>
                </a:lnTo>
                <a:lnTo>
                  <a:pt x="423" y="82"/>
                </a:lnTo>
                <a:lnTo>
                  <a:pt x="442" y="42"/>
                </a:lnTo>
                <a:lnTo>
                  <a:pt x="459" y="0"/>
                </a:lnTo>
                <a:lnTo>
                  <a:pt x="490" y="5"/>
                </a:lnTo>
                <a:lnTo>
                  <a:pt x="521" y="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92"/>
          <p:cNvSpPr/>
          <p:nvPr/>
        </p:nvSpPr>
        <p:spPr>
          <a:xfrm>
            <a:off x="5533920" y="3095640"/>
            <a:ext cx="252360" cy="312840"/>
          </a:xfrm>
          <a:custGeom>
            <a:avLst/>
            <a:gdLst/>
            <a:ahLst/>
            <a:rect l="l" t="t" r="r" b="b"/>
            <a:pathLst>
              <a:path w="317" h="395">
                <a:moveTo>
                  <a:pt x="4" y="12"/>
                </a:moveTo>
                <a:lnTo>
                  <a:pt x="10" y="8"/>
                </a:lnTo>
                <a:lnTo>
                  <a:pt x="16" y="4"/>
                </a:lnTo>
                <a:lnTo>
                  <a:pt x="20" y="2"/>
                </a:lnTo>
                <a:lnTo>
                  <a:pt x="25" y="2"/>
                </a:lnTo>
                <a:lnTo>
                  <a:pt x="29" y="2"/>
                </a:lnTo>
                <a:lnTo>
                  <a:pt x="35" y="0"/>
                </a:lnTo>
                <a:lnTo>
                  <a:pt x="41" y="2"/>
                </a:lnTo>
                <a:lnTo>
                  <a:pt x="47" y="2"/>
                </a:lnTo>
                <a:lnTo>
                  <a:pt x="54" y="2"/>
                </a:lnTo>
                <a:lnTo>
                  <a:pt x="62" y="4"/>
                </a:lnTo>
                <a:lnTo>
                  <a:pt x="71" y="6"/>
                </a:lnTo>
                <a:lnTo>
                  <a:pt x="79" y="8"/>
                </a:lnTo>
                <a:lnTo>
                  <a:pt x="91" y="10"/>
                </a:lnTo>
                <a:lnTo>
                  <a:pt x="100" y="12"/>
                </a:lnTo>
                <a:lnTo>
                  <a:pt x="123" y="17"/>
                </a:lnTo>
                <a:lnTo>
                  <a:pt x="144" y="25"/>
                </a:lnTo>
                <a:lnTo>
                  <a:pt x="164" y="33"/>
                </a:lnTo>
                <a:lnTo>
                  <a:pt x="183" y="42"/>
                </a:lnTo>
                <a:lnTo>
                  <a:pt x="200" y="54"/>
                </a:lnTo>
                <a:lnTo>
                  <a:pt x="215" y="65"/>
                </a:lnTo>
                <a:lnTo>
                  <a:pt x="231" y="79"/>
                </a:lnTo>
                <a:lnTo>
                  <a:pt x="244" y="94"/>
                </a:lnTo>
                <a:lnTo>
                  <a:pt x="258" y="109"/>
                </a:lnTo>
                <a:lnTo>
                  <a:pt x="269" y="127"/>
                </a:lnTo>
                <a:lnTo>
                  <a:pt x="281" y="142"/>
                </a:lnTo>
                <a:lnTo>
                  <a:pt x="290" y="159"/>
                </a:lnTo>
                <a:lnTo>
                  <a:pt x="298" y="179"/>
                </a:lnTo>
                <a:lnTo>
                  <a:pt x="302" y="188"/>
                </a:lnTo>
                <a:lnTo>
                  <a:pt x="306" y="200"/>
                </a:lnTo>
                <a:lnTo>
                  <a:pt x="310" y="211"/>
                </a:lnTo>
                <a:lnTo>
                  <a:pt x="311" y="223"/>
                </a:lnTo>
                <a:lnTo>
                  <a:pt x="315" y="234"/>
                </a:lnTo>
                <a:lnTo>
                  <a:pt x="317" y="248"/>
                </a:lnTo>
                <a:lnTo>
                  <a:pt x="315" y="273"/>
                </a:lnTo>
                <a:lnTo>
                  <a:pt x="315" y="284"/>
                </a:lnTo>
                <a:lnTo>
                  <a:pt x="315" y="296"/>
                </a:lnTo>
                <a:lnTo>
                  <a:pt x="313" y="307"/>
                </a:lnTo>
                <a:lnTo>
                  <a:pt x="311" y="317"/>
                </a:lnTo>
                <a:lnTo>
                  <a:pt x="310" y="326"/>
                </a:lnTo>
                <a:lnTo>
                  <a:pt x="306" y="336"/>
                </a:lnTo>
                <a:lnTo>
                  <a:pt x="304" y="346"/>
                </a:lnTo>
                <a:lnTo>
                  <a:pt x="300" y="353"/>
                </a:lnTo>
                <a:lnTo>
                  <a:pt x="296" y="361"/>
                </a:lnTo>
                <a:lnTo>
                  <a:pt x="292" y="367"/>
                </a:lnTo>
                <a:lnTo>
                  <a:pt x="286" y="372"/>
                </a:lnTo>
                <a:lnTo>
                  <a:pt x="281" y="378"/>
                </a:lnTo>
                <a:lnTo>
                  <a:pt x="275" y="382"/>
                </a:lnTo>
                <a:lnTo>
                  <a:pt x="269" y="386"/>
                </a:lnTo>
                <a:lnTo>
                  <a:pt x="262" y="390"/>
                </a:lnTo>
                <a:lnTo>
                  <a:pt x="256" y="394"/>
                </a:lnTo>
                <a:lnTo>
                  <a:pt x="248" y="395"/>
                </a:lnTo>
                <a:lnTo>
                  <a:pt x="242" y="395"/>
                </a:lnTo>
                <a:lnTo>
                  <a:pt x="235" y="395"/>
                </a:lnTo>
                <a:lnTo>
                  <a:pt x="227" y="394"/>
                </a:lnTo>
                <a:lnTo>
                  <a:pt x="219" y="392"/>
                </a:lnTo>
                <a:lnTo>
                  <a:pt x="212" y="388"/>
                </a:lnTo>
                <a:lnTo>
                  <a:pt x="204" y="382"/>
                </a:lnTo>
                <a:lnTo>
                  <a:pt x="196" y="376"/>
                </a:lnTo>
                <a:lnTo>
                  <a:pt x="187" y="369"/>
                </a:lnTo>
                <a:lnTo>
                  <a:pt x="177" y="359"/>
                </a:lnTo>
                <a:lnTo>
                  <a:pt x="167" y="351"/>
                </a:lnTo>
                <a:lnTo>
                  <a:pt x="158" y="340"/>
                </a:lnTo>
                <a:lnTo>
                  <a:pt x="148" y="328"/>
                </a:lnTo>
                <a:lnTo>
                  <a:pt x="137" y="317"/>
                </a:lnTo>
                <a:lnTo>
                  <a:pt x="116" y="290"/>
                </a:lnTo>
                <a:lnTo>
                  <a:pt x="95" y="265"/>
                </a:lnTo>
                <a:lnTo>
                  <a:pt x="75" y="242"/>
                </a:lnTo>
                <a:lnTo>
                  <a:pt x="68" y="230"/>
                </a:lnTo>
                <a:lnTo>
                  <a:pt x="60" y="219"/>
                </a:lnTo>
                <a:lnTo>
                  <a:pt x="52" y="207"/>
                </a:lnTo>
                <a:lnTo>
                  <a:pt x="45" y="196"/>
                </a:lnTo>
                <a:lnTo>
                  <a:pt x="39" y="184"/>
                </a:lnTo>
                <a:lnTo>
                  <a:pt x="33" y="171"/>
                </a:lnTo>
                <a:lnTo>
                  <a:pt x="27" y="159"/>
                </a:lnTo>
                <a:lnTo>
                  <a:pt x="24" y="148"/>
                </a:lnTo>
                <a:lnTo>
                  <a:pt x="20" y="134"/>
                </a:lnTo>
                <a:lnTo>
                  <a:pt x="18" y="123"/>
                </a:lnTo>
                <a:lnTo>
                  <a:pt x="14" y="109"/>
                </a:lnTo>
                <a:lnTo>
                  <a:pt x="12" y="98"/>
                </a:lnTo>
                <a:lnTo>
                  <a:pt x="10" y="86"/>
                </a:lnTo>
                <a:lnTo>
                  <a:pt x="8" y="77"/>
                </a:lnTo>
                <a:lnTo>
                  <a:pt x="6" y="69"/>
                </a:lnTo>
                <a:lnTo>
                  <a:pt x="4" y="60"/>
                </a:lnTo>
                <a:lnTo>
                  <a:pt x="4" y="54"/>
                </a:lnTo>
                <a:lnTo>
                  <a:pt x="2" y="46"/>
                </a:lnTo>
                <a:lnTo>
                  <a:pt x="0" y="40"/>
                </a:lnTo>
                <a:lnTo>
                  <a:pt x="0" y="35"/>
                </a:lnTo>
                <a:lnTo>
                  <a:pt x="0" y="29"/>
                </a:lnTo>
                <a:lnTo>
                  <a:pt x="0" y="25"/>
                </a:lnTo>
                <a:lnTo>
                  <a:pt x="0" y="21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93"/>
          <p:cNvSpPr/>
          <p:nvPr/>
        </p:nvSpPr>
        <p:spPr>
          <a:xfrm>
            <a:off x="5707080" y="2525760"/>
            <a:ext cx="307800" cy="314280"/>
          </a:xfrm>
          <a:custGeom>
            <a:avLst/>
            <a:gdLst/>
            <a:ahLst/>
            <a:rect l="l" t="t" r="r" b="b"/>
            <a:pathLst>
              <a:path w="388" h="398">
                <a:moveTo>
                  <a:pt x="304" y="108"/>
                </a:moveTo>
                <a:lnTo>
                  <a:pt x="315" y="115"/>
                </a:lnTo>
                <a:lnTo>
                  <a:pt x="325" y="123"/>
                </a:lnTo>
                <a:lnTo>
                  <a:pt x="334" y="133"/>
                </a:lnTo>
                <a:lnTo>
                  <a:pt x="342" y="142"/>
                </a:lnTo>
                <a:lnTo>
                  <a:pt x="350" y="150"/>
                </a:lnTo>
                <a:lnTo>
                  <a:pt x="355" y="160"/>
                </a:lnTo>
                <a:lnTo>
                  <a:pt x="363" y="169"/>
                </a:lnTo>
                <a:lnTo>
                  <a:pt x="369" y="181"/>
                </a:lnTo>
                <a:lnTo>
                  <a:pt x="373" y="190"/>
                </a:lnTo>
                <a:lnTo>
                  <a:pt x="377" y="202"/>
                </a:lnTo>
                <a:lnTo>
                  <a:pt x="380" y="213"/>
                </a:lnTo>
                <a:lnTo>
                  <a:pt x="382" y="225"/>
                </a:lnTo>
                <a:lnTo>
                  <a:pt x="384" y="236"/>
                </a:lnTo>
                <a:lnTo>
                  <a:pt x="386" y="248"/>
                </a:lnTo>
                <a:lnTo>
                  <a:pt x="388" y="261"/>
                </a:lnTo>
                <a:lnTo>
                  <a:pt x="388" y="273"/>
                </a:lnTo>
                <a:lnTo>
                  <a:pt x="388" y="286"/>
                </a:lnTo>
                <a:lnTo>
                  <a:pt x="388" y="298"/>
                </a:lnTo>
                <a:lnTo>
                  <a:pt x="388" y="307"/>
                </a:lnTo>
                <a:lnTo>
                  <a:pt x="388" y="317"/>
                </a:lnTo>
                <a:lnTo>
                  <a:pt x="388" y="327"/>
                </a:lnTo>
                <a:lnTo>
                  <a:pt x="386" y="334"/>
                </a:lnTo>
                <a:lnTo>
                  <a:pt x="386" y="342"/>
                </a:lnTo>
                <a:lnTo>
                  <a:pt x="386" y="350"/>
                </a:lnTo>
                <a:lnTo>
                  <a:pt x="386" y="355"/>
                </a:lnTo>
                <a:lnTo>
                  <a:pt x="384" y="361"/>
                </a:lnTo>
                <a:lnTo>
                  <a:pt x="384" y="367"/>
                </a:lnTo>
                <a:lnTo>
                  <a:pt x="382" y="371"/>
                </a:lnTo>
                <a:lnTo>
                  <a:pt x="380" y="378"/>
                </a:lnTo>
                <a:lnTo>
                  <a:pt x="377" y="384"/>
                </a:lnTo>
                <a:lnTo>
                  <a:pt x="371" y="388"/>
                </a:lnTo>
                <a:lnTo>
                  <a:pt x="365" y="392"/>
                </a:lnTo>
                <a:lnTo>
                  <a:pt x="359" y="394"/>
                </a:lnTo>
                <a:lnTo>
                  <a:pt x="352" y="396"/>
                </a:lnTo>
                <a:lnTo>
                  <a:pt x="346" y="398"/>
                </a:lnTo>
                <a:lnTo>
                  <a:pt x="338" y="398"/>
                </a:lnTo>
                <a:lnTo>
                  <a:pt x="332" y="398"/>
                </a:lnTo>
                <a:lnTo>
                  <a:pt x="329" y="398"/>
                </a:lnTo>
                <a:lnTo>
                  <a:pt x="319" y="398"/>
                </a:lnTo>
                <a:lnTo>
                  <a:pt x="307" y="396"/>
                </a:lnTo>
                <a:lnTo>
                  <a:pt x="296" y="392"/>
                </a:lnTo>
                <a:lnTo>
                  <a:pt x="290" y="388"/>
                </a:lnTo>
                <a:lnTo>
                  <a:pt x="284" y="386"/>
                </a:lnTo>
                <a:lnTo>
                  <a:pt x="279" y="382"/>
                </a:lnTo>
                <a:lnTo>
                  <a:pt x="271" y="378"/>
                </a:lnTo>
                <a:lnTo>
                  <a:pt x="265" y="374"/>
                </a:lnTo>
                <a:lnTo>
                  <a:pt x="258" y="369"/>
                </a:lnTo>
                <a:lnTo>
                  <a:pt x="252" y="363"/>
                </a:lnTo>
                <a:lnTo>
                  <a:pt x="244" y="357"/>
                </a:lnTo>
                <a:lnTo>
                  <a:pt x="238" y="350"/>
                </a:lnTo>
                <a:lnTo>
                  <a:pt x="233" y="342"/>
                </a:lnTo>
                <a:lnTo>
                  <a:pt x="213" y="327"/>
                </a:lnTo>
                <a:lnTo>
                  <a:pt x="196" y="309"/>
                </a:lnTo>
                <a:lnTo>
                  <a:pt x="177" y="290"/>
                </a:lnTo>
                <a:lnTo>
                  <a:pt x="167" y="279"/>
                </a:lnTo>
                <a:lnTo>
                  <a:pt x="158" y="269"/>
                </a:lnTo>
                <a:lnTo>
                  <a:pt x="148" y="257"/>
                </a:lnTo>
                <a:lnTo>
                  <a:pt x="139" y="246"/>
                </a:lnTo>
                <a:lnTo>
                  <a:pt x="129" y="232"/>
                </a:lnTo>
                <a:lnTo>
                  <a:pt x="117" y="221"/>
                </a:lnTo>
                <a:lnTo>
                  <a:pt x="108" y="207"/>
                </a:lnTo>
                <a:lnTo>
                  <a:pt x="98" y="192"/>
                </a:lnTo>
                <a:lnTo>
                  <a:pt x="87" y="179"/>
                </a:lnTo>
                <a:lnTo>
                  <a:pt x="75" y="163"/>
                </a:lnTo>
                <a:lnTo>
                  <a:pt x="66" y="148"/>
                </a:lnTo>
                <a:lnTo>
                  <a:pt x="56" y="133"/>
                </a:lnTo>
                <a:lnTo>
                  <a:pt x="46" y="119"/>
                </a:lnTo>
                <a:lnTo>
                  <a:pt x="39" y="106"/>
                </a:lnTo>
                <a:lnTo>
                  <a:pt x="31" y="94"/>
                </a:lnTo>
                <a:lnTo>
                  <a:pt x="23" y="81"/>
                </a:lnTo>
                <a:lnTo>
                  <a:pt x="18" y="71"/>
                </a:lnTo>
                <a:lnTo>
                  <a:pt x="14" y="62"/>
                </a:lnTo>
                <a:lnTo>
                  <a:pt x="8" y="52"/>
                </a:lnTo>
                <a:lnTo>
                  <a:pt x="6" y="42"/>
                </a:lnTo>
                <a:lnTo>
                  <a:pt x="4" y="35"/>
                </a:lnTo>
                <a:lnTo>
                  <a:pt x="2" y="29"/>
                </a:lnTo>
                <a:lnTo>
                  <a:pt x="0" y="23"/>
                </a:lnTo>
                <a:lnTo>
                  <a:pt x="0" y="17"/>
                </a:lnTo>
                <a:lnTo>
                  <a:pt x="2" y="14"/>
                </a:lnTo>
                <a:lnTo>
                  <a:pt x="4" y="12"/>
                </a:lnTo>
                <a:lnTo>
                  <a:pt x="4" y="8"/>
                </a:lnTo>
                <a:lnTo>
                  <a:pt x="6" y="6"/>
                </a:lnTo>
                <a:lnTo>
                  <a:pt x="8" y="4"/>
                </a:lnTo>
                <a:lnTo>
                  <a:pt x="10" y="2"/>
                </a:lnTo>
                <a:lnTo>
                  <a:pt x="14" y="2"/>
                </a:lnTo>
                <a:lnTo>
                  <a:pt x="20" y="0"/>
                </a:lnTo>
                <a:lnTo>
                  <a:pt x="25" y="0"/>
                </a:lnTo>
                <a:lnTo>
                  <a:pt x="33" y="0"/>
                </a:lnTo>
                <a:lnTo>
                  <a:pt x="41" y="0"/>
                </a:lnTo>
                <a:lnTo>
                  <a:pt x="48" y="0"/>
                </a:lnTo>
                <a:lnTo>
                  <a:pt x="58" y="2"/>
                </a:lnTo>
                <a:lnTo>
                  <a:pt x="69" y="2"/>
                </a:lnTo>
                <a:lnTo>
                  <a:pt x="81" y="4"/>
                </a:lnTo>
                <a:lnTo>
                  <a:pt x="94" y="6"/>
                </a:lnTo>
                <a:lnTo>
                  <a:pt x="108" y="8"/>
                </a:lnTo>
                <a:lnTo>
                  <a:pt x="123" y="12"/>
                </a:lnTo>
                <a:lnTo>
                  <a:pt x="137" y="14"/>
                </a:lnTo>
                <a:lnTo>
                  <a:pt x="150" y="17"/>
                </a:lnTo>
                <a:lnTo>
                  <a:pt x="164" y="21"/>
                </a:lnTo>
                <a:lnTo>
                  <a:pt x="175" y="25"/>
                </a:lnTo>
                <a:lnTo>
                  <a:pt x="200" y="37"/>
                </a:lnTo>
                <a:lnTo>
                  <a:pt x="223" y="48"/>
                </a:lnTo>
                <a:lnTo>
                  <a:pt x="244" y="62"/>
                </a:lnTo>
                <a:lnTo>
                  <a:pt x="265" y="77"/>
                </a:lnTo>
                <a:lnTo>
                  <a:pt x="284" y="92"/>
                </a:lnTo>
                <a:lnTo>
                  <a:pt x="304" y="1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4"/>
          <p:cNvSpPr/>
          <p:nvPr/>
        </p:nvSpPr>
        <p:spPr>
          <a:xfrm>
            <a:off x="2218680" y="2043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114880" y="1878120"/>
          <a:ext cx="3041640" cy="303984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3" name="组合 8"/>
          <p:cNvGrpSpPr/>
          <p:nvPr/>
        </p:nvGrpSpPr>
        <p:grpSpPr>
          <a:xfrm>
            <a:off x="1400040" y="3470400"/>
            <a:ext cx="2840040" cy="1571400"/>
            <a:chOff x="1400040" y="3470400"/>
            <a:chExt cx="2840040" cy="1571400"/>
          </a:xfrm>
        </p:grpSpPr>
        <p:pic>
          <p:nvPicPr>
            <p:cNvPr id="15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470400"/>
              <a:ext cx="284004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2"/>
            <p:cNvSpPr/>
            <p:nvPr/>
          </p:nvSpPr>
          <p:spPr>
            <a:xfrm>
              <a:off x="1444680" y="4084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右等宽。左部“客”捺变为长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矩形 3"/>
          <p:cNvSpPr/>
          <p:nvPr/>
        </p:nvSpPr>
        <p:spPr>
          <a:xfrm>
            <a:off x="2171880" y="136368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69"/>
          <p:cNvSpPr/>
          <p:nvPr/>
        </p:nvSpPr>
        <p:spPr>
          <a:xfrm>
            <a:off x="7124760" y="3963960"/>
            <a:ext cx="474480" cy="544680"/>
          </a:xfrm>
          <a:custGeom>
            <a:avLst/>
            <a:gdLst/>
            <a:ahLst/>
            <a:rect l="l" t="t" r="r" b="b"/>
            <a:pathLst>
              <a:path w="597" h="686">
                <a:moveTo>
                  <a:pt x="378" y="204"/>
                </a:moveTo>
                <a:lnTo>
                  <a:pt x="401" y="221"/>
                </a:lnTo>
                <a:lnTo>
                  <a:pt x="422" y="240"/>
                </a:lnTo>
                <a:lnTo>
                  <a:pt x="444" y="258"/>
                </a:lnTo>
                <a:lnTo>
                  <a:pt x="463" y="277"/>
                </a:lnTo>
                <a:lnTo>
                  <a:pt x="482" y="294"/>
                </a:lnTo>
                <a:lnTo>
                  <a:pt x="497" y="311"/>
                </a:lnTo>
                <a:lnTo>
                  <a:pt x="513" y="331"/>
                </a:lnTo>
                <a:lnTo>
                  <a:pt x="528" y="348"/>
                </a:lnTo>
                <a:lnTo>
                  <a:pt x="541" y="367"/>
                </a:lnTo>
                <a:lnTo>
                  <a:pt x="553" y="384"/>
                </a:lnTo>
                <a:lnTo>
                  <a:pt x="563" y="402"/>
                </a:lnTo>
                <a:lnTo>
                  <a:pt x="572" y="421"/>
                </a:lnTo>
                <a:lnTo>
                  <a:pt x="580" y="438"/>
                </a:lnTo>
                <a:lnTo>
                  <a:pt x="586" y="455"/>
                </a:lnTo>
                <a:lnTo>
                  <a:pt x="589" y="474"/>
                </a:lnTo>
                <a:lnTo>
                  <a:pt x="593" y="492"/>
                </a:lnTo>
                <a:lnTo>
                  <a:pt x="595" y="513"/>
                </a:lnTo>
                <a:lnTo>
                  <a:pt x="597" y="530"/>
                </a:lnTo>
                <a:lnTo>
                  <a:pt x="597" y="549"/>
                </a:lnTo>
                <a:lnTo>
                  <a:pt x="597" y="565"/>
                </a:lnTo>
                <a:lnTo>
                  <a:pt x="597" y="580"/>
                </a:lnTo>
                <a:lnTo>
                  <a:pt x="597" y="593"/>
                </a:lnTo>
                <a:lnTo>
                  <a:pt x="597" y="607"/>
                </a:lnTo>
                <a:lnTo>
                  <a:pt x="595" y="618"/>
                </a:lnTo>
                <a:lnTo>
                  <a:pt x="593" y="630"/>
                </a:lnTo>
                <a:lnTo>
                  <a:pt x="593" y="641"/>
                </a:lnTo>
                <a:lnTo>
                  <a:pt x="591" y="649"/>
                </a:lnTo>
                <a:lnTo>
                  <a:pt x="589" y="659"/>
                </a:lnTo>
                <a:lnTo>
                  <a:pt x="587" y="666"/>
                </a:lnTo>
                <a:lnTo>
                  <a:pt x="584" y="672"/>
                </a:lnTo>
                <a:lnTo>
                  <a:pt x="582" y="680"/>
                </a:lnTo>
                <a:lnTo>
                  <a:pt x="580" y="686"/>
                </a:lnTo>
                <a:lnTo>
                  <a:pt x="578" y="686"/>
                </a:lnTo>
                <a:lnTo>
                  <a:pt x="574" y="686"/>
                </a:lnTo>
                <a:lnTo>
                  <a:pt x="572" y="686"/>
                </a:lnTo>
                <a:lnTo>
                  <a:pt x="568" y="686"/>
                </a:lnTo>
                <a:lnTo>
                  <a:pt x="564" y="686"/>
                </a:lnTo>
                <a:lnTo>
                  <a:pt x="561" y="684"/>
                </a:lnTo>
                <a:lnTo>
                  <a:pt x="557" y="682"/>
                </a:lnTo>
                <a:lnTo>
                  <a:pt x="551" y="680"/>
                </a:lnTo>
                <a:lnTo>
                  <a:pt x="545" y="676"/>
                </a:lnTo>
                <a:lnTo>
                  <a:pt x="541" y="672"/>
                </a:lnTo>
                <a:lnTo>
                  <a:pt x="536" y="668"/>
                </a:lnTo>
                <a:lnTo>
                  <a:pt x="530" y="664"/>
                </a:lnTo>
                <a:lnTo>
                  <a:pt x="522" y="659"/>
                </a:lnTo>
                <a:lnTo>
                  <a:pt x="516" y="653"/>
                </a:lnTo>
                <a:lnTo>
                  <a:pt x="509" y="647"/>
                </a:lnTo>
                <a:lnTo>
                  <a:pt x="501" y="641"/>
                </a:lnTo>
                <a:lnTo>
                  <a:pt x="495" y="634"/>
                </a:lnTo>
                <a:lnTo>
                  <a:pt x="486" y="626"/>
                </a:lnTo>
                <a:lnTo>
                  <a:pt x="478" y="617"/>
                </a:lnTo>
                <a:lnTo>
                  <a:pt x="470" y="607"/>
                </a:lnTo>
                <a:lnTo>
                  <a:pt x="461" y="597"/>
                </a:lnTo>
                <a:lnTo>
                  <a:pt x="451" y="588"/>
                </a:lnTo>
                <a:lnTo>
                  <a:pt x="442" y="576"/>
                </a:lnTo>
                <a:lnTo>
                  <a:pt x="432" y="565"/>
                </a:lnTo>
                <a:lnTo>
                  <a:pt x="422" y="553"/>
                </a:lnTo>
                <a:lnTo>
                  <a:pt x="411" y="540"/>
                </a:lnTo>
                <a:lnTo>
                  <a:pt x="399" y="526"/>
                </a:lnTo>
                <a:lnTo>
                  <a:pt x="390" y="513"/>
                </a:lnTo>
                <a:lnTo>
                  <a:pt x="378" y="499"/>
                </a:lnTo>
                <a:lnTo>
                  <a:pt x="365" y="484"/>
                </a:lnTo>
                <a:lnTo>
                  <a:pt x="353" y="467"/>
                </a:lnTo>
                <a:lnTo>
                  <a:pt x="340" y="451"/>
                </a:lnTo>
                <a:lnTo>
                  <a:pt x="315" y="421"/>
                </a:lnTo>
                <a:lnTo>
                  <a:pt x="292" y="392"/>
                </a:lnTo>
                <a:lnTo>
                  <a:pt x="269" y="363"/>
                </a:lnTo>
                <a:lnTo>
                  <a:pt x="246" y="336"/>
                </a:lnTo>
                <a:lnTo>
                  <a:pt x="225" y="311"/>
                </a:lnTo>
                <a:lnTo>
                  <a:pt x="206" y="288"/>
                </a:lnTo>
                <a:lnTo>
                  <a:pt x="188" y="265"/>
                </a:lnTo>
                <a:lnTo>
                  <a:pt x="171" y="244"/>
                </a:lnTo>
                <a:lnTo>
                  <a:pt x="154" y="225"/>
                </a:lnTo>
                <a:lnTo>
                  <a:pt x="140" y="206"/>
                </a:lnTo>
                <a:lnTo>
                  <a:pt x="125" y="188"/>
                </a:lnTo>
                <a:lnTo>
                  <a:pt x="113" y="171"/>
                </a:lnTo>
                <a:lnTo>
                  <a:pt x="102" y="158"/>
                </a:lnTo>
                <a:lnTo>
                  <a:pt x="92" y="144"/>
                </a:lnTo>
                <a:lnTo>
                  <a:pt x="83" y="131"/>
                </a:lnTo>
                <a:lnTo>
                  <a:pt x="75" y="121"/>
                </a:lnTo>
                <a:lnTo>
                  <a:pt x="67" y="110"/>
                </a:lnTo>
                <a:lnTo>
                  <a:pt x="58" y="100"/>
                </a:lnTo>
                <a:lnTo>
                  <a:pt x="50" y="91"/>
                </a:lnTo>
                <a:lnTo>
                  <a:pt x="42" y="81"/>
                </a:lnTo>
                <a:lnTo>
                  <a:pt x="37" y="73"/>
                </a:lnTo>
                <a:lnTo>
                  <a:pt x="29" y="66"/>
                </a:lnTo>
                <a:lnTo>
                  <a:pt x="23" y="58"/>
                </a:lnTo>
                <a:lnTo>
                  <a:pt x="19" y="50"/>
                </a:lnTo>
                <a:lnTo>
                  <a:pt x="14" y="43"/>
                </a:lnTo>
                <a:lnTo>
                  <a:pt x="10" y="37"/>
                </a:lnTo>
                <a:lnTo>
                  <a:pt x="8" y="31"/>
                </a:lnTo>
                <a:lnTo>
                  <a:pt x="4" y="25"/>
                </a:lnTo>
                <a:lnTo>
                  <a:pt x="2" y="21"/>
                </a:lnTo>
                <a:lnTo>
                  <a:pt x="0" y="18"/>
                </a:lnTo>
                <a:lnTo>
                  <a:pt x="0" y="14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10" y="2"/>
                </a:lnTo>
                <a:lnTo>
                  <a:pt x="15" y="0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40" y="0"/>
                </a:lnTo>
                <a:lnTo>
                  <a:pt x="50" y="2"/>
                </a:lnTo>
                <a:lnTo>
                  <a:pt x="58" y="2"/>
                </a:lnTo>
                <a:lnTo>
                  <a:pt x="67" y="4"/>
                </a:lnTo>
                <a:lnTo>
                  <a:pt x="79" y="6"/>
                </a:lnTo>
                <a:lnTo>
                  <a:pt x="88" y="8"/>
                </a:lnTo>
                <a:lnTo>
                  <a:pt x="100" y="10"/>
                </a:lnTo>
                <a:lnTo>
                  <a:pt x="113" y="16"/>
                </a:lnTo>
                <a:lnTo>
                  <a:pt x="125" y="23"/>
                </a:lnTo>
                <a:lnTo>
                  <a:pt x="140" y="31"/>
                </a:lnTo>
                <a:lnTo>
                  <a:pt x="154" y="39"/>
                </a:lnTo>
                <a:lnTo>
                  <a:pt x="171" y="48"/>
                </a:lnTo>
                <a:lnTo>
                  <a:pt x="186" y="58"/>
                </a:lnTo>
                <a:lnTo>
                  <a:pt x="204" y="69"/>
                </a:lnTo>
                <a:lnTo>
                  <a:pt x="221" y="81"/>
                </a:lnTo>
                <a:lnTo>
                  <a:pt x="238" y="92"/>
                </a:lnTo>
                <a:lnTo>
                  <a:pt x="257" y="106"/>
                </a:lnTo>
                <a:lnTo>
                  <a:pt x="277" y="121"/>
                </a:lnTo>
                <a:lnTo>
                  <a:pt x="296" y="135"/>
                </a:lnTo>
                <a:lnTo>
                  <a:pt x="317" y="152"/>
                </a:lnTo>
                <a:lnTo>
                  <a:pt x="336" y="167"/>
                </a:lnTo>
                <a:lnTo>
                  <a:pt x="357" y="185"/>
                </a:lnTo>
                <a:lnTo>
                  <a:pt x="378" y="2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70"/>
          <p:cNvSpPr/>
          <p:nvPr/>
        </p:nvSpPr>
        <p:spPr>
          <a:xfrm>
            <a:off x="6383160" y="3164040"/>
            <a:ext cx="781200" cy="1334880"/>
          </a:xfrm>
          <a:custGeom>
            <a:avLst/>
            <a:gdLst/>
            <a:ahLst/>
            <a:rect l="l" t="t" r="r" b="b"/>
            <a:pathLst>
              <a:path w="985" h="1681">
                <a:moveTo>
                  <a:pt x="240" y="1568"/>
                </a:moveTo>
                <a:lnTo>
                  <a:pt x="213" y="1583"/>
                </a:lnTo>
                <a:lnTo>
                  <a:pt x="188" y="1597"/>
                </a:lnTo>
                <a:lnTo>
                  <a:pt x="164" y="1610"/>
                </a:lnTo>
                <a:lnTo>
                  <a:pt x="142" y="1622"/>
                </a:lnTo>
                <a:lnTo>
                  <a:pt x="121" y="1633"/>
                </a:lnTo>
                <a:lnTo>
                  <a:pt x="102" y="1643"/>
                </a:lnTo>
                <a:lnTo>
                  <a:pt x="85" y="1652"/>
                </a:lnTo>
                <a:lnTo>
                  <a:pt x="69" y="1660"/>
                </a:lnTo>
                <a:lnTo>
                  <a:pt x="54" y="1666"/>
                </a:lnTo>
                <a:lnTo>
                  <a:pt x="43" y="1671"/>
                </a:lnTo>
                <a:lnTo>
                  <a:pt x="31" y="1675"/>
                </a:lnTo>
                <a:lnTo>
                  <a:pt x="23" y="1679"/>
                </a:lnTo>
                <a:lnTo>
                  <a:pt x="14" y="1679"/>
                </a:lnTo>
                <a:lnTo>
                  <a:pt x="8" y="1681"/>
                </a:lnTo>
                <a:lnTo>
                  <a:pt x="4" y="1679"/>
                </a:lnTo>
                <a:lnTo>
                  <a:pt x="0" y="1677"/>
                </a:lnTo>
                <a:lnTo>
                  <a:pt x="0" y="1675"/>
                </a:lnTo>
                <a:lnTo>
                  <a:pt x="0" y="1671"/>
                </a:lnTo>
                <a:lnTo>
                  <a:pt x="2" y="1666"/>
                </a:lnTo>
                <a:lnTo>
                  <a:pt x="6" y="1660"/>
                </a:lnTo>
                <a:lnTo>
                  <a:pt x="10" y="1652"/>
                </a:lnTo>
                <a:lnTo>
                  <a:pt x="18" y="1645"/>
                </a:lnTo>
                <a:lnTo>
                  <a:pt x="25" y="1637"/>
                </a:lnTo>
                <a:lnTo>
                  <a:pt x="37" y="1627"/>
                </a:lnTo>
                <a:lnTo>
                  <a:pt x="46" y="1616"/>
                </a:lnTo>
                <a:lnTo>
                  <a:pt x="60" y="1604"/>
                </a:lnTo>
                <a:lnTo>
                  <a:pt x="75" y="1591"/>
                </a:lnTo>
                <a:lnTo>
                  <a:pt x="91" y="1577"/>
                </a:lnTo>
                <a:lnTo>
                  <a:pt x="108" y="1562"/>
                </a:lnTo>
                <a:lnTo>
                  <a:pt x="125" y="1547"/>
                </a:lnTo>
                <a:lnTo>
                  <a:pt x="144" y="1531"/>
                </a:lnTo>
                <a:lnTo>
                  <a:pt x="165" y="1512"/>
                </a:lnTo>
                <a:lnTo>
                  <a:pt x="187" y="1497"/>
                </a:lnTo>
                <a:lnTo>
                  <a:pt x="208" y="1480"/>
                </a:lnTo>
                <a:lnTo>
                  <a:pt x="229" y="1462"/>
                </a:lnTo>
                <a:lnTo>
                  <a:pt x="250" y="1443"/>
                </a:lnTo>
                <a:lnTo>
                  <a:pt x="271" y="1424"/>
                </a:lnTo>
                <a:lnTo>
                  <a:pt x="294" y="1403"/>
                </a:lnTo>
                <a:lnTo>
                  <a:pt x="315" y="1382"/>
                </a:lnTo>
                <a:lnTo>
                  <a:pt x="338" y="1361"/>
                </a:lnTo>
                <a:lnTo>
                  <a:pt x="359" y="1338"/>
                </a:lnTo>
                <a:lnTo>
                  <a:pt x="382" y="1313"/>
                </a:lnTo>
                <a:lnTo>
                  <a:pt x="403" y="1290"/>
                </a:lnTo>
                <a:lnTo>
                  <a:pt x="426" y="1265"/>
                </a:lnTo>
                <a:lnTo>
                  <a:pt x="450" y="1238"/>
                </a:lnTo>
                <a:lnTo>
                  <a:pt x="473" y="1211"/>
                </a:lnTo>
                <a:lnTo>
                  <a:pt x="496" y="1184"/>
                </a:lnTo>
                <a:lnTo>
                  <a:pt x="519" y="1155"/>
                </a:lnTo>
                <a:lnTo>
                  <a:pt x="540" y="1126"/>
                </a:lnTo>
                <a:lnTo>
                  <a:pt x="559" y="1098"/>
                </a:lnTo>
                <a:lnTo>
                  <a:pt x="578" y="1067"/>
                </a:lnTo>
                <a:lnTo>
                  <a:pt x="595" y="1036"/>
                </a:lnTo>
                <a:lnTo>
                  <a:pt x="613" y="1005"/>
                </a:lnTo>
                <a:lnTo>
                  <a:pt x="630" y="973"/>
                </a:lnTo>
                <a:lnTo>
                  <a:pt x="645" y="940"/>
                </a:lnTo>
                <a:lnTo>
                  <a:pt x="661" y="908"/>
                </a:lnTo>
                <a:lnTo>
                  <a:pt x="674" y="873"/>
                </a:lnTo>
                <a:lnTo>
                  <a:pt x="688" y="838"/>
                </a:lnTo>
                <a:lnTo>
                  <a:pt x="699" y="804"/>
                </a:lnTo>
                <a:lnTo>
                  <a:pt x="711" y="767"/>
                </a:lnTo>
                <a:lnTo>
                  <a:pt x="720" y="731"/>
                </a:lnTo>
                <a:lnTo>
                  <a:pt x="730" y="694"/>
                </a:lnTo>
                <a:lnTo>
                  <a:pt x="737" y="658"/>
                </a:lnTo>
                <a:lnTo>
                  <a:pt x="745" y="620"/>
                </a:lnTo>
                <a:lnTo>
                  <a:pt x="753" y="583"/>
                </a:lnTo>
                <a:lnTo>
                  <a:pt x="759" y="551"/>
                </a:lnTo>
                <a:lnTo>
                  <a:pt x="764" y="518"/>
                </a:lnTo>
                <a:lnTo>
                  <a:pt x="768" y="487"/>
                </a:lnTo>
                <a:lnTo>
                  <a:pt x="774" y="458"/>
                </a:lnTo>
                <a:lnTo>
                  <a:pt x="778" y="432"/>
                </a:lnTo>
                <a:lnTo>
                  <a:pt x="782" y="405"/>
                </a:lnTo>
                <a:lnTo>
                  <a:pt x="785" y="382"/>
                </a:lnTo>
                <a:lnTo>
                  <a:pt x="787" y="359"/>
                </a:lnTo>
                <a:lnTo>
                  <a:pt x="789" y="337"/>
                </a:lnTo>
                <a:lnTo>
                  <a:pt x="791" y="318"/>
                </a:lnTo>
                <a:lnTo>
                  <a:pt x="793" y="301"/>
                </a:lnTo>
                <a:lnTo>
                  <a:pt x="795" y="286"/>
                </a:lnTo>
                <a:lnTo>
                  <a:pt x="795" y="270"/>
                </a:lnTo>
                <a:lnTo>
                  <a:pt x="795" y="259"/>
                </a:lnTo>
                <a:lnTo>
                  <a:pt x="797" y="247"/>
                </a:lnTo>
                <a:lnTo>
                  <a:pt x="795" y="232"/>
                </a:lnTo>
                <a:lnTo>
                  <a:pt x="793" y="217"/>
                </a:lnTo>
                <a:lnTo>
                  <a:pt x="791" y="201"/>
                </a:lnTo>
                <a:lnTo>
                  <a:pt x="787" y="186"/>
                </a:lnTo>
                <a:lnTo>
                  <a:pt x="784" y="170"/>
                </a:lnTo>
                <a:lnTo>
                  <a:pt x="780" y="155"/>
                </a:lnTo>
                <a:lnTo>
                  <a:pt x="770" y="122"/>
                </a:lnTo>
                <a:lnTo>
                  <a:pt x="762" y="109"/>
                </a:lnTo>
                <a:lnTo>
                  <a:pt x="755" y="94"/>
                </a:lnTo>
                <a:lnTo>
                  <a:pt x="749" y="82"/>
                </a:lnTo>
                <a:lnTo>
                  <a:pt x="743" y="71"/>
                </a:lnTo>
                <a:lnTo>
                  <a:pt x="741" y="59"/>
                </a:lnTo>
                <a:lnTo>
                  <a:pt x="741" y="53"/>
                </a:lnTo>
                <a:lnTo>
                  <a:pt x="741" y="48"/>
                </a:lnTo>
                <a:lnTo>
                  <a:pt x="741" y="42"/>
                </a:lnTo>
                <a:lnTo>
                  <a:pt x="741" y="38"/>
                </a:lnTo>
                <a:lnTo>
                  <a:pt x="743" y="32"/>
                </a:lnTo>
                <a:lnTo>
                  <a:pt x="745" y="27"/>
                </a:lnTo>
                <a:lnTo>
                  <a:pt x="751" y="23"/>
                </a:lnTo>
                <a:lnTo>
                  <a:pt x="757" y="17"/>
                </a:lnTo>
                <a:lnTo>
                  <a:pt x="766" y="11"/>
                </a:lnTo>
                <a:lnTo>
                  <a:pt x="776" y="7"/>
                </a:lnTo>
                <a:lnTo>
                  <a:pt x="782" y="5"/>
                </a:lnTo>
                <a:lnTo>
                  <a:pt x="787" y="3"/>
                </a:lnTo>
                <a:lnTo>
                  <a:pt x="793" y="3"/>
                </a:lnTo>
                <a:lnTo>
                  <a:pt x="801" y="2"/>
                </a:lnTo>
                <a:lnTo>
                  <a:pt x="808" y="0"/>
                </a:lnTo>
                <a:lnTo>
                  <a:pt x="816" y="0"/>
                </a:lnTo>
                <a:lnTo>
                  <a:pt x="824" y="0"/>
                </a:lnTo>
                <a:lnTo>
                  <a:pt x="833" y="0"/>
                </a:lnTo>
                <a:lnTo>
                  <a:pt x="862" y="9"/>
                </a:lnTo>
                <a:lnTo>
                  <a:pt x="891" y="21"/>
                </a:lnTo>
                <a:lnTo>
                  <a:pt x="947" y="40"/>
                </a:lnTo>
                <a:lnTo>
                  <a:pt x="956" y="46"/>
                </a:lnTo>
                <a:lnTo>
                  <a:pt x="964" y="53"/>
                </a:lnTo>
                <a:lnTo>
                  <a:pt x="970" y="63"/>
                </a:lnTo>
                <a:lnTo>
                  <a:pt x="975" y="73"/>
                </a:lnTo>
                <a:lnTo>
                  <a:pt x="979" y="82"/>
                </a:lnTo>
                <a:lnTo>
                  <a:pt x="983" y="96"/>
                </a:lnTo>
                <a:lnTo>
                  <a:pt x="985" y="109"/>
                </a:lnTo>
                <a:lnTo>
                  <a:pt x="985" y="122"/>
                </a:lnTo>
                <a:lnTo>
                  <a:pt x="985" y="132"/>
                </a:lnTo>
                <a:lnTo>
                  <a:pt x="985" y="142"/>
                </a:lnTo>
                <a:lnTo>
                  <a:pt x="983" y="153"/>
                </a:lnTo>
                <a:lnTo>
                  <a:pt x="983" y="167"/>
                </a:lnTo>
                <a:lnTo>
                  <a:pt x="981" y="182"/>
                </a:lnTo>
                <a:lnTo>
                  <a:pt x="979" y="199"/>
                </a:lnTo>
                <a:lnTo>
                  <a:pt x="977" y="217"/>
                </a:lnTo>
                <a:lnTo>
                  <a:pt x="975" y="236"/>
                </a:lnTo>
                <a:lnTo>
                  <a:pt x="974" y="259"/>
                </a:lnTo>
                <a:lnTo>
                  <a:pt x="970" y="282"/>
                </a:lnTo>
                <a:lnTo>
                  <a:pt x="968" y="307"/>
                </a:lnTo>
                <a:lnTo>
                  <a:pt x="964" y="332"/>
                </a:lnTo>
                <a:lnTo>
                  <a:pt x="960" y="360"/>
                </a:lnTo>
                <a:lnTo>
                  <a:pt x="956" y="389"/>
                </a:lnTo>
                <a:lnTo>
                  <a:pt x="952" y="420"/>
                </a:lnTo>
                <a:lnTo>
                  <a:pt x="947" y="455"/>
                </a:lnTo>
                <a:lnTo>
                  <a:pt x="943" y="489"/>
                </a:lnTo>
                <a:lnTo>
                  <a:pt x="937" y="524"/>
                </a:lnTo>
                <a:lnTo>
                  <a:pt x="931" y="558"/>
                </a:lnTo>
                <a:lnTo>
                  <a:pt x="926" y="591"/>
                </a:lnTo>
                <a:lnTo>
                  <a:pt x="920" y="622"/>
                </a:lnTo>
                <a:lnTo>
                  <a:pt x="914" y="654"/>
                </a:lnTo>
                <a:lnTo>
                  <a:pt x="908" y="683"/>
                </a:lnTo>
                <a:lnTo>
                  <a:pt x="901" y="714"/>
                </a:lnTo>
                <a:lnTo>
                  <a:pt x="895" y="742"/>
                </a:lnTo>
                <a:lnTo>
                  <a:pt x="887" y="769"/>
                </a:lnTo>
                <a:lnTo>
                  <a:pt x="881" y="796"/>
                </a:lnTo>
                <a:lnTo>
                  <a:pt x="874" y="823"/>
                </a:lnTo>
                <a:lnTo>
                  <a:pt x="868" y="848"/>
                </a:lnTo>
                <a:lnTo>
                  <a:pt x="860" y="873"/>
                </a:lnTo>
                <a:lnTo>
                  <a:pt x="853" y="898"/>
                </a:lnTo>
                <a:lnTo>
                  <a:pt x="847" y="921"/>
                </a:lnTo>
                <a:lnTo>
                  <a:pt x="837" y="944"/>
                </a:lnTo>
                <a:lnTo>
                  <a:pt x="826" y="967"/>
                </a:lnTo>
                <a:lnTo>
                  <a:pt x="816" y="990"/>
                </a:lnTo>
                <a:lnTo>
                  <a:pt x="805" y="1011"/>
                </a:lnTo>
                <a:lnTo>
                  <a:pt x="791" y="1034"/>
                </a:lnTo>
                <a:lnTo>
                  <a:pt x="780" y="1055"/>
                </a:lnTo>
                <a:lnTo>
                  <a:pt x="766" y="1076"/>
                </a:lnTo>
                <a:lnTo>
                  <a:pt x="751" y="1098"/>
                </a:lnTo>
                <a:lnTo>
                  <a:pt x="737" y="1119"/>
                </a:lnTo>
                <a:lnTo>
                  <a:pt x="722" y="1140"/>
                </a:lnTo>
                <a:lnTo>
                  <a:pt x="707" y="1161"/>
                </a:lnTo>
                <a:lnTo>
                  <a:pt x="689" y="1182"/>
                </a:lnTo>
                <a:lnTo>
                  <a:pt x="674" y="1203"/>
                </a:lnTo>
                <a:lnTo>
                  <a:pt x="655" y="1224"/>
                </a:lnTo>
                <a:lnTo>
                  <a:pt x="638" y="1243"/>
                </a:lnTo>
                <a:lnTo>
                  <a:pt x="620" y="1265"/>
                </a:lnTo>
                <a:lnTo>
                  <a:pt x="601" y="1286"/>
                </a:lnTo>
                <a:lnTo>
                  <a:pt x="580" y="1307"/>
                </a:lnTo>
                <a:lnTo>
                  <a:pt x="561" y="1326"/>
                </a:lnTo>
                <a:lnTo>
                  <a:pt x="540" y="1345"/>
                </a:lnTo>
                <a:lnTo>
                  <a:pt x="517" y="1364"/>
                </a:lnTo>
                <a:lnTo>
                  <a:pt x="496" y="1384"/>
                </a:lnTo>
                <a:lnTo>
                  <a:pt x="473" y="1403"/>
                </a:lnTo>
                <a:lnTo>
                  <a:pt x="450" y="1422"/>
                </a:lnTo>
                <a:lnTo>
                  <a:pt x="425" y="1439"/>
                </a:lnTo>
                <a:lnTo>
                  <a:pt x="400" y="1458"/>
                </a:lnTo>
                <a:lnTo>
                  <a:pt x="375" y="1478"/>
                </a:lnTo>
                <a:lnTo>
                  <a:pt x="350" y="1495"/>
                </a:lnTo>
                <a:lnTo>
                  <a:pt x="323" y="1512"/>
                </a:lnTo>
                <a:lnTo>
                  <a:pt x="296" y="1531"/>
                </a:lnTo>
                <a:lnTo>
                  <a:pt x="269" y="1549"/>
                </a:lnTo>
                <a:lnTo>
                  <a:pt x="240" y="15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171"/>
          <p:cNvSpPr/>
          <p:nvPr/>
        </p:nvSpPr>
        <p:spPr>
          <a:xfrm>
            <a:off x="6743880" y="2825640"/>
            <a:ext cx="784080" cy="1095480"/>
          </a:xfrm>
          <a:custGeom>
            <a:avLst/>
            <a:gdLst/>
            <a:ahLst/>
            <a:rect l="l" t="t" r="r" b="b"/>
            <a:pathLst>
              <a:path w="989" h="1380">
                <a:moveTo>
                  <a:pt x="897" y="82"/>
                </a:moveTo>
                <a:lnTo>
                  <a:pt x="906" y="90"/>
                </a:lnTo>
                <a:lnTo>
                  <a:pt x="914" y="97"/>
                </a:lnTo>
                <a:lnTo>
                  <a:pt x="922" y="103"/>
                </a:lnTo>
                <a:lnTo>
                  <a:pt x="929" y="111"/>
                </a:lnTo>
                <a:lnTo>
                  <a:pt x="937" y="117"/>
                </a:lnTo>
                <a:lnTo>
                  <a:pt x="943" y="122"/>
                </a:lnTo>
                <a:lnTo>
                  <a:pt x="954" y="134"/>
                </a:lnTo>
                <a:lnTo>
                  <a:pt x="964" y="143"/>
                </a:lnTo>
                <a:lnTo>
                  <a:pt x="972" y="151"/>
                </a:lnTo>
                <a:lnTo>
                  <a:pt x="979" y="159"/>
                </a:lnTo>
                <a:lnTo>
                  <a:pt x="985" y="165"/>
                </a:lnTo>
                <a:lnTo>
                  <a:pt x="987" y="167"/>
                </a:lnTo>
                <a:lnTo>
                  <a:pt x="989" y="170"/>
                </a:lnTo>
                <a:lnTo>
                  <a:pt x="989" y="174"/>
                </a:lnTo>
                <a:lnTo>
                  <a:pt x="989" y="180"/>
                </a:lnTo>
                <a:lnTo>
                  <a:pt x="989" y="184"/>
                </a:lnTo>
                <a:lnTo>
                  <a:pt x="989" y="190"/>
                </a:lnTo>
                <a:lnTo>
                  <a:pt x="987" y="195"/>
                </a:lnTo>
                <a:lnTo>
                  <a:pt x="985" y="201"/>
                </a:lnTo>
                <a:lnTo>
                  <a:pt x="981" y="209"/>
                </a:lnTo>
                <a:lnTo>
                  <a:pt x="979" y="214"/>
                </a:lnTo>
                <a:lnTo>
                  <a:pt x="975" y="222"/>
                </a:lnTo>
                <a:lnTo>
                  <a:pt x="970" y="230"/>
                </a:lnTo>
                <a:lnTo>
                  <a:pt x="966" y="238"/>
                </a:lnTo>
                <a:lnTo>
                  <a:pt x="960" y="245"/>
                </a:lnTo>
                <a:lnTo>
                  <a:pt x="954" y="253"/>
                </a:lnTo>
                <a:lnTo>
                  <a:pt x="947" y="261"/>
                </a:lnTo>
                <a:lnTo>
                  <a:pt x="943" y="264"/>
                </a:lnTo>
                <a:lnTo>
                  <a:pt x="941" y="270"/>
                </a:lnTo>
                <a:lnTo>
                  <a:pt x="937" y="274"/>
                </a:lnTo>
                <a:lnTo>
                  <a:pt x="933" y="282"/>
                </a:lnTo>
                <a:lnTo>
                  <a:pt x="931" y="287"/>
                </a:lnTo>
                <a:lnTo>
                  <a:pt x="927" y="295"/>
                </a:lnTo>
                <a:lnTo>
                  <a:pt x="925" y="303"/>
                </a:lnTo>
                <a:lnTo>
                  <a:pt x="924" y="312"/>
                </a:lnTo>
                <a:lnTo>
                  <a:pt x="922" y="320"/>
                </a:lnTo>
                <a:lnTo>
                  <a:pt x="918" y="330"/>
                </a:lnTo>
                <a:lnTo>
                  <a:pt x="916" y="341"/>
                </a:lnTo>
                <a:lnTo>
                  <a:pt x="914" y="353"/>
                </a:lnTo>
                <a:lnTo>
                  <a:pt x="914" y="364"/>
                </a:lnTo>
                <a:lnTo>
                  <a:pt x="912" y="376"/>
                </a:lnTo>
                <a:lnTo>
                  <a:pt x="910" y="387"/>
                </a:lnTo>
                <a:lnTo>
                  <a:pt x="908" y="401"/>
                </a:lnTo>
                <a:lnTo>
                  <a:pt x="908" y="416"/>
                </a:lnTo>
                <a:lnTo>
                  <a:pt x="906" y="429"/>
                </a:lnTo>
                <a:lnTo>
                  <a:pt x="906" y="445"/>
                </a:lnTo>
                <a:lnTo>
                  <a:pt x="906" y="460"/>
                </a:lnTo>
                <a:lnTo>
                  <a:pt x="904" y="476"/>
                </a:lnTo>
                <a:lnTo>
                  <a:pt x="904" y="493"/>
                </a:lnTo>
                <a:lnTo>
                  <a:pt x="904" y="510"/>
                </a:lnTo>
                <a:lnTo>
                  <a:pt x="904" y="527"/>
                </a:lnTo>
                <a:lnTo>
                  <a:pt x="904" y="545"/>
                </a:lnTo>
                <a:lnTo>
                  <a:pt x="904" y="564"/>
                </a:lnTo>
                <a:lnTo>
                  <a:pt x="904" y="583"/>
                </a:lnTo>
                <a:lnTo>
                  <a:pt x="904" y="602"/>
                </a:lnTo>
                <a:lnTo>
                  <a:pt x="906" y="623"/>
                </a:lnTo>
                <a:lnTo>
                  <a:pt x="906" y="644"/>
                </a:lnTo>
                <a:lnTo>
                  <a:pt x="908" y="666"/>
                </a:lnTo>
                <a:lnTo>
                  <a:pt x="908" y="687"/>
                </a:lnTo>
                <a:lnTo>
                  <a:pt x="910" y="733"/>
                </a:lnTo>
                <a:lnTo>
                  <a:pt x="912" y="777"/>
                </a:lnTo>
                <a:lnTo>
                  <a:pt x="914" y="819"/>
                </a:lnTo>
                <a:lnTo>
                  <a:pt x="916" y="859"/>
                </a:lnTo>
                <a:lnTo>
                  <a:pt x="916" y="898"/>
                </a:lnTo>
                <a:lnTo>
                  <a:pt x="918" y="936"/>
                </a:lnTo>
                <a:lnTo>
                  <a:pt x="918" y="971"/>
                </a:lnTo>
                <a:lnTo>
                  <a:pt x="918" y="1005"/>
                </a:lnTo>
                <a:lnTo>
                  <a:pt x="918" y="1036"/>
                </a:lnTo>
                <a:lnTo>
                  <a:pt x="918" y="1067"/>
                </a:lnTo>
                <a:lnTo>
                  <a:pt x="916" y="1096"/>
                </a:lnTo>
                <a:lnTo>
                  <a:pt x="916" y="1122"/>
                </a:lnTo>
                <a:lnTo>
                  <a:pt x="914" y="1147"/>
                </a:lnTo>
                <a:lnTo>
                  <a:pt x="912" y="1170"/>
                </a:lnTo>
                <a:lnTo>
                  <a:pt x="910" y="1192"/>
                </a:lnTo>
                <a:lnTo>
                  <a:pt x="910" y="1201"/>
                </a:lnTo>
                <a:lnTo>
                  <a:pt x="908" y="1211"/>
                </a:lnTo>
                <a:lnTo>
                  <a:pt x="906" y="1230"/>
                </a:lnTo>
                <a:lnTo>
                  <a:pt x="904" y="1249"/>
                </a:lnTo>
                <a:lnTo>
                  <a:pt x="900" y="1266"/>
                </a:lnTo>
                <a:lnTo>
                  <a:pt x="897" y="1282"/>
                </a:lnTo>
                <a:lnTo>
                  <a:pt x="895" y="1297"/>
                </a:lnTo>
                <a:lnTo>
                  <a:pt x="891" y="1311"/>
                </a:lnTo>
                <a:lnTo>
                  <a:pt x="887" y="1322"/>
                </a:lnTo>
                <a:lnTo>
                  <a:pt x="883" y="1334"/>
                </a:lnTo>
                <a:lnTo>
                  <a:pt x="879" y="1343"/>
                </a:lnTo>
                <a:lnTo>
                  <a:pt x="876" y="1351"/>
                </a:lnTo>
                <a:lnTo>
                  <a:pt x="874" y="1358"/>
                </a:lnTo>
                <a:lnTo>
                  <a:pt x="870" y="1364"/>
                </a:lnTo>
                <a:lnTo>
                  <a:pt x="866" y="1368"/>
                </a:lnTo>
                <a:lnTo>
                  <a:pt x="864" y="1372"/>
                </a:lnTo>
                <a:lnTo>
                  <a:pt x="860" y="1374"/>
                </a:lnTo>
                <a:lnTo>
                  <a:pt x="858" y="1376"/>
                </a:lnTo>
                <a:lnTo>
                  <a:pt x="856" y="1378"/>
                </a:lnTo>
                <a:lnTo>
                  <a:pt x="853" y="1380"/>
                </a:lnTo>
                <a:lnTo>
                  <a:pt x="851" y="1380"/>
                </a:lnTo>
                <a:lnTo>
                  <a:pt x="847" y="1380"/>
                </a:lnTo>
                <a:lnTo>
                  <a:pt x="843" y="1380"/>
                </a:lnTo>
                <a:lnTo>
                  <a:pt x="839" y="1380"/>
                </a:lnTo>
                <a:lnTo>
                  <a:pt x="835" y="1378"/>
                </a:lnTo>
                <a:lnTo>
                  <a:pt x="829" y="1376"/>
                </a:lnTo>
                <a:lnTo>
                  <a:pt x="826" y="1372"/>
                </a:lnTo>
                <a:lnTo>
                  <a:pt x="820" y="1368"/>
                </a:lnTo>
                <a:lnTo>
                  <a:pt x="814" y="1364"/>
                </a:lnTo>
                <a:lnTo>
                  <a:pt x="808" y="1360"/>
                </a:lnTo>
                <a:lnTo>
                  <a:pt x="803" y="1355"/>
                </a:lnTo>
                <a:lnTo>
                  <a:pt x="797" y="1347"/>
                </a:lnTo>
                <a:lnTo>
                  <a:pt x="789" y="1341"/>
                </a:lnTo>
                <a:lnTo>
                  <a:pt x="783" y="1334"/>
                </a:lnTo>
                <a:lnTo>
                  <a:pt x="780" y="1330"/>
                </a:lnTo>
                <a:lnTo>
                  <a:pt x="776" y="1324"/>
                </a:lnTo>
                <a:lnTo>
                  <a:pt x="772" y="1318"/>
                </a:lnTo>
                <a:lnTo>
                  <a:pt x="770" y="1311"/>
                </a:lnTo>
                <a:lnTo>
                  <a:pt x="766" y="1303"/>
                </a:lnTo>
                <a:lnTo>
                  <a:pt x="764" y="1295"/>
                </a:lnTo>
                <a:lnTo>
                  <a:pt x="762" y="1284"/>
                </a:lnTo>
                <a:lnTo>
                  <a:pt x="758" y="1274"/>
                </a:lnTo>
                <a:lnTo>
                  <a:pt x="757" y="1263"/>
                </a:lnTo>
                <a:lnTo>
                  <a:pt x="755" y="1251"/>
                </a:lnTo>
                <a:lnTo>
                  <a:pt x="753" y="1238"/>
                </a:lnTo>
                <a:lnTo>
                  <a:pt x="751" y="1222"/>
                </a:lnTo>
                <a:lnTo>
                  <a:pt x="749" y="1209"/>
                </a:lnTo>
                <a:lnTo>
                  <a:pt x="747" y="1192"/>
                </a:lnTo>
                <a:lnTo>
                  <a:pt x="747" y="1176"/>
                </a:lnTo>
                <a:lnTo>
                  <a:pt x="745" y="1157"/>
                </a:lnTo>
                <a:lnTo>
                  <a:pt x="743" y="1140"/>
                </a:lnTo>
                <a:lnTo>
                  <a:pt x="743" y="1120"/>
                </a:lnTo>
                <a:lnTo>
                  <a:pt x="741" y="1099"/>
                </a:lnTo>
                <a:lnTo>
                  <a:pt x="741" y="1078"/>
                </a:lnTo>
                <a:lnTo>
                  <a:pt x="741" y="1057"/>
                </a:lnTo>
                <a:lnTo>
                  <a:pt x="741" y="1034"/>
                </a:lnTo>
                <a:lnTo>
                  <a:pt x="739" y="1009"/>
                </a:lnTo>
                <a:lnTo>
                  <a:pt x="739" y="986"/>
                </a:lnTo>
                <a:lnTo>
                  <a:pt x="739" y="959"/>
                </a:lnTo>
                <a:lnTo>
                  <a:pt x="741" y="932"/>
                </a:lnTo>
                <a:lnTo>
                  <a:pt x="741" y="906"/>
                </a:lnTo>
                <a:lnTo>
                  <a:pt x="741" y="877"/>
                </a:lnTo>
                <a:lnTo>
                  <a:pt x="741" y="848"/>
                </a:lnTo>
                <a:lnTo>
                  <a:pt x="743" y="819"/>
                </a:lnTo>
                <a:lnTo>
                  <a:pt x="743" y="788"/>
                </a:lnTo>
                <a:lnTo>
                  <a:pt x="745" y="756"/>
                </a:lnTo>
                <a:lnTo>
                  <a:pt x="745" y="723"/>
                </a:lnTo>
                <a:lnTo>
                  <a:pt x="745" y="692"/>
                </a:lnTo>
                <a:lnTo>
                  <a:pt x="745" y="664"/>
                </a:lnTo>
                <a:lnTo>
                  <a:pt x="743" y="635"/>
                </a:lnTo>
                <a:lnTo>
                  <a:pt x="743" y="606"/>
                </a:lnTo>
                <a:lnTo>
                  <a:pt x="743" y="579"/>
                </a:lnTo>
                <a:lnTo>
                  <a:pt x="743" y="554"/>
                </a:lnTo>
                <a:lnTo>
                  <a:pt x="743" y="529"/>
                </a:lnTo>
                <a:lnTo>
                  <a:pt x="741" y="504"/>
                </a:lnTo>
                <a:lnTo>
                  <a:pt x="741" y="481"/>
                </a:lnTo>
                <a:lnTo>
                  <a:pt x="739" y="458"/>
                </a:lnTo>
                <a:lnTo>
                  <a:pt x="739" y="437"/>
                </a:lnTo>
                <a:lnTo>
                  <a:pt x="737" y="418"/>
                </a:lnTo>
                <a:lnTo>
                  <a:pt x="737" y="399"/>
                </a:lnTo>
                <a:lnTo>
                  <a:pt x="735" y="380"/>
                </a:lnTo>
                <a:lnTo>
                  <a:pt x="735" y="362"/>
                </a:lnTo>
                <a:lnTo>
                  <a:pt x="734" y="345"/>
                </a:lnTo>
                <a:lnTo>
                  <a:pt x="732" y="330"/>
                </a:lnTo>
                <a:lnTo>
                  <a:pt x="732" y="314"/>
                </a:lnTo>
                <a:lnTo>
                  <a:pt x="730" y="301"/>
                </a:lnTo>
                <a:lnTo>
                  <a:pt x="728" y="287"/>
                </a:lnTo>
                <a:lnTo>
                  <a:pt x="726" y="276"/>
                </a:lnTo>
                <a:lnTo>
                  <a:pt x="724" y="264"/>
                </a:lnTo>
                <a:lnTo>
                  <a:pt x="724" y="255"/>
                </a:lnTo>
                <a:lnTo>
                  <a:pt x="722" y="245"/>
                </a:lnTo>
                <a:lnTo>
                  <a:pt x="720" y="238"/>
                </a:lnTo>
                <a:lnTo>
                  <a:pt x="718" y="230"/>
                </a:lnTo>
                <a:lnTo>
                  <a:pt x="716" y="222"/>
                </a:lnTo>
                <a:lnTo>
                  <a:pt x="714" y="216"/>
                </a:lnTo>
                <a:lnTo>
                  <a:pt x="710" y="213"/>
                </a:lnTo>
                <a:lnTo>
                  <a:pt x="709" y="209"/>
                </a:lnTo>
                <a:lnTo>
                  <a:pt x="707" y="205"/>
                </a:lnTo>
                <a:lnTo>
                  <a:pt x="703" y="205"/>
                </a:lnTo>
                <a:lnTo>
                  <a:pt x="699" y="203"/>
                </a:lnTo>
                <a:lnTo>
                  <a:pt x="693" y="203"/>
                </a:lnTo>
                <a:lnTo>
                  <a:pt x="687" y="203"/>
                </a:lnTo>
                <a:lnTo>
                  <a:pt x="680" y="201"/>
                </a:lnTo>
                <a:lnTo>
                  <a:pt x="670" y="201"/>
                </a:lnTo>
                <a:lnTo>
                  <a:pt x="659" y="203"/>
                </a:lnTo>
                <a:lnTo>
                  <a:pt x="647" y="203"/>
                </a:lnTo>
                <a:lnTo>
                  <a:pt x="636" y="203"/>
                </a:lnTo>
                <a:lnTo>
                  <a:pt x="620" y="205"/>
                </a:lnTo>
                <a:lnTo>
                  <a:pt x="605" y="205"/>
                </a:lnTo>
                <a:lnTo>
                  <a:pt x="590" y="207"/>
                </a:lnTo>
                <a:lnTo>
                  <a:pt x="570" y="209"/>
                </a:lnTo>
                <a:lnTo>
                  <a:pt x="551" y="211"/>
                </a:lnTo>
                <a:lnTo>
                  <a:pt x="532" y="213"/>
                </a:lnTo>
                <a:lnTo>
                  <a:pt x="509" y="214"/>
                </a:lnTo>
                <a:lnTo>
                  <a:pt x="488" y="218"/>
                </a:lnTo>
                <a:lnTo>
                  <a:pt x="463" y="220"/>
                </a:lnTo>
                <a:lnTo>
                  <a:pt x="438" y="224"/>
                </a:lnTo>
                <a:lnTo>
                  <a:pt x="411" y="228"/>
                </a:lnTo>
                <a:lnTo>
                  <a:pt x="384" y="232"/>
                </a:lnTo>
                <a:lnTo>
                  <a:pt x="355" y="236"/>
                </a:lnTo>
                <a:lnTo>
                  <a:pt x="325" y="239"/>
                </a:lnTo>
                <a:lnTo>
                  <a:pt x="294" y="243"/>
                </a:lnTo>
                <a:lnTo>
                  <a:pt x="261" y="249"/>
                </a:lnTo>
                <a:lnTo>
                  <a:pt x="227" y="253"/>
                </a:lnTo>
                <a:lnTo>
                  <a:pt x="192" y="259"/>
                </a:lnTo>
                <a:lnTo>
                  <a:pt x="156" y="264"/>
                </a:lnTo>
                <a:lnTo>
                  <a:pt x="119" y="270"/>
                </a:lnTo>
                <a:lnTo>
                  <a:pt x="81" y="276"/>
                </a:lnTo>
                <a:lnTo>
                  <a:pt x="41" y="282"/>
                </a:lnTo>
                <a:lnTo>
                  <a:pt x="0" y="287"/>
                </a:lnTo>
                <a:lnTo>
                  <a:pt x="0" y="234"/>
                </a:lnTo>
                <a:lnTo>
                  <a:pt x="0" y="178"/>
                </a:lnTo>
                <a:lnTo>
                  <a:pt x="18" y="178"/>
                </a:lnTo>
                <a:lnTo>
                  <a:pt x="35" y="176"/>
                </a:lnTo>
                <a:lnTo>
                  <a:pt x="56" y="176"/>
                </a:lnTo>
                <a:lnTo>
                  <a:pt x="75" y="174"/>
                </a:lnTo>
                <a:lnTo>
                  <a:pt x="98" y="174"/>
                </a:lnTo>
                <a:lnTo>
                  <a:pt x="121" y="170"/>
                </a:lnTo>
                <a:lnTo>
                  <a:pt x="144" y="168"/>
                </a:lnTo>
                <a:lnTo>
                  <a:pt x="169" y="167"/>
                </a:lnTo>
                <a:lnTo>
                  <a:pt x="194" y="163"/>
                </a:lnTo>
                <a:lnTo>
                  <a:pt x="221" y="159"/>
                </a:lnTo>
                <a:lnTo>
                  <a:pt x="250" y="155"/>
                </a:lnTo>
                <a:lnTo>
                  <a:pt x="279" y="149"/>
                </a:lnTo>
                <a:lnTo>
                  <a:pt x="309" y="143"/>
                </a:lnTo>
                <a:lnTo>
                  <a:pt x="340" y="138"/>
                </a:lnTo>
                <a:lnTo>
                  <a:pt x="371" y="130"/>
                </a:lnTo>
                <a:lnTo>
                  <a:pt x="403" y="122"/>
                </a:lnTo>
                <a:lnTo>
                  <a:pt x="436" y="119"/>
                </a:lnTo>
                <a:lnTo>
                  <a:pt x="467" y="113"/>
                </a:lnTo>
                <a:lnTo>
                  <a:pt x="495" y="107"/>
                </a:lnTo>
                <a:lnTo>
                  <a:pt x="522" y="101"/>
                </a:lnTo>
                <a:lnTo>
                  <a:pt x="547" y="97"/>
                </a:lnTo>
                <a:lnTo>
                  <a:pt x="572" y="92"/>
                </a:lnTo>
                <a:lnTo>
                  <a:pt x="593" y="86"/>
                </a:lnTo>
                <a:lnTo>
                  <a:pt x="614" y="82"/>
                </a:lnTo>
                <a:lnTo>
                  <a:pt x="632" y="76"/>
                </a:lnTo>
                <a:lnTo>
                  <a:pt x="649" y="71"/>
                </a:lnTo>
                <a:lnTo>
                  <a:pt x="664" y="67"/>
                </a:lnTo>
                <a:lnTo>
                  <a:pt x="680" y="61"/>
                </a:lnTo>
                <a:lnTo>
                  <a:pt x="691" y="55"/>
                </a:lnTo>
                <a:lnTo>
                  <a:pt x="703" y="51"/>
                </a:lnTo>
                <a:lnTo>
                  <a:pt x="710" y="46"/>
                </a:lnTo>
                <a:lnTo>
                  <a:pt x="720" y="40"/>
                </a:lnTo>
                <a:lnTo>
                  <a:pt x="728" y="30"/>
                </a:lnTo>
                <a:lnTo>
                  <a:pt x="737" y="23"/>
                </a:lnTo>
                <a:lnTo>
                  <a:pt x="747" y="15"/>
                </a:lnTo>
                <a:lnTo>
                  <a:pt x="757" y="9"/>
                </a:lnTo>
                <a:lnTo>
                  <a:pt x="766" y="5"/>
                </a:lnTo>
                <a:lnTo>
                  <a:pt x="776" y="1"/>
                </a:lnTo>
                <a:lnTo>
                  <a:pt x="785" y="0"/>
                </a:lnTo>
                <a:lnTo>
                  <a:pt x="795" y="0"/>
                </a:lnTo>
                <a:lnTo>
                  <a:pt x="797" y="1"/>
                </a:lnTo>
                <a:lnTo>
                  <a:pt x="801" y="5"/>
                </a:lnTo>
                <a:lnTo>
                  <a:pt x="805" y="9"/>
                </a:lnTo>
                <a:lnTo>
                  <a:pt x="808" y="11"/>
                </a:lnTo>
                <a:lnTo>
                  <a:pt x="814" y="17"/>
                </a:lnTo>
                <a:lnTo>
                  <a:pt x="820" y="21"/>
                </a:lnTo>
                <a:lnTo>
                  <a:pt x="826" y="24"/>
                </a:lnTo>
                <a:lnTo>
                  <a:pt x="831" y="30"/>
                </a:lnTo>
                <a:lnTo>
                  <a:pt x="845" y="42"/>
                </a:lnTo>
                <a:lnTo>
                  <a:pt x="860" y="53"/>
                </a:lnTo>
                <a:lnTo>
                  <a:pt x="877" y="67"/>
                </a:lnTo>
                <a:lnTo>
                  <a:pt x="897" y="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72"/>
          <p:cNvSpPr/>
          <p:nvPr/>
        </p:nvSpPr>
        <p:spPr>
          <a:xfrm>
            <a:off x="6665760" y="2949480"/>
            <a:ext cx="128880" cy="925560"/>
          </a:xfrm>
          <a:custGeom>
            <a:avLst/>
            <a:gdLst/>
            <a:ahLst/>
            <a:rect l="l" t="t" r="r" b="b"/>
            <a:pathLst>
              <a:path w="162" h="1165">
                <a:moveTo>
                  <a:pt x="10" y="10"/>
                </a:moveTo>
                <a:lnTo>
                  <a:pt x="16" y="6"/>
                </a:lnTo>
                <a:lnTo>
                  <a:pt x="22" y="4"/>
                </a:lnTo>
                <a:lnTo>
                  <a:pt x="27" y="2"/>
                </a:lnTo>
                <a:lnTo>
                  <a:pt x="33" y="2"/>
                </a:lnTo>
                <a:lnTo>
                  <a:pt x="41" y="0"/>
                </a:lnTo>
                <a:lnTo>
                  <a:pt x="48" y="0"/>
                </a:lnTo>
                <a:lnTo>
                  <a:pt x="58" y="0"/>
                </a:lnTo>
                <a:lnTo>
                  <a:pt x="68" y="0"/>
                </a:lnTo>
                <a:lnTo>
                  <a:pt x="77" y="2"/>
                </a:lnTo>
                <a:lnTo>
                  <a:pt x="87" y="2"/>
                </a:lnTo>
                <a:lnTo>
                  <a:pt x="98" y="4"/>
                </a:lnTo>
                <a:lnTo>
                  <a:pt x="110" y="8"/>
                </a:lnTo>
                <a:lnTo>
                  <a:pt x="121" y="10"/>
                </a:lnTo>
                <a:lnTo>
                  <a:pt x="135" y="13"/>
                </a:lnTo>
                <a:lnTo>
                  <a:pt x="148" y="17"/>
                </a:lnTo>
                <a:lnTo>
                  <a:pt x="162" y="23"/>
                </a:lnTo>
                <a:lnTo>
                  <a:pt x="162" y="75"/>
                </a:lnTo>
                <a:lnTo>
                  <a:pt x="162" y="125"/>
                </a:lnTo>
                <a:lnTo>
                  <a:pt x="162" y="175"/>
                </a:lnTo>
                <a:lnTo>
                  <a:pt x="162" y="223"/>
                </a:lnTo>
                <a:lnTo>
                  <a:pt x="162" y="269"/>
                </a:lnTo>
                <a:lnTo>
                  <a:pt x="162" y="315"/>
                </a:lnTo>
                <a:lnTo>
                  <a:pt x="162" y="357"/>
                </a:lnTo>
                <a:lnTo>
                  <a:pt x="162" y="399"/>
                </a:lnTo>
                <a:lnTo>
                  <a:pt x="162" y="440"/>
                </a:lnTo>
                <a:lnTo>
                  <a:pt x="162" y="480"/>
                </a:lnTo>
                <a:lnTo>
                  <a:pt x="162" y="516"/>
                </a:lnTo>
                <a:lnTo>
                  <a:pt x="160" y="553"/>
                </a:lnTo>
                <a:lnTo>
                  <a:pt x="160" y="589"/>
                </a:lnTo>
                <a:lnTo>
                  <a:pt x="160" y="622"/>
                </a:lnTo>
                <a:lnTo>
                  <a:pt x="160" y="655"/>
                </a:lnTo>
                <a:lnTo>
                  <a:pt x="160" y="685"/>
                </a:lnTo>
                <a:lnTo>
                  <a:pt x="160" y="714"/>
                </a:lnTo>
                <a:lnTo>
                  <a:pt x="160" y="743"/>
                </a:lnTo>
                <a:lnTo>
                  <a:pt x="158" y="768"/>
                </a:lnTo>
                <a:lnTo>
                  <a:pt x="158" y="793"/>
                </a:lnTo>
                <a:lnTo>
                  <a:pt x="158" y="818"/>
                </a:lnTo>
                <a:lnTo>
                  <a:pt x="158" y="839"/>
                </a:lnTo>
                <a:lnTo>
                  <a:pt x="156" y="860"/>
                </a:lnTo>
                <a:lnTo>
                  <a:pt x="156" y="879"/>
                </a:lnTo>
                <a:lnTo>
                  <a:pt x="156" y="898"/>
                </a:lnTo>
                <a:lnTo>
                  <a:pt x="154" y="914"/>
                </a:lnTo>
                <a:lnTo>
                  <a:pt x="154" y="929"/>
                </a:lnTo>
                <a:lnTo>
                  <a:pt x="152" y="944"/>
                </a:lnTo>
                <a:lnTo>
                  <a:pt x="152" y="956"/>
                </a:lnTo>
                <a:lnTo>
                  <a:pt x="150" y="967"/>
                </a:lnTo>
                <a:lnTo>
                  <a:pt x="150" y="977"/>
                </a:lnTo>
                <a:lnTo>
                  <a:pt x="148" y="987"/>
                </a:lnTo>
                <a:lnTo>
                  <a:pt x="146" y="1004"/>
                </a:lnTo>
                <a:lnTo>
                  <a:pt x="144" y="1019"/>
                </a:lnTo>
                <a:lnTo>
                  <a:pt x="142" y="1035"/>
                </a:lnTo>
                <a:lnTo>
                  <a:pt x="139" y="1050"/>
                </a:lnTo>
                <a:lnTo>
                  <a:pt x="137" y="1063"/>
                </a:lnTo>
                <a:lnTo>
                  <a:pt x="135" y="1077"/>
                </a:lnTo>
                <a:lnTo>
                  <a:pt x="131" y="1088"/>
                </a:lnTo>
                <a:lnTo>
                  <a:pt x="129" y="1100"/>
                </a:lnTo>
                <a:lnTo>
                  <a:pt x="125" y="1109"/>
                </a:lnTo>
                <a:lnTo>
                  <a:pt x="121" y="1117"/>
                </a:lnTo>
                <a:lnTo>
                  <a:pt x="119" y="1125"/>
                </a:lnTo>
                <a:lnTo>
                  <a:pt x="116" y="1132"/>
                </a:lnTo>
                <a:lnTo>
                  <a:pt x="112" y="1138"/>
                </a:lnTo>
                <a:lnTo>
                  <a:pt x="108" y="1144"/>
                </a:lnTo>
                <a:lnTo>
                  <a:pt x="102" y="1148"/>
                </a:lnTo>
                <a:lnTo>
                  <a:pt x="98" y="1152"/>
                </a:lnTo>
                <a:lnTo>
                  <a:pt x="94" y="1156"/>
                </a:lnTo>
                <a:lnTo>
                  <a:pt x="89" y="1159"/>
                </a:lnTo>
                <a:lnTo>
                  <a:pt x="85" y="1161"/>
                </a:lnTo>
                <a:lnTo>
                  <a:pt x="79" y="1163"/>
                </a:lnTo>
                <a:lnTo>
                  <a:pt x="75" y="1165"/>
                </a:lnTo>
                <a:lnTo>
                  <a:pt x="71" y="1165"/>
                </a:lnTo>
                <a:lnTo>
                  <a:pt x="66" y="1165"/>
                </a:lnTo>
                <a:lnTo>
                  <a:pt x="62" y="1163"/>
                </a:lnTo>
                <a:lnTo>
                  <a:pt x="58" y="1161"/>
                </a:lnTo>
                <a:lnTo>
                  <a:pt x="54" y="1157"/>
                </a:lnTo>
                <a:lnTo>
                  <a:pt x="50" y="1154"/>
                </a:lnTo>
                <a:lnTo>
                  <a:pt x="46" y="1150"/>
                </a:lnTo>
                <a:lnTo>
                  <a:pt x="43" y="1144"/>
                </a:lnTo>
                <a:lnTo>
                  <a:pt x="41" y="1138"/>
                </a:lnTo>
                <a:lnTo>
                  <a:pt x="37" y="1131"/>
                </a:lnTo>
                <a:lnTo>
                  <a:pt x="35" y="1123"/>
                </a:lnTo>
                <a:lnTo>
                  <a:pt x="31" y="1115"/>
                </a:lnTo>
                <a:lnTo>
                  <a:pt x="27" y="1106"/>
                </a:lnTo>
                <a:lnTo>
                  <a:pt x="23" y="1096"/>
                </a:lnTo>
                <a:lnTo>
                  <a:pt x="22" y="1084"/>
                </a:lnTo>
                <a:lnTo>
                  <a:pt x="20" y="1073"/>
                </a:lnTo>
                <a:lnTo>
                  <a:pt x="18" y="1061"/>
                </a:lnTo>
                <a:lnTo>
                  <a:pt x="16" y="1048"/>
                </a:lnTo>
                <a:lnTo>
                  <a:pt x="16" y="1035"/>
                </a:lnTo>
                <a:lnTo>
                  <a:pt x="14" y="1019"/>
                </a:lnTo>
                <a:lnTo>
                  <a:pt x="14" y="1004"/>
                </a:lnTo>
                <a:lnTo>
                  <a:pt x="16" y="989"/>
                </a:lnTo>
                <a:lnTo>
                  <a:pt x="16" y="973"/>
                </a:lnTo>
                <a:lnTo>
                  <a:pt x="18" y="956"/>
                </a:lnTo>
                <a:lnTo>
                  <a:pt x="18" y="939"/>
                </a:lnTo>
                <a:lnTo>
                  <a:pt x="23" y="904"/>
                </a:lnTo>
                <a:lnTo>
                  <a:pt x="25" y="885"/>
                </a:lnTo>
                <a:lnTo>
                  <a:pt x="27" y="864"/>
                </a:lnTo>
                <a:lnTo>
                  <a:pt x="29" y="843"/>
                </a:lnTo>
                <a:lnTo>
                  <a:pt x="29" y="822"/>
                </a:lnTo>
                <a:lnTo>
                  <a:pt x="31" y="797"/>
                </a:lnTo>
                <a:lnTo>
                  <a:pt x="31" y="774"/>
                </a:lnTo>
                <a:lnTo>
                  <a:pt x="33" y="747"/>
                </a:lnTo>
                <a:lnTo>
                  <a:pt x="33" y="722"/>
                </a:lnTo>
                <a:lnTo>
                  <a:pt x="33" y="693"/>
                </a:lnTo>
                <a:lnTo>
                  <a:pt x="35" y="664"/>
                </a:lnTo>
                <a:lnTo>
                  <a:pt x="35" y="635"/>
                </a:lnTo>
                <a:lnTo>
                  <a:pt x="35" y="605"/>
                </a:lnTo>
                <a:lnTo>
                  <a:pt x="35" y="574"/>
                </a:lnTo>
                <a:lnTo>
                  <a:pt x="35" y="543"/>
                </a:lnTo>
                <a:lnTo>
                  <a:pt x="35" y="511"/>
                </a:lnTo>
                <a:lnTo>
                  <a:pt x="35" y="476"/>
                </a:lnTo>
                <a:lnTo>
                  <a:pt x="35" y="443"/>
                </a:lnTo>
                <a:lnTo>
                  <a:pt x="35" y="413"/>
                </a:lnTo>
                <a:lnTo>
                  <a:pt x="33" y="382"/>
                </a:lnTo>
                <a:lnTo>
                  <a:pt x="33" y="353"/>
                </a:lnTo>
                <a:lnTo>
                  <a:pt x="31" y="324"/>
                </a:lnTo>
                <a:lnTo>
                  <a:pt x="31" y="299"/>
                </a:lnTo>
                <a:lnTo>
                  <a:pt x="29" y="274"/>
                </a:lnTo>
                <a:lnTo>
                  <a:pt x="27" y="250"/>
                </a:lnTo>
                <a:lnTo>
                  <a:pt x="25" y="226"/>
                </a:lnTo>
                <a:lnTo>
                  <a:pt x="23" y="205"/>
                </a:lnTo>
                <a:lnTo>
                  <a:pt x="22" y="186"/>
                </a:lnTo>
                <a:lnTo>
                  <a:pt x="20" y="167"/>
                </a:lnTo>
                <a:lnTo>
                  <a:pt x="18" y="150"/>
                </a:lnTo>
                <a:lnTo>
                  <a:pt x="14" y="134"/>
                </a:lnTo>
                <a:lnTo>
                  <a:pt x="12" y="119"/>
                </a:lnTo>
                <a:lnTo>
                  <a:pt x="10" y="106"/>
                </a:lnTo>
                <a:lnTo>
                  <a:pt x="8" y="96"/>
                </a:lnTo>
                <a:lnTo>
                  <a:pt x="6" y="86"/>
                </a:lnTo>
                <a:lnTo>
                  <a:pt x="4" y="77"/>
                </a:lnTo>
                <a:lnTo>
                  <a:pt x="2" y="69"/>
                </a:lnTo>
                <a:lnTo>
                  <a:pt x="2" y="61"/>
                </a:lnTo>
                <a:lnTo>
                  <a:pt x="0" y="54"/>
                </a:lnTo>
                <a:lnTo>
                  <a:pt x="0" y="48"/>
                </a:lnTo>
                <a:lnTo>
                  <a:pt x="0" y="42"/>
                </a:lnTo>
                <a:lnTo>
                  <a:pt x="0" y="31"/>
                </a:lnTo>
                <a:lnTo>
                  <a:pt x="2" y="23"/>
                </a:lnTo>
                <a:lnTo>
                  <a:pt x="6" y="15"/>
                </a:lnTo>
                <a:lnTo>
                  <a:pt x="10" y="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73"/>
          <p:cNvSpPr/>
          <p:nvPr/>
        </p:nvSpPr>
        <p:spPr>
          <a:xfrm>
            <a:off x="6883560" y="2498760"/>
            <a:ext cx="261720" cy="490680"/>
          </a:xfrm>
          <a:custGeom>
            <a:avLst/>
            <a:gdLst/>
            <a:ahLst/>
            <a:rect l="l" t="t" r="r" b="b"/>
            <a:pathLst>
              <a:path w="328" h="618">
                <a:moveTo>
                  <a:pt x="253" y="82"/>
                </a:moveTo>
                <a:lnTo>
                  <a:pt x="261" y="92"/>
                </a:lnTo>
                <a:lnTo>
                  <a:pt x="271" y="102"/>
                </a:lnTo>
                <a:lnTo>
                  <a:pt x="278" y="111"/>
                </a:lnTo>
                <a:lnTo>
                  <a:pt x="286" y="121"/>
                </a:lnTo>
                <a:lnTo>
                  <a:pt x="292" y="130"/>
                </a:lnTo>
                <a:lnTo>
                  <a:pt x="297" y="138"/>
                </a:lnTo>
                <a:lnTo>
                  <a:pt x="303" y="146"/>
                </a:lnTo>
                <a:lnTo>
                  <a:pt x="309" y="153"/>
                </a:lnTo>
                <a:lnTo>
                  <a:pt x="313" y="161"/>
                </a:lnTo>
                <a:lnTo>
                  <a:pt x="317" y="169"/>
                </a:lnTo>
                <a:lnTo>
                  <a:pt x="320" y="176"/>
                </a:lnTo>
                <a:lnTo>
                  <a:pt x="324" y="182"/>
                </a:lnTo>
                <a:lnTo>
                  <a:pt x="326" y="188"/>
                </a:lnTo>
                <a:lnTo>
                  <a:pt x="326" y="196"/>
                </a:lnTo>
                <a:lnTo>
                  <a:pt x="328" y="199"/>
                </a:lnTo>
                <a:lnTo>
                  <a:pt x="328" y="205"/>
                </a:lnTo>
                <a:lnTo>
                  <a:pt x="328" y="217"/>
                </a:lnTo>
                <a:lnTo>
                  <a:pt x="326" y="228"/>
                </a:lnTo>
                <a:lnTo>
                  <a:pt x="322" y="242"/>
                </a:lnTo>
                <a:lnTo>
                  <a:pt x="318" y="255"/>
                </a:lnTo>
                <a:lnTo>
                  <a:pt x="313" y="270"/>
                </a:lnTo>
                <a:lnTo>
                  <a:pt x="307" y="284"/>
                </a:lnTo>
                <a:lnTo>
                  <a:pt x="299" y="299"/>
                </a:lnTo>
                <a:lnTo>
                  <a:pt x="290" y="317"/>
                </a:lnTo>
                <a:lnTo>
                  <a:pt x="286" y="324"/>
                </a:lnTo>
                <a:lnTo>
                  <a:pt x="278" y="334"/>
                </a:lnTo>
                <a:lnTo>
                  <a:pt x="271" y="345"/>
                </a:lnTo>
                <a:lnTo>
                  <a:pt x="263" y="359"/>
                </a:lnTo>
                <a:lnTo>
                  <a:pt x="251" y="374"/>
                </a:lnTo>
                <a:lnTo>
                  <a:pt x="242" y="389"/>
                </a:lnTo>
                <a:lnTo>
                  <a:pt x="228" y="407"/>
                </a:lnTo>
                <a:lnTo>
                  <a:pt x="215" y="426"/>
                </a:lnTo>
                <a:lnTo>
                  <a:pt x="201" y="445"/>
                </a:lnTo>
                <a:lnTo>
                  <a:pt x="186" y="466"/>
                </a:lnTo>
                <a:lnTo>
                  <a:pt x="171" y="489"/>
                </a:lnTo>
                <a:lnTo>
                  <a:pt x="153" y="512"/>
                </a:lnTo>
                <a:lnTo>
                  <a:pt x="134" y="537"/>
                </a:lnTo>
                <a:lnTo>
                  <a:pt x="117" y="564"/>
                </a:lnTo>
                <a:lnTo>
                  <a:pt x="96" y="591"/>
                </a:lnTo>
                <a:lnTo>
                  <a:pt x="77" y="618"/>
                </a:lnTo>
                <a:lnTo>
                  <a:pt x="38" y="618"/>
                </a:lnTo>
                <a:lnTo>
                  <a:pt x="0" y="618"/>
                </a:lnTo>
                <a:lnTo>
                  <a:pt x="9" y="591"/>
                </a:lnTo>
                <a:lnTo>
                  <a:pt x="21" y="566"/>
                </a:lnTo>
                <a:lnTo>
                  <a:pt x="31" y="541"/>
                </a:lnTo>
                <a:lnTo>
                  <a:pt x="38" y="516"/>
                </a:lnTo>
                <a:lnTo>
                  <a:pt x="48" y="491"/>
                </a:lnTo>
                <a:lnTo>
                  <a:pt x="56" y="468"/>
                </a:lnTo>
                <a:lnTo>
                  <a:pt x="65" y="445"/>
                </a:lnTo>
                <a:lnTo>
                  <a:pt x="73" y="424"/>
                </a:lnTo>
                <a:lnTo>
                  <a:pt x="80" y="403"/>
                </a:lnTo>
                <a:lnTo>
                  <a:pt x="86" y="382"/>
                </a:lnTo>
                <a:lnTo>
                  <a:pt x="94" y="363"/>
                </a:lnTo>
                <a:lnTo>
                  <a:pt x="100" y="343"/>
                </a:lnTo>
                <a:lnTo>
                  <a:pt x="105" y="326"/>
                </a:lnTo>
                <a:lnTo>
                  <a:pt x="111" y="307"/>
                </a:lnTo>
                <a:lnTo>
                  <a:pt x="117" y="290"/>
                </a:lnTo>
                <a:lnTo>
                  <a:pt x="123" y="274"/>
                </a:lnTo>
                <a:lnTo>
                  <a:pt x="127" y="259"/>
                </a:lnTo>
                <a:lnTo>
                  <a:pt x="130" y="244"/>
                </a:lnTo>
                <a:lnTo>
                  <a:pt x="134" y="228"/>
                </a:lnTo>
                <a:lnTo>
                  <a:pt x="138" y="215"/>
                </a:lnTo>
                <a:lnTo>
                  <a:pt x="142" y="201"/>
                </a:lnTo>
                <a:lnTo>
                  <a:pt x="144" y="190"/>
                </a:lnTo>
                <a:lnTo>
                  <a:pt x="146" y="176"/>
                </a:lnTo>
                <a:lnTo>
                  <a:pt x="148" y="165"/>
                </a:lnTo>
                <a:lnTo>
                  <a:pt x="150" y="155"/>
                </a:lnTo>
                <a:lnTo>
                  <a:pt x="152" y="144"/>
                </a:lnTo>
                <a:lnTo>
                  <a:pt x="152" y="134"/>
                </a:lnTo>
                <a:lnTo>
                  <a:pt x="153" y="127"/>
                </a:lnTo>
                <a:lnTo>
                  <a:pt x="153" y="117"/>
                </a:lnTo>
                <a:lnTo>
                  <a:pt x="153" y="109"/>
                </a:lnTo>
                <a:lnTo>
                  <a:pt x="152" y="102"/>
                </a:lnTo>
                <a:lnTo>
                  <a:pt x="152" y="96"/>
                </a:lnTo>
                <a:lnTo>
                  <a:pt x="148" y="86"/>
                </a:lnTo>
                <a:lnTo>
                  <a:pt x="144" y="77"/>
                </a:lnTo>
                <a:lnTo>
                  <a:pt x="140" y="67"/>
                </a:lnTo>
                <a:lnTo>
                  <a:pt x="138" y="59"/>
                </a:lnTo>
                <a:lnTo>
                  <a:pt x="136" y="52"/>
                </a:lnTo>
                <a:lnTo>
                  <a:pt x="134" y="44"/>
                </a:lnTo>
                <a:lnTo>
                  <a:pt x="132" y="38"/>
                </a:lnTo>
                <a:lnTo>
                  <a:pt x="132" y="32"/>
                </a:lnTo>
                <a:lnTo>
                  <a:pt x="132" y="27"/>
                </a:lnTo>
                <a:lnTo>
                  <a:pt x="134" y="21"/>
                </a:lnTo>
                <a:lnTo>
                  <a:pt x="134" y="17"/>
                </a:lnTo>
                <a:lnTo>
                  <a:pt x="136" y="11"/>
                </a:lnTo>
                <a:lnTo>
                  <a:pt x="140" y="8"/>
                </a:lnTo>
                <a:lnTo>
                  <a:pt x="144" y="6"/>
                </a:lnTo>
                <a:lnTo>
                  <a:pt x="146" y="2"/>
                </a:lnTo>
                <a:lnTo>
                  <a:pt x="152" y="0"/>
                </a:lnTo>
                <a:lnTo>
                  <a:pt x="153" y="0"/>
                </a:lnTo>
                <a:lnTo>
                  <a:pt x="157" y="0"/>
                </a:lnTo>
                <a:lnTo>
                  <a:pt x="161" y="2"/>
                </a:lnTo>
                <a:lnTo>
                  <a:pt x="165" y="4"/>
                </a:lnTo>
                <a:lnTo>
                  <a:pt x="171" y="8"/>
                </a:lnTo>
                <a:lnTo>
                  <a:pt x="176" y="11"/>
                </a:lnTo>
                <a:lnTo>
                  <a:pt x="182" y="15"/>
                </a:lnTo>
                <a:lnTo>
                  <a:pt x="188" y="19"/>
                </a:lnTo>
                <a:lnTo>
                  <a:pt x="194" y="25"/>
                </a:lnTo>
                <a:lnTo>
                  <a:pt x="201" y="31"/>
                </a:lnTo>
                <a:lnTo>
                  <a:pt x="209" y="38"/>
                </a:lnTo>
                <a:lnTo>
                  <a:pt x="217" y="46"/>
                </a:lnTo>
                <a:lnTo>
                  <a:pt x="226" y="54"/>
                </a:lnTo>
                <a:lnTo>
                  <a:pt x="234" y="63"/>
                </a:lnTo>
                <a:lnTo>
                  <a:pt x="244" y="73"/>
                </a:lnTo>
                <a:lnTo>
                  <a:pt x="253" y="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74"/>
          <p:cNvSpPr/>
          <p:nvPr/>
        </p:nvSpPr>
        <p:spPr>
          <a:xfrm>
            <a:off x="6643800" y="2333520"/>
            <a:ext cx="1031760" cy="230400"/>
          </a:xfrm>
          <a:custGeom>
            <a:avLst/>
            <a:gdLst/>
            <a:ahLst/>
            <a:rect l="l" t="t" r="r" b="b"/>
            <a:pathLst>
              <a:path w="1299" h="289">
                <a:moveTo>
                  <a:pt x="556" y="247"/>
                </a:moveTo>
                <a:lnTo>
                  <a:pt x="531" y="251"/>
                </a:lnTo>
                <a:lnTo>
                  <a:pt x="510" y="253"/>
                </a:lnTo>
                <a:lnTo>
                  <a:pt x="487" y="255"/>
                </a:lnTo>
                <a:lnTo>
                  <a:pt x="466" y="257"/>
                </a:lnTo>
                <a:lnTo>
                  <a:pt x="445" y="261"/>
                </a:lnTo>
                <a:lnTo>
                  <a:pt x="426" y="262"/>
                </a:lnTo>
                <a:lnTo>
                  <a:pt x="407" y="264"/>
                </a:lnTo>
                <a:lnTo>
                  <a:pt x="387" y="266"/>
                </a:lnTo>
                <a:lnTo>
                  <a:pt x="370" y="268"/>
                </a:lnTo>
                <a:lnTo>
                  <a:pt x="353" y="270"/>
                </a:lnTo>
                <a:lnTo>
                  <a:pt x="335" y="272"/>
                </a:lnTo>
                <a:lnTo>
                  <a:pt x="320" y="272"/>
                </a:lnTo>
                <a:lnTo>
                  <a:pt x="305" y="274"/>
                </a:lnTo>
                <a:lnTo>
                  <a:pt x="289" y="276"/>
                </a:lnTo>
                <a:lnTo>
                  <a:pt x="276" y="278"/>
                </a:lnTo>
                <a:lnTo>
                  <a:pt x="263" y="278"/>
                </a:lnTo>
                <a:lnTo>
                  <a:pt x="249" y="280"/>
                </a:lnTo>
                <a:lnTo>
                  <a:pt x="238" y="282"/>
                </a:lnTo>
                <a:lnTo>
                  <a:pt x="226" y="282"/>
                </a:lnTo>
                <a:lnTo>
                  <a:pt x="215" y="284"/>
                </a:lnTo>
                <a:lnTo>
                  <a:pt x="205" y="284"/>
                </a:lnTo>
                <a:lnTo>
                  <a:pt x="195" y="286"/>
                </a:lnTo>
                <a:lnTo>
                  <a:pt x="188" y="286"/>
                </a:lnTo>
                <a:lnTo>
                  <a:pt x="180" y="286"/>
                </a:lnTo>
                <a:lnTo>
                  <a:pt x="172" y="287"/>
                </a:lnTo>
                <a:lnTo>
                  <a:pt x="165" y="287"/>
                </a:lnTo>
                <a:lnTo>
                  <a:pt x="159" y="287"/>
                </a:lnTo>
                <a:lnTo>
                  <a:pt x="153" y="287"/>
                </a:lnTo>
                <a:lnTo>
                  <a:pt x="149" y="289"/>
                </a:lnTo>
                <a:lnTo>
                  <a:pt x="145" y="289"/>
                </a:lnTo>
                <a:lnTo>
                  <a:pt x="142" y="289"/>
                </a:lnTo>
                <a:lnTo>
                  <a:pt x="140" y="289"/>
                </a:lnTo>
                <a:lnTo>
                  <a:pt x="130" y="287"/>
                </a:lnTo>
                <a:lnTo>
                  <a:pt x="121" y="287"/>
                </a:lnTo>
                <a:lnTo>
                  <a:pt x="111" y="284"/>
                </a:lnTo>
                <a:lnTo>
                  <a:pt x="101" y="280"/>
                </a:lnTo>
                <a:lnTo>
                  <a:pt x="92" y="276"/>
                </a:lnTo>
                <a:lnTo>
                  <a:pt x="82" y="272"/>
                </a:lnTo>
                <a:lnTo>
                  <a:pt x="63" y="261"/>
                </a:lnTo>
                <a:lnTo>
                  <a:pt x="57" y="259"/>
                </a:lnTo>
                <a:lnTo>
                  <a:pt x="50" y="255"/>
                </a:lnTo>
                <a:lnTo>
                  <a:pt x="44" y="251"/>
                </a:lnTo>
                <a:lnTo>
                  <a:pt x="40" y="249"/>
                </a:lnTo>
                <a:lnTo>
                  <a:pt x="30" y="239"/>
                </a:lnTo>
                <a:lnTo>
                  <a:pt x="23" y="230"/>
                </a:lnTo>
                <a:lnTo>
                  <a:pt x="15" y="218"/>
                </a:lnTo>
                <a:lnTo>
                  <a:pt x="9" y="207"/>
                </a:lnTo>
                <a:lnTo>
                  <a:pt x="5" y="193"/>
                </a:lnTo>
                <a:lnTo>
                  <a:pt x="0" y="178"/>
                </a:lnTo>
                <a:lnTo>
                  <a:pt x="50" y="170"/>
                </a:lnTo>
                <a:lnTo>
                  <a:pt x="99" y="163"/>
                </a:lnTo>
                <a:lnTo>
                  <a:pt x="147" y="155"/>
                </a:lnTo>
                <a:lnTo>
                  <a:pt x="193" y="149"/>
                </a:lnTo>
                <a:lnTo>
                  <a:pt x="238" y="142"/>
                </a:lnTo>
                <a:lnTo>
                  <a:pt x="282" y="134"/>
                </a:lnTo>
                <a:lnTo>
                  <a:pt x="324" y="128"/>
                </a:lnTo>
                <a:lnTo>
                  <a:pt x="364" y="122"/>
                </a:lnTo>
                <a:lnTo>
                  <a:pt x="403" y="115"/>
                </a:lnTo>
                <a:lnTo>
                  <a:pt x="441" y="109"/>
                </a:lnTo>
                <a:lnTo>
                  <a:pt x="478" y="103"/>
                </a:lnTo>
                <a:lnTo>
                  <a:pt x="514" y="97"/>
                </a:lnTo>
                <a:lnTo>
                  <a:pt x="549" y="92"/>
                </a:lnTo>
                <a:lnTo>
                  <a:pt x="581" y="86"/>
                </a:lnTo>
                <a:lnTo>
                  <a:pt x="612" y="82"/>
                </a:lnTo>
                <a:lnTo>
                  <a:pt x="643" y="76"/>
                </a:lnTo>
                <a:lnTo>
                  <a:pt x="671" y="72"/>
                </a:lnTo>
                <a:lnTo>
                  <a:pt x="698" y="67"/>
                </a:lnTo>
                <a:lnTo>
                  <a:pt x="723" y="63"/>
                </a:lnTo>
                <a:lnTo>
                  <a:pt x="748" y="59"/>
                </a:lnTo>
                <a:lnTo>
                  <a:pt x="771" y="55"/>
                </a:lnTo>
                <a:lnTo>
                  <a:pt x="792" y="51"/>
                </a:lnTo>
                <a:lnTo>
                  <a:pt x="813" y="48"/>
                </a:lnTo>
                <a:lnTo>
                  <a:pt x="833" y="46"/>
                </a:lnTo>
                <a:lnTo>
                  <a:pt x="850" y="42"/>
                </a:lnTo>
                <a:lnTo>
                  <a:pt x="865" y="40"/>
                </a:lnTo>
                <a:lnTo>
                  <a:pt x="881" y="36"/>
                </a:lnTo>
                <a:lnTo>
                  <a:pt x="894" y="34"/>
                </a:lnTo>
                <a:lnTo>
                  <a:pt x="906" y="32"/>
                </a:lnTo>
                <a:lnTo>
                  <a:pt x="917" y="30"/>
                </a:lnTo>
                <a:lnTo>
                  <a:pt x="927" y="28"/>
                </a:lnTo>
                <a:lnTo>
                  <a:pt x="934" y="28"/>
                </a:lnTo>
                <a:lnTo>
                  <a:pt x="957" y="23"/>
                </a:lnTo>
                <a:lnTo>
                  <a:pt x="979" y="17"/>
                </a:lnTo>
                <a:lnTo>
                  <a:pt x="1000" y="13"/>
                </a:lnTo>
                <a:lnTo>
                  <a:pt x="1017" y="9"/>
                </a:lnTo>
                <a:lnTo>
                  <a:pt x="1034" y="5"/>
                </a:lnTo>
                <a:lnTo>
                  <a:pt x="1042" y="3"/>
                </a:lnTo>
                <a:lnTo>
                  <a:pt x="1050" y="1"/>
                </a:lnTo>
                <a:lnTo>
                  <a:pt x="1055" y="1"/>
                </a:lnTo>
                <a:lnTo>
                  <a:pt x="1061" y="0"/>
                </a:lnTo>
                <a:lnTo>
                  <a:pt x="1067" y="0"/>
                </a:lnTo>
                <a:lnTo>
                  <a:pt x="1073" y="0"/>
                </a:lnTo>
                <a:lnTo>
                  <a:pt x="1074" y="0"/>
                </a:lnTo>
                <a:lnTo>
                  <a:pt x="1078" y="0"/>
                </a:lnTo>
                <a:lnTo>
                  <a:pt x="1084" y="1"/>
                </a:lnTo>
                <a:lnTo>
                  <a:pt x="1088" y="1"/>
                </a:lnTo>
                <a:lnTo>
                  <a:pt x="1096" y="3"/>
                </a:lnTo>
                <a:lnTo>
                  <a:pt x="1101" y="5"/>
                </a:lnTo>
                <a:lnTo>
                  <a:pt x="1109" y="7"/>
                </a:lnTo>
                <a:lnTo>
                  <a:pt x="1117" y="9"/>
                </a:lnTo>
                <a:lnTo>
                  <a:pt x="1124" y="11"/>
                </a:lnTo>
                <a:lnTo>
                  <a:pt x="1134" y="13"/>
                </a:lnTo>
                <a:lnTo>
                  <a:pt x="1144" y="15"/>
                </a:lnTo>
                <a:lnTo>
                  <a:pt x="1153" y="17"/>
                </a:lnTo>
                <a:lnTo>
                  <a:pt x="1176" y="23"/>
                </a:lnTo>
                <a:lnTo>
                  <a:pt x="1199" y="28"/>
                </a:lnTo>
                <a:lnTo>
                  <a:pt x="1211" y="32"/>
                </a:lnTo>
                <a:lnTo>
                  <a:pt x="1220" y="38"/>
                </a:lnTo>
                <a:lnTo>
                  <a:pt x="1230" y="44"/>
                </a:lnTo>
                <a:lnTo>
                  <a:pt x="1240" y="48"/>
                </a:lnTo>
                <a:lnTo>
                  <a:pt x="1247" y="53"/>
                </a:lnTo>
                <a:lnTo>
                  <a:pt x="1255" y="57"/>
                </a:lnTo>
                <a:lnTo>
                  <a:pt x="1263" y="63"/>
                </a:lnTo>
                <a:lnTo>
                  <a:pt x="1268" y="67"/>
                </a:lnTo>
                <a:lnTo>
                  <a:pt x="1274" y="71"/>
                </a:lnTo>
                <a:lnTo>
                  <a:pt x="1278" y="76"/>
                </a:lnTo>
                <a:lnTo>
                  <a:pt x="1284" y="80"/>
                </a:lnTo>
                <a:lnTo>
                  <a:pt x="1288" y="84"/>
                </a:lnTo>
                <a:lnTo>
                  <a:pt x="1293" y="90"/>
                </a:lnTo>
                <a:lnTo>
                  <a:pt x="1299" y="95"/>
                </a:lnTo>
                <a:lnTo>
                  <a:pt x="1299" y="101"/>
                </a:lnTo>
                <a:lnTo>
                  <a:pt x="1299" y="107"/>
                </a:lnTo>
                <a:lnTo>
                  <a:pt x="1297" y="111"/>
                </a:lnTo>
                <a:lnTo>
                  <a:pt x="1295" y="117"/>
                </a:lnTo>
                <a:lnTo>
                  <a:pt x="1291" y="122"/>
                </a:lnTo>
                <a:lnTo>
                  <a:pt x="1289" y="126"/>
                </a:lnTo>
                <a:lnTo>
                  <a:pt x="1286" y="130"/>
                </a:lnTo>
                <a:lnTo>
                  <a:pt x="1280" y="136"/>
                </a:lnTo>
                <a:lnTo>
                  <a:pt x="1276" y="140"/>
                </a:lnTo>
                <a:lnTo>
                  <a:pt x="1270" y="143"/>
                </a:lnTo>
                <a:lnTo>
                  <a:pt x="1264" y="147"/>
                </a:lnTo>
                <a:lnTo>
                  <a:pt x="1257" y="151"/>
                </a:lnTo>
                <a:lnTo>
                  <a:pt x="1249" y="155"/>
                </a:lnTo>
                <a:lnTo>
                  <a:pt x="1241" y="159"/>
                </a:lnTo>
                <a:lnTo>
                  <a:pt x="1234" y="163"/>
                </a:lnTo>
                <a:lnTo>
                  <a:pt x="1224" y="165"/>
                </a:lnTo>
                <a:lnTo>
                  <a:pt x="1199" y="174"/>
                </a:lnTo>
                <a:lnTo>
                  <a:pt x="1176" y="184"/>
                </a:lnTo>
                <a:lnTo>
                  <a:pt x="1153" y="190"/>
                </a:lnTo>
                <a:lnTo>
                  <a:pt x="1142" y="191"/>
                </a:lnTo>
                <a:lnTo>
                  <a:pt x="1130" y="195"/>
                </a:lnTo>
                <a:lnTo>
                  <a:pt x="1117" y="195"/>
                </a:lnTo>
                <a:lnTo>
                  <a:pt x="1105" y="197"/>
                </a:lnTo>
                <a:lnTo>
                  <a:pt x="1094" y="197"/>
                </a:lnTo>
                <a:lnTo>
                  <a:pt x="1082" y="197"/>
                </a:lnTo>
                <a:lnTo>
                  <a:pt x="1071" y="197"/>
                </a:lnTo>
                <a:lnTo>
                  <a:pt x="1059" y="197"/>
                </a:lnTo>
                <a:lnTo>
                  <a:pt x="1046" y="195"/>
                </a:lnTo>
                <a:lnTo>
                  <a:pt x="1034" y="193"/>
                </a:lnTo>
                <a:lnTo>
                  <a:pt x="1028" y="193"/>
                </a:lnTo>
                <a:lnTo>
                  <a:pt x="1021" y="193"/>
                </a:lnTo>
                <a:lnTo>
                  <a:pt x="1015" y="193"/>
                </a:lnTo>
                <a:lnTo>
                  <a:pt x="1005" y="193"/>
                </a:lnTo>
                <a:lnTo>
                  <a:pt x="998" y="193"/>
                </a:lnTo>
                <a:lnTo>
                  <a:pt x="988" y="193"/>
                </a:lnTo>
                <a:lnTo>
                  <a:pt x="979" y="195"/>
                </a:lnTo>
                <a:lnTo>
                  <a:pt x="969" y="195"/>
                </a:lnTo>
                <a:lnTo>
                  <a:pt x="957" y="195"/>
                </a:lnTo>
                <a:lnTo>
                  <a:pt x="946" y="197"/>
                </a:lnTo>
                <a:lnTo>
                  <a:pt x="934" y="197"/>
                </a:lnTo>
                <a:lnTo>
                  <a:pt x="921" y="199"/>
                </a:lnTo>
                <a:lnTo>
                  <a:pt x="909" y="199"/>
                </a:lnTo>
                <a:lnTo>
                  <a:pt x="894" y="201"/>
                </a:lnTo>
                <a:lnTo>
                  <a:pt x="881" y="203"/>
                </a:lnTo>
                <a:lnTo>
                  <a:pt x="865" y="205"/>
                </a:lnTo>
                <a:lnTo>
                  <a:pt x="850" y="207"/>
                </a:lnTo>
                <a:lnTo>
                  <a:pt x="835" y="207"/>
                </a:lnTo>
                <a:lnTo>
                  <a:pt x="817" y="209"/>
                </a:lnTo>
                <a:lnTo>
                  <a:pt x="802" y="213"/>
                </a:lnTo>
                <a:lnTo>
                  <a:pt x="783" y="215"/>
                </a:lnTo>
                <a:lnTo>
                  <a:pt x="765" y="216"/>
                </a:lnTo>
                <a:lnTo>
                  <a:pt x="746" y="218"/>
                </a:lnTo>
                <a:lnTo>
                  <a:pt x="727" y="220"/>
                </a:lnTo>
                <a:lnTo>
                  <a:pt x="708" y="224"/>
                </a:lnTo>
                <a:lnTo>
                  <a:pt x="687" y="226"/>
                </a:lnTo>
                <a:lnTo>
                  <a:pt x="668" y="230"/>
                </a:lnTo>
                <a:lnTo>
                  <a:pt x="646" y="234"/>
                </a:lnTo>
                <a:lnTo>
                  <a:pt x="623" y="236"/>
                </a:lnTo>
                <a:lnTo>
                  <a:pt x="602" y="239"/>
                </a:lnTo>
                <a:lnTo>
                  <a:pt x="579" y="243"/>
                </a:lnTo>
                <a:lnTo>
                  <a:pt x="556" y="2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175"/>
          <p:cNvSpPr/>
          <p:nvPr/>
        </p:nvSpPr>
        <p:spPr>
          <a:xfrm>
            <a:off x="5838840" y="3795840"/>
            <a:ext cx="147600" cy="534960"/>
          </a:xfrm>
          <a:custGeom>
            <a:avLst/>
            <a:gdLst/>
            <a:ahLst/>
            <a:rect l="l" t="t" r="r" b="b"/>
            <a:pathLst>
              <a:path w="186" h="674">
                <a:moveTo>
                  <a:pt x="6" y="100"/>
                </a:moveTo>
                <a:lnTo>
                  <a:pt x="2" y="92"/>
                </a:lnTo>
                <a:lnTo>
                  <a:pt x="2" y="85"/>
                </a:lnTo>
                <a:lnTo>
                  <a:pt x="0" y="77"/>
                </a:lnTo>
                <a:lnTo>
                  <a:pt x="0" y="69"/>
                </a:lnTo>
                <a:lnTo>
                  <a:pt x="0" y="54"/>
                </a:lnTo>
                <a:lnTo>
                  <a:pt x="2" y="41"/>
                </a:lnTo>
                <a:lnTo>
                  <a:pt x="4" y="29"/>
                </a:lnTo>
                <a:lnTo>
                  <a:pt x="6" y="23"/>
                </a:lnTo>
                <a:lnTo>
                  <a:pt x="8" y="18"/>
                </a:lnTo>
                <a:lnTo>
                  <a:pt x="10" y="14"/>
                </a:lnTo>
                <a:lnTo>
                  <a:pt x="14" y="10"/>
                </a:lnTo>
                <a:lnTo>
                  <a:pt x="16" y="6"/>
                </a:lnTo>
                <a:lnTo>
                  <a:pt x="17" y="4"/>
                </a:lnTo>
                <a:lnTo>
                  <a:pt x="19" y="0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40" y="2"/>
                </a:lnTo>
                <a:lnTo>
                  <a:pt x="48" y="4"/>
                </a:lnTo>
                <a:lnTo>
                  <a:pt x="56" y="6"/>
                </a:lnTo>
                <a:lnTo>
                  <a:pt x="65" y="10"/>
                </a:lnTo>
                <a:lnTo>
                  <a:pt x="75" y="14"/>
                </a:lnTo>
                <a:lnTo>
                  <a:pt x="85" y="19"/>
                </a:lnTo>
                <a:lnTo>
                  <a:pt x="98" y="25"/>
                </a:lnTo>
                <a:lnTo>
                  <a:pt x="110" y="31"/>
                </a:lnTo>
                <a:lnTo>
                  <a:pt x="123" y="37"/>
                </a:lnTo>
                <a:lnTo>
                  <a:pt x="138" y="43"/>
                </a:lnTo>
                <a:lnTo>
                  <a:pt x="152" y="50"/>
                </a:lnTo>
                <a:lnTo>
                  <a:pt x="169" y="58"/>
                </a:lnTo>
                <a:lnTo>
                  <a:pt x="169" y="94"/>
                </a:lnTo>
                <a:lnTo>
                  <a:pt x="171" y="131"/>
                </a:lnTo>
                <a:lnTo>
                  <a:pt x="173" y="165"/>
                </a:lnTo>
                <a:lnTo>
                  <a:pt x="173" y="198"/>
                </a:lnTo>
                <a:lnTo>
                  <a:pt x="175" y="231"/>
                </a:lnTo>
                <a:lnTo>
                  <a:pt x="175" y="261"/>
                </a:lnTo>
                <a:lnTo>
                  <a:pt x="177" y="290"/>
                </a:lnTo>
                <a:lnTo>
                  <a:pt x="177" y="319"/>
                </a:lnTo>
                <a:lnTo>
                  <a:pt x="179" y="346"/>
                </a:lnTo>
                <a:lnTo>
                  <a:pt x="181" y="373"/>
                </a:lnTo>
                <a:lnTo>
                  <a:pt x="181" y="398"/>
                </a:lnTo>
                <a:lnTo>
                  <a:pt x="181" y="421"/>
                </a:lnTo>
                <a:lnTo>
                  <a:pt x="182" y="444"/>
                </a:lnTo>
                <a:lnTo>
                  <a:pt x="182" y="467"/>
                </a:lnTo>
                <a:lnTo>
                  <a:pt x="184" y="486"/>
                </a:lnTo>
                <a:lnTo>
                  <a:pt x="184" y="505"/>
                </a:lnTo>
                <a:lnTo>
                  <a:pt x="184" y="524"/>
                </a:lnTo>
                <a:lnTo>
                  <a:pt x="186" y="542"/>
                </a:lnTo>
                <a:lnTo>
                  <a:pt x="186" y="557"/>
                </a:lnTo>
                <a:lnTo>
                  <a:pt x="186" y="572"/>
                </a:lnTo>
                <a:lnTo>
                  <a:pt x="186" y="586"/>
                </a:lnTo>
                <a:lnTo>
                  <a:pt x="186" y="597"/>
                </a:lnTo>
                <a:lnTo>
                  <a:pt x="186" y="609"/>
                </a:lnTo>
                <a:lnTo>
                  <a:pt x="186" y="620"/>
                </a:lnTo>
                <a:lnTo>
                  <a:pt x="186" y="628"/>
                </a:lnTo>
                <a:lnTo>
                  <a:pt x="186" y="638"/>
                </a:lnTo>
                <a:lnTo>
                  <a:pt x="186" y="643"/>
                </a:lnTo>
                <a:lnTo>
                  <a:pt x="184" y="651"/>
                </a:lnTo>
                <a:lnTo>
                  <a:pt x="184" y="655"/>
                </a:lnTo>
                <a:lnTo>
                  <a:pt x="184" y="659"/>
                </a:lnTo>
                <a:lnTo>
                  <a:pt x="182" y="663"/>
                </a:lnTo>
                <a:lnTo>
                  <a:pt x="182" y="664"/>
                </a:lnTo>
                <a:lnTo>
                  <a:pt x="177" y="668"/>
                </a:lnTo>
                <a:lnTo>
                  <a:pt x="173" y="672"/>
                </a:lnTo>
                <a:lnTo>
                  <a:pt x="167" y="674"/>
                </a:lnTo>
                <a:lnTo>
                  <a:pt x="161" y="674"/>
                </a:lnTo>
                <a:lnTo>
                  <a:pt x="156" y="674"/>
                </a:lnTo>
                <a:lnTo>
                  <a:pt x="148" y="672"/>
                </a:lnTo>
                <a:lnTo>
                  <a:pt x="140" y="668"/>
                </a:lnTo>
                <a:lnTo>
                  <a:pt x="131" y="664"/>
                </a:lnTo>
                <a:lnTo>
                  <a:pt x="127" y="664"/>
                </a:lnTo>
                <a:lnTo>
                  <a:pt x="125" y="663"/>
                </a:lnTo>
                <a:lnTo>
                  <a:pt x="121" y="663"/>
                </a:lnTo>
                <a:lnTo>
                  <a:pt x="117" y="661"/>
                </a:lnTo>
                <a:lnTo>
                  <a:pt x="113" y="659"/>
                </a:lnTo>
                <a:lnTo>
                  <a:pt x="111" y="655"/>
                </a:lnTo>
                <a:lnTo>
                  <a:pt x="108" y="653"/>
                </a:lnTo>
                <a:lnTo>
                  <a:pt x="106" y="649"/>
                </a:lnTo>
                <a:lnTo>
                  <a:pt x="102" y="643"/>
                </a:lnTo>
                <a:lnTo>
                  <a:pt x="100" y="639"/>
                </a:lnTo>
                <a:lnTo>
                  <a:pt x="96" y="634"/>
                </a:lnTo>
                <a:lnTo>
                  <a:pt x="94" y="628"/>
                </a:lnTo>
                <a:lnTo>
                  <a:pt x="90" y="622"/>
                </a:lnTo>
                <a:lnTo>
                  <a:pt x="88" y="615"/>
                </a:lnTo>
                <a:lnTo>
                  <a:pt x="87" y="609"/>
                </a:lnTo>
                <a:lnTo>
                  <a:pt x="83" y="601"/>
                </a:lnTo>
                <a:lnTo>
                  <a:pt x="81" y="591"/>
                </a:lnTo>
                <a:lnTo>
                  <a:pt x="79" y="584"/>
                </a:lnTo>
                <a:lnTo>
                  <a:pt x="77" y="574"/>
                </a:lnTo>
                <a:lnTo>
                  <a:pt x="75" y="565"/>
                </a:lnTo>
                <a:lnTo>
                  <a:pt x="73" y="553"/>
                </a:lnTo>
                <a:lnTo>
                  <a:pt x="71" y="542"/>
                </a:lnTo>
                <a:lnTo>
                  <a:pt x="69" y="530"/>
                </a:lnTo>
                <a:lnTo>
                  <a:pt x="67" y="519"/>
                </a:lnTo>
                <a:lnTo>
                  <a:pt x="65" y="507"/>
                </a:lnTo>
                <a:lnTo>
                  <a:pt x="63" y="494"/>
                </a:lnTo>
                <a:lnTo>
                  <a:pt x="62" y="480"/>
                </a:lnTo>
                <a:lnTo>
                  <a:pt x="60" y="465"/>
                </a:lnTo>
                <a:lnTo>
                  <a:pt x="60" y="449"/>
                </a:lnTo>
                <a:lnTo>
                  <a:pt x="58" y="434"/>
                </a:lnTo>
                <a:lnTo>
                  <a:pt x="56" y="419"/>
                </a:lnTo>
                <a:lnTo>
                  <a:pt x="56" y="403"/>
                </a:lnTo>
                <a:lnTo>
                  <a:pt x="52" y="373"/>
                </a:lnTo>
                <a:lnTo>
                  <a:pt x="50" y="344"/>
                </a:lnTo>
                <a:lnTo>
                  <a:pt x="46" y="317"/>
                </a:lnTo>
                <a:lnTo>
                  <a:pt x="44" y="292"/>
                </a:lnTo>
                <a:lnTo>
                  <a:pt x="40" y="267"/>
                </a:lnTo>
                <a:lnTo>
                  <a:pt x="37" y="244"/>
                </a:lnTo>
                <a:lnTo>
                  <a:pt x="33" y="225"/>
                </a:lnTo>
                <a:lnTo>
                  <a:pt x="31" y="204"/>
                </a:lnTo>
                <a:lnTo>
                  <a:pt x="27" y="186"/>
                </a:lnTo>
                <a:lnTo>
                  <a:pt x="23" y="169"/>
                </a:lnTo>
                <a:lnTo>
                  <a:pt x="19" y="156"/>
                </a:lnTo>
                <a:lnTo>
                  <a:pt x="16" y="140"/>
                </a:lnTo>
                <a:lnTo>
                  <a:pt x="14" y="129"/>
                </a:lnTo>
                <a:lnTo>
                  <a:pt x="10" y="117"/>
                </a:lnTo>
                <a:lnTo>
                  <a:pt x="8" y="108"/>
                </a:lnTo>
                <a:lnTo>
                  <a:pt x="6" y="1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76"/>
          <p:cNvSpPr/>
          <p:nvPr/>
        </p:nvSpPr>
        <p:spPr>
          <a:xfrm>
            <a:off x="5942160" y="4070520"/>
            <a:ext cx="450720" cy="120600"/>
          </a:xfrm>
          <a:custGeom>
            <a:avLst/>
            <a:gdLst/>
            <a:ahLst/>
            <a:rect l="l" t="t" r="r" b="b"/>
            <a:pathLst>
              <a:path w="568" h="151">
                <a:moveTo>
                  <a:pt x="0" y="40"/>
                </a:moveTo>
                <a:lnTo>
                  <a:pt x="42" y="36"/>
                </a:lnTo>
                <a:lnTo>
                  <a:pt x="82" y="30"/>
                </a:lnTo>
                <a:lnTo>
                  <a:pt x="121" y="27"/>
                </a:lnTo>
                <a:lnTo>
                  <a:pt x="157" y="23"/>
                </a:lnTo>
                <a:lnTo>
                  <a:pt x="192" y="19"/>
                </a:lnTo>
                <a:lnTo>
                  <a:pt x="224" y="15"/>
                </a:lnTo>
                <a:lnTo>
                  <a:pt x="255" y="13"/>
                </a:lnTo>
                <a:lnTo>
                  <a:pt x="284" y="9"/>
                </a:lnTo>
                <a:lnTo>
                  <a:pt x="311" y="7"/>
                </a:lnTo>
                <a:lnTo>
                  <a:pt x="337" y="5"/>
                </a:lnTo>
                <a:lnTo>
                  <a:pt x="361" y="4"/>
                </a:lnTo>
                <a:lnTo>
                  <a:pt x="384" y="2"/>
                </a:lnTo>
                <a:lnTo>
                  <a:pt x="403" y="2"/>
                </a:lnTo>
                <a:lnTo>
                  <a:pt x="422" y="0"/>
                </a:lnTo>
                <a:lnTo>
                  <a:pt x="439" y="0"/>
                </a:lnTo>
                <a:lnTo>
                  <a:pt x="455" y="0"/>
                </a:lnTo>
                <a:lnTo>
                  <a:pt x="468" y="0"/>
                </a:lnTo>
                <a:lnTo>
                  <a:pt x="481" y="0"/>
                </a:lnTo>
                <a:lnTo>
                  <a:pt x="493" y="2"/>
                </a:lnTo>
                <a:lnTo>
                  <a:pt x="504" y="2"/>
                </a:lnTo>
                <a:lnTo>
                  <a:pt x="514" y="4"/>
                </a:lnTo>
                <a:lnTo>
                  <a:pt x="524" y="5"/>
                </a:lnTo>
                <a:lnTo>
                  <a:pt x="531" y="9"/>
                </a:lnTo>
                <a:lnTo>
                  <a:pt x="539" y="11"/>
                </a:lnTo>
                <a:lnTo>
                  <a:pt x="547" y="15"/>
                </a:lnTo>
                <a:lnTo>
                  <a:pt x="552" y="19"/>
                </a:lnTo>
                <a:lnTo>
                  <a:pt x="556" y="23"/>
                </a:lnTo>
                <a:lnTo>
                  <a:pt x="560" y="29"/>
                </a:lnTo>
                <a:lnTo>
                  <a:pt x="564" y="34"/>
                </a:lnTo>
                <a:lnTo>
                  <a:pt x="566" y="40"/>
                </a:lnTo>
                <a:lnTo>
                  <a:pt x="568" y="48"/>
                </a:lnTo>
                <a:lnTo>
                  <a:pt x="568" y="55"/>
                </a:lnTo>
                <a:lnTo>
                  <a:pt x="568" y="61"/>
                </a:lnTo>
                <a:lnTo>
                  <a:pt x="566" y="69"/>
                </a:lnTo>
                <a:lnTo>
                  <a:pt x="562" y="75"/>
                </a:lnTo>
                <a:lnTo>
                  <a:pt x="558" y="80"/>
                </a:lnTo>
                <a:lnTo>
                  <a:pt x="552" y="86"/>
                </a:lnTo>
                <a:lnTo>
                  <a:pt x="547" y="90"/>
                </a:lnTo>
                <a:lnTo>
                  <a:pt x="539" y="96"/>
                </a:lnTo>
                <a:lnTo>
                  <a:pt x="529" y="100"/>
                </a:lnTo>
                <a:lnTo>
                  <a:pt x="520" y="103"/>
                </a:lnTo>
                <a:lnTo>
                  <a:pt x="508" y="105"/>
                </a:lnTo>
                <a:lnTo>
                  <a:pt x="497" y="109"/>
                </a:lnTo>
                <a:lnTo>
                  <a:pt x="483" y="113"/>
                </a:lnTo>
                <a:lnTo>
                  <a:pt x="468" y="115"/>
                </a:lnTo>
                <a:lnTo>
                  <a:pt x="451" y="119"/>
                </a:lnTo>
                <a:lnTo>
                  <a:pt x="435" y="121"/>
                </a:lnTo>
                <a:lnTo>
                  <a:pt x="416" y="123"/>
                </a:lnTo>
                <a:lnTo>
                  <a:pt x="397" y="126"/>
                </a:lnTo>
                <a:lnTo>
                  <a:pt x="376" y="128"/>
                </a:lnTo>
                <a:lnTo>
                  <a:pt x="355" y="130"/>
                </a:lnTo>
                <a:lnTo>
                  <a:pt x="334" y="134"/>
                </a:lnTo>
                <a:lnTo>
                  <a:pt x="311" y="136"/>
                </a:lnTo>
                <a:lnTo>
                  <a:pt x="288" y="138"/>
                </a:lnTo>
                <a:lnTo>
                  <a:pt x="263" y="140"/>
                </a:lnTo>
                <a:lnTo>
                  <a:pt x="236" y="142"/>
                </a:lnTo>
                <a:lnTo>
                  <a:pt x="211" y="144"/>
                </a:lnTo>
                <a:lnTo>
                  <a:pt x="182" y="146"/>
                </a:lnTo>
                <a:lnTo>
                  <a:pt x="155" y="148"/>
                </a:lnTo>
                <a:lnTo>
                  <a:pt x="126" y="148"/>
                </a:lnTo>
                <a:lnTo>
                  <a:pt x="96" y="149"/>
                </a:lnTo>
                <a:lnTo>
                  <a:pt x="65" y="149"/>
                </a:lnTo>
                <a:lnTo>
                  <a:pt x="32" y="149"/>
                </a:lnTo>
                <a:lnTo>
                  <a:pt x="0" y="151"/>
                </a:lnTo>
                <a:lnTo>
                  <a:pt x="0" y="96"/>
                </a:lnTo>
                <a:lnTo>
                  <a:pt x="0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177"/>
          <p:cNvSpPr/>
          <p:nvPr/>
        </p:nvSpPr>
        <p:spPr>
          <a:xfrm>
            <a:off x="5923080" y="3722760"/>
            <a:ext cx="603000" cy="380880"/>
          </a:xfrm>
          <a:custGeom>
            <a:avLst/>
            <a:gdLst/>
            <a:ahLst/>
            <a:rect l="l" t="t" r="r" b="b"/>
            <a:pathLst>
              <a:path w="760" h="480">
                <a:moveTo>
                  <a:pt x="491" y="27"/>
                </a:moveTo>
                <a:lnTo>
                  <a:pt x="510" y="16"/>
                </a:lnTo>
                <a:lnTo>
                  <a:pt x="520" y="12"/>
                </a:lnTo>
                <a:lnTo>
                  <a:pt x="529" y="8"/>
                </a:lnTo>
                <a:lnTo>
                  <a:pt x="539" y="4"/>
                </a:lnTo>
                <a:lnTo>
                  <a:pt x="549" y="2"/>
                </a:lnTo>
                <a:lnTo>
                  <a:pt x="558" y="0"/>
                </a:lnTo>
                <a:lnTo>
                  <a:pt x="568" y="0"/>
                </a:lnTo>
                <a:lnTo>
                  <a:pt x="572" y="0"/>
                </a:lnTo>
                <a:lnTo>
                  <a:pt x="577" y="0"/>
                </a:lnTo>
                <a:lnTo>
                  <a:pt x="583" y="2"/>
                </a:lnTo>
                <a:lnTo>
                  <a:pt x="589" y="4"/>
                </a:lnTo>
                <a:lnTo>
                  <a:pt x="595" y="6"/>
                </a:lnTo>
                <a:lnTo>
                  <a:pt x="602" y="10"/>
                </a:lnTo>
                <a:lnTo>
                  <a:pt x="608" y="14"/>
                </a:lnTo>
                <a:lnTo>
                  <a:pt x="616" y="17"/>
                </a:lnTo>
                <a:lnTo>
                  <a:pt x="624" y="23"/>
                </a:lnTo>
                <a:lnTo>
                  <a:pt x="633" y="27"/>
                </a:lnTo>
                <a:lnTo>
                  <a:pt x="641" y="33"/>
                </a:lnTo>
                <a:lnTo>
                  <a:pt x="650" y="40"/>
                </a:lnTo>
                <a:lnTo>
                  <a:pt x="660" y="46"/>
                </a:lnTo>
                <a:lnTo>
                  <a:pt x="672" y="52"/>
                </a:lnTo>
                <a:lnTo>
                  <a:pt x="683" y="60"/>
                </a:lnTo>
                <a:lnTo>
                  <a:pt x="695" y="67"/>
                </a:lnTo>
                <a:lnTo>
                  <a:pt x="702" y="79"/>
                </a:lnTo>
                <a:lnTo>
                  <a:pt x="712" y="88"/>
                </a:lnTo>
                <a:lnTo>
                  <a:pt x="719" y="98"/>
                </a:lnTo>
                <a:lnTo>
                  <a:pt x="727" y="106"/>
                </a:lnTo>
                <a:lnTo>
                  <a:pt x="733" y="115"/>
                </a:lnTo>
                <a:lnTo>
                  <a:pt x="739" y="123"/>
                </a:lnTo>
                <a:lnTo>
                  <a:pt x="744" y="131"/>
                </a:lnTo>
                <a:lnTo>
                  <a:pt x="748" y="138"/>
                </a:lnTo>
                <a:lnTo>
                  <a:pt x="752" y="146"/>
                </a:lnTo>
                <a:lnTo>
                  <a:pt x="756" y="152"/>
                </a:lnTo>
                <a:lnTo>
                  <a:pt x="758" y="158"/>
                </a:lnTo>
                <a:lnTo>
                  <a:pt x="760" y="163"/>
                </a:lnTo>
                <a:lnTo>
                  <a:pt x="760" y="167"/>
                </a:lnTo>
                <a:lnTo>
                  <a:pt x="760" y="171"/>
                </a:lnTo>
                <a:lnTo>
                  <a:pt x="758" y="175"/>
                </a:lnTo>
                <a:lnTo>
                  <a:pt x="756" y="179"/>
                </a:lnTo>
                <a:lnTo>
                  <a:pt x="752" y="188"/>
                </a:lnTo>
                <a:lnTo>
                  <a:pt x="746" y="196"/>
                </a:lnTo>
                <a:lnTo>
                  <a:pt x="743" y="204"/>
                </a:lnTo>
                <a:lnTo>
                  <a:pt x="737" y="211"/>
                </a:lnTo>
                <a:lnTo>
                  <a:pt x="731" y="217"/>
                </a:lnTo>
                <a:lnTo>
                  <a:pt x="723" y="223"/>
                </a:lnTo>
                <a:lnTo>
                  <a:pt x="716" y="229"/>
                </a:lnTo>
                <a:lnTo>
                  <a:pt x="706" y="232"/>
                </a:lnTo>
                <a:lnTo>
                  <a:pt x="700" y="236"/>
                </a:lnTo>
                <a:lnTo>
                  <a:pt x="695" y="242"/>
                </a:lnTo>
                <a:lnTo>
                  <a:pt x="689" y="248"/>
                </a:lnTo>
                <a:lnTo>
                  <a:pt x="683" y="255"/>
                </a:lnTo>
                <a:lnTo>
                  <a:pt x="675" y="265"/>
                </a:lnTo>
                <a:lnTo>
                  <a:pt x="666" y="277"/>
                </a:lnTo>
                <a:lnTo>
                  <a:pt x="658" y="290"/>
                </a:lnTo>
                <a:lnTo>
                  <a:pt x="647" y="305"/>
                </a:lnTo>
                <a:lnTo>
                  <a:pt x="637" y="321"/>
                </a:lnTo>
                <a:lnTo>
                  <a:pt x="625" y="340"/>
                </a:lnTo>
                <a:lnTo>
                  <a:pt x="614" y="359"/>
                </a:lnTo>
                <a:lnTo>
                  <a:pt x="600" y="380"/>
                </a:lnTo>
                <a:lnTo>
                  <a:pt x="587" y="403"/>
                </a:lnTo>
                <a:lnTo>
                  <a:pt x="574" y="426"/>
                </a:lnTo>
                <a:lnTo>
                  <a:pt x="558" y="453"/>
                </a:lnTo>
                <a:lnTo>
                  <a:pt x="543" y="480"/>
                </a:lnTo>
                <a:lnTo>
                  <a:pt x="499" y="480"/>
                </a:lnTo>
                <a:lnTo>
                  <a:pt x="455" y="480"/>
                </a:lnTo>
                <a:lnTo>
                  <a:pt x="458" y="461"/>
                </a:lnTo>
                <a:lnTo>
                  <a:pt x="464" y="444"/>
                </a:lnTo>
                <a:lnTo>
                  <a:pt x="470" y="424"/>
                </a:lnTo>
                <a:lnTo>
                  <a:pt x="474" y="407"/>
                </a:lnTo>
                <a:lnTo>
                  <a:pt x="480" y="390"/>
                </a:lnTo>
                <a:lnTo>
                  <a:pt x="483" y="374"/>
                </a:lnTo>
                <a:lnTo>
                  <a:pt x="487" y="359"/>
                </a:lnTo>
                <a:lnTo>
                  <a:pt x="491" y="344"/>
                </a:lnTo>
                <a:lnTo>
                  <a:pt x="495" y="328"/>
                </a:lnTo>
                <a:lnTo>
                  <a:pt x="499" y="315"/>
                </a:lnTo>
                <a:lnTo>
                  <a:pt x="501" y="302"/>
                </a:lnTo>
                <a:lnTo>
                  <a:pt x="505" y="288"/>
                </a:lnTo>
                <a:lnTo>
                  <a:pt x="506" y="277"/>
                </a:lnTo>
                <a:lnTo>
                  <a:pt x="508" y="265"/>
                </a:lnTo>
                <a:lnTo>
                  <a:pt x="512" y="254"/>
                </a:lnTo>
                <a:lnTo>
                  <a:pt x="514" y="244"/>
                </a:lnTo>
                <a:lnTo>
                  <a:pt x="514" y="232"/>
                </a:lnTo>
                <a:lnTo>
                  <a:pt x="516" y="223"/>
                </a:lnTo>
                <a:lnTo>
                  <a:pt x="518" y="215"/>
                </a:lnTo>
                <a:lnTo>
                  <a:pt x="518" y="206"/>
                </a:lnTo>
                <a:lnTo>
                  <a:pt x="520" y="198"/>
                </a:lnTo>
                <a:lnTo>
                  <a:pt x="520" y="192"/>
                </a:lnTo>
                <a:lnTo>
                  <a:pt x="520" y="184"/>
                </a:lnTo>
                <a:lnTo>
                  <a:pt x="522" y="179"/>
                </a:lnTo>
                <a:lnTo>
                  <a:pt x="522" y="173"/>
                </a:lnTo>
                <a:lnTo>
                  <a:pt x="522" y="169"/>
                </a:lnTo>
                <a:lnTo>
                  <a:pt x="522" y="163"/>
                </a:lnTo>
                <a:lnTo>
                  <a:pt x="520" y="159"/>
                </a:lnTo>
                <a:lnTo>
                  <a:pt x="520" y="158"/>
                </a:lnTo>
                <a:lnTo>
                  <a:pt x="520" y="154"/>
                </a:lnTo>
                <a:lnTo>
                  <a:pt x="518" y="152"/>
                </a:lnTo>
                <a:lnTo>
                  <a:pt x="518" y="150"/>
                </a:lnTo>
                <a:lnTo>
                  <a:pt x="516" y="150"/>
                </a:lnTo>
                <a:lnTo>
                  <a:pt x="512" y="148"/>
                </a:lnTo>
                <a:lnTo>
                  <a:pt x="508" y="148"/>
                </a:lnTo>
                <a:lnTo>
                  <a:pt x="505" y="148"/>
                </a:lnTo>
                <a:lnTo>
                  <a:pt x="499" y="148"/>
                </a:lnTo>
                <a:lnTo>
                  <a:pt x="493" y="148"/>
                </a:lnTo>
                <a:lnTo>
                  <a:pt x="485" y="148"/>
                </a:lnTo>
                <a:lnTo>
                  <a:pt x="478" y="150"/>
                </a:lnTo>
                <a:lnTo>
                  <a:pt x="468" y="152"/>
                </a:lnTo>
                <a:lnTo>
                  <a:pt x="458" y="152"/>
                </a:lnTo>
                <a:lnTo>
                  <a:pt x="447" y="154"/>
                </a:lnTo>
                <a:lnTo>
                  <a:pt x="434" y="156"/>
                </a:lnTo>
                <a:lnTo>
                  <a:pt x="422" y="159"/>
                </a:lnTo>
                <a:lnTo>
                  <a:pt x="407" y="161"/>
                </a:lnTo>
                <a:lnTo>
                  <a:pt x="393" y="163"/>
                </a:lnTo>
                <a:lnTo>
                  <a:pt x="376" y="167"/>
                </a:lnTo>
                <a:lnTo>
                  <a:pt x="361" y="171"/>
                </a:lnTo>
                <a:lnTo>
                  <a:pt x="341" y="175"/>
                </a:lnTo>
                <a:lnTo>
                  <a:pt x="324" y="179"/>
                </a:lnTo>
                <a:lnTo>
                  <a:pt x="305" y="183"/>
                </a:lnTo>
                <a:lnTo>
                  <a:pt x="284" y="186"/>
                </a:lnTo>
                <a:lnTo>
                  <a:pt x="263" y="190"/>
                </a:lnTo>
                <a:lnTo>
                  <a:pt x="240" y="196"/>
                </a:lnTo>
                <a:lnTo>
                  <a:pt x="217" y="200"/>
                </a:lnTo>
                <a:lnTo>
                  <a:pt x="194" y="206"/>
                </a:lnTo>
                <a:lnTo>
                  <a:pt x="169" y="211"/>
                </a:lnTo>
                <a:lnTo>
                  <a:pt x="142" y="217"/>
                </a:lnTo>
                <a:lnTo>
                  <a:pt x="115" y="223"/>
                </a:lnTo>
                <a:lnTo>
                  <a:pt x="88" y="229"/>
                </a:lnTo>
                <a:lnTo>
                  <a:pt x="59" y="234"/>
                </a:lnTo>
                <a:lnTo>
                  <a:pt x="30" y="240"/>
                </a:lnTo>
                <a:lnTo>
                  <a:pt x="0" y="248"/>
                </a:lnTo>
                <a:lnTo>
                  <a:pt x="0" y="150"/>
                </a:lnTo>
                <a:lnTo>
                  <a:pt x="29" y="144"/>
                </a:lnTo>
                <a:lnTo>
                  <a:pt x="57" y="138"/>
                </a:lnTo>
                <a:lnTo>
                  <a:pt x="84" y="131"/>
                </a:lnTo>
                <a:lnTo>
                  <a:pt x="111" y="125"/>
                </a:lnTo>
                <a:lnTo>
                  <a:pt x="136" y="119"/>
                </a:lnTo>
                <a:lnTo>
                  <a:pt x="161" y="113"/>
                </a:lnTo>
                <a:lnTo>
                  <a:pt x="186" y="110"/>
                </a:lnTo>
                <a:lnTo>
                  <a:pt x="207" y="104"/>
                </a:lnTo>
                <a:lnTo>
                  <a:pt x="230" y="98"/>
                </a:lnTo>
                <a:lnTo>
                  <a:pt x="251" y="94"/>
                </a:lnTo>
                <a:lnTo>
                  <a:pt x="270" y="88"/>
                </a:lnTo>
                <a:lnTo>
                  <a:pt x="291" y="85"/>
                </a:lnTo>
                <a:lnTo>
                  <a:pt x="309" y="79"/>
                </a:lnTo>
                <a:lnTo>
                  <a:pt x="326" y="75"/>
                </a:lnTo>
                <a:lnTo>
                  <a:pt x="343" y="71"/>
                </a:lnTo>
                <a:lnTo>
                  <a:pt x="359" y="67"/>
                </a:lnTo>
                <a:lnTo>
                  <a:pt x="374" y="64"/>
                </a:lnTo>
                <a:lnTo>
                  <a:pt x="387" y="60"/>
                </a:lnTo>
                <a:lnTo>
                  <a:pt x="401" y="56"/>
                </a:lnTo>
                <a:lnTo>
                  <a:pt x="414" y="54"/>
                </a:lnTo>
                <a:lnTo>
                  <a:pt x="426" y="50"/>
                </a:lnTo>
                <a:lnTo>
                  <a:pt x="435" y="48"/>
                </a:lnTo>
                <a:lnTo>
                  <a:pt x="445" y="44"/>
                </a:lnTo>
                <a:lnTo>
                  <a:pt x="455" y="42"/>
                </a:lnTo>
                <a:lnTo>
                  <a:pt x="462" y="39"/>
                </a:lnTo>
                <a:lnTo>
                  <a:pt x="468" y="37"/>
                </a:lnTo>
                <a:lnTo>
                  <a:pt x="474" y="35"/>
                </a:lnTo>
                <a:lnTo>
                  <a:pt x="480" y="33"/>
                </a:lnTo>
                <a:lnTo>
                  <a:pt x="483" y="31"/>
                </a:lnTo>
                <a:lnTo>
                  <a:pt x="487" y="29"/>
                </a:lnTo>
                <a:lnTo>
                  <a:pt x="489" y="27"/>
                </a:lnTo>
                <a:lnTo>
                  <a:pt x="491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78"/>
          <p:cNvSpPr/>
          <p:nvPr/>
        </p:nvSpPr>
        <p:spPr>
          <a:xfrm>
            <a:off x="5813280" y="3301920"/>
            <a:ext cx="744840" cy="365040"/>
          </a:xfrm>
          <a:custGeom>
            <a:avLst/>
            <a:gdLst/>
            <a:ahLst/>
            <a:rect l="l" t="t" r="r" b="b"/>
            <a:pathLst>
              <a:path w="938" h="461">
                <a:moveTo>
                  <a:pt x="932" y="379"/>
                </a:moveTo>
                <a:lnTo>
                  <a:pt x="934" y="388"/>
                </a:lnTo>
                <a:lnTo>
                  <a:pt x="936" y="398"/>
                </a:lnTo>
                <a:lnTo>
                  <a:pt x="936" y="405"/>
                </a:lnTo>
                <a:lnTo>
                  <a:pt x="938" y="413"/>
                </a:lnTo>
                <a:lnTo>
                  <a:pt x="938" y="421"/>
                </a:lnTo>
                <a:lnTo>
                  <a:pt x="936" y="428"/>
                </a:lnTo>
                <a:lnTo>
                  <a:pt x="936" y="434"/>
                </a:lnTo>
                <a:lnTo>
                  <a:pt x="934" y="440"/>
                </a:lnTo>
                <a:lnTo>
                  <a:pt x="932" y="444"/>
                </a:lnTo>
                <a:lnTo>
                  <a:pt x="930" y="448"/>
                </a:lnTo>
                <a:lnTo>
                  <a:pt x="927" y="451"/>
                </a:lnTo>
                <a:lnTo>
                  <a:pt x="923" y="455"/>
                </a:lnTo>
                <a:lnTo>
                  <a:pt x="921" y="457"/>
                </a:lnTo>
                <a:lnTo>
                  <a:pt x="917" y="459"/>
                </a:lnTo>
                <a:lnTo>
                  <a:pt x="911" y="459"/>
                </a:lnTo>
                <a:lnTo>
                  <a:pt x="907" y="461"/>
                </a:lnTo>
                <a:lnTo>
                  <a:pt x="904" y="459"/>
                </a:lnTo>
                <a:lnTo>
                  <a:pt x="900" y="459"/>
                </a:lnTo>
                <a:lnTo>
                  <a:pt x="892" y="457"/>
                </a:lnTo>
                <a:lnTo>
                  <a:pt x="884" y="453"/>
                </a:lnTo>
                <a:lnTo>
                  <a:pt x="875" y="450"/>
                </a:lnTo>
                <a:lnTo>
                  <a:pt x="863" y="444"/>
                </a:lnTo>
                <a:lnTo>
                  <a:pt x="850" y="440"/>
                </a:lnTo>
                <a:lnTo>
                  <a:pt x="836" y="432"/>
                </a:lnTo>
                <a:lnTo>
                  <a:pt x="819" y="425"/>
                </a:lnTo>
                <a:lnTo>
                  <a:pt x="802" y="417"/>
                </a:lnTo>
                <a:lnTo>
                  <a:pt x="783" y="407"/>
                </a:lnTo>
                <a:lnTo>
                  <a:pt x="762" y="398"/>
                </a:lnTo>
                <a:lnTo>
                  <a:pt x="738" y="388"/>
                </a:lnTo>
                <a:lnTo>
                  <a:pt x="714" y="377"/>
                </a:lnTo>
                <a:lnTo>
                  <a:pt x="689" y="363"/>
                </a:lnTo>
                <a:lnTo>
                  <a:pt x="660" y="350"/>
                </a:lnTo>
                <a:lnTo>
                  <a:pt x="631" y="336"/>
                </a:lnTo>
                <a:lnTo>
                  <a:pt x="600" y="321"/>
                </a:lnTo>
                <a:lnTo>
                  <a:pt x="568" y="306"/>
                </a:lnTo>
                <a:lnTo>
                  <a:pt x="533" y="288"/>
                </a:lnTo>
                <a:lnTo>
                  <a:pt x="499" y="271"/>
                </a:lnTo>
                <a:lnTo>
                  <a:pt x="460" y="252"/>
                </a:lnTo>
                <a:lnTo>
                  <a:pt x="422" y="233"/>
                </a:lnTo>
                <a:lnTo>
                  <a:pt x="381" y="213"/>
                </a:lnTo>
                <a:lnTo>
                  <a:pt x="339" y="192"/>
                </a:lnTo>
                <a:lnTo>
                  <a:pt x="295" y="169"/>
                </a:lnTo>
                <a:lnTo>
                  <a:pt x="249" y="146"/>
                </a:lnTo>
                <a:lnTo>
                  <a:pt x="203" y="123"/>
                </a:lnTo>
                <a:lnTo>
                  <a:pt x="155" y="98"/>
                </a:lnTo>
                <a:lnTo>
                  <a:pt x="105" y="73"/>
                </a:lnTo>
                <a:lnTo>
                  <a:pt x="53" y="46"/>
                </a:lnTo>
                <a:lnTo>
                  <a:pt x="0" y="20"/>
                </a:lnTo>
                <a:lnTo>
                  <a:pt x="7" y="16"/>
                </a:lnTo>
                <a:lnTo>
                  <a:pt x="17" y="12"/>
                </a:lnTo>
                <a:lnTo>
                  <a:pt x="26" y="8"/>
                </a:lnTo>
                <a:lnTo>
                  <a:pt x="40" y="4"/>
                </a:lnTo>
                <a:lnTo>
                  <a:pt x="53" y="2"/>
                </a:lnTo>
                <a:lnTo>
                  <a:pt x="67" y="0"/>
                </a:lnTo>
                <a:lnTo>
                  <a:pt x="84" y="0"/>
                </a:lnTo>
                <a:lnTo>
                  <a:pt x="101" y="0"/>
                </a:lnTo>
                <a:lnTo>
                  <a:pt x="120" y="2"/>
                </a:lnTo>
                <a:lnTo>
                  <a:pt x="142" y="4"/>
                </a:lnTo>
                <a:lnTo>
                  <a:pt x="163" y="6"/>
                </a:lnTo>
                <a:lnTo>
                  <a:pt x="186" y="10"/>
                </a:lnTo>
                <a:lnTo>
                  <a:pt x="209" y="14"/>
                </a:lnTo>
                <a:lnTo>
                  <a:pt x="234" y="20"/>
                </a:lnTo>
                <a:lnTo>
                  <a:pt x="261" y="25"/>
                </a:lnTo>
                <a:lnTo>
                  <a:pt x="289" y="33"/>
                </a:lnTo>
                <a:lnTo>
                  <a:pt x="341" y="48"/>
                </a:lnTo>
                <a:lnTo>
                  <a:pt x="395" y="66"/>
                </a:lnTo>
                <a:lnTo>
                  <a:pt x="449" y="81"/>
                </a:lnTo>
                <a:lnTo>
                  <a:pt x="504" y="98"/>
                </a:lnTo>
                <a:lnTo>
                  <a:pt x="558" y="117"/>
                </a:lnTo>
                <a:lnTo>
                  <a:pt x="585" y="127"/>
                </a:lnTo>
                <a:lnTo>
                  <a:pt x="612" y="139"/>
                </a:lnTo>
                <a:lnTo>
                  <a:pt x="639" y="148"/>
                </a:lnTo>
                <a:lnTo>
                  <a:pt x="666" y="160"/>
                </a:lnTo>
                <a:lnTo>
                  <a:pt x="692" y="173"/>
                </a:lnTo>
                <a:lnTo>
                  <a:pt x="717" y="185"/>
                </a:lnTo>
                <a:lnTo>
                  <a:pt x="742" y="198"/>
                </a:lnTo>
                <a:lnTo>
                  <a:pt x="767" y="212"/>
                </a:lnTo>
                <a:lnTo>
                  <a:pt x="788" y="225"/>
                </a:lnTo>
                <a:lnTo>
                  <a:pt x="810" y="236"/>
                </a:lnTo>
                <a:lnTo>
                  <a:pt x="829" y="250"/>
                </a:lnTo>
                <a:lnTo>
                  <a:pt x="846" y="263"/>
                </a:lnTo>
                <a:lnTo>
                  <a:pt x="863" y="275"/>
                </a:lnTo>
                <a:lnTo>
                  <a:pt x="877" y="286"/>
                </a:lnTo>
                <a:lnTo>
                  <a:pt x="890" y="300"/>
                </a:lnTo>
                <a:lnTo>
                  <a:pt x="902" y="311"/>
                </a:lnTo>
                <a:lnTo>
                  <a:pt x="911" y="323"/>
                </a:lnTo>
                <a:lnTo>
                  <a:pt x="919" y="334"/>
                </a:lnTo>
                <a:lnTo>
                  <a:pt x="925" y="346"/>
                </a:lnTo>
                <a:lnTo>
                  <a:pt x="929" y="357"/>
                </a:lnTo>
                <a:lnTo>
                  <a:pt x="932" y="367"/>
                </a:lnTo>
                <a:lnTo>
                  <a:pt x="932" y="3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79"/>
          <p:cNvSpPr/>
          <p:nvPr/>
        </p:nvSpPr>
        <p:spPr>
          <a:xfrm>
            <a:off x="5402160" y="3011400"/>
            <a:ext cx="1042920" cy="1062000"/>
          </a:xfrm>
          <a:custGeom>
            <a:avLst/>
            <a:gdLst/>
            <a:ahLst/>
            <a:rect l="l" t="t" r="r" b="b"/>
            <a:pathLst>
              <a:path w="1315" h="1338">
                <a:moveTo>
                  <a:pt x="1250" y="67"/>
                </a:moveTo>
                <a:lnTo>
                  <a:pt x="1259" y="75"/>
                </a:lnTo>
                <a:lnTo>
                  <a:pt x="1267" y="82"/>
                </a:lnTo>
                <a:lnTo>
                  <a:pt x="1275" y="90"/>
                </a:lnTo>
                <a:lnTo>
                  <a:pt x="1282" y="96"/>
                </a:lnTo>
                <a:lnTo>
                  <a:pt x="1288" y="103"/>
                </a:lnTo>
                <a:lnTo>
                  <a:pt x="1296" y="109"/>
                </a:lnTo>
                <a:lnTo>
                  <a:pt x="1300" y="115"/>
                </a:lnTo>
                <a:lnTo>
                  <a:pt x="1305" y="121"/>
                </a:lnTo>
                <a:lnTo>
                  <a:pt x="1309" y="126"/>
                </a:lnTo>
                <a:lnTo>
                  <a:pt x="1311" y="132"/>
                </a:lnTo>
                <a:lnTo>
                  <a:pt x="1313" y="138"/>
                </a:lnTo>
                <a:lnTo>
                  <a:pt x="1315" y="144"/>
                </a:lnTo>
                <a:lnTo>
                  <a:pt x="1315" y="147"/>
                </a:lnTo>
                <a:lnTo>
                  <a:pt x="1315" y="153"/>
                </a:lnTo>
                <a:lnTo>
                  <a:pt x="1315" y="159"/>
                </a:lnTo>
                <a:lnTo>
                  <a:pt x="1313" y="165"/>
                </a:lnTo>
                <a:lnTo>
                  <a:pt x="1307" y="174"/>
                </a:lnTo>
                <a:lnTo>
                  <a:pt x="1304" y="182"/>
                </a:lnTo>
                <a:lnTo>
                  <a:pt x="1298" y="190"/>
                </a:lnTo>
                <a:lnTo>
                  <a:pt x="1290" y="197"/>
                </a:lnTo>
                <a:lnTo>
                  <a:pt x="1282" y="203"/>
                </a:lnTo>
                <a:lnTo>
                  <a:pt x="1273" y="209"/>
                </a:lnTo>
                <a:lnTo>
                  <a:pt x="1269" y="211"/>
                </a:lnTo>
                <a:lnTo>
                  <a:pt x="1263" y="215"/>
                </a:lnTo>
                <a:lnTo>
                  <a:pt x="1257" y="217"/>
                </a:lnTo>
                <a:lnTo>
                  <a:pt x="1250" y="219"/>
                </a:lnTo>
                <a:lnTo>
                  <a:pt x="1242" y="222"/>
                </a:lnTo>
                <a:lnTo>
                  <a:pt x="1234" y="228"/>
                </a:lnTo>
                <a:lnTo>
                  <a:pt x="1227" y="234"/>
                </a:lnTo>
                <a:lnTo>
                  <a:pt x="1219" y="242"/>
                </a:lnTo>
                <a:lnTo>
                  <a:pt x="1210" y="251"/>
                </a:lnTo>
                <a:lnTo>
                  <a:pt x="1202" y="263"/>
                </a:lnTo>
                <a:lnTo>
                  <a:pt x="1192" y="274"/>
                </a:lnTo>
                <a:lnTo>
                  <a:pt x="1183" y="288"/>
                </a:lnTo>
                <a:lnTo>
                  <a:pt x="1173" y="303"/>
                </a:lnTo>
                <a:lnTo>
                  <a:pt x="1163" y="318"/>
                </a:lnTo>
                <a:lnTo>
                  <a:pt x="1154" y="336"/>
                </a:lnTo>
                <a:lnTo>
                  <a:pt x="1142" y="355"/>
                </a:lnTo>
                <a:lnTo>
                  <a:pt x="1133" y="374"/>
                </a:lnTo>
                <a:lnTo>
                  <a:pt x="1121" y="395"/>
                </a:lnTo>
                <a:lnTo>
                  <a:pt x="1110" y="416"/>
                </a:lnTo>
                <a:lnTo>
                  <a:pt x="1098" y="439"/>
                </a:lnTo>
                <a:lnTo>
                  <a:pt x="1083" y="462"/>
                </a:lnTo>
                <a:lnTo>
                  <a:pt x="1067" y="487"/>
                </a:lnTo>
                <a:lnTo>
                  <a:pt x="1050" y="512"/>
                </a:lnTo>
                <a:lnTo>
                  <a:pt x="1029" y="537"/>
                </a:lnTo>
                <a:lnTo>
                  <a:pt x="1010" y="564"/>
                </a:lnTo>
                <a:lnTo>
                  <a:pt x="987" y="589"/>
                </a:lnTo>
                <a:lnTo>
                  <a:pt x="962" y="618"/>
                </a:lnTo>
                <a:lnTo>
                  <a:pt x="937" y="645"/>
                </a:lnTo>
                <a:lnTo>
                  <a:pt x="910" y="673"/>
                </a:lnTo>
                <a:lnTo>
                  <a:pt x="881" y="702"/>
                </a:lnTo>
                <a:lnTo>
                  <a:pt x="852" y="733"/>
                </a:lnTo>
                <a:lnTo>
                  <a:pt x="822" y="764"/>
                </a:lnTo>
                <a:lnTo>
                  <a:pt x="789" y="794"/>
                </a:lnTo>
                <a:lnTo>
                  <a:pt x="755" y="827"/>
                </a:lnTo>
                <a:lnTo>
                  <a:pt x="718" y="860"/>
                </a:lnTo>
                <a:lnTo>
                  <a:pt x="682" y="894"/>
                </a:lnTo>
                <a:lnTo>
                  <a:pt x="645" y="927"/>
                </a:lnTo>
                <a:lnTo>
                  <a:pt x="609" y="958"/>
                </a:lnTo>
                <a:lnTo>
                  <a:pt x="574" y="988"/>
                </a:lnTo>
                <a:lnTo>
                  <a:pt x="540" y="1015"/>
                </a:lnTo>
                <a:lnTo>
                  <a:pt x="505" y="1042"/>
                </a:lnTo>
                <a:lnTo>
                  <a:pt x="472" y="1067"/>
                </a:lnTo>
                <a:lnTo>
                  <a:pt x="440" y="1092"/>
                </a:lnTo>
                <a:lnTo>
                  <a:pt x="409" y="1113"/>
                </a:lnTo>
                <a:lnTo>
                  <a:pt x="380" y="1134"/>
                </a:lnTo>
                <a:lnTo>
                  <a:pt x="352" y="1155"/>
                </a:lnTo>
                <a:lnTo>
                  <a:pt x="323" y="1172"/>
                </a:lnTo>
                <a:lnTo>
                  <a:pt x="298" y="1192"/>
                </a:lnTo>
                <a:lnTo>
                  <a:pt x="271" y="1207"/>
                </a:lnTo>
                <a:lnTo>
                  <a:pt x="248" y="1222"/>
                </a:lnTo>
                <a:lnTo>
                  <a:pt x="225" y="1238"/>
                </a:lnTo>
                <a:lnTo>
                  <a:pt x="202" y="1251"/>
                </a:lnTo>
                <a:lnTo>
                  <a:pt x="179" y="1263"/>
                </a:lnTo>
                <a:lnTo>
                  <a:pt x="158" y="1274"/>
                </a:lnTo>
                <a:lnTo>
                  <a:pt x="138" y="1286"/>
                </a:lnTo>
                <a:lnTo>
                  <a:pt x="119" y="1295"/>
                </a:lnTo>
                <a:lnTo>
                  <a:pt x="102" y="1303"/>
                </a:lnTo>
                <a:lnTo>
                  <a:pt x="87" y="1311"/>
                </a:lnTo>
                <a:lnTo>
                  <a:pt x="73" y="1318"/>
                </a:lnTo>
                <a:lnTo>
                  <a:pt x="60" y="1324"/>
                </a:lnTo>
                <a:lnTo>
                  <a:pt x="48" y="1328"/>
                </a:lnTo>
                <a:lnTo>
                  <a:pt x="37" y="1332"/>
                </a:lnTo>
                <a:lnTo>
                  <a:pt x="27" y="1334"/>
                </a:lnTo>
                <a:lnTo>
                  <a:pt x="19" y="1336"/>
                </a:lnTo>
                <a:lnTo>
                  <a:pt x="14" y="1338"/>
                </a:lnTo>
                <a:lnTo>
                  <a:pt x="8" y="1338"/>
                </a:lnTo>
                <a:lnTo>
                  <a:pt x="4" y="1336"/>
                </a:lnTo>
                <a:lnTo>
                  <a:pt x="0" y="1334"/>
                </a:lnTo>
                <a:lnTo>
                  <a:pt x="0" y="1330"/>
                </a:lnTo>
                <a:lnTo>
                  <a:pt x="0" y="1326"/>
                </a:lnTo>
                <a:lnTo>
                  <a:pt x="2" y="1322"/>
                </a:lnTo>
                <a:lnTo>
                  <a:pt x="6" y="1318"/>
                </a:lnTo>
                <a:lnTo>
                  <a:pt x="10" y="1313"/>
                </a:lnTo>
                <a:lnTo>
                  <a:pt x="18" y="1305"/>
                </a:lnTo>
                <a:lnTo>
                  <a:pt x="25" y="1297"/>
                </a:lnTo>
                <a:lnTo>
                  <a:pt x="37" y="1290"/>
                </a:lnTo>
                <a:lnTo>
                  <a:pt x="46" y="1280"/>
                </a:lnTo>
                <a:lnTo>
                  <a:pt x="60" y="1268"/>
                </a:lnTo>
                <a:lnTo>
                  <a:pt x="75" y="1257"/>
                </a:lnTo>
                <a:lnTo>
                  <a:pt x="90" y="1245"/>
                </a:lnTo>
                <a:lnTo>
                  <a:pt x="108" y="1232"/>
                </a:lnTo>
                <a:lnTo>
                  <a:pt x="125" y="1217"/>
                </a:lnTo>
                <a:lnTo>
                  <a:pt x="144" y="1199"/>
                </a:lnTo>
                <a:lnTo>
                  <a:pt x="165" y="1182"/>
                </a:lnTo>
                <a:lnTo>
                  <a:pt x="186" y="1163"/>
                </a:lnTo>
                <a:lnTo>
                  <a:pt x="208" y="1146"/>
                </a:lnTo>
                <a:lnTo>
                  <a:pt x="231" y="1126"/>
                </a:lnTo>
                <a:lnTo>
                  <a:pt x="254" y="1107"/>
                </a:lnTo>
                <a:lnTo>
                  <a:pt x="279" y="1088"/>
                </a:lnTo>
                <a:lnTo>
                  <a:pt x="302" y="1067"/>
                </a:lnTo>
                <a:lnTo>
                  <a:pt x="327" y="1046"/>
                </a:lnTo>
                <a:lnTo>
                  <a:pt x="352" y="1027"/>
                </a:lnTo>
                <a:lnTo>
                  <a:pt x="378" y="1004"/>
                </a:lnTo>
                <a:lnTo>
                  <a:pt x="405" y="982"/>
                </a:lnTo>
                <a:lnTo>
                  <a:pt x="430" y="959"/>
                </a:lnTo>
                <a:lnTo>
                  <a:pt x="457" y="936"/>
                </a:lnTo>
                <a:lnTo>
                  <a:pt x="486" y="913"/>
                </a:lnTo>
                <a:lnTo>
                  <a:pt x="513" y="888"/>
                </a:lnTo>
                <a:lnTo>
                  <a:pt x="540" y="863"/>
                </a:lnTo>
                <a:lnTo>
                  <a:pt x="568" y="838"/>
                </a:lnTo>
                <a:lnTo>
                  <a:pt x="620" y="785"/>
                </a:lnTo>
                <a:lnTo>
                  <a:pt x="670" y="731"/>
                </a:lnTo>
                <a:lnTo>
                  <a:pt x="693" y="704"/>
                </a:lnTo>
                <a:lnTo>
                  <a:pt x="718" y="677"/>
                </a:lnTo>
                <a:lnTo>
                  <a:pt x="741" y="650"/>
                </a:lnTo>
                <a:lnTo>
                  <a:pt x="764" y="624"/>
                </a:lnTo>
                <a:lnTo>
                  <a:pt x="785" y="595"/>
                </a:lnTo>
                <a:lnTo>
                  <a:pt x="808" y="568"/>
                </a:lnTo>
                <a:lnTo>
                  <a:pt x="829" y="539"/>
                </a:lnTo>
                <a:lnTo>
                  <a:pt x="849" y="510"/>
                </a:lnTo>
                <a:lnTo>
                  <a:pt x="868" y="483"/>
                </a:lnTo>
                <a:lnTo>
                  <a:pt x="887" y="455"/>
                </a:lnTo>
                <a:lnTo>
                  <a:pt x="904" y="426"/>
                </a:lnTo>
                <a:lnTo>
                  <a:pt x="922" y="397"/>
                </a:lnTo>
                <a:lnTo>
                  <a:pt x="937" y="370"/>
                </a:lnTo>
                <a:lnTo>
                  <a:pt x="952" y="343"/>
                </a:lnTo>
                <a:lnTo>
                  <a:pt x="966" y="320"/>
                </a:lnTo>
                <a:lnTo>
                  <a:pt x="979" y="297"/>
                </a:lnTo>
                <a:lnTo>
                  <a:pt x="993" y="276"/>
                </a:lnTo>
                <a:lnTo>
                  <a:pt x="1002" y="257"/>
                </a:lnTo>
                <a:lnTo>
                  <a:pt x="1014" y="238"/>
                </a:lnTo>
                <a:lnTo>
                  <a:pt x="1021" y="222"/>
                </a:lnTo>
                <a:lnTo>
                  <a:pt x="1029" y="207"/>
                </a:lnTo>
                <a:lnTo>
                  <a:pt x="1037" y="194"/>
                </a:lnTo>
                <a:lnTo>
                  <a:pt x="1043" y="182"/>
                </a:lnTo>
                <a:lnTo>
                  <a:pt x="1046" y="172"/>
                </a:lnTo>
                <a:lnTo>
                  <a:pt x="1048" y="165"/>
                </a:lnTo>
                <a:lnTo>
                  <a:pt x="1050" y="159"/>
                </a:lnTo>
                <a:lnTo>
                  <a:pt x="1050" y="153"/>
                </a:lnTo>
                <a:lnTo>
                  <a:pt x="1048" y="149"/>
                </a:lnTo>
                <a:lnTo>
                  <a:pt x="1043" y="146"/>
                </a:lnTo>
                <a:lnTo>
                  <a:pt x="1037" y="142"/>
                </a:lnTo>
                <a:lnTo>
                  <a:pt x="1029" y="140"/>
                </a:lnTo>
                <a:lnTo>
                  <a:pt x="1019" y="140"/>
                </a:lnTo>
                <a:lnTo>
                  <a:pt x="1010" y="140"/>
                </a:lnTo>
                <a:lnTo>
                  <a:pt x="998" y="142"/>
                </a:lnTo>
                <a:lnTo>
                  <a:pt x="985" y="146"/>
                </a:lnTo>
                <a:lnTo>
                  <a:pt x="972" y="149"/>
                </a:lnTo>
                <a:lnTo>
                  <a:pt x="952" y="155"/>
                </a:lnTo>
                <a:lnTo>
                  <a:pt x="931" y="157"/>
                </a:lnTo>
                <a:lnTo>
                  <a:pt x="910" y="159"/>
                </a:lnTo>
                <a:lnTo>
                  <a:pt x="899" y="159"/>
                </a:lnTo>
                <a:lnTo>
                  <a:pt x="887" y="159"/>
                </a:lnTo>
                <a:lnTo>
                  <a:pt x="876" y="159"/>
                </a:lnTo>
                <a:lnTo>
                  <a:pt x="862" y="157"/>
                </a:lnTo>
                <a:lnTo>
                  <a:pt x="851" y="155"/>
                </a:lnTo>
                <a:lnTo>
                  <a:pt x="837" y="153"/>
                </a:lnTo>
                <a:lnTo>
                  <a:pt x="824" y="149"/>
                </a:lnTo>
                <a:lnTo>
                  <a:pt x="810" y="146"/>
                </a:lnTo>
                <a:lnTo>
                  <a:pt x="797" y="142"/>
                </a:lnTo>
                <a:lnTo>
                  <a:pt x="783" y="136"/>
                </a:lnTo>
                <a:lnTo>
                  <a:pt x="783" y="96"/>
                </a:lnTo>
                <a:lnTo>
                  <a:pt x="783" y="53"/>
                </a:lnTo>
                <a:lnTo>
                  <a:pt x="812" y="53"/>
                </a:lnTo>
                <a:lnTo>
                  <a:pt x="841" y="53"/>
                </a:lnTo>
                <a:lnTo>
                  <a:pt x="868" y="53"/>
                </a:lnTo>
                <a:lnTo>
                  <a:pt x="893" y="52"/>
                </a:lnTo>
                <a:lnTo>
                  <a:pt x="916" y="50"/>
                </a:lnTo>
                <a:lnTo>
                  <a:pt x="937" y="50"/>
                </a:lnTo>
                <a:lnTo>
                  <a:pt x="956" y="48"/>
                </a:lnTo>
                <a:lnTo>
                  <a:pt x="975" y="46"/>
                </a:lnTo>
                <a:lnTo>
                  <a:pt x="993" y="44"/>
                </a:lnTo>
                <a:lnTo>
                  <a:pt x="1008" y="42"/>
                </a:lnTo>
                <a:lnTo>
                  <a:pt x="1021" y="38"/>
                </a:lnTo>
                <a:lnTo>
                  <a:pt x="1035" y="36"/>
                </a:lnTo>
                <a:lnTo>
                  <a:pt x="1046" y="34"/>
                </a:lnTo>
                <a:lnTo>
                  <a:pt x="1056" y="32"/>
                </a:lnTo>
                <a:lnTo>
                  <a:pt x="1066" y="28"/>
                </a:lnTo>
                <a:lnTo>
                  <a:pt x="1073" y="27"/>
                </a:lnTo>
                <a:lnTo>
                  <a:pt x="1092" y="15"/>
                </a:lnTo>
                <a:lnTo>
                  <a:pt x="1102" y="11"/>
                </a:lnTo>
                <a:lnTo>
                  <a:pt x="1112" y="7"/>
                </a:lnTo>
                <a:lnTo>
                  <a:pt x="1121" y="4"/>
                </a:lnTo>
                <a:lnTo>
                  <a:pt x="1129" y="2"/>
                </a:lnTo>
                <a:lnTo>
                  <a:pt x="1138" y="0"/>
                </a:lnTo>
                <a:lnTo>
                  <a:pt x="1148" y="0"/>
                </a:lnTo>
                <a:lnTo>
                  <a:pt x="1154" y="0"/>
                </a:lnTo>
                <a:lnTo>
                  <a:pt x="1160" y="0"/>
                </a:lnTo>
                <a:lnTo>
                  <a:pt x="1163" y="2"/>
                </a:lnTo>
                <a:lnTo>
                  <a:pt x="1169" y="4"/>
                </a:lnTo>
                <a:lnTo>
                  <a:pt x="1175" y="5"/>
                </a:lnTo>
                <a:lnTo>
                  <a:pt x="1183" y="9"/>
                </a:lnTo>
                <a:lnTo>
                  <a:pt x="1188" y="13"/>
                </a:lnTo>
                <a:lnTo>
                  <a:pt x="1194" y="17"/>
                </a:lnTo>
                <a:lnTo>
                  <a:pt x="1202" y="23"/>
                </a:lnTo>
                <a:lnTo>
                  <a:pt x="1208" y="28"/>
                </a:lnTo>
                <a:lnTo>
                  <a:pt x="1221" y="40"/>
                </a:lnTo>
                <a:lnTo>
                  <a:pt x="1236" y="53"/>
                </a:lnTo>
                <a:lnTo>
                  <a:pt x="1250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80"/>
          <p:cNvSpPr/>
          <p:nvPr/>
        </p:nvSpPr>
        <p:spPr>
          <a:xfrm>
            <a:off x="5695920" y="2854440"/>
            <a:ext cx="458640" cy="606240"/>
          </a:xfrm>
          <a:custGeom>
            <a:avLst/>
            <a:gdLst/>
            <a:ahLst/>
            <a:rect l="l" t="t" r="r" b="b"/>
            <a:pathLst>
              <a:path w="577" h="766">
                <a:moveTo>
                  <a:pt x="336" y="88"/>
                </a:moveTo>
                <a:lnTo>
                  <a:pt x="332" y="73"/>
                </a:lnTo>
                <a:lnTo>
                  <a:pt x="330" y="60"/>
                </a:lnTo>
                <a:lnTo>
                  <a:pt x="328" y="48"/>
                </a:lnTo>
                <a:lnTo>
                  <a:pt x="328" y="37"/>
                </a:lnTo>
                <a:lnTo>
                  <a:pt x="330" y="27"/>
                </a:lnTo>
                <a:lnTo>
                  <a:pt x="332" y="23"/>
                </a:lnTo>
                <a:lnTo>
                  <a:pt x="334" y="19"/>
                </a:lnTo>
                <a:lnTo>
                  <a:pt x="338" y="15"/>
                </a:lnTo>
                <a:lnTo>
                  <a:pt x="339" y="12"/>
                </a:lnTo>
                <a:lnTo>
                  <a:pt x="343" y="10"/>
                </a:lnTo>
                <a:lnTo>
                  <a:pt x="349" y="6"/>
                </a:lnTo>
                <a:lnTo>
                  <a:pt x="353" y="4"/>
                </a:lnTo>
                <a:lnTo>
                  <a:pt x="359" y="2"/>
                </a:lnTo>
                <a:lnTo>
                  <a:pt x="364" y="2"/>
                </a:lnTo>
                <a:lnTo>
                  <a:pt x="370" y="0"/>
                </a:lnTo>
                <a:lnTo>
                  <a:pt x="376" y="0"/>
                </a:lnTo>
                <a:lnTo>
                  <a:pt x="384" y="0"/>
                </a:lnTo>
                <a:lnTo>
                  <a:pt x="397" y="2"/>
                </a:lnTo>
                <a:lnTo>
                  <a:pt x="414" y="6"/>
                </a:lnTo>
                <a:lnTo>
                  <a:pt x="422" y="8"/>
                </a:lnTo>
                <a:lnTo>
                  <a:pt x="432" y="10"/>
                </a:lnTo>
                <a:lnTo>
                  <a:pt x="441" y="12"/>
                </a:lnTo>
                <a:lnTo>
                  <a:pt x="453" y="15"/>
                </a:lnTo>
                <a:lnTo>
                  <a:pt x="464" y="17"/>
                </a:lnTo>
                <a:lnTo>
                  <a:pt x="476" y="19"/>
                </a:lnTo>
                <a:lnTo>
                  <a:pt x="493" y="25"/>
                </a:lnTo>
                <a:lnTo>
                  <a:pt x="510" y="33"/>
                </a:lnTo>
                <a:lnTo>
                  <a:pt x="526" y="40"/>
                </a:lnTo>
                <a:lnTo>
                  <a:pt x="539" y="48"/>
                </a:lnTo>
                <a:lnTo>
                  <a:pt x="547" y="52"/>
                </a:lnTo>
                <a:lnTo>
                  <a:pt x="553" y="56"/>
                </a:lnTo>
                <a:lnTo>
                  <a:pt x="556" y="60"/>
                </a:lnTo>
                <a:lnTo>
                  <a:pt x="562" y="63"/>
                </a:lnTo>
                <a:lnTo>
                  <a:pt x="566" y="65"/>
                </a:lnTo>
                <a:lnTo>
                  <a:pt x="570" y="69"/>
                </a:lnTo>
                <a:lnTo>
                  <a:pt x="574" y="73"/>
                </a:lnTo>
                <a:lnTo>
                  <a:pt x="576" y="75"/>
                </a:lnTo>
                <a:lnTo>
                  <a:pt x="577" y="79"/>
                </a:lnTo>
                <a:lnTo>
                  <a:pt x="577" y="83"/>
                </a:lnTo>
                <a:lnTo>
                  <a:pt x="577" y="88"/>
                </a:lnTo>
                <a:lnTo>
                  <a:pt x="576" y="96"/>
                </a:lnTo>
                <a:lnTo>
                  <a:pt x="574" y="104"/>
                </a:lnTo>
                <a:lnTo>
                  <a:pt x="570" y="113"/>
                </a:lnTo>
                <a:lnTo>
                  <a:pt x="566" y="123"/>
                </a:lnTo>
                <a:lnTo>
                  <a:pt x="560" y="134"/>
                </a:lnTo>
                <a:lnTo>
                  <a:pt x="553" y="148"/>
                </a:lnTo>
                <a:lnTo>
                  <a:pt x="547" y="161"/>
                </a:lnTo>
                <a:lnTo>
                  <a:pt x="539" y="177"/>
                </a:lnTo>
                <a:lnTo>
                  <a:pt x="529" y="192"/>
                </a:lnTo>
                <a:lnTo>
                  <a:pt x="520" y="209"/>
                </a:lnTo>
                <a:lnTo>
                  <a:pt x="510" y="228"/>
                </a:lnTo>
                <a:lnTo>
                  <a:pt x="499" y="248"/>
                </a:lnTo>
                <a:lnTo>
                  <a:pt x="487" y="267"/>
                </a:lnTo>
                <a:lnTo>
                  <a:pt x="458" y="313"/>
                </a:lnTo>
                <a:lnTo>
                  <a:pt x="428" y="359"/>
                </a:lnTo>
                <a:lnTo>
                  <a:pt x="397" y="401"/>
                </a:lnTo>
                <a:lnTo>
                  <a:pt x="362" y="445"/>
                </a:lnTo>
                <a:lnTo>
                  <a:pt x="328" y="486"/>
                </a:lnTo>
                <a:lnTo>
                  <a:pt x="290" y="528"/>
                </a:lnTo>
                <a:lnTo>
                  <a:pt x="270" y="549"/>
                </a:lnTo>
                <a:lnTo>
                  <a:pt x="251" y="570"/>
                </a:lnTo>
                <a:lnTo>
                  <a:pt x="230" y="591"/>
                </a:lnTo>
                <a:lnTo>
                  <a:pt x="211" y="612"/>
                </a:lnTo>
                <a:lnTo>
                  <a:pt x="190" y="632"/>
                </a:lnTo>
                <a:lnTo>
                  <a:pt x="169" y="651"/>
                </a:lnTo>
                <a:lnTo>
                  <a:pt x="151" y="668"/>
                </a:lnTo>
                <a:lnTo>
                  <a:pt x="132" y="683"/>
                </a:lnTo>
                <a:lnTo>
                  <a:pt x="115" y="699"/>
                </a:lnTo>
                <a:lnTo>
                  <a:pt x="100" y="712"/>
                </a:lnTo>
                <a:lnTo>
                  <a:pt x="86" y="724"/>
                </a:lnTo>
                <a:lnTo>
                  <a:pt x="71" y="733"/>
                </a:lnTo>
                <a:lnTo>
                  <a:pt x="59" y="743"/>
                </a:lnTo>
                <a:lnTo>
                  <a:pt x="48" y="751"/>
                </a:lnTo>
                <a:lnTo>
                  <a:pt x="38" y="756"/>
                </a:lnTo>
                <a:lnTo>
                  <a:pt x="29" y="760"/>
                </a:lnTo>
                <a:lnTo>
                  <a:pt x="21" y="764"/>
                </a:lnTo>
                <a:lnTo>
                  <a:pt x="15" y="766"/>
                </a:lnTo>
                <a:lnTo>
                  <a:pt x="11" y="764"/>
                </a:lnTo>
                <a:lnTo>
                  <a:pt x="7" y="764"/>
                </a:lnTo>
                <a:lnTo>
                  <a:pt x="4" y="762"/>
                </a:lnTo>
                <a:lnTo>
                  <a:pt x="2" y="760"/>
                </a:lnTo>
                <a:lnTo>
                  <a:pt x="0" y="758"/>
                </a:lnTo>
                <a:lnTo>
                  <a:pt x="0" y="752"/>
                </a:lnTo>
                <a:lnTo>
                  <a:pt x="0" y="747"/>
                </a:lnTo>
                <a:lnTo>
                  <a:pt x="2" y="741"/>
                </a:lnTo>
                <a:lnTo>
                  <a:pt x="5" y="731"/>
                </a:lnTo>
                <a:lnTo>
                  <a:pt x="9" y="722"/>
                </a:lnTo>
                <a:lnTo>
                  <a:pt x="17" y="710"/>
                </a:lnTo>
                <a:lnTo>
                  <a:pt x="23" y="699"/>
                </a:lnTo>
                <a:lnTo>
                  <a:pt x="32" y="685"/>
                </a:lnTo>
                <a:lnTo>
                  <a:pt x="42" y="670"/>
                </a:lnTo>
                <a:lnTo>
                  <a:pt x="53" y="655"/>
                </a:lnTo>
                <a:lnTo>
                  <a:pt x="67" y="637"/>
                </a:lnTo>
                <a:lnTo>
                  <a:pt x="80" y="618"/>
                </a:lnTo>
                <a:lnTo>
                  <a:pt x="96" y="597"/>
                </a:lnTo>
                <a:lnTo>
                  <a:pt x="113" y="576"/>
                </a:lnTo>
                <a:lnTo>
                  <a:pt x="128" y="557"/>
                </a:lnTo>
                <a:lnTo>
                  <a:pt x="144" y="536"/>
                </a:lnTo>
                <a:lnTo>
                  <a:pt x="157" y="514"/>
                </a:lnTo>
                <a:lnTo>
                  <a:pt x="172" y="495"/>
                </a:lnTo>
                <a:lnTo>
                  <a:pt x="186" y="474"/>
                </a:lnTo>
                <a:lnTo>
                  <a:pt x="211" y="434"/>
                </a:lnTo>
                <a:lnTo>
                  <a:pt x="236" y="395"/>
                </a:lnTo>
                <a:lnTo>
                  <a:pt x="259" y="355"/>
                </a:lnTo>
                <a:lnTo>
                  <a:pt x="278" y="319"/>
                </a:lnTo>
                <a:lnTo>
                  <a:pt x="299" y="282"/>
                </a:lnTo>
                <a:lnTo>
                  <a:pt x="305" y="263"/>
                </a:lnTo>
                <a:lnTo>
                  <a:pt x="311" y="246"/>
                </a:lnTo>
                <a:lnTo>
                  <a:pt x="316" y="230"/>
                </a:lnTo>
                <a:lnTo>
                  <a:pt x="322" y="215"/>
                </a:lnTo>
                <a:lnTo>
                  <a:pt x="326" y="200"/>
                </a:lnTo>
                <a:lnTo>
                  <a:pt x="330" y="184"/>
                </a:lnTo>
                <a:lnTo>
                  <a:pt x="334" y="171"/>
                </a:lnTo>
                <a:lnTo>
                  <a:pt x="336" y="159"/>
                </a:lnTo>
                <a:lnTo>
                  <a:pt x="338" y="148"/>
                </a:lnTo>
                <a:lnTo>
                  <a:pt x="339" y="136"/>
                </a:lnTo>
                <a:lnTo>
                  <a:pt x="339" y="127"/>
                </a:lnTo>
                <a:lnTo>
                  <a:pt x="341" y="117"/>
                </a:lnTo>
                <a:lnTo>
                  <a:pt x="341" y="109"/>
                </a:lnTo>
                <a:lnTo>
                  <a:pt x="339" y="102"/>
                </a:lnTo>
                <a:lnTo>
                  <a:pt x="338" y="94"/>
                </a:lnTo>
                <a:lnTo>
                  <a:pt x="336" y="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81"/>
          <p:cNvSpPr/>
          <p:nvPr/>
        </p:nvSpPr>
        <p:spPr>
          <a:xfrm>
            <a:off x="5783400" y="2563920"/>
            <a:ext cx="909360" cy="372960"/>
          </a:xfrm>
          <a:custGeom>
            <a:avLst/>
            <a:gdLst/>
            <a:ahLst/>
            <a:rect l="l" t="t" r="r" b="b"/>
            <a:pathLst>
              <a:path w="1148" h="471">
                <a:moveTo>
                  <a:pt x="872" y="27"/>
                </a:moveTo>
                <a:lnTo>
                  <a:pt x="889" y="18"/>
                </a:lnTo>
                <a:lnTo>
                  <a:pt x="898" y="12"/>
                </a:lnTo>
                <a:lnTo>
                  <a:pt x="908" y="8"/>
                </a:lnTo>
                <a:lnTo>
                  <a:pt x="918" y="4"/>
                </a:lnTo>
                <a:lnTo>
                  <a:pt x="927" y="2"/>
                </a:lnTo>
                <a:lnTo>
                  <a:pt x="937" y="0"/>
                </a:lnTo>
                <a:lnTo>
                  <a:pt x="946" y="0"/>
                </a:lnTo>
                <a:lnTo>
                  <a:pt x="956" y="4"/>
                </a:lnTo>
                <a:lnTo>
                  <a:pt x="968" y="10"/>
                </a:lnTo>
                <a:lnTo>
                  <a:pt x="981" y="18"/>
                </a:lnTo>
                <a:lnTo>
                  <a:pt x="994" y="23"/>
                </a:lnTo>
                <a:lnTo>
                  <a:pt x="1012" y="33"/>
                </a:lnTo>
                <a:lnTo>
                  <a:pt x="1021" y="37"/>
                </a:lnTo>
                <a:lnTo>
                  <a:pt x="1031" y="43"/>
                </a:lnTo>
                <a:lnTo>
                  <a:pt x="1040" y="48"/>
                </a:lnTo>
                <a:lnTo>
                  <a:pt x="1050" y="54"/>
                </a:lnTo>
                <a:lnTo>
                  <a:pt x="1062" y="62"/>
                </a:lnTo>
                <a:lnTo>
                  <a:pt x="1073" y="69"/>
                </a:lnTo>
                <a:lnTo>
                  <a:pt x="1081" y="77"/>
                </a:lnTo>
                <a:lnTo>
                  <a:pt x="1090" y="83"/>
                </a:lnTo>
                <a:lnTo>
                  <a:pt x="1098" y="91"/>
                </a:lnTo>
                <a:lnTo>
                  <a:pt x="1106" y="96"/>
                </a:lnTo>
                <a:lnTo>
                  <a:pt x="1111" y="104"/>
                </a:lnTo>
                <a:lnTo>
                  <a:pt x="1119" y="110"/>
                </a:lnTo>
                <a:lnTo>
                  <a:pt x="1125" y="116"/>
                </a:lnTo>
                <a:lnTo>
                  <a:pt x="1129" y="119"/>
                </a:lnTo>
                <a:lnTo>
                  <a:pt x="1133" y="125"/>
                </a:lnTo>
                <a:lnTo>
                  <a:pt x="1136" y="129"/>
                </a:lnTo>
                <a:lnTo>
                  <a:pt x="1140" y="135"/>
                </a:lnTo>
                <a:lnTo>
                  <a:pt x="1144" y="139"/>
                </a:lnTo>
                <a:lnTo>
                  <a:pt x="1146" y="142"/>
                </a:lnTo>
                <a:lnTo>
                  <a:pt x="1146" y="144"/>
                </a:lnTo>
                <a:lnTo>
                  <a:pt x="1148" y="148"/>
                </a:lnTo>
                <a:lnTo>
                  <a:pt x="1148" y="152"/>
                </a:lnTo>
                <a:lnTo>
                  <a:pt x="1148" y="154"/>
                </a:lnTo>
                <a:lnTo>
                  <a:pt x="1146" y="158"/>
                </a:lnTo>
                <a:lnTo>
                  <a:pt x="1146" y="160"/>
                </a:lnTo>
                <a:lnTo>
                  <a:pt x="1144" y="164"/>
                </a:lnTo>
                <a:lnTo>
                  <a:pt x="1140" y="167"/>
                </a:lnTo>
                <a:lnTo>
                  <a:pt x="1136" y="171"/>
                </a:lnTo>
                <a:lnTo>
                  <a:pt x="1133" y="175"/>
                </a:lnTo>
                <a:lnTo>
                  <a:pt x="1129" y="181"/>
                </a:lnTo>
                <a:lnTo>
                  <a:pt x="1125" y="185"/>
                </a:lnTo>
                <a:lnTo>
                  <a:pt x="1119" y="188"/>
                </a:lnTo>
                <a:lnTo>
                  <a:pt x="1111" y="194"/>
                </a:lnTo>
                <a:lnTo>
                  <a:pt x="1106" y="200"/>
                </a:lnTo>
                <a:lnTo>
                  <a:pt x="1098" y="204"/>
                </a:lnTo>
                <a:lnTo>
                  <a:pt x="1090" y="210"/>
                </a:lnTo>
                <a:lnTo>
                  <a:pt x="1081" y="215"/>
                </a:lnTo>
                <a:lnTo>
                  <a:pt x="1073" y="219"/>
                </a:lnTo>
                <a:lnTo>
                  <a:pt x="1063" y="225"/>
                </a:lnTo>
                <a:lnTo>
                  <a:pt x="1054" y="231"/>
                </a:lnTo>
                <a:lnTo>
                  <a:pt x="1044" y="238"/>
                </a:lnTo>
                <a:lnTo>
                  <a:pt x="1035" y="246"/>
                </a:lnTo>
                <a:lnTo>
                  <a:pt x="1025" y="254"/>
                </a:lnTo>
                <a:lnTo>
                  <a:pt x="1016" y="261"/>
                </a:lnTo>
                <a:lnTo>
                  <a:pt x="1006" y="271"/>
                </a:lnTo>
                <a:lnTo>
                  <a:pt x="996" y="281"/>
                </a:lnTo>
                <a:lnTo>
                  <a:pt x="987" y="290"/>
                </a:lnTo>
                <a:lnTo>
                  <a:pt x="977" y="300"/>
                </a:lnTo>
                <a:lnTo>
                  <a:pt x="958" y="323"/>
                </a:lnTo>
                <a:lnTo>
                  <a:pt x="941" y="346"/>
                </a:lnTo>
                <a:lnTo>
                  <a:pt x="921" y="371"/>
                </a:lnTo>
                <a:lnTo>
                  <a:pt x="912" y="384"/>
                </a:lnTo>
                <a:lnTo>
                  <a:pt x="902" y="396"/>
                </a:lnTo>
                <a:lnTo>
                  <a:pt x="895" y="407"/>
                </a:lnTo>
                <a:lnTo>
                  <a:pt x="887" y="417"/>
                </a:lnTo>
                <a:lnTo>
                  <a:pt x="877" y="426"/>
                </a:lnTo>
                <a:lnTo>
                  <a:pt x="870" y="436"/>
                </a:lnTo>
                <a:lnTo>
                  <a:pt x="864" y="444"/>
                </a:lnTo>
                <a:lnTo>
                  <a:pt x="856" y="450"/>
                </a:lnTo>
                <a:lnTo>
                  <a:pt x="850" y="457"/>
                </a:lnTo>
                <a:lnTo>
                  <a:pt x="845" y="461"/>
                </a:lnTo>
                <a:lnTo>
                  <a:pt x="839" y="465"/>
                </a:lnTo>
                <a:lnTo>
                  <a:pt x="835" y="469"/>
                </a:lnTo>
                <a:lnTo>
                  <a:pt x="829" y="469"/>
                </a:lnTo>
                <a:lnTo>
                  <a:pt x="825" y="471"/>
                </a:lnTo>
                <a:lnTo>
                  <a:pt x="824" y="469"/>
                </a:lnTo>
                <a:lnTo>
                  <a:pt x="820" y="467"/>
                </a:lnTo>
                <a:lnTo>
                  <a:pt x="816" y="467"/>
                </a:lnTo>
                <a:lnTo>
                  <a:pt x="812" y="465"/>
                </a:lnTo>
                <a:lnTo>
                  <a:pt x="808" y="463"/>
                </a:lnTo>
                <a:lnTo>
                  <a:pt x="806" y="459"/>
                </a:lnTo>
                <a:lnTo>
                  <a:pt x="804" y="455"/>
                </a:lnTo>
                <a:lnTo>
                  <a:pt x="802" y="450"/>
                </a:lnTo>
                <a:lnTo>
                  <a:pt x="802" y="442"/>
                </a:lnTo>
                <a:lnTo>
                  <a:pt x="801" y="434"/>
                </a:lnTo>
                <a:lnTo>
                  <a:pt x="802" y="426"/>
                </a:lnTo>
                <a:lnTo>
                  <a:pt x="802" y="415"/>
                </a:lnTo>
                <a:lnTo>
                  <a:pt x="804" y="405"/>
                </a:lnTo>
                <a:lnTo>
                  <a:pt x="806" y="392"/>
                </a:lnTo>
                <a:lnTo>
                  <a:pt x="808" y="379"/>
                </a:lnTo>
                <a:lnTo>
                  <a:pt x="812" y="363"/>
                </a:lnTo>
                <a:lnTo>
                  <a:pt x="816" y="348"/>
                </a:lnTo>
                <a:lnTo>
                  <a:pt x="820" y="331"/>
                </a:lnTo>
                <a:lnTo>
                  <a:pt x="822" y="315"/>
                </a:lnTo>
                <a:lnTo>
                  <a:pt x="825" y="302"/>
                </a:lnTo>
                <a:lnTo>
                  <a:pt x="827" y="288"/>
                </a:lnTo>
                <a:lnTo>
                  <a:pt x="829" y="275"/>
                </a:lnTo>
                <a:lnTo>
                  <a:pt x="831" y="265"/>
                </a:lnTo>
                <a:lnTo>
                  <a:pt x="833" y="254"/>
                </a:lnTo>
                <a:lnTo>
                  <a:pt x="835" y="244"/>
                </a:lnTo>
                <a:lnTo>
                  <a:pt x="835" y="235"/>
                </a:lnTo>
                <a:lnTo>
                  <a:pt x="837" y="227"/>
                </a:lnTo>
                <a:lnTo>
                  <a:pt x="837" y="221"/>
                </a:lnTo>
                <a:lnTo>
                  <a:pt x="837" y="213"/>
                </a:lnTo>
                <a:lnTo>
                  <a:pt x="837" y="208"/>
                </a:lnTo>
                <a:lnTo>
                  <a:pt x="837" y="204"/>
                </a:lnTo>
                <a:lnTo>
                  <a:pt x="837" y="198"/>
                </a:lnTo>
                <a:lnTo>
                  <a:pt x="835" y="196"/>
                </a:lnTo>
                <a:lnTo>
                  <a:pt x="833" y="192"/>
                </a:lnTo>
                <a:lnTo>
                  <a:pt x="827" y="188"/>
                </a:lnTo>
                <a:lnTo>
                  <a:pt x="822" y="185"/>
                </a:lnTo>
                <a:lnTo>
                  <a:pt x="814" y="183"/>
                </a:lnTo>
                <a:lnTo>
                  <a:pt x="804" y="181"/>
                </a:lnTo>
                <a:lnTo>
                  <a:pt x="795" y="179"/>
                </a:lnTo>
                <a:lnTo>
                  <a:pt x="783" y="179"/>
                </a:lnTo>
                <a:lnTo>
                  <a:pt x="770" y="179"/>
                </a:lnTo>
                <a:lnTo>
                  <a:pt x="756" y="179"/>
                </a:lnTo>
                <a:lnTo>
                  <a:pt x="743" y="183"/>
                </a:lnTo>
                <a:lnTo>
                  <a:pt x="726" y="187"/>
                </a:lnTo>
                <a:lnTo>
                  <a:pt x="718" y="188"/>
                </a:lnTo>
                <a:lnTo>
                  <a:pt x="708" y="190"/>
                </a:lnTo>
                <a:lnTo>
                  <a:pt x="699" y="190"/>
                </a:lnTo>
                <a:lnTo>
                  <a:pt x="687" y="192"/>
                </a:lnTo>
                <a:lnTo>
                  <a:pt x="676" y="194"/>
                </a:lnTo>
                <a:lnTo>
                  <a:pt x="664" y="194"/>
                </a:lnTo>
                <a:lnTo>
                  <a:pt x="653" y="196"/>
                </a:lnTo>
                <a:lnTo>
                  <a:pt x="639" y="198"/>
                </a:lnTo>
                <a:lnTo>
                  <a:pt x="626" y="200"/>
                </a:lnTo>
                <a:lnTo>
                  <a:pt x="612" y="202"/>
                </a:lnTo>
                <a:lnTo>
                  <a:pt x="597" y="204"/>
                </a:lnTo>
                <a:lnTo>
                  <a:pt x="580" y="206"/>
                </a:lnTo>
                <a:lnTo>
                  <a:pt x="572" y="208"/>
                </a:lnTo>
                <a:lnTo>
                  <a:pt x="563" y="210"/>
                </a:lnTo>
                <a:lnTo>
                  <a:pt x="553" y="210"/>
                </a:lnTo>
                <a:lnTo>
                  <a:pt x="541" y="212"/>
                </a:lnTo>
                <a:lnTo>
                  <a:pt x="530" y="213"/>
                </a:lnTo>
                <a:lnTo>
                  <a:pt x="518" y="215"/>
                </a:lnTo>
                <a:lnTo>
                  <a:pt x="507" y="217"/>
                </a:lnTo>
                <a:lnTo>
                  <a:pt x="493" y="219"/>
                </a:lnTo>
                <a:lnTo>
                  <a:pt x="480" y="221"/>
                </a:lnTo>
                <a:lnTo>
                  <a:pt x="465" y="223"/>
                </a:lnTo>
                <a:lnTo>
                  <a:pt x="449" y="225"/>
                </a:lnTo>
                <a:lnTo>
                  <a:pt x="434" y="227"/>
                </a:lnTo>
                <a:lnTo>
                  <a:pt x="419" y="229"/>
                </a:lnTo>
                <a:lnTo>
                  <a:pt x="401" y="233"/>
                </a:lnTo>
                <a:lnTo>
                  <a:pt x="384" y="235"/>
                </a:lnTo>
                <a:lnTo>
                  <a:pt x="367" y="236"/>
                </a:lnTo>
                <a:lnTo>
                  <a:pt x="348" y="240"/>
                </a:lnTo>
                <a:lnTo>
                  <a:pt x="328" y="242"/>
                </a:lnTo>
                <a:lnTo>
                  <a:pt x="307" y="244"/>
                </a:lnTo>
                <a:lnTo>
                  <a:pt x="288" y="248"/>
                </a:lnTo>
                <a:lnTo>
                  <a:pt x="267" y="250"/>
                </a:lnTo>
                <a:lnTo>
                  <a:pt x="246" y="254"/>
                </a:lnTo>
                <a:lnTo>
                  <a:pt x="223" y="258"/>
                </a:lnTo>
                <a:lnTo>
                  <a:pt x="200" y="259"/>
                </a:lnTo>
                <a:lnTo>
                  <a:pt x="177" y="263"/>
                </a:lnTo>
                <a:lnTo>
                  <a:pt x="154" y="267"/>
                </a:lnTo>
                <a:lnTo>
                  <a:pt x="129" y="271"/>
                </a:lnTo>
                <a:lnTo>
                  <a:pt x="104" y="273"/>
                </a:lnTo>
                <a:lnTo>
                  <a:pt x="79" y="277"/>
                </a:lnTo>
                <a:lnTo>
                  <a:pt x="54" y="281"/>
                </a:lnTo>
                <a:lnTo>
                  <a:pt x="27" y="284"/>
                </a:lnTo>
                <a:lnTo>
                  <a:pt x="0" y="288"/>
                </a:lnTo>
                <a:lnTo>
                  <a:pt x="0" y="235"/>
                </a:lnTo>
                <a:lnTo>
                  <a:pt x="0" y="179"/>
                </a:lnTo>
                <a:lnTo>
                  <a:pt x="4" y="179"/>
                </a:lnTo>
                <a:lnTo>
                  <a:pt x="8" y="179"/>
                </a:lnTo>
                <a:lnTo>
                  <a:pt x="14" y="177"/>
                </a:lnTo>
                <a:lnTo>
                  <a:pt x="19" y="177"/>
                </a:lnTo>
                <a:lnTo>
                  <a:pt x="27" y="177"/>
                </a:lnTo>
                <a:lnTo>
                  <a:pt x="33" y="175"/>
                </a:lnTo>
                <a:lnTo>
                  <a:pt x="40" y="175"/>
                </a:lnTo>
                <a:lnTo>
                  <a:pt x="50" y="173"/>
                </a:lnTo>
                <a:lnTo>
                  <a:pt x="60" y="173"/>
                </a:lnTo>
                <a:lnTo>
                  <a:pt x="69" y="171"/>
                </a:lnTo>
                <a:lnTo>
                  <a:pt x="79" y="169"/>
                </a:lnTo>
                <a:lnTo>
                  <a:pt x="90" y="167"/>
                </a:lnTo>
                <a:lnTo>
                  <a:pt x="102" y="165"/>
                </a:lnTo>
                <a:lnTo>
                  <a:pt x="115" y="164"/>
                </a:lnTo>
                <a:lnTo>
                  <a:pt x="129" y="162"/>
                </a:lnTo>
                <a:lnTo>
                  <a:pt x="142" y="160"/>
                </a:lnTo>
                <a:lnTo>
                  <a:pt x="156" y="158"/>
                </a:lnTo>
                <a:lnTo>
                  <a:pt x="171" y="156"/>
                </a:lnTo>
                <a:lnTo>
                  <a:pt x="188" y="152"/>
                </a:lnTo>
                <a:lnTo>
                  <a:pt x="204" y="150"/>
                </a:lnTo>
                <a:lnTo>
                  <a:pt x="221" y="148"/>
                </a:lnTo>
                <a:lnTo>
                  <a:pt x="238" y="144"/>
                </a:lnTo>
                <a:lnTo>
                  <a:pt x="257" y="142"/>
                </a:lnTo>
                <a:lnTo>
                  <a:pt x="277" y="139"/>
                </a:lnTo>
                <a:lnTo>
                  <a:pt x="296" y="135"/>
                </a:lnTo>
                <a:lnTo>
                  <a:pt x="317" y="131"/>
                </a:lnTo>
                <a:lnTo>
                  <a:pt x="338" y="129"/>
                </a:lnTo>
                <a:lnTo>
                  <a:pt x="361" y="125"/>
                </a:lnTo>
                <a:lnTo>
                  <a:pt x="382" y="121"/>
                </a:lnTo>
                <a:lnTo>
                  <a:pt x="405" y="117"/>
                </a:lnTo>
                <a:lnTo>
                  <a:pt x="430" y="114"/>
                </a:lnTo>
                <a:lnTo>
                  <a:pt x="455" y="110"/>
                </a:lnTo>
                <a:lnTo>
                  <a:pt x="478" y="106"/>
                </a:lnTo>
                <a:lnTo>
                  <a:pt x="499" y="102"/>
                </a:lnTo>
                <a:lnTo>
                  <a:pt x="522" y="98"/>
                </a:lnTo>
                <a:lnTo>
                  <a:pt x="543" y="94"/>
                </a:lnTo>
                <a:lnTo>
                  <a:pt x="564" y="91"/>
                </a:lnTo>
                <a:lnTo>
                  <a:pt x="584" y="89"/>
                </a:lnTo>
                <a:lnTo>
                  <a:pt x="603" y="85"/>
                </a:lnTo>
                <a:lnTo>
                  <a:pt x="622" y="81"/>
                </a:lnTo>
                <a:lnTo>
                  <a:pt x="639" y="77"/>
                </a:lnTo>
                <a:lnTo>
                  <a:pt x="658" y="75"/>
                </a:lnTo>
                <a:lnTo>
                  <a:pt x="674" y="71"/>
                </a:lnTo>
                <a:lnTo>
                  <a:pt x="691" y="69"/>
                </a:lnTo>
                <a:lnTo>
                  <a:pt x="706" y="66"/>
                </a:lnTo>
                <a:lnTo>
                  <a:pt x="720" y="64"/>
                </a:lnTo>
                <a:lnTo>
                  <a:pt x="733" y="60"/>
                </a:lnTo>
                <a:lnTo>
                  <a:pt x="747" y="58"/>
                </a:lnTo>
                <a:lnTo>
                  <a:pt x="760" y="56"/>
                </a:lnTo>
                <a:lnTo>
                  <a:pt x="772" y="52"/>
                </a:lnTo>
                <a:lnTo>
                  <a:pt x="783" y="50"/>
                </a:lnTo>
                <a:lnTo>
                  <a:pt x="795" y="48"/>
                </a:lnTo>
                <a:lnTo>
                  <a:pt x="804" y="46"/>
                </a:lnTo>
                <a:lnTo>
                  <a:pt x="814" y="45"/>
                </a:lnTo>
                <a:lnTo>
                  <a:pt x="822" y="43"/>
                </a:lnTo>
                <a:lnTo>
                  <a:pt x="831" y="41"/>
                </a:lnTo>
                <a:lnTo>
                  <a:pt x="837" y="39"/>
                </a:lnTo>
                <a:lnTo>
                  <a:pt x="845" y="37"/>
                </a:lnTo>
                <a:lnTo>
                  <a:pt x="850" y="35"/>
                </a:lnTo>
                <a:lnTo>
                  <a:pt x="856" y="33"/>
                </a:lnTo>
                <a:lnTo>
                  <a:pt x="860" y="31"/>
                </a:lnTo>
                <a:lnTo>
                  <a:pt x="864" y="29"/>
                </a:lnTo>
                <a:lnTo>
                  <a:pt x="868" y="29"/>
                </a:lnTo>
                <a:lnTo>
                  <a:pt x="872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82"/>
          <p:cNvSpPr/>
          <p:nvPr/>
        </p:nvSpPr>
        <p:spPr>
          <a:xfrm>
            <a:off x="5592600" y="2585880"/>
            <a:ext cx="239760" cy="492120"/>
          </a:xfrm>
          <a:custGeom>
            <a:avLst/>
            <a:gdLst/>
            <a:ahLst/>
            <a:rect l="l" t="t" r="r" b="b"/>
            <a:pathLst>
              <a:path w="303" h="620">
                <a:moveTo>
                  <a:pt x="202" y="455"/>
                </a:moveTo>
                <a:lnTo>
                  <a:pt x="190" y="474"/>
                </a:lnTo>
                <a:lnTo>
                  <a:pt x="181" y="494"/>
                </a:lnTo>
                <a:lnTo>
                  <a:pt x="171" y="511"/>
                </a:lnTo>
                <a:lnTo>
                  <a:pt x="161" y="526"/>
                </a:lnTo>
                <a:lnTo>
                  <a:pt x="154" y="542"/>
                </a:lnTo>
                <a:lnTo>
                  <a:pt x="146" y="555"/>
                </a:lnTo>
                <a:lnTo>
                  <a:pt x="140" y="566"/>
                </a:lnTo>
                <a:lnTo>
                  <a:pt x="133" y="578"/>
                </a:lnTo>
                <a:lnTo>
                  <a:pt x="127" y="588"/>
                </a:lnTo>
                <a:lnTo>
                  <a:pt x="123" y="595"/>
                </a:lnTo>
                <a:lnTo>
                  <a:pt x="117" y="603"/>
                </a:lnTo>
                <a:lnTo>
                  <a:pt x="113" y="609"/>
                </a:lnTo>
                <a:lnTo>
                  <a:pt x="110" y="614"/>
                </a:lnTo>
                <a:lnTo>
                  <a:pt x="108" y="616"/>
                </a:lnTo>
                <a:lnTo>
                  <a:pt x="104" y="618"/>
                </a:lnTo>
                <a:lnTo>
                  <a:pt x="102" y="620"/>
                </a:lnTo>
                <a:lnTo>
                  <a:pt x="96" y="618"/>
                </a:lnTo>
                <a:lnTo>
                  <a:pt x="90" y="616"/>
                </a:lnTo>
                <a:lnTo>
                  <a:pt x="83" y="613"/>
                </a:lnTo>
                <a:lnTo>
                  <a:pt x="79" y="611"/>
                </a:lnTo>
                <a:lnTo>
                  <a:pt x="75" y="607"/>
                </a:lnTo>
                <a:lnTo>
                  <a:pt x="69" y="603"/>
                </a:lnTo>
                <a:lnTo>
                  <a:pt x="65" y="599"/>
                </a:lnTo>
                <a:lnTo>
                  <a:pt x="62" y="595"/>
                </a:lnTo>
                <a:lnTo>
                  <a:pt x="56" y="590"/>
                </a:lnTo>
                <a:lnTo>
                  <a:pt x="52" y="586"/>
                </a:lnTo>
                <a:lnTo>
                  <a:pt x="48" y="578"/>
                </a:lnTo>
                <a:lnTo>
                  <a:pt x="42" y="572"/>
                </a:lnTo>
                <a:lnTo>
                  <a:pt x="39" y="565"/>
                </a:lnTo>
                <a:lnTo>
                  <a:pt x="29" y="549"/>
                </a:lnTo>
                <a:lnTo>
                  <a:pt x="21" y="536"/>
                </a:lnTo>
                <a:lnTo>
                  <a:pt x="16" y="522"/>
                </a:lnTo>
                <a:lnTo>
                  <a:pt x="10" y="511"/>
                </a:lnTo>
                <a:lnTo>
                  <a:pt x="6" y="499"/>
                </a:lnTo>
                <a:lnTo>
                  <a:pt x="2" y="490"/>
                </a:lnTo>
                <a:lnTo>
                  <a:pt x="0" y="478"/>
                </a:lnTo>
                <a:lnTo>
                  <a:pt x="0" y="469"/>
                </a:lnTo>
                <a:lnTo>
                  <a:pt x="0" y="465"/>
                </a:lnTo>
                <a:lnTo>
                  <a:pt x="2" y="461"/>
                </a:lnTo>
                <a:lnTo>
                  <a:pt x="2" y="457"/>
                </a:lnTo>
                <a:lnTo>
                  <a:pt x="6" y="453"/>
                </a:lnTo>
                <a:lnTo>
                  <a:pt x="8" y="447"/>
                </a:lnTo>
                <a:lnTo>
                  <a:pt x="12" y="442"/>
                </a:lnTo>
                <a:lnTo>
                  <a:pt x="16" y="434"/>
                </a:lnTo>
                <a:lnTo>
                  <a:pt x="19" y="426"/>
                </a:lnTo>
                <a:lnTo>
                  <a:pt x="25" y="419"/>
                </a:lnTo>
                <a:lnTo>
                  <a:pt x="31" y="411"/>
                </a:lnTo>
                <a:lnTo>
                  <a:pt x="37" y="401"/>
                </a:lnTo>
                <a:lnTo>
                  <a:pt x="42" y="392"/>
                </a:lnTo>
                <a:lnTo>
                  <a:pt x="50" y="380"/>
                </a:lnTo>
                <a:lnTo>
                  <a:pt x="58" y="369"/>
                </a:lnTo>
                <a:lnTo>
                  <a:pt x="67" y="357"/>
                </a:lnTo>
                <a:lnTo>
                  <a:pt x="77" y="344"/>
                </a:lnTo>
                <a:lnTo>
                  <a:pt x="90" y="323"/>
                </a:lnTo>
                <a:lnTo>
                  <a:pt x="104" y="300"/>
                </a:lnTo>
                <a:lnTo>
                  <a:pt x="117" y="275"/>
                </a:lnTo>
                <a:lnTo>
                  <a:pt x="129" y="250"/>
                </a:lnTo>
                <a:lnTo>
                  <a:pt x="135" y="236"/>
                </a:lnTo>
                <a:lnTo>
                  <a:pt x="140" y="221"/>
                </a:lnTo>
                <a:lnTo>
                  <a:pt x="146" y="208"/>
                </a:lnTo>
                <a:lnTo>
                  <a:pt x="150" y="192"/>
                </a:lnTo>
                <a:lnTo>
                  <a:pt x="156" y="175"/>
                </a:lnTo>
                <a:lnTo>
                  <a:pt x="158" y="160"/>
                </a:lnTo>
                <a:lnTo>
                  <a:pt x="161" y="142"/>
                </a:lnTo>
                <a:lnTo>
                  <a:pt x="165" y="125"/>
                </a:lnTo>
                <a:lnTo>
                  <a:pt x="167" y="110"/>
                </a:lnTo>
                <a:lnTo>
                  <a:pt x="169" y="94"/>
                </a:lnTo>
                <a:lnTo>
                  <a:pt x="173" y="83"/>
                </a:lnTo>
                <a:lnTo>
                  <a:pt x="175" y="69"/>
                </a:lnTo>
                <a:lnTo>
                  <a:pt x="179" y="60"/>
                </a:lnTo>
                <a:lnTo>
                  <a:pt x="183" y="48"/>
                </a:lnTo>
                <a:lnTo>
                  <a:pt x="186" y="39"/>
                </a:lnTo>
                <a:lnTo>
                  <a:pt x="190" y="31"/>
                </a:lnTo>
                <a:lnTo>
                  <a:pt x="192" y="23"/>
                </a:lnTo>
                <a:lnTo>
                  <a:pt x="196" y="18"/>
                </a:lnTo>
                <a:lnTo>
                  <a:pt x="200" y="12"/>
                </a:lnTo>
                <a:lnTo>
                  <a:pt x="204" y="8"/>
                </a:lnTo>
                <a:lnTo>
                  <a:pt x="206" y="4"/>
                </a:lnTo>
                <a:lnTo>
                  <a:pt x="209" y="2"/>
                </a:lnTo>
                <a:lnTo>
                  <a:pt x="211" y="0"/>
                </a:lnTo>
                <a:lnTo>
                  <a:pt x="215" y="0"/>
                </a:lnTo>
                <a:lnTo>
                  <a:pt x="217" y="0"/>
                </a:lnTo>
                <a:lnTo>
                  <a:pt x="221" y="2"/>
                </a:lnTo>
                <a:lnTo>
                  <a:pt x="223" y="4"/>
                </a:lnTo>
                <a:lnTo>
                  <a:pt x="227" y="6"/>
                </a:lnTo>
                <a:lnTo>
                  <a:pt x="231" y="8"/>
                </a:lnTo>
                <a:lnTo>
                  <a:pt x="234" y="12"/>
                </a:lnTo>
                <a:lnTo>
                  <a:pt x="238" y="16"/>
                </a:lnTo>
                <a:lnTo>
                  <a:pt x="242" y="21"/>
                </a:lnTo>
                <a:lnTo>
                  <a:pt x="246" y="27"/>
                </a:lnTo>
                <a:lnTo>
                  <a:pt x="250" y="33"/>
                </a:lnTo>
                <a:lnTo>
                  <a:pt x="255" y="39"/>
                </a:lnTo>
                <a:lnTo>
                  <a:pt x="259" y="46"/>
                </a:lnTo>
                <a:lnTo>
                  <a:pt x="263" y="54"/>
                </a:lnTo>
                <a:lnTo>
                  <a:pt x="269" y="64"/>
                </a:lnTo>
                <a:lnTo>
                  <a:pt x="273" y="73"/>
                </a:lnTo>
                <a:lnTo>
                  <a:pt x="279" y="83"/>
                </a:lnTo>
                <a:lnTo>
                  <a:pt x="280" y="96"/>
                </a:lnTo>
                <a:lnTo>
                  <a:pt x="282" y="108"/>
                </a:lnTo>
                <a:lnTo>
                  <a:pt x="284" y="119"/>
                </a:lnTo>
                <a:lnTo>
                  <a:pt x="286" y="129"/>
                </a:lnTo>
                <a:lnTo>
                  <a:pt x="290" y="140"/>
                </a:lnTo>
                <a:lnTo>
                  <a:pt x="292" y="150"/>
                </a:lnTo>
                <a:lnTo>
                  <a:pt x="296" y="169"/>
                </a:lnTo>
                <a:lnTo>
                  <a:pt x="298" y="186"/>
                </a:lnTo>
                <a:lnTo>
                  <a:pt x="302" y="202"/>
                </a:lnTo>
                <a:lnTo>
                  <a:pt x="302" y="219"/>
                </a:lnTo>
                <a:lnTo>
                  <a:pt x="303" y="234"/>
                </a:lnTo>
                <a:lnTo>
                  <a:pt x="303" y="242"/>
                </a:lnTo>
                <a:lnTo>
                  <a:pt x="302" y="252"/>
                </a:lnTo>
                <a:lnTo>
                  <a:pt x="300" y="259"/>
                </a:lnTo>
                <a:lnTo>
                  <a:pt x="296" y="271"/>
                </a:lnTo>
                <a:lnTo>
                  <a:pt x="292" y="280"/>
                </a:lnTo>
                <a:lnTo>
                  <a:pt x="288" y="292"/>
                </a:lnTo>
                <a:lnTo>
                  <a:pt x="282" y="305"/>
                </a:lnTo>
                <a:lnTo>
                  <a:pt x="277" y="319"/>
                </a:lnTo>
                <a:lnTo>
                  <a:pt x="269" y="332"/>
                </a:lnTo>
                <a:lnTo>
                  <a:pt x="261" y="348"/>
                </a:lnTo>
                <a:lnTo>
                  <a:pt x="254" y="363"/>
                </a:lnTo>
                <a:lnTo>
                  <a:pt x="244" y="378"/>
                </a:lnTo>
                <a:lnTo>
                  <a:pt x="234" y="396"/>
                </a:lnTo>
                <a:lnTo>
                  <a:pt x="225" y="415"/>
                </a:lnTo>
                <a:lnTo>
                  <a:pt x="213" y="434"/>
                </a:lnTo>
                <a:lnTo>
                  <a:pt x="202" y="4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83"/>
          <p:cNvSpPr/>
          <p:nvPr/>
        </p:nvSpPr>
        <p:spPr>
          <a:xfrm>
            <a:off x="6010200" y="2243160"/>
            <a:ext cx="297000" cy="285840"/>
          </a:xfrm>
          <a:custGeom>
            <a:avLst/>
            <a:gdLst/>
            <a:ahLst/>
            <a:rect l="l" t="t" r="r" b="b"/>
            <a:pathLst>
              <a:path w="374" h="361">
                <a:moveTo>
                  <a:pt x="4" y="20"/>
                </a:moveTo>
                <a:lnTo>
                  <a:pt x="10" y="14"/>
                </a:lnTo>
                <a:lnTo>
                  <a:pt x="17" y="10"/>
                </a:lnTo>
                <a:lnTo>
                  <a:pt x="21" y="8"/>
                </a:lnTo>
                <a:lnTo>
                  <a:pt x="25" y="6"/>
                </a:lnTo>
                <a:lnTo>
                  <a:pt x="31" y="4"/>
                </a:lnTo>
                <a:lnTo>
                  <a:pt x="37" y="2"/>
                </a:lnTo>
                <a:lnTo>
                  <a:pt x="42" y="0"/>
                </a:lnTo>
                <a:lnTo>
                  <a:pt x="48" y="0"/>
                </a:lnTo>
                <a:lnTo>
                  <a:pt x="56" y="0"/>
                </a:lnTo>
                <a:lnTo>
                  <a:pt x="65" y="0"/>
                </a:lnTo>
                <a:lnTo>
                  <a:pt x="73" y="0"/>
                </a:lnTo>
                <a:lnTo>
                  <a:pt x="83" y="2"/>
                </a:lnTo>
                <a:lnTo>
                  <a:pt x="94" y="4"/>
                </a:lnTo>
                <a:lnTo>
                  <a:pt x="106" y="6"/>
                </a:lnTo>
                <a:lnTo>
                  <a:pt x="125" y="12"/>
                </a:lnTo>
                <a:lnTo>
                  <a:pt x="142" y="18"/>
                </a:lnTo>
                <a:lnTo>
                  <a:pt x="161" y="25"/>
                </a:lnTo>
                <a:lnTo>
                  <a:pt x="181" y="33"/>
                </a:lnTo>
                <a:lnTo>
                  <a:pt x="200" y="41"/>
                </a:lnTo>
                <a:lnTo>
                  <a:pt x="219" y="48"/>
                </a:lnTo>
                <a:lnTo>
                  <a:pt x="238" y="56"/>
                </a:lnTo>
                <a:lnTo>
                  <a:pt x="257" y="62"/>
                </a:lnTo>
                <a:lnTo>
                  <a:pt x="284" y="81"/>
                </a:lnTo>
                <a:lnTo>
                  <a:pt x="298" y="92"/>
                </a:lnTo>
                <a:lnTo>
                  <a:pt x="311" y="104"/>
                </a:lnTo>
                <a:lnTo>
                  <a:pt x="325" y="116"/>
                </a:lnTo>
                <a:lnTo>
                  <a:pt x="336" y="129"/>
                </a:lnTo>
                <a:lnTo>
                  <a:pt x="348" y="142"/>
                </a:lnTo>
                <a:lnTo>
                  <a:pt x="357" y="158"/>
                </a:lnTo>
                <a:lnTo>
                  <a:pt x="363" y="171"/>
                </a:lnTo>
                <a:lnTo>
                  <a:pt x="367" y="187"/>
                </a:lnTo>
                <a:lnTo>
                  <a:pt x="371" y="200"/>
                </a:lnTo>
                <a:lnTo>
                  <a:pt x="372" y="211"/>
                </a:lnTo>
                <a:lnTo>
                  <a:pt x="374" y="225"/>
                </a:lnTo>
                <a:lnTo>
                  <a:pt x="374" y="238"/>
                </a:lnTo>
                <a:lnTo>
                  <a:pt x="374" y="246"/>
                </a:lnTo>
                <a:lnTo>
                  <a:pt x="374" y="252"/>
                </a:lnTo>
                <a:lnTo>
                  <a:pt x="372" y="259"/>
                </a:lnTo>
                <a:lnTo>
                  <a:pt x="371" y="267"/>
                </a:lnTo>
                <a:lnTo>
                  <a:pt x="365" y="283"/>
                </a:lnTo>
                <a:lnTo>
                  <a:pt x="361" y="296"/>
                </a:lnTo>
                <a:lnTo>
                  <a:pt x="355" y="307"/>
                </a:lnTo>
                <a:lnTo>
                  <a:pt x="349" y="319"/>
                </a:lnTo>
                <a:lnTo>
                  <a:pt x="344" y="329"/>
                </a:lnTo>
                <a:lnTo>
                  <a:pt x="336" y="336"/>
                </a:lnTo>
                <a:lnTo>
                  <a:pt x="328" y="344"/>
                </a:lnTo>
                <a:lnTo>
                  <a:pt x="321" y="350"/>
                </a:lnTo>
                <a:lnTo>
                  <a:pt x="315" y="354"/>
                </a:lnTo>
                <a:lnTo>
                  <a:pt x="309" y="357"/>
                </a:lnTo>
                <a:lnTo>
                  <a:pt x="303" y="359"/>
                </a:lnTo>
                <a:lnTo>
                  <a:pt x="296" y="361"/>
                </a:lnTo>
                <a:lnTo>
                  <a:pt x="290" y="359"/>
                </a:lnTo>
                <a:lnTo>
                  <a:pt x="282" y="359"/>
                </a:lnTo>
                <a:lnTo>
                  <a:pt x="273" y="355"/>
                </a:lnTo>
                <a:lnTo>
                  <a:pt x="265" y="352"/>
                </a:lnTo>
                <a:lnTo>
                  <a:pt x="255" y="346"/>
                </a:lnTo>
                <a:lnTo>
                  <a:pt x="246" y="340"/>
                </a:lnTo>
                <a:lnTo>
                  <a:pt x="236" y="332"/>
                </a:lnTo>
                <a:lnTo>
                  <a:pt x="225" y="325"/>
                </a:lnTo>
                <a:lnTo>
                  <a:pt x="215" y="315"/>
                </a:lnTo>
                <a:lnTo>
                  <a:pt x="204" y="306"/>
                </a:lnTo>
                <a:lnTo>
                  <a:pt x="192" y="294"/>
                </a:lnTo>
                <a:lnTo>
                  <a:pt x="181" y="281"/>
                </a:lnTo>
                <a:lnTo>
                  <a:pt x="167" y="267"/>
                </a:lnTo>
                <a:lnTo>
                  <a:pt x="154" y="256"/>
                </a:lnTo>
                <a:lnTo>
                  <a:pt x="142" y="244"/>
                </a:lnTo>
                <a:lnTo>
                  <a:pt x="129" y="231"/>
                </a:lnTo>
                <a:lnTo>
                  <a:pt x="117" y="219"/>
                </a:lnTo>
                <a:lnTo>
                  <a:pt x="106" y="208"/>
                </a:lnTo>
                <a:lnTo>
                  <a:pt x="96" y="198"/>
                </a:lnTo>
                <a:lnTo>
                  <a:pt x="86" y="187"/>
                </a:lnTo>
                <a:lnTo>
                  <a:pt x="77" y="175"/>
                </a:lnTo>
                <a:lnTo>
                  <a:pt x="69" y="165"/>
                </a:lnTo>
                <a:lnTo>
                  <a:pt x="60" y="154"/>
                </a:lnTo>
                <a:lnTo>
                  <a:pt x="54" y="144"/>
                </a:lnTo>
                <a:lnTo>
                  <a:pt x="46" y="133"/>
                </a:lnTo>
                <a:lnTo>
                  <a:pt x="40" y="123"/>
                </a:lnTo>
                <a:lnTo>
                  <a:pt x="35" y="112"/>
                </a:lnTo>
                <a:lnTo>
                  <a:pt x="29" y="102"/>
                </a:lnTo>
                <a:lnTo>
                  <a:pt x="21" y="87"/>
                </a:lnTo>
                <a:lnTo>
                  <a:pt x="14" y="73"/>
                </a:lnTo>
                <a:lnTo>
                  <a:pt x="8" y="62"/>
                </a:lnTo>
                <a:lnTo>
                  <a:pt x="2" y="50"/>
                </a:lnTo>
                <a:lnTo>
                  <a:pt x="0" y="41"/>
                </a:lnTo>
                <a:lnTo>
                  <a:pt x="0" y="37"/>
                </a:lnTo>
                <a:lnTo>
                  <a:pt x="0" y="33"/>
                </a:lnTo>
                <a:lnTo>
                  <a:pt x="0" y="29"/>
                </a:lnTo>
                <a:lnTo>
                  <a:pt x="0" y="25"/>
                </a:lnTo>
                <a:lnTo>
                  <a:pt x="2" y="21"/>
                </a:lnTo>
                <a:lnTo>
                  <a:pt x="4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4"/>
          <p:cNvSpPr/>
          <p:nvPr/>
        </p:nvSpPr>
        <p:spPr>
          <a:xfrm>
            <a:off x="2218680" y="2154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俊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114880" y="198900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4" name="组合 8"/>
          <p:cNvGrpSpPr/>
          <p:nvPr/>
        </p:nvGrpSpPr>
        <p:grpSpPr>
          <a:xfrm>
            <a:off x="1400040" y="3581280"/>
            <a:ext cx="2840040" cy="1569960"/>
            <a:chOff x="1400040" y="3581280"/>
            <a:chExt cx="2840040" cy="156996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581280"/>
              <a:ext cx="284004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矩形 2"/>
            <p:cNvSpPr/>
            <p:nvPr/>
          </p:nvSpPr>
          <p:spPr>
            <a:xfrm>
              <a:off x="1444680" y="4192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部长竖要垂直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矩形 3"/>
          <p:cNvSpPr/>
          <p:nvPr/>
        </p:nvSpPr>
        <p:spPr>
          <a:xfrm>
            <a:off x="2011320" y="1474920"/>
            <a:ext cx="12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ù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92"/>
          <p:cNvSpPr/>
          <p:nvPr/>
        </p:nvSpPr>
        <p:spPr>
          <a:xfrm>
            <a:off x="6380280" y="3584520"/>
            <a:ext cx="869760" cy="914400"/>
          </a:xfrm>
          <a:custGeom>
            <a:avLst/>
            <a:gdLst/>
            <a:ahLst/>
            <a:rect l="l" t="t" r="r" b="b"/>
            <a:pathLst>
              <a:path w="1094" h="1152">
                <a:moveTo>
                  <a:pt x="472" y="92"/>
                </a:moveTo>
                <a:lnTo>
                  <a:pt x="501" y="92"/>
                </a:lnTo>
                <a:lnTo>
                  <a:pt x="526" y="92"/>
                </a:lnTo>
                <a:lnTo>
                  <a:pt x="551" y="92"/>
                </a:lnTo>
                <a:lnTo>
                  <a:pt x="574" y="92"/>
                </a:lnTo>
                <a:lnTo>
                  <a:pt x="597" y="92"/>
                </a:lnTo>
                <a:lnTo>
                  <a:pt x="618" y="90"/>
                </a:lnTo>
                <a:lnTo>
                  <a:pt x="637" y="90"/>
                </a:lnTo>
                <a:lnTo>
                  <a:pt x="656" y="90"/>
                </a:lnTo>
                <a:lnTo>
                  <a:pt x="676" y="90"/>
                </a:lnTo>
                <a:lnTo>
                  <a:pt x="691" y="88"/>
                </a:lnTo>
                <a:lnTo>
                  <a:pt x="706" y="87"/>
                </a:lnTo>
                <a:lnTo>
                  <a:pt x="722" y="87"/>
                </a:lnTo>
                <a:lnTo>
                  <a:pt x="735" y="85"/>
                </a:lnTo>
                <a:lnTo>
                  <a:pt x="749" y="83"/>
                </a:lnTo>
                <a:lnTo>
                  <a:pt x="760" y="81"/>
                </a:lnTo>
                <a:lnTo>
                  <a:pt x="772" y="79"/>
                </a:lnTo>
                <a:lnTo>
                  <a:pt x="789" y="73"/>
                </a:lnTo>
                <a:lnTo>
                  <a:pt x="804" y="67"/>
                </a:lnTo>
                <a:lnTo>
                  <a:pt x="820" y="63"/>
                </a:lnTo>
                <a:lnTo>
                  <a:pt x="833" y="58"/>
                </a:lnTo>
                <a:lnTo>
                  <a:pt x="845" y="50"/>
                </a:lnTo>
                <a:lnTo>
                  <a:pt x="856" y="44"/>
                </a:lnTo>
                <a:lnTo>
                  <a:pt x="866" y="35"/>
                </a:lnTo>
                <a:lnTo>
                  <a:pt x="875" y="27"/>
                </a:lnTo>
                <a:lnTo>
                  <a:pt x="881" y="21"/>
                </a:lnTo>
                <a:lnTo>
                  <a:pt x="885" y="15"/>
                </a:lnTo>
                <a:lnTo>
                  <a:pt x="893" y="12"/>
                </a:lnTo>
                <a:lnTo>
                  <a:pt x="898" y="8"/>
                </a:lnTo>
                <a:lnTo>
                  <a:pt x="904" y="4"/>
                </a:lnTo>
                <a:lnTo>
                  <a:pt x="912" y="2"/>
                </a:lnTo>
                <a:lnTo>
                  <a:pt x="917" y="0"/>
                </a:lnTo>
                <a:lnTo>
                  <a:pt x="921" y="0"/>
                </a:lnTo>
                <a:lnTo>
                  <a:pt x="923" y="0"/>
                </a:lnTo>
                <a:lnTo>
                  <a:pt x="927" y="0"/>
                </a:lnTo>
                <a:lnTo>
                  <a:pt x="931" y="2"/>
                </a:lnTo>
                <a:lnTo>
                  <a:pt x="935" y="4"/>
                </a:lnTo>
                <a:lnTo>
                  <a:pt x="939" y="8"/>
                </a:lnTo>
                <a:lnTo>
                  <a:pt x="944" y="10"/>
                </a:lnTo>
                <a:lnTo>
                  <a:pt x="948" y="14"/>
                </a:lnTo>
                <a:lnTo>
                  <a:pt x="954" y="17"/>
                </a:lnTo>
                <a:lnTo>
                  <a:pt x="967" y="27"/>
                </a:lnTo>
                <a:lnTo>
                  <a:pt x="981" y="39"/>
                </a:lnTo>
                <a:lnTo>
                  <a:pt x="996" y="52"/>
                </a:lnTo>
                <a:lnTo>
                  <a:pt x="1013" y="65"/>
                </a:lnTo>
                <a:lnTo>
                  <a:pt x="1021" y="73"/>
                </a:lnTo>
                <a:lnTo>
                  <a:pt x="1029" y="81"/>
                </a:lnTo>
                <a:lnTo>
                  <a:pt x="1036" y="88"/>
                </a:lnTo>
                <a:lnTo>
                  <a:pt x="1044" y="94"/>
                </a:lnTo>
                <a:lnTo>
                  <a:pt x="1056" y="108"/>
                </a:lnTo>
                <a:lnTo>
                  <a:pt x="1067" y="121"/>
                </a:lnTo>
                <a:lnTo>
                  <a:pt x="1075" y="133"/>
                </a:lnTo>
                <a:lnTo>
                  <a:pt x="1083" y="142"/>
                </a:lnTo>
                <a:lnTo>
                  <a:pt x="1086" y="148"/>
                </a:lnTo>
                <a:lnTo>
                  <a:pt x="1088" y="152"/>
                </a:lnTo>
                <a:lnTo>
                  <a:pt x="1092" y="156"/>
                </a:lnTo>
                <a:lnTo>
                  <a:pt x="1094" y="158"/>
                </a:lnTo>
                <a:lnTo>
                  <a:pt x="1094" y="167"/>
                </a:lnTo>
                <a:lnTo>
                  <a:pt x="1092" y="177"/>
                </a:lnTo>
                <a:lnTo>
                  <a:pt x="1088" y="186"/>
                </a:lnTo>
                <a:lnTo>
                  <a:pt x="1086" y="196"/>
                </a:lnTo>
                <a:lnTo>
                  <a:pt x="1081" y="204"/>
                </a:lnTo>
                <a:lnTo>
                  <a:pt x="1075" y="211"/>
                </a:lnTo>
                <a:lnTo>
                  <a:pt x="1067" y="217"/>
                </a:lnTo>
                <a:lnTo>
                  <a:pt x="1060" y="223"/>
                </a:lnTo>
                <a:lnTo>
                  <a:pt x="1056" y="227"/>
                </a:lnTo>
                <a:lnTo>
                  <a:pt x="1050" y="230"/>
                </a:lnTo>
                <a:lnTo>
                  <a:pt x="1046" y="234"/>
                </a:lnTo>
                <a:lnTo>
                  <a:pt x="1042" y="240"/>
                </a:lnTo>
                <a:lnTo>
                  <a:pt x="1038" y="248"/>
                </a:lnTo>
                <a:lnTo>
                  <a:pt x="1033" y="253"/>
                </a:lnTo>
                <a:lnTo>
                  <a:pt x="1029" y="263"/>
                </a:lnTo>
                <a:lnTo>
                  <a:pt x="1023" y="273"/>
                </a:lnTo>
                <a:lnTo>
                  <a:pt x="1019" y="282"/>
                </a:lnTo>
                <a:lnTo>
                  <a:pt x="1013" y="294"/>
                </a:lnTo>
                <a:lnTo>
                  <a:pt x="1008" y="305"/>
                </a:lnTo>
                <a:lnTo>
                  <a:pt x="1002" y="319"/>
                </a:lnTo>
                <a:lnTo>
                  <a:pt x="996" y="332"/>
                </a:lnTo>
                <a:lnTo>
                  <a:pt x="990" y="348"/>
                </a:lnTo>
                <a:lnTo>
                  <a:pt x="985" y="365"/>
                </a:lnTo>
                <a:lnTo>
                  <a:pt x="979" y="380"/>
                </a:lnTo>
                <a:lnTo>
                  <a:pt x="965" y="417"/>
                </a:lnTo>
                <a:lnTo>
                  <a:pt x="950" y="451"/>
                </a:lnTo>
                <a:lnTo>
                  <a:pt x="935" y="490"/>
                </a:lnTo>
                <a:lnTo>
                  <a:pt x="917" y="528"/>
                </a:lnTo>
                <a:lnTo>
                  <a:pt x="898" y="568"/>
                </a:lnTo>
                <a:lnTo>
                  <a:pt x="877" y="609"/>
                </a:lnTo>
                <a:lnTo>
                  <a:pt x="854" y="653"/>
                </a:lnTo>
                <a:lnTo>
                  <a:pt x="843" y="674"/>
                </a:lnTo>
                <a:lnTo>
                  <a:pt x="829" y="697"/>
                </a:lnTo>
                <a:lnTo>
                  <a:pt x="814" y="718"/>
                </a:lnTo>
                <a:lnTo>
                  <a:pt x="798" y="739"/>
                </a:lnTo>
                <a:lnTo>
                  <a:pt x="781" y="760"/>
                </a:lnTo>
                <a:lnTo>
                  <a:pt x="764" y="779"/>
                </a:lnTo>
                <a:lnTo>
                  <a:pt x="747" y="799"/>
                </a:lnTo>
                <a:lnTo>
                  <a:pt x="729" y="818"/>
                </a:lnTo>
                <a:lnTo>
                  <a:pt x="710" y="837"/>
                </a:lnTo>
                <a:lnTo>
                  <a:pt x="689" y="854"/>
                </a:lnTo>
                <a:lnTo>
                  <a:pt x="670" y="872"/>
                </a:lnTo>
                <a:lnTo>
                  <a:pt x="649" y="889"/>
                </a:lnTo>
                <a:lnTo>
                  <a:pt x="628" y="906"/>
                </a:lnTo>
                <a:lnTo>
                  <a:pt x="605" y="923"/>
                </a:lnTo>
                <a:lnTo>
                  <a:pt x="582" y="939"/>
                </a:lnTo>
                <a:lnTo>
                  <a:pt x="557" y="954"/>
                </a:lnTo>
                <a:lnTo>
                  <a:pt x="532" y="969"/>
                </a:lnTo>
                <a:lnTo>
                  <a:pt x="507" y="985"/>
                </a:lnTo>
                <a:lnTo>
                  <a:pt x="482" y="1000"/>
                </a:lnTo>
                <a:lnTo>
                  <a:pt x="457" y="1014"/>
                </a:lnTo>
                <a:lnTo>
                  <a:pt x="432" y="1027"/>
                </a:lnTo>
                <a:lnTo>
                  <a:pt x="409" y="1039"/>
                </a:lnTo>
                <a:lnTo>
                  <a:pt x="384" y="1050"/>
                </a:lnTo>
                <a:lnTo>
                  <a:pt x="361" y="1062"/>
                </a:lnTo>
                <a:lnTo>
                  <a:pt x="338" y="1073"/>
                </a:lnTo>
                <a:lnTo>
                  <a:pt x="317" y="1083"/>
                </a:lnTo>
                <a:lnTo>
                  <a:pt x="294" y="1090"/>
                </a:lnTo>
                <a:lnTo>
                  <a:pt x="273" y="1098"/>
                </a:lnTo>
                <a:lnTo>
                  <a:pt x="251" y="1106"/>
                </a:lnTo>
                <a:lnTo>
                  <a:pt x="230" y="1112"/>
                </a:lnTo>
                <a:lnTo>
                  <a:pt x="209" y="1117"/>
                </a:lnTo>
                <a:lnTo>
                  <a:pt x="190" y="1123"/>
                </a:lnTo>
                <a:lnTo>
                  <a:pt x="169" y="1127"/>
                </a:lnTo>
                <a:lnTo>
                  <a:pt x="150" y="1129"/>
                </a:lnTo>
                <a:lnTo>
                  <a:pt x="130" y="1135"/>
                </a:lnTo>
                <a:lnTo>
                  <a:pt x="113" y="1138"/>
                </a:lnTo>
                <a:lnTo>
                  <a:pt x="98" y="1142"/>
                </a:lnTo>
                <a:lnTo>
                  <a:pt x="83" y="1144"/>
                </a:lnTo>
                <a:lnTo>
                  <a:pt x="69" y="1146"/>
                </a:lnTo>
                <a:lnTo>
                  <a:pt x="58" y="1148"/>
                </a:lnTo>
                <a:lnTo>
                  <a:pt x="46" y="1150"/>
                </a:lnTo>
                <a:lnTo>
                  <a:pt x="36" y="1150"/>
                </a:lnTo>
                <a:lnTo>
                  <a:pt x="29" y="1152"/>
                </a:lnTo>
                <a:lnTo>
                  <a:pt x="21" y="1150"/>
                </a:lnTo>
                <a:lnTo>
                  <a:pt x="13" y="1150"/>
                </a:lnTo>
                <a:lnTo>
                  <a:pt x="10" y="1150"/>
                </a:lnTo>
                <a:lnTo>
                  <a:pt x="6" y="1148"/>
                </a:lnTo>
                <a:lnTo>
                  <a:pt x="2" y="1146"/>
                </a:lnTo>
                <a:lnTo>
                  <a:pt x="2" y="1144"/>
                </a:lnTo>
                <a:lnTo>
                  <a:pt x="0" y="1142"/>
                </a:lnTo>
                <a:lnTo>
                  <a:pt x="2" y="1140"/>
                </a:lnTo>
                <a:lnTo>
                  <a:pt x="2" y="1136"/>
                </a:lnTo>
                <a:lnTo>
                  <a:pt x="6" y="1135"/>
                </a:lnTo>
                <a:lnTo>
                  <a:pt x="10" y="1131"/>
                </a:lnTo>
                <a:lnTo>
                  <a:pt x="13" y="1127"/>
                </a:lnTo>
                <a:lnTo>
                  <a:pt x="19" y="1123"/>
                </a:lnTo>
                <a:lnTo>
                  <a:pt x="27" y="1117"/>
                </a:lnTo>
                <a:lnTo>
                  <a:pt x="35" y="1113"/>
                </a:lnTo>
                <a:lnTo>
                  <a:pt x="44" y="1108"/>
                </a:lnTo>
                <a:lnTo>
                  <a:pt x="56" y="1102"/>
                </a:lnTo>
                <a:lnTo>
                  <a:pt x="65" y="1096"/>
                </a:lnTo>
                <a:lnTo>
                  <a:pt x="79" y="1090"/>
                </a:lnTo>
                <a:lnTo>
                  <a:pt x="92" y="1085"/>
                </a:lnTo>
                <a:lnTo>
                  <a:pt x="106" y="1077"/>
                </a:lnTo>
                <a:lnTo>
                  <a:pt x="123" y="1071"/>
                </a:lnTo>
                <a:lnTo>
                  <a:pt x="138" y="1064"/>
                </a:lnTo>
                <a:lnTo>
                  <a:pt x="155" y="1056"/>
                </a:lnTo>
                <a:lnTo>
                  <a:pt x="175" y="1046"/>
                </a:lnTo>
                <a:lnTo>
                  <a:pt x="192" y="1037"/>
                </a:lnTo>
                <a:lnTo>
                  <a:pt x="209" y="1027"/>
                </a:lnTo>
                <a:lnTo>
                  <a:pt x="228" y="1016"/>
                </a:lnTo>
                <a:lnTo>
                  <a:pt x="248" y="1004"/>
                </a:lnTo>
                <a:lnTo>
                  <a:pt x="267" y="991"/>
                </a:lnTo>
                <a:lnTo>
                  <a:pt x="288" y="979"/>
                </a:lnTo>
                <a:lnTo>
                  <a:pt x="307" y="964"/>
                </a:lnTo>
                <a:lnTo>
                  <a:pt x="328" y="950"/>
                </a:lnTo>
                <a:lnTo>
                  <a:pt x="349" y="935"/>
                </a:lnTo>
                <a:lnTo>
                  <a:pt x="370" y="920"/>
                </a:lnTo>
                <a:lnTo>
                  <a:pt x="393" y="904"/>
                </a:lnTo>
                <a:lnTo>
                  <a:pt x="415" y="887"/>
                </a:lnTo>
                <a:lnTo>
                  <a:pt x="438" y="872"/>
                </a:lnTo>
                <a:lnTo>
                  <a:pt x="461" y="854"/>
                </a:lnTo>
                <a:lnTo>
                  <a:pt x="484" y="835"/>
                </a:lnTo>
                <a:lnTo>
                  <a:pt x="507" y="818"/>
                </a:lnTo>
                <a:lnTo>
                  <a:pt x="528" y="799"/>
                </a:lnTo>
                <a:lnTo>
                  <a:pt x="549" y="779"/>
                </a:lnTo>
                <a:lnTo>
                  <a:pt x="570" y="758"/>
                </a:lnTo>
                <a:lnTo>
                  <a:pt x="589" y="737"/>
                </a:lnTo>
                <a:lnTo>
                  <a:pt x="608" y="716"/>
                </a:lnTo>
                <a:lnTo>
                  <a:pt x="626" y="693"/>
                </a:lnTo>
                <a:lnTo>
                  <a:pt x="645" y="670"/>
                </a:lnTo>
                <a:lnTo>
                  <a:pt x="660" y="647"/>
                </a:lnTo>
                <a:lnTo>
                  <a:pt x="678" y="622"/>
                </a:lnTo>
                <a:lnTo>
                  <a:pt x="693" y="597"/>
                </a:lnTo>
                <a:lnTo>
                  <a:pt x="708" y="570"/>
                </a:lnTo>
                <a:lnTo>
                  <a:pt x="722" y="543"/>
                </a:lnTo>
                <a:lnTo>
                  <a:pt x="735" y="515"/>
                </a:lnTo>
                <a:lnTo>
                  <a:pt x="749" y="486"/>
                </a:lnTo>
                <a:lnTo>
                  <a:pt x="760" y="459"/>
                </a:lnTo>
                <a:lnTo>
                  <a:pt x="774" y="434"/>
                </a:lnTo>
                <a:lnTo>
                  <a:pt x="783" y="411"/>
                </a:lnTo>
                <a:lnTo>
                  <a:pt x="793" y="388"/>
                </a:lnTo>
                <a:lnTo>
                  <a:pt x="802" y="367"/>
                </a:lnTo>
                <a:lnTo>
                  <a:pt x="810" y="346"/>
                </a:lnTo>
                <a:lnTo>
                  <a:pt x="818" y="326"/>
                </a:lnTo>
                <a:lnTo>
                  <a:pt x="825" y="309"/>
                </a:lnTo>
                <a:lnTo>
                  <a:pt x="829" y="294"/>
                </a:lnTo>
                <a:lnTo>
                  <a:pt x="835" y="280"/>
                </a:lnTo>
                <a:lnTo>
                  <a:pt x="839" y="267"/>
                </a:lnTo>
                <a:lnTo>
                  <a:pt x="841" y="255"/>
                </a:lnTo>
                <a:lnTo>
                  <a:pt x="843" y="244"/>
                </a:lnTo>
                <a:lnTo>
                  <a:pt x="843" y="236"/>
                </a:lnTo>
                <a:lnTo>
                  <a:pt x="843" y="229"/>
                </a:lnTo>
                <a:lnTo>
                  <a:pt x="841" y="223"/>
                </a:lnTo>
                <a:lnTo>
                  <a:pt x="839" y="221"/>
                </a:lnTo>
                <a:lnTo>
                  <a:pt x="837" y="219"/>
                </a:lnTo>
                <a:lnTo>
                  <a:pt x="835" y="217"/>
                </a:lnTo>
                <a:lnTo>
                  <a:pt x="831" y="213"/>
                </a:lnTo>
                <a:lnTo>
                  <a:pt x="827" y="213"/>
                </a:lnTo>
                <a:lnTo>
                  <a:pt x="822" y="211"/>
                </a:lnTo>
                <a:lnTo>
                  <a:pt x="818" y="209"/>
                </a:lnTo>
                <a:lnTo>
                  <a:pt x="810" y="207"/>
                </a:lnTo>
                <a:lnTo>
                  <a:pt x="804" y="207"/>
                </a:lnTo>
                <a:lnTo>
                  <a:pt x="797" y="206"/>
                </a:lnTo>
                <a:lnTo>
                  <a:pt x="789" y="204"/>
                </a:lnTo>
                <a:lnTo>
                  <a:pt x="779" y="204"/>
                </a:lnTo>
                <a:lnTo>
                  <a:pt x="772" y="204"/>
                </a:lnTo>
                <a:lnTo>
                  <a:pt x="760" y="202"/>
                </a:lnTo>
                <a:lnTo>
                  <a:pt x="750" y="202"/>
                </a:lnTo>
                <a:lnTo>
                  <a:pt x="739" y="202"/>
                </a:lnTo>
                <a:lnTo>
                  <a:pt x="727" y="202"/>
                </a:lnTo>
                <a:lnTo>
                  <a:pt x="714" y="202"/>
                </a:lnTo>
                <a:lnTo>
                  <a:pt x="701" y="202"/>
                </a:lnTo>
                <a:lnTo>
                  <a:pt x="687" y="202"/>
                </a:lnTo>
                <a:lnTo>
                  <a:pt x="674" y="202"/>
                </a:lnTo>
                <a:lnTo>
                  <a:pt x="658" y="202"/>
                </a:lnTo>
                <a:lnTo>
                  <a:pt x="641" y="202"/>
                </a:lnTo>
                <a:lnTo>
                  <a:pt x="626" y="202"/>
                </a:lnTo>
                <a:lnTo>
                  <a:pt x="608" y="204"/>
                </a:lnTo>
                <a:lnTo>
                  <a:pt x="591" y="204"/>
                </a:lnTo>
                <a:lnTo>
                  <a:pt x="572" y="206"/>
                </a:lnTo>
                <a:lnTo>
                  <a:pt x="555" y="206"/>
                </a:lnTo>
                <a:lnTo>
                  <a:pt x="536" y="206"/>
                </a:lnTo>
                <a:lnTo>
                  <a:pt x="514" y="207"/>
                </a:lnTo>
                <a:lnTo>
                  <a:pt x="493" y="209"/>
                </a:lnTo>
                <a:lnTo>
                  <a:pt x="472" y="209"/>
                </a:lnTo>
                <a:lnTo>
                  <a:pt x="472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93"/>
          <p:cNvSpPr/>
          <p:nvPr/>
        </p:nvSpPr>
        <p:spPr>
          <a:xfrm>
            <a:off x="6637320" y="3824280"/>
            <a:ext cx="1143000" cy="739800"/>
          </a:xfrm>
          <a:custGeom>
            <a:avLst/>
            <a:gdLst/>
            <a:ahLst/>
            <a:rect l="l" t="t" r="r" b="b"/>
            <a:pathLst>
              <a:path w="1440" h="933">
                <a:moveTo>
                  <a:pt x="933" y="933"/>
                </a:moveTo>
                <a:lnTo>
                  <a:pt x="922" y="930"/>
                </a:lnTo>
                <a:lnTo>
                  <a:pt x="910" y="926"/>
                </a:lnTo>
                <a:lnTo>
                  <a:pt x="899" y="922"/>
                </a:lnTo>
                <a:lnTo>
                  <a:pt x="885" y="916"/>
                </a:lnTo>
                <a:lnTo>
                  <a:pt x="872" y="908"/>
                </a:lnTo>
                <a:lnTo>
                  <a:pt x="858" y="901"/>
                </a:lnTo>
                <a:lnTo>
                  <a:pt x="845" y="891"/>
                </a:lnTo>
                <a:lnTo>
                  <a:pt x="830" y="882"/>
                </a:lnTo>
                <a:lnTo>
                  <a:pt x="814" y="870"/>
                </a:lnTo>
                <a:lnTo>
                  <a:pt x="797" y="857"/>
                </a:lnTo>
                <a:lnTo>
                  <a:pt x="782" y="843"/>
                </a:lnTo>
                <a:lnTo>
                  <a:pt x="764" y="826"/>
                </a:lnTo>
                <a:lnTo>
                  <a:pt x="747" y="811"/>
                </a:lnTo>
                <a:lnTo>
                  <a:pt x="730" y="791"/>
                </a:lnTo>
                <a:lnTo>
                  <a:pt x="711" y="770"/>
                </a:lnTo>
                <a:lnTo>
                  <a:pt x="691" y="749"/>
                </a:lnTo>
                <a:lnTo>
                  <a:pt x="680" y="739"/>
                </a:lnTo>
                <a:lnTo>
                  <a:pt x="668" y="728"/>
                </a:lnTo>
                <a:lnTo>
                  <a:pt x="657" y="716"/>
                </a:lnTo>
                <a:lnTo>
                  <a:pt x="643" y="705"/>
                </a:lnTo>
                <a:lnTo>
                  <a:pt x="630" y="691"/>
                </a:lnTo>
                <a:lnTo>
                  <a:pt x="615" y="678"/>
                </a:lnTo>
                <a:lnTo>
                  <a:pt x="599" y="663"/>
                </a:lnTo>
                <a:lnTo>
                  <a:pt x="584" y="647"/>
                </a:lnTo>
                <a:lnTo>
                  <a:pt x="567" y="632"/>
                </a:lnTo>
                <a:lnTo>
                  <a:pt x="549" y="617"/>
                </a:lnTo>
                <a:lnTo>
                  <a:pt x="532" y="599"/>
                </a:lnTo>
                <a:lnTo>
                  <a:pt x="513" y="580"/>
                </a:lnTo>
                <a:lnTo>
                  <a:pt x="494" y="563"/>
                </a:lnTo>
                <a:lnTo>
                  <a:pt x="473" y="544"/>
                </a:lnTo>
                <a:lnTo>
                  <a:pt x="453" y="523"/>
                </a:lnTo>
                <a:lnTo>
                  <a:pt x="432" y="501"/>
                </a:lnTo>
                <a:lnTo>
                  <a:pt x="409" y="480"/>
                </a:lnTo>
                <a:lnTo>
                  <a:pt x="386" y="459"/>
                </a:lnTo>
                <a:lnTo>
                  <a:pt x="363" y="436"/>
                </a:lnTo>
                <a:lnTo>
                  <a:pt x="340" y="411"/>
                </a:lnTo>
                <a:lnTo>
                  <a:pt x="315" y="388"/>
                </a:lnTo>
                <a:lnTo>
                  <a:pt x="290" y="361"/>
                </a:lnTo>
                <a:lnTo>
                  <a:pt x="263" y="336"/>
                </a:lnTo>
                <a:lnTo>
                  <a:pt x="237" y="310"/>
                </a:lnTo>
                <a:lnTo>
                  <a:pt x="210" y="283"/>
                </a:lnTo>
                <a:lnTo>
                  <a:pt x="181" y="254"/>
                </a:lnTo>
                <a:lnTo>
                  <a:pt x="154" y="225"/>
                </a:lnTo>
                <a:lnTo>
                  <a:pt x="123" y="194"/>
                </a:lnTo>
                <a:lnTo>
                  <a:pt x="94" y="164"/>
                </a:lnTo>
                <a:lnTo>
                  <a:pt x="64" y="131"/>
                </a:lnTo>
                <a:lnTo>
                  <a:pt x="33" y="100"/>
                </a:lnTo>
                <a:lnTo>
                  <a:pt x="0" y="66"/>
                </a:lnTo>
                <a:lnTo>
                  <a:pt x="18" y="33"/>
                </a:lnTo>
                <a:lnTo>
                  <a:pt x="35" y="0"/>
                </a:lnTo>
                <a:lnTo>
                  <a:pt x="71" y="35"/>
                </a:lnTo>
                <a:lnTo>
                  <a:pt x="106" y="68"/>
                </a:lnTo>
                <a:lnTo>
                  <a:pt x="141" y="100"/>
                </a:lnTo>
                <a:lnTo>
                  <a:pt x="175" y="129"/>
                </a:lnTo>
                <a:lnTo>
                  <a:pt x="208" y="158"/>
                </a:lnTo>
                <a:lnTo>
                  <a:pt x="240" y="187"/>
                </a:lnTo>
                <a:lnTo>
                  <a:pt x="271" y="212"/>
                </a:lnTo>
                <a:lnTo>
                  <a:pt x="302" y="238"/>
                </a:lnTo>
                <a:lnTo>
                  <a:pt x="333" y="262"/>
                </a:lnTo>
                <a:lnTo>
                  <a:pt x="361" y="285"/>
                </a:lnTo>
                <a:lnTo>
                  <a:pt x="390" y="306"/>
                </a:lnTo>
                <a:lnTo>
                  <a:pt x="417" y="325"/>
                </a:lnTo>
                <a:lnTo>
                  <a:pt x="444" y="344"/>
                </a:lnTo>
                <a:lnTo>
                  <a:pt x="471" y="363"/>
                </a:lnTo>
                <a:lnTo>
                  <a:pt x="496" y="379"/>
                </a:lnTo>
                <a:lnTo>
                  <a:pt x="519" y="396"/>
                </a:lnTo>
                <a:lnTo>
                  <a:pt x="542" y="411"/>
                </a:lnTo>
                <a:lnTo>
                  <a:pt x="567" y="429"/>
                </a:lnTo>
                <a:lnTo>
                  <a:pt x="590" y="444"/>
                </a:lnTo>
                <a:lnTo>
                  <a:pt x="613" y="459"/>
                </a:lnTo>
                <a:lnTo>
                  <a:pt x="638" y="475"/>
                </a:lnTo>
                <a:lnTo>
                  <a:pt x="661" y="488"/>
                </a:lnTo>
                <a:lnTo>
                  <a:pt x="686" y="501"/>
                </a:lnTo>
                <a:lnTo>
                  <a:pt x="709" y="515"/>
                </a:lnTo>
                <a:lnTo>
                  <a:pt x="757" y="540"/>
                </a:lnTo>
                <a:lnTo>
                  <a:pt x="805" y="563"/>
                </a:lnTo>
                <a:lnTo>
                  <a:pt x="851" y="584"/>
                </a:lnTo>
                <a:lnTo>
                  <a:pt x="899" y="605"/>
                </a:lnTo>
                <a:lnTo>
                  <a:pt x="922" y="617"/>
                </a:lnTo>
                <a:lnTo>
                  <a:pt x="947" y="628"/>
                </a:lnTo>
                <a:lnTo>
                  <a:pt x="970" y="640"/>
                </a:lnTo>
                <a:lnTo>
                  <a:pt x="993" y="649"/>
                </a:lnTo>
                <a:lnTo>
                  <a:pt x="1018" y="659"/>
                </a:lnTo>
                <a:lnTo>
                  <a:pt x="1041" y="668"/>
                </a:lnTo>
                <a:lnTo>
                  <a:pt x="1064" y="678"/>
                </a:lnTo>
                <a:lnTo>
                  <a:pt x="1087" y="686"/>
                </a:lnTo>
                <a:lnTo>
                  <a:pt x="1133" y="701"/>
                </a:lnTo>
                <a:lnTo>
                  <a:pt x="1179" y="715"/>
                </a:lnTo>
                <a:lnTo>
                  <a:pt x="1223" y="726"/>
                </a:lnTo>
                <a:lnTo>
                  <a:pt x="1267" y="736"/>
                </a:lnTo>
                <a:lnTo>
                  <a:pt x="1288" y="741"/>
                </a:lnTo>
                <a:lnTo>
                  <a:pt x="1308" y="745"/>
                </a:lnTo>
                <a:lnTo>
                  <a:pt x="1325" y="751"/>
                </a:lnTo>
                <a:lnTo>
                  <a:pt x="1342" y="757"/>
                </a:lnTo>
                <a:lnTo>
                  <a:pt x="1358" y="761"/>
                </a:lnTo>
                <a:lnTo>
                  <a:pt x="1373" y="766"/>
                </a:lnTo>
                <a:lnTo>
                  <a:pt x="1384" y="770"/>
                </a:lnTo>
                <a:lnTo>
                  <a:pt x="1396" y="776"/>
                </a:lnTo>
                <a:lnTo>
                  <a:pt x="1407" y="782"/>
                </a:lnTo>
                <a:lnTo>
                  <a:pt x="1415" y="786"/>
                </a:lnTo>
                <a:lnTo>
                  <a:pt x="1423" y="791"/>
                </a:lnTo>
                <a:lnTo>
                  <a:pt x="1429" y="795"/>
                </a:lnTo>
                <a:lnTo>
                  <a:pt x="1434" y="801"/>
                </a:lnTo>
                <a:lnTo>
                  <a:pt x="1436" y="805"/>
                </a:lnTo>
                <a:lnTo>
                  <a:pt x="1438" y="811"/>
                </a:lnTo>
                <a:lnTo>
                  <a:pt x="1440" y="814"/>
                </a:lnTo>
                <a:lnTo>
                  <a:pt x="1438" y="820"/>
                </a:lnTo>
                <a:lnTo>
                  <a:pt x="1436" y="824"/>
                </a:lnTo>
                <a:lnTo>
                  <a:pt x="1432" y="830"/>
                </a:lnTo>
                <a:lnTo>
                  <a:pt x="1427" y="835"/>
                </a:lnTo>
                <a:lnTo>
                  <a:pt x="1419" y="839"/>
                </a:lnTo>
                <a:lnTo>
                  <a:pt x="1411" y="845"/>
                </a:lnTo>
                <a:lnTo>
                  <a:pt x="1400" y="849"/>
                </a:lnTo>
                <a:lnTo>
                  <a:pt x="1388" y="855"/>
                </a:lnTo>
                <a:lnTo>
                  <a:pt x="1375" y="858"/>
                </a:lnTo>
                <a:lnTo>
                  <a:pt x="1359" y="864"/>
                </a:lnTo>
                <a:lnTo>
                  <a:pt x="1342" y="870"/>
                </a:lnTo>
                <a:lnTo>
                  <a:pt x="1323" y="874"/>
                </a:lnTo>
                <a:lnTo>
                  <a:pt x="1304" y="880"/>
                </a:lnTo>
                <a:lnTo>
                  <a:pt x="1281" y="883"/>
                </a:lnTo>
                <a:lnTo>
                  <a:pt x="1258" y="889"/>
                </a:lnTo>
                <a:lnTo>
                  <a:pt x="1233" y="895"/>
                </a:lnTo>
                <a:lnTo>
                  <a:pt x="1208" y="899"/>
                </a:lnTo>
                <a:lnTo>
                  <a:pt x="1183" y="903"/>
                </a:lnTo>
                <a:lnTo>
                  <a:pt x="1158" y="908"/>
                </a:lnTo>
                <a:lnTo>
                  <a:pt x="1135" y="912"/>
                </a:lnTo>
                <a:lnTo>
                  <a:pt x="1114" y="914"/>
                </a:lnTo>
                <a:lnTo>
                  <a:pt x="1093" y="918"/>
                </a:lnTo>
                <a:lnTo>
                  <a:pt x="1072" y="922"/>
                </a:lnTo>
                <a:lnTo>
                  <a:pt x="1052" y="924"/>
                </a:lnTo>
                <a:lnTo>
                  <a:pt x="1035" y="926"/>
                </a:lnTo>
                <a:lnTo>
                  <a:pt x="1018" y="928"/>
                </a:lnTo>
                <a:lnTo>
                  <a:pt x="1000" y="930"/>
                </a:lnTo>
                <a:lnTo>
                  <a:pt x="985" y="931"/>
                </a:lnTo>
                <a:lnTo>
                  <a:pt x="970" y="931"/>
                </a:lnTo>
                <a:lnTo>
                  <a:pt x="956" y="933"/>
                </a:lnTo>
                <a:lnTo>
                  <a:pt x="945" y="933"/>
                </a:lnTo>
                <a:lnTo>
                  <a:pt x="933" y="9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94"/>
          <p:cNvSpPr/>
          <p:nvPr/>
        </p:nvSpPr>
        <p:spPr>
          <a:xfrm>
            <a:off x="6170760" y="3449520"/>
            <a:ext cx="733320" cy="898560"/>
          </a:xfrm>
          <a:custGeom>
            <a:avLst/>
            <a:gdLst/>
            <a:ahLst/>
            <a:rect l="l" t="t" r="r" b="b"/>
            <a:pathLst>
              <a:path w="923" h="1133">
                <a:moveTo>
                  <a:pt x="714" y="66"/>
                </a:moveTo>
                <a:lnTo>
                  <a:pt x="710" y="58"/>
                </a:lnTo>
                <a:lnTo>
                  <a:pt x="708" y="52"/>
                </a:lnTo>
                <a:lnTo>
                  <a:pt x="705" y="46"/>
                </a:lnTo>
                <a:lnTo>
                  <a:pt x="705" y="41"/>
                </a:lnTo>
                <a:lnTo>
                  <a:pt x="703" y="35"/>
                </a:lnTo>
                <a:lnTo>
                  <a:pt x="703" y="31"/>
                </a:lnTo>
                <a:lnTo>
                  <a:pt x="703" y="27"/>
                </a:lnTo>
                <a:lnTo>
                  <a:pt x="705" y="23"/>
                </a:lnTo>
                <a:lnTo>
                  <a:pt x="706" y="19"/>
                </a:lnTo>
                <a:lnTo>
                  <a:pt x="708" y="16"/>
                </a:lnTo>
                <a:lnTo>
                  <a:pt x="712" y="14"/>
                </a:lnTo>
                <a:lnTo>
                  <a:pt x="716" y="10"/>
                </a:lnTo>
                <a:lnTo>
                  <a:pt x="720" y="8"/>
                </a:lnTo>
                <a:lnTo>
                  <a:pt x="726" y="4"/>
                </a:lnTo>
                <a:lnTo>
                  <a:pt x="731" y="2"/>
                </a:lnTo>
                <a:lnTo>
                  <a:pt x="737" y="0"/>
                </a:lnTo>
                <a:lnTo>
                  <a:pt x="751" y="0"/>
                </a:lnTo>
                <a:lnTo>
                  <a:pt x="766" y="2"/>
                </a:lnTo>
                <a:lnTo>
                  <a:pt x="779" y="6"/>
                </a:lnTo>
                <a:lnTo>
                  <a:pt x="795" y="10"/>
                </a:lnTo>
                <a:lnTo>
                  <a:pt x="810" y="16"/>
                </a:lnTo>
                <a:lnTo>
                  <a:pt x="825" y="21"/>
                </a:lnTo>
                <a:lnTo>
                  <a:pt x="839" y="31"/>
                </a:lnTo>
                <a:lnTo>
                  <a:pt x="852" y="41"/>
                </a:lnTo>
                <a:lnTo>
                  <a:pt x="866" y="54"/>
                </a:lnTo>
                <a:lnTo>
                  <a:pt x="877" y="67"/>
                </a:lnTo>
                <a:lnTo>
                  <a:pt x="887" y="79"/>
                </a:lnTo>
                <a:lnTo>
                  <a:pt x="896" y="89"/>
                </a:lnTo>
                <a:lnTo>
                  <a:pt x="904" y="98"/>
                </a:lnTo>
                <a:lnTo>
                  <a:pt x="912" y="106"/>
                </a:lnTo>
                <a:lnTo>
                  <a:pt x="918" y="114"/>
                </a:lnTo>
                <a:lnTo>
                  <a:pt x="921" y="119"/>
                </a:lnTo>
                <a:lnTo>
                  <a:pt x="923" y="123"/>
                </a:lnTo>
                <a:lnTo>
                  <a:pt x="923" y="131"/>
                </a:lnTo>
                <a:lnTo>
                  <a:pt x="923" y="137"/>
                </a:lnTo>
                <a:lnTo>
                  <a:pt x="921" y="146"/>
                </a:lnTo>
                <a:lnTo>
                  <a:pt x="920" y="156"/>
                </a:lnTo>
                <a:lnTo>
                  <a:pt x="916" y="165"/>
                </a:lnTo>
                <a:lnTo>
                  <a:pt x="912" y="177"/>
                </a:lnTo>
                <a:lnTo>
                  <a:pt x="906" y="188"/>
                </a:lnTo>
                <a:lnTo>
                  <a:pt x="900" y="202"/>
                </a:lnTo>
                <a:lnTo>
                  <a:pt x="895" y="217"/>
                </a:lnTo>
                <a:lnTo>
                  <a:pt x="887" y="233"/>
                </a:lnTo>
                <a:lnTo>
                  <a:pt x="879" y="250"/>
                </a:lnTo>
                <a:lnTo>
                  <a:pt x="872" y="267"/>
                </a:lnTo>
                <a:lnTo>
                  <a:pt x="862" y="286"/>
                </a:lnTo>
                <a:lnTo>
                  <a:pt x="852" y="307"/>
                </a:lnTo>
                <a:lnTo>
                  <a:pt x="841" y="329"/>
                </a:lnTo>
                <a:lnTo>
                  <a:pt x="827" y="352"/>
                </a:lnTo>
                <a:lnTo>
                  <a:pt x="814" y="373"/>
                </a:lnTo>
                <a:lnTo>
                  <a:pt x="801" y="396"/>
                </a:lnTo>
                <a:lnTo>
                  <a:pt x="785" y="417"/>
                </a:lnTo>
                <a:lnTo>
                  <a:pt x="770" y="440"/>
                </a:lnTo>
                <a:lnTo>
                  <a:pt x="754" y="463"/>
                </a:lnTo>
                <a:lnTo>
                  <a:pt x="722" y="507"/>
                </a:lnTo>
                <a:lnTo>
                  <a:pt x="687" y="553"/>
                </a:lnTo>
                <a:lnTo>
                  <a:pt x="651" y="599"/>
                </a:lnTo>
                <a:lnTo>
                  <a:pt x="614" y="647"/>
                </a:lnTo>
                <a:lnTo>
                  <a:pt x="576" y="697"/>
                </a:lnTo>
                <a:lnTo>
                  <a:pt x="557" y="720"/>
                </a:lnTo>
                <a:lnTo>
                  <a:pt x="538" y="745"/>
                </a:lnTo>
                <a:lnTo>
                  <a:pt x="516" y="768"/>
                </a:lnTo>
                <a:lnTo>
                  <a:pt x="495" y="791"/>
                </a:lnTo>
                <a:lnTo>
                  <a:pt x="474" y="812"/>
                </a:lnTo>
                <a:lnTo>
                  <a:pt x="451" y="833"/>
                </a:lnTo>
                <a:lnTo>
                  <a:pt x="428" y="854"/>
                </a:lnTo>
                <a:lnTo>
                  <a:pt x="405" y="876"/>
                </a:lnTo>
                <a:lnTo>
                  <a:pt x="357" y="914"/>
                </a:lnTo>
                <a:lnTo>
                  <a:pt x="309" y="952"/>
                </a:lnTo>
                <a:lnTo>
                  <a:pt x="259" y="989"/>
                </a:lnTo>
                <a:lnTo>
                  <a:pt x="207" y="1025"/>
                </a:lnTo>
                <a:lnTo>
                  <a:pt x="182" y="1041"/>
                </a:lnTo>
                <a:lnTo>
                  <a:pt x="159" y="1056"/>
                </a:lnTo>
                <a:lnTo>
                  <a:pt x="138" y="1069"/>
                </a:lnTo>
                <a:lnTo>
                  <a:pt x="117" y="1081"/>
                </a:lnTo>
                <a:lnTo>
                  <a:pt x="100" y="1092"/>
                </a:lnTo>
                <a:lnTo>
                  <a:pt x="83" y="1102"/>
                </a:lnTo>
                <a:lnTo>
                  <a:pt x="67" y="1110"/>
                </a:lnTo>
                <a:lnTo>
                  <a:pt x="54" y="1117"/>
                </a:lnTo>
                <a:lnTo>
                  <a:pt x="40" y="1121"/>
                </a:lnTo>
                <a:lnTo>
                  <a:pt x="31" y="1127"/>
                </a:lnTo>
                <a:lnTo>
                  <a:pt x="21" y="1129"/>
                </a:lnTo>
                <a:lnTo>
                  <a:pt x="14" y="1131"/>
                </a:lnTo>
                <a:lnTo>
                  <a:pt x="8" y="1133"/>
                </a:lnTo>
                <a:lnTo>
                  <a:pt x="4" y="1133"/>
                </a:lnTo>
                <a:lnTo>
                  <a:pt x="2" y="1131"/>
                </a:lnTo>
                <a:lnTo>
                  <a:pt x="2" y="1129"/>
                </a:lnTo>
                <a:lnTo>
                  <a:pt x="0" y="1129"/>
                </a:lnTo>
                <a:lnTo>
                  <a:pt x="0" y="1127"/>
                </a:lnTo>
                <a:lnTo>
                  <a:pt x="0" y="1123"/>
                </a:lnTo>
                <a:lnTo>
                  <a:pt x="2" y="1121"/>
                </a:lnTo>
                <a:lnTo>
                  <a:pt x="2" y="1119"/>
                </a:lnTo>
                <a:lnTo>
                  <a:pt x="4" y="1116"/>
                </a:lnTo>
                <a:lnTo>
                  <a:pt x="6" y="1112"/>
                </a:lnTo>
                <a:lnTo>
                  <a:pt x="10" y="1108"/>
                </a:lnTo>
                <a:lnTo>
                  <a:pt x="14" y="1104"/>
                </a:lnTo>
                <a:lnTo>
                  <a:pt x="17" y="1098"/>
                </a:lnTo>
                <a:lnTo>
                  <a:pt x="21" y="1092"/>
                </a:lnTo>
                <a:lnTo>
                  <a:pt x="27" y="1089"/>
                </a:lnTo>
                <a:lnTo>
                  <a:pt x="31" y="1083"/>
                </a:lnTo>
                <a:lnTo>
                  <a:pt x="37" y="1075"/>
                </a:lnTo>
                <a:lnTo>
                  <a:pt x="50" y="1062"/>
                </a:lnTo>
                <a:lnTo>
                  <a:pt x="65" y="1048"/>
                </a:lnTo>
                <a:lnTo>
                  <a:pt x="83" y="1031"/>
                </a:lnTo>
                <a:lnTo>
                  <a:pt x="100" y="1014"/>
                </a:lnTo>
                <a:lnTo>
                  <a:pt x="121" y="995"/>
                </a:lnTo>
                <a:lnTo>
                  <a:pt x="144" y="975"/>
                </a:lnTo>
                <a:lnTo>
                  <a:pt x="167" y="954"/>
                </a:lnTo>
                <a:lnTo>
                  <a:pt x="192" y="931"/>
                </a:lnTo>
                <a:lnTo>
                  <a:pt x="219" y="906"/>
                </a:lnTo>
                <a:lnTo>
                  <a:pt x="248" y="881"/>
                </a:lnTo>
                <a:lnTo>
                  <a:pt x="275" y="854"/>
                </a:lnTo>
                <a:lnTo>
                  <a:pt x="301" y="828"/>
                </a:lnTo>
                <a:lnTo>
                  <a:pt x="326" y="801"/>
                </a:lnTo>
                <a:lnTo>
                  <a:pt x="353" y="772"/>
                </a:lnTo>
                <a:lnTo>
                  <a:pt x="378" y="741"/>
                </a:lnTo>
                <a:lnTo>
                  <a:pt x="403" y="712"/>
                </a:lnTo>
                <a:lnTo>
                  <a:pt x="426" y="682"/>
                </a:lnTo>
                <a:lnTo>
                  <a:pt x="451" y="649"/>
                </a:lnTo>
                <a:lnTo>
                  <a:pt x="474" y="616"/>
                </a:lnTo>
                <a:lnTo>
                  <a:pt x="495" y="584"/>
                </a:lnTo>
                <a:lnTo>
                  <a:pt x="518" y="549"/>
                </a:lnTo>
                <a:lnTo>
                  <a:pt x="539" y="515"/>
                </a:lnTo>
                <a:lnTo>
                  <a:pt x="561" y="480"/>
                </a:lnTo>
                <a:lnTo>
                  <a:pt x="580" y="444"/>
                </a:lnTo>
                <a:lnTo>
                  <a:pt x="599" y="407"/>
                </a:lnTo>
                <a:lnTo>
                  <a:pt x="609" y="388"/>
                </a:lnTo>
                <a:lnTo>
                  <a:pt x="618" y="371"/>
                </a:lnTo>
                <a:lnTo>
                  <a:pt x="626" y="353"/>
                </a:lnTo>
                <a:lnTo>
                  <a:pt x="635" y="336"/>
                </a:lnTo>
                <a:lnTo>
                  <a:pt x="643" y="321"/>
                </a:lnTo>
                <a:lnTo>
                  <a:pt x="651" y="304"/>
                </a:lnTo>
                <a:lnTo>
                  <a:pt x="658" y="288"/>
                </a:lnTo>
                <a:lnTo>
                  <a:pt x="666" y="275"/>
                </a:lnTo>
                <a:lnTo>
                  <a:pt x="672" y="259"/>
                </a:lnTo>
                <a:lnTo>
                  <a:pt x="678" y="246"/>
                </a:lnTo>
                <a:lnTo>
                  <a:pt x="683" y="233"/>
                </a:lnTo>
                <a:lnTo>
                  <a:pt x="689" y="219"/>
                </a:lnTo>
                <a:lnTo>
                  <a:pt x="695" y="208"/>
                </a:lnTo>
                <a:lnTo>
                  <a:pt x="699" y="194"/>
                </a:lnTo>
                <a:lnTo>
                  <a:pt x="705" y="183"/>
                </a:lnTo>
                <a:lnTo>
                  <a:pt x="708" y="173"/>
                </a:lnTo>
                <a:lnTo>
                  <a:pt x="712" y="162"/>
                </a:lnTo>
                <a:lnTo>
                  <a:pt x="714" y="152"/>
                </a:lnTo>
                <a:lnTo>
                  <a:pt x="718" y="142"/>
                </a:lnTo>
                <a:lnTo>
                  <a:pt x="720" y="133"/>
                </a:lnTo>
                <a:lnTo>
                  <a:pt x="722" y="125"/>
                </a:lnTo>
                <a:lnTo>
                  <a:pt x="724" y="117"/>
                </a:lnTo>
                <a:lnTo>
                  <a:pt x="724" y="110"/>
                </a:lnTo>
                <a:lnTo>
                  <a:pt x="726" y="102"/>
                </a:lnTo>
                <a:lnTo>
                  <a:pt x="726" y="96"/>
                </a:lnTo>
                <a:lnTo>
                  <a:pt x="726" y="91"/>
                </a:lnTo>
                <a:lnTo>
                  <a:pt x="726" y="85"/>
                </a:lnTo>
                <a:lnTo>
                  <a:pt x="724" y="79"/>
                </a:lnTo>
                <a:lnTo>
                  <a:pt x="722" y="75"/>
                </a:lnTo>
                <a:lnTo>
                  <a:pt x="720" y="71"/>
                </a:lnTo>
                <a:lnTo>
                  <a:pt x="718" y="67"/>
                </a:lnTo>
                <a:lnTo>
                  <a:pt x="714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95"/>
          <p:cNvSpPr/>
          <p:nvPr/>
        </p:nvSpPr>
        <p:spPr>
          <a:xfrm>
            <a:off x="7021440" y="3240000"/>
            <a:ext cx="374760" cy="250920"/>
          </a:xfrm>
          <a:custGeom>
            <a:avLst/>
            <a:gdLst/>
            <a:ahLst/>
            <a:rect l="l" t="t" r="r" b="b"/>
            <a:pathLst>
              <a:path w="472" h="315">
                <a:moveTo>
                  <a:pt x="138" y="0"/>
                </a:moveTo>
                <a:lnTo>
                  <a:pt x="158" y="0"/>
                </a:lnTo>
                <a:lnTo>
                  <a:pt x="177" y="2"/>
                </a:lnTo>
                <a:lnTo>
                  <a:pt x="194" y="2"/>
                </a:lnTo>
                <a:lnTo>
                  <a:pt x="211" y="6"/>
                </a:lnTo>
                <a:lnTo>
                  <a:pt x="229" y="8"/>
                </a:lnTo>
                <a:lnTo>
                  <a:pt x="246" y="12"/>
                </a:lnTo>
                <a:lnTo>
                  <a:pt x="261" y="16"/>
                </a:lnTo>
                <a:lnTo>
                  <a:pt x="277" y="20"/>
                </a:lnTo>
                <a:lnTo>
                  <a:pt x="292" y="25"/>
                </a:lnTo>
                <a:lnTo>
                  <a:pt x="305" y="31"/>
                </a:lnTo>
                <a:lnTo>
                  <a:pt x="319" y="37"/>
                </a:lnTo>
                <a:lnTo>
                  <a:pt x="332" y="44"/>
                </a:lnTo>
                <a:lnTo>
                  <a:pt x="346" y="52"/>
                </a:lnTo>
                <a:lnTo>
                  <a:pt x="357" y="60"/>
                </a:lnTo>
                <a:lnTo>
                  <a:pt x="369" y="69"/>
                </a:lnTo>
                <a:lnTo>
                  <a:pt x="380" y="79"/>
                </a:lnTo>
                <a:lnTo>
                  <a:pt x="390" y="91"/>
                </a:lnTo>
                <a:lnTo>
                  <a:pt x="401" y="104"/>
                </a:lnTo>
                <a:lnTo>
                  <a:pt x="409" y="115"/>
                </a:lnTo>
                <a:lnTo>
                  <a:pt x="419" y="127"/>
                </a:lnTo>
                <a:lnTo>
                  <a:pt x="426" y="137"/>
                </a:lnTo>
                <a:lnTo>
                  <a:pt x="434" y="148"/>
                </a:lnTo>
                <a:lnTo>
                  <a:pt x="442" y="158"/>
                </a:lnTo>
                <a:lnTo>
                  <a:pt x="447" y="167"/>
                </a:lnTo>
                <a:lnTo>
                  <a:pt x="453" y="177"/>
                </a:lnTo>
                <a:lnTo>
                  <a:pt x="459" y="187"/>
                </a:lnTo>
                <a:lnTo>
                  <a:pt x="463" y="196"/>
                </a:lnTo>
                <a:lnTo>
                  <a:pt x="467" y="206"/>
                </a:lnTo>
                <a:lnTo>
                  <a:pt x="469" y="213"/>
                </a:lnTo>
                <a:lnTo>
                  <a:pt x="470" y="221"/>
                </a:lnTo>
                <a:lnTo>
                  <a:pt x="472" y="229"/>
                </a:lnTo>
                <a:lnTo>
                  <a:pt x="472" y="236"/>
                </a:lnTo>
                <a:lnTo>
                  <a:pt x="472" y="246"/>
                </a:lnTo>
                <a:lnTo>
                  <a:pt x="470" y="256"/>
                </a:lnTo>
                <a:lnTo>
                  <a:pt x="470" y="263"/>
                </a:lnTo>
                <a:lnTo>
                  <a:pt x="469" y="271"/>
                </a:lnTo>
                <a:lnTo>
                  <a:pt x="467" y="279"/>
                </a:lnTo>
                <a:lnTo>
                  <a:pt x="463" y="284"/>
                </a:lnTo>
                <a:lnTo>
                  <a:pt x="461" y="290"/>
                </a:lnTo>
                <a:lnTo>
                  <a:pt x="457" y="296"/>
                </a:lnTo>
                <a:lnTo>
                  <a:pt x="453" y="300"/>
                </a:lnTo>
                <a:lnTo>
                  <a:pt x="447" y="304"/>
                </a:lnTo>
                <a:lnTo>
                  <a:pt x="444" y="307"/>
                </a:lnTo>
                <a:lnTo>
                  <a:pt x="438" y="311"/>
                </a:lnTo>
                <a:lnTo>
                  <a:pt x="432" y="313"/>
                </a:lnTo>
                <a:lnTo>
                  <a:pt x="426" y="315"/>
                </a:lnTo>
                <a:lnTo>
                  <a:pt x="421" y="315"/>
                </a:lnTo>
                <a:lnTo>
                  <a:pt x="415" y="315"/>
                </a:lnTo>
                <a:lnTo>
                  <a:pt x="405" y="315"/>
                </a:lnTo>
                <a:lnTo>
                  <a:pt x="396" y="313"/>
                </a:lnTo>
                <a:lnTo>
                  <a:pt x="386" y="311"/>
                </a:lnTo>
                <a:lnTo>
                  <a:pt x="374" y="307"/>
                </a:lnTo>
                <a:lnTo>
                  <a:pt x="361" y="304"/>
                </a:lnTo>
                <a:lnTo>
                  <a:pt x="348" y="298"/>
                </a:lnTo>
                <a:lnTo>
                  <a:pt x="334" y="292"/>
                </a:lnTo>
                <a:lnTo>
                  <a:pt x="319" y="284"/>
                </a:lnTo>
                <a:lnTo>
                  <a:pt x="303" y="277"/>
                </a:lnTo>
                <a:lnTo>
                  <a:pt x="288" y="267"/>
                </a:lnTo>
                <a:lnTo>
                  <a:pt x="271" y="256"/>
                </a:lnTo>
                <a:lnTo>
                  <a:pt x="252" y="244"/>
                </a:lnTo>
                <a:lnTo>
                  <a:pt x="234" y="231"/>
                </a:lnTo>
                <a:lnTo>
                  <a:pt x="215" y="217"/>
                </a:lnTo>
                <a:lnTo>
                  <a:pt x="194" y="202"/>
                </a:lnTo>
                <a:lnTo>
                  <a:pt x="173" y="185"/>
                </a:lnTo>
                <a:lnTo>
                  <a:pt x="152" y="167"/>
                </a:lnTo>
                <a:lnTo>
                  <a:pt x="133" y="152"/>
                </a:lnTo>
                <a:lnTo>
                  <a:pt x="115" y="137"/>
                </a:lnTo>
                <a:lnTo>
                  <a:pt x="98" y="121"/>
                </a:lnTo>
                <a:lnTo>
                  <a:pt x="83" y="110"/>
                </a:lnTo>
                <a:lnTo>
                  <a:pt x="67" y="96"/>
                </a:lnTo>
                <a:lnTo>
                  <a:pt x="56" y="85"/>
                </a:lnTo>
                <a:lnTo>
                  <a:pt x="44" y="75"/>
                </a:lnTo>
                <a:lnTo>
                  <a:pt x="33" y="66"/>
                </a:lnTo>
                <a:lnTo>
                  <a:pt x="25" y="58"/>
                </a:lnTo>
                <a:lnTo>
                  <a:pt x="17" y="50"/>
                </a:lnTo>
                <a:lnTo>
                  <a:pt x="12" y="44"/>
                </a:lnTo>
                <a:lnTo>
                  <a:pt x="6" y="39"/>
                </a:lnTo>
                <a:lnTo>
                  <a:pt x="2" y="33"/>
                </a:lnTo>
                <a:lnTo>
                  <a:pt x="0" y="29"/>
                </a:lnTo>
                <a:lnTo>
                  <a:pt x="0" y="27"/>
                </a:lnTo>
                <a:lnTo>
                  <a:pt x="0" y="23"/>
                </a:lnTo>
                <a:lnTo>
                  <a:pt x="2" y="21"/>
                </a:lnTo>
                <a:lnTo>
                  <a:pt x="6" y="20"/>
                </a:lnTo>
                <a:lnTo>
                  <a:pt x="10" y="18"/>
                </a:lnTo>
                <a:lnTo>
                  <a:pt x="14" y="14"/>
                </a:lnTo>
                <a:lnTo>
                  <a:pt x="19" y="12"/>
                </a:lnTo>
                <a:lnTo>
                  <a:pt x="27" y="10"/>
                </a:lnTo>
                <a:lnTo>
                  <a:pt x="35" y="8"/>
                </a:lnTo>
                <a:lnTo>
                  <a:pt x="44" y="6"/>
                </a:lnTo>
                <a:lnTo>
                  <a:pt x="54" y="6"/>
                </a:lnTo>
                <a:lnTo>
                  <a:pt x="65" y="4"/>
                </a:lnTo>
                <a:lnTo>
                  <a:pt x="79" y="2"/>
                </a:lnTo>
                <a:lnTo>
                  <a:pt x="92" y="2"/>
                </a:lnTo>
                <a:lnTo>
                  <a:pt x="106" y="0"/>
                </a:lnTo>
                <a:lnTo>
                  <a:pt x="121" y="0"/>
                </a:lnTo>
                <a:lnTo>
                  <a:pt x="138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96"/>
          <p:cNvSpPr/>
          <p:nvPr/>
        </p:nvSpPr>
        <p:spPr>
          <a:xfrm>
            <a:off x="6224760" y="3324240"/>
            <a:ext cx="439560" cy="471600"/>
          </a:xfrm>
          <a:custGeom>
            <a:avLst/>
            <a:gdLst/>
            <a:ahLst/>
            <a:rect l="l" t="t" r="r" b="b"/>
            <a:pathLst>
              <a:path w="555" h="595">
                <a:moveTo>
                  <a:pt x="428" y="315"/>
                </a:moveTo>
                <a:lnTo>
                  <a:pt x="398" y="343"/>
                </a:lnTo>
                <a:lnTo>
                  <a:pt x="367" y="372"/>
                </a:lnTo>
                <a:lnTo>
                  <a:pt x="334" y="399"/>
                </a:lnTo>
                <a:lnTo>
                  <a:pt x="302" y="424"/>
                </a:lnTo>
                <a:lnTo>
                  <a:pt x="267" y="451"/>
                </a:lnTo>
                <a:lnTo>
                  <a:pt x="233" y="476"/>
                </a:lnTo>
                <a:lnTo>
                  <a:pt x="163" y="526"/>
                </a:lnTo>
                <a:lnTo>
                  <a:pt x="146" y="537"/>
                </a:lnTo>
                <a:lnTo>
                  <a:pt x="129" y="547"/>
                </a:lnTo>
                <a:lnTo>
                  <a:pt x="112" y="557"/>
                </a:lnTo>
                <a:lnTo>
                  <a:pt x="96" y="564"/>
                </a:lnTo>
                <a:lnTo>
                  <a:pt x="83" y="572"/>
                </a:lnTo>
                <a:lnTo>
                  <a:pt x="71" y="578"/>
                </a:lnTo>
                <a:lnTo>
                  <a:pt x="60" y="583"/>
                </a:lnTo>
                <a:lnTo>
                  <a:pt x="48" y="587"/>
                </a:lnTo>
                <a:lnTo>
                  <a:pt x="41" y="591"/>
                </a:lnTo>
                <a:lnTo>
                  <a:pt x="31" y="593"/>
                </a:lnTo>
                <a:lnTo>
                  <a:pt x="25" y="595"/>
                </a:lnTo>
                <a:lnTo>
                  <a:pt x="18" y="595"/>
                </a:lnTo>
                <a:lnTo>
                  <a:pt x="14" y="595"/>
                </a:lnTo>
                <a:lnTo>
                  <a:pt x="8" y="593"/>
                </a:lnTo>
                <a:lnTo>
                  <a:pt x="6" y="593"/>
                </a:lnTo>
                <a:lnTo>
                  <a:pt x="2" y="591"/>
                </a:lnTo>
                <a:lnTo>
                  <a:pt x="0" y="587"/>
                </a:lnTo>
                <a:lnTo>
                  <a:pt x="0" y="583"/>
                </a:lnTo>
                <a:lnTo>
                  <a:pt x="2" y="580"/>
                </a:lnTo>
                <a:lnTo>
                  <a:pt x="2" y="576"/>
                </a:lnTo>
                <a:lnTo>
                  <a:pt x="6" y="570"/>
                </a:lnTo>
                <a:lnTo>
                  <a:pt x="10" y="564"/>
                </a:lnTo>
                <a:lnTo>
                  <a:pt x="14" y="557"/>
                </a:lnTo>
                <a:lnTo>
                  <a:pt x="21" y="549"/>
                </a:lnTo>
                <a:lnTo>
                  <a:pt x="27" y="541"/>
                </a:lnTo>
                <a:lnTo>
                  <a:pt x="35" y="532"/>
                </a:lnTo>
                <a:lnTo>
                  <a:pt x="44" y="522"/>
                </a:lnTo>
                <a:lnTo>
                  <a:pt x="56" y="510"/>
                </a:lnTo>
                <a:lnTo>
                  <a:pt x="66" y="499"/>
                </a:lnTo>
                <a:lnTo>
                  <a:pt x="79" y="487"/>
                </a:lnTo>
                <a:lnTo>
                  <a:pt x="92" y="474"/>
                </a:lnTo>
                <a:lnTo>
                  <a:pt x="106" y="459"/>
                </a:lnTo>
                <a:lnTo>
                  <a:pt x="121" y="447"/>
                </a:lnTo>
                <a:lnTo>
                  <a:pt x="135" y="434"/>
                </a:lnTo>
                <a:lnTo>
                  <a:pt x="163" y="407"/>
                </a:lnTo>
                <a:lnTo>
                  <a:pt x="188" y="380"/>
                </a:lnTo>
                <a:lnTo>
                  <a:pt x="213" y="353"/>
                </a:lnTo>
                <a:lnTo>
                  <a:pt x="236" y="324"/>
                </a:lnTo>
                <a:lnTo>
                  <a:pt x="259" y="295"/>
                </a:lnTo>
                <a:lnTo>
                  <a:pt x="281" y="265"/>
                </a:lnTo>
                <a:lnTo>
                  <a:pt x="302" y="236"/>
                </a:lnTo>
                <a:lnTo>
                  <a:pt x="311" y="221"/>
                </a:lnTo>
                <a:lnTo>
                  <a:pt x="319" y="207"/>
                </a:lnTo>
                <a:lnTo>
                  <a:pt x="325" y="194"/>
                </a:lnTo>
                <a:lnTo>
                  <a:pt x="332" y="180"/>
                </a:lnTo>
                <a:lnTo>
                  <a:pt x="338" y="167"/>
                </a:lnTo>
                <a:lnTo>
                  <a:pt x="344" y="153"/>
                </a:lnTo>
                <a:lnTo>
                  <a:pt x="348" y="142"/>
                </a:lnTo>
                <a:lnTo>
                  <a:pt x="352" y="129"/>
                </a:lnTo>
                <a:lnTo>
                  <a:pt x="355" y="117"/>
                </a:lnTo>
                <a:lnTo>
                  <a:pt x="359" y="107"/>
                </a:lnTo>
                <a:lnTo>
                  <a:pt x="361" y="96"/>
                </a:lnTo>
                <a:lnTo>
                  <a:pt x="361" y="86"/>
                </a:lnTo>
                <a:lnTo>
                  <a:pt x="363" y="77"/>
                </a:lnTo>
                <a:lnTo>
                  <a:pt x="363" y="67"/>
                </a:lnTo>
                <a:lnTo>
                  <a:pt x="361" y="59"/>
                </a:lnTo>
                <a:lnTo>
                  <a:pt x="359" y="52"/>
                </a:lnTo>
                <a:lnTo>
                  <a:pt x="357" y="44"/>
                </a:lnTo>
                <a:lnTo>
                  <a:pt x="355" y="38"/>
                </a:lnTo>
                <a:lnTo>
                  <a:pt x="355" y="33"/>
                </a:lnTo>
                <a:lnTo>
                  <a:pt x="353" y="27"/>
                </a:lnTo>
                <a:lnTo>
                  <a:pt x="353" y="23"/>
                </a:lnTo>
                <a:lnTo>
                  <a:pt x="353" y="17"/>
                </a:lnTo>
                <a:lnTo>
                  <a:pt x="353" y="13"/>
                </a:lnTo>
                <a:lnTo>
                  <a:pt x="353" y="11"/>
                </a:lnTo>
                <a:lnTo>
                  <a:pt x="355" y="8"/>
                </a:lnTo>
                <a:lnTo>
                  <a:pt x="357" y="6"/>
                </a:lnTo>
                <a:lnTo>
                  <a:pt x="359" y="4"/>
                </a:lnTo>
                <a:lnTo>
                  <a:pt x="363" y="2"/>
                </a:lnTo>
                <a:lnTo>
                  <a:pt x="367" y="2"/>
                </a:lnTo>
                <a:lnTo>
                  <a:pt x="371" y="0"/>
                </a:lnTo>
                <a:lnTo>
                  <a:pt x="376" y="0"/>
                </a:lnTo>
                <a:lnTo>
                  <a:pt x="382" y="0"/>
                </a:lnTo>
                <a:lnTo>
                  <a:pt x="396" y="0"/>
                </a:lnTo>
                <a:lnTo>
                  <a:pt x="409" y="2"/>
                </a:lnTo>
                <a:lnTo>
                  <a:pt x="423" y="6"/>
                </a:lnTo>
                <a:lnTo>
                  <a:pt x="436" y="11"/>
                </a:lnTo>
                <a:lnTo>
                  <a:pt x="444" y="13"/>
                </a:lnTo>
                <a:lnTo>
                  <a:pt x="451" y="17"/>
                </a:lnTo>
                <a:lnTo>
                  <a:pt x="457" y="23"/>
                </a:lnTo>
                <a:lnTo>
                  <a:pt x="465" y="27"/>
                </a:lnTo>
                <a:lnTo>
                  <a:pt x="472" y="33"/>
                </a:lnTo>
                <a:lnTo>
                  <a:pt x="482" y="38"/>
                </a:lnTo>
                <a:lnTo>
                  <a:pt x="490" y="44"/>
                </a:lnTo>
                <a:lnTo>
                  <a:pt x="497" y="52"/>
                </a:lnTo>
                <a:lnTo>
                  <a:pt x="511" y="65"/>
                </a:lnTo>
                <a:lnTo>
                  <a:pt x="520" y="79"/>
                </a:lnTo>
                <a:lnTo>
                  <a:pt x="532" y="92"/>
                </a:lnTo>
                <a:lnTo>
                  <a:pt x="540" y="104"/>
                </a:lnTo>
                <a:lnTo>
                  <a:pt x="545" y="113"/>
                </a:lnTo>
                <a:lnTo>
                  <a:pt x="551" y="125"/>
                </a:lnTo>
                <a:lnTo>
                  <a:pt x="553" y="129"/>
                </a:lnTo>
                <a:lnTo>
                  <a:pt x="555" y="134"/>
                </a:lnTo>
                <a:lnTo>
                  <a:pt x="555" y="138"/>
                </a:lnTo>
                <a:lnTo>
                  <a:pt x="555" y="144"/>
                </a:lnTo>
                <a:lnTo>
                  <a:pt x="555" y="150"/>
                </a:lnTo>
                <a:lnTo>
                  <a:pt x="553" y="155"/>
                </a:lnTo>
                <a:lnTo>
                  <a:pt x="551" y="161"/>
                </a:lnTo>
                <a:lnTo>
                  <a:pt x="547" y="169"/>
                </a:lnTo>
                <a:lnTo>
                  <a:pt x="542" y="176"/>
                </a:lnTo>
                <a:lnTo>
                  <a:pt x="536" y="186"/>
                </a:lnTo>
                <a:lnTo>
                  <a:pt x="530" y="194"/>
                </a:lnTo>
                <a:lnTo>
                  <a:pt x="522" y="205"/>
                </a:lnTo>
                <a:lnTo>
                  <a:pt x="513" y="215"/>
                </a:lnTo>
                <a:lnTo>
                  <a:pt x="503" y="226"/>
                </a:lnTo>
                <a:lnTo>
                  <a:pt x="494" y="240"/>
                </a:lnTo>
                <a:lnTo>
                  <a:pt x="482" y="253"/>
                </a:lnTo>
                <a:lnTo>
                  <a:pt x="471" y="267"/>
                </a:lnTo>
                <a:lnTo>
                  <a:pt x="457" y="282"/>
                </a:lnTo>
                <a:lnTo>
                  <a:pt x="444" y="297"/>
                </a:lnTo>
                <a:lnTo>
                  <a:pt x="428" y="3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97"/>
          <p:cNvSpPr/>
          <p:nvPr/>
        </p:nvSpPr>
        <p:spPr>
          <a:xfrm>
            <a:off x="7066080" y="2730600"/>
            <a:ext cx="333360" cy="384120"/>
          </a:xfrm>
          <a:custGeom>
            <a:avLst/>
            <a:gdLst/>
            <a:ahLst/>
            <a:rect l="l" t="t" r="r" b="b"/>
            <a:pathLst>
              <a:path w="418" h="486">
                <a:moveTo>
                  <a:pt x="207" y="79"/>
                </a:moveTo>
                <a:lnTo>
                  <a:pt x="222" y="89"/>
                </a:lnTo>
                <a:lnTo>
                  <a:pt x="236" y="98"/>
                </a:lnTo>
                <a:lnTo>
                  <a:pt x="249" y="110"/>
                </a:lnTo>
                <a:lnTo>
                  <a:pt x="263" y="121"/>
                </a:lnTo>
                <a:lnTo>
                  <a:pt x="276" y="131"/>
                </a:lnTo>
                <a:lnTo>
                  <a:pt x="288" y="142"/>
                </a:lnTo>
                <a:lnTo>
                  <a:pt x="299" y="154"/>
                </a:lnTo>
                <a:lnTo>
                  <a:pt x="311" y="165"/>
                </a:lnTo>
                <a:lnTo>
                  <a:pt x="322" y="177"/>
                </a:lnTo>
                <a:lnTo>
                  <a:pt x="332" y="188"/>
                </a:lnTo>
                <a:lnTo>
                  <a:pt x="341" y="202"/>
                </a:lnTo>
                <a:lnTo>
                  <a:pt x="349" y="213"/>
                </a:lnTo>
                <a:lnTo>
                  <a:pt x="359" y="225"/>
                </a:lnTo>
                <a:lnTo>
                  <a:pt x="366" y="238"/>
                </a:lnTo>
                <a:lnTo>
                  <a:pt x="374" y="250"/>
                </a:lnTo>
                <a:lnTo>
                  <a:pt x="380" y="263"/>
                </a:lnTo>
                <a:lnTo>
                  <a:pt x="386" y="275"/>
                </a:lnTo>
                <a:lnTo>
                  <a:pt x="391" y="286"/>
                </a:lnTo>
                <a:lnTo>
                  <a:pt x="397" y="298"/>
                </a:lnTo>
                <a:lnTo>
                  <a:pt x="401" y="309"/>
                </a:lnTo>
                <a:lnTo>
                  <a:pt x="405" y="321"/>
                </a:lnTo>
                <a:lnTo>
                  <a:pt x="409" y="330"/>
                </a:lnTo>
                <a:lnTo>
                  <a:pt x="412" y="342"/>
                </a:lnTo>
                <a:lnTo>
                  <a:pt x="414" y="352"/>
                </a:lnTo>
                <a:lnTo>
                  <a:pt x="416" y="361"/>
                </a:lnTo>
                <a:lnTo>
                  <a:pt x="418" y="371"/>
                </a:lnTo>
                <a:lnTo>
                  <a:pt x="418" y="380"/>
                </a:lnTo>
                <a:lnTo>
                  <a:pt x="418" y="388"/>
                </a:lnTo>
                <a:lnTo>
                  <a:pt x="418" y="398"/>
                </a:lnTo>
                <a:lnTo>
                  <a:pt x="418" y="405"/>
                </a:lnTo>
                <a:lnTo>
                  <a:pt x="416" y="413"/>
                </a:lnTo>
                <a:lnTo>
                  <a:pt x="414" y="421"/>
                </a:lnTo>
                <a:lnTo>
                  <a:pt x="407" y="434"/>
                </a:lnTo>
                <a:lnTo>
                  <a:pt x="397" y="448"/>
                </a:lnTo>
                <a:lnTo>
                  <a:pt x="389" y="459"/>
                </a:lnTo>
                <a:lnTo>
                  <a:pt x="382" y="469"/>
                </a:lnTo>
                <a:lnTo>
                  <a:pt x="378" y="472"/>
                </a:lnTo>
                <a:lnTo>
                  <a:pt x="374" y="476"/>
                </a:lnTo>
                <a:lnTo>
                  <a:pt x="370" y="478"/>
                </a:lnTo>
                <a:lnTo>
                  <a:pt x="368" y="482"/>
                </a:lnTo>
                <a:lnTo>
                  <a:pt x="364" y="484"/>
                </a:lnTo>
                <a:lnTo>
                  <a:pt x="363" y="484"/>
                </a:lnTo>
                <a:lnTo>
                  <a:pt x="359" y="486"/>
                </a:lnTo>
                <a:lnTo>
                  <a:pt x="357" y="486"/>
                </a:lnTo>
                <a:lnTo>
                  <a:pt x="353" y="486"/>
                </a:lnTo>
                <a:lnTo>
                  <a:pt x="347" y="484"/>
                </a:lnTo>
                <a:lnTo>
                  <a:pt x="341" y="482"/>
                </a:lnTo>
                <a:lnTo>
                  <a:pt x="336" y="478"/>
                </a:lnTo>
                <a:lnTo>
                  <a:pt x="328" y="474"/>
                </a:lnTo>
                <a:lnTo>
                  <a:pt x="322" y="469"/>
                </a:lnTo>
                <a:lnTo>
                  <a:pt x="315" y="463"/>
                </a:lnTo>
                <a:lnTo>
                  <a:pt x="307" y="457"/>
                </a:lnTo>
                <a:lnTo>
                  <a:pt x="297" y="449"/>
                </a:lnTo>
                <a:lnTo>
                  <a:pt x="290" y="440"/>
                </a:lnTo>
                <a:lnTo>
                  <a:pt x="280" y="430"/>
                </a:lnTo>
                <a:lnTo>
                  <a:pt x="270" y="419"/>
                </a:lnTo>
                <a:lnTo>
                  <a:pt x="261" y="407"/>
                </a:lnTo>
                <a:lnTo>
                  <a:pt x="251" y="396"/>
                </a:lnTo>
                <a:lnTo>
                  <a:pt x="240" y="382"/>
                </a:lnTo>
                <a:lnTo>
                  <a:pt x="230" y="367"/>
                </a:lnTo>
                <a:lnTo>
                  <a:pt x="205" y="342"/>
                </a:lnTo>
                <a:lnTo>
                  <a:pt x="180" y="315"/>
                </a:lnTo>
                <a:lnTo>
                  <a:pt x="157" y="290"/>
                </a:lnTo>
                <a:lnTo>
                  <a:pt x="136" y="263"/>
                </a:lnTo>
                <a:lnTo>
                  <a:pt x="117" y="234"/>
                </a:lnTo>
                <a:lnTo>
                  <a:pt x="107" y="223"/>
                </a:lnTo>
                <a:lnTo>
                  <a:pt x="100" y="210"/>
                </a:lnTo>
                <a:lnTo>
                  <a:pt x="90" y="196"/>
                </a:lnTo>
                <a:lnTo>
                  <a:pt x="82" y="183"/>
                </a:lnTo>
                <a:lnTo>
                  <a:pt x="75" y="169"/>
                </a:lnTo>
                <a:lnTo>
                  <a:pt x="69" y="158"/>
                </a:lnTo>
                <a:lnTo>
                  <a:pt x="61" y="146"/>
                </a:lnTo>
                <a:lnTo>
                  <a:pt x="53" y="135"/>
                </a:lnTo>
                <a:lnTo>
                  <a:pt x="46" y="123"/>
                </a:lnTo>
                <a:lnTo>
                  <a:pt x="38" y="114"/>
                </a:lnTo>
                <a:lnTo>
                  <a:pt x="32" y="102"/>
                </a:lnTo>
                <a:lnTo>
                  <a:pt x="27" y="94"/>
                </a:lnTo>
                <a:lnTo>
                  <a:pt x="23" y="85"/>
                </a:lnTo>
                <a:lnTo>
                  <a:pt x="17" y="77"/>
                </a:lnTo>
                <a:lnTo>
                  <a:pt x="13" y="69"/>
                </a:lnTo>
                <a:lnTo>
                  <a:pt x="9" y="62"/>
                </a:lnTo>
                <a:lnTo>
                  <a:pt x="7" y="54"/>
                </a:lnTo>
                <a:lnTo>
                  <a:pt x="4" y="48"/>
                </a:lnTo>
                <a:lnTo>
                  <a:pt x="2" y="43"/>
                </a:lnTo>
                <a:lnTo>
                  <a:pt x="2" y="37"/>
                </a:lnTo>
                <a:lnTo>
                  <a:pt x="0" y="31"/>
                </a:lnTo>
                <a:lnTo>
                  <a:pt x="0" y="27"/>
                </a:lnTo>
                <a:lnTo>
                  <a:pt x="0" y="21"/>
                </a:lnTo>
                <a:lnTo>
                  <a:pt x="2" y="16"/>
                </a:lnTo>
                <a:lnTo>
                  <a:pt x="5" y="12"/>
                </a:lnTo>
                <a:lnTo>
                  <a:pt x="9" y="8"/>
                </a:lnTo>
                <a:lnTo>
                  <a:pt x="17" y="4"/>
                </a:lnTo>
                <a:lnTo>
                  <a:pt x="25" y="2"/>
                </a:lnTo>
                <a:lnTo>
                  <a:pt x="29" y="0"/>
                </a:lnTo>
                <a:lnTo>
                  <a:pt x="34" y="0"/>
                </a:lnTo>
                <a:lnTo>
                  <a:pt x="40" y="0"/>
                </a:lnTo>
                <a:lnTo>
                  <a:pt x="46" y="0"/>
                </a:lnTo>
                <a:lnTo>
                  <a:pt x="52" y="0"/>
                </a:lnTo>
                <a:lnTo>
                  <a:pt x="59" y="0"/>
                </a:lnTo>
                <a:lnTo>
                  <a:pt x="67" y="2"/>
                </a:lnTo>
                <a:lnTo>
                  <a:pt x="75" y="4"/>
                </a:lnTo>
                <a:lnTo>
                  <a:pt x="82" y="8"/>
                </a:lnTo>
                <a:lnTo>
                  <a:pt x="92" y="10"/>
                </a:lnTo>
                <a:lnTo>
                  <a:pt x="100" y="14"/>
                </a:lnTo>
                <a:lnTo>
                  <a:pt x="109" y="19"/>
                </a:lnTo>
                <a:lnTo>
                  <a:pt x="119" y="25"/>
                </a:lnTo>
                <a:lnTo>
                  <a:pt x="130" y="31"/>
                </a:lnTo>
                <a:lnTo>
                  <a:pt x="142" y="37"/>
                </a:lnTo>
                <a:lnTo>
                  <a:pt x="153" y="44"/>
                </a:lnTo>
                <a:lnTo>
                  <a:pt x="165" y="52"/>
                </a:lnTo>
                <a:lnTo>
                  <a:pt x="178" y="60"/>
                </a:lnTo>
                <a:lnTo>
                  <a:pt x="192" y="69"/>
                </a:lnTo>
                <a:lnTo>
                  <a:pt x="207" y="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98"/>
          <p:cNvSpPr/>
          <p:nvPr/>
        </p:nvSpPr>
        <p:spPr>
          <a:xfrm>
            <a:off x="6459480" y="2351160"/>
            <a:ext cx="835200" cy="847800"/>
          </a:xfrm>
          <a:custGeom>
            <a:avLst/>
            <a:gdLst/>
            <a:ahLst/>
            <a:rect l="l" t="t" r="r" b="b"/>
            <a:pathLst>
              <a:path w="1052" h="1070">
                <a:moveTo>
                  <a:pt x="142" y="1043"/>
                </a:moveTo>
                <a:lnTo>
                  <a:pt x="125" y="1052"/>
                </a:lnTo>
                <a:lnTo>
                  <a:pt x="117" y="1056"/>
                </a:lnTo>
                <a:lnTo>
                  <a:pt x="107" y="1062"/>
                </a:lnTo>
                <a:lnTo>
                  <a:pt x="100" y="1064"/>
                </a:lnTo>
                <a:lnTo>
                  <a:pt x="90" y="1068"/>
                </a:lnTo>
                <a:lnTo>
                  <a:pt x="82" y="1068"/>
                </a:lnTo>
                <a:lnTo>
                  <a:pt x="73" y="1070"/>
                </a:lnTo>
                <a:lnTo>
                  <a:pt x="69" y="1070"/>
                </a:lnTo>
                <a:lnTo>
                  <a:pt x="65" y="1068"/>
                </a:lnTo>
                <a:lnTo>
                  <a:pt x="61" y="1066"/>
                </a:lnTo>
                <a:lnTo>
                  <a:pt x="55" y="1064"/>
                </a:lnTo>
                <a:lnTo>
                  <a:pt x="52" y="1062"/>
                </a:lnTo>
                <a:lnTo>
                  <a:pt x="48" y="1058"/>
                </a:lnTo>
                <a:lnTo>
                  <a:pt x="44" y="1054"/>
                </a:lnTo>
                <a:lnTo>
                  <a:pt x="40" y="1050"/>
                </a:lnTo>
                <a:lnTo>
                  <a:pt x="32" y="1041"/>
                </a:lnTo>
                <a:lnTo>
                  <a:pt x="27" y="1031"/>
                </a:lnTo>
                <a:lnTo>
                  <a:pt x="21" y="1018"/>
                </a:lnTo>
                <a:lnTo>
                  <a:pt x="15" y="1004"/>
                </a:lnTo>
                <a:lnTo>
                  <a:pt x="11" y="989"/>
                </a:lnTo>
                <a:lnTo>
                  <a:pt x="7" y="974"/>
                </a:lnTo>
                <a:lnTo>
                  <a:pt x="4" y="960"/>
                </a:lnTo>
                <a:lnTo>
                  <a:pt x="2" y="947"/>
                </a:lnTo>
                <a:lnTo>
                  <a:pt x="0" y="933"/>
                </a:lnTo>
                <a:lnTo>
                  <a:pt x="0" y="920"/>
                </a:lnTo>
                <a:lnTo>
                  <a:pt x="2" y="908"/>
                </a:lnTo>
                <a:lnTo>
                  <a:pt x="2" y="903"/>
                </a:lnTo>
                <a:lnTo>
                  <a:pt x="4" y="899"/>
                </a:lnTo>
                <a:lnTo>
                  <a:pt x="6" y="889"/>
                </a:lnTo>
                <a:lnTo>
                  <a:pt x="7" y="878"/>
                </a:lnTo>
                <a:lnTo>
                  <a:pt x="9" y="868"/>
                </a:lnTo>
                <a:lnTo>
                  <a:pt x="15" y="858"/>
                </a:lnTo>
                <a:lnTo>
                  <a:pt x="21" y="849"/>
                </a:lnTo>
                <a:lnTo>
                  <a:pt x="29" y="839"/>
                </a:lnTo>
                <a:lnTo>
                  <a:pt x="32" y="833"/>
                </a:lnTo>
                <a:lnTo>
                  <a:pt x="38" y="830"/>
                </a:lnTo>
                <a:lnTo>
                  <a:pt x="44" y="824"/>
                </a:lnTo>
                <a:lnTo>
                  <a:pt x="50" y="820"/>
                </a:lnTo>
                <a:lnTo>
                  <a:pt x="57" y="816"/>
                </a:lnTo>
                <a:lnTo>
                  <a:pt x="63" y="814"/>
                </a:lnTo>
                <a:lnTo>
                  <a:pt x="69" y="808"/>
                </a:lnTo>
                <a:lnTo>
                  <a:pt x="77" y="805"/>
                </a:lnTo>
                <a:lnTo>
                  <a:pt x="82" y="799"/>
                </a:lnTo>
                <a:lnTo>
                  <a:pt x="90" y="793"/>
                </a:lnTo>
                <a:lnTo>
                  <a:pt x="96" y="787"/>
                </a:lnTo>
                <a:lnTo>
                  <a:pt x="103" y="780"/>
                </a:lnTo>
                <a:lnTo>
                  <a:pt x="111" y="772"/>
                </a:lnTo>
                <a:lnTo>
                  <a:pt x="119" y="764"/>
                </a:lnTo>
                <a:lnTo>
                  <a:pt x="125" y="755"/>
                </a:lnTo>
                <a:lnTo>
                  <a:pt x="132" y="745"/>
                </a:lnTo>
                <a:lnTo>
                  <a:pt x="140" y="736"/>
                </a:lnTo>
                <a:lnTo>
                  <a:pt x="150" y="724"/>
                </a:lnTo>
                <a:lnTo>
                  <a:pt x="157" y="712"/>
                </a:lnTo>
                <a:lnTo>
                  <a:pt x="165" y="701"/>
                </a:lnTo>
                <a:lnTo>
                  <a:pt x="173" y="691"/>
                </a:lnTo>
                <a:lnTo>
                  <a:pt x="180" y="678"/>
                </a:lnTo>
                <a:lnTo>
                  <a:pt x="188" y="666"/>
                </a:lnTo>
                <a:lnTo>
                  <a:pt x="196" y="651"/>
                </a:lnTo>
                <a:lnTo>
                  <a:pt x="205" y="636"/>
                </a:lnTo>
                <a:lnTo>
                  <a:pt x="215" y="618"/>
                </a:lnTo>
                <a:lnTo>
                  <a:pt x="224" y="601"/>
                </a:lnTo>
                <a:lnTo>
                  <a:pt x="234" y="582"/>
                </a:lnTo>
                <a:lnTo>
                  <a:pt x="245" y="561"/>
                </a:lnTo>
                <a:lnTo>
                  <a:pt x="257" y="538"/>
                </a:lnTo>
                <a:lnTo>
                  <a:pt x="270" y="515"/>
                </a:lnTo>
                <a:lnTo>
                  <a:pt x="282" y="490"/>
                </a:lnTo>
                <a:lnTo>
                  <a:pt x="295" y="463"/>
                </a:lnTo>
                <a:lnTo>
                  <a:pt x="309" y="434"/>
                </a:lnTo>
                <a:lnTo>
                  <a:pt x="324" y="403"/>
                </a:lnTo>
                <a:lnTo>
                  <a:pt x="338" y="373"/>
                </a:lnTo>
                <a:lnTo>
                  <a:pt x="353" y="342"/>
                </a:lnTo>
                <a:lnTo>
                  <a:pt x="364" y="311"/>
                </a:lnTo>
                <a:lnTo>
                  <a:pt x="376" y="284"/>
                </a:lnTo>
                <a:lnTo>
                  <a:pt x="388" y="259"/>
                </a:lnTo>
                <a:lnTo>
                  <a:pt x="397" y="235"/>
                </a:lnTo>
                <a:lnTo>
                  <a:pt x="405" y="211"/>
                </a:lnTo>
                <a:lnTo>
                  <a:pt x="411" y="192"/>
                </a:lnTo>
                <a:lnTo>
                  <a:pt x="416" y="173"/>
                </a:lnTo>
                <a:lnTo>
                  <a:pt x="420" y="154"/>
                </a:lnTo>
                <a:lnTo>
                  <a:pt x="424" y="139"/>
                </a:lnTo>
                <a:lnTo>
                  <a:pt x="426" y="123"/>
                </a:lnTo>
                <a:lnTo>
                  <a:pt x="426" y="110"/>
                </a:lnTo>
                <a:lnTo>
                  <a:pt x="426" y="98"/>
                </a:lnTo>
                <a:lnTo>
                  <a:pt x="426" y="89"/>
                </a:lnTo>
                <a:lnTo>
                  <a:pt x="422" y="79"/>
                </a:lnTo>
                <a:lnTo>
                  <a:pt x="418" y="71"/>
                </a:lnTo>
                <a:lnTo>
                  <a:pt x="414" y="66"/>
                </a:lnTo>
                <a:lnTo>
                  <a:pt x="411" y="62"/>
                </a:lnTo>
                <a:lnTo>
                  <a:pt x="409" y="56"/>
                </a:lnTo>
                <a:lnTo>
                  <a:pt x="407" y="50"/>
                </a:lnTo>
                <a:lnTo>
                  <a:pt x="405" y="46"/>
                </a:lnTo>
                <a:lnTo>
                  <a:pt x="403" y="43"/>
                </a:lnTo>
                <a:lnTo>
                  <a:pt x="403" y="37"/>
                </a:lnTo>
                <a:lnTo>
                  <a:pt x="403" y="33"/>
                </a:lnTo>
                <a:lnTo>
                  <a:pt x="403" y="29"/>
                </a:lnTo>
                <a:lnTo>
                  <a:pt x="405" y="25"/>
                </a:lnTo>
                <a:lnTo>
                  <a:pt x="407" y="21"/>
                </a:lnTo>
                <a:lnTo>
                  <a:pt x="411" y="18"/>
                </a:lnTo>
                <a:lnTo>
                  <a:pt x="414" y="14"/>
                </a:lnTo>
                <a:lnTo>
                  <a:pt x="418" y="10"/>
                </a:lnTo>
                <a:lnTo>
                  <a:pt x="424" y="8"/>
                </a:lnTo>
                <a:lnTo>
                  <a:pt x="430" y="6"/>
                </a:lnTo>
                <a:lnTo>
                  <a:pt x="436" y="2"/>
                </a:lnTo>
                <a:lnTo>
                  <a:pt x="439" y="2"/>
                </a:lnTo>
                <a:lnTo>
                  <a:pt x="445" y="0"/>
                </a:lnTo>
                <a:lnTo>
                  <a:pt x="451" y="0"/>
                </a:lnTo>
                <a:lnTo>
                  <a:pt x="459" y="0"/>
                </a:lnTo>
                <a:lnTo>
                  <a:pt x="464" y="0"/>
                </a:lnTo>
                <a:lnTo>
                  <a:pt x="472" y="2"/>
                </a:lnTo>
                <a:lnTo>
                  <a:pt x="480" y="4"/>
                </a:lnTo>
                <a:lnTo>
                  <a:pt x="489" y="8"/>
                </a:lnTo>
                <a:lnTo>
                  <a:pt x="497" y="12"/>
                </a:lnTo>
                <a:lnTo>
                  <a:pt x="507" y="16"/>
                </a:lnTo>
                <a:lnTo>
                  <a:pt x="516" y="20"/>
                </a:lnTo>
                <a:lnTo>
                  <a:pt x="526" y="25"/>
                </a:lnTo>
                <a:lnTo>
                  <a:pt x="535" y="31"/>
                </a:lnTo>
                <a:lnTo>
                  <a:pt x="547" y="37"/>
                </a:lnTo>
                <a:lnTo>
                  <a:pt x="556" y="45"/>
                </a:lnTo>
                <a:lnTo>
                  <a:pt x="568" y="52"/>
                </a:lnTo>
                <a:lnTo>
                  <a:pt x="578" y="60"/>
                </a:lnTo>
                <a:lnTo>
                  <a:pt x="587" y="68"/>
                </a:lnTo>
                <a:lnTo>
                  <a:pt x="595" y="73"/>
                </a:lnTo>
                <a:lnTo>
                  <a:pt x="604" y="81"/>
                </a:lnTo>
                <a:lnTo>
                  <a:pt x="612" y="89"/>
                </a:lnTo>
                <a:lnTo>
                  <a:pt x="620" y="94"/>
                </a:lnTo>
                <a:lnTo>
                  <a:pt x="626" y="102"/>
                </a:lnTo>
                <a:lnTo>
                  <a:pt x="631" y="108"/>
                </a:lnTo>
                <a:lnTo>
                  <a:pt x="637" y="116"/>
                </a:lnTo>
                <a:lnTo>
                  <a:pt x="643" y="121"/>
                </a:lnTo>
                <a:lnTo>
                  <a:pt x="647" y="127"/>
                </a:lnTo>
                <a:lnTo>
                  <a:pt x="650" y="133"/>
                </a:lnTo>
                <a:lnTo>
                  <a:pt x="654" y="139"/>
                </a:lnTo>
                <a:lnTo>
                  <a:pt x="658" y="144"/>
                </a:lnTo>
                <a:lnTo>
                  <a:pt x="660" y="150"/>
                </a:lnTo>
                <a:lnTo>
                  <a:pt x="660" y="158"/>
                </a:lnTo>
                <a:lnTo>
                  <a:pt x="656" y="167"/>
                </a:lnTo>
                <a:lnTo>
                  <a:pt x="652" y="181"/>
                </a:lnTo>
                <a:lnTo>
                  <a:pt x="647" y="194"/>
                </a:lnTo>
                <a:lnTo>
                  <a:pt x="639" y="210"/>
                </a:lnTo>
                <a:lnTo>
                  <a:pt x="629" y="227"/>
                </a:lnTo>
                <a:lnTo>
                  <a:pt x="620" y="246"/>
                </a:lnTo>
                <a:lnTo>
                  <a:pt x="606" y="267"/>
                </a:lnTo>
                <a:lnTo>
                  <a:pt x="591" y="290"/>
                </a:lnTo>
                <a:lnTo>
                  <a:pt x="576" y="315"/>
                </a:lnTo>
                <a:lnTo>
                  <a:pt x="558" y="342"/>
                </a:lnTo>
                <a:lnTo>
                  <a:pt x="537" y="371"/>
                </a:lnTo>
                <a:lnTo>
                  <a:pt x="516" y="402"/>
                </a:lnTo>
                <a:lnTo>
                  <a:pt x="493" y="434"/>
                </a:lnTo>
                <a:lnTo>
                  <a:pt x="468" y="469"/>
                </a:lnTo>
                <a:lnTo>
                  <a:pt x="455" y="486"/>
                </a:lnTo>
                <a:lnTo>
                  <a:pt x="441" y="505"/>
                </a:lnTo>
                <a:lnTo>
                  <a:pt x="428" y="522"/>
                </a:lnTo>
                <a:lnTo>
                  <a:pt x="414" y="540"/>
                </a:lnTo>
                <a:lnTo>
                  <a:pt x="403" y="557"/>
                </a:lnTo>
                <a:lnTo>
                  <a:pt x="389" y="574"/>
                </a:lnTo>
                <a:lnTo>
                  <a:pt x="378" y="590"/>
                </a:lnTo>
                <a:lnTo>
                  <a:pt x="366" y="605"/>
                </a:lnTo>
                <a:lnTo>
                  <a:pt x="357" y="620"/>
                </a:lnTo>
                <a:lnTo>
                  <a:pt x="345" y="636"/>
                </a:lnTo>
                <a:lnTo>
                  <a:pt x="336" y="649"/>
                </a:lnTo>
                <a:lnTo>
                  <a:pt x="326" y="663"/>
                </a:lnTo>
                <a:lnTo>
                  <a:pt x="316" y="676"/>
                </a:lnTo>
                <a:lnTo>
                  <a:pt x="309" y="688"/>
                </a:lnTo>
                <a:lnTo>
                  <a:pt x="299" y="699"/>
                </a:lnTo>
                <a:lnTo>
                  <a:pt x="292" y="711"/>
                </a:lnTo>
                <a:lnTo>
                  <a:pt x="286" y="720"/>
                </a:lnTo>
                <a:lnTo>
                  <a:pt x="278" y="732"/>
                </a:lnTo>
                <a:lnTo>
                  <a:pt x="272" y="741"/>
                </a:lnTo>
                <a:lnTo>
                  <a:pt x="267" y="749"/>
                </a:lnTo>
                <a:lnTo>
                  <a:pt x="261" y="759"/>
                </a:lnTo>
                <a:lnTo>
                  <a:pt x="257" y="766"/>
                </a:lnTo>
                <a:lnTo>
                  <a:pt x="251" y="774"/>
                </a:lnTo>
                <a:lnTo>
                  <a:pt x="247" y="780"/>
                </a:lnTo>
                <a:lnTo>
                  <a:pt x="244" y="787"/>
                </a:lnTo>
                <a:lnTo>
                  <a:pt x="242" y="793"/>
                </a:lnTo>
                <a:lnTo>
                  <a:pt x="238" y="797"/>
                </a:lnTo>
                <a:lnTo>
                  <a:pt x="236" y="803"/>
                </a:lnTo>
                <a:lnTo>
                  <a:pt x="236" y="807"/>
                </a:lnTo>
                <a:lnTo>
                  <a:pt x="234" y="810"/>
                </a:lnTo>
                <a:lnTo>
                  <a:pt x="234" y="814"/>
                </a:lnTo>
                <a:lnTo>
                  <a:pt x="234" y="816"/>
                </a:lnTo>
                <a:lnTo>
                  <a:pt x="234" y="818"/>
                </a:lnTo>
                <a:lnTo>
                  <a:pt x="234" y="820"/>
                </a:lnTo>
                <a:lnTo>
                  <a:pt x="240" y="824"/>
                </a:lnTo>
                <a:lnTo>
                  <a:pt x="245" y="828"/>
                </a:lnTo>
                <a:lnTo>
                  <a:pt x="253" y="830"/>
                </a:lnTo>
                <a:lnTo>
                  <a:pt x="261" y="830"/>
                </a:lnTo>
                <a:lnTo>
                  <a:pt x="270" y="830"/>
                </a:lnTo>
                <a:lnTo>
                  <a:pt x="280" y="828"/>
                </a:lnTo>
                <a:lnTo>
                  <a:pt x="292" y="824"/>
                </a:lnTo>
                <a:lnTo>
                  <a:pt x="303" y="820"/>
                </a:lnTo>
                <a:lnTo>
                  <a:pt x="307" y="820"/>
                </a:lnTo>
                <a:lnTo>
                  <a:pt x="313" y="820"/>
                </a:lnTo>
                <a:lnTo>
                  <a:pt x="318" y="818"/>
                </a:lnTo>
                <a:lnTo>
                  <a:pt x="326" y="818"/>
                </a:lnTo>
                <a:lnTo>
                  <a:pt x="336" y="818"/>
                </a:lnTo>
                <a:lnTo>
                  <a:pt x="345" y="816"/>
                </a:lnTo>
                <a:lnTo>
                  <a:pt x="357" y="816"/>
                </a:lnTo>
                <a:lnTo>
                  <a:pt x="368" y="814"/>
                </a:lnTo>
                <a:lnTo>
                  <a:pt x="382" y="812"/>
                </a:lnTo>
                <a:lnTo>
                  <a:pt x="397" y="812"/>
                </a:lnTo>
                <a:lnTo>
                  <a:pt x="414" y="810"/>
                </a:lnTo>
                <a:lnTo>
                  <a:pt x="432" y="808"/>
                </a:lnTo>
                <a:lnTo>
                  <a:pt x="449" y="807"/>
                </a:lnTo>
                <a:lnTo>
                  <a:pt x="470" y="805"/>
                </a:lnTo>
                <a:lnTo>
                  <a:pt x="491" y="801"/>
                </a:lnTo>
                <a:lnTo>
                  <a:pt x="514" y="799"/>
                </a:lnTo>
                <a:lnTo>
                  <a:pt x="537" y="795"/>
                </a:lnTo>
                <a:lnTo>
                  <a:pt x="562" y="793"/>
                </a:lnTo>
                <a:lnTo>
                  <a:pt x="589" y="789"/>
                </a:lnTo>
                <a:lnTo>
                  <a:pt x="616" y="785"/>
                </a:lnTo>
                <a:lnTo>
                  <a:pt x="647" y="782"/>
                </a:lnTo>
                <a:lnTo>
                  <a:pt x="675" y="778"/>
                </a:lnTo>
                <a:lnTo>
                  <a:pt x="708" y="774"/>
                </a:lnTo>
                <a:lnTo>
                  <a:pt x="741" y="770"/>
                </a:lnTo>
                <a:lnTo>
                  <a:pt x="775" y="766"/>
                </a:lnTo>
                <a:lnTo>
                  <a:pt x="810" y="760"/>
                </a:lnTo>
                <a:lnTo>
                  <a:pt x="848" y="757"/>
                </a:lnTo>
                <a:lnTo>
                  <a:pt x="885" y="751"/>
                </a:lnTo>
                <a:lnTo>
                  <a:pt x="925" y="745"/>
                </a:lnTo>
                <a:lnTo>
                  <a:pt x="965" y="739"/>
                </a:lnTo>
                <a:lnTo>
                  <a:pt x="1008" y="734"/>
                </a:lnTo>
                <a:lnTo>
                  <a:pt x="1052" y="728"/>
                </a:lnTo>
                <a:lnTo>
                  <a:pt x="1052" y="766"/>
                </a:lnTo>
                <a:lnTo>
                  <a:pt x="1052" y="807"/>
                </a:lnTo>
                <a:lnTo>
                  <a:pt x="1040" y="808"/>
                </a:lnTo>
                <a:lnTo>
                  <a:pt x="1027" y="810"/>
                </a:lnTo>
                <a:lnTo>
                  <a:pt x="1013" y="814"/>
                </a:lnTo>
                <a:lnTo>
                  <a:pt x="998" y="816"/>
                </a:lnTo>
                <a:lnTo>
                  <a:pt x="981" y="820"/>
                </a:lnTo>
                <a:lnTo>
                  <a:pt x="963" y="822"/>
                </a:lnTo>
                <a:lnTo>
                  <a:pt x="944" y="826"/>
                </a:lnTo>
                <a:lnTo>
                  <a:pt x="923" y="830"/>
                </a:lnTo>
                <a:lnTo>
                  <a:pt x="902" y="833"/>
                </a:lnTo>
                <a:lnTo>
                  <a:pt x="879" y="837"/>
                </a:lnTo>
                <a:lnTo>
                  <a:pt x="856" y="841"/>
                </a:lnTo>
                <a:lnTo>
                  <a:pt x="829" y="847"/>
                </a:lnTo>
                <a:lnTo>
                  <a:pt x="804" y="853"/>
                </a:lnTo>
                <a:lnTo>
                  <a:pt x="775" y="858"/>
                </a:lnTo>
                <a:lnTo>
                  <a:pt x="746" y="864"/>
                </a:lnTo>
                <a:lnTo>
                  <a:pt x="718" y="872"/>
                </a:lnTo>
                <a:lnTo>
                  <a:pt x="685" y="879"/>
                </a:lnTo>
                <a:lnTo>
                  <a:pt x="654" y="887"/>
                </a:lnTo>
                <a:lnTo>
                  <a:pt x="626" y="893"/>
                </a:lnTo>
                <a:lnTo>
                  <a:pt x="597" y="899"/>
                </a:lnTo>
                <a:lnTo>
                  <a:pt x="570" y="906"/>
                </a:lnTo>
                <a:lnTo>
                  <a:pt x="543" y="912"/>
                </a:lnTo>
                <a:lnTo>
                  <a:pt x="516" y="918"/>
                </a:lnTo>
                <a:lnTo>
                  <a:pt x="491" y="924"/>
                </a:lnTo>
                <a:lnTo>
                  <a:pt x="468" y="927"/>
                </a:lnTo>
                <a:lnTo>
                  <a:pt x="445" y="933"/>
                </a:lnTo>
                <a:lnTo>
                  <a:pt x="424" y="939"/>
                </a:lnTo>
                <a:lnTo>
                  <a:pt x="403" y="945"/>
                </a:lnTo>
                <a:lnTo>
                  <a:pt x="382" y="949"/>
                </a:lnTo>
                <a:lnTo>
                  <a:pt x="363" y="954"/>
                </a:lnTo>
                <a:lnTo>
                  <a:pt x="343" y="958"/>
                </a:lnTo>
                <a:lnTo>
                  <a:pt x="326" y="964"/>
                </a:lnTo>
                <a:lnTo>
                  <a:pt x="307" y="972"/>
                </a:lnTo>
                <a:lnTo>
                  <a:pt x="290" y="977"/>
                </a:lnTo>
                <a:lnTo>
                  <a:pt x="272" y="985"/>
                </a:lnTo>
                <a:lnTo>
                  <a:pt x="257" y="991"/>
                </a:lnTo>
                <a:lnTo>
                  <a:pt x="242" y="997"/>
                </a:lnTo>
                <a:lnTo>
                  <a:pt x="228" y="1002"/>
                </a:lnTo>
                <a:lnTo>
                  <a:pt x="217" y="1008"/>
                </a:lnTo>
                <a:lnTo>
                  <a:pt x="205" y="1014"/>
                </a:lnTo>
                <a:lnTo>
                  <a:pt x="194" y="1018"/>
                </a:lnTo>
                <a:lnTo>
                  <a:pt x="184" y="1022"/>
                </a:lnTo>
                <a:lnTo>
                  <a:pt x="174" y="1027"/>
                </a:lnTo>
                <a:lnTo>
                  <a:pt x="167" y="1031"/>
                </a:lnTo>
                <a:lnTo>
                  <a:pt x="159" y="1033"/>
                </a:lnTo>
                <a:lnTo>
                  <a:pt x="153" y="1037"/>
                </a:lnTo>
                <a:lnTo>
                  <a:pt x="148" y="1041"/>
                </a:lnTo>
                <a:lnTo>
                  <a:pt x="142" y="10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99"/>
          <p:cNvSpPr/>
          <p:nvPr/>
        </p:nvSpPr>
        <p:spPr>
          <a:xfrm>
            <a:off x="5916600" y="3075120"/>
            <a:ext cx="189000" cy="1552320"/>
          </a:xfrm>
          <a:custGeom>
            <a:avLst/>
            <a:gdLst/>
            <a:ahLst/>
            <a:rect l="l" t="t" r="r" b="b"/>
            <a:pathLst>
              <a:path w="238" h="1956">
                <a:moveTo>
                  <a:pt x="161" y="1758"/>
                </a:moveTo>
                <a:lnTo>
                  <a:pt x="157" y="1783"/>
                </a:lnTo>
                <a:lnTo>
                  <a:pt x="155" y="1804"/>
                </a:lnTo>
                <a:lnTo>
                  <a:pt x="153" y="1826"/>
                </a:lnTo>
                <a:lnTo>
                  <a:pt x="149" y="1845"/>
                </a:lnTo>
                <a:lnTo>
                  <a:pt x="145" y="1862"/>
                </a:lnTo>
                <a:lnTo>
                  <a:pt x="143" y="1879"/>
                </a:lnTo>
                <a:lnTo>
                  <a:pt x="140" y="1895"/>
                </a:lnTo>
                <a:lnTo>
                  <a:pt x="136" y="1906"/>
                </a:lnTo>
                <a:lnTo>
                  <a:pt x="132" y="1918"/>
                </a:lnTo>
                <a:lnTo>
                  <a:pt x="128" y="1929"/>
                </a:lnTo>
                <a:lnTo>
                  <a:pt x="124" y="1937"/>
                </a:lnTo>
                <a:lnTo>
                  <a:pt x="119" y="1945"/>
                </a:lnTo>
                <a:lnTo>
                  <a:pt x="115" y="1948"/>
                </a:lnTo>
                <a:lnTo>
                  <a:pt x="111" y="1952"/>
                </a:lnTo>
                <a:lnTo>
                  <a:pt x="107" y="1956"/>
                </a:lnTo>
                <a:lnTo>
                  <a:pt x="103" y="1956"/>
                </a:lnTo>
                <a:lnTo>
                  <a:pt x="97" y="1954"/>
                </a:lnTo>
                <a:lnTo>
                  <a:pt x="94" y="1950"/>
                </a:lnTo>
                <a:lnTo>
                  <a:pt x="90" y="1946"/>
                </a:lnTo>
                <a:lnTo>
                  <a:pt x="84" y="1941"/>
                </a:lnTo>
                <a:lnTo>
                  <a:pt x="80" y="1935"/>
                </a:lnTo>
                <a:lnTo>
                  <a:pt x="76" y="1929"/>
                </a:lnTo>
                <a:lnTo>
                  <a:pt x="72" y="1923"/>
                </a:lnTo>
                <a:lnTo>
                  <a:pt x="67" y="1916"/>
                </a:lnTo>
                <a:lnTo>
                  <a:pt x="63" y="1906"/>
                </a:lnTo>
                <a:lnTo>
                  <a:pt x="59" y="1897"/>
                </a:lnTo>
                <a:lnTo>
                  <a:pt x="55" y="1887"/>
                </a:lnTo>
                <a:lnTo>
                  <a:pt x="49" y="1877"/>
                </a:lnTo>
                <a:lnTo>
                  <a:pt x="46" y="1866"/>
                </a:lnTo>
                <a:lnTo>
                  <a:pt x="42" y="1852"/>
                </a:lnTo>
                <a:lnTo>
                  <a:pt x="38" y="1839"/>
                </a:lnTo>
                <a:lnTo>
                  <a:pt x="34" y="1826"/>
                </a:lnTo>
                <a:lnTo>
                  <a:pt x="24" y="1801"/>
                </a:lnTo>
                <a:lnTo>
                  <a:pt x="19" y="1778"/>
                </a:lnTo>
                <a:lnTo>
                  <a:pt x="13" y="1756"/>
                </a:lnTo>
                <a:lnTo>
                  <a:pt x="7" y="1737"/>
                </a:lnTo>
                <a:lnTo>
                  <a:pt x="5" y="1730"/>
                </a:lnTo>
                <a:lnTo>
                  <a:pt x="3" y="1720"/>
                </a:lnTo>
                <a:lnTo>
                  <a:pt x="1" y="1712"/>
                </a:lnTo>
                <a:lnTo>
                  <a:pt x="1" y="1705"/>
                </a:lnTo>
                <a:lnTo>
                  <a:pt x="0" y="1697"/>
                </a:lnTo>
                <a:lnTo>
                  <a:pt x="0" y="1691"/>
                </a:lnTo>
                <a:lnTo>
                  <a:pt x="0" y="1685"/>
                </a:lnTo>
                <a:lnTo>
                  <a:pt x="0" y="1680"/>
                </a:lnTo>
                <a:lnTo>
                  <a:pt x="0" y="1676"/>
                </a:lnTo>
                <a:lnTo>
                  <a:pt x="0" y="1668"/>
                </a:lnTo>
                <a:lnTo>
                  <a:pt x="0" y="1662"/>
                </a:lnTo>
                <a:lnTo>
                  <a:pt x="1" y="1657"/>
                </a:lnTo>
                <a:lnTo>
                  <a:pt x="1" y="1649"/>
                </a:lnTo>
                <a:lnTo>
                  <a:pt x="3" y="1639"/>
                </a:lnTo>
                <a:lnTo>
                  <a:pt x="3" y="1632"/>
                </a:lnTo>
                <a:lnTo>
                  <a:pt x="5" y="1622"/>
                </a:lnTo>
                <a:lnTo>
                  <a:pt x="9" y="1603"/>
                </a:lnTo>
                <a:lnTo>
                  <a:pt x="13" y="1582"/>
                </a:lnTo>
                <a:lnTo>
                  <a:pt x="17" y="1561"/>
                </a:lnTo>
                <a:lnTo>
                  <a:pt x="23" y="1536"/>
                </a:lnTo>
                <a:lnTo>
                  <a:pt x="24" y="1522"/>
                </a:lnTo>
                <a:lnTo>
                  <a:pt x="26" y="1509"/>
                </a:lnTo>
                <a:lnTo>
                  <a:pt x="28" y="1495"/>
                </a:lnTo>
                <a:lnTo>
                  <a:pt x="32" y="1480"/>
                </a:lnTo>
                <a:lnTo>
                  <a:pt x="34" y="1463"/>
                </a:lnTo>
                <a:lnTo>
                  <a:pt x="38" y="1445"/>
                </a:lnTo>
                <a:lnTo>
                  <a:pt x="42" y="1428"/>
                </a:lnTo>
                <a:lnTo>
                  <a:pt x="44" y="1409"/>
                </a:lnTo>
                <a:lnTo>
                  <a:pt x="48" y="1390"/>
                </a:lnTo>
                <a:lnTo>
                  <a:pt x="51" y="1369"/>
                </a:lnTo>
                <a:lnTo>
                  <a:pt x="53" y="1349"/>
                </a:lnTo>
                <a:lnTo>
                  <a:pt x="57" y="1326"/>
                </a:lnTo>
                <a:lnTo>
                  <a:pt x="61" y="1305"/>
                </a:lnTo>
                <a:lnTo>
                  <a:pt x="63" y="1282"/>
                </a:lnTo>
                <a:lnTo>
                  <a:pt x="65" y="1257"/>
                </a:lnTo>
                <a:lnTo>
                  <a:pt x="69" y="1234"/>
                </a:lnTo>
                <a:lnTo>
                  <a:pt x="71" y="1209"/>
                </a:lnTo>
                <a:lnTo>
                  <a:pt x="72" y="1182"/>
                </a:lnTo>
                <a:lnTo>
                  <a:pt x="74" y="1156"/>
                </a:lnTo>
                <a:lnTo>
                  <a:pt x="76" y="1127"/>
                </a:lnTo>
                <a:lnTo>
                  <a:pt x="78" y="1098"/>
                </a:lnTo>
                <a:lnTo>
                  <a:pt x="80" y="1069"/>
                </a:lnTo>
                <a:lnTo>
                  <a:pt x="82" y="1039"/>
                </a:lnTo>
                <a:lnTo>
                  <a:pt x="84" y="1006"/>
                </a:lnTo>
                <a:lnTo>
                  <a:pt x="84" y="973"/>
                </a:lnTo>
                <a:lnTo>
                  <a:pt x="86" y="939"/>
                </a:lnTo>
                <a:lnTo>
                  <a:pt x="88" y="902"/>
                </a:lnTo>
                <a:lnTo>
                  <a:pt x="88" y="866"/>
                </a:lnTo>
                <a:lnTo>
                  <a:pt x="90" y="829"/>
                </a:lnTo>
                <a:lnTo>
                  <a:pt x="90" y="789"/>
                </a:lnTo>
                <a:lnTo>
                  <a:pt x="90" y="749"/>
                </a:lnTo>
                <a:lnTo>
                  <a:pt x="92" y="708"/>
                </a:lnTo>
                <a:lnTo>
                  <a:pt x="90" y="668"/>
                </a:lnTo>
                <a:lnTo>
                  <a:pt x="90" y="628"/>
                </a:lnTo>
                <a:lnTo>
                  <a:pt x="90" y="587"/>
                </a:lnTo>
                <a:lnTo>
                  <a:pt x="88" y="545"/>
                </a:lnTo>
                <a:lnTo>
                  <a:pt x="88" y="503"/>
                </a:lnTo>
                <a:lnTo>
                  <a:pt x="86" y="461"/>
                </a:lnTo>
                <a:lnTo>
                  <a:pt x="84" y="419"/>
                </a:lnTo>
                <a:lnTo>
                  <a:pt x="82" y="374"/>
                </a:lnTo>
                <a:lnTo>
                  <a:pt x="80" y="328"/>
                </a:lnTo>
                <a:lnTo>
                  <a:pt x="76" y="284"/>
                </a:lnTo>
                <a:lnTo>
                  <a:pt x="74" y="238"/>
                </a:lnTo>
                <a:lnTo>
                  <a:pt x="71" y="192"/>
                </a:lnTo>
                <a:lnTo>
                  <a:pt x="69" y="144"/>
                </a:lnTo>
                <a:lnTo>
                  <a:pt x="65" y="96"/>
                </a:lnTo>
                <a:lnTo>
                  <a:pt x="61" y="48"/>
                </a:lnTo>
                <a:lnTo>
                  <a:pt x="57" y="0"/>
                </a:lnTo>
                <a:lnTo>
                  <a:pt x="74" y="14"/>
                </a:lnTo>
                <a:lnTo>
                  <a:pt x="94" y="27"/>
                </a:lnTo>
                <a:lnTo>
                  <a:pt x="109" y="40"/>
                </a:lnTo>
                <a:lnTo>
                  <a:pt x="124" y="54"/>
                </a:lnTo>
                <a:lnTo>
                  <a:pt x="140" y="65"/>
                </a:lnTo>
                <a:lnTo>
                  <a:pt x="153" y="77"/>
                </a:lnTo>
                <a:lnTo>
                  <a:pt x="165" y="88"/>
                </a:lnTo>
                <a:lnTo>
                  <a:pt x="176" y="98"/>
                </a:lnTo>
                <a:lnTo>
                  <a:pt x="188" y="108"/>
                </a:lnTo>
                <a:lnTo>
                  <a:pt x="197" y="117"/>
                </a:lnTo>
                <a:lnTo>
                  <a:pt x="205" y="125"/>
                </a:lnTo>
                <a:lnTo>
                  <a:pt x="211" y="133"/>
                </a:lnTo>
                <a:lnTo>
                  <a:pt x="218" y="140"/>
                </a:lnTo>
                <a:lnTo>
                  <a:pt x="222" y="146"/>
                </a:lnTo>
                <a:lnTo>
                  <a:pt x="226" y="152"/>
                </a:lnTo>
                <a:lnTo>
                  <a:pt x="230" y="158"/>
                </a:lnTo>
                <a:lnTo>
                  <a:pt x="232" y="167"/>
                </a:lnTo>
                <a:lnTo>
                  <a:pt x="236" y="179"/>
                </a:lnTo>
                <a:lnTo>
                  <a:pt x="238" y="192"/>
                </a:lnTo>
                <a:lnTo>
                  <a:pt x="238" y="207"/>
                </a:lnTo>
                <a:lnTo>
                  <a:pt x="238" y="215"/>
                </a:lnTo>
                <a:lnTo>
                  <a:pt x="238" y="225"/>
                </a:lnTo>
                <a:lnTo>
                  <a:pt x="236" y="234"/>
                </a:lnTo>
                <a:lnTo>
                  <a:pt x="236" y="244"/>
                </a:lnTo>
                <a:lnTo>
                  <a:pt x="234" y="253"/>
                </a:lnTo>
                <a:lnTo>
                  <a:pt x="232" y="265"/>
                </a:lnTo>
                <a:lnTo>
                  <a:pt x="232" y="277"/>
                </a:lnTo>
                <a:lnTo>
                  <a:pt x="230" y="288"/>
                </a:lnTo>
                <a:lnTo>
                  <a:pt x="228" y="294"/>
                </a:lnTo>
                <a:lnTo>
                  <a:pt x="226" y="301"/>
                </a:lnTo>
                <a:lnTo>
                  <a:pt x="226" y="311"/>
                </a:lnTo>
                <a:lnTo>
                  <a:pt x="226" y="321"/>
                </a:lnTo>
                <a:lnTo>
                  <a:pt x="224" y="330"/>
                </a:lnTo>
                <a:lnTo>
                  <a:pt x="224" y="342"/>
                </a:lnTo>
                <a:lnTo>
                  <a:pt x="222" y="353"/>
                </a:lnTo>
                <a:lnTo>
                  <a:pt x="222" y="367"/>
                </a:lnTo>
                <a:lnTo>
                  <a:pt x="222" y="380"/>
                </a:lnTo>
                <a:lnTo>
                  <a:pt x="220" y="396"/>
                </a:lnTo>
                <a:lnTo>
                  <a:pt x="220" y="411"/>
                </a:lnTo>
                <a:lnTo>
                  <a:pt x="220" y="428"/>
                </a:lnTo>
                <a:lnTo>
                  <a:pt x="218" y="445"/>
                </a:lnTo>
                <a:lnTo>
                  <a:pt x="218" y="465"/>
                </a:lnTo>
                <a:lnTo>
                  <a:pt x="218" y="484"/>
                </a:lnTo>
                <a:lnTo>
                  <a:pt x="216" y="505"/>
                </a:lnTo>
                <a:lnTo>
                  <a:pt x="216" y="526"/>
                </a:lnTo>
                <a:lnTo>
                  <a:pt x="216" y="549"/>
                </a:lnTo>
                <a:lnTo>
                  <a:pt x="216" y="572"/>
                </a:lnTo>
                <a:lnTo>
                  <a:pt x="215" y="595"/>
                </a:lnTo>
                <a:lnTo>
                  <a:pt x="215" y="620"/>
                </a:lnTo>
                <a:lnTo>
                  <a:pt x="215" y="647"/>
                </a:lnTo>
                <a:lnTo>
                  <a:pt x="213" y="674"/>
                </a:lnTo>
                <a:lnTo>
                  <a:pt x="213" y="703"/>
                </a:lnTo>
                <a:lnTo>
                  <a:pt x="213" y="731"/>
                </a:lnTo>
                <a:lnTo>
                  <a:pt x="211" y="760"/>
                </a:lnTo>
                <a:lnTo>
                  <a:pt x="211" y="791"/>
                </a:lnTo>
                <a:lnTo>
                  <a:pt x="209" y="822"/>
                </a:lnTo>
                <a:lnTo>
                  <a:pt x="209" y="854"/>
                </a:lnTo>
                <a:lnTo>
                  <a:pt x="209" y="889"/>
                </a:lnTo>
                <a:lnTo>
                  <a:pt x="207" y="923"/>
                </a:lnTo>
                <a:lnTo>
                  <a:pt x="207" y="958"/>
                </a:lnTo>
                <a:lnTo>
                  <a:pt x="205" y="994"/>
                </a:lnTo>
                <a:lnTo>
                  <a:pt x="203" y="1031"/>
                </a:lnTo>
                <a:lnTo>
                  <a:pt x="203" y="1065"/>
                </a:lnTo>
                <a:lnTo>
                  <a:pt x="201" y="1100"/>
                </a:lnTo>
                <a:lnTo>
                  <a:pt x="201" y="1133"/>
                </a:lnTo>
                <a:lnTo>
                  <a:pt x="199" y="1165"/>
                </a:lnTo>
                <a:lnTo>
                  <a:pt x="197" y="1198"/>
                </a:lnTo>
                <a:lnTo>
                  <a:pt x="197" y="1229"/>
                </a:lnTo>
                <a:lnTo>
                  <a:pt x="195" y="1259"/>
                </a:lnTo>
                <a:lnTo>
                  <a:pt x="195" y="1290"/>
                </a:lnTo>
                <a:lnTo>
                  <a:pt x="193" y="1319"/>
                </a:lnTo>
                <a:lnTo>
                  <a:pt x="191" y="1346"/>
                </a:lnTo>
                <a:lnTo>
                  <a:pt x="191" y="1374"/>
                </a:lnTo>
                <a:lnTo>
                  <a:pt x="190" y="1401"/>
                </a:lnTo>
                <a:lnTo>
                  <a:pt x="188" y="1426"/>
                </a:lnTo>
                <a:lnTo>
                  <a:pt x="188" y="1451"/>
                </a:lnTo>
                <a:lnTo>
                  <a:pt x="186" y="1476"/>
                </a:lnTo>
                <a:lnTo>
                  <a:pt x="184" y="1501"/>
                </a:lnTo>
                <a:lnTo>
                  <a:pt x="182" y="1524"/>
                </a:lnTo>
                <a:lnTo>
                  <a:pt x="182" y="1545"/>
                </a:lnTo>
                <a:lnTo>
                  <a:pt x="180" y="1568"/>
                </a:lnTo>
                <a:lnTo>
                  <a:pt x="178" y="1588"/>
                </a:lnTo>
                <a:lnTo>
                  <a:pt x="176" y="1609"/>
                </a:lnTo>
                <a:lnTo>
                  <a:pt x="174" y="1628"/>
                </a:lnTo>
                <a:lnTo>
                  <a:pt x="172" y="1647"/>
                </a:lnTo>
                <a:lnTo>
                  <a:pt x="172" y="1664"/>
                </a:lnTo>
                <a:lnTo>
                  <a:pt x="170" y="1682"/>
                </a:lnTo>
                <a:lnTo>
                  <a:pt x="168" y="1699"/>
                </a:lnTo>
                <a:lnTo>
                  <a:pt x="167" y="1714"/>
                </a:lnTo>
                <a:lnTo>
                  <a:pt x="165" y="1730"/>
                </a:lnTo>
                <a:lnTo>
                  <a:pt x="163" y="1745"/>
                </a:lnTo>
                <a:lnTo>
                  <a:pt x="161" y="17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00"/>
          <p:cNvSpPr/>
          <p:nvPr/>
        </p:nvSpPr>
        <p:spPr>
          <a:xfrm>
            <a:off x="5504040" y="2451240"/>
            <a:ext cx="795240" cy="1238040"/>
          </a:xfrm>
          <a:custGeom>
            <a:avLst/>
            <a:gdLst/>
            <a:ahLst/>
            <a:rect l="l" t="t" r="r" b="b"/>
            <a:pathLst>
              <a:path w="1002" h="1561">
                <a:moveTo>
                  <a:pt x="417" y="967"/>
                </a:moveTo>
                <a:lnTo>
                  <a:pt x="453" y="904"/>
                </a:lnTo>
                <a:lnTo>
                  <a:pt x="490" y="837"/>
                </a:lnTo>
                <a:lnTo>
                  <a:pt x="524" y="770"/>
                </a:lnTo>
                <a:lnTo>
                  <a:pt x="557" y="703"/>
                </a:lnTo>
                <a:lnTo>
                  <a:pt x="590" y="633"/>
                </a:lnTo>
                <a:lnTo>
                  <a:pt x="620" y="562"/>
                </a:lnTo>
                <a:lnTo>
                  <a:pt x="651" y="490"/>
                </a:lnTo>
                <a:lnTo>
                  <a:pt x="682" y="417"/>
                </a:lnTo>
                <a:lnTo>
                  <a:pt x="688" y="399"/>
                </a:lnTo>
                <a:lnTo>
                  <a:pt x="695" y="380"/>
                </a:lnTo>
                <a:lnTo>
                  <a:pt x="701" y="363"/>
                </a:lnTo>
                <a:lnTo>
                  <a:pt x="709" y="347"/>
                </a:lnTo>
                <a:lnTo>
                  <a:pt x="714" y="330"/>
                </a:lnTo>
                <a:lnTo>
                  <a:pt x="720" y="315"/>
                </a:lnTo>
                <a:lnTo>
                  <a:pt x="726" y="299"/>
                </a:lnTo>
                <a:lnTo>
                  <a:pt x="730" y="286"/>
                </a:lnTo>
                <a:lnTo>
                  <a:pt x="736" y="271"/>
                </a:lnTo>
                <a:lnTo>
                  <a:pt x="739" y="257"/>
                </a:lnTo>
                <a:lnTo>
                  <a:pt x="743" y="246"/>
                </a:lnTo>
                <a:lnTo>
                  <a:pt x="747" y="232"/>
                </a:lnTo>
                <a:lnTo>
                  <a:pt x="751" y="221"/>
                </a:lnTo>
                <a:lnTo>
                  <a:pt x="755" y="209"/>
                </a:lnTo>
                <a:lnTo>
                  <a:pt x="757" y="198"/>
                </a:lnTo>
                <a:lnTo>
                  <a:pt x="759" y="188"/>
                </a:lnTo>
                <a:lnTo>
                  <a:pt x="762" y="179"/>
                </a:lnTo>
                <a:lnTo>
                  <a:pt x="764" y="169"/>
                </a:lnTo>
                <a:lnTo>
                  <a:pt x="766" y="159"/>
                </a:lnTo>
                <a:lnTo>
                  <a:pt x="766" y="152"/>
                </a:lnTo>
                <a:lnTo>
                  <a:pt x="768" y="144"/>
                </a:lnTo>
                <a:lnTo>
                  <a:pt x="768" y="136"/>
                </a:lnTo>
                <a:lnTo>
                  <a:pt x="770" y="129"/>
                </a:lnTo>
                <a:lnTo>
                  <a:pt x="770" y="123"/>
                </a:lnTo>
                <a:lnTo>
                  <a:pt x="770" y="111"/>
                </a:lnTo>
                <a:lnTo>
                  <a:pt x="768" y="102"/>
                </a:lnTo>
                <a:lnTo>
                  <a:pt x="764" y="94"/>
                </a:lnTo>
                <a:lnTo>
                  <a:pt x="762" y="88"/>
                </a:lnTo>
                <a:lnTo>
                  <a:pt x="757" y="83"/>
                </a:lnTo>
                <a:lnTo>
                  <a:pt x="755" y="79"/>
                </a:lnTo>
                <a:lnTo>
                  <a:pt x="751" y="73"/>
                </a:lnTo>
                <a:lnTo>
                  <a:pt x="749" y="69"/>
                </a:lnTo>
                <a:lnTo>
                  <a:pt x="745" y="58"/>
                </a:lnTo>
                <a:lnTo>
                  <a:pt x="743" y="48"/>
                </a:lnTo>
                <a:lnTo>
                  <a:pt x="743" y="38"/>
                </a:lnTo>
                <a:lnTo>
                  <a:pt x="743" y="29"/>
                </a:lnTo>
                <a:lnTo>
                  <a:pt x="747" y="19"/>
                </a:lnTo>
                <a:lnTo>
                  <a:pt x="751" y="10"/>
                </a:lnTo>
                <a:lnTo>
                  <a:pt x="755" y="6"/>
                </a:lnTo>
                <a:lnTo>
                  <a:pt x="760" y="2"/>
                </a:lnTo>
                <a:lnTo>
                  <a:pt x="768" y="0"/>
                </a:lnTo>
                <a:lnTo>
                  <a:pt x="778" y="0"/>
                </a:lnTo>
                <a:lnTo>
                  <a:pt x="787" y="0"/>
                </a:lnTo>
                <a:lnTo>
                  <a:pt x="801" y="2"/>
                </a:lnTo>
                <a:lnTo>
                  <a:pt x="807" y="4"/>
                </a:lnTo>
                <a:lnTo>
                  <a:pt x="814" y="6"/>
                </a:lnTo>
                <a:lnTo>
                  <a:pt x="822" y="8"/>
                </a:lnTo>
                <a:lnTo>
                  <a:pt x="831" y="10"/>
                </a:lnTo>
                <a:lnTo>
                  <a:pt x="843" y="15"/>
                </a:lnTo>
                <a:lnTo>
                  <a:pt x="858" y="21"/>
                </a:lnTo>
                <a:lnTo>
                  <a:pt x="874" y="29"/>
                </a:lnTo>
                <a:lnTo>
                  <a:pt x="887" y="37"/>
                </a:lnTo>
                <a:lnTo>
                  <a:pt x="903" y="46"/>
                </a:lnTo>
                <a:lnTo>
                  <a:pt x="918" y="56"/>
                </a:lnTo>
                <a:lnTo>
                  <a:pt x="931" y="65"/>
                </a:lnTo>
                <a:lnTo>
                  <a:pt x="945" y="75"/>
                </a:lnTo>
                <a:lnTo>
                  <a:pt x="958" y="88"/>
                </a:lnTo>
                <a:lnTo>
                  <a:pt x="970" y="102"/>
                </a:lnTo>
                <a:lnTo>
                  <a:pt x="979" y="115"/>
                </a:lnTo>
                <a:lnTo>
                  <a:pt x="987" y="127"/>
                </a:lnTo>
                <a:lnTo>
                  <a:pt x="995" y="136"/>
                </a:lnTo>
                <a:lnTo>
                  <a:pt x="998" y="148"/>
                </a:lnTo>
                <a:lnTo>
                  <a:pt x="1000" y="152"/>
                </a:lnTo>
                <a:lnTo>
                  <a:pt x="1002" y="157"/>
                </a:lnTo>
                <a:lnTo>
                  <a:pt x="1002" y="161"/>
                </a:lnTo>
                <a:lnTo>
                  <a:pt x="1002" y="167"/>
                </a:lnTo>
                <a:lnTo>
                  <a:pt x="1002" y="173"/>
                </a:lnTo>
                <a:lnTo>
                  <a:pt x="1002" y="179"/>
                </a:lnTo>
                <a:lnTo>
                  <a:pt x="1000" y="186"/>
                </a:lnTo>
                <a:lnTo>
                  <a:pt x="998" y="194"/>
                </a:lnTo>
                <a:lnTo>
                  <a:pt x="995" y="204"/>
                </a:lnTo>
                <a:lnTo>
                  <a:pt x="993" y="213"/>
                </a:lnTo>
                <a:lnTo>
                  <a:pt x="989" y="225"/>
                </a:lnTo>
                <a:lnTo>
                  <a:pt x="983" y="238"/>
                </a:lnTo>
                <a:lnTo>
                  <a:pt x="979" y="251"/>
                </a:lnTo>
                <a:lnTo>
                  <a:pt x="974" y="265"/>
                </a:lnTo>
                <a:lnTo>
                  <a:pt x="966" y="282"/>
                </a:lnTo>
                <a:lnTo>
                  <a:pt x="958" y="298"/>
                </a:lnTo>
                <a:lnTo>
                  <a:pt x="950" y="317"/>
                </a:lnTo>
                <a:lnTo>
                  <a:pt x="943" y="336"/>
                </a:lnTo>
                <a:lnTo>
                  <a:pt x="933" y="355"/>
                </a:lnTo>
                <a:lnTo>
                  <a:pt x="922" y="378"/>
                </a:lnTo>
                <a:lnTo>
                  <a:pt x="912" y="399"/>
                </a:lnTo>
                <a:lnTo>
                  <a:pt x="899" y="424"/>
                </a:lnTo>
                <a:lnTo>
                  <a:pt x="887" y="447"/>
                </a:lnTo>
                <a:lnTo>
                  <a:pt x="874" y="474"/>
                </a:lnTo>
                <a:lnTo>
                  <a:pt x="858" y="499"/>
                </a:lnTo>
                <a:lnTo>
                  <a:pt x="843" y="528"/>
                </a:lnTo>
                <a:lnTo>
                  <a:pt x="828" y="557"/>
                </a:lnTo>
                <a:lnTo>
                  <a:pt x="810" y="585"/>
                </a:lnTo>
                <a:lnTo>
                  <a:pt x="795" y="616"/>
                </a:lnTo>
                <a:lnTo>
                  <a:pt x="776" y="647"/>
                </a:lnTo>
                <a:lnTo>
                  <a:pt x="759" y="681"/>
                </a:lnTo>
                <a:lnTo>
                  <a:pt x="739" y="714"/>
                </a:lnTo>
                <a:lnTo>
                  <a:pt x="720" y="751"/>
                </a:lnTo>
                <a:lnTo>
                  <a:pt x="699" y="787"/>
                </a:lnTo>
                <a:lnTo>
                  <a:pt x="678" y="823"/>
                </a:lnTo>
                <a:lnTo>
                  <a:pt x="659" y="864"/>
                </a:lnTo>
                <a:lnTo>
                  <a:pt x="634" y="904"/>
                </a:lnTo>
                <a:lnTo>
                  <a:pt x="611" y="944"/>
                </a:lnTo>
                <a:lnTo>
                  <a:pt x="588" y="983"/>
                </a:lnTo>
                <a:lnTo>
                  <a:pt x="563" y="1021"/>
                </a:lnTo>
                <a:lnTo>
                  <a:pt x="540" y="1058"/>
                </a:lnTo>
                <a:lnTo>
                  <a:pt x="515" y="1092"/>
                </a:lnTo>
                <a:lnTo>
                  <a:pt x="490" y="1127"/>
                </a:lnTo>
                <a:lnTo>
                  <a:pt x="465" y="1159"/>
                </a:lnTo>
                <a:lnTo>
                  <a:pt x="440" y="1192"/>
                </a:lnTo>
                <a:lnTo>
                  <a:pt x="415" y="1223"/>
                </a:lnTo>
                <a:lnTo>
                  <a:pt x="388" y="1253"/>
                </a:lnTo>
                <a:lnTo>
                  <a:pt x="363" y="1282"/>
                </a:lnTo>
                <a:lnTo>
                  <a:pt x="336" y="1309"/>
                </a:lnTo>
                <a:lnTo>
                  <a:pt x="309" y="1336"/>
                </a:lnTo>
                <a:lnTo>
                  <a:pt x="283" y="1363"/>
                </a:lnTo>
                <a:lnTo>
                  <a:pt x="256" y="1388"/>
                </a:lnTo>
                <a:lnTo>
                  <a:pt x="240" y="1401"/>
                </a:lnTo>
                <a:lnTo>
                  <a:pt x="227" y="1413"/>
                </a:lnTo>
                <a:lnTo>
                  <a:pt x="202" y="1434"/>
                </a:lnTo>
                <a:lnTo>
                  <a:pt x="177" y="1455"/>
                </a:lnTo>
                <a:lnTo>
                  <a:pt x="154" y="1472"/>
                </a:lnTo>
                <a:lnTo>
                  <a:pt x="133" y="1490"/>
                </a:lnTo>
                <a:lnTo>
                  <a:pt x="112" y="1505"/>
                </a:lnTo>
                <a:lnTo>
                  <a:pt x="94" y="1516"/>
                </a:lnTo>
                <a:lnTo>
                  <a:pt x="77" y="1528"/>
                </a:lnTo>
                <a:lnTo>
                  <a:pt x="62" y="1538"/>
                </a:lnTo>
                <a:lnTo>
                  <a:pt x="48" y="1545"/>
                </a:lnTo>
                <a:lnTo>
                  <a:pt x="35" y="1553"/>
                </a:lnTo>
                <a:lnTo>
                  <a:pt x="25" y="1557"/>
                </a:lnTo>
                <a:lnTo>
                  <a:pt x="16" y="1559"/>
                </a:lnTo>
                <a:lnTo>
                  <a:pt x="10" y="1561"/>
                </a:lnTo>
                <a:lnTo>
                  <a:pt x="4" y="1561"/>
                </a:lnTo>
                <a:lnTo>
                  <a:pt x="2" y="1561"/>
                </a:lnTo>
                <a:lnTo>
                  <a:pt x="2" y="1559"/>
                </a:lnTo>
                <a:lnTo>
                  <a:pt x="0" y="1557"/>
                </a:lnTo>
                <a:lnTo>
                  <a:pt x="0" y="1551"/>
                </a:lnTo>
                <a:lnTo>
                  <a:pt x="0" y="1547"/>
                </a:lnTo>
                <a:lnTo>
                  <a:pt x="2" y="1539"/>
                </a:lnTo>
                <a:lnTo>
                  <a:pt x="6" y="1532"/>
                </a:lnTo>
                <a:lnTo>
                  <a:pt x="10" y="1522"/>
                </a:lnTo>
                <a:lnTo>
                  <a:pt x="16" y="1513"/>
                </a:lnTo>
                <a:lnTo>
                  <a:pt x="21" y="1501"/>
                </a:lnTo>
                <a:lnTo>
                  <a:pt x="31" y="1488"/>
                </a:lnTo>
                <a:lnTo>
                  <a:pt x="41" y="1474"/>
                </a:lnTo>
                <a:lnTo>
                  <a:pt x="50" y="1459"/>
                </a:lnTo>
                <a:lnTo>
                  <a:pt x="64" y="1442"/>
                </a:lnTo>
                <a:lnTo>
                  <a:pt x="77" y="1424"/>
                </a:lnTo>
                <a:lnTo>
                  <a:pt x="92" y="1405"/>
                </a:lnTo>
                <a:lnTo>
                  <a:pt x="110" y="1384"/>
                </a:lnTo>
                <a:lnTo>
                  <a:pt x="129" y="1363"/>
                </a:lnTo>
                <a:lnTo>
                  <a:pt x="148" y="1342"/>
                </a:lnTo>
                <a:lnTo>
                  <a:pt x="165" y="1321"/>
                </a:lnTo>
                <a:lnTo>
                  <a:pt x="185" y="1300"/>
                </a:lnTo>
                <a:lnTo>
                  <a:pt x="204" y="1278"/>
                </a:lnTo>
                <a:lnTo>
                  <a:pt x="223" y="1255"/>
                </a:lnTo>
                <a:lnTo>
                  <a:pt x="240" y="1232"/>
                </a:lnTo>
                <a:lnTo>
                  <a:pt x="258" y="1209"/>
                </a:lnTo>
                <a:lnTo>
                  <a:pt x="277" y="1184"/>
                </a:lnTo>
                <a:lnTo>
                  <a:pt x="294" y="1159"/>
                </a:lnTo>
                <a:lnTo>
                  <a:pt x="311" y="1134"/>
                </a:lnTo>
                <a:lnTo>
                  <a:pt x="331" y="1108"/>
                </a:lnTo>
                <a:lnTo>
                  <a:pt x="348" y="1081"/>
                </a:lnTo>
                <a:lnTo>
                  <a:pt x="365" y="1054"/>
                </a:lnTo>
                <a:lnTo>
                  <a:pt x="382" y="1027"/>
                </a:lnTo>
                <a:lnTo>
                  <a:pt x="400" y="998"/>
                </a:lnTo>
                <a:lnTo>
                  <a:pt x="417" y="9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08:38:50Z</dcterms:created>
  <dc:creator/>
  <dc:description/>
  <dc:language>en-US</dc:language>
  <cp:lastModifiedBy/>
  <dcterms:modified xsi:type="dcterms:W3CDTF">2017-11-30T11:59:06Z</dcterms:modified>
  <cp:revision>2</cp:revision>
  <dc:subject/>
  <dc:title>幻灯片 1</dc:title>
</cp:coreProperties>
</file>