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21F4E-61C2-4809-AD0E-8EEAAF5766A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96667-706A-4055-A7AC-CDCD157F464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C0B64-54B2-4F72-B565-B2CC91A44C7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E1343-4344-4E42-B4F5-201C67A2B6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59158-2DA2-4B16-998A-88255E0EA0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B793D-447F-4727-801F-479C8BC0C8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49773-A60C-4EDD-A37C-E9DF4D411AF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5D6-6D32-46B7-9723-711DD55D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FC8F-8F46-4003-813C-132355AE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8F3-7C7F-4F9F-AA8D-F968246A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FEC-90DC-4085-A2ED-538773B6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373-3A1E-46B4-B56F-6C04E99C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D94-7685-472D-B080-45E30E89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813-AD4B-49E8-8F23-4309A39E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2F5-0AA0-4BCD-A27C-11C8FEC3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99F8-C660-4010-84E0-549554C7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269-9475-4CAC-9ADD-25E4AA5B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68D-8F2B-4249-8E4A-D44A3862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4D5-F223-4589-B8A6-6B00D485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B3F75-AF2E-49DA-90C0-F7AAFE4764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3505320" y="915840"/>
            <a:ext cx="32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Calibri"/>
                <a:ea typeface="黑体"/>
              </a:rPr>
              <a:t>乡土画家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2216160" y="760320"/>
            <a:ext cx="1181160" cy="1181160"/>
          </a:xfrm>
          <a:prstGeom prst="diamond">
            <a:avLst/>
          </a:prstGeom>
          <a:solidFill>
            <a:srgbClr val="236b2a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2166480" y="8460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16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7" descr=""/>
          <p:cNvPicPr/>
          <p:nvPr/>
        </p:nvPicPr>
        <p:blipFill>
          <a:blip r:embed="rId3"/>
          <a:stretch/>
        </p:blipFill>
        <p:spPr>
          <a:xfrm>
            <a:off x="2430360" y="2087640"/>
            <a:ext cx="4362480" cy="3274920"/>
          </a:xfrm>
          <a:prstGeom prst="rect">
            <a:avLst/>
          </a:prstGeom>
          <a:ln w="0">
            <a:noFill/>
          </a:ln>
        </p:spPr>
      </p:pic>
      <p:grpSp>
        <p:nvGrpSpPr>
          <p:cNvPr id="56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7" name="任意多边形 14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任意多边形 15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任意多边形 16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任意多边形 17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流程图: 摘录 18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流程图: 摘录 19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流程图: 摘录 20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5" name="矩形 22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矩形 24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藤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2"/>
          <p:cNvSpPr/>
          <p:nvPr/>
        </p:nvSpPr>
        <p:spPr>
          <a:xfrm>
            <a:off x="1851120" y="1825560"/>
            <a:ext cx="145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é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90"/>
          <p:cNvSpPr/>
          <p:nvPr/>
        </p:nvSpPr>
        <p:spPr>
          <a:xfrm>
            <a:off x="5553000" y="3622680"/>
            <a:ext cx="434880" cy="1306440"/>
          </a:xfrm>
          <a:custGeom>
            <a:avLst/>
            <a:gdLst/>
            <a:ahLst/>
            <a:rect l="l" t="t" r="r" b="b"/>
            <a:pathLst>
              <a:path w="824" h="2468">
                <a:moveTo>
                  <a:pt x="580" y="28"/>
                </a:moveTo>
                <a:lnTo>
                  <a:pt x="585" y="21"/>
                </a:lnTo>
                <a:lnTo>
                  <a:pt x="589" y="15"/>
                </a:lnTo>
                <a:lnTo>
                  <a:pt x="596" y="10"/>
                </a:lnTo>
                <a:lnTo>
                  <a:pt x="599" y="9"/>
                </a:lnTo>
                <a:lnTo>
                  <a:pt x="603" y="6"/>
                </a:lnTo>
                <a:lnTo>
                  <a:pt x="608" y="5"/>
                </a:lnTo>
                <a:lnTo>
                  <a:pt x="612" y="3"/>
                </a:lnTo>
                <a:lnTo>
                  <a:pt x="618" y="2"/>
                </a:lnTo>
                <a:lnTo>
                  <a:pt x="624" y="2"/>
                </a:lnTo>
                <a:lnTo>
                  <a:pt x="629" y="0"/>
                </a:lnTo>
                <a:lnTo>
                  <a:pt x="635" y="0"/>
                </a:lnTo>
                <a:lnTo>
                  <a:pt x="642" y="0"/>
                </a:lnTo>
                <a:lnTo>
                  <a:pt x="649" y="0"/>
                </a:lnTo>
                <a:lnTo>
                  <a:pt x="657" y="0"/>
                </a:lnTo>
                <a:lnTo>
                  <a:pt x="665" y="0"/>
                </a:lnTo>
                <a:lnTo>
                  <a:pt x="674" y="0"/>
                </a:lnTo>
                <a:lnTo>
                  <a:pt x="683" y="2"/>
                </a:lnTo>
                <a:lnTo>
                  <a:pt x="691" y="2"/>
                </a:lnTo>
                <a:lnTo>
                  <a:pt x="701" y="3"/>
                </a:lnTo>
                <a:lnTo>
                  <a:pt x="711" y="5"/>
                </a:lnTo>
                <a:lnTo>
                  <a:pt x="721" y="6"/>
                </a:lnTo>
                <a:lnTo>
                  <a:pt x="733" y="9"/>
                </a:lnTo>
                <a:lnTo>
                  <a:pt x="744" y="10"/>
                </a:lnTo>
                <a:lnTo>
                  <a:pt x="756" y="12"/>
                </a:lnTo>
                <a:lnTo>
                  <a:pt x="769" y="15"/>
                </a:lnTo>
                <a:lnTo>
                  <a:pt x="782" y="18"/>
                </a:lnTo>
                <a:lnTo>
                  <a:pt x="795" y="21"/>
                </a:lnTo>
                <a:lnTo>
                  <a:pt x="809" y="23"/>
                </a:lnTo>
                <a:lnTo>
                  <a:pt x="824" y="28"/>
                </a:lnTo>
                <a:lnTo>
                  <a:pt x="822" y="98"/>
                </a:lnTo>
                <a:lnTo>
                  <a:pt x="821" y="169"/>
                </a:lnTo>
                <a:lnTo>
                  <a:pt x="818" y="237"/>
                </a:lnTo>
                <a:lnTo>
                  <a:pt x="816" y="303"/>
                </a:lnTo>
                <a:lnTo>
                  <a:pt x="814" y="368"/>
                </a:lnTo>
                <a:lnTo>
                  <a:pt x="812" y="431"/>
                </a:lnTo>
                <a:lnTo>
                  <a:pt x="809" y="493"/>
                </a:lnTo>
                <a:lnTo>
                  <a:pt x="806" y="553"/>
                </a:lnTo>
                <a:lnTo>
                  <a:pt x="805" y="612"/>
                </a:lnTo>
                <a:lnTo>
                  <a:pt x="802" y="670"/>
                </a:lnTo>
                <a:lnTo>
                  <a:pt x="799" y="725"/>
                </a:lnTo>
                <a:lnTo>
                  <a:pt x="796" y="779"/>
                </a:lnTo>
                <a:lnTo>
                  <a:pt x="792" y="831"/>
                </a:lnTo>
                <a:lnTo>
                  <a:pt x="789" y="881"/>
                </a:lnTo>
                <a:lnTo>
                  <a:pt x="786" y="930"/>
                </a:lnTo>
                <a:lnTo>
                  <a:pt x="782" y="978"/>
                </a:lnTo>
                <a:lnTo>
                  <a:pt x="778" y="1024"/>
                </a:lnTo>
                <a:lnTo>
                  <a:pt x="775" y="1067"/>
                </a:lnTo>
                <a:lnTo>
                  <a:pt x="770" y="1110"/>
                </a:lnTo>
                <a:lnTo>
                  <a:pt x="766" y="1151"/>
                </a:lnTo>
                <a:lnTo>
                  <a:pt x="762" y="1191"/>
                </a:lnTo>
                <a:lnTo>
                  <a:pt x="757" y="1228"/>
                </a:lnTo>
                <a:lnTo>
                  <a:pt x="752" y="1264"/>
                </a:lnTo>
                <a:lnTo>
                  <a:pt x="747" y="1299"/>
                </a:lnTo>
                <a:lnTo>
                  <a:pt x="743" y="1331"/>
                </a:lnTo>
                <a:lnTo>
                  <a:pt x="737" y="1362"/>
                </a:lnTo>
                <a:lnTo>
                  <a:pt x="731" y="1391"/>
                </a:lnTo>
                <a:lnTo>
                  <a:pt x="726" y="1420"/>
                </a:lnTo>
                <a:lnTo>
                  <a:pt x="720" y="1446"/>
                </a:lnTo>
                <a:lnTo>
                  <a:pt x="714" y="1470"/>
                </a:lnTo>
                <a:lnTo>
                  <a:pt x="708" y="1492"/>
                </a:lnTo>
                <a:lnTo>
                  <a:pt x="703" y="1513"/>
                </a:lnTo>
                <a:lnTo>
                  <a:pt x="688" y="1554"/>
                </a:lnTo>
                <a:lnTo>
                  <a:pt x="675" y="1593"/>
                </a:lnTo>
                <a:lnTo>
                  <a:pt x="661" y="1630"/>
                </a:lnTo>
                <a:lnTo>
                  <a:pt x="647" y="1667"/>
                </a:lnTo>
                <a:lnTo>
                  <a:pt x="632" y="1703"/>
                </a:lnTo>
                <a:lnTo>
                  <a:pt x="618" y="1739"/>
                </a:lnTo>
                <a:lnTo>
                  <a:pt x="602" y="1773"/>
                </a:lnTo>
                <a:lnTo>
                  <a:pt x="586" y="1807"/>
                </a:lnTo>
                <a:lnTo>
                  <a:pt x="572" y="1839"/>
                </a:lnTo>
                <a:lnTo>
                  <a:pt x="554" y="1869"/>
                </a:lnTo>
                <a:lnTo>
                  <a:pt x="539" y="1899"/>
                </a:lnTo>
                <a:lnTo>
                  <a:pt x="523" y="1928"/>
                </a:lnTo>
                <a:lnTo>
                  <a:pt x="507" y="1957"/>
                </a:lnTo>
                <a:lnTo>
                  <a:pt x="491" y="1983"/>
                </a:lnTo>
                <a:lnTo>
                  <a:pt x="474" y="2009"/>
                </a:lnTo>
                <a:lnTo>
                  <a:pt x="458" y="2033"/>
                </a:lnTo>
                <a:lnTo>
                  <a:pt x="442" y="2059"/>
                </a:lnTo>
                <a:lnTo>
                  <a:pt x="425" y="2085"/>
                </a:lnTo>
                <a:lnTo>
                  <a:pt x="408" y="2109"/>
                </a:lnTo>
                <a:lnTo>
                  <a:pt x="390" y="2134"/>
                </a:lnTo>
                <a:lnTo>
                  <a:pt x="373" y="2157"/>
                </a:lnTo>
                <a:lnTo>
                  <a:pt x="354" y="2180"/>
                </a:lnTo>
                <a:lnTo>
                  <a:pt x="337" y="2202"/>
                </a:lnTo>
                <a:lnTo>
                  <a:pt x="318" y="2223"/>
                </a:lnTo>
                <a:lnTo>
                  <a:pt x="301" y="2243"/>
                </a:lnTo>
                <a:lnTo>
                  <a:pt x="282" y="2263"/>
                </a:lnTo>
                <a:lnTo>
                  <a:pt x="265" y="2282"/>
                </a:lnTo>
                <a:lnTo>
                  <a:pt x="248" y="2302"/>
                </a:lnTo>
                <a:lnTo>
                  <a:pt x="230" y="2320"/>
                </a:lnTo>
                <a:lnTo>
                  <a:pt x="213" y="2338"/>
                </a:lnTo>
                <a:lnTo>
                  <a:pt x="196" y="2356"/>
                </a:lnTo>
                <a:lnTo>
                  <a:pt x="180" y="2373"/>
                </a:lnTo>
                <a:lnTo>
                  <a:pt x="170" y="2382"/>
                </a:lnTo>
                <a:lnTo>
                  <a:pt x="161" y="2389"/>
                </a:lnTo>
                <a:lnTo>
                  <a:pt x="151" y="2396"/>
                </a:lnTo>
                <a:lnTo>
                  <a:pt x="143" y="2403"/>
                </a:lnTo>
                <a:lnTo>
                  <a:pt x="134" y="2410"/>
                </a:lnTo>
                <a:lnTo>
                  <a:pt x="127" y="2416"/>
                </a:lnTo>
                <a:lnTo>
                  <a:pt x="118" y="2422"/>
                </a:lnTo>
                <a:lnTo>
                  <a:pt x="111" y="2428"/>
                </a:lnTo>
                <a:lnTo>
                  <a:pt x="104" y="2433"/>
                </a:lnTo>
                <a:lnTo>
                  <a:pt x="97" y="2438"/>
                </a:lnTo>
                <a:lnTo>
                  <a:pt x="91" y="2442"/>
                </a:lnTo>
                <a:lnTo>
                  <a:pt x="84" y="2446"/>
                </a:lnTo>
                <a:lnTo>
                  <a:pt x="72" y="2452"/>
                </a:lnTo>
                <a:lnTo>
                  <a:pt x="61" y="2458"/>
                </a:lnTo>
                <a:lnTo>
                  <a:pt x="51" y="2462"/>
                </a:lnTo>
                <a:lnTo>
                  <a:pt x="42" y="2466"/>
                </a:lnTo>
                <a:lnTo>
                  <a:pt x="33" y="2468"/>
                </a:lnTo>
                <a:lnTo>
                  <a:pt x="26" y="2468"/>
                </a:lnTo>
                <a:lnTo>
                  <a:pt x="19" y="2468"/>
                </a:lnTo>
                <a:lnTo>
                  <a:pt x="15" y="2468"/>
                </a:lnTo>
                <a:lnTo>
                  <a:pt x="10" y="2465"/>
                </a:lnTo>
                <a:lnTo>
                  <a:pt x="6" y="2462"/>
                </a:lnTo>
                <a:lnTo>
                  <a:pt x="3" y="2458"/>
                </a:lnTo>
                <a:lnTo>
                  <a:pt x="2" y="2453"/>
                </a:lnTo>
                <a:lnTo>
                  <a:pt x="0" y="2448"/>
                </a:lnTo>
                <a:lnTo>
                  <a:pt x="0" y="2442"/>
                </a:lnTo>
                <a:lnTo>
                  <a:pt x="0" y="2435"/>
                </a:lnTo>
                <a:lnTo>
                  <a:pt x="2" y="2428"/>
                </a:lnTo>
                <a:lnTo>
                  <a:pt x="4" y="2419"/>
                </a:lnTo>
                <a:lnTo>
                  <a:pt x="9" y="2409"/>
                </a:lnTo>
                <a:lnTo>
                  <a:pt x="13" y="2399"/>
                </a:lnTo>
                <a:lnTo>
                  <a:pt x="19" y="2387"/>
                </a:lnTo>
                <a:lnTo>
                  <a:pt x="25" y="2374"/>
                </a:lnTo>
                <a:lnTo>
                  <a:pt x="33" y="2361"/>
                </a:lnTo>
                <a:lnTo>
                  <a:pt x="42" y="2348"/>
                </a:lnTo>
                <a:lnTo>
                  <a:pt x="52" y="2333"/>
                </a:lnTo>
                <a:lnTo>
                  <a:pt x="63" y="2318"/>
                </a:lnTo>
                <a:lnTo>
                  <a:pt x="75" y="2301"/>
                </a:lnTo>
                <a:lnTo>
                  <a:pt x="88" y="2284"/>
                </a:lnTo>
                <a:lnTo>
                  <a:pt x="102" y="2265"/>
                </a:lnTo>
                <a:lnTo>
                  <a:pt x="115" y="2246"/>
                </a:lnTo>
                <a:lnTo>
                  <a:pt x="131" y="2226"/>
                </a:lnTo>
                <a:lnTo>
                  <a:pt x="146" y="2206"/>
                </a:lnTo>
                <a:lnTo>
                  <a:pt x="161" y="2183"/>
                </a:lnTo>
                <a:lnTo>
                  <a:pt x="177" y="2160"/>
                </a:lnTo>
                <a:lnTo>
                  <a:pt x="193" y="2135"/>
                </a:lnTo>
                <a:lnTo>
                  <a:pt x="210" y="2109"/>
                </a:lnTo>
                <a:lnTo>
                  <a:pt x="226" y="2082"/>
                </a:lnTo>
                <a:lnTo>
                  <a:pt x="235" y="2069"/>
                </a:lnTo>
                <a:lnTo>
                  <a:pt x="243" y="2055"/>
                </a:lnTo>
                <a:lnTo>
                  <a:pt x="254" y="2039"/>
                </a:lnTo>
                <a:lnTo>
                  <a:pt x="262" y="2024"/>
                </a:lnTo>
                <a:lnTo>
                  <a:pt x="271" y="2009"/>
                </a:lnTo>
                <a:lnTo>
                  <a:pt x="279" y="1993"/>
                </a:lnTo>
                <a:lnTo>
                  <a:pt x="290" y="1977"/>
                </a:lnTo>
                <a:lnTo>
                  <a:pt x="298" y="1960"/>
                </a:lnTo>
                <a:lnTo>
                  <a:pt x="308" y="1942"/>
                </a:lnTo>
                <a:lnTo>
                  <a:pt x="317" y="1925"/>
                </a:lnTo>
                <a:lnTo>
                  <a:pt x="327" y="1908"/>
                </a:lnTo>
                <a:lnTo>
                  <a:pt x="337" y="1889"/>
                </a:lnTo>
                <a:lnTo>
                  <a:pt x="356" y="1855"/>
                </a:lnTo>
                <a:lnTo>
                  <a:pt x="373" y="1819"/>
                </a:lnTo>
                <a:lnTo>
                  <a:pt x="392" y="1783"/>
                </a:lnTo>
                <a:lnTo>
                  <a:pt x="408" y="1744"/>
                </a:lnTo>
                <a:lnTo>
                  <a:pt x="423" y="1705"/>
                </a:lnTo>
                <a:lnTo>
                  <a:pt x="439" y="1665"/>
                </a:lnTo>
                <a:lnTo>
                  <a:pt x="455" y="1623"/>
                </a:lnTo>
                <a:lnTo>
                  <a:pt x="469" y="1580"/>
                </a:lnTo>
                <a:lnTo>
                  <a:pt x="482" y="1536"/>
                </a:lnTo>
                <a:lnTo>
                  <a:pt x="495" y="1490"/>
                </a:lnTo>
                <a:lnTo>
                  <a:pt x="508" y="1444"/>
                </a:lnTo>
                <a:lnTo>
                  <a:pt x="520" y="1395"/>
                </a:lnTo>
                <a:lnTo>
                  <a:pt x="531" y="1346"/>
                </a:lnTo>
                <a:lnTo>
                  <a:pt x="543" y="1296"/>
                </a:lnTo>
                <a:lnTo>
                  <a:pt x="553" y="1244"/>
                </a:lnTo>
                <a:lnTo>
                  <a:pt x="563" y="1191"/>
                </a:lnTo>
                <a:lnTo>
                  <a:pt x="569" y="1141"/>
                </a:lnTo>
                <a:lnTo>
                  <a:pt x="575" y="1093"/>
                </a:lnTo>
                <a:lnTo>
                  <a:pt x="580" y="1046"/>
                </a:lnTo>
                <a:lnTo>
                  <a:pt x="586" y="999"/>
                </a:lnTo>
                <a:lnTo>
                  <a:pt x="590" y="955"/>
                </a:lnTo>
                <a:lnTo>
                  <a:pt x="595" y="912"/>
                </a:lnTo>
                <a:lnTo>
                  <a:pt x="599" y="868"/>
                </a:lnTo>
                <a:lnTo>
                  <a:pt x="603" y="828"/>
                </a:lnTo>
                <a:lnTo>
                  <a:pt x="608" y="788"/>
                </a:lnTo>
                <a:lnTo>
                  <a:pt x="612" y="750"/>
                </a:lnTo>
                <a:lnTo>
                  <a:pt x="615" y="713"/>
                </a:lnTo>
                <a:lnTo>
                  <a:pt x="619" y="677"/>
                </a:lnTo>
                <a:lnTo>
                  <a:pt x="622" y="642"/>
                </a:lnTo>
                <a:lnTo>
                  <a:pt x="625" y="609"/>
                </a:lnTo>
                <a:lnTo>
                  <a:pt x="629" y="576"/>
                </a:lnTo>
                <a:lnTo>
                  <a:pt x="632" y="546"/>
                </a:lnTo>
                <a:lnTo>
                  <a:pt x="632" y="516"/>
                </a:lnTo>
                <a:lnTo>
                  <a:pt x="631" y="488"/>
                </a:lnTo>
                <a:lnTo>
                  <a:pt x="631" y="461"/>
                </a:lnTo>
                <a:lnTo>
                  <a:pt x="629" y="435"/>
                </a:lnTo>
                <a:lnTo>
                  <a:pt x="628" y="409"/>
                </a:lnTo>
                <a:lnTo>
                  <a:pt x="625" y="386"/>
                </a:lnTo>
                <a:lnTo>
                  <a:pt x="624" y="362"/>
                </a:lnTo>
                <a:lnTo>
                  <a:pt x="621" y="340"/>
                </a:lnTo>
                <a:lnTo>
                  <a:pt x="619" y="319"/>
                </a:lnTo>
                <a:lnTo>
                  <a:pt x="616" y="298"/>
                </a:lnTo>
                <a:lnTo>
                  <a:pt x="613" y="278"/>
                </a:lnTo>
                <a:lnTo>
                  <a:pt x="611" y="260"/>
                </a:lnTo>
                <a:lnTo>
                  <a:pt x="608" y="241"/>
                </a:lnTo>
                <a:lnTo>
                  <a:pt x="603" y="222"/>
                </a:lnTo>
                <a:lnTo>
                  <a:pt x="600" y="205"/>
                </a:lnTo>
                <a:lnTo>
                  <a:pt x="598" y="189"/>
                </a:lnTo>
                <a:lnTo>
                  <a:pt x="595" y="172"/>
                </a:lnTo>
                <a:lnTo>
                  <a:pt x="592" y="156"/>
                </a:lnTo>
                <a:lnTo>
                  <a:pt x="588" y="141"/>
                </a:lnTo>
                <a:lnTo>
                  <a:pt x="585" y="127"/>
                </a:lnTo>
                <a:lnTo>
                  <a:pt x="583" y="114"/>
                </a:lnTo>
                <a:lnTo>
                  <a:pt x="580" y="103"/>
                </a:lnTo>
                <a:lnTo>
                  <a:pt x="577" y="91"/>
                </a:lnTo>
                <a:lnTo>
                  <a:pt x="576" y="81"/>
                </a:lnTo>
                <a:lnTo>
                  <a:pt x="575" y="71"/>
                </a:lnTo>
                <a:lnTo>
                  <a:pt x="573" y="62"/>
                </a:lnTo>
                <a:lnTo>
                  <a:pt x="573" y="54"/>
                </a:lnTo>
                <a:lnTo>
                  <a:pt x="573" y="48"/>
                </a:lnTo>
                <a:lnTo>
                  <a:pt x="575" y="41"/>
                </a:lnTo>
                <a:lnTo>
                  <a:pt x="576" y="35"/>
                </a:lnTo>
                <a:lnTo>
                  <a:pt x="577" y="31"/>
                </a:lnTo>
                <a:lnTo>
                  <a:pt x="580" y="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91"/>
          <p:cNvSpPr/>
          <p:nvPr/>
        </p:nvSpPr>
        <p:spPr>
          <a:xfrm>
            <a:off x="5942160" y="3570120"/>
            <a:ext cx="396720" cy="1422720"/>
          </a:xfrm>
          <a:custGeom>
            <a:avLst/>
            <a:gdLst/>
            <a:ahLst/>
            <a:rect l="l" t="t" r="r" b="b"/>
            <a:pathLst>
              <a:path w="749" h="2686">
                <a:moveTo>
                  <a:pt x="626" y="1451"/>
                </a:moveTo>
                <a:lnTo>
                  <a:pt x="626" y="1493"/>
                </a:lnTo>
                <a:lnTo>
                  <a:pt x="626" y="1533"/>
                </a:lnTo>
                <a:lnTo>
                  <a:pt x="626" y="1572"/>
                </a:lnTo>
                <a:lnTo>
                  <a:pt x="625" y="1611"/>
                </a:lnTo>
                <a:lnTo>
                  <a:pt x="625" y="1648"/>
                </a:lnTo>
                <a:lnTo>
                  <a:pt x="625" y="1684"/>
                </a:lnTo>
                <a:lnTo>
                  <a:pt x="624" y="1720"/>
                </a:lnTo>
                <a:lnTo>
                  <a:pt x="624" y="1754"/>
                </a:lnTo>
                <a:lnTo>
                  <a:pt x="622" y="1787"/>
                </a:lnTo>
                <a:lnTo>
                  <a:pt x="622" y="1820"/>
                </a:lnTo>
                <a:lnTo>
                  <a:pt x="621" y="1851"/>
                </a:lnTo>
                <a:lnTo>
                  <a:pt x="619" y="1882"/>
                </a:lnTo>
                <a:lnTo>
                  <a:pt x="619" y="1910"/>
                </a:lnTo>
                <a:lnTo>
                  <a:pt x="618" y="1939"/>
                </a:lnTo>
                <a:lnTo>
                  <a:pt x="616" y="1967"/>
                </a:lnTo>
                <a:lnTo>
                  <a:pt x="615" y="1992"/>
                </a:lnTo>
                <a:lnTo>
                  <a:pt x="614" y="2018"/>
                </a:lnTo>
                <a:lnTo>
                  <a:pt x="612" y="2043"/>
                </a:lnTo>
                <a:lnTo>
                  <a:pt x="612" y="2067"/>
                </a:lnTo>
                <a:lnTo>
                  <a:pt x="611" y="2089"/>
                </a:lnTo>
                <a:lnTo>
                  <a:pt x="609" y="2112"/>
                </a:lnTo>
                <a:lnTo>
                  <a:pt x="608" y="2132"/>
                </a:lnTo>
                <a:lnTo>
                  <a:pt x="605" y="2152"/>
                </a:lnTo>
                <a:lnTo>
                  <a:pt x="603" y="2171"/>
                </a:lnTo>
                <a:lnTo>
                  <a:pt x="602" y="2190"/>
                </a:lnTo>
                <a:lnTo>
                  <a:pt x="601" y="2207"/>
                </a:lnTo>
                <a:lnTo>
                  <a:pt x="599" y="2223"/>
                </a:lnTo>
                <a:lnTo>
                  <a:pt x="598" y="2239"/>
                </a:lnTo>
                <a:lnTo>
                  <a:pt x="596" y="2253"/>
                </a:lnTo>
                <a:lnTo>
                  <a:pt x="595" y="2267"/>
                </a:lnTo>
                <a:lnTo>
                  <a:pt x="593" y="2280"/>
                </a:lnTo>
                <a:lnTo>
                  <a:pt x="592" y="2293"/>
                </a:lnTo>
                <a:lnTo>
                  <a:pt x="588" y="2316"/>
                </a:lnTo>
                <a:lnTo>
                  <a:pt x="583" y="2338"/>
                </a:lnTo>
                <a:lnTo>
                  <a:pt x="579" y="2360"/>
                </a:lnTo>
                <a:lnTo>
                  <a:pt x="573" y="2380"/>
                </a:lnTo>
                <a:lnTo>
                  <a:pt x="566" y="2400"/>
                </a:lnTo>
                <a:lnTo>
                  <a:pt x="559" y="2420"/>
                </a:lnTo>
                <a:lnTo>
                  <a:pt x="552" y="2437"/>
                </a:lnTo>
                <a:lnTo>
                  <a:pt x="543" y="2456"/>
                </a:lnTo>
                <a:lnTo>
                  <a:pt x="536" y="2473"/>
                </a:lnTo>
                <a:lnTo>
                  <a:pt x="527" y="2491"/>
                </a:lnTo>
                <a:lnTo>
                  <a:pt x="517" y="2506"/>
                </a:lnTo>
                <a:lnTo>
                  <a:pt x="508" y="2522"/>
                </a:lnTo>
                <a:lnTo>
                  <a:pt x="498" y="2537"/>
                </a:lnTo>
                <a:lnTo>
                  <a:pt x="490" y="2551"/>
                </a:lnTo>
                <a:lnTo>
                  <a:pt x="480" y="2565"/>
                </a:lnTo>
                <a:lnTo>
                  <a:pt x="470" y="2580"/>
                </a:lnTo>
                <a:lnTo>
                  <a:pt x="457" y="2593"/>
                </a:lnTo>
                <a:lnTo>
                  <a:pt x="445" y="2604"/>
                </a:lnTo>
                <a:lnTo>
                  <a:pt x="432" y="2616"/>
                </a:lnTo>
                <a:lnTo>
                  <a:pt x="421" y="2626"/>
                </a:lnTo>
                <a:lnTo>
                  <a:pt x="409" y="2636"/>
                </a:lnTo>
                <a:lnTo>
                  <a:pt x="399" y="2645"/>
                </a:lnTo>
                <a:lnTo>
                  <a:pt x="389" y="2653"/>
                </a:lnTo>
                <a:lnTo>
                  <a:pt x="379" y="2660"/>
                </a:lnTo>
                <a:lnTo>
                  <a:pt x="369" y="2666"/>
                </a:lnTo>
                <a:lnTo>
                  <a:pt x="360" y="2672"/>
                </a:lnTo>
                <a:lnTo>
                  <a:pt x="350" y="2676"/>
                </a:lnTo>
                <a:lnTo>
                  <a:pt x="343" y="2679"/>
                </a:lnTo>
                <a:lnTo>
                  <a:pt x="334" y="2682"/>
                </a:lnTo>
                <a:lnTo>
                  <a:pt x="327" y="2685"/>
                </a:lnTo>
                <a:lnTo>
                  <a:pt x="320" y="2686"/>
                </a:lnTo>
                <a:lnTo>
                  <a:pt x="313" y="2686"/>
                </a:lnTo>
                <a:lnTo>
                  <a:pt x="307" y="2686"/>
                </a:lnTo>
                <a:lnTo>
                  <a:pt x="301" y="2685"/>
                </a:lnTo>
                <a:lnTo>
                  <a:pt x="295" y="2682"/>
                </a:lnTo>
                <a:lnTo>
                  <a:pt x="290" y="2679"/>
                </a:lnTo>
                <a:lnTo>
                  <a:pt x="285" y="2676"/>
                </a:lnTo>
                <a:lnTo>
                  <a:pt x="282" y="2672"/>
                </a:lnTo>
                <a:lnTo>
                  <a:pt x="278" y="2666"/>
                </a:lnTo>
                <a:lnTo>
                  <a:pt x="277" y="2660"/>
                </a:lnTo>
                <a:lnTo>
                  <a:pt x="274" y="2653"/>
                </a:lnTo>
                <a:lnTo>
                  <a:pt x="272" y="2645"/>
                </a:lnTo>
                <a:lnTo>
                  <a:pt x="271" y="2636"/>
                </a:lnTo>
                <a:lnTo>
                  <a:pt x="271" y="2626"/>
                </a:lnTo>
                <a:lnTo>
                  <a:pt x="272" y="2616"/>
                </a:lnTo>
                <a:lnTo>
                  <a:pt x="274" y="2604"/>
                </a:lnTo>
                <a:lnTo>
                  <a:pt x="275" y="2593"/>
                </a:lnTo>
                <a:lnTo>
                  <a:pt x="278" y="2580"/>
                </a:lnTo>
                <a:lnTo>
                  <a:pt x="278" y="2565"/>
                </a:lnTo>
                <a:lnTo>
                  <a:pt x="277" y="2552"/>
                </a:lnTo>
                <a:lnTo>
                  <a:pt x="274" y="2540"/>
                </a:lnTo>
                <a:lnTo>
                  <a:pt x="271" y="2525"/>
                </a:lnTo>
                <a:lnTo>
                  <a:pt x="268" y="2512"/>
                </a:lnTo>
                <a:lnTo>
                  <a:pt x="264" y="2498"/>
                </a:lnTo>
                <a:lnTo>
                  <a:pt x="258" y="2483"/>
                </a:lnTo>
                <a:lnTo>
                  <a:pt x="252" y="2470"/>
                </a:lnTo>
                <a:lnTo>
                  <a:pt x="245" y="2456"/>
                </a:lnTo>
                <a:lnTo>
                  <a:pt x="236" y="2442"/>
                </a:lnTo>
                <a:lnTo>
                  <a:pt x="228" y="2426"/>
                </a:lnTo>
                <a:lnTo>
                  <a:pt x="219" y="2411"/>
                </a:lnTo>
                <a:lnTo>
                  <a:pt x="209" y="2396"/>
                </a:lnTo>
                <a:lnTo>
                  <a:pt x="197" y="2380"/>
                </a:lnTo>
                <a:lnTo>
                  <a:pt x="186" y="2364"/>
                </a:lnTo>
                <a:lnTo>
                  <a:pt x="174" y="2347"/>
                </a:lnTo>
                <a:lnTo>
                  <a:pt x="159" y="2331"/>
                </a:lnTo>
                <a:lnTo>
                  <a:pt x="144" y="2315"/>
                </a:lnTo>
                <a:lnTo>
                  <a:pt x="131" y="2299"/>
                </a:lnTo>
                <a:lnTo>
                  <a:pt x="118" y="2286"/>
                </a:lnTo>
                <a:lnTo>
                  <a:pt x="108" y="2273"/>
                </a:lnTo>
                <a:lnTo>
                  <a:pt x="98" y="2260"/>
                </a:lnTo>
                <a:lnTo>
                  <a:pt x="89" y="2249"/>
                </a:lnTo>
                <a:lnTo>
                  <a:pt x="82" y="2239"/>
                </a:lnTo>
                <a:lnTo>
                  <a:pt x="77" y="2229"/>
                </a:lnTo>
                <a:lnTo>
                  <a:pt x="72" y="2220"/>
                </a:lnTo>
                <a:lnTo>
                  <a:pt x="68" y="2213"/>
                </a:lnTo>
                <a:lnTo>
                  <a:pt x="66" y="2206"/>
                </a:lnTo>
                <a:lnTo>
                  <a:pt x="65" y="2200"/>
                </a:lnTo>
                <a:lnTo>
                  <a:pt x="65" y="2194"/>
                </a:lnTo>
                <a:lnTo>
                  <a:pt x="66" y="2190"/>
                </a:lnTo>
                <a:lnTo>
                  <a:pt x="69" y="2185"/>
                </a:lnTo>
                <a:lnTo>
                  <a:pt x="69" y="2183"/>
                </a:lnTo>
                <a:lnTo>
                  <a:pt x="72" y="2180"/>
                </a:lnTo>
                <a:lnTo>
                  <a:pt x="75" y="2178"/>
                </a:lnTo>
                <a:lnTo>
                  <a:pt x="79" y="2178"/>
                </a:lnTo>
                <a:lnTo>
                  <a:pt x="84" y="2178"/>
                </a:lnTo>
                <a:lnTo>
                  <a:pt x="91" y="2178"/>
                </a:lnTo>
                <a:lnTo>
                  <a:pt x="98" y="2180"/>
                </a:lnTo>
                <a:lnTo>
                  <a:pt x="107" y="2181"/>
                </a:lnTo>
                <a:lnTo>
                  <a:pt x="115" y="2183"/>
                </a:lnTo>
                <a:lnTo>
                  <a:pt x="125" y="2185"/>
                </a:lnTo>
                <a:lnTo>
                  <a:pt x="137" y="2187"/>
                </a:lnTo>
                <a:lnTo>
                  <a:pt x="150" y="2190"/>
                </a:lnTo>
                <a:lnTo>
                  <a:pt x="163" y="2193"/>
                </a:lnTo>
                <a:lnTo>
                  <a:pt x="177" y="2197"/>
                </a:lnTo>
                <a:lnTo>
                  <a:pt x="192" y="2200"/>
                </a:lnTo>
                <a:lnTo>
                  <a:pt x="209" y="2204"/>
                </a:lnTo>
                <a:lnTo>
                  <a:pt x="225" y="2210"/>
                </a:lnTo>
                <a:lnTo>
                  <a:pt x="241" y="2216"/>
                </a:lnTo>
                <a:lnTo>
                  <a:pt x="255" y="2220"/>
                </a:lnTo>
                <a:lnTo>
                  <a:pt x="271" y="2223"/>
                </a:lnTo>
                <a:lnTo>
                  <a:pt x="284" y="2226"/>
                </a:lnTo>
                <a:lnTo>
                  <a:pt x="298" y="2227"/>
                </a:lnTo>
                <a:lnTo>
                  <a:pt x="311" y="2229"/>
                </a:lnTo>
                <a:lnTo>
                  <a:pt x="324" y="2229"/>
                </a:lnTo>
                <a:lnTo>
                  <a:pt x="336" y="2227"/>
                </a:lnTo>
                <a:lnTo>
                  <a:pt x="347" y="2224"/>
                </a:lnTo>
                <a:lnTo>
                  <a:pt x="357" y="2221"/>
                </a:lnTo>
                <a:lnTo>
                  <a:pt x="367" y="2216"/>
                </a:lnTo>
                <a:lnTo>
                  <a:pt x="377" y="2210"/>
                </a:lnTo>
                <a:lnTo>
                  <a:pt x="386" y="2203"/>
                </a:lnTo>
                <a:lnTo>
                  <a:pt x="393" y="2195"/>
                </a:lnTo>
                <a:lnTo>
                  <a:pt x="400" y="2185"/>
                </a:lnTo>
                <a:lnTo>
                  <a:pt x="402" y="2180"/>
                </a:lnTo>
                <a:lnTo>
                  <a:pt x="403" y="2174"/>
                </a:lnTo>
                <a:lnTo>
                  <a:pt x="405" y="2167"/>
                </a:lnTo>
                <a:lnTo>
                  <a:pt x="406" y="2158"/>
                </a:lnTo>
                <a:lnTo>
                  <a:pt x="408" y="2149"/>
                </a:lnTo>
                <a:lnTo>
                  <a:pt x="409" y="2139"/>
                </a:lnTo>
                <a:lnTo>
                  <a:pt x="411" y="2129"/>
                </a:lnTo>
                <a:lnTo>
                  <a:pt x="413" y="2118"/>
                </a:lnTo>
                <a:lnTo>
                  <a:pt x="415" y="2106"/>
                </a:lnTo>
                <a:lnTo>
                  <a:pt x="416" y="2092"/>
                </a:lnTo>
                <a:lnTo>
                  <a:pt x="418" y="2079"/>
                </a:lnTo>
                <a:lnTo>
                  <a:pt x="419" y="2063"/>
                </a:lnTo>
                <a:lnTo>
                  <a:pt x="421" y="2047"/>
                </a:lnTo>
                <a:lnTo>
                  <a:pt x="422" y="2031"/>
                </a:lnTo>
                <a:lnTo>
                  <a:pt x="425" y="2013"/>
                </a:lnTo>
                <a:lnTo>
                  <a:pt x="426" y="1995"/>
                </a:lnTo>
                <a:lnTo>
                  <a:pt x="428" y="1975"/>
                </a:lnTo>
                <a:lnTo>
                  <a:pt x="429" y="1955"/>
                </a:lnTo>
                <a:lnTo>
                  <a:pt x="431" y="1933"/>
                </a:lnTo>
                <a:lnTo>
                  <a:pt x="432" y="1912"/>
                </a:lnTo>
                <a:lnTo>
                  <a:pt x="435" y="1889"/>
                </a:lnTo>
                <a:lnTo>
                  <a:pt x="436" y="1866"/>
                </a:lnTo>
                <a:lnTo>
                  <a:pt x="438" y="1841"/>
                </a:lnTo>
                <a:lnTo>
                  <a:pt x="439" y="1815"/>
                </a:lnTo>
                <a:lnTo>
                  <a:pt x="441" y="1788"/>
                </a:lnTo>
                <a:lnTo>
                  <a:pt x="442" y="1761"/>
                </a:lnTo>
                <a:lnTo>
                  <a:pt x="444" y="1732"/>
                </a:lnTo>
                <a:lnTo>
                  <a:pt x="445" y="1703"/>
                </a:lnTo>
                <a:lnTo>
                  <a:pt x="448" y="1673"/>
                </a:lnTo>
                <a:lnTo>
                  <a:pt x="449" y="1641"/>
                </a:lnTo>
                <a:lnTo>
                  <a:pt x="451" y="1610"/>
                </a:lnTo>
                <a:lnTo>
                  <a:pt x="452" y="1576"/>
                </a:lnTo>
                <a:lnTo>
                  <a:pt x="455" y="1513"/>
                </a:lnTo>
                <a:lnTo>
                  <a:pt x="458" y="1450"/>
                </a:lnTo>
                <a:lnTo>
                  <a:pt x="461" y="1386"/>
                </a:lnTo>
                <a:lnTo>
                  <a:pt x="462" y="1325"/>
                </a:lnTo>
                <a:lnTo>
                  <a:pt x="464" y="1264"/>
                </a:lnTo>
                <a:lnTo>
                  <a:pt x="465" y="1204"/>
                </a:lnTo>
                <a:lnTo>
                  <a:pt x="467" y="1143"/>
                </a:lnTo>
                <a:lnTo>
                  <a:pt x="468" y="1084"/>
                </a:lnTo>
                <a:lnTo>
                  <a:pt x="468" y="1025"/>
                </a:lnTo>
                <a:lnTo>
                  <a:pt x="468" y="967"/>
                </a:lnTo>
                <a:lnTo>
                  <a:pt x="470" y="911"/>
                </a:lnTo>
                <a:lnTo>
                  <a:pt x="470" y="857"/>
                </a:lnTo>
                <a:lnTo>
                  <a:pt x="470" y="802"/>
                </a:lnTo>
                <a:lnTo>
                  <a:pt x="470" y="749"/>
                </a:lnTo>
                <a:lnTo>
                  <a:pt x="470" y="695"/>
                </a:lnTo>
                <a:lnTo>
                  <a:pt x="470" y="645"/>
                </a:lnTo>
                <a:lnTo>
                  <a:pt x="470" y="621"/>
                </a:lnTo>
                <a:lnTo>
                  <a:pt x="470" y="596"/>
                </a:lnTo>
                <a:lnTo>
                  <a:pt x="470" y="573"/>
                </a:lnTo>
                <a:lnTo>
                  <a:pt x="470" y="550"/>
                </a:lnTo>
                <a:lnTo>
                  <a:pt x="470" y="528"/>
                </a:lnTo>
                <a:lnTo>
                  <a:pt x="470" y="507"/>
                </a:lnTo>
                <a:lnTo>
                  <a:pt x="470" y="487"/>
                </a:lnTo>
                <a:lnTo>
                  <a:pt x="470" y="467"/>
                </a:lnTo>
                <a:lnTo>
                  <a:pt x="470" y="448"/>
                </a:lnTo>
                <a:lnTo>
                  <a:pt x="470" y="431"/>
                </a:lnTo>
                <a:lnTo>
                  <a:pt x="470" y="413"/>
                </a:lnTo>
                <a:lnTo>
                  <a:pt x="468" y="396"/>
                </a:lnTo>
                <a:lnTo>
                  <a:pt x="468" y="380"/>
                </a:lnTo>
                <a:lnTo>
                  <a:pt x="468" y="364"/>
                </a:lnTo>
                <a:lnTo>
                  <a:pt x="468" y="350"/>
                </a:lnTo>
                <a:lnTo>
                  <a:pt x="468" y="337"/>
                </a:lnTo>
                <a:lnTo>
                  <a:pt x="467" y="323"/>
                </a:lnTo>
                <a:lnTo>
                  <a:pt x="467" y="311"/>
                </a:lnTo>
                <a:lnTo>
                  <a:pt x="467" y="300"/>
                </a:lnTo>
                <a:lnTo>
                  <a:pt x="465" y="288"/>
                </a:lnTo>
                <a:lnTo>
                  <a:pt x="465" y="278"/>
                </a:lnTo>
                <a:lnTo>
                  <a:pt x="464" y="269"/>
                </a:lnTo>
                <a:lnTo>
                  <a:pt x="464" y="261"/>
                </a:lnTo>
                <a:lnTo>
                  <a:pt x="462" y="252"/>
                </a:lnTo>
                <a:lnTo>
                  <a:pt x="461" y="245"/>
                </a:lnTo>
                <a:lnTo>
                  <a:pt x="461" y="239"/>
                </a:lnTo>
                <a:lnTo>
                  <a:pt x="459" y="233"/>
                </a:lnTo>
                <a:lnTo>
                  <a:pt x="458" y="228"/>
                </a:lnTo>
                <a:lnTo>
                  <a:pt x="457" y="223"/>
                </a:lnTo>
                <a:lnTo>
                  <a:pt x="455" y="220"/>
                </a:lnTo>
                <a:lnTo>
                  <a:pt x="454" y="217"/>
                </a:lnTo>
                <a:lnTo>
                  <a:pt x="452" y="216"/>
                </a:lnTo>
                <a:lnTo>
                  <a:pt x="451" y="213"/>
                </a:lnTo>
                <a:lnTo>
                  <a:pt x="448" y="212"/>
                </a:lnTo>
                <a:lnTo>
                  <a:pt x="444" y="212"/>
                </a:lnTo>
                <a:lnTo>
                  <a:pt x="439" y="210"/>
                </a:lnTo>
                <a:lnTo>
                  <a:pt x="434" y="209"/>
                </a:lnTo>
                <a:lnTo>
                  <a:pt x="428" y="209"/>
                </a:lnTo>
                <a:lnTo>
                  <a:pt x="421" y="209"/>
                </a:lnTo>
                <a:lnTo>
                  <a:pt x="413" y="207"/>
                </a:lnTo>
                <a:lnTo>
                  <a:pt x="405" y="207"/>
                </a:lnTo>
                <a:lnTo>
                  <a:pt x="396" y="207"/>
                </a:lnTo>
                <a:lnTo>
                  <a:pt x="386" y="207"/>
                </a:lnTo>
                <a:lnTo>
                  <a:pt x="375" y="209"/>
                </a:lnTo>
                <a:lnTo>
                  <a:pt x="363" y="209"/>
                </a:lnTo>
                <a:lnTo>
                  <a:pt x="351" y="209"/>
                </a:lnTo>
                <a:lnTo>
                  <a:pt x="337" y="210"/>
                </a:lnTo>
                <a:lnTo>
                  <a:pt x="324" y="210"/>
                </a:lnTo>
                <a:lnTo>
                  <a:pt x="310" y="212"/>
                </a:lnTo>
                <a:lnTo>
                  <a:pt x="294" y="213"/>
                </a:lnTo>
                <a:lnTo>
                  <a:pt x="278" y="213"/>
                </a:lnTo>
                <a:lnTo>
                  <a:pt x="261" y="215"/>
                </a:lnTo>
                <a:lnTo>
                  <a:pt x="244" y="216"/>
                </a:lnTo>
                <a:lnTo>
                  <a:pt x="225" y="217"/>
                </a:lnTo>
                <a:lnTo>
                  <a:pt x="205" y="219"/>
                </a:lnTo>
                <a:lnTo>
                  <a:pt x="186" y="220"/>
                </a:lnTo>
                <a:lnTo>
                  <a:pt x="164" y="222"/>
                </a:lnTo>
                <a:lnTo>
                  <a:pt x="143" y="223"/>
                </a:lnTo>
                <a:lnTo>
                  <a:pt x="121" y="225"/>
                </a:lnTo>
                <a:lnTo>
                  <a:pt x="98" y="226"/>
                </a:lnTo>
                <a:lnTo>
                  <a:pt x="75" y="229"/>
                </a:lnTo>
                <a:lnTo>
                  <a:pt x="51" y="230"/>
                </a:lnTo>
                <a:lnTo>
                  <a:pt x="25" y="232"/>
                </a:lnTo>
                <a:lnTo>
                  <a:pt x="0" y="233"/>
                </a:lnTo>
                <a:lnTo>
                  <a:pt x="0" y="108"/>
                </a:lnTo>
                <a:lnTo>
                  <a:pt x="22" y="108"/>
                </a:lnTo>
                <a:lnTo>
                  <a:pt x="45" y="108"/>
                </a:lnTo>
                <a:lnTo>
                  <a:pt x="66" y="108"/>
                </a:lnTo>
                <a:lnTo>
                  <a:pt x="87" y="108"/>
                </a:lnTo>
                <a:lnTo>
                  <a:pt x="108" y="108"/>
                </a:lnTo>
                <a:lnTo>
                  <a:pt x="127" y="107"/>
                </a:lnTo>
                <a:lnTo>
                  <a:pt x="147" y="107"/>
                </a:lnTo>
                <a:lnTo>
                  <a:pt x="164" y="105"/>
                </a:lnTo>
                <a:lnTo>
                  <a:pt x="183" y="105"/>
                </a:lnTo>
                <a:lnTo>
                  <a:pt x="199" y="104"/>
                </a:lnTo>
                <a:lnTo>
                  <a:pt x="215" y="102"/>
                </a:lnTo>
                <a:lnTo>
                  <a:pt x="229" y="101"/>
                </a:lnTo>
                <a:lnTo>
                  <a:pt x="244" y="98"/>
                </a:lnTo>
                <a:lnTo>
                  <a:pt x="256" y="97"/>
                </a:lnTo>
                <a:lnTo>
                  <a:pt x="268" y="94"/>
                </a:lnTo>
                <a:lnTo>
                  <a:pt x="278" y="91"/>
                </a:lnTo>
                <a:lnTo>
                  <a:pt x="288" y="89"/>
                </a:lnTo>
                <a:lnTo>
                  <a:pt x="297" y="89"/>
                </a:lnTo>
                <a:lnTo>
                  <a:pt x="305" y="88"/>
                </a:lnTo>
                <a:lnTo>
                  <a:pt x="314" y="86"/>
                </a:lnTo>
                <a:lnTo>
                  <a:pt x="323" y="85"/>
                </a:lnTo>
                <a:lnTo>
                  <a:pt x="330" y="82"/>
                </a:lnTo>
                <a:lnTo>
                  <a:pt x="339" y="81"/>
                </a:lnTo>
                <a:lnTo>
                  <a:pt x="346" y="76"/>
                </a:lnTo>
                <a:lnTo>
                  <a:pt x="353" y="73"/>
                </a:lnTo>
                <a:lnTo>
                  <a:pt x="360" y="69"/>
                </a:lnTo>
                <a:lnTo>
                  <a:pt x="367" y="65"/>
                </a:lnTo>
                <a:lnTo>
                  <a:pt x="373" y="61"/>
                </a:lnTo>
                <a:lnTo>
                  <a:pt x="380" y="55"/>
                </a:lnTo>
                <a:lnTo>
                  <a:pt x="386" y="49"/>
                </a:lnTo>
                <a:lnTo>
                  <a:pt x="393" y="43"/>
                </a:lnTo>
                <a:lnTo>
                  <a:pt x="400" y="36"/>
                </a:lnTo>
                <a:lnTo>
                  <a:pt x="403" y="33"/>
                </a:lnTo>
                <a:lnTo>
                  <a:pt x="408" y="29"/>
                </a:lnTo>
                <a:lnTo>
                  <a:pt x="412" y="26"/>
                </a:lnTo>
                <a:lnTo>
                  <a:pt x="416" y="23"/>
                </a:lnTo>
                <a:lnTo>
                  <a:pt x="426" y="17"/>
                </a:lnTo>
                <a:lnTo>
                  <a:pt x="436" y="12"/>
                </a:lnTo>
                <a:lnTo>
                  <a:pt x="448" y="7"/>
                </a:lnTo>
                <a:lnTo>
                  <a:pt x="461" y="3"/>
                </a:lnTo>
                <a:lnTo>
                  <a:pt x="468" y="2"/>
                </a:lnTo>
                <a:lnTo>
                  <a:pt x="474" y="2"/>
                </a:lnTo>
                <a:lnTo>
                  <a:pt x="481" y="0"/>
                </a:lnTo>
                <a:lnTo>
                  <a:pt x="487" y="0"/>
                </a:lnTo>
                <a:lnTo>
                  <a:pt x="491" y="0"/>
                </a:lnTo>
                <a:lnTo>
                  <a:pt x="495" y="2"/>
                </a:lnTo>
                <a:lnTo>
                  <a:pt x="500" y="2"/>
                </a:lnTo>
                <a:lnTo>
                  <a:pt x="507" y="3"/>
                </a:lnTo>
                <a:lnTo>
                  <a:pt x="514" y="6"/>
                </a:lnTo>
                <a:lnTo>
                  <a:pt x="521" y="9"/>
                </a:lnTo>
                <a:lnTo>
                  <a:pt x="530" y="12"/>
                </a:lnTo>
                <a:lnTo>
                  <a:pt x="540" y="16"/>
                </a:lnTo>
                <a:lnTo>
                  <a:pt x="550" y="20"/>
                </a:lnTo>
                <a:lnTo>
                  <a:pt x="560" y="26"/>
                </a:lnTo>
                <a:lnTo>
                  <a:pt x="573" y="32"/>
                </a:lnTo>
                <a:lnTo>
                  <a:pt x="585" y="38"/>
                </a:lnTo>
                <a:lnTo>
                  <a:pt x="599" y="45"/>
                </a:lnTo>
                <a:lnTo>
                  <a:pt x="614" y="53"/>
                </a:lnTo>
                <a:lnTo>
                  <a:pt x="628" y="62"/>
                </a:lnTo>
                <a:lnTo>
                  <a:pt x="644" y="72"/>
                </a:lnTo>
                <a:lnTo>
                  <a:pt x="657" y="82"/>
                </a:lnTo>
                <a:lnTo>
                  <a:pt x="668" y="92"/>
                </a:lnTo>
                <a:lnTo>
                  <a:pt x="680" y="102"/>
                </a:lnTo>
                <a:lnTo>
                  <a:pt x="690" y="112"/>
                </a:lnTo>
                <a:lnTo>
                  <a:pt x="698" y="122"/>
                </a:lnTo>
                <a:lnTo>
                  <a:pt x="707" y="131"/>
                </a:lnTo>
                <a:lnTo>
                  <a:pt x="714" y="140"/>
                </a:lnTo>
                <a:lnTo>
                  <a:pt x="721" y="148"/>
                </a:lnTo>
                <a:lnTo>
                  <a:pt x="729" y="157"/>
                </a:lnTo>
                <a:lnTo>
                  <a:pt x="733" y="164"/>
                </a:lnTo>
                <a:lnTo>
                  <a:pt x="737" y="171"/>
                </a:lnTo>
                <a:lnTo>
                  <a:pt x="742" y="177"/>
                </a:lnTo>
                <a:lnTo>
                  <a:pt x="745" y="184"/>
                </a:lnTo>
                <a:lnTo>
                  <a:pt x="746" y="189"/>
                </a:lnTo>
                <a:lnTo>
                  <a:pt x="747" y="193"/>
                </a:lnTo>
                <a:lnTo>
                  <a:pt x="749" y="197"/>
                </a:lnTo>
                <a:lnTo>
                  <a:pt x="747" y="202"/>
                </a:lnTo>
                <a:lnTo>
                  <a:pt x="747" y="204"/>
                </a:lnTo>
                <a:lnTo>
                  <a:pt x="746" y="209"/>
                </a:lnTo>
                <a:lnTo>
                  <a:pt x="745" y="213"/>
                </a:lnTo>
                <a:lnTo>
                  <a:pt x="742" y="223"/>
                </a:lnTo>
                <a:lnTo>
                  <a:pt x="737" y="233"/>
                </a:lnTo>
                <a:lnTo>
                  <a:pt x="732" y="243"/>
                </a:lnTo>
                <a:lnTo>
                  <a:pt x="726" y="253"/>
                </a:lnTo>
                <a:lnTo>
                  <a:pt x="720" y="262"/>
                </a:lnTo>
                <a:lnTo>
                  <a:pt x="717" y="266"/>
                </a:lnTo>
                <a:lnTo>
                  <a:pt x="714" y="269"/>
                </a:lnTo>
                <a:lnTo>
                  <a:pt x="710" y="271"/>
                </a:lnTo>
                <a:lnTo>
                  <a:pt x="707" y="274"/>
                </a:lnTo>
                <a:lnTo>
                  <a:pt x="704" y="276"/>
                </a:lnTo>
                <a:lnTo>
                  <a:pt x="701" y="279"/>
                </a:lnTo>
                <a:lnTo>
                  <a:pt x="698" y="284"/>
                </a:lnTo>
                <a:lnTo>
                  <a:pt x="696" y="287"/>
                </a:lnTo>
                <a:lnTo>
                  <a:pt x="693" y="291"/>
                </a:lnTo>
                <a:lnTo>
                  <a:pt x="690" y="297"/>
                </a:lnTo>
                <a:lnTo>
                  <a:pt x="688" y="301"/>
                </a:lnTo>
                <a:lnTo>
                  <a:pt x="685" y="307"/>
                </a:lnTo>
                <a:lnTo>
                  <a:pt x="684" y="312"/>
                </a:lnTo>
                <a:lnTo>
                  <a:pt x="681" y="320"/>
                </a:lnTo>
                <a:lnTo>
                  <a:pt x="680" y="327"/>
                </a:lnTo>
                <a:lnTo>
                  <a:pt x="678" y="334"/>
                </a:lnTo>
                <a:lnTo>
                  <a:pt x="675" y="341"/>
                </a:lnTo>
                <a:lnTo>
                  <a:pt x="674" y="350"/>
                </a:lnTo>
                <a:lnTo>
                  <a:pt x="673" y="359"/>
                </a:lnTo>
                <a:lnTo>
                  <a:pt x="671" y="367"/>
                </a:lnTo>
                <a:lnTo>
                  <a:pt x="670" y="377"/>
                </a:lnTo>
                <a:lnTo>
                  <a:pt x="668" y="387"/>
                </a:lnTo>
                <a:lnTo>
                  <a:pt x="667" y="397"/>
                </a:lnTo>
                <a:lnTo>
                  <a:pt x="667" y="407"/>
                </a:lnTo>
                <a:lnTo>
                  <a:pt x="665" y="419"/>
                </a:lnTo>
                <a:lnTo>
                  <a:pt x="664" y="431"/>
                </a:lnTo>
                <a:lnTo>
                  <a:pt x="664" y="442"/>
                </a:lnTo>
                <a:lnTo>
                  <a:pt x="662" y="455"/>
                </a:lnTo>
                <a:lnTo>
                  <a:pt x="662" y="468"/>
                </a:lnTo>
                <a:lnTo>
                  <a:pt x="662" y="481"/>
                </a:lnTo>
                <a:lnTo>
                  <a:pt x="661" y="494"/>
                </a:lnTo>
                <a:lnTo>
                  <a:pt x="661" y="508"/>
                </a:lnTo>
                <a:lnTo>
                  <a:pt x="661" y="523"/>
                </a:lnTo>
                <a:lnTo>
                  <a:pt x="661" y="538"/>
                </a:lnTo>
                <a:lnTo>
                  <a:pt x="660" y="553"/>
                </a:lnTo>
                <a:lnTo>
                  <a:pt x="658" y="570"/>
                </a:lnTo>
                <a:lnTo>
                  <a:pt x="657" y="587"/>
                </a:lnTo>
                <a:lnTo>
                  <a:pt x="655" y="605"/>
                </a:lnTo>
                <a:lnTo>
                  <a:pt x="654" y="623"/>
                </a:lnTo>
                <a:lnTo>
                  <a:pt x="652" y="644"/>
                </a:lnTo>
                <a:lnTo>
                  <a:pt x="652" y="664"/>
                </a:lnTo>
                <a:lnTo>
                  <a:pt x="651" y="685"/>
                </a:lnTo>
                <a:lnTo>
                  <a:pt x="649" y="708"/>
                </a:lnTo>
                <a:lnTo>
                  <a:pt x="648" y="731"/>
                </a:lnTo>
                <a:lnTo>
                  <a:pt x="648" y="754"/>
                </a:lnTo>
                <a:lnTo>
                  <a:pt x="647" y="779"/>
                </a:lnTo>
                <a:lnTo>
                  <a:pt x="647" y="805"/>
                </a:lnTo>
                <a:lnTo>
                  <a:pt x="645" y="832"/>
                </a:lnTo>
                <a:lnTo>
                  <a:pt x="644" y="860"/>
                </a:lnTo>
                <a:lnTo>
                  <a:pt x="644" y="887"/>
                </a:lnTo>
                <a:lnTo>
                  <a:pt x="642" y="916"/>
                </a:lnTo>
                <a:lnTo>
                  <a:pt x="642" y="946"/>
                </a:lnTo>
                <a:lnTo>
                  <a:pt x="641" y="976"/>
                </a:lnTo>
                <a:lnTo>
                  <a:pt x="641" y="1008"/>
                </a:lnTo>
                <a:lnTo>
                  <a:pt x="639" y="1041"/>
                </a:lnTo>
                <a:lnTo>
                  <a:pt x="638" y="1074"/>
                </a:lnTo>
                <a:lnTo>
                  <a:pt x="638" y="1107"/>
                </a:lnTo>
                <a:lnTo>
                  <a:pt x="637" y="1142"/>
                </a:lnTo>
                <a:lnTo>
                  <a:pt x="635" y="1178"/>
                </a:lnTo>
                <a:lnTo>
                  <a:pt x="634" y="1215"/>
                </a:lnTo>
                <a:lnTo>
                  <a:pt x="634" y="1253"/>
                </a:lnTo>
                <a:lnTo>
                  <a:pt x="632" y="1290"/>
                </a:lnTo>
                <a:lnTo>
                  <a:pt x="631" y="1329"/>
                </a:lnTo>
                <a:lnTo>
                  <a:pt x="629" y="1369"/>
                </a:lnTo>
                <a:lnTo>
                  <a:pt x="628" y="1409"/>
                </a:lnTo>
                <a:lnTo>
                  <a:pt x="626" y="14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92"/>
          <p:cNvSpPr/>
          <p:nvPr/>
        </p:nvSpPr>
        <p:spPr>
          <a:xfrm>
            <a:off x="5942160" y="3949560"/>
            <a:ext cx="185760" cy="86040"/>
          </a:xfrm>
          <a:custGeom>
            <a:avLst/>
            <a:gdLst/>
            <a:ahLst/>
            <a:rect l="l" t="t" r="r" b="b"/>
            <a:pathLst>
              <a:path w="350" h="161">
                <a:moveTo>
                  <a:pt x="349" y="89"/>
                </a:moveTo>
                <a:lnTo>
                  <a:pt x="346" y="94"/>
                </a:lnTo>
                <a:lnTo>
                  <a:pt x="344" y="99"/>
                </a:lnTo>
                <a:lnTo>
                  <a:pt x="341" y="104"/>
                </a:lnTo>
                <a:lnTo>
                  <a:pt x="337" y="108"/>
                </a:lnTo>
                <a:lnTo>
                  <a:pt x="333" y="112"/>
                </a:lnTo>
                <a:lnTo>
                  <a:pt x="328" y="117"/>
                </a:lnTo>
                <a:lnTo>
                  <a:pt x="324" y="119"/>
                </a:lnTo>
                <a:lnTo>
                  <a:pt x="318" y="124"/>
                </a:lnTo>
                <a:lnTo>
                  <a:pt x="311" y="127"/>
                </a:lnTo>
                <a:lnTo>
                  <a:pt x="305" y="130"/>
                </a:lnTo>
                <a:lnTo>
                  <a:pt x="298" y="132"/>
                </a:lnTo>
                <a:lnTo>
                  <a:pt x="290" y="135"/>
                </a:lnTo>
                <a:lnTo>
                  <a:pt x="281" y="138"/>
                </a:lnTo>
                <a:lnTo>
                  <a:pt x="272" y="141"/>
                </a:lnTo>
                <a:lnTo>
                  <a:pt x="262" y="144"/>
                </a:lnTo>
                <a:lnTo>
                  <a:pt x="252" y="145"/>
                </a:lnTo>
                <a:lnTo>
                  <a:pt x="241" y="147"/>
                </a:lnTo>
                <a:lnTo>
                  <a:pt x="229" y="150"/>
                </a:lnTo>
                <a:lnTo>
                  <a:pt x="218" y="151"/>
                </a:lnTo>
                <a:lnTo>
                  <a:pt x="205" y="153"/>
                </a:lnTo>
                <a:lnTo>
                  <a:pt x="192" y="154"/>
                </a:lnTo>
                <a:lnTo>
                  <a:pt x="177" y="155"/>
                </a:lnTo>
                <a:lnTo>
                  <a:pt x="163" y="157"/>
                </a:lnTo>
                <a:lnTo>
                  <a:pt x="147" y="157"/>
                </a:lnTo>
                <a:lnTo>
                  <a:pt x="131" y="158"/>
                </a:lnTo>
                <a:lnTo>
                  <a:pt x="114" y="160"/>
                </a:lnTo>
                <a:lnTo>
                  <a:pt x="97" y="160"/>
                </a:lnTo>
                <a:lnTo>
                  <a:pt x="79" y="160"/>
                </a:lnTo>
                <a:lnTo>
                  <a:pt x="61" y="161"/>
                </a:lnTo>
                <a:lnTo>
                  <a:pt x="41" y="161"/>
                </a:lnTo>
                <a:lnTo>
                  <a:pt x="20" y="161"/>
                </a:lnTo>
                <a:lnTo>
                  <a:pt x="0" y="161"/>
                </a:lnTo>
                <a:lnTo>
                  <a:pt x="0" y="81"/>
                </a:lnTo>
                <a:lnTo>
                  <a:pt x="0" y="0"/>
                </a:lnTo>
                <a:lnTo>
                  <a:pt x="22" y="0"/>
                </a:lnTo>
                <a:lnTo>
                  <a:pt x="43" y="0"/>
                </a:lnTo>
                <a:lnTo>
                  <a:pt x="65" y="1"/>
                </a:lnTo>
                <a:lnTo>
                  <a:pt x="85" y="1"/>
                </a:lnTo>
                <a:lnTo>
                  <a:pt x="105" y="3"/>
                </a:lnTo>
                <a:lnTo>
                  <a:pt x="124" y="4"/>
                </a:lnTo>
                <a:lnTo>
                  <a:pt x="141" y="4"/>
                </a:lnTo>
                <a:lnTo>
                  <a:pt x="159" y="6"/>
                </a:lnTo>
                <a:lnTo>
                  <a:pt x="176" y="9"/>
                </a:lnTo>
                <a:lnTo>
                  <a:pt x="192" y="10"/>
                </a:lnTo>
                <a:lnTo>
                  <a:pt x="208" y="12"/>
                </a:lnTo>
                <a:lnTo>
                  <a:pt x="222" y="14"/>
                </a:lnTo>
                <a:lnTo>
                  <a:pt x="235" y="16"/>
                </a:lnTo>
                <a:lnTo>
                  <a:pt x="248" y="19"/>
                </a:lnTo>
                <a:lnTo>
                  <a:pt x="259" y="22"/>
                </a:lnTo>
                <a:lnTo>
                  <a:pt x="271" y="24"/>
                </a:lnTo>
                <a:lnTo>
                  <a:pt x="282" y="27"/>
                </a:lnTo>
                <a:lnTo>
                  <a:pt x="292" y="30"/>
                </a:lnTo>
                <a:lnTo>
                  <a:pt x="301" y="35"/>
                </a:lnTo>
                <a:lnTo>
                  <a:pt x="310" y="37"/>
                </a:lnTo>
                <a:lnTo>
                  <a:pt x="317" y="40"/>
                </a:lnTo>
                <a:lnTo>
                  <a:pt x="324" y="45"/>
                </a:lnTo>
                <a:lnTo>
                  <a:pt x="330" y="49"/>
                </a:lnTo>
                <a:lnTo>
                  <a:pt x="334" y="53"/>
                </a:lnTo>
                <a:lnTo>
                  <a:pt x="339" y="56"/>
                </a:lnTo>
                <a:lnTo>
                  <a:pt x="343" y="60"/>
                </a:lnTo>
                <a:lnTo>
                  <a:pt x="346" y="65"/>
                </a:lnTo>
                <a:lnTo>
                  <a:pt x="347" y="71"/>
                </a:lnTo>
                <a:lnTo>
                  <a:pt x="349" y="75"/>
                </a:lnTo>
                <a:lnTo>
                  <a:pt x="350" y="79"/>
                </a:lnTo>
                <a:lnTo>
                  <a:pt x="349" y="85"/>
                </a:lnTo>
                <a:lnTo>
                  <a:pt x="349" y="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93"/>
          <p:cNvSpPr/>
          <p:nvPr/>
        </p:nvSpPr>
        <p:spPr>
          <a:xfrm>
            <a:off x="5886360" y="4253040"/>
            <a:ext cx="212760" cy="85680"/>
          </a:xfrm>
          <a:custGeom>
            <a:avLst/>
            <a:gdLst/>
            <a:ahLst/>
            <a:rect l="l" t="t" r="r" b="b"/>
            <a:pathLst>
              <a:path w="402" h="161">
                <a:moveTo>
                  <a:pt x="53" y="0"/>
                </a:moveTo>
                <a:lnTo>
                  <a:pt x="75" y="0"/>
                </a:lnTo>
                <a:lnTo>
                  <a:pt x="97" y="0"/>
                </a:lnTo>
                <a:lnTo>
                  <a:pt x="118" y="0"/>
                </a:lnTo>
                <a:lnTo>
                  <a:pt x="138" y="1"/>
                </a:lnTo>
                <a:lnTo>
                  <a:pt x="158" y="1"/>
                </a:lnTo>
                <a:lnTo>
                  <a:pt x="177" y="1"/>
                </a:lnTo>
                <a:lnTo>
                  <a:pt x="194" y="3"/>
                </a:lnTo>
                <a:lnTo>
                  <a:pt x="212" y="4"/>
                </a:lnTo>
                <a:lnTo>
                  <a:pt x="229" y="4"/>
                </a:lnTo>
                <a:lnTo>
                  <a:pt x="245" y="6"/>
                </a:lnTo>
                <a:lnTo>
                  <a:pt x="259" y="7"/>
                </a:lnTo>
                <a:lnTo>
                  <a:pt x="274" y="9"/>
                </a:lnTo>
                <a:lnTo>
                  <a:pt x="288" y="10"/>
                </a:lnTo>
                <a:lnTo>
                  <a:pt x="301" y="11"/>
                </a:lnTo>
                <a:lnTo>
                  <a:pt x="313" y="13"/>
                </a:lnTo>
                <a:lnTo>
                  <a:pt x="324" y="16"/>
                </a:lnTo>
                <a:lnTo>
                  <a:pt x="336" y="17"/>
                </a:lnTo>
                <a:lnTo>
                  <a:pt x="344" y="20"/>
                </a:lnTo>
                <a:lnTo>
                  <a:pt x="354" y="23"/>
                </a:lnTo>
                <a:lnTo>
                  <a:pt x="361" y="26"/>
                </a:lnTo>
                <a:lnTo>
                  <a:pt x="370" y="29"/>
                </a:lnTo>
                <a:lnTo>
                  <a:pt x="376" y="32"/>
                </a:lnTo>
                <a:lnTo>
                  <a:pt x="383" y="35"/>
                </a:lnTo>
                <a:lnTo>
                  <a:pt x="387" y="37"/>
                </a:lnTo>
                <a:lnTo>
                  <a:pt x="392" y="42"/>
                </a:lnTo>
                <a:lnTo>
                  <a:pt x="396" y="45"/>
                </a:lnTo>
                <a:lnTo>
                  <a:pt x="399" y="49"/>
                </a:lnTo>
                <a:lnTo>
                  <a:pt x="400" y="53"/>
                </a:lnTo>
                <a:lnTo>
                  <a:pt x="402" y="58"/>
                </a:lnTo>
                <a:lnTo>
                  <a:pt x="402" y="62"/>
                </a:lnTo>
                <a:lnTo>
                  <a:pt x="402" y="66"/>
                </a:lnTo>
                <a:lnTo>
                  <a:pt x="400" y="72"/>
                </a:lnTo>
                <a:lnTo>
                  <a:pt x="399" y="76"/>
                </a:lnTo>
                <a:lnTo>
                  <a:pt x="396" y="81"/>
                </a:lnTo>
                <a:lnTo>
                  <a:pt x="393" y="86"/>
                </a:lnTo>
                <a:lnTo>
                  <a:pt x="389" y="91"/>
                </a:lnTo>
                <a:lnTo>
                  <a:pt x="385" y="95"/>
                </a:lnTo>
                <a:lnTo>
                  <a:pt x="379" y="99"/>
                </a:lnTo>
                <a:lnTo>
                  <a:pt x="373" y="104"/>
                </a:lnTo>
                <a:lnTo>
                  <a:pt x="367" y="108"/>
                </a:lnTo>
                <a:lnTo>
                  <a:pt x="360" y="112"/>
                </a:lnTo>
                <a:lnTo>
                  <a:pt x="353" y="117"/>
                </a:lnTo>
                <a:lnTo>
                  <a:pt x="344" y="119"/>
                </a:lnTo>
                <a:lnTo>
                  <a:pt x="336" y="124"/>
                </a:lnTo>
                <a:lnTo>
                  <a:pt x="325" y="127"/>
                </a:lnTo>
                <a:lnTo>
                  <a:pt x="315" y="131"/>
                </a:lnTo>
                <a:lnTo>
                  <a:pt x="304" y="134"/>
                </a:lnTo>
                <a:lnTo>
                  <a:pt x="292" y="137"/>
                </a:lnTo>
                <a:lnTo>
                  <a:pt x="279" y="140"/>
                </a:lnTo>
                <a:lnTo>
                  <a:pt x="266" y="142"/>
                </a:lnTo>
                <a:lnTo>
                  <a:pt x="252" y="144"/>
                </a:lnTo>
                <a:lnTo>
                  <a:pt x="238" y="147"/>
                </a:lnTo>
                <a:lnTo>
                  <a:pt x="222" y="150"/>
                </a:lnTo>
                <a:lnTo>
                  <a:pt x="206" y="151"/>
                </a:lnTo>
                <a:lnTo>
                  <a:pt x="189" y="153"/>
                </a:lnTo>
                <a:lnTo>
                  <a:pt x="170" y="155"/>
                </a:lnTo>
                <a:lnTo>
                  <a:pt x="151" y="157"/>
                </a:lnTo>
                <a:lnTo>
                  <a:pt x="133" y="157"/>
                </a:lnTo>
                <a:lnTo>
                  <a:pt x="112" y="158"/>
                </a:lnTo>
                <a:lnTo>
                  <a:pt x="92" y="160"/>
                </a:lnTo>
                <a:lnTo>
                  <a:pt x="71" y="160"/>
                </a:lnTo>
                <a:lnTo>
                  <a:pt x="48" y="161"/>
                </a:lnTo>
                <a:lnTo>
                  <a:pt x="25" y="161"/>
                </a:lnTo>
                <a:lnTo>
                  <a:pt x="0" y="161"/>
                </a:lnTo>
                <a:lnTo>
                  <a:pt x="26" y="81"/>
                </a:lnTo>
                <a:lnTo>
                  <a:pt x="53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94"/>
          <p:cNvSpPr/>
          <p:nvPr/>
        </p:nvSpPr>
        <p:spPr>
          <a:xfrm>
            <a:off x="6477120" y="3510000"/>
            <a:ext cx="196560" cy="201600"/>
          </a:xfrm>
          <a:custGeom>
            <a:avLst/>
            <a:gdLst/>
            <a:ahLst/>
            <a:rect l="l" t="t" r="r" b="b"/>
            <a:pathLst>
              <a:path w="372" h="379">
                <a:moveTo>
                  <a:pt x="209" y="44"/>
                </a:moveTo>
                <a:lnTo>
                  <a:pt x="225" y="46"/>
                </a:lnTo>
                <a:lnTo>
                  <a:pt x="241" y="51"/>
                </a:lnTo>
                <a:lnTo>
                  <a:pt x="255" y="56"/>
                </a:lnTo>
                <a:lnTo>
                  <a:pt x="268" y="64"/>
                </a:lnTo>
                <a:lnTo>
                  <a:pt x="281" y="69"/>
                </a:lnTo>
                <a:lnTo>
                  <a:pt x="293" y="78"/>
                </a:lnTo>
                <a:lnTo>
                  <a:pt x="304" y="87"/>
                </a:lnTo>
                <a:lnTo>
                  <a:pt x="314" y="97"/>
                </a:lnTo>
                <a:lnTo>
                  <a:pt x="323" y="107"/>
                </a:lnTo>
                <a:lnTo>
                  <a:pt x="332" y="118"/>
                </a:lnTo>
                <a:lnTo>
                  <a:pt x="339" y="130"/>
                </a:lnTo>
                <a:lnTo>
                  <a:pt x="346" y="143"/>
                </a:lnTo>
                <a:lnTo>
                  <a:pt x="352" y="157"/>
                </a:lnTo>
                <a:lnTo>
                  <a:pt x="357" y="172"/>
                </a:lnTo>
                <a:lnTo>
                  <a:pt x="362" y="187"/>
                </a:lnTo>
                <a:lnTo>
                  <a:pt x="366" y="205"/>
                </a:lnTo>
                <a:lnTo>
                  <a:pt x="367" y="221"/>
                </a:lnTo>
                <a:lnTo>
                  <a:pt x="370" y="236"/>
                </a:lnTo>
                <a:lnTo>
                  <a:pt x="372" y="251"/>
                </a:lnTo>
                <a:lnTo>
                  <a:pt x="372" y="264"/>
                </a:lnTo>
                <a:lnTo>
                  <a:pt x="372" y="277"/>
                </a:lnTo>
                <a:lnTo>
                  <a:pt x="372" y="290"/>
                </a:lnTo>
                <a:lnTo>
                  <a:pt x="370" y="301"/>
                </a:lnTo>
                <a:lnTo>
                  <a:pt x="370" y="311"/>
                </a:lnTo>
                <a:lnTo>
                  <a:pt x="367" y="321"/>
                </a:lnTo>
                <a:lnTo>
                  <a:pt x="366" y="330"/>
                </a:lnTo>
                <a:lnTo>
                  <a:pt x="363" y="337"/>
                </a:lnTo>
                <a:lnTo>
                  <a:pt x="360" y="344"/>
                </a:lnTo>
                <a:lnTo>
                  <a:pt x="357" y="352"/>
                </a:lnTo>
                <a:lnTo>
                  <a:pt x="355" y="357"/>
                </a:lnTo>
                <a:lnTo>
                  <a:pt x="352" y="362"/>
                </a:lnTo>
                <a:lnTo>
                  <a:pt x="349" y="366"/>
                </a:lnTo>
                <a:lnTo>
                  <a:pt x="346" y="369"/>
                </a:lnTo>
                <a:lnTo>
                  <a:pt x="344" y="372"/>
                </a:lnTo>
                <a:lnTo>
                  <a:pt x="342" y="373"/>
                </a:lnTo>
                <a:lnTo>
                  <a:pt x="339" y="376"/>
                </a:lnTo>
                <a:lnTo>
                  <a:pt x="336" y="378"/>
                </a:lnTo>
                <a:lnTo>
                  <a:pt x="333" y="378"/>
                </a:lnTo>
                <a:lnTo>
                  <a:pt x="329" y="379"/>
                </a:lnTo>
                <a:lnTo>
                  <a:pt x="326" y="379"/>
                </a:lnTo>
                <a:lnTo>
                  <a:pt x="321" y="379"/>
                </a:lnTo>
                <a:lnTo>
                  <a:pt x="317" y="378"/>
                </a:lnTo>
                <a:lnTo>
                  <a:pt x="313" y="378"/>
                </a:lnTo>
                <a:lnTo>
                  <a:pt x="307" y="376"/>
                </a:lnTo>
                <a:lnTo>
                  <a:pt x="303" y="373"/>
                </a:lnTo>
                <a:lnTo>
                  <a:pt x="297" y="372"/>
                </a:lnTo>
                <a:lnTo>
                  <a:pt x="291" y="369"/>
                </a:lnTo>
                <a:lnTo>
                  <a:pt x="285" y="366"/>
                </a:lnTo>
                <a:lnTo>
                  <a:pt x="278" y="362"/>
                </a:lnTo>
                <a:lnTo>
                  <a:pt x="272" y="359"/>
                </a:lnTo>
                <a:lnTo>
                  <a:pt x="265" y="353"/>
                </a:lnTo>
                <a:lnTo>
                  <a:pt x="258" y="349"/>
                </a:lnTo>
                <a:lnTo>
                  <a:pt x="251" y="344"/>
                </a:lnTo>
                <a:lnTo>
                  <a:pt x="244" y="339"/>
                </a:lnTo>
                <a:lnTo>
                  <a:pt x="236" y="331"/>
                </a:lnTo>
                <a:lnTo>
                  <a:pt x="228" y="326"/>
                </a:lnTo>
                <a:lnTo>
                  <a:pt x="219" y="318"/>
                </a:lnTo>
                <a:lnTo>
                  <a:pt x="212" y="311"/>
                </a:lnTo>
                <a:lnTo>
                  <a:pt x="203" y="303"/>
                </a:lnTo>
                <a:lnTo>
                  <a:pt x="193" y="295"/>
                </a:lnTo>
                <a:lnTo>
                  <a:pt x="185" y="287"/>
                </a:lnTo>
                <a:lnTo>
                  <a:pt x="176" y="277"/>
                </a:lnTo>
                <a:lnTo>
                  <a:pt x="166" y="268"/>
                </a:lnTo>
                <a:lnTo>
                  <a:pt x="157" y="258"/>
                </a:lnTo>
                <a:lnTo>
                  <a:pt x="137" y="241"/>
                </a:lnTo>
                <a:lnTo>
                  <a:pt x="120" y="225"/>
                </a:lnTo>
                <a:lnTo>
                  <a:pt x="104" y="209"/>
                </a:lnTo>
                <a:lnTo>
                  <a:pt x="88" y="195"/>
                </a:lnTo>
                <a:lnTo>
                  <a:pt x="74" y="179"/>
                </a:lnTo>
                <a:lnTo>
                  <a:pt x="62" y="166"/>
                </a:lnTo>
                <a:lnTo>
                  <a:pt x="49" y="152"/>
                </a:lnTo>
                <a:lnTo>
                  <a:pt x="39" y="139"/>
                </a:lnTo>
                <a:lnTo>
                  <a:pt x="31" y="127"/>
                </a:lnTo>
                <a:lnTo>
                  <a:pt x="22" y="116"/>
                </a:lnTo>
                <a:lnTo>
                  <a:pt x="16" y="104"/>
                </a:lnTo>
                <a:lnTo>
                  <a:pt x="10" y="94"/>
                </a:lnTo>
                <a:lnTo>
                  <a:pt x="6" y="85"/>
                </a:lnTo>
                <a:lnTo>
                  <a:pt x="3" y="77"/>
                </a:lnTo>
                <a:lnTo>
                  <a:pt x="0" y="68"/>
                </a:lnTo>
                <a:lnTo>
                  <a:pt x="0" y="61"/>
                </a:lnTo>
                <a:lnTo>
                  <a:pt x="0" y="58"/>
                </a:lnTo>
                <a:lnTo>
                  <a:pt x="2" y="54"/>
                </a:lnTo>
                <a:lnTo>
                  <a:pt x="2" y="51"/>
                </a:lnTo>
                <a:lnTo>
                  <a:pt x="3" y="48"/>
                </a:lnTo>
                <a:lnTo>
                  <a:pt x="6" y="44"/>
                </a:lnTo>
                <a:lnTo>
                  <a:pt x="8" y="41"/>
                </a:lnTo>
                <a:lnTo>
                  <a:pt x="10" y="38"/>
                </a:lnTo>
                <a:lnTo>
                  <a:pt x="13" y="33"/>
                </a:lnTo>
                <a:lnTo>
                  <a:pt x="16" y="31"/>
                </a:lnTo>
                <a:lnTo>
                  <a:pt x="21" y="28"/>
                </a:lnTo>
                <a:lnTo>
                  <a:pt x="25" y="23"/>
                </a:lnTo>
                <a:lnTo>
                  <a:pt x="29" y="20"/>
                </a:lnTo>
                <a:lnTo>
                  <a:pt x="35" y="18"/>
                </a:lnTo>
                <a:lnTo>
                  <a:pt x="41" y="13"/>
                </a:lnTo>
                <a:lnTo>
                  <a:pt x="46" y="10"/>
                </a:lnTo>
                <a:lnTo>
                  <a:pt x="52" y="8"/>
                </a:lnTo>
                <a:lnTo>
                  <a:pt x="57" y="3"/>
                </a:lnTo>
                <a:lnTo>
                  <a:pt x="61" y="2"/>
                </a:lnTo>
                <a:lnTo>
                  <a:pt x="65" y="0"/>
                </a:lnTo>
                <a:lnTo>
                  <a:pt x="72" y="0"/>
                </a:lnTo>
                <a:lnTo>
                  <a:pt x="78" y="0"/>
                </a:lnTo>
                <a:lnTo>
                  <a:pt x="87" y="0"/>
                </a:lnTo>
                <a:lnTo>
                  <a:pt x="95" y="2"/>
                </a:lnTo>
                <a:lnTo>
                  <a:pt x="104" y="5"/>
                </a:lnTo>
                <a:lnTo>
                  <a:pt x="114" y="8"/>
                </a:lnTo>
                <a:lnTo>
                  <a:pt x="126" y="10"/>
                </a:lnTo>
                <a:lnTo>
                  <a:pt x="137" y="15"/>
                </a:lnTo>
                <a:lnTo>
                  <a:pt x="150" y="19"/>
                </a:lnTo>
                <a:lnTo>
                  <a:pt x="165" y="25"/>
                </a:lnTo>
                <a:lnTo>
                  <a:pt x="177" y="31"/>
                </a:lnTo>
                <a:lnTo>
                  <a:pt x="193" y="36"/>
                </a:lnTo>
                <a:lnTo>
                  <a:pt x="209" y="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95"/>
          <p:cNvSpPr/>
          <p:nvPr/>
        </p:nvSpPr>
        <p:spPr>
          <a:xfrm>
            <a:off x="6149880" y="2994120"/>
            <a:ext cx="235080" cy="492120"/>
          </a:xfrm>
          <a:custGeom>
            <a:avLst/>
            <a:gdLst/>
            <a:ahLst/>
            <a:rect l="l" t="t" r="r" b="b"/>
            <a:pathLst>
              <a:path w="442" h="931">
                <a:moveTo>
                  <a:pt x="425" y="286"/>
                </a:moveTo>
                <a:lnTo>
                  <a:pt x="428" y="309"/>
                </a:lnTo>
                <a:lnTo>
                  <a:pt x="431" y="334"/>
                </a:lnTo>
                <a:lnTo>
                  <a:pt x="432" y="358"/>
                </a:lnTo>
                <a:lnTo>
                  <a:pt x="435" y="383"/>
                </a:lnTo>
                <a:lnTo>
                  <a:pt x="438" y="433"/>
                </a:lnTo>
                <a:lnTo>
                  <a:pt x="439" y="485"/>
                </a:lnTo>
                <a:lnTo>
                  <a:pt x="441" y="537"/>
                </a:lnTo>
                <a:lnTo>
                  <a:pt x="442" y="590"/>
                </a:lnTo>
                <a:lnTo>
                  <a:pt x="442" y="643"/>
                </a:lnTo>
                <a:lnTo>
                  <a:pt x="442" y="698"/>
                </a:lnTo>
                <a:lnTo>
                  <a:pt x="442" y="712"/>
                </a:lnTo>
                <a:lnTo>
                  <a:pt x="442" y="727"/>
                </a:lnTo>
                <a:lnTo>
                  <a:pt x="442" y="740"/>
                </a:lnTo>
                <a:lnTo>
                  <a:pt x="441" y="754"/>
                </a:lnTo>
                <a:lnTo>
                  <a:pt x="441" y="767"/>
                </a:lnTo>
                <a:lnTo>
                  <a:pt x="441" y="779"/>
                </a:lnTo>
                <a:lnTo>
                  <a:pt x="439" y="790"/>
                </a:lnTo>
                <a:lnTo>
                  <a:pt x="439" y="802"/>
                </a:lnTo>
                <a:lnTo>
                  <a:pt x="438" y="813"/>
                </a:lnTo>
                <a:lnTo>
                  <a:pt x="438" y="823"/>
                </a:lnTo>
                <a:lnTo>
                  <a:pt x="436" y="833"/>
                </a:lnTo>
                <a:lnTo>
                  <a:pt x="436" y="842"/>
                </a:lnTo>
                <a:lnTo>
                  <a:pt x="435" y="851"/>
                </a:lnTo>
                <a:lnTo>
                  <a:pt x="434" y="859"/>
                </a:lnTo>
                <a:lnTo>
                  <a:pt x="432" y="866"/>
                </a:lnTo>
                <a:lnTo>
                  <a:pt x="431" y="875"/>
                </a:lnTo>
                <a:lnTo>
                  <a:pt x="431" y="881"/>
                </a:lnTo>
                <a:lnTo>
                  <a:pt x="429" y="888"/>
                </a:lnTo>
                <a:lnTo>
                  <a:pt x="428" y="894"/>
                </a:lnTo>
                <a:lnTo>
                  <a:pt x="426" y="900"/>
                </a:lnTo>
                <a:lnTo>
                  <a:pt x="425" y="904"/>
                </a:lnTo>
                <a:lnTo>
                  <a:pt x="423" y="910"/>
                </a:lnTo>
                <a:lnTo>
                  <a:pt x="422" y="913"/>
                </a:lnTo>
                <a:lnTo>
                  <a:pt x="421" y="917"/>
                </a:lnTo>
                <a:lnTo>
                  <a:pt x="419" y="920"/>
                </a:lnTo>
                <a:lnTo>
                  <a:pt x="416" y="923"/>
                </a:lnTo>
                <a:lnTo>
                  <a:pt x="415" y="926"/>
                </a:lnTo>
                <a:lnTo>
                  <a:pt x="413" y="927"/>
                </a:lnTo>
                <a:lnTo>
                  <a:pt x="412" y="928"/>
                </a:lnTo>
                <a:lnTo>
                  <a:pt x="411" y="930"/>
                </a:lnTo>
                <a:lnTo>
                  <a:pt x="409" y="930"/>
                </a:lnTo>
                <a:lnTo>
                  <a:pt x="408" y="931"/>
                </a:lnTo>
                <a:lnTo>
                  <a:pt x="400" y="930"/>
                </a:lnTo>
                <a:lnTo>
                  <a:pt x="395" y="928"/>
                </a:lnTo>
                <a:lnTo>
                  <a:pt x="389" y="927"/>
                </a:lnTo>
                <a:lnTo>
                  <a:pt x="385" y="924"/>
                </a:lnTo>
                <a:lnTo>
                  <a:pt x="379" y="920"/>
                </a:lnTo>
                <a:lnTo>
                  <a:pt x="375" y="914"/>
                </a:lnTo>
                <a:lnTo>
                  <a:pt x="370" y="908"/>
                </a:lnTo>
                <a:lnTo>
                  <a:pt x="366" y="901"/>
                </a:lnTo>
                <a:lnTo>
                  <a:pt x="362" y="894"/>
                </a:lnTo>
                <a:lnTo>
                  <a:pt x="357" y="884"/>
                </a:lnTo>
                <a:lnTo>
                  <a:pt x="354" y="874"/>
                </a:lnTo>
                <a:lnTo>
                  <a:pt x="350" y="862"/>
                </a:lnTo>
                <a:lnTo>
                  <a:pt x="347" y="849"/>
                </a:lnTo>
                <a:lnTo>
                  <a:pt x="344" y="836"/>
                </a:lnTo>
                <a:lnTo>
                  <a:pt x="341" y="820"/>
                </a:lnTo>
                <a:lnTo>
                  <a:pt x="339" y="805"/>
                </a:lnTo>
                <a:lnTo>
                  <a:pt x="334" y="787"/>
                </a:lnTo>
                <a:lnTo>
                  <a:pt x="330" y="770"/>
                </a:lnTo>
                <a:lnTo>
                  <a:pt x="326" y="750"/>
                </a:lnTo>
                <a:lnTo>
                  <a:pt x="321" y="731"/>
                </a:lnTo>
                <a:lnTo>
                  <a:pt x="317" y="710"/>
                </a:lnTo>
                <a:lnTo>
                  <a:pt x="311" y="688"/>
                </a:lnTo>
                <a:lnTo>
                  <a:pt x="305" y="665"/>
                </a:lnTo>
                <a:lnTo>
                  <a:pt x="298" y="642"/>
                </a:lnTo>
                <a:lnTo>
                  <a:pt x="291" y="616"/>
                </a:lnTo>
                <a:lnTo>
                  <a:pt x="284" y="590"/>
                </a:lnTo>
                <a:lnTo>
                  <a:pt x="277" y="564"/>
                </a:lnTo>
                <a:lnTo>
                  <a:pt x="269" y="535"/>
                </a:lnTo>
                <a:lnTo>
                  <a:pt x="261" y="507"/>
                </a:lnTo>
                <a:lnTo>
                  <a:pt x="252" y="475"/>
                </a:lnTo>
                <a:lnTo>
                  <a:pt x="244" y="443"/>
                </a:lnTo>
                <a:lnTo>
                  <a:pt x="233" y="412"/>
                </a:lnTo>
                <a:lnTo>
                  <a:pt x="229" y="394"/>
                </a:lnTo>
                <a:lnTo>
                  <a:pt x="223" y="378"/>
                </a:lnTo>
                <a:lnTo>
                  <a:pt x="219" y="363"/>
                </a:lnTo>
                <a:lnTo>
                  <a:pt x="213" y="347"/>
                </a:lnTo>
                <a:lnTo>
                  <a:pt x="208" y="332"/>
                </a:lnTo>
                <a:lnTo>
                  <a:pt x="203" y="318"/>
                </a:lnTo>
                <a:lnTo>
                  <a:pt x="197" y="304"/>
                </a:lnTo>
                <a:lnTo>
                  <a:pt x="192" y="291"/>
                </a:lnTo>
                <a:lnTo>
                  <a:pt x="186" y="278"/>
                </a:lnTo>
                <a:lnTo>
                  <a:pt x="180" y="265"/>
                </a:lnTo>
                <a:lnTo>
                  <a:pt x="174" y="252"/>
                </a:lnTo>
                <a:lnTo>
                  <a:pt x="169" y="240"/>
                </a:lnTo>
                <a:lnTo>
                  <a:pt x="163" y="229"/>
                </a:lnTo>
                <a:lnTo>
                  <a:pt x="157" y="219"/>
                </a:lnTo>
                <a:lnTo>
                  <a:pt x="153" y="209"/>
                </a:lnTo>
                <a:lnTo>
                  <a:pt x="147" y="199"/>
                </a:lnTo>
                <a:lnTo>
                  <a:pt x="141" y="188"/>
                </a:lnTo>
                <a:lnTo>
                  <a:pt x="136" y="180"/>
                </a:lnTo>
                <a:lnTo>
                  <a:pt x="130" y="171"/>
                </a:lnTo>
                <a:lnTo>
                  <a:pt x="124" y="164"/>
                </a:lnTo>
                <a:lnTo>
                  <a:pt x="118" y="155"/>
                </a:lnTo>
                <a:lnTo>
                  <a:pt x="113" y="150"/>
                </a:lnTo>
                <a:lnTo>
                  <a:pt x="107" y="142"/>
                </a:lnTo>
                <a:lnTo>
                  <a:pt x="101" y="137"/>
                </a:lnTo>
                <a:lnTo>
                  <a:pt x="95" y="131"/>
                </a:lnTo>
                <a:lnTo>
                  <a:pt x="89" y="127"/>
                </a:lnTo>
                <a:lnTo>
                  <a:pt x="85" y="121"/>
                </a:lnTo>
                <a:lnTo>
                  <a:pt x="79" y="118"/>
                </a:lnTo>
                <a:lnTo>
                  <a:pt x="74" y="114"/>
                </a:lnTo>
                <a:lnTo>
                  <a:pt x="69" y="111"/>
                </a:lnTo>
                <a:lnTo>
                  <a:pt x="64" y="108"/>
                </a:lnTo>
                <a:lnTo>
                  <a:pt x="59" y="106"/>
                </a:lnTo>
                <a:lnTo>
                  <a:pt x="49" y="104"/>
                </a:lnTo>
                <a:lnTo>
                  <a:pt x="41" y="99"/>
                </a:lnTo>
                <a:lnTo>
                  <a:pt x="33" y="96"/>
                </a:lnTo>
                <a:lnTo>
                  <a:pt x="26" y="93"/>
                </a:lnTo>
                <a:lnTo>
                  <a:pt x="20" y="89"/>
                </a:lnTo>
                <a:lnTo>
                  <a:pt x="15" y="86"/>
                </a:lnTo>
                <a:lnTo>
                  <a:pt x="10" y="83"/>
                </a:lnTo>
                <a:lnTo>
                  <a:pt x="7" y="79"/>
                </a:lnTo>
                <a:lnTo>
                  <a:pt x="5" y="76"/>
                </a:lnTo>
                <a:lnTo>
                  <a:pt x="2" y="73"/>
                </a:lnTo>
                <a:lnTo>
                  <a:pt x="0" y="69"/>
                </a:lnTo>
                <a:lnTo>
                  <a:pt x="0" y="66"/>
                </a:lnTo>
                <a:lnTo>
                  <a:pt x="0" y="63"/>
                </a:lnTo>
                <a:lnTo>
                  <a:pt x="2" y="59"/>
                </a:lnTo>
                <a:lnTo>
                  <a:pt x="5" y="56"/>
                </a:lnTo>
                <a:lnTo>
                  <a:pt x="7" y="53"/>
                </a:lnTo>
                <a:lnTo>
                  <a:pt x="10" y="49"/>
                </a:lnTo>
                <a:lnTo>
                  <a:pt x="15" y="46"/>
                </a:lnTo>
                <a:lnTo>
                  <a:pt x="19" y="43"/>
                </a:lnTo>
                <a:lnTo>
                  <a:pt x="23" y="39"/>
                </a:lnTo>
                <a:lnTo>
                  <a:pt x="29" y="36"/>
                </a:lnTo>
                <a:lnTo>
                  <a:pt x="36" y="33"/>
                </a:lnTo>
                <a:lnTo>
                  <a:pt x="42" y="29"/>
                </a:lnTo>
                <a:lnTo>
                  <a:pt x="51" y="26"/>
                </a:lnTo>
                <a:lnTo>
                  <a:pt x="59" y="23"/>
                </a:lnTo>
                <a:lnTo>
                  <a:pt x="68" y="19"/>
                </a:lnTo>
                <a:lnTo>
                  <a:pt x="79" y="16"/>
                </a:lnTo>
                <a:lnTo>
                  <a:pt x="91" y="13"/>
                </a:lnTo>
                <a:lnTo>
                  <a:pt x="102" y="10"/>
                </a:lnTo>
                <a:lnTo>
                  <a:pt x="115" y="6"/>
                </a:lnTo>
                <a:lnTo>
                  <a:pt x="131" y="3"/>
                </a:lnTo>
                <a:lnTo>
                  <a:pt x="147" y="0"/>
                </a:lnTo>
                <a:lnTo>
                  <a:pt x="160" y="0"/>
                </a:lnTo>
                <a:lnTo>
                  <a:pt x="173" y="0"/>
                </a:lnTo>
                <a:lnTo>
                  <a:pt x="197" y="3"/>
                </a:lnTo>
                <a:lnTo>
                  <a:pt x="223" y="6"/>
                </a:lnTo>
                <a:lnTo>
                  <a:pt x="248" y="10"/>
                </a:lnTo>
                <a:lnTo>
                  <a:pt x="272" y="16"/>
                </a:lnTo>
                <a:lnTo>
                  <a:pt x="295" y="21"/>
                </a:lnTo>
                <a:lnTo>
                  <a:pt x="317" y="29"/>
                </a:lnTo>
                <a:lnTo>
                  <a:pt x="328" y="32"/>
                </a:lnTo>
                <a:lnTo>
                  <a:pt x="339" y="36"/>
                </a:lnTo>
                <a:lnTo>
                  <a:pt x="347" y="43"/>
                </a:lnTo>
                <a:lnTo>
                  <a:pt x="356" y="52"/>
                </a:lnTo>
                <a:lnTo>
                  <a:pt x="364" y="60"/>
                </a:lnTo>
                <a:lnTo>
                  <a:pt x="373" y="72"/>
                </a:lnTo>
                <a:lnTo>
                  <a:pt x="382" y="83"/>
                </a:lnTo>
                <a:lnTo>
                  <a:pt x="387" y="98"/>
                </a:lnTo>
                <a:lnTo>
                  <a:pt x="395" y="112"/>
                </a:lnTo>
                <a:lnTo>
                  <a:pt x="400" y="127"/>
                </a:lnTo>
                <a:lnTo>
                  <a:pt x="406" y="144"/>
                </a:lnTo>
                <a:lnTo>
                  <a:pt x="411" y="161"/>
                </a:lnTo>
                <a:lnTo>
                  <a:pt x="415" y="180"/>
                </a:lnTo>
                <a:lnTo>
                  <a:pt x="419" y="199"/>
                </a:lnTo>
                <a:lnTo>
                  <a:pt x="422" y="219"/>
                </a:lnTo>
                <a:lnTo>
                  <a:pt x="423" y="240"/>
                </a:lnTo>
                <a:lnTo>
                  <a:pt x="425" y="263"/>
                </a:lnTo>
                <a:lnTo>
                  <a:pt x="425" y="2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96"/>
          <p:cNvSpPr/>
          <p:nvPr/>
        </p:nvSpPr>
        <p:spPr>
          <a:xfrm>
            <a:off x="6777000" y="2870280"/>
            <a:ext cx="262080" cy="512640"/>
          </a:xfrm>
          <a:custGeom>
            <a:avLst/>
            <a:gdLst/>
            <a:ahLst/>
            <a:rect l="l" t="t" r="r" b="b"/>
            <a:pathLst>
              <a:path w="494" h="968">
                <a:moveTo>
                  <a:pt x="6" y="967"/>
                </a:moveTo>
                <a:lnTo>
                  <a:pt x="4" y="964"/>
                </a:lnTo>
                <a:lnTo>
                  <a:pt x="3" y="963"/>
                </a:lnTo>
                <a:lnTo>
                  <a:pt x="1" y="960"/>
                </a:lnTo>
                <a:lnTo>
                  <a:pt x="1" y="957"/>
                </a:lnTo>
                <a:lnTo>
                  <a:pt x="0" y="953"/>
                </a:lnTo>
                <a:lnTo>
                  <a:pt x="0" y="948"/>
                </a:lnTo>
                <a:lnTo>
                  <a:pt x="0" y="944"/>
                </a:lnTo>
                <a:lnTo>
                  <a:pt x="0" y="940"/>
                </a:lnTo>
                <a:lnTo>
                  <a:pt x="0" y="934"/>
                </a:lnTo>
                <a:lnTo>
                  <a:pt x="0" y="930"/>
                </a:lnTo>
                <a:lnTo>
                  <a:pt x="0" y="924"/>
                </a:lnTo>
                <a:lnTo>
                  <a:pt x="1" y="917"/>
                </a:lnTo>
                <a:lnTo>
                  <a:pt x="1" y="911"/>
                </a:lnTo>
                <a:lnTo>
                  <a:pt x="3" y="904"/>
                </a:lnTo>
                <a:lnTo>
                  <a:pt x="4" y="897"/>
                </a:lnTo>
                <a:lnTo>
                  <a:pt x="6" y="888"/>
                </a:lnTo>
                <a:lnTo>
                  <a:pt x="7" y="879"/>
                </a:lnTo>
                <a:lnTo>
                  <a:pt x="10" y="872"/>
                </a:lnTo>
                <a:lnTo>
                  <a:pt x="12" y="862"/>
                </a:lnTo>
                <a:lnTo>
                  <a:pt x="14" y="853"/>
                </a:lnTo>
                <a:lnTo>
                  <a:pt x="20" y="833"/>
                </a:lnTo>
                <a:lnTo>
                  <a:pt x="26" y="813"/>
                </a:lnTo>
                <a:lnTo>
                  <a:pt x="32" y="790"/>
                </a:lnTo>
                <a:lnTo>
                  <a:pt x="40" y="767"/>
                </a:lnTo>
                <a:lnTo>
                  <a:pt x="49" y="742"/>
                </a:lnTo>
                <a:lnTo>
                  <a:pt x="58" y="717"/>
                </a:lnTo>
                <a:lnTo>
                  <a:pt x="76" y="662"/>
                </a:lnTo>
                <a:lnTo>
                  <a:pt x="96" y="609"/>
                </a:lnTo>
                <a:lnTo>
                  <a:pt x="114" y="555"/>
                </a:lnTo>
                <a:lnTo>
                  <a:pt x="122" y="529"/>
                </a:lnTo>
                <a:lnTo>
                  <a:pt x="131" y="503"/>
                </a:lnTo>
                <a:lnTo>
                  <a:pt x="140" y="478"/>
                </a:lnTo>
                <a:lnTo>
                  <a:pt x="147" y="452"/>
                </a:lnTo>
                <a:lnTo>
                  <a:pt x="154" y="426"/>
                </a:lnTo>
                <a:lnTo>
                  <a:pt x="160" y="401"/>
                </a:lnTo>
                <a:lnTo>
                  <a:pt x="166" y="375"/>
                </a:lnTo>
                <a:lnTo>
                  <a:pt x="171" y="351"/>
                </a:lnTo>
                <a:lnTo>
                  <a:pt x="176" y="328"/>
                </a:lnTo>
                <a:lnTo>
                  <a:pt x="180" y="303"/>
                </a:lnTo>
                <a:lnTo>
                  <a:pt x="183" y="280"/>
                </a:lnTo>
                <a:lnTo>
                  <a:pt x="184" y="259"/>
                </a:lnTo>
                <a:lnTo>
                  <a:pt x="187" y="239"/>
                </a:lnTo>
                <a:lnTo>
                  <a:pt x="189" y="220"/>
                </a:lnTo>
                <a:lnTo>
                  <a:pt x="190" y="201"/>
                </a:lnTo>
                <a:lnTo>
                  <a:pt x="192" y="185"/>
                </a:lnTo>
                <a:lnTo>
                  <a:pt x="192" y="170"/>
                </a:lnTo>
                <a:lnTo>
                  <a:pt x="193" y="157"/>
                </a:lnTo>
                <a:lnTo>
                  <a:pt x="192" y="144"/>
                </a:lnTo>
                <a:lnTo>
                  <a:pt x="192" y="132"/>
                </a:lnTo>
                <a:lnTo>
                  <a:pt x="190" y="122"/>
                </a:lnTo>
                <a:lnTo>
                  <a:pt x="189" y="112"/>
                </a:lnTo>
                <a:lnTo>
                  <a:pt x="187" y="105"/>
                </a:lnTo>
                <a:lnTo>
                  <a:pt x="184" y="98"/>
                </a:lnTo>
                <a:lnTo>
                  <a:pt x="183" y="93"/>
                </a:lnTo>
                <a:lnTo>
                  <a:pt x="180" y="89"/>
                </a:lnTo>
                <a:lnTo>
                  <a:pt x="173" y="86"/>
                </a:lnTo>
                <a:lnTo>
                  <a:pt x="167" y="82"/>
                </a:lnTo>
                <a:lnTo>
                  <a:pt x="161" y="79"/>
                </a:lnTo>
                <a:lnTo>
                  <a:pt x="157" y="76"/>
                </a:lnTo>
                <a:lnTo>
                  <a:pt x="153" y="72"/>
                </a:lnTo>
                <a:lnTo>
                  <a:pt x="148" y="69"/>
                </a:lnTo>
                <a:lnTo>
                  <a:pt x="145" y="66"/>
                </a:lnTo>
                <a:lnTo>
                  <a:pt x="143" y="62"/>
                </a:lnTo>
                <a:lnTo>
                  <a:pt x="141" y="59"/>
                </a:lnTo>
                <a:lnTo>
                  <a:pt x="140" y="56"/>
                </a:lnTo>
                <a:lnTo>
                  <a:pt x="138" y="51"/>
                </a:lnTo>
                <a:lnTo>
                  <a:pt x="138" y="49"/>
                </a:lnTo>
                <a:lnTo>
                  <a:pt x="138" y="46"/>
                </a:lnTo>
                <a:lnTo>
                  <a:pt x="140" y="41"/>
                </a:lnTo>
                <a:lnTo>
                  <a:pt x="143" y="39"/>
                </a:lnTo>
                <a:lnTo>
                  <a:pt x="145" y="36"/>
                </a:lnTo>
                <a:lnTo>
                  <a:pt x="145" y="31"/>
                </a:lnTo>
                <a:lnTo>
                  <a:pt x="145" y="28"/>
                </a:lnTo>
                <a:lnTo>
                  <a:pt x="147" y="26"/>
                </a:lnTo>
                <a:lnTo>
                  <a:pt x="148" y="21"/>
                </a:lnTo>
                <a:lnTo>
                  <a:pt x="150" y="18"/>
                </a:lnTo>
                <a:lnTo>
                  <a:pt x="153" y="15"/>
                </a:lnTo>
                <a:lnTo>
                  <a:pt x="156" y="13"/>
                </a:lnTo>
                <a:lnTo>
                  <a:pt x="160" y="10"/>
                </a:lnTo>
                <a:lnTo>
                  <a:pt x="164" y="8"/>
                </a:lnTo>
                <a:lnTo>
                  <a:pt x="170" y="5"/>
                </a:lnTo>
                <a:lnTo>
                  <a:pt x="176" y="4"/>
                </a:lnTo>
                <a:lnTo>
                  <a:pt x="181" y="3"/>
                </a:lnTo>
                <a:lnTo>
                  <a:pt x="189" y="1"/>
                </a:lnTo>
                <a:lnTo>
                  <a:pt x="196" y="0"/>
                </a:lnTo>
                <a:lnTo>
                  <a:pt x="204" y="0"/>
                </a:lnTo>
                <a:lnTo>
                  <a:pt x="215" y="0"/>
                </a:lnTo>
                <a:lnTo>
                  <a:pt x="222" y="0"/>
                </a:lnTo>
                <a:lnTo>
                  <a:pt x="229" y="0"/>
                </a:lnTo>
                <a:lnTo>
                  <a:pt x="236" y="1"/>
                </a:lnTo>
                <a:lnTo>
                  <a:pt x="245" y="3"/>
                </a:lnTo>
                <a:lnTo>
                  <a:pt x="253" y="4"/>
                </a:lnTo>
                <a:lnTo>
                  <a:pt x="262" y="7"/>
                </a:lnTo>
                <a:lnTo>
                  <a:pt x="272" y="10"/>
                </a:lnTo>
                <a:lnTo>
                  <a:pt x="282" y="13"/>
                </a:lnTo>
                <a:lnTo>
                  <a:pt x="292" y="15"/>
                </a:lnTo>
                <a:lnTo>
                  <a:pt x="304" y="20"/>
                </a:lnTo>
                <a:lnTo>
                  <a:pt x="317" y="24"/>
                </a:lnTo>
                <a:lnTo>
                  <a:pt x="330" y="28"/>
                </a:lnTo>
                <a:lnTo>
                  <a:pt x="343" y="34"/>
                </a:lnTo>
                <a:lnTo>
                  <a:pt x="357" y="40"/>
                </a:lnTo>
                <a:lnTo>
                  <a:pt x="373" y="46"/>
                </a:lnTo>
                <a:lnTo>
                  <a:pt x="389" y="53"/>
                </a:lnTo>
                <a:lnTo>
                  <a:pt x="400" y="63"/>
                </a:lnTo>
                <a:lnTo>
                  <a:pt x="412" y="73"/>
                </a:lnTo>
                <a:lnTo>
                  <a:pt x="423" y="82"/>
                </a:lnTo>
                <a:lnTo>
                  <a:pt x="433" y="90"/>
                </a:lnTo>
                <a:lnTo>
                  <a:pt x="443" y="99"/>
                </a:lnTo>
                <a:lnTo>
                  <a:pt x="452" y="108"/>
                </a:lnTo>
                <a:lnTo>
                  <a:pt x="459" y="116"/>
                </a:lnTo>
                <a:lnTo>
                  <a:pt x="466" y="125"/>
                </a:lnTo>
                <a:lnTo>
                  <a:pt x="472" y="134"/>
                </a:lnTo>
                <a:lnTo>
                  <a:pt x="478" y="142"/>
                </a:lnTo>
                <a:lnTo>
                  <a:pt x="482" y="149"/>
                </a:lnTo>
                <a:lnTo>
                  <a:pt x="487" y="158"/>
                </a:lnTo>
                <a:lnTo>
                  <a:pt x="490" y="168"/>
                </a:lnTo>
                <a:lnTo>
                  <a:pt x="491" y="177"/>
                </a:lnTo>
                <a:lnTo>
                  <a:pt x="492" y="187"/>
                </a:lnTo>
                <a:lnTo>
                  <a:pt x="494" y="197"/>
                </a:lnTo>
                <a:lnTo>
                  <a:pt x="492" y="207"/>
                </a:lnTo>
                <a:lnTo>
                  <a:pt x="491" y="217"/>
                </a:lnTo>
                <a:lnTo>
                  <a:pt x="490" y="229"/>
                </a:lnTo>
                <a:lnTo>
                  <a:pt x="487" y="240"/>
                </a:lnTo>
                <a:lnTo>
                  <a:pt x="484" y="253"/>
                </a:lnTo>
                <a:lnTo>
                  <a:pt x="479" y="265"/>
                </a:lnTo>
                <a:lnTo>
                  <a:pt x="474" y="279"/>
                </a:lnTo>
                <a:lnTo>
                  <a:pt x="469" y="292"/>
                </a:lnTo>
                <a:lnTo>
                  <a:pt x="462" y="308"/>
                </a:lnTo>
                <a:lnTo>
                  <a:pt x="456" y="322"/>
                </a:lnTo>
                <a:lnTo>
                  <a:pt x="449" y="338"/>
                </a:lnTo>
                <a:lnTo>
                  <a:pt x="441" y="355"/>
                </a:lnTo>
                <a:lnTo>
                  <a:pt x="433" y="372"/>
                </a:lnTo>
                <a:lnTo>
                  <a:pt x="425" y="391"/>
                </a:lnTo>
                <a:lnTo>
                  <a:pt x="416" y="410"/>
                </a:lnTo>
                <a:lnTo>
                  <a:pt x="406" y="430"/>
                </a:lnTo>
                <a:lnTo>
                  <a:pt x="396" y="450"/>
                </a:lnTo>
                <a:lnTo>
                  <a:pt x="386" y="470"/>
                </a:lnTo>
                <a:lnTo>
                  <a:pt x="374" y="492"/>
                </a:lnTo>
                <a:lnTo>
                  <a:pt x="364" y="512"/>
                </a:lnTo>
                <a:lnTo>
                  <a:pt x="351" y="535"/>
                </a:lnTo>
                <a:lnTo>
                  <a:pt x="340" y="557"/>
                </a:lnTo>
                <a:lnTo>
                  <a:pt x="327" y="578"/>
                </a:lnTo>
                <a:lnTo>
                  <a:pt x="314" y="601"/>
                </a:lnTo>
                <a:lnTo>
                  <a:pt x="301" y="624"/>
                </a:lnTo>
                <a:lnTo>
                  <a:pt x="288" y="647"/>
                </a:lnTo>
                <a:lnTo>
                  <a:pt x="274" y="670"/>
                </a:lnTo>
                <a:lnTo>
                  <a:pt x="259" y="694"/>
                </a:lnTo>
                <a:lnTo>
                  <a:pt x="243" y="717"/>
                </a:lnTo>
                <a:lnTo>
                  <a:pt x="229" y="740"/>
                </a:lnTo>
                <a:lnTo>
                  <a:pt x="197" y="787"/>
                </a:lnTo>
                <a:lnTo>
                  <a:pt x="181" y="810"/>
                </a:lnTo>
                <a:lnTo>
                  <a:pt x="166" y="832"/>
                </a:lnTo>
                <a:lnTo>
                  <a:pt x="151" y="852"/>
                </a:lnTo>
                <a:lnTo>
                  <a:pt x="143" y="862"/>
                </a:lnTo>
                <a:lnTo>
                  <a:pt x="135" y="871"/>
                </a:lnTo>
                <a:lnTo>
                  <a:pt x="128" y="879"/>
                </a:lnTo>
                <a:lnTo>
                  <a:pt x="121" y="888"/>
                </a:lnTo>
                <a:lnTo>
                  <a:pt x="115" y="897"/>
                </a:lnTo>
                <a:lnTo>
                  <a:pt x="108" y="904"/>
                </a:lnTo>
                <a:lnTo>
                  <a:pt x="101" y="911"/>
                </a:lnTo>
                <a:lnTo>
                  <a:pt x="95" y="918"/>
                </a:lnTo>
                <a:lnTo>
                  <a:pt x="88" y="925"/>
                </a:lnTo>
                <a:lnTo>
                  <a:pt x="82" y="931"/>
                </a:lnTo>
                <a:lnTo>
                  <a:pt x="76" y="937"/>
                </a:lnTo>
                <a:lnTo>
                  <a:pt x="71" y="941"/>
                </a:lnTo>
                <a:lnTo>
                  <a:pt x="65" y="947"/>
                </a:lnTo>
                <a:lnTo>
                  <a:pt x="59" y="951"/>
                </a:lnTo>
                <a:lnTo>
                  <a:pt x="53" y="954"/>
                </a:lnTo>
                <a:lnTo>
                  <a:pt x="48" y="958"/>
                </a:lnTo>
                <a:lnTo>
                  <a:pt x="43" y="961"/>
                </a:lnTo>
                <a:lnTo>
                  <a:pt x="37" y="964"/>
                </a:lnTo>
                <a:lnTo>
                  <a:pt x="33" y="966"/>
                </a:lnTo>
                <a:lnTo>
                  <a:pt x="29" y="967"/>
                </a:lnTo>
                <a:lnTo>
                  <a:pt x="25" y="968"/>
                </a:lnTo>
                <a:lnTo>
                  <a:pt x="20" y="968"/>
                </a:lnTo>
                <a:lnTo>
                  <a:pt x="16" y="968"/>
                </a:lnTo>
                <a:lnTo>
                  <a:pt x="13" y="968"/>
                </a:lnTo>
                <a:lnTo>
                  <a:pt x="9" y="968"/>
                </a:lnTo>
                <a:lnTo>
                  <a:pt x="6" y="9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97"/>
          <p:cNvSpPr/>
          <p:nvPr/>
        </p:nvSpPr>
        <p:spPr>
          <a:xfrm>
            <a:off x="5773680" y="3097080"/>
            <a:ext cx="1716120" cy="255600"/>
          </a:xfrm>
          <a:custGeom>
            <a:avLst/>
            <a:gdLst/>
            <a:ahLst/>
            <a:rect l="l" t="t" r="r" b="b"/>
            <a:pathLst>
              <a:path w="3242" h="482">
                <a:moveTo>
                  <a:pt x="109" y="412"/>
                </a:moveTo>
                <a:lnTo>
                  <a:pt x="94" y="402"/>
                </a:lnTo>
                <a:lnTo>
                  <a:pt x="79" y="392"/>
                </a:lnTo>
                <a:lnTo>
                  <a:pt x="66" y="384"/>
                </a:lnTo>
                <a:lnTo>
                  <a:pt x="53" y="376"/>
                </a:lnTo>
                <a:lnTo>
                  <a:pt x="43" y="370"/>
                </a:lnTo>
                <a:lnTo>
                  <a:pt x="33" y="363"/>
                </a:lnTo>
                <a:lnTo>
                  <a:pt x="25" y="357"/>
                </a:lnTo>
                <a:lnTo>
                  <a:pt x="17" y="353"/>
                </a:lnTo>
                <a:lnTo>
                  <a:pt x="12" y="347"/>
                </a:lnTo>
                <a:lnTo>
                  <a:pt x="7" y="343"/>
                </a:lnTo>
                <a:lnTo>
                  <a:pt x="3" y="338"/>
                </a:lnTo>
                <a:lnTo>
                  <a:pt x="2" y="336"/>
                </a:lnTo>
                <a:lnTo>
                  <a:pt x="0" y="331"/>
                </a:lnTo>
                <a:lnTo>
                  <a:pt x="0" y="328"/>
                </a:lnTo>
                <a:lnTo>
                  <a:pt x="2" y="324"/>
                </a:lnTo>
                <a:lnTo>
                  <a:pt x="4" y="321"/>
                </a:lnTo>
                <a:lnTo>
                  <a:pt x="6" y="320"/>
                </a:lnTo>
                <a:lnTo>
                  <a:pt x="9" y="318"/>
                </a:lnTo>
                <a:lnTo>
                  <a:pt x="13" y="317"/>
                </a:lnTo>
                <a:lnTo>
                  <a:pt x="17" y="314"/>
                </a:lnTo>
                <a:lnTo>
                  <a:pt x="22" y="312"/>
                </a:lnTo>
                <a:lnTo>
                  <a:pt x="27" y="311"/>
                </a:lnTo>
                <a:lnTo>
                  <a:pt x="33" y="310"/>
                </a:lnTo>
                <a:lnTo>
                  <a:pt x="40" y="308"/>
                </a:lnTo>
                <a:lnTo>
                  <a:pt x="48" y="305"/>
                </a:lnTo>
                <a:lnTo>
                  <a:pt x="56" y="304"/>
                </a:lnTo>
                <a:lnTo>
                  <a:pt x="65" y="302"/>
                </a:lnTo>
                <a:lnTo>
                  <a:pt x="75" y="301"/>
                </a:lnTo>
                <a:lnTo>
                  <a:pt x="86" y="298"/>
                </a:lnTo>
                <a:lnTo>
                  <a:pt x="97" y="297"/>
                </a:lnTo>
                <a:lnTo>
                  <a:pt x="109" y="295"/>
                </a:lnTo>
                <a:lnTo>
                  <a:pt x="122" y="292"/>
                </a:lnTo>
                <a:lnTo>
                  <a:pt x="135" y="291"/>
                </a:lnTo>
                <a:lnTo>
                  <a:pt x="150" y="288"/>
                </a:lnTo>
                <a:lnTo>
                  <a:pt x="164" y="287"/>
                </a:lnTo>
                <a:lnTo>
                  <a:pt x="180" y="284"/>
                </a:lnTo>
                <a:lnTo>
                  <a:pt x="196" y="281"/>
                </a:lnTo>
                <a:lnTo>
                  <a:pt x="213" y="279"/>
                </a:lnTo>
                <a:lnTo>
                  <a:pt x="230" y="276"/>
                </a:lnTo>
                <a:lnTo>
                  <a:pt x="249" y="274"/>
                </a:lnTo>
                <a:lnTo>
                  <a:pt x="268" y="271"/>
                </a:lnTo>
                <a:lnTo>
                  <a:pt x="288" y="268"/>
                </a:lnTo>
                <a:lnTo>
                  <a:pt x="308" y="266"/>
                </a:lnTo>
                <a:lnTo>
                  <a:pt x="330" y="262"/>
                </a:lnTo>
                <a:lnTo>
                  <a:pt x="351" y="259"/>
                </a:lnTo>
                <a:lnTo>
                  <a:pt x="374" y="256"/>
                </a:lnTo>
                <a:lnTo>
                  <a:pt x="397" y="253"/>
                </a:lnTo>
                <a:lnTo>
                  <a:pt x="422" y="251"/>
                </a:lnTo>
                <a:lnTo>
                  <a:pt x="471" y="246"/>
                </a:lnTo>
                <a:lnTo>
                  <a:pt x="520" y="242"/>
                </a:lnTo>
                <a:lnTo>
                  <a:pt x="619" y="233"/>
                </a:lnTo>
                <a:lnTo>
                  <a:pt x="717" y="223"/>
                </a:lnTo>
                <a:lnTo>
                  <a:pt x="767" y="217"/>
                </a:lnTo>
                <a:lnTo>
                  <a:pt x="818" y="212"/>
                </a:lnTo>
                <a:lnTo>
                  <a:pt x="870" y="206"/>
                </a:lnTo>
                <a:lnTo>
                  <a:pt x="920" y="200"/>
                </a:lnTo>
                <a:lnTo>
                  <a:pt x="972" y="193"/>
                </a:lnTo>
                <a:lnTo>
                  <a:pt x="1025" y="187"/>
                </a:lnTo>
                <a:lnTo>
                  <a:pt x="1077" y="180"/>
                </a:lnTo>
                <a:lnTo>
                  <a:pt x="1132" y="173"/>
                </a:lnTo>
                <a:lnTo>
                  <a:pt x="1185" y="167"/>
                </a:lnTo>
                <a:lnTo>
                  <a:pt x="1241" y="160"/>
                </a:lnTo>
                <a:lnTo>
                  <a:pt x="1293" y="153"/>
                </a:lnTo>
                <a:lnTo>
                  <a:pt x="1345" y="147"/>
                </a:lnTo>
                <a:lnTo>
                  <a:pt x="1398" y="140"/>
                </a:lnTo>
                <a:lnTo>
                  <a:pt x="1451" y="133"/>
                </a:lnTo>
                <a:lnTo>
                  <a:pt x="1559" y="120"/>
                </a:lnTo>
                <a:lnTo>
                  <a:pt x="1669" y="107"/>
                </a:lnTo>
                <a:lnTo>
                  <a:pt x="1778" y="94"/>
                </a:lnTo>
                <a:lnTo>
                  <a:pt x="1889" y="79"/>
                </a:lnTo>
                <a:lnTo>
                  <a:pt x="2000" y="66"/>
                </a:lnTo>
                <a:lnTo>
                  <a:pt x="2111" y="53"/>
                </a:lnTo>
                <a:lnTo>
                  <a:pt x="2138" y="49"/>
                </a:lnTo>
                <a:lnTo>
                  <a:pt x="2165" y="46"/>
                </a:lnTo>
                <a:lnTo>
                  <a:pt x="2193" y="43"/>
                </a:lnTo>
                <a:lnTo>
                  <a:pt x="2219" y="40"/>
                </a:lnTo>
                <a:lnTo>
                  <a:pt x="2244" y="38"/>
                </a:lnTo>
                <a:lnTo>
                  <a:pt x="2270" y="35"/>
                </a:lnTo>
                <a:lnTo>
                  <a:pt x="2295" y="32"/>
                </a:lnTo>
                <a:lnTo>
                  <a:pt x="2319" y="29"/>
                </a:lnTo>
                <a:lnTo>
                  <a:pt x="2368" y="25"/>
                </a:lnTo>
                <a:lnTo>
                  <a:pt x="2416" y="20"/>
                </a:lnTo>
                <a:lnTo>
                  <a:pt x="2462" y="16"/>
                </a:lnTo>
                <a:lnTo>
                  <a:pt x="2506" y="12"/>
                </a:lnTo>
                <a:lnTo>
                  <a:pt x="2550" y="9"/>
                </a:lnTo>
                <a:lnTo>
                  <a:pt x="2591" y="7"/>
                </a:lnTo>
                <a:lnTo>
                  <a:pt x="2633" y="4"/>
                </a:lnTo>
                <a:lnTo>
                  <a:pt x="2673" y="3"/>
                </a:lnTo>
                <a:lnTo>
                  <a:pt x="2712" y="2"/>
                </a:lnTo>
                <a:lnTo>
                  <a:pt x="2750" y="0"/>
                </a:lnTo>
                <a:lnTo>
                  <a:pt x="2787" y="0"/>
                </a:lnTo>
                <a:lnTo>
                  <a:pt x="2825" y="0"/>
                </a:lnTo>
                <a:lnTo>
                  <a:pt x="2842" y="0"/>
                </a:lnTo>
                <a:lnTo>
                  <a:pt x="2859" y="0"/>
                </a:lnTo>
                <a:lnTo>
                  <a:pt x="2875" y="0"/>
                </a:lnTo>
                <a:lnTo>
                  <a:pt x="2892" y="0"/>
                </a:lnTo>
                <a:lnTo>
                  <a:pt x="2908" y="0"/>
                </a:lnTo>
                <a:lnTo>
                  <a:pt x="2922" y="2"/>
                </a:lnTo>
                <a:lnTo>
                  <a:pt x="2937" y="2"/>
                </a:lnTo>
                <a:lnTo>
                  <a:pt x="2951" y="3"/>
                </a:lnTo>
                <a:lnTo>
                  <a:pt x="2966" y="4"/>
                </a:lnTo>
                <a:lnTo>
                  <a:pt x="2979" y="4"/>
                </a:lnTo>
                <a:lnTo>
                  <a:pt x="2992" y="6"/>
                </a:lnTo>
                <a:lnTo>
                  <a:pt x="3005" y="7"/>
                </a:lnTo>
                <a:lnTo>
                  <a:pt x="3016" y="9"/>
                </a:lnTo>
                <a:lnTo>
                  <a:pt x="3029" y="12"/>
                </a:lnTo>
                <a:lnTo>
                  <a:pt x="3039" y="13"/>
                </a:lnTo>
                <a:lnTo>
                  <a:pt x="3051" y="14"/>
                </a:lnTo>
                <a:lnTo>
                  <a:pt x="3061" y="17"/>
                </a:lnTo>
                <a:lnTo>
                  <a:pt x="3071" y="19"/>
                </a:lnTo>
                <a:lnTo>
                  <a:pt x="3081" y="22"/>
                </a:lnTo>
                <a:lnTo>
                  <a:pt x="3089" y="25"/>
                </a:lnTo>
                <a:lnTo>
                  <a:pt x="3098" y="27"/>
                </a:lnTo>
                <a:lnTo>
                  <a:pt x="3107" y="30"/>
                </a:lnTo>
                <a:lnTo>
                  <a:pt x="3115" y="33"/>
                </a:lnTo>
                <a:lnTo>
                  <a:pt x="3123" y="36"/>
                </a:lnTo>
                <a:lnTo>
                  <a:pt x="3130" y="40"/>
                </a:lnTo>
                <a:lnTo>
                  <a:pt x="3137" y="45"/>
                </a:lnTo>
                <a:lnTo>
                  <a:pt x="3150" y="52"/>
                </a:lnTo>
                <a:lnTo>
                  <a:pt x="3161" y="61"/>
                </a:lnTo>
                <a:lnTo>
                  <a:pt x="3173" y="71"/>
                </a:lnTo>
                <a:lnTo>
                  <a:pt x="3182" y="81"/>
                </a:lnTo>
                <a:lnTo>
                  <a:pt x="3190" y="89"/>
                </a:lnTo>
                <a:lnTo>
                  <a:pt x="3197" y="98"/>
                </a:lnTo>
                <a:lnTo>
                  <a:pt x="3205" y="105"/>
                </a:lnTo>
                <a:lnTo>
                  <a:pt x="3212" y="112"/>
                </a:lnTo>
                <a:lnTo>
                  <a:pt x="3218" y="118"/>
                </a:lnTo>
                <a:lnTo>
                  <a:pt x="3222" y="124"/>
                </a:lnTo>
                <a:lnTo>
                  <a:pt x="3226" y="130"/>
                </a:lnTo>
                <a:lnTo>
                  <a:pt x="3231" y="134"/>
                </a:lnTo>
                <a:lnTo>
                  <a:pt x="3233" y="138"/>
                </a:lnTo>
                <a:lnTo>
                  <a:pt x="3236" y="143"/>
                </a:lnTo>
                <a:lnTo>
                  <a:pt x="3238" y="147"/>
                </a:lnTo>
                <a:lnTo>
                  <a:pt x="3239" y="150"/>
                </a:lnTo>
                <a:lnTo>
                  <a:pt x="3241" y="153"/>
                </a:lnTo>
                <a:lnTo>
                  <a:pt x="3241" y="157"/>
                </a:lnTo>
                <a:lnTo>
                  <a:pt x="3242" y="160"/>
                </a:lnTo>
                <a:lnTo>
                  <a:pt x="3241" y="167"/>
                </a:lnTo>
                <a:lnTo>
                  <a:pt x="3241" y="173"/>
                </a:lnTo>
                <a:lnTo>
                  <a:pt x="3241" y="180"/>
                </a:lnTo>
                <a:lnTo>
                  <a:pt x="3239" y="187"/>
                </a:lnTo>
                <a:lnTo>
                  <a:pt x="3238" y="193"/>
                </a:lnTo>
                <a:lnTo>
                  <a:pt x="3233" y="200"/>
                </a:lnTo>
                <a:lnTo>
                  <a:pt x="3229" y="207"/>
                </a:lnTo>
                <a:lnTo>
                  <a:pt x="3228" y="210"/>
                </a:lnTo>
                <a:lnTo>
                  <a:pt x="3225" y="215"/>
                </a:lnTo>
                <a:lnTo>
                  <a:pt x="3222" y="216"/>
                </a:lnTo>
                <a:lnTo>
                  <a:pt x="3219" y="217"/>
                </a:lnTo>
                <a:lnTo>
                  <a:pt x="3215" y="219"/>
                </a:lnTo>
                <a:lnTo>
                  <a:pt x="3209" y="220"/>
                </a:lnTo>
                <a:lnTo>
                  <a:pt x="3202" y="222"/>
                </a:lnTo>
                <a:lnTo>
                  <a:pt x="3195" y="222"/>
                </a:lnTo>
                <a:lnTo>
                  <a:pt x="3186" y="223"/>
                </a:lnTo>
                <a:lnTo>
                  <a:pt x="3176" y="225"/>
                </a:lnTo>
                <a:lnTo>
                  <a:pt x="3164" y="225"/>
                </a:lnTo>
                <a:lnTo>
                  <a:pt x="3153" y="226"/>
                </a:lnTo>
                <a:lnTo>
                  <a:pt x="3140" y="226"/>
                </a:lnTo>
                <a:lnTo>
                  <a:pt x="3125" y="228"/>
                </a:lnTo>
                <a:lnTo>
                  <a:pt x="3111" y="228"/>
                </a:lnTo>
                <a:lnTo>
                  <a:pt x="3094" y="229"/>
                </a:lnTo>
                <a:lnTo>
                  <a:pt x="3077" y="229"/>
                </a:lnTo>
                <a:lnTo>
                  <a:pt x="3059" y="229"/>
                </a:lnTo>
                <a:lnTo>
                  <a:pt x="3039" y="230"/>
                </a:lnTo>
                <a:lnTo>
                  <a:pt x="3019" y="230"/>
                </a:lnTo>
                <a:lnTo>
                  <a:pt x="2999" y="230"/>
                </a:lnTo>
                <a:lnTo>
                  <a:pt x="2976" y="230"/>
                </a:lnTo>
                <a:lnTo>
                  <a:pt x="2953" y="232"/>
                </a:lnTo>
                <a:lnTo>
                  <a:pt x="2928" y="232"/>
                </a:lnTo>
                <a:lnTo>
                  <a:pt x="2902" y="232"/>
                </a:lnTo>
                <a:lnTo>
                  <a:pt x="2876" y="232"/>
                </a:lnTo>
                <a:lnTo>
                  <a:pt x="2849" y="232"/>
                </a:lnTo>
                <a:lnTo>
                  <a:pt x="2822" y="232"/>
                </a:lnTo>
                <a:lnTo>
                  <a:pt x="2793" y="232"/>
                </a:lnTo>
                <a:lnTo>
                  <a:pt x="2763" y="232"/>
                </a:lnTo>
                <a:lnTo>
                  <a:pt x="2731" y="232"/>
                </a:lnTo>
                <a:lnTo>
                  <a:pt x="2699" y="232"/>
                </a:lnTo>
                <a:lnTo>
                  <a:pt x="2666" y="232"/>
                </a:lnTo>
                <a:lnTo>
                  <a:pt x="2633" y="232"/>
                </a:lnTo>
                <a:lnTo>
                  <a:pt x="2493" y="233"/>
                </a:lnTo>
                <a:lnTo>
                  <a:pt x="2352" y="235"/>
                </a:lnTo>
                <a:lnTo>
                  <a:pt x="2207" y="240"/>
                </a:lnTo>
                <a:lnTo>
                  <a:pt x="2060" y="248"/>
                </a:lnTo>
                <a:lnTo>
                  <a:pt x="1910" y="256"/>
                </a:lnTo>
                <a:lnTo>
                  <a:pt x="1759" y="269"/>
                </a:lnTo>
                <a:lnTo>
                  <a:pt x="1605" y="285"/>
                </a:lnTo>
                <a:lnTo>
                  <a:pt x="1450" y="304"/>
                </a:lnTo>
                <a:lnTo>
                  <a:pt x="1411" y="310"/>
                </a:lnTo>
                <a:lnTo>
                  <a:pt x="1372" y="314"/>
                </a:lnTo>
                <a:lnTo>
                  <a:pt x="1335" y="318"/>
                </a:lnTo>
                <a:lnTo>
                  <a:pt x="1299" y="324"/>
                </a:lnTo>
                <a:lnTo>
                  <a:pt x="1263" y="328"/>
                </a:lnTo>
                <a:lnTo>
                  <a:pt x="1227" y="333"/>
                </a:lnTo>
                <a:lnTo>
                  <a:pt x="1192" y="337"/>
                </a:lnTo>
                <a:lnTo>
                  <a:pt x="1159" y="341"/>
                </a:lnTo>
                <a:lnTo>
                  <a:pt x="1126" y="346"/>
                </a:lnTo>
                <a:lnTo>
                  <a:pt x="1094" y="350"/>
                </a:lnTo>
                <a:lnTo>
                  <a:pt x="1063" y="354"/>
                </a:lnTo>
                <a:lnTo>
                  <a:pt x="1031" y="359"/>
                </a:lnTo>
                <a:lnTo>
                  <a:pt x="1002" y="361"/>
                </a:lnTo>
                <a:lnTo>
                  <a:pt x="972" y="366"/>
                </a:lnTo>
                <a:lnTo>
                  <a:pt x="943" y="370"/>
                </a:lnTo>
                <a:lnTo>
                  <a:pt x="916" y="373"/>
                </a:lnTo>
                <a:lnTo>
                  <a:pt x="888" y="377"/>
                </a:lnTo>
                <a:lnTo>
                  <a:pt x="862" y="380"/>
                </a:lnTo>
                <a:lnTo>
                  <a:pt x="838" y="384"/>
                </a:lnTo>
                <a:lnTo>
                  <a:pt x="813" y="387"/>
                </a:lnTo>
                <a:lnTo>
                  <a:pt x="789" y="392"/>
                </a:lnTo>
                <a:lnTo>
                  <a:pt x="766" y="395"/>
                </a:lnTo>
                <a:lnTo>
                  <a:pt x="743" y="399"/>
                </a:lnTo>
                <a:lnTo>
                  <a:pt x="721" y="402"/>
                </a:lnTo>
                <a:lnTo>
                  <a:pt x="701" y="405"/>
                </a:lnTo>
                <a:lnTo>
                  <a:pt x="681" y="409"/>
                </a:lnTo>
                <a:lnTo>
                  <a:pt x="662" y="412"/>
                </a:lnTo>
                <a:lnTo>
                  <a:pt x="644" y="416"/>
                </a:lnTo>
                <a:lnTo>
                  <a:pt x="626" y="419"/>
                </a:lnTo>
                <a:lnTo>
                  <a:pt x="610" y="422"/>
                </a:lnTo>
                <a:lnTo>
                  <a:pt x="593" y="426"/>
                </a:lnTo>
                <a:lnTo>
                  <a:pt x="579" y="429"/>
                </a:lnTo>
                <a:lnTo>
                  <a:pt x="563" y="432"/>
                </a:lnTo>
                <a:lnTo>
                  <a:pt x="547" y="436"/>
                </a:lnTo>
                <a:lnTo>
                  <a:pt x="531" y="439"/>
                </a:lnTo>
                <a:lnTo>
                  <a:pt x="517" y="442"/>
                </a:lnTo>
                <a:lnTo>
                  <a:pt x="503" y="445"/>
                </a:lnTo>
                <a:lnTo>
                  <a:pt x="488" y="448"/>
                </a:lnTo>
                <a:lnTo>
                  <a:pt x="475" y="451"/>
                </a:lnTo>
                <a:lnTo>
                  <a:pt x="462" y="452"/>
                </a:lnTo>
                <a:lnTo>
                  <a:pt x="449" y="455"/>
                </a:lnTo>
                <a:lnTo>
                  <a:pt x="436" y="458"/>
                </a:lnTo>
                <a:lnTo>
                  <a:pt x="425" y="459"/>
                </a:lnTo>
                <a:lnTo>
                  <a:pt x="413" y="462"/>
                </a:lnTo>
                <a:lnTo>
                  <a:pt x="402" y="464"/>
                </a:lnTo>
                <a:lnTo>
                  <a:pt x="392" y="465"/>
                </a:lnTo>
                <a:lnTo>
                  <a:pt x="382" y="468"/>
                </a:lnTo>
                <a:lnTo>
                  <a:pt x="371" y="469"/>
                </a:lnTo>
                <a:lnTo>
                  <a:pt x="363" y="471"/>
                </a:lnTo>
                <a:lnTo>
                  <a:pt x="354" y="472"/>
                </a:lnTo>
                <a:lnTo>
                  <a:pt x="346" y="474"/>
                </a:lnTo>
                <a:lnTo>
                  <a:pt x="338" y="475"/>
                </a:lnTo>
                <a:lnTo>
                  <a:pt x="331" y="477"/>
                </a:lnTo>
                <a:lnTo>
                  <a:pt x="324" y="477"/>
                </a:lnTo>
                <a:lnTo>
                  <a:pt x="318" y="478"/>
                </a:lnTo>
                <a:lnTo>
                  <a:pt x="312" y="479"/>
                </a:lnTo>
                <a:lnTo>
                  <a:pt x="307" y="479"/>
                </a:lnTo>
                <a:lnTo>
                  <a:pt x="302" y="481"/>
                </a:lnTo>
                <a:lnTo>
                  <a:pt x="298" y="481"/>
                </a:lnTo>
                <a:lnTo>
                  <a:pt x="294" y="481"/>
                </a:lnTo>
                <a:lnTo>
                  <a:pt x="289" y="482"/>
                </a:lnTo>
                <a:lnTo>
                  <a:pt x="287" y="482"/>
                </a:lnTo>
                <a:lnTo>
                  <a:pt x="285" y="482"/>
                </a:lnTo>
                <a:lnTo>
                  <a:pt x="284" y="482"/>
                </a:lnTo>
                <a:lnTo>
                  <a:pt x="276" y="482"/>
                </a:lnTo>
                <a:lnTo>
                  <a:pt x="269" y="481"/>
                </a:lnTo>
                <a:lnTo>
                  <a:pt x="261" y="481"/>
                </a:lnTo>
                <a:lnTo>
                  <a:pt x="253" y="479"/>
                </a:lnTo>
                <a:lnTo>
                  <a:pt x="245" y="477"/>
                </a:lnTo>
                <a:lnTo>
                  <a:pt x="235" y="474"/>
                </a:lnTo>
                <a:lnTo>
                  <a:pt x="226" y="471"/>
                </a:lnTo>
                <a:lnTo>
                  <a:pt x="215" y="467"/>
                </a:lnTo>
                <a:lnTo>
                  <a:pt x="205" y="462"/>
                </a:lnTo>
                <a:lnTo>
                  <a:pt x="193" y="458"/>
                </a:lnTo>
                <a:lnTo>
                  <a:pt x="180" y="452"/>
                </a:lnTo>
                <a:lnTo>
                  <a:pt x="167" y="445"/>
                </a:lnTo>
                <a:lnTo>
                  <a:pt x="154" y="438"/>
                </a:lnTo>
                <a:lnTo>
                  <a:pt x="140" y="429"/>
                </a:lnTo>
                <a:lnTo>
                  <a:pt x="124" y="420"/>
                </a:lnTo>
                <a:lnTo>
                  <a:pt x="109" y="4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98"/>
          <p:cNvSpPr/>
          <p:nvPr/>
        </p:nvSpPr>
        <p:spPr>
          <a:xfrm>
            <a:off x="6273720" y="3394080"/>
            <a:ext cx="663480" cy="1174680"/>
          </a:xfrm>
          <a:custGeom>
            <a:avLst/>
            <a:gdLst/>
            <a:ahLst/>
            <a:rect l="l" t="t" r="r" b="b"/>
            <a:pathLst>
              <a:path w="1255" h="2220">
                <a:moveTo>
                  <a:pt x="1255" y="174"/>
                </a:moveTo>
                <a:lnTo>
                  <a:pt x="1255" y="183"/>
                </a:lnTo>
                <a:lnTo>
                  <a:pt x="1254" y="193"/>
                </a:lnTo>
                <a:lnTo>
                  <a:pt x="1254" y="210"/>
                </a:lnTo>
                <a:lnTo>
                  <a:pt x="1254" y="228"/>
                </a:lnTo>
                <a:lnTo>
                  <a:pt x="1252" y="245"/>
                </a:lnTo>
                <a:lnTo>
                  <a:pt x="1250" y="262"/>
                </a:lnTo>
                <a:lnTo>
                  <a:pt x="1247" y="279"/>
                </a:lnTo>
                <a:lnTo>
                  <a:pt x="1242" y="297"/>
                </a:lnTo>
                <a:lnTo>
                  <a:pt x="1240" y="307"/>
                </a:lnTo>
                <a:lnTo>
                  <a:pt x="1237" y="317"/>
                </a:lnTo>
                <a:lnTo>
                  <a:pt x="1234" y="327"/>
                </a:lnTo>
                <a:lnTo>
                  <a:pt x="1229" y="338"/>
                </a:lnTo>
                <a:lnTo>
                  <a:pt x="1225" y="351"/>
                </a:lnTo>
                <a:lnTo>
                  <a:pt x="1221" y="364"/>
                </a:lnTo>
                <a:lnTo>
                  <a:pt x="1216" y="379"/>
                </a:lnTo>
                <a:lnTo>
                  <a:pt x="1212" y="395"/>
                </a:lnTo>
                <a:lnTo>
                  <a:pt x="1206" y="410"/>
                </a:lnTo>
                <a:lnTo>
                  <a:pt x="1202" y="429"/>
                </a:lnTo>
                <a:lnTo>
                  <a:pt x="1198" y="448"/>
                </a:lnTo>
                <a:lnTo>
                  <a:pt x="1192" y="468"/>
                </a:lnTo>
                <a:lnTo>
                  <a:pt x="1188" y="490"/>
                </a:lnTo>
                <a:lnTo>
                  <a:pt x="1185" y="501"/>
                </a:lnTo>
                <a:lnTo>
                  <a:pt x="1183" y="513"/>
                </a:lnTo>
                <a:lnTo>
                  <a:pt x="1180" y="526"/>
                </a:lnTo>
                <a:lnTo>
                  <a:pt x="1179" y="538"/>
                </a:lnTo>
                <a:lnTo>
                  <a:pt x="1176" y="551"/>
                </a:lnTo>
                <a:lnTo>
                  <a:pt x="1175" y="564"/>
                </a:lnTo>
                <a:lnTo>
                  <a:pt x="1173" y="577"/>
                </a:lnTo>
                <a:lnTo>
                  <a:pt x="1170" y="592"/>
                </a:lnTo>
                <a:lnTo>
                  <a:pt x="1169" y="606"/>
                </a:lnTo>
                <a:lnTo>
                  <a:pt x="1168" y="622"/>
                </a:lnTo>
                <a:lnTo>
                  <a:pt x="1160" y="652"/>
                </a:lnTo>
                <a:lnTo>
                  <a:pt x="1153" y="684"/>
                </a:lnTo>
                <a:lnTo>
                  <a:pt x="1145" y="716"/>
                </a:lnTo>
                <a:lnTo>
                  <a:pt x="1134" y="749"/>
                </a:lnTo>
                <a:lnTo>
                  <a:pt x="1126" y="782"/>
                </a:lnTo>
                <a:lnTo>
                  <a:pt x="1114" y="815"/>
                </a:lnTo>
                <a:lnTo>
                  <a:pt x="1103" y="849"/>
                </a:lnTo>
                <a:lnTo>
                  <a:pt x="1091" y="885"/>
                </a:lnTo>
                <a:lnTo>
                  <a:pt x="1078" y="920"/>
                </a:lnTo>
                <a:lnTo>
                  <a:pt x="1065" y="956"/>
                </a:lnTo>
                <a:lnTo>
                  <a:pt x="1051" y="992"/>
                </a:lnTo>
                <a:lnTo>
                  <a:pt x="1038" y="1029"/>
                </a:lnTo>
                <a:lnTo>
                  <a:pt x="1022" y="1065"/>
                </a:lnTo>
                <a:lnTo>
                  <a:pt x="1008" y="1103"/>
                </a:lnTo>
                <a:lnTo>
                  <a:pt x="992" y="1139"/>
                </a:lnTo>
                <a:lnTo>
                  <a:pt x="976" y="1176"/>
                </a:lnTo>
                <a:lnTo>
                  <a:pt x="960" y="1217"/>
                </a:lnTo>
                <a:lnTo>
                  <a:pt x="943" y="1255"/>
                </a:lnTo>
                <a:lnTo>
                  <a:pt x="926" y="1293"/>
                </a:lnTo>
                <a:lnTo>
                  <a:pt x="908" y="1330"/>
                </a:lnTo>
                <a:lnTo>
                  <a:pt x="890" y="1366"/>
                </a:lnTo>
                <a:lnTo>
                  <a:pt x="871" y="1402"/>
                </a:lnTo>
                <a:lnTo>
                  <a:pt x="852" y="1435"/>
                </a:lnTo>
                <a:lnTo>
                  <a:pt x="832" y="1470"/>
                </a:lnTo>
                <a:lnTo>
                  <a:pt x="812" y="1502"/>
                </a:lnTo>
                <a:lnTo>
                  <a:pt x="792" y="1532"/>
                </a:lnTo>
                <a:lnTo>
                  <a:pt x="772" y="1562"/>
                </a:lnTo>
                <a:lnTo>
                  <a:pt x="750" y="1591"/>
                </a:lnTo>
                <a:lnTo>
                  <a:pt x="730" y="1620"/>
                </a:lnTo>
                <a:lnTo>
                  <a:pt x="707" y="1646"/>
                </a:lnTo>
                <a:lnTo>
                  <a:pt x="685" y="1671"/>
                </a:lnTo>
                <a:lnTo>
                  <a:pt x="664" y="1696"/>
                </a:lnTo>
                <a:lnTo>
                  <a:pt x="641" y="1719"/>
                </a:lnTo>
                <a:lnTo>
                  <a:pt x="616" y="1742"/>
                </a:lnTo>
                <a:lnTo>
                  <a:pt x="593" y="1766"/>
                </a:lnTo>
                <a:lnTo>
                  <a:pt x="569" y="1790"/>
                </a:lnTo>
                <a:lnTo>
                  <a:pt x="544" y="1813"/>
                </a:lnTo>
                <a:lnTo>
                  <a:pt x="518" y="1837"/>
                </a:lnTo>
                <a:lnTo>
                  <a:pt x="492" y="1860"/>
                </a:lnTo>
                <a:lnTo>
                  <a:pt x="466" y="1883"/>
                </a:lnTo>
                <a:lnTo>
                  <a:pt x="441" y="1908"/>
                </a:lnTo>
                <a:lnTo>
                  <a:pt x="413" y="1931"/>
                </a:lnTo>
                <a:lnTo>
                  <a:pt x="386" y="1954"/>
                </a:lnTo>
                <a:lnTo>
                  <a:pt x="358" y="1977"/>
                </a:lnTo>
                <a:lnTo>
                  <a:pt x="331" y="2001"/>
                </a:lnTo>
                <a:lnTo>
                  <a:pt x="302" y="2024"/>
                </a:lnTo>
                <a:lnTo>
                  <a:pt x="245" y="2072"/>
                </a:lnTo>
                <a:lnTo>
                  <a:pt x="230" y="2083"/>
                </a:lnTo>
                <a:lnTo>
                  <a:pt x="216" y="2095"/>
                </a:lnTo>
                <a:lnTo>
                  <a:pt x="203" y="2105"/>
                </a:lnTo>
                <a:lnTo>
                  <a:pt x="190" y="2115"/>
                </a:lnTo>
                <a:lnTo>
                  <a:pt x="179" y="2125"/>
                </a:lnTo>
                <a:lnTo>
                  <a:pt x="166" y="2134"/>
                </a:lnTo>
                <a:lnTo>
                  <a:pt x="154" y="2142"/>
                </a:lnTo>
                <a:lnTo>
                  <a:pt x="144" y="2149"/>
                </a:lnTo>
                <a:lnTo>
                  <a:pt x="132" y="2158"/>
                </a:lnTo>
                <a:lnTo>
                  <a:pt x="122" y="2165"/>
                </a:lnTo>
                <a:lnTo>
                  <a:pt x="114" y="2171"/>
                </a:lnTo>
                <a:lnTo>
                  <a:pt x="104" y="2177"/>
                </a:lnTo>
                <a:lnTo>
                  <a:pt x="95" y="2183"/>
                </a:lnTo>
                <a:lnTo>
                  <a:pt x="86" y="2188"/>
                </a:lnTo>
                <a:lnTo>
                  <a:pt x="79" y="2193"/>
                </a:lnTo>
                <a:lnTo>
                  <a:pt x="72" y="2197"/>
                </a:lnTo>
                <a:lnTo>
                  <a:pt x="65" y="2201"/>
                </a:lnTo>
                <a:lnTo>
                  <a:pt x="58" y="2206"/>
                </a:lnTo>
                <a:lnTo>
                  <a:pt x="50" y="2208"/>
                </a:lnTo>
                <a:lnTo>
                  <a:pt x="45" y="2211"/>
                </a:lnTo>
                <a:lnTo>
                  <a:pt x="39" y="2213"/>
                </a:lnTo>
                <a:lnTo>
                  <a:pt x="35" y="2216"/>
                </a:lnTo>
                <a:lnTo>
                  <a:pt x="29" y="2217"/>
                </a:lnTo>
                <a:lnTo>
                  <a:pt x="24" y="2219"/>
                </a:lnTo>
                <a:lnTo>
                  <a:pt x="20" y="2219"/>
                </a:lnTo>
                <a:lnTo>
                  <a:pt x="17" y="2220"/>
                </a:lnTo>
                <a:lnTo>
                  <a:pt x="10" y="2219"/>
                </a:lnTo>
                <a:lnTo>
                  <a:pt x="6" y="2217"/>
                </a:lnTo>
                <a:lnTo>
                  <a:pt x="1" y="2216"/>
                </a:lnTo>
                <a:lnTo>
                  <a:pt x="0" y="2213"/>
                </a:lnTo>
                <a:lnTo>
                  <a:pt x="0" y="2210"/>
                </a:lnTo>
                <a:lnTo>
                  <a:pt x="0" y="2207"/>
                </a:lnTo>
                <a:lnTo>
                  <a:pt x="0" y="2203"/>
                </a:lnTo>
                <a:lnTo>
                  <a:pt x="3" y="2198"/>
                </a:lnTo>
                <a:lnTo>
                  <a:pt x="4" y="2194"/>
                </a:lnTo>
                <a:lnTo>
                  <a:pt x="7" y="2188"/>
                </a:lnTo>
                <a:lnTo>
                  <a:pt x="12" y="2183"/>
                </a:lnTo>
                <a:lnTo>
                  <a:pt x="16" y="2175"/>
                </a:lnTo>
                <a:lnTo>
                  <a:pt x="20" y="2168"/>
                </a:lnTo>
                <a:lnTo>
                  <a:pt x="26" y="2159"/>
                </a:lnTo>
                <a:lnTo>
                  <a:pt x="32" y="2152"/>
                </a:lnTo>
                <a:lnTo>
                  <a:pt x="39" y="2142"/>
                </a:lnTo>
                <a:lnTo>
                  <a:pt x="46" y="2134"/>
                </a:lnTo>
                <a:lnTo>
                  <a:pt x="55" y="2124"/>
                </a:lnTo>
                <a:lnTo>
                  <a:pt x="63" y="2112"/>
                </a:lnTo>
                <a:lnTo>
                  <a:pt x="72" y="2102"/>
                </a:lnTo>
                <a:lnTo>
                  <a:pt x="82" y="2089"/>
                </a:lnTo>
                <a:lnTo>
                  <a:pt x="92" y="2077"/>
                </a:lnTo>
                <a:lnTo>
                  <a:pt x="104" y="2064"/>
                </a:lnTo>
                <a:lnTo>
                  <a:pt x="115" y="2052"/>
                </a:lnTo>
                <a:lnTo>
                  <a:pt x="128" y="2039"/>
                </a:lnTo>
                <a:lnTo>
                  <a:pt x="141" y="2024"/>
                </a:lnTo>
                <a:lnTo>
                  <a:pt x="154" y="2008"/>
                </a:lnTo>
                <a:lnTo>
                  <a:pt x="168" y="1994"/>
                </a:lnTo>
                <a:lnTo>
                  <a:pt x="183" y="1978"/>
                </a:lnTo>
                <a:lnTo>
                  <a:pt x="197" y="1962"/>
                </a:lnTo>
                <a:lnTo>
                  <a:pt x="213" y="1945"/>
                </a:lnTo>
                <a:lnTo>
                  <a:pt x="229" y="1928"/>
                </a:lnTo>
                <a:lnTo>
                  <a:pt x="245" y="1910"/>
                </a:lnTo>
                <a:lnTo>
                  <a:pt x="262" y="1893"/>
                </a:lnTo>
                <a:lnTo>
                  <a:pt x="281" y="1874"/>
                </a:lnTo>
                <a:lnTo>
                  <a:pt x="315" y="1837"/>
                </a:lnTo>
                <a:lnTo>
                  <a:pt x="348" y="1800"/>
                </a:lnTo>
                <a:lnTo>
                  <a:pt x="382" y="1761"/>
                </a:lnTo>
                <a:lnTo>
                  <a:pt x="413" y="1722"/>
                </a:lnTo>
                <a:lnTo>
                  <a:pt x="445" y="1683"/>
                </a:lnTo>
                <a:lnTo>
                  <a:pt x="475" y="1644"/>
                </a:lnTo>
                <a:lnTo>
                  <a:pt x="504" y="1604"/>
                </a:lnTo>
                <a:lnTo>
                  <a:pt x="533" y="1563"/>
                </a:lnTo>
                <a:lnTo>
                  <a:pt x="560" y="1522"/>
                </a:lnTo>
                <a:lnTo>
                  <a:pt x="586" y="1480"/>
                </a:lnTo>
                <a:lnTo>
                  <a:pt x="612" y="1437"/>
                </a:lnTo>
                <a:lnTo>
                  <a:pt x="638" y="1394"/>
                </a:lnTo>
                <a:lnTo>
                  <a:pt x="662" y="1349"/>
                </a:lnTo>
                <a:lnTo>
                  <a:pt x="687" y="1304"/>
                </a:lnTo>
                <a:lnTo>
                  <a:pt x="710" y="1258"/>
                </a:lnTo>
                <a:lnTo>
                  <a:pt x="733" y="1212"/>
                </a:lnTo>
                <a:lnTo>
                  <a:pt x="751" y="1169"/>
                </a:lnTo>
                <a:lnTo>
                  <a:pt x="769" y="1124"/>
                </a:lnTo>
                <a:lnTo>
                  <a:pt x="786" y="1081"/>
                </a:lnTo>
                <a:lnTo>
                  <a:pt x="803" y="1037"/>
                </a:lnTo>
                <a:lnTo>
                  <a:pt x="819" y="993"/>
                </a:lnTo>
                <a:lnTo>
                  <a:pt x="835" y="950"/>
                </a:lnTo>
                <a:lnTo>
                  <a:pt x="849" y="906"/>
                </a:lnTo>
                <a:lnTo>
                  <a:pt x="862" y="862"/>
                </a:lnTo>
                <a:lnTo>
                  <a:pt x="875" y="819"/>
                </a:lnTo>
                <a:lnTo>
                  <a:pt x="887" y="775"/>
                </a:lnTo>
                <a:lnTo>
                  <a:pt x="898" y="731"/>
                </a:lnTo>
                <a:lnTo>
                  <a:pt x="908" y="688"/>
                </a:lnTo>
                <a:lnTo>
                  <a:pt x="918" y="645"/>
                </a:lnTo>
                <a:lnTo>
                  <a:pt x="926" y="600"/>
                </a:lnTo>
                <a:lnTo>
                  <a:pt x="934" y="557"/>
                </a:lnTo>
                <a:lnTo>
                  <a:pt x="942" y="514"/>
                </a:lnTo>
                <a:lnTo>
                  <a:pt x="944" y="492"/>
                </a:lnTo>
                <a:lnTo>
                  <a:pt x="947" y="471"/>
                </a:lnTo>
                <a:lnTo>
                  <a:pt x="950" y="451"/>
                </a:lnTo>
                <a:lnTo>
                  <a:pt x="952" y="431"/>
                </a:lnTo>
                <a:lnTo>
                  <a:pt x="954" y="412"/>
                </a:lnTo>
                <a:lnTo>
                  <a:pt x="957" y="393"/>
                </a:lnTo>
                <a:lnTo>
                  <a:pt x="959" y="376"/>
                </a:lnTo>
                <a:lnTo>
                  <a:pt x="960" y="359"/>
                </a:lnTo>
                <a:lnTo>
                  <a:pt x="962" y="343"/>
                </a:lnTo>
                <a:lnTo>
                  <a:pt x="963" y="327"/>
                </a:lnTo>
                <a:lnTo>
                  <a:pt x="965" y="311"/>
                </a:lnTo>
                <a:lnTo>
                  <a:pt x="966" y="297"/>
                </a:lnTo>
                <a:lnTo>
                  <a:pt x="967" y="282"/>
                </a:lnTo>
                <a:lnTo>
                  <a:pt x="967" y="268"/>
                </a:lnTo>
                <a:lnTo>
                  <a:pt x="969" y="255"/>
                </a:lnTo>
                <a:lnTo>
                  <a:pt x="969" y="243"/>
                </a:lnTo>
                <a:lnTo>
                  <a:pt x="969" y="230"/>
                </a:lnTo>
                <a:lnTo>
                  <a:pt x="969" y="219"/>
                </a:lnTo>
                <a:lnTo>
                  <a:pt x="970" y="209"/>
                </a:lnTo>
                <a:lnTo>
                  <a:pt x="969" y="199"/>
                </a:lnTo>
                <a:lnTo>
                  <a:pt x="969" y="189"/>
                </a:lnTo>
                <a:lnTo>
                  <a:pt x="969" y="180"/>
                </a:lnTo>
                <a:lnTo>
                  <a:pt x="969" y="171"/>
                </a:lnTo>
                <a:lnTo>
                  <a:pt x="967" y="164"/>
                </a:lnTo>
                <a:lnTo>
                  <a:pt x="967" y="156"/>
                </a:lnTo>
                <a:lnTo>
                  <a:pt x="966" y="150"/>
                </a:lnTo>
                <a:lnTo>
                  <a:pt x="966" y="143"/>
                </a:lnTo>
                <a:lnTo>
                  <a:pt x="965" y="137"/>
                </a:lnTo>
                <a:lnTo>
                  <a:pt x="963" y="133"/>
                </a:lnTo>
                <a:lnTo>
                  <a:pt x="962" y="127"/>
                </a:lnTo>
                <a:lnTo>
                  <a:pt x="960" y="124"/>
                </a:lnTo>
                <a:lnTo>
                  <a:pt x="959" y="120"/>
                </a:lnTo>
                <a:lnTo>
                  <a:pt x="953" y="112"/>
                </a:lnTo>
                <a:lnTo>
                  <a:pt x="947" y="107"/>
                </a:lnTo>
                <a:lnTo>
                  <a:pt x="943" y="99"/>
                </a:lnTo>
                <a:lnTo>
                  <a:pt x="939" y="92"/>
                </a:lnTo>
                <a:lnTo>
                  <a:pt x="936" y="86"/>
                </a:lnTo>
                <a:lnTo>
                  <a:pt x="933" y="79"/>
                </a:lnTo>
                <a:lnTo>
                  <a:pt x="931" y="72"/>
                </a:lnTo>
                <a:lnTo>
                  <a:pt x="930" y="66"/>
                </a:lnTo>
                <a:lnTo>
                  <a:pt x="930" y="59"/>
                </a:lnTo>
                <a:lnTo>
                  <a:pt x="930" y="52"/>
                </a:lnTo>
                <a:lnTo>
                  <a:pt x="930" y="46"/>
                </a:lnTo>
                <a:lnTo>
                  <a:pt x="931" y="39"/>
                </a:lnTo>
                <a:lnTo>
                  <a:pt x="933" y="33"/>
                </a:lnTo>
                <a:lnTo>
                  <a:pt x="936" y="26"/>
                </a:lnTo>
                <a:lnTo>
                  <a:pt x="939" y="19"/>
                </a:lnTo>
                <a:lnTo>
                  <a:pt x="942" y="13"/>
                </a:lnTo>
                <a:lnTo>
                  <a:pt x="944" y="9"/>
                </a:lnTo>
                <a:lnTo>
                  <a:pt x="949" y="6"/>
                </a:lnTo>
                <a:lnTo>
                  <a:pt x="954" y="4"/>
                </a:lnTo>
                <a:lnTo>
                  <a:pt x="960" y="3"/>
                </a:lnTo>
                <a:lnTo>
                  <a:pt x="967" y="2"/>
                </a:lnTo>
                <a:lnTo>
                  <a:pt x="976" y="0"/>
                </a:lnTo>
                <a:lnTo>
                  <a:pt x="985" y="0"/>
                </a:lnTo>
                <a:lnTo>
                  <a:pt x="995" y="2"/>
                </a:lnTo>
                <a:lnTo>
                  <a:pt x="1006" y="2"/>
                </a:lnTo>
                <a:lnTo>
                  <a:pt x="1019" y="4"/>
                </a:lnTo>
                <a:lnTo>
                  <a:pt x="1032" y="6"/>
                </a:lnTo>
                <a:lnTo>
                  <a:pt x="1047" y="10"/>
                </a:lnTo>
                <a:lnTo>
                  <a:pt x="1061" y="13"/>
                </a:lnTo>
                <a:lnTo>
                  <a:pt x="1078" y="19"/>
                </a:lnTo>
                <a:lnTo>
                  <a:pt x="1096" y="25"/>
                </a:lnTo>
                <a:lnTo>
                  <a:pt x="1116" y="30"/>
                </a:lnTo>
                <a:lnTo>
                  <a:pt x="1130" y="40"/>
                </a:lnTo>
                <a:lnTo>
                  <a:pt x="1146" y="50"/>
                </a:lnTo>
                <a:lnTo>
                  <a:pt x="1160" y="59"/>
                </a:lnTo>
                <a:lnTo>
                  <a:pt x="1173" y="68"/>
                </a:lnTo>
                <a:lnTo>
                  <a:pt x="1186" y="76"/>
                </a:lnTo>
                <a:lnTo>
                  <a:pt x="1198" y="85"/>
                </a:lnTo>
                <a:lnTo>
                  <a:pt x="1208" y="94"/>
                </a:lnTo>
                <a:lnTo>
                  <a:pt x="1218" y="102"/>
                </a:lnTo>
                <a:lnTo>
                  <a:pt x="1225" y="111"/>
                </a:lnTo>
                <a:lnTo>
                  <a:pt x="1234" y="118"/>
                </a:lnTo>
                <a:lnTo>
                  <a:pt x="1240" y="127"/>
                </a:lnTo>
                <a:lnTo>
                  <a:pt x="1245" y="135"/>
                </a:lnTo>
                <a:lnTo>
                  <a:pt x="1250" y="145"/>
                </a:lnTo>
                <a:lnTo>
                  <a:pt x="1252" y="154"/>
                </a:lnTo>
                <a:lnTo>
                  <a:pt x="1254" y="164"/>
                </a:lnTo>
                <a:lnTo>
                  <a:pt x="1255" y="17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99"/>
          <p:cNvSpPr/>
          <p:nvPr/>
        </p:nvSpPr>
        <p:spPr>
          <a:xfrm>
            <a:off x="6961320" y="3368520"/>
            <a:ext cx="318960" cy="265320"/>
          </a:xfrm>
          <a:custGeom>
            <a:avLst/>
            <a:gdLst/>
            <a:ahLst/>
            <a:rect l="l" t="t" r="r" b="b"/>
            <a:pathLst>
              <a:path w="602" h="503">
                <a:moveTo>
                  <a:pt x="268" y="223"/>
                </a:moveTo>
                <a:lnTo>
                  <a:pt x="278" y="212"/>
                </a:lnTo>
                <a:lnTo>
                  <a:pt x="286" y="202"/>
                </a:lnTo>
                <a:lnTo>
                  <a:pt x="295" y="192"/>
                </a:lnTo>
                <a:lnTo>
                  <a:pt x="302" y="182"/>
                </a:lnTo>
                <a:lnTo>
                  <a:pt x="311" y="173"/>
                </a:lnTo>
                <a:lnTo>
                  <a:pt x="317" y="163"/>
                </a:lnTo>
                <a:lnTo>
                  <a:pt x="322" y="153"/>
                </a:lnTo>
                <a:lnTo>
                  <a:pt x="328" y="144"/>
                </a:lnTo>
                <a:lnTo>
                  <a:pt x="333" y="134"/>
                </a:lnTo>
                <a:lnTo>
                  <a:pt x="337" y="125"/>
                </a:lnTo>
                <a:lnTo>
                  <a:pt x="340" y="117"/>
                </a:lnTo>
                <a:lnTo>
                  <a:pt x="341" y="110"/>
                </a:lnTo>
                <a:lnTo>
                  <a:pt x="341" y="101"/>
                </a:lnTo>
                <a:lnTo>
                  <a:pt x="341" y="94"/>
                </a:lnTo>
                <a:lnTo>
                  <a:pt x="340" y="87"/>
                </a:lnTo>
                <a:lnTo>
                  <a:pt x="338" y="79"/>
                </a:lnTo>
                <a:lnTo>
                  <a:pt x="334" y="72"/>
                </a:lnTo>
                <a:lnTo>
                  <a:pt x="333" y="66"/>
                </a:lnTo>
                <a:lnTo>
                  <a:pt x="330" y="61"/>
                </a:lnTo>
                <a:lnTo>
                  <a:pt x="328" y="55"/>
                </a:lnTo>
                <a:lnTo>
                  <a:pt x="327" y="51"/>
                </a:lnTo>
                <a:lnTo>
                  <a:pt x="325" y="46"/>
                </a:lnTo>
                <a:lnTo>
                  <a:pt x="325" y="40"/>
                </a:lnTo>
                <a:lnTo>
                  <a:pt x="325" y="36"/>
                </a:lnTo>
                <a:lnTo>
                  <a:pt x="325" y="32"/>
                </a:lnTo>
                <a:lnTo>
                  <a:pt x="325" y="29"/>
                </a:lnTo>
                <a:lnTo>
                  <a:pt x="327" y="25"/>
                </a:lnTo>
                <a:lnTo>
                  <a:pt x="328" y="22"/>
                </a:lnTo>
                <a:lnTo>
                  <a:pt x="330" y="17"/>
                </a:lnTo>
                <a:lnTo>
                  <a:pt x="333" y="15"/>
                </a:lnTo>
                <a:lnTo>
                  <a:pt x="334" y="10"/>
                </a:lnTo>
                <a:lnTo>
                  <a:pt x="338" y="7"/>
                </a:lnTo>
                <a:lnTo>
                  <a:pt x="341" y="4"/>
                </a:lnTo>
                <a:lnTo>
                  <a:pt x="345" y="2"/>
                </a:lnTo>
                <a:lnTo>
                  <a:pt x="351" y="2"/>
                </a:lnTo>
                <a:lnTo>
                  <a:pt x="357" y="0"/>
                </a:lnTo>
                <a:lnTo>
                  <a:pt x="364" y="2"/>
                </a:lnTo>
                <a:lnTo>
                  <a:pt x="371" y="2"/>
                </a:lnTo>
                <a:lnTo>
                  <a:pt x="379" y="4"/>
                </a:lnTo>
                <a:lnTo>
                  <a:pt x="387" y="7"/>
                </a:lnTo>
                <a:lnTo>
                  <a:pt x="397" y="10"/>
                </a:lnTo>
                <a:lnTo>
                  <a:pt x="407" y="16"/>
                </a:lnTo>
                <a:lnTo>
                  <a:pt x="417" y="20"/>
                </a:lnTo>
                <a:lnTo>
                  <a:pt x="428" y="27"/>
                </a:lnTo>
                <a:lnTo>
                  <a:pt x="439" y="35"/>
                </a:lnTo>
                <a:lnTo>
                  <a:pt x="452" y="42"/>
                </a:lnTo>
                <a:lnTo>
                  <a:pt x="464" y="52"/>
                </a:lnTo>
                <a:lnTo>
                  <a:pt x="476" y="62"/>
                </a:lnTo>
                <a:lnTo>
                  <a:pt x="489" y="72"/>
                </a:lnTo>
                <a:lnTo>
                  <a:pt x="501" y="82"/>
                </a:lnTo>
                <a:lnTo>
                  <a:pt x="512" y="91"/>
                </a:lnTo>
                <a:lnTo>
                  <a:pt x="523" y="101"/>
                </a:lnTo>
                <a:lnTo>
                  <a:pt x="533" y="111"/>
                </a:lnTo>
                <a:lnTo>
                  <a:pt x="541" y="121"/>
                </a:lnTo>
                <a:lnTo>
                  <a:pt x="550" y="130"/>
                </a:lnTo>
                <a:lnTo>
                  <a:pt x="557" y="140"/>
                </a:lnTo>
                <a:lnTo>
                  <a:pt x="564" y="148"/>
                </a:lnTo>
                <a:lnTo>
                  <a:pt x="570" y="157"/>
                </a:lnTo>
                <a:lnTo>
                  <a:pt x="576" y="166"/>
                </a:lnTo>
                <a:lnTo>
                  <a:pt x="582" y="174"/>
                </a:lnTo>
                <a:lnTo>
                  <a:pt x="587" y="183"/>
                </a:lnTo>
                <a:lnTo>
                  <a:pt x="592" y="190"/>
                </a:lnTo>
                <a:lnTo>
                  <a:pt x="595" y="197"/>
                </a:lnTo>
                <a:lnTo>
                  <a:pt x="599" y="205"/>
                </a:lnTo>
                <a:lnTo>
                  <a:pt x="600" y="207"/>
                </a:lnTo>
                <a:lnTo>
                  <a:pt x="600" y="212"/>
                </a:lnTo>
                <a:lnTo>
                  <a:pt x="602" y="215"/>
                </a:lnTo>
                <a:lnTo>
                  <a:pt x="602" y="219"/>
                </a:lnTo>
                <a:lnTo>
                  <a:pt x="602" y="223"/>
                </a:lnTo>
                <a:lnTo>
                  <a:pt x="600" y="226"/>
                </a:lnTo>
                <a:lnTo>
                  <a:pt x="600" y="230"/>
                </a:lnTo>
                <a:lnTo>
                  <a:pt x="599" y="235"/>
                </a:lnTo>
                <a:lnTo>
                  <a:pt x="596" y="239"/>
                </a:lnTo>
                <a:lnTo>
                  <a:pt x="595" y="243"/>
                </a:lnTo>
                <a:lnTo>
                  <a:pt x="592" y="246"/>
                </a:lnTo>
                <a:lnTo>
                  <a:pt x="589" y="251"/>
                </a:lnTo>
                <a:lnTo>
                  <a:pt x="586" y="256"/>
                </a:lnTo>
                <a:lnTo>
                  <a:pt x="583" y="261"/>
                </a:lnTo>
                <a:lnTo>
                  <a:pt x="579" y="265"/>
                </a:lnTo>
                <a:lnTo>
                  <a:pt x="574" y="269"/>
                </a:lnTo>
                <a:lnTo>
                  <a:pt x="564" y="278"/>
                </a:lnTo>
                <a:lnTo>
                  <a:pt x="553" y="288"/>
                </a:lnTo>
                <a:lnTo>
                  <a:pt x="541" y="298"/>
                </a:lnTo>
                <a:lnTo>
                  <a:pt x="527" y="307"/>
                </a:lnTo>
                <a:lnTo>
                  <a:pt x="512" y="317"/>
                </a:lnTo>
                <a:lnTo>
                  <a:pt x="495" y="327"/>
                </a:lnTo>
                <a:lnTo>
                  <a:pt x="478" y="337"/>
                </a:lnTo>
                <a:lnTo>
                  <a:pt x="459" y="349"/>
                </a:lnTo>
                <a:lnTo>
                  <a:pt x="436" y="359"/>
                </a:lnTo>
                <a:lnTo>
                  <a:pt x="415" y="369"/>
                </a:lnTo>
                <a:lnTo>
                  <a:pt x="394" y="379"/>
                </a:lnTo>
                <a:lnTo>
                  <a:pt x="374" y="387"/>
                </a:lnTo>
                <a:lnTo>
                  <a:pt x="354" y="397"/>
                </a:lnTo>
                <a:lnTo>
                  <a:pt x="335" y="406"/>
                </a:lnTo>
                <a:lnTo>
                  <a:pt x="317" y="416"/>
                </a:lnTo>
                <a:lnTo>
                  <a:pt x="298" y="425"/>
                </a:lnTo>
                <a:lnTo>
                  <a:pt x="281" y="432"/>
                </a:lnTo>
                <a:lnTo>
                  <a:pt x="263" y="441"/>
                </a:lnTo>
                <a:lnTo>
                  <a:pt x="246" y="446"/>
                </a:lnTo>
                <a:lnTo>
                  <a:pt x="229" y="454"/>
                </a:lnTo>
                <a:lnTo>
                  <a:pt x="213" y="459"/>
                </a:lnTo>
                <a:lnTo>
                  <a:pt x="196" y="465"/>
                </a:lnTo>
                <a:lnTo>
                  <a:pt x="180" y="469"/>
                </a:lnTo>
                <a:lnTo>
                  <a:pt x="164" y="474"/>
                </a:lnTo>
                <a:lnTo>
                  <a:pt x="147" y="480"/>
                </a:lnTo>
                <a:lnTo>
                  <a:pt x="132" y="485"/>
                </a:lnTo>
                <a:lnTo>
                  <a:pt x="118" y="490"/>
                </a:lnTo>
                <a:lnTo>
                  <a:pt x="105" y="494"/>
                </a:lnTo>
                <a:lnTo>
                  <a:pt x="92" y="497"/>
                </a:lnTo>
                <a:lnTo>
                  <a:pt x="81" y="500"/>
                </a:lnTo>
                <a:lnTo>
                  <a:pt x="69" y="501"/>
                </a:lnTo>
                <a:lnTo>
                  <a:pt x="59" y="503"/>
                </a:lnTo>
                <a:lnTo>
                  <a:pt x="49" y="503"/>
                </a:lnTo>
                <a:lnTo>
                  <a:pt x="40" y="503"/>
                </a:lnTo>
                <a:lnTo>
                  <a:pt x="33" y="503"/>
                </a:lnTo>
                <a:lnTo>
                  <a:pt x="26" y="501"/>
                </a:lnTo>
                <a:lnTo>
                  <a:pt x="20" y="500"/>
                </a:lnTo>
                <a:lnTo>
                  <a:pt x="14" y="497"/>
                </a:lnTo>
                <a:lnTo>
                  <a:pt x="10" y="494"/>
                </a:lnTo>
                <a:lnTo>
                  <a:pt x="7" y="491"/>
                </a:lnTo>
                <a:lnTo>
                  <a:pt x="4" y="488"/>
                </a:lnTo>
                <a:lnTo>
                  <a:pt x="1" y="484"/>
                </a:lnTo>
                <a:lnTo>
                  <a:pt x="1" y="480"/>
                </a:lnTo>
                <a:lnTo>
                  <a:pt x="0" y="474"/>
                </a:lnTo>
                <a:lnTo>
                  <a:pt x="1" y="469"/>
                </a:lnTo>
                <a:lnTo>
                  <a:pt x="4" y="464"/>
                </a:lnTo>
                <a:lnTo>
                  <a:pt x="7" y="458"/>
                </a:lnTo>
                <a:lnTo>
                  <a:pt x="11" y="451"/>
                </a:lnTo>
                <a:lnTo>
                  <a:pt x="17" y="444"/>
                </a:lnTo>
                <a:lnTo>
                  <a:pt x="23" y="436"/>
                </a:lnTo>
                <a:lnTo>
                  <a:pt x="32" y="429"/>
                </a:lnTo>
                <a:lnTo>
                  <a:pt x="42" y="421"/>
                </a:lnTo>
                <a:lnTo>
                  <a:pt x="46" y="416"/>
                </a:lnTo>
                <a:lnTo>
                  <a:pt x="52" y="412"/>
                </a:lnTo>
                <a:lnTo>
                  <a:pt x="58" y="408"/>
                </a:lnTo>
                <a:lnTo>
                  <a:pt x="65" y="403"/>
                </a:lnTo>
                <a:lnTo>
                  <a:pt x="71" y="397"/>
                </a:lnTo>
                <a:lnTo>
                  <a:pt x="78" y="393"/>
                </a:lnTo>
                <a:lnTo>
                  <a:pt x="86" y="389"/>
                </a:lnTo>
                <a:lnTo>
                  <a:pt x="94" y="383"/>
                </a:lnTo>
                <a:lnTo>
                  <a:pt x="107" y="373"/>
                </a:lnTo>
                <a:lnTo>
                  <a:pt x="119" y="363"/>
                </a:lnTo>
                <a:lnTo>
                  <a:pt x="143" y="343"/>
                </a:lnTo>
                <a:lnTo>
                  <a:pt x="166" y="323"/>
                </a:lnTo>
                <a:lnTo>
                  <a:pt x="187" y="302"/>
                </a:lnTo>
                <a:lnTo>
                  <a:pt x="209" y="282"/>
                </a:lnTo>
                <a:lnTo>
                  <a:pt x="229" y="262"/>
                </a:lnTo>
                <a:lnTo>
                  <a:pt x="248" y="243"/>
                </a:lnTo>
                <a:lnTo>
                  <a:pt x="268" y="2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00"/>
          <p:cNvSpPr/>
          <p:nvPr/>
        </p:nvSpPr>
        <p:spPr>
          <a:xfrm>
            <a:off x="6504120" y="3681360"/>
            <a:ext cx="676080" cy="193680"/>
          </a:xfrm>
          <a:custGeom>
            <a:avLst/>
            <a:gdLst/>
            <a:ahLst/>
            <a:rect l="l" t="t" r="r" b="b"/>
            <a:pathLst>
              <a:path w="1278" h="364">
                <a:moveTo>
                  <a:pt x="541" y="113"/>
                </a:moveTo>
                <a:lnTo>
                  <a:pt x="579" y="104"/>
                </a:lnTo>
                <a:lnTo>
                  <a:pt x="614" y="97"/>
                </a:lnTo>
                <a:lnTo>
                  <a:pt x="649" y="88"/>
                </a:lnTo>
                <a:lnTo>
                  <a:pt x="682" y="81"/>
                </a:lnTo>
                <a:lnTo>
                  <a:pt x="715" y="74"/>
                </a:lnTo>
                <a:lnTo>
                  <a:pt x="747" y="68"/>
                </a:lnTo>
                <a:lnTo>
                  <a:pt x="779" y="61"/>
                </a:lnTo>
                <a:lnTo>
                  <a:pt x="809" y="55"/>
                </a:lnTo>
                <a:lnTo>
                  <a:pt x="838" y="49"/>
                </a:lnTo>
                <a:lnTo>
                  <a:pt x="865" y="43"/>
                </a:lnTo>
                <a:lnTo>
                  <a:pt x="892" y="39"/>
                </a:lnTo>
                <a:lnTo>
                  <a:pt x="918" y="33"/>
                </a:lnTo>
                <a:lnTo>
                  <a:pt x="943" y="29"/>
                </a:lnTo>
                <a:lnTo>
                  <a:pt x="966" y="26"/>
                </a:lnTo>
                <a:lnTo>
                  <a:pt x="989" y="22"/>
                </a:lnTo>
                <a:lnTo>
                  <a:pt x="1010" y="18"/>
                </a:lnTo>
                <a:lnTo>
                  <a:pt x="1032" y="15"/>
                </a:lnTo>
                <a:lnTo>
                  <a:pt x="1051" y="12"/>
                </a:lnTo>
                <a:lnTo>
                  <a:pt x="1069" y="10"/>
                </a:lnTo>
                <a:lnTo>
                  <a:pt x="1087" y="7"/>
                </a:lnTo>
                <a:lnTo>
                  <a:pt x="1104" y="6"/>
                </a:lnTo>
                <a:lnTo>
                  <a:pt x="1120" y="5"/>
                </a:lnTo>
                <a:lnTo>
                  <a:pt x="1134" y="3"/>
                </a:lnTo>
                <a:lnTo>
                  <a:pt x="1147" y="2"/>
                </a:lnTo>
                <a:lnTo>
                  <a:pt x="1160" y="2"/>
                </a:lnTo>
                <a:lnTo>
                  <a:pt x="1172" y="0"/>
                </a:lnTo>
                <a:lnTo>
                  <a:pt x="1183" y="0"/>
                </a:lnTo>
                <a:lnTo>
                  <a:pt x="1192" y="2"/>
                </a:lnTo>
                <a:lnTo>
                  <a:pt x="1200" y="2"/>
                </a:lnTo>
                <a:lnTo>
                  <a:pt x="1208" y="3"/>
                </a:lnTo>
                <a:lnTo>
                  <a:pt x="1215" y="3"/>
                </a:lnTo>
                <a:lnTo>
                  <a:pt x="1221" y="6"/>
                </a:lnTo>
                <a:lnTo>
                  <a:pt x="1229" y="9"/>
                </a:lnTo>
                <a:lnTo>
                  <a:pt x="1238" y="13"/>
                </a:lnTo>
                <a:lnTo>
                  <a:pt x="1245" y="18"/>
                </a:lnTo>
                <a:lnTo>
                  <a:pt x="1252" y="22"/>
                </a:lnTo>
                <a:lnTo>
                  <a:pt x="1258" y="28"/>
                </a:lnTo>
                <a:lnTo>
                  <a:pt x="1264" y="32"/>
                </a:lnTo>
                <a:lnTo>
                  <a:pt x="1268" y="38"/>
                </a:lnTo>
                <a:lnTo>
                  <a:pt x="1272" y="43"/>
                </a:lnTo>
                <a:lnTo>
                  <a:pt x="1274" y="49"/>
                </a:lnTo>
                <a:lnTo>
                  <a:pt x="1277" y="55"/>
                </a:lnTo>
                <a:lnTo>
                  <a:pt x="1278" y="62"/>
                </a:lnTo>
                <a:lnTo>
                  <a:pt x="1278" y="68"/>
                </a:lnTo>
                <a:lnTo>
                  <a:pt x="1278" y="75"/>
                </a:lnTo>
                <a:lnTo>
                  <a:pt x="1277" y="81"/>
                </a:lnTo>
                <a:lnTo>
                  <a:pt x="1274" y="88"/>
                </a:lnTo>
                <a:lnTo>
                  <a:pt x="1272" y="95"/>
                </a:lnTo>
                <a:lnTo>
                  <a:pt x="1268" y="98"/>
                </a:lnTo>
                <a:lnTo>
                  <a:pt x="1264" y="101"/>
                </a:lnTo>
                <a:lnTo>
                  <a:pt x="1258" y="105"/>
                </a:lnTo>
                <a:lnTo>
                  <a:pt x="1251" y="110"/>
                </a:lnTo>
                <a:lnTo>
                  <a:pt x="1244" y="113"/>
                </a:lnTo>
                <a:lnTo>
                  <a:pt x="1236" y="117"/>
                </a:lnTo>
                <a:lnTo>
                  <a:pt x="1226" y="121"/>
                </a:lnTo>
                <a:lnTo>
                  <a:pt x="1216" y="126"/>
                </a:lnTo>
                <a:lnTo>
                  <a:pt x="1205" y="130"/>
                </a:lnTo>
                <a:lnTo>
                  <a:pt x="1193" y="134"/>
                </a:lnTo>
                <a:lnTo>
                  <a:pt x="1180" y="138"/>
                </a:lnTo>
                <a:lnTo>
                  <a:pt x="1167" y="143"/>
                </a:lnTo>
                <a:lnTo>
                  <a:pt x="1151" y="147"/>
                </a:lnTo>
                <a:lnTo>
                  <a:pt x="1136" y="151"/>
                </a:lnTo>
                <a:lnTo>
                  <a:pt x="1120" y="157"/>
                </a:lnTo>
                <a:lnTo>
                  <a:pt x="1103" y="161"/>
                </a:lnTo>
                <a:lnTo>
                  <a:pt x="1084" y="167"/>
                </a:lnTo>
                <a:lnTo>
                  <a:pt x="1065" y="172"/>
                </a:lnTo>
                <a:lnTo>
                  <a:pt x="1043" y="177"/>
                </a:lnTo>
                <a:lnTo>
                  <a:pt x="1023" y="183"/>
                </a:lnTo>
                <a:lnTo>
                  <a:pt x="1000" y="187"/>
                </a:lnTo>
                <a:lnTo>
                  <a:pt x="977" y="193"/>
                </a:lnTo>
                <a:lnTo>
                  <a:pt x="954" y="199"/>
                </a:lnTo>
                <a:lnTo>
                  <a:pt x="930" y="205"/>
                </a:lnTo>
                <a:lnTo>
                  <a:pt x="904" y="210"/>
                </a:lnTo>
                <a:lnTo>
                  <a:pt x="876" y="218"/>
                </a:lnTo>
                <a:lnTo>
                  <a:pt x="849" y="223"/>
                </a:lnTo>
                <a:lnTo>
                  <a:pt x="820" y="229"/>
                </a:lnTo>
                <a:lnTo>
                  <a:pt x="792" y="236"/>
                </a:lnTo>
                <a:lnTo>
                  <a:pt x="761" y="242"/>
                </a:lnTo>
                <a:lnTo>
                  <a:pt x="730" y="249"/>
                </a:lnTo>
                <a:lnTo>
                  <a:pt x="698" y="257"/>
                </a:lnTo>
                <a:lnTo>
                  <a:pt x="663" y="262"/>
                </a:lnTo>
                <a:lnTo>
                  <a:pt x="630" y="269"/>
                </a:lnTo>
                <a:lnTo>
                  <a:pt x="599" y="275"/>
                </a:lnTo>
                <a:lnTo>
                  <a:pt x="568" y="281"/>
                </a:lnTo>
                <a:lnTo>
                  <a:pt x="538" y="287"/>
                </a:lnTo>
                <a:lnTo>
                  <a:pt x="509" y="292"/>
                </a:lnTo>
                <a:lnTo>
                  <a:pt x="482" y="298"/>
                </a:lnTo>
                <a:lnTo>
                  <a:pt x="456" y="304"/>
                </a:lnTo>
                <a:lnTo>
                  <a:pt x="430" y="308"/>
                </a:lnTo>
                <a:lnTo>
                  <a:pt x="404" y="314"/>
                </a:lnTo>
                <a:lnTo>
                  <a:pt x="381" y="318"/>
                </a:lnTo>
                <a:lnTo>
                  <a:pt x="358" y="323"/>
                </a:lnTo>
                <a:lnTo>
                  <a:pt x="337" y="327"/>
                </a:lnTo>
                <a:lnTo>
                  <a:pt x="315" y="330"/>
                </a:lnTo>
                <a:lnTo>
                  <a:pt x="295" y="334"/>
                </a:lnTo>
                <a:lnTo>
                  <a:pt x="276" y="337"/>
                </a:lnTo>
                <a:lnTo>
                  <a:pt x="257" y="340"/>
                </a:lnTo>
                <a:lnTo>
                  <a:pt x="240" y="343"/>
                </a:lnTo>
                <a:lnTo>
                  <a:pt x="223" y="346"/>
                </a:lnTo>
                <a:lnTo>
                  <a:pt x="209" y="349"/>
                </a:lnTo>
                <a:lnTo>
                  <a:pt x="193" y="352"/>
                </a:lnTo>
                <a:lnTo>
                  <a:pt x="180" y="353"/>
                </a:lnTo>
                <a:lnTo>
                  <a:pt x="167" y="356"/>
                </a:lnTo>
                <a:lnTo>
                  <a:pt x="154" y="357"/>
                </a:lnTo>
                <a:lnTo>
                  <a:pt x="144" y="359"/>
                </a:lnTo>
                <a:lnTo>
                  <a:pt x="132" y="360"/>
                </a:lnTo>
                <a:lnTo>
                  <a:pt x="124" y="362"/>
                </a:lnTo>
                <a:lnTo>
                  <a:pt x="115" y="362"/>
                </a:lnTo>
                <a:lnTo>
                  <a:pt x="106" y="363"/>
                </a:lnTo>
                <a:lnTo>
                  <a:pt x="101" y="363"/>
                </a:lnTo>
                <a:lnTo>
                  <a:pt x="93" y="363"/>
                </a:lnTo>
                <a:lnTo>
                  <a:pt x="89" y="364"/>
                </a:lnTo>
                <a:lnTo>
                  <a:pt x="79" y="363"/>
                </a:lnTo>
                <a:lnTo>
                  <a:pt x="70" y="363"/>
                </a:lnTo>
                <a:lnTo>
                  <a:pt x="62" y="362"/>
                </a:lnTo>
                <a:lnTo>
                  <a:pt x="54" y="360"/>
                </a:lnTo>
                <a:lnTo>
                  <a:pt x="49" y="357"/>
                </a:lnTo>
                <a:lnTo>
                  <a:pt x="43" y="356"/>
                </a:lnTo>
                <a:lnTo>
                  <a:pt x="37" y="352"/>
                </a:lnTo>
                <a:lnTo>
                  <a:pt x="31" y="349"/>
                </a:lnTo>
                <a:lnTo>
                  <a:pt x="27" y="343"/>
                </a:lnTo>
                <a:lnTo>
                  <a:pt x="23" y="339"/>
                </a:lnTo>
                <a:lnTo>
                  <a:pt x="18" y="333"/>
                </a:lnTo>
                <a:lnTo>
                  <a:pt x="14" y="326"/>
                </a:lnTo>
                <a:lnTo>
                  <a:pt x="11" y="318"/>
                </a:lnTo>
                <a:lnTo>
                  <a:pt x="8" y="310"/>
                </a:lnTo>
                <a:lnTo>
                  <a:pt x="4" y="301"/>
                </a:lnTo>
                <a:lnTo>
                  <a:pt x="1" y="292"/>
                </a:lnTo>
                <a:lnTo>
                  <a:pt x="0" y="288"/>
                </a:lnTo>
                <a:lnTo>
                  <a:pt x="0" y="285"/>
                </a:lnTo>
                <a:lnTo>
                  <a:pt x="1" y="281"/>
                </a:lnTo>
                <a:lnTo>
                  <a:pt x="4" y="278"/>
                </a:lnTo>
                <a:lnTo>
                  <a:pt x="7" y="274"/>
                </a:lnTo>
                <a:lnTo>
                  <a:pt x="11" y="269"/>
                </a:lnTo>
                <a:lnTo>
                  <a:pt x="17" y="265"/>
                </a:lnTo>
                <a:lnTo>
                  <a:pt x="24" y="261"/>
                </a:lnTo>
                <a:lnTo>
                  <a:pt x="33" y="257"/>
                </a:lnTo>
                <a:lnTo>
                  <a:pt x="42" y="252"/>
                </a:lnTo>
                <a:lnTo>
                  <a:pt x="52" y="248"/>
                </a:lnTo>
                <a:lnTo>
                  <a:pt x="63" y="244"/>
                </a:lnTo>
                <a:lnTo>
                  <a:pt x="76" y="238"/>
                </a:lnTo>
                <a:lnTo>
                  <a:pt x="90" y="233"/>
                </a:lnTo>
                <a:lnTo>
                  <a:pt x="105" y="228"/>
                </a:lnTo>
                <a:lnTo>
                  <a:pt x="121" y="223"/>
                </a:lnTo>
                <a:lnTo>
                  <a:pt x="138" y="218"/>
                </a:lnTo>
                <a:lnTo>
                  <a:pt x="157" y="212"/>
                </a:lnTo>
                <a:lnTo>
                  <a:pt x="177" y="206"/>
                </a:lnTo>
                <a:lnTo>
                  <a:pt x="197" y="200"/>
                </a:lnTo>
                <a:lnTo>
                  <a:pt x="220" y="193"/>
                </a:lnTo>
                <a:lnTo>
                  <a:pt x="243" y="187"/>
                </a:lnTo>
                <a:lnTo>
                  <a:pt x="268" y="180"/>
                </a:lnTo>
                <a:lnTo>
                  <a:pt x="293" y="174"/>
                </a:lnTo>
                <a:lnTo>
                  <a:pt x="319" y="167"/>
                </a:lnTo>
                <a:lnTo>
                  <a:pt x="348" y="160"/>
                </a:lnTo>
                <a:lnTo>
                  <a:pt x="377" y="153"/>
                </a:lnTo>
                <a:lnTo>
                  <a:pt x="407" y="146"/>
                </a:lnTo>
                <a:lnTo>
                  <a:pt x="439" y="137"/>
                </a:lnTo>
                <a:lnTo>
                  <a:pt x="472" y="130"/>
                </a:lnTo>
                <a:lnTo>
                  <a:pt x="507" y="121"/>
                </a:lnTo>
                <a:lnTo>
                  <a:pt x="541" y="1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101"/>
          <p:cNvSpPr/>
          <p:nvPr/>
        </p:nvSpPr>
        <p:spPr>
          <a:xfrm>
            <a:off x="6384960" y="3884760"/>
            <a:ext cx="1030320" cy="207720"/>
          </a:xfrm>
          <a:custGeom>
            <a:avLst/>
            <a:gdLst/>
            <a:ahLst/>
            <a:rect l="l" t="t" r="r" b="b"/>
            <a:pathLst>
              <a:path w="1949" h="394">
                <a:moveTo>
                  <a:pt x="854" y="125"/>
                </a:moveTo>
                <a:lnTo>
                  <a:pt x="896" y="116"/>
                </a:lnTo>
                <a:lnTo>
                  <a:pt x="936" y="109"/>
                </a:lnTo>
                <a:lnTo>
                  <a:pt x="976" y="101"/>
                </a:lnTo>
                <a:lnTo>
                  <a:pt x="1015" y="93"/>
                </a:lnTo>
                <a:lnTo>
                  <a:pt x="1053" y="86"/>
                </a:lnTo>
                <a:lnTo>
                  <a:pt x="1089" y="79"/>
                </a:lnTo>
                <a:lnTo>
                  <a:pt x="1125" y="73"/>
                </a:lnTo>
                <a:lnTo>
                  <a:pt x="1159" y="67"/>
                </a:lnTo>
                <a:lnTo>
                  <a:pt x="1194" y="62"/>
                </a:lnTo>
                <a:lnTo>
                  <a:pt x="1225" y="56"/>
                </a:lnTo>
                <a:lnTo>
                  <a:pt x="1257" y="50"/>
                </a:lnTo>
                <a:lnTo>
                  <a:pt x="1287" y="46"/>
                </a:lnTo>
                <a:lnTo>
                  <a:pt x="1317" y="40"/>
                </a:lnTo>
                <a:lnTo>
                  <a:pt x="1345" y="36"/>
                </a:lnTo>
                <a:lnTo>
                  <a:pt x="1372" y="31"/>
                </a:lnTo>
                <a:lnTo>
                  <a:pt x="1399" y="29"/>
                </a:lnTo>
                <a:lnTo>
                  <a:pt x="1424" y="24"/>
                </a:lnTo>
                <a:lnTo>
                  <a:pt x="1448" y="21"/>
                </a:lnTo>
                <a:lnTo>
                  <a:pt x="1471" y="18"/>
                </a:lnTo>
                <a:lnTo>
                  <a:pt x="1493" y="16"/>
                </a:lnTo>
                <a:lnTo>
                  <a:pt x="1513" y="13"/>
                </a:lnTo>
                <a:lnTo>
                  <a:pt x="1533" y="10"/>
                </a:lnTo>
                <a:lnTo>
                  <a:pt x="1552" y="8"/>
                </a:lnTo>
                <a:lnTo>
                  <a:pt x="1569" y="7"/>
                </a:lnTo>
                <a:lnTo>
                  <a:pt x="1587" y="6"/>
                </a:lnTo>
                <a:lnTo>
                  <a:pt x="1602" y="4"/>
                </a:lnTo>
                <a:lnTo>
                  <a:pt x="1615" y="3"/>
                </a:lnTo>
                <a:lnTo>
                  <a:pt x="1630" y="1"/>
                </a:lnTo>
                <a:lnTo>
                  <a:pt x="1641" y="1"/>
                </a:lnTo>
                <a:lnTo>
                  <a:pt x="1653" y="0"/>
                </a:lnTo>
                <a:lnTo>
                  <a:pt x="1662" y="0"/>
                </a:lnTo>
                <a:lnTo>
                  <a:pt x="1672" y="0"/>
                </a:lnTo>
                <a:lnTo>
                  <a:pt x="1687" y="0"/>
                </a:lnTo>
                <a:lnTo>
                  <a:pt x="1703" y="0"/>
                </a:lnTo>
                <a:lnTo>
                  <a:pt x="1718" y="0"/>
                </a:lnTo>
                <a:lnTo>
                  <a:pt x="1733" y="0"/>
                </a:lnTo>
                <a:lnTo>
                  <a:pt x="1748" y="0"/>
                </a:lnTo>
                <a:lnTo>
                  <a:pt x="1761" y="1"/>
                </a:lnTo>
                <a:lnTo>
                  <a:pt x="1775" y="1"/>
                </a:lnTo>
                <a:lnTo>
                  <a:pt x="1788" y="1"/>
                </a:lnTo>
                <a:lnTo>
                  <a:pt x="1801" y="3"/>
                </a:lnTo>
                <a:lnTo>
                  <a:pt x="1814" y="4"/>
                </a:lnTo>
                <a:lnTo>
                  <a:pt x="1826" y="6"/>
                </a:lnTo>
                <a:lnTo>
                  <a:pt x="1837" y="7"/>
                </a:lnTo>
                <a:lnTo>
                  <a:pt x="1849" y="8"/>
                </a:lnTo>
                <a:lnTo>
                  <a:pt x="1859" y="11"/>
                </a:lnTo>
                <a:lnTo>
                  <a:pt x="1870" y="14"/>
                </a:lnTo>
                <a:lnTo>
                  <a:pt x="1880" y="17"/>
                </a:lnTo>
                <a:lnTo>
                  <a:pt x="1889" y="21"/>
                </a:lnTo>
                <a:lnTo>
                  <a:pt x="1898" y="24"/>
                </a:lnTo>
                <a:lnTo>
                  <a:pt x="1906" y="29"/>
                </a:lnTo>
                <a:lnTo>
                  <a:pt x="1912" y="34"/>
                </a:lnTo>
                <a:lnTo>
                  <a:pt x="1919" y="39"/>
                </a:lnTo>
                <a:lnTo>
                  <a:pt x="1925" y="43"/>
                </a:lnTo>
                <a:lnTo>
                  <a:pt x="1929" y="49"/>
                </a:lnTo>
                <a:lnTo>
                  <a:pt x="1934" y="53"/>
                </a:lnTo>
                <a:lnTo>
                  <a:pt x="1938" y="59"/>
                </a:lnTo>
                <a:lnTo>
                  <a:pt x="1941" y="63"/>
                </a:lnTo>
                <a:lnTo>
                  <a:pt x="1944" y="69"/>
                </a:lnTo>
                <a:lnTo>
                  <a:pt x="1947" y="73"/>
                </a:lnTo>
                <a:lnTo>
                  <a:pt x="1948" y="77"/>
                </a:lnTo>
                <a:lnTo>
                  <a:pt x="1948" y="82"/>
                </a:lnTo>
                <a:lnTo>
                  <a:pt x="1949" y="86"/>
                </a:lnTo>
                <a:lnTo>
                  <a:pt x="1949" y="89"/>
                </a:lnTo>
                <a:lnTo>
                  <a:pt x="1949" y="96"/>
                </a:lnTo>
                <a:lnTo>
                  <a:pt x="1948" y="102"/>
                </a:lnTo>
                <a:lnTo>
                  <a:pt x="1945" y="108"/>
                </a:lnTo>
                <a:lnTo>
                  <a:pt x="1944" y="113"/>
                </a:lnTo>
                <a:lnTo>
                  <a:pt x="1939" y="118"/>
                </a:lnTo>
                <a:lnTo>
                  <a:pt x="1935" y="122"/>
                </a:lnTo>
                <a:lnTo>
                  <a:pt x="1929" y="126"/>
                </a:lnTo>
                <a:lnTo>
                  <a:pt x="1924" y="131"/>
                </a:lnTo>
                <a:lnTo>
                  <a:pt x="1916" y="135"/>
                </a:lnTo>
                <a:lnTo>
                  <a:pt x="1909" y="139"/>
                </a:lnTo>
                <a:lnTo>
                  <a:pt x="1900" y="144"/>
                </a:lnTo>
                <a:lnTo>
                  <a:pt x="1890" y="147"/>
                </a:lnTo>
                <a:lnTo>
                  <a:pt x="1880" y="149"/>
                </a:lnTo>
                <a:lnTo>
                  <a:pt x="1870" y="154"/>
                </a:lnTo>
                <a:lnTo>
                  <a:pt x="1857" y="157"/>
                </a:lnTo>
                <a:lnTo>
                  <a:pt x="1846" y="161"/>
                </a:lnTo>
                <a:lnTo>
                  <a:pt x="1828" y="164"/>
                </a:lnTo>
                <a:lnTo>
                  <a:pt x="1814" y="167"/>
                </a:lnTo>
                <a:lnTo>
                  <a:pt x="1800" y="171"/>
                </a:lnTo>
                <a:lnTo>
                  <a:pt x="1785" y="174"/>
                </a:lnTo>
                <a:lnTo>
                  <a:pt x="1772" y="177"/>
                </a:lnTo>
                <a:lnTo>
                  <a:pt x="1761" y="180"/>
                </a:lnTo>
                <a:lnTo>
                  <a:pt x="1749" y="183"/>
                </a:lnTo>
                <a:lnTo>
                  <a:pt x="1738" y="185"/>
                </a:lnTo>
                <a:lnTo>
                  <a:pt x="1728" y="188"/>
                </a:lnTo>
                <a:lnTo>
                  <a:pt x="1718" y="190"/>
                </a:lnTo>
                <a:lnTo>
                  <a:pt x="1709" y="191"/>
                </a:lnTo>
                <a:lnTo>
                  <a:pt x="1700" y="193"/>
                </a:lnTo>
                <a:lnTo>
                  <a:pt x="1692" y="194"/>
                </a:lnTo>
                <a:lnTo>
                  <a:pt x="1685" y="196"/>
                </a:lnTo>
                <a:lnTo>
                  <a:pt x="1677" y="196"/>
                </a:lnTo>
                <a:lnTo>
                  <a:pt x="1672" y="197"/>
                </a:lnTo>
                <a:lnTo>
                  <a:pt x="1667" y="197"/>
                </a:lnTo>
                <a:lnTo>
                  <a:pt x="1662" y="197"/>
                </a:lnTo>
                <a:lnTo>
                  <a:pt x="1656" y="197"/>
                </a:lnTo>
                <a:lnTo>
                  <a:pt x="1649" y="198"/>
                </a:lnTo>
                <a:lnTo>
                  <a:pt x="1640" y="198"/>
                </a:lnTo>
                <a:lnTo>
                  <a:pt x="1630" y="200"/>
                </a:lnTo>
                <a:lnTo>
                  <a:pt x="1618" y="201"/>
                </a:lnTo>
                <a:lnTo>
                  <a:pt x="1605" y="203"/>
                </a:lnTo>
                <a:lnTo>
                  <a:pt x="1592" y="204"/>
                </a:lnTo>
                <a:lnTo>
                  <a:pt x="1578" y="206"/>
                </a:lnTo>
                <a:lnTo>
                  <a:pt x="1562" y="208"/>
                </a:lnTo>
                <a:lnTo>
                  <a:pt x="1545" y="210"/>
                </a:lnTo>
                <a:lnTo>
                  <a:pt x="1526" y="213"/>
                </a:lnTo>
                <a:lnTo>
                  <a:pt x="1507" y="216"/>
                </a:lnTo>
                <a:lnTo>
                  <a:pt x="1486" y="217"/>
                </a:lnTo>
                <a:lnTo>
                  <a:pt x="1464" y="220"/>
                </a:lnTo>
                <a:lnTo>
                  <a:pt x="1441" y="223"/>
                </a:lnTo>
                <a:lnTo>
                  <a:pt x="1417" y="227"/>
                </a:lnTo>
                <a:lnTo>
                  <a:pt x="1392" y="230"/>
                </a:lnTo>
                <a:lnTo>
                  <a:pt x="1365" y="233"/>
                </a:lnTo>
                <a:lnTo>
                  <a:pt x="1338" y="237"/>
                </a:lnTo>
                <a:lnTo>
                  <a:pt x="1309" y="240"/>
                </a:lnTo>
                <a:lnTo>
                  <a:pt x="1279" y="244"/>
                </a:lnTo>
                <a:lnTo>
                  <a:pt x="1247" y="249"/>
                </a:lnTo>
                <a:lnTo>
                  <a:pt x="1215" y="253"/>
                </a:lnTo>
                <a:lnTo>
                  <a:pt x="1182" y="257"/>
                </a:lnTo>
                <a:lnTo>
                  <a:pt x="1148" y="262"/>
                </a:lnTo>
                <a:lnTo>
                  <a:pt x="1112" y="266"/>
                </a:lnTo>
                <a:lnTo>
                  <a:pt x="1074" y="272"/>
                </a:lnTo>
                <a:lnTo>
                  <a:pt x="1037" y="276"/>
                </a:lnTo>
                <a:lnTo>
                  <a:pt x="998" y="280"/>
                </a:lnTo>
                <a:lnTo>
                  <a:pt x="958" y="286"/>
                </a:lnTo>
                <a:lnTo>
                  <a:pt x="916" y="293"/>
                </a:lnTo>
                <a:lnTo>
                  <a:pt x="875" y="299"/>
                </a:lnTo>
                <a:lnTo>
                  <a:pt x="835" y="306"/>
                </a:lnTo>
                <a:lnTo>
                  <a:pt x="798" y="312"/>
                </a:lnTo>
                <a:lnTo>
                  <a:pt x="760" y="318"/>
                </a:lnTo>
                <a:lnTo>
                  <a:pt x="724" y="324"/>
                </a:lnTo>
                <a:lnTo>
                  <a:pt x="690" y="328"/>
                </a:lnTo>
                <a:lnTo>
                  <a:pt x="657" y="334"/>
                </a:lnTo>
                <a:lnTo>
                  <a:pt x="625" y="338"/>
                </a:lnTo>
                <a:lnTo>
                  <a:pt x="593" y="344"/>
                </a:lnTo>
                <a:lnTo>
                  <a:pt x="565" y="348"/>
                </a:lnTo>
                <a:lnTo>
                  <a:pt x="536" y="352"/>
                </a:lnTo>
                <a:lnTo>
                  <a:pt x="508" y="357"/>
                </a:lnTo>
                <a:lnTo>
                  <a:pt x="482" y="360"/>
                </a:lnTo>
                <a:lnTo>
                  <a:pt x="457" y="364"/>
                </a:lnTo>
                <a:lnTo>
                  <a:pt x="434" y="367"/>
                </a:lnTo>
                <a:lnTo>
                  <a:pt x="410" y="370"/>
                </a:lnTo>
                <a:lnTo>
                  <a:pt x="389" y="374"/>
                </a:lnTo>
                <a:lnTo>
                  <a:pt x="369" y="375"/>
                </a:lnTo>
                <a:lnTo>
                  <a:pt x="349" y="378"/>
                </a:lnTo>
                <a:lnTo>
                  <a:pt x="331" y="381"/>
                </a:lnTo>
                <a:lnTo>
                  <a:pt x="314" y="383"/>
                </a:lnTo>
                <a:lnTo>
                  <a:pt x="298" y="386"/>
                </a:lnTo>
                <a:lnTo>
                  <a:pt x="284" y="387"/>
                </a:lnTo>
                <a:lnTo>
                  <a:pt x="271" y="388"/>
                </a:lnTo>
                <a:lnTo>
                  <a:pt x="258" y="390"/>
                </a:lnTo>
                <a:lnTo>
                  <a:pt x="248" y="391"/>
                </a:lnTo>
                <a:lnTo>
                  <a:pt x="238" y="391"/>
                </a:lnTo>
                <a:lnTo>
                  <a:pt x="229" y="393"/>
                </a:lnTo>
                <a:lnTo>
                  <a:pt x="220" y="393"/>
                </a:lnTo>
                <a:lnTo>
                  <a:pt x="215" y="393"/>
                </a:lnTo>
                <a:lnTo>
                  <a:pt x="209" y="394"/>
                </a:lnTo>
                <a:lnTo>
                  <a:pt x="199" y="393"/>
                </a:lnTo>
                <a:lnTo>
                  <a:pt x="189" y="393"/>
                </a:lnTo>
                <a:lnTo>
                  <a:pt x="180" y="391"/>
                </a:lnTo>
                <a:lnTo>
                  <a:pt x="170" y="390"/>
                </a:lnTo>
                <a:lnTo>
                  <a:pt x="160" y="388"/>
                </a:lnTo>
                <a:lnTo>
                  <a:pt x="151" y="386"/>
                </a:lnTo>
                <a:lnTo>
                  <a:pt x="141" y="383"/>
                </a:lnTo>
                <a:lnTo>
                  <a:pt x="133" y="380"/>
                </a:lnTo>
                <a:lnTo>
                  <a:pt x="124" y="377"/>
                </a:lnTo>
                <a:lnTo>
                  <a:pt x="115" y="373"/>
                </a:lnTo>
                <a:lnTo>
                  <a:pt x="107" y="368"/>
                </a:lnTo>
                <a:lnTo>
                  <a:pt x="98" y="363"/>
                </a:lnTo>
                <a:lnTo>
                  <a:pt x="91" y="358"/>
                </a:lnTo>
                <a:lnTo>
                  <a:pt x="84" y="352"/>
                </a:lnTo>
                <a:lnTo>
                  <a:pt x="77" y="347"/>
                </a:lnTo>
                <a:lnTo>
                  <a:pt x="71" y="339"/>
                </a:lnTo>
                <a:lnTo>
                  <a:pt x="61" y="337"/>
                </a:lnTo>
                <a:lnTo>
                  <a:pt x="52" y="332"/>
                </a:lnTo>
                <a:lnTo>
                  <a:pt x="43" y="328"/>
                </a:lnTo>
                <a:lnTo>
                  <a:pt x="38" y="324"/>
                </a:lnTo>
                <a:lnTo>
                  <a:pt x="30" y="319"/>
                </a:lnTo>
                <a:lnTo>
                  <a:pt x="25" y="314"/>
                </a:lnTo>
                <a:lnTo>
                  <a:pt x="20" y="309"/>
                </a:lnTo>
                <a:lnTo>
                  <a:pt x="16" y="304"/>
                </a:lnTo>
                <a:lnTo>
                  <a:pt x="12" y="299"/>
                </a:lnTo>
                <a:lnTo>
                  <a:pt x="9" y="293"/>
                </a:lnTo>
                <a:lnTo>
                  <a:pt x="6" y="289"/>
                </a:lnTo>
                <a:lnTo>
                  <a:pt x="3" y="285"/>
                </a:lnTo>
                <a:lnTo>
                  <a:pt x="2" y="280"/>
                </a:lnTo>
                <a:lnTo>
                  <a:pt x="2" y="276"/>
                </a:lnTo>
                <a:lnTo>
                  <a:pt x="0" y="272"/>
                </a:lnTo>
                <a:lnTo>
                  <a:pt x="0" y="269"/>
                </a:lnTo>
                <a:lnTo>
                  <a:pt x="0" y="265"/>
                </a:lnTo>
                <a:lnTo>
                  <a:pt x="2" y="262"/>
                </a:lnTo>
                <a:lnTo>
                  <a:pt x="5" y="260"/>
                </a:lnTo>
                <a:lnTo>
                  <a:pt x="7" y="257"/>
                </a:lnTo>
                <a:lnTo>
                  <a:pt x="10" y="256"/>
                </a:lnTo>
                <a:lnTo>
                  <a:pt x="15" y="255"/>
                </a:lnTo>
                <a:lnTo>
                  <a:pt x="20" y="253"/>
                </a:lnTo>
                <a:lnTo>
                  <a:pt x="26" y="253"/>
                </a:lnTo>
                <a:lnTo>
                  <a:pt x="33" y="252"/>
                </a:lnTo>
                <a:lnTo>
                  <a:pt x="41" y="252"/>
                </a:lnTo>
                <a:lnTo>
                  <a:pt x="49" y="250"/>
                </a:lnTo>
                <a:lnTo>
                  <a:pt x="59" y="250"/>
                </a:lnTo>
                <a:lnTo>
                  <a:pt x="69" y="250"/>
                </a:lnTo>
                <a:lnTo>
                  <a:pt x="79" y="250"/>
                </a:lnTo>
                <a:lnTo>
                  <a:pt x="92" y="250"/>
                </a:lnTo>
                <a:lnTo>
                  <a:pt x="105" y="250"/>
                </a:lnTo>
                <a:lnTo>
                  <a:pt x="110" y="250"/>
                </a:lnTo>
                <a:lnTo>
                  <a:pt x="117" y="250"/>
                </a:lnTo>
                <a:lnTo>
                  <a:pt x="124" y="249"/>
                </a:lnTo>
                <a:lnTo>
                  <a:pt x="134" y="249"/>
                </a:lnTo>
                <a:lnTo>
                  <a:pt x="144" y="247"/>
                </a:lnTo>
                <a:lnTo>
                  <a:pt x="156" y="246"/>
                </a:lnTo>
                <a:lnTo>
                  <a:pt x="169" y="244"/>
                </a:lnTo>
                <a:lnTo>
                  <a:pt x="182" y="243"/>
                </a:lnTo>
                <a:lnTo>
                  <a:pt x="197" y="242"/>
                </a:lnTo>
                <a:lnTo>
                  <a:pt x="213" y="240"/>
                </a:lnTo>
                <a:lnTo>
                  <a:pt x="231" y="237"/>
                </a:lnTo>
                <a:lnTo>
                  <a:pt x="249" y="234"/>
                </a:lnTo>
                <a:lnTo>
                  <a:pt x="269" y="232"/>
                </a:lnTo>
                <a:lnTo>
                  <a:pt x="290" y="229"/>
                </a:lnTo>
                <a:lnTo>
                  <a:pt x="313" y="226"/>
                </a:lnTo>
                <a:lnTo>
                  <a:pt x="336" y="221"/>
                </a:lnTo>
                <a:lnTo>
                  <a:pt x="360" y="217"/>
                </a:lnTo>
                <a:lnTo>
                  <a:pt x="385" y="214"/>
                </a:lnTo>
                <a:lnTo>
                  <a:pt x="412" y="208"/>
                </a:lnTo>
                <a:lnTo>
                  <a:pt x="439" y="204"/>
                </a:lnTo>
                <a:lnTo>
                  <a:pt x="468" y="200"/>
                </a:lnTo>
                <a:lnTo>
                  <a:pt x="497" y="194"/>
                </a:lnTo>
                <a:lnTo>
                  <a:pt x="529" y="188"/>
                </a:lnTo>
                <a:lnTo>
                  <a:pt x="560" y="183"/>
                </a:lnTo>
                <a:lnTo>
                  <a:pt x="593" y="177"/>
                </a:lnTo>
                <a:lnTo>
                  <a:pt x="626" y="170"/>
                </a:lnTo>
                <a:lnTo>
                  <a:pt x="662" y="164"/>
                </a:lnTo>
                <a:lnTo>
                  <a:pt x="698" y="157"/>
                </a:lnTo>
                <a:lnTo>
                  <a:pt x="736" y="149"/>
                </a:lnTo>
                <a:lnTo>
                  <a:pt x="773" y="141"/>
                </a:lnTo>
                <a:lnTo>
                  <a:pt x="814" y="134"/>
                </a:lnTo>
                <a:lnTo>
                  <a:pt x="854" y="1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02"/>
          <p:cNvSpPr/>
          <p:nvPr/>
        </p:nvSpPr>
        <p:spPr>
          <a:xfrm>
            <a:off x="6640560" y="4214880"/>
            <a:ext cx="282600" cy="931680"/>
          </a:xfrm>
          <a:custGeom>
            <a:avLst/>
            <a:gdLst/>
            <a:ahLst/>
            <a:rect l="l" t="t" r="r" b="b"/>
            <a:pathLst>
              <a:path w="533" h="1761">
                <a:moveTo>
                  <a:pt x="317" y="358"/>
                </a:moveTo>
                <a:lnTo>
                  <a:pt x="314" y="333"/>
                </a:lnTo>
                <a:lnTo>
                  <a:pt x="311" y="307"/>
                </a:lnTo>
                <a:lnTo>
                  <a:pt x="307" y="284"/>
                </a:lnTo>
                <a:lnTo>
                  <a:pt x="304" y="262"/>
                </a:lnTo>
                <a:lnTo>
                  <a:pt x="301" y="240"/>
                </a:lnTo>
                <a:lnTo>
                  <a:pt x="296" y="222"/>
                </a:lnTo>
                <a:lnTo>
                  <a:pt x="295" y="212"/>
                </a:lnTo>
                <a:lnTo>
                  <a:pt x="294" y="203"/>
                </a:lnTo>
                <a:lnTo>
                  <a:pt x="292" y="194"/>
                </a:lnTo>
                <a:lnTo>
                  <a:pt x="291" y="186"/>
                </a:lnTo>
                <a:lnTo>
                  <a:pt x="289" y="178"/>
                </a:lnTo>
                <a:lnTo>
                  <a:pt x="288" y="171"/>
                </a:lnTo>
                <a:lnTo>
                  <a:pt x="285" y="164"/>
                </a:lnTo>
                <a:lnTo>
                  <a:pt x="284" y="157"/>
                </a:lnTo>
                <a:lnTo>
                  <a:pt x="282" y="151"/>
                </a:lnTo>
                <a:lnTo>
                  <a:pt x="281" y="145"/>
                </a:lnTo>
                <a:lnTo>
                  <a:pt x="279" y="140"/>
                </a:lnTo>
                <a:lnTo>
                  <a:pt x="278" y="134"/>
                </a:lnTo>
                <a:lnTo>
                  <a:pt x="276" y="130"/>
                </a:lnTo>
                <a:lnTo>
                  <a:pt x="275" y="125"/>
                </a:lnTo>
                <a:lnTo>
                  <a:pt x="272" y="121"/>
                </a:lnTo>
                <a:lnTo>
                  <a:pt x="271" y="118"/>
                </a:lnTo>
                <a:lnTo>
                  <a:pt x="269" y="115"/>
                </a:lnTo>
                <a:lnTo>
                  <a:pt x="268" y="112"/>
                </a:lnTo>
                <a:lnTo>
                  <a:pt x="266" y="109"/>
                </a:lnTo>
                <a:lnTo>
                  <a:pt x="265" y="108"/>
                </a:lnTo>
                <a:lnTo>
                  <a:pt x="259" y="105"/>
                </a:lnTo>
                <a:lnTo>
                  <a:pt x="252" y="101"/>
                </a:lnTo>
                <a:lnTo>
                  <a:pt x="248" y="98"/>
                </a:lnTo>
                <a:lnTo>
                  <a:pt x="242" y="94"/>
                </a:lnTo>
                <a:lnTo>
                  <a:pt x="237" y="91"/>
                </a:lnTo>
                <a:lnTo>
                  <a:pt x="233" y="86"/>
                </a:lnTo>
                <a:lnTo>
                  <a:pt x="229" y="82"/>
                </a:lnTo>
                <a:lnTo>
                  <a:pt x="226" y="79"/>
                </a:lnTo>
                <a:lnTo>
                  <a:pt x="222" y="75"/>
                </a:lnTo>
                <a:lnTo>
                  <a:pt x="220" y="69"/>
                </a:lnTo>
                <a:lnTo>
                  <a:pt x="217" y="65"/>
                </a:lnTo>
                <a:lnTo>
                  <a:pt x="216" y="60"/>
                </a:lnTo>
                <a:lnTo>
                  <a:pt x="214" y="55"/>
                </a:lnTo>
                <a:lnTo>
                  <a:pt x="213" y="49"/>
                </a:lnTo>
                <a:lnTo>
                  <a:pt x="213" y="43"/>
                </a:lnTo>
                <a:lnTo>
                  <a:pt x="213" y="36"/>
                </a:lnTo>
                <a:lnTo>
                  <a:pt x="213" y="33"/>
                </a:lnTo>
                <a:lnTo>
                  <a:pt x="213" y="29"/>
                </a:lnTo>
                <a:lnTo>
                  <a:pt x="214" y="26"/>
                </a:lnTo>
                <a:lnTo>
                  <a:pt x="216" y="23"/>
                </a:lnTo>
                <a:lnTo>
                  <a:pt x="217" y="20"/>
                </a:lnTo>
                <a:lnTo>
                  <a:pt x="220" y="17"/>
                </a:lnTo>
                <a:lnTo>
                  <a:pt x="223" y="14"/>
                </a:lnTo>
                <a:lnTo>
                  <a:pt x="227" y="11"/>
                </a:lnTo>
                <a:lnTo>
                  <a:pt x="232" y="9"/>
                </a:lnTo>
                <a:lnTo>
                  <a:pt x="237" y="7"/>
                </a:lnTo>
                <a:lnTo>
                  <a:pt x="243" y="4"/>
                </a:lnTo>
                <a:lnTo>
                  <a:pt x="249" y="3"/>
                </a:lnTo>
                <a:lnTo>
                  <a:pt x="256" y="1"/>
                </a:lnTo>
                <a:lnTo>
                  <a:pt x="263" y="1"/>
                </a:lnTo>
                <a:lnTo>
                  <a:pt x="272" y="0"/>
                </a:lnTo>
                <a:lnTo>
                  <a:pt x="282" y="0"/>
                </a:lnTo>
                <a:lnTo>
                  <a:pt x="292" y="0"/>
                </a:lnTo>
                <a:lnTo>
                  <a:pt x="302" y="1"/>
                </a:lnTo>
                <a:lnTo>
                  <a:pt x="311" y="1"/>
                </a:lnTo>
                <a:lnTo>
                  <a:pt x="321" y="3"/>
                </a:lnTo>
                <a:lnTo>
                  <a:pt x="331" y="6"/>
                </a:lnTo>
                <a:lnTo>
                  <a:pt x="341" y="9"/>
                </a:lnTo>
                <a:lnTo>
                  <a:pt x="353" y="11"/>
                </a:lnTo>
                <a:lnTo>
                  <a:pt x="363" y="16"/>
                </a:lnTo>
                <a:lnTo>
                  <a:pt x="373" y="20"/>
                </a:lnTo>
                <a:lnTo>
                  <a:pt x="384" y="26"/>
                </a:lnTo>
                <a:lnTo>
                  <a:pt x="396" y="32"/>
                </a:lnTo>
                <a:lnTo>
                  <a:pt x="407" y="37"/>
                </a:lnTo>
                <a:lnTo>
                  <a:pt x="419" y="45"/>
                </a:lnTo>
                <a:lnTo>
                  <a:pt x="432" y="53"/>
                </a:lnTo>
                <a:lnTo>
                  <a:pt x="443" y="62"/>
                </a:lnTo>
                <a:lnTo>
                  <a:pt x="456" y="72"/>
                </a:lnTo>
                <a:lnTo>
                  <a:pt x="465" y="82"/>
                </a:lnTo>
                <a:lnTo>
                  <a:pt x="474" y="92"/>
                </a:lnTo>
                <a:lnTo>
                  <a:pt x="482" y="101"/>
                </a:lnTo>
                <a:lnTo>
                  <a:pt x="488" y="109"/>
                </a:lnTo>
                <a:lnTo>
                  <a:pt x="495" y="118"/>
                </a:lnTo>
                <a:lnTo>
                  <a:pt x="499" y="127"/>
                </a:lnTo>
                <a:lnTo>
                  <a:pt x="504" y="135"/>
                </a:lnTo>
                <a:lnTo>
                  <a:pt x="508" y="144"/>
                </a:lnTo>
                <a:lnTo>
                  <a:pt x="511" y="153"/>
                </a:lnTo>
                <a:lnTo>
                  <a:pt x="512" y="160"/>
                </a:lnTo>
                <a:lnTo>
                  <a:pt x="514" y="168"/>
                </a:lnTo>
                <a:lnTo>
                  <a:pt x="514" y="177"/>
                </a:lnTo>
                <a:lnTo>
                  <a:pt x="514" y="187"/>
                </a:lnTo>
                <a:lnTo>
                  <a:pt x="512" y="196"/>
                </a:lnTo>
                <a:lnTo>
                  <a:pt x="511" y="206"/>
                </a:lnTo>
                <a:lnTo>
                  <a:pt x="508" y="216"/>
                </a:lnTo>
                <a:lnTo>
                  <a:pt x="507" y="220"/>
                </a:lnTo>
                <a:lnTo>
                  <a:pt x="505" y="227"/>
                </a:lnTo>
                <a:lnTo>
                  <a:pt x="504" y="233"/>
                </a:lnTo>
                <a:lnTo>
                  <a:pt x="502" y="242"/>
                </a:lnTo>
                <a:lnTo>
                  <a:pt x="501" y="249"/>
                </a:lnTo>
                <a:lnTo>
                  <a:pt x="501" y="259"/>
                </a:lnTo>
                <a:lnTo>
                  <a:pt x="499" y="269"/>
                </a:lnTo>
                <a:lnTo>
                  <a:pt x="498" y="279"/>
                </a:lnTo>
                <a:lnTo>
                  <a:pt x="498" y="291"/>
                </a:lnTo>
                <a:lnTo>
                  <a:pt x="497" y="302"/>
                </a:lnTo>
                <a:lnTo>
                  <a:pt x="497" y="315"/>
                </a:lnTo>
                <a:lnTo>
                  <a:pt x="497" y="330"/>
                </a:lnTo>
                <a:lnTo>
                  <a:pt x="495" y="344"/>
                </a:lnTo>
                <a:lnTo>
                  <a:pt x="495" y="360"/>
                </a:lnTo>
                <a:lnTo>
                  <a:pt x="495" y="376"/>
                </a:lnTo>
                <a:lnTo>
                  <a:pt x="495" y="392"/>
                </a:lnTo>
                <a:lnTo>
                  <a:pt x="495" y="410"/>
                </a:lnTo>
                <a:lnTo>
                  <a:pt x="495" y="428"/>
                </a:lnTo>
                <a:lnTo>
                  <a:pt x="495" y="448"/>
                </a:lnTo>
                <a:lnTo>
                  <a:pt x="497" y="466"/>
                </a:lnTo>
                <a:lnTo>
                  <a:pt x="497" y="488"/>
                </a:lnTo>
                <a:lnTo>
                  <a:pt x="497" y="510"/>
                </a:lnTo>
                <a:lnTo>
                  <a:pt x="498" y="531"/>
                </a:lnTo>
                <a:lnTo>
                  <a:pt x="498" y="556"/>
                </a:lnTo>
                <a:lnTo>
                  <a:pt x="499" y="579"/>
                </a:lnTo>
                <a:lnTo>
                  <a:pt x="501" y="603"/>
                </a:lnTo>
                <a:lnTo>
                  <a:pt x="501" y="629"/>
                </a:lnTo>
                <a:lnTo>
                  <a:pt x="502" y="656"/>
                </a:lnTo>
                <a:lnTo>
                  <a:pt x="504" y="684"/>
                </a:lnTo>
                <a:lnTo>
                  <a:pt x="505" y="711"/>
                </a:lnTo>
                <a:lnTo>
                  <a:pt x="507" y="740"/>
                </a:lnTo>
                <a:lnTo>
                  <a:pt x="508" y="770"/>
                </a:lnTo>
                <a:lnTo>
                  <a:pt x="510" y="800"/>
                </a:lnTo>
                <a:lnTo>
                  <a:pt x="511" y="829"/>
                </a:lnTo>
                <a:lnTo>
                  <a:pt x="512" y="858"/>
                </a:lnTo>
                <a:lnTo>
                  <a:pt x="514" y="887"/>
                </a:lnTo>
                <a:lnTo>
                  <a:pt x="517" y="914"/>
                </a:lnTo>
                <a:lnTo>
                  <a:pt x="518" y="940"/>
                </a:lnTo>
                <a:lnTo>
                  <a:pt x="520" y="966"/>
                </a:lnTo>
                <a:lnTo>
                  <a:pt x="521" y="992"/>
                </a:lnTo>
                <a:lnTo>
                  <a:pt x="522" y="1016"/>
                </a:lnTo>
                <a:lnTo>
                  <a:pt x="524" y="1041"/>
                </a:lnTo>
                <a:lnTo>
                  <a:pt x="524" y="1064"/>
                </a:lnTo>
                <a:lnTo>
                  <a:pt x="525" y="1087"/>
                </a:lnTo>
                <a:lnTo>
                  <a:pt x="527" y="1110"/>
                </a:lnTo>
                <a:lnTo>
                  <a:pt x="528" y="1132"/>
                </a:lnTo>
                <a:lnTo>
                  <a:pt x="528" y="1153"/>
                </a:lnTo>
                <a:lnTo>
                  <a:pt x="530" y="1173"/>
                </a:lnTo>
                <a:lnTo>
                  <a:pt x="531" y="1193"/>
                </a:lnTo>
                <a:lnTo>
                  <a:pt x="531" y="1212"/>
                </a:lnTo>
                <a:lnTo>
                  <a:pt x="531" y="1231"/>
                </a:lnTo>
                <a:lnTo>
                  <a:pt x="533" y="1248"/>
                </a:lnTo>
                <a:lnTo>
                  <a:pt x="533" y="1265"/>
                </a:lnTo>
                <a:lnTo>
                  <a:pt x="533" y="1283"/>
                </a:lnTo>
                <a:lnTo>
                  <a:pt x="533" y="1299"/>
                </a:lnTo>
                <a:lnTo>
                  <a:pt x="533" y="1314"/>
                </a:lnTo>
                <a:lnTo>
                  <a:pt x="533" y="1329"/>
                </a:lnTo>
                <a:lnTo>
                  <a:pt x="531" y="1343"/>
                </a:lnTo>
                <a:lnTo>
                  <a:pt x="531" y="1356"/>
                </a:lnTo>
                <a:lnTo>
                  <a:pt x="530" y="1369"/>
                </a:lnTo>
                <a:lnTo>
                  <a:pt x="530" y="1382"/>
                </a:lnTo>
                <a:lnTo>
                  <a:pt x="528" y="1394"/>
                </a:lnTo>
                <a:lnTo>
                  <a:pt x="527" y="1405"/>
                </a:lnTo>
                <a:lnTo>
                  <a:pt x="525" y="1415"/>
                </a:lnTo>
                <a:lnTo>
                  <a:pt x="522" y="1435"/>
                </a:lnTo>
                <a:lnTo>
                  <a:pt x="518" y="1454"/>
                </a:lnTo>
                <a:lnTo>
                  <a:pt x="514" y="1474"/>
                </a:lnTo>
                <a:lnTo>
                  <a:pt x="510" y="1493"/>
                </a:lnTo>
                <a:lnTo>
                  <a:pt x="504" y="1510"/>
                </a:lnTo>
                <a:lnTo>
                  <a:pt x="499" y="1529"/>
                </a:lnTo>
                <a:lnTo>
                  <a:pt x="492" y="1546"/>
                </a:lnTo>
                <a:lnTo>
                  <a:pt x="486" y="1562"/>
                </a:lnTo>
                <a:lnTo>
                  <a:pt x="479" y="1579"/>
                </a:lnTo>
                <a:lnTo>
                  <a:pt x="472" y="1595"/>
                </a:lnTo>
                <a:lnTo>
                  <a:pt x="465" y="1611"/>
                </a:lnTo>
                <a:lnTo>
                  <a:pt x="456" y="1627"/>
                </a:lnTo>
                <a:lnTo>
                  <a:pt x="449" y="1641"/>
                </a:lnTo>
                <a:lnTo>
                  <a:pt x="440" y="1656"/>
                </a:lnTo>
                <a:lnTo>
                  <a:pt x="430" y="1670"/>
                </a:lnTo>
                <a:lnTo>
                  <a:pt x="422" y="1684"/>
                </a:lnTo>
                <a:lnTo>
                  <a:pt x="412" y="1693"/>
                </a:lnTo>
                <a:lnTo>
                  <a:pt x="402" y="1703"/>
                </a:lnTo>
                <a:lnTo>
                  <a:pt x="391" y="1712"/>
                </a:lnTo>
                <a:lnTo>
                  <a:pt x="383" y="1720"/>
                </a:lnTo>
                <a:lnTo>
                  <a:pt x="373" y="1728"/>
                </a:lnTo>
                <a:lnTo>
                  <a:pt x="364" y="1735"/>
                </a:lnTo>
                <a:lnTo>
                  <a:pt x="355" y="1740"/>
                </a:lnTo>
                <a:lnTo>
                  <a:pt x="347" y="1746"/>
                </a:lnTo>
                <a:lnTo>
                  <a:pt x="340" y="1751"/>
                </a:lnTo>
                <a:lnTo>
                  <a:pt x="332" y="1755"/>
                </a:lnTo>
                <a:lnTo>
                  <a:pt x="325" y="1758"/>
                </a:lnTo>
                <a:lnTo>
                  <a:pt x="318" y="1759"/>
                </a:lnTo>
                <a:lnTo>
                  <a:pt x="312" y="1761"/>
                </a:lnTo>
                <a:lnTo>
                  <a:pt x="308" y="1759"/>
                </a:lnTo>
                <a:lnTo>
                  <a:pt x="304" y="1758"/>
                </a:lnTo>
                <a:lnTo>
                  <a:pt x="299" y="1756"/>
                </a:lnTo>
                <a:lnTo>
                  <a:pt x="296" y="1752"/>
                </a:lnTo>
                <a:lnTo>
                  <a:pt x="294" y="1748"/>
                </a:lnTo>
                <a:lnTo>
                  <a:pt x="289" y="1743"/>
                </a:lnTo>
                <a:lnTo>
                  <a:pt x="286" y="1738"/>
                </a:lnTo>
                <a:lnTo>
                  <a:pt x="284" y="1733"/>
                </a:lnTo>
                <a:lnTo>
                  <a:pt x="281" y="1726"/>
                </a:lnTo>
                <a:lnTo>
                  <a:pt x="278" y="1720"/>
                </a:lnTo>
                <a:lnTo>
                  <a:pt x="276" y="1713"/>
                </a:lnTo>
                <a:lnTo>
                  <a:pt x="273" y="1704"/>
                </a:lnTo>
                <a:lnTo>
                  <a:pt x="271" y="1696"/>
                </a:lnTo>
                <a:lnTo>
                  <a:pt x="269" y="1687"/>
                </a:lnTo>
                <a:lnTo>
                  <a:pt x="268" y="1677"/>
                </a:lnTo>
                <a:lnTo>
                  <a:pt x="266" y="1667"/>
                </a:lnTo>
                <a:lnTo>
                  <a:pt x="266" y="1656"/>
                </a:lnTo>
                <a:lnTo>
                  <a:pt x="265" y="1643"/>
                </a:lnTo>
                <a:lnTo>
                  <a:pt x="265" y="1630"/>
                </a:lnTo>
                <a:lnTo>
                  <a:pt x="262" y="1614"/>
                </a:lnTo>
                <a:lnTo>
                  <a:pt x="258" y="1598"/>
                </a:lnTo>
                <a:lnTo>
                  <a:pt x="253" y="1584"/>
                </a:lnTo>
                <a:lnTo>
                  <a:pt x="248" y="1569"/>
                </a:lnTo>
                <a:lnTo>
                  <a:pt x="242" y="1555"/>
                </a:lnTo>
                <a:lnTo>
                  <a:pt x="236" y="1542"/>
                </a:lnTo>
                <a:lnTo>
                  <a:pt x="229" y="1530"/>
                </a:lnTo>
                <a:lnTo>
                  <a:pt x="222" y="1519"/>
                </a:lnTo>
                <a:lnTo>
                  <a:pt x="213" y="1507"/>
                </a:lnTo>
                <a:lnTo>
                  <a:pt x="203" y="1496"/>
                </a:lnTo>
                <a:lnTo>
                  <a:pt x="193" y="1484"/>
                </a:lnTo>
                <a:lnTo>
                  <a:pt x="181" y="1474"/>
                </a:lnTo>
                <a:lnTo>
                  <a:pt x="168" y="1464"/>
                </a:lnTo>
                <a:lnTo>
                  <a:pt x="155" y="1454"/>
                </a:lnTo>
                <a:lnTo>
                  <a:pt x="141" y="1444"/>
                </a:lnTo>
                <a:lnTo>
                  <a:pt x="125" y="1434"/>
                </a:lnTo>
                <a:lnTo>
                  <a:pt x="109" y="1424"/>
                </a:lnTo>
                <a:lnTo>
                  <a:pt x="95" y="1414"/>
                </a:lnTo>
                <a:lnTo>
                  <a:pt x="81" y="1405"/>
                </a:lnTo>
                <a:lnTo>
                  <a:pt x="68" y="1396"/>
                </a:lnTo>
                <a:lnTo>
                  <a:pt x="55" y="1388"/>
                </a:lnTo>
                <a:lnTo>
                  <a:pt x="45" y="1381"/>
                </a:lnTo>
                <a:lnTo>
                  <a:pt x="34" y="1372"/>
                </a:lnTo>
                <a:lnTo>
                  <a:pt x="26" y="1366"/>
                </a:lnTo>
                <a:lnTo>
                  <a:pt x="19" y="1359"/>
                </a:lnTo>
                <a:lnTo>
                  <a:pt x="11" y="1353"/>
                </a:lnTo>
                <a:lnTo>
                  <a:pt x="7" y="1347"/>
                </a:lnTo>
                <a:lnTo>
                  <a:pt x="3" y="1342"/>
                </a:lnTo>
                <a:lnTo>
                  <a:pt x="1" y="1340"/>
                </a:lnTo>
                <a:lnTo>
                  <a:pt x="1" y="1337"/>
                </a:lnTo>
                <a:lnTo>
                  <a:pt x="0" y="1334"/>
                </a:lnTo>
                <a:lnTo>
                  <a:pt x="0" y="1333"/>
                </a:lnTo>
                <a:lnTo>
                  <a:pt x="0" y="1330"/>
                </a:lnTo>
                <a:lnTo>
                  <a:pt x="1" y="1329"/>
                </a:lnTo>
                <a:lnTo>
                  <a:pt x="3" y="1327"/>
                </a:lnTo>
                <a:lnTo>
                  <a:pt x="4" y="1326"/>
                </a:lnTo>
                <a:lnTo>
                  <a:pt x="7" y="1322"/>
                </a:lnTo>
                <a:lnTo>
                  <a:pt x="11" y="1319"/>
                </a:lnTo>
                <a:lnTo>
                  <a:pt x="16" y="1317"/>
                </a:lnTo>
                <a:lnTo>
                  <a:pt x="20" y="1314"/>
                </a:lnTo>
                <a:lnTo>
                  <a:pt x="26" y="1313"/>
                </a:lnTo>
                <a:lnTo>
                  <a:pt x="33" y="1313"/>
                </a:lnTo>
                <a:lnTo>
                  <a:pt x="39" y="1311"/>
                </a:lnTo>
                <a:lnTo>
                  <a:pt x="47" y="1311"/>
                </a:lnTo>
                <a:lnTo>
                  <a:pt x="56" y="1311"/>
                </a:lnTo>
                <a:lnTo>
                  <a:pt x="65" y="1313"/>
                </a:lnTo>
                <a:lnTo>
                  <a:pt x="75" y="1313"/>
                </a:lnTo>
                <a:lnTo>
                  <a:pt x="86" y="1314"/>
                </a:lnTo>
                <a:lnTo>
                  <a:pt x="99" y="1317"/>
                </a:lnTo>
                <a:lnTo>
                  <a:pt x="112" y="1319"/>
                </a:lnTo>
                <a:lnTo>
                  <a:pt x="127" y="1322"/>
                </a:lnTo>
                <a:lnTo>
                  <a:pt x="142" y="1326"/>
                </a:lnTo>
                <a:lnTo>
                  <a:pt x="158" y="1329"/>
                </a:lnTo>
                <a:lnTo>
                  <a:pt x="174" y="1330"/>
                </a:lnTo>
                <a:lnTo>
                  <a:pt x="188" y="1332"/>
                </a:lnTo>
                <a:lnTo>
                  <a:pt x="201" y="1333"/>
                </a:lnTo>
                <a:lnTo>
                  <a:pt x="214" y="1333"/>
                </a:lnTo>
                <a:lnTo>
                  <a:pt x="227" y="1332"/>
                </a:lnTo>
                <a:lnTo>
                  <a:pt x="239" y="1330"/>
                </a:lnTo>
                <a:lnTo>
                  <a:pt x="249" y="1329"/>
                </a:lnTo>
                <a:lnTo>
                  <a:pt x="259" y="1326"/>
                </a:lnTo>
                <a:lnTo>
                  <a:pt x="269" y="1322"/>
                </a:lnTo>
                <a:lnTo>
                  <a:pt x="279" y="1317"/>
                </a:lnTo>
                <a:lnTo>
                  <a:pt x="286" y="1313"/>
                </a:lnTo>
                <a:lnTo>
                  <a:pt x="295" y="1309"/>
                </a:lnTo>
                <a:lnTo>
                  <a:pt x="302" y="1303"/>
                </a:lnTo>
                <a:lnTo>
                  <a:pt x="309" y="1297"/>
                </a:lnTo>
                <a:lnTo>
                  <a:pt x="317" y="1290"/>
                </a:lnTo>
                <a:lnTo>
                  <a:pt x="318" y="1286"/>
                </a:lnTo>
                <a:lnTo>
                  <a:pt x="320" y="1283"/>
                </a:lnTo>
                <a:lnTo>
                  <a:pt x="321" y="1277"/>
                </a:lnTo>
                <a:lnTo>
                  <a:pt x="322" y="1273"/>
                </a:lnTo>
                <a:lnTo>
                  <a:pt x="325" y="1267"/>
                </a:lnTo>
                <a:lnTo>
                  <a:pt x="327" y="1260"/>
                </a:lnTo>
                <a:lnTo>
                  <a:pt x="328" y="1254"/>
                </a:lnTo>
                <a:lnTo>
                  <a:pt x="330" y="1245"/>
                </a:lnTo>
                <a:lnTo>
                  <a:pt x="331" y="1238"/>
                </a:lnTo>
                <a:lnTo>
                  <a:pt x="332" y="1229"/>
                </a:lnTo>
                <a:lnTo>
                  <a:pt x="334" y="1221"/>
                </a:lnTo>
                <a:lnTo>
                  <a:pt x="335" y="1211"/>
                </a:lnTo>
                <a:lnTo>
                  <a:pt x="337" y="1201"/>
                </a:lnTo>
                <a:lnTo>
                  <a:pt x="338" y="1191"/>
                </a:lnTo>
                <a:lnTo>
                  <a:pt x="340" y="1179"/>
                </a:lnTo>
                <a:lnTo>
                  <a:pt x="341" y="1166"/>
                </a:lnTo>
                <a:lnTo>
                  <a:pt x="341" y="1155"/>
                </a:lnTo>
                <a:lnTo>
                  <a:pt x="343" y="1142"/>
                </a:lnTo>
                <a:lnTo>
                  <a:pt x="344" y="1127"/>
                </a:lnTo>
                <a:lnTo>
                  <a:pt x="345" y="1113"/>
                </a:lnTo>
                <a:lnTo>
                  <a:pt x="345" y="1098"/>
                </a:lnTo>
                <a:lnTo>
                  <a:pt x="347" y="1083"/>
                </a:lnTo>
                <a:lnTo>
                  <a:pt x="347" y="1067"/>
                </a:lnTo>
                <a:lnTo>
                  <a:pt x="348" y="1051"/>
                </a:lnTo>
                <a:lnTo>
                  <a:pt x="348" y="1034"/>
                </a:lnTo>
                <a:lnTo>
                  <a:pt x="350" y="1015"/>
                </a:lnTo>
                <a:lnTo>
                  <a:pt x="350" y="998"/>
                </a:lnTo>
                <a:lnTo>
                  <a:pt x="350" y="977"/>
                </a:lnTo>
                <a:lnTo>
                  <a:pt x="351" y="959"/>
                </a:lnTo>
                <a:lnTo>
                  <a:pt x="351" y="939"/>
                </a:lnTo>
                <a:lnTo>
                  <a:pt x="351" y="917"/>
                </a:lnTo>
                <a:lnTo>
                  <a:pt x="351" y="895"/>
                </a:lnTo>
                <a:lnTo>
                  <a:pt x="351" y="855"/>
                </a:lnTo>
                <a:lnTo>
                  <a:pt x="350" y="816"/>
                </a:lnTo>
                <a:lnTo>
                  <a:pt x="350" y="779"/>
                </a:lnTo>
                <a:lnTo>
                  <a:pt x="348" y="741"/>
                </a:lnTo>
                <a:lnTo>
                  <a:pt x="347" y="705"/>
                </a:lnTo>
                <a:lnTo>
                  <a:pt x="345" y="669"/>
                </a:lnTo>
                <a:lnTo>
                  <a:pt x="343" y="635"/>
                </a:lnTo>
                <a:lnTo>
                  <a:pt x="341" y="600"/>
                </a:lnTo>
                <a:lnTo>
                  <a:pt x="338" y="567"/>
                </a:lnTo>
                <a:lnTo>
                  <a:pt x="335" y="534"/>
                </a:lnTo>
                <a:lnTo>
                  <a:pt x="332" y="504"/>
                </a:lnTo>
                <a:lnTo>
                  <a:pt x="330" y="472"/>
                </a:lnTo>
                <a:lnTo>
                  <a:pt x="327" y="443"/>
                </a:lnTo>
                <a:lnTo>
                  <a:pt x="322" y="415"/>
                </a:lnTo>
                <a:lnTo>
                  <a:pt x="320" y="386"/>
                </a:lnTo>
                <a:lnTo>
                  <a:pt x="317" y="3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103"/>
          <p:cNvSpPr/>
          <p:nvPr/>
        </p:nvSpPr>
        <p:spPr>
          <a:xfrm>
            <a:off x="6546960" y="4433760"/>
            <a:ext cx="131760" cy="168480"/>
          </a:xfrm>
          <a:custGeom>
            <a:avLst/>
            <a:gdLst/>
            <a:ahLst/>
            <a:rect l="l" t="t" r="r" b="b"/>
            <a:pathLst>
              <a:path w="250" h="317">
                <a:moveTo>
                  <a:pt x="59" y="196"/>
                </a:moveTo>
                <a:lnTo>
                  <a:pt x="55" y="184"/>
                </a:lnTo>
                <a:lnTo>
                  <a:pt x="50" y="173"/>
                </a:lnTo>
                <a:lnTo>
                  <a:pt x="46" y="163"/>
                </a:lnTo>
                <a:lnTo>
                  <a:pt x="42" y="153"/>
                </a:lnTo>
                <a:lnTo>
                  <a:pt x="37" y="143"/>
                </a:lnTo>
                <a:lnTo>
                  <a:pt x="33" y="133"/>
                </a:lnTo>
                <a:lnTo>
                  <a:pt x="30" y="124"/>
                </a:lnTo>
                <a:lnTo>
                  <a:pt x="26" y="115"/>
                </a:lnTo>
                <a:lnTo>
                  <a:pt x="23" y="107"/>
                </a:lnTo>
                <a:lnTo>
                  <a:pt x="20" y="98"/>
                </a:lnTo>
                <a:lnTo>
                  <a:pt x="14" y="84"/>
                </a:lnTo>
                <a:lnTo>
                  <a:pt x="10" y="69"/>
                </a:lnTo>
                <a:lnTo>
                  <a:pt x="7" y="58"/>
                </a:lnTo>
                <a:lnTo>
                  <a:pt x="4" y="46"/>
                </a:lnTo>
                <a:lnTo>
                  <a:pt x="1" y="36"/>
                </a:lnTo>
                <a:lnTo>
                  <a:pt x="0" y="27"/>
                </a:lnTo>
                <a:lnTo>
                  <a:pt x="0" y="20"/>
                </a:lnTo>
                <a:lnTo>
                  <a:pt x="0" y="13"/>
                </a:lnTo>
                <a:lnTo>
                  <a:pt x="1" y="7"/>
                </a:lnTo>
                <a:lnTo>
                  <a:pt x="4" y="3"/>
                </a:lnTo>
                <a:lnTo>
                  <a:pt x="7" y="0"/>
                </a:lnTo>
                <a:lnTo>
                  <a:pt x="13" y="0"/>
                </a:lnTo>
                <a:lnTo>
                  <a:pt x="20" y="0"/>
                </a:lnTo>
                <a:lnTo>
                  <a:pt x="27" y="0"/>
                </a:lnTo>
                <a:lnTo>
                  <a:pt x="32" y="0"/>
                </a:lnTo>
                <a:lnTo>
                  <a:pt x="37" y="0"/>
                </a:lnTo>
                <a:lnTo>
                  <a:pt x="42" y="0"/>
                </a:lnTo>
                <a:lnTo>
                  <a:pt x="47" y="0"/>
                </a:lnTo>
                <a:lnTo>
                  <a:pt x="53" y="0"/>
                </a:lnTo>
                <a:lnTo>
                  <a:pt x="60" y="0"/>
                </a:lnTo>
                <a:lnTo>
                  <a:pt x="67" y="0"/>
                </a:lnTo>
                <a:lnTo>
                  <a:pt x="75" y="0"/>
                </a:lnTo>
                <a:lnTo>
                  <a:pt x="83" y="0"/>
                </a:lnTo>
                <a:lnTo>
                  <a:pt x="93" y="0"/>
                </a:lnTo>
                <a:lnTo>
                  <a:pt x="103" y="3"/>
                </a:lnTo>
                <a:lnTo>
                  <a:pt x="112" y="6"/>
                </a:lnTo>
                <a:lnTo>
                  <a:pt x="129" y="13"/>
                </a:lnTo>
                <a:lnTo>
                  <a:pt x="145" y="19"/>
                </a:lnTo>
                <a:lnTo>
                  <a:pt x="161" y="26"/>
                </a:lnTo>
                <a:lnTo>
                  <a:pt x="175" y="33"/>
                </a:lnTo>
                <a:lnTo>
                  <a:pt x="188" y="39"/>
                </a:lnTo>
                <a:lnTo>
                  <a:pt x="201" y="46"/>
                </a:lnTo>
                <a:lnTo>
                  <a:pt x="216" y="53"/>
                </a:lnTo>
                <a:lnTo>
                  <a:pt x="222" y="66"/>
                </a:lnTo>
                <a:lnTo>
                  <a:pt x="227" y="79"/>
                </a:lnTo>
                <a:lnTo>
                  <a:pt x="234" y="94"/>
                </a:lnTo>
                <a:lnTo>
                  <a:pt x="239" y="110"/>
                </a:lnTo>
                <a:lnTo>
                  <a:pt x="243" y="124"/>
                </a:lnTo>
                <a:lnTo>
                  <a:pt x="247" y="141"/>
                </a:lnTo>
                <a:lnTo>
                  <a:pt x="249" y="150"/>
                </a:lnTo>
                <a:lnTo>
                  <a:pt x="249" y="159"/>
                </a:lnTo>
                <a:lnTo>
                  <a:pt x="250" y="169"/>
                </a:lnTo>
                <a:lnTo>
                  <a:pt x="250" y="179"/>
                </a:lnTo>
                <a:lnTo>
                  <a:pt x="250" y="187"/>
                </a:lnTo>
                <a:lnTo>
                  <a:pt x="249" y="197"/>
                </a:lnTo>
                <a:lnTo>
                  <a:pt x="249" y="206"/>
                </a:lnTo>
                <a:lnTo>
                  <a:pt x="247" y="215"/>
                </a:lnTo>
                <a:lnTo>
                  <a:pt x="243" y="232"/>
                </a:lnTo>
                <a:lnTo>
                  <a:pt x="239" y="248"/>
                </a:lnTo>
                <a:lnTo>
                  <a:pt x="234" y="262"/>
                </a:lnTo>
                <a:lnTo>
                  <a:pt x="227" y="277"/>
                </a:lnTo>
                <a:lnTo>
                  <a:pt x="222" y="290"/>
                </a:lnTo>
                <a:lnTo>
                  <a:pt x="216" y="304"/>
                </a:lnTo>
                <a:lnTo>
                  <a:pt x="211" y="307"/>
                </a:lnTo>
                <a:lnTo>
                  <a:pt x="209" y="310"/>
                </a:lnTo>
                <a:lnTo>
                  <a:pt x="204" y="311"/>
                </a:lnTo>
                <a:lnTo>
                  <a:pt x="201" y="314"/>
                </a:lnTo>
                <a:lnTo>
                  <a:pt x="197" y="315"/>
                </a:lnTo>
                <a:lnTo>
                  <a:pt x="194" y="317"/>
                </a:lnTo>
                <a:lnTo>
                  <a:pt x="190" y="317"/>
                </a:lnTo>
                <a:lnTo>
                  <a:pt x="186" y="317"/>
                </a:lnTo>
                <a:lnTo>
                  <a:pt x="181" y="317"/>
                </a:lnTo>
                <a:lnTo>
                  <a:pt x="177" y="317"/>
                </a:lnTo>
                <a:lnTo>
                  <a:pt x="173" y="315"/>
                </a:lnTo>
                <a:lnTo>
                  <a:pt x="168" y="314"/>
                </a:lnTo>
                <a:lnTo>
                  <a:pt x="164" y="313"/>
                </a:lnTo>
                <a:lnTo>
                  <a:pt x="160" y="310"/>
                </a:lnTo>
                <a:lnTo>
                  <a:pt x="154" y="307"/>
                </a:lnTo>
                <a:lnTo>
                  <a:pt x="150" y="304"/>
                </a:lnTo>
                <a:lnTo>
                  <a:pt x="145" y="300"/>
                </a:lnTo>
                <a:lnTo>
                  <a:pt x="139" y="297"/>
                </a:lnTo>
                <a:lnTo>
                  <a:pt x="135" y="292"/>
                </a:lnTo>
                <a:lnTo>
                  <a:pt x="129" y="287"/>
                </a:lnTo>
                <a:lnTo>
                  <a:pt x="124" y="282"/>
                </a:lnTo>
                <a:lnTo>
                  <a:pt x="118" y="277"/>
                </a:lnTo>
                <a:lnTo>
                  <a:pt x="114" y="269"/>
                </a:lnTo>
                <a:lnTo>
                  <a:pt x="108" y="264"/>
                </a:lnTo>
                <a:lnTo>
                  <a:pt x="102" y="256"/>
                </a:lnTo>
                <a:lnTo>
                  <a:pt x="96" y="249"/>
                </a:lnTo>
                <a:lnTo>
                  <a:pt x="91" y="242"/>
                </a:lnTo>
                <a:lnTo>
                  <a:pt x="83" y="233"/>
                </a:lnTo>
                <a:lnTo>
                  <a:pt x="78" y="225"/>
                </a:lnTo>
                <a:lnTo>
                  <a:pt x="72" y="215"/>
                </a:lnTo>
                <a:lnTo>
                  <a:pt x="65" y="206"/>
                </a:lnTo>
                <a:lnTo>
                  <a:pt x="59" y="1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104"/>
          <p:cNvSpPr/>
          <p:nvPr/>
        </p:nvSpPr>
        <p:spPr>
          <a:xfrm>
            <a:off x="6356520" y="4629240"/>
            <a:ext cx="396720" cy="260280"/>
          </a:xfrm>
          <a:custGeom>
            <a:avLst/>
            <a:gdLst/>
            <a:ahLst/>
            <a:rect l="l" t="t" r="r" b="b"/>
            <a:pathLst>
              <a:path w="749" h="491">
                <a:moveTo>
                  <a:pt x="175" y="491"/>
                </a:moveTo>
                <a:lnTo>
                  <a:pt x="167" y="489"/>
                </a:lnTo>
                <a:lnTo>
                  <a:pt x="160" y="488"/>
                </a:lnTo>
                <a:lnTo>
                  <a:pt x="154" y="486"/>
                </a:lnTo>
                <a:lnTo>
                  <a:pt x="147" y="483"/>
                </a:lnTo>
                <a:lnTo>
                  <a:pt x="141" y="481"/>
                </a:lnTo>
                <a:lnTo>
                  <a:pt x="134" y="476"/>
                </a:lnTo>
                <a:lnTo>
                  <a:pt x="129" y="470"/>
                </a:lnTo>
                <a:lnTo>
                  <a:pt x="121" y="465"/>
                </a:lnTo>
                <a:lnTo>
                  <a:pt x="116" y="459"/>
                </a:lnTo>
                <a:lnTo>
                  <a:pt x="108" y="452"/>
                </a:lnTo>
                <a:lnTo>
                  <a:pt x="103" y="445"/>
                </a:lnTo>
                <a:lnTo>
                  <a:pt x="95" y="437"/>
                </a:lnTo>
                <a:lnTo>
                  <a:pt x="90" y="429"/>
                </a:lnTo>
                <a:lnTo>
                  <a:pt x="82" y="419"/>
                </a:lnTo>
                <a:lnTo>
                  <a:pt x="77" y="410"/>
                </a:lnTo>
                <a:lnTo>
                  <a:pt x="69" y="400"/>
                </a:lnTo>
                <a:lnTo>
                  <a:pt x="61" y="390"/>
                </a:lnTo>
                <a:lnTo>
                  <a:pt x="52" y="380"/>
                </a:lnTo>
                <a:lnTo>
                  <a:pt x="44" y="370"/>
                </a:lnTo>
                <a:lnTo>
                  <a:pt x="36" y="360"/>
                </a:lnTo>
                <a:lnTo>
                  <a:pt x="31" y="351"/>
                </a:lnTo>
                <a:lnTo>
                  <a:pt x="25" y="341"/>
                </a:lnTo>
                <a:lnTo>
                  <a:pt x="19" y="332"/>
                </a:lnTo>
                <a:lnTo>
                  <a:pt x="15" y="324"/>
                </a:lnTo>
                <a:lnTo>
                  <a:pt x="12" y="315"/>
                </a:lnTo>
                <a:lnTo>
                  <a:pt x="8" y="308"/>
                </a:lnTo>
                <a:lnTo>
                  <a:pt x="6" y="301"/>
                </a:lnTo>
                <a:lnTo>
                  <a:pt x="3" y="295"/>
                </a:lnTo>
                <a:lnTo>
                  <a:pt x="2" y="288"/>
                </a:lnTo>
                <a:lnTo>
                  <a:pt x="0" y="283"/>
                </a:lnTo>
                <a:lnTo>
                  <a:pt x="0" y="279"/>
                </a:lnTo>
                <a:lnTo>
                  <a:pt x="0" y="275"/>
                </a:lnTo>
                <a:lnTo>
                  <a:pt x="0" y="272"/>
                </a:lnTo>
                <a:lnTo>
                  <a:pt x="0" y="267"/>
                </a:lnTo>
                <a:lnTo>
                  <a:pt x="2" y="265"/>
                </a:lnTo>
                <a:lnTo>
                  <a:pt x="3" y="262"/>
                </a:lnTo>
                <a:lnTo>
                  <a:pt x="5" y="259"/>
                </a:lnTo>
                <a:lnTo>
                  <a:pt x="8" y="256"/>
                </a:lnTo>
                <a:lnTo>
                  <a:pt x="10" y="253"/>
                </a:lnTo>
                <a:lnTo>
                  <a:pt x="15" y="250"/>
                </a:lnTo>
                <a:lnTo>
                  <a:pt x="19" y="247"/>
                </a:lnTo>
                <a:lnTo>
                  <a:pt x="25" y="246"/>
                </a:lnTo>
                <a:lnTo>
                  <a:pt x="31" y="243"/>
                </a:lnTo>
                <a:lnTo>
                  <a:pt x="36" y="242"/>
                </a:lnTo>
                <a:lnTo>
                  <a:pt x="44" y="240"/>
                </a:lnTo>
                <a:lnTo>
                  <a:pt x="51" y="240"/>
                </a:lnTo>
                <a:lnTo>
                  <a:pt x="59" y="239"/>
                </a:lnTo>
                <a:lnTo>
                  <a:pt x="69" y="239"/>
                </a:lnTo>
                <a:lnTo>
                  <a:pt x="80" y="242"/>
                </a:lnTo>
                <a:lnTo>
                  <a:pt x="88" y="244"/>
                </a:lnTo>
                <a:lnTo>
                  <a:pt x="97" y="247"/>
                </a:lnTo>
                <a:lnTo>
                  <a:pt x="105" y="249"/>
                </a:lnTo>
                <a:lnTo>
                  <a:pt x="113" y="250"/>
                </a:lnTo>
                <a:lnTo>
                  <a:pt x="121" y="252"/>
                </a:lnTo>
                <a:lnTo>
                  <a:pt x="129" y="253"/>
                </a:lnTo>
                <a:lnTo>
                  <a:pt x="134" y="253"/>
                </a:lnTo>
                <a:lnTo>
                  <a:pt x="141" y="253"/>
                </a:lnTo>
                <a:lnTo>
                  <a:pt x="147" y="252"/>
                </a:lnTo>
                <a:lnTo>
                  <a:pt x="153" y="250"/>
                </a:lnTo>
                <a:lnTo>
                  <a:pt x="157" y="249"/>
                </a:lnTo>
                <a:lnTo>
                  <a:pt x="162" y="247"/>
                </a:lnTo>
                <a:lnTo>
                  <a:pt x="166" y="244"/>
                </a:lnTo>
                <a:lnTo>
                  <a:pt x="170" y="242"/>
                </a:lnTo>
                <a:lnTo>
                  <a:pt x="175" y="239"/>
                </a:lnTo>
                <a:lnTo>
                  <a:pt x="176" y="239"/>
                </a:lnTo>
                <a:lnTo>
                  <a:pt x="177" y="239"/>
                </a:lnTo>
                <a:lnTo>
                  <a:pt x="182" y="237"/>
                </a:lnTo>
                <a:lnTo>
                  <a:pt x="185" y="236"/>
                </a:lnTo>
                <a:lnTo>
                  <a:pt x="189" y="234"/>
                </a:lnTo>
                <a:lnTo>
                  <a:pt x="193" y="233"/>
                </a:lnTo>
                <a:lnTo>
                  <a:pt x="198" y="231"/>
                </a:lnTo>
                <a:lnTo>
                  <a:pt x="203" y="229"/>
                </a:lnTo>
                <a:lnTo>
                  <a:pt x="209" y="227"/>
                </a:lnTo>
                <a:lnTo>
                  <a:pt x="216" y="224"/>
                </a:lnTo>
                <a:lnTo>
                  <a:pt x="222" y="221"/>
                </a:lnTo>
                <a:lnTo>
                  <a:pt x="231" y="217"/>
                </a:lnTo>
                <a:lnTo>
                  <a:pt x="238" y="214"/>
                </a:lnTo>
                <a:lnTo>
                  <a:pt x="247" y="210"/>
                </a:lnTo>
                <a:lnTo>
                  <a:pt x="255" y="206"/>
                </a:lnTo>
                <a:lnTo>
                  <a:pt x="265" y="201"/>
                </a:lnTo>
                <a:lnTo>
                  <a:pt x="275" y="197"/>
                </a:lnTo>
                <a:lnTo>
                  <a:pt x="285" y="191"/>
                </a:lnTo>
                <a:lnTo>
                  <a:pt x="297" y="187"/>
                </a:lnTo>
                <a:lnTo>
                  <a:pt x="308" y="181"/>
                </a:lnTo>
                <a:lnTo>
                  <a:pt x="321" y="175"/>
                </a:lnTo>
                <a:lnTo>
                  <a:pt x="333" y="170"/>
                </a:lnTo>
                <a:lnTo>
                  <a:pt x="346" y="162"/>
                </a:lnTo>
                <a:lnTo>
                  <a:pt x="360" y="157"/>
                </a:lnTo>
                <a:lnTo>
                  <a:pt x="375" y="149"/>
                </a:lnTo>
                <a:lnTo>
                  <a:pt x="389" y="142"/>
                </a:lnTo>
                <a:lnTo>
                  <a:pt x="403" y="135"/>
                </a:lnTo>
                <a:lnTo>
                  <a:pt x="419" y="128"/>
                </a:lnTo>
                <a:lnTo>
                  <a:pt x="435" y="121"/>
                </a:lnTo>
                <a:lnTo>
                  <a:pt x="452" y="112"/>
                </a:lnTo>
                <a:lnTo>
                  <a:pt x="470" y="103"/>
                </a:lnTo>
                <a:lnTo>
                  <a:pt x="487" y="96"/>
                </a:lnTo>
                <a:lnTo>
                  <a:pt x="503" y="87"/>
                </a:lnTo>
                <a:lnTo>
                  <a:pt x="519" y="79"/>
                </a:lnTo>
                <a:lnTo>
                  <a:pt x="533" y="72"/>
                </a:lnTo>
                <a:lnTo>
                  <a:pt x="547" y="64"/>
                </a:lnTo>
                <a:lnTo>
                  <a:pt x="562" y="59"/>
                </a:lnTo>
                <a:lnTo>
                  <a:pt x="576" y="52"/>
                </a:lnTo>
                <a:lnTo>
                  <a:pt x="589" y="46"/>
                </a:lnTo>
                <a:lnTo>
                  <a:pt x="601" y="40"/>
                </a:lnTo>
                <a:lnTo>
                  <a:pt x="614" y="36"/>
                </a:lnTo>
                <a:lnTo>
                  <a:pt x="625" y="31"/>
                </a:lnTo>
                <a:lnTo>
                  <a:pt x="635" y="27"/>
                </a:lnTo>
                <a:lnTo>
                  <a:pt x="645" y="23"/>
                </a:lnTo>
                <a:lnTo>
                  <a:pt x="655" y="18"/>
                </a:lnTo>
                <a:lnTo>
                  <a:pt x="665" y="16"/>
                </a:lnTo>
                <a:lnTo>
                  <a:pt x="674" y="13"/>
                </a:lnTo>
                <a:lnTo>
                  <a:pt x="683" y="10"/>
                </a:lnTo>
                <a:lnTo>
                  <a:pt x="690" y="8"/>
                </a:lnTo>
                <a:lnTo>
                  <a:pt x="699" y="5"/>
                </a:lnTo>
                <a:lnTo>
                  <a:pt x="704" y="4"/>
                </a:lnTo>
                <a:lnTo>
                  <a:pt x="712" y="3"/>
                </a:lnTo>
                <a:lnTo>
                  <a:pt x="717" y="1"/>
                </a:lnTo>
                <a:lnTo>
                  <a:pt x="723" y="1"/>
                </a:lnTo>
                <a:lnTo>
                  <a:pt x="727" y="0"/>
                </a:lnTo>
                <a:lnTo>
                  <a:pt x="732" y="0"/>
                </a:lnTo>
                <a:lnTo>
                  <a:pt x="736" y="0"/>
                </a:lnTo>
                <a:lnTo>
                  <a:pt x="739" y="0"/>
                </a:lnTo>
                <a:lnTo>
                  <a:pt x="742" y="1"/>
                </a:lnTo>
                <a:lnTo>
                  <a:pt x="745" y="1"/>
                </a:lnTo>
                <a:lnTo>
                  <a:pt x="746" y="3"/>
                </a:lnTo>
                <a:lnTo>
                  <a:pt x="748" y="3"/>
                </a:lnTo>
                <a:lnTo>
                  <a:pt x="748" y="4"/>
                </a:lnTo>
                <a:lnTo>
                  <a:pt x="749" y="7"/>
                </a:lnTo>
                <a:lnTo>
                  <a:pt x="748" y="10"/>
                </a:lnTo>
                <a:lnTo>
                  <a:pt x="748" y="14"/>
                </a:lnTo>
                <a:lnTo>
                  <a:pt x="746" y="18"/>
                </a:lnTo>
                <a:lnTo>
                  <a:pt x="745" y="23"/>
                </a:lnTo>
                <a:lnTo>
                  <a:pt x="742" y="27"/>
                </a:lnTo>
                <a:lnTo>
                  <a:pt x="739" y="31"/>
                </a:lnTo>
                <a:lnTo>
                  <a:pt x="736" y="37"/>
                </a:lnTo>
                <a:lnTo>
                  <a:pt x="732" y="43"/>
                </a:lnTo>
                <a:lnTo>
                  <a:pt x="727" y="49"/>
                </a:lnTo>
                <a:lnTo>
                  <a:pt x="723" y="56"/>
                </a:lnTo>
                <a:lnTo>
                  <a:pt x="717" y="62"/>
                </a:lnTo>
                <a:lnTo>
                  <a:pt x="712" y="69"/>
                </a:lnTo>
                <a:lnTo>
                  <a:pt x="706" y="76"/>
                </a:lnTo>
                <a:lnTo>
                  <a:pt x="700" y="83"/>
                </a:lnTo>
                <a:lnTo>
                  <a:pt x="693" y="92"/>
                </a:lnTo>
                <a:lnTo>
                  <a:pt x="684" y="99"/>
                </a:lnTo>
                <a:lnTo>
                  <a:pt x="677" y="108"/>
                </a:lnTo>
                <a:lnTo>
                  <a:pt x="668" y="118"/>
                </a:lnTo>
                <a:lnTo>
                  <a:pt x="660" y="126"/>
                </a:lnTo>
                <a:lnTo>
                  <a:pt x="650" y="135"/>
                </a:lnTo>
                <a:lnTo>
                  <a:pt x="640" y="145"/>
                </a:lnTo>
                <a:lnTo>
                  <a:pt x="629" y="155"/>
                </a:lnTo>
                <a:lnTo>
                  <a:pt x="619" y="167"/>
                </a:lnTo>
                <a:lnTo>
                  <a:pt x="608" y="177"/>
                </a:lnTo>
                <a:lnTo>
                  <a:pt x="596" y="188"/>
                </a:lnTo>
                <a:lnTo>
                  <a:pt x="585" y="200"/>
                </a:lnTo>
                <a:lnTo>
                  <a:pt x="572" y="211"/>
                </a:lnTo>
                <a:lnTo>
                  <a:pt x="560" y="223"/>
                </a:lnTo>
                <a:lnTo>
                  <a:pt x="547" y="236"/>
                </a:lnTo>
                <a:lnTo>
                  <a:pt x="533" y="249"/>
                </a:lnTo>
                <a:lnTo>
                  <a:pt x="519" y="262"/>
                </a:lnTo>
                <a:lnTo>
                  <a:pt x="506" y="275"/>
                </a:lnTo>
                <a:lnTo>
                  <a:pt x="488" y="288"/>
                </a:lnTo>
                <a:lnTo>
                  <a:pt x="474" y="301"/>
                </a:lnTo>
                <a:lnTo>
                  <a:pt x="458" y="314"/>
                </a:lnTo>
                <a:lnTo>
                  <a:pt x="444" y="325"/>
                </a:lnTo>
                <a:lnTo>
                  <a:pt x="429" y="338"/>
                </a:lnTo>
                <a:lnTo>
                  <a:pt x="415" y="348"/>
                </a:lnTo>
                <a:lnTo>
                  <a:pt x="401" y="360"/>
                </a:lnTo>
                <a:lnTo>
                  <a:pt x="388" y="370"/>
                </a:lnTo>
                <a:lnTo>
                  <a:pt x="375" y="380"/>
                </a:lnTo>
                <a:lnTo>
                  <a:pt x="362" y="388"/>
                </a:lnTo>
                <a:lnTo>
                  <a:pt x="350" y="398"/>
                </a:lnTo>
                <a:lnTo>
                  <a:pt x="339" y="407"/>
                </a:lnTo>
                <a:lnTo>
                  <a:pt x="327" y="414"/>
                </a:lnTo>
                <a:lnTo>
                  <a:pt x="316" y="423"/>
                </a:lnTo>
                <a:lnTo>
                  <a:pt x="304" y="430"/>
                </a:lnTo>
                <a:lnTo>
                  <a:pt x="294" y="437"/>
                </a:lnTo>
                <a:lnTo>
                  <a:pt x="284" y="443"/>
                </a:lnTo>
                <a:lnTo>
                  <a:pt x="274" y="449"/>
                </a:lnTo>
                <a:lnTo>
                  <a:pt x="265" y="455"/>
                </a:lnTo>
                <a:lnTo>
                  <a:pt x="257" y="460"/>
                </a:lnTo>
                <a:lnTo>
                  <a:pt x="248" y="465"/>
                </a:lnTo>
                <a:lnTo>
                  <a:pt x="239" y="469"/>
                </a:lnTo>
                <a:lnTo>
                  <a:pt x="231" y="473"/>
                </a:lnTo>
                <a:lnTo>
                  <a:pt x="224" y="476"/>
                </a:lnTo>
                <a:lnTo>
                  <a:pt x="216" y="481"/>
                </a:lnTo>
                <a:lnTo>
                  <a:pt x="209" y="482"/>
                </a:lnTo>
                <a:lnTo>
                  <a:pt x="202" y="485"/>
                </a:lnTo>
                <a:lnTo>
                  <a:pt x="196" y="486"/>
                </a:lnTo>
                <a:lnTo>
                  <a:pt x="190" y="488"/>
                </a:lnTo>
                <a:lnTo>
                  <a:pt x="185" y="489"/>
                </a:lnTo>
                <a:lnTo>
                  <a:pt x="179" y="489"/>
                </a:lnTo>
                <a:lnTo>
                  <a:pt x="175" y="49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105"/>
          <p:cNvSpPr/>
          <p:nvPr/>
        </p:nvSpPr>
        <p:spPr>
          <a:xfrm>
            <a:off x="6943680" y="4344840"/>
            <a:ext cx="270000" cy="227160"/>
          </a:xfrm>
          <a:custGeom>
            <a:avLst/>
            <a:gdLst/>
            <a:ahLst/>
            <a:rect l="l" t="t" r="r" b="b"/>
            <a:pathLst>
              <a:path w="508" h="430">
                <a:moveTo>
                  <a:pt x="265" y="60"/>
                </a:moveTo>
                <a:lnTo>
                  <a:pt x="268" y="50"/>
                </a:lnTo>
                <a:lnTo>
                  <a:pt x="271" y="41"/>
                </a:lnTo>
                <a:lnTo>
                  <a:pt x="274" y="33"/>
                </a:lnTo>
                <a:lnTo>
                  <a:pt x="278" y="26"/>
                </a:lnTo>
                <a:lnTo>
                  <a:pt x="281" y="20"/>
                </a:lnTo>
                <a:lnTo>
                  <a:pt x="285" y="14"/>
                </a:lnTo>
                <a:lnTo>
                  <a:pt x="288" y="10"/>
                </a:lnTo>
                <a:lnTo>
                  <a:pt x="293" y="5"/>
                </a:lnTo>
                <a:lnTo>
                  <a:pt x="297" y="3"/>
                </a:lnTo>
                <a:lnTo>
                  <a:pt x="301" y="1"/>
                </a:lnTo>
                <a:lnTo>
                  <a:pt x="307" y="0"/>
                </a:lnTo>
                <a:lnTo>
                  <a:pt x="311" y="0"/>
                </a:lnTo>
                <a:lnTo>
                  <a:pt x="317" y="0"/>
                </a:lnTo>
                <a:lnTo>
                  <a:pt x="323" y="1"/>
                </a:lnTo>
                <a:lnTo>
                  <a:pt x="329" y="3"/>
                </a:lnTo>
                <a:lnTo>
                  <a:pt x="334" y="7"/>
                </a:lnTo>
                <a:lnTo>
                  <a:pt x="337" y="10"/>
                </a:lnTo>
                <a:lnTo>
                  <a:pt x="341" y="14"/>
                </a:lnTo>
                <a:lnTo>
                  <a:pt x="346" y="18"/>
                </a:lnTo>
                <a:lnTo>
                  <a:pt x="350" y="23"/>
                </a:lnTo>
                <a:lnTo>
                  <a:pt x="356" y="29"/>
                </a:lnTo>
                <a:lnTo>
                  <a:pt x="362" y="34"/>
                </a:lnTo>
                <a:lnTo>
                  <a:pt x="367" y="40"/>
                </a:lnTo>
                <a:lnTo>
                  <a:pt x="373" y="46"/>
                </a:lnTo>
                <a:lnTo>
                  <a:pt x="380" y="53"/>
                </a:lnTo>
                <a:lnTo>
                  <a:pt x="388" y="60"/>
                </a:lnTo>
                <a:lnTo>
                  <a:pt x="395" y="67"/>
                </a:lnTo>
                <a:lnTo>
                  <a:pt x="403" y="76"/>
                </a:lnTo>
                <a:lnTo>
                  <a:pt x="412" y="85"/>
                </a:lnTo>
                <a:lnTo>
                  <a:pt x="421" y="93"/>
                </a:lnTo>
                <a:lnTo>
                  <a:pt x="429" y="103"/>
                </a:lnTo>
                <a:lnTo>
                  <a:pt x="439" y="113"/>
                </a:lnTo>
                <a:lnTo>
                  <a:pt x="448" y="124"/>
                </a:lnTo>
                <a:lnTo>
                  <a:pt x="457" y="132"/>
                </a:lnTo>
                <a:lnTo>
                  <a:pt x="464" y="141"/>
                </a:lnTo>
                <a:lnTo>
                  <a:pt x="471" y="148"/>
                </a:lnTo>
                <a:lnTo>
                  <a:pt x="478" y="154"/>
                </a:lnTo>
                <a:lnTo>
                  <a:pt x="484" y="161"/>
                </a:lnTo>
                <a:lnTo>
                  <a:pt x="488" y="167"/>
                </a:lnTo>
                <a:lnTo>
                  <a:pt x="493" y="171"/>
                </a:lnTo>
                <a:lnTo>
                  <a:pt x="497" y="177"/>
                </a:lnTo>
                <a:lnTo>
                  <a:pt x="500" y="181"/>
                </a:lnTo>
                <a:lnTo>
                  <a:pt x="503" y="185"/>
                </a:lnTo>
                <a:lnTo>
                  <a:pt x="506" y="188"/>
                </a:lnTo>
                <a:lnTo>
                  <a:pt x="507" y="193"/>
                </a:lnTo>
                <a:lnTo>
                  <a:pt x="507" y="195"/>
                </a:lnTo>
                <a:lnTo>
                  <a:pt x="508" y="200"/>
                </a:lnTo>
                <a:lnTo>
                  <a:pt x="508" y="203"/>
                </a:lnTo>
                <a:lnTo>
                  <a:pt x="508" y="207"/>
                </a:lnTo>
                <a:lnTo>
                  <a:pt x="507" y="210"/>
                </a:lnTo>
                <a:lnTo>
                  <a:pt x="504" y="214"/>
                </a:lnTo>
                <a:lnTo>
                  <a:pt x="501" y="219"/>
                </a:lnTo>
                <a:lnTo>
                  <a:pt x="498" y="224"/>
                </a:lnTo>
                <a:lnTo>
                  <a:pt x="493" y="230"/>
                </a:lnTo>
                <a:lnTo>
                  <a:pt x="487" y="234"/>
                </a:lnTo>
                <a:lnTo>
                  <a:pt x="480" y="240"/>
                </a:lnTo>
                <a:lnTo>
                  <a:pt x="473" y="247"/>
                </a:lnTo>
                <a:lnTo>
                  <a:pt x="464" y="253"/>
                </a:lnTo>
                <a:lnTo>
                  <a:pt x="454" y="259"/>
                </a:lnTo>
                <a:lnTo>
                  <a:pt x="442" y="266"/>
                </a:lnTo>
                <a:lnTo>
                  <a:pt x="431" y="272"/>
                </a:lnTo>
                <a:lnTo>
                  <a:pt x="416" y="279"/>
                </a:lnTo>
                <a:lnTo>
                  <a:pt x="402" y="286"/>
                </a:lnTo>
                <a:lnTo>
                  <a:pt x="388" y="293"/>
                </a:lnTo>
                <a:lnTo>
                  <a:pt x="321" y="319"/>
                </a:lnTo>
                <a:lnTo>
                  <a:pt x="257" y="347"/>
                </a:lnTo>
                <a:lnTo>
                  <a:pt x="190" y="373"/>
                </a:lnTo>
                <a:lnTo>
                  <a:pt x="126" y="400"/>
                </a:lnTo>
                <a:lnTo>
                  <a:pt x="110" y="407"/>
                </a:lnTo>
                <a:lnTo>
                  <a:pt x="95" y="411"/>
                </a:lnTo>
                <a:lnTo>
                  <a:pt x="82" y="417"/>
                </a:lnTo>
                <a:lnTo>
                  <a:pt x="71" y="420"/>
                </a:lnTo>
                <a:lnTo>
                  <a:pt x="59" y="424"/>
                </a:lnTo>
                <a:lnTo>
                  <a:pt x="49" y="426"/>
                </a:lnTo>
                <a:lnTo>
                  <a:pt x="41" y="429"/>
                </a:lnTo>
                <a:lnTo>
                  <a:pt x="32" y="430"/>
                </a:lnTo>
                <a:lnTo>
                  <a:pt x="26" y="430"/>
                </a:lnTo>
                <a:lnTo>
                  <a:pt x="19" y="430"/>
                </a:lnTo>
                <a:lnTo>
                  <a:pt x="15" y="429"/>
                </a:lnTo>
                <a:lnTo>
                  <a:pt x="10" y="427"/>
                </a:lnTo>
                <a:lnTo>
                  <a:pt x="8" y="426"/>
                </a:lnTo>
                <a:lnTo>
                  <a:pt x="6" y="424"/>
                </a:lnTo>
                <a:lnTo>
                  <a:pt x="5" y="422"/>
                </a:lnTo>
                <a:lnTo>
                  <a:pt x="5" y="419"/>
                </a:lnTo>
                <a:lnTo>
                  <a:pt x="3" y="416"/>
                </a:lnTo>
                <a:lnTo>
                  <a:pt x="2" y="414"/>
                </a:lnTo>
                <a:lnTo>
                  <a:pt x="0" y="411"/>
                </a:lnTo>
                <a:lnTo>
                  <a:pt x="0" y="410"/>
                </a:lnTo>
                <a:lnTo>
                  <a:pt x="0" y="407"/>
                </a:lnTo>
                <a:lnTo>
                  <a:pt x="2" y="404"/>
                </a:lnTo>
                <a:lnTo>
                  <a:pt x="2" y="401"/>
                </a:lnTo>
                <a:lnTo>
                  <a:pt x="3" y="398"/>
                </a:lnTo>
                <a:lnTo>
                  <a:pt x="8" y="391"/>
                </a:lnTo>
                <a:lnTo>
                  <a:pt x="12" y="383"/>
                </a:lnTo>
                <a:lnTo>
                  <a:pt x="19" y="374"/>
                </a:lnTo>
                <a:lnTo>
                  <a:pt x="26" y="364"/>
                </a:lnTo>
                <a:lnTo>
                  <a:pt x="35" y="354"/>
                </a:lnTo>
                <a:lnTo>
                  <a:pt x="45" y="342"/>
                </a:lnTo>
                <a:lnTo>
                  <a:pt x="55" y="331"/>
                </a:lnTo>
                <a:lnTo>
                  <a:pt x="68" y="318"/>
                </a:lnTo>
                <a:lnTo>
                  <a:pt x="81" y="303"/>
                </a:lnTo>
                <a:lnTo>
                  <a:pt x="95" y="289"/>
                </a:lnTo>
                <a:lnTo>
                  <a:pt x="110" y="273"/>
                </a:lnTo>
                <a:lnTo>
                  <a:pt x="126" y="257"/>
                </a:lnTo>
                <a:lnTo>
                  <a:pt x="141" y="240"/>
                </a:lnTo>
                <a:lnTo>
                  <a:pt x="156" y="224"/>
                </a:lnTo>
                <a:lnTo>
                  <a:pt x="170" y="208"/>
                </a:lnTo>
                <a:lnTo>
                  <a:pt x="183" y="193"/>
                </a:lnTo>
                <a:lnTo>
                  <a:pt x="196" y="178"/>
                </a:lnTo>
                <a:lnTo>
                  <a:pt x="208" y="164"/>
                </a:lnTo>
                <a:lnTo>
                  <a:pt x="218" y="151"/>
                </a:lnTo>
                <a:lnTo>
                  <a:pt x="228" y="138"/>
                </a:lnTo>
                <a:lnTo>
                  <a:pt x="236" y="125"/>
                </a:lnTo>
                <a:lnTo>
                  <a:pt x="244" y="113"/>
                </a:lnTo>
                <a:lnTo>
                  <a:pt x="249" y="103"/>
                </a:lnTo>
                <a:lnTo>
                  <a:pt x="255" y="93"/>
                </a:lnTo>
                <a:lnTo>
                  <a:pt x="259" y="83"/>
                </a:lnTo>
                <a:lnTo>
                  <a:pt x="262" y="75"/>
                </a:lnTo>
                <a:lnTo>
                  <a:pt x="264" y="66"/>
                </a:lnTo>
                <a:lnTo>
                  <a:pt x="265" y="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106"/>
          <p:cNvSpPr/>
          <p:nvPr/>
        </p:nvSpPr>
        <p:spPr>
          <a:xfrm>
            <a:off x="6872400" y="3987720"/>
            <a:ext cx="958680" cy="574920"/>
          </a:xfrm>
          <a:custGeom>
            <a:avLst/>
            <a:gdLst/>
            <a:ahLst/>
            <a:rect l="l" t="t" r="r" b="b"/>
            <a:pathLst>
              <a:path w="1810" h="1085">
                <a:moveTo>
                  <a:pt x="0" y="0"/>
                </a:moveTo>
                <a:lnTo>
                  <a:pt x="69" y="0"/>
                </a:lnTo>
                <a:lnTo>
                  <a:pt x="140" y="0"/>
                </a:lnTo>
                <a:lnTo>
                  <a:pt x="227" y="69"/>
                </a:lnTo>
                <a:lnTo>
                  <a:pt x="314" y="135"/>
                </a:lnTo>
                <a:lnTo>
                  <a:pt x="396" y="197"/>
                </a:lnTo>
                <a:lnTo>
                  <a:pt x="474" y="256"/>
                </a:lnTo>
                <a:lnTo>
                  <a:pt x="548" y="311"/>
                </a:lnTo>
                <a:lnTo>
                  <a:pt x="620" y="363"/>
                </a:lnTo>
                <a:lnTo>
                  <a:pt x="688" y="410"/>
                </a:lnTo>
                <a:lnTo>
                  <a:pt x="753" y="455"/>
                </a:lnTo>
                <a:lnTo>
                  <a:pt x="815" y="495"/>
                </a:lnTo>
                <a:lnTo>
                  <a:pt x="872" y="533"/>
                </a:lnTo>
                <a:lnTo>
                  <a:pt x="927" y="566"/>
                </a:lnTo>
                <a:lnTo>
                  <a:pt x="977" y="596"/>
                </a:lnTo>
                <a:lnTo>
                  <a:pt x="1025" y="623"/>
                </a:lnTo>
                <a:lnTo>
                  <a:pt x="1070" y="645"/>
                </a:lnTo>
                <a:lnTo>
                  <a:pt x="1111" y="665"/>
                </a:lnTo>
                <a:lnTo>
                  <a:pt x="1149" y="681"/>
                </a:lnTo>
                <a:lnTo>
                  <a:pt x="1183" y="697"/>
                </a:lnTo>
                <a:lnTo>
                  <a:pt x="1218" y="713"/>
                </a:lnTo>
                <a:lnTo>
                  <a:pt x="1252" y="727"/>
                </a:lnTo>
                <a:lnTo>
                  <a:pt x="1286" y="741"/>
                </a:lnTo>
                <a:lnTo>
                  <a:pt x="1317" y="754"/>
                </a:lnTo>
                <a:lnTo>
                  <a:pt x="1349" y="767"/>
                </a:lnTo>
                <a:lnTo>
                  <a:pt x="1379" y="779"/>
                </a:lnTo>
                <a:lnTo>
                  <a:pt x="1409" y="790"/>
                </a:lnTo>
                <a:lnTo>
                  <a:pt x="1438" y="800"/>
                </a:lnTo>
                <a:lnTo>
                  <a:pt x="1467" y="810"/>
                </a:lnTo>
                <a:lnTo>
                  <a:pt x="1494" y="819"/>
                </a:lnTo>
                <a:lnTo>
                  <a:pt x="1520" y="828"/>
                </a:lnTo>
                <a:lnTo>
                  <a:pt x="1546" y="836"/>
                </a:lnTo>
                <a:lnTo>
                  <a:pt x="1571" y="845"/>
                </a:lnTo>
                <a:lnTo>
                  <a:pt x="1595" y="852"/>
                </a:lnTo>
                <a:lnTo>
                  <a:pt x="1618" y="859"/>
                </a:lnTo>
                <a:lnTo>
                  <a:pt x="1640" y="865"/>
                </a:lnTo>
                <a:lnTo>
                  <a:pt x="1661" y="872"/>
                </a:lnTo>
                <a:lnTo>
                  <a:pt x="1681" y="880"/>
                </a:lnTo>
                <a:lnTo>
                  <a:pt x="1699" y="885"/>
                </a:lnTo>
                <a:lnTo>
                  <a:pt x="1716" y="893"/>
                </a:lnTo>
                <a:lnTo>
                  <a:pt x="1732" y="898"/>
                </a:lnTo>
                <a:lnTo>
                  <a:pt x="1746" y="904"/>
                </a:lnTo>
                <a:lnTo>
                  <a:pt x="1759" y="911"/>
                </a:lnTo>
                <a:lnTo>
                  <a:pt x="1765" y="914"/>
                </a:lnTo>
                <a:lnTo>
                  <a:pt x="1771" y="917"/>
                </a:lnTo>
                <a:lnTo>
                  <a:pt x="1776" y="920"/>
                </a:lnTo>
                <a:lnTo>
                  <a:pt x="1781" y="921"/>
                </a:lnTo>
                <a:lnTo>
                  <a:pt x="1785" y="924"/>
                </a:lnTo>
                <a:lnTo>
                  <a:pt x="1789" y="927"/>
                </a:lnTo>
                <a:lnTo>
                  <a:pt x="1794" y="930"/>
                </a:lnTo>
                <a:lnTo>
                  <a:pt x="1797" y="933"/>
                </a:lnTo>
                <a:lnTo>
                  <a:pt x="1799" y="934"/>
                </a:lnTo>
                <a:lnTo>
                  <a:pt x="1802" y="937"/>
                </a:lnTo>
                <a:lnTo>
                  <a:pt x="1805" y="939"/>
                </a:lnTo>
                <a:lnTo>
                  <a:pt x="1807" y="941"/>
                </a:lnTo>
                <a:lnTo>
                  <a:pt x="1808" y="943"/>
                </a:lnTo>
                <a:lnTo>
                  <a:pt x="1808" y="946"/>
                </a:lnTo>
                <a:lnTo>
                  <a:pt x="1810" y="947"/>
                </a:lnTo>
                <a:lnTo>
                  <a:pt x="1810" y="949"/>
                </a:lnTo>
                <a:lnTo>
                  <a:pt x="1810" y="950"/>
                </a:lnTo>
                <a:lnTo>
                  <a:pt x="1808" y="952"/>
                </a:lnTo>
                <a:lnTo>
                  <a:pt x="1807" y="954"/>
                </a:lnTo>
                <a:lnTo>
                  <a:pt x="1805" y="956"/>
                </a:lnTo>
                <a:lnTo>
                  <a:pt x="1804" y="959"/>
                </a:lnTo>
                <a:lnTo>
                  <a:pt x="1801" y="960"/>
                </a:lnTo>
                <a:lnTo>
                  <a:pt x="1797" y="963"/>
                </a:lnTo>
                <a:lnTo>
                  <a:pt x="1794" y="965"/>
                </a:lnTo>
                <a:lnTo>
                  <a:pt x="1789" y="967"/>
                </a:lnTo>
                <a:lnTo>
                  <a:pt x="1784" y="970"/>
                </a:lnTo>
                <a:lnTo>
                  <a:pt x="1779" y="973"/>
                </a:lnTo>
                <a:lnTo>
                  <a:pt x="1772" y="975"/>
                </a:lnTo>
                <a:lnTo>
                  <a:pt x="1766" y="977"/>
                </a:lnTo>
                <a:lnTo>
                  <a:pt x="1759" y="980"/>
                </a:lnTo>
                <a:lnTo>
                  <a:pt x="1752" y="983"/>
                </a:lnTo>
                <a:lnTo>
                  <a:pt x="1745" y="986"/>
                </a:lnTo>
                <a:lnTo>
                  <a:pt x="1736" y="989"/>
                </a:lnTo>
                <a:lnTo>
                  <a:pt x="1728" y="992"/>
                </a:lnTo>
                <a:lnTo>
                  <a:pt x="1717" y="995"/>
                </a:lnTo>
                <a:lnTo>
                  <a:pt x="1707" y="998"/>
                </a:lnTo>
                <a:lnTo>
                  <a:pt x="1697" y="1002"/>
                </a:lnTo>
                <a:lnTo>
                  <a:pt x="1686" y="1005"/>
                </a:lnTo>
                <a:lnTo>
                  <a:pt x="1674" y="1008"/>
                </a:lnTo>
                <a:lnTo>
                  <a:pt x="1663" y="1011"/>
                </a:lnTo>
                <a:lnTo>
                  <a:pt x="1650" y="1015"/>
                </a:lnTo>
                <a:lnTo>
                  <a:pt x="1637" y="1018"/>
                </a:lnTo>
                <a:lnTo>
                  <a:pt x="1624" y="1021"/>
                </a:lnTo>
                <a:lnTo>
                  <a:pt x="1609" y="1025"/>
                </a:lnTo>
                <a:lnTo>
                  <a:pt x="1595" y="1028"/>
                </a:lnTo>
                <a:lnTo>
                  <a:pt x="1579" y="1031"/>
                </a:lnTo>
                <a:lnTo>
                  <a:pt x="1565" y="1035"/>
                </a:lnTo>
                <a:lnTo>
                  <a:pt x="1549" y="1038"/>
                </a:lnTo>
                <a:lnTo>
                  <a:pt x="1530" y="1042"/>
                </a:lnTo>
                <a:lnTo>
                  <a:pt x="1513" y="1048"/>
                </a:lnTo>
                <a:lnTo>
                  <a:pt x="1496" y="1052"/>
                </a:lnTo>
                <a:lnTo>
                  <a:pt x="1480" y="1057"/>
                </a:lnTo>
                <a:lnTo>
                  <a:pt x="1464" y="1060"/>
                </a:lnTo>
                <a:lnTo>
                  <a:pt x="1448" y="1064"/>
                </a:lnTo>
                <a:lnTo>
                  <a:pt x="1432" y="1067"/>
                </a:lnTo>
                <a:lnTo>
                  <a:pt x="1418" y="1070"/>
                </a:lnTo>
                <a:lnTo>
                  <a:pt x="1389" y="1074"/>
                </a:lnTo>
                <a:lnTo>
                  <a:pt x="1360" y="1078"/>
                </a:lnTo>
                <a:lnTo>
                  <a:pt x="1335" y="1081"/>
                </a:lnTo>
                <a:lnTo>
                  <a:pt x="1310" y="1083"/>
                </a:lnTo>
                <a:lnTo>
                  <a:pt x="1286" y="1084"/>
                </a:lnTo>
                <a:lnTo>
                  <a:pt x="1263" y="1085"/>
                </a:lnTo>
                <a:lnTo>
                  <a:pt x="1241" y="1084"/>
                </a:lnTo>
                <a:lnTo>
                  <a:pt x="1221" y="1084"/>
                </a:lnTo>
                <a:lnTo>
                  <a:pt x="1201" y="1083"/>
                </a:lnTo>
                <a:lnTo>
                  <a:pt x="1182" y="1080"/>
                </a:lnTo>
                <a:lnTo>
                  <a:pt x="1165" y="1077"/>
                </a:lnTo>
                <a:lnTo>
                  <a:pt x="1149" y="1074"/>
                </a:lnTo>
                <a:lnTo>
                  <a:pt x="1139" y="1071"/>
                </a:lnTo>
                <a:lnTo>
                  <a:pt x="1129" y="1067"/>
                </a:lnTo>
                <a:lnTo>
                  <a:pt x="1116" y="1060"/>
                </a:lnTo>
                <a:lnTo>
                  <a:pt x="1101" y="1051"/>
                </a:lnTo>
                <a:lnTo>
                  <a:pt x="1085" y="1041"/>
                </a:lnTo>
                <a:lnTo>
                  <a:pt x="1067" y="1028"/>
                </a:lnTo>
                <a:lnTo>
                  <a:pt x="1048" y="1013"/>
                </a:lnTo>
                <a:lnTo>
                  <a:pt x="1026" y="998"/>
                </a:lnTo>
                <a:lnTo>
                  <a:pt x="1003" y="979"/>
                </a:lnTo>
                <a:lnTo>
                  <a:pt x="979" y="959"/>
                </a:lnTo>
                <a:lnTo>
                  <a:pt x="952" y="936"/>
                </a:lnTo>
                <a:lnTo>
                  <a:pt x="923" y="913"/>
                </a:lnTo>
                <a:lnTo>
                  <a:pt x="894" y="885"/>
                </a:lnTo>
                <a:lnTo>
                  <a:pt x="861" y="857"/>
                </a:lnTo>
                <a:lnTo>
                  <a:pt x="828" y="826"/>
                </a:lnTo>
                <a:lnTo>
                  <a:pt x="793" y="795"/>
                </a:lnTo>
                <a:lnTo>
                  <a:pt x="756" y="760"/>
                </a:lnTo>
                <a:lnTo>
                  <a:pt x="717" y="724"/>
                </a:lnTo>
                <a:lnTo>
                  <a:pt x="677" y="685"/>
                </a:lnTo>
                <a:lnTo>
                  <a:pt x="635" y="645"/>
                </a:lnTo>
                <a:lnTo>
                  <a:pt x="592" y="602"/>
                </a:lnTo>
                <a:lnTo>
                  <a:pt x="546" y="557"/>
                </a:lnTo>
                <a:lnTo>
                  <a:pt x="498" y="511"/>
                </a:lnTo>
                <a:lnTo>
                  <a:pt x="451" y="462"/>
                </a:lnTo>
                <a:lnTo>
                  <a:pt x="399" y="412"/>
                </a:lnTo>
                <a:lnTo>
                  <a:pt x="347" y="358"/>
                </a:lnTo>
                <a:lnTo>
                  <a:pt x="294" y="304"/>
                </a:lnTo>
                <a:lnTo>
                  <a:pt x="238" y="248"/>
                </a:lnTo>
                <a:lnTo>
                  <a:pt x="181" y="189"/>
                </a:lnTo>
                <a:lnTo>
                  <a:pt x="122" y="128"/>
                </a:lnTo>
                <a:lnTo>
                  <a:pt x="62" y="6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107"/>
          <p:cNvSpPr/>
          <p:nvPr/>
        </p:nvSpPr>
        <p:spPr>
          <a:xfrm>
            <a:off x="7000920" y="4641840"/>
            <a:ext cx="361800" cy="274680"/>
          </a:xfrm>
          <a:custGeom>
            <a:avLst/>
            <a:gdLst/>
            <a:ahLst/>
            <a:rect l="l" t="t" r="r" b="b"/>
            <a:pathLst>
              <a:path w="684" h="520">
                <a:moveTo>
                  <a:pt x="262" y="287"/>
                </a:moveTo>
                <a:lnTo>
                  <a:pt x="245" y="272"/>
                </a:lnTo>
                <a:lnTo>
                  <a:pt x="231" y="256"/>
                </a:lnTo>
                <a:lnTo>
                  <a:pt x="215" y="243"/>
                </a:lnTo>
                <a:lnTo>
                  <a:pt x="200" y="229"/>
                </a:lnTo>
                <a:lnTo>
                  <a:pt x="187" y="216"/>
                </a:lnTo>
                <a:lnTo>
                  <a:pt x="173" y="203"/>
                </a:lnTo>
                <a:lnTo>
                  <a:pt x="160" y="190"/>
                </a:lnTo>
                <a:lnTo>
                  <a:pt x="149" y="179"/>
                </a:lnTo>
                <a:lnTo>
                  <a:pt x="136" y="167"/>
                </a:lnTo>
                <a:lnTo>
                  <a:pt x="124" y="156"/>
                </a:lnTo>
                <a:lnTo>
                  <a:pt x="114" y="146"/>
                </a:lnTo>
                <a:lnTo>
                  <a:pt x="102" y="135"/>
                </a:lnTo>
                <a:lnTo>
                  <a:pt x="92" y="125"/>
                </a:lnTo>
                <a:lnTo>
                  <a:pt x="84" y="115"/>
                </a:lnTo>
                <a:lnTo>
                  <a:pt x="75" y="107"/>
                </a:lnTo>
                <a:lnTo>
                  <a:pt x="67" y="98"/>
                </a:lnTo>
                <a:lnTo>
                  <a:pt x="58" y="89"/>
                </a:lnTo>
                <a:lnTo>
                  <a:pt x="51" y="82"/>
                </a:lnTo>
                <a:lnTo>
                  <a:pt x="43" y="75"/>
                </a:lnTo>
                <a:lnTo>
                  <a:pt x="38" y="68"/>
                </a:lnTo>
                <a:lnTo>
                  <a:pt x="32" y="62"/>
                </a:lnTo>
                <a:lnTo>
                  <a:pt x="26" y="56"/>
                </a:lnTo>
                <a:lnTo>
                  <a:pt x="22" y="51"/>
                </a:lnTo>
                <a:lnTo>
                  <a:pt x="18" y="45"/>
                </a:lnTo>
                <a:lnTo>
                  <a:pt x="13" y="40"/>
                </a:lnTo>
                <a:lnTo>
                  <a:pt x="9" y="36"/>
                </a:lnTo>
                <a:lnTo>
                  <a:pt x="7" y="32"/>
                </a:lnTo>
                <a:lnTo>
                  <a:pt x="5" y="28"/>
                </a:lnTo>
                <a:lnTo>
                  <a:pt x="3" y="25"/>
                </a:lnTo>
                <a:lnTo>
                  <a:pt x="2" y="22"/>
                </a:lnTo>
                <a:lnTo>
                  <a:pt x="0" y="20"/>
                </a:lnTo>
                <a:lnTo>
                  <a:pt x="0" y="19"/>
                </a:lnTo>
                <a:lnTo>
                  <a:pt x="0" y="15"/>
                </a:lnTo>
                <a:lnTo>
                  <a:pt x="2" y="12"/>
                </a:lnTo>
                <a:lnTo>
                  <a:pt x="5" y="10"/>
                </a:lnTo>
                <a:lnTo>
                  <a:pt x="7" y="7"/>
                </a:lnTo>
                <a:lnTo>
                  <a:pt x="10" y="6"/>
                </a:lnTo>
                <a:lnTo>
                  <a:pt x="15" y="4"/>
                </a:lnTo>
                <a:lnTo>
                  <a:pt x="20" y="3"/>
                </a:lnTo>
                <a:lnTo>
                  <a:pt x="26" y="3"/>
                </a:lnTo>
                <a:lnTo>
                  <a:pt x="33" y="2"/>
                </a:lnTo>
                <a:lnTo>
                  <a:pt x="41" y="2"/>
                </a:lnTo>
                <a:lnTo>
                  <a:pt x="49" y="0"/>
                </a:lnTo>
                <a:lnTo>
                  <a:pt x="59" y="0"/>
                </a:lnTo>
                <a:lnTo>
                  <a:pt x="69" y="0"/>
                </a:lnTo>
                <a:lnTo>
                  <a:pt x="79" y="0"/>
                </a:lnTo>
                <a:lnTo>
                  <a:pt x="92" y="0"/>
                </a:lnTo>
                <a:lnTo>
                  <a:pt x="105" y="0"/>
                </a:lnTo>
                <a:lnTo>
                  <a:pt x="115" y="0"/>
                </a:lnTo>
                <a:lnTo>
                  <a:pt x="126" y="2"/>
                </a:lnTo>
                <a:lnTo>
                  <a:pt x="137" y="2"/>
                </a:lnTo>
                <a:lnTo>
                  <a:pt x="150" y="3"/>
                </a:lnTo>
                <a:lnTo>
                  <a:pt x="164" y="6"/>
                </a:lnTo>
                <a:lnTo>
                  <a:pt x="177" y="7"/>
                </a:lnTo>
                <a:lnTo>
                  <a:pt x="193" y="10"/>
                </a:lnTo>
                <a:lnTo>
                  <a:pt x="209" y="13"/>
                </a:lnTo>
                <a:lnTo>
                  <a:pt x="226" y="17"/>
                </a:lnTo>
                <a:lnTo>
                  <a:pt x="244" y="20"/>
                </a:lnTo>
                <a:lnTo>
                  <a:pt x="262" y="25"/>
                </a:lnTo>
                <a:lnTo>
                  <a:pt x="281" y="30"/>
                </a:lnTo>
                <a:lnTo>
                  <a:pt x="301" y="35"/>
                </a:lnTo>
                <a:lnTo>
                  <a:pt x="321" y="40"/>
                </a:lnTo>
                <a:lnTo>
                  <a:pt x="343" y="46"/>
                </a:lnTo>
                <a:lnTo>
                  <a:pt x="366" y="53"/>
                </a:lnTo>
                <a:lnTo>
                  <a:pt x="385" y="61"/>
                </a:lnTo>
                <a:lnTo>
                  <a:pt x="403" y="68"/>
                </a:lnTo>
                <a:lnTo>
                  <a:pt x="422" y="76"/>
                </a:lnTo>
                <a:lnTo>
                  <a:pt x="441" y="84"/>
                </a:lnTo>
                <a:lnTo>
                  <a:pt x="458" y="94"/>
                </a:lnTo>
                <a:lnTo>
                  <a:pt x="475" y="102"/>
                </a:lnTo>
                <a:lnTo>
                  <a:pt x="491" y="112"/>
                </a:lnTo>
                <a:lnTo>
                  <a:pt x="507" y="123"/>
                </a:lnTo>
                <a:lnTo>
                  <a:pt x="523" y="134"/>
                </a:lnTo>
                <a:lnTo>
                  <a:pt x="537" y="146"/>
                </a:lnTo>
                <a:lnTo>
                  <a:pt x="552" y="159"/>
                </a:lnTo>
                <a:lnTo>
                  <a:pt x="565" y="171"/>
                </a:lnTo>
                <a:lnTo>
                  <a:pt x="576" y="186"/>
                </a:lnTo>
                <a:lnTo>
                  <a:pt x="589" y="200"/>
                </a:lnTo>
                <a:lnTo>
                  <a:pt x="599" y="216"/>
                </a:lnTo>
                <a:lnTo>
                  <a:pt x="609" y="233"/>
                </a:lnTo>
                <a:lnTo>
                  <a:pt x="619" y="249"/>
                </a:lnTo>
                <a:lnTo>
                  <a:pt x="628" y="265"/>
                </a:lnTo>
                <a:lnTo>
                  <a:pt x="637" y="279"/>
                </a:lnTo>
                <a:lnTo>
                  <a:pt x="644" y="294"/>
                </a:lnTo>
                <a:lnTo>
                  <a:pt x="652" y="307"/>
                </a:lnTo>
                <a:lnTo>
                  <a:pt x="658" y="320"/>
                </a:lnTo>
                <a:lnTo>
                  <a:pt x="665" y="333"/>
                </a:lnTo>
                <a:lnTo>
                  <a:pt x="670" y="344"/>
                </a:lnTo>
                <a:lnTo>
                  <a:pt x="674" y="356"/>
                </a:lnTo>
                <a:lnTo>
                  <a:pt x="678" y="367"/>
                </a:lnTo>
                <a:lnTo>
                  <a:pt x="681" y="379"/>
                </a:lnTo>
                <a:lnTo>
                  <a:pt x="683" y="389"/>
                </a:lnTo>
                <a:lnTo>
                  <a:pt x="684" y="399"/>
                </a:lnTo>
                <a:lnTo>
                  <a:pt x="683" y="409"/>
                </a:lnTo>
                <a:lnTo>
                  <a:pt x="681" y="419"/>
                </a:lnTo>
                <a:lnTo>
                  <a:pt x="680" y="431"/>
                </a:lnTo>
                <a:lnTo>
                  <a:pt x="675" y="439"/>
                </a:lnTo>
                <a:lnTo>
                  <a:pt x="671" y="449"/>
                </a:lnTo>
                <a:lnTo>
                  <a:pt x="668" y="458"/>
                </a:lnTo>
                <a:lnTo>
                  <a:pt x="662" y="467"/>
                </a:lnTo>
                <a:lnTo>
                  <a:pt x="658" y="475"/>
                </a:lnTo>
                <a:lnTo>
                  <a:pt x="652" y="482"/>
                </a:lnTo>
                <a:lnTo>
                  <a:pt x="648" y="488"/>
                </a:lnTo>
                <a:lnTo>
                  <a:pt x="642" y="495"/>
                </a:lnTo>
                <a:lnTo>
                  <a:pt x="637" y="500"/>
                </a:lnTo>
                <a:lnTo>
                  <a:pt x="631" y="505"/>
                </a:lnTo>
                <a:lnTo>
                  <a:pt x="624" y="510"/>
                </a:lnTo>
                <a:lnTo>
                  <a:pt x="618" y="513"/>
                </a:lnTo>
                <a:lnTo>
                  <a:pt x="611" y="516"/>
                </a:lnTo>
                <a:lnTo>
                  <a:pt x="605" y="517"/>
                </a:lnTo>
                <a:lnTo>
                  <a:pt x="599" y="518"/>
                </a:lnTo>
                <a:lnTo>
                  <a:pt x="592" y="520"/>
                </a:lnTo>
                <a:lnTo>
                  <a:pt x="589" y="517"/>
                </a:lnTo>
                <a:lnTo>
                  <a:pt x="585" y="516"/>
                </a:lnTo>
                <a:lnTo>
                  <a:pt x="580" y="513"/>
                </a:lnTo>
                <a:lnTo>
                  <a:pt x="576" y="510"/>
                </a:lnTo>
                <a:lnTo>
                  <a:pt x="570" y="507"/>
                </a:lnTo>
                <a:lnTo>
                  <a:pt x="565" y="504"/>
                </a:lnTo>
                <a:lnTo>
                  <a:pt x="559" y="500"/>
                </a:lnTo>
                <a:lnTo>
                  <a:pt x="553" y="495"/>
                </a:lnTo>
                <a:lnTo>
                  <a:pt x="546" y="491"/>
                </a:lnTo>
                <a:lnTo>
                  <a:pt x="539" y="487"/>
                </a:lnTo>
                <a:lnTo>
                  <a:pt x="530" y="481"/>
                </a:lnTo>
                <a:lnTo>
                  <a:pt x="523" y="477"/>
                </a:lnTo>
                <a:lnTo>
                  <a:pt x="514" y="471"/>
                </a:lnTo>
                <a:lnTo>
                  <a:pt x="504" y="464"/>
                </a:lnTo>
                <a:lnTo>
                  <a:pt x="496" y="458"/>
                </a:lnTo>
                <a:lnTo>
                  <a:pt x="485" y="451"/>
                </a:lnTo>
                <a:lnTo>
                  <a:pt x="475" y="444"/>
                </a:lnTo>
                <a:lnTo>
                  <a:pt x="464" y="436"/>
                </a:lnTo>
                <a:lnTo>
                  <a:pt x="452" y="428"/>
                </a:lnTo>
                <a:lnTo>
                  <a:pt x="441" y="419"/>
                </a:lnTo>
                <a:lnTo>
                  <a:pt x="428" y="410"/>
                </a:lnTo>
                <a:lnTo>
                  <a:pt x="415" y="402"/>
                </a:lnTo>
                <a:lnTo>
                  <a:pt x="402" y="392"/>
                </a:lnTo>
                <a:lnTo>
                  <a:pt x="389" y="382"/>
                </a:lnTo>
                <a:lnTo>
                  <a:pt x="375" y="372"/>
                </a:lnTo>
                <a:lnTo>
                  <a:pt x="360" y="360"/>
                </a:lnTo>
                <a:lnTo>
                  <a:pt x="344" y="350"/>
                </a:lnTo>
                <a:lnTo>
                  <a:pt x="329" y="337"/>
                </a:lnTo>
                <a:lnTo>
                  <a:pt x="313" y="326"/>
                </a:lnTo>
                <a:lnTo>
                  <a:pt x="297" y="313"/>
                </a:lnTo>
                <a:lnTo>
                  <a:pt x="280" y="300"/>
                </a:lnTo>
                <a:lnTo>
                  <a:pt x="262" y="28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组合 1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grpSp>
          <p:nvGrpSpPr>
            <p:cNvPr id="208" name="组合 3"/>
            <p:cNvGrpSpPr/>
            <p:nvPr/>
          </p:nvGrpSpPr>
          <p:grpSpPr>
            <a:xfrm>
              <a:off x="1400040" y="3975120"/>
              <a:ext cx="2840040" cy="1571760"/>
              <a:chOff x="1400040" y="3975120"/>
              <a:chExt cx="2840040" cy="1571760"/>
            </a:xfrm>
          </p:grpSpPr>
          <p:pic>
            <p:nvPicPr>
              <p:cNvPr id="209" name="图示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400040" y="3975120"/>
                <a:ext cx="2840040" cy="157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矩形 2"/>
              <p:cNvSpPr/>
              <p:nvPr/>
            </p:nvSpPr>
            <p:spPr>
              <a:xfrm>
                <a:off x="1444680" y="4587840"/>
                <a:ext cx="2766600" cy="551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“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艹”覆盖下部，“ ”宜紧凑。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11" name="Picture 3" descr="腾3"/>
            <p:cNvPicPr/>
            <p:nvPr/>
          </p:nvPicPr>
          <p:blipFill>
            <a:blip r:embed="rId2"/>
            <a:stretch/>
          </p:blipFill>
          <p:spPr>
            <a:xfrm>
              <a:off x="3828960" y="4784400"/>
              <a:ext cx="201960" cy="22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3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1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士”偏小，“欠”撇捺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矩形 2"/>
          <p:cNvSpPr/>
          <p:nvPr/>
        </p:nvSpPr>
        <p:spPr>
          <a:xfrm>
            <a:off x="1905120" y="1825560"/>
            <a:ext cx="145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kuǎ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35"/>
          <p:cNvSpPr/>
          <p:nvPr/>
        </p:nvSpPr>
        <p:spPr>
          <a:xfrm>
            <a:off x="5818320" y="3230640"/>
            <a:ext cx="885600" cy="263520"/>
          </a:xfrm>
          <a:custGeom>
            <a:avLst/>
            <a:gdLst/>
            <a:ahLst/>
            <a:rect l="l" t="t" r="r" b="b"/>
            <a:pathLst>
              <a:path w="1674" h="498">
                <a:moveTo>
                  <a:pt x="1000" y="321"/>
                </a:moveTo>
                <a:lnTo>
                  <a:pt x="959" y="331"/>
                </a:lnTo>
                <a:lnTo>
                  <a:pt x="918" y="342"/>
                </a:lnTo>
                <a:lnTo>
                  <a:pt x="879" y="352"/>
                </a:lnTo>
                <a:lnTo>
                  <a:pt x="841" y="362"/>
                </a:lnTo>
                <a:lnTo>
                  <a:pt x="805" y="371"/>
                </a:lnTo>
                <a:lnTo>
                  <a:pt x="769" y="381"/>
                </a:lnTo>
                <a:lnTo>
                  <a:pt x="734" y="390"/>
                </a:lnTo>
                <a:lnTo>
                  <a:pt x="699" y="398"/>
                </a:lnTo>
                <a:lnTo>
                  <a:pt x="668" y="407"/>
                </a:lnTo>
                <a:lnTo>
                  <a:pt x="636" y="414"/>
                </a:lnTo>
                <a:lnTo>
                  <a:pt x="606" y="421"/>
                </a:lnTo>
                <a:lnTo>
                  <a:pt x="577" y="429"/>
                </a:lnTo>
                <a:lnTo>
                  <a:pt x="548" y="436"/>
                </a:lnTo>
                <a:lnTo>
                  <a:pt x="522" y="441"/>
                </a:lnTo>
                <a:lnTo>
                  <a:pt x="496" y="447"/>
                </a:lnTo>
                <a:lnTo>
                  <a:pt x="472" y="453"/>
                </a:lnTo>
                <a:lnTo>
                  <a:pt x="449" y="459"/>
                </a:lnTo>
                <a:lnTo>
                  <a:pt x="426" y="463"/>
                </a:lnTo>
                <a:lnTo>
                  <a:pt x="406" y="469"/>
                </a:lnTo>
                <a:lnTo>
                  <a:pt x="386" y="473"/>
                </a:lnTo>
                <a:lnTo>
                  <a:pt x="367" y="476"/>
                </a:lnTo>
                <a:lnTo>
                  <a:pt x="350" y="480"/>
                </a:lnTo>
                <a:lnTo>
                  <a:pt x="334" y="483"/>
                </a:lnTo>
                <a:lnTo>
                  <a:pt x="318" y="486"/>
                </a:lnTo>
                <a:lnTo>
                  <a:pt x="305" y="489"/>
                </a:lnTo>
                <a:lnTo>
                  <a:pt x="292" y="490"/>
                </a:lnTo>
                <a:lnTo>
                  <a:pt x="281" y="493"/>
                </a:lnTo>
                <a:lnTo>
                  <a:pt x="270" y="495"/>
                </a:lnTo>
                <a:lnTo>
                  <a:pt x="260" y="495"/>
                </a:lnTo>
                <a:lnTo>
                  <a:pt x="253" y="496"/>
                </a:lnTo>
                <a:lnTo>
                  <a:pt x="246" y="496"/>
                </a:lnTo>
                <a:lnTo>
                  <a:pt x="242" y="498"/>
                </a:lnTo>
                <a:lnTo>
                  <a:pt x="232" y="496"/>
                </a:lnTo>
                <a:lnTo>
                  <a:pt x="220" y="496"/>
                </a:lnTo>
                <a:lnTo>
                  <a:pt x="210" y="495"/>
                </a:lnTo>
                <a:lnTo>
                  <a:pt x="200" y="493"/>
                </a:lnTo>
                <a:lnTo>
                  <a:pt x="188" y="490"/>
                </a:lnTo>
                <a:lnTo>
                  <a:pt x="177" y="488"/>
                </a:lnTo>
                <a:lnTo>
                  <a:pt x="165" y="485"/>
                </a:lnTo>
                <a:lnTo>
                  <a:pt x="154" y="480"/>
                </a:lnTo>
                <a:lnTo>
                  <a:pt x="142" y="475"/>
                </a:lnTo>
                <a:lnTo>
                  <a:pt x="132" y="469"/>
                </a:lnTo>
                <a:lnTo>
                  <a:pt x="121" y="463"/>
                </a:lnTo>
                <a:lnTo>
                  <a:pt x="109" y="456"/>
                </a:lnTo>
                <a:lnTo>
                  <a:pt x="99" y="447"/>
                </a:lnTo>
                <a:lnTo>
                  <a:pt x="88" y="439"/>
                </a:lnTo>
                <a:lnTo>
                  <a:pt x="78" y="429"/>
                </a:lnTo>
                <a:lnTo>
                  <a:pt x="69" y="418"/>
                </a:lnTo>
                <a:lnTo>
                  <a:pt x="56" y="411"/>
                </a:lnTo>
                <a:lnTo>
                  <a:pt x="44" y="404"/>
                </a:lnTo>
                <a:lnTo>
                  <a:pt x="36" y="397"/>
                </a:lnTo>
                <a:lnTo>
                  <a:pt x="26" y="391"/>
                </a:lnTo>
                <a:lnTo>
                  <a:pt x="19" y="387"/>
                </a:lnTo>
                <a:lnTo>
                  <a:pt x="13" y="381"/>
                </a:lnTo>
                <a:lnTo>
                  <a:pt x="7" y="375"/>
                </a:lnTo>
                <a:lnTo>
                  <a:pt x="4" y="371"/>
                </a:lnTo>
                <a:lnTo>
                  <a:pt x="1" y="367"/>
                </a:lnTo>
                <a:lnTo>
                  <a:pt x="0" y="362"/>
                </a:lnTo>
                <a:lnTo>
                  <a:pt x="0" y="358"/>
                </a:lnTo>
                <a:lnTo>
                  <a:pt x="0" y="355"/>
                </a:lnTo>
                <a:lnTo>
                  <a:pt x="3" y="351"/>
                </a:lnTo>
                <a:lnTo>
                  <a:pt x="6" y="346"/>
                </a:lnTo>
                <a:lnTo>
                  <a:pt x="10" y="344"/>
                </a:lnTo>
                <a:lnTo>
                  <a:pt x="17" y="339"/>
                </a:lnTo>
                <a:lnTo>
                  <a:pt x="20" y="336"/>
                </a:lnTo>
                <a:lnTo>
                  <a:pt x="24" y="332"/>
                </a:lnTo>
                <a:lnTo>
                  <a:pt x="30" y="331"/>
                </a:lnTo>
                <a:lnTo>
                  <a:pt x="36" y="328"/>
                </a:lnTo>
                <a:lnTo>
                  <a:pt x="42" y="326"/>
                </a:lnTo>
                <a:lnTo>
                  <a:pt x="50" y="325"/>
                </a:lnTo>
                <a:lnTo>
                  <a:pt x="57" y="323"/>
                </a:lnTo>
                <a:lnTo>
                  <a:pt x="66" y="322"/>
                </a:lnTo>
                <a:lnTo>
                  <a:pt x="75" y="321"/>
                </a:lnTo>
                <a:lnTo>
                  <a:pt x="85" y="321"/>
                </a:lnTo>
                <a:lnTo>
                  <a:pt x="95" y="321"/>
                </a:lnTo>
                <a:lnTo>
                  <a:pt x="106" y="321"/>
                </a:lnTo>
                <a:lnTo>
                  <a:pt x="118" y="321"/>
                </a:lnTo>
                <a:lnTo>
                  <a:pt x="129" y="321"/>
                </a:lnTo>
                <a:lnTo>
                  <a:pt x="142" y="321"/>
                </a:lnTo>
                <a:lnTo>
                  <a:pt x="155" y="321"/>
                </a:lnTo>
                <a:lnTo>
                  <a:pt x="160" y="319"/>
                </a:lnTo>
                <a:lnTo>
                  <a:pt x="167" y="319"/>
                </a:lnTo>
                <a:lnTo>
                  <a:pt x="174" y="318"/>
                </a:lnTo>
                <a:lnTo>
                  <a:pt x="183" y="318"/>
                </a:lnTo>
                <a:lnTo>
                  <a:pt x="193" y="316"/>
                </a:lnTo>
                <a:lnTo>
                  <a:pt x="204" y="313"/>
                </a:lnTo>
                <a:lnTo>
                  <a:pt x="216" y="312"/>
                </a:lnTo>
                <a:lnTo>
                  <a:pt x="229" y="309"/>
                </a:lnTo>
                <a:lnTo>
                  <a:pt x="243" y="306"/>
                </a:lnTo>
                <a:lnTo>
                  <a:pt x="257" y="303"/>
                </a:lnTo>
                <a:lnTo>
                  <a:pt x="275" y="299"/>
                </a:lnTo>
                <a:lnTo>
                  <a:pt x="292" y="296"/>
                </a:lnTo>
                <a:lnTo>
                  <a:pt x="309" y="292"/>
                </a:lnTo>
                <a:lnTo>
                  <a:pt x="329" y="286"/>
                </a:lnTo>
                <a:lnTo>
                  <a:pt x="350" y="282"/>
                </a:lnTo>
                <a:lnTo>
                  <a:pt x="371" y="276"/>
                </a:lnTo>
                <a:lnTo>
                  <a:pt x="393" y="270"/>
                </a:lnTo>
                <a:lnTo>
                  <a:pt x="416" y="264"/>
                </a:lnTo>
                <a:lnTo>
                  <a:pt x="440" y="259"/>
                </a:lnTo>
                <a:lnTo>
                  <a:pt x="466" y="251"/>
                </a:lnTo>
                <a:lnTo>
                  <a:pt x="492" y="244"/>
                </a:lnTo>
                <a:lnTo>
                  <a:pt x="519" y="237"/>
                </a:lnTo>
                <a:lnTo>
                  <a:pt x="548" y="228"/>
                </a:lnTo>
                <a:lnTo>
                  <a:pt x="577" y="221"/>
                </a:lnTo>
                <a:lnTo>
                  <a:pt x="607" y="213"/>
                </a:lnTo>
                <a:lnTo>
                  <a:pt x="639" y="204"/>
                </a:lnTo>
                <a:lnTo>
                  <a:pt x="671" y="194"/>
                </a:lnTo>
                <a:lnTo>
                  <a:pt x="704" y="184"/>
                </a:lnTo>
                <a:lnTo>
                  <a:pt x="738" y="174"/>
                </a:lnTo>
                <a:lnTo>
                  <a:pt x="773" y="164"/>
                </a:lnTo>
                <a:lnTo>
                  <a:pt x="809" y="154"/>
                </a:lnTo>
                <a:lnTo>
                  <a:pt x="845" y="142"/>
                </a:lnTo>
                <a:lnTo>
                  <a:pt x="882" y="131"/>
                </a:lnTo>
                <a:lnTo>
                  <a:pt x="917" y="120"/>
                </a:lnTo>
                <a:lnTo>
                  <a:pt x="951" y="110"/>
                </a:lnTo>
                <a:lnTo>
                  <a:pt x="986" y="100"/>
                </a:lnTo>
                <a:lnTo>
                  <a:pt x="1019" y="92"/>
                </a:lnTo>
                <a:lnTo>
                  <a:pt x="1051" y="83"/>
                </a:lnTo>
                <a:lnTo>
                  <a:pt x="1081" y="74"/>
                </a:lnTo>
                <a:lnTo>
                  <a:pt x="1111" y="67"/>
                </a:lnTo>
                <a:lnTo>
                  <a:pt x="1140" y="60"/>
                </a:lnTo>
                <a:lnTo>
                  <a:pt x="1167" y="53"/>
                </a:lnTo>
                <a:lnTo>
                  <a:pt x="1195" y="47"/>
                </a:lnTo>
                <a:lnTo>
                  <a:pt x="1221" y="40"/>
                </a:lnTo>
                <a:lnTo>
                  <a:pt x="1245" y="35"/>
                </a:lnTo>
                <a:lnTo>
                  <a:pt x="1270" y="30"/>
                </a:lnTo>
                <a:lnTo>
                  <a:pt x="1293" y="25"/>
                </a:lnTo>
                <a:lnTo>
                  <a:pt x="1316" y="21"/>
                </a:lnTo>
                <a:lnTo>
                  <a:pt x="1337" y="17"/>
                </a:lnTo>
                <a:lnTo>
                  <a:pt x="1357" y="14"/>
                </a:lnTo>
                <a:lnTo>
                  <a:pt x="1377" y="10"/>
                </a:lnTo>
                <a:lnTo>
                  <a:pt x="1396" y="8"/>
                </a:lnTo>
                <a:lnTo>
                  <a:pt x="1413" y="5"/>
                </a:lnTo>
                <a:lnTo>
                  <a:pt x="1431" y="4"/>
                </a:lnTo>
                <a:lnTo>
                  <a:pt x="1447" y="2"/>
                </a:lnTo>
                <a:lnTo>
                  <a:pt x="1462" y="1"/>
                </a:lnTo>
                <a:lnTo>
                  <a:pt x="1477" y="0"/>
                </a:lnTo>
                <a:lnTo>
                  <a:pt x="1490" y="0"/>
                </a:lnTo>
                <a:lnTo>
                  <a:pt x="1503" y="0"/>
                </a:lnTo>
                <a:lnTo>
                  <a:pt x="1514" y="0"/>
                </a:lnTo>
                <a:lnTo>
                  <a:pt x="1526" y="1"/>
                </a:lnTo>
                <a:lnTo>
                  <a:pt x="1536" y="1"/>
                </a:lnTo>
                <a:lnTo>
                  <a:pt x="1544" y="2"/>
                </a:lnTo>
                <a:lnTo>
                  <a:pt x="1553" y="5"/>
                </a:lnTo>
                <a:lnTo>
                  <a:pt x="1569" y="12"/>
                </a:lnTo>
                <a:lnTo>
                  <a:pt x="1583" y="20"/>
                </a:lnTo>
                <a:lnTo>
                  <a:pt x="1596" y="27"/>
                </a:lnTo>
                <a:lnTo>
                  <a:pt x="1608" y="34"/>
                </a:lnTo>
                <a:lnTo>
                  <a:pt x="1619" y="41"/>
                </a:lnTo>
                <a:lnTo>
                  <a:pt x="1629" y="48"/>
                </a:lnTo>
                <a:lnTo>
                  <a:pt x="1638" y="54"/>
                </a:lnTo>
                <a:lnTo>
                  <a:pt x="1645" y="61"/>
                </a:lnTo>
                <a:lnTo>
                  <a:pt x="1652" y="67"/>
                </a:lnTo>
                <a:lnTo>
                  <a:pt x="1658" y="73"/>
                </a:lnTo>
                <a:lnTo>
                  <a:pt x="1664" y="79"/>
                </a:lnTo>
                <a:lnTo>
                  <a:pt x="1667" y="84"/>
                </a:lnTo>
                <a:lnTo>
                  <a:pt x="1670" y="90"/>
                </a:lnTo>
                <a:lnTo>
                  <a:pt x="1673" y="95"/>
                </a:lnTo>
                <a:lnTo>
                  <a:pt x="1674" y="99"/>
                </a:lnTo>
                <a:lnTo>
                  <a:pt x="1674" y="103"/>
                </a:lnTo>
                <a:lnTo>
                  <a:pt x="1674" y="105"/>
                </a:lnTo>
                <a:lnTo>
                  <a:pt x="1671" y="107"/>
                </a:lnTo>
                <a:lnTo>
                  <a:pt x="1668" y="110"/>
                </a:lnTo>
                <a:lnTo>
                  <a:pt x="1664" y="113"/>
                </a:lnTo>
                <a:lnTo>
                  <a:pt x="1658" y="116"/>
                </a:lnTo>
                <a:lnTo>
                  <a:pt x="1651" y="120"/>
                </a:lnTo>
                <a:lnTo>
                  <a:pt x="1642" y="123"/>
                </a:lnTo>
                <a:lnTo>
                  <a:pt x="1632" y="128"/>
                </a:lnTo>
                <a:lnTo>
                  <a:pt x="1621" y="133"/>
                </a:lnTo>
                <a:lnTo>
                  <a:pt x="1608" y="138"/>
                </a:lnTo>
                <a:lnTo>
                  <a:pt x="1595" y="143"/>
                </a:lnTo>
                <a:lnTo>
                  <a:pt x="1579" y="148"/>
                </a:lnTo>
                <a:lnTo>
                  <a:pt x="1563" y="154"/>
                </a:lnTo>
                <a:lnTo>
                  <a:pt x="1544" y="161"/>
                </a:lnTo>
                <a:lnTo>
                  <a:pt x="1526" y="167"/>
                </a:lnTo>
                <a:lnTo>
                  <a:pt x="1506" y="174"/>
                </a:lnTo>
                <a:lnTo>
                  <a:pt x="1484" y="181"/>
                </a:lnTo>
                <a:lnTo>
                  <a:pt x="1461" y="188"/>
                </a:lnTo>
                <a:lnTo>
                  <a:pt x="1437" y="195"/>
                </a:lnTo>
                <a:lnTo>
                  <a:pt x="1411" y="204"/>
                </a:lnTo>
                <a:lnTo>
                  <a:pt x="1383" y="211"/>
                </a:lnTo>
                <a:lnTo>
                  <a:pt x="1356" y="220"/>
                </a:lnTo>
                <a:lnTo>
                  <a:pt x="1326" y="228"/>
                </a:lnTo>
                <a:lnTo>
                  <a:pt x="1295" y="237"/>
                </a:lnTo>
                <a:lnTo>
                  <a:pt x="1262" y="247"/>
                </a:lnTo>
                <a:lnTo>
                  <a:pt x="1229" y="257"/>
                </a:lnTo>
                <a:lnTo>
                  <a:pt x="1195" y="266"/>
                </a:lnTo>
                <a:lnTo>
                  <a:pt x="1159" y="276"/>
                </a:lnTo>
                <a:lnTo>
                  <a:pt x="1121" y="287"/>
                </a:lnTo>
                <a:lnTo>
                  <a:pt x="1082" y="298"/>
                </a:lnTo>
                <a:lnTo>
                  <a:pt x="1042" y="309"/>
                </a:lnTo>
                <a:lnTo>
                  <a:pt x="1000" y="3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36"/>
          <p:cNvSpPr/>
          <p:nvPr/>
        </p:nvSpPr>
        <p:spPr>
          <a:xfrm>
            <a:off x="5959440" y="3594240"/>
            <a:ext cx="615960" cy="180720"/>
          </a:xfrm>
          <a:custGeom>
            <a:avLst/>
            <a:gdLst/>
            <a:ahLst/>
            <a:rect l="l" t="t" r="r" b="b"/>
            <a:pathLst>
              <a:path w="1163" h="343">
                <a:moveTo>
                  <a:pt x="749" y="245"/>
                </a:moveTo>
                <a:lnTo>
                  <a:pt x="723" y="249"/>
                </a:lnTo>
                <a:lnTo>
                  <a:pt x="698" y="255"/>
                </a:lnTo>
                <a:lnTo>
                  <a:pt x="674" y="261"/>
                </a:lnTo>
                <a:lnTo>
                  <a:pt x="651" y="267"/>
                </a:lnTo>
                <a:lnTo>
                  <a:pt x="626" y="271"/>
                </a:lnTo>
                <a:lnTo>
                  <a:pt x="605" y="275"/>
                </a:lnTo>
                <a:lnTo>
                  <a:pt x="583" y="281"/>
                </a:lnTo>
                <a:lnTo>
                  <a:pt x="561" y="285"/>
                </a:lnTo>
                <a:lnTo>
                  <a:pt x="540" y="290"/>
                </a:lnTo>
                <a:lnTo>
                  <a:pt x="520" y="294"/>
                </a:lnTo>
                <a:lnTo>
                  <a:pt x="501" y="298"/>
                </a:lnTo>
                <a:lnTo>
                  <a:pt x="482" y="303"/>
                </a:lnTo>
                <a:lnTo>
                  <a:pt x="464" y="305"/>
                </a:lnTo>
                <a:lnTo>
                  <a:pt x="446" y="310"/>
                </a:lnTo>
                <a:lnTo>
                  <a:pt x="429" y="313"/>
                </a:lnTo>
                <a:lnTo>
                  <a:pt x="412" y="317"/>
                </a:lnTo>
                <a:lnTo>
                  <a:pt x="396" y="320"/>
                </a:lnTo>
                <a:lnTo>
                  <a:pt x="381" y="323"/>
                </a:lnTo>
                <a:lnTo>
                  <a:pt x="367" y="326"/>
                </a:lnTo>
                <a:lnTo>
                  <a:pt x="353" y="327"/>
                </a:lnTo>
                <a:lnTo>
                  <a:pt x="340" y="330"/>
                </a:lnTo>
                <a:lnTo>
                  <a:pt x="327" y="333"/>
                </a:lnTo>
                <a:lnTo>
                  <a:pt x="314" y="334"/>
                </a:lnTo>
                <a:lnTo>
                  <a:pt x="302" y="336"/>
                </a:lnTo>
                <a:lnTo>
                  <a:pt x="291" y="337"/>
                </a:lnTo>
                <a:lnTo>
                  <a:pt x="281" y="339"/>
                </a:lnTo>
                <a:lnTo>
                  <a:pt x="271" y="340"/>
                </a:lnTo>
                <a:lnTo>
                  <a:pt x="262" y="341"/>
                </a:lnTo>
                <a:lnTo>
                  <a:pt x="253" y="341"/>
                </a:lnTo>
                <a:lnTo>
                  <a:pt x="245" y="343"/>
                </a:lnTo>
                <a:lnTo>
                  <a:pt x="238" y="343"/>
                </a:lnTo>
                <a:lnTo>
                  <a:pt x="232" y="343"/>
                </a:lnTo>
                <a:lnTo>
                  <a:pt x="216" y="343"/>
                </a:lnTo>
                <a:lnTo>
                  <a:pt x="200" y="341"/>
                </a:lnTo>
                <a:lnTo>
                  <a:pt x="186" y="341"/>
                </a:lnTo>
                <a:lnTo>
                  <a:pt x="173" y="340"/>
                </a:lnTo>
                <a:lnTo>
                  <a:pt x="160" y="337"/>
                </a:lnTo>
                <a:lnTo>
                  <a:pt x="147" y="336"/>
                </a:lnTo>
                <a:lnTo>
                  <a:pt x="135" y="333"/>
                </a:lnTo>
                <a:lnTo>
                  <a:pt x="124" y="331"/>
                </a:lnTo>
                <a:lnTo>
                  <a:pt x="112" y="328"/>
                </a:lnTo>
                <a:lnTo>
                  <a:pt x="101" y="324"/>
                </a:lnTo>
                <a:lnTo>
                  <a:pt x="81" y="318"/>
                </a:lnTo>
                <a:lnTo>
                  <a:pt x="60" y="311"/>
                </a:lnTo>
                <a:lnTo>
                  <a:pt x="42" y="304"/>
                </a:lnTo>
                <a:lnTo>
                  <a:pt x="32" y="300"/>
                </a:lnTo>
                <a:lnTo>
                  <a:pt x="24" y="295"/>
                </a:lnTo>
                <a:lnTo>
                  <a:pt x="17" y="290"/>
                </a:lnTo>
                <a:lnTo>
                  <a:pt x="12" y="285"/>
                </a:lnTo>
                <a:lnTo>
                  <a:pt x="7" y="279"/>
                </a:lnTo>
                <a:lnTo>
                  <a:pt x="4" y="275"/>
                </a:lnTo>
                <a:lnTo>
                  <a:pt x="1" y="269"/>
                </a:lnTo>
                <a:lnTo>
                  <a:pt x="0" y="264"/>
                </a:lnTo>
                <a:lnTo>
                  <a:pt x="0" y="258"/>
                </a:lnTo>
                <a:lnTo>
                  <a:pt x="0" y="254"/>
                </a:lnTo>
                <a:lnTo>
                  <a:pt x="1" y="248"/>
                </a:lnTo>
                <a:lnTo>
                  <a:pt x="4" y="242"/>
                </a:lnTo>
                <a:lnTo>
                  <a:pt x="9" y="238"/>
                </a:lnTo>
                <a:lnTo>
                  <a:pt x="13" y="233"/>
                </a:lnTo>
                <a:lnTo>
                  <a:pt x="17" y="229"/>
                </a:lnTo>
                <a:lnTo>
                  <a:pt x="24" y="225"/>
                </a:lnTo>
                <a:lnTo>
                  <a:pt x="26" y="223"/>
                </a:lnTo>
                <a:lnTo>
                  <a:pt x="29" y="220"/>
                </a:lnTo>
                <a:lnTo>
                  <a:pt x="33" y="219"/>
                </a:lnTo>
                <a:lnTo>
                  <a:pt x="37" y="216"/>
                </a:lnTo>
                <a:lnTo>
                  <a:pt x="43" y="215"/>
                </a:lnTo>
                <a:lnTo>
                  <a:pt x="50" y="212"/>
                </a:lnTo>
                <a:lnTo>
                  <a:pt x="58" y="209"/>
                </a:lnTo>
                <a:lnTo>
                  <a:pt x="66" y="206"/>
                </a:lnTo>
                <a:lnTo>
                  <a:pt x="75" y="203"/>
                </a:lnTo>
                <a:lnTo>
                  <a:pt x="85" y="200"/>
                </a:lnTo>
                <a:lnTo>
                  <a:pt x="96" y="197"/>
                </a:lnTo>
                <a:lnTo>
                  <a:pt x="108" y="193"/>
                </a:lnTo>
                <a:lnTo>
                  <a:pt x="121" y="190"/>
                </a:lnTo>
                <a:lnTo>
                  <a:pt x="134" y="186"/>
                </a:lnTo>
                <a:lnTo>
                  <a:pt x="148" y="183"/>
                </a:lnTo>
                <a:lnTo>
                  <a:pt x="164" y="179"/>
                </a:lnTo>
                <a:lnTo>
                  <a:pt x="180" y="174"/>
                </a:lnTo>
                <a:lnTo>
                  <a:pt x="197" y="170"/>
                </a:lnTo>
                <a:lnTo>
                  <a:pt x="216" y="166"/>
                </a:lnTo>
                <a:lnTo>
                  <a:pt x="235" y="160"/>
                </a:lnTo>
                <a:lnTo>
                  <a:pt x="253" y="156"/>
                </a:lnTo>
                <a:lnTo>
                  <a:pt x="275" y="150"/>
                </a:lnTo>
                <a:lnTo>
                  <a:pt x="295" y="146"/>
                </a:lnTo>
                <a:lnTo>
                  <a:pt x="318" y="140"/>
                </a:lnTo>
                <a:lnTo>
                  <a:pt x="341" y="134"/>
                </a:lnTo>
                <a:lnTo>
                  <a:pt x="364" y="127"/>
                </a:lnTo>
                <a:lnTo>
                  <a:pt x="389" y="121"/>
                </a:lnTo>
                <a:lnTo>
                  <a:pt x="415" y="115"/>
                </a:lnTo>
                <a:lnTo>
                  <a:pt x="441" y="108"/>
                </a:lnTo>
                <a:lnTo>
                  <a:pt x="468" y="101"/>
                </a:lnTo>
                <a:lnTo>
                  <a:pt x="497" y="94"/>
                </a:lnTo>
                <a:lnTo>
                  <a:pt x="525" y="87"/>
                </a:lnTo>
                <a:lnTo>
                  <a:pt x="553" y="79"/>
                </a:lnTo>
                <a:lnTo>
                  <a:pt x="582" y="72"/>
                </a:lnTo>
                <a:lnTo>
                  <a:pt x="609" y="66"/>
                </a:lnTo>
                <a:lnTo>
                  <a:pt x="635" y="59"/>
                </a:lnTo>
                <a:lnTo>
                  <a:pt x="661" y="53"/>
                </a:lnTo>
                <a:lnTo>
                  <a:pt x="687" y="48"/>
                </a:lnTo>
                <a:lnTo>
                  <a:pt x="711" y="43"/>
                </a:lnTo>
                <a:lnTo>
                  <a:pt x="734" y="38"/>
                </a:lnTo>
                <a:lnTo>
                  <a:pt x="757" y="33"/>
                </a:lnTo>
                <a:lnTo>
                  <a:pt x="780" y="29"/>
                </a:lnTo>
                <a:lnTo>
                  <a:pt x="802" y="25"/>
                </a:lnTo>
                <a:lnTo>
                  <a:pt x="822" y="22"/>
                </a:lnTo>
                <a:lnTo>
                  <a:pt x="842" y="17"/>
                </a:lnTo>
                <a:lnTo>
                  <a:pt x="861" y="15"/>
                </a:lnTo>
                <a:lnTo>
                  <a:pt x="880" y="12"/>
                </a:lnTo>
                <a:lnTo>
                  <a:pt x="898" y="10"/>
                </a:lnTo>
                <a:lnTo>
                  <a:pt x="914" y="7"/>
                </a:lnTo>
                <a:lnTo>
                  <a:pt x="931" y="6"/>
                </a:lnTo>
                <a:lnTo>
                  <a:pt x="946" y="5"/>
                </a:lnTo>
                <a:lnTo>
                  <a:pt x="962" y="3"/>
                </a:lnTo>
                <a:lnTo>
                  <a:pt x="975" y="2"/>
                </a:lnTo>
                <a:lnTo>
                  <a:pt x="989" y="2"/>
                </a:lnTo>
                <a:lnTo>
                  <a:pt x="1001" y="0"/>
                </a:lnTo>
                <a:lnTo>
                  <a:pt x="1012" y="0"/>
                </a:lnTo>
                <a:lnTo>
                  <a:pt x="1024" y="0"/>
                </a:lnTo>
                <a:lnTo>
                  <a:pt x="1034" y="2"/>
                </a:lnTo>
                <a:lnTo>
                  <a:pt x="1042" y="2"/>
                </a:lnTo>
                <a:lnTo>
                  <a:pt x="1051" y="3"/>
                </a:lnTo>
                <a:lnTo>
                  <a:pt x="1058" y="3"/>
                </a:lnTo>
                <a:lnTo>
                  <a:pt x="1065" y="5"/>
                </a:lnTo>
                <a:lnTo>
                  <a:pt x="1071" y="6"/>
                </a:lnTo>
                <a:lnTo>
                  <a:pt x="1077" y="9"/>
                </a:lnTo>
                <a:lnTo>
                  <a:pt x="1087" y="16"/>
                </a:lnTo>
                <a:lnTo>
                  <a:pt x="1096" y="23"/>
                </a:lnTo>
                <a:lnTo>
                  <a:pt x="1104" y="30"/>
                </a:lnTo>
                <a:lnTo>
                  <a:pt x="1113" y="38"/>
                </a:lnTo>
                <a:lnTo>
                  <a:pt x="1120" y="45"/>
                </a:lnTo>
                <a:lnTo>
                  <a:pt x="1127" y="52"/>
                </a:lnTo>
                <a:lnTo>
                  <a:pt x="1133" y="58"/>
                </a:lnTo>
                <a:lnTo>
                  <a:pt x="1140" y="65"/>
                </a:lnTo>
                <a:lnTo>
                  <a:pt x="1144" y="71"/>
                </a:lnTo>
                <a:lnTo>
                  <a:pt x="1150" y="76"/>
                </a:lnTo>
                <a:lnTo>
                  <a:pt x="1153" y="82"/>
                </a:lnTo>
                <a:lnTo>
                  <a:pt x="1157" y="88"/>
                </a:lnTo>
                <a:lnTo>
                  <a:pt x="1160" y="94"/>
                </a:lnTo>
                <a:lnTo>
                  <a:pt x="1162" y="98"/>
                </a:lnTo>
                <a:lnTo>
                  <a:pt x="1163" y="102"/>
                </a:lnTo>
                <a:lnTo>
                  <a:pt x="1163" y="107"/>
                </a:lnTo>
                <a:lnTo>
                  <a:pt x="1163" y="108"/>
                </a:lnTo>
                <a:lnTo>
                  <a:pt x="1162" y="110"/>
                </a:lnTo>
                <a:lnTo>
                  <a:pt x="1159" y="112"/>
                </a:lnTo>
                <a:lnTo>
                  <a:pt x="1157" y="115"/>
                </a:lnTo>
                <a:lnTo>
                  <a:pt x="1153" y="118"/>
                </a:lnTo>
                <a:lnTo>
                  <a:pt x="1149" y="121"/>
                </a:lnTo>
                <a:lnTo>
                  <a:pt x="1143" y="124"/>
                </a:lnTo>
                <a:lnTo>
                  <a:pt x="1137" y="128"/>
                </a:lnTo>
                <a:lnTo>
                  <a:pt x="1130" y="131"/>
                </a:lnTo>
                <a:lnTo>
                  <a:pt x="1123" y="136"/>
                </a:lnTo>
                <a:lnTo>
                  <a:pt x="1114" y="138"/>
                </a:lnTo>
                <a:lnTo>
                  <a:pt x="1106" y="143"/>
                </a:lnTo>
                <a:lnTo>
                  <a:pt x="1094" y="147"/>
                </a:lnTo>
                <a:lnTo>
                  <a:pt x="1084" y="151"/>
                </a:lnTo>
                <a:lnTo>
                  <a:pt x="1073" y="156"/>
                </a:lnTo>
                <a:lnTo>
                  <a:pt x="1060" y="160"/>
                </a:lnTo>
                <a:lnTo>
                  <a:pt x="1047" y="164"/>
                </a:lnTo>
                <a:lnTo>
                  <a:pt x="1032" y="170"/>
                </a:lnTo>
                <a:lnTo>
                  <a:pt x="1016" y="174"/>
                </a:lnTo>
                <a:lnTo>
                  <a:pt x="1002" y="179"/>
                </a:lnTo>
                <a:lnTo>
                  <a:pt x="985" y="184"/>
                </a:lnTo>
                <a:lnTo>
                  <a:pt x="967" y="189"/>
                </a:lnTo>
                <a:lnTo>
                  <a:pt x="949" y="195"/>
                </a:lnTo>
                <a:lnTo>
                  <a:pt x="930" y="200"/>
                </a:lnTo>
                <a:lnTo>
                  <a:pt x="910" y="205"/>
                </a:lnTo>
                <a:lnTo>
                  <a:pt x="890" y="210"/>
                </a:lnTo>
                <a:lnTo>
                  <a:pt x="868" y="216"/>
                </a:lnTo>
                <a:lnTo>
                  <a:pt x="846" y="222"/>
                </a:lnTo>
                <a:lnTo>
                  <a:pt x="822" y="228"/>
                </a:lnTo>
                <a:lnTo>
                  <a:pt x="799" y="233"/>
                </a:lnTo>
                <a:lnTo>
                  <a:pt x="775" y="239"/>
                </a:lnTo>
                <a:lnTo>
                  <a:pt x="749" y="2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37"/>
          <p:cNvSpPr/>
          <p:nvPr/>
        </p:nvSpPr>
        <p:spPr>
          <a:xfrm>
            <a:off x="6143760" y="2828880"/>
            <a:ext cx="222120" cy="884160"/>
          </a:xfrm>
          <a:custGeom>
            <a:avLst/>
            <a:gdLst/>
            <a:ahLst/>
            <a:rect l="l" t="t" r="r" b="b"/>
            <a:pathLst>
              <a:path w="419" h="1670">
                <a:moveTo>
                  <a:pt x="350" y="606"/>
                </a:moveTo>
                <a:lnTo>
                  <a:pt x="350" y="623"/>
                </a:lnTo>
                <a:lnTo>
                  <a:pt x="350" y="642"/>
                </a:lnTo>
                <a:lnTo>
                  <a:pt x="350" y="661"/>
                </a:lnTo>
                <a:lnTo>
                  <a:pt x="350" y="681"/>
                </a:lnTo>
                <a:lnTo>
                  <a:pt x="350" y="702"/>
                </a:lnTo>
                <a:lnTo>
                  <a:pt x="350" y="724"/>
                </a:lnTo>
                <a:lnTo>
                  <a:pt x="350" y="747"/>
                </a:lnTo>
                <a:lnTo>
                  <a:pt x="350" y="771"/>
                </a:lnTo>
                <a:lnTo>
                  <a:pt x="350" y="797"/>
                </a:lnTo>
                <a:lnTo>
                  <a:pt x="350" y="823"/>
                </a:lnTo>
                <a:lnTo>
                  <a:pt x="350" y="852"/>
                </a:lnTo>
                <a:lnTo>
                  <a:pt x="350" y="879"/>
                </a:lnTo>
                <a:lnTo>
                  <a:pt x="350" y="910"/>
                </a:lnTo>
                <a:lnTo>
                  <a:pt x="350" y="940"/>
                </a:lnTo>
                <a:lnTo>
                  <a:pt x="350" y="972"/>
                </a:lnTo>
                <a:lnTo>
                  <a:pt x="350" y="1005"/>
                </a:lnTo>
                <a:lnTo>
                  <a:pt x="350" y="1039"/>
                </a:lnTo>
                <a:lnTo>
                  <a:pt x="350" y="1074"/>
                </a:lnTo>
                <a:lnTo>
                  <a:pt x="350" y="1110"/>
                </a:lnTo>
                <a:lnTo>
                  <a:pt x="350" y="1146"/>
                </a:lnTo>
                <a:lnTo>
                  <a:pt x="350" y="1185"/>
                </a:lnTo>
                <a:lnTo>
                  <a:pt x="350" y="1223"/>
                </a:lnTo>
                <a:lnTo>
                  <a:pt x="350" y="1262"/>
                </a:lnTo>
                <a:lnTo>
                  <a:pt x="350" y="1304"/>
                </a:lnTo>
                <a:lnTo>
                  <a:pt x="350" y="1346"/>
                </a:lnTo>
                <a:lnTo>
                  <a:pt x="350" y="1389"/>
                </a:lnTo>
                <a:lnTo>
                  <a:pt x="350" y="1434"/>
                </a:lnTo>
                <a:lnTo>
                  <a:pt x="350" y="1478"/>
                </a:lnTo>
                <a:lnTo>
                  <a:pt x="350" y="1524"/>
                </a:lnTo>
                <a:lnTo>
                  <a:pt x="350" y="1572"/>
                </a:lnTo>
                <a:lnTo>
                  <a:pt x="350" y="1621"/>
                </a:lnTo>
                <a:lnTo>
                  <a:pt x="350" y="1670"/>
                </a:lnTo>
                <a:lnTo>
                  <a:pt x="255" y="1670"/>
                </a:lnTo>
                <a:lnTo>
                  <a:pt x="161" y="1670"/>
                </a:lnTo>
                <a:lnTo>
                  <a:pt x="158" y="1578"/>
                </a:lnTo>
                <a:lnTo>
                  <a:pt x="157" y="1487"/>
                </a:lnTo>
                <a:lnTo>
                  <a:pt x="155" y="1401"/>
                </a:lnTo>
                <a:lnTo>
                  <a:pt x="154" y="1316"/>
                </a:lnTo>
                <a:lnTo>
                  <a:pt x="153" y="1235"/>
                </a:lnTo>
                <a:lnTo>
                  <a:pt x="151" y="1156"/>
                </a:lnTo>
                <a:lnTo>
                  <a:pt x="148" y="1081"/>
                </a:lnTo>
                <a:lnTo>
                  <a:pt x="147" y="1009"/>
                </a:lnTo>
                <a:lnTo>
                  <a:pt x="145" y="938"/>
                </a:lnTo>
                <a:lnTo>
                  <a:pt x="142" y="872"/>
                </a:lnTo>
                <a:lnTo>
                  <a:pt x="141" y="807"/>
                </a:lnTo>
                <a:lnTo>
                  <a:pt x="140" y="746"/>
                </a:lnTo>
                <a:lnTo>
                  <a:pt x="137" y="688"/>
                </a:lnTo>
                <a:lnTo>
                  <a:pt x="135" y="632"/>
                </a:lnTo>
                <a:lnTo>
                  <a:pt x="132" y="580"/>
                </a:lnTo>
                <a:lnTo>
                  <a:pt x="130" y="530"/>
                </a:lnTo>
                <a:lnTo>
                  <a:pt x="128" y="482"/>
                </a:lnTo>
                <a:lnTo>
                  <a:pt x="125" y="439"/>
                </a:lnTo>
                <a:lnTo>
                  <a:pt x="122" y="397"/>
                </a:lnTo>
                <a:lnTo>
                  <a:pt x="119" y="358"/>
                </a:lnTo>
                <a:lnTo>
                  <a:pt x="117" y="322"/>
                </a:lnTo>
                <a:lnTo>
                  <a:pt x="114" y="289"/>
                </a:lnTo>
                <a:lnTo>
                  <a:pt x="111" y="259"/>
                </a:lnTo>
                <a:lnTo>
                  <a:pt x="106" y="232"/>
                </a:lnTo>
                <a:lnTo>
                  <a:pt x="104" y="207"/>
                </a:lnTo>
                <a:lnTo>
                  <a:pt x="99" y="186"/>
                </a:lnTo>
                <a:lnTo>
                  <a:pt x="96" y="167"/>
                </a:lnTo>
                <a:lnTo>
                  <a:pt x="92" y="151"/>
                </a:lnTo>
                <a:lnTo>
                  <a:pt x="88" y="137"/>
                </a:lnTo>
                <a:lnTo>
                  <a:pt x="83" y="127"/>
                </a:lnTo>
                <a:lnTo>
                  <a:pt x="79" y="119"/>
                </a:lnTo>
                <a:lnTo>
                  <a:pt x="75" y="114"/>
                </a:lnTo>
                <a:lnTo>
                  <a:pt x="65" y="109"/>
                </a:lnTo>
                <a:lnTo>
                  <a:pt x="56" y="105"/>
                </a:lnTo>
                <a:lnTo>
                  <a:pt x="47" y="101"/>
                </a:lnTo>
                <a:lnTo>
                  <a:pt x="39" y="95"/>
                </a:lnTo>
                <a:lnTo>
                  <a:pt x="32" y="89"/>
                </a:lnTo>
                <a:lnTo>
                  <a:pt x="24" y="83"/>
                </a:lnTo>
                <a:lnTo>
                  <a:pt x="19" y="78"/>
                </a:lnTo>
                <a:lnTo>
                  <a:pt x="14" y="72"/>
                </a:lnTo>
                <a:lnTo>
                  <a:pt x="9" y="65"/>
                </a:lnTo>
                <a:lnTo>
                  <a:pt x="6" y="59"/>
                </a:lnTo>
                <a:lnTo>
                  <a:pt x="3" y="52"/>
                </a:lnTo>
                <a:lnTo>
                  <a:pt x="1" y="44"/>
                </a:lnTo>
                <a:lnTo>
                  <a:pt x="0" y="37"/>
                </a:lnTo>
                <a:lnTo>
                  <a:pt x="1" y="30"/>
                </a:lnTo>
                <a:lnTo>
                  <a:pt x="3" y="23"/>
                </a:lnTo>
                <a:lnTo>
                  <a:pt x="6" y="16"/>
                </a:lnTo>
                <a:lnTo>
                  <a:pt x="9" y="11"/>
                </a:lnTo>
                <a:lnTo>
                  <a:pt x="14" y="8"/>
                </a:lnTo>
                <a:lnTo>
                  <a:pt x="20" y="6"/>
                </a:lnTo>
                <a:lnTo>
                  <a:pt x="27" y="4"/>
                </a:lnTo>
                <a:lnTo>
                  <a:pt x="36" y="1"/>
                </a:lnTo>
                <a:lnTo>
                  <a:pt x="46" y="1"/>
                </a:lnTo>
                <a:lnTo>
                  <a:pt x="58" y="0"/>
                </a:lnTo>
                <a:lnTo>
                  <a:pt x="69" y="0"/>
                </a:lnTo>
                <a:lnTo>
                  <a:pt x="83" y="0"/>
                </a:lnTo>
                <a:lnTo>
                  <a:pt x="98" y="1"/>
                </a:lnTo>
                <a:lnTo>
                  <a:pt x="114" y="1"/>
                </a:lnTo>
                <a:lnTo>
                  <a:pt x="131" y="4"/>
                </a:lnTo>
                <a:lnTo>
                  <a:pt x="150" y="6"/>
                </a:lnTo>
                <a:lnTo>
                  <a:pt x="170" y="8"/>
                </a:lnTo>
                <a:lnTo>
                  <a:pt x="190" y="11"/>
                </a:lnTo>
                <a:lnTo>
                  <a:pt x="213" y="16"/>
                </a:lnTo>
                <a:lnTo>
                  <a:pt x="235" y="23"/>
                </a:lnTo>
                <a:lnTo>
                  <a:pt x="255" y="30"/>
                </a:lnTo>
                <a:lnTo>
                  <a:pt x="275" y="37"/>
                </a:lnTo>
                <a:lnTo>
                  <a:pt x="294" y="44"/>
                </a:lnTo>
                <a:lnTo>
                  <a:pt x="309" y="52"/>
                </a:lnTo>
                <a:lnTo>
                  <a:pt x="327" y="59"/>
                </a:lnTo>
                <a:lnTo>
                  <a:pt x="341" y="65"/>
                </a:lnTo>
                <a:lnTo>
                  <a:pt x="354" y="72"/>
                </a:lnTo>
                <a:lnTo>
                  <a:pt x="367" y="78"/>
                </a:lnTo>
                <a:lnTo>
                  <a:pt x="379" y="85"/>
                </a:lnTo>
                <a:lnTo>
                  <a:pt x="387" y="91"/>
                </a:lnTo>
                <a:lnTo>
                  <a:pt x="396" y="95"/>
                </a:lnTo>
                <a:lnTo>
                  <a:pt x="404" y="101"/>
                </a:lnTo>
                <a:lnTo>
                  <a:pt x="410" y="105"/>
                </a:lnTo>
                <a:lnTo>
                  <a:pt x="415" y="109"/>
                </a:lnTo>
                <a:lnTo>
                  <a:pt x="419" y="114"/>
                </a:lnTo>
                <a:lnTo>
                  <a:pt x="419" y="128"/>
                </a:lnTo>
                <a:lnTo>
                  <a:pt x="419" y="144"/>
                </a:lnTo>
                <a:lnTo>
                  <a:pt x="417" y="158"/>
                </a:lnTo>
                <a:lnTo>
                  <a:pt x="417" y="175"/>
                </a:lnTo>
                <a:lnTo>
                  <a:pt x="415" y="191"/>
                </a:lnTo>
                <a:lnTo>
                  <a:pt x="412" y="210"/>
                </a:lnTo>
                <a:lnTo>
                  <a:pt x="410" y="220"/>
                </a:lnTo>
                <a:lnTo>
                  <a:pt x="407" y="230"/>
                </a:lnTo>
                <a:lnTo>
                  <a:pt x="404" y="240"/>
                </a:lnTo>
                <a:lnTo>
                  <a:pt x="402" y="252"/>
                </a:lnTo>
                <a:lnTo>
                  <a:pt x="399" y="263"/>
                </a:lnTo>
                <a:lnTo>
                  <a:pt x="396" y="276"/>
                </a:lnTo>
                <a:lnTo>
                  <a:pt x="392" y="291"/>
                </a:lnTo>
                <a:lnTo>
                  <a:pt x="389" y="306"/>
                </a:lnTo>
                <a:lnTo>
                  <a:pt x="386" y="324"/>
                </a:lnTo>
                <a:lnTo>
                  <a:pt x="383" y="342"/>
                </a:lnTo>
                <a:lnTo>
                  <a:pt x="379" y="363"/>
                </a:lnTo>
                <a:lnTo>
                  <a:pt x="376" y="384"/>
                </a:lnTo>
                <a:lnTo>
                  <a:pt x="373" y="407"/>
                </a:lnTo>
                <a:lnTo>
                  <a:pt x="370" y="432"/>
                </a:lnTo>
                <a:lnTo>
                  <a:pt x="366" y="456"/>
                </a:lnTo>
                <a:lnTo>
                  <a:pt x="363" y="484"/>
                </a:lnTo>
                <a:lnTo>
                  <a:pt x="360" y="512"/>
                </a:lnTo>
                <a:lnTo>
                  <a:pt x="357" y="543"/>
                </a:lnTo>
                <a:lnTo>
                  <a:pt x="353" y="573"/>
                </a:lnTo>
                <a:lnTo>
                  <a:pt x="350" y="60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38"/>
          <p:cNvSpPr/>
          <p:nvPr/>
        </p:nvSpPr>
        <p:spPr>
          <a:xfrm>
            <a:off x="6896160" y="3452760"/>
            <a:ext cx="684000" cy="439920"/>
          </a:xfrm>
          <a:custGeom>
            <a:avLst/>
            <a:gdLst/>
            <a:ahLst/>
            <a:rect l="l" t="t" r="r" b="b"/>
            <a:pathLst>
              <a:path w="1295" h="831">
                <a:moveTo>
                  <a:pt x="881" y="631"/>
                </a:moveTo>
                <a:lnTo>
                  <a:pt x="868" y="642"/>
                </a:lnTo>
                <a:lnTo>
                  <a:pt x="855" y="655"/>
                </a:lnTo>
                <a:lnTo>
                  <a:pt x="843" y="668"/>
                </a:lnTo>
                <a:lnTo>
                  <a:pt x="832" y="680"/>
                </a:lnTo>
                <a:lnTo>
                  <a:pt x="820" y="691"/>
                </a:lnTo>
                <a:lnTo>
                  <a:pt x="810" y="702"/>
                </a:lnTo>
                <a:lnTo>
                  <a:pt x="800" y="713"/>
                </a:lnTo>
                <a:lnTo>
                  <a:pt x="790" y="723"/>
                </a:lnTo>
                <a:lnTo>
                  <a:pt x="780" y="733"/>
                </a:lnTo>
                <a:lnTo>
                  <a:pt x="771" y="742"/>
                </a:lnTo>
                <a:lnTo>
                  <a:pt x="761" y="750"/>
                </a:lnTo>
                <a:lnTo>
                  <a:pt x="754" y="759"/>
                </a:lnTo>
                <a:lnTo>
                  <a:pt x="746" y="768"/>
                </a:lnTo>
                <a:lnTo>
                  <a:pt x="737" y="775"/>
                </a:lnTo>
                <a:lnTo>
                  <a:pt x="730" y="782"/>
                </a:lnTo>
                <a:lnTo>
                  <a:pt x="723" y="789"/>
                </a:lnTo>
                <a:lnTo>
                  <a:pt x="717" y="795"/>
                </a:lnTo>
                <a:lnTo>
                  <a:pt x="710" y="801"/>
                </a:lnTo>
                <a:lnTo>
                  <a:pt x="704" y="807"/>
                </a:lnTo>
                <a:lnTo>
                  <a:pt x="698" y="811"/>
                </a:lnTo>
                <a:lnTo>
                  <a:pt x="692" y="815"/>
                </a:lnTo>
                <a:lnTo>
                  <a:pt x="688" y="818"/>
                </a:lnTo>
                <a:lnTo>
                  <a:pt x="684" y="822"/>
                </a:lnTo>
                <a:lnTo>
                  <a:pt x="679" y="825"/>
                </a:lnTo>
                <a:lnTo>
                  <a:pt x="675" y="827"/>
                </a:lnTo>
                <a:lnTo>
                  <a:pt x="671" y="828"/>
                </a:lnTo>
                <a:lnTo>
                  <a:pt x="668" y="830"/>
                </a:lnTo>
                <a:lnTo>
                  <a:pt x="665" y="831"/>
                </a:lnTo>
                <a:lnTo>
                  <a:pt x="662" y="831"/>
                </a:lnTo>
                <a:lnTo>
                  <a:pt x="659" y="830"/>
                </a:lnTo>
                <a:lnTo>
                  <a:pt x="658" y="830"/>
                </a:lnTo>
                <a:lnTo>
                  <a:pt x="656" y="828"/>
                </a:lnTo>
                <a:lnTo>
                  <a:pt x="653" y="827"/>
                </a:lnTo>
                <a:lnTo>
                  <a:pt x="652" y="825"/>
                </a:lnTo>
                <a:lnTo>
                  <a:pt x="651" y="824"/>
                </a:lnTo>
                <a:lnTo>
                  <a:pt x="651" y="822"/>
                </a:lnTo>
                <a:lnTo>
                  <a:pt x="649" y="820"/>
                </a:lnTo>
                <a:lnTo>
                  <a:pt x="649" y="817"/>
                </a:lnTo>
                <a:lnTo>
                  <a:pt x="649" y="812"/>
                </a:lnTo>
                <a:lnTo>
                  <a:pt x="649" y="809"/>
                </a:lnTo>
                <a:lnTo>
                  <a:pt x="649" y="805"/>
                </a:lnTo>
                <a:lnTo>
                  <a:pt x="651" y="799"/>
                </a:lnTo>
                <a:lnTo>
                  <a:pt x="651" y="795"/>
                </a:lnTo>
                <a:lnTo>
                  <a:pt x="652" y="789"/>
                </a:lnTo>
                <a:lnTo>
                  <a:pt x="653" y="782"/>
                </a:lnTo>
                <a:lnTo>
                  <a:pt x="655" y="776"/>
                </a:lnTo>
                <a:lnTo>
                  <a:pt x="656" y="769"/>
                </a:lnTo>
                <a:lnTo>
                  <a:pt x="658" y="761"/>
                </a:lnTo>
                <a:lnTo>
                  <a:pt x="659" y="753"/>
                </a:lnTo>
                <a:lnTo>
                  <a:pt x="662" y="745"/>
                </a:lnTo>
                <a:lnTo>
                  <a:pt x="663" y="736"/>
                </a:lnTo>
                <a:lnTo>
                  <a:pt x="666" y="726"/>
                </a:lnTo>
                <a:lnTo>
                  <a:pt x="669" y="716"/>
                </a:lnTo>
                <a:lnTo>
                  <a:pt x="672" y="706"/>
                </a:lnTo>
                <a:lnTo>
                  <a:pt x="675" y="694"/>
                </a:lnTo>
                <a:lnTo>
                  <a:pt x="679" y="683"/>
                </a:lnTo>
                <a:lnTo>
                  <a:pt x="682" y="671"/>
                </a:lnTo>
                <a:lnTo>
                  <a:pt x="687" y="660"/>
                </a:lnTo>
                <a:lnTo>
                  <a:pt x="689" y="647"/>
                </a:lnTo>
                <a:lnTo>
                  <a:pt x="694" y="634"/>
                </a:lnTo>
                <a:lnTo>
                  <a:pt x="698" y="619"/>
                </a:lnTo>
                <a:lnTo>
                  <a:pt x="702" y="607"/>
                </a:lnTo>
                <a:lnTo>
                  <a:pt x="708" y="592"/>
                </a:lnTo>
                <a:lnTo>
                  <a:pt x="712" y="576"/>
                </a:lnTo>
                <a:lnTo>
                  <a:pt x="717" y="562"/>
                </a:lnTo>
                <a:lnTo>
                  <a:pt x="721" y="549"/>
                </a:lnTo>
                <a:lnTo>
                  <a:pt x="725" y="535"/>
                </a:lnTo>
                <a:lnTo>
                  <a:pt x="728" y="522"/>
                </a:lnTo>
                <a:lnTo>
                  <a:pt x="733" y="509"/>
                </a:lnTo>
                <a:lnTo>
                  <a:pt x="737" y="496"/>
                </a:lnTo>
                <a:lnTo>
                  <a:pt x="740" y="484"/>
                </a:lnTo>
                <a:lnTo>
                  <a:pt x="743" y="473"/>
                </a:lnTo>
                <a:lnTo>
                  <a:pt x="746" y="461"/>
                </a:lnTo>
                <a:lnTo>
                  <a:pt x="748" y="450"/>
                </a:lnTo>
                <a:lnTo>
                  <a:pt x="751" y="440"/>
                </a:lnTo>
                <a:lnTo>
                  <a:pt x="753" y="429"/>
                </a:lnTo>
                <a:lnTo>
                  <a:pt x="756" y="419"/>
                </a:lnTo>
                <a:lnTo>
                  <a:pt x="757" y="411"/>
                </a:lnTo>
                <a:lnTo>
                  <a:pt x="759" y="402"/>
                </a:lnTo>
                <a:lnTo>
                  <a:pt x="760" y="393"/>
                </a:lnTo>
                <a:lnTo>
                  <a:pt x="761" y="385"/>
                </a:lnTo>
                <a:lnTo>
                  <a:pt x="763" y="378"/>
                </a:lnTo>
                <a:lnTo>
                  <a:pt x="764" y="369"/>
                </a:lnTo>
                <a:lnTo>
                  <a:pt x="764" y="363"/>
                </a:lnTo>
                <a:lnTo>
                  <a:pt x="766" y="356"/>
                </a:lnTo>
                <a:lnTo>
                  <a:pt x="766" y="350"/>
                </a:lnTo>
                <a:lnTo>
                  <a:pt x="766" y="344"/>
                </a:lnTo>
                <a:lnTo>
                  <a:pt x="766" y="339"/>
                </a:lnTo>
                <a:lnTo>
                  <a:pt x="766" y="334"/>
                </a:lnTo>
                <a:lnTo>
                  <a:pt x="764" y="330"/>
                </a:lnTo>
                <a:lnTo>
                  <a:pt x="764" y="326"/>
                </a:lnTo>
                <a:lnTo>
                  <a:pt x="763" y="323"/>
                </a:lnTo>
                <a:lnTo>
                  <a:pt x="761" y="320"/>
                </a:lnTo>
                <a:lnTo>
                  <a:pt x="761" y="317"/>
                </a:lnTo>
                <a:lnTo>
                  <a:pt x="760" y="316"/>
                </a:lnTo>
                <a:lnTo>
                  <a:pt x="757" y="313"/>
                </a:lnTo>
                <a:lnTo>
                  <a:pt x="756" y="311"/>
                </a:lnTo>
                <a:lnTo>
                  <a:pt x="753" y="310"/>
                </a:lnTo>
                <a:lnTo>
                  <a:pt x="750" y="310"/>
                </a:lnTo>
                <a:lnTo>
                  <a:pt x="746" y="309"/>
                </a:lnTo>
                <a:lnTo>
                  <a:pt x="743" y="309"/>
                </a:lnTo>
                <a:lnTo>
                  <a:pt x="738" y="307"/>
                </a:lnTo>
                <a:lnTo>
                  <a:pt x="733" y="307"/>
                </a:lnTo>
                <a:lnTo>
                  <a:pt x="728" y="307"/>
                </a:lnTo>
                <a:lnTo>
                  <a:pt x="723" y="309"/>
                </a:lnTo>
                <a:lnTo>
                  <a:pt x="717" y="309"/>
                </a:lnTo>
                <a:lnTo>
                  <a:pt x="710" y="310"/>
                </a:lnTo>
                <a:lnTo>
                  <a:pt x="702" y="310"/>
                </a:lnTo>
                <a:lnTo>
                  <a:pt x="695" y="311"/>
                </a:lnTo>
                <a:lnTo>
                  <a:pt x="688" y="313"/>
                </a:lnTo>
                <a:lnTo>
                  <a:pt x="679" y="314"/>
                </a:lnTo>
                <a:lnTo>
                  <a:pt x="671" y="317"/>
                </a:lnTo>
                <a:lnTo>
                  <a:pt x="662" y="319"/>
                </a:lnTo>
                <a:lnTo>
                  <a:pt x="652" y="321"/>
                </a:lnTo>
                <a:lnTo>
                  <a:pt x="642" y="324"/>
                </a:lnTo>
                <a:lnTo>
                  <a:pt x="630" y="327"/>
                </a:lnTo>
                <a:lnTo>
                  <a:pt x="620" y="330"/>
                </a:lnTo>
                <a:lnTo>
                  <a:pt x="609" y="333"/>
                </a:lnTo>
                <a:lnTo>
                  <a:pt x="596" y="337"/>
                </a:lnTo>
                <a:lnTo>
                  <a:pt x="584" y="340"/>
                </a:lnTo>
                <a:lnTo>
                  <a:pt x="571" y="344"/>
                </a:lnTo>
                <a:lnTo>
                  <a:pt x="557" y="349"/>
                </a:lnTo>
                <a:lnTo>
                  <a:pt x="544" y="353"/>
                </a:lnTo>
                <a:lnTo>
                  <a:pt x="530" y="359"/>
                </a:lnTo>
                <a:lnTo>
                  <a:pt x="514" y="363"/>
                </a:lnTo>
                <a:lnTo>
                  <a:pt x="499" y="369"/>
                </a:lnTo>
                <a:lnTo>
                  <a:pt x="484" y="375"/>
                </a:lnTo>
                <a:lnTo>
                  <a:pt x="450" y="385"/>
                </a:lnTo>
                <a:lnTo>
                  <a:pt x="419" y="395"/>
                </a:lnTo>
                <a:lnTo>
                  <a:pt x="387" y="404"/>
                </a:lnTo>
                <a:lnTo>
                  <a:pt x="357" y="412"/>
                </a:lnTo>
                <a:lnTo>
                  <a:pt x="327" y="419"/>
                </a:lnTo>
                <a:lnTo>
                  <a:pt x="295" y="425"/>
                </a:lnTo>
                <a:lnTo>
                  <a:pt x="265" y="431"/>
                </a:lnTo>
                <a:lnTo>
                  <a:pt x="234" y="437"/>
                </a:lnTo>
                <a:lnTo>
                  <a:pt x="206" y="441"/>
                </a:lnTo>
                <a:lnTo>
                  <a:pt x="175" y="444"/>
                </a:lnTo>
                <a:lnTo>
                  <a:pt x="147" y="447"/>
                </a:lnTo>
                <a:lnTo>
                  <a:pt x="116" y="450"/>
                </a:lnTo>
                <a:lnTo>
                  <a:pt x="88" y="451"/>
                </a:lnTo>
                <a:lnTo>
                  <a:pt x="59" y="452"/>
                </a:lnTo>
                <a:lnTo>
                  <a:pt x="29" y="452"/>
                </a:lnTo>
                <a:lnTo>
                  <a:pt x="0" y="454"/>
                </a:lnTo>
                <a:lnTo>
                  <a:pt x="0" y="296"/>
                </a:lnTo>
                <a:lnTo>
                  <a:pt x="44" y="291"/>
                </a:lnTo>
                <a:lnTo>
                  <a:pt x="88" y="287"/>
                </a:lnTo>
                <a:lnTo>
                  <a:pt x="129" y="283"/>
                </a:lnTo>
                <a:lnTo>
                  <a:pt x="171" y="277"/>
                </a:lnTo>
                <a:lnTo>
                  <a:pt x="210" y="271"/>
                </a:lnTo>
                <a:lnTo>
                  <a:pt x="249" y="265"/>
                </a:lnTo>
                <a:lnTo>
                  <a:pt x="286" y="258"/>
                </a:lnTo>
                <a:lnTo>
                  <a:pt x="321" y="251"/>
                </a:lnTo>
                <a:lnTo>
                  <a:pt x="338" y="248"/>
                </a:lnTo>
                <a:lnTo>
                  <a:pt x="355" y="244"/>
                </a:lnTo>
                <a:lnTo>
                  <a:pt x="371" y="239"/>
                </a:lnTo>
                <a:lnTo>
                  <a:pt x="389" y="237"/>
                </a:lnTo>
                <a:lnTo>
                  <a:pt x="404" y="232"/>
                </a:lnTo>
                <a:lnTo>
                  <a:pt x="419" y="228"/>
                </a:lnTo>
                <a:lnTo>
                  <a:pt x="435" y="224"/>
                </a:lnTo>
                <a:lnTo>
                  <a:pt x="449" y="218"/>
                </a:lnTo>
                <a:lnTo>
                  <a:pt x="463" y="213"/>
                </a:lnTo>
                <a:lnTo>
                  <a:pt x="476" y="209"/>
                </a:lnTo>
                <a:lnTo>
                  <a:pt x="491" y="203"/>
                </a:lnTo>
                <a:lnTo>
                  <a:pt x="504" y="199"/>
                </a:lnTo>
                <a:lnTo>
                  <a:pt x="517" y="193"/>
                </a:lnTo>
                <a:lnTo>
                  <a:pt x="528" y="189"/>
                </a:lnTo>
                <a:lnTo>
                  <a:pt x="541" y="183"/>
                </a:lnTo>
                <a:lnTo>
                  <a:pt x="553" y="178"/>
                </a:lnTo>
                <a:lnTo>
                  <a:pt x="574" y="170"/>
                </a:lnTo>
                <a:lnTo>
                  <a:pt x="596" y="163"/>
                </a:lnTo>
                <a:lnTo>
                  <a:pt x="616" y="154"/>
                </a:lnTo>
                <a:lnTo>
                  <a:pt x="636" y="147"/>
                </a:lnTo>
                <a:lnTo>
                  <a:pt x="655" y="140"/>
                </a:lnTo>
                <a:lnTo>
                  <a:pt x="674" y="133"/>
                </a:lnTo>
                <a:lnTo>
                  <a:pt x="691" y="126"/>
                </a:lnTo>
                <a:lnTo>
                  <a:pt x="708" y="118"/>
                </a:lnTo>
                <a:lnTo>
                  <a:pt x="724" y="111"/>
                </a:lnTo>
                <a:lnTo>
                  <a:pt x="738" y="104"/>
                </a:lnTo>
                <a:lnTo>
                  <a:pt x="753" y="97"/>
                </a:lnTo>
                <a:lnTo>
                  <a:pt x="766" y="88"/>
                </a:lnTo>
                <a:lnTo>
                  <a:pt x="779" y="81"/>
                </a:lnTo>
                <a:lnTo>
                  <a:pt x="790" y="74"/>
                </a:lnTo>
                <a:lnTo>
                  <a:pt x="802" y="67"/>
                </a:lnTo>
                <a:lnTo>
                  <a:pt x="812" y="59"/>
                </a:lnTo>
                <a:lnTo>
                  <a:pt x="820" y="52"/>
                </a:lnTo>
                <a:lnTo>
                  <a:pt x="829" y="45"/>
                </a:lnTo>
                <a:lnTo>
                  <a:pt x="838" y="39"/>
                </a:lnTo>
                <a:lnTo>
                  <a:pt x="846" y="34"/>
                </a:lnTo>
                <a:lnTo>
                  <a:pt x="855" y="28"/>
                </a:lnTo>
                <a:lnTo>
                  <a:pt x="862" y="23"/>
                </a:lnTo>
                <a:lnTo>
                  <a:pt x="871" y="19"/>
                </a:lnTo>
                <a:lnTo>
                  <a:pt x="878" y="15"/>
                </a:lnTo>
                <a:lnTo>
                  <a:pt x="885" y="11"/>
                </a:lnTo>
                <a:lnTo>
                  <a:pt x="892" y="8"/>
                </a:lnTo>
                <a:lnTo>
                  <a:pt x="900" y="6"/>
                </a:lnTo>
                <a:lnTo>
                  <a:pt x="905" y="3"/>
                </a:lnTo>
                <a:lnTo>
                  <a:pt x="913" y="2"/>
                </a:lnTo>
                <a:lnTo>
                  <a:pt x="918" y="0"/>
                </a:lnTo>
                <a:lnTo>
                  <a:pt x="925" y="0"/>
                </a:lnTo>
                <a:lnTo>
                  <a:pt x="933" y="0"/>
                </a:lnTo>
                <a:lnTo>
                  <a:pt x="936" y="0"/>
                </a:lnTo>
                <a:lnTo>
                  <a:pt x="941" y="2"/>
                </a:lnTo>
                <a:lnTo>
                  <a:pt x="947" y="3"/>
                </a:lnTo>
                <a:lnTo>
                  <a:pt x="954" y="8"/>
                </a:lnTo>
                <a:lnTo>
                  <a:pt x="963" y="12"/>
                </a:lnTo>
                <a:lnTo>
                  <a:pt x="973" y="18"/>
                </a:lnTo>
                <a:lnTo>
                  <a:pt x="985" y="23"/>
                </a:lnTo>
                <a:lnTo>
                  <a:pt x="997" y="32"/>
                </a:lnTo>
                <a:lnTo>
                  <a:pt x="1010" y="41"/>
                </a:lnTo>
                <a:lnTo>
                  <a:pt x="1025" y="51"/>
                </a:lnTo>
                <a:lnTo>
                  <a:pt x="1042" y="62"/>
                </a:lnTo>
                <a:lnTo>
                  <a:pt x="1058" y="74"/>
                </a:lnTo>
                <a:lnTo>
                  <a:pt x="1077" y="88"/>
                </a:lnTo>
                <a:lnTo>
                  <a:pt x="1097" y="104"/>
                </a:lnTo>
                <a:lnTo>
                  <a:pt x="1117" y="120"/>
                </a:lnTo>
                <a:lnTo>
                  <a:pt x="1140" y="139"/>
                </a:lnTo>
                <a:lnTo>
                  <a:pt x="1157" y="156"/>
                </a:lnTo>
                <a:lnTo>
                  <a:pt x="1176" y="173"/>
                </a:lnTo>
                <a:lnTo>
                  <a:pt x="1192" y="189"/>
                </a:lnTo>
                <a:lnTo>
                  <a:pt x="1206" y="205"/>
                </a:lnTo>
                <a:lnTo>
                  <a:pt x="1221" y="219"/>
                </a:lnTo>
                <a:lnTo>
                  <a:pt x="1234" y="234"/>
                </a:lnTo>
                <a:lnTo>
                  <a:pt x="1245" y="247"/>
                </a:lnTo>
                <a:lnTo>
                  <a:pt x="1255" y="260"/>
                </a:lnTo>
                <a:lnTo>
                  <a:pt x="1265" y="271"/>
                </a:lnTo>
                <a:lnTo>
                  <a:pt x="1272" y="281"/>
                </a:lnTo>
                <a:lnTo>
                  <a:pt x="1280" y="291"/>
                </a:lnTo>
                <a:lnTo>
                  <a:pt x="1285" y="301"/>
                </a:lnTo>
                <a:lnTo>
                  <a:pt x="1290" y="311"/>
                </a:lnTo>
                <a:lnTo>
                  <a:pt x="1293" y="320"/>
                </a:lnTo>
                <a:lnTo>
                  <a:pt x="1294" y="327"/>
                </a:lnTo>
                <a:lnTo>
                  <a:pt x="1295" y="336"/>
                </a:lnTo>
                <a:lnTo>
                  <a:pt x="1294" y="342"/>
                </a:lnTo>
                <a:lnTo>
                  <a:pt x="1293" y="349"/>
                </a:lnTo>
                <a:lnTo>
                  <a:pt x="1291" y="355"/>
                </a:lnTo>
                <a:lnTo>
                  <a:pt x="1288" y="360"/>
                </a:lnTo>
                <a:lnTo>
                  <a:pt x="1284" y="366"/>
                </a:lnTo>
                <a:lnTo>
                  <a:pt x="1280" y="370"/>
                </a:lnTo>
                <a:lnTo>
                  <a:pt x="1275" y="375"/>
                </a:lnTo>
                <a:lnTo>
                  <a:pt x="1270" y="379"/>
                </a:lnTo>
                <a:lnTo>
                  <a:pt x="1262" y="383"/>
                </a:lnTo>
                <a:lnTo>
                  <a:pt x="1254" y="386"/>
                </a:lnTo>
                <a:lnTo>
                  <a:pt x="1245" y="388"/>
                </a:lnTo>
                <a:lnTo>
                  <a:pt x="1236" y="391"/>
                </a:lnTo>
                <a:lnTo>
                  <a:pt x="1226" y="392"/>
                </a:lnTo>
                <a:lnTo>
                  <a:pt x="1215" y="393"/>
                </a:lnTo>
                <a:lnTo>
                  <a:pt x="1203" y="393"/>
                </a:lnTo>
                <a:lnTo>
                  <a:pt x="1192" y="395"/>
                </a:lnTo>
                <a:lnTo>
                  <a:pt x="1185" y="395"/>
                </a:lnTo>
                <a:lnTo>
                  <a:pt x="1177" y="395"/>
                </a:lnTo>
                <a:lnTo>
                  <a:pt x="1170" y="396"/>
                </a:lnTo>
                <a:lnTo>
                  <a:pt x="1163" y="398"/>
                </a:lnTo>
                <a:lnTo>
                  <a:pt x="1156" y="399"/>
                </a:lnTo>
                <a:lnTo>
                  <a:pt x="1149" y="402"/>
                </a:lnTo>
                <a:lnTo>
                  <a:pt x="1140" y="405"/>
                </a:lnTo>
                <a:lnTo>
                  <a:pt x="1133" y="409"/>
                </a:lnTo>
                <a:lnTo>
                  <a:pt x="1124" y="412"/>
                </a:lnTo>
                <a:lnTo>
                  <a:pt x="1116" y="416"/>
                </a:lnTo>
                <a:lnTo>
                  <a:pt x="1107" y="422"/>
                </a:lnTo>
                <a:lnTo>
                  <a:pt x="1098" y="427"/>
                </a:lnTo>
                <a:lnTo>
                  <a:pt x="1090" y="432"/>
                </a:lnTo>
                <a:lnTo>
                  <a:pt x="1080" y="440"/>
                </a:lnTo>
                <a:lnTo>
                  <a:pt x="1071" y="445"/>
                </a:lnTo>
                <a:lnTo>
                  <a:pt x="1061" y="452"/>
                </a:lnTo>
                <a:lnTo>
                  <a:pt x="1051" y="460"/>
                </a:lnTo>
                <a:lnTo>
                  <a:pt x="1041" y="468"/>
                </a:lnTo>
                <a:lnTo>
                  <a:pt x="1031" y="477"/>
                </a:lnTo>
                <a:lnTo>
                  <a:pt x="1021" y="486"/>
                </a:lnTo>
                <a:lnTo>
                  <a:pt x="1010" y="496"/>
                </a:lnTo>
                <a:lnTo>
                  <a:pt x="999" y="506"/>
                </a:lnTo>
                <a:lnTo>
                  <a:pt x="987" y="516"/>
                </a:lnTo>
                <a:lnTo>
                  <a:pt x="977" y="526"/>
                </a:lnTo>
                <a:lnTo>
                  <a:pt x="966" y="537"/>
                </a:lnTo>
                <a:lnTo>
                  <a:pt x="954" y="549"/>
                </a:lnTo>
                <a:lnTo>
                  <a:pt x="941" y="562"/>
                </a:lnTo>
                <a:lnTo>
                  <a:pt x="930" y="575"/>
                </a:lnTo>
                <a:lnTo>
                  <a:pt x="918" y="588"/>
                </a:lnTo>
                <a:lnTo>
                  <a:pt x="905" y="601"/>
                </a:lnTo>
                <a:lnTo>
                  <a:pt x="892" y="615"/>
                </a:lnTo>
                <a:lnTo>
                  <a:pt x="881" y="6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39"/>
          <p:cNvSpPr/>
          <p:nvPr/>
        </p:nvSpPr>
        <p:spPr>
          <a:xfrm>
            <a:off x="5584680" y="4140360"/>
            <a:ext cx="1071720" cy="323640"/>
          </a:xfrm>
          <a:custGeom>
            <a:avLst/>
            <a:gdLst/>
            <a:ahLst/>
            <a:rect l="l" t="t" r="r" b="b"/>
            <a:pathLst>
              <a:path w="2024" h="611">
                <a:moveTo>
                  <a:pt x="1336" y="118"/>
                </a:moveTo>
                <a:lnTo>
                  <a:pt x="1360" y="111"/>
                </a:lnTo>
                <a:lnTo>
                  <a:pt x="1383" y="104"/>
                </a:lnTo>
                <a:lnTo>
                  <a:pt x="1406" y="97"/>
                </a:lnTo>
                <a:lnTo>
                  <a:pt x="1428" y="90"/>
                </a:lnTo>
                <a:lnTo>
                  <a:pt x="1449" y="84"/>
                </a:lnTo>
                <a:lnTo>
                  <a:pt x="1471" y="78"/>
                </a:lnTo>
                <a:lnTo>
                  <a:pt x="1491" y="72"/>
                </a:lnTo>
                <a:lnTo>
                  <a:pt x="1511" y="67"/>
                </a:lnTo>
                <a:lnTo>
                  <a:pt x="1530" y="61"/>
                </a:lnTo>
                <a:lnTo>
                  <a:pt x="1549" y="55"/>
                </a:lnTo>
                <a:lnTo>
                  <a:pt x="1566" y="51"/>
                </a:lnTo>
                <a:lnTo>
                  <a:pt x="1583" y="45"/>
                </a:lnTo>
                <a:lnTo>
                  <a:pt x="1601" y="41"/>
                </a:lnTo>
                <a:lnTo>
                  <a:pt x="1616" y="36"/>
                </a:lnTo>
                <a:lnTo>
                  <a:pt x="1632" y="34"/>
                </a:lnTo>
                <a:lnTo>
                  <a:pt x="1647" y="29"/>
                </a:lnTo>
                <a:lnTo>
                  <a:pt x="1661" y="26"/>
                </a:lnTo>
                <a:lnTo>
                  <a:pt x="1674" y="22"/>
                </a:lnTo>
                <a:lnTo>
                  <a:pt x="1687" y="19"/>
                </a:lnTo>
                <a:lnTo>
                  <a:pt x="1700" y="16"/>
                </a:lnTo>
                <a:lnTo>
                  <a:pt x="1711" y="13"/>
                </a:lnTo>
                <a:lnTo>
                  <a:pt x="1723" y="12"/>
                </a:lnTo>
                <a:lnTo>
                  <a:pt x="1734" y="9"/>
                </a:lnTo>
                <a:lnTo>
                  <a:pt x="1745" y="8"/>
                </a:lnTo>
                <a:lnTo>
                  <a:pt x="1753" y="6"/>
                </a:lnTo>
                <a:lnTo>
                  <a:pt x="1762" y="5"/>
                </a:lnTo>
                <a:lnTo>
                  <a:pt x="1770" y="3"/>
                </a:lnTo>
                <a:lnTo>
                  <a:pt x="1778" y="2"/>
                </a:lnTo>
                <a:lnTo>
                  <a:pt x="1785" y="2"/>
                </a:lnTo>
                <a:lnTo>
                  <a:pt x="1791" y="0"/>
                </a:lnTo>
                <a:lnTo>
                  <a:pt x="1796" y="0"/>
                </a:lnTo>
                <a:lnTo>
                  <a:pt x="1802" y="0"/>
                </a:lnTo>
                <a:lnTo>
                  <a:pt x="1812" y="0"/>
                </a:lnTo>
                <a:lnTo>
                  <a:pt x="1822" y="2"/>
                </a:lnTo>
                <a:lnTo>
                  <a:pt x="1831" y="2"/>
                </a:lnTo>
                <a:lnTo>
                  <a:pt x="1841" y="3"/>
                </a:lnTo>
                <a:lnTo>
                  <a:pt x="1851" y="6"/>
                </a:lnTo>
                <a:lnTo>
                  <a:pt x="1861" y="9"/>
                </a:lnTo>
                <a:lnTo>
                  <a:pt x="1871" y="12"/>
                </a:lnTo>
                <a:lnTo>
                  <a:pt x="1883" y="15"/>
                </a:lnTo>
                <a:lnTo>
                  <a:pt x="1893" y="19"/>
                </a:lnTo>
                <a:lnTo>
                  <a:pt x="1904" y="23"/>
                </a:lnTo>
                <a:lnTo>
                  <a:pt x="1914" y="28"/>
                </a:lnTo>
                <a:lnTo>
                  <a:pt x="1926" y="34"/>
                </a:lnTo>
                <a:lnTo>
                  <a:pt x="1937" y="39"/>
                </a:lnTo>
                <a:lnTo>
                  <a:pt x="1950" y="45"/>
                </a:lnTo>
                <a:lnTo>
                  <a:pt x="1962" y="52"/>
                </a:lnTo>
                <a:lnTo>
                  <a:pt x="1975" y="59"/>
                </a:lnTo>
                <a:lnTo>
                  <a:pt x="1983" y="71"/>
                </a:lnTo>
                <a:lnTo>
                  <a:pt x="1992" y="81"/>
                </a:lnTo>
                <a:lnTo>
                  <a:pt x="1999" y="91"/>
                </a:lnTo>
                <a:lnTo>
                  <a:pt x="2007" y="100"/>
                </a:lnTo>
                <a:lnTo>
                  <a:pt x="2012" y="110"/>
                </a:lnTo>
                <a:lnTo>
                  <a:pt x="2017" y="118"/>
                </a:lnTo>
                <a:lnTo>
                  <a:pt x="2019" y="126"/>
                </a:lnTo>
                <a:lnTo>
                  <a:pt x="2022" y="133"/>
                </a:lnTo>
                <a:lnTo>
                  <a:pt x="2024" y="140"/>
                </a:lnTo>
                <a:lnTo>
                  <a:pt x="2022" y="147"/>
                </a:lnTo>
                <a:lnTo>
                  <a:pt x="2021" y="153"/>
                </a:lnTo>
                <a:lnTo>
                  <a:pt x="2018" y="159"/>
                </a:lnTo>
                <a:lnTo>
                  <a:pt x="2017" y="162"/>
                </a:lnTo>
                <a:lnTo>
                  <a:pt x="2014" y="165"/>
                </a:lnTo>
                <a:lnTo>
                  <a:pt x="2011" y="167"/>
                </a:lnTo>
                <a:lnTo>
                  <a:pt x="2008" y="169"/>
                </a:lnTo>
                <a:lnTo>
                  <a:pt x="2005" y="172"/>
                </a:lnTo>
                <a:lnTo>
                  <a:pt x="2001" y="173"/>
                </a:lnTo>
                <a:lnTo>
                  <a:pt x="1996" y="176"/>
                </a:lnTo>
                <a:lnTo>
                  <a:pt x="1992" y="177"/>
                </a:lnTo>
                <a:lnTo>
                  <a:pt x="1982" y="185"/>
                </a:lnTo>
                <a:lnTo>
                  <a:pt x="1973" y="192"/>
                </a:lnTo>
                <a:lnTo>
                  <a:pt x="1965" y="198"/>
                </a:lnTo>
                <a:lnTo>
                  <a:pt x="1956" y="203"/>
                </a:lnTo>
                <a:lnTo>
                  <a:pt x="1947" y="209"/>
                </a:lnTo>
                <a:lnTo>
                  <a:pt x="1940" y="213"/>
                </a:lnTo>
                <a:lnTo>
                  <a:pt x="1932" y="218"/>
                </a:lnTo>
                <a:lnTo>
                  <a:pt x="1923" y="222"/>
                </a:lnTo>
                <a:lnTo>
                  <a:pt x="1916" y="225"/>
                </a:lnTo>
                <a:lnTo>
                  <a:pt x="1907" y="228"/>
                </a:lnTo>
                <a:lnTo>
                  <a:pt x="1899" y="231"/>
                </a:lnTo>
                <a:lnTo>
                  <a:pt x="1890" y="232"/>
                </a:lnTo>
                <a:lnTo>
                  <a:pt x="1881" y="235"/>
                </a:lnTo>
                <a:lnTo>
                  <a:pt x="1873" y="235"/>
                </a:lnTo>
                <a:lnTo>
                  <a:pt x="1864" y="236"/>
                </a:lnTo>
                <a:lnTo>
                  <a:pt x="1854" y="236"/>
                </a:lnTo>
                <a:lnTo>
                  <a:pt x="1844" y="236"/>
                </a:lnTo>
                <a:lnTo>
                  <a:pt x="1834" y="236"/>
                </a:lnTo>
                <a:lnTo>
                  <a:pt x="1822" y="236"/>
                </a:lnTo>
                <a:lnTo>
                  <a:pt x="1812" y="236"/>
                </a:lnTo>
                <a:lnTo>
                  <a:pt x="1799" y="236"/>
                </a:lnTo>
                <a:lnTo>
                  <a:pt x="1788" y="238"/>
                </a:lnTo>
                <a:lnTo>
                  <a:pt x="1775" y="238"/>
                </a:lnTo>
                <a:lnTo>
                  <a:pt x="1762" y="239"/>
                </a:lnTo>
                <a:lnTo>
                  <a:pt x="1747" y="239"/>
                </a:lnTo>
                <a:lnTo>
                  <a:pt x="1733" y="241"/>
                </a:lnTo>
                <a:lnTo>
                  <a:pt x="1717" y="242"/>
                </a:lnTo>
                <a:lnTo>
                  <a:pt x="1701" y="245"/>
                </a:lnTo>
                <a:lnTo>
                  <a:pt x="1684" y="247"/>
                </a:lnTo>
                <a:lnTo>
                  <a:pt x="1667" y="249"/>
                </a:lnTo>
                <a:lnTo>
                  <a:pt x="1648" y="252"/>
                </a:lnTo>
                <a:lnTo>
                  <a:pt x="1629" y="257"/>
                </a:lnTo>
                <a:lnTo>
                  <a:pt x="1618" y="258"/>
                </a:lnTo>
                <a:lnTo>
                  <a:pt x="1605" y="261"/>
                </a:lnTo>
                <a:lnTo>
                  <a:pt x="1592" y="262"/>
                </a:lnTo>
                <a:lnTo>
                  <a:pt x="1579" y="267"/>
                </a:lnTo>
                <a:lnTo>
                  <a:pt x="1565" y="270"/>
                </a:lnTo>
                <a:lnTo>
                  <a:pt x="1550" y="272"/>
                </a:lnTo>
                <a:lnTo>
                  <a:pt x="1536" y="277"/>
                </a:lnTo>
                <a:lnTo>
                  <a:pt x="1520" y="281"/>
                </a:lnTo>
                <a:lnTo>
                  <a:pt x="1503" y="285"/>
                </a:lnTo>
                <a:lnTo>
                  <a:pt x="1485" y="291"/>
                </a:lnTo>
                <a:lnTo>
                  <a:pt x="1468" y="296"/>
                </a:lnTo>
                <a:lnTo>
                  <a:pt x="1449" y="301"/>
                </a:lnTo>
                <a:lnTo>
                  <a:pt x="1431" y="307"/>
                </a:lnTo>
                <a:lnTo>
                  <a:pt x="1411" y="313"/>
                </a:lnTo>
                <a:lnTo>
                  <a:pt x="1390" y="319"/>
                </a:lnTo>
                <a:lnTo>
                  <a:pt x="1370" y="324"/>
                </a:lnTo>
                <a:lnTo>
                  <a:pt x="1349" y="332"/>
                </a:lnTo>
                <a:lnTo>
                  <a:pt x="1327" y="337"/>
                </a:lnTo>
                <a:lnTo>
                  <a:pt x="1304" y="344"/>
                </a:lnTo>
                <a:lnTo>
                  <a:pt x="1281" y="352"/>
                </a:lnTo>
                <a:lnTo>
                  <a:pt x="1258" y="359"/>
                </a:lnTo>
                <a:lnTo>
                  <a:pt x="1233" y="367"/>
                </a:lnTo>
                <a:lnTo>
                  <a:pt x="1208" y="375"/>
                </a:lnTo>
                <a:lnTo>
                  <a:pt x="1183" y="383"/>
                </a:lnTo>
                <a:lnTo>
                  <a:pt x="1157" y="391"/>
                </a:lnTo>
                <a:lnTo>
                  <a:pt x="1130" y="399"/>
                </a:lnTo>
                <a:lnTo>
                  <a:pt x="1102" y="408"/>
                </a:lnTo>
                <a:lnTo>
                  <a:pt x="1074" y="416"/>
                </a:lnTo>
                <a:lnTo>
                  <a:pt x="1046" y="425"/>
                </a:lnTo>
                <a:lnTo>
                  <a:pt x="1016" y="435"/>
                </a:lnTo>
                <a:lnTo>
                  <a:pt x="987" y="444"/>
                </a:lnTo>
                <a:lnTo>
                  <a:pt x="957" y="454"/>
                </a:lnTo>
                <a:lnTo>
                  <a:pt x="925" y="463"/>
                </a:lnTo>
                <a:lnTo>
                  <a:pt x="897" y="471"/>
                </a:lnTo>
                <a:lnTo>
                  <a:pt x="866" y="480"/>
                </a:lnTo>
                <a:lnTo>
                  <a:pt x="839" y="488"/>
                </a:lnTo>
                <a:lnTo>
                  <a:pt x="810" y="497"/>
                </a:lnTo>
                <a:lnTo>
                  <a:pt x="783" y="506"/>
                </a:lnTo>
                <a:lnTo>
                  <a:pt x="757" y="513"/>
                </a:lnTo>
                <a:lnTo>
                  <a:pt x="730" y="520"/>
                </a:lnTo>
                <a:lnTo>
                  <a:pt x="705" y="527"/>
                </a:lnTo>
                <a:lnTo>
                  <a:pt x="679" y="534"/>
                </a:lnTo>
                <a:lnTo>
                  <a:pt x="656" y="542"/>
                </a:lnTo>
                <a:lnTo>
                  <a:pt x="632" y="547"/>
                </a:lnTo>
                <a:lnTo>
                  <a:pt x="609" y="553"/>
                </a:lnTo>
                <a:lnTo>
                  <a:pt x="587" y="559"/>
                </a:lnTo>
                <a:lnTo>
                  <a:pt x="565" y="565"/>
                </a:lnTo>
                <a:lnTo>
                  <a:pt x="544" y="570"/>
                </a:lnTo>
                <a:lnTo>
                  <a:pt x="524" y="575"/>
                </a:lnTo>
                <a:lnTo>
                  <a:pt x="504" y="579"/>
                </a:lnTo>
                <a:lnTo>
                  <a:pt x="485" y="583"/>
                </a:lnTo>
                <a:lnTo>
                  <a:pt x="466" y="588"/>
                </a:lnTo>
                <a:lnTo>
                  <a:pt x="449" y="591"/>
                </a:lnTo>
                <a:lnTo>
                  <a:pt x="432" y="595"/>
                </a:lnTo>
                <a:lnTo>
                  <a:pt x="416" y="598"/>
                </a:lnTo>
                <a:lnTo>
                  <a:pt x="400" y="601"/>
                </a:lnTo>
                <a:lnTo>
                  <a:pt x="386" y="602"/>
                </a:lnTo>
                <a:lnTo>
                  <a:pt x="371" y="605"/>
                </a:lnTo>
                <a:lnTo>
                  <a:pt x="357" y="606"/>
                </a:lnTo>
                <a:lnTo>
                  <a:pt x="344" y="608"/>
                </a:lnTo>
                <a:lnTo>
                  <a:pt x="332" y="609"/>
                </a:lnTo>
                <a:lnTo>
                  <a:pt x="321" y="611"/>
                </a:lnTo>
                <a:lnTo>
                  <a:pt x="311" y="611"/>
                </a:lnTo>
                <a:lnTo>
                  <a:pt x="301" y="611"/>
                </a:lnTo>
                <a:lnTo>
                  <a:pt x="278" y="611"/>
                </a:lnTo>
                <a:lnTo>
                  <a:pt x="257" y="609"/>
                </a:lnTo>
                <a:lnTo>
                  <a:pt x="237" y="609"/>
                </a:lnTo>
                <a:lnTo>
                  <a:pt x="219" y="606"/>
                </a:lnTo>
                <a:lnTo>
                  <a:pt x="200" y="605"/>
                </a:lnTo>
                <a:lnTo>
                  <a:pt x="184" y="602"/>
                </a:lnTo>
                <a:lnTo>
                  <a:pt x="168" y="598"/>
                </a:lnTo>
                <a:lnTo>
                  <a:pt x="152" y="594"/>
                </a:lnTo>
                <a:lnTo>
                  <a:pt x="138" y="589"/>
                </a:lnTo>
                <a:lnTo>
                  <a:pt x="125" y="583"/>
                </a:lnTo>
                <a:lnTo>
                  <a:pt x="112" y="576"/>
                </a:lnTo>
                <a:lnTo>
                  <a:pt x="100" y="569"/>
                </a:lnTo>
                <a:lnTo>
                  <a:pt x="89" y="562"/>
                </a:lnTo>
                <a:lnTo>
                  <a:pt x="77" y="553"/>
                </a:lnTo>
                <a:lnTo>
                  <a:pt x="67" y="543"/>
                </a:lnTo>
                <a:lnTo>
                  <a:pt x="59" y="533"/>
                </a:lnTo>
                <a:lnTo>
                  <a:pt x="49" y="522"/>
                </a:lnTo>
                <a:lnTo>
                  <a:pt x="40" y="511"/>
                </a:lnTo>
                <a:lnTo>
                  <a:pt x="33" y="503"/>
                </a:lnTo>
                <a:lnTo>
                  <a:pt x="26" y="494"/>
                </a:lnTo>
                <a:lnTo>
                  <a:pt x="20" y="487"/>
                </a:lnTo>
                <a:lnTo>
                  <a:pt x="14" y="480"/>
                </a:lnTo>
                <a:lnTo>
                  <a:pt x="10" y="474"/>
                </a:lnTo>
                <a:lnTo>
                  <a:pt x="7" y="468"/>
                </a:lnTo>
                <a:lnTo>
                  <a:pt x="4" y="463"/>
                </a:lnTo>
                <a:lnTo>
                  <a:pt x="1" y="458"/>
                </a:lnTo>
                <a:lnTo>
                  <a:pt x="1" y="454"/>
                </a:lnTo>
                <a:lnTo>
                  <a:pt x="0" y="450"/>
                </a:lnTo>
                <a:lnTo>
                  <a:pt x="1" y="445"/>
                </a:lnTo>
                <a:lnTo>
                  <a:pt x="1" y="441"/>
                </a:lnTo>
                <a:lnTo>
                  <a:pt x="4" y="438"/>
                </a:lnTo>
                <a:lnTo>
                  <a:pt x="7" y="434"/>
                </a:lnTo>
                <a:lnTo>
                  <a:pt x="10" y="431"/>
                </a:lnTo>
                <a:lnTo>
                  <a:pt x="14" y="427"/>
                </a:lnTo>
                <a:lnTo>
                  <a:pt x="18" y="424"/>
                </a:lnTo>
                <a:lnTo>
                  <a:pt x="23" y="422"/>
                </a:lnTo>
                <a:lnTo>
                  <a:pt x="27" y="419"/>
                </a:lnTo>
                <a:lnTo>
                  <a:pt x="33" y="418"/>
                </a:lnTo>
                <a:lnTo>
                  <a:pt x="39" y="416"/>
                </a:lnTo>
                <a:lnTo>
                  <a:pt x="46" y="414"/>
                </a:lnTo>
                <a:lnTo>
                  <a:pt x="52" y="412"/>
                </a:lnTo>
                <a:lnTo>
                  <a:pt x="59" y="411"/>
                </a:lnTo>
                <a:lnTo>
                  <a:pt x="67" y="408"/>
                </a:lnTo>
                <a:lnTo>
                  <a:pt x="75" y="406"/>
                </a:lnTo>
                <a:lnTo>
                  <a:pt x="83" y="403"/>
                </a:lnTo>
                <a:lnTo>
                  <a:pt x="92" y="401"/>
                </a:lnTo>
                <a:lnTo>
                  <a:pt x="100" y="398"/>
                </a:lnTo>
                <a:lnTo>
                  <a:pt x="111" y="395"/>
                </a:lnTo>
                <a:lnTo>
                  <a:pt x="115" y="393"/>
                </a:lnTo>
                <a:lnTo>
                  <a:pt x="121" y="393"/>
                </a:lnTo>
                <a:lnTo>
                  <a:pt x="128" y="393"/>
                </a:lnTo>
                <a:lnTo>
                  <a:pt x="134" y="393"/>
                </a:lnTo>
                <a:lnTo>
                  <a:pt x="142" y="393"/>
                </a:lnTo>
                <a:lnTo>
                  <a:pt x="149" y="392"/>
                </a:lnTo>
                <a:lnTo>
                  <a:pt x="160" y="391"/>
                </a:lnTo>
                <a:lnTo>
                  <a:pt x="168" y="391"/>
                </a:lnTo>
                <a:lnTo>
                  <a:pt x="178" y="389"/>
                </a:lnTo>
                <a:lnTo>
                  <a:pt x="188" y="388"/>
                </a:lnTo>
                <a:lnTo>
                  <a:pt x="200" y="386"/>
                </a:lnTo>
                <a:lnTo>
                  <a:pt x="213" y="385"/>
                </a:lnTo>
                <a:lnTo>
                  <a:pt x="224" y="383"/>
                </a:lnTo>
                <a:lnTo>
                  <a:pt x="237" y="382"/>
                </a:lnTo>
                <a:lnTo>
                  <a:pt x="252" y="379"/>
                </a:lnTo>
                <a:lnTo>
                  <a:pt x="266" y="378"/>
                </a:lnTo>
                <a:lnTo>
                  <a:pt x="280" y="375"/>
                </a:lnTo>
                <a:lnTo>
                  <a:pt x="296" y="372"/>
                </a:lnTo>
                <a:lnTo>
                  <a:pt x="312" y="370"/>
                </a:lnTo>
                <a:lnTo>
                  <a:pt x="329" y="367"/>
                </a:lnTo>
                <a:lnTo>
                  <a:pt x="347" y="363"/>
                </a:lnTo>
                <a:lnTo>
                  <a:pt x="364" y="360"/>
                </a:lnTo>
                <a:lnTo>
                  <a:pt x="383" y="357"/>
                </a:lnTo>
                <a:lnTo>
                  <a:pt x="401" y="353"/>
                </a:lnTo>
                <a:lnTo>
                  <a:pt x="422" y="349"/>
                </a:lnTo>
                <a:lnTo>
                  <a:pt x="442" y="344"/>
                </a:lnTo>
                <a:lnTo>
                  <a:pt x="463" y="340"/>
                </a:lnTo>
                <a:lnTo>
                  <a:pt x="485" y="336"/>
                </a:lnTo>
                <a:lnTo>
                  <a:pt x="506" y="332"/>
                </a:lnTo>
                <a:lnTo>
                  <a:pt x="529" y="326"/>
                </a:lnTo>
                <a:lnTo>
                  <a:pt x="553" y="321"/>
                </a:lnTo>
                <a:lnTo>
                  <a:pt x="577" y="316"/>
                </a:lnTo>
                <a:lnTo>
                  <a:pt x="625" y="304"/>
                </a:lnTo>
                <a:lnTo>
                  <a:pt x="672" y="293"/>
                </a:lnTo>
                <a:lnTo>
                  <a:pt x="767" y="271"/>
                </a:lnTo>
                <a:lnTo>
                  <a:pt x="862" y="248"/>
                </a:lnTo>
                <a:lnTo>
                  <a:pt x="956" y="225"/>
                </a:lnTo>
                <a:lnTo>
                  <a:pt x="1051" y="200"/>
                </a:lnTo>
                <a:lnTo>
                  <a:pt x="1097" y="188"/>
                </a:lnTo>
                <a:lnTo>
                  <a:pt x="1144" y="175"/>
                </a:lnTo>
                <a:lnTo>
                  <a:pt x="1192" y="162"/>
                </a:lnTo>
                <a:lnTo>
                  <a:pt x="1239" y="147"/>
                </a:lnTo>
                <a:lnTo>
                  <a:pt x="1287" y="133"/>
                </a:lnTo>
                <a:lnTo>
                  <a:pt x="1336" y="1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40"/>
          <p:cNvSpPr/>
          <p:nvPr/>
        </p:nvSpPr>
        <p:spPr>
          <a:xfrm>
            <a:off x="5745240" y="4505400"/>
            <a:ext cx="203040" cy="458640"/>
          </a:xfrm>
          <a:custGeom>
            <a:avLst/>
            <a:gdLst/>
            <a:ahLst/>
            <a:rect l="l" t="t" r="r" b="b"/>
            <a:pathLst>
              <a:path w="385" h="867">
                <a:moveTo>
                  <a:pt x="121" y="867"/>
                </a:moveTo>
                <a:lnTo>
                  <a:pt x="116" y="867"/>
                </a:lnTo>
                <a:lnTo>
                  <a:pt x="113" y="865"/>
                </a:lnTo>
                <a:lnTo>
                  <a:pt x="109" y="862"/>
                </a:lnTo>
                <a:lnTo>
                  <a:pt x="105" y="859"/>
                </a:lnTo>
                <a:lnTo>
                  <a:pt x="99" y="855"/>
                </a:lnTo>
                <a:lnTo>
                  <a:pt x="95" y="849"/>
                </a:lnTo>
                <a:lnTo>
                  <a:pt x="90" y="844"/>
                </a:lnTo>
                <a:lnTo>
                  <a:pt x="86" y="836"/>
                </a:lnTo>
                <a:lnTo>
                  <a:pt x="80" y="829"/>
                </a:lnTo>
                <a:lnTo>
                  <a:pt x="76" y="821"/>
                </a:lnTo>
                <a:lnTo>
                  <a:pt x="72" y="810"/>
                </a:lnTo>
                <a:lnTo>
                  <a:pt x="66" y="800"/>
                </a:lnTo>
                <a:lnTo>
                  <a:pt x="61" y="789"/>
                </a:lnTo>
                <a:lnTo>
                  <a:pt x="59" y="776"/>
                </a:lnTo>
                <a:lnTo>
                  <a:pt x="54" y="763"/>
                </a:lnTo>
                <a:lnTo>
                  <a:pt x="51" y="749"/>
                </a:lnTo>
                <a:lnTo>
                  <a:pt x="44" y="737"/>
                </a:lnTo>
                <a:lnTo>
                  <a:pt x="38" y="727"/>
                </a:lnTo>
                <a:lnTo>
                  <a:pt x="33" y="715"/>
                </a:lnTo>
                <a:lnTo>
                  <a:pt x="28" y="704"/>
                </a:lnTo>
                <a:lnTo>
                  <a:pt x="24" y="694"/>
                </a:lnTo>
                <a:lnTo>
                  <a:pt x="20" y="684"/>
                </a:lnTo>
                <a:lnTo>
                  <a:pt x="15" y="674"/>
                </a:lnTo>
                <a:lnTo>
                  <a:pt x="13" y="665"/>
                </a:lnTo>
                <a:lnTo>
                  <a:pt x="10" y="655"/>
                </a:lnTo>
                <a:lnTo>
                  <a:pt x="7" y="646"/>
                </a:lnTo>
                <a:lnTo>
                  <a:pt x="4" y="639"/>
                </a:lnTo>
                <a:lnTo>
                  <a:pt x="2" y="632"/>
                </a:lnTo>
                <a:lnTo>
                  <a:pt x="1" y="625"/>
                </a:lnTo>
                <a:lnTo>
                  <a:pt x="0" y="619"/>
                </a:lnTo>
                <a:lnTo>
                  <a:pt x="0" y="615"/>
                </a:lnTo>
                <a:lnTo>
                  <a:pt x="0" y="610"/>
                </a:lnTo>
                <a:lnTo>
                  <a:pt x="0" y="606"/>
                </a:lnTo>
                <a:lnTo>
                  <a:pt x="1" y="602"/>
                </a:lnTo>
                <a:lnTo>
                  <a:pt x="2" y="596"/>
                </a:lnTo>
                <a:lnTo>
                  <a:pt x="5" y="589"/>
                </a:lnTo>
                <a:lnTo>
                  <a:pt x="8" y="582"/>
                </a:lnTo>
                <a:lnTo>
                  <a:pt x="13" y="574"/>
                </a:lnTo>
                <a:lnTo>
                  <a:pt x="17" y="566"/>
                </a:lnTo>
                <a:lnTo>
                  <a:pt x="23" y="557"/>
                </a:lnTo>
                <a:lnTo>
                  <a:pt x="28" y="547"/>
                </a:lnTo>
                <a:lnTo>
                  <a:pt x="36" y="537"/>
                </a:lnTo>
                <a:lnTo>
                  <a:pt x="43" y="527"/>
                </a:lnTo>
                <a:lnTo>
                  <a:pt x="50" y="517"/>
                </a:lnTo>
                <a:lnTo>
                  <a:pt x="59" y="505"/>
                </a:lnTo>
                <a:lnTo>
                  <a:pt x="67" y="495"/>
                </a:lnTo>
                <a:lnTo>
                  <a:pt x="76" y="484"/>
                </a:lnTo>
                <a:lnTo>
                  <a:pt x="86" y="472"/>
                </a:lnTo>
                <a:lnTo>
                  <a:pt x="90" y="466"/>
                </a:lnTo>
                <a:lnTo>
                  <a:pt x="95" y="461"/>
                </a:lnTo>
                <a:lnTo>
                  <a:pt x="100" y="453"/>
                </a:lnTo>
                <a:lnTo>
                  <a:pt x="105" y="445"/>
                </a:lnTo>
                <a:lnTo>
                  <a:pt x="110" y="438"/>
                </a:lnTo>
                <a:lnTo>
                  <a:pt x="116" y="429"/>
                </a:lnTo>
                <a:lnTo>
                  <a:pt x="122" y="419"/>
                </a:lnTo>
                <a:lnTo>
                  <a:pt x="128" y="410"/>
                </a:lnTo>
                <a:lnTo>
                  <a:pt x="132" y="399"/>
                </a:lnTo>
                <a:lnTo>
                  <a:pt x="138" y="389"/>
                </a:lnTo>
                <a:lnTo>
                  <a:pt x="144" y="377"/>
                </a:lnTo>
                <a:lnTo>
                  <a:pt x="149" y="364"/>
                </a:lnTo>
                <a:lnTo>
                  <a:pt x="157" y="351"/>
                </a:lnTo>
                <a:lnTo>
                  <a:pt x="162" y="338"/>
                </a:lnTo>
                <a:lnTo>
                  <a:pt x="168" y="324"/>
                </a:lnTo>
                <a:lnTo>
                  <a:pt x="174" y="309"/>
                </a:lnTo>
                <a:lnTo>
                  <a:pt x="180" y="295"/>
                </a:lnTo>
                <a:lnTo>
                  <a:pt x="187" y="279"/>
                </a:lnTo>
                <a:lnTo>
                  <a:pt x="192" y="263"/>
                </a:lnTo>
                <a:lnTo>
                  <a:pt x="198" y="246"/>
                </a:lnTo>
                <a:lnTo>
                  <a:pt x="205" y="229"/>
                </a:lnTo>
                <a:lnTo>
                  <a:pt x="211" y="212"/>
                </a:lnTo>
                <a:lnTo>
                  <a:pt x="218" y="193"/>
                </a:lnTo>
                <a:lnTo>
                  <a:pt x="224" y="174"/>
                </a:lnTo>
                <a:lnTo>
                  <a:pt x="230" y="154"/>
                </a:lnTo>
                <a:lnTo>
                  <a:pt x="237" y="134"/>
                </a:lnTo>
                <a:lnTo>
                  <a:pt x="243" y="112"/>
                </a:lnTo>
                <a:lnTo>
                  <a:pt x="250" y="92"/>
                </a:lnTo>
                <a:lnTo>
                  <a:pt x="256" y="69"/>
                </a:lnTo>
                <a:lnTo>
                  <a:pt x="263" y="47"/>
                </a:lnTo>
                <a:lnTo>
                  <a:pt x="269" y="24"/>
                </a:lnTo>
                <a:lnTo>
                  <a:pt x="276" y="0"/>
                </a:lnTo>
                <a:lnTo>
                  <a:pt x="285" y="4"/>
                </a:lnTo>
                <a:lnTo>
                  <a:pt x="293" y="9"/>
                </a:lnTo>
                <a:lnTo>
                  <a:pt x="303" y="16"/>
                </a:lnTo>
                <a:lnTo>
                  <a:pt x="311" y="22"/>
                </a:lnTo>
                <a:lnTo>
                  <a:pt x="319" y="30"/>
                </a:lnTo>
                <a:lnTo>
                  <a:pt x="326" y="39"/>
                </a:lnTo>
                <a:lnTo>
                  <a:pt x="334" y="49"/>
                </a:lnTo>
                <a:lnTo>
                  <a:pt x="341" y="59"/>
                </a:lnTo>
                <a:lnTo>
                  <a:pt x="347" y="71"/>
                </a:lnTo>
                <a:lnTo>
                  <a:pt x="352" y="83"/>
                </a:lnTo>
                <a:lnTo>
                  <a:pt x="358" y="96"/>
                </a:lnTo>
                <a:lnTo>
                  <a:pt x="362" y="111"/>
                </a:lnTo>
                <a:lnTo>
                  <a:pt x="368" y="125"/>
                </a:lnTo>
                <a:lnTo>
                  <a:pt x="371" y="142"/>
                </a:lnTo>
                <a:lnTo>
                  <a:pt x="375" y="158"/>
                </a:lnTo>
                <a:lnTo>
                  <a:pt x="380" y="177"/>
                </a:lnTo>
                <a:lnTo>
                  <a:pt x="381" y="196"/>
                </a:lnTo>
                <a:lnTo>
                  <a:pt x="384" y="214"/>
                </a:lnTo>
                <a:lnTo>
                  <a:pt x="385" y="233"/>
                </a:lnTo>
                <a:lnTo>
                  <a:pt x="385" y="250"/>
                </a:lnTo>
                <a:lnTo>
                  <a:pt x="385" y="269"/>
                </a:lnTo>
                <a:lnTo>
                  <a:pt x="385" y="288"/>
                </a:lnTo>
                <a:lnTo>
                  <a:pt x="384" y="307"/>
                </a:lnTo>
                <a:lnTo>
                  <a:pt x="383" y="325"/>
                </a:lnTo>
                <a:lnTo>
                  <a:pt x="381" y="343"/>
                </a:lnTo>
                <a:lnTo>
                  <a:pt x="378" y="361"/>
                </a:lnTo>
                <a:lnTo>
                  <a:pt x="374" y="399"/>
                </a:lnTo>
                <a:lnTo>
                  <a:pt x="368" y="435"/>
                </a:lnTo>
                <a:lnTo>
                  <a:pt x="362" y="472"/>
                </a:lnTo>
                <a:lnTo>
                  <a:pt x="355" y="494"/>
                </a:lnTo>
                <a:lnTo>
                  <a:pt x="349" y="515"/>
                </a:lnTo>
                <a:lnTo>
                  <a:pt x="342" y="537"/>
                </a:lnTo>
                <a:lnTo>
                  <a:pt x="335" y="557"/>
                </a:lnTo>
                <a:lnTo>
                  <a:pt x="329" y="577"/>
                </a:lnTo>
                <a:lnTo>
                  <a:pt x="322" y="596"/>
                </a:lnTo>
                <a:lnTo>
                  <a:pt x="315" y="615"/>
                </a:lnTo>
                <a:lnTo>
                  <a:pt x="308" y="632"/>
                </a:lnTo>
                <a:lnTo>
                  <a:pt x="300" y="649"/>
                </a:lnTo>
                <a:lnTo>
                  <a:pt x="293" y="667"/>
                </a:lnTo>
                <a:lnTo>
                  <a:pt x="285" y="682"/>
                </a:lnTo>
                <a:lnTo>
                  <a:pt x="276" y="697"/>
                </a:lnTo>
                <a:lnTo>
                  <a:pt x="267" y="711"/>
                </a:lnTo>
                <a:lnTo>
                  <a:pt x="259" y="724"/>
                </a:lnTo>
                <a:lnTo>
                  <a:pt x="250" y="737"/>
                </a:lnTo>
                <a:lnTo>
                  <a:pt x="241" y="749"/>
                </a:lnTo>
                <a:lnTo>
                  <a:pt x="231" y="763"/>
                </a:lnTo>
                <a:lnTo>
                  <a:pt x="221" y="776"/>
                </a:lnTo>
                <a:lnTo>
                  <a:pt x="213" y="789"/>
                </a:lnTo>
                <a:lnTo>
                  <a:pt x="203" y="800"/>
                </a:lnTo>
                <a:lnTo>
                  <a:pt x="194" y="810"/>
                </a:lnTo>
                <a:lnTo>
                  <a:pt x="185" y="821"/>
                </a:lnTo>
                <a:lnTo>
                  <a:pt x="175" y="829"/>
                </a:lnTo>
                <a:lnTo>
                  <a:pt x="168" y="838"/>
                </a:lnTo>
                <a:lnTo>
                  <a:pt x="159" y="844"/>
                </a:lnTo>
                <a:lnTo>
                  <a:pt x="152" y="851"/>
                </a:lnTo>
                <a:lnTo>
                  <a:pt x="145" y="855"/>
                </a:lnTo>
                <a:lnTo>
                  <a:pt x="139" y="859"/>
                </a:lnTo>
                <a:lnTo>
                  <a:pt x="133" y="862"/>
                </a:lnTo>
                <a:lnTo>
                  <a:pt x="128" y="865"/>
                </a:lnTo>
                <a:lnTo>
                  <a:pt x="123" y="867"/>
                </a:lnTo>
                <a:lnTo>
                  <a:pt x="121" y="8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41"/>
          <p:cNvSpPr/>
          <p:nvPr/>
        </p:nvSpPr>
        <p:spPr>
          <a:xfrm>
            <a:off x="6016680" y="4286160"/>
            <a:ext cx="320760" cy="824040"/>
          </a:xfrm>
          <a:custGeom>
            <a:avLst/>
            <a:gdLst/>
            <a:ahLst/>
            <a:rect l="l" t="t" r="r" b="b"/>
            <a:pathLst>
              <a:path w="607" h="1556">
                <a:moveTo>
                  <a:pt x="280" y="1438"/>
                </a:moveTo>
                <a:lnTo>
                  <a:pt x="276" y="1422"/>
                </a:lnTo>
                <a:lnTo>
                  <a:pt x="272" y="1408"/>
                </a:lnTo>
                <a:lnTo>
                  <a:pt x="266" y="1393"/>
                </a:lnTo>
                <a:lnTo>
                  <a:pt x="260" y="1377"/>
                </a:lnTo>
                <a:lnTo>
                  <a:pt x="253" y="1363"/>
                </a:lnTo>
                <a:lnTo>
                  <a:pt x="246" y="1347"/>
                </a:lnTo>
                <a:lnTo>
                  <a:pt x="237" y="1333"/>
                </a:lnTo>
                <a:lnTo>
                  <a:pt x="227" y="1317"/>
                </a:lnTo>
                <a:lnTo>
                  <a:pt x="217" y="1301"/>
                </a:lnTo>
                <a:lnTo>
                  <a:pt x="205" y="1285"/>
                </a:lnTo>
                <a:lnTo>
                  <a:pt x="194" y="1268"/>
                </a:lnTo>
                <a:lnTo>
                  <a:pt x="182" y="1252"/>
                </a:lnTo>
                <a:lnTo>
                  <a:pt x="168" y="1235"/>
                </a:lnTo>
                <a:lnTo>
                  <a:pt x="155" y="1218"/>
                </a:lnTo>
                <a:lnTo>
                  <a:pt x="139" y="1199"/>
                </a:lnTo>
                <a:lnTo>
                  <a:pt x="125" y="1182"/>
                </a:lnTo>
                <a:lnTo>
                  <a:pt x="109" y="1166"/>
                </a:lnTo>
                <a:lnTo>
                  <a:pt x="93" y="1151"/>
                </a:lnTo>
                <a:lnTo>
                  <a:pt x="80" y="1139"/>
                </a:lnTo>
                <a:lnTo>
                  <a:pt x="67" y="1126"/>
                </a:lnTo>
                <a:lnTo>
                  <a:pt x="54" y="1113"/>
                </a:lnTo>
                <a:lnTo>
                  <a:pt x="44" y="1101"/>
                </a:lnTo>
                <a:lnTo>
                  <a:pt x="34" y="1090"/>
                </a:lnTo>
                <a:lnTo>
                  <a:pt x="25" y="1080"/>
                </a:lnTo>
                <a:lnTo>
                  <a:pt x="17" y="1069"/>
                </a:lnTo>
                <a:lnTo>
                  <a:pt x="11" y="1061"/>
                </a:lnTo>
                <a:lnTo>
                  <a:pt x="7" y="1052"/>
                </a:lnTo>
                <a:lnTo>
                  <a:pt x="2" y="1045"/>
                </a:lnTo>
                <a:lnTo>
                  <a:pt x="1" y="1042"/>
                </a:lnTo>
                <a:lnTo>
                  <a:pt x="1" y="1039"/>
                </a:lnTo>
                <a:lnTo>
                  <a:pt x="0" y="1035"/>
                </a:lnTo>
                <a:lnTo>
                  <a:pt x="0" y="1032"/>
                </a:lnTo>
                <a:lnTo>
                  <a:pt x="0" y="1031"/>
                </a:lnTo>
                <a:lnTo>
                  <a:pt x="1" y="1028"/>
                </a:lnTo>
                <a:lnTo>
                  <a:pt x="2" y="1025"/>
                </a:lnTo>
                <a:lnTo>
                  <a:pt x="4" y="1023"/>
                </a:lnTo>
                <a:lnTo>
                  <a:pt x="7" y="1020"/>
                </a:lnTo>
                <a:lnTo>
                  <a:pt x="11" y="1018"/>
                </a:lnTo>
                <a:lnTo>
                  <a:pt x="17" y="1016"/>
                </a:lnTo>
                <a:lnTo>
                  <a:pt x="23" y="1015"/>
                </a:lnTo>
                <a:lnTo>
                  <a:pt x="30" y="1015"/>
                </a:lnTo>
                <a:lnTo>
                  <a:pt x="38" y="1015"/>
                </a:lnTo>
                <a:lnTo>
                  <a:pt x="47" y="1016"/>
                </a:lnTo>
                <a:lnTo>
                  <a:pt x="57" y="1018"/>
                </a:lnTo>
                <a:lnTo>
                  <a:pt x="69" y="1020"/>
                </a:lnTo>
                <a:lnTo>
                  <a:pt x="80" y="1022"/>
                </a:lnTo>
                <a:lnTo>
                  <a:pt x="93" y="1025"/>
                </a:lnTo>
                <a:lnTo>
                  <a:pt x="108" y="1029"/>
                </a:lnTo>
                <a:lnTo>
                  <a:pt x="123" y="1032"/>
                </a:lnTo>
                <a:lnTo>
                  <a:pt x="139" y="1035"/>
                </a:lnTo>
                <a:lnTo>
                  <a:pt x="156" y="1039"/>
                </a:lnTo>
                <a:lnTo>
                  <a:pt x="177" y="1044"/>
                </a:lnTo>
                <a:lnTo>
                  <a:pt x="195" y="1049"/>
                </a:lnTo>
                <a:lnTo>
                  <a:pt x="213" y="1055"/>
                </a:lnTo>
                <a:lnTo>
                  <a:pt x="230" y="1059"/>
                </a:lnTo>
                <a:lnTo>
                  <a:pt x="247" y="1062"/>
                </a:lnTo>
                <a:lnTo>
                  <a:pt x="262" y="1064"/>
                </a:lnTo>
                <a:lnTo>
                  <a:pt x="277" y="1064"/>
                </a:lnTo>
                <a:lnTo>
                  <a:pt x="290" y="1062"/>
                </a:lnTo>
                <a:lnTo>
                  <a:pt x="303" y="1061"/>
                </a:lnTo>
                <a:lnTo>
                  <a:pt x="315" y="1058"/>
                </a:lnTo>
                <a:lnTo>
                  <a:pt x="325" y="1052"/>
                </a:lnTo>
                <a:lnTo>
                  <a:pt x="335" y="1048"/>
                </a:lnTo>
                <a:lnTo>
                  <a:pt x="344" y="1041"/>
                </a:lnTo>
                <a:lnTo>
                  <a:pt x="351" y="1033"/>
                </a:lnTo>
                <a:lnTo>
                  <a:pt x="357" y="1025"/>
                </a:lnTo>
                <a:lnTo>
                  <a:pt x="362" y="1015"/>
                </a:lnTo>
                <a:lnTo>
                  <a:pt x="367" y="1005"/>
                </a:lnTo>
                <a:lnTo>
                  <a:pt x="370" y="992"/>
                </a:lnTo>
                <a:lnTo>
                  <a:pt x="372" y="979"/>
                </a:lnTo>
                <a:lnTo>
                  <a:pt x="375" y="964"/>
                </a:lnTo>
                <a:lnTo>
                  <a:pt x="378" y="948"/>
                </a:lnTo>
                <a:lnTo>
                  <a:pt x="381" y="933"/>
                </a:lnTo>
                <a:lnTo>
                  <a:pt x="384" y="914"/>
                </a:lnTo>
                <a:lnTo>
                  <a:pt x="387" y="895"/>
                </a:lnTo>
                <a:lnTo>
                  <a:pt x="390" y="875"/>
                </a:lnTo>
                <a:lnTo>
                  <a:pt x="391" y="855"/>
                </a:lnTo>
                <a:lnTo>
                  <a:pt x="394" y="833"/>
                </a:lnTo>
                <a:lnTo>
                  <a:pt x="395" y="810"/>
                </a:lnTo>
                <a:lnTo>
                  <a:pt x="397" y="787"/>
                </a:lnTo>
                <a:lnTo>
                  <a:pt x="398" y="764"/>
                </a:lnTo>
                <a:lnTo>
                  <a:pt x="400" y="740"/>
                </a:lnTo>
                <a:lnTo>
                  <a:pt x="400" y="714"/>
                </a:lnTo>
                <a:lnTo>
                  <a:pt x="401" y="689"/>
                </a:lnTo>
                <a:lnTo>
                  <a:pt x="400" y="675"/>
                </a:lnTo>
                <a:lnTo>
                  <a:pt x="400" y="662"/>
                </a:lnTo>
                <a:lnTo>
                  <a:pt x="400" y="648"/>
                </a:lnTo>
                <a:lnTo>
                  <a:pt x="398" y="633"/>
                </a:lnTo>
                <a:lnTo>
                  <a:pt x="398" y="617"/>
                </a:lnTo>
                <a:lnTo>
                  <a:pt x="397" y="603"/>
                </a:lnTo>
                <a:lnTo>
                  <a:pt x="395" y="586"/>
                </a:lnTo>
                <a:lnTo>
                  <a:pt x="394" y="570"/>
                </a:lnTo>
                <a:lnTo>
                  <a:pt x="393" y="553"/>
                </a:lnTo>
                <a:lnTo>
                  <a:pt x="391" y="535"/>
                </a:lnTo>
                <a:lnTo>
                  <a:pt x="388" y="517"/>
                </a:lnTo>
                <a:lnTo>
                  <a:pt x="387" y="498"/>
                </a:lnTo>
                <a:lnTo>
                  <a:pt x="384" y="479"/>
                </a:lnTo>
                <a:lnTo>
                  <a:pt x="381" y="459"/>
                </a:lnTo>
                <a:lnTo>
                  <a:pt x="380" y="439"/>
                </a:lnTo>
                <a:lnTo>
                  <a:pt x="377" y="417"/>
                </a:lnTo>
                <a:lnTo>
                  <a:pt x="374" y="396"/>
                </a:lnTo>
                <a:lnTo>
                  <a:pt x="370" y="374"/>
                </a:lnTo>
                <a:lnTo>
                  <a:pt x="367" y="351"/>
                </a:lnTo>
                <a:lnTo>
                  <a:pt x="364" y="328"/>
                </a:lnTo>
                <a:lnTo>
                  <a:pt x="359" y="304"/>
                </a:lnTo>
                <a:lnTo>
                  <a:pt x="357" y="279"/>
                </a:lnTo>
                <a:lnTo>
                  <a:pt x="352" y="255"/>
                </a:lnTo>
                <a:lnTo>
                  <a:pt x="349" y="229"/>
                </a:lnTo>
                <a:lnTo>
                  <a:pt x="345" y="203"/>
                </a:lnTo>
                <a:lnTo>
                  <a:pt x="341" y="175"/>
                </a:lnTo>
                <a:lnTo>
                  <a:pt x="336" y="148"/>
                </a:lnTo>
                <a:lnTo>
                  <a:pt x="332" y="119"/>
                </a:lnTo>
                <a:lnTo>
                  <a:pt x="328" y="90"/>
                </a:lnTo>
                <a:lnTo>
                  <a:pt x="323" y="60"/>
                </a:lnTo>
                <a:lnTo>
                  <a:pt x="319" y="30"/>
                </a:lnTo>
                <a:lnTo>
                  <a:pt x="315" y="0"/>
                </a:lnTo>
                <a:lnTo>
                  <a:pt x="331" y="8"/>
                </a:lnTo>
                <a:lnTo>
                  <a:pt x="345" y="17"/>
                </a:lnTo>
                <a:lnTo>
                  <a:pt x="359" y="26"/>
                </a:lnTo>
                <a:lnTo>
                  <a:pt x="374" y="34"/>
                </a:lnTo>
                <a:lnTo>
                  <a:pt x="388" y="43"/>
                </a:lnTo>
                <a:lnTo>
                  <a:pt x="401" y="52"/>
                </a:lnTo>
                <a:lnTo>
                  <a:pt x="414" y="59"/>
                </a:lnTo>
                <a:lnTo>
                  <a:pt x="427" y="66"/>
                </a:lnTo>
                <a:lnTo>
                  <a:pt x="439" y="73"/>
                </a:lnTo>
                <a:lnTo>
                  <a:pt x="450" y="80"/>
                </a:lnTo>
                <a:lnTo>
                  <a:pt x="462" y="88"/>
                </a:lnTo>
                <a:lnTo>
                  <a:pt x="472" y="93"/>
                </a:lnTo>
                <a:lnTo>
                  <a:pt x="482" y="101"/>
                </a:lnTo>
                <a:lnTo>
                  <a:pt x="492" y="106"/>
                </a:lnTo>
                <a:lnTo>
                  <a:pt x="502" y="112"/>
                </a:lnTo>
                <a:lnTo>
                  <a:pt x="511" y="118"/>
                </a:lnTo>
                <a:lnTo>
                  <a:pt x="518" y="124"/>
                </a:lnTo>
                <a:lnTo>
                  <a:pt x="526" y="128"/>
                </a:lnTo>
                <a:lnTo>
                  <a:pt x="534" y="134"/>
                </a:lnTo>
                <a:lnTo>
                  <a:pt x="541" y="138"/>
                </a:lnTo>
                <a:lnTo>
                  <a:pt x="547" y="142"/>
                </a:lnTo>
                <a:lnTo>
                  <a:pt x="552" y="147"/>
                </a:lnTo>
                <a:lnTo>
                  <a:pt x="558" y="151"/>
                </a:lnTo>
                <a:lnTo>
                  <a:pt x="564" y="154"/>
                </a:lnTo>
                <a:lnTo>
                  <a:pt x="568" y="158"/>
                </a:lnTo>
                <a:lnTo>
                  <a:pt x="572" y="161"/>
                </a:lnTo>
                <a:lnTo>
                  <a:pt x="577" y="164"/>
                </a:lnTo>
                <a:lnTo>
                  <a:pt x="580" y="167"/>
                </a:lnTo>
                <a:lnTo>
                  <a:pt x="583" y="170"/>
                </a:lnTo>
                <a:lnTo>
                  <a:pt x="585" y="173"/>
                </a:lnTo>
                <a:lnTo>
                  <a:pt x="588" y="174"/>
                </a:lnTo>
                <a:lnTo>
                  <a:pt x="590" y="177"/>
                </a:lnTo>
                <a:lnTo>
                  <a:pt x="593" y="184"/>
                </a:lnTo>
                <a:lnTo>
                  <a:pt x="596" y="194"/>
                </a:lnTo>
                <a:lnTo>
                  <a:pt x="598" y="204"/>
                </a:lnTo>
                <a:lnTo>
                  <a:pt x="600" y="217"/>
                </a:lnTo>
                <a:lnTo>
                  <a:pt x="601" y="230"/>
                </a:lnTo>
                <a:lnTo>
                  <a:pt x="603" y="246"/>
                </a:lnTo>
                <a:lnTo>
                  <a:pt x="604" y="262"/>
                </a:lnTo>
                <a:lnTo>
                  <a:pt x="606" y="281"/>
                </a:lnTo>
                <a:lnTo>
                  <a:pt x="606" y="299"/>
                </a:lnTo>
                <a:lnTo>
                  <a:pt x="606" y="319"/>
                </a:lnTo>
                <a:lnTo>
                  <a:pt x="607" y="341"/>
                </a:lnTo>
                <a:lnTo>
                  <a:pt x="607" y="365"/>
                </a:lnTo>
                <a:lnTo>
                  <a:pt x="607" y="390"/>
                </a:lnTo>
                <a:lnTo>
                  <a:pt x="607" y="416"/>
                </a:lnTo>
                <a:lnTo>
                  <a:pt x="607" y="443"/>
                </a:lnTo>
                <a:lnTo>
                  <a:pt x="607" y="472"/>
                </a:lnTo>
                <a:lnTo>
                  <a:pt x="607" y="501"/>
                </a:lnTo>
                <a:lnTo>
                  <a:pt x="607" y="530"/>
                </a:lnTo>
                <a:lnTo>
                  <a:pt x="607" y="558"/>
                </a:lnTo>
                <a:lnTo>
                  <a:pt x="607" y="587"/>
                </a:lnTo>
                <a:lnTo>
                  <a:pt x="607" y="642"/>
                </a:lnTo>
                <a:lnTo>
                  <a:pt x="607" y="697"/>
                </a:lnTo>
                <a:lnTo>
                  <a:pt x="607" y="748"/>
                </a:lnTo>
                <a:lnTo>
                  <a:pt x="607" y="802"/>
                </a:lnTo>
                <a:lnTo>
                  <a:pt x="607" y="853"/>
                </a:lnTo>
                <a:lnTo>
                  <a:pt x="607" y="905"/>
                </a:lnTo>
                <a:lnTo>
                  <a:pt x="604" y="931"/>
                </a:lnTo>
                <a:lnTo>
                  <a:pt x="601" y="956"/>
                </a:lnTo>
                <a:lnTo>
                  <a:pt x="600" y="980"/>
                </a:lnTo>
                <a:lnTo>
                  <a:pt x="597" y="1005"/>
                </a:lnTo>
                <a:lnTo>
                  <a:pt x="596" y="1029"/>
                </a:lnTo>
                <a:lnTo>
                  <a:pt x="594" y="1052"/>
                </a:lnTo>
                <a:lnTo>
                  <a:pt x="591" y="1075"/>
                </a:lnTo>
                <a:lnTo>
                  <a:pt x="590" y="1097"/>
                </a:lnTo>
                <a:lnTo>
                  <a:pt x="588" y="1118"/>
                </a:lnTo>
                <a:lnTo>
                  <a:pt x="587" y="1140"/>
                </a:lnTo>
                <a:lnTo>
                  <a:pt x="585" y="1162"/>
                </a:lnTo>
                <a:lnTo>
                  <a:pt x="583" y="1182"/>
                </a:lnTo>
                <a:lnTo>
                  <a:pt x="581" y="1202"/>
                </a:lnTo>
                <a:lnTo>
                  <a:pt x="578" y="1222"/>
                </a:lnTo>
                <a:lnTo>
                  <a:pt x="575" y="1241"/>
                </a:lnTo>
                <a:lnTo>
                  <a:pt x="572" y="1259"/>
                </a:lnTo>
                <a:lnTo>
                  <a:pt x="570" y="1278"/>
                </a:lnTo>
                <a:lnTo>
                  <a:pt x="565" y="1294"/>
                </a:lnTo>
                <a:lnTo>
                  <a:pt x="561" y="1311"/>
                </a:lnTo>
                <a:lnTo>
                  <a:pt x="557" y="1327"/>
                </a:lnTo>
                <a:lnTo>
                  <a:pt x="551" y="1342"/>
                </a:lnTo>
                <a:lnTo>
                  <a:pt x="547" y="1356"/>
                </a:lnTo>
                <a:lnTo>
                  <a:pt x="541" y="1369"/>
                </a:lnTo>
                <a:lnTo>
                  <a:pt x="534" y="1383"/>
                </a:lnTo>
                <a:lnTo>
                  <a:pt x="528" y="1395"/>
                </a:lnTo>
                <a:lnTo>
                  <a:pt x="521" y="1408"/>
                </a:lnTo>
                <a:lnTo>
                  <a:pt x="512" y="1419"/>
                </a:lnTo>
                <a:lnTo>
                  <a:pt x="505" y="1431"/>
                </a:lnTo>
                <a:lnTo>
                  <a:pt x="496" y="1442"/>
                </a:lnTo>
                <a:lnTo>
                  <a:pt x="488" y="1454"/>
                </a:lnTo>
                <a:lnTo>
                  <a:pt x="479" y="1465"/>
                </a:lnTo>
                <a:lnTo>
                  <a:pt x="469" y="1477"/>
                </a:lnTo>
                <a:lnTo>
                  <a:pt x="459" y="1487"/>
                </a:lnTo>
                <a:lnTo>
                  <a:pt x="450" y="1497"/>
                </a:lnTo>
                <a:lnTo>
                  <a:pt x="440" y="1506"/>
                </a:lnTo>
                <a:lnTo>
                  <a:pt x="431" y="1514"/>
                </a:lnTo>
                <a:lnTo>
                  <a:pt x="421" y="1521"/>
                </a:lnTo>
                <a:lnTo>
                  <a:pt x="413" y="1527"/>
                </a:lnTo>
                <a:lnTo>
                  <a:pt x="404" y="1533"/>
                </a:lnTo>
                <a:lnTo>
                  <a:pt x="395" y="1539"/>
                </a:lnTo>
                <a:lnTo>
                  <a:pt x="388" y="1543"/>
                </a:lnTo>
                <a:lnTo>
                  <a:pt x="381" y="1546"/>
                </a:lnTo>
                <a:lnTo>
                  <a:pt x="374" y="1549"/>
                </a:lnTo>
                <a:lnTo>
                  <a:pt x="368" y="1552"/>
                </a:lnTo>
                <a:lnTo>
                  <a:pt x="362" y="1553"/>
                </a:lnTo>
                <a:lnTo>
                  <a:pt x="357" y="1555"/>
                </a:lnTo>
                <a:lnTo>
                  <a:pt x="352" y="1555"/>
                </a:lnTo>
                <a:lnTo>
                  <a:pt x="349" y="1556"/>
                </a:lnTo>
                <a:lnTo>
                  <a:pt x="342" y="1555"/>
                </a:lnTo>
                <a:lnTo>
                  <a:pt x="336" y="1553"/>
                </a:lnTo>
                <a:lnTo>
                  <a:pt x="331" y="1552"/>
                </a:lnTo>
                <a:lnTo>
                  <a:pt x="326" y="1547"/>
                </a:lnTo>
                <a:lnTo>
                  <a:pt x="321" y="1543"/>
                </a:lnTo>
                <a:lnTo>
                  <a:pt x="316" y="1539"/>
                </a:lnTo>
                <a:lnTo>
                  <a:pt x="312" y="1533"/>
                </a:lnTo>
                <a:lnTo>
                  <a:pt x="308" y="1526"/>
                </a:lnTo>
                <a:lnTo>
                  <a:pt x="303" y="1519"/>
                </a:lnTo>
                <a:lnTo>
                  <a:pt x="299" y="1509"/>
                </a:lnTo>
                <a:lnTo>
                  <a:pt x="296" y="1500"/>
                </a:lnTo>
                <a:lnTo>
                  <a:pt x="292" y="1488"/>
                </a:lnTo>
                <a:lnTo>
                  <a:pt x="289" y="1477"/>
                </a:lnTo>
                <a:lnTo>
                  <a:pt x="286" y="1465"/>
                </a:lnTo>
                <a:lnTo>
                  <a:pt x="283" y="1451"/>
                </a:lnTo>
                <a:lnTo>
                  <a:pt x="280" y="14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42"/>
          <p:cNvSpPr/>
          <p:nvPr/>
        </p:nvSpPr>
        <p:spPr>
          <a:xfrm>
            <a:off x="5991120" y="3921120"/>
            <a:ext cx="538200" cy="157320"/>
          </a:xfrm>
          <a:custGeom>
            <a:avLst/>
            <a:gdLst/>
            <a:ahLst/>
            <a:rect l="l" t="t" r="r" b="b"/>
            <a:pathLst>
              <a:path w="1018" h="295">
                <a:moveTo>
                  <a:pt x="776" y="216"/>
                </a:moveTo>
                <a:lnTo>
                  <a:pt x="747" y="228"/>
                </a:lnTo>
                <a:lnTo>
                  <a:pt x="718" y="236"/>
                </a:lnTo>
                <a:lnTo>
                  <a:pt x="691" y="246"/>
                </a:lnTo>
                <a:lnTo>
                  <a:pt x="662" y="254"/>
                </a:lnTo>
                <a:lnTo>
                  <a:pt x="635" y="261"/>
                </a:lnTo>
                <a:lnTo>
                  <a:pt x="608" y="268"/>
                </a:lnTo>
                <a:lnTo>
                  <a:pt x="582" y="274"/>
                </a:lnTo>
                <a:lnTo>
                  <a:pt x="554" y="278"/>
                </a:lnTo>
                <a:lnTo>
                  <a:pt x="527" y="282"/>
                </a:lnTo>
                <a:lnTo>
                  <a:pt x="501" y="285"/>
                </a:lnTo>
                <a:lnTo>
                  <a:pt x="475" y="288"/>
                </a:lnTo>
                <a:lnTo>
                  <a:pt x="449" y="291"/>
                </a:lnTo>
                <a:lnTo>
                  <a:pt x="423" y="292"/>
                </a:lnTo>
                <a:lnTo>
                  <a:pt x="397" y="294"/>
                </a:lnTo>
                <a:lnTo>
                  <a:pt x="371" y="294"/>
                </a:lnTo>
                <a:lnTo>
                  <a:pt x="346" y="295"/>
                </a:lnTo>
                <a:lnTo>
                  <a:pt x="320" y="294"/>
                </a:lnTo>
                <a:lnTo>
                  <a:pt x="295" y="294"/>
                </a:lnTo>
                <a:lnTo>
                  <a:pt x="272" y="292"/>
                </a:lnTo>
                <a:lnTo>
                  <a:pt x="251" y="291"/>
                </a:lnTo>
                <a:lnTo>
                  <a:pt x="230" y="290"/>
                </a:lnTo>
                <a:lnTo>
                  <a:pt x="210" y="288"/>
                </a:lnTo>
                <a:lnTo>
                  <a:pt x="191" y="285"/>
                </a:lnTo>
                <a:lnTo>
                  <a:pt x="174" y="282"/>
                </a:lnTo>
                <a:lnTo>
                  <a:pt x="158" y="280"/>
                </a:lnTo>
                <a:lnTo>
                  <a:pt x="143" y="277"/>
                </a:lnTo>
                <a:lnTo>
                  <a:pt x="128" y="274"/>
                </a:lnTo>
                <a:lnTo>
                  <a:pt x="114" y="271"/>
                </a:lnTo>
                <a:lnTo>
                  <a:pt x="101" y="267"/>
                </a:lnTo>
                <a:lnTo>
                  <a:pt x="89" y="264"/>
                </a:lnTo>
                <a:lnTo>
                  <a:pt x="79" y="259"/>
                </a:lnTo>
                <a:lnTo>
                  <a:pt x="69" y="256"/>
                </a:lnTo>
                <a:lnTo>
                  <a:pt x="59" y="252"/>
                </a:lnTo>
                <a:lnTo>
                  <a:pt x="50" y="249"/>
                </a:lnTo>
                <a:lnTo>
                  <a:pt x="43" y="246"/>
                </a:lnTo>
                <a:lnTo>
                  <a:pt x="36" y="244"/>
                </a:lnTo>
                <a:lnTo>
                  <a:pt x="29" y="242"/>
                </a:lnTo>
                <a:lnTo>
                  <a:pt x="24" y="239"/>
                </a:lnTo>
                <a:lnTo>
                  <a:pt x="19" y="238"/>
                </a:lnTo>
                <a:lnTo>
                  <a:pt x="14" y="236"/>
                </a:lnTo>
                <a:lnTo>
                  <a:pt x="10" y="233"/>
                </a:lnTo>
                <a:lnTo>
                  <a:pt x="7" y="232"/>
                </a:lnTo>
                <a:lnTo>
                  <a:pt x="4" y="231"/>
                </a:lnTo>
                <a:lnTo>
                  <a:pt x="3" y="228"/>
                </a:lnTo>
                <a:lnTo>
                  <a:pt x="1" y="225"/>
                </a:lnTo>
                <a:lnTo>
                  <a:pt x="0" y="223"/>
                </a:lnTo>
                <a:lnTo>
                  <a:pt x="0" y="219"/>
                </a:lnTo>
                <a:lnTo>
                  <a:pt x="0" y="216"/>
                </a:lnTo>
                <a:lnTo>
                  <a:pt x="0" y="215"/>
                </a:lnTo>
                <a:lnTo>
                  <a:pt x="0" y="212"/>
                </a:lnTo>
                <a:lnTo>
                  <a:pt x="1" y="210"/>
                </a:lnTo>
                <a:lnTo>
                  <a:pt x="4" y="208"/>
                </a:lnTo>
                <a:lnTo>
                  <a:pt x="7" y="206"/>
                </a:lnTo>
                <a:lnTo>
                  <a:pt x="10" y="203"/>
                </a:lnTo>
                <a:lnTo>
                  <a:pt x="14" y="200"/>
                </a:lnTo>
                <a:lnTo>
                  <a:pt x="19" y="197"/>
                </a:lnTo>
                <a:lnTo>
                  <a:pt x="24" y="195"/>
                </a:lnTo>
                <a:lnTo>
                  <a:pt x="30" y="192"/>
                </a:lnTo>
                <a:lnTo>
                  <a:pt x="37" y="189"/>
                </a:lnTo>
                <a:lnTo>
                  <a:pt x="45" y="186"/>
                </a:lnTo>
                <a:lnTo>
                  <a:pt x="52" y="183"/>
                </a:lnTo>
                <a:lnTo>
                  <a:pt x="60" y="179"/>
                </a:lnTo>
                <a:lnTo>
                  <a:pt x="69" y="176"/>
                </a:lnTo>
                <a:lnTo>
                  <a:pt x="79" y="173"/>
                </a:lnTo>
                <a:lnTo>
                  <a:pt x="89" y="169"/>
                </a:lnTo>
                <a:lnTo>
                  <a:pt x="101" y="164"/>
                </a:lnTo>
                <a:lnTo>
                  <a:pt x="112" y="160"/>
                </a:lnTo>
                <a:lnTo>
                  <a:pt x="125" y="157"/>
                </a:lnTo>
                <a:lnTo>
                  <a:pt x="138" y="153"/>
                </a:lnTo>
                <a:lnTo>
                  <a:pt x="153" y="149"/>
                </a:lnTo>
                <a:lnTo>
                  <a:pt x="167" y="144"/>
                </a:lnTo>
                <a:lnTo>
                  <a:pt x="181" y="138"/>
                </a:lnTo>
                <a:lnTo>
                  <a:pt x="197" y="134"/>
                </a:lnTo>
                <a:lnTo>
                  <a:pt x="215" y="130"/>
                </a:lnTo>
                <a:lnTo>
                  <a:pt x="232" y="124"/>
                </a:lnTo>
                <a:lnTo>
                  <a:pt x="249" y="120"/>
                </a:lnTo>
                <a:lnTo>
                  <a:pt x="268" y="114"/>
                </a:lnTo>
                <a:lnTo>
                  <a:pt x="287" y="110"/>
                </a:lnTo>
                <a:lnTo>
                  <a:pt x="307" y="104"/>
                </a:lnTo>
                <a:lnTo>
                  <a:pt x="328" y="98"/>
                </a:lnTo>
                <a:lnTo>
                  <a:pt x="347" y="92"/>
                </a:lnTo>
                <a:lnTo>
                  <a:pt x="366" y="87"/>
                </a:lnTo>
                <a:lnTo>
                  <a:pt x="384" y="82"/>
                </a:lnTo>
                <a:lnTo>
                  <a:pt x="402" y="77"/>
                </a:lnTo>
                <a:lnTo>
                  <a:pt x="419" y="72"/>
                </a:lnTo>
                <a:lnTo>
                  <a:pt x="436" y="66"/>
                </a:lnTo>
                <a:lnTo>
                  <a:pt x="453" y="62"/>
                </a:lnTo>
                <a:lnTo>
                  <a:pt x="469" y="58"/>
                </a:lnTo>
                <a:lnTo>
                  <a:pt x="487" y="53"/>
                </a:lnTo>
                <a:lnTo>
                  <a:pt x="501" y="49"/>
                </a:lnTo>
                <a:lnTo>
                  <a:pt x="517" y="45"/>
                </a:lnTo>
                <a:lnTo>
                  <a:pt x="533" y="41"/>
                </a:lnTo>
                <a:lnTo>
                  <a:pt x="547" y="36"/>
                </a:lnTo>
                <a:lnTo>
                  <a:pt x="561" y="33"/>
                </a:lnTo>
                <a:lnTo>
                  <a:pt x="589" y="26"/>
                </a:lnTo>
                <a:lnTo>
                  <a:pt x="615" y="20"/>
                </a:lnTo>
                <a:lnTo>
                  <a:pt x="639" y="15"/>
                </a:lnTo>
                <a:lnTo>
                  <a:pt x="662" y="10"/>
                </a:lnTo>
                <a:lnTo>
                  <a:pt x="684" y="6"/>
                </a:lnTo>
                <a:lnTo>
                  <a:pt x="704" y="3"/>
                </a:lnTo>
                <a:lnTo>
                  <a:pt x="724" y="2"/>
                </a:lnTo>
                <a:lnTo>
                  <a:pt x="741" y="0"/>
                </a:lnTo>
                <a:lnTo>
                  <a:pt x="759" y="0"/>
                </a:lnTo>
                <a:lnTo>
                  <a:pt x="775" y="0"/>
                </a:lnTo>
                <a:lnTo>
                  <a:pt x="789" y="0"/>
                </a:lnTo>
                <a:lnTo>
                  <a:pt x="803" y="0"/>
                </a:lnTo>
                <a:lnTo>
                  <a:pt x="818" y="0"/>
                </a:lnTo>
                <a:lnTo>
                  <a:pt x="831" y="0"/>
                </a:lnTo>
                <a:lnTo>
                  <a:pt x="844" y="0"/>
                </a:lnTo>
                <a:lnTo>
                  <a:pt x="855" y="2"/>
                </a:lnTo>
                <a:lnTo>
                  <a:pt x="867" y="2"/>
                </a:lnTo>
                <a:lnTo>
                  <a:pt x="878" y="3"/>
                </a:lnTo>
                <a:lnTo>
                  <a:pt x="888" y="5"/>
                </a:lnTo>
                <a:lnTo>
                  <a:pt x="910" y="7"/>
                </a:lnTo>
                <a:lnTo>
                  <a:pt x="920" y="10"/>
                </a:lnTo>
                <a:lnTo>
                  <a:pt x="929" y="13"/>
                </a:lnTo>
                <a:lnTo>
                  <a:pt x="939" y="16"/>
                </a:lnTo>
                <a:lnTo>
                  <a:pt x="949" y="19"/>
                </a:lnTo>
                <a:lnTo>
                  <a:pt x="957" y="23"/>
                </a:lnTo>
                <a:lnTo>
                  <a:pt x="966" y="26"/>
                </a:lnTo>
                <a:lnTo>
                  <a:pt x="975" y="30"/>
                </a:lnTo>
                <a:lnTo>
                  <a:pt x="982" y="33"/>
                </a:lnTo>
                <a:lnTo>
                  <a:pt x="988" y="38"/>
                </a:lnTo>
                <a:lnTo>
                  <a:pt x="993" y="42"/>
                </a:lnTo>
                <a:lnTo>
                  <a:pt x="998" y="45"/>
                </a:lnTo>
                <a:lnTo>
                  <a:pt x="1003" y="49"/>
                </a:lnTo>
                <a:lnTo>
                  <a:pt x="1006" y="52"/>
                </a:lnTo>
                <a:lnTo>
                  <a:pt x="1009" y="56"/>
                </a:lnTo>
                <a:lnTo>
                  <a:pt x="1012" y="61"/>
                </a:lnTo>
                <a:lnTo>
                  <a:pt x="1015" y="64"/>
                </a:lnTo>
                <a:lnTo>
                  <a:pt x="1016" y="68"/>
                </a:lnTo>
                <a:lnTo>
                  <a:pt x="1016" y="71"/>
                </a:lnTo>
                <a:lnTo>
                  <a:pt x="1018" y="75"/>
                </a:lnTo>
                <a:lnTo>
                  <a:pt x="1018" y="79"/>
                </a:lnTo>
                <a:lnTo>
                  <a:pt x="1014" y="82"/>
                </a:lnTo>
                <a:lnTo>
                  <a:pt x="1009" y="88"/>
                </a:lnTo>
                <a:lnTo>
                  <a:pt x="1002" y="94"/>
                </a:lnTo>
                <a:lnTo>
                  <a:pt x="995" y="100"/>
                </a:lnTo>
                <a:lnTo>
                  <a:pt x="990" y="104"/>
                </a:lnTo>
                <a:lnTo>
                  <a:pt x="985" y="107"/>
                </a:lnTo>
                <a:lnTo>
                  <a:pt x="980" y="111"/>
                </a:lnTo>
                <a:lnTo>
                  <a:pt x="975" y="115"/>
                </a:lnTo>
                <a:lnTo>
                  <a:pt x="969" y="118"/>
                </a:lnTo>
                <a:lnTo>
                  <a:pt x="963" y="123"/>
                </a:lnTo>
                <a:lnTo>
                  <a:pt x="956" y="127"/>
                </a:lnTo>
                <a:lnTo>
                  <a:pt x="949" y="133"/>
                </a:lnTo>
                <a:lnTo>
                  <a:pt x="942" y="137"/>
                </a:lnTo>
                <a:lnTo>
                  <a:pt x="933" y="141"/>
                </a:lnTo>
                <a:lnTo>
                  <a:pt x="926" y="146"/>
                </a:lnTo>
                <a:lnTo>
                  <a:pt x="916" y="151"/>
                </a:lnTo>
                <a:lnTo>
                  <a:pt x="907" y="156"/>
                </a:lnTo>
                <a:lnTo>
                  <a:pt x="897" y="161"/>
                </a:lnTo>
                <a:lnTo>
                  <a:pt x="887" y="167"/>
                </a:lnTo>
                <a:lnTo>
                  <a:pt x="877" y="172"/>
                </a:lnTo>
                <a:lnTo>
                  <a:pt x="867" y="177"/>
                </a:lnTo>
                <a:lnTo>
                  <a:pt x="855" y="183"/>
                </a:lnTo>
                <a:lnTo>
                  <a:pt x="842" y="189"/>
                </a:lnTo>
                <a:lnTo>
                  <a:pt x="831" y="193"/>
                </a:lnTo>
                <a:lnTo>
                  <a:pt x="818" y="199"/>
                </a:lnTo>
                <a:lnTo>
                  <a:pt x="805" y="205"/>
                </a:lnTo>
                <a:lnTo>
                  <a:pt x="790" y="210"/>
                </a:lnTo>
                <a:lnTo>
                  <a:pt x="776" y="21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43"/>
          <p:cNvSpPr/>
          <p:nvPr/>
        </p:nvSpPr>
        <p:spPr>
          <a:xfrm>
            <a:off x="6643800" y="2927520"/>
            <a:ext cx="517320" cy="1056960"/>
          </a:xfrm>
          <a:custGeom>
            <a:avLst/>
            <a:gdLst/>
            <a:ahLst/>
            <a:rect l="l" t="t" r="r" b="b"/>
            <a:pathLst>
              <a:path w="978" h="2000">
                <a:moveTo>
                  <a:pt x="183" y="1604"/>
                </a:moveTo>
                <a:lnTo>
                  <a:pt x="212" y="1556"/>
                </a:lnTo>
                <a:lnTo>
                  <a:pt x="239" y="1509"/>
                </a:lnTo>
                <a:lnTo>
                  <a:pt x="265" y="1461"/>
                </a:lnTo>
                <a:lnTo>
                  <a:pt x="293" y="1415"/>
                </a:lnTo>
                <a:lnTo>
                  <a:pt x="317" y="1369"/>
                </a:lnTo>
                <a:lnTo>
                  <a:pt x="342" y="1323"/>
                </a:lnTo>
                <a:lnTo>
                  <a:pt x="365" y="1278"/>
                </a:lnTo>
                <a:lnTo>
                  <a:pt x="388" y="1234"/>
                </a:lnTo>
                <a:lnTo>
                  <a:pt x="409" y="1191"/>
                </a:lnTo>
                <a:lnTo>
                  <a:pt x="429" y="1146"/>
                </a:lnTo>
                <a:lnTo>
                  <a:pt x="449" y="1103"/>
                </a:lnTo>
                <a:lnTo>
                  <a:pt x="467" y="1061"/>
                </a:lnTo>
                <a:lnTo>
                  <a:pt x="484" y="1019"/>
                </a:lnTo>
                <a:lnTo>
                  <a:pt x="500" y="978"/>
                </a:lnTo>
                <a:lnTo>
                  <a:pt x="516" y="936"/>
                </a:lnTo>
                <a:lnTo>
                  <a:pt x="529" y="896"/>
                </a:lnTo>
                <a:lnTo>
                  <a:pt x="539" y="855"/>
                </a:lnTo>
                <a:lnTo>
                  <a:pt x="547" y="815"/>
                </a:lnTo>
                <a:lnTo>
                  <a:pt x="557" y="777"/>
                </a:lnTo>
                <a:lnTo>
                  <a:pt x="566" y="740"/>
                </a:lnTo>
                <a:lnTo>
                  <a:pt x="576" y="704"/>
                </a:lnTo>
                <a:lnTo>
                  <a:pt x="585" y="668"/>
                </a:lnTo>
                <a:lnTo>
                  <a:pt x="593" y="635"/>
                </a:lnTo>
                <a:lnTo>
                  <a:pt x="602" y="602"/>
                </a:lnTo>
                <a:lnTo>
                  <a:pt x="609" y="570"/>
                </a:lnTo>
                <a:lnTo>
                  <a:pt x="616" y="539"/>
                </a:lnTo>
                <a:lnTo>
                  <a:pt x="624" y="510"/>
                </a:lnTo>
                <a:lnTo>
                  <a:pt x="631" y="482"/>
                </a:lnTo>
                <a:lnTo>
                  <a:pt x="637" y="455"/>
                </a:lnTo>
                <a:lnTo>
                  <a:pt x="641" y="429"/>
                </a:lnTo>
                <a:lnTo>
                  <a:pt x="645" y="405"/>
                </a:lnTo>
                <a:lnTo>
                  <a:pt x="650" y="383"/>
                </a:lnTo>
                <a:lnTo>
                  <a:pt x="651" y="364"/>
                </a:lnTo>
                <a:lnTo>
                  <a:pt x="654" y="347"/>
                </a:lnTo>
                <a:lnTo>
                  <a:pt x="655" y="330"/>
                </a:lnTo>
                <a:lnTo>
                  <a:pt x="655" y="312"/>
                </a:lnTo>
                <a:lnTo>
                  <a:pt x="655" y="297"/>
                </a:lnTo>
                <a:lnTo>
                  <a:pt x="655" y="281"/>
                </a:lnTo>
                <a:lnTo>
                  <a:pt x="654" y="266"/>
                </a:lnTo>
                <a:lnTo>
                  <a:pt x="651" y="252"/>
                </a:lnTo>
                <a:lnTo>
                  <a:pt x="648" y="239"/>
                </a:lnTo>
                <a:lnTo>
                  <a:pt x="645" y="226"/>
                </a:lnTo>
                <a:lnTo>
                  <a:pt x="641" y="213"/>
                </a:lnTo>
                <a:lnTo>
                  <a:pt x="637" y="203"/>
                </a:lnTo>
                <a:lnTo>
                  <a:pt x="632" y="192"/>
                </a:lnTo>
                <a:lnTo>
                  <a:pt x="627" y="183"/>
                </a:lnTo>
                <a:lnTo>
                  <a:pt x="621" y="173"/>
                </a:lnTo>
                <a:lnTo>
                  <a:pt x="615" y="166"/>
                </a:lnTo>
                <a:lnTo>
                  <a:pt x="609" y="161"/>
                </a:lnTo>
                <a:lnTo>
                  <a:pt x="604" y="157"/>
                </a:lnTo>
                <a:lnTo>
                  <a:pt x="598" y="153"/>
                </a:lnTo>
                <a:lnTo>
                  <a:pt x="592" y="147"/>
                </a:lnTo>
                <a:lnTo>
                  <a:pt x="588" y="141"/>
                </a:lnTo>
                <a:lnTo>
                  <a:pt x="585" y="135"/>
                </a:lnTo>
                <a:lnTo>
                  <a:pt x="580" y="128"/>
                </a:lnTo>
                <a:lnTo>
                  <a:pt x="578" y="121"/>
                </a:lnTo>
                <a:lnTo>
                  <a:pt x="576" y="114"/>
                </a:lnTo>
                <a:lnTo>
                  <a:pt x="575" y="105"/>
                </a:lnTo>
                <a:lnTo>
                  <a:pt x="573" y="97"/>
                </a:lnTo>
                <a:lnTo>
                  <a:pt x="573" y="88"/>
                </a:lnTo>
                <a:lnTo>
                  <a:pt x="573" y="79"/>
                </a:lnTo>
                <a:lnTo>
                  <a:pt x="575" y="69"/>
                </a:lnTo>
                <a:lnTo>
                  <a:pt x="578" y="59"/>
                </a:lnTo>
                <a:lnTo>
                  <a:pt x="580" y="48"/>
                </a:lnTo>
                <a:lnTo>
                  <a:pt x="583" y="40"/>
                </a:lnTo>
                <a:lnTo>
                  <a:pt x="586" y="33"/>
                </a:lnTo>
                <a:lnTo>
                  <a:pt x="589" y="27"/>
                </a:lnTo>
                <a:lnTo>
                  <a:pt x="593" y="22"/>
                </a:lnTo>
                <a:lnTo>
                  <a:pt x="598" y="17"/>
                </a:lnTo>
                <a:lnTo>
                  <a:pt x="601" y="13"/>
                </a:lnTo>
                <a:lnTo>
                  <a:pt x="605" y="9"/>
                </a:lnTo>
                <a:lnTo>
                  <a:pt x="611" y="6"/>
                </a:lnTo>
                <a:lnTo>
                  <a:pt x="615" y="3"/>
                </a:lnTo>
                <a:lnTo>
                  <a:pt x="621" y="2"/>
                </a:lnTo>
                <a:lnTo>
                  <a:pt x="627" y="0"/>
                </a:lnTo>
                <a:lnTo>
                  <a:pt x="634" y="0"/>
                </a:lnTo>
                <a:lnTo>
                  <a:pt x="641" y="2"/>
                </a:lnTo>
                <a:lnTo>
                  <a:pt x="648" y="3"/>
                </a:lnTo>
                <a:lnTo>
                  <a:pt x="657" y="4"/>
                </a:lnTo>
                <a:lnTo>
                  <a:pt x="667" y="9"/>
                </a:lnTo>
                <a:lnTo>
                  <a:pt x="686" y="16"/>
                </a:lnTo>
                <a:lnTo>
                  <a:pt x="706" y="23"/>
                </a:lnTo>
                <a:lnTo>
                  <a:pt x="726" y="32"/>
                </a:lnTo>
                <a:lnTo>
                  <a:pt x="737" y="38"/>
                </a:lnTo>
                <a:lnTo>
                  <a:pt x="749" y="42"/>
                </a:lnTo>
                <a:lnTo>
                  <a:pt x="760" y="48"/>
                </a:lnTo>
                <a:lnTo>
                  <a:pt x="772" y="55"/>
                </a:lnTo>
                <a:lnTo>
                  <a:pt x="785" y="62"/>
                </a:lnTo>
                <a:lnTo>
                  <a:pt x="798" y="69"/>
                </a:lnTo>
                <a:lnTo>
                  <a:pt x="811" y="76"/>
                </a:lnTo>
                <a:lnTo>
                  <a:pt x="825" y="86"/>
                </a:lnTo>
                <a:lnTo>
                  <a:pt x="841" y="97"/>
                </a:lnTo>
                <a:lnTo>
                  <a:pt x="857" y="107"/>
                </a:lnTo>
                <a:lnTo>
                  <a:pt x="871" y="118"/>
                </a:lnTo>
                <a:lnTo>
                  <a:pt x="886" y="128"/>
                </a:lnTo>
                <a:lnTo>
                  <a:pt x="899" y="138"/>
                </a:lnTo>
                <a:lnTo>
                  <a:pt x="912" y="148"/>
                </a:lnTo>
                <a:lnTo>
                  <a:pt x="922" y="158"/>
                </a:lnTo>
                <a:lnTo>
                  <a:pt x="932" y="167"/>
                </a:lnTo>
                <a:lnTo>
                  <a:pt x="940" y="177"/>
                </a:lnTo>
                <a:lnTo>
                  <a:pt x="949" y="186"/>
                </a:lnTo>
                <a:lnTo>
                  <a:pt x="956" y="194"/>
                </a:lnTo>
                <a:lnTo>
                  <a:pt x="962" y="205"/>
                </a:lnTo>
                <a:lnTo>
                  <a:pt x="966" y="213"/>
                </a:lnTo>
                <a:lnTo>
                  <a:pt x="971" y="223"/>
                </a:lnTo>
                <a:lnTo>
                  <a:pt x="973" y="233"/>
                </a:lnTo>
                <a:lnTo>
                  <a:pt x="975" y="243"/>
                </a:lnTo>
                <a:lnTo>
                  <a:pt x="976" y="253"/>
                </a:lnTo>
                <a:lnTo>
                  <a:pt x="978" y="265"/>
                </a:lnTo>
                <a:lnTo>
                  <a:pt x="976" y="275"/>
                </a:lnTo>
                <a:lnTo>
                  <a:pt x="976" y="288"/>
                </a:lnTo>
                <a:lnTo>
                  <a:pt x="975" y="300"/>
                </a:lnTo>
                <a:lnTo>
                  <a:pt x="973" y="312"/>
                </a:lnTo>
                <a:lnTo>
                  <a:pt x="972" y="327"/>
                </a:lnTo>
                <a:lnTo>
                  <a:pt x="969" y="341"/>
                </a:lnTo>
                <a:lnTo>
                  <a:pt x="965" y="356"/>
                </a:lnTo>
                <a:lnTo>
                  <a:pt x="962" y="373"/>
                </a:lnTo>
                <a:lnTo>
                  <a:pt x="958" y="390"/>
                </a:lnTo>
                <a:lnTo>
                  <a:pt x="952" y="408"/>
                </a:lnTo>
                <a:lnTo>
                  <a:pt x="946" y="426"/>
                </a:lnTo>
                <a:lnTo>
                  <a:pt x="940" y="446"/>
                </a:lnTo>
                <a:lnTo>
                  <a:pt x="933" y="468"/>
                </a:lnTo>
                <a:lnTo>
                  <a:pt x="926" y="491"/>
                </a:lnTo>
                <a:lnTo>
                  <a:pt x="917" y="515"/>
                </a:lnTo>
                <a:lnTo>
                  <a:pt x="909" y="540"/>
                </a:lnTo>
                <a:lnTo>
                  <a:pt x="899" y="566"/>
                </a:lnTo>
                <a:lnTo>
                  <a:pt x="887" y="595"/>
                </a:lnTo>
                <a:lnTo>
                  <a:pt x="876" y="623"/>
                </a:lnTo>
                <a:lnTo>
                  <a:pt x="864" y="654"/>
                </a:lnTo>
                <a:lnTo>
                  <a:pt x="851" y="685"/>
                </a:lnTo>
                <a:lnTo>
                  <a:pt x="837" y="718"/>
                </a:lnTo>
                <a:lnTo>
                  <a:pt x="824" y="752"/>
                </a:lnTo>
                <a:lnTo>
                  <a:pt x="809" y="786"/>
                </a:lnTo>
                <a:lnTo>
                  <a:pt x="794" y="822"/>
                </a:lnTo>
                <a:lnTo>
                  <a:pt x="779" y="858"/>
                </a:lnTo>
                <a:lnTo>
                  <a:pt x="763" y="896"/>
                </a:lnTo>
                <a:lnTo>
                  <a:pt x="747" y="933"/>
                </a:lnTo>
                <a:lnTo>
                  <a:pt x="732" y="972"/>
                </a:lnTo>
                <a:lnTo>
                  <a:pt x="716" y="1011"/>
                </a:lnTo>
                <a:lnTo>
                  <a:pt x="700" y="1051"/>
                </a:lnTo>
                <a:lnTo>
                  <a:pt x="684" y="1091"/>
                </a:lnTo>
                <a:lnTo>
                  <a:pt x="667" y="1136"/>
                </a:lnTo>
                <a:lnTo>
                  <a:pt x="650" y="1179"/>
                </a:lnTo>
                <a:lnTo>
                  <a:pt x="631" y="1222"/>
                </a:lnTo>
                <a:lnTo>
                  <a:pt x="611" y="1264"/>
                </a:lnTo>
                <a:lnTo>
                  <a:pt x="589" y="1307"/>
                </a:lnTo>
                <a:lnTo>
                  <a:pt x="568" y="1348"/>
                </a:lnTo>
                <a:lnTo>
                  <a:pt x="543" y="1388"/>
                </a:lnTo>
                <a:lnTo>
                  <a:pt x="520" y="1428"/>
                </a:lnTo>
                <a:lnTo>
                  <a:pt x="496" y="1469"/>
                </a:lnTo>
                <a:lnTo>
                  <a:pt x="470" y="1506"/>
                </a:lnTo>
                <a:lnTo>
                  <a:pt x="444" y="1545"/>
                </a:lnTo>
                <a:lnTo>
                  <a:pt x="416" y="1581"/>
                </a:lnTo>
                <a:lnTo>
                  <a:pt x="389" y="1618"/>
                </a:lnTo>
                <a:lnTo>
                  <a:pt x="362" y="1653"/>
                </a:lnTo>
                <a:lnTo>
                  <a:pt x="333" y="1687"/>
                </a:lnTo>
                <a:lnTo>
                  <a:pt x="304" y="1722"/>
                </a:lnTo>
                <a:lnTo>
                  <a:pt x="288" y="1741"/>
                </a:lnTo>
                <a:lnTo>
                  <a:pt x="272" y="1758"/>
                </a:lnTo>
                <a:lnTo>
                  <a:pt x="258" y="1775"/>
                </a:lnTo>
                <a:lnTo>
                  <a:pt x="244" y="1791"/>
                </a:lnTo>
                <a:lnTo>
                  <a:pt x="229" y="1808"/>
                </a:lnTo>
                <a:lnTo>
                  <a:pt x="215" y="1823"/>
                </a:lnTo>
                <a:lnTo>
                  <a:pt x="202" y="1837"/>
                </a:lnTo>
                <a:lnTo>
                  <a:pt x="189" y="1851"/>
                </a:lnTo>
                <a:lnTo>
                  <a:pt x="176" y="1864"/>
                </a:lnTo>
                <a:lnTo>
                  <a:pt x="164" y="1877"/>
                </a:lnTo>
                <a:lnTo>
                  <a:pt x="151" y="1890"/>
                </a:lnTo>
                <a:lnTo>
                  <a:pt x="141" y="1902"/>
                </a:lnTo>
                <a:lnTo>
                  <a:pt x="130" y="1913"/>
                </a:lnTo>
                <a:lnTo>
                  <a:pt x="120" y="1923"/>
                </a:lnTo>
                <a:lnTo>
                  <a:pt x="110" y="1932"/>
                </a:lnTo>
                <a:lnTo>
                  <a:pt x="100" y="1942"/>
                </a:lnTo>
                <a:lnTo>
                  <a:pt x="91" y="1951"/>
                </a:lnTo>
                <a:lnTo>
                  <a:pt x="82" y="1958"/>
                </a:lnTo>
                <a:lnTo>
                  <a:pt x="74" y="1965"/>
                </a:lnTo>
                <a:lnTo>
                  <a:pt x="67" y="1971"/>
                </a:lnTo>
                <a:lnTo>
                  <a:pt x="59" y="1978"/>
                </a:lnTo>
                <a:lnTo>
                  <a:pt x="52" y="1982"/>
                </a:lnTo>
                <a:lnTo>
                  <a:pt x="45" y="1987"/>
                </a:lnTo>
                <a:lnTo>
                  <a:pt x="39" y="1991"/>
                </a:lnTo>
                <a:lnTo>
                  <a:pt x="35" y="1994"/>
                </a:lnTo>
                <a:lnTo>
                  <a:pt x="29" y="1997"/>
                </a:lnTo>
                <a:lnTo>
                  <a:pt x="25" y="1998"/>
                </a:lnTo>
                <a:lnTo>
                  <a:pt x="20" y="2000"/>
                </a:lnTo>
                <a:lnTo>
                  <a:pt x="18" y="2000"/>
                </a:lnTo>
                <a:lnTo>
                  <a:pt x="15" y="2000"/>
                </a:lnTo>
                <a:lnTo>
                  <a:pt x="12" y="2000"/>
                </a:lnTo>
                <a:lnTo>
                  <a:pt x="10" y="1998"/>
                </a:lnTo>
                <a:lnTo>
                  <a:pt x="8" y="1995"/>
                </a:lnTo>
                <a:lnTo>
                  <a:pt x="5" y="1993"/>
                </a:lnTo>
                <a:lnTo>
                  <a:pt x="3" y="1990"/>
                </a:lnTo>
                <a:lnTo>
                  <a:pt x="2" y="1985"/>
                </a:lnTo>
                <a:lnTo>
                  <a:pt x="0" y="1981"/>
                </a:lnTo>
                <a:lnTo>
                  <a:pt x="0" y="1975"/>
                </a:lnTo>
                <a:lnTo>
                  <a:pt x="0" y="1969"/>
                </a:lnTo>
                <a:lnTo>
                  <a:pt x="2" y="1964"/>
                </a:lnTo>
                <a:lnTo>
                  <a:pt x="3" y="1957"/>
                </a:lnTo>
                <a:lnTo>
                  <a:pt x="5" y="1949"/>
                </a:lnTo>
                <a:lnTo>
                  <a:pt x="6" y="1941"/>
                </a:lnTo>
                <a:lnTo>
                  <a:pt x="9" y="1932"/>
                </a:lnTo>
                <a:lnTo>
                  <a:pt x="13" y="1922"/>
                </a:lnTo>
                <a:lnTo>
                  <a:pt x="16" y="1912"/>
                </a:lnTo>
                <a:lnTo>
                  <a:pt x="22" y="1902"/>
                </a:lnTo>
                <a:lnTo>
                  <a:pt x="26" y="1890"/>
                </a:lnTo>
                <a:lnTo>
                  <a:pt x="32" y="1877"/>
                </a:lnTo>
                <a:lnTo>
                  <a:pt x="38" y="1864"/>
                </a:lnTo>
                <a:lnTo>
                  <a:pt x="45" y="1851"/>
                </a:lnTo>
                <a:lnTo>
                  <a:pt x="52" y="1837"/>
                </a:lnTo>
                <a:lnTo>
                  <a:pt x="59" y="1821"/>
                </a:lnTo>
                <a:lnTo>
                  <a:pt x="68" y="1805"/>
                </a:lnTo>
                <a:lnTo>
                  <a:pt x="77" y="1788"/>
                </a:lnTo>
                <a:lnTo>
                  <a:pt x="87" y="1771"/>
                </a:lnTo>
                <a:lnTo>
                  <a:pt x="97" y="1754"/>
                </a:lnTo>
                <a:lnTo>
                  <a:pt x="107" y="1735"/>
                </a:lnTo>
                <a:lnTo>
                  <a:pt x="118" y="1715"/>
                </a:lnTo>
                <a:lnTo>
                  <a:pt x="130" y="1695"/>
                </a:lnTo>
                <a:lnTo>
                  <a:pt x="143" y="1673"/>
                </a:lnTo>
                <a:lnTo>
                  <a:pt x="156" y="1650"/>
                </a:lnTo>
                <a:lnTo>
                  <a:pt x="169" y="1628"/>
                </a:lnTo>
                <a:lnTo>
                  <a:pt x="183" y="16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44"/>
          <p:cNvSpPr/>
          <p:nvPr/>
        </p:nvSpPr>
        <p:spPr>
          <a:xfrm>
            <a:off x="6464160" y="3862440"/>
            <a:ext cx="574920" cy="1087560"/>
          </a:xfrm>
          <a:custGeom>
            <a:avLst/>
            <a:gdLst/>
            <a:ahLst/>
            <a:rect l="l" t="t" r="r" b="b"/>
            <a:pathLst>
              <a:path w="1087" h="2054">
                <a:moveTo>
                  <a:pt x="331" y="1884"/>
                </a:moveTo>
                <a:lnTo>
                  <a:pt x="312" y="1897"/>
                </a:lnTo>
                <a:lnTo>
                  <a:pt x="294" y="1910"/>
                </a:lnTo>
                <a:lnTo>
                  <a:pt x="276" y="1922"/>
                </a:lnTo>
                <a:lnTo>
                  <a:pt x="259" y="1933"/>
                </a:lnTo>
                <a:lnTo>
                  <a:pt x="242" y="1943"/>
                </a:lnTo>
                <a:lnTo>
                  <a:pt x="226" y="1955"/>
                </a:lnTo>
                <a:lnTo>
                  <a:pt x="210" y="1964"/>
                </a:lnTo>
                <a:lnTo>
                  <a:pt x="196" y="1974"/>
                </a:lnTo>
                <a:lnTo>
                  <a:pt x="181" y="1982"/>
                </a:lnTo>
                <a:lnTo>
                  <a:pt x="167" y="1991"/>
                </a:lnTo>
                <a:lnTo>
                  <a:pt x="154" y="1998"/>
                </a:lnTo>
                <a:lnTo>
                  <a:pt x="141" y="2007"/>
                </a:lnTo>
                <a:lnTo>
                  <a:pt x="130" y="2013"/>
                </a:lnTo>
                <a:lnTo>
                  <a:pt x="118" y="2020"/>
                </a:lnTo>
                <a:lnTo>
                  <a:pt x="107" y="2025"/>
                </a:lnTo>
                <a:lnTo>
                  <a:pt x="96" y="2030"/>
                </a:lnTo>
                <a:lnTo>
                  <a:pt x="86" y="2036"/>
                </a:lnTo>
                <a:lnTo>
                  <a:pt x="78" y="2040"/>
                </a:lnTo>
                <a:lnTo>
                  <a:pt x="68" y="2043"/>
                </a:lnTo>
                <a:lnTo>
                  <a:pt x="60" y="2047"/>
                </a:lnTo>
                <a:lnTo>
                  <a:pt x="52" y="2048"/>
                </a:lnTo>
                <a:lnTo>
                  <a:pt x="45" y="2051"/>
                </a:lnTo>
                <a:lnTo>
                  <a:pt x="39" y="2053"/>
                </a:lnTo>
                <a:lnTo>
                  <a:pt x="33" y="2054"/>
                </a:lnTo>
                <a:lnTo>
                  <a:pt x="27" y="2054"/>
                </a:lnTo>
                <a:lnTo>
                  <a:pt x="22" y="2054"/>
                </a:lnTo>
                <a:lnTo>
                  <a:pt x="17" y="2054"/>
                </a:lnTo>
                <a:lnTo>
                  <a:pt x="13" y="2053"/>
                </a:lnTo>
                <a:lnTo>
                  <a:pt x="10" y="2050"/>
                </a:lnTo>
                <a:lnTo>
                  <a:pt x="7" y="2048"/>
                </a:lnTo>
                <a:lnTo>
                  <a:pt x="4" y="2046"/>
                </a:lnTo>
                <a:lnTo>
                  <a:pt x="3" y="2043"/>
                </a:lnTo>
                <a:lnTo>
                  <a:pt x="1" y="2040"/>
                </a:lnTo>
                <a:lnTo>
                  <a:pt x="0" y="2038"/>
                </a:lnTo>
                <a:lnTo>
                  <a:pt x="0" y="2036"/>
                </a:lnTo>
                <a:lnTo>
                  <a:pt x="0" y="2033"/>
                </a:lnTo>
                <a:lnTo>
                  <a:pt x="0" y="2030"/>
                </a:lnTo>
                <a:lnTo>
                  <a:pt x="0" y="2027"/>
                </a:lnTo>
                <a:lnTo>
                  <a:pt x="1" y="2024"/>
                </a:lnTo>
                <a:lnTo>
                  <a:pt x="3" y="2020"/>
                </a:lnTo>
                <a:lnTo>
                  <a:pt x="4" y="2015"/>
                </a:lnTo>
                <a:lnTo>
                  <a:pt x="7" y="2013"/>
                </a:lnTo>
                <a:lnTo>
                  <a:pt x="10" y="2008"/>
                </a:lnTo>
                <a:lnTo>
                  <a:pt x="13" y="2004"/>
                </a:lnTo>
                <a:lnTo>
                  <a:pt x="16" y="1998"/>
                </a:lnTo>
                <a:lnTo>
                  <a:pt x="20" y="1994"/>
                </a:lnTo>
                <a:lnTo>
                  <a:pt x="24" y="1988"/>
                </a:lnTo>
                <a:lnTo>
                  <a:pt x="29" y="1984"/>
                </a:lnTo>
                <a:lnTo>
                  <a:pt x="35" y="1978"/>
                </a:lnTo>
                <a:lnTo>
                  <a:pt x="40" y="1972"/>
                </a:lnTo>
                <a:lnTo>
                  <a:pt x="46" y="1965"/>
                </a:lnTo>
                <a:lnTo>
                  <a:pt x="52" y="1959"/>
                </a:lnTo>
                <a:lnTo>
                  <a:pt x="59" y="1953"/>
                </a:lnTo>
                <a:lnTo>
                  <a:pt x="66" y="1946"/>
                </a:lnTo>
                <a:lnTo>
                  <a:pt x="73" y="1939"/>
                </a:lnTo>
                <a:lnTo>
                  <a:pt x="81" y="1932"/>
                </a:lnTo>
                <a:lnTo>
                  <a:pt x="89" y="1925"/>
                </a:lnTo>
                <a:lnTo>
                  <a:pt x="98" y="1916"/>
                </a:lnTo>
                <a:lnTo>
                  <a:pt x="107" y="1909"/>
                </a:lnTo>
                <a:lnTo>
                  <a:pt x="117" y="1900"/>
                </a:lnTo>
                <a:lnTo>
                  <a:pt x="127" y="1892"/>
                </a:lnTo>
                <a:lnTo>
                  <a:pt x="137" y="1883"/>
                </a:lnTo>
                <a:lnTo>
                  <a:pt x="147" y="1874"/>
                </a:lnTo>
                <a:lnTo>
                  <a:pt x="158" y="1866"/>
                </a:lnTo>
                <a:lnTo>
                  <a:pt x="177" y="1846"/>
                </a:lnTo>
                <a:lnTo>
                  <a:pt x="197" y="1827"/>
                </a:lnTo>
                <a:lnTo>
                  <a:pt x="216" y="1807"/>
                </a:lnTo>
                <a:lnTo>
                  <a:pt x="236" y="1786"/>
                </a:lnTo>
                <a:lnTo>
                  <a:pt x="256" y="1766"/>
                </a:lnTo>
                <a:lnTo>
                  <a:pt x="276" y="1745"/>
                </a:lnTo>
                <a:lnTo>
                  <a:pt x="297" y="1725"/>
                </a:lnTo>
                <a:lnTo>
                  <a:pt x="317" y="1702"/>
                </a:lnTo>
                <a:lnTo>
                  <a:pt x="337" y="1680"/>
                </a:lnTo>
                <a:lnTo>
                  <a:pt x="357" y="1657"/>
                </a:lnTo>
                <a:lnTo>
                  <a:pt x="379" y="1634"/>
                </a:lnTo>
                <a:lnTo>
                  <a:pt x="399" y="1609"/>
                </a:lnTo>
                <a:lnTo>
                  <a:pt x="420" y="1586"/>
                </a:lnTo>
                <a:lnTo>
                  <a:pt x="442" y="1560"/>
                </a:lnTo>
                <a:lnTo>
                  <a:pt x="465" y="1536"/>
                </a:lnTo>
                <a:lnTo>
                  <a:pt x="487" y="1510"/>
                </a:lnTo>
                <a:lnTo>
                  <a:pt x="505" y="1484"/>
                </a:lnTo>
                <a:lnTo>
                  <a:pt x="524" y="1457"/>
                </a:lnTo>
                <a:lnTo>
                  <a:pt x="543" y="1428"/>
                </a:lnTo>
                <a:lnTo>
                  <a:pt x="560" y="1399"/>
                </a:lnTo>
                <a:lnTo>
                  <a:pt x="579" y="1369"/>
                </a:lnTo>
                <a:lnTo>
                  <a:pt x="596" y="1339"/>
                </a:lnTo>
                <a:lnTo>
                  <a:pt x="612" y="1306"/>
                </a:lnTo>
                <a:lnTo>
                  <a:pt x="629" y="1274"/>
                </a:lnTo>
                <a:lnTo>
                  <a:pt x="645" y="1239"/>
                </a:lnTo>
                <a:lnTo>
                  <a:pt x="661" y="1205"/>
                </a:lnTo>
                <a:lnTo>
                  <a:pt x="677" y="1170"/>
                </a:lnTo>
                <a:lnTo>
                  <a:pt x="691" y="1133"/>
                </a:lnTo>
                <a:lnTo>
                  <a:pt x="705" y="1095"/>
                </a:lnTo>
                <a:lnTo>
                  <a:pt x="720" y="1058"/>
                </a:lnTo>
                <a:lnTo>
                  <a:pt x="733" y="1018"/>
                </a:lnTo>
                <a:lnTo>
                  <a:pt x="746" y="979"/>
                </a:lnTo>
                <a:lnTo>
                  <a:pt x="754" y="939"/>
                </a:lnTo>
                <a:lnTo>
                  <a:pt x="764" y="898"/>
                </a:lnTo>
                <a:lnTo>
                  <a:pt x="773" y="861"/>
                </a:lnTo>
                <a:lnTo>
                  <a:pt x="780" y="823"/>
                </a:lnTo>
                <a:lnTo>
                  <a:pt x="789" y="786"/>
                </a:lnTo>
                <a:lnTo>
                  <a:pt x="796" y="751"/>
                </a:lnTo>
                <a:lnTo>
                  <a:pt x="803" y="717"/>
                </a:lnTo>
                <a:lnTo>
                  <a:pt x="811" y="682"/>
                </a:lnTo>
                <a:lnTo>
                  <a:pt x="816" y="651"/>
                </a:lnTo>
                <a:lnTo>
                  <a:pt x="822" y="618"/>
                </a:lnTo>
                <a:lnTo>
                  <a:pt x="828" y="587"/>
                </a:lnTo>
                <a:lnTo>
                  <a:pt x="834" y="557"/>
                </a:lnTo>
                <a:lnTo>
                  <a:pt x="838" y="528"/>
                </a:lnTo>
                <a:lnTo>
                  <a:pt x="842" y="499"/>
                </a:lnTo>
                <a:lnTo>
                  <a:pt x="847" y="472"/>
                </a:lnTo>
                <a:lnTo>
                  <a:pt x="849" y="446"/>
                </a:lnTo>
                <a:lnTo>
                  <a:pt x="849" y="420"/>
                </a:lnTo>
                <a:lnTo>
                  <a:pt x="848" y="396"/>
                </a:lnTo>
                <a:lnTo>
                  <a:pt x="848" y="373"/>
                </a:lnTo>
                <a:lnTo>
                  <a:pt x="847" y="350"/>
                </a:lnTo>
                <a:lnTo>
                  <a:pt x="844" y="328"/>
                </a:lnTo>
                <a:lnTo>
                  <a:pt x="842" y="308"/>
                </a:lnTo>
                <a:lnTo>
                  <a:pt x="839" y="288"/>
                </a:lnTo>
                <a:lnTo>
                  <a:pt x="836" y="269"/>
                </a:lnTo>
                <a:lnTo>
                  <a:pt x="832" y="252"/>
                </a:lnTo>
                <a:lnTo>
                  <a:pt x="829" y="235"/>
                </a:lnTo>
                <a:lnTo>
                  <a:pt x="825" y="217"/>
                </a:lnTo>
                <a:lnTo>
                  <a:pt x="821" y="203"/>
                </a:lnTo>
                <a:lnTo>
                  <a:pt x="815" y="189"/>
                </a:lnTo>
                <a:lnTo>
                  <a:pt x="809" y="176"/>
                </a:lnTo>
                <a:lnTo>
                  <a:pt x="803" y="163"/>
                </a:lnTo>
                <a:lnTo>
                  <a:pt x="798" y="151"/>
                </a:lnTo>
                <a:lnTo>
                  <a:pt x="792" y="144"/>
                </a:lnTo>
                <a:lnTo>
                  <a:pt x="786" y="137"/>
                </a:lnTo>
                <a:lnTo>
                  <a:pt x="782" y="130"/>
                </a:lnTo>
                <a:lnTo>
                  <a:pt x="777" y="121"/>
                </a:lnTo>
                <a:lnTo>
                  <a:pt x="775" y="114"/>
                </a:lnTo>
                <a:lnTo>
                  <a:pt x="773" y="106"/>
                </a:lnTo>
                <a:lnTo>
                  <a:pt x="770" y="99"/>
                </a:lnTo>
                <a:lnTo>
                  <a:pt x="770" y="92"/>
                </a:lnTo>
                <a:lnTo>
                  <a:pt x="769" y="85"/>
                </a:lnTo>
                <a:lnTo>
                  <a:pt x="769" y="76"/>
                </a:lnTo>
                <a:lnTo>
                  <a:pt x="770" y="69"/>
                </a:lnTo>
                <a:lnTo>
                  <a:pt x="770" y="62"/>
                </a:lnTo>
                <a:lnTo>
                  <a:pt x="773" y="55"/>
                </a:lnTo>
                <a:lnTo>
                  <a:pt x="775" y="47"/>
                </a:lnTo>
                <a:lnTo>
                  <a:pt x="777" y="40"/>
                </a:lnTo>
                <a:lnTo>
                  <a:pt x="780" y="33"/>
                </a:lnTo>
                <a:lnTo>
                  <a:pt x="783" y="26"/>
                </a:lnTo>
                <a:lnTo>
                  <a:pt x="787" y="20"/>
                </a:lnTo>
                <a:lnTo>
                  <a:pt x="792" y="14"/>
                </a:lnTo>
                <a:lnTo>
                  <a:pt x="796" y="10"/>
                </a:lnTo>
                <a:lnTo>
                  <a:pt x="802" y="7"/>
                </a:lnTo>
                <a:lnTo>
                  <a:pt x="809" y="4"/>
                </a:lnTo>
                <a:lnTo>
                  <a:pt x="815" y="1"/>
                </a:lnTo>
                <a:lnTo>
                  <a:pt x="823" y="0"/>
                </a:lnTo>
                <a:lnTo>
                  <a:pt x="832" y="0"/>
                </a:lnTo>
                <a:lnTo>
                  <a:pt x="841" y="0"/>
                </a:lnTo>
                <a:lnTo>
                  <a:pt x="851" y="1"/>
                </a:lnTo>
                <a:lnTo>
                  <a:pt x="862" y="1"/>
                </a:lnTo>
                <a:lnTo>
                  <a:pt x="875" y="4"/>
                </a:lnTo>
                <a:lnTo>
                  <a:pt x="888" y="6"/>
                </a:lnTo>
                <a:lnTo>
                  <a:pt x="903" y="10"/>
                </a:lnTo>
                <a:lnTo>
                  <a:pt x="918" y="13"/>
                </a:lnTo>
                <a:lnTo>
                  <a:pt x="933" y="17"/>
                </a:lnTo>
                <a:lnTo>
                  <a:pt x="949" y="22"/>
                </a:lnTo>
                <a:lnTo>
                  <a:pt x="963" y="26"/>
                </a:lnTo>
                <a:lnTo>
                  <a:pt x="976" y="32"/>
                </a:lnTo>
                <a:lnTo>
                  <a:pt x="989" y="37"/>
                </a:lnTo>
                <a:lnTo>
                  <a:pt x="1001" y="43"/>
                </a:lnTo>
                <a:lnTo>
                  <a:pt x="1012" y="49"/>
                </a:lnTo>
                <a:lnTo>
                  <a:pt x="1022" y="55"/>
                </a:lnTo>
                <a:lnTo>
                  <a:pt x="1031" y="62"/>
                </a:lnTo>
                <a:lnTo>
                  <a:pt x="1039" y="68"/>
                </a:lnTo>
                <a:lnTo>
                  <a:pt x="1047" y="75"/>
                </a:lnTo>
                <a:lnTo>
                  <a:pt x="1054" y="82"/>
                </a:lnTo>
                <a:lnTo>
                  <a:pt x="1060" y="89"/>
                </a:lnTo>
                <a:lnTo>
                  <a:pt x="1065" y="96"/>
                </a:lnTo>
                <a:lnTo>
                  <a:pt x="1070" y="104"/>
                </a:lnTo>
                <a:lnTo>
                  <a:pt x="1074" y="112"/>
                </a:lnTo>
                <a:lnTo>
                  <a:pt x="1077" y="119"/>
                </a:lnTo>
                <a:lnTo>
                  <a:pt x="1078" y="128"/>
                </a:lnTo>
                <a:lnTo>
                  <a:pt x="1081" y="138"/>
                </a:lnTo>
                <a:lnTo>
                  <a:pt x="1083" y="148"/>
                </a:lnTo>
                <a:lnTo>
                  <a:pt x="1084" y="161"/>
                </a:lnTo>
                <a:lnTo>
                  <a:pt x="1085" y="174"/>
                </a:lnTo>
                <a:lnTo>
                  <a:pt x="1085" y="187"/>
                </a:lnTo>
                <a:lnTo>
                  <a:pt x="1087" y="203"/>
                </a:lnTo>
                <a:lnTo>
                  <a:pt x="1085" y="219"/>
                </a:lnTo>
                <a:lnTo>
                  <a:pt x="1085" y="236"/>
                </a:lnTo>
                <a:lnTo>
                  <a:pt x="1084" y="255"/>
                </a:lnTo>
                <a:lnTo>
                  <a:pt x="1083" y="275"/>
                </a:lnTo>
                <a:lnTo>
                  <a:pt x="1081" y="296"/>
                </a:lnTo>
                <a:lnTo>
                  <a:pt x="1078" y="318"/>
                </a:lnTo>
                <a:lnTo>
                  <a:pt x="1077" y="343"/>
                </a:lnTo>
                <a:lnTo>
                  <a:pt x="1074" y="368"/>
                </a:lnTo>
                <a:lnTo>
                  <a:pt x="1061" y="471"/>
                </a:lnTo>
                <a:lnTo>
                  <a:pt x="1048" y="574"/>
                </a:lnTo>
                <a:lnTo>
                  <a:pt x="1022" y="782"/>
                </a:lnTo>
                <a:lnTo>
                  <a:pt x="1018" y="808"/>
                </a:lnTo>
                <a:lnTo>
                  <a:pt x="1012" y="835"/>
                </a:lnTo>
                <a:lnTo>
                  <a:pt x="1006" y="865"/>
                </a:lnTo>
                <a:lnTo>
                  <a:pt x="999" y="895"/>
                </a:lnTo>
                <a:lnTo>
                  <a:pt x="990" y="927"/>
                </a:lnTo>
                <a:lnTo>
                  <a:pt x="980" y="959"/>
                </a:lnTo>
                <a:lnTo>
                  <a:pt x="970" y="993"/>
                </a:lnTo>
                <a:lnTo>
                  <a:pt x="959" y="1028"/>
                </a:lnTo>
                <a:lnTo>
                  <a:pt x="946" y="1062"/>
                </a:lnTo>
                <a:lnTo>
                  <a:pt x="933" y="1100"/>
                </a:lnTo>
                <a:lnTo>
                  <a:pt x="917" y="1136"/>
                </a:lnTo>
                <a:lnTo>
                  <a:pt x="903" y="1175"/>
                </a:lnTo>
                <a:lnTo>
                  <a:pt x="885" y="1214"/>
                </a:lnTo>
                <a:lnTo>
                  <a:pt x="868" y="1252"/>
                </a:lnTo>
                <a:lnTo>
                  <a:pt x="851" y="1293"/>
                </a:lnTo>
                <a:lnTo>
                  <a:pt x="832" y="1333"/>
                </a:lnTo>
                <a:lnTo>
                  <a:pt x="809" y="1373"/>
                </a:lnTo>
                <a:lnTo>
                  <a:pt x="786" y="1414"/>
                </a:lnTo>
                <a:lnTo>
                  <a:pt x="760" y="1452"/>
                </a:lnTo>
                <a:lnTo>
                  <a:pt x="734" y="1491"/>
                </a:lnTo>
                <a:lnTo>
                  <a:pt x="708" y="1529"/>
                </a:lnTo>
                <a:lnTo>
                  <a:pt x="680" y="1566"/>
                </a:lnTo>
                <a:lnTo>
                  <a:pt x="651" y="1602"/>
                </a:lnTo>
                <a:lnTo>
                  <a:pt x="620" y="1638"/>
                </a:lnTo>
                <a:lnTo>
                  <a:pt x="589" y="1673"/>
                </a:lnTo>
                <a:lnTo>
                  <a:pt x="556" y="1706"/>
                </a:lnTo>
                <a:lnTo>
                  <a:pt x="523" y="1739"/>
                </a:lnTo>
                <a:lnTo>
                  <a:pt x="487" y="1769"/>
                </a:lnTo>
                <a:lnTo>
                  <a:pt x="451" y="1801"/>
                </a:lnTo>
                <a:lnTo>
                  <a:pt x="430" y="1815"/>
                </a:lnTo>
                <a:lnTo>
                  <a:pt x="412" y="1830"/>
                </a:lnTo>
                <a:lnTo>
                  <a:pt x="392" y="1844"/>
                </a:lnTo>
                <a:lnTo>
                  <a:pt x="373" y="1857"/>
                </a:lnTo>
                <a:lnTo>
                  <a:pt x="351" y="1871"/>
                </a:lnTo>
                <a:lnTo>
                  <a:pt x="331" y="18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45"/>
          <p:cNvSpPr/>
          <p:nvPr/>
        </p:nvSpPr>
        <p:spPr>
          <a:xfrm>
            <a:off x="6940440" y="4035600"/>
            <a:ext cx="924120" cy="939600"/>
          </a:xfrm>
          <a:custGeom>
            <a:avLst/>
            <a:gdLst/>
            <a:ahLst/>
            <a:rect l="l" t="t" r="r" b="b"/>
            <a:pathLst>
              <a:path w="1744" h="1774">
                <a:moveTo>
                  <a:pt x="622" y="907"/>
                </a:moveTo>
                <a:lnTo>
                  <a:pt x="654" y="947"/>
                </a:lnTo>
                <a:lnTo>
                  <a:pt x="688" y="986"/>
                </a:lnTo>
                <a:lnTo>
                  <a:pt x="723" y="1025"/>
                </a:lnTo>
                <a:lnTo>
                  <a:pt x="760" y="1061"/>
                </a:lnTo>
                <a:lnTo>
                  <a:pt x="798" y="1099"/>
                </a:lnTo>
                <a:lnTo>
                  <a:pt x="838" y="1133"/>
                </a:lnTo>
                <a:lnTo>
                  <a:pt x="878" y="1168"/>
                </a:lnTo>
                <a:lnTo>
                  <a:pt x="922" y="1202"/>
                </a:lnTo>
                <a:lnTo>
                  <a:pt x="943" y="1218"/>
                </a:lnTo>
                <a:lnTo>
                  <a:pt x="965" y="1234"/>
                </a:lnTo>
                <a:lnTo>
                  <a:pt x="988" y="1250"/>
                </a:lnTo>
                <a:lnTo>
                  <a:pt x="1009" y="1266"/>
                </a:lnTo>
                <a:lnTo>
                  <a:pt x="1034" y="1281"/>
                </a:lnTo>
                <a:lnTo>
                  <a:pt x="1057" y="1297"/>
                </a:lnTo>
                <a:lnTo>
                  <a:pt x="1080" y="1312"/>
                </a:lnTo>
                <a:lnTo>
                  <a:pt x="1104" y="1326"/>
                </a:lnTo>
                <a:lnTo>
                  <a:pt x="1129" y="1342"/>
                </a:lnTo>
                <a:lnTo>
                  <a:pt x="1155" y="1356"/>
                </a:lnTo>
                <a:lnTo>
                  <a:pt x="1179" y="1371"/>
                </a:lnTo>
                <a:lnTo>
                  <a:pt x="1205" y="1384"/>
                </a:lnTo>
                <a:lnTo>
                  <a:pt x="1231" y="1398"/>
                </a:lnTo>
                <a:lnTo>
                  <a:pt x="1258" y="1411"/>
                </a:lnTo>
                <a:lnTo>
                  <a:pt x="1286" y="1425"/>
                </a:lnTo>
                <a:lnTo>
                  <a:pt x="1313" y="1438"/>
                </a:lnTo>
                <a:lnTo>
                  <a:pt x="1339" y="1451"/>
                </a:lnTo>
                <a:lnTo>
                  <a:pt x="1365" y="1464"/>
                </a:lnTo>
                <a:lnTo>
                  <a:pt x="1391" y="1476"/>
                </a:lnTo>
                <a:lnTo>
                  <a:pt x="1415" y="1489"/>
                </a:lnTo>
                <a:lnTo>
                  <a:pt x="1438" y="1499"/>
                </a:lnTo>
                <a:lnTo>
                  <a:pt x="1461" y="1510"/>
                </a:lnTo>
                <a:lnTo>
                  <a:pt x="1483" y="1522"/>
                </a:lnTo>
                <a:lnTo>
                  <a:pt x="1503" y="1532"/>
                </a:lnTo>
                <a:lnTo>
                  <a:pt x="1523" y="1542"/>
                </a:lnTo>
                <a:lnTo>
                  <a:pt x="1542" y="1552"/>
                </a:lnTo>
                <a:lnTo>
                  <a:pt x="1561" y="1561"/>
                </a:lnTo>
                <a:lnTo>
                  <a:pt x="1577" y="1569"/>
                </a:lnTo>
                <a:lnTo>
                  <a:pt x="1594" y="1578"/>
                </a:lnTo>
                <a:lnTo>
                  <a:pt x="1610" y="1587"/>
                </a:lnTo>
                <a:lnTo>
                  <a:pt x="1624" y="1594"/>
                </a:lnTo>
                <a:lnTo>
                  <a:pt x="1637" y="1602"/>
                </a:lnTo>
                <a:lnTo>
                  <a:pt x="1650" y="1608"/>
                </a:lnTo>
                <a:lnTo>
                  <a:pt x="1663" y="1615"/>
                </a:lnTo>
                <a:lnTo>
                  <a:pt x="1674" y="1623"/>
                </a:lnTo>
                <a:lnTo>
                  <a:pt x="1685" y="1628"/>
                </a:lnTo>
                <a:lnTo>
                  <a:pt x="1693" y="1634"/>
                </a:lnTo>
                <a:lnTo>
                  <a:pt x="1702" y="1640"/>
                </a:lnTo>
                <a:lnTo>
                  <a:pt x="1710" y="1644"/>
                </a:lnTo>
                <a:lnTo>
                  <a:pt x="1718" y="1649"/>
                </a:lnTo>
                <a:lnTo>
                  <a:pt x="1723" y="1653"/>
                </a:lnTo>
                <a:lnTo>
                  <a:pt x="1729" y="1657"/>
                </a:lnTo>
                <a:lnTo>
                  <a:pt x="1733" y="1661"/>
                </a:lnTo>
                <a:lnTo>
                  <a:pt x="1736" y="1664"/>
                </a:lnTo>
                <a:lnTo>
                  <a:pt x="1739" y="1667"/>
                </a:lnTo>
                <a:lnTo>
                  <a:pt x="1742" y="1670"/>
                </a:lnTo>
                <a:lnTo>
                  <a:pt x="1744" y="1673"/>
                </a:lnTo>
                <a:lnTo>
                  <a:pt x="1744" y="1674"/>
                </a:lnTo>
                <a:lnTo>
                  <a:pt x="1744" y="1679"/>
                </a:lnTo>
                <a:lnTo>
                  <a:pt x="1741" y="1682"/>
                </a:lnTo>
                <a:lnTo>
                  <a:pt x="1738" y="1686"/>
                </a:lnTo>
                <a:lnTo>
                  <a:pt x="1733" y="1690"/>
                </a:lnTo>
                <a:lnTo>
                  <a:pt x="1728" y="1693"/>
                </a:lnTo>
                <a:lnTo>
                  <a:pt x="1722" y="1697"/>
                </a:lnTo>
                <a:lnTo>
                  <a:pt x="1713" y="1702"/>
                </a:lnTo>
                <a:lnTo>
                  <a:pt x="1705" y="1706"/>
                </a:lnTo>
                <a:lnTo>
                  <a:pt x="1695" y="1712"/>
                </a:lnTo>
                <a:lnTo>
                  <a:pt x="1683" y="1716"/>
                </a:lnTo>
                <a:lnTo>
                  <a:pt x="1670" y="1722"/>
                </a:lnTo>
                <a:lnTo>
                  <a:pt x="1656" y="1728"/>
                </a:lnTo>
                <a:lnTo>
                  <a:pt x="1641" y="1733"/>
                </a:lnTo>
                <a:lnTo>
                  <a:pt x="1624" y="1739"/>
                </a:lnTo>
                <a:lnTo>
                  <a:pt x="1607" y="1746"/>
                </a:lnTo>
                <a:lnTo>
                  <a:pt x="1588" y="1754"/>
                </a:lnTo>
                <a:lnTo>
                  <a:pt x="1569" y="1756"/>
                </a:lnTo>
                <a:lnTo>
                  <a:pt x="1549" y="1761"/>
                </a:lnTo>
                <a:lnTo>
                  <a:pt x="1531" y="1762"/>
                </a:lnTo>
                <a:lnTo>
                  <a:pt x="1510" y="1765"/>
                </a:lnTo>
                <a:lnTo>
                  <a:pt x="1490" y="1767"/>
                </a:lnTo>
                <a:lnTo>
                  <a:pt x="1471" y="1768"/>
                </a:lnTo>
                <a:lnTo>
                  <a:pt x="1431" y="1771"/>
                </a:lnTo>
                <a:lnTo>
                  <a:pt x="1391" y="1772"/>
                </a:lnTo>
                <a:lnTo>
                  <a:pt x="1348" y="1772"/>
                </a:lnTo>
                <a:lnTo>
                  <a:pt x="1304" y="1774"/>
                </a:lnTo>
                <a:lnTo>
                  <a:pt x="1283" y="1774"/>
                </a:lnTo>
                <a:lnTo>
                  <a:pt x="1261" y="1774"/>
                </a:lnTo>
                <a:lnTo>
                  <a:pt x="1238" y="1772"/>
                </a:lnTo>
                <a:lnTo>
                  <a:pt x="1217" y="1772"/>
                </a:lnTo>
                <a:lnTo>
                  <a:pt x="1194" y="1771"/>
                </a:lnTo>
                <a:lnTo>
                  <a:pt x="1173" y="1769"/>
                </a:lnTo>
                <a:lnTo>
                  <a:pt x="1152" y="1768"/>
                </a:lnTo>
                <a:lnTo>
                  <a:pt x="1132" y="1765"/>
                </a:lnTo>
                <a:lnTo>
                  <a:pt x="1112" y="1762"/>
                </a:lnTo>
                <a:lnTo>
                  <a:pt x="1091" y="1759"/>
                </a:lnTo>
                <a:lnTo>
                  <a:pt x="1073" y="1755"/>
                </a:lnTo>
                <a:lnTo>
                  <a:pt x="1054" y="1751"/>
                </a:lnTo>
                <a:lnTo>
                  <a:pt x="1035" y="1745"/>
                </a:lnTo>
                <a:lnTo>
                  <a:pt x="1018" y="1741"/>
                </a:lnTo>
                <a:lnTo>
                  <a:pt x="999" y="1735"/>
                </a:lnTo>
                <a:lnTo>
                  <a:pt x="982" y="1728"/>
                </a:lnTo>
                <a:lnTo>
                  <a:pt x="966" y="1722"/>
                </a:lnTo>
                <a:lnTo>
                  <a:pt x="950" y="1715"/>
                </a:lnTo>
                <a:lnTo>
                  <a:pt x="940" y="1709"/>
                </a:lnTo>
                <a:lnTo>
                  <a:pt x="930" y="1700"/>
                </a:lnTo>
                <a:lnTo>
                  <a:pt x="919" y="1690"/>
                </a:lnTo>
                <a:lnTo>
                  <a:pt x="906" y="1677"/>
                </a:lnTo>
                <a:lnTo>
                  <a:pt x="893" y="1661"/>
                </a:lnTo>
                <a:lnTo>
                  <a:pt x="877" y="1643"/>
                </a:lnTo>
                <a:lnTo>
                  <a:pt x="860" y="1621"/>
                </a:lnTo>
                <a:lnTo>
                  <a:pt x="841" y="1597"/>
                </a:lnTo>
                <a:lnTo>
                  <a:pt x="822" y="1569"/>
                </a:lnTo>
                <a:lnTo>
                  <a:pt x="801" y="1539"/>
                </a:lnTo>
                <a:lnTo>
                  <a:pt x="779" y="1507"/>
                </a:lnTo>
                <a:lnTo>
                  <a:pt x="755" y="1471"/>
                </a:lnTo>
                <a:lnTo>
                  <a:pt x="730" y="1434"/>
                </a:lnTo>
                <a:lnTo>
                  <a:pt x="703" y="1394"/>
                </a:lnTo>
                <a:lnTo>
                  <a:pt x="675" y="1351"/>
                </a:lnTo>
                <a:lnTo>
                  <a:pt x="647" y="1304"/>
                </a:lnTo>
                <a:lnTo>
                  <a:pt x="616" y="1256"/>
                </a:lnTo>
                <a:lnTo>
                  <a:pt x="585" y="1204"/>
                </a:lnTo>
                <a:lnTo>
                  <a:pt x="552" y="1150"/>
                </a:lnTo>
                <a:lnTo>
                  <a:pt x="517" y="1093"/>
                </a:lnTo>
                <a:lnTo>
                  <a:pt x="481" y="1032"/>
                </a:lnTo>
                <a:lnTo>
                  <a:pt x="444" y="970"/>
                </a:lnTo>
                <a:lnTo>
                  <a:pt x="406" y="906"/>
                </a:lnTo>
                <a:lnTo>
                  <a:pt x="366" y="838"/>
                </a:lnTo>
                <a:lnTo>
                  <a:pt x="326" y="767"/>
                </a:lnTo>
                <a:lnTo>
                  <a:pt x="282" y="694"/>
                </a:lnTo>
                <a:lnTo>
                  <a:pt x="239" y="618"/>
                </a:lnTo>
                <a:lnTo>
                  <a:pt x="193" y="540"/>
                </a:lnTo>
                <a:lnTo>
                  <a:pt x="147" y="458"/>
                </a:lnTo>
                <a:lnTo>
                  <a:pt x="100" y="374"/>
                </a:lnTo>
                <a:lnTo>
                  <a:pt x="51" y="287"/>
                </a:lnTo>
                <a:lnTo>
                  <a:pt x="0" y="197"/>
                </a:lnTo>
                <a:lnTo>
                  <a:pt x="13" y="148"/>
                </a:lnTo>
                <a:lnTo>
                  <a:pt x="26" y="98"/>
                </a:lnTo>
                <a:lnTo>
                  <a:pt x="52" y="0"/>
                </a:lnTo>
                <a:lnTo>
                  <a:pt x="62" y="29"/>
                </a:lnTo>
                <a:lnTo>
                  <a:pt x="72" y="58"/>
                </a:lnTo>
                <a:lnTo>
                  <a:pt x="82" y="87"/>
                </a:lnTo>
                <a:lnTo>
                  <a:pt x="94" y="114"/>
                </a:lnTo>
                <a:lnTo>
                  <a:pt x="105" y="141"/>
                </a:lnTo>
                <a:lnTo>
                  <a:pt x="117" y="167"/>
                </a:lnTo>
                <a:lnTo>
                  <a:pt x="130" y="193"/>
                </a:lnTo>
                <a:lnTo>
                  <a:pt x="143" y="219"/>
                </a:lnTo>
                <a:lnTo>
                  <a:pt x="156" y="243"/>
                </a:lnTo>
                <a:lnTo>
                  <a:pt x="169" y="268"/>
                </a:lnTo>
                <a:lnTo>
                  <a:pt x="183" y="291"/>
                </a:lnTo>
                <a:lnTo>
                  <a:pt x="197" y="313"/>
                </a:lnTo>
                <a:lnTo>
                  <a:pt x="212" y="334"/>
                </a:lnTo>
                <a:lnTo>
                  <a:pt x="228" y="354"/>
                </a:lnTo>
                <a:lnTo>
                  <a:pt x="244" y="374"/>
                </a:lnTo>
                <a:lnTo>
                  <a:pt x="259" y="395"/>
                </a:lnTo>
                <a:lnTo>
                  <a:pt x="275" y="418"/>
                </a:lnTo>
                <a:lnTo>
                  <a:pt x="292" y="441"/>
                </a:lnTo>
                <a:lnTo>
                  <a:pt x="311" y="467"/>
                </a:lnTo>
                <a:lnTo>
                  <a:pt x="330" y="494"/>
                </a:lnTo>
                <a:lnTo>
                  <a:pt x="350" y="521"/>
                </a:lnTo>
                <a:lnTo>
                  <a:pt x="370" y="552"/>
                </a:lnTo>
                <a:lnTo>
                  <a:pt x="392" y="582"/>
                </a:lnTo>
                <a:lnTo>
                  <a:pt x="415" y="613"/>
                </a:lnTo>
                <a:lnTo>
                  <a:pt x="438" y="647"/>
                </a:lnTo>
                <a:lnTo>
                  <a:pt x="462" y="680"/>
                </a:lnTo>
                <a:lnTo>
                  <a:pt x="487" y="716"/>
                </a:lnTo>
                <a:lnTo>
                  <a:pt x="513" y="752"/>
                </a:lnTo>
                <a:lnTo>
                  <a:pt x="539" y="789"/>
                </a:lnTo>
                <a:lnTo>
                  <a:pt x="566" y="827"/>
                </a:lnTo>
                <a:lnTo>
                  <a:pt x="593" y="865"/>
                </a:lnTo>
                <a:lnTo>
                  <a:pt x="622" y="9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46"/>
          <p:cNvSpPr/>
          <p:nvPr/>
        </p:nvSpPr>
        <p:spPr>
          <a:xfrm>
            <a:off x="6283440" y="4473720"/>
            <a:ext cx="331560" cy="218880"/>
          </a:xfrm>
          <a:custGeom>
            <a:avLst/>
            <a:gdLst/>
            <a:ahLst/>
            <a:rect l="l" t="t" r="r" b="b"/>
            <a:pathLst>
              <a:path w="629" h="413">
                <a:moveTo>
                  <a:pt x="622" y="276"/>
                </a:moveTo>
                <a:lnTo>
                  <a:pt x="625" y="294"/>
                </a:lnTo>
                <a:lnTo>
                  <a:pt x="627" y="309"/>
                </a:lnTo>
                <a:lnTo>
                  <a:pt x="628" y="325"/>
                </a:lnTo>
                <a:lnTo>
                  <a:pt x="629" y="338"/>
                </a:lnTo>
                <a:lnTo>
                  <a:pt x="629" y="351"/>
                </a:lnTo>
                <a:lnTo>
                  <a:pt x="629" y="363"/>
                </a:lnTo>
                <a:lnTo>
                  <a:pt x="628" y="373"/>
                </a:lnTo>
                <a:lnTo>
                  <a:pt x="627" y="381"/>
                </a:lnTo>
                <a:lnTo>
                  <a:pt x="625" y="389"/>
                </a:lnTo>
                <a:lnTo>
                  <a:pt x="622" y="396"/>
                </a:lnTo>
                <a:lnTo>
                  <a:pt x="621" y="402"/>
                </a:lnTo>
                <a:lnTo>
                  <a:pt x="618" y="406"/>
                </a:lnTo>
                <a:lnTo>
                  <a:pt x="615" y="409"/>
                </a:lnTo>
                <a:lnTo>
                  <a:pt x="611" y="412"/>
                </a:lnTo>
                <a:lnTo>
                  <a:pt x="608" y="413"/>
                </a:lnTo>
                <a:lnTo>
                  <a:pt x="605" y="413"/>
                </a:lnTo>
                <a:lnTo>
                  <a:pt x="601" y="413"/>
                </a:lnTo>
                <a:lnTo>
                  <a:pt x="596" y="412"/>
                </a:lnTo>
                <a:lnTo>
                  <a:pt x="591" y="410"/>
                </a:lnTo>
                <a:lnTo>
                  <a:pt x="583" y="409"/>
                </a:lnTo>
                <a:lnTo>
                  <a:pt x="576" y="406"/>
                </a:lnTo>
                <a:lnTo>
                  <a:pt x="568" y="403"/>
                </a:lnTo>
                <a:lnTo>
                  <a:pt x="558" y="399"/>
                </a:lnTo>
                <a:lnTo>
                  <a:pt x="546" y="394"/>
                </a:lnTo>
                <a:lnTo>
                  <a:pt x="534" y="390"/>
                </a:lnTo>
                <a:lnTo>
                  <a:pt x="522" y="384"/>
                </a:lnTo>
                <a:lnTo>
                  <a:pt x="509" y="379"/>
                </a:lnTo>
                <a:lnTo>
                  <a:pt x="494" y="371"/>
                </a:lnTo>
                <a:lnTo>
                  <a:pt x="478" y="364"/>
                </a:lnTo>
                <a:lnTo>
                  <a:pt x="461" y="356"/>
                </a:lnTo>
                <a:lnTo>
                  <a:pt x="444" y="347"/>
                </a:lnTo>
                <a:lnTo>
                  <a:pt x="425" y="338"/>
                </a:lnTo>
                <a:lnTo>
                  <a:pt x="405" y="328"/>
                </a:lnTo>
                <a:lnTo>
                  <a:pt x="385" y="318"/>
                </a:lnTo>
                <a:lnTo>
                  <a:pt x="363" y="307"/>
                </a:lnTo>
                <a:lnTo>
                  <a:pt x="342" y="295"/>
                </a:lnTo>
                <a:lnTo>
                  <a:pt x="317" y="282"/>
                </a:lnTo>
                <a:lnTo>
                  <a:pt x="294" y="269"/>
                </a:lnTo>
                <a:lnTo>
                  <a:pt x="268" y="255"/>
                </a:lnTo>
                <a:lnTo>
                  <a:pt x="242" y="240"/>
                </a:lnTo>
                <a:lnTo>
                  <a:pt x="215" y="225"/>
                </a:lnTo>
                <a:lnTo>
                  <a:pt x="188" y="209"/>
                </a:lnTo>
                <a:lnTo>
                  <a:pt x="159" y="191"/>
                </a:lnTo>
                <a:lnTo>
                  <a:pt x="129" y="174"/>
                </a:lnTo>
                <a:lnTo>
                  <a:pt x="98" y="157"/>
                </a:lnTo>
                <a:lnTo>
                  <a:pt x="67" y="138"/>
                </a:lnTo>
                <a:lnTo>
                  <a:pt x="34" y="118"/>
                </a:lnTo>
                <a:lnTo>
                  <a:pt x="0" y="98"/>
                </a:lnTo>
                <a:lnTo>
                  <a:pt x="16" y="88"/>
                </a:lnTo>
                <a:lnTo>
                  <a:pt x="32" y="78"/>
                </a:lnTo>
                <a:lnTo>
                  <a:pt x="49" y="68"/>
                </a:lnTo>
                <a:lnTo>
                  <a:pt x="65" y="60"/>
                </a:lnTo>
                <a:lnTo>
                  <a:pt x="81" y="53"/>
                </a:lnTo>
                <a:lnTo>
                  <a:pt x="97" y="46"/>
                </a:lnTo>
                <a:lnTo>
                  <a:pt x="113" y="39"/>
                </a:lnTo>
                <a:lnTo>
                  <a:pt x="129" y="33"/>
                </a:lnTo>
                <a:lnTo>
                  <a:pt x="143" y="29"/>
                </a:lnTo>
                <a:lnTo>
                  <a:pt x="159" y="23"/>
                </a:lnTo>
                <a:lnTo>
                  <a:pt x="188" y="14"/>
                </a:lnTo>
                <a:lnTo>
                  <a:pt x="215" y="7"/>
                </a:lnTo>
                <a:lnTo>
                  <a:pt x="229" y="3"/>
                </a:lnTo>
                <a:lnTo>
                  <a:pt x="242" y="0"/>
                </a:lnTo>
                <a:lnTo>
                  <a:pt x="252" y="0"/>
                </a:lnTo>
                <a:lnTo>
                  <a:pt x="264" y="0"/>
                </a:lnTo>
                <a:lnTo>
                  <a:pt x="275" y="1"/>
                </a:lnTo>
                <a:lnTo>
                  <a:pt x="287" y="3"/>
                </a:lnTo>
                <a:lnTo>
                  <a:pt x="301" y="6"/>
                </a:lnTo>
                <a:lnTo>
                  <a:pt x="314" y="7"/>
                </a:lnTo>
                <a:lnTo>
                  <a:pt x="329" y="10"/>
                </a:lnTo>
                <a:lnTo>
                  <a:pt x="344" y="14"/>
                </a:lnTo>
                <a:lnTo>
                  <a:pt x="360" y="19"/>
                </a:lnTo>
                <a:lnTo>
                  <a:pt x="376" y="23"/>
                </a:lnTo>
                <a:lnTo>
                  <a:pt x="393" y="27"/>
                </a:lnTo>
                <a:lnTo>
                  <a:pt x="411" y="33"/>
                </a:lnTo>
                <a:lnTo>
                  <a:pt x="428" y="39"/>
                </a:lnTo>
                <a:lnTo>
                  <a:pt x="447" y="45"/>
                </a:lnTo>
                <a:lnTo>
                  <a:pt x="465" y="52"/>
                </a:lnTo>
                <a:lnTo>
                  <a:pt x="484" y="59"/>
                </a:lnTo>
                <a:lnTo>
                  <a:pt x="500" y="70"/>
                </a:lnTo>
                <a:lnTo>
                  <a:pt x="514" y="82"/>
                </a:lnTo>
                <a:lnTo>
                  <a:pt x="529" y="92"/>
                </a:lnTo>
                <a:lnTo>
                  <a:pt x="542" y="104"/>
                </a:lnTo>
                <a:lnTo>
                  <a:pt x="555" y="117"/>
                </a:lnTo>
                <a:lnTo>
                  <a:pt x="566" y="128"/>
                </a:lnTo>
                <a:lnTo>
                  <a:pt x="576" y="140"/>
                </a:lnTo>
                <a:lnTo>
                  <a:pt x="585" y="153"/>
                </a:lnTo>
                <a:lnTo>
                  <a:pt x="594" y="165"/>
                </a:lnTo>
                <a:lnTo>
                  <a:pt x="601" y="180"/>
                </a:lnTo>
                <a:lnTo>
                  <a:pt x="608" y="194"/>
                </a:lnTo>
                <a:lnTo>
                  <a:pt x="612" y="209"/>
                </a:lnTo>
                <a:lnTo>
                  <a:pt x="617" y="225"/>
                </a:lnTo>
                <a:lnTo>
                  <a:pt x="619" y="240"/>
                </a:lnTo>
                <a:lnTo>
                  <a:pt x="622" y="258"/>
                </a:lnTo>
                <a:lnTo>
                  <a:pt x="622" y="2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1"/>
          <p:cNvSpPr/>
          <p:nvPr/>
        </p:nvSpPr>
        <p:spPr>
          <a:xfrm>
            <a:off x="2916000" y="3274920"/>
            <a:ext cx="31068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芋      揣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32" name="圆角矩形 21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矩形 25"/>
          <p:cNvSpPr/>
          <p:nvPr/>
        </p:nvSpPr>
        <p:spPr>
          <a:xfrm>
            <a:off x="2853360" y="26100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6"/>
          <p:cNvSpPr/>
          <p:nvPr/>
        </p:nvSpPr>
        <p:spPr>
          <a:xfrm>
            <a:off x="5004720" y="2629080"/>
            <a:ext cx="143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uǎ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2259000" y="3075120"/>
            <a:ext cx="6199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芋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头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狗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窠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熟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蚱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蜢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揣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摩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自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诩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"/>
          <p:cNvSpPr/>
          <p:nvPr/>
        </p:nvSpPr>
        <p:spPr>
          <a:xfrm>
            <a:off x="2283120" y="257796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4"/>
          <p:cNvSpPr/>
          <p:nvPr/>
        </p:nvSpPr>
        <p:spPr>
          <a:xfrm>
            <a:off x="4231080" y="2630520"/>
            <a:ext cx="88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7"/>
          <p:cNvSpPr/>
          <p:nvPr/>
        </p:nvSpPr>
        <p:spPr>
          <a:xfrm>
            <a:off x="5585760" y="261468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ā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7"/>
          <p:cNvSpPr/>
          <p:nvPr/>
        </p:nvSpPr>
        <p:spPr>
          <a:xfrm>
            <a:off x="2151720" y="3825720"/>
            <a:ext cx="8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9"/>
          <p:cNvSpPr/>
          <p:nvPr/>
        </p:nvSpPr>
        <p:spPr>
          <a:xfrm>
            <a:off x="6132960" y="381492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x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10"/>
          <p:cNvSpPr/>
          <p:nvPr/>
        </p:nvSpPr>
        <p:spPr>
          <a:xfrm>
            <a:off x="3572280" y="3825720"/>
            <a:ext cx="12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uǎ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45" name="圆角矩形 20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1533600" y="33465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组合 4"/>
          <p:cNvGrpSpPr/>
          <p:nvPr/>
        </p:nvGrpSpPr>
        <p:grpSpPr>
          <a:xfrm>
            <a:off x="2019240" y="2914560"/>
            <a:ext cx="2757600" cy="1373400"/>
            <a:chOff x="2019240" y="2914560"/>
            <a:chExt cx="2757600" cy="1373400"/>
          </a:xfrm>
        </p:grpSpPr>
        <p:sp>
          <p:nvSpPr>
            <p:cNvPr id="250" name="左大括号 2"/>
            <p:cNvSpPr/>
            <p:nvPr/>
          </p:nvSpPr>
          <p:spPr>
            <a:xfrm>
              <a:off x="2019240" y="31701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3"/>
            <p:cNvSpPr/>
            <p:nvPr/>
          </p:nvSpPr>
          <p:spPr>
            <a:xfrm>
              <a:off x="2169720" y="2914560"/>
              <a:ext cx="26071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chē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称号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chè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对称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2" name="TextBox 13"/>
          <p:cNvSpPr/>
          <p:nvPr/>
        </p:nvSpPr>
        <p:spPr>
          <a:xfrm>
            <a:off x="4773600" y="33465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组合 5"/>
          <p:cNvGrpSpPr/>
          <p:nvPr/>
        </p:nvGrpSpPr>
        <p:grpSpPr>
          <a:xfrm>
            <a:off x="5248440" y="2949480"/>
            <a:ext cx="2757240" cy="1373400"/>
            <a:chOff x="5248440" y="2949480"/>
            <a:chExt cx="2757240" cy="1373400"/>
          </a:xfrm>
        </p:grpSpPr>
        <p:sp>
          <p:nvSpPr>
            <p:cNvPr id="254" name="左大括号 14"/>
            <p:cNvSpPr/>
            <p:nvPr/>
          </p:nvSpPr>
          <p:spPr>
            <a:xfrm>
              <a:off x="5248440" y="3170160"/>
              <a:ext cx="150480" cy="95112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51120"/>
                <a:gd name="textAreaBottom" fmla="*/ 947520 h 9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6"/>
                  </a:cubicBezTo>
                  <a:lnTo>
                    <a:pt x="10800" y="10514"/>
                  </a:lnTo>
                  <a:cubicBezTo>
                    <a:pt x="10800" y="10657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6"/>
                  </a:cubicBezTo>
                  <a:lnTo>
                    <a:pt x="10800" y="21314"/>
                  </a:lnTo>
                  <a:cubicBezTo>
                    <a:pt x="10800" y="2145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TextBox 15"/>
            <p:cNvSpPr/>
            <p:nvPr/>
          </p:nvSpPr>
          <p:spPr>
            <a:xfrm>
              <a:off x="5398920" y="2949480"/>
              <a:ext cx="26067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chǔ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处理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chù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到处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57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1"/>
          <p:cNvSpPr/>
          <p:nvPr/>
        </p:nvSpPr>
        <p:spPr>
          <a:xfrm>
            <a:off x="1258920" y="1808280"/>
            <a:ext cx="7456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熟悉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玩味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揣摩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袭取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62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矩形 1"/>
          <p:cNvSpPr/>
          <p:nvPr/>
        </p:nvSpPr>
        <p:spPr>
          <a:xfrm>
            <a:off x="2263680" y="1824120"/>
            <a:ext cx="6451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知道得清楚。②了解，使知道得清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他们是多年的朋友了，彼此很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熟悉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教练告诉他，比赛前要先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熟悉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下场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细细地体会其中的意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他的那句话值得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玩味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反复思考推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我始终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揣摩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不透他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沿袭地采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1"/>
          <p:cNvSpPr/>
          <p:nvPr/>
        </p:nvSpPr>
        <p:spPr>
          <a:xfrm>
            <a:off x="1258920" y="1808280"/>
            <a:ext cx="7456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悉心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抚爱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神俱备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神状貌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68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矩形 1"/>
          <p:cNvSpPr/>
          <p:nvPr/>
        </p:nvSpPr>
        <p:spPr>
          <a:xfrm>
            <a:off x="2263680" y="1824120"/>
            <a:ext cx="6451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用尽所有的精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经过妈妈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悉心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照料，奶奶的病好得特别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照料，爱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外形和气韵都表现得淋漓尽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他在作文中把“小淘气”这个形象描绘得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形神俱备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外形、状态和气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1"/>
          <p:cNvSpPr/>
          <p:nvPr/>
        </p:nvSpPr>
        <p:spPr>
          <a:xfrm>
            <a:off x="3963240" y="19828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真实　真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2"/>
          <p:cNvSpPr/>
          <p:nvPr/>
        </p:nvSpPr>
        <p:spPr>
          <a:xfrm>
            <a:off x="2162160" y="2522520"/>
            <a:ext cx="625788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两个词语都可作形容词，都形容“真”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真实”指确有其事，与客观事实相符，常同“情况”“故事”“感情”等词语搭配；“真正”指实质跟名义完全相符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写作文要写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真实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的事情，不能写虚假的事情。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我要做一名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真正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的男子汉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75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组合 4"/>
          <p:cNvGrpSpPr/>
          <p:nvPr/>
        </p:nvGrpSpPr>
        <p:grpSpPr>
          <a:xfrm>
            <a:off x="681120" y="2587680"/>
            <a:ext cx="1670040" cy="459720"/>
            <a:chOff x="681120" y="2587680"/>
            <a:chExt cx="1670040" cy="459720"/>
          </a:xfrm>
        </p:grpSpPr>
        <p:pic>
          <p:nvPicPr>
            <p:cNvPr id="279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6420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3"/>
            <p:cNvSpPr/>
            <p:nvPr/>
          </p:nvSpPr>
          <p:spPr>
            <a:xfrm>
              <a:off x="1024200" y="25876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组合 20"/>
          <p:cNvGrpSpPr/>
          <p:nvPr/>
        </p:nvGrpSpPr>
        <p:grpSpPr>
          <a:xfrm>
            <a:off x="681120" y="3218040"/>
            <a:ext cx="1670040" cy="459720"/>
            <a:chOff x="681120" y="3218040"/>
            <a:chExt cx="1670040" cy="459720"/>
          </a:xfrm>
        </p:grpSpPr>
        <p:pic>
          <p:nvPicPr>
            <p:cNvPr id="282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2724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Box 22"/>
            <p:cNvSpPr/>
            <p:nvPr/>
          </p:nvSpPr>
          <p:spPr>
            <a:xfrm>
              <a:off x="1024200" y="32180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4" name="组合 23"/>
          <p:cNvGrpSpPr/>
          <p:nvPr/>
        </p:nvGrpSpPr>
        <p:grpSpPr>
          <a:xfrm>
            <a:off x="701640" y="4848120"/>
            <a:ext cx="1670040" cy="459720"/>
            <a:chOff x="701640" y="4848120"/>
            <a:chExt cx="1670040" cy="459720"/>
          </a:xfrm>
        </p:grpSpPr>
        <p:pic>
          <p:nvPicPr>
            <p:cNvPr id="285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701640" y="490248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Box 25"/>
            <p:cNvSpPr/>
            <p:nvPr/>
          </p:nvSpPr>
          <p:spPr>
            <a:xfrm>
              <a:off x="1044720" y="48481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1"/>
          <p:cNvSpPr/>
          <p:nvPr/>
        </p:nvSpPr>
        <p:spPr>
          <a:xfrm>
            <a:off x="887400" y="1722600"/>
            <a:ext cx="74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简介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白石老人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”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简要介绍齐白石在中国乃至世界上的地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出色的乡土画家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“我”个人认为齐白石是位出色的乡土画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画藏真情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白石老人的画中融入了他对家乡和土地的热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7"/>
          <p:cNvSpPr/>
          <p:nvPr/>
        </p:nvSpPr>
        <p:spPr>
          <a:xfrm>
            <a:off x="1033560" y="2583000"/>
            <a:ext cx="7237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齐白石是中国和世界爱好艺术的人们所熟悉、热爱的画家，他的艺术博得世界人士的共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5"/>
          <p:cNvSpPr/>
          <p:nvPr/>
        </p:nvSpPr>
        <p:spPr>
          <a:xfrm>
            <a:off x="728640" y="1606680"/>
            <a:ext cx="756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由读课文，说说齐白石有怎样的艺术成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6"/>
          <p:cNvSpPr/>
          <p:nvPr/>
        </p:nvSpPr>
        <p:spPr>
          <a:xfrm>
            <a:off x="927000" y="2577960"/>
            <a:ext cx="756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；理解由生字组成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课文的内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图示 3" descr=""/>
          <p:cNvPicPr/>
          <p:nvPr/>
        </p:nvPicPr>
        <p:blipFill>
          <a:blip r:embed="rId1"/>
          <a:stretch/>
        </p:blipFill>
        <p:spPr>
          <a:xfrm>
            <a:off x="822240" y="1011240"/>
            <a:ext cx="309096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92" name="矩形 11"/>
          <p:cNvSpPr/>
          <p:nvPr/>
        </p:nvSpPr>
        <p:spPr>
          <a:xfrm>
            <a:off x="990720" y="2792520"/>
            <a:ext cx="748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文的主人公是齐白石，他是中国和世界爱好艺术的人们所熟悉、热爱的画家。文中写到了他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鱼煮丝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声十里出山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件作品，都是来源于农村生活经历，表现了他是一位真正的乡土画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5"/>
          <p:cNvSpPr/>
          <p:nvPr/>
        </p:nvSpPr>
        <p:spPr>
          <a:xfrm>
            <a:off x="835200" y="222552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试着说一下本文的主要内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7167"/>
          <p:cNvSpPr/>
          <p:nvPr/>
        </p:nvSpPr>
        <p:spPr>
          <a:xfrm>
            <a:off x="766800" y="2473200"/>
            <a:ext cx="812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下面加点的字词选择正确的拼音，画上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湘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xiāng tá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xiān táng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山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quá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qüá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揣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chuā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huǎi)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芋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y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41"/>
          <p:cNvSpPr/>
          <p:nvPr/>
        </p:nvSpPr>
        <p:spPr>
          <a:xfrm>
            <a:off x="1261080" y="3263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2"/>
          <p:cNvSpPr/>
          <p:nvPr/>
        </p:nvSpPr>
        <p:spPr>
          <a:xfrm>
            <a:off x="2285280" y="317196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41"/>
          <p:cNvSpPr/>
          <p:nvPr/>
        </p:nvSpPr>
        <p:spPr>
          <a:xfrm>
            <a:off x="1580400" y="3263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41"/>
          <p:cNvSpPr/>
          <p:nvPr/>
        </p:nvSpPr>
        <p:spPr>
          <a:xfrm>
            <a:off x="1248480" y="3825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41"/>
          <p:cNvSpPr/>
          <p:nvPr/>
        </p:nvSpPr>
        <p:spPr>
          <a:xfrm>
            <a:off x="5706360" y="3825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18"/>
          <p:cNvSpPr/>
          <p:nvPr/>
        </p:nvSpPr>
        <p:spPr>
          <a:xfrm>
            <a:off x="6604200" y="314496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19"/>
          <p:cNvSpPr/>
          <p:nvPr/>
        </p:nvSpPr>
        <p:spPr>
          <a:xfrm>
            <a:off x="3194280" y="3718080"/>
            <a:ext cx="5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20"/>
          <p:cNvSpPr/>
          <p:nvPr/>
        </p:nvSpPr>
        <p:spPr>
          <a:xfrm>
            <a:off x="7098120" y="37209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41"/>
          <p:cNvSpPr/>
          <p:nvPr/>
        </p:nvSpPr>
        <p:spPr>
          <a:xfrm>
            <a:off x="6014160" y="3260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4943520" y="254952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4956120" y="37288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736640" y="25495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1749600" y="372888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矩形 3"/>
          <p:cNvSpPr/>
          <p:nvPr/>
        </p:nvSpPr>
        <p:spPr>
          <a:xfrm>
            <a:off x="1565280" y="140796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看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āng tán                          shān qu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óng bài                             xí  q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13"/>
          <p:cNvSpPr/>
          <p:nvPr/>
        </p:nvSpPr>
        <p:spPr>
          <a:xfrm>
            <a:off x="1782720" y="2612880"/>
            <a:ext cx="14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湘 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14"/>
          <p:cNvSpPr/>
          <p:nvPr/>
        </p:nvSpPr>
        <p:spPr>
          <a:xfrm>
            <a:off x="1797120" y="3772080"/>
            <a:ext cx="14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崇  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25"/>
          <p:cNvSpPr/>
          <p:nvPr/>
        </p:nvSpPr>
        <p:spPr>
          <a:xfrm>
            <a:off x="5006880" y="259884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山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 26"/>
          <p:cNvSpPr/>
          <p:nvPr/>
        </p:nvSpPr>
        <p:spPr>
          <a:xfrm>
            <a:off x="5011560" y="3755880"/>
            <a:ext cx="13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袭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矩形 3"/>
          <p:cNvSpPr/>
          <p:nvPr/>
        </p:nvSpPr>
        <p:spPr>
          <a:xfrm>
            <a:off x="1646280" y="1574640"/>
            <a:ext cx="727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辨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湘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相（　　　）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拜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湃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袭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袋（　　　） 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1"/>
          <p:cNvSpPr/>
          <p:nvPr/>
        </p:nvSpPr>
        <p:spPr>
          <a:xfrm>
            <a:off x="4659480" y="2109960"/>
            <a:ext cx="269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潭（ 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谭（  　　）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泉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左大括号 2"/>
          <p:cNvSpPr/>
          <p:nvPr/>
        </p:nvSpPr>
        <p:spPr>
          <a:xfrm>
            <a:off x="1636560" y="2325600"/>
            <a:ext cx="144720" cy="79236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792360"/>
              <a:gd name="textAreaBottom" fmla="*/ 7887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8"/>
                </a:cubicBezTo>
                <a:lnTo>
                  <a:pt x="10800" y="10472"/>
                </a:lnTo>
                <a:cubicBezTo>
                  <a:pt x="10800" y="10636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8"/>
                </a:cubicBezTo>
                <a:lnTo>
                  <a:pt x="10800" y="21272"/>
                </a:lnTo>
                <a:cubicBezTo>
                  <a:pt x="10800" y="214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左大括号 15"/>
          <p:cNvSpPr/>
          <p:nvPr/>
        </p:nvSpPr>
        <p:spPr>
          <a:xfrm>
            <a:off x="4587840" y="232560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360"/>
              <a:gd name="textAreaBottom" fmla="*/ 7887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左大括号 16"/>
          <p:cNvSpPr/>
          <p:nvPr/>
        </p:nvSpPr>
        <p:spPr>
          <a:xfrm>
            <a:off x="1625760" y="3419640"/>
            <a:ext cx="142560" cy="792000"/>
          </a:xfrm>
          <a:custGeom>
            <a:avLst/>
            <a:gdLst>
              <a:gd name="textAreaLeft" fmla="*/ 91080 w 142560"/>
              <a:gd name="textAreaRight" fmla="*/ 142920 w 14256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左大括号 17"/>
          <p:cNvSpPr/>
          <p:nvPr/>
        </p:nvSpPr>
        <p:spPr>
          <a:xfrm>
            <a:off x="4576680" y="34196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8"/>
          <p:cNvSpPr/>
          <p:nvPr/>
        </p:nvSpPr>
        <p:spPr>
          <a:xfrm>
            <a:off x="2593800" y="2233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湘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9"/>
          <p:cNvSpPr/>
          <p:nvPr/>
        </p:nvSpPr>
        <p:spPr>
          <a:xfrm>
            <a:off x="2593800" y="2789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互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矩形 18"/>
          <p:cNvSpPr/>
          <p:nvPr/>
        </p:nvSpPr>
        <p:spPr>
          <a:xfrm>
            <a:off x="5577840" y="2219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日月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矩形 19"/>
          <p:cNvSpPr/>
          <p:nvPr/>
        </p:nvSpPr>
        <p:spPr>
          <a:xfrm>
            <a:off x="5641200" y="2789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天方夜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20"/>
          <p:cNvSpPr/>
          <p:nvPr/>
        </p:nvSpPr>
        <p:spPr>
          <a:xfrm>
            <a:off x="2593800" y="3332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崇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2"/>
          <p:cNvSpPr/>
          <p:nvPr/>
        </p:nvSpPr>
        <p:spPr>
          <a:xfrm>
            <a:off x="2590560" y="3884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澎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23"/>
          <p:cNvSpPr/>
          <p:nvPr/>
        </p:nvSpPr>
        <p:spPr>
          <a:xfrm>
            <a:off x="5528880" y="3332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山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24"/>
          <p:cNvSpPr/>
          <p:nvPr/>
        </p:nvSpPr>
        <p:spPr>
          <a:xfrm>
            <a:off x="5528880" y="3870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草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左大括号 21"/>
          <p:cNvSpPr/>
          <p:nvPr/>
        </p:nvSpPr>
        <p:spPr>
          <a:xfrm>
            <a:off x="1646280" y="454968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360"/>
              <a:gd name="textAreaBottom" fmla="*/ 7887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矩形 25"/>
          <p:cNvSpPr/>
          <p:nvPr/>
        </p:nvSpPr>
        <p:spPr>
          <a:xfrm>
            <a:off x="2587320" y="44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袭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26"/>
          <p:cNvSpPr/>
          <p:nvPr/>
        </p:nvSpPr>
        <p:spPr>
          <a:xfrm>
            <a:off x="2587320" y="4965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纸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2"/>
          <p:cNvSpPr/>
          <p:nvPr/>
        </p:nvSpPr>
        <p:spPr>
          <a:xfrm>
            <a:off x="1727280" y="18558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在括号里填上恰当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浓厚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深刻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细致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生命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灵魂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作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1"/>
          <p:cNvSpPr/>
          <p:nvPr/>
        </p:nvSpPr>
        <p:spPr>
          <a:xfrm>
            <a:off x="2971440" y="2505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感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3"/>
          <p:cNvSpPr/>
          <p:nvPr/>
        </p:nvSpPr>
        <p:spPr>
          <a:xfrm>
            <a:off x="6068880" y="254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印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10"/>
          <p:cNvSpPr/>
          <p:nvPr/>
        </p:nvSpPr>
        <p:spPr>
          <a:xfrm>
            <a:off x="2971440" y="307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描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11"/>
          <p:cNvSpPr/>
          <p:nvPr/>
        </p:nvSpPr>
        <p:spPr>
          <a:xfrm>
            <a:off x="5132160" y="3057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可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12"/>
          <p:cNvSpPr/>
          <p:nvPr/>
        </p:nvSpPr>
        <p:spPr>
          <a:xfrm>
            <a:off x="2009160" y="3618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活生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13"/>
          <p:cNvSpPr/>
          <p:nvPr/>
        </p:nvSpPr>
        <p:spPr>
          <a:xfrm>
            <a:off x="5192280" y="3614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杰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矩形 1"/>
          <p:cNvSpPr/>
          <p:nvPr/>
        </p:nvSpPr>
        <p:spPr>
          <a:xfrm>
            <a:off x="755640" y="1341360"/>
            <a:ext cx="77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按要求改写句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齐白石是中国和世界爱好艺术的人们所熟悉、热爱的画家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缩写句子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                         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齐白石的艺术博得世界人士的共鸣，难道不是因为他以无比的真情去抚爱这个世界吗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改成陈述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宋体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宋体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                         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管天气十分炎热，大家还是坚持锻炼身体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修改病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             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        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宋体"/>
              </a:rPr>
              <a:t>。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宋体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矩形 6"/>
          <p:cNvSpPr/>
          <p:nvPr/>
        </p:nvSpPr>
        <p:spPr>
          <a:xfrm>
            <a:off x="1231920" y="2813040"/>
            <a:ext cx="53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齐白石是画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8"/>
          <p:cNvSpPr/>
          <p:nvPr/>
        </p:nvSpPr>
        <p:spPr>
          <a:xfrm>
            <a:off x="1187280" y="4076640"/>
            <a:ext cx="7242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齐白石的艺术博得世界人士的共鸣，不是因为他以无比的真情去抚爱这个世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矩形 4"/>
          <p:cNvSpPr/>
          <p:nvPr/>
        </p:nvSpPr>
        <p:spPr>
          <a:xfrm>
            <a:off x="1231920" y="5522760"/>
            <a:ext cx="53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虽然天气十分炎热，大家还是坚持锻炼身体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4"/>
          <p:cNvSpPr/>
          <p:nvPr/>
        </p:nvSpPr>
        <p:spPr>
          <a:xfrm>
            <a:off x="3506760" y="2038320"/>
            <a:ext cx="502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齐白石：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(1864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1957)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，祖籍安徽宿州，生于湖南湘潭。是近现代中国绘画大师。擅画花鸟、虫鱼、山水、人物。所画鱼虾虫蟹，妙趣横生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蛙声十里出山泉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》《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墨虾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等。著有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白石诗草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》《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白石老人自述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等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835200" y="2462040"/>
            <a:ext cx="2286000" cy="2884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Administrator\Desktop\3333\助读资料.png"/>
          <p:cNvPicPr/>
          <p:nvPr/>
        </p:nvPicPr>
        <p:blipFill>
          <a:blip r:embed="rId2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3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74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相关资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81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85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氵”呈弧形，中间“木”略长于两边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矩形 3"/>
          <p:cNvSpPr/>
          <p:nvPr/>
        </p:nvSpPr>
        <p:spPr>
          <a:xfrm>
            <a:off x="1989000" y="1868400"/>
            <a:ext cx="191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ā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19"/>
          <p:cNvSpPr/>
          <p:nvPr/>
        </p:nvSpPr>
        <p:spPr>
          <a:xfrm>
            <a:off x="6996240" y="3281400"/>
            <a:ext cx="755640" cy="1701720"/>
          </a:xfrm>
          <a:custGeom>
            <a:avLst/>
            <a:gdLst/>
            <a:ahLst/>
            <a:rect l="l" t="t" r="r" b="b"/>
            <a:pathLst>
              <a:path w="950" h="2144">
                <a:moveTo>
                  <a:pt x="702" y="2144"/>
                </a:moveTo>
                <a:lnTo>
                  <a:pt x="697" y="2142"/>
                </a:lnTo>
                <a:lnTo>
                  <a:pt x="693" y="2138"/>
                </a:lnTo>
                <a:lnTo>
                  <a:pt x="687" y="2134"/>
                </a:lnTo>
                <a:lnTo>
                  <a:pt x="683" y="2129"/>
                </a:lnTo>
                <a:lnTo>
                  <a:pt x="681" y="2123"/>
                </a:lnTo>
                <a:lnTo>
                  <a:pt x="677" y="2117"/>
                </a:lnTo>
                <a:lnTo>
                  <a:pt x="676" y="2111"/>
                </a:lnTo>
                <a:lnTo>
                  <a:pt x="672" y="2104"/>
                </a:lnTo>
                <a:lnTo>
                  <a:pt x="672" y="2094"/>
                </a:lnTo>
                <a:lnTo>
                  <a:pt x="670" y="2087"/>
                </a:lnTo>
                <a:lnTo>
                  <a:pt x="670" y="2075"/>
                </a:lnTo>
                <a:lnTo>
                  <a:pt x="670" y="2065"/>
                </a:lnTo>
                <a:lnTo>
                  <a:pt x="670" y="2054"/>
                </a:lnTo>
                <a:lnTo>
                  <a:pt x="670" y="2040"/>
                </a:lnTo>
                <a:lnTo>
                  <a:pt x="672" y="2027"/>
                </a:lnTo>
                <a:lnTo>
                  <a:pt x="674" y="2014"/>
                </a:lnTo>
                <a:lnTo>
                  <a:pt x="674" y="1998"/>
                </a:lnTo>
                <a:lnTo>
                  <a:pt x="672" y="1983"/>
                </a:lnTo>
                <a:lnTo>
                  <a:pt x="670" y="1967"/>
                </a:lnTo>
                <a:lnTo>
                  <a:pt x="666" y="1950"/>
                </a:lnTo>
                <a:lnTo>
                  <a:pt x="662" y="1933"/>
                </a:lnTo>
                <a:lnTo>
                  <a:pt x="656" y="1914"/>
                </a:lnTo>
                <a:lnTo>
                  <a:pt x="651" y="1896"/>
                </a:lnTo>
                <a:lnTo>
                  <a:pt x="643" y="1877"/>
                </a:lnTo>
                <a:lnTo>
                  <a:pt x="635" y="1856"/>
                </a:lnTo>
                <a:lnTo>
                  <a:pt x="626" y="1837"/>
                </a:lnTo>
                <a:lnTo>
                  <a:pt x="616" y="1816"/>
                </a:lnTo>
                <a:lnTo>
                  <a:pt x="605" y="1793"/>
                </a:lnTo>
                <a:lnTo>
                  <a:pt x="593" y="1772"/>
                </a:lnTo>
                <a:lnTo>
                  <a:pt x="580" y="1749"/>
                </a:lnTo>
                <a:lnTo>
                  <a:pt x="564" y="1724"/>
                </a:lnTo>
                <a:lnTo>
                  <a:pt x="551" y="1701"/>
                </a:lnTo>
                <a:lnTo>
                  <a:pt x="576" y="1705"/>
                </a:lnTo>
                <a:lnTo>
                  <a:pt x="599" y="1706"/>
                </a:lnTo>
                <a:lnTo>
                  <a:pt x="610" y="1708"/>
                </a:lnTo>
                <a:lnTo>
                  <a:pt x="620" y="1708"/>
                </a:lnTo>
                <a:lnTo>
                  <a:pt x="631" y="1708"/>
                </a:lnTo>
                <a:lnTo>
                  <a:pt x="639" y="1708"/>
                </a:lnTo>
                <a:lnTo>
                  <a:pt x="649" y="1706"/>
                </a:lnTo>
                <a:lnTo>
                  <a:pt x="656" y="1706"/>
                </a:lnTo>
                <a:lnTo>
                  <a:pt x="664" y="1705"/>
                </a:lnTo>
                <a:lnTo>
                  <a:pt x="670" y="1703"/>
                </a:lnTo>
                <a:lnTo>
                  <a:pt x="676" y="1699"/>
                </a:lnTo>
                <a:lnTo>
                  <a:pt x="681" y="1695"/>
                </a:lnTo>
                <a:lnTo>
                  <a:pt x="685" y="1691"/>
                </a:lnTo>
                <a:lnTo>
                  <a:pt x="689" y="1687"/>
                </a:lnTo>
                <a:lnTo>
                  <a:pt x="689" y="1685"/>
                </a:lnTo>
                <a:lnTo>
                  <a:pt x="691" y="1681"/>
                </a:lnTo>
                <a:lnTo>
                  <a:pt x="691" y="1678"/>
                </a:lnTo>
                <a:lnTo>
                  <a:pt x="693" y="1674"/>
                </a:lnTo>
                <a:lnTo>
                  <a:pt x="693" y="1668"/>
                </a:lnTo>
                <a:lnTo>
                  <a:pt x="695" y="1662"/>
                </a:lnTo>
                <a:lnTo>
                  <a:pt x="695" y="1655"/>
                </a:lnTo>
                <a:lnTo>
                  <a:pt x="697" y="1645"/>
                </a:lnTo>
                <a:lnTo>
                  <a:pt x="697" y="1635"/>
                </a:lnTo>
                <a:lnTo>
                  <a:pt x="697" y="1626"/>
                </a:lnTo>
                <a:lnTo>
                  <a:pt x="699" y="1614"/>
                </a:lnTo>
                <a:lnTo>
                  <a:pt x="699" y="1601"/>
                </a:lnTo>
                <a:lnTo>
                  <a:pt x="699" y="1587"/>
                </a:lnTo>
                <a:lnTo>
                  <a:pt x="699" y="1574"/>
                </a:lnTo>
                <a:lnTo>
                  <a:pt x="701" y="1559"/>
                </a:lnTo>
                <a:lnTo>
                  <a:pt x="701" y="1543"/>
                </a:lnTo>
                <a:lnTo>
                  <a:pt x="701" y="1526"/>
                </a:lnTo>
                <a:lnTo>
                  <a:pt x="701" y="1509"/>
                </a:lnTo>
                <a:lnTo>
                  <a:pt x="701" y="1490"/>
                </a:lnTo>
                <a:lnTo>
                  <a:pt x="701" y="1468"/>
                </a:lnTo>
                <a:lnTo>
                  <a:pt x="701" y="1449"/>
                </a:lnTo>
                <a:lnTo>
                  <a:pt x="701" y="1428"/>
                </a:lnTo>
                <a:lnTo>
                  <a:pt x="702" y="1405"/>
                </a:lnTo>
                <a:lnTo>
                  <a:pt x="702" y="1382"/>
                </a:lnTo>
                <a:lnTo>
                  <a:pt x="702" y="1357"/>
                </a:lnTo>
                <a:lnTo>
                  <a:pt x="702" y="1332"/>
                </a:lnTo>
                <a:lnTo>
                  <a:pt x="702" y="1307"/>
                </a:lnTo>
                <a:lnTo>
                  <a:pt x="702" y="1280"/>
                </a:lnTo>
                <a:lnTo>
                  <a:pt x="702" y="1252"/>
                </a:lnTo>
                <a:lnTo>
                  <a:pt x="702" y="1223"/>
                </a:lnTo>
                <a:lnTo>
                  <a:pt x="702" y="1194"/>
                </a:lnTo>
                <a:lnTo>
                  <a:pt x="702" y="1163"/>
                </a:lnTo>
                <a:lnTo>
                  <a:pt x="702" y="1133"/>
                </a:lnTo>
                <a:lnTo>
                  <a:pt x="702" y="1104"/>
                </a:lnTo>
                <a:lnTo>
                  <a:pt x="702" y="1075"/>
                </a:lnTo>
                <a:lnTo>
                  <a:pt x="702" y="1046"/>
                </a:lnTo>
                <a:lnTo>
                  <a:pt x="702" y="1017"/>
                </a:lnTo>
                <a:lnTo>
                  <a:pt x="702" y="989"/>
                </a:lnTo>
                <a:lnTo>
                  <a:pt x="702" y="962"/>
                </a:lnTo>
                <a:lnTo>
                  <a:pt x="702" y="935"/>
                </a:lnTo>
                <a:lnTo>
                  <a:pt x="702" y="910"/>
                </a:lnTo>
                <a:lnTo>
                  <a:pt x="702" y="883"/>
                </a:lnTo>
                <a:lnTo>
                  <a:pt x="702" y="858"/>
                </a:lnTo>
                <a:lnTo>
                  <a:pt x="702" y="835"/>
                </a:lnTo>
                <a:lnTo>
                  <a:pt x="702" y="810"/>
                </a:lnTo>
                <a:lnTo>
                  <a:pt x="702" y="787"/>
                </a:lnTo>
                <a:lnTo>
                  <a:pt x="702" y="764"/>
                </a:lnTo>
                <a:lnTo>
                  <a:pt x="702" y="741"/>
                </a:lnTo>
                <a:lnTo>
                  <a:pt x="702" y="718"/>
                </a:lnTo>
                <a:lnTo>
                  <a:pt x="702" y="697"/>
                </a:lnTo>
                <a:lnTo>
                  <a:pt x="702" y="676"/>
                </a:lnTo>
                <a:lnTo>
                  <a:pt x="702" y="655"/>
                </a:lnTo>
                <a:lnTo>
                  <a:pt x="702" y="635"/>
                </a:lnTo>
                <a:lnTo>
                  <a:pt x="702" y="616"/>
                </a:lnTo>
                <a:lnTo>
                  <a:pt x="702" y="597"/>
                </a:lnTo>
                <a:lnTo>
                  <a:pt x="702" y="578"/>
                </a:lnTo>
                <a:lnTo>
                  <a:pt x="702" y="541"/>
                </a:lnTo>
                <a:lnTo>
                  <a:pt x="702" y="507"/>
                </a:lnTo>
                <a:lnTo>
                  <a:pt x="702" y="476"/>
                </a:lnTo>
                <a:lnTo>
                  <a:pt x="702" y="445"/>
                </a:lnTo>
                <a:lnTo>
                  <a:pt x="699" y="418"/>
                </a:lnTo>
                <a:lnTo>
                  <a:pt x="697" y="394"/>
                </a:lnTo>
                <a:lnTo>
                  <a:pt x="695" y="370"/>
                </a:lnTo>
                <a:lnTo>
                  <a:pt x="691" y="347"/>
                </a:lnTo>
                <a:lnTo>
                  <a:pt x="689" y="326"/>
                </a:lnTo>
                <a:lnTo>
                  <a:pt x="685" y="305"/>
                </a:lnTo>
                <a:lnTo>
                  <a:pt x="683" y="288"/>
                </a:lnTo>
                <a:lnTo>
                  <a:pt x="679" y="271"/>
                </a:lnTo>
                <a:lnTo>
                  <a:pt x="676" y="253"/>
                </a:lnTo>
                <a:lnTo>
                  <a:pt x="672" y="240"/>
                </a:lnTo>
                <a:lnTo>
                  <a:pt x="670" y="227"/>
                </a:lnTo>
                <a:lnTo>
                  <a:pt x="666" y="215"/>
                </a:lnTo>
                <a:lnTo>
                  <a:pt x="660" y="205"/>
                </a:lnTo>
                <a:lnTo>
                  <a:pt x="656" y="196"/>
                </a:lnTo>
                <a:lnTo>
                  <a:pt x="653" y="188"/>
                </a:lnTo>
                <a:lnTo>
                  <a:pt x="647" y="184"/>
                </a:lnTo>
                <a:lnTo>
                  <a:pt x="639" y="180"/>
                </a:lnTo>
                <a:lnTo>
                  <a:pt x="630" y="179"/>
                </a:lnTo>
                <a:lnTo>
                  <a:pt x="620" y="177"/>
                </a:lnTo>
                <a:lnTo>
                  <a:pt x="610" y="177"/>
                </a:lnTo>
                <a:lnTo>
                  <a:pt x="599" y="175"/>
                </a:lnTo>
                <a:lnTo>
                  <a:pt x="587" y="175"/>
                </a:lnTo>
                <a:lnTo>
                  <a:pt x="576" y="175"/>
                </a:lnTo>
                <a:lnTo>
                  <a:pt x="562" y="175"/>
                </a:lnTo>
                <a:lnTo>
                  <a:pt x="549" y="177"/>
                </a:lnTo>
                <a:lnTo>
                  <a:pt x="534" y="177"/>
                </a:lnTo>
                <a:lnTo>
                  <a:pt x="518" y="179"/>
                </a:lnTo>
                <a:lnTo>
                  <a:pt x="501" y="180"/>
                </a:lnTo>
                <a:lnTo>
                  <a:pt x="484" y="184"/>
                </a:lnTo>
                <a:lnTo>
                  <a:pt x="466" y="188"/>
                </a:lnTo>
                <a:lnTo>
                  <a:pt x="447" y="192"/>
                </a:lnTo>
                <a:lnTo>
                  <a:pt x="426" y="196"/>
                </a:lnTo>
                <a:lnTo>
                  <a:pt x="405" y="202"/>
                </a:lnTo>
                <a:lnTo>
                  <a:pt x="384" y="205"/>
                </a:lnTo>
                <a:lnTo>
                  <a:pt x="361" y="209"/>
                </a:lnTo>
                <a:lnTo>
                  <a:pt x="340" y="213"/>
                </a:lnTo>
                <a:lnTo>
                  <a:pt x="315" y="217"/>
                </a:lnTo>
                <a:lnTo>
                  <a:pt x="290" y="221"/>
                </a:lnTo>
                <a:lnTo>
                  <a:pt x="265" y="223"/>
                </a:lnTo>
                <a:lnTo>
                  <a:pt x="240" y="227"/>
                </a:lnTo>
                <a:lnTo>
                  <a:pt x="213" y="228"/>
                </a:lnTo>
                <a:lnTo>
                  <a:pt x="184" y="230"/>
                </a:lnTo>
                <a:lnTo>
                  <a:pt x="155" y="232"/>
                </a:lnTo>
                <a:lnTo>
                  <a:pt x="127" y="234"/>
                </a:lnTo>
                <a:lnTo>
                  <a:pt x="96" y="234"/>
                </a:lnTo>
                <a:lnTo>
                  <a:pt x="65" y="234"/>
                </a:lnTo>
                <a:lnTo>
                  <a:pt x="33" y="236"/>
                </a:lnTo>
                <a:lnTo>
                  <a:pt x="0" y="236"/>
                </a:lnTo>
                <a:lnTo>
                  <a:pt x="0" y="196"/>
                </a:lnTo>
                <a:lnTo>
                  <a:pt x="0" y="157"/>
                </a:lnTo>
                <a:lnTo>
                  <a:pt x="8" y="157"/>
                </a:lnTo>
                <a:lnTo>
                  <a:pt x="19" y="156"/>
                </a:lnTo>
                <a:lnTo>
                  <a:pt x="31" y="156"/>
                </a:lnTo>
                <a:lnTo>
                  <a:pt x="44" y="154"/>
                </a:lnTo>
                <a:lnTo>
                  <a:pt x="58" y="154"/>
                </a:lnTo>
                <a:lnTo>
                  <a:pt x="75" y="152"/>
                </a:lnTo>
                <a:lnTo>
                  <a:pt x="92" y="148"/>
                </a:lnTo>
                <a:lnTo>
                  <a:pt x="109" y="146"/>
                </a:lnTo>
                <a:lnTo>
                  <a:pt x="130" y="142"/>
                </a:lnTo>
                <a:lnTo>
                  <a:pt x="152" y="138"/>
                </a:lnTo>
                <a:lnTo>
                  <a:pt x="175" y="134"/>
                </a:lnTo>
                <a:lnTo>
                  <a:pt x="198" y="131"/>
                </a:lnTo>
                <a:lnTo>
                  <a:pt x="223" y="125"/>
                </a:lnTo>
                <a:lnTo>
                  <a:pt x="248" y="119"/>
                </a:lnTo>
                <a:lnTo>
                  <a:pt x="274" y="111"/>
                </a:lnTo>
                <a:lnTo>
                  <a:pt x="303" y="106"/>
                </a:lnTo>
                <a:lnTo>
                  <a:pt x="330" y="98"/>
                </a:lnTo>
                <a:lnTo>
                  <a:pt x="357" y="90"/>
                </a:lnTo>
                <a:lnTo>
                  <a:pt x="382" y="84"/>
                </a:lnTo>
                <a:lnTo>
                  <a:pt x="405" y="77"/>
                </a:lnTo>
                <a:lnTo>
                  <a:pt x="428" y="71"/>
                </a:lnTo>
                <a:lnTo>
                  <a:pt x="449" y="65"/>
                </a:lnTo>
                <a:lnTo>
                  <a:pt x="468" y="61"/>
                </a:lnTo>
                <a:lnTo>
                  <a:pt x="487" y="56"/>
                </a:lnTo>
                <a:lnTo>
                  <a:pt x="503" y="52"/>
                </a:lnTo>
                <a:lnTo>
                  <a:pt x="518" y="46"/>
                </a:lnTo>
                <a:lnTo>
                  <a:pt x="532" y="42"/>
                </a:lnTo>
                <a:lnTo>
                  <a:pt x="545" y="38"/>
                </a:lnTo>
                <a:lnTo>
                  <a:pt x="555" y="35"/>
                </a:lnTo>
                <a:lnTo>
                  <a:pt x="564" y="33"/>
                </a:lnTo>
                <a:lnTo>
                  <a:pt x="572" y="29"/>
                </a:lnTo>
                <a:lnTo>
                  <a:pt x="578" y="27"/>
                </a:lnTo>
                <a:lnTo>
                  <a:pt x="599" y="17"/>
                </a:lnTo>
                <a:lnTo>
                  <a:pt x="610" y="12"/>
                </a:lnTo>
                <a:lnTo>
                  <a:pt x="622" y="8"/>
                </a:lnTo>
                <a:lnTo>
                  <a:pt x="633" y="6"/>
                </a:lnTo>
                <a:lnTo>
                  <a:pt x="645" y="2"/>
                </a:lnTo>
                <a:lnTo>
                  <a:pt x="660" y="0"/>
                </a:lnTo>
                <a:lnTo>
                  <a:pt x="674" y="0"/>
                </a:lnTo>
                <a:lnTo>
                  <a:pt x="691" y="6"/>
                </a:lnTo>
                <a:lnTo>
                  <a:pt x="708" y="12"/>
                </a:lnTo>
                <a:lnTo>
                  <a:pt x="727" y="21"/>
                </a:lnTo>
                <a:lnTo>
                  <a:pt x="747" y="29"/>
                </a:lnTo>
                <a:lnTo>
                  <a:pt x="768" y="40"/>
                </a:lnTo>
                <a:lnTo>
                  <a:pt x="791" y="52"/>
                </a:lnTo>
                <a:lnTo>
                  <a:pt x="814" y="65"/>
                </a:lnTo>
                <a:lnTo>
                  <a:pt x="839" y="79"/>
                </a:lnTo>
                <a:lnTo>
                  <a:pt x="852" y="88"/>
                </a:lnTo>
                <a:lnTo>
                  <a:pt x="864" y="98"/>
                </a:lnTo>
                <a:lnTo>
                  <a:pt x="875" y="108"/>
                </a:lnTo>
                <a:lnTo>
                  <a:pt x="885" y="115"/>
                </a:lnTo>
                <a:lnTo>
                  <a:pt x="894" y="123"/>
                </a:lnTo>
                <a:lnTo>
                  <a:pt x="904" y="132"/>
                </a:lnTo>
                <a:lnTo>
                  <a:pt x="914" y="138"/>
                </a:lnTo>
                <a:lnTo>
                  <a:pt x="919" y="146"/>
                </a:lnTo>
                <a:lnTo>
                  <a:pt x="927" y="152"/>
                </a:lnTo>
                <a:lnTo>
                  <a:pt x="933" y="159"/>
                </a:lnTo>
                <a:lnTo>
                  <a:pt x="939" y="163"/>
                </a:lnTo>
                <a:lnTo>
                  <a:pt x="942" y="169"/>
                </a:lnTo>
                <a:lnTo>
                  <a:pt x="946" y="173"/>
                </a:lnTo>
                <a:lnTo>
                  <a:pt x="948" y="177"/>
                </a:lnTo>
                <a:lnTo>
                  <a:pt x="950" y="180"/>
                </a:lnTo>
                <a:lnTo>
                  <a:pt x="950" y="184"/>
                </a:lnTo>
                <a:lnTo>
                  <a:pt x="948" y="194"/>
                </a:lnTo>
                <a:lnTo>
                  <a:pt x="948" y="204"/>
                </a:lnTo>
                <a:lnTo>
                  <a:pt x="944" y="211"/>
                </a:lnTo>
                <a:lnTo>
                  <a:pt x="940" y="221"/>
                </a:lnTo>
                <a:lnTo>
                  <a:pt x="937" y="228"/>
                </a:lnTo>
                <a:lnTo>
                  <a:pt x="933" y="236"/>
                </a:lnTo>
                <a:lnTo>
                  <a:pt x="927" y="244"/>
                </a:lnTo>
                <a:lnTo>
                  <a:pt x="921" y="250"/>
                </a:lnTo>
                <a:lnTo>
                  <a:pt x="919" y="251"/>
                </a:lnTo>
                <a:lnTo>
                  <a:pt x="917" y="257"/>
                </a:lnTo>
                <a:lnTo>
                  <a:pt x="914" y="263"/>
                </a:lnTo>
                <a:lnTo>
                  <a:pt x="912" y="271"/>
                </a:lnTo>
                <a:lnTo>
                  <a:pt x="910" y="278"/>
                </a:lnTo>
                <a:lnTo>
                  <a:pt x="908" y="290"/>
                </a:lnTo>
                <a:lnTo>
                  <a:pt x="906" y="301"/>
                </a:lnTo>
                <a:lnTo>
                  <a:pt x="904" y="315"/>
                </a:lnTo>
                <a:lnTo>
                  <a:pt x="902" y="330"/>
                </a:lnTo>
                <a:lnTo>
                  <a:pt x="900" y="346"/>
                </a:lnTo>
                <a:lnTo>
                  <a:pt x="898" y="363"/>
                </a:lnTo>
                <a:lnTo>
                  <a:pt x="898" y="382"/>
                </a:lnTo>
                <a:lnTo>
                  <a:pt x="896" y="403"/>
                </a:lnTo>
                <a:lnTo>
                  <a:pt x="894" y="424"/>
                </a:lnTo>
                <a:lnTo>
                  <a:pt x="894" y="447"/>
                </a:lnTo>
                <a:lnTo>
                  <a:pt x="892" y="472"/>
                </a:lnTo>
                <a:lnTo>
                  <a:pt x="892" y="499"/>
                </a:lnTo>
                <a:lnTo>
                  <a:pt x="891" y="526"/>
                </a:lnTo>
                <a:lnTo>
                  <a:pt x="891" y="555"/>
                </a:lnTo>
                <a:lnTo>
                  <a:pt x="891" y="585"/>
                </a:lnTo>
                <a:lnTo>
                  <a:pt x="889" y="618"/>
                </a:lnTo>
                <a:lnTo>
                  <a:pt x="889" y="651"/>
                </a:lnTo>
                <a:lnTo>
                  <a:pt x="889" y="685"/>
                </a:lnTo>
                <a:lnTo>
                  <a:pt x="889" y="722"/>
                </a:lnTo>
                <a:lnTo>
                  <a:pt x="889" y="758"/>
                </a:lnTo>
                <a:lnTo>
                  <a:pt x="891" y="797"/>
                </a:lnTo>
                <a:lnTo>
                  <a:pt x="891" y="837"/>
                </a:lnTo>
                <a:lnTo>
                  <a:pt x="891" y="879"/>
                </a:lnTo>
                <a:lnTo>
                  <a:pt x="891" y="921"/>
                </a:lnTo>
                <a:lnTo>
                  <a:pt x="892" y="966"/>
                </a:lnTo>
                <a:lnTo>
                  <a:pt x="892" y="1012"/>
                </a:lnTo>
                <a:lnTo>
                  <a:pt x="894" y="1060"/>
                </a:lnTo>
                <a:lnTo>
                  <a:pt x="896" y="1108"/>
                </a:lnTo>
                <a:lnTo>
                  <a:pt x="896" y="1156"/>
                </a:lnTo>
                <a:lnTo>
                  <a:pt x="896" y="1202"/>
                </a:lnTo>
                <a:lnTo>
                  <a:pt x="898" y="1246"/>
                </a:lnTo>
                <a:lnTo>
                  <a:pt x="898" y="1288"/>
                </a:lnTo>
                <a:lnTo>
                  <a:pt x="898" y="1330"/>
                </a:lnTo>
                <a:lnTo>
                  <a:pt x="898" y="1372"/>
                </a:lnTo>
                <a:lnTo>
                  <a:pt x="896" y="1413"/>
                </a:lnTo>
                <a:lnTo>
                  <a:pt x="896" y="1451"/>
                </a:lnTo>
                <a:lnTo>
                  <a:pt x="896" y="1488"/>
                </a:lnTo>
                <a:lnTo>
                  <a:pt x="894" y="1524"/>
                </a:lnTo>
                <a:lnTo>
                  <a:pt x="892" y="1559"/>
                </a:lnTo>
                <a:lnTo>
                  <a:pt x="891" y="1591"/>
                </a:lnTo>
                <a:lnTo>
                  <a:pt x="891" y="1624"/>
                </a:lnTo>
                <a:lnTo>
                  <a:pt x="887" y="1655"/>
                </a:lnTo>
                <a:lnTo>
                  <a:pt x="885" y="1685"/>
                </a:lnTo>
                <a:lnTo>
                  <a:pt x="883" y="1714"/>
                </a:lnTo>
                <a:lnTo>
                  <a:pt x="881" y="1741"/>
                </a:lnTo>
                <a:lnTo>
                  <a:pt x="877" y="1766"/>
                </a:lnTo>
                <a:lnTo>
                  <a:pt x="875" y="1791"/>
                </a:lnTo>
                <a:lnTo>
                  <a:pt x="871" y="1814"/>
                </a:lnTo>
                <a:lnTo>
                  <a:pt x="868" y="1837"/>
                </a:lnTo>
                <a:lnTo>
                  <a:pt x="866" y="1858"/>
                </a:lnTo>
                <a:lnTo>
                  <a:pt x="862" y="1877"/>
                </a:lnTo>
                <a:lnTo>
                  <a:pt x="858" y="1895"/>
                </a:lnTo>
                <a:lnTo>
                  <a:pt x="854" y="1912"/>
                </a:lnTo>
                <a:lnTo>
                  <a:pt x="848" y="1927"/>
                </a:lnTo>
                <a:lnTo>
                  <a:pt x="844" y="1943"/>
                </a:lnTo>
                <a:lnTo>
                  <a:pt x="841" y="1956"/>
                </a:lnTo>
                <a:lnTo>
                  <a:pt x="835" y="1967"/>
                </a:lnTo>
                <a:lnTo>
                  <a:pt x="831" y="1977"/>
                </a:lnTo>
                <a:lnTo>
                  <a:pt x="825" y="1987"/>
                </a:lnTo>
                <a:lnTo>
                  <a:pt x="816" y="2006"/>
                </a:lnTo>
                <a:lnTo>
                  <a:pt x="806" y="2025"/>
                </a:lnTo>
                <a:lnTo>
                  <a:pt x="796" y="2040"/>
                </a:lnTo>
                <a:lnTo>
                  <a:pt x="787" y="2056"/>
                </a:lnTo>
                <a:lnTo>
                  <a:pt x="779" y="2069"/>
                </a:lnTo>
                <a:lnTo>
                  <a:pt x="770" y="2083"/>
                </a:lnTo>
                <a:lnTo>
                  <a:pt x="762" y="2094"/>
                </a:lnTo>
                <a:lnTo>
                  <a:pt x="754" y="2106"/>
                </a:lnTo>
                <a:lnTo>
                  <a:pt x="747" y="2113"/>
                </a:lnTo>
                <a:lnTo>
                  <a:pt x="739" y="2123"/>
                </a:lnTo>
                <a:lnTo>
                  <a:pt x="731" y="2129"/>
                </a:lnTo>
                <a:lnTo>
                  <a:pt x="725" y="2134"/>
                </a:lnTo>
                <a:lnTo>
                  <a:pt x="720" y="2138"/>
                </a:lnTo>
                <a:lnTo>
                  <a:pt x="712" y="2142"/>
                </a:lnTo>
                <a:lnTo>
                  <a:pt x="708" y="2144"/>
                </a:lnTo>
                <a:lnTo>
                  <a:pt x="702" y="21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20"/>
          <p:cNvSpPr/>
          <p:nvPr/>
        </p:nvSpPr>
        <p:spPr>
          <a:xfrm>
            <a:off x="6996240" y="4578480"/>
            <a:ext cx="525240" cy="123840"/>
          </a:xfrm>
          <a:custGeom>
            <a:avLst/>
            <a:gdLst/>
            <a:ahLst/>
            <a:rect l="l" t="t" r="r" b="b"/>
            <a:pathLst>
              <a:path w="660" h="156">
                <a:moveTo>
                  <a:pt x="660" y="131"/>
                </a:moveTo>
                <a:lnTo>
                  <a:pt x="654" y="131"/>
                </a:lnTo>
                <a:lnTo>
                  <a:pt x="647" y="131"/>
                </a:lnTo>
                <a:lnTo>
                  <a:pt x="637" y="131"/>
                </a:lnTo>
                <a:lnTo>
                  <a:pt x="628" y="131"/>
                </a:lnTo>
                <a:lnTo>
                  <a:pt x="618" y="131"/>
                </a:lnTo>
                <a:lnTo>
                  <a:pt x="606" y="131"/>
                </a:lnTo>
                <a:lnTo>
                  <a:pt x="593" y="131"/>
                </a:lnTo>
                <a:lnTo>
                  <a:pt x="582" y="133"/>
                </a:lnTo>
                <a:lnTo>
                  <a:pt x="566" y="133"/>
                </a:lnTo>
                <a:lnTo>
                  <a:pt x="551" y="133"/>
                </a:lnTo>
                <a:lnTo>
                  <a:pt x="535" y="135"/>
                </a:lnTo>
                <a:lnTo>
                  <a:pt x="520" y="135"/>
                </a:lnTo>
                <a:lnTo>
                  <a:pt x="501" y="135"/>
                </a:lnTo>
                <a:lnTo>
                  <a:pt x="484" y="137"/>
                </a:lnTo>
                <a:lnTo>
                  <a:pt x="464" y="137"/>
                </a:lnTo>
                <a:lnTo>
                  <a:pt x="443" y="139"/>
                </a:lnTo>
                <a:lnTo>
                  <a:pt x="422" y="139"/>
                </a:lnTo>
                <a:lnTo>
                  <a:pt x="401" y="141"/>
                </a:lnTo>
                <a:lnTo>
                  <a:pt x="378" y="141"/>
                </a:lnTo>
                <a:lnTo>
                  <a:pt x="353" y="142"/>
                </a:lnTo>
                <a:lnTo>
                  <a:pt x="330" y="142"/>
                </a:lnTo>
                <a:lnTo>
                  <a:pt x="303" y="144"/>
                </a:lnTo>
                <a:lnTo>
                  <a:pt x="278" y="146"/>
                </a:lnTo>
                <a:lnTo>
                  <a:pt x="249" y="146"/>
                </a:lnTo>
                <a:lnTo>
                  <a:pt x="223" y="148"/>
                </a:lnTo>
                <a:lnTo>
                  <a:pt x="194" y="148"/>
                </a:lnTo>
                <a:lnTo>
                  <a:pt x="163" y="150"/>
                </a:lnTo>
                <a:lnTo>
                  <a:pt x="132" y="152"/>
                </a:lnTo>
                <a:lnTo>
                  <a:pt x="100" y="152"/>
                </a:lnTo>
                <a:lnTo>
                  <a:pt x="67" y="154"/>
                </a:lnTo>
                <a:lnTo>
                  <a:pt x="34" y="156"/>
                </a:lnTo>
                <a:lnTo>
                  <a:pt x="0" y="156"/>
                </a:lnTo>
                <a:lnTo>
                  <a:pt x="0" y="104"/>
                </a:lnTo>
                <a:lnTo>
                  <a:pt x="0" y="52"/>
                </a:lnTo>
                <a:lnTo>
                  <a:pt x="8" y="52"/>
                </a:lnTo>
                <a:lnTo>
                  <a:pt x="17" y="50"/>
                </a:lnTo>
                <a:lnTo>
                  <a:pt x="27" y="50"/>
                </a:lnTo>
                <a:lnTo>
                  <a:pt x="38" y="50"/>
                </a:lnTo>
                <a:lnTo>
                  <a:pt x="50" y="48"/>
                </a:lnTo>
                <a:lnTo>
                  <a:pt x="63" y="46"/>
                </a:lnTo>
                <a:lnTo>
                  <a:pt x="75" y="45"/>
                </a:lnTo>
                <a:lnTo>
                  <a:pt x="90" y="45"/>
                </a:lnTo>
                <a:lnTo>
                  <a:pt x="104" y="43"/>
                </a:lnTo>
                <a:lnTo>
                  <a:pt x="119" y="39"/>
                </a:lnTo>
                <a:lnTo>
                  <a:pt x="134" y="37"/>
                </a:lnTo>
                <a:lnTo>
                  <a:pt x="152" y="35"/>
                </a:lnTo>
                <a:lnTo>
                  <a:pt x="167" y="33"/>
                </a:lnTo>
                <a:lnTo>
                  <a:pt x="184" y="31"/>
                </a:lnTo>
                <a:lnTo>
                  <a:pt x="221" y="25"/>
                </a:lnTo>
                <a:lnTo>
                  <a:pt x="255" y="20"/>
                </a:lnTo>
                <a:lnTo>
                  <a:pt x="272" y="18"/>
                </a:lnTo>
                <a:lnTo>
                  <a:pt x="290" y="16"/>
                </a:lnTo>
                <a:lnTo>
                  <a:pt x="305" y="14"/>
                </a:lnTo>
                <a:lnTo>
                  <a:pt x="320" y="12"/>
                </a:lnTo>
                <a:lnTo>
                  <a:pt x="336" y="10"/>
                </a:lnTo>
                <a:lnTo>
                  <a:pt x="351" y="8"/>
                </a:lnTo>
                <a:lnTo>
                  <a:pt x="365" y="6"/>
                </a:lnTo>
                <a:lnTo>
                  <a:pt x="378" y="4"/>
                </a:lnTo>
                <a:lnTo>
                  <a:pt x="391" y="2"/>
                </a:lnTo>
                <a:lnTo>
                  <a:pt x="403" y="2"/>
                </a:lnTo>
                <a:lnTo>
                  <a:pt x="413" y="0"/>
                </a:lnTo>
                <a:lnTo>
                  <a:pt x="422" y="0"/>
                </a:lnTo>
                <a:lnTo>
                  <a:pt x="432" y="0"/>
                </a:lnTo>
                <a:lnTo>
                  <a:pt x="441" y="0"/>
                </a:lnTo>
                <a:lnTo>
                  <a:pt x="449" y="0"/>
                </a:lnTo>
                <a:lnTo>
                  <a:pt x="459" y="0"/>
                </a:lnTo>
                <a:lnTo>
                  <a:pt x="468" y="4"/>
                </a:lnTo>
                <a:lnTo>
                  <a:pt x="480" y="6"/>
                </a:lnTo>
                <a:lnTo>
                  <a:pt x="491" y="12"/>
                </a:lnTo>
                <a:lnTo>
                  <a:pt x="503" y="16"/>
                </a:lnTo>
                <a:lnTo>
                  <a:pt x="516" y="23"/>
                </a:lnTo>
                <a:lnTo>
                  <a:pt x="530" y="31"/>
                </a:lnTo>
                <a:lnTo>
                  <a:pt x="545" y="39"/>
                </a:lnTo>
                <a:lnTo>
                  <a:pt x="560" y="48"/>
                </a:lnTo>
                <a:lnTo>
                  <a:pt x="576" y="58"/>
                </a:lnTo>
                <a:lnTo>
                  <a:pt x="591" y="71"/>
                </a:lnTo>
                <a:lnTo>
                  <a:pt x="608" y="83"/>
                </a:lnTo>
                <a:lnTo>
                  <a:pt x="626" y="98"/>
                </a:lnTo>
                <a:lnTo>
                  <a:pt x="643" y="114"/>
                </a:lnTo>
                <a:lnTo>
                  <a:pt x="660" y="1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121"/>
          <p:cNvSpPr/>
          <p:nvPr/>
        </p:nvSpPr>
        <p:spPr>
          <a:xfrm>
            <a:off x="7007400" y="4135320"/>
            <a:ext cx="426960" cy="130320"/>
          </a:xfrm>
          <a:custGeom>
            <a:avLst/>
            <a:gdLst/>
            <a:ahLst/>
            <a:rect l="l" t="t" r="r" b="b"/>
            <a:pathLst>
              <a:path w="538" h="165">
                <a:moveTo>
                  <a:pt x="0" y="61"/>
                </a:moveTo>
                <a:lnTo>
                  <a:pt x="37" y="59"/>
                </a:lnTo>
                <a:lnTo>
                  <a:pt x="73" y="59"/>
                </a:lnTo>
                <a:lnTo>
                  <a:pt x="108" y="56"/>
                </a:lnTo>
                <a:lnTo>
                  <a:pt x="144" y="52"/>
                </a:lnTo>
                <a:lnTo>
                  <a:pt x="179" y="46"/>
                </a:lnTo>
                <a:lnTo>
                  <a:pt x="212" y="38"/>
                </a:lnTo>
                <a:lnTo>
                  <a:pt x="244" y="31"/>
                </a:lnTo>
                <a:lnTo>
                  <a:pt x="277" y="21"/>
                </a:lnTo>
                <a:lnTo>
                  <a:pt x="290" y="17"/>
                </a:lnTo>
                <a:lnTo>
                  <a:pt x="306" y="13"/>
                </a:lnTo>
                <a:lnTo>
                  <a:pt x="321" y="9"/>
                </a:lnTo>
                <a:lnTo>
                  <a:pt x="334" y="6"/>
                </a:lnTo>
                <a:lnTo>
                  <a:pt x="350" y="4"/>
                </a:lnTo>
                <a:lnTo>
                  <a:pt x="363" y="2"/>
                </a:lnTo>
                <a:lnTo>
                  <a:pt x="375" y="0"/>
                </a:lnTo>
                <a:lnTo>
                  <a:pt x="388" y="0"/>
                </a:lnTo>
                <a:lnTo>
                  <a:pt x="400" y="0"/>
                </a:lnTo>
                <a:lnTo>
                  <a:pt x="411" y="0"/>
                </a:lnTo>
                <a:lnTo>
                  <a:pt x="423" y="0"/>
                </a:lnTo>
                <a:lnTo>
                  <a:pt x="432" y="2"/>
                </a:lnTo>
                <a:lnTo>
                  <a:pt x="442" y="2"/>
                </a:lnTo>
                <a:lnTo>
                  <a:pt x="451" y="4"/>
                </a:lnTo>
                <a:lnTo>
                  <a:pt x="461" y="6"/>
                </a:lnTo>
                <a:lnTo>
                  <a:pt x="469" y="9"/>
                </a:lnTo>
                <a:lnTo>
                  <a:pt x="484" y="13"/>
                </a:lnTo>
                <a:lnTo>
                  <a:pt x="498" y="21"/>
                </a:lnTo>
                <a:lnTo>
                  <a:pt x="509" y="27"/>
                </a:lnTo>
                <a:lnTo>
                  <a:pt x="513" y="31"/>
                </a:lnTo>
                <a:lnTo>
                  <a:pt x="519" y="34"/>
                </a:lnTo>
                <a:lnTo>
                  <a:pt x="522" y="38"/>
                </a:lnTo>
                <a:lnTo>
                  <a:pt x="526" y="42"/>
                </a:lnTo>
                <a:lnTo>
                  <a:pt x="530" y="46"/>
                </a:lnTo>
                <a:lnTo>
                  <a:pt x="532" y="50"/>
                </a:lnTo>
                <a:lnTo>
                  <a:pt x="534" y="52"/>
                </a:lnTo>
                <a:lnTo>
                  <a:pt x="536" y="56"/>
                </a:lnTo>
                <a:lnTo>
                  <a:pt x="538" y="57"/>
                </a:lnTo>
                <a:lnTo>
                  <a:pt x="538" y="61"/>
                </a:lnTo>
                <a:lnTo>
                  <a:pt x="538" y="65"/>
                </a:lnTo>
                <a:lnTo>
                  <a:pt x="536" y="71"/>
                </a:lnTo>
                <a:lnTo>
                  <a:pt x="532" y="75"/>
                </a:lnTo>
                <a:lnTo>
                  <a:pt x="530" y="80"/>
                </a:lnTo>
                <a:lnTo>
                  <a:pt x="524" y="84"/>
                </a:lnTo>
                <a:lnTo>
                  <a:pt x="519" y="90"/>
                </a:lnTo>
                <a:lnTo>
                  <a:pt x="513" y="94"/>
                </a:lnTo>
                <a:lnTo>
                  <a:pt x="505" y="98"/>
                </a:lnTo>
                <a:lnTo>
                  <a:pt x="496" y="102"/>
                </a:lnTo>
                <a:lnTo>
                  <a:pt x="486" y="105"/>
                </a:lnTo>
                <a:lnTo>
                  <a:pt x="474" y="111"/>
                </a:lnTo>
                <a:lnTo>
                  <a:pt x="461" y="113"/>
                </a:lnTo>
                <a:lnTo>
                  <a:pt x="448" y="117"/>
                </a:lnTo>
                <a:lnTo>
                  <a:pt x="434" y="121"/>
                </a:lnTo>
                <a:lnTo>
                  <a:pt x="417" y="123"/>
                </a:lnTo>
                <a:lnTo>
                  <a:pt x="400" y="127"/>
                </a:lnTo>
                <a:lnTo>
                  <a:pt x="380" y="130"/>
                </a:lnTo>
                <a:lnTo>
                  <a:pt x="363" y="136"/>
                </a:lnTo>
                <a:lnTo>
                  <a:pt x="342" y="140"/>
                </a:lnTo>
                <a:lnTo>
                  <a:pt x="323" y="144"/>
                </a:lnTo>
                <a:lnTo>
                  <a:pt x="300" y="148"/>
                </a:lnTo>
                <a:lnTo>
                  <a:pt x="279" y="150"/>
                </a:lnTo>
                <a:lnTo>
                  <a:pt x="256" y="153"/>
                </a:lnTo>
                <a:lnTo>
                  <a:pt x="231" y="155"/>
                </a:lnTo>
                <a:lnTo>
                  <a:pt x="206" y="157"/>
                </a:lnTo>
                <a:lnTo>
                  <a:pt x="181" y="159"/>
                </a:lnTo>
                <a:lnTo>
                  <a:pt x="154" y="161"/>
                </a:lnTo>
                <a:lnTo>
                  <a:pt x="125" y="163"/>
                </a:lnTo>
                <a:lnTo>
                  <a:pt x="96" y="165"/>
                </a:lnTo>
                <a:lnTo>
                  <a:pt x="66" y="165"/>
                </a:lnTo>
                <a:lnTo>
                  <a:pt x="33" y="165"/>
                </a:lnTo>
                <a:lnTo>
                  <a:pt x="0" y="165"/>
                </a:lnTo>
                <a:lnTo>
                  <a:pt x="0" y="113"/>
                </a:lnTo>
                <a:lnTo>
                  <a:pt x="0" y="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22"/>
          <p:cNvSpPr/>
          <p:nvPr/>
        </p:nvSpPr>
        <p:spPr>
          <a:xfrm>
            <a:off x="7007400" y="3768840"/>
            <a:ext cx="426960" cy="114120"/>
          </a:xfrm>
          <a:custGeom>
            <a:avLst/>
            <a:gdLst/>
            <a:ahLst/>
            <a:rect l="l" t="t" r="r" b="b"/>
            <a:pathLst>
              <a:path w="538" h="144">
                <a:moveTo>
                  <a:pt x="208" y="27"/>
                </a:moveTo>
                <a:lnTo>
                  <a:pt x="248" y="18"/>
                </a:lnTo>
                <a:lnTo>
                  <a:pt x="269" y="14"/>
                </a:lnTo>
                <a:lnTo>
                  <a:pt x="288" y="8"/>
                </a:lnTo>
                <a:lnTo>
                  <a:pt x="307" y="6"/>
                </a:lnTo>
                <a:lnTo>
                  <a:pt x="325" y="2"/>
                </a:lnTo>
                <a:lnTo>
                  <a:pt x="342" y="2"/>
                </a:lnTo>
                <a:lnTo>
                  <a:pt x="359" y="0"/>
                </a:lnTo>
                <a:lnTo>
                  <a:pt x="390" y="0"/>
                </a:lnTo>
                <a:lnTo>
                  <a:pt x="405" y="2"/>
                </a:lnTo>
                <a:lnTo>
                  <a:pt x="421" y="2"/>
                </a:lnTo>
                <a:lnTo>
                  <a:pt x="436" y="4"/>
                </a:lnTo>
                <a:lnTo>
                  <a:pt x="451" y="6"/>
                </a:lnTo>
                <a:lnTo>
                  <a:pt x="467" y="10"/>
                </a:lnTo>
                <a:lnTo>
                  <a:pt x="482" y="14"/>
                </a:lnTo>
                <a:lnTo>
                  <a:pt x="490" y="16"/>
                </a:lnTo>
                <a:lnTo>
                  <a:pt x="496" y="19"/>
                </a:lnTo>
                <a:lnTo>
                  <a:pt x="503" y="21"/>
                </a:lnTo>
                <a:lnTo>
                  <a:pt x="509" y="23"/>
                </a:lnTo>
                <a:lnTo>
                  <a:pt x="513" y="27"/>
                </a:lnTo>
                <a:lnTo>
                  <a:pt x="519" y="29"/>
                </a:lnTo>
                <a:lnTo>
                  <a:pt x="522" y="31"/>
                </a:lnTo>
                <a:lnTo>
                  <a:pt x="524" y="33"/>
                </a:lnTo>
                <a:lnTo>
                  <a:pt x="528" y="37"/>
                </a:lnTo>
                <a:lnTo>
                  <a:pt x="530" y="39"/>
                </a:lnTo>
                <a:lnTo>
                  <a:pt x="534" y="42"/>
                </a:lnTo>
                <a:lnTo>
                  <a:pt x="536" y="48"/>
                </a:lnTo>
                <a:lnTo>
                  <a:pt x="538" y="54"/>
                </a:lnTo>
                <a:lnTo>
                  <a:pt x="538" y="56"/>
                </a:lnTo>
                <a:lnTo>
                  <a:pt x="536" y="58"/>
                </a:lnTo>
                <a:lnTo>
                  <a:pt x="534" y="62"/>
                </a:lnTo>
                <a:lnTo>
                  <a:pt x="532" y="66"/>
                </a:lnTo>
                <a:lnTo>
                  <a:pt x="530" y="67"/>
                </a:lnTo>
                <a:lnTo>
                  <a:pt x="526" y="71"/>
                </a:lnTo>
                <a:lnTo>
                  <a:pt x="522" y="75"/>
                </a:lnTo>
                <a:lnTo>
                  <a:pt x="517" y="79"/>
                </a:lnTo>
                <a:lnTo>
                  <a:pt x="511" y="83"/>
                </a:lnTo>
                <a:lnTo>
                  <a:pt x="505" y="87"/>
                </a:lnTo>
                <a:lnTo>
                  <a:pt x="498" y="90"/>
                </a:lnTo>
                <a:lnTo>
                  <a:pt x="492" y="94"/>
                </a:lnTo>
                <a:lnTo>
                  <a:pt x="482" y="96"/>
                </a:lnTo>
                <a:lnTo>
                  <a:pt x="474" y="100"/>
                </a:lnTo>
                <a:lnTo>
                  <a:pt x="465" y="102"/>
                </a:lnTo>
                <a:lnTo>
                  <a:pt x="455" y="106"/>
                </a:lnTo>
                <a:lnTo>
                  <a:pt x="448" y="108"/>
                </a:lnTo>
                <a:lnTo>
                  <a:pt x="442" y="110"/>
                </a:lnTo>
                <a:lnTo>
                  <a:pt x="434" y="112"/>
                </a:lnTo>
                <a:lnTo>
                  <a:pt x="425" y="115"/>
                </a:lnTo>
                <a:lnTo>
                  <a:pt x="417" y="117"/>
                </a:lnTo>
                <a:lnTo>
                  <a:pt x="407" y="119"/>
                </a:lnTo>
                <a:lnTo>
                  <a:pt x="398" y="121"/>
                </a:lnTo>
                <a:lnTo>
                  <a:pt x="388" y="123"/>
                </a:lnTo>
                <a:lnTo>
                  <a:pt x="377" y="125"/>
                </a:lnTo>
                <a:lnTo>
                  <a:pt x="367" y="127"/>
                </a:lnTo>
                <a:lnTo>
                  <a:pt x="355" y="127"/>
                </a:lnTo>
                <a:lnTo>
                  <a:pt x="342" y="129"/>
                </a:lnTo>
                <a:lnTo>
                  <a:pt x="331" y="131"/>
                </a:lnTo>
                <a:lnTo>
                  <a:pt x="317" y="133"/>
                </a:lnTo>
                <a:lnTo>
                  <a:pt x="304" y="133"/>
                </a:lnTo>
                <a:lnTo>
                  <a:pt x="290" y="135"/>
                </a:lnTo>
                <a:lnTo>
                  <a:pt x="275" y="137"/>
                </a:lnTo>
                <a:lnTo>
                  <a:pt x="259" y="137"/>
                </a:lnTo>
                <a:lnTo>
                  <a:pt x="244" y="138"/>
                </a:lnTo>
                <a:lnTo>
                  <a:pt x="229" y="138"/>
                </a:lnTo>
                <a:lnTo>
                  <a:pt x="213" y="140"/>
                </a:lnTo>
                <a:lnTo>
                  <a:pt x="196" y="140"/>
                </a:lnTo>
                <a:lnTo>
                  <a:pt x="179" y="140"/>
                </a:lnTo>
                <a:lnTo>
                  <a:pt x="162" y="142"/>
                </a:lnTo>
                <a:lnTo>
                  <a:pt x="142" y="142"/>
                </a:lnTo>
                <a:lnTo>
                  <a:pt x="123" y="142"/>
                </a:lnTo>
                <a:lnTo>
                  <a:pt x="104" y="144"/>
                </a:lnTo>
                <a:lnTo>
                  <a:pt x="85" y="144"/>
                </a:lnTo>
                <a:lnTo>
                  <a:pt x="64" y="144"/>
                </a:lnTo>
                <a:lnTo>
                  <a:pt x="45" y="144"/>
                </a:lnTo>
                <a:lnTo>
                  <a:pt x="23" y="144"/>
                </a:lnTo>
                <a:lnTo>
                  <a:pt x="0" y="144"/>
                </a:lnTo>
                <a:lnTo>
                  <a:pt x="0" y="92"/>
                </a:lnTo>
                <a:lnTo>
                  <a:pt x="0" y="41"/>
                </a:lnTo>
                <a:lnTo>
                  <a:pt x="20" y="41"/>
                </a:lnTo>
                <a:lnTo>
                  <a:pt x="35" y="41"/>
                </a:lnTo>
                <a:lnTo>
                  <a:pt x="52" y="41"/>
                </a:lnTo>
                <a:lnTo>
                  <a:pt x="68" y="41"/>
                </a:lnTo>
                <a:lnTo>
                  <a:pt x="83" y="41"/>
                </a:lnTo>
                <a:lnTo>
                  <a:pt x="98" y="39"/>
                </a:lnTo>
                <a:lnTo>
                  <a:pt x="112" y="39"/>
                </a:lnTo>
                <a:lnTo>
                  <a:pt x="125" y="39"/>
                </a:lnTo>
                <a:lnTo>
                  <a:pt x="137" y="39"/>
                </a:lnTo>
                <a:lnTo>
                  <a:pt x="150" y="37"/>
                </a:lnTo>
                <a:lnTo>
                  <a:pt x="160" y="35"/>
                </a:lnTo>
                <a:lnTo>
                  <a:pt x="171" y="35"/>
                </a:lnTo>
                <a:lnTo>
                  <a:pt x="181" y="33"/>
                </a:lnTo>
                <a:lnTo>
                  <a:pt x="190" y="31"/>
                </a:lnTo>
                <a:lnTo>
                  <a:pt x="200" y="29"/>
                </a:lnTo>
                <a:lnTo>
                  <a:pt x="208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23"/>
          <p:cNvSpPr/>
          <p:nvPr/>
        </p:nvSpPr>
        <p:spPr>
          <a:xfrm>
            <a:off x="6883560" y="3365640"/>
            <a:ext cx="168120" cy="1535040"/>
          </a:xfrm>
          <a:custGeom>
            <a:avLst/>
            <a:gdLst/>
            <a:ahLst/>
            <a:rect l="l" t="t" r="r" b="b"/>
            <a:pathLst>
              <a:path w="211" h="1932">
                <a:moveTo>
                  <a:pt x="19" y="101"/>
                </a:moveTo>
                <a:lnTo>
                  <a:pt x="15" y="92"/>
                </a:lnTo>
                <a:lnTo>
                  <a:pt x="13" y="82"/>
                </a:lnTo>
                <a:lnTo>
                  <a:pt x="11" y="74"/>
                </a:lnTo>
                <a:lnTo>
                  <a:pt x="8" y="67"/>
                </a:lnTo>
                <a:lnTo>
                  <a:pt x="6" y="59"/>
                </a:lnTo>
                <a:lnTo>
                  <a:pt x="4" y="53"/>
                </a:lnTo>
                <a:lnTo>
                  <a:pt x="2" y="48"/>
                </a:lnTo>
                <a:lnTo>
                  <a:pt x="2" y="42"/>
                </a:lnTo>
                <a:lnTo>
                  <a:pt x="0" y="30"/>
                </a:lnTo>
                <a:lnTo>
                  <a:pt x="0" y="26"/>
                </a:lnTo>
                <a:lnTo>
                  <a:pt x="0" y="23"/>
                </a:ln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6" y="11"/>
                </a:lnTo>
                <a:lnTo>
                  <a:pt x="9" y="5"/>
                </a:lnTo>
                <a:lnTo>
                  <a:pt x="17" y="3"/>
                </a:lnTo>
                <a:lnTo>
                  <a:pt x="27" y="1"/>
                </a:lnTo>
                <a:lnTo>
                  <a:pt x="36" y="0"/>
                </a:lnTo>
                <a:lnTo>
                  <a:pt x="46" y="1"/>
                </a:lnTo>
                <a:lnTo>
                  <a:pt x="59" y="3"/>
                </a:lnTo>
                <a:lnTo>
                  <a:pt x="73" y="5"/>
                </a:lnTo>
                <a:lnTo>
                  <a:pt x="88" y="11"/>
                </a:lnTo>
                <a:lnTo>
                  <a:pt x="150" y="30"/>
                </a:lnTo>
                <a:lnTo>
                  <a:pt x="211" y="49"/>
                </a:lnTo>
                <a:lnTo>
                  <a:pt x="211" y="151"/>
                </a:lnTo>
                <a:lnTo>
                  <a:pt x="211" y="251"/>
                </a:lnTo>
                <a:lnTo>
                  <a:pt x="211" y="349"/>
                </a:lnTo>
                <a:lnTo>
                  <a:pt x="211" y="441"/>
                </a:lnTo>
                <a:lnTo>
                  <a:pt x="211" y="533"/>
                </a:lnTo>
                <a:lnTo>
                  <a:pt x="209" y="620"/>
                </a:lnTo>
                <a:lnTo>
                  <a:pt x="209" y="704"/>
                </a:lnTo>
                <a:lnTo>
                  <a:pt x="209" y="787"/>
                </a:lnTo>
                <a:lnTo>
                  <a:pt x="207" y="865"/>
                </a:lnTo>
                <a:lnTo>
                  <a:pt x="207" y="940"/>
                </a:lnTo>
                <a:lnTo>
                  <a:pt x="207" y="1013"/>
                </a:lnTo>
                <a:lnTo>
                  <a:pt x="205" y="1082"/>
                </a:lnTo>
                <a:lnTo>
                  <a:pt x="205" y="1149"/>
                </a:lnTo>
                <a:lnTo>
                  <a:pt x="203" y="1213"/>
                </a:lnTo>
                <a:lnTo>
                  <a:pt x="203" y="1272"/>
                </a:lnTo>
                <a:lnTo>
                  <a:pt x="201" y="1330"/>
                </a:lnTo>
                <a:lnTo>
                  <a:pt x="201" y="1385"/>
                </a:lnTo>
                <a:lnTo>
                  <a:pt x="200" y="1435"/>
                </a:lnTo>
                <a:lnTo>
                  <a:pt x="200" y="1483"/>
                </a:lnTo>
                <a:lnTo>
                  <a:pt x="198" y="1529"/>
                </a:lnTo>
                <a:lnTo>
                  <a:pt x="198" y="1572"/>
                </a:lnTo>
                <a:lnTo>
                  <a:pt x="196" y="1610"/>
                </a:lnTo>
                <a:lnTo>
                  <a:pt x="194" y="1645"/>
                </a:lnTo>
                <a:lnTo>
                  <a:pt x="194" y="1677"/>
                </a:lnTo>
                <a:lnTo>
                  <a:pt x="192" y="1708"/>
                </a:lnTo>
                <a:lnTo>
                  <a:pt x="190" y="1735"/>
                </a:lnTo>
                <a:lnTo>
                  <a:pt x="190" y="1758"/>
                </a:lnTo>
                <a:lnTo>
                  <a:pt x="188" y="1777"/>
                </a:lnTo>
                <a:lnTo>
                  <a:pt x="186" y="1794"/>
                </a:lnTo>
                <a:lnTo>
                  <a:pt x="186" y="1808"/>
                </a:lnTo>
                <a:lnTo>
                  <a:pt x="184" y="1819"/>
                </a:lnTo>
                <a:lnTo>
                  <a:pt x="184" y="1827"/>
                </a:lnTo>
                <a:lnTo>
                  <a:pt x="180" y="1838"/>
                </a:lnTo>
                <a:lnTo>
                  <a:pt x="178" y="1850"/>
                </a:lnTo>
                <a:lnTo>
                  <a:pt x="175" y="1861"/>
                </a:lnTo>
                <a:lnTo>
                  <a:pt x="171" y="1871"/>
                </a:lnTo>
                <a:lnTo>
                  <a:pt x="167" y="1881"/>
                </a:lnTo>
                <a:lnTo>
                  <a:pt x="163" y="1888"/>
                </a:lnTo>
                <a:lnTo>
                  <a:pt x="159" y="1896"/>
                </a:lnTo>
                <a:lnTo>
                  <a:pt x="155" y="1904"/>
                </a:lnTo>
                <a:lnTo>
                  <a:pt x="152" y="1909"/>
                </a:lnTo>
                <a:lnTo>
                  <a:pt x="148" y="1915"/>
                </a:lnTo>
                <a:lnTo>
                  <a:pt x="144" y="1921"/>
                </a:lnTo>
                <a:lnTo>
                  <a:pt x="140" y="1925"/>
                </a:lnTo>
                <a:lnTo>
                  <a:pt x="138" y="1927"/>
                </a:lnTo>
                <a:lnTo>
                  <a:pt x="134" y="1931"/>
                </a:lnTo>
                <a:lnTo>
                  <a:pt x="130" y="1931"/>
                </a:lnTo>
                <a:lnTo>
                  <a:pt x="128" y="1932"/>
                </a:lnTo>
                <a:lnTo>
                  <a:pt x="127" y="1931"/>
                </a:lnTo>
                <a:lnTo>
                  <a:pt x="123" y="1931"/>
                </a:lnTo>
                <a:lnTo>
                  <a:pt x="119" y="1927"/>
                </a:lnTo>
                <a:lnTo>
                  <a:pt x="115" y="1925"/>
                </a:lnTo>
                <a:lnTo>
                  <a:pt x="113" y="1919"/>
                </a:lnTo>
                <a:lnTo>
                  <a:pt x="109" y="1915"/>
                </a:lnTo>
                <a:lnTo>
                  <a:pt x="105" y="1907"/>
                </a:lnTo>
                <a:lnTo>
                  <a:pt x="102" y="1900"/>
                </a:lnTo>
                <a:lnTo>
                  <a:pt x="98" y="1892"/>
                </a:lnTo>
                <a:lnTo>
                  <a:pt x="94" y="1883"/>
                </a:lnTo>
                <a:lnTo>
                  <a:pt x="90" y="1871"/>
                </a:lnTo>
                <a:lnTo>
                  <a:pt x="86" y="1859"/>
                </a:lnTo>
                <a:lnTo>
                  <a:pt x="82" y="1848"/>
                </a:lnTo>
                <a:lnTo>
                  <a:pt x="79" y="1833"/>
                </a:lnTo>
                <a:lnTo>
                  <a:pt x="77" y="1817"/>
                </a:lnTo>
                <a:lnTo>
                  <a:pt x="73" y="1802"/>
                </a:lnTo>
                <a:lnTo>
                  <a:pt x="69" y="1785"/>
                </a:lnTo>
                <a:lnTo>
                  <a:pt x="63" y="1769"/>
                </a:lnTo>
                <a:lnTo>
                  <a:pt x="59" y="1754"/>
                </a:lnTo>
                <a:lnTo>
                  <a:pt x="56" y="1740"/>
                </a:lnTo>
                <a:lnTo>
                  <a:pt x="52" y="1727"/>
                </a:lnTo>
                <a:lnTo>
                  <a:pt x="48" y="1714"/>
                </a:lnTo>
                <a:lnTo>
                  <a:pt x="46" y="1704"/>
                </a:lnTo>
                <a:lnTo>
                  <a:pt x="42" y="1693"/>
                </a:lnTo>
                <a:lnTo>
                  <a:pt x="40" y="1683"/>
                </a:lnTo>
                <a:lnTo>
                  <a:pt x="38" y="1675"/>
                </a:lnTo>
                <a:lnTo>
                  <a:pt x="36" y="1668"/>
                </a:lnTo>
                <a:lnTo>
                  <a:pt x="34" y="1662"/>
                </a:lnTo>
                <a:lnTo>
                  <a:pt x="34" y="1656"/>
                </a:lnTo>
                <a:lnTo>
                  <a:pt x="33" y="1650"/>
                </a:lnTo>
                <a:lnTo>
                  <a:pt x="33" y="1646"/>
                </a:lnTo>
                <a:lnTo>
                  <a:pt x="33" y="1645"/>
                </a:lnTo>
                <a:lnTo>
                  <a:pt x="33" y="1641"/>
                </a:lnTo>
                <a:lnTo>
                  <a:pt x="33" y="1637"/>
                </a:lnTo>
                <a:lnTo>
                  <a:pt x="33" y="1629"/>
                </a:lnTo>
                <a:lnTo>
                  <a:pt x="34" y="1621"/>
                </a:lnTo>
                <a:lnTo>
                  <a:pt x="36" y="1614"/>
                </a:lnTo>
                <a:lnTo>
                  <a:pt x="36" y="1602"/>
                </a:lnTo>
                <a:lnTo>
                  <a:pt x="38" y="1591"/>
                </a:lnTo>
                <a:lnTo>
                  <a:pt x="40" y="1577"/>
                </a:lnTo>
                <a:lnTo>
                  <a:pt x="42" y="1562"/>
                </a:lnTo>
                <a:lnTo>
                  <a:pt x="44" y="1547"/>
                </a:lnTo>
                <a:lnTo>
                  <a:pt x="48" y="1529"/>
                </a:lnTo>
                <a:lnTo>
                  <a:pt x="50" y="1510"/>
                </a:lnTo>
                <a:lnTo>
                  <a:pt x="52" y="1489"/>
                </a:lnTo>
                <a:lnTo>
                  <a:pt x="54" y="1468"/>
                </a:lnTo>
                <a:lnTo>
                  <a:pt x="57" y="1445"/>
                </a:lnTo>
                <a:lnTo>
                  <a:pt x="59" y="1422"/>
                </a:lnTo>
                <a:lnTo>
                  <a:pt x="61" y="1410"/>
                </a:lnTo>
                <a:lnTo>
                  <a:pt x="61" y="1399"/>
                </a:lnTo>
                <a:lnTo>
                  <a:pt x="63" y="1385"/>
                </a:lnTo>
                <a:lnTo>
                  <a:pt x="63" y="1372"/>
                </a:lnTo>
                <a:lnTo>
                  <a:pt x="65" y="1357"/>
                </a:lnTo>
                <a:lnTo>
                  <a:pt x="65" y="1341"/>
                </a:lnTo>
                <a:lnTo>
                  <a:pt x="67" y="1326"/>
                </a:lnTo>
                <a:lnTo>
                  <a:pt x="67" y="1311"/>
                </a:lnTo>
                <a:lnTo>
                  <a:pt x="67" y="1291"/>
                </a:lnTo>
                <a:lnTo>
                  <a:pt x="69" y="1274"/>
                </a:lnTo>
                <a:lnTo>
                  <a:pt x="69" y="1255"/>
                </a:lnTo>
                <a:lnTo>
                  <a:pt x="69" y="1236"/>
                </a:lnTo>
                <a:lnTo>
                  <a:pt x="71" y="1216"/>
                </a:lnTo>
                <a:lnTo>
                  <a:pt x="71" y="1195"/>
                </a:lnTo>
                <a:lnTo>
                  <a:pt x="71" y="1172"/>
                </a:lnTo>
                <a:lnTo>
                  <a:pt x="71" y="1151"/>
                </a:lnTo>
                <a:lnTo>
                  <a:pt x="71" y="1128"/>
                </a:lnTo>
                <a:lnTo>
                  <a:pt x="73" y="1103"/>
                </a:lnTo>
                <a:lnTo>
                  <a:pt x="73" y="1080"/>
                </a:lnTo>
                <a:lnTo>
                  <a:pt x="73" y="1055"/>
                </a:lnTo>
                <a:lnTo>
                  <a:pt x="73" y="1028"/>
                </a:lnTo>
                <a:lnTo>
                  <a:pt x="73" y="1001"/>
                </a:lnTo>
                <a:lnTo>
                  <a:pt x="73" y="975"/>
                </a:lnTo>
                <a:lnTo>
                  <a:pt x="73" y="948"/>
                </a:lnTo>
                <a:lnTo>
                  <a:pt x="73" y="919"/>
                </a:lnTo>
                <a:lnTo>
                  <a:pt x="73" y="890"/>
                </a:lnTo>
                <a:lnTo>
                  <a:pt x="73" y="861"/>
                </a:lnTo>
                <a:lnTo>
                  <a:pt x="73" y="831"/>
                </a:lnTo>
                <a:lnTo>
                  <a:pt x="73" y="800"/>
                </a:lnTo>
                <a:lnTo>
                  <a:pt x="73" y="767"/>
                </a:lnTo>
                <a:lnTo>
                  <a:pt x="73" y="737"/>
                </a:lnTo>
                <a:lnTo>
                  <a:pt x="73" y="704"/>
                </a:lnTo>
                <a:lnTo>
                  <a:pt x="73" y="669"/>
                </a:lnTo>
                <a:lnTo>
                  <a:pt x="71" y="639"/>
                </a:lnTo>
                <a:lnTo>
                  <a:pt x="69" y="608"/>
                </a:lnTo>
                <a:lnTo>
                  <a:pt x="69" y="577"/>
                </a:lnTo>
                <a:lnTo>
                  <a:pt x="67" y="548"/>
                </a:lnTo>
                <a:lnTo>
                  <a:pt x="65" y="520"/>
                </a:lnTo>
                <a:lnTo>
                  <a:pt x="65" y="493"/>
                </a:lnTo>
                <a:lnTo>
                  <a:pt x="63" y="466"/>
                </a:lnTo>
                <a:lnTo>
                  <a:pt x="61" y="439"/>
                </a:lnTo>
                <a:lnTo>
                  <a:pt x="59" y="414"/>
                </a:lnTo>
                <a:lnTo>
                  <a:pt x="59" y="391"/>
                </a:lnTo>
                <a:lnTo>
                  <a:pt x="57" y="368"/>
                </a:lnTo>
                <a:lnTo>
                  <a:pt x="56" y="345"/>
                </a:lnTo>
                <a:lnTo>
                  <a:pt x="54" y="324"/>
                </a:lnTo>
                <a:lnTo>
                  <a:pt x="52" y="305"/>
                </a:lnTo>
                <a:lnTo>
                  <a:pt x="52" y="286"/>
                </a:lnTo>
                <a:lnTo>
                  <a:pt x="50" y="266"/>
                </a:lnTo>
                <a:lnTo>
                  <a:pt x="48" y="249"/>
                </a:lnTo>
                <a:lnTo>
                  <a:pt x="46" y="232"/>
                </a:lnTo>
                <a:lnTo>
                  <a:pt x="44" y="216"/>
                </a:lnTo>
                <a:lnTo>
                  <a:pt x="42" y="201"/>
                </a:lnTo>
                <a:lnTo>
                  <a:pt x="40" y="188"/>
                </a:lnTo>
                <a:lnTo>
                  <a:pt x="38" y="174"/>
                </a:lnTo>
                <a:lnTo>
                  <a:pt x="36" y="163"/>
                </a:lnTo>
                <a:lnTo>
                  <a:pt x="34" y="151"/>
                </a:lnTo>
                <a:lnTo>
                  <a:pt x="33" y="142"/>
                </a:lnTo>
                <a:lnTo>
                  <a:pt x="31" y="132"/>
                </a:lnTo>
                <a:lnTo>
                  <a:pt x="29" y="124"/>
                </a:lnTo>
                <a:lnTo>
                  <a:pt x="25" y="117"/>
                </a:lnTo>
                <a:lnTo>
                  <a:pt x="23" y="111"/>
                </a:lnTo>
                <a:lnTo>
                  <a:pt x="21" y="105"/>
                </a:lnTo>
                <a:lnTo>
                  <a:pt x="19" y="1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24"/>
          <p:cNvSpPr/>
          <p:nvPr/>
        </p:nvSpPr>
        <p:spPr>
          <a:xfrm>
            <a:off x="6472080" y="4017960"/>
            <a:ext cx="328680" cy="260280"/>
          </a:xfrm>
          <a:custGeom>
            <a:avLst/>
            <a:gdLst/>
            <a:ahLst/>
            <a:rect l="l" t="t" r="r" b="b"/>
            <a:pathLst>
              <a:path w="412" h="328">
                <a:moveTo>
                  <a:pt x="412" y="209"/>
                </a:moveTo>
                <a:lnTo>
                  <a:pt x="412" y="223"/>
                </a:lnTo>
                <a:lnTo>
                  <a:pt x="412" y="236"/>
                </a:lnTo>
                <a:lnTo>
                  <a:pt x="410" y="250"/>
                </a:lnTo>
                <a:lnTo>
                  <a:pt x="410" y="261"/>
                </a:lnTo>
                <a:lnTo>
                  <a:pt x="408" y="271"/>
                </a:lnTo>
                <a:lnTo>
                  <a:pt x="407" y="280"/>
                </a:lnTo>
                <a:lnTo>
                  <a:pt x="407" y="290"/>
                </a:lnTo>
                <a:lnTo>
                  <a:pt x="405" y="298"/>
                </a:lnTo>
                <a:lnTo>
                  <a:pt x="403" y="303"/>
                </a:lnTo>
                <a:lnTo>
                  <a:pt x="399" y="309"/>
                </a:lnTo>
                <a:lnTo>
                  <a:pt x="397" y="315"/>
                </a:lnTo>
                <a:lnTo>
                  <a:pt x="395" y="319"/>
                </a:lnTo>
                <a:lnTo>
                  <a:pt x="393" y="323"/>
                </a:lnTo>
                <a:lnTo>
                  <a:pt x="389" y="324"/>
                </a:lnTo>
                <a:lnTo>
                  <a:pt x="387" y="326"/>
                </a:lnTo>
                <a:lnTo>
                  <a:pt x="385" y="326"/>
                </a:lnTo>
                <a:lnTo>
                  <a:pt x="384" y="326"/>
                </a:lnTo>
                <a:lnTo>
                  <a:pt x="382" y="328"/>
                </a:lnTo>
                <a:lnTo>
                  <a:pt x="378" y="326"/>
                </a:lnTo>
                <a:lnTo>
                  <a:pt x="374" y="324"/>
                </a:lnTo>
                <a:lnTo>
                  <a:pt x="370" y="323"/>
                </a:lnTo>
                <a:lnTo>
                  <a:pt x="364" y="321"/>
                </a:lnTo>
                <a:lnTo>
                  <a:pt x="359" y="317"/>
                </a:lnTo>
                <a:lnTo>
                  <a:pt x="351" y="313"/>
                </a:lnTo>
                <a:lnTo>
                  <a:pt x="345" y="307"/>
                </a:lnTo>
                <a:lnTo>
                  <a:pt x="336" y="301"/>
                </a:lnTo>
                <a:lnTo>
                  <a:pt x="328" y="296"/>
                </a:lnTo>
                <a:lnTo>
                  <a:pt x="318" y="288"/>
                </a:lnTo>
                <a:lnTo>
                  <a:pt x="309" y="280"/>
                </a:lnTo>
                <a:lnTo>
                  <a:pt x="297" y="271"/>
                </a:lnTo>
                <a:lnTo>
                  <a:pt x="286" y="263"/>
                </a:lnTo>
                <a:lnTo>
                  <a:pt x="274" y="252"/>
                </a:lnTo>
                <a:lnTo>
                  <a:pt x="261" y="242"/>
                </a:lnTo>
                <a:lnTo>
                  <a:pt x="249" y="230"/>
                </a:lnTo>
                <a:lnTo>
                  <a:pt x="234" y="217"/>
                </a:lnTo>
                <a:lnTo>
                  <a:pt x="220" y="205"/>
                </a:lnTo>
                <a:lnTo>
                  <a:pt x="205" y="192"/>
                </a:lnTo>
                <a:lnTo>
                  <a:pt x="190" y="177"/>
                </a:lnTo>
                <a:lnTo>
                  <a:pt x="172" y="163"/>
                </a:lnTo>
                <a:lnTo>
                  <a:pt x="155" y="148"/>
                </a:lnTo>
                <a:lnTo>
                  <a:pt x="138" y="131"/>
                </a:lnTo>
                <a:lnTo>
                  <a:pt x="121" y="115"/>
                </a:lnTo>
                <a:lnTo>
                  <a:pt x="101" y="96"/>
                </a:lnTo>
                <a:lnTo>
                  <a:pt x="82" y="79"/>
                </a:lnTo>
                <a:lnTo>
                  <a:pt x="63" y="60"/>
                </a:lnTo>
                <a:lnTo>
                  <a:pt x="42" y="40"/>
                </a:lnTo>
                <a:lnTo>
                  <a:pt x="21" y="21"/>
                </a:lnTo>
                <a:lnTo>
                  <a:pt x="0" y="0"/>
                </a:lnTo>
                <a:lnTo>
                  <a:pt x="27" y="0"/>
                </a:lnTo>
                <a:lnTo>
                  <a:pt x="53" y="0"/>
                </a:lnTo>
                <a:lnTo>
                  <a:pt x="78" y="0"/>
                </a:lnTo>
                <a:lnTo>
                  <a:pt x="103" y="2"/>
                </a:lnTo>
                <a:lnTo>
                  <a:pt x="126" y="4"/>
                </a:lnTo>
                <a:lnTo>
                  <a:pt x="147" y="6"/>
                </a:lnTo>
                <a:lnTo>
                  <a:pt x="169" y="8"/>
                </a:lnTo>
                <a:lnTo>
                  <a:pt x="190" y="10"/>
                </a:lnTo>
                <a:lnTo>
                  <a:pt x="207" y="12"/>
                </a:lnTo>
                <a:lnTo>
                  <a:pt x="226" y="15"/>
                </a:lnTo>
                <a:lnTo>
                  <a:pt x="243" y="17"/>
                </a:lnTo>
                <a:lnTo>
                  <a:pt x="259" y="21"/>
                </a:lnTo>
                <a:lnTo>
                  <a:pt x="274" y="25"/>
                </a:lnTo>
                <a:lnTo>
                  <a:pt x="289" y="29"/>
                </a:lnTo>
                <a:lnTo>
                  <a:pt x="303" y="35"/>
                </a:lnTo>
                <a:lnTo>
                  <a:pt x="316" y="38"/>
                </a:lnTo>
                <a:lnTo>
                  <a:pt x="328" y="46"/>
                </a:lnTo>
                <a:lnTo>
                  <a:pt x="339" y="54"/>
                </a:lnTo>
                <a:lnTo>
                  <a:pt x="351" y="61"/>
                </a:lnTo>
                <a:lnTo>
                  <a:pt x="361" y="71"/>
                </a:lnTo>
                <a:lnTo>
                  <a:pt x="368" y="81"/>
                </a:lnTo>
                <a:lnTo>
                  <a:pt x="376" y="88"/>
                </a:lnTo>
                <a:lnTo>
                  <a:pt x="384" y="98"/>
                </a:lnTo>
                <a:lnTo>
                  <a:pt x="389" y="109"/>
                </a:lnTo>
                <a:lnTo>
                  <a:pt x="395" y="119"/>
                </a:lnTo>
                <a:lnTo>
                  <a:pt x="401" y="131"/>
                </a:lnTo>
                <a:lnTo>
                  <a:pt x="405" y="142"/>
                </a:lnTo>
                <a:lnTo>
                  <a:pt x="407" y="156"/>
                </a:lnTo>
                <a:lnTo>
                  <a:pt x="408" y="167"/>
                </a:lnTo>
                <a:lnTo>
                  <a:pt x="410" y="180"/>
                </a:lnTo>
                <a:lnTo>
                  <a:pt x="412" y="194"/>
                </a:lnTo>
                <a:lnTo>
                  <a:pt x="412" y="2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25"/>
          <p:cNvSpPr/>
          <p:nvPr/>
        </p:nvSpPr>
        <p:spPr>
          <a:xfrm>
            <a:off x="6330960" y="2817720"/>
            <a:ext cx="258840" cy="2279880"/>
          </a:xfrm>
          <a:custGeom>
            <a:avLst/>
            <a:gdLst/>
            <a:ahLst/>
            <a:rect l="l" t="t" r="r" b="b"/>
            <a:pathLst>
              <a:path w="326" h="2871">
                <a:moveTo>
                  <a:pt x="221" y="1879"/>
                </a:moveTo>
                <a:lnTo>
                  <a:pt x="219" y="1927"/>
                </a:lnTo>
                <a:lnTo>
                  <a:pt x="219" y="1973"/>
                </a:lnTo>
                <a:lnTo>
                  <a:pt x="219" y="2019"/>
                </a:lnTo>
                <a:lnTo>
                  <a:pt x="219" y="2063"/>
                </a:lnTo>
                <a:lnTo>
                  <a:pt x="219" y="2107"/>
                </a:lnTo>
                <a:lnTo>
                  <a:pt x="219" y="2147"/>
                </a:lnTo>
                <a:lnTo>
                  <a:pt x="217" y="2190"/>
                </a:lnTo>
                <a:lnTo>
                  <a:pt x="217" y="2228"/>
                </a:lnTo>
                <a:lnTo>
                  <a:pt x="217" y="2266"/>
                </a:lnTo>
                <a:lnTo>
                  <a:pt x="215" y="2303"/>
                </a:lnTo>
                <a:lnTo>
                  <a:pt x="215" y="2337"/>
                </a:lnTo>
                <a:lnTo>
                  <a:pt x="213" y="2372"/>
                </a:lnTo>
                <a:lnTo>
                  <a:pt x="213" y="2405"/>
                </a:lnTo>
                <a:lnTo>
                  <a:pt x="211" y="2435"/>
                </a:lnTo>
                <a:lnTo>
                  <a:pt x="211" y="2464"/>
                </a:lnTo>
                <a:lnTo>
                  <a:pt x="209" y="2493"/>
                </a:lnTo>
                <a:lnTo>
                  <a:pt x="207" y="2520"/>
                </a:lnTo>
                <a:lnTo>
                  <a:pt x="207" y="2547"/>
                </a:lnTo>
                <a:lnTo>
                  <a:pt x="206" y="2572"/>
                </a:lnTo>
                <a:lnTo>
                  <a:pt x="204" y="2595"/>
                </a:lnTo>
                <a:lnTo>
                  <a:pt x="202" y="2616"/>
                </a:lnTo>
                <a:lnTo>
                  <a:pt x="200" y="2637"/>
                </a:lnTo>
                <a:lnTo>
                  <a:pt x="198" y="2656"/>
                </a:lnTo>
                <a:lnTo>
                  <a:pt x="196" y="2673"/>
                </a:lnTo>
                <a:lnTo>
                  <a:pt x="194" y="2691"/>
                </a:lnTo>
                <a:lnTo>
                  <a:pt x="192" y="2704"/>
                </a:lnTo>
                <a:lnTo>
                  <a:pt x="190" y="2719"/>
                </a:lnTo>
                <a:lnTo>
                  <a:pt x="188" y="2731"/>
                </a:lnTo>
                <a:lnTo>
                  <a:pt x="186" y="2742"/>
                </a:lnTo>
                <a:lnTo>
                  <a:pt x="184" y="2752"/>
                </a:lnTo>
                <a:lnTo>
                  <a:pt x="181" y="2760"/>
                </a:lnTo>
                <a:lnTo>
                  <a:pt x="179" y="2767"/>
                </a:lnTo>
                <a:lnTo>
                  <a:pt x="173" y="2779"/>
                </a:lnTo>
                <a:lnTo>
                  <a:pt x="169" y="2790"/>
                </a:lnTo>
                <a:lnTo>
                  <a:pt x="165" y="2800"/>
                </a:lnTo>
                <a:lnTo>
                  <a:pt x="161" y="2810"/>
                </a:lnTo>
                <a:lnTo>
                  <a:pt x="158" y="2819"/>
                </a:lnTo>
                <a:lnTo>
                  <a:pt x="154" y="2829"/>
                </a:lnTo>
                <a:lnTo>
                  <a:pt x="150" y="2836"/>
                </a:lnTo>
                <a:lnTo>
                  <a:pt x="146" y="2844"/>
                </a:lnTo>
                <a:lnTo>
                  <a:pt x="142" y="2850"/>
                </a:lnTo>
                <a:lnTo>
                  <a:pt x="140" y="2856"/>
                </a:lnTo>
                <a:lnTo>
                  <a:pt x="136" y="2860"/>
                </a:lnTo>
                <a:lnTo>
                  <a:pt x="135" y="2863"/>
                </a:lnTo>
                <a:lnTo>
                  <a:pt x="131" y="2867"/>
                </a:lnTo>
                <a:lnTo>
                  <a:pt x="129" y="2869"/>
                </a:lnTo>
                <a:lnTo>
                  <a:pt x="127" y="2871"/>
                </a:lnTo>
                <a:lnTo>
                  <a:pt x="123" y="2871"/>
                </a:lnTo>
                <a:lnTo>
                  <a:pt x="121" y="2871"/>
                </a:lnTo>
                <a:lnTo>
                  <a:pt x="117" y="2869"/>
                </a:lnTo>
                <a:lnTo>
                  <a:pt x="115" y="2867"/>
                </a:lnTo>
                <a:lnTo>
                  <a:pt x="111" y="2863"/>
                </a:lnTo>
                <a:lnTo>
                  <a:pt x="108" y="2860"/>
                </a:lnTo>
                <a:lnTo>
                  <a:pt x="104" y="2854"/>
                </a:lnTo>
                <a:lnTo>
                  <a:pt x="98" y="2848"/>
                </a:lnTo>
                <a:lnTo>
                  <a:pt x="94" y="2842"/>
                </a:lnTo>
                <a:lnTo>
                  <a:pt x="90" y="2835"/>
                </a:lnTo>
                <a:lnTo>
                  <a:pt x="85" y="2825"/>
                </a:lnTo>
                <a:lnTo>
                  <a:pt x="81" y="2815"/>
                </a:lnTo>
                <a:lnTo>
                  <a:pt x="75" y="2806"/>
                </a:lnTo>
                <a:lnTo>
                  <a:pt x="69" y="2794"/>
                </a:lnTo>
                <a:lnTo>
                  <a:pt x="65" y="2781"/>
                </a:lnTo>
                <a:lnTo>
                  <a:pt x="60" y="2767"/>
                </a:lnTo>
                <a:lnTo>
                  <a:pt x="56" y="2754"/>
                </a:lnTo>
                <a:lnTo>
                  <a:pt x="48" y="2737"/>
                </a:lnTo>
                <a:lnTo>
                  <a:pt x="40" y="2721"/>
                </a:lnTo>
                <a:lnTo>
                  <a:pt x="35" y="2706"/>
                </a:lnTo>
                <a:lnTo>
                  <a:pt x="29" y="2693"/>
                </a:lnTo>
                <a:lnTo>
                  <a:pt x="23" y="2679"/>
                </a:lnTo>
                <a:lnTo>
                  <a:pt x="19" y="2666"/>
                </a:lnTo>
                <a:lnTo>
                  <a:pt x="16" y="2654"/>
                </a:lnTo>
                <a:lnTo>
                  <a:pt x="12" y="2645"/>
                </a:lnTo>
                <a:lnTo>
                  <a:pt x="10" y="2633"/>
                </a:lnTo>
                <a:lnTo>
                  <a:pt x="6" y="2625"/>
                </a:lnTo>
                <a:lnTo>
                  <a:pt x="4" y="2616"/>
                </a:lnTo>
                <a:lnTo>
                  <a:pt x="2" y="2608"/>
                </a:lnTo>
                <a:lnTo>
                  <a:pt x="2" y="2600"/>
                </a:lnTo>
                <a:lnTo>
                  <a:pt x="0" y="2595"/>
                </a:lnTo>
                <a:lnTo>
                  <a:pt x="0" y="2589"/>
                </a:lnTo>
                <a:lnTo>
                  <a:pt x="0" y="2583"/>
                </a:lnTo>
                <a:lnTo>
                  <a:pt x="0" y="2581"/>
                </a:lnTo>
                <a:lnTo>
                  <a:pt x="0" y="2575"/>
                </a:lnTo>
                <a:lnTo>
                  <a:pt x="2" y="2570"/>
                </a:lnTo>
                <a:lnTo>
                  <a:pt x="2" y="2564"/>
                </a:lnTo>
                <a:lnTo>
                  <a:pt x="4" y="2556"/>
                </a:lnTo>
                <a:lnTo>
                  <a:pt x="6" y="2547"/>
                </a:lnTo>
                <a:lnTo>
                  <a:pt x="6" y="2537"/>
                </a:lnTo>
                <a:lnTo>
                  <a:pt x="8" y="2524"/>
                </a:lnTo>
                <a:lnTo>
                  <a:pt x="10" y="2512"/>
                </a:lnTo>
                <a:lnTo>
                  <a:pt x="14" y="2497"/>
                </a:lnTo>
                <a:lnTo>
                  <a:pt x="16" y="2481"/>
                </a:lnTo>
                <a:lnTo>
                  <a:pt x="17" y="2466"/>
                </a:lnTo>
                <a:lnTo>
                  <a:pt x="19" y="2449"/>
                </a:lnTo>
                <a:lnTo>
                  <a:pt x="23" y="2430"/>
                </a:lnTo>
                <a:lnTo>
                  <a:pt x="25" y="2408"/>
                </a:lnTo>
                <a:lnTo>
                  <a:pt x="27" y="2387"/>
                </a:lnTo>
                <a:lnTo>
                  <a:pt x="29" y="2378"/>
                </a:lnTo>
                <a:lnTo>
                  <a:pt x="31" y="2366"/>
                </a:lnTo>
                <a:lnTo>
                  <a:pt x="31" y="2355"/>
                </a:lnTo>
                <a:lnTo>
                  <a:pt x="33" y="2341"/>
                </a:lnTo>
                <a:lnTo>
                  <a:pt x="35" y="2330"/>
                </a:lnTo>
                <a:lnTo>
                  <a:pt x="37" y="2314"/>
                </a:lnTo>
                <a:lnTo>
                  <a:pt x="39" y="2301"/>
                </a:lnTo>
                <a:lnTo>
                  <a:pt x="40" y="2284"/>
                </a:lnTo>
                <a:lnTo>
                  <a:pt x="42" y="2268"/>
                </a:lnTo>
                <a:lnTo>
                  <a:pt x="44" y="2251"/>
                </a:lnTo>
                <a:lnTo>
                  <a:pt x="46" y="2234"/>
                </a:lnTo>
                <a:lnTo>
                  <a:pt x="48" y="2215"/>
                </a:lnTo>
                <a:lnTo>
                  <a:pt x="50" y="2195"/>
                </a:lnTo>
                <a:lnTo>
                  <a:pt x="52" y="2176"/>
                </a:lnTo>
                <a:lnTo>
                  <a:pt x="54" y="2155"/>
                </a:lnTo>
                <a:lnTo>
                  <a:pt x="56" y="2134"/>
                </a:lnTo>
                <a:lnTo>
                  <a:pt x="58" y="2113"/>
                </a:lnTo>
                <a:lnTo>
                  <a:pt x="60" y="2090"/>
                </a:lnTo>
                <a:lnTo>
                  <a:pt x="62" y="2065"/>
                </a:lnTo>
                <a:lnTo>
                  <a:pt x="63" y="2042"/>
                </a:lnTo>
                <a:lnTo>
                  <a:pt x="65" y="2017"/>
                </a:lnTo>
                <a:lnTo>
                  <a:pt x="65" y="1990"/>
                </a:lnTo>
                <a:lnTo>
                  <a:pt x="67" y="1965"/>
                </a:lnTo>
                <a:lnTo>
                  <a:pt x="69" y="1936"/>
                </a:lnTo>
                <a:lnTo>
                  <a:pt x="71" y="1909"/>
                </a:lnTo>
                <a:lnTo>
                  <a:pt x="73" y="1881"/>
                </a:lnTo>
                <a:lnTo>
                  <a:pt x="75" y="1852"/>
                </a:lnTo>
                <a:lnTo>
                  <a:pt x="77" y="1821"/>
                </a:lnTo>
                <a:lnTo>
                  <a:pt x="79" y="1790"/>
                </a:lnTo>
                <a:lnTo>
                  <a:pt x="79" y="1760"/>
                </a:lnTo>
                <a:lnTo>
                  <a:pt x="81" y="1727"/>
                </a:lnTo>
                <a:lnTo>
                  <a:pt x="83" y="1694"/>
                </a:lnTo>
                <a:lnTo>
                  <a:pt x="92" y="1430"/>
                </a:lnTo>
                <a:lnTo>
                  <a:pt x="98" y="1297"/>
                </a:lnTo>
                <a:lnTo>
                  <a:pt x="102" y="1165"/>
                </a:lnTo>
                <a:lnTo>
                  <a:pt x="106" y="1032"/>
                </a:lnTo>
                <a:lnTo>
                  <a:pt x="108" y="900"/>
                </a:lnTo>
                <a:lnTo>
                  <a:pt x="110" y="767"/>
                </a:lnTo>
                <a:lnTo>
                  <a:pt x="110" y="635"/>
                </a:lnTo>
                <a:lnTo>
                  <a:pt x="110" y="602"/>
                </a:lnTo>
                <a:lnTo>
                  <a:pt x="110" y="572"/>
                </a:lnTo>
                <a:lnTo>
                  <a:pt x="110" y="541"/>
                </a:lnTo>
                <a:lnTo>
                  <a:pt x="110" y="510"/>
                </a:lnTo>
                <a:lnTo>
                  <a:pt x="110" y="483"/>
                </a:lnTo>
                <a:lnTo>
                  <a:pt x="110" y="454"/>
                </a:lnTo>
                <a:lnTo>
                  <a:pt x="108" y="428"/>
                </a:lnTo>
                <a:lnTo>
                  <a:pt x="108" y="403"/>
                </a:lnTo>
                <a:lnTo>
                  <a:pt x="108" y="378"/>
                </a:lnTo>
                <a:lnTo>
                  <a:pt x="106" y="355"/>
                </a:lnTo>
                <a:lnTo>
                  <a:pt x="106" y="332"/>
                </a:lnTo>
                <a:lnTo>
                  <a:pt x="104" y="310"/>
                </a:lnTo>
                <a:lnTo>
                  <a:pt x="104" y="289"/>
                </a:lnTo>
                <a:lnTo>
                  <a:pt x="102" y="268"/>
                </a:lnTo>
                <a:lnTo>
                  <a:pt x="102" y="249"/>
                </a:lnTo>
                <a:lnTo>
                  <a:pt x="100" y="232"/>
                </a:lnTo>
                <a:lnTo>
                  <a:pt x="98" y="214"/>
                </a:lnTo>
                <a:lnTo>
                  <a:pt x="96" y="199"/>
                </a:lnTo>
                <a:lnTo>
                  <a:pt x="96" y="184"/>
                </a:lnTo>
                <a:lnTo>
                  <a:pt x="94" y="170"/>
                </a:lnTo>
                <a:lnTo>
                  <a:pt x="92" y="157"/>
                </a:lnTo>
                <a:lnTo>
                  <a:pt x="90" y="145"/>
                </a:lnTo>
                <a:lnTo>
                  <a:pt x="88" y="134"/>
                </a:lnTo>
                <a:lnTo>
                  <a:pt x="87" y="122"/>
                </a:lnTo>
                <a:lnTo>
                  <a:pt x="85" y="113"/>
                </a:lnTo>
                <a:lnTo>
                  <a:pt x="83" y="105"/>
                </a:lnTo>
                <a:lnTo>
                  <a:pt x="81" y="97"/>
                </a:lnTo>
                <a:lnTo>
                  <a:pt x="79" y="92"/>
                </a:lnTo>
                <a:lnTo>
                  <a:pt x="77" y="86"/>
                </a:lnTo>
                <a:lnTo>
                  <a:pt x="73" y="80"/>
                </a:lnTo>
                <a:lnTo>
                  <a:pt x="71" y="76"/>
                </a:lnTo>
                <a:lnTo>
                  <a:pt x="69" y="74"/>
                </a:lnTo>
                <a:lnTo>
                  <a:pt x="62" y="71"/>
                </a:lnTo>
                <a:lnTo>
                  <a:pt x="56" y="69"/>
                </a:lnTo>
                <a:lnTo>
                  <a:pt x="50" y="65"/>
                </a:lnTo>
                <a:lnTo>
                  <a:pt x="44" y="61"/>
                </a:lnTo>
                <a:lnTo>
                  <a:pt x="40" y="57"/>
                </a:lnTo>
                <a:lnTo>
                  <a:pt x="39" y="53"/>
                </a:lnTo>
                <a:lnTo>
                  <a:pt x="37" y="49"/>
                </a:lnTo>
                <a:lnTo>
                  <a:pt x="35" y="46"/>
                </a:lnTo>
                <a:lnTo>
                  <a:pt x="33" y="42"/>
                </a:lnTo>
                <a:lnTo>
                  <a:pt x="33" y="36"/>
                </a:lnTo>
                <a:lnTo>
                  <a:pt x="33" y="32"/>
                </a:lnTo>
                <a:lnTo>
                  <a:pt x="35" y="28"/>
                </a:lnTo>
                <a:lnTo>
                  <a:pt x="37" y="19"/>
                </a:lnTo>
                <a:lnTo>
                  <a:pt x="40" y="9"/>
                </a:lnTo>
                <a:lnTo>
                  <a:pt x="44" y="5"/>
                </a:lnTo>
                <a:lnTo>
                  <a:pt x="48" y="3"/>
                </a:lnTo>
                <a:lnTo>
                  <a:pt x="52" y="1"/>
                </a:lnTo>
                <a:lnTo>
                  <a:pt x="56" y="1"/>
                </a:lnTo>
                <a:lnTo>
                  <a:pt x="62" y="0"/>
                </a:lnTo>
                <a:lnTo>
                  <a:pt x="69" y="0"/>
                </a:lnTo>
                <a:lnTo>
                  <a:pt x="77" y="0"/>
                </a:lnTo>
                <a:lnTo>
                  <a:pt x="85" y="0"/>
                </a:lnTo>
                <a:lnTo>
                  <a:pt x="92" y="0"/>
                </a:lnTo>
                <a:lnTo>
                  <a:pt x="102" y="1"/>
                </a:lnTo>
                <a:lnTo>
                  <a:pt x="113" y="3"/>
                </a:lnTo>
                <a:lnTo>
                  <a:pt x="125" y="5"/>
                </a:lnTo>
                <a:lnTo>
                  <a:pt x="136" y="9"/>
                </a:lnTo>
                <a:lnTo>
                  <a:pt x="150" y="13"/>
                </a:lnTo>
                <a:lnTo>
                  <a:pt x="163" y="17"/>
                </a:lnTo>
                <a:lnTo>
                  <a:pt x="179" y="21"/>
                </a:lnTo>
                <a:lnTo>
                  <a:pt x="204" y="30"/>
                </a:lnTo>
                <a:lnTo>
                  <a:pt x="227" y="42"/>
                </a:lnTo>
                <a:lnTo>
                  <a:pt x="238" y="46"/>
                </a:lnTo>
                <a:lnTo>
                  <a:pt x="250" y="51"/>
                </a:lnTo>
                <a:lnTo>
                  <a:pt x="259" y="55"/>
                </a:lnTo>
                <a:lnTo>
                  <a:pt x="269" y="61"/>
                </a:lnTo>
                <a:lnTo>
                  <a:pt x="277" y="65"/>
                </a:lnTo>
                <a:lnTo>
                  <a:pt x="284" y="71"/>
                </a:lnTo>
                <a:lnTo>
                  <a:pt x="292" y="74"/>
                </a:lnTo>
                <a:lnTo>
                  <a:pt x="300" y="80"/>
                </a:lnTo>
                <a:lnTo>
                  <a:pt x="305" y="84"/>
                </a:lnTo>
                <a:lnTo>
                  <a:pt x="309" y="90"/>
                </a:lnTo>
                <a:lnTo>
                  <a:pt x="313" y="94"/>
                </a:lnTo>
                <a:lnTo>
                  <a:pt x="317" y="99"/>
                </a:lnTo>
                <a:lnTo>
                  <a:pt x="321" y="109"/>
                </a:lnTo>
                <a:lnTo>
                  <a:pt x="325" y="119"/>
                </a:lnTo>
                <a:lnTo>
                  <a:pt x="326" y="130"/>
                </a:lnTo>
                <a:lnTo>
                  <a:pt x="326" y="140"/>
                </a:lnTo>
                <a:lnTo>
                  <a:pt x="326" y="151"/>
                </a:lnTo>
                <a:lnTo>
                  <a:pt x="325" y="165"/>
                </a:lnTo>
                <a:lnTo>
                  <a:pt x="321" y="176"/>
                </a:lnTo>
                <a:lnTo>
                  <a:pt x="317" y="191"/>
                </a:lnTo>
                <a:lnTo>
                  <a:pt x="315" y="195"/>
                </a:lnTo>
                <a:lnTo>
                  <a:pt x="313" y="199"/>
                </a:lnTo>
                <a:lnTo>
                  <a:pt x="313" y="205"/>
                </a:lnTo>
                <a:lnTo>
                  <a:pt x="311" y="213"/>
                </a:lnTo>
                <a:lnTo>
                  <a:pt x="309" y="218"/>
                </a:lnTo>
                <a:lnTo>
                  <a:pt x="307" y="226"/>
                </a:lnTo>
                <a:lnTo>
                  <a:pt x="305" y="236"/>
                </a:lnTo>
                <a:lnTo>
                  <a:pt x="303" y="245"/>
                </a:lnTo>
                <a:lnTo>
                  <a:pt x="301" y="255"/>
                </a:lnTo>
                <a:lnTo>
                  <a:pt x="300" y="264"/>
                </a:lnTo>
                <a:lnTo>
                  <a:pt x="298" y="276"/>
                </a:lnTo>
                <a:lnTo>
                  <a:pt x="296" y="289"/>
                </a:lnTo>
                <a:lnTo>
                  <a:pt x="294" y="303"/>
                </a:lnTo>
                <a:lnTo>
                  <a:pt x="292" y="316"/>
                </a:lnTo>
                <a:lnTo>
                  <a:pt x="290" y="330"/>
                </a:lnTo>
                <a:lnTo>
                  <a:pt x="288" y="345"/>
                </a:lnTo>
                <a:lnTo>
                  <a:pt x="286" y="360"/>
                </a:lnTo>
                <a:lnTo>
                  <a:pt x="284" y="378"/>
                </a:lnTo>
                <a:lnTo>
                  <a:pt x="282" y="393"/>
                </a:lnTo>
                <a:lnTo>
                  <a:pt x="280" y="412"/>
                </a:lnTo>
                <a:lnTo>
                  <a:pt x="278" y="429"/>
                </a:lnTo>
                <a:lnTo>
                  <a:pt x="277" y="449"/>
                </a:lnTo>
                <a:lnTo>
                  <a:pt x="275" y="468"/>
                </a:lnTo>
                <a:lnTo>
                  <a:pt x="273" y="489"/>
                </a:lnTo>
                <a:lnTo>
                  <a:pt x="273" y="510"/>
                </a:lnTo>
                <a:lnTo>
                  <a:pt x="271" y="531"/>
                </a:lnTo>
                <a:lnTo>
                  <a:pt x="269" y="554"/>
                </a:lnTo>
                <a:lnTo>
                  <a:pt x="267" y="577"/>
                </a:lnTo>
                <a:lnTo>
                  <a:pt x="265" y="600"/>
                </a:lnTo>
                <a:lnTo>
                  <a:pt x="263" y="625"/>
                </a:lnTo>
                <a:lnTo>
                  <a:pt x="263" y="650"/>
                </a:lnTo>
                <a:lnTo>
                  <a:pt x="261" y="675"/>
                </a:lnTo>
                <a:lnTo>
                  <a:pt x="259" y="700"/>
                </a:lnTo>
                <a:lnTo>
                  <a:pt x="259" y="727"/>
                </a:lnTo>
                <a:lnTo>
                  <a:pt x="257" y="756"/>
                </a:lnTo>
                <a:lnTo>
                  <a:pt x="255" y="785"/>
                </a:lnTo>
                <a:lnTo>
                  <a:pt x="255" y="813"/>
                </a:lnTo>
                <a:lnTo>
                  <a:pt x="254" y="842"/>
                </a:lnTo>
                <a:lnTo>
                  <a:pt x="252" y="873"/>
                </a:lnTo>
                <a:lnTo>
                  <a:pt x="252" y="906"/>
                </a:lnTo>
                <a:lnTo>
                  <a:pt x="250" y="936"/>
                </a:lnTo>
                <a:lnTo>
                  <a:pt x="248" y="971"/>
                </a:lnTo>
                <a:lnTo>
                  <a:pt x="248" y="1003"/>
                </a:lnTo>
                <a:lnTo>
                  <a:pt x="246" y="1038"/>
                </a:lnTo>
                <a:lnTo>
                  <a:pt x="244" y="1073"/>
                </a:lnTo>
                <a:lnTo>
                  <a:pt x="244" y="1109"/>
                </a:lnTo>
                <a:lnTo>
                  <a:pt x="242" y="1145"/>
                </a:lnTo>
                <a:lnTo>
                  <a:pt x="240" y="1184"/>
                </a:lnTo>
                <a:lnTo>
                  <a:pt x="240" y="1220"/>
                </a:lnTo>
                <a:lnTo>
                  <a:pt x="238" y="1261"/>
                </a:lnTo>
                <a:lnTo>
                  <a:pt x="236" y="1299"/>
                </a:lnTo>
                <a:lnTo>
                  <a:pt x="236" y="1339"/>
                </a:lnTo>
                <a:lnTo>
                  <a:pt x="234" y="1382"/>
                </a:lnTo>
                <a:lnTo>
                  <a:pt x="232" y="1422"/>
                </a:lnTo>
                <a:lnTo>
                  <a:pt x="232" y="1464"/>
                </a:lnTo>
                <a:lnTo>
                  <a:pt x="230" y="1508"/>
                </a:lnTo>
                <a:lnTo>
                  <a:pt x="229" y="1552"/>
                </a:lnTo>
                <a:lnTo>
                  <a:pt x="229" y="1597"/>
                </a:lnTo>
                <a:lnTo>
                  <a:pt x="227" y="1641"/>
                </a:lnTo>
                <a:lnTo>
                  <a:pt x="225" y="1687"/>
                </a:lnTo>
                <a:lnTo>
                  <a:pt x="225" y="1735"/>
                </a:lnTo>
                <a:lnTo>
                  <a:pt x="223" y="1781"/>
                </a:lnTo>
                <a:lnTo>
                  <a:pt x="221" y="1829"/>
                </a:lnTo>
                <a:lnTo>
                  <a:pt x="221" y="18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26"/>
          <p:cNvSpPr/>
          <p:nvPr/>
        </p:nvSpPr>
        <p:spPr>
          <a:xfrm>
            <a:off x="5826240" y="3622680"/>
            <a:ext cx="636480" cy="1030320"/>
          </a:xfrm>
          <a:custGeom>
            <a:avLst/>
            <a:gdLst/>
            <a:ahLst/>
            <a:rect l="l" t="t" r="r" b="b"/>
            <a:pathLst>
              <a:path w="800" h="1297">
                <a:moveTo>
                  <a:pt x="800" y="261"/>
                </a:moveTo>
                <a:lnTo>
                  <a:pt x="783" y="303"/>
                </a:lnTo>
                <a:lnTo>
                  <a:pt x="764" y="344"/>
                </a:lnTo>
                <a:lnTo>
                  <a:pt x="746" y="382"/>
                </a:lnTo>
                <a:lnTo>
                  <a:pt x="727" y="420"/>
                </a:lnTo>
                <a:lnTo>
                  <a:pt x="710" y="459"/>
                </a:lnTo>
                <a:lnTo>
                  <a:pt x="691" y="495"/>
                </a:lnTo>
                <a:lnTo>
                  <a:pt x="674" y="530"/>
                </a:lnTo>
                <a:lnTo>
                  <a:pt x="654" y="564"/>
                </a:lnTo>
                <a:lnTo>
                  <a:pt x="635" y="599"/>
                </a:lnTo>
                <a:lnTo>
                  <a:pt x="616" y="631"/>
                </a:lnTo>
                <a:lnTo>
                  <a:pt x="597" y="664"/>
                </a:lnTo>
                <a:lnTo>
                  <a:pt x="578" y="695"/>
                </a:lnTo>
                <a:lnTo>
                  <a:pt x="558" y="725"/>
                </a:lnTo>
                <a:lnTo>
                  <a:pt x="537" y="754"/>
                </a:lnTo>
                <a:lnTo>
                  <a:pt x="518" y="783"/>
                </a:lnTo>
                <a:lnTo>
                  <a:pt x="497" y="810"/>
                </a:lnTo>
                <a:lnTo>
                  <a:pt x="474" y="839"/>
                </a:lnTo>
                <a:lnTo>
                  <a:pt x="453" y="868"/>
                </a:lnTo>
                <a:lnTo>
                  <a:pt x="430" y="894"/>
                </a:lnTo>
                <a:lnTo>
                  <a:pt x="407" y="921"/>
                </a:lnTo>
                <a:lnTo>
                  <a:pt x="386" y="946"/>
                </a:lnTo>
                <a:lnTo>
                  <a:pt x="365" y="971"/>
                </a:lnTo>
                <a:lnTo>
                  <a:pt x="343" y="994"/>
                </a:lnTo>
                <a:lnTo>
                  <a:pt x="322" y="1017"/>
                </a:lnTo>
                <a:lnTo>
                  <a:pt x="301" y="1040"/>
                </a:lnTo>
                <a:lnTo>
                  <a:pt x="282" y="1061"/>
                </a:lnTo>
                <a:lnTo>
                  <a:pt x="261" y="1082"/>
                </a:lnTo>
                <a:lnTo>
                  <a:pt x="242" y="1102"/>
                </a:lnTo>
                <a:lnTo>
                  <a:pt x="222" y="1121"/>
                </a:lnTo>
                <a:lnTo>
                  <a:pt x="203" y="1140"/>
                </a:lnTo>
                <a:lnTo>
                  <a:pt x="186" y="1159"/>
                </a:lnTo>
                <a:lnTo>
                  <a:pt x="167" y="1177"/>
                </a:lnTo>
                <a:lnTo>
                  <a:pt x="150" y="1192"/>
                </a:lnTo>
                <a:lnTo>
                  <a:pt x="134" y="1209"/>
                </a:lnTo>
                <a:lnTo>
                  <a:pt x="117" y="1223"/>
                </a:lnTo>
                <a:lnTo>
                  <a:pt x="103" y="1236"/>
                </a:lnTo>
                <a:lnTo>
                  <a:pt x="90" y="1248"/>
                </a:lnTo>
                <a:lnTo>
                  <a:pt x="77" y="1257"/>
                </a:lnTo>
                <a:lnTo>
                  <a:pt x="65" y="1267"/>
                </a:lnTo>
                <a:lnTo>
                  <a:pt x="54" y="1274"/>
                </a:lnTo>
                <a:lnTo>
                  <a:pt x="44" y="1282"/>
                </a:lnTo>
                <a:lnTo>
                  <a:pt x="34" y="1288"/>
                </a:lnTo>
                <a:lnTo>
                  <a:pt x="27" y="1292"/>
                </a:lnTo>
                <a:lnTo>
                  <a:pt x="21" y="1294"/>
                </a:lnTo>
                <a:lnTo>
                  <a:pt x="15" y="1296"/>
                </a:lnTo>
                <a:lnTo>
                  <a:pt x="9" y="1297"/>
                </a:lnTo>
                <a:lnTo>
                  <a:pt x="6" y="1296"/>
                </a:lnTo>
                <a:lnTo>
                  <a:pt x="2" y="1294"/>
                </a:lnTo>
                <a:lnTo>
                  <a:pt x="0" y="1290"/>
                </a:lnTo>
                <a:lnTo>
                  <a:pt x="0" y="1286"/>
                </a:lnTo>
                <a:lnTo>
                  <a:pt x="2" y="1278"/>
                </a:lnTo>
                <a:lnTo>
                  <a:pt x="6" y="1269"/>
                </a:lnTo>
                <a:lnTo>
                  <a:pt x="9" y="1259"/>
                </a:lnTo>
                <a:lnTo>
                  <a:pt x="17" y="1246"/>
                </a:lnTo>
                <a:lnTo>
                  <a:pt x="25" y="1232"/>
                </a:lnTo>
                <a:lnTo>
                  <a:pt x="36" y="1215"/>
                </a:lnTo>
                <a:lnTo>
                  <a:pt x="48" y="1198"/>
                </a:lnTo>
                <a:lnTo>
                  <a:pt x="61" y="1178"/>
                </a:lnTo>
                <a:lnTo>
                  <a:pt x="77" y="1155"/>
                </a:lnTo>
                <a:lnTo>
                  <a:pt x="94" y="1132"/>
                </a:lnTo>
                <a:lnTo>
                  <a:pt x="113" y="1107"/>
                </a:lnTo>
                <a:lnTo>
                  <a:pt x="134" y="1081"/>
                </a:lnTo>
                <a:lnTo>
                  <a:pt x="155" y="1050"/>
                </a:lnTo>
                <a:lnTo>
                  <a:pt x="180" y="1019"/>
                </a:lnTo>
                <a:lnTo>
                  <a:pt x="192" y="1004"/>
                </a:lnTo>
                <a:lnTo>
                  <a:pt x="205" y="988"/>
                </a:lnTo>
                <a:lnTo>
                  <a:pt x="217" y="969"/>
                </a:lnTo>
                <a:lnTo>
                  <a:pt x="230" y="952"/>
                </a:lnTo>
                <a:lnTo>
                  <a:pt x="244" y="933"/>
                </a:lnTo>
                <a:lnTo>
                  <a:pt x="257" y="912"/>
                </a:lnTo>
                <a:lnTo>
                  <a:pt x="272" y="891"/>
                </a:lnTo>
                <a:lnTo>
                  <a:pt x="286" y="868"/>
                </a:lnTo>
                <a:lnTo>
                  <a:pt x="301" y="843"/>
                </a:lnTo>
                <a:lnTo>
                  <a:pt x="317" y="818"/>
                </a:lnTo>
                <a:lnTo>
                  <a:pt x="334" y="793"/>
                </a:lnTo>
                <a:lnTo>
                  <a:pt x="349" y="766"/>
                </a:lnTo>
                <a:lnTo>
                  <a:pt x="366" y="737"/>
                </a:lnTo>
                <a:lnTo>
                  <a:pt x="384" y="708"/>
                </a:lnTo>
                <a:lnTo>
                  <a:pt x="401" y="677"/>
                </a:lnTo>
                <a:lnTo>
                  <a:pt x="418" y="647"/>
                </a:lnTo>
                <a:lnTo>
                  <a:pt x="437" y="614"/>
                </a:lnTo>
                <a:lnTo>
                  <a:pt x="457" y="582"/>
                </a:lnTo>
                <a:lnTo>
                  <a:pt x="476" y="547"/>
                </a:lnTo>
                <a:lnTo>
                  <a:pt x="495" y="510"/>
                </a:lnTo>
                <a:lnTo>
                  <a:pt x="514" y="474"/>
                </a:lnTo>
                <a:lnTo>
                  <a:pt x="535" y="438"/>
                </a:lnTo>
                <a:lnTo>
                  <a:pt x="556" y="397"/>
                </a:lnTo>
                <a:lnTo>
                  <a:pt x="578" y="359"/>
                </a:lnTo>
                <a:lnTo>
                  <a:pt x="599" y="317"/>
                </a:lnTo>
                <a:lnTo>
                  <a:pt x="620" y="274"/>
                </a:lnTo>
                <a:lnTo>
                  <a:pt x="643" y="232"/>
                </a:lnTo>
                <a:lnTo>
                  <a:pt x="664" y="188"/>
                </a:lnTo>
                <a:lnTo>
                  <a:pt x="687" y="142"/>
                </a:lnTo>
                <a:lnTo>
                  <a:pt x="712" y="96"/>
                </a:lnTo>
                <a:lnTo>
                  <a:pt x="735" y="48"/>
                </a:lnTo>
                <a:lnTo>
                  <a:pt x="758" y="0"/>
                </a:lnTo>
                <a:lnTo>
                  <a:pt x="779" y="130"/>
                </a:lnTo>
                <a:lnTo>
                  <a:pt x="800" y="2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27"/>
          <p:cNvSpPr/>
          <p:nvPr/>
        </p:nvSpPr>
        <p:spPr>
          <a:xfrm>
            <a:off x="5948280" y="3519360"/>
            <a:ext cx="898560" cy="217440"/>
          </a:xfrm>
          <a:custGeom>
            <a:avLst/>
            <a:gdLst/>
            <a:ahLst/>
            <a:rect l="l" t="t" r="r" b="b"/>
            <a:pathLst>
              <a:path w="1133" h="275">
                <a:moveTo>
                  <a:pt x="674" y="196"/>
                </a:moveTo>
                <a:lnTo>
                  <a:pt x="649" y="202"/>
                </a:lnTo>
                <a:lnTo>
                  <a:pt x="624" y="206"/>
                </a:lnTo>
                <a:lnTo>
                  <a:pt x="599" y="210"/>
                </a:lnTo>
                <a:lnTo>
                  <a:pt x="576" y="215"/>
                </a:lnTo>
                <a:lnTo>
                  <a:pt x="553" y="219"/>
                </a:lnTo>
                <a:lnTo>
                  <a:pt x="532" y="223"/>
                </a:lnTo>
                <a:lnTo>
                  <a:pt x="511" y="227"/>
                </a:lnTo>
                <a:lnTo>
                  <a:pt x="490" y="231"/>
                </a:lnTo>
                <a:lnTo>
                  <a:pt x="469" y="235"/>
                </a:lnTo>
                <a:lnTo>
                  <a:pt x="450" y="238"/>
                </a:lnTo>
                <a:lnTo>
                  <a:pt x="430" y="240"/>
                </a:lnTo>
                <a:lnTo>
                  <a:pt x="413" y="244"/>
                </a:lnTo>
                <a:lnTo>
                  <a:pt x="394" y="248"/>
                </a:lnTo>
                <a:lnTo>
                  <a:pt x="379" y="250"/>
                </a:lnTo>
                <a:lnTo>
                  <a:pt x="361" y="254"/>
                </a:lnTo>
                <a:lnTo>
                  <a:pt x="346" y="256"/>
                </a:lnTo>
                <a:lnTo>
                  <a:pt x="331" y="258"/>
                </a:lnTo>
                <a:lnTo>
                  <a:pt x="317" y="260"/>
                </a:lnTo>
                <a:lnTo>
                  <a:pt x="304" y="261"/>
                </a:lnTo>
                <a:lnTo>
                  <a:pt x="290" y="263"/>
                </a:lnTo>
                <a:lnTo>
                  <a:pt x="279" y="265"/>
                </a:lnTo>
                <a:lnTo>
                  <a:pt x="267" y="267"/>
                </a:lnTo>
                <a:lnTo>
                  <a:pt x="258" y="269"/>
                </a:lnTo>
                <a:lnTo>
                  <a:pt x="246" y="269"/>
                </a:lnTo>
                <a:lnTo>
                  <a:pt x="238" y="271"/>
                </a:lnTo>
                <a:lnTo>
                  <a:pt x="229" y="271"/>
                </a:lnTo>
                <a:lnTo>
                  <a:pt x="221" y="273"/>
                </a:lnTo>
                <a:lnTo>
                  <a:pt x="213" y="273"/>
                </a:lnTo>
                <a:lnTo>
                  <a:pt x="208" y="273"/>
                </a:lnTo>
                <a:lnTo>
                  <a:pt x="202" y="275"/>
                </a:lnTo>
                <a:lnTo>
                  <a:pt x="196" y="275"/>
                </a:lnTo>
                <a:lnTo>
                  <a:pt x="192" y="275"/>
                </a:lnTo>
                <a:lnTo>
                  <a:pt x="173" y="273"/>
                </a:lnTo>
                <a:lnTo>
                  <a:pt x="154" y="273"/>
                </a:lnTo>
                <a:lnTo>
                  <a:pt x="137" y="269"/>
                </a:lnTo>
                <a:lnTo>
                  <a:pt x="119" y="267"/>
                </a:lnTo>
                <a:lnTo>
                  <a:pt x="102" y="263"/>
                </a:lnTo>
                <a:lnTo>
                  <a:pt x="87" y="258"/>
                </a:lnTo>
                <a:lnTo>
                  <a:pt x="56" y="248"/>
                </a:lnTo>
                <a:lnTo>
                  <a:pt x="48" y="246"/>
                </a:lnTo>
                <a:lnTo>
                  <a:pt x="41" y="244"/>
                </a:lnTo>
                <a:lnTo>
                  <a:pt x="35" y="240"/>
                </a:lnTo>
                <a:lnTo>
                  <a:pt x="29" y="238"/>
                </a:lnTo>
                <a:lnTo>
                  <a:pt x="25" y="236"/>
                </a:lnTo>
                <a:lnTo>
                  <a:pt x="20" y="233"/>
                </a:lnTo>
                <a:lnTo>
                  <a:pt x="16" y="231"/>
                </a:lnTo>
                <a:lnTo>
                  <a:pt x="12" y="229"/>
                </a:lnTo>
                <a:lnTo>
                  <a:pt x="10" y="227"/>
                </a:lnTo>
                <a:lnTo>
                  <a:pt x="6" y="223"/>
                </a:lnTo>
                <a:lnTo>
                  <a:pt x="2" y="219"/>
                </a:lnTo>
                <a:lnTo>
                  <a:pt x="0" y="213"/>
                </a:lnTo>
                <a:lnTo>
                  <a:pt x="0" y="210"/>
                </a:lnTo>
                <a:lnTo>
                  <a:pt x="0" y="208"/>
                </a:lnTo>
                <a:lnTo>
                  <a:pt x="2" y="206"/>
                </a:lnTo>
                <a:lnTo>
                  <a:pt x="4" y="206"/>
                </a:lnTo>
                <a:lnTo>
                  <a:pt x="6" y="204"/>
                </a:lnTo>
                <a:lnTo>
                  <a:pt x="10" y="202"/>
                </a:lnTo>
                <a:lnTo>
                  <a:pt x="16" y="200"/>
                </a:lnTo>
                <a:lnTo>
                  <a:pt x="20" y="196"/>
                </a:lnTo>
                <a:lnTo>
                  <a:pt x="27" y="194"/>
                </a:lnTo>
                <a:lnTo>
                  <a:pt x="33" y="192"/>
                </a:lnTo>
                <a:lnTo>
                  <a:pt x="41" y="190"/>
                </a:lnTo>
                <a:lnTo>
                  <a:pt x="50" y="187"/>
                </a:lnTo>
                <a:lnTo>
                  <a:pt x="60" y="185"/>
                </a:lnTo>
                <a:lnTo>
                  <a:pt x="69" y="181"/>
                </a:lnTo>
                <a:lnTo>
                  <a:pt x="81" y="177"/>
                </a:lnTo>
                <a:lnTo>
                  <a:pt x="93" y="175"/>
                </a:lnTo>
                <a:lnTo>
                  <a:pt x="106" y="171"/>
                </a:lnTo>
                <a:lnTo>
                  <a:pt x="119" y="167"/>
                </a:lnTo>
                <a:lnTo>
                  <a:pt x="133" y="164"/>
                </a:lnTo>
                <a:lnTo>
                  <a:pt x="148" y="160"/>
                </a:lnTo>
                <a:lnTo>
                  <a:pt x="165" y="154"/>
                </a:lnTo>
                <a:lnTo>
                  <a:pt x="183" y="150"/>
                </a:lnTo>
                <a:lnTo>
                  <a:pt x="200" y="146"/>
                </a:lnTo>
                <a:lnTo>
                  <a:pt x="219" y="141"/>
                </a:lnTo>
                <a:lnTo>
                  <a:pt x="238" y="137"/>
                </a:lnTo>
                <a:lnTo>
                  <a:pt x="259" y="131"/>
                </a:lnTo>
                <a:lnTo>
                  <a:pt x="281" y="125"/>
                </a:lnTo>
                <a:lnTo>
                  <a:pt x="302" y="121"/>
                </a:lnTo>
                <a:lnTo>
                  <a:pt x="327" y="116"/>
                </a:lnTo>
                <a:lnTo>
                  <a:pt x="350" y="110"/>
                </a:lnTo>
                <a:lnTo>
                  <a:pt x="375" y="104"/>
                </a:lnTo>
                <a:lnTo>
                  <a:pt x="400" y="98"/>
                </a:lnTo>
                <a:lnTo>
                  <a:pt x="426" y="93"/>
                </a:lnTo>
                <a:lnTo>
                  <a:pt x="453" y="85"/>
                </a:lnTo>
                <a:lnTo>
                  <a:pt x="478" y="79"/>
                </a:lnTo>
                <a:lnTo>
                  <a:pt x="501" y="73"/>
                </a:lnTo>
                <a:lnTo>
                  <a:pt x="526" y="68"/>
                </a:lnTo>
                <a:lnTo>
                  <a:pt x="549" y="64"/>
                </a:lnTo>
                <a:lnTo>
                  <a:pt x="572" y="58"/>
                </a:lnTo>
                <a:lnTo>
                  <a:pt x="593" y="54"/>
                </a:lnTo>
                <a:lnTo>
                  <a:pt x="615" y="48"/>
                </a:lnTo>
                <a:lnTo>
                  <a:pt x="636" y="45"/>
                </a:lnTo>
                <a:lnTo>
                  <a:pt x="657" y="41"/>
                </a:lnTo>
                <a:lnTo>
                  <a:pt x="676" y="37"/>
                </a:lnTo>
                <a:lnTo>
                  <a:pt x="695" y="33"/>
                </a:lnTo>
                <a:lnTo>
                  <a:pt x="714" y="29"/>
                </a:lnTo>
                <a:lnTo>
                  <a:pt x="732" y="27"/>
                </a:lnTo>
                <a:lnTo>
                  <a:pt x="749" y="23"/>
                </a:lnTo>
                <a:lnTo>
                  <a:pt x="766" y="22"/>
                </a:lnTo>
                <a:lnTo>
                  <a:pt x="782" y="18"/>
                </a:lnTo>
                <a:lnTo>
                  <a:pt x="797" y="16"/>
                </a:lnTo>
                <a:lnTo>
                  <a:pt x="812" y="14"/>
                </a:lnTo>
                <a:lnTo>
                  <a:pt x="826" y="12"/>
                </a:lnTo>
                <a:lnTo>
                  <a:pt x="841" y="10"/>
                </a:lnTo>
                <a:lnTo>
                  <a:pt x="853" y="8"/>
                </a:lnTo>
                <a:lnTo>
                  <a:pt x="866" y="6"/>
                </a:lnTo>
                <a:lnTo>
                  <a:pt x="878" y="4"/>
                </a:lnTo>
                <a:lnTo>
                  <a:pt x="889" y="4"/>
                </a:lnTo>
                <a:lnTo>
                  <a:pt x="899" y="2"/>
                </a:lnTo>
                <a:lnTo>
                  <a:pt x="910" y="2"/>
                </a:lnTo>
                <a:lnTo>
                  <a:pt x="918" y="0"/>
                </a:lnTo>
                <a:lnTo>
                  <a:pt x="927" y="0"/>
                </a:lnTo>
                <a:lnTo>
                  <a:pt x="935" y="0"/>
                </a:lnTo>
                <a:lnTo>
                  <a:pt x="943" y="0"/>
                </a:lnTo>
                <a:lnTo>
                  <a:pt x="950" y="0"/>
                </a:lnTo>
                <a:lnTo>
                  <a:pt x="975" y="0"/>
                </a:lnTo>
                <a:lnTo>
                  <a:pt x="998" y="2"/>
                </a:lnTo>
                <a:lnTo>
                  <a:pt x="1022" y="4"/>
                </a:lnTo>
                <a:lnTo>
                  <a:pt x="1031" y="6"/>
                </a:lnTo>
                <a:lnTo>
                  <a:pt x="1041" y="8"/>
                </a:lnTo>
                <a:lnTo>
                  <a:pt x="1050" y="10"/>
                </a:lnTo>
                <a:lnTo>
                  <a:pt x="1060" y="12"/>
                </a:lnTo>
                <a:lnTo>
                  <a:pt x="1068" y="14"/>
                </a:lnTo>
                <a:lnTo>
                  <a:pt x="1075" y="16"/>
                </a:lnTo>
                <a:lnTo>
                  <a:pt x="1083" y="20"/>
                </a:lnTo>
                <a:lnTo>
                  <a:pt x="1089" y="22"/>
                </a:lnTo>
                <a:lnTo>
                  <a:pt x="1096" y="23"/>
                </a:lnTo>
                <a:lnTo>
                  <a:pt x="1102" y="27"/>
                </a:lnTo>
                <a:lnTo>
                  <a:pt x="1110" y="37"/>
                </a:lnTo>
                <a:lnTo>
                  <a:pt x="1119" y="46"/>
                </a:lnTo>
                <a:lnTo>
                  <a:pt x="1125" y="54"/>
                </a:lnTo>
                <a:lnTo>
                  <a:pt x="1131" y="64"/>
                </a:lnTo>
                <a:lnTo>
                  <a:pt x="1131" y="68"/>
                </a:lnTo>
                <a:lnTo>
                  <a:pt x="1133" y="71"/>
                </a:lnTo>
                <a:lnTo>
                  <a:pt x="1133" y="75"/>
                </a:lnTo>
                <a:lnTo>
                  <a:pt x="1133" y="79"/>
                </a:lnTo>
                <a:lnTo>
                  <a:pt x="1133" y="83"/>
                </a:lnTo>
                <a:lnTo>
                  <a:pt x="1133" y="87"/>
                </a:lnTo>
                <a:lnTo>
                  <a:pt x="1131" y="89"/>
                </a:lnTo>
                <a:lnTo>
                  <a:pt x="1129" y="93"/>
                </a:lnTo>
                <a:lnTo>
                  <a:pt x="1127" y="93"/>
                </a:lnTo>
                <a:lnTo>
                  <a:pt x="1125" y="94"/>
                </a:lnTo>
                <a:lnTo>
                  <a:pt x="1121" y="96"/>
                </a:lnTo>
                <a:lnTo>
                  <a:pt x="1117" y="98"/>
                </a:lnTo>
                <a:lnTo>
                  <a:pt x="1112" y="100"/>
                </a:lnTo>
                <a:lnTo>
                  <a:pt x="1106" y="102"/>
                </a:lnTo>
                <a:lnTo>
                  <a:pt x="1100" y="104"/>
                </a:lnTo>
                <a:lnTo>
                  <a:pt x="1093" y="106"/>
                </a:lnTo>
                <a:lnTo>
                  <a:pt x="1085" y="108"/>
                </a:lnTo>
                <a:lnTo>
                  <a:pt x="1075" y="112"/>
                </a:lnTo>
                <a:lnTo>
                  <a:pt x="1066" y="114"/>
                </a:lnTo>
                <a:lnTo>
                  <a:pt x="1054" y="116"/>
                </a:lnTo>
                <a:lnTo>
                  <a:pt x="1045" y="119"/>
                </a:lnTo>
                <a:lnTo>
                  <a:pt x="1031" y="123"/>
                </a:lnTo>
                <a:lnTo>
                  <a:pt x="1018" y="125"/>
                </a:lnTo>
                <a:lnTo>
                  <a:pt x="1004" y="129"/>
                </a:lnTo>
                <a:lnTo>
                  <a:pt x="991" y="133"/>
                </a:lnTo>
                <a:lnTo>
                  <a:pt x="975" y="137"/>
                </a:lnTo>
                <a:lnTo>
                  <a:pt x="958" y="139"/>
                </a:lnTo>
                <a:lnTo>
                  <a:pt x="941" y="142"/>
                </a:lnTo>
                <a:lnTo>
                  <a:pt x="924" y="146"/>
                </a:lnTo>
                <a:lnTo>
                  <a:pt x="904" y="150"/>
                </a:lnTo>
                <a:lnTo>
                  <a:pt x="885" y="156"/>
                </a:lnTo>
                <a:lnTo>
                  <a:pt x="866" y="160"/>
                </a:lnTo>
                <a:lnTo>
                  <a:pt x="845" y="164"/>
                </a:lnTo>
                <a:lnTo>
                  <a:pt x="822" y="167"/>
                </a:lnTo>
                <a:lnTo>
                  <a:pt x="799" y="173"/>
                </a:lnTo>
                <a:lnTo>
                  <a:pt x="776" y="177"/>
                </a:lnTo>
                <a:lnTo>
                  <a:pt x="753" y="181"/>
                </a:lnTo>
                <a:lnTo>
                  <a:pt x="728" y="187"/>
                </a:lnTo>
                <a:lnTo>
                  <a:pt x="701" y="190"/>
                </a:lnTo>
                <a:lnTo>
                  <a:pt x="674" y="1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28"/>
          <p:cNvSpPr/>
          <p:nvPr/>
        </p:nvSpPr>
        <p:spPr>
          <a:xfrm>
            <a:off x="5477040" y="3997440"/>
            <a:ext cx="457200" cy="925560"/>
          </a:xfrm>
          <a:custGeom>
            <a:avLst/>
            <a:gdLst/>
            <a:ahLst/>
            <a:rect l="l" t="t" r="r" b="b"/>
            <a:pathLst>
              <a:path w="576" h="1167">
                <a:moveTo>
                  <a:pt x="430" y="601"/>
                </a:moveTo>
                <a:lnTo>
                  <a:pt x="421" y="637"/>
                </a:lnTo>
                <a:lnTo>
                  <a:pt x="411" y="670"/>
                </a:lnTo>
                <a:lnTo>
                  <a:pt x="402" y="703"/>
                </a:lnTo>
                <a:lnTo>
                  <a:pt x="392" y="735"/>
                </a:lnTo>
                <a:lnTo>
                  <a:pt x="382" y="766"/>
                </a:lnTo>
                <a:lnTo>
                  <a:pt x="373" y="795"/>
                </a:lnTo>
                <a:lnTo>
                  <a:pt x="365" y="824"/>
                </a:lnTo>
                <a:lnTo>
                  <a:pt x="355" y="851"/>
                </a:lnTo>
                <a:lnTo>
                  <a:pt x="348" y="875"/>
                </a:lnTo>
                <a:lnTo>
                  <a:pt x="340" y="900"/>
                </a:lnTo>
                <a:lnTo>
                  <a:pt x="332" y="923"/>
                </a:lnTo>
                <a:lnTo>
                  <a:pt x="325" y="946"/>
                </a:lnTo>
                <a:lnTo>
                  <a:pt x="317" y="968"/>
                </a:lnTo>
                <a:lnTo>
                  <a:pt x="311" y="989"/>
                </a:lnTo>
                <a:lnTo>
                  <a:pt x="304" y="1008"/>
                </a:lnTo>
                <a:lnTo>
                  <a:pt x="298" y="1025"/>
                </a:lnTo>
                <a:lnTo>
                  <a:pt x="290" y="1042"/>
                </a:lnTo>
                <a:lnTo>
                  <a:pt x="284" y="1058"/>
                </a:lnTo>
                <a:lnTo>
                  <a:pt x="279" y="1073"/>
                </a:lnTo>
                <a:lnTo>
                  <a:pt x="273" y="1087"/>
                </a:lnTo>
                <a:lnTo>
                  <a:pt x="267" y="1098"/>
                </a:lnTo>
                <a:lnTo>
                  <a:pt x="261" y="1110"/>
                </a:lnTo>
                <a:lnTo>
                  <a:pt x="258" y="1121"/>
                </a:lnTo>
                <a:lnTo>
                  <a:pt x="252" y="1129"/>
                </a:lnTo>
                <a:lnTo>
                  <a:pt x="248" y="1138"/>
                </a:lnTo>
                <a:lnTo>
                  <a:pt x="244" y="1144"/>
                </a:lnTo>
                <a:lnTo>
                  <a:pt x="240" y="1150"/>
                </a:lnTo>
                <a:lnTo>
                  <a:pt x="236" y="1156"/>
                </a:lnTo>
                <a:lnTo>
                  <a:pt x="233" y="1160"/>
                </a:lnTo>
                <a:lnTo>
                  <a:pt x="229" y="1161"/>
                </a:lnTo>
                <a:lnTo>
                  <a:pt x="227" y="1163"/>
                </a:lnTo>
                <a:lnTo>
                  <a:pt x="225" y="1163"/>
                </a:lnTo>
                <a:lnTo>
                  <a:pt x="215" y="1165"/>
                </a:lnTo>
                <a:lnTo>
                  <a:pt x="208" y="1167"/>
                </a:lnTo>
                <a:lnTo>
                  <a:pt x="200" y="1165"/>
                </a:lnTo>
                <a:lnTo>
                  <a:pt x="192" y="1163"/>
                </a:lnTo>
                <a:lnTo>
                  <a:pt x="185" y="1161"/>
                </a:lnTo>
                <a:lnTo>
                  <a:pt x="177" y="1158"/>
                </a:lnTo>
                <a:lnTo>
                  <a:pt x="169" y="1152"/>
                </a:lnTo>
                <a:lnTo>
                  <a:pt x="160" y="1144"/>
                </a:lnTo>
                <a:lnTo>
                  <a:pt x="152" y="1137"/>
                </a:lnTo>
                <a:lnTo>
                  <a:pt x="142" y="1127"/>
                </a:lnTo>
                <a:lnTo>
                  <a:pt x="135" y="1117"/>
                </a:lnTo>
                <a:lnTo>
                  <a:pt x="125" y="1106"/>
                </a:lnTo>
                <a:lnTo>
                  <a:pt x="116" y="1092"/>
                </a:lnTo>
                <a:lnTo>
                  <a:pt x="106" y="1079"/>
                </a:lnTo>
                <a:lnTo>
                  <a:pt x="96" y="1064"/>
                </a:lnTo>
                <a:lnTo>
                  <a:pt x="87" y="1046"/>
                </a:lnTo>
                <a:lnTo>
                  <a:pt x="73" y="1029"/>
                </a:lnTo>
                <a:lnTo>
                  <a:pt x="64" y="1014"/>
                </a:lnTo>
                <a:lnTo>
                  <a:pt x="52" y="998"/>
                </a:lnTo>
                <a:lnTo>
                  <a:pt x="43" y="985"/>
                </a:lnTo>
                <a:lnTo>
                  <a:pt x="35" y="971"/>
                </a:lnTo>
                <a:lnTo>
                  <a:pt x="27" y="958"/>
                </a:lnTo>
                <a:lnTo>
                  <a:pt x="20" y="946"/>
                </a:lnTo>
                <a:lnTo>
                  <a:pt x="14" y="935"/>
                </a:lnTo>
                <a:lnTo>
                  <a:pt x="10" y="923"/>
                </a:lnTo>
                <a:lnTo>
                  <a:pt x="6" y="914"/>
                </a:lnTo>
                <a:lnTo>
                  <a:pt x="4" y="904"/>
                </a:lnTo>
                <a:lnTo>
                  <a:pt x="2" y="895"/>
                </a:lnTo>
                <a:lnTo>
                  <a:pt x="0" y="887"/>
                </a:lnTo>
                <a:lnTo>
                  <a:pt x="0" y="879"/>
                </a:lnTo>
                <a:lnTo>
                  <a:pt x="2" y="870"/>
                </a:lnTo>
                <a:lnTo>
                  <a:pt x="4" y="864"/>
                </a:lnTo>
                <a:lnTo>
                  <a:pt x="4" y="856"/>
                </a:lnTo>
                <a:lnTo>
                  <a:pt x="4" y="851"/>
                </a:lnTo>
                <a:lnTo>
                  <a:pt x="6" y="845"/>
                </a:lnTo>
                <a:lnTo>
                  <a:pt x="6" y="839"/>
                </a:lnTo>
                <a:lnTo>
                  <a:pt x="8" y="833"/>
                </a:lnTo>
                <a:lnTo>
                  <a:pt x="10" y="829"/>
                </a:lnTo>
                <a:lnTo>
                  <a:pt x="12" y="827"/>
                </a:lnTo>
                <a:lnTo>
                  <a:pt x="14" y="824"/>
                </a:lnTo>
                <a:lnTo>
                  <a:pt x="18" y="822"/>
                </a:lnTo>
                <a:lnTo>
                  <a:pt x="20" y="820"/>
                </a:lnTo>
                <a:lnTo>
                  <a:pt x="23" y="820"/>
                </a:lnTo>
                <a:lnTo>
                  <a:pt x="27" y="820"/>
                </a:lnTo>
                <a:lnTo>
                  <a:pt x="31" y="820"/>
                </a:lnTo>
                <a:lnTo>
                  <a:pt x="35" y="820"/>
                </a:lnTo>
                <a:lnTo>
                  <a:pt x="41" y="822"/>
                </a:lnTo>
                <a:lnTo>
                  <a:pt x="45" y="824"/>
                </a:lnTo>
                <a:lnTo>
                  <a:pt x="50" y="826"/>
                </a:lnTo>
                <a:lnTo>
                  <a:pt x="56" y="827"/>
                </a:lnTo>
                <a:lnTo>
                  <a:pt x="60" y="829"/>
                </a:lnTo>
                <a:lnTo>
                  <a:pt x="66" y="829"/>
                </a:lnTo>
                <a:lnTo>
                  <a:pt x="75" y="829"/>
                </a:lnTo>
                <a:lnTo>
                  <a:pt x="85" y="827"/>
                </a:lnTo>
                <a:lnTo>
                  <a:pt x="92" y="824"/>
                </a:lnTo>
                <a:lnTo>
                  <a:pt x="100" y="820"/>
                </a:lnTo>
                <a:lnTo>
                  <a:pt x="108" y="816"/>
                </a:lnTo>
                <a:lnTo>
                  <a:pt x="114" y="810"/>
                </a:lnTo>
                <a:lnTo>
                  <a:pt x="116" y="808"/>
                </a:lnTo>
                <a:lnTo>
                  <a:pt x="117" y="806"/>
                </a:lnTo>
                <a:lnTo>
                  <a:pt x="119" y="804"/>
                </a:lnTo>
                <a:lnTo>
                  <a:pt x="121" y="801"/>
                </a:lnTo>
                <a:lnTo>
                  <a:pt x="125" y="797"/>
                </a:lnTo>
                <a:lnTo>
                  <a:pt x="127" y="791"/>
                </a:lnTo>
                <a:lnTo>
                  <a:pt x="131" y="785"/>
                </a:lnTo>
                <a:lnTo>
                  <a:pt x="135" y="779"/>
                </a:lnTo>
                <a:lnTo>
                  <a:pt x="139" y="772"/>
                </a:lnTo>
                <a:lnTo>
                  <a:pt x="144" y="764"/>
                </a:lnTo>
                <a:lnTo>
                  <a:pt x="148" y="755"/>
                </a:lnTo>
                <a:lnTo>
                  <a:pt x="154" y="745"/>
                </a:lnTo>
                <a:lnTo>
                  <a:pt x="160" y="735"/>
                </a:lnTo>
                <a:lnTo>
                  <a:pt x="165" y="724"/>
                </a:lnTo>
                <a:lnTo>
                  <a:pt x="171" y="712"/>
                </a:lnTo>
                <a:lnTo>
                  <a:pt x="179" y="701"/>
                </a:lnTo>
                <a:lnTo>
                  <a:pt x="185" y="687"/>
                </a:lnTo>
                <a:lnTo>
                  <a:pt x="192" y="674"/>
                </a:lnTo>
                <a:lnTo>
                  <a:pt x="200" y="659"/>
                </a:lnTo>
                <a:lnTo>
                  <a:pt x="208" y="643"/>
                </a:lnTo>
                <a:lnTo>
                  <a:pt x="217" y="626"/>
                </a:lnTo>
                <a:lnTo>
                  <a:pt x="225" y="609"/>
                </a:lnTo>
                <a:lnTo>
                  <a:pt x="235" y="591"/>
                </a:lnTo>
                <a:lnTo>
                  <a:pt x="244" y="572"/>
                </a:lnTo>
                <a:lnTo>
                  <a:pt x="254" y="553"/>
                </a:lnTo>
                <a:lnTo>
                  <a:pt x="265" y="532"/>
                </a:lnTo>
                <a:lnTo>
                  <a:pt x="275" y="511"/>
                </a:lnTo>
                <a:lnTo>
                  <a:pt x="286" y="490"/>
                </a:lnTo>
                <a:lnTo>
                  <a:pt x="298" y="467"/>
                </a:lnTo>
                <a:lnTo>
                  <a:pt x="309" y="444"/>
                </a:lnTo>
                <a:lnTo>
                  <a:pt x="321" y="419"/>
                </a:lnTo>
                <a:lnTo>
                  <a:pt x="334" y="394"/>
                </a:lnTo>
                <a:lnTo>
                  <a:pt x="346" y="367"/>
                </a:lnTo>
                <a:lnTo>
                  <a:pt x="355" y="342"/>
                </a:lnTo>
                <a:lnTo>
                  <a:pt x="367" y="319"/>
                </a:lnTo>
                <a:lnTo>
                  <a:pt x="378" y="296"/>
                </a:lnTo>
                <a:lnTo>
                  <a:pt x="388" y="275"/>
                </a:lnTo>
                <a:lnTo>
                  <a:pt x="398" y="254"/>
                </a:lnTo>
                <a:lnTo>
                  <a:pt x="409" y="232"/>
                </a:lnTo>
                <a:lnTo>
                  <a:pt x="419" y="213"/>
                </a:lnTo>
                <a:lnTo>
                  <a:pt x="426" y="194"/>
                </a:lnTo>
                <a:lnTo>
                  <a:pt x="436" y="177"/>
                </a:lnTo>
                <a:lnTo>
                  <a:pt x="446" y="160"/>
                </a:lnTo>
                <a:lnTo>
                  <a:pt x="453" y="144"/>
                </a:lnTo>
                <a:lnTo>
                  <a:pt x="463" y="129"/>
                </a:lnTo>
                <a:lnTo>
                  <a:pt x="471" y="113"/>
                </a:lnTo>
                <a:lnTo>
                  <a:pt x="478" y="100"/>
                </a:lnTo>
                <a:lnTo>
                  <a:pt x="486" y="88"/>
                </a:lnTo>
                <a:lnTo>
                  <a:pt x="494" y="77"/>
                </a:lnTo>
                <a:lnTo>
                  <a:pt x="501" y="65"/>
                </a:lnTo>
                <a:lnTo>
                  <a:pt x="507" y="56"/>
                </a:lnTo>
                <a:lnTo>
                  <a:pt x="515" y="46"/>
                </a:lnTo>
                <a:lnTo>
                  <a:pt x="521" y="37"/>
                </a:lnTo>
                <a:lnTo>
                  <a:pt x="526" y="31"/>
                </a:lnTo>
                <a:lnTo>
                  <a:pt x="532" y="23"/>
                </a:lnTo>
                <a:lnTo>
                  <a:pt x="538" y="17"/>
                </a:lnTo>
                <a:lnTo>
                  <a:pt x="542" y="12"/>
                </a:lnTo>
                <a:lnTo>
                  <a:pt x="547" y="8"/>
                </a:lnTo>
                <a:lnTo>
                  <a:pt x="551" y="4"/>
                </a:lnTo>
                <a:lnTo>
                  <a:pt x="555" y="2"/>
                </a:lnTo>
                <a:lnTo>
                  <a:pt x="559" y="0"/>
                </a:lnTo>
                <a:lnTo>
                  <a:pt x="563" y="0"/>
                </a:lnTo>
                <a:lnTo>
                  <a:pt x="565" y="0"/>
                </a:lnTo>
                <a:lnTo>
                  <a:pt x="569" y="0"/>
                </a:lnTo>
                <a:lnTo>
                  <a:pt x="570" y="2"/>
                </a:lnTo>
                <a:lnTo>
                  <a:pt x="572" y="6"/>
                </a:lnTo>
                <a:lnTo>
                  <a:pt x="574" y="10"/>
                </a:lnTo>
                <a:lnTo>
                  <a:pt x="574" y="14"/>
                </a:lnTo>
                <a:lnTo>
                  <a:pt x="576" y="21"/>
                </a:lnTo>
                <a:lnTo>
                  <a:pt x="576" y="29"/>
                </a:lnTo>
                <a:lnTo>
                  <a:pt x="576" y="37"/>
                </a:lnTo>
                <a:lnTo>
                  <a:pt x="574" y="46"/>
                </a:lnTo>
                <a:lnTo>
                  <a:pt x="574" y="58"/>
                </a:lnTo>
                <a:lnTo>
                  <a:pt x="572" y="69"/>
                </a:lnTo>
                <a:lnTo>
                  <a:pt x="570" y="83"/>
                </a:lnTo>
                <a:lnTo>
                  <a:pt x="569" y="96"/>
                </a:lnTo>
                <a:lnTo>
                  <a:pt x="567" y="112"/>
                </a:lnTo>
                <a:lnTo>
                  <a:pt x="563" y="127"/>
                </a:lnTo>
                <a:lnTo>
                  <a:pt x="559" y="146"/>
                </a:lnTo>
                <a:lnTo>
                  <a:pt x="555" y="163"/>
                </a:lnTo>
                <a:lnTo>
                  <a:pt x="551" y="183"/>
                </a:lnTo>
                <a:lnTo>
                  <a:pt x="545" y="204"/>
                </a:lnTo>
                <a:lnTo>
                  <a:pt x="540" y="225"/>
                </a:lnTo>
                <a:lnTo>
                  <a:pt x="534" y="248"/>
                </a:lnTo>
                <a:lnTo>
                  <a:pt x="528" y="271"/>
                </a:lnTo>
                <a:lnTo>
                  <a:pt x="522" y="296"/>
                </a:lnTo>
                <a:lnTo>
                  <a:pt x="515" y="323"/>
                </a:lnTo>
                <a:lnTo>
                  <a:pt x="507" y="350"/>
                </a:lnTo>
                <a:lnTo>
                  <a:pt x="499" y="376"/>
                </a:lnTo>
                <a:lnTo>
                  <a:pt x="490" y="407"/>
                </a:lnTo>
                <a:lnTo>
                  <a:pt x="482" y="436"/>
                </a:lnTo>
                <a:lnTo>
                  <a:pt x="473" y="467"/>
                </a:lnTo>
                <a:lnTo>
                  <a:pt x="463" y="499"/>
                </a:lnTo>
                <a:lnTo>
                  <a:pt x="451" y="532"/>
                </a:lnTo>
                <a:lnTo>
                  <a:pt x="442" y="566"/>
                </a:lnTo>
                <a:lnTo>
                  <a:pt x="430" y="6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29"/>
          <p:cNvSpPr/>
          <p:nvPr/>
        </p:nvSpPr>
        <p:spPr>
          <a:xfrm>
            <a:off x="5475240" y="3654360"/>
            <a:ext cx="301680" cy="279360"/>
          </a:xfrm>
          <a:custGeom>
            <a:avLst/>
            <a:gdLst/>
            <a:ahLst/>
            <a:rect l="l" t="t" r="r" b="b"/>
            <a:pathLst>
              <a:path w="380" h="353">
                <a:moveTo>
                  <a:pt x="323" y="353"/>
                </a:moveTo>
                <a:lnTo>
                  <a:pt x="319" y="353"/>
                </a:lnTo>
                <a:lnTo>
                  <a:pt x="315" y="352"/>
                </a:lnTo>
                <a:lnTo>
                  <a:pt x="311" y="350"/>
                </a:lnTo>
                <a:lnTo>
                  <a:pt x="306" y="348"/>
                </a:lnTo>
                <a:lnTo>
                  <a:pt x="300" y="344"/>
                </a:lnTo>
                <a:lnTo>
                  <a:pt x="294" y="338"/>
                </a:lnTo>
                <a:lnTo>
                  <a:pt x="286" y="332"/>
                </a:lnTo>
                <a:lnTo>
                  <a:pt x="279" y="327"/>
                </a:lnTo>
                <a:lnTo>
                  <a:pt x="269" y="319"/>
                </a:lnTo>
                <a:lnTo>
                  <a:pt x="260" y="311"/>
                </a:lnTo>
                <a:lnTo>
                  <a:pt x="250" y="304"/>
                </a:lnTo>
                <a:lnTo>
                  <a:pt x="238" y="294"/>
                </a:lnTo>
                <a:lnTo>
                  <a:pt x="227" y="284"/>
                </a:lnTo>
                <a:lnTo>
                  <a:pt x="213" y="273"/>
                </a:lnTo>
                <a:lnTo>
                  <a:pt x="200" y="261"/>
                </a:lnTo>
                <a:lnTo>
                  <a:pt x="185" y="250"/>
                </a:lnTo>
                <a:lnTo>
                  <a:pt x="167" y="236"/>
                </a:lnTo>
                <a:lnTo>
                  <a:pt x="150" y="225"/>
                </a:lnTo>
                <a:lnTo>
                  <a:pt x="135" y="213"/>
                </a:lnTo>
                <a:lnTo>
                  <a:pt x="119" y="202"/>
                </a:lnTo>
                <a:lnTo>
                  <a:pt x="106" y="192"/>
                </a:lnTo>
                <a:lnTo>
                  <a:pt x="94" y="181"/>
                </a:lnTo>
                <a:lnTo>
                  <a:pt x="83" y="171"/>
                </a:lnTo>
                <a:lnTo>
                  <a:pt x="71" y="162"/>
                </a:lnTo>
                <a:lnTo>
                  <a:pt x="62" y="152"/>
                </a:lnTo>
                <a:lnTo>
                  <a:pt x="52" y="142"/>
                </a:lnTo>
                <a:lnTo>
                  <a:pt x="45" y="133"/>
                </a:lnTo>
                <a:lnTo>
                  <a:pt x="37" y="125"/>
                </a:lnTo>
                <a:lnTo>
                  <a:pt x="31" y="115"/>
                </a:lnTo>
                <a:lnTo>
                  <a:pt x="27" y="108"/>
                </a:lnTo>
                <a:lnTo>
                  <a:pt x="23" y="100"/>
                </a:lnTo>
                <a:lnTo>
                  <a:pt x="20" y="92"/>
                </a:lnTo>
                <a:lnTo>
                  <a:pt x="14" y="83"/>
                </a:lnTo>
                <a:lnTo>
                  <a:pt x="10" y="73"/>
                </a:lnTo>
                <a:lnTo>
                  <a:pt x="6" y="64"/>
                </a:lnTo>
                <a:lnTo>
                  <a:pt x="2" y="54"/>
                </a:lnTo>
                <a:lnTo>
                  <a:pt x="0" y="46"/>
                </a:lnTo>
                <a:lnTo>
                  <a:pt x="0" y="39"/>
                </a:lnTo>
                <a:lnTo>
                  <a:pt x="0" y="35"/>
                </a:lnTo>
                <a:lnTo>
                  <a:pt x="2" y="33"/>
                </a:lnTo>
                <a:lnTo>
                  <a:pt x="4" y="29"/>
                </a:lnTo>
                <a:lnTo>
                  <a:pt x="6" y="27"/>
                </a:lnTo>
                <a:lnTo>
                  <a:pt x="6" y="25"/>
                </a:lnTo>
                <a:lnTo>
                  <a:pt x="6" y="21"/>
                </a:lnTo>
                <a:lnTo>
                  <a:pt x="8" y="20"/>
                </a:lnTo>
                <a:lnTo>
                  <a:pt x="12" y="18"/>
                </a:lnTo>
                <a:lnTo>
                  <a:pt x="14" y="16"/>
                </a:lnTo>
                <a:lnTo>
                  <a:pt x="18" y="14"/>
                </a:lnTo>
                <a:lnTo>
                  <a:pt x="23" y="12"/>
                </a:lnTo>
                <a:lnTo>
                  <a:pt x="27" y="10"/>
                </a:lnTo>
                <a:lnTo>
                  <a:pt x="35" y="8"/>
                </a:lnTo>
                <a:lnTo>
                  <a:pt x="41" y="6"/>
                </a:lnTo>
                <a:lnTo>
                  <a:pt x="48" y="4"/>
                </a:lnTo>
                <a:lnTo>
                  <a:pt x="58" y="2"/>
                </a:lnTo>
                <a:lnTo>
                  <a:pt x="68" y="2"/>
                </a:lnTo>
                <a:lnTo>
                  <a:pt x="79" y="2"/>
                </a:lnTo>
                <a:lnTo>
                  <a:pt x="91" y="0"/>
                </a:lnTo>
                <a:lnTo>
                  <a:pt x="102" y="0"/>
                </a:lnTo>
                <a:lnTo>
                  <a:pt x="112" y="0"/>
                </a:lnTo>
                <a:lnTo>
                  <a:pt x="123" y="2"/>
                </a:lnTo>
                <a:lnTo>
                  <a:pt x="135" y="4"/>
                </a:lnTo>
                <a:lnTo>
                  <a:pt x="146" y="6"/>
                </a:lnTo>
                <a:lnTo>
                  <a:pt x="158" y="8"/>
                </a:lnTo>
                <a:lnTo>
                  <a:pt x="169" y="12"/>
                </a:lnTo>
                <a:lnTo>
                  <a:pt x="181" y="16"/>
                </a:lnTo>
                <a:lnTo>
                  <a:pt x="194" y="20"/>
                </a:lnTo>
                <a:lnTo>
                  <a:pt x="206" y="25"/>
                </a:lnTo>
                <a:lnTo>
                  <a:pt x="217" y="31"/>
                </a:lnTo>
                <a:lnTo>
                  <a:pt x="231" y="37"/>
                </a:lnTo>
                <a:lnTo>
                  <a:pt x="244" y="44"/>
                </a:lnTo>
                <a:lnTo>
                  <a:pt x="256" y="52"/>
                </a:lnTo>
                <a:lnTo>
                  <a:pt x="269" y="62"/>
                </a:lnTo>
                <a:lnTo>
                  <a:pt x="283" y="69"/>
                </a:lnTo>
                <a:lnTo>
                  <a:pt x="294" y="79"/>
                </a:lnTo>
                <a:lnTo>
                  <a:pt x="308" y="89"/>
                </a:lnTo>
                <a:lnTo>
                  <a:pt x="319" y="100"/>
                </a:lnTo>
                <a:lnTo>
                  <a:pt x="329" y="110"/>
                </a:lnTo>
                <a:lnTo>
                  <a:pt x="338" y="119"/>
                </a:lnTo>
                <a:lnTo>
                  <a:pt x="346" y="129"/>
                </a:lnTo>
                <a:lnTo>
                  <a:pt x="354" y="139"/>
                </a:lnTo>
                <a:lnTo>
                  <a:pt x="361" y="150"/>
                </a:lnTo>
                <a:lnTo>
                  <a:pt x="367" y="160"/>
                </a:lnTo>
                <a:lnTo>
                  <a:pt x="371" y="169"/>
                </a:lnTo>
                <a:lnTo>
                  <a:pt x="375" y="181"/>
                </a:lnTo>
                <a:lnTo>
                  <a:pt x="379" y="192"/>
                </a:lnTo>
                <a:lnTo>
                  <a:pt x="379" y="202"/>
                </a:lnTo>
                <a:lnTo>
                  <a:pt x="380" y="213"/>
                </a:lnTo>
                <a:lnTo>
                  <a:pt x="380" y="225"/>
                </a:lnTo>
                <a:lnTo>
                  <a:pt x="379" y="236"/>
                </a:lnTo>
                <a:lnTo>
                  <a:pt x="377" y="250"/>
                </a:lnTo>
                <a:lnTo>
                  <a:pt x="375" y="261"/>
                </a:lnTo>
                <a:lnTo>
                  <a:pt x="371" y="273"/>
                </a:lnTo>
                <a:lnTo>
                  <a:pt x="369" y="282"/>
                </a:lnTo>
                <a:lnTo>
                  <a:pt x="365" y="292"/>
                </a:lnTo>
                <a:lnTo>
                  <a:pt x="361" y="300"/>
                </a:lnTo>
                <a:lnTo>
                  <a:pt x="357" y="307"/>
                </a:lnTo>
                <a:lnTo>
                  <a:pt x="354" y="315"/>
                </a:lnTo>
                <a:lnTo>
                  <a:pt x="350" y="321"/>
                </a:lnTo>
                <a:lnTo>
                  <a:pt x="346" y="327"/>
                </a:lnTo>
                <a:lnTo>
                  <a:pt x="342" y="332"/>
                </a:lnTo>
                <a:lnTo>
                  <a:pt x="338" y="336"/>
                </a:lnTo>
                <a:lnTo>
                  <a:pt x="334" y="342"/>
                </a:lnTo>
                <a:lnTo>
                  <a:pt x="329" y="348"/>
                </a:lnTo>
                <a:lnTo>
                  <a:pt x="323" y="3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130"/>
          <p:cNvSpPr/>
          <p:nvPr/>
        </p:nvSpPr>
        <p:spPr>
          <a:xfrm>
            <a:off x="5675400" y="3156120"/>
            <a:ext cx="353880" cy="293400"/>
          </a:xfrm>
          <a:custGeom>
            <a:avLst/>
            <a:gdLst/>
            <a:ahLst/>
            <a:rect l="l" t="t" r="r" b="b"/>
            <a:pathLst>
              <a:path w="445" h="370">
                <a:moveTo>
                  <a:pt x="0" y="27"/>
                </a:moveTo>
                <a:lnTo>
                  <a:pt x="6" y="21"/>
                </a:lnTo>
                <a:lnTo>
                  <a:pt x="9" y="17"/>
                </a:lnTo>
                <a:lnTo>
                  <a:pt x="17" y="13"/>
                </a:lnTo>
                <a:lnTo>
                  <a:pt x="23" y="9"/>
                </a:lnTo>
                <a:lnTo>
                  <a:pt x="32" y="5"/>
                </a:lnTo>
                <a:lnTo>
                  <a:pt x="36" y="3"/>
                </a:lnTo>
                <a:lnTo>
                  <a:pt x="42" y="2"/>
                </a:lnTo>
                <a:lnTo>
                  <a:pt x="48" y="2"/>
                </a:lnTo>
                <a:lnTo>
                  <a:pt x="54" y="2"/>
                </a:lnTo>
                <a:lnTo>
                  <a:pt x="61" y="0"/>
                </a:lnTo>
                <a:lnTo>
                  <a:pt x="69" y="0"/>
                </a:lnTo>
                <a:lnTo>
                  <a:pt x="84" y="0"/>
                </a:lnTo>
                <a:lnTo>
                  <a:pt x="100" y="0"/>
                </a:lnTo>
                <a:lnTo>
                  <a:pt x="117" y="2"/>
                </a:lnTo>
                <a:lnTo>
                  <a:pt x="134" y="2"/>
                </a:lnTo>
                <a:lnTo>
                  <a:pt x="153" y="3"/>
                </a:lnTo>
                <a:lnTo>
                  <a:pt x="173" y="5"/>
                </a:lnTo>
                <a:lnTo>
                  <a:pt x="184" y="7"/>
                </a:lnTo>
                <a:lnTo>
                  <a:pt x="196" y="9"/>
                </a:lnTo>
                <a:lnTo>
                  <a:pt x="207" y="11"/>
                </a:lnTo>
                <a:lnTo>
                  <a:pt x="221" y="13"/>
                </a:lnTo>
                <a:lnTo>
                  <a:pt x="230" y="17"/>
                </a:lnTo>
                <a:lnTo>
                  <a:pt x="240" y="19"/>
                </a:lnTo>
                <a:lnTo>
                  <a:pt x="251" y="23"/>
                </a:lnTo>
                <a:lnTo>
                  <a:pt x="261" y="28"/>
                </a:lnTo>
                <a:lnTo>
                  <a:pt x="282" y="38"/>
                </a:lnTo>
                <a:lnTo>
                  <a:pt x="303" y="50"/>
                </a:lnTo>
                <a:lnTo>
                  <a:pt x="322" y="63"/>
                </a:lnTo>
                <a:lnTo>
                  <a:pt x="343" y="76"/>
                </a:lnTo>
                <a:lnTo>
                  <a:pt x="364" y="90"/>
                </a:lnTo>
                <a:lnTo>
                  <a:pt x="386" y="105"/>
                </a:lnTo>
                <a:lnTo>
                  <a:pt x="395" y="113"/>
                </a:lnTo>
                <a:lnTo>
                  <a:pt x="403" y="121"/>
                </a:lnTo>
                <a:lnTo>
                  <a:pt x="411" y="128"/>
                </a:lnTo>
                <a:lnTo>
                  <a:pt x="418" y="138"/>
                </a:lnTo>
                <a:lnTo>
                  <a:pt x="424" y="146"/>
                </a:lnTo>
                <a:lnTo>
                  <a:pt x="430" y="155"/>
                </a:lnTo>
                <a:lnTo>
                  <a:pt x="434" y="165"/>
                </a:lnTo>
                <a:lnTo>
                  <a:pt x="437" y="174"/>
                </a:lnTo>
                <a:lnTo>
                  <a:pt x="441" y="184"/>
                </a:lnTo>
                <a:lnTo>
                  <a:pt x="443" y="194"/>
                </a:lnTo>
                <a:lnTo>
                  <a:pt x="443" y="205"/>
                </a:lnTo>
                <a:lnTo>
                  <a:pt x="445" y="215"/>
                </a:lnTo>
                <a:lnTo>
                  <a:pt x="445" y="226"/>
                </a:lnTo>
                <a:lnTo>
                  <a:pt x="443" y="238"/>
                </a:lnTo>
                <a:lnTo>
                  <a:pt x="441" y="249"/>
                </a:lnTo>
                <a:lnTo>
                  <a:pt x="439" y="263"/>
                </a:lnTo>
                <a:lnTo>
                  <a:pt x="437" y="274"/>
                </a:lnTo>
                <a:lnTo>
                  <a:pt x="436" y="286"/>
                </a:lnTo>
                <a:lnTo>
                  <a:pt x="432" y="295"/>
                </a:lnTo>
                <a:lnTo>
                  <a:pt x="430" y="305"/>
                </a:lnTo>
                <a:lnTo>
                  <a:pt x="426" y="314"/>
                </a:lnTo>
                <a:lnTo>
                  <a:pt x="424" y="324"/>
                </a:lnTo>
                <a:lnTo>
                  <a:pt x="422" y="332"/>
                </a:lnTo>
                <a:lnTo>
                  <a:pt x="418" y="339"/>
                </a:lnTo>
                <a:lnTo>
                  <a:pt x="416" y="345"/>
                </a:lnTo>
                <a:lnTo>
                  <a:pt x="414" y="351"/>
                </a:lnTo>
                <a:lnTo>
                  <a:pt x="411" y="355"/>
                </a:lnTo>
                <a:lnTo>
                  <a:pt x="409" y="359"/>
                </a:lnTo>
                <a:lnTo>
                  <a:pt x="407" y="362"/>
                </a:lnTo>
                <a:lnTo>
                  <a:pt x="403" y="364"/>
                </a:lnTo>
                <a:lnTo>
                  <a:pt x="401" y="366"/>
                </a:lnTo>
                <a:lnTo>
                  <a:pt x="399" y="366"/>
                </a:lnTo>
                <a:lnTo>
                  <a:pt x="395" y="368"/>
                </a:lnTo>
                <a:lnTo>
                  <a:pt x="391" y="370"/>
                </a:lnTo>
                <a:lnTo>
                  <a:pt x="386" y="370"/>
                </a:lnTo>
                <a:lnTo>
                  <a:pt x="380" y="370"/>
                </a:lnTo>
                <a:lnTo>
                  <a:pt x="374" y="368"/>
                </a:lnTo>
                <a:lnTo>
                  <a:pt x="366" y="366"/>
                </a:lnTo>
                <a:lnTo>
                  <a:pt x="359" y="362"/>
                </a:lnTo>
                <a:lnTo>
                  <a:pt x="349" y="359"/>
                </a:lnTo>
                <a:lnTo>
                  <a:pt x="341" y="355"/>
                </a:lnTo>
                <a:lnTo>
                  <a:pt x="330" y="349"/>
                </a:lnTo>
                <a:lnTo>
                  <a:pt x="320" y="343"/>
                </a:lnTo>
                <a:lnTo>
                  <a:pt x="309" y="336"/>
                </a:lnTo>
                <a:lnTo>
                  <a:pt x="297" y="328"/>
                </a:lnTo>
                <a:lnTo>
                  <a:pt x="286" y="320"/>
                </a:lnTo>
                <a:lnTo>
                  <a:pt x="274" y="311"/>
                </a:lnTo>
                <a:lnTo>
                  <a:pt x="261" y="301"/>
                </a:lnTo>
                <a:lnTo>
                  <a:pt x="230" y="282"/>
                </a:lnTo>
                <a:lnTo>
                  <a:pt x="201" y="261"/>
                </a:lnTo>
                <a:lnTo>
                  <a:pt x="174" y="241"/>
                </a:lnTo>
                <a:lnTo>
                  <a:pt x="161" y="232"/>
                </a:lnTo>
                <a:lnTo>
                  <a:pt x="150" y="220"/>
                </a:lnTo>
                <a:lnTo>
                  <a:pt x="136" y="211"/>
                </a:lnTo>
                <a:lnTo>
                  <a:pt x="125" y="199"/>
                </a:lnTo>
                <a:lnTo>
                  <a:pt x="115" y="190"/>
                </a:lnTo>
                <a:lnTo>
                  <a:pt x="103" y="178"/>
                </a:lnTo>
                <a:lnTo>
                  <a:pt x="94" y="167"/>
                </a:lnTo>
                <a:lnTo>
                  <a:pt x="84" y="155"/>
                </a:lnTo>
                <a:lnTo>
                  <a:pt x="77" y="144"/>
                </a:lnTo>
                <a:lnTo>
                  <a:pt x="69" y="132"/>
                </a:lnTo>
                <a:lnTo>
                  <a:pt x="54" y="113"/>
                </a:lnTo>
                <a:lnTo>
                  <a:pt x="40" y="94"/>
                </a:lnTo>
                <a:lnTo>
                  <a:pt x="29" y="78"/>
                </a:lnTo>
                <a:lnTo>
                  <a:pt x="19" y="63"/>
                </a:lnTo>
                <a:lnTo>
                  <a:pt x="15" y="57"/>
                </a:lnTo>
                <a:lnTo>
                  <a:pt x="11" y="51"/>
                </a:lnTo>
                <a:lnTo>
                  <a:pt x="7" y="46"/>
                </a:lnTo>
                <a:lnTo>
                  <a:pt x="4" y="42"/>
                </a:lnTo>
                <a:lnTo>
                  <a:pt x="2" y="36"/>
                </a:lnTo>
                <a:lnTo>
                  <a:pt x="0" y="32"/>
                </a:lnTo>
                <a:lnTo>
                  <a:pt x="0" y="28"/>
                </a:lnTo>
                <a:lnTo>
                  <a:pt x="0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潭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0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覀”与“早”略扁，“早”下横长而平稳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矩形 3"/>
          <p:cNvSpPr/>
          <p:nvPr/>
        </p:nvSpPr>
        <p:spPr>
          <a:xfrm>
            <a:off x="2158920" y="1868400"/>
            <a:ext cx="131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á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245"/>
          <p:cNvSpPr/>
          <p:nvPr/>
        </p:nvSpPr>
        <p:spPr>
          <a:xfrm>
            <a:off x="6751800" y="4130640"/>
            <a:ext cx="176040" cy="982800"/>
          </a:xfrm>
          <a:custGeom>
            <a:avLst/>
            <a:gdLst/>
            <a:ahLst/>
            <a:rect l="l" t="t" r="r" b="b"/>
            <a:pathLst>
              <a:path w="220" h="1236">
                <a:moveTo>
                  <a:pt x="193" y="190"/>
                </a:moveTo>
                <a:lnTo>
                  <a:pt x="192" y="192"/>
                </a:lnTo>
                <a:lnTo>
                  <a:pt x="192" y="198"/>
                </a:lnTo>
                <a:lnTo>
                  <a:pt x="190" y="201"/>
                </a:lnTo>
                <a:lnTo>
                  <a:pt x="188" y="207"/>
                </a:lnTo>
                <a:lnTo>
                  <a:pt x="188" y="213"/>
                </a:lnTo>
                <a:lnTo>
                  <a:pt x="188" y="219"/>
                </a:lnTo>
                <a:lnTo>
                  <a:pt x="186" y="226"/>
                </a:lnTo>
                <a:lnTo>
                  <a:pt x="186" y="234"/>
                </a:lnTo>
                <a:lnTo>
                  <a:pt x="184" y="242"/>
                </a:lnTo>
                <a:lnTo>
                  <a:pt x="184" y="251"/>
                </a:lnTo>
                <a:lnTo>
                  <a:pt x="184" y="259"/>
                </a:lnTo>
                <a:lnTo>
                  <a:pt x="182" y="269"/>
                </a:lnTo>
                <a:lnTo>
                  <a:pt x="182" y="280"/>
                </a:lnTo>
                <a:lnTo>
                  <a:pt x="182" y="290"/>
                </a:lnTo>
                <a:lnTo>
                  <a:pt x="182" y="301"/>
                </a:lnTo>
                <a:lnTo>
                  <a:pt x="182" y="315"/>
                </a:lnTo>
                <a:lnTo>
                  <a:pt x="180" y="326"/>
                </a:lnTo>
                <a:lnTo>
                  <a:pt x="180" y="340"/>
                </a:lnTo>
                <a:lnTo>
                  <a:pt x="180" y="353"/>
                </a:lnTo>
                <a:lnTo>
                  <a:pt x="180" y="368"/>
                </a:lnTo>
                <a:lnTo>
                  <a:pt x="180" y="382"/>
                </a:lnTo>
                <a:lnTo>
                  <a:pt x="180" y="397"/>
                </a:lnTo>
                <a:lnTo>
                  <a:pt x="180" y="413"/>
                </a:lnTo>
                <a:lnTo>
                  <a:pt x="180" y="430"/>
                </a:lnTo>
                <a:lnTo>
                  <a:pt x="180" y="447"/>
                </a:lnTo>
                <a:lnTo>
                  <a:pt x="180" y="464"/>
                </a:lnTo>
                <a:lnTo>
                  <a:pt x="180" y="482"/>
                </a:lnTo>
                <a:lnTo>
                  <a:pt x="180" y="501"/>
                </a:lnTo>
                <a:lnTo>
                  <a:pt x="180" y="520"/>
                </a:lnTo>
                <a:lnTo>
                  <a:pt x="180" y="541"/>
                </a:lnTo>
                <a:lnTo>
                  <a:pt x="180" y="560"/>
                </a:lnTo>
                <a:lnTo>
                  <a:pt x="180" y="582"/>
                </a:lnTo>
                <a:lnTo>
                  <a:pt x="180" y="624"/>
                </a:lnTo>
                <a:lnTo>
                  <a:pt x="178" y="664"/>
                </a:lnTo>
                <a:lnTo>
                  <a:pt x="178" y="702"/>
                </a:lnTo>
                <a:lnTo>
                  <a:pt x="178" y="739"/>
                </a:lnTo>
                <a:lnTo>
                  <a:pt x="176" y="775"/>
                </a:lnTo>
                <a:lnTo>
                  <a:pt x="174" y="810"/>
                </a:lnTo>
                <a:lnTo>
                  <a:pt x="172" y="844"/>
                </a:lnTo>
                <a:lnTo>
                  <a:pt x="170" y="875"/>
                </a:lnTo>
                <a:lnTo>
                  <a:pt x="169" y="906"/>
                </a:lnTo>
                <a:lnTo>
                  <a:pt x="167" y="935"/>
                </a:lnTo>
                <a:lnTo>
                  <a:pt x="165" y="963"/>
                </a:lnTo>
                <a:lnTo>
                  <a:pt x="163" y="988"/>
                </a:lnTo>
                <a:lnTo>
                  <a:pt x="161" y="1013"/>
                </a:lnTo>
                <a:lnTo>
                  <a:pt x="157" y="1038"/>
                </a:lnTo>
                <a:lnTo>
                  <a:pt x="155" y="1059"/>
                </a:lnTo>
                <a:lnTo>
                  <a:pt x="153" y="1081"/>
                </a:lnTo>
                <a:lnTo>
                  <a:pt x="149" y="1100"/>
                </a:lnTo>
                <a:lnTo>
                  <a:pt x="147" y="1117"/>
                </a:lnTo>
                <a:lnTo>
                  <a:pt x="144" y="1134"/>
                </a:lnTo>
                <a:lnTo>
                  <a:pt x="140" y="1150"/>
                </a:lnTo>
                <a:lnTo>
                  <a:pt x="138" y="1163"/>
                </a:lnTo>
                <a:lnTo>
                  <a:pt x="134" y="1177"/>
                </a:lnTo>
                <a:lnTo>
                  <a:pt x="130" y="1188"/>
                </a:lnTo>
                <a:lnTo>
                  <a:pt x="126" y="1198"/>
                </a:lnTo>
                <a:lnTo>
                  <a:pt x="122" y="1207"/>
                </a:lnTo>
                <a:lnTo>
                  <a:pt x="119" y="1215"/>
                </a:lnTo>
                <a:lnTo>
                  <a:pt x="115" y="1221"/>
                </a:lnTo>
                <a:lnTo>
                  <a:pt x="111" y="1226"/>
                </a:lnTo>
                <a:lnTo>
                  <a:pt x="107" y="1230"/>
                </a:lnTo>
                <a:lnTo>
                  <a:pt x="105" y="1232"/>
                </a:lnTo>
                <a:lnTo>
                  <a:pt x="101" y="1234"/>
                </a:lnTo>
                <a:lnTo>
                  <a:pt x="99" y="1236"/>
                </a:lnTo>
                <a:lnTo>
                  <a:pt x="96" y="1234"/>
                </a:lnTo>
                <a:lnTo>
                  <a:pt x="94" y="1232"/>
                </a:lnTo>
                <a:lnTo>
                  <a:pt x="90" y="1228"/>
                </a:lnTo>
                <a:lnTo>
                  <a:pt x="86" y="1225"/>
                </a:lnTo>
                <a:lnTo>
                  <a:pt x="82" y="1219"/>
                </a:lnTo>
                <a:lnTo>
                  <a:pt x="78" y="1211"/>
                </a:lnTo>
                <a:lnTo>
                  <a:pt x="74" y="1201"/>
                </a:lnTo>
                <a:lnTo>
                  <a:pt x="71" y="1192"/>
                </a:lnTo>
                <a:lnTo>
                  <a:pt x="65" y="1180"/>
                </a:lnTo>
                <a:lnTo>
                  <a:pt x="61" y="1169"/>
                </a:lnTo>
                <a:lnTo>
                  <a:pt x="57" y="1155"/>
                </a:lnTo>
                <a:lnTo>
                  <a:pt x="51" y="1140"/>
                </a:lnTo>
                <a:lnTo>
                  <a:pt x="48" y="1125"/>
                </a:lnTo>
                <a:lnTo>
                  <a:pt x="42" y="1107"/>
                </a:lnTo>
                <a:lnTo>
                  <a:pt x="36" y="1088"/>
                </a:lnTo>
                <a:lnTo>
                  <a:pt x="32" y="1069"/>
                </a:lnTo>
                <a:lnTo>
                  <a:pt x="30" y="1058"/>
                </a:lnTo>
                <a:lnTo>
                  <a:pt x="26" y="1046"/>
                </a:lnTo>
                <a:lnTo>
                  <a:pt x="25" y="1033"/>
                </a:lnTo>
                <a:lnTo>
                  <a:pt x="23" y="1017"/>
                </a:lnTo>
                <a:lnTo>
                  <a:pt x="21" y="1000"/>
                </a:lnTo>
                <a:lnTo>
                  <a:pt x="19" y="983"/>
                </a:lnTo>
                <a:lnTo>
                  <a:pt x="17" y="963"/>
                </a:lnTo>
                <a:lnTo>
                  <a:pt x="15" y="942"/>
                </a:lnTo>
                <a:lnTo>
                  <a:pt x="13" y="919"/>
                </a:lnTo>
                <a:lnTo>
                  <a:pt x="11" y="896"/>
                </a:lnTo>
                <a:lnTo>
                  <a:pt x="9" y="869"/>
                </a:lnTo>
                <a:lnTo>
                  <a:pt x="7" y="843"/>
                </a:lnTo>
                <a:lnTo>
                  <a:pt x="7" y="816"/>
                </a:lnTo>
                <a:lnTo>
                  <a:pt x="5" y="785"/>
                </a:lnTo>
                <a:lnTo>
                  <a:pt x="5" y="754"/>
                </a:lnTo>
                <a:lnTo>
                  <a:pt x="3" y="722"/>
                </a:lnTo>
                <a:lnTo>
                  <a:pt x="3" y="687"/>
                </a:lnTo>
                <a:lnTo>
                  <a:pt x="2" y="651"/>
                </a:lnTo>
                <a:lnTo>
                  <a:pt x="2" y="614"/>
                </a:lnTo>
                <a:lnTo>
                  <a:pt x="0" y="576"/>
                </a:lnTo>
                <a:lnTo>
                  <a:pt x="0" y="535"/>
                </a:lnTo>
                <a:lnTo>
                  <a:pt x="0" y="493"/>
                </a:lnTo>
                <a:lnTo>
                  <a:pt x="0" y="451"/>
                </a:lnTo>
                <a:lnTo>
                  <a:pt x="0" y="407"/>
                </a:lnTo>
                <a:lnTo>
                  <a:pt x="0" y="361"/>
                </a:lnTo>
                <a:lnTo>
                  <a:pt x="0" y="313"/>
                </a:lnTo>
                <a:lnTo>
                  <a:pt x="2" y="265"/>
                </a:lnTo>
                <a:lnTo>
                  <a:pt x="2" y="215"/>
                </a:lnTo>
                <a:lnTo>
                  <a:pt x="2" y="163"/>
                </a:lnTo>
                <a:lnTo>
                  <a:pt x="3" y="109"/>
                </a:lnTo>
                <a:lnTo>
                  <a:pt x="3" y="56"/>
                </a:lnTo>
                <a:lnTo>
                  <a:pt x="5" y="0"/>
                </a:lnTo>
                <a:lnTo>
                  <a:pt x="32" y="8"/>
                </a:lnTo>
                <a:lnTo>
                  <a:pt x="57" y="17"/>
                </a:lnTo>
                <a:lnTo>
                  <a:pt x="80" y="25"/>
                </a:lnTo>
                <a:lnTo>
                  <a:pt x="101" y="33"/>
                </a:lnTo>
                <a:lnTo>
                  <a:pt x="121" y="40"/>
                </a:lnTo>
                <a:lnTo>
                  <a:pt x="138" y="48"/>
                </a:lnTo>
                <a:lnTo>
                  <a:pt x="153" y="54"/>
                </a:lnTo>
                <a:lnTo>
                  <a:pt x="169" y="59"/>
                </a:lnTo>
                <a:lnTo>
                  <a:pt x="180" y="65"/>
                </a:lnTo>
                <a:lnTo>
                  <a:pt x="192" y="71"/>
                </a:lnTo>
                <a:lnTo>
                  <a:pt x="199" y="77"/>
                </a:lnTo>
                <a:lnTo>
                  <a:pt x="207" y="81"/>
                </a:lnTo>
                <a:lnTo>
                  <a:pt x="213" y="84"/>
                </a:lnTo>
                <a:lnTo>
                  <a:pt x="217" y="88"/>
                </a:lnTo>
                <a:lnTo>
                  <a:pt x="218" y="92"/>
                </a:lnTo>
                <a:lnTo>
                  <a:pt x="220" y="94"/>
                </a:lnTo>
                <a:lnTo>
                  <a:pt x="220" y="96"/>
                </a:lnTo>
                <a:lnTo>
                  <a:pt x="218" y="100"/>
                </a:lnTo>
                <a:lnTo>
                  <a:pt x="218" y="104"/>
                </a:lnTo>
                <a:lnTo>
                  <a:pt x="218" y="107"/>
                </a:lnTo>
                <a:lnTo>
                  <a:pt x="217" y="111"/>
                </a:lnTo>
                <a:lnTo>
                  <a:pt x="215" y="117"/>
                </a:lnTo>
                <a:lnTo>
                  <a:pt x="211" y="129"/>
                </a:lnTo>
                <a:lnTo>
                  <a:pt x="207" y="142"/>
                </a:lnTo>
                <a:lnTo>
                  <a:pt x="203" y="155"/>
                </a:lnTo>
                <a:lnTo>
                  <a:pt x="197" y="173"/>
                </a:lnTo>
                <a:lnTo>
                  <a:pt x="193" y="1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246"/>
          <p:cNvSpPr/>
          <p:nvPr/>
        </p:nvSpPr>
        <p:spPr>
          <a:xfrm>
            <a:off x="5881680" y="4235400"/>
            <a:ext cx="1846440" cy="301680"/>
          </a:xfrm>
          <a:custGeom>
            <a:avLst/>
            <a:gdLst/>
            <a:ahLst/>
            <a:rect l="l" t="t" r="r" b="b"/>
            <a:pathLst>
              <a:path w="2324" h="380">
                <a:moveTo>
                  <a:pt x="0" y="250"/>
                </a:moveTo>
                <a:lnTo>
                  <a:pt x="111" y="238"/>
                </a:lnTo>
                <a:lnTo>
                  <a:pt x="220" y="227"/>
                </a:lnTo>
                <a:lnTo>
                  <a:pt x="326" y="215"/>
                </a:lnTo>
                <a:lnTo>
                  <a:pt x="428" y="204"/>
                </a:lnTo>
                <a:lnTo>
                  <a:pt x="527" y="192"/>
                </a:lnTo>
                <a:lnTo>
                  <a:pt x="623" y="183"/>
                </a:lnTo>
                <a:lnTo>
                  <a:pt x="717" y="171"/>
                </a:lnTo>
                <a:lnTo>
                  <a:pt x="808" y="160"/>
                </a:lnTo>
                <a:lnTo>
                  <a:pt x="896" y="148"/>
                </a:lnTo>
                <a:lnTo>
                  <a:pt x="982" y="139"/>
                </a:lnTo>
                <a:lnTo>
                  <a:pt x="1065" y="127"/>
                </a:lnTo>
                <a:lnTo>
                  <a:pt x="1144" y="116"/>
                </a:lnTo>
                <a:lnTo>
                  <a:pt x="1220" y="104"/>
                </a:lnTo>
                <a:lnTo>
                  <a:pt x="1295" y="94"/>
                </a:lnTo>
                <a:lnTo>
                  <a:pt x="1368" y="83"/>
                </a:lnTo>
                <a:lnTo>
                  <a:pt x="1437" y="71"/>
                </a:lnTo>
                <a:lnTo>
                  <a:pt x="1470" y="66"/>
                </a:lnTo>
                <a:lnTo>
                  <a:pt x="1503" y="62"/>
                </a:lnTo>
                <a:lnTo>
                  <a:pt x="1535" y="58"/>
                </a:lnTo>
                <a:lnTo>
                  <a:pt x="1564" y="54"/>
                </a:lnTo>
                <a:lnTo>
                  <a:pt x="1595" y="50"/>
                </a:lnTo>
                <a:lnTo>
                  <a:pt x="1623" y="46"/>
                </a:lnTo>
                <a:lnTo>
                  <a:pt x="1650" y="43"/>
                </a:lnTo>
                <a:lnTo>
                  <a:pt x="1677" y="39"/>
                </a:lnTo>
                <a:lnTo>
                  <a:pt x="1702" y="37"/>
                </a:lnTo>
                <a:lnTo>
                  <a:pt x="1727" y="33"/>
                </a:lnTo>
                <a:lnTo>
                  <a:pt x="1750" y="29"/>
                </a:lnTo>
                <a:lnTo>
                  <a:pt x="1773" y="27"/>
                </a:lnTo>
                <a:lnTo>
                  <a:pt x="1794" y="23"/>
                </a:lnTo>
                <a:lnTo>
                  <a:pt x="1815" y="22"/>
                </a:lnTo>
                <a:lnTo>
                  <a:pt x="1835" y="20"/>
                </a:lnTo>
                <a:lnTo>
                  <a:pt x="1854" y="18"/>
                </a:lnTo>
                <a:lnTo>
                  <a:pt x="1871" y="16"/>
                </a:lnTo>
                <a:lnTo>
                  <a:pt x="1888" y="14"/>
                </a:lnTo>
                <a:lnTo>
                  <a:pt x="1904" y="12"/>
                </a:lnTo>
                <a:lnTo>
                  <a:pt x="1919" y="10"/>
                </a:lnTo>
                <a:lnTo>
                  <a:pt x="1932" y="8"/>
                </a:lnTo>
                <a:lnTo>
                  <a:pt x="1946" y="6"/>
                </a:lnTo>
                <a:lnTo>
                  <a:pt x="1957" y="4"/>
                </a:lnTo>
                <a:lnTo>
                  <a:pt x="1969" y="4"/>
                </a:lnTo>
                <a:lnTo>
                  <a:pt x="1980" y="2"/>
                </a:lnTo>
                <a:lnTo>
                  <a:pt x="1990" y="2"/>
                </a:lnTo>
                <a:lnTo>
                  <a:pt x="1998" y="0"/>
                </a:lnTo>
                <a:lnTo>
                  <a:pt x="2005" y="0"/>
                </a:lnTo>
                <a:lnTo>
                  <a:pt x="2013" y="0"/>
                </a:lnTo>
                <a:lnTo>
                  <a:pt x="2019" y="0"/>
                </a:lnTo>
                <a:lnTo>
                  <a:pt x="2025" y="0"/>
                </a:lnTo>
                <a:lnTo>
                  <a:pt x="2028" y="0"/>
                </a:lnTo>
                <a:lnTo>
                  <a:pt x="2044" y="0"/>
                </a:lnTo>
                <a:lnTo>
                  <a:pt x="2059" y="2"/>
                </a:lnTo>
                <a:lnTo>
                  <a:pt x="2075" y="4"/>
                </a:lnTo>
                <a:lnTo>
                  <a:pt x="2090" y="8"/>
                </a:lnTo>
                <a:lnTo>
                  <a:pt x="2107" y="14"/>
                </a:lnTo>
                <a:lnTo>
                  <a:pt x="2124" y="20"/>
                </a:lnTo>
                <a:lnTo>
                  <a:pt x="2144" y="27"/>
                </a:lnTo>
                <a:lnTo>
                  <a:pt x="2163" y="35"/>
                </a:lnTo>
                <a:lnTo>
                  <a:pt x="2182" y="45"/>
                </a:lnTo>
                <a:lnTo>
                  <a:pt x="2199" y="54"/>
                </a:lnTo>
                <a:lnTo>
                  <a:pt x="2217" y="64"/>
                </a:lnTo>
                <a:lnTo>
                  <a:pt x="2234" y="73"/>
                </a:lnTo>
                <a:lnTo>
                  <a:pt x="2247" y="83"/>
                </a:lnTo>
                <a:lnTo>
                  <a:pt x="2261" y="94"/>
                </a:lnTo>
                <a:lnTo>
                  <a:pt x="2272" y="106"/>
                </a:lnTo>
                <a:lnTo>
                  <a:pt x="2284" y="119"/>
                </a:lnTo>
                <a:lnTo>
                  <a:pt x="2293" y="133"/>
                </a:lnTo>
                <a:lnTo>
                  <a:pt x="2301" y="144"/>
                </a:lnTo>
                <a:lnTo>
                  <a:pt x="2309" y="158"/>
                </a:lnTo>
                <a:lnTo>
                  <a:pt x="2314" y="169"/>
                </a:lnTo>
                <a:lnTo>
                  <a:pt x="2318" y="179"/>
                </a:lnTo>
                <a:lnTo>
                  <a:pt x="2320" y="189"/>
                </a:lnTo>
                <a:lnTo>
                  <a:pt x="2322" y="192"/>
                </a:lnTo>
                <a:lnTo>
                  <a:pt x="2322" y="196"/>
                </a:lnTo>
                <a:lnTo>
                  <a:pt x="2324" y="200"/>
                </a:lnTo>
                <a:lnTo>
                  <a:pt x="2324" y="202"/>
                </a:lnTo>
                <a:lnTo>
                  <a:pt x="2322" y="204"/>
                </a:lnTo>
                <a:lnTo>
                  <a:pt x="2320" y="206"/>
                </a:lnTo>
                <a:lnTo>
                  <a:pt x="2318" y="208"/>
                </a:lnTo>
                <a:lnTo>
                  <a:pt x="2314" y="208"/>
                </a:lnTo>
                <a:lnTo>
                  <a:pt x="2309" y="210"/>
                </a:lnTo>
                <a:lnTo>
                  <a:pt x="2301" y="210"/>
                </a:lnTo>
                <a:lnTo>
                  <a:pt x="2293" y="210"/>
                </a:lnTo>
                <a:lnTo>
                  <a:pt x="2284" y="212"/>
                </a:lnTo>
                <a:lnTo>
                  <a:pt x="2272" y="210"/>
                </a:lnTo>
                <a:lnTo>
                  <a:pt x="2261" y="210"/>
                </a:lnTo>
                <a:lnTo>
                  <a:pt x="2247" y="210"/>
                </a:lnTo>
                <a:lnTo>
                  <a:pt x="2234" y="208"/>
                </a:lnTo>
                <a:lnTo>
                  <a:pt x="2217" y="208"/>
                </a:lnTo>
                <a:lnTo>
                  <a:pt x="2199" y="206"/>
                </a:lnTo>
                <a:lnTo>
                  <a:pt x="2182" y="204"/>
                </a:lnTo>
                <a:lnTo>
                  <a:pt x="2163" y="202"/>
                </a:lnTo>
                <a:lnTo>
                  <a:pt x="2142" y="200"/>
                </a:lnTo>
                <a:lnTo>
                  <a:pt x="2121" y="198"/>
                </a:lnTo>
                <a:lnTo>
                  <a:pt x="2099" y="196"/>
                </a:lnTo>
                <a:lnTo>
                  <a:pt x="2076" y="194"/>
                </a:lnTo>
                <a:lnTo>
                  <a:pt x="2053" y="194"/>
                </a:lnTo>
                <a:lnTo>
                  <a:pt x="2030" y="192"/>
                </a:lnTo>
                <a:lnTo>
                  <a:pt x="2007" y="192"/>
                </a:lnTo>
                <a:lnTo>
                  <a:pt x="1982" y="190"/>
                </a:lnTo>
                <a:lnTo>
                  <a:pt x="1932" y="190"/>
                </a:lnTo>
                <a:lnTo>
                  <a:pt x="1881" y="190"/>
                </a:lnTo>
                <a:lnTo>
                  <a:pt x="1827" y="190"/>
                </a:lnTo>
                <a:lnTo>
                  <a:pt x="1773" y="190"/>
                </a:lnTo>
                <a:lnTo>
                  <a:pt x="1662" y="190"/>
                </a:lnTo>
                <a:lnTo>
                  <a:pt x="1606" y="190"/>
                </a:lnTo>
                <a:lnTo>
                  <a:pt x="1551" y="190"/>
                </a:lnTo>
                <a:lnTo>
                  <a:pt x="1495" y="192"/>
                </a:lnTo>
                <a:lnTo>
                  <a:pt x="1441" y="194"/>
                </a:lnTo>
                <a:lnTo>
                  <a:pt x="1385" y="198"/>
                </a:lnTo>
                <a:lnTo>
                  <a:pt x="1330" y="202"/>
                </a:lnTo>
                <a:lnTo>
                  <a:pt x="1274" y="206"/>
                </a:lnTo>
                <a:lnTo>
                  <a:pt x="1218" y="213"/>
                </a:lnTo>
                <a:lnTo>
                  <a:pt x="1163" y="219"/>
                </a:lnTo>
                <a:lnTo>
                  <a:pt x="1107" y="225"/>
                </a:lnTo>
                <a:lnTo>
                  <a:pt x="1051" y="233"/>
                </a:lnTo>
                <a:lnTo>
                  <a:pt x="998" y="238"/>
                </a:lnTo>
                <a:lnTo>
                  <a:pt x="942" y="244"/>
                </a:lnTo>
                <a:lnTo>
                  <a:pt x="886" y="250"/>
                </a:lnTo>
                <a:lnTo>
                  <a:pt x="765" y="267"/>
                </a:lnTo>
                <a:lnTo>
                  <a:pt x="706" y="277"/>
                </a:lnTo>
                <a:lnTo>
                  <a:pt x="646" y="286"/>
                </a:lnTo>
                <a:lnTo>
                  <a:pt x="587" y="296"/>
                </a:lnTo>
                <a:lnTo>
                  <a:pt x="529" y="308"/>
                </a:lnTo>
                <a:lnTo>
                  <a:pt x="472" y="319"/>
                </a:lnTo>
                <a:lnTo>
                  <a:pt x="416" y="332"/>
                </a:lnTo>
                <a:lnTo>
                  <a:pt x="385" y="338"/>
                </a:lnTo>
                <a:lnTo>
                  <a:pt x="359" y="346"/>
                </a:lnTo>
                <a:lnTo>
                  <a:pt x="332" y="350"/>
                </a:lnTo>
                <a:lnTo>
                  <a:pt x="307" y="356"/>
                </a:lnTo>
                <a:lnTo>
                  <a:pt x="284" y="359"/>
                </a:lnTo>
                <a:lnTo>
                  <a:pt x="263" y="363"/>
                </a:lnTo>
                <a:lnTo>
                  <a:pt x="243" y="367"/>
                </a:lnTo>
                <a:lnTo>
                  <a:pt x="226" y="371"/>
                </a:lnTo>
                <a:lnTo>
                  <a:pt x="209" y="373"/>
                </a:lnTo>
                <a:lnTo>
                  <a:pt x="195" y="375"/>
                </a:lnTo>
                <a:lnTo>
                  <a:pt x="182" y="377"/>
                </a:lnTo>
                <a:lnTo>
                  <a:pt x="172" y="379"/>
                </a:lnTo>
                <a:lnTo>
                  <a:pt x="163" y="379"/>
                </a:lnTo>
                <a:lnTo>
                  <a:pt x="155" y="379"/>
                </a:lnTo>
                <a:lnTo>
                  <a:pt x="151" y="380"/>
                </a:lnTo>
                <a:lnTo>
                  <a:pt x="147" y="380"/>
                </a:lnTo>
                <a:lnTo>
                  <a:pt x="142" y="379"/>
                </a:lnTo>
                <a:lnTo>
                  <a:pt x="134" y="379"/>
                </a:lnTo>
                <a:lnTo>
                  <a:pt x="126" y="375"/>
                </a:lnTo>
                <a:lnTo>
                  <a:pt x="117" y="371"/>
                </a:lnTo>
                <a:lnTo>
                  <a:pt x="105" y="367"/>
                </a:lnTo>
                <a:lnTo>
                  <a:pt x="94" y="359"/>
                </a:lnTo>
                <a:lnTo>
                  <a:pt x="80" y="354"/>
                </a:lnTo>
                <a:lnTo>
                  <a:pt x="67" y="344"/>
                </a:lnTo>
                <a:lnTo>
                  <a:pt x="51" y="334"/>
                </a:lnTo>
                <a:lnTo>
                  <a:pt x="38" y="325"/>
                </a:lnTo>
                <a:lnTo>
                  <a:pt x="27" y="313"/>
                </a:lnTo>
                <a:lnTo>
                  <a:pt x="17" y="302"/>
                </a:lnTo>
                <a:lnTo>
                  <a:pt x="13" y="294"/>
                </a:lnTo>
                <a:lnTo>
                  <a:pt x="9" y="288"/>
                </a:lnTo>
                <a:lnTo>
                  <a:pt x="7" y="283"/>
                </a:lnTo>
                <a:lnTo>
                  <a:pt x="3" y="277"/>
                </a:lnTo>
                <a:lnTo>
                  <a:pt x="2" y="269"/>
                </a:lnTo>
                <a:lnTo>
                  <a:pt x="0" y="263"/>
                </a:lnTo>
                <a:lnTo>
                  <a:pt x="0" y="256"/>
                </a:lnTo>
                <a:lnTo>
                  <a:pt x="0" y="2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247"/>
          <p:cNvSpPr/>
          <p:nvPr/>
        </p:nvSpPr>
        <p:spPr>
          <a:xfrm>
            <a:off x="6291360" y="3757680"/>
            <a:ext cx="209520" cy="495360"/>
          </a:xfrm>
          <a:custGeom>
            <a:avLst/>
            <a:gdLst/>
            <a:ahLst/>
            <a:rect l="l" t="t" r="r" b="b"/>
            <a:pathLst>
              <a:path w="265" h="623">
                <a:moveTo>
                  <a:pt x="198" y="28"/>
                </a:moveTo>
                <a:lnTo>
                  <a:pt x="202" y="59"/>
                </a:lnTo>
                <a:lnTo>
                  <a:pt x="205" y="88"/>
                </a:lnTo>
                <a:lnTo>
                  <a:pt x="207" y="115"/>
                </a:lnTo>
                <a:lnTo>
                  <a:pt x="211" y="144"/>
                </a:lnTo>
                <a:lnTo>
                  <a:pt x="215" y="169"/>
                </a:lnTo>
                <a:lnTo>
                  <a:pt x="219" y="195"/>
                </a:lnTo>
                <a:lnTo>
                  <a:pt x="221" y="218"/>
                </a:lnTo>
                <a:lnTo>
                  <a:pt x="225" y="243"/>
                </a:lnTo>
                <a:lnTo>
                  <a:pt x="227" y="266"/>
                </a:lnTo>
                <a:lnTo>
                  <a:pt x="230" y="288"/>
                </a:lnTo>
                <a:lnTo>
                  <a:pt x="232" y="309"/>
                </a:lnTo>
                <a:lnTo>
                  <a:pt x="236" y="330"/>
                </a:lnTo>
                <a:lnTo>
                  <a:pt x="238" y="349"/>
                </a:lnTo>
                <a:lnTo>
                  <a:pt x="242" y="368"/>
                </a:lnTo>
                <a:lnTo>
                  <a:pt x="244" y="385"/>
                </a:lnTo>
                <a:lnTo>
                  <a:pt x="246" y="403"/>
                </a:lnTo>
                <a:lnTo>
                  <a:pt x="248" y="420"/>
                </a:lnTo>
                <a:lnTo>
                  <a:pt x="250" y="435"/>
                </a:lnTo>
                <a:lnTo>
                  <a:pt x="251" y="451"/>
                </a:lnTo>
                <a:lnTo>
                  <a:pt x="253" y="464"/>
                </a:lnTo>
                <a:lnTo>
                  <a:pt x="255" y="478"/>
                </a:lnTo>
                <a:lnTo>
                  <a:pt x="257" y="489"/>
                </a:lnTo>
                <a:lnTo>
                  <a:pt x="259" y="501"/>
                </a:lnTo>
                <a:lnTo>
                  <a:pt x="259" y="510"/>
                </a:lnTo>
                <a:lnTo>
                  <a:pt x="261" y="520"/>
                </a:lnTo>
                <a:lnTo>
                  <a:pt x="261" y="529"/>
                </a:lnTo>
                <a:lnTo>
                  <a:pt x="263" y="537"/>
                </a:lnTo>
                <a:lnTo>
                  <a:pt x="263" y="545"/>
                </a:lnTo>
                <a:lnTo>
                  <a:pt x="263" y="551"/>
                </a:lnTo>
                <a:lnTo>
                  <a:pt x="265" y="556"/>
                </a:lnTo>
                <a:lnTo>
                  <a:pt x="265" y="560"/>
                </a:lnTo>
                <a:lnTo>
                  <a:pt x="265" y="564"/>
                </a:lnTo>
                <a:lnTo>
                  <a:pt x="263" y="577"/>
                </a:lnTo>
                <a:lnTo>
                  <a:pt x="263" y="589"/>
                </a:lnTo>
                <a:lnTo>
                  <a:pt x="259" y="599"/>
                </a:lnTo>
                <a:lnTo>
                  <a:pt x="255" y="606"/>
                </a:lnTo>
                <a:lnTo>
                  <a:pt x="251" y="614"/>
                </a:lnTo>
                <a:lnTo>
                  <a:pt x="250" y="618"/>
                </a:lnTo>
                <a:lnTo>
                  <a:pt x="248" y="620"/>
                </a:lnTo>
                <a:lnTo>
                  <a:pt x="246" y="622"/>
                </a:lnTo>
                <a:lnTo>
                  <a:pt x="242" y="622"/>
                </a:lnTo>
                <a:lnTo>
                  <a:pt x="240" y="623"/>
                </a:lnTo>
                <a:lnTo>
                  <a:pt x="238" y="623"/>
                </a:lnTo>
                <a:lnTo>
                  <a:pt x="234" y="623"/>
                </a:lnTo>
                <a:lnTo>
                  <a:pt x="232" y="623"/>
                </a:lnTo>
                <a:lnTo>
                  <a:pt x="230" y="622"/>
                </a:lnTo>
                <a:lnTo>
                  <a:pt x="227" y="620"/>
                </a:lnTo>
                <a:lnTo>
                  <a:pt x="225" y="618"/>
                </a:lnTo>
                <a:lnTo>
                  <a:pt x="221" y="614"/>
                </a:lnTo>
                <a:lnTo>
                  <a:pt x="219" y="612"/>
                </a:lnTo>
                <a:lnTo>
                  <a:pt x="215" y="608"/>
                </a:lnTo>
                <a:lnTo>
                  <a:pt x="211" y="604"/>
                </a:lnTo>
                <a:lnTo>
                  <a:pt x="209" y="599"/>
                </a:lnTo>
                <a:lnTo>
                  <a:pt x="205" y="593"/>
                </a:lnTo>
                <a:lnTo>
                  <a:pt x="202" y="587"/>
                </a:lnTo>
                <a:lnTo>
                  <a:pt x="200" y="581"/>
                </a:lnTo>
                <a:lnTo>
                  <a:pt x="196" y="575"/>
                </a:lnTo>
                <a:lnTo>
                  <a:pt x="192" y="568"/>
                </a:lnTo>
                <a:lnTo>
                  <a:pt x="188" y="560"/>
                </a:lnTo>
                <a:lnTo>
                  <a:pt x="184" y="551"/>
                </a:lnTo>
                <a:lnTo>
                  <a:pt x="182" y="543"/>
                </a:lnTo>
                <a:lnTo>
                  <a:pt x="179" y="533"/>
                </a:lnTo>
                <a:lnTo>
                  <a:pt x="175" y="524"/>
                </a:lnTo>
                <a:lnTo>
                  <a:pt x="171" y="512"/>
                </a:lnTo>
                <a:lnTo>
                  <a:pt x="167" y="503"/>
                </a:lnTo>
                <a:lnTo>
                  <a:pt x="163" y="491"/>
                </a:lnTo>
                <a:lnTo>
                  <a:pt x="159" y="478"/>
                </a:lnTo>
                <a:lnTo>
                  <a:pt x="156" y="466"/>
                </a:lnTo>
                <a:lnTo>
                  <a:pt x="152" y="453"/>
                </a:lnTo>
                <a:lnTo>
                  <a:pt x="148" y="439"/>
                </a:lnTo>
                <a:lnTo>
                  <a:pt x="144" y="424"/>
                </a:lnTo>
                <a:lnTo>
                  <a:pt x="142" y="410"/>
                </a:lnTo>
                <a:lnTo>
                  <a:pt x="138" y="395"/>
                </a:lnTo>
                <a:lnTo>
                  <a:pt x="134" y="378"/>
                </a:lnTo>
                <a:lnTo>
                  <a:pt x="131" y="362"/>
                </a:lnTo>
                <a:lnTo>
                  <a:pt x="123" y="332"/>
                </a:lnTo>
                <a:lnTo>
                  <a:pt x="115" y="303"/>
                </a:lnTo>
                <a:lnTo>
                  <a:pt x="108" y="276"/>
                </a:lnTo>
                <a:lnTo>
                  <a:pt x="100" y="249"/>
                </a:lnTo>
                <a:lnTo>
                  <a:pt x="92" y="226"/>
                </a:lnTo>
                <a:lnTo>
                  <a:pt x="86" y="203"/>
                </a:lnTo>
                <a:lnTo>
                  <a:pt x="79" y="184"/>
                </a:lnTo>
                <a:lnTo>
                  <a:pt x="71" y="165"/>
                </a:lnTo>
                <a:lnTo>
                  <a:pt x="65" y="147"/>
                </a:lnTo>
                <a:lnTo>
                  <a:pt x="58" y="130"/>
                </a:lnTo>
                <a:lnTo>
                  <a:pt x="52" y="117"/>
                </a:lnTo>
                <a:lnTo>
                  <a:pt x="44" y="103"/>
                </a:lnTo>
                <a:lnTo>
                  <a:pt x="38" y="92"/>
                </a:lnTo>
                <a:lnTo>
                  <a:pt x="33" y="80"/>
                </a:lnTo>
                <a:lnTo>
                  <a:pt x="27" y="73"/>
                </a:lnTo>
                <a:lnTo>
                  <a:pt x="23" y="65"/>
                </a:lnTo>
                <a:lnTo>
                  <a:pt x="17" y="59"/>
                </a:lnTo>
                <a:lnTo>
                  <a:pt x="13" y="55"/>
                </a:lnTo>
                <a:lnTo>
                  <a:pt x="10" y="51"/>
                </a:lnTo>
                <a:lnTo>
                  <a:pt x="8" y="48"/>
                </a:lnTo>
                <a:lnTo>
                  <a:pt x="6" y="42"/>
                </a:lnTo>
                <a:lnTo>
                  <a:pt x="4" y="38"/>
                </a:lnTo>
                <a:lnTo>
                  <a:pt x="2" y="34"/>
                </a:lnTo>
                <a:lnTo>
                  <a:pt x="0" y="30"/>
                </a:lnTo>
                <a:lnTo>
                  <a:pt x="0" y="23"/>
                </a:lnTo>
                <a:lnTo>
                  <a:pt x="2" y="15"/>
                </a:lnTo>
                <a:lnTo>
                  <a:pt x="4" y="9"/>
                </a:lnTo>
                <a:lnTo>
                  <a:pt x="10" y="5"/>
                </a:lnTo>
                <a:lnTo>
                  <a:pt x="12" y="3"/>
                </a:lnTo>
                <a:lnTo>
                  <a:pt x="15" y="2"/>
                </a:lnTo>
                <a:lnTo>
                  <a:pt x="21" y="2"/>
                </a:lnTo>
                <a:lnTo>
                  <a:pt x="27" y="0"/>
                </a:lnTo>
                <a:lnTo>
                  <a:pt x="35" y="0"/>
                </a:lnTo>
                <a:lnTo>
                  <a:pt x="42" y="2"/>
                </a:lnTo>
                <a:lnTo>
                  <a:pt x="52" y="2"/>
                </a:lnTo>
                <a:lnTo>
                  <a:pt x="63" y="3"/>
                </a:lnTo>
                <a:lnTo>
                  <a:pt x="75" y="5"/>
                </a:lnTo>
                <a:lnTo>
                  <a:pt x="88" y="7"/>
                </a:lnTo>
                <a:lnTo>
                  <a:pt x="102" y="9"/>
                </a:lnTo>
                <a:lnTo>
                  <a:pt x="119" y="13"/>
                </a:lnTo>
                <a:lnTo>
                  <a:pt x="136" y="17"/>
                </a:lnTo>
                <a:lnTo>
                  <a:pt x="156" y="21"/>
                </a:lnTo>
                <a:lnTo>
                  <a:pt x="175" y="25"/>
                </a:lnTo>
                <a:lnTo>
                  <a:pt x="198" y="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248"/>
          <p:cNvSpPr/>
          <p:nvPr/>
        </p:nvSpPr>
        <p:spPr>
          <a:xfrm>
            <a:off x="6446880" y="3884760"/>
            <a:ext cx="544320" cy="141120"/>
          </a:xfrm>
          <a:custGeom>
            <a:avLst/>
            <a:gdLst/>
            <a:ahLst/>
            <a:rect l="l" t="t" r="r" b="b"/>
            <a:pathLst>
              <a:path w="685" h="178">
                <a:moveTo>
                  <a:pt x="0" y="96"/>
                </a:moveTo>
                <a:lnTo>
                  <a:pt x="13" y="96"/>
                </a:lnTo>
                <a:lnTo>
                  <a:pt x="27" y="96"/>
                </a:lnTo>
                <a:lnTo>
                  <a:pt x="42" y="94"/>
                </a:lnTo>
                <a:lnTo>
                  <a:pt x="57" y="94"/>
                </a:lnTo>
                <a:lnTo>
                  <a:pt x="73" y="92"/>
                </a:lnTo>
                <a:lnTo>
                  <a:pt x="90" y="90"/>
                </a:lnTo>
                <a:lnTo>
                  <a:pt x="109" y="88"/>
                </a:lnTo>
                <a:lnTo>
                  <a:pt x="126" y="86"/>
                </a:lnTo>
                <a:lnTo>
                  <a:pt x="146" y="82"/>
                </a:lnTo>
                <a:lnTo>
                  <a:pt x="167" y="79"/>
                </a:lnTo>
                <a:lnTo>
                  <a:pt x="186" y="75"/>
                </a:lnTo>
                <a:lnTo>
                  <a:pt x="207" y="71"/>
                </a:lnTo>
                <a:lnTo>
                  <a:pt x="228" y="67"/>
                </a:lnTo>
                <a:lnTo>
                  <a:pt x="251" y="61"/>
                </a:lnTo>
                <a:lnTo>
                  <a:pt x="272" y="56"/>
                </a:lnTo>
                <a:lnTo>
                  <a:pt x="295" y="48"/>
                </a:lnTo>
                <a:lnTo>
                  <a:pt x="316" y="42"/>
                </a:lnTo>
                <a:lnTo>
                  <a:pt x="339" y="36"/>
                </a:lnTo>
                <a:lnTo>
                  <a:pt x="361" y="31"/>
                </a:lnTo>
                <a:lnTo>
                  <a:pt x="380" y="25"/>
                </a:lnTo>
                <a:lnTo>
                  <a:pt x="401" y="21"/>
                </a:lnTo>
                <a:lnTo>
                  <a:pt x="420" y="17"/>
                </a:lnTo>
                <a:lnTo>
                  <a:pt x="437" y="13"/>
                </a:lnTo>
                <a:lnTo>
                  <a:pt x="457" y="11"/>
                </a:lnTo>
                <a:lnTo>
                  <a:pt x="474" y="8"/>
                </a:lnTo>
                <a:lnTo>
                  <a:pt x="489" y="6"/>
                </a:lnTo>
                <a:lnTo>
                  <a:pt x="506" y="4"/>
                </a:lnTo>
                <a:lnTo>
                  <a:pt x="522" y="4"/>
                </a:lnTo>
                <a:lnTo>
                  <a:pt x="537" y="2"/>
                </a:lnTo>
                <a:lnTo>
                  <a:pt x="551" y="2"/>
                </a:lnTo>
                <a:lnTo>
                  <a:pt x="564" y="0"/>
                </a:lnTo>
                <a:lnTo>
                  <a:pt x="577" y="0"/>
                </a:lnTo>
                <a:lnTo>
                  <a:pt x="589" y="0"/>
                </a:lnTo>
                <a:lnTo>
                  <a:pt x="601" y="2"/>
                </a:lnTo>
                <a:lnTo>
                  <a:pt x="612" y="2"/>
                </a:lnTo>
                <a:lnTo>
                  <a:pt x="622" y="2"/>
                </a:lnTo>
                <a:lnTo>
                  <a:pt x="631" y="4"/>
                </a:lnTo>
                <a:lnTo>
                  <a:pt x="641" y="6"/>
                </a:lnTo>
                <a:lnTo>
                  <a:pt x="648" y="6"/>
                </a:lnTo>
                <a:lnTo>
                  <a:pt x="656" y="8"/>
                </a:lnTo>
                <a:lnTo>
                  <a:pt x="662" y="10"/>
                </a:lnTo>
                <a:lnTo>
                  <a:pt x="668" y="11"/>
                </a:lnTo>
                <a:lnTo>
                  <a:pt x="673" y="13"/>
                </a:lnTo>
                <a:lnTo>
                  <a:pt x="677" y="15"/>
                </a:lnTo>
                <a:lnTo>
                  <a:pt x="681" y="17"/>
                </a:lnTo>
                <a:lnTo>
                  <a:pt x="683" y="19"/>
                </a:lnTo>
                <a:lnTo>
                  <a:pt x="685" y="23"/>
                </a:lnTo>
                <a:lnTo>
                  <a:pt x="685" y="25"/>
                </a:lnTo>
                <a:lnTo>
                  <a:pt x="683" y="29"/>
                </a:lnTo>
                <a:lnTo>
                  <a:pt x="681" y="33"/>
                </a:lnTo>
                <a:lnTo>
                  <a:pt x="677" y="38"/>
                </a:lnTo>
                <a:lnTo>
                  <a:pt x="672" y="42"/>
                </a:lnTo>
                <a:lnTo>
                  <a:pt x="664" y="48"/>
                </a:lnTo>
                <a:lnTo>
                  <a:pt x="656" y="52"/>
                </a:lnTo>
                <a:lnTo>
                  <a:pt x="645" y="56"/>
                </a:lnTo>
                <a:lnTo>
                  <a:pt x="633" y="61"/>
                </a:lnTo>
                <a:lnTo>
                  <a:pt x="618" y="67"/>
                </a:lnTo>
                <a:lnTo>
                  <a:pt x="602" y="71"/>
                </a:lnTo>
                <a:lnTo>
                  <a:pt x="585" y="77"/>
                </a:lnTo>
                <a:lnTo>
                  <a:pt x="566" y="82"/>
                </a:lnTo>
                <a:lnTo>
                  <a:pt x="545" y="88"/>
                </a:lnTo>
                <a:lnTo>
                  <a:pt x="522" y="94"/>
                </a:lnTo>
                <a:lnTo>
                  <a:pt x="497" y="102"/>
                </a:lnTo>
                <a:lnTo>
                  <a:pt x="470" y="107"/>
                </a:lnTo>
                <a:lnTo>
                  <a:pt x="414" y="121"/>
                </a:lnTo>
                <a:lnTo>
                  <a:pt x="359" y="132"/>
                </a:lnTo>
                <a:lnTo>
                  <a:pt x="301" y="144"/>
                </a:lnTo>
                <a:lnTo>
                  <a:pt x="245" y="152"/>
                </a:lnTo>
                <a:lnTo>
                  <a:pt x="186" y="161"/>
                </a:lnTo>
                <a:lnTo>
                  <a:pt x="126" y="167"/>
                </a:lnTo>
                <a:lnTo>
                  <a:pt x="96" y="171"/>
                </a:lnTo>
                <a:lnTo>
                  <a:pt x="63" y="175"/>
                </a:lnTo>
                <a:lnTo>
                  <a:pt x="32" y="177"/>
                </a:lnTo>
                <a:lnTo>
                  <a:pt x="0" y="178"/>
                </a:lnTo>
                <a:lnTo>
                  <a:pt x="0" y="138"/>
                </a:lnTo>
                <a:lnTo>
                  <a:pt x="0" y="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249"/>
          <p:cNvSpPr/>
          <p:nvPr/>
        </p:nvSpPr>
        <p:spPr>
          <a:xfrm>
            <a:off x="6362640" y="3630600"/>
            <a:ext cx="1023840" cy="528480"/>
          </a:xfrm>
          <a:custGeom>
            <a:avLst/>
            <a:gdLst/>
            <a:ahLst/>
            <a:rect l="l" t="t" r="r" b="b"/>
            <a:pathLst>
              <a:path w="1290" h="666">
                <a:moveTo>
                  <a:pt x="887" y="25"/>
                </a:moveTo>
                <a:lnTo>
                  <a:pt x="906" y="16"/>
                </a:lnTo>
                <a:lnTo>
                  <a:pt x="918" y="12"/>
                </a:lnTo>
                <a:lnTo>
                  <a:pt x="927" y="8"/>
                </a:lnTo>
                <a:lnTo>
                  <a:pt x="937" y="4"/>
                </a:lnTo>
                <a:lnTo>
                  <a:pt x="947" y="2"/>
                </a:lnTo>
                <a:lnTo>
                  <a:pt x="958" y="2"/>
                </a:lnTo>
                <a:lnTo>
                  <a:pt x="968" y="0"/>
                </a:lnTo>
                <a:lnTo>
                  <a:pt x="973" y="0"/>
                </a:lnTo>
                <a:lnTo>
                  <a:pt x="979" y="2"/>
                </a:lnTo>
                <a:lnTo>
                  <a:pt x="987" y="4"/>
                </a:lnTo>
                <a:lnTo>
                  <a:pt x="995" y="6"/>
                </a:lnTo>
                <a:lnTo>
                  <a:pt x="1004" y="8"/>
                </a:lnTo>
                <a:lnTo>
                  <a:pt x="1014" y="10"/>
                </a:lnTo>
                <a:lnTo>
                  <a:pt x="1025" y="14"/>
                </a:lnTo>
                <a:lnTo>
                  <a:pt x="1037" y="18"/>
                </a:lnTo>
                <a:lnTo>
                  <a:pt x="1048" y="23"/>
                </a:lnTo>
                <a:lnTo>
                  <a:pt x="1062" y="27"/>
                </a:lnTo>
                <a:lnTo>
                  <a:pt x="1075" y="35"/>
                </a:lnTo>
                <a:lnTo>
                  <a:pt x="1090" y="41"/>
                </a:lnTo>
                <a:lnTo>
                  <a:pt x="1106" y="46"/>
                </a:lnTo>
                <a:lnTo>
                  <a:pt x="1121" y="54"/>
                </a:lnTo>
                <a:lnTo>
                  <a:pt x="1138" y="64"/>
                </a:lnTo>
                <a:lnTo>
                  <a:pt x="1156" y="71"/>
                </a:lnTo>
                <a:lnTo>
                  <a:pt x="1173" y="83"/>
                </a:lnTo>
                <a:lnTo>
                  <a:pt x="1188" y="93"/>
                </a:lnTo>
                <a:lnTo>
                  <a:pt x="1202" y="104"/>
                </a:lnTo>
                <a:lnTo>
                  <a:pt x="1215" y="112"/>
                </a:lnTo>
                <a:lnTo>
                  <a:pt x="1229" y="121"/>
                </a:lnTo>
                <a:lnTo>
                  <a:pt x="1238" y="129"/>
                </a:lnTo>
                <a:lnTo>
                  <a:pt x="1248" y="137"/>
                </a:lnTo>
                <a:lnTo>
                  <a:pt x="1257" y="144"/>
                </a:lnTo>
                <a:lnTo>
                  <a:pt x="1265" y="150"/>
                </a:lnTo>
                <a:lnTo>
                  <a:pt x="1271" y="156"/>
                </a:lnTo>
                <a:lnTo>
                  <a:pt x="1277" y="162"/>
                </a:lnTo>
                <a:lnTo>
                  <a:pt x="1282" y="165"/>
                </a:lnTo>
                <a:lnTo>
                  <a:pt x="1284" y="169"/>
                </a:lnTo>
                <a:lnTo>
                  <a:pt x="1288" y="173"/>
                </a:lnTo>
                <a:lnTo>
                  <a:pt x="1290" y="177"/>
                </a:lnTo>
                <a:lnTo>
                  <a:pt x="1290" y="179"/>
                </a:lnTo>
                <a:lnTo>
                  <a:pt x="1288" y="185"/>
                </a:lnTo>
                <a:lnTo>
                  <a:pt x="1286" y="190"/>
                </a:lnTo>
                <a:lnTo>
                  <a:pt x="1282" y="196"/>
                </a:lnTo>
                <a:lnTo>
                  <a:pt x="1279" y="202"/>
                </a:lnTo>
                <a:lnTo>
                  <a:pt x="1275" y="206"/>
                </a:lnTo>
                <a:lnTo>
                  <a:pt x="1271" y="210"/>
                </a:lnTo>
                <a:lnTo>
                  <a:pt x="1267" y="213"/>
                </a:lnTo>
                <a:lnTo>
                  <a:pt x="1261" y="215"/>
                </a:lnTo>
                <a:lnTo>
                  <a:pt x="1256" y="219"/>
                </a:lnTo>
                <a:lnTo>
                  <a:pt x="1250" y="221"/>
                </a:lnTo>
                <a:lnTo>
                  <a:pt x="1244" y="225"/>
                </a:lnTo>
                <a:lnTo>
                  <a:pt x="1236" y="227"/>
                </a:lnTo>
                <a:lnTo>
                  <a:pt x="1229" y="229"/>
                </a:lnTo>
                <a:lnTo>
                  <a:pt x="1221" y="235"/>
                </a:lnTo>
                <a:lnTo>
                  <a:pt x="1211" y="240"/>
                </a:lnTo>
                <a:lnTo>
                  <a:pt x="1204" y="248"/>
                </a:lnTo>
                <a:lnTo>
                  <a:pt x="1194" y="258"/>
                </a:lnTo>
                <a:lnTo>
                  <a:pt x="1186" y="269"/>
                </a:lnTo>
                <a:lnTo>
                  <a:pt x="1177" y="281"/>
                </a:lnTo>
                <a:lnTo>
                  <a:pt x="1169" y="294"/>
                </a:lnTo>
                <a:lnTo>
                  <a:pt x="1160" y="309"/>
                </a:lnTo>
                <a:lnTo>
                  <a:pt x="1152" y="327"/>
                </a:lnTo>
                <a:lnTo>
                  <a:pt x="1142" y="344"/>
                </a:lnTo>
                <a:lnTo>
                  <a:pt x="1135" y="363"/>
                </a:lnTo>
                <a:lnTo>
                  <a:pt x="1125" y="384"/>
                </a:lnTo>
                <a:lnTo>
                  <a:pt x="1117" y="405"/>
                </a:lnTo>
                <a:lnTo>
                  <a:pt x="1110" y="428"/>
                </a:lnTo>
                <a:lnTo>
                  <a:pt x="1102" y="453"/>
                </a:lnTo>
                <a:lnTo>
                  <a:pt x="1092" y="478"/>
                </a:lnTo>
                <a:lnTo>
                  <a:pt x="1081" y="503"/>
                </a:lnTo>
                <a:lnTo>
                  <a:pt x="1071" y="524"/>
                </a:lnTo>
                <a:lnTo>
                  <a:pt x="1062" y="546"/>
                </a:lnTo>
                <a:lnTo>
                  <a:pt x="1052" y="565"/>
                </a:lnTo>
                <a:lnTo>
                  <a:pt x="1041" y="584"/>
                </a:lnTo>
                <a:lnTo>
                  <a:pt x="1031" y="599"/>
                </a:lnTo>
                <a:lnTo>
                  <a:pt x="1019" y="613"/>
                </a:lnTo>
                <a:lnTo>
                  <a:pt x="1008" y="626"/>
                </a:lnTo>
                <a:lnTo>
                  <a:pt x="998" y="636"/>
                </a:lnTo>
                <a:lnTo>
                  <a:pt x="987" y="645"/>
                </a:lnTo>
                <a:lnTo>
                  <a:pt x="975" y="653"/>
                </a:lnTo>
                <a:lnTo>
                  <a:pt x="964" y="659"/>
                </a:lnTo>
                <a:lnTo>
                  <a:pt x="952" y="663"/>
                </a:lnTo>
                <a:lnTo>
                  <a:pt x="939" y="666"/>
                </a:lnTo>
                <a:lnTo>
                  <a:pt x="927" y="666"/>
                </a:lnTo>
                <a:lnTo>
                  <a:pt x="927" y="655"/>
                </a:lnTo>
                <a:lnTo>
                  <a:pt x="927" y="642"/>
                </a:lnTo>
                <a:lnTo>
                  <a:pt x="927" y="628"/>
                </a:lnTo>
                <a:lnTo>
                  <a:pt x="929" y="613"/>
                </a:lnTo>
                <a:lnTo>
                  <a:pt x="931" y="597"/>
                </a:lnTo>
                <a:lnTo>
                  <a:pt x="931" y="580"/>
                </a:lnTo>
                <a:lnTo>
                  <a:pt x="933" y="563"/>
                </a:lnTo>
                <a:lnTo>
                  <a:pt x="935" y="546"/>
                </a:lnTo>
                <a:lnTo>
                  <a:pt x="937" y="524"/>
                </a:lnTo>
                <a:lnTo>
                  <a:pt x="939" y="505"/>
                </a:lnTo>
                <a:lnTo>
                  <a:pt x="943" y="484"/>
                </a:lnTo>
                <a:lnTo>
                  <a:pt x="945" y="463"/>
                </a:lnTo>
                <a:lnTo>
                  <a:pt x="947" y="440"/>
                </a:lnTo>
                <a:lnTo>
                  <a:pt x="948" y="417"/>
                </a:lnTo>
                <a:lnTo>
                  <a:pt x="952" y="394"/>
                </a:lnTo>
                <a:lnTo>
                  <a:pt x="954" y="369"/>
                </a:lnTo>
                <a:lnTo>
                  <a:pt x="956" y="346"/>
                </a:lnTo>
                <a:lnTo>
                  <a:pt x="958" y="323"/>
                </a:lnTo>
                <a:lnTo>
                  <a:pt x="960" y="302"/>
                </a:lnTo>
                <a:lnTo>
                  <a:pt x="962" y="283"/>
                </a:lnTo>
                <a:lnTo>
                  <a:pt x="962" y="263"/>
                </a:lnTo>
                <a:lnTo>
                  <a:pt x="964" y="248"/>
                </a:lnTo>
                <a:lnTo>
                  <a:pt x="964" y="233"/>
                </a:lnTo>
                <a:lnTo>
                  <a:pt x="964" y="217"/>
                </a:lnTo>
                <a:lnTo>
                  <a:pt x="964" y="206"/>
                </a:lnTo>
                <a:lnTo>
                  <a:pt x="964" y="194"/>
                </a:lnTo>
                <a:lnTo>
                  <a:pt x="962" y="185"/>
                </a:lnTo>
                <a:lnTo>
                  <a:pt x="962" y="175"/>
                </a:lnTo>
                <a:lnTo>
                  <a:pt x="960" y="169"/>
                </a:lnTo>
                <a:lnTo>
                  <a:pt x="958" y="164"/>
                </a:lnTo>
                <a:lnTo>
                  <a:pt x="956" y="158"/>
                </a:lnTo>
                <a:lnTo>
                  <a:pt x="954" y="156"/>
                </a:lnTo>
                <a:lnTo>
                  <a:pt x="950" y="154"/>
                </a:lnTo>
                <a:lnTo>
                  <a:pt x="948" y="152"/>
                </a:lnTo>
                <a:lnTo>
                  <a:pt x="943" y="150"/>
                </a:lnTo>
                <a:lnTo>
                  <a:pt x="939" y="148"/>
                </a:lnTo>
                <a:lnTo>
                  <a:pt x="933" y="148"/>
                </a:lnTo>
                <a:lnTo>
                  <a:pt x="927" y="146"/>
                </a:lnTo>
                <a:lnTo>
                  <a:pt x="922" y="146"/>
                </a:lnTo>
                <a:lnTo>
                  <a:pt x="916" y="146"/>
                </a:lnTo>
                <a:lnTo>
                  <a:pt x="900" y="146"/>
                </a:lnTo>
                <a:lnTo>
                  <a:pt x="883" y="148"/>
                </a:lnTo>
                <a:lnTo>
                  <a:pt x="866" y="152"/>
                </a:lnTo>
                <a:lnTo>
                  <a:pt x="847" y="156"/>
                </a:lnTo>
                <a:lnTo>
                  <a:pt x="839" y="156"/>
                </a:lnTo>
                <a:lnTo>
                  <a:pt x="831" y="158"/>
                </a:lnTo>
                <a:lnTo>
                  <a:pt x="822" y="160"/>
                </a:lnTo>
                <a:lnTo>
                  <a:pt x="812" y="162"/>
                </a:lnTo>
                <a:lnTo>
                  <a:pt x="801" y="164"/>
                </a:lnTo>
                <a:lnTo>
                  <a:pt x="787" y="165"/>
                </a:lnTo>
                <a:lnTo>
                  <a:pt x="774" y="167"/>
                </a:lnTo>
                <a:lnTo>
                  <a:pt x="758" y="169"/>
                </a:lnTo>
                <a:lnTo>
                  <a:pt x="741" y="171"/>
                </a:lnTo>
                <a:lnTo>
                  <a:pt x="724" y="173"/>
                </a:lnTo>
                <a:lnTo>
                  <a:pt x="705" y="177"/>
                </a:lnTo>
                <a:lnTo>
                  <a:pt x="685" y="179"/>
                </a:lnTo>
                <a:lnTo>
                  <a:pt x="664" y="183"/>
                </a:lnTo>
                <a:lnTo>
                  <a:pt x="641" y="187"/>
                </a:lnTo>
                <a:lnTo>
                  <a:pt x="618" y="190"/>
                </a:lnTo>
                <a:lnTo>
                  <a:pt x="593" y="194"/>
                </a:lnTo>
                <a:lnTo>
                  <a:pt x="566" y="198"/>
                </a:lnTo>
                <a:lnTo>
                  <a:pt x="540" y="202"/>
                </a:lnTo>
                <a:lnTo>
                  <a:pt x="511" y="206"/>
                </a:lnTo>
                <a:lnTo>
                  <a:pt x="480" y="210"/>
                </a:lnTo>
                <a:lnTo>
                  <a:pt x="449" y="215"/>
                </a:lnTo>
                <a:lnTo>
                  <a:pt x="417" y="221"/>
                </a:lnTo>
                <a:lnTo>
                  <a:pt x="384" y="225"/>
                </a:lnTo>
                <a:lnTo>
                  <a:pt x="350" y="231"/>
                </a:lnTo>
                <a:lnTo>
                  <a:pt x="313" y="236"/>
                </a:lnTo>
                <a:lnTo>
                  <a:pt x="277" y="244"/>
                </a:lnTo>
                <a:lnTo>
                  <a:pt x="238" y="250"/>
                </a:lnTo>
                <a:lnTo>
                  <a:pt x="198" y="256"/>
                </a:lnTo>
                <a:lnTo>
                  <a:pt x="158" y="263"/>
                </a:lnTo>
                <a:lnTo>
                  <a:pt x="115" y="271"/>
                </a:lnTo>
                <a:lnTo>
                  <a:pt x="71" y="279"/>
                </a:lnTo>
                <a:lnTo>
                  <a:pt x="27" y="286"/>
                </a:lnTo>
                <a:lnTo>
                  <a:pt x="14" y="238"/>
                </a:lnTo>
                <a:lnTo>
                  <a:pt x="0" y="190"/>
                </a:lnTo>
                <a:lnTo>
                  <a:pt x="18" y="190"/>
                </a:lnTo>
                <a:lnTo>
                  <a:pt x="39" y="190"/>
                </a:lnTo>
                <a:lnTo>
                  <a:pt x="62" y="189"/>
                </a:lnTo>
                <a:lnTo>
                  <a:pt x="85" y="187"/>
                </a:lnTo>
                <a:lnTo>
                  <a:pt x="112" y="185"/>
                </a:lnTo>
                <a:lnTo>
                  <a:pt x="138" y="181"/>
                </a:lnTo>
                <a:lnTo>
                  <a:pt x="169" y="177"/>
                </a:lnTo>
                <a:lnTo>
                  <a:pt x="200" y="173"/>
                </a:lnTo>
                <a:lnTo>
                  <a:pt x="232" y="169"/>
                </a:lnTo>
                <a:lnTo>
                  <a:pt x="267" y="164"/>
                </a:lnTo>
                <a:lnTo>
                  <a:pt x="304" y="158"/>
                </a:lnTo>
                <a:lnTo>
                  <a:pt x="342" y="150"/>
                </a:lnTo>
                <a:lnTo>
                  <a:pt x="382" y="144"/>
                </a:lnTo>
                <a:lnTo>
                  <a:pt x="423" y="137"/>
                </a:lnTo>
                <a:lnTo>
                  <a:pt x="467" y="129"/>
                </a:lnTo>
                <a:lnTo>
                  <a:pt x="511" y="119"/>
                </a:lnTo>
                <a:lnTo>
                  <a:pt x="532" y="116"/>
                </a:lnTo>
                <a:lnTo>
                  <a:pt x="553" y="110"/>
                </a:lnTo>
                <a:lnTo>
                  <a:pt x="572" y="106"/>
                </a:lnTo>
                <a:lnTo>
                  <a:pt x="591" y="102"/>
                </a:lnTo>
                <a:lnTo>
                  <a:pt x="611" y="98"/>
                </a:lnTo>
                <a:lnTo>
                  <a:pt x="628" y="94"/>
                </a:lnTo>
                <a:lnTo>
                  <a:pt x="647" y="91"/>
                </a:lnTo>
                <a:lnTo>
                  <a:pt x="664" y="87"/>
                </a:lnTo>
                <a:lnTo>
                  <a:pt x="680" y="83"/>
                </a:lnTo>
                <a:lnTo>
                  <a:pt x="697" y="79"/>
                </a:lnTo>
                <a:lnTo>
                  <a:pt x="712" y="75"/>
                </a:lnTo>
                <a:lnTo>
                  <a:pt x="726" y="71"/>
                </a:lnTo>
                <a:lnTo>
                  <a:pt x="741" y="68"/>
                </a:lnTo>
                <a:lnTo>
                  <a:pt x="755" y="64"/>
                </a:lnTo>
                <a:lnTo>
                  <a:pt x="766" y="62"/>
                </a:lnTo>
                <a:lnTo>
                  <a:pt x="780" y="58"/>
                </a:lnTo>
                <a:lnTo>
                  <a:pt x="791" y="56"/>
                </a:lnTo>
                <a:lnTo>
                  <a:pt x="803" y="52"/>
                </a:lnTo>
                <a:lnTo>
                  <a:pt x="812" y="50"/>
                </a:lnTo>
                <a:lnTo>
                  <a:pt x="822" y="46"/>
                </a:lnTo>
                <a:lnTo>
                  <a:pt x="831" y="45"/>
                </a:lnTo>
                <a:lnTo>
                  <a:pt x="839" y="43"/>
                </a:lnTo>
                <a:lnTo>
                  <a:pt x="847" y="39"/>
                </a:lnTo>
                <a:lnTo>
                  <a:pt x="854" y="37"/>
                </a:lnTo>
                <a:lnTo>
                  <a:pt x="860" y="35"/>
                </a:lnTo>
                <a:lnTo>
                  <a:pt x="866" y="33"/>
                </a:lnTo>
                <a:lnTo>
                  <a:pt x="872" y="31"/>
                </a:lnTo>
                <a:lnTo>
                  <a:pt x="876" y="29"/>
                </a:lnTo>
                <a:lnTo>
                  <a:pt x="879" y="29"/>
                </a:lnTo>
                <a:lnTo>
                  <a:pt x="883" y="27"/>
                </a:lnTo>
                <a:lnTo>
                  <a:pt x="885" y="25"/>
                </a:lnTo>
                <a:lnTo>
                  <a:pt x="887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250"/>
          <p:cNvSpPr/>
          <p:nvPr/>
        </p:nvSpPr>
        <p:spPr>
          <a:xfrm>
            <a:off x="6480000" y="4054320"/>
            <a:ext cx="649440" cy="169920"/>
          </a:xfrm>
          <a:custGeom>
            <a:avLst/>
            <a:gdLst/>
            <a:ahLst/>
            <a:rect l="l" t="t" r="r" b="b"/>
            <a:pathLst>
              <a:path w="820" h="213">
                <a:moveTo>
                  <a:pt x="0" y="213"/>
                </a:moveTo>
                <a:lnTo>
                  <a:pt x="0" y="173"/>
                </a:lnTo>
                <a:lnTo>
                  <a:pt x="0" y="130"/>
                </a:lnTo>
                <a:lnTo>
                  <a:pt x="204" y="98"/>
                </a:lnTo>
                <a:lnTo>
                  <a:pt x="409" y="65"/>
                </a:lnTo>
                <a:lnTo>
                  <a:pt x="614" y="33"/>
                </a:lnTo>
                <a:lnTo>
                  <a:pt x="820" y="0"/>
                </a:lnTo>
                <a:lnTo>
                  <a:pt x="820" y="48"/>
                </a:lnTo>
                <a:lnTo>
                  <a:pt x="820" y="96"/>
                </a:lnTo>
                <a:lnTo>
                  <a:pt x="808" y="96"/>
                </a:lnTo>
                <a:lnTo>
                  <a:pt x="795" y="98"/>
                </a:lnTo>
                <a:lnTo>
                  <a:pt x="781" y="100"/>
                </a:lnTo>
                <a:lnTo>
                  <a:pt x="768" y="102"/>
                </a:lnTo>
                <a:lnTo>
                  <a:pt x="752" y="104"/>
                </a:lnTo>
                <a:lnTo>
                  <a:pt x="735" y="106"/>
                </a:lnTo>
                <a:lnTo>
                  <a:pt x="718" y="107"/>
                </a:lnTo>
                <a:lnTo>
                  <a:pt x="701" y="109"/>
                </a:lnTo>
                <a:lnTo>
                  <a:pt x="681" y="113"/>
                </a:lnTo>
                <a:lnTo>
                  <a:pt x="662" y="115"/>
                </a:lnTo>
                <a:lnTo>
                  <a:pt x="641" y="119"/>
                </a:lnTo>
                <a:lnTo>
                  <a:pt x="620" y="121"/>
                </a:lnTo>
                <a:lnTo>
                  <a:pt x="597" y="125"/>
                </a:lnTo>
                <a:lnTo>
                  <a:pt x="574" y="129"/>
                </a:lnTo>
                <a:lnTo>
                  <a:pt x="551" y="132"/>
                </a:lnTo>
                <a:lnTo>
                  <a:pt x="526" y="136"/>
                </a:lnTo>
                <a:lnTo>
                  <a:pt x="499" y="140"/>
                </a:lnTo>
                <a:lnTo>
                  <a:pt x="472" y="144"/>
                </a:lnTo>
                <a:lnTo>
                  <a:pt x="445" y="148"/>
                </a:lnTo>
                <a:lnTo>
                  <a:pt x="417" y="153"/>
                </a:lnTo>
                <a:lnTo>
                  <a:pt x="386" y="157"/>
                </a:lnTo>
                <a:lnTo>
                  <a:pt x="355" y="161"/>
                </a:lnTo>
                <a:lnTo>
                  <a:pt x="324" y="167"/>
                </a:lnTo>
                <a:lnTo>
                  <a:pt x="292" y="171"/>
                </a:lnTo>
                <a:lnTo>
                  <a:pt x="259" y="177"/>
                </a:lnTo>
                <a:lnTo>
                  <a:pt x="225" y="180"/>
                </a:lnTo>
                <a:lnTo>
                  <a:pt x="190" y="186"/>
                </a:lnTo>
                <a:lnTo>
                  <a:pt x="154" y="192"/>
                </a:lnTo>
                <a:lnTo>
                  <a:pt x="117" y="198"/>
                </a:lnTo>
                <a:lnTo>
                  <a:pt x="79" y="201"/>
                </a:lnTo>
                <a:lnTo>
                  <a:pt x="40" y="207"/>
                </a:lnTo>
                <a:lnTo>
                  <a:pt x="0" y="2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251"/>
          <p:cNvSpPr/>
          <p:nvPr/>
        </p:nvSpPr>
        <p:spPr>
          <a:xfrm>
            <a:off x="6446880" y="3451320"/>
            <a:ext cx="900000" cy="179280"/>
          </a:xfrm>
          <a:custGeom>
            <a:avLst/>
            <a:gdLst/>
            <a:ahLst/>
            <a:rect l="l" t="t" r="r" b="b"/>
            <a:pathLst>
              <a:path w="1132" h="224">
                <a:moveTo>
                  <a:pt x="1128" y="59"/>
                </a:moveTo>
                <a:lnTo>
                  <a:pt x="1126" y="67"/>
                </a:lnTo>
                <a:lnTo>
                  <a:pt x="1126" y="75"/>
                </a:lnTo>
                <a:lnTo>
                  <a:pt x="1123" y="80"/>
                </a:lnTo>
                <a:lnTo>
                  <a:pt x="1119" y="84"/>
                </a:lnTo>
                <a:lnTo>
                  <a:pt x="1115" y="88"/>
                </a:lnTo>
                <a:lnTo>
                  <a:pt x="1111" y="92"/>
                </a:lnTo>
                <a:lnTo>
                  <a:pt x="1105" y="94"/>
                </a:lnTo>
                <a:lnTo>
                  <a:pt x="1101" y="94"/>
                </a:lnTo>
                <a:lnTo>
                  <a:pt x="1100" y="94"/>
                </a:lnTo>
                <a:lnTo>
                  <a:pt x="1098" y="94"/>
                </a:lnTo>
                <a:lnTo>
                  <a:pt x="1096" y="94"/>
                </a:lnTo>
                <a:lnTo>
                  <a:pt x="1092" y="94"/>
                </a:lnTo>
                <a:lnTo>
                  <a:pt x="1088" y="94"/>
                </a:lnTo>
                <a:lnTo>
                  <a:pt x="1084" y="96"/>
                </a:lnTo>
                <a:lnTo>
                  <a:pt x="1080" y="96"/>
                </a:lnTo>
                <a:lnTo>
                  <a:pt x="1075" y="96"/>
                </a:lnTo>
                <a:lnTo>
                  <a:pt x="1069" y="96"/>
                </a:lnTo>
                <a:lnTo>
                  <a:pt x="1063" y="98"/>
                </a:lnTo>
                <a:lnTo>
                  <a:pt x="1057" y="98"/>
                </a:lnTo>
                <a:lnTo>
                  <a:pt x="1050" y="100"/>
                </a:lnTo>
                <a:lnTo>
                  <a:pt x="1044" y="100"/>
                </a:lnTo>
                <a:lnTo>
                  <a:pt x="1034" y="100"/>
                </a:lnTo>
                <a:lnTo>
                  <a:pt x="1027" y="102"/>
                </a:lnTo>
                <a:lnTo>
                  <a:pt x="1017" y="102"/>
                </a:lnTo>
                <a:lnTo>
                  <a:pt x="1007" y="103"/>
                </a:lnTo>
                <a:lnTo>
                  <a:pt x="998" y="105"/>
                </a:lnTo>
                <a:lnTo>
                  <a:pt x="988" y="105"/>
                </a:lnTo>
                <a:lnTo>
                  <a:pt x="977" y="107"/>
                </a:lnTo>
                <a:lnTo>
                  <a:pt x="965" y="109"/>
                </a:lnTo>
                <a:lnTo>
                  <a:pt x="954" y="109"/>
                </a:lnTo>
                <a:lnTo>
                  <a:pt x="942" y="111"/>
                </a:lnTo>
                <a:lnTo>
                  <a:pt x="929" y="113"/>
                </a:lnTo>
                <a:lnTo>
                  <a:pt x="915" y="115"/>
                </a:lnTo>
                <a:lnTo>
                  <a:pt x="902" y="117"/>
                </a:lnTo>
                <a:lnTo>
                  <a:pt x="887" y="119"/>
                </a:lnTo>
                <a:lnTo>
                  <a:pt x="871" y="119"/>
                </a:lnTo>
                <a:lnTo>
                  <a:pt x="856" y="121"/>
                </a:lnTo>
                <a:lnTo>
                  <a:pt x="840" y="123"/>
                </a:lnTo>
                <a:lnTo>
                  <a:pt x="823" y="125"/>
                </a:lnTo>
                <a:lnTo>
                  <a:pt x="808" y="128"/>
                </a:lnTo>
                <a:lnTo>
                  <a:pt x="791" y="130"/>
                </a:lnTo>
                <a:lnTo>
                  <a:pt x="771" y="132"/>
                </a:lnTo>
                <a:lnTo>
                  <a:pt x="754" y="134"/>
                </a:lnTo>
                <a:lnTo>
                  <a:pt x="735" y="136"/>
                </a:lnTo>
                <a:lnTo>
                  <a:pt x="716" y="138"/>
                </a:lnTo>
                <a:lnTo>
                  <a:pt x="695" y="142"/>
                </a:lnTo>
                <a:lnTo>
                  <a:pt x="675" y="144"/>
                </a:lnTo>
                <a:lnTo>
                  <a:pt x="654" y="146"/>
                </a:lnTo>
                <a:lnTo>
                  <a:pt x="633" y="150"/>
                </a:lnTo>
                <a:lnTo>
                  <a:pt x="610" y="151"/>
                </a:lnTo>
                <a:lnTo>
                  <a:pt x="587" y="153"/>
                </a:lnTo>
                <a:lnTo>
                  <a:pt x="564" y="157"/>
                </a:lnTo>
                <a:lnTo>
                  <a:pt x="541" y="159"/>
                </a:lnTo>
                <a:lnTo>
                  <a:pt x="518" y="163"/>
                </a:lnTo>
                <a:lnTo>
                  <a:pt x="493" y="165"/>
                </a:lnTo>
                <a:lnTo>
                  <a:pt x="468" y="169"/>
                </a:lnTo>
                <a:lnTo>
                  <a:pt x="443" y="173"/>
                </a:lnTo>
                <a:lnTo>
                  <a:pt x="416" y="174"/>
                </a:lnTo>
                <a:lnTo>
                  <a:pt x="389" y="178"/>
                </a:lnTo>
                <a:lnTo>
                  <a:pt x="363" y="182"/>
                </a:lnTo>
                <a:lnTo>
                  <a:pt x="336" y="184"/>
                </a:lnTo>
                <a:lnTo>
                  <a:pt x="307" y="188"/>
                </a:lnTo>
                <a:lnTo>
                  <a:pt x="278" y="192"/>
                </a:lnTo>
                <a:lnTo>
                  <a:pt x="249" y="196"/>
                </a:lnTo>
                <a:lnTo>
                  <a:pt x="220" y="198"/>
                </a:lnTo>
                <a:lnTo>
                  <a:pt x="190" y="201"/>
                </a:lnTo>
                <a:lnTo>
                  <a:pt x="159" y="205"/>
                </a:lnTo>
                <a:lnTo>
                  <a:pt x="128" y="209"/>
                </a:lnTo>
                <a:lnTo>
                  <a:pt x="98" y="213"/>
                </a:lnTo>
                <a:lnTo>
                  <a:pt x="65" y="217"/>
                </a:lnTo>
                <a:lnTo>
                  <a:pt x="32" y="221"/>
                </a:lnTo>
                <a:lnTo>
                  <a:pt x="0" y="224"/>
                </a:lnTo>
                <a:lnTo>
                  <a:pt x="0" y="190"/>
                </a:lnTo>
                <a:lnTo>
                  <a:pt x="0" y="153"/>
                </a:lnTo>
                <a:lnTo>
                  <a:pt x="55" y="144"/>
                </a:lnTo>
                <a:lnTo>
                  <a:pt x="109" y="134"/>
                </a:lnTo>
                <a:lnTo>
                  <a:pt x="161" y="125"/>
                </a:lnTo>
                <a:lnTo>
                  <a:pt x="213" y="115"/>
                </a:lnTo>
                <a:lnTo>
                  <a:pt x="263" y="107"/>
                </a:lnTo>
                <a:lnTo>
                  <a:pt x="309" y="98"/>
                </a:lnTo>
                <a:lnTo>
                  <a:pt x="355" y="90"/>
                </a:lnTo>
                <a:lnTo>
                  <a:pt x="399" y="82"/>
                </a:lnTo>
                <a:lnTo>
                  <a:pt x="443" y="77"/>
                </a:lnTo>
                <a:lnTo>
                  <a:pt x="483" y="69"/>
                </a:lnTo>
                <a:lnTo>
                  <a:pt x="522" y="63"/>
                </a:lnTo>
                <a:lnTo>
                  <a:pt x="560" y="57"/>
                </a:lnTo>
                <a:lnTo>
                  <a:pt x="597" y="50"/>
                </a:lnTo>
                <a:lnTo>
                  <a:pt x="631" y="46"/>
                </a:lnTo>
                <a:lnTo>
                  <a:pt x="664" y="40"/>
                </a:lnTo>
                <a:lnTo>
                  <a:pt x="695" y="34"/>
                </a:lnTo>
                <a:lnTo>
                  <a:pt x="723" y="31"/>
                </a:lnTo>
                <a:lnTo>
                  <a:pt x="752" y="27"/>
                </a:lnTo>
                <a:lnTo>
                  <a:pt x="777" y="23"/>
                </a:lnTo>
                <a:lnTo>
                  <a:pt x="802" y="19"/>
                </a:lnTo>
                <a:lnTo>
                  <a:pt x="825" y="15"/>
                </a:lnTo>
                <a:lnTo>
                  <a:pt x="846" y="13"/>
                </a:lnTo>
                <a:lnTo>
                  <a:pt x="865" y="9"/>
                </a:lnTo>
                <a:lnTo>
                  <a:pt x="883" y="8"/>
                </a:lnTo>
                <a:lnTo>
                  <a:pt x="900" y="6"/>
                </a:lnTo>
                <a:lnTo>
                  <a:pt x="913" y="4"/>
                </a:lnTo>
                <a:lnTo>
                  <a:pt x="927" y="2"/>
                </a:lnTo>
                <a:lnTo>
                  <a:pt x="938" y="2"/>
                </a:lnTo>
                <a:lnTo>
                  <a:pt x="948" y="0"/>
                </a:lnTo>
                <a:lnTo>
                  <a:pt x="956" y="0"/>
                </a:lnTo>
                <a:lnTo>
                  <a:pt x="961" y="0"/>
                </a:lnTo>
                <a:lnTo>
                  <a:pt x="967" y="0"/>
                </a:lnTo>
                <a:lnTo>
                  <a:pt x="998" y="0"/>
                </a:lnTo>
                <a:lnTo>
                  <a:pt x="1011" y="0"/>
                </a:lnTo>
                <a:lnTo>
                  <a:pt x="1027" y="0"/>
                </a:lnTo>
                <a:lnTo>
                  <a:pt x="1042" y="2"/>
                </a:lnTo>
                <a:lnTo>
                  <a:pt x="1057" y="4"/>
                </a:lnTo>
                <a:lnTo>
                  <a:pt x="1073" y="6"/>
                </a:lnTo>
                <a:lnTo>
                  <a:pt x="1088" y="11"/>
                </a:lnTo>
                <a:lnTo>
                  <a:pt x="1096" y="13"/>
                </a:lnTo>
                <a:lnTo>
                  <a:pt x="1101" y="15"/>
                </a:lnTo>
                <a:lnTo>
                  <a:pt x="1107" y="17"/>
                </a:lnTo>
                <a:lnTo>
                  <a:pt x="1113" y="19"/>
                </a:lnTo>
                <a:lnTo>
                  <a:pt x="1117" y="23"/>
                </a:lnTo>
                <a:lnTo>
                  <a:pt x="1121" y="25"/>
                </a:lnTo>
                <a:lnTo>
                  <a:pt x="1125" y="27"/>
                </a:lnTo>
                <a:lnTo>
                  <a:pt x="1128" y="31"/>
                </a:lnTo>
                <a:lnTo>
                  <a:pt x="1130" y="32"/>
                </a:lnTo>
                <a:lnTo>
                  <a:pt x="1132" y="36"/>
                </a:lnTo>
                <a:lnTo>
                  <a:pt x="1132" y="38"/>
                </a:lnTo>
                <a:lnTo>
                  <a:pt x="1132" y="42"/>
                </a:lnTo>
                <a:lnTo>
                  <a:pt x="1132" y="46"/>
                </a:lnTo>
                <a:lnTo>
                  <a:pt x="1132" y="50"/>
                </a:lnTo>
                <a:lnTo>
                  <a:pt x="1130" y="54"/>
                </a:lnTo>
                <a:lnTo>
                  <a:pt x="1128" y="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252"/>
          <p:cNvSpPr/>
          <p:nvPr/>
        </p:nvSpPr>
        <p:spPr>
          <a:xfrm>
            <a:off x="6896160" y="2903400"/>
            <a:ext cx="212760" cy="622440"/>
          </a:xfrm>
          <a:custGeom>
            <a:avLst/>
            <a:gdLst/>
            <a:ahLst/>
            <a:rect l="l" t="t" r="r" b="b"/>
            <a:pathLst>
              <a:path w="269" h="785">
                <a:moveTo>
                  <a:pt x="94" y="785"/>
                </a:moveTo>
                <a:lnTo>
                  <a:pt x="46" y="785"/>
                </a:lnTo>
                <a:lnTo>
                  <a:pt x="0" y="785"/>
                </a:lnTo>
                <a:lnTo>
                  <a:pt x="12" y="725"/>
                </a:lnTo>
                <a:lnTo>
                  <a:pt x="23" y="668"/>
                </a:lnTo>
                <a:lnTo>
                  <a:pt x="33" y="610"/>
                </a:lnTo>
                <a:lnTo>
                  <a:pt x="42" y="555"/>
                </a:lnTo>
                <a:lnTo>
                  <a:pt x="50" y="501"/>
                </a:lnTo>
                <a:lnTo>
                  <a:pt x="58" y="449"/>
                </a:lnTo>
                <a:lnTo>
                  <a:pt x="63" y="397"/>
                </a:lnTo>
                <a:lnTo>
                  <a:pt x="69" y="347"/>
                </a:lnTo>
                <a:lnTo>
                  <a:pt x="75" y="299"/>
                </a:lnTo>
                <a:lnTo>
                  <a:pt x="77" y="253"/>
                </a:lnTo>
                <a:lnTo>
                  <a:pt x="81" y="207"/>
                </a:lnTo>
                <a:lnTo>
                  <a:pt x="83" y="163"/>
                </a:lnTo>
                <a:lnTo>
                  <a:pt x="83" y="121"/>
                </a:lnTo>
                <a:lnTo>
                  <a:pt x="83" y="79"/>
                </a:lnTo>
                <a:lnTo>
                  <a:pt x="83" y="38"/>
                </a:lnTo>
                <a:lnTo>
                  <a:pt x="81" y="0"/>
                </a:lnTo>
                <a:lnTo>
                  <a:pt x="102" y="17"/>
                </a:lnTo>
                <a:lnTo>
                  <a:pt x="123" y="34"/>
                </a:lnTo>
                <a:lnTo>
                  <a:pt x="142" y="50"/>
                </a:lnTo>
                <a:lnTo>
                  <a:pt x="159" y="63"/>
                </a:lnTo>
                <a:lnTo>
                  <a:pt x="177" y="77"/>
                </a:lnTo>
                <a:lnTo>
                  <a:pt x="192" y="88"/>
                </a:lnTo>
                <a:lnTo>
                  <a:pt x="207" y="100"/>
                </a:lnTo>
                <a:lnTo>
                  <a:pt x="219" y="109"/>
                </a:lnTo>
                <a:lnTo>
                  <a:pt x="230" y="119"/>
                </a:lnTo>
                <a:lnTo>
                  <a:pt x="240" y="126"/>
                </a:lnTo>
                <a:lnTo>
                  <a:pt x="250" y="132"/>
                </a:lnTo>
                <a:lnTo>
                  <a:pt x="255" y="140"/>
                </a:lnTo>
                <a:lnTo>
                  <a:pt x="261" y="144"/>
                </a:lnTo>
                <a:lnTo>
                  <a:pt x="265" y="150"/>
                </a:lnTo>
                <a:lnTo>
                  <a:pt x="267" y="151"/>
                </a:lnTo>
                <a:lnTo>
                  <a:pt x="269" y="155"/>
                </a:lnTo>
                <a:lnTo>
                  <a:pt x="269" y="157"/>
                </a:lnTo>
                <a:lnTo>
                  <a:pt x="269" y="161"/>
                </a:lnTo>
                <a:lnTo>
                  <a:pt x="269" y="165"/>
                </a:lnTo>
                <a:lnTo>
                  <a:pt x="269" y="169"/>
                </a:lnTo>
                <a:lnTo>
                  <a:pt x="269" y="173"/>
                </a:lnTo>
                <a:lnTo>
                  <a:pt x="267" y="178"/>
                </a:lnTo>
                <a:lnTo>
                  <a:pt x="267" y="184"/>
                </a:lnTo>
                <a:lnTo>
                  <a:pt x="267" y="190"/>
                </a:lnTo>
                <a:lnTo>
                  <a:pt x="265" y="198"/>
                </a:lnTo>
                <a:lnTo>
                  <a:pt x="265" y="205"/>
                </a:lnTo>
                <a:lnTo>
                  <a:pt x="263" y="213"/>
                </a:lnTo>
                <a:lnTo>
                  <a:pt x="263" y="222"/>
                </a:lnTo>
                <a:lnTo>
                  <a:pt x="261" y="230"/>
                </a:lnTo>
                <a:lnTo>
                  <a:pt x="259" y="240"/>
                </a:lnTo>
                <a:lnTo>
                  <a:pt x="257" y="251"/>
                </a:lnTo>
                <a:lnTo>
                  <a:pt x="255" y="263"/>
                </a:lnTo>
                <a:lnTo>
                  <a:pt x="253" y="269"/>
                </a:lnTo>
                <a:lnTo>
                  <a:pt x="251" y="274"/>
                </a:lnTo>
                <a:lnTo>
                  <a:pt x="250" y="282"/>
                </a:lnTo>
                <a:lnTo>
                  <a:pt x="248" y="290"/>
                </a:lnTo>
                <a:lnTo>
                  <a:pt x="246" y="297"/>
                </a:lnTo>
                <a:lnTo>
                  <a:pt x="244" y="307"/>
                </a:lnTo>
                <a:lnTo>
                  <a:pt x="240" y="317"/>
                </a:lnTo>
                <a:lnTo>
                  <a:pt x="238" y="326"/>
                </a:lnTo>
                <a:lnTo>
                  <a:pt x="234" y="338"/>
                </a:lnTo>
                <a:lnTo>
                  <a:pt x="230" y="349"/>
                </a:lnTo>
                <a:lnTo>
                  <a:pt x="227" y="363"/>
                </a:lnTo>
                <a:lnTo>
                  <a:pt x="223" y="374"/>
                </a:lnTo>
                <a:lnTo>
                  <a:pt x="219" y="389"/>
                </a:lnTo>
                <a:lnTo>
                  <a:pt x="213" y="403"/>
                </a:lnTo>
                <a:lnTo>
                  <a:pt x="209" y="418"/>
                </a:lnTo>
                <a:lnTo>
                  <a:pt x="204" y="434"/>
                </a:lnTo>
                <a:lnTo>
                  <a:pt x="200" y="451"/>
                </a:lnTo>
                <a:lnTo>
                  <a:pt x="194" y="468"/>
                </a:lnTo>
                <a:lnTo>
                  <a:pt x="188" y="485"/>
                </a:lnTo>
                <a:lnTo>
                  <a:pt x="182" y="505"/>
                </a:lnTo>
                <a:lnTo>
                  <a:pt x="175" y="524"/>
                </a:lnTo>
                <a:lnTo>
                  <a:pt x="169" y="543"/>
                </a:lnTo>
                <a:lnTo>
                  <a:pt x="163" y="564"/>
                </a:lnTo>
                <a:lnTo>
                  <a:pt x="156" y="585"/>
                </a:lnTo>
                <a:lnTo>
                  <a:pt x="150" y="608"/>
                </a:lnTo>
                <a:lnTo>
                  <a:pt x="142" y="631"/>
                </a:lnTo>
                <a:lnTo>
                  <a:pt x="134" y="654"/>
                </a:lnTo>
                <a:lnTo>
                  <a:pt x="127" y="679"/>
                </a:lnTo>
                <a:lnTo>
                  <a:pt x="119" y="704"/>
                </a:lnTo>
                <a:lnTo>
                  <a:pt x="111" y="731"/>
                </a:lnTo>
                <a:lnTo>
                  <a:pt x="102" y="758"/>
                </a:lnTo>
                <a:lnTo>
                  <a:pt x="94" y="7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253"/>
          <p:cNvSpPr/>
          <p:nvPr/>
        </p:nvSpPr>
        <p:spPr>
          <a:xfrm>
            <a:off x="6564240" y="3006720"/>
            <a:ext cx="146160" cy="576360"/>
          </a:xfrm>
          <a:custGeom>
            <a:avLst/>
            <a:gdLst/>
            <a:ahLst/>
            <a:rect l="l" t="t" r="r" b="b"/>
            <a:pathLst>
              <a:path w="184" h="726">
                <a:moveTo>
                  <a:pt x="40" y="726"/>
                </a:moveTo>
                <a:lnTo>
                  <a:pt x="40" y="686"/>
                </a:lnTo>
                <a:lnTo>
                  <a:pt x="38" y="645"/>
                </a:lnTo>
                <a:lnTo>
                  <a:pt x="38" y="603"/>
                </a:lnTo>
                <a:lnTo>
                  <a:pt x="36" y="561"/>
                </a:lnTo>
                <a:lnTo>
                  <a:pt x="36" y="519"/>
                </a:lnTo>
                <a:lnTo>
                  <a:pt x="34" y="474"/>
                </a:lnTo>
                <a:lnTo>
                  <a:pt x="32" y="430"/>
                </a:lnTo>
                <a:lnTo>
                  <a:pt x="28" y="386"/>
                </a:lnTo>
                <a:lnTo>
                  <a:pt x="26" y="340"/>
                </a:lnTo>
                <a:lnTo>
                  <a:pt x="23" y="294"/>
                </a:lnTo>
                <a:lnTo>
                  <a:pt x="21" y="248"/>
                </a:lnTo>
                <a:lnTo>
                  <a:pt x="17" y="200"/>
                </a:lnTo>
                <a:lnTo>
                  <a:pt x="13" y="152"/>
                </a:lnTo>
                <a:lnTo>
                  <a:pt x="9" y="102"/>
                </a:lnTo>
                <a:lnTo>
                  <a:pt x="3" y="52"/>
                </a:lnTo>
                <a:lnTo>
                  <a:pt x="0" y="0"/>
                </a:lnTo>
                <a:lnTo>
                  <a:pt x="19" y="10"/>
                </a:lnTo>
                <a:lnTo>
                  <a:pt x="36" y="18"/>
                </a:lnTo>
                <a:lnTo>
                  <a:pt x="53" y="27"/>
                </a:lnTo>
                <a:lnTo>
                  <a:pt x="71" y="35"/>
                </a:lnTo>
                <a:lnTo>
                  <a:pt x="84" y="43"/>
                </a:lnTo>
                <a:lnTo>
                  <a:pt x="97" y="50"/>
                </a:lnTo>
                <a:lnTo>
                  <a:pt x="111" y="56"/>
                </a:lnTo>
                <a:lnTo>
                  <a:pt x="122" y="64"/>
                </a:lnTo>
                <a:lnTo>
                  <a:pt x="132" y="69"/>
                </a:lnTo>
                <a:lnTo>
                  <a:pt x="142" y="77"/>
                </a:lnTo>
                <a:lnTo>
                  <a:pt x="149" y="83"/>
                </a:lnTo>
                <a:lnTo>
                  <a:pt x="155" y="89"/>
                </a:lnTo>
                <a:lnTo>
                  <a:pt x="163" y="92"/>
                </a:lnTo>
                <a:lnTo>
                  <a:pt x="167" y="98"/>
                </a:lnTo>
                <a:lnTo>
                  <a:pt x="170" y="104"/>
                </a:lnTo>
                <a:lnTo>
                  <a:pt x="174" y="108"/>
                </a:lnTo>
                <a:lnTo>
                  <a:pt x="176" y="114"/>
                </a:lnTo>
                <a:lnTo>
                  <a:pt x="178" y="117"/>
                </a:lnTo>
                <a:lnTo>
                  <a:pt x="180" y="123"/>
                </a:lnTo>
                <a:lnTo>
                  <a:pt x="182" y="131"/>
                </a:lnTo>
                <a:lnTo>
                  <a:pt x="182" y="137"/>
                </a:lnTo>
                <a:lnTo>
                  <a:pt x="184" y="144"/>
                </a:lnTo>
                <a:lnTo>
                  <a:pt x="184" y="152"/>
                </a:lnTo>
                <a:lnTo>
                  <a:pt x="184" y="162"/>
                </a:lnTo>
                <a:lnTo>
                  <a:pt x="184" y="171"/>
                </a:lnTo>
                <a:lnTo>
                  <a:pt x="184" y="181"/>
                </a:lnTo>
                <a:lnTo>
                  <a:pt x="182" y="190"/>
                </a:lnTo>
                <a:lnTo>
                  <a:pt x="182" y="202"/>
                </a:lnTo>
                <a:lnTo>
                  <a:pt x="180" y="213"/>
                </a:lnTo>
                <a:lnTo>
                  <a:pt x="178" y="225"/>
                </a:lnTo>
                <a:lnTo>
                  <a:pt x="176" y="236"/>
                </a:lnTo>
                <a:lnTo>
                  <a:pt x="174" y="250"/>
                </a:lnTo>
                <a:lnTo>
                  <a:pt x="172" y="267"/>
                </a:lnTo>
                <a:lnTo>
                  <a:pt x="168" y="284"/>
                </a:lnTo>
                <a:lnTo>
                  <a:pt x="168" y="304"/>
                </a:lnTo>
                <a:lnTo>
                  <a:pt x="167" y="325"/>
                </a:lnTo>
                <a:lnTo>
                  <a:pt x="165" y="346"/>
                </a:lnTo>
                <a:lnTo>
                  <a:pt x="163" y="371"/>
                </a:lnTo>
                <a:lnTo>
                  <a:pt x="163" y="396"/>
                </a:lnTo>
                <a:lnTo>
                  <a:pt x="163" y="423"/>
                </a:lnTo>
                <a:lnTo>
                  <a:pt x="161" y="451"/>
                </a:lnTo>
                <a:lnTo>
                  <a:pt x="161" y="482"/>
                </a:lnTo>
                <a:lnTo>
                  <a:pt x="161" y="515"/>
                </a:lnTo>
                <a:lnTo>
                  <a:pt x="161" y="547"/>
                </a:lnTo>
                <a:lnTo>
                  <a:pt x="161" y="584"/>
                </a:lnTo>
                <a:lnTo>
                  <a:pt x="161" y="622"/>
                </a:lnTo>
                <a:lnTo>
                  <a:pt x="161" y="641"/>
                </a:lnTo>
                <a:lnTo>
                  <a:pt x="161" y="661"/>
                </a:lnTo>
                <a:lnTo>
                  <a:pt x="161" y="682"/>
                </a:lnTo>
                <a:lnTo>
                  <a:pt x="161" y="703"/>
                </a:lnTo>
                <a:lnTo>
                  <a:pt x="99" y="714"/>
                </a:lnTo>
                <a:lnTo>
                  <a:pt x="40" y="7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254"/>
          <p:cNvSpPr/>
          <p:nvPr/>
        </p:nvSpPr>
        <p:spPr>
          <a:xfrm>
            <a:off x="6180120" y="3303720"/>
            <a:ext cx="289080" cy="372960"/>
          </a:xfrm>
          <a:custGeom>
            <a:avLst/>
            <a:gdLst/>
            <a:ahLst/>
            <a:rect l="l" t="t" r="r" b="b"/>
            <a:pathLst>
              <a:path w="363" h="470">
                <a:moveTo>
                  <a:pt x="228" y="30"/>
                </a:moveTo>
                <a:lnTo>
                  <a:pt x="236" y="50"/>
                </a:lnTo>
                <a:lnTo>
                  <a:pt x="246" y="69"/>
                </a:lnTo>
                <a:lnTo>
                  <a:pt x="253" y="88"/>
                </a:lnTo>
                <a:lnTo>
                  <a:pt x="261" y="107"/>
                </a:lnTo>
                <a:lnTo>
                  <a:pt x="267" y="124"/>
                </a:lnTo>
                <a:lnTo>
                  <a:pt x="274" y="142"/>
                </a:lnTo>
                <a:lnTo>
                  <a:pt x="282" y="159"/>
                </a:lnTo>
                <a:lnTo>
                  <a:pt x="288" y="176"/>
                </a:lnTo>
                <a:lnTo>
                  <a:pt x="294" y="192"/>
                </a:lnTo>
                <a:lnTo>
                  <a:pt x="299" y="207"/>
                </a:lnTo>
                <a:lnTo>
                  <a:pt x="305" y="220"/>
                </a:lnTo>
                <a:lnTo>
                  <a:pt x="311" y="236"/>
                </a:lnTo>
                <a:lnTo>
                  <a:pt x="317" y="249"/>
                </a:lnTo>
                <a:lnTo>
                  <a:pt x="320" y="263"/>
                </a:lnTo>
                <a:lnTo>
                  <a:pt x="326" y="276"/>
                </a:lnTo>
                <a:lnTo>
                  <a:pt x="330" y="288"/>
                </a:lnTo>
                <a:lnTo>
                  <a:pt x="334" y="299"/>
                </a:lnTo>
                <a:lnTo>
                  <a:pt x="338" y="311"/>
                </a:lnTo>
                <a:lnTo>
                  <a:pt x="341" y="320"/>
                </a:lnTo>
                <a:lnTo>
                  <a:pt x="343" y="332"/>
                </a:lnTo>
                <a:lnTo>
                  <a:pt x="347" y="341"/>
                </a:lnTo>
                <a:lnTo>
                  <a:pt x="349" y="349"/>
                </a:lnTo>
                <a:lnTo>
                  <a:pt x="353" y="359"/>
                </a:lnTo>
                <a:lnTo>
                  <a:pt x="355" y="366"/>
                </a:lnTo>
                <a:lnTo>
                  <a:pt x="357" y="374"/>
                </a:lnTo>
                <a:lnTo>
                  <a:pt x="357" y="382"/>
                </a:lnTo>
                <a:lnTo>
                  <a:pt x="359" y="387"/>
                </a:lnTo>
                <a:lnTo>
                  <a:pt x="361" y="393"/>
                </a:lnTo>
                <a:lnTo>
                  <a:pt x="361" y="399"/>
                </a:lnTo>
                <a:lnTo>
                  <a:pt x="363" y="403"/>
                </a:lnTo>
                <a:lnTo>
                  <a:pt x="363" y="407"/>
                </a:lnTo>
                <a:lnTo>
                  <a:pt x="363" y="410"/>
                </a:lnTo>
                <a:lnTo>
                  <a:pt x="361" y="424"/>
                </a:lnTo>
                <a:lnTo>
                  <a:pt x="361" y="435"/>
                </a:lnTo>
                <a:lnTo>
                  <a:pt x="357" y="445"/>
                </a:lnTo>
                <a:lnTo>
                  <a:pt x="353" y="455"/>
                </a:lnTo>
                <a:lnTo>
                  <a:pt x="349" y="460"/>
                </a:lnTo>
                <a:lnTo>
                  <a:pt x="347" y="464"/>
                </a:lnTo>
                <a:lnTo>
                  <a:pt x="345" y="466"/>
                </a:lnTo>
                <a:lnTo>
                  <a:pt x="343" y="468"/>
                </a:lnTo>
                <a:lnTo>
                  <a:pt x="340" y="468"/>
                </a:lnTo>
                <a:lnTo>
                  <a:pt x="338" y="470"/>
                </a:lnTo>
                <a:lnTo>
                  <a:pt x="336" y="470"/>
                </a:lnTo>
                <a:lnTo>
                  <a:pt x="330" y="470"/>
                </a:lnTo>
                <a:lnTo>
                  <a:pt x="324" y="468"/>
                </a:lnTo>
                <a:lnTo>
                  <a:pt x="318" y="464"/>
                </a:lnTo>
                <a:lnTo>
                  <a:pt x="313" y="458"/>
                </a:lnTo>
                <a:lnTo>
                  <a:pt x="305" y="453"/>
                </a:lnTo>
                <a:lnTo>
                  <a:pt x="299" y="445"/>
                </a:lnTo>
                <a:lnTo>
                  <a:pt x="292" y="437"/>
                </a:lnTo>
                <a:lnTo>
                  <a:pt x="284" y="428"/>
                </a:lnTo>
                <a:lnTo>
                  <a:pt x="276" y="416"/>
                </a:lnTo>
                <a:lnTo>
                  <a:pt x="269" y="403"/>
                </a:lnTo>
                <a:lnTo>
                  <a:pt x="261" y="389"/>
                </a:lnTo>
                <a:lnTo>
                  <a:pt x="251" y="374"/>
                </a:lnTo>
                <a:lnTo>
                  <a:pt x="244" y="359"/>
                </a:lnTo>
                <a:lnTo>
                  <a:pt x="234" y="341"/>
                </a:lnTo>
                <a:lnTo>
                  <a:pt x="224" y="322"/>
                </a:lnTo>
                <a:lnTo>
                  <a:pt x="215" y="303"/>
                </a:lnTo>
                <a:lnTo>
                  <a:pt x="201" y="284"/>
                </a:lnTo>
                <a:lnTo>
                  <a:pt x="190" y="265"/>
                </a:lnTo>
                <a:lnTo>
                  <a:pt x="178" y="245"/>
                </a:lnTo>
                <a:lnTo>
                  <a:pt x="167" y="228"/>
                </a:lnTo>
                <a:lnTo>
                  <a:pt x="155" y="211"/>
                </a:lnTo>
                <a:lnTo>
                  <a:pt x="146" y="194"/>
                </a:lnTo>
                <a:lnTo>
                  <a:pt x="134" y="178"/>
                </a:lnTo>
                <a:lnTo>
                  <a:pt x="125" y="165"/>
                </a:lnTo>
                <a:lnTo>
                  <a:pt x="113" y="149"/>
                </a:lnTo>
                <a:lnTo>
                  <a:pt x="103" y="136"/>
                </a:lnTo>
                <a:lnTo>
                  <a:pt x="94" y="124"/>
                </a:lnTo>
                <a:lnTo>
                  <a:pt x="86" y="113"/>
                </a:lnTo>
                <a:lnTo>
                  <a:pt x="77" y="103"/>
                </a:lnTo>
                <a:lnTo>
                  <a:pt x="69" y="94"/>
                </a:lnTo>
                <a:lnTo>
                  <a:pt x="61" y="86"/>
                </a:lnTo>
                <a:lnTo>
                  <a:pt x="54" y="78"/>
                </a:lnTo>
                <a:lnTo>
                  <a:pt x="44" y="71"/>
                </a:lnTo>
                <a:lnTo>
                  <a:pt x="34" y="65"/>
                </a:lnTo>
                <a:lnTo>
                  <a:pt x="27" y="59"/>
                </a:lnTo>
                <a:lnTo>
                  <a:pt x="21" y="53"/>
                </a:lnTo>
                <a:lnTo>
                  <a:pt x="15" y="48"/>
                </a:lnTo>
                <a:lnTo>
                  <a:pt x="9" y="42"/>
                </a:lnTo>
                <a:lnTo>
                  <a:pt x="6" y="38"/>
                </a:lnTo>
                <a:lnTo>
                  <a:pt x="4" y="32"/>
                </a:lnTo>
                <a:lnTo>
                  <a:pt x="0" y="28"/>
                </a:lnTo>
                <a:lnTo>
                  <a:pt x="0" y="25"/>
                </a:lnTo>
                <a:lnTo>
                  <a:pt x="0" y="21"/>
                </a:lnTo>
                <a:lnTo>
                  <a:pt x="0" y="17"/>
                </a:lnTo>
                <a:lnTo>
                  <a:pt x="2" y="15"/>
                </a:lnTo>
                <a:lnTo>
                  <a:pt x="6" y="11"/>
                </a:lnTo>
                <a:lnTo>
                  <a:pt x="8" y="9"/>
                </a:lnTo>
                <a:lnTo>
                  <a:pt x="13" y="7"/>
                </a:lnTo>
                <a:lnTo>
                  <a:pt x="19" y="3"/>
                </a:lnTo>
                <a:lnTo>
                  <a:pt x="25" y="2"/>
                </a:lnTo>
                <a:lnTo>
                  <a:pt x="32" y="2"/>
                </a:lnTo>
                <a:lnTo>
                  <a:pt x="40" y="0"/>
                </a:lnTo>
                <a:lnTo>
                  <a:pt x="50" y="0"/>
                </a:lnTo>
                <a:lnTo>
                  <a:pt x="61" y="0"/>
                </a:lnTo>
                <a:lnTo>
                  <a:pt x="73" y="0"/>
                </a:lnTo>
                <a:lnTo>
                  <a:pt x="84" y="0"/>
                </a:lnTo>
                <a:lnTo>
                  <a:pt x="98" y="2"/>
                </a:lnTo>
                <a:lnTo>
                  <a:pt x="113" y="3"/>
                </a:lnTo>
                <a:lnTo>
                  <a:pt x="130" y="5"/>
                </a:lnTo>
                <a:lnTo>
                  <a:pt x="148" y="9"/>
                </a:lnTo>
                <a:lnTo>
                  <a:pt x="165" y="13"/>
                </a:lnTo>
                <a:lnTo>
                  <a:pt x="184" y="19"/>
                </a:lnTo>
                <a:lnTo>
                  <a:pt x="205" y="25"/>
                </a:lnTo>
                <a:lnTo>
                  <a:pt x="228" y="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255"/>
          <p:cNvSpPr/>
          <p:nvPr/>
        </p:nvSpPr>
        <p:spPr>
          <a:xfrm>
            <a:off x="6276960" y="3111480"/>
            <a:ext cx="1333440" cy="368280"/>
          </a:xfrm>
          <a:custGeom>
            <a:avLst/>
            <a:gdLst/>
            <a:ahLst/>
            <a:rect l="l" t="t" r="r" b="b"/>
            <a:pathLst>
              <a:path w="1679" h="462">
                <a:moveTo>
                  <a:pt x="1531" y="94"/>
                </a:moveTo>
                <a:lnTo>
                  <a:pt x="1549" y="103"/>
                </a:lnTo>
                <a:lnTo>
                  <a:pt x="1564" y="111"/>
                </a:lnTo>
                <a:lnTo>
                  <a:pt x="1579" y="119"/>
                </a:lnTo>
                <a:lnTo>
                  <a:pt x="1593" y="128"/>
                </a:lnTo>
                <a:lnTo>
                  <a:pt x="1606" y="136"/>
                </a:lnTo>
                <a:lnTo>
                  <a:pt x="1620" y="142"/>
                </a:lnTo>
                <a:lnTo>
                  <a:pt x="1629" y="149"/>
                </a:lnTo>
                <a:lnTo>
                  <a:pt x="1641" y="157"/>
                </a:lnTo>
                <a:lnTo>
                  <a:pt x="1649" y="163"/>
                </a:lnTo>
                <a:lnTo>
                  <a:pt x="1656" y="169"/>
                </a:lnTo>
                <a:lnTo>
                  <a:pt x="1664" y="174"/>
                </a:lnTo>
                <a:lnTo>
                  <a:pt x="1670" y="180"/>
                </a:lnTo>
                <a:lnTo>
                  <a:pt x="1673" y="186"/>
                </a:lnTo>
                <a:lnTo>
                  <a:pt x="1675" y="192"/>
                </a:lnTo>
                <a:lnTo>
                  <a:pt x="1677" y="196"/>
                </a:lnTo>
                <a:lnTo>
                  <a:pt x="1679" y="201"/>
                </a:lnTo>
                <a:lnTo>
                  <a:pt x="1673" y="209"/>
                </a:lnTo>
                <a:lnTo>
                  <a:pt x="1666" y="217"/>
                </a:lnTo>
                <a:lnTo>
                  <a:pt x="1658" y="222"/>
                </a:lnTo>
                <a:lnTo>
                  <a:pt x="1649" y="228"/>
                </a:lnTo>
                <a:lnTo>
                  <a:pt x="1639" y="232"/>
                </a:lnTo>
                <a:lnTo>
                  <a:pt x="1626" y="234"/>
                </a:lnTo>
                <a:lnTo>
                  <a:pt x="1612" y="236"/>
                </a:lnTo>
                <a:lnTo>
                  <a:pt x="1599" y="236"/>
                </a:lnTo>
                <a:lnTo>
                  <a:pt x="1587" y="240"/>
                </a:lnTo>
                <a:lnTo>
                  <a:pt x="1576" y="244"/>
                </a:lnTo>
                <a:lnTo>
                  <a:pt x="1564" y="249"/>
                </a:lnTo>
                <a:lnTo>
                  <a:pt x="1551" y="257"/>
                </a:lnTo>
                <a:lnTo>
                  <a:pt x="1535" y="265"/>
                </a:lnTo>
                <a:lnTo>
                  <a:pt x="1522" y="276"/>
                </a:lnTo>
                <a:lnTo>
                  <a:pt x="1505" y="288"/>
                </a:lnTo>
                <a:lnTo>
                  <a:pt x="1489" y="299"/>
                </a:lnTo>
                <a:lnTo>
                  <a:pt x="1472" y="315"/>
                </a:lnTo>
                <a:lnTo>
                  <a:pt x="1453" y="332"/>
                </a:lnTo>
                <a:lnTo>
                  <a:pt x="1434" y="349"/>
                </a:lnTo>
                <a:lnTo>
                  <a:pt x="1414" y="368"/>
                </a:lnTo>
                <a:lnTo>
                  <a:pt x="1393" y="389"/>
                </a:lnTo>
                <a:lnTo>
                  <a:pt x="1374" y="412"/>
                </a:lnTo>
                <a:lnTo>
                  <a:pt x="1351" y="436"/>
                </a:lnTo>
                <a:lnTo>
                  <a:pt x="1330" y="462"/>
                </a:lnTo>
                <a:lnTo>
                  <a:pt x="1255" y="462"/>
                </a:lnTo>
                <a:lnTo>
                  <a:pt x="1182" y="462"/>
                </a:lnTo>
                <a:lnTo>
                  <a:pt x="1194" y="445"/>
                </a:lnTo>
                <a:lnTo>
                  <a:pt x="1203" y="430"/>
                </a:lnTo>
                <a:lnTo>
                  <a:pt x="1213" y="414"/>
                </a:lnTo>
                <a:lnTo>
                  <a:pt x="1224" y="399"/>
                </a:lnTo>
                <a:lnTo>
                  <a:pt x="1232" y="384"/>
                </a:lnTo>
                <a:lnTo>
                  <a:pt x="1242" y="370"/>
                </a:lnTo>
                <a:lnTo>
                  <a:pt x="1251" y="357"/>
                </a:lnTo>
                <a:lnTo>
                  <a:pt x="1259" y="343"/>
                </a:lnTo>
                <a:lnTo>
                  <a:pt x="1267" y="332"/>
                </a:lnTo>
                <a:lnTo>
                  <a:pt x="1274" y="318"/>
                </a:lnTo>
                <a:lnTo>
                  <a:pt x="1282" y="307"/>
                </a:lnTo>
                <a:lnTo>
                  <a:pt x="1290" y="297"/>
                </a:lnTo>
                <a:lnTo>
                  <a:pt x="1295" y="286"/>
                </a:lnTo>
                <a:lnTo>
                  <a:pt x="1301" y="276"/>
                </a:lnTo>
                <a:lnTo>
                  <a:pt x="1307" y="267"/>
                </a:lnTo>
                <a:lnTo>
                  <a:pt x="1313" y="257"/>
                </a:lnTo>
                <a:lnTo>
                  <a:pt x="1316" y="247"/>
                </a:lnTo>
                <a:lnTo>
                  <a:pt x="1322" y="240"/>
                </a:lnTo>
                <a:lnTo>
                  <a:pt x="1326" y="232"/>
                </a:lnTo>
                <a:lnTo>
                  <a:pt x="1330" y="224"/>
                </a:lnTo>
                <a:lnTo>
                  <a:pt x="1332" y="219"/>
                </a:lnTo>
                <a:lnTo>
                  <a:pt x="1336" y="213"/>
                </a:lnTo>
                <a:lnTo>
                  <a:pt x="1338" y="207"/>
                </a:lnTo>
                <a:lnTo>
                  <a:pt x="1340" y="201"/>
                </a:lnTo>
                <a:lnTo>
                  <a:pt x="1341" y="197"/>
                </a:lnTo>
                <a:lnTo>
                  <a:pt x="1343" y="192"/>
                </a:lnTo>
                <a:lnTo>
                  <a:pt x="1343" y="188"/>
                </a:lnTo>
                <a:lnTo>
                  <a:pt x="1345" y="186"/>
                </a:lnTo>
                <a:lnTo>
                  <a:pt x="1345" y="182"/>
                </a:lnTo>
                <a:lnTo>
                  <a:pt x="1345" y="180"/>
                </a:lnTo>
                <a:lnTo>
                  <a:pt x="1343" y="178"/>
                </a:lnTo>
                <a:lnTo>
                  <a:pt x="1343" y="176"/>
                </a:lnTo>
                <a:lnTo>
                  <a:pt x="1340" y="174"/>
                </a:lnTo>
                <a:lnTo>
                  <a:pt x="1338" y="173"/>
                </a:lnTo>
                <a:lnTo>
                  <a:pt x="1332" y="171"/>
                </a:lnTo>
                <a:lnTo>
                  <a:pt x="1328" y="169"/>
                </a:lnTo>
                <a:lnTo>
                  <a:pt x="1322" y="167"/>
                </a:lnTo>
                <a:lnTo>
                  <a:pt x="1316" y="165"/>
                </a:lnTo>
                <a:lnTo>
                  <a:pt x="1311" y="163"/>
                </a:lnTo>
                <a:lnTo>
                  <a:pt x="1305" y="161"/>
                </a:lnTo>
                <a:lnTo>
                  <a:pt x="1290" y="157"/>
                </a:lnTo>
                <a:lnTo>
                  <a:pt x="1272" y="155"/>
                </a:lnTo>
                <a:lnTo>
                  <a:pt x="1255" y="153"/>
                </a:lnTo>
                <a:lnTo>
                  <a:pt x="1236" y="153"/>
                </a:lnTo>
                <a:lnTo>
                  <a:pt x="1222" y="153"/>
                </a:lnTo>
                <a:lnTo>
                  <a:pt x="1209" y="153"/>
                </a:lnTo>
                <a:lnTo>
                  <a:pt x="1194" y="155"/>
                </a:lnTo>
                <a:lnTo>
                  <a:pt x="1176" y="155"/>
                </a:lnTo>
                <a:lnTo>
                  <a:pt x="1161" y="157"/>
                </a:lnTo>
                <a:lnTo>
                  <a:pt x="1142" y="159"/>
                </a:lnTo>
                <a:lnTo>
                  <a:pt x="1123" y="161"/>
                </a:lnTo>
                <a:lnTo>
                  <a:pt x="1103" y="163"/>
                </a:lnTo>
                <a:lnTo>
                  <a:pt x="1082" y="167"/>
                </a:lnTo>
                <a:lnTo>
                  <a:pt x="1059" y="171"/>
                </a:lnTo>
                <a:lnTo>
                  <a:pt x="1036" y="174"/>
                </a:lnTo>
                <a:lnTo>
                  <a:pt x="1011" y="178"/>
                </a:lnTo>
                <a:lnTo>
                  <a:pt x="984" y="182"/>
                </a:lnTo>
                <a:lnTo>
                  <a:pt x="958" y="188"/>
                </a:lnTo>
                <a:lnTo>
                  <a:pt x="929" y="194"/>
                </a:lnTo>
                <a:lnTo>
                  <a:pt x="900" y="201"/>
                </a:lnTo>
                <a:lnTo>
                  <a:pt x="835" y="215"/>
                </a:lnTo>
                <a:lnTo>
                  <a:pt x="771" y="226"/>
                </a:lnTo>
                <a:lnTo>
                  <a:pt x="708" y="238"/>
                </a:lnTo>
                <a:lnTo>
                  <a:pt x="647" y="249"/>
                </a:lnTo>
                <a:lnTo>
                  <a:pt x="585" y="259"/>
                </a:lnTo>
                <a:lnTo>
                  <a:pt x="524" y="270"/>
                </a:lnTo>
                <a:lnTo>
                  <a:pt x="462" y="282"/>
                </a:lnTo>
                <a:lnTo>
                  <a:pt x="403" y="295"/>
                </a:lnTo>
                <a:lnTo>
                  <a:pt x="370" y="303"/>
                </a:lnTo>
                <a:lnTo>
                  <a:pt x="339" y="309"/>
                </a:lnTo>
                <a:lnTo>
                  <a:pt x="309" y="315"/>
                </a:lnTo>
                <a:lnTo>
                  <a:pt x="278" y="318"/>
                </a:lnTo>
                <a:lnTo>
                  <a:pt x="251" y="322"/>
                </a:lnTo>
                <a:lnTo>
                  <a:pt x="222" y="326"/>
                </a:lnTo>
                <a:lnTo>
                  <a:pt x="196" y="330"/>
                </a:lnTo>
                <a:lnTo>
                  <a:pt x="171" y="334"/>
                </a:lnTo>
                <a:lnTo>
                  <a:pt x="146" y="336"/>
                </a:lnTo>
                <a:lnTo>
                  <a:pt x="123" y="338"/>
                </a:lnTo>
                <a:lnTo>
                  <a:pt x="100" y="340"/>
                </a:lnTo>
                <a:lnTo>
                  <a:pt x="77" y="341"/>
                </a:lnTo>
                <a:lnTo>
                  <a:pt x="57" y="341"/>
                </a:lnTo>
                <a:lnTo>
                  <a:pt x="36" y="343"/>
                </a:lnTo>
                <a:lnTo>
                  <a:pt x="17" y="343"/>
                </a:lnTo>
                <a:lnTo>
                  <a:pt x="0" y="343"/>
                </a:lnTo>
                <a:lnTo>
                  <a:pt x="0" y="301"/>
                </a:lnTo>
                <a:lnTo>
                  <a:pt x="0" y="261"/>
                </a:lnTo>
                <a:lnTo>
                  <a:pt x="11" y="261"/>
                </a:lnTo>
                <a:lnTo>
                  <a:pt x="27" y="259"/>
                </a:lnTo>
                <a:lnTo>
                  <a:pt x="40" y="259"/>
                </a:lnTo>
                <a:lnTo>
                  <a:pt x="55" y="259"/>
                </a:lnTo>
                <a:lnTo>
                  <a:pt x="69" y="257"/>
                </a:lnTo>
                <a:lnTo>
                  <a:pt x="86" y="255"/>
                </a:lnTo>
                <a:lnTo>
                  <a:pt x="101" y="253"/>
                </a:lnTo>
                <a:lnTo>
                  <a:pt x="119" y="251"/>
                </a:lnTo>
                <a:lnTo>
                  <a:pt x="153" y="247"/>
                </a:lnTo>
                <a:lnTo>
                  <a:pt x="190" y="240"/>
                </a:lnTo>
                <a:lnTo>
                  <a:pt x="228" y="234"/>
                </a:lnTo>
                <a:lnTo>
                  <a:pt x="268" y="224"/>
                </a:lnTo>
                <a:lnTo>
                  <a:pt x="309" y="221"/>
                </a:lnTo>
                <a:lnTo>
                  <a:pt x="351" y="213"/>
                </a:lnTo>
                <a:lnTo>
                  <a:pt x="395" y="207"/>
                </a:lnTo>
                <a:lnTo>
                  <a:pt x="441" y="197"/>
                </a:lnTo>
                <a:lnTo>
                  <a:pt x="464" y="194"/>
                </a:lnTo>
                <a:lnTo>
                  <a:pt x="489" y="188"/>
                </a:lnTo>
                <a:lnTo>
                  <a:pt x="512" y="184"/>
                </a:lnTo>
                <a:lnTo>
                  <a:pt x="539" y="178"/>
                </a:lnTo>
                <a:lnTo>
                  <a:pt x="564" y="173"/>
                </a:lnTo>
                <a:lnTo>
                  <a:pt x="591" y="167"/>
                </a:lnTo>
                <a:lnTo>
                  <a:pt x="616" y="159"/>
                </a:lnTo>
                <a:lnTo>
                  <a:pt x="645" y="153"/>
                </a:lnTo>
                <a:lnTo>
                  <a:pt x="698" y="144"/>
                </a:lnTo>
                <a:lnTo>
                  <a:pt x="752" y="136"/>
                </a:lnTo>
                <a:lnTo>
                  <a:pt x="804" y="126"/>
                </a:lnTo>
                <a:lnTo>
                  <a:pt x="856" y="117"/>
                </a:lnTo>
                <a:lnTo>
                  <a:pt x="906" y="109"/>
                </a:lnTo>
                <a:lnTo>
                  <a:pt x="954" y="100"/>
                </a:lnTo>
                <a:lnTo>
                  <a:pt x="1002" y="92"/>
                </a:lnTo>
                <a:lnTo>
                  <a:pt x="1048" y="82"/>
                </a:lnTo>
                <a:lnTo>
                  <a:pt x="1069" y="77"/>
                </a:lnTo>
                <a:lnTo>
                  <a:pt x="1090" y="73"/>
                </a:lnTo>
                <a:lnTo>
                  <a:pt x="1111" y="69"/>
                </a:lnTo>
                <a:lnTo>
                  <a:pt x="1130" y="65"/>
                </a:lnTo>
                <a:lnTo>
                  <a:pt x="1148" y="59"/>
                </a:lnTo>
                <a:lnTo>
                  <a:pt x="1165" y="55"/>
                </a:lnTo>
                <a:lnTo>
                  <a:pt x="1182" y="52"/>
                </a:lnTo>
                <a:lnTo>
                  <a:pt x="1197" y="48"/>
                </a:lnTo>
                <a:lnTo>
                  <a:pt x="1211" y="44"/>
                </a:lnTo>
                <a:lnTo>
                  <a:pt x="1224" y="40"/>
                </a:lnTo>
                <a:lnTo>
                  <a:pt x="1236" y="36"/>
                </a:lnTo>
                <a:lnTo>
                  <a:pt x="1245" y="32"/>
                </a:lnTo>
                <a:lnTo>
                  <a:pt x="1255" y="30"/>
                </a:lnTo>
                <a:lnTo>
                  <a:pt x="1263" y="27"/>
                </a:lnTo>
                <a:lnTo>
                  <a:pt x="1270" y="25"/>
                </a:lnTo>
                <a:lnTo>
                  <a:pt x="1276" y="23"/>
                </a:lnTo>
                <a:lnTo>
                  <a:pt x="1282" y="17"/>
                </a:lnTo>
                <a:lnTo>
                  <a:pt x="1288" y="13"/>
                </a:lnTo>
                <a:lnTo>
                  <a:pt x="1297" y="9"/>
                </a:lnTo>
                <a:lnTo>
                  <a:pt x="1307" y="6"/>
                </a:lnTo>
                <a:lnTo>
                  <a:pt x="1316" y="4"/>
                </a:lnTo>
                <a:lnTo>
                  <a:pt x="1328" y="2"/>
                </a:lnTo>
                <a:lnTo>
                  <a:pt x="1341" y="0"/>
                </a:lnTo>
                <a:lnTo>
                  <a:pt x="1357" y="0"/>
                </a:lnTo>
                <a:lnTo>
                  <a:pt x="1363" y="2"/>
                </a:lnTo>
                <a:lnTo>
                  <a:pt x="1368" y="4"/>
                </a:lnTo>
                <a:lnTo>
                  <a:pt x="1374" y="7"/>
                </a:lnTo>
                <a:lnTo>
                  <a:pt x="1382" y="9"/>
                </a:lnTo>
                <a:lnTo>
                  <a:pt x="1389" y="13"/>
                </a:lnTo>
                <a:lnTo>
                  <a:pt x="1399" y="19"/>
                </a:lnTo>
                <a:lnTo>
                  <a:pt x="1409" y="23"/>
                </a:lnTo>
                <a:lnTo>
                  <a:pt x="1418" y="29"/>
                </a:lnTo>
                <a:lnTo>
                  <a:pt x="1430" y="34"/>
                </a:lnTo>
                <a:lnTo>
                  <a:pt x="1441" y="40"/>
                </a:lnTo>
                <a:lnTo>
                  <a:pt x="1455" y="48"/>
                </a:lnTo>
                <a:lnTo>
                  <a:pt x="1468" y="55"/>
                </a:lnTo>
                <a:lnTo>
                  <a:pt x="1482" y="63"/>
                </a:lnTo>
                <a:lnTo>
                  <a:pt x="1497" y="73"/>
                </a:lnTo>
                <a:lnTo>
                  <a:pt x="1514" y="82"/>
                </a:lnTo>
                <a:lnTo>
                  <a:pt x="1531" y="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256"/>
          <p:cNvSpPr/>
          <p:nvPr/>
        </p:nvSpPr>
        <p:spPr>
          <a:xfrm>
            <a:off x="6362640" y="2828880"/>
            <a:ext cx="938160" cy="212760"/>
          </a:xfrm>
          <a:custGeom>
            <a:avLst/>
            <a:gdLst/>
            <a:ahLst/>
            <a:rect l="l" t="t" r="r" b="b"/>
            <a:pathLst>
              <a:path w="1183" h="268">
                <a:moveTo>
                  <a:pt x="484" y="94"/>
                </a:moveTo>
                <a:lnTo>
                  <a:pt x="509" y="88"/>
                </a:lnTo>
                <a:lnTo>
                  <a:pt x="536" y="82"/>
                </a:lnTo>
                <a:lnTo>
                  <a:pt x="561" y="78"/>
                </a:lnTo>
                <a:lnTo>
                  <a:pt x="586" y="73"/>
                </a:lnTo>
                <a:lnTo>
                  <a:pt x="609" y="67"/>
                </a:lnTo>
                <a:lnTo>
                  <a:pt x="632" y="63"/>
                </a:lnTo>
                <a:lnTo>
                  <a:pt x="655" y="57"/>
                </a:lnTo>
                <a:lnTo>
                  <a:pt x="678" y="54"/>
                </a:lnTo>
                <a:lnTo>
                  <a:pt x="699" y="50"/>
                </a:lnTo>
                <a:lnTo>
                  <a:pt x="720" y="46"/>
                </a:lnTo>
                <a:lnTo>
                  <a:pt x="741" y="42"/>
                </a:lnTo>
                <a:lnTo>
                  <a:pt x="760" y="38"/>
                </a:lnTo>
                <a:lnTo>
                  <a:pt x="781" y="34"/>
                </a:lnTo>
                <a:lnTo>
                  <a:pt x="799" y="30"/>
                </a:lnTo>
                <a:lnTo>
                  <a:pt x="818" y="27"/>
                </a:lnTo>
                <a:lnTo>
                  <a:pt x="835" y="23"/>
                </a:lnTo>
                <a:lnTo>
                  <a:pt x="852" y="21"/>
                </a:lnTo>
                <a:lnTo>
                  <a:pt x="870" y="19"/>
                </a:lnTo>
                <a:lnTo>
                  <a:pt x="887" y="15"/>
                </a:lnTo>
                <a:lnTo>
                  <a:pt x="902" y="13"/>
                </a:lnTo>
                <a:lnTo>
                  <a:pt x="918" y="11"/>
                </a:lnTo>
                <a:lnTo>
                  <a:pt x="931" y="9"/>
                </a:lnTo>
                <a:lnTo>
                  <a:pt x="947" y="7"/>
                </a:lnTo>
                <a:lnTo>
                  <a:pt x="960" y="6"/>
                </a:lnTo>
                <a:lnTo>
                  <a:pt x="973" y="4"/>
                </a:lnTo>
                <a:lnTo>
                  <a:pt x="985" y="2"/>
                </a:lnTo>
                <a:lnTo>
                  <a:pt x="996" y="2"/>
                </a:lnTo>
                <a:lnTo>
                  <a:pt x="1008" y="0"/>
                </a:lnTo>
                <a:lnTo>
                  <a:pt x="1019" y="0"/>
                </a:lnTo>
                <a:lnTo>
                  <a:pt x="1029" y="0"/>
                </a:lnTo>
                <a:lnTo>
                  <a:pt x="1039" y="0"/>
                </a:lnTo>
                <a:lnTo>
                  <a:pt x="1048" y="0"/>
                </a:lnTo>
                <a:lnTo>
                  <a:pt x="1066" y="0"/>
                </a:lnTo>
                <a:lnTo>
                  <a:pt x="1081" y="0"/>
                </a:lnTo>
                <a:lnTo>
                  <a:pt x="1094" y="0"/>
                </a:lnTo>
                <a:lnTo>
                  <a:pt x="1108" y="2"/>
                </a:lnTo>
                <a:lnTo>
                  <a:pt x="1121" y="2"/>
                </a:lnTo>
                <a:lnTo>
                  <a:pt x="1131" y="4"/>
                </a:lnTo>
                <a:lnTo>
                  <a:pt x="1142" y="6"/>
                </a:lnTo>
                <a:lnTo>
                  <a:pt x="1150" y="6"/>
                </a:lnTo>
                <a:lnTo>
                  <a:pt x="1158" y="7"/>
                </a:lnTo>
                <a:lnTo>
                  <a:pt x="1165" y="9"/>
                </a:lnTo>
                <a:lnTo>
                  <a:pt x="1169" y="11"/>
                </a:lnTo>
                <a:lnTo>
                  <a:pt x="1175" y="13"/>
                </a:lnTo>
                <a:lnTo>
                  <a:pt x="1179" y="17"/>
                </a:lnTo>
                <a:lnTo>
                  <a:pt x="1181" y="19"/>
                </a:lnTo>
                <a:lnTo>
                  <a:pt x="1183" y="21"/>
                </a:lnTo>
                <a:lnTo>
                  <a:pt x="1183" y="23"/>
                </a:lnTo>
                <a:lnTo>
                  <a:pt x="1181" y="32"/>
                </a:lnTo>
                <a:lnTo>
                  <a:pt x="1181" y="40"/>
                </a:lnTo>
                <a:lnTo>
                  <a:pt x="1177" y="50"/>
                </a:lnTo>
                <a:lnTo>
                  <a:pt x="1173" y="59"/>
                </a:lnTo>
                <a:lnTo>
                  <a:pt x="1169" y="67"/>
                </a:lnTo>
                <a:lnTo>
                  <a:pt x="1165" y="77"/>
                </a:lnTo>
                <a:lnTo>
                  <a:pt x="1156" y="94"/>
                </a:lnTo>
                <a:lnTo>
                  <a:pt x="1150" y="100"/>
                </a:lnTo>
                <a:lnTo>
                  <a:pt x="1142" y="103"/>
                </a:lnTo>
                <a:lnTo>
                  <a:pt x="1133" y="107"/>
                </a:lnTo>
                <a:lnTo>
                  <a:pt x="1123" y="111"/>
                </a:lnTo>
                <a:lnTo>
                  <a:pt x="1112" y="117"/>
                </a:lnTo>
                <a:lnTo>
                  <a:pt x="1098" y="121"/>
                </a:lnTo>
                <a:lnTo>
                  <a:pt x="1083" y="125"/>
                </a:lnTo>
                <a:lnTo>
                  <a:pt x="1066" y="128"/>
                </a:lnTo>
                <a:lnTo>
                  <a:pt x="1048" y="132"/>
                </a:lnTo>
                <a:lnTo>
                  <a:pt x="1029" y="136"/>
                </a:lnTo>
                <a:lnTo>
                  <a:pt x="1010" y="140"/>
                </a:lnTo>
                <a:lnTo>
                  <a:pt x="987" y="142"/>
                </a:lnTo>
                <a:lnTo>
                  <a:pt x="964" y="146"/>
                </a:lnTo>
                <a:lnTo>
                  <a:pt x="939" y="149"/>
                </a:lnTo>
                <a:lnTo>
                  <a:pt x="914" y="151"/>
                </a:lnTo>
                <a:lnTo>
                  <a:pt x="887" y="153"/>
                </a:lnTo>
                <a:lnTo>
                  <a:pt x="766" y="173"/>
                </a:lnTo>
                <a:lnTo>
                  <a:pt x="707" y="180"/>
                </a:lnTo>
                <a:lnTo>
                  <a:pt x="647" y="190"/>
                </a:lnTo>
                <a:lnTo>
                  <a:pt x="588" y="201"/>
                </a:lnTo>
                <a:lnTo>
                  <a:pt x="530" y="213"/>
                </a:lnTo>
                <a:lnTo>
                  <a:pt x="472" y="224"/>
                </a:lnTo>
                <a:lnTo>
                  <a:pt x="417" y="238"/>
                </a:lnTo>
                <a:lnTo>
                  <a:pt x="386" y="244"/>
                </a:lnTo>
                <a:lnTo>
                  <a:pt x="359" y="249"/>
                </a:lnTo>
                <a:lnTo>
                  <a:pt x="330" y="253"/>
                </a:lnTo>
                <a:lnTo>
                  <a:pt x="305" y="257"/>
                </a:lnTo>
                <a:lnTo>
                  <a:pt x="280" y="261"/>
                </a:lnTo>
                <a:lnTo>
                  <a:pt x="257" y="263"/>
                </a:lnTo>
                <a:lnTo>
                  <a:pt x="236" y="267"/>
                </a:lnTo>
                <a:lnTo>
                  <a:pt x="215" y="267"/>
                </a:lnTo>
                <a:lnTo>
                  <a:pt x="196" y="268"/>
                </a:lnTo>
                <a:lnTo>
                  <a:pt x="177" y="268"/>
                </a:lnTo>
                <a:lnTo>
                  <a:pt x="160" y="268"/>
                </a:lnTo>
                <a:lnTo>
                  <a:pt x="144" y="267"/>
                </a:lnTo>
                <a:lnTo>
                  <a:pt x="129" y="267"/>
                </a:lnTo>
                <a:lnTo>
                  <a:pt x="117" y="265"/>
                </a:lnTo>
                <a:lnTo>
                  <a:pt x="104" y="263"/>
                </a:lnTo>
                <a:lnTo>
                  <a:pt x="94" y="261"/>
                </a:lnTo>
                <a:lnTo>
                  <a:pt x="81" y="259"/>
                </a:lnTo>
                <a:lnTo>
                  <a:pt x="71" y="257"/>
                </a:lnTo>
                <a:lnTo>
                  <a:pt x="60" y="255"/>
                </a:lnTo>
                <a:lnTo>
                  <a:pt x="50" y="253"/>
                </a:lnTo>
                <a:lnTo>
                  <a:pt x="42" y="253"/>
                </a:lnTo>
                <a:lnTo>
                  <a:pt x="35" y="251"/>
                </a:lnTo>
                <a:lnTo>
                  <a:pt x="27" y="249"/>
                </a:lnTo>
                <a:lnTo>
                  <a:pt x="21" y="249"/>
                </a:lnTo>
                <a:lnTo>
                  <a:pt x="16" y="247"/>
                </a:lnTo>
                <a:lnTo>
                  <a:pt x="12" y="247"/>
                </a:lnTo>
                <a:lnTo>
                  <a:pt x="8" y="245"/>
                </a:lnTo>
                <a:lnTo>
                  <a:pt x="6" y="244"/>
                </a:lnTo>
                <a:lnTo>
                  <a:pt x="2" y="242"/>
                </a:lnTo>
                <a:lnTo>
                  <a:pt x="0" y="242"/>
                </a:lnTo>
                <a:lnTo>
                  <a:pt x="0" y="240"/>
                </a:lnTo>
                <a:lnTo>
                  <a:pt x="0" y="238"/>
                </a:lnTo>
                <a:lnTo>
                  <a:pt x="0" y="232"/>
                </a:lnTo>
                <a:lnTo>
                  <a:pt x="2" y="228"/>
                </a:lnTo>
                <a:lnTo>
                  <a:pt x="6" y="224"/>
                </a:lnTo>
                <a:lnTo>
                  <a:pt x="10" y="219"/>
                </a:lnTo>
                <a:lnTo>
                  <a:pt x="16" y="215"/>
                </a:lnTo>
                <a:lnTo>
                  <a:pt x="23" y="211"/>
                </a:lnTo>
                <a:lnTo>
                  <a:pt x="31" y="205"/>
                </a:lnTo>
                <a:lnTo>
                  <a:pt x="41" y="201"/>
                </a:lnTo>
                <a:lnTo>
                  <a:pt x="42" y="199"/>
                </a:lnTo>
                <a:lnTo>
                  <a:pt x="44" y="199"/>
                </a:lnTo>
                <a:lnTo>
                  <a:pt x="48" y="197"/>
                </a:lnTo>
                <a:lnTo>
                  <a:pt x="52" y="196"/>
                </a:lnTo>
                <a:lnTo>
                  <a:pt x="56" y="194"/>
                </a:lnTo>
                <a:lnTo>
                  <a:pt x="62" y="192"/>
                </a:lnTo>
                <a:lnTo>
                  <a:pt x="67" y="190"/>
                </a:lnTo>
                <a:lnTo>
                  <a:pt x="75" y="188"/>
                </a:lnTo>
                <a:lnTo>
                  <a:pt x="83" y="186"/>
                </a:lnTo>
                <a:lnTo>
                  <a:pt x="92" y="184"/>
                </a:lnTo>
                <a:lnTo>
                  <a:pt x="102" y="180"/>
                </a:lnTo>
                <a:lnTo>
                  <a:pt x="112" y="178"/>
                </a:lnTo>
                <a:lnTo>
                  <a:pt x="123" y="174"/>
                </a:lnTo>
                <a:lnTo>
                  <a:pt x="135" y="173"/>
                </a:lnTo>
                <a:lnTo>
                  <a:pt x="148" y="169"/>
                </a:lnTo>
                <a:lnTo>
                  <a:pt x="161" y="167"/>
                </a:lnTo>
                <a:lnTo>
                  <a:pt x="175" y="163"/>
                </a:lnTo>
                <a:lnTo>
                  <a:pt x="190" y="159"/>
                </a:lnTo>
                <a:lnTo>
                  <a:pt x="206" y="155"/>
                </a:lnTo>
                <a:lnTo>
                  <a:pt x="223" y="151"/>
                </a:lnTo>
                <a:lnTo>
                  <a:pt x="240" y="148"/>
                </a:lnTo>
                <a:lnTo>
                  <a:pt x="257" y="144"/>
                </a:lnTo>
                <a:lnTo>
                  <a:pt x="277" y="140"/>
                </a:lnTo>
                <a:lnTo>
                  <a:pt x="298" y="134"/>
                </a:lnTo>
                <a:lnTo>
                  <a:pt x="317" y="130"/>
                </a:lnTo>
                <a:lnTo>
                  <a:pt x="338" y="126"/>
                </a:lnTo>
                <a:lnTo>
                  <a:pt x="361" y="121"/>
                </a:lnTo>
                <a:lnTo>
                  <a:pt x="384" y="115"/>
                </a:lnTo>
                <a:lnTo>
                  <a:pt x="407" y="111"/>
                </a:lnTo>
                <a:lnTo>
                  <a:pt x="432" y="105"/>
                </a:lnTo>
                <a:lnTo>
                  <a:pt x="457" y="100"/>
                </a:lnTo>
                <a:lnTo>
                  <a:pt x="484" y="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257"/>
          <p:cNvSpPr/>
          <p:nvPr/>
        </p:nvSpPr>
        <p:spPr>
          <a:xfrm>
            <a:off x="5452920" y="3789360"/>
            <a:ext cx="605160" cy="879480"/>
          </a:xfrm>
          <a:custGeom>
            <a:avLst/>
            <a:gdLst/>
            <a:ahLst/>
            <a:rect l="l" t="t" r="r" b="b"/>
            <a:pathLst>
              <a:path w="762" h="1107">
                <a:moveTo>
                  <a:pt x="542" y="560"/>
                </a:moveTo>
                <a:lnTo>
                  <a:pt x="526" y="593"/>
                </a:lnTo>
                <a:lnTo>
                  <a:pt x="513" y="626"/>
                </a:lnTo>
                <a:lnTo>
                  <a:pt x="497" y="658"/>
                </a:lnTo>
                <a:lnTo>
                  <a:pt x="484" y="689"/>
                </a:lnTo>
                <a:lnTo>
                  <a:pt x="471" y="720"/>
                </a:lnTo>
                <a:lnTo>
                  <a:pt x="459" y="747"/>
                </a:lnTo>
                <a:lnTo>
                  <a:pt x="446" y="775"/>
                </a:lnTo>
                <a:lnTo>
                  <a:pt x="434" y="800"/>
                </a:lnTo>
                <a:lnTo>
                  <a:pt x="423" y="825"/>
                </a:lnTo>
                <a:lnTo>
                  <a:pt x="411" y="850"/>
                </a:lnTo>
                <a:lnTo>
                  <a:pt x="400" y="873"/>
                </a:lnTo>
                <a:lnTo>
                  <a:pt x="388" y="894"/>
                </a:lnTo>
                <a:lnTo>
                  <a:pt x="378" y="916"/>
                </a:lnTo>
                <a:lnTo>
                  <a:pt x="369" y="935"/>
                </a:lnTo>
                <a:lnTo>
                  <a:pt x="357" y="954"/>
                </a:lnTo>
                <a:lnTo>
                  <a:pt x="350" y="971"/>
                </a:lnTo>
                <a:lnTo>
                  <a:pt x="340" y="988"/>
                </a:lnTo>
                <a:lnTo>
                  <a:pt x="330" y="1004"/>
                </a:lnTo>
                <a:lnTo>
                  <a:pt x="323" y="1017"/>
                </a:lnTo>
                <a:lnTo>
                  <a:pt x="315" y="1031"/>
                </a:lnTo>
                <a:lnTo>
                  <a:pt x="307" y="1042"/>
                </a:lnTo>
                <a:lnTo>
                  <a:pt x="300" y="1054"/>
                </a:lnTo>
                <a:lnTo>
                  <a:pt x="292" y="1063"/>
                </a:lnTo>
                <a:lnTo>
                  <a:pt x="286" y="1073"/>
                </a:lnTo>
                <a:lnTo>
                  <a:pt x="281" y="1081"/>
                </a:lnTo>
                <a:lnTo>
                  <a:pt x="275" y="1088"/>
                </a:lnTo>
                <a:lnTo>
                  <a:pt x="269" y="1094"/>
                </a:lnTo>
                <a:lnTo>
                  <a:pt x="263" y="1098"/>
                </a:lnTo>
                <a:lnTo>
                  <a:pt x="258" y="1102"/>
                </a:lnTo>
                <a:lnTo>
                  <a:pt x="254" y="1104"/>
                </a:lnTo>
                <a:lnTo>
                  <a:pt x="250" y="1106"/>
                </a:lnTo>
                <a:lnTo>
                  <a:pt x="246" y="1107"/>
                </a:lnTo>
                <a:lnTo>
                  <a:pt x="238" y="1107"/>
                </a:lnTo>
                <a:lnTo>
                  <a:pt x="231" y="1107"/>
                </a:lnTo>
                <a:lnTo>
                  <a:pt x="223" y="1107"/>
                </a:lnTo>
                <a:lnTo>
                  <a:pt x="215" y="1106"/>
                </a:lnTo>
                <a:lnTo>
                  <a:pt x="206" y="1102"/>
                </a:lnTo>
                <a:lnTo>
                  <a:pt x="198" y="1096"/>
                </a:lnTo>
                <a:lnTo>
                  <a:pt x="190" y="1090"/>
                </a:lnTo>
                <a:lnTo>
                  <a:pt x="181" y="1083"/>
                </a:lnTo>
                <a:lnTo>
                  <a:pt x="173" y="1075"/>
                </a:lnTo>
                <a:lnTo>
                  <a:pt x="164" y="1065"/>
                </a:lnTo>
                <a:lnTo>
                  <a:pt x="154" y="1056"/>
                </a:lnTo>
                <a:lnTo>
                  <a:pt x="142" y="1044"/>
                </a:lnTo>
                <a:lnTo>
                  <a:pt x="133" y="1031"/>
                </a:lnTo>
                <a:lnTo>
                  <a:pt x="121" y="1017"/>
                </a:lnTo>
                <a:lnTo>
                  <a:pt x="110" y="1002"/>
                </a:lnTo>
                <a:lnTo>
                  <a:pt x="98" y="988"/>
                </a:lnTo>
                <a:lnTo>
                  <a:pt x="85" y="973"/>
                </a:lnTo>
                <a:lnTo>
                  <a:pt x="73" y="958"/>
                </a:lnTo>
                <a:lnTo>
                  <a:pt x="64" y="944"/>
                </a:lnTo>
                <a:lnTo>
                  <a:pt x="52" y="931"/>
                </a:lnTo>
                <a:lnTo>
                  <a:pt x="45" y="919"/>
                </a:lnTo>
                <a:lnTo>
                  <a:pt x="35" y="908"/>
                </a:lnTo>
                <a:lnTo>
                  <a:pt x="27" y="898"/>
                </a:lnTo>
                <a:lnTo>
                  <a:pt x="21" y="889"/>
                </a:lnTo>
                <a:lnTo>
                  <a:pt x="16" y="879"/>
                </a:lnTo>
                <a:lnTo>
                  <a:pt x="10" y="869"/>
                </a:lnTo>
                <a:lnTo>
                  <a:pt x="6" y="862"/>
                </a:lnTo>
                <a:lnTo>
                  <a:pt x="2" y="856"/>
                </a:lnTo>
                <a:lnTo>
                  <a:pt x="2" y="848"/>
                </a:lnTo>
                <a:lnTo>
                  <a:pt x="0" y="843"/>
                </a:lnTo>
                <a:lnTo>
                  <a:pt x="2" y="839"/>
                </a:lnTo>
                <a:lnTo>
                  <a:pt x="4" y="833"/>
                </a:lnTo>
                <a:lnTo>
                  <a:pt x="4" y="831"/>
                </a:lnTo>
                <a:lnTo>
                  <a:pt x="4" y="829"/>
                </a:lnTo>
                <a:lnTo>
                  <a:pt x="6" y="827"/>
                </a:lnTo>
                <a:lnTo>
                  <a:pt x="8" y="823"/>
                </a:lnTo>
                <a:lnTo>
                  <a:pt x="10" y="821"/>
                </a:lnTo>
                <a:lnTo>
                  <a:pt x="14" y="820"/>
                </a:lnTo>
                <a:lnTo>
                  <a:pt x="18" y="818"/>
                </a:lnTo>
                <a:lnTo>
                  <a:pt x="21" y="818"/>
                </a:lnTo>
                <a:lnTo>
                  <a:pt x="31" y="814"/>
                </a:lnTo>
                <a:lnTo>
                  <a:pt x="43" y="812"/>
                </a:lnTo>
                <a:lnTo>
                  <a:pt x="56" y="810"/>
                </a:lnTo>
                <a:lnTo>
                  <a:pt x="71" y="810"/>
                </a:lnTo>
                <a:lnTo>
                  <a:pt x="85" y="808"/>
                </a:lnTo>
                <a:lnTo>
                  <a:pt x="98" y="808"/>
                </a:lnTo>
                <a:lnTo>
                  <a:pt x="112" y="804"/>
                </a:lnTo>
                <a:lnTo>
                  <a:pt x="123" y="802"/>
                </a:lnTo>
                <a:lnTo>
                  <a:pt x="135" y="798"/>
                </a:lnTo>
                <a:lnTo>
                  <a:pt x="144" y="795"/>
                </a:lnTo>
                <a:lnTo>
                  <a:pt x="165" y="785"/>
                </a:lnTo>
                <a:lnTo>
                  <a:pt x="167" y="781"/>
                </a:lnTo>
                <a:lnTo>
                  <a:pt x="171" y="779"/>
                </a:lnTo>
                <a:lnTo>
                  <a:pt x="173" y="775"/>
                </a:lnTo>
                <a:lnTo>
                  <a:pt x="177" y="772"/>
                </a:lnTo>
                <a:lnTo>
                  <a:pt x="183" y="766"/>
                </a:lnTo>
                <a:lnTo>
                  <a:pt x="187" y="760"/>
                </a:lnTo>
                <a:lnTo>
                  <a:pt x="192" y="754"/>
                </a:lnTo>
                <a:lnTo>
                  <a:pt x="198" y="747"/>
                </a:lnTo>
                <a:lnTo>
                  <a:pt x="204" y="739"/>
                </a:lnTo>
                <a:lnTo>
                  <a:pt x="211" y="731"/>
                </a:lnTo>
                <a:lnTo>
                  <a:pt x="219" y="722"/>
                </a:lnTo>
                <a:lnTo>
                  <a:pt x="227" y="712"/>
                </a:lnTo>
                <a:lnTo>
                  <a:pt x="235" y="701"/>
                </a:lnTo>
                <a:lnTo>
                  <a:pt x="244" y="689"/>
                </a:lnTo>
                <a:lnTo>
                  <a:pt x="254" y="678"/>
                </a:lnTo>
                <a:lnTo>
                  <a:pt x="263" y="664"/>
                </a:lnTo>
                <a:lnTo>
                  <a:pt x="273" y="651"/>
                </a:lnTo>
                <a:lnTo>
                  <a:pt x="284" y="637"/>
                </a:lnTo>
                <a:lnTo>
                  <a:pt x="294" y="622"/>
                </a:lnTo>
                <a:lnTo>
                  <a:pt x="306" y="606"/>
                </a:lnTo>
                <a:lnTo>
                  <a:pt x="319" y="589"/>
                </a:lnTo>
                <a:lnTo>
                  <a:pt x="330" y="572"/>
                </a:lnTo>
                <a:lnTo>
                  <a:pt x="344" y="555"/>
                </a:lnTo>
                <a:lnTo>
                  <a:pt x="357" y="535"/>
                </a:lnTo>
                <a:lnTo>
                  <a:pt x="371" y="516"/>
                </a:lnTo>
                <a:lnTo>
                  <a:pt x="384" y="495"/>
                </a:lnTo>
                <a:lnTo>
                  <a:pt x="400" y="474"/>
                </a:lnTo>
                <a:lnTo>
                  <a:pt x="413" y="451"/>
                </a:lnTo>
                <a:lnTo>
                  <a:pt x="428" y="430"/>
                </a:lnTo>
                <a:lnTo>
                  <a:pt x="444" y="405"/>
                </a:lnTo>
                <a:lnTo>
                  <a:pt x="461" y="382"/>
                </a:lnTo>
                <a:lnTo>
                  <a:pt x="476" y="357"/>
                </a:lnTo>
                <a:lnTo>
                  <a:pt x="492" y="334"/>
                </a:lnTo>
                <a:lnTo>
                  <a:pt x="507" y="311"/>
                </a:lnTo>
                <a:lnTo>
                  <a:pt x="522" y="290"/>
                </a:lnTo>
                <a:lnTo>
                  <a:pt x="536" y="269"/>
                </a:lnTo>
                <a:lnTo>
                  <a:pt x="549" y="248"/>
                </a:lnTo>
                <a:lnTo>
                  <a:pt x="563" y="228"/>
                </a:lnTo>
                <a:lnTo>
                  <a:pt x="576" y="209"/>
                </a:lnTo>
                <a:lnTo>
                  <a:pt x="588" y="192"/>
                </a:lnTo>
                <a:lnTo>
                  <a:pt x="599" y="175"/>
                </a:lnTo>
                <a:lnTo>
                  <a:pt x="611" y="157"/>
                </a:lnTo>
                <a:lnTo>
                  <a:pt x="622" y="142"/>
                </a:lnTo>
                <a:lnTo>
                  <a:pt x="634" y="127"/>
                </a:lnTo>
                <a:lnTo>
                  <a:pt x="643" y="113"/>
                </a:lnTo>
                <a:lnTo>
                  <a:pt x="653" y="100"/>
                </a:lnTo>
                <a:lnTo>
                  <a:pt x="663" y="88"/>
                </a:lnTo>
                <a:lnTo>
                  <a:pt x="672" y="77"/>
                </a:lnTo>
                <a:lnTo>
                  <a:pt x="680" y="65"/>
                </a:lnTo>
                <a:lnTo>
                  <a:pt x="688" y="56"/>
                </a:lnTo>
                <a:lnTo>
                  <a:pt x="695" y="46"/>
                </a:lnTo>
                <a:lnTo>
                  <a:pt x="703" y="38"/>
                </a:lnTo>
                <a:lnTo>
                  <a:pt x="711" y="31"/>
                </a:lnTo>
                <a:lnTo>
                  <a:pt x="716" y="25"/>
                </a:lnTo>
                <a:lnTo>
                  <a:pt x="722" y="17"/>
                </a:lnTo>
                <a:lnTo>
                  <a:pt x="728" y="13"/>
                </a:lnTo>
                <a:lnTo>
                  <a:pt x="734" y="10"/>
                </a:lnTo>
                <a:lnTo>
                  <a:pt x="739" y="6"/>
                </a:lnTo>
                <a:lnTo>
                  <a:pt x="743" y="4"/>
                </a:lnTo>
                <a:lnTo>
                  <a:pt x="747" y="2"/>
                </a:lnTo>
                <a:lnTo>
                  <a:pt x="751" y="0"/>
                </a:lnTo>
                <a:lnTo>
                  <a:pt x="753" y="0"/>
                </a:lnTo>
                <a:lnTo>
                  <a:pt x="757" y="2"/>
                </a:lnTo>
                <a:lnTo>
                  <a:pt x="759" y="2"/>
                </a:lnTo>
                <a:lnTo>
                  <a:pt x="760" y="6"/>
                </a:lnTo>
                <a:lnTo>
                  <a:pt x="760" y="10"/>
                </a:lnTo>
                <a:lnTo>
                  <a:pt x="762" y="13"/>
                </a:lnTo>
                <a:lnTo>
                  <a:pt x="762" y="19"/>
                </a:lnTo>
                <a:lnTo>
                  <a:pt x="760" y="25"/>
                </a:lnTo>
                <a:lnTo>
                  <a:pt x="760" y="33"/>
                </a:lnTo>
                <a:lnTo>
                  <a:pt x="759" y="42"/>
                </a:lnTo>
                <a:lnTo>
                  <a:pt x="755" y="50"/>
                </a:lnTo>
                <a:lnTo>
                  <a:pt x="753" y="61"/>
                </a:lnTo>
                <a:lnTo>
                  <a:pt x="749" y="73"/>
                </a:lnTo>
                <a:lnTo>
                  <a:pt x="745" y="86"/>
                </a:lnTo>
                <a:lnTo>
                  <a:pt x="741" y="100"/>
                </a:lnTo>
                <a:lnTo>
                  <a:pt x="735" y="113"/>
                </a:lnTo>
                <a:lnTo>
                  <a:pt x="730" y="129"/>
                </a:lnTo>
                <a:lnTo>
                  <a:pt x="722" y="146"/>
                </a:lnTo>
                <a:lnTo>
                  <a:pt x="716" y="163"/>
                </a:lnTo>
                <a:lnTo>
                  <a:pt x="709" y="182"/>
                </a:lnTo>
                <a:lnTo>
                  <a:pt x="701" y="201"/>
                </a:lnTo>
                <a:lnTo>
                  <a:pt x="691" y="223"/>
                </a:lnTo>
                <a:lnTo>
                  <a:pt x="682" y="246"/>
                </a:lnTo>
                <a:lnTo>
                  <a:pt x="672" y="269"/>
                </a:lnTo>
                <a:lnTo>
                  <a:pt x="663" y="292"/>
                </a:lnTo>
                <a:lnTo>
                  <a:pt x="651" y="319"/>
                </a:lnTo>
                <a:lnTo>
                  <a:pt x="640" y="344"/>
                </a:lnTo>
                <a:lnTo>
                  <a:pt x="628" y="372"/>
                </a:lnTo>
                <a:lnTo>
                  <a:pt x="615" y="399"/>
                </a:lnTo>
                <a:lnTo>
                  <a:pt x="601" y="430"/>
                </a:lnTo>
                <a:lnTo>
                  <a:pt x="588" y="461"/>
                </a:lnTo>
                <a:lnTo>
                  <a:pt x="572" y="493"/>
                </a:lnTo>
                <a:lnTo>
                  <a:pt x="557" y="526"/>
                </a:lnTo>
                <a:lnTo>
                  <a:pt x="542" y="5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258"/>
          <p:cNvSpPr/>
          <p:nvPr/>
        </p:nvSpPr>
        <p:spPr>
          <a:xfrm>
            <a:off x="5497560" y="3405240"/>
            <a:ext cx="366840" cy="301680"/>
          </a:xfrm>
          <a:custGeom>
            <a:avLst/>
            <a:gdLst/>
            <a:ahLst/>
            <a:rect l="l" t="t" r="r" b="b"/>
            <a:pathLst>
              <a:path w="461" h="380">
                <a:moveTo>
                  <a:pt x="0" y="23"/>
                </a:moveTo>
                <a:lnTo>
                  <a:pt x="4" y="18"/>
                </a:lnTo>
                <a:lnTo>
                  <a:pt x="11" y="14"/>
                </a:lnTo>
                <a:lnTo>
                  <a:pt x="21" y="10"/>
                </a:lnTo>
                <a:lnTo>
                  <a:pt x="31" y="6"/>
                </a:lnTo>
                <a:lnTo>
                  <a:pt x="36" y="4"/>
                </a:lnTo>
                <a:lnTo>
                  <a:pt x="44" y="4"/>
                </a:lnTo>
                <a:lnTo>
                  <a:pt x="50" y="2"/>
                </a:lnTo>
                <a:lnTo>
                  <a:pt x="58" y="2"/>
                </a:lnTo>
                <a:lnTo>
                  <a:pt x="65" y="0"/>
                </a:lnTo>
                <a:lnTo>
                  <a:pt x="75" y="0"/>
                </a:lnTo>
                <a:lnTo>
                  <a:pt x="82" y="0"/>
                </a:lnTo>
                <a:lnTo>
                  <a:pt x="94" y="0"/>
                </a:lnTo>
                <a:lnTo>
                  <a:pt x="102" y="0"/>
                </a:lnTo>
                <a:lnTo>
                  <a:pt x="109" y="0"/>
                </a:lnTo>
                <a:lnTo>
                  <a:pt x="119" y="0"/>
                </a:lnTo>
                <a:lnTo>
                  <a:pt x="129" y="2"/>
                </a:lnTo>
                <a:lnTo>
                  <a:pt x="150" y="4"/>
                </a:lnTo>
                <a:lnTo>
                  <a:pt x="171" y="10"/>
                </a:lnTo>
                <a:lnTo>
                  <a:pt x="194" y="16"/>
                </a:lnTo>
                <a:lnTo>
                  <a:pt x="205" y="20"/>
                </a:lnTo>
                <a:lnTo>
                  <a:pt x="219" y="23"/>
                </a:lnTo>
                <a:lnTo>
                  <a:pt x="230" y="29"/>
                </a:lnTo>
                <a:lnTo>
                  <a:pt x="244" y="35"/>
                </a:lnTo>
                <a:lnTo>
                  <a:pt x="255" y="41"/>
                </a:lnTo>
                <a:lnTo>
                  <a:pt x="269" y="46"/>
                </a:lnTo>
                <a:lnTo>
                  <a:pt x="294" y="60"/>
                </a:lnTo>
                <a:lnTo>
                  <a:pt x="317" y="73"/>
                </a:lnTo>
                <a:lnTo>
                  <a:pt x="338" y="89"/>
                </a:lnTo>
                <a:lnTo>
                  <a:pt x="359" y="102"/>
                </a:lnTo>
                <a:lnTo>
                  <a:pt x="378" y="117"/>
                </a:lnTo>
                <a:lnTo>
                  <a:pt x="397" y="133"/>
                </a:lnTo>
                <a:lnTo>
                  <a:pt x="415" y="148"/>
                </a:lnTo>
                <a:lnTo>
                  <a:pt x="430" y="165"/>
                </a:lnTo>
                <a:lnTo>
                  <a:pt x="436" y="177"/>
                </a:lnTo>
                <a:lnTo>
                  <a:pt x="443" y="188"/>
                </a:lnTo>
                <a:lnTo>
                  <a:pt x="447" y="198"/>
                </a:lnTo>
                <a:lnTo>
                  <a:pt x="451" y="208"/>
                </a:lnTo>
                <a:lnTo>
                  <a:pt x="455" y="217"/>
                </a:lnTo>
                <a:lnTo>
                  <a:pt x="459" y="227"/>
                </a:lnTo>
                <a:lnTo>
                  <a:pt x="461" y="236"/>
                </a:lnTo>
                <a:lnTo>
                  <a:pt x="461" y="246"/>
                </a:lnTo>
                <a:lnTo>
                  <a:pt x="461" y="256"/>
                </a:lnTo>
                <a:lnTo>
                  <a:pt x="461" y="263"/>
                </a:lnTo>
                <a:lnTo>
                  <a:pt x="459" y="271"/>
                </a:lnTo>
                <a:lnTo>
                  <a:pt x="457" y="279"/>
                </a:lnTo>
                <a:lnTo>
                  <a:pt x="455" y="286"/>
                </a:lnTo>
                <a:lnTo>
                  <a:pt x="451" y="294"/>
                </a:lnTo>
                <a:lnTo>
                  <a:pt x="447" y="302"/>
                </a:lnTo>
                <a:lnTo>
                  <a:pt x="443" y="309"/>
                </a:lnTo>
                <a:lnTo>
                  <a:pt x="438" y="317"/>
                </a:lnTo>
                <a:lnTo>
                  <a:pt x="434" y="325"/>
                </a:lnTo>
                <a:lnTo>
                  <a:pt x="428" y="332"/>
                </a:lnTo>
                <a:lnTo>
                  <a:pt x="422" y="340"/>
                </a:lnTo>
                <a:lnTo>
                  <a:pt x="418" y="346"/>
                </a:lnTo>
                <a:lnTo>
                  <a:pt x="413" y="352"/>
                </a:lnTo>
                <a:lnTo>
                  <a:pt x="409" y="357"/>
                </a:lnTo>
                <a:lnTo>
                  <a:pt x="405" y="363"/>
                </a:lnTo>
                <a:lnTo>
                  <a:pt x="399" y="367"/>
                </a:lnTo>
                <a:lnTo>
                  <a:pt x="395" y="371"/>
                </a:lnTo>
                <a:lnTo>
                  <a:pt x="391" y="373"/>
                </a:lnTo>
                <a:lnTo>
                  <a:pt x="388" y="375"/>
                </a:lnTo>
                <a:lnTo>
                  <a:pt x="384" y="377"/>
                </a:lnTo>
                <a:lnTo>
                  <a:pt x="382" y="378"/>
                </a:lnTo>
                <a:lnTo>
                  <a:pt x="378" y="380"/>
                </a:lnTo>
                <a:lnTo>
                  <a:pt x="376" y="380"/>
                </a:lnTo>
                <a:lnTo>
                  <a:pt x="370" y="378"/>
                </a:lnTo>
                <a:lnTo>
                  <a:pt x="365" y="377"/>
                </a:lnTo>
                <a:lnTo>
                  <a:pt x="357" y="375"/>
                </a:lnTo>
                <a:lnTo>
                  <a:pt x="347" y="369"/>
                </a:lnTo>
                <a:lnTo>
                  <a:pt x="338" y="363"/>
                </a:lnTo>
                <a:lnTo>
                  <a:pt x="328" y="355"/>
                </a:lnTo>
                <a:lnTo>
                  <a:pt x="317" y="348"/>
                </a:lnTo>
                <a:lnTo>
                  <a:pt x="305" y="336"/>
                </a:lnTo>
                <a:lnTo>
                  <a:pt x="292" y="327"/>
                </a:lnTo>
                <a:lnTo>
                  <a:pt x="278" y="313"/>
                </a:lnTo>
                <a:lnTo>
                  <a:pt x="263" y="300"/>
                </a:lnTo>
                <a:lnTo>
                  <a:pt x="246" y="284"/>
                </a:lnTo>
                <a:lnTo>
                  <a:pt x="230" y="269"/>
                </a:lnTo>
                <a:lnTo>
                  <a:pt x="211" y="252"/>
                </a:lnTo>
                <a:lnTo>
                  <a:pt x="194" y="233"/>
                </a:lnTo>
                <a:lnTo>
                  <a:pt x="175" y="213"/>
                </a:lnTo>
                <a:lnTo>
                  <a:pt x="152" y="194"/>
                </a:lnTo>
                <a:lnTo>
                  <a:pt x="132" y="175"/>
                </a:lnTo>
                <a:lnTo>
                  <a:pt x="113" y="156"/>
                </a:lnTo>
                <a:lnTo>
                  <a:pt x="96" y="140"/>
                </a:lnTo>
                <a:lnTo>
                  <a:pt x="81" y="123"/>
                </a:lnTo>
                <a:lnTo>
                  <a:pt x="65" y="108"/>
                </a:lnTo>
                <a:lnTo>
                  <a:pt x="54" y="94"/>
                </a:lnTo>
                <a:lnTo>
                  <a:pt x="42" y="83"/>
                </a:lnTo>
                <a:lnTo>
                  <a:pt x="31" y="69"/>
                </a:lnTo>
                <a:lnTo>
                  <a:pt x="23" y="60"/>
                </a:lnTo>
                <a:lnTo>
                  <a:pt x="15" y="50"/>
                </a:lnTo>
                <a:lnTo>
                  <a:pt x="10" y="43"/>
                </a:lnTo>
                <a:lnTo>
                  <a:pt x="6" y="35"/>
                </a:lnTo>
                <a:lnTo>
                  <a:pt x="2" y="31"/>
                </a:lnTo>
                <a:lnTo>
                  <a:pt x="0" y="25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259"/>
          <p:cNvSpPr/>
          <p:nvPr/>
        </p:nvSpPr>
        <p:spPr>
          <a:xfrm>
            <a:off x="5740560" y="2913120"/>
            <a:ext cx="365040" cy="234720"/>
          </a:xfrm>
          <a:custGeom>
            <a:avLst/>
            <a:gdLst/>
            <a:ahLst/>
            <a:rect l="l" t="t" r="r" b="b"/>
            <a:pathLst>
              <a:path w="461" h="298">
                <a:moveTo>
                  <a:pt x="273" y="25"/>
                </a:moveTo>
                <a:lnTo>
                  <a:pt x="284" y="27"/>
                </a:lnTo>
                <a:lnTo>
                  <a:pt x="298" y="31"/>
                </a:lnTo>
                <a:lnTo>
                  <a:pt x="309" y="33"/>
                </a:lnTo>
                <a:lnTo>
                  <a:pt x="321" y="39"/>
                </a:lnTo>
                <a:lnTo>
                  <a:pt x="342" y="46"/>
                </a:lnTo>
                <a:lnTo>
                  <a:pt x="361" y="58"/>
                </a:lnTo>
                <a:lnTo>
                  <a:pt x="371" y="64"/>
                </a:lnTo>
                <a:lnTo>
                  <a:pt x="378" y="69"/>
                </a:lnTo>
                <a:lnTo>
                  <a:pt x="388" y="75"/>
                </a:lnTo>
                <a:lnTo>
                  <a:pt x="396" y="81"/>
                </a:lnTo>
                <a:lnTo>
                  <a:pt x="401" y="89"/>
                </a:lnTo>
                <a:lnTo>
                  <a:pt x="409" y="94"/>
                </a:lnTo>
                <a:lnTo>
                  <a:pt x="415" y="102"/>
                </a:lnTo>
                <a:lnTo>
                  <a:pt x="420" y="108"/>
                </a:lnTo>
                <a:lnTo>
                  <a:pt x="430" y="121"/>
                </a:lnTo>
                <a:lnTo>
                  <a:pt x="438" y="135"/>
                </a:lnTo>
                <a:lnTo>
                  <a:pt x="444" y="148"/>
                </a:lnTo>
                <a:lnTo>
                  <a:pt x="449" y="162"/>
                </a:lnTo>
                <a:lnTo>
                  <a:pt x="455" y="175"/>
                </a:lnTo>
                <a:lnTo>
                  <a:pt x="457" y="188"/>
                </a:lnTo>
                <a:lnTo>
                  <a:pt x="459" y="202"/>
                </a:lnTo>
                <a:lnTo>
                  <a:pt x="461" y="215"/>
                </a:lnTo>
                <a:lnTo>
                  <a:pt x="461" y="221"/>
                </a:lnTo>
                <a:lnTo>
                  <a:pt x="461" y="227"/>
                </a:lnTo>
                <a:lnTo>
                  <a:pt x="461" y="233"/>
                </a:lnTo>
                <a:lnTo>
                  <a:pt x="461" y="238"/>
                </a:lnTo>
                <a:lnTo>
                  <a:pt x="459" y="246"/>
                </a:lnTo>
                <a:lnTo>
                  <a:pt x="459" y="254"/>
                </a:lnTo>
                <a:lnTo>
                  <a:pt x="457" y="259"/>
                </a:lnTo>
                <a:lnTo>
                  <a:pt x="455" y="265"/>
                </a:lnTo>
                <a:lnTo>
                  <a:pt x="451" y="269"/>
                </a:lnTo>
                <a:lnTo>
                  <a:pt x="447" y="275"/>
                </a:lnTo>
                <a:lnTo>
                  <a:pt x="442" y="279"/>
                </a:lnTo>
                <a:lnTo>
                  <a:pt x="434" y="282"/>
                </a:lnTo>
                <a:lnTo>
                  <a:pt x="426" y="286"/>
                </a:lnTo>
                <a:lnTo>
                  <a:pt x="417" y="290"/>
                </a:lnTo>
                <a:lnTo>
                  <a:pt x="405" y="294"/>
                </a:lnTo>
                <a:lnTo>
                  <a:pt x="394" y="296"/>
                </a:lnTo>
                <a:lnTo>
                  <a:pt x="380" y="298"/>
                </a:lnTo>
                <a:lnTo>
                  <a:pt x="367" y="298"/>
                </a:lnTo>
                <a:lnTo>
                  <a:pt x="359" y="298"/>
                </a:lnTo>
                <a:lnTo>
                  <a:pt x="351" y="298"/>
                </a:lnTo>
                <a:lnTo>
                  <a:pt x="344" y="296"/>
                </a:lnTo>
                <a:lnTo>
                  <a:pt x="336" y="294"/>
                </a:lnTo>
                <a:lnTo>
                  <a:pt x="328" y="292"/>
                </a:lnTo>
                <a:lnTo>
                  <a:pt x="321" y="288"/>
                </a:lnTo>
                <a:lnTo>
                  <a:pt x="313" y="284"/>
                </a:lnTo>
                <a:lnTo>
                  <a:pt x="303" y="281"/>
                </a:lnTo>
                <a:lnTo>
                  <a:pt x="296" y="277"/>
                </a:lnTo>
                <a:lnTo>
                  <a:pt x="288" y="271"/>
                </a:lnTo>
                <a:lnTo>
                  <a:pt x="278" y="265"/>
                </a:lnTo>
                <a:lnTo>
                  <a:pt x="269" y="258"/>
                </a:lnTo>
                <a:lnTo>
                  <a:pt x="261" y="252"/>
                </a:lnTo>
                <a:lnTo>
                  <a:pt x="252" y="244"/>
                </a:lnTo>
                <a:lnTo>
                  <a:pt x="242" y="236"/>
                </a:lnTo>
                <a:lnTo>
                  <a:pt x="232" y="227"/>
                </a:lnTo>
                <a:lnTo>
                  <a:pt x="207" y="213"/>
                </a:lnTo>
                <a:lnTo>
                  <a:pt x="184" y="198"/>
                </a:lnTo>
                <a:lnTo>
                  <a:pt x="161" y="183"/>
                </a:lnTo>
                <a:lnTo>
                  <a:pt x="140" y="167"/>
                </a:lnTo>
                <a:lnTo>
                  <a:pt x="121" y="152"/>
                </a:lnTo>
                <a:lnTo>
                  <a:pt x="104" y="137"/>
                </a:lnTo>
                <a:lnTo>
                  <a:pt x="86" y="121"/>
                </a:lnTo>
                <a:lnTo>
                  <a:pt x="71" y="108"/>
                </a:lnTo>
                <a:lnTo>
                  <a:pt x="56" y="94"/>
                </a:lnTo>
                <a:lnTo>
                  <a:pt x="42" y="81"/>
                </a:lnTo>
                <a:lnTo>
                  <a:pt x="31" y="69"/>
                </a:lnTo>
                <a:lnTo>
                  <a:pt x="21" y="58"/>
                </a:lnTo>
                <a:lnTo>
                  <a:pt x="17" y="52"/>
                </a:lnTo>
                <a:lnTo>
                  <a:pt x="14" y="46"/>
                </a:lnTo>
                <a:lnTo>
                  <a:pt x="10" y="43"/>
                </a:lnTo>
                <a:lnTo>
                  <a:pt x="8" y="39"/>
                </a:lnTo>
                <a:lnTo>
                  <a:pt x="6" y="33"/>
                </a:lnTo>
                <a:lnTo>
                  <a:pt x="4" y="31"/>
                </a:lnTo>
                <a:lnTo>
                  <a:pt x="4" y="27"/>
                </a:lnTo>
                <a:lnTo>
                  <a:pt x="4" y="25"/>
                </a:lnTo>
                <a:lnTo>
                  <a:pt x="0" y="23"/>
                </a:lnTo>
                <a:lnTo>
                  <a:pt x="0" y="21"/>
                </a:lnTo>
                <a:lnTo>
                  <a:pt x="0" y="20"/>
                </a:lnTo>
                <a:lnTo>
                  <a:pt x="0" y="18"/>
                </a:lnTo>
                <a:lnTo>
                  <a:pt x="2" y="16"/>
                </a:lnTo>
                <a:lnTo>
                  <a:pt x="6" y="16"/>
                </a:lnTo>
                <a:lnTo>
                  <a:pt x="10" y="14"/>
                </a:lnTo>
                <a:lnTo>
                  <a:pt x="14" y="14"/>
                </a:lnTo>
                <a:lnTo>
                  <a:pt x="19" y="12"/>
                </a:lnTo>
                <a:lnTo>
                  <a:pt x="25" y="10"/>
                </a:lnTo>
                <a:lnTo>
                  <a:pt x="33" y="10"/>
                </a:lnTo>
                <a:lnTo>
                  <a:pt x="40" y="8"/>
                </a:lnTo>
                <a:lnTo>
                  <a:pt x="50" y="6"/>
                </a:lnTo>
                <a:lnTo>
                  <a:pt x="62" y="4"/>
                </a:lnTo>
                <a:lnTo>
                  <a:pt x="71" y="2"/>
                </a:lnTo>
                <a:lnTo>
                  <a:pt x="85" y="0"/>
                </a:lnTo>
                <a:lnTo>
                  <a:pt x="106" y="2"/>
                </a:lnTo>
                <a:lnTo>
                  <a:pt x="127" y="2"/>
                </a:lnTo>
                <a:lnTo>
                  <a:pt x="150" y="6"/>
                </a:lnTo>
                <a:lnTo>
                  <a:pt x="173" y="8"/>
                </a:lnTo>
                <a:lnTo>
                  <a:pt x="198" y="12"/>
                </a:lnTo>
                <a:lnTo>
                  <a:pt x="223" y="16"/>
                </a:lnTo>
                <a:lnTo>
                  <a:pt x="273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4"/>
          <p:cNvSpPr/>
          <p:nvPr/>
        </p:nvSpPr>
        <p:spPr>
          <a:xfrm>
            <a:off x="2178000" y="25480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泉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2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白”两侧内收；“水”的捺要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矩形 3"/>
          <p:cNvSpPr/>
          <p:nvPr/>
        </p:nvSpPr>
        <p:spPr>
          <a:xfrm>
            <a:off x="1871640" y="1868400"/>
            <a:ext cx="157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uá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103"/>
          <p:cNvSpPr/>
          <p:nvPr/>
        </p:nvSpPr>
        <p:spPr>
          <a:xfrm>
            <a:off x="6527880" y="4022640"/>
            <a:ext cx="1326960" cy="704880"/>
          </a:xfrm>
          <a:custGeom>
            <a:avLst/>
            <a:gdLst/>
            <a:ahLst/>
            <a:rect l="l" t="t" r="r" b="b"/>
            <a:pathLst>
              <a:path w="1672" h="889">
                <a:moveTo>
                  <a:pt x="883" y="539"/>
                </a:moveTo>
                <a:lnTo>
                  <a:pt x="916" y="555"/>
                </a:lnTo>
                <a:lnTo>
                  <a:pt x="950" y="568"/>
                </a:lnTo>
                <a:lnTo>
                  <a:pt x="983" y="584"/>
                </a:lnTo>
                <a:lnTo>
                  <a:pt x="1018" y="597"/>
                </a:lnTo>
                <a:lnTo>
                  <a:pt x="1050" y="609"/>
                </a:lnTo>
                <a:lnTo>
                  <a:pt x="1085" y="622"/>
                </a:lnTo>
                <a:lnTo>
                  <a:pt x="1117" y="633"/>
                </a:lnTo>
                <a:lnTo>
                  <a:pt x="1152" y="645"/>
                </a:lnTo>
                <a:lnTo>
                  <a:pt x="1185" y="655"/>
                </a:lnTo>
                <a:lnTo>
                  <a:pt x="1219" y="664"/>
                </a:lnTo>
                <a:lnTo>
                  <a:pt x="1252" y="674"/>
                </a:lnTo>
                <a:lnTo>
                  <a:pt x="1286" y="683"/>
                </a:lnTo>
                <a:lnTo>
                  <a:pt x="1321" y="691"/>
                </a:lnTo>
                <a:lnTo>
                  <a:pt x="1353" y="699"/>
                </a:lnTo>
                <a:lnTo>
                  <a:pt x="1388" y="706"/>
                </a:lnTo>
                <a:lnTo>
                  <a:pt x="1421" y="714"/>
                </a:lnTo>
                <a:lnTo>
                  <a:pt x="1436" y="718"/>
                </a:lnTo>
                <a:lnTo>
                  <a:pt x="1451" y="724"/>
                </a:lnTo>
                <a:lnTo>
                  <a:pt x="1465" y="728"/>
                </a:lnTo>
                <a:lnTo>
                  <a:pt x="1480" y="731"/>
                </a:lnTo>
                <a:lnTo>
                  <a:pt x="1494" y="735"/>
                </a:lnTo>
                <a:lnTo>
                  <a:pt x="1505" y="739"/>
                </a:lnTo>
                <a:lnTo>
                  <a:pt x="1518" y="743"/>
                </a:lnTo>
                <a:lnTo>
                  <a:pt x="1530" y="747"/>
                </a:lnTo>
                <a:lnTo>
                  <a:pt x="1542" y="751"/>
                </a:lnTo>
                <a:lnTo>
                  <a:pt x="1553" y="754"/>
                </a:lnTo>
                <a:lnTo>
                  <a:pt x="1563" y="758"/>
                </a:lnTo>
                <a:lnTo>
                  <a:pt x="1574" y="762"/>
                </a:lnTo>
                <a:lnTo>
                  <a:pt x="1584" y="764"/>
                </a:lnTo>
                <a:lnTo>
                  <a:pt x="1591" y="768"/>
                </a:lnTo>
                <a:lnTo>
                  <a:pt x="1601" y="772"/>
                </a:lnTo>
                <a:lnTo>
                  <a:pt x="1609" y="774"/>
                </a:lnTo>
                <a:lnTo>
                  <a:pt x="1616" y="777"/>
                </a:lnTo>
                <a:lnTo>
                  <a:pt x="1624" y="779"/>
                </a:lnTo>
                <a:lnTo>
                  <a:pt x="1630" y="783"/>
                </a:lnTo>
                <a:lnTo>
                  <a:pt x="1636" y="785"/>
                </a:lnTo>
                <a:lnTo>
                  <a:pt x="1641" y="787"/>
                </a:lnTo>
                <a:lnTo>
                  <a:pt x="1647" y="791"/>
                </a:lnTo>
                <a:lnTo>
                  <a:pt x="1651" y="793"/>
                </a:lnTo>
                <a:lnTo>
                  <a:pt x="1655" y="795"/>
                </a:lnTo>
                <a:lnTo>
                  <a:pt x="1659" y="797"/>
                </a:lnTo>
                <a:lnTo>
                  <a:pt x="1662" y="799"/>
                </a:lnTo>
                <a:lnTo>
                  <a:pt x="1664" y="800"/>
                </a:lnTo>
                <a:lnTo>
                  <a:pt x="1666" y="802"/>
                </a:lnTo>
                <a:lnTo>
                  <a:pt x="1668" y="804"/>
                </a:lnTo>
                <a:lnTo>
                  <a:pt x="1670" y="804"/>
                </a:lnTo>
                <a:lnTo>
                  <a:pt x="1670" y="806"/>
                </a:lnTo>
                <a:lnTo>
                  <a:pt x="1672" y="808"/>
                </a:lnTo>
                <a:lnTo>
                  <a:pt x="1668" y="810"/>
                </a:lnTo>
                <a:lnTo>
                  <a:pt x="1664" y="812"/>
                </a:lnTo>
                <a:lnTo>
                  <a:pt x="1659" y="816"/>
                </a:lnTo>
                <a:lnTo>
                  <a:pt x="1651" y="818"/>
                </a:lnTo>
                <a:lnTo>
                  <a:pt x="1643" y="822"/>
                </a:lnTo>
                <a:lnTo>
                  <a:pt x="1634" y="823"/>
                </a:lnTo>
                <a:lnTo>
                  <a:pt x="1622" y="827"/>
                </a:lnTo>
                <a:lnTo>
                  <a:pt x="1609" y="831"/>
                </a:lnTo>
                <a:lnTo>
                  <a:pt x="1595" y="833"/>
                </a:lnTo>
                <a:lnTo>
                  <a:pt x="1580" y="837"/>
                </a:lnTo>
                <a:lnTo>
                  <a:pt x="1563" y="841"/>
                </a:lnTo>
                <a:lnTo>
                  <a:pt x="1543" y="843"/>
                </a:lnTo>
                <a:lnTo>
                  <a:pt x="1524" y="847"/>
                </a:lnTo>
                <a:lnTo>
                  <a:pt x="1503" y="848"/>
                </a:lnTo>
                <a:lnTo>
                  <a:pt x="1480" y="852"/>
                </a:lnTo>
                <a:lnTo>
                  <a:pt x="1457" y="854"/>
                </a:lnTo>
                <a:lnTo>
                  <a:pt x="1432" y="858"/>
                </a:lnTo>
                <a:lnTo>
                  <a:pt x="1409" y="862"/>
                </a:lnTo>
                <a:lnTo>
                  <a:pt x="1386" y="866"/>
                </a:lnTo>
                <a:lnTo>
                  <a:pt x="1363" y="870"/>
                </a:lnTo>
                <a:lnTo>
                  <a:pt x="1342" y="873"/>
                </a:lnTo>
                <a:lnTo>
                  <a:pt x="1321" y="875"/>
                </a:lnTo>
                <a:lnTo>
                  <a:pt x="1300" y="879"/>
                </a:lnTo>
                <a:lnTo>
                  <a:pt x="1280" y="881"/>
                </a:lnTo>
                <a:lnTo>
                  <a:pt x="1261" y="883"/>
                </a:lnTo>
                <a:lnTo>
                  <a:pt x="1244" y="885"/>
                </a:lnTo>
                <a:lnTo>
                  <a:pt x="1227" y="887"/>
                </a:lnTo>
                <a:lnTo>
                  <a:pt x="1211" y="887"/>
                </a:lnTo>
                <a:lnTo>
                  <a:pt x="1196" y="889"/>
                </a:lnTo>
                <a:lnTo>
                  <a:pt x="1183" y="889"/>
                </a:lnTo>
                <a:lnTo>
                  <a:pt x="1169" y="889"/>
                </a:lnTo>
                <a:lnTo>
                  <a:pt x="1158" y="889"/>
                </a:lnTo>
                <a:lnTo>
                  <a:pt x="1137" y="889"/>
                </a:lnTo>
                <a:lnTo>
                  <a:pt x="1115" y="889"/>
                </a:lnTo>
                <a:lnTo>
                  <a:pt x="1096" y="889"/>
                </a:lnTo>
                <a:lnTo>
                  <a:pt x="1077" y="889"/>
                </a:lnTo>
                <a:lnTo>
                  <a:pt x="1060" y="887"/>
                </a:lnTo>
                <a:lnTo>
                  <a:pt x="1044" y="885"/>
                </a:lnTo>
                <a:lnTo>
                  <a:pt x="1029" y="881"/>
                </a:lnTo>
                <a:lnTo>
                  <a:pt x="1016" y="877"/>
                </a:lnTo>
                <a:lnTo>
                  <a:pt x="1008" y="877"/>
                </a:lnTo>
                <a:lnTo>
                  <a:pt x="1000" y="875"/>
                </a:lnTo>
                <a:lnTo>
                  <a:pt x="991" y="873"/>
                </a:lnTo>
                <a:lnTo>
                  <a:pt x="981" y="870"/>
                </a:lnTo>
                <a:lnTo>
                  <a:pt x="970" y="864"/>
                </a:lnTo>
                <a:lnTo>
                  <a:pt x="958" y="858"/>
                </a:lnTo>
                <a:lnTo>
                  <a:pt x="946" y="850"/>
                </a:lnTo>
                <a:lnTo>
                  <a:pt x="933" y="843"/>
                </a:lnTo>
                <a:lnTo>
                  <a:pt x="920" y="833"/>
                </a:lnTo>
                <a:lnTo>
                  <a:pt x="904" y="823"/>
                </a:lnTo>
                <a:lnTo>
                  <a:pt x="889" y="812"/>
                </a:lnTo>
                <a:lnTo>
                  <a:pt x="874" y="799"/>
                </a:lnTo>
                <a:lnTo>
                  <a:pt x="856" y="785"/>
                </a:lnTo>
                <a:lnTo>
                  <a:pt x="837" y="770"/>
                </a:lnTo>
                <a:lnTo>
                  <a:pt x="820" y="754"/>
                </a:lnTo>
                <a:lnTo>
                  <a:pt x="801" y="737"/>
                </a:lnTo>
                <a:lnTo>
                  <a:pt x="789" y="728"/>
                </a:lnTo>
                <a:lnTo>
                  <a:pt x="778" y="718"/>
                </a:lnTo>
                <a:lnTo>
                  <a:pt x="766" y="706"/>
                </a:lnTo>
                <a:lnTo>
                  <a:pt x="753" y="697"/>
                </a:lnTo>
                <a:lnTo>
                  <a:pt x="737" y="683"/>
                </a:lnTo>
                <a:lnTo>
                  <a:pt x="722" y="672"/>
                </a:lnTo>
                <a:lnTo>
                  <a:pt x="707" y="658"/>
                </a:lnTo>
                <a:lnTo>
                  <a:pt x="689" y="643"/>
                </a:lnTo>
                <a:lnTo>
                  <a:pt x="672" y="628"/>
                </a:lnTo>
                <a:lnTo>
                  <a:pt x="653" y="612"/>
                </a:lnTo>
                <a:lnTo>
                  <a:pt x="634" y="597"/>
                </a:lnTo>
                <a:lnTo>
                  <a:pt x="612" y="580"/>
                </a:lnTo>
                <a:lnTo>
                  <a:pt x="591" y="561"/>
                </a:lnTo>
                <a:lnTo>
                  <a:pt x="568" y="543"/>
                </a:lnTo>
                <a:lnTo>
                  <a:pt x="543" y="524"/>
                </a:lnTo>
                <a:lnTo>
                  <a:pt x="520" y="503"/>
                </a:lnTo>
                <a:lnTo>
                  <a:pt x="493" y="482"/>
                </a:lnTo>
                <a:lnTo>
                  <a:pt x="469" y="461"/>
                </a:lnTo>
                <a:lnTo>
                  <a:pt x="440" y="438"/>
                </a:lnTo>
                <a:lnTo>
                  <a:pt x="413" y="415"/>
                </a:lnTo>
                <a:lnTo>
                  <a:pt x="382" y="392"/>
                </a:lnTo>
                <a:lnTo>
                  <a:pt x="353" y="367"/>
                </a:lnTo>
                <a:lnTo>
                  <a:pt x="323" y="342"/>
                </a:lnTo>
                <a:lnTo>
                  <a:pt x="290" y="317"/>
                </a:lnTo>
                <a:lnTo>
                  <a:pt x="257" y="290"/>
                </a:lnTo>
                <a:lnTo>
                  <a:pt x="223" y="263"/>
                </a:lnTo>
                <a:lnTo>
                  <a:pt x="188" y="234"/>
                </a:lnTo>
                <a:lnTo>
                  <a:pt x="152" y="205"/>
                </a:lnTo>
                <a:lnTo>
                  <a:pt x="115" y="175"/>
                </a:lnTo>
                <a:lnTo>
                  <a:pt x="77" y="146"/>
                </a:lnTo>
                <a:lnTo>
                  <a:pt x="39" y="113"/>
                </a:lnTo>
                <a:lnTo>
                  <a:pt x="0" y="83"/>
                </a:lnTo>
                <a:lnTo>
                  <a:pt x="6" y="42"/>
                </a:lnTo>
                <a:lnTo>
                  <a:pt x="12" y="0"/>
                </a:lnTo>
                <a:lnTo>
                  <a:pt x="33" y="13"/>
                </a:lnTo>
                <a:lnTo>
                  <a:pt x="54" y="25"/>
                </a:lnTo>
                <a:lnTo>
                  <a:pt x="64" y="31"/>
                </a:lnTo>
                <a:lnTo>
                  <a:pt x="73" y="35"/>
                </a:lnTo>
                <a:lnTo>
                  <a:pt x="81" y="40"/>
                </a:lnTo>
                <a:lnTo>
                  <a:pt x="88" y="44"/>
                </a:lnTo>
                <a:lnTo>
                  <a:pt x="96" y="48"/>
                </a:lnTo>
                <a:lnTo>
                  <a:pt x="104" y="52"/>
                </a:lnTo>
                <a:lnTo>
                  <a:pt x="110" y="56"/>
                </a:lnTo>
                <a:lnTo>
                  <a:pt x="115" y="60"/>
                </a:lnTo>
                <a:lnTo>
                  <a:pt x="121" y="63"/>
                </a:lnTo>
                <a:lnTo>
                  <a:pt x="125" y="65"/>
                </a:lnTo>
                <a:lnTo>
                  <a:pt x="129" y="69"/>
                </a:lnTo>
                <a:lnTo>
                  <a:pt x="131" y="71"/>
                </a:lnTo>
                <a:lnTo>
                  <a:pt x="135" y="73"/>
                </a:lnTo>
                <a:lnTo>
                  <a:pt x="138" y="77"/>
                </a:lnTo>
                <a:lnTo>
                  <a:pt x="146" y="83"/>
                </a:lnTo>
                <a:lnTo>
                  <a:pt x="154" y="88"/>
                </a:lnTo>
                <a:lnTo>
                  <a:pt x="163" y="96"/>
                </a:lnTo>
                <a:lnTo>
                  <a:pt x="175" y="104"/>
                </a:lnTo>
                <a:lnTo>
                  <a:pt x="188" y="113"/>
                </a:lnTo>
                <a:lnTo>
                  <a:pt x="204" y="123"/>
                </a:lnTo>
                <a:lnTo>
                  <a:pt x="219" y="134"/>
                </a:lnTo>
                <a:lnTo>
                  <a:pt x="238" y="146"/>
                </a:lnTo>
                <a:lnTo>
                  <a:pt x="257" y="161"/>
                </a:lnTo>
                <a:lnTo>
                  <a:pt x="279" y="175"/>
                </a:lnTo>
                <a:lnTo>
                  <a:pt x="302" y="192"/>
                </a:lnTo>
                <a:lnTo>
                  <a:pt x="326" y="209"/>
                </a:lnTo>
                <a:lnTo>
                  <a:pt x="353" y="227"/>
                </a:lnTo>
                <a:lnTo>
                  <a:pt x="382" y="246"/>
                </a:lnTo>
                <a:lnTo>
                  <a:pt x="440" y="286"/>
                </a:lnTo>
                <a:lnTo>
                  <a:pt x="499" y="324"/>
                </a:lnTo>
                <a:lnTo>
                  <a:pt x="561" y="363"/>
                </a:lnTo>
                <a:lnTo>
                  <a:pt x="624" y="401"/>
                </a:lnTo>
                <a:lnTo>
                  <a:pt x="687" y="438"/>
                </a:lnTo>
                <a:lnTo>
                  <a:pt x="751" y="472"/>
                </a:lnTo>
                <a:lnTo>
                  <a:pt x="816" y="507"/>
                </a:lnTo>
                <a:lnTo>
                  <a:pt x="883" y="53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104"/>
          <p:cNvSpPr/>
          <p:nvPr/>
        </p:nvSpPr>
        <p:spPr>
          <a:xfrm>
            <a:off x="6716880" y="3724200"/>
            <a:ext cx="541080" cy="503280"/>
          </a:xfrm>
          <a:custGeom>
            <a:avLst/>
            <a:gdLst/>
            <a:ahLst/>
            <a:rect l="l" t="t" r="r" b="b"/>
            <a:pathLst>
              <a:path w="684" h="633">
                <a:moveTo>
                  <a:pt x="682" y="190"/>
                </a:moveTo>
                <a:lnTo>
                  <a:pt x="684" y="196"/>
                </a:lnTo>
                <a:lnTo>
                  <a:pt x="684" y="203"/>
                </a:lnTo>
                <a:lnTo>
                  <a:pt x="682" y="209"/>
                </a:lnTo>
                <a:lnTo>
                  <a:pt x="680" y="217"/>
                </a:lnTo>
                <a:lnTo>
                  <a:pt x="676" y="222"/>
                </a:lnTo>
                <a:lnTo>
                  <a:pt x="670" y="230"/>
                </a:lnTo>
                <a:lnTo>
                  <a:pt x="664" y="238"/>
                </a:lnTo>
                <a:lnTo>
                  <a:pt x="657" y="244"/>
                </a:lnTo>
                <a:lnTo>
                  <a:pt x="649" y="253"/>
                </a:lnTo>
                <a:lnTo>
                  <a:pt x="639" y="261"/>
                </a:lnTo>
                <a:lnTo>
                  <a:pt x="628" y="269"/>
                </a:lnTo>
                <a:lnTo>
                  <a:pt x="616" y="278"/>
                </a:lnTo>
                <a:lnTo>
                  <a:pt x="605" y="288"/>
                </a:lnTo>
                <a:lnTo>
                  <a:pt x="591" y="297"/>
                </a:lnTo>
                <a:lnTo>
                  <a:pt x="576" y="307"/>
                </a:lnTo>
                <a:lnTo>
                  <a:pt x="563" y="318"/>
                </a:lnTo>
                <a:lnTo>
                  <a:pt x="553" y="324"/>
                </a:lnTo>
                <a:lnTo>
                  <a:pt x="545" y="330"/>
                </a:lnTo>
                <a:lnTo>
                  <a:pt x="536" y="336"/>
                </a:lnTo>
                <a:lnTo>
                  <a:pt x="526" y="341"/>
                </a:lnTo>
                <a:lnTo>
                  <a:pt x="517" y="349"/>
                </a:lnTo>
                <a:lnTo>
                  <a:pt x="505" y="355"/>
                </a:lnTo>
                <a:lnTo>
                  <a:pt x="495" y="363"/>
                </a:lnTo>
                <a:lnTo>
                  <a:pt x="484" y="370"/>
                </a:lnTo>
                <a:lnTo>
                  <a:pt x="470" y="378"/>
                </a:lnTo>
                <a:lnTo>
                  <a:pt x="459" y="386"/>
                </a:lnTo>
                <a:lnTo>
                  <a:pt x="446" y="395"/>
                </a:lnTo>
                <a:lnTo>
                  <a:pt x="432" y="403"/>
                </a:lnTo>
                <a:lnTo>
                  <a:pt x="419" y="412"/>
                </a:lnTo>
                <a:lnTo>
                  <a:pt x="403" y="420"/>
                </a:lnTo>
                <a:lnTo>
                  <a:pt x="388" y="430"/>
                </a:lnTo>
                <a:lnTo>
                  <a:pt x="373" y="439"/>
                </a:lnTo>
                <a:lnTo>
                  <a:pt x="357" y="451"/>
                </a:lnTo>
                <a:lnTo>
                  <a:pt x="342" y="460"/>
                </a:lnTo>
                <a:lnTo>
                  <a:pt x="325" y="470"/>
                </a:lnTo>
                <a:lnTo>
                  <a:pt x="307" y="482"/>
                </a:lnTo>
                <a:lnTo>
                  <a:pt x="288" y="493"/>
                </a:lnTo>
                <a:lnTo>
                  <a:pt x="271" y="505"/>
                </a:lnTo>
                <a:lnTo>
                  <a:pt x="252" y="516"/>
                </a:lnTo>
                <a:lnTo>
                  <a:pt x="232" y="528"/>
                </a:lnTo>
                <a:lnTo>
                  <a:pt x="213" y="539"/>
                </a:lnTo>
                <a:lnTo>
                  <a:pt x="192" y="553"/>
                </a:lnTo>
                <a:lnTo>
                  <a:pt x="150" y="578"/>
                </a:lnTo>
                <a:lnTo>
                  <a:pt x="106" y="604"/>
                </a:lnTo>
                <a:lnTo>
                  <a:pt x="60" y="633"/>
                </a:lnTo>
                <a:lnTo>
                  <a:pt x="31" y="616"/>
                </a:lnTo>
                <a:lnTo>
                  <a:pt x="0" y="599"/>
                </a:lnTo>
                <a:lnTo>
                  <a:pt x="23" y="579"/>
                </a:lnTo>
                <a:lnTo>
                  <a:pt x="44" y="562"/>
                </a:lnTo>
                <a:lnTo>
                  <a:pt x="65" y="545"/>
                </a:lnTo>
                <a:lnTo>
                  <a:pt x="85" y="528"/>
                </a:lnTo>
                <a:lnTo>
                  <a:pt x="106" y="510"/>
                </a:lnTo>
                <a:lnTo>
                  <a:pt x="125" y="493"/>
                </a:lnTo>
                <a:lnTo>
                  <a:pt x="142" y="478"/>
                </a:lnTo>
                <a:lnTo>
                  <a:pt x="161" y="462"/>
                </a:lnTo>
                <a:lnTo>
                  <a:pt x="179" y="447"/>
                </a:lnTo>
                <a:lnTo>
                  <a:pt x="196" y="432"/>
                </a:lnTo>
                <a:lnTo>
                  <a:pt x="211" y="416"/>
                </a:lnTo>
                <a:lnTo>
                  <a:pt x="227" y="403"/>
                </a:lnTo>
                <a:lnTo>
                  <a:pt x="242" y="389"/>
                </a:lnTo>
                <a:lnTo>
                  <a:pt x="257" y="376"/>
                </a:lnTo>
                <a:lnTo>
                  <a:pt x="271" y="363"/>
                </a:lnTo>
                <a:lnTo>
                  <a:pt x="284" y="351"/>
                </a:lnTo>
                <a:lnTo>
                  <a:pt x="298" y="340"/>
                </a:lnTo>
                <a:lnTo>
                  <a:pt x="311" y="326"/>
                </a:lnTo>
                <a:lnTo>
                  <a:pt x="323" y="317"/>
                </a:lnTo>
                <a:lnTo>
                  <a:pt x="332" y="305"/>
                </a:lnTo>
                <a:lnTo>
                  <a:pt x="344" y="293"/>
                </a:lnTo>
                <a:lnTo>
                  <a:pt x="353" y="284"/>
                </a:lnTo>
                <a:lnTo>
                  <a:pt x="363" y="274"/>
                </a:lnTo>
                <a:lnTo>
                  <a:pt x="373" y="265"/>
                </a:lnTo>
                <a:lnTo>
                  <a:pt x="380" y="255"/>
                </a:lnTo>
                <a:lnTo>
                  <a:pt x="388" y="247"/>
                </a:lnTo>
                <a:lnTo>
                  <a:pt x="394" y="238"/>
                </a:lnTo>
                <a:lnTo>
                  <a:pt x="399" y="230"/>
                </a:lnTo>
                <a:lnTo>
                  <a:pt x="405" y="222"/>
                </a:lnTo>
                <a:lnTo>
                  <a:pt x="411" y="215"/>
                </a:lnTo>
                <a:lnTo>
                  <a:pt x="415" y="207"/>
                </a:lnTo>
                <a:lnTo>
                  <a:pt x="419" y="201"/>
                </a:lnTo>
                <a:lnTo>
                  <a:pt x="424" y="190"/>
                </a:lnTo>
                <a:lnTo>
                  <a:pt x="430" y="180"/>
                </a:lnTo>
                <a:lnTo>
                  <a:pt x="436" y="169"/>
                </a:lnTo>
                <a:lnTo>
                  <a:pt x="440" y="159"/>
                </a:lnTo>
                <a:lnTo>
                  <a:pt x="446" y="150"/>
                </a:lnTo>
                <a:lnTo>
                  <a:pt x="449" y="140"/>
                </a:lnTo>
                <a:lnTo>
                  <a:pt x="451" y="130"/>
                </a:lnTo>
                <a:lnTo>
                  <a:pt x="453" y="123"/>
                </a:lnTo>
                <a:lnTo>
                  <a:pt x="455" y="113"/>
                </a:lnTo>
                <a:lnTo>
                  <a:pt x="457" y="105"/>
                </a:lnTo>
                <a:lnTo>
                  <a:pt x="459" y="98"/>
                </a:lnTo>
                <a:lnTo>
                  <a:pt x="459" y="90"/>
                </a:lnTo>
                <a:lnTo>
                  <a:pt x="459" y="82"/>
                </a:lnTo>
                <a:lnTo>
                  <a:pt x="457" y="75"/>
                </a:lnTo>
                <a:lnTo>
                  <a:pt x="457" y="67"/>
                </a:lnTo>
                <a:lnTo>
                  <a:pt x="455" y="61"/>
                </a:lnTo>
                <a:lnTo>
                  <a:pt x="449" y="55"/>
                </a:lnTo>
                <a:lnTo>
                  <a:pt x="447" y="52"/>
                </a:lnTo>
                <a:lnTo>
                  <a:pt x="444" y="48"/>
                </a:lnTo>
                <a:lnTo>
                  <a:pt x="442" y="44"/>
                </a:lnTo>
                <a:lnTo>
                  <a:pt x="440" y="38"/>
                </a:lnTo>
                <a:lnTo>
                  <a:pt x="438" y="34"/>
                </a:lnTo>
                <a:lnTo>
                  <a:pt x="436" y="30"/>
                </a:lnTo>
                <a:lnTo>
                  <a:pt x="436" y="27"/>
                </a:lnTo>
                <a:lnTo>
                  <a:pt x="436" y="23"/>
                </a:lnTo>
                <a:lnTo>
                  <a:pt x="438" y="19"/>
                </a:lnTo>
                <a:lnTo>
                  <a:pt x="440" y="17"/>
                </a:lnTo>
                <a:lnTo>
                  <a:pt x="442" y="13"/>
                </a:lnTo>
                <a:lnTo>
                  <a:pt x="444" y="9"/>
                </a:lnTo>
                <a:lnTo>
                  <a:pt x="447" y="7"/>
                </a:lnTo>
                <a:lnTo>
                  <a:pt x="449" y="6"/>
                </a:lnTo>
                <a:lnTo>
                  <a:pt x="455" y="2"/>
                </a:lnTo>
                <a:lnTo>
                  <a:pt x="459" y="0"/>
                </a:lnTo>
                <a:lnTo>
                  <a:pt x="465" y="0"/>
                </a:lnTo>
                <a:lnTo>
                  <a:pt x="470" y="0"/>
                </a:lnTo>
                <a:lnTo>
                  <a:pt x="476" y="0"/>
                </a:lnTo>
                <a:lnTo>
                  <a:pt x="484" y="2"/>
                </a:lnTo>
                <a:lnTo>
                  <a:pt x="492" y="4"/>
                </a:lnTo>
                <a:lnTo>
                  <a:pt x="499" y="6"/>
                </a:lnTo>
                <a:lnTo>
                  <a:pt x="507" y="9"/>
                </a:lnTo>
                <a:lnTo>
                  <a:pt x="515" y="13"/>
                </a:lnTo>
                <a:lnTo>
                  <a:pt x="524" y="19"/>
                </a:lnTo>
                <a:lnTo>
                  <a:pt x="534" y="23"/>
                </a:lnTo>
                <a:lnTo>
                  <a:pt x="543" y="30"/>
                </a:lnTo>
                <a:lnTo>
                  <a:pt x="553" y="36"/>
                </a:lnTo>
                <a:lnTo>
                  <a:pt x="565" y="44"/>
                </a:lnTo>
                <a:lnTo>
                  <a:pt x="574" y="52"/>
                </a:lnTo>
                <a:lnTo>
                  <a:pt x="586" y="61"/>
                </a:lnTo>
                <a:lnTo>
                  <a:pt x="597" y="71"/>
                </a:lnTo>
                <a:lnTo>
                  <a:pt x="607" y="82"/>
                </a:lnTo>
                <a:lnTo>
                  <a:pt x="616" y="92"/>
                </a:lnTo>
                <a:lnTo>
                  <a:pt x="626" y="102"/>
                </a:lnTo>
                <a:lnTo>
                  <a:pt x="634" y="109"/>
                </a:lnTo>
                <a:lnTo>
                  <a:pt x="641" y="119"/>
                </a:lnTo>
                <a:lnTo>
                  <a:pt x="649" y="126"/>
                </a:lnTo>
                <a:lnTo>
                  <a:pt x="655" y="134"/>
                </a:lnTo>
                <a:lnTo>
                  <a:pt x="660" y="142"/>
                </a:lnTo>
                <a:lnTo>
                  <a:pt x="666" y="150"/>
                </a:lnTo>
                <a:lnTo>
                  <a:pt x="670" y="155"/>
                </a:lnTo>
                <a:lnTo>
                  <a:pt x="674" y="163"/>
                </a:lnTo>
                <a:lnTo>
                  <a:pt x="678" y="169"/>
                </a:lnTo>
                <a:lnTo>
                  <a:pt x="680" y="176"/>
                </a:lnTo>
                <a:lnTo>
                  <a:pt x="682" y="182"/>
                </a:lnTo>
                <a:lnTo>
                  <a:pt x="682" y="1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105"/>
          <p:cNvSpPr/>
          <p:nvPr/>
        </p:nvSpPr>
        <p:spPr>
          <a:xfrm>
            <a:off x="6192720" y="3848040"/>
            <a:ext cx="428760" cy="1216080"/>
          </a:xfrm>
          <a:custGeom>
            <a:avLst/>
            <a:gdLst/>
            <a:ahLst/>
            <a:rect l="l" t="t" r="r" b="b"/>
            <a:pathLst>
              <a:path w="539" h="1532">
                <a:moveTo>
                  <a:pt x="336" y="1204"/>
                </a:moveTo>
                <a:lnTo>
                  <a:pt x="338" y="1200"/>
                </a:lnTo>
                <a:lnTo>
                  <a:pt x="341" y="1196"/>
                </a:lnTo>
                <a:lnTo>
                  <a:pt x="343" y="1190"/>
                </a:lnTo>
                <a:lnTo>
                  <a:pt x="345" y="1185"/>
                </a:lnTo>
                <a:lnTo>
                  <a:pt x="347" y="1179"/>
                </a:lnTo>
                <a:lnTo>
                  <a:pt x="349" y="1171"/>
                </a:lnTo>
                <a:lnTo>
                  <a:pt x="349" y="1163"/>
                </a:lnTo>
                <a:lnTo>
                  <a:pt x="351" y="1156"/>
                </a:lnTo>
                <a:lnTo>
                  <a:pt x="353" y="1146"/>
                </a:lnTo>
                <a:lnTo>
                  <a:pt x="355" y="1137"/>
                </a:lnTo>
                <a:lnTo>
                  <a:pt x="357" y="1127"/>
                </a:lnTo>
                <a:lnTo>
                  <a:pt x="359" y="1116"/>
                </a:lnTo>
                <a:lnTo>
                  <a:pt x="359" y="1104"/>
                </a:lnTo>
                <a:lnTo>
                  <a:pt x="361" y="1091"/>
                </a:lnTo>
                <a:lnTo>
                  <a:pt x="363" y="1077"/>
                </a:lnTo>
                <a:lnTo>
                  <a:pt x="363" y="1064"/>
                </a:lnTo>
                <a:lnTo>
                  <a:pt x="365" y="1048"/>
                </a:lnTo>
                <a:lnTo>
                  <a:pt x="365" y="1033"/>
                </a:lnTo>
                <a:lnTo>
                  <a:pt x="366" y="1018"/>
                </a:lnTo>
                <a:lnTo>
                  <a:pt x="366" y="1000"/>
                </a:lnTo>
                <a:lnTo>
                  <a:pt x="368" y="983"/>
                </a:lnTo>
                <a:lnTo>
                  <a:pt x="368" y="966"/>
                </a:lnTo>
                <a:lnTo>
                  <a:pt x="368" y="947"/>
                </a:lnTo>
                <a:lnTo>
                  <a:pt x="370" y="927"/>
                </a:lnTo>
                <a:lnTo>
                  <a:pt x="370" y="908"/>
                </a:lnTo>
                <a:lnTo>
                  <a:pt x="370" y="887"/>
                </a:lnTo>
                <a:lnTo>
                  <a:pt x="372" y="866"/>
                </a:lnTo>
                <a:lnTo>
                  <a:pt x="372" y="843"/>
                </a:lnTo>
                <a:lnTo>
                  <a:pt x="372" y="820"/>
                </a:lnTo>
                <a:lnTo>
                  <a:pt x="372" y="797"/>
                </a:lnTo>
                <a:lnTo>
                  <a:pt x="372" y="772"/>
                </a:lnTo>
                <a:lnTo>
                  <a:pt x="372" y="749"/>
                </a:lnTo>
                <a:lnTo>
                  <a:pt x="372" y="724"/>
                </a:lnTo>
                <a:lnTo>
                  <a:pt x="372" y="699"/>
                </a:lnTo>
                <a:lnTo>
                  <a:pt x="372" y="676"/>
                </a:lnTo>
                <a:lnTo>
                  <a:pt x="372" y="651"/>
                </a:lnTo>
                <a:lnTo>
                  <a:pt x="372" y="630"/>
                </a:lnTo>
                <a:lnTo>
                  <a:pt x="372" y="607"/>
                </a:lnTo>
                <a:lnTo>
                  <a:pt x="372" y="586"/>
                </a:lnTo>
                <a:lnTo>
                  <a:pt x="372" y="567"/>
                </a:lnTo>
                <a:lnTo>
                  <a:pt x="372" y="545"/>
                </a:lnTo>
                <a:lnTo>
                  <a:pt x="372" y="526"/>
                </a:lnTo>
                <a:lnTo>
                  <a:pt x="372" y="507"/>
                </a:lnTo>
                <a:lnTo>
                  <a:pt x="372" y="490"/>
                </a:lnTo>
                <a:lnTo>
                  <a:pt x="372" y="471"/>
                </a:lnTo>
                <a:lnTo>
                  <a:pt x="372" y="455"/>
                </a:lnTo>
                <a:lnTo>
                  <a:pt x="372" y="438"/>
                </a:lnTo>
                <a:lnTo>
                  <a:pt x="372" y="423"/>
                </a:lnTo>
                <a:lnTo>
                  <a:pt x="372" y="407"/>
                </a:lnTo>
                <a:lnTo>
                  <a:pt x="372" y="392"/>
                </a:lnTo>
                <a:lnTo>
                  <a:pt x="372" y="378"/>
                </a:lnTo>
                <a:lnTo>
                  <a:pt x="372" y="363"/>
                </a:lnTo>
                <a:lnTo>
                  <a:pt x="372" y="352"/>
                </a:lnTo>
                <a:lnTo>
                  <a:pt x="372" y="338"/>
                </a:lnTo>
                <a:lnTo>
                  <a:pt x="372" y="327"/>
                </a:lnTo>
                <a:lnTo>
                  <a:pt x="372" y="315"/>
                </a:lnTo>
                <a:lnTo>
                  <a:pt x="372" y="305"/>
                </a:lnTo>
                <a:lnTo>
                  <a:pt x="372" y="294"/>
                </a:lnTo>
                <a:lnTo>
                  <a:pt x="372" y="284"/>
                </a:lnTo>
                <a:lnTo>
                  <a:pt x="372" y="277"/>
                </a:lnTo>
                <a:lnTo>
                  <a:pt x="372" y="267"/>
                </a:lnTo>
                <a:lnTo>
                  <a:pt x="372" y="259"/>
                </a:lnTo>
                <a:lnTo>
                  <a:pt x="372" y="252"/>
                </a:lnTo>
                <a:lnTo>
                  <a:pt x="372" y="246"/>
                </a:lnTo>
                <a:lnTo>
                  <a:pt x="372" y="234"/>
                </a:lnTo>
                <a:lnTo>
                  <a:pt x="370" y="223"/>
                </a:lnTo>
                <a:lnTo>
                  <a:pt x="368" y="209"/>
                </a:lnTo>
                <a:lnTo>
                  <a:pt x="365" y="196"/>
                </a:lnTo>
                <a:lnTo>
                  <a:pt x="361" y="183"/>
                </a:lnTo>
                <a:lnTo>
                  <a:pt x="357" y="169"/>
                </a:lnTo>
                <a:lnTo>
                  <a:pt x="351" y="156"/>
                </a:lnTo>
                <a:lnTo>
                  <a:pt x="345" y="140"/>
                </a:lnTo>
                <a:lnTo>
                  <a:pt x="338" y="125"/>
                </a:lnTo>
                <a:lnTo>
                  <a:pt x="330" y="108"/>
                </a:lnTo>
                <a:lnTo>
                  <a:pt x="320" y="90"/>
                </a:lnTo>
                <a:lnTo>
                  <a:pt x="311" y="73"/>
                </a:lnTo>
                <a:lnTo>
                  <a:pt x="301" y="56"/>
                </a:lnTo>
                <a:lnTo>
                  <a:pt x="290" y="39"/>
                </a:lnTo>
                <a:lnTo>
                  <a:pt x="278" y="19"/>
                </a:lnTo>
                <a:lnTo>
                  <a:pt x="265" y="0"/>
                </a:lnTo>
                <a:lnTo>
                  <a:pt x="282" y="8"/>
                </a:lnTo>
                <a:lnTo>
                  <a:pt x="297" y="14"/>
                </a:lnTo>
                <a:lnTo>
                  <a:pt x="313" y="21"/>
                </a:lnTo>
                <a:lnTo>
                  <a:pt x="328" y="29"/>
                </a:lnTo>
                <a:lnTo>
                  <a:pt x="341" y="37"/>
                </a:lnTo>
                <a:lnTo>
                  <a:pt x="357" y="42"/>
                </a:lnTo>
                <a:lnTo>
                  <a:pt x="370" y="50"/>
                </a:lnTo>
                <a:lnTo>
                  <a:pt x="384" y="56"/>
                </a:lnTo>
                <a:lnTo>
                  <a:pt x="395" y="64"/>
                </a:lnTo>
                <a:lnTo>
                  <a:pt x="407" y="69"/>
                </a:lnTo>
                <a:lnTo>
                  <a:pt x="418" y="75"/>
                </a:lnTo>
                <a:lnTo>
                  <a:pt x="430" y="83"/>
                </a:lnTo>
                <a:lnTo>
                  <a:pt x="441" y="89"/>
                </a:lnTo>
                <a:lnTo>
                  <a:pt x="451" y="94"/>
                </a:lnTo>
                <a:lnTo>
                  <a:pt x="460" y="100"/>
                </a:lnTo>
                <a:lnTo>
                  <a:pt x="468" y="106"/>
                </a:lnTo>
                <a:lnTo>
                  <a:pt x="478" y="110"/>
                </a:lnTo>
                <a:lnTo>
                  <a:pt x="485" y="115"/>
                </a:lnTo>
                <a:lnTo>
                  <a:pt x="493" y="121"/>
                </a:lnTo>
                <a:lnTo>
                  <a:pt x="499" y="125"/>
                </a:lnTo>
                <a:lnTo>
                  <a:pt x="507" y="131"/>
                </a:lnTo>
                <a:lnTo>
                  <a:pt x="512" y="135"/>
                </a:lnTo>
                <a:lnTo>
                  <a:pt x="516" y="140"/>
                </a:lnTo>
                <a:lnTo>
                  <a:pt x="522" y="144"/>
                </a:lnTo>
                <a:lnTo>
                  <a:pt x="526" y="148"/>
                </a:lnTo>
                <a:lnTo>
                  <a:pt x="530" y="152"/>
                </a:lnTo>
                <a:lnTo>
                  <a:pt x="532" y="156"/>
                </a:lnTo>
                <a:lnTo>
                  <a:pt x="535" y="160"/>
                </a:lnTo>
                <a:lnTo>
                  <a:pt x="537" y="163"/>
                </a:lnTo>
                <a:lnTo>
                  <a:pt x="537" y="167"/>
                </a:lnTo>
                <a:lnTo>
                  <a:pt x="539" y="171"/>
                </a:lnTo>
                <a:lnTo>
                  <a:pt x="539" y="175"/>
                </a:lnTo>
                <a:lnTo>
                  <a:pt x="537" y="183"/>
                </a:lnTo>
                <a:lnTo>
                  <a:pt x="535" y="190"/>
                </a:lnTo>
                <a:lnTo>
                  <a:pt x="533" y="200"/>
                </a:lnTo>
                <a:lnTo>
                  <a:pt x="532" y="209"/>
                </a:lnTo>
                <a:lnTo>
                  <a:pt x="532" y="223"/>
                </a:lnTo>
                <a:lnTo>
                  <a:pt x="530" y="234"/>
                </a:lnTo>
                <a:lnTo>
                  <a:pt x="528" y="250"/>
                </a:lnTo>
                <a:lnTo>
                  <a:pt x="528" y="265"/>
                </a:lnTo>
                <a:lnTo>
                  <a:pt x="526" y="282"/>
                </a:lnTo>
                <a:lnTo>
                  <a:pt x="526" y="302"/>
                </a:lnTo>
                <a:lnTo>
                  <a:pt x="524" y="321"/>
                </a:lnTo>
                <a:lnTo>
                  <a:pt x="522" y="342"/>
                </a:lnTo>
                <a:lnTo>
                  <a:pt x="520" y="365"/>
                </a:lnTo>
                <a:lnTo>
                  <a:pt x="520" y="390"/>
                </a:lnTo>
                <a:lnTo>
                  <a:pt x="518" y="417"/>
                </a:lnTo>
                <a:lnTo>
                  <a:pt x="516" y="444"/>
                </a:lnTo>
                <a:lnTo>
                  <a:pt x="514" y="472"/>
                </a:lnTo>
                <a:lnTo>
                  <a:pt x="512" y="501"/>
                </a:lnTo>
                <a:lnTo>
                  <a:pt x="510" y="530"/>
                </a:lnTo>
                <a:lnTo>
                  <a:pt x="510" y="559"/>
                </a:lnTo>
                <a:lnTo>
                  <a:pt x="510" y="616"/>
                </a:lnTo>
                <a:lnTo>
                  <a:pt x="512" y="674"/>
                </a:lnTo>
                <a:lnTo>
                  <a:pt x="516" y="735"/>
                </a:lnTo>
                <a:lnTo>
                  <a:pt x="518" y="795"/>
                </a:lnTo>
                <a:lnTo>
                  <a:pt x="524" y="858"/>
                </a:lnTo>
                <a:lnTo>
                  <a:pt x="526" y="891"/>
                </a:lnTo>
                <a:lnTo>
                  <a:pt x="528" y="924"/>
                </a:lnTo>
                <a:lnTo>
                  <a:pt x="530" y="956"/>
                </a:lnTo>
                <a:lnTo>
                  <a:pt x="532" y="987"/>
                </a:lnTo>
                <a:lnTo>
                  <a:pt x="533" y="1018"/>
                </a:lnTo>
                <a:lnTo>
                  <a:pt x="533" y="1046"/>
                </a:lnTo>
                <a:lnTo>
                  <a:pt x="535" y="1073"/>
                </a:lnTo>
                <a:lnTo>
                  <a:pt x="535" y="1100"/>
                </a:lnTo>
                <a:lnTo>
                  <a:pt x="535" y="1125"/>
                </a:lnTo>
                <a:lnTo>
                  <a:pt x="535" y="1150"/>
                </a:lnTo>
                <a:lnTo>
                  <a:pt x="535" y="1173"/>
                </a:lnTo>
                <a:lnTo>
                  <a:pt x="535" y="1194"/>
                </a:lnTo>
                <a:lnTo>
                  <a:pt x="535" y="1215"/>
                </a:lnTo>
                <a:lnTo>
                  <a:pt x="533" y="1235"/>
                </a:lnTo>
                <a:lnTo>
                  <a:pt x="533" y="1252"/>
                </a:lnTo>
                <a:lnTo>
                  <a:pt x="532" y="1269"/>
                </a:lnTo>
                <a:lnTo>
                  <a:pt x="530" y="1284"/>
                </a:lnTo>
                <a:lnTo>
                  <a:pt x="528" y="1298"/>
                </a:lnTo>
                <a:lnTo>
                  <a:pt x="524" y="1311"/>
                </a:lnTo>
                <a:lnTo>
                  <a:pt x="522" y="1323"/>
                </a:lnTo>
                <a:lnTo>
                  <a:pt x="518" y="1336"/>
                </a:lnTo>
                <a:lnTo>
                  <a:pt x="514" y="1348"/>
                </a:lnTo>
                <a:lnTo>
                  <a:pt x="505" y="1371"/>
                </a:lnTo>
                <a:lnTo>
                  <a:pt x="495" y="1394"/>
                </a:lnTo>
                <a:lnTo>
                  <a:pt x="484" y="1415"/>
                </a:lnTo>
                <a:lnTo>
                  <a:pt x="470" y="1436"/>
                </a:lnTo>
                <a:lnTo>
                  <a:pt x="457" y="1455"/>
                </a:lnTo>
                <a:lnTo>
                  <a:pt x="443" y="1473"/>
                </a:lnTo>
                <a:lnTo>
                  <a:pt x="426" y="1486"/>
                </a:lnTo>
                <a:lnTo>
                  <a:pt x="411" y="1497"/>
                </a:lnTo>
                <a:lnTo>
                  <a:pt x="395" y="1507"/>
                </a:lnTo>
                <a:lnTo>
                  <a:pt x="382" y="1515"/>
                </a:lnTo>
                <a:lnTo>
                  <a:pt x="368" y="1522"/>
                </a:lnTo>
                <a:lnTo>
                  <a:pt x="357" y="1528"/>
                </a:lnTo>
                <a:lnTo>
                  <a:pt x="351" y="1530"/>
                </a:lnTo>
                <a:lnTo>
                  <a:pt x="345" y="1530"/>
                </a:lnTo>
                <a:lnTo>
                  <a:pt x="341" y="1532"/>
                </a:lnTo>
                <a:lnTo>
                  <a:pt x="336" y="1532"/>
                </a:lnTo>
                <a:lnTo>
                  <a:pt x="330" y="1532"/>
                </a:lnTo>
                <a:lnTo>
                  <a:pt x="324" y="1530"/>
                </a:lnTo>
                <a:lnTo>
                  <a:pt x="318" y="1528"/>
                </a:lnTo>
                <a:lnTo>
                  <a:pt x="313" y="1524"/>
                </a:lnTo>
                <a:lnTo>
                  <a:pt x="309" y="1522"/>
                </a:lnTo>
                <a:lnTo>
                  <a:pt x="305" y="1517"/>
                </a:lnTo>
                <a:lnTo>
                  <a:pt x="301" y="1513"/>
                </a:lnTo>
                <a:lnTo>
                  <a:pt x="297" y="1507"/>
                </a:lnTo>
                <a:lnTo>
                  <a:pt x="294" y="1501"/>
                </a:lnTo>
                <a:lnTo>
                  <a:pt x="292" y="1494"/>
                </a:lnTo>
                <a:lnTo>
                  <a:pt x="288" y="1486"/>
                </a:lnTo>
                <a:lnTo>
                  <a:pt x="286" y="1478"/>
                </a:lnTo>
                <a:lnTo>
                  <a:pt x="284" y="1469"/>
                </a:lnTo>
                <a:lnTo>
                  <a:pt x="282" y="1459"/>
                </a:lnTo>
                <a:lnTo>
                  <a:pt x="278" y="1450"/>
                </a:lnTo>
                <a:lnTo>
                  <a:pt x="276" y="1438"/>
                </a:lnTo>
                <a:lnTo>
                  <a:pt x="274" y="1426"/>
                </a:lnTo>
                <a:lnTo>
                  <a:pt x="270" y="1417"/>
                </a:lnTo>
                <a:lnTo>
                  <a:pt x="267" y="1405"/>
                </a:lnTo>
                <a:lnTo>
                  <a:pt x="261" y="1394"/>
                </a:lnTo>
                <a:lnTo>
                  <a:pt x="255" y="1384"/>
                </a:lnTo>
                <a:lnTo>
                  <a:pt x="247" y="1373"/>
                </a:lnTo>
                <a:lnTo>
                  <a:pt x="240" y="1361"/>
                </a:lnTo>
                <a:lnTo>
                  <a:pt x="232" y="1350"/>
                </a:lnTo>
                <a:lnTo>
                  <a:pt x="222" y="1340"/>
                </a:lnTo>
                <a:lnTo>
                  <a:pt x="213" y="1329"/>
                </a:lnTo>
                <a:lnTo>
                  <a:pt x="201" y="1317"/>
                </a:lnTo>
                <a:lnTo>
                  <a:pt x="190" y="1307"/>
                </a:lnTo>
                <a:lnTo>
                  <a:pt x="176" y="1296"/>
                </a:lnTo>
                <a:lnTo>
                  <a:pt x="163" y="1284"/>
                </a:lnTo>
                <a:lnTo>
                  <a:pt x="148" y="1273"/>
                </a:lnTo>
                <a:lnTo>
                  <a:pt x="134" y="1263"/>
                </a:lnTo>
                <a:lnTo>
                  <a:pt x="117" y="1252"/>
                </a:lnTo>
                <a:lnTo>
                  <a:pt x="100" y="1242"/>
                </a:lnTo>
                <a:lnTo>
                  <a:pt x="84" y="1233"/>
                </a:lnTo>
                <a:lnTo>
                  <a:pt x="71" y="1223"/>
                </a:lnTo>
                <a:lnTo>
                  <a:pt x="57" y="1213"/>
                </a:lnTo>
                <a:lnTo>
                  <a:pt x="48" y="1206"/>
                </a:lnTo>
                <a:lnTo>
                  <a:pt x="36" y="1200"/>
                </a:lnTo>
                <a:lnTo>
                  <a:pt x="27" y="1192"/>
                </a:lnTo>
                <a:lnTo>
                  <a:pt x="19" y="1187"/>
                </a:lnTo>
                <a:lnTo>
                  <a:pt x="13" y="1181"/>
                </a:lnTo>
                <a:lnTo>
                  <a:pt x="8" y="1175"/>
                </a:lnTo>
                <a:lnTo>
                  <a:pt x="4" y="1171"/>
                </a:lnTo>
                <a:lnTo>
                  <a:pt x="2" y="1167"/>
                </a:lnTo>
                <a:lnTo>
                  <a:pt x="0" y="1163"/>
                </a:lnTo>
                <a:lnTo>
                  <a:pt x="0" y="1160"/>
                </a:lnTo>
                <a:lnTo>
                  <a:pt x="2" y="1158"/>
                </a:lnTo>
                <a:lnTo>
                  <a:pt x="2" y="1156"/>
                </a:lnTo>
                <a:lnTo>
                  <a:pt x="4" y="1154"/>
                </a:lnTo>
                <a:lnTo>
                  <a:pt x="8" y="1154"/>
                </a:lnTo>
                <a:lnTo>
                  <a:pt x="11" y="1152"/>
                </a:lnTo>
                <a:lnTo>
                  <a:pt x="17" y="1154"/>
                </a:lnTo>
                <a:lnTo>
                  <a:pt x="23" y="1154"/>
                </a:lnTo>
                <a:lnTo>
                  <a:pt x="31" y="1156"/>
                </a:lnTo>
                <a:lnTo>
                  <a:pt x="40" y="1158"/>
                </a:lnTo>
                <a:lnTo>
                  <a:pt x="50" y="1162"/>
                </a:lnTo>
                <a:lnTo>
                  <a:pt x="61" y="1165"/>
                </a:lnTo>
                <a:lnTo>
                  <a:pt x="75" y="1169"/>
                </a:lnTo>
                <a:lnTo>
                  <a:pt x="88" y="1175"/>
                </a:lnTo>
                <a:lnTo>
                  <a:pt x="103" y="1181"/>
                </a:lnTo>
                <a:lnTo>
                  <a:pt x="121" y="1188"/>
                </a:lnTo>
                <a:lnTo>
                  <a:pt x="138" y="1196"/>
                </a:lnTo>
                <a:lnTo>
                  <a:pt x="157" y="1204"/>
                </a:lnTo>
                <a:lnTo>
                  <a:pt x="176" y="1210"/>
                </a:lnTo>
                <a:lnTo>
                  <a:pt x="196" y="1215"/>
                </a:lnTo>
                <a:lnTo>
                  <a:pt x="213" y="1221"/>
                </a:lnTo>
                <a:lnTo>
                  <a:pt x="228" y="1225"/>
                </a:lnTo>
                <a:lnTo>
                  <a:pt x="244" y="1227"/>
                </a:lnTo>
                <a:lnTo>
                  <a:pt x="257" y="1229"/>
                </a:lnTo>
                <a:lnTo>
                  <a:pt x="270" y="1231"/>
                </a:lnTo>
                <a:lnTo>
                  <a:pt x="282" y="1231"/>
                </a:lnTo>
                <a:lnTo>
                  <a:pt x="294" y="1231"/>
                </a:lnTo>
                <a:lnTo>
                  <a:pt x="303" y="1229"/>
                </a:lnTo>
                <a:lnTo>
                  <a:pt x="311" y="1227"/>
                </a:lnTo>
                <a:lnTo>
                  <a:pt x="318" y="1223"/>
                </a:lnTo>
                <a:lnTo>
                  <a:pt x="324" y="1219"/>
                </a:lnTo>
                <a:lnTo>
                  <a:pt x="330" y="1215"/>
                </a:lnTo>
                <a:lnTo>
                  <a:pt x="334" y="1210"/>
                </a:lnTo>
                <a:lnTo>
                  <a:pt x="336" y="12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106"/>
          <p:cNvSpPr/>
          <p:nvPr/>
        </p:nvSpPr>
        <p:spPr>
          <a:xfrm>
            <a:off x="5578560" y="4051440"/>
            <a:ext cx="760320" cy="784080"/>
          </a:xfrm>
          <a:custGeom>
            <a:avLst/>
            <a:gdLst/>
            <a:ahLst/>
            <a:rect l="l" t="t" r="r" b="b"/>
            <a:pathLst>
              <a:path w="958" h="987">
                <a:moveTo>
                  <a:pt x="444" y="93"/>
                </a:moveTo>
                <a:lnTo>
                  <a:pt x="467" y="91"/>
                </a:lnTo>
                <a:lnTo>
                  <a:pt x="490" y="89"/>
                </a:lnTo>
                <a:lnTo>
                  <a:pt x="511" y="85"/>
                </a:lnTo>
                <a:lnTo>
                  <a:pt x="532" y="83"/>
                </a:lnTo>
                <a:lnTo>
                  <a:pt x="549" y="79"/>
                </a:lnTo>
                <a:lnTo>
                  <a:pt x="567" y="75"/>
                </a:lnTo>
                <a:lnTo>
                  <a:pt x="584" y="72"/>
                </a:lnTo>
                <a:lnTo>
                  <a:pt x="597" y="68"/>
                </a:lnTo>
                <a:lnTo>
                  <a:pt x="611" y="64"/>
                </a:lnTo>
                <a:lnTo>
                  <a:pt x="622" y="60"/>
                </a:lnTo>
                <a:lnTo>
                  <a:pt x="634" y="56"/>
                </a:lnTo>
                <a:lnTo>
                  <a:pt x="643" y="52"/>
                </a:lnTo>
                <a:lnTo>
                  <a:pt x="653" y="48"/>
                </a:lnTo>
                <a:lnTo>
                  <a:pt x="659" y="43"/>
                </a:lnTo>
                <a:lnTo>
                  <a:pt x="666" y="39"/>
                </a:lnTo>
                <a:lnTo>
                  <a:pt x="670" y="35"/>
                </a:lnTo>
                <a:lnTo>
                  <a:pt x="680" y="25"/>
                </a:lnTo>
                <a:lnTo>
                  <a:pt x="689" y="20"/>
                </a:lnTo>
                <a:lnTo>
                  <a:pt x="697" y="14"/>
                </a:lnTo>
                <a:lnTo>
                  <a:pt x="707" y="8"/>
                </a:lnTo>
                <a:lnTo>
                  <a:pt x="714" y="4"/>
                </a:lnTo>
                <a:lnTo>
                  <a:pt x="724" y="2"/>
                </a:lnTo>
                <a:lnTo>
                  <a:pt x="734" y="0"/>
                </a:lnTo>
                <a:lnTo>
                  <a:pt x="743" y="0"/>
                </a:lnTo>
                <a:lnTo>
                  <a:pt x="747" y="0"/>
                </a:lnTo>
                <a:lnTo>
                  <a:pt x="753" y="0"/>
                </a:lnTo>
                <a:lnTo>
                  <a:pt x="759" y="2"/>
                </a:lnTo>
                <a:lnTo>
                  <a:pt x="764" y="4"/>
                </a:lnTo>
                <a:lnTo>
                  <a:pt x="772" y="6"/>
                </a:lnTo>
                <a:lnTo>
                  <a:pt x="780" y="10"/>
                </a:lnTo>
                <a:lnTo>
                  <a:pt x="787" y="12"/>
                </a:lnTo>
                <a:lnTo>
                  <a:pt x="795" y="16"/>
                </a:lnTo>
                <a:lnTo>
                  <a:pt x="803" y="22"/>
                </a:lnTo>
                <a:lnTo>
                  <a:pt x="812" y="27"/>
                </a:lnTo>
                <a:lnTo>
                  <a:pt x="822" y="33"/>
                </a:lnTo>
                <a:lnTo>
                  <a:pt x="831" y="39"/>
                </a:lnTo>
                <a:lnTo>
                  <a:pt x="841" y="45"/>
                </a:lnTo>
                <a:lnTo>
                  <a:pt x="853" y="52"/>
                </a:lnTo>
                <a:lnTo>
                  <a:pt x="862" y="62"/>
                </a:lnTo>
                <a:lnTo>
                  <a:pt x="874" y="70"/>
                </a:lnTo>
                <a:lnTo>
                  <a:pt x="883" y="81"/>
                </a:lnTo>
                <a:lnTo>
                  <a:pt x="895" y="91"/>
                </a:lnTo>
                <a:lnTo>
                  <a:pt x="903" y="100"/>
                </a:lnTo>
                <a:lnTo>
                  <a:pt x="912" y="110"/>
                </a:lnTo>
                <a:lnTo>
                  <a:pt x="920" y="118"/>
                </a:lnTo>
                <a:lnTo>
                  <a:pt x="926" y="127"/>
                </a:lnTo>
                <a:lnTo>
                  <a:pt x="931" y="135"/>
                </a:lnTo>
                <a:lnTo>
                  <a:pt x="937" y="141"/>
                </a:lnTo>
                <a:lnTo>
                  <a:pt x="943" y="148"/>
                </a:lnTo>
                <a:lnTo>
                  <a:pt x="947" y="154"/>
                </a:lnTo>
                <a:lnTo>
                  <a:pt x="950" y="162"/>
                </a:lnTo>
                <a:lnTo>
                  <a:pt x="952" y="167"/>
                </a:lnTo>
                <a:lnTo>
                  <a:pt x="954" y="171"/>
                </a:lnTo>
                <a:lnTo>
                  <a:pt x="956" y="177"/>
                </a:lnTo>
                <a:lnTo>
                  <a:pt x="956" y="183"/>
                </a:lnTo>
                <a:lnTo>
                  <a:pt x="958" y="187"/>
                </a:lnTo>
                <a:lnTo>
                  <a:pt x="952" y="194"/>
                </a:lnTo>
                <a:lnTo>
                  <a:pt x="949" y="202"/>
                </a:lnTo>
                <a:lnTo>
                  <a:pt x="943" y="208"/>
                </a:lnTo>
                <a:lnTo>
                  <a:pt x="937" y="214"/>
                </a:lnTo>
                <a:lnTo>
                  <a:pt x="929" y="219"/>
                </a:lnTo>
                <a:lnTo>
                  <a:pt x="920" y="225"/>
                </a:lnTo>
                <a:lnTo>
                  <a:pt x="916" y="227"/>
                </a:lnTo>
                <a:lnTo>
                  <a:pt x="910" y="229"/>
                </a:lnTo>
                <a:lnTo>
                  <a:pt x="904" y="231"/>
                </a:lnTo>
                <a:lnTo>
                  <a:pt x="897" y="233"/>
                </a:lnTo>
                <a:lnTo>
                  <a:pt x="891" y="237"/>
                </a:lnTo>
                <a:lnTo>
                  <a:pt x="883" y="240"/>
                </a:lnTo>
                <a:lnTo>
                  <a:pt x="876" y="244"/>
                </a:lnTo>
                <a:lnTo>
                  <a:pt x="866" y="250"/>
                </a:lnTo>
                <a:lnTo>
                  <a:pt x="856" y="258"/>
                </a:lnTo>
                <a:lnTo>
                  <a:pt x="849" y="265"/>
                </a:lnTo>
                <a:lnTo>
                  <a:pt x="839" y="275"/>
                </a:lnTo>
                <a:lnTo>
                  <a:pt x="828" y="286"/>
                </a:lnTo>
                <a:lnTo>
                  <a:pt x="818" y="298"/>
                </a:lnTo>
                <a:lnTo>
                  <a:pt x="808" y="310"/>
                </a:lnTo>
                <a:lnTo>
                  <a:pt x="797" y="323"/>
                </a:lnTo>
                <a:lnTo>
                  <a:pt x="785" y="338"/>
                </a:lnTo>
                <a:lnTo>
                  <a:pt x="776" y="354"/>
                </a:lnTo>
                <a:lnTo>
                  <a:pt x="764" y="371"/>
                </a:lnTo>
                <a:lnTo>
                  <a:pt x="753" y="390"/>
                </a:lnTo>
                <a:lnTo>
                  <a:pt x="743" y="409"/>
                </a:lnTo>
                <a:lnTo>
                  <a:pt x="728" y="429"/>
                </a:lnTo>
                <a:lnTo>
                  <a:pt x="714" y="448"/>
                </a:lnTo>
                <a:lnTo>
                  <a:pt x="699" y="469"/>
                </a:lnTo>
                <a:lnTo>
                  <a:pt x="684" y="488"/>
                </a:lnTo>
                <a:lnTo>
                  <a:pt x="668" y="507"/>
                </a:lnTo>
                <a:lnTo>
                  <a:pt x="653" y="526"/>
                </a:lnTo>
                <a:lnTo>
                  <a:pt x="618" y="565"/>
                </a:lnTo>
                <a:lnTo>
                  <a:pt x="582" y="603"/>
                </a:lnTo>
                <a:lnTo>
                  <a:pt x="545" y="640"/>
                </a:lnTo>
                <a:lnTo>
                  <a:pt x="507" y="678"/>
                </a:lnTo>
                <a:lnTo>
                  <a:pt x="469" y="713"/>
                </a:lnTo>
                <a:lnTo>
                  <a:pt x="448" y="730"/>
                </a:lnTo>
                <a:lnTo>
                  <a:pt x="428" y="747"/>
                </a:lnTo>
                <a:lnTo>
                  <a:pt x="407" y="764"/>
                </a:lnTo>
                <a:lnTo>
                  <a:pt x="388" y="780"/>
                </a:lnTo>
                <a:lnTo>
                  <a:pt x="367" y="795"/>
                </a:lnTo>
                <a:lnTo>
                  <a:pt x="348" y="809"/>
                </a:lnTo>
                <a:lnTo>
                  <a:pt x="329" y="822"/>
                </a:lnTo>
                <a:lnTo>
                  <a:pt x="307" y="835"/>
                </a:lnTo>
                <a:lnTo>
                  <a:pt x="288" y="849"/>
                </a:lnTo>
                <a:lnTo>
                  <a:pt x="269" y="860"/>
                </a:lnTo>
                <a:lnTo>
                  <a:pt x="250" y="874"/>
                </a:lnTo>
                <a:lnTo>
                  <a:pt x="231" y="883"/>
                </a:lnTo>
                <a:lnTo>
                  <a:pt x="211" y="895"/>
                </a:lnTo>
                <a:lnTo>
                  <a:pt x="194" y="905"/>
                </a:lnTo>
                <a:lnTo>
                  <a:pt x="175" y="914"/>
                </a:lnTo>
                <a:lnTo>
                  <a:pt x="158" y="924"/>
                </a:lnTo>
                <a:lnTo>
                  <a:pt x="139" y="933"/>
                </a:lnTo>
                <a:lnTo>
                  <a:pt x="119" y="943"/>
                </a:lnTo>
                <a:lnTo>
                  <a:pt x="104" y="953"/>
                </a:lnTo>
                <a:lnTo>
                  <a:pt x="89" y="960"/>
                </a:lnTo>
                <a:lnTo>
                  <a:pt x="73" y="966"/>
                </a:lnTo>
                <a:lnTo>
                  <a:pt x="62" y="972"/>
                </a:lnTo>
                <a:lnTo>
                  <a:pt x="50" y="976"/>
                </a:lnTo>
                <a:lnTo>
                  <a:pt x="39" y="979"/>
                </a:lnTo>
                <a:lnTo>
                  <a:pt x="31" y="981"/>
                </a:lnTo>
                <a:lnTo>
                  <a:pt x="23" y="985"/>
                </a:lnTo>
                <a:lnTo>
                  <a:pt x="16" y="985"/>
                </a:lnTo>
                <a:lnTo>
                  <a:pt x="12" y="987"/>
                </a:lnTo>
                <a:lnTo>
                  <a:pt x="6" y="985"/>
                </a:lnTo>
                <a:lnTo>
                  <a:pt x="4" y="985"/>
                </a:lnTo>
                <a:lnTo>
                  <a:pt x="2" y="983"/>
                </a:lnTo>
                <a:lnTo>
                  <a:pt x="2" y="981"/>
                </a:lnTo>
                <a:lnTo>
                  <a:pt x="0" y="981"/>
                </a:lnTo>
                <a:lnTo>
                  <a:pt x="0" y="979"/>
                </a:lnTo>
                <a:lnTo>
                  <a:pt x="0" y="978"/>
                </a:lnTo>
                <a:lnTo>
                  <a:pt x="2" y="976"/>
                </a:lnTo>
                <a:lnTo>
                  <a:pt x="4" y="970"/>
                </a:lnTo>
                <a:lnTo>
                  <a:pt x="8" y="964"/>
                </a:lnTo>
                <a:lnTo>
                  <a:pt x="16" y="958"/>
                </a:lnTo>
                <a:lnTo>
                  <a:pt x="23" y="949"/>
                </a:lnTo>
                <a:lnTo>
                  <a:pt x="33" y="941"/>
                </a:lnTo>
                <a:lnTo>
                  <a:pt x="45" y="930"/>
                </a:lnTo>
                <a:lnTo>
                  <a:pt x="58" y="918"/>
                </a:lnTo>
                <a:lnTo>
                  <a:pt x="71" y="906"/>
                </a:lnTo>
                <a:lnTo>
                  <a:pt x="89" y="893"/>
                </a:lnTo>
                <a:lnTo>
                  <a:pt x="106" y="878"/>
                </a:lnTo>
                <a:lnTo>
                  <a:pt x="125" y="862"/>
                </a:lnTo>
                <a:lnTo>
                  <a:pt x="146" y="845"/>
                </a:lnTo>
                <a:lnTo>
                  <a:pt x="169" y="826"/>
                </a:lnTo>
                <a:lnTo>
                  <a:pt x="192" y="807"/>
                </a:lnTo>
                <a:lnTo>
                  <a:pt x="217" y="787"/>
                </a:lnTo>
                <a:lnTo>
                  <a:pt x="240" y="766"/>
                </a:lnTo>
                <a:lnTo>
                  <a:pt x="286" y="724"/>
                </a:lnTo>
                <a:lnTo>
                  <a:pt x="331" y="682"/>
                </a:lnTo>
                <a:lnTo>
                  <a:pt x="354" y="659"/>
                </a:lnTo>
                <a:lnTo>
                  <a:pt x="375" y="638"/>
                </a:lnTo>
                <a:lnTo>
                  <a:pt x="394" y="613"/>
                </a:lnTo>
                <a:lnTo>
                  <a:pt x="415" y="590"/>
                </a:lnTo>
                <a:lnTo>
                  <a:pt x="434" y="565"/>
                </a:lnTo>
                <a:lnTo>
                  <a:pt x="453" y="540"/>
                </a:lnTo>
                <a:lnTo>
                  <a:pt x="473" y="515"/>
                </a:lnTo>
                <a:lnTo>
                  <a:pt x="492" y="488"/>
                </a:lnTo>
                <a:lnTo>
                  <a:pt x="509" y="461"/>
                </a:lnTo>
                <a:lnTo>
                  <a:pt x="528" y="432"/>
                </a:lnTo>
                <a:lnTo>
                  <a:pt x="544" y="407"/>
                </a:lnTo>
                <a:lnTo>
                  <a:pt x="561" y="382"/>
                </a:lnTo>
                <a:lnTo>
                  <a:pt x="574" y="359"/>
                </a:lnTo>
                <a:lnTo>
                  <a:pt x="588" y="338"/>
                </a:lnTo>
                <a:lnTo>
                  <a:pt x="599" y="317"/>
                </a:lnTo>
                <a:lnTo>
                  <a:pt x="609" y="300"/>
                </a:lnTo>
                <a:lnTo>
                  <a:pt x="618" y="283"/>
                </a:lnTo>
                <a:lnTo>
                  <a:pt x="626" y="267"/>
                </a:lnTo>
                <a:lnTo>
                  <a:pt x="634" y="252"/>
                </a:lnTo>
                <a:lnTo>
                  <a:pt x="640" y="240"/>
                </a:lnTo>
                <a:lnTo>
                  <a:pt x="643" y="229"/>
                </a:lnTo>
                <a:lnTo>
                  <a:pt x="645" y="219"/>
                </a:lnTo>
                <a:lnTo>
                  <a:pt x="647" y="212"/>
                </a:lnTo>
                <a:lnTo>
                  <a:pt x="649" y="206"/>
                </a:lnTo>
                <a:lnTo>
                  <a:pt x="649" y="202"/>
                </a:lnTo>
                <a:lnTo>
                  <a:pt x="647" y="198"/>
                </a:lnTo>
                <a:lnTo>
                  <a:pt x="641" y="196"/>
                </a:lnTo>
                <a:lnTo>
                  <a:pt x="636" y="194"/>
                </a:lnTo>
                <a:lnTo>
                  <a:pt x="628" y="192"/>
                </a:lnTo>
                <a:lnTo>
                  <a:pt x="620" y="192"/>
                </a:lnTo>
                <a:lnTo>
                  <a:pt x="611" y="191"/>
                </a:lnTo>
                <a:lnTo>
                  <a:pt x="599" y="191"/>
                </a:lnTo>
                <a:lnTo>
                  <a:pt x="588" y="191"/>
                </a:lnTo>
                <a:lnTo>
                  <a:pt x="574" y="191"/>
                </a:lnTo>
                <a:lnTo>
                  <a:pt x="561" y="192"/>
                </a:lnTo>
                <a:lnTo>
                  <a:pt x="545" y="192"/>
                </a:lnTo>
                <a:lnTo>
                  <a:pt x="530" y="194"/>
                </a:lnTo>
                <a:lnTo>
                  <a:pt x="513" y="196"/>
                </a:lnTo>
                <a:lnTo>
                  <a:pt x="494" y="200"/>
                </a:lnTo>
                <a:lnTo>
                  <a:pt x="474" y="202"/>
                </a:lnTo>
                <a:lnTo>
                  <a:pt x="453" y="206"/>
                </a:lnTo>
                <a:lnTo>
                  <a:pt x="432" y="210"/>
                </a:lnTo>
                <a:lnTo>
                  <a:pt x="407" y="214"/>
                </a:lnTo>
                <a:lnTo>
                  <a:pt x="386" y="217"/>
                </a:lnTo>
                <a:lnTo>
                  <a:pt x="363" y="221"/>
                </a:lnTo>
                <a:lnTo>
                  <a:pt x="344" y="223"/>
                </a:lnTo>
                <a:lnTo>
                  <a:pt x="325" y="225"/>
                </a:lnTo>
                <a:lnTo>
                  <a:pt x="307" y="227"/>
                </a:lnTo>
                <a:lnTo>
                  <a:pt x="292" y="229"/>
                </a:lnTo>
                <a:lnTo>
                  <a:pt x="277" y="229"/>
                </a:lnTo>
                <a:lnTo>
                  <a:pt x="263" y="229"/>
                </a:lnTo>
                <a:lnTo>
                  <a:pt x="250" y="229"/>
                </a:lnTo>
                <a:lnTo>
                  <a:pt x="238" y="229"/>
                </a:lnTo>
                <a:lnTo>
                  <a:pt x="227" y="229"/>
                </a:lnTo>
                <a:lnTo>
                  <a:pt x="217" y="227"/>
                </a:lnTo>
                <a:lnTo>
                  <a:pt x="208" y="225"/>
                </a:lnTo>
                <a:lnTo>
                  <a:pt x="200" y="223"/>
                </a:lnTo>
                <a:lnTo>
                  <a:pt x="192" y="221"/>
                </a:lnTo>
                <a:lnTo>
                  <a:pt x="187" y="219"/>
                </a:lnTo>
                <a:lnTo>
                  <a:pt x="181" y="217"/>
                </a:lnTo>
                <a:lnTo>
                  <a:pt x="175" y="214"/>
                </a:lnTo>
                <a:lnTo>
                  <a:pt x="171" y="210"/>
                </a:lnTo>
                <a:lnTo>
                  <a:pt x="165" y="208"/>
                </a:lnTo>
                <a:lnTo>
                  <a:pt x="162" y="204"/>
                </a:lnTo>
                <a:lnTo>
                  <a:pt x="156" y="196"/>
                </a:lnTo>
                <a:lnTo>
                  <a:pt x="150" y="187"/>
                </a:lnTo>
                <a:lnTo>
                  <a:pt x="148" y="175"/>
                </a:lnTo>
                <a:lnTo>
                  <a:pt x="146" y="164"/>
                </a:lnTo>
                <a:lnTo>
                  <a:pt x="146" y="152"/>
                </a:lnTo>
                <a:lnTo>
                  <a:pt x="144" y="144"/>
                </a:lnTo>
                <a:lnTo>
                  <a:pt x="142" y="139"/>
                </a:lnTo>
                <a:lnTo>
                  <a:pt x="142" y="135"/>
                </a:lnTo>
                <a:lnTo>
                  <a:pt x="142" y="129"/>
                </a:lnTo>
                <a:lnTo>
                  <a:pt x="144" y="125"/>
                </a:lnTo>
                <a:lnTo>
                  <a:pt x="146" y="121"/>
                </a:lnTo>
                <a:lnTo>
                  <a:pt x="148" y="118"/>
                </a:lnTo>
                <a:lnTo>
                  <a:pt x="152" y="116"/>
                </a:lnTo>
                <a:lnTo>
                  <a:pt x="156" y="112"/>
                </a:lnTo>
                <a:lnTo>
                  <a:pt x="160" y="110"/>
                </a:lnTo>
                <a:lnTo>
                  <a:pt x="164" y="108"/>
                </a:lnTo>
                <a:lnTo>
                  <a:pt x="169" y="108"/>
                </a:lnTo>
                <a:lnTo>
                  <a:pt x="181" y="106"/>
                </a:lnTo>
                <a:lnTo>
                  <a:pt x="192" y="104"/>
                </a:lnTo>
                <a:lnTo>
                  <a:pt x="200" y="106"/>
                </a:lnTo>
                <a:lnTo>
                  <a:pt x="208" y="108"/>
                </a:lnTo>
                <a:lnTo>
                  <a:pt x="217" y="110"/>
                </a:lnTo>
                <a:lnTo>
                  <a:pt x="229" y="110"/>
                </a:lnTo>
                <a:lnTo>
                  <a:pt x="240" y="110"/>
                </a:lnTo>
                <a:lnTo>
                  <a:pt x="254" y="110"/>
                </a:lnTo>
                <a:lnTo>
                  <a:pt x="267" y="108"/>
                </a:lnTo>
                <a:lnTo>
                  <a:pt x="283" y="108"/>
                </a:lnTo>
                <a:lnTo>
                  <a:pt x="298" y="106"/>
                </a:lnTo>
                <a:lnTo>
                  <a:pt x="315" y="106"/>
                </a:lnTo>
                <a:lnTo>
                  <a:pt x="334" y="104"/>
                </a:lnTo>
                <a:lnTo>
                  <a:pt x="354" y="102"/>
                </a:lnTo>
                <a:lnTo>
                  <a:pt x="375" y="100"/>
                </a:lnTo>
                <a:lnTo>
                  <a:pt x="398" y="98"/>
                </a:lnTo>
                <a:lnTo>
                  <a:pt x="419" y="95"/>
                </a:lnTo>
                <a:lnTo>
                  <a:pt x="444" y="9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107"/>
          <p:cNvSpPr/>
          <p:nvPr/>
        </p:nvSpPr>
        <p:spPr>
          <a:xfrm>
            <a:off x="5979960" y="3276720"/>
            <a:ext cx="297000" cy="652320"/>
          </a:xfrm>
          <a:custGeom>
            <a:avLst/>
            <a:gdLst/>
            <a:ahLst/>
            <a:rect l="l" t="t" r="r" b="b"/>
            <a:pathLst>
              <a:path w="374" h="824">
                <a:moveTo>
                  <a:pt x="44" y="112"/>
                </a:moveTo>
                <a:lnTo>
                  <a:pt x="37" y="102"/>
                </a:lnTo>
                <a:lnTo>
                  <a:pt x="29" y="95"/>
                </a:lnTo>
                <a:lnTo>
                  <a:pt x="21" y="85"/>
                </a:lnTo>
                <a:lnTo>
                  <a:pt x="15" y="77"/>
                </a:lnTo>
                <a:lnTo>
                  <a:pt x="10" y="70"/>
                </a:lnTo>
                <a:lnTo>
                  <a:pt x="6" y="64"/>
                </a:lnTo>
                <a:lnTo>
                  <a:pt x="4" y="56"/>
                </a:lnTo>
                <a:lnTo>
                  <a:pt x="2" y="50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2" y="25"/>
                </a:lnTo>
                <a:lnTo>
                  <a:pt x="6" y="20"/>
                </a:lnTo>
                <a:lnTo>
                  <a:pt x="10" y="16"/>
                </a:lnTo>
                <a:lnTo>
                  <a:pt x="14" y="10"/>
                </a:lnTo>
                <a:lnTo>
                  <a:pt x="21" y="6"/>
                </a:lnTo>
                <a:lnTo>
                  <a:pt x="25" y="4"/>
                </a:lnTo>
                <a:lnTo>
                  <a:pt x="33" y="2"/>
                </a:lnTo>
                <a:lnTo>
                  <a:pt x="40" y="2"/>
                </a:lnTo>
                <a:lnTo>
                  <a:pt x="50" y="0"/>
                </a:lnTo>
                <a:lnTo>
                  <a:pt x="60" y="0"/>
                </a:lnTo>
                <a:lnTo>
                  <a:pt x="71" y="2"/>
                </a:lnTo>
                <a:lnTo>
                  <a:pt x="85" y="4"/>
                </a:lnTo>
                <a:lnTo>
                  <a:pt x="100" y="6"/>
                </a:lnTo>
                <a:lnTo>
                  <a:pt x="115" y="8"/>
                </a:lnTo>
                <a:lnTo>
                  <a:pt x="133" y="10"/>
                </a:lnTo>
                <a:lnTo>
                  <a:pt x="150" y="14"/>
                </a:lnTo>
                <a:lnTo>
                  <a:pt x="169" y="18"/>
                </a:lnTo>
                <a:lnTo>
                  <a:pt x="190" y="23"/>
                </a:lnTo>
                <a:lnTo>
                  <a:pt x="213" y="29"/>
                </a:lnTo>
                <a:lnTo>
                  <a:pt x="234" y="35"/>
                </a:lnTo>
                <a:lnTo>
                  <a:pt x="259" y="41"/>
                </a:lnTo>
                <a:lnTo>
                  <a:pt x="269" y="89"/>
                </a:lnTo>
                <a:lnTo>
                  <a:pt x="278" y="137"/>
                </a:lnTo>
                <a:lnTo>
                  <a:pt x="286" y="183"/>
                </a:lnTo>
                <a:lnTo>
                  <a:pt x="296" y="225"/>
                </a:lnTo>
                <a:lnTo>
                  <a:pt x="303" y="267"/>
                </a:lnTo>
                <a:lnTo>
                  <a:pt x="311" y="309"/>
                </a:lnTo>
                <a:lnTo>
                  <a:pt x="319" y="348"/>
                </a:lnTo>
                <a:lnTo>
                  <a:pt x="324" y="386"/>
                </a:lnTo>
                <a:lnTo>
                  <a:pt x="332" y="421"/>
                </a:lnTo>
                <a:lnTo>
                  <a:pt x="338" y="455"/>
                </a:lnTo>
                <a:lnTo>
                  <a:pt x="344" y="488"/>
                </a:lnTo>
                <a:lnTo>
                  <a:pt x="348" y="521"/>
                </a:lnTo>
                <a:lnTo>
                  <a:pt x="353" y="549"/>
                </a:lnTo>
                <a:lnTo>
                  <a:pt x="357" y="578"/>
                </a:lnTo>
                <a:lnTo>
                  <a:pt x="361" y="605"/>
                </a:lnTo>
                <a:lnTo>
                  <a:pt x="365" y="630"/>
                </a:lnTo>
                <a:lnTo>
                  <a:pt x="367" y="653"/>
                </a:lnTo>
                <a:lnTo>
                  <a:pt x="369" y="676"/>
                </a:lnTo>
                <a:lnTo>
                  <a:pt x="372" y="697"/>
                </a:lnTo>
                <a:lnTo>
                  <a:pt x="372" y="715"/>
                </a:lnTo>
                <a:lnTo>
                  <a:pt x="374" y="734"/>
                </a:lnTo>
                <a:lnTo>
                  <a:pt x="374" y="749"/>
                </a:lnTo>
                <a:lnTo>
                  <a:pt x="374" y="762"/>
                </a:lnTo>
                <a:lnTo>
                  <a:pt x="374" y="776"/>
                </a:lnTo>
                <a:lnTo>
                  <a:pt x="374" y="787"/>
                </a:lnTo>
                <a:lnTo>
                  <a:pt x="372" y="797"/>
                </a:lnTo>
                <a:lnTo>
                  <a:pt x="371" y="805"/>
                </a:lnTo>
                <a:lnTo>
                  <a:pt x="369" y="812"/>
                </a:lnTo>
                <a:lnTo>
                  <a:pt x="367" y="818"/>
                </a:lnTo>
                <a:lnTo>
                  <a:pt x="363" y="822"/>
                </a:lnTo>
                <a:lnTo>
                  <a:pt x="359" y="824"/>
                </a:lnTo>
                <a:lnTo>
                  <a:pt x="355" y="824"/>
                </a:lnTo>
                <a:lnTo>
                  <a:pt x="349" y="824"/>
                </a:lnTo>
                <a:lnTo>
                  <a:pt x="346" y="824"/>
                </a:lnTo>
                <a:lnTo>
                  <a:pt x="342" y="822"/>
                </a:lnTo>
                <a:lnTo>
                  <a:pt x="336" y="820"/>
                </a:lnTo>
                <a:lnTo>
                  <a:pt x="332" y="816"/>
                </a:lnTo>
                <a:lnTo>
                  <a:pt x="328" y="812"/>
                </a:lnTo>
                <a:lnTo>
                  <a:pt x="323" y="809"/>
                </a:lnTo>
                <a:lnTo>
                  <a:pt x="319" y="805"/>
                </a:lnTo>
                <a:lnTo>
                  <a:pt x="315" y="799"/>
                </a:lnTo>
                <a:lnTo>
                  <a:pt x="309" y="793"/>
                </a:lnTo>
                <a:lnTo>
                  <a:pt x="305" y="787"/>
                </a:lnTo>
                <a:lnTo>
                  <a:pt x="301" y="780"/>
                </a:lnTo>
                <a:lnTo>
                  <a:pt x="296" y="772"/>
                </a:lnTo>
                <a:lnTo>
                  <a:pt x="292" y="762"/>
                </a:lnTo>
                <a:lnTo>
                  <a:pt x="288" y="755"/>
                </a:lnTo>
                <a:lnTo>
                  <a:pt x="282" y="743"/>
                </a:lnTo>
                <a:lnTo>
                  <a:pt x="278" y="734"/>
                </a:lnTo>
                <a:lnTo>
                  <a:pt x="275" y="722"/>
                </a:lnTo>
                <a:lnTo>
                  <a:pt x="269" y="711"/>
                </a:lnTo>
                <a:lnTo>
                  <a:pt x="265" y="699"/>
                </a:lnTo>
                <a:lnTo>
                  <a:pt x="261" y="686"/>
                </a:lnTo>
                <a:lnTo>
                  <a:pt x="255" y="672"/>
                </a:lnTo>
                <a:lnTo>
                  <a:pt x="252" y="657"/>
                </a:lnTo>
                <a:lnTo>
                  <a:pt x="248" y="642"/>
                </a:lnTo>
                <a:lnTo>
                  <a:pt x="242" y="626"/>
                </a:lnTo>
                <a:lnTo>
                  <a:pt x="238" y="609"/>
                </a:lnTo>
                <a:lnTo>
                  <a:pt x="234" y="594"/>
                </a:lnTo>
                <a:lnTo>
                  <a:pt x="229" y="574"/>
                </a:lnTo>
                <a:lnTo>
                  <a:pt x="225" y="557"/>
                </a:lnTo>
                <a:lnTo>
                  <a:pt x="221" y="538"/>
                </a:lnTo>
                <a:lnTo>
                  <a:pt x="215" y="517"/>
                </a:lnTo>
                <a:lnTo>
                  <a:pt x="211" y="498"/>
                </a:lnTo>
                <a:lnTo>
                  <a:pt x="205" y="476"/>
                </a:lnTo>
                <a:lnTo>
                  <a:pt x="200" y="457"/>
                </a:lnTo>
                <a:lnTo>
                  <a:pt x="196" y="436"/>
                </a:lnTo>
                <a:lnTo>
                  <a:pt x="190" y="419"/>
                </a:lnTo>
                <a:lnTo>
                  <a:pt x="184" y="400"/>
                </a:lnTo>
                <a:lnTo>
                  <a:pt x="179" y="382"/>
                </a:lnTo>
                <a:lnTo>
                  <a:pt x="175" y="365"/>
                </a:lnTo>
                <a:lnTo>
                  <a:pt x="169" y="348"/>
                </a:lnTo>
                <a:lnTo>
                  <a:pt x="163" y="333"/>
                </a:lnTo>
                <a:lnTo>
                  <a:pt x="159" y="315"/>
                </a:lnTo>
                <a:lnTo>
                  <a:pt x="154" y="302"/>
                </a:lnTo>
                <a:lnTo>
                  <a:pt x="148" y="286"/>
                </a:lnTo>
                <a:lnTo>
                  <a:pt x="144" y="273"/>
                </a:lnTo>
                <a:lnTo>
                  <a:pt x="138" y="260"/>
                </a:lnTo>
                <a:lnTo>
                  <a:pt x="133" y="246"/>
                </a:lnTo>
                <a:lnTo>
                  <a:pt x="129" y="235"/>
                </a:lnTo>
                <a:lnTo>
                  <a:pt x="123" y="221"/>
                </a:lnTo>
                <a:lnTo>
                  <a:pt x="117" y="212"/>
                </a:lnTo>
                <a:lnTo>
                  <a:pt x="113" y="200"/>
                </a:lnTo>
                <a:lnTo>
                  <a:pt x="108" y="190"/>
                </a:lnTo>
                <a:lnTo>
                  <a:pt x="102" y="181"/>
                </a:lnTo>
                <a:lnTo>
                  <a:pt x="98" y="171"/>
                </a:lnTo>
                <a:lnTo>
                  <a:pt x="92" y="164"/>
                </a:lnTo>
                <a:lnTo>
                  <a:pt x="86" y="154"/>
                </a:lnTo>
                <a:lnTo>
                  <a:pt x="83" y="148"/>
                </a:lnTo>
                <a:lnTo>
                  <a:pt x="77" y="141"/>
                </a:lnTo>
                <a:lnTo>
                  <a:pt x="71" y="135"/>
                </a:lnTo>
                <a:lnTo>
                  <a:pt x="65" y="129"/>
                </a:lnTo>
                <a:lnTo>
                  <a:pt x="62" y="123"/>
                </a:lnTo>
                <a:lnTo>
                  <a:pt x="56" y="119"/>
                </a:lnTo>
                <a:lnTo>
                  <a:pt x="50" y="114"/>
                </a:lnTo>
                <a:lnTo>
                  <a:pt x="44" y="1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108"/>
          <p:cNvSpPr/>
          <p:nvPr/>
        </p:nvSpPr>
        <p:spPr>
          <a:xfrm>
            <a:off x="6262560" y="3735360"/>
            <a:ext cx="655920" cy="149400"/>
          </a:xfrm>
          <a:custGeom>
            <a:avLst/>
            <a:gdLst/>
            <a:ahLst/>
            <a:rect l="l" t="t" r="r" b="b"/>
            <a:pathLst>
              <a:path w="827" h="188">
                <a:moveTo>
                  <a:pt x="0" y="106"/>
                </a:moveTo>
                <a:lnTo>
                  <a:pt x="142" y="89"/>
                </a:lnTo>
                <a:lnTo>
                  <a:pt x="286" y="71"/>
                </a:lnTo>
                <a:lnTo>
                  <a:pt x="294" y="69"/>
                </a:lnTo>
                <a:lnTo>
                  <a:pt x="303" y="69"/>
                </a:lnTo>
                <a:lnTo>
                  <a:pt x="311" y="67"/>
                </a:lnTo>
                <a:lnTo>
                  <a:pt x="321" y="65"/>
                </a:lnTo>
                <a:lnTo>
                  <a:pt x="332" y="65"/>
                </a:lnTo>
                <a:lnTo>
                  <a:pt x="342" y="64"/>
                </a:lnTo>
                <a:lnTo>
                  <a:pt x="353" y="62"/>
                </a:lnTo>
                <a:lnTo>
                  <a:pt x="365" y="60"/>
                </a:lnTo>
                <a:lnTo>
                  <a:pt x="376" y="58"/>
                </a:lnTo>
                <a:lnTo>
                  <a:pt x="390" y="56"/>
                </a:lnTo>
                <a:lnTo>
                  <a:pt x="401" y="54"/>
                </a:lnTo>
                <a:lnTo>
                  <a:pt x="415" y="54"/>
                </a:lnTo>
                <a:lnTo>
                  <a:pt x="430" y="52"/>
                </a:lnTo>
                <a:lnTo>
                  <a:pt x="444" y="48"/>
                </a:lnTo>
                <a:lnTo>
                  <a:pt x="459" y="46"/>
                </a:lnTo>
                <a:lnTo>
                  <a:pt x="474" y="44"/>
                </a:lnTo>
                <a:lnTo>
                  <a:pt x="490" y="42"/>
                </a:lnTo>
                <a:lnTo>
                  <a:pt x="507" y="41"/>
                </a:lnTo>
                <a:lnTo>
                  <a:pt x="524" y="39"/>
                </a:lnTo>
                <a:lnTo>
                  <a:pt x="541" y="35"/>
                </a:lnTo>
                <a:lnTo>
                  <a:pt x="559" y="33"/>
                </a:lnTo>
                <a:lnTo>
                  <a:pt x="578" y="31"/>
                </a:lnTo>
                <a:lnTo>
                  <a:pt x="595" y="27"/>
                </a:lnTo>
                <a:lnTo>
                  <a:pt x="614" y="25"/>
                </a:lnTo>
                <a:lnTo>
                  <a:pt x="636" y="23"/>
                </a:lnTo>
                <a:lnTo>
                  <a:pt x="655" y="19"/>
                </a:lnTo>
                <a:lnTo>
                  <a:pt x="676" y="17"/>
                </a:lnTo>
                <a:lnTo>
                  <a:pt x="697" y="14"/>
                </a:lnTo>
                <a:lnTo>
                  <a:pt x="720" y="10"/>
                </a:lnTo>
                <a:lnTo>
                  <a:pt x="741" y="8"/>
                </a:lnTo>
                <a:lnTo>
                  <a:pt x="764" y="4"/>
                </a:lnTo>
                <a:lnTo>
                  <a:pt x="787" y="0"/>
                </a:lnTo>
                <a:lnTo>
                  <a:pt x="795" y="12"/>
                </a:lnTo>
                <a:lnTo>
                  <a:pt x="801" y="21"/>
                </a:lnTo>
                <a:lnTo>
                  <a:pt x="804" y="31"/>
                </a:lnTo>
                <a:lnTo>
                  <a:pt x="810" y="41"/>
                </a:lnTo>
                <a:lnTo>
                  <a:pt x="814" y="48"/>
                </a:lnTo>
                <a:lnTo>
                  <a:pt x="818" y="58"/>
                </a:lnTo>
                <a:lnTo>
                  <a:pt x="820" y="64"/>
                </a:lnTo>
                <a:lnTo>
                  <a:pt x="824" y="71"/>
                </a:lnTo>
                <a:lnTo>
                  <a:pt x="826" y="77"/>
                </a:lnTo>
                <a:lnTo>
                  <a:pt x="826" y="83"/>
                </a:lnTo>
                <a:lnTo>
                  <a:pt x="827" y="89"/>
                </a:lnTo>
                <a:lnTo>
                  <a:pt x="827" y="92"/>
                </a:lnTo>
                <a:lnTo>
                  <a:pt x="827" y="96"/>
                </a:lnTo>
                <a:lnTo>
                  <a:pt x="827" y="100"/>
                </a:lnTo>
                <a:lnTo>
                  <a:pt x="826" y="104"/>
                </a:lnTo>
                <a:lnTo>
                  <a:pt x="824" y="106"/>
                </a:lnTo>
                <a:lnTo>
                  <a:pt x="820" y="108"/>
                </a:lnTo>
                <a:lnTo>
                  <a:pt x="818" y="110"/>
                </a:lnTo>
                <a:lnTo>
                  <a:pt x="814" y="112"/>
                </a:lnTo>
                <a:lnTo>
                  <a:pt x="810" y="115"/>
                </a:lnTo>
                <a:lnTo>
                  <a:pt x="804" y="117"/>
                </a:lnTo>
                <a:lnTo>
                  <a:pt x="801" y="119"/>
                </a:lnTo>
                <a:lnTo>
                  <a:pt x="795" y="121"/>
                </a:lnTo>
                <a:lnTo>
                  <a:pt x="787" y="121"/>
                </a:lnTo>
                <a:lnTo>
                  <a:pt x="781" y="123"/>
                </a:lnTo>
                <a:lnTo>
                  <a:pt x="774" y="125"/>
                </a:lnTo>
                <a:lnTo>
                  <a:pt x="764" y="127"/>
                </a:lnTo>
                <a:lnTo>
                  <a:pt x="756" y="127"/>
                </a:lnTo>
                <a:lnTo>
                  <a:pt x="747" y="129"/>
                </a:lnTo>
                <a:lnTo>
                  <a:pt x="737" y="129"/>
                </a:lnTo>
                <a:lnTo>
                  <a:pt x="726" y="129"/>
                </a:lnTo>
                <a:lnTo>
                  <a:pt x="716" y="129"/>
                </a:lnTo>
                <a:lnTo>
                  <a:pt x="710" y="129"/>
                </a:lnTo>
                <a:lnTo>
                  <a:pt x="703" y="129"/>
                </a:lnTo>
                <a:lnTo>
                  <a:pt x="695" y="131"/>
                </a:lnTo>
                <a:lnTo>
                  <a:pt x="685" y="131"/>
                </a:lnTo>
                <a:lnTo>
                  <a:pt x="676" y="131"/>
                </a:lnTo>
                <a:lnTo>
                  <a:pt x="664" y="133"/>
                </a:lnTo>
                <a:lnTo>
                  <a:pt x="653" y="133"/>
                </a:lnTo>
                <a:lnTo>
                  <a:pt x="639" y="133"/>
                </a:lnTo>
                <a:lnTo>
                  <a:pt x="626" y="135"/>
                </a:lnTo>
                <a:lnTo>
                  <a:pt x="611" y="137"/>
                </a:lnTo>
                <a:lnTo>
                  <a:pt x="593" y="137"/>
                </a:lnTo>
                <a:lnTo>
                  <a:pt x="576" y="138"/>
                </a:lnTo>
                <a:lnTo>
                  <a:pt x="559" y="140"/>
                </a:lnTo>
                <a:lnTo>
                  <a:pt x="540" y="142"/>
                </a:lnTo>
                <a:lnTo>
                  <a:pt x="518" y="144"/>
                </a:lnTo>
                <a:lnTo>
                  <a:pt x="497" y="146"/>
                </a:lnTo>
                <a:lnTo>
                  <a:pt x="476" y="148"/>
                </a:lnTo>
                <a:lnTo>
                  <a:pt x="451" y="150"/>
                </a:lnTo>
                <a:lnTo>
                  <a:pt x="428" y="152"/>
                </a:lnTo>
                <a:lnTo>
                  <a:pt x="401" y="154"/>
                </a:lnTo>
                <a:lnTo>
                  <a:pt x="376" y="156"/>
                </a:lnTo>
                <a:lnTo>
                  <a:pt x="348" y="158"/>
                </a:lnTo>
                <a:lnTo>
                  <a:pt x="319" y="161"/>
                </a:lnTo>
                <a:lnTo>
                  <a:pt x="290" y="163"/>
                </a:lnTo>
                <a:lnTo>
                  <a:pt x="259" y="167"/>
                </a:lnTo>
                <a:lnTo>
                  <a:pt x="227" y="169"/>
                </a:lnTo>
                <a:lnTo>
                  <a:pt x="194" y="173"/>
                </a:lnTo>
                <a:lnTo>
                  <a:pt x="160" y="175"/>
                </a:lnTo>
                <a:lnTo>
                  <a:pt x="123" y="179"/>
                </a:lnTo>
                <a:lnTo>
                  <a:pt x="87" y="181"/>
                </a:lnTo>
                <a:lnTo>
                  <a:pt x="50" y="184"/>
                </a:lnTo>
                <a:lnTo>
                  <a:pt x="12" y="188"/>
                </a:lnTo>
                <a:lnTo>
                  <a:pt x="0" y="10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09"/>
          <p:cNvSpPr/>
          <p:nvPr/>
        </p:nvSpPr>
        <p:spPr>
          <a:xfrm>
            <a:off x="6186600" y="3457440"/>
            <a:ext cx="576000" cy="147600"/>
          </a:xfrm>
          <a:custGeom>
            <a:avLst/>
            <a:gdLst/>
            <a:ahLst/>
            <a:rect l="l" t="t" r="r" b="b"/>
            <a:pathLst>
              <a:path w="728" h="186">
                <a:moveTo>
                  <a:pt x="597" y="0"/>
                </a:moveTo>
                <a:lnTo>
                  <a:pt x="607" y="0"/>
                </a:lnTo>
                <a:lnTo>
                  <a:pt x="614" y="2"/>
                </a:lnTo>
                <a:lnTo>
                  <a:pt x="624" y="4"/>
                </a:lnTo>
                <a:lnTo>
                  <a:pt x="634" y="6"/>
                </a:lnTo>
                <a:lnTo>
                  <a:pt x="645" y="9"/>
                </a:lnTo>
                <a:lnTo>
                  <a:pt x="657" y="13"/>
                </a:lnTo>
                <a:lnTo>
                  <a:pt x="668" y="17"/>
                </a:lnTo>
                <a:lnTo>
                  <a:pt x="682" y="23"/>
                </a:lnTo>
                <a:lnTo>
                  <a:pt x="687" y="27"/>
                </a:lnTo>
                <a:lnTo>
                  <a:pt x="693" y="31"/>
                </a:lnTo>
                <a:lnTo>
                  <a:pt x="699" y="36"/>
                </a:lnTo>
                <a:lnTo>
                  <a:pt x="703" y="40"/>
                </a:lnTo>
                <a:lnTo>
                  <a:pt x="707" y="44"/>
                </a:lnTo>
                <a:lnTo>
                  <a:pt x="710" y="48"/>
                </a:lnTo>
                <a:lnTo>
                  <a:pt x="718" y="56"/>
                </a:lnTo>
                <a:lnTo>
                  <a:pt x="722" y="63"/>
                </a:lnTo>
                <a:lnTo>
                  <a:pt x="726" y="71"/>
                </a:lnTo>
                <a:lnTo>
                  <a:pt x="728" y="77"/>
                </a:lnTo>
                <a:lnTo>
                  <a:pt x="728" y="80"/>
                </a:lnTo>
                <a:lnTo>
                  <a:pt x="728" y="82"/>
                </a:lnTo>
                <a:lnTo>
                  <a:pt x="726" y="86"/>
                </a:lnTo>
                <a:lnTo>
                  <a:pt x="720" y="88"/>
                </a:lnTo>
                <a:lnTo>
                  <a:pt x="714" y="92"/>
                </a:lnTo>
                <a:lnTo>
                  <a:pt x="707" y="94"/>
                </a:lnTo>
                <a:lnTo>
                  <a:pt x="699" y="98"/>
                </a:lnTo>
                <a:lnTo>
                  <a:pt x="687" y="102"/>
                </a:lnTo>
                <a:lnTo>
                  <a:pt x="674" y="105"/>
                </a:lnTo>
                <a:lnTo>
                  <a:pt x="661" y="109"/>
                </a:lnTo>
                <a:lnTo>
                  <a:pt x="645" y="113"/>
                </a:lnTo>
                <a:lnTo>
                  <a:pt x="626" y="117"/>
                </a:lnTo>
                <a:lnTo>
                  <a:pt x="607" y="121"/>
                </a:lnTo>
                <a:lnTo>
                  <a:pt x="586" y="127"/>
                </a:lnTo>
                <a:lnTo>
                  <a:pt x="565" y="130"/>
                </a:lnTo>
                <a:lnTo>
                  <a:pt x="540" y="134"/>
                </a:lnTo>
                <a:lnTo>
                  <a:pt x="513" y="140"/>
                </a:lnTo>
                <a:lnTo>
                  <a:pt x="484" y="146"/>
                </a:lnTo>
                <a:lnTo>
                  <a:pt x="455" y="152"/>
                </a:lnTo>
                <a:lnTo>
                  <a:pt x="424" y="157"/>
                </a:lnTo>
                <a:lnTo>
                  <a:pt x="394" y="161"/>
                </a:lnTo>
                <a:lnTo>
                  <a:pt x="365" y="167"/>
                </a:lnTo>
                <a:lnTo>
                  <a:pt x="332" y="171"/>
                </a:lnTo>
                <a:lnTo>
                  <a:pt x="271" y="176"/>
                </a:lnTo>
                <a:lnTo>
                  <a:pt x="206" y="180"/>
                </a:lnTo>
                <a:lnTo>
                  <a:pt x="173" y="182"/>
                </a:lnTo>
                <a:lnTo>
                  <a:pt x="138" y="184"/>
                </a:lnTo>
                <a:lnTo>
                  <a:pt x="106" y="184"/>
                </a:lnTo>
                <a:lnTo>
                  <a:pt x="71" y="186"/>
                </a:lnTo>
                <a:lnTo>
                  <a:pt x="37" y="186"/>
                </a:lnTo>
                <a:lnTo>
                  <a:pt x="0" y="186"/>
                </a:lnTo>
                <a:lnTo>
                  <a:pt x="0" y="152"/>
                </a:lnTo>
                <a:lnTo>
                  <a:pt x="0" y="117"/>
                </a:lnTo>
                <a:lnTo>
                  <a:pt x="35" y="109"/>
                </a:lnTo>
                <a:lnTo>
                  <a:pt x="69" y="102"/>
                </a:lnTo>
                <a:lnTo>
                  <a:pt x="102" y="94"/>
                </a:lnTo>
                <a:lnTo>
                  <a:pt x="135" y="86"/>
                </a:lnTo>
                <a:lnTo>
                  <a:pt x="165" y="80"/>
                </a:lnTo>
                <a:lnTo>
                  <a:pt x="196" y="75"/>
                </a:lnTo>
                <a:lnTo>
                  <a:pt x="225" y="69"/>
                </a:lnTo>
                <a:lnTo>
                  <a:pt x="254" y="63"/>
                </a:lnTo>
                <a:lnTo>
                  <a:pt x="280" y="57"/>
                </a:lnTo>
                <a:lnTo>
                  <a:pt x="305" y="52"/>
                </a:lnTo>
                <a:lnTo>
                  <a:pt x="330" y="48"/>
                </a:lnTo>
                <a:lnTo>
                  <a:pt x="353" y="42"/>
                </a:lnTo>
                <a:lnTo>
                  <a:pt x="376" y="38"/>
                </a:lnTo>
                <a:lnTo>
                  <a:pt x="398" y="34"/>
                </a:lnTo>
                <a:lnTo>
                  <a:pt x="419" y="31"/>
                </a:lnTo>
                <a:lnTo>
                  <a:pt x="438" y="27"/>
                </a:lnTo>
                <a:lnTo>
                  <a:pt x="455" y="23"/>
                </a:lnTo>
                <a:lnTo>
                  <a:pt x="472" y="19"/>
                </a:lnTo>
                <a:lnTo>
                  <a:pt x="488" y="17"/>
                </a:lnTo>
                <a:lnTo>
                  <a:pt x="503" y="13"/>
                </a:lnTo>
                <a:lnTo>
                  <a:pt x="517" y="11"/>
                </a:lnTo>
                <a:lnTo>
                  <a:pt x="530" y="9"/>
                </a:lnTo>
                <a:lnTo>
                  <a:pt x="542" y="8"/>
                </a:lnTo>
                <a:lnTo>
                  <a:pt x="553" y="6"/>
                </a:lnTo>
                <a:lnTo>
                  <a:pt x="563" y="4"/>
                </a:lnTo>
                <a:lnTo>
                  <a:pt x="570" y="2"/>
                </a:lnTo>
                <a:lnTo>
                  <a:pt x="578" y="2"/>
                </a:lnTo>
                <a:lnTo>
                  <a:pt x="584" y="0"/>
                </a:lnTo>
                <a:lnTo>
                  <a:pt x="590" y="0"/>
                </a:lnTo>
                <a:lnTo>
                  <a:pt x="593" y="0"/>
                </a:lnTo>
                <a:lnTo>
                  <a:pt x="595" y="0"/>
                </a:lnTo>
                <a:lnTo>
                  <a:pt x="597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110"/>
          <p:cNvSpPr/>
          <p:nvPr/>
        </p:nvSpPr>
        <p:spPr>
          <a:xfrm>
            <a:off x="6110280" y="3122640"/>
            <a:ext cx="1138320" cy="677880"/>
          </a:xfrm>
          <a:custGeom>
            <a:avLst/>
            <a:gdLst/>
            <a:ahLst/>
            <a:rect l="l" t="t" r="r" b="b"/>
            <a:pathLst>
              <a:path w="1434" h="854">
                <a:moveTo>
                  <a:pt x="0" y="234"/>
                </a:moveTo>
                <a:lnTo>
                  <a:pt x="44" y="232"/>
                </a:lnTo>
                <a:lnTo>
                  <a:pt x="90" y="228"/>
                </a:lnTo>
                <a:lnTo>
                  <a:pt x="135" y="224"/>
                </a:lnTo>
                <a:lnTo>
                  <a:pt x="177" y="220"/>
                </a:lnTo>
                <a:lnTo>
                  <a:pt x="221" y="216"/>
                </a:lnTo>
                <a:lnTo>
                  <a:pt x="265" y="211"/>
                </a:lnTo>
                <a:lnTo>
                  <a:pt x="307" y="205"/>
                </a:lnTo>
                <a:lnTo>
                  <a:pt x="350" y="199"/>
                </a:lnTo>
                <a:lnTo>
                  <a:pt x="392" y="192"/>
                </a:lnTo>
                <a:lnTo>
                  <a:pt x="434" y="186"/>
                </a:lnTo>
                <a:lnTo>
                  <a:pt x="476" y="176"/>
                </a:lnTo>
                <a:lnTo>
                  <a:pt x="519" y="168"/>
                </a:lnTo>
                <a:lnTo>
                  <a:pt x="559" y="159"/>
                </a:lnTo>
                <a:lnTo>
                  <a:pt x="599" y="149"/>
                </a:lnTo>
                <a:lnTo>
                  <a:pt x="641" y="140"/>
                </a:lnTo>
                <a:lnTo>
                  <a:pt x="682" y="128"/>
                </a:lnTo>
                <a:lnTo>
                  <a:pt x="701" y="124"/>
                </a:lnTo>
                <a:lnTo>
                  <a:pt x="720" y="119"/>
                </a:lnTo>
                <a:lnTo>
                  <a:pt x="739" y="115"/>
                </a:lnTo>
                <a:lnTo>
                  <a:pt x="757" y="111"/>
                </a:lnTo>
                <a:lnTo>
                  <a:pt x="776" y="107"/>
                </a:lnTo>
                <a:lnTo>
                  <a:pt x="791" y="103"/>
                </a:lnTo>
                <a:lnTo>
                  <a:pt x="808" y="99"/>
                </a:lnTo>
                <a:lnTo>
                  <a:pt x="824" y="96"/>
                </a:lnTo>
                <a:lnTo>
                  <a:pt x="839" y="92"/>
                </a:lnTo>
                <a:lnTo>
                  <a:pt x="854" y="88"/>
                </a:lnTo>
                <a:lnTo>
                  <a:pt x="870" y="84"/>
                </a:lnTo>
                <a:lnTo>
                  <a:pt x="883" y="80"/>
                </a:lnTo>
                <a:lnTo>
                  <a:pt x="897" y="76"/>
                </a:lnTo>
                <a:lnTo>
                  <a:pt x="908" y="73"/>
                </a:lnTo>
                <a:lnTo>
                  <a:pt x="920" y="71"/>
                </a:lnTo>
                <a:lnTo>
                  <a:pt x="931" y="67"/>
                </a:lnTo>
                <a:lnTo>
                  <a:pt x="943" y="63"/>
                </a:lnTo>
                <a:lnTo>
                  <a:pt x="952" y="61"/>
                </a:lnTo>
                <a:lnTo>
                  <a:pt x="964" y="57"/>
                </a:lnTo>
                <a:lnTo>
                  <a:pt x="972" y="53"/>
                </a:lnTo>
                <a:lnTo>
                  <a:pt x="981" y="51"/>
                </a:lnTo>
                <a:lnTo>
                  <a:pt x="989" y="48"/>
                </a:lnTo>
                <a:lnTo>
                  <a:pt x="996" y="46"/>
                </a:lnTo>
                <a:lnTo>
                  <a:pt x="1004" y="44"/>
                </a:lnTo>
                <a:lnTo>
                  <a:pt x="1010" y="40"/>
                </a:lnTo>
                <a:lnTo>
                  <a:pt x="1016" y="38"/>
                </a:lnTo>
                <a:lnTo>
                  <a:pt x="1021" y="34"/>
                </a:lnTo>
                <a:lnTo>
                  <a:pt x="1025" y="32"/>
                </a:lnTo>
                <a:lnTo>
                  <a:pt x="1031" y="30"/>
                </a:lnTo>
                <a:lnTo>
                  <a:pt x="1033" y="28"/>
                </a:lnTo>
                <a:lnTo>
                  <a:pt x="1037" y="25"/>
                </a:lnTo>
                <a:lnTo>
                  <a:pt x="1039" y="23"/>
                </a:lnTo>
                <a:lnTo>
                  <a:pt x="1058" y="15"/>
                </a:lnTo>
                <a:lnTo>
                  <a:pt x="1066" y="11"/>
                </a:lnTo>
                <a:lnTo>
                  <a:pt x="1075" y="7"/>
                </a:lnTo>
                <a:lnTo>
                  <a:pt x="1085" y="3"/>
                </a:lnTo>
                <a:lnTo>
                  <a:pt x="1092" y="1"/>
                </a:lnTo>
                <a:lnTo>
                  <a:pt x="1102" y="0"/>
                </a:lnTo>
                <a:lnTo>
                  <a:pt x="1112" y="0"/>
                </a:lnTo>
                <a:lnTo>
                  <a:pt x="1115" y="1"/>
                </a:lnTo>
                <a:lnTo>
                  <a:pt x="1121" y="5"/>
                </a:lnTo>
                <a:lnTo>
                  <a:pt x="1129" y="7"/>
                </a:lnTo>
                <a:lnTo>
                  <a:pt x="1135" y="11"/>
                </a:lnTo>
                <a:lnTo>
                  <a:pt x="1144" y="15"/>
                </a:lnTo>
                <a:lnTo>
                  <a:pt x="1152" y="19"/>
                </a:lnTo>
                <a:lnTo>
                  <a:pt x="1163" y="23"/>
                </a:lnTo>
                <a:lnTo>
                  <a:pt x="1173" y="26"/>
                </a:lnTo>
                <a:lnTo>
                  <a:pt x="1185" y="32"/>
                </a:lnTo>
                <a:lnTo>
                  <a:pt x="1198" y="38"/>
                </a:lnTo>
                <a:lnTo>
                  <a:pt x="1211" y="44"/>
                </a:lnTo>
                <a:lnTo>
                  <a:pt x="1225" y="51"/>
                </a:lnTo>
                <a:lnTo>
                  <a:pt x="1240" y="57"/>
                </a:lnTo>
                <a:lnTo>
                  <a:pt x="1256" y="65"/>
                </a:lnTo>
                <a:lnTo>
                  <a:pt x="1273" y="73"/>
                </a:lnTo>
                <a:lnTo>
                  <a:pt x="1290" y="82"/>
                </a:lnTo>
                <a:lnTo>
                  <a:pt x="1307" y="92"/>
                </a:lnTo>
                <a:lnTo>
                  <a:pt x="1323" y="103"/>
                </a:lnTo>
                <a:lnTo>
                  <a:pt x="1338" y="113"/>
                </a:lnTo>
                <a:lnTo>
                  <a:pt x="1353" y="122"/>
                </a:lnTo>
                <a:lnTo>
                  <a:pt x="1365" y="130"/>
                </a:lnTo>
                <a:lnTo>
                  <a:pt x="1377" y="138"/>
                </a:lnTo>
                <a:lnTo>
                  <a:pt x="1388" y="145"/>
                </a:lnTo>
                <a:lnTo>
                  <a:pt x="1398" y="153"/>
                </a:lnTo>
                <a:lnTo>
                  <a:pt x="1405" y="159"/>
                </a:lnTo>
                <a:lnTo>
                  <a:pt x="1413" y="165"/>
                </a:lnTo>
                <a:lnTo>
                  <a:pt x="1419" y="168"/>
                </a:lnTo>
                <a:lnTo>
                  <a:pt x="1424" y="174"/>
                </a:lnTo>
                <a:lnTo>
                  <a:pt x="1428" y="178"/>
                </a:lnTo>
                <a:lnTo>
                  <a:pt x="1430" y="182"/>
                </a:lnTo>
                <a:lnTo>
                  <a:pt x="1432" y="184"/>
                </a:lnTo>
                <a:lnTo>
                  <a:pt x="1434" y="188"/>
                </a:lnTo>
                <a:lnTo>
                  <a:pt x="1432" y="192"/>
                </a:lnTo>
                <a:lnTo>
                  <a:pt x="1432" y="195"/>
                </a:lnTo>
                <a:lnTo>
                  <a:pt x="1430" y="199"/>
                </a:lnTo>
                <a:lnTo>
                  <a:pt x="1428" y="205"/>
                </a:lnTo>
                <a:lnTo>
                  <a:pt x="1426" y="209"/>
                </a:lnTo>
                <a:lnTo>
                  <a:pt x="1423" y="213"/>
                </a:lnTo>
                <a:lnTo>
                  <a:pt x="1419" y="218"/>
                </a:lnTo>
                <a:lnTo>
                  <a:pt x="1415" y="222"/>
                </a:lnTo>
                <a:lnTo>
                  <a:pt x="1411" y="226"/>
                </a:lnTo>
                <a:lnTo>
                  <a:pt x="1405" y="230"/>
                </a:lnTo>
                <a:lnTo>
                  <a:pt x="1400" y="236"/>
                </a:lnTo>
                <a:lnTo>
                  <a:pt x="1394" y="240"/>
                </a:lnTo>
                <a:lnTo>
                  <a:pt x="1386" y="243"/>
                </a:lnTo>
                <a:lnTo>
                  <a:pt x="1378" y="249"/>
                </a:lnTo>
                <a:lnTo>
                  <a:pt x="1371" y="253"/>
                </a:lnTo>
                <a:lnTo>
                  <a:pt x="1361" y="257"/>
                </a:lnTo>
                <a:lnTo>
                  <a:pt x="1352" y="263"/>
                </a:lnTo>
                <a:lnTo>
                  <a:pt x="1342" y="270"/>
                </a:lnTo>
                <a:lnTo>
                  <a:pt x="1332" y="280"/>
                </a:lnTo>
                <a:lnTo>
                  <a:pt x="1321" y="289"/>
                </a:lnTo>
                <a:lnTo>
                  <a:pt x="1309" y="303"/>
                </a:lnTo>
                <a:lnTo>
                  <a:pt x="1298" y="318"/>
                </a:lnTo>
                <a:lnTo>
                  <a:pt x="1292" y="326"/>
                </a:lnTo>
                <a:lnTo>
                  <a:pt x="1286" y="335"/>
                </a:lnTo>
                <a:lnTo>
                  <a:pt x="1279" y="343"/>
                </a:lnTo>
                <a:lnTo>
                  <a:pt x="1273" y="353"/>
                </a:lnTo>
                <a:lnTo>
                  <a:pt x="1267" y="364"/>
                </a:lnTo>
                <a:lnTo>
                  <a:pt x="1259" y="374"/>
                </a:lnTo>
                <a:lnTo>
                  <a:pt x="1254" y="385"/>
                </a:lnTo>
                <a:lnTo>
                  <a:pt x="1246" y="397"/>
                </a:lnTo>
                <a:lnTo>
                  <a:pt x="1240" y="408"/>
                </a:lnTo>
                <a:lnTo>
                  <a:pt x="1233" y="422"/>
                </a:lnTo>
                <a:lnTo>
                  <a:pt x="1225" y="433"/>
                </a:lnTo>
                <a:lnTo>
                  <a:pt x="1219" y="447"/>
                </a:lnTo>
                <a:lnTo>
                  <a:pt x="1211" y="462"/>
                </a:lnTo>
                <a:lnTo>
                  <a:pt x="1204" y="476"/>
                </a:lnTo>
                <a:lnTo>
                  <a:pt x="1196" y="491"/>
                </a:lnTo>
                <a:lnTo>
                  <a:pt x="1188" y="506"/>
                </a:lnTo>
                <a:lnTo>
                  <a:pt x="1181" y="522"/>
                </a:lnTo>
                <a:lnTo>
                  <a:pt x="1173" y="539"/>
                </a:lnTo>
                <a:lnTo>
                  <a:pt x="1167" y="556"/>
                </a:lnTo>
                <a:lnTo>
                  <a:pt x="1160" y="574"/>
                </a:lnTo>
                <a:lnTo>
                  <a:pt x="1150" y="591"/>
                </a:lnTo>
                <a:lnTo>
                  <a:pt x="1142" y="608"/>
                </a:lnTo>
                <a:lnTo>
                  <a:pt x="1135" y="623"/>
                </a:lnTo>
                <a:lnTo>
                  <a:pt x="1127" y="639"/>
                </a:lnTo>
                <a:lnTo>
                  <a:pt x="1119" y="654"/>
                </a:lnTo>
                <a:lnTo>
                  <a:pt x="1112" y="669"/>
                </a:lnTo>
                <a:lnTo>
                  <a:pt x="1104" y="683"/>
                </a:lnTo>
                <a:lnTo>
                  <a:pt x="1094" y="696"/>
                </a:lnTo>
                <a:lnTo>
                  <a:pt x="1087" y="710"/>
                </a:lnTo>
                <a:lnTo>
                  <a:pt x="1079" y="721"/>
                </a:lnTo>
                <a:lnTo>
                  <a:pt x="1069" y="733"/>
                </a:lnTo>
                <a:lnTo>
                  <a:pt x="1062" y="744"/>
                </a:lnTo>
                <a:lnTo>
                  <a:pt x="1054" y="756"/>
                </a:lnTo>
                <a:lnTo>
                  <a:pt x="1044" y="765"/>
                </a:lnTo>
                <a:lnTo>
                  <a:pt x="1037" y="775"/>
                </a:lnTo>
                <a:lnTo>
                  <a:pt x="1027" y="785"/>
                </a:lnTo>
                <a:lnTo>
                  <a:pt x="1019" y="792"/>
                </a:lnTo>
                <a:lnTo>
                  <a:pt x="1012" y="800"/>
                </a:lnTo>
                <a:lnTo>
                  <a:pt x="1002" y="808"/>
                </a:lnTo>
                <a:lnTo>
                  <a:pt x="995" y="815"/>
                </a:lnTo>
                <a:lnTo>
                  <a:pt x="985" y="821"/>
                </a:lnTo>
                <a:lnTo>
                  <a:pt x="977" y="827"/>
                </a:lnTo>
                <a:lnTo>
                  <a:pt x="970" y="831"/>
                </a:lnTo>
                <a:lnTo>
                  <a:pt x="960" y="836"/>
                </a:lnTo>
                <a:lnTo>
                  <a:pt x="952" y="840"/>
                </a:lnTo>
                <a:lnTo>
                  <a:pt x="945" y="844"/>
                </a:lnTo>
                <a:lnTo>
                  <a:pt x="935" y="846"/>
                </a:lnTo>
                <a:lnTo>
                  <a:pt x="927" y="850"/>
                </a:lnTo>
                <a:lnTo>
                  <a:pt x="920" y="852"/>
                </a:lnTo>
                <a:lnTo>
                  <a:pt x="912" y="852"/>
                </a:lnTo>
                <a:lnTo>
                  <a:pt x="904" y="854"/>
                </a:lnTo>
                <a:lnTo>
                  <a:pt x="897" y="854"/>
                </a:lnTo>
                <a:lnTo>
                  <a:pt x="908" y="823"/>
                </a:lnTo>
                <a:lnTo>
                  <a:pt x="920" y="792"/>
                </a:lnTo>
                <a:lnTo>
                  <a:pt x="931" y="762"/>
                </a:lnTo>
                <a:lnTo>
                  <a:pt x="941" y="733"/>
                </a:lnTo>
                <a:lnTo>
                  <a:pt x="952" y="706"/>
                </a:lnTo>
                <a:lnTo>
                  <a:pt x="962" y="679"/>
                </a:lnTo>
                <a:lnTo>
                  <a:pt x="972" y="652"/>
                </a:lnTo>
                <a:lnTo>
                  <a:pt x="979" y="627"/>
                </a:lnTo>
                <a:lnTo>
                  <a:pt x="989" y="602"/>
                </a:lnTo>
                <a:lnTo>
                  <a:pt x="996" y="579"/>
                </a:lnTo>
                <a:lnTo>
                  <a:pt x="1006" y="558"/>
                </a:lnTo>
                <a:lnTo>
                  <a:pt x="1014" y="535"/>
                </a:lnTo>
                <a:lnTo>
                  <a:pt x="1019" y="516"/>
                </a:lnTo>
                <a:lnTo>
                  <a:pt x="1027" y="495"/>
                </a:lnTo>
                <a:lnTo>
                  <a:pt x="1033" y="478"/>
                </a:lnTo>
                <a:lnTo>
                  <a:pt x="1041" y="458"/>
                </a:lnTo>
                <a:lnTo>
                  <a:pt x="1046" y="441"/>
                </a:lnTo>
                <a:lnTo>
                  <a:pt x="1050" y="426"/>
                </a:lnTo>
                <a:lnTo>
                  <a:pt x="1056" y="410"/>
                </a:lnTo>
                <a:lnTo>
                  <a:pt x="1060" y="395"/>
                </a:lnTo>
                <a:lnTo>
                  <a:pt x="1066" y="382"/>
                </a:lnTo>
                <a:lnTo>
                  <a:pt x="1069" y="370"/>
                </a:lnTo>
                <a:lnTo>
                  <a:pt x="1073" y="359"/>
                </a:lnTo>
                <a:lnTo>
                  <a:pt x="1075" y="347"/>
                </a:lnTo>
                <a:lnTo>
                  <a:pt x="1079" y="337"/>
                </a:lnTo>
                <a:lnTo>
                  <a:pt x="1081" y="328"/>
                </a:lnTo>
                <a:lnTo>
                  <a:pt x="1083" y="320"/>
                </a:lnTo>
                <a:lnTo>
                  <a:pt x="1085" y="312"/>
                </a:lnTo>
                <a:lnTo>
                  <a:pt x="1085" y="307"/>
                </a:lnTo>
                <a:lnTo>
                  <a:pt x="1087" y="301"/>
                </a:lnTo>
                <a:lnTo>
                  <a:pt x="1087" y="295"/>
                </a:lnTo>
                <a:lnTo>
                  <a:pt x="1087" y="293"/>
                </a:lnTo>
                <a:lnTo>
                  <a:pt x="1087" y="280"/>
                </a:lnTo>
                <a:lnTo>
                  <a:pt x="1085" y="266"/>
                </a:lnTo>
                <a:lnTo>
                  <a:pt x="1083" y="253"/>
                </a:lnTo>
                <a:lnTo>
                  <a:pt x="1077" y="241"/>
                </a:lnTo>
                <a:lnTo>
                  <a:pt x="1073" y="230"/>
                </a:lnTo>
                <a:lnTo>
                  <a:pt x="1067" y="218"/>
                </a:lnTo>
                <a:lnTo>
                  <a:pt x="1060" y="209"/>
                </a:lnTo>
                <a:lnTo>
                  <a:pt x="1052" y="199"/>
                </a:lnTo>
                <a:lnTo>
                  <a:pt x="1033" y="190"/>
                </a:lnTo>
                <a:lnTo>
                  <a:pt x="1023" y="186"/>
                </a:lnTo>
                <a:lnTo>
                  <a:pt x="1014" y="182"/>
                </a:lnTo>
                <a:lnTo>
                  <a:pt x="1004" y="180"/>
                </a:lnTo>
                <a:lnTo>
                  <a:pt x="993" y="178"/>
                </a:lnTo>
                <a:lnTo>
                  <a:pt x="981" y="176"/>
                </a:lnTo>
                <a:lnTo>
                  <a:pt x="968" y="176"/>
                </a:lnTo>
                <a:lnTo>
                  <a:pt x="960" y="176"/>
                </a:lnTo>
                <a:lnTo>
                  <a:pt x="952" y="176"/>
                </a:lnTo>
                <a:lnTo>
                  <a:pt x="945" y="176"/>
                </a:lnTo>
                <a:lnTo>
                  <a:pt x="937" y="178"/>
                </a:lnTo>
                <a:lnTo>
                  <a:pt x="927" y="178"/>
                </a:lnTo>
                <a:lnTo>
                  <a:pt x="916" y="180"/>
                </a:lnTo>
                <a:lnTo>
                  <a:pt x="906" y="182"/>
                </a:lnTo>
                <a:lnTo>
                  <a:pt x="895" y="184"/>
                </a:lnTo>
                <a:lnTo>
                  <a:pt x="881" y="186"/>
                </a:lnTo>
                <a:lnTo>
                  <a:pt x="870" y="190"/>
                </a:lnTo>
                <a:lnTo>
                  <a:pt x="856" y="192"/>
                </a:lnTo>
                <a:lnTo>
                  <a:pt x="841" y="195"/>
                </a:lnTo>
                <a:lnTo>
                  <a:pt x="826" y="197"/>
                </a:lnTo>
                <a:lnTo>
                  <a:pt x="810" y="201"/>
                </a:lnTo>
                <a:lnTo>
                  <a:pt x="795" y="207"/>
                </a:lnTo>
                <a:lnTo>
                  <a:pt x="778" y="211"/>
                </a:lnTo>
                <a:lnTo>
                  <a:pt x="768" y="213"/>
                </a:lnTo>
                <a:lnTo>
                  <a:pt x="757" y="215"/>
                </a:lnTo>
                <a:lnTo>
                  <a:pt x="745" y="218"/>
                </a:lnTo>
                <a:lnTo>
                  <a:pt x="733" y="220"/>
                </a:lnTo>
                <a:lnTo>
                  <a:pt x="720" y="222"/>
                </a:lnTo>
                <a:lnTo>
                  <a:pt x="705" y="226"/>
                </a:lnTo>
                <a:lnTo>
                  <a:pt x="689" y="230"/>
                </a:lnTo>
                <a:lnTo>
                  <a:pt x="674" y="232"/>
                </a:lnTo>
                <a:lnTo>
                  <a:pt x="657" y="236"/>
                </a:lnTo>
                <a:lnTo>
                  <a:pt x="639" y="240"/>
                </a:lnTo>
                <a:lnTo>
                  <a:pt x="620" y="241"/>
                </a:lnTo>
                <a:lnTo>
                  <a:pt x="599" y="245"/>
                </a:lnTo>
                <a:lnTo>
                  <a:pt x="578" y="249"/>
                </a:lnTo>
                <a:lnTo>
                  <a:pt x="557" y="253"/>
                </a:lnTo>
                <a:lnTo>
                  <a:pt x="534" y="257"/>
                </a:lnTo>
                <a:lnTo>
                  <a:pt x="509" y="261"/>
                </a:lnTo>
                <a:lnTo>
                  <a:pt x="484" y="264"/>
                </a:lnTo>
                <a:lnTo>
                  <a:pt x="459" y="270"/>
                </a:lnTo>
                <a:lnTo>
                  <a:pt x="432" y="274"/>
                </a:lnTo>
                <a:lnTo>
                  <a:pt x="405" y="278"/>
                </a:lnTo>
                <a:lnTo>
                  <a:pt x="376" y="284"/>
                </a:lnTo>
                <a:lnTo>
                  <a:pt x="346" y="288"/>
                </a:lnTo>
                <a:lnTo>
                  <a:pt x="317" y="291"/>
                </a:lnTo>
                <a:lnTo>
                  <a:pt x="284" y="297"/>
                </a:lnTo>
                <a:lnTo>
                  <a:pt x="252" y="303"/>
                </a:lnTo>
                <a:lnTo>
                  <a:pt x="219" y="307"/>
                </a:lnTo>
                <a:lnTo>
                  <a:pt x="185" y="312"/>
                </a:lnTo>
                <a:lnTo>
                  <a:pt x="150" y="318"/>
                </a:lnTo>
                <a:lnTo>
                  <a:pt x="114" y="322"/>
                </a:lnTo>
                <a:lnTo>
                  <a:pt x="77" y="328"/>
                </a:lnTo>
                <a:lnTo>
                  <a:pt x="39" y="334"/>
                </a:lnTo>
                <a:lnTo>
                  <a:pt x="0" y="339"/>
                </a:lnTo>
                <a:lnTo>
                  <a:pt x="0" y="2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11"/>
          <p:cNvSpPr/>
          <p:nvPr/>
        </p:nvSpPr>
        <p:spPr>
          <a:xfrm>
            <a:off x="6156360" y="2784600"/>
            <a:ext cx="550800" cy="550800"/>
          </a:xfrm>
          <a:custGeom>
            <a:avLst/>
            <a:gdLst/>
            <a:ahLst/>
            <a:rect l="l" t="t" r="r" b="b"/>
            <a:pathLst>
              <a:path w="693" h="695">
                <a:moveTo>
                  <a:pt x="443" y="64"/>
                </a:moveTo>
                <a:lnTo>
                  <a:pt x="437" y="60"/>
                </a:lnTo>
                <a:lnTo>
                  <a:pt x="434" y="56"/>
                </a:lnTo>
                <a:lnTo>
                  <a:pt x="432" y="50"/>
                </a:lnTo>
                <a:lnTo>
                  <a:pt x="430" y="47"/>
                </a:lnTo>
                <a:lnTo>
                  <a:pt x="428" y="43"/>
                </a:lnTo>
                <a:lnTo>
                  <a:pt x="426" y="39"/>
                </a:lnTo>
                <a:lnTo>
                  <a:pt x="426" y="35"/>
                </a:lnTo>
                <a:lnTo>
                  <a:pt x="426" y="31"/>
                </a:lnTo>
                <a:lnTo>
                  <a:pt x="426" y="27"/>
                </a:lnTo>
                <a:lnTo>
                  <a:pt x="428" y="23"/>
                </a:lnTo>
                <a:lnTo>
                  <a:pt x="430" y="20"/>
                </a:lnTo>
                <a:lnTo>
                  <a:pt x="434" y="16"/>
                </a:lnTo>
                <a:lnTo>
                  <a:pt x="437" y="14"/>
                </a:lnTo>
                <a:lnTo>
                  <a:pt x="441" y="10"/>
                </a:lnTo>
                <a:lnTo>
                  <a:pt x="447" y="8"/>
                </a:lnTo>
                <a:lnTo>
                  <a:pt x="455" y="6"/>
                </a:lnTo>
                <a:lnTo>
                  <a:pt x="459" y="4"/>
                </a:lnTo>
                <a:lnTo>
                  <a:pt x="464" y="2"/>
                </a:lnTo>
                <a:lnTo>
                  <a:pt x="470" y="2"/>
                </a:lnTo>
                <a:lnTo>
                  <a:pt x="476" y="0"/>
                </a:lnTo>
                <a:lnTo>
                  <a:pt x="483" y="2"/>
                </a:lnTo>
                <a:lnTo>
                  <a:pt x="491" y="2"/>
                </a:lnTo>
                <a:lnTo>
                  <a:pt x="499" y="4"/>
                </a:lnTo>
                <a:lnTo>
                  <a:pt x="506" y="6"/>
                </a:lnTo>
                <a:lnTo>
                  <a:pt x="514" y="8"/>
                </a:lnTo>
                <a:lnTo>
                  <a:pt x="524" y="10"/>
                </a:lnTo>
                <a:lnTo>
                  <a:pt x="533" y="14"/>
                </a:lnTo>
                <a:lnTo>
                  <a:pt x="543" y="18"/>
                </a:lnTo>
                <a:lnTo>
                  <a:pt x="553" y="23"/>
                </a:lnTo>
                <a:lnTo>
                  <a:pt x="564" y="29"/>
                </a:lnTo>
                <a:lnTo>
                  <a:pt x="574" y="35"/>
                </a:lnTo>
                <a:lnTo>
                  <a:pt x="585" y="41"/>
                </a:lnTo>
                <a:lnTo>
                  <a:pt x="597" y="47"/>
                </a:lnTo>
                <a:lnTo>
                  <a:pt x="606" y="54"/>
                </a:lnTo>
                <a:lnTo>
                  <a:pt x="616" y="60"/>
                </a:lnTo>
                <a:lnTo>
                  <a:pt x="626" y="66"/>
                </a:lnTo>
                <a:lnTo>
                  <a:pt x="635" y="71"/>
                </a:lnTo>
                <a:lnTo>
                  <a:pt x="643" y="77"/>
                </a:lnTo>
                <a:lnTo>
                  <a:pt x="650" y="83"/>
                </a:lnTo>
                <a:lnTo>
                  <a:pt x="656" y="87"/>
                </a:lnTo>
                <a:lnTo>
                  <a:pt x="664" y="93"/>
                </a:lnTo>
                <a:lnTo>
                  <a:pt x="670" y="98"/>
                </a:lnTo>
                <a:lnTo>
                  <a:pt x="675" y="104"/>
                </a:lnTo>
                <a:lnTo>
                  <a:pt x="679" y="110"/>
                </a:lnTo>
                <a:lnTo>
                  <a:pt x="683" y="116"/>
                </a:lnTo>
                <a:lnTo>
                  <a:pt x="687" y="121"/>
                </a:lnTo>
                <a:lnTo>
                  <a:pt x="691" y="127"/>
                </a:lnTo>
                <a:lnTo>
                  <a:pt x="693" y="135"/>
                </a:lnTo>
                <a:lnTo>
                  <a:pt x="693" y="141"/>
                </a:lnTo>
                <a:lnTo>
                  <a:pt x="691" y="148"/>
                </a:lnTo>
                <a:lnTo>
                  <a:pt x="687" y="158"/>
                </a:lnTo>
                <a:lnTo>
                  <a:pt x="683" y="167"/>
                </a:lnTo>
                <a:lnTo>
                  <a:pt x="679" y="177"/>
                </a:lnTo>
                <a:lnTo>
                  <a:pt x="673" y="187"/>
                </a:lnTo>
                <a:lnTo>
                  <a:pt x="666" y="198"/>
                </a:lnTo>
                <a:lnTo>
                  <a:pt x="658" y="210"/>
                </a:lnTo>
                <a:lnTo>
                  <a:pt x="649" y="223"/>
                </a:lnTo>
                <a:lnTo>
                  <a:pt x="639" y="235"/>
                </a:lnTo>
                <a:lnTo>
                  <a:pt x="629" y="248"/>
                </a:lnTo>
                <a:lnTo>
                  <a:pt x="616" y="261"/>
                </a:lnTo>
                <a:lnTo>
                  <a:pt x="604" y="277"/>
                </a:lnTo>
                <a:lnTo>
                  <a:pt x="591" y="290"/>
                </a:lnTo>
                <a:lnTo>
                  <a:pt x="576" y="306"/>
                </a:lnTo>
                <a:lnTo>
                  <a:pt x="562" y="321"/>
                </a:lnTo>
                <a:lnTo>
                  <a:pt x="489" y="382"/>
                </a:lnTo>
                <a:lnTo>
                  <a:pt x="453" y="413"/>
                </a:lnTo>
                <a:lnTo>
                  <a:pt x="416" y="444"/>
                </a:lnTo>
                <a:lnTo>
                  <a:pt x="380" y="475"/>
                </a:lnTo>
                <a:lnTo>
                  <a:pt x="341" y="505"/>
                </a:lnTo>
                <a:lnTo>
                  <a:pt x="303" y="536"/>
                </a:lnTo>
                <a:lnTo>
                  <a:pt x="263" y="567"/>
                </a:lnTo>
                <a:lnTo>
                  <a:pt x="244" y="582"/>
                </a:lnTo>
                <a:lnTo>
                  <a:pt x="222" y="597"/>
                </a:lnTo>
                <a:lnTo>
                  <a:pt x="203" y="611"/>
                </a:lnTo>
                <a:lnTo>
                  <a:pt x="186" y="622"/>
                </a:lnTo>
                <a:lnTo>
                  <a:pt x="167" y="634"/>
                </a:lnTo>
                <a:lnTo>
                  <a:pt x="149" y="643"/>
                </a:lnTo>
                <a:lnTo>
                  <a:pt x="130" y="653"/>
                </a:lnTo>
                <a:lnTo>
                  <a:pt x="113" y="663"/>
                </a:lnTo>
                <a:lnTo>
                  <a:pt x="98" y="670"/>
                </a:lnTo>
                <a:lnTo>
                  <a:pt x="82" y="676"/>
                </a:lnTo>
                <a:lnTo>
                  <a:pt x="67" y="682"/>
                </a:lnTo>
                <a:lnTo>
                  <a:pt x="52" y="688"/>
                </a:lnTo>
                <a:lnTo>
                  <a:pt x="38" y="691"/>
                </a:lnTo>
                <a:lnTo>
                  <a:pt x="25" y="693"/>
                </a:lnTo>
                <a:lnTo>
                  <a:pt x="11" y="695"/>
                </a:lnTo>
                <a:lnTo>
                  <a:pt x="0" y="695"/>
                </a:lnTo>
                <a:lnTo>
                  <a:pt x="21" y="672"/>
                </a:lnTo>
                <a:lnTo>
                  <a:pt x="42" y="651"/>
                </a:lnTo>
                <a:lnTo>
                  <a:pt x="61" y="628"/>
                </a:lnTo>
                <a:lnTo>
                  <a:pt x="80" y="607"/>
                </a:lnTo>
                <a:lnTo>
                  <a:pt x="100" y="586"/>
                </a:lnTo>
                <a:lnTo>
                  <a:pt x="119" y="565"/>
                </a:lnTo>
                <a:lnTo>
                  <a:pt x="136" y="546"/>
                </a:lnTo>
                <a:lnTo>
                  <a:pt x="153" y="526"/>
                </a:lnTo>
                <a:lnTo>
                  <a:pt x="171" y="507"/>
                </a:lnTo>
                <a:lnTo>
                  <a:pt x="188" y="488"/>
                </a:lnTo>
                <a:lnTo>
                  <a:pt x="203" y="471"/>
                </a:lnTo>
                <a:lnTo>
                  <a:pt x="219" y="453"/>
                </a:lnTo>
                <a:lnTo>
                  <a:pt x="234" y="436"/>
                </a:lnTo>
                <a:lnTo>
                  <a:pt x="249" y="419"/>
                </a:lnTo>
                <a:lnTo>
                  <a:pt x="263" y="404"/>
                </a:lnTo>
                <a:lnTo>
                  <a:pt x="276" y="388"/>
                </a:lnTo>
                <a:lnTo>
                  <a:pt x="290" y="373"/>
                </a:lnTo>
                <a:lnTo>
                  <a:pt x="301" y="359"/>
                </a:lnTo>
                <a:lnTo>
                  <a:pt x="313" y="344"/>
                </a:lnTo>
                <a:lnTo>
                  <a:pt x="324" y="331"/>
                </a:lnTo>
                <a:lnTo>
                  <a:pt x="336" y="317"/>
                </a:lnTo>
                <a:lnTo>
                  <a:pt x="345" y="306"/>
                </a:lnTo>
                <a:lnTo>
                  <a:pt x="355" y="292"/>
                </a:lnTo>
                <a:lnTo>
                  <a:pt x="364" y="281"/>
                </a:lnTo>
                <a:lnTo>
                  <a:pt x="374" y="269"/>
                </a:lnTo>
                <a:lnTo>
                  <a:pt x="382" y="260"/>
                </a:lnTo>
                <a:lnTo>
                  <a:pt x="389" y="248"/>
                </a:lnTo>
                <a:lnTo>
                  <a:pt x="395" y="238"/>
                </a:lnTo>
                <a:lnTo>
                  <a:pt x="403" y="229"/>
                </a:lnTo>
                <a:lnTo>
                  <a:pt x="409" y="221"/>
                </a:lnTo>
                <a:lnTo>
                  <a:pt x="414" y="212"/>
                </a:lnTo>
                <a:lnTo>
                  <a:pt x="418" y="204"/>
                </a:lnTo>
                <a:lnTo>
                  <a:pt x="426" y="192"/>
                </a:lnTo>
                <a:lnTo>
                  <a:pt x="434" y="179"/>
                </a:lnTo>
                <a:lnTo>
                  <a:pt x="441" y="167"/>
                </a:lnTo>
                <a:lnTo>
                  <a:pt x="447" y="156"/>
                </a:lnTo>
                <a:lnTo>
                  <a:pt x="453" y="146"/>
                </a:lnTo>
                <a:lnTo>
                  <a:pt x="457" y="135"/>
                </a:lnTo>
                <a:lnTo>
                  <a:pt x="459" y="125"/>
                </a:lnTo>
                <a:lnTo>
                  <a:pt x="460" y="118"/>
                </a:lnTo>
                <a:lnTo>
                  <a:pt x="462" y="108"/>
                </a:lnTo>
                <a:lnTo>
                  <a:pt x="462" y="100"/>
                </a:lnTo>
                <a:lnTo>
                  <a:pt x="462" y="93"/>
                </a:lnTo>
                <a:lnTo>
                  <a:pt x="460" y="87"/>
                </a:lnTo>
                <a:lnTo>
                  <a:pt x="457" y="79"/>
                </a:lnTo>
                <a:lnTo>
                  <a:pt x="453" y="73"/>
                </a:lnTo>
                <a:lnTo>
                  <a:pt x="449" y="70"/>
                </a:lnTo>
                <a:lnTo>
                  <a:pt x="443" y="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3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右两部分横间距相当，右边末横稍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矩形 3"/>
          <p:cNvSpPr/>
          <p:nvPr/>
        </p:nvSpPr>
        <p:spPr>
          <a:xfrm>
            <a:off x="2171880" y="1868400"/>
            <a:ext cx="122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à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84"/>
          <p:cNvSpPr/>
          <p:nvPr/>
        </p:nvSpPr>
        <p:spPr>
          <a:xfrm>
            <a:off x="6939000" y="3005280"/>
            <a:ext cx="156960" cy="2062080"/>
          </a:xfrm>
          <a:custGeom>
            <a:avLst/>
            <a:gdLst/>
            <a:ahLst/>
            <a:rect l="l" t="t" r="r" b="b"/>
            <a:pathLst>
              <a:path w="198" h="2597">
                <a:moveTo>
                  <a:pt x="142" y="2470"/>
                </a:moveTo>
                <a:lnTo>
                  <a:pt x="140" y="2488"/>
                </a:lnTo>
                <a:lnTo>
                  <a:pt x="138" y="2501"/>
                </a:lnTo>
                <a:lnTo>
                  <a:pt x="134" y="2516"/>
                </a:lnTo>
                <a:lnTo>
                  <a:pt x="132" y="2528"/>
                </a:lnTo>
                <a:lnTo>
                  <a:pt x="128" y="2539"/>
                </a:lnTo>
                <a:lnTo>
                  <a:pt x="125" y="2549"/>
                </a:lnTo>
                <a:lnTo>
                  <a:pt x="123" y="2559"/>
                </a:lnTo>
                <a:lnTo>
                  <a:pt x="119" y="2568"/>
                </a:lnTo>
                <a:lnTo>
                  <a:pt x="115" y="2574"/>
                </a:lnTo>
                <a:lnTo>
                  <a:pt x="111" y="2582"/>
                </a:lnTo>
                <a:lnTo>
                  <a:pt x="109" y="2586"/>
                </a:lnTo>
                <a:lnTo>
                  <a:pt x="105" y="2589"/>
                </a:lnTo>
                <a:lnTo>
                  <a:pt x="103" y="2593"/>
                </a:lnTo>
                <a:lnTo>
                  <a:pt x="100" y="2595"/>
                </a:lnTo>
                <a:lnTo>
                  <a:pt x="98" y="2597"/>
                </a:lnTo>
                <a:lnTo>
                  <a:pt x="96" y="2597"/>
                </a:lnTo>
                <a:lnTo>
                  <a:pt x="92" y="2597"/>
                </a:lnTo>
                <a:lnTo>
                  <a:pt x="90" y="2595"/>
                </a:lnTo>
                <a:lnTo>
                  <a:pt x="86" y="2593"/>
                </a:lnTo>
                <a:lnTo>
                  <a:pt x="84" y="2587"/>
                </a:lnTo>
                <a:lnTo>
                  <a:pt x="80" y="2584"/>
                </a:lnTo>
                <a:lnTo>
                  <a:pt x="77" y="2576"/>
                </a:lnTo>
                <a:lnTo>
                  <a:pt x="73" y="2570"/>
                </a:lnTo>
                <a:lnTo>
                  <a:pt x="69" y="2561"/>
                </a:lnTo>
                <a:lnTo>
                  <a:pt x="65" y="2551"/>
                </a:lnTo>
                <a:lnTo>
                  <a:pt x="61" y="2541"/>
                </a:lnTo>
                <a:lnTo>
                  <a:pt x="57" y="2530"/>
                </a:lnTo>
                <a:lnTo>
                  <a:pt x="54" y="2516"/>
                </a:lnTo>
                <a:lnTo>
                  <a:pt x="50" y="2503"/>
                </a:lnTo>
                <a:lnTo>
                  <a:pt x="44" y="2490"/>
                </a:lnTo>
                <a:lnTo>
                  <a:pt x="40" y="2474"/>
                </a:lnTo>
                <a:lnTo>
                  <a:pt x="36" y="2459"/>
                </a:lnTo>
                <a:lnTo>
                  <a:pt x="27" y="2426"/>
                </a:lnTo>
                <a:lnTo>
                  <a:pt x="21" y="2394"/>
                </a:lnTo>
                <a:lnTo>
                  <a:pt x="17" y="2380"/>
                </a:lnTo>
                <a:lnTo>
                  <a:pt x="13" y="2365"/>
                </a:lnTo>
                <a:lnTo>
                  <a:pt x="11" y="2351"/>
                </a:lnTo>
                <a:lnTo>
                  <a:pt x="9" y="2338"/>
                </a:lnTo>
                <a:lnTo>
                  <a:pt x="7" y="2324"/>
                </a:lnTo>
                <a:lnTo>
                  <a:pt x="6" y="2313"/>
                </a:lnTo>
                <a:lnTo>
                  <a:pt x="4" y="2301"/>
                </a:lnTo>
                <a:lnTo>
                  <a:pt x="2" y="2290"/>
                </a:lnTo>
                <a:lnTo>
                  <a:pt x="2" y="2280"/>
                </a:lnTo>
                <a:lnTo>
                  <a:pt x="0" y="2271"/>
                </a:lnTo>
                <a:lnTo>
                  <a:pt x="0" y="2263"/>
                </a:lnTo>
                <a:lnTo>
                  <a:pt x="0" y="2255"/>
                </a:lnTo>
                <a:lnTo>
                  <a:pt x="0" y="2248"/>
                </a:lnTo>
                <a:lnTo>
                  <a:pt x="0" y="2238"/>
                </a:lnTo>
                <a:lnTo>
                  <a:pt x="2" y="2227"/>
                </a:lnTo>
                <a:lnTo>
                  <a:pt x="2" y="2215"/>
                </a:lnTo>
                <a:lnTo>
                  <a:pt x="4" y="2202"/>
                </a:lnTo>
                <a:lnTo>
                  <a:pt x="4" y="2186"/>
                </a:lnTo>
                <a:lnTo>
                  <a:pt x="6" y="2171"/>
                </a:lnTo>
                <a:lnTo>
                  <a:pt x="7" y="2154"/>
                </a:lnTo>
                <a:lnTo>
                  <a:pt x="9" y="2136"/>
                </a:lnTo>
                <a:lnTo>
                  <a:pt x="11" y="2115"/>
                </a:lnTo>
                <a:lnTo>
                  <a:pt x="13" y="2096"/>
                </a:lnTo>
                <a:lnTo>
                  <a:pt x="15" y="2073"/>
                </a:lnTo>
                <a:lnTo>
                  <a:pt x="17" y="2050"/>
                </a:lnTo>
                <a:lnTo>
                  <a:pt x="19" y="2027"/>
                </a:lnTo>
                <a:lnTo>
                  <a:pt x="21" y="2002"/>
                </a:lnTo>
                <a:lnTo>
                  <a:pt x="25" y="1977"/>
                </a:lnTo>
                <a:lnTo>
                  <a:pt x="25" y="1964"/>
                </a:lnTo>
                <a:lnTo>
                  <a:pt x="27" y="1948"/>
                </a:lnTo>
                <a:lnTo>
                  <a:pt x="27" y="1933"/>
                </a:lnTo>
                <a:lnTo>
                  <a:pt x="29" y="1916"/>
                </a:lnTo>
                <a:lnTo>
                  <a:pt x="29" y="1896"/>
                </a:lnTo>
                <a:lnTo>
                  <a:pt x="29" y="1877"/>
                </a:lnTo>
                <a:lnTo>
                  <a:pt x="31" y="1858"/>
                </a:lnTo>
                <a:lnTo>
                  <a:pt x="31" y="1837"/>
                </a:lnTo>
                <a:lnTo>
                  <a:pt x="31" y="1814"/>
                </a:lnTo>
                <a:lnTo>
                  <a:pt x="32" y="1791"/>
                </a:lnTo>
                <a:lnTo>
                  <a:pt x="32" y="1766"/>
                </a:lnTo>
                <a:lnTo>
                  <a:pt x="32" y="1741"/>
                </a:lnTo>
                <a:lnTo>
                  <a:pt x="32" y="1714"/>
                </a:lnTo>
                <a:lnTo>
                  <a:pt x="34" y="1685"/>
                </a:lnTo>
                <a:lnTo>
                  <a:pt x="34" y="1657"/>
                </a:lnTo>
                <a:lnTo>
                  <a:pt x="34" y="1626"/>
                </a:lnTo>
                <a:lnTo>
                  <a:pt x="34" y="1595"/>
                </a:lnTo>
                <a:lnTo>
                  <a:pt x="34" y="1562"/>
                </a:lnTo>
                <a:lnTo>
                  <a:pt x="34" y="1530"/>
                </a:lnTo>
                <a:lnTo>
                  <a:pt x="34" y="1495"/>
                </a:lnTo>
                <a:lnTo>
                  <a:pt x="34" y="1461"/>
                </a:lnTo>
                <a:lnTo>
                  <a:pt x="36" y="1424"/>
                </a:lnTo>
                <a:lnTo>
                  <a:pt x="36" y="1386"/>
                </a:lnTo>
                <a:lnTo>
                  <a:pt x="36" y="1348"/>
                </a:lnTo>
                <a:lnTo>
                  <a:pt x="36" y="1307"/>
                </a:lnTo>
                <a:lnTo>
                  <a:pt x="36" y="1267"/>
                </a:lnTo>
                <a:lnTo>
                  <a:pt x="36" y="1225"/>
                </a:lnTo>
                <a:lnTo>
                  <a:pt x="36" y="1182"/>
                </a:lnTo>
                <a:lnTo>
                  <a:pt x="36" y="1138"/>
                </a:lnTo>
                <a:lnTo>
                  <a:pt x="36" y="1094"/>
                </a:lnTo>
                <a:lnTo>
                  <a:pt x="36" y="1048"/>
                </a:lnTo>
                <a:lnTo>
                  <a:pt x="36" y="1002"/>
                </a:lnTo>
                <a:lnTo>
                  <a:pt x="36" y="954"/>
                </a:lnTo>
                <a:lnTo>
                  <a:pt x="36" y="908"/>
                </a:lnTo>
                <a:lnTo>
                  <a:pt x="36" y="864"/>
                </a:lnTo>
                <a:lnTo>
                  <a:pt x="36" y="822"/>
                </a:lnTo>
                <a:lnTo>
                  <a:pt x="36" y="779"/>
                </a:lnTo>
                <a:lnTo>
                  <a:pt x="36" y="739"/>
                </a:lnTo>
                <a:lnTo>
                  <a:pt x="36" y="701"/>
                </a:lnTo>
                <a:lnTo>
                  <a:pt x="36" y="664"/>
                </a:lnTo>
                <a:lnTo>
                  <a:pt x="36" y="628"/>
                </a:lnTo>
                <a:lnTo>
                  <a:pt x="36" y="593"/>
                </a:lnTo>
                <a:lnTo>
                  <a:pt x="34" y="559"/>
                </a:lnTo>
                <a:lnTo>
                  <a:pt x="34" y="526"/>
                </a:lnTo>
                <a:lnTo>
                  <a:pt x="34" y="495"/>
                </a:lnTo>
                <a:lnTo>
                  <a:pt x="34" y="466"/>
                </a:lnTo>
                <a:lnTo>
                  <a:pt x="34" y="438"/>
                </a:lnTo>
                <a:lnTo>
                  <a:pt x="34" y="411"/>
                </a:lnTo>
                <a:lnTo>
                  <a:pt x="34" y="386"/>
                </a:lnTo>
                <a:lnTo>
                  <a:pt x="34" y="363"/>
                </a:lnTo>
                <a:lnTo>
                  <a:pt x="32" y="340"/>
                </a:lnTo>
                <a:lnTo>
                  <a:pt x="32" y="319"/>
                </a:lnTo>
                <a:lnTo>
                  <a:pt x="32" y="298"/>
                </a:lnTo>
                <a:lnTo>
                  <a:pt x="32" y="278"/>
                </a:lnTo>
                <a:lnTo>
                  <a:pt x="31" y="261"/>
                </a:lnTo>
                <a:lnTo>
                  <a:pt x="31" y="246"/>
                </a:lnTo>
                <a:lnTo>
                  <a:pt x="31" y="230"/>
                </a:lnTo>
                <a:lnTo>
                  <a:pt x="29" y="217"/>
                </a:lnTo>
                <a:lnTo>
                  <a:pt x="29" y="205"/>
                </a:lnTo>
                <a:lnTo>
                  <a:pt x="29" y="194"/>
                </a:lnTo>
                <a:lnTo>
                  <a:pt x="27" y="184"/>
                </a:lnTo>
                <a:lnTo>
                  <a:pt x="27" y="177"/>
                </a:lnTo>
                <a:lnTo>
                  <a:pt x="25" y="171"/>
                </a:lnTo>
                <a:lnTo>
                  <a:pt x="25" y="165"/>
                </a:lnTo>
                <a:lnTo>
                  <a:pt x="21" y="157"/>
                </a:lnTo>
                <a:lnTo>
                  <a:pt x="19" y="150"/>
                </a:lnTo>
                <a:lnTo>
                  <a:pt x="17" y="140"/>
                </a:lnTo>
                <a:lnTo>
                  <a:pt x="15" y="133"/>
                </a:lnTo>
                <a:lnTo>
                  <a:pt x="11" y="111"/>
                </a:lnTo>
                <a:lnTo>
                  <a:pt x="7" y="92"/>
                </a:lnTo>
                <a:lnTo>
                  <a:pt x="4" y="69"/>
                </a:lnTo>
                <a:lnTo>
                  <a:pt x="2" y="46"/>
                </a:lnTo>
                <a:lnTo>
                  <a:pt x="0" y="23"/>
                </a:lnTo>
                <a:lnTo>
                  <a:pt x="0" y="0"/>
                </a:lnTo>
                <a:lnTo>
                  <a:pt x="94" y="0"/>
                </a:lnTo>
                <a:lnTo>
                  <a:pt x="190" y="0"/>
                </a:lnTo>
                <a:lnTo>
                  <a:pt x="190" y="129"/>
                </a:lnTo>
                <a:lnTo>
                  <a:pt x="192" y="253"/>
                </a:lnTo>
                <a:lnTo>
                  <a:pt x="192" y="374"/>
                </a:lnTo>
                <a:lnTo>
                  <a:pt x="194" y="491"/>
                </a:lnTo>
                <a:lnTo>
                  <a:pt x="194" y="605"/>
                </a:lnTo>
                <a:lnTo>
                  <a:pt x="196" y="714"/>
                </a:lnTo>
                <a:lnTo>
                  <a:pt x="196" y="820"/>
                </a:lnTo>
                <a:lnTo>
                  <a:pt x="196" y="921"/>
                </a:lnTo>
                <a:lnTo>
                  <a:pt x="196" y="1019"/>
                </a:lnTo>
                <a:lnTo>
                  <a:pt x="198" y="1113"/>
                </a:lnTo>
                <a:lnTo>
                  <a:pt x="198" y="1204"/>
                </a:lnTo>
                <a:lnTo>
                  <a:pt x="198" y="1290"/>
                </a:lnTo>
                <a:lnTo>
                  <a:pt x="198" y="1372"/>
                </a:lnTo>
                <a:lnTo>
                  <a:pt x="198" y="1451"/>
                </a:lnTo>
                <a:lnTo>
                  <a:pt x="198" y="1526"/>
                </a:lnTo>
                <a:lnTo>
                  <a:pt x="198" y="1597"/>
                </a:lnTo>
                <a:lnTo>
                  <a:pt x="198" y="1664"/>
                </a:lnTo>
                <a:lnTo>
                  <a:pt x="198" y="1726"/>
                </a:lnTo>
                <a:lnTo>
                  <a:pt x="198" y="1785"/>
                </a:lnTo>
                <a:lnTo>
                  <a:pt x="198" y="1841"/>
                </a:lnTo>
                <a:lnTo>
                  <a:pt x="198" y="1893"/>
                </a:lnTo>
                <a:lnTo>
                  <a:pt x="198" y="1941"/>
                </a:lnTo>
                <a:lnTo>
                  <a:pt x="196" y="1985"/>
                </a:lnTo>
                <a:lnTo>
                  <a:pt x="196" y="2023"/>
                </a:lnTo>
                <a:lnTo>
                  <a:pt x="196" y="2060"/>
                </a:lnTo>
                <a:lnTo>
                  <a:pt x="196" y="2092"/>
                </a:lnTo>
                <a:lnTo>
                  <a:pt x="194" y="2121"/>
                </a:lnTo>
                <a:lnTo>
                  <a:pt x="194" y="2146"/>
                </a:lnTo>
                <a:lnTo>
                  <a:pt x="192" y="2165"/>
                </a:lnTo>
                <a:lnTo>
                  <a:pt x="192" y="2182"/>
                </a:lnTo>
                <a:lnTo>
                  <a:pt x="190" y="2196"/>
                </a:lnTo>
                <a:lnTo>
                  <a:pt x="190" y="2205"/>
                </a:lnTo>
                <a:lnTo>
                  <a:pt x="180" y="2271"/>
                </a:lnTo>
                <a:lnTo>
                  <a:pt x="176" y="2305"/>
                </a:lnTo>
                <a:lnTo>
                  <a:pt x="171" y="2338"/>
                </a:lnTo>
                <a:lnTo>
                  <a:pt x="165" y="2371"/>
                </a:lnTo>
                <a:lnTo>
                  <a:pt x="157" y="2405"/>
                </a:lnTo>
                <a:lnTo>
                  <a:pt x="151" y="2438"/>
                </a:lnTo>
                <a:lnTo>
                  <a:pt x="142" y="247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85"/>
          <p:cNvSpPr/>
          <p:nvPr/>
        </p:nvSpPr>
        <p:spPr>
          <a:xfrm>
            <a:off x="6348240" y="3859200"/>
            <a:ext cx="1400400" cy="312840"/>
          </a:xfrm>
          <a:custGeom>
            <a:avLst/>
            <a:gdLst/>
            <a:ahLst/>
            <a:rect l="l" t="t" r="r" b="b"/>
            <a:pathLst>
              <a:path w="1764" h="393">
                <a:moveTo>
                  <a:pt x="58" y="355"/>
                </a:moveTo>
                <a:lnTo>
                  <a:pt x="46" y="342"/>
                </a:lnTo>
                <a:lnTo>
                  <a:pt x="35" y="328"/>
                </a:lnTo>
                <a:lnTo>
                  <a:pt x="25" y="317"/>
                </a:lnTo>
                <a:lnTo>
                  <a:pt x="15" y="307"/>
                </a:lnTo>
                <a:lnTo>
                  <a:pt x="8" y="297"/>
                </a:lnTo>
                <a:lnTo>
                  <a:pt x="6" y="294"/>
                </a:lnTo>
                <a:lnTo>
                  <a:pt x="4" y="290"/>
                </a:lnTo>
                <a:lnTo>
                  <a:pt x="2" y="288"/>
                </a:lnTo>
                <a:lnTo>
                  <a:pt x="0" y="284"/>
                </a:lnTo>
                <a:lnTo>
                  <a:pt x="0" y="282"/>
                </a:lnTo>
                <a:lnTo>
                  <a:pt x="0" y="278"/>
                </a:lnTo>
                <a:lnTo>
                  <a:pt x="0" y="276"/>
                </a:lnTo>
                <a:lnTo>
                  <a:pt x="2" y="274"/>
                </a:lnTo>
                <a:lnTo>
                  <a:pt x="4" y="274"/>
                </a:lnTo>
                <a:lnTo>
                  <a:pt x="8" y="272"/>
                </a:lnTo>
                <a:lnTo>
                  <a:pt x="12" y="271"/>
                </a:lnTo>
                <a:lnTo>
                  <a:pt x="15" y="269"/>
                </a:lnTo>
                <a:lnTo>
                  <a:pt x="21" y="267"/>
                </a:lnTo>
                <a:lnTo>
                  <a:pt x="27" y="265"/>
                </a:lnTo>
                <a:lnTo>
                  <a:pt x="35" y="263"/>
                </a:lnTo>
                <a:lnTo>
                  <a:pt x="42" y="261"/>
                </a:lnTo>
                <a:lnTo>
                  <a:pt x="50" y="259"/>
                </a:lnTo>
                <a:lnTo>
                  <a:pt x="58" y="257"/>
                </a:lnTo>
                <a:lnTo>
                  <a:pt x="67" y="255"/>
                </a:lnTo>
                <a:lnTo>
                  <a:pt x="79" y="253"/>
                </a:lnTo>
                <a:lnTo>
                  <a:pt x="90" y="251"/>
                </a:lnTo>
                <a:lnTo>
                  <a:pt x="102" y="247"/>
                </a:lnTo>
                <a:lnTo>
                  <a:pt x="113" y="246"/>
                </a:lnTo>
                <a:lnTo>
                  <a:pt x="127" y="244"/>
                </a:lnTo>
                <a:lnTo>
                  <a:pt x="140" y="240"/>
                </a:lnTo>
                <a:lnTo>
                  <a:pt x="156" y="238"/>
                </a:lnTo>
                <a:lnTo>
                  <a:pt x="171" y="234"/>
                </a:lnTo>
                <a:lnTo>
                  <a:pt x="186" y="232"/>
                </a:lnTo>
                <a:lnTo>
                  <a:pt x="204" y="228"/>
                </a:lnTo>
                <a:lnTo>
                  <a:pt x="221" y="226"/>
                </a:lnTo>
                <a:lnTo>
                  <a:pt x="240" y="223"/>
                </a:lnTo>
                <a:lnTo>
                  <a:pt x="259" y="219"/>
                </a:lnTo>
                <a:lnTo>
                  <a:pt x="278" y="217"/>
                </a:lnTo>
                <a:lnTo>
                  <a:pt x="299" y="213"/>
                </a:lnTo>
                <a:lnTo>
                  <a:pt x="321" y="209"/>
                </a:lnTo>
                <a:lnTo>
                  <a:pt x="344" y="205"/>
                </a:lnTo>
                <a:lnTo>
                  <a:pt x="367" y="203"/>
                </a:lnTo>
                <a:lnTo>
                  <a:pt x="455" y="188"/>
                </a:lnTo>
                <a:lnTo>
                  <a:pt x="543" y="173"/>
                </a:lnTo>
                <a:lnTo>
                  <a:pt x="633" y="155"/>
                </a:lnTo>
                <a:lnTo>
                  <a:pt x="722" y="138"/>
                </a:lnTo>
                <a:lnTo>
                  <a:pt x="810" y="121"/>
                </a:lnTo>
                <a:lnTo>
                  <a:pt x="898" y="102"/>
                </a:lnTo>
                <a:lnTo>
                  <a:pt x="1077" y="63"/>
                </a:lnTo>
                <a:lnTo>
                  <a:pt x="1117" y="56"/>
                </a:lnTo>
                <a:lnTo>
                  <a:pt x="1157" y="50"/>
                </a:lnTo>
                <a:lnTo>
                  <a:pt x="1196" y="42"/>
                </a:lnTo>
                <a:lnTo>
                  <a:pt x="1232" y="36"/>
                </a:lnTo>
                <a:lnTo>
                  <a:pt x="1267" y="31"/>
                </a:lnTo>
                <a:lnTo>
                  <a:pt x="1300" y="27"/>
                </a:lnTo>
                <a:lnTo>
                  <a:pt x="1330" y="21"/>
                </a:lnTo>
                <a:lnTo>
                  <a:pt x="1361" y="17"/>
                </a:lnTo>
                <a:lnTo>
                  <a:pt x="1390" y="13"/>
                </a:lnTo>
                <a:lnTo>
                  <a:pt x="1415" y="9"/>
                </a:lnTo>
                <a:lnTo>
                  <a:pt x="1440" y="8"/>
                </a:lnTo>
                <a:lnTo>
                  <a:pt x="1463" y="4"/>
                </a:lnTo>
                <a:lnTo>
                  <a:pt x="1484" y="2"/>
                </a:lnTo>
                <a:lnTo>
                  <a:pt x="1505" y="2"/>
                </a:lnTo>
                <a:lnTo>
                  <a:pt x="1522" y="0"/>
                </a:lnTo>
                <a:lnTo>
                  <a:pt x="1539" y="0"/>
                </a:lnTo>
                <a:lnTo>
                  <a:pt x="1551" y="0"/>
                </a:lnTo>
                <a:lnTo>
                  <a:pt x="1564" y="2"/>
                </a:lnTo>
                <a:lnTo>
                  <a:pt x="1578" y="2"/>
                </a:lnTo>
                <a:lnTo>
                  <a:pt x="1589" y="4"/>
                </a:lnTo>
                <a:lnTo>
                  <a:pt x="1601" y="8"/>
                </a:lnTo>
                <a:lnTo>
                  <a:pt x="1612" y="11"/>
                </a:lnTo>
                <a:lnTo>
                  <a:pt x="1624" y="15"/>
                </a:lnTo>
                <a:lnTo>
                  <a:pt x="1635" y="19"/>
                </a:lnTo>
                <a:lnTo>
                  <a:pt x="1645" y="23"/>
                </a:lnTo>
                <a:lnTo>
                  <a:pt x="1655" y="29"/>
                </a:lnTo>
                <a:lnTo>
                  <a:pt x="1664" y="36"/>
                </a:lnTo>
                <a:lnTo>
                  <a:pt x="1674" y="42"/>
                </a:lnTo>
                <a:lnTo>
                  <a:pt x="1682" y="50"/>
                </a:lnTo>
                <a:lnTo>
                  <a:pt x="1689" y="57"/>
                </a:lnTo>
                <a:lnTo>
                  <a:pt x="1697" y="67"/>
                </a:lnTo>
                <a:lnTo>
                  <a:pt x="1705" y="77"/>
                </a:lnTo>
                <a:lnTo>
                  <a:pt x="1710" y="88"/>
                </a:lnTo>
                <a:lnTo>
                  <a:pt x="1716" y="98"/>
                </a:lnTo>
                <a:lnTo>
                  <a:pt x="1722" y="107"/>
                </a:lnTo>
                <a:lnTo>
                  <a:pt x="1728" y="117"/>
                </a:lnTo>
                <a:lnTo>
                  <a:pt x="1733" y="125"/>
                </a:lnTo>
                <a:lnTo>
                  <a:pt x="1739" y="132"/>
                </a:lnTo>
                <a:lnTo>
                  <a:pt x="1743" y="140"/>
                </a:lnTo>
                <a:lnTo>
                  <a:pt x="1747" y="146"/>
                </a:lnTo>
                <a:lnTo>
                  <a:pt x="1751" y="152"/>
                </a:lnTo>
                <a:lnTo>
                  <a:pt x="1754" y="157"/>
                </a:lnTo>
                <a:lnTo>
                  <a:pt x="1756" y="161"/>
                </a:lnTo>
                <a:lnTo>
                  <a:pt x="1758" y="165"/>
                </a:lnTo>
                <a:lnTo>
                  <a:pt x="1760" y="169"/>
                </a:lnTo>
                <a:lnTo>
                  <a:pt x="1762" y="173"/>
                </a:lnTo>
                <a:lnTo>
                  <a:pt x="1764" y="175"/>
                </a:lnTo>
                <a:lnTo>
                  <a:pt x="1764" y="178"/>
                </a:lnTo>
                <a:lnTo>
                  <a:pt x="1764" y="182"/>
                </a:lnTo>
                <a:lnTo>
                  <a:pt x="1764" y="184"/>
                </a:lnTo>
                <a:lnTo>
                  <a:pt x="1762" y="188"/>
                </a:lnTo>
                <a:lnTo>
                  <a:pt x="1762" y="190"/>
                </a:lnTo>
                <a:lnTo>
                  <a:pt x="1760" y="192"/>
                </a:lnTo>
                <a:lnTo>
                  <a:pt x="1758" y="196"/>
                </a:lnTo>
                <a:lnTo>
                  <a:pt x="1756" y="198"/>
                </a:lnTo>
                <a:lnTo>
                  <a:pt x="1753" y="203"/>
                </a:lnTo>
                <a:lnTo>
                  <a:pt x="1749" y="207"/>
                </a:lnTo>
                <a:lnTo>
                  <a:pt x="1745" y="211"/>
                </a:lnTo>
                <a:lnTo>
                  <a:pt x="1743" y="217"/>
                </a:lnTo>
                <a:lnTo>
                  <a:pt x="1739" y="221"/>
                </a:lnTo>
                <a:lnTo>
                  <a:pt x="1737" y="223"/>
                </a:lnTo>
                <a:lnTo>
                  <a:pt x="1735" y="226"/>
                </a:lnTo>
                <a:lnTo>
                  <a:pt x="1731" y="226"/>
                </a:lnTo>
                <a:lnTo>
                  <a:pt x="1728" y="228"/>
                </a:lnTo>
                <a:lnTo>
                  <a:pt x="1726" y="228"/>
                </a:lnTo>
                <a:lnTo>
                  <a:pt x="1722" y="226"/>
                </a:lnTo>
                <a:lnTo>
                  <a:pt x="1718" y="226"/>
                </a:lnTo>
                <a:lnTo>
                  <a:pt x="1712" y="226"/>
                </a:lnTo>
                <a:lnTo>
                  <a:pt x="1706" y="224"/>
                </a:lnTo>
                <a:lnTo>
                  <a:pt x="1699" y="223"/>
                </a:lnTo>
                <a:lnTo>
                  <a:pt x="1691" y="223"/>
                </a:lnTo>
                <a:lnTo>
                  <a:pt x="1683" y="221"/>
                </a:lnTo>
                <a:lnTo>
                  <a:pt x="1674" y="219"/>
                </a:lnTo>
                <a:lnTo>
                  <a:pt x="1664" y="217"/>
                </a:lnTo>
                <a:lnTo>
                  <a:pt x="1653" y="215"/>
                </a:lnTo>
                <a:lnTo>
                  <a:pt x="1641" y="211"/>
                </a:lnTo>
                <a:lnTo>
                  <a:pt x="1628" y="209"/>
                </a:lnTo>
                <a:lnTo>
                  <a:pt x="1614" y="207"/>
                </a:lnTo>
                <a:lnTo>
                  <a:pt x="1601" y="205"/>
                </a:lnTo>
                <a:lnTo>
                  <a:pt x="1586" y="203"/>
                </a:lnTo>
                <a:lnTo>
                  <a:pt x="1555" y="198"/>
                </a:lnTo>
                <a:lnTo>
                  <a:pt x="1526" y="196"/>
                </a:lnTo>
                <a:lnTo>
                  <a:pt x="1513" y="194"/>
                </a:lnTo>
                <a:lnTo>
                  <a:pt x="1499" y="194"/>
                </a:lnTo>
                <a:lnTo>
                  <a:pt x="1486" y="192"/>
                </a:lnTo>
                <a:lnTo>
                  <a:pt x="1474" y="192"/>
                </a:lnTo>
                <a:lnTo>
                  <a:pt x="1461" y="192"/>
                </a:lnTo>
                <a:lnTo>
                  <a:pt x="1449" y="190"/>
                </a:lnTo>
                <a:lnTo>
                  <a:pt x="1440" y="190"/>
                </a:lnTo>
                <a:lnTo>
                  <a:pt x="1430" y="190"/>
                </a:lnTo>
                <a:lnTo>
                  <a:pt x="1420" y="190"/>
                </a:lnTo>
                <a:lnTo>
                  <a:pt x="1411" y="190"/>
                </a:lnTo>
                <a:lnTo>
                  <a:pt x="1403" y="190"/>
                </a:lnTo>
                <a:lnTo>
                  <a:pt x="1397" y="190"/>
                </a:lnTo>
                <a:lnTo>
                  <a:pt x="1388" y="190"/>
                </a:lnTo>
                <a:lnTo>
                  <a:pt x="1378" y="190"/>
                </a:lnTo>
                <a:lnTo>
                  <a:pt x="1367" y="190"/>
                </a:lnTo>
                <a:lnTo>
                  <a:pt x="1357" y="190"/>
                </a:lnTo>
                <a:lnTo>
                  <a:pt x="1346" y="190"/>
                </a:lnTo>
                <a:lnTo>
                  <a:pt x="1332" y="190"/>
                </a:lnTo>
                <a:lnTo>
                  <a:pt x="1319" y="192"/>
                </a:lnTo>
                <a:lnTo>
                  <a:pt x="1305" y="192"/>
                </a:lnTo>
                <a:lnTo>
                  <a:pt x="1292" y="192"/>
                </a:lnTo>
                <a:lnTo>
                  <a:pt x="1277" y="194"/>
                </a:lnTo>
                <a:lnTo>
                  <a:pt x="1261" y="194"/>
                </a:lnTo>
                <a:lnTo>
                  <a:pt x="1246" y="196"/>
                </a:lnTo>
                <a:lnTo>
                  <a:pt x="1229" y="198"/>
                </a:lnTo>
                <a:lnTo>
                  <a:pt x="1209" y="198"/>
                </a:lnTo>
                <a:lnTo>
                  <a:pt x="1190" y="199"/>
                </a:lnTo>
                <a:lnTo>
                  <a:pt x="1171" y="203"/>
                </a:lnTo>
                <a:lnTo>
                  <a:pt x="1161" y="203"/>
                </a:lnTo>
                <a:lnTo>
                  <a:pt x="1150" y="205"/>
                </a:lnTo>
                <a:lnTo>
                  <a:pt x="1140" y="207"/>
                </a:lnTo>
                <a:lnTo>
                  <a:pt x="1127" y="209"/>
                </a:lnTo>
                <a:lnTo>
                  <a:pt x="1115" y="211"/>
                </a:lnTo>
                <a:lnTo>
                  <a:pt x="1102" y="213"/>
                </a:lnTo>
                <a:lnTo>
                  <a:pt x="1090" y="215"/>
                </a:lnTo>
                <a:lnTo>
                  <a:pt x="1077" y="217"/>
                </a:lnTo>
                <a:lnTo>
                  <a:pt x="1062" y="219"/>
                </a:lnTo>
                <a:lnTo>
                  <a:pt x="1048" y="221"/>
                </a:lnTo>
                <a:lnTo>
                  <a:pt x="1033" y="224"/>
                </a:lnTo>
                <a:lnTo>
                  <a:pt x="1017" y="226"/>
                </a:lnTo>
                <a:lnTo>
                  <a:pt x="1000" y="230"/>
                </a:lnTo>
                <a:lnTo>
                  <a:pt x="985" y="232"/>
                </a:lnTo>
                <a:lnTo>
                  <a:pt x="967" y="236"/>
                </a:lnTo>
                <a:lnTo>
                  <a:pt x="948" y="238"/>
                </a:lnTo>
                <a:lnTo>
                  <a:pt x="931" y="242"/>
                </a:lnTo>
                <a:lnTo>
                  <a:pt x="912" y="246"/>
                </a:lnTo>
                <a:lnTo>
                  <a:pt x="895" y="249"/>
                </a:lnTo>
                <a:lnTo>
                  <a:pt x="873" y="253"/>
                </a:lnTo>
                <a:lnTo>
                  <a:pt x="854" y="257"/>
                </a:lnTo>
                <a:lnTo>
                  <a:pt x="833" y="261"/>
                </a:lnTo>
                <a:lnTo>
                  <a:pt x="812" y="265"/>
                </a:lnTo>
                <a:lnTo>
                  <a:pt x="791" y="269"/>
                </a:lnTo>
                <a:lnTo>
                  <a:pt x="770" y="272"/>
                </a:lnTo>
                <a:lnTo>
                  <a:pt x="747" y="276"/>
                </a:lnTo>
                <a:lnTo>
                  <a:pt x="724" y="280"/>
                </a:lnTo>
                <a:lnTo>
                  <a:pt x="701" y="286"/>
                </a:lnTo>
                <a:lnTo>
                  <a:pt x="678" y="290"/>
                </a:lnTo>
                <a:lnTo>
                  <a:pt x="653" y="295"/>
                </a:lnTo>
                <a:lnTo>
                  <a:pt x="628" y="299"/>
                </a:lnTo>
                <a:lnTo>
                  <a:pt x="603" y="305"/>
                </a:lnTo>
                <a:lnTo>
                  <a:pt x="578" y="311"/>
                </a:lnTo>
                <a:lnTo>
                  <a:pt x="553" y="317"/>
                </a:lnTo>
                <a:lnTo>
                  <a:pt x="530" y="320"/>
                </a:lnTo>
                <a:lnTo>
                  <a:pt x="507" y="326"/>
                </a:lnTo>
                <a:lnTo>
                  <a:pt x="484" y="332"/>
                </a:lnTo>
                <a:lnTo>
                  <a:pt x="463" y="336"/>
                </a:lnTo>
                <a:lnTo>
                  <a:pt x="442" y="342"/>
                </a:lnTo>
                <a:lnTo>
                  <a:pt x="420" y="345"/>
                </a:lnTo>
                <a:lnTo>
                  <a:pt x="401" y="349"/>
                </a:lnTo>
                <a:lnTo>
                  <a:pt x="384" y="353"/>
                </a:lnTo>
                <a:lnTo>
                  <a:pt x="365" y="357"/>
                </a:lnTo>
                <a:lnTo>
                  <a:pt x="347" y="361"/>
                </a:lnTo>
                <a:lnTo>
                  <a:pt x="332" y="365"/>
                </a:lnTo>
                <a:lnTo>
                  <a:pt x="315" y="366"/>
                </a:lnTo>
                <a:lnTo>
                  <a:pt x="301" y="370"/>
                </a:lnTo>
                <a:lnTo>
                  <a:pt x="286" y="372"/>
                </a:lnTo>
                <a:lnTo>
                  <a:pt x="273" y="376"/>
                </a:lnTo>
                <a:lnTo>
                  <a:pt x="259" y="378"/>
                </a:lnTo>
                <a:lnTo>
                  <a:pt x="248" y="380"/>
                </a:lnTo>
                <a:lnTo>
                  <a:pt x="236" y="382"/>
                </a:lnTo>
                <a:lnTo>
                  <a:pt x="227" y="384"/>
                </a:lnTo>
                <a:lnTo>
                  <a:pt x="217" y="386"/>
                </a:lnTo>
                <a:lnTo>
                  <a:pt x="207" y="388"/>
                </a:lnTo>
                <a:lnTo>
                  <a:pt x="200" y="388"/>
                </a:lnTo>
                <a:lnTo>
                  <a:pt x="192" y="390"/>
                </a:lnTo>
                <a:lnTo>
                  <a:pt x="186" y="390"/>
                </a:lnTo>
                <a:lnTo>
                  <a:pt x="180" y="391"/>
                </a:lnTo>
                <a:lnTo>
                  <a:pt x="177" y="391"/>
                </a:lnTo>
                <a:lnTo>
                  <a:pt x="171" y="391"/>
                </a:lnTo>
                <a:lnTo>
                  <a:pt x="169" y="393"/>
                </a:lnTo>
                <a:lnTo>
                  <a:pt x="167" y="393"/>
                </a:lnTo>
                <a:lnTo>
                  <a:pt x="165" y="393"/>
                </a:lnTo>
                <a:lnTo>
                  <a:pt x="156" y="391"/>
                </a:lnTo>
                <a:lnTo>
                  <a:pt x="144" y="391"/>
                </a:lnTo>
                <a:lnTo>
                  <a:pt x="132" y="388"/>
                </a:lnTo>
                <a:lnTo>
                  <a:pt x="121" y="384"/>
                </a:lnTo>
                <a:lnTo>
                  <a:pt x="106" y="378"/>
                </a:lnTo>
                <a:lnTo>
                  <a:pt x="92" y="372"/>
                </a:lnTo>
                <a:lnTo>
                  <a:pt x="75" y="365"/>
                </a:lnTo>
                <a:lnTo>
                  <a:pt x="58" y="3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86"/>
          <p:cNvSpPr/>
          <p:nvPr/>
        </p:nvSpPr>
        <p:spPr>
          <a:xfrm>
            <a:off x="6678720" y="3538440"/>
            <a:ext cx="739800" cy="231840"/>
          </a:xfrm>
          <a:custGeom>
            <a:avLst/>
            <a:gdLst/>
            <a:ahLst/>
            <a:rect l="l" t="t" r="r" b="b"/>
            <a:pathLst>
              <a:path w="932" h="292">
                <a:moveTo>
                  <a:pt x="932" y="63"/>
                </a:moveTo>
                <a:lnTo>
                  <a:pt x="932" y="65"/>
                </a:lnTo>
                <a:lnTo>
                  <a:pt x="931" y="69"/>
                </a:lnTo>
                <a:lnTo>
                  <a:pt x="929" y="71"/>
                </a:lnTo>
                <a:lnTo>
                  <a:pt x="927" y="75"/>
                </a:lnTo>
                <a:lnTo>
                  <a:pt x="925" y="79"/>
                </a:lnTo>
                <a:lnTo>
                  <a:pt x="923" y="82"/>
                </a:lnTo>
                <a:lnTo>
                  <a:pt x="919" y="86"/>
                </a:lnTo>
                <a:lnTo>
                  <a:pt x="913" y="90"/>
                </a:lnTo>
                <a:lnTo>
                  <a:pt x="909" y="94"/>
                </a:lnTo>
                <a:lnTo>
                  <a:pt x="904" y="98"/>
                </a:lnTo>
                <a:lnTo>
                  <a:pt x="898" y="102"/>
                </a:lnTo>
                <a:lnTo>
                  <a:pt x="892" y="107"/>
                </a:lnTo>
                <a:lnTo>
                  <a:pt x="884" y="111"/>
                </a:lnTo>
                <a:lnTo>
                  <a:pt x="877" y="117"/>
                </a:lnTo>
                <a:lnTo>
                  <a:pt x="869" y="121"/>
                </a:lnTo>
                <a:lnTo>
                  <a:pt x="861" y="127"/>
                </a:lnTo>
                <a:lnTo>
                  <a:pt x="856" y="128"/>
                </a:lnTo>
                <a:lnTo>
                  <a:pt x="848" y="130"/>
                </a:lnTo>
                <a:lnTo>
                  <a:pt x="842" y="134"/>
                </a:lnTo>
                <a:lnTo>
                  <a:pt x="835" y="136"/>
                </a:lnTo>
                <a:lnTo>
                  <a:pt x="827" y="140"/>
                </a:lnTo>
                <a:lnTo>
                  <a:pt x="819" y="142"/>
                </a:lnTo>
                <a:lnTo>
                  <a:pt x="810" y="144"/>
                </a:lnTo>
                <a:lnTo>
                  <a:pt x="802" y="148"/>
                </a:lnTo>
                <a:lnTo>
                  <a:pt x="792" y="150"/>
                </a:lnTo>
                <a:lnTo>
                  <a:pt x="781" y="153"/>
                </a:lnTo>
                <a:lnTo>
                  <a:pt x="771" y="157"/>
                </a:lnTo>
                <a:lnTo>
                  <a:pt x="760" y="159"/>
                </a:lnTo>
                <a:lnTo>
                  <a:pt x="748" y="163"/>
                </a:lnTo>
                <a:lnTo>
                  <a:pt x="735" y="165"/>
                </a:lnTo>
                <a:lnTo>
                  <a:pt x="723" y="169"/>
                </a:lnTo>
                <a:lnTo>
                  <a:pt x="710" y="173"/>
                </a:lnTo>
                <a:lnTo>
                  <a:pt x="696" y="175"/>
                </a:lnTo>
                <a:lnTo>
                  <a:pt x="683" y="178"/>
                </a:lnTo>
                <a:lnTo>
                  <a:pt x="668" y="182"/>
                </a:lnTo>
                <a:lnTo>
                  <a:pt x="652" y="186"/>
                </a:lnTo>
                <a:lnTo>
                  <a:pt x="637" y="188"/>
                </a:lnTo>
                <a:lnTo>
                  <a:pt x="621" y="192"/>
                </a:lnTo>
                <a:lnTo>
                  <a:pt x="604" y="196"/>
                </a:lnTo>
                <a:lnTo>
                  <a:pt x="587" y="199"/>
                </a:lnTo>
                <a:lnTo>
                  <a:pt x="570" y="203"/>
                </a:lnTo>
                <a:lnTo>
                  <a:pt x="552" y="205"/>
                </a:lnTo>
                <a:lnTo>
                  <a:pt x="533" y="209"/>
                </a:lnTo>
                <a:lnTo>
                  <a:pt x="516" y="213"/>
                </a:lnTo>
                <a:lnTo>
                  <a:pt x="497" y="217"/>
                </a:lnTo>
                <a:lnTo>
                  <a:pt x="476" y="221"/>
                </a:lnTo>
                <a:lnTo>
                  <a:pt x="456" y="224"/>
                </a:lnTo>
                <a:lnTo>
                  <a:pt x="435" y="228"/>
                </a:lnTo>
                <a:lnTo>
                  <a:pt x="412" y="230"/>
                </a:lnTo>
                <a:lnTo>
                  <a:pt x="391" y="234"/>
                </a:lnTo>
                <a:lnTo>
                  <a:pt x="372" y="238"/>
                </a:lnTo>
                <a:lnTo>
                  <a:pt x="351" y="242"/>
                </a:lnTo>
                <a:lnTo>
                  <a:pt x="332" y="244"/>
                </a:lnTo>
                <a:lnTo>
                  <a:pt x="312" y="247"/>
                </a:lnTo>
                <a:lnTo>
                  <a:pt x="295" y="251"/>
                </a:lnTo>
                <a:lnTo>
                  <a:pt x="278" y="253"/>
                </a:lnTo>
                <a:lnTo>
                  <a:pt x="261" y="257"/>
                </a:lnTo>
                <a:lnTo>
                  <a:pt x="243" y="259"/>
                </a:lnTo>
                <a:lnTo>
                  <a:pt x="228" y="263"/>
                </a:lnTo>
                <a:lnTo>
                  <a:pt x="215" y="265"/>
                </a:lnTo>
                <a:lnTo>
                  <a:pt x="199" y="267"/>
                </a:lnTo>
                <a:lnTo>
                  <a:pt x="186" y="269"/>
                </a:lnTo>
                <a:lnTo>
                  <a:pt x="172" y="272"/>
                </a:lnTo>
                <a:lnTo>
                  <a:pt x="161" y="274"/>
                </a:lnTo>
                <a:lnTo>
                  <a:pt x="149" y="276"/>
                </a:lnTo>
                <a:lnTo>
                  <a:pt x="138" y="278"/>
                </a:lnTo>
                <a:lnTo>
                  <a:pt x="128" y="280"/>
                </a:lnTo>
                <a:lnTo>
                  <a:pt x="119" y="280"/>
                </a:lnTo>
                <a:lnTo>
                  <a:pt x="109" y="282"/>
                </a:lnTo>
                <a:lnTo>
                  <a:pt x="101" y="284"/>
                </a:lnTo>
                <a:lnTo>
                  <a:pt x="94" y="286"/>
                </a:lnTo>
                <a:lnTo>
                  <a:pt x="86" y="286"/>
                </a:lnTo>
                <a:lnTo>
                  <a:pt x="80" y="288"/>
                </a:lnTo>
                <a:lnTo>
                  <a:pt x="74" y="288"/>
                </a:lnTo>
                <a:lnTo>
                  <a:pt x="71" y="290"/>
                </a:lnTo>
                <a:lnTo>
                  <a:pt x="65" y="290"/>
                </a:lnTo>
                <a:lnTo>
                  <a:pt x="63" y="290"/>
                </a:lnTo>
                <a:lnTo>
                  <a:pt x="59" y="290"/>
                </a:lnTo>
                <a:lnTo>
                  <a:pt x="57" y="290"/>
                </a:lnTo>
                <a:lnTo>
                  <a:pt x="55" y="292"/>
                </a:lnTo>
                <a:lnTo>
                  <a:pt x="48" y="290"/>
                </a:lnTo>
                <a:lnTo>
                  <a:pt x="40" y="288"/>
                </a:lnTo>
                <a:lnTo>
                  <a:pt x="34" y="284"/>
                </a:lnTo>
                <a:lnTo>
                  <a:pt x="28" y="280"/>
                </a:lnTo>
                <a:lnTo>
                  <a:pt x="25" y="276"/>
                </a:lnTo>
                <a:lnTo>
                  <a:pt x="23" y="272"/>
                </a:lnTo>
                <a:lnTo>
                  <a:pt x="19" y="269"/>
                </a:lnTo>
                <a:lnTo>
                  <a:pt x="17" y="265"/>
                </a:lnTo>
                <a:lnTo>
                  <a:pt x="15" y="259"/>
                </a:lnTo>
                <a:lnTo>
                  <a:pt x="13" y="253"/>
                </a:lnTo>
                <a:lnTo>
                  <a:pt x="11" y="247"/>
                </a:lnTo>
                <a:lnTo>
                  <a:pt x="9" y="240"/>
                </a:lnTo>
                <a:lnTo>
                  <a:pt x="5" y="232"/>
                </a:lnTo>
                <a:lnTo>
                  <a:pt x="1" y="223"/>
                </a:lnTo>
                <a:lnTo>
                  <a:pt x="0" y="217"/>
                </a:lnTo>
                <a:lnTo>
                  <a:pt x="0" y="211"/>
                </a:lnTo>
                <a:lnTo>
                  <a:pt x="0" y="205"/>
                </a:lnTo>
                <a:lnTo>
                  <a:pt x="1" y="199"/>
                </a:lnTo>
                <a:lnTo>
                  <a:pt x="5" y="194"/>
                </a:lnTo>
                <a:lnTo>
                  <a:pt x="9" y="190"/>
                </a:lnTo>
                <a:lnTo>
                  <a:pt x="9" y="188"/>
                </a:lnTo>
                <a:lnTo>
                  <a:pt x="11" y="186"/>
                </a:lnTo>
                <a:lnTo>
                  <a:pt x="15" y="186"/>
                </a:lnTo>
                <a:lnTo>
                  <a:pt x="19" y="184"/>
                </a:lnTo>
                <a:lnTo>
                  <a:pt x="23" y="182"/>
                </a:lnTo>
                <a:lnTo>
                  <a:pt x="26" y="180"/>
                </a:lnTo>
                <a:lnTo>
                  <a:pt x="32" y="178"/>
                </a:lnTo>
                <a:lnTo>
                  <a:pt x="40" y="176"/>
                </a:lnTo>
                <a:lnTo>
                  <a:pt x="46" y="175"/>
                </a:lnTo>
                <a:lnTo>
                  <a:pt x="53" y="173"/>
                </a:lnTo>
                <a:lnTo>
                  <a:pt x="61" y="171"/>
                </a:lnTo>
                <a:lnTo>
                  <a:pt x="71" y="169"/>
                </a:lnTo>
                <a:lnTo>
                  <a:pt x="80" y="167"/>
                </a:lnTo>
                <a:lnTo>
                  <a:pt x="90" y="163"/>
                </a:lnTo>
                <a:lnTo>
                  <a:pt x="101" y="161"/>
                </a:lnTo>
                <a:lnTo>
                  <a:pt x="113" y="157"/>
                </a:lnTo>
                <a:lnTo>
                  <a:pt x="124" y="155"/>
                </a:lnTo>
                <a:lnTo>
                  <a:pt x="136" y="152"/>
                </a:lnTo>
                <a:lnTo>
                  <a:pt x="149" y="148"/>
                </a:lnTo>
                <a:lnTo>
                  <a:pt x="163" y="146"/>
                </a:lnTo>
                <a:lnTo>
                  <a:pt x="178" y="142"/>
                </a:lnTo>
                <a:lnTo>
                  <a:pt x="193" y="138"/>
                </a:lnTo>
                <a:lnTo>
                  <a:pt x="209" y="134"/>
                </a:lnTo>
                <a:lnTo>
                  <a:pt x="224" y="128"/>
                </a:lnTo>
                <a:lnTo>
                  <a:pt x="241" y="125"/>
                </a:lnTo>
                <a:lnTo>
                  <a:pt x="259" y="121"/>
                </a:lnTo>
                <a:lnTo>
                  <a:pt x="278" y="115"/>
                </a:lnTo>
                <a:lnTo>
                  <a:pt x="295" y="111"/>
                </a:lnTo>
                <a:lnTo>
                  <a:pt x="314" y="105"/>
                </a:lnTo>
                <a:lnTo>
                  <a:pt x="334" y="100"/>
                </a:lnTo>
                <a:lnTo>
                  <a:pt x="355" y="94"/>
                </a:lnTo>
                <a:lnTo>
                  <a:pt x="376" y="88"/>
                </a:lnTo>
                <a:lnTo>
                  <a:pt x="397" y="82"/>
                </a:lnTo>
                <a:lnTo>
                  <a:pt x="416" y="77"/>
                </a:lnTo>
                <a:lnTo>
                  <a:pt x="437" y="71"/>
                </a:lnTo>
                <a:lnTo>
                  <a:pt x="456" y="65"/>
                </a:lnTo>
                <a:lnTo>
                  <a:pt x="474" y="61"/>
                </a:lnTo>
                <a:lnTo>
                  <a:pt x="493" y="56"/>
                </a:lnTo>
                <a:lnTo>
                  <a:pt x="510" y="52"/>
                </a:lnTo>
                <a:lnTo>
                  <a:pt x="527" y="48"/>
                </a:lnTo>
                <a:lnTo>
                  <a:pt x="545" y="42"/>
                </a:lnTo>
                <a:lnTo>
                  <a:pt x="562" y="38"/>
                </a:lnTo>
                <a:lnTo>
                  <a:pt x="577" y="34"/>
                </a:lnTo>
                <a:lnTo>
                  <a:pt x="593" y="33"/>
                </a:lnTo>
                <a:lnTo>
                  <a:pt x="608" y="29"/>
                </a:lnTo>
                <a:lnTo>
                  <a:pt x="623" y="25"/>
                </a:lnTo>
                <a:lnTo>
                  <a:pt x="637" y="23"/>
                </a:lnTo>
                <a:lnTo>
                  <a:pt x="650" y="19"/>
                </a:lnTo>
                <a:lnTo>
                  <a:pt x="664" y="17"/>
                </a:lnTo>
                <a:lnTo>
                  <a:pt x="677" y="15"/>
                </a:lnTo>
                <a:lnTo>
                  <a:pt x="689" y="13"/>
                </a:lnTo>
                <a:lnTo>
                  <a:pt x="700" y="11"/>
                </a:lnTo>
                <a:lnTo>
                  <a:pt x="712" y="9"/>
                </a:lnTo>
                <a:lnTo>
                  <a:pt x="721" y="8"/>
                </a:lnTo>
                <a:lnTo>
                  <a:pt x="733" y="6"/>
                </a:lnTo>
                <a:lnTo>
                  <a:pt x="742" y="4"/>
                </a:lnTo>
                <a:lnTo>
                  <a:pt x="750" y="4"/>
                </a:lnTo>
                <a:lnTo>
                  <a:pt x="760" y="2"/>
                </a:lnTo>
                <a:lnTo>
                  <a:pt x="767" y="2"/>
                </a:lnTo>
                <a:lnTo>
                  <a:pt x="775" y="0"/>
                </a:lnTo>
                <a:lnTo>
                  <a:pt x="783" y="0"/>
                </a:lnTo>
                <a:lnTo>
                  <a:pt x="790" y="0"/>
                </a:lnTo>
                <a:lnTo>
                  <a:pt x="796" y="0"/>
                </a:lnTo>
                <a:lnTo>
                  <a:pt x="802" y="0"/>
                </a:lnTo>
                <a:lnTo>
                  <a:pt x="823" y="0"/>
                </a:lnTo>
                <a:lnTo>
                  <a:pt x="844" y="0"/>
                </a:lnTo>
                <a:lnTo>
                  <a:pt x="854" y="0"/>
                </a:lnTo>
                <a:lnTo>
                  <a:pt x="861" y="0"/>
                </a:lnTo>
                <a:lnTo>
                  <a:pt x="871" y="0"/>
                </a:lnTo>
                <a:lnTo>
                  <a:pt x="879" y="2"/>
                </a:lnTo>
                <a:lnTo>
                  <a:pt x="886" y="2"/>
                </a:lnTo>
                <a:lnTo>
                  <a:pt x="894" y="2"/>
                </a:lnTo>
                <a:lnTo>
                  <a:pt x="900" y="4"/>
                </a:lnTo>
                <a:lnTo>
                  <a:pt x="906" y="6"/>
                </a:lnTo>
                <a:lnTo>
                  <a:pt x="909" y="6"/>
                </a:lnTo>
                <a:lnTo>
                  <a:pt x="913" y="8"/>
                </a:lnTo>
                <a:lnTo>
                  <a:pt x="917" y="9"/>
                </a:lnTo>
                <a:lnTo>
                  <a:pt x="921" y="11"/>
                </a:lnTo>
                <a:lnTo>
                  <a:pt x="925" y="17"/>
                </a:lnTo>
                <a:lnTo>
                  <a:pt x="927" y="23"/>
                </a:lnTo>
                <a:lnTo>
                  <a:pt x="929" y="31"/>
                </a:lnTo>
                <a:lnTo>
                  <a:pt x="931" y="38"/>
                </a:lnTo>
                <a:lnTo>
                  <a:pt x="931" y="44"/>
                </a:lnTo>
                <a:lnTo>
                  <a:pt x="932" y="52"/>
                </a:lnTo>
                <a:lnTo>
                  <a:pt x="932" y="57"/>
                </a:lnTo>
                <a:lnTo>
                  <a:pt x="932" y="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87"/>
          <p:cNvSpPr/>
          <p:nvPr/>
        </p:nvSpPr>
        <p:spPr>
          <a:xfrm>
            <a:off x="6694560" y="3246480"/>
            <a:ext cx="723960" cy="210960"/>
          </a:xfrm>
          <a:custGeom>
            <a:avLst/>
            <a:gdLst/>
            <a:ahLst/>
            <a:rect l="l" t="t" r="r" b="b"/>
            <a:pathLst>
              <a:path w="911" h="267">
                <a:moveTo>
                  <a:pt x="48" y="242"/>
                </a:moveTo>
                <a:lnTo>
                  <a:pt x="40" y="236"/>
                </a:lnTo>
                <a:lnTo>
                  <a:pt x="34" y="233"/>
                </a:lnTo>
                <a:lnTo>
                  <a:pt x="28" y="227"/>
                </a:lnTo>
                <a:lnTo>
                  <a:pt x="25" y="223"/>
                </a:lnTo>
                <a:lnTo>
                  <a:pt x="21" y="217"/>
                </a:lnTo>
                <a:lnTo>
                  <a:pt x="17" y="213"/>
                </a:lnTo>
                <a:lnTo>
                  <a:pt x="9" y="206"/>
                </a:lnTo>
                <a:lnTo>
                  <a:pt x="5" y="198"/>
                </a:lnTo>
                <a:lnTo>
                  <a:pt x="2" y="190"/>
                </a:lnTo>
                <a:lnTo>
                  <a:pt x="0" y="185"/>
                </a:lnTo>
                <a:lnTo>
                  <a:pt x="0" y="179"/>
                </a:lnTo>
                <a:lnTo>
                  <a:pt x="0" y="177"/>
                </a:lnTo>
                <a:lnTo>
                  <a:pt x="0" y="175"/>
                </a:lnTo>
                <a:lnTo>
                  <a:pt x="2" y="175"/>
                </a:lnTo>
                <a:lnTo>
                  <a:pt x="5" y="173"/>
                </a:lnTo>
                <a:lnTo>
                  <a:pt x="7" y="171"/>
                </a:lnTo>
                <a:lnTo>
                  <a:pt x="11" y="169"/>
                </a:lnTo>
                <a:lnTo>
                  <a:pt x="17" y="167"/>
                </a:lnTo>
                <a:lnTo>
                  <a:pt x="21" y="165"/>
                </a:lnTo>
                <a:lnTo>
                  <a:pt x="27" y="163"/>
                </a:lnTo>
                <a:lnTo>
                  <a:pt x="34" y="162"/>
                </a:lnTo>
                <a:lnTo>
                  <a:pt x="42" y="160"/>
                </a:lnTo>
                <a:lnTo>
                  <a:pt x="50" y="158"/>
                </a:lnTo>
                <a:lnTo>
                  <a:pt x="57" y="156"/>
                </a:lnTo>
                <a:lnTo>
                  <a:pt x="67" y="152"/>
                </a:lnTo>
                <a:lnTo>
                  <a:pt x="76" y="150"/>
                </a:lnTo>
                <a:lnTo>
                  <a:pt x="88" y="146"/>
                </a:lnTo>
                <a:lnTo>
                  <a:pt x="100" y="144"/>
                </a:lnTo>
                <a:lnTo>
                  <a:pt x="111" y="140"/>
                </a:lnTo>
                <a:lnTo>
                  <a:pt x="124" y="137"/>
                </a:lnTo>
                <a:lnTo>
                  <a:pt x="138" y="135"/>
                </a:lnTo>
                <a:lnTo>
                  <a:pt x="151" y="131"/>
                </a:lnTo>
                <a:lnTo>
                  <a:pt x="167" y="127"/>
                </a:lnTo>
                <a:lnTo>
                  <a:pt x="182" y="123"/>
                </a:lnTo>
                <a:lnTo>
                  <a:pt x="199" y="117"/>
                </a:lnTo>
                <a:lnTo>
                  <a:pt x="217" y="114"/>
                </a:lnTo>
                <a:lnTo>
                  <a:pt x="234" y="110"/>
                </a:lnTo>
                <a:lnTo>
                  <a:pt x="253" y="104"/>
                </a:lnTo>
                <a:lnTo>
                  <a:pt x="270" y="100"/>
                </a:lnTo>
                <a:lnTo>
                  <a:pt x="291" y="94"/>
                </a:lnTo>
                <a:lnTo>
                  <a:pt x="311" y="89"/>
                </a:lnTo>
                <a:lnTo>
                  <a:pt x="332" y="83"/>
                </a:lnTo>
                <a:lnTo>
                  <a:pt x="355" y="77"/>
                </a:lnTo>
                <a:lnTo>
                  <a:pt x="376" y="73"/>
                </a:lnTo>
                <a:lnTo>
                  <a:pt x="395" y="68"/>
                </a:lnTo>
                <a:lnTo>
                  <a:pt x="416" y="64"/>
                </a:lnTo>
                <a:lnTo>
                  <a:pt x="435" y="60"/>
                </a:lnTo>
                <a:lnTo>
                  <a:pt x="455" y="54"/>
                </a:lnTo>
                <a:lnTo>
                  <a:pt x="472" y="50"/>
                </a:lnTo>
                <a:lnTo>
                  <a:pt x="489" y="46"/>
                </a:lnTo>
                <a:lnTo>
                  <a:pt x="506" y="43"/>
                </a:lnTo>
                <a:lnTo>
                  <a:pt x="524" y="41"/>
                </a:lnTo>
                <a:lnTo>
                  <a:pt x="541" y="37"/>
                </a:lnTo>
                <a:lnTo>
                  <a:pt x="556" y="33"/>
                </a:lnTo>
                <a:lnTo>
                  <a:pt x="572" y="31"/>
                </a:lnTo>
                <a:lnTo>
                  <a:pt x="585" y="27"/>
                </a:lnTo>
                <a:lnTo>
                  <a:pt x="600" y="25"/>
                </a:lnTo>
                <a:lnTo>
                  <a:pt x="614" y="21"/>
                </a:lnTo>
                <a:lnTo>
                  <a:pt x="627" y="20"/>
                </a:lnTo>
                <a:lnTo>
                  <a:pt x="639" y="18"/>
                </a:lnTo>
                <a:lnTo>
                  <a:pt x="650" y="16"/>
                </a:lnTo>
                <a:lnTo>
                  <a:pt x="662" y="14"/>
                </a:lnTo>
                <a:lnTo>
                  <a:pt x="673" y="12"/>
                </a:lnTo>
                <a:lnTo>
                  <a:pt x="683" y="10"/>
                </a:lnTo>
                <a:lnTo>
                  <a:pt x="693" y="8"/>
                </a:lnTo>
                <a:lnTo>
                  <a:pt x="702" y="6"/>
                </a:lnTo>
                <a:lnTo>
                  <a:pt x="710" y="6"/>
                </a:lnTo>
                <a:lnTo>
                  <a:pt x="719" y="4"/>
                </a:lnTo>
                <a:lnTo>
                  <a:pt x="725" y="4"/>
                </a:lnTo>
                <a:lnTo>
                  <a:pt x="733" y="2"/>
                </a:lnTo>
                <a:lnTo>
                  <a:pt x="739" y="2"/>
                </a:lnTo>
                <a:lnTo>
                  <a:pt x="744" y="2"/>
                </a:lnTo>
                <a:lnTo>
                  <a:pt x="748" y="0"/>
                </a:lnTo>
                <a:lnTo>
                  <a:pt x="754" y="0"/>
                </a:lnTo>
                <a:lnTo>
                  <a:pt x="758" y="0"/>
                </a:lnTo>
                <a:lnTo>
                  <a:pt x="769" y="2"/>
                </a:lnTo>
                <a:lnTo>
                  <a:pt x="783" y="2"/>
                </a:lnTo>
                <a:lnTo>
                  <a:pt x="796" y="6"/>
                </a:lnTo>
                <a:lnTo>
                  <a:pt x="810" y="8"/>
                </a:lnTo>
                <a:lnTo>
                  <a:pt x="823" y="12"/>
                </a:lnTo>
                <a:lnTo>
                  <a:pt x="837" y="18"/>
                </a:lnTo>
                <a:lnTo>
                  <a:pt x="863" y="27"/>
                </a:lnTo>
                <a:lnTo>
                  <a:pt x="869" y="31"/>
                </a:lnTo>
                <a:lnTo>
                  <a:pt x="875" y="35"/>
                </a:lnTo>
                <a:lnTo>
                  <a:pt x="881" y="41"/>
                </a:lnTo>
                <a:lnTo>
                  <a:pt x="886" y="44"/>
                </a:lnTo>
                <a:lnTo>
                  <a:pt x="890" y="50"/>
                </a:lnTo>
                <a:lnTo>
                  <a:pt x="894" y="54"/>
                </a:lnTo>
                <a:lnTo>
                  <a:pt x="900" y="64"/>
                </a:lnTo>
                <a:lnTo>
                  <a:pt x="906" y="71"/>
                </a:lnTo>
                <a:lnTo>
                  <a:pt x="910" y="77"/>
                </a:lnTo>
                <a:lnTo>
                  <a:pt x="910" y="85"/>
                </a:lnTo>
                <a:lnTo>
                  <a:pt x="911" y="91"/>
                </a:lnTo>
                <a:lnTo>
                  <a:pt x="910" y="92"/>
                </a:lnTo>
                <a:lnTo>
                  <a:pt x="910" y="94"/>
                </a:lnTo>
                <a:lnTo>
                  <a:pt x="906" y="98"/>
                </a:lnTo>
                <a:lnTo>
                  <a:pt x="902" y="102"/>
                </a:lnTo>
                <a:lnTo>
                  <a:pt x="898" y="104"/>
                </a:lnTo>
                <a:lnTo>
                  <a:pt x="890" y="108"/>
                </a:lnTo>
                <a:lnTo>
                  <a:pt x="885" y="112"/>
                </a:lnTo>
                <a:lnTo>
                  <a:pt x="875" y="116"/>
                </a:lnTo>
                <a:lnTo>
                  <a:pt x="865" y="121"/>
                </a:lnTo>
                <a:lnTo>
                  <a:pt x="856" y="125"/>
                </a:lnTo>
                <a:lnTo>
                  <a:pt x="844" y="129"/>
                </a:lnTo>
                <a:lnTo>
                  <a:pt x="831" y="135"/>
                </a:lnTo>
                <a:lnTo>
                  <a:pt x="817" y="139"/>
                </a:lnTo>
                <a:lnTo>
                  <a:pt x="802" y="142"/>
                </a:lnTo>
                <a:lnTo>
                  <a:pt x="787" y="148"/>
                </a:lnTo>
                <a:lnTo>
                  <a:pt x="769" y="154"/>
                </a:lnTo>
                <a:lnTo>
                  <a:pt x="750" y="158"/>
                </a:lnTo>
                <a:lnTo>
                  <a:pt x="731" y="163"/>
                </a:lnTo>
                <a:lnTo>
                  <a:pt x="712" y="167"/>
                </a:lnTo>
                <a:lnTo>
                  <a:pt x="691" y="173"/>
                </a:lnTo>
                <a:lnTo>
                  <a:pt x="670" y="177"/>
                </a:lnTo>
                <a:lnTo>
                  <a:pt x="648" y="181"/>
                </a:lnTo>
                <a:lnTo>
                  <a:pt x="625" y="187"/>
                </a:lnTo>
                <a:lnTo>
                  <a:pt x="602" y="190"/>
                </a:lnTo>
                <a:lnTo>
                  <a:pt x="577" y="196"/>
                </a:lnTo>
                <a:lnTo>
                  <a:pt x="552" y="200"/>
                </a:lnTo>
                <a:lnTo>
                  <a:pt x="528" y="206"/>
                </a:lnTo>
                <a:lnTo>
                  <a:pt x="501" y="210"/>
                </a:lnTo>
                <a:lnTo>
                  <a:pt x="474" y="215"/>
                </a:lnTo>
                <a:lnTo>
                  <a:pt x="447" y="219"/>
                </a:lnTo>
                <a:lnTo>
                  <a:pt x="418" y="225"/>
                </a:lnTo>
                <a:lnTo>
                  <a:pt x="389" y="229"/>
                </a:lnTo>
                <a:lnTo>
                  <a:pt x="362" y="235"/>
                </a:lnTo>
                <a:lnTo>
                  <a:pt x="336" y="238"/>
                </a:lnTo>
                <a:lnTo>
                  <a:pt x="311" y="242"/>
                </a:lnTo>
                <a:lnTo>
                  <a:pt x="286" y="246"/>
                </a:lnTo>
                <a:lnTo>
                  <a:pt x="265" y="250"/>
                </a:lnTo>
                <a:lnTo>
                  <a:pt x="243" y="252"/>
                </a:lnTo>
                <a:lnTo>
                  <a:pt x="224" y="256"/>
                </a:lnTo>
                <a:lnTo>
                  <a:pt x="207" y="258"/>
                </a:lnTo>
                <a:lnTo>
                  <a:pt x="190" y="259"/>
                </a:lnTo>
                <a:lnTo>
                  <a:pt x="176" y="261"/>
                </a:lnTo>
                <a:lnTo>
                  <a:pt x="165" y="263"/>
                </a:lnTo>
                <a:lnTo>
                  <a:pt x="153" y="265"/>
                </a:lnTo>
                <a:lnTo>
                  <a:pt x="146" y="265"/>
                </a:lnTo>
                <a:lnTo>
                  <a:pt x="138" y="267"/>
                </a:lnTo>
                <a:lnTo>
                  <a:pt x="132" y="267"/>
                </a:lnTo>
                <a:lnTo>
                  <a:pt x="130" y="267"/>
                </a:lnTo>
                <a:lnTo>
                  <a:pt x="121" y="267"/>
                </a:lnTo>
                <a:lnTo>
                  <a:pt x="111" y="265"/>
                </a:lnTo>
                <a:lnTo>
                  <a:pt x="101" y="263"/>
                </a:lnTo>
                <a:lnTo>
                  <a:pt x="92" y="259"/>
                </a:lnTo>
                <a:lnTo>
                  <a:pt x="82" y="256"/>
                </a:lnTo>
                <a:lnTo>
                  <a:pt x="71" y="252"/>
                </a:lnTo>
                <a:lnTo>
                  <a:pt x="59" y="246"/>
                </a:lnTo>
                <a:lnTo>
                  <a:pt x="48" y="2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88"/>
          <p:cNvSpPr/>
          <p:nvPr/>
        </p:nvSpPr>
        <p:spPr>
          <a:xfrm>
            <a:off x="6692760" y="2865600"/>
            <a:ext cx="752760" cy="220680"/>
          </a:xfrm>
          <a:custGeom>
            <a:avLst/>
            <a:gdLst/>
            <a:ahLst/>
            <a:rect l="l" t="t" r="r" b="b"/>
            <a:pathLst>
              <a:path w="948" h="279">
                <a:moveTo>
                  <a:pt x="819" y="164"/>
                </a:moveTo>
                <a:lnTo>
                  <a:pt x="802" y="169"/>
                </a:lnTo>
                <a:lnTo>
                  <a:pt x="785" y="173"/>
                </a:lnTo>
                <a:lnTo>
                  <a:pt x="768" y="179"/>
                </a:lnTo>
                <a:lnTo>
                  <a:pt x="746" y="183"/>
                </a:lnTo>
                <a:lnTo>
                  <a:pt x="727" y="189"/>
                </a:lnTo>
                <a:lnTo>
                  <a:pt x="704" y="192"/>
                </a:lnTo>
                <a:lnTo>
                  <a:pt x="683" y="198"/>
                </a:lnTo>
                <a:lnTo>
                  <a:pt x="658" y="202"/>
                </a:lnTo>
                <a:lnTo>
                  <a:pt x="633" y="208"/>
                </a:lnTo>
                <a:lnTo>
                  <a:pt x="606" y="212"/>
                </a:lnTo>
                <a:lnTo>
                  <a:pt x="579" y="215"/>
                </a:lnTo>
                <a:lnTo>
                  <a:pt x="553" y="221"/>
                </a:lnTo>
                <a:lnTo>
                  <a:pt x="522" y="225"/>
                </a:lnTo>
                <a:lnTo>
                  <a:pt x="491" y="231"/>
                </a:lnTo>
                <a:lnTo>
                  <a:pt x="460" y="235"/>
                </a:lnTo>
                <a:lnTo>
                  <a:pt x="428" y="240"/>
                </a:lnTo>
                <a:lnTo>
                  <a:pt x="411" y="242"/>
                </a:lnTo>
                <a:lnTo>
                  <a:pt x="393" y="244"/>
                </a:lnTo>
                <a:lnTo>
                  <a:pt x="376" y="246"/>
                </a:lnTo>
                <a:lnTo>
                  <a:pt x="361" y="250"/>
                </a:lnTo>
                <a:lnTo>
                  <a:pt x="345" y="252"/>
                </a:lnTo>
                <a:lnTo>
                  <a:pt x="330" y="254"/>
                </a:lnTo>
                <a:lnTo>
                  <a:pt x="315" y="256"/>
                </a:lnTo>
                <a:lnTo>
                  <a:pt x="301" y="258"/>
                </a:lnTo>
                <a:lnTo>
                  <a:pt x="288" y="260"/>
                </a:lnTo>
                <a:lnTo>
                  <a:pt x="274" y="260"/>
                </a:lnTo>
                <a:lnTo>
                  <a:pt x="263" y="262"/>
                </a:lnTo>
                <a:lnTo>
                  <a:pt x="249" y="263"/>
                </a:lnTo>
                <a:lnTo>
                  <a:pt x="238" y="265"/>
                </a:lnTo>
                <a:lnTo>
                  <a:pt x="228" y="267"/>
                </a:lnTo>
                <a:lnTo>
                  <a:pt x="217" y="267"/>
                </a:lnTo>
                <a:lnTo>
                  <a:pt x="207" y="269"/>
                </a:lnTo>
                <a:lnTo>
                  <a:pt x="197" y="269"/>
                </a:lnTo>
                <a:lnTo>
                  <a:pt x="188" y="271"/>
                </a:lnTo>
                <a:lnTo>
                  <a:pt x="180" y="273"/>
                </a:lnTo>
                <a:lnTo>
                  <a:pt x="173" y="273"/>
                </a:lnTo>
                <a:lnTo>
                  <a:pt x="165" y="273"/>
                </a:lnTo>
                <a:lnTo>
                  <a:pt x="159" y="275"/>
                </a:lnTo>
                <a:lnTo>
                  <a:pt x="151" y="275"/>
                </a:lnTo>
                <a:lnTo>
                  <a:pt x="146" y="277"/>
                </a:lnTo>
                <a:lnTo>
                  <a:pt x="142" y="277"/>
                </a:lnTo>
                <a:lnTo>
                  <a:pt x="136" y="277"/>
                </a:lnTo>
                <a:lnTo>
                  <a:pt x="132" y="277"/>
                </a:lnTo>
                <a:lnTo>
                  <a:pt x="128" y="277"/>
                </a:lnTo>
                <a:lnTo>
                  <a:pt x="126" y="279"/>
                </a:lnTo>
                <a:lnTo>
                  <a:pt x="123" y="279"/>
                </a:lnTo>
                <a:lnTo>
                  <a:pt x="121" y="279"/>
                </a:lnTo>
                <a:lnTo>
                  <a:pt x="111" y="277"/>
                </a:lnTo>
                <a:lnTo>
                  <a:pt x="102" y="277"/>
                </a:lnTo>
                <a:lnTo>
                  <a:pt x="92" y="273"/>
                </a:lnTo>
                <a:lnTo>
                  <a:pt x="84" y="269"/>
                </a:lnTo>
                <a:lnTo>
                  <a:pt x="75" y="263"/>
                </a:lnTo>
                <a:lnTo>
                  <a:pt x="67" y="258"/>
                </a:lnTo>
                <a:lnTo>
                  <a:pt x="57" y="250"/>
                </a:lnTo>
                <a:lnTo>
                  <a:pt x="50" y="240"/>
                </a:lnTo>
                <a:lnTo>
                  <a:pt x="40" y="235"/>
                </a:lnTo>
                <a:lnTo>
                  <a:pt x="32" y="229"/>
                </a:lnTo>
                <a:lnTo>
                  <a:pt x="27" y="221"/>
                </a:lnTo>
                <a:lnTo>
                  <a:pt x="21" y="215"/>
                </a:lnTo>
                <a:lnTo>
                  <a:pt x="15" y="208"/>
                </a:lnTo>
                <a:lnTo>
                  <a:pt x="9" y="200"/>
                </a:lnTo>
                <a:lnTo>
                  <a:pt x="6" y="194"/>
                </a:lnTo>
                <a:lnTo>
                  <a:pt x="2" y="191"/>
                </a:lnTo>
                <a:lnTo>
                  <a:pt x="0" y="189"/>
                </a:lnTo>
                <a:lnTo>
                  <a:pt x="0" y="187"/>
                </a:lnTo>
                <a:lnTo>
                  <a:pt x="0" y="185"/>
                </a:lnTo>
                <a:lnTo>
                  <a:pt x="2" y="185"/>
                </a:lnTo>
                <a:lnTo>
                  <a:pt x="2" y="183"/>
                </a:lnTo>
                <a:lnTo>
                  <a:pt x="4" y="181"/>
                </a:lnTo>
                <a:lnTo>
                  <a:pt x="7" y="179"/>
                </a:lnTo>
                <a:lnTo>
                  <a:pt x="9" y="177"/>
                </a:lnTo>
                <a:lnTo>
                  <a:pt x="13" y="175"/>
                </a:lnTo>
                <a:lnTo>
                  <a:pt x="17" y="173"/>
                </a:lnTo>
                <a:lnTo>
                  <a:pt x="23" y="171"/>
                </a:lnTo>
                <a:lnTo>
                  <a:pt x="29" y="169"/>
                </a:lnTo>
                <a:lnTo>
                  <a:pt x="34" y="167"/>
                </a:lnTo>
                <a:lnTo>
                  <a:pt x="40" y="166"/>
                </a:lnTo>
                <a:lnTo>
                  <a:pt x="48" y="164"/>
                </a:lnTo>
                <a:lnTo>
                  <a:pt x="54" y="162"/>
                </a:lnTo>
                <a:lnTo>
                  <a:pt x="63" y="158"/>
                </a:lnTo>
                <a:lnTo>
                  <a:pt x="71" y="156"/>
                </a:lnTo>
                <a:lnTo>
                  <a:pt x="80" y="154"/>
                </a:lnTo>
                <a:lnTo>
                  <a:pt x="90" y="150"/>
                </a:lnTo>
                <a:lnTo>
                  <a:pt x="100" y="148"/>
                </a:lnTo>
                <a:lnTo>
                  <a:pt x="111" y="146"/>
                </a:lnTo>
                <a:lnTo>
                  <a:pt x="123" y="143"/>
                </a:lnTo>
                <a:lnTo>
                  <a:pt x="134" y="141"/>
                </a:lnTo>
                <a:lnTo>
                  <a:pt x="148" y="137"/>
                </a:lnTo>
                <a:lnTo>
                  <a:pt x="159" y="133"/>
                </a:lnTo>
                <a:lnTo>
                  <a:pt x="174" y="131"/>
                </a:lnTo>
                <a:lnTo>
                  <a:pt x="188" y="127"/>
                </a:lnTo>
                <a:lnTo>
                  <a:pt x="203" y="123"/>
                </a:lnTo>
                <a:lnTo>
                  <a:pt x="219" y="119"/>
                </a:lnTo>
                <a:lnTo>
                  <a:pt x="234" y="118"/>
                </a:lnTo>
                <a:lnTo>
                  <a:pt x="249" y="114"/>
                </a:lnTo>
                <a:lnTo>
                  <a:pt x="280" y="106"/>
                </a:lnTo>
                <a:lnTo>
                  <a:pt x="309" y="100"/>
                </a:lnTo>
                <a:lnTo>
                  <a:pt x="338" y="93"/>
                </a:lnTo>
                <a:lnTo>
                  <a:pt x="363" y="87"/>
                </a:lnTo>
                <a:lnTo>
                  <a:pt x="388" y="81"/>
                </a:lnTo>
                <a:lnTo>
                  <a:pt x="411" y="75"/>
                </a:lnTo>
                <a:lnTo>
                  <a:pt x="434" y="70"/>
                </a:lnTo>
                <a:lnTo>
                  <a:pt x="455" y="64"/>
                </a:lnTo>
                <a:lnTo>
                  <a:pt x="474" y="60"/>
                </a:lnTo>
                <a:lnTo>
                  <a:pt x="491" y="54"/>
                </a:lnTo>
                <a:lnTo>
                  <a:pt x="508" y="48"/>
                </a:lnTo>
                <a:lnTo>
                  <a:pt x="524" y="45"/>
                </a:lnTo>
                <a:lnTo>
                  <a:pt x="537" y="39"/>
                </a:lnTo>
                <a:lnTo>
                  <a:pt x="549" y="35"/>
                </a:lnTo>
                <a:lnTo>
                  <a:pt x="560" y="29"/>
                </a:lnTo>
                <a:lnTo>
                  <a:pt x="570" y="25"/>
                </a:lnTo>
                <a:lnTo>
                  <a:pt x="576" y="24"/>
                </a:lnTo>
                <a:lnTo>
                  <a:pt x="583" y="20"/>
                </a:lnTo>
                <a:lnTo>
                  <a:pt x="591" y="18"/>
                </a:lnTo>
                <a:lnTo>
                  <a:pt x="601" y="16"/>
                </a:lnTo>
                <a:lnTo>
                  <a:pt x="618" y="12"/>
                </a:lnTo>
                <a:lnTo>
                  <a:pt x="637" y="8"/>
                </a:lnTo>
                <a:lnTo>
                  <a:pt x="658" y="4"/>
                </a:lnTo>
                <a:lnTo>
                  <a:pt x="679" y="2"/>
                </a:lnTo>
                <a:lnTo>
                  <a:pt x="702" y="0"/>
                </a:lnTo>
                <a:lnTo>
                  <a:pt x="723" y="0"/>
                </a:lnTo>
                <a:lnTo>
                  <a:pt x="746" y="0"/>
                </a:lnTo>
                <a:lnTo>
                  <a:pt x="768" y="2"/>
                </a:lnTo>
                <a:lnTo>
                  <a:pt x="789" y="4"/>
                </a:lnTo>
                <a:lnTo>
                  <a:pt x="812" y="8"/>
                </a:lnTo>
                <a:lnTo>
                  <a:pt x="831" y="12"/>
                </a:lnTo>
                <a:lnTo>
                  <a:pt x="852" y="16"/>
                </a:lnTo>
                <a:lnTo>
                  <a:pt x="871" y="20"/>
                </a:lnTo>
                <a:lnTo>
                  <a:pt x="890" y="25"/>
                </a:lnTo>
                <a:lnTo>
                  <a:pt x="902" y="35"/>
                </a:lnTo>
                <a:lnTo>
                  <a:pt x="913" y="45"/>
                </a:lnTo>
                <a:lnTo>
                  <a:pt x="923" y="52"/>
                </a:lnTo>
                <a:lnTo>
                  <a:pt x="933" y="62"/>
                </a:lnTo>
                <a:lnTo>
                  <a:pt x="938" y="70"/>
                </a:lnTo>
                <a:lnTo>
                  <a:pt x="942" y="73"/>
                </a:lnTo>
                <a:lnTo>
                  <a:pt x="944" y="77"/>
                </a:lnTo>
                <a:lnTo>
                  <a:pt x="946" y="79"/>
                </a:lnTo>
                <a:lnTo>
                  <a:pt x="948" y="83"/>
                </a:lnTo>
                <a:lnTo>
                  <a:pt x="948" y="85"/>
                </a:lnTo>
                <a:lnTo>
                  <a:pt x="948" y="89"/>
                </a:lnTo>
                <a:lnTo>
                  <a:pt x="948" y="91"/>
                </a:lnTo>
                <a:lnTo>
                  <a:pt x="946" y="95"/>
                </a:lnTo>
                <a:lnTo>
                  <a:pt x="944" y="96"/>
                </a:lnTo>
                <a:lnTo>
                  <a:pt x="940" y="100"/>
                </a:lnTo>
                <a:lnTo>
                  <a:pt x="935" y="104"/>
                </a:lnTo>
                <a:lnTo>
                  <a:pt x="929" y="108"/>
                </a:lnTo>
                <a:lnTo>
                  <a:pt x="923" y="112"/>
                </a:lnTo>
                <a:lnTo>
                  <a:pt x="915" y="116"/>
                </a:lnTo>
                <a:lnTo>
                  <a:pt x="906" y="121"/>
                </a:lnTo>
                <a:lnTo>
                  <a:pt x="896" y="127"/>
                </a:lnTo>
                <a:lnTo>
                  <a:pt x="885" y="131"/>
                </a:lnTo>
                <a:lnTo>
                  <a:pt x="873" y="137"/>
                </a:lnTo>
                <a:lnTo>
                  <a:pt x="862" y="144"/>
                </a:lnTo>
                <a:lnTo>
                  <a:pt x="848" y="150"/>
                </a:lnTo>
                <a:lnTo>
                  <a:pt x="833" y="158"/>
                </a:lnTo>
                <a:lnTo>
                  <a:pt x="819" y="1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89"/>
          <p:cNvSpPr/>
          <p:nvPr/>
        </p:nvSpPr>
        <p:spPr>
          <a:xfrm>
            <a:off x="5468760" y="3728880"/>
            <a:ext cx="1095480" cy="376560"/>
          </a:xfrm>
          <a:custGeom>
            <a:avLst/>
            <a:gdLst/>
            <a:ahLst/>
            <a:rect l="l" t="t" r="r" b="b"/>
            <a:pathLst>
              <a:path w="1380" h="474">
                <a:moveTo>
                  <a:pt x="159" y="280"/>
                </a:moveTo>
                <a:lnTo>
                  <a:pt x="163" y="278"/>
                </a:lnTo>
                <a:lnTo>
                  <a:pt x="168" y="278"/>
                </a:lnTo>
                <a:lnTo>
                  <a:pt x="172" y="278"/>
                </a:lnTo>
                <a:lnTo>
                  <a:pt x="180" y="276"/>
                </a:lnTo>
                <a:lnTo>
                  <a:pt x="188" y="276"/>
                </a:lnTo>
                <a:lnTo>
                  <a:pt x="195" y="274"/>
                </a:lnTo>
                <a:lnTo>
                  <a:pt x="205" y="272"/>
                </a:lnTo>
                <a:lnTo>
                  <a:pt x="216" y="270"/>
                </a:lnTo>
                <a:lnTo>
                  <a:pt x="228" y="269"/>
                </a:lnTo>
                <a:lnTo>
                  <a:pt x="239" y="265"/>
                </a:lnTo>
                <a:lnTo>
                  <a:pt x="253" y="263"/>
                </a:lnTo>
                <a:lnTo>
                  <a:pt x="268" y="259"/>
                </a:lnTo>
                <a:lnTo>
                  <a:pt x="284" y="255"/>
                </a:lnTo>
                <a:lnTo>
                  <a:pt x="299" y="251"/>
                </a:lnTo>
                <a:lnTo>
                  <a:pt x="316" y="247"/>
                </a:lnTo>
                <a:lnTo>
                  <a:pt x="334" y="244"/>
                </a:lnTo>
                <a:lnTo>
                  <a:pt x="353" y="238"/>
                </a:lnTo>
                <a:lnTo>
                  <a:pt x="372" y="234"/>
                </a:lnTo>
                <a:lnTo>
                  <a:pt x="393" y="228"/>
                </a:lnTo>
                <a:lnTo>
                  <a:pt x="414" y="224"/>
                </a:lnTo>
                <a:lnTo>
                  <a:pt x="437" y="219"/>
                </a:lnTo>
                <a:lnTo>
                  <a:pt x="460" y="213"/>
                </a:lnTo>
                <a:lnTo>
                  <a:pt x="483" y="205"/>
                </a:lnTo>
                <a:lnTo>
                  <a:pt x="508" y="199"/>
                </a:lnTo>
                <a:lnTo>
                  <a:pt x="535" y="194"/>
                </a:lnTo>
                <a:lnTo>
                  <a:pt x="562" y="186"/>
                </a:lnTo>
                <a:lnTo>
                  <a:pt x="589" y="178"/>
                </a:lnTo>
                <a:lnTo>
                  <a:pt x="618" y="171"/>
                </a:lnTo>
                <a:lnTo>
                  <a:pt x="646" y="163"/>
                </a:lnTo>
                <a:lnTo>
                  <a:pt x="677" y="155"/>
                </a:lnTo>
                <a:lnTo>
                  <a:pt x="708" y="148"/>
                </a:lnTo>
                <a:lnTo>
                  <a:pt x="739" y="140"/>
                </a:lnTo>
                <a:lnTo>
                  <a:pt x="771" y="130"/>
                </a:lnTo>
                <a:lnTo>
                  <a:pt x="802" y="123"/>
                </a:lnTo>
                <a:lnTo>
                  <a:pt x="831" y="115"/>
                </a:lnTo>
                <a:lnTo>
                  <a:pt x="859" y="107"/>
                </a:lnTo>
                <a:lnTo>
                  <a:pt x="888" y="100"/>
                </a:lnTo>
                <a:lnTo>
                  <a:pt x="915" y="94"/>
                </a:lnTo>
                <a:lnTo>
                  <a:pt x="940" y="86"/>
                </a:lnTo>
                <a:lnTo>
                  <a:pt x="965" y="80"/>
                </a:lnTo>
                <a:lnTo>
                  <a:pt x="990" y="73"/>
                </a:lnTo>
                <a:lnTo>
                  <a:pt x="1013" y="67"/>
                </a:lnTo>
                <a:lnTo>
                  <a:pt x="1034" y="61"/>
                </a:lnTo>
                <a:lnTo>
                  <a:pt x="1055" y="55"/>
                </a:lnTo>
                <a:lnTo>
                  <a:pt x="1074" y="50"/>
                </a:lnTo>
                <a:lnTo>
                  <a:pt x="1094" y="46"/>
                </a:lnTo>
                <a:lnTo>
                  <a:pt x="1113" y="40"/>
                </a:lnTo>
                <a:lnTo>
                  <a:pt x="1130" y="36"/>
                </a:lnTo>
                <a:lnTo>
                  <a:pt x="1145" y="32"/>
                </a:lnTo>
                <a:lnTo>
                  <a:pt x="1161" y="29"/>
                </a:lnTo>
                <a:lnTo>
                  <a:pt x="1176" y="25"/>
                </a:lnTo>
                <a:lnTo>
                  <a:pt x="1188" y="21"/>
                </a:lnTo>
                <a:lnTo>
                  <a:pt x="1201" y="17"/>
                </a:lnTo>
                <a:lnTo>
                  <a:pt x="1213" y="15"/>
                </a:lnTo>
                <a:lnTo>
                  <a:pt x="1222" y="11"/>
                </a:lnTo>
                <a:lnTo>
                  <a:pt x="1232" y="9"/>
                </a:lnTo>
                <a:lnTo>
                  <a:pt x="1239" y="7"/>
                </a:lnTo>
                <a:lnTo>
                  <a:pt x="1247" y="6"/>
                </a:lnTo>
                <a:lnTo>
                  <a:pt x="1255" y="4"/>
                </a:lnTo>
                <a:lnTo>
                  <a:pt x="1259" y="2"/>
                </a:lnTo>
                <a:lnTo>
                  <a:pt x="1264" y="2"/>
                </a:lnTo>
                <a:lnTo>
                  <a:pt x="1268" y="2"/>
                </a:lnTo>
                <a:lnTo>
                  <a:pt x="1270" y="0"/>
                </a:lnTo>
                <a:lnTo>
                  <a:pt x="1272" y="0"/>
                </a:lnTo>
                <a:lnTo>
                  <a:pt x="1276" y="0"/>
                </a:lnTo>
                <a:lnTo>
                  <a:pt x="1282" y="0"/>
                </a:lnTo>
                <a:lnTo>
                  <a:pt x="1286" y="2"/>
                </a:lnTo>
                <a:lnTo>
                  <a:pt x="1293" y="2"/>
                </a:lnTo>
                <a:lnTo>
                  <a:pt x="1299" y="4"/>
                </a:lnTo>
                <a:lnTo>
                  <a:pt x="1309" y="6"/>
                </a:lnTo>
                <a:lnTo>
                  <a:pt x="1314" y="7"/>
                </a:lnTo>
                <a:lnTo>
                  <a:pt x="1318" y="9"/>
                </a:lnTo>
                <a:lnTo>
                  <a:pt x="1324" y="11"/>
                </a:lnTo>
                <a:lnTo>
                  <a:pt x="1332" y="13"/>
                </a:lnTo>
                <a:lnTo>
                  <a:pt x="1337" y="15"/>
                </a:lnTo>
                <a:lnTo>
                  <a:pt x="1343" y="19"/>
                </a:lnTo>
                <a:lnTo>
                  <a:pt x="1349" y="21"/>
                </a:lnTo>
                <a:lnTo>
                  <a:pt x="1353" y="25"/>
                </a:lnTo>
                <a:lnTo>
                  <a:pt x="1359" y="29"/>
                </a:lnTo>
                <a:lnTo>
                  <a:pt x="1362" y="31"/>
                </a:lnTo>
                <a:lnTo>
                  <a:pt x="1368" y="38"/>
                </a:lnTo>
                <a:lnTo>
                  <a:pt x="1374" y="46"/>
                </a:lnTo>
                <a:lnTo>
                  <a:pt x="1376" y="52"/>
                </a:lnTo>
                <a:lnTo>
                  <a:pt x="1378" y="57"/>
                </a:lnTo>
                <a:lnTo>
                  <a:pt x="1380" y="63"/>
                </a:lnTo>
                <a:lnTo>
                  <a:pt x="1378" y="65"/>
                </a:lnTo>
                <a:lnTo>
                  <a:pt x="1378" y="67"/>
                </a:lnTo>
                <a:lnTo>
                  <a:pt x="1376" y="67"/>
                </a:lnTo>
                <a:lnTo>
                  <a:pt x="1374" y="69"/>
                </a:lnTo>
                <a:lnTo>
                  <a:pt x="1370" y="73"/>
                </a:lnTo>
                <a:lnTo>
                  <a:pt x="1362" y="75"/>
                </a:lnTo>
                <a:lnTo>
                  <a:pt x="1355" y="78"/>
                </a:lnTo>
                <a:lnTo>
                  <a:pt x="1345" y="82"/>
                </a:lnTo>
                <a:lnTo>
                  <a:pt x="1332" y="86"/>
                </a:lnTo>
                <a:lnTo>
                  <a:pt x="1318" y="92"/>
                </a:lnTo>
                <a:lnTo>
                  <a:pt x="1301" y="96"/>
                </a:lnTo>
                <a:lnTo>
                  <a:pt x="1284" y="102"/>
                </a:lnTo>
                <a:lnTo>
                  <a:pt x="1264" y="107"/>
                </a:lnTo>
                <a:lnTo>
                  <a:pt x="1243" y="113"/>
                </a:lnTo>
                <a:lnTo>
                  <a:pt x="1220" y="119"/>
                </a:lnTo>
                <a:lnTo>
                  <a:pt x="1195" y="126"/>
                </a:lnTo>
                <a:lnTo>
                  <a:pt x="1170" y="132"/>
                </a:lnTo>
                <a:lnTo>
                  <a:pt x="1142" y="140"/>
                </a:lnTo>
                <a:lnTo>
                  <a:pt x="1113" y="148"/>
                </a:lnTo>
                <a:lnTo>
                  <a:pt x="1082" y="155"/>
                </a:lnTo>
                <a:lnTo>
                  <a:pt x="1053" y="163"/>
                </a:lnTo>
                <a:lnTo>
                  <a:pt x="1023" y="173"/>
                </a:lnTo>
                <a:lnTo>
                  <a:pt x="990" y="182"/>
                </a:lnTo>
                <a:lnTo>
                  <a:pt x="959" y="194"/>
                </a:lnTo>
                <a:lnTo>
                  <a:pt x="927" y="203"/>
                </a:lnTo>
                <a:lnTo>
                  <a:pt x="892" y="215"/>
                </a:lnTo>
                <a:lnTo>
                  <a:pt x="859" y="228"/>
                </a:lnTo>
                <a:lnTo>
                  <a:pt x="825" y="240"/>
                </a:lnTo>
                <a:lnTo>
                  <a:pt x="790" y="253"/>
                </a:lnTo>
                <a:lnTo>
                  <a:pt x="756" y="267"/>
                </a:lnTo>
                <a:lnTo>
                  <a:pt x="719" y="282"/>
                </a:lnTo>
                <a:lnTo>
                  <a:pt x="683" y="297"/>
                </a:lnTo>
                <a:lnTo>
                  <a:pt x="646" y="313"/>
                </a:lnTo>
                <a:lnTo>
                  <a:pt x="610" y="330"/>
                </a:lnTo>
                <a:lnTo>
                  <a:pt x="591" y="338"/>
                </a:lnTo>
                <a:lnTo>
                  <a:pt x="572" y="345"/>
                </a:lnTo>
                <a:lnTo>
                  <a:pt x="554" y="353"/>
                </a:lnTo>
                <a:lnTo>
                  <a:pt x="537" y="361"/>
                </a:lnTo>
                <a:lnTo>
                  <a:pt x="522" y="368"/>
                </a:lnTo>
                <a:lnTo>
                  <a:pt x="504" y="374"/>
                </a:lnTo>
                <a:lnTo>
                  <a:pt x="489" y="382"/>
                </a:lnTo>
                <a:lnTo>
                  <a:pt x="474" y="388"/>
                </a:lnTo>
                <a:lnTo>
                  <a:pt x="458" y="393"/>
                </a:lnTo>
                <a:lnTo>
                  <a:pt x="445" y="399"/>
                </a:lnTo>
                <a:lnTo>
                  <a:pt x="431" y="405"/>
                </a:lnTo>
                <a:lnTo>
                  <a:pt x="418" y="411"/>
                </a:lnTo>
                <a:lnTo>
                  <a:pt x="405" y="414"/>
                </a:lnTo>
                <a:lnTo>
                  <a:pt x="393" y="420"/>
                </a:lnTo>
                <a:lnTo>
                  <a:pt x="380" y="424"/>
                </a:lnTo>
                <a:lnTo>
                  <a:pt x="370" y="428"/>
                </a:lnTo>
                <a:lnTo>
                  <a:pt x="358" y="432"/>
                </a:lnTo>
                <a:lnTo>
                  <a:pt x="347" y="436"/>
                </a:lnTo>
                <a:lnTo>
                  <a:pt x="337" y="439"/>
                </a:lnTo>
                <a:lnTo>
                  <a:pt x="328" y="443"/>
                </a:lnTo>
                <a:lnTo>
                  <a:pt x="320" y="447"/>
                </a:lnTo>
                <a:lnTo>
                  <a:pt x="310" y="449"/>
                </a:lnTo>
                <a:lnTo>
                  <a:pt x="303" y="453"/>
                </a:lnTo>
                <a:lnTo>
                  <a:pt x="295" y="455"/>
                </a:lnTo>
                <a:lnTo>
                  <a:pt x="289" y="457"/>
                </a:lnTo>
                <a:lnTo>
                  <a:pt x="282" y="459"/>
                </a:lnTo>
                <a:lnTo>
                  <a:pt x="276" y="460"/>
                </a:lnTo>
                <a:lnTo>
                  <a:pt x="270" y="462"/>
                </a:lnTo>
                <a:lnTo>
                  <a:pt x="266" y="464"/>
                </a:lnTo>
                <a:lnTo>
                  <a:pt x="261" y="466"/>
                </a:lnTo>
                <a:lnTo>
                  <a:pt x="257" y="468"/>
                </a:lnTo>
                <a:lnTo>
                  <a:pt x="253" y="470"/>
                </a:lnTo>
                <a:lnTo>
                  <a:pt x="245" y="472"/>
                </a:lnTo>
                <a:lnTo>
                  <a:pt x="236" y="472"/>
                </a:lnTo>
                <a:lnTo>
                  <a:pt x="228" y="474"/>
                </a:lnTo>
                <a:lnTo>
                  <a:pt x="218" y="474"/>
                </a:lnTo>
                <a:lnTo>
                  <a:pt x="201" y="474"/>
                </a:lnTo>
                <a:lnTo>
                  <a:pt x="184" y="472"/>
                </a:lnTo>
                <a:lnTo>
                  <a:pt x="168" y="470"/>
                </a:lnTo>
                <a:lnTo>
                  <a:pt x="151" y="466"/>
                </a:lnTo>
                <a:lnTo>
                  <a:pt x="138" y="460"/>
                </a:lnTo>
                <a:lnTo>
                  <a:pt x="124" y="457"/>
                </a:lnTo>
                <a:lnTo>
                  <a:pt x="117" y="453"/>
                </a:lnTo>
                <a:lnTo>
                  <a:pt x="111" y="451"/>
                </a:lnTo>
                <a:lnTo>
                  <a:pt x="103" y="447"/>
                </a:lnTo>
                <a:lnTo>
                  <a:pt x="97" y="441"/>
                </a:lnTo>
                <a:lnTo>
                  <a:pt x="90" y="437"/>
                </a:lnTo>
                <a:lnTo>
                  <a:pt x="84" y="432"/>
                </a:lnTo>
                <a:lnTo>
                  <a:pt x="71" y="420"/>
                </a:lnTo>
                <a:lnTo>
                  <a:pt x="59" y="407"/>
                </a:lnTo>
                <a:lnTo>
                  <a:pt x="48" y="389"/>
                </a:lnTo>
                <a:lnTo>
                  <a:pt x="38" y="374"/>
                </a:lnTo>
                <a:lnTo>
                  <a:pt x="28" y="355"/>
                </a:lnTo>
                <a:lnTo>
                  <a:pt x="21" y="341"/>
                </a:lnTo>
                <a:lnTo>
                  <a:pt x="13" y="326"/>
                </a:lnTo>
                <a:lnTo>
                  <a:pt x="7" y="313"/>
                </a:lnTo>
                <a:lnTo>
                  <a:pt x="3" y="301"/>
                </a:lnTo>
                <a:lnTo>
                  <a:pt x="1" y="290"/>
                </a:lnTo>
                <a:lnTo>
                  <a:pt x="0" y="280"/>
                </a:lnTo>
                <a:lnTo>
                  <a:pt x="1" y="276"/>
                </a:lnTo>
                <a:lnTo>
                  <a:pt x="1" y="272"/>
                </a:lnTo>
                <a:lnTo>
                  <a:pt x="3" y="269"/>
                </a:lnTo>
                <a:lnTo>
                  <a:pt x="5" y="267"/>
                </a:lnTo>
                <a:lnTo>
                  <a:pt x="9" y="263"/>
                </a:lnTo>
                <a:lnTo>
                  <a:pt x="15" y="259"/>
                </a:lnTo>
                <a:lnTo>
                  <a:pt x="19" y="257"/>
                </a:lnTo>
                <a:lnTo>
                  <a:pt x="26" y="257"/>
                </a:lnTo>
                <a:lnTo>
                  <a:pt x="32" y="257"/>
                </a:lnTo>
                <a:lnTo>
                  <a:pt x="42" y="259"/>
                </a:lnTo>
                <a:lnTo>
                  <a:pt x="51" y="263"/>
                </a:lnTo>
                <a:lnTo>
                  <a:pt x="57" y="265"/>
                </a:lnTo>
                <a:lnTo>
                  <a:pt x="65" y="267"/>
                </a:lnTo>
                <a:lnTo>
                  <a:pt x="72" y="270"/>
                </a:lnTo>
                <a:lnTo>
                  <a:pt x="84" y="274"/>
                </a:lnTo>
                <a:lnTo>
                  <a:pt x="95" y="276"/>
                </a:lnTo>
                <a:lnTo>
                  <a:pt x="107" y="278"/>
                </a:lnTo>
                <a:lnTo>
                  <a:pt x="120" y="278"/>
                </a:lnTo>
                <a:lnTo>
                  <a:pt x="132" y="278"/>
                </a:lnTo>
                <a:lnTo>
                  <a:pt x="159" y="2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90"/>
          <p:cNvSpPr/>
          <p:nvPr/>
        </p:nvSpPr>
        <p:spPr>
          <a:xfrm>
            <a:off x="5622840" y="3056040"/>
            <a:ext cx="590760" cy="1830240"/>
          </a:xfrm>
          <a:custGeom>
            <a:avLst/>
            <a:gdLst/>
            <a:ahLst/>
            <a:rect l="l" t="t" r="r" b="b"/>
            <a:pathLst>
              <a:path w="745" h="2308">
                <a:moveTo>
                  <a:pt x="653" y="1407"/>
                </a:moveTo>
                <a:lnTo>
                  <a:pt x="645" y="1432"/>
                </a:lnTo>
                <a:lnTo>
                  <a:pt x="638" y="1459"/>
                </a:lnTo>
                <a:lnTo>
                  <a:pt x="630" y="1486"/>
                </a:lnTo>
                <a:lnTo>
                  <a:pt x="622" y="1511"/>
                </a:lnTo>
                <a:lnTo>
                  <a:pt x="613" y="1538"/>
                </a:lnTo>
                <a:lnTo>
                  <a:pt x="603" y="1563"/>
                </a:lnTo>
                <a:lnTo>
                  <a:pt x="592" y="1590"/>
                </a:lnTo>
                <a:lnTo>
                  <a:pt x="582" y="1615"/>
                </a:lnTo>
                <a:lnTo>
                  <a:pt x="570" y="1642"/>
                </a:lnTo>
                <a:lnTo>
                  <a:pt x="557" y="1668"/>
                </a:lnTo>
                <a:lnTo>
                  <a:pt x="546" y="1693"/>
                </a:lnTo>
                <a:lnTo>
                  <a:pt x="532" y="1720"/>
                </a:lnTo>
                <a:lnTo>
                  <a:pt x="519" y="1747"/>
                </a:lnTo>
                <a:lnTo>
                  <a:pt x="505" y="1772"/>
                </a:lnTo>
                <a:lnTo>
                  <a:pt x="490" y="1799"/>
                </a:lnTo>
                <a:lnTo>
                  <a:pt x="474" y="1826"/>
                </a:lnTo>
                <a:lnTo>
                  <a:pt x="459" y="1851"/>
                </a:lnTo>
                <a:lnTo>
                  <a:pt x="444" y="1876"/>
                </a:lnTo>
                <a:lnTo>
                  <a:pt x="428" y="1901"/>
                </a:lnTo>
                <a:lnTo>
                  <a:pt x="411" y="1926"/>
                </a:lnTo>
                <a:lnTo>
                  <a:pt x="394" y="1949"/>
                </a:lnTo>
                <a:lnTo>
                  <a:pt x="377" y="1972"/>
                </a:lnTo>
                <a:lnTo>
                  <a:pt x="359" y="1993"/>
                </a:lnTo>
                <a:lnTo>
                  <a:pt x="342" y="2014"/>
                </a:lnTo>
                <a:lnTo>
                  <a:pt x="325" y="2035"/>
                </a:lnTo>
                <a:lnTo>
                  <a:pt x="306" y="2056"/>
                </a:lnTo>
                <a:lnTo>
                  <a:pt x="286" y="2075"/>
                </a:lnTo>
                <a:lnTo>
                  <a:pt x="269" y="2095"/>
                </a:lnTo>
                <a:lnTo>
                  <a:pt x="250" y="2114"/>
                </a:lnTo>
                <a:lnTo>
                  <a:pt x="231" y="2133"/>
                </a:lnTo>
                <a:lnTo>
                  <a:pt x="212" y="2150"/>
                </a:lnTo>
                <a:lnTo>
                  <a:pt x="190" y="2167"/>
                </a:lnTo>
                <a:lnTo>
                  <a:pt x="169" y="2185"/>
                </a:lnTo>
                <a:lnTo>
                  <a:pt x="150" y="2204"/>
                </a:lnTo>
                <a:lnTo>
                  <a:pt x="131" y="2219"/>
                </a:lnTo>
                <a:lnTo>
                  <a:pt x="114" y="2235"/>
                </a:lnTo>
                <a:lnTo>
                  <a:pt x="96" y="2248"/>
                </a:lnTo>
                <a:lnTo>
                  <a:pt x="83" y="2260"/>
                </a:lnTo>
                <a:lnTo>
                  <a:pt x="69" y="2271"/>
                </a:lnTo>
                <a:lnTo>
                  <a:pt x="56" y="2281"/>
                </a:lnTo>
                <a:lnTo>
                  <a:pt x="45" y="2288"/>
                </a:lnTo>
                <a:lnTo>
                  <a:pt x="35" y="2294"/>
                </a:lnTo>
                <a:lnTo>
                  <a:pt x="27" y="2300"/>
                </a:lnTo>
                <a:lnTo>
                  <a:pt x="20" y="2304"/>
                </a:lnTo>
                <a:lnTo>
                  <a:pt x="14" y="2308"/>
                </a:lnTo>
                <a:lnTo>
                  <a:pt x="8" y="2308"/>
                </a:lnTo>
                <a:lnTo>
                  <a:pt x="4" y="2308"/>
                </a:lnTo>
                <a:lnTo>
                  <a:pt x="2" y="2308"/>
                </a:lnTo>
                <a:lnTo>
                  <a:pt x="0" y="2304"/>
                </a:lnTo>
                <a:lnTo>
                  <a:pt x="0" y="2300"/>
                </a:lnTo>
                <a:lnTo>
                  <a:pt x="0" y="2296"/>
                </a:lnTo>
                <a:lnTo>
                  <a:pt x="4" y="2290"/>
                </a:lnTo>
                <a:lnTo>
                  <a:pt x="8" y="2283"/>
                </a:lnTo>
                <a:lnTo>
                  <a:pt x="12" y="2275"/>
                </a:lnTo>
                <a:lnTo>
                  <a:pt x="18" y="2267"/>
                </a:lnTo>
                <a:lnTo>
                  <a:pt x="25" y="2258"/>
                </a:lnTo>
                <a:lnTo>
                  <a:pt x="33" y="2246"/>
                </a:lnTo>
                <a:lnTo>
                  <a:pt x="43" y="2235"/>
                </a:lnTo>
                <a:lnTo>
                  <a:pt x="54" y="2223"/>
                </a:lnTo>
                <a:lnTo>
                  <a:pt x="66" y="2208"/>
                </a:lnTo>
                <a:lnTo>
                  <a:pt x="77" y="2194"/>
                </a:lnTo>
                <a:lnTo>
                  <a:pt x="91" y="2177"/>
                </a:lnTo>
                <a:lnTo>
                  <a:pt x="104" y="2160"/>
                </a:lnTo>
                <a:lnTo>
                  <a:pt x="119" y="2142"/>
                </a:lnTo>
                <a:lnTo>
                  <a:pt x="135" y="2123"/>
                </a:lnTo>
                <a:lnTo>
                  <a:pt x="150" y="2104"/>
                </a:lnTo>
                <a:lnTo>
                  <a:pt x="177" y="2066"/>
                </a:lnTo>
                <a:lnTo>
                  <a:pt x="204" y="2027"/>
                </a:lnTo>
                <a:lnTo>
                  <a:pt x="227" y="1991"/>
                </a:lnTo>
                <a:lnTo>
                  <a:pt x="250" y="1954"/>
                </a:lnTo>
                <a:lnTo>
                  <a:pt x="271" y="1920"/>
                </a:lnTo>
                <a:lnTo>
                  <a:pt x="290" y="1883"/>
                </a:lnTo>
                <a:lnTo>
                  <a:pt x="309" y="1851"/>
                </a:lnTo>
                <a:lnTo>
                  <a:pt x="344" y="1784"/>
                </a:lnTo>
                <a:lnTo>
                  <a:pt x="361" y="1749"/>
                </a:lnTo>
                <a:lnTo>
                  <a:pt x="379" y="1716"/>
                </a:lnTo>
                <a:lnTo>
                  <a:pt x="396" y="1682"/>
                </a:lnTo>
                <a:lnTo>
                  <a:pt x="411" y="1645"/>
                </a:lnTo>
                <a:lnTo>
                  <a:pt x="427" y="1609"/>
                </a:lnTo>
                <a:lnTo>
                  <a:pt x="440" y="1572"/>
                </a:lnTo>
                <a:lnTo>
                  <a:pt x="453" y="1538"/>
                </a:lnTo>
                <a:lnTo>
                  <a:pt x="465" y="1503"/>
                </a:lnTo>
                <a:lnTo>
                  <a:pt x="478" y="1467"/>
                </a:lnTo>
                <a:lnTo>
                  <a:pt x="490" y="1430"/>
                </a:lnTo>
                <a:lnTo>
                  <a:pt x="499" y="1394"/>
                </a:lnTo>
                <a:lnTo>
                  <a:pt x="509" y="1356"/>
                </a:lnTo>
                <a:lnTo>
                  <a:pt x="513" y="1336"/>
                </a:lnTo>
                <a:lnTo>
                  <a:pt x="517" y="1319"/>
                </a:lnTo>
                <a:lnTo>
                  <a:pt x="521" y="1300"/>
                </a:lnTo>
                <a:lnTo>
                  <a:pt x="522" y="1281"/>
                </a:lnTo>
                <a:lnTo>
                  <a:pt x="524" y="1261"/>
                </a:lnTo>
                <a:lnTo>
                  <a:pt x="528" y="1240"/>
                </a:lnTo>
                <a:lnTo>
                  <a:pt x="530" y="1221"/>
                </a:lnTo>
                <a:lnTo>
                  <a:pt x="534" y="1200"/>
                </a:lnTo>
                <a:lnTo>
                  <a:pt x="536" y="1177"/>
                </a:lnTo>
                <a:lnTo>
                  <a:pt x="540" y="1156"/>
                </a:lnTo>
                <a:lnTo>
                  <a:pt x="544" y="1133"/>
                </a:lnTo>
                <a:lnTo>
                  <a:pt x="546" y="1108"/>
                </a:lnTo>
                <a:lnTo>
                  <a:pt x="549" y="1085"/>
                </a:lnTo>
                <a:lnTo>
                  <a:pt x="553" y="1060"/>
                </a:lnTo>
                <a:lnTo>
                  <a:pt x="555" y="1035"/>
                </a:lnTo>
                <a:lnTo>
                  <a:pt x="559" y="1008"/>
                </a:lnTo>
                <a:lnTo>
                  <a:pt x="563" y="983"/>
                </a:lnTo>
                <a:lnTo>
                  <a:pt x="565" y="956"/>
                </a:lnTo>
                <a:lnTo>
                  <a:pt x="567" y="927"/>
                </a:lnTo>
                <a:lnTo>
                  <a:pt x="570" y="901"/>
                </a:lnTo>
                <a:lnTo>
                  <a:pt x="574" y="847"/>
                </a:lnTo>
                <a:lnTo>
                  <a:pt x="576" y="795"/>
                </a:lnTo>
                <a:lnTo>
                  <a:pt x="578" y="743"/>
                </a:lnTo>
                <a:lnTo>
                  <a:pt x="580" y="691"/>
                </a:lnTo>
                <a:lnTo>
                  <a:pt x="580" y="638"/>
                </a:lnTo>
                <a:lnTo>
                  <a:pt x="582" y="586"/>
                </a:lnTo>
                <a:lnTo>
                  <a:pt x="582" y="482"/>
                </a:lnTo>
                <a:lnTo>
                  <a:pt x="576" y="434"/>
                </a:lnTo>
                <a:lnTo>
                  <a:pt x="572" y="384"/>
                </a:lnTo>
                <a:lnTo>
                  <a:pt x="567" y="334"/>
                </a:lnTo>
                <a:lnTo>
                  <a:pt x="561" y="283"/>
                </a:lnTo>
                <a:lnTo>
                  <a:pt x="553" y="229"/>
                </a:lnTo>
                <a:lnTo>
                  <a:pt x="546" y="175"/>
                </a:lnTo>
                <a:lnTo>
                  <a:pt x="534" y="119"/>
                </a:lnTo>
                <a:lnTo>
                  <a:pt x="528" y="93"/>
                </a:lnTo>
                <a:lnTo>
                  <a:pt x="522" y="64"/>
                </a:lnTo>
                <a:lnTo>
                  <a:pt x="605" y="31"/>
                </a:lnTo>
                <a:lnTo>
                  <a:pt x="688" y="0"/>
                </a:lnTo>
                <a:lnTo>
                  <a:pt x="693" y="12"/>
                </a:lnTo>
                <a:lnTo>
                  <a:pt x="697" y="27"/>
                </a:lnTo>
                <a:lnTo>
                  <a:pt x="701" y="43"/>
                </a:lnTo>
                <a:lnTo>
                  <a:pt x="703" y="60"/>
                </a:lnTo>
                <a:lnTo>
                  <a:pt x="707" y="79"/>
                </a:lnTo>
                <a:lnTo>
                  <a:pt x="711" y="98"/>
                </a:lnTo>
                <a:lnTo>
                  <a:pt x="713" y="121"/>
                </a:lnTo>
                <a:lnTo>
                  <a:pt x="716" y="144"/>
                </a:lnTo>
                <a:lnTo>
                  <a:pt x="718" y="169"/>
                </a:lnTo>
                <a:lnTo>
                  <a:pt x="722" y="196"/>
                </a:lnTo>
                <a:lnTo>
                  <a:pt x="724" y="225"/>
                </a:lnTo>
                <a:lnTo>
                  <a:pt x="726" y="256"/>
                </a:lnTo>
                <a:lnTo>
                  <a:pt x="730" y="286"/>
                </a:lnTo>
                <a:lnTo>
                  <a:pt x="732" y="321"/>
                </a:lnTo>
                <a:lnTo>
                  <a:pt x="734" y="356"/>
                </a:lnTo>
                <a:lnTo>
                  <a:pt x="736" y="394"/>
                </a:lnTo>
                <a:lnTo>
                  <a:pt x="737" y="432"/>
                </a:lnTo>
                <a:lnTo>
                  <a:pt x="739" y="473"/>
                </a:lnTo>
                <a:lnTo>
                  <a:pt x="741" y="511"/>
                </a:lnTo>
                <a:lnTo>
                  <a:pt x="741" y="547"/>
                </a:lnTo>
                <a:lnTo>
                  <a:pt x="743" y="584"/>
                </a:lnTo>
                <a:lnTo>
                  <a:pt x="743" y="620"/>
                </a:lnTo>
                <a:lnTo>
                  <a:pt x="743" y="657"/>
                </a:lnTo>
                <a:lnTo>
                  <a:pt x="745" y="691"/>
                </a:lnTo>
                <a:lnTo>
                  <a:pt x="743" y="726"/>
                </a:lnTo>
                <a:lnTo>
                  <a:pt x="743" y="759"/>
                </a:lnTo>
                <a:lnTo>
                  <a:pt x="743" y="791"/>
                </a:lnTo>
                <a:lnTo>
                  <a:pt x="741" y="824"/>
                </a:lnTo>
                <a:lnTo>
                  <a:pt x="739" y="889"/>
                </a:lnTo>
                <a:lnTo>
                  <a:pt x="736" y="951"/>
                </a:lnTo>
                <a:lnTo>
                  <a:pt x="734" y="981"/>
                </a:lnTo>
                <a:lnTo>
                  <a:pt x="730" y="1012"/>
                </a:lnTo>
                <a:lnTo>
                  <a:pt x="726" y="1043"/>
                </a:lnTo>
                <a:lnTo>
                  <a:pt x="722" y="1071"/>
                </a:lnTo>
                <a:lnTo>
                  <a:pt x="714" y="1131"/>
                </a:lnTo>
                <a:lnTo>
                  <a:pt x="703" y="1189"/>
                </a:lnTo>
                <a:lnTo>
                  <a:pt x="691" y="1244"/>
                </a:lnTo>
                <a:lnTo>
                  <a:pt x="678" y="1300"/>
                </a:lnTo>
                <a:lnTo>
                  <a:pt x="666" y="1354"/>
                </a:lnTo>
                <a:lnTo>
                  <a:pt x="653" y="14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91"/>
          <p:cNvSpPr/>
          <p:nvPr/>
        </p:nvSpPr>
        <p:spPr>
          <a:xfrm>
            <a:off x="5742000" y="3376440"/>
            <a:ext cx="727200" cy="220680"/>
          </a:xfrm>
          <a:custGeom>
            <a:avLst/>
            <a:gdLst/>
            <a:ahLst/>
            <a:rect l="l" t="t" r="r" b="b"/>
            <a:pathLst>
              <a:path w="918" h="279">
                <a:moveTo>
                  <a:pt x="88" y="279"/>
                </a:moveTo>
                <a:lnTo>
                  <a:pt x="83" y="279"/>
                </a:lnTo>
                <a:lnTo>
                  <a:pt x="79" y="279"/>
                </a:lnTo>
                <a:lnTo>
                  <a:pt x="75" y="277"/>
                </a:lnTo>
                <a:lnTo>
                  <a:pt x="71" y="275"/>
                </a:lnTo>
                <a:lnTo>
                  <a:pt x="65" y="273"/>
                </a:lnTo>
                <a:lnTo>
                  <a:pt x="62" y="269"/>
                </a:lnTo>
                <a:lnTo>
                  <a:pt x="58" y="265"/>
                </a:lnTo>
                <a:lnTo>
                  <a:pt x="52" y="261"/>
                </a:lnTo>
                <a:lnTo>
                  <a:pt x="44" y="254"/>
                </a:lnTo>
                <a:lnTo>
                  <a:pt x="35" y="242"/>
                </a:lnTo>
                <a:lnTo>
                  <a:pt x="25" y="229"/>
                </a:lnTo>
                <a:lnTo>
                  <a:pt x="17" y="215"/>
                </a:lnTo>
                <a:lnTo>
                  <a:pt x="14" y="210"/>
                </a:lnTo>
                <a:lnTo>
                  <a:pt x="10" y="202"/>
                </a:lnTo>
                <a:lnTo>
                  <a:pt x="6" y="196"/>
                </a:lnTo>
                <a:lnTo>
                  <a:pt x="4" y="192"/>
                </a:lnTo>
                <a:lnTo>
                  <a:pt x="2" y="187"/>
                </a:lnTo>
                <a:lnTo>
                  <a:pt x="0" y="183"/>
                </a:lnTo>
                <a:lnTo>
                  <a:pt x="0" y="179"/>
                </a:lnTo>
                <a:lnTo>
                  <a:pt x="0" y="175"/>
                </a:lnTo>
                <a:lnTo>
                  <a:pt x="0" y="171"/>
                </a:lnTo>
                <a:lnTo>
                  <a:pt x="0" y="167"/>
                </a:lnTo>
                <a:lnTo>
                  <a:pt x="2" y="165"/>
                </a:lnTo>
                <a:lnTo>
                  <a:pt x="4" y="162"/>
                </a:lnTo>
                <a:lnTo>
                  <a:pt x="6" y="160"/>
                </a:lnTo>
                <a:lnTo>
                  <a:pt x="10" y="158"/>
                </a:lnTo>
                <a:lnTo>
                  <a:pt x="14" y="156"/>
                </a:lnTo>
                <a:lnTo>
                  <a:pt x="17" y="152"/>
                </a:lnTo>
                <a:lnTo>
                  <a:pt x="19" y="152"/>
                </a:lnTo>
                <a:lnTo>
                  <a:pt x="21" y="150"/>
                </a:lnTo>
                <a:lnTo>
                  <a:pt x="23" y="148"/>
                </a:lnTo>
                <a:lnTo>
                  <a:pt x="27" y="148"/>
                </a:lnTo>
                <a:lnTo>
                  <a:pt x="31" y="146"/>
                </a:lnTo>
                <a:lnTo>
                  <a:pt x="35" y="144"/>
                </a:lnTo>
                <a:lnTo>
                  <a:pt x="40" y="142"/>
                </a:lnTo>
                <a:lnTo>
                  <a:pt x="46" y="141"/>
                </a:lnTo>
                <a:lnTo>
                  <a:pt x="52" y="139"/>
                </a:lnTo>
                <a:lnTo>
                  <a:pt x="60" y="137"/>
                </a:lnTo>
                <a:lnTo>
                  <a:pt x="65" y="135"/>
                </a:lnTo>
                <a:lnTo>
                  <a:pt x="75" y="133"/>
                </a:lnTo>
                <a:lnTo>
                  <a:pt x="83" y="131"/>
                </a:lnTo>
                <a:lnTo>
                  <a:pt x="92" y="129"/>
                </a:lnTo>
                <a:lnTo>
                  <a:pt x="102" y="125"/>
                </a:lnTo>
                <a:lnTo>
                  <a:pt x="111" y="123"/>
                </a:lnTo>
                <a:lnTo>
                  <a:pt x="123" y="119"/>
                </a:lnTo>
                <a:lnTo>
                  <a:pt x="134" y="117"/>
                </a:lnTo>
                <a:lnTo>
                  <a:pt x="146" y="114"/>
                </a:lnTo>
                <a:lnTo>
                  <a:pt x="157" y="112"/>
                </a:lnTo>
                <a:lnTo>
                  <a:pt x="171" y="108"/>
                </a:lnTo>
                <a:lnTo>
                  <a:pt x="184" y="104"/>
                </a:lnTo>
                <a:lnTo>
                  <a:pt x="200" y="102"/>
                </a:lnTo>
                <a:lnTo>
                  <a:pt x="213" y="98"/>
                </a:lnTo>
                <a:lnTo>
                  <a:pt x="229" y="94"/>
                </a:lnTo>
                <a:lnTo>
                  <a:pt x="244" y="91"/>
                </a:lnTo>
                <a:lnTo>
                  <a:pt x="261" y="87"/>
                </a:lnTo>
                <a:lnTo>
                  <a:pt x="277" y="83"/>
                </a:lnTo>
                <a:lnTo>
                  <a:pt x="294" y="77"/>
                </a:lnTo>
                <a:lnTo>
                  <a:pt x="311" y="73"/>
                </a:lnTo>
                <a:lnTo>
                  <a:pt x="330" y="70"/>
                </a:lnTo>
                <a:lnTo>
                  <a:pt x="349" y="64"/>
                </a:lnTo>
                <a:lnTo>
                  <a:pt x="386" y="58"/>
                </a:lnTo>
                <a:lnTo>
                  <a:pt x="420" y="50"/>
                </a:lnTo>
                <a:lnTo>
                  <a:pt x="455" y="45"/>
                </a:lnTo>
                <a:lnTo>
                  <a:pt x="486" y="39"/>
                </a:lnTo>
                <a:lnTo>
                  <a:pt x="516" y="33"/>
                </a:lnTo>
                <a:lnTo>
                  <a:pt x="545" y="27"/>
                </a:lnTo>
                <a:lnTo>
                  <a:pt x="572" y="22"/>
                </a:lnTo>
                <a:lnTo>
                  <a:pt x="597" y="18"/>
                </a:lnTo>
                <a:lnTo>
                  <a:pt x="620" y="14"/>
                </a:lnTo>
                <a:lnTo>
                  <a:pt x="643" y="10"/>
                </a:lnTo>
                <a:lnTo>
                  <a:pt x="662" y="8"/>
                </a:lnTo>
                <a:lnTo>
                  <a:pt x="682" y="4"/>
                </a:lnTo>
                <a:lnTo>
                  <a:pt x="699" y="2"/>
                </a:lnTo>
                <a:lnTo>
                  <a:pt x="714" y="2"/>
                </a:lnTo>
                <a:lnTo>
                  <a:pt x="728" y="0"/>
                </a:lnTo>
                <a:lnTo>
                  <a:pt x="739" y="0"/>
                </a:lnTo>
                <a:lnTo>
                  <a:pt x="751" y="0"/>
                </a:lnTo>
                <a:lnTo>
                  <a:pt x="760" y="0"/>
                </a:lnTo>
                <a:lnTo>
                  <a:pt x="770" y="0"/>
                </a:lnTo>
                <a:lnTo>
                  <a:pt x="779" y="0"/>
                </a:lnTo>
                <a:lnTo>
                  <a:pt x="797" y="0"/>
                </a:lnTo>
                <a:lnTo>
                  <a:pt x="814" y="2"/>
                </a:lnTo>
                <a:lnTo>
                  <a:pt x="829" y="4"/>
                </a:lnTo>
                <a:lnTo>
                  <a:pt x="843" y="6"/>
                </a:lnTo>
                <a:lnTo>
                  <a:pt x="856" y="10"/>
                </a:lnTo>
                <a:lnTo>
                  <a:pt x="870" y="14"/>
                </a:lnTo>
                <a:lnTo>
                  <a:pt x="875" y="16"/>
                </a:lnTo>
                <a:lnTo>
                  <a:pt x="881" y="18"/>
                </a:lnTo>
                <a:lnTo>
                  <a:pt x="887" y="22"/>
                </a:lnTo>
                <a:lnTo>
                  <a:pt x="893" y="23"/>
                </a:lnTo>
                <a:lnTo>
                  <a:pt x="896" y="25"/>
                </a:lnTo>
                <a:lnTo>
                  <a:pt x="900" y="27"/>
                </a:lnTo>
                <a:lnTo>
                  <a:pt x="906" y="33"/>
                </a:lnTo>
                <a:lnTo>
                  <a:pt x="912" y="37"/>
                </a:lnTo>
                <a:lnTo>
                  <a:pt x="916" y="43"/>
                </a:lnTo>
                <a:lnTo>
                  <a:pt x="916" y="46"/>
                </a:lnTo>
                <a:lnTo>
                  <a:pt x="918" y="52"/>
                </a:lnTo>
                <a:lnTo>
                  <a:pt x="916" y="54"/>
                </a:lnTo>
                <a:lnTo>
                  <a:pt x="916" y="56"/>
                </a:lnTo>
                <a:lnTo>
                  <a:pt x="912" y="60"/>
                </a:lnTo>
                <a:lnTo>
                  <a:pt x="908" y="64"/>
                </a:lnTo>
                <a:lnTo>
                  <a:pt x="902" y="66"/>
                </a:lnTo>
                <a:lnTo>
                  <a:pt x="896" y="70"/>
                </a:lnTo>
                <a:lnTo>
                  <a:pt x="889" y="73"/>
                </a:lnTo>
                <a:lnTo>
                  <a:pt x="879" y="77"/>
                </a:lnTo>
                <a:lnTo>
                  <a:pt x="870" y="83"/>
                </a:lnTo>
                <a:lnTo>
                  <a:pt x="858" y="87"/>
                </a:lnTo>
                <a:lnTo>
                  <a:pt x="847" y="91"/>
                </a:lnTo>
                <a:lnTo>
                  <a:pt x="831" y="96"/>
                </a:lnTo>
                <a:lnTo>
                  <a:pt x="818" y="100"/>
                </a:lnTo>
                <a:lnTo>
                  <a:pt x="801" y="106"/>
                </a:lnTo>
                <a:lnTo>
                  <a:pt x="783" y="110"/>
                </a:lnTo>
                <a:lnTo>
                  <a:pt x="764" y="116"/>
                </a:lnTo>
                <a:lnTo>
                  <a:pt x="743" y="121"/>
                </a:lnTo>
                <a:lnTo>
                  <a:pt x="722" y="129"/>
                </a:lnTo>
                <a:lnTo>
                  <a:pt x="699" y="135"/>
                </a:lnTo>
                <a:lnTo>
                  <a:pt x="678" y="141"/>
                </a:lnTo>
                <a:lnTo>
                  <a:pt x="653" y="148"/>
                </a:lnTo>
                <a:lnTo>
                  <a:pt x="630" y="154"/>
                </a:lnTo>
                <a:lnTo>
                  <a:pt x="605" y="160"/>
                </a:lnTo>
                <a:lnTo>
                  <a:pt x="580" y="165"/>
                </a:lnTo>
                <a:lnTo>
                  <a:pt x="553" y="171"/>
                </a:lnTo>
                <a:lnTo>
                  <a:pt x="528" y="177"/>
                </a:lnTo>
                <a:lnTo>
                  <a:pt x="472" y="189"/>
                </a:lnTo>
                <a:lnTo>
                  <a:pt x="417" y="202"/>
                </a:lnTo>
                <a:lnTo>
                  <a:pt x="361" y="215"/>
                </a:lnTo>
                <a:lnTo>
                  <a:pt x="332" y="223"/>
                </a:lnTo>
                <a:lnTo>
                  <a:pt x="305" y="231"/>
                </a:lnTo>
                <a:lnTo>
                  <a:pt x="280" y="237"/>
                </a:lnTo>
                <a:lnTo>
                  <a:pt x="257" y="242"/>
                </a:lnTo>
                <a:lnTo>
                  <a:pt x="234" y="248"/>
                </a:lnTo>
                <a:lnTo>
                  <a:pt x="213" y="254"/>
                </a:lnTo>
                <a:lnTo>
                  <a:pt x="194" y="258"/>
                </a:lnTo>
                <a:lnTo>
                  <a:pt x="175" y="261"/>
                </a:lnTo>
                <a:lnTo>
                  <a:pt x="159" y="265"/>
                </a:lnTo>
                <a:lnTo>
                  <a:pt x="144" y="269"/>
                </a:lnTo>
                <a:lnTo>
                  <a:pt x="131" y="273"/>
                </a:lnTo>
                <a:lnTo>
                  <a:pt x="119" y="275"/>
                </a:lnTo>
                <a:lnTo>
                  <a:pt x="110" y="277"/>
                </a:lnTo>
                <a:lnTo>
                  <a:pt x="100" y="279"/>
                </a:lnTo>
                <a:lnTo>
                  <a:pt x="94" y="279"/>
                </a:lnTo>
                <a:lnTo>
                  <a:pt x="88" y="2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92"/>
          <p:cNvSpPr/>
          <p:nvPr/>
        </p:nvSpPr>
        <p:spPr>
          <a:xfrm>
            <a:off x="5792760" y="2784600"/>
            <a:ext cx="723960" cy="388800"/>
          </a:xfrm>
          <a:custGeom>
            <a:avLst/>
            <a:gdLst/>
            <a:ahLst/>
            <a:rect l="l" t="t" r="r" b="b"/>
            <a:pathLst>
              <a:path w="912" h="489">
                <a:moveTo>
                  <a:pt x="651" y="328"/>
                </a:moveTo>
                <a:lnTo>
                  <a:pt x="580" y="357"/>
                </a:lnTo>
                <a:lnTo>
                  <a:pt x="545" y="370"/>
                </a:lnTo>
                <a:lnTo>
                  <a:pt x="511" y="384"/>
                </a:lnTo>
                <a:lnTo>
                  <a:pt x="476" y="397"/>
                </a:lnTo>
                <a:lnTo>
                  <a:pt x="442" y="409"/>
                </a:lnTo>
                <a:lnTo>
                  <a:pt x="409" y="420"/>
                </a:lnTo>
                <a:lnTo>
                  <a:pt x="379" y="430"/>
                </a:lnTo>
                <a:lnTo>
                  <a:pt x="348" y="439"/>
                </a:lnTo>
                <a:lnTo>
                  <a:pt x="317" y="447"/>
                </a:lnTo>
                <a:lnTo>
                  <a:pt x="284" y="455"/>
                </a:lnTo>
                <a:lnTo>
                  <a:pt x="254" y="460"/>
                </a:lnTo>
                <a:lnTo>
                  <a:pt x="223" y="466"/>
                </a:lnTo>
                <a:lnTo>
                  <a:pt x="192" y="470"/>
                </a:lnTo>
                <a:lnTo>
                  <a:pt x="131" y="482"/>
                </a:lnTo>
                <a:lnTo>
                  <a:pt x="116" y="483"/>
                </a:lnTo>
                <a:lnTo>
                  <a:pt x="100" y="485"/>
                </a:lnTo>
                <a:lnTo>
                  <a:pt x="87" y="487"/>
                </a:lnTo>
                <a:lnTo>
                  <a:pt x="75" y="487"/>
                </a:lnTo>
                <a:lnTo>
                  <a:pt x="64" y="489"/>
                </a:lnTo>
                <a:lnTo>
                  <a:pt x="52" y="489"/>
                </a:lnTo>
                <a:lnTo>
                  <a:pt x="43" y="489"/>
                </a:lnTo>
                <a:lnTo>
                  <a:pt x="33" y="489"/>
                </a:lnTo>
                <a:lnTo>
                  <a:pt x="25" y="487"/>
                </a:lnTo>
                <a:lnTo>
                  <a:pt x="20" y="487"/>
                </a:lnTo>
                <a:lnTo>
                  <a:pt x="14" y="485"/>
                </a:lnTo>
                <a:lnTo>
                  <a:pt x="8" y="482"/>
                </a:lnTo>
                <a:lnTo>
                  <a:pt x="4" y="480"/>
                </a:lnTo>
                <a:lnTo>
                  <a:pt x="2" y="476"/>
                </a:lnTo>
                <a:lnTo>
                  <a:pt x="0" y="472"/>
                </a:lnTo>
                <a:lnTo>
                  <a:pt x="0" y="468"/>
                </a:lnTo>
                <a:lnTo>
                  <a:pt x="0" y="466"/>
                </a:lnTo>
                <a:lnTo>
                  <a:pt x="2" y="462"/>
                </a:lnTo>
                <a:lnTo>
                  <a:pt x="6" y="458"/>
                </a:lnTo>
                <a:lnTo>
                  <a:pt x="10" y="455"/>
                </a:lnTo>
                <a:lnTo>
                  <a:pt x="18" y="449"/>
                </a:lnTo>
                <a:lnTo>
                  <a:pt x="25" y="443"/>
                </a:lnTo>
                <a:lnTo>
                  <a:pt x="35" y="437"/>
                </a:lnTo>
                <a:lnTo>
                  <a:pt x="45" y="432"/>
                </a:lnTo>
                <a:lnTo>
                  <a:pt x="58" y="426"/>
                </a:lnTo>
                <a:lnTo>
                  <a:pt x="71" y="418"/>
                </a:lnTo>
                <a:lnTo>
                  <a:pt x="87" y="411"/>
                </a:lnTo>
                <a:lnTo>
                  <a:pt x="104" y="403"/>
                </a:lnTo>
                <a:lnTo>
                  <a:pt x="123" y="393"/>
                </a:lnTo>
                <a:lnTo>
                  <a:pt x="144" y="386"/>
                </a:lnTo>
                <a:lnTo>
                  <a:pt x="165" y="376"/>
                </a:lnTo>
                <a:lnTo>
                  <a:pt x="188" y="366"/>
                </a:lnTo>
                <a:lnTo>
                  <a:pt x="212" y="359"/>
                </a:lnTo>
                <a:lnTo>
                  <a:pt x="233" y="351"/>
                </a:lnTo>
                <a:lnTo>
                  <a:pt x="254" y="343"/>
                </a:lnTo>
                <a:lnTo>
                  <a:pt x="275" y="334"/>
                </a:lnTo>
                <a:lnTo>
                  <a:pt x="317" y="315"/>
                </a:lnTo>
                <a:lnTo>
                  <a:pt x="357" y="293"/>
                </a:lnTo>
                <a:lnTo>
                  <a:pt x="398" y="272"/>
                </a:lnTo>
                <a:lnTo>
                  <a:pt x="436" y="249"/>
                </a:lnTo>
                <a:lnTo>
                  <a:pt x="473" y="226"/>
                </a:lnTo>
                <a:lnTo>
                  <a:pt x="509" y="201"/>
                </a:lnTo>
                <a:lnTo>
                  <a:pt x="526" y="190"/>
                </a:lnTo>
                <a:lnTo>
                  <a:pt x="542" y="178"/>
                </a:lnTo>
                <a:lnTo>
                  <a:pt x="557" y="167"/>
                </a:lnTo>
                <a:lnTo>
                  <a:pt x="570" y="157"/>
                </a:lnTo>
                <a:lnTo>
                  <a:pt x="584" y="146"/>
                </a:lnTo>
                <a:lnTo>
                  <a:pt x="595" y="136"/>
                </a:lnTo>
                <a:lnTo>
                  <a:pt x="605" y="126"/>
                </a:lnTo>
                <a:lnTo>
                  <a:pt x="615" y="115"/>
                </a:lnTo>
                <a:lnTo>
                  <a:pt x="622" y="107"/>
                </a:lnTo>
                <a:lnTo>
                  <a:pt x="630" y="98"/>
                </a:lnTo>
                <a:lnTo>
                  <a:pt x="636" y="88"/>
                </a:lnTo>
                <a:lnTo>
                  <a:pt x="641" y="80"/>
                </a:lnTo>
                <a:lnTo>
                  <a:pt x="645" y="73"/>
                </a:lnTo>
                <a:lnTo>
                  <a:pt x="649" y="65"/>
                </a:lnTo>
                <a:lnTo>
                  <a:pt x="649" y="57"/>
                </a:lnTo>
                <a:lnTo>
                  <a:pt x="651" y="50"/>
                </a:lnTo>
                <a:lnTo>
                  <a:pt x="651" y="42"/>
                </a:lnTo>
                <a:lnTo>
                  <a:pt x="651" y="36"/>
                </a:lnTo>
                <a:lnTo>
                  <a:pt x="651" y="30"/>
                </a:lnTo>
                <a:lnTo>
                  <a:pt x="653" y="27"/>
                </a:lnTo>
                <a:lnTo>
                  <a:pt x="655" y="21"/>
                </a:lnTo>
                <a:lnTo>
                  <a:pt x="655" y="17"/>
                </a:lnTo>
                <a:lnTo>
                  <a:pt x="659" y="9"/>
                </a:lnTo>
                <a:lnTo>
                  <a:pt x="665" y="6"/>
                </a:lnTo>
                <a:lnTo>
                  <a:pt x="670" y="2"/>
                </a:lnTo>
                <a:lnTo>
                  <a:pt x="678" y="0"/>
                </a:lnTo>
                <a:lnTo>
                  <a:pt x="686" y="0"/>
                </a:lnTo>
                <a:lnTo>
                  <a:pt x="691" y="0"/>
                </a:lnTo>
                <a:lnTo>
                  <a:pt x="697" y="0"/>
                </a:lnTo>
                <a:lnTo>
                  <a:pt x="703" y="2"/>
                </a:lnTo>
                <a:lnTo>
                  <a:pt x="709" y="4"/>
                </a:lnTo>
                <a:lnTo>
                  <a:pt x="714" y="6"/>
                </a:lnTo>
                <a:lnTo>
                  <a:pt x="722" y="9"/>
                </a:lnTo>
                <a:lnTo>
                  <a:pt x="730" y="11"/>
                </a:lnTo>
                <a:lnTo>
                  <a:pt x="737" y="17"/>
                </a:lnTo>
                <a:lnTo>
                  <a:pt x="757" y="25"/>
                </a:lnTo>
                <a:lnTo>
                  <a:pt x="774" y="36"/>
                </a:lnTo>
                <a:lnTo>
                  <a:pt x="795" y="48"/>
                </a:lnTo>
                <a:lnTo>
                  <a:pt x="816" y="63"/>
                </a:lnTo>
                <a:lnTo>
                  <a:pt x="828" y="71"/>
                </a:lnTo>
                <a:lnTo>
                  <a:pt x="837" y="80"/>
                </a:lnTo>
                <a:lnTo>
                  <a:pt x="847" y="90"/>
                </a:lnTo>
                <a:lnTo>
                  <a:pt x="856" y="98"/>
                </a:lnTo>
                <a:lnTo>
                  <a:pt x="864" y="107"/>
                </a:lnTo>
                <a:lnTo>
                  <a:pt x="872" y="115"/>
                </a:lnTo>
                <a:lnTo>
                  <a:pt x="879" y="123"/>
                </a:lnTo>
                <a:lnTo>
                  <a:pt x="885" y="128"/>
                </a:lnTo>
                <a:lnTo>
                  <a:pt x="891" y="136"/>
                </a:lnTo>
                <a:lnTo>
                  <a:pt x="897" y="142"/>
                </a:lnTo>
                <a:lnTo>
                  <a:pt x="901" y="149"/>
                </a:lnTo>
                <a:lnTo>
                  <a:pt x="904" y="155"/>
                </a:lnTo>
                <a:lnTo>
                  <a:pt x="908" y="161"/>
                </a:lnTo>
                <a:lnTo>
                  <a:pt x="910" y="167"/>
                </a:lnTo>
                <a:lnTo>
                  <a:pt x="910" y="171"/>
                </a:lnTo>
                <a:lnTo>
                  <a:pt x="912" y="176"/>
                </a:lnTo>
                <a:lnTo>
                  <a:pt x="910" y="184"/>
                </a:lnTo>
                <a:lnTo>
                  <a:pt x="910" y="190"/>
                </a:lnTo>
                <a:lnTo>
                  <a:pt x="910" y="196"/>
                </a:lnTo>
                <a:lnTo>
                  <a:pt x="908" y="201"/>
                </a:lnTo>
                <a:lnTo>
                  <a:pt x="906" y="209"/>
                </a:lnTo>
                <a:lnTo>
                  <a:pt x="901" y="217"/>
                </a:lnTo>
                <a:lnTo>
                  <a:pt x="895" y="224"/>
                </a:lnTo>
                <a:lnTo>
                  <a:pt x="891" y="226"/>
                </a:lnTo>
                <a:lnTo>
                  <a:pt x="885" y="230"/>
                </a:lnTo>
                <a:lnTo>
                  <a:pt x="881" y="232"/>
                </a:lnTo>
                <a:lnTo>
                  <a:pt x="876" y="234"/>
                </a:lnTo>
                <a:lnTo>
                  <a:pt x="870" y="238"/>
                </a:lnTo>
                <a:lnTo>
                  <a:pt x="864" y="240"/>
                </a:lnTo>
                <a:lnTo>
                  <a:pt x="856" y="242"/>
                </a:lnTo>
                <a:lnTo>
                  <a:pt x="849" y="245"/>
                </a:lnTo>
                <a:lnTo>
                  <a:pt x="839" y="249"/>
                </a:lnTo>
                <a:lnTo>
                  <a:pt x="830" y="251"/>
                </a:lnTo>
                <a:lnTo>
                  <a:pt x="820" y="255"/>
                </a:lnTo>
                <a:lnTo>
                  <a:pt x="808" y="261"/>
                </a:lnTo>
                <a:lnTo>
                  <a:pt x="797" y="265"/>
                </a:lnTo>
                <a:lnTo>
                  <a:pt x="784" y="270"/>
                </a:lnTo>
                <a:lnTo>
                  <a:pt x="770" y="276"/>
                </a:lnTo>
                <a:lnTo>
                  <a:pt x="755" y="282"/>
                </a:lnTo>
                <a:lnTo>
                  <a:pt x="739" y="288"/>
                </a:lnTo>
                <a:lnTo>
                  <a:pt x="724" y="295"/>
                </a:lnTo>
                <a:lnTo>
                  <a:pt x="707" y="303"/>
                </a:lnTo>
                <a:lnTo>
                  <a:pt x="689" y="311"/>
                </a:lnTo>
                <a:lnTo>
                  <a:pt x="670" y="318"/>
                </a:lnTo>
                <a:lnTo>
                  <a:pt x="651" y="3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袭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3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5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笔画要相互迎让，下部撇捺宜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矩形 3"/>
          <p:cNvSpPr/>
          <p:nvPr/>
        </p:nvSpPr>
        <p:spPr>
          <a:xfrm>
            <a:off x="2276640" y="186840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x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06"/>
          <p:cNvSpPr/>
          <p:nvPr/>
        </p:nvSpPr>
        <p:spPr>
          <a:xfrm>
            <a:off x="6307200" y="4059360"/>
            <a:ext cx="1436760" cy="707760"/>
          </a:xfrm>
          <a:custGeom>
            <a:avLst/>
            <a:gdLst/>
            <a:ahLst/>
            <a:rect l="l" t="t" r="r" b="b"/>
            <a:pathLst>
              <a:path w="1808" h="920">
                <a:moveTo>
                  <a:pt x="737" y="609"/>
                </a:moveTo>
                <a:lnTo>
                  <a:pt x="689" y="570"/>
                </a:lnTo>
                <a:lnTo>
                  <a:pt x="641" y="532"/>
                </a:lnTo>
                <a:lnTo>
                  <a:pt x="593" y="495"/>
                </a:lnTo>
                <a:lnTo>
                  <a:pt x="545" y="459"/>
                </a:lnTo>
                <a:lnTo>
                  <a:pt x="497" y="424"/>
                </a:lnTo>
                <a:lnTo>
                  <a:pt x="449" y="388"/>
                </a:lnTo>
                <a:lnTo>
                  <a:pt x="403" y="353"/>
                </a:lnTo>
                <a:lnTo>
                  <a:pt x="355" y="321"/>
                </a:lnTo>
                <a:lnTo>
                  <a:pt x="263" y="253"/>
                </a:lnTo>
                <a:lnTo>
                  <a:pt x="219" y="219"/>
                </a:lnTo>
                <a:lnTo>
                  <a:pt x="173" y="186"/>
                </a:lnTo>
                <a:lnTo>
                  <a:pt x="129" y="156"/>
                </a:lnTo>
                <a:lnTo>
                  <a:pt x="86" y="123"/>
                </a:lnTo>
                <a:lnTo>
                  <a:pt x="42" y="90"/>
                </a:lnTo>
                <a:lnTo>
                  <a:pt x="0" y="60"/>
                </a:lnTo>
                <a:lnTo>
                  <a:pt x="17" y="29"/>
                </a:lnTo>
                <a:lnTo>
                  <a:pt x="36" y="0"/>
                </a:lnTo>
                <a:lnTo>
                  <a:pt x="71" y="21"/>
                </a:lnTo>
                <a:lnTo>
                  <a:pt x="105" y="44"/>
                </a:lnTo>
                <a:lnTo>
                  <a:pt x="140" y="65"/>
                </a:lnTo>
                <a:lnTo>
                  <a:pt x="173" y="86"/>
                </a:lnTo>
                <a:lnTo>
                  <a:pt x="205" y="106"/>
                </a:lnTo>
                <a:lnTo>
                  <a:pt x="238" y="127"/>
                </a:lnTo>
                <a:lnTo>
                  <a:pt x="269" y="146"/>
                </a:lnTo>
                <a:lnTo>
                  <a:pt x="301" y="163"/>
                </a:lnTo>
                <a:lnTo>
                  <a:pt x="330" y="182"/>
                </a:lnTo>
                <a:lnTo>
                  <a:pt x="361" y="200"/>
                </a:lnTo>
                <a:lnTo>
                  <a:pt x="390" y="217"/>
                </a:lnTo>
                <a:lnTo>
                  <a:pt x="418" y="234"/>
                </a:lnTo>
                <a:lnTo>
                  <a:pt x="445" y="252"/>
                </a:lnTo>
                <a:lnTo>
                  <a:pt x="474" y="267"/>
                </a:lnTo>
                <a:lnTo>
                  <a:pt x="499" y="282"/>
                </a:lnTo>
                <a:lnTo>
                  <a:pt x="526" y="298"/>
                </a:lnTo>
                <a:lnTo>
                  <a:pt x="551" y="311"/>
                </a:lnTo>
                <a:lnTo>
                  <a:pt x="576" y="324"/>
                </a:lnTo>
                <a:lnTo>
                  <a:pt x="601" y="340"/>
                </a:lnTo>
                <a:lnTo>
                  <a:pt x="624" y="351"/>
                </a:lnTo>
                <a:lnTo>
                  <a:pt x="647" y="365"/>
                </a:lnTo>
                <a:lnTo>
                  <a:pt x="668" y="376"/>
                </a:lnTo>
                <a:lnTo>
                  <a:pt x="691" y="390"/>
                </a:lnTo>
                <a:lnTo>
                  <a:pt x="712" y="399"/>
                </a:lnTo>
                <a:lnTo>
                  <a:pt x="731" y="411"/>
                </a:lnTo>
                <a:lnTo>
                  <a:pt x="750" y="422"/>
                </a:lnTo>
                <a:lnTo>
                  <a:pt x="770" y="432"/>
                </a:lnTo>
                <a:lnTo>
                  <a:pt x="789" y="442"/>
                </a:lnTo>
                <a:lnTo>
                  <a:pt x="806" y="451"/>
                </a:lnTo>
                <a:lnTo>
                  <a:pt x="823" y="461"/>
                </a:lnTo>
                <a:lnTo>
                  <a:pt x="841" y="468"/>
                </a:lnTo>
                <a:lnTo>
                  <a:pt x="856" y="476"/>
                </a:lnTo>
                <a:lnTo>
                  <a:pt x="887" y="491"/>
                </a:lnTo>
                <a:lnTo>
                  <a:pt x="919" y="507"/>
                </a:lnTo>
                <a:lnTo>
                  <a:pt x="954" y="522"/>
                </a:lnTo>
                <a:lnTo>
                  <a:pt x="987" y="538"/>
                </a:lnTo>
                <a:lnTo>
                  <a:pt x="1023" y="551"/>
                </a:lnTo>
                <a:lnTo>
                  <a:pt x="1058" y="566"/>
                </a:lnTo>
                <a:lnTo>
                  <a:pt x="1096" y="580"/>
                </a:lnTo>
                <a:lnTo>
                  <a:pt x="1132" y="593"/>
                </a:lnTo>
                <a:lnTo>
                  <a:pt x="1171" y="607"/>
                </a:lnTo>
                <a:lnTo>
                  <a:pt x="1209" y="620"/>
                </a:lnTo>
                <a:lnTo>
                  <a:pt x="1249" y="632"/>
                </a:lnTo>
                <a:lnTo>
                  <a:pt x="1292" y="645"/>
                </a:lnTo>
                <a:lnTo>
                  <a:pt x="1332" y="657"/>
                </a:lnTo>
                <a:lnTo>
                  <a:pt x="1374" y="668"/>
                </a:lnTo>
                <a:lnTo>
                  <a:pt x="1418" y="680"/>
                </a:lnTo>
                <a:lnTo>
                  <a:pt x="1463" y="691"/>
                </a:lnTo>
                <a:lnTo>
                  <a:pt x="1484" y="697"/>
                </a:lnTo>
                <a:lnTo>
                  <a:pt x="1503" y="703"/>
                </a:lnTo>
                <a:lnTo>
                  <a:pt x="1524" y="708"/>
                </a:lnTo>
                <a:lnTo>
                  <a:pt x="1541" y="714"/>
                </a:lnTo>
                <a:lnTo>
                  <a:pt x="1560" y="718"/>
                </a:lnTo>
                <a:lnTo>
                  <a:pt x="1578" y="724"/>
                </a:lnTo>
                <a:lnTo>
                  <a:pt x="1595" y="728"/>
                </a:lnTo>
                <a:lnTo>
                  <a:pt x="1612" y="733"/>
                </a:lnTo>
                <a:lnTo>
                  <a:pt x="1628" y="737"/>
                </a:lnTo>
                <a:lnTo>
                  <a:pt x="1643" y="741"/>
                </a:lnTo>
                <a:lnTo>
                  <a:pt x="1656" y="745"/>
                </a:lnTo>
                <a:lnTo>
                  <a:pt x="1670" y="749"/>
                </a:lnTo>
                <a:lnTo>
                  <a:pt x="1683" y="753"/>
                </a:lnTo>
                <a:lnTo>
                  <a:pt x="1697" y="756"/>
                </a:lnTo>
                <a:lnTo>
                  <a:pt x="1708" y="760"/>
                </a:lnTo>
                <a:lnTo>
                  <a:pt x="1720" y="764"/>
                </a:lnTo>
                <a:lnTo>
                  <a:pt x="1729" y="768"/>
                </a:lnTo>
                <a:lnTo>
                  <a:pt x="1739" y="770"/>
                </a:lnTo>
                <a:lnTo>
                  <a:pt x="1749" y="774"/>
                </a:lnTo>
                <a:lnTo>
                  <a:pt x="1758" y="776"/>
                </a:lnTo>
                <a:lnTo>
                  <a:pt x="1766" y="779"/>
                </a:lnTo>
                <a:lnTo>
                  <a:pt x="1773" y="781"/>
                </a:lnTo>
                <a:lnTo>
                  <a:pt x="1779" y="783"/>
                </a:lnTo>
                <a:lnTo>
                  <a:pt x="1785" y="785"/>
                </a:lnTo>
                <a:lnTo>
                  <a:pt x="1791" y="787"/>
                </a:lnTo>
                <a:lnTo>
                  <a:pt x="1795" y="791"/>
                </a:lnTo>
                <a:lnTo>
                  <a:pt x="1798" y="791"/>
                </a:lnTo>
                <a:lnTo>
                  <a:pt x="1802" y="793"/>
                </a:lnTo>
                <a:lnTo>
                  <a:pt x="1804" y="795"/>
                </a:lnTo>
                <a:lnTo>
                  <a:pt x="1806" y="797"/>
                </a:lnTo>
                <a:lnTo>
                  <a:pt x="1806" y="799"/>
                </a:lnTo>
                <a:lnTo>
                  <a:pt x="1808" y="799"/>
                </a:lnTo>
                <a:lnTo>
                  <a:pt x="1806" y="802"/>
                </a:lnTo>
                <a:lnTo>
                  <a:pt x="1804" y="804"/>
                </a:lnTo>
                <a:lnTo>
                  <a:pt x="1802" y="806"/>
                </a:lnTo>
                <a:lnTo>
                  <a:pt x="1798" y="810"/>
                </a:lnTo>
                <a:lnTo>
                  <a:pt x="1793" y="814"/>
                </a:lnTo>
                <a:lnTo>
                  <a:pt x="1787" y="818"/>
                </a:lnTo>
                <a:lnTo>
                  <a:pt x="1779" y="820"/>
                </a:lnTo>
                <a:lnTo>
                  <a:pt x="1772" y="824"/>
                </a:lnTo>
                <a:lnTo>
                  <a:pt x="1762" y="827"/>
                </a:lnTo>
                <a:lnTo>
                  <a:pt x="1752" y="833"/>
                </a:lnTo>
                <a:lnTo>
                  <a:pt x="1739" y="837"/>
                </a:lnTo>
                <a:lnTo>
                  <a:pt x="1727" y="841"/>
                </a:lnTo>
                <a:lnTo>
                  <a:pt x="1714" y="845"/>
                </a:lnTo>
                <a:lnTo>
                  <a:pt x="1699" y="850"/>
                </a:lnTo>
                <a:lnTo>
                  <a:pt x="1681" y="854"/>
                </a:lnTo>
                <a:lnTo>
                  <a:pt x="1664" y="858"/>
                </a:lnTo>
                <a:lnTo>
                  <a:pt x="1626" y="868"/>
                </a:lnTo>
                <a:lnTo>
                  <a:pt x="1587" y="875"/>
                </a:lnTo>
                <a:lnTo>
                  <a:pt x="1549" y="881"/>
                </a:lnTo>
                <a:lnTo>
                  <a:pt x="1512" y="887"/>
                </a:lnTo>
                <a:lnTo>
                  <a:pt x="1478" y="893"/>
                </a:lnTo>
                <a:lnTo>
                  <a:pt x="1443" y="897"/>
                </a:lnTo>
                <a:lnTo>
                  <a:pt x="1411" y="902"/>
                </a:lnTo>
                <a:lnTo>
                  <a:pt x="1380" y="906"/>
                </a:lnTo>
                <a:lnTo>
                  <a:pt x="1363" y="908"/>
                </a:lnTo>
                <a:lnTo>
                  <a:pt x="1345" y="910"/>
                </a:lnTo>
                <a:lnTo>
                  <a:pt x="1330" y="912"/>
                </a:lnTo>
                <a:lnTo>
                  <a:pt x="1315" y="914"/>
                </a:lnTo>
                <a:lnTo>
                  <a:pt x="1299" y="914"/>
                </a:lnTo>
                <a:lnTo>
                  <a:pt x="1286" y="916"/>
                </a:lnTo>
                <a:lnTo>
                  <a:pt x="1274" y="916"/>
                </a:lnTo>
                <a:lnTo>
                  <a:pt x="1261" y="918"/>
                </a:lnTo>
                <a:lnTo>
                  <a:pt x="1251" y="918"/>
                </a:lnTo>
                <a:lnTo>
                  <a:pt x="1240" y="918"/>
                </a:lnTo>
                <a:lnTo>
                  <a:pt x="1230" y="918"/>
                </a:lnTo>
                <a:lnTo>
                  <a:pt x="1221" y="918"/>
                </a:lnTo>
                <a:lnTo>
                  <a:pt x="1211" y="918"/>
                </a:lnTo>
                <a:lnTo>
                  <a:pt x="1203" y="920"/>
                </a:lnTo>
                <a:lnTo>
                  <a:pt x="1196" y="920"/>
                </a:lnTo>
                <a:lnTo>
                  <a:pt x="1190" y="920"/>
                </a:lnTo>
                <a:lnTo>
                  <a:pt x="1186" y="918"/>
                </a:lnTo>
                <a:lnTo>
                  <a:pt x="1180" y="916"/>
                </a:lnTo>
                <a:lnTo>
                  <a:pt x="1177" y="914"/>
                </a:lnTo>
                <a:lnTo>
                  <a:pt x="1171" y="910"/>
                </a:lnTo>
                <a:lnTo>
                  <a:pt x="1163" y="906"/>
                </a:lnTo>
                <a:lnTo>
                  <a:pt x="1157" y="902"/>
                </a:lnTo>
                <a:lnTo>
                  <a:pt x="1148" y="898"/>
                </a:lnTo>
                <a:lnTo>
                  <a:pt x="1140" y="895"/>
                </a:lnTo>
                <a:lnTo>
                  <a:pt x="1130" y="889"/>
                </a:lnTo>
                <a:lnTo>
                  <a:pt x="1121" y="883"/>
                </a:lnTo>
                <a:lnTo>
                  <a:pt x="1109" y="875"/>
                </a:lnTo>
                <a:lnTo>
                  <a:pt x="1100" y="870"/>
                </a:lnTo>
                <a:lnTo>
                  <a:pt x="1086" y="862"/>
                </a:lnTo>
                <a:lnTo>
                  <a:pt x="1075" y="854"/>
                </a:lnTo>
                <a:lnTo>
                  <a:pt x="1061" y="845"/>
                </a:lnTo>
                <a:lnTo>
                  <a:pt x="1048" y="835"/>
                </a:lnTo>
                <a:lnTo>
                  <a:pt x="1033" y="825"/>
                </a:lnTo>
                <a:lnTo>
                  <a:pt x="1017" y="816"/>
                </a:lnTo>
                <a:lnTo>
                  <a:pt x="1002" y="804"/>
                </a:lnTo>
                <a:lnTo>
                  <a:pt x="985" y="793"/>
                </a:lnTo>
                <a:lnTo>
                  <a:pt x="967" y="781"/>
                </a:lnTo>
                <a:lnTo>
                  <a:pt x="950" y="768"/>
                </a:lnTo>
                <a:lnTo>
                  <a:pt x="931" y="754"/>
                </a:lnTo>
                <a:lnTo>
                  <a:pt x="912" y="741"/>
                </a:lnTo>
                <a:lnTo>
                  <a:pt x="892" y="728"/>
                </a:lnTo>
                <a:lnTo>
                  <a:pt x="873" y="712"/>
                </a:lnTo>
                <a:lnTo>
                  <a:pt x="852" y="697"/>
                </a:lnTo>
                <a:lnTo>
                  <a:pt x="829" y="680"/>
                </a:lnTo>
                <a:lnTo>
                  <a:pt x="808" y="662"/>
                </a:lnTo>
                <a:lnTo>
                  <a:pt x="785" y="645"/>
                </a:lnTo>
                <a:lnTo>
                  <a:pt x="762" y="628"/>
                </a:lnTo>
                <a:lnTo>
                  <a:pt x="737" y="6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107"/>
          <p:cNvSpPr/>
          <p:nvPr/>
        </p:nvSpPr>
        <p:spPr>
          <a:xfrm>
            <a:off x="6684840" y="3952800"/>
            <a:ext cx="473040" cy="368280"/>
          </a:xfrm>
          <a:custGeom>
            <a:avLst/>
            <a:gdLst/>
            <a:ahLst/>
            <a:rect l="l" t="t" r="r" b="b"/>
            <a:pathLst>
              <a:path w="595" h="478">
                <a:moveTo>
                  <a:pt x="332" y="167"/>
                </a:moveTo>
                <a:lnTo>
                  <a:pt x="342" y="159"/>
                </a:lnTo>
                <a:lnTo>
                  <a:pt x="349" y="150"/>
                </a:lnTo>
                <a:lnTo>
                  <a:pt x="357" y="142"/>
                </a:lnTo>
                <a:lnTo>
                  <a:pt x="363" y="135"/>
                </a:lnTo>
                <a:lnTo>
                  <a:pt x="370" y="127"/>
                </a:lnTo>
                <a:lnTo>
                  <a:pt x="374" y="119"/>
                </a:lnTo>
                <a:lnTo>
                  <a:pt x="380" y="111"/>
                </a:lnTo>
                <a:lnTo>
                  <a:pt x="384" y="104"/>
                </a:lnTo>
                <a:lnTo>
                  <a:pt x="388" y="96"/>
                </a:lnTo>
                <a:lnTo>
                  <a:pt x="392" y="88"/>
                </a:lnTo>
                <a:lnTo>
                  <a:pt x="393" y="83"/>
                </a:lnTo>
                <a:lnTo>
                  <a:pt x="393" y="75"/>
                </a:lnTo>
                <a:lnTo>
                  <a:pt x="395" y="69"/>
                </a:lnTo>
                <a:lnTo>
                  <a:pt x="395" y="62"/>
                </a:lnTo>
                <a:lnTo>
                  <a:pt x="393" y="56"/>
                </a:lnTo>
                <a:lnTo>
                  <a:pt x="392" y="48"/>
                </a:lnTo>
                <a:lnTo>
                  <a:pt x="388" y="40"/>
                </a:lnTo>
                <a:lnTo>
                  <a:pt x="386" y="33"/>
                </a:lnTo>
                <a:lnTo>
                  <a:pt x="384" y="27"/>
                </a:lnTo>
                <a:lnTo>
                  <a:pt x="384" y="19"/>
                </a:lnTo>
                <a:lnTo>
                  <a:pt x="386" y="16"/>
                </a:lnTo>
                <a:lnTo>
                  <a:pt x="388" y="12"/>
                </a:lnTo>
                <a:lnTo>
                  <a:pt x="390" y="10"/>
                </a:lnTo>
                <a:lnTo>
                  <a:pt x="393" y="8"/>
                </a:lnTo>
                <a:lnTo>
                  <a:pt x="395" y="6"/>
                </a:lnTo>
                <a:lnTo>
                  <a:pt x="399" y="2"/>
                </a:lnTo>
                <a:lnTo>
                  <a:pt x="405" y="0"/>
                </a:lnTo>
                <a:lnTo>
                  <a:pt x="407" y="0"/>
                </a:lnTo>
                <a:lnTo>
                  <a:pt x="409" y="2"/>
                </a:lnTo>
                <a:lnTo>
                  <a:pt x="413" y="4"/>
                </a:lnTo>
                <a:lnTo>
                  <a:pt x="418" y="4"/>
                </a:lnTo>
                <a:lnTo>
                  <a:pt x="422" y="8"/>
                </a:lnTo>
                <a:lnTo>
                  <a:pt x="428" y="10"/>
                </a:lnTo>
                <a:lnTo>
                  <a:pt x="434" y="14"/>
                </a:lnTo>
                <a:lnTo>
                  <a:pt x="439" y="17"/>
                </a:lnTo>
                <a:lnTo>
                  <a:pt x="447" y="21"/>
                </a:lnTo>
                <a:lnTo>
                  <a:pt x="455" y="25"/>
                </a:lnTo>
                <a:lnTo>
                  <a:pt x="463" y="31"/>
                </a:lnTo>
                <a:lnTo>
                  <a:pt x="470" y="37"/>
                </a:lnTo>
                <a:lnTo>
                  <a:pt x="480" y="42"/>
                </a:lnTo>
                <a:lnTo>
                  <a:pt x="489" y="48"/>
                </a:lnTo>
                <a:lnTo>
                  <a:pt x="501" y="54"/>
                </a:lnTo>
                <a:lnTo>
                  <a:pt x="511" y="62"/>
                </a:lnTo>
                <a:lnTo>
                  <a:pt x="522" y="67"/>
                </a:lnTo>
                <a:lnTo>
                  <a:pt x="532" y="75"/>
                </a:lnTo>
                <a:lnTo>
                  <a:pt x="541" y="81"/>
                </a:lnTo>
                <a:lnTo>
                  <a:pt x="549" y="87"/>
                </a:lnTo>
                <a:lnTo>
                  <a:pt x="557" y="94"/>
                </a:lnTo>
                <a:lnTo>
                  <a:pt x="562" y="100"/>
                </a:lnTo>
                <a:lnTo>
                  <a:pt x="570" y="108"/>
                </a:lnTo>
                <a:lnTo>
                  <a:pt x="574" y="113"/>
                </a:lnTo>
                <a:lnTo>
                  <a:pt x="580" y="119"/>
                </a:lnTo>
                <a:lnTo>
                  <a:pt x="583" y="125"/>
                </a:lnTo>
                <a:lnTo>
                  <a:pt x="587" y="131"/>
                </a:lnTo>
                <a:lnTo>
                  <a:pt x="589" y="136"/>
                </a:lnTo>
                <a:lnTo>
                  <a:pt x="591" y="142"/>
                </a:lnTo>
                <a:lnTo>
                  <a:pt x="593" y="146"/>
                </a:lnTo>
                <a:lnTo>
                  <a:pt x="593" y="152"/>
                </a:lnTo>
                <a:lnTo>
                  <a:pt x="595" y="156"/>
                </a:lnTo>
                <a:lnTo>
                  <a:pt x="593" y="159"/>
                </a:lnTo>
                <a:lnTo>
                  <a:pt x="591" y="163"/>
                </a:lnTo>
                <a:lnTo>
                  <a:pt x="589" y="167"/>
                </a:lnTo>
                <a:lnTo>
                  <a:pt x="585" y="173"/>
                </a:lnTo>
                <a:lnTo>
                  <a:pt x="582" y="179"/>
                </a:lnTo>
                <a:lnTo>
                  <a:pt x="576" y="184"/>
                </a:lnTo>
                <a:lnTo>
                  <a:pt x="568" y="190"/>
                </a:lnTo>
                <a:lnTo>
                  <a:pt x="560" y="196"/>
                </a:lnTo>
                <a:lnTo>
                  <a:pt x="551" y="204"/>
                </a:lnTo>
                <a:lnTo>
                  <a:pt x="541" y="209"/>
                </a:lnTo>
                <a:lnTo>
                  <a:pt x="530" y="217"/>
                </a:lnTo>
                <a:lnTo>
                  <a:pt x="518" y="225"/>
                </a:lnTo>
                <a:lnTo>
                  <a:pt x="505" y="234"/>
                </a:lnTo>
                <a:lnTo>
                  <a:pt x="489" y="244"/>
                </a:lnTo>
                <a:lnTo>
                  <a:pt x="474" y="252"/>
                </a:lnTo>
                <a:lnTo>
                  <a:pt x="459" y="263"/>
                </a:lnTo>
                <a:lnTo>
                  <a:pt x="441" y="273"/>
                </a:lnTo>
                <a:lnTo>
                  <a:pt x="422" y="282"/>
                </a:lnTo>
                <a:lnTo>
                  <a:pt x="403" y="294"/>
                </a:lnTo>
                <a:lnTo>
                  <a:pt x="382" y="305"/>
                </a:lnTo>
                <a:lnTo>
                  <a:pt x="361" y="317"/>
                </a:lnTo>
                <a:lnTo>
                  <a:pt x="338" y="330"/>
                </a:lnTo>
                <a:lnTo>
                  <a:pt x="313" y="344"/>
                </a:lnTo>
                <a:lnTo>
                  <a:pt x="288" y="355"/>
                </a:lnTo>
                <a:lnTo>
                  <a:pt x="261" y="371"/>
                </a:lnTo>
                <a:lnTo>
                  <a:pt x="234" y="384"/>
                </a:lnTo>
                <a:lnTo>
                  <a:pt x="205" y="399"/>
                </a:lnTo>
                <a:lnTo>
                  <a:pt x="177" y="413"/>
                </a:lnTo>
                <a:lnTo>
                  <a:pt x="146" y="428"/>
                </a:lnTo>
                <a:lnTo>
                  <a:pt x="113" y="445"/>
                </a:lnTo>
                <a:lnTo>
                  <a:pt x="81" y="461"/>
                </a:lnTo>
                <a:lnTo>
                  <a:pt x="48" y="478"/>
                </a:lnTo>
                <a:lnTo>
                  <a:pt x="23" y="455"/>
                </a:lnTo>
                <a:lnTo>
                  <a:pt x="0" y="430"/>
                </a:lnTo>
                <a:lnTo>
                  <a:pt x="33" y="407"/>
                </a:lnTo>
                <a:lnTo>
                  <a:pt x="63" y="384"/>
                </a:lnTo>
                <a:lnTo>
                  <a:pt x="92" y="361"/>
                </a:lnTo>
                <a:lnTo>
                  <a:pt x="119" y="340"/>
                </a:lnTo>
                <a:lnTo>
                  <a:pt x="146" y="321"/>
                </a:lnTo>
                <a:lnTo>
                  <a:pt x="171" y="302"/>
                </a:lnTo>
                <a:lnTo>
                  <a:pt x="194" y="284"/>
                </a:lnTo>
                <a:lnTo>
                  <a:pt x="215" y="267"/>
                </a:lnTo>
                <a:lnTo>
                  <a:pt x="234" y="252"/>
                </a:lnTo>
                <a:lnTo>
                  <a:pt x="253" y="236"/>
                </a:lnTo>
                <a:lnTo>
                  <a:pt x="271" y="223"/>
                </a:lnTo>
                <a:lnTo>
                  <a:pt x="286" y="211"/>
                </a:lnTo>
                <a:lnTo>
                  <a:pt x="299" y="198"/>
                </a:lnTo>
                <a:lnTo>
                  <a:pt x="313" y="188"/>
                </a:lnTo>
                <a:lnTo>
                  <a:pt x="322" y="177"/>
                </a:lnTo>
                <a:lnTo>
                  <a:pt x="332" y="1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108"/>
          <p:cNvSpPr/>
          <p:nvPr/>
        </p:nvSpPr>
        <p:spPr>
          <a:xfrm>
            <a:off x="6156360" y="4183200"/>
            <a:ext cx="596880" cy="765000"/>
          </a:xfrm>
          <a:custGeom>
            <a:avLst/>
            <a:gdLst/>
            <a:ahLst/>
            <a:rect l="l" t="t" r="r" b="b"/>
            <a:pathLst>
              <a:path w="750" h="992">
                <a:moveTo>
                  <a:pt x="510" y="704"/>
                </a:moveTo>
                <a:lnTo>
                  <a:pt x="482" y="727"/>
                </a:lnTo>
                <a:lnTo>
                  <a:pt x="453" y="748"/>
                </a:lnTo>
                <a:lnTo>
                  <a:pt x="426" y="769"/>
                </a:lnTo>
                <a:lnTo>
                  <a:pt x="401" y="789"/>
                </a:lnTo>
                <a:lnTo>
                  <a:pt x="376" y="806"/>
                </a:lnTo>
                <a:lnTo>
                  <a:pt x="355" y="823"/>
                </a:lnTo>
                <a:lnTo>
                  <a:pt x="334" y="840"/>
                </a:lnTo>
                <a:lnTo>
                  <a:pt x="315" y="856"/>
                </a:lnTo>
                <a:lnTo>
                  <a:pt x="297" y="871"/>
                </a:lnTo>
                <a:lnTo>
                  <a:pt x="282" y="885"/>
                </a:lnTo>
                <a:lnTo>
                  <a:pt x="269" y="896"/>
                </a:lnTo>
                <a:lnTo>
                  <a:pt x="257" y="908"/>
                </a:lnTo>
                <a:lnTo>
                  <a:pt x="247" y="919"/>
                </a:lnTo>
                <a:lnTo>
                  <a:pt x="238" y="929"/>
                </a:lnTo>
                <a:lnTo>
                  <a:pt x="232" y="936"/>
                </a:lnTo>
                <a:lnTo>
                  <a:pt x="226" y="944"/>
                </a:lnTo>
                <a:lnTo>
                  <a:pt x="219" y="950"/>
                </a:lnTo>
                <a:lnTo>
                  <a:pt x="213" y="956"/>
                </a:lnTo>
                <a:lnTo>
                  <a:pt x="207" y="961"/>
                </a:lnTo>
                <a:lnTo>
                  <a:pt x="201" y="967"/>
                </a:lnTo>
                <a:lnTo>
                  <a:pt x="196" y="971"/>
                </a:lnTo>
                <a:lnTo>
                  <a:pt x="190" y="975"/>
                </a:lnTo>
                <a:lnTo>
                  <a:pt x="180" y="981"/>
                </a:lnTo>
                <a:lnTo>
                  <a:pt x="171" y="986"/>
                </a:lnTo>
                <a:lnTo>
                  <a:pt x="161" y="988"/>
                </a:lnTo>
                <a:lnTo>
                  <a:pt x="152" y="990"/>
                </a:lnTo>
                <a:lnTo>
                  <a:pt x="142" y="992"/>
                </a:lnTo>
                <a:lnTo>
                  <a:pt x="138" y="990"/>
                </a:lnTo>
                <a:lnTo>
                  <a:pt x="134" y="990"/>
                </a:lnTo>
                <a:lnTo>
                  <a:pt x="128" y="988"/>
                </a:lnTo>
                <a:lnTo>
                  <a:pt x="125" y="986"/>
                </a:lnTo>
                <a:lnTo>
                  <a:pt x="119" y="984"/>
                </a:lnTo>
                <a:lnTo>
                  <a:pt x="115" y="982"/>
                </a:lnTo>
                <a:lnTo>
                  <a:pt x="105" y="975"/>
                </a:lnTo>
                <a:lnTo>
                  <a:pt x="94" y="967"/>
                </a:lnTo>
                <a:lnTo>
                  <a:pt x="84" y="956"/>
                </a:lnTo>
                <a:lnTo>
                  <a:pt x="73" y="944"/>
                </a:lnTo>
                <a:lnTo>
                  <a:pt x="59" y="933"/>
                </a:lnTo>
                <a:lnTo>
                  <a:pt x="54" y="923"/>
                </a:lnTo>
                <a:lnTo>
                  <a:pt x="46" y="915"/>
                </a:lnTo>
                <a:lnTo>
                  <a:pt x="40" y="908"/>
                </a:lnTo>
                <a:lnTo>
                  <a:pt x="34" y="900"/>
                </a:lnTo>
                <a:lnTo>
                  <a:pt x="31" y="894"/>
                </a:lnTo>
                <a:lnTo>
                  <a:pt x="25" y="886"/>
                </a:lnTo>
                <a:lnTo>
                  <a:pt x="17" y="877"/>
                </a:lnTo>
                <a:lnTo>
                  <a:pt x="9" y="867"/>
                </a:lnTo>
                <a:lnTo>
                  <a:pt x="6" y="863"/>
                </a:lnTo>
                <a:lnTo>
                  <a:pt x="4" y="860"/>
                </a:lnTo>
                <a:lnTo>
                  <a:pt x="2" y="856"/>
                </a:lnTo>
                <a:lnTo>
                  <a:pt x="2" y="854"/>
                </a:lnTo>
                <a:lnTo>
                  <a:pt x="0" y="850"/>
                </a:lnTo>
                <a:lnTo>
                  <a:pt x="0" y="848"/>
                </a:lnTo>
                <a:lnTo>
                  <a:pt x="0" y="846"/>
                </a:lnTo>
                <a:lnTo>
                  <a:pt x="2" y="842"/>
                </a:lnTo>
                <a:lnTo>
                  <a:pt x="2" y="838"/>
                </a:lnTo>
                <a:lnTo>
                  <a:pt x="4" y="835"/>
                </a:lnTo>
                <a:lnTo>
                  <a:pt x="6" y="831"/>
                </a:lnTo>
                <a:lnTo>
                  <a:pt x="9" y="825"/>
                </a:lnTo>
                <a:lnTo>
                  <a:pt x="17" y="815"/>
                </a:lnTo>
                <a:lnTo>
                  <a:pt x="25" y="804"/>
                </a:lnTo>
                <a:lnTo>
                  <a:pt x="34" y="790"/>
                </a:lnTo>
                <a:lnTo>
                  <a:pt x="46" y="779"/>
                </a:lnTo>
                <a:lnTo>
                  <a:pt x="59" y="766"/>
                </a:lnTo>
                <a:lnTo>
                  <a:pt x="63" y="760"/>
                </a:lnTo>
                <a:lnTo>
                  <a:pt x="65" y="754"/>
                </a:lnTo>
                <a:lnTo>
                  <a:pt x="69" y="746"/>
                </a:lnTo>
                <a:lnTo>
                  <a:pt x="73" y="737"/>
                </a:lnTo>
                <a:lnTo>
                  <a:pt x="75" y="727"/>
                </a:lnTo>
                <a:lnTo>
                  <a:pt x="79" y="716"/>
                </a:lnTo>
                <a:lnTo>
                  <a:pt x="80" y="704"/>
                </a:lnTo>
                <a:lnTo>
                  <a:pt x="84" y="691"/>
                </a:lnTo>
                <a:lnTo>
                  <a:pt x="86" y="675"/>
                </a:lnTo>
                <a:lnTo>
                  <a:pt x="88" y="660"/>
                </a:lnTo>
                <a:lnTo>
                  <a:pt x="92" y="643"/>
                </a:lnTo>
                <a:lnTo>
                  <a:pt x="94" y="623"/>
                </a:lnTo>
                <a:lnTo>
                  <a:pt x="96" y="604"/>
                </a:lnTo>
                <a:lnTo>
                  <a:pt x="100" y="583"/>
                </a:lnTo>
                <a:lnTo>
                  <a:pt x="102" y="562"/>
                </a:lnTo>
                <a:lnTo>
                  <a:pt x="104" y="539"/>
                </a:lnTo>
                <a:lnTo>
                  <a:pt x="105" y="514"/>
                </a:lnTo>
                <a:lnTo>
                  <a:pt x="107" y="489"/>
                </a:lnTo>
                <a:lnTo>
                  <a:pt x="111" y="462"/>
                </a:lnTo>
                <a:lnTo>
                  <a:pt x="113" y="433"/>
                </a:lnTo>
                <a:lnTo>
                  <a:pt x="115" y="405"/>
                </a:lnTo>
                <a:lnTo>
                  <a:pt x="117" y="374"/>
                </a:lnTo>
                <a:lnTo>
                  <a:pt x="117" y="343"/>
                </a:lnTo>
                <a:lnTo>
                  <a:pt x="119" y="309"/>
                </a:lnTo>
                <a:lnTo>
                  <a:pt x="121" y="276"/>
                </a:lnTo>
                <a:lnTo>
                  <a:pt x="123" y="240"/>
                </a:lnTo>
                <a:lnTo>
                  <a:pt x="125" y="203"/>
                </a:lnTo>
                <a:lnTo>
                  <a:pt x="127" y="165"/>
                </a:lnTo>
                <a:lnTo>
                  <a:pt x="127" y="126"/>
                </a:lnTo>
                <a:lnTo>
                  <a:pt x="128" y="84"/>
                </a:lnTo>
                <a:lnTo>
                  <a:pt x="130" y="44"/>
                </a:lnTo>
                <a:lnTo>
                  <a:pt x="130" y="0"/>
                </a:lnTo>
                <a:lnTo>
                  <a:pt x="146" y="25"/>
                </a:lnTo>
                <a:lnTo>
                  <a:pt x="159" y="48"/>
                </a:lnTo>
                <a:lnTo>
                  <a:pt x="173" y="69"/>
                </a:lnTo>
                <a:lnTo>
                  <a:pt x="184" y="88"/>
                </a:lnTo>
                <a:lnTo>
                  <a:pt x="196" y="107"/>
                </a:lnTo>
                <a:lnTo>
                  <a:pt x="205" y="123"/>
                </a:lnTo>
                <a:lnTo>
                  <a:pt x="215" y="138"/>
                </a:lnTo>
                <a:lnTo>
                  <a:pt x="223" y="153"/>
                </a:lnTo>
                <a:lnTo>
                  <a:pt x="230" y="165"/>
                </a:lnTo>
                <a:lnTo>
                  <a:pt x="236" y="176"/>
                </a:lnTo>
                <a:lnTo>
                  <a:pt x="242" y="186"/>
                </a:lnTo>
                <a:lnTo>
                  <a:pt x="247" y="195"/>
                </a:lnTo>
                <a:lnTo>
                  <a:pt x="251" y="203"/>
                </a:lnTo>
                <a:lnTo>
                  <a:pt x="255" y="207"/>
                </a:lnTo>
                <a:lnTo>
                  <a:pt x="259" y="213"/>
                </a:lnTo>
                <a:lnTo>
                  <a:pt x="261" y="215"/>
                </a:lnTo>
                <a:lnTo>
                  <a:pt x="261" y="218"/>
                </a:lnTo>
                <a:lnTo>
                  <a:pt x="261" y="222"/>
                </a:lnTo>
                <a:lnTo>
                  <a:pt x="261" y="228"/>
                </a:lnTo>
                <a:lnTo>
                  <a:pt x="259" y="236"/>
                </a:lnTo>
                <a:lnTo>
                  <a:pt x="259" y="243"/>
                </a:lnTo>
                <a:lnTo>
                  <a:pt x="257" y="253"/>
                </a:lnTo>
                <a:lnTo>
                  <a:pt x="255" y="265"/>
                </a:lnTo>
                <a:lnTo>
                  <a:pt x="253" y="278"/>
                </a:lnTo>
                <a:lnTo>
                  <a:pt x="251" y="291"/>
                </a:lnTo>
                <a:lnTo>
                  <a:pt x="249" y="307"/>
                </a:lnTo>
                <a:lnTo>
                  <a:pt x="247" y="324"/>
                </a:lnTo>
                <a:lnTo>
                  <a:pt x="246" y="343"/>
                </a:lnTo>
                <a:lnTo>
                  <a:pt x="244" y="362"/>
                </a:lnTo>
                <a:lnTo>
                  <a:pt x="242" y="384"/>
                </a:lnTo>
                <a:lnTo>
                  <a:pt x="240" y="407"/>
                </a:lnTo>
                <a:lnTo>
                  <a:pt x="238" y="430"/>
                </a:lnTo>
                <a:lnTo>
                  <a:pt x="236" y="455"/>
                </a:lnTo>
                <a:lnTo>
                  <a:pt x="234" y="478"/>
                </a:lnTo>
                <a:lnTo>
                  <a:pt x="232" y="499"/>
                </a:lnTo>
                <a:lnTo>
                  <a:pt x="230" y="520"/>
                </a:lnTo>
                <a:lnTo>
                  <a:pt x="230" y="539"/>
                </a:lnTo>
                <a:lnTo>
                  <a:pt x="230" y="558"/>
                </a:lnTo>
                <a:lnTo>
                  <a:pt x="228" y="576"/>
                </a:lnTo>
                <a:lnTo>
                  <a:pt x="228" y="591"/>
                </a:lnTo>
                <a:lnTo>
                  <a:pt x="228" y="606"/>
                </a:lnTo>
                <a:lnTo>
                  <a:pt x="230" y="620"/>
                </a:lnTo>
                <a:lnTo>
                  <a:pt x="230" y="633"/>
                </a:lnTo>
                <a:lnTo>
                  <a:pt x="230" y="645"/>
                </a:lnTo>
                <a:lnTo>
                  <a:pt x="232" y="656"/>
                </a:lnTo>
                <a:lnTo>
                  <a:pt x="234" y="666"/>
                </a:lnTo>
                <a:lnTo>
                  <a:pt x="236" y="673"/>
                </a:lnTo>
                <a:lnTo>
                  <a:pt x="238" y="681"/>
                </a:lnTo>
                <a:lnTo>
                  <a:pt x="240" y="687"/>
                </a:lnTo>
                <a:lnTo>
                  <a:pt x="246" y="693"/>
                </a:lnTo>
                <a:lnTo>
                  <a:pt x="251" y="695"/>
                </a:lnTo>
                <a:lnTo>
                  <a:pt x="259" y="696"/>
                </a:lnTo>
                <a:lnTo>
                  <a:pt x="271" y="696"/>
                </a:lnTo>
                <a:lnTo>
                  <a:pt x="282" y="696"/>
                </a:lnTo>
                <a:lnTo>
                  <a:pt x="294" y="693"/>
                </a:lnTo>
                <a:lnTo>
                  <a:pt x="309" y="689"/>
                </a:lnTo>
                <a:lnTo>
                  <a:pt x="326" y="683"/>
                </a:lnTo>
                <a:lnTo>
                  <a:pt x="343" y="675"/>
                </a:lnTo>
                <a:lnTo>
                  <a:pt x="365" y="668"/>
                </a:lnTo>
                <a:lnTo>
                  <a:pt x="386" y="656"/>
                </a:lnTo>
                <a:lnTo>
                  <a:pt x="409" y="645"/>
                </a:lnTo>
                <a:lnTo>
                  <a:pt x="434" y="629"/>
                </a:lnTo>
                <a:lnTo>
                  <a:pt x="459" y="614"/>
                </a:lnTo>
                <a:lnTo>
                  <a:pt x="487" y="597"/>
                </a:lnTo>
                <a:lnTo>
                  <a:pt x="516" y="581"/>
                </a:lnTo>
                <a:lnTo>
                  <a:pt x="543" y="568"/>
                </a:lnTo>
                <a:lnTo>
                  <a:pt x="568" y="556"/>
                </a:lnTo>
                <a:lnTo>
                  <a:pt x="591" y="545"/>
                </a:lnTo>
                <a:lnTo>
                  <a:pt x="614" y="535"/>
                </a:lnTo>
                <a:lnTo>
                  <a:pt x="635" y="528"/>
                </a:lnTo>
                <a:lnTo>
                  <a:pt x="654" y="520"/>
                </a:lnTo>
                <a:lnTo>
                  <a:pt x="672" y="514"/>
                </a:lnTo>
                <a:lnTo>
                  <a:pt x="687" y="508"/>
                </a:lnTo>
                <a:lnTo>
                  <a:pt x="702" y="504"/>
                </a:lnTo>
                <a:lnTo>
                  <a:pt x="714" y="501"/>
                </a:lnTo>
                <a:lnTo>
                  <a:pt x="725" y="499"/>
                </a:lnTo>
                <a:lnTo>
                  <a:pt x="733" y="499"/>
                </a:lnTo>
                <a:lnTo>
                  <a:pt x="741" y="499"/>
                </a:lnTo>
                <a:lnTo>
                  <a:pt x="743" y="499"/>
                </a:lnTo>
                <a:lnTo>
                  <a:pt x="747" y="501"/>
                </a:lnTo>
                <a:lnTo>
                  <a:pt x="748" y="501"/>
                </a:lnTo>
                <a:lnTo>
                  <a:pt x="748" y="503"/>
                </a:lnTo>
                <a:lnTo>
                  <a:pt x="750" y="503"/>
                </a:lnTo>
                <a:lnTo>
                  <a:pt x="750" y="504"/>
                </a:lnTo>
                <a:lnTo>
                  <a:pt x="750" y="506"/>
                </a:lnTo>
                <a:lnTo>
                  <a:pt x="748" y="508"/>
                </a:lnTo>
                <a:lnTo>
                  <a:pt x="748" y="512"/>
                </a:lnTo>
                <a:lnTo>
                  <a:pt x="747" y="514"/>
                </a:lnTo>
                <a:lnTo>
                  <a:pt x="745" y="518"/>
                </a:lnTo>
                <a:lnTo>
                  <a:pt x="741" y="522"/>
                </a:lnTo>
                <a:lnTo>
                  <a:pt x="739" y="526"/>
                </a:lnTo>
                <a:lnTo>
                  <a:pt x="735" y="529"/>
                </a:lnTo>
                <a:lnTo>
                  <a:pt x="731" y="535"/>
                </a:lnTo>
                <a:lnTo>
                  <a:pt x="725" y="539"/>
                </a:lnTo>
                <a:lnTo>
                  <a:pt x="720" y="545"/>
                </a:lnTo>
                <a:lnTo>
                  <a:pt x="714" y="551"/>
                </a:lnTo>
                <a:lnTo>
                  <a:pt x="708" y="556"/>
                </a:lnTo>
                <a:lnTo>
                  <a:pt x="700" y="562"/>
                </a:lnTo>
                <a:lnTo>
                  <a:pt x="693" y="570"/>
                </a:lnTo>
                <a:lnTo>
                  <a:pt x="685" y="576"/>
                </a:lnTo>
                <a:lnTo>
                  <a:pt x="677" y="583"/>
                </a:lnTo>
                <a:lnTo>
                  <a:pt x="668" y="591"/>
                </a:lnTo>
                <a:lnTo>
                  <a:pt x="658" y="599"/>
                </a:lnTo>
                <a:lnTo>
                  <a:pt x="647" y="606"/>
                </a:lnTo>
                <a:lnTo>
                  <a:pt x="637" y="614"/>
                </a:lnTo>
                <a:lnTo>
                  <a:pt x="626" y="623"/>
                </a:lnTo>
                <a:lnTo>
                  <a:pt x="612" y="633"/>
                </a:lnTo>
                <a:lnTo>
                  <a:pt x="601" y="643"/>
                </a:lnTo>
                <a:lnTo>
                  <a:pt x="587" y="652"/>
                </a:lnTo>
                <a:lnTo>
                  <a:pt x="572" y="662"/>
                </a:lnTo>
                <a:lnTo>
                  <a:pt x="558" y="671"/>
                </a:lnTo>
                <a:lnTo>
                  <a:pt x="543" y="683"/>
                </a:lnTo>
                <a:lnTo>
                  <a:pt x="528" y="693"/>
                </a:lnTo>
                <a:lnTo>
                  <a:pt x="510" y="7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109"/>
          <p:cNvSpPr/>
          <p:nvPr/>
        </p:nvSpPr>
        <p:spPr>
          <a:xfrm>
            <a:off x="5467320" y="3975120"/>
            <a:ext cx="944640" cy="754200"/>
          </a:xfrm>
          <a:custGeom>
            <a:avLst/>
            <a:gdLst/>
            <a:ahLst/>
            <a:rect l="l" t="t" r="r" b="b"/>
            <a:pathLst>
              <a:path w="1190" h="979">
                <a:moveTo>
                  <a:pt x="1190" y="142"/>
                </a:moveTo>
                <a:lnTo>
                  <a:pt x="1190" y="149"/>
                </a:lnTo>
                <a:lnTo>
                  <a:pt x="1189" y="155"/>
                </a:lnTo>
                <a:lnTo>
                  <a:pt x="1187" y="163"/>
                </a:lnTo>
                <a:lnTo>
                  <a:pt x="1185" y="170"/>
                </a:lnTo>
                <a:lnTo>
                  <a:pt x="1181" y="178"/>
                </a:lnTo>
                <a:lnTo>
                  <a:pt x="1177" y="188"/>
                </a:lnTo>
                <a:lnTo>
                  <a:pt x="1171" y="195"/>
                </a:lnTo>
                <a:lnTo>
                  <a:pt x="1165" y="205"/>
                </a:lnTo>
                <a:lnTo>
                  <a:pt x="1160" y="213"/>
                </a:lnTo>
                <a:lnTo>
                  <a:pt x="1152" y="222"/>
                </a:lnTo>
                <a:lnTo>
                  <a:pt x="1144" y="232"/>
                </a:lnTo>
                <a:lnTo>
                  <a:pt x="1135" y="241"/>
                </a:lnTo>
                <a:lnTo>
                  <a:pt x="1127" y="253"/>
                </a:lnTo>
                <a:lnTo>
                  <a:pt x="1117" y="263"/>
                </a:lnTo>
                <a:lnTo>
                  <a:pt x="1106" y="274"/>
                </a:lnTo>
                <a:lnTo>
                  <a:pt x="1096" y="286"/>
                </a:lnTo>
                <a:lnTo>
                  <a:pt x="1085" y="297"/>
                </a:lnTo>
                <a:lnTo>
                  <a:pt x="1071" y="309"/>
                </a:lnTo>
                <a:lnTo>
                  <a:pt x="1058" y="322"/>
                </a:lnTo>
                <a:lnTo>
                  <a:pt x="1043" y="336"/>
                </a:lnTo>
                <a:lnTo>
                  <a:pt x="1027" y="351"/>
                </a:lnTo>
                <a:lnTo>
                  <a:pt x="1010" y="366"/>
                </a:lnTo>
                <a:lnTo>
                  <a:pt x="993" y="382"/>
                </a:lnTo>
                <a:lnTo>
                  <a:pt x="974" y="399"/>
                </a:lnTo>
                <a:lnTo>
                  <a:pt x="954" y="416"/>
                </a:lnTo>
                <a:lnTo>
                  <a:pt x="933" y="433"/>
                </a:lnTo>
                <a:lnTo>
                  <a:pt x="914" y="451"/>
                </a:lnTo>
                <a:lnTo>
                  <a:pt x="891" y="470"/>
                </a:lnTo>
                <a:lnTo>
                  <a:pt x="870" y="489"/>
                </a:lnTo>
                <a:lnTo>
                  <a:pt x="847" y="508"/>
                </a:lnTo>
                <a:lnTo>
                  <a:pt x="822" y="527"/>
                </a:lnTo>
                <a:lnTo>
                  <a:pt x="799" y="549"/>
                </a:lnTo>
                <a:lnTo>
                  <a:pt x="772" y="570"/>
                </a:lnTo>
                <a:lnTo>
                  <a:pt x="743" y="593"/>
                </a:lnTo>
                <a:lnTo>
                  <a:pt x="716" y="614"/>
                </a:lnTo>
                <a:lnTo>
                  <a:pt x="688" y="635"/>
                </a:lnTo>
                <a:lnTo>
                  <a:pt x="659" y="656"/>
                </a:lnTo>
                <a:lnTo>
                  <a:pt x="628" y="677"/>
                </a:lnTo>
                <a:lnTo>
                  <a:pt x="597" y="696"/>
                </a:lnTo>
                <a:lnTo>
                  <a:pt x="567" y="716"/>
                </a:lnTo>
                <a:lnTo>
                  <a:pt x="536" y="735"/>
                </a:lnTo>
                <a:lnTo>
                  <a:pt x="503" y="754"/>
                </a:lnTo>
                <a:lnTo>
                  <a:pt x="471" y="773"/>
                </a:lnTo>
                <a:lnTo>
                  <a:pt x="438" y="790"/>
                </a:lnTo>
                <a:lnTo>
                  <a:pt x="403" y="808"/>
                </a:lnTo>
                <a:lnTo>
                  <a:pt x="369" y="825"/>
                </a:lnTo>
                <a:lnTo>
                  <a:pt x="334" y="842"/>
                </a:lnTo>
                <a:lnTo>
                  <a:pt x="300" y="858"/>
                </a:lnTo>
                <a:lnTo>
                  <a:pt x="283" y="865"/>
                </a:lnTo>
                <a:lnTo>
                  <a:pt x="265" y="873"/>
                </a:lnTo>
                <a:lnTo>
                  <a:pt x="248" y="881"/>
                </a:lnTo>
                <a:lnTo>
                  <a:pt x="233" y="888"/>
                </a:lnTo>
                <a:lnTo>
                  <a:pt x="217" y="896"/>
                </a:lnTo>
                <a:lnTo>
                  <a:pt x="202" y="902"/>
                </a:lnTo>
                <a:lnTo>
                  <a:pt x="188" y="908"/>
                </a:lnTo>
                <a:lnTo>
                  <a:pt x="175" y="915"/>
                </a:lnTo>
                <a:lnTo>
                  <a:pt x="162" y="921"/>
                </a:lnTo>
                <a:lnTo>
                  <a:pt x="148" y="927"/>
                </a:lnTo>
                <a:lnTo>
                  <a:pt x="137" y="931"/>
                </a:lnTo>
                <a:lnTo>
                  <a:pt x="125" y="936"/>
                </a:lnTo>
                <a:lnTo>
                  <a:pt x="114" y="942"/>
                </a:lnTo>
                <a:lnTo>
                  <a:pt x="104" y="946"/>
                </a:lnTo>
                <a:lnTo>
                  <a:pt x="94" y="950"/>
                </a:lnTo>
                <a:lnTo>
                  <a:pt x="85" y="954"/>
                </a:lnTo>
                <a:lnTo>
                  <a:pt x="75" y="957"/>
                </a:lnTo>
                <a:lnTo>
                  <a:pt x="68" y="961"/>
                </a:lnTo>
                <a:lnTo>
                  <a:pt x="58" y="965"/>
                </a:lnTo>
                <a:lnTo>
                  <a:pt x="52" y="967"/>
                </a:lnTo>
                <a:lnTo>
                  <a:pt x="45" y="971"/>
                </a:lnTo>
                <a:lnTo>
                  <a:pt x="39" y="973"/>
                </a:lnTo>
                <a:lnTo>
                  <a:pt x="33" y="975"/>
                </a:lnTo>
                <a:lnTo>
                  <a:pt x="27" y="977"/>
                </a:lnTo>
                <a:lnTo>
                  <a:pt x="21" y="977"/>
                </a:lnTo>
                <a:lnTo>
                  <a:pt x="18" y="979"/>
                </a:lnTo>
                <a:lnTo>
                  <a:pt x="14" y="979"/>
                </a:lnTo>
                <a:lnTo>
                  <a:pt x="10" y="979"/>
                </a:lnTo>
                <a:lnTo>
                  <a:pt x="8" y="979"/>
                </a:lnTo>
                <a:lnTo>
                  <a:pt x="4" y="979"/>
                </a:lnTo>
                <a:lnTo>
                  <a:pt x="2" y="979"/>
                </a:lnTo>
                <a:lnTo>
                  <a:pt x="0" y="977"/>
                </a:lnTo>
                <a:lnTo>
                  <a:pt x="0" y="975"/>
                </a:lnTo>
                <a:lnTo>
                  <a:pt x="0" y="973"/>
                </a:lnTo>
                <a:lnTo>
                  <a:pt x="2" y="971"/>
                </a:lnTo>
                <a:lnTo>
                  <a:pt x="4" y="969"/>
                </a:lnTo>
                <a:lnTo>
                  <a:pt x="6" y="965"/>
                </a:lnTo>
                <a:lnTo>
                  <a:pt x="8" y="963"/>
                </a:lnTo>
                <a:lnTo>
                  <a:pt x="10" y="959"/>
                </a:lnTo>
                <a:lnTo>
                  <a:pt x="14" y="957"/>
                </a:lnTo>
                <a:lnTo>
                  <a:pt x="18" y="954"/>
                </a:lnTo>
                <a:lnTo>
                  <a:pt x="23" y="950"/>
                </a:lnTo>
                <a:lnTo>
                  <a:pt x="27" y="946"/>
                </a:lnTo>
                <a:lnTo>
                  <a:pt x="33" y="940"/>
                </a:lnTo>
                <a:lnTo>
                  <a:pt x="39" y="936"/>
                </a:lnTo>
                <a:lnTo>
                  <a:pt x="46" y="931"/>
                </a:lnTo>
                <a:lnTo>
                  <a:pt x="52" y="927"/>
                </a:lnTo>
                <a:lnTo>
                  <a:pt x="60" y="921"/>
                </a:lnTo>
                <a:lnTo>
                  <a:pt x="68" y="915"/>
                </a:lnTo>
                <a:lnTo>
                  <a:pt x="87" y="904"/>
                </a:lnTo>
                <a:lnTo>
                  <a:pt x="106" y="890"/>
                </a:lnTo>
                <a:lnTo>
                  <a:pt x="127" y="877"/>
                </a:lnTo>
                <a:lnTo>
                  <a:pt x="148" y="861"/>
                </a:lnTo>
                <a:lnTo>
                  <a:pt x="173" y="846"/>
                </a:lnTo>
                <a:lnTo>
                  <a:pt x="200" y="829"/>
                </a:lnTo>
                <a:lnTo>
                  <a:pt x="229" y="812"/>
                </a:lnTo>
                <a:lnTo>
                  <a:pt x="284" y="773"/>
                </a:lnTo>
                <a:lnTo>
                  <a:pt x="342" y="737"/>
                </a:lnTo>
                <a:lnTo>
                  <a:pt x="396" y="698"/>
                </a:lnTo>
                <a:lnTo>
                  <a:pt x="451" y="660"/>
                </a:lnTo>
                <a:lnTo>
                  <a:pt x="503" y="622"/>
                </a:lnTo>
                <a:lnTo>
                  <a:pt x="555" y="581"/>
                </a:lnTo>
                <a:lnTo>
                  <a:pt x="607" y="541"/>
                </a:lnTo>
                <a:lnTo>
                  <a:pt x="657" y="501"/>
                </a:lnTo>
                <a:lnTo>
                  <a:pt x="678" y="479"/>
                </a:lnTo>
                <a:lnTo>
                  <a:pt x="701" y="456"/>
                </a:lnTo>
                <a:lnTo>
                  <a:pt x="726" y="433"/>
                </a:lnTo>
                <a:lnTo>
                  <a:pt x="749" y="408"/>
                </a:lnTo>
                <a:lnTo>
                  <a:pt x="774" y="382"/>
                </a:lnTo>
                <a:lnTo>
                  <a:pt x="801" y="355"/>
                </a:lnTo>
                <a:lnTo>
                  <a:pt x="828" y="324"/>
                </a:lnTo>
                <a:lnTo>
                  <a:pt x="855" y="295"/>
                </a:lnTo>
                <a:lnTo>
                  <a:pt x="881" y="263"/>
                </a:lnTo>
                <a:lnTo>
                  <a:pt x="910" y="230"/>
                </a:lnTo>
                <a:lnTo>
                  <a:pt x="939" y="193"/>
                </a:lnTo>
                <a:lnTo>
                  <a:pt x="970" y="159"/>
                </a:lnTo>
                <a:lnTo>
                  <a:pt x="1000" y="121"/>
                </a:lnTo>
                <a:lnTo>
                  <a:pt x="1031" y="82"/>
                </a:lnTo>
                <a:lnTo>
                  <a:pt x="1064" y="40"/>
                </a:lnTo>
                <a:lnTo>
                  <a:pt x="1096" y="0"/>
                </a:lnTo>
                <a:lnTo>
                  <a:pt x="1106" y="9"/>
                </a:lnTo>
                <a:lnTo>
                  <a:pt x="1117" y="21"/>
                </a:lnTo>
                <a:lnTo>
                  <a:pt x="1127" y="32"/>
                </a:lnTo>
                <a:lnTo>
                  <a:pt x="1135" y="42"/>
                </a:lnTo>
                <a:lnTo>
                  <a:pt x="1144" y="51"/>
                </a:lnTo>
                <a:lnTo>
                  <a:pt x="1152" y="61"/>
                </a:lnTo>
                <a:lnTo>
                  <a:pt x="1160" y="71"/>
                </a:lnTo>
                <a:lnTo>
                  <a:pt x="1165" y="80"/>
                </a:lnTo>
                <a:lnTo>
                  <a:pt x="1171" y="88"/>
                </a:lnTo>
                <a:lnTo>
                  <a:pt x="1177" y="97"/>
                </a:lnTo>
                <a:lnTo>
                  <a:pt x="1181" y="105"/>
                </a:lnTo>
                <a:lnTo>
                  <a:pt x="1185" y="113"/>
                </a:lnTo>
                <a:lnTo>
                  <a:pt x="1187" y="121"/>
                </a:lnTo>
                <a:lnTo>
                  <a:pt x="1189" y="128"/>
                </a:lnTo>
                <a:lnTo>
                  <a:pt x="1190" y="136"/>
                </a:lnTo>
                <a:lnTo>
                  <a:pt x="1190" y="1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10"/>
          <p:cNvSpPr/>
          <p:nvPr/>
        </p:nvSpPr>
        <p:spPr>
          <a:xfrm>
            <a:off x="5808600" y="3836880"/>
            <a:ext cx="1098720" cy="266760"/>
          </a:xfrm>
          <a:custGeom>
            <a:avLst/>
            <a:gdLst/>
            <a:ahLst/>
            <a:rect l="l" t="t" r="r" b="b"/>
            <a:pathLst>
              <a:path w="1384" h="346">
                <a:moveTo>
                  <a:pt x="1378" y="48"/>
                </a:moveTo>
                <a:lnTo>
                  <a:pt x="1380" y="50"/>
                </a:lnTo>
                <a:lnTo>
                  <a:pt x="1382" y="52"/>
                </a:lnTo>
                <a:lnTo>
                  <a:pt x="1384" y="54"/>
                </a:lnTo>
                <a:lnTo>
                  <a:pt x="1384" y="56"/>
                </a:lnTo>
                <a:lnTo>
                  <a:pt x="1384" y="62"/>
                </a:lnTo>
                <a:lnTo>
                  <a:pt x="1382" y="65"/>
                </a:lnTo>
                <a:lnTo>
                  <a:pt x="1378" y="69"/>
                </a:lnTo>
                <a:lnTo>
                  <a:pt x="1377" y="75"/>
                </a:lnTo>
                <a:lnTo>
                  <a:pt x="1373" y="79"/>
                </a:lnTo>
                <a:lnTo>
                  <a:pt x="1367" y="83"/>
                </a:lnTo>
                <a:lnTo>
                  <a:pt x="1361" y="86"/>
                </a:lnTo>
                <a:lnTo>
                  <a:pt x="1355" y="88"/>
                </a:lnTo>
                <a:lnTo>
                  <a:pt x="1346" y="90"/>
                </a:lnTo>
                <a:lnTo>
                  <a:pt x="1336" y="94"/>
                </a:lnTo>
                <a:lnTo>
                  <a:pt x="1323" y="98"/>
                </a:lnTo>
                <a:lnTo>
                  <a:pt x="1309" y="102"/>
                </a:lnTo>
                <a:lnTo>
                  <a:pt x="1294" y="106"/>
                </a:lnTo>
                <a:lnTo>
                  <a:pt x="1277" y="110"/>
                </a:lnTo>
                <a:lnTo>
                  <a:pt x="1258" y="113"/>
                </a:lnTo>
                <a:lnTo>
                  <a:pt x="1236" y="119"/>
                </a:lnTo>
                <a:lnTo>
                  <a:pt x="1213" y="125"/>
                </a:lnTo>
                <a:lnTo>
                  <a:pt x="1188" y="131"/>
                </a:lnTo>
                <a:lnTo>
                  <a:pt x="1162" y="136"/>
                </a:lnTo>
                <a:lnTo>
                  <a:pt x="1133" y="142"/>
                </a:lnTo>
                <a:lnTo>
                  <a:pt x="1102" y="148"/>
                </a:lnTo>
                <a:lnTo>
                  <a:pt x="1087" y="152"/>
                </a:lnTo>
                <a:lnTo>
                  <a:pt x="1069" y="156"/>
                </a:lnTo>
                <a:lnTo>
                  <a:pt x="1002" y="173"/>
                </a:lnTo>
                <a:lnTo>
                  <a:pt x="935" y="190"/>
                </a:lnTo>
                <a:lnTo>
                  <a:pt x="866" y="207"/>
                </a:lnTo>
                <a:lnTo>
                  <a:pt x="795" y="225"/>
                </a:lnTo>
                <a:lnTo>
                  <a:pt x="724" y="242"/>
                </a:lnTo>
                <a:lnTo>
                  <a:pt x="653" y="257"/>
                </a:lnTo>
                <a:lnTo>
                  <a:pt x="582" y="273"/>
                </a:lnTo>
                <a:lnTo>
                  <a:pt x="511" y="286"/>
                </a:lnTo>
                <a:lnTo>
                  <a:pt x="476" y="294"/>
                </a:lnTo>
                <a:lnTo>
                  <a:pt x="444" y="300"/>
                </a:lnTo>
                <a:lnTo>
                  <a:pt x="411" y="305"/>
                </a:lnTo>
                <a:lnTo>
                  <a:pt x="382" y="311"/>
                </a:lnTo>
                <a:lnTo>
                  <a:pt x="354" y="317"/>
                </a:lnTo>
                <a:lnTo>
                  <a:pt x="329" y="321"/>
                </a:lnTo>
                <a:lnTo>
                  <a:pt x="304" y="326"/>
                </a:lnTo>
                <a:lnTo>
                  <a:pt x="281" y="330"/>
                </a:lnTo>
                <a:lnTo>
                  <a:pt x="259" y="334"/>
                </a:lnTo>
                <a:lnTo>
                  <a:pt x="240" y="336"/>
                </a:lnTo>
                <a:lnTo>
                  <a:pt x="223" y="340"/>
                </a:lnTo>
                <a:lnTo>
                  <a:pt x="208" y="342"/>
                </a:lnTo>
                <a:lnTo>
                  <a:pt x="194" y="344"/>
                </a:lnTo>
                <a:lnTo>
                  <a:pt x="188" y="344"/>
                </a:lnTo>
                <a:lnTo>
                  <a:pt x="183" y="344"/>
                </a:lnTo>
                <a:lnTo>
                  <a:pt x="179" y="346"/>
                </a:lnTo>
                <a:lnTo>
                  <a:pt x="173" y="346"/>
                </a:lnTo>
                <a:lnTo>
                  <a:pt x="169" y="346"/>
                </a:lnTo>
                <a:lnTo>
                  <a:pt x="167" y="346"/>
                </a:lnTo>
                <a:lnTo>
                  <a:pt x="160" y="346"/>
                </a:lnTo>
                <a:lnTo>
                  <a:pt x="152" y="344"/>
                </a:lnTo>
                <a:lnTo>
                  <a:pt x="144" y="344"/>
                </a:lnTo>
                <a:lnTo>
                  <a:pt x="135" y="342"/>
                </a:lnTo>
                <a:lnTo>
                  <a:pt x="127" y="338"/>
                </a:lnTo>
                <a:lnTo>
                  <a:pt x="117" y="336"/>
                </a:lnTo>
                <a:lnTo>
                  <a:pt x="108" y="332"/>
                </a:lnTo>
                <a:lnTo>
                  <a:pt x="96" y="328"/>
                </a:lnTo>
                <a:lnTo>
                  <a:pt x="85" y="323"/>
                </a:lnTo>
                <a:lnTo>
                  <a:pt x="75" y="319"/>
                </a:lnTo>
                <a:lnTo>
                  <a:pt x="64" y="313"/>
                </a:lnTo>
                <a:lnTo>
                  <a:pt x="50" y="305"/>
                </a:lnTo>
                <a:lnTo>
                  <a:pt x="39" y="300"/>
                </a:lnTo>
                <a:lnTo>
                  <a:pt x="25" y="292"/>
                </a:lnTo>
                <a:lnTo>
                  <a:pt x="14" y="282"/>
                </a:lnTo>
                <a:lnTo>
                  <a:pt x="0" y="275"/>
                </a:lnTo>
                <a:lnTo>
                  <a:pt x="35" y="265"/>
                </a:lnTo>
                <a:lnTo>
                  <a:pt x="69" y="257"/>
                </a:lnTo>
                <a:lnTo>
                  <a:pt x="104" y="250"/>
                </a:lnTo>
                <a:lnTo>
                  <a:pt x="139" y="240"/>
                </a:lnTo>
                <a:lnTo>
                  <a:pt x="171" y="232"/>
                </a:lnTo>
                <a:lnTo>
                  <a:pt x="204" y="225"/>
                </a:lnTo>
                <a:lnTo>
                  <a:pt x="236" y="217"/>
                </a:lnTo>
                <a:lnTo>
                  <a:pt x="269" y="209"/>
                </a:lnTo>
                <a:lnTo>
                  <a:pt x="300" y="202"/>
                </a:lnTo>
                <a:lnTo>
                  <a:pt x="330" y="196"/>
                </a:lnTo>
                <a:lnTo>
                  <a:pt x="361" y="188"/>
                </a:lnTo>
                <a:lnTo>
                  <a:pt x="390" y="181"/>
                </a:lnTo>
                <a:lnTo>
                  <a:pt x="419" y="175"/>
                </a:lnTo>
                <a:lnTo>
                  <a:pt x="448" y="167"/>
                </a:lnTo>
                <a:lnTo>
                  <a:pt x="476" y="161"/>
                </a:lnTo>
                <a:lnTo>
                  <a:pt x="503" y="154"/>
                </a:lnTo>
                <a:lnTo>
                  <a:pt x="530" y="148"/>
                </a:lnTo>
                <a:lnTo>
                  <a:pt x="557" y="142"/>
                </a:lnTo>
                <a:lnTo>
                  <a:pt x="584" y="136"/>
                </a:lnTo>
                <a:lnTo>
                  <a:pt x="609" y="129"/>
                </a:lnTo>
                <a:lnTo>
                  <a:pt x="634" y="123"/>
                </a:lnTo>
                <a:lnTo>
                  <a:pt x="659" y="117"/>
                </a:lnTo>
                <a:lnTo>
                  <a:pt x="682" y="111"/>
                </a:lnTo>
                <a:lnTo>
                  <a:pt x="705" y="108"/>
                </a:lnTo>
                <a:lnTo>
                  <a:pt x="728" y="102"/>
                </a:lnTo>
                <a:lnTo>
                  <a:pt x="751" y="96"/>
                </a:lnTo>
                <a:lnTo>
                  <a:pt x="774" y="92"/>
                </a:lnTo>
                <a:lnTo>
                  <a:pt x="795" y="86"/>
                </a:lnTo>
                <a:lnTo>
                  <a:pt x="816" y="83"/>
                </a:lnTo>
                <a:lnTo>
                  <a:pt x="835" y="77"/>
                </a:lnTo>
                <a:lnTo>
                  <a:pt x="856" y="73"/>
                </a:lnTo>
                <a:lnTo>
                  <a:pt x="876" y="69"/>
                </a:lnTo>
                <a:lnTo>
                  <a:pt x="893" y="63"/>
                </a:lnTo>
                <a:lnTo>
                  <a:pt x="912" y="60"/>
                </a:lnTo>
                <a:lnTo>
                  <a:pt x="929" y="56"/>
                </a:lnTo>
                <a:lnTo>
                  <a:pt x="947" y="52"/>
                </a:lnTo>
                <a:lnTo>
                  <a:pt x="964" y="48"/>
                </a:lnTo>
                <a:lnTo>
                  <a:pt x="981" y="44"/>
                </a:lnTo>
                <a:lnTo>
                  <a:pt x="997" y="42"/>
                </a:lnTo>
                <a:lnTo>
                  <a:pt x="1012" y="39"/>
                </a:lnTo>
                <a:lnTo>
                  <a:pt x="1025" y="35"/>
                </a:lnTo>
                <a:lnTo>
                  <a:pt x="1041" y="33"/>
                </a:lnTo>
                <a:lnTo>
                  <a:pt x="1054" y="29"/>
                </a:lnTo>
                <a:lnTo>
                  <a:pt x="1068" y="27"/>
                </a:lnTo>
                <a:lnTo>
                  <a:pt x="1079" y="23"/>
                </a:lnTo>
                <a:lnTo>
                  <a:pt x="1092" y="21"/>
                </a:lnTo>
                <a:lnTo>
                  <a:pt x="1104" y="19"/>
                </a:lnTo>
                <a:lnTo>
                  <a:pt x="1116" y="17"/>
                </a:lnTo>
                <a:lnTo>
                  <a:pt x="1125" y="15"/>
                </a:lnTo>
                <a:lnTo>
                  <a:pt x="1135" y="14"/>
                </a:lnTo>
                <a:lnTo>
                  <a:pt x="1146" y="12"/>
                </a:lnTo>
                <a:lnTo>
                  <a:pt x="1154" y="10"/>
                </a:lnTo>
                <a:lnTo>
                  <a:pt x="1164" y="8"/>
                </a:lnTo>
                <a:lnTo>
                  <a:pt x="1171" y="6"/>
                </a:lnTo>
                <a:lnTo>
                  <a:pt x="1179" y="6"/>
                </a:lnTo>
                <a:lnTo>
                  <a:pt x="1187" y="4"/>
                </a:lnTo>
                <a:lnTo>
                  <a:pt x="1192" y="2"/>
                </a:lnTo>
                <a:lnTo>
                  <a:pt x="1198" y="2"/>
                </a:lnTo>
                <a:lnTo>
                  <a:pt x="1204" y="2"/>
                </a:lnTo>
                <a:lnTo>
                  <a:pt x="1210" y="0"/>
                </a:lnTo>
                <a:lnTo>
                  <a:pt x="1213" y="0"/>
                </a:lnTo>
                <a:lnTo>
                  <a:pt x="1217" y="0"/>
                </a:lnTo>
                <a:lnTo>
                  <a:pt x="1221" y="0"/>
                </a:lnTo>
                <a:lnTo>
                  <a:pt x="1225" y="0"/>
                </a:lnTo>
                <a:lnTo>
                  <a:pt x="1242" y="0"/>
                </a:lnTo>
                <a:lnTo>
                  <a:pt x="1258" y="0"/>
                </a:lnTo>
                <a:lnTo>
                  <a:pt x="1273" y="0"/>
                </a:lnTo>
                <a:lnTo>
                  <a:pt x="1288" y="0"/>
                </a:lnTo>
                <a:lnTo>
                  <a:pt x="1304" y="2"/>
                </a:lnTo>
                <a:lnTo>
                  <a:pt x="1317" y="4"/>
                </a:lnTo>
                <a:lnTo>
                  <a:pt x="1331" y="8"/>
                </a:lnTo>
                <a:lnTo>
                  <a:pt x="1344" y="12"/>
                </a:lnTo>
                <a:lnTo>
                  <a:pt x="1352" y="15"/>
                </a:lnTo>
                <a:lnTo>
                  <a:pt x="1359" y="21"/>
                </a:lnTo>
                <a:lnTo>
                  <a:pt x="1365" y="25"/>
                </a:lnTo>
                <a:lnTo>
                  <a:pt x="1371" y="29"/>
                </a:lnTo>
                <a:lnTo>
                  <a:pt x="1375" y="35"/>
                </a:lnTo>
                <a:lnTo>
                  <a:pt x="1377" y="39"/>
                </a:lnTo>
                <a:lnTo>
                  <a:pt x="1378" y="42"/>
                </a:lnTo>
                <a:lnTo>
                  <a:pt x="1378" y="4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11"/>
          <p:cNvSpPr/>
          <p:nvPr/>
        </p:nvSpPr>
        <p:spPr>
          <a:xfrm>
            <a:off x="6289560" y="3681360"/>
            <a:ext cx="236520" cy="158760"/>
          </a:xfrm>
          <a:custGeom>
            <a:avLst/>
            <a:gdLst/>
            <a:ahLst/>
            <a:rect l="l" t="t" r="r" b="b"/>
            <a:pathLst>
              <a:path w="297" h="206">
                <a:moveTo>
                  <a:pt x="226" y="25"/>
                </a:moveTo>
                <a:lnTo>
                  <a:pt x="234" y="27"/>
                </a:lnTo>
                <a:lnTo>
                  <a:pt x="242" y="29"/>
                </a:lnTo>
                <a:lnTo>
                  <a:pt x="249" y="33"/>
                </a:lnTo>
                <a:lnTo>
                  <a:pt x="257" y="37"/>
                </a:lnTo>
                <a:lnTo>
                  <a:pt x="263" y="40"/>
                </a:lnTo>
                <a:lnTo>
                  <a:pt x="269" y="44"/>
                </a:lnTo>
                <a:lnTo>
                  <a:pt x="274" y="48"/>
                </a:lnTo>
                <a:lnTo>
                  <a:pt x="278" y="52"/>
                </a:lnTo>
                <a:lnTo>
                  <a:pt x="282" y="58"/>
                </a:lnTo>
                <a:lnTo>
                  <a:pt x="286" y="64"/>
                </a:lnTo>
                <a:lnTo>
                  <a:pt x="290" y="69"/>
                </a:lnTo>
                <a:lnTo>
                  <a:pt x="292" y="77"/>
                </a:lnTo>
                <a:lnTo>
                  <a:pt x="294" y="83"/>
                </a:lnTo>
                <a:lnTo>
                  <a:pt x="295" y="90"/>
                </a:lnTo>
                <a:lnTo>
                  <a:pt x="295" y="100"/>
                </a:lnTo>
                <a:lnTo>
                  <a:pt x="297" y="108"/>
                </a:lnTo>
                <a:lnTo>
                  <a:pt x="295" y="119"/>
                </a:lnTo>
                <a:lnTo>
                  <a:pt x="295" y="129"/>
                </a:lnTo>
                <a:lnTo>
                  <a:pt x="295" y="138"/>
                </a:lnTo>
                <a:lnTo>
                  <a:pt x="294" y="146"/>
                </a:lnTo>
                <a:lnTo>
                  <a:pt x="294" y="154"/>
                </a:lnTo>
                <a:lnTo>
                  <a:pt x="292" y="161"/>
                </a:lnTo>
                <a:lnTo>
                  <a:pt x="290" y="167"/>
                </a:lnTo>
                <a:lnTo>
                  <a:pt x="288" y="173"/>
                </a:lnTo>
                <a:lnTo>
                  <a:pt x="286" y="179"/>
                </a:lnTo>
                <a:lnTo>
                  <a:pt x="282" y="184"/>
                </a:lnTo>
                <a:lnTo>
                  <a:pt x="280" y="188"/>
                </a:lnTo>
                <a:lnTo>
                  <a:pt x="276" y="192"/>
                </a:lnTo>
                <a:lnTo>
                  <a:pt x="269" y="198"/>
                </a:lnTo>
                <a:lnTo>
                  <a:pt x="261" y="204"/>
                </a:lnTo>
                <a:lnTo>
                  <a:pt x="257" y="206"/>
                </a:lnTo>
                <a:lnTo>
                  <a:pt x="251" y="206"/>
                </a:lnTo>
                <a:lnTo>
                  <a:pt x="246" y="206"/>
                </a:lnTo>
                <a:lnTo>
                  <a:pt x="238" y="206"/>
                </a:lnTo>
                <a:lnTo>
                  <a:pt x="232" y="204"/>
                </a:lnTo>
                <a:lnTo>
                  <a:pt x="224" y="202"/>
                </a:lnTo>
                <a:lnTo>
                  <a:pt x="217" y="198"/>
                </a:lnTo>
                <a:lnTo>
                  <a:pt x="207" y="194"/>
                </a:lnTo>
                <a:lnTo>
                  <a:pt x="198" y="190"/>
                </a:lnTo>
                <a:lnTo>
                  <a:pt x="188" y="184"/>
                </a:lnTo>
                <a:lnTo>
                  <a:pt x="178" y="177"/>
                </a:lnTo>
                <a:lnTo>
                  <a:pt x="167" y="171"/>
                </a:lnTo>
                <a:lnTo>
                  <a:pt x="155" y="161"/>
                </a:lnTo>
                <a:lnTo>
                  <a:pt x="144" y="152"/>
                </a:lnTo>
                <a:lnTo>
                  <a:pt x="132" y="142"/>
                </a:lnTo>
                <a:lnTo>
                  <a:pt x="119" y="133"/>
                </a:lnTo>
                <a:lnTo>
                  <a:pt x="104" y="121"/>
                </a:lnTo>
                <a:lnTo>
                  <a:pt x="90" y="110"/>
                </a:lnTo>
                <a:lnTo>
                  <a:pt x="77" y="100"/>
                </a:lnTo>
                <a:lnTo>
                  <a:pt x="65" y="88"/>
                </a:lnTo>
                <a:lnTo>
                  <a:pt x="54" y="79"/>
                </a:lnTo>
                <a:lnTo>
                  <a:pt x="44" y="69"/>
                </a:lnTo>
                <a:lnTo>
                  <a:pt x="36" y="62"/>
                </a:lnTo>
                <a:lnTo>
                  <a:pt x="29" y="52"/>
                </a:lnTo>
                <a:lnTo>
                  <a:pt x="21" y="44"/>
                </a:lnTo>
                <a:lnTo>
                  <a:pt x="15" y="37"/>
                </a:lnTo>
                <a:lnTo>
                  <a:pt x="9" y="29"/>
                </a:lnTo>
                <a:lnTo>
                  <a:pt x="6" y="23"/>
                </a:lnTo>
                <a:lnTo>
                  <a:pt x="4" y="16"/>
                </a:lnTo>
                <a:lnTo>
                  <a:pt x="2" y="10"/>
                </a:lnTo>
                <a:lnTo>
                  <a:pt x="0" y="6"/>
                </a:lnTo>
                <a:lnTo>
                  <a:pt x="0" y="0"/>
                </a:lnTo>
                <a:lnTo>
                  <a:pt x="19" y="0"/>
                </a:lnTo>
                <a:lnTo>
                  <a:pt x="38" y="2"/>
                </a:lnTo>
                <a:lnTo>
                  <a:pt x="56" y="2"/>
                </a:lnTo>
                <a:lnTo>
                  <a:pt x="73" y="2"/>
                </a:lnTo>
                <a:lnTo>
                  <a:pt x="90" y="4"/>
                </a:lnTo>
                <a:lnTo>
                  <a:pt x="105" y="4"/>
                </a:lnTo>
                <a:lnTo>
                  <a:pt x="121" y="6"/>
                </a:lnTo>
                <a:lnTo>
                  <a:pt x="134" y="8"/>
                </a:lnTo>
                <a:lnTo>
                  <a:pt x="148" y="10"/>
                </a:lnTo>
                <a:lnTo>
                  <a:pt x="161" y="12"/>
                </a:lnTo>
                <a:lnTo>
                  <a:pt x="173" y="14"/>
                </a:lnTo>
                <a:lnTo>
                  <a:pt x="186" y="16"/>
                </a:lnTo>
                <a:lnTo>
                  <a:pt x="196" y="17"/>
                </a:lnTo>
                <a:lnTo>
                  <a:pt x="207" y="19"/>
                </a:lnTo>
                <a:lnTo>
                  <a:pt x="217" y="21"/>
                </a:lnTo>
                <a:lnTo>
                  <a:pt x="226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112"/>
          <p:cNvSpPr/>
          <p:nvPr/>
        </p:nvSpPr>
        <p:spPr>
          <a:xfrm>
            <a:off x="6534000" y="3116160"/>
            <a:ext cx="916200" cy="594000"/>
          </a:xfrm>
          <a:custGeom>
            <a:avLst/>
            <a:gdLst/>
            <a:ahLst/>
            <a:rect l="l" t="t" r="r" b="b"/>
            <a:pathLst>
              <a:path w="1154" h="769">
                <a:moveTo>
                  <a:pt x="975" y="334"/>
                </a:moveTo>
                <a:lnTo>
                  <a:pt x="977" y="309"/>
                </a:lnTo>
                <a:lnTo>
                  <a:pt x="979" y="288"/>
                </a:lnTo>
                <a:lnTo>
                  <a:pt x="983" y="266"/>
                </a:lnTo>
                <a:lnTo>
                  <a:pt x="985" y="245"/>
                </a:lnTo>
                <a:lnTo>
                  <a:pt x="988" y="228"/>
                </a:lnTo>
                <a:lnTo>
                  <a:pt x="992" y="211"/>
                </a:lnTo>
                <a:lnTo>
                  <a:pt x="996" y="197"/>
                </a:lnTo>
                <a:lnTo>
                  <a:pt x="1000" y="182"/>
                </a:lnTo>
                <a:lnTo>
                  <a:pt x="1004" y="171"/>
                </a:lnTo>
                <a:lnTo>
                  <a:pt x="1008" y="161"/>
                </a:lnTo>
                <a:lnTo>
                  <a:pt x="1011" y="151"/>
                </a:lnTo>
                <a:lnTo>
                  <a:pt x="1015" y="144"/>
                </a:lnTo>
                <a:lnTo>
                  <a:pt x="1021" y="138"/>
                </a:lnTo>
                <a:lnTo>
                  <a:pt x="1025" y="134"/>
                </a:lnTo>
                <a:lnTo>
                  <a:pt x="1029" y="132"/>
                </a:lnTo>
                <a:lnTo>
                  <a:pt x="1035" y="130"/>
                </a:lnTo>
                <a:lnTo>
                  <a:pt x="1036" y="132"/>
                </a:lnTo>
                <a:lnTo>
                  <a:pt x="1038" y="132"/>
                </a:lnTo>
                <a:lnTo>
                  <a:pt x="1042" y="136"/>
                </a:lnTo>
                <a:lnTo>
                  <a:pt x="1044" y="140"/>
                </a:lnTo>
                <a:lnTo>
                  <a:pt x="1048" y="146"/>
                </a:lnTo>
                <a:lnTo>
                  <a:pt x="1052" y="151"/>
                </a:lnTo>
                <a:lnTo>
                  <a:pt x="1054" y="159"/>
                </a:lnTo>
                <a:lnTo>
                  <a:pt x="1058" y="169"/>
                </a:lnTo>
                <a:lnTo>
                  <a:pt x="1061" y="178"/>
                </a:lnTo>
                <a:lnTo>
                  <a:pt x="1065" y="190"/>
                </a:lnTo>
                <a:lnTo>
                  <a:pt x="1067" y="201"/>
                </a:lnTo>
                <a:lnTo>
                  <a:pt x="1071" y="217"/>
                </a:lnTo>
                <a:lnTo>
                  <a:pt x="1073" y="232"/>
                </a:lnTo>
                <a:lnTo>
                  <a:pt x="1077" y="247"/>
                </a:lnTo>
                <a:lnTo>
                  <a:pt x="1079" y="266"/>
                </a:lnTo>
                <a:lnTo>
                  <a:pt x="1082" y="286"/>
                </a:lnTo>
                <a:lnTo>
                  <a:pt x="1084" y="305"/>
                </a:lnTo>
                <a:lnTo>
                  <a:pt x="1086" y="324"/>
                </a:lnTo>
                <a:lnTo>
                  <a:pt x="1090" y="343"/>
                </a:lnTo>
                <a:lnTo>
                  <a:pt x="1092" y="362"/>
                </a:lnTo>
                <a:lnTo>
                  <a:pt x="1096" y="380"/>
                </a:lnTo>
                <a:lnTo>
                  <a:pt x="1100" y="395"/>
                </a:lnTo>
                <a:lnTo>
                  <a:pt x="1104" y="412"/>
                </a:lnTo>
                <a:lnTo>
                  <a:pt x="1107" y="428"/>
                </a:lnTo>
                <a:lnTo>
                  <a:pt x="1111" y="443"/>
                </a:lnTo>
                <a:lnTo>
                  <a:pt x="1115" y="457"/>
                </a:lnTo>
                <a:lnTo>
                  <a:pt x="1119" y="470"/>
                </a:lnTo>
                <a:lnTo>
                  <a:pt x="1123" y="481"/>
                </a:lnTo>
                <a:lnTo>
                  <a:pt x="1129" y="495"/>
                </a:lnTo>
                <a:lnTo>
                  <a:pt x="1132" y="504"/>
                </a:lnTo>
                <a:lnTo>
                  <a:pt x="1136" y="516"/>
                </a:lnTo>
                <a:lnTo>
                  <a:pt x="1142" y="526"/>
                </a:lnTo>
                <a:lnTo>
                  <a:pt x="1146" y="533"/>
                </a:lnTo>
                <a:lnTo>
                  <a:pt x="1148" y="543"/>
                </a:lnTo>
                <a:lnTo>
                  <a:pt x="1150" y="551"/>
                </a:lnTo>
                <a:lnTo>
                  <a:pt x="1152" y="558"/>
                </a:lnTo>
                <a:lnTo>
                  <a:pt x="1154" y="566"/>
                </a:lnTo>
                <a:lnTo>
                  <a:pt x="1154" y="574"/>
                </a:lnTo>
                <a:lnTo>
                  <a:pt x="1152" y="581"/>
                </a:lnTo>
                <a:lnTo>
                  <a:pt x="1152" y="589"/>
                </a:lnTo>
                <a:lnTo>
                  <a:pt x="1150" y="597"/>
                </a:lnTo>
                <a:lnTo>
                  <a:pt x="1146" y="602"/>
                </a:lnTo>
                <a:lnTo>
                  <a:pt x="1144" y="610"/>
                </a:lnTo>
                <a:lnTo>
                  <a:pt x="1138" y="616"/>
                </a:lnTo>
                <a:lnTo>
                  <a:pt x="1134" y="624"/>
                </a:lnTo>
                <a:lnTo>
                  <a:pt x="1129" y="629"/>
                </a:lnTo>
                <a:lnTo>
                  <a:pt x="1123" y="637"/>
                </a:lnTo>
                <a:lnTo>
                  <a:pt x="1117" y="645"/>
                </a:lnTo>
                <a:lnTo>
                  <a:pt x="1100" y="656"/>
                </a:lnTo>
                <a:lnTo>
                  <a:pt x="1079" y="668"/>
                </a:lnTo>
                <a:lnTo>
                  <a:pt x="1058" y="679"/>
                </a:lnTo>
                <a:lnTo>
                  <a:pt x="1036" y="689"/>
                </a:lnTo>
                <a:lnTo>
                  <a:pt x="1011" y="696"/>
                </a:lnTo>
                <a:lnTo>
                  <a:pt x="998" y="700"/>
                </a:lnTo>
                <a:lnTo>
                  <a:pt x="985" y="704"/>
                </a:lnTo>
                <a:lnTo>
                  <a:pt x="971" y="708"/>
                </a:lnTo>
                <a:lnTo>
                  <a:pt x="958" y="710"/>
                </a:lnTo>
                <a:lnTo>
                  <a:pt x="942" y="714"/>
                </a:lnTo>
                <a:lnTo>
                  <a:pt x="927" y="716"/>
                </a:lnTo>
                <a:lnTo>
                  <a:pt x="912" y="719"/>
                </a:lnTo>
                <a:lnTo>
                  <a:pt x="894" y="723"/>
                </a:lnTo>
                <a:lnTo>
                  <a:pt x="877" y="727"/>
                </a:lnTo>
                <a:lnTo>
                  <a:pt x="860" y="731"/>
                </a:lnTo>
                <a:lnTo>
                  <a:pt x="841" y="735"/>
                </a:lnTo>
                <a:lnTo>
                  <a:pt x="823" y="739"/>
                </a:lnTo>
                <a:lnTo>
                  <a:pt x="802" y="741"/>
                </a:lnTo>
                <a:lnTo>
                  <a:pt x="783" y="744"/>
                </a:lnTo>
                <a:lnTo>
                  <a:pt x="762" y="746"/>
                </a:lnTo>
                <a:lnTo>
                  <a:pt x="741" y="748"/>
                </a:lnTo>
                <a:lnTo>
                  <a:pt x="718" y="752"/>
                </a:lnTo>
                <a:lnTo>
                  <a:pt x="695" y="754"/>
                </a:lnTo>
                <a:lnTo>
                  <a:pt x="670" y="756"/>
                </a:lnTo>
                <a:lnTo>
                  <a:pt x="647" y="758"/>
                </a:lnTo>
                <a:lnTo>
                  <a:pt x="620" y="762"/>
                </a:lnTo>
                <a:lnTo>
                  <a:pt x="595" y="764"/>
                </a:lnTo>
                <a:lnTo>
                  <a:pt x="568" y="766"/>
                </a:lnTo>
                <a:lnTo>
                  <a:pt x="543" y="767"/>
                </a:lnTo>
                <a:lnTo>
                  <a:pt x="518" y="767"/>
                </a:lnTo>
                <a:lnTo>
                  <a:pt x="493" y="767"/>
                </a:lnTo>
                <a:lnTo>
                  <a:pt x="470" y="769"/>
                </a:lnTo>
                <a:lnTo>
                  <a:pt x="449" y="767"/>
                </a:lnTo>
                <a:lnTo>
                  <a:pt x="428" y="767"/>
                </a:lnTo>
                <a:lnTo>
                  <a:pt x="407" y="767"/>
                </a:lnTo>
                <a:lnTo>
                  <a:pt x="388" y="766"/>
                </a:lnTo>
                <a:lnTo>
                  <a:pt x="368" y="764"/>
                </a:lnTo>
                <a:lnTo>
                  <a:pt x="351" y="762"/>
                </a:lnTo>
                <a:lnTo>
                  <a:pt x="334" y="760"/>
                </a:lnTo>
                <a:lnTo>
                  <a:pt x="317" y="758"/>
                </a:lnTo>
                <a:lnTo>
                  <a:pt x="301" y="756"/>
                </a:lnTo>
                <a:lnTo>
                  <a:pt x="286" y="754"/>
                </a:lnTo>
                <a:lnTo>
                  <a:pt x="272" y="752"/>
                </a:lnTo>
                <a:lnTo>
                  <a:pt x="257" y="748"/>
                </a:lnTo>
                <a:lnTo>
                  <a:pt x="244" y="746"/>
                </a:lnTo>
                <a:lnTo>
                  <a:pt x="228" y="743"/>
                </a:lnTo>
                <a:lnTo>
                  <a:pt x="215" y="739"/>
                </a:lnTo>
                <a:lnTo>
                  <a:pt x="201" y="733"/>
                </a:lnTo>
                <a:lnTo>
                  <a:pt x="190" y="729"/>
                </a:lnTo>
                <a:lnTo>
                  <a:pt x="176" y="723"/>
                </a:lnTo>
                <a:lnTo>
                  <a:pt x="165" y="719"/>
                </a:lnTo>
                <a:lnTo>
                  <a:pt x="155" y="714"/>
                </a:lnTo>
                <a:lnTo>
                  <a:pt x="144" y="706"/>
                </a:lnTo>
                <a:lnTo>
                  <a:pt x="134" y="700"/>
                </a:lnTo>
                <a:lnTo>
                  <a:pt x="127" y="695"/>
                </a:lnTo>
                <a:lnTo>
                  <a:pt x="117" y="689"/>
                </a:lnTo>
                <a:lnTo>
                  <a:pt x="109" y="681"/>
                </a:lnTo>
                <a:lnTo>
                  <a:pt x="102" y="675"/>
                </a:lnTo>
                <a:lnTo>
                  <a:pt x="94" y="668"/>
                </a:lnTo>
                <a:lnTo>
                  <a:pt x="88" y="660"/>
                </a:lnTo>
                <a:lnTo>
                  <a:pt x="82" y="652"/>
                </a:lnTo>
                <a:lnTo>
                  <a:pt x="77" y="645"/>
                </a:lnTo>
                <a:lnTo>
                  <a:pt x="71" y="635"/>
                </a:lnTo>
                <a:lnTo>
                  <a:pt x="65" y="624"/>
                </a:lnTo>
                <a:lnTo>
                  <a:pt x="59" y="612"/>
                </a:lnTo>
                <a:lnTo>
                  <a:pt x="56" y="600"/>
                </a:lnTo>
                <a:lnTo>
                  <a:pt x="52" y="589"/>
                </a:lnTo>
                <a:lnTo>
                  <a:pt x="48" y="576"/>
                </a:lnTo>
                <a:lnTo>
                  <a:pt x="44" y="562"/>
                </a:lnTo>
                <a:lnTo>
                  <a:pt x="42" y="547"/>
                </a:lnTo>
                <a:lnTo>
                  <a:pt x="40" y="531"/>
                </a:lnTo>
                <a:lnTo>
                  <a:pt x="38" y="516"/>
                </a:lnTo>
                <a:lnTo>
                  <a:pt x="36" y="499"/>
                </a:lnTo>
                <a:lnTo>
                  <a:pt x="34" y="481"/>
                </a:lnTo>
                <a:lnTo>
                  <a:pt x="34" y="464"/>
                </a:lnTo>
                <a:lnTo>
                  <a:pt x="34" y="447"/>
                </a:lnTo>
                <a:lnTo>
                  <a:pt x="34" y="426"/>
                </a:lnTo>
                <a:lnTo>
                  <a:pt x="34" y="405"/>
                </a:lnTo>
                <a:lnTo>
                  <a:pt x="33" y="382"/>
                </a:lnTo>
                <a:lnTo>
                  <a:pt x="31" y="359"/>
                </a:lnTo>
                <a:lnTo>
                  <a:pt x="31" y="332"/>
                </a:lnTo>
                <a:lnTo>
                  <a:pt x="29" y="305"/>
                </a:lnTo>
                <a:lnTo>
                  <a:pt x="27" y="276"/>
                </a:lnTo>
                <a:lnTo>
                  <a:pt x="23" y="247"/>
                </a:lnTo>
                <a:lnTo>
                  <a:pt x="21" y="217"/>
                </a:lnTo>
                <a:lnTo>
                  <a:pt x="17" y="184"/>
                </a:lnTo>
                <a:lnTo>
                  <a:pt x="15" y="149"/>
                </a:lnTo>
                <a:lnTo>
                  <a:pt x="11" y="113"/>
                </a:lnTo>
                <a:lnTo>
                  <a:pt x="8" y="76"/>
                </a:lnTo>
                <a:lnTo>
                  <a:pt x="4" y="38"/>
                </a:lnTo>
                <a:lnTo>
                  <a:pt x="0" y="0"/>
                </a:lnTo>
                <a:lnTo>
                  <a:pt x="130" y="0"/>
                </a:lnTo>
                <a:lnTo>
                  <a:pt x="130" y="30"/>
                </a:lnTo>
                <a:lnTo>
                  <a:pt x="130" y="63"/>
                </a:lnTo>
                <a:lnTo>
                  <a:pt x="130" y="92"/>
                </a:lnTo>
                <a:lnTo>
                  <a:pt x="130" y="121"/>
                </a:lnTo>
                <a:lnTo>
                  <a:pt x="132" y="149"/>
                </a:lnTo>
                <a:lnTo>
                  <a:pt x="132" y="176"/>
                </a:lnTo>
                <a:lnTo>
                  <a:pt x="132" y="203"/>
                </a:lnTo>
                <a:lnTo>
                  <a:pt x="132" y="228"/>
                </a:lnTo>
                <a:lnTo>
                  <a:pt x="134" y="251"/>
                </a:lnTo>
                <a:lnTo>
                  <a:pt x="134" y="276"/>
                </a:lnTo>
                <a:lnTo>
                  <a:pt x="134" y="297"/>
                </a:lnTo>
                <a:lnTo>
                  <a:pt x="136" y="320"/>
                </a:lnTo>
                <a:lnTo>
                  <a:pt x="138" y="339"/>
                </a:lnTo>
                <a:lnTo>
                  <a:pt x="138" y="359"/>
                </a:lnTo>
                <a:lnTo>
                  <a:pt x="140" y="378"/>
                </a:lnTo>
                <a:lnTo>
                  <a:pt x="140" y="395"/>
                </a:lnTo>
                <a:lnTo>
                  <a:pt x="142" y="412"/>
                </a:lnTo>
                <a:lnTo>
                  <a:pt x="144" y="430"/>
                </a:lnTo>
                <a:lnTo>
                  <a:pt x="146" y="443"/>
                </a:lnTo>
                <a:lnTo>
                  <a:pt x="148" y="458"/>
                </a:lnTo>
                <a:lnTo>
                  <a:pt x="150" y="472"/>
                </a:lnTo>
                <a:lnTo>
                  <a:pt x="152" y="483"/>
                </a:lnTo>
                <a:lnTo>
                  <a:pt x="153" y="495"/>
                </a:lnTo>
                <a:lnTo>
                  <a:pt x="155" y="506"/>
                </a:lnTo>
                <a:lnTo>
                  <a:pt x="157" y="516"/>
                </a:lnTo>
                <a:lnTo>
                  <a:pt x="161" y="526"/>
                </a:lnTo>
                <a:lnTo>
                  <a:pt x="163" y="533"/>
                </a:lnTo>
                <a:lnTo>
                  <a:pt x="165" y="539"/>
                </a:lnTo>
                <a:lnTo>
                  <a:pt x="169" y="547"/>
                </a:lnTo>
                <a:lnTo>
                  <a:pt x="171" y="552"/>
                </a:lnTo>
                <a:lnTo>
                  <a:pt x="175" y="556"/>
                </a:lnTo>
                <a:lnTo>
                  <a:pt x="178" y="560"/>
                </a:lnTo>
                <a:lnTo>
                  <a:pt x="184" y="566"/>
                </a:lnTo>
                <a:lnTo>
                  <a:pt x="192" y="574"/>
                </a:lnTo>
                <a:lnTo>
                  <a:pt x="198" y="577"/>
                </a:lnTo>
                <a:lnTo>
                  <a:pt x="205" y="583"/>
                </a:lnTo>
                <a:lnTo>
                  <a:pt x="219" y="593"/>
                </a:lnTo>
                <a:lnTo>
                  <a:pt x="234" y="599"/>
                </a:lnTo>
                <a:lnTo>
                  <a:pt x="249" y="606"/>
                </a:lnTo>
                <a:lnTo>
                  <a:pt x="269" y="610"/>
                </a:lnTo>
                <a:lnTo>
                  <a:pt x="278" y="614"/>
                </a:lnTo>
                <a:lnTo>
                  <a:pt x="288" y="616"/>
                </a:lnTo>
                <a:lnTo>
                  <a:pt x="297" y="618"/>
                </a:lnTo>
                <a:lnTo>
                  <a:pt x="309" y="620"/>
                </a:lnTo>
                <a:lnTo>
                  <a:pt x="320" y="622"/>
                </a:lnTo>
                <a:lnTo>
                  <a:pt x="332" y="624"/>
                </a:lnTo>
                <a:lnTo>
                  <a:pt x="345" y="625"/>
                </a:lnTo>
                <a:lnTo>
                  <a:pt x="357" y="625"/>
                </a:lnTo>
                <a:lnTo>
                  <a:pt x="370" y="625"/>
                </a:lnTo>
                <a:lnTo>
                  <a:pt x="386" y="625"/>
                </a:lnTo>
                <a:lnTo>
                  <a:pt x="401" y="624"/>
                </a:lnTo>
                <a:lnTo>
                  <a:pt x="416" y="624"/>
                </a:lnTo>
                <a:lnTo>
                  <a:pt x="432" y="622"/>
                </a:lnTo>
                <a:lnTo>
                  <a:pt x="447" y="620"/>
                </a:lnTo>
                <a:lnTo>
                  <a:pt x="464" y="618"/>
                </a:lnTo>
                <a:lnTo>
                  <a:pt x="482" y="618"/>
                </a:lnTo>
                <a:lnTo>
                  <a:pt x="501" y="614"/>
                </a:lnTo>
                <a:lnTo>
                  <a:pt x="520" y="612"/>
                </a:lnTo>
                <a:lnTo>
                  <a:pt x="539" y="610"/>
                </a:lnTo>
                <a:lnTo>
                  <a:pt x="558" y="608"/>
                </a:lnTo>
                <a:lnTo>
                  <a:pt x="578" y="606"/>
                </a:lnTo>
                <a:lnTo>
                  <a:pt x="597" y="604"/>
                </a:lnTo>
                <a:lnTo>
                  <a:pt x="616" y="600"/>
                </a:lnTo>
                <a:lnTo>
                  <a:pt x="633" y="599"/>
                </a:lnTo>
                <a:lnTo>
                  <a:pt x="670" y="595"/>
                </a:lnTo>
                <a:lnTo>
                  <a:pt x="704" y="589"/>
                </a:lnTo>
                <a:lnTo>
                  <a:pt x="737" y="583"/>
                </a:lnTo>
                <a:lnTo>
                  <a:pt x="770" y="576"/>
                </a:lnTo>
                <a:lnTo>
                  <a:pt x="800" y="568"/>
                </a:lnTo>
                <a:lnTo>
                  <a:pt x="831" y="560"/>
                </a:lnTo>
                <a:lnTo>
                  <a:pt x="846" y="554"/>
                </a:lnTo>
                <a:lnTo>
                  <a:pt x="862" y="549"/>
                </a:lnTo>
                <a:lnTo>
                  <a:pt x="875" y="541"/>
                </a:lnTo>
                <a:lnTo>
                  <a:pt x="887" y="533"/>
                </a:lnTo>
                <a:lnTo>
                  <a:pt x="900" y="524"/>
                </a:lnTo>
                <a:lnTo>
                  <a:pt x="910" y="512"/>
                </a:lnTo>
                <a:lnTo>
                  <a:pt x="921" y="501"/>
                </a:lnTo>
                <a:lnTo>
                  <a:pt x="929" y="487"/>
                </a:lnTo>
                <a:lnTo>
                  <a:pt x="939" y="472"/>
                </a:lnTo>
                <a:lnTo>
                  <a:pt x="946" y="457"/>
                </a:lnTo>
                <a:lnTo>
                  <a:pt x="952" y="439"/>
                </a:lnTo>
                <a:lnTo>
                  <a:pt x="960" y="420"/>
                </a:lnTo>
                <a:lnTo>
                  <a:pt x="963" y="401"/>
                </a:lnTo>
                <a:lnTo>
                  <a:pt x="969" y="380"/>
                </a:lnTo>
                <a:lnTo>
                  <a:pt x="971" y="357"/>
                </a:lnTo>
                <a:lnTo>
                  <a:pt x="975" y="3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13"/>
          <p:cNvSpPr/>
          <p:nvPr/>
        </p:nvSpPr>
        <p:spPr>
          <a:xfrm>
            <a:off x="6288120" y="3191040"/>
            <a:ext cx="784080" cy="376200"/>
          </a:xfrm>
          <a:custGeom>
            <a:avLst/>
            <a:gdLst/>
            <a:ahLst/>
            <a:rect l="l" t="t" r="r" b="b"/>
            <a:pathLst>
              <a:path w="988" h="488">
                <a:moveTo>
                  <a:pt x="810" y="6"/>
                </a:moveTo>
                <a:lnTo>
                  <a:pt x="816" y="4"/>
                </a:lnTo>
                <a:lnTo>
                  <a:pt x="823" y="2"/>
                </a:lnTo>
                <a:lnTo>
                  <a:pt x="829" y="0"/>
                </a:lnTo>
                <a:lnTo>
                  <a:pt x="837" y="0"/>
                </a:lnTo>
                <a:lnTo>
                  <a:pt x="845" y="0"/>
                </a:lnTo>
                <a:lnTo>
                  <a:pt x="850" y="2"/>
                </a:lnTo>
                <a:lnTo>
                  <a:pt x="858" y="4"/>
                </a:lnTo>
                <a:lnTo>
                  <a:pt x="866" y="6"/>
                </a:lnTo>
                <a:lnTo>
                  <a:pt x="871" y="8"/>
                </a:lnTo>
                <a:lnTo>
                  <a:pt x="879" y="10"/>
                </a:lnTo>
                <a:lnTo>
                  <a:pt x="887" y="14"/>
                </a:lnTo>
                <a:lnTo>
                  <a:pt x="894" y="20"/>
                </a:lnTo>
                <a:lnTo>
                  <a:pt x="904" y="23"/>
                </a:lnTo>
                <a:lnTo>
                  <a:pt x="912" y="29"/>
                </a:lnTo>
                <a:lnTo>
                  <a:pt x="919" y="35"/>
                </a:lnTo>
                <a:lnTo>
                  <a:pt x="929" y="41"/>
                </a:lnTo>
                <a:lnTo>
                  <a:pt x="940" y="54"/>
                </a:lnTo>
                <a:lnTo>
                  <a:pt x="952" y="66"/>
                </a:lnTo>
                <a:lnTo>
                  <a:pt x="964" y="77"/>
                </a:lnTo>
                <a:lnTo>
                  <a:pt x="971" y="87"/>
                </a:lnTo>
                <a:lnTo>
                  <a:pt x="979" y="94"/>
                </a:lnTo>
                <a:lnTo>
                  <a:pt x="981" y="98"/>
                </a:lnTo>
                <a:lnTo>
                  <a:pt x="985" y="102"/>
                </a:lnTo>
                <a:lnTo>
                  <a:pt x="985" y="106"/>
                </a:lnTo>
                <a:lnTo>
                  <a:pt x="987" y="108"/>
                </a:lnTo>
                <a:lnTo>
                  <a:pt x="988" y="112"/>
                </a:lnTo>
                <a:lnTo>
                  <a:pt x="988" y="114"/>
                </a:lnTo>
                <a:lnTo>
                  <a:pt x="988" y="116"/>
                </a:lnTo>
                <a:lnTo>
                  <a:pt x="987" y="117"/>
                </a:lnTo>
                <a:lnTo>
                  <a:pt x="987" y="121"/>
                </a:lnTo>
                <a:lnTo>
                  <a:pt x="985" y="123"/>
                </a:lnTo>
                <a:lnTo>
                  <a:pt x="983" y="125"/>
                </a:lnTo>
                <a:lnTo>
                  <a:pt x="979" y="129"/>
                </a:lnTo>
                <a:lnTo>
                  <a:pt x="977" y="133"/>
                </a:lnTo>
                <a:lnTo>
                  <a:pt x="973" y="135"/>
                </a:lnTo>
                <a:lnTo>
                  <a:pt x="967" y="139"/>
                </a:lnTo>
                <a:lnTo>
                  <a:pt x="964" y="142"/>
                </a:lnTo>
                <a:lnTo>
                  <a:pt x="958" y="146"/>
                </a:lnTo>
                <a:lnTo>
                  <a:pt x="952" y="150"/>
                </a:lnTo>
                <a:lnTo>
                  <a:pt x="946" y="154"/>
                </a:lnTo>
                <a:lnTo>
                  <a:pt x="940" y="158"/>
                </a:lnTo>
                <a:lnTo>
                  <a:pt x="933" y="164"/>
                </a:lnTo>
                <a:lnTo>
                  <a:pt x="925" y="167"/>
                </a:lnTo>
                <a:lnTo>
                  <a:pt x="917" y="173"/>
                </a:lnTo>
                <a:lnTo>
                  <a:pt x="908" y="177"/>
                </a:lnTo>
                <a:lnTo>
                  <a:pt x="900" y="183"/>
                </a:lnTo>
                <a:lnTo>
                  <a:pt x="891" y="189"/>
                </a:lnTo>
                <a:lnTo>
                  <a:pt x="881" y="194"/>
                </a:lnTo>
                <a:lnTo>
                  <a:pt x="869" y="200"/>
                </a:lnTo>
                <a:lnTo>
                  <a:pt x="858" y="206"/>
                </a:lnTo>
                <a:lnTo>
                  <a:pt x="846" y="212"/>
                </a:lnTo>
                <a:lnTo>
                  <a:pt x="835" y="217"/>
                </a:lnTo>
                <a:lnTo>
                  <a:pt x="823" y="225"/>
                </a:lnTo>
                <a:lnTo>
                  <a:pt x="810" y="231"/>
                </a:lnTo>
                <a:lnTo>
                  <a:pt x="797" y="238"/>
                </a:lnTo>
                <a:lnTo>
                  <a:pt x="768" y="252"/>
                </a:lnTo>
                <a:lnTo>
                  <a:pt x="739" y="269"/>
                </a:lnTo>
                <a:lnTo>
                  <a:pt x="708" y="284"/>
                </a:lnTo>
                <a:lnTo>
                  <a:pt x="676" y="298"/>
                </a:lnTo>
                <a:lnTo>
                  <a:pt x="645" y="313"/>
                </a:lnTo>
                <a:lnTo>
                  <a:pt x="614" y="327"/>
                </a:lnTo>
                <a:lnTo>
                  <a:pt x="583" y="340"/>
                </a:lnTo>
                <a:lnTo>
                  <a:pt x="553" y="352"/>
                </a:lnTo>
                <a:lnTo>
                  <a:pt x="522" y="365"/>
                </a:lnTo>
                <a:lnTo>
                  <a:pt x="491" y="377"/>
                </a:lnTo>
                <a:lnTo>
                  <a:pt x="461" y="386"/>
                </a:lnTo>
                <a:lnTo>
                  <a:pt x="430" y="398"/>
                </a:lnTo>
                <a:lnTo>
                  <a:pt x="399" y="407"/>
                </a:lnTo>
                <a:lnTo>
                  <a:pt x="368" y="415"/>
                </a:lnTo>
                <a:lnTo>
                  <a:pt x="340" y="425"/>
                </a:lnTo>
                <a:lnTo>
                  <a:pt x="309" y="432"/>
                </a:lnTo>
                <a:lnTo>
                  <a:pt x="280" y="440"/>
                </a:lnTo>
                <a:lnTo>
                  <a:pt x="251" y="448"/>
                </a:lnTo>
                <a:lnTo>
                  <a:pt x="236" y="451"/>
                </a:lnTo>
                <a:lnTo>
                  <a:pt x="221" y="453"/>
                </a:lnTo>
                <a:lnTo>
                  <a:pt x="207" y="457"/>
                </a:lnTo>
                <a:lnTo>
                  <a:pt x="192" y="459"/>
                </a:lnTo>
                <a:lnTo>
                  <a:pt x="178" y="463"/>
                </a:lnTo>
                <a:lnTo>
                  <a:pt x="167" y="465"/>
                </a:lnTo>
                <a:lnTo>
                  <a:pt x="154" y="467"/>
                </a:lnTo>
                <a:lnTo>
                  <a:pt x="142" y="471"/>
                </a:lnTo>
                <a:lnTo>
                  <a:pt x="130" y="473"/>
                </a:lnTo>
                <a:lnTo>
                  <a:pt x="119" y="475"/>
                </a:lnTo>
                <a:lnTo>
                  <a:pt x="109" y="476"/>
                </a:lnTo>
                <a:lnTo>
                  <a:pt x="100" y="478"/>
                </a:lnTo>
                <a:lnTo>
                  <a:pt x="90" y="480"/>
                </a:lnTo>
                <a:lnTo>
                  <a:pt x="81" y="480"/>
                </a:lnTo>
                <a:lnTo>
                  <a:pt x="73" y="482"/>
                </a:lnTo>
                <a:lnTo>
                  <a:pt x="63" y="484"/>
                </a:lnTo>
                <a:lnTo>
                  <a:pt x="56" y="484"/>
                </a:lnTo>
                <a:lnTo>
                  <a:pt x="50" y="486"/>
                </a:lnTo>
                <a:lnTo>
                  <a:pt x="42" y="486"/>
                </a:lnTo>
                <a:lnTo>
                  <a:pt x="36" y="486"/>
                </a:lnTo>
                <a:lnTo>
                  <a:pt x="31" y="488"/>
                </a:lnTo>
                <a:lnTo>
                  <a:pt x="25" y="488"/>
                </a:lnTo>
                <a:lnTo>
                  <a:pt x="21" y="488"/>
                </a:lnTo>
                <a:lnTo>
                  <a:pt x="17" y="488"/>
                </a:lnTo>
                <a:lnTo>
                  <a:pt x="13" y="488"/>
                </a:lnTo>
                <a:lnTo>
                  <a:pt x="10" y="488"/>
                </a:lnTo>
                <a:lnTo>
                  <a:pt x="8" y="488"/>
                </a:lnTo>
                <a:lnTo>
                  <a:pt x="6" y="486"/>
                </a:lnTo>
                <a:lnTo>
                  <a:pt x="4" y="486"/>
                </a:lnTo>
                <a:lnTo>
                  <a:pt x="2" y="486"/>
                </a:lnTo>
                <a:lnTo>
                  <a:pt x="2" y="484"/>
                </a:lnTo>
                <a:lnTo>
                  <a:pt x="0" y="480"/>
                </a:lnTo>
                <a:lnTo>
                  <a:pt x="0" y="478"/>
                </a:lnTo>
                <a:lnTo>
                  <a:pt x="0" y="476"/>
                </a:lnTo>
                <a:lnTo>
                  <a:pt x="2" y="475"/>
                </a:lnTo>
                <a:lnTo>
                  <a:pt x="4" y="471"/>
                </a:lnTo>
                <a:lnTo>
                  <a:pt x="8" y="469"/>
                </a:lnTo>
                <a:lnTo>
                  <a:pt x="11" y="465"/>
                </a:lnTo>
                <a:lnTo>
                  <a:pt x="17" y="463"/>
                </a:lnTo>
                <a:lnTo>
                  <a:pt x="23" y="459"/>
                </a:lnTo>
                <a:lnTo>
                  <a:pt x="29" y="455"/>
                </a:lnTo>
                <a:lnTo>
                  <a:pt x="36" y="451"/>
                </a:lnTo>
                <a:lnTo>
                  <a:pt x="44" y="446"/>
                </a:lnTo>
                <a:lnTo>
                  <a:pt x="54" y="442"/>
                </a:lnTo>
                <a:lnTo>
                  <a:pt x="63" y="436"/>
                </a:lnTo>
                <a:lnTo>
                  <a:pt x="73" y="430"/>
                </a:lnTo>
                <a:lnTo>
                  <a:pt x="84" y="425"/>
                </a:lnTo>
                <a:lnTo>
                  <a:pt x="96" y="419"/>
                </a:lnTo>
                <a:lnTo>
                  <a:pt x="109" y="413"/>
                </a:lnTo>
                <a:lnTo>
                  <a:pt x="121" y="409"/>
                </a:lnTo>
                <a:lnTo>
                  <a:pt x="136" y="403"/>
                </a:lnTo>
                <a:lnTo>
                  <a:pt x="152" y="398"/>
                </a:lnTo>
                <a:lnTo>
                  <a:pt x="167" y="392"/>
                </a:lnTo>
                <a:lnTo>
                  <a:pt x="182" y="384"/>
                </a:lnTo>
                <a:lnTo>
                  <a:pt x="201" y="377"/>
                </a:lnTo>
                <a:lnTo>
                  <a:pt x="219" y="371"/>
                </a:lnTo>
                <a:lnTo>
                  <a:pt x="238" y="361"/>
                </a:lnTo>
                <a:lnTo>
                  <a:pt x="257" y="354"/>
                </a:lnTo>
                <a:lnTo>
                  <a:pt x="278" y="344"/>
                </a:lnTo>
                <a:lnTo>
                  <a:pt x="299" y="336"/>
                </a:lnTo>
                <a:lnTo>
                  <a:pt x="322" y="325"/>
                </a:lnTo>
                <a:lnTo>
                  <a:pt x="345" y="315"/>
                </a:lnTo>
                <a:lnTo>
                  <a:pt x="370" y="304"/>
                </a:lnTo>
                <a:lnTo>
                  <a:pt x="415" y="286"/>
                </a:lnTo>
                <a:lnTo>
                  <a:pt x="457" y="267"/>
                </a:lnTo>
                <a:lnTo>
                  <a:pt x="499" y="250"/>
                </a:lnTo>
                <a:lnTo>
                  <a:pt x="537" y="231"/>
                </a:lnTo>
                <a:lnTo>
                  <a:pt x="576" y="212"/>
                </a:lnTo>
                <a:lnTo>
                  <a:pt x="595" y="202"/>
                </a:lnTo>
                <a:lnTo>
                  <a:pt x="612" y="192"/>
                </a:lnTo>
                <a:lnTo>
                  <a:pt x="630" y="181"/>
                </a:lnTo>
                <a:lnTo>
                  <a:pt x="647" y="171"/>
                </a:lnTo>
                <a:lnTo>
                  <a:pt x="664" y="160"/>
                </a:lnTo>
                <a:lnTo>
                  <a:pt x="679" y="148"/>
                </a:lnTo>
                <a:lnTo>
                  <a:pt x="695" y="139"/>
                </a:lnTo>
                <a:lnTo>
                  <a:pt x="708" y="127"/>
                </a:lnTo>
                <a:lnTo>
                  <a:pt x="722" y="117"/>
                </a:lnTo>
                <a:lnTo>
                  <a:pt x="733" y="108"/>
                </a:lnTo>
                <a:lnTo>
                  <a:pt x="745" y="98"/>
                </a:lnTo>
                <a:lnTo>
                  <a:pt x="756" y="91"/>
                </a:lnTo>
                <a:lnTo>
                  <a:pt x="766" y="83"/>
                </a:lnTo>
                <a:lnTo>
                  <a:pt x="773" y="75"/>
                </a:lnTo>
                <a:lnTo>
                  <a:pt x="781" y="68"/>
                </a:lnTo>
                <a:lnTo>
                  <a:pt x="787" y="62"/>
                </a:lnTo>
                <a:lnTo>
                  <a:pt x="793" y="56"/>
                </a:lnTo>
                <a:lnTo>
                  <a:pt x="797" y="50"/>
                </a:lnTo>
                <a:lnTo>
                  <a:pt x="798" y="45"/>
                </a:lnTo>
                <a:lnTo>
                  <a:pt x="800" y="39"/>
                </a:lnTo>
                <a:lnTo>
                  <a:pt x="800" y="35"/>
                </a:lnTo>
                <a:lnTo>
                  <a:pt x="798" y="29"/>
                </a:lnTo>
                <a:lnTo>
                  <a:pt x="795" y="25"/>
                </a:lnTo>
                <a:lnTo>
                  <a:pt x="791" y="22"/>
                </a:lnTo>
                <a:lnTo>
                  <a:pt x="791" y="16"/>
                </a:lnTo>
                <a:lnTo>
                  <a:pt x="791" y="14"/>
                </a:lnTo>
                <a:lnTo>
                  <a:pt x="793" y="10"/>
                </a:lnTo>
                <a:lnTo>
                  <a:pt x="795" y="8"/>
                </a:lnTo>
                <a:lnTo>
                  <a:pt x="797" y="8"/>
                </a:lnTo>
                <a:lnTo>
                  <a:pt x="798" y="6"/>
                </a:lnTo>
                <a:lnTo>
                  <a:pt x="802" y="6"/>
                </a:lnTo>
                <a:lnTo>
                  <a:pt x="806" y="6"/>
                </a:lnTo>
                <a:lnTo>
                  <a:pt x="810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114"/>
          <p:cNvSpPr/>
          <p:nvPr/>
        </p:nvSpPr>
        <p:spPr>
          <a:xfrm>
            <a:off x="5835600" y="3022560"/>
            <a:ext cx="1085760" cy="257040"/>
          </a:xfrm>
          <a:custGeom>
            <a:avLst/>
            <a:gdLst/>
            <a:ahLst/>
            <a:rect l="l" t="t" r="r" b="b"/>
            <a:pathLst>
              <a:path w="1368" h="334">
                <a:moveTo>
                  <a:pt x="1320" y="23"/>
                </a:moveTo>
                <a:lnTo>
                  <a:pt x="1326" y="25"/>
                </a:lnTo>
                <a:lnTo>
                  <a:pt x="1332" y="27"/>
                </a:lnTo>
                <a:lnTo>
                  <a:pt x="1338" y="29"/>
                </a:lnTo>
                <a:lnTo>
                  <a:pt x="1343" y="31"/>
                </a:lnTo>
                <a:lnTo>
                  <a:pt x="1347" y="33"/>
                </a:lnTo>
                <a:lnTo>
                  <a:pt x="1351" y="33"/>
                </a:lnTo>
                <a:lnTo>
                  <a:pt x="1357" y="37"/>
                </a:lnTo>
                <a:lnTo>
                  <a:pt x="1363" y="39"/>
                </a:lnTo>
                <a:lnTo>
                  <a:pt x="1367" y="40"/>
                </a:lnTo>
                <a:lnTo>
                  <a:pt x="1367" y="44"/>
                </a:lnTo>
                <a:lnTo>
                  <a:pt x="1368" y="48"/>
                </a:lnTo>
                <a:lnTo>
                  <a:pt x="1367" y="52"/>
                </a:lnTo>
                <a:lnTo>
                  <a:pt x="1367" y="56"/>
                </a:lnTo>
                <a:lnTo>
                  <a:pt x="1363" y="62"/>
                </a:lnTo>
                <a:lnTo>
                  <a:pt x="1359" y="65"/>
                </a:lnTo>
                <a:lnTo>
                  <a:pt x="1355" y="69"/>
                </a:lnTo>
                <a:lnTo>
                  <a:pt x="1347" y="75"/>
                </a:lnTo>
                <a:lnTo>
                  <a:pt x="1342" y="79"/>
                </a:lnTo>
                <a:lnTo>
                  <a:pt x="1332" y="83"/>
                </a:lnTo>
                <a:lnTo>
                  <a:pt x="1330" y="85"/>
                </a:lnTo>
                <a:lnTo>
                  <a:pt x="1326" y="87"/>
                </a:lnTo>
                <a:lnTo>
                  <a:pt x="1322" y="87"/>
                </a:lnTo>
                <a:lnTo>
                  <a:pt x="1317" y="88"/>
                </a:lnTo>
                <a:lnTo>
                  <a:pt x="1311" y="92"/>
                </a:lnTo>
                <a:lnTo>
                  <a:pt x="1303" y="94"/>
                </a:lnTo>
                <a:lnTo>
                  <a:pt x="1296" y="96"/>
                </a:lnTo>
                <a:lnTo>
                  <a:pt x="1286" y="98"/>
                </a:lnTo>
                <a:lnTo>
                  <a:pt x="1276" y="102"/>
                </a:lnTo>
                <a:lnTo>
                  <a:pt x="1265" y="104"/>
                </a:lnTo>
                <a:lnTo>
                  <a:pt x="1253" y="108"/>
                </a:lnTo>
                <a:lnTo>
                  <a:pt x="1242" y="112"/>
                </a:lnTo>
                <a:lnTo>
                  <a:pt x="1228" y="115"/>
                </a:lnTo>
                <a:lnTo>
                  <a:pt x="1213" y="117"/>
                </a:lnTo>
                <a:lnTo>
                  <a:pt x="1198" y="121"/>
                </a:lnTo>
                <a:lnTo>
                  <a:pt x="1182" y="127"/>
                </a:lnTo>
                <a:lnTo>
                  <a:pt x="1165" y="131"/>
                </a:lnTo>
                <a:lnTo>
                  <a:pt x="1148" y="135"/>
                </a:lnTo>
                <a:lnTo>
                  <a:pt x="1129" y="140"/>
                </a:lnTo>
                <a:lnTo>
                  <a:pt x="1109" y="144"/>
                </a:lnTo>
                <a:lnTo>
                  <a:pt x="1088" y="150"/>
                </a:lnTo>
                <a:lnTo>
                  <a:pt x="1067" y="154"/>
                </a:lnTo>
                <a:lnTo>
                  <a:pt x="1046" y="159"/>
                </a:lnTo>
                <a:lnTo>
                  <a:pt x="1023" y="165"/>
                </a:lnTo>
                <a:lnTo>
                  <a:pt x="1000" y="171"/>
                </a:lnTo>
                <a:lnTo>
                  <a:pt x="975" y="177"/>
                </a:lnTo>
                <a:lnTo>
                  <a:pt x="948" y="183"/>
                </a:lnTo>
                <a:lnTo>
                  <a:pt x="923" y="188"/>
                </a:lnTo>
                <a:lnTo>
                  <a:pt x="896" y="194"/>
                </a:lnTo>
                <a:lnTo>
                  <a:pt x="867" y="202"/>
                </a:lnTo>
                <a:lnTo>
                  <a:pt x="839" y="207"/>
                </a:lnTo>
                <a:lnTo>
                  <a:pt x="810" y="215"/>
                </a:lnTo>
                <a:lnTo>
                  <a:pt x="779" y="223"/>
                </a:lnTo>
                <a:lnTo>
                  <a:pt x="750" y="231"/>
                </a:lnTo>
                <a:lnTo>
                  <a:pt x="722" y="238"/>
                </a:lnTo>
                <a:lnTo>
                  <a:pt x="693" y="244"/>
                </a:lnTo>
                <a:lnTo>
                  <a:pt x="666" y="252"/>
                </a:lnTo>
                <a:lnTo>
                  <a:pt x="639" y="257"/>
                </a:lnTo>
                <a:lnTo>
                  <a:pt x="614" y="263"/>
                </a:lnTo>
                <a:lnTo>
                  <a:pt x="589" y="269"/>
                </a:lnTo>
                <a:lnTo>
                  <a:pt x="564" y="275"/>
                </a:lnTo>
                <a:lnTo>
                  <a:pt x="539" y="280"/>
                </a:lnTo>
                <a:lnTo>
                  <a:pt x="516" y="284"/>
                </a:lnTo>
                <a:lnTo>
                  <a:pt x="493" y="290"/>
                </a:lnTo>
                <a:lnTo>
                  <a:pt x="472" y="294"/>
                </a:lnTo>
                <a:lnTo>
                  <a:pt x="451" y="298"/>
                </a:lnTo>
                <a:lnTo>
                  <a:pt x="430" y="303"/>
                </a:lnTo>
                <a:lnTo>
                  <a:pt x="409" y="305"/>
                </a:lnTo>
                <a:lnTo>
                  <a:pt x="390" y="309"/>
                </a:lnTo>
                <a:lnTo>
                  <a:pt x="370" y="313"/>
                </a:lnTo>
                <a:lnTo>
                  <a:pt x="353" y="317"/>
                </a:lnTo>
                <a:lnTo>
                  <a:pt x="336" y="319"/>
                </a:lnTo>
                <a:lnTo>
                  <a:pt x="319" y="321"/>
                </a:lnTo>
                <a:lnTo>
                  <a:pt x="303" y="323"/>
                </a:lnTo>
                <a:lnTo>
                  <a:pt x="288" y="326"/>
                </a:lnTo>
                <a:lnTo>
                  <a:pt x="272" y="328"/>
                </a:lnTo>
                <a:lnTo>
                  <a:pt x="259" y="328"/>
                </a:lnTo>
                <a:lnTo>
                  <a:pt x="246" y="330"/>
                </a:lnTo>
                <a:lnTo>
                  <a:pt x="232" y="332"/>
                </a:lnTo>
                <a:lnTo>
                  <a:pt x="221" y="332"/>
                </a:lnTo>
                <a:lnTo>
                  <a:pt x="209" y="334"/>
                </a:lnTo>
                <a:lnTo>
                  <a:pt x="198" y="334"/>
                </a:lnTo>
                <a:lnTo>
                  <a:pt x="188" y="334"/>
                </a:lnTo>
                <a:lnTo>
                  <a:pt x="178" y="334"/>
                </a:lnTo>
                <a:lnTo>
                  <a:pt x="161" y="334"/>
                </a:lnTo>
                <a:lnTo>
                  <a:pt x="146" y="334"/>
                </a:lnTo>
                <a:lnTo>
                  <a:pt x="130" y="332"/>
                </a:lnTo>
                <a:lnTo>
                  <a:pt x="117" y="332"/>
                </a:lnTo>
                <a:lnTo>
                  <a:pt x="104" y="330"/>
                </a:lnTo>
                <a:lnTo>
                  <a:pt x="92" y="330"/>
                </a:lnTo>
                <a:lnTo>
                  <a:pt x="80" y="328"/>
                </a:lnTo>
                <a:lnTo>
                  <a:pt x="71" y="326"/>
                </a:lnTo>
                <a:lnTo>
                  <a:pt x="61" y="325"/>
                </a:lnTo>
                <a:lnTo>
                  <a:pt x="54" y="323"/>
                </a:lnTo>
                <a:lnTo>
                  <a:pt x="46" y="321"/>
                </a:lnTo>
                <a:lnTo>
                  <a:pt x="40" y="319"/>
                </a:lnTo>
                <a:lnTo>
                  <a:pt x="34" y="317"/>
                </a:lnTo>
                <a:lnTo>
                  <a:pt x="31" y="315"/>
                </a:lnTo>
                <a:lnTo>
                  <a:pt x="27" y="313"/>
                </a:lnTo>
                <a:lnTo>
                  <a:pt x="25" y="311"/>
                </a:lnTo>
                <a:lnTo>
                  <a:pt x="15" y="302"/>
                </a:lnTo>
                <a:lnTo>
                  <a:pt x="11" y="296"/>
                </a:lnTo>
                <a:lnTo>
                  <a:pt x="8" y="290"/>
                </a:lnTo>
                <a:lnTo>
                  <a:pt x="6" y="284"/>
                </a:lnTo>
                <a:lnTo>
                  <a:pt x="2" y="279"/>
                </a:lnTo>
                <a:lnTo>
                  <a:pt x="2" y="271"/>
                </a:lnTo>
                <a:lnTo>
                  <a:pt x="0" y="263"/>
                </a:lnTo>
                <a:lnTo>
                  <a:pt x="11" y="261"/>
                </a:lnTo>
                <a:lnTo>
                  <a:pt x="21" y="259"/>
                </a:lnTo>
                <a:lnTo>
                  <a:pt x="32" y="257"/>
                </a:lnTo>
                <a:lnTo>
                  <a:pt x="46" y="255"/>
                </a:lnTo>
                <a:lnTo>
                  <a:pt x="57" y="254"/>
                </a:lnTo>
                <a:lnTo>
                  <a:pt x="71" y="252"/>
                </a:lnTo>
                <a:lnTo>
                  <a:pt x="84" y="250"/>
                </a:lnTo>
                <a:lnTo>
                  <a:pt x="98" y="246"/>
                </a:lnTo>
                <a:lnTo>
                  <a:pt x="113" y="244"/>
                </a:lnTo>
                <a:lnTo>
                  <a:pt x="128" y="240"/>
                </a:lnTo>
                <a:lnTo>
                  <a:pt x="144" y="238"/>
                </a:lnTo>
                <a:lnTo>
                  <a:pt x="161" y="234"/>
                </a:lnTo>
                <a:lnTo>
                  <a:pt x="178" y="231"/>
                </a:lnTo>
                <a:lnTo>
                  <a:pt x="196" y="227"/>
                </a:lnTo>
                <a:lnTo>
                  <a:pt x="213" y="223"/>
                </a:lnTo>
                <a:lnTo>
                  <a:pt x="232" y="219"/>
                </a:lnTo>
                <a:lnTo>
                  <a:pt x="251" y="213"/>
                </a:lnTo>
                <a:lnTo>
                  <a:pt x="272" y="209"/>
                </a:lnTo>
                <a:lnTo>
                  <a:pt x="292" y="204"/>
                </a:lnTo>
                <a:lnTo>
                  <a:pt x="313" y="198"/>
                </a:lnTo>
                <a:lnTo>
                  <a:pt x="334" y="194"/>
                </a:lnTo>
                <a:lnTo>
                  <a:pt x="357" y="188"/>
                </a:lnTo>
                <a:lnTo>
                  <a:pt x="380" y="183"/>
                </a:lnTo>
                <a:lnTo>
                  <a:pt x="403" y="175"/>
                </a:lnTo>
                <a:lnTo>
                  <a:pt x="426" y="169"/>
                </a:lnTo>
                <a:lnTo>
                  <a:pt x="451" y="163"/>
                </a:lnTo>
                <a:lnTo>
                  <a:pt x="474" y="156"/>
                </a:lnTo>
                <a:lnTo>
                  <a:pt x="501" y="150"/>
                </a:lnTo>
                <a:lnTo>
                  <a:pt x="526" y="142"/>
                </a:lnTo>
                <a:lnTo>
                  <a:pt x="553" y="135"/>
                </a:lnTo>
                <a:lnTo>
                  <a:pt x="580" y="127"/>
                </a:lnTo>
                <a:lnTo>
                  <a:pt x="606" y="119"/>
                </a:lnTo>
                <a:lnTo>
                  <a:pt x="635" y="113"/>
                </a:lnTo>
                <a:lnTo>
                  <a:pt x="662" y="106"/>
                </a:lnTo>
                <a:lnTo>
                  <a:pt x="687" y="100"/>
                </a:lnTo>
                <a:lnTo>
                  <a:pt x="712" y="94"/>
                </a:lnTo>
                <a:lnTo>
                  <a:pt x="737" y="88"/>
                </a:lnTo>
                <a:lnTo>
                  <a:pt x="762" y="83"/>
                </a:lnTo>
                <a:lnTo>
                  <a:pt x="785" y="77"/>
                </a:lnTo>
                <a:lnTo>
                  <a:pt x="808" y="71"/>
                </a:lnTo>
                <a:lnTo>
                  <a:pt x="829" y="67"/>
                </a:lnTo>
                <a:lnTo>
                  <a:pt x="852" y="62"/>
                </a:lnTo>
                <a:lnTo>
                  <a:pt x="871" y="58"/>
                </a:lnTo>
                <a:lnTo>
                  <a:pt x="892" y="52"/>
                </a:lnTo>
                <a:lnTo>
                  <a:pt x="912" y="48"/>
                </a:lnTo>
                <a:lnTo>
                  <a:pt x="931" y="44"/>
                </a:lnTo>
                <a:lnTo>
                  <a:pt x="948" y="40"/>
                </a:lnTo>
                <a:lnTo>
                  <a:pt x="967" y="37"/>
                </a:lnTo>
                <a:lnTo>
                  <a:pt x="983" y="33"/>
                </a:lnTo>
                <a:lnTo>
                  <a:pt x="1000" y="29"/>
                </a:lnTo>
                <a:lnTo>
                  <a:pt x="1015" y="27"/>
                </a:lnTo>
                <a:lnTo>
                  <a:pt x="1031" y="23"/>
                </a:lnTo>
                <a:lnTo>
                  <a:pt x="1046" y="21"/>
                </a:lnTo>
                <a:lnTo>
                  <a:pt x="1059" y="17"/>
                </a:lnTo>
                <a:lnTo>
                  <a:pt x="1073" y="16"/>
                </a:lnTo>
                <a:lnTo>
                  <a:pt x="1084" y="14"/>
                </a:lnTo>
                <a:lnTo>
                  <a:pt x="1098" y="12"/>
                </a:lnTo>
                <a:lnTo>
                  <a:pt x="1109" y="10"/>
                </a:lnTo>
                <a:lnTo>
                  <a:pt x="1119" y="8"/>
                </a:lnTo>
                <a:lnTo>
                  <a:pt x="1130" y="6"/>
                </a:lnTo>
                <a:lnTo>
                  <a:pt x="1140" y="4"/>
                </a:lnTo>
                <a:lnTo>
                  <a:pt x="1150" y="2"/>
                </a:lnTo>
                <a:lnTo>
                  <a:pt x="1157" y="0"/>
                </a:lnTo>
                <a:lnTo>
                  <a:pt x="1167" y="0"/>
                </a:lnTo>
                <a:lnTo>
                  <a:pt x="1178" y="0"/>
                </a:lnTo>
                <a:lnTo>
                  <a:pt x="1192" y="0"/>
                </a:lnTo>
                <a:lnTo>
                  <a:pt x="1203" y="0"/>
                </a:lnTo>
                <a:lnTo>
                  <a:pt x="1215" y="2"/>
                </a:lnTo>
                <a:lnTo>
                  <a:pt x="1236" y="4"/>
                </a:lnTo>
                <a:lnTo>
                  <a:pt x="1257" y="8"/>
                </a:lnTo>
                <a:lnTo>
                  <a:pt x="1274" y="10"/>
                </a:lnTo>
                <a:lnTo>
                  <a:pt x="1292" y="16"/>
                </a:lnTo>
                <a:lnTo>
                  <a:pt x="1307" y="19"/>
                </a:lnTo>
                <a:lnTo>
                  <a:pt x="1320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115"/>
          <p:cNvSpPr/>
          <p:nvPr/>
        </p:nvSpPr>
        <p:spPr>
          <a:xfrm>
            <a:off x="5570640" y="2703600"/>
            <a:ext cx="944640" cy="1184040"/>
          </a:xfrm>
          <a:custGeom>
            <a:avLst/>
            <a:gdLst/>
            <a:ahLst/>
            <a:rect l="l" t="t" r="r" b="b"/>
            <a:pathLst>
              <a:path w="1190" h="1538">
                <a:moveTo>
                  <a:pt x="157" y="1486"/>
                </a:moveTo>
                <a:lnTo>
                  <a:pt x="136" y="1496"/>
                </a:lnTo>
                <a:lnTo>
                  <a:pt x="119" y="1503"/>
                </a:lnTo>
                <a:lnTo>
                  <a:pt x="102" y="1509"/>
                </a:lnTo>
                <a:lnTo>
                  <a:pt x="88" y="1517"/>
                </a:lnTo>
                <a:lnTo>
                  <a:pt x="73" y="1521"/>
                </a:lnTo>
                <a:lnTo>
                  <a:pt x="61" y="1526"/>
                </a:lnTo>
                <a:lnTo>
                  <a:pt x="50" y="1530"/>
                </a:lnTo>
                <a:lnTo>
                  <a:pt x="38" y="1532"/>
                </a:lnTo>
                <a:lnTo>
                  <a:pt x="31" y="1536"/>
                </a:lnTo>
                <a:lnTo>
                  <a:pt x="23" y="1538"/>
                </a:lnTo>
                <a:lnTo>
                  <a:pt x="17" y="1538"/>
                </a:lnTo>
                <a:lnTo>
                  <a:pt x="11" y="1538"/>
                </a:lnTo>
                <a:lnTo>
                  <a:pt x="8" y="1538"/>
                </a:lnTo>
                <a:lnTo>
                  <a:pt x="4" y="1538"/>
                </a:lnTo>
                <a:lnTo>
                  <a:pt x="2" y="1536"/>
                </a:lnTo>
                <a:lnTo>
                  <a:pt x="2" y="1534"/>
                </a:lnTo>
                <a:lnTo>
                  <a:pt x="2" y="1532"/>
                </a:lnTo>
                <a:lnTo>
                  <a:pt x="0" y="1530"/>
                </a:lnTo>
                <a:lnTo>
                  <a:pt x="2" y="1528"/>
                </a:lnTo>
                <a:lnTo>
                  <a:pt x="2" y="1526"/>
                </a:lnTo>
                <a:lnTo>
                  <a:pt x="4" y="1525"/>
                </a:lnTo>
                <a:lnTo>
                  <a:pt x="6" y="1521"/>
                </a:lnTo>
                <a:lnTo>
                  <a:pt x="8" y="1519"/>
                </a:lnTo>
                <a:lnTo>
                  <a:pt x="11" y="1515"/>
                </a:lnTo>
                <a:lnTo>
                  <a:pt x="13" y="1511"/>
                </a:lnTo>
                <a:lnTo>
                  <a:pt x="17" y="1507"/>
                </a:lnTo>
                <a:lnTo>
                  <a:pt x="23" y="1502"/>
                </a:lnTo>
                <a:lnTo>
                  <a:pt x="27" y="1498"/>
                </a:lnTo>
                <a:lnTo>
                  <a:pt x="33" y="1492"/>
                </a:lnTo>
                <a:lnTo>
                  <a:pt x="38" y="1486"/>
                </a:lnTo>
                <a:lnTo>
                  <a:pt x="46" y="1480"/>
                </a:lnTo>
                <a:lnTo>
                  <a:pt x="54" y="1475"/>
                </a:lnTo>
                <a:lnTo>
                  <a:pt x="59" y="1469"/>
                </a:lnTo>
                <a:lnTo>
                  <a:pt x="69" y="1463"/>
                </a:lnTo>
                <a:lnTo>
                  <a:pt x="86" y="1448"/>
                </a:lnTo>
                <a:lnTo>
                  <a:pt x="105" y="1432"/>
                </a:lnTo>
                <a:lnTo>
                  <a:pt x="127" y="1417"/>
                </a:lnTo>
                <a:lnTo>
                  <a:pt x="150" y="1400"/>
                </a:lnTo>
                <a:lnTo>
                  <a:pt x="173" y="1382"/>
                </a:lnTo>
                <a:lnTo>
                  <a:pt x="200" y="1363"/>
                </a:lnTo>
                <a:lnTo>
                  <a:pt x="228" y="1344"/>
                </a:lnTo>
                <a:lnTo>
                  <a:pt x="257" y="1323"/>
                </a:lnTo>
                <a:lnTo>
                  <a:pt x="284" y="1300"/>
                </a:lnTo>
                <a:lnTo>
                  <a:pt x="313" y="1279"/>
                </a:lnTo>
                <a:lnTo>
                  <a:pt x="342" y="1256"/>
                </a:lnTo>
                <a:lnTo>
                  <a:pt x="368" y="1231"/>
                </a:lnTo>
                <a:lnTo>
                  <a:pt x="397" y="1206"/>
                </a:lnTo>
                <a:lnTo>
                  <a:pt x="424" y="1181"/>
                </a:lnTo>
                <a:lnTo>
                  <a:pt x="451" y="1154"/>
                </a:lnTo>
                <a:lnTo>
                  <a:pt x="478" y="1127"/>
                </a:lnTo>
                <a:lnTo>
                  <a:pt x="505" y="1100"/>
                </a:lnTo>
                <a:lnTo>
                  <a:pt x="530" y="1072"/>
                </a:lnTo>
                <a:lnTo>
                  <a:pt x="557" y="1041"/>
                </a:lnTo>
                <a:lnTo>
                  <a:pt x="581" y="1010"/>
                </a:lnTo>
                <a:lnTo>
                  <a:pt x="606" y="979"/>
                </a:lnTo>
                <a:lnTo>
                  <a:pt x="631" y="947"/>
                </a:lnTo>
                <a:lnTo>
                  <a:pt x="656" y="914"/>
                </a:lnTo>
                <a:lnTo>
                  <a:pt x="679" y="880"/>
                </a:lnTo>
                <a:lnTo>
                  <a:pt x="702" y="845"/>
                </a:lnTo>
                <a:lnTo>
                  <a:pt x="725" y="812"/>
                </a:lnTo>
                <a:lnTo>
                  <a:pt x="747" y="778"/>
                </a:lnTo>
                <a:lnTo>
                  <a:pt x="766" y="745"/>
                </a:lnTo>
                <a:lnTo>
                  <a:pt x="787" y="713"/>
                </a:lnTo>
                <a:lnTo>
                  <a:pt x="806" y="678"/>
                </a:lnTo>
                <a:lnTo>
                  <a:pt x="823" y="645"/>
                </a:lnTo>
                <a:lnTo>
                  <a:pt x="841" y="613"/>
                </a:lnTo>
                <a:lnTo>
                  <a:pt x="856" y="580"/>
                </a:lnTo>
                <a:lnTo>
                  <a:pt x="871" y="548"/>
                </a:lnTo>
                <a:lnTo>
                  <a:pt x="885" y="515"/>
                </a:lnTo>
                <a:lnTo>
                  <a:pt x="898" y="482"/>
                </a:lnTo>
                <a:lnTo>
                  <a:pt x="910" y="452"/>
                </a:lnTo>
                <a:lnTo>
                  <a:pt x="919" y="419"/>
                </a:lnTo>
                <a:lnTo>
                  <a:pt x="929" y="388"/>
                </a:lnTo>
                <a:lnTo>
                  <a:pt x="937" y="359"/>
                </a:lnTo>
                <a:lnTo>
                  <a:pt x="944" y="333"/>
                </a:lnTo>
                <a:lnTo>
                  <a:pt x="952" y="306"/>
                </a:lnTo>
                <a:lnTo>
                  <a:pt x="958" y="281"/>
                </a:lnTo>
                <a:lnTo>
                  <a:pt x="963" y="256"/>
                </a:lnTo>
                <a:lnTo>
                  <a:pt x="967" y="235"/>
                </a:lnTo>
                <a:lnTo>
                  <a:pt x="971" y="212"/>
                </a:lnTo>
                <a:lnTo>
                  <a:pt x="975" y="192"/>
                </a:lnTo>
                <a:lnTo>
                  <a:pt x="977" y="173"/>
                </a:lnTo>
                <a:lnTo>
                  <a:pt x="979" y="156"/>
                </a:lnTo>
                <a:lnTo>
                  <a:pt x="981" y="139"/>
                </a:lnTo>
                <a:lnTo>
                  <a:pt x="981" y="125"/>
                </a:lnTo>
                <a:lnTo>
                  <a:pt x="981" y="110"/>
                </a:lnTo>
                <a:lnTo>
                  <a:pt x="981" y="98"/>
                </a:lnTo>
                <a:lnTo>
                  <a:pt x="979" y="87"/>
                </a:lnTo>
                <a:lnTo>
                  <a:pt x="977" y="77"/>
                </a:lnTo>
                <a:lnTo>
                  <a:pt x="973" y="71"/>
                </a:lnTo>
                <a:lnTo>
                  <a:pt x="969" y="66"/>
                </a:lnTo>
                <a:lnTo>
                  <a:pt x="965" y="58"/>
                </a:lnTo>
                <a:lnTo>
                  <a:pt x="963" y="52"/>
                </a:lnTo>
                <a:lnTo>
                  <a:pt x="962" y="48"/>
                </a:lnTo>
                <a:lnTo>
                  <a:pt x="960" y="43"/>
                </a:lnTo>
                <a:lnTo>
                  <a:pt x="960" y="37"/>
                </a:lnTo>
                <a:lnTo>
                  <a:pt x="960" y="33"/>
                </a:lnTo>
                <a:lnTo>
                  <a:pt x="960" y="29"/>
                </a:lnTo>
                <a:lnTo>
                  <a:pt x="960" y="25"/>
                </a:lnTo>
                <a:lnTo>
                  <a:pt x="962" y="22"/>
                </a:lnTo>
                <a:lnTo>
                  <a:pt x="963" y="18"/>
                </a:lnTo>
                <a:lnTo>
                  <a:pt x="965" y="14"/>
                </a:lnTo>
                <a:lnTo>
                  <a:pt x="969" y="10"/>
                </a:lnTo>
                <a:lnTo>
                  <a:pt x="973" y="8"/>
                </a:lnTo>
                <a:lnTo>
                  <a:pt x="977" y="6"/>
                </a:lnTo>
                <a:lnTo>
                  <a:pt x="979" y="4"/>
                </a:lnTo>
                <a:lnTo>
                  <a:pt x="983" y="2"/>
                </a:lnTo>
                <a:lnTo>
                  <a:pt x="986" y="2"/>
                </a:lnTo>
                <a:lnTo>
                  <a:pt x="992" y="0"/>
                </a:lnTo>
                <a:lnTo>
                  <a:pt x="998" y="2"/>
                </a:lnTo>
                <a:lnTo>
                  <a:pt x="1004" y="2"/>
                </a:lnTo>
                <a:lnTo>
                  <a:pt x="1011" y="4"/>
                </a:lnTo>
                <a:lnTo>
                  <a:pt x="1019" y="6"/>
                </a:lnTo>
                <a:lnTo>
                  <a:pt x="1027" y="8"/>
                </a:lnTo>
                <a:lnTo>
                  <a:pt x="1034" y="12"/>
                </a:lnTo>
                <a:lnTo>
                  <a:pt x="1044" y="14"/>
                </a:lnTo>
                <a:lnTo>
                  <a:pt x="1054" y="20"/>
                </a:lnTo>
                <a:lnTo>
                  <a:pt x="1063" y="23"/>
                </a:lnTo>
                <a:lnTo>
                  <a:pt x="1075" y="29"/>
                </a:lnTo>
                <a:lnTo>
                  <a:pt x="1084" y="35"/>
                </a:lnTo>
                <a:lnTo>
                  <a:pt x="1096" y="43"/>
                </a:lnTo>
                <a:lnTo>
                  <a:pt x="1105" y="48"/>
                </a:lnTo>
                <a:lnTo>
                  <a:pt x="1117" y="54"/>
                </a:lnTo>
                <a:lnTo>
                  <a:pt x="1127" y="62"/>
                </a:lnTo>
                <a:lnTo>
                  <a:pt x="1134" y="68"/>
                </a:lnTo>
                <a:lnTo>
                  <a:pt x="1144" y="73"/>
                </a:lnTo>
                <a:lnTo>
                  <a:pt x="1152" y="79"/>
                </a:lnTo>
                <a:lnTo>
                  <a:pt x="1159" y="85"/>
                </a:lnTo>
                <a:lnTo>
                  <a:pt x="1165" y="89"/>
                </a:lnTo>
                <a:lnTo>
                  <a:pt x="1171" y="94"/>
                </a:lnTo>
                <a:lnTo>
                  <a:pt x="1177" y="100"/>
                </a:lnTo>
                <a:lnTo>
                  <a:pt x="1180" y="106"/>
                </a:lnTo>
                <a:lnTo>
                  <a:pt x="1184" y="112"/>
                </a:lnTo>
                <a:lnTo>
                  <a:pt x="1186" y="118"/>
                </a:lnTo>
                <a:lnTo>
                  <a:pt x="1188" y="125"/>
                </a:lnTo>
                <a:lnTo>
                  <a:pt x="1190" y="131"/>
                </a:lnTo>
                <a:lnTo>
                  <a:pt x="1190" y="137"/>
                </a:lnTo>
                <a:lnTo>
                  <a:pt x="1190" y="152"/>
                </a:lnTo>
                <a:lnTo>
                  <a:pt x="1188" y="166"/>
                </a:lnTo>
                <a:lnTo>
                  <a:pt x="1186" y="183"/>
                </a:lnTo>
                <a:lnTo>
                  <a:pt x="1182" y="200"/>
                </a:lnTo>
                <a:lnTo>
                  <a:pt x="1177" y="219"/>
                </a:lnTo>
                <a:lnTo>
                  <a:pt x="1171" y="238"/>
                </a:lnTo>
                <a:lnTo>
                  <a:pt x="1163" y="260"/>
                </a:lnTo>
                <a:lnTo>
                  <a:pt x="1155" y="281"/>
                </a:lnTo>
                <a:lnTo>
                  <a:pt x="1150" y="292"/>
                </a:lnTo>
                <a:lnTo>
                  <a:pt x="1146" y="306"/>
                </a:lnTo>
                <a:lnTo>
                  <a:pt x="1140" y="317"/>
                </a:lnTo>
                <a:lnTo>
                  <a:pt x="1134" y="333"/>
                </a:lnTo>
                <a:lnTo>
                  <a:pt x="1129" y="346"/>
                </a:lnTo>
                <a:lnTo>
                  <a:pt x="1123" y="361"/>
                </a:lnTo>
                <a:lnTo>
                  <a:pt x="1117" y="379"/>
                </a:lnTo>
                <a:lnTo>
                  <a:pt x="1109" y="396"/>
                </a:lnTo>
                <a:lnTo>
                  <a:pt x="1104" y="413"/>
                </a:lnTo>
                <a:lnTo>
                  <a:pt x="1096" y="430"/>
                </a:lnTo>
                <a:lnTo>
                  <a:pt x="1088" y="450"/>
                </a:lnTo>
                <a:lnTo>
                  <a:pt x="1081" y="471"/>
                </a:lnTo>
                <a:lnTo>
                  <a:pt x="1073" y="490"/>
                </a:lnTo>
                <a:lnTo>
                  <a:pt x="1065" y="511"/>
                </a:lnTo>
                <a:lnTo>
                  <a:pt x="1058" y="532"/>
                </a:lnTo>
                <a:lnTo>
                  <a:pt x="1048" y="555"/>
                </a:lnTo>
                <a:lnTo>
                  <a:pt x="1038" y="578"/>
                </a:lnTo>
                <a:lnTo>
                  <a:pt x="1029" y="601"/>
                </a:lnTo>
                <a:lnTo>
                  <a:pt x="1017" y="624"/>
                </a:lnTo>
                <a:lnTo>
                  <a:pt x="1006" y="647"/>
                </a:lnTo>
                <a:lnTo>
                  <a:pt x="994" y="670"/>
                </a:lnTo>
                <a:lnTo>
                  <a:pt x="981" y="693"/>
                </a:lnTo>
                <a:lnTo>
                  <a:pt x="965" y="718"/>
                </a:lnTo>
                <a:lnTo>
                  <a:pt x="952" y="743"/>
                </a:lnTo>
                <a:lnTo>
                  <a:pt x="937" y="768"/>
                </a:lnTo>
                <a:lnTo>
                  <a:pt x="919" y="793"/>
                </a:lnTo>
                <a:lnTo>
                  <a:pt x="902" y="818"/>
                </a:lnTo>
                <a:lnTo>
                  <a:pt x="885" y="843"/>
                </a:lnTo>
                <a:lnTo>
                  <a:pt x="867" y="870"/>
                </a:lnTo>
                <a:lnTo>
                  <a:pt x="848" y="895"/>
                </a:lnTo>
                <a:lnTo>
                  <a:pt x="829" y="922"/>
                </a:lnTo>
                <a:lnTo>
                  <a:pt x="810" y="949"/>
                </a:lnTo>
                <a:lnTo>
                  <a:pt x="791" y="977"/>
                </a:lnTo>
                <a:lnTo>
                  <a:pt x="770" y="1006"/>
                </a:lnTo>
                <a:lnTo>
                  <a:pt x="750" y="1031"/>
                </a:lnTo>
                <a:lnTo>
                  <a:pt x="729" y="1058"/>
                </a:lnTo>
                <a:lnTo>
                  <a:pt x="708" y="1081"/>
                </a:lnTo>
                <a:lnTo>
                  <a:pt x="687" y="1104"/>
                </a:lnTo>
                <a:lnTo>
                  <a:pt x="666" y="1127"/>
                </a:lnTo>
                <a:lnTo>
                  <a:pt x="645" y="1148"/>
                </a:lnTo>
                <a:lnTo>
                  <a:pt x="624" y="1169"/>
                </a:lnTo>
                <a:lnTo>
                  <a:pt x="601" y="1191"/>
                </a:lnTo>
                <a:lnTo>
                  <a:pt x="580" y="1210"/>
                </a:lnTo>
                <a:lnTo>
                  <a:pt x="558" y="1227"/>
                </a:lnTo>
                <a:lnTo>
                  <a:pt x="539" y="1246"/>
                </a:lnTo>
                <a:lnTo>
                  <a:pt x="518" y="1262"/>
                </a:lnTo>
                <a:lnTo>
                  <a:pt x="497" y="1279"/>
                </a:lnTo>
                <a:lnTo>
                  <a:pt x="478" y="1296"/>
                </a:lnTo>
                <a:lnTo>
                  <a:pt x="457" y="1311"/>
                </a:lnTo>
                <a:lnTo>
                  <a:pt x="438" y="1325"/>
                </a:lnTo>
                <a:lnTo>
                  <a:pt x="418" y="1340"/>
                </a:lnTo>
                <a:lnTo>
                  <a:pt x="397" y="1354"/>
                </a:lnTo>
                <a:lnTo>
                  <a:pt x="378" y="1367"/>
                </a:lnTo>
                <a:lnTo>
                  <a:pt x="357" y="1381"/>
                </a:lnTo>
                <a:lnTo>
                  <a:pt x="338" y="1392"/>
                </a:lnTo>
                <a:lnTo>
                  <a:pt x="317" y="1404"/>
                </a:lnTo>
                <a:lnTo>
                  <a:pt x="276" y="1427"/>
                </a:lnTo>
                <a:lnTo>
                  <a:pt x="236" y="1448"/>
                </a:lnTo>
                <a:lnTo>
                  <a:pt x="196" y="1467"/>
                </a:lnTo>
                <a:lnTo>
                  <a:pt x="157" y="14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116"/>
          <p:cNvSpPr/>
          <p:nvPr/>
        </p:nvSpPr>
        <p:spPr>
          <a:xfrm>
            <a:off x="6715080" y="2744640"/>
            <a:ext cx="322200" cy="184320"/>
          </a:xfrm>
          <a:custGeom>
            <a:avLst/>
            <a:gdLst/>
            <a:ahLst/>
            <a:rect l="l" t="t" r="r" b="b"/>
            <a:pathLst>
              <a:path w="407" h="240">
                <a:moveTo>
                  <a:pt x="356" y="240"/>
                </a:moveTo>
                <a:lnTo>
                  <a:pt x="354" y="240"/>
                </a:lnTo>
                <a:lnTo>
                  <a:pt x="348" y="238"/>
                </a:lnTo>
                <a:lnTo>
                  <a:pt x="344" y="236"/>
                </a:lnTo>
                <a:lnTo>
                  <a:pt x="336" y="232"/>
                </a:lnTo>
                <a:lnTo>
                  <a:pt x="329" y="230"/>
                </a:lnTo>
                <a:lnTo>
                  <a:pt x="319" y="224"/>
                </a:lnTo>
                <a:lnTo>
                  <a:pt x="308" y="220"/>
                </a:lnTo>
                <a:lnTo>
                  <a:pt x="296" y="215"/>
                </a:lnTo>
                <a:lnTo>
                  <a:pt x="284" y="207"/>
                </a:lnTo>
                <a:lnTo>
                  <a:pt x="269" y="201"/>
                </a:lnTo>
                <a:lnTo>
                  <a:pt x="256" y="194"/>
                </a:lnTo>
                <a:lnTo>
                  <a:pt x="238" y="184"/>
                </a:lnTo>
                <a:lnTo>
                  <a:pt x="221" y="174"/>
                </a:lnTo>
                <a:lnTo>
                  <a:pt x="204" y="165"/>
                </a:lnTo>
                <a:lnTo>
                  <a:pt x="185" y="155"/>
                </a:lnTo>
                <a:lnTo>
                  <a:pt x="165" y="144"/>
                </a:lnTo>
                <a:lnTo>
                  <a:pt x="146" y="132"/>
                </a:lnTo>
                <a:lnTo>
                  <a:pt x="129" y="123"/>
                </a:lnTo>
                <a:lnTo>
                  <a:pt x="112" y="111"/>
                </a:lnTo>
                <a:lnTo>
                  <a:pt x="94" y="101"/>
                </a:lnTo>
                <a:lnTo>
                  <a:pt x="81" y="92"/>
                </a:lnTo>
                <a:lnTo>
                  <a:pt x="66" y="80"/>
                </a:lnTo>
                <a:lnTo>
                  <a:pt x="54" y="73"/>
                </a:lnTo>
                <a:lnTo>
                  <a:pt x="43" y="63"/>
                </a:lnTo>
                <a:lnTo>
                  <a:pt x="33" y="53"/>
                </a:lnTo>
                <a:lnTo>
                  <a:pt x="23" y="46"/>
                </a:lnTo>
                <a:lnTo>
                  <a:pt x="16" y="38"/>
                </a:lnTo>
                <a:lnTo>
                  <a:pt x="10" y="29"/>
                </a:lnTo>
                <a:lnTo>
                  <a:pt x="6" y="21"/>
                </a:lnTo>
                <a:lnTo>
                  <a:pt x="2" y="15"/>
                </a:lnTo>
                <a:lnTo>
                  <a:pt x="0" y="7"/>
                </a:lnTo>
                <a:lnTo>
                  <a:pt x="0" y="0"/>
                </a:lnTo>
                <a:lnTo>
                  <a:pt x="20" y="0"/>
                </a:lnTo>
                <a:lnTo>
                  <a:pt x="39" y="0"/>
                </a:lnTo>
                <a:lnTo>
                  <a:pt x="58" y="2"/>
                </a:lnTo>
                <a:lnTo>
                  <a:pt x="75" y="2"/>
                </a:lnTo>
                <a:lnTo>
                  <a:pt x="93" y="2"/>
                </a:lnTo>
                <a:lnTo>
                  <a:pt x="110" y="4"/>
                </a:lnTo>
                <a:lnTo>
                  <a:pt x="127" y="4"/>
                </a:lnTo>
                <a:lnTo>
                  <a:pt x="142" y="4"/>
                </a:lnTo>
                <a:lnTo>
                  <a:pt x="158" y="5"/>
                </a:lnTo>
                <a:lnTo>
                  <a:pt x="173" y="7"/>
                </a:lnTo>
                <a:lnTo>
                  <a:pt x="187" y="7"/>
                </a:lnTo>
                <a:lnTo>
                  <a:pt x="200" y="9"/>
                </a:lnTo>
                <a:lnTo>
                  <a:pt x="213" y="11"/>
                </a:lnTo>
                <a:lnTo>
                  <a:pt x="227" y="13"/>
                </a:lnTo>
                <a:lnTo>
                  <a:pt x="238" y="15"/>
                </a:lnTo>
                <a:lnTo>
                  <a:pt x="250" y="17"/>
                </a:lnTo>
                <a:lnTo>
                  <a:pt x="261" y="19"/>
                </a:lnTo>
                <a:lnTo>
                  <a:pt x="273" y="21"/>
                </a:lnTo>
                <a:lnTo>
                  <a:pt x="283" y="23"/>
                </a:lnTo>
                <a:lnTo>
                  <a:pt x="292" y="25"/>
                </a:lnTo>
                <a:lnTo>
                  <a:pt x="302" y="29"/>
                </a:lnTo>
                <a:lnTo>
                  <a:pt x="309" y="30"/>
                </a:lnTo>
                <a:lnTo>
                  <a:pt x="317" y="32"/>
                </a:lnTo>
                <a:lnTo>
                  <a:pt x="325" y="36"/>
                </a:lnTo>
                <a:lnTo>
                  <a:pt x="332" y="38"/>
                </a:lnTo>
                <a:lnTo>
                  <a:pt x="338" y="42"/>
                </a:lnTo>
                <a:lnTo>
                  <a:pt x="346" y="44"/>
                </a:lnTo>
                <a:lnTo>
                  <a:pt x="352" y="48"/>
                </a:lnTo>
                <a:lnTo>
                  <a:pt x="356" y="50"/>
                </a:lnTo>
                <a:lnTo>
                  <a:pt x="361" y="53"/>
                </a:lnTo>
                <a:lnTo>
                  <a:pt x="365" y="57"/>
                </a:lnTo>
                <a:lnTo>
                  <a:pt x="369" y="61"/>
                </a:lnTo>
                <a:lnTo>
                  <a:pt x="375" y="69"/>
                </a:lnTo>
                <a:lnTo>
                  <a:pt x="380" y="78"/>
                </a:lnTo>
                <a:lnTo>
                  <a:pt x="386" y="86"/>
                </a:lnTo>
                <a:lnTo>
                  <a:pt x="390" y="94"/>
                </a:lnTo>
                <a:lnTo>
                  <a:pt x="394" y="101"/>
                </a:lnTo>
                <a:lnTo>
                  <a:pt x="398" y="109"/>
                </a:lnTo>
                <a:lnTo>
                  <a:pt x="402" y="117"/>
                </a:lnTo>
                <a:lnTo>
                  <a:pt x="403" y="125"/>
                </a:lnTo>
                <a:lnTo>
                  <a:pt x="405" y="132"/>
                </a:lnTo>
                <a:lnTo>
                  <a:pt x="407" y="138"/>
                </a:lnTo>
                <a:lnTo>
                  <a:pt x="407" y="146"/>
                </a:lnTo>
                <a:lnTo>
                  <a:pt x="407" y="153"/>
                </a:lnTo>
                <a:lnTo>
                  <a:pt x="407" y="159"/>
                </a:lnTo>
                <a:lnTo>
                  <a:pt x="407" y="167"/>
                </a:lnTo>
                <a:lnTo>
                  <a:pt x="405" y="172"/>
                </a:lnTo>
                <a:lnTo>
                  <a:pt x="403" y="180"/>
                </a:lnTo>
                <a:lnTo>
                  <a:pt x="398" y="192"/>
                </a:lnTo>
                <a:lnTo>
                  <a:pt x="394" y="203"/>
                </a:lnTo>
                <a:lnTo>
                  <a:pt x="386" y="215"/>
                </a:lnTo>
                <a:lnTo>
                  <a:pt x="380" y="222"/>
                </a:lnTo>
                <a:lnTo>
                  <a:pt x="373" y="230"/>
                </a:lnTo>
                <a:lnTo>
                  <a:pt x="371" y="232"/>
                </a:lnTo>
                <a:lnTo>
                  <a:pt x="367" y="236"/>
                </a:lnTo>
                <a:lnTo>
                  <a:pt x="363" y="236"/>
                </a:lnTo>
                <a:lnTo>
                  <a:pt x="361" y="238"/>
                </a:lnTo>
                <a:lnTo>
                  <a:pt x="359" y="240"/>
                </a:lnTo>
                <a:lnTo>
                  <a:pt x="356" y="2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煮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3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7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大下小，重心在“者”上，“灬”往下写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矩形 2"/>
          <p:cNvSpPr/>
          <p:nvPr/>
        </p:nvSpPr>
        <p:spPr>
          <a:xfrm>
            <a:off x="2192400" y="1825560"/>
            <a:ext cx="132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72"/>
          <p:cNvSpPr/>
          <p:nvPr/>
        </p:nvSpPr>
        <p:spPr>
          <a:xfrm>
            <a:off x="6326280" y="3841920"/>
            <a:ext cx="176040" cy="693720"/>
          </a:xfrm>
          <a:custGeom>
            <a:avLst/>
            <a:gdLst/>
            <a:ahLst/>
            <a:rect l="l" t="t" r="r" b="b"/>
            <a:pathLst>
              <a:path w="334" h="1311">
                <a:moveTo>
                  <a:pt x="14" y="90"/>
                </a:moveTo>
                <a:lnTo>
                  <a:pt x="12" y="83"/>
                </a:lnTo>
                <a:lnTo>
                  <a:pt x="7" y="77"/>
                </a:lnTo>
                <a:lnTo>
                  <a:pt x="6" y="72"/>
                </a:lnTo>
                <a:lnTo>
                  <a:pt x="3" y="66"/>
                </a:lnTo>
                <a:lnTo>
                  <a:pt x="1" y="62"/>
                </a:lnTo>
                <a:lnTo>
                  <a:pt x="0" y="56"/>
                </a:lnTo>
                <a:lnTo>
                  <a:pt x="0" y="52"/>
                </a:lnTo>
                <a:lnTo>
                  <a:pt x="0" y="47"/>
                </a:lnTo>
                <a:lnTo>
                  <a:pt x="0" y="43"/>
                </a:lnTo>
                <a:lnTo>
                  <a:pt x="0" y="39"/>
                </a:lnTo>
                <a:lnTo>
                  <a:pt x="1" y="36"/>
                </a:lnTo>
                <a:lnTo>
                  <a:pt x="3" y="31"/>
                </a:lnTo>
                <a:lnTo>
                  <a:pt x="6" y="29"/>
                </a:lnTo>
                <a:lnTo>
                  <a:pt x="7" y="24"/>
                </a:lnTo>
                <a:lnTo>
                  <a:pt x="12" y="21"/>
                </a:lnTo>
                <a:lnTo>
                  <a:pt x="14" y="18"/>
                </a:lnTo>
                <a:lnTo>
                  <a:pt x="16" y="16"/>
                </a:lnTo>
                <a:lnTo>
                  <a:pt x="19" y="14"/>
                </a:lnTo>
                <a:lnTo>
                  <a:pt x="22" y="13"/>
                </a:lnTo>
                <a:lnTo>
                  <a:pt x="26" y="11"/>
                </a:lnTo>
                <a:lnTo>
                  <a:pt x="30" y="10"/>
                </a:lnTo>
                <a:lnTo>
                  <a:pt x="35" y="8"/>
                </a:lnTo>
                <a:lnTo>
                  <a:pt x="39" y="8"/>
                </a:lnTo>
                <a:lnTo>
                  <a:pt x="45" y="7"/>
                </a:lnTo>
                <a:lnTo>
                  <a:pt x="50" y="5"/>
                </a:lnTo>
                <a:lnTo>
                  <a:pt x="56" y="5"/>
                </a:lnTo>
                <a:lnTo>
                  <a:pt x="63" y="4"/>
                </a:lnTo>
                <a:lnTo>
                  <a:pt x="72" y="4"/>
                </a:lnTo>
                <a:lnTo>
                  <a:pt x="79" y="3"/>
                </a:lnTo>
                <a:lnTo>
                  <a:pt x="88" y="3"/>
                </a:lnTo>
                <a:lnTo>
                  <a:pt x="97" y="1"/>
                </a:lnTo>
                <a:lnTo>
                  <a:pt x="107" y="1"/>
                </a:lnTo>
                <a:lnTo>
                  <a:pt x="117" y="1"/>
                </a:lnTo>
                <a:lnTo>
                  <a:pt x="127" y="1"/>
                </a:lnTo>
                <a:lnTo>
                  <a:pt x="138" y="0"/>
                </a:lnTo>
                <a:lnTo>
                  <a:pt x="150" y="0"/>
                </a:lnTo>
                <a:lnTo>
                  <a:pt x="163" y="0"/>
                </a:lnTo>
                <a:lnTo>
                  <a:pt x="176" y="0"/>
                </a:lnTo>
                <a:lnTo>
                  <a:pt x="189" y="0"/>
                </a:lnTo>
                <a:lnTo>
                  <a:pt x="203" y="0"/>
                </a:lnTo>
                <a:lnTo>
                  <a:pt x="217" y="0"/>
                </a:lnTo>
                <a:lnTo>
                  <a:pt x="232" y="0"/>
                </a:lnTo>
                <a:lnTo>
                  <a:pt x="248" y="0"/>
                </a:lnTo>
                <a:lnTo>
                  <a:pt x="263" y="0"/>
                </a:lnTo>
                <a:lnTo>
                  <a:pt x="281" y="0"/>
                </a:lnTo>
                <a:lnTo>
                  <a:pt x="298" y="0"/>
                </a:lnTo>
                <a:lnTo>
                  <a:pt x="315" y="0"/>
                </a:lnTo>
                <a:lnTo>
                  <a:pt x="334" y="0"/>
                </a:lnTo>
                <a:lnTo>
                  <a:pt x="334" y="8"/>
                </a:lnTo>
                <a:lnTo>
                  <a:pt x="334" y="18"/>
                </a:lnTo>
                <a:lnTo>
                  <a:pt x="334" y="29"/>
                </a:lnTo>
                <a:lnTo>
                  <a:pt x="333" y="41"/>
                </a:lnTo>
                <a:lnTo>
                  <a:pt x="333" y="54"/>
                </a:lnTo>
                <a:lnTo>
                  <a:pt x="333" y="67"/>
                </a:lnTo>
                <a:lnTo>
                  <a:pt x="331" y="82"/>
                </a:lnTo>
                <a:lnTo>
                  <a:pt x="331" y="98"/>
                </a:lnTo>
                <a:lnTo>
                  <a:pt x="330" y="113"/>
                </a:lnTo>
                <a:lnTo>
                  <a:pt x="328" y="132"/>
                </a:lnTo>
                <a:lnTo>
                  <a:pt x="328" y="149"/>
                </a:lnTo>
                <a:lnTo>
                  <a:pt x="327" y="170"/>
                </a:lnTo>
                <a:lnTo>
                  <a:pt x="325" y="188"/>
                </a:lnTo>
                <a:lnTo>
                  <a:pt x="324" y="210"/>
                </a:lnTo>
                <a:lnTo>
                  <a:pt x="323" y="231"/>
                </a:lnTo>
                <a:lnTo>
                  <a:pt x="321" y="255"/>
                </a:lnTo>
                <a:lnTo>
                  <a:pt x="320" y="278"/>
                </a:lnTo>
                <a:lnTo>
                  <a:pt x="318" y="302"/>
                </a:lnTo>
                <a:lnTo>
                  <a:pt x="317" y="327"/>
                </a:lnTo>
                <a:lnTo>
                  <a:pt x="315" y="352"/>
                </a:lnTo>
                <a:lnTo>
                  <a:pt x="314" y="380"/>
                </a:lnTo>
                <a:lnTo>
                  <a:pt x="311" y="407"/>
                </a:lnTo>
                <a:lnTo>
                  <a:pt x="310" y="436"/>
                </a:lnTo>
                <a:lnTo>
                  <a:pt x="308" y="465"/>
                </a:lnTo>
                <a:lnTo>
                  <a:pt x="307" y="495"/>
                </a:lnTo>
                <a:lnTo>
                  <a:pt x="305" y="527"/>
                </a:lnTo>
                <a:lnTo>
                  <a:pt x="302" y="558"/>
                </a:lnTo>
                <a:lnTo>
                  <a:pt x="301" y="590"/>
                </a:lnTo>
                <a:lnTo>
                  <a:pt x="299" y="623"/>
                </a:lnTo>
                <a:lnTo>
                  <a:pt x="298" y="658"/>
                </a:lnTo>
                <a:lnTo>
                  <a:pt x="295" y="692"/>
                </a:lnTo>
                <a:lnTo>
                  <a:pt x="294" y="728"/>
                </a:lnTo>
                <a:lnTo>
                  <a:pt x="292" y="763"/>
                </a:lnTo>
                <a:lnTo>
                  <a:pt x="289" y="797"/>
                </a:lnTo>
                <a:lnTo>
                  <a:pt x="288" y="830"/>
                </a:lnTo>
                <a:lnTo>
                  <a:pt x="287" y="862"/>
                </a:lnTo>
                <a:lnTo>
                  <a:pt x="285" y="894"/>
                </a:lnTo>
                <a:lnTo>
                  <a:pt x="282" y="924"/>
                </a:lnTo>
                <a:lnTo>
                  <a:pt x="281" y="953"/>
                </a:lnTo>
                <a:lnTo>
                  <a:pt x="279" y="980"/>
                </a:lnTo>
                <a:lnTo>
                  <a:pt x="278" y="1007"/>
                </a:lnTo>
                <a:lnTo>
                  <a:pt x="275" y="1032"/>
                </a:lnTo>
                <a:lnTo>
                  <a:pt x="274" y="1056"/>
                </a:lnTo>
                <a:lnTo>
                  <a:pt x="272" y="1081"/>
                </a:lnTo>
                <a:lnTo>
                  <a:pt x="269" y="1102"/>
                </a:lnTo>
                <a:lnTo>
                  <a:pt x="268" y="1124"/>
                </a:lnTo>
                <a:lnTo>
                  <a:pt x="266" y="1144"/>
                </a:lnTo>
                <a:lnTo>
                  <a:pt x="263" y="1163"/>
                </a:lnTo>
                <a:lnTo>
                  <a:pt x="262" y="1180"/>
                </a:lnTo>
                <a:lnTo>
                  <a:pt x="261" y="1197"/>
                </a:lnTo>
                <a:lnTo>
                  <a:pt x="259" y="1213"/>
                </a:lnTo>
                <a:lnTo>
                  <a:pt x="256" y="1228"/>
                </a:lnTo>
                <a:lnTo>
                  <a:pt x="255" y="1241"/>
                </a:lnTo>
                <a:lnTo>
                  <a:pt x="253" y="1252"/>
                </a:lnTo>
                <a:lnTo>
                  <a:pt x="251" y="1264"/>
                </a:lnTo>
                <a:lnTo>
                  <a:pt x="249" y="1274"/>
                </a:lnTo>
                <a:lnTo>
                  <a:pt x="248" y="1282"/>
                </a:lnTo>
                <a:lnTo>
                  <a:pt x="245" y="1290"/>
                </a:lnTo>
                <a:lnTo>
                  <a:pt x="243" y="1295"/>
                </a:lnTo>
                <a:lnTo>
                  <a:pt x="242" y="1301"/>
                </a:lnTo>
                <a:lnTo>
                  <a:pt x="239" y="1305"/>
                </a:lnTo>
                <a:lnTo>
                  <a:pt x="238" y="1308"/>
                </a:lnTo>
                <a:lnTo>
                  <a:pt x="236" y="1310"/>
                </a:lnTo>
                <a:lnTo>
                  <a:pt x="235" y="1311"/>
                </a:lnTo>
                <a:lnTo>
                  <a:pt x="230" y="1310"/>
                </a:lnTo>
                <a:lnTo>
                  <a:pt x="226" y="1308"/>
                </a:lnTo>
                <a:lnTo>
                  <a:pt x="220" y="1307"/>
                </a:lnTo>
                <a:lnTo>
                  <a:pt x="215" y="1304"/>
                </a:lnTo>
                <a:lnTo>
                  <a:pt x="209" y="1300"/>
                </a:lnTo>
                <a:lnTo>
                  <a:pt x="203" y="1295"/>
                </a:lnTo>
                <a:lnTo>
                  <a:pt x="196" y="1290"/>
                </a:lnTo>
                <a:lnTo>
                  <a:pt x="189" y="1284"/>
                </a:lnTo>
                <a:lnTo>
                  <a:pt x="181" y="1277"/>
                </a:lnTo>
                <a:lnTo>
                  <a:pt x="173" y="1268"/>
                </a:lnTo>
                <a:lnTo>
                  <a:pt x="164" y="1259"/>
                </a:lnTo>
                <a:lnTo>
                  <a:pt x="156" y="1249"/>
                </a:lnTo>
                <a:lnTo>
                  <a:pt x="145" y="1238"/>
                </a:lnTo>
                <a:lnTo>
                  <a:pt x="135" y="1226"/>
                </a:lnTo>
                <a:lnTo>
                  <a:pt x="125" y="1215"/>
                </a:lnTo>
                <a:lnTo>
                  <a:pt x="114" y="1202"/>
                </a:lnTo>
                <a:lnTo>
                  <a:pt x="104" y="1190"/>
                </a:lnTo>
                <a:lnTo>
                  <a:pt x="94" y="1177"/>
                </a:lnTo>
                <a:lnTo>
                  <a:pt x="85" y="1164"/>
                </a:lnTo>
                <a:lnTo>
                  <a:pt x="76" y="1150"/>
                </a:lnTo>
                <a:lnTo>
                  <a:pt x="71" y="1134"/>
                </a:lnTo>
                <a:lnTo>
                  <a:pt x="63" y="1118"/>
                </a:lnTo>
                <a:lnTo>
                  <a:pt x="59" y="1101"/>
                </a:lnTo>
                <a:lnTo>
                  <a:pt x="55" y="1082"/>
                </a:lnTo>
                <a:lnTo>
                  <a:pt x="52" y="1064"/>
                </a:lnTo>
                <a:lnTo>
                  <a:pt x="49" y="1043"/>
                </a:lnTo>
                <a:lnTo>
                  <a:pt x="48" y="1022"/>
                </a:lnTo>
                <a:lnTo>
                  <a:pt x="48" y="1002"/>
                </a:lnTo>
                <a:lnTo>
                  <a:pt x="48" y="979"/>
                </a:lnTo>
                <a:lnTo>
                  <a:pt x="49" y="957"/>
                </a:lnTo>
                <a:lnTo>
                  <a:pt x="50" y="933"/>
                </a:lnTo>
                <a:lnTo>
                  <a:pt x="55" y="910"/>
                </a:lnTo>
                <a:lnTo>
                  <a:pt x="58" y="885"/>
                </a:lnTo>
                <a:lnTo>
                  <a:pt x="61" y="861"/>
                </a:lnTo>
                <a:lnTo>
                  <a:pt x="63" y="835"/>
                </a:lnTo>
                <a:lnTo>
                  <a:pt x="65" y="807"/>
                </a:lnTo>
                <a:lnTo>
                  <a:pt x="68" y="780"/>
                </a:lnTo>
                <a:lnTo>
                  <a:pt x="69" y="751"/>
                </a:lnTo>
                <a:lnTo>
                  <a:pt x="71" y="721"/>
                </a:lnTo>
                <a:lnTo>
                  <a:pt x="72" y="691"/>
                </a:lnTo>
                <a:lnTo>
                  <a:pt x="72" y="660"/>
                </a:lnTo>
                <a:lnTo>
                  <a:pt x="73" y="629"/>
                </a:lnTo>
                <a:lnTo>
                  <a:pt x="73" y="596"/>
                </a:lnTo>
                <a:lnTo>
                  <a:pt x="73" y="561"/>
                </a:lnTo>
                <a:lnTo>
                  <a:pt x="73" y="527"/>
                </a:lnTo>
                <a:lnTo>
                  <a:pt x="73" y="492"/>
                </a:lnTo>
                <a:lnTo>
                  <a:pt x="75" y="455"/>
                </a:lnTo>
                <a:lnTo>
                  <a:pt x="75" y="419"/>
                </a:lnTo>
                <a:lnTo>
                  <a:pt x="73" y="400"/>
                </a:lnTo>
                <a:lnTo>
                  <a:pt x="73" y="381"/>
                </a:lnTo>
                <a:lnTo>
                  <a:pt x="73" y="364"/>
                </a:lnTo>
                <a:lnTo>
                  <a:pt x="73" y="347"/>
                </a:lnTo>
                <a:lnTo>
                  <a:pt x="72" y="331"/>
                </a:lnTo>
                <a:lnTo>
                  <a:pt x="72" y="315"/>
                </a:lnTo>
                <a:lnTo>
                  <a:pt x="72" y="299"/>
                </a:lnTo>
                <a:lnTo>
                  <a:pt x="71" y="285"/>
                </a:lnTo>
                <a:lnTo>
                  <a:pt x="69" y="270"/>
                </a:lnTo>
                <a:lnTo>
                  <a:pt x="68" y="257"/>
                </a:lnTo>
                <a:lnTo>
                  <a:pt x="68" y="244"/>
                </a:lnTo>
                <a:lnTo>
                  <a:pt x="66" y="231"/>
                </a:lnTo>
                <a:lnTo>
                  <a:pt x="65" y="219"/>
                </a:lnTo>
                <a:lnTo>
                  <a:pt x="63" y="207"/>
                </a:lnTo>
                <a:lnTo>
                  <a:pt x="61" y="197"/>
                </a:lnTo>
                <a:lnTo>
                  <a:pt x="59" y="187"/>
                </a:lnTo>
                <a:lnTo>
                  <a:pt x="58" y="177"/>
                </a:lnTo>
                <a:lnTo>
                  <a:pt x="55" y="167"/>
                </a:lnTo>
                <a:lnTo>
                  <a:pt x="53" y="158"/>
                </a:lnTo>
                <a:lnTo>
                  <a:pt x="50" y="149"/>
                </a:lnTo>
                <a:lnTo>
                  <a:pt x="49" y="142"/>
                </a:lnTo>
                <a:lnTo>
                  <a:pt x="46" y="135"/>
                </a:lnTo>
                <a:lnTo>
                  <a:pt x="43" y="128"/>
                </a:lnTo>
                <a:lnTo>
                  <a:pt x="40" y="122"/>
                </a:lnTo>
                <a:lnTo>
                  <a:pt x="37" y="116"/>
                </a:lnTo>
                <a:lnTo>
                  <a:pt x="35" y="111"/>
                </a:lnTo>
                <a:lnTo>
                  <a:pt x="32" y="106"/>
                </a:lnTo>
                <a:lnTo>
                  <a:pt x="29" y="102"/>
                </a:lnTo>
                <a:lnTo>
                  <a:pt x="25" y="98"/>
                </a:lnTo>
                <a:lnTo>
                  <a:pt x="22" y="95"/>
                </a:lnTo>
                <a:lnTo>
                  <a:pt x="19" y="92"/>
                </a:lnTo>
                <a:lnTo>
                  <a:pt x="14" y="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73"/>
          <p:cNvSpPr/>
          <p:nvPr/>
        </p:nvSpPr>
        <p:spPr>
          <a:xfrm>
            <a:off x="6470640" y="3749760"/>
            <a:ext cx="741240" cy="871560"/>
          </a:xfrm>
          <a:custGeom>
            <a:avLst/>
            <a:gdLst/>
            <a:ahLst/>
            <a:rect l="l" t="t" r="r" b="b"/>
            <a:pathLst>
              <a:path w="1399" h="1647">
                <a:moveTo>
                  <a:pt x="1318" y="1136"/>
                </a:moveTo>
                <a:lnTo>
                  <a:pt x="1317" y="1155"/>
                </a:lnTo>
                <a:lnTo>
                  <a:pt x="1314" y="1174"/>
                </a:lnTo>
                <a:lnTo>
                  <a:pt x="1312" y="1191"/>
                </a:lnTo>
                <a:lnTo>
                  <a:pt x="1311" y="1208"/>
                </a:lnTo>
                <a:lnTo>
                  <a:pt x="1308" y="1226"/>
                </a:lnTo>
                <a:lnTo>
                  <a:pt x="1307" y="1241"/>
                </a:lnTo>
                <a:lnTo>
                  <a:pt x="1305" y="1257"/>
                </a:lnTo>
                <a:lnTo>
                  <a:pt x="1302" y="1273"/>
                </a:lnTo>
                <a:lnTo>
                  <a:pt x="1301" y="1289"/>
                </a:lnTo>
                <a:lnTo>
                  <a:pt x="1298" y="1303"/>
                </a:lnTo>
                <a:lnTo>
                  <a:pt x="1297" y="1318"/>
                </a:lnTo>
                <a:lnTo>
                  <a:pt x="1294" y="1332"/>
                </a:lnTo>
                <a:lnTo>
                  <a:pt x="1292" y="1346"/>
                </a:lnTo>
                <a:lnTo>
                  <a:pt x="1289" y="1359"/>
                </a:lnTo>
                <a:lnTo>
                  <a:pt x="1288" y="1372"/>
                </a:lnTo>
                <a:lnTo>
                  <a:pt x="1285" y="1384"/>
                </a:lnTo>
                <a:lnTo>
                  <a:pt x="1282" y="1397"/>
                </a:lnTo>
                <a:lnTo>
                  <a:pt x="1281" y="1408"/>
                </a:lnTo>
                <a:lnTo>
                  <a:pt x="1278" y="1420"/>
                </a:lnTo>
                <a:lnTo>
                  <a:pt x="1275" y="1431"/>
                </a:lnTo>
                <a:lnTo>
                  <a:pt x="1271" y="1452"/>
                </a:lnTo>
                <a:lnTo>
                  <a:pt x="1265" y="1472"/>
                </a:lnTo>
                <a:lnTo>
                  <a:pt x="1258" y="1490"/>
                </a:lnTo>
                <a:lnTo>
                  <a:pt x="1252" y="1508"/>
                </a:lnTo>
                <a:lnTo>
                  <a:pt x="1245" y="1524"/>
                </a:lnTo>
                <a:lnTo>
                  <a:pt x="1239" y="1538"/>
                </a:lnTo>
                <a:lnTo>
                  <a:pt x="1230" y="1551"/>
                </a:lnTo>
                <a:lnTo>
                  <a:pt x="1223" y="1562"/>
                </a:lnTo>
                <a:lnTo>
                  <a:pt x="1216" y="1574"/>
                </a:lnTo>
                <a:lnTo>
                  <a:pt x="1209" y="1585"/>
                </a:lnTo>
                <a:lnTo>
                  <a:pt x="1202" y="1595"/>
                </a:lnTo>
                <a:lnTo>
                  <a:pt x="1193" y="1604"/>
                </a:lnTo>
                <a:lnTo>
                  <a:pt x="1186" y="1611"/>
                </a:lnTo>
                <a:lnTo>
                  <a:pt x="1179" y="1619"/>
                </a:lnTo>
                <a:lnTo>
                  <a:pt x="1171" y="1626"/>
                </a:lnTo>
                <a:lnTo>
                  <a:pt x="1163" y="1631"/>
                </a:lnTo>
                <a:lnTo>
                  <a:pt x="1156" y="1636"/>
                </a:lnTo>
                <a:lnTo>
                  <a:pt x="1148" y="1640"/>
                </a:lnTo>
                <a:lnTo>
                  <a:pt x="1141" y="1643"/>
                </a:lnTo>
                <a:lnTo>
                  <a:pt x="1134" y="1644"/>
                </a:lnTo>
                <a:lnTo>
                  <a:pt x="1125" y="1646"/>
                </a:lnTo>
                <a:lnTo>
                  <a:pt x="1118" y="1647"/>
                </a:lnTo>
                <a:lnTo>
                  <a:pt x="1108" y="1646"/>
                </a:lnTo>
                <a:lnTo>
                  <a:pt x="1098" y="1644"/>
                </a:lnTo>
                <a:lnTo>
                  <a:pt x="1089" y="1643"/>
                </a:lnTo>
                <a:lnTo>
                  <a:pt x="1081" y="1640"/>
                </a:lnTo>
                <a:lnTo>
                  <a:pt x="1073" y="1636"/>
                </a:lnTo>
                <a:lnTo>
                  <a:pt x="1068" y="1630"/>
                </a:lnTo>
                <a:lnTo>
                  <a:pt x="1063" y="1624"/>
                </a:lnTo>
                <a:lnTo>
                  <a:pt x="1059" y="1617"/>
                </a:lnTo>
                <a:lnTo>
                  <a:pt x="1055" y="1608"/>
                </a:lnTo>
                <a:lnTo>
                  <a:pt x="1053" y="1600"/>
                </a:lnTo>
                <a:lnTo>
                  <a:pt x="1052" y="1588"/>
                </a:lnTo>
                <a:lnTo>
                  <a:pt x="1050" y="1577"/>
                </a:lnTo>
                <a:lnTo>
                  <a:pt x="1052" y="1564"/>
                </a:lnTo>
                <a:lnTo>
                  <a:pt x="1053" y="1551"/>
                </a:lnTo>
                <a:lnTo>
                  <a:pt x="1055" y="1535"/>
                </a:lnTo>
                <a:lnTo>
                  <a:pt x="1059" y="1519"/>
                </a:lnTo>
                <a:lnTo>
                  <a:pt x="1058" y="1511"/>
                </a:lnTo>
                <a:lnTo>
                  <a:pt x="1058" y="1502"/>
                </a:lnTo>
                <a:lnTo>
                  <a:pt x="1056" y="1492"/>
                </a:lnTo>
                <a:lnTo>
                  <a:pt x="1055" y="1483"/>
                </a:lnTo>
                <a:lnTo>
                  <a:pt x="1053" y="1475"/>
                </a:lnTo>
                <a:lnTo>
                  <a:pt x="1052" y="1466"/>
                </a:lnTo>
                <a:lnTo>
                  <a:pt x="1049" y="1456"/>
                </a:lnTo>
                <a:lnTo>
                  <a:pt x="1046" y="1447"/>
                </a:lnTo>
                <a:lnTo>
                  <a:pt x="1043" y="1437"/>
                </a:lnTo>
                <a:lnTo>
                  <a:pt x="1040" y="1427"/>
                </a:lnTo>
                <a:lnTo>
                  <a:pt x="1036" y="1417"/>
                </a:lnTo>
                <a:lnTo>
                  <a:pt x="1032" y="1407"/>
                </a:lnTo>
                <a:lnTo>
                  <a:pt x="1027" y="1397"/>
                </a:lnTo>
                <a:lnTo>
                  <a:pt x="1022" y="1387"/>
                </a:lnTo>
                <a:lnTo>
                  <a:pt x="1016" y="1375"/>
                </a:lnTo>
                <a:lnTo>
                  <a:pt x="1010" y="1365"/>
                </a:lnTo>
                <a:lnTo>
                  <a:pt x="1004" y="1354"/>
                </a:lnTo>
                <a:lnTo>
                  <a:pt x="997" y="1342"/>
                </a:lnTo>
                <a:lnTo>
                  <a:pt x="990" y="1331"/>
                </a:lnTo>
                <a:lnTo>
                  <a:pt x="983" y="1319"/>
                </a:lnTo>
                <a:lnTo>
                  <a:pt x="974" y="1306"/>
                </a:lnTo>
                <a:lnTo>
                  <a:pt x="966" y="1295"/>
                </a:lnTo>
                <a:lnTo>
                  <a:pt x="957" y="1282"/>
                </a:lnTo>
                <a:lnTo>
                  <a:pt x="948" y="1269"/>
                </a:lnTo>
                <a:lnTo>
                  <a:pt x="938" y="1256"/>
                </a:lnTo>
                <a:lnTo>
                  <a:pt x="928" y="1241"/>
                </a:lnTo>
                <a:lnTo>
                  <a:pt x="918" y="1228"/>
                </a:lnTo>
                <a:lnTo>
                  <a:pt x="907" y="1214"/>
                </a:lnTo>
                <a:lnTo>
                  <a:pt x="895" y="1200"/>
                </a:lnTo>
                <a:lnTo>
                  <a:pt x="883" y="1185"/>
                </a:lnTo>
                <a:lnTo>
                  <a:pt x="871" y="1171"/>
                </a:lnTo>
                <a:lnTo>
                  <a:pt x="859" y="1155"/>
                </a:lnTo>
                <a:lnTo>
                  <a:pt x="876" y="1158"/>
                </a:lnTo>
                <a:lnTo>
                  <a:pt x="894" y="1161"/>
                </a:lnTo>
                <a:lnTo>
                  <a:pt x="911" y="1162"/>
                </a:lnTo>
                <a:lnTo>
                  <a:pt x="925" y="1162"/>
                </a:lnTo>
                <a:lnTo>
                  <a:pt x="941" y="1162"/>
                </a:lnTo>
                <a:lnTo>
                  <a:pt x="954" y="1162"/>
                </a:lnTo>
                <a:lnTo>
                  <a:pt x="967" y="1161"/>
                </a:lnTo>
                <a:lnTo>
                  <a:pt x="978" y="1159"/>
                </a:lnTo>
                <a:lnTo>
                  <a:pt x="990" y="1158"/>
                </a:lnTo>
                <a:lnTo>
                  <a:pt x="999" y="1155"/>
                </a:lnTo>
                <a:lnTo>
                  <a:pt x="1009" y="1152"/>
                </a:lnTo>
                <a:lnTo>
                  <a:pt x="1016" y="1149"/>
                </a:lnTo>
                <a:lnTo>
                  <a:pt x="1023" y="1146"/>
                </a:lnTo>
                <a:lnTo>
                  <a:pt x="1029" y="1143"/>
                </a:lnTo>
                <a:lnTo>
                  <a:pt x="1035" y="1139"/>
                </a:lnTo>
                <a:lnTo>
                  <a:pt x="1039" y="1136"/>
                </a:lnTo>
                <a:lnTo>
                  <a:pt x="1040" y="1135"/>
                </a:lnTo>
                <a:lnTo>
                  <a:pt x="1042" y="1132"/>
                </a:lnTo>
                <a:lnTo>
                  <a:pt x="1043" y="1129"/>
                </a:lnTo>
                <a:lnTo>
                  <a:pt x="1045" y="1126"/>
                </a:lnTo>
                <a:lnTo>
                  <a:pt x="1046" y="1122"/>
                </a:lnTo>
                <a:lnTo>
                  <a:pt x="1048" y="1119"/>
                </a:lnTo>
                <a:lnTo>
                  <a:pt x="1049" y="1115"/>
                </a:lnTo>
                <a:lnTo>
                  <a:pt x="1050" y="1109"/>
                </a:lnTo>
                <a:lnTo>
                  <a:pt x="1050" y="1103"/>
                </a:lnTo>
                <a:lnTo>
                  <a:pt x="1052" y="1097"/>
                </a:lnTo>
                <a:lnTo>
                  <a:pt x="1053" y="1092"/>
                </a:lnTo>
                <a:lnTo>
                  <a:pt x="1053" y="1084"/>
                </a:lnTo>
                <a:lnTo>
                  <a:pt x="1055" y="1079"/>
                </a:lnTo>
                <a:lnTo>
                  <a:pt x="1055" y="1070"/>
                </a:lnTo>
                <a:lnTo>
                  <a:pt x="1055" y="1063"/>
                </a:lnTo>
                <a:lnTo>
                  <a:pt x="1056" y="1054"/>
                </a:lnTo>
                <a:lnTo>
                  <a:pt x="1056" y="1046"/>
                </a:lnTo>
                <a:lnTo>
                  <a:pt x="1056" y="1037"/>
                </a:lnTo>
                <a:lnTo>
                  <a:pt x="1058" y="1027"/>
                </a:lnTo>
                <a:lnTo>
                  <a:pt x="1058" y="1017"/>
                </a:lnTo>
                <a:lnTo>
                  <a:pt x="1058" y="1007"/>
                </a:lnTo>
                <a:lnTo>
                  <a:pt x="1058" y="995"/>
                </a:lnTo>
                <a:lnTo>
                  <a:pt x="1058" y="984"/>
                </a:lnTo>
                <a:lnTo>
                  <a:pt x="1058" y="972"/>
                </a:lnTo>
                <a:lnTo>
                  <a:pt x="1058" y="961"/>
                </a:lnTo>
                <a:lnTo>
                  <a:pt x="1058" y="948"/>
                </a:lnTo>
                <a:lnTo>
                  <a:pt x="1058" y="935"/>
                </a:lnTo>
                <a:lnTo>
                  <a:pt x="1058" y="922"/>
                </a:lnTo>
                <a:lnTo>
                  <a:pt x="1059" y="907"/>
                </a:lnTo>
                <a:lnTo>
                  <a:pt x="1059" y="893"/>
                </a:lnTo>
                <a:lnTo>
                  <a:pt x="1059" y="879"/>
                </a:lnTo>
                <a:lnTo>
                  <a:pt x="1059" y="864"/>
                </a:lnTo>
                <a:lnTo>
                  <a:pt x="1059" y="832"/>
                </a:lnTo>
                <a:lnTo>
                  <a:pt x="1058" y="804"/>
                </a:lnTo>
                <a:lnTo>
                  <a:pt x="1058" y="775"/>
                </a:lnTo>
                <a:lnTo>
                  <a:pt x="1058" y="748"/>
                </a:lnTo>
                <a:lnTo>
                  <a:pt x="1058" y="720"/>
                </a:lnTo>
                <a:lnTo>
                  <a:pt x="1058" y="693"/>
                </a:lnTo>
                <a:lnTo>
                  <a:pt x="1056" y="667"/>
                </a:lnTo>
                <a:lnTo>
                  <a:pt x="1056" y="642"/>
                </a:lnTo>
                <a:lnTo>
                  <a:pt x="1055" y="618"/>
                </a:lnTo>
                <a:lnTo>
                  <a:pt x="1053" y="594"/>
                </a:lnTo>
                <a:lnTo>
                  <a:pt x="1052" y="570"/>
                </a:lnTo>
                <a:lnTo>
                  <a:pt x="1049" y="549"/>
                </a:lnTo>
                <a:lnTo>
                  <a:pt x="1048" y="526"/>
                </a:lnTo>
                <a:lnTo>
                  <a:pt x="1045" y="504"/>
                </a:lnTo>
                <a:lnTo>
                  <a:pt x="1042" y="483"/>
                </a:lnTo>
                <a:lnTo>
                  <a:pt x="1039" y="463"/>
                </a:lnTo>
                <a:lnTo>
                  <a:pt x="1035" y="442"/>
                </a:lnTo>
                <a:lnTo>
                  <a:pt x="1030" y="424"/>
                </a:lnTo>
                <a:lnTo>
                  <a:pt x="1027" y="405"/>
                </a:lnTo>
                <a:lnTo>
                  <a:pt x="1023" y="388"/>
                </a:lnTo>
                <a:lnTo>
                  <a:pt x="1019" y="370"/>
                </a:lnTo>
                <a:lnTo>
                  <a:pt x="1014" y="355"/>
                </a:lnTo>
                <a:lnTo>
                  <a:pt x="1010" y="340"/>
                </a:lnTo>
                <a:lnTo>
                  <a:pt x="1006" y="326"/>
                </a:lnTo>
                <a:lnTo>
                  <a:pt x="1002" y="313"/>
                </a:lnTo>
                <a:lnTo>
                  <a:pt x="996" y="301"/>
                </a:lnTo>
                <a:lnTo>
                  <a:pt x="990" y="290"/>
                </a:lnTo>
                <a:lnTo>
                  <a:pt x="984" y="278"/>
                </a:lnTo>
                <a:lnTo>
                  <a:pt x="978" y="268"/>
                </a:lnTo>
                <a:lnTo>
                  <a:pt x="973" y="260"/>
                </a:lnTo>
                <a:lnTo>
                  <a:pt x="966" y="252"/>
                </a:lnTo>
                <a:lnTo>
                  <a:pt x="958" y="245"/>
                </a:lnTo>
                <a:lnTo>
                  <a:pt x="957" y="244"/>
                </a:lnTo>
                <a:lnTo>
                  <a:pt x="954" y="242"/>
                </a:lnTo>
                <a:lnTo>
                  <a:pt x="951" y="242"/>
                </a:lnTo>
                <a:lnTo>
                  <a:pt x="948" y="242"/>
                </a:lnTo>
                <a:lnTo>
                  <a:pt x="944" y="241"/>
                </a:lnTo>
                <a:lnTo>
                  <a:pt x="940" y="241"/>
                </a:lnTo>
                <a:lnTo>
                  <a:pt x="935" y="241"/>
                </a:lnTo>
                <a:lnTo>
                  <a:pt x="931" y="239"/>
                </a:lnTo>
                <a:lnTo>
                  <a:pt x="925" y="239"/>
                </a:lnTo>
                <a:lnTo>
                  <a:pt x="919" y="239"/>
                </a:lnTo>
                <a:lnTo>
                  <a:pt x="914" y="239"/>
                </a:lnTo>
                <a:lnTo>
                  <a:pt x="907" y="239"/>
                </a:lnTo>
                <a:lnTo>
                  <a:pt x="899" y="239"/>
                </a:lnTo>
                <a:lnTo>
                  <a:pt x="892" y="239"/>
                </a:lnTo>
                <a:lnTo>
                  <a:pt x="885" y="241"/>
                </a:lnTo>
                <a:lnTo>
                  <a:pt x="876" y="241"/>
                </a:lnTo>
                <a:lnTo>
                  <a:pt x="868" y="241"/>
                </a:lnTo>
                <a:lnTo>
                  <a:pt x="859" y="241"/>
                </a:lnTo>
                <a:lnTo>
                  <a:pt x="849" y="242"/>
                </a:lnTo>
                <a:lnTo>
                  <a:pt x="839" y="242"/>
                </a:lnTo>
                <a:lnTo>
                  <a:pt x="829" y="244"/>
                </a:lnTo>
                <a:lnTo>
                  <a:pt x="819" y="244"/>
                </a:lnTo>
                <a:lnTo>
                  <a:pt x="807" y="245"/>
                </a:lnTo>
                <a:lnTo>
                  <a:pt x="796" y="247"/>
                </a:lnTo>
                <a:lnTo>
                  <a:pt x="784" y="247"/>
                </a:lnTo>
                <a:lnTo>
                  <a:pt x="771" y="248"/>
                </a:lnTo>
                <a:lnTo>
                  <a:pt x="758" y="249"/>
                </a:lnTo>
                <a:lnTo>
                  <a:pt x="745" y="251"/>
                </a:lnTo>
                <a:lnTo>
                  <a:pt x="732" y="252"/>
                </a:lnTo>
                <a:lnTo>
                  <a:pt x="718" y="254"/>
                </a:lnTo>
                <a:lnTo>
                  <a:pt x="704" y="255"/>
                </a:lnTo>
                <a:lnTo>
                  <a:pt x="689" y="257"/>
                </a:lnTo>
                <a:lnTo>
                  <a:pt x="673" y="258"/>
                </a:lnTo>
                <a:lnTo>
                  <a:pt x="657" y="261"/>
                </a:lnTo>
                <a:lnTo>
                  <a:pt x="642" y="262"/>
                </a:lnTo>
                <a:lnTo>
                  <a:pt x="626" y="264"/>
                </a:lnTo>
                <a:lnTo>
                  <a:pt x="609" y="267"/>
                </a:lnTo>
                <a:lnTo>
                  <a:pt x="591" y="268"/>
                </a:lnTo>
                <a:lnTo>
                  <a:pt x="574" y="271"/>
                </a:lnTo>
                <a:lnTo>
                  <a:pt x="555" y="272"/>
                </a:lnTo>
                <a:lnTo>
                  <a:pt x="537" y="275"/>
                </a:lnTo>
                <a:lnTo>
                  <a:pt x="518" y="278"/>
                </a:lnTo>
                <a:lnTo>
                  <a:pt x="499" y="280"/>
                </a:lnTo>
                <a:lnTo>
                  <a:pt x="479" y="283"/>
                </a:lnTo>
                <a:lnTo>
                  <a:pt x="459" y="285"/>
                </a:lnTo>
                <a:lnTo>
                  <a:pt x="439" y="288"/>
                </a:lnTo>
                <a:lnTo>
                  <a:pt x="417" y="291"/>
                </a:lnTo>
                <a:lnTo>
                  <a:pt x="397" y="294"/>
                </a:lnTo>
                <a:lnTo>
                  <a:pt x="375" y="297"/>
                </a:lnTo>
                <a:lnTo>
                  <a:pt x="352" y="300"/>
                </a:lnTo>
                <a:lnTo>
                  <a:pt x="329" y="304"/>
                </a:lnTo>
                <a:lnTo>
                  <a:pt x="308" y="307"/>
                </a:lnTo>
                <a:lnTo>
                  <a:pt x="283" y="310"/>
                </a:lnTo>
                <a:lnTo>
                  <a:pt x="260" y="314"/>
                </a:lnTo>
                <a:lnTo>
                  <a:pt x="236" y="317"/>
                </a:lnTo>
                <a:lnTo>
                  <a:pt x="211" y="321"/>
                </a:lnTo>
                <a:lnTo>
                  <a:pt x="185" y="324"/>
                </a:lnTo>
                <a:lnTo>
                  <a:pt x="161" y="329"/>
                </a:lnTo>
                <a:lnTo>
                  <a:pt x="135" y="333"/>
                </a:lnTo>
                <a:lnTo>
                  <a:pt x="109" y="336"/>
                </a:lnTo>
                <a:lnTo>
                  <a:pt x="82" y="340"/>
                </a:lnTo>
                <a:lnTo>
                  <a:pt x="54" y="344"/>
                </a:lnTo>
                <a:lnTo>
                  <a:pt x="27" y="349"/>
                </a:lnTo>
                <a:lnTo>
                  <a:pt x="0" y="353"/>
                </a:lnTo>
                <a:lnTo>
                  <a:pt x="0" y="271"/>
                </a:lnTo>
                <a:lnTo>
                  <a:pt x="0" y="190"/>
                </a:lnTo>
                <a:lnTo>
                  <a:pt x="27" y="189"/>
                </a:lnTo>
                <a:lnTo>
                  <a:pt x="54" y="189"/>
                </a:lnTo>
                <a:lnTo>
                  <a:pt x="83" y="188"/>
                </a:lnTo>
                <a:lnTo>
                  <a:pt x="112" y="186"/>
                </a:lnTo>
                <a:lnTo>
                  <a:pt x="142" y="185"/>
                </a:lnTo>
                <a:lnTo>
                  <a:pt x="174" y="182"/>
                </a:lnTo>
                <a:lnTo>
                  <a:pt x="207" y="179"/>
                </a:lnTo>
                <a:lnTo>
                  <a:pt x="240" y="176"/>
                </a:lnTo>
                <a:lnTo>
                  <a:pt x="273" y="173"/>
                </a:lnTo>
                <a:lnTo>
                  <a:pt x="309" y="169"/>
                </a:lnTo>
                <a:lnTo>
                  <a:pt x="345" y="165"/>
                </a:lnTo>
                <a:lnTo>
                  <a:pt x="382" y="159"/>
                </a:lnTo>
                <a:lnTo>
                  <a:pt x="420" y="154"/>
                </a:lnTo>
                <a:lnTo>
                  <a:pt x="459" y="149"/>
                </a:lnTo>
                <a:lnTo>
                  <a:pt x="499" y="141"/>
                </a:lnTo>
                <a:lnTo>
                  <a:pt x="539" y="136"/>
                </a:lnTo>
                <a:lnTo>
                  <a:pt x="558" y="133"/>
                </a:lnTo>
                <a:lnTo>
                  <a:pt x="575" y="131"/>
                </a:lnTo>
                <a:lnTo>
                  <a:pt x="594" y="130"/>
                </a:lnTo>
                <a:lnTo>
                  <a:pt x="610" y="127"/>
                </a:lnTo>
                <a:lnTo>
                  <a:pt x="627" y="126"/>
                </a:lnTo>
                <a:lnTo>
                  <a:pt x="643" y="123"/>
                </a:lnTo>
                <a:lnTo>
                  <a:pt x="659" y="120"/>
                </a:lnTo>
                <a:lnTo>
                  <a:pt x="675" y="118"/>
                </a:lnTo>
                <a:lnTo>
                  <a:pt x="689" y="116"/>
                </a:lnTo>
                <a:lnTo>
                  <a:pt x="704" y="113"/>
                </a:lnTo>
                <a:lnTo>
                  <a:pt x="716" y="110"/>
                </a:lnTo>
                <a:lnTo>
                  <a:pt x="731" y="108"/>
                </a:lnTo>
                <a:lnTo>
                  <a:pt x="744" y="105"/>
                </a:lnTo>
                <a:lnTo>
                  <a:pt x="755" y="103"/>
                </a:lnTo>
                <a:lnTo>
                  <a:pt x="767" y="100"/>
                </a:lnTo>
                <a:lnTo>
                  <a:pt x="778" y="97"/>
                </a:lnTo>
                <a:lnTo>
                  <a:pt x="790" y="94"/>
                </a:lnTo>
                <a:lnTo>
                  <a:pt x="800" y="90"/>
                </a:lnTo>
                <a:lnTo>
                  <a:pt x="810" y="87"/>
                </a:lnTo>
                <a:lnTo>
                  <a:pt x="820" y="84"/>
                </a:lnTo>
                <a:lnTo>
                  <a:pt x="829" y="81"/>
                </a:lnTo>
                <a:lnTo>
                  <a:pt x="837" y="78"/>
                </a:lnTo>
                <a:lnTo>
                  <a:pt x="846" y="74"/>
                </a:lnTo>
                <a:lnTo>
                  <a:pt x="853" y="71"/>
                </a:lnTo>
                <a:lnTo>
                  <a:pt x="860" y="68"/>
                </a:lnTo>
                <a:lnTo>
                  <a:pt x="868" y="64"/>
                </a:lnTo>
                <a:lnTo>
                  <a:pt x="875" y="61"/>
                </a:lnTo>
                <a:lnTo>
                  <a:pt x="881" y="58"/>
                </a:lnTo>
                <a:lnTo>
                  <a:pt x="885" y="54"/>
                </a:lnTo>
                <a:lnTo>
                  <a:pt x="891" y="51"/>
                </a:lnTo>
                <a:lnTo>
                  <a:pt x="895" y="46"/>
                </a:lnTo>
                <a:lnTo>
                  <a:pt x="899" y="44"/>
                </a:lnTo>
                <a:lnTo>
                  <a:pt x="907" y="36"/>
                </a:lnTo>
                <a:lnTo>
                  <a:pt x="914" y="31"/>
                </a:lnTo>
                <a:lnTo>
                  <a:pt x="921" y="25"/>
                </a:lnTo>
                <a:lnTo>
                  <a:pt x="928" y="21"/>
                </a:lnTo>
                <a:lnTo>
                  <a:pt x="937" y="15"/>
                </a:lnTo>
                <a:lnTo>
                  <a:pt x="944" y="10"/>
                </a:lnTo>
                <a:lnTo>
                  <a:pt x="953" y="8"/>
                </a:lnTo>
                <a:lnTo>
                  <a:pt x="961" y="5"/>
                </a:lnTo>
                <a:lnTo>
                  <a:pt x="970" y="3"/>
                </a:lnTo>
                <a:lnTo>
                  <a:pt x="978" y="0"/>
                </a:lnTo>
                <a:lnTo>
                  <a:pt x="987" y="0"/>
                </a:lnTo>
                <a:lnTo>
                  <a:pt x="997" y="0"/>
                </a:lnTo>
                <a:lnTo>
                  <a:pt x="1007" y="0"/>
                </a:lnTo>
                <a:lnTo>
                  <a:pt x="1017" y="2"/>
                </a:lnTo>
                <a:lnTo>
                  <a:pt x="1027" y="5"/>
                </a:lnTo>
                <a:lnTo>
                  <a:pt x="1039" y="8"/>
                </a:lnTo>
                <a:lnTo>
                  <a:pt x="1049" y="12"/>
                </a:lnTo>
                <a:lnTo>
                  <a:pt x="1061" y="15"/>
                </a:lnTo>
                <a:lnTo>
                  <a:pt x="1072" y="21"/>
                </a:lnTo>
                <a:lnTo>
                  <a:pt x="1084" y="25"/>
                </a:lnTo>
                <a:lnTo>
                  <a:pt x="1095" y="31"/>
                </a:lnTo>
                <a:lnTo>
                  <a:pt x="1108" y="36"/>
                </a:lnTo>
                <a:lnTo>
                  <a:pt x="1120" y="42"/>
                </a:lnTo>
                <a:lnTo>
                  <a:pt x="1133" y="48"/>
                </a:lnTo>
                <a:lnTo>
                  <a:pt x="1147" y="55"/>
                </a:lnTo>
                <a:lnTo>
                  <a:pt x="1160" y="62"/>
                </a:lnTo>
                <a:lnTo>
                  <a:pt x="1174" y="71"/>
                </a:lnTo>
                <a:lnTo>
                  <a:pt x="1190" y="80"/>
                </a:lnTo>
                <a:lnTo>
                  <a:pt x="1206" y="88"/>
                </a:lnTo>
                <a:lnTo>
                  <a:pt x="1222" y="97"/>
                </a:lnTo>
                <a:lnTo>
                  <a:pt x="1239" y="107"/>
                </a:lnTo>
                <a:lnTo>
                  <a:pt x="1258" y="117"/>
                </a:lnTo>
                <a:lnTo>
                  <a:pt x="1272" y="127"/>
                </a:lnTo>
                <a:lnTo>
                  <a:pt x="1287" y="137"/>
                </a:lnTo>
                <a:lnTo>
                  <a:pt x="1298" y="146"/>
                </a:lnTo>
                <a:lnTo>
                  <a:pt x="1311" y="156"/>
                </a:lnTo>
                <a:lnTo>
                  <a:pt x="1321" y="163"/>
                </a:lnTo>
                <a:lnTo>
                  <a:pt x="1333" y="172"/>
                </a:lnTo>
                <a:lnTo>
                  <a:pt x="1341" y="180"/>
                </a:lnTo>
                <a:lnTo>
                  <a:pt x="1350" y="188"/>
                </a:lnTo>
                <a:lnTo>
                  <a:pt x="1359" y="195"/>
                </a:lnTo>
                <a:lnTo>
                  <a:pt x="1366" y="202"/>
                </a:lnTo>
                <a:lnTo>
                  <a:pt x="1373" y="209"/>
                </a:lnTo>
                <a:lnTo>
                  <a:pt x="1379" y="216"/>
                </a:lnTo>
                <a:lnTo>
                  <a:pt x="1384" y="224"/>
                </a:lnTo>
                <a:lnTo>
                  <a:pt x="1390" y="231"/>
                </a:lnTo>
                <a:lnTo>
                  <a:pt x="1395" y="238"/>
                </a:lnTo>
                <a:lnTo>
                  <a:pt x="1399" y="245"/>
                </a:lnTo>
                <a:lnTo>
                  <a:pt x="1397" y="251"/>
                </a:lnTo>
                <a:lnTo>
                  <a:pt x="1397" y="257"/>
                </a:lnTo>
                <a:lnTo>
                  <a:pt x="1396" y="262"/>
                </a:lnTo>
                <a:lnTo>
                  <a:pt x="1395" y="268"/>
                </a:lnTo>
                <a:lnTo>
                  <a:pt x="1390" y="278"/>
                </a:lnTo>
                <a:lnTo>
                  <a:pt x="1386" y="287"/>
                </a:lnTo>
                <a:lnTo>
                  <a:pt x="1380" y="296"/>
                </a:lnTo>
                <a:lnTo>
                  <a:pt x="1373" y="303"/>
                </a:lnTo>
                <a:lnTo>
                  <a:pt x="1366" y="310"/>
                </a:lnTo>
                <a:lnTo>
                  <a:pt x="1359" y="317"/>
                </a:lnTo>
                <a:lnTo>
                  <a:pt x="1354" y="319"/>
                </a:lnTo>
                <a:lnTo>
                  <a:pt x="1351" y="321"/>
                </a:lnTo>
                <a:lnTo>
                  <a:pt x="1347" y="324"/>
                </a:lnTo>
                <a:lnTo>
                  <a:pt x="1344" y="327"/>
                </a:lnTo>
                <a:lnTo>
                  <a:pt x="1341" y="332"/>
                </a:lnTo>
                <a:lnTo>
                  <a:pt x="1338" y="336"/>
                </a:lnTo>
                <a:lnTo>
                  <a:pt x="1335" y="340"/>
                </a:lnTo>
                <a:lnTo>
                  <a:pt x="1333" y="344"/>
                </a:lnTo>
                <a:lnTo>
                  <a:pt x="1330" y="350"/>
                </a:lnTo>
                <a:lnTo>
                  <a:pt x="1327" y="356"/>
                </a:lnTo>
                <a:lnTo>
                  <a:pt x="1325" y="362"/>
                </a:lnTo>
                <a:lnTo>
                  <a:pt x="1323" y="369"/>
                </a:lnTo>
                <a:lnTo>
                  <a:pt x="1321" y="376"/>
                </a:lnTo>
                <a:lnTo>
                  <a:pt x="1318" y="383"/>
                </a:lnTo>
                <a:lnTo>
                  <a:pt x="1317" y="391"/>
                </a:lnTo>
                <a:lnTo>
                  <a:pt x="1315" y="399"/>
                </a:lnTo>
                <a:lnTo>
                  <a:pt x="1314" y="408"/>
                </a:lnTo>
                <a:lnTo>
                  <a:pt x="1314" y="418"/>
                </a:lnTo>
                <a:lnTo>
                  <a:pt x="1312" y="427"/>
                </a:lnTo>
                <a:lnTo>
                  <a:pt x="1311" y="437"/>
                </a:lnTo>
                <a:lnTo>
                  <a:pt x="1311" y="447"/>
                </a:lnTo>
                <a:lnTo>
                  <a:pt x="1311" y="458"/>
                </a:lnTo>
                <a:lnTo>
                  <a:pt x="1311" y="470"/>
                </a:lnTo>
                <a:lnTo>
                  <a:pt x="1311" y="481"/>
                </a:lnTo>
                <a:lnTo>
                  <a:pt x="1311" y="493"/>
                </a:lnTo>
                <a:lnTo>
                  <a:pt x="1311" y="506"/>
                </a:lnTo>
                <a:lnTo>
                  <a:pt x="1311" y="519"/>
                </a:lnTo>
                <a:lnTo>
                  <a:pt x="1312" y="532"/>
                </a:lnTo>
                <a:lnTo>
                  <a:pt x="1314" y="546"/>
                </a:lnTo>
                <a:lnTo>
                  <a:pt x="1315" y="560"/>
                </a:lnTo>
                <a:lnTo>
                  <a:pt x="1317" y="575"/>
                </a:lnTo>
                <a:lnTo>
                  <a:pt x="1318" y="591"/>
                </a:lnTo>
                <a:lnTo>
                  <a:pt x="1321" y="621"/>
                </a:lnTo>
                <a:lnTo>
                  <a:pt x="1324" y="653"/>
                </a:lnTo>
                <a:lnTo>
                  <a:pt x="1327" y="684"/>
                </a:lnTo>
                <a:lnTo>
                  <a:pt x="1330" y="716"/>
                </a:lnTo>
                <a:lnTo>
                  <a:pt x="1331" y="749"/>
                </a:lnTo>
                <a:lnTo>
                  <a:pt x="1333" y="782"/>
                </a:lnTo>
                <a:lnTo>
                  <a:pt x="1333" y="815"/>
                </a:lnTo>
                <a:lnTo>
                  <a:pt x="1333" y="850"/>
                </a:lnTo>
                <a:lnTo>
                  <a:pt x="1333" y="884"/>
                </a:lnTo>
                <a:lnTo>
                  <a:pt x="1333" y="919"/>
                </a:lnTo>
                <a:lnTo>
                  <a:pt x="1331" y="953"/>
                </a:lnTo>
                <a:lnTo>
                  <a:pt x="1330" y="989"/>
                </a:lnTo>
                <a:lnTo>
                  <a:pt x="1327" y="1025"/>
                </a:lnTo>
                <a:lnTo>
                  <a:pt x="1324" y="1061"/>
                </a:lnTo>
                <a:lnTo>
                  <a:pt x="1321" y="1099"/>
                </a:lnTo>
                <a:lnTo>
                  <a:pt x="1318" y="11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74"/>
          <p:cNvSpPr/>
          <p:nvPr/>
        </p:nvSpPr>
        <p:spPr>
          <a:xfrm>
            <a:off x="6407280" y="4052880"/>
            <a:ext cx="487080" cy="144360"/>
          </a:xfrm>
          <a:custGeom>
            <a:avLst/>
            <a:gdLst/>
            <a:ahLst/>
            <a:rect l="l" t="t" r="r" b="b"/>
            <a:pathLst>
              <a:path w="919" h="272">
                <a:moveTo>
                  <a:pt x="0" y="145"/>
                </a:moveTo>
                <a:lnTo>
                  <a:pt x="38" y="137"/>
                </a:lnTo>
                <a:lnTo>
                  <a:pt x="74" y="128"/>
                </a:lnTo>
                <a:lnTo>
                  <a:pt x="108" y="121"/>
                </a:lnTo>
                <a:lnTo>
                  <a:pt x="143" y="112"/>
                </a:lnTo>
                <a:lnTo>
                  <a:pt x="177" y="105"/>
                </a:lnTo>
                <a:lnTo>
                  <a:pt x="210" y="98"/>
                </a:lnTo>
                <a:lnTo>
                  <a:pt x="242" y="91"/>
                </a:lnTo>
                <a:lnTo>
                  <a:pt x="274" y="83"/>
                </a:lnTo>
                <a:lnTo>
                  <a:pt x="304" y="76"/>
                </a:lnTo>
                <a:lnTo>
                  <a:pt x="333" y="70"/>
                </a:lnTo>
                <a:lnTo>
                  <a:pt x="361" y="65"/>
                </a:lnTo>
                <a:lnTo>
                  <a:pt x="389" y="59"/>
                </a:lnTo>
                <a:lnTo>
                  <a:pt x="416" y="53"/>
                </a:lnTo>
                <a:lnTo>
                  <a:pt x="442" y="47"/>
                </a:lnTo>
                <a:lnTo>
                  <a:pt x="468" y="43"/>
                </a:lnTo>
                <a:lnTo>
                  <a:pt x="492" y="37"/>
                </a:lnTo>
                <a:lnTo>
                  <a:pt x="515" y="33"/>
                </a:lnTo>
                <a:lnTo>
                  <a:pt x="537" y="29"/>
                </a:lnTo>
                <a:lnTo>
                  <a:pt x="560" y="26"/>
                </a:lnTo>
                <a:lnTo>
                  <a:pt x="580" y="22"/>
                </a:lnTo>
                <a:lnTo>
                  <a:pt x="600" y="19"/>
                </a:lnTo>
                <a:lnTo>
                  <a:pt x="619" y="14"/>
                </a:lnTo>
                <a:lnTo>
                  <a:pt x="638" y="11"/>
                </a:lnTo>
                <a:lnTo>
                  <a:pt x="655" y="10"/>
                </a:lnTo>
                <a:lnTo>
                  <a:pt x="671" y="7"/>
                </a:lnTo>
                <a:lnTo>
                  <a:pt x="687" y="6"/>
                </a:lnTo>
                <a:lnTo>
                  <a:pt x="701" y="4"/>
                </a:lnTo>
                <a:lnTo>
                  <a:pt x="714" y="3"/>
                </a:lnTo>
                <a:lnTo>
                  <a:pt x="727" y="1"/>
                </a:lnTo>
                <a:lnTo>
                  <a:pt x="739" y="0"/>
                </a:lnTo>
                <a:lnTo>
                  <a:pt x="749" y="0"/>
                </a:lnTo>
                <a:lnTo>
                  <a:pt x="759" y="0"/>
                </a:lnTo>
                <a:lnTo>
                  <a:pt x="777" y="0"/>
                </a:lnTo>
                <a:lnTo>
                  <a:pt x="795" y="1"/>
                </a:lnTo>
                <a:lnTo>
                  <a:pt x="811" y="1"/>
                </a:lnTo>
                <a:lnTo>
                  <a:pt x="826" y="3"/>
                </a:lnTo>
                <a:lnTo>
                  <a:pt x="841" y="6"/>
                </a:lnTo>
                <a:lnTo>
                  <a:pt x="854" y="7"/>
                </a:lnTo>
                <a:lnTo>
                  <a:pt x="865" y="10"/>
                </a:lnTo>
                <a:lnTo>
                  <a:pt x="877" y="13"/>
                </a:lnTo>
                <a:lnTo>
                  <a:pt x="885" y="17"/>
                </a:lnTo>
                <a:lnTo>
                  <a:pt x="894" y="22"/>
                </a:lnTo>
                <a:lnTo>
                  <a:pt x="901" y="26"/>
                </a:lnTo>
                <a:lnTo>
                  <a:pt x="907" y="30"/>
                </a:lnTo>
                <a:lnTo>
                  <a:pt x="913" y="36"/>
                </a:lnTo>
                <a:lnTo>
                  <a:pt x="916" y="42"/>
                </a:lnTo>
                <a:lnTo>
                  <a:pt x="919" y="47"/>
                </a:lnTo>
                <a:lnTo>
                  <a:pt x="919" y="55"/>
                </a:lnTo>
                <a:lnTo>
                  <a:pt x="919" y="58"/>
                </a:lnTo>
                <a:lnTo>
                  <a:pt x="917" y="60"/>
                </a:lnTo>
                <a:lnTo>
                  <a:pt x="917" y="62"/>
                </a:lnTo>
                <a:lnTo>
                  <a:pt x="916" y="65"/>
                </a:lnTo>
                <a:lnTo>
                  <a:pt x="913" y="68"/>
                </a:lnTo>
                <a:lnTo>
                  <a:pt x="911" y="70"/>
                </a:lnTo>
                <a:lnTo>
                  <a:pt x="908" y="73"/>
                </a:lnTo>
                <a:lnTo>
                  <a:pt x="904" y="76"/>
                </a:lnTo>
                <a:lnTo>
                  <a:pt x="901" y="79"/>
                </a:lnTo>
                <a:lnTo>
                  <a:pt x="897" y="82"/>
                </a:lnTo>
                <a:lnTo>
                  <a:pt x="893" y="85"/>
                </a:lnTo>
                <a:lnTo>
                  <a:pt x="887" y="88"/>
                </a:lnTo>
                <a:lnTo>
                  <a:pt x="881" y="91"/>
                </a:lnTo>
                <a:lnTo>
                  <a:pt x="875" y="94"/>
                </a:lnTo>
                <a:lnTo>
                  <a:pt x="870" y="96"/>
                </a:lnTo>
                <a:lnTo>
                  <a:pt x="862" y="99"/>
                </a:lnTo>
                <a:lnTo>
                  <a:pt x="855" y="102"/>
                </a:lnTo>
                <a:lnTo>
                  <a:pt x="847" y="105"/>
                </a:lnTo>
                <a:lnTo>
                  <a:pt x="839" y="108"/>
                </a:lnTo>
                <a:lnTo>
                  <a:pt x="831" y="111"/>
                </a:lnTo>
                <a:lnTo>
                  <a:pt x="821" y="114"/>
                </a:lnTo>
                <a:lnTo>
                  <a:pt x="812" y="117"/>
                </a:lnTo>
                <a:lnTo>
                  <a:pt x="802" y="119"/>
                </a:lnTo>
                <a:lnTo>
                  <a:pt x="792" y="124"/>
                </a:lnTo>
                <a:lnTo>
                  <a:pt x="780" y="127"/>
                </a:lnTo>
                <a:lnTo>
                  <a:pt x="769" y="129"/>
                </a:lnTo>
                <a:lnTo>
                  <a:pt x="757" y="132"/>
                </a:lnTo>
                <a:lnTo>
                  <a:pt x="744" y="137"/>
                </a:lnTo>
                <a:lnTo>
                  <a:pt x="733" y="140"/>
                </a:lnTo>
                <a:lnTo>
                  <a:pt x="718" y="142"/>
                </a:lnTo>
                <a:lnTo>
                  <a:pt x="705" y="145"/>
                </a:lnTo>
                <a:lnTo>
                  <a:pt x="691" y="150"/>
                </a:lnTo>
                <a:lnTo>
                  <a:pt x="677" y="153"/>
                </a:lnTo>
                <a:lnTo>
                  <a:pt x="662" y="157"/>
                </a:lnTo>
                <a:lnTo>
                  <a:pt x="646" y="160"/>
                </a:lnTo>
                <a:lnTo>
                  <a:pt x="631" y="163"/>
                </a:lnTo>
                <a:lnTo>
                  <a:pt x="615" y="167"/>
                </a:lnTo>
                <a:lnTo>
                  <a:pt x="598" y="170"/>
                </a:lnTo>
                <a:lnTo>
                  <a:pt x="580" y="174"/>
                </a:lnTo>
                <a:lnTo>
                  <a:pt x="563" y="177"/>
                </a:lnTo>
                <a:lnTo>
                  <a:pt x="544" y="181"/>
                </a:lnTo>
                <a:lnTo>
                  <a:pt x="526" y="184"/>
                </a:lnTo>
                <a:lnTo>
                  <a:pt x="507" y="189"/>
                </a:lnTo>
                <a:lnTo>
                  <a:pt x="488" y="191"/>
                </a:lnTo>
                <a:lnTo>
                  <a:pt x="468" y="196"/>
                </a:lnTo>
                <a:lnTo>
                  <a:pt x="446" y="200"/>
                </a:lnTo>
                <a:lnTo>
                  <a:pt x="426" y="203"/>
                </a:lnTo>
                <a:lnTo>
                  <a:pt x="405" y="207"/>
                </a:lnTo>
                <a:lnTo>
                  <a:pt x="383" y="212"/>
                </a:lnTo>
                <a:lnTo>
                  <a:pt x="360" y="214"/>
                </a:lnTo>
                <a:lnTo>
                  <a:pt x="338" y="219"/>
                </a:lnTo>
                <a:lnTo>
                  <a:pt x="315" y="223"/>
                </a:lnTo>
                <a:lnTo>
                  <a:pt x="291" y="227"/>
                </a:lnTo>
                <a:lnTo>
                  <a:pt x="266" y="230"/>
                </a:lnTo>
                <a:lnTo>
                  <a:pt x="242" y="235"/>
                </a:lnTo>
                <a:lnTo>
                  <a:pt x="217" y="239"/>
                </a:lnTo>
                <a:lnTo>
                  <a:pt x="192" y="243"/>
                </a:lnTo>
                <a:lnTo>
                  <a:pt x="166" y="248"/>
                </a:lnTo>
                <a:lnTo>
                  <a:pt x="140" y="252"/>
                </a:lnTo>
                <a:lnTo>
                  <a:pt x="112" y="256"/>
                </a:lnTo>
                <a:lnTo>
                  <a:pt x="85" y="260"/>
                </a:lnTo>
                <a:lnTo>
                  <a:pt x="58" y="263"/>
                </a:lnTo>
                <a:lnTo>
                  <a:pt x="29" y="268"/>
                </a:lnTo>
                <a:lnTo>
                  <a:pt x="0" y="272"/>
                </a:lnTo>
                <a:lnTo>
                  <a:pt x="0" y="1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75"/>
          <p:cNvSpPr/>
          <p:nvPr/>
        </p:nvSpPr>
        <p:spPr>
          <a:xfrm>
            <a:off x="6418440" y="4332240"/>
            <a:ext cx="612720" cy="106560"/>
          </a:xfrm>
          <a:custGeom>
            <a:avLst/>
            <a:gdLst/>
            <a:ahLst/>
            <a:rect l="l" t="t" r="r" b="b"/>
            <a:pathLst>
              <a:path w="1159" h="200">
                <a:moveTo>
                  <a:pt x="0" y="74"/>
                </a:moveTo>
                <a:lnTo>
                  <a:pt x="35" y="68"/>
                </a:lnTo>
                <a:lnTo>
                  <a:pt x="69" y="64"/>
                </a:lnTo>
                <a:lnTo>
                  <a:pt x="104" y="58"/>
                </a:lnTo>
                <a:lnTo>
                  <a:pt x="137" y="54"/>
                </a:lnTo>
                <a:lnTo>
                  <a:pt x="169" y="49"/>
                </a:lnTo>
                <a:lnTo>
                  <a:pt x="200" y="45"/>
                </a:lnTo>
                <a:lnTo>
                  <a:pt x="232" y="42"/>
                </a:lnTo>
                <a:lnTo>
                  <a:pt x="262" y="38"/>
                </a:lnTo>
                <a:lnTo>
                  <a:pt x="292" y="35"/>
                </a:lnTo>
                <a:lnTo>
                  <a:pt x="321" y="32"/>
                </a:lnTo>
                <a:lnTo>
                  <a:pt x="349" y="28"/>
                </a:lnTo>
                <a:lnTo>
                  <a:pt x="376" y="25"/>
                </a:lnTo>
                <a:lnTo>
                  <a:pt x="403" y="23"/>
                </a:lnTo>
                <a:lnTo>
                  <a:pt x="429" y="20"/>
                </a:lnTo>
                <a:lnTo>
                  <a:pt x="455" y="18"/>
                </a:lnTo>
                <a:lnTo>
                  <a:pt x="480" y="16"/>
                </a:lnTo>
                <a:lnTo>
                  <a:pt x="504" y="13"/>
                </a:lnTo>
                <a:lnTo>
                  <a:pt x="527" y="12"/>
                </a:lnTo>
                <a:lnTo>
                  <a:pt x="549" y="10"/>
                </a:lnTo>
                <a:lnTo>
                  <a:pt x="572" y="9"/>
                </a:lnTo>
                <a:lnTo>
                  <a:pt x="592" y="7"/>
                </a:lnTo>
                <a:lnTo>
                  <a:pt x="614" y="6"/>
                </a:lnTo>
                <a:lnTo>
                  <a:pt x="632" y="5"/>
                </a:lnTo>
                <a:lnTo>
                  <a:pt x="652" y="3"/>
                </a:lnTo>
                <a:lnTo>
                  <a:pt x="670" y="3"/>
                </a:lnTo>
                <a:lnTo>
                  <a:pt x="688" y="2"/>
                </a:lnTo>
                <a:lnTo>
                  <a:pt x="704" y="2"/>
                </a:lnTo>
                <a:lnTo>
                  <a:pt x="721" y="2"/>
                </a:lnTo>
                <a:lnTo>
                  <a:pt x="737" y="0"/>
                </a:lnTo>
                <a:lnTo>
                  <a:pt x="752" y="0"/>
                </a:lnTo>
                <a:lnTo>
                  <a:pt x="766" y="0"/>
                </a:lnTo>
                <a:lnTo>
                  <a:pt x="779" y="0"/>
                </a:lnTo>
                <a:lnTo>
                  <a:pt x="802" y="0"/>
                </a:lnTo>
                <a:lnTo>
                  <a:pt x="824" y="3"/>
                </a:lnTo>
                <a:lnTo>
                  <a:pt x="847" y="6"/>
                </a:lnTo>
                <a:lnTo>
                  <a:pt x="870" y="10"/>
                </a:lnTo>
                <a:lnTo>
                  <a:pt x="891" y="16"/>
                </a:lnTo>
                <a:lnTo>
                  <a:pt x="914" y="22"/>
                </a:lnTo>
                <a:lnTo>
                  <a:pt x="937" y="29"/>
                </a:lnTo>
                <a:lnTo>
                  <a:pt x="962" y="39"/>
                </a:lnTo>
                <a:lnTo>
                  <a:pt x="985" y="48"/>
                </a:lnTo>
                <a:lnTo>
                  <a:pt x="1009" y="59"/>
                </a:lnTo>
                <a:lnTo>
                  <a:pt x="1032" y="71"/>
                </a:lnTo>
                <a:lnTo>
                  <a:pt x="1057" y="84"/>
                </a:lnTo>
                <a:lnTo>
                  <a:pt x="1081" y="98"/>
                </a:lnTo>
                <a:lnTo>
                  <a:pt x="1107" y="113"/>
                </a:lnTo>
                <a:lnTo>
                  <a:pt x="1133" y="128"/>
                </a:lnTo>
                <a:lnTo>
                  <a:pt x="1159" y="146"/>
                </a:lnTo>
                <a:lnTo>
                  <a:pt x="1116" y="146"/>
                </a:lnTo>
                <a:lnTo>
                  <a:pt x="1068" y="147"/>
                </a:lnTo>
                <a:lnTo>
                  <a:pt x="1044" y="147"/>
                </a:lnTo>
                <a:lnTo>
                  <a:pt x="1018" y="147"/>
                </a:lnTo>
                <a:lnTo>
                  <a:pt x="991" y="149"/>
                </a:lnTo>
                <a:lnTo>
                  <a:pt x="963" y="149"/>
                </a:lnTo>
                <a:lnTo>
                  <a:pt x="935" y="150"/>
                </a:lnTo>
                <a:lnTo>
                  <a:pt x="906" y="151"/>
                </a:lnTo>
                <a:lnTo>
                  <a:pt x="874" y="151"/>
                </a:lnTo>
                <a:lnTo>
                  <a:pt x="842" y="153"/>
                </a:lnTo>
                <a:lnTo>
                  <a:pt x="811" y="154"/>
                </a:lnTo>
                <a:lnTo>
                  <a:pt x="776" y="156"/>
                </a:lnTo>
                <a:lnTo>
                  <a:pt x="742" y="157"/>
                </a:lnTo>
                <a:lnTo>
                  <a:pt x="707" y="159"/>
                </a:lnTo>
                <a:lnTo>
                  <a:pt x="670" y="160"/>
                </a:lnTo>
                <a:lnTo>
                  <a:pt x="632" y="163"/>
                </a:lnTo>
                <a:lnTo>
                  <a:pt x="593" y="164"/>
                </a:lnTo>
                <a:lnTo>
                  <a:pt x="554" y="167"/>
                </a:lnTo>
                <a:lnTo>
                  <a:pt x="514" y="169"/>
                </a:lnTo>
                <a:lnTo>
                  <a:pt x="472" y="172"/>
                </a:lnTo>
                <a:lnTo>
                  <a:pt x="429" y="173"/>
                </a:lnTo>
                <a:lnTo>
                  <a:pt x="386" y="176"/>
                </a:lnTo>
                <a:lnTo>
                  <a:pt x="341" y="179"/>
                </a:lnTo>
                <a:lnTo>
                  <a:pt x="295" y="182"/>
                </a:lnTo>
                <a:lnTo>
                  <a:pt x="249" y="185"/>
                </a:lnTo>
                <a:lnTo>
                  <a:pt x="202" y="187"/>
                </a:lnTo>
                <a:lnTo>
                  <a:pt x="153" y="190"/>
                </a:lnTo>
                <a:lnTo>
                  <a:pt x="102" y="193"/>
                </a:lnTo>
                <a:lnTo>
                  <a:pt x="52" y="197"/>
                </a:lnTo>
                <a:lnTo>
                  <a:pt x="0" y="200"/>
                </a:lnTo>
                <a:lnTo>
                  <a:pt x="0" y="7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76"/>
          <p:cNvSpPr/>
          <p:nvPr/>
        </p:nvSpPr>
        <p:spPr>
          <a:xfrm>
            <a:off x="6478560" y="2773440"/>
            <a:ext cx="231840" cy="787320"/>
          </a:xfrm>
          <a:custGeom>
            <a:avLst/>
            <a:gdLst/>
            <a:ahLst/>
            <a:rect l="l" t="t" r="r" b="b"/>
            <a:pathLst>
              <a:path w="439" h="1488">
                <a:moveTo>
                  <a:pt x="187" y="14"/>
                </a:moveTo>
                <a:lnTo>
                  <a:pt x="205" y="17"/>
                </a:lnTo>
                <a:lnTo>
                  <a:pt x="223" y="21"/>
                </a:lnTo>
                <a:lnTo>
                  <a:pt x="240" y="26"/>
                </a:lnTo>
                <a:lnTo>
                  <a:pt x="257" y="30"/>
                </a:lnTo>
                <a:lnTo>
                  <a:pt x="273" y="34"/>
                </a:lnTo>
                <a:lnTo>
                  <a:pt x="289" y="40"/>
                </a:lnTo>
                <a:lnTo>
                  <a:pt x="305" y="44"/>
                </a:lnTo>
                <a:lnTo>
                  <a:pt x="319" y="50"/>
                </a:lnTo>
                <a:lnTo>
                  <a:pt x="332" y="55"/>
                </a:lnTo>
                <a:lnTo>
                  <a:pt x="345" y="60"/>
                </a:lnTo>
                <a:lnTo>
                  <a:pt x="358" y="65"/>
                </a:lnTo>
                <a:lnTo>
                  <a:pt x="369" y="69"/>
                </a:lnTo>
                <a:lnTo>
                  <a:pt x="380" y="75"/>
                </a:lnTo>
                <a:lnTo>
                  <a:pt x="390" y="79"/>
                </a:lnTo>
                <a:lnTo>
                  <a:pt x="398" y="82"/>
                </a:lnTo>
                <a:lnTo>
                  <a:pt x="407" y="86"/>
                </a:lnTo>
                <a:lnTo>
                  <a:pt x="413" y="91"/>
                </a:lnTo>
                <a:lnTo>
                  <a:pt x="420" y="93"/>
                </a:lnTo>
                <a:lnTo>
                  <a:pt x="424" y="99"/>
                </a:lnTo>
                <a:lnTo>
                  <a:pt x="429" y="103"/>
                </a:lnTo>
                <a:lnTo>
                  <a:pt x="433" y="109"/>
                </a:lnTo>
                <a:lnTo>
                  <a:pt x="436" y="115"/>
                </a:lnTo>
                <a:lnTo>
                  <a:pt x="437" y="121"/>
                </a:lnTo>
                <a:lnTo>
                  <a:pt x="439" y="128"/>
                </a:lnTo>
                <a:lnTo>
                  <a:pt x="439" y="135"/>
                </a:lnTo>
                <a:lnTo>
                  <a:pt x="439" y="142"/>
                </a:lnTo>
                <a:lnTo>
                  <a:pt x="439" y="150"/>
                </a:lnTo>
                <a:lnTo>
                  <a:pt x="437" y="158"/>
                </a:lnTo>
                <a:lnTo>
                  <a:pt x="436" y="167"/>
                </a:lnTo>
                <a:lnTo>
                  <a:pt x="433" y="175"/>
                </a:lnTo>
                <a:lnTo>
                  <a:pt x="430" y="186"/>
                </a:lnTo>
                <a:lnTo>
                  <a:pt x="427" y="196"/>
                </a:lnTo>
                <a:lnTo>
                  <a:pt x="424" y="201"/>
                </a:lnTo>
                <a:lnTo>
                  <a:pt x="423" y="210"/>
                </a:lnTo>
                <a:lnTo>
                  <a:pt x="420" y="222"/>
                </a:lnTo>
                <a:lnTo>
                  <a:pt x="418" y="234"/>
                </a:lnTo>
                <a:lnTo>
                  <a:pt x="416" y="249"/>
                </a:lnTo>
                <a:lnTo>
                  <a:pt x="413" y="266"/>
                </a:lnTo>
                <a:lnTo>
                  <a:pt x="411" y="286"/>
                </a:lnTo>
                <a:lnTo>
                  <a:pt x="408" y="308"/>
                </a:lnTo>
                <a:lnTo>
                  <a:pt x="405" y="332"/>
                </a:lnTo>
                <a:lnTo>
                  <a:pt x="403" y="358"/>
                </a:lnTo>
                <a:lnTo>
                  <a:pt x="400" y="387"/>
                </a:lnTo>
                <a:lnTo>
                  <a:pt x="397" y="417"/>
                </a:lnTo>
                <a:lnTo>
                  <a:pt x="394" y="450"/>
                </a:lnTo>
                <a:lnTo>
                  <a:pt x="391" y="485"/>
                </a:lnTo>
                <a:lnTo>
                  <a:pt x="390" y="522"/>
                </a:lnTo>
                <a:lnTo>
                  <a:pt x="387" y="563"/>
                </a:lnTo>
                <a:lnTo>
                  <a:pt x="384" y="604"/>
                </a:lnTo>
                <a:lnTo>
                  <a:pt x="381" y="648"/>
                </a:lnTo>
                <a:lnTo>
                  <a:pt x="378" y="694"/>
                </a:lnTo>
                <a:lnTo>
                  <a:pt x="375" y="741"/>
                </a:lnTo>
                <a:lnTo>
                  <a:pt x="372" y="792"/>
                </a:lnTo>
                <a:lnTo>
                  <a:pt x="369" y="845"/>
                </a:lnTo>
                <a:lnTo>
                  <a:pt x="367" y="900"/>
                </a:lnTo>
                <a:lnTo>
                  <a:pt x="364" y="956"/>
                </a:lnTo>
                <a:lnTo>
                  <a:pt x="362" y="1015"/>
                </a:lnTo>
                <a:lnTo>
                  <a:pt x="359" y="1077"/>
                </a:lnTo>
                <a:lnTo>
                  <a:pt x="357" y="1140"/>
                </a:lnTo>
                <a:lnTo>
                  <a:pt x="355" y="1205"/>
                </a:lnTo>
                <a:lnTo>
                  <a:pt x="352" y="1272"/>
                </a:lnTo>
                <a:lnTo>
                  <a:pt x="351" y="1343"/>
                </a:lnTo>
                <a:lnTo>
                  <a:pt x="348" y="1415"/>
                </a:lnTo>
                <a:lnTo>
                  <a:pt x="346" y="1488"/>
                </a:lnTo>
                <a:lnTo>
                  <a:pt x="247" y="1488"/>
                </a:lnTo>
                <a:lnTo>
                  <a:pt x="146" y="1488"/>
                </a:lnTo>
                <a:lnTo>
                  <a:pt x="146" y="1426"/>
                </a:lnTo>
                <a:lnTo>
                  <a:pt x="146" y="1365"/>
                </a:lnTo>
                <a:lnTo>
                  <a:pt x="146" y="1306"/>
                </a:lnTo>
                <a:lnTo>
                  <a:pt x="146" y="1248"/>
                </a:lnTo>
                <a:lnTo>
                  <a:pt x="146" y="1193"/>
                </a:lnTo>
                <a:lnTo>
                  <a:pt x="146" y="1139"/>
                </a:lnTo>
                <a:lnTo>
                  <a:pt x="146" y="1085"/>
                </a:lnTo>
                <a:lnTo>
                  <a:pt x="146" y="1035"/>
                </a:lnTo>
                <a:lnTo>
                  <a:pt x="146" y="985"/>
                </a:lnTo>
                <a:lnTo>
                  <a:pt x="146" y="937"/>
                </a:lnTo>
                <a:lnTo>
                  <a:pt x="145" y="891"/>
                </a:lnTo>
                <a:lnTo>
                  <a:pt x="145" y="845"/>
                </a:lnTo>
                <a:lnTo>
                  <a:pt x="145" y="803"/>
                </a:lnTo>
                <a:lnTo>
                  <a:pt x="145" y="761"/>
                </a:lnTo>
                <a:lnTo>
                  <a:pt x="145" y="721"/>
                </a:lnTo>
                <a:lnTo>
                  <a:pt x="143" y="682"/>
                </a:lnTo>
                <a:lnTo>
                  <a:pt x="143" y="646"/>
                </a:lnTo>
                <a:lnTo>
                  <a:pt x="143" y="610"/>
                </a:lnTo>
                <a:lnTo>
                  <a:pt x="142" y="577"/>
                </a:lnTo>
                <a:lnTo>
                  <a:pt x="142" y="545"/>
                </a:lnTo>
                <a:lnTo>
                  <a:pt x="141" y="515"/>
                </a:lnTo>
                <a:lnTo>
                  <a:pt x="141" y="486"/>
                </a:lnTo>
                <a:lnTo>
                  <a:pt x="139" y="459"/>
                </a:lnTo>
                <a:lnTo>
                  <a:pt x="138" y="433"/>
                </a:lnTo>
                <a:lnTo>
                  <a:pt x="138" y="409"/>
                </a:lnTo>
                <a:lnTo>
                  <a:pt x="136" y="387"/>
                </a:lnTo>
                <a:lnTo>
                  <a:pt x="135" y="365"/>
                </a:lnTo>
                <a:lnTo>
                  <a:pt x="133" y="347"/>
                </a:lnTo>
                <a:lnTo>
                  <a:pt x="132" y="330"/>
                </a:lnTo>
                <a:lnTo>
                  <a:pt x="131" y="314"/>
                </a:lnTo>
                <a:lnTo>
                  <a:pt x="129" y="299"/>
                </a:lnTo>
                <a:lnTo>
                  <a:pt x="128" y="286"/>
                </a:lnTo>
                <a:lnTo>
                  <a:pt x="123" y="266"/>
                </a:lnTo>
                <a:lnTo>
                  <a:pt x="119" y="247"/>
                </a:lnTo>
                <a:lnTo>
                  <a:pt x="113" y="229"/>
                </a:lnTo>
                <a:lnTo>
                  <a:pt x="109" y="211"/>
                </a:lnTo>
                <a:lnTo>
                  <a:pt x="103" y="196"/>
                </a:lnTo>
                <a:lnTo>
                  <a:pt x="97" y="180"/>
                </a:lnTo>
                <a:lnTo>
                  <a:pt x="92" y="165"/>
                </a:lnTo>
                <a:lnTo>
                  <a:pt x="87" y="152"/>
                </a:lnTo>
                <a:lnTo>
                  <a:pt x="82" y="139"/>
                </a:lnTo>
                <a:lnTo>
                  <a:pt x="76" y="129"/>
                </a:lnTo>
                <a:lnTo>
                  <a:pt x="70" y="119"/>
                </a:lnTo>
                <a:lnTo>
                  <a:pt x="64" y="111"/>
                </a:lnTo>
                <a:lnTo>
                  <a:pt x="60" y="102"/>
                </a:lnTo>
                <a:lnTo>
                  <a:pt x="56" y="96"/>
                </a:lnTo>
                <a:lnTo>
                  <a:pt x="51" y="91"/>
                </a:lnTo>
                <a:lnTo>
                  <a:pt x="47" y="86"/>
                </a:lnTo>
                <a:lnTo>
                  <a:pt x="40" y="82"/>
                </a:lnTo>
                <a:lnTo>
                  <a:pt x="33" y="79"/>
                </a:lnTo>
                <a:lnTo>
                  <a:pt x="27" y="75"/>
                </a:lnTo>
                <a:lnTo>
                  <a:pt x="21" y="69"/>
                </a:lnTo>
                <a:lnTo>
                  <a:pt x="15" y="65"/>
                </a:lnTo>
                <a:lnTo>
                  <a:pt x="11" y="60"/>
                </a:lnTo>
                <a:lnTo>
                  <a:pt x="8" y="55"/>
                </a:lnTo>
                <a:lnTo>
                  <a:pt x="4" y="50"/>
                </a:lnTo>
                <a:lnTo>
                  <a:pt x="2" y="44"/>
                </a:lnTo>
                <a:lnTo>
                  <a:pt x="1" y="40"/>
                </a:lnTo>
                <a:lnTo>
                  <a:pt x="0" y="34"/>
                </a:lnTo>
                <a:lnTo>
                  <a:pt x="0" y="30"/>
                </a:lnTo>
                <a:lnTo>
                  <a:pt x="0" y="26"/>
                </a:lnTo>
                <a:lnTo>
                  <a:pt x="1" y="21"/>
                </a:lnTo>
                <a:lnTo>
                  <a:pt x="4" y="17"/>
                </a:lnTo>
                <a:lnTo>
                  <a:pt x="7" y="14"/>
                </a:lnTo>
                <a:lnTo>
                  <a:pt x="11" y="10"/>
                </a:lnTo>
                <a:lnTo>
                  <a:pt x="17" y="7"/>
                </a:lnTo>
                <a:lnTo>
                  <a:pt x="23" y="6"/>
                </a:lnTo>
                <a:lnTo>
                  <a:pt x="30" y="3"/>
                </a:lnTo>
                <a:lnTo>
                  <a:pt x="37" y="1"/>
                </a:lnTo>
                <a:lnTo>
                  <a:pt x="46" y="0"/>
                </a:lnTo>
                <a:lnTo>
                  <a:pt x="56" y="0"/>
                </a:lnTo>
                <a:lnTo>
                  <a:pt x="67" y="0"/>
                </a:lnTo>
                <a:lnTo>
                  <a:pt x="79" y="0"/>
                </a:lnTo>
                <a:lnTo>
                  <a:pt x="92" y="0"/>
                </a:lnTo>
                <a:lnTo>
                  <a:pt x="105" y="1"/>
                </a:lnTo>
                <a:lnTo>
                  <a:pt x="119" y="3"/>
                </a:lnTo>
                <a:lnTo>
                  <a:pt x="135" y="6"/>
                </a:lnTo>
                <a:lnTo>
                  <a:pt x="151" y="7"/>
                </a:lnTo>
                <a:lnTo>
                  <a:pt x="168" y="10"/>
                </a:lnTo>
                <a:lnTo>
                  <a:pt x="187" y="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77"/>
          <p:cNvSpPr/>
          <p:nvPr/>
        </p:nvSpPr>
        <p:spPr>
          <a:xfrm>
            <a:off x="6186600" y="3127320"/>
            <a:ext cx="760320" cy="184320"/>
          </a:xfrm>
          <a:custGeom>
            <a:avLst/>
            <a:gdLst/>
            <a:ahLst/>
            <a:rect l="l" t="t" r="r" b="b"/>
            <a:pathLst>
              <a:path w="1438" h="346">
                <a:moveTo>
                  <a:pt x="520" y="110"/>
                </a:moveTo>
                <a:lnTo>
                  <a:pt x="553" y="102"/>
                </a:lnTo>
                <a:lnTo>
                  <a:pt x="585" y="95"/>
                </a:lnTo>
                <a:lnTo>
                  <a:pt x="616" y="90"/>
                </a:lnTo>
                <a:lnTo>
                  <a:pt x="648" y="82"/>
                </a:lnTo>
                <a:lnTo>
                  <a:pt x="677" y="77"/>
                </a:lnTo>
                <a:lnTo>
                  <a:pt x="707" y="71"/>
                </a:lnTo>
                <a:lnTo>
                  <a:pt x="734" y="66"/>
                </a:lnTo>
                <a:lnTo>
                  <a:pt x="762" y="61"/>
                </a:lnTo>
                <a:lnTo>
                  <a:pt x="789" y="55"/>
                </a:lnTo>
                <a:lnTo>
                  <a:pt x="815" y="51"/>
                </a:lnTo>
                <a:lnTo>
                  <a:pt x="839" y="46"/>
                </a:lnTo>
                <a:lnTo>
                  <a:pt x="864" y="42"/>
                </a:lnTo>
                <a:lnTo>
                  <a:pt x="888" y="38"/>
                </a:lnTo>
                <a:lnTo>
                  <a:pt x="910" y="33"/>
                </a:lnTo>
                <a:lnTo>
                  <a:pt x="932" y="30"/>
                </a:lnTo>
                <a:lnTo>
                  <a:pt x="953" y="26"/>
                </a:lnTo>
                <a:lnTo>
                  <a:pt x="973" y="23"/>
                </a:lnTo>
                <a:lnTo>
                  <a:pt x="992" y="20"/>
                </a:lnTo>
                <a:lnTo>
                  <a:pt x="1011" y="18"/>
                </a:lnTo>
                <a:lnTo>
                  <a:pt x="1029" y="15"/>
                </a:lnTo>
                <a:lnTo>
                  <a:pt x="1045" y="12"/>
                </a:lnTo>
                <a:lnTo>
                  <a:pt x="1063" y="10"/>
                </a:lnTo>
                <a:lnTo>
                  <a:pt x="1077" y="7"/>
                </a:lnTo>
                <a:lnTo>
                  <a:pt x="1091" y="6"/>
                </a:lnTo>
                <a:lnTo>
                  <a:pt x="1106" y="5"/>
                </a:lnTo>
                <a:lnTo>
                  <a:pt x="1119" y="3"/>
                </a:lnTo>
                <a:lnTo>
                  <a:pt x="1130" y="2"/>
                </a:lnTo>
                <a:lnTo>
                  <a:pt x="1142" y="2"/>
                </a:lnTo>
                <a:lnTo>
                  <a:pt x="1152" y="0"/>
                </a:lnTo>
                <a:lnTo>
                  <a:pt x="1160" y="0"/>
                </a:lnTo>
                <a:lnTo>
                  <a:pt x="1171" y="0"/>
                </a:lnTo>
                <a:lnTo>
                  <a:pt x="1178" y="0"/>
                </a:lnTo>
                <a:lnTo>
                  <a:pt x="1201" y="0"/>
                </a:lnTo>
                <a:lnTo>
                  <a:pt x="1222" y="0"/>
                </a:lnTo>
                <a:lnTo>
                  <a:pt x="1245" y="0"/>
                </a:lnTo>
                <a:lnTo>
                  <a:pt x="1268" y="2"/>
                </a:lnTo>
                <a:lnTo>
                  <a:pt x="1290" y="5"/>
                </a:lnTo>
                <a:lnTo>
                  <a:pt x="1313" y="7"/>
                </a:lnTo>
                <a:lnTo>
                  <a:pt x="1325" y="9"/>
                </a:lnTo>
                <a:lnTo>
                  <a:pt x="1335" y="12"/>
                </a:lnTo>
                <a:lnTo>
                  <a:pt x="1346" y="15"/>
                </a:lnTo>
                <a:lnTo>
                  <a:pt x="1358" y="19"/>
                </a:lnTo>
                <a:lnTo>
                  <a:pt x="1368" y="22"/>
                </a:lnTo>
                <a:lnTo>
                  <a:pt x="1378" y="25"/>
                </a:lnTo>
                <a:lnTo>
                  <a:pt x="1388" y="29"/>
                </a:lnTo>
                <a:lnTo>
                  <a:pt x="1395" y="32"/>
                </a:lnTo>
                <a:lnTo>
                  <a:pt x="1402" y="35"/>
                </a:lnTo>
                <a:lnTo>
                  <a:pt x="1410" y="39"/>
                </a:lnTo>
                <a:lnTo>
                  <a:pt x="1415" y="42"/>
                </a:lnTo>
                <a:lnTo>
                  <a:pt x="1420" y="46"/>
                </a:lnTo>
                <a:lnTo>
                  <a:pt x="1424" y="49"/>
                </a:lnTo>
                <a:lnTo>
                  <a:pt x="1428" y="52"/>
                </a:lnTo>
                <a:lnTo>
                  <a:pt x="1431" y="56"/>
                </a:lnTo>
                <a:lnTo>
                  <a:pt x="1434" y="59"/>
                </a:lnTo>
                <a:lnTo>
                  <a:pt x="1435" y="62"/>
                </a:lnTo>
                <a:lnTo>
                  <a:pt x="1437" y="66"/>
                </a:lnTo>
                <a:lnTo>
                  <a:pt x="1437" y="69"/>
                </a:lnTo>
                <a:lnTo>
                  <a:pt x="1438" y="74"/>
                </a:lnTo>
                <a:lnTo>
                  <a:pt x="1437" y="77"/>
                </a:lnTo>
                <a:lnTo>
                  <a:pt x="1437" y="79"/>
                </a:lnTo>
                <a:lnTo>
                  <a:pt x="1435" y="84"/>
                </a:lnTo>
                <a:lnTo>
                  <a:pt x="1434" y="87"/>
                </a:lnTo>
                <a:lnTo>
                  <a:pt x="1431" y="91"/>
                </a:lnTo>
                <a:lnTo>
                  <a:pt x="1428" y="94"/>
                </a:lnTo>
                <a:lnTo>
                  <a:pt x="1424" y="98"/>
                </a:lnTo>
                <a:lnTo>
                  <a:pt x="1420" y="102"/>
                </a:lnTo>
                <a:lnTo>
                  <a:pt x="1415" y="107"/>
                </a:lnTo>
                <a:lnTo>
                  <a:pt x="1410" y="111"/>
                </a:lnTo>
                <a:lnTo>
                  <a:pt x="1402" y="115"/>
                </a:lnTo>
                <a:lnTo>
                  <a:pt x="1395" y="121"/>
                </a:lnTo>
                <a:lnTo>
                  <a:pt x="1388" y="127"/>
                </a:lnTo>
                <a:lnTo>
                  <a:pt x="1378" y="133"/>
                </a:lnTo>
                <a:lnTo>
                  <a:pt x="1368" y="138"/>
                </a:lnTo>
                <a:lnTo>
                  <a:pt x="1358" y="146"/>
                </a:lnTo>
                <a:lnTo>
                  <a:pt x="1352" y="149"/>
                </a:lnTo>
                <a:lnTo>
                  <a:pt x="1345" y="153"/>
                </a:lnTo>
                <a:lnTo>
                  <a:pt x="1338" y="156"/>
                </a:lnTo>
                <a:lnTo>
                  <a:pt x="1330" y="160"/>
                </a:lnTo>
                <a:lnTo>
                  <a:pt x="1322" y="163"/>
                </a:lnTo>
                <a:lnTo>
                  <a:pt x="1313" y="166"/>
                </a:lnTo>
                <a:lnTo>
                  <a:pt x="1304" y="170"/>
                </a:lnTo>
                <a:lnTo>
                  <a:pt x="1294" y="173"/>
                </a:lnTo>
                <a:lnTo>
                  <a:pt x="1283" y="177"/>
                </a:lnTo>
                <a:lnTo>
                  <a:pt x="1271" y="180"/>
                </a:lnTo>
                <a:lnTo>
                  <a:pt x="1260" y="185"/>
                </a:lnTo>
                <a:lnTo>
                  <a:pt x="1247" y="187"/>
                </a:lnTo>
                <a:lnTo>
                  <a:pt x="1234" y="192"/>
                </a:lnTo>
                <a:lnTo>
                  <a:pt x="1219" y="195"/>
                </a:lnTo>
                <a:lnTo>
                  <a:pt x="1205" y="199"/>
                </a:lnTo>
                <a:lnTo>
                  <a:pt x="1191" y="202"/>
                </a:lnTo>
                <a:lnTo>
                  <a:pt x="1175" y="206"/>
                </a:lnTo>
                <a:lnTo>
                  <a:pt x="1158" y="210"/>
                </a:lnTo>
                <a:lnTo>
                  <a:pt x="1140" y="215"/>
                </a:lnTo>
                <a:lnTo>
                  <a:pt x="1123" y="218"/>
                </a:lnTo>
                <a:lnTo>
                  <a:pt x="1104" y="222"/>
                </a:lnTo>
                <a:lnTo>
                  <a:pt x="1086" y="226"/>
                </a:lnTo>
                <a:lnTo>
                  <a:pt x="1065" y="231"/>
                </a:lnTo>
                <a:lnTo>
                  <a:pt x="1045" y="235"/>
                </a:lnTo>
                <a:lnTo>
                  <a:pt x="1025" y="239"/>
                </a:lnTo>
                <a:lnTo>
                  <a:pt x="1004" y="244"/>
                </a:lnTo>
                <a:lnTo>
                  <a:pt x="981" y="248"/>
                </a:lnTo>
                <a:lnTo>
                  <a:pt x="957" y="254"/>
                </a:lnTo>
                <a:lnTo>
                  <a:pt x="933" y="258"/>
                </a:lnTo>
                <a:lnTo>
                  <a:pt x="909" y="262"/>
                </a:lnTo>
                <a:lnTo>
                  <a:pt x="884" y="268"/>
                </a:lnTo>
                <a:lnTo>
                  <a:pt x="858" y="274"/>
                </a:lnTo>
                <a:lnTo>
                  <a:pt x="831" y="278"/>
                </a:lnTo>
                <a:lnTo>
                  <a:pt x="803" y="282"/>
                </a:lnTo>
                <a:lnTo>
                  <a:pt x="778" y="288"/>
                </a:lnTo>
                <a:lnTo>
                  <a:pt x="753" y="292"/>
                </a:lnTo>
                <a:lnTo>
                  <a:pt x="729" y="297"/>
                </a:lnTo>
                <a:lnTo>
                  <a:pt x="704" y="300"/>
                </a:lnTo>
                <a:lnTo>
                  <a:pt x="681" y="304"/>
                </a:lnTo>
                <a:lnTo>
                  <a:pt x="659" y="308"/>
                </a:lnTo>
                <a:lnTo>
                  <a:pt x="639" y="311"/>
                </a:lnTo>
                <a:lnTo>
                  <a:pt x="618" y="314"/>
                </a:lnTo>
                <a:lnTo>
                  <a:pt x="599" y="317"/>
                </a:lnTo>
                <a:lnTo>
                  <a:pt x="580" y="320"/>
                </a:lnTo>
                <a:lnTo>
                  <a:pt x="563" y="323"/>
                </a:lnTo>
                <a:lnTo>
                  <a:pt x="546" y="326"/>
                </a:lnTo>
                <a:lnTo>
                  <a:pt x="528" y="328"/>
                </a:lnTo>
                <a:lnTo>
                  <a:pt x="514" y="330"/>
                </a:lnTo>
                <a:lnTo>
                  <a:pt x="500" y="333"/>
                </a:lnTo>
                <a:lnTo>
                  <a:pt x="485" y="334"/>
                </a:lnTo>
                <a:lnTo>
                  <a:pt x="472" y="336"/>
                </a:lnTo>
                <a:lnTo>
                  <a:pt x="461" y="337"/>
                </a:lnTo>
                <a:lnTo>
                  <a:pt x="449" y="339"/>
                </a:lnTo>
                <a:lnTo>
                  <a:pt x="439" y="340"/>
                </a:lnTo>
                <a:lnTo>
                  <a:pt x="429" y="341"/>
                </a:lnTo>
                <a:lnTo>
                  <a:pt x="421" y="343"/>
                </a:lnTo>
                <a:lnTo>
                  <a:pt x="412" y="343"/>
                </a:lnTo>
                <a:lnTo>
                  <a:pt x="405" y="344"/>
                </a:lnTo>
                <a:lnTo>
                  <a:pt x="399" y="344"/>
                </a:lnTo>
                <a:lnTo>
                  <a:pt x="393" y="344"/>
                </a:lnTo>
                <a:lnTo>
                  <a:pt x="389" y="346"/>
                </a:lnTo>
                <a:lnTo>
                  <a:pt x="385" y="346"/>
                </a:lnTo>
                <a:lnTo>
                  <a:pt x="382" y="346"/>
                </a:lnTo>
                <a:lnTo>
                  <a:pt x="379" y="346"/>
                </a:lnTo>
                <a:lnTo>
                  <a:pt x="372" y="346"/>
                </a:lnTo>
                <a:lnTo>
                  <a:pt x="362" y="344"/>
                </a:lnTo>
                <a:lnTo>
                  <a:pt x="353" y="344"/>
                </a:lnTo>
                <a:lnTo>
                  <a:pt x="341" y="343"/>
                </a:lnTo>
                <a:lnTo>
                  <a:pt x="330" y="340"/>
                </a:lnTo>
                <a:lnTo>
                  <a:pt x="318" y="339"/>
                </a:lnTo>
                <a:lnTo>
                  <a:pt x="305" y="336"/>
                </a:lnTo>
                <a:lnTo>
                  <a:pt x="292" y="333"/>
                </a:lnTo>
                <a:lnTo>
                  <a:pt x="278" y="328"/>
                </a:lnTo>
                <a:lnTo>
                  <a:pt x="262" y="324"/>
                </a:lnTo>
                <a:lnTo>
                  <a:pt x="246" y="320"/>
                </a:lnTo>
                <a:lnTo>
                  <a:pt x="231" y="316"/>
                </a:lnTo>
                <a:lnTo>
                  <a:pt x="213" y="310"/>
                </a:lnTo>
                <a:lnTo>
                  <a:pt x="196" y="304"/>
                </a:lnTo>
                <a:lnTo>
                  <a:pt x="177" y="298"/>
                </a:lnTo>
                <a:lnTo>
                  <a:pt x="160" y="291"/>
                </a:lnTo>
                <a:lnTo>
                  <a:pt x="141" y="284"/>
                </a:lnTo>
                <a:lnTo>
                  <a:pt x="124" y="278"/>
                </a:lnTo>
                <a:lnTo>
                  <a:pt x="108" y="272"/>
                </a:lnTo>
                <a:lnTo>
                  <a:pt x="92" y="267"/>
                </a:lnTo>
                <a:lnTo>
                  <a:pt x="78" y="262"/>
                </a:lnTo>
                <a:lnTo>
                  <a:pt x="65" y="257"/>
                </a:lnTo>
                <a:lnTo>
                  <a:pt x="53" y="252"/>
                </a:lnTo>
                <a:lnTo>
                  <a:pt x="42" y="248"/>
                </a:lnTo>
                <a:lnTo>
                  <a:pt x="32" y="244"/>
                </a:lnTo>
                <a:lnTo>
                  <a:pt x="23" y="239"/>
                </a:lnTo>
                <a:lnTo>
                  <a:pt x="16" y="236"/>
                </a:lnTo>
                <a:lnTo>
                  <a:pt x="10" y="232"/>
                </a:lnTo>
                <a:lnTo>
                  <a:pt x="6" y="229"/>
                </a:lnTo>
                <a:lnTo>
                  <a:pt x="2" y="225"/>
                </a:lnTo>
                <a:lnTo>
                  <a:pt x="0" y="222"/>
                </a:lnTo>
                <a:lnTo>
                  <a:pt x="0" y="219"/>
                </a:lnTo>
                <a:lnTo>
                  <a:pt x="0" y="216"/>
                </a:lnTo>
                <a:lnTo>
                  <a:pt x="2" y="215"/>
                </a:lnTo>
                <a:lnTo>
                  <a:pt x="4" y="213"/>
                </a:lnTo>
                <a:lnTo>
                  <a:pt x="7" y="210"/>
                </a:lnTo>
                <a:lnTo>
                  <a:pt x="13" y="209"/>
                </a:lnTo>
                <a:lnTo>
                  <a:pt x="19" y="206"/>
                </a:lnTo>
                <a:lnTo>
                  <a:pt x="25" y="205"/>
                </a:lnTo>
                <a:lnTo>
                  <a:pt x="33" y="202"/>
                </a:lnTo>
                <a:lnTo>
                  <a:pt x="42" y="199"/>
                </a:lnTo>
                <a:lnTo>
                  <a:pt x="52" y="196"/>
                </a:lnTo>
                <a:lnTo>
                  <a:pt x="62" y="193"/>
                </a:lnTo>
                <a:lnTo>
                  <a:pt x="75" y="190"/>
                </a:lnTo>
                <a:lnTo>
                  <a:pt x="87" y="187"/>
                </a:lnTo>
                <a:lnTo>
                  <a:pt x="101" y="185"/>
                </a:lnTo>
                <a:lnTo>
                  <a:pt x="115" y="182"/>
                </a:lnTo>
                <a:lnTo>
                  <a:pt x="133" y="177"/>
                </a:lnTo>
                <a:lnTo>
                  <a:pt x="148" y="174"/>
                </a:lnTo>
                <a:lnTo>
                  <a:pt x="167" y="172"/>
                </a:lnTo>
                <a:lnTo>
                  <a:pt x="186" y="167"/>
                </a:lnTo>
                <a:lnTo>
                  <a:pt x="206" y="163"/>
                </a:lnTo>
                <a:lnTo>
                  <a:pt x="226" y="160"/>
                </a:lnTo>
                <a:lnTo>
                  <a:pt x="248" y="156"/>
                </a:lnTo>
                <a:lnTo>
                  <a:pt x="271" y="151"/>
                </a:lnTo>
                <a:lnTo>
                  <a:pt x="295" y="147"/>
                </a:lnTo>
                <a:lnTo>
                  <a:pt x="320" y="143"/>
                </a:lnTo>
                <a:lnTo>
                  <a:pt x="346" y="138"/>
                </a:lnTo>
                <a:lnTo>
                  <a:pt x="372" y="134"/>
                </a:lnTo>
                <a:lnTo>
                  <a:pt x="399" y="128"/>
                </a:lnTo>
                <a:lnTo>
                  <a:pt x="428" y="124"/>
                </a:lnTo>
                <a:lnTo>
                  <a:pt x="458" y="120"/>
                </a:lnTo>
                <a:lnTo>
                  <a:pt x="488" y="114"/>
                </a:lnTo>
                <a:lnTo>
                  <a:pt x="520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78"/>
          <p:cNvSpPr/>
          <p:nvPr/>
        </p:nvSpPr>
        <p:spPr>
          <a:xfrm>
            <a:off x="5621400" y="3378240"/>
            <a:ext cx="2247840" cy="357120"/>
          </a:xfrm>
          <a:custGeom>
            <a:avLst/>
            <a:gdLst/>
            <a:ahLst/>
            <a:rect l="l" t="t" r="r" b="b"/>
            <a:pathLst>
              <a:path w="4247" h="674">
                <a:moveTo>
                  <a:pt x="2145" y="400"/>
                </a:moveTo>
                <a:lnTo>
                  <a:pt x="2104" y="404"/>
                </a:lnTo>
                <a:lnTo>
                  <a:pt x="2060" y="407"/>
                </a:lnTo>
                <a:lnTo>
                  <a:pt x="2017" y="413"/>
                </a:lnTo>
                <a:lnTo>
                  <a:pt x="1973" y="417"/>
                </a:lnTo>
                <a:lnTo>
                  <a:pt x="1928" y="423"/>
                </a:lnTo>
                <a:lnTo>
                  <a:pt x="1882" y="427"/>
                </a:lnTo>
                <a:lnTo>
                  <a:pt x="1836" y="435"/>
                </a:lnTo>
                <a:lnTo>
                  <a:pt x="1788" y="440"/>
                </a:lnTo>
                <a:lnTo>
                  <a:pt x="1739" y="448"/>
                </a:lnTo>
                <a:lnTo>
                  <a:pt x="1691" y="455"/>
                </a:lnTo>
                <a:lnTo>
                  <a:pt x="1642" y="463"/>
                </a:lnTo>
                <a:lnTo>
                  <a:pt x="1591" y="471"/>
                </a:lnTo>
                <a:lnTo>
                  <a:pt x="1541" y="479"/>
                </a:lnTo>
                <a:lnTo>
                  <a:pt x="1490" y="489"/>
                </a:lnTo>
                <a:lnTo>
                  <a:pt x="1439" y="498"/>
                </a:lnTo>
                <a:lnTo>
                  <a:pt x="1387" y="510"/>
                </a:lnTo>
                <a:lnTo>
                  <a:pt x="1335" y="520"/>
                </a:lnTo>
                <a:lnTo>
                  <a:pt x="1285" y="528"/>
                </a:lnTo>
                <a:lnTo>
                  <a:pt x="1236" y="538"/>
                </a:lnTo>
                <a:lnTo>
                  <a:pt x="1188" y="547"/>
                </a:lnTo>
                <a:lnTo>
                  <a:pt x="1142" y="556"/>
                </a:lnTo>
                <a:lnTo>
                  <a:pt x="1097" y="563"/>
                </a:lnTo>
                <a:lnTo>
                  <a:pt x="1054" y="571"/>
                </a:lnTo>
                <a:lnTo>
                  <a:pt x="1011" y="577"/>
                </a:lnTo>
                <a:lnTo>
                  <a:pt x="971" y="584"/>
                </a:lnTo>
                <a:lnTo>
                  <a:pt x="932" y="590"/>
                </a:lnTo>
                <a:lnTo>
                  <a:pt x="894" y="596"/>
                </a:lnTo>
                <a:lnTo>
                  <a:pt x="858" y="602"/>
                </a:lnTo>
                <a:lnTo>
                  <a:pt x="824" y="606"/>
                </a:lnTo>
                <a:lnTo>
                  <a:pt x="789" y="610"/>
                </a:lnTo>
                <a:lnTo>
                  <a:pt x="758" y="615"/>
                </a:lnTo>
                <a:lnTo>
                  <a:pt x="727" y="619"/>
                </a:lnTo>
                <a:lnTo>
                  <a:pt x="699" y="625"/>
                </a:lnTo>
                <a:lnTo>
                  <a:pt x="670" y="632"/>
                </a:lnTo>
                <a:lnTo>
                  <a:pt x="643" y="638"/>
                </a:lnTo>
                <a:lnTo>
                  <a:pt x="615" y="642"/>
                </a:lnTo>
                <a:lnTo>
                  <a:pt x="589" y="648"/>
                </a:lnTo>
                <a:lnTo>
                  <a:pt x="566" y="652"/>
                </a:lnTo>
                <a:lnTo>
                  <a:pt x="542" y="656"/>
                </a:lnTo>
                <a:lnTo>
                  <a:pt x="520" y="659"/>
                </a:lnTo>
                <a:lnTo>
                  <a:pt x="499" y="662"/>
                </a:lnTo>
                <a:lnTo>
                  <a:pt x="480" y="665"/>
                </a:lnTo>
                <a:lnTo>
                  <a:pt x="461" y="668"/>
                </a:lnTo>
                <a:lnTo>
                  <a:pt x="444" y="669"/>
                </a:lnTo>
                <a:lnTo>
                  <a:pt x="428" y="671"/>
                </a:lnTo>
                <a:lnTo>
                  <a:pt x="414" y="672"/>
                </a:lnTo>
                <a:lnTo>
                  <a:pt x="399" y="672"/>
                </a:lnTo>
                <a:lnTo>
                  <a:pt x="388" y="674"/>
                </a:lnTo>
                <a:lnTo>
                  <a:pt x="372" y="672"/>
                </a:lnTo>
                <a:lnTo>
                  <a:pt x="357" y="671"/>
                </a:lnTo>
                <a:lnTo>
                  <a:pt x="340" y="669"/>
                </a:lnTo>
                <a:lnTo>
                  <a:pt x="324" y="666"/>
                </a:lnTo>
                <a:lnTo>
                  <a:pt x="307" y="662"/>
                </a:lnTo>
                <a:lnTo>
                  <a:pt x="290" y="656"/>
                </a:lnTo>
                <a:lnTo>
                  <a:pt x="273" y="651"/>
                </a:lnTo>
                <a:lnTo>
                  <a:pt x="255" y="643"/>
                </a:lnTo>
                <a:lnTo>
                  <a:pt x="237" y="636"/>
                </a:lnTo>
                <a:lnTo>
                  <a:pt x="219" y="626"/>
                </a:lnTo>
                <a:lnTo>
                  <a:pt x="201" y="616"/>
                </a:lnTo>
                <a:lnTo>
                  <a:pt x="182" y="605"/>
                </a:lnTo>
                <a:lnTo>
                  <a:pt x="163" y="592"/>
                </a:lnTo>
                <a:lnTo>
                  <a:pt x="144" y="577"/>
                </a:lnTo>
                <a:lnTo>
                  <a:pt x="126" y="563"/>
                </a:lnTo>
                <a:lnTo>
                  <a:pt x="108" y="545"/>
                </a:lnTo>
                <a:lnTo>
                  <a:pt x="90" y="533"/>
                </a:lnTo>
                <a:lnTo>
                  <a:pt x="81" y="525"/>
                </a:lnTo>
                <a:lnTo>
                  <a:pt x="74" y="520"/>
                </a:lnTo>
                <a:lnTo>
                  <a:pt x="65" y="514"/>
                </a:lnTo>
                <a:lnTo>
                  <a:pt x="58" y="508"/>
                </a:lnTo>
                <a:lnTo>
                  <a:pt x="52" y="502"/>
                </a:lnTo>
                <a:lnTo>
                  <a:pt x="45" y="498"/>
                </a:lnTo>
                <a:lnTo>
                  <a:pt x="39" y="492"/>
                </a:lnTo>
                <a:lnTo>
                  <a:pt x="34" y="488"/>
                </a:lnTo>
                <a:lnTo>
                  <a:pt x="28" y="484"/>
                </a:lnTo>
                <a:lnTo>
                  <a:pt x="23" y="479"/>
                </a:lnTo>
                <a:lnTo>
                  <a:pt x="19" y="475"/>
                </a:lnTo>
                <a:lnTo>
                  <a:pt x="15" y="471"/>
                </a:lnTo>
                <a:lnTo>
                  <a:pt x="12" y="466"/>
                </a:lnTo>
                <a:lnTo>
                  <a:pt x="9" y="463"/>
                </a:lnTo>
                <a:lnTo>
                  <a:pt x="6" y="461"/>
                </a:lnTo>
                <a:lnTo>
                  <a:pt x="3" y="456"/>
                </a:lnTo>
                <a:lnTo>
                  <a:pt x="2" y="453"/>
                </a:lnTo>
                <a:lnTo>
                  <a:pt x="0" y="452"/>
                </a:lnTo>
                <a:lnTo>
                  <a:pt x="0" y="449"/>
                </a:lnTo>
                <a:lnTo>
                  <a:pt x="0" y="446"/>
                </a:lnTo>
                <a:lnTo>
                  <a:pt x="0" y="445"/>
                </a:lnTo>
                <a:lnTo>
                  <a:pt x="2" y="443"/>
                </a:lnTo>
                <a:lnTo>
                  <a:pt x="3" y="442"/>
                </a:lnTo>
                <a:lnTo>
                  <a:pt x="5" y="440"/>
                </a:lnTo>
                <a:lnTo>
                  <a:pt x="8" y="439"/>
                </a:lnTo>
                <a:lnTo>
                  <a:pt x="11" y="438"/>
                </a:lnTo>
                <a:lnTo>
                  <a:pt x="13" y="438"/>
                </a:lnTo>
                <a:lnTo>
                  <a:pt x="18" y="436"/>
                </a:lnTo>
                <a:lnTo>
                  <a:pt x="22" y="436"/>
                </a:lnTo>
                <a:lnTo>
                  <a:pt x="28" y="436"/>
                </a:lnTo>
                <a:lnTo>
                  <a:pt x="34" y="436"/>
                </a:lnTo>
                <a:lnTo>
                  <a:pt x="41" y="436"/>
                </a:lnTo>
                <a:lnTo>
                  <a:pt x="48" y="436"/>
                </a:lnTo>
                <a:lnTo>
                  <a:pt x="55" y="435"/>
                </a:lnTo>
                <a:lnTo>
                  <a:pt x="64" y="435"/>
                </a:lnTo>
                <a:lnTo>
                  <a:pt x="72" y="435"/>
                </a:lnTo>
                <a:lnTo>
                  <a:pt x="81" y="433"/>
                </a:lnTo>
                <a:lnTo>
                  <a:pt x="91" y="433"/>
                </a:lnTo>
                <a:lnTo>
                  <a:pt x="103" y="432"/>
                </a:lnTo>
                <a:lnTo>
                  <a:pt x="114" y="432"/>
                </a:lnTo>
                <a:lnTo>
                  <a:pt x="126" y="430"/>
                </a:lnTo>
                <a:lnTo>
                  <a:pt x="137" y="430"/>
                </a:lnTo>
                <a:lnTo>
                  <a:pt x="150" y="429"/>
                </a:lnTo>
                <a:lnTo>
                  <a:pt x="165" y="427"/>
                </a:lnTo>
                <a:lnTo>
                  <a:pt x="179" y="426"/>
                </a:lnTo>
                <a:lnTo>
                  <a:pt x="193" y="425"/>
                </a:lnTo>
                <a:lnTo>
                  <a:pt x="208" y="425"/>
                </a:lnTo>
                <a:lnTo>
                  <a:pt x="224" y="423"/>
                </a:lnTo>
                <a:lnTo>
                  <a:pt x="241" y="422"/>
                </a:lnTo>
                <a:lnTo>
                  <a:pt x="258" y="420"/>
                </a:lnTo>
                <a:lnTo>
                  <a:pt x="275" y="419"/>
                </a:lnTo>
                <a:lnTo>
                  <a:pt x="293" y="417"/>
                </a:lnTo>
                <a:lnTo>
                  <a:pt x="313" y="416"/>
                </a:lnTo>
                <a:lnTo>
                  <a:pt x="332" y="413"/>
                </a:lnTo>
                <a:lnTo>
                  <a:pt x="352" y="412"/>
                </a:lnTo>
                <a:lnTo>
                  <a:pt x="372" y="410"/>
                </a:lnTo>
                <a:lnTo>
                  <a:pt x="393" y="409"/>
                </a:lnTo>
                <a:lnTo>
                  <a:pt x="415" y="407"/>
                </a:lnTo>
                <a:lnTo>
                  <a:pt x="437" y="406"/>
                </a:lnTo>
                <a:lnTo>
                  <a:pt x="460" y="403"/>
                </a:lnTo>
                <a:lnTo>
                  <a:pt x="483" y="402"/>
                </a:lnTo>
                <a:lnTo>
                  <a:pt x="507" y="400"/>
                </a:lnTo>
                <a:lnTo>
                  <a:pt x="558" y="397"/>
                </a:lnTo>
                <a:lnTo>
                  <a:pt x="609" y="393"/>
                </a:lnTo>
                <a:lnTo>
                  <a:pt x="664" y="390"/>
                </a:lnTo>
                <a:lnTo>
                  <a:pt x="720" y="386"/>
                </a:lnTo>
                <a:lnTo>
                  <a:pt x="779" y="381"/>
                </a:lnTo>
                <a:lnTo>
                  <a:pt x="840" y="377"/>
                </a:lnTo>
                <a:lnTo>
                  <a:pt x="902" y="373"/>
                </a:lnTo>
                <a:lnTo>
                  <a:pt x="966" y="368"/>
                </a:lnTo>
                <a:lnTo>
                  <a:pt x="1034" y="363"/>
                </a:lnTo>
                <a:lnTo>
                  <a:pt x="1102" y="357"/>
                </a:lnTo>
                <a:lnTo>
                  <a:pt x="1172" y="351"/>
                </a:lnTo>
                <a:lnTo>
                  <a:pt x="1243" y="344"/>
                </a:lnTo>
                <a:lnTo>
                  <a:pt x="1316" y="337"/>
                </a:lnTo>
                <a:lnTo>
                  <a:pt x="1391" y="328"/>
                </a:lnTo>
                <a:lnTo>
                  <a:pt x="1467" y="319"/>
                </a:lnTo>
                <a:lnTo>
                  <a:pt x="1547" y="309"/>
                </a:lnTo>
                <a:lnTo>
                  <a:pt x="1860" y="268"/>
                </a:lnTo>
                <a:lnTo>
                  <a:pt x="2017" y="246"/>
                </a:lnTo>
                <a:lnTo>
                  <a:pt x="2173" y="223"/>
                </a:lnTo>
                <a:lnTo>
                  <a:pt x="2328" y="199"/>
                </a:lnTo>
                <a:lnTo>
                  <a:pt x="2481" y="171"/>
                </a:lnTo>
                <a:lnTo>
                  <a:pt x="2633" y="141"/>
                </a:lnTo>
                <a:lnTo>
                  <a:pt x="2708" y="125"/>
                </a:lnTo>
                <a:lnTo>
                  <a:pt x="2785" y="109"/>
                </a:lnTo>
                <a:lnTo>
                  <a:pt x="2819" y="102"/>
                </a:lnTo>
                <a:lnTo>
                  <a:pt x="2854" y="95"/>
                </a:lnTo>
                <a:lnTo>
                  <a:pt x="2888" y="89"/>
                </a:lnTo>
                <a:lnTo>
                  <a:pt x="2923" y="82"/>
                </a:lnTo>
                <a:lnTo>
                  <a:pt x="2956" y="76"/>
                </a:lnTo>
                <a:lnTo>
                  <a:pt x="2989" y="70"/>
                </a:lnTo>
                <a:lnTo>
                  <a:pt x="3022" y="66"/>
                </a:lnTo>
                <a:lnTo>
                  <a:pt x="3054" y="60"/>
                </a:lnTo>
                <a:lnTo>
                  <a:pt x="3085" y="55"/>
                </a:lnTo>
                <a:lnTo>
                  <a:pt x="3116" y="50"/>
                </a:lnTo>
                <a:lnTo>
                  <a:pt x="3147" y="46"/>
                </a:lnTo>
                <a:lnTo>
                  <a:pt x="3178" y="42"/>
                </a:lnTo>
                <a:lnTo>
                  <a:pt x="3206" y="37"/>
                </a:lnTo>
                <a:lnTo>
                  <a:pt x="3237" y="33"/>
                </a:lnTo>
                <a:lnTo>
                  <a:pt x="3265" y="30"/>
                </a:lnTo>
                <a:lnTo>
                  <a:pt x="3293" y="26"/>
                </a:lnTo>
                <a:lnTo>
                  <a:pt x="3322" y="23"/>
                </a:lnTo>
                <a:lnTo>
                  <a:pt x="3349" y="20"/>
                </a:lnTo>
                <a:lnTo>
                  <a:pt x="3376" y="17"/>
                </a:lnTo>
                <a:lnTo>
                  <a:pt x="3402" y="14"/>
                </a:lnTo>
                <a:lnTo>
                  <a:pt x="3428" y="11"/>
                </a:lnTo>
                <a:lnTo>
                  <a:pt x="3454" y="10"/>
                </a:lnTo>
                <a:lnTo>
                  <a:pt x="3478" y="7"/>
                </a:lnTo>
                <a:lnTo>
                  <a:pt x="3503" y="6"/>
                </a:lnTo>
                <a:lnTo>
                  <a:pt x="3527" y="4"/>
                </a:lnTo>
                <a:lnTo>
                  <a:pt x="3550" y="3"/>
                </a:lnTo>
                <a:lnTo>
                  <a:pt x="3573" y="1"/>
                </a:lnTo>
                <a:lnTo>
                  <a:pt x="3596" y="1"/>
                </a:lnTo>
                <a:lnTo>
                  <a:pt x="3620" y="0"/>
                </a:lnTo>
                <a:lnTo>
                  <a:pt x="3641" y="0"/>
                </a:lnTo>
                <a:lnTo>
                  <a:pt x="3663" y="0"/>
                </a:lnTo>
                <a:lnTo>
                  <a:pt x="3683" y="0"/>
                </a:lnTo>
                <a:lnTo>
                  <a:pt x="3703" y="0"/>
                </a:lnTo>
                <a:lnTo>
                  <a:pt x="3723" y="0"/>
                </a:lnTo>
                <a:lnTo>
                  <a:pt x="3742" y="0"/>
                </a:lnTo>
                <a:lnTo>
                  <a:pt x="3762" y="0"/>
                </a:lnTo>
                <a:lnTo>
                  <a:pt x="3779" y="0"/>
                </a:lnTo>
                <a:lnTo>
                  <a:pt x="3798" y="1"/>
                </a:lnTo>
                <a:lnTo>
                  <a:pt x="3815" y="1"/>
                </a:lnTo>
                <a:lnTo>
                  <a:pt x="3833" y="3"/>
                </a:lnTo>
                <a:lnTo>
                  <a:pt x="3850" y="3"/>
                </a:lnTo>
                <a:lnTo>
                  <a:pt x="3866" y="4"/>
                </a:lnTo>
                <a:lnTo>
                  <a:pt x="3882" y="4"/>
                </a:lnTo>
                <a:lnTo>
                  <a:pt x="3896" y="6"/>
                </a:lnTo>
                <a:lnTo>
                  <a:pt x="3910" y="7"/>
                </a:lnTo>
                <a:lnTo>
                  <a:pt x="3925" y="9"/>
                </a:lnTo>
                <a:lnTo>
                  <a:pt x="3939" y="10"/>
                </a:lnTo>
                <a:lnTo>
                  <a:pt x="3952" y="10"/>
                </a:lnTo>
                <a:lnTo>
                  <a:pt x="3965" y="11"/>
                </a:lnTo>
                <a:lnTo>
                  <a:pt x="3978" y="13"/>
                </a:lnTo>
                <a:lnTo>
                  <a:pt x="3989" y="14"/>
                </a:lnTo>
                <a:lnTo>
                  <a:pt x="4001" y="16"/>
                </a:lnTo>
                <a:lnTo>
                  <a:pt x="4013" y="17"/>
                </a:lnTo>
                <a:lnTo>
                  <a:pt x="4023" y="19"/>
                </a:lnTo>
                <a:lnTo>
                  <a:pt x="4033" y="20"/>
                </a:lnTo>
                <a:lnTo>
                  <a:pt x="4043" y="23"/>
                </a:lnTo>
                <a:lnTo>
                  <a:pt x="4051" y="24"/>
                </a:lnTo>
                <a:lnTo>
                  <a:pt x="4060" y="26"/>
                </a:lnTo>
                <a:lnTo>
                  <a:pt x="4069" y="27"/>
                </a:lnTo>
                <a:lnTo>
                  <a:pt x="4076" y="29"/>
                </a:lnTo>
                <a:lnTo>
                  <a:pt x="4083" y="30"/>
                </a:lnTo>
                <a:lnTo>
                  <a:pt x="4090" y="33"/>
                </a:lnTo>
                <a:lnTo>
                  <a:pt x="4096" y="34"/>
                </a:lnTo>
                <a:lnTo>
                  <a:pt x="4103" y="36"/>
                </a:lnTo>
                <a:lnTo>
                  <a:pt x="4125" y="50"/>
                </a:lnTo>
                <a:lnTo>
                  <a:pt x="4146" y="63"/>
                </a:lnTo>
                <a:lnTo>
                  <a:pt x="4168" y="78"/>
                </a:lnTo>
                <a:lnTo>
                  <a:pt x="4178" y="85"/>
                </a:lnTo>
                <a:lnTo>
                  <a:pt x="4187" y="93"/>
                </a:lnTo>
                <a:lnTo>
                  <a:pt x="4197" y="101"/>
                </a:lnTo>
                <a:lnTo>
                  <a:pt x="4205" y="109"/>
                </a:lnTo>
                <a:lnTo>
                  <a:pt x="4213" y="116"/>
                </a:lnTo>
                <a:lnTo>
                  <a:pt x="4220" y="125"/>
                </a:lnTo>
                <a:lnTo>
                  <a:pt x="4227" y="134"/>
                </a:lnTo>
                <a:lnTo>
                  <a:pt x="4233" y="144"/>
                </a:lnTo>
                <a:lnTo>
                  <a:pt x="4239" y="154"/>
                </a:lnTo>
                <a:lnTo>
                  <a:pt x="4243" y="164"/>
                </a:lnTo>
                <a:lnTo>
                  <a:pt x="4246" y="173"/>
                </a:lnTo>
                <a:lnTo>
                  <a:pt x="4247" y="183"/>
                </a:lnTo>
                <a:lnTo>
                  <a:pt x="4247" y="190"/>
                </a:lnTo>
                <a:lnTo>
                  <a:pt x="4246" y="199"/>
                </a:lnTo>
                <a:lnTo>
                  <a:pt x="4244" y="204"/>
                </a:lnTo>
                <a:lnTo>
                  <a:pt x="4240" y="212"/>
                </a:lnTo>
                <a:lnTo>
                  <a:pt x="4236" y="217"/>
                </a:lnTo>
                <a:lnTo>
                  <a:pt x="4230" y="223"/>
                </a:lnTo>
                <a:lnTo>
                  <a:pt x="4223" y="227"/>
                </a:lnTo>
                <a:lnTo>
                  <a:pt x="4214" y="232"/>
                </a:lnTo>
                <a:lnTo>
                  <a:pt x="4204" y="236"/>
                </a:lnTo>
                <a:lnTo>
                  <a:pt x="4194" y="240"/>
                </a:lnTo>
                <a:lnTo>
                  <a:pt x="4182" y="243"/>
                </a:lnTo>
                <a:lnTo>
                  <a:pt x="4169" y="247"/>
                </a:lnTo>
                <a:lnTo>
                  <a:pt x="4156" y="250"/>
                </a:lnTo>
                <a:lnTo>
                  <a:pt x="4142" y="255"/>
                </a:lnTo>
                <a:lnTo>
                  <a:pt x="4132" y="256"/>
                </a:lnTo>
                <a:lnTo>
                  <a:pt x="4122" y="258"/>
                </a:lnTo>
                <a:lnTo>
                  <a:pt x="4110" y="259"/>
                </a:lnTo>
                <a:lnTo>
                  <a:pt x="4099" y="260"/>
                </a:lnTo>
                <a:lnTo>
                  <a:pt x="4086" y="263"/>
                </a:lnTo>
                <a:lnTo>
                  <a:pt x="4073" y="265"/>
                </a:lnTo>
                <a:lnTo>
                  <a:pt x="4059" y="266"/>
                </a:lnTo>
                <a:lnTo>
                  <a:pt x="4044" y="268"/>
                </a:lnTo>
                <a:lnTo>
                  <a:pt x="4028" y="269"/>
                </a:lnTo>
                <a:lnTo>
                  <a:pt x="4013" y="271"/>
                </a:lnTo>
                <a:lnTo>
                  <a:pt x="3995" y="272"/>
                </a:lnTo>
                <a:lnTo>
                  <a:pt x="3977" y="273"/>
                </a:lnTo>
                <a:lnTo>
                  <a:pt x="3958" y="275"/>
                </a:lnTo>
                <a:lnTo>
                  <a:pt x="3939" y="276"/>
                </a:lnTo>
                <a:lnTo>
                  <a:pt x="3919" y="278"/>
                </a:lnTo>
                <a:lnTo>
                  <a:pt x="3897" y="279"/>
                </a:lnTo>
                <a:lnTo>
                  <a:pt x="3876" y="281"/>
                </a:lnTo>
                <a:lnTo>
                  <a:pt x="3853" y="282"/>
                </a:lnTo>
                <a:lnTo>
                  <a:pt x="3830" y="283"/>
                </a:lnTo>
                <a:lnTo>
                  <a:pt x="3805" y="283"/>
                </a:lnTo>
                <a:lnTo>
                  <a:pt x="3779" y="285"/>
                </a:lnTo>
                <a:lnTo>
                  <a:pt x="3753" y="286"/>
                </a:lnTo>
                <a:lnTo>
                  <a:pt x="3726" y="286"/>
                </a:lnTo>
                <a:lnTo>
                  <a:pt x="3699" y="288"/>
                </a:lnTo>
                <a:lnTo>
                  <a:pt x="3670" y="288"/>
                </a:lnTo>
                <a:lnTo>
                  <a:pt x="3640" y="289"/>
                </a:lnTo>
                <a:lnTo>
                  <a:pt x="3609" y="289"/>
                </a:lnTo>
                <a:lnTo>
                  <a:pt x="3578" y="289"/>
                </a:lnTo>
                <a:lnTo>
                  <a:pt x="3546" y="291"/>
                </a:lnTo>
                <a:lnTo>
                  <a:pt x="3513" y="291"/>
                </a:lnTo>
                <a:lnTo>
                  <a:pt x="3478" y="291"/>
                </a:lnTo>
                <a:lnTo>
                  <a:pt x="3444" y="291"/>
                </a:lnTo>
                <a:lnTo>
                  <a:pt x="3408" y="291"/>
                </a:lnTo>
                <a:lnTo>
                  <a:pt x="3373" y="291"/>
                </a:lnTo>
                <a:lnTo>
                  <a:pt x="3340" y="291"/>
                </a:lnTo>
                <a:lnTo>
                  <a:pt x="3307" y="291"/>
                </a:lnTo>
                <a:lnTo>
                  <a:pt x="3275" y="291"/>
                </a:lnTo>
                <a:lnTo>
                  <a:pt x="3244" y="291"/>
                </a:lnTo>
                <a:lnTo>
                  <a:pt x="3214" y="291"/>
                </a:lnTo>
                <a:lnTo>
                  <a:pt x="3185" y="291"/>
                </a:lnTo>
                <a:lnTo>
                  <a:pt x="3156" y="291"/>
                </a:lnTo>
                <a:lnTo>
                  <a:pt x="3127" y="291"/>
                </a:lnTo>
                <a:lnTo>
                  <a:pt x="3100" y="291"/>
                </a:lnTo>
                <a:lnTo>
                  <a:pt x="3074" y="292"/>
                </a:lnTo>
                <a:lnTo>
                  <a:pt x="3048" y="292"/>
                </a:lnTo>
                <a:lnTo>
                  <a:pt x="3022" y="292"/>
                </a:lnTo>
                <a:lnTo>
                  <a:pt x="2998" y="292"/>
                </a:lnTo>
                <a:lnTo>
                  <a:pt x="2975" y="292"/>
                </a:lnTo>
                <a:lnTo>
                  <a:pt x="2952" y="294"/>
                </a:lnTo>
                <a:lnTo>
                  <a:pt x="2929" y="294"/>
                </a:lnTo>
                <a:lnTo>
                  <a:pt x="2907" y="294"/>
                </a:lnTo>
                <a:lnTo>
                  <a:pt x="2885" y="295"/>
                </a:lnTo>
                <a:lnTo>
                  <a:pt x="2865" y="295"/>
                </a:lnTo>
                <a:lnTo>
                  <a:pt x="2846" y="296"/>
                </a:lnTo>
                <a:lnTo>
                  <a:pt x="2826" y="296"/>
                </a:lnTo>
                <a:lnTo>
                  <a:pt x="2809" y="298"/>
                </a:lnTo>
                <a:lnTo>
                  <a:pt x="2790" y="299"/>
                </a:lnTo>
                <a:lnTo>
                  <a:pt x="2775" y="301"/>
                </a:lnTo>
                <a:lnTo>
                  <a:pt x="2757" y="301"/>
                </a:lnTo>
                <a:lnTo>
                  <a:pt x="2741" y="302"/>
                </a:lnTo>
                <a:lnTo>
                  <a:pt x="2727" y="304"/>
                </a:lnTo>
                <a:lnTo>
                  <a:pt x="2713" y="305"/>
                </a:lnTo>
                <a:lnTo>
                  <a:pt x="2698" y="307"/>
                </a:lnTo>
                <a:lnTo>
                  <a:pt x="2685" y="309"/>
                </a:lnTo>
                <a:lnTo>
                  <a:pt x="2658" y="312"/>
                </a:lnTo>
                <a:lnTo>
                  <a:pt x="2631" y="317"/>
                </a:lnTo>
                <a:lnTo>
                  <a:pt x="2602" y="321"/>
                </a:lnTo>
                <a:lnTo>
                  <a:pt x="2572" y="325"/>
                </a:lnTo>
                <a:lnTo>
                  <a:pt x="2541" y="331"/>
                </a:lnTo>
                <a:lnTo>
                  <a:pt x="2510" y="335"/>
                </a:lnTo>
                <a:lnTo>
                  <a:pt x="2478" y="341"/>
                </a:lnTo>
                <a:lnTo>
                  <a:pt x="2445" y="347"/>
                </a:lnTo>
                <a:lnTo>
                  <a:pt x="2410" y="354"/>
                </a:lnTo>
                <a:lnTo>
                  <a:pt x="2376" y="360"/>
                </a:lnTo>
                <a:lnTo>
                  <a:pt x="2340" y="366"/>
                </a:lnTo>
                <a:lnTo>
                  <a:pt x="2302" y="373"/>
                </a:lnTo>
                <a:lnTo>
                  <a:pt x="2265" y="380"/>
                </a:lnTo>
                <a:lnTo>
                  <a:pt x="2226" y="386"/>
                </a:lnTo>
                <a:lnTo>
                  <a:pt x="2186" y="393"/>
                </a:lnTo>
                <a:lnTo>
                  <a:pt x="2145" y="4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79"/>
          <p:cNvSpPr/>
          <p:nvPr/>
        </p:nvSpPr>
        <p:spPr>
          <a:xfrm>
            <a:off x="5603760" y="2940120"/>
            <a:ext cx="1733760" cy="1539720"/>
          </a:xfrm>
          <a:custGeom>
            <a:avLst/>
            <a:gdLst/>
            <a:ahLst/>
            <a:rect l="l" t="t" r="r" b="b"/>
            <a:pathLst>
              <a:path w="3278" h="2908">
                <a:moveTo>
                  <a:pt x="2758" y="481"/>
                </a:moveTo>
                <a:lnTo>
                  <a:pt x="2771" y="462"/>
                </a:lnTo>
                <a:lnTo>
                  <a:pt x="2783" y="444"/>
                </a:lnTo>
                <a:lnTo>
                  <a:pt x="2794" y="426"/>
                </a:lnTo>
                <a:lnTo>
                  <a:pt x="2806" y="409"/>
                </a:lnTo>
                <a:lnTo>
                  <a:pt x="2816" y="392"/>
                </a:lnTo>
                <a:lnTo>
                  <a:pt x="2826" y="376"/>
                </a:lnTo>
                <a:lnTo>
                  <a:pt x="2836" y="360"/>
                </a:lnTo>
                <a:lnTo>
                  <a:pt x="2844" y="344"/>
                </a:lnTo>
                <a:lnTo>
                  <a:pt x="2853" y="328"/>
                </a:lnTo>
                <a:lnTo>
                  <a:pt x="2860" y="314"/>
                </a:lnTo>
                <a:lnTo>
                  <a:pt x="2868" y="300"/>
                </a:lnTo>
                <a:lnTo>
                  <a:pt x="2875" y="287"/>
                </a:lnTo>
                <a:lnTo>
                  <a:pt x="2880" y="272"/>
                </a:lnTo>
                <a:lnTo>
                  <a:pt x="2886" y="259"/>
                </a:lnTo>
                <a:lnTo>
                  <a:pt x="2892" y="246"/>
                </a:lnTo>
                <a:lnTo>
                  <a:pt x="2898" y="235"/>
                </a:lnTo>
                <a:lnTo>
                  <a:pt x="2902" y="223"/>
                </a:lnTo>
                <a:lnTo>
                  <a:pt x="2905" y="212"/>
                </a:lnTo>
                <a:lnTo>
                  <a:pt x="2909" y="202"/>
                </a:lnTo>
                <a:lnTo>
                  <a:pt x="2912" y="190"/>
                </a:lnTo>
                <a:lnTo>
                  <a:pt x="2915" y="180"/>
                </a:lnTo>
                <a:lnTo>
                  <a:pt x="2918" y="171"/>
                </a:lnTo>
                <a:lnTo>
                  <a:pt x="2919" y="161"/>
                </a:lnTo>
                <a:lnTo>
                  <a:pt x="2921" y="153"/>
                </a:lnTo>
                <a:lnTo>
                  <a:pt x="2922" y="146"/>
                </a:lnTo>
                <a:lnTo>
                  <a:pt x="2922" y="137"/>
                </a:lnTo>
                <a:lnTo>
                  <a:pt x="2922" y="130"/>
                </a:lnTo>
                <a:lnTo>
                  <a:pt x="2922" y="122"/>
                </a:lnTo>
                <a:lnTo>
                  <a:pt x="2922" y="117"/>
                </a:lnTo>
                <a:lnTo>
                  <a:pt x="2921" y="110"/>
                </a:lnTo>
                <a:lnTo>
                  <a:pt x="2919" y="104"/>
                </a:lnTo>
                <a:lnTo>
                  <a:pt x="2918" y="99"/>
                </a:lnTo>
                <a:lnTo>
                  <a:pt x="2915" y="92"/>
                </a:lnTo>
                <a:lnTo>
                  <a:pt x="2912" y="85"/>
                </a:lnTo>
                <a:lnTo>
                  <a:pt x="2909" y="78"/>
                </a:lnTo>
                <a:lnTo>
                  <a:pt x="2906" y="72"/>
                </a:lnTo>
                <a:lnTo>
                  <a:pt x="2905" y="65"/>
                </a:lnTo>
                <a:lnTo>
                  <a:pt x="2905" y="59"/>
                </a:lnTo>
                <a:lnTo>
                  <a:pt x="2904" y="52"/>
                </a:lnTo>
                <a:lnTo>
                  <a:pt x="2904" y="46"/>
                </a:lnTo>
                <a:lnTo>
                  <a:pt x="2904" y="40"/>
                </a:lnTo>
                <a:lnTo>
                  <a:pt x="2905" y="35"/>
                </a:lnTo>
                <a:lnTo>
                  <a:pt x="2905" y="30"/>
                </a:lnTo>
                <a:lnTo>
                  <a:pt x="2906" y="25"/>
                </a:lnTo>
                <a:lnTo>
                  <a:pt x="2909" y="20"/>
                </a:lnTo>
                <a:lnTo>
                  <a:pt x="2912" y="16"/>
                </a:lnTo>
                <a:lnTo>
                  <a:pt x="2915" y="12"/>
                </a:lnTo>
                <a:lnTo>
                  <a:pt x="2918" y="9"/>
                </a:lnTo>
                <a:lnTo>
                  <a:pt x="2922" y="4"/>
                </a:lnTo>
                <a:lnTo>
                  <a:pt x="2927" y="3"/>
                </a:lnTo>
                <a:lnTo>
                  <a:pt x="2931" y="2"/>
                </a:lnTo>
                <a:lnTo>
                  <a:pt x="2937" y="0"/>
                </a:lnTo>
                <a:lnTo>
                  <a:pt x="2942" y="0"/>
                </a:lnTo>
                <a:lnTo>
                  <a:pt x="2950" y="0"/>
                </a:lnTo>
                <a:lnTo>
                  <a:pt x="2955" y="2"/>
                </a:lnTo>
                <a:lnTo>
                  <a:pt x="2963" y="3"/>
                </a:lnTo>
                <a:lnTo>
                  <a:pt x="2971" y="4"/>
                </a:lnTo>
                <a:lnTo>
                  <a:pt x="2978" y="7"/>
                </a:lnTo>
                <a:lnTo>
                  <a:pt x="2987" y="10"/>
                </a:lnTo>
                <a:lnTo>
                  <a:pt x="2997" y="13"/>
                </a:lnTo>
                <a:lnTo>
                  <a:pt x="3006" y="16"/>
                </a:lnTo>
                <a:lnTo>
                  <a:pt x="3016" y="19"/>
                </a:lnTo>
                <a:lnTo>
                  <a:pt x="3027" y="23"/>
                </a:lnTo>
                <a:lnTo>
                  <a:pt x="3039" y="26"/>
                </a:lnTo>
                <a:lnTo>
                  <a:pt x="3049" y="30"/>
                </a:lnTo>
                <a:lnTo>
                  <a:pt x="3060" y="33"/>
                </a:lnTo>
                <a:lnTo>
                  <a:pt x="3081" y="43"/>
                </a:lnTo>
                <a:lnTo>
                  <a:pt x="3099" y="53"/>
                </a:lnTo>
                <a:lnTo>
                  <a:pt x="3118" y="65"/>
                </a:lnTo>
                <a:lnTo>
                  <a:pt x="3137" y="76"/>
                </a:lnTo>
                <a:lnTo>
                  <a:pt x="3155" y="89"/>
                </a:lnTo>
                <a:lnTo>
                  <a:pt x="3176" y="104"/>
                </a:lnTo>
                <a:lnTo>
                  <a:pt x="3186" y="111"/>
                </a:lnTo>
                <a:lnTo>
                  <a:pt x="3197" y="118"/>
                </a:lnTo>
                <a:lnTo>
                  <a:pt x="3207" y="127"/>
                </a:lnTo>
                <a:lnTo>
                  <a:pt x="3217" y="137"/>
                </a:lnTo>
                <a:lnTo>
                  <a:pt x="3227" y="147"/>
                </a:lnTo>
                <a:lnTo>
                  <a:pt x="3235" y="156"/>
                </a:lnTo>
                <a:lnTo>
                  <a:pt x="3242" y="164"/>
                </a:lnTo>
                <a:lnTo>
                  <a:pt x="3249" y="171"/>
                </a:lnTo>
                <a:lnTo>
                  <a:pt x="3255" y="180"/>
                </a:lnTo>
                <a:lnTo>
                  <a:pt x="3259" y="187"/>
                </a:lnTo>
                <a:lnTo>
                  <a:pt x="3263" y="196"/>
                </a:lnTo>
                <a:lnTo>
                  <a:pt x="3268" y="203"/>
                </a:lnTo>
                <a:lnTo>
                  <a:pt x="3271" y="210"/>
                </a:lnTo>
                <a:lnTo>
                  <a:pt x="3273" y="217"/>
                </a:lnTo>
                <a:lnTo>
                  <a:pt x="3275" y="225"/>
                </a:lnTo>
                <a:lnTo>
                  <a:pt x="3276" y="230"/>
                </a:lnTo>
                <a:lnTo>
                  <a:pt x="3276" y="238"/>
                </a:lnTo>
                <a:lnTo>
                  <a:pt x="3278" y="245"/>
                </a:lnTo>
                <a:lnTo>
                  <a:pt x="3276" y="249"/>
                </a:lnTo>
                <a:lnTo>
                  <a:pt x="3276" y="252"/>
                </a:lnTo>
                <a:lnTo>
                  <a:pt x="3275" y="256"/>
                </a:lnTo>
                <a:lnTo>
                  <a:pt x="3273" y="262"/>
                </a:lnTo>
                <a:lnTo>
                  <a:pt x="3271" y="266"/>
                </a:lnTo>
                <a:lnTo>
                  <a:pt x="3268" y="272"/>
                </a:lnTo>
                <a:lnTo>
                  <a:pt x="3265" y="279"/>
                </a:lnTo>
                <a:lnTo>
                  <a:pt x="3262" y="285"/>
                </a:lnTo>
                <a:lnTo>
                  <a:pt x="3258" y="292"/>
                </a:lnTo>
                <a:lnTo>
                  <a:pt x="3253" y="300"/>
                </a:lnTo>
                <a:lnTo>
                  <a:pt x="3248" y="308"/>
                </a:lnTo>
                <a:lnTo>
                  <a:pt x="3242" y="317"/>
                </a:lnTo>
                <a:lnTo>
                  <a:pt x="3236" y="325"/>
                </a:lnTo>
                <a:lnTo>
                  <a:pt x="3229" y="336"/>
                </a:lnTo>
                <a:lnTo>
                  <a:pt x="3222" y="346"/>
                </a:lnTo>
                <a:lnTo>
                  <a:pt x="3214" y="356"/>
                </a:lnTo>
                <a:lnTo>
                  <a:pt x="3206" y="366"/>
                </a:lnTo>
                <a:lnTo>
                  <a:pt x="3197" y="377"/>
                </a:lnTo>
                <a:lnTo>
                  <a:pt x="3189" y="389"/>
                </a:lnTo>
                <a:lnTo>
                  <a:pt x="3178" y="402"/>
                </a:lnTo>
                <a:lnTo>
                  <a:pt x="3168" y="415"/>
                </a:lnTo>
                <a:lnTo>
                  <a:pt x="3157" y="428"/>
                </a:lnTo>
                <a:lnTo>
                  <a:pt x="3145" y="442"/>
                </a:lnTo>
                <a:lnTo>
                  <a:pt x="3134" y="456"/>
                </a:lnTo>
                <a:lnTo>
                  <a:pt x="3121" y="471"/>
                </a:lnTo>
                <a:lnTo>
                  <a:pt x="3108" y="487"/>
                </a:lnTo>
                <a:lnTo>
                  <a:pt x="3095" y="503"/>
                </a:lnTo>
                <a:lnTo>
                  <a:pt x="3081" y="518"/>
                </a:lnTo>
                <a:lnTo>
                  <a:pt x="3065" y="536"/>
                </a:lnTo>
                <a:lnTo>
                  <a:pt x="3050" y="553"/>
                </a:lnTo>
                <a:lnTo>
                  <a:pt x="3035" y="572"/>
                </a:lnTo>
                <a:lnTo>
                  <a:pt x="3019" y="590"/>
                </a:lnTo>
                <a:lnTo>
                  <a:pt x="2984" y="629"/>
                </a:lnTo>
                <a:lnTo>
                  <a:pt x="2950" y="668"/>
                </a:lnTo>
                <a:lnTo>
                  <a:pt x="2914" y="707"/>
                </a:lnTo>
                <a:lnTo>
                  <a:pt x="2876" y="747"/>
                </a:lnTo>
                <a:lnTo>
                  <a:pt x="2839" y="789"/>
                </a:lnTo>
                <a:lnTo>
                  <a:pt x="2798" y="831"/>
                </a:lnTo>
                <a:lnTo>
                  <a:pt x="2760" y="873"/>
                </a:lnTo>
                <a:lnTo>
                  <a:pt x="2718" y="916"/>
                </a:lnTo>
                <a:lnTo>
                  <a:pt x="2676" y="959"/>
                </a:lnTo>
                <a:lnTo>
                  <a:pt x="2633" y="1004"/>
                </a:lnTo>
                <a:lnTo>
                  <a:pt x="2590" y="1048"/>
                </a:lnTo>
                <a:lnTo>
                  <a:pt x="2545" y="1094"/>
                </a:lnTo>
                <a:lnTo>
                  <a:pt x="2499" y="1140"/>
                </a:lnTo>
                <a:lnTo>
                  <a:pt x="2453" y="1188"/>
                </a:lnTo>
                <a:lnTo>
                  <a:pt x="2407" y="1235"/>
                </a:lnTo>
                <a:lnTo>
                  <a:pt x="2359" y="1283"/>
                </a:lnTo>
                <a:lnTo>
                  <a:pt x="2306" y="1332"/>
                </a:lnTo>
                <a:lnTo>
                  <a:pt x="2251" y="1381"/>
                </a:lnTo>
                <a:lnTo>
                  <a:pt x="2194" y="1431"/>
                </a:lnTo>
                <a:lnTo>
                  <a:pt x="2135" y="1481"/>
                </a:lnTo>
                <a:lnTo>
                  <a:pt x="2074" y="1532"/>
                </a:lnTo>
                <a:lnTo>
                  <a:pt x="2012" y="1584"/>
                </a:lnTo>
                <a:lnTo>
                  <a:pt x="1948" y="1637"/>
                </a:lnTo>
                <a:lnTo>
                  <a:pt x="1881" y="1690"/>
                </a:lnTo>
                <a:lnTo>
                  <a:pt x="1814" y="1743"/>
                </a:lnTo>
                <a:lnTo>
                  <a:pt x="1745" y="1798"/>
                </a:lnTo>
                <a:lnTo>
                  <a:pt x="1674" y="1853"/>
                </a:lnTo>
                <a:lnTo>
                  <a:pt x="1602" y="1909"/>
                </a:lnTo>
                <a:lnTo>
                  <a:pt x="1529" y="1965"/>
                </a:lnTo>
                <a:lnTo>
                  <a:pt x="1454" y="2023"/>
                </a:lnTo>
                <a:lnTo>
                  <a:pt x="1378" y="2080"/>
                </a:lnTo>
                <a:lnTo>
                  <a:pt x="1301" y="2139"/>
                </a:lnTo>
                <a:lnTo>
                  <a:pt x="1260" y="2168"/>
                </a:lnTo>
                <a:lnTo>
                  <a:pt x="1221" y="2197"/>
                </a:lnTo>
                <a:lnTo>
                  <a:pt x="1180" y="2224"/>
                </a:lnTo>
                <a:lnTo>
                  <a:pt x="1141" y="2252"/>
                </a:lnTo>
                <a:lnTo>
                  <a:pt x="1104" y="2279"/>
                </a:lnTo>
                <a:lnTo>
                  <a:pt x="1067" y="2305"/>
                </a:lnTo>
                <a:lnTo>
                  <a:pt x="1031" y="2329"/>
                </a:lnTo>
                <a:lnTo>
                  <a:pt x="995" y="2355"/>
                </a:lnTo>
                <a:lnTo>
                  <a:pt x="959" y="2380"/>
                </a:lnTo>
                <a:lnTo>
                  <a:pt x="924" y="2403"/>
                </a:lnTo>
                <a:lnTo>
                  <a:pt x="891" y="2426"/>
                </a:lnTo>
                <a:lnTo>
                  <a:pt x="858" y="2449"/>
                </a:lnTo>
                <a:lnTo>
                  <a:pt x="825" y="2470"/>
                </a:lnTo>
                <a:lnTo>
                  <a:pt x="793" y="2492"/>
                </a:lnTo>
                <a:lnTo>
                  <a:pt x="763" y="2514"/>
                </a:lnTo>
                <a:lnTo>
                  <a:pt x="731" y="2534"/>
                </a:lnTo>
                <a:lnTo>
                  <a:pt x="702" y="2553"/>
                </a:lnTo>
                <a:lnTo>
                  <a:pt x="674" y="2571"/>
                </a:lnTo>
                <a:lnTo>
                  <a:pt x="645" y="2590"/>
                </a:lnTo>
                <a:lnTo>
                  <a:pt x="617" y="2609"/>
                </a:lnTo>
                <a:lnTo>
                  <a:pt x="590" y="2626"/>
                </a:lnTo>
                <a:lnTo>
                  <a:pt x="564" y="2642"/>
                </a:lnTo>
                <a:lnTo>
                  <a:pt x="538" y="2658"/>
                </a:lnTo>
                <a:lnTo>
                  <a:pt x="514" y="2673"/>
                </a:lnTo>
                <a:lnTo>
                  <a:pt x="489" y="2688"/>
                </a:lnTo>
                <a:lnTo>
                  <a:pt x="466" y="2702"/>
                </a:lnTo>
                <a:lnTo>
                  <a:pt x="445" y="2717"/>
                </a:lnTo>
                <a:lnTo>
                  <a:pt x="422" y="2730"/>
                </a:lnTo>
                <a:lnTo>
                  <a:pt x="402" y="2743"/>
                </a:lnTo>
                <a:lnTo>
                  <a:pt x="380" y="2754"/>
                </a:lnTo>
                <a:lnTo>
                  <a:pt x="361" y="2766"/>
                </a:lnTo>
                <a:lnTo>
                  <a:pt x="343" y="2776"/>
                </a:lnTo>
                <a:lnTo>
                  <a:pt x="322" y="2786"/>
                </a:lnTo>
                <a:lnTo>
                  <a:pt x="302" y="2796"/>
                </a:lnTo>
                <a:lnTo>
                  <a:pt x="284" y="2804"/>
                </a:lnTo>
                <a:lnTo>
                  <a:pt x="265" y="2813"/>
                </a:lnTo>
                <a:lnTo>
                  <a:pt x="248" y="2822"/>
                </a:lnTo>
                <a:lnTo>
                  <a:pt x="230" y="2830"/>
                </a:lnTo>
                <a:lnTo>
                  <a:pt x="214" y="2838"/>
                </a:lnTo>
                <a:lnTo>
                  <a:pt x="199" y="2845"/>
                </a:lnTo>
                <a:lnTo>
                  <a:pt x="184" y="2852"/>
                </a:lnTo>
                <a:lnTo>
                  <a:pt x="170" y="2858"/>
                </a:lnTo>
                <a:lnTo>
                  <a:pt x="157" y="2863"/>
                </a:lnTo>
                <a:lnTo>
                  <a:pt x="144" y="2869"/>
                </a:lnTo>
                <a:lnTo>
                  <a:pt x="131" y="2875"/>
                </a:lnTo>
                <a:lnTo>
                  <a:pt x="119" y="2879"/>
                </a:lnTo>
                <a:lnTo>
                  <a:pt x="108" y="2884"/>
                </a:lnTo>
                <a:lnTo>
                  <a:pt x="98" y="2888"/>
                </a:lnTo>
                <a:lnTo>
                  <a:pt x="88" y="2892"/>
                </a:lnTo>
                <a:lnTo>
                  <a:pt x="78" y="2895"/>
                </a:lnTo>
                <a:lnTo>
                  <a:pt x="69" y="2898"/>
                </a:lnTo>
                <a:lnTo>
                  <a:pt x="60" y="2901"/>
                </a:lnTo>
                <a:lnTo>
                  <a:pt x="53" y="2902"/>
                </a:lnTo>
                <a:lnTo>
                  <a:pt x="46" y="2904"/>
                </a:lnTo>
                <a:lnTo>
                  <a:pt x="39" y="2905"/>
                </a:lnTo>
                <a:lnTo>
                  <a:pt x="33" y="2907"/>
                </a:lnTo>
                <a:lnTo>
                  <a:pt x="27" y="2908"/>
                </a:lnTo>
                <a:lnTo>
                  <a:pt x="22" y="2908"/>
                </a:lnTo>
                <a:lnTo>
                  <a:pt x="17" y="2908"/>
                </a:lnTo>
                <a:lnTo>
                  <a:pt x="13" y="2908"/>
                </a:lnTo>
                <a:lnTo>
                  <a:pt x="10" y="2907"/>
                </a:lnTo>
                <a:lnTo>
                  <a:pt x="7" y="2907"/>
                </a:lnTo>
                <a:lnTo>
                  <a:pt x="4" y="2905"/>
                </a:lnTo>
                <a:lnTo>
                  <a:pt x="3" y="2904"/>
                </a:lnTo>
                <a:lnTo>
                  <a:pt x="1" y="2901"/>
                </a:lnTo>
                <a:lnTo>
                  <a:pt x="0" y="2898"/>
                </a:lnTo>
                <a:lnTo>
                  <a:pt x="1" y="2895"/>
                </a:lnTo>
                <a:lnTo>
                  <a:pt x="3" y="2892"/>
                </a:lnTo>
                <a:lnTo>
                  <a:pt x="4" y="2888"/>
                </a:lnTo>
                <a:lnTo>
                  <a:pt x="9" y="2884"/>
                </a:lnTo>
                <a:lnTo>
                  <a:pt x="13" y="2878"/>
                </a:lnTo>
                <a:lnTo>
                  <a:pt x="17" y="2874"/>
                </a:lnTo>
                <a:lnTo>
                  <a:pt x="24" y="2866"/>
                </a:lnTo>
                <a:lnTo>
                  <a:pt x="30" y="2861"/>
                </a:lnTo>
                <a:lnTo>
                  <a:pt x="39" y="2853"/>
                </a:lnTo>
                <a:lnTo>
                  <a:pt x="47" y="2845"/>
                </a:lnTo>
                <a:lnTo>
                  <a:pt x="57" y="2836"/>
                </a:lnTo>
                <a:lnTo>
                  <a:pt x="69" y="2827"/>
                </a:lnTo>
                <a:lnTo>
                  <a:pt x="81" y="2819"/>
                </a:lnTo>
                <a:lnTo>
                  <a:pt x="93" y="2809"/>
                </a:lnTo>
                <a:lnTo>
                  <a:pt x="106" y="2799"/>
                </a:lnTo>
                <a:lnTo>
                  <a:pt x="121" y="2787"/>
                </a:lnTo>
                <a:lnTo>
                  <a:pt x="137" y="2776"/>
                </a:lnTo>
                <a:lnTo>
                  <a:pt x="153" y="2764"/>
                </a:lnTo>
                <a:lnTo>
                  <a:pt x="170" y="2751"/>
                </a:lnTo>
                <a:lnTo>
                  <a:pt x="188" y="2738"/>
                </a:lnTo>
                <a:lnTo>
                  <a:pt x="207" y="2724"/>
                </a:lnTo>
                <a:lnTo>
                  <a:pt x="227" y="2709"/>
                </a:lnTo>
                <a:lnTo>
                  <a:pt x="249" y="2695"/>
                </a:lnTo>
                <a:lnTo>
                  <a:pt x="271" y="2679"/>
                </a:lnTo>
                <a:lnTo>
                  <a:pt x="294" y="2663"/>
                </a:lnTo>
                <a:lnTo>
                  <a:pt x="318" y="2648"/>
                </a:lnTo>
                <a:lnTo>
                  <a:pt x="343" y="2630"/>
                </a:lnTo>
                <a:lnTo>
                  <a:pt x="367" y="2613"/>
                </a:lnTo>
                <a:lnTo>
                  <a:pt x="394" y="2594"/>
                </a:lnTo>
                <a:lnTo>
                  <a:pt x="422" y="2576"/>
                </a:lnTo>
                <a:lnTo>
                  <a:pt x="474" y="2537"/>
                </a:lnTo>
                <a:lnTo>
                  <a:pt x="527" y="2499"/>
                </a:lnTo>
                <a:lnTo>
                  <a:pt x="580" y="2460"/>
                </a:lnTo>
                <a:lnTo>
                  <a:pt x="635" y="2422"/>
                </a:lnTo>
                <a:lnTo>
                  <a:pt x="689" y="2381"/>
                </a:lnTo>
                <a:lnTo>
                  <a:pt x="744" y="2342"/>
                </a:lnTo>
                <a:lnTo>
                  <a:pt x="799" y="2302"/>
                </a:lnTo>
                <a:lnTo>
                  <a:pt x="854" y="2262"/>
                </a:lnTo>
                <a:lnTo>
                  <a:pt x="910" y="2220"/>
                </a:lnTo>
                <a:lnTo>
                  <a:pt x="964" y="2180"/>
                </a:lnTo>
                <a:lnTo>
                  <a:pt x="1021" y="2138"/>
                </a:lnTo>
                <a:lnTo>
                  <a:pt x="1077" y="2095"/>
                </a:lnTo>
                <a:lnTo>
                  <a:pt x="1133" y="2052"/>
                </a:lnTo>
                <a:lnTo>
                  <a:pt x="1189" y="2008"/>
                </a:lnTo>
                <a:lnTo>
                  <a:pt x="1245" y="1965"/>
                </a:lnTo>
                <a:lnTo>
                  <a:pt x="1301" y="1921"/>
                </a:lnTo>
                <a:lnTo>
                  <a:pt x="1412" y="1830"/>
                </a:lnTo>
                <a:lnTo>
                  <a:pt x="1522" y="1738"/>
                </a:lnTo>
                <a:lnTo>
                  <a:pt x="1576" y="1692"/>
                </a:lnTo>
                <a:lnTo>
                  <a:pt x="1629" y="1646"/>
                </a:lnTo>
                <a:lnTo>
                  <a:pt x="1684" y="1598"/>
                </a:lnTo>
                <a:lnTo>
                  <a:pt x="1737" y="1551"/>
                </a:lnTo>
                <a:lnTo>
                  <a:pt x="1791" y="1503"/>
                </a:lnTo>
                <a:lnTo>
                  <a:pt x="1844" y="1456"/>
                </a:lnTo>
                <a:lnTo>
                  <a:pt x="1897" y="1407"/>
                </a:lnTo>
                <a:lnTo>
                  <a:pt x="1951" y="1358"/>
                </a:lnTo>
                <a:lnTo>
                  <a:pt x="2002" y="1307"/>
                </a:lnTo>
                <a:lnTo>
                  <a:pt x="2056" y="1257"/>
                </a:lnTo>
                <a:lnTo>
                  <a:pt x="2107" y="1206"/>
                </a:lnTo>
                <a:lnTo>
                  <a:pt x="2159" y="1156"/>
                </a:lnTo>
                <a:lnTo>
                  <a:pt x="2207" y="1107"/>
                </a:lnTo>
                <a:lnTo>
                  <a:pt x="2253" y="1061"/>
                </a:lnTo>
                <a:lnTo>
                  <a:pt x="2297" y="1015"/>
                </a:lnTo>
                <a:lnTo>
                  <a:pt x="2342" y="970"/>
                </a:lnTo>
                <a:lnTo>
                  <a:pt x="2384" y="926"/>
                </a:lnTo>
                <a:lnTo>
                  <a:pt x="2426" y="883"/>
                </a:lnTo>
                <a:lnTo>
                  <a:pt x="2464" y="839"/>
                </a:lnTo>
                <a:lnTo>
                  <a:pt x="2503" y="798"/>
                </a:lnTo>
                <a:lnTo>
                  <a:pt x="2541" y="756"/>
                </a:lnTo>
                <a:lnTo>
                  <a:pt x="2575" y="716"/>
                </a:lnTo>
                <a:lnTo>
                  <a:pt x="2593" y="695"/>
                </a:lnTo>
                <a:lnTo>
                  <a:pt x="2610" y="675"/>
                </a:lnTo>
                <a:lnTo>
                  <a:pt x="2626" y="655"/>
                </a:lnTo>
                <a:lnTo>
                  <a:pt x="2643" y="635"/>
                </a:lnTo>
                <a:lnTo>
                  <a:pt x="2659" y="616"/>
                </a:lnTo>
                <a:lnTo>
                  <a:pt x="2673" y="596"/>
                </a:lnTo>
                <a:lnTo>
                  <a:pt x="2689" y="577"/>
                </a:lnTo>
                <a:lnTo>
                  <a:pt x="2703" y="557"/>
                </a:lnTo>
                <a:lnTo>
                  <a:pt x="2718" y="539"/>
                </a:lnTo>
                <a:lnTo>
                  <a:pt x="2731" y="518"/>
                </a:lnTo>
                <a:lnTo>
                  <a:pt x="2745" y="500"/>
                </a:lnTo>
                <a:lnTo>
                  <a:pt x="2758" y="4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80"/>
          <p:cNvSpPr/>
          <p:nvPr/>
        </p:nvSpPr>
        <p:spPr>
          <a:xfrm>
            <a:off x="5710320" y="4564080"/>
            <a:ext cx="247680" cy="490680"/>
          </a:xfrm>
          <a:custGeom>
            <a:avLst/>
            <a:gdLst/>
            <a:ahLst/>
            <a:rect l="l" t="t" r="r" b="b"/>
            <a:pathLst>
              <a:path w="466" h="928">
                <a:moveTo>
                  <a:pt x="259" y="236"/>
                </a:moveTo>
                <a:lnTo>
                  <a:pt x="262" y="222"/>
                </a:lnTo>
                <a:lnTo>
                  <a:pt x="266" y="206"/>
                </a:lnTo>
                <a:lnTo>
                  <a:pt x="269" y="193"/>
                </a:lnTo>
                <a:lnTo>
                  <a:pt x="273" y="178"/>
                </a:lnTo>
                <a:lnTo>
                  <a:pt x="276" y="165"/>
                </a:lnTo>
                <a:lnTo>
                  <a:pt x="281" y="154"/>
                </a:lnTo>
                <a:lnTo>
                  <a:pt x="283" y="141"/>
                </a:lnTo>
                <a:lnTo>
                  <a:pt x="288" y="129"/>
                </a:lnTo>
                <a:lnTo>
                  <a:pt x="292" y="119"/>
                </a:lnTo>
                <a:lnTo>
                  <a:pt x="295" y="108"/>
                </a:lnTo>
                <a:lnTo>
                  <a:pt x="298" y="98"/>
                </a:lnTo>
                <a:lnTo>
                  <a:pt x="302" y="89"/>
                </a:lnTo>
                <a:lnTo>
                  <a:pt x="305" y="81"/>
                </a:lnTo>
                <a:lnTo>
                  <a:pt x="309" y="72"/>
                </a:lnTo>
                <a:lnTo>
                  <a:pt x="312" y="63"/>
                </a:lnTo>
                <a:lnTo>
                  <a:pt x="315" y="56"/>
                </a:lnTo>
                <a:lnTo>
                  <a:pt x="319" y="49"/>
                </a:lnTo>
                <a:lnTo>
                  <a:pt x="322" y="43"/>
                </a:lnTo>
                <a:lnTo>
                  <a:pt x="325" y="36"/>
                </a:lnTo>
                <a:lnTo>
                  <a:pt x="328" y="32"/>
                </a:lnTo>
                <a:lnTo>
                  <a:pt x="331" y="26"/>
                </a:lnTo>
                <a:lnTo>
                  <a:pt x="334" y="21"/>
                </a:lnTo>
                <a:lnTo>
                  <a:pt x="337" y="17"/>
                </a:lnTo>
                <a:lnTo>
                  <a:pt x="340" y="13"/>
                </a:lnTo>
                <a:lnTo>
                  <a:pt x="343" y="10"/>
                </a:lnTo>
                <a:lnTo>
                  <a:pt x="345" y="7"/>
                </a:lnTo>
                <a:lnTo>
                  <a:pt x="347" y="4"/>
                </a:lnTo>
                <a:lnTo>
                  <a:pt x="350" y="3"/>
                </a:lnTo>
                <a:lnTo>
                  <a:pt x="353" y="1"/>
                </a:lnTo>
                <a:lnTo>
                  <a:pt x="354" y="0"/>
                </a:lnTo>
                <a:lnTo>
                  <a:pt x="357" y="0"/>
                </a:lnTo>
                <a:lnTo>
                  <a:pt x="358" y="0"/>
                </a:lnTo>
                <a:lnTo>
                  <a:pt x="363" y="0"/>
                </a:lnTo>
                <a:lnTo>
                  <a:pt x="367" y="1"/>
                </a:lnTo>
                <a:lnTo>
                  <a:pt x="371" y="6"/>
                </a:lnTo>
                <a:lnTo>
                  <a:pt x="377" y="10"/>
                </a:lnTo>
                <a:lnTo>
                  <a:pt x="381" y="16"/>
                </a:lnTo>
                <a:lnTo>
                  <a:pt x="387" y="23"/>
                </a:lnTo>
                <a:lnTo>
                  <a:pt x="393" y="30"/>
                </a:lnTo>
                <a:lnTo>
                  <a:pt x="399" y="40"/>
                </a:lnTo>
                <a:lnTo>
                  <a:pt x="404" y="52"/>
                </a:lnTo>
                <a:lnTo>
                  <a:pt x="410" y="63"/>
                </a:lnTo>
                <a:lnTo>
                  <a:pt x="414" y="76"/>
                </a:lnTo>
                <a:lnTo>
                  <a:pt x="420" y="91"/>
                </a:lnTo>
                <a:lnTo>
                  <a:pt x="426" y="108"/>
                </a:lnTo>
                <a:lnTo>
                  <a:pt x="430" y="124"/>
                </a:lnTo>
                <a:lnTo>
                  <a:pt x="435" y="142"/>
                </a:lnTo>
                <a:lnTo>
                  <a:pt x="439" y="163"/>
                </a:lnTo>
                <a:lnTo>
                  <a:pt x="442" y="186"/>
                </a:lnTo>
                <a:lnTo>
                  <a:pt x="446" y="209"/>
                </a:lnTo>
                <a:lnTo>
                  <a:pt x="449" y="230"/>
                </a:lnTo>
                <a:lnTo>
                  <a:pt x="452" y="252"/>
                </a:lnTo>
                <a:lnTo>
                  <a:pt x="455" y="272"/>
                </a:lnTo>
                <a:lnTo>
                  <a:pt x="458" y="292"/>
                </a:lnTo>
                <a:lnTo>
                  <a:pt x="461" y="311"/>
                </a:lnTo>
                <a:lnTo>
                  <a:pt x="463" y="330"/>
                </a:lnTo>
                <a:lnTo>
                  <a:pt x="465" y="347"/>
                </a:lnTo>
                <a:lnTo>
                  <a:pt x="466" y="364"/>
                </a:lnTo>
                <a:lnTo>
                  <a:pt x="466" y="380"/>
                </a:lnTo>
                <a:lnTo>
                  <a:pt x="466" y="396"/>
                </a:lnTo>
                <a:lnTo>
                  <a:pt x="465" y="412"/>
                </a:lnTo>
                <a:lnTo>
                  <a:pt x="463" y="426"/>
                </a:lnTo>
                <a:lnTo>
                  <a:pt x="462" y="440"/>
                </a:lnTo>
                <a:lnTo>
                  <a:pt x="459" y="455"/>
                </a:lnTo>
                <a:lnTo>
                  <a:pt x="455" y="471"/>
                </a:lnTo>
                <a:lnTo>
                  <a:pt x="450" y="488"/>
                </a:lnTo>
                <a:lnTo>
                  <a:pt x="445" y="505"/>
                </a:lnTo>
                <a:lnTo>
                  <a:pt x="440" y="522"/>
                </a:lnTo>
                <a:lnTo>
                  <a:pt x="433" y="541"/>
                </a:lnTo>
                <a:lnTo>
                  <a:pt x="427" y="558"/>
                </a:lnTo>
                <a:lnTo>
                  <a:pt x="420" y="577"/>
                </a:lnTo>
                <a:lnTo>
                  <a:pt x="413" y="596"/>
                </a:lnTo>
                <a:lnTo>
                  <a:pt x="406" y="615"/>
                </a:lnTo>
                <a:lnTo>
                  <a:pt x="397" y="633"/>
                </a:lnTo>
                <a:lnTo>
                  <a:pt x="389" y="653"/>
                </a:lnTo>
                <a:lnTo>
                  <a:pt x="378" y="675"/>
                </a:lnTo>
                <a:lnTo>
                  <a:pt x="370" y="695"/>
                </a:lnTo>
                <a:lnTo>
                  <a:pt x="360" y="717"/>
                </a:lnTo>
                <a:lnTo>
                  <a:pt x="350" y="740"/>
                </a:lnTo>
                <a:lnTo>
                  <a:pt x="338" y="764"/>
                </a:lnTo>
                <a:lnTo>
                  <a:pt x="327" y="783"/>
                </a:lnTo>
                <a:lnTo>
                  <a:pt x="317" y="802"/>
                </a:lnTo>
                <a:lnTo>
                  <a:pt x="305" y="819"/>
                </a:lnTo>
                <a:lnTo>
                  <a:pt x="294" y="836"/>
                </a:lnTo>
                <a:lnTo>
                  <a:pt x="282" y="851"/>
                </a:lnTo>
                <a:lnTo>
                  <a:pt x="272" y="864"/>
                </a:lnTo>
                <a:lnTo>
                  <a:pt x="260" y="877"/>
                </a:lnTo>
                <a:lnTo>
                  <a:pt x="249" y="887"/>
                </a:lnTo>
                <a:lnTo>
                  <a:pt x="237" y="897"/>
                </a:lnTo>
                <a:lnTo>
                  <a:pt x="226" y="905"/>
                </a:lnTo>
                <a:lnTo>
                  <a:pt x="216" y="911"/>
                </a:lnTo>
                <a:lnTo>
                  <a:pt x="204" y="917"/>
                </a:lnTo>
                <a:lnTo>
                  <a:pt x="193" y="923"/>
                </a:lnTo>
                <a:lnTo>
                  <a:pt x="181" y="926"/>
                </a:lnTo>
                <a:lnTo>
                  <a:pt x="170" y="927"/>
                </a:lnTo>
                <a:lnTo>
                  <a:pt x="160" y="928"/>
                </a:lnTo>
                <a:lnTo>
                  <a:pt x="148" y="927"/>
                </a:lnTo>
                <a:lnTo>
                  <a:pt x="137" y="927"/>
                </a:lnTo>
                <a:lnTo>
                  <a:pt x="127" y="926"/>
                </a:lnTo>
                <a:lnTo>
                  <a:pt x="118" y="924"/>
                </a:lnTo>
                <a:lnTo>
                  <a:pt x="108" y="921"/>
                </a:lnTo>
                <a:lnTo>
                  <a:pt x="99" y="920"/>
                </a:lnTo>
                <a:lnTo>
                  <a:pt x="91" y="915"/>
                </a:lnTo>
                <a:lnTo>
                  <a:pt x="83" y="913"/>
                </a:lnTo>
                <a:lnTo>
                  <a:pt x="76" y="907"/>
                </a:lnTo>
                <a:lnTo>
                  <a:pt x="69" y="903"/>
                </a:lnTo>
                <a:lnTo>
                  <a:pt x="63" y="897"/>
                </a:lnTo>
                <a:lnTo>
                  <a:pt x="57" y="890"/>
                </a:lnTo>
                <a:lnTo>
                  <a:pt x="52" y="882"/>
                </a:lnTo>
                <a:lnTo>
                  <a:pt x="47" y="874"/>
                </a:lnTo>
                <a:lnTo>
                  <a:pt x="43" y="865"/>
                </a:lnTo>
                <a:lnTo>
                  <a:pt x="39" y="855"/>
                </a:lnTo>
                <a:lnTo>
                  <a:pt x="34" y="845"/>
                </a:lnTo>
                <a:lnTo>
                  <a:pt x="32" y="835"/>
                </a:lnTo>
                <a:lnTo>
                  <a:pt x="27" y="826"/>
                </a:lnTo>
                <a:lnTo>
                  <a:pt x="24" y="818"/>
                </a:lnTo>
                <a:lnTo>
                  <a:pt x="17" y="800"/>
                </a:lnTo>
                <a:lnTo>
                  <a:pt x="11" y="784"/>
                </a:lnTo>
                <a:lnTo>
                  <a:pt x="7" y="769"/>
                </a:lnTo>
                <a:lnTo>
                  <a:pt x="3" y="756"/>
                </a:lnTo>
                <a:lnTo>
                  <a:pt x="1" y="748"/>
                </a:lnTo>
                <a:lnTo>
                  <a:pt x="0" y="741"/>
                </a:lnTo>
                <a:lnTo>
                  <a:pt x="0" y="734"/>
                </a:lnTo>
                <a:lnTo>
                  <a:pt x="0" y="728"/>
                </a:lnTo>
                <a:lnTo>
                  <a:pt x="0" y="717"/>
                </a:lnTo>
                <a:lnTo>
                  <a:pt x="1" y="707"/>
                </a:lnTo>
                <a:lnTo>
                  <a:pt x="3" y="697"/>
                </a:lnTo>
                <a:lnTo>
                  <a:pt x="7" y="687"/>
                </a:lnTo>
                <a:lnTo>
                  <a:pt x="10" y="677"/>
                </a:lnTo>
                <a:lnTo>
                  <a:pt x="16" y="666"/>
                </a:lnTo>
                <a:lnTo>
                  <a:pt x="20" y="656"/>
                </a:lnTo>
                <a:lnTo>
                  <a:pt x="27" y="646"/>
                </a:lnTo>
                <a:lnTo>
                  <a:pt x="33" y="636"/>
                </a:lnTo>
                <a:lnTo>
                  <a:pt x="42" y="625"/>
                </a:lnTo>
                <a:lnTo>
                  <a:pt x="49" y="615"/>
                </a:lnTo>
                <a:lnTo>
                  <a:pt x="57" y="605"/>
                </a:lnTo>
                <a:lnTo>
                  <a:pt x="68" y="594"/>
                </a:lnTo>
                <a:lnTo>
                  <a:pt x="78" y="584"/>
                </a:lnTo>
                <a:lnTo>
                  <a:pt x="88" y="574"/>
                </a:lnTo>
                <a:lnTo>
                  <a:pt x="99" y="564"/>
                </a:lnTo>
                <a:lnTo>
                  <a:pt x="109" y="550"/>
                </a:lnTo>
                <a:lnTo>
                  <a:pt x="121" y="534"/>
                </a:lnTo>
                <a:lnTo>
                  <a:pt x="132" y="518"/>
                </a:lnTo>
                <a:lnTo>
                  <a:pt x="144" y="502"/>
                </a:lnTo>
                <a:lnTo>
                  <a:pt x="154" y="485"/>
                </a:lnTo>
                <a:lnTo>
                  <a:pt x="165" y="466"/>
                </a:lnTo>
                <a:lnTo>
                  <a:pt x="176" y="446"/>
                </a:lnTo>
                <a:lnTo>
                  <a:pt x="186" y="427"/>
                </a:lnTo>
                <a:lnTo>
                  <a:pt x="197" y="406"/>
                </a:lnTo>
                <a:lnTo>
                  <a:pt x="206" y="384"/>
                </a:lnTo>
                <a:lnTo>
                  <a:pt x="216" y="361"/>
                </a:lnTo>
                <a:lnTo>
                  <a:pt x="226" y="338"/>
                </a:lnTo>
                <a:lnTo>
                  <a:pt x="235" y="314"/>
                </a:lnTo>
                <a:lnTo>
                  <a:pt x="243" y="289"/>
                </a:lnTo>
                <a:lnTo>
                  <a:pt x="250" y="263"/>
                </a:lnTo>
                <a:lnTo>
                  <a:pt x="259" y="2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81"/>
          <p:cNvSpPr/>
          <p:nvPr/>
        </p:nvSpPr>
        <p:spPr>
          <a:xfrm>
            <a:off x="6270480" y="4640400"/>
            <a:ext cx="216000" cy="272880"/>
          </a:xfrm>
          <a:custGeom>
            <a:avLst/>
            <a:gdLst/>
            <a:ahLst/>
            <a:rect l="l" t="t" r="r" b="b"/>
            <a:pathLst>
              <a:path w="407" h="516">
                <a:moveTo>
                  <a:pt x="0" y="72"/>
                </a:moveTo>
                <a:lnTo>
                  <a:pt x="0" y="62"/>
                </a:lnTo>
                <a:lnTo>
                  <a:pt x="0" y="54"/>
                </a:lnTo>
                <a:lnTo>
                  <a:pt x="1" y="45"/>
                </a:lnTo>
                <a:lnTo>
                  <a:pt x="3" y="38"/>
                </a:lnTo>
                <a:lnTo>
                  <a:pt x="6" y="31"/>
                </a:lnTo>
                <a:lnTo>
                  <a:pt x="7" y="25"/>
                </a:lnTo>
                <a:lnTo>
                  <a:pt x="11" y="20"/>
                </a:lnTo>
                <a:lnTo>
                  <a:pt x="14" y="16"/>
                </a:lnTo>
                <a:lnTo>
                  <a:pt x="19" y="12"/>
                </a:lnTo>
                <a:lnTo>
                  <a:pt x="23" y="8"/>
                </a:lnTo>
                <a:lnTo>
                  <a:pt x="27" y="6"/>
                </a:lnTo>
                <a:lnTo>
                  <a:pt x="33" y="3"/>
                </a:lnTo>
                <a:lnTo>
                  <a:pt x="39" y="2"/>
                </a:lnTo>
                <a:lnTo>
                  <a:pt x="45" y="0"/>
                </a:lnTo>
                <a:lnTo>
                  <a:pt x="52" y="0"/>
                </a:lnTo>
                <a:lnTo>
                  <a:pt x="59" y="0"/>
                </a:lnTo>
                <a:lnTo>
                  <a:pt x="63" y="0"/>
                </a:lnTo>
                <a:lnTo>
                  <a:pt x="69" y="2"/>
                </a:lnTo>
                <a:lnTo>
                  <a:pt x="75" y="3"/>
                </a:lnTo>
                <a:lnTo>
                  <a:pt x="82" y="6"/>
                </a:lnTo>
                <a:lnTo>
                  <a:pt x="89" y="9"/>
                </a:lnTo>
                <a:lnTo>
                  <a:pt x="99" y="13"/>
                </a:lnTo>
                <a:lnTo>
                  <a:pt x="108" y="19"/>
                </a:lnTo>
                <a:lnTo>
                  <a:pt x="119" y="25"/>
                </a:lnTo>
                <a:lnTo>
                  <a:pt x="131" y="31"/>
                </a:lnTo>
                <a:lnTo>
                  <a:pt x="144" y="38"/>
                </a:lnTo>
                <a:lnTo>
                  <a:pt x="157" y="45"/>
                </a:lnTo>
                <a:lnTo>
                  <a:pt x="171" y="54"/>
                </a:lnTo>
                <a:lnTo>
                  <a:pt x="187" y="62"/>
                </a:lnTo>
                <a:lnTo>
                  <a:pt x="203" y="71"/>
                </a:lnTo>
                <a:lnTo>
                  <a:pt x="220" y="81"/>
                </a:lnTo>
                <a:lnTo>
                  <a:pt x="239" y="91"/>
                </a:lnTo>
                <a:lnTo>
                  <a:pt x="256" y="105"/>
                </a:lnTo>
                <a:lnTo>
                  <a:pt x="273" y="118"/>
                </a:lnTo>
                <a:lnTo>
                  <a:pt x="289" y="133"/>
                </a:lnTo>
                <a:lnTo>
                  <a:pt x="304" y="146"/>
                </a:lnTo>
                <a:lnTo>
                  <a:pt x="317" y="159"/>
                </a:lnTo>
                <a:lnTo>
                  <a:pt x="328" y="172"/>
                </a:lnTo>
                <a:lnTo>
                  <a:pt x="338" y="185"/>
                </a:lnTo>
                <a:lnTo>
                  <a:pt x="348" y="198"/>
                </a:lnTo>
                <a:lnTo>
                  <a:pt x="358" y="210"/>
                </a:lnTo>
                <a:lnTo>
                  <a:pt x="366" y="223"/>
                </a:lnTo>
                <a:lnTo>
                  <a:pt x="373" y="235"/>
                </a:lnTo>
                <a:lnTo>
                  <a:pt x="380" y="246"/>
                </a:lnTo>
                <a:lnTo>
                  <a:pt x="386" y="258"/>
                </a:lnTo>
                <a:lnTo>
                  <a:pt x="390" y="270"/>
                </a:lnTo>
                <a:lnTo>
                  <a:pt x="394" y="281"/>
                </a:lnTo>
                <a:lnTo>
                  <a:pt x="399" y="291"/>
                </a:lnTo>
                <a:lnTo>
                  <a:pt x="402" y="301"/>
                </a:lnTo>
                <a:lnTo>
                  <a:pt x="404" y="313"/>
                </a:lnTo>
                <a:lnTo>
                  <a:pt x="406" y="324"/>
                </a:lnTo>
                <a:lnTo>
                  <a:pt x="406" y="336"/>
                </a:lnTo>
                <a:lnTo>
                  <a:pt x="407" y="347"/>
                </a:lnTo>
                <a:lnTo>
                  <a:pt x="406" y="359"/>
                </a:lnTo>
                <a:lnTo>
                  <a:pt x="404" y="372"/>
                </a:lnTo>
                <a:lnTo>
                  <a:pt x="403" y="385"/>
                </a:lnTo>
                <a:lnTo>
                  <a:pt x="402" y="398"/>
                </a:lnTo>
                <a:lnTo>
                  <a:pt x="399" y="411"/>
                </a:lnTo>
                <a:lnTo>
                  <a:pt x="393" y="437"/>
                </a:lnTo>
                <a:lnTo>
                  <a:pt x="386" y="464"/>
                </a:lnTo>
                <a:lnTo>
                  <a:pt x="379" y="491"/>
                </a:lnTo>
                <a:lnTo>
                  <a:pt x="374" y="496"/>
                </a:lnTo>
                <a:lnTo>
                  <a:pt x="371" y="500"/>
                </a:lnTo>
                <a:lnTo>
                  <a:pt x="367" y="504"/>
                </a:lnTo>
                <a:lnTo>
                  <a:pt x="363" y="507"/>
                </a:lnTo>
                <a:lnTo>
                  <a:pt x="357" y="510"/>
                </a:lnTo>
                <a:lnTo>
                  <a:pt x="353" y="513"/>
                </a:lnTo>
                <a:lnTo>
                  <a:pt x="347" y="514"/>
                </a:lnTo>
                <a:lnTo>
                  <a:pt x="341" y="516"/>
                </a:lnTo>
                <a:lnTo>
                  <a:pt x="337" y="516"/>
                </a:lnTo>
                <a:lnTo>
                  <a:pt x="330" y="516"/>
                </a:lnTo>
                <a:lnTo>
                  <a:pt x="324" y="516"/>
                </a:lnTo>
                <a:lnTo>
                  <a:pt x="318" y="514"/>
                </a:lnTo>
                <a:lnTo>
                  <a:pt x="312" y="513"/>
                </a:lnTo>
                <a:lnTo>
                  <a:pt x="305" y="510"/>
                </a:lnTo>
                <a:lnTo>
                  <a:pt x="298" y="507"/>
                </a:lnTo>
                <a:lnTo>
                  <a:pt x="291" y="503"/>
                </a:lnTo>
                <a:lnTo>
                  <a:pt x="284" y="500"/>
                </a:lnTo>
                <a:lnTo>
                  <a:pt x="276" y="494"/>
                </a:lnTo>
                <a:lnTo>
                  <a:pt x="269" y="490"/>
                </a:lnTo>
                <a:lnTo>
                  <a:pt x="262" y="483"/>
                </a:lnTo>
                <a:lnTo>
                  <a:pt x="253" y="477"/>
                </a:lnTo>
                <a:lnTo>
                  <a:pt x="246" y="470"/>
                </a:lnTo>
                <a:lnTo>
                  <a:pt x="237" y="462"/>
                </a:lnTo>
                <a:lnTo>
                  <a:pt x="229" y="454"/>
                </a:lnTo>
                <a:lnTo>
                  <a:pt x="222" y="445"/>
                </a:lnTo>
                <a:lnTo>
                  <a:pt x="213" y="435"/>
                </a:lnTo>
                <a:lnTo>
                  <a:pt x="204" y="425"/>
                </a:lnTo>
                <a:lnTo>
                  <a:pt x="196" y="413"/>
                </a:lnTo>
                <a:lnTo>
                  <a:pt x="186" y="402"/>
                </a:lnTo>
                <a:lnTo>
                  <a:pt x="177" y="390"/>
                </a:lnTo>
                <a:lnTo>
                  <a:pt x="168" y="377"/>
                </a:lnTo>
                <a:lnTo>
                  <a:pt x="160" y="365"/>
                </a:lnTo>
                <a:lnTo>
                  <a:pt x="141" y="337"/>
                </a:lnTo>
                <a:lnTo>
                  <a:pt x="124" y="311"/>
                </a:lnTo>
                <a:lnTo>
                  <a:pt x="108" y="287"/>
                </a:lnTo>
                <a:lnTo>
                  <a:pt x="92" y="264"/>
                </a:lnTo>
                <a:lnTo>
                  <a:pt x="78" y="242"/>
                </a:lnTo>
                <a:lnTo>
                  <a:pt x="65" y="222"/>
                </a:lnTo>
                <a:lnTo>
                  <a:pt x="53" y="202"/>
                </a:lnTo>
                <a:lnTo>
                  <a:pt x="42" y="183"/>
                </a:lnTo>
                <a:lnTo>
                  <a:pt x="33" y="166"/>
                </a:lnTo>
                <a:lnTo>
                  <a:pt x="24" y="150"/>
                </a:lnTo>
                <a:lnTo>
                  <a:pt x="16" y="134"/>
                </a:lnTo>
                <a:lnTo>
                  <a:pt x="10" y="120"/>
                </a:lnTo>
                <a:lnTo>
                  <a:pt x="6" y="107"/>
                </a:lnTo>
                <a:lnTo>
                  <a:pt x="1" y="94"/>
                </a:lnTo>
                <a:lnTo>
                  <a:pt x="0" y="82"/>
                </a:lnTo>
                <a:lnTo>
                  <a:pt x="0" y="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82"/>
          <p:cNvSpPr/>
          <p:nvPr/>
        </p:nvSpPr>
        <p:spPr>
          <a:xfrm>
            <a:off x="6745320" y="4627440"/>
            <a:ext cx="279360" cy="266760"/>
          </a:xfrm>
          <a:custGeom>
            <a:avLst/>
            <a:gdLst/>
            <a:ahLst/>
            <a:rect l="l" t="t" r="r" b="b"/>
            <a:pathLst>
              <a:path w="526" h="506">
                <a:moveTo>
                  <a:pt x="0" y="98"/>
                </a:moveTo>
                <a:lnTo>
                  <a:pt x="0" y="88"/>
                </a:lnTo>
                <a:lnTo>
                  <a:pt x="2" y="80"/>
                </a:lnTo>
                <a:lnTo>
                  <a:pt x="2" y="71"/>
                </a:lnTo>
                <a:lnTo>
                  <a:pt x="3" y="64"/>
                </a:lnTo>
                <a:lnTo>
                  <a:pt x="6" y="57"/>
                </a:lnTo>
                <a:lnTo>
                  <a:pt x="7" y="51"/>
                </a:lnTo>
                <a:lnTo>
                  <a:pt x="10" y="45"/>
                </a:lnTo>
                <a:lnTo>
                  <a:pt x="13" y="39"/>
                </a:lnTo>
                <a:lnTo>
                  <a:pt x="16" y="35"/>
                </a:lnTo>
                <a:lnTo>
                  <a:pt x="19" y="29"/>
                </a:lnTo>
                <a:lnTo>
                  <a:pt x="26" y="22"/>
                </a:lnTo>
                <a:lnTo>
                  <a:pt x="32" y="15"/>
                </a:lnTo>
                <a:lnTo>
                  <a:pt x="41" y="8"/>
                </a:lnTo>
                <a:lnTo>
                  <a:pt x="45" y="5"/>
                </a:lnTo>
                <a:lnTo>
                  <a:pt x="51" y="2"/>
                </a:lnTo>
                <a:lnTo>
                  <a:pt x="58" y="0"/>
                </a:lnTo>
                <a:lnTo>
                  <a:pt x="65" y="0"/>
                </a:lnTo>
                <a:lnTo>
                  <a:pt x="75" y="0"/>
                </a:lnTo>
                <a:lnTo>
                  <a:pt x="85" y="0"/>
                </a:lnTo>
                <a:lnTo>
                  <a:pt x="97" y="3"/>
                </a:lnTo>
                <a:lnTo>
                  <a:pt x="110" y="5"/>
                </a:lnTo>
                <a:lnTo>
                  <a:pt x="124" y="8"/>
                </a:lnTo>
                <a:lnTo>
                  <a:pt x="138" y="10"/>
                </a:lnTo>
                <a:lnTo>
                  <a:pt x="153" y="15"/>
                </a:lnTo>
                <a:lnTo>
                  <a:pt x="169" y="21"/>
                </a:lnTo>
                <a:lnTo>
                  <a:pt x="186" y="25"/>
                </a:lnTo>
                <a:lnTo>
                  <a:pt x="203" y="31"/>
                </a:lnTo>
                <a:lnTo>
                  <a:pt x="222" y="36"/>
                </a:lnTo>
                <a:lnTo>
                  <a:pt x="241" y="44"/>
                </a:lnTo>
                <a:lnTo>
                  <a:pt x="258" y="54"/>
                </a:lnTo>
                <a:lnTo>
                  <a:pt x="275" y="65"/>
                </a:lnTo>
                <a:lnTo>
                  <a:pt x="292" y="77"/>
                </a:lnTo>
                <a:lnTo>
                  <a:pt x="308" y="88"/>
                </a:lnTo>
                <a:lnTo>
                  <a:pt x="323" y="101"/>
                </a:lnTo>
                <a:lnTo>
                  <a:pt x="337" y="114"/>
                </a:lnTo>
                <a:lnTo>
                  <a:pt x="352" y="127"/>
                </a:lnTo>
                <a:lnTo>
                  <a:pt x="364" y="140"/>
                </a:lnTo>
                <a:lnTo>
                  <a:pt x="377" y="153"/>
                </a:lnTo>
                <a:lnTo>
                  <a:pt x="390" y="167"/>
                </a:lnTo>
                <a:lnTo>
                  <a:pt x="402" y="182"/>
                </a:lnTo>
                <a:lnTo>
                  <a:pt x="415" y="198"/>
                </a:lnTo>
                <a:lnTo>
                  <a:pt x="426" y="213"/>
                </a:lnTo>
                <a:lnTo>
                  <a:pt x="438" y="229"/>
                </a:lnTo>
                <a:lnTo>
                  <a:pt x="448" y="245"/>
                </a:lnTo>
                <a:lnTo>
                  <a:pt x="459" y="262"/>
                </a:lnTo>
                <a:lnTo>
                  <a:pt x="470" y="280"/>
                </a:lnTo>
                <a:lnTo>
                  <a:pt x="480" y="296"/>
                </a:lnTo>
                <a:lnTo>
                  <a:pt x="488" y="311"/>
                </a:lnTo>
                <a:lnTo>
                  <a:pt x="497" y="327"/>
                </a:lnTo>
                <a:lnTo>
                  <a:pt x="504" y="343"/>
                </a:lnTo>
                <a:lnTo>
                  <a:pt x="510" y="357"/>
                </a:lnTo>
                <a:lnTo>
                  <a:pt x="514" y="372"/>
                </a:lnTo>
                <a:lnTo>
                  <a:pt x="519" y="386"/>
                </a:lnTo>
                <a:lnTo>
                  <a:pt x="521" y="399"/>
                </a:lnTo>
                <a:lnTo>
                  <a:pt x="524" y="412"/>
                </a:lnTo>
                <a:lnTo>
                  <a:pt x="526" y="425"/>
                </a:lnTo>
                <a:lnTo>
                  <a:pt x="526" y="437"/>
                </a:lnTo>
                <a:lnTo>
                  <a:pt x="526" y="448"/>
                </a:lnTo>
                <a:lnTo>
                  <a:pt x="524" y="460"/>
                </a:lnTo>
                <a:lnTo>
                  <a:pt x="523" y="471"/>
                </a:lnTo>
                <a:lnTo>
                  <a:pt x="520" y="481"/>
                </a:lnTo>
                <a:lnTo>
                  <a:pt x="517" y="486"/>
                </a:lnTo>
                <a:lnTo>
                  <a:pt x="514" y="490"/>
                </a:lnTo>
                <a:lnTo>
                  <a:pt x="511" y="494"/>
                </a:lnTo>
                <a:lnTo>
                  <a:pt x="508" y="497"/>
                </a:lnTo>
                <a:lnTo>
                  <a:pt x="504" y="500"/>
                </a:lnTo>
                <a:lnTo>
                  <a:pt x="500" y="503"/>
                </a:lnTo>
                <a:lnTo>
                  <a:pt x="495" y="504"/>
                </a:lnTo>
                <a:lnTo>
                  <a:pt x="490" y="506"/>
                </a:lnTo>
                <a:lnTo>
                  <a:pt x="484" y="506"/>
                </a:lnTo>
                <a:lnTo>
                  <a:pt x="478" y="506"/>
                </a:lnTo>
                <a:lnTo>
                  <a:pt x="471" y="504"/>
                </a:lnTo>
                <a:lnTo>
                  <a:pt x="464" y="504"/>
                </a:lnTo>
                <a:lnTo>
                  <a:pt x="457" y="501"/>
                </a:lnTo>
                <a:lnTo>
                  <a:pt x="449" y="500"/>
                </a:lnTo>
                <a:lnTo>
                  <a:pt x="441" y="497"/>
                </a:lnTo>
                <a:lnTo>
                  <a:pt x="432" y="493"/>
                </a:lnTo>
                <a:lnTo>
                  <a:pt x="422" y="488"/>
                </a:lnTo>
                <a:lnTo>
                  <a:pt x="413" y="484"/>
                </a:lnTo>
                <a:lnTo>
                  <a:pt x="403" y="478"/>
                </a:lnTo>
                <a:lnTo>
                  <a:pt x="393" y="473"/>
                </a:lnTo>
                <a:lnTo>
                  <a:pt x="382" y="467"/>
                </a:lnTo>
                <a:lnTo>
                  <a:pt x="372" y="460"/>
                </a:lnTo>
                <a:lnTo>
                  <a:pt x="360" y="452"/>
                </a:lnTo>
                <a:lnTo>
                  <a:pt x="347" y="444"/>
                </a:lnTo>
                <a:lnTo>
                  <a:pt x="336" y="434"/>
                </a:lnTo>
                <a:lnTo>
                  <a:pt x="323" y="425"/>
                </a:lnTo>
                <a:lnTo>
                  <a:pt x="310" y="415"/>
                </a:lnTo>
                <a:lnTo>
                  <a:pt x="297" y="403"/>
                </a:lnTo>
                <a:lnTo>
                  <a:pt x="282" y="392"/>
                </a:lnTo>
                <a:lnTo>
                  <a:pt x="269" y="380"/>
                </a:lnTo>
                <a:lnTo>
                  <a:pt x="255" y="367"/>
                </a:lnTo>
                <a:lnTo>
                  <a:pt x="241" y="355"/>
                </a:lnTo>
                <a:lnTo>
                  <a:pt x="225" y="342"/>
                </a:lnTo>
                <a:lnTo>
                  <a:pt x="210" y="330"/>
                </a:lnTo>
                <a:lnTo>
                  <a:pt x="197" y="319"/>
                </a:lnTo>
                <a:lnTo>
                  <a:pt x="185" y="308"/>
                </a:lnTo>
                <a:lnTo>
                  <a:pt x="172" y="297"/>
                </a:lnTo>
                <a:lnTo>
                  <a:pt x="159" y="287"/>
                </a:lnTo>
                <a:lnTo>
                  <a:pt x="147" y="277"/>
                </a:lnTo>
                <a:lnTo>
                  <a:pt x="136" y="267"/>
                </a:lnTo>
                <a:lnTo>
                  <a:pt x="124" y="258"/>
                </a:lnTo>
                <a:lnTo>
                  <a:pt x="114" y="248"/>
                </a:lnTo>
                <a:lnTo>
                  <a:pt x="104" y="239"/>
                </a:lnTo>
                <a:lnTo>
                  <a:pt x="94" y="231"/>
                </a:lnTo>
                <a:lnTo>
                  <a:pt x="85" y="222"/>
                </a:lnTo>
                <a:lnTo>
                  <a:pt x="77" y="213"/>
                </a:lnTo>
                <a:lnTo>
                  <a:pt x="68" y="206"/>
                </a:lnTo>
                <a:lnTo>
                  <a:pt x="61" y="198"/>
                </a:lnTo>
                <a:lnTo>
                  <a:pt x="54" y="190"/>
                </a:lnTo>
                <a:lnTo>
                  <a:pt x="46" y="183"/>
                </a:lnTo>
                <a:lnTo>
                  <a:pt x="41" y="176"/>
                </a:lnTo>
                <a:lnTo>
                  <a:pt x="35" y="169"/>
                </a:lnTo>
                <a:lnTo>
                  <a:pt x="29" y="162"/>
                </a:lnTo>
                <a:lnTo>
                  <a:pt x="23" y="156"/>
                </a:lnTo>
                <a:lnTo>
                  <a:pt x="19" y="149"/>
                </a:lnTo>
                <a:lnTo>
                  <a:pt x="15" y="143"/>
                </a:lnTo>
                <a:lnTo>
                  <a:pt x="12" y="137"/>
                </a:lnTo>
                <a:lnTo>
                  <a:pt x="9" y="131"/>
                </a:lnTo>
                <a:lnTo>
                  <a:pt x="6" y="126"/>
                </a:lnTo>
                <a:lnTo>
                  <a:pt x="5" y="120"/>
                </a:lnTo>
                <a:lnTo>
                  <a:pt x="2" y="114"/>
                </a:lnTo>
                <a:lnTo>
                  <a:pt x="2" y="108"/>
                </a:lnTo>
                <a:lnTo>
                  <a:pt x="0" y="104"/>
                </a:lnTo>
                <a:lnTo>
                  <a:pt x="0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83"/>
          <p:cNvSpPr/>
          <p:nvPr/>
        </p:nvSpPr>
        <p:spPr>
          <a:xfrm>
            <a:off x="7284960" y="4568760"/>
            <a:ext cx="453960" cy="416160"/>
          </a:xfrm>
          <a:custGeom>
            <a:avLst/>
            <a:gdLst/>
            <a:ahLst/>
            <a:rect l="l" t="t" r="r" b="b"/>
            <a:pathLst>
              <a:path w="858" h="786">
                <a:moveTo>
                  <a:pt x="579" y="226"/>
                </a:moveTo>
                <a:lnTo>
                  <a:pt x="595" y="238"/>
                </a:lnTo>
                <a:lnTo>
                  <a:pt x="611" y="250"/>
                </a:lnTo>
                <a:lnTo>
                  <a:pt x="627" y="262"/>
                </a:lnTo>
                <a:lnTo>
                  <a:pt x="641" y="274"/>
                </a:lnTo>
                <a:lnTo>
                  <a:pt x="657" y="286"/>
                </a:lnTo>
                <a:lnTo>
                  <a:pt x="671" y="298"/>
                </a:lnTo>
                <a:lnTo>
                  <a:pt x="684" y="309"/>
                </a:lnTo>
                <a:lnTo>
                  <a:pt x="697" y="321"/>
                </a:lnTo>
                <a:lnTo>
                  <a:pt x="710" y="334"/>
                </a:lnTo>
                <a:lnTo>
                  <a:pt x="723" y="345"/>
                </a:lnTo>
                <a:lnTo>
                  <a:pt x="735" y="357"/>
                </a:lnTo>
                <a:lnTo>
                  <a:pt x="746" y="369"/>
                </a:lnTo>
                <a:lnTo>
                  <a:pt x="756" y="380"/>
                </a:lnTo>
                <a:lnTo>
                  <a:pt x="766" y="390"/>
                </a:lnTo>
                <a:lnTo>
                  <a:pt x="776" y="402"/>
                </a:lnTo>
                <a:lnTo>
                  <a:pt x="785" y="413"/>
                </a:lnTo>
                <a:lnTo>
                  <a:pt x="794" y="425"/>
                </a:lnTo>
                <a:lnTo>
                  <a:pt x="802" y="435"/>
                </a:lnTo>
                <a:lnTo>
                  <a:pt x="810" y="446"/>
                </a:lnTo>
                <a:lnTo>
                  <a:pt x="817" y="456"/>
                </a:lnTo>
                <a:lnTo>
                  <a:pt x="824" y="466"/>
                </a:lnTo>
                <a:lnTo>
                  <a:pt x="830" y="476"/>
                </a:lnTo>
                <a:lnTo>
                  <a:pt x="835" y="488"/>
                </a:lnTo>
                <a:lnTo>
                  <a:pt x="840" y="498"/>
                </a:lnTo>
                <a:lnTo>
                  <a:pt x="844" y="507"/>
                </a:lnTo>
                <a:lnTo>
                  <a:pt x="848" y="517"/>
                </a:lnTo>
                <a:lnTo>
                  <a:pt x="851" y="527"/>
                </a:lnTo>
                <a:lnTo>
                  <a:pt x="854" y="536"/>
                </a:lnTo>
                <a:lnTo>
                  <a:pt x="856" y="546"/>
                </a:lnTo>
                <a:lnTo>
                  <a:pt x="857" y="554"/>
                </a:lnTo>
                <a:lnTo>
                  <a:pt x="858" y="563"/>
                </a:lnTo>
                <a:lnTo>
                  <a:pt x="858" y="572"/>
                </a:lnTo>
                <a:lnTo>
                  <a:pt x="858" y="589"/>
                </a:lnTo>
                <a:lnTo>
                  <a:pt x="857" y="605"/>
                </a:lnTo>
                <a:lnTo>
                  <a:pt x="857" y="620"/>
                </a:lnTo>
                <a:lnTo>
                  <a:pt x="854" y="636"/>
                </a:lnTo>
                <a:lnTo>
                  <a:pt x="853" y="651"/>
                </a:lnTo>
                <a:lnTo>
                  <a:pt x="850" y="665"/>
                </a:lnTo>
                <a:lnTo>
                  <a:pt x="847" y="679"/>
                </a:lnTo>
                <a:lnTo>
                  <a:pt x="844" y="692"/>
                </a:lnTo>
                <a:lnTo>
                  <a:pt x="840" y="704"/>
                </a:lnTo>
                <a:lnTo>
                  <a:pt x="835" y="717"/>
                </a:lnTo>
                <a:lnTo>
                  <a:pt x="830" y="727"/>
                </a:lnTo>
                <a:lnTo>
                  <a:pt x="825" y="738"/>
                </a:lnTo>
                <a:lnTo>
                  <a:pt x="820" y="747"/>
                </a:lnTo>
                <a:lnTo>
                  <a:pt x="812" y="757"/>
                </a:lnTo>
                <a:lnTo>
                  <a:pt x="807" y="764"/>
                </a:lnTo>
                <a:lnTo>
                  <a:pt x="799" y="773"/>
                </a:lnTo>
                <a:lnTo>
                  <a:pt x="791" y="776"/>
                </a:lnTo>
                <a:lnTo>
                  <a:pt x="784" y="779"/>
                </a:lnTo>
                <a:lnTo>
                  <a:pt x="776" y="780"/>
                </a:lnTo>
                <a:lnTo>
                  <a:pt x="769" y="783"/>
                </a:lnTo>
                <a:lnTo>
                  <a:pt x="762" y="785"/>
                </a:lnTo>
                <a:lnTo>
                  <a:pt x="755" y="785"/>
                </a:lnTo>
                <a:lnTo>
                  <a:pt x="748" y="786"/>
                </a:lnTo>
                <a:lnTo>
                  <a:pt x="740" y="786"/>
                </a:lnTo>
                <a:lnTo>
                  <a:pt x="735" y="786"/>
                </a:lnTo>
                <a:lnTo>
                  <a:pt x="729" y="785"/>
                </a:lnTo>
                <a:lnTo>
                  <a:pt x="722" y="785"/>
                </a:lnTo>
                <a:lnTo>
                  <a:pt x="717" y="783"/>
                </a:lnTo>
                <a:lnTo>
                  <a:pt x="712" y="780"/>
                </a:lnTo>
                <a:lnTo>
                  <a:pt x="707" y="779"/>
                </a:lnTo>
                <a:lnTo>
                  <a:pt x="703" y="776"/>
                </a:lnTo>
                <a:lnTo>
                  <a:pt x="699" y="773"/>
                </a:lnTo>
                <a:lnTo>
                  <a:pt x="694" y="769"/>
                </a:lnTo>
                <a:lnTo>
                  <a:pt x="690" y="764"/>
                </a:lnTo>
                <a:lnTo>
                  <a:pt x="686" y="760"/>
                </a:lnTo>
                <a:lnTo>
                  <a:pt x="680" y="754"/>
                </a:lnTo>
                <a:lnTo>
                  <a:pt x="674" y="749"/>
                </a:lnTo>
                <a:lnTo>
                  <a:pt x="667" y="741"/>
                </a:lnTo>
                <a:lnTo>
                  <a:pt x="661" y="736"/>
                </a:lnTo>
                <a:lnTo>
                  <a:pt x="653" y="728"/>
                </a:lnTo>
                <a:lnTo>
                  <a:pt x="645" y="720"/>
                </a:lnTo>
                <a:lnTo>
                  <a:pt x="637" y="711"/>
                </a:lnTo>
                <a:lnTo>
                  <a:pt x="628" y="703"/>
                </a:lnTo>
                <a:lnTo>
                  <a:pt x="618" y="692"/>
                </a:lnTo>
                <a:lnTo>
                  <a:pt x="608" y="682"/>
                </a:lnTo>
                <a:lnTo>
                  <a:pt x="598" y="672"/>
                </a:lnTo>
                <a:lnTo>
                  <a:pt x="588" y="661"/>
                </a:lnTo>
                <a:lnTo>
                  <a:pt x="576" y="649"/>
                </a:lnTo>
                <a:lnTo>
                  <a:pt x="563" y="638"/>
                </a:lnTo>
                <a:lnTo>
                  <a:pt x="552" y="625"/>
                </a:lnTo>
                <a:lnTo>
                  <a:pt x="537" y="612"/>
                </a:lnTo>
                <a:lnTo>
                  <a:pt x="524" y="597"/>
                </a:lnTo>
                <a:lnTo>
                  <a:pt x="510" y="583"/>
                </a:lnTo>
                <a:lnTo>
                  <a:pt x="496" y="569"/>
                </a:lnTo>
                <a:lnTo>
                  <a:pt x="480" y="553"/>
                </a:lnTo>
                <a:lnTo>
                  <a:pt x="465" y="537"/>
                </a:lnTo>
                <a:lnTo>
                  <a:pt x="448" y="521"/>
                </a:lnTo>
                <a:lnTo>
                  <a:pt x="432" y="504"/>
                </a:lnTo>
                <a:lnTo>
                  <a:pt x="415" y="487"/>
                </a:lnTo>
                <a:lnTo>
                  <a:pt x="396" y="468"/>
                </a:lnTo>
                <a:lnTo>
                  <a:pt x="378" y="449"/>
                </a:lnTo>
                <a:lnTo>
                  <a:pt x="359" y="430"/>
                </a:lnTo>
                <a:lnTo>
                  <a:pt x="339" y="410"/>
                </a:lnTo>
                <a:lnTo>
                  <a:pt x="320" y="390"/>
                </a:lnTo>
                <a:lnTo>
                  <a:pt x="300" y="369"/>
                </a:lnTo>
                <a:lnTo>
                  <a:pt x="280" y="350"/>
                </a:lnTo>
                <a:lnTo>
                  <a:pt x="261" y="330"/>
                </a:lnTo>
                <a:lnTo>
                  <a:pt x="244" y="311"/>
                </a:lnTo>
                <a:lnTo>
                  <a:pt x="226" y="294"/>
                </a:lnTo>
                <a:lnTo>
                  <a:pt x="209" y="275"/>
                </a:lnTo>
                <a:lnTo>
                  <a:pt x="193" y="259"/>
                </a:lnTo>
                <a:lnTo>
                  <a:pt x="178" y="242"/>
                </a:lnTo>
                <a:lnTo>
                  <a:pt x="163" y="226"/>
                </a:lnTo>
                <a:lnTo>
                  <a:pt x="149" y="212"/>
                </a:lnTo>
                <a:lnTo>
                  <a:pt x="136" y="196"/>
                </a:lnTo>
                <a:lnTo>
                  <a:pt x="123" y="183"/>
                </a:lnTo>
                <a:lnTo>
                  <a:pt x="110" y="168"/>
                </a:lnTo>
                <a:lnTo>
                  <a:pt x="100" y="155"/>
                </a:lnTo>
                <a:lnTo>
                  <a:pt x="88" y="144"/>
                </a:lnTo>
                <a:lnTo>
                  <a:pt x="78" y="132"/>
                </a:lnTo>
                <a:lnTo>
                  <a:pt x="68" y="121"/>
                </a:lnTo>
                <a:lnTo>
                  <a:pt x="59" y="109"/>
                </a:lnTo>
                <a:lnTo>
                  <a:pt x="51" y="99"/>
                </a:lnTo>
                <a:lnTo>
                  <a:pt x="44" y="91"/>
                </a:lnTo>
                <a:lnTo>
                  <a:pt x="36" y="82"/>
                </a:lnTo>
                <a:lnTo>
                  <a:pt x="31" y="73"/>
                </a:lnTo>
                <a:lnTo>
                  <a:pt x="25" y="66"/>
                </a:lnTo>
                <a:lnTo>
                  <a:pt x="19" y="59"/>
                </a:lnTo>
                <a:lnTo>
                  <a:pt x="15" y="53"/>
                </a:lnTo>
                <a:lnTo>
                  <a:pt x="11" y="47"/>
                </a:lnTo>
                <a:lnTo>
                  <a:pt x="8" y="42"/>
                </a:lnTo>
                <a:lnTo>
                  <a:pt x="5" y="37"/>
                </a:lnTo>
                <a:lnTo>
                  <a:pt x="2" y="33"/>
                </a:lnTo>
                <a:lnTo>
                  <a:pt x="0" y="30"/>
                </a:lnTo>
                <a:lnTo>
                  <a:pt x="0" y="27"/>
                </a:lnTo>
                <a:lnTo>
                  <a:pt x="0" y="26"/>
                </a:lnTo>
                <a:lnTo>
                  <a:pt x="0" y="22"/>
                </a:lnTo>
                <a:lnTo>
                  <a:pt x="2" y="19"/>
                </a:lnTo>
                <a:lnTo>
                  <a:pt x="6" y="16"/>
                </a:lnTo>
                <a:lnTo>
                  <a:pt x="11" y="11"/>
                </a:lnTo>
                <a:lnTo>
                  <a:pt x="16" y="9"/>
                </a:lnTo>
                <a:lnTo>
                  <a:pt x="24" y="7"/>
                </a:lnTo>
                <a:lnTo>
                  <a:pt x="32" y="4"/>
                </a:lnTo>
                <a:lnTo>
                  <a:pt x="42" y="3"/>
                </a:lnTo>
                <a:lnTo>
                  <a:pt x="54" y="1"/>
                </a:lnTo>
                <a:lnTo>
                  <a:pt x="65" y="0"/>
                </a:lnTo>
                <a:lnTo>
                  <a:pt x="78" y="0"/>
                </a:lnTo>
                <a:lnTo>
                  <a:pt x="93" y="0"/>
                </a:lnTo>
                <a:lnTo>
                  <a:pt x="107" y="0"/>
                </a:lnTo>
                <a:lnTo>
                  <a:pt x="124" y="1"/>
                </a:lnTo>
                <a:lnTo>
                  <a:pt x="142" y="4"/>
                </a:lnTo>
                <a:lnTo>
                  <a:pt x="160" y="7"/>
                </a:lnTo>
                <a:lnTo>
                  <a:pt x="179" y="11"/>
                </a:lnTo>
                <a:lnTo>
                  <a:pt x="199" y="17"/>
                </a:lnTo>
                <a:lnTo>
                  <a:pt x="219" y="23"/>
                </a:lnTo>
                <a:lnTo>
                  <a:pt x="242" y="32"/>
                </a:lnTo>
                <a:lnTo>
                  <a:pt x="265" y="40"/>
                </a:lnTo>
                <a:lnTo>
                  <a:pt x="288" y="50"/>
                </a:lnTo>
                <a:lnTo>
                  <a:pt x="313" y="62"/>
                </a:lnTo>
                <a:lnTo>
                  <a:pt x="339" y="75"/>
                </a:lnTo>
                <a:lnTo>
                  <a:pt x="366" y="89"/>
                </a:lnTo>
                <a:lnTo>
                  <a:pt x="393" y="105"/>
                </a:lnTo>
                <a:lnTo>
                  <a:pt x="422" y="122"/>
                </a:lnTo>
                <a:lnTo>
                  <a:pt x="451" y="140"/>
                </a:lnTo>
                <a:lnTo>
                  <a:pt x="483" y="160"/>
                </a:lnTo>
                <a:lnTo>
                  <a:pt x="513" y="180"/>
                </a:lnTo>
                <a:lnTo>
                  <a:pt x="546" y="203"/>
                </a:lnTo>
                <a:lnTo>
                  <a:pt x="579" y="2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30T15:01:40Z</dcterms:modified>
  <cp:revision>4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